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8AB7-275E-4248-9B15-9F2EE8231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0BD3-06A1-4D4F-9023-ADFB1504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06AB-E9B5-414A-B9E1-4813A4D7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AE1B-2009-4C00-AEFB-38479559F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DD78-BE17-4307-8525-B126FAF8C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D39D-21E9-4D90-AF93-25B3C2DF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9D20-6DAF-4F98-8BFB-0E2FEA76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D326-E2A1-40BD-A166-0153E1F1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5074-680B-4140-938B-BE01E16A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2FD9-EDC3-441C-AB9A-503E40A1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41B6-3EBF-45E3-96A9-B494263E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B4A9-8AEC-4763-95FD-C6BA5653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D257-CD6E-4BA2-BA9C-58AC4286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8CCC-4D39-4291-92BC-9B000186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8F0D-9C16-40DD-B6CD-A1A6911F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969A-B4DD-4ADA-955D-408629D9A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D96E-C8D9-412B-983D-603E4DC7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3125-07F4-47D4-8056-990CF622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D5F8-7543-4ED8-A767-C954F9FA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DA8D-16AD-4113-BC91-96FD4B53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187A-2F30-471C-91B8-480E3B7B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1878-F7ED-4EE5-A70B-7EEB1838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3A4C-B777-489D-99C7-2BF5483D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DF78-13B7-4C0C-8C3F-DA415B86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6117-9CBE-4352-B6E5-4AA7E35C65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20AB-3265-4CAB-8D14-6140881FDD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726240" cy="17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Korijen-2 metoda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7217-59A9-450B-9C5F-164C631223C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52360" y="1417680"/>
                <a:ext cx="86788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k</m:t>
                        </m:r>
                      </m:sup>
                    </m:sSub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za k=0,1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N-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k) i F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k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  DFT-ovi od N/2 toča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k) i F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k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 periodički s periodom N/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5F49-BB5E-41E8-BBDE-9345958B4C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k+N/2) = F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k)   k = 0,1,......,N/2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19880" indent="-119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k+N/2) = F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k)   k = 0,1,......,N/2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19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19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19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743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 konzistenc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14360" y="4673520"/>
                <a:ext cx="304812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3435480" y="5111640"/>
            <a:ext cx="901440" cy="292320"/>
          </a:xfrm>
          <a:prstGeom prst="rightArrow">
            <a:avLst>
              <a:gd name="adj1" fmla="val 50000"/>
              <a:gd name="adj2" fmla="val 154201"/>
            </a:avLst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686480" y="4465800"/>
                <a:ext cx="425736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029200" y="5462640"/>
                <a:ext cx="32767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=0,1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N-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E393-4516-4DAD-9CA3-554BDFA04C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6000"/>
          </a:bodyPr>
          <a:p>
            <a:pPr marL="157680" indent="-1576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 potpunosti se poštuje algoritam koji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57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 objašnjena metoda podijeli pa vladaj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57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57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990720" y="2890800"/>
                <a:ext cx="6705360" cy="22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q</m:t>
                                </m:r>
                              </m:sup>
                            </m:sSub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0</m:t>
                        </m:r>
                        <m:r>
                          <m:t xml:space="preserve">≤</m:t>
                        </m:r>
                        <m:r>
                          <m:t xml:space="preserve">q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M-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   </m:t>
                        </m:r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=0,1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-1                 M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7125-5AAC-4C96-A6B5-5B9C1E2815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754200" y="1311120"/>
                <a:ext cx="7140600" cy="18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q</m:t>
                            </m:r>
                          </m:sup>
                        </m:sSubSup>
                      </m:e>
                    </m:nary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860400" y="4260960"/>
                <a:ext cx="6994440" cy="17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q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09E8-25E3-42D6-AAFE-7A99DE56B8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) Računamo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(l,q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133640" y="2575080"/>
                <a:ext cx="6769080" cy="25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q</m:t>
                            </m:r>
                          </m:sup>
                        </m:sSub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   0</m:t>
                        </m:r>
                        <m:r>
                          <m:t xml:space="preserve">≤</m:t>
                        </m:r>
                        <m:r>
                          <m:t xml:space="preserve">l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L-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0</m:t>
                        </m:r>
                        <m:r>
                          <m:t xml:space="preserve">≤</m:t>
                        </m:r>
                        <m:r>
                          <m:t xml:space="preserve">q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M-1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q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=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q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F1E6-2579-48A6-B625-8808AE4926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685800" y="3041640"/>
                <a:ext cx="800100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  <m:sup>
                                <m:r>
                                  <m:t xml:space="preserve">lp</m:t>
                                </m:r>
                              </m:sup>
                            </m:sSub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  q=0,1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M-1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,q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=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q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+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,q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C863-FA00-4AF7-8A64-FE89CC6808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ka je N= 8 = 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81120" y="639144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15200" y="6558120"/>
            <a:ext cx="360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386000"/>
            <a:ext cx="17524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(0)=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90760" y="1552680"/>
            <a:ext cx="1219320" cy="2104920"/>
          </a:xfrm>
          <a:prstGeom prst="rect">
            <a:avLst/>
          </a:prstGeom>
          <a:solidFill>
            <a:srgbClr val="d6009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42760" y="2131920"/>
            <a:ext cx="718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73280" y="2557440"/>
            <a:ext cx="85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630600" y="1690560"/>
            <a:ext cx="4503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00480" y="4367160"/>
            <a:ext cx="1218960" cy="2104920"/>
          </a:xfrm>
          <a:prstGeom prst="rect">
            <a:avLst/>
          </a:prstGeom>
          <a:solidFill>
            <a:srgbClr val="d6009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42760" y="4946760"/>
            <a:ext cx="718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73280" y="5372280"/>
            <a:ext cx="85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692360" y="1690560"/>
            <a:ext cx="6984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630600" y="2300400"/>
            <a:ext cx="4503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405320" y="1690200"/>
            <a:ext cx="2871720" cy="28148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213680" y="1628640"/>
            <a:ext cx="129960" cy="127080"/>
          </a:xfrm>
          <a:prstGeom prst="ellipse">
            <a:avLst/>
          </a:prstGeom>
          <a:solidFill>
            <a:srgbClr val="d6009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630600" y="4505400"/>
            <a:ext cx="4503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630600" y="5114880"/>
            <a:ext cx="4503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630600" y="2908440"/>
            <a:ext cx="4503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630600" y="3517920"/>
            <a:ext cx="4503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630600" y="5722920"/>
            <a:ext cx="4503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630600" y="6332400"/>
            <a:ext cx="4503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405320" y="2300400"/>
            <a:ext cx="2871720" cy="2814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405320" y="2908440"/>
            <a:ext cx="2871720" cy="2814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405320" y="3517920"/>
            <a:ext cx="2871720" cy="2814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05320" y="1690560"/>
            <a:ext cx="2871720" cy="28148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05320" y="2300400"/>
            <a:ext cx="2871720" cy="2814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05320" y="2908440"/>
            <a:ext cx="2871720" cy="2814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5320" y="3517920"/>
            <a:ext cx="2871720" cy="2814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13680" y="2236680"/>
            <a:ext cx="129960" cy="128520"/>
          </a:xfrm>
          <a:prstGeom prst="ellipse">
            <a:avLst/>
          </a:prstGeom>
          <a:solidFill>
            <a:srgbClr val="d6009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13680" y="2844720"/>
            <a:ext cx="129960" cy="128520"/>
          </a:xfrm>
          <a:prstGeom prst="ellipse">
            <a:avLst/>
          </a:prstGeom>
          <a:solidFill>
            <a:srgbClr val="d6009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13680" y="3454560"/>
            <a:ext cx="129960" cy="126720"/>
          </a:xfrm>
          <a:prstGeom prst="ellipse">
            <a:avLst/>
          </a:prstGeom>
          <a:solidFill>
            <a:srgbClr val="d6009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13680" y="4443480"/>
            <a:ext cx="129960" cy="127080"/>
          </a:xfrm>
          <a:prstGeom prst="ellipse">
            <a:avLst/>
          </a:prstGeom>
          <a:solidFill>
            <a:srgbClr val="d6009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13680" y="5051520"/>
            <a:ext cx="129960" cy="128520"/>
          </a:xfrm>
          <a:prstGeom prst="ellipse">
            <a:avLst/>
          </a:prstGeom>
          <a:solidFill>
            <a:srgbClr val="d6009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213680" y="5659560"/>
            <a:ext cx="129960" cy="128520"/>
          </a:xfrm>
          <a:prstGeom prst="ellipse">
            <a:avLst/>
          </a:prstGeom>
          <a:solidFill>
            <a:srgbClr val="d6009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13680" y="6269040"/>
            <a:ext cx="129960" cy="127080"/>
          </a:xfrm>
          <a:prstGeom prst="ellipse">
            <a:avLst/>
          </a:prstGeom>
          <a:solidFill>
            <a:srgbClr val="d6009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0160" y="1628640"/>
            <a:ext cx="13176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40160" y="2236680"/>
            <a:ext cx="13176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40160" y="2844720"/>
            <a:ext cx="13176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0160" y="3454560"/>
            <a:ext cx="131760" cy="126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40160" y="4443480"/>
            <a:ext cx="13176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40160" y="5051520"/>
            <a:ext cx="13176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0160" y="5659560"/>
            <a:ext cx="13176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40160" y="6269040"/>
            <a:ext cx="13176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692360" y="2300400"/>
            <a:ext cx="6984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692360" y="2908440"/>
            <a:ext cx="6984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692360" y="3517920"/>
            <a:ext cx="6984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1692360" y="4505400"/>
            <a:ext cx="6984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1692360" y="5114880"/>
            <a:ext cx="6984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692360" y="5722920"/>
            <a:ext cx="6984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692360" y="6332400"/>
            <a:ext cx="6984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04960" y="175104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399080" y="191772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6680" y="174960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104960" y="235908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99080" y="252576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46680" y="235908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04960" y="296856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99080" y="313524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46680" y="29671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104960" y="357660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399080" y="374328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546680" y="357516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28640" y="456552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21320" y="473220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468920" y="456408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28640" y="517356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21320" y="534024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468920" y="517356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28640" y="578340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21320" y="595008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68920" y="578160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468920" y="638964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112240" y="140004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03400" y="1446120"/>
            <a:ext cx="541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03400" y="2055960"/>
            <a:ext cx="541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12240" y="261792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03040" y="2664000"/>
            <a:ext cx="618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112240" y="322596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3040" y="3271680"/>
            <a:ext cx="618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112240" y="421488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03040" y="4260960"/>
            <a:ext cx="618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112240" y="482436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03040" y="4870440"/>
            <a:ext cx="618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112240" y="543240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03040" y="5478480"/>
            <a:ext cx="618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112240" y="604044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03040" y="6086520"/>
            <a:ext cx="618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83960" y="1203480"/>
            <a:ext cx="7995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94040" y="1812960"/>
            <a:ext cx="11667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60280" y="2422440"/>
            <a:ext cx="7995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60280" y="3032280"/>
            <a:ext cx="7995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83960" y="4022640"/>
            <a:ext cx="7995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83960" y="5241960"/>
            <a:ext cx="7995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83960" y="5851440"/>
            <a:ext cx="7995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129160" y="1995480"/>
            <a:ext cx="843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20" y="2025720"/>
            <a:ext cx="16178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(2)=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120" y="2635200"/>
            <a:ext cx="16178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(4)=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440" y="3244680"/>
            <a:ext cx="16178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(6)=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440" y="4235400"/>
            <a:ext cx="16178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(1)=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20" y="4844880"/>
            <a:ext cx="16178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(3)=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20" y="5454720"/>
            <a:ext cx="16178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(5)=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20" y="6064200"/>
            <a:ext cx="16178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(7)=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790960" y="1574640"/>
            <a:ext cx="152640" cy="228600"/>
            <a:chOff x="5790960" y="1574640"/>
            <a:chExt cx="152640" cy="228600"/>
          </a:xfrm>
        </p:grpSpPr>
        <p:sp>
          <p:nvSpPr>
            <p:cNvPr id="255" name=""/>
            <p:cNvSpPr/>
            <p:nvPr/>
          </p:nvSpPr>
          <p:spPr>
            <a:xfrm>
              <a:off x="5791320" y="1574640"/>
              <a:ext cx="152280" cy="1144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790960" y="1689120"/>
              <a:ext cx="152280" cy="1141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794200" y="2187720"/>
            <a:ext cx="152640" cy="228600"/>
            <a:chOff x="5794200" y="2187720"/>
            <a:chExt cx="152640" cy="228600"/>
          </a:xfrm>
        </p:grpSpPr>
        <p:sp>
          <p:nvSpPr>
            <p:cNvPr id="258" name=""/>
            <p:cNvSpPr/>
            <p:nvPr/>
          </p:nvSpPr>
          <p:spPr>
            <a:xfrm>
              <a:off x="5794200" y="2187720"/>
              <a:ext cx="152640" cy="1141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794200" y="2301840"/>
              <a:ext cx="152640" cy="1144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790960" y="2790720"/>
            <a:ext cx="152640" cy="228600"/>
            <a:chOff x="5790960" y="2790720"/>
            <a:chExt cx="152640" cy="228600"/>
          </a:xfrm>
        </p:grpSpPr>
        <p:sp>
          <p:nvSpPr>
            <p:cNvPr id="261" name=""/>
            <p:cNvSpPr/>
            <p:nvPr/>
          </p:nvSpPr>
          <p:spPr>
            <a:xfrm>
              <a:off x="5791320" y="2790720"/>
              <a:ext cx="152280" cy="1144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5790960" y="2905200"/>
              <a:ext cx="152280" cy="1141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5790960" y="3403440"/>
            <a:ext cx="152640" cy="228600"/>
            <a:chOff x="5790960" y="3403440"/>
            <a:chExt cx="152640" cy="228600"/>
          </a:xfrm>
        </p:grpSpPr>
        <p:sp>
          <p:nvSpPr>
            <p:cNvPr id="264" name=""/>
            <p:cNvSpPr/>
            <p:nvPr/>
          </p:nvSpPr>
          <p:spPr>
            <a:xfrm>
              <a:off x="5791320" y="3403440"/>
              <a:ext cx="152280" cy="1144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790960" y="3517920"/>
              <a:ext cx="152280" cy="1141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857640" y="4390920"/>
            <a:ext cx="152640" cy="228600"/>
            <a:chOff x="6857640" y="4390920"/>
            <a:chExt cx="152640" cy="228600"/>
          </a:xfrm>
        </p:grpSpPr>
        <p:sp>
          <p:nvSpPr>
            <p:cNvPr id="267" name=""/>
            <p:cNvSpPr/>
            <p:nvPr/>
          </p:nvSpPr>
          <p:spPr>
            <a:xfrm>
              <a:off x="6858000" y="4390920"/>
              <a:ext cx="152280" cy="1144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857640" y="4505400"/>
              <a:ext cx="152280" cy="1141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6857640" y="4997520"/>
            <a:ext cx="152640" cy="228600"/>
            <a:chOff x="6857640" y="4997520"/>
            <a:chExt cx="152640" cy="228600"/>
          </a:xfrm>
        </p:grpSpPr>
        <p:sp>
          <p:nvSpPr>
            <p:cNvPr id="270" name=""/>
            <p:cNvSpPr/>
            <p:nvPr/>
          </p:nvSpPr>
          <p:spPr>
            <a:xfrm>
              <a:off x="6858000" y="4997520"/>
              <a:ext cx="152280" cy="1141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6857640" y="5111640"/>
              <a:ext cx="152280" cy="1144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857640" y="5607000"/>
            <a:ext cx="152640" cy="228600"/>
            <a:chOff x="6857640" y="5607000"/>
            <a:chExt cx="152640" cy="228600"/>
          </a:xfrm>
        </p:grpSpPr>
        <p:sp>
          <p:nvSpPr>
            <p:cNvPr id="273" name=""/>
            <p:cNvSpPr/>
            <p:nvPr/>
          </p:nvSpPr>
          <p:spPr>
            <a:xfrm>
              <a:off x="6858000" y="5607000"/>
              <a:ext cx="152280" cy="1144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6857640" y="5721480"/>
              <a:ext cx="152280" cy="1141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6857640" y="6215040"/>
            <a:ext cx="152640" cy="228600"/>
            <a:chOff x="6857640" y="6215040"/>
            <a:chExt cx="152640" cy="228600"/>
          </a:xfrm>
        </p:grpSpPr>
        <p:sp>
          <p:nvSpPr>
            <p:cNvPr id="276" name=""/>
            <p:cNvSpPr/>
            <p:nvPr/>
          </p:nvSpPr>
          <p:spPr>
            <a:xfrm>
              <a:off x="6858000" y="6215040"/>
              <a:ext cx="152280" cy="1144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6857640" y="6329520"/>
              <a:ext cx="152280" cy="1141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783960" y="4708440"/>
            <a:ext cx="7995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A4E4-F7EE-4A3E-B484-8BA62E1A8B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lje se nastavlja s razlaganjem nizo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n) i f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1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n) = f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2n)           n = 0,1,......,N/4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n) = f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2n+1)       n = 0,1,......,N/4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2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n) = f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2n)            n = 0,1,......,N/4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2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n) = f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2n+1)        n = 0,1,......,N/4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923D-158A-42D4-B658-EFB36D755D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44280" y="1371600"/>
                <a:ext cx="5388120" cy="18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k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303880" y="1357200"/>
                <a:ext cx="3774960" cy="19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lk</m:t>
                            </m:r>
                          </m:sup>
                        </m:sSubSup>
                      </m:e>
                    </m:nary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1698480" y="3936960"/>
                <a:ext cx="5200920" cy="20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452F-51DA-419D-B71A-A67A1F4AF6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25440" y="1947960"/>
                <a:ext cx="8710560" cy="19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r>
                              <m:t xml:space="preserve">lk</m:t>
                            </m:r>
                          </m:sup>
                        </m:sSubSup>
                      </m:e>
                    </m:nary>
                    <m:r>
                      <m:t xml:space="preserve">+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r>
                          <m:t xml:space="preserve">k</m:t>
                        </m:r>
                      </m:sup>
                    </m:sSubSup>
                    <m:nary>
                      <m:naryPr>
                        <m:chr m:val="∑"/>
                      </m:naryPr>
                      <m: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r>
                              <m:t xml:space="preserve">lk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189080" y="4667400"/>
                <a:ext cx="659448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r>
                          <m:t xml:space="preserve">k</m:t>
                        </m:r>
                      </m:sup>
                    </m:sSubSup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3E4E-048C-4C24-8EEE-605513A18A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167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Uvod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803240" y="2448000"/>
          <a:ext cx="4557960" cy="15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3240" y="2448000"/>
                    <a:ext cx="4557960" cy="15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177920" y="4751280"/>
            <a:ext cx="678816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rebno:    N</a:t>
            </a:r>
            <a:r>
              <a:rPr b="0" lang="en-US" sz="3200" spc="-1" strike="noStrike" baseline="4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kompleksnih množen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(N-1) zbrajan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5181120"/>
            <a:ext cx="7772400" cy="167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CD28-6241-4DF8-88F5-C938E72FE8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čno se izvod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79200" y="1392120"/>
                <a:ext cx="906336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r>
                              <m:t xml:space="preserve">lk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b>
                      <m:sup>
                        <m:r>
                          <m:t xml:space="preserve">l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2617920" y="3419640"/>
            <a:ext cx="1193760" cy="887400"/>
          </a:xfrm>
          <a:prstGeom prst="rect">
            <a:avLst/>
          </a:prstGeom>
          <a:solidFill>
            <a:srgbClr val="d6009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855520" y="3389400"/>
            <a:ext cx="718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/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786040" y="3814920"/>
            <a:ext cx="85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822840" y="3559320"/>
            <a:ext cx="3427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1919160" y="3559320"/>
            <a:ext cx="6890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822840" y="4165560"/>
            <a:ext cx="3427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3822840" y="5153040"/>
            <a:ext cx="3427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3822840" y="5761080"/>
            <a:ext cx="3427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83160" y="3559320"/>
            <a:ext cx="1598400" cy="1593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19440" y="3495600"/>
            <a:ext cx="12888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1919160" y="4165560"/>
            <a:ext cx="6890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1919160" y="5153040"/>
            <a:ext cx="6890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1919160" y="5761080"/>
            <a:ext cx="6890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89040" y="361800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374880" y="361620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88280" y="3784680"/>
            <a:ext cx="500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N/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617920" y="5014800"/>
            <a:ext cx="1193760" cy="887400"/>
          </a:xfrm>
          <a:prstGeom prst="rect">
            <a:avLst/>
          </a:prstGeom>
          <a:solidFill>
            <a:srgbClr val="d6009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55520" y="4984920"/>
            <a:ext cx="718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/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786040" y="5410080"/>
            <a:ext cx="85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83160" y="4165560"/>
            <a:ext cx="1598400" cy="159552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4583160" y="3558960"/>
            <a:ext cx="1598400" cy="1593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583160" y="4165560"/>
            <a:ext cx="1598400" cy="159552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18200" y="5697360"/>
            <a:ext cx="128520" cy="128880"/>
          </a:xfrm>
          <a:prstGeom prst="ellipse">
            <a:avLst/>
          </a:prstGeom>
          <a:solidFill>
            <a:srgbClr val="d6009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118200" y="5089680"/>
            <a:ext cx="128520" cy="128520"/>
          </a:xfrm>
          <a:prstGeom prst="ellipse">
            <a:avLst/>
          </a:prstGeom>
          <a:solidFill>
            <a:srgbClr val="d6009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18200" y="4102200"/>
            <a:ext cx="128520" cy="128520"/>
          </a:xfrm>
          <a:prstGeom prst="ellipse">
            <a:avLst/>
          </a:prstGeom>
          <a:solidFill>
            <a:srgbClr val="d6009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118200" y="3495600"/>
            <a:ext cx="128520" cy="127080"/>
          </a:xfrm>
          <a:prstGeom prst="ellipse">
            <a:avLst/>
          </a:prstGeom>
          <a:solidFill>
            <a:srgbClr val="d6009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89040" y="422604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74880" y="422424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88280" y="4390920"/>
            <a:ext cx="500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N/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89040" y="521352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374880" y="52117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88280" y="5378400"/>
            <a:ext cx="500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N/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89040" y="581976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374880" y="58183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488280" y="5986440"/>
            <a:ext cx="500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N/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336840"/>
            <a:ext cx="18288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(0)=v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-720" y="3824280"/>
            <a:ext cx="17809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(4)=v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720" y="4890960"/>
            <a:ext cx="17809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(2)=v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-720" y="5424480"/>
            <a:ext cx="17809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(6)=v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06560" y="3290760"/>
            <a:ext cx="9028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82880" y="3900600"/>
            <a:ext cx="9028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382880" y="4890960"/>
            <a:ext cx="9028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382880" y="5500800"/>
            <a:ext cx="9028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333760" y="3429000"/>
            <a:ext cx="152640" cy="228600"/>
            <a:chOff x="5333760" y="3429000"/>
            <a:chExt cx="152640" cy="228600"/>
          </a:xfrm>
        </p:grpSpPr>
        <p:sp>
          <p:nvSpPr>
            <p:cNvPr id="331" name=""/>
            <p:cNvSpPr/>
            <p:nvPr/>
          </p:nvSpPr>
          <p:spPr>
            <a:xfrm>
              <a:off x="5334120" y="3429000"/>
              <a:ext cx="152280" cy="1144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5333760" y="3543480"/>
              <a:ext cx="152280" cy="1141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333760" y="4038480"/>
            <a:ext cx="152640" cy="228600"/>
            <a:chOff x="5333760" y="4038480"/>
            <a:chExt cx="152640" cy="228600"/>
          </a:xfrm>
        </p:grpSpPr>
        <p:sp>
          <p:nvSpPr>
            <p:cNvPr id="334" name=""/>
            <p:cNvSpPr/>
            <p:nvPr/>
          </p:nvSpPr>
          <p:spPr>
            <a:xfrm>
              <a:off x="5334120" y="4038480"/>
              <a:ext cx="152280" cy="1144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5333760" y="4152960"/>
              <a:ext cx="152280" cy="1141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5790960" y="5029200"/>
            <a:ext cx="152640" cy="228600"/>
            <a:chOff x="5790960" y="5029200"/>
            <a:chExt cx="152640" cy="228600"/>
          </a:xfrm>
        </p:grpSpPr>
        <p:sp>
          <p:nvSpPr>
            <p:cNvPr id="337" name=""/>
            <p:cNvSpPr/>
            <p:nvPr/>
          </p:nvSpPr>
          <p:spPr>
            <a:xfrm>
              <a:off x="5791320" y="5029200"/>
              <a:ext cx="152280" cy="1144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5790960" y="5143680"/>
              <a:ext cx="152280" cy="1141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790960" y="5638680"/>
            <a:ext cx="152640" cy="228600"/>
            <a:chOff x="5790960" y="5638680"/>
            <a:chExt cx="152640" cy="228600"/>
          </a:xfrm>
        </p:grpSpPr>
        <p:sp>
          <p:nvSpPr>
            <p:cNvPr id="340" name=""/>
            <p:cNvSpPr/>
            <p:nvPr/>
          </p:nvSpPr>
          <p:spPr>
            <a:xfrm>
              <a:off x="5791320" y="5638680"/>
              <a:ext cx="152280" cy="1144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790960" y="5753160"/>
              <a:ext cx="152280" cy="1141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4519440" y="4102200"/>
            <a:ext cx="1288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19440" y="5089680"/>
            <a:ext cx="1288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19440" y="5697360"/>
            <a:ext cx="128880" cy="128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96C8-F579-46DF-987F-356E2451F6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415800" y="1986120"/>
                <a:ext cx="8224920" cy="34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sub>
                              <m:sup>
                                <m:r>
                                  <m:t xml:space="preserve">lk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          n=0,1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nary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 N=8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lk</m:t>
                                </m:r>
                              </m:sup>
                            </m:sSub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641D-67DD-45BD-8176-0C0E727A6E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369720" y="1116000"/>
                <a:ext cx="83934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Za k=0  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8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25520" y="2868480"/>
                <a:ext cx="82756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Za k=1  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8</m:t>
                        </m:r>
                      </m:sub>
                      <m:sup>
                        <m:r>
                          <m:t xml:space="preserve">4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80880" y="4444920"/>
                <a:ext cx="781848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er je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8</m:t>
                        </m:r>
                      </m:sub>
                      <m:sup>
                        <m:r>
                          <m:t xml:space="preserve">4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DEB7-D4A7-4ED7-B84B-D997C8C18F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 flipH="1">
            <a:off x="2476080" y="1757520"/>
            <a:ext cx="43880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476080" y="4006800"/>
            <a:ext cx="43880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5160" y="3720960"/>
            <a:ext cx="864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(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3478320" y="1757520"/>
            <a:ext cx="2254320" cy="22492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32560" y="1657440"/>
            <a:ext cx="201600" cy="201600"/>
          </a:xfrm>
          <a:prstGeom prst="ellipse">
            <a:avLst/>
          </a:prstGeom>
          <a:solidFill>
            <a:srgbClr val="d60093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78320" y="1757520"/>
            <a:ext cx="2254320" cy="22492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632560" y="3906720"/>
            <a:ext cx="201600" cy="201600"/>
          </a:xfrm>
          <a:prstGeom prst="ellipse">
            <a:avLst/>
          </a:prstGeom>
          <a:solidFill>
            <a:srgbClr val="d60093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06960" y="1417680"/>
            <a:ext cx="864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(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5624640" y="2154240"/>
                <a:ext cx="7761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8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4572000" y="4363920"/>
                <a:ext cx="7984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8</m:t>
                        </m:r>
                      </m:sub>
                      <m:sup>
                        <m:r>
                          <m:t xml:space="preserve">4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59" name=""/>
          <p:cNvSpPr/>
          <p:nvPr/>
        </p:nvSpPr>
        <p:spPr>
          <a:xfrm>
            <a:off x="7085520" y="1417680"/>
            <a:ext cx="11894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85520" y="3703680"/>
            <a:ext cx="11894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792680" y="1628640"/>
            <a:ext cx="190440" cy="254160"/>
          </a:xfrm>
          <a:custGeom>
            <a:avLst/>
            <a:gdLst/>
            <a:ahLst/>
            <a:rect l="l" t="t" r="r" b="b"/>
            <a:pathLst>
              <a:path w="237" h="316">
                <a:moveTo>
                  <a:pt x="0" y="0"/>
                </a:moveTo>
                <a:lnTo>
                  <a:pt x="236" y="158"/>
                </a:lnTo>
                <a:lnTo>
                  <a:pt x="0" y="315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378240" y="1657440"/>
            <a:ext cx="201600" cy="20160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378240" y="3906720"/>
            <a:ext cx="201600" cy="20160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876920" y="3878280"/>
            <a:ext cx="190440" cy="254160"/>
          </a:xfrm>
          <a:custGeom>
            <a:avLst/>
            <a:gdLst/>
            <a:ahLst/>
            <a:rect l="l" t="t" r="r" b="b"/>
            <a:pathLst>
              <a:path w="237" h="316">
                <a:moveTo>
                  <a:pt x="0" y="0"/>
                </a:moveTo>
                <a:lnTo>
                  <a:pt x="236" y="158"/>
                </a:lnTo>
                <a:lnTo>
                  <a:pt x="0" y="315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0CC4-A736-434A-B41D-9863357F07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8525160" y="137628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525160" y="198612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525160" y="259380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525160" y="320184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525160" y="381168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525160" y="441972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525160" y="502776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525160" y="563580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775800" y="1525680"/>
            <a:ext cx="2440440" cy="729720"/>
            <a:chOff x="775800" y="1525680"/>
            <a:chExt cx="2440440" cy="729720"/>
          </a:xfrm>
        </p:grpSpPr>
        <p:sp>
          <p:nvSpPr>
            <p:cNvPr id="374" name=""/>
            <p:cNvSpPr/>
            <p:nvPr/>
          </p:nvSpPr>
          <p:spPr>
            <a:xfrm>
              <a:off x="1385640" y="1585800"/>
              <a:ext cx="183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76160" y="219384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01800" y="2133360"/>
              <a:ext cx="195120" cy="122040"/>
            </a:xfrm>
            <a:custGeom>
              <a:avLst/>
              <a:gdLst/>
              <a:ahLst/>
              <a:rect l="l" t="t" r="r" b="b"/>
              <a:pathLst>
                <a:path w="123" h="77">
                  <a:moveTo>
                    <a:pt x="0" y="76"/>
                  </a:moveTo>
                  <a:lnTo>
                    <a:pt x="15" y="38"/>
                  </a:lnTo>
                  <a:lnTo>
                    <a:pt x="0" y="0"/>
                  </a:lnTo>
                  <a:lnTo>
                    <a:pt x="122" y="38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776160" y="1585800"/>
              <a:ext cx="2436840" cy="606960"/>
              <a:chOff x="776160" y="1585800"/>
              <a:chExt cx="2436840" cy="606960"/>
            </a:xfrm>
          </p:grpSpPr>
          <p:sp>
            <p:nvSpPr>
              <p:cNvPr id="378" name=""/>
              <p:cNvSpPr/>
              <p:nvPr/>
            </p:nvSpPr>
            <p:spPr>
              <a:xfrm flipV="1">
                <a:off x="776160" y="1769040"/>
                <a:ext cx="1687680" cy="42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400120" y="1725120"/>
                <a:ext cx="204840" cy="117000"/>
              </a:xfrm>
              <a:custGeom>
                <a:avLst/>
                <a:gdLst/>
                <a:ahLst/>
                <a:rect l="l" t="t" r="r" b="b"/>
                <a:pathLst>
                  <a:path w="129" h="74">
                    <a:moveTo>
                      <a:pt x="19" y="73"/>
                    </a:moveTo>
                    <a:lnTo>
                      <a:pt x="24" y="33"/>
                    </a:lnTo>
                    <a:lnTo>
                      <a:pt x="0" y="0"/>
                    </a:lnTo>
                    <a:lnTo>
                      <a:pt x="128" y="7"/>
                    </a:lnTo>
                    <a:lnTo>
                      <a:pt x="19" y="7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2603520" y="1585800"/>
                <a:ext cx="609480" cy="15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 flipH="1" flipV="1">
              <a:off x="1385640" y="1736280"/>
              <a:ext cx="182736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flipV="1">
              <a:off x="775800" y="1585440"/>
              <a:ext cx="469800" cy="11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82600" y="1633320"/>
              <a:ext cx="204840" cy="115560"/>
            </a:xfrm>
            <a:custGeom>
              <a:avLst/>
              <a:gdLst/>
              <a:ahLst/>
              <a:rect l="l" t="t" r="r" b="b"/>
              <a:pathLst>
                <a:path w="129" h="73">
                  <a:moveTo>
                    <a:pt x="0" y="72"/>
                  </a:moveTo>
                  <a:lnTo>
                    <a:pt x="24" y="40"/>
                  </a:lnTo>
                  <a:lnTo>
                    <a:pt x="19" y="0"/>
                  </a:lnTo>
                  <a:lnTo>
                    <a:pt x="128" y="65"/>
                  </a:lnTo>
                  <a:lnTo>
                    <a:pt x="0" y="7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76160" y="1585800"/>
              <a:ext cx="466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91960" y="1525680"/>
              <a:ext cx="195480" cy="122040"/>
            </a:xfrm>
            <a:custGeom>
              <a:avLst/>
              <a:gdLst/>
              <a:ahLst/>
              <a:rect l="l" t="t" r="r" b="b"/>
              <a:pathLst>
                <a:path w="123" h="77">
                  <a:moveTo>
                    <a:pt x="0" y="76"/>
                  </a:moveTo>
                  <a:lnTo>
                    <a:pt x="15" y="38"/>
                  </a:lnTo>
                  <a:lnTo>
                    <a:pt x="0" y="0"/>
                  </a:lnTo>
                  <a:lnTo>
                    <a:pt x="122" y="38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95480" y="2193840"/>
              <a:ext cx="1220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775800" y="2741760"/>
            <a:ext cx="2440440" cy="729720"/>
            <a:chOff x="775800" y="2741760"/>
            <a:chExt cx="2440440" cy="729720"/>
          </a:xfrm>
        </p:grpSpPr>
        <p:sp>
          <p:nvSpPr>
            <p:cNvPr id="388" name=""/>
            <p:cNvSpPr/>
            <p:nvPr/>
          </p:nvSpPr>
          <p:spPr>
            <a:xfrm>
              <a:off x="1385640" y="2801880"/>
              <a:ext cx="183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76160" y="34099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01800" y="3351240"/>
              <a:ext cx="195120" cy="120240"/>
            </a:xfrm>
            <a:custGeom>
              <a:avLst/>
              <a:gdLst/>
              <a:ahLst/>
              <a:rect l="l" t="t" r="r" b="b"/>
              <a:pathLst>
                <a:path w="123" h="76">
                  <a:moveTo>
                    <a:pt x="0" y="75"/>
                  </a:moveTo>
                  <a:lnTo>
                    <a:pt x="15" y="37"/>
                  </a:lnTo>
                  <a:lnTo>
                    <a:pt x="0" y="0"/>
                  </a:lnTo>
                  <a:lnTo>
                    <a:pt x="122" y="37"/>
                  </a:lnTo>
                  <a:lnTo>
                    <a:pt x="0" y="7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776160" y="2801880"/>
              <a:ext cx="2436840" cy="607320"/>
              <a:chOff x="776160" y="2801880"/>
              <a:chExt cx="2436840" cy="607320"/>
            </a:xfrm>
          </p:grpSpPr>
          <p:sp>
            <p:nvSpPr>
              <p:cNvPr id="392" name=""/>
              <p:cNvSpPr/>
              <p:nvPr/>
            </p:nvSpPr>
            <p:spPr>
              <a:xfrm flipV="1">
                <a:off x="776160" y="2987280"/>
                <a:ext cx="1687680" cy="421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400120" y="2942640"/>
                <a:ext cx="204840" cy="117360"/>
              </a:xfrm>
              <a:custGeom>
                <a:avLst/>
                <a:gdLst/>
                <a:ahLst/>
                <a:rect l="l" t="t" r="r" b="b"/>
                <a:pathLst>
                  <a:path w="129" h="74">
                    <a:moveTo>
                      <a:pt x="19" y="73"/>
                    </a:moveTo>
                    <a:lnTo>
                      <a:pt x="24" y="33"/>
                    </a:lnTo>
                    <a:lnTo>
                      <a:pt x="0" y="0"/>
                    </a:lnTo>
                    <a:lnTo>
                      <a:pt x="128" y="7"/>
                    </a:lnTo>
                    <a:lnTo>
                      <a:pt x="19" y="7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2603520" y="2801880"/>
                <a:ext cx="609480" cy="151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 flipH="1" flipV="1">
              <a:off x="1385640" y="2953800"/>
              <a:ext cx="1827360" cy="45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 flipV="1">
              <a:off x="775800" y="2801520"/>
              <a:ext cx="469800" cy="11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82600" y="2849400"/>
              <a:ext cx="204840" cy="117000"/>
            </a:xfrm>
            <a:custGeom>
              <a:avLst/>
              <a:gdLst/>
              <a:ahLst/>
              <a:rect l="l" t="t" r="r" b="b"/>
              <a:pathLst>
                <a:path w="129" h="74">
                  <a:moveTo>
                    <a:pt x="0" y="73"/>
                  </a:moveTo>
                  <a:lnTo>
                    <a:pt x="24" y="40"/>
                  </a:lnTo>
                  <a:lnTo>
                    <a:pt x="19" y="0"/>
                  </a:lnTo>
                  <a:lnTo>
                    <a:pt x="128" y="66"/>
                  </a:lnTo>
                  <a:lnTo>
                    <a:pt x="0" y="7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76160" y="2801880"/>
              <a:ext cx="466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91960" y="2741760"/>
              <a:ext cx="195480" cy="122040"/>
            </a:xfrm>
            <a:custGeom>
              <a:avLst/>
              <a:gdLst/>
              <a:ahLst/>
              <a:rect l="l" t="t" r="r" b="b"/>
              <a:pathLst>
                <a:path w="123" h="77">
                  <a:moveTo>
                    <a:pt x="0" y="76"/>
                  </a:moveTo>
                  <a:lnTo>
                    <a:pt x="15" y="38"/>
                  </a:lnTo>
                  <a:lnTo>
                    <a:pt x="0" y="0"/>
                  </a:lnTo>
                  <a:lnTo>
                    <a:pt x="122" y="38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95480" y="3409920"/>
              <a:ext cx="1220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775800" y="3959280"/>
            <a:ext cx="2440440" cy="729720"/>
            <a:chOff x="775800" y="3959280"/>
            <a:chExt cx="2440440" cy="729720"/>
          </a:xfrm>
        </p:grpSpPr>
        <p:sp>
          <p:nvSpPr>
            <p:cNvPr id="402" name=""/>
            <p:cNvSpPr/>
            <p:nvPr/>
          </p:nvSpPr>
          <p:spPr>
            <a:xfrm>
              <a:off x="1385640" y="4019400"/>
              <a:ext cx="183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76160" y="462744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01800" y="4566960"/>
              <a:ext cx="195120" cy="122040"/>
            </a:xfrm>
            <a:custGeom>
              <a:avLst/>
              <a:gdLst/>
              <a:ahLst/>
              <a:rect l="l" t="t" r="r" b="b"/>
              <a:pathLst>
                <a:path w="123" h="77">
                  <a:moveTo>
                    <a:pt x="0" y="76"/>
                  </a:moveTo>
                  <a:lnTo>
                    <a:pt x="15" y="38"/>
                  </a:lnTo>
                  <a:lnTo>
                    <a:pt x="0" y="0"/>
                  </a:lnTo>
                  <a:lnTo>
                    <a:pt x="122" y="38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776160" y="4019400"/>
              <a:ext cx="2436840" cy="607320"/>
              <a:chOff x="776160" y="4019400"/>
              <a:chExt cx="2436840" cy="607320"/>
            </a:xfrm>
          </p:grpSpPr>
          <p:sp>
            <p:nvSpPr>
              <p:cNvPr id="406" name=""/>
              <p:cNvSpPr/>
              <p:nvPr/>
            </p:nvSpPr>
            <p:spPr>
              <a:xfrm flipV="1">
                <a:off x="776160" y="4204800"/>
                <a:ext cx="1687680" cy="421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400120" y="4160520"/>
                <a:ext cx="204840" cy="115200"/>
              </a:xfrm>
              <a:custGeom>
                <a:avLst/>
                <a:gdLst/>
                <a:ahLst/>
                <a:rect l="l" t="t" r="r" b="b"/>
                <a:pathLst>
                  <a:path w="129" h="73">
                    <a:moveTo>
                      <a:pt x="19" y="72"/>
                    </a:moveTo>
                    <a:lnTo>
                      <a:pt x="24" y="33"/>
                    </a:lnTo>
                    <a:lnTo>
                      <a:pt x="0" y="0"/>
                    </a:lnTo>
                    <a:lnTo>
                      <a:pt x="128" y="7"/>
                    </a:lnTo>
                    <a:lnTo>
                      <a:pt x="19" y="7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2603520" y="4019400"/>
                <a:ext cx="609480" cy="151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 flipH="1" flipV="1">
              <a:off x="1385640" y="4171320"/>
              <a:ext cx="1827360" cy="45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775800" y="4019040"/>
              <a:ext cx="469800" cy="11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82600" y="4066920"/>
              <a:ext cx="204840" cy="117360"/>
            </a:xfrm>
            <a:custGeom>
              <a:avLst/>
              <a:gdLst/>
              <a:ahLst/>
              <a:rect l="l" t="t" r="r" b="b"/>
              <a:pathLst>
                <a:path w="129" h="74">
                  <a:moveTo>
                    <a:pt x="0" y="73"/>
                  </a:moveTo>
                  <a:lnTo>
                    <a:pt x="24" y="40"/>
                  </a:lnTo>
                  <a:lnTo>
                    <a:pt x="19" y="0"/>
                  </a:lnTo>
                  <a:lnTo>
                    <a:pt x="128" y="66"/>
                  </a:lnTo>
                  <a:lnTo>
                    <a:pt x="0" y="7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6160" y="4019400"/>
              <a:ext cx="466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91960" y="3959280"/>
              <a:ext cx="195480" cy="122040"/>
            </a:xfrm>
            <a:custGeom>
              <a:avLst/>
              <a:gdLst/>
              <a:ahLst/>
              <a:rect l="l" t="t" r="r" b="b"/>
              <a:pathLst>
                <a:path w="123" h="77">
                  <a:moveTo>
                    <a:pt x="0" y="76"/>
                  </a:moveTo>
                  <a:lnTo>
                    <a:pt x="15" y="38"/>
                  </a:lnTo>
                  <a:lnTo>
                    <a:pt x="0" y="0"/>
                  </a:lnTo>
                  <a:lnTo>
                    <a:pt x="122" y="38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95480" y="4627440"/>
              <a:ext cx="1220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775800" y="5175360"/>
            <a:ext cx="2440440" cy="729720"/>
            <a:chOff x="775800" y="5175360"/>
            <a:chExt cx="2440440" cy="729720"/>
          </a:xfrm>
        </p:grpSpPr>
        <p:sp>
          <p:nvSpPr>
            <p:cNvPr id="416" name=""/>
            <p:cNvSpPr/>
            <p:nvPr/>
          </p:nvSpPr>
          <p:spPr>
            <a:xfrm>
              <a:off x="1385640" y="5235480"/>
              <a:ext cx="183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76160" y="58449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801800" y="5784840"/>
              <a:ext cx="195120" cy="120240"/>
            </a:xfrm>
            <a:custGeom>
              <a:avLst/>
              <a:gdLst/>
              <a:ahLst/>
              <a:rect l="l" t="t" r="r" b="b"/>
              <a:pathLst>
                <a:path w="123" h="76">
                  <a:moveTo>
                    <a:pt x="0" y="75"/>
                  </a:moveTo>
                  <a:lnTo>
                    <a:pt x="15" y="38"/>
                  </a:lnTo>
                  <a:lnTo>
                    <a:pt x="0" y="0"/>
                  </a:lnTo>
                  <a:lnTo>
                    <a:pt x="122" y="38"/>
                  </a:lnTo>
                  <a:lnTo>
                    <a:pt x="0" y="7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776160" y="5235480"/>
              <a:ext cx="2436840" cy="608760"/>
              <a:chOff x="776160" y="5235480"/>
              <a:chExt cx="2436840" cy="608760"/>
            </a:xfrm>
          </p:grpSpPr>
          <p:sp>
            <p:nvSpPr>
              <p:cNvPr id="420" name=""/>
              <p:cNvSpPr/>
              <p:nvPr/>
            </p:nvSpPr>
            <p:spPr>
              <a:xfrm flipV="1">
                <a:off x="776160" y="5420880"/>
                <a:ext cx="1687680" cy="423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400120" y="5376240"/>
                <a:ext cx="204840" cy="117360"/>
              </a:xfrm>
              <a:custGeom>
                <a:avLst/>
                <a:gdLst/>
                <a:ahLst/>
                <a:rect l="l" t="t" r="r" b="b"/>
                <a:pathLst>
                  <a:path w="129" h="74">
                    <a:moveTo>
                      <a:pt x="19" y="73"/>
                    </a:moveTo>
                    <a:lnTo>
                      <a:pt x="24" y="33"/>
                    </a:lnTo>
                    <a:lnTo>
                      <a:pt x="0" y="0"/>
                    </a:lnTo>
                    <a:lnTo>
                      <a:pt x="128" y="7"/>
                    </a:lnTo>
                    <a:lnTo>
                      <a:pt x="19" y="7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2603520" y="5235480"/>
                <a:ext cx="609480" cy="151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 flipH="1" flipV="1">
              <a:off x="1385640" y="5387400"/>
              <a:ext cx="182736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 flipV="1">
              <a:off x="775800" y="5235120"/>
              <a:ext cx="469800" cy="11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182600" y="5283000"/>
              <a:ext cx="204840" cy="117360"/>
            </a:xfrm>
            <a:custGeom>
              <a:avLst/>
              <a:gdLst/>
              <a:ahLst/>
              <a:rect l="l" t="t" r="r" b="b"/>
              <a:pathLst>
                <a:path w="129" h="74">
                  <a:moveTo>
                    <a:pt x="0" y="73"/>
                  </a:moveTo>
                  <a:lnTo>
                    <a:pt x="24" y="40"/>
                  </a:lnTo>
                  <a:lnTo>
                    <a:pt x="19" y="0"/>
                  </a:lnTo>
                  <a:lnTo>
                    <a:pt x="128" y="66"/>
                  </a:lnTo>
                  <a:lnTo>
                    <a:pt x="0" y="7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76160" y="5235480"/>
              <a:ext cx="466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191960" y="5175360"/>
              <a:ext cx="195480" cy="122040"/>
            </a:xfrm>
            <a:custGeom>
              <a:avLst/>
              <a:gdLst/>
              <a:ahLst/>
              <a:rect l="l" t="t" r="r" b="b"/>
              <a:pathLst>
                <a:path w="123" h="77">
                  <a:moveTo>
                    <a:pt x="0" y="76"/>
                  </a:moveTo>
                  <a:lnTo>
                    <a:pt x="15" y="38"/>
                  </a:lnTo>
                  <a:lnTo>
                    <a:pt x="0" y="0"/>
                  </a:lnTo>
                  <a:lnTo>
                    <a:pt x="122" y="38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95480" y="5844960"/>
              <a:ext cx="1220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3213000" y="1525680"/>
            <a:ext cx="2438280" cy="1945800"/>
            <a:chOff x="3213000" y="1525680"/>
            <a:chExt cx="2438280" cy="1945800"/>
          </a:xfrm>
        </p:grpSpPr>
        <p:sp>
          <p:nvSpPr>
            <p:cNvPr id="430" name=""/>
            <p:cNvSpPr/>
            <p:nvPr/>
          </p:nvSpPr>
          <p:spPr>
            <a:xfrm>
              <a:off x="3821040" y="1585800"/>
              <a:ext cx="18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213000" y="1585800"/>
              <a:ext cx="466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628800" y="1525680"/>
              <a:ext cx="193680" cy="122040"/>
            </a:xfrm>
            <a:custGeom>
              <a:avLst/>
              <a:gdLst/>
              <a:ahLst/>
              <a:rect l="l" t="t" r="r" b="b"/>
              <a:pathLst>
                <a:path w="122" h="77">
                  <a:moveTo>
                    <a:pt x="0" y="76"/>
                  </a:moveTo>
                  <a:lnTo>
                    <a:pt x="15" y="38"/>
                  </a:lnTo>
                  <a:lnTo>
                    <a:pt x="0" y="0"/>
                  </a:lnTo>
                  <a:lnTo>
                    <a:pt x="121" y="38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213000" y="2801880"/>
              <a:ext cx="1684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46680" y="2741400"/>
              <a:ext cx="195120" cy="122040"/>
            </a:xfrm>
            <a:custGeom>
              <a:avLst/>
              <a:gdLst/>
              <a:ahLst/>
              <a:rect l="l" t="t" r="r" b="b"/>
              <a:pathLst>
                <a:path w="123" h="77">
                  <a:moveTo>
                    <a:pt x="0" y="76"/>
                  </a:moveTo>
                  <a:lnTo>
                    <a:pt x="15" y="38"/>
                  </a:lnTo>
                  <a:lnTo>
                    <a:pt x="0" y="0"/>
                  </a:lnTo>
                  <a:lnTo>
                    <a:pt x="122" y="38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40360" y="2801880"/>
              <a:ext cx="610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213000" y="3409920"/>
              <a:ext cx="1684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846680" y="3351240"/>
              <a:ext cx="195120" cy="120240"/>
            </a:xfrm>
            <a:custGeom>
              <a:avLst/>
              <a:gdLst/>
              <a:ahLst/>
              <a:rect l="l" t="t" r="r" b="b"/>
              <a:pathLst>
                <a:path w="123" h="76">
                  <a:moveTo>
                    <a:pt x="0" y="75"/>
                  </a:moveTo>
                  <a:lnTo>
                    <a:pt x="15" y="37"/>
                  </a:lnTo>
                  <a:lnTo>
                    <a:pt x="0" y="0"/>
                  </a:lnTo>
                  <a:lnTo>
                    <a:pt x="122" y="37"/>
                  </a:lnTo>
                  <a:lnTo>
                    <a:pt x="0" y="7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40360" y="3409920"/>
              <a:ext cx="610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3213000" y="1952640"/>
              <a:ext cx="1698480" cy="84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40200" y="1888920"/>
              <a:ext cx="201600" cy="142560"/>
            </a:xfrm>
            <a:custGeom>
              <a:avLst/>
              <a:gdLst/>
              <a:ahLst/>
              <a:rect l="l" t="t" r="r" b="b"/>
              <a:pathLst>
                <a:path w="127" h="90">
                  <a:moveTo>
                    <a:pt x="34" y="89"/>
                  </a:moveTo>
                  <a:lnTo>
                    <a:pt x="30" y="48"/>
                  </a:lnTo>
                  <a:lnTo>
                    <a:pt x="0" y="21"/>
                  </a:lnTo>
                  <a:lnTo>
                    <a:pt x="126" y="0"/>
                  </a:lnTo>
                  <a:lnTo>
                    <a:pt x="34" y="8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5040360" y="1585440"/>
              <a:ext cx="608040" cy="30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3213000" y="2560680"/>
              <a:ext cx="1698480" cy="84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40200" y="2498760"/>
              <a:ext cx="201600" cy="140760"/>
            </a:xfrm>
            <a:custGeom>
              <a:avLst/>
              <a:gdLst/>
              <a:ahLst/>
              <a:rect l="l" t="t" r="r" b="b"/>
              <a:pathLst>
                <a:path w="127" h="89">
                  <a:moveTo>
                    <a:pt x="34" y="88"/>
                  </a:moveTo>
                  <a:lnTo>
                    <a:pt x="30" y="47"/>
                  </a:lnTo>
                  <a:lnTo>
                    <a:pt x="0" y="21"/>
                  </a:lnTo>
                  <a:lnTo>
                    <a:pt x="126" y="0"/>
                  </a:lnTo>
                  <a:lnTo>
                    <a:pt x="34" y="8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5040360" y="2193840"/>
              <a:ext cx="60804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5" name=""/>
            <p:cNvGrpSpPr/>
            <p:nvPr/>
          </p:nvGrpSpPr>
          <p:grpSpPr>
            <a:xfrm>
              <a:off x="3213000" y="1585800"/>
              <a:ext cx="2435400" cy="1215360"/>
              <a:chOff x="3213000" y="1585800"/>
              <a:chExt cx="2435400" cy="1215360"/>
            </a:xfrm>
          </p:grpSpPr>
          <p:sp>
            <p:nvSpPr>
              <p:cNvPr id="446" name=""/>
              <p:cNvSpPr/>
              <p:nvPr/>
            </p:nvSpPr>
            <p:spPr>
              <a:xfrm>
                <a:off x="3821040" y="1888560"/>
                <a:ext cx="1827360" cy="9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213000" y="1585800"/>
                <a:ext cx="480960" cy="237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622680" y="1747440"/>
                <a:ext cx="199800" cy="142560"/>
              </a:xfrm>
              <a:custGeom>
                <a:avLst/>
                <a:gdLst/>
                <a:ahLst/>
                <a:rect l="l" t="t" r="r" b="b"/>
                <a:pathLst>
                  <a:path w="126" h="90">
                    <a:moveTo>
                      <a:pt x="0" y="68"/>
                    </a:moveTo>
                    <a:lnTo>
                      <a:pt x="30" y="41"/>
                    </a:lnTo>
                    <a:lnTo>
                      <a:pt x="34" y="0"/>
                    </a:lnTo>
                    <a:lnTo>
                      <a:pt x="125" y="89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3821040" y="2193840"/>
              <a:ext cx="18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213000" y="2193840"/>
              <a:ext cx="466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628800" y="2133360"/>
              <a:ext cx="193680" cy="122040"/>
            </a:xfrm>
            <a:custGeom>
              <a:avLst/>
              <a:gdLst/>
              <a:ahLst/>
              <a:rect l="l" t="t" r="r" b="b"/>
              <a:pathLst>
                <a:path w="122" h="77">
                  <a:moveTo>
                    <a:pt x="0" y="76"/>
                  </a:moveTo>
                  <a:lnTo>
                    <a:pt x="15" y="38"/>
                  </a:lnTo>
                  <a:lnTo>
                    <a:pt x="0" y="0"/>
                  </a:lnTo>
                  <a:lnTo>
                    <a:pt x="121" y="38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3213000" y="2193840"/>
              <a:ext cx="2435400" cy="1215360"/>
              <a:chOff x="3213000" y="2193840"/>
              <a:chExt cx="2435400" cy="1215360"/>
            </a:xfrm>
          </p:grpSpPr>
          <p:sp>
            <p:nvSpPr>
              <p:cNvPr id="453" name=""/>
              <p:cNvSpPr/>
              <p:nvPr/>
            </p:nvSpPr>
            <p:spPr>
              <a:xfrm>
                <a:off x="3821040" y="2498400"/>
                <a:ext cx="1827360" cy="910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213000" y="2193840"/>
                <a:ext cx="480960" cy="239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622680" y="2356920"/>
                <a:ext cx="199800" cy="142560"/>
              </a:xfrm>
              <a:custGeom>
                <a:avLst/>
                <a:gdLst/>
                <a:ahLst/>
                <a:rect l="l" t="t" r="r" b="b"/>
                <a:pathLst>
                  <a:path w="126" h="90">
                    <a:moveTo>
                      <a:pt x="0" y="68"/>
                    </a:moveTo>
                    <a:lnTo>
                      <a:pt x="30" y="41"/>
                    </a:lnTo>
                    <a:lnTo>
                      <a:pt x="34" y="0"/>
                    </a:lnTo>
                    <a:lnTo>
                      <a:pt x="125" y="89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6" name=""/>
          <p:cNvGrpSpPr/>
          <p:nvPr/>
        </p:nvGrpSpPr>
        <p:grpSpPr>
          <a:xfrm>
            <a:off x="3213000" y="3959280"/>
            <a:ext cx="2438280" cy="1945800"/>
            <a:chOff x="3213000" y="3959280"/>
            <a:chExt cx="2438280" cy="1945800"/>
          </a:xfrm>
        </p:grpSpPr>
        <p:sp>
          <p:nvSpPr>
            <p:cNvPr id="457" name=""/>
            <p:cNvSpPr/>
            <p:nvPr/>
          </p:nvSpPr>
          <p:spPr>
            <a:xfrm>
              <a:off x="3821040" y="4019400"/>
              <a:ext cx="18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13000" y="4019400"/>
              <a:ext cx="466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628800" y="3959280"/>
              <a:ext cx="193680" cy="122040"/>
            </a:xfrm>
            <a:custGeom>
              <a:avLst/>
              <a:gdLst/>
              <a:ahLst/>
              <a:rect l="l" t="t" r="r" b="b"/>
              <a:pathLst>
                <a:path w="122" h="77">
                  <a:moveTo>
                    <a:pt x="0" y="76"/>
                  </a:moveTo>
                  <a:lnTo>
                    <a:pt x="15" y="38"/>
                  </a:lnTo>
                  <a:lnTo>
                    <a:pt x="0" y="0"/>
                  </a:lnTo>
                  <a:lnTo>
                    <a:pt x="121" y="38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213000" y="5235480"/>
              <a:ext cx="1684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46680" y="5175000"/>
              <a:ext cx="195120" cy="122040"/>
            </a:xfrm>
            <a:custGeom>
              <a:avLst/>
              <a:gdLst/>
              <a:ahLst/>
              <a:rect l="l" t="t" r="r" b="b"/>
              <a:pathLst>
                <a:path w="123" h="77">
                  <a:moveTo>
                    <a:pt x="0" y="76"/>
                  </a:moveTo>
                  <a:lnTo>
                    <a:pt x="15" y="38"/>
                  </a:lnTo>
                  <a:lnTo>
                    <a:pt x="0" y="0"/>
                  </a:lnTo>
                  <a:lnTo>
                    <a:pt x="122" y="38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40360" y="5235480"/>
              <a:ext cx="610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213000" y="5844960"/>
              <a:ext cx="1684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846680" y="5784840"/>
              <a:ext cx="195120" cy="120240"/>
            </a:xfrm>
            <a:custGeom>
              <a:avLst/>
              <a:gdLst/>
              <a:ahLst/>
              <a:rect l="l" t="t" r="r" b="b"/>
              <a:pathLst>
                <a:path w="123" h="76">
                  <a:moveTo>
                    <a:pt x="0" y="75"/>
                  </a:moveTo>
                  <a:lnTo>
                    <a:pt x="15" y="38"/>
                  </a:lnTo>
                  <a:lnTo>
                    <a:pt x="0" y="0"/>
                  </a:lnTo>
                  <a:lnTo>
                    <a:pt x="122" y="38"/>
                  </a:lnTo>
                  <a:lnTo>
                    <a:pt x="0" y="7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040360" y="5844960"/>
              <a:ext cx="610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3213000" y="4386240"/>
              <a:ext cx="1698480" cy="84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840200" y="4322520"/>
              <a:ext cx="201600" cy="142560"/>
            </a:xfrm>
            <a:custGeom>
              <a:avLst/>
              <a:gdLst/>
              <a:ahLst/>
              <a:rect l="l" t="t" r="r" b="b"/>
              <a:pathLst>
                <a:path w="127" h="90">
                  <a:moveTo>
                    <a:pt x="34" y="89"/>
                  </a:moveTo>
                  <a:lnTo>
                    <a:pt x="30" y="48"/>
                  </a:lnTo>
                  <a:lnTo>
                    <a:pt x="0" y="21"/>
                  </a:lnTo>
                  <a:lnTo>
                    <a:pt x="126" y="0"/>
                  </a:lnTo>
                  <a:lnTo>
                    <a:pt x="34" y="8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5040360" y="4019040"/>
              <a:ext cx="608040" cy="30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3213000" y="4995720"/>
              <a:ext cx="1698480" cy="84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40200" y="4932360"/>
              <a:ext cx="201600" cy="140760"/>
            </a:xfrm>
            <a:custGeom>
              <a:avLst/>
              <a:gdLst/>
              <a:ahLst/>
              <a:rect l="l" t="t" r="r" b="b"/>
              <a:pathLst>
                <a:path w="127" h="89">
                  <a:moveTo>
                    <a:pt x="34" y="88"/>
                  </a:moveTo>
                  <a:lnTo>
                    <a:pt x="30" y="48"/>
                  </a:lnTo>
                  <a:lnTo>
                    <a:pt x="0" y="21"/>
                  </a:lnTo>
                  <a:lnTo>
                    <a:pt x="126" y="0"/>
                  </a:lnTo>
                  <a:lnTo>
                    <a:pt x="34" y="8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5040360" y="4627440"/>
              <a:ext cx="60804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3213000" y="4019400"/>
              <a:ext cx="2435400" cy="1215360"/>
              <a:chOff x="3213000" y="4019400"/>
              <a:chExt cx="2435400" cy="12153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21040" y="4322160"/>
                <a:ext cx="1827360" cy="9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213000" y="4019400"/>
                <a:ext cx="480960" cy="237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622680" y="4182480"/>
                <a:ext cx="199800" cy="141120"/>
              </a:xfrm>
              <a:custGeom>
                <a:avLst/>
                <a:gdLst/>
                <a:ahLst/>
                <a:rect l="l" t="t" r="r" b="b"/>
                <a:pathLst>
                  <a:path w="126" h="89">
                    <a:moveTo>
                      <a:pt x="0" y="67"/>
                    </a:moveTo>
                    <a:lnTo>
                      <a:pt x="30" y="40"/>
                    </a:lnTo>
                    <a:lnTo>
                      <a:pt x="34" y="0"/>
                    </a:lnTo>
                    <a:lnTo>
                      <a:pt x="125" y="88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3821040" y="4627440"/>
              <a:ext cx="18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13000" y="4627440"/>
              <a:ext cx="466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628800" y="4566960"/>
              <a:ext cx="193680" cy="122040"/>
            </a:xfrm>
            <a:custGeom>
              <a:avLst/>
              <a:gdLst/>
              <a:ahLst/>
              <a:rect l="l" t="t" r="r" b="b"/>
              <a:pathLst>
                <a:path w="122" h="77">
                  <a:moveTo>
                    <a:pt x="0" y="76"/>
                  </a:moveTo>
                  <a:lnTo>
                    <a:pt x="15" y="38"/>
                  </a:lnTo>
                  <a:lnTo>
                    <a:pt x="0" y="0"/>
                  </a:lnTo>
                  <a:lnTo>
                    <a:pt x="121" y="38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3213000" y="4627440"/>
              <a:ext cx="2435400" cy="1216800"/>
              <a:chOff x="3213000" y="4627440"/>
              <a:chExt cx="2435400" cy="1216800"/>
            </a:xfrm>
          </p:grpSpPr>
          <p:sp>
            <p:nvSpPr>
              <p:cNvPr id="480" name=""/>
              <p:cNvSpPr/>
              <p:nvPr/>
            </p:nvSpPr>
            <p:spPr>
              <a:xfrm>
                <a:off x="3821040" y="4932000"/>
                <a:ext cx="1827360" cy="912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213000" y="4627440"/>
                <a:ext cx="480960" cy="239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622680" y="4790520"/>
                <a:ext cx="199800" cy="142560"/>
              </a:xfrm>
              <a:custGeom>
                <a:avLst/>
                <a:gdLst/>
                <a:ahLst/>
                <a:rect l="l" t="t" r="r" b="b"/>
                <a:pathLst>
                  <a:path w="126" h="90">
                    <a:moveTo>
                      <a:pt x="0" y="68"/>
                    </a:moveTo>
                    <a:lnTo>
                      <a:pt x="30" y="41"/>
                    </a:lnTo>
                    <a:lnTo>
                      <a:pt x="34" y="0"/>
                    </a:lnTo>
                    <a:lnTo>
                      <a:pt x="125" y="89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3" name=""/>
          <p:cNvGrpSpPr/>
          <p:nvPr/>
        </p:nvGrpSpPr>
        <p:grpSpPr>
          <a:xfrm>
            <a:off x="5648400" y="3959280"/>
            <a:ext cx="2439720" cy="122040"/>
            <a:chOff x="5648400" y="3959280"/>
            <a:chExt cx="2439720" cy="122040"/>
          </a:xfrm>
        </p:grpSpPr>
        <p:sp>
          <p:nvSpPr>
            <p:cNvPr id="484" name=""/>
            <p:cNvSpPr/>
            <p:nvPr/>
          </p:nvSpPr>
          <p:spPr>
            <a:xfrm>
              <a:off x="5648400" y="4019400"/>
              <a:ext cx="1990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86640" y="3959280"/>
              <a:ext cx="195120" cy="122040"/>
            </a:xfrm>
            <a:custGeom>
              <a:avLst/>
              <a:gdLst/>
              <a:ahLst/>
              <a:rect l="l" t="t" r="r" b="b"/>
              <a:pathLst>
                <a:path w="123" h="77">
                  <a:moveTo>
                    <a:pt x="0" y="76"/>
                  </a:moveTo>
                  <a:lnTo>
                    <a:pt x="15" y="38"/>
                  </a:lnTo>
                  <a:lnTo>
                    <a:pt x="0" y="0"/>
                  </a:lnTo>
                  <a:lnTo>
                    <a:pt x="122" y="38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780320" y="4019400"/>
              <a:ext cx="30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5648400" y="1585800"/>
            <a:ext cx="2436840" cy="2433240"/>
            <a:chOff x="5648400" y="1585800"/>
            <a:chExt cx="2436840" cy="2433240"/>
          </a:xfrm>
        </p:grpSpPr>
        <p:sp>
          <p:nvSpPr>
            <p:cNvPr id="488" name=""/>
            <p:cNvSpPr/>
            <p:nvPr/>
          </p:nvSpPr>
          <p:spPr>
            <a:xfrm flipV="1">
              <a:off x="5648400" y="1993320"/>
              <a:ext cx="2025360" cy="202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601040" y="1888920"/>
              <a:ext cx="180720" cy="181080"/>
            </a:xfrm>
            <a:custGeom>
              <a:avLst/>
              <a:gdLst/>
              <a:ahLst/>
              <a:rect l="l" t="t" r="r" b="b"/>
              <a:pathLst>
                <a:path w="114" h="114">
                  <a:moveTo>
                    <a:pt x="54" y="113"/>
                  </a:moveTo>
                  <a:lnTo>
                    <a:pt x="37" y="76"/>
                  </a:lnTo>
                  <a:lnTo>
                    <a:pt x="0" y="59"/>
                  </a:lnTo>
                  <a:lnTo>
                    <a:pt x="113" y="0"/>
                  </a:lnTo>
                  <a:lnTo>
                    <a:pt x="54" y="11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7780320" y="1585800"/>
              <a:ext cx="304920" cy="30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5648400" y="1585800"/>
            <a:ext cx="2436840" cy="2433600"/>
            <a:chOff x="5648400" y="1585800"/>
            <a:chExt cx="2436840" cy="2433600"/>
          </a:xfrm>
        </p:grpSpPr>
        <p:sp>
          <p:nvSpPr>
            <p:cNvPr id="492" name=""/>
            <p:cNvSpPr/>
            <p:nvPr/>
          </p:nvSpPr>
          <p:spPr>
            <a:xfrm>
              <a:off x="5952960" y="1888920"/>
              <a:ext cx="2132280" cy="213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48400" y="1585800"/>
              <a:ext cx="20160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773680" y="1711080"/>
              <a:ext cx="181080" cy="179640"/>
            </a:xfrm>
            <a:custGeom>
              <a:avLst/>
              <a:gdLst/>
              <a:ahLst/>
              <a:rect l="l" t="t" r="r" b="b"/>
              <a:pathLst>
                <a:path w="114" h="113">
                  <a:moveTo>
                    <a:pt x="0" y="53"/>
                  </a:moveTo>
                  <a:lnTo>
                    <a:pt x="37" y="36"/>
                  </a:lnTo>
                  <a:lnTo>
                    <a:pt x="54" y="0"/>
                  </a:lnTo>
                  <a:lnTo>
                    <a:pt x="113" y="112"/>
                  </a:lnTo>
                  <a:lnTo>
                    <a:pt x="0" y="5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5648400" y="2193480"/>
            <a:ext cx="2436840" cy="2433600"/>
            <a:chOff x="5648400" y="2193480"/>
            <a:chExt cx="2436840" cy="2433600"/>
          </a:xfrm>
        </p:grpSpPr>
        <p:sp>
          <p:nvSpPr>
            <p:cNvPr id="496" name=""/>
            <p:cNvSpPr/>
            <p:nvPr/>
          </p:nvSpPr>
          <p:spPr>
            <a:xfrm flipV="1">
              <a:off x="5648400" y="2601360"/>
              <a:ext cx="2025360" cy="202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01040" y="2498760"/>
              <a:ext cx="180720" cy="179280"/>
            </a:xfrm>
            <a:custGeom>
              <a:avLst/>
              <a:gdLst/>
              <a:ahLst/>
              <a:rect l="l" t="t" r="r" b="b"/>
              <a:pathLst>
                <a:path w="114" h="113">
                  <a:moveTo>
                    <a:pt x="54" y="112"/>
                  </a:moveTo>
                  <a:lnTo>
                    <a:pt x="37" y="75"/>
                  </a:lnTo>
                  <a:lnTo>
                    <a:pt x="0" y="58"/>
                  </a:lnTo>
                  <a:lnTo>
                    <a:pt x="113" y="0"/>
                  </a:lnTo>
                  <a:lnTo>
                    <a:pt x="54" y="11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7780320" y="2193480"/>
              <a:ext cx="30492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5648400" y="2801880"/>
            <a:ext cx="2436840" cy="2433600"/>
            <a:chOff x="5648400" y="2801880"/>
            <a:chExt cx="2436840" cy="2433600"/>
          </a:xfrm>
        </p:grpSpPr>
        <p:sp>
          <p:nvSpPr>
            <p:cNvPr id="500" name=""/>
            <p:cNvSpPr/>
            <p:nvPr/>
          </p:nvSpPr>
          <p:spPr>
            <a:xfrm flipV="1">
              <a:off x="5648400" y="3211560"/>
              <a:ext cx="2025360" cy="202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601040" y="3106440"/>
              <a:ext cx="180720" cy="181080"/>
            </a:xfrm>
            <a:custGeom>
              <a:avLst/>
              <a:gdLst/>
              <a:ahLst/>
              <a:rect l="l" t="t" r="r" b="b"/>
              <a:pathLst>
                <a:path w="114" h="114">
                  <a:moveTo>
                    <a:pt x="54" y="113"/>
                  </a:moveTo>
                  <a:lnTo>
                    <a:pt x="37" y="76"/>
                  </a:lnTo>
                  <a:lnTo>
                    <a:pt x="0" y="59"/>
                  </a:lnTo>
                  <a:lnTo>
                    <a:pt x="113" y="0"/>
                  </a:lnTo>
                  <a:lnTo>
                    <a:pt x="54" y="11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7780320" y="2801880"/>
              <a:ext cx="30492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5648400" y="3409920"/>
            <a:ext cx="2436840" cy="2434680"/>
            <a:chOff x="5648400" y="3409920"/>
            <a:chExt cx="2436840" cy="2434680"/>
          </a:xfrm>
        </p:grpSpPr>
        <p:sp>
          <p:nvSpPr>
            <p:cNvPr id="504" name=""/>
            <p:cNvSpPr/>
            <p:nvPr/>
          </p:nvSpPr>
          <p:spPr>
            <a:xfrm flipV="1">
              <a:off x="5648400" y="3818880"/>
              <a:ext cx="2025360" cy="202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601040" y="3714480"/>
              <a:ext cx="180720" cy="181080"/>
            </a:xfrm>
            <a:custGeom>
              <a:avLst/>
              <a:gdLst/>
              <a:ahLst/>
              <a:rect l="l" t="t" r="r" b="b"/>
              <a:pathLst>
                <a:path w="114" h="114">
                  <a:moveTo>
                    <a:pt x="54" y="113"/>
                  </a:moveTo>
                  <a:lnTo>
                    <a:pt x="37" y="76"/>
                  </a:lnTo>
                  <a:lnTo>
                    <a:pt x="0" y="59"/>
                  </a:lnTo>
                  <a:lnTo>
                    <a:pt x="113" y="0"/>
                  </a:lnTo>
                  <a:lnTo>
                    <a:pt x="54" y="11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7780320" y="3409920"/>
              <a:ext cx="30492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5648400" y="2193840"/>
            <a:ext cx="2436840" cy="2433600"/>
            <a:chOff x="5648400" y="2193840"/>
            <a:chExt cx="2436840" cy="2433600"/>
          </a:xfrm>
        </p:grpSpPr>
        <p:sp>
          <p:nvSpPr>
            <p:cNvPr id="508" name=""/>
            <p:cNvSpPr/>
            <p:nvPr/>
          </p:nvSpPr>
          <p:spPr>
            <a:xfrm>
              <a:off x="5952960" y="2498760"/>
              <a:ext cx="2132280" cy="21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648400" y="2193840"/>
              <a:ext cx="201600" cy="20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73680" y="2319120"/>
              <a:ext cx="181080" cy="181080"/>
            </a:xfrm>
            <a:custGeom>
              <a:avLst/>
              <a:gdLst/>
              <a:ahLst/>
              <a:rect l="l" t="t" r="r" b="b"/>
              <a:pathLst>
                <a:path w="114" h="114">
                  <a:moveTo>
                    <a:pt x="0" y="54"/>
                  </a:moveTo>
                  <a:lnTo>
                    <a:pt x="37" y="37"/>
                  </a:lnTo>
                  <a:lnTo>
                    <a:pt x="54" y="0"/>
                  </a:lnTo>
                  <a:lnTo>
                    <a:pt x="113" y="113"/>
                  </a:lnTo>
                  <a:lnTo>
                    <a:pt x="0" y="5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5648400" y="2801880"/>
            <a:ext cx="2436840" cy="2433600"/>
            <a:chOff x="5648400" y="2801880"/>
            <a:chExt cx="2436840" cy="2433600"/>
          </a:xfrm>
        </p:grpSpPr>
        <p:sp>
          <p:nvSpPr>
            <p:cNvPr id="512" name=""/>
            <p:cNvSpPr/>
            <p:nvPr/>
          </p:nvSpPr>
          <p:spPr>
            <a:xfrm>
              <a:off x="5952960" y="3106440"/>
              <a:ext cx="2132280" cy="212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648400" y="2801880"/>
              <a:ext cx="201600" cy="20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73680" y="2927160"/>
              <a:ext cx="181080" cy="181080"/>
            </a:xfrm>
            <a:custGeom>
              <a:avLst/>
              <a:gdLst/>
              <a:ahLst/>
              <a:rect l="l" t="t" r="r" b="b"/>
              <a:pathLst>
                <a:path w="114" h="114">
                  <a:moveTo>
                    <a:pt x="0" y="54"/>
                  </a:moveTo>
                  <a:lnTo>
                    <a:pt x="37" y="37"/>
                  </a:lnTo>
                  <a:lnTo>
                    <a:pt x="54" y="0"/>
                  </a:lnTo>
                  <a:lnTo>
                    <a:pt x="113" y="113"/>
                  </a:lnTo>
                  <a:lnTo>
                    <a:pt x="0" y="5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648400" y="3409920"/>
            <a:ext cx="2436840" cy="2435040"/>
            <a:chOff x="5648400" y="3409920"/>
            <a:chExt cx="2436840" cy="2435040"/>
          </a:xfrm>
        </p:grpSpPr>
        <p:sp>
          <p:nvSpPr>
            <p:cNvPr id="516" name=""/>
            <p:cNvSpPr/>
            <p:nvPr/>
          </p:nvSpPr>
          <p:spPr>
            <a:xfrm>
              <a:off x="5952960" y="3714480"/>
              <a:ext cx="2132280" cy="213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648400" y="3409920"/>
              <a:ext cx="201600" cy="20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773680" y="3535200"/>
              <a:ext cx="181080" cy="181080"/>
            </a:xfrm>
            <a:custGeom>
              <a:avLst/>
              <a:gdLst/>
              <a:ahLst/>
              <a:rect l="l" t="t" r="r" b="b"/>
              <a:pathLst>
                <a:path w="114" h="114">
                  <a:moveTo>
                    <a:pt x="0" y="54"/>
                  </a:moveTo>
                  <a:lnTo>
                    <a:pt x="37" y="37"/>
                  </a:lnTo>
                  <a:lnTo>
                    <a:pt x="54" y="0"/>
                  </a:lnTo>
                  <a:lnTo>
                    <a:pt x="113" y="113"/>
                  </a:lnTo>
                  <a:lnTo>
                    <a:pt x="0" y="5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5648400" y="4567320"/>
            <a:ext cx="2439720" cy="122040"/>
            <a:chOff x="5648400" y="4567320"/>
            <a:chExt cx="2439720" cy="122040"/>
          </a:xfrm>
        </p:grpSpPr>
        <p:sp>
          <p:nvSpPr>
            <p:cNvPr id="520" name=""/>
            <p:cNvSpPr/>
            <p:nvPr/>
          </p:nvSpPr>
          <p:spPr>
            <a:xfrm>
              <a:off x="5648400" y="4627440"/>
              <a:ext cx="1990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86640" y="4567320"/>
              <a:ext cx="195120" cy="122040"/>
            </a:xfrm>
            <a:custGeom>
              <a:avLst/>
              <a:gdLst/>
              <a:ahLst/>
              <a:rect l="l" t="t" r="r" b="b"/>
              <a:pathLst>
                <a:path w="123" h="77">
                  <a:moveTo>
                    <a:pt x="0" y="76"/>
                  </a:moveTo>
                  <a:lnTo>
                    <a:pt x="15" y="38"/>
                  </a:lnTo>
                  <a:lnTo>
                    <a:pt x="0" y="0"/>
                  </a:lnTo>
                  <a:lnTo>
                    <a:pt x="122" y="38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780320" y="4627440"/>
              <a:ext cx="30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5648400" y="5175360"/>
            <a:ext cx="2439720" cy="122040"/>
            <a:chOff x="5648400" y="5175360"/>
            <a:chExt cx="2439720" cy="122040"/>
          </a:xfrm>
        </p:grpSpPr>
        <p:sp>
          <p:nvSpPr>
            <p:cNvPr id="524" name=""/>
            <p:cNvSpPr/>
            <p:nvPr/>
          </p:nvSpPr>
          <p:spPr>
            <a:xfrm>
              <a:off x="5648400" y="5235480"/>
              <a:ext cx="1990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586640" y="5175360"/>
              <a:ext cx="195120" cy="122040"/>
            </a:xfrm>
            <a:custGeom>
              <a:avLst/>
              <a:gdLst/>
              <a:ahLst/>
              <a:rect l="l" t="t" r="r" b="b"/>
              <a:pathLst>
                <a:path w="123" h="77">
                  <a:moveTo>
                    <a:pt x="0" y="76"/>
                  </a:moveTo>
                  <a:lnTo>
                    <a:pt x="15" y="38"/>
                  </a:lnTo>
                  <a:lnTo>
                    <a:pt x="0" y="0"/>
                  </a:lnTo>
                  <a:lnTo>
                    <a:pt x="122" y="38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780320" y="5235480"/>
              <a:ext cx="30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5648400" y="5784840"/>
            <a:ext cx="2439720" cy="120600"/>
            <a:chOff x="5648400" y="5784840"/>
            <a:chExt cx="2439720" cy="120600"/>
          </a:xfrm>
        </p:grpSpPr>
        <p:sp>
          <p:nvSpPr>
            <p:cNvPr id="528" name=""/>
            <p:cNvSpPr/>
            <p:nvPr/>
          </p:nvSpPr>
          <p:spPr>
            <a:xfrm>
              <a:off x="5648400" y="5844960"/>
              <a:ext cx="1990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86640" y="5784840"/>
              <a:ext cx="195120" cy="120600"/>
            </a:xfrm>
            <a:custGeom>
              <a:avLst/>
              <a:gdLst/>
              <a:ahLst/>
              <a:rect l="l" t="t" r="r" b="b"/>
              <a:pathLst>
                <a:path w="123" h="76">
                  <a:moveTo>
                    <a:pt x="0" y="75"/>
                  </a:moveTo>
                  <a:lnTo>
                    <a:pt x="15" y="38"/>
                  </a:lnTo>
                  <a:lnTo>
                    <a:pt x="0" y="0"/>
                  </a:lnTo>
                  <a:lnTo>
                    <a:pt x="122" y="38"/>
                  </a:lnTo>
                  <a:lnTo>
                    <a:pt x="0" y="7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780320" y="5844960"/>
              <a:ext cx="30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5648400" y="2133720"/>
            <a:ext cx="2439720" cy="122040"/>
            <a:chOff x="5648400" y="2133720"/>
            <a:chExt cx="2439720" cy="122040"/>
          </a:xfrm>
        </p:grpSpPr>
        <p:sp>
          <p:nvSpPr>
            <p:cNvPr id="532" name=""/>
            <p:cNvSpPr/>
            <p:nvPr/>
          </p:nvSpPr>
          <p:spPr>
            <a:xfrm>
              <a:off x="6029280" y="2193840"/>
              <a:ext cx="2058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8400" y="2193840"/>
              <a:ext cx="237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835600" y="2133720"/>
              <a:ext cx="195120" cy="122040"/>
            </a:xfrm>
            <a:custGeom>
              <a:avLst/>
              <a:gdLst/>
              <a:ahLst/>
              <a:rect l="l" t="t" r="r" b="b"/>
              <a:pathLst>
                <a:path w="123" h="77">
                  <a:moveTo>
                    <a:pt x="0" y="76"/>
                  </a:moveTo>
                  <a:lnTo>
                    <a:pt x="15" y="38"/>
                  </a:lnTo>
                  <a:lnTo>
                    <a:pt x="0" y="0"/>
                  </a:lnTo>
                  <a:lnTo>
                    <a:pt x="122" y="38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5648400" y="2741760"/>
            <a:ext cx="2439720" cy="122040"/>
            <a:chOff x="5648400" y="2741760"/>
            <a:chExt cx="2439720" cy="122040"/>
          </a:xfrm>
        </p:grpSpPr>
        <p:sp>
          <p:nvSpPr>
            <p:cNvPr id="536" name=""/>
            <p:cNvSpPr/>
            <p:nvPr/>
          </p:nvSpPr>
          <p:spPr>
            <a:xfrm>
              <a:off x="6029280" y="2801880"/>
              <a:ext cx="2058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648400" y="2801880"/>
              <a:ext cx="237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835600" y="2741760"/>
              <a:ext cx="195120" cy="122040"/>
            </a:xfrm>
            <a:custGeom>
              <a:avLst/>
              <a:gdLst/>
              <a:ahLst/>
              <a:rect l="l" t="t" r="r" b="b"/>
              <a:pathLst>
                <a:path w="123" h="77">
                  <a:moveTo>
                    <a:pt x="0" y="76"/>
                  </a:moveTo>
                  <a:lnTo>
                    <a:pt x="15" y="38"/>
                  </a:lnTo>
                  <a:lnTo>
                    <a:pt x="0" y="0"/>
                  </a:lnTo>
                  <a:lnTo>
                    <a:pt x="122" y="38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648400" y="3351240"/>
            <a:ext cx="2439720" cy="120600"/>
            <a:chOff x="5648400" y="3351240"/>
            <a:chExt cx="2439720" cy="120600"/>
          </a:xfrm>
        </p:grpSpPr>
        <p:sp>
          <p:nvSpPr>
            <p:cNvPr id="540" name=""/>
            <p:cNvSpPr/>
            <p:nvPr/>
          </p:nvSpPr>
          <p:spPr>
            <a:xfrm>
              <a:off x="6029280" y="3409920"/>
              <a:ext cx="2058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48400" y="3409920"/>
              <a:ext cx="237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835600" y="3351240"/>
              <a:ext cx="195120" cy="120600"/>
            </a:xfrm>
            <a:custGeom>
              <a:avLst/>
              <a:gdLst/>
              <a:ahLst/>
              <a:rect l="l" t="t" r="r" b="b"/>
              <a:pathLst>
                <a:path w="123" h="76">
                  <a:moveTo>
                    <a:pt x="0" y="75"/>
                  </a:moveTo>
                  <a:lnTo>
                    <a:pt x="15" y="37"/>
                  </a:lnTo>
                  <a:lnTo>
                    <a:pt x="0" y="0"/>
                  </a:lnTo>
                  <a:lnTo>
                    <a:pt x="122" y="37"/>
                  </a:lnTo>
                  <a:lnTo>
                    <a:pt x="0" y="7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714240" y="152244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14240" y="213048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14240" y="273852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14240" y="3348000"/>
            <a:ext cx="12708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14240" y="395604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14240" y="456408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14240" y="517212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14240" y="5781600"/>
            <a:ext cx="12708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49640" y="152244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49640" y="213048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149640" y="273852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49640" y="334800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49640" y="395604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149640" y="456408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49640" y="517212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49640" y="578160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584680" y="1522440"/>
            <a:ext cx="1288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584680" y="2130480"/>
            <a:ext cx="1288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584680" y="2738520"/>
            <a:ext cx="1288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584680" y="3348000"/>
            <a:ext cx="12888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584680" y="3956040"/>
            <a:ext cx="1288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584680" y="4564080"/>
            <a:ext cx="1288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584680" y="5172120"/>
            <a:ext cx="1288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584680" y="5781600"/>
            <a:ext cx="12888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021520" y="1522440"/>
            <a:ext cx="1288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021520" y="2130480"/>
            <a:ext cx="1288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021520" y="2738520"/>
            <a:ext cx="1288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021520" y="3348000"/>
            <a:ext cx="12888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021520" y="3956040"/>
            <a:ext cx="1288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021520" y="4564080"/>
            <a:ext cx="1288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021520" y="5172120"/>
            <a:ext cx="1288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021520" y="5781600"/>
            <a:ext cx="12888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5648400" y="1525680"/>
            <a:ext cx="2439720" cy="122040"/>
            <a:chOff x="5648400" y="1525680"/>
            <a:chExt cx="2439720" cy="122040"/>
          </a:xfrm>
        </p:grpSpPr>
        <p:sp>
          <p:nvSpPr>
            <p:cNvPr id="576" name=""/>
            <p:cNvSpPr/>
            <p:nvPr/>
          </p:nvSpPr>
          <p:spPr>
            <a:xfrm>
              <a:off x="6029280" y="1585800"/>
              <a:ext cx="2058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648400" y="1585800"/>
              <a:ext cx="237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835600" y="1525680"/>
              <a:ext cx="195120" cy="122040"/>
            </a:xfrm>
            <a:custGeom>
              <a:avLst/>
              <a:gdLst/>
              <a:ahLst/>
              <a:rect l="l" t="t" r="r" b="b"/>
              <a:pathLst>
                <a:path w="123" h="77">
                  <a:moveTo>
                    <a:pt x="0" y="76"/>
                  </a:moveTo>
                  <a:lnTo>
                    <a:pt x="15" y="38"/>
                  </a:lnTo>
                  <a:lnTo>
                    <a:pt x="0" y="0"/>
                  </a:lnTo>
                  <a:lnTo>
                    <a:pt x="122" y="38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0" y="1295280"/>
            <a:ext cx="430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97200" y="129528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-360" y="19033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97200" y="190332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-360" y="251136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97200" y="251136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-360" y="311940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97200" y="311940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-360" y="372888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97200" y="372888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-360" y="43369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97200" y="433692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-360" y="494496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97200" y="494496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-360" y="555300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97200" y="555300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147160" y="137016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147160" y="197964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147160" y="258768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147160" y="319572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147160" y="380520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147160" y="441324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147160" y="502128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147160" y="562932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2494440" y="1611360"/>
            <a:ext cx="629640" cy="555480"/>
            <a:chOff x="2494440" y="1611360"/>
            <a:chExt cx="629640" cy="555480"/>
          </a:xfrm>
        </p:grpSpPr>
        <p:sp>
          <p:nvSpPr>
            <p:cNvPr id="604" name=""/>
            <p:cNvSpPr/>
            <p:nvPr/>
          </p:nvSpPr>
          <p:spPr>
            <a:xfrm>
              <a:off x="2494440" y="163512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801880" y="184608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839320" y="161136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1810080" y="2144880"/>
            <a:ext cx="629640" cy="554040"/>
            <a:chOff x="1810080" y="2144880"/>
            <a:chExt cx="629640" cy="554040"/>
          </a:xfrm>
        </p:grpSpPr>
        <p:sp>
          <p:nvSpPr>
            <p:cNvPr id="608" name=""/>
            <p:cNvSpPr/>
            <p:nvPr/>
          </p:nvSpPr>
          <p:spPr>
            <a:xfrm>
              <a:off x="1810080" y="216864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117520" y="237816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153520" y="214488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2494440" y="2828880"/>
            <a:ext cx="629640" cy="555480"/>
            <a:chOff x="2494440" y="2828880"/>
            <a:chExt cx="629640" cy="555480"/>
          </a:xfrm>
        </p:grpSpPr>
        <p:sp>
          <p:nvSpPr>
            <p:cNvPr id="612" name=""/>
            <p:cNvSpPr/>
            <p:nvPr/>
          </p:nvSpPr>
          <p:spPr>
            <a:xfrm>
              <a:off x="2494440" y="285264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801880" y="306360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839320" y="282888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1810080" y="3360600"/>
            <a:ext cx="629640" cy="555840"/>
            <a:chOff x="1810080" y="3360600"/>
            <a:chExt cx="629640" cy="555840"/>
          </a:xfrm>
        </p:grpSpPr>
        <p:sp>
          <p:nvSpPr>
            <p:cNvPr id="616" name=""/>
            <p:cNvSpPr/>
            <p:nvPr/>
          </p:nvSpPr>
          <p:spPr>
            <a:xfrm>
              <a:off x="1810080" y="338436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17520" y="359568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153520" y="336060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2494440" y="4044960"/>
            <a:ext cx="629640" cy="555480"/>
            <a:chOff x="2494440" y="4044960"/>
            <a:chExt cx="629640" cy="555480"/>
          </a:xfrm>
        </p:grpSpPr>
        <p:sp>
          <p:nvSpPr>
            <p:cNvPr id="620" name=""/>
            <p:cNvSpPr/>
            <p:nvPr/>
          </p:nvSpPr>
          <p:spPr>
            <a:xfrm>
              <a:off x="2494440" y="406872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801880" y="427968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839320" y="404496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1810080" y="4578480"/>
            <a:ext cx="629640" cy="555480"/>
            <a:chOff x="1810080" y="4578480"/>
            <a:chExt cx="629640" cy="555480"/>
          </a:xfrm>
        </p:grpSpPr>
        <p:sp>
          <p:nvSpPr>
            <p:cNvPr id="624" name=""/>
            <p:cNvSpPr/>
            <p:nvPr/>
          </p:nvSpPr>
          <p:spPr>
            <a:xfrm>
              <a:off x="1810080" y="460188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17520" y="481320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53520" y="457848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494440" y="5262480"/>
            <a:ext cx="629640" cy="555840"/>
            <a:chOff x="2494440" y="5262480"/>
            <a:chExt cx="629640" cy="555840"/>
          </a:xfrm>
        </p:grpSpPr>
        <p:sp>
          <p:nvSpPr>
            <p:cNvPr id="628" name=""/>
            <p:cNvSpPr/>
            <p:nvPr/>
          </p:nvSpPr>
          <p:spPr>
            <a:xfrm>
              <a:off x="2494440" y="528624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801880" y="549756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839320" y="526248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810080" y="5794200"/>
            <a:ext cx="629640" cy="555840"/>
            <a:chOff x="1810080" y="5794200"/>
            <a:chExt cx="629640" cy="555840"/>
          </a:xfrm>
        </p:grpSpPr>
        <p:sp>
          <p:nvSpPr>
            <p:cNvPr id="632" name=""/>
            <p:cNvSpPr/>
            <p:nvPr/>
          </p:nvSpPr>
          <p:spPr>
            <a:xfrm>
              <a:off x="1810080" y="581796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117520" y="602928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153520" y="579420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4245480" y="1535040"/>
            <a:ext cx="629640" cy="555480"/>
            <a:chOff x="4245480" y="1535040"/>
            <a:chExt cx="629640" cy="555480"/>
          </a:xfrm>
        </p:grpSpPr>
        <p:sp>
          <p:nvSpPr>
            <p:cNvPr id="636" name=""/>
            <p:cNvSpPr/>
            <p:nvPr/>
          </p:nvSpPr>
          <p:spPr>
            <a:xfrm>
              <a:off x="4245480" y="155880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52920" y="176976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590360" y="153504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4245480" y="2144880"/>
            <a:ext cx="629640" cy="554040"/>
            <a:chOff x="4245480" y="2144880"/>
            <a:chExt cx="629640" cy="554040"/>
          </a:xfrm>
        </p:grpSpPr>
        <p:sp>
          <p:nvSpPr>
            <p:cNvPr id="640" name=""/>
            <p:cNvSpPr/>
            <p:nvPr/>
          </p:nvSpPr>
          <p:spPr>
            <a:xfrm>
              <a:off x="4245480" y="216864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552920" y="237816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590360" y="214488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4245480" y="2752560"/>
            <a:ext cx="629640" cy="555840"/>
            <a:chOff x="4245480" y="2752560"/>
            <a:chExt cx="629640" cy="555840"/>
          </a:xfrm>
        </p:grpSpPr>
        <p:sp>
          <p:nvSpPr>
            <p:cNvPr id="644" name=""/>
            <p:cNvSpPr/>
            <p:nvPr/>
          </p:nvSpPr>
          <p:spPr>
            <a:xfrm>
              <a:off x="4245480" y="277632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552920" y="298764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90360" y="275256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4245480" y="3360600"/>
            <a:ext cx="629640" cy="555840"/>
            <a:chOff x="4245480" y="3360600"/>
            <a:chExt cx="629640" cy="555840"/>
          </a:xfrm>
        </p:grpSpPr>
        <p:sp>
          <p:nvSpPr>
            <p:cNvPr id="648" name=""/>
            <p:cNvSpPr/>
            <p:nvPr/>
          </p:nvSpPr>
          <p:spPr>
            <a:xfrm>
              <a:off x="4245480" y="338436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552920" y="359568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590360" y="336060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4245480" y="3970440"/>
            <a:ext cx="629640" cy="554400"/>
            <a:chOff x="4245480" y="3970440"/>
            <a:chExt cx="629640" cy="554400"/>
          </a:xfrm>
        </p:grpSpPr>
        <p:sp>
          <p:nvSpPr>
            <p:cNvPr id="652" name=""/>
            <p:cNvSpPr/>
            <p:nvPr/>
          </p:nvSpPr>
          <p:spPr>
            <a:xfrm>
              <a:off x="4245480" y="399276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552920" y="420408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590360" y="397044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4245480" y="4578480"/>
            <a:ext cx="629640" cy="555480"/>
            <a:chOff x="4245480" y="4578480"/>
            <a:chExt cx="629640" cy="555480"/>
          </a:xfrm>
        </p:grpSpPr>
        <p:sp>
          <p:nvSpPr>
            <p:cNvPr id="656" name=""/>
            <p:cNvSpPr/>
            <p:nvPr/>
          </p:nvSpPr>
          <p:spPr>
            <a:xfrm>
              <a:off x="4245480" y="460188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552920" y="481320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590360" y="457848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245480" y="5186520"/>
            <a:ext cx="629640" cy="555480"/>
            <a:chOff x="4245480" y="5186520"/>
            <a:chExt cx="629640" cy="555480"/>
          </a:xfrm>
        </p:grpSpPr>
        <p:sp>
          <p:nvSpPr>
            <p:cNvPr id="660" name=""/>
            <p:cNvSpPr/>
            <p:nvPr/>
          </p:nvSpPr>
          <p:spPr>
            <a:xfrm>
              <a:off x="4245480" y="520992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52920" y="542124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90360" y="518652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4245480" y="5794200"/>
            <a:ext cx="629640" cy="555840"/>
            <a:chOff x="4245480" y="5794200"/>
            <a:chExt cx="629640" cy="555840"/>
          </a:xfrm>
        </p:grpSpPr>
        <p:sp>
          <p:nvSpPr>
            <p:cNvPr id="664" name=""/>
            <p:cNvSpPr/>
            <p:nvPr/>
          </p:nvSpPr>
          <p:spPr>
            <a:xfrm>
              <a:off x="4245480" y="581796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52920" y="602928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590360" y="579420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7442640" y="1535040"/>
            <a:ext cx="629640" cy="555480"/>
            <a:chOff x="7442640" y="1535040"/>
            <a:chExt cx="629640" cy="555480"/>
          </a:xfrm>
        </p:grpSpPr>
        <p:sp>
          <p:nvSpPr>
            <p:cNvPr id="668" name=""/>
            <p:cNvSpPr/>
            <p:nvPr/>
          </p:nvSpPr>
          <p:spPr>
            <a:xfrm>
              <a:off x="7442640" y="155880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750080" y="176976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787520" y="153504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7442640" y="2144880"/>
            <a:ext cx="629640" cy="554040"/>
            <a:chOff x="7442640" y="2144880"/>
            <a:chExt cx="629640" cy="554040"/>
          </a:xfrm>
        </p:grpSpPr>
        <p:sp>
          <p:nvSpPr>
            <p:cNvPr id="672" name=""/>
            <p:cNvSpPr/>
            <p:nvPr/>
          </p:nvSpPr>
          <p:spPr>
            <a:xfrm>
              <a:off x="7442640" y="216864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750080" y="237816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774920" y="214488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7442640" y="2752560"/>
            <a:ext cx="629640" cy="555840"/>
            <a:chOff x="7442640" y="2752560"/>
            <a:chExt cx="629640" cy="555840"/>
          </a:xfrm>
        </p:grpSpPr>
        <p:sp>
          <p:nvSpPr>
            <p:cNvPr id="676" name=""/>
            <p:cNvSpPr/>
            <p:nvPr/>
          </p:nvSpPr>
          <p:spPr>
            <a:xfrm>
              <a:off x="7442640" y="277632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750080" y="298764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787520" y="275256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7442640" y="3360600"/>
            <a:ext cx="629640" cy="555840"/>
            <a:chOff x="7442640" y="3360600"/>
            <a:chExt cx="629640" cy="555840"/>
          </a:xfrm>
        </p:grpSpPr>
        <p:sp>
          <p:nvSpPr>
            <p:cNvPr id="680" name=""/>
            <p:cNvSpPr/>
            <p:nvPr/>
          </p:nvSpPr>
          <p:spPr>
            <a:xfrm>
              <a:off x="7442640" y="338436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750080" y="359568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787520" y="336060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3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7442640" y="3970440"/>
            <a:ext cx="629640" cy="554400"/>
            <a:chOff x="7442640" y="3970440"/>
            <a:chExt cx="629640" cy="554400"/>
          </a:xfrm>
        </p:grpSpPr>
        <p:sp>
          <p:nvSpPr>
            <p:cNvPr id="684" name=""/>
            <p:cNvSpPr/>
            <p:nvPr/>
          </p:nvSpPr>
          <p:spPr>
            <a:xfrm>
              <a:off x="7442640" y="399276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750080" y="420408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787520" y="397044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7442640" y="4578480"/>
            <a:ext cx="629640" cy="555480"/>
            <a:chOff x="7442640" y="4578480"/>
            <a:chExt cx="629640" cy="555480"/>
          </a:xfrm>
        </p:grpSpPr>
        <p:sp>
          <p:nvSpPr>
            <p:cNvPr id="688" name=""/>
            <p:cNvSpPr/>
            <p:nvPr/>
          </p:nvSpPr>
          <p:spPr>
            <a:xfrm>
              <a:off x="7442640" y="460188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750080" y="481320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781040" y="457848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7442640" y="5186520"/>
            <a:ext cx="629640" cy="555480"/>
            <a:chOff x="7442640" y="5186520"/>
            <a:chExt cx="629640" cy="555480"/>
          </a:xfrm>
        </p:grpSpPr>
        <p:sp>
          <p:nvSpPr>
            <p:cNvPr id="692" name=""/>
            <p:cNvSpPr/>
            <p:nvPr/>
          </p:nvSpPr>
          <p:spPr>
            <a:xfrm>
              <a:off x="7442640" y="520992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750080" y="542124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787520" y="518652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7442640" y="5794200"/>
            <a:ext cx="629640" cy="555840"/>
            <a:chOff x="7442640" y="5794200"/>
            <a:chExt cx="629640" cy="555840"/>
          </a:xfrm>
        </p:grpSpPr>
        <p:sp>
          <p:nvSpPr>
            <p:cNvPr id="696" name=""/>
            <p:cNvSpPr/>
            <p:nvPr/>
          </p:nvSpPr>
          <p:spPr>
            <a:xfrm>
              <a:off x="7442640" y="581796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750080" y="602928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787520" y="579420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1657800" y="274680"/>
            <a:ext cx="1445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Za N=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7063-7571-4CB2-A0E8-D860C3072A4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"/>
          <p:cNvGrpSpPr/>
          <p:nvPr/>
        </p:nvGrpSpPr>
        <p:grpSpPr>
          <a:xfrm>
            <a:off x="1972080" y="6300720"/>
            <a:ext cx="629640" cy="555840"/>
            <a:chOff x="1972080" y="6300720"/>
            <a:chExt cx="629640" cy="555840"/>
          </a:xfrm>
        </p:grpSpPr>
        <p:sp>
          <p:nvSpPr>
            <p:cNvPr id="701" name=""/>
            <p:cNvSpPr/>
            <p:nvPr/>
          </p:nvSpPr>
          <p:spPr>
            <a:xfrm>
              <a:off x="1972080" y="632448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79520" y="653580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315520" y="630072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4407480" y="6300720"/>
            <a:ext cx="629640" cy="555840"/>
            <a:chOff x="4407480" y="6300720"/>
            <a:chExt cx="629640" cy="555840"/>
          </a:xfrm>
        </p:grpSpPr>
        <p:sp>
          <p:nvSpPr>
            <p:cNvPr id="705" name=""/>
            <p:cNvSpPr/>
            <p:nvPr/>
          </p:nvSpPr>
          <p:spPr>
            <a:xfrm>
              <a:off x="4407480" y="632448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714920" y="653580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752360" y="630072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937800" y="2092320"/>
            <a:ext cx="7309440" cy="3041640"/>
            <a:chOff x="937800" y="2092320"/>
            <a:chExt cx="7309440" cy="3041640"/>
          </a:xfrm>
        </p:grpSpPr>
        <p:sp>
          <p:nvSpPr>
            <p:cNvPr id="709" name=""/>
            <p:cNvSpPr/>
            <p:nvPr/>
          </p:nvSpPr>
          <p:spPr>
            <a:xfrm flipH="1" flipV="1">
              <a:off x="1547640" y="2243160"/>
              <a:ext cx="1827360" cy="45720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flipV="1">
              <a:off x="937800" y="2092320"/>
              <a:ext cx="469800" cy="1173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983040" y="2700360"/>
              <a:ext cx="183024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375000" y="2700360"/>
              <a:ext cx="4669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114960" y="3005280"/>
              <a:ext cx="2132280" cy="212868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10400" y="2700360"/>
              <a:ext cx="201600" cy="20160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1547640" y="2092320"/>
            <a:ext cx="183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938160" y="2700360"/>
            <a:ext cx="1079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963800" y="263988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938160" y="2091960"/>
            <a:ext cx="2436840" cy="608040"/>
            <a:chOff x="938160" y="2091960"/>
            <a:chExt cx="2436840" cy="608040"/>
          </a:xfrm>
        </p:grpSpPr>
        <p:sp>
          <p:nvSpPr>
            <p:cNvPr id="719" name=""/>
            <p:cNvSpPr/>
            <p:nvPr/>
          </p:nvSpPr>
          <p:spPr>
            <a:xfrm flipV="1">
              <a:off x="938160" y="2276280"/>
              <a:ext cx="1687680" cy="42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562120" y="2232000"/>
              <a:ext cx="204840" cy="117360"/>
            </a:xfrm>
            <a:custGeom>
              <a:avLst/>
              <a:gdLst/>
              <a:ahLst/>
              <a:rect l="l" t="t" r="r" b="b"/>
              <a:pathLst>
                <a:path w="129" h="74">
                  <a:moveTo>
                    <a:pt x="19" y="73"/>
                  </a:moveTo>
                  <a:lnTo>
                    <a:pt x="24" y="33"/>
                  </a:lnTo>
                  <a:lnTo>
                    <a:pt x="0" y="0"/>
                  </a:lnTo>
                  <a:lnTo>
                    <a:pt x="128" y="7"/>
                  </a:lnTo>
                  <a:lnTo>
                    <a:pt x="19" y="7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2765520" y="2091960"/>
              <a:ext cx="60948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2" name=""/>
          <p:cNvSpPr/>
          <p:nvPr/>
        </p:nvSpPr>
        <p:spPr>
          <a:xfrm>
            <a:off x="1344600" y="2139840"/>
            <a:ext cx="204840" cy="115920"/>
          </a:xfrm>
          <a:custGeom>
            <a:avLst/>
            <a:gdLst/>
            <a:ahLst/>
            <a:rect l="l" t="t" r="r" b="b"/>
            <a:pathLst>
              <a:path w="129" h="73">
                <a:moveTo>
                  <a:pt x="0" y="72"/>
                </a:moveTo>
                <a:lnTo>
                  <a:pt x="24" y="40"/>
                </a:lnTo>
                <a:lnTo>
                  <a:pt x="19" y="0"/>
                </a:lnTo>
                <a:lnTo>
                  <a:pt x="128" y="65"/>
                </a:lnTo>
                <a:lnTo>
                  <a:pt x="0" y="7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938160" y="2092320"/>
            <a:ext cx="4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353960" y="2031840"/>
            <a:ext cx="19548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157480" y="2700360"/>
            <a:ext cx="122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937800" y="3247920"/>
            <a:ext cx="2440440" cy="730440"/>
            <a:chOff x="937800" y="3247920"/>
            <a:chExt cx="2440440" cy="730440"/>
          </a:xfrm>
        </p:grpSpPr>
        <p:sp>
          <p:nvSpPr>
            <p:cNvPr id="727" name=""/>
            <p:cNvSpPr/>
            <p:nvPr/>
          </p:nvSpPr>
          <p:spPr>
            <a:xfrm>
              <a:off x="1547640" y="3308400"/>
              <a:ext cx="183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38160" y="391644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963800" y="3857760"/>
              <a:ext cx="195120" cy="120600"/>
            </a:xfrm>
            <a:custGeom>
              <a:avLst/>
              <a:gdLst/>
              <a:ahLst/>
              <a:rect l="l" t="t" r="r" b="b"/>
              <a:pathLst>
                <a:path w="123" h="76">
                  <a:moveTo>
                    <a:pt x="0" y="75"/>
                  </a:moveTo>
                  <a:lnTo>
                    <a:pt x="15" y="37"/>
                  </a:lnTo>
                  <a:lnTo>
                    <a:pt x="0" y="0"/>
                  </a:lnTo>
                  <a:lnTo>
                    <a:pt x="122" y="37"/>
                  </a:lnTo>
                  <a:lnTo>
                    <a:pt x="0" y="7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30" name=""/>
            <p:cNvGrpSpPr/>
            <p:nvPr/>
          </p:nvGrpSpPr>
          <p:grpSpPr>
            <a:xfrm>
              <a:off x="938160" y="3308040"/>
              <a:ext cx="2436840" cy="608040"/>
              <a:chOff x="938160" y="3308040"/>
              <a:chExt cx="2436840" cy="608040"/>
            </a:xfrm>
          </p:grpSpPr>
          <p:sp>
            <p:nvSpPr>
              <p:cNvPr id="731" name=""/>
              <p:cNvSpPr/>
              <p:nvPr/>
            </p:nvSpPr>
            <p:spPr>
              <a:xfrm flipV="1">
                <a:off x="938160" y="3493800"/>
                <a:ext cx="1687680" cy="42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562120" y="3449520"/>
                <a:ext cx="204840" cy="117720"/>
              </a:xfrm>
              <a:custGeom>
                <a:avLst/>
                <a:gdLst/>
                <a:ahLst/>
                <a:rect l="l" t="t" r="r" b="b"/>
                <a:pathLst>
                  <a:path w="129" h="74">
                    <a:moveTo>
                      <a:pt x="19" y="73"/>
                    </a:moveTo>
                    <a:lnTo>
                      <a:pt x="24" y="33"/>
                    </a:lnTo>
                    <a:lnTo>
                      <a:pt x="0" y="0"/>
                    </a:lnTo>
                    <a:lnTo>
                      <a:pt x="128" y="7"/>
                    </a:lnTo>
                    <a:lnTo>
                      <a:pt x="19" y="7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2765520" y="3308040"/>
                <a:ext cx="60948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 flipH="1" flipV="1">
              <a:off x="1547640" y="3460680"/>
              <a:ext cx="1827360" cy="45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flipV="1">
              <a:off x="937800" y="3308400"/>
              <a:ext cx="46980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344600" y="3355920"/>
              <a:ext cx="204840" cy="117360"/>
            </a:xfrm>
            <a:custGeom>
              <a:avLst/>
              <a:gdLst/>
              <a:ahLst/>
              <a:rect l="l" t="t" r="r" b="b"/>
              <a:pathLst>
                <a:path w="129" h="74">
                  <a:moveTo>
                    <a:pt x="0" y="73"/>
                  </a:moveTo>
                  <a:lnTo>
                    <a:pt x="24" y="40"/>
                  </a:lnTo>
                  <a:lnTo>
                    <a:pt x="19" y="0"/>
                  </a:lnTo>
                  <a:lnTo>
                    <a:pt x="128" y="66"/>
                  </a:lnTo>
                  <a:lnTo>
                    <a:pt x="0" y="7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938160" y="3308400"/>
              <a:ext cx="466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353960" y="3247920"/>
              <a:ext cx="195480" cy="122400"/>
            </a:xfrm>
            <a:custGeom>
              <a:avLst/>
              <a:gdLst/>
              <a:ahLst/>
              <a:rect l="l" t="t" r="r" b="b"/>
              <a:pathLst>
                <a:path w="123" h="77">
                  <a:moveTo>
                    <a:pt x="0" y="76"/>
                  </a:moveTo>
                  <a:lnTo>
                    <a:pt x="15" y="38"/>
                  </a:lnTo>
                  <a:lnTo>
                    <a:pt x="0" y="0"/>
                  </a:lnTo>
                  <a:lnTo>
                    <a:pt x="122" y="38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157480" y="3916440"/>
              <a:ext cx="1220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937800" y="4465800"/>
            <a:ext cx="2440440" cy="730080"/>
            <a:chOff x="937800" y="4465800"/>
            <a:chExt cx="2440440" cy="730080"/>
          </a:xfrm>
        </p:grpSpPr>
        <p:sp>
          <p:nvSpPr>
            <p:cNvPr id="741" name=""/>
            <p:cNvSpPr/>
            <p:nvPr/>
          </p:nvSpPr>
          <p:spPr>
            <a:xfrm>
              <a:off x="1547640" y="4525920"/>
              <a:ext cx="183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938160" y="51339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963800" y="5073480"/>
              <a:ext cx="195120" cy="122400"/>
            </a:xfrm>
            <a:custGeom>
              <a:avLst/>
              <a:gdLst/>
              <a:ahLst/>
              <a:rect l="l" t="t" r="r" b="b"/>
              <a:pathLst>
                <a:path w="123" h="77">
                  <a:moveTo>
                    <a:pt x="0" y="76"/>
                  </a:moveTo>
                  <a:lnTo>
                    <a:pt x="15" y="38"/>
                  </a:lnTo>
                  <a:lnTo>
                    <a:pt x="0" y="0"/>
                  </a:lnTo>
                  <a:lnTo>
                    <a:pt x="122" y="38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4" name=""/>
            <p:cNvGrpSpPr/>
            <p:nvPr/>
          </p:nvGrpSpPr>
          <p:grpSpPr>
            <a:xfrm>
              <a:off x="938160" y="4525560"/>
              <a:ext cx="2436840" cy="608040"/>
              <a:chOff x="938160" y="4525560"/>
              <a:chExt cx="2436840" cy="608040"/>
            </a:xfrm>
          </p:grpSpPr>
          <p:sp>
            <p:nvSpPr>
              <p:cNvPr id="745" name=""/>
              <p:cNvSpPr/>
              <p:nvPr/>
            </p:nvSpPr>
            <p:spPr>
              <a:xfrm flipV="1">
                <a:off x="938160" y="4711320"/>
                <a:ext cx="1687680" cy="42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562120" y="4667400"/>
                <a:ext cx="204840" cy="115560"/>
              </a:xfrm>
              <a:custGeom>
                <a:avLst/>
                <a:gdLst/>
                <a:ahLst/>
                <a:rect l="l" t="t" r="r" b="b"/>
                <a:pathLst>
                  <a:path w="129" h="73">
                    <a:moveTo>
                      <a:pt x="19" y="72"/>
                    </a:moveTo>
                    <a:lnTo>
                      <a:pt x="24" y="33"/>
                    </a:lnTo>
                    <a:lnTo>
                      <a:pt x="0" y="0"/>
                    </a:lnTo>
                    <a:lnTo>
                      <a:pt x="128" y="7"/>
                    </a:lnTo>
                    <a:lnTo>
                      <a:pt x="19" y="7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V="1">
                <a:off x="2765520" y="4525560"/>
                <a:ext cx="60948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48" name=""/>
            <p:cNvSpPr/>
            <p:nvPr/>
          </p:nvSpPr>
          <p:spPr>
            <a:xfrm flipH="1" flipV="1">
              <a:off x="1547640" y="4678200"/>
              <a:ext cx="1827360" cy="45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 flipV="1">
              <a:off x="937800" y="4525920"/>
              <a:ext cx="46980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344600" y="4573440"/>
              <a:ext cx="204840" cy="117720"/>
            </a:xfrm>
            <a:custGeom>
              <a:avLst/>
              <a:gdLst/>
              <a:ahLst/>
              <a:rect l="l" t="t" r="r" b="b"/>
              <a:pathLst>
                <a:path w="129" h="74">
                  <a:moveTo>
                    <a:pt x="0" y="73"/>
                  </a:moveTo>
                  <a:lnTo>
                    <a:pt x="24" y="40"/>
                  </a:lnTo>
                  <a:lnTo>
                    <a:pt x="19" y="0"/>
                  </a:lnTo>
                  <a:lnTo>
                    <a:pt x="128" y="66"/>
                  </a:lnTo>
                  <a:lnTo>
                    <a:pt x="0" y="7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938160" y="4525920"/>
              <a:ext cx="466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353960" y="4465800"/>
              <a:ext cx="195480" cy="122040"/>
            </a:xfrm>
            <a:custGeom>
              <a:avLst/>
              <a:gdLst/>
              <a:ahLst/>
              <a:rect l="l" t="t" r="r" b="b"/>
              <a:pathLst>
                <a:path w="123" h="77">
                  <a:moveTo>
                    <a:pt x="0" y="76"/>
                  </a:moveTo>
                  <a:lnTo>
                    <a:pt x="15" y="38"/>
                  </a:lnTo>
                  <a:lnTo>
                    <a:pt x="0" y="0"/>
                  </a:lnTo>
                  <a:lnTo>
                    <a:pt x="122" y="38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157480" y="5133960"/>
              <a:ext cx="1220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937800" y="5681520"/>
            <a:ext cx="2440440" cy="730440"/>
            <a:chOff x="937800" y="5681520"/>
            <a:chExt cx="2440440" cy="730440"/>
          </a:xfrm>
        </p:grpSpPr>
        <p:sp>
          <p:nvSpPr>
            <p:cNvPr id="755" name=""/>
            <p:cNvSpPr/>
            <p:nvPr/>
          </p:nvSpPr>
          <p:spPr>
            <a:xfrm>
              <a:off x="1547640" y="5742000"/>
              <a:ext cx="183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938160" y="63514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963800" y="6291360"/>
              <a:ext cx="195120" cy="120600"/>
            </a:xfrm>
            <a:custGeom>
              <a:avLst/>
              <a:gdLst/>
              <a:ahLst/>
              <a:rect l="l" t="t" r="r" b="b"/>
              <a:pathLst>
                <a:path w="123" h="76">
                  <a:moveTo>
                    <a:pt x="0" y="75"/>
                  </a:moveTo>
                  <a:lnTo>
                    <a:pt x="15" y="38"/>
                  </a:lnTo>
                  <a:lnTo>
                    <a:pt x="0" y="0"/>
                  </a:lnTo>
                  <a:lnTo>
                    <a:pt x="122" y="38"/>
                  </a:lnTo>
                  <a:lnTo>
                    <a:pt x="0" y="7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938160" y="5741640"/>
              <a:ext cx="2436840" cy="609480"/>
              <a:chOff x="938160" y="5741640"/>
              <a:chExt cx="2436840" cy="609480"/>
            </a:xfrm>
          </p:grpSpPr>
          <p:sp>
            <p:nvSpPr>
              <p:cNvPr id="759" name=""/>
              <p:cNvSpPr/>
              <p:nvPr/>
            </p:nvSpPr>
            <p:spPr>
              <a:xfrm flipV="1">
                <a:off x="938160" y="5927400"/>
                <a:ext cx="1687680" cy="42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562120" y="5883120"/>
                <a:ext cx="204840" cy="117720"/>
              </a:xfrm>
              <a:custGeom>
                <a:avLst/>
                <a:gdLst/>
                <a:ahLst/>
                <a:rect l="l" t="t" r="r" b="b"/>
                <a:pathLst>
                  <a:path w="129" h="74">
                    <a:moveTo>
                      <a:pt x="19" y="73"/>
                    </a:moveTo>
                    <a:lnTo>
                      <a:pt x="24" y="33"/>
                    </a:lnTo>
                    <a:lnTo>
                      <a:pt x="0" y="0"/>
                    </a:lnTo>
                    <a:lnTo>
                      <a:pt x="128" y="7"/>
                    </a:lnTo>
                    <a:lnTo>
                      <a:pt x="19" y="7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V="1">
                <a:off x="2765520" y="5741640"/>
                <a:ext cx="60948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 flipH="1" flipV="1">
              <a:off x="1547640" y="5894280"/>
              <a:ext cx="182736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 flipV="1">
              <a:off x="937800" y="5742000"/>
              <a:ext cx="46980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344600" y="5789520"/>
              <a:ext cx="204840" cy="117720"/>
            </a:xfrm>
            <a:custGeom>
              <a:avLst/>
              <a:gdLst/>
              <a:ahLst/>
              <a:rect l="l" t="t" r="r" b="b"/>
              <a:pathLst>
                <a:path w="129" h="74">
                  <a:moveTo>
                    <a:pt x="0" y="73"/>
                  </a:moveTo>
                  <a:lnTo>
                    <a:pt x="24" y="40"/>
                  </a:lnTo>
                  <a:lnTo>
                    <a:pt x="19" y="0"/>
                  </a:lnTo>
                  <a:lnTo>
                    <a:pt x="128" y="66"/>
                  </a:lnTo>
                  <a:lnTo>
                    <a:pt x="0" y="7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938160" y="5742000"/>
              <a:ext cx="466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53960" y="5681520"/>
              <a:ext cx="195480" cy="122400"/>
            </a:xfrm>
            <a:custGeom>
              <a:avLst/>
              <a:gdLst/>
              <a:ahLst/>
              <a:rect l="l" t="t" r="r" b="b"/>
              <a:pathLst>
                <a:path w="123" h="77">
                  <a:moveTo>
                    <a:pt x="0" y="76"/>
                  </a:moveTo>
                  <a:lnTo>
                    <a:pt x="15" y="38"/>
                  </a:lnTo>
                  <a:lnTo>
                    <a:pt x="0" y="0"/>
                  </a:lnTo>
                  <a:lnTo>
                    <a:pt x="122" y="38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157480" y="6351480"/>
              <a:ext cx="1220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3983040" y="2092320"/>
            <a:ext cx="1830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375000" y="2092320"/>
            <a:ext cx="4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790800" y="2031840"/>
            <a:ext cx="193680" cy="122400"/>
          </a:xfrm>
          <a:custGeom>
            <a:avLst/>
            <a:gdLst/>
            <a:ahLst/>
            <a:rect l="l" t="t" r="r" b="b"/>
            <a:pathLst>
              <a:path w="122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1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375000" y="3308400"/>
            <a:ext cx="1684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008680" y="324792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202360" y="3308400"/>
            <a:ext cx="610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375000" y="3916440"/>
            <a:ext cx="1684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008680" y="3857760"/>
            <a:ext cx="19512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0" y="75"/>
                </a:moveTo>
                <a:lnTo>
                  <a:pt x="15" y="37"/>
                </a:lnTo>
                <a:lnTo>
                  <a:pt x="0" y="0"/>
                </a:lnTo>
                <a:lnTo>
                  <a:pt x="122" y="37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202360" y="3916440"/>
            <a:ext cx="610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3375000" y="2458800"/>
            <a:ext cx="1698480" cy="849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002200" y="2395440"/>
            <a:ext cx="201600" cy="142920"/>
          </a:xfrm>
          <a:custGeom>
            <a:avLst/>
            <a:gdLst/>
            <a:ahLst/>
            <a:rect l="l" t="t" r="r" b="b"/>
            <a:pathLst>
              <a:path w="127" h="90">
                <a:moveTo>
                  <a:pt x="34" y="89"/>
                </a:moveTo>
                <a:lnTo>
                  <a:pt x="30" y="48"/>
                </a:lnTo>
                <a:lnTo>
                  <a:pt x="0" y="21"/>
                </a:lnTo>
                <a:lnTo>
                  <a:pt x="126" y="0"/>
                </a:lnTo>
                <a:lnTo>
                  <a:pt x="34" y="8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5202360" y="2092320"/>
            <a:ext cx="608040" cy="303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3375000" y="3066840"/>
            <a:ext cx="1698480" cy="849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02200" y="3005280"/>
            <a:ext cx="201600" cy="141120"/>
          </a:xfrm>
          <a:custGeom>
            <a:avLst/>
            <a:gdLst/>
            <a:ahLst/>
            <a:rect l="l" t="t" r="r" b="b"/>
            <a:pathLst>
              <a:path w="127" h="89">
                <a:moveTo>
                  <a:pt x="34" y="88"/>
                </a:moveTo>
                <a:lnTo>
                  <a:pt x="30" y="47"/>
                </a:lnTo>
                <a:lnTo>
                  <a:pt x="0" y="21"/>
                </a:lnTo>
                <a:lnTo>
                  <a:pt x="126" y="0"/>
                </a:lnTo>
                <a:lnTo>
                  <a:pt x="34" y="8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5202360" y="2700000"/>
            <a:ext cx="60804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983040" y="2395440"/>
            <a:ext cx="1827360" cy="912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375000" y="2092320"/>
            <a:ext cx="480960" cy="237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784680" y="2254320"/>
            <a:ext cx="199800" cy="142920"/>
          </a:xfrm>
          <a:custGeom>
            <a:avLst/>
            <a:gdLst/>
            <a:ahLst/>
            <a:rect l="l" t="t" r="r" b="b"/>
            <a:pathLst>
              <a:path w="126" h="90">
                <a:moveTo>
                  <a:pt x="0" y="68"/>
                </a:moveTo>
                <a:lnTo>
                  <a:pt x="30" y="41"/>
                </a:lnTo>
                <a:lnTo>
                  <a:pt x="34" y="0"/>
                </a:lnTo>
                <a:lnTo>
                  <a:pt x="125" y="89"/>
                </a:lnTo>
                <a:lnTo>
                  <a:pt x="0" y="6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790800" y="2639880"/>
            <a:ext cx="193680" cy="122400"/>
          </a:xfrm>
          <a:custGeom>
            <a:avLst/>
            <a:gdLst/>
            <a:ahLst/>
            <a:rect l="l" t="t" r="r" b="b"/>
            <a:pathLst>
              <a:path w="122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1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3375000" y="2700360"/>
            <a:ext cx="2435400" cy="1216080"/>
            <a:chOff x="3375000" y="2700360"/>
            <a:chExt cx="2435400" cy="1216080"/>
          </a:xfrm>
        </p:grpSpPr>
        <p:sp>
          <p:nvSpPr>
            <p:cNvPr id="788" name=""/>
            <p:cNvSpPr/>
            <p:nvPr/>
          </p:nvSpPr>
          <p:spPr>
            <a:xfrm>
              <a:off x="3983040" y="3005280"/>
              <a:ext cx="1827360" cy="9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375000" y="2700360"/>
              <a:ext cx="4809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784680" y="2863800"/>
              <a:ext cx="199800" cy="142920"/>
            </a:xfrm>
            <a:custGeom>
              <a:avLst/>
              <a:gdLst/>
              <a:ahLst/>
              <a:rect l="l" t="t" r="r" b="b"/>
              <a:pathLst>
                <a:path w="126" h="90">
                  <a:moveTo>
                    <a:pt x="0" y="68"/>
                  </a:moveTo>
                  <a:lnTo>
                    <a:pt x="30" y="41"/>
                  </a:lnTo>
                  <a:lnTo>
                    <a:pt x="34" y="0"/>
                  </a:lnTo>
                  <a:lnTo>
                    <a:pt x="125" y="89"/>
                  </a:lnTo>
                  <a:lnTo>
                    <a:pt x="0" y="6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3375000" y="4465800"/>
            <a:ext cx="2438280" cy="1946160"/>
            <a:chOff x="3375000" y="4465800"/>
            <a:chExt cx="2438280" cy="1946160"/>
          </a:xfrm>
        </p:grpSpPr>
        <p:sp>
          <p:nvSpPr>
            <p:cNvPr id="792" name=""/>
            <p:cNvSpPr/>
            <p:nvPr/>
          </p:nvSpPr>
          <p:spPr>
            <a:xfrm>
              <a:off x="3983040" y="4525920"/>
              <a:ext cx="18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375000" y="4525920"/>
              <a:ext cx="466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790800" y="4465800"/>
              <a:ext cx="193680" cy="122040"/>
            </a:xfrm>
            <a:custGeom>
              <a:avLst/>
              <a:gdLst/>
              <a:ahLst/>
              <a:rect l="l" t="t" r="r" b="b"/>
              <a:pathLst>
                <a:path w="122" h="77">
                  <a:moveTo>
                    <a:pt x="0" y="76"/>
                  </a:moveTo>
                  <a:lnTo>
                    <a:pt x="15" y="38"/>
                  </a:lnTo>
                  <a:lnTo>
                    <a:pt x="0" y="0"/>
                  </a:lnTo>
                  <a:lnTo>
                    <a:pt x="121" y="38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375000" y="5742000"/>
              <a:ext cx="1684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008680" y="5681520"/>
              <a:ext cx="195120" cy="122400"/>
            </a:xfrm>
            <a:custGeom>
              <a:avLst/>
              <a:gdLst/>
              <a:ahLst/>
              <a:rect l="l" t="t" r="r" b="b"/>
              <a:pathLst>
                <a:path w="123" h="77">
                  <a:moveTo>
                    <a:pt x="0" y="76"/>
                  </a:moveTo>
                  <a:lnTo>
                    <a:pt x="15" y="38"/>
                  </a:lnTo>
                  <a:lnTo>
                    <a:pt x="0" y="0"/>
                  </a:lnTo>
                  <a:lnTo>
                    <a:pt x="122" y="38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02360" y="5742000"/>
              <a:ext cx="610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375000" y="6351480"/>
              <a:ext cx="1684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008680" y="6291360"/>
              <a:ext cx="195120" cy="120600"/>
            </a:xfrm>
            <a:custGeom>
              <a:avLst/>
              <a:gdLst/>
              <a:ahLst/>
              <a:rect l="l" t="t" r="r" b="b"/>
              <a:pathLst>
                <a:path w="123" h="76">
                  <a:moveTo>
                    <a:pt x="0" y="75"/>
                  </a:moveTo>
                  <a:lnTo>
                    <a:pt x="15" y="38"/>
                  </a:lnTo>
                  <a:lnTo>
                    <a:pt x="0" y="0"/>
                  </a:lnTo>
                  <a:lnTo>
                    <a:pt x="122" y="38"/>
                  </a:lnTo>
                  <a:lnTo>
                    <a:pt x="0" y="7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202360" y="6351480"/>
              <a:ext cx="610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3375000" y="4892400"/>
              <a:ext cx="1698480" cy="84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002200" y="4829040"/>
              <a:ext cx="201600" cy="142920"/>
            </a:xfrm>
            <a:custGeom>
              <a:avLst/>
              <a:gdLst/>
              <a:ahLst/>
              <a:rect l="l" t="t" r="r" b="b"/>
              <a:pathLst>
                <a:path w="127" h="90">
                  <a:moveTo>
                    <a:pt x="34" y="89"/>
                  </a:moveTo>
                  <a:lnTo>
                    <a:pt x="30" y="48"/>
                  </a:lnTo>
                  <a:lnTo>
                    <a:pt x="0" y="21"/>
                  </a:lnTo>
                  <a:lnTo>
                    <a:pt x="126" y="0"/>
                  </a:lnTo>
                  <a:lnTo>
                    <a:pt x="34" y="8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5202360" y="4525920"/>
              <a:ext cx="608040" cy="30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3375000" y="5501880"/>
              <a:ext cx="1698480" cy="84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002200" y="5438880"/>
              <a:ext cx="201600" cy="141120"/>
            </a:xfrm>
            <a:custGeom>
              <a:avLst/>
              <a:gdLst/>
              <a:ahLst/>
              <a:rect l="l" t="t" r="r" b="b"/>
              <a:pathLst>
                <a:path w="127" h="89">
                  <a:moveTo>
                    <a:pt x="34" y="88"/>
                  </a:moveTo>
                  <a:lnTo>
                    <a:pt x="30" y="48"/>
                  </a:lnTo>
                  <a:lnTo>
                    <a:pt x="0" y="21"/>
                  </a:lnTo>
                  <a:lnTo>
                    <a:pt x="126" y="0"/>
                  </a:lnTo>
                  <a:lnTo>
                    <a:pt x="34" y="8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5202360" y="5133600"/>
              <a:ext cx="60804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07" name=""/>
            <p:cNvGrpSpPr/>
            <p:nvPr/>
          </p:nvGrpSpPr>
          <p:grpSpPr>
            <a:xfrm>
              <a:off x="3375000" y="4525920"/>
              <a:ext cx="2435400" cy="1216080"/>
              <a:chOff x="3375000" y="4525920"/>
              <a:chExt cx="2435400" cy="1216080"/>
            </a:xfrm>
          </p:grpSpPr>
          <p:sp>
            <p:nvSpPr>
              <p:cNvPr id="808" name=""/>
              <p:cNvSpPr/>
              <p:nvPr/>
            </p:nvSpPr>
            <p:spPr>
              <a:xfrm>
                <a:off x="3983040" y="4829040"/>
                <a:ext cx="1827360" cy="912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375000" y="4525920"/>
                <a:ext cx="480960" cy="238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784680" y="4689360"/>
                <a:ext cx="199800" cy="141480"/>
              </a:xfrm>
              <a:custGeom>
                <a:avLst/>
                <a:gdLst/>
                <a:ahLst/>
                <a:rect l="l" t="t" r="r" b="b"/>
                <a:pathLst>
                  <a:path w="126" h="89">
                    <a:moveTo>
                      <a:pt x="0" y="67"/>
                    </a:moveTo>
                    <a:lnTo>
                      <a:pt x="30" y="40"/>
                    </a:lnTo>
                    <a:lnTo>
                      <a:pt x="34" y="0"/>
                    </a:lnTo>
                    <a:lnTo>
                      <a:pt x="125" y="88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3983040" y="5133960"/>
              <a:ext cx="18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375000" y="5133960"/>
              <a:ext cx="466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790800" y="5073480"/>
              <a:ext cx="193680" cy="122400"/>
            </a:xfrm>
            <a:custGeom>
              <a:avLst/>
              <a:gdLst/>
              <a:ahLst/>
              <a:rect l="l" t="t" r="r" b="b"/>
              <a:pathLst>
                <a:path w="122" h="77">
                  <a:moveTo>
                    <a:pt x="0" y="76"/>
                  </a:moveTo>
                  <a:lnTo>
                    <a:pt x="15" y="38"/>
                  </a:lnTo>
                  <a:lnTo>
                    <a:pt x="0" y="0"/>
                  </a:lnTo>
                  <a:lnTo>
                    <a:pt x="121" y="38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14" name=""/>
            <p:cNvGrpSpPr/>
            <p:nvPr/>
          </p:nvGrpSpPr>
          <p:grpSpPr>
            <a:xfrm>
              <a:off x="3375000" y="5133960"/>
              <a:ext cx="2435400" cy="1217520"/>
              <a:chOff x="3375000" y="5133960"/>
              <a:chExt cx="2435400" cy="1217520"/>
            </a:xfrm>
          </p:grpSpPr>
          <p:sp>
            <p:nvSpPr>
              <p:cNvPr id="815" name=""/>
              <p:cNvSpPr/>
              <p:nvPr/>
            </p:nvSpPr>
            <p:spPr>
              <a:xfrm>
                <a:off x="3983040" y="5438880"/>
                <a:ext cx="1827360" cy="9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375000" y="5133960"/>
                <a:ext cx="480960" cy="239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784680" y="5297400"/>
                <a:ext cx="199800" cy="142920"/>
              </a:xfrm>
              <a:custGeom>
                <a:avLst/>
                <a:gdLst/>
                <a:ahLst/>
                <a:rect l="l" t="t" r="r" b="b"/>
                <a:pathLst>
                  <a:path w="126" h="90">
                    <a:moveTo>
                      <a:pt x="0" y="68"/>
                    </a:moveTo>
                    <a:lnTo>
                      <a:pt x="30" y="41"/>
                    </a:lnTo>
                    <a:lnTo>
                      <a:pt x="34" y="0"/>
                    </a:lnTo>
                    <a:lnTo>
                      <a:pt x="125" y="89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8" name=""/>
          <p:cNvGrpSpPr/>
          <p:nvPr/>
        </p:nvGrpSpPr>
        <p:grpSpPr>
          <a:xfrm>
            <a:off x="5810400" y="4465800"/>
            <a:ext cx="2439720" cy="122040"/>
            <a:chOff x="5810400" y="4465800"/>
            <a:chExt cx="2439720" cy="122040"/>
          </a:xfrm>
        </p:grpSpPr>
        <p:sp>
          <p:nvSpPr>
            <p:cNvPr id="819" name=""/>
            <p:cNvSpPr/>
            <p:nvPr/>
          </p:nvSpPr>
          <p:spPr>
            <a:xfrm>
              <a:off x="5810400" y="4525920"/>
              <a:ext cx="1990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748640" y="4465800"/>
              <a:ext cx="195120" cy="122040"/>
            </a:xfrm>
            <a:custGeom>
              <a:avLst/>
              <a:gdLst/>
              <a:ahLst/>
              <a:rect l="l" t="t" r="r" b="b"/>
              <a:pathLst>
                <a:path w="123" h="77">
                  <a:moveTo>
                    <a:pt x="0" y="76"/>
                  </a:moveTo>
                  <a:lnTo>
                    <a:pt x="15" y="38"/>
                  </a:lnTo>
                  <a:lnTo>
                    <a:pt x="0" y="0"/>
                  </a:lnTo>
                  <a:lnTo>
                    <a:pt x="122" y="38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942320" y="4525920"/>
              <a:ext cx="30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5810400" y="2092320"/>
            <a:ext cx="2436840" cy="2433240"/>
            <a:chOff x="5810400" y="2092320"/>
            <a:chExt cx="2436840" cy="2433240"/>
          </a:xfrm>
        </p:grpSpPr>
        <p:sp>
          <p:nvSpPr>
            <p:cNvPr id="823" name=""/>
            <p:cNvSpPr/>
            <p:nvPr/>
          </p:nvSpPr>
          <p:spPr>
            <a:xfrm flipV="1">
              <a:off x="5810400" y="2499840"/>
              <a:ext cx="2025360" cy="202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763040" y="2395440"/>
              <a:ext cx="180720" cy="181080"/>
            </a:xfrm>
            <a:custGeom>
              <a:avLst/>
              <a:gdLst/>
              <a:ahLst/>
              <a:rect l="l" t="t" r="r" b="b"/>
              <a:pathLst>
                <a:path w="114" h="114">
                  <a:moveTo>
                    <a:pt x="54" y="113"/>
                  </a:moveTo>
                  <a:lnTo>
                    <a:pt x="37" y="76"/>
                  </a:lnTo>
                  <a:lnTo>
                    <a:pt x="0" y="59"/>
                  </a:lnTo>
                  <a:lnTo>
                    <a:pt x="113" y="0"/>
                  </a:lnTo>
                  <a:lnTo>
                    <a:pt x="54" y="11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7942320" y="2092320"/>
              <a:ext cx="304920" cy="30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5810400" y="2092320"/>
            <a:ext cx="2436840" cy="2433600"/>
            <a:chOff x="5810400" y="2092320"/>
            <a:chExt cx="2436840" cy="2433600"/>
          </a:xfrm>
        </p:grpSpPr>
        <p:sp>
          <p:nvSpPr>
            <p:cNvPr id="827" name=""/>
            <p:cNvSpPr/>
            <p:nvPr/>
          </p:nvSpPr>
          <p:spPr>
            <a:xfrm>
              <a:off x="6114960" y="2395440"/>
              <a:ext cx="2132280" cy="213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810400" y="2092320"/>
              <a:ext cx="20160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935680" y="2217600"/>
              <a:ext cx="181080" cy="179640"/>
            </a:xfrm>
            <a:custGeom>
              <a:avLst/>
              <a:gdLst/>
              <a:ahLst/>
              <a:rect l="l" t="t" r="r" b="b"/>
              <a:pathLst>
                <a:path w="114" h="113">
                  <a:moveTo>
                    <a:pt x="0" y="53"/>
                  </a:moveTo>
                  <a:lnTo>
                    <a:pt x="37" y="36"/>
                  </a:lnTo>
                  <a:lnTo>
                    <a:pt x="54" y="0"/>
                  </a:lnTo>
                  <a:lnTo>
                    <a:pt x="113" y="112"/>
                  </a:lnTo>
                  <a:lnTo>
                    <a:pt x="0" y="5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5810400" y="2700000"/>
            <a:ext cx="2436840" cy="2433600"/>
            <a:chOff x="5810400" y="2700000"/>
            <a:chExt cx="2436840" cy="2433600"/>
          </a:xfrm>
        </p:grpSpPr>
        <p:sp>
          <p:nvSpPr>
            <p:cNvPr id="831" name=""/>
            <p:cNvSpPr/>
            <p:nvPr/>
          </p:nvSpPr>
          <p:spPr>
            <a:xfrm flipV="1">
              <a:off x="5810400" y="3107880"/>
              <a:ext cx="2025360" cy="202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763040" y="3005280"/>
              <a:ext cx="180720" cy="179280"/>
            </a:xfrm>
            <a:custGeom>
              <a:avLst/>
              <a:gdLst/>
              <a:ahLst/>
              <a:rect l="l" t="t" r="r" b="b"/>
              <a:pathLst>
                <a:path w="114" h="113">
                  <a:moveTo>
                    <a:pt x="54" y="112"/>
                  </a:moveTo>
                  <a:lnTo>
                    <a:pt x="37" y="75"/>
                  </a:lnTo>
                  <a:lnTo>
                    <a:pt x="0" y="58"/>
                  </a:lnTo>
                  <a:lnTo>
                    <a:pt x="113" y="0"/>
                  </a:lnTo>
                  <a:lnTo>
                    <a:pt x="54" y="11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7942320" y="2700000"/>
              <a:ext cx="30492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5810400" y="3308040"/>
            <a:ext cx="2436840" cy="2433960"/>
            <a:chOff x="5810400" y="3308040"/>
            <a:chExt cx="2436840" cy="2433960"/>
          </a:xfrm>
        </p:grpSpPr>
        <p:sp>
          <p:nvSpPr>
            <p:cNvPr id="835" name=""/>
            <p:cNvSpPr/>
            <p:nvPr/>
          </p:nvSpPr>
          <p:spPr>
            <a:xfrm flipV="1">
              <a:off x="5810400" y="3718080"/>
              <a:ext cx="2025360" cy="202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763040" y="3613320"/>
              <a:ext cx="180720" cy="180720"/>
            </a:xfrm>
            <a:custGeom>
              <a:avLst/>
              <a:gdLst/>
              <a:ahLst/>
              <a:rect l="l" t="t" r="r" b="b"/>
              <a:pathLst>
                <a:path w="114" h="114">
                  <a:moveTo>
                    <a:pt x="54" y="113"/>
                  </a:moveTo>
                  <a:lnTo>
                    <a:pt x="37" y="76"/>
                  </a:lnTo>
                  <a:lnTo>
                    <a:pt x="0" y="59"/>
                  </a:lnTo>
                  <a:lnTo>
                    <a:pt x="113" y="0"/>
                  </a:lnTo>
                  <a:lnTo>
                    <a:pt x="54" y="11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7942320" y="3308040"/>
              <a:ext cx="30492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5810400" y="3916440"/>
            <a:ext cx="2436840" cy="2434680"/>
            <a:chOff x="5810400" y="3916440"/>
            <a:chExt cx="2436840" cy="2434680"/>
          </a:xfrm>
        </p:grpSpPr>
        <p:sp>
          <p:nvSpPr>
            <p:cNvPr id="839" name=""/>
            <p:cNvSpPr/>
            <p:nvPr/>
          </p:nvSpPr>
          <p:spPr>
            <a:xfrm flipV="1">
              <a:off x="5810400" y="4325400"/>
              <a:ext cx="2025360" cy="202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763040" y="4221000"/>
              <a:ext cx="180720" cy="181080"/>
            </a:xfrm>
            <a:custGeom>
              <a:avLst/>
              <a:gdLst/>
              <a:ahLst/>
              <a:rect l="l" t="t" r="r" b="b"/>
              <a:pathLst>
                <a:path w="114" h="114">
                  <a:moveTo>
                    <a:pt x="54" y="113"/>
                  </a:moveTo>
                  <a:lnTo>
                    <a:pt x="37" y="76"/>
                  </a:lnTo>
                  <a:lnTo>
                    <a:pt x="0" y="59"/>
                  </a:lnTo>
                  <a:lnTo>
                    <a:pt x="113" y="0"/>
                  </a:lnTo>
                  <a:lnTo>
                    <a:pt x="54" y="11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V="1">
              <a:off x="7942320" y="3916440"/>
              <a:ext cx="30492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2" name=""/>
          <p:cNvSpPr/>
          <p:nvPr/>
        </p:nvSpPr>
        <p:spPr>
          <a:xfrm>
            <a:off x="5935680" y="2825640"/>
            <a:ext cx="181080" cy="18108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0" y="54"/>
                </a:moveTo>
                <a:lnTo>
                  <a:pt x="37" y="37"/>
                </a:lnTo>
                <a:lnTo>
                  <a:pt x="54" y="0"/>
                </a:lnTo>
                <a:lnTo>
                  <a:pt x="113" y="113"/>
                </a:lnTo>
                <a:lnTo>
                  <a:pt x="0" y="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5810400" y="3308400"/>
            <a:ext cx="2436840" cy="2433600"/>
            <a:chOff x="5810400" y="3308400"/>
            <a:chExt cx="2436840" cy="2433600"/>
          </a:xfrm>
        </p:grpSpPr>
        <p:sp>
          <p:nvSpPr>
            <p:cNvPr id="844" name=""/>
            <p:cNvSpPr/>
            <p:nvPr/>
          </p:nvSpPr>
          <p:spPr>
            <a:xfrm>
              <a:off x="6114960" y="3613320"/>
              <a:ext cx="2132280" cy="21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810400" y="3308400"/>
              <a:ext cx="201600" cy="20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35680" y="3433680"/>
              <a:ext cx="181080" cy="181080"/>
            </a:xfrm>
            <a:custGeom>
              <a:avLst/>
              <a:gdLst/>
              <a:ahLst/>
              <a:rect l="l" t="t" r="r" b="b"/>
              <a:pathLst>
                <a:path w="114" h="114">
                  <a:moveTo>
                    <a:pt x="0" y="54"/>
                  </a:moveTo>
                  <a:lnTo>
                    <a:pt x="37" y="37"/>
                  </a:lnTo>
                  <a:lnTo>
                    <a:pt x="54" y="0"/>
                  </a:lnTo>
                  <a:lnTo>
                    <a:pt x="113" y="113"/>
                  </a:lnTo>
                  <a:lnTo>
                    <a:pt x="0" y="5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5810400" y="3916440"/>
            <a:ext cx="2436840" cy="2435040"/>
            <a:chOff x="5810400" y="3916440"/>
            <a:chExt cx="2436840" cy="2435040"/>
          </a:xfrm>
        </p:grpSpPr>
        <p:sp>
          <p:nvSpPr>
            <p:cNvPr id="848" name=""/>
            <p:cNvSpPr/>
            <p:nvPr/>
          </p:nvSpPr>
          <p:spPr>
            <a:xfrm>
              <a:off x="6114960" y="4221000"/>
              <a:ext cx="2132280" cy="213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810400" y="3916440"/>
              <a:ext cx="201600" cy="20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935680" y="4041720"/>
              <a:ext cx="181080" cy="181080"/>
            </a:xfrm>
            <a:custGeom>
              <a:avLst/>
              <a:gdLst/>
              <a:ahLst/>
              <a:rect l="l" t="t" r="r" b="b"/>
              <a:pathLst>
                <a:path w="114" h="114">
                  <a:moveTo>
                    <a:pt x="0" y="54"/>
                  </a:moveTo>
                  <a:lnTo>
                    <a:pt x="37" y="37"/>
                  </a:lnTo>
                  <a:lnTo>
                    <a:pt x="54" y="0"/>
                  </a:lnTo>
                  <a:lnTo>
                    <a:pt x="113" y="113"/>
                  </a:lnTo>
                  <a:lnTo>
                    <a:pt x="0" y="5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810400" y="5073480"/>
            <a:ext cx="2439720" cy="122400"/>
            <a:chOff x="5810400" y="5073480"/>
            <a:chExt cx="2439720" cy="122400"/>
          </a:xfrm>
        </p:grpSpPr>
        <p:sp>
          <p:nvSpPr>
            <p:cNvPr id="852" name=""/>
            <p:cNvSpPr/>
            <p:nvPr/>
          </p:nvSpPr>
          <p:spPr>
            <a:xfrm>
              <a:off x="5810400" y="5133960"/>
              <a:ext cx="1990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748640" y="5073480"/>
              <a:ext cx="195120" cy="122400"/>
            </a:xfrm>
            <a:custGeom>
              <a:avLst/>
              <a:gdLst/>
              <a:ahLst/>
              <a:rect l="l" t="t" r="r" b="b"/>
              <a:pathLst>
                <a:path w="123" h="77">
                  <a:moveTo>
                    <a:pt x="0" y="76"/>
                  </a:moveTo>
                  <a:lnTo>
                    <a:pt x="15" y="38"/>
                  </a:lnTo>
                  <a:lnTo>
                    <a:pt x="0" y="0"/>
                  </a:lnTo>
                  <a:lnTo>
                    <a:pt x="122" y="38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942320" y="5133960"/>
              <a:ext cx="30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5810400" y="5681520"/>
            <a:ext cx="2439720" cy="122400"/>
            <a:chOff x="5810400" y="5681520"/>
            <a:chExt cx="2439720" cy="122400"/>
          </a:xfrm>
        </p:grpSpPr>
        <p:sp>
          <p:nvSpPr>
            <p:cNvPr id="856" name=""/>
            <p:cNvSpPr/>
            <p:nvPr/>
          </p:nvSpPr>
          <p:spPr>
            <a:xfrm>
              <a:off x="5810400" y="5742000"/>
              <a:ext cx="1990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748640" y="5681520"/>
              <a:ext cx="195120" cy="122400"/>
            </a:xfrm>
            <a:custGeom>
              <a:avLst/>
              <a:gdLst/>
              <a:ahLst/>
              <a:rect l="l" t="t" r="r" b="b"/>
              <a:pathLst>
                <a:path w="123" h="77">
                  <a:moveTo>
                    <a:pt x="0" y="76"/>
                  </a:moveTo>
                  <a:lnTo>
                    <a:pt x="15" y="38"/>
                  </a:lnTo>
                  <a:lnTo>
                    <a:pt x="0" y="0"/>
                  </a:lnTo>
                  <a:lnTo>
                    <a:pt x="122" y="38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942320" y="5742000"/>
              <a:ext cx="30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5810400" y="6291360"/>
            <a:ext cx="2439720" cy="120600"/>
            <a:chOff x="5810400" y="6291360"/>
            <a:chExt cx="2439720" cy="120600"/>
          </a:xfrm>
        </p:grpSpPr>
        <p:sp>
          <p:nvSpPr>
            <p:cNvPr id="860" name=""/>
            <p:cNvSpPr/>
            <p:nvPr/>
          </p:nvSpPr>
          <p:spPr>
            <a:xfrm>
              <a:off x="5810400" y="6351480"/>
              <a:ext cx="1990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748640" y="6291360"/>
              <a:ext cx="195120" cy="120600"/>
            </a:xfrm>
            <a:custGeom>
              <a:avLst/>
              <a:gdLst/>
              <a:ahLst/>
              <a:rect l="l" t="t" r="r" b="b"/>
              <a:pathLst>
                <a:path w="123" h="76">
                  <a:moveTo>
                    <a:pt x="0" y="75"/>
                  </a:moveTo>
                  <a:lnTo>
                    <a:pt x="15" y="38"/>
                  </a:lnTo>
                  <a:lnTo>
                    <a:pt x="0" y="0"/>
                  </a:lnTo>
                  <a:lnTo>
                    <a:pt x="122" y="38"/>
                  </a:lnTo>
                  <a:lnTo>
                    <a:pt x="0" y="7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42320" y="6351480"/>
              <a:ext cx="30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5810400" y="2639880"/>
            <a:ext cx="2439720" cy="122400"/>
            <a:chOff x="5810400" y="2639880"/>
            <a:chExt cx="2439720" cy="122400"/>
          </a:xfrm>
        </p:grpSpPr>
        <p:sp>
          <p:nvSpPr>
            <p:cNvPr id="864" name=""/>
            <p:cNvSpPr/>
            <p:nvPr/>
          </p:nvSpPr>
          <p:spPr>
            <a:xfrm>
              <a:off x="6191280" y="2700360"/>
              <a:ext cx="2058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10400" y="2700360"/>
              <a:ext cx="237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997600" y="2639880"/>
              <a:ext cx="195120" cy="122400"/>
            </a:xfrm>
            <a:custGeom>
              <a:avLst/>
              <a:gdLst/>
              <a:ahLst/>
              <a:rect l="l" t="t" r="r" b="b"/>
              <a:pathLst>
                <a:path w="123" h="77">
                  <a:moveTo>
                    <a:pt x="0" y="76"/>
                  </a:moveTo>
                  <a:lnTo>
                    <a:pt x="15" y="38"/>
                  </a:lnTo>
                  <a:lnTo>
                    <a:pt x="0" y="0"/>
                  </a:lnTo>
                  <a:lnTo>
                    <a:pt x="122" y="38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5810400" y="3247920"/>
            <a:ext cx="2439720" cy="122400"/>
            <a:chOff x="5810400" y="3247920"/>
            <a:chExt cx="2439720" cy="122400"/>
          </a:xfrm>
        </p:grpSpPr>
        <p:sp>
          <p:nvSpPr>
            <p:cNvPr id="868" name=""/>
            <p:cNvSpPr/>
            <p:nvPr/>
          </p:nvSpPr>
          <p:spPr>
            <a:xfrm>
              <a:off x="6191280" y="3308400"/>
              <a:ext cx="2058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810400" y="3308400"/>
              <a:ext cx="237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997600" y="3247920"/>
              <a:ext cx="195120" cy="122400"/>
            </a:xfrm>
            <a:custGeom>
              <a:avLst/>
              <a:gdLst/>
              <a:ahLst/>
              <a:rect l="l" t="t" r="r" b="b"/>
              <a:pathLst>
                <a:path w="123" h="77">
                  <a:moveTo>
                    <a:pt x="0" y="76"/>
                  </a:moveTo>
                  <a:lnTo>
                    <a:pt x="15" y="38"/>
                  </a:lnTo>
                  <a:lnTo>
                    <a:pt x="0" y="0"/>
                  </a:lnTo>
                  <a:lnTo>
                    <a:pt x="122" y="38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5810400" y="3857760"/>
            <a:ext cx="2439720" cy="120600"/>
            <a:chOff x="5810400" y="3857760"/>
            <a:chExt cx="2439720" cy="120600"/>
          </a:xfrm>
        </p:grpSpPr>
        <p:sp>
          <p:nvSpPr>
            <p:cNvPr id="872" name=""/>
            <p:cNvSpPr/>
            <p:nvPr/>
          </p:nvSpPr>
          <p:spPr>
            <a:xfrm>
              <a:off x="6191280" y="3916440"/>
              <a:ext cx="2058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810400" y="3916440"/>
              <a:ext cx="237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997600" y="3857760"/>
              <a:ext cx="195120" cy="120600"/>
            </a:xfrm>
            <a:custGeom>
              <a:avLst/>
              <a:gdLst/>
              <a:ahLst/>
              <a:rect l="l" t="t" r="r" b="b"/>
              <a:pathLst>
                <a:path w="123" h="76">
                  <a:moveTo>
                    <a:pt x="0" y="75"/>
                  </a:moveTo>
                  <a:lnTo>
                    <a:pt x="15" y="37"/>
                  </a:lnTo>
                  <a:lnTo>
                    <a:pt x="0" y="0"/>
                  </a:lnTo>
                  <a:lnTo>
                    <a:pt x="122" y="37"/>
                  </a:lnTo>
                  <a:lnTo>
                    <a:pt x="0" y="7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5" name=""/>
          <p:cNvSpPr/>
          <p:nvPr/>
        </p:nvSpPr>
        <p:spPr>
          <a:xfrm>
            <a:off x="876240" y="202896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876240" y="263700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876240" y="3244680"/>
            <a:ext cx="127080" cy="128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76240" y="3854520"/>
            <a:ext cx="12708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76240" y="446256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876240" y="507060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76240" y="567864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76240" y="6288120"/>
            <a:ext cx="12708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311640" y="20289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311640" y="26370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311640" y="3244680"/>
            <a:ext cx="128520" cy="128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11640" y="38545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311640" y="44625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311640" y="50706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311640" y="567864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311640" y="62881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746680" y="20289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746680" y="26370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746680" y="3244680"/>
            <a:ext cx="128520" cy="128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746680" y="38545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746680" y="44625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746680" y="50706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746680" y="567864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746680" y="62881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8183520" y="20289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8183520" y="26370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183520" y="3244680"/>
            <a:ext cx="128520" cy="128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8183520" y="38545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8183520" y="44625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8183520" y="50706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183520" y="567864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8183520" y="62881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5810400" y="2031840"/>
            <a:ext cx="2439720" cy="122400"/>
            <a:chOff x="5810400" y="2031840"/>
            <a:chExt cx="2439720" cy="122400"/>
          </a:xfrm>
        </p:grpSpPr>
        <p:sp>
          <p:nvSpPr>
            <p:cNvPr id="908" name=""/>
            <p:cNvSpPr/>
            <p:nvPr/>
          </p:nvSpPr>
          <p:spPr>
            <a:xfrm>
              <a:off x="6191280" y="2092320"/>
              <a:ext cx="2058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810400" y="2092320"/>
              <a:ext cx="237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997600" y="2031840"/>
              <a:ext cx="195120" cy="122400"/>
            </a:xfrm>
            <a:custGeom>
              <a:avLst/>
              <a:gdLst/>
              <a:ahLst/>
              <a:rect l="l" t="t" r="r" b="b"/>
              <a:pathLst>
                <a:path w="123" h="77">
                  <a:moveTo>
                    <a:pt x="0" y="76"/>
                  </a:moveTo>
                  <a:lnTo>
                    <a:pt x="15" y="38"/>
                  </a:lnTo>
                  <a:lnTo>
                    <a:pt x="0" y="0"/>
                  </a:lnTo>
                  <a:lnTo>
                    <a:pt x="122" y="38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161640" y="180180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59200" y="180180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61640" y="240984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59200" y="240984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61640" y="301788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59200" y="301788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61640" y="36259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59200" y="362592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61640" y="423540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9200" y="423540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61640" y="484344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59200" y="484344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61640" y="545148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59200" y="545148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61640" y="60595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59200" y="605952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8308080" y="187632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8308080" y="248616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8308080" y="309420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8308080" y="370188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8308080" y="431172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8308080" y="491976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8308080" y="552780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8308080" y="613584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2656440" y="2117880"/>
            <a:ext cx="629640" cy="555480"/>
            <a:chOff x="2656440" y="2117880"/>
            <a:chExt cx="629640" cy="555480"/>
          </a:xfrm>
        </p:grpSpPr>
        <p:sp>
          <p:nvSpPr>
            <p:cNvPr id="936" name=""/>
            <p:cNvSpPr/>
            <p:nvPr/>
          </p:nvSpPr>
          <p:spPr>
            <a:xfrm>
              <a:off x="2656440" y="214164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963880" y="235260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001320" y="211788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1972080" y="2651040"/>
            <a:ext cx="629640" cy="554040"/>
            <a:chOff x="1972080" y="2651040"/>
            <a:chExt cx="629640" cy="554040"/>
          </a:xfrm>
        </p:grpSpPr>
        <p:sp>
          <p:nvSpPr>
            <p:cNvPr id="940" name=""/>
            <p:cNvSpPr/>
            <p:nvPr/>
          </p:nvSpPr>
          <p:spPr>
            <a:xfrm>
              <a:off x="1972080" y="267480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279520" y="288432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315520" y="265104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2656440" y="3335400"/>
            <a:ext cx="629640" cy="555480"/>
            <a:chOff x="2656440" y="3335400"/>
            <a:chExt cx="629640" cy="555480"/>
          </a:xfrm>
        </p:grpSpPr>
        <p:sp>
          <p:nvSpPr>
            <p:cNvPr id="944" name=""/>
            <p:cNvSpPr/>
            <p:nvPr/>
          </p:nvSpPr>
          <p:spPr>
            <a:xfrm>
              <a:off x="2656440" y="335916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963880" y="357012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001320" y="333540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1972080" y="3867120"/>
            <a:ext cx="629640" cy="555840"/>
            <a:chOff x="1972080" y="3867120"/>
            <a:chExt cx="629640" cy="555840"/>
          </a:xfrm>
        </p:grpSpPr>
        <p:sp>
          <p:nvSpPr>
            <p:cNvPr id="948" name=""/>
            <p:cNvSpPr/>
            <p:nvPr/>
          </p:nvSpPr>
          <p:spPr>
            <a:xfrm>
              <a:off x="1972080" y="389088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279520" y="410220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315520" y="386712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2656440" y="4551480"/>
            <a:ext cx="629640" cy="555480"/>
            <a:chOff x="2656440" y="4551480"/>
            <a:chExt cx="629640" cy="555480"/>
          </a:xfrm>
        </p:grpSpPr>
        <p:sp>
          <p:nvSpPr>
            <p:cNvPr id="952" name=""/>
            <p:cNvSpPr/>
            <p:nvPr/>
          </p:nvSpPr>
          <p:spPr>
            <a:xfrm>
              <a:off x="2656440" y="457524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963880" y="478620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001320" y="455148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1972080" y="5084640"/>
            <a:ext cx="629640" cy="555840"/>
            <a:chOff x="1972080" y="5084640"/>
            <a:chExt cx="629640" cy="555840"/>
          </a:xfrm>
        </p:grpSpPr>
        <p:sp>
          <p:nvSpPr>
            <p:cNvPr id="956" name=""/>
            <p:cNvSpPr/>
            <p:nvPr/>
          </p:nvSpPr>
          <p:spPr>
            <a:xfrm>
              <a:off x="1972080" y="510840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279520" y="531972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315520" y="508464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2656440" y="5769000"/>
            <a:ext cx="629640" cy="555840"/>
            <a:chOff x="2656440" y="5769000"/>
            <a:chExt cx="629640" cy="555840"/>
          </a:xfrm>
        </p:grpSpPr>
        <p:sp>
          <p:nvSpPr>
            <p:cNvPr id="960" name=""/>
            <p:cNvSpPr/>
            <p:nvPr/>
          </p:nvSpPr>
          <p:spPr>
            <a:xfrm>
              <a:off x="2656440" y="579276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963880" y="600408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001320" y="576900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4407480" y="2041560"/>
            <a:ext cx="629640" cy="555840"/>
            <a:chOff x="4407480" y="2041560"/>
            <a:chExt cx="629640" cy="555840"/>
          </a:xfrm>
        </p:grpSpPr>
        <p:sp>
          <p:nvSpPr>
            <p:cNvPr id="964" name=""/>
            <p:cNvSpPr/>
            <p:nvPr/>
          </p:nvSpPr>
          <p:spPr>
            <a:xfrm>
              <a:off x="4407480" y="206532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714920" y="227664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752360" y="204156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7" name=""/>
          <p:cNvGrpSpPr/>
          <p:nvPr/>
        </p:nvGrpSpPr>
        <p:grpSpPr>
          <a:xfrm>
            <a:off x="4407480" y="2651040"/>
            <a:ext cx="629640" cy="554040"/>
            <a:chOff x="4407480" y="2651040"/>
            <a:chExt cx="629640" cy="554040"/>
          </a:xfrm>
        </p:grpSpPr>
        <p:sp>
          <p:nvSpPr>
            <p:cNvPr id="968" name=""/>
            <p:cNvSpPr/>
            <p:nvPr/>
          </p:nvSpPr>
          <p:spPr>
            <a:xfrm>
              <a:off x="4407480" y="267480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714920" y="288432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752360" y="265104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4407480" y="3259080"/>
            <a:ext cx="629640" cy="555840"/>
            <a:chOff x="4407480" y="3259080"/>
            <a:chExt cx="629640" cy="555840"/>
          </a:xfrm>
        </p:grpSpPr>
        <p:sp>
          <p:nvSpPr>
            <p:cNvPr id="972" name=""/>
            <p:cNvSpPr/>
            <p:nvPr/>
          </p:nvSpPr>
          <p:spPr>
            <a:xfrm>
              <a:off x="4407480" y="328284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714920" y="349416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752360" y="325908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4407480" y="3867120"/>
            <a:ext cx="629640" cy="555840"/>
            <a:chOff x="4407480" y="3867120"/>
            <a:chExt cx="629640" cy="555840"/>
          </a:xfrm>
        </p:grpSpPr>
        <p:sp>
          <p:nvSpPr>
            <p:cNvPr id="976" name=""/>
            <p:cNvSpPr/>
            <p:nvPr/>
          </p:nvSpPr>
          <p:spPr>
            <a:xfrm>
              <a:off x="4407480" y="389088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714920" y="410220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752360" y="386712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4407480" y="4476600"/>
            <a:ext cx="629640" cy="554400"/>
            <a:chOff x="4407480" y="4476600"/>
            <a:chExt cx="629640" cy="554400"/>
          </a:xfrm>
        </p:grpSpPr>
        <p:sp>
          <p:nvSpPr>
            <p:cNvPr id="980" name=""/>
            <p:cNvSpPr/>
            <p:nvPr/>
          </p:nvSpPr>
          <p:spPr>
            <a:xfrm>
              <a:off x="4407480" y="449892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714920" y="471024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752360" y="447660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4407480" y="5084640"/>
            <a:ext cx="629640" cy="555840"/>
            <a:chOff x="4407480" y="5084640"/>
            <a:chExt cx="629640" cy="555840"/>
          </a:xfrm>
        </p:grpSpPr>
        <p:sp>
          <p:nvSpPr>
            <p:cNvPr id="984" name=""/>
            <p:cNvSpPr/>
            <p:nvPr/>
          </p:nvSpPr>
          <p:spPr>
            <a:xfrm>
              <a:off x="4407480" y="510840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714920" y="531972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752360" y="508464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4407480" y="5692680"/>
            <a:ext cx="629640" cy="555840"/>
            <a:chOff x="4407480" y="5692680"/>
            <a:chExt cx="629640" cy="555840"/>
          </a:xfrm>
        </p:grpSpPr>
        <p:sp>
          <p:nvSpPr>
            <p:cNvPr id="988" name=""/>
            <p:cNvSpPr/>
            <p:nvPr/>
          </p:nvSpPr>
          <p:spPr>
            <a:xfrm>
              <a:off x="4407480" y="571644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714920" y="592776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752360" y="569268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7604640" y="2041560"/>
            <a:ext cx="629640" cy="555840"/>
            <a:chOff x="7604640" y="2041560"/>
            <a:chExt cx="629640" cy="555840"/>
          </a:xfrm>
        </p:grpSpPr>
        <p:sp>
          <p:nvSpPr>
            <p:cNvPr id="992" name=""/>
            <p:cNvSpPr/>
            <p:nvPr/>
          </p:nvSpPr>
          <p:spPr>
            <a:xfrm>
              <a:off x="7604640" y="206532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912080" y="227664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949520" y="204156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7604640" y="2651040"/>
            <a:ext cx="629640" cy="554040"/>
            <a:chOff x="7604640" y="2651040"/>
            <a:chExt cx="629640" cy="554040"/>
          </a:xfrm>
        </p:grpSpPr>
        <p:sp>
          <p:nvSpPr>
            <p:cNvPr id="996" name=""/>
            <p:cNvSpPr/>
            <p:nvPr/>
          </p:nvSpPr>
          <p:spPr>
            <a:xfrm>
              <a:off x="7604640" y="267480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912080" y="288432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936920" y="265104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7604640" y="3259080"/>
            <a:ext cx="629640" cy="555840"/>
            <a:chOff x="7604640" y="3259080"/>
            <a:chExt cx="629640" cy="555840"/>
          </a:xfrm>
        </p:grpSpPr>
        <p:sp>
          <p:nvSpPr>
            <p:cNvPr id="1000" name=""/>
            <p:cNvSpPr/>
            <p:nvPr/>
          </p:nvSpPr>
          <p:spPr>
            <a:xfrm>
              <a:off x="7604640" y="328284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912080" y="349416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949520" y="325908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7604640" y="3867120"/>
            <a:ext cx="629640" cy="555840"/>
            <a:chOff x="7604640" y="3867120"/>
            <a:chExt cx="629640" cy="555840"/>
          </a:xfrm>
        </p:grpSpPr>
        <p:sp>
          <p:nvSpPr>
            <p:cNvPr id="1004" name=""/>
            <p:cNvSpPr/>
            <p:nvPr/>
          </p:nvSpPr>
          <p:spPr>
            <a:xfrm>
              <a:off x="7604640" y="389088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912080" y="410220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949520" y="386712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3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7604640" y="4476600"/>
            <a:ext cx="629640" cy="554400"/>
            <a:chOff x="7604640" y="4476600"/>
            <a:chExt cx="629640" cy="554400"/>
          </a:xfrm>
        </p:grpSpPr>
        <p:sp>
          <p:nvSpPr>
            <p:cNvPr id="1008" name=""/>
            <p:cNvSpPr/>
            <p:nvPr/>
          </p:nvSpPr>
          <p:spPr>
            <a:xfrm>
              <a:off x="7604640" y="449892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12080" y="471024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949520" y="447660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7604640" y="5084640"/>
            <a:ext cx="629640" cy="555840"/>
            <a:chOff x="7604640" y="5084640"/>
            <a:chExt cx="629640" cy="555840"/>
          </a:xfrm>
        </p:grpSpPr>
        <p:sp>
          <p:nvSpPr>
            <p:cNvPr id="1012" name=""/>
            <p:cNvSpPr/>
            <p:nvPr/>
          </p:nvSpPr>
          <p:spPr>
            <a:xfrm>
              <a:off x="7604640" y="510840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912080" y="531972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943040" y="508464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7604640" y="5692680"/>
            <a:ext cx="629640" cy="555840"/>
            <a:chOff x="7604640" y="5692680"/>
            <a:chExt cx="629640" cy="555840"/>
          </a:xfrm>
        </p:grpSpPr>
        <p:sp>
          <p:nvSpPr>
            <p:cNvPr id="1016" name=""/>
            <p:cNvSpPr/>
            <p:nvPr/>
          </p:nvSpPr>
          <p:spPr>
            <a:xfrm>
              <a:off x="7604640" y="571644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912080" y="592776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949520" y="569268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7604640" y="6300720"/>
            <a:ext cx="629640" cy="555840"/>
            <a:chOff x="7604640" y="6300720"/>
            <a:chExt cx="629640" cy="555840"/>
          </a:xfrm>
        </p:grpSpPr>
        <p:sp>
          <p:nvSpPr>
            <p:cNvPr id="1020" name=""/>
            <p:cNvSpPr/>
            <p:nvPr/>
          </p:nvSpPr>
          <p:spPr>
            <a:xfrm>
              <a:off x="7604640" y="632448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912080" y="653580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949520" y="630072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1971720" y="509760"/>
            <a:ext cx="2058840" cy="492120"/>
            <a:chOff x="1971720" y="509760"/>
            <a:chExt cx="2058840" cy="492120"/>
          </a:xfrm>
        </p:grpSpPr>
        <mc:AlternateContent>
          <mc:Choice xmlns:a14="http://schemas.microsoft.com/office/drawing/2010/main" Requires="a14">
            <p:sp>
              <p:nvSpPr>
                <p:cNvPr id="1024" name=""/>
                <p:cNvSpPr txBox="1"/>
                <p:nvPr/>
              </p:nvSpPr>
              <p:spPr>
                <a:xfrm>
                  <a:off x="1971720" y="536400"/>
                  <a:ext cx="1219320" cy="46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5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5" name=""/>
                <p:cNvSpPr txBox="1"/>
                <p:nvPr/>
              </p:nvSpPr>
              <p:spPr>
                <a:xfrm>
                  <a:off x="3228840" y="509760"/>
                  <a:ext cx="80172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0E89-94D1-4D50-A7B6-DD5CED420A9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"/>
          <p:cNvGrpSpPr/>
          <p:nvPr/>
        </p:nvGrpSpPr>
        <p:grpSpPr>
          <a:xfrm>
            <a:off x="1972080" y="6300720"/>
            <a:ext cx="629640" cy="555840"/>
            <a:chOff x="1972080" y="6300720"/>
            <a:chExt cx="629640" cy="555840"/>
          </a:xfrm>
        </p:grpSpPr>
        <p:sp>
          <p:nvSpPr>
            <p:cNvPr id="1027" name=""/>
            <p:cNvSpPr/>
            <p:nvPr/>
          </p:nvSpPr>
          <p:spPr>
            <a:xfrm>
              <a:off x="1972080" y="632448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279520" y="653580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315520" y="630072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4407480" y="6300720"/>
            <a:ext cx="629640" cy="555840"/>
            <a:chOff x="4407480" y="6300720"/>
            <a:chExt cx="629640" cy="555840"/>
          </a:xfrm>
        </p:grpSpPr>
        <p:sp>
          <p:nvSpPr>
            <p:cNvPr id="1031" name=""/>
            <p:cNvSpPr/>
            <p:nvPr/>
          </p:nvSpPr>
          <p:spPr>
            <a:xfrm>
              <a:off x="4407480" y="632448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714920" y="653580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752360" y="630072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937800" y="4525920"/>
            <a:ext cx="7312320" cy="608040"/>
            <a:chOff x="937800" y="4525920"/>
            <a:chExt cx="7312320" cy="608040"/>
          </a:xfrm>
        </p:grpSpPr>
        <p:sp>
          <p:nvSpPr>
            <p:cNvPr id="1035" name=""/>
            <p:cNvSpPr/>
            <p:nvPr/>
          </p:nvSpPr>
          <p:spPr>
            <a:xfrm flipH="1" flipV="1">
              <a:off x="1547640" y="4678200"/>
              <a:ext cx="1827360" cy="4557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 flipV="1">
              <a:off x="937800" y="4525920"/>
              <a:ext cx="469800" cy="1173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983040" y="5133960"/>
              <a:ext cx="183024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375000" y="5133960"/>
              <a:ext cx="4669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810400" y="5133960"/>
              <a:ext cx="199044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942320" y="5133960"/>
              <a:ext cx="30780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1" name=""/>
          <p:cNvSpPr/>
          <p:nvPr/>
        </p:nvSpPr>
        <p:spPr>
          <a:xfrm flipH="1" flipV="1">
            <a:off x="1547640" y="2243160"/>
            <a:ext cx="1827360" cy="4572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 flipV="1">
            <a:off x="937800" y="2092320"/>
            <a:ext cx="469800" cy="117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983040" y="2700360"/>
            <a:ext cx="1830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375000" y="2700360"/>
            <a:ext cx="4669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114960" y="3005280"/>
            <a:ext cx="2132280" cy="21286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810400" y="2700360"/>
            <a:ext cx="201600" cy="2016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547640" y="2092320"/>
            <a:ext cx="183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938160" y="2700360"/>
            <a:ext cx="1079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963800" y="263988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938160" y="2276280"/>
            <a:ext cx="1687680" cy="42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562120" y="2232000"/>
            <a:ext cx="204840" cy="117360"/>
          </a:xfrm>
          <a:custGeom>
            <a:avLst/>
            <a:gdLst/>
            <a:ahLst/>
            <a:rect l="l" t="t" r="r" b="b"/>
            <a:pathLst>
              <a:path w="129" h="74">
                <a:moveTo>
                  <a:pt x="19" y="73"/>
                </a:moveTo>
                <a:lnTo>
                  <a:pt x="24" y="33"/>
                </a:lnTo>
                <a:lnTo>
                  <a:pt x="0" y="0"/>
                </a:lnTo>
                <a:lnTo>
                  <a:pt x="128" y="7"/>
                </a:lnTo>
                <a:lnTo>
                  <a:pt x="19" y="7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2765520" y="2091960"/>
            <a:ext cx="609480" cy="150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344600" y="2139840"/>
            <a:ext cx="204840" cy="115920"/>
          </a:xfrm>
          <a:custGeom>
            <a:avLst/>
            <a:gdLst/>
            <a:ahLst/>
            <a:rect l="l" t="t" r="r" b="b"/>
            <a:pathLst>
              <a:path w="129" h="73">
                <a:moveTo>
                  <a:pt x="0" y="72"/>
                </a:moveTo>
                <a:lnTo>
                  <a:pt x="24" y="40"/>
                </a:lnTo>
                <a:lnTo>
                  <a:pt x="19" y="0"/>
                </a:lnTo>
                <a:lnTo>
                  <a:pt x="128" y="65"/>
                </a:lnTo>
                <a:lnTo>
                  <a:pt x="0" y="7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938160" y="2092320"/>
            <a:ext cx="4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353960" y="2031840"/>
            <a:ext cx="19548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157480" y="2700360"/>
            <a:ext cx="122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547640" y="3308400"/>
            <a:ext cx="183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938160" y="3916440"/>
            <a:ext cx="1079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963800" y="3857760"/>
            <a:ext cx="19512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0" y="75"/>
                </a:moveTo>
                <a:lnTo>
                  <a:pt x="15" y="37"/>
                </a:lnTo>
                <a:lnTo>
                  <a:pt x="0" y="0"/>
                </a:lnTo>
                <a:lnTo>
                  <a:pt x="122" y="37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938160" y="3308040"/>
            <a:ext cx="2436840" cy="608040"/>
            <a:chOff x="938160" y="3308040"/>
            <a:chExt cx="2436840" cy="608040"/>
          </a:xfrm>
        </p:grpSpPr>
        <p:sp>
          <p:nvSpPr>
            <p:cNvPr id="1061" name=""/>
            <p:cNvSpPr/>
            <p:nvPr/>
          </p:nvSpPr>
          <p:spPr>
            <a:xfrm flipV="1">
              <a:off x="938160" y="3493800"/>
              <a:ext cx="1687680" cy="42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562120" y="3449520"/>
              <a:ext cx="204840" cy="117720"/>
            </a:xfrm>
            <a:custGeom>
              <a:avLst/>
              <a:gdLst/>
              <a:ahLst/>
              <a:rect l="l" t="t" r="r" b="b"/>
              <a:pathLst>
                <a:path w="129" h="74">
                  <a:moveTo>
                    <a:pt x="19" y="73"/>
                  </a:moveTo>
                  <a:lnTo>
                    <a:pt x="24" y="33"/>
                  </a:lnTo>
                  <a:lnTo>
                    <a:pt x="0" y="0"/>
                  </a:lnTo>
                  <a:lnTo>
                    <a:pt x="128" y="7"/>
                  </a:lnTo>
                  <a:lnTo>
                    <a:pt x="19" y="7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2765520" y="3308040"/>
              <a:ext cx="6094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4" name=""/>
          <p:cNvSpPr/>
          <p:nvPr/>
        </p:nvSpPr>
        <p:spPr>
          <a:xfrm flipH="1" flipV="1">
            <a:off x="1547640" y="3460680"/>
            <a:ext cx="1827360" cy="455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 flipV="1">
            <a:off x="937800" y="3308400"/>
            <a:ext cx="469800" cy="117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344600" y="3355920"/>
            <a:ext cx="204840" cy="117360"/>
          </a:xfrm>
          <a:custGeom>
            <a:avLst/>
            <a:gdLst/>
            <a:ahLst/>
            <a:rect l="l" t="t" r="r" b="b"/>
            <a:pathLst>
              <a:path w="129" h="74">
                <a:moveTo>
                  <a:pt x="0" y="73"/>
                </a:moveTo>
                <a:lnTo>
                  <a:pt x="24" y="40"/>
                </a:lnTo>
                <a:lnTo>
                  <a:pt x="19" y="0"/>
                </a:lnTo>
                <a:lnTo>
                  <a:pt x="128" y="66"/>
                </a:lnTo>
                <a:lnTo>
                  <a:pt x="0" y="7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938160" y="3308400"/>
            <a:ext cx="4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353960" y="3247920"/>
            <a:ext cx="19548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157480" y="3916440"/>
            <a:ext cx="122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547640" y="4525920"/>
            <a:ext cx="183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938160" y="5133960"/>
            <a:ext cx="1079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963800" y="507348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938160" y="4525560"/>
            <a:ext cx="2436840" cy="608040"/>
            <a:chOff x="938160" y="4525560"/>
            <a:chExt cx="2436840" cy="608040"/>
          </a:xfrm>
        </p:grpSpPr>
        <p:sp>
          <p:nvSpPr>
            <p:cNvPr id="1074" name=""/>
            <p:cNvSpPr/>
            <p:nvPr/>
          </p:nvSpPr>
          <p:spPr>
            <a:xfrm flipV="1">
              <a:off x="938160" y="4711320"/>
              <a:ext cx="1687680" cy="42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562120" y="4667400"/>
              <a:ext cx="204840" cy="115560"/>
            </a:xfrm>
            <a:custGeom>
              <a:avLst/>
              <a:gdLst/>
              <a:ahLst/>
              <a:rect l="l" t="t" r="r" b="b"/>
              <a:pathLst>
                <a:path w="129" h="73">
                  <a:moveTo>
                    <a:pt x="19" y="72"/>
                  </a:moveTo>
                  <a:lnTo>
                    <a:pt x="24" y="33"/>
                  </a:lnTo>
                  <a:lnTo>
                    <a:pt x="0" y="0"/>
                  </a:lnTo>
                  <a:lnTo>
                    <a:pt x="128" y="7"/>
                  </a:lnTo>
                  <a:lnTo>
                    <a:pt x="19" y="7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2765520" y="4525560"/>
              <a:ext cx="6094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7" name=""/>
          <p:cNvSpPr/>
          <p:nvPr/>
        </p:nvSpPr>
        <p:spPr>
          <a:xfrm>
            <a:off x="1344600" y="4573440"/>
            <a:ext cx="204840" cy="117720"/>
          </a:xfrm>
          <a:custGeom>
            <a:avLst/>
            <a:gdLst/>
            <a:ahLst/>
            <a:rect l="l" t="t" r="r" b="b"/>
            <a:pathLst>
              <a:path w="129" h="74">
                <a:moveTo>
                  <a:pt x="0" y="73"/>
                </a:moveTo>
                <a:lnTo>
                  <a:pt x="24" y="40"/>
                </a:lnTo>
                <a:lnTo>
                  <a:pt x="19" y="0"/>
                </a:lnTo>
                <a:lnTo>
                  <a:pt x="128" y="66"/>
                </a:lnTo>
                <a:lnTo>
                  <a:pt x="0" y="7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938160" y="4525920"/>
            <a:ext cx="4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353960" y="4465800"/>
            <a:ext cx="195480" cy="12204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157480" y="5133960"/>
            <a:ext cx="122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547640" y="5742000"/>
            <a:ext cx="183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938160" y="6351480"/>
            <a:ext cx="1079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963800" y="6291360"/>
            <a:ext cx="19512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0" y="75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938160" y="5741640"/>
            <a:ext cx="2436840" cy="609480"/>
            <a:chOff x="938160" y="5741640"/>
            <a:chExt cx="2436840" cy="609480"/>
          </a:xfrm>
        </p:grpSpPr>
        <p:sp>
          <p:nvSpPr>
            <p:cNvPr id="1085" name=""/>
            <p:cNvSpPr/>
            <p:nvPr/>
          </p:nvSpPr>
          <p:spPr>
            <a:xfrm flipV="1">
              <a:off x="938160" y="5927400"/>
              <a:ext cx="1687680" cy="42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562120" y="5883120"/>
              <a:ext cx="204840" cy="117720"/>
            </a:xfrm>
            <a:custGeom>
              <a:avLst/>
              <a:gdLst/>
              <a:ahLst/>
              <a:rect l="l" t="t" r="r" b="b"/>
              <a:pathLst>
                <a:path w="129" h="74">
                  <a:moveTo>
                    <a:pt x="19" y="73"/>
                  </a:moveTo>
                  <a:lnTo>
                    <a:pt x="24" y="33"/>
                  </a:lnTo>
                  <a:lnTo>
                    <a:pt x="0" y="0"/>
                  </a:lnTo>
                  <a:lnTo>
                    <a:pt x="128" y="7"/>
                  </a:lnTo>
                  <a:lnTo>
                    <a:pt x="19" y="7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2765520" y="5741640"/>
              <a:ext cx="6094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8" name=""/>
          <p:cNvSpPr/>
          <p:nvPr/>
        </p:nvSpPr>
        <p:spPr>
          <a:xfrm flipH="1" flipV="1">
            <a:off x="1547640" y="5894280"/>
            <a:ext cx="182736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H="1" flipV="1">
            <a:off x="937800" y="5742000"/>
            <a:ext cx="469800" cy="117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344600" y="5789520"/>
            <a:ext cx="204840" cy="117720"/>
          </a:xfrm>
          <a:custGeom>
            <a:avLst/>
            <a:gdLst/>
            <a:ahLst/>
            <a:rect l="l" t="t" r="r" b="b"/>
            <a:pathLst>
              <a:path w="129" h="74">
                <a:moveTo>
                  <a:pt x="0" y="73"/>
                </a:moveTo>
                <a:lnTo>
                  <a:pt x="24" y="40"/>
                </a:lnTo>
                <a:lnTo>
                  <a:pt x="19" y="0"/>
                </a:lnTo>
                <a:lnTo>
                  <a:pt x="128" y="66"/>
                </a:lnTo>
                <a:lnTo>
                  <a:pt x="0" y="7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938160" y="5742000"/>
            <a:ext cx="4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353960" y="5681520"/>
            <a:ext cx="19548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157480" y="6351480"/>
            <a:ext cx="122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983040" y="2092320"/>
            <a:ext cx="1830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375000" y="2092320"/>
            <a:ext cx="4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790800" y="2031840"/>
            <a:ext cx="193680" cy="122400"/>
          </a:xfrm>
          <a:custGeom>
            <a:avLst/>
            <a:gdLst/>
            <a:ahLst/>
            <a:rect l="l" t="t" r="r" b="b"/>
            <a:pathLst>
              <a:path w="122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1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375000" y="3308400"/>
            <a:ext cx="1684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008680" y="324792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202360" y="3308400"/>
            <a:ext cx="610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375000" y="3916440"/>
            <a:ext cx="1684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008680" y="3857760"/>
            <a:ext cx="19512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0" y="75"/>
                </a:moveTo>
                <a:lnTo>
                  <a:pt x="15" y="37"/>
                </a:lnTo>
                <a:lnTo>
                  <a:pt x="0" y="0"/>
                </a:lnTo>
                <a:lnTo>
                  <a:pt x="122" y="37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202360" y="3916440"/>
            <a:ext cx="610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3375000" y="2458800"/>
            <a:ext cx="1698480" cy="849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002200" y="2395440"/>
            <a:ext cx="201600" cy="142920"/>
          </a:xfrm>
          <a:custGeom>
            <a:avLst/>
            <a:gdLst/>
            <a:ahLst/>
            <a:rect l="l" t="t" r="r" b="b"/>
            <a:pathLst>
              <a:path w="127" h="90">
                <a:moveTo>
                  <a:pt x="34" y="89"/>
                </a:moveTo>
                <a:lnTo>
                  <a:pt x="30" y="48"/>
                </a:lnTo>
                <a:lnTo>
                  <a:pt x="0" y="21"/>
                </a:lnTo>
                <a:lnTo>
                  <a:pt x="126" y="0"/>
                </a:lnTo>
                <a:lnTo>
                  <a:pt x="34" y="8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5202360" y="2092320"/>
            <a:ext cx="608040" cy="303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V="1">
            <a:off x="3375000" y="3066840"/>
            <a:ext cx="1698480" cy="849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002200" y="3005280"/>
            <a:ext cx="201600" cy="141120"/>
          </a:xfrm>
          <a:custGeom>
            <a:avLst/>
            <a:gdLst/>
            <a:ahLst/>
            <a:rect l="l" t="t" r="r" b="b"/>
            <a:pathLst>
              <a:path w="127" h="89">
                <a:moveTo>
                  <a:pt x="34" y="88"/>
                </a:moveTo>
                <a:lnTo>
                  <a:pt x="30" y="47"/>
                </a:lnTo>
                <a:lnTo>
                  <a:pt x="0" y="21"/>
                </a:lnTo>
                <a:lnTo>
                  <a:pt x="126" y="0"/>
                </a:lnTo>
                <a:lnTo>
                  <a:pt x="34" y="8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5202360" y="2700000"/>
            <a:ext cx="60804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983040" y="2395440"/>
            <a:ext cx="1827360" cy="912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375000" y="2092320"/>
            <a:ext cx="480960" cy="237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784680" y="2254320"/>
            <a:ext cx="199800" cy="142920"/>
          </a:xfrm>
          <a:custGeom>
            <a:avLst/>
            <a:gdLst/>
            <a:ahLst/>
            <a:rect l="l" t="t" r="r" b="b"/>
            <a:pathLst>
              <a:path w="126" h="90">
                <a:moveTo>
                  <a:pt x="0" y="68"/>
                </a:moveTo>
                <a:lnTo>
                  <a:pt x="30" y="41"/>
                </a:lnTo>
                <a:lnTo>
                  <a:pt x="34" y="0"/>
                </a:lnTo>
                <a:lnTo>
                  <a:pt x="125" y="89"/>
                </a:lnTo>
                <a:lnTo>
                  <a:pt x="0" y="6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790800" y="2639880"/>
            <a:ext cx="193680" cy="122400"/>
          </a:xfrm>
          <a:custGeom>
            <a:avLst/>
            <a:gdLst/>
            <a:ahLst/>
            <a:rect l="l" t="t" r="r" b="b"/>
            <a:pathLst>
              <a:path w="122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1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983040" y="3005280"/>
            <a:ext cx="1827360" cy="911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375000" y="2700360"/>
            <a:ext cx="480960" cy="239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784680" y="2863800"/>
            <a:ext cx="199800" cy="142920"/>
          </a:xfrm>
          <a:custGeom>
            <a:avLst/>
            <a:gdLst/>
            <a:ahLst/>
            <a:rect l="l" t="t" r="r" b="b"/>
            <a:pathLst>
              <a:path w="126" h="90">
                <a:moveTo>
                  <a:pt x="0" y="68"/>
                </a:moveTo>
                <a:lnTo>
                  <a:pt x="30" y="41"/>
                </a:lnTo>
                <a:lnTo>
                  <a:pt x="34" y="0"/>
                </a:lnTo>
                <a:lnTo>
                  <a:pt x="125" y="89"/>
                </a:lnTo>
                <a:lnTo>
                  <a:pt x="0" y="6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983040" y="4525920"/>
            <a:ext cx="1830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375000" y="4525920"/>
            <a:ext cx="4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790800" y="4465800"/>
            <a:ext cx="193680" cy="122040"/>
          </a:xfrm>
          <a:custGeom>
            <a:avLst/>
            <a:gdLst/>
            <a:ahLst/>
            <a:rect l="l" t="t" r="r" b="b"/>
            <a:pathLst>
              <a:path w="122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1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375000" y="5742000"/>
            <a:ext cx="1684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008680" y="568152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202360" y="5742000"/>
            <a:ext cx="610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375000" y="6351480"/>
            <a:ext cx="1684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008680" y="6291360"/>
            <a:ext cx="19512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0" y="75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202360" y="6351480"/>
            <a:ext cx="610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flipV="1">
            <a:off x="3375000" y="4892400"/>
            <a:ext cx="1698480" cy="849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002200" y="4829040"/>
            <a:ext cx="201600" cy="142920"/>
          </a:xfrm>
          <a:custGeom>
            <a:avLst/>
            <a:gdLst/>
            <a:ahLst/>
            <a:rect l="l" t="t" r="r" b="b"/>
            <a:pathLst>
              <a:path w="127" h="90">
                <a:moveTo>
                  <a:pt x="34" y="89"/>
                </a:moveTo>
                <a:lnTo>
                  <a:pt x="30" y="48"/>
                </a:lnTo>
                <a:lnTo>
                  <a:pt x="0" y="21"/>
                </a:lnTo>
                <a:lnTo>
                  <a:pt x="126" y="0"/>
                </a:lnTo>
                <a:lnTo>
                  <a:pt x="34" y="8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V="1">
            <a:off x="5202360" y="4525920"/>
            <a:ext cx="608040" cy="303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V="1">
            <a:off x="3375000" y="5501880"/>
            <a:ext cx="1698480" cy="849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002200" y="5438880"/>
            <a:ext cx="201600" cy="141120"/>
          </a:xfrm>
          <a:custGeom>
            <a:avLst/>
            <a:gdLst/>
            <a:ahLst/>
            <a:rect l="l" t="t" r="r" b="b"/>
            <a:pathLst>
              <a:path w="127" h="89">
                <a:moveTo>
                  <a:pt x="34" y="88"/>
                </a:moveTo>
                <a:lnTo>
                  <a:pt x="30" y="48"/>
                </a:lnTo>
                <a:lnTo>
                  <a:pt x="0" y="21"/>
                </a:lnTo>
                <a:lnTo>
                  <a:pt x="126" y="0"/>
                </a:lnTo>
                <a:lnTo>
                  <a:pt x="34" y="8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5202360" y="5133600"/>
            <a:ext cx="60804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3375000" y="4525920"/>
            <a:ext cx="2435400" cy="1216080"/>
            <a:chOff x="3375000" y="4525920"/>
            <a:chExt cx="2435400" cy="1216080"/>
          </a:xfrm>
        </p:grpSpPr>
        <p:sp>
          <p:nvSpPr>
            <p:cNvPr id="1132" name=""/>
            <p:cNvSpPr/>
            <p:nvPr/>
          </p:nvSpPr>
          <p:spPr>
            <a:xfrm>
              <a:off x="3983040" y="4829040"/>
              <a:ext cx="1827360" cy="9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375000" y="4525920"/>
              <a:ext cx="480960" cy="23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84680" y="4689360"/>
              <a:ext cx="199800" cy="141480"/>
            </a:xfrm>
            <a:custGeom>
              <a:avLst/>
              <a:gdLst/>
              <a:ahLst/>
              <a:rect l="l" t="t" r="r" b="b"/>
              <a:pathLst>
                <a:path w="126" h="89">
                  <a:moveTo>
                    <a:pt x="0" y="67"/>
                  </a:moveTo>
                  <a:lnTo>
                    <a:pt x="30" y="40"/>
                  </a:lnTo>
                  <a:lnTo>
                    <a:pt x="34" y="0"/>
                  </a:lnTo>
                  <a:lnTo>
                    <a:pt x="125" y="88"/>
                  </a:lnTo>
                  <a:lnTo>
                    <a:pt x="0" y="6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5" name=""/>
          <p:cNvSpPr/>
          <p:nvPr/>
        </p:nvSpPr>
        <p:spPr>
          <a:xfrm>
            <a:off x="3790800" y="5073480"/>
            <a:ext cx="193680" cy="122400"/>
          </a:xfrm>
          <a:custGeom>
            <a:avLst/>
            <a:gdLst/>
            <a:ahLst/>
            <a:rect l="l" t="t" r="r" b="b"/>
            <a:pathLst>
              <a:path w="122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1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6" name=""/>
          <p:cNvGrpSpPr/>
          <p:nvPr/>
        </p:nvGrpSpPr>
        <p:grpSpPr>
          <a:xfrm>
            <a:off x="3375000" y="5133960"/>
            <a:ext cx="2435400" cy="1217520"/>
            <a:chOff x="3375000" y="5133960"/>
            <a:chExt cx="2435400" cy="1217520"/>
          </a:xfrm>
        </p:grpSpPr>
        <p:sp>
          <p:nvSpPr>
            <p:cNvPr id="1137" name=""/>
            <p:cNvSpPr/>
            <p:nvPr/>
          </p:nvSpPr>
          <p:spPr>
            <a:xfrm>
              <a:off x="3983040" y="5438880"/>
              <a:ext cx="1827360" cy="9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375000" y="5133960"/>
              <a:ext cx="4809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84680" y="5297400"/>
              <a:ext cx="199800" cy="142920"/>
            </a:xfrm>
            <a:custGeom>
              <a:avLst/>
              <a:gdLst/>
              <a:ahLst/>
              <a:rect l="l" t="t" r="r" b="b"/>
              <a:pathLst>
                <a:path w="126" h="90">
                  <a:moveTo>
                    <a:pt x="0" y="68"/>
                  </a:moveTo>
                  <a:lnTo>
                    <a:pt x="30" y="41"/>
                  </a:lnTo>
                  <a:lnTo>
                    <a:pt x="34" y="0"/>
                  </a:lnTo>
                  <a:lnTo>
                    <a:pt x="125" y="89"/>
                  </a:lnTo>
                  <a:lnTo>
                    <a:pt x="0" y="6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0" name=""/>
          <p:cNvSpPr/>
          <p:nvPr/>
        </p:nvSpPr>
        <p:spPr>
          <a:xfrm>
            <a:off x="5810400" y="4525920"/>
            <a:ext cx="199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748640" y="4465800"/>
            <a:ext cx="195120" cy="12204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942320" y="4525920"/>
            <a:ext cx="307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5810400" y="2499840"/>
            <a:ext cx="2025360" cy="2025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763040" y="2395440"/>
            <a:ext cx="180720" cy="18108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54" y="113"/>
                </a:moveTo>
                <a:lnTo>
                  <a:pt x="37" y="76"/>
                </a:lnTo>
                <a:lnTo>
                  <a:pt x="0" y="59"/>
                </a:lnTo>
                <a:lnTo>
                  <a:pt x="113" y="0"/>
                </a:lnTo>
                <a:lnTo>
                  <a:pt x="54" y="11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7942320" y="2092320"/>
            <a:ext cx="304920" cy="303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114960" y="2395440"/>
            <a:ext cx="2132280" cy="2130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810400" y="2092320"/>
            <a:ext cx="201600" cy="200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935680" y="2217600"/>
            <a:ext cx="181080" cy="179640"/>
          </a:xfrm>
          <a:custGeom>
            <a:avLst/>
            <a:gdLst/>
            <a:ahLst/>
            <a:rect l="l" t="t" r="r" b="b"/>
            <a:pathLst>
              <a:path w="114" h="113">
                <a:moveTo>
                  <a:pt x="0" y="53"/>
                </a:moveTo>
                <a:lnTo>
                  <a:pt x="37" y="36"/>
                </a:lnTo>
                <a:lnTo>
                  <a:pt x="54" y="0"/>
                </a:lnTo>
                <a:lnTo>
                  <a:pt x="113" y="112"/>
                </a:lnTo>
                <a:lnTo>
                  <a:pt x="0" y="5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5810400" y="3107880"/>
            <a:ext cx="2025360" cy="2025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763040" y="3005280"/>
            <a:ext cx="180720" cy="179280"/>
          </a:xfrm>
          <a:custGeom>
            <a:avLst/>
            <a:gdLst/>
            <a:ahLst/>
            <a:rect l="l" t="t" r="r" b="b"/>
            <a:pathLst>
              <a:path w="114" h="113">
                <a:moveTo>
                  <a:pt x="54" y="112"/>
                </a:moveTo>
                <a:lnTo>
                  <a:pt x="37" y="75"/>
                </a:lnTo>
                <a:lnTo>
                  <a:pt x="0" y="58"/>
                </a:lnTo>
                <a:lnTo>
                  <a:pt x="113" y="0"/>
                </a:lnTo>
                <a:lnTo>
                  <a:pt x="54" y="11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7942320" y="2700000"/>
            <a:ext cx="30492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5810400" y="3718080"/>
            <a:ext cx="2025360" cy="2023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763040" y="3613320"/>
            <a:ext cx="180720" cy="18072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54" y="113"/>
                </a:moveTo>
                <a:lnTo>
                  <a:pt x="37" y="76"/>
                </a:lnTo>
                <a:lnTo>
                  <a:pt x="0" y="59"/>
                </a:lnTo>
                <a:lnTo>
                  <a:pt x="113" y="0"/>
                </a:lnTo>
                <a:lnTo>
                  <a:pt x="54" y="11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7942320" y="3308040"/>
            <a:ext cx="30492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V="1">
            <a:off x="5810400" y="4325400"/>
            <a:ext cx="2025360" cy="2025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763040" y="4221000"/>
            <a:ext cx="180720" cy="18108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54" y="113"/>
                </a:moveTo>
                <a:lnTo>
                  <a:pt x="37" y="76"/>
                </a:lnTo>
                <a:lnTo>
                  <a:pt x="0" y="59"/>
                </a:lnTo>
                <a:lnTo>
                  <a:pt x="113" y="0"/>
                </a:lnTo>
                <a:lnTo>
                  <a:pt x="54" y="11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V="1">
            <a:off x="7942320" y="3916440"/>
            <a:ext cx="30492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935680" y="2825640"/>
            <a:ext cx="181080" cy="18108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0" y="54"/>
                </a:moveTo>
                <a:lnTo>
                  <a:pt x="37" y="37"/>
                </a:lnTo>
                <a:lnTo>
                  <a:pt x="54" y="0"/>
                </a:lnTo>
                <a:lnTo>
                  <a:pt x="113" y="113"/>
                </a:lnTo>
                <a:lnTo>
                  <a:pt x="0" y="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114960" y="3613320"/>
            <a:ext cx="2132280" cy="2128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810400" y="3308400"/>
            <a:ext cx="201600" cy="20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935680" y="3433680"/>
            <a:ext cx="181080" cy="18108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0" y="54"/>
                </a:moveTo>
                <a:lnTo>
                  <a:pt x="37" y="37"/>
                </a:lnTo>
                <a:lnTo>
                  <a:pt x="54" y="0"/>
                </a:lnTo>
                <a:lnTo>
                  <a:pt x="113" y="113"/>
                </a:lnTo>
                <a:lnTo>
                  <a:pt x="0" y="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114960" y="4221000"/>
            <a:ext cx="2132280" cy="2130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810400" y="3916440"/>
            <a:ext cx="201600" cy="20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935680" y="4041720"/>
            <a:ext cx="181080" cy="18108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0" y="54"/>
                </a:moveTo>
                <a:lnTo>
                  <a:pt x="37" y="37"/>
                </a:lnTo>
                <a:lnTo>
                  <a:pt x="54" y="0"/>
                </a:lnTo>
                <a:lnTo>
                  <a:pt x="113" y="113"/>
                </a:lnTo>
                <a:lnTo>
                  <a:pt x="0" y="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748640" y="507348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810400" y="5742000"/>
            <a:ext cx="199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748640" y="568152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7942320" y="5742000"/>
            <a:ext cx="307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810400" y="6351480"/>
            <a:ext cx="199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748640" y="6291360"/>
            <a:ext cx="19512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0" y="75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7942320" y="6351480"/>
            <a:ext cx="307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191280" y="2700360"/>
            <a:ext cx="2058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810400" y="2700360"/>
            <a:ext cx="237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997600" y="263988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191280" y="3308400"/>
            <a:ext cx="2058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810400" y="3308400"/>
            <a:ext cx="237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997600" y="324792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191280" y="3916440"/>
            <a:ext cx="2058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10400" y="3916440"/>
            <a:ext cx="237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997600" y="3857760"/>
            <a:ext cx="19512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0" y="75"/>
                </a:moveTo>
                <a:lnTo>
                  <a:pt x="15" y="37"/>
                </a:lnTo>
                <a:lnTo>
                  <a:pt x="0" y="0"/>
                </a:lnTo>
                <a:lnTo>
                  <a:pt x="122" y="37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876240" y="202896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876240" y="263700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876240" y="3244680"/>
            <a:ext cx="127080" cy="128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876240" y="3854520"/>
            <a:ext cx="12708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876240" y="446256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876240" y="507060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876240" y="567864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876240" y="6288120"/>
            <a:ext cx="12708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311640" y="20289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311640" y="26370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311640" y="3244680"/>
            <a:ext cx="128520" cy="128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311640" y="38545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311640" y="44625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311640" y="50706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311640" y="567864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311640" y="62881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746680" y="20289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746680" y="26370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746680" y="3244680"/>
            <a:ext cx="128520" cy="128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746680" y="38545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746680" y="44625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746680" y="50706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746680" y="567864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746680" y="62881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8183520" y="20289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8183520" y="26370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8183520" y="3244680"/>
            <a:ext cx="128520" cy="128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8183520" y="38545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8183520" y="44625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8183520" y="50706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8183520" y="567864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8183520" y="62881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191280" y="2092320"/>
            <a:ext cx="2058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810400" y="2092320"/>
            <a:ext cx="237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997600" y="203184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61640" y="180180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59200" y="180180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61640" y="240984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59200" y="240984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61640" y="301788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59200" y="301788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61640" y="36259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59200" y="362592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61640" y="423540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59200" y="423540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61640" y="484344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59200" y="484344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61640" y="545148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59200" y="545148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61640" y="60595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59200" y="605952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8308080" y="187632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308080" y="248616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8308080" y="309420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8308080" y="370188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8308080" y="431172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8308080" y="491976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8308080" y="552780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8308080" y="613584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656440" y="214164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963880" y="235260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001320" y="21178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972080" y="267480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279520" y="28843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315520" y="265104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656440" y="335916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963880" y="35701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001320" y="333540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972080" y="389088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279520" y="410220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315520" y="386712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656440" y="457524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963880" y="478620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001320" y="45514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972080" y="510840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279520" y="53197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315520" y="508464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656440" y="579276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963880" y="600408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001320" y="576900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407480" y="206532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714920" y="227664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752360" y="204156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407480" y="267480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714920" y="28843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752360" y="265104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407480" y="328284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714920" y="349416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752360" y="32590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407480" y="389088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714920" y="410220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4752360" y="386712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407480" y="449892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714920" y="471024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752360" y="447660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407480" y="510840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714920" y="53197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752360" y="508464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407480" y="571644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714920" y="592776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752360" y="56926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7604640" y="206532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912080" y="227664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949520" y="204156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604640" y="267480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912080" y="28843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936920" y="265104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604640" y="328284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912080" y="349416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949520" y="32590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7604640" y="389088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7912080" y="410220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949520" y="386712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7604640" y="449892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912080" y="471024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949520" y="447660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7604640" y="510840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912080" y="53197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7943040" y="508464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7604640" y="571644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912080" y="592776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949520" y="56926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7604640" y="6300720"/>
            <a:ext cx="629640" cy="555840"/>
            <a:chOff x="7604640" y="6300720"/>
            <a:chExt cx="629640" cy="555840"/>
          </a:xfrm>
        </p:grpSpPr>
        <p:sp>
          <p:nvSpPr>
            <p:cNvPr id="1304" name=""/>
            <p:cNvSpPr/>
            <p:nvPr/>
          </p:nvSpPr>
          <p:spPr>
            <a:xfrm>
              <a:off x="7604640" y="632448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912080" y="653580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949520" y="630072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7" name=""/>
          <p:cNvGrpSpPr/>
          <p:nvPr/>
        </p:nvGrpSpPr>
        <p:grpSpPr>
          <a:xfrm>
            <a:off x="1971720" y="414360"/>
            <a:ext cx="3508200" cy="587520"/>
            <a:chOff x="1971720" y="414360"/>
            <a:chExt cx="3508200" cy="587520"/>
          </a:xfrm>
        </p:grpSpPr>
        <mc:AlternateContent>
          <mc:Choice xmlns:a14="http://schemas.microsoft.com/office/drawing/2010/main" Requires="a14">
            <p:sp>
              <p:nvSpPr>
                <p:cNvPr id="1308" name=""/>
                <p:cNvSpPr txBox="1"/>
                <p:nvPr/>
              </p:nvSpPr>
              <p:spPr>
                <a:xfrm>
                  <a:off x="1971720" y="536400"/>
                  <a:ext cx="1219320" cy="46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5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09" name=""/>
                <p:cNvSpPr txBox="1"/>
                <p:nvPr/>
              </p:nvSpPr>
              <p:spPr>
                <a:xfrm>
                  <a:off x="3228840" y="509760"/>
                  <a:ext cx="80172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10" name=""/>
                <p:cNvSpPr txBox="1"/>
                <p:nvPr/>
              </p:nvSpPr>
              <p:spPr>
                <a:xfrm>
                  <a:off x="4019400" y="611280"/>
                  <a:ext cx="30348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11" name=""/>
                <p:cNvSpPr txBox="1"/>
                <p:nvPr/>
              </p:nvSpPr>
              <p:spPr>
                <a:xfrm>
                  <a:off x="4267080" y="414360"/>
                  <a:ext cx="121284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sSubSup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8</m:t>
                          </m:r>
                        </m:sub>
                        <m:sup>
                          <m:r>
                            <m:t xml:space="preserve">5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5C31-AA64-453F-9D4F-2B8276E1E8C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"/>
          <p:cNvSpPr/>
          <p:nvPr/>
        </p:nvSpPr>
        <p:spPr>
          <a:xfrm>
            <a:off x="1972080" y="632448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279520" y="653580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315520" y="630072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407480" y="632448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714920" y="653580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4752360" y="630072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8" name=""/>
          <p:cNvGrpSpPr/>
          <p:nvPr/>
        </p:nvGrpSpPr>
        <p:grpSpPr>
          <a:xfrm>
            <a:off x="937800" y="2700000"/>
            <a:ext cx="7309440" cy="2433960"/>
            <a:chOff x="937800" y="2700000"/>
            <a:chExt cx="7309440" cy="2433960"/>
          </a:xfrm>
        </p:grpSpPr>
        <p:sp>
          <p:nvSpPr>
            <p:cNvPr id="1319" name=""/>
            <p:cNvSpPr/>
            <p:nvPr/>
          </p:nvSpPr>
          <p:spPr>
            <a:xfrm>
              <a:off x="6114960" y="3005280"/>
              <a:ext cx="2132280" cy="2128680"/>
            </a:xfrm>
            <a:prstGeom prst="line">
              <a:avLst/>
            </a:prstGeom>
            <a:ln w="507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810400" y="2700360"/>
              <a:ext cx="201600" cy="201600"/>
            </a:xfrm>
            <a:prstGeom prst="line">
              <a:avLst/>
            </a:prstGeom>
            <a:ln w="507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 flipV="1">
              <a:off x="1547640" y="3460680"/>
              <a:ext cx="1827360" cy="455760"/>
            </a:xfrm>
            <a:prstGeom prst="line">
              <a:avLst/>
            </a:prstGeom>
            <a:ln w="507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H="1" flipV="1">
              <a:off x="937800" y="3308400"/>
              <a:ext cx="469800" cy="117360"/>
            </a:xfrm>
            <a:prstGeom prst="line">
              <a:avLst/>
            </a:prstGeom>
            <a:ln w="507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V="1">
              <a:off x="3375000" y="3066840"/>
              <a:ext cx="1698480" cy="849240"/>
            </a:xfrm>
            <a:prstGeom prst="line">
              <a:avLst/>
            </a:prstGeom>
            <a:ln w="507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V="1">
              <a:off x="5202360" y="2700000"/>
              <a:ext cx="608040" cy="304920"/>
            </a:xfrm>
            <a:prstGeom prst="line">
              <a:avLst/>
            </a:prstGeom>
            <a:ln w="507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5" name=""/>
          <p:cNvGrpSpPr/>
          <p:nvPr/>
        </p:nvGrpSpPr>
        <p:grpSpPr>
          <a:xfrm>
            <a:off x="937800" y="4525920"/>
            <a:ext cx="7312320" cy="608040"/>
            <a:chOff x="937800" y="4525920"/>
            <a:chExt cx="7312320" cy="608040"/>
          </a:xfrm>
        </p:grpSpPr>
        <p:sp>
          <p:nvSpPr>
            <p:cNvPr id="1326" name=""/>
            <p:cNvSpPr/>
            <p:nvPr/>
          </p:nvSpPr>
          <p:spPr>
            <a:xfrm flipH="1" flipV="1">
              <a:off x="1547640" y="4678200"/>
              <a:ext cx="1827360" cy="4557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 flipV="1">
              <a:off x="937800" y="4525920"/>
              <a:ext cx="469800" cy="1173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983040" y="5133960"/>
              <a:ext cx="18302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375000" y="5133960"/>
              <a:ext cx="4669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810400" y="5133960"/>
              <a:ext cx="19904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942320" y="5133960"/>
              <a:ext cx="3078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2" name=""/>
          <p:cNvSpPr/>
          <p:nvPr/>
        </p:nvSpPr>
        <p:spPr>
          <a:xfrm flipH="1" flipV="1">
            <a:off x="1547640" y="2243160"/>
            <a:ext cx="1827360" cy="4572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 flipV="1">
            <a:off x="937800" y="2092320"/>
            <a:ext cx="469800" cy="117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983040" y="2700360"/>
            <a:ext cx="1830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375000" y="2700360"/>
            <a:ext cx="4669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547640" y="2092320"/>
            <a:ext cx="183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938160" y="2700360"/>
            <a:ext cx="1079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963800" y="263988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938160" y="2276280"/>
            <a:ext cx="1687680" cy="42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562120" y="2232000"/>
            <a:ext cx="204840" cy="117360"/>
          </a:xfrm>
          <a:custGeom>
            <a:avLst/>
            <a:gdLst/>
            <a:ahLst/>
            <a:rect l="l" t="t" r="r" b="b"/>
            <a:pathLst>
              <a:path w="129" h="74">
                <a:moveTo>
                  <a:pt x="19" y="73"/>
                </a:moveTo>
                <a:lnTo>
                  <a:pt x="24" y="33"/>
                </a:lnTo>
                <a:lnTo>
                  <a:pt x="0" y="0"/>
                </a:lnTo>
                <a:lnTo>
                  <a:pt x="128" y="7"/>
                </a:lnTo>
                <a:lnTo>
                  <a:pt x="19" y="7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V="1">
            <a:off x="2765520" y="2091960"/>
            <a:ext cx="609480" cy="150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344600" y="2139840"/>
            <a:ext cx="204840" cy="115920"/>
          </a:xfrm>
          <a:custGeom>
            <a:avLst/>
            <a:gdLst/>
            <a:ahLst/>
            <a:rect l="l" t="t" r="r" b="b"/>
            <a:pathLst>
              <a:path w="129" h="73">
                <a:moveTo>
                  <a:pt x="0" y="72"/>
                </a:moveTo>
                <a:lnTo>
                  <a:pt x="24" y="40"/>
                </a:lnTo>
                <a:lnTo>
                  <a:pt x="19" y="0"/>
                </a:lnTo>
                <a:lnTo>
                  <a:pt x="128" y="65"/>
                </a:lnTo>
                <a:lnTo>
                  <a:pt x="0" y="7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938160" y="2092320"/>
            <a:ext cx="4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353960" y="2031840"/>
            <a:ext cx="19548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157480" y="2700360"/>
            <a:ext cx="122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547640" y="3308400"/>
            <a:ext cx="183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938160" y="3916440"/>
            <a:ext cx="1079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1963800" y="3857760"/>
            <a:ext cx="19512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0" y="75"/>
                </a:moveTo>
                <a:lnTo>
                  <a:pt x="15" y="37"/>
                </a:lnTo>
                <a:lnTo>
                  <a:pt x="0" y="0"/>
                </a:lnTo>
                <a:lnTo>
                  <a:pt x="122" y="37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9" name=""/>
          <p:cNvGrpSpPr/>
          <p:nvPr/>
        </p:nvGrpSpPr>
        <p:grpSpPr>
          <a:xfrm>
            <a:off x="938160" y="3308040"/>
            <a:ext cx="2436840" cy="608040"/>
            <a:chOff x="938160" y="3308040"/>
            <a:chExt cx="2436840" cy="608040"/>
          </a:xfrm>
        </p:grpSpPr>
        <p:sp>
          <p:nvSpPr>
            <p:cNvPr id="1350" name=""/>
            <p:cNvSpPr/>
            <p:nvPr/>
          </p:nvSpPr>
          <p:spPr>
            <a:xfrm flipV="1">
              <a:off x="938160" y="3493800"/>
              <a:ext cx="1687680" cy="42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562120" y="3449520"/>
              <a:ext cx="204840" cy="117720"/>
            </a:xfrm>
            <a:custGeom>
              <a:avLst/>
              <a:gdLst/>
              <a:ahLst/>
              <a:rect l="l" t="t" r="r" b="b"/>
              <a:pathLst>
                <a:path w="129" h="74">
                  <a:moveTo>
                    <a:pt x="19" y="73"/>
                  </a:moveTo>
                  <a:lnTo>
                    <a:pt x="24" y="33"/>
                  </a:lnTo>
                  <a:lnTo>
                    <a:pt x="0" y="0"/>
                  </a:lnTo>
                  <a:lnTo>
                    <a:pt x="128" y="7"/>
                  </a:lnTo>
                  <a:lnTo>
                    <a:pt x="19" y="7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2765520" y="3308040"/>
              <a:ext cx="6094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3" name=""/>
          <p:cNvSpPr/>
          <p:nvPr/>
        </p:nvSpPr>
        <p:spPr>
          <a:xfrm>
            <a:off x="1344600" y="3355920"/>
            <a:ext cx="204840" cy="117360"/>
          </a:xfrm>
          <a:custGeom>
            <a:avLst/>
            <a:gdLst/>
            <a:ahLst/>
            <a:rect l="l" t="t" r="r" b="b"/>
            <a:pathLst>
              <a:path w="129" h="74">
                <a:moveTo>
                  <a:pt x="0" y="73"/>
                </a:moveTo>
                <a:lnTo>
                  <a:pt x="24" y="40"/>
                </a:lnTo>
                <a:lnTo>
                  <a:pt x="19" y="0"/>
                </a:lnTo>
                <a:lnTo>
                  <a:pt x="128" y="66"/>
                </a:lnTo>
                <a:lnTo>
                  <a:pt x="0" y="7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938160" y="3308400"/>
            <a:ext cx="4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353960" y="3247920"/>
            <a:ext cx="19548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157480" y="3916440"/>
            <a:ext cx="122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547640" y="4525920"/>
            <a:ext cx="183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938160" y="5133960"/>
            <a:ext cx="1079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963800" y="507348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938160" y="4525560"/>
            <a:ext cx="2436840" cy="608040"/>
            <a:chOff x="938160" y="4525560"/>
            <a:chExt cx="2436840" cy="608040"/>
          </a:xfrm>
        </p:grpSpPr>
        <p:sp>
          <p:nvSpPr>
            <p:cNvPr id="1361" name=""/>
            <p:cNvSpPr/>
            <p:nvPr/>
          </p:nvSpPr>
          <p:spPr>
            <a:xfrm flipV="1">
              <a:off x="938160" y="4711320"/>
              <a:ext cx="1687680" cy="42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562120" y="4667400"/>
              <a:ext cx="204840" cy="115560"/>
            </a:xfrm>
            <a:custGeom>
              <a:avLst/>
              <a:gdLst/>
              <a:ahLst/>
              <a:rect l="l" t="t" r="r" b="b"/>
              <a:pathLst>
                <a:path w="129" h="73">
                  <a:moveTo>
                    <a:pt x="19" y="72"/>
                  </a:moveTo>
                  <a:lnTo>
                    <a:pt x="24" y="33"/>
                  </a:lnTo>
                  <a:lnTo>
                    <a:pt x="0" y="0"/>
                  </a:lnTo>
                  <a:lnTo>
                    <a:pt x="128" y="7"/>
                  </a:lnTo>
                  <a:lnTo>
                    <a:pt x="19" y="7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V="1">
              <a:off x="2765520" y="4525560"/>
              <a:ext cx="6094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4" name=""/>
          <p:cNvSpPr/>
          <p:nvPr/>
        </p:nvSpPr>
        <p:spPr>
          <a:xfrm>
            <a:off x="1344600" y="4573440"/>
            <a:ext cx="204840" cy="117720"/>
          </a:xfrm>
          <a:custGeom>
            <a:avLst/>
            <a:gdLst/>
            <a:ahLst/>
            <a:rect l="l" t="t" r="r" b="b"/>
            <a:pathLst>
              <a:path w="129" h="74">
                <a:moveTo>
                  <a:pt x="0" y="73"/>
                </a:moveTo>
                <a:lnTo>
                  <a:pt x="24" y="40"/>
                </a:lnTo>
                <a:lnTo>
                  <a:pt x="19" y="0"/>
                </a:lnTo>
                <a:lnTo>
                  <a:pt x="128" y="66"/>
                </a:lnTo>
                <a:lnTo>
                  <a:pt x="0" y="7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38160" y="4525920"/>
            <a:ext cx="4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353960" y="4465800"/>
            <a:ext cx="195480" cy="12204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157480" y="5133960"/>
            <a:ext cx="122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547640" y="5742000"/>
            <a:ext cx="183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938160" y="6351480"/>
            <a:ext cx="1079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963800" y="6291360"/>
            <a:ext cx="19512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0" y="75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938160" y="5741640"/>
            <a:ext cx="2436840" cy="609480"/>
            <a:chOff x="938160" y="5741640"/>
            <a:chExt cx="2436840" cy="609480"/>
          </a:xfrm>
        </p:grpSpPr>
        <p:sp>
          <p:nvSpPr>
            <p:cNvPr id="1372" name=""/>
            <p:cNvSpPr/>
            <p:nvPr/>
          </p:nvSpPr>
          <p:spPr>
            <a:xfrm flipV="1">
              <a:off x="938160" y="5927400"/>
              <a:ext cx="1687680" cy="42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562120" y="5883120"/>
              <a:ext cx="204840" cy="117720"/>
            </a:xfrm>
            <a:custGeom>
              <a:avLst/>
              <a:gdLst/>
              <a:ahLst/>
              <a:rect l="l" t="t" r="r" b="b"/>
              <a:pathLst>
                <a:path w="129" h="74">
                  <a:moveTo>
                    <a:pt x="19" y="73"/>
                  </a:moveTo>
                  <a:lnTo>
                    <a:pt x="24" y="33"/>
                  </a:lnTo>
                  <a:lnTo>
                    <a:pt x="0" y="0"/>
                  </a:lnTo>
                  <a:lnTo>
                    <a:pt x="128" y="7"/>
                  </a:lnTo>
                  <a:lnTo>
                    <a:pt x="19" y="7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V="1">
              <a:off x="2765520" y="5741640"/>
              <a:ext cx="6094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5" name=""/>
          <p:cNvSpPr/>
          <p:nvPr/>
        </p:nvSpPr>
        <p:spPr>
          <a:xfrm flipH="1" flipV="1">
            <a:off x="1547640" y="5894280"/>
            <a:ext cx="182736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 flipH="1" flipV="1">
            <a:off x="937800" y="5742000"/>
            <a:ext cx="469800" cy="117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344600" y="5789520"/>
            <a:ext cx="204840" cy="117720"/>
          </a:xfrm>
          <a:custGeom>
            <a:avLst/>
            <a:gdLst/>
            <a:ahLst/>
            <a:rect l="l" t="t" r="r" b="b"/>
            <a:pathLst>
              <a:path w="129" h="74">
                <a:moveTo>
                  <a:pt x="0" y="73"/>
                </a:moveTo>
                <a:lnTo>
                  <a:pt x="24" y="40"/>
                </a:lnTo>
                <a:lnTo>
                  <a:pt x="19" y="0"/>
                </a:lnTo>
                <a:lnTo>
                  <a:pt x="128" y="66"/>
                </a:lnTo>
                <a:lnTo>
                  <a:pt x="0" y="7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938160" y="5742000"/>
            <a:ext cx="4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353960" y="5681520"/>
            <a:ext cx="19548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157480" y="6351480"/>
            <a:ext cx="122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983040" y="2092320"/>
            <a:ext cx="1830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375000" y="2092320"/>
            <a:ext cx="4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790800" y="2031840"/>
            <a:ext cx="193680" cy="122400"/>
          </a:xfrm>
          <a:custGeom>
            <a:avLst/>
            <a:gdLst/>
            <a:ahLst/>
            <a:rect l="l" t="t" r="r" b="b"/>
            <a:pathLst>
              <a:path w="122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1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375000" y="3308400"/>
            <a:ext cx="1684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5008680" y="324792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202360" y="3308400"/>
            <a:ext cx="610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375000" y="3916440"/>
            <a:ext cx="1684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5008680" y="3857760"/>
            <a:ext cx="19512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0" y="75"/>
                </a:moveTo>
                <a:lnTo>
                  <a:pt x="15" y="37"/>
                </a:lnTo>
                <a:lnTo>
                  <a:pt x="0" y="0"/>
                </a:lnTo>
                <a:lnTo>
                  <a:pt x="122" y="37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202360" y="3916440"/>
            <a:ext cx="610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3375000" y="2458800"/>
            <a:ext cx="1698480" cy="849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002200" y="2395440"/>
            <a:ext cx="201600" cy="142920"/>
          </a:xfrm>
          <a:custGeom>
            <a:avLst/>
            <a:gdLst/>
            <a:ahLst/>
            <a:rect l="l" t="t" r="r" b="b"/>
            <a:pathLst>
              <a:path w="127" h="90">
                <a:moveTo>
                  <a:pt x="34" y="89"/>
                </a:moveTo>
                <a:lnTo>
                  <a:pt x="30" y="48"/>
                </a:lnTo>
                <a:lnTo>
                  <a:pt x="0" y="21"/>
                </a:lnTo>
                <a:lnTo>
                  <a:pt x="126" y="0"/>
                </a:lnTo>
                <a:lnTo>
                  <a:pt x="34" y="8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 flipV="1">
            <a:off x="5202360" y="2092320"/>
            <a:ext cx="608040" cy="303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5002200" y="3005280"/>
            <a:ext cx="201600" cy="141120"/>
          </a:xfrm>
          <a:custGeom>
            <a:avLst/>
            <a:gdLst/>
            <a:ahLst/>
            <a:rect l="l" t="t" r="r" b="b"/>
            <a:pathLst>
              <a:path w="127" h="89">
                <a:moveTo>
                  <a:pt x="34" y="88"/>
                </a:moveTo>
                <a:lnTo>
                  <a:pt x="30" y="47"/>
                </a:lnTo>
                <a:lnTo>
                  <a:pt x="0" y="21"/>
                </a:lnTo>
                <a:lnTo>
                  <a:pt x="126" y="0"/>
                </a:lnTo>
                <a:lnTo>
                  <a:pt x="34" y="8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983040" y="2395440"/>
            <a:ext cx="1827360" cy="912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375000" y="2092320"/>
            <a:ext cx="480960" cy="237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784680" y="2254320"/>
            <a:ext cx="199800" cy="142920"/>
          </a:xfrm>
          <a:custGeom>
            <a:avLst/>
            <a:gdLst/>
            <a:ahLst/>
            <a:rect l="l" t="t" r="r" b="b"/>
            <a:pathLst>
              <a:path w="126" h="90">
                <a:moveTo>
                  <a:pt x="0" y="68"/>
                </a:moveTo>
                <a:lnTo>
                  <a:pt x="30" y="41"/>
                </a:lnTo>
                <a:lnTo>
                  <a:pt x="34" y="0"/>
                </a:lnTo>
                <a:lnTo>
                  <a:pt x="125" y="89"/>
                </a:lnTo>
                <a:lnTo>
                  <a:pt x="0" y="6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790800" y="2639880"/>
            <a:ext cx="193680" cy="122400"/>
          </a:xfrm>
          <a:custGeom>
            <a:avLst/>
            <a:gdLst/>
            <a:ahLst/>
            <a:rect l="l" t="t" r="r" b="b"/>
            <a:pathLst>
              <a:path w="122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1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983040" y="3005280"/>
            <a:ext cx="1827360" cy="911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375000" y="2700360"/>
            <a:ext cx="480960" cy="239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3784680" y="2863800"/>
            <a:ext cx="199800" cy="142920"/>
          </a:xfrm>
          <a:custGeom>
            <a:avLst/>
            <a:gdLst/>
            <a:ahLst/>
            <a:rect l="l" t="t" r="r" b="b"/>
            <a:pathLst>
              <a:path w="126" h="90">
                <a:moveTo>
                  <a:pt x="0" y="68"/>
                </a:moveTo>
                <a:lnTo>
                  <a:pt x="30" y="41"/>
                </a:lnTo>
                <a:lnTo>
                  <a:pt x="34" y="0"/>
                </a:lnTo>
                <a:lnTo>
                  <a:pt x="125" y="89"/>
                </a:lnTo>
                <a:lnTo>
                  <a:pt x="0" y="6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983040" y="4525920"/>
            <a:ext cx="1830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375000" y="4525920"/>
            <a:ext cx="4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790800" y="4465800"/>
            <a:ext cx="193680" cy="122040"/>
          </a:xfrm>
          <a:custGeom>
            <a:avLst/>
            <a:gdLst/>
            <a:ahLst/>
            <a:rect l="l" t="t" r="r" b="b"/>
            <a:pathLst>
              <a:path w="122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1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375000" y="5742000"/>
            <a:ext cx="1684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008680" y="568152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5202360" y="5742000"/>
            <a:ext cx="610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3375000" y="6351480"/>
            <a:ext cx="1684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008680" y="6291360"/>
            <a:ext cx="19512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0" y="75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202360" y="6351480"/>
            <a:ext cx="610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V="1">
            <a:off x="3375000" y="4892400"/>
            <a:ext cx="1698480" cy="849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5002200" y="4829040"/>
            <a:ext cx="201600" cy="142920"/>
          </a:xfrm>
          <a:custGeom>
            <a:avLst/>
            <a:gdLst/>
            <a:ahLst/>
            <a:rect l="l" t="t" r="r" b="b"/>
            <a:pathLst>
              <a:path w="127" h="90">
                <a:moveTo>
                  <a:pt x="34" y="89"/>
                </a:moveTo>
                <a:lnTo>
                  <a:pt x="30" y="48"/>
                </a:lnTo>
                <a:lnTo>
                  <a:pt x="0" y="21"/>
                </a:lnTo>
                <a:lnTo>
                  <a:pt x="126" y="0"/>
                </a:lnTo>
                <a:lnTo>
                  <a:pt x="34" y="8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5202360" y="4525920"/>
            <a:ext cx="608040" cy="303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3375000" y="5501880"/>
            <a:ext cx="1698480" cy="849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002200" y="5438880"/>
            <a:ext cx="201600" cy="141120"/>
          </a:xfrm>
          <a:custGeom>
            <a:avLst/>
            <a:gdLst/>
            <a:ahLst/>
            <a:rect l="l" t="t" r="r" b="b"/>
            <a:pathLst>
              <a:path w="127" h="89">
                <a:moveTo>
                  <a:pt x="34" y="88"/>
                </a:moveTo>
                <a:lnTo>
                  <a:pt x="30" y="48"/>
                </a:lnTo>
                <a:lnTo>
                  <a:pt x="0" y="21"/>
                </a:lnTo>
                <a:lnTo>
                  <a:pt x="126" y="0"/>
                </a:lnTo>
                <a:lnTo>
                  <a:pt x="34" y="8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5202360" y="5133600"/>
            <a:ext cx="60804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6" name=""/>
          <p:cNvGrpSpPr/>
          <p:nvPr/>
        </p:nvGrpSpPr>
        <p:grpSpPr>
          <a:xfrm>
            <a:off x="3375000" y="4525920"/>
            <a:ext cx="2435400" cy="1216080"/>
            <a:chOff x="3375000" y="4525920"/>
            <a:chExt cx="2435400" cy="1216080"/>
          </a:xfrm>
        </p:grpSpPr>
        <p:sp>
          <p:nvSpPr>
            <p:cNvPr id="1417" name=""/>
            <p:cNvSpPr/>
            <p:nvPr/>
          </p:nvSpPr>
          <p:spPr>
            <a:xfrm>
              <a:off x="3983040" y="4829040"/>
              <a:ext cx="1827360" cy="9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375000" y="4525920"/>
              <a:ext cx="480960" cy="23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784680" y="4689360"/>
              <a:ext cx="199800" cy="141480"/>
            </a:xfrm>
            <a:custGeom>
              <a:avLst/>
              <a:gdLst/>
              <a:ahLst/>
              <a:rect l="l" t="t" r="r" b="b"/>
              <a:pathLst>
                <a:path w="126" h="89">
                  <a:moveTo>
                    <a:pt x="0" y="67"/>
                  </a:moveTo>
                  <a:lnTo>
                    <a:pt x="30" y="40"/>
                  </a:lnTo>
                  <a:lnTo>
                    <a:pt x="34" y="0"/>
                  </a:lnTo>
                  <a:lnTo>
                    <a:pt x="125" y="88"/>
                  </a:lnTo>
                  <a:lnTo>
                    <a:pt x="0" y="6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0" name=""/>
          <p:cNvSpPr/>
          <p:nvPr/>
        </p:nvSpPr>
        <p:spPr>
          <a:xfrm>
            <a:off x="3790800" y="5073480"/>
            <a:ext cx="193680" cy="122400"/>
          </a:xfrm>
          <a:custGeom>
            <a:avLst/>
            <a:gdLst/>
            <a:ahLst/>
            <a:rect l="l" t="t" r="r" b="b"/>
            <a:pathLst>
              <a:path w="122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1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1" name=""/>
          <p:cNvGrpSpPr/>
          <p:nvPr/>
        </p:nvGrpSpPr>
        <p:grpSpPr>
          <a:xfrm>
            <a:off x="3375000" y="5133960"/>
            <a:ext cx="2435400" cy="1217520"/>
            <a:chOff x="3375000" y="5133960"/>
            <a:chExt cx="2435400" cy="1217520"/>
          </a:xfrm>
        </p:grpSpPr>
        <p:sp>
          <p:nvSpPr>
            <p:cNvPr id="1422" name=""/>
            <p:cNvSpPr/>
            <p:nvPr/>
          </p:nvSpPr>
          <p:spPr>
            <a:xfrm>
              <a:off x="3983040" y="5438880"/>
              <a:ext cx="1827360" cy="9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375000" y="5133960"/>
              <a:ext cx="4809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784680" y="5297400"/>
              <a:ext cx="199800" cy="142920"/>
            </a:xfrm>
            <a:custGeom>
              <a:avLst/>
              <a:gdLst/>
              <a:ahLst/>
              <a:rect l="l" t="t" r="r" b="b"/>
              <a:pathLst>
                <a:path w="126" h="90">
                  <a:moveTo>
                    <a:pt x="0" y="68"/>
                  </a:moveTo>
                  <a:lnTo>
                    <a:pt x="30" y="41"/>
                  </a:lnTo>
                  <a:lnTo>
                    <a:pt x="34" y="0"/>
                  </a:lnTo>
                  <a:lnTo>
                    <a:pt x="125" y="89"/>
                  </a:lnTo>
                  <a:lnTo>
                    <a:pt x="0" y="6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5" name=""/>
          <p:cNvSpPr/>
          <p:nvPr/>
        </p:nvSpPr>
        <p:spPr>
          <a:xfrm>
            <a:off x="5810400" y="4525920"/>
            <a:ext cx="199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7748640" y="4465800"/>
            <a:ext cx="195120" cy="12204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942320" y="4525920"/>
            <a:ext cx="307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5810400" y="2499840"/>
            <a:ext cx="2025360" cy="2025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763040" y="2395440"/>
            <a:ext cx="180720" cy="18108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54" y="113"/>
                </a:moveTo>
                <a:lnTo>
                  <a:pt x="37" y="76"/>
                </a:lnTo>
                <a:lnTo>
                  <a:pt x="0" y="59"/>
                </a:lnTo>
                <a:lnTo>
                  <a:pt x="113" y="0"/>
                </a:lnTo>
                <a:lnTo>
                  <a:pt x="54" y="11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flipV="1">
            <a:off x="7942320" y="2092320"/>
            <a:ext cx="304920" cy="303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114960" y="2395440"/>
            <a:ext cx="2132280" cy="2130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810400" y="2092320"/>
            <a:ext cx="201600" cy="200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935680" y="2217600"/>
            <a:ext cx="181080" cy="179640"/>
          </a:xfrm>
          <a:custGeom>
            <a:avLst/>
            <a:gdLst/>
            <a:ahLst/>
            <a:rect l="l" t="t" r="r" b="b"/>
            <a:pathLst>
              <a:path w="114" h="113">
                <a:moveTo>
                  <a:pt x="0" y="53"/>
                </a:moveTo>
                <a:lnTo>
                  <a:pt x="37" y="36"/>
                </a:lnTo>
                <a:lnTo>
                  <a:pt x="54" y="0"/>
                </a:lnTo>
                <a:lnTo>
                  <a:pt x="113" y="112"/>
                </a:lnTo>
                <a:lnTo>
                  <a:pt x="0" y="5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5810400" y="3107880"/>
            <a:ext cx="2025360" cy="2025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763040" y="3005280"/>
            <a:ext cx="180720" cy="179280"/>
          </a:xfrm>
          <a:custGeom>
            <a:avLst/>
            <a:gdLst/>
            <a:ahLst/>
            <a:rect l="l" t="t" r="r" b="b"/>
            <a:pathLst>
              <a:path w="114" h="113">
                <a:moveTo>
                  <a:pt x="54" y="112"/>
                </a:moveTo>
                <a:lnTo>
                  <a:pt x="37" y="75"/>
                </a:lnTo>
                <a:lnTo>
                  <a:pt x="0" y="58"/>
                </a:lnTo>
                <a:lnTo>
                  <a:pt x="113" y="0"/>
                </a:lnTo>
                <a:lnTo>
                  <a:pt x="54" y="11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7942320" y="2700000"/>
            <a:ext cx="30492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V="1">
            <a:off x="5810400" y="3718080"/>
            <a:ext cx="2025360" cy="2023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7763040" y="3613320"/>
            <a:ext cx="180720" cy="18072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54" y="113"/>
                </a:moveTo>
                <a:lnTo>
                  <a:pt x="37" y="76"/>
                </a:lnTo>
                <a:lnTo>
                  <a:pt x="0" y="59"/>
                </a:lnTo>
                <a:lnTo>
                  <a:pt x="113" y="0"/>
                </a:lnTo>
                <a:lnTo>
                  <a:pt x="54" y="11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 flipV="1">
            <a:off x="7942320" y="3308040"/>
            <a:ext cx="30492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V="1">
            <a:off x="5810400" y="4325400"/>
            <a:ext cx="2025360" cy="2025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7763040" y="4221000"/>
            <a:ext cx="180720" cy="18108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54" y="113"/>
                </a:moveTo>
                <a:lnTo>
                  <a:pt x="37" y="76"/>
                </a:lnTo>
                <a:lnTo>
                  <a:pt x="0" y="59"/>
                </a:lnTo>
                <a:lnTo>
                  <a:pt x="113" y="0"/>
                </a:lnTo>
                <a:lnTo>
                  <a:pt x="54" y="11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flipV="1">
            <a:off x="7942320" y="3916440"/>
            <a:ext cx="30492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935680" y="2825640"/>
            <a:ext cx="181080" cy="18108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0" y="54"/>
                </a:moveTo>
                <a:lnTo>
                  <a:pt x="37" y="37"/>
                </a:lnTo>
                <a:lnTo>
                  <a:pt x="54" y="0"/>
                </a:lnTo>
                <a:lnTo>
                  <a:pt x="113" y="113"/>
                </a:lnTo>
                <a:lnTo>
                  <a:pt x="0" y="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6114960" y="3613320"/>
            <a:ext cx="2132280" cy="2128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810400" y="3308400"/>
            <a:ext cx="201600" cy="20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5935680" y="3433680"/>
            <a:ext cx="181080" cy="18108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0" y="54"/>
                </a:moveTo>
                <a:lnTo>
                  <a:pt x="37" y="37"/>
                </a:lnTo>
                <a:lnTo>
                  <a:pt x="54" y="0"/>
                </a:lnTo>
                <a:lnTo>
                  <a:pt x="113" y="113"/>
                </a:lnTo>
                <a:lnTo>
                  <a:pt x="0" y="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114960" y="4221000"/>
            <a:ext cx="2132280" cy="2130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5810400" y="3916440"/>
            <a:ext cx="201600" cy="20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5935680" y="4041720"/>
            <a:ext cx="181080" cy="18108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0" y="54"/>
                </a:moveTo>
                <a:lnTo>
                  <a:pt x="37" y="37"/>
                </a:lnTo>
                <a:lnTo>
                  <a:pt x="54" y="0"/>
                </a:lnTo>
                <a:lnTo>
                  <a:pt x="113" y="113"/>
                </a:lnTo>
                <a:lnTo>
                  <a:pt x="0" y="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748640" y="507348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810400" y="5742000"/>
            <a:ext cx="199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748640" y="568152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942320" y="5742000"/>
            <a:ext cx="307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810400" y="6351480"/>
            <a:ext cx="199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7748640" y="6291360"/>
            <a:ext cx="19512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0" y="75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7942320" y="6351480"/>
            <a:ext cx="307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191280" y="2700360"/>
            <a:ext cx="2058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5810400" y="2700360"/>
            <a:ext cx="237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5997600" y="263988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191280" y="3308400"/>
            <a:ext cx="2058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5810400" y="3308400"/>
            <a:ext cx="237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997600" y="324792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191280" y="3916440"/>
            <a:ext cx="2058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810400" y="3916440"/>
            <a:ext cx="237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5997600" y="3857760"/>
            <a:ext cx="19512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0" y="75"/>
                </a:moveTo>
                <a:lnTo>
                  <a:pt x="15" y="37"/>
                </a:lnTo>
                <a:lnTo>
                  <a:pt x="0" y="0"/>
                </a:lnTo>
                <a:lnTo>
                  <a:pt x="122" y="37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876240" y="202896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876240" y="263700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876240" y="3244680"/>
            <a:ext cx="127080" cy="128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876240" y="3854520"/>
            <a:ext cx="12708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876240" y="446256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876240" y="507060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876240" y="567864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876240" y="6288120"/>
            <a:ext cx="12708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311640" y="20289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311640" y="26370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311640" y="3244680"/>
            <a:ext cx="128520" cy="128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3311640" y="38545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3311640" y="44625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311640" y="50706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311640" y="567864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311640" y="62881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5746680" y="20289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5746680" y="26370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5746680" y="3244680"/>
            <a:ext cx="128520" cy="128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746680" y="38545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5746680" y="44625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746680" y="50706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5746680" y="567864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5746680" y="62881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8183520" y="20289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8183520" y="26370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8183520" y="3244680"/>
            <a:ext cx="128520" cy="128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8183520" y="38545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8183520" y="44625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8183520" y="50706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8183520" y="567864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8183520" y="62881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191280" y="2092320"/>
            <a:ext cx="2058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5810400" y="2092320"/>
            <a:ext cx="237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997600" y="203184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61640" y="180180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59200" y="180180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161640" y="240984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259200" y="240984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61640" y="301788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59200" y="301788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161640" y="36259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259200" y="362592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161640" y="423540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59200" y="423540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161640" y="484344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259200" y="484344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61640" y="545148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259200" y="545148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161640" y="60595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59200" y="605952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8308080" y="187632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8308080" y="248616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8308080" y="309420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8308080" y="370188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8308080" y="431172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8308080" y="491976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8308080" y="552780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308080" y="613584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2656440" y="214164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963880" y="235260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3001320" y="21178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1972080" y="267480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2279520" y="28843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2315520" y="265104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2656440" y="335916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2963880" y="35701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3001320" y="333540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972080" y="389088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279520" y="410220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2315520" y="386712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2656440" y="457524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2963880" y="478620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3001320" y="45514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1972080" y="510840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2279520" y="53197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2315520" y="508464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2656440" y="579276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2963880" y="600408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3001320" y="576900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4407480" y="206532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4714920" y="227664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752360" y="204156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407480" y="267480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4714920" y="28843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752360" y="265104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4407480" y="328284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4714920" y="349416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4752360" y="32590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4407480" y="389088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4714920" y="410220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4752360" y="386712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4407480" y="449892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4714920" y="471024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752360" y="447660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407480" y="510840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714920" y="53197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752360" y="508464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4407480" y="571644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714920" y="592776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752360" y="56926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7604640" y="206532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7912080" y="227664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949520" y="204156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7604640" y="267480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7912080" y="28843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7936920" y="265104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604640" y="328284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7912080" y="349416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7949520" y="32590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604640" y="389088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7912080" y="410220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7949520" y="386712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7604640" y="449892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7912080" y="471024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7949520" y="447660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7604640" y="510840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7912080" y="53197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7943040" y="508464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7604640" y="571644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7912080" y="592776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7949520" y="56926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7604640" y="632448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912080" y="653580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7949520" y="630072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1971720" y="380880"/>
            <a:ext cx="5572080" cy="621000"/>
            <a:chOff x="1971720" y="380880"/>
            <a:chExt cx="5572080" cy="621000"/>
          </a:xfrm>
        </p:grpSpPr>
        <p:grpSp>
          <p:nvGrpSpPr>
            <p:cNvPr id="1592" name=""/>
            <p:cNvGrpSpPr/>
            <p:nvPr/>
          </p:nvGrpSpPr>
          <p:grpSpPr>
            <a:xfrm>
              <a:off x="1971720" y="414360"/>
              <a:ext cx="3508200" cy="587520"/>
              <a:chOff x="1971720" y="414360"/>
              <a:chExt cx="3508200" cy="587520"/>
            </a:xfrm>
          </p:grpSpPr>
          <mc:AlternateContent>
            <mc:Choice xmlns:a14="http://schemas.microsoft.com/office/drawing/2010/main" Requires="a14">
              <p:sp>
                <p:nvSpPr>
                  <p:cNvPr id="1593" name=""/>
                  <p:cNvSpPr txBox="1"/>
                  <p:nvPr/>
                </p:nvSpPr>
                <p:spPr>
                  <a:xfrm>
                    <a:off x="1971720" y="536400"/>
                    <a:ext cx="1219320" cy="46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94" name=""/>
                  <p:cNvSpPr txBox="1"/>
                  <p:nvPr/>
                </p:nvSpPr>
                <p:spPr>
                  <a:xfrm>
                    <a:off x="3228840" y="509760"/>
                    <a:ext cx="801720" cy="480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95" name=""/>
                  <p:cNvSpPr txBox="1"/>
                  <p:nvPr/>
                </p:nvSpPr>
                <p:spPr>
                  <a:xfrm>
                    <a:off x="4019400" y="611280"/>
                    <a:ext cx="303480" cy="303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+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96" name=""/>
                  <p:cNvSpPr txBox="1"/>
                  <p:nvPr/>
                </p:nvSpPr>
                <p:spPr>
                  <a:xfrm>
                    <a:off x="4267080" y="414360"/>
                    <a:ext cx="1212840" cy="576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  <m:sup>
                            <m:r>
                              <m:t xml:space="preserve">5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597" name=""/>
                <p:cNvSpPr txBox="1"/>
                <p:nvPr/>
              </p:nvSpPr>
              <p:spPr>
                <a:xfrm>
                  <a:off x="5410080" y="380880"/>
                  <a:ext cx="2133720" cy="61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sSubSup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8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537D-6351-4019-97DD-9749E00F8F3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8" name=""/>
          <p:cNvGrpSpPr/>
          <p:nvPr/>
        </p:nvGrpSpPr>
        <p:grpSpPr>
          <a:xfrm>
            <a:off x="1972080" y="6300720"/>
            <a:ext cx="629640" cy="555840"/>
            <a:chOff x="1972080" y="6300720"/>
            <a:chExt cx="629640" cy="555840"/>
          </a:xfrm>
        </p:grpSpPr>
        <p:sp>
          <p:nvSpPr>
            <p:cNvPr id="1599" name=""/>
            <p:cNvSpPr/>
            <p:nvPr/>
          </p:nvSpPr>
          <p:spPr>
            <a:xfrm>
              <a:off x="1972080" y="632448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279520" y="653580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315520" y="630072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2" name=""/>
          <p:cNvGrpSpPr/>
          <p:nvPr/>
        </p:nvGrpSpPr>
        <p:grpSpPr>
          <a:xfrm>
            <a:off x="4407480" y="6300720"/>
            <a:ext cx="629640" cy="555840"/>
            <a:chOff x="4407480" y="6300720"/>
            <a:chExt cx="629640" cy="555840"/>
          </a:xfrm>
        </p:grpSpPr>
        <p:sp>
          <p:nvSpPr>
            <p:cNvPr id="1603" name=""/>
            <p:cNvSpPr/>
            <p:nvPr/>
          </p:nvSpPr>
          <p:spPr>
            <a:xfrm>
              <a:off x="4407480" y="632448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714920" y="653580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752360" y="630072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6" name=""/>
          <p:cNvGrpSpPr/>
          <p:nvPr/>
        </p:nvGrpSpPr>
        <p:grpSpPr>
          <a:xfrm>
            <a:off x="937800" y="5133600"/>
            <a:ext cx="7312320" cy="1217880"/>
            <a:chOff x="937800" y="5133600"/>
            <a:chExt cx="7312320" cy="1217880"/>
          </a:xfrm>
        </p:grpSpPr>
        <p:sp>
          <p:nvSpPr>
            <p:cNvPr id="1607" name=""/>
            <p:cNvSpPr/>
            <p:nvPr/>
          </p:nvSpPr>
          <p:spPr>
            <a:xfrm>
              <a:off x="5810400" y="5133960"/>
              <a:ext cx="1990440" cy="0"/>
            </a:xfrm>
            <a:prstGeom prst="line">
              <a:avLst/>
            </a:prstGeom>
            <a:ln w="507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942320" y="5133960"/>
              <a:ext cx="307800" cy="0"/>
            </a:xfrm>
            <a:prstGeom prst="line">
              <a:avLst/>
            </a:prstGeom>
            <a:ln w="507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 flipV="1">
              <a:off x="1547640" y="5894280"/>
              <a:ext cx="1827360" cy="457200"/>
            </a:xfrm>
            <a:prstGeom prst="line">
              <a:avLst/>
            </a:prstGeom>
            <a:ln w="507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 flipV="1">
              <a:off x="937800" y="5742000"/>
              <a:ext cx="469800" cy="117360"/>
            </a:xfrm>
            <a:prstGeom prst="line">
              <a:avLst/>
            </a:prstGeom>
            <a:ln w="507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V="1">
              <a:off x="3375000" y="5501880"/>
              <a:ext cx="1698480" cy="849240"/>
            </a:xfrm>
            <a:prstGeom prst="line">
              <a:avLst/>
            </a:prstGeom>
            <a:ln w="507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V="1">
              <a:off x="5202360" y="5133600"/>
              <a:ext cx="608040" cy="304920"/>
            </a:xfrm>
            <a:prstGeom prst="line">
              <a:avLst/>
            </a:prstGeom>
            <a:ln w="507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13" name=""/>
          <p:cNvGrpSpPr/>
          <p:nvPr/>
        </p:nvGrpSpPr>
        <p:grpSpPr>
          <a:xfrm>
            <a:off x="937800" y="2700000"/>
            <a:ext cx="7309440" cy="2433960"/>
            <a:chOff x="937800" y="2700000"/>
            <a:chExt cx="7309440" cy="2433960"/>
          </a:xfrm>
        </p:grpSpPr>
        <p:sp>
          <p:nvSpPr>
            <p:cNvPr id="1614" name=""/>
            <p:cNvSpPr/>
            <p:nvPr/>
          </p:nvSpPr>
          <p:spPr>
            <a:xfrm>
              <a:off x="6114960" y="3005280"/>
              <a:ext cx="2132280" cy="2128680"/>
            </a:xfrm>
            <a:prstGeom prst="line">
              <a:avLst/>
            </a:prstGeom>
            <a:ln w="1260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810400" y="2700360"/>
              <a:ext cx="201600" cy="201600"/>
            </a:xfrm>
            <a:prstGeom prst="line">
              <a:avLst/>
            </a:prstGeom>
            <a:ln w="1260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 flipV="1">
              <a:off x="1547640" y="3460680"/>
              <a:ext cx="1827360" cy="455760"/>
            </a:xfrm>
            <a:prstGeom prst="line">
              <a:avLst/>
            </a:prstGeom>
            <a:ln w="1260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 flipV="1">
              <a:off x="937800" y="3308400"/>
              <a:ext cx="469800" cy="117360"/>
            </a:xfrm>
            <a:prstGeom prst="line">
              <a:avLst/>
            </a:prstGeom>
            <a:ln w="1260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V="1">
              <a:off x="3375000" y="3066840"/>
              <a:ext cx="1698480" cy="849240"/>
            </a:xfrm>
            <a:prstGeom prst="line">
              <a:avLst/>
            </a:prstGeom>
            <a:ln w="1260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V="1">
              <a:off x="5202360" y="2700000"/>
              <a:ext cx="608040" cy="304920"/>
            </a:xfrm>
            <a:prstGeom prst="line">
              <a:avLst/>
            </a:prstGeom>
            <a:ln w="1260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0" name=""/>
          <p:cNvSpPr/>
          <p:nvPr/>
        </p:nvSpPr>
        <p:spPr>
          <a:xfrm flipH="1" flipV="1">
            <a:off x="1547640" y="4678200"/>
            <a:ext cx="1827360" cy="4557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 flipH="1" flipV="1">
            <a:off x="937800" y="4525920"/>
            <a:ext cx="469800" cy="117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983040" y="5133960"/>
            <a:ext cx="1830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375000" y="5133960"/>
            <a:ext cx="4669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H="1" flipV="1">
            <a:off x="1547640" y="2243160"/>
            <a:ext cx="1827360" cy="4572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 flipH="1" flipV="1">
            <a:off x="937800" y="2092320"/>
            <a:ext cx="469800" cy="117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983040" y="2700360"/>
            <a:ext cx="1830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375000" y="2700360"/>
            <a:ext cx="4669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1547640" y="2092320"/>
            <a:ext cx="183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938160" y="2700360"/>
            <a:ext cx="1079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1963800" y="263988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 flipV="1">
            <a:off x="938160" y="2276280"/>
            <a:ext cx="1687680" cy="42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2562120" y="2232000"/>
            <a:ext cx="204840" cy="117360"/>
          </a:xfrm>
          <a:custGeom>
            <a:avLst/>
            <a:gdLst/>
            <a:ahLst/>
            <a:rect l="l" t="t" r="r" b="b"/>
            <a:pathLst>
              <a:path w="129" h="74">
                <a:moveTo>
                  <a:pt x="19" y="73"/>
                </a:moveTo>
                <a:lnTo>
                  <a:pt x="24" y="33"/>
                </a:lnTo>
                <a:lnTo>
                  <a:pt x="0" y="0"/>
                </a:lnTo>
                <a:lnTo>
                  <a:pt x="128" y="7"/>
                </a:lnTo>
                <a:lnTo>
                  <a:pt x="19" y="7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 flipV="1">
            <a:off x="2765520" y="2091960"/>
            <a:ext cx="609480" cy="150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1344600" y="2139840"/>
            <a:ext cx="204840" cy="115920"/>
          </a:xfrm>
          <a:custGeom>
            <a:avLst/>
            <a:gdLst/>
            <a:ahLst/>
            <a:rect l="l" t="t" r="r" b="b"/>
            <a:pathLst>
              <a:path w="129" h="73">
                <a:moveTo>
                  <a:pt x="0" y="72"/>
                </a:moveTo>
                <a:lnTo>
                  <a:pt x="24" y="40"/>
                </a:lnTo>
                <a:lnTo>
                  <a:pt x="19" y="0"/>
                </a:lnTo>
                <a:lnTo>
                  <a:pt x="128" y="65"/>
                </a:lnTo>
                <a:lnTo>
                  <a:pt x="0" y="7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938160" y="2092320"/>
            <a:ext cx="4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1353960" y="2031840"/>
            <a:ext cx="19548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157480" y="2700360"/>
            <a:ext cx="122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1547640" y="3308400"/>
            <a:ext cx="183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938160" y="3916440"/>
            <a:ext cx="1079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1963800" y="3857760"/>
            <a:ext cx="19512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0" y="75"/>
                </a:moveTo>
                <a:lnTo>
                  <a:pt x="15" y="37"/>
                </a:lnTo>
                <a:lnTo>
                  <a:pt x="0" y="0"/>
                </a:lnTo>
                <a:lnTo>
                  <a:pt x="122" y="37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938160" y="3308040"/>
            <a:ext cx="2436840" cy="608040"/>
            <a:chOff x="938160" y="3308040"/>
            <a:chExt cx="2436840" cy="608040"/>
          </a:xfrm>
        </p:grpSpPr>
        <p:sp>
          <p:nvSpPr>
            <p:cNvPr id="1642" name=""/>
            <p:cNvSpPr/>
            <p:nvPr/>
          </p:nvSpPr>
          <p:spPr>
            <a:xfrm flipV="1">
              <a:off x="938160" y="3493800"/>
              <a:ext cx="1687680" cy="42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562120" y="3449520"/>
              <a:ext cx="204840" cy="117720"/>
            </a:xfrm>
            <a:custGeom>
              <a:avLst/>
              <a:gdLst/>
              <a:ahLst/>
              <a:rect l="l" t="t" r="r" b="b"/>
              <a:pathLst>
                <a:path w="129" h="74">
                  <a:moveTo>
                    <a:pt x="19" y="73"/>
                  </a:moveTo>
                  <a:lnTo>
                    <a:pt x="24" y="33"/>
                  </a:lnTo>
                  <a:lnTo>
                    <a:pt x="0" y="0"/>
                  </a:lnTo>
                  <a:lnTo>
                    <a:pt x="128" y="7"/>
                  </a:lnTo>
                  <a:lnTo>
                    <a:pt x="19" y="7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2765520" y="3308040"/>
              <a:ext cx="6094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5" name=""/>
          <p:cNvSpPr/>
          <p:nvPr/>
        </p:nvSpPr>
        <p:spPr>
          <a:xfrm>
            <a:off x="1344600" y="3355920"/>
            <a:ext cx="204840" cy="117360"/>
          </a:xfrm>
          <a:custGeom>
            <a:avLst/>
            <a:gdLst/>
            <a:ahLst/>
            <a:rect l="l" t="t" r="r" b="b"/>
            <a:pathLst>
              <a:path w="129" h="74">
                <a:moveTo>
                  <a:pt x="0" y="73"/>
                </a:moveTo>
                <a:lnTo>
                  <a:pt x="24" y="40"/>
                </a:lnTo>
                <a:lnTo>
                  <a:pt x="19" y="0"/>
                </a:lnTo>
                <a:lnTo>
                  <a:pt x="128" y="66"/>
                </a:lnTo>
                <a:lnTo>
                  <a:pt x="0" y="7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938160" y="3308400"/>
            <a:ext cx="4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1353960" y="3247920"/>
            <a:ext cx="19548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157480" y="3916440"/>
            <a:ext cx="122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1547640" y="4525920"/>
            <a:ext cx="183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938160" y="5133960"/>
            <a:ext cx="1079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1963800" y="507348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2" name=""/>
          <p:cNvGrpSpPr/>
          <p:nvPr/>
        </p:nvGrpSpPr>
        <p:grpSpPr>
          <a:xfrm>
            <a:off x="938160" y="4525560"/>
            <a:ext cx="2436840" cy="608040"/>
            <a:chOff x="938160" y="4525560"/>
            <a:chExt cx="2436840" cy="608040"/>
          </a:xfrm>
        </p:grpSpPr>
        <p:sp>
          <p:nvSpPr>
            <p:cNvPr id="1653" name=""/>
            <p:cNvSpPr/>
            <p:nvPr/>
          </p:nvSpPr>
          <p:spPr>
            <a:xfrm flipV="1">
              <a:off x="938160" y="4711320"/>
              <a:ext cx="1687680" cy="42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562120" y="4667400"/>
              <a:ext cx="204840" cy="115560"/>
            </a:xfrm>
            <a:custGeom>
              <a:avLst/>
              <a:gdLst/>
              <a:ahLst/>
              <a:rect l="l" t="t" r="r" b="b"/>
              <a:pathLst>
                <a:path w="129" h="73">
                  <a:moveTo>
                    <a:pt x="19" y="72"/>
                  </a:moveTo>
                  <a:lnTo>
                    <a:pt x="24" y="33"/>
                  </a:lnTo>
                  <a:lnTo>
                    <a:pt x="0" y="0"/>
                  </a:lnTo>
                  <a:lnTo>
                    <a:pt x="128" y="7"/>
                  </a:lnTo>
                  <a:lnTo>
                    <a:pt x="19" y="7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V="1">
              <a:off x="2765520" y="4525560"/>
              <a:ext cx="6094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6" name=""/>
          <p:cNvSpPr/>
          <p:nvPr/>
        </p:nvSpPr>
        <p:spPr>
          <a:xfrm>
            <a:off x="1344600" y="4573440"/>
            <a:ext cx="204840" cy="117720"/>
          </a:xfrm>
          <a:custGeom>
            <a:avLst/>
            <a:gdLst/>
            <a:ahLst/>
            <a:rect l="l" t="t" r="r" b="b"/>
            <a:pathLst>
              <a:path w="129" h="74">
                <a:moveTo>
                  <a:pt x="0" y="73"/>
                </a:moveTo>
                <a:lnTo>
                  <a:pt x="24" y="40"/>
                </a:lnTo>
                <a:lnTo>
                  <a:pt x="19" y="0"/>
                </a:lnTo>
                <a:lnTo>
                  <a:pt x="128" y="66"/>
                </a:lnTo>
                <a:lnTo>
                  <a:pt x="0" y="7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938160" y="4525920"/>
            <a:ext cx="4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1353960" y="4465800"/>
            <a:ext cx="195480" cy="12204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2157480" y="5133960"/>
            <a:ext cx="122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1547640" y="5742000"/>
            <a:ext cx="183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938160" y="6351480"/>
            <a:ext cx="1079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63800" y="6291360"/>
            <a:ext cx="19512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0" y="75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3" name=""/>
          <p:cNvGrpSpPr/>
          <p:nvPr/>
        </p:nvGrpSpPr>
        <p:grpSpPr>
          <a:xfrm>
            <a:off x="938160" y="5741640"/>
            <a:ext cx="2436840" cy="609480"/>
            <a:chOff x="938160" y="5741640"/>
            <a:chExt cx="2436840" cy="609480"/>
          </a:xfrm>
        </p:grpSpPr>
        <p:sp>
          <p:nvSpPr>
            <p:cNvPr id="1664" name=""/>
            <p:cNvSpPr/>
            <p:nvPr/>
          </p:nvSpPr>
          <p:spPr>
            <a:xfrm flipV="1">
              <a:off x="938160" y="5927400"/>
              <a:ext cx="1687680" cy="42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562120" y="5883120"/>
              <a:ext cx="204840" cy="117720"/>
            </a:xfrm>
            <a:custGeom>
              <a:avLst/>
              <a:gdLst/>
              <a:ahLst/>
              <a:rect l="l" t="t" r="r" b="b"/>
              <a:pathLst>
                <a:path w="129" h="74">
                  <a:moveTo>
                    <a:pt x="19" y="73"/>
                  </a:moveTo>
                  <a:lnTo>
                    <a:pt x="24" y="33"/>
                  </a:lnTo>
                  <a:lnTo>
                    <a:pt x="0" y="0"/>
                  </a:lnTo>
                  <a:lnTo>
                    <a:pt x="128" y="7"/>
                  </a:lnTo>
                  <a:lnTo>
                    <a:pt x="19" y="7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V="1">
              <a:off x="2765520" y="5741640"/>
              <a:ext cx="6094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67" name=""/>
          <p:cNvSpPr/>
          <p:nvPr/>
        </p:nvSpPr>
        <p:spPr>
          <a:xfrm>
            <a:off x="1344600" y="5789520"/>
            <a:ext cx="204840" cy="117720"/>
          </a:xfrm>
          <a:custGeom>
            <a:avLst/>
            <a:gdLst/>
            <a:ahLst/>
            <a:rect l="l" t="t" r="r" b="b"/>
            <a:pathLst>
              <a:path w="129" h="74">
                <a:moveTo>
                  <a:pt x="0" y="73"/>
                </a:moveTo>
                <a:lnTo>
                  <a:pt x="24" y="40"/>
                </a:lnTo>
                <a:lnTo>
                  <a:pt x="19" y="0"/>
                </a:lnTo>
                <a:lnTo>
                  <a:pt x="128" y="66"/>
                </a:lnTo>
                <a:lnTo>
                  <a:pt x="0" y="7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938160" y="5742000"/>
            <a:ext cx="4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1353960" y="5681520"/>
            <a:ext cx="19548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2157480" y="6351480"/>
            <a:ext cx="122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983040" y="2092320"/>
            <a:ext cx="1830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375000" y="2092320"/>
            <a:ext cx="4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790800" y="2031840"/>
            <a:ext cx="193680" cy="122400"/>
          </a:xfrm>
          <a:custGeom>
            <a:avLst/>
            <a:gdLst/>
            <a:ahLst/>
            <a:rect l="l" t="t" r="r" b="b"/>
            <a:pathLst>
              <a:path w="122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1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375000" y="3308400"/>
            <a:ext cx="1684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5008680" y="324792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5202360" y="3308400"/>
            <a:ext cx="610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375000" y="3916440"/>
            <a:ext cx="1684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5008680" y="3857760"/>
            <a:ext cx="19512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0" y="75"/>
                </a:moveTo>
                <a:lnTo>
                  <a:pt x="15" y="37"/>
                </a:lnTo>
                <a:lnTo>
                  <a:pt x="0" y="0"/>
                </a:lnTo>
                <a:lnTo>
                  <a:pt x="122" y="37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5202360" y="3916440"/>
            <a:ext cx="610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 flipV="1">
            <a:off x="3375000" y="2458800"/>
            <a:ext cx="1698480" cy="849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5002200" y="2395440"/>
            <a:ext cx="201600" cy="142920"/>
          </a:xfrm>
          <a:custGeom>
            <a:avLst/>
            <a:gdLst/>
            <a:ahLst/>
            <a:rect l="l" t="t" r="r" b="b"/>
            <a:pathLst>
              <a:path w="127" h="90">
                <a:moveTo>
                  <a:pt x="34" y="89"/>
                </a:moveTo>
                <a:lnTo>
                  <a:pt x="30" y="48"/>
                </a:lnTo>
                <a:lnTo>
                  <a:pt x="0" y="21"/>
                </a:lnTo>
                <a:lnTo>
                  <a:pt x="126" y="0"/>
                </a:lnTo>
                <a:lnTo>
                  <a:pt x="34" y="8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5202360" y="2092320"/>
            <a:ext cx="608040" cy="303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5002200" y="3005280"/>
            <a:ext cx="201600" cy="141120"/>
          </a:xfrm>
          <a:custGeom>
            <a:avLst/>
            <a:gdLst/>
            <a:ahLst/>
            <a:rect l="l" t="t" r="r" b="b"/>
            <a:pathLst>
              <a:path w="127" h="89">
                <a:moveTo>
                  <a:pt x="34" y="88"/>
                </a:moveTo>
                <a:lnTo>
                  <a:pt x="30" y="47"/>
                </a:lnTo>
                <a:lnTo>
                  <a:pt x="0" y="21"/>
                </a:lnTo>
                <a:lnTo>
                  <a:pt x="126" y="0"/>
                </a:lnTo>
                <a:lnTo>
                  <a:pt x="34" y="8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3983040" y="2395440"/>
            <a:ext cx="1827360" cy="912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3375000" y="2092320"/>
            <a:ext cx="480960" cy="237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3784680" y="2254320"/>
            <a:ext cx="199800" cy="142920"/>
          </a:xfrm>
          <a:custGeom>
            <a:avLst/>
            <a:gdLst/>
            <a:ahLst/>
            <a:rect l="l" t="t" r="r" b="b"/>
            <a:pathLst>
              <a:path w="126" h="90">
                <a:moveTo>
                  <a:pt x="0" y="68"/>
                </a:moveTo>
                <a:lnTo>
                  <a:pt x="30" y="41"/>
                </a:lnTo>
                <a:lnTo>
                  <a:pt x="34" y="0"/>
                </a:lnTo>
                <a:lnTo>
                  <a:pt x="125" y="89"/>
                </a:lnTo>
                <a:lnTo>
                  <a:pt x="0" y="6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3790800" y="2639880"/>
            <a:ext cx="193680" cy="122400"/>
          </a:xfrm>
          <a:custGeom>
            <a:avLst/>
            <a:gdLst/>
            <a:ahLst/>
            <a:rect l="l" t="t" r="r" b="b"/>
            <a:pathLst>
              <a:path w="122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1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3983040" y="3005280"/>
            <a:ext cx="1827360" cy="911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3375000" y="2700360"/>
            <a:ext cx="480960" cy="239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3784680" y="2863800"/>
            <a:ext cx="199800" cy="142920"/>
          </a:xfrm>
          <a:custGeom>
            <a:avLst/>
            <a:gdLst/>
            <a:ahLst/>
            <a:rect l="l" t="t" r="r" b="b"/>
            <a:pathLst>
              <a:path w="126" h="90">
                <a:moveTo>
                  <a:pt x="0" y="68"/>
                </a:moveTo>
                <a:lnTo>
                  <a:pt x="30" y="41"/>
                </a:lnTo>
                <a:lnTo>
                  <a:pt x="34" y="0"/>
                </a:lnTo>
                <a:lnTo>
                  <a:pt x="125" y="89"/>
                </a:lnTo>
                <a:lnTo>
                  <a:pt x="0" y="6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983040" y="4525920"/>
            <a:ext cx="1830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375000" y="4525920"/>
            <a:ext cx="4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790800" y="4465800"/>
            <a:ext cx="193680" cy="122040"/>
          </a:xfrm>
          <a:custGeom>
            <a:avLst/>
            <a:gdLst/>
            <a:ahLst/>
            <a:rect l="l" t="t" r="r" b="b"/>
            <a:pathLst>
              <a:path w="122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1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375000" y="5742000"/>
            <a:ext cx="1684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5008680" y="568152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5202360" y="5742000"/>
            <a:ext cx="610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3375000" y="6351480"/>
            <a:ext cx="1684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5008680" y="6291360"/>
            <a:ext cx="19512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0" y="75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5202360" y="6351480"/>
            <a:ext cx="610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 flipV="1">
            <a:off x="3375000" y="4892400"/>
            <a:ext cx="1698480" cy="849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5002200" y="4829040"/>
            <a:ext cx="201600" cy="142920"/>
          </a:xfrm>
          <a:custGeom>
            <a:avLst/>
            <a:gdLst/>
            <a:ahLst/>
            <a:rect l="l" t="t" r="r" b="b"/>
            <a:pathLst>
              <a:path w="127" h="90">
                <a:moveTo>
                  <a:pt x="34" y="89"/>
                </a:moveTo>
                <a:lnTo>
                  <a:pt x="30" y="48"/>
                </a:lnTo>
                <a:lnTo>
                  <a:pt x="0" y="21"/>
                </a:lnTo>
                <a:lnTo>
                  <a:pt x="126" y="0"/>
                </a:lnTo>
                <a:lnTo>
                  <a:pt x="34" y="8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 flipV="1">
            <a:off x="5202360" y="4525920"/>
            <a:ext cx="608040" cy="303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5002200" y="5438880"/>
            <a:ext cx="201600" cy="141120"/>
          </a:xfrm>
          <a:custGeom>
            <a:avLst/>
            <a:gdLst/>
            <a:ahLst/>
            <a:rect l="l" t="t" r="r" b="b"/>
            <a:pathLst>
              <a:path w="127" h="89">
                <a:moveTo>
                  <a:pt x="34" y="88"/>
                </a:moveTo>
                <a:lnTo>
                  <a:pt x="30" y="48"/>
                </a:lnTo>
                <a:lnTo>
                  <a:pt x="0" y="21"/>
                </a:lnTo>
                <a:lnTo>
                  <a:pt x="126" y="0"/>
                </a:lnTo>
                <a:lnTo>
                  <a:pt x="34" y="8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4" name=""/>
          <p:cNvGrpSpPr/>
          <p:nvPr/>
        </p:nvGrpSpPr>
        <p:grpSpPr>
          <a:xfrm>
            <a:off x="3375000" y="4525920"/>
            <a:ext cx="2435400" cy="1216080"/>
            <a:chOff x="3375000" y="4525920"/>
            <a:chExt cx="2435400" cy="1216080"/>
          </a:xfrm>
        </p:grpSpPr>
        <p:sp>
          <p:nvSpPr>
            <p:cNvPr id="1705" name=""/>
            <p:cNvSpPr/>
            <p:nvPr/>
          </p:nvSpPr>
          <p:spPr>
            <a:xfrm>
              <a:off x="3983040" y="4829040"/>
              <a:ext cx="1827360" cy="9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375000" y="4525920"/>
              <a:ext cx="480960" cy="23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784680" y="4689360"/>
              <a:ext cx="199800" cy="141480"/>
            </a:xfrm>
            <a:custGeom>
              <a:avLst/>
              <a:gdLst/>
              <a:ahLst/>
              <a:rect l="l" t="t" r="r" b="b"/>
              <a:pathLst>
                <a:path w="126" h="89">
                  <a:moveTo>
                    <a:pt x="0" y="67"/>
                  </a:moveTo>
                  <a:lnTo>
                    <a:pt x="30" y="40"/>
                  </a:lnTo>
                  <a:lnTo>
                    <a:pt x="34" y="0"/>
                  </a:lnTo>
                  <a:lnTo>
                    <a:pt x="125" y="88"/>
                  </a:lnTo>
                  <a:lnTo>
                    <a:pt x="0" y="6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8" name=""/>
          <p:cNvSpPr/>
          <p:nvPr/>
        </p:nvSpPr>
        <p:spPr>
          <a:xfrm>
            <a:off x="3790800" y="5073480"/>
            <a:ext cx="193680" cy="122400"/>
          </a:xfrm>
          <a:custGeom>
            <a:avLst/>
            <a:gdLst/>
            <a:ahLst/>
            <a:rect l="l" t="t" r="r" b="b"/>
            <a:pathLst>
              <a:path w="122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1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9" name=""/>
          <p:cNvGrpSpPr/>
          <p:nvPr/>
        </p:nvGrpSpPr>
        <p:grpSpPr>
          <a:xfrm>
            <a:off x="3375000" y="5133960"/>
            <a:ext cx="2435400" cy="1217520"/>
            <a:chOff x="3375000" y="5133960"/>
            <a:chExt cx="2435400" cy="1217520"/>
          </a:xfrm>
        </p:grpSpPr>
        <p:sp>
          <p:nvSpPr>
            <p:cNvPr id="1710" name=""/>
            <p:cNvSpPr/>
            <p:nvPr/>
          </p:nvSpPr>
          <p:spPr>
            <a:xfrm>
              <a:off x="3983040" y="5438880"/>
              <a:ext cx="1827360" cy="9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375000" y="5133960"/>
              <a:ext cx="4809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784680" y="5297400"/>
              <a:ext cx="199800" cy="142920"/>
            </a:xfrm>
            <a:custGeom>
              <a:avLst/>
              <a:gdLst/>
              <a:ahLst/>
              <a:rect l="l" t="t" r="r" b="b"/>
              <a:pathLst>
                <a:path w="126" h="90">
                  <a:moveTo>
                    <a:pt x="0" y="68"/>
                  </a:moveTo>
                  <a:lnTo>
                    <a:pt x="30" y="41"/>
                  </a:lnTo>
                  <a:lnTo>
                    <a:pt x="34" y="0"/>
                  </a:lnTo>
                  <a:lnTo>
                    <a:pt x="125" y="89"/>
                  </a:lnTo>
                  <a:lnTo>
                    <a:pt x="0" y="6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3" name=""/>
          <p:cNvSpPr/>
          <p:nvPr/>
        </p:nvSpPr>
        <p:spPr>
          <a:xfrm>
            <a:off x="5810400" y="4525920"/>
            <a:ext cx="199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7748640" y="4465800"/>
            <a:ext cx="195120" cy="12204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7942320" y="4525920"/>
            <a:ext cx="307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 flipV="1">
            <a:off x="5810400" y="2499840"/>
            <a:ext cx="2025360" cy="2025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7763040" y="2395440"/>
            <a:ext cx="180720" cy="18108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54" y="113"/>
                </a:moveTo>
                <a:lnTo>
                  <a:pt x="37" y="76"/>
                </a:lnTo>
                <a:lnTo>
                  <a:pt x="0" y="59"/>
                </a:lnTo>
                <a:lnTo>
                  <a:pt x="113" y="0"/>
                </a:lnTo>
                <a:lnTo>
                  <a:pt x="54" y="11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 flipV="1">
            <a:off x="7942320" y="2092320"/>
            <a:ext cx="304920" cy="303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114960" y="2395440"/>
            <a:ext cx="2132280" cy="2130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5810400" y="2092320"/>
            <a:ext cx="201600" cy="200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5935680" y="2217600"/>
            <a:ext cx="181080" cy="179640"/>
          </a:xfrm>
          <a:custGeom>
            <a:avLst/>
            <a:gdLst/>
            <a:ahLst/>
            <a:rect l="l" t="t" r="r" b="b"/>
            <a:pathLst>
              <a:path w="114" h="113">
                <a:moveTo>
                  <a:pt x="0" y="53"/>
                </a:moveTo>
                <a:lnTo>
                  <a:pt x="37" y="36"/>
                </a:lnTo>
                <a:lnTo>
                  <a:pt x="54" y="0"/>
                </a:lnTo>
                <a:lnTo>
                  <a:pt x="113" y="112"/>
                </a:lnTo>
                <a:lnTo>
                  <a:pt x="0" y="5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 flipV="1">
            <a:off x="5810400" y="3107880"/>
            <a:ext cx="2025360" cy="2025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7763040" y="3005280"/>
            <a:ext cx="180720" cy="179280"/>
          </a:xfrm>
          <a:custGeom>
            <a:avLst/>
            <a:gdLst/>
            <a:ahLst/>
            <a:rect l="l" t="t" r="r" b="b"/>
            <a:pathLst>
              <a:path w="114" h="113">
                <a:moveTo>
                  <a:pt x="54" y="112"/>
                </a:moveTo>
                <a:lnTo>
                  <a:pt x="37" y="75"/>
                </a:lnTo>
                <a:lnTo>
                  <a:pt x="0" y="58"/>
                </a:lnTo>
                <a:lnTo>
                  <a:pt x="113" y="0"/>
                </a:lnTo>
                <a:lnTo>
                  <a:pt x="54" y="11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 flipV="1">
            <a:off x="7942320" y="2700000"/>
            <a:ext cx="30492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 flipV="1">
            <a:off x="5810400" y="3718080"/>
            <a:ext cx="2025360" cy="2023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763040" y="3613320"/>
            <a:ext cx="180720" cy="18072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54" y="113"/>
                </a:moveTo>
                <a:lnTo>
                  <a:pt x="37" y="76"/>
                </a:lnTo>
                <a:lnTo>
                  <a:pt x="0" y="59"/>
                </a:lnTo>
                <a:lnTo>
                  <a:pt x="113" y="0"/>
                </a:lnTo>
                <a:lnTo>
                  <a:pt x="54" y="11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 flipV="1">
            <a:off x="7942320" y="3308040"/>
            <a:ext cx="30492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 flipV="1">
            <a:off x="5810400" y="4325400"/>
            <a:ext cx="2025360" cy="2025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7763040" y="4221000"/>
            <a:ext cx="180720" cy="18108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54" y="113"/>
                </a:moveTo>
                <a:lnTo>
                  <a:pt x="37" y="76"/>
                </a:lnTo>
                <a:lnTo>
                  <a:pt x="0" y="59"/>
                </a:lnTo>
                <a:lnTo>
                  <a:pt x="113" y="0"/>
                </a:lnTo>
                <a:lnTo>
                  <a:pt x="54" y="11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 flipV="1">
            <a:off x="7942320" y="3916440"/>
            <a:ext cx="30492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5935680" y="2825640"/>
            <a:ext cx="181080" cy="18108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0" y="54"/>
                </a:moveTo>
                <a:lnTo>
                  <a:pt x="37" y="37"/>
                </a:lnTo>
                <a:lnTo>
                  <a:pt x="54" y="0"/>
                </a:lnTo>
                <a:lnTo>
                  <a:pt x="113" y="113"/>
                </a:lnTo>
                <a:lnTo>
                  <a:pt x="0" y="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6114960" y="3613320"/>
            <a:ext cx="2132280" cy="2128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5810400" y="3308400"/>
            <a:ext cx="201600" cy="20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5935680" y="3433680"/>
            <a:ext cx="181080" cy="18108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0" y="54"/>
                </a:moveTo>
                <a:lnTo>
                  <a:pt x="37" y="37"/>
                </a:lnTo>
                <a:lnTo>
                  <a:pt x="54" y="0"/>
                </a:lnTo>
                <a:lnTo>
                  <a:pt x="113" y="113"/>
                </a:lnTo>
                <a:lnTo>
                  <a:pt x="0" y="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6114960" y="4221000"/>
            <a:ext cx="2132280" cy="2130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5810400" y="3916440"/>
            <a:ext cx="201600" cy="20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5935680" y="4041720"/>
            <a:ext cx="181080" cy="18108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0" y="54"/>
                </a:moveTo>
                <a:lnTo>
                  <a:pt x="37" y="37"/>
                </a:lnTo>
                <a:lnTo>
                  <a:pt x="54" y="0"/>
                </a:lnTo>
                <a:lnTo>
                  <a:pt x="113" y="113"/>
                </a:lnTo>
                <a:lnTo>
                  <a:pt x="0" y="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7748640" y="507348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5810400" y="5742000"/>
            <a:ext cx="199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7748640" y="568152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7942320" y="5742000"/>
            <a:ext cx="307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810400" y="6351480"/>
            <a:ext cx="199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7748640" y="6291360"/>
            <a:ext cx="19512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0" y="75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7942320" y="6351480"/>
            <a:ext cx="307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6191280" y="2700360"/>
            <a:ext cx="2058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5810400" y="2700360"/>
            <a:ext cx="237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997600" y="263988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191280" y="3308400"/>
            <a:ext cx="2058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5810400" y="3308400"/>
            <a:ext cx="237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5997600" y="324792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6191280" y="3916440"/>
            <a:ext cx="2058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5810400" y="3916440"/>
            <a:ext cx="237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5997600" y="3857760"/>
            <a:ext cx="19512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0" y="75"/>
                </a:moveTo>
                <a:lnTo>
                  <a:pt x="15" y="37"/>
                </a:lnTo>
                <a:lnTo>
                  <a:pt x="0" y="0"/>
                </a:lnTo>
                <a:lnTo>
                  <a:pt x="122" y="37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876240" y="202896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876240" y="263700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876240" y="3244680"/>
            <a:ext cx="127080" cy="128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876240" y="3854520"/>
            <a:ext cx="12708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876240" y="446256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876240" y="507060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876240" y="567864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876240" y="6288120"/>
            <a:ext cx="12708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3311640" y="20289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3311640" y="26370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3311640" y="3244680"/>
            <a:ext cx="128520" cy="128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3311640" y="38545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3311640" y="44625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3311640" y="50706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3311640" y="567864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311640" y="62881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5746680" y="20289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5746680" y="26370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5746680" y="3244680"/>
            <a:ext cx="128520" cy="128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5746680" y="38545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5746680" y="44625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5746680" y="50706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5746680" y="567864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746680" y="62881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8183520" y="20289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8183520" y="26370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8183520" y="3244680"/>
            <a:ext cx="128520" cy="128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8183520" y="38545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8183520" y="44625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8183520" y="50706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8183520" y="567864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8183520" y="62881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191280" y="2092320"/>
            <a:ext cx="2058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810400" y="2092320"/>
            <a:ext cx="237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5997600" y="203184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161640" y="180180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259200" y="180180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161640" y="240984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259200" y="240984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161640" y="301788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259200" y="301788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161640" y="36259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259200" y="362592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161640" y="423540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259200" y="423540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161640" y="484344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259200" y="484344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161640" y="545148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259200" y="545148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161640" y="60595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259200" y="605952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8308080" y="187632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8308080" y="248616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8308080" y="309420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8308080" y="370188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8308080" y="431172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8308080" y="491976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8308080" y="552780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8308080" y="613584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2656440" y="214164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2963880" y="235260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3001320" y="21178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1972080" y="267480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279520" y="28843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2315520" y="265104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2656440" y="335916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2963880" y="35701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3001320" y="333540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1972080" y="389088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2279520" y="410220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2315520" y="386712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2656440" y="457524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2963880" y="478620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3001320" y="45514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1972080" y="510840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2279520" y="53197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2315520" y="508464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2656440" y="579276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2963880" y="600408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001320" y="576900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4407480" y="206532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4714920" y="227664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4752360" y="204156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407480" y="267480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4714920" y="28843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4752360" y="265104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407480" y="328284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4714920" y="349416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4752360" y="32590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4407480" y="389088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4714920" y="410220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4752360" y="386712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4407480" y="449892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4714920" y="471024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4752360" y="447660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4407480" y="510840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4714920" y="53197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4752360" y="508464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4407480" y="571644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4714920" y="592776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4752360" y="56926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7604640" y="206532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7912080" y="227664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7949520" y="204156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7604640" y="267480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7912080" y="28843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936920" y="265104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7604640" y="328284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7912080" y="349416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7949520" y="32590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7604640" y="389088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7912080" y="410220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7949520" y="386712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604640" y="449892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912080" y="471024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949520" y="447660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604640" y="510840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7912080" y="53197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943040" y="508464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7604640" y="571644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7912080" y="592776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7949520" y="56926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6" name=""/>
          <p:cNvGrpSpPr/>
          <p:nvPr/>
        </p:nvGrpSpPr>
        <p:grpSpPr>
          <a:xfrm>
            <a:off x="7604640" y="6300720"/>
            <a:ext cx="629640" cy="555840"/>
            <a:chOff x="7604640" y="6300720"/>
            <a:chExt cx="629640" cy="555840"/>
          </a:xfrm>
        </p:grpSpPr>
        <p:sp>
          <p:nvSpPr>
            <p:cNvPr id="1877" name=""/>
            <p:cNvSpPr/>
            <p:nvPr/>
          </p:nvSpPr>
          <p:spPr>
            <a:xfrm>
              <a:off x="7604640" y="632448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912080" y="653580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7949520" y="630072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0" name=""/>
          <p:cNvGrpSpPr/>
          <p:nvPr/>
        </p:nvGrpSpPr>
        <p:grpSpPr>
          <a:xfrm>
            <a:off x="1971720" y="338040"/>
            <a:ext cx="7142040" cy="663840"/>
            <a:chOff x="1971720" y="338040"/>
            <a:chExt cx="7142040" cy="663840"/>
          </a:xfrm>
        </p:grpSpPr>
        <p:grpSp>
          <p:nvGrpSpPr>
            <p:cNvPr id="1881" name=""/>
            <p:cNvGrpSpPr/>
            <p:nvPr/>
          </p:nvGrpSpPr>
          <p:grpSpPr>
            <a:xfrm>
              <a:off x="1971720" y="380880"/>
              <a:ext cx="5572080" cy="621000"/>
              <a:chOff x="1971720" y="380880"/>
              <a:chExt cx="5572080" cy="621000"/>
            </a:xfrm>
          </p:grpSpPr>
          <p:grpSp>
            <p:nvGrpSpPr>
              <p:cNvPr id="1882" name=""/>
              <p:cNvGrpSpPr/>
              <p:nvPr/>
            </p:nvGrpSpPr>
            <p:grpSpPr>
              <a:xfrm>
                <a:off x="1971720" y="414360"/>
                <a:ext cx="3508200" cy="587520"/>
                <a:chOff x="1971720" y="414360"/>
                <a:chExt cx="3508200" cy="58752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1883" name=""/>
                    <p:cNvSpPr txBox="1"/>
                    <p:nvPr/>
                  </p:nvSpPr>
                  <p:spPr>
                    <a:xfrm>
                      <a:off x="1971720" y="536400"/>
                      <a:ext cx="1219320" cy="4654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5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884" name=""/>
                    <p:cNvSpPr txBox="1"/>
                    <p:nvPr/>
                  </p:nvSpPr>
                  <p:spPr>
                    <a:xfrm>
                      <a:off x="3228840" y="509760"/>
                      <a:ext cx="801720" cy="4809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885" name=""/>
                    <p:cNvSpPr txBox="1"/>
                    <p:nvPr/>
                  </p:nvSpPr>
                  <p:spPr>
                    <a:xfrm>
                      <a:off x="4019400" y="611280"/>
                      <a:ext cx="303480" cy="3031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+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886" name=""/>
                    <p:cNvSpPr txBox="1"/>
                    <p:nvPr/>
                  </p:nvSpPr>
                  <p:spPr>
                    <a:xfrm>
                      <a:off x="4267080" y="414360"/>
                      <a:ext cx="1212840" cy="576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Sup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8</m:t>
                              </m:r>
                            </m:sub>
                            <m:sup>
                              <m:r>
                                <m:t xml:space="preserve">5</m:t>
                              </m:r>
                            </m:sup>
                          </m:sSubSup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1887" name=""/>
                  <p:cNvSpPr txBox="1"/>
                  <p:nvPr/>
                </p:nvSpPr>
                <p:spPr>
                  <a:xfrm>
                    <a:off x="5410080" y="380880"/>
                    <a:ext cx="2133720" cy="614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888" name=""/>
                <p:cNvSpPr txBox="1"/>
                <p:nvPr/>
              </p:nvSpPr>
              <p:spPr>
                <a:xfrm>
                  <a:off x="7334280" y="338040"/>
                  <a:ext cx="177948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  <m:sSubSup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8</m:t>
                          </m:r>
                        </m:sub>
                        <m:sup>
                          <m:r>
                            <m:t xml:space="preserve">7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97A3-3095-4049-9C56-25F66C9967A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9" name=""/>
          <p:cNvGrpSpPr/>
          <p:nvPr/>
        </p:nvGrpSpPr>
        <p:grpSpPr>
          <a:xfrm>
            <a:off x="1972080" y="6300720"/>
            <a:ext cx="629640" cy="555840"/>
            <a:chOff x="1972080" y="6300720"/>
            <a:chExt cx="629640" cy="555840"/>
          </a:xfrm>
        </p:grpSpPr>
        <p:sp>
          <p:nvSpPr>
            <p:cNvPr id="1890" name=""/>
            <p:cNvSpPr/>
            <p:nvPr/>
          </p:nvSpPr>
          <p:spPr>
            <a:xfrm>
              <a:off x="1972080" y="632448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279520" y="653580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315520" y="630072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3" name=""/>
          <p:cNvGrpSpPr/>
          <p:nvPr/>
        </p:nvGrpSpPr>
        <p:grpSpPr>
          <a:xfrm>
            <a:off x="4407480" y="6300720"/>
            <a:ext cx="629640" cy="555840"/>
            <a:chOff x="4407480" y="6300720"/>
            <a:chExt cx="629640" cy="555840"/>
          </a:xfrm>
        </p:grpSpPr>
        <p:sp>
          <p:nvSpPr>
            <p:cNvPr id="1894" name=""/>
            <p:cNvSpPr/>
            <p:nvPr/>
          </p:nvSpPr>
          <p:spPr>
            <a:xfrm>
              <a:off x="4407480" y="632448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4714920" y="653580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752360" y="630072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938160" y="2700360"/>
            <a:ext cx="7309080" cy="2433600"/>
            <a:chOff x="938160" y="2700360"/>
            <a:chExt cx="7309080" cy="2433600"/>
          </a:xfrm>
        </p:grpSpPr>
        <p:sp>
          <p:nvSpPr>
            <p:cNvPr id="1898" name=""/>
            <p:cNvSpPr/>
            <p:nvPr/>
          </p:nvSpPr>
          <p:spPr>
            <a:xfrm>
              <a:off x="6114960" y="3005280"/>
              <a:ext cx="2132280" cy="2128680"/>
            </a:xfrm>
            <a:prstGeom prst="line">
              <a:avLst/>
            </a:prstGeom>
            <a:ln w="507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810400" y="2700360"/>
              <a:ext cx="201600" cy="201600"/>
            </a:xfrm>
            <a:prstGeom prst="line">
              <a:avLst/>
            </a:prstGeom>
            <a:ln w="507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983040" y="2700360"/>
              <a:ext cx="1830240" cy="0"/>
            </a:xfrm>
            <a:prstGeom prst="line">
              <a:avLst/>
            </a:prstGeom>
            <a:ln w="507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375000" y="2700360"/>
              <a:ext cx="466920" cy="0"/>
            </a:xfrm>
            <a:prstGeom prst="line">
              <a:avLst/>
            </a:prstGeom>
            <a:ln w="507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938160" y="2700360"/>
              <a:ext cx="1079640" cy="0"/>
            </a:xfrm>
            <a:prstGeom prst="line">
              <a:avLst/>
            </a:prstGeom>
            <a:ln w="507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157480" y="2700360"/>
              <a:ext cx="1220760" cy="0"/>
            </a:xfrm>
            <a:prstGeom prst="line">
              <a:avLst/>
            </a:prstGeom>
            <a:ln w="507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4" name=""/>
          <p:cNvGrpSpPr/>
          <p:nvPr/>
        </p:nvGrpSpPr>
        <p:grpSpPr>
          <a:xfrm>
            <a:off x="937800" y="5133600"/>
            <a:ext cx="7312320" cy="1217880"/>
            <a:chOff x="937800" y="5133600"/>
            <a:chExt cx="7312320" cy="1217880"/>
          </a:xfrm>
        </p:grpSpPr>
        <p:sp>
          <p:nvSpPr>
            <p:cNvPr id="1905" name=""/>
            <p:cNvSpPr/>
            <p:nvPr/>
          </p:nvSpPr>
          <p:spPr>
            <a:xfrm>
              <a:off x="5810400" y="5133960"/>
              <a:ext cx="1990440" cy="0"/>
            </a:xfrm>
            <a:prstGeom prst="line">
              <a:avLst/>
            </a:prstGeom>
            <a:ln w="1260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7942320" y="5133960"/>
              <a:ext cx="307800" cy="0"/>
            </a:xfrm>
            <a:prstGeom prst="line">
              <a:avLst/>
            </a:prstGeom>
            <a:ln w="1260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H="1" flipV="1">
              <a:off x="1547640" y="5894280"/>
              <a:ext cx="1827360" cy="457200"/>
            </a:xfrm>
            <a:prstGeom prst="line">
              <a:avLst/>
            </a:prstGeom>
            <a:ln w="1260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H="1" flipV="1">
              <a:off x="937800" y="5742000"/>
              <a:ext cx="469800" cy="117360"/>
            </a:xfrm>
            <a:prstGeom prst="line">
              <a:avLst/>
            </a:prstGeom>
            <a:ln w="1260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V="1">
              <a:off x="3375000" y="5501880"/>
              <a:ext cx="1698480" cy="849240"/>
            </a:xfrm>
            <a:prstGeom prst="line">
              <a:avLst/>
            </a:prstGeom>
            <a:ln w="1260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V="1">
              <a:off x="5202360" y="5133600"/>
              <a:ext cx="608040" cy="304920"/>
            </a:xfrm>
            <a:prstGeom prst="line">
              <a:avLst/>
            </a:prstGeom>
            <a:ln w="1260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1" name=""/>
          <p:cNvSpPr/>
          <p:nvPr/>
        </p:nvSpPr>
        <p:spPr>
          <a:xfrm flipH="1" flipV="1">
            <a:off x="1547640" y="3460680"/>
            <a:ext cx="1827360" cy="455760"/>
          </a:xfrm>
          <a:prstGeom prst="line">
            <a:avLst/>
          </a:prstGeom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 flipH="1" flipV="1">
            <a:off x="937800" y="3308400"/>
            <a:ext cx="469800" cy="117360"/>
          </a:xfrm>
          <a:prstGeom prst="line">
            <a:avLst/>
          </a:prstGeom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 flipV="1">
            <a:off x="3375000" y="3066840"/>
            <a:ext cx="1698480" cy="849240"/>
          </a:xfrm>
          <a:prstGeom prst="line">
            <a:avLst/>
          </a:prstGeom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 flipV="1">
            <a:off x="5202360" y="2700000"/>
            <a:ext cx="608040" cy="304920"/>
          </a:xfrm>
          <a:prstGeom prst="line">
            <a:avLst/>
          </a:prstGeom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 flipH="1" flipV="1">
            <a:off x="1547640" y="4678200"/>
            <a:ext cx="1827360" cy="4557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flipH="1" flipV="1">
            <a:off x="937800" y="4525920"/>
            <a:ext cx="469800" cy="117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3983040" y="5133960"/>
            <a:ext cx="1830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3375000" y="5133960"/>
            <a:ext cx="4669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 flipH="1" flipV="1">
            <a:off x="1547640" y="2243160"/>
            <a:ext cx="1827360" cy="4572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 flipH="1" flipV="1">
            <a:off x="937800" y="2092320"/>
            <a:ext cx="469800" cy="117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1547640" y="2092320"/>
            <a:ext cx="183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1963800" y="263988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 flipV="1">
            <a:off x="938160" y="2276280"/>
            <a:ext cx="1687680" cy="42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2562120" y="2232000"/>
            <a:ext cx="204840" cy="117360"/>
          </a:xfrm>
          <a:custGeom>
            <a:avLst/>
            <a:gdLst/>
            <a:ahLst/>
            <a:rect l="l" t="t" r="r" b="b"/>
            <a:pathLst>
              <a:path w="129" h="74">
                <a:moveTo>
                  <a:pt x="19" y="73"/>
                </a:moveTo>
                <a:lnTo>
                  <a:pt x="24" y="33"/>
                </a:lnTo>
                <a:lnTo>
                  <a:pt x="0" y="0"/>
                </a:lnTo>
                <a:lnTo>
                  <a:pt x="128" y="7"/>
                </a:lnTo>
                <a:lnTo>
                  <a:pt x="19" y="7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 flipV="1">
            <a:off x="2765520" y="2091960"/>
            <a:ext cx="609480" cy="150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1344600" y="2139840"/>
            <a:ext cx="204840" cy="115920"/>
          </a:xfrm>
          <a:custGeom>
            <a:avLst/>
            <a:gdLst/>
            <a:ahLst/>
            <a:rect l="l" t="t" r="r" b="b"/>
            <a:pathLst>
              <a:path w="129" h="73">
                <a:moveTo>
                  <a:pt x="0" y="72"/>
                </a:moveTo>
                <a:lnTo>
                  <a:pt x="24" y="40"/>
                </a:lnTo>
                <a:lnTo>
                  <a:pt x="19" y="0"/>
                </a:lnTo>
                <a:lnTo>
                  <a:pt x="128" y="65"/>
                </a:lnTo>
                <a:lnTo>
                  <a:pt x="0" y="7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938160" y="2092320"/>
            <a:ext cx="4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1353960" y="2031840"/>
            <a:ext cx="19548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1547640" y="3308400"/>
            <a:ext cx="183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938160" y="3916440"/>
            <a:ext cx="1079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1963800" y="3857760"/>
            <a:ext cx="19512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0" y="75"/>
                </a:moveTo>
                <a:lnTo>
                  <a:pt x="15" y="37"/>
                </a:lnTo>
                <a:lnTo>
                  <a:pt x="0" y="0"/>
                </a:lnTo>
                <a:lnTo>
                  <a:pt x="122" y="37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2" name=""/>
          <p:cNvGrpSpPr/>
          <p:nvPr/>
        </p:nvGrpSpPr>
        <p:grpSpPr>
          <a:xfrm>
            <a:off x="938160" y="3308040"/>
            <a:ext cx="2436840" cy="608040"/>
            <a:chOff x="938160" y="3308040"/>
            <a:chExt cx="2436840" cy="608040"/>
          </a:xfrm>
        </p:grpSpPr>
        <p:sp>
          <p:nvSpPr>
            <p:cNvPr id="1933" name=""/>
            <p:cNvSpPr/>
            <p:nvPr/>
          </p:nvSpPr>
          <p:spPr>
            <a:xfrm flipV="1">
              <a:off x="938160" y="3493800"/>
              <a:ext cx="1687680" cy="42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2562120" y="3449520"/>
              <a:ext cx="204840" cy="117720"/>
            </a:xfrm>
            <a:custGeom>
              <a:avLst/>
              <a:gdLst/>
              <a:ahLst/>
              <a:rect l="l" t="t" r="r" b="b"/>
              <a:pathLst>
                <a:path w="129" h="74">
                  <a:moveTo>
                    <a:pt x="19" y="73"/>
                  </a:moveTo>
                  <a:lnTo>
                    <a:pt x="24" y="33"/>
                  </a:lnTo>
                  <a:lnTo>
                    <a:pt x="0" y="0"/>
                  </a:lnTo>
                  <a:lnTo>
                    <a:pt x="128" y="7"/>
                  </a:lnTo>
                  <a:lnTo>
                    <a:pt x="19" y="7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V="1">
              <a:off x="2765520" y="3308040"/>
              <a:ext cx="6094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1344600" y="3355920"/>
            <a:ext cx="204840" cy="117360"/>
          </a:xfrm>
          <a:custGeom>
            <a:avLst/>
            <a:gdLst/>
            <a:ahLst/>
            <a:rect l="l" t="t" r="r" b="b"/>
            <a:pathLst>
              <a:path w="129" h="74">
                <a:moveTo>
                  <a:pt x="0" y="73"/>
                </a:moveTo>
                <a:lnTo>
                  <a:pt x="24" y="40"/>
                </a:lnTo>
                <a:lnTo>
                  <a:pt x="19" y="0"/>
                </a:lnTo>
                <a:lnTo>
                  <a:pt x="128" y="66"/>
                </a:lnTo>
                <a:lnTo>
                  <a:pt x="0" y="7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938160" y="3308400"/>
            <a:ext cx="4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1353960" y="3247920"/>
            <a:ext cx="19548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2157480" y="3916440"/>
            <a:ext cx="122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1547640" y="4525920"/>
            <a:ext cx="183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938160" y="5133960"/>
            <a:ext cx="1079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1963800" y="507348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3" name=""/>
          <p:cNvGrpSpPr/>
          <p:nvPr/>
        </p:nvGrpSpPr>
        <p:grpSpPr>
          <a:xfrm>
            <a:off x="938160" y="4525560"/>
            <a:ext cx="2436840" cy="608040"/>
            <a:chOff x="938160" y="4525560"/>
            <a:chExt cx="2436840" cy="608040"/>
          </a:xfrm>
        </p:grpSpPr>
        <p:sp>
          <p:nvSpPr>
            <p:cNvPr id="1944" name=""/>
            <p:cNvSpPr/>
            <p:nvPr/>
          </p:nvSpPr>
          <p:spPr>
            <a:xfrm flipV="1">
              <a:off x="938160" y="4711320"/>
              <a:ext cx="1687680" cy="42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562120" y="4667400"/>
              <a:ext cx="204840" cy="115560"/>
            </a:xfrm>
            <a:custGeom>
              <a:avLst/>
              <a:gdLst/>
              <a:ahLst/>
              <a:rect l="l" t="t" r="r" b="b"/>
              <a:pathLst>
                <a:path w="129" h="73">
                  <a:moveTo>
                    <a:pt x="19" y="72"/>
                  </a:moveTo>
                  <a:lnTo>
                    <a:pt x="24" y="33"/>
                  </a:lnTo>
                  <a:lnTo>
                    <a:pt x="0" y="0"/>
                  </a:lnTo>
                  <a:lnTo>
                    <a:pt x="128" y="7"/>
                  </a:lnTo>
                  <a:lnTo>
                    <a:pt x="19" y="7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V="1">
              <a:off x="2765520" y="4525560"/>
              <a:ext cx="6094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7" name=""/>
          <p:cNvSpPr/>
          <p:nvPr/>
        </p:nvSpPr>
        <p:spPr>
          <a:xfrm>
            <a:off x="1344600" y="4573440"/>
            <a:ext cx="204840" cy="117720"/>
          </a:xfrm>
          <a:custGeom>
            <a:avLst/>
            <a:gdLst/>
            <a:ahLst/>
            <a:rect l="l" t="t" r="r" b="b"/>
            <a:pathLst>
              <a:path w="129" h="74">
                <a:moveTo>
                  <a:pt x="0" y="73"/>
                </a:moveTo>
                <a:lnTo>
                  <a:pt x="24" y="40"/>
                </a:lnTo>
                <a:lnTo>
                  <a:pt x="19" y="0"/>
                </a:lnTo>
                <a:lnTo>
                  <a:pt x="128" y="66"/>
                </a:lnTo>
                <a:lnTo>
                  <a:pt x="0" y="7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938160" y="4525920"/>
            <a:ext cx="4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353960" y="4465800"/>
            <a:ext cx="195480" cy="12204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2157480" y="5133960"/>
            <a:ext cx="122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547640" y="5742000"/>
            <a:ext cx="183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938160" y="6351480"/>
            <a:ext cx="1079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1963800" y="6291360"/>
            <a:ext cx="19512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0" y="75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4" name=""/>
          <p:cNvGrpSpPr/>
          <p:nvPr/>
        </p:nvGrpSpPr>
        <p:grpSpPr>
          <a:xfrm>
            <a:off x="938160" y="5741640"/>
            <a:ext cx="2436840" cy="609480"/>
            <a:chOff x="938160" y="5741640"/>
            <a:chExt cx="2436840" cy="609480"/>
          </a:xfrm>
        </p:grpSpPr>
        <p:sp>
          <p:nvSpPr>
            <p:cNvPr id="1955" name=""/>
            <p:cNvSpPr/>
            <p:nvPr/>
          </p:nvSpPr>
          <p:spPr>
            <a:xfrm flipV="1">
              <a:off x="938160" y="5927400"/>
              <a:ext cx="1687680" cy="42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562120" y="5883120"/>
              <a:ext cx="204840" cy="117720"/>
            </a:xfrm>
            <a:custGeom>
              <a:avLst/>
              <a:gdLst/>
              <a:ahLst/>
              <a:rect l="l" t="t" r="r" b="b"/>
              <a:pathLst>
                <a:path w="129" h="74">
                  <a:moveTo>
                    <a:pt x="19" y="73"/>
                  </a:moveTo>
                  <a:lnTo>
                    <a:pt x="24" y="33"/>
                  </a:lnTo>
                  <a:lnTo>
                    <a:pt x="0" y="0"/>
                  </a:lnTo>
                  <a:lnTo>
                    <a:pt x="128" y="7"/>
                  </a:lnTo>
                  <a:lnTo>
                    <a:pt x="19" y="7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V="1">
              <a:off x="2765520" y="5741640"/>
              <a:ext cx="6094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8" name=""/>
          <p:cNvSpPr/>
          <p:nvPr/>
        </p:nvSpPr>
        <p:spPr>
          <a:xfrm>
            <a:off x="1344600" y="5789520"/>
            <a:ext cx="204840" cy="117720"/>
          </a:xfrm>
          <a:custGeom>
            <a:avLst/>
            <a:gdLst/>
            <a:ahLst/>
            <a:rect l="l" t="t" r="r" b="b"/>
            <a:pathLst>
              <a:path w="129" h="74">
                <a:moveTo>
                  <a:pt x="0" y="73"/>
                </a:moveTo>
                <a:lnTo>
                  <a:pt x="24" y="40"/>
                </a:lnTo>
                <a:lnTo>
                  <a:pt x="19" y="0"/>
                </a:lnTo>
                <a:lnTo>
                  <a:pt x="128" y="66"/>
                </a:lnTo>
                <a:lnTo>
                  <a:pt x="0" y="7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938160" y="5742000"/>
            <a:ext cx="4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1353960" y="5681520"/>
            <a:ext cx="19548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2157480" y="6351480"/>
            <a:ext cx="122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983040" y="2092320"/>
            <a:ext cx="1830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3375000" y="2092320"/>
            <a:ext cx="4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790800" y="2031840"/>
            <a:ext cx="193680" cy="122400"/>
          </a:xfrm>
          <a:custGeom>
            <a:avLst/>
            <a:gdLst/>
            <a:ahLst/>
            <a:rect l="l" t="t" r="r" b="b"/>
            <a:pathLst>
              <a:path w="122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1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3375000" y="3308400"/>
            <a:ext cx="1684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5008680" y="324792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5202360" y="3308400"/>
            <a:ext cx="610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3375000" y="3916440"/>
            <a:ext cx="1684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5008680" y="3857760"/>
            <a:ext cx="19512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0" y="75"/>
                </a:moveTo>
                <a:lnTo>
                  <a:pt x="15" y="37"/>
                </a:lnTo>
                <a:lnTo>
                  <a:pt x="0" y="0"/>
                </a:lnTo>
                <a:lnTo>
                  <a:pt x="122" y="37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5202360" y="3916440"/>
            <a:ext cx="610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 flipV="1">
            <a:off x="3375000" y="2458800"/>
            <a:ext cx="1698480" cy="849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5002200" y="2395440"/>
            <a:ext cx="201600" cy="142920"/>
          </a:xfrm>
          <a:custGeom>
            <a:avLst/>
            <a:gdLst/>
            <a:ahLst/>
            <a:rect l="l" t="t" r="r" b="b"/>
            <a:pathLst>
              <a:path w="127" h="90">
                <a:moveTo>
                  <a:pt x="34" y="89"/>
                </a:moveTo>
                <a:lnTo>
                  <a:pt x="30" y="48"/>
                </a:lnTo>
                <a:lnTo>
                  <a:pt x="0" y="21"/>
                </a:lnTo>
                <a:lnTo>
                  <a:pt x="126" y="0"/>
                </a:lnTo>
                <a:lnTo>
                  <a:pt x="34" y="8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 flipV="1">
            <a:off x="5202360" y="2092320"/>
            <a:ext cx="608040" cy="303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5002200" y="3005280"/>
            <a:ext cx="201600" cy="141120"/>
          </a:xfrm>
          <a:custGeom>
            <a:avLst/>
            <a:gdLst/>
            <a:ahLst/>
            <a:rect l="l" t="t" r="r" b="b"/>
            <a:pathLst>
              <a:path w="127" h="89">
                <a:moveTo>
                  <a:pt x="34" y="88"/>
                </a:moveTo>
                <a:lnTo>
                  <a:pt x="30" y="47"/>
                </a:lnTo>
                <a:lnTo>
                  <a:pt x="0" y="21"/>
                </a:lnTo>
                <a:lnTo>
                  <a:pt x="126" y="0"/>
                </a:lnTo>
                <a:lnTo>
                  <a:pt x="34" y="8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3983040" y="2395440"/>
            <a:ext cx="1827360" cy="912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3375000" y="2092320"/>
            <a:ext cx="480960" cy="237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784680" y="2254320"/>
            <a:ext cx="199800" cy="142920"/>
          </a:xfrm>
          <a:custGeom>
            <a:avLst/>
            <a:gdLst/>
            <a:ahLst/>
            <a:rect l="l" t="t" r="r" b="b"/>
            <a:pathLst>
              <a:path w="126" h="90">
                <a:moveTo>
                  <a:pt x="0" y="68"/>
                </a:moveTo>
                <a:lnTo>
                  <a:pt x="30" y="41"/>
                </a:lnTo>
                <a:lnTo>
                  <a:pt x="34" y="0"/>
                </a:lnTo>
                <a:lnTo>
                  <a:pt x="125" y="89"/>
                </a:lnTo>
                <a:lnTo>
                  <a:pt x="0" y="6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3790800" y="2639880"/>
            <a:ext cx="193680" cy="122400"/>
          </a:xfrm>
          <a:custGeom>
            <a:avLst/>
            <a:gdLst/>
            <a:ahLst/>
            <a:rect l="l" t="t" r="r" b="b"/>
            <a:pathLst>
              <a:path w="122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1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3983040" y="3005280"/>
            <a:ext cx="1827360" cy="911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375000" y="2700360"/>
            <a:ext cx="480960" cy="239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3784680" y="2863800"/>
            <a:ext cx="199800" cy="142920"/>
          </a:xfrm>
          <a:custGeom>
            <a:avLst/>
            <a:gdLst/>
            <a:ahLst/>
            <a:rect l="l" t="t" r="r" b="b"/>
            <a:pathLst>
              <a:path w="126" h="90">
                <a:moveTo>
                  <a:pt x="0" y="68"/>
                </a:moveTo>
                <a:lnTo>
                  <a:pt x="30" y="41"/>
                </a:lnTo>
                <a:lnTo>
                  <a:pt x="34" y="0"/>
                </a:lnTo>
                <a:lnTo>
                  <a:pt x="125" y="89"/>
                </a:lnTo>
                <a:lnTo>
                  <a:pt x="0" y="6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3983040" y="4525920"/>
            <a:ext cx="1830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375000" y="4525920"/>
            <a:ext cx="4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3790800" y="4465800"/>
            <a:ext cx="193680" cy="122040"/>
          </a:xfrm>
          <a:custGeom>
            <a:avLst/>
            <a:gdLst/>
            <a:ahLst/>
            <a:rect l="l" t="t" r="r" b="b"/>
            <a:pathLst>
              <a:path w="122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1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3375000" y="5742000"/>
            <a:ext cx="1684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5008680" y="568152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5202360" y="5742000"/>
            <a:ext cx="610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3375000" y="6351480"/>
            <a:ext cx="1684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5008680" y="6291360"/>
            <a:ext cx="19512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0" y="75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5202360" y="6351480"/>
            <a:ext cx="610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 flipV="1">
            <a:off x="3375000" y="4892400"/>
            <a:ext cx="1698480" cy="849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5002200" y="4829040"/>
            <a:ext cx="201600" cy="142920"/>
          </a:xfrm>
          <a:custGeom>
            <a:avLst/>
            <a:gdLst/>
            <a:ahLst/>
            <a:rect l="l" t="t" r="r" b="b"/>
            <a:pathLst>
              <a:path w="127" h="90">
                <a:moveTo>
                  <a:pt x="34" y="89"/>
                </a:moveTo>
                <a:lnTo>
                  <a:pt x="30" y="48"/>
                </a:lnTo>
                <a:lnTo>
                  <a:pt x="0" y="21"/>
                </a:lnTo>
                <a:lnTo>
                  <a:pt x="126" y="0"/>
                </a:lnTo>
                <a:lnTo>
                  <a:pt x="34" y="8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 flipV="1">
            <a:off x="5202360" y="4525920"/>
            <a:ext cx="608040" cy="303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5002200" y="5438880"/>
            <a:ext cx="201600" cy="141120"/>
          </a:xfrm>
          <a:custGeom>
            <a:avLst/>
            <a:gdLst/>
            <a:ahLst/>
            <a:rect l="l" t="t" r="r" b="b"/>
            <a:pathLst>
              <a:path w="127" h="89">
                <a:moveTo>
                  <a:pt x="34" y="88"/>
                </a:moveTo>
                <a:lnTo>
                  <a:pt x="30" y="48"/>
                </a:lnTo>
                <a:lnTo>
                  <a:pt x="0" y="21"/>
                </a:lnTo>
                <a:lnTo>
                  <a:pt x="126" y="0"/>
                </a:lnTo>
                <a:lnTo>
                  <a:pt x="34" y="8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5" name=""/>
          <p:cNvGrpSpPr/>
          <p:nvPr/>
        </p:nvGrpSpPr>
        <p:grpSpPr>
          <a:xfrm>
            <a:off x="3375000" y="4525920"/>
            <a:ext cx="2435400" cy="1216080"/>
            <a:chOff x="3375000" y="4525920"/>
            <a:chExt cx="2435400" cy="1216080"/>
          </a:xfrm>
        </p:grpSpPr>
        <p:sp>
          <p:nvSpPr>
            <p:cNvPr id="1996" name=""/>
            <p:cNvSpPr/>
            <p:nvPr/>
          </p:nvSpPr>
          <p:spPr>
            <a:xfrm>
              <a:off x="3983040" y="4829040"/>
              <a:ext cx="1827360" cy="9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3375000" y="4525920"/>
              <a:ext cx="480960" cy="23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3784680" y="4689360"/>
              <a:ext cx="199800" cy="141480"/>
            </a:xfrm>
            <a:custGeom>
              <a:avLst/>
              <a:gdLst/>
              <a:ahLst/>
              <a:rect l="l" t="t" r="r" b="b"/>
              <a:pathLst>
                <a:path w="126" h="89">
                  <a:moveTo>
                    <a:pt x="0" y="67"/>
                  </a:moveTo>
                  <a:lnTo>
                    <a:pt x="30" y="40"/>
                  </a:lnTo>
                  <a:lnTo>
                    <a:pt x="34" y="0"/>
                  </a:lnTo>
                  <a:lnTo>
                    <a:pt x="125" y="88"/>
                  </a:lnTo>
                  <a:lnTo>
                    <a:pt x="0" y="6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9" name=""/>
          <p:cNvSpPr/>
          <p:nvPr/>
        </p:nvSpPr>
        <p:spPr>
          <a:xfrm>
            <a:off x="3790800" y="5073480"/>
            <a:ext cx="193680" cy="122400"/>
          </a:xfrm>
          <a:custGeom>
            <a:avLst/>
            <a:gdLst/>
            <a:ahLst/>
            <a:rect l="l" t="t" r="r" b="b"/>
            <a:pathLst>
              <a:path w="122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1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0" name=""/>
          <p:cNvGrpSpPr/>
          <p:nvPr/>
        </p:nvGrpSpPr>
        <p:grpSpPr>
          <a:xfrm>
            <a:off x="3375000" y="5133960"/>
            <a:ext cx="2435400" cy="1217520"/>
            <a:chOff x="3375000" y="5133960"/>
            <a:chExt cx="2435400" cy="1217520"/>
          </a:xfrm>
        </p:grpSpPr>
        <p:sp>
          <p:nvSpPr>
            <p:cNvPr id="2001" name=""/>
            <p:cNvSpPr/>
            <p:nvPr/>
          </p:nvSpPr>
          <p:spPr>
            <a:xfrm>
              <a:off x="3983040" y="5438880"/>
              <a:ext cx="1827360" cy="9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375000" y="5133960"/>
              <a:ext cx="4809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784680" y="5297400"/>
              <a:ext cx="199800" cy="142920"/>
            </a:xfrm>
            <a:custGeom>
              <a:avLst/>
              <a:gdLst/>
              <a:ahLst/>
              <a:rect l="l" t="t" r="r" b="b"/>
              <a:pathLst>
                <a:path w="126" h="90">
                  <a:moveTo>
                    <a:pt x="0" y="68"/>
                  </a:moveTo>
                  <a:lnTo>
                    <a:pt x="30" y="41"/>
                  </a:lnTo>
                  <a:lnTo>
                    <a:pt x="34" y="0"/>
                  </a:lnTo>
                  <a:lnTo>
                    <a:pt x="125" y="89"/>
                  </a:lnTo>
                  <a:lnTo>
                    <a:pt x="0" y="6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4" name=""/>
          <p:cNvSpPr/>
          <p:nvPr/>
        </p:nvSpPr>
        <p:spPr>
          <a:xfrm>
            <a:off x="5810400" y="4525920"/>
            <a:ext cx="199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7748640" y="4465800"/>
            <a:ext cx="195120" cy="12204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7942320" y="4525920"/>
            <a:ext cx="307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 flipV="1">
            <a:off x="5810400" y="2499840"/>
            <a:ext cx="2025360" cy="2025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7763040" y="2395440"/>
            <a:ext cx="180720" cy="18108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54" y="113"/>
                </a:moveTo>
                <a:lnTo>
                  <a:pt x="37" y="76"/>
                </a:lnTo>
                <a:lnTo>
                  <a:pt x="0" y="59"/>
                </a:lnTo>
                <a:lnTo>
                  <a:pt x="113" y="0"/>
                </a:lnTo>
                <a:lnTo>
                  <a:pt x="54" y="11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 flipV="1">
            <a:off x="7942320" y="2092320"/>
            <a:ext cx="304920" cy="303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6114960" y="2395440"/>
            <a:ext cx="2132280" cy="2130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5810400" y="2092320"/>
            <a:ext cx="201600" cy="200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5935680" y="2217600"/>
            <a:ext cx="181080" cy="179640"/>
          </a:xfrm>
          <a:custGeom>
            <a:avLst/>
            <a:gdLst/>
            <a:ahLst/>
            <a:rect l="l" t="t" r="r" b="b"/>
            <a:pathLst>
              <a:path w="114" h="113">
                <a:moveTo>
                  <a:pt x="0" y="53"/>
                </a:moveTo>
                <a:lnTo>
                  <a:pt x="37" y="36"/>
                </a:lnTo>
                <a:lnTo>
                  <a:pt x="54" y="0"/>
                </a:lnTo>
                <a:lnTo>
                  <a:pt x="113" y="112"/>
                </a:lnTo>
                <a:lnTo>
                  <a:pt x="0" y="5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 flipV="1">
            <a:off x="5810400" y="3107880"/>
            <a:ext cx="2025360" cy="2025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7763040" y="3005280"/>
            <a:ext cx="180720" cy="179280"/>
          </a:xfrm>
          <a:custGeom>
            <a:avLst/>
            <a:gdLst/>
            <a:ahLst/>
            <a:rect l="l" t="t" r="r" b="b"/>
            <a:pathLst>
              <a:path w="114" h="113">
                <a:moveTo>
                  <a:pt x="54" y="112"/>
                </a:moveTo>
                <a:lnTo>
                  <a:pt x="37" y="75"/>
                </a:lnTo>
                <a:lnTo>
                  <a:pt x="0" y="58"/>
                </a:lnTo>
                <a:lnTo>
                  <a:pt x="113" y="0"/>
                </a:lnTo>
                <a:lnTo>
                  <a:pt x="54" y="11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 flipV="1">
            <a:off x="7942320" y="2700000"/>
            <a:ext cx="30492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 flipV="1">
            <a:off x="5810400" y="3718080"/>
            <a:ext cx="2025360" cy="2023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7763040" y="3613320"/>
            <a:ext cx="180720" cy="18072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54" y="113"/>
                </a:moveTo>
                <a:lnTo>
                  <a:pt x="37" y="76"/>
                </a:lnTo>
                <a:lnTo>
                  <a:pt x="0" y="59"/>
                </a:lnTo>
                <a:lnTo>
                  <a:pt x="113" y="0"/>
                </a:lnTo>
                <a:lnTo>
                  <a:pt x="54" y="11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 flipV="1">
            <a:off x="7942320" y="3308040"/>
            <a:ext cx="30492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 flipV="1">
            <a:off x="5810400" y="4325400"/>
            <a:ext cx="2025360" cy="2025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7763040" y="4221000"/>
            <a:ext cx="180720" cy="18108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54" y="113"/>
                </a:moveTo>
                <a:lnTo>
                  <a:pt x="37" y="76"/>
                </a:lnTo>
                <a:lnTo>
                  <a:pt x="0" y="59"/>
                </a:lnTo>
                <a:lnTo>
                  <a:pt x="113" y="0"/>
                </a:lnTo>
                <a:lnTo>
                  <a:pt x="54" y="11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 flipV="1">
            <a:off x="7942320" y="3916440"/>
            <a:ext cx="30492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5935680" y="2825640"/>
            <a:ext cx="181080" cy="18108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0" y="54"/>
                </a:moveTo>
                <a:lnTo>
                  <a:pt x="37" y="37"/>
                </a:lnTo>
                <a:lnTo>
                  <a:pt x="54" y="0"/>
                </a:lnTo>
                <a:lnTo>
                  <a:pt x="113" y="113"/>
                </a:lnTo>
                <a:lnTo>
                  <a:pt x="0" y="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6114960" y="3613320"/>
            <a:ext cx="2132280" cy="2128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5810400" y="3308400"/>
            <a:ext cx="201600" cy="20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5935680" y="3433680"/>
            <a:ext cx="181080" cy="18108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0" y="54"/>
                </a:moveTo>
                <a:lnTo>
                  <a:pt x="37" y="37"/>
                </a:lnTo>
                <a:lnTo>
                  <a:pt x="54" y="0"/>
                </a:lnTo>
                <a:lnTo>
                  <a:pt x="113" y="113"/>
                </a:lnTo>
                <a:lnTo>
                  <a:pt x="0" y="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6114960" y="4221000"/>
            <a:ext cx="2132280" cy="2130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5810400" y="3916440"/>
            <a:ext cx="201600" cy="20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5935680" y="4041720"/>
            <a:ext cx="181080" cy="18108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0" y="54"/>
                </a:moveTo>
                <a:lnTo>
                  <a:pt x="37" y="37"/>
                </a:lnTo>
                <a:lnTo>
                  <a:pt x="54" y="0"/>
                </a:lnTo>
                <a:lnTo>
                  <a:pt x="113" y="113"/>
                </a:lnTo>
                <a:lnTo>
                  <a:pt x="0" y="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7748640" y="507348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5810400" y="5742000"/>
            <a:ext cx="199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7748640" y="568152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7942320" y="5742000"/>
            <a:ext cx="307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5810400" y="6351480"/>
            <a:ext cx="199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7748640" y="6291360"/>
            <a:ext cx="19512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0" y="75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7942320" y="6351480"/>
            <a:ext cx="307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6191280" y="2700360"/>
            <a:ext cx="2058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5810400" y="2700360"/>
            <a:ext cx="237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5997600" y="263988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6191280" y="3308400"/>
            <a:ext cx="2058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5810400" y="3308400"/>
            <a:ext cx="237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5997600" y="324792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6191280" y="3916440"/>
            <a:ext cx="2058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5810400" y="3916440"/>
            <a:ext cx="237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5997600" y="3857760"/>
            <a:ext cx="19512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0" y="75"/>
                </a:moveTo>
                <a:lnTo>
                  <a:pt x="15" y="37"/>
                </a:lnTo>
                <a:lnTo>
                  <a:pt x="0" y="0"/>
                </a:lnTo>
                <a:lnTo>
                  <a:pt x="122" y="37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876240" y="202896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876240" y="263700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876240" y="3244680"/>
            <a:ext cx="127080" cy="128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876240" y="3854520"/>
            <a:ext cx="12708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876240" y="446256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876240" y="507060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876240" y="567864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876240" y="6288120"/>
            <a:ext cx="12708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311640" y="20289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311640" y="26370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311640" y="3244680"/>
            <a:ext cx="128520" cy="128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311640" y="38545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3311640" y="44625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3311640" y="50706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3311640" y="567864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311640" y="62881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5746680" y="20289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5746680" y="26370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5746680" y="3244680"/>
            <a:ext cx="128520" cy="128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5746680" y="38545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5746680" y="44625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5746680" y="50706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5746680" y="567864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5746680" y="62881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8183520" y="20289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8183520" y="26370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8183520" y="3244680"/>
            <a:ext cx="128520" cy="128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8183520" y="38545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8183520" y="44625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8183520" y="50706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8183520" y="567864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8183520" y="62881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6191280" y="2092320"/>
            <a:ext cx="2058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5810400" y="2092320"/>
            <a:ext cx="237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5997600" y="203184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161640" y="180180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259200" y="180180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161640" y="240984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259200" y="240984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161640" y="301788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259200" y="301788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161640" y="36259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259200" y="362592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61640" y="423540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259200" y="423540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61640" y="484344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259200" y="484344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161640" y="545148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259200" y="545148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161640" y="60595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259200" y="605952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8308080" y="187632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8308080" y="248616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8308080" y="309420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8308080" y="370188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8308080" y="431172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8308080" y="491976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8308080" y="552780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8308080" y="613584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2656440" y="214164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2963880" y="235260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001320" y="21178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1972080" y="267480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2279520" y="28843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2315520" y="265104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2656440" y="335916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2963880" y="35701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3001320" y="333540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1972080" y="389088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2279520" y="410220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2315520" y="386712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2656440" y="457524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963880" y="478620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001320" y="45514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1972080" y="510840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2279520" y="53197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2315520" y="508464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2656440" y="579276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2963880" y="600408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3001320" y="576900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407480" y="206532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4714920" y="227664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4752360" y="204156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4407480" y="267480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4714920" y="28843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4752360" y="265104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4407480" y="328284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4714920" y="349416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4752360" y="32590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4407480" y="389088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4714920" y="410220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4752360" y="386712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4407480" y="449892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4714920" y="471024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4752360" y="447660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4407480" y="510840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714920" y="53197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4752360" y="508464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4407480" y="571644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4714920" y="592776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4752360" y="56926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7604640" y="206532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7912080" y="227664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7949520" y="204156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7604640" y="267480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7912080" y="28843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7936920" y="265104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7604640" y="328284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7912080" y="349416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7949520" y="32590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7604640" y="389088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7912080" y="410220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7949520" y="386712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7604640" y="449892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7912080" y="471024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7949520" y="447660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7604640" y="510840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7912080" y="53197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7943040" y="508464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7604640" y="571644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7912080" y="592776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7949520" y="56926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7" name=""/>
          <p:cNvGrpSpPr/>
          <p:nvPr/>
        </p:nvGrpSpPr>
        <p:grpSpPr>
          <a:xfrm>
            <a:off x="7604640" y="6300720"/>
            <a:ext cx="629640" cy="555840"/>
            <a:chOff x="7604640" y="6300720"/>
            <a:chExt cx="629640" cy="555840"/>
          </a:xfrm>
        </p:grpSpPr>
        <p:sp>
          <p:nvSpPr>
            <p:cNvPr id="2168" name=""/>
            <p:cNvSpPr/>
            <p:nvPr/>
          </p:nvSpPr>
          <p:spPr>
            <a:xfrm>
              <a:off x="7604640" y="632448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7912080" y="653580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7949520" y="630072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71" name=""/>
          <p:cNvGrpSpPr/>
          <p:nvPr/>
        </p:nvGrpSpPr>
        <p:grpSpPr>
          <a:xfrm>
            <a:off x="1971720" y="338040"/>
            <a:ext cx="7142040" cy="1406520"/>
            <a:chOff x="1971720" y="338040"/>
            <a:chExt cx="7142040" cy="1406520"/>
          </a:xfrm>
        </p:grpSpPr>
        <p:grpSp>
          <p:nvGrpSpPr>
            <p:cNvPr id="2172" name=""/>
            <p:cNvGrpSpPr/>
            <p:nvPr/>
          </p:nvGrpSpPr>
          <p:grpSpPr>
            <a:xfrm>
              <a:off x="1971720" y="338040"/>
              <a:ext cx="7142040" cy="663840"/>
              <a:chOff x="1971720" y="338040"/>
              <a:chExt cx="7142040" cy="663840"/>
            </a:xfrm>
          </p:grpSpPr>
          <p:grpSp>
            <p:nvGrpSpPr>
              <p:cNvPr id="2173" name=""/>
              <p:cNvGrpSpPr/>
              <p:nvPr/>
            </p:nvGrpSpPr>
            <p:grpSpPr>
              <a:xfrm>
                <a:off x="1971720" y="380880"/>
                <a:ext cx="5572080" cy="621000"/>
                <a:chOff x="1971720" y="380880"/>
                <a:chExt cx="5572080" cy="621000"/>
              </a:xfrm>
            </p:grpSpPr>
            <p:grpSp>
              <p:nvGrpSpPr>
                <p:cNvPr id="2174" name=""/>
                <p:cNvGrpSpPr/>
                <p:nvPr/>
              </p:nvGrpSpPr>
              <p:grpSpPr>
                <a:xfrm>
                  <a:off x="1971720" y="414360"/>
                  <a:ext cx="3508200" cy="587520"/>
                  <a:chOff x="1971720" y="414360"/>
                  <a:chExt cx="3508200" cy="587520"/>
                </a:xfrm>
              </p:grpSpPr>
              <mc:AlternateContent>
                <mc:Choice xmlns:a14="http://schemas.microsoft.com/office/drawing/2010/main" Requires="a14">
                  <p:sp>
                    <p:nvSpPr>
                      <p:cNvPr id="2175" name=""/>
                      <p:cNvSpPr txBox="1"/>
                      <p:nvPr/>
                    </p:nvSpPr>
                    <p:spPr>
                      <a:xfrm>
                        <a:off x="1971720" y="536400"/>
                        <a:ext cx="1219320" cy="46548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2176" name=""/>
                      <p:cNvSpPr txBox="1"/>
                      <p:nvPr/>
                    </p:nvSpPr>
                    <p:spPr>
                      <a:xfrm>
                        <a:off x="3228840" y="509760"/>
                        <a:ext cx="801720" cy="4809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2177" name=""/>
                      <p:cNvSpPr txBox="1"/>
                      <p:nvPr/>
                    </p:nvSpPr>
                    <p:spPr>
                      <a:xfrm>
                        <a:off x="4019400" y="611280"/>
                        <a:ext cx="303480" cy="3031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+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2178" name=""/>
                      <p:cNvSpPr txBox="1"/>
                      <p:nvPr/>
                    </p:nvSpPr>
                    <p:spPr>
                      <a:xfrm>
                        <a:off x="4267080" y="414360"/>
                        <a:ext cx="1212840" cy="5763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8</m:t>
                                </m:r>
                              </m:sub>
                              <m:sup>
                                <m:r>
                                  <m:t xml:space="preserve">5</m:t>
                                </m:r>
                              </m:sup>
                            </m:sSubSup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mc:AlternateContent>
              <mc:Choice xmlns:a14="http://schemas.microsoft.com/office/drawing/2010/main" Requires="a14">
                <p:sp>
                  <p:nvSpPr>
                    <p:cNvPr id="2179" name=""/>
                    <p:cNvSpPr txBox="1"/>
                    <p:nvPr/>
                  </p:nvSpPr>
                  <p:spPr>
                    <a:xfrm>
                      <a:off x="5410080" y="380880"/>
                      <a:ext cx="2133720" cy="614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+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  <m:sSubSup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8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2180" name=""/>
                  <p:cNvSpPr txBox="1"/>
                  <p:nvPr/>
                </p:nvSpPr>
                <p:spPr>
                  <a:xfrm>
                    <a:off x="7334280" y="338040"/>
                    <a:ext cx="1779480" cy="642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181" name=""/>
                <p:cNvSpPr txBox="1"/>
                <p:nvPr/>
              </p:nvSpPr>
              <p:spPr>
                <a:xfrm>
                  <a:off x="2066760" y="1176480"/>
                  <a:ext cx="1590840" cy="56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  <m:sSubSup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8</m:t>
                          </m:r>
                        </m:sub>
                        <m:sup>
                          <m:r>
                            <m:t xml:space="preserve">4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242F-5985-4EEB-92A8-461EA27E051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okazano je da možemo iskoristit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eriodičnost i simetričnost kompleks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eksponencij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08040" y="4437000"/>
          <a:ext cx="808020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4437000"/>
                    <a:ext cx="808020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6775-89A5-408A-91E3-D7EF17FE5F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2" name=""/>
          <p:cNvGrpSpPr/>
          <p:nvPr/>
        </p:nvGrpSpPr>
        <p:grpSpPr>
          <a:xfrm>
            <a:off x="1972080" y="6300720"/>
            <a:ext cx="629640" cy="555840"/>
            <a:chOff x="1972080" y="6300720"/>
            <a:chExt cx="629640" cy="555840"/>
          </a:xfrm>
        </p:grpSpPr>
        <p:sp>
          <p:nvSpPr>
            <p:cNvPr id="2183" name=""/>
            <p:cNvSpPr/>
            <p:nvPr/>
          </p:nvSpPr>
          <p:spPr>
            <a:xfrm>
              <a:off x="1972080" y="632448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2279520" y="653580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2315520" y="630072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6" name=""/>
          <p:cNvGrpSpPr/>
          <p:nvPr/>
        </p:nvGrpSpPr>
        <p:grpSpPr>
          <a:xfrm>
            <a:off x="4407480" y="6300720"/>
            <a:ext cx="629640" cy="555840"/>
            <a:chOff x="4407480" y="6300720"/>
            <a:chExt cx="629640" cy="555840"/>
          </a:xfrm>
        </p:grpSpPr>
        <p:sp>
          <p:nvSpPr>
            <p:cNvPr id="2187" name=""/>
            <p:cNvSpPr/>
            <p:nvPr/>
          </p:nvSpPr>
          <p:spPr>
            <a:xfrm>
              <a:off x="4407480" y="632448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714920" y="653580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752360" y="630072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0" name=""/>
          <p:cNvGrpSpPr/>
          <p:nvPr/>
        </p:nvGrpSpPr>
        <p:grpSpPr>
          <a:xfrm>
            <a:off x="938160" y="5133960"/>
            <a:ext cx="7311960" cy="0"/>
            <a:chOff x="938160" y="5133960"/>
            <a:chExt cx="7311960" cy="0"/>
          </a:xfrm>
        </p:grpSpPr>
        <p:sp>
          <p:nvSpPr>
            <p:cNvPr id="2191" name=""/>
            <p:cNvSpPr/>
            <p:nvPr/>
          </p:nvSpPr>
          <p:spPr>
            <a:xfrm>
              <a:off x="5810400" y="5133960"/>
              <a:ext cx="1990440" cy="0"/>
            </a:xfrm>
            <a:prstGeom prst="line">
              <a:avLst/>
            </a:prstGeom>
            <a:ln w="507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7942320" y="5133960"/>
              <a:ext cx="307800" cy="0"/>
            </a:xfrm>
            <a:prstGeom prst="line">
              <a:avLst/>
            </a:prstGeom>
            <a:ln w="507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3983040" y="5133960"/>
              <a:ext cx="1830240" cy="0"/>
            </a:xfrm>
            <a:prstGeom prst="line">
              <a:avLst/>
            </a:prstGeom>
            <a:ln w="507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3375000" y="5133960"/>
              <a:ext cx="466920" cy="0"/>
            </a:xfrm>
            <a:prstGeom prst="line">
              <a:avLst/>
            </a:prstGeom>
            <a:ln w="507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938160" y="5133960"/>
              <a:ext cx="1079640" cy="0"/>
            </a:xfrm>
            <a:prstGeom prst="line">
              <a:avLst/>
            </a:prstGeom>
            <a:ln w="507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2157480" y="5133960"/>
              <a:ext cx="1220760" cy="0"/>
            </a:xfrm>
            <a:prstGeom prst="line">
              <a:avLst/>
            </a:prstGeom>
            <a:ln w="507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7" name=""/>
          <p:cNvGrpSpPr/>
          <p:nvPr/>
        </p:nvGrpSpPr>
        <p:grpSpPr>
          <a:xfrm>
            <a:off x="938160" y="2700360"/>
            <a:ext cx="7309080" cy="2433600"/>
            <a:chOff x="938160" y="2700360"/>
            <a:chExt cx="7309080" cy="2433600"/>
          </a:xfrm>
        </p:grpSpPr>
        <p:sp>
          <p:nvSpPr>
            <p:cNvPr id="2198" name=""/>
            <p:cNvSpPr/>
            <p:nvPr/>
          </p:nvSpPr>
          <p:spPr>
            <a:xfrm>
              <a:off x="6114960" y="3005280"/>
              <a:ext cx="2132280" cy="212868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5810400" y="2700360"/>
              <a:ext cx="201600" cy="20160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3983040" y="2700360"/>
              <a:ext cx="1830240" cy="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375000" y="2700360"/>
              <a:ext cx="466920" cy="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938160" y="2700360"/>
              <a:ext cx="1079640" cy="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157480" y="2700360"/>
              <a:ext cx="1220760" cy="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4" name=""/>
          <p:cNvSpPr/>
          <p:nvPr/>
        </p:nvSpPr>
        <p:spPr>
          <a:xfrm flipH="1" flipV="1">
            <a:off x="1547640" y="5894280"/>
            <a:ext cx="1827360" cy="457200"/>
          </a:xfrm>
          <a:prstGeom prst="line">
            <a:avLst/>
          </a:prstGeom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 flipH="1" flipV="1">
            <a:off x="937800" y="5742000"/>
            <a:ext cx="469800" cy="117360"/>
          </a:xfrm>
          <a:prstGeom prst="line">
            <a:avLst/>
          </a:prstGeom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 flipV="1">
            <a:off x="3375000" y="5501880"/>
            <a:ext cx="1698480" cy="849240"/>
          </a:xfrm>
          <a:prstGeom prst="line">
            <a:avLst/>
          </a:prstGeom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 flipV="1">
            <a:off x="5202360" y="5133600"/>
            <a:ext cx="608040" cy="304920"/>
          </a:xfrm>
          <a:prstGeom prst="line">
            <a:avLst/>
          </a:prstGeom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 flipH="1" flipV="1">
            <a:off x="1547640" y="3460680"/>
            <a:ext cx="1827360" cy="455760"/>
          </a:xfrm>
          <a:prstGeom prst="line">
            <a:avLst/>
          </a:prstGeom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 flipH="1" flipV="1">
            <a:off x="937800" y="3308400"/>
            <a:ext cx="469800" cy="117360"/>
          </a:xfrm>
          <a:prstGeom prst="line">
            <a:avLst/>
          </a:prstGeom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 flipV="1">
            <a:off x="3375000" y="3066840"/>
            <a:ext cx="1698480" cy="849240"/>
          </a:xfrm>
          <a:prstGeom prst="line">
            <a:avLst/>
          </a:prstGeom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 flipV="1">
            <a:off x="5202360" y="2700000"/>
            <a:ext cx="608040" cy="304920"/>
          </a:xfrm>
          <a:prstGeom prst="line">
            <a:avLst/>
          </a:prstGeom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H="1" flipV="1">
            <a:off x="1547640" y="4678200"/>
            <a:ext cx="1827360" cy="4557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 flipV="1">
            <a:off x="937800" y="4525920"/>
            <a:ext cx="469800" cy="117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 flipH="1" flipV="1">
            <a:off x="1547640" y="2243160"/>
            <a:ext cx="1827360" cy="4572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 flipH="1" flipV="1">
            <a:off x="937800" y="2092320"/>
            <a:ext cx="469800" cy="117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1547640" y="2092320"/>
            <a:ext cx="183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1963800" y="263988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 flipV="1">
            <a:off x="938160" y="2276280"/>
            <a:ext cx="1687680" cy="42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2562120" y="2232000"/>
            <a:ext cx="204840" cy="117360"/>
          </a:xfrm>
          <a:custGeom>
            <a:avLst/>
            <a:gdLst/>
            <a:ahLst/>
            <a:rect l="l" t="t" r="r" b="b"/>
            <a:pathLst>
              <a:path w="129" h="74">
                <a:moveTo>
                  <a:pt x="19" y="73"/>
                </a:moveTo>
                <a:lnTo>
                  <a:pt x="24" y="33"/>
                </a:lnTo>
                <a:lnTo>
                  <a:pt x="0" y="0"/>
                </a:lnTo>
                <a:lnTo>
                  <a:pt x="128" y="7"/>
                </a:lnTo>
                <a:lnTo>
                  <a:pt x="19" y="7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 flipV="1">
            <a:off x="2765520" y="2091960"/>
            <a:ext cx="609480" cy="150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1344600" y="2139840"/>
            <a:ext cx="204840" cy="115920"/>
          </a:xfrm>
          <a:custGeom>
            <a:avLst/>
            <a:gdLst/>
            <a:ahLst/>
            <a:rect l="l" t="t" r="r" b="b"/>
            <a:pathLst>
              <a:path w="129" h="73">
                <a:moveTo>
                  <a:pt x="0" y="72"/>
                </a:moveTo>
                <a:lnTo>
                  <a:pt x="24" y="40"/>
                </a:lnTo>
                <a:lnTo>
                  <a:pt x="19" y="0"/>
                </a:lnTo>
                <a:lnTo>
                  <a:pt x="128" y="65"/>
                </a:lnTo>
                <a:lnTo>
                  <a:pt x="0" y="7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938160" y="2092320"/>
            <a:ext cx="4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1353960" y="2031840"/>
            <a:ext cx="19548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1547640" y="3308400"/>
            <a:ext cx="183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938160" y="3916440"/>
            <a:ext cx="1079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1963800" y="3857760"/>
            <a:ext cx="19512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0" y="75"/>
                </a:moveTo>
                <a:lnTo>
                  <a:pt x="15" y="37"/>
                </a:lnTo>
                <a:lnTo>
                  <a:pt x="0" y="0"/>
                </a:lnTo>
                <a:lnTo>
                  <a:pt x="122" y="37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27" name=""/>
          <p:cNvGrpSpPr/>
          <p:nvPr/>
        </p:nvGrpSpPr>
        <p:grpSpPr>
          <a:xfrm>
            <a:off x="938160" y="3308040"/>
            <a:ext cx="2436840" cy="608040"/>
            <a:chOff x="938160" y="3308040"/>
            <a:chExt cx="2436840" cy="608040"/>
          </a:xfrm>
        </p:grpSpPr>
        <p:sp>
          <p:nvSpPr>
            <p:cNvPr id="2228" name=""/>
            <p:cNvSpPr/>
            <p:nvPr/>
          </p:nvSpPr>
          <p:spPr>
            <a:xfrm flipV="1">
              <a:off x="938160" y="3493800"/>
              <a:ext cx="1687680" cy="42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562120" y="3449520"/>
              <a:ext cx="204840" cy="117720"/>
            </a:xfrm>
            <a:custGeom>
              <a:avLst/>
              <a:gdLst/>
              <a:ahLst/>
              <a:rect l="l" t="t" r="r" b="b"/>
              <a:pathLst>
                <a:path w="129" h="74">
                  <a:moveTo>
                    <a:pt x="19" y="73"/>
                  </a:moveTo>
                  <a:lnTo>
                    <a:pt x="24" y="33"/>
                  </a:lnTo>
                  <a:lnTo>
                    <a:pt x="0" y="0"/>
                  </a:lnTo>
                  <a:lnTo>
                    <a:pt x="128" y="7"/>
                  </a:lnTo>
                  <a:lnTo>
                    <a:pt x="19" y="7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V="1">
              <a:off x="2765520" y="3308040"/>
              <a:ext cx="6094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1" name=""/>
          <p:cNvSpPr/>
          <p:nvPr/>
        </p:nvSpPr>
        <p:spPr>
          <a:xfrm>
            <a:off x="1344600" y="3355920"/>
            <a:ext cx="204840" cy="117360"/>
          </a:xfrm>
          <a:custGeom>
            <a:avLst/>
            <a:gdLst/>
            <a:ahLst/>
            <a:rect l="l" t="t" r="r" b="b"/>
            <a:pathLst>
              <a:path w="129" h="74">
                <a:moveTo>
                  <a:pt x="0" y="73"/>
                </a:moveTo>
                <a:lnTo>
                  <a:pt x="24" y="40"/>
                </a:lnTo>
                <a:lnTo>
                  <a:pt x="19" y="0"/>
                </a:lnTo>
                <a:lnTo>
                  <a:pt x="128" y="66"/>
                </a:lnTo>
                <a:lnTo>
                  <a:pt x="0" y="7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938160" y="3308400"/>
            <a:ext cx="4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1353960" y="3247920"/>
            <a:ext cx="19548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2157480" y="3916440"/>
            <a:ext cx="122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1547640" y="4525920"/>
            <a:ext cx="183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1963800" y="507348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7" name=""/>
          <p:cNvGrpSpPr/>
          <p:nvPr/>
        </p:nvGrpSpPr>
        <p:grpSpPr>
          <a:xfrm>
            <a:off x="938160" y="4525560"/>
            <a:ext cx="2436840" cy="608040"/>
            <a:chOff x="938160" y="4525560"/>
            <a:chExt cx="2436840" cy="608040"/>
          </a:xfrm>
        </p:grpSpPr>
        <p:sp>
          <p:nvSpPr>
            <p:cNvPr id="2238" name=""/>
            <p:cNvSpPr/>
            <p:nvPr/>
          </p:nvSpPr>
          <p:spPr>
            <a:xfrm flipV="1">
              <a:off x="938160" y="4711320"/>
              <a:ext cx="1687680" cy="42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562120" y="4667400"/>
              <a:ext cx="204840" cy="115560"/>
            </a:xfrm>
            <a:custGeom>
              <a:avLst/>
              <a:gdLst/>
              <a:ahLst/>
              <a:rect l="l" t="t" r="r" b="b"/>
              <a:pathLst>
                <a:path w="129" h="73">
                  <a:moveTo>
                    <a:pt x="19" y="72"/>
                  </a:moveTo>
                  <a:lnTo>
                    <a:pt x="24" y="33"/>
                  </a:lnTo>
                  <a:lnTo>
                    <a:pt x="0" y="0"/>
                  </a:lnTo>
                  <a:lnTo>
                    <a:pt x="128" y="7"/>
                  </a:lnTo>
                  <a:lnTo>
                    <a:pt x="19" y="7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 flipV="1">
              <a:off x="2765520" y="4525560"/>
              <a:ext cx="6094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1" name=""/>
          <p:cNvSpPr/>
          <p:nvPr/>
        </p:nvSpPr>
        <p:spPr>
          <a:xfrm>
            <a:off x="1344600" y="4573440"/>
            <a:ext cx="204840" cy="117720"/>
          </a:xfrm>
          <a:custGeom>
            <a:avLst/>
            <a:gdLst/>
            <a:ahLst/>
            <a:rect l="l" t="t" r="r" b="b"/>
            <a:pathLst>
              <a:path w="129" h="74">
                <a:moveTo>
                  <a:pt x="0" y="73"/>
                </a:moveTo>
                <a:lnTo>
                  <a:pt x="24" y="40"/>
                </a:lnTo>
                <a:lnTo>
                  <a:pt x="19" y="0"/>
                </a:lnTo>
                <a:lnTo>
                  <a:pt x="128" y="66"/>
                </a:lnTo>
                <a:lnTo>
                  <a:pt x="0" y="7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938160" y="4525920"/>
            <a:ext cx="4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1353960" y="4465800"/>
            <a:ext cx="195480" cy="12204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1547640" y="5742000"/>
            <a:ext cx="183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938160" y="6351480"/>
            <a:ext cx="1079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1963800" y="6291360"/>
            <a:ext cx="19512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0" y="75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7" name=""/>
          <p:cNvGrpSpPr/>
          <p:nvPr/>
        </p:nvGrpSpPr>
        <p:grpSpPr>
          <a:xfrm>
            <a:off x="938160" y="5741640"/>
            <a:ext cx="2436840" cy="609480"/>
            <a:chOff x="938160" y="5741640"/>
            <a:chExt cx="2436840" cy="609480"/>
          </a:xfrm>
        </p:grpSpPr>
        <p:sp>
          <p:nvSpPr>
            <p:cNvPr id="2248" name=""/>
            <p:cNvSpPr/>
            <p:nvPr/>
          </p:nvSpPr>
          <p:spPr>
            <a:xfrm flipV="1">
              <a:off x="938160" y="5927400"/>
              <a:ext cx="1687680" cy="42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562120" y="5883120"/>
              <a:ext cx="204840" cy="117720"/>
            </a:xfrm>
            <a:custGeom>
              <a:avLst/>
              <a:gdLst/>
              <a:ahLst/>
              <a:rect l="l" t="t" r="r" b="b"/>
              <a:pathLst>
                <a:path w="129" h="74">
                  <a:moveTo>
                    <a:pt x="19" y="73"/>
                  </a:moveTo>
                  <a:lnTo>
                    <a:pt x="24" y="33"/>
                  </a:lnTo>
                  <a:lnTo>
                    <a:pt x="0" y="0"/>
                  </a:lnTo>
                  <a:lnTo>
                    <a:pt x="128" y="7"/>
                  </a:lnTo>
                  <a:lnTo>
                    <a:pt x="19" y="7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V="1">
              <a:off x="2765520" y="5741640"/>
              <a:ext cx="6094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51" name=""/>
          <p:cNvSpPr/>
          <p:nvPr/>
        </p:nvSpPr>
        <p:spPr>
          <a:xfrm>
            <a:off x="1344600" y="5789520"/>
            <a:ext cx="204840" cy="117720"/>
          </a:xfrm>
          <a:custGeom>
            <a:avLst/>
            <a:gdLst/>
            <a:ahLst/>
            <a:rect l="l" t="t" r="r" b="b"/>
            <a:pathLst>
              <a:path w="129" h="74">
                <a:moveTo>
                  <a:pt x="0" y="73"/>
                </a:moveTo>
                <a:lnTo>
                  <a:pt x="24" y="40"/>
                </a:lnTo>
                <a:lnTo>
                  <a:pt x="19" y="0"/>
                </a:lnTo>
                <a:lnTo>
                  <a:pt x="128" y="66"/>
                </a:lnTo>
                <a:lnTo>
                  <a:pt x="0" y="7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938160" y="5742000"/>
            <a:ext cx="4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1353960" y="5681520"/>
            <a:ext cx="19548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2157480" y="6351480"/>
            <a:ext cx="122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3983040" y="2092320"/>
            <a:ext cx="1830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3375000" y="2092320"/>
            <a:ext cx="4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3790800" y="2031840"/>
            <a:ext cx="193680" cy="122400"/>
          </a:xfrm>
          <a:custGeom>
            <a:avLst/>
            <a:gdLst/>
            <a:ahLst/>
            <a:rect l="l" t="t" r="r" b="b"/>
            <a:pathLst>
              <a:path w="122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1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3375000" y="3308400"/>
            <a:ext cx="1684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5008680" y="324792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5202360" y="3308400"/>
            <a:ext cx="610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3375000" y="3916440"/>
            <a:ext cx="1684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5008680" y="3857760"/>
            <a:ext cx="19512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0" y="75"/>
                </a:moveTo>
                <a:lnTo>
                  <a:pt x="15" y="37"/>
                </a:lnTo>
                <a:lnTo>
                  <a:pt x="0" y="0"/>
                </a:lnTo>
                <a:lnTo>
                  <a:pt x="122" y="37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5202360" y="3916440"/>
            <a:ext cx="610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 flipV="1">
            <a:off x="3375000" y="2458800"/>
            <a:ext cx="1698480" cy="849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5002200" y="2395440"/>
            <a:ext cx="201600" cy="142920"/>
          </a:xfrm>
          <a:custGeom>
            <a:avLst/>
            <a:gdLst/>
            <a:ahLst/>
            <a:rect l="l" t="t" r="r" b="b"/>
            <a:pathLst>
              <a:path w="127" h="90">
                <a:moveTo>
                  <a:pt x="34" y="89"/>
                </a:moveTo>
                <a:lnTo>
                  <a:pt x="30" y="48"/>
                </a:lnTo>
                <a:lnTo>
                  <a:pt x="0" y="21"/>
                </a:lnTo>
                <a:lnTo>
                  <a:pt x="126" y="0"/>
                </a:lnTo>
                <a:lnTo>
                  <a:pt x="34" y="8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 flipV="1">
            <a:off x="5202360" y="2092320"/>
            <a:ext cx="608040" cy="303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5002200" y="3005280"/>
            <a:ext cx="201600" cy="141120"/>
          </a:xfrm>
          <a:custGeom>
            <a:avLst/>
            <a:gdLst/>
            <a:ahLst/>
            <a:rect l="l" t="t" r="r" b="b"/>
            <a:pathLst>
              <a:path w="127" h="89">
                <a:moveTo>
                  <a:pt x="34" y="88"/>
                </a:moveTo>
                <a:lnTo>
                  <a:pt x="30" y="47"/>
                </a:lnTo>
                <a:lnTo>
                  <a:pt x="0" y="21"/>
                </a:lnTo>
                <a:lnTo>
                  <a:pt x="126" y="0"/>
                </a:lnTo>
                <a:lnTo>
                  <a:pt x="34" y="8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3983040" y="2395440"/>
            <a:ext cx="1827360" cy="912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3375000" y="2092320"/>
            <a:ext cx="480960" cy="237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3784680" y="2254320"/>
            <a:ext cx="199800" cy="142920"/>
          </a:xfrm>
          <a:custGeom>
            <a:avLst/>
            <a:gdLst/>
            <a:ahLst/>
            <a:rect l="l" t="t" r="r" b="b"/>
            <a:pathLst>
              <a:path w="126" h="90">
                <a:moveTo>
                  <a:pt x="0" y="68"/>
                </a:moveTo>
                <a:lnTo>
                  <a:pt x="30" y="41"/>
                </a:lnTo>
                <a:lnTo>
                  <a:pt x="34" y="0"/>
                </a:lnTo>
                <a:lnTo>
                  <a:pt x="125" y="89"/>
                </a:lnTo>
                <a:lnTo>
                  <a:pt x="0" y="6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790800" y="2639880"/>
            <a:ext cx="193680" cy="122400"/>
          </a:xfrm>
          <a:custGeom>
            <a:avLst/>
            <a:gdLst/>
            <a:ahLst/>
            <a:rect l="l" t="t" r="r" b="b"/>
            <a:pathLst>
              <a:path w="122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1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3983040" y="3005280"/>
            <a:ext cx="1827360" cy="911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3375000" y="2700360"/>
            <a:ext cx="480960" cy="239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3784680" y="2863800"/>
            <a:ext cx="199800" cy="142920"/>
          </a:xfrm>
          <a:custGeom>
            <a:avLst/>
            <a:gdLst/>
            <a:ahLst/>
            <a:rect l="l" t="t" r="r" b="b"/>
            <a:pathLst>
              <a:path w="126" h="90">
                <a:moveTo>
                  <a:pt x="0" y="68"/>
                </a:moveTo>
                <a:lnTo>
                  <a:pt x="30" y="41"/>
                </a:lnTo>
                <a:lnTo>
                  <a:pt x="34" y="0"/>
                </a:lnTo>
                <a:lnTo>
                  <a:pt x="125" y="89"/>
                </a:lnTo>
                <a:lnTo>
                  <a:pt x="0" y="6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3983040" y="4525920"/>
            <a:ext cx="1830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3375000" y="4525920"/>
            <a:ext cx="4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3790800" y="4465800"/>
            <a:ext cx="193680" cy="122040"/>
          </a:xfrm>
          <a:custGeom>
            <a:avLst/>
            <a:gdLst/>
            <a:ahLst/>
            <a:rect l="l" t="t" r="r" b="b"/>
            <a:pathLst>
              <a:path w="122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1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3375000" y="5742000"/>
            <a:ext cx="1684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5008680" y="568152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5202360" y="5742000"/>
            <a:ext cx="610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3375000" y="6351480"/>
            <a:ext cx="1684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5008680" y="6291360"/>
            <a:ext cx="19512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0" y="75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5202360" y="6351480"/>
            <a:ext cx="610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 flipV="1">
            <a:off x="3375000" y="4892400"/>
            <a:ext cx="1698480" cy="849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5002200" y="4829040"/>
            <a:ext cx="201600" cy="142920"/>
          </a:xfrm>
          <a:custGeom>
            <a:avLst/>
            <a:gdLst/>
            <a:ahLst/>
            <a:rect l="l" t="t" r="r" b="b"/>
            <a:pathLst>
              <a:path w="127" h="90">
                <a:moveTo>
                  <a:pt x="34" y="89"/>
                </a:moveTo>
                <a:lnTo>
                  <a:pt x="30" y="48"/>
                </a:lnTo>
                <a:lnTo>
                  <a:pt x="0" y="21"/>
                </a:lnTo>
                <a:lnTo>
                  <a:pt x="126" y="0"/>
                </a:lnTo>
                <a:lnTo>
                  <a:pt x="34" y="8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 flipV="1">
            <a:off x="5202360" y="4525920"/>
            <a:ext cx="608040" cy="303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5002200" y="5438880"/>
            <a:ext cx="201600" cy="141120"/>
          </a:xfrm>
          <a:custGeom>
            <a:avLst/>
            <a:gdLst/>
            <a:ahLst/>
            <a:rect l="l" t="t" r="r" b="b"/>
            <a:pathLst>
              <a:path w="127" h="89">
                <a:moveTo>
                  <a:pt x="34" y="88"/>
                </a:moveTo>
                <a:lnTo>
                  <a:pt x="30" y="48"/>
                </a:lnTo>
                <a:lnTo>
                  <a:pt x="0" y="21"/>
                </a:lnTo>
                <a:lnTo>
                  <a:pt x="126" y="0"/>
                </a:lnTo>
                <a:lnTo>
                  <a:pt x="34" y="8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8" name=""/>
          <p:cNvGrpSpPr/>
          <p:nvPr/>
        </p:nvGrpSpPr>
        <p:grpSpPr>
          <a:xfrm>
            <a:off x="3375000" y="4525920"/>
            <a:ext cx="2435400" cy="1216080"/>
            <a:chOff x="3375000" y="4525920"/>
            <a:chExt cx="2435400" cy="1216080"/>
          </a:xfrm>
        </p:grpSpPr>
        <p:sp>
          <p:nvSpPr>
            <p:cNvPr id="2289" name=""/>
            <p:cNvSpPr/>
            <p:nvPr/>
          </p:nvSpPr>
          <p:spPr>
            <a:xfrm>
              <a:off x="3983040" y="4829040"/>
              <a:ext cx="1827360" cy="9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3375000" y="4525920"/>
              <a:ext cx="480960" cy="23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3784680" y="4689360"/>
              <a:ext cx="199800" cy="141480"/>
            </a:xfrm>
            <a:custGeom>
              <a:avLst/>
              <a:gdLst/>
              <a:ahLst/>
              <a:rect l="l" t="t" r="r" b="b"/>
              <a:pathLst>
                <a:path w="126" h="89">
                  <a:moveTo>
                    <a:pt x="0" y="67"/>
                  </a:moveTo>
                  <a:lnTo>
                    <a:pt x="30" y="40"/>
                  </a:lnTo>
                  <a:lnTo>
                    <a:pt x="34" y="0"/>
                  </a:lnTo>
                  <a:lnTo>
                    <a:pt x="125" y="88"/>
                  </a:lnTo>
                  <a:lnTo>
                    <a:pt x="0" y="6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2" name=""/>
          <p:cNvSpPr/>
          <p:nvPr/>
        </p:nvSpPr>
        <p:spPr>
          <a:xfrm>
            <a:off x="3790800" y="5073480"/>
            <a:ext cx="193680" cy="122400"/>
          </a:xfrm>
          <a:custGeom>
            <a:avLst/>
            <a:gdLst/>
            <a:ahLst/>
            <a:rect l="l" t="t" r="r" b="b"/>
            <a:pathLst>
              <a:path w="122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1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93" name=""/>
          <p:cNvGrpSpPr/>
          <p:nvPr/>
        </p:nvGrpSpPr>
        <p:grpSpPr>
          <a:xfrm>
            <a:off x="3375000" y="5133960"/>
            <a:ext cx="2435400" cy="1217520"/>
            <a:chOff x="3375000" y="5133960"/>
            <a:chExt cx="2435400" cy="1217520"/>
          </a:xfrm>
        </p:grpSpPr>
        <p:sp>
          <p:nvSpPr>
            <p:cNvPr id="2294" name=""/>
            <p:cNvSpPr/>
            <p:nvPr/>
          </p:nvSpPr>
          <p:spPr>
            <a:xfrm>
              <a:off x="3983040" y="5438880"/>
              <a:ext cx="1827360" cy="9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3375000" y="5133960"/>
              <a:ext cx="4809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3784680" y="5297400"/>
              <a:ext cx="199800" cy="142920"/>
            </a:xfrm>
            <a:custGeom>
              <a:avLst/>
              <a:gdLst/>
              <a:ahLst/>
              <a:rect l="l" t="t" r="r" b="b"/>
              <a:pathLst>
                <a:path w="126" h="90">
                  <a:moveTo>
                    <a:pt x="0" y="68"/>
                  </a:moveTo>
                  <a:lnTo>
                    <a:pt x="30" y="41"/>
                  </a:lnTo>
                  <a:lnTo>
                    <a:pt x="34" y="0"/>
                  </a:lnTo>
                  <a:lnTo>
                    <a:pt x="125" y="89"/>
                  </a:lnTo>
                  <a:lnTo>
                    <a:pt x="0" y="6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7" name=""/>
          <p:cNvSpPr/>
          <p:nvPr/>
        </p:nvSpPr>
        <p:spPr>
          <a:xfrm>
            <a:off x="5810400" y="4525920"/>
            <a:ext cx="199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7748640" y="4465800"/>
            <a:ext cx="195120" cy="12204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7942320" y="4525920"/>
            <a:ext cx="307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 flipV="1">
            <a:off x="5810400" y="2499840"/>
            <a:ext cx="2025360" cy="2025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7763040" y="2395440"/>
            <a:ext cx="180720" cy="18108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54" y="113"/>
                </a:moveTo>
                <a:lnTo>
                  <a:pt x="37" y="76"/>
                </a:lnTo>
                <a:lnTo>
                  <a:pt x="0" y="59"/>
                </a:lnTo>
                <a:lnTo>
                  <a:pt x="113" y="0"/>
                </a:lnTo>
                <a:lnTo>
                  <a:pt x="54" y="11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 flipV="1">
            <a:off x="7942320" y="2092320"/>
            <a:ext cx="304920" cy="303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6114960" y="2395440"/>
            <a:ext cx="2132280" cy="2130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5810400" y="2092320"/>
            <a:ext cx="201600" cy="200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5935680" y="2217600"/>
            <a:ext cx="181080" cy="179640"/>
          </a:xfrm>
          <a:custGeom>
            <a:avLst/>
            <a:gdLst/>
            <a:ahLst/>
            <a:rect l="l" t="t" r="r" b="b"/>
            <a:pathLst>
              <a:path w="114" h="113">
                <a:moveTo>
                  <a:pt x="0" y="53"/>
                </a:moveTo>
                <a:lnTo>
                  <a:pt x="37" y="36"/>
                </a:lnTo>
                <a:lnTo>
                  <a:pt x="54" y="0"/>
                </a:lnTo>
                <a:lnTo>
                  <a:pt x="113" y="112"/>
                </a:lnTo>
                <a:lnTo>
                  <a:pt x="0" y="5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 flipV="1">
            <a:off x="5810400" y="3107880"/>
            <a:ext cx="2025360" cy="2025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7763040" y="3005280"/>
            <a:ext cx="180720" cy="179280"/>
          </a:xfrm>
          <a:custGeom>
            <a:avLst/>
            <a:gdLst/>
            <a:ahLst/>
            <a:rect l="l" t="t" r="r" b="b"/>
            <a:pathLst>
              <a:path w="114" h="113">
                <a:moveTo>
                  <a:pt x="54" y="112"/>
                </a:moveTo>
                <a:lnTo>
                  <a:pt x="37" y="75"/>
                </a:lnTo>
                <a:lnTo>
                  <a:pt x="0" y="58"/>
                </a:lnTo>
                <a:lnTo>
                  <a:pt x="113" y="0"/>
                </a:lnTo>
                <a:lnTo>
                  <a:pt x="54" y="11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 flipV="1">
            <a:off x="7942320" y="2700000"/>
            <a:ext cx="30492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 flipV="1">
            <a:off x="5810400" y="3718080"/>
            <a:ext cx="2025360" cy="2023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7763040" y="3613320"/>
            <a:ext cx="180720" cy="18072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54" y="113"/>
                </a:moveTo>
                <a:lnTo>
                  <a:pt x="37" y="76"/>
                </a:lnTo>
                <a:lnTo>
                  <a:pt x="0" y="59"/>
                </a:lnTo>
                <a:lnTo>
                  <a:pt x="113" y="0"/>
                </a:lnTo>
                <a:lnTo>
                  <a:pt x="54" y="11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 flipV="1">
            <a:off x="7942320" y="3308040"/>
            <a:ext cx="30492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 flipV="1">
            <a:off x="5810400" y="4325400"/>
            <a:ext cx="2025360" cy="2025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7763040" y="4221000"/>
            <a:ext cx="180720" cy="18108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54" y="113"/>
                </a:moveTo>
                <a:lnTo>
                  <a:pt x="37" y="76"/>
                </a:lnTo>
                <a:lnTo>
                  <a:pt x="0" y="59"/>
                </a:lnTo>
                <a:lnTo>
                  <a:pt x="113" y="0"/>
                </a:lnTo>
                <a:lnTo>
                  <a:pt x="54" y="11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 flipV="1">
            <a:off x="7942320" y="3916440"/>
            <a:ext cx="30492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5935680" y="2825640"/>
            <a:ext cx="181080" cy="18108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0" y="54"/>
                </a:moveTo>
                <a:lnTo>
                  <a:pt x="37" y="37"/>
                </a:lnTo>
                <a:lnTo>
                  <a:pt x="54" y="0"/>
                </a:lnTo>
                <a:lnTo>
                  <a:pt x="113" y="113"/>
                </a:lnTo>
                <a:lnTo>
                  <a:pt x="0" y="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6114960" y="3613320"/>
            <a:ext cx="2132280" cy="2128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5810400" y="3308400"/>
            <a:ext cx="201600" cy="20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5935680" y="3433680"/>
            <a:ext cx="181080" cy="18108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0" y="54"/>
                </a:moveTo>
                <a:lnTo>
                  <a:pt x="37" y="37"/>
                </a:lnTo>
                <a:lnTo>
                  <a:pt x="54" y="0"/>
                </a:lnTo>
                <a:lnTo>
                  <a:pt x="113" y="113"/>
                </a:lnTo>
                <a:lnTo>
                  <a:pt x="0" y="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6114960" y="4221000"/>
            <a:ext cx="2132280" cy="2130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5810400" y="3916440"/>
            <a:ext cx="201600" cy="20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935680" y="4041720"/>
            <a:ext cx="181080" cy="18108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0" y="54"/>
                </a:moveTo>
                <a:lnTo>
                  <a:pt x="37" y="37"/>
                </a:lnTo>
                <a:lnTo>
                  <a:pt x="54" y="0"/>
                </a:lnTo>
                <a:lnTo>
                  <a:pt x="113" y="113"/>
                </a:lnTo>
                <a:lnTo>
                  <a:pt x="0" y="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7748640" y="507348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5810400" y="5742000"/>
            <a:ext cx="199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7748640" y="568152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7942320" y="5742000"/>
            <a:ext cx="307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5810400" y="6351480"/>
            <a:ext cx="199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7748640" y="6291360"/>
            <a:ext cx="19512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0" y="75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7942320" y="6351480"/>
            <a:ext cx="307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6191280" y="2700360"/>
            <a:ext cx="2058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5810400" y="2700360"/>
            <a:ext cx="237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5997600" y="263988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6191280" y="3308400"/>
            <a:ext cx="2058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5810400" y="3308400"/>
            <a:ext cx="237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5997600" y="324792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6191280" y="3916440"/>
            <a:ext cx="2058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5810400" y="3916440"/>
            <a:ext cx="237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5997600" y="3857760"/>
            <a:ext cx="19512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0" y="75"/>
                </a:moveTo>
                <a:lnTo>
                  <a:pt x="15" y="37"/>
                </a:lnTo>
                <a:lnTo>
                  <a:pt x="0" y="0"/>
                </a:lnTo>
                <a:lnTo>
                  <a:pt x="122" y="37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876240" y="202896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876240" y="263700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876240" y="3244680"/>
            <a:ext cx="127080" cy="128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876240" y="3854520"/>
            <a:ext cx="12708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876240" y="446256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876240" y="507060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876240" y="567864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876240" y="6288120"/>
            <a:ext cx="12708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3311640" y="20289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3311640" y="26370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3311640" y="3244680"/>
            <a:ext cx="128520" cy="128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3311640" y="38545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3311640" y="44625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3311640" y="50706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3311640" y="567864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3311640" y="62881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5746680" y="20289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5746680" y="26370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5746680" y="3244680"/>
            <a:ext cx="128520" cy="128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5746680" y="38545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5746680" y="44625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5746680" y="50706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5746680" y="567864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5746680" y="62881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8183520" y="20289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8183520" y="26370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8183520" y="3244680"/>
            <a:ext cx="128520" cy="128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8183520" y="38545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8183520" y="44625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8183520" y="50706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8183520" y="567864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8183520" y="62881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6191280" y="2092320"/>
            <a:ext cx="2058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5810400" y="2092320"/>
            <a:ext cx="237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5997600" y="203184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161640" y="180180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259200" y="180180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161640" y="240984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59200" y="240984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161640" y="301788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259200" y="301788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161640" y="36259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259200" y="362592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161640" y="423540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259200" y="423540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161640" y="484344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259200" y="484344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61640" y="545148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259200" y="545148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161640" y="60595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259200" y="605952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8308080" y="187632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8308080" y="248616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8308080" y="309420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8308080" y="370188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8308080" y="431172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8308080" y="491976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8308080" y="552780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8308080" y="613584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2656440" y="214164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2963880" y="235260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3001320" y="21178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1972080" y="267480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2279520" y="28843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2315520" y="265104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2656440" y="335916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2963880" y="35701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3001320" y="333540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1972080" y="389088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2279520" y="410220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2315520" y="386712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2656440" y="457524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2963880" y="478620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3001320" y="45514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1972080" y="510840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2279520" y="53197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2315520" y="508464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2656440" y="579276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2963880" y="600408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3001320" y="576900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4407480" y="206532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4714920" y="227664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4752360" y="204156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4407480" y="267480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4714920" y="28843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4752360" y="265104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4407480" y="328284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4714920" y="349416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4752360" y="32590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4407480" y="389088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4714920" y="410220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4752360" y="386712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4407480" y="449892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4714920" y="471024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4752360" y="447660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4407480" y="510840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4714920" y="53197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4752360" y="508464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4407480" y="571644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4714920" y="592776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4752360" y="56926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7604640" y="206532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7912080" y="227664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7949520" y="204156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7604640" y="267480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7912080" y="28843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7936920" y="265104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7604640" y="328284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7912080" y="349416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7949520" y="32590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7604640" y="389088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7912080" y="410220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7949520" y="386712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7604640" y="449892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7912080" y="471024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7949520" y="447660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7604640" y="510840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7912080" y="53197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7943040" y="508464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7604640" y="571644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7912080" y="592776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7949520" y="56926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0" name=""/>
          <p:cNvGrpSpPr/>
          <p:nvPr/>
        </p:nvGrpSpPr>
        <p:grpSpPr>
          <a:xfrm>
            <a:off x="7604640" y="6300720"/>
            <a:ext cx="629640" cy="555840"/>
            <a:chOff x="7604640" y="6300720"/>
            <a:chExt cx="629640" cy="555840"/>
          </a:xfrm>
        </p:grpSpPr>
        <p:sp>
          <p:nvSpPr>
            <p:cNvPr id="2461" name=""/>
            <p:cNvSpPr/>
            <p:nvPr/>
          </p:nvSpPr>
          <p:spPr>
            <a:xfrm>
              <a:off x="7604640" y="632448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7912080" y="653580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7949520" y="630072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4" name=""/>
          <p:cNvGrpSpPr/>
          <p:nvPr/>
        </p:nvGrpSpPr>
        <p:grpSpPr>
          <a:xfrm>
            <a:off x="1971720" y="338040"/>
            <a:ext cx="7142040" cy="1424160"/>
            <a:chOff x="1971720" y="338040"/>
            <a:chExt cx="7142040" cy="1424160"/>
          </a:xfrm>
        </p:grpSpPr>
        <p:grpSp>
          <p:nvGrpSpPr>
            <p:cNvPr id="2465" name=""/>
            <p:cNvGrpSpPr/>
            <p:nvPr/>
          </p:nvGrpSpPr>
          <p:grpSpPr>
            <a:xfrm>
              <a:off x="1971720" y="338040"/>
              <a:ext cx="7142040" cy="1406520"/>
              <a:chOff x="1971720" y="338040"/>
              <a:chExt cx="7142040" cy="1406520"/>
            </a:xfrm>
          </p:grpSpPr>
          <p:grpSp>
            <p:nvGrpSpPr>
              <p:cNvPr id="2466" name=""/>
              <p:cNvGrpSpPr/>
              <p:nvPr/>
            </p:nvGrpSpPr>
            <p:grpSpPr>
              <a:xfrm>
                <a:off x="1971720" y="338040"/>
                <a:ext cx="7142040" cy="663840"/>
                <a:chOff x="1971720" y="338040"/>
                <a:chExt cx="7142040" cy="663840"/>
              </a:xfrm>
            </p:grpSpPr>
            <p:grpSp>
              <p:nvGrpSpPr>
                <p:cNvPr id="2467" name=""/>
                <p:cNvGrpSpPr/>
                <p:nvPr/>
              </p:nvGrpSpPr>
              <p:grpSpPr>
                <a:xfrm>
                  <a:off x="1971720" y="380880"/>
                  <a:ext cx="5572080" cy="621000"/>
                  <a:chOff x="1971720" y="380880"/>
                  <a:chExt cx="5572080" cy="621000"/>
                </a:xfrm>
              </p:grpSpPr>
              <p:grpSp>
                <p:nvGrpSpPr>
                  <p:cNvPr id="2468" name=""/>
                  <p:cNvGrpSpPr/>
                  <p:nvPr/>
                </p:nvGrpSpPr>
                <p:grpSpPr>
                  <a:xfrm>
                    <a:off x="1971720" y="414360"/>
                    <a:ext cx="3508200" cy="587520"/>
                    <a:chOff x="1971720" y="414360"/>
                    <a:chExt cx="3508200" cy="587520"/>
                  </a:xfrm>
                </p:grpSpPr>
                <mc:AlternateContent>
                  <mc:Choice xmlns:a14="http://schemas.microsoft.com/office/drawing/2010/main" Requires="a14">
                    <p:sp>
                      <p:nvSpPr>
                        <p:cNvPr id="2469" name=""/>
                        <p:cNvSpPr txBox="1"/>
                        <p:nvPr/>
                      </p:nvSpPr>
                      <p:spPr>
                        <a:xfrm>
                          <a:off x="1971720" y="536400"/>
                          <a:ext cx="1219320" cy="4654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5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2470" name=""/>
                        <p:cNvSpPr txBox="1"/>
                        <p:nvPr/>
                      </p:nvSpPr>
                      <p:spPr>
                        <a:xfrm>
                          <a:off x="3228840" y="509760"/>
                          <a:ext cx="801720" cy="48096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2471" name=""/>
                        <p:cNvSpPr txBox="1"/>
                        <p:nvPr/>
                      </p:nvSpPr>
                      <p:spPr>
                        <a:xfrm>
                          <a:off x="4019400" y="611280"/>
                          <a:ext cx="303480" cy="30312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+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2472" name=""/>
                        <p:cNvSpPr txBox="1"/>
                        <p:nvPr/>
                      </p:nvSpPr>
                      <p:spPr>
                        <a:xfrm>
                          <a:off x="4267080" y="414360"/>
                          <a:ext cx="1212840" cy="57636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sSubSup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8</m:t>
                                  </m:r>
                                </m:sub>
                                <m:sup>
                                  <m:r>
                                    <m:t xml:space="preserve">5</m:t>
                                  </m:r>
                                </m:sup>
                              </m:sSubSup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</p:grpSp>
              <mc:AlternateContent>
                <mc:Choice xmlns:a14="http://schemas.microsoft.com/office/drawing/2010/main" Requires="a14">
                  <p:sp>
                    <p:nvSpPr>
                      <p:cNvPr id="2473" name=""/>
                      <p:cNvSpPr txBox="1"/>
                      <p:nvPr/>
                    </p:nvSpPr>
                    <p:spPr>
                      <a:xfrm>
                        <a:off x="5410080" y="380880"/>
                        <a:ext cx="2133720" cy="6145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8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mc:AlternateContent>
              <mc:Choice xmlns:a14="http://schemas.microsoft.com/office/drawing/2010/main" Requires="a14">
                <p:sp>
                  <p:nvSpPr>
                    <p:cNvPr id="2474" name=""/>
                    <p:cNvSpPr txBox="1"/>
                    <p:nvPr/>
                  </p:nvSpPr>
                  <p:spPr>
                    <a:xfrm>
                      <a:off x="7334280" y="338040"/>
                      <a:ext cx="1779480" cy="6429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+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  <m:sSubSup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8</m:t>
                              </m:r>
                            </m:sub>
                            <m:sup>
                              <m:r>
                                <m:t xml:space="preserve">7</m:t>
                              </m:r>
                            </m:sup>
                          </m:sSubSup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2475" name=""/>
                  <p:cNvSpPr txBox="1"/>
                  <p:nvPr/>
                </p:nvSpPr>
                <p:spPr>
                  <a:xfrm>
                    <a:off x="2066760" y="1176480"/>
                    <a:ext cx="1590840" cy="568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476" name=""/>
                <p:cNvSpPr txBox="1"/>
                <p:nvPr/>
              </p:nvSpPr>
              <p:spPr>
                <a:xfrm>
                  <a:off x="3581280" y="1160640"/>
                  <a:ext cx="1524240" cy="60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5</m:t>
                      </m:r>
                      <m:r>
                        <m:t xml:space="preserve">)</m:t>
                      </m:r>
                      <m:sSubSup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8</m:t>
                          </m:r>
                        </m:sub>
                        <m:sup>
                          <m:r>
                            <m:t xml:space="preserve">9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77" name=""/>
              <p:cNvSpPr txBox="1"/>
              <p:nvPr/>
            </p:nvSpPr>
            <p:spPr>
              <a:xfrm>
                <a:off x="5486400" y="1371600"/>
                <a:ext cx="5335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8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478" name=""/>
          <p:cNvSpPr/>
          <p:nvPr/>
        </p:nvSpPr>
        <p:spPr>
          <a:xfrm flipH="1" flipV="1">
            <a:off x="5105520" y="1447560"/>
            <a:ext cx="30456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28B0-9ED7-49C3-8614-DF7316064CA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9" name=""/>
          <p:cNvGrpSpPr/>
          <p:nvPr/>
        </p:nvGrpSpPr>
        <p:grpSpPr>
          <a:xfrm>
            <a:off x="1972080" y="6300720"/>
            <a:ext cx="629640" cy="555840"/>
            <a:chOff x="1972080" y="6300720"/>
            <a:chExt cx="629640" cy="555840"/>
          </a:xfrm>
        </p:grpSpPr>
        <p:sp>
          <p:nvSpPr>
            <p:cNvPr id="2480" name=""/>
            <p:cNvSpPr/>
            <p:nvPr/>
          </p:nvSpPr>
          <p:spPr>
            <a:xfrm>
              <a:off x="1972080" y="632448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2279520" y="653580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2315520" y="630072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83" name=""/>
          <p:cNvGrpSpPr/>
          <p:nvPr/>
        </p:nvGrpSpPr>
        <p:grpSpPr>
          <a:xfrm>
            <a:off x="4407480" y="6300720"/>
            <a:ext cx="629640" cy="555840"/>
            <a:chOff x="4407480" y="6300720"/>
            <a:chExt cx="629640" cy="555840"/>
          </a:xfrm>
        </p:grpSpPr>
        <p:sp>
          <p:nvSpPr>
            <p:cNvPr id="2484" name=""/>
            <p:cNvSpPr/>
            <p:nvPr/>
          </p:nvSpPr>
          <p:spPr>
            <a:xfrm>
              <a:off x="4407480" y="632448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4714920" y="653580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4752360" y="630072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87" name=""/>
          <p:cNvGrpSpPr/>
          <p:nvPr/>
        </p:nvGrpSpPr>
        <p:grpSpPr>
          <a:xfrm>
            <a:off x="938160" y="2700000"/>
            <a:ext cx="7309080" cy="2433960"/>
            <a:chOff x="938160" y="2700000"/>
            <a:chExt cx="7309080" cy="2433960"/>
          </a:xfrm>
        </p:grpSpPr>
        <p:sp>
          <p:nvSpPr>
            <p:cNvPr id="2488" name=""/>
            <p:cNvSpPr/>
            <p:nvPr/>
          </p:nvSpPr>
          <p:spPr>
            <a:xfrm>
              <a:off x="6114960" y="3005280"/>
              <a:ext cx="2132280" cy="21286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5810400" y="2700360"/>
              <a:ext cx="201600" cy="2016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 flipV="1">
              <a:off x="3375000" y="3066840"/>
              <a:ext cx="1698480" cy="8492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 flipV="1">
              <a:off x="5202360" y="2700000"/>
              <a:ext cx="608040" cy="3049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938160" y="3916440"/>
              <a:ext cx="107964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157480" y="3916440"/>
              <a:ext cx="122076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4" name=""/>
          <p:cNvGrpSpPr/>
          <p:nvPr/>
        </p:nvGrpSpPr>
        <p:grpSpPr>
          <a:xfrm>
            <a:off x="938160" y="5133960"/>
            <a:ext cx="7311960" cy="0"/>
            <a:chOff x="938160" y="5133960"/>
            <a:chExt cx="7311960" cy="0"/>
          </a:xfrm>
        </p:grpSpPr>
        <p:sp>
          <p:nvSpPr>
            <p:cNvPr id="2495" name=""/>
            <p:cNvSpPr/>
            <p:nvPr/>
          </p:nvSpPr>
          <p:spPr>
            <a:xfrm>
              <a:off x="5810400" y="5133960"/>
              <a:ext cx="1990440" cy="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7942320" y="5133960"/>
              <a:ext cx="307800" cy="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3983040" y="5133960"/>
              <a:ext cx="1830240" cy="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3375000" y="5133960"/>
              <a:ext cx="466920" cy="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938160" y="5133960"/>
              <a:ext cx="1079640" cy="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157480" y="5133960"/>
              <a:ext cx="1220760" cy="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1" name=""/>
          <p:cNvSpPr/>
          <p:nvPr/>
        </p:nvSpPr>
        <p:spPr>
          <a:xfrm>
            <a:off x="3983040" y="2700360"/>
            <a:ext cx="183024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3375000" y="2700360"/>
            <a:ext cx="46692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938160" y="2700360"/>
            <a:ext cx="107964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2157480" y="2700360"/>
            <a:ext cx="122076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 flipH="1" flipV="1">
            <a:off x="1547640" y="5894280"/>
            <a:ext cx="1827360" cy="457200"/>
          </a:xfrm>
          <a:prstGeom prst="line">
            <a:avLst/>
          </a:prstGeom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 flipH="1" flipV="1">
            <a:off x="937800" y="5742000"/>
            <a:ext cx="469800" cy="117360"/>
          </a:xfrm>
          <a:prstGeom prst="line">
            <a:avLst/>
          </a:prstGeom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V="1">
            <a:off x="3375000" y="5501880"/>
            <a:ext cx="1698480" cy="849240"/>
          </a:xfrm>
          <a:prstGeom prst="line">
            <a:avLst/>
          </a:prstGeom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 flipV="1">
            <a:off x="5202360" y="5133600"/>
            <a:ext cx="608040" cy="304920"/>
          </a:xfrm>
          <a:prstGeom prst="line">
            <a:avLst/>
          </a:prstGeom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 flipH="1" flipV="1">
            <a:off x="1547640" y="3460680"/>
            <a:ext cx="1827360" cy="455760"/>
          </a:xfrm>
          <a:prstGeom prst="line">
            <a:avLst/>
          </a:prstGeom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 flipH="1" flipV="1">
            <a:off x="937800" y="3308400"/>
            <a:ext cx="469800" cy="117360"/>
          </a:xfrm>
          <a:prstGeom prst="line">
            <a:avLst/>
          </a:prstGeom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 flipH="1" flipV="1">
            <a:off x="1547640" y="4678200"/>
            <a:ext cx="1827360" cy="4557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 flipH="1" flipV="1">
            <a:off x="937800" y="4525920"/>
            <a:ext cx="469800" cy="117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 flipH="1" flipV="1">
            <a:off x="1547640" y="2243160"/>
            <a:ext cx="1827360" cy="4572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 flipH="1" flipV="1">
            <a:off x="937800" y="2092320"/>
            <a:ext cx="469800" cy="117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1547640" y="2092320"/>
            <a:ext cx="183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1963800" y="263988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 flipV="1">
            <a:off x="938160" y="2276280"/>
            <a:ext cx="1687680" cy="42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2562120" y="2232000"/>
            <a:ext cx="204840" cy="117360"/>
          </a:xfrm>
          <a:custGeom>
            <a:avLst/>
            <a:gdLst/>
            <a:ahLst/>
            <a:rect l="l" t="t" r="r" b="b"/>
            <a:pathLst>
              <a:path w="129" h="74">
                <a:moveTo>
                  <a:pt x="19" y="73"/>
                </a:moveTo>
                <a:lnTo>
                  <a:pt x="24" y="33"/>
                </a:lnTo>
                <a:lnTo>
                  <a:pt x="0" y="0"/>
                </a:lnTo>
                <a:lnTo>
                  <a:pt x="128" y="7"/>
                </a:lnTo>
                <a:lnTo>
                  <a:pt x="19" y="7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 flipV="1">
            <a:off x="2765520" y="2091960"/>
            <a:ext cx="609480" cy="150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1344600" y="2139840"/>
            <a:ext cx="204840" cy="115920"/>
          </a:xfrm>
          <a:custGeom>
            <a:avLst/>
            <a:gdLst/>
            <a:ahLst/>
            <a:rect l="l" t="t" r="r" b="b"/>
            <a:pathLst>
              <a:path w="129" h="73">
                <a:moveTo>
                  <a:pt x="0" y="72"/>
                </a:moveTo>
                <a:lnTo>
                  <a:pt x="24" y="40"/>
                </a:lnTo>
                <a:lnTo>
                  <a:pt x="19" y="0"/>
                </a:lnTo>
                <a:lnTo>
                  <a:pt x="128" y="65"/>
                </a:lnTo>
                <a:lnTo>
                  <a:pt x="0" y="7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938160" y="2092320"/>
            <a:ext cx="4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1353960" y="2031840"/>
            <a:ext cx="19548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1547640" y="3308400"/>
            <a:ext cx="183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1963800" y="3857760"/>
            <a:ext cx="19512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0" y="75"/>
                </a:moveTo>
                <a:lnTo>
                  <a:pt x="15" y="37"/>
                </a:lnTo>
                <a:lnTo>
                  <a:pt x="0" y="0"/>
                </a:lnTo>
                <a:lnTo>
                  <a:pt x="122" y="37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5" name=""/>
          <p:cNvGrpSpPr/>
          <p:nvPr/>
        </p:nvGrpSpPr>
        <p:grpSpPr>
          <a:xfrm>
            <a:off x="938160" y="3308040"/>
            <a:ext cx="2436840" cy="608040"/>
            <a:chOff x="938160" y="3308040"/>
            <a:chExt cx="2436840" cy="608040"/>
          </a:xfrm>
        </p:grpSpPr>
        <p:sp>
          <p:nvSpPr>
            <p:cNvPr id="2526" name=""/>
            <p:cNvSpPr/>
            <p:nvPr/>
          </p:nvSpPr>
          <p:spPr>
            <a:xfrm flipV="1">
              <a:off x="938160" y="3493800"/>
              <a:ext cx="1687680" cy="42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2562120" y="3449520"/>
              <a:ext cx="204840" cy="117720"/>
            </a:xfrm>
            <a:custGeom>
              <a:avLst/>
              <a:gdLst/>
              <a:ahLst/>
              <a:rect l="l" t="t" r="r" b="b"/>
              <a:pathLst>
                <a:path w="129" h="74">
                  <a:moveTo>
                    <a:pt x="19" y="73"/>
                  </a:moveTo>
                  <a:lnTo>
                    <a:pt x="24" y="33"/>
                  </a:lnTo>
                  <a:lnTo>
                    <a:pt x="0" y="0"/>
                  </a:lnTo>
                  <a:lnTo>
                    <a:pt x="128" y="7"/>
                  </a:lnTo>
                  <a:lnTo>
                    <a:pt x="19" y="7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 flipV="1">
              <a:off x="2765520" y="3308040"/>
              <a:ext cx="6094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29" name=""/>
          <p:cNvSpPr/>
          <p:nvPr/>
        </p:nvSpPr>
        <p:spPr>
          <a:xfrm>
            <a:off x="1344600" y="3355920"/>
            <a:ext cx="204840" cy="117360"/>
          </a:xfrm>
          <a:custGeom>
            <a:avLst/>
            <a:gdLst/>
            <a:ahLst/>
            <a:rect l="l" t="t" r="r" b="b"/>
            <a:pathLst>
              <a:path w="129" h="74">
                <a:moveTo>
                  <a:pt x="0" y="73"/>
                </a:moveTo>
                <a:lnTo>
                  <a:pt x="24" y="40"/>
                </a:lnTo>
                <a:lnTo>
                  <a:pt x="19" y="0"/>
                </a:lnTo>
                <a:lnTo>
                  <a:pt x="128" y="66"/>
                </a:lnTo>
                <a:lnTo>
                  <a:pt x="0" y="7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938160" y="3308400"/>
            <a:ext cx="4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1353960" y="3247920"/>
            <a:ext cx="19548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1547640" y="4525920"/>
            <a:ext cx="183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1963800" y="507348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4" name=""/>
          <p:cNvGrpSpPr/>
          <p:nvPr/>
        </p:nvGrpSpPr>
        <p:grpSpPr>
          <a:xfrm>
            <a:off x="938160" y="4525560"/>
            <a:ext cx="2436840" cy="608040"/>
            <a:chOff x="938160" y="4525560"/>
            <a:chExt cx="2436840" cy="608040"/>
          </a:xfrm>
        </p:grpSpPr>
        <p:sp>
          <p:nvSpPr>
            <p:cNvPr id="2535" name=""/>
            <p:cNvSpPr/>
            <p:nvPr/>
          </p:nvSpPr>
          <p:spPr>
            <a:xfrm flipV="1">
              <a:off x="938160" y="4711320"/>
              <a:ext cx="1687680" cy="42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2562120" y="4667400"/>
              <a:ext cx="204840" cy="115560"/>
            </a:xfrm>
            <a:custGeom>
              <a:avLst/>
              <a:gdLst/>
              <a:ahLst/>
              <a:rect l="l" t="t" r="r" b="b"/>
              <a:pathLst>
                <a:path w="129" h="73">
                  <a:moveTo>
                    <a:pt x="19" y="72"/>
                  </a:moveTo>
                  <a:lnTo>
                    <a:pt x="24" y="33"/>
                  </a:lnTo>
                  <a:lnTo>
                    <a:pt x="0" y="0"/>
                  </a:lnTo>
                  <a:lnTo>
                    <a:pt x="128" y="7"/>
                  </a:lnTo>
                  <a:lnTo>
                    <a:pt x="19" y="7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 flipV="1">
              <a:off x="2765520" y="4525560"/>
              <a:ext cx="6094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8" name=""/>
          <p:cNvSpPr/>
          <p:nvPr/>
        </p:nvSpPr>
        <p:spPr>
          <a:xfrm>
            <a:off x="1344600" y="4573440"/>
            <a:ext cx="204840" cy="117720"/>
          </a:xfrm>
          <a:custGeom>
            <a:avLst/>
            <a:gdLst/>
            <a:ahLst/>
            <a:rect l="l" t="t" r="r" b="b"/>
            <a:pathLst>
              <a:path w="129" h="74">
                <a:moveTo>
                  <a:pt x="0" y="73"/>
                </a:moveTo>
                <a:lnTo>
                  <a:pt x="24" y="40"/>
                </a:lnTo>
                <a:lnTo>
                  <a:pt x="19" y="0"/>
                </a:lnTo>
                <a:lnTo>
                  <a:pt x="128" y="66"/>
                </a:lnTo>
                <a:lnTo>
                  <a:pt x="0" y="7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938160" y="4525920"/>
            <a:ext cx="4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1353960" y="4465800"/>
            <a:ext cx="195480" cy="12204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1547640" y="5742000"/>
            <a:ext cx="183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938160" y="6351480"/>
            <a:ext cx="1079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1963800" y="6291360"/>
            <a:ext cx="19512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0" y="75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44" name=""/>
          <p:cNvGrpSpPr/>
          <p:nvPr/>
        </p:nvGrpSpPr>
        <p:grpSpPr>
          <a:xfrm>
            <a:off x="938160" y="5741640"/>
            <a:ext cx="2436840" cy="609480"/>
            <a:chOff x="938160" y="5741640"/>
            <a:chExt cx="2436840" cy="609480"/>
          </a:xfrm>
        </p:grpSpPr>
        <p:sp>
          <p:nvSpPr>
            <p:cNvPr id="2545" name=""/>
            <p:cNvSpPr/>
            <p:nvPr/>
          </p:nvSpPr>
          <p:spPr>
            <a:xfrm flipV="1">
              <a:off x="938160" y="5927400"/>
              <a:ext cx="1687680" cy="42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2562120" y="5883120"/>
              <a:ext cx="204840" cy="117720"/>
            </a:xfrm>
            <a:custGeom>
              <a:avLst/>
              <a:gdLst/>
              <a:ahLst/>
              <a:rect l="l" t="t" r="r" b="b"/>
              <a:pathLst>
                <a:path w="129" h="74">
                  <a:moveTo>
                    <a:pt x="19" y="73"/>
                  </a:moveTo>
                  <a:lnTo>
                    <a:pt x="24" y="33"/>
                  </a:lnTo>
                  <a:lnTo>
                    <a:pt x="0" y="0"/>
                  </a:lnTo>
                  <a:lnTo>
                    <a:pt x="128" y="7"/>
                  </a:lnTo>
                  <a:lnTo>
                    <a:pt x="19" y="7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 flipV="1">
              <a:off x="2765520" y="5741640"/>
              <a:ext cx="6094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48" name=""/>
          <p:cNvSpPr/>
          <p:nvPr/>
        </p:nvSpPr>
        <p:spPr>
          <a:xfrm>
            <a:off x="1344600" y="5789520"/>
            <a:ext cx="204840" cy="117720"/>
          </a:xfrm>
          <a:custGeom>
            <a:avLst/>
            <a:gdLst/>
            <a:ahLst/>
            <a:rect l="l" t="t" r="r" b="b"/>
            <a:pathLst>
              <a:path w="129" h="74">
                <a:moveTo>
                  <a:pt x="0" y="73"/>
                </a:moveTo>
                <a:lnTo>
                  <a:pt x="24" y="40"/>
                </a:lnTo>
                <a:lnTo>
                  <a:pt x="19" y="0"/>
                </a:lnTo>
                <a:lnTo>
                  <a:pt x="128" y="66"/>
                </a:lnTo>
                <a:lnTo>
                  <a:pt x="0" y="7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938160" y="5742000"/>
            <a:ext cx="4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1353960" y="5681520"/>
            <a:ext cx="19548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2157480" y="6351480"/>
            <a:ext cx="122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3983040" y="2092320"/>
            <a:ext cx="1830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3375000" y="2092320"/>
            <a:ext cx="4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3790800" y="2031840"/>
            <a:ext cx="193680" cy="122400"/>
          </a:xfrm>
          <a:custGeom>
            <a:avLst/>
            <a:gdLst/>
            <a:ahLst/>
            <a:rect l="l" t="t" r="r" b="b"/>
            <a:pathLst>
              <a:path w="122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1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3375000" y="3308400"/>
            <a:ext cx="1684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5008680" y="324792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5202360" y="3308400"/>
            <a:ext cx="610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3375000" y="3916440"/>
            <a:ext cx="1684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5008680" y="3857760"/>
            <a:ext cx="19512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0" y="75"/>
                </a:moveTo>
                <a:lnTo>
                  <a:pt x="15" y="37"/>
                </a:lnTo>
                <a:lnTo>
                  <a:pt x="0" y="0"/>
                </a:lnTo>
                <a:lnTo>
                  <a:pt x="122" y="37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5202360" y="3916440"/>
            <a:ext cx="610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 flipV="1">
            <a:off x="3375000" y="2458800"/>
            <a:ext cx="1698480" cy="849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5002200" y="2395440"/>
            <a:ext cx="201600" cy="142920"/>
          </a:xfrm>
          <a:custGeom>
            <a:avLst/>
            <a:gdLst/>
            <a:ahLst/>
            <a:rect l="l" t="t" r="r" b="b"/>
            <a:pathLst>
              <a:path w="127" h="90">
                <a:moveTo>
                  <a:pt x="34" y="89"/>
                </a:moveTo>
                <a:lnTo>
                  <a:pt x="30" y="48"/>
                </a:lnTo>
                <a:lnTo>
                  <a:pt x="0" y="21"/>
                </a:lnTo>
                <a:lnTo>
                  <a:pt x="126" y="0"/>
                </a:lnTo>
                <a:lnTo>
                  <a:pt x="34" y="8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 flipV="1">
            <a:off x="5202360" y="2092320"/>
            <a:ext cx="608040" cy="303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5002200" y="3005280"/>
            <a:ext cx="201600" cy="141120"/>
          </a:xfrm>
          <a:custGeom>
            <a:avLst/>
            <a:gdLst/>
            <a:ahLst/>
            <a:rect l="l" t="t" r="r" b="b"/>
            <a:pathLst>
              <a:path w="127" h="89">
                <a:moveTo>
                  <a:pt x="34" y="88"/>
                </a:moveTo>
                <a:lnTo>
                  <a:pt x="30" y="47"/>
                </a:lnTo>
                <a:lnTo>
                  <a:pt x="0" y="21"/>
                </a:lnTo>
                <a:lnTo>
                  <a:pt x="126" y="0"/>
                </a:lnTo>
                <a:lnTo>
                  <a:pt x="34" y="8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3983040" y="2395440"/>
            <a:ext cx="1827360" cy="912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3375000" y="2092320"/>
            <a:ext cx="480960" cy="237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3784680" y="2254320"/>
            <a:ext cx="199800" cy="142920"/>
          </a:xfrm>
          <a:custGeom>
            <a:avLst/>
            <a:gdLst/>
            <a:ahLst/>
            <a:rect l="l" t="t" r="r" b="b"/>
            <a:pathLst>
              <a:path w="126" h="90">
                <a:moveTo>
                  <a:pt x="0" y="68"/>
                </a:moveTo>
                <a:lnTo>
                  <a:pt x="30" y="41"/>
                </a:lnTo>
                <a:lnTo>
                  <a:pt x="34" y="0"/>
                </a:lnTo>
                <a:lnTo>
                  <a:pt x="125" y="89"/>
                </a:lnTo>
                <a:lnTo>
                  <a:pt x="0" y="6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3790800" y="2639880"/>
            <a:ext cx="193680" cy="122400"/>
          </a:xfrm>
          <a:custGeom>
            <a:avLst/>
            <a:gdLst/>
            <a:ahLst/>
            <a:rect l="l" t="t" r="r" b="b"/>
            <a:pathLst>
              <a:path w="122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1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3983040" y="3005280"/>
            <a:ext cx="1827360" cy="911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3375000" y="2700360"/>
            <a:ext cx="480960" cy="239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3784680" y="2863800"/>
            <a:ext cx="199800" cy="142920"/>
          </a:xfrm>
          <a:custGeom>
            <a:avLst/>
            <a:gdLst/>
            <a:ahLst/>
            <a:rect l="l" t="t" r="r" b="b"/>
            <a:pathLst>
              <a:path w="126" h="90">
                <a:moveTo>
                  <a:pt x="0" y="68"/>
                </a:moveTo>
                <a:lnTo>
                  <a:pt x="30" y="41"/>
                </a:lnTo>
                <a:lnTo>
                  <a:pt x="34" y="0"/>
                </a:lnTo>
                <a:lnTo>
                  <a:pt x="125" y="89"/>
                </a:lnTo>
                <a:lnTo>
                  <a:pt x="0" y="6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3983040" y="4525920"/>
            <a:ext cx="1830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3375000" y="4525920"/>
            <a:ext cx="4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3790800" y="4465800"/>
            <a:ext cx="193680" cy="122040"/>
          </a:xfrm>
          <a:custGeom>
            <a:avLst/>
            <a:gdLst/>
            <a:ahLst/>
            <a:rect l="l" t="t" r="r" b="b"/>
            <a:pathLst>
              <a:path w="122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1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3375000" y="5742000"/>
            <a:ext cx="1684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5008680" y="568152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5202360" y="5742000"/>
            <a:ext cx="610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3375000" y="6351480"/>
            <a:ext cx="1684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5008680" y="6291360"/>
            <a:ext cx="19512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0" y="75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5202360" y="6351480"/>
            <a:ext cx="610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 flipV="1">
            <a:off x="3375000" y="4892400"/>
            <a:ext cx="1698480" cy="849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5002200" y="4829040"/>
            <a:ext cx="201600" cy="142920"/>
          </a:xfrm>
          <a:custGeom>
            <a:avLst/>
            <a:gdLst/>
            <a:ahLst/>
            <a:rect l="l" t="t" r="r" b="b"/>
            <a:pathLst>
              <a:path w="127" h="90">
                <a:moveTo>
                  <a:pt x="34" y="89"/>
                </a:moveTo>
                <a:lnTo>
                  <a:pt x="30" y="48"/>
                </a:lnTo>
                <a:lnTo>
                  <a:pt x="0" y="21"/>
                </a:lnTo>
                <a:lnTo>
                  <a:pt x="126" y="0"/>
                </a:lnTo>
                <a:lnTo>
                  <a:pt x="34" y="8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 flipV="1">
            <a:off x="5202360" y="4525920"/>
            <a:ext cx="608040" cy="303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5002200" y="5438880"/>
            <a:ext cx="201600" cy="141120"/>
          </a:xfrm>
          <a:custGeom>
            <a:avLst/>
            <a:gdLst/>
            <a:ahLst/>
            <a:rect l="l" t="t" r="r" b="b"/>
            <a:pathLst>
              <a:path w="127" h="89">
                <a:moveTo>
                  <a:pt x="34" y="88"/>
                </a:moveTo>
                <a:lnTo>
                  <a:pt x="30" y="48"/>
                </a:lnTo>
                <a:lnTo>
                  <a:pt x="0" y="21"/>
                </a:lnTo>
                <a:lnTo>
                  <a:pt x="126" y="0"/>
                </a:lnTo>
                <a:lnTo>
                  <a:pt x="34" y="8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5" name=""/>
          <p:cNvGrpSpPr/>
          <p:nvPr/>
        </p:nvGrpSpPr>
        <p:grpSpPr>
          <a:xfrm>
            <a:off x="3375000" y="4525920"/>
            <a:ext cx="2435400" cy="1216080"/>
            <a:chOff x="3375000" y="4525920"/>
            <a:chExt cx="2435400" cy="1216080"/>
          </a:xfrm>
        </p:grpSpPr>
        <p:sp>
          <p:nvSpPr>
            <p:cNvPr id="2586" name=""/>
            <p:cNvSpPr/>
            <p:nvPr/>
          </p:nvSpPr>
          <p:spPr>
            <a:xfrm>
              <a:off x="3983040" y="4829040"/>
              <a:ext cx="1827360" cy="9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3375000" y="4525920"/>
              <a:ext cx="480960" cy="23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3784680" y="4689360"/>
              <a:ext cx="199800" cy="141480"/>
            </a:xfrm>
            <a:custGeom>
              <a:avLst/>
              <a:gdLst/>
              <a:ahLst/>
              <a:rect l="l" t="t" r="r" b="b"/>
              <a:pathLst>
                <a:path w="126" h="89">
                  <a:moveTo>
                    <a:pt x="0" y="67"/>
                  </a:moveTo>
                  <a:lnTo>
                    <a:pt x="30" y="40"/>
                  </a:lnTo>
                  <a:lnTo>
                    <a:pt x="34" y="0"/>
                  </a:lnTo>
                  <a:lnTo>
                    <a:pt x="125" y="88"/>
                  </a:lnTo>
                  <a:lnTo>
                    <a:pt x="0" y="6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89" name=""/>
          <p:cNvSpPr/>
          <p:nvPr/>
        </p:nvSpPr>
        <p:spPr>
          <a:xfrm>
            <a:off x="3790800" y="5073480"/>
            <a:ext cx="193680" cy="122400"/>
          </a:xfrm>
          <a:custGeom>
            <a:avLst/>
            <a:gdLst/>
            <a:ahLst/>
            <a:rect l="l" t="t" r="r" b="b"/>
            <a:pathLst>
              <a:path w="122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1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0" name=""/>
          <p:cNvGrpSpPr/>
          <p:nvPr/>
        </p:nvGrpSpPr>
        <p:grpSpPr>
          <a:xfrm>
            <a:off x="3375000" y="5133960"/>
            <a:ext cx="2435400" cy="1217520"/>
            <a:chOff x="3375000" y="5133960"/>
            <a:chExt cx="2435400" cy="1217520"/>
          </a:xfrm>
        </p:grpSpPr>
        <p:sp>
          <p:nvSpPr>
            <p:cNvPr id="2591" name=""/>
            <p:cNvSpPr/>
            <p:nvPr/>
          </p:nvSpPr>
          <p:spPr>
            <a:xfrm>
              <a:off x="3983040" y="5438880"/>
              <a:ext cx="1827360" cy="9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3375000" y="5133960"/>
              <a:ext cx="4809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3784680" y="5297400"/>
              <a:ext cx="199800" cy="142920"/>
            </a:xfrm>
            <a:custGeom>
              <a:avLst/>
              <a:gdLst/>
              <a:ahLst/>
              <a:rect l="l" t="t" r="r" b="b"/>
              <a:pathLst>
                <a:path w="126" h="90">
                  <a:moveTo>
                    <a:pt x="0" y="68"/>
                  </a:moveTo>
                  <a:lnTo>
                    <a:pt x="30" y="41"/>
                  </a:lnTo>
                  <a:lnTo>
                    <a:pt x="34" y="0"/>
                  </a:lnTo>
                  <a:lnTo>
                    <a:pt x="125" y="89"/>
                  </a:lnTo>
                  <a:lnTo>
                    <a:pt x="0" y="6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4" name=""/>
          <p:cNvSpPr/>
          <p:nvPr/>
        </p:nvSpPr>
        <p:spPr>
          <a:xfrm>
            <a:off x="5810400" y="4525920"/>
            <a:ext cx="199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7748640" y="4465800"/>
            <a:ext cx="195120" cy="12204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7942320" y="4525920"/>
            <a:ext cx="307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 flipV="1">
            <a:off x="5810400" y="2499840"/>
            <a:ext cx="2025360" cy="2025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763040" y="2395440"/>
            <a:ext cx="180720" cy="18108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54" y="113"/>
                </a:moveTo>
                <a:lnTo>
                  <a:pt x="37" y="76"/>
                </a:lnTo>
                <a:lnTo>
                  <a:pt x="0" y="59"/>
                </a:lnTo>
                <a:lnTo>
                  <a:pt x="113" y="0"/>
                </a:lnTo>
                <a:lnTo>
                  <a:pt x="54" y="11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 flipV="1">
            <a:off x="7942320" y="2092320"/>
            <a:ext cx="304920" cy="303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6114960" y="2395440"/>
            <a:ext cx="2132280" cy="2130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5810400" y="2092320"/>
            <a:ext cx="201600" cy="200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5935680" y="2217600"/>
            <a:ext cx="181080" cy="179640"/>
          </a:xfrm>
          <a:custGeom>
            <a:avLst/>
            <a:gdLst/>
            <a:ahLst/>
            <a:rect l="l" t="t" r="r" b="b"/>
            <a:pathLst>
              <a:path w="114" h="113">
                <a:moveTo>
                  <a:pt x="0" y="53"/>
                </a:moveTo>
                <a:lnTo>
                  <a:pt x="37" y="36"/>
                </a:lnTo>
                <a:lnTo>
                  <a:pt x="54" y="0"/>
                </a:lnTo>
                <a:lnTo>
                  <a:pt x="113" y="112"/>
                </a:lnTo>
                <a:lnTo>
                  <a:pt x="0" y="5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 flipV="1">
            <a:off x="5810400" y="3107880"/>
            <a:ext cx="2025360" cy="2025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7763040" y="3005280"/>
            <a:ext cx="180720" cy="179280"/>
          </a:xfrm>
          <a:custGeom>
            <a:avLst/>
            <a:gdLst/>
            <a:ahLst/>
            <a:rect l="l" t="t" r="r" b="b"/>
            <a:pathLst>
              <a:path w="114" h="113">
                <a:moveTo>
                  <a:pt x="54" y="112"/>
                </a:moveTo>
                <a:lnTo>
                  <a:pt x="37" y="75"/>
                </a:lnTo>
                <a:lnTo>
                  <a:pt x="0" y="58"/>
                </a:lnTo>
                <a:lnTo>
                  <a:pt x="113" y="0"/>
                </a:lnTo>
                <a:lnTo>
                  <a:pt x="54" y="11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 flipV="1">
            <a:off x="7942320" y="2700000"/>
            <a:ext cx="30492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 flipV="1">
            <a:off x="5810400" y="3718080"/>
            <a:ext cx="2025360" cy="2023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7763040" y="3613320"/>
            <a:ext cx="180720" cy="18072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54" y="113"/>
                </a:moveTo>
                <a:lnTo>
                  <a:pt x="37" y="76"/>
                </a:lnTo>
                <a:lnTo>
                  <a:pt x="0" y="59"/>
                </a:lnTo>
                <a:lnTo>
                  <a:pt x="113" y="0"/>
                </a:lnTo>
                <a:lnTo>
                  <a:pt x="54" y="11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 flipV="1">
            <a:off x="7942320" y="3308040"/>
            <a:ext cx="30492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 flipV="1">
            <a:off x="5810400" y="4325400"/>
            <a:ext cx="2025360" cy="2025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7763040" y="4221000"/>
            <a:ext cx="180720" cy="18108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54" y="113"/>
                </a:moveTo>
                <a:lnTo>
                  <a:pt x="37" y="76"/>
                </a:lnTo>
                <a:lnTo>
                  <a:pt x="0" y="59"/>
                </a:lnTo>
                <a:lnTo>
                  <a:pt x="113" y="0"/>
                </a:lnTo>
                <a:lnTo>
                  <a:pt x="54" y="11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 flipV="1">
            <a:off x="7942320" y="3916440"/>
            <a:ext cx="30492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5935680" y="2825640"/>
            <a:ext cx="181080" cy="18108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0" y="54"/>
                </a:moveTo>
                <a:lnTo>
                  <a:pt x="37" y="37"/>
                </a:lnTo>
                <a:lnTo>
                  <a:pt x="54" y="0"/>
                </a:lnTo>
                <a:lnTo>
                  <a:pt x="113" y="113"/>
                </a:lnTo>
                <a:lnTo>
                  <a:pt x="0" y="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6114960" y="3613320"/>
            <a:ext cx="2132280" cy="2128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5810400" y="3308400"/>
            <a:ext cx="201600" cy="20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5935680" y="3433680"/>
            <a:ext cx="181080" cy="18108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0" y="54"/>
                </a:moveTo>
                <a:lnTo>
                  <a:pt x="37" y="37"/>
                </a:lnTo>
                <a:lnTo>
                  <a:pt x="54" y="0"/>
                </a:lnTo>
                <a:lnTo>
                  <a:pt x="113" y="113"/>
                </a:lnTo>
                <a:lnTo>
                  <a:pt x="0" y="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6114960" y="4221000"/>
            <a:ext cx="2132280" cy="2130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5810400" y="3916440"/>
            <a:ext cx="201600" cy="20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5935680" y="4041720"/>
            <a:ext cx="181080" cy="18108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0" y="54"/>
                </a:moveTo>
                <a:lnTo>
                  <a:pt x="37" y="37"/>
                </a:lnTo>
                <a:lnTo>
                  <a:pt x="54" y="0"/>
                </a:lnTo>
                <a:lnTo>
                  <a:pt x="113" y="113"/>
                </a:lnTo>
                <a:lnTo>
                  <a:pt x="0" y="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7748640" y="507348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5810400" y="5742000"/>
            <a:ext cx="199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7748640" y="568152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7942320" y="5742000"/>
            <a:ext cx="307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5810400" y="6351480"/>
            <a:ext cx="199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7748640" y="6291360"/>
            <a:ext cx="19512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0" y="75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7942320" y="6351480"/>
            <a:ext cx="307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6191280" y="2700360"/>
            <a:ext cx="2058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5810400" y="2700360"/>
            <a:ext cx="237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5997600" y="263988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6191280" y="3308400"/>
            <a:ext cx="2058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5810400" y="3308400"/>
            <a:ext cx="237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5997600" y="324792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6191280" y="3916440"/>
            <a:ext cx="2058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5810400" y="3916440"/>
            <a:ext cx="237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5997600" y="3857760"/>
            <a:ext cx="19512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0" y="75"/>
                </a:moveTo>
                <a:lnTo>
                  <a:pt x="15" y="37"/>
                </a:lnTo>
                <a:lnTo>
                  <a:pt x="0" y="0"/>
                </a:lnTo>
                <a:lnTo>
                  <a:pt x="122" y="37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876240" y="202896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876240" y="263700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876240" y="3244680"/>
            <a:ext cx="127080" cy="128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876240" y="3854520"/>
            <a:ext cx="12708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876240" y="446256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876240" y="507060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876240" y="567864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876240" y="6288120"/>
            <a:ext cx="12708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3311640" y="20289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3311640" y="26370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3311640" y="3244680"/>
            <a:ext cx="128520" cy="128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3311640" y="38545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3311640" y="44625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3311640" y="50706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3311640" y="567864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3311640" y="62881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5746680" y="20289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5746680" y="26370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5746680" y="3244680"/>
            <a:ext cx="128520" cy="128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5746680" y="38545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5746680" y="44625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5746680" y="50706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5746680" y="567864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5746680" y="62881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8183520" y="20289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8183520" y="26370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8183520" y="3244680"/>
            <a:ext cx="128520" cy="128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8183520" y="38545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8183520" y="44625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8183520" y="50706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8183520" y="567864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8183520" y="62881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6191280" y="2092320"/>
            <a:ext cx="2058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5810400" y="2092320"/>
            <a:ext cx="237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5997600" y="203184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161640" y="180180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259200" y="180180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161640" y="240984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259200" y="240984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161640" y="301788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259200" y="301788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161640" y="36259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259200" y="362592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161640" y="423540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259200" y="423540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161640" y="484344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259200" y="484344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161640" y="545148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259200" y="545148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161640" y="60595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259200" y="605952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8308080" y="187632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8308080" y="248616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8308080" y="309420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8308080" y="370188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8308080" y="431172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8308080" y="491976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8308080" y="552780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8308080" y="613584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2656440" y="214164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2963880" y="235260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3001320" y="21178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1972080" y="267480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2279520" y="28843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2315520" y="265104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2656440" y="335916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2963880" y="35701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3001320" y="333540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1972080" y="389088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2279520" y="410220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2315520" y="386712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2656440" y="457524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2963880" y="478620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3001320" y="45514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1972080" y="510840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2279520" y="53197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2315520" y="508464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2656440" y="579276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2963880" y="600408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3001320" y="576900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4407480" y="206532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4714920" y="227664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4752360" y="204156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4407480" y="267480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4714920" y="28843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4752360" y="265104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4407480" y="328284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4714920" y="349416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4752360" y="32590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4407480" y="389088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4714920" y="410220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4752360" y="386712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4407480" y="449892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4714920" y="471024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4752360" y="447660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4407480" y="510840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4714920" y="53197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4752360" y="508464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4407480" y="571644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4714920" y="592776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4752360" y="56926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7604640" y="206532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7912080" y="227664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7949520" y="204156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7604640" y="267480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7912080" y="28843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7936920" y="265104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>
            <a:off x="7604640" y="328284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7912080" y="349416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7949520" y="32590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7604640" y="389088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7912080" y="410220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7949520" y="386712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7604640" y="449892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7912080" y="471024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7949520" y="447660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7604640" y="510840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7912080" y="53197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7943040" y="508464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7604640" y="571644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7912080" y="592776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7949520" y="56926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7" name=""/>
          <p:cNvGrpSpPr/>
          <p:nvPr/>
        </p:nvGrpSpPr>
        <p:grpSpPr>
          <a:xfrm>
            <a:off x="7604640" y="6300720"/>
            <a:ext cx="629640" cy="555840"/>
            <a:chOff x="7604640" y="6300720"/>
            <a:chExt cx="629640" cy="555840"/>
          </a:xfrm>
        </p:grpSpPr>
        <p:sp>
          <p:nvSpPr>
            <p:cNvPr id="2758" name=""/>
            <p:cNvSpPr/>
            <p:nvPr/>
          </p:nvSpPr>
          <p:spPr>
            <a:xfrm>
              <a:off x="7604640" y="632448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7912080" y="653580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7949520" y="630072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61" name=""/>
          <p:cNvGrpSpPr/>
          <p:nvPr/>
        </p:nvGrpSpPr>
        <p:grpSpPr>
          <a:xfrm>
            <a:off x="1971720" y="338040"/>
            <a:ext cx="7142040" cy="1409760"/>
            <a:chOff x="1971720" y="338040"/>
            <a:chExt cx="7142040" cy="1409760"/>
          </a:xfrm>
        </p:grpSpPr>
        <p:grpSp>
          <p:nvGrpSpPr>
            <p:cNvPr id="2762" name=""/>
            <p:cNvGrpSpPr/>
            <p:nvPr/>
          </p:nvGrpSpPr>
          <p:grpSpPr>
            <a:xfrm>
              <a:off x="1971720" y="338040"/>
              <a:ext cx="7142040" cy="1408320"/>
              <a:chOff x="1971720" y="338040"/>
              <a:chExt cx="7142040" cy="1408320"/>
            </a:xfrm>
          </p:grpSpPr>
          <p:grpSp>
            <p:nvGrpSpPr>
              <p:cNvPr id="2763" name=""/>
              <p:cNvGrpSpPr/>
              <p:nvPr/>
            </p:nvGrpSpPr>
            <p:grpSpPr>
              <a:xfrm>
                <a:off x="1971720" y="338040"/>
                <a:ext cx="7142040" cy="1406520"/>
                <a:chOff x="1971720" y="338040"/>
                <a:chExt cx="7142040" cy="1406520"/>
              </a:xfrm>
            </p:grpSpPr>
            <p:grpSp>
              <p:nvGrpSpPr>
                <p:cNvPr id="2764" name=""/>
                <p:cNvGrpSpPr/>
                <p:nvPr/>
              </p:nvGrpSpPr>
              <p:grpSpPr>
                <a:xfrm>
                  <a:off x="1971720" y="338040"/>
                  <a:ext cx="7142040" cy="663840"/>
                  <a:chOff x="1971720" y="338040"/>
                  <a:chExt cx="7142040" cy="663840"/>
                </a:xfrm>
              </p:grpSpPr>
              <p:grpSp>
                <p:nvGrpSpPr>
                  <p:cNvPr id="2765" name=""/>
                  <p:cNvGrpSpPr/>
                  <p:nvPr/>
                </p:nvGrpSpPr>
                <p:grpSpPr>
                  <a:xfrm>
                    <a:off x="1971720" y="380880"/>
                    <a:ext cx="5572080" cy="621000"/>
                    <a:chOff x="1971720" y="380880"/>
                    <a:chExt cx="5572080" cy="621000"/>
                  </a:xfrm>
                </p:grpSpPr>
                <p:grpSp>
                  <p:nvGrpSpPr>
                    <p:cNvPr id="2766" name=""/>
                    <p:cNvGrpSpPr/>
                    <p:nvPr/>
                  </p:nvGrpSpPr>
                  <p:grpSpPr>
                    <a:xfrm>
                      <a:off x="1971720" y="414360"/>
                      <a:ext cx="3508200" cy="587520"/>
                      <a:chOff x="1971720" y="414360"/>
                      <a:chExt cx="3508200" cy="587520"/>
                    </a:xfrm>
                  </p:grpSpPr>
                  <mc:AlternateContent>
                    <mc:Choice xmlns:a14="http://schemas.microsoft.com/office/drawing/2010/main" Requires="a14">
                      <p:sp>
                        <p:nvSpPr>
                          <p:cNvPr id="2767" name=""/>
                          <p:cNvSpPr txBox="1"/>
                          <p:nvPr/>
                        </p:nvSpPr>
                        <p:spPr>
                          <a:xfrm>
                            <a:off x="1971720" y="536400"/>
                            <a:ext cx="1219320" cy="465480"/>
                          </a:xfrm>
                          <a:prstGeom prst="rect">
                            <a:avLst/>
                          </a:prstGeom>
                        </p:spPr>
                        <p:txBody>
                          <a:bodyPr/>
                          <a:p>
                            <a14:m>
                              <m:oMath xmlns:m="http://schemas.openxmlformats.org/officeDocument/2006/math"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=</m:t>
                                </m:r>
                              </m:oMath>
                            </a14:m>
                          </a:p>
                        </p:txBody>
                      </p:sp>
                    </mc:Choice>
                    <mc:Fallback/>
                  </mc:AlternateContent>
                  <mc:AlternateContent>
                    <mc:Choice xmlns:a14="http://schemas.microsoft.com/office/drawing/2010/main" Requires="a14">
                      <p:sp>
                        <p:nvSpPr>
                          <p:cNvPr id="2768" name=""/>
                          <p:cNvSpPr txBox="1"/>
                          <p:nvPr/>
                        </p:nvSpPr>
                        <p:spPr>
                          <a:xfrm>
                            <a:off x="3228840" y="509760"/>
                            <a:ext cx="801720" cy="480960"/>
                          </a:xfrm>
                          <a:prstGeom prst="rect">
                            <a:avLst/>
                          </a:prstGeom>
                        </p:spPr>
                        <p:txBody>
                          <a:bodyPr/>
                          <a:p>
                            <a14:m>
                              <m:oMath xmlns:m="http://schemas.openxmlformats.org/officeDocument/2006/math"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)</m:t>
                                </m:r>
                              </m:oMath>
                            </a14:m>
                          </a:p>
                        </p:txBody>
                      </p:sp>
                    </mc:Choice>
                    <mc:Fallback/>
                  </mc:AlternateContent>
                  <mc:AlternateContent>
                    <mc:Choice xmlns:a14="http://schemas.microsoft.com/office/drawing/2010/main" Requires="a14">
                      <p:sp>
                        <p:nvSpPr>
                          <p:cNvPr id="2769" name=""/>
                          <p:cNvSpPr txBox="1"/>
                          <p:nvPr/>
                        </p:nvSpPr>
                        <p:spPr>
                          <a:xfrm>
                            <a:off x="4019400" y="611280"/>
                            <a:ext cx="303480" cy="303120"/>
                          </a:xfrm>
                          <a:prstGeom prst="rect">
                            <a:avLst/>
                          </a:prstGeom>
                        </p:spPr>
                        <p:txBody>
                          <a:bodyPr/>
                          <a:p>
                            <a14:m>
                              <m:oMath xmlns:m="http://schemas.openxmlformats.org/officeDocument/2006/math">
                                <m:r>
                                  <m:t xml:space="preserve">+</m:t>
                                </m:r>
                              </m:oMath>
                            </a14:m>
                          </a:p>
                        </p:txBody>
                      </p:sp>
                    </mc:Choice>
                    <mc:Fallback/>
                  </mc:AlternateContent>
                  <mc:AlternateContent>
                    <mc:Choice xmlns:a14="http://schemas.microsoft.com/office/drawing/2010/main" Requires="a14">
                      <p:sp>
                        <p:nvSpPr>
                          <p:cNvPr id="2770" name=""/>
                          <p:cNvSpPr txBox="1"/>
                          <p:nvPr/>
                        </p:nvSpPr>
                        <p:spPr>
                          <a:xfrm>
                            <a:off x="4267080" y="414360"/>
                            <a:ext cx="1212840" cy="576360"/>
                          </a:xfrm>
                          <a:prstGeom prst="rect">
                            <a:avLst/>
                          </a:prstGeom>
                        </p:spPr>
                        <p:txBody>
                          <a:bodyPr/>
                          <a:p>
                            <a14:m>
                              <m:oMath xmlns:m="http://schemas.openxmlformats.org/officeDocument/2006/math"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8</m:t>
                                    </m:r>
                                  </m:sub>
                                  <m:sup>
                                    <m:r>
                                      <m:t xml:space="preserve">5</m:t>
                                    </m:r>
                                  </m:sup>
                                </m:sSubSup>
                              </m:oMath>
                            </a14:m>
                          </a:p>
                        </p:txBody>
                      </p:sp>
                    </mc:Choice>
                    <mc:Fallback/>
                  </mc:AlternateContent>
                </p:grpSp>
                <mc:AlternateContent>
                  <mc:Choice xmlns:a14="http://schemas.microsoft.com/office/drawing/2010/main" Requires="a14">
                    <p:sp>
                      <p:nvSpPr>
                        <p:cNvPr id="2771" name=""/>
                        <p:cNvSpPr txBox="1"/>
                        <p:nvPr/>
                      </p:nvSpPr>
                      <p:spPr>
                        <a:xfrm>
                          <a:off x="5410080" y="380880"/>
                          <a:ext cx="2133720" cy="61452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+</m:t>
                              </m:r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sSubSup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8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</p:grpSp>
              <mc:AlternateContent>
                <mc:Choice xmlns:a14="http://schemas.microsoft.com/office/drawing/2010/main" Requires="a14">
                  <p:sp>
                    <p:nvSpPr>
                      <p:cNvPr id="2772" name=""/>
                      <p:cNvSpPr txBox="1"/>
                      <p:nvPr/>
                    </p:nvSpPr>
                    <p:spPr>
                      <a:xfrm>
                        <a:off x="7334280" y="338040"/>
                        <a:ext cx="1779480" cy="6429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8</m:t>
                                </m:r>
                              </m:sub>
                              <m:sup>
                                <m:r>
                                  <m:t xml:space="preserve">7</m:t>
                                </m:r>
                              </m:sup>
                            </m:sSubSup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mc:AlternateContent>
              <mc:Choice xmlns:a14="http://schemas.microsoft.com/office/drawing/2010/main" Requires="a14">
                <p:sp>
                  <p:nvSpPr>
                    <p:cNvPr id="2773" name=""/>
                    <p:cNvSpPr txBox="1"/>
                    <p:nvPr/>
                  </p:nvSpPr>
                  <p:spPr>
                    <a:xfrm>
                      <a:off x="2066760" y="1176480"/>
                      <a:ext cx="1590840" cy="5680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+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  <m:sSubSup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8</m:t>
                              </m:r>
                            </m:sub>
                            <m:sup>
                              <m:r>
                                <m:t xml:space="preserve">4</m:t>
                              </m:r>
                            </m:sup>
                          </m:sSubSup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2774" name=""/>
                  <p:cNvSpPr txBox="1"/>
                  <p:nvPr/>
                </p:nvSpPr>
                <p:spPr>
                  <a:xfrm>
                    <a:off x="3581280" y="1176480"/>
                    <a:ext cx="1524240" cy="569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775" name=""/>
                <p:cNvSpPr txBox="1"/>
                <p:nvPr/>
              </p:nvSpPr>
              <p:spPr>
                <a:xfrm>
                  <a:off x="5105520" y="1176480"/>
                  <a:ext cx="160020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6</m:t>
                      </m:r>
                      <m:r>
                        <m:t xml:space="preserve">)</m:t>
                      </m:r>
                      <m:sSubSup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8</m:t>
                          </m:r>
                        </m:sub>
                        <m:sup>
                          <m:r>
                            <m:t xml:space="preserve">6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513F-2F36-4915-AEF0-C94ACB19BF5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6" name=""/>
          <p:cNvGrpSpPr/>
          <p:nvPr/>
        </p:nvGrpSpPr>
        <p:grpSpPr>
          <a:xfrm>
            <a:off x="1972080" y="6300720"/>
            <a:ext cx="629640" cy="555840"/>
            <a:chOff x="1972080" y="6300720"/>
            <a:chExt cx="629640" cy="555840"/>
          </a:xfrm>
        </p:grpSpPr>
        <p:sp>
          <p:nvSpPr>
            <p:cNvPr id="2777" name=""/>
            <p:cNvSpPr/>
            <p:nvPr/>
          </p:nvSpPr>
          <p:spPr>
            <a:xfrm>
              <a:off x="1972080" y="632448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2279520" y="653580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2315520" y="630072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0" name=""/>
          <p:cNvGrpSpPr/>
          <p:nvPr/>
        </p:nvGrpSpPr>
        <p:grpSpPr>
          <a:xfrm>
            <a:off x="4407480" y="6300720"/>
            <a:ext cx="629640" cy="555840"/>
            <a:chOff x="4407480" y="6300720"/>
            <a:chExt cx="629640" cy="555840"/>
          </a:xfrm>
        </p:grpSpPr>
        <p:sp>
          <p:nvSpPr>
            <p:cNvPr id="2781" name=""/>
            <p:cNvSpPr/>
            <p:nvPr/>
          </p:nvSpPr>
          <p:spPr>
            <a:xfrm>
              <a:off x="4407480" y="632448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4714920" y="653580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4752360" y="630072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4" name=""/>
          <p:cNvGrpSpPr/>
          <p:nvPr/>
        </p:nvGrpSpPr>
        <p:grpSpPr>
          <a:xfrm>
            <a:off x="1971720" y="338040"/>
            <a:ext cx="7142040" cy="1425600"/>
            <a:chOff x="1971720" y="338040"/>
            <a:chExt cx="7142040" cy="1425600"/>
          </a:xfrm>
        </p:grpSpPr>
        <p:grpSp>
          <p:nvGrpSpPr>
            <p:cNvPr id="2785" name=""/>
            <p:cNvGrpSpPr/>
            <p:nvPr/>
          </p:nvGrpSpPr>
          <p:grpSpPr>
            <a:xfrm>
              <a:off x="1971720" y="338040"/>
              <a:ext cx="7142040" cy="1409760"/>
              <a:chOff x="1971720" y="338040"/>
              <a:chExt cx="7142040" cy="1409760"/>
            </a:xfrm>
          </p:grpSpPr>
          <p:grpSp>
            <p:nvGrpSpPr>
              <p:cNvPr id="2786" name=""/>
              <p:cNvGrpSpPr/>
              <p:nvPr/>
            </p:nvGrpSpPr>
            <p:grpSpPr>
              <a:xfrm>
                <a:off x="1971720" y="338040"/>
                <a:ext cx="7142040" cy="1408320"/>
                <a:chOff x="1971720" y="338040"/>
                <a:chExt cx="7142040" cy="1408320"/>
              </a:xfrm>
            </p:grpSpPr>
            <p:grpSp>
              <p:nvGrpSpPr>
                <p:cNvPr id="2787" name=""/>
                <p:cNvGrpSpPr/>
                <p:nvPr/>
              </p:nvGrpSpPr>
              <p:grpSpPr>
                <a:xfrm>
                  <a:off x="1971720" y="338040"/>
                  <a:ext cx="7142040" cy="1406520"/>
                  <a:chOff x="1971720" y="338040"/>
                  <a:chExt cx="7142040" cy="1406520"/>
                </a:xfrm>
              </p:grpSpPr>
              <p:grpSp>
                <p:nvGrpSpPr>
                  <p:cNvPr id="2788" name=""/>
                  <p:cNvGrpSpPr/>
                  <p:nvPr/>
                </p:nvGrpSpPr>
                <p:grpSpPr>
                  <a:xfrm>
                    <a:off x="1971720" y="338040"/>
                    <a:ext cx="7142040" cy="663840"/>
                    <a:chOff x="1971720" y="338040"/>
                    <a:chExt cx="7142040" cy="663840"/>
                  </a:xfrm>
                </p:grpSpPr>
                <p:grpSp>
                  <p:nvGrpSpPr>
                    <p:cNvPr id="2789" name=""/>
                    <p:cNvGrpSpPr/>
                    <p:nvPr/>
                  </p:nvGrpSpPr>
                  <p:grpSpPr>
                    <a:xfrm>
                      <a:off x="1971720" y="380880"/>
                      <a:ext cx="5572080" cy="621000"/>
                      <a:chOff x="1971720" y="380880"/>
                      <a:chExt cx="5572080" cy="621000"/>
                    </a:xfrm>
                  </p:grpSpPr>
                  <p:grpSp>
                    <p:nvGrpSpPr>
                      <p:cNvPr id="2790" name=""/>
                      <p:cNvGrpSpPr/>
                      <p:nvPr/>
                    </p:nvGrpSpPr>
                    <p:grpSpPr>
                      <a:xfrm>
                        <a:off x="1971720" y="414360"/>
                        <a:ext cx="3508200" cy="587520"/>
                        <a:chOff x="1971720" y="414360"/>
                        <a:chExt cx="3508200" cy="587520"/>
                      </a:xfrm>
                    </p:grpSpPr>
                    <mc:AlternateContent>
                      <mc:Choice xmlns:a14="http://schemas.microsoft.com/office/drawing/2010/main" Requires="a14">
                        <p:sp>
                          <p:nvSpPr>
                            <p:cNvPr id="2791" name=""/>
                            <p:cNvSpPr txBox="1"/>
                            <p:nvPr/>
                          </p:nvSpPr>
                          <p:spPr>
                            <a:xfrm>
                              <a:off x="1971720" y="536400"/>
                              <a:ext cx="1219320" cy="465480"/>
                            </a:xfrm>
                            <a:prstGeom prst="rect">
                              <a:avLst/>
                            </a:prstGeom>
                          </p:spPr>
                          <p:txBody>
                            <a:bodyPr/>
                            <a:p>
                              <a14:m>
                                <m:oMath xmlns:m="http://schemas.openxmlformats.org/officeDocument/2006/math">
                                  <m:r>
                                    <m:t xml:space="preserve">X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5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=</m:t>
                                  </m:r>
                                </m:oMath>
                              </a14:m>
                            </a:p>
                          </p:txBody>
                        </p:sp>
                      </mc:Choice>
                      <mc:Fallback/>
                    </mc:AlternateContent>
                    <mc:AlternateContent>
                      <mc:Choice xmlns:a14="http://schemas.microsoft.com/office/drawing/2010/main" Requires="a14">
                        <p:sp>
                          <p:nvSpPr>
                            <p:cNvPr id="2792" name=""/>
                            <p:cNvSpPr txBox="1"/>
                            <p:nvPr/>
                          </p:nvSpPr>
                          <p:spPr>
                            <a:xfrm>
                              <a:off x="3228840" y="509760"/>
                              <a:ext cx="801720" cy="480960"/>
                            </a:xfrm>
                            <a:prstGeom prst="rect">
                              <a:avLst/>
                            </a:prstGeom>
                          </p:spPr>
                          <p:txBody>
                            <a:bodyPr/>
                            <a:p>
                              <a14:m>
                                <m:oMath xmlns:m="http://schemas.openxmlformats.org/officeDocument/2006/math">
                                  <m:r>
                                    <m:t xml:space="preserve">x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)</m:t>
                                  </m:r>
                                </m:oMath>
                              </a14:m>
                            </a:p>
                          </p:txBody>
                        </p:sp>
                      </mc:Choice>
                      <mc:Fallback/>
                    </mc:AlternateContent>
                    <mc:AlternateContent>
                      <mc:Choice xmlns:a14="http://schemas.microsoft.com/office/drawing/2010/main" Requires="a14">
                        <p:sp>
                          <p:nvSpPr>
                            <p:cNvPr id="2793" name=""/>
                            <p:cNvSpPr txBox="1"/>
                            <p:nvPr/>
                          </p:nvSpPr>
                          <p:spPr>
                            <a:xfrm>
                              <a:off x="4019400" y="611280"/>
                              <a:ext cx="303480" cy="303120"/>
                            </a:xfrm>
                            <a:prstGeom prst="rect">
                              <a:avLst/>
                            </a:prstGeom>
                          </p:spPr>
                          <p:txBody>
                            <a:bodyPr/>
                            <a:p>
                              <a14:m>
                                <m:oMath xmlns:m="http://schemas.openxmlformats.org/officeDocument/2006/math">
                                  <m:r>
                                    <m:t xml:space="preserve">+</m:t>
                                  </m:r>
                                </m:oMath>
                              </a14:m>
                            </a:p>
                          </p:txBody>
                        </p:sp>
                      </mc:Choice>
                      <mc:Fallback/>
                    </mc:AlternateContent>
                    <mc:AlternateContent>
                      <mc:Choice xmlns:a14="http://schemas.microsoft.com/office/drawing/2010/main" Requires="a14">
                        <p:sp>
                          <p:nvSpPr>
                            <p:cNvPr id="2794" name=""/>
                            <p:cNvSpPr txBox="1"/>
                            <p:nvPr/>
                          </p:nvSpPr>
                          <p:spPr>
                            <a:xfrm>
                              <a:off x="4267080" y="414360"/>
                              <a:ext cx="1212840" cy="576360"/>
                            </a:xfrm>
                            <a:prstGeom prst="rect">
                              <a:avLst/>
                            </a:prstGeom>
                          </p:spPr>
                          <p:txBody>
                            <a:bodyPr/>
                            <a:p>
                              <a14:m>
                                <m:oMath xmlns:m="http://schemas.openxmlformats.org/officeDocument/2006/math">
                                  <m:r>
                                    <m:t xml:space="preserve">x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  <m:sSubSup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t xml:space="preserve">8</m:t>
                                      </m:r>
                                    </m:sub>
                                    <m:sup>
                                      <m:r>
                                        <m:t xml:space="preserve">5</m:t>
                                      </m:r>
                                    </m:sup>
                                  </m:sSubSup>
                                </m:oMath>
                              </a14:m>
                            </a:p>
                          </p:txBody>
                        </p:sp>
                      </mc:Choice>
                      <mc:Fallback/>
                    </mc:AlternateContent>
                  </p:grpSp>
                  <mc:AlternateContent>
                    <mc:Choice xmlns:a14="http://schemas.microsoft.com/office/drawing/2010/main" Requires="a14">
                      <p:sp>
                        <p:nvSpPr>
                          <p:cNvPr id="2795" name=""/>
                          <p:cNvSpPr txBox="1"/>
                          <p:nvPr/>
                        </p:nvSpPr>
                        <p:spPr>
                          <a:xfrm>
                            <a:off x="5410080" y="380880"/>
                            <a:ext cx="2133720" cy="614520"/>
                          </a:xfrm>
                          <a:prstGeom prst="rect">
                            <a:avLst/>
                          </a:prstGeom>
                        </p:spPr>
                        <p:txBody>
                          <a:bodyPr/>
                          <a:p>
                            <a14:m>
                              <m:oMath xmlns:m="http://schemas.openxmlformats.org/officeDocument/2006/math">
                                <m:r>
                                  <m:t xml:space="preserve">+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8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oMath>
                            </a14:m>
                          </a:p>
                        </p:txBody>
                      </p:sp>
                    </mc:Choice>
                    <mc:Fallback/>
                  </mc:AlternateContent>
                </p:grpSp>
                <mc:AlternateContent>
                  <mc:Choice xmlns:a14="http://schemas.microsoft.com/office/drawing/2010/main" Requires="a14">
                    <p:sp>
                      <p:nvSpPr>
                        <p:cNvPr id="2796" name=""/>
                        <p:cNvSpPr txBox="1"/>
                        <p:nvPr/>
                      </p:nvSpPr>
                      <p:spPr>
                        <a:xfrm>
                          <a:off x="7334280" y="338040"/>
                          <a:ext cx="1779480" cy="64296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+</m:t>
                              </m:r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  <m:sSubSup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8</m:t>
                                  </m:r>
                                </m:sub>
                                <m:sup>
                                  <m:r>
                                    <m:t xml:space="preserve">7</m:t>
                                  </m:r>
                                </m:sup>
                              </m:sSubSup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</p:grpSp>
              <mc:AlternateContent>
                <mc:Choice xmlns:a14="http://schemas.microsoft.com/office/drawing/2010/main" Requires="a14">
                  <p:sp>
                    <p:nvSpPr>
                      <p:cNvPr id="2797" name=""/>
                      <p:cNvSpPr txBox="1"/>
                      <p:nvPr/>
                    </p:nvSpPr>
                    <p:spPr>
                      <a:xfrm>
                        <a:off x="2066760" y="1176480"/>
                        <a:ext cx="1590840" cy="56808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8</m:t>
                                </m:r>
                              </m:sub>
                              <m:sup>
                                <m:r>
                                  <m:t xml:space="preserve">4</m:t>
                                </m:r>
                              </m:sup>
                            </m:sSubSup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mc:AlternateContent>
              <mc:Choice xmlns:a14="http://schemas.microsoft.com/office/drawing/2010/main" Requires="a14">
                <p:sp>
                  <p:nvSpPr>
                    <p:cNvPr id="2798" name=""/>
                    <p:cNvSpPr txBox="1"/>
                    <p:nvPr/>
                  </p:nvSpPr>
                  <p:spPr>
                    <a:xfrm>
                      <a:off x="3581280" y="1176480"/>
                      <a:ext cx="1524240" cy="5698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+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5</m:t>
                          </m:r>
                          <m:r>
                            <m:t xml:space="preserve">)</m:t>
                          </m:r>
                          <m:sSubSup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8</m:t>
                              </m:r>
                            </m:sub>
                            <m:sup>
                              <m:r>
                                <m:t xml:space="preserve">1</m:t>
                              </m:r>
                            </m:sup>
                          </m:sSubSup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2799" name=""/>
                  <p:cNvSpPr txBox="1"/>
                  <p:nvPr/>
                </p:nvSpPr>
                <p:spPr>
                  <a:xfrm>
                    <a:off x="5105520" y="1176480"/>
                    <a:ext cx="1600200" cy="571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  <m:sup>
                            <m:r>
                              <m:t xml:space="preserve">6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800" name=""/>
                <p:cNvSpPr txBox="1"/>
                <p:nvPr/>
              </p:nvSpPr>
              <p:spPr>
                <a:xfrm>
                  <a:off x="6689880" y="1160640"/>
                  <a:ext cx="1633320" cy="60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7</m:t>
                      </m:r>
                      <m:r>
                        <m:t xml:space="preserve">)</m:t>
                      </m:r>
                      <m:sSubSup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8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01" name=""/>
          <p:cNvGrpSpPr/>
          <p:nvPr/>
        </p:nvGrpSpPr>
        <p:grpSpPr>
          <a:xfrm>
            <a:off x="938160" y="5133600"/>
            <a:ext cx="7311960" cy="1217880"/>
            <a:chOff x="938160" y="5133600"/>
            <a:chExt cx="7311960" cy="1217880"/>
          </a:xfrm>
        </p:grpSpPr>
        <p:sp>
          <p:nvSpPr>
            <p:cNvPr id="2802" name=""/>
            <p:cNvSpPr/>
            <p:nvPr/>
          </p:nvSpPr>
          <p:spPr>
            <a:xfrm>
              <a:off x="5810400" y="5133960"/>
              <a:ext cx="199044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7942320" y="5133960"/>
              <a:ext cx="30780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 flipV="1">
              <a:off x="3375000" y="5501880"/>
              <a:ext cx="1698480" cy="8492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 flipV="1">
              <a:off x="5202360" y="5133600"/>
              <a:ext cx="608040" cy="3049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938160" y="6351480"/>
              <a:ext cx="107964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2157480" y="6351480"/>
              <a:ext cx="122076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08" name=""/>
          <p:cNvGrpSpPr/>
          <p:nvPr/>
        </p:nvGrpSpPr>
        <p:grpSpPr>
          <a:xfrm>
            <a:off x="938160" y="2700000"/>
            <a:ext cx="7309080" cy="2433960"/>
            <a:chOff x="938160" y="2700000"/>
            <a:chExt cx="7309080" cy="2433960"/>
          </a:xfrm>
        </p:grpSpPr>
        <p:sp>
          <p:nvSpPr>
            <p:cNvPr id="2809" name=""/>
            <p:cNvSpPr/>
            <p:nvPr/>
          </p:nvSpPr>
          <p:spPr>
            <a:xfrm>
              <a:off x="6114960" y="3005280"/>
              <a:ext cx="2132280" cy="2128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5810400" y="2700360"/>
              <a:ext cx="201600" cy="201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 flipV="1">
              <a:off x="3375000" y="3066840"/>
              <a:ext cx="1698480" cy="849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 flipV="1">
              <a:off x="5202360" y="2700000"/>
              <a:ext cx="608040" cy="3049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938160" y="3916440"/>
              <a:ext cx="1079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2157480" y="3916440"/>
              <a:ext cx="12207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15" name=""/>
          <p:cNvSpPr/>
          <p:nvPr/>
        </p:nvSpPr>
        <p:spPr>
          <a:xfrm>
            <a:off x="3983040" y="5133960"/>
            <a:ext cx="183024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3375000" y="5133960"/>
            <a:ext cx="46692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938160" y="5133960"/>
            <a:ext cx="107964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2157480" y="5133960"/>
            <a:ext cx="122076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3983040" y="2700360"/>
            <a:ext cx="183024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3375000" y="2700360"/>
            <a:ext cx="46692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938160" y="2700360"/>
            <a:ext cx="107964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2157480" y="2700360"/>
            <a:ext cx="122076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 flipH="1" flipV="1">
            <a:off x="1547640" y="5894280"/>
            <a:ext cx="1827360" cy="457200"/>
          </a:xfrm>
          <a:prstGeom prst="line">
            <a:avLst/>
          </a:prstGeom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 flipH="1" flipV="1">
            <a:off x="937800" y="5742000"/>
            <a:ext cx="469800" cy="117360"/>
          </a:xfrm>
          <a:prstGeom prst="line">
            <a:avLst/>
          </a:prstGeom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 flipH="1" flipV="1">
            <a:off x="1547640" y="3460680"/>
            <a:ext cx="1827360" cy="455760"/>
          </a:xfrm>
          <a:prstGeom prst="line">
            <a:avLst/>
          </a:prstGeom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 flipH="1" flipV="1">
            <a:off x="937800" y="3308400"/>
            <a:ext cx="469800" cy="117360"/>
          </a:xfrm>
          <a:prstGeom prst="line">
            <a:avLst/>
          </a:prstGeom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 flipH="1" flipV="1">
            <a:off x="1547640" y="4678200"/>
            <a:ext cx="1827360" cy="4557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 flipH="1" flipV="1">
            <a:off x="937800" y="4525920"/>
            <a:ext cx="469800" cy="117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 flipH="1" flipV="1">
            <a:off x="1547640" y="2243160"/>
            <a:ext cx="1827360" cy="4572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 flipH="1" flipV="1">
            <a:off x="937800" y="2092320"/>
            <a:ext cx="469800" cy="117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1547640" y="2092320"/>
            <a:ext cx="183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1963800" y="263988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 flipV="1">
            <a:off x="938160" y="2276280"/>
            <a:ext cx="1687680" cy="42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2562120" y="2232000"/>
            <a:ext cx="204840" cy="117360"/>
          </a:xfrm>
          <a:custGeom>
            <a:avLst/>
            <a:gdLst/>
            <a:ahLst/>
            <a:rect l="l" t="t" r="r" b="b"/>
            <a:pathLst>
              <a:path w="129" h="74">
                <a:moveTo>
                  <a:pt x="19" y="73"/>
                </a:moveTo>
                <a:lnTo>
                  <a:pt x="24" y="33"/>
                </a:lnTo>
                <a:lnTo>
                  <a:pt x="0" y="0"/>
                </a:lnTo>
                <a:lnTo>
                  <a:pt x="128" y="7"/>
                </a:lnTo>
                <a:lnTo>
                  <a:pt x="19" y="7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 flipV="1">
            <a:off x="2765520" y="2091960"/>
            <a:ext cx="609480" cy="150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1344600" y="2139840"/>
            <a:ext cx="204840" cy="115920"/>
          </a:xfrm>
          <a:custGeom>
            <a:avLst/>
            <a:gdLst/>
            <a:ahLst/>
            <a:rect l="l" t="t" r="r" b="b"/>
            <a:pathLst>
              <a:path w="129" h="73">
                <a:moveTo>
                  <a:pt x="0" y="72"/>
                </a:moveTo>
                <a:lnTo>
                  <a:pt x="24" y="40"/>
                </a:lnTo>
                <a:lnTo>
                  <a:pt x="19" y="0"/>
                </a:lnTo>
                <a:lnTo>
                  <a:pt x="128" y="65"/>
                </a:lnTo>
                <a:lnTo>
                  <a:pt x="0" y="7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938160" y="2092320"/>
            <a:ext cx="4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1353960" y="2031840"/>
            <a:ext cx="19548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1547640" y="3308400"/>
            <a:ext cx="183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1963800" y="3857760"/>
            <a:ext cx="19512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0" y="75"/>
                </a:moveTo>
                <a:lnTo>
                  <a:pt x="15" y="37"/>
                </a:lnTo>
                <a:lnTo>
                  <a:pt x="0" y="0"/>
                </a:lnTo>
                <a:lnTo>
                  <a:pt x="122" y="37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1" name=""/>
          <p:cNvGrpSpPr/>
          <p:nvPr/>
        </p:nvGrpSpPr>
        <p:grpSpPr>
          <a:xfrm>
            <a:off x="938160" y="3308040"/>
            <a:ext cx="2436840" cy="608040"/>
            <a:chOff x="938160" y="3308040"/>
            <a:chExt cx="2436840" cy="608040"/>
          </a:xfrm>
        </p:grpSpPr>
        <p:sp>
          <p:nvSpPr>
            <p:cNvPr id="2842" name=""/>
            <p:cNvSpPr/>
            <p:nvPr/>
          </p:nvSpPr>
          <p:spPr>
            <a:xfrm flipV="1">
              <a:off x="938160" y="3493800"/>
              <a:ext cx="1687680" cy="42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2562120" y="3449520"/>
              <a:ext cx="204840" cy="117720"/>
            </a:xfrm>
            <a:custGeom>
              <a:avLst/>
              <a:gdLst/>
              <a:ahLst/>
              <a:rect l="l" t="t" r="r" b="b"/>
              <a:pathLst>
                <a:path w="129" h="74">
                  <a:moveTo>
                    <a:pt x="19" y="73"/>
                  </a:moveTo>
                  <a:lnTo>
                    <a:pt x="24" y="33"/>
                  </a:lnTo>
                  <a:lnTo>
                    <a:pt x="0" y="0"/>
                  </a:lnTo>
                  <a:lnTo>
                    <a:pt x="128" y="7"/>
                  </a:lnTo>
                  <a:lnTo>
                    <a:pt x="19" y="7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 flipV="1">
              <a:off x="2765520" y="3308040"/>
              <a:ext cx="6094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45" name=""/>
          <p:cNvSpPr/>
          <p:nvPr/>
        </p:nvSpPr>
        <p:spPr>
          <a:xfrm>
            <a:off x="1344600" y="3355920"/>
            <a:ext cx="204840" cy="117360"/>
          </a:xfrm>
          <a:custGeom>
            <a:avLst/>
            <a:gdLst/>
            <a:ahLst/>
            <a:rect l="l" t="t" r="r" b="b"/>
            <a:pathLst>
              <a:path w="129" h="74">
                <a:moveTo>
                  <a:pt x="0" y="73"/>
                </a:moveTo>
                <a:lnTo>
                  <a:pt x="24" y="40"/>
                </a:lnTo>
                <a:lnTo>
                  <a:pt x="19" y="0"/>
                </a:lnTo>
                <a:lnTo>
                  <a:pt x="128" y="66"/>
                </a:lnTo>
                <a:lnTo>
                  <a:pt x="0" y="7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938160" y="3308400"/>
            <a:ext cx="4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1353960" y="3247920"/>
            <a:ext cx="19548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1547640" y="4525920"/>
            <a:ext cx="183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1963800" y="507348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0" name=""/>
          <p:cNvGrpSpPr/>
          <p:nvPr/>
        </p:nvGrpSpPr>
        <p:grpSpPr>
          <a:xfrm>
            <a:off x="938160" y="4525560"/>
            <a:ext cx="2436840" cy="608040"/>
            <a:chOff x="938160" y="4525560"/>
            <a:chExt cx="2436840" cy="608040"/>
          </a:xfrm>
        </p:grpSpPr>
        <p:sp>
          <p:nvSpPr>
            <p:cNvPr id="2851" name=""/>
            <p:cNvSpPr/>
            <p:nvPr/>
          </p:nvSpPr>
          <p:spPr>
            <a:xfrm flipV="1">
              <a:off x="938160" y="4711320"/>
              <a:ext cx="1687680" cy="42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2562120" y="4667400"/>
              <a:ext cx="204840" cy="115560"/>
            </a:xfrm>
            <a:custGeom>
              <a:avLst/>
              <a:gdLst/>
              <a:ahLst/>
              <a:rect l="l" t="t" r="r" b="b"/>
              <a:pathLst>
                <a:path w="129" h="73">
                  <a:moveTo>
                    <a:pt x="19" y="72"/>
                  </a:moveTo>
                  <a:lnTo>
                    <a:pt x="24" y="33"/>
                  </a:lnTo>
                  <a:lnTo>
                    <a:pt x="0" y="0"/>
                  </a:lnTo>
                  <a:lnTo>
                    <a:pt x="128" y="7"/>
                  </a:lnTo>
                  <a:lnTo>
                    <a:pt x="19" y="7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 flipV="1">
              <a:off x="2765520" y="4525560"/>
              <a:ext cx="6094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4" name=""/>
          <p:cNvSpPr/>
          <p:nvPr/>
        </p:nvSpPr>
        <p:spPr>
          <a:xfrm>
            <a:off x="1344600" y="4573440"/>
            <a:ext cx="204840" cy="117720"/>
          </a:xfrm>
          <a:custGeom>
            <a:avLst/>
            <a:gdLst/>
            <a:ahLst/>
            <a:rect l="l" t="t" r="r" b="b"/>
            <a:pathLst>
              <a:path w="129" h="74">
                <a:moveTo>
                  <a:pt x="0" y="73"/>
                </a:moveTo>
                <a:lnTo>
                  <a:pt x="24" y="40"/>
                </a:lnTo>
                <a:lnTo>
                  <a:pt x="19" y="0"/>
                </a:lnTo>
                <a:lnTo>
                  <a:pt x="128" y="66"/>
                </a:lnTo>
                <a:lnTo>
                  <a:pt x="0" y="7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938160" y="4525920"/>
            <a:ext cx="4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1353960" y="4465800"/>
            <a:ext cx="195480" cy="12204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1547640" y="5742000"/>
            <a:ext cx="183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1963800" y="6291360"/>
            <a:ext cx="19512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0" y="75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9" name=""/>
          <p:cNvGrpSpPr/>
          <p:nvPr/>
        </p:nvGrpSpPr>
        <p:grpSpPr>
          <a:xfrm>
            <a:off x="938160" y="5741640"/>
            <a:ext cx="2436840" cy="609480"/>
            <a:chOff x="938160" y="5741640"/>
            <a:chExt cx="2436840" cy="609480"/>
          </a:xfrm>
        </p:grpSpPr>
        <p:sp>
          <p:nvSpPr>
            <p:cNvPr id="2860" name=""/>
            <p:cNvSpPr/>
            <p:nvPr/>
          </p:nvSpPr>
          <p:spPr>
            <a:xfrm flipV="1">
              <a:off x="938160" y="5927400"/>
              <a:ext cx="1687680" cy="42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2562120" y="5883120"/>
              <a:ext cx="204840" cy="117720"/>
            </a:xfrm>
            <a:custGeom>
              <a:avLst/>
              <a:gdLst/>
              <a:ahLst/>
              <a:rect l="l" t="t" r="r" b="b"/>
              <a:pathLst>
                <a:path w="129" h="74">
                  <a:moveTo>
                    <a:pt x="19" y="73"/>
                  </a:moveTo>
                  <a:lnTo>
                    <a:pt x="24" y="33"/>
                  </a:lnTo>
                  <a:lnTo>
                    <a:pt x="0" y="0"/>
                  </a:lnTo>
                  <a:lnTo>
                    <a:pt x="128" y="7"/>
                  </a:lnTo>
                  <a:lnTo>
                    <a:pt x="19" y="7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 flipV="1">
              <a:off x="2765520" y="5741640"/>
              <a:ext cx="6094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3" name=""/>
          <p:cNvSpPr/>
          <p:nvPr/>
        </p:nvSpPr>
        <p:spPr>
          <a:xfrm>
            <a:off x="1344600" y="5789520"/>
            <a:ext cx="204840" cy="117720"/>
          </a:xfrm>
          <a:custGeom>
            <a:avLst/>
            <a:gdLst/>
            <a:ahLst/>
            <a:rect l="l" t="t" r="r" b="b"/>
            <a:pathLst>
              <a:path w="129" h="74">
                <a:moveTo>
                  <a:pt x="0" y="73"/>
                </a:moveTo>
                <a:lnTo>
                  <a:pt x="24" y="40"/>
                </a:lnTo>
                <a:lnTo>
                  <a:pt x="19" y="0"/>
                </a:lnTo>
                <a:lnTo>
                  <a:pt x="128" y="66"/>
                </a:lnTo>
                <a:lnTo>
                  <a:pt x="0" y="7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938160" y="5742000"/>
            <a:ext cx="4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1353960" y="5681520"/>
            <a:ext cx="19548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3983040" y="2092320"/>
            <a:ext cx="1830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3375000" y="2092320"/>
            <a:ext cx="4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3790800" y="2031840"/>
            <a:ext cx="193680" cy="122400"/>
          </a:xfrm>
          <a:custGeom>
            <a:avLst/>
            <a:gdLst/>
            <a:ahLst/>
            <a:rect l="l" t="t" r="r" b="b"/>
            <a:pathLst>
              <a:path w="122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1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3375000" y="3308400"/>
            <a:ext cx="1684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5008680" y="324792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5202360" y="3308400"/>
            <a:ext cx="610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3375000" y="3916440"/>
            <a:ext cx="1684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5008680" y="3857760"/>
            <a:ext cx="19512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0" y="75"/>
                </a:moveTo>
                <a:lnTo>
                  <a:pt x="15" y="37"/>
                </a:lnTo>
                <a:lnTo>
                  <a:pt x="0" y="0"/>
                </a:lnTo>
                <a:lnTo>
                  <a:pt x="122" y="37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5202360" y="3916440"/>
            <a:ext cx="610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 flipV="1">
            <a:off x="3375000" y="2458800"/>
            <a:ext cx="1698480" cy="849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5002200" y="2395440"/>
            <a:ext cx="201600" cy="142920"/>
          </a:xfrm>
          <a:custGeom>
            <a:avLst/>
            <a:gdLst/>
            <a:ahLst/>
            <a:rect l="l" t="t" r="r" b="b"/>
            <a:pathLst>
              <a:path w="127" h="90">
                <a:moveTo>
                  <a:pt x="34" y="89"/>
                </a:moveTo>
                <a:lnTo>
                  <a:pt x="30" y="48"/>
                </a:lnTo>
                <a:lnTo>
                  <a:pt x="0" y="21"/>
                </a:lnTo>
                <a:lnTo>
                  <a:pt x="126" y="0"/>
                </a:lnTo>
                <a:lnTo>
                  <a:pt x="34" y="8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 flipV="1">
            <a:off x="5202360" y="2092320"/>
            <a:ext cx="608040" cy="303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5002200" y="3005280"/>
            <a:ext cx="201600" cy="141120"/>
          </a:xfrm>
          <a:custGeom>
            <a:avLst/>
            <a:gdLst/>
            <a:ahLst/>
            <a:rect l="l" t="t" r="r" b="b"/>
            <a:pathLst>
              <a:path w="127" h="89">
                <a:moveTo>
                  <a:pt x="34" y="88"/>
                </a:moveTo>
                <a:lnTo>
                  <a:pt x="30" y="47"/>
                </a:lnTo>
                <a:lnTo>
                  <a:pt x="0" y="21"/>
                </a:lnTo>
                <a:lnTo>
                  <a:pt x="126" y="0"/>
                </a:lnTo>
                <a:lnTo>
                  <a:pt x="34" y="8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3983040" y="2395440"/>
            <a:ext cx="1827360" cy="912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3375000" y="2092320"/>
            <a:ext cx="480960" cy="237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3784680" y="2254320"/>
            <a:ext cx="199800" cy="142920"/>
          </a:xfrm>
          <a:custGeom>
            <a:avLst/>
            <a:gdLst/>
            <a:ahLst/>
            <a:rect l="l" t="t" r="r" b="b"/>
            <a:pathLst>
              <a:path w="126" h="90">
                <a:moveTo>
                  <a:pt x="0" y="68"/>
                </a:moveTo>
                <a:lnTo>
                  <a:pt x="30" y="41"/>
                </a:lnTo>
                <a:lnTo>
                  <a:pt x="34" y="0"/>
                </a:lnTo>
                <a:lnTo>
                  <a:pt x="125" y="89"/>
                </a:lnTo>
                <a:lnTo>
                  <a:pt x="0" y="6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3790800" y="2639880"/>
            <a:ext cx="193680" cy="122400"/>
          </a:xfrm>
          <a:custGeom>
            <a:avLst/>
            <a:gdLst/>
            <a:ahLst/>
            <a:rect l="l" t="t" r="r" b="b"/>
            <a:pathLst>
              <a:path w="122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1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3983040" y="3005280"/>
            <a:ext cx="1827360" cy="911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3375000" y="2700360"/>
            <a:ext cx="480960" cy="239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3784680" y="2863800"/>
            <a:ext cx="199800" cy="142920"/>
          </a:xfrm>
          <a:custGeom>
            <a:avLst/>
            <a:gdLst/>
            <a:ahLst/>
            <a:rect l="l" t="t" r="r" b="b"/>
            <a:pathLst>
              <a:path w="126" h="90">
                <a:moveTo>
                  <a:pt x="0" y="68"/>
                </a:moveTo>
                <a:lnTo>
                  <a:pt x="30" y="41"/>
                </a:lnTo>
                <a:lnTo>
                  <a:pt x="34" y="0"/>
                </a:lnTo>
                <a:lnTo>
                  <a:pt x="125" y="89"/>
                </a:lnTo>
                <a:lnTo>
                  <a:pt x="0" y="6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3983040" y="4525920"/>
            <a:ext cx="1830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3375000" y="4525920"/>
            <a:ext cx="4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3790800" y="4465800"/>
            <a:ext cx="193680" cy="122040"/>
          </a:xfrm>
          <a:custGeom>
            <a:avLst/>
            <a:gdLst/>
            <a:ahLst/>
            <a:rect l="l" t="t" r="r" b="b"/>
            <a:pathLst>
              <a:path w="122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1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3375000" y="5742000"/>
            <a:ext cx="1684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5008680" y="568152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5202360" y="5742000"/>
            <a:ext cx="610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3375000" y="6351480"/>
            <a:ext cx="1684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5008680" y="6291360"/>
            <a:ext cx="19512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0" y="75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5202360" y="6351480"/>
            <a:ext cx="610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 flipV="1">
            <a:off x="3375000" y="4892400"/>
            <a:ext cx="1698480" cy="849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5002200" y="4829040"/>
            <a:ext cx="201600" cy="142920"/>
          </a:xfrm>
          <a:custGeom>
            <a:avLst/>
            <a:gdLst/>
            <a:ahLst/>
            <a:rect l="l" t="t" r="r" b="b"/>
            <a:pathLst>
              <a:path w="127" h="90">
                <a:moveTo>
                  <a:pt x="34" y="89"/>
                </a:moveTo>
                <a:lnTo>
                  <a:pt x="30" y="48"/>
                </a:lnTo>
                <a:lnTo>
                  <a:pt x="0" y="21"/>
                </a:lnTo>
                <a:lnTo>
                  <a:pt x="126" y="0"/>
                </a:lnTo>
                <a:lnTo>
                  <a:pt x="34" y="8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 flipV="1">
            <a:off x="5202360" y="4525920"/>
            <a:ext cx="608040" cy="303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5002200" y="5438880"/>
            <a:ext cx="201600" cy="141120"/>
          </a:xfrm>
          <a:custGeom>
            <a:avLst/>
            <a:gdLst/>
            <a:ahLst/>
            <a:rect l="l" t="t" r="r" b="b"/>
            <a:pathLst>
              <a:path w="127" h="89">
                <a:moveTo>
                  <a:pt x="34" y="88"/>
                </a:moveTo>
                <a:lnTo>
                  <a:pt x="30" y="48"/>
                </a:lnTo>
                <a:lnTo>
                  <a:pt x="0" y="21"/>
                </a:lnTo>
                <a:lnTo>
                  <a:pt x="126" y="0"/>
                </a:lnTo>
                <a:lnTo>
                  <a:pt x="34" y="8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9" name=""/>
          <p:cNvGrpSpPr/>
          <p:nvPr/>
        </p:nvGrpSpPr>
        <p:grpSpPr>
          <a:xfrm>
            <a:off x="3375000" y="4525920"/>
            <a:ext cx="2435400" cy="1216080"/>
            <a:chOff x="3375000" y="4525920"/>
            <a:chExt cx="2435400" cy="1216080"/>
          </a:xfrm>
        </p:grpSpPr>
        <p:sp>
          <p:nvSpPr>
            <p:cNvPr id="2900" name=""/>
            <p:cNvSpPr/>
            <p:nvPr/>
          </p:nvSpPr>
          <p:spPr>
            <a:xfrm>
              <a:off x="3983040" y="4829040"/>
              <a:ext cx="1827360" cy="9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3375000" y="4525920"/>
              <a:ext cx="480960" cy="23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3784680" y="4689360"/>
              <a:ext cx="199800" cy="141480"/>
            </a:xfrm>
            <a:custGeom>
              <a:avLst/>
              <a:gdLst/>
              <a:ahLst/>
              <a:rect l="l" t="t" r="r" b="b"/>
              <a:pathLst>
                <a:path w="126" h="89">
                  <a:moveTo>
                    <a:pt x="0" y="67"/>
                  </a:moveTo>
                  <a:lnTo>
                    <a:pt x="30" y="40"/>
                  </a:lnTo>
                  <a:lnTo>
                    <a:pt x="34" y="0"/>
                  </a:lnTo>
                  <a:lnTo>
                    <a:pt x="125" y="88"/>
                  </a:lnTo>
                  <a:lnTo>
                    <a:pt x="0" y="6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3" name=""/>
          <p:cNvSpPr/>
          <p:nvPr/>
        </p:nvSpPr>
        <p:spPr>
          <a:xfrm>
            <a:off x="3790800" y="5073480"/>
            <a:ext cx="193680" cy="122400"/>
          </a:xfrm>
          <a:custGeom>
            <a:avLst/>
            <a:gdLst/>
            <a:ahLst/>
            <a:rect l="l" t="t" r="r" b="b"/>
            <a:pathLst>
              <a:path w="122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1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4" name=""/>
          <p:cNvGrpSpPr/>
          <p:nvPr/>
        </p:nvGrpSpPr>
        <p:grpSpPr>
          <a:xfrm>
            <a:off x="3375000" y="5133960"/>
            <a:ext cx="2435400" cy="1217520"/>
            <a:chOff x="3375000" y="5133960"/>
            <a:chExt cx="2435400" cy="1217520"/>
          </a:xfrm>
        </p:grpSpPr>
        <p:sp>
          <p:nvSpPr>
            <p:cNvPr id="2905" name=""/>
            <p:cNvSpPr/>
            <p:nvPr/>
          </p:nvSpPr>
          <p:spPr>
            <a:xfrm>
              <a:off x="3983040" y="5438880"/>
              <a:ext cx="1827360" cy="9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3375000" y="5133960"/>
              <a:ext cx="4809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3784680" y="5297400"/>
              <a:ext cx="199800" cy="142920"/>
            </a:xfrm>
            <a:custGeom>
              <a:avLst/>
              <a:gdLst/>
              <a:ahLst/>
              <a:rect l="l" t="t" r="r" b="b"/>
              <a:pathLst>
                <a:path w="126" h="90">
                  <a:moveTo>
                    <a:pt x="0" y="68"/>
                  </a:moveTo>
                  <a:lnTo>
                    <a:pt x="30" y="41"/>
                  </a:lnTo>
                  <a:lnTo>
                    <a:pt x="34" y="0"/>
                  </a:lnTo>
                  <a:lnTo>
                    <a:pt x="125" y="89"/>
                  </a:lnTo>
                  <a:lnTo>
                    <a:pt x="0" y="6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8" name=""/>
          <p:cNvSpPr/>
          <p:nvPr/>
        </p:nvSpPr>
        <p:spPr>
          <a:xfrm>
            <a:off x="5810400" y="4525920"/>
            <a:ext cx="199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7748640" y="4465800"/>
            <a:ext cx="195120" cy="12204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7942320" y="4525920"/>
            <a:ext cx="307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 flipV="1">
            <a:off x="5810400" y="2499840"/>
            <a:ext cx="2025360" cy="2025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7763040" y="2395440"/>
            <a:ext cx="180720" cy="18108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54" y="113"/>
                </a:moveTo>
                <a:lnTo>
                  <a:pt x="37" y="76"/>
                </a:lnTo>
                <a:lnTo>
                  <a:pt x="0" y="59"/>
                </a:lnTo>
                <a:lnTo>
                  <a:pt x="113" y="0"/>
                </a:lnTo>
                <a:lnTo>
                  <a:pt x="54" y="11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 flipV="1">
            <a:off x="7942320" y="2092320"/>
            <a:ext cx="304920" cy="303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6114960" y="2395440"/>
            <a:ext cx="2132280" cy="2130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5810400" y="2092320"/>
            <a:ext cx="201600" cy="200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5935680" y="2217600"/>
            <a:ext cx="181080" cy="179640"/>
          </a:xfrm>
          <a:custGeom>
            <a:avLst/>
            <a:gdLst/>
            <a:ahLst/>
            <a:rect l="l" t="t" r="r" b="b"/>
            <a:pathLst>
              <a:path w="114" h="113">
                <a:moveTo>
                  <a:pt x="0" y="53"/>
                </a:moveTo>
                <a:lnTo>
                  <a:pt x="37" y="36"/>
                </a:lnTo>
                <a:lnTo>
                  <a:pt x="54" y="0"/>
                </a:lnTo>
                <a:lnTo>
                  <a:pt x="113" y="112"/>
                </a:lnTo>
                <a:lnTo>
                  <a:pt x="0" y="5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 flipV="1">
            <a:off x="5810400" y="3107880"/>
            <a:ext cx="2025360" cy="2025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7763040" y="3005280"/>
            <a:ext cx="180720" cy="179280"/>
          </a:xfrm>
          <a:custGeom>
            <a:avLst/>
            <a:gdLst/>
            <a:ahLst/>
            <a:rect l="l" t="t" r="r" b="b"/>
            <a:pathLst>
              <a:path w="114" h="113">
                <a:moveTo>
                  <a:pt x="54" y="112"/>
                </a:moveTo>
                <a:lnTo>
                  <a:pt x="37" y="75"/>
                </a:lnTo>
                <a:lnTo>
                  <a:pt x="0" y="58"/>
                </a:lnTo>
                <a:lnTo>
                  <a:pt x="113" y="0"/>
                </a:lnTo>
                <a:lnTo>
                  <a:pt x="54" y="11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 flipV="1">
            <a:off x="7942320" y="2700000"/>
            <a:ext cx="30492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 flipV="1">
            <a:off x="5810400" y="3718080"/>
            <a:ext cx="2025360" cy="2023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7763040" y="3613320"/>
            <a:ext cx="180720" cy="18072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54" y="113"/>
                </a:moveTo>
                <a:lnTo>
                  <a:pt x="37" y="76"/>
                </a:lnTo>
                <a:lnTo>
                  <a:pt x="0" y="59"/>
                </a:lnTo>
                <a:lnTo>
                  <a:pt x="113" y="0"/>
                </a:lnTo>
                <a:lnTo>
                  <a:pt x="54" y="11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 flipV="1">
            <a:off x="7942320" y="3308040"/>
            <a:ext cx="30492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 flipV="1">
            <a:off x="5810400" y="4325400"/>
            <a:ext cx="2025360" cy="2025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7763040" y="4221000"/>
            <a:ext cx="180720" cy="18108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54" y="113"/>
                </a:moveTo>
                <a:lnTo>
                  <a:pt x="37" y="76"/>
                </a:lnTo>
                <a:lnTo>
                  <a:pt x="0" y="59"/>
                </a:lnTo>
                <a:lnTo>
                  <a:pt x="113" y="0"/>
                </a:lnTo>
                <a:lnTo>
                  <a:pt x="54" y="11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 flipV="1">
            <a:off x="7942320" y="3916440"/>
            <a:ext cx="30492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5935680" y="2825640"/>
            <a:ext cx="181080" cy="18108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0" y="54"/>
                </a:moveTo>
                <a:lnTo>
                  <a:pt x="37" y="37"/>
                </a:lnTo>
                <a:lnTo>
                  <a:pt x="54" y="0"/>
                </a:lnTo>
                <a:lnTo>
                  <a:pt x="113" y="113"/>
                </a:lnTo>
                <a:lnTo>
                  <a:pt x="0" y="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>
            <a:off x="6114960" y="3613320"/>
            <a:ext cx="2132280" cy="2128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5810400" y="3308400"/>
            <a:ext cx="201600" cy="20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5935680" y="3433680"/>
            <a:ext cx="181080" cy="18108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0" y="54"/>
                </a:moveTo>
                <a:lnTo>
                  <a:pt x="37" y="37"/>
                </a:lnTo>
                <a:lnTo>
                  <a:pt x="54" y="0"/>
                </a:lnTo>
                <a:lnTo>
                  <a:pt x="113" y="113"/>
                </a:lnTo>
                <a:lnTo>
                  <a:pt x="0" y="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6114960" y="4221000"/>
            <a:ext cx="2132280" cy="2130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5810400" y="3916440"/>
            <a:ext cx="201600" cy="20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5935680" y="4041720"/>
            <a:ext cx="181080" cy="18108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0" y="54"/>
                </a:moveTo>
                <a:lnTo>
                  <a:pt x="37" y="37"/>
                </a:lnTo>
                <a:lnTo>
                  <a:pt x="54" y="0"/>
                </a:lnTo>
                <a:lnTo>
                  <a:pt x="113" y="113"/>
                </a:lnTo>
                <a:lnTo>
                  <a:pt x="0" y="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7748640" y="507348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5810400" y="5742000"/>
            <a:ext cx="199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7748640" y="568152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7942320" y="5742000"/>
            <a:ext cx="307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5810400" y="6351480"/>
            <a:ext cx="199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7748640" y="6291360"/>
            <a:ext cx="19512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0" y="75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7942320" y="6351480"/>
            <a:ext cx="307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6191280" y="2700360"/>
            <a:ext cx="2058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5810400" y="2700360"/>
            <a:ext cx="237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5997600" y="263988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6191280" y="3308400"/>
            <a:ext cx="2058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5810400" y="3308400"/>
            <a:ext cx="237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5997600" y="324792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6191280" y="3916440"/>
            <a:ext cx="2058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5810400" y="3916440"/>
            <a:ext cx="237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5997600" y="3857760"/>
            <a:ext cx="19512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0" y="75"/>
                </a:moveTo>
                <a:lnTo>
                  <a:pt x="15" y="37"/>
                </a:lnTo>
                <a:lnTo>
                  <a:pt x="0" y="0"/>
                </a:lnTo>
                <a:lnTo>
                  <a:pt x="122" y="37"/>
                </a:lnTo>
                <a:lnTo>
                  <a:pt x="0" y="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876240" y="202896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876240" y="263700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876240" y="3244680"/>
            <a:ext cx="127080" cy="128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876240" y="3854520"/>
            <a:ext cx="12708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876240" y="446256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876240" y="507060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876240" y="5678640"/>
            <a:ext cx="12708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876240" y="6288120"/>
            <a:ext cx="12708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3311640" y="20289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3311640" y="26370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3311640" y="3244680"/>
            <a:ext cx="128520" cy="128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3311640" y="38545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3311640" y="44625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3311640" y="50706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3311640" y="567864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3311640" y="62881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5746680" y="20289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5746680" y="26370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5746680" y="3244680"/>
            <a:ext cx="128520" cy="128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5746680" y="38545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5746680" y="44625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5746680" y="50706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5746680" y="567864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5746680" y="62881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8183520" y="20289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8183520" y="26370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8183520" y="3244680"/>
            <a:ext cx="128520" cy="128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8183520" y="38545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8183520" y="446256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8183520" y="507060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8183520" y="5678640"/>
            <a:ext cx="128520" cy="1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8183520" y="6288120"/>
            <a:ext cx="12852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6191280" y="2092320"/>
            <a:ext cx="2058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5810400" y="2092320"/>
            <a:ext cx="237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5997600" y="2031840"/>
            <a:ext cx="195120" cy="122400"/>
          </a:xfrm>
          <a:custGeom>
            <a:avLst/>
            <a:gdLst/>
            <a:ahLst/>
            <a:rect l="l" t="t" r="r" b="b"/>
            <a:pathLst>
              <a:path w="123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2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161640" y="180180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259200" y="180180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161640" y="240984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259200" y="240984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161640" y="301788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259200" y="301788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161640" y="36259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259200" y="362592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161640" y="423540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259200" y="423540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161640" y="484344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259200" y="484344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161640" y="545148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259200" y="545148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161640" y="60595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259200" y="6059520"/>
            <a:ext cx="60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8308080" y="187632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8308080" y="248616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8308080" y="309420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8308080" y="370188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8308080" y="431172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8308080" y="491976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8308080" y="552780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8308080" y="6135840"/>
            <a:ext cx="81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2656440" y="214164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2963880" y="235260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3001320" y="21178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1972080" y="267480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2279520" y="28843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2315520" y="265104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2656440" y="335916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2963880" y="35701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>
            <a:off x="3001320" y="333540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>
            <a:off x="1972080" y="389088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2279520" y="410220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2315520" y="386712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>
            <a:off x="2656440" y="457524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2963880" y="478620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>
            <a:off x="3001320" y="45514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1972080" y="510840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>
            <a:off x="2279520" y="53197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>
            <a:off x="2315520" y="508464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2656440" y="579276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2963880" y="600408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3001320" y="576900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4407480" y="206532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>
            <a:off x="4714920" y="227664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4752360" y="204156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4407480" y="267480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4714920" y="28843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4752360" y="265104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4407480" y="328284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4714920" y="349416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4752360" y="32590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4407480" y="389088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4714920" y="410220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4752360" y="386712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4407480" y="449892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>
            <a:off x="4714920" y="471024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4752360" y="447660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4407480" y="510840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4714920" y="53197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4752360" y="508464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4407480" y="571644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>
            <a:off x="4714920" y="592776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4752360" y="56926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7604640" y="206532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>
            <a:off x="7912080" y="227664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7949520" y="204156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7604640" y="267480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>
            <a:off x="7912080" y="28843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7936920" y="265104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7604640" y="328284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7912080" y="349416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7949520" y="32590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7604640" y="389088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7912080" y="410220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7949520" y="386712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7604640" y="449892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7912080" y="471024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>
            <a:off x="7949520" y="447660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>
            <a:off x="7604640" y="510840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>
            <a:off x="7912080" y="531972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>
            <a:off x="7943040" y="508464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7604640" y="5716440"/>
            <a:ext cx="497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>
            <a:off x="7912080" y="5927760"/>
            <a:ext cx="32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>
            <a:off x="7949520" y="5692680"/>
            <a:ext cx="28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1" name=""/>
          <p:cNvGrpSpPr/>
          <p:nvPr/>
        </p:nvGrpSpPr>
        <p:grpSpPr>
          <a:xfrm>
            <a:off x="7604640" y="6300720"/>
            <a:ext cx="629640" cy="555840"/>
            <a:chOff x="7604640" y="6300720"/>
            <a:chExt cx="629640" cy="555840"/>
          </a:xfrm>
        </p:grpSpPr>
        <p:sp>
          <p:nvSpPr>
            <p:cNvPr id="3072" name=""/>
            <p:cNvSpPr/>
            <p:nvPr/>
          </p:nvSpPr>
          <p:spPr>
            <a:xfrm>
              <a:off x="7604640" y="6324480"/>
              <a:ext cx="497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7912080" y="6535800"/>
              <a:ext cx="322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7949520" y="6300720"/>
              <a:ext cx="281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75" name=""/>
              <p:cNvSpPr txBox="1"/>
              <p:nvPr/>
            </p:nvSpPr>
            <p:spPr>
              <a:xfrm>
                <a:off x="8578800" y="1371600"/>
                <a:ext cx="5652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8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076" name=""/>
          <p:cNvSpPr/>
          <p:nvPr/>
        </p:nvSpPr>
        <p:spPr>
          <a:xfrm flipH="1" flipV="1">
            <a:off x="8229240" y="1447560"/>
            <a:ext cx="304920" cy="228600"/>
          </a:xfrm>
          <a:prstGeom prst="line">
            <a:avLst/>
          </a:prstGeom>
          <a:ln w="1260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AA15-93A8-4A69-89A5-EE3FDD83483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 li je to DFT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, zbog toga što j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8" name=""/>
              <p:cNvSpPr txBox="1"/>
              <p:nvPr/>
            </p:nvSpPr>
            <p:spPr>
              <a:xfrm>
                <a:off x="0" y="2664000"/>
                <a:ext cx="914256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8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5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8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5</m:t>
                                </m:r>
                              </m:sup>
                            </m:sSubSup>
                          </m:e>
                        </m:nary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9" name=""/>
              <p:cNvSpPr txBox="1"/>
              <p:nvPr/>
            </p:nvSpPr>
            <p:spPr>
              <a:xfrm>
                <a:off x="1143000" y="5214960"/>
                <a:ext cx="670572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  <m:sup>
                            <m:r>
                              <m:t xml:space="preserve">5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  <m:sup>
                            <m:r>
                              <m:t xml:space="preserve">6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8C5F-BBE0-41E9-8CAF-4A1DA0A6409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3" dur="500"/>
                                        <p:tgtEl>
                                          <p:spTgt spid="3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3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/>
          </p:nvPr>
        </p:nvSpPr>
        <p:spPr>
          <a:xfrm>
            <a:off x="60948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ukture su pravil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81" name=""/>
          <p:cNvGrpSpPr/>
          <p:nvPr/>
        </p:nvGrpSpPr>
        <p:grpSpPr>
          <a:xfrm>
            <a:off x="1074600" y="2971440"/>
            <a:ext cx="3047760" cy="1524240"/>
            <a:chOff x="1074600" y="2971440"/>
            <a:chExt cx="3047760" cy="1524240"/>
          </a:xfrm>
        </p:grpSpPr>
        <p:sp>
          <p:nvSpPr>
            <p:cNvPr id="3082" name=""/>
            <p:cNvSpPr/>
            <p:nvPr/>
          </p:nvSpPr>
          <p:spPr>
            <a:xfrm flipH="1">
              <a:off x="1074600" y="4495680"/>
              <a:ext cx="30477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1074600" y="2971800"/>
              <a:ext cx="30477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1074600" y="2971800"/>
              <a:ext cx="3047760" cy="15238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 flipV="1">
              <a:off x="1074600" y="2971440"/>
              <a:ext cx="3047760" cy="15238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86" name=""/>
          <p:cNvSpPr/>
          <p:nvPr/>
        </p:nvSpPr>
        <p:spPr>
          <a:xfrm>
            <a:off x="608040" y="5653080"/>
            <a:ext cx="5640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cccc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ziv strukture je </a:t>
            </a: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LEPT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87" name=""/>
          <p:cNvGrpSpPr/>
          <p:nvPr/>
        </p:nvGrpSpPr>
        <p:grpSpPr>
          <a:xfrm>
            <a:off x="6291000" y="2217600"/>
            <a:ext cx="1524240" cy="3047760"/>
            <a:chOff x="6291000" y="2217600"/>
            <a:chExt cx="1524240" cy="3047760"/>
          </a:xfrm>
        </p:grpSpPr>
        <p:sp>
          <p:nvSpPr>
            <p:cNvPr id="3088" name=""/>
            <p:cNvSpPr/>
            <p:nvPr/>
          </p:nvSpPr>
          <p:spPr>
            <a:xfrm>
              <a:off x="7815240" y="2217600"/>
              <a:ext cx="0" cy="3047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 flipV="1">
              <a:off x="6291360" y="2217600"/>
              <a:ext cx="0" cy="3047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 flipV="1">
              <a:off x="6291360" y="2217600"/>
              <a:ext cx="1523880" cy="3047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 flipH="1" flipV="1">
              <a:off x="6291000" y="2217600"/>
              <a:ext cx="1523880" cy="3047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80D4-CBBB-4C7B-A33B-6F823BC91A2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zmatra se koliki je broj kompleksni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nožen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o je N=2</a:t>
            </a:r>
            <a:r>
              <a:rPr b="1" lang="en-US" sz="3200" spc="-1" strike="noStrike" baseline="40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roj stupnjeva je log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 svakom stupnju je N kompleksni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noženja i zbrajan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j množenja je </a:t>
            </a: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Nlog</a:t>
            </a:r>
            <a:r>
              <a:rPr b="1" lang="en-US" sz="40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>
            <a:off x="4044960" y="3816360"/>
            <a:ext cx="825480" cy="1054080"/>
          </a:xfrm>
          <a:prstGeom prst="downArrow">
            <a:avLst>
              <a:gd name="adj1" fmla="val 75009"/>
              <a:gd name="adj2" fmla="val 63852"/>
            </a:avLst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B34F-378D-445F-8DC7-45172401EBD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1000"/>
          </a:bodyPr>
          <a:p>
            <a:pPr marL="106200" indent="-106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vidom u dijagram vidi se poredak nizo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06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06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5" name=""/>
              <p:cNvSpPr txBox="1"/>
              <p:nvPr/>
            </p:nvSpPr>
            <p:spPr>
              <a:xfrm>
                <a:off x="1066680" y="2084400"/>
                <a:ext cx="277920" cy="416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</m:e>
                      <m:e>
                        <m:r>
                          <m:t xml:space="preserve">1</m:t>
                        </m:r>
                      </m:e>
                      <m:e>
                        <m:r>
                          <m:t xml:space="preserve">2</m:t>
                        </m:r>
                      </m:e>
                      <m:e>
                        <m:r>
                          <m:t xml:space="preserve">3</m:t>
                        </m:r>
                      </m:e>
                      <m:e>
                        <m:r>
                          <m:t xml:space="preserve">4</m:t>
                        </m:r>
                      </m:e>
                      <m:e>
                        <m:r>
                          <m:t xml:space="preserve">5</m:t>
                        </m:r>
                      </m:e>
                      <m:e>
                        <m:r>
                          <m:t xml:space="preserve">6</m:t>
                        </m:r>
                      </m:e>
                      <m:e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6" name=""/>
              <p:cNvSpPr txBox="1"/>
              <p:nvPr/>
            </p:nvSpPr>
            <p:spPr>
              <a:xfrm>
                <a:off x="1833480" y="2057400"/>
                <a:ext cx="647640" cy="419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01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1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097" name=""/>
          <p:cNvGrpSpPr/>
          <p:nvPr/>
        </p:nvGrpSpPr>
        <p:grpSpPr>
          <a:xfrm>
            <a:off x="2819520" y="2057400"/>
            <a:ext cx="1033200" cy="4191120"/>
            <a:chOff x="2819520" y="2057400"/>
            <a:chExt cx="1033200" cy="4191120"/>
          </a:xfrm>
        </p:grpSpPr>
        <p:sp>
          <p:nvSpPr>
            <p:cNvPr id="3098" name=""/>
            <p:cNvSpPr/>
            <p:nvPr/>
          </p:nvSpPr>
          <p:spPr>
            <a:xfrm>
              <a:off x="2819520" y="2209680"/>
              <a:ext cx="0" cy="403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99" name=""/>
                <p:cNvSpPr txBox="1"/>
                <p:nvPr/>
              </p:nvSpPr>
              <p:spPr>
                <a:xfrm>
                  <a:off x="3205080" y="2057400"/>
                  <a:ext cx="647640" cy="419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00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01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1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001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1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011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11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00" name=""/>
              <p:cNvSpPr txBox="1"/>
              <p:nvPr/>
            </p:nvSpPr>
            <p:spPr>
              <a:xfrm>
                <a:off x="4199040" y="2057400"/>
                <a:ext cx="600120" cy="42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</m:e>
                      <m:e>
                        <m:r>
                          <m:t xml:space="preserve">4</m:t>
                        </m:r>
                      </m:e>
                      <m:e>
                        <m:r>
                          <m:t xml:space="preserve">2</m:t>
                        </m:r>
                      </m:e>
                      <m:e>
                        <m:r>
                          <m:t xml:space="preserve">6</m:t>
                        </m:r>
                      </m:e>
                      <m:e>
                        <m:r>
                          <m:t xml:space="preserve">1</m:t>
                        </m:r>
                      </m:e>
                      <m:e>
                        <m:r>
                          <m:t xml:space="preserve">5</m:t>
                        </m:r>
                      </m:e>
                      <m:e>
                        <m:r>
                          <m:t xml:space="preserve">3</m:t>
                        </m:r>
                      </m:e>
                      <m:e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1" name=""/>
              <p:cNvSpPr txBox="1"/>
              <p:nvPr/>
            </p:nvSpPr>
            <p:spPr>
              <a:xfrm>
                <a:off x="4572000" y="2057400"/>
                <a:ext cx="4191120" cy="416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/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/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/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/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/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/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/>
                          <m:e/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 bit reversed algorita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8938-7ED7-4D70-B3B2-709EA391474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2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datno smanjenje broja opera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3" name=""/>
              <p:cNvSpPr txBox="1"/>
              <p:nvPr/>
            </p:nvSpPr>
            <p:spPr>
              <a:xfrm>
                <a:off x="76320" y="2712960"/>
                <a:ext cx="14475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4" name=""/>
              <p:cNvSpPr txBox="1"/>
              <p:nvPr/>
            </p:nvSpPr>
            <p:spPr>
              <a:xfrm>
                <a:off x="95400" y="5303880"/>
                <a:ext cx="14000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5" name=""/>
              <p:cNvSpPr txBox="1"/>
              <p:nvPr/>
            </p:nvSpPr>
            <p:spPr>
              <a:xfrm>
                <a:off x="6781680" y="2637000"/>
                <a:ext cx="182880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6" name=""/>
              <p:cNvSpPr txBox="1"/>
              <p:nvPr/>
            </p:nvSpPr>
            <p:spPr>
              <a:xfrm>
                <a:off x="6951600" y="5303880"/>
                <a:ext cx="17827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7" name=""/>
              <p:cNvSpPr txBox="1"/>
              <p:nvPr/>
            </p:nvSpPr>
            <p:spPr>
              <a:xfrm>
                <a:off x="4038480" y="5716440"/>
                <a:ext cx="12798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3108" name=""/>
          <p:cNvGrpSpPr/>
          <p:nvPr/>
        </p:nvGrpSpPr>
        <p:grpSpPr>
          <a:xfrm>
            <a:off x="1646280" y="2779560"/>
            <a:ext cx="4876920" cy="3124440"/>
            <a:chOff x="1646280" y="2779560"/>
            <a:chExt cx="4876920" cy="3124440"/>
          </a:xfrm>
        </p:grpSpPr>
        <mc:AlternateContent>
          <mc:Choice xmlns:a14="http://schemas.microsoft.com/office/drawing/2010/main" Requires="a14">
            <p:sp>
              <p:nvSpPr>
                <p:cNvPr id="3109" name=""/>
                <p:cNvSpPr txBox="1"/>
                <p:nvPr/>
              </p:nvSpPr>
              <p:spPr>
                <a:xfrm>
                  <a:off x="5802480" y="3562200"/>
                  <a:ext cx="61884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r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3110" name=""/>
            <p:cNvSpPr/>
            <p:nvPr/>
          </p:nvSpPr>
          <p:spPr>
            <a:xfrm>
              <a:off x="1646280" y="3008160"/>
              <a:ext cx="4876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1646280" y="3008160"/>
              <a:ext cx="4876920" cy="26672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 flipV="1">
              <a:off x="1646280" y="3007800"/>
              <a:ext cx="4876920" cy="26672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1646280" y="5675400"/>
              <a:ext cx="4876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4313160" y="2779560"/>
              <a:ext cx="228600" cy="2286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 flipH="1">
              <a:off x="4312800" y="3008160"/>
              <a:ext cx="228600" cy="2286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4995720" y="3556080"/>
              <a:ext cx="300240" cy="1238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 flipH="1">
              <a:off x="5168520" y="3679920"/>
              <a:ext cx="127080" cy="298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5159520" y="4654440"/>
              <a:ext cx="50760" cy="320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 flipH="1">
              <a:off x="4890600" y="4975200"/>
              <a:ext cx="319320" cy="50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4313160" y="5446800"/>
              <a:ext cx="228600" cy="2286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 flipH="1">
              <a:off x="4312800" y="5675400"/>
              <a:ext cx="228600" cy="2286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CA5D-8FA8-4F1A-8DCF-89DEBED4AF2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22" name=""/>
              <p:cNvSpPr txBox="1"/>
              <p:nvPr/>
            </p:nvSpPr>
            <p:spPr>
              <a:xfrm>
                <a:off x="990720" y="1239840"/>
                <a:ext cx="678168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3" name=""/>
              <p:cNvSpPr txBox="1"/>
              <p:nvPr/>
            </p:nvSpPr>
            <p:spPr>
              <a:xfrm>
                <a:off x="609480" y="3336840"/>
                <a:ext cx="798984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bSu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4" name=""/>
              <p:cNvSpPr txBox="1"/>
              <p:nvPr/>
            </p:nvSpPr>
            <p:spPr>
              <a:xfrm>
                <a:off x="971640" y="4794120"/>
                <a:ext cx="673416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p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5" name=""/>
          <p:cNvSpPr/>
          <p:nvPr/>
        </p:nvSpPr>
        <p:spPr>
          <a:xfrm>
            <a:off x="4121280" y="5950080"/>
            <a:ext cx="291960" cy="749160"/>
          </a:xfrm>
          <a:prstGeom prst="downArrow">
            <a:avLst>
              <a:gd name="adj1" fmla="val 50000"/>
              <a:gd name="adj2" fmla="val 128310"/>
            </a:avLst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1724-34BD-4169-9D2D-411C69F22F3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4" dur="500"/>
                                        <p:tgtEl>
                                          <p:spTgt spid="3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26" name=""/>
              <p:cNvSpPr txBox="1"/>
              <p:nvPr/>
            </p:nvSpPr>
            <p:spPr>
              <a:xfrm>
                <a:off x="1066680" y="1849320"/>
                <a:ext cx="678204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7" name=""/>
              <p:cNvSpPr txBox="1"/>
              <p:nvPr/>
            </p:nvSpPr>
            <p:spPr>
              <a:xfrm>
                <a:off x="1163520" y="4287960"/>
                <a:ext cx="673128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C7E7-90A4-43E9-8C74-1C8FF8081E1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09480" y="2979720"/>
                <a:ext cx="7772400" cy="15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limLow>
                                      <m:e>
                                        <m:groupChr>
                                          <m:groupChrPr>
                                            <m:chr m:val="⏟"/>
                                            <m:pos m:val="bot"/>
                                            <m:vertJc m:val="top"/>
                                          </m:groupChrPr>
                                          <m:e>
                                            <m:sSubSup>
                                              <m:e>
                                                <m:r>
                                                  <m:t xml:space="preserve">W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N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k</m:t>
                                                </m:r>
                                                <m:r>
                                                  <m:t xml:space="preserve">n</m:t>
                                                </m:r>
                                              </m:sup>
                                            </m:sSubSup>
                                            <m:r>
                                              <m:t xml:space="preserve">⋅</m:t>
                                            </m:r>
                                            <m:sSubSup>
                                              <m:e>
                                                <m:r>
                                                  <m:t xml:space="preserve">W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N</m:t>
                                                </m:r>
                                              </m:sub>
                                              <m:sup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mnN</m:t>
                                                </m:r>
                                              </m:sup>
                                            </m:sSubSup>
                                          </m:e>
                                        </m:groupChr>
                                      </m:e>
                                      <m:lim>
                                        <m:r>
                                          <m:t xml:space="preserve">1</m:t>
                                        </m:r>
                                      </m:lim>
                                    </m:limLow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lN</m:t>
                                        </m:r>
                                      </m:sup>
                                    </m:sSubSup>
                                  </m:e>
                                </m:groupChr>
                              </m:e>
                              <m:lim>
                                <m:r>
                                  <m:t xml:space="preserve">1</m:t>
                                </m:r>
                              </m:lim>
                            </m:limLow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l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1</m:t>
                        </m:r>
                      </m:lim>
                    </m:limLow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45669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okazano je da se DFT može efikasno mož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izračunati ako je moguće faktorizirati N k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N = r</a:t>
            </a:r>
            <a:r>
              <a:rPr b="1" lang="hr-HR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1" lang="hr-HR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 ...... r</a:t>
            </a:r>
            <a:r>
              <a:rPr b="1" lang="hr-HR" sz="3200" spc="-1" strike="noStrike" baseline="-25000">
                <a:solidFill>
                  <a:srgbClr val="ffffff"/>
                </a:solidFill>
                <a:latin typeface="Times New Roman"/>
              </a:rPr>
              <a:t>j 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gdje su { r</a:t>
            </a:r>
            <a:r>
              <a:rPr b="1" lang="hr-HR" sz="3200" spc="-1" strike="noStrike" baseline="-25000">
                <a:solidFill>
                  <a:srgbClr val="ffffff"/>
                </a:solidFill>
                <a:latin typeface="Times New Roman"/>
              </a:rPr>
              <a:t>j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} prim brojev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817640" y="1717560"/>
          <a:ext cx="566424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7640" y="1717560"/>
                    <a:ext cx="56642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EAD0-E3D4-427C-BE8F-10FE5E2B0E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"/>
          <p:cNvSpPr/>
          <p:nvPr/>
        </p:nvSpPr>
        <p:spPr>
          <a:xfrm>
            <a:off x="2619360" y="1004760"/>
            <a:ext cx="36291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2619360" y="1004760"/>
            <a:ext cx="3629160" cy="19526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 flipV="1">
            <a:off x="2592360" y="998640"/>
            <a:ext cx="3629160" cy="19526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2708280" y="2957400"/>
            <a:ext cx="35402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32" name=""/>
          <p:cNvGrpSpPr/>
          <p:nvPr/>
        </p:nvGrpSpPr>
        <p:grpSpPr>
          <a:xfrm>
            <a:off x="4606560" y="838080"/>
            <a:ext cx="167040" cy="335160"/>
            <a:chOff x="4606560" y="838080"/>
            <a:chExt cx="167040" cy="335160"/>
          </a:xfrm>
        </p:grpSpPr>
        <p:sp>
          <p:nvSpPr>
            <p:cNvPr id="3133" name=""/>
            <p:cNvSpPr/>
            <p:nvPr/>
          </p:nvSpPr>
          <p:spPr>
            <a:xfrm>
              <a:off x="4606920" y="838080"/>
              <a:ext cx="166680" cy="1666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 flipH="1">
              <a:off x="4606560" y="1004760"/>
              <a:ext cx="166680" cy="1684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35" name=""/>
          <p:cNvGrpSpPr/>
          <p:nvPr/>
        </p:nvGrpSpPr>
        <p:grpSpPr>
          <a:xfrm>
            <a:off x="5067360" y="1409760"/>
            <a:ext cx="223920" cy="309600"/>
            <a:chOff x="5067360" y="1409760"/>
            <a:chExt cx="223920" cy="309600"/>
          </a:xfrm>
        </p:grpSpPr>
        <p:sp>
          <p:nvSpPr>
            <p:cNvPr id="3136" name=""/>
            <p:cNvSpPr/>
            <p:nvPr/>
          </p:nvSpPr>
          <p:spPr>
            <a:xfrm>
              <a:off x="5067360" y="1409760"/>
              <a:ext cx="223920" cy="936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 flipH="1">
              <a:off x="5199120" y="1503360"/>
              <a:ext cx="92160" cy="216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38" name=""/>
          <p:cNvGrpSpPr/>
          <p:nvPr/>
        </p:nvGrpSpPr>
        <p:grpSpPr>
          <a:xfrm>
            <a:off x="5032440" y="2209680"/>
            <a:ext cx="239760" cy="271440"/>
            <a:chOff x="5032440" y="2209680"/>
            <a:chExt cx="239760" cy="271440"/>
          </a:xfrm>
        </p:grpSpPr>
        <p:sp>
          <p:nvSpPr>
            <p:cNvPr id="3139" name=""/>
            <p:cNvSpPr/>
            <p:nvPr/>
          </p:nvSpPr>
          <p:spPr>
            <a:xfrm>
              <a:off x="5230800" y="2209680"/>
              <a:ext cx="41400" cy="2336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 flipH="1">
              <a:off x="5032440" y="2443320"/>
              <a:ext cx="239760" cy="37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41" name=""/>
          <p:cNvGrpSpPr/>
          <p:nvPr/>
        </p:nvGrpSpPr>
        <p:grpSpPr>
          <a:xfrm>
            <a:off x="4606560" y="2789280"/>
            <a:ext cx="167040" cy="334800"/>
            <a:chOff x="4606560" y="2789280"/>
            <a:chExt cx="167040" cy="334800"/>
          </a:xfrm>
        </p:grpSpPr>
        <p:sp>
          <p:nvSpPr>
            <p:cNvPr id="3142" name=""/>
            <p:cNvSpPr/>
            <p:nvPr/>
          </p:nvSpPr>
          <p:spPr>
            <a:xfrm>
              <a:off x="4606920" y="2789280"/>
              <a:ext cx="166680" cy="1681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 flipH="1">
              <a:off x="4606560" y="2957400"/>
              <a:ext cx="166680" cy="1666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44" name=""/>
          <p:cNvSpPr/>
          <p:nvPr/>
        </p:nvSpPr>
        <p:spPr>
          <a:xfrm flipH="1">
            <a:off x="779400" y="1009800"/>
            <a:ext cx="1857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 flipH="1">
            <a:off x="850680" y="2957400"/>
            <a:ext cx="18572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>
            <a:off x="453600" y="426960"/>
            <a:ext cx="1149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hr-HR" sz="32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(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>
            <a:off x="453600" y="2865600"/>
            <a:ext cx="1149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hr-HR" sz="32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(q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>
            <a:off x="6262200" y="426960"/>
            <a:ext cx="14011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m+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>
            <a:off x="6338160" y="2332080"/>
            <a:ext cx="14011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m+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q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1084680" y="4313160"/>
            <a:ext cx="5785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cccc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f (FFT) se može nacrtati k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4044960" y="5492880"/>
            <a:ext cx="520560" cy="1054080"/>
          </a:xfrm>
          <a:prstGeom prst="downArrow">
            <a:avLst>
              <a:gd name="adj1" fmla="val 75009"/>
              <a:gd name="adj2" fmla="val 101254"/>
            </a:avLst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2" name=""/>
          <p:cNvGrpSpPr/>
          <p:nvPr/>
        </p:nvGrpSpPr>
        <p:grpSpPr>
          <a:xfrm>
            <a:off x="2015640" y="2779560"/>
            <a:ext cx="167040" cy="334800"/>
            <a:chOff x="2015640" y="2779560"/>
            <a:chExt cx="167040" cy="334800"/>
          </a:xfrm>
        </p:grpSpPr>
        <p:sp>
          <p:nvSpPr>
            <p:cNvPr id="3153" name=""/>
            <p:cNvSpPr/>
            <p:nvPr/>
          </p:nvSpPr>
          <p:spPr>
            <a:xfrm>
              <a:off x="2016000" y="2779560"/>
              <a:ext cx="166680" cy="1666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 flipH="1">
              <a:off x="2015640" y="2946240"/>
              <a:ext cx="166680" cy="1681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55" name=""/>
              <p:cNvSpPr txBox="1"/>
              <p:nvPr/>
            </p:nvSpPr>
            <p:spPr>
              <a:xfrm>
                <a:off x="1752480" y="3068640"/>
                <a:ext cx="5763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156" name=""/>
          <p:cNvSpPr/>
          <p:nvPr/>
        </p:nvSpPr>
        <p:spPr>
          <a:xfrm>
            <a:off x="4402440" y="3094200"/>
            <a:ext cx="52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54A9-C605-4F00-9FD5-3E2C22A897E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"/>
          <p:cNvSpPr/>
          <p:nvPr/>
        </p:nvSpPr>
        <p:spPr>
          <a:xfrm>
            <a:off x="1143000" y="1066680"/>
            <a:ext cx="6629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1066680" y="1676520"/>
            <a:ext cx="6629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1143000" y="2438280"/>
            <a:ext cx="6629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1143000" y="3048120"/>
            <a:ext cx="6629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1143000" y="3809880"/>
            <a:ext cx="6629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>
            <a:off x="1143000" y="4419720"/>
            <a:ext cx="6629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1143000" y="5181480"/>
            <a:ext cx="6629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1143000" y="5791320"/>
            <a:ext cx="6629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2057400" y="1066680"/>
            <a:ext cx="838080" cy="6098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2133720" y="2438280"/>
            <a:ext cx="838080" cy="6098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2209680" y="3809880"/>
            <a:ext cx="838440" cy="6098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2286000" y="5181480"/>
            <a:ext cx="838080" cy="6098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 flipV="1">
            <a:off x="2133720" y="1066680"/>
            <a:ext cx="838080" cy="6098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 flipV="1">
            <a:off x="2133720" y="2438280"/>
            <a:ext cx="838080" cy="6098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 flipV="1">
            <a:off x="2209680" y="3809880"/>
            <a:ext cx="838440" cy="6098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 flipV="1">
            <a:off x="2286000" y="5181480"/>
            <a:ext cx="838080" cy="6098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3581280" y="990720"/>
            <a:ext cx="1143000" cy="13716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3733920" y="1676520"/>
            <a:ext cx="1143000" cy="13716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3962520" y="3809880"/>
            <a:ext cx="1143000" cy="13716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>
            <a:off x="3886200" y="4421160"/>
            <a:ext cx="1143000" cy="13716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 flipH="1">
            <a:off x="3733560" y="1066680"/>
            <a:ext cx="1066680" cy="13716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 flipH="1">
            <a:off x="3733560" y="1676520"/>
            <a:ext cx="1066680" cy="13716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 flipH="1">
            <a:off x="3885840" y="3809880"/>
            <a:ext cx="1066680" cy="13716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 flipH="1">
            <a:off x="3962160" y="4421160"/>
            <a:ext cx="1066680" cy="13716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>
            <a:off x="5791320" y="1066680"/>
            <a:ext cx="1981080" cy="2743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2" name=""/>
          <p:cNvSpPr/>
          <p:nvPr/>
        </p:nvSpPr>
        <p:spPr>
          <a:xfrm>
            <a:off x="5791320" y="1676520"/>
            <a:ext cx="1981080" cy="2743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>
            <a:off x="5791320" y="2438280"/>
            <a:ext cx="1981080" cy="2743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>
            <a:off x="5791320" y="3048120"/>
            <a:ext cx="1981080" cy="2743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 flipH="1">
            <a:off x="5867280" y="1066680"/>
            <a:ext cx="1905120" cy="2743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 flipH="1">
            <a:off x="5867280" y="1676520"/>
            <a:ext cx="1905120" cy="2743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 flipH="1">
            <a:off x="5867280" y="2438280"/>
            <a:ext cx="1905120" cy="2743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 flipH="1">
            <a:off x="5867280" y="3048120"/>
            <a:ext cx="1905120" cy="2743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89" name=""/>
          <p:cNvGrpSpPr/>
          <p:nvPr/>
        </p:nvGrpSpPr>
        <p:grpSpPr>
          <a:xfrm>
            <a:off x="2438280" y="990720"/>
            <a:ext cx="76320" cy="152280"/>
            <a:chOff x="2438280" y="990720"/>
            <a:chExt cx="76320" cy="152280"/>
          </a:xfrm>
        </p:grpSpPr>
        <p:sp>
          <p:nvSpPr>
            <p:cNvPr id="3190" name=""/>
            <p:cNvSpPr/>
            <p:nvPr/>
          </p:nvSpPr>
          <p:spPr>
            <a:xfrm>
              <a:off x="2438280" y="990720"/>
              <a:ext cx="7632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 flipH="1">
              <a:off x="2438280" y="1066680"/>
              <a:ext cx="7632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2" name=""/>
          <p:cNvGrpSpPr/>
          <p:nvPr/>
        </p:nvGrpSpPr>
        <p:grpSpPr>
          <a:xfrm>
            <a:off x="4495680" y="2971800"/>
            <a:ext cx="76320" cy="152280"/>
            <a:chOff x="4495680" y="2971800"/>
            <a:chExt cx="76320" cy="152280"/>
          </a:xfrm>
        </p:grpSpPr>
        <p:sp>
          <p:nvSpPr>
            <p:cNvPr id="3193" name=""/>
            <p:cNvSpPr/>
            <p:nvPr/>
          </p:nvSpPr>
          <p:spPr>
            <a:xfrm>
              <a:off x="4495680" y="2971800"/>
              <a:ext cx="7632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 flipH="1">
              <a:off x="4495680" y="3048120"/>
              <a:ext cx="7632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5" name=""/>
          <p:cNvGrpSpPr/>
          <p:nvPr/>
        </p:nvGrpSpPr>
        <p:grpSpPr>
          <a:xfrm>
            <a:off x="2438280" y="1600200"/>
            <a:ext cx="76320" cy="152280"/>
            <a:chOff x="2438280" y="1600200"/>
            <a:chExt cx="76320" cy="152280"/>
          </a:xfrm>
        </p:grpSpPr>
        <p:sp>
          <p:nvSpPr>
            <p:cNvPr id="3196" name=""/>
            <p:cNvSpPr/>
            <p:nvPr/>
          </p:nvSpPr>
          <p:spPr>
            <a:xfrm>
              <a:off x="2438280" y="1600200"/>
              <a:ext cx="7632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 flipH="1">
              <a:off x="2438280" y="1676520"/>
              <a:ext cx="7632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8" name=""/>
          <p:cNvGrpSpPr/>
          <p:nvPr/>
        </p:nvGrpSpPr>
        <p:grpSpPr>
          <a:xfrm>
            <a:off x="2438280" y="2362320"/>
            <a:ext cx="76320" cy="152280"/>
            <a:chOff x="2438280" y="2362320"/>
            <a:chExt cx="76320" cy="152280"/>
          </a:xfrm>
        </p:grpSpPr>
        <p:sp>
          <p:nvSpPr>
            <p:cNvPr id="3199" name=""/>
            <p:cNvSpPr/>
            <p:nvPr/>
          </p:nvSpPr>
          <p:spPr>
            <a:xfrm>
              <a:off x="2438280" y="2362320"/>
              <a:ext cx="7632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 flipH="1">
              <a:off x="2438280" y="2438280"/>
              <a:ext cx="7632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1" name=""/>
          <p:cNvGrpSpPr/>
          <p:nvPr/>
        </p:nvGrpSpPr>
        <p:grpSpPr>
          <a:xfrm>
            <a:off x="2438280" y="2971800"/>
            <a:ext cx="76320" cy="152280"/>
            <a:chOff x="2438280" y="2971800"/>
            <a:chExt cx="76320" cy="152280"/>
          </a:xfrm>
        </p:grpSpPr>
        <p:sp>
          <p:nvSpPr>
            <p:cNvPr id="3202" name=""/>
            <p:cNvSpPr/>
            <p:nvPr/>
          </p:nvSpPr>
          <p:spPr>
            <a:xfrm>
              <a:off x="2438280" y="2971800"/>
              <a:ext cx="7632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 flipH="1">
              <a:off x="2438280" y="3048120"/>
              <a:ext cx="7632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4" name=""/>
          <p:cNvGrpSpPr/>
          <p:nvPr/>
        </p:nvGrpSpPr>
        <p:grpSpPr>
          <a:xfrm>
            <a:off x="2514600" y="4343400"/>
            <a:ext cx="76320" cy="152280"/>
            <a:chOff x="2514600" y="4343400"/>
            <a:chExt cx="76320" cy="152280"/>
          </a:xfrm>
        </p:grpSpPr>
        <p:sp>
          <p:nvSpPr>
            <p:cNvPr id="3205" name=""/>
            <p:cNvSpPr/>
            <p:nvPr/>
          </p:nvSpPr>
          <p:spPr>
            <a:xfrm>
              <a:off x="2514600" y="4343400"/>
              <a:ext cx="7632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 flipH="1">
              <a:off x="2514600" y="4419720"/>
              <a:ext cx="7632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7" name=""/>
          <p:cNvGrpSpPr/>
          <p:nvPr/>
        </p:nvGrpSpPr>
        <p:grpSpPr>
          <a:xfrm>
            <a:off x="2590560" y="5715000"/>
            <a:ext cx="76320" cy="152280"/>
            <a:chOff x="2590560" y="5715000"/>
            <a:chExt cx="76320" cy="152280"/>
          </a:xfrm>
        </p:grpSpPr>
        <p:sp>
          <p:nvSpPr>
            <p:cNvPr id="3208" name=""/>
            <p:cNvSpPr/>
            <p:nvPr/>
          </p:nvSpPr>
          <p:spPr>
            <a:xfrm>
              <a:off x="2590920" y="5715000"/>
              <a:ext cx="7596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 flipH="1">
              <a:off x="2590560" y="5791320"/>
              <a:ext cx="759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0" name=""/>
          <p:cNvGrpSpPr/>
          <p:nvPr/>
        </p:nvGrpSpPr>
        <p:grpSpPr>
          <a:xfrm>
            <a:off x="4495680" y="2362320"/>
            <a:ext cx="76320" cy="152280"/>
            <a:chOff x="4495680" y="2362320"/>
            <a:chExt cx="76320" cy="152280"/>
          </a:xfrm>
        </p:grpSpPr>
        <p:sp>
          <p:nvSpPr>
            <p:cNvPr id="3211" name=""/>
            <p:cNvSpPr/>
            <p:nvPr/>
          </p:nvSpPr>
          <p:spPr>
            <a:xfrm>
              <a:off x="4495680" y="2362320"/>
              <a:ext cx="7632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 flipH="1">
              <a:off x="4495680" y="2438280"/>
              <a:ext cx="7632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3" name=""/>
          <p:cNvGrpSpPr/>
          <p:nvPr/>
        </p:nvGrpSpPr>
        <p:grpSpPr>
          <a:xfrm>
            <a:off x="3276360" y="2362320"/>
            <a:ext cx="76320" cy="152280"/>
            <a:chOff x="3276360" y="2362320"/>
            <a:chExt cx="76320" cy="152280"/>
          </a:xfrm>
        </p:grpSpPr>
        <p:sp>
          <p:nvSpPr>
            <p:cNvPr id="3214" name=""/>
            <p:cNvSpPr/>
            <p:nvPr/>
          </p:nvSpPr>
          <p:spPr>
            <a:xfrm>
              <a:off x="3276720" y="2362320"/>
              <a:ext cx="759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 flipH="1">
              <a:off x="3276360" y="2438280"/>
              <a:ext cx="7596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6" name=""/>
          <p:cNvGrpSpPr/>
          <p:nvPr/>
        </p:nvGrpSpPr>
        <p:grpSpPr>
          <a:xfrm>
            <a:off x="3276360" y="2971800"/>
            <a:ext cx="76320" cy="152280"/>
            <a:chOff x="3276360" y="2971800"/>
            <a:chExt cx="76320" cy="152280"/>
          </a:xfrm>
        </p:grpSpPr>
        <p:sp>
          <p:nvSpPr>
            <p:cNvPr id="3217" name=""/>
            <p:cNvSpPr/>
            <p:nvPr/>
          </p:nvSpPr>
          <p:spPr>
            <a:xfrm>
              <a:off x="3276720" y="2971800"/>
              <a:ext cx="7596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 flipH="1">
              <a:off x="3276360" y="3048120"/>
              <a:ext cx="759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9" name=""/>
          <p:cNvGrpSpPr/>
          <p:nvPr/>
        </p:nvGrpSpPr>
        <p:grpSpPr>
          <a:xfrm>
            <a:off x="1600200" y="1600200"/>
            <a:ext cx="76320" cy="152280"/>
            <a:chOff x="1600200" y="1600200"/>
            <a:chExt cx="76320" cy="152280"/>
          </a:xfrm>
        </p:grpSpPr>
        <p:sp>
          <p:nvSpPr>
            <p:cNvPr id="3220" name=""/>
            <p:cNvSpPr/>
            <p:nvPr/>
          </p:nvSpPr>
          <p:spPr>
            <a:xfrm>
              <a:off x="1600200" y="1600200"/>
              <a:ext cx="7632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 flipH="1">
              <a:off x="1600200" y="1676520"/>
              <a:ext cx="7632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22" name=""/>
          <p:cNvGrpSpPr/>
          <p:nvPr/>
        </p:nvGrpSpPr>
        <p:grpSpPr>
          <a:xfrm>
            <a:off x="1600200" y="2971800"/>
            <a:ext cx="76320" cy="152280"/>
            <a:chOff x="1600200" y="2971800"/>
            <a:chExt cx="76320" cy="152280"/>
          </a:xfrm>
        </p:grpSpPr>
        <p:sp>
          <p:nvSpPr>
            <p:cNvPr id="3223" name=""/>
            <p:cNvSpPr/>
            <p:nvPr/>
          </p:nvSpPr>
          <p:spPr>
            <a:xfrm>
              <a:off x="1600200" y="2971800"/>
              <a:ext cx="7632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 flipH="1">
              <a:off x="1600200" y="3048120"/>
              <a:ext cx="7632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25" name=""/>
          <p:cNvGrpSpPr/>
          <p:nvPr/>
        </p:nvGrpSpPr>
        <p:grpSpPr>
          <a:xfrm>
            <a:off x="1676160" y="4343400"/>
            <a:ext cx="76320" cy="152280"/>
            <a:chOff x="1676160" y="4343400"/>
            <a:chExt cx="76320" cy="152280"/>
          </a:xfrm>
        </p:grpSpPr>
        <p:sp>
          <p:nvSpPr>
            <p:cNvPr id="3226" name=""/>
            <p:cNvSpPr/>
            <p:nvPr/>
          </p:nvSpPr>
          <p:spPr>
            <a:xfrm>
              <a:off x="1676520" y="4343400"/>
              <a:ext cx="7596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 flipH="1">
              <a:off x="1676160" y="4419720"/>
              <a:ext cx="759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28" name=""/>
          <p:cNvGrpSpPr/>
          <p:nvPr/>
        </p:nvGrpSpPr>
        <p:grpSpPr>
          <a:xfrm>
            <a:off x="1676160" y="5715000"/>
            <a:ext cx="76320" cy="152280"/>
            <a:chOff x="1676160" y="5715000"/>
            <a:chExt cx="76320" cy="152280"/>
          </a:xfrm>
        </p:grpSpPr>
        <p:sp>
          <p:nvSpPr>
            <p:cNvPr id="3229" name=""/>
            <p:cNvSpPr/>
            <p:nvPr/>
          </p:nvSpPr>
          <p:spPr>
            <a:xfrm>
              <a:off x="1676520" y="5715000"/>
              <a:ext cx="7596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 flipH="1">
              <a:off x="1676160" y="5791320"/>
              <a:ext cx="759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31" name=""/>
          <p:cNvGrpSpPr/>
          <p:nvPr/>
        </p:nvGrpSpPr>
        <p:grpSpPr>
          <a:xfrm>
            <a:off x="3504960" y="5715000"/>
            <a:ext cx="76320" cy="152280"/>
            <a:chOff x="3504960" y="5715000"/>
            <a:chExt cx="76320" cy="152280"/>
          </a:xfrm>
        </p:grpSpPr>
        <p:sp>
          <p:nvSpPr>
            <p:cNvPr id="3232" name=""/>
            <p:cNvSpPr/>
            <p:nvPr/>
          </p:nvSpPr>
          <p:spPr>
            <a:xfrm>
              <a:off x="3505320" y="5715000"/>
              <a:ext cx="7596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 flipH="1">
              <a:off x="3504960" y="5791320"/>
              <a:ext cx="759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34" name=""/>
          <p:cNvGrpSpPr/>
          <p:nvPr/>
        </p:nvGrpSpPr>
        <p:grpSpPr>
          <a:xfrm>
            <a:off x="3504960" y="5105520"/>
            <a:ext cx="76320" cy="152280"/>
            <a:chOff x="3504960" y="5105520"/>
            <a:chExt cx="76320" cy="152280"/>
          </a:xfrm>
        </p:grpSpPr>
        <p:sp>
          <p:nvSpPr>
            <p:cNvPr id="3235" name=""/>
            <p:cNvSpPr/>
            <p:nvPr/>
          </p:nvSpPr>
          <p:spPr>
            <a:xfrm>
              <a:off x="3505320" y="5105520"/>
              <a:ext cx="759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 flipH="1">
              <a:off x="3504960" y="5181480"/>
              <a:ext cx="7596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37" name=""/>
          <p:cNvGrpSpPr/>
          <p:nvPr/>
        </p:nvGrpSpPr>
        <p:grpSpPr>
          <a:xfrm>
            <a:off x="4800600" y="5105520"/>
            <a:ext cx="76320" cy="152280"/>
            <a:chOff x="4800600" y="5105520"/>
            <a:chExt cx="76320" cy="152280"/>
          </a:xfrm>
        </p:grpSpPr>
        <p:sp>
          <p:nvSpPr>
            <p:cNvPr id="3238" name=""/>
            <p:cNvSpPr/>
            <p:nvPr/>
          </p:nvSpPr>
          <p:spPr>
            <a:xfrm>
              <a:off x="4800600" y="5105520"/>
              <a:ext cx="7632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 flipH="1">
              <a:off x="4800600" y="5181480"/>
              <a:ext cx="7632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0" name=""/>
          <p:cNvGrpSpPr/>
          <p:nvPr/>
        </p:nvGrpSpPr>
        <p:grpSpPr>
          <a:xfrm>
            <a:off x="4800600" y="5715000"/>
            <a:ext cx="76320" cy="152280"/>
            <a:chOff x="4800600" y="5715000"/>
            <a:chExt cx="76320" cy="152280"/>
          </a:xfrm>
        </p:grpSpPr>
        <p:sp>
          <p:nvSpPr>
            <p:cNvPr id="3241" name=""/>
            <p:cNvSpPr/>
            <p:nvPr/>
          </p:nvSpPr>
          <p:spPr>
            <a:xfrm>
              <a:off x="4800600" y="5715000"/>
              <a:ext cx="7632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 flipH="1">
              <a:off x="4800600" y="5791320"/>
              <a:ext cx="7632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3" name=""/>
          <p:cNvGrpSpPr/>
          <p:nvPr/>
        </p:nvGrpSpPr>
        <p:grpSpPr>
          <a:xfrm>
            <a:off x="5410080" y="5105520"/>
            <a:ext cx="76320" cy="152280"/>
            <a:chOff x="5410080" y="5105520"/>
            <a:chExt cx="76320" cy="152280"/>
          </a:xfrm>
        </p:grpSpPr>
        <p:sp>
          <p:nvSpPr>
            <p:cNvPr id="3244" name=""/>
            <p:cNvSpPr/>
            <p:nvPr/>
          </p:nvSpPr>
          <p:spPr>
            <a:xfrm>
              <a:off x="5410080" y="5105520"/>
              <a:ext cx="7632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 flipH="1">
              <a:off x="5410080" y="5181480"/>
              <a:ext cx="7632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6" name=""/>
          <p:cNvGrpSpPr/>
          <p:nvPr/>
        </p:nvGrpSpPr>
        <p:grpSpPr>
          <a:xfrm>
            <a:off x="5410080" y="5715000"/>
            <a:ext cx="76320" cy="152280"/>
            <a:chOff x="5410080" y="5715000"/>
            <a:chExt cx="76320" cy="152280"/>
          </a:xfrm>
        </p:grpSpPr>
        <p:sp>
          <p:nvSpPr>
            <p:cNvPr id="3247" name=""/>
            <p:cNvSpPr/>
            <p:nvPr/>
          </p:nvSpPr>
          <p:spPr>
            <a:xfrm>
              <a:off x="5410080" y="5715000"/>
              <a:ext cx="7632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 flipH="1">
              <a:off x="5410080" y="5791320"/>
              <a:ext cx="7632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9" name=""/>
          <p:cNvGrpSpPr/>
          <p:nvPr/>
        </p:nvGrpSpPr>
        <p:grpSpPr>
          <a:xfrm>
            <a:off x="5410080" y="4343400"/>
            <a:ext cx="76320" cy="152280"/>
            <a:chOff x="5410080" y="4343400"/>
            <a:chExt cx="76320" cy="152280"/>
          </a:xfrm>
        </p:grpSpPr>
        <p:sp>
          <p:nvSpPr>
            <p:cNvPr id="3250" name=""/>
            <p:cNvSpPr/>
            <p:nvPr/>
          </p:nvSpPr>
          <p:spPr>
            <a:xfrm>
              <a:off x="5410080" y="4343400"/>
              <a:ext cx="7632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 flipH="1">
              <a:off x="5410080" y="4419720"/>
              <a:ext cx="7632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52" name=""/>
          <p:cNvGrpSpPr/>
          <p:nvPr/>
        </p:nvGrpSpPr>
        <p:grpSpPr>
          <a:xfrm>
            <a:off x="5410080" y="3733920"/>
            <a:ext cx="76320" cy="152280"/>
            <a:chOff x="5410080" y="3733920"/>
            <a:chExt cx="76320" cy="152280"/>
          </a:xfrm>
        </p:grpSpPr>
        <p:sp>
          <p:nvSpPr>
            <p:cNvPr id="3253" name=""/>
            <p:cNvSpPr/>
            <p:nvPr/>
          </p:nvSpPr>
          <p:spPr>
            <a:xfrm>
              <a:off x="5410080" y="3733920"/>
              <a:ext cx="7632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 flipH="1">
              <a:off x="5410080" y="3809880"/>
              <a:ext cx="7632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55" name=""/>
          <p:cNvGrpSpPr/>
          <p:nvPr/>
        </p:nvGrpSpPr>
        <p:grpSpPr>
          <a:xfrm>
            <a:off x="7543800" y="5715000"/>
            <a:ext cx="76320" cy="152280"/>
            <a:chOff x="7543800" y="5715000"/>
            <a:chExt cx="76320" cy="152280"/>
          </a:xfrm>
        </p:grpSpPr>
        <p:sp>
          <p:nvSpPr>
            <p:cNvPr id="3256" name=""/>
            <p:cNvSpPr/>
            <p:nvPr/>
          </p:nvSpPr>
          <p:spPr>
            <a:xfrm>
              <a:off x="7543800" y="5715000"/>
              <a:ext cx="7632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 flipH="1">
              <a:off x="7543800" y="5791320"/>
              <a:ext cx="7632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58" name=""/>
          <p:cNvGrpSpPr/>
          <p:nvPr/>
        </p:nvGrpSpPr>
        <p:grpSpPr>
          <a:xfrm>
            <a:off x="7543800" y="5105520"/>
            <a:ext cx="76320" cy="152280"/>
            <a:chOff x="7543800" y="5105520"/>
            <a:chExt cx="76320" cy="152280"/>
          </a:xfrm>
        </p:grpSpPr>
        <p:sp>
          <p:nvSpPr>
            <p:cNvPr id="3259" name=""/>
            <p:cNvSpPr/>
            <p:nvPr/>
          </p:nvSpPr>
          <p:spPr>
            <a:xfrm>
              <a:off x="7543800" y="5105520"/>
              <a:ext cx="7632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 flipH="1">
              <a:off x="7543800" y="5181480"/>
              <a:ext cx="7632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61" name=""/>
          <p:cNvGrpSpPr/>
          <p:nvPr/>
        </p:nvGrpSpPr>
        <p:grpSpPr>
          <a:xfrm>
            <a:off x="7543800" y="4343400"/>
            <a:ext cx="76320" cy="152280"/>
            <a:chOff x="7543800" y="4343400"/>
            <a:chExt cx="76320" cy="152280"/>
          </a:xfrm>
        </p:grpSpPr>
        <p:sp>
          <p:nvSpPr>
            <p:cNvPr id="3262" name=""/>
            <p:cNvSpPr/>
            <p:nvPr/>
          </p:nvSpPr>
          <p:spPr>
            <a:xfrm>
              <a:off x="7543800" y="4343400"/>
              <a:ext cx="7632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 flipH="1">
              <a:off x="7543800" y="4419720"/>
              <a:ext cx="7632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64" name=""/>
          <p:cNvGrpSpPr/>
          <p:nvPr/>
        </p:nvGrpSpPr>
        <p:grpSpPr>
          <a:xfrm>
            <a:off x="7543800" y="3733920"/>
            <a:ext cx="76320" cy="152280"/>
            <a:chOff x="7543800" y="3733920"/>
            <a:chExt cx="76320" cy="152280"/>
          </a:xfrm>
        </p:grpSpPr>
        <p:sp>
          <p:nvSpPr>
            <p:cNvPr id="3265" name=""/>
            <p:cNvSpPr/>
            <p:nvPr/>
          </p:nvSpPr>
          <p:spPr>
            <a:xfrm>
              <a:off x="7543800" y="3733920"/>
              <a:ext cx="7632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 flipH="1">
              <a:off x="7543800" y="3809880"/>
              <a:ext cx="7632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67" name=""/>
          <p:cNvGrpSpPr/>
          <p:nvPr/>
        </p:nvGrpSpPr>
        <p:grpSpPr>
          <a:xfrm>
            <a:off x="2622600" y="1442880"/>
            <a:ext cx="108000" cy="119160"/>
            <a:chOff x="2622600" y="1442880"/>
            <a:chExt cx="108000" cy="119160"/>
          </a:xfrm>
        </p:grpSpPr>
        <p:sp>
          <p:nvSpPr>
            <p:cNvPr id="3268" name=""/>
            <p:cNvSpPr/>
            <p:nvPr/>
          </p:nvSpPr>
          <p:spPr>
            <a:xfrm>
              <a:off x="2719440" y="1442880"/>
              <a:ext cx="1116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 flipH="1">
              <a:off x="2622600" y="1550880"/>
              <a:ext cx="10800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70" name=""/>
          <p:cNvGrpSpPr/>
          <p:nvPr/>
        </p:nvGrpSpPr>
        <p:grpSpPr>
          <a:xfrm>
            <a:off x="2698560" y="2814480"/>
            <a:ext cx="108000" cy="119160"/>
            <a:chOff x="2698560" y="2814480"/>
            <a:chExt cx="108000" cy="119160"/>
          </a:xfrm>
        </p:grpSpPr>
        <p:sp>
          <p:nvSpPr>
            <p:cNvPr id="3271" name=""/>
            <p:cNvSpPr/>
            <p:nvPr/>
          </p:nvSpPr>
          <p:spPr>
            <a:xfrm>
              <a:off x="2795760" y="2814480"/>
              <a:ext cx="1080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 flipH="1">
              <a:off x="2698560" y="2922480"/>
              <a:ext cx="10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73" name=""/>
          <p:cNvGrpSpPr/>
          <p:nvPr/>
        </p:nvGrpSpPr>
        <p:grpSpPr>
          <a:xfrm>
            <a:off x="2701800" y="1187280"/>
            <a:ext cx="108000" cy="114480"/>
            <a:chOff x="2701800" y="1187280"/>
            <a:chExt cx="108000" cy="114480"/>
          </a:xfrm>
        </p:grpSpPr>
        <p:sp>
          <p:nvSpPr>
            <p:cNvPr id="3274" name=""/>
            <p:cNvSpPr/>
            <p:nvPr/>
          </p:nvSpPr>
          <p:spPr>
            <a:xfrm>
              <a:off x="2701800" y="1187280"/>
              <a:ext cx="1080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 flipH="1">
              <a:off x="2801880" y="1193760"/>
              <a:ext cx="792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76" name=""/>
          <p:cNvGrpSpPr/>
          <p:nvPr/>
        </p:nvGrpSpPr>
        <p:grpSpPr>
          <a:xfrm>
            <a:off x="2701800" y="2558880"/>
            <a:ext cx="108000" cy="114480"/>
            <a:chOff x="2701800" y="2558880"/>
            <a:chExt cx="108000" cy="114480"/>
          </a:xfrm>
        </p:grpSpPr>
        <p:sp>
          <p:nvSpPr>
            <p:cNvPr id="3277" name=""/>
            <p:cNvSpPr/>
            <p:nvPr/>
          </p:nvSpPr>
          <p:spPr>
            <a:xfrm>
              <a:off x="2701800" y="2558880"/>
              <a:ext cx="1080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 flipH="1">
              <a:off x="2801880" y="2565360"/>
              <a:ext cx="792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9" name=""/>
          <p:cNvSpPr/>
          <p:nvPr/>
        </p:nvSpPr>
        <p:spPr>
          <a:xfrm>
            <a:off x="228600" y="731880"/>
            <a:ext cx="1087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(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212760" y="1341360"/>
            <a:ext cx="95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(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211320" y="2103480"/>
            <a:ext cx="864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(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211320" y="2712960"/>
            <a:ext cx="864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(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211320" y="3475080"/>
            <a:ext cx="864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(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211320" y="4084560"/>
            <a:ext cx="864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(5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211320" y="4846680"/>
            <a:ext cx="864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(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211320" y="5456160"/>
            <a:ext cx="864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(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7907040" y="731880"/>
            <a:ext cx="954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(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7907040" y="1341360"/>
            <a:ext cx="954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(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7907040" y="2103480"/>
            <a:ext cx="954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(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7907040" y="2789280"/>
            <a:ext cx="954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(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7983360" y="3475080"/>
            <a:ext cx="954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(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7983360" y="4160880"/>
            <a:ext cx="954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(5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7983360" y="4923000"/>
            <a:ext cx="954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(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7983360" y="5532480"/>
            <a:ext cx="954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(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5" name=""/>
              <p:cNvSpPr txBox="1"/>
              <p:nvPr/>
            </p:nvSpPr>
            <p:spPr>
              <a:xfrm>
                <a:off x="1255680" y="1697040"/>
                <a:ext cx="5396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6" name=""/>
              <p:cNvSpPr txBox="1"/>
              <p:nvPr/>
            </p:nvSpPr>
            <p:spPr>
              <a:xfrm>
                <a:off x="1407960" y="3068640"/>
                <a:ext cx="54000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7" name=""/>
              <p:cNvSpPr txBox="1"/>
              <p:nvPr/>
            </p:nvSpPr>
            <p:spPr>
              <a:xfrm>
                <a:off x="1484280" y="4440240"/>
                <a:ext cx="5396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8" name=""/>
              <p:cNvSpPr txBox="1"/>
              <p:nvPr/>
            </p:nvSpPr>
            <p:spPr>
              <a:xfrm>
                <a:off x="1484280" y="5811840"/>
                <a:ext cx="5396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9" name=""/>
              <p:cNvSpPr txBox="1"/>
              <p:nvPr/>
            </p:nvSpPr>
            <p:spPr>
              <a:xfrm>
                <a:off x="3008160" y="1849320"/>
                <a:ext cx="54000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0" name=""/>
              <p:cNvSpPr txBox="1"/>
              <p:nvPr/>
            </p:nvSpPr>
            <p:spPr>
              <a:xfrm>
                <a:off x="3084480" y="2535120"/>
                <a:ext cx="5396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1" name=""/>
              <p:cNvSpPr txBox="1"/>
              <p:nvPr/>
            </p:nvSpPr>
            <p:spPr>
              <a:xfrm>
                <a:off x="3236760" y="4668840"/>
                <a:ext cx="54000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2" name=""/>
              <p:cNvSpPr txBox="1"/>
              <p:nvPr/>
            </p:nvSpPr>
            <p:spPr>
              <a:xfrm>
                <a:off x="3313080" y="5888160"/>
                <a:ext cx="5396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3" name=""/>
              <p:cNvSpPr txBox="1"/>
              <p:nvPr/>
            </p:nvSpPr>
            <p:spPr>
              <a:xfrm>
                <a:off x="5141880" y="3220920"/>
                <a:ext cx="5396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4" name=""/>
              <p:cNvSpPr txBox="1"/>
              <p:nvPr/>
            </p:nvSpPr>
            <p:spPr>
              <a:xfrm>
                <a:off x="5218200" y="3906720"/>
                <a:ext cx="5396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5" name=""/>
              <p:cNvSpPr txBox="1"/>
              <p:nvPr/>
            </p:nvSpPr>
            <p:spPr>
              <a:xfrm>
                <a:off x="5218200" y="4668840"/>
                <a:ext cx="5396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6" name=""/>
              <p:cNvSpPr txBox="1"/>
              <p:nvPr/>
            </p:nvSpPr>
            <p:spPr>
              <a:xfrm>
                <a:off x="5218200" y="5278320"/>
                <a:ext cx="5396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7" name=""/>
              <p:cNvSpPr txBox="1"/>
              <p:nvPr/>
            </p:nvSpPr>
            <p:spPr>
              <a:xfrm>
                <a:off x="2209680" y="1747800"/>
                <a:ext cx="4748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8" name=""/>
              <p:cNvSpPr txBox="1"/>
              <p:nvPr/>
            </p:nvSpPr>
            <p:spPr>
              <a:xfrm>
                <a:off x="2286000" y="3119400"/>
                <a:ext cx="4748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9" name=""/>
              <p:cNvSpPr txBox="1"/>
              <p:nvPr/>
            </p:nvSpPr>
            <p:spPr>
              <a:xfrm>
                <a:off x="2362320" y="4491000"/>
                <a:ext cx="4744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0" name=""/>
              <p:cNvSpPr txBox="1"/>
              <p:nvPr/>
            </p:nvSpPr>
            <p:spPr>
              <a:xfrm>
                <a:off x="2438280" y="5862600"/>
                <a:ext cx="4748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1" name=""/>
              <p:cNvSpPr txBox="1"/>
              <p:nvPr/>
            </p:nvSpPr>
            <p:spPr>
              <a:xfrm>
                <a:off x="4724280" y="5176800"/>
                <a:ext cx="4748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2" name=""/>
              <p:cNvSpPr txBox="1"/>
              <p:nvPr/>
            </p:nvSpPr>
            <p:spPr>
              <a:xfrm>
                <a:off x="4648320" y="5862600"/>
                <a:ext cx="4744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3" name=""/>
              <p:cNvSpPr txBox="1"/>
              <p:nvPr/>
            </p:nvSpPr>
            <p:spPr>
              <a:xfrm>
                <a:off x="4495680" y="2433600"/>
                <a:ext cx="4748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4" name=""/>
              <p:cNvSpPr txBox="1"/>
              <p:nvPr/>
            </p:nvSpPr>
            <p:spPr>
              <a:xfrm>
                <a:off x="4419720" y="3119400"/>
                <a:ext cx="4744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5" name=""/>
              <p:cNvSpPr txBox="1"/>
              <p:nvPr/>
            </p:nvSpPr>
            <p:spPr>
              <a:xfrm>
                <a:off x="7543800" y="3881520"/>
                <a:ext cx="4748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6" name=""/>
              <p:cNvSpPr txBox="1"/>
              <p:nvPr/>
            </p:nvSpPr>
            <p:spPr>
              <a:xfrm>
                <a:off x="7543800" y="4491000"/>
                <a:ext cx="4748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7" name=""/>
              <p:cNvSpPr txBox="1"/>
              <p:nvPr/>
            </p:nvSpPr>
            <p:spPr>
              <a:xfrm>
                <a:off x="7543800" y="5253120"/>
                <a:ext cx="4748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8" name=""/>
              <p:cNvSpPr txBox="1"/>
              <p:nvPr/>
            </p:nvSpPr>
            <p:spPr>
              <a:xfrm>
                <a:off x="7543800" y="5862600"/>
                <a:ext cx="4748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19" name=""/>
          <p:cNvGrpSpPr/>
          <p:nvPr/>
        </p:nvGrpSpPr>
        <p:grpSpPr>
          <a:xfrm>
            <a:off x="2590560" y="5105520"/>
            <a:ext cx="76320" cy="152280"/>
            <a:chOff x="2590560" y="5105520"/>
            <a:chExt cx="76320" cy="152280"/>
          </a:xfrm>
        </p:grpSpPr>
        <p:sp>
          <p:nvSpPr>
            <p:cNvPr id="3320" name=""/>
            <p:cNvSpPr/>
            <p:nvPr/>
          </p:nvSpPr>
          <p:spPr>
            <a:xfrm>
              <a:off x="2590920" y="5105520"/>
              <a:ext cx="759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 flipH="1">
              <a:off x="2590560" y="5181480"/>
              <a:ext cx="7596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2" name=""/>
          <p:cNvGrpSpPr/>
          <p:nvPr/>
        </p:nvGrpSpPr>
        <p:grpSpPr>
          <a:xfrm>
            <a:off x="2778120" y="3930480"/>
            <a:ext cx="108000" cy="114480"/>
            <a:chOff x="2778120" y="3930480"/>
            <a:chExt cx="108000" cy="114480"/>
          </a:xfrm>
        </p:grpSpPr>
        <p:sp>
          <p:nvSpPr>
            <p:cNvPr id="3323" name=""/>
            <p:cNvSpPr/>
            <p:nvPr/>
          </p:nvSpPr>
          <p:spPr>
            <a:xfrm>
              <a:off x="2778120" y="3930480"/>
              <a:ext cx="1080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 flipH="1">
              <a:off x="2878200" y="3936960"/>
              <a:ext cx="792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5" name=""/>
          <p:cNvGrpSpPr/>
          <p:nvPr/>
        </p:nvGrpSpPr>
        <p:grpSpPr>
          <a:xfrm>
            <a:off x="2774880" y="4186080"/>
            <a:ext cx="108000" cy="119160"/>
            <a:chOff x="2774880" y="4186080"/>
            <a:chExt cx="108000" cy="119160"/>
          </a:xfrm>
        </p:grpSpPr>
        <p:sp>
          <p:nvSpPr>
            <p:cNvPr id="3326" name=""/>
            <p:cNvSpPr/>
            <p:nvPr/>
          </p:nvSpPr>
          <p:spPr>
            <a:xfrm>
              <a:off x="2871720" y="4186080"/>
              <a:ext cx="1116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 flipH="1">
              <a:off x="2774880" y="4294080"/>
              <a:ext cx="10800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8" name=""/>
          <p:cNvGrpSpPr/>
          <p:nvPr/>
        </p:nvGrpSpPr>
        <p:grpSpPr>
          <a:xfrm>
            <a:off x="2850840" y="5562720"/>
            <a:ext cx="120960" cy="114120"/>
            <a:chOff x="2850840" y="5562720"/>
            <a:chExt cx="120960" cy="114120"/>
          </a:xfrm>
        </p:grpSpPr>
        <p:sp>
          <p:nvSpPr>
            <p:cNvPr id="3329" name=""/>
            <p:cNvSpPr/>
            <p:nvPr/>
          </p:nvSpPr>
          <p:spPr>
            <a:xfrm>
              <a:off x="2959200" y="5562720"/>
              <a:ext cx="12600" cy="10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 flipH="1">
              <a:off x="2850840" y="5665680"/>
              <a:ext cx="12060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31" name=""/>
          <p:cNvGrpSpPr/>
          <p:nvPr/>
        </p:nvGrpSpPr>
        <p:grpSpPr>
          <a:xfrm>
            <a:off x="2854440" y="5302080"/>
            <a:ext cx="108000" cy="114480"/>
            <a:chOff x="2854440" y="5302080"/>
            <a:chExt cx="108000" cy="114480"/>
          </a:xfrm>
        </p:grpSpPr>
        <p:sp>
          <p:nvSpPr>
            <p:cNvPr id="3332" name=""/>
            <p:cNvSpPr/>
            <p:nvPr/>
          </p:nvSpPr>
          <p:spPr>
            <a:xfrm>
              <a:off x="2854440" y="5302080"/>
              <a:ext cx="1080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 flipH="1">
              <a:off x="2953800" y="5308560"/>
              <a:ext cx="828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34" name=""/>
          <p:cNvGrpSpPr/>
          <p:nvPr/>
        </p:nvGrpSpPr>
        <p:grpSpPr>
          <a:xfrm>
            <a:off x="4190760" y="990720"/>
            <a:ext cx="76320" cy="152280"/>
            <a:chOff x="4190760" y="990720"/>
            <a:chExt cx="76320" cy="152280"/>
          </a:xfrm>
        </p:grpSpPr>
        <p:sp>
          <p:nvSpPr>
            <p:cNvPr id="3335" name=""/>
            <p:cNvSpPr/>
            <p:nvPr/>
          </p:nvSpPr>
          <p:spPr>
            <a:xfrm>
              <a:off x="4191120" y="990720"/>
              <a:ext cx="759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 flipH="1">
              <a:off x="4190760" y="1066680"/>
              <a:ext cx="7596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37" name=""/>
          <p:cNvGrpSpPr/>
          <p:nvPr/>
        </p:nvGrpSpPr>
        <p:grpSpPr>
          <a:xfrm>
            <a:off x="4495680" y="1600200"/>
            <a:ext cx="76320" cy="152280"/>
            <a:chOff x="4495680" y="1600200"/>
            <a:chExt cx="76320" cy="152280"/>
          </a:xfrm>
        </p:grpSpPr>
        <p:sp>
          <p:nvSpPr>
            <p:cNvPr id="3338" name=""/>
            <p:cNvSpPr/>
            <p:nvPr/>
          </p:nvSpPr>
          <p:spPr>
            <a:xfrm>
              <a:off x="4495680" y="1600200"/>
              <a:ext cx="7632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 flipH="1">
              <a:off x="4495680" y="1676520"/>
              <a:ext cx="7632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40" name=""/>
          <p:cNvGrpSpPr/>
          <p:nvPr/>
        </p:nvGrpSpPr>
        <p:grpSpPr>
          <a:xfrm>
            <a:off x="4419360" y="3733920"/>
            <a:ext cx="76320" cy="152280"/>
            <a:chOff x="4419360" y="3733920"/>
            <a:chExt cx="76320" cy="152280"/>
          </a:xfrm>
        </p:grpSpPr>
        <p:sp>
          <p:nvSpPr>
            <p:cNvPr id="3341" name=""/>
            <p:cNvSpPr/>
            <p:nvPr/>
          </p:nvSpPr>
          <p:spPr>
            <a:xfrm>
              <a:off x="4419720" y="3733920"/>
              <a:ext cx="759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 flipH="1">
              <a:off x="4419360" y="3809880"/>
              <a:ext cx="7596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43" name=""/>
          <p:cNvGrpSpPr/>
          <p:nvPr/>
        </p:nvGrpSpPr>
        <p:grpSpPr>
          <a:xfrm>
            <a:off x="4530600" y="1263600"/>
            <a:ext cx="108000" cy="114480"/>
            <a:chOff x="4530600" y="1263600"/>
            <a:chExt cx="108000" cy="114480"/>
          </a:xfrm>
        </p:grpSpPr>
        <p:sp>
          <p:nvSpPr>
            <p:cNvPr id="3344" name=""/>
            <p:cNvSpPr/>
            <p:nvPr/>
          </p:nvSpPr>
          <p:spPr>
            <a:xfrm>
              <a:off x="4530600" y="1263600"/>
              <a:ext cx="1080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 flipH="1">
              <a:off x="4630680" y="1270080"/>
              <a:ext cx="792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46" name=""/>
          <p:cNvGrpSpPr/>
          <p:nvPr/>
        </p:nvGrpSpPr>
        <p:grpSpPr>
          <a:xfrm>
            <a:off x="4530600" y="1873080"/>
            <a:ext cx="108000" cy="114480"/>
            <a:chOff x="4530600" y="1873080"/>
            <a:chExt cx="108000" cy="114480"/>
          </a:xfrm>
        </p:grpSpPr>
        <p:sp>
          <p:nvSpPr>
            <p:cNvPr id="3347" name=""/>
            <p:cNvSpPr/>
            <p:nvPr/>
          </p:nvSpPr>
          <p:spPr>
            <a:xfrm>
              <a:off x="4530600" y="1873080"/>
              <a:ext cx="1080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 flipH="1">
              <a:off x="4630680" y="1879560"/>
              <a:ext cx="792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49" name=""/>
          <p:cNvGrpSpPr/>
          <p:nvPr/>
        </p:nvGrpSpPr>
        <p:grpSpPr>
          <a:xfrm>
            <a:off x="4495680" y="2128680"/>
            <a:ext cx="139680" cy="157320"/>
            <a:chOff x="4495680" y="2128680"/>
            <a:chExt cx="139680" cy="157320"/>
          </a:xfrm>
        </p:grpSpPr>
        <p:sp>
          <p:nvSpPr>
            <p:cNvPr id="3350" name=""/>
            <p:cNvSpPr/>
            <p:nvPr/>
          </p:nvSpPr>
          <p:spPr>
            <a:xfrm>
              <a:off x="4621320" y="2128680"/>
              <a:ext cx="14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 flipH="1">
              <a:off x="4495680" y="2271600"/>
              <a:ext cx="1396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2" name=""/>
          <p:cNvGrpSpPr/>
          <p:nvPr/>
        </p:nvGrpSpPr>
        <p:grpSpPr>
          <a:xfrm>
            <a:off x="4572000" y="2738520"/>
            <a:ext cx="139680" cy="156960"/>
            <a:chOff x="4572000" y="2738520"/>
            <a:chExt cx="139680" cy="156960"/>
          </a:xfrm>
        </p:grpSpPr>
        <p:sp>
          <p:nvSpPr>
            <p:cNvPr id="3353" name=""/>
            <p:cNvSpPr/>
            <p:nvPr/>
          </p:nvSpPr>
          <p:spPr>
            <a:xfrm>
              <a:off x="4697280" y="2738520"/>
              <a:ext cx="144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 flipH="1">
              <a:off x="4572000" y="2881440"/>
              <a:ext cx="13968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5" name=""/>
          <p:cNvGrpSpPr/>
          <p:nvPr/>
        </p:nvGrpSpPr>
        <p:grpSpPr>
          <a:xfrm>
            <a:off x="2590560" y="3733920"/>
            <a:ext cx="76320" cy="152280"/>
            <a:chOff x="2590560" y="3733920"/>
            <a:chExt cx="76320" cy="152280"/>
          </a:xfrm>
        </p:grpSpPr>
        <p:sp>
          <p:nvSpPr>
            <p:cNvPr id="3356" name=""/>
            <p:cNvSpPr/>
            <p:nvPr/>
          </p:nvSpPr>
          <p:spPr>
            <a:xfrm>
              <a:off x="2590920" y="3733920"/>
              <a:ext cx="759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 flipH="1">
              <a:off x="2590560" y="3809880"/>
              <a:ext cx="7596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8" name=""/>
          <p:cNvGrpSpPr/>
          <p:nvPr/>
        </p:nvGrpSpPr>
        <p:grpSpPr>
          <a:xfrm>
            <a:off x="4724280" y="4343400"/>
            <a:ext cx="76320" cy="152280"/>
            <a:chOff x="4724280" y="4343400"/>
            <a:chExt cx="76320" cy="152280"/>
          </a:xfrm>
        </p:grpSpPr>
        <p:sp>
          <p:nvSpPr>
            <p:cNvPr id="3359" name=""/>
            <p:cNvSpPr/>
            <p:nvPr/>
          </p:nvSpPr>
          <p:spPr>
            <a:xfrm>
              <a:off x="4724280" y="4343400"/>
              <a:ext cx="7632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 flipH="1">
              <a:off x="4724280" y="4419720"/>
              <a:ext cx="7632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61" name=""/>
          <p:cNvGrpSpPr/>
          <p:nvPr/>
        </p:nvGrpSpPr>
        <p:grpSpPr>
          <a:xfrm>
            <a:off x="4683240" y="4006800"/>
            <a:ext cx="108000" cy="114480"/>
            <a:chOff x="4683240" y="4006800"/>
            <a:chExt cx="108000" cy="114480"/>
          </a:xfrm>
        </p:grpSpPr>
        <p:sp>
          <p:nvSpPr>
            <p:cNvPr id="3362" name=""/>
            <p:cNvSpPr/>
            <p:nvPr/>
          </p:nvSpPr>
          <p:spPr>
            <a:xfrm>
              <a:off x="4683240" y="4006800"/>
              <a:ext cx="1080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 flipH="1">
              <a:off x="4782600" y="4013280"/>
              <a:ext cx="828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64" name=""/>
          <p:cNvGrpSpPr/>
          <p:nvPr/>
        </p:nvGrpSpPr>
        <p:grpSpPr>
          <a:xfrm>
            <a:off x="4606920" y="4844880"/>
            <a:ext cx="108000" cy="114480"/>
            <a:chOff x="4606920" y="4844880"/>
            <a:chExt cx="108000" cy="114480"/>
          </a:xfrm>
        </p:grpSpPr>
        <p:sp>
          <p:nvSpPr>
            <p:cNvPr id="3365" name=""/>
            <p:cNvSpPr/>
            <p:nvPr/>
          </p:nvSpPr>
          <p:spPr>
            <a:xfrm>
              <a:off x="4606920" y="4844880"/>
              <a:ext cx="1080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 flipH="1">
              <a:off x="4707000" y="4851360"/>
              <a:ext cx="792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67" name=""/>
          <p:cNvGrpSpPr/>
          <p:nvPr/>
        </p:nvGrpSpPr>
        <p:grpSpPr>
          <a:xfrm>
            <a:off x="4603320" y="4572000"/>
            <a:ext cx="120960" cy="114480"/>
            <a:chOff x="4603320" y="4572000"/>
            <a:chExt cx="120960" cy="114480"/>
          </a:xfrm>
        </p:grpSpPr>
        <p:sp>
          <p:nvSpPr>
            <p:cNvPr id="3368" name=""/>
            <p:cNvSpPr/>
            <p:nvPr/>
          </p:nvSpPr>
          <p:spPr>
            <a:xfrm>
              <a:off x="4711680" y="4572000"/>
              <a:ext cx="1260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 flipH="1">
              <a:off x="4603320" y="4675320"/>
              <a:ext cx="12060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70" name=""/>
          <p:cNvGrpSpPr/>
          <p:nvPr/>
        </p:nvGrpSpPr>
        <p:grpSpPr>
          <a:xfrm>
            <a:off x="4222440" y="4876920"/>
            <a:ext cx="120960" cy="114120"/>
            <a:chOff x="4222440" y="4876920"/>
            <a:chExt cx="120960" cy="114120"/>
          </a:xfrm>
        </p:grpSpPr>
        <p:sp>
          <p:nvSpPr>
            <p:cNvPr id="3371" name=""/>
            <p:cNvSpPr/>
            <p:nvPr/>
          </p:nvSpPr>
          <p:spPr>
            <a:xfrm>
              <a:off x="4330800" y="4876920"/>
              <a:ext cx="12600" cy="10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 flipH="1">
              <a:off x="4222440" y="4979880"/>
              <a:ext cx="12060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73" name=""/>
          <p:cNvGrpSpPr/>
          <p:nvPr/>
        </p:nvGrpSpPr>
        <p:grpSpPr>
          <a:xfrm>
            <a:off x="6781680" y="990720"/>
            <a:ext cx="76320" cy="152280"/>
            <a:chOff x="6781680" y="990720"/>
            <a:chExt cx="76320" cy="152280"/>
          </a:xfrm>
        </p:grpSpPr>
        <p:sp>
          <p:nvSpPr>
            <p:cNvPr id="3374" name=""/>
            <p:cNvSpPr/>
            <p:nvPr/>
          </p:nvSpPr>
          <p:spPr>
            <a:xfrm>
              <a:off x="6781680" y="990720"/>
              <a:ext cx="7632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 flipH="1">
              <a:off x="6781680" y="1066680"/>
              <a:ext cx="7632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76" name=""/>
          <p:cNvGrpSpPr/>
          <p:nvPr/>
        </p:nvGrpSpPr>
        <p:grpSpPr>
          <a:xfrm>
            <a:off x="6858000" y="1600200"/>
            <a:ext cx="76320" cy="152280"/>
            <a:chOff x="6858000" y="1600200"/>
            <a:chExt cx="76320" cy="152280"/>
          </a:xfrm>
        </p:grpSpPr>
        <p:sp>
          <p:nvSpPr>
            <p:cNvPr id="3377" name=""/>
            <p:cNvSpPr/>
            <p:nvPr/>
          </p:nvSpPr>
          <p:spPr>
            <a:xfrm>
              <a:off x="6858000" y="1600200"/>
              <a:ext cx="7632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 flipH="1">
              <a:off x="6858000" y="1676520"/>
              <a:ext cx="7632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79" name=""/>
          <p:cNvGrpSpPr/>
          <p:nvPr/>
        </p:nvGrpSpPr>
        <p:grpSpPr>
          <a:xfrm>
            <a:off x="7010280" y="2362320"/>
            <a:ext cx="76320" cy="152280"/>
            <a:chOff x="7010280" y="2362320"/>
            <a:chExt cx="76320" cy="152280"/>
          </a:xfrm>
        </p:grpSpPr>
        <p:sp>
          <p:nvSpPr>
            <p:cNvPr id="3380" name=""/>
            <p:cNvSpPr/>
            <p:nvPr/>
          </p:nvSpPr>
          <p:spPr>
            <a:xfrm>
              <a:off x="7010280" y="2362320"/>
              <a:ext cx="7632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 flipH="1">
              <a:off x="7010280" y="2438280"/>
              <a:ext cx="7632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2" name=""/>
          <p:cNvGrpSpPr/>
          <p:nvPr/>
        </p:nvGrpSpPr>
        <p:grpSpPr>
          <a:xfrm>
            <a:off x="7010280" y="2971800"/>
            <a:ext cx="76320" cy="152280"/>
            <a:chOff x="7010280" y="2971800"/>
            <a:chExt cx="76320" cy="152280"/>
          </a:xfrm>
        </p:grpSpPr>
        <p:sp>
          <p:nvSpPr>
            <p:cNvPr id="3383" name=""/>
            <p:cNvSpPr/>
            <p:nvPr/>
          </p:nvSpPr>
          <p:spPr>
            <a:xfrm>
              <a:off x="7010280" y="2971800"/>
              <a:ext cx="7632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 flipH="1">
              <a:off x="7010280" y="3048120"/>
              <a:ext cx="7632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5" name=""/>
          <p:cNvGrpSpPr/>
          <p:nvPr/>
        </p:nvGrpSpPr>
        <p:grpSpPr>
          <a:xfrm>
            <a:off x="7502400" y="1339920"/>
            <a:ext cx="108000" cy="114120"/>
            <a:chOff x="7502400" y="1339920"/>
            <a:chExt cx="108000" cy="114120"/>
          </a:xfrm>
        </p:grpSpPr>
        <p:sp>
          <p:nvSpPr>
            <p:cNvPr id="3386" name=""/>
            <p:cNvSpPr/>
            <p:nvPr/>
          </p:nvSpPr>
          <p:spPr>
            <a:xfrm>
              <a:off x="7502400" y="1339920"/>
              <a:ext cx="108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 flipH="1">
              <a:off x="7602480" y="1346040"/>
              <a:ext cx="792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8" name=""/>
          <p:cNvGrpSpPr/>
          <p:nvPr/>
        </p:nvGrpSpPr>
        <p:grpSpPr>
          <a:xfrm>
            <a:off x="7426440" y="2025720"/>
            <a:ext cx="108000" cy="114120"/>
            <a:chOff x="7426440" y="2025720"/>
            <a:chExt cx="108000" cy="114120"/>
          </a:xfrm>
        </p:grpSpPr>
        <p:sp>
          <p:nvSpPr>
            <p:cNvPr id="3389" name=""/>
            <p:cNvSpPr/>
            <p:nvPr/>
          </p:nvSpPr>
          <p:spPr>
            <a:xfrm>
              <a:off x="7426440" y="2025720"/>
              <a:ext cx="108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 flipH="1">
              <a:off x="7525800" y="2031840"/>
              <a:ext cx="828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91" name=""/>
          <p:cNvGrpSpPr/>
          <p:nvPr/>
        </p:nvGrpSpPr>
        <p:grpSpPr>
          <a:xfrm>
            <a:off x="7478640" y="2711520"/>
            <a:ext cx="108000" cy="114120"/>
            <a:chOff x="7478640" y="2711520"/>
            <a:chExt cx="108000" cy="114120"/>
          </a:xfrm>
        </p:grpSpPr>
        <p:sp>
          <p:nvSpPr>
            <p:cNvPr id="3392" name=""/>
            <p:cNvSpPr/>
            <p:nvPr/>
          </p:nvSpPr>
          <p:spPr>
            <a:xfrm>
              <a:off x="7478640" y="2711520"/>
              <a:ext cx="108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 flipH="1">
              <a:off x="7578720" y="2717640"/>
              <a:ext cx="792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94" name=""/>
          <p:cNvGrpSpPr/>
          <p:nvPr/>
        </p:nvGrpSpPr>
        <p:grpSpPr>
          <a:xfrm>
            <a:off x="7578720" y="3244680"/>
            <a:ext cx="108000" cy="114480"/>
            <a:chOff x="7578720" y="3244680"/>
            <a:chExt cx="108000" cy="114480"/>
          </a:xfrm>
        </p:grpSpPr>
        <p:sp>
          <p:nvSpPr>
            <p:cNvPr id="3395" name=""/>
            <p:cNvSpPr/>
            <p:nvPr/>
          </p:nvSpPr>
          <p:spPr>
            <a:xfrm>
              <a:off x="7578720" y="3244680"/>
              <a:ext cx="1080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 flipH="1">
              <a:off x="7678800" y="3251160"/>
              <a:ext cx="792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97" name=""/>
          <p:cNvGrpSpPr/>
          <p:nvPr/>
        </p:nvGrpSpPr>
        <p:grpSpPr>
          <a:xfrm>
            <a:off x="4648320" y="2281320"/>
            <a:ext cx="139680" cy="156960"/>
            <a:chOff x="4648320" y="2281320"/>
            <a:chExt cx="139680" cy="156960"/>
          </a:xfrm>
        </p:grpSpPr>
        <p:sp>
          <p:nvSpPr>
            <p:cNvPr id="3398" name=""/>
            <p:cNvSpPr/>
            <p:nvPr/>
          </p:nvSpPr>
          <p:spPr>
            <a:xfrm>
              <a:off x="4773600" y="2281320"/>
              <a:ext cx="144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 flipH="1">
              <a:off x="4648320" y="2424240"/>
              <a:ext cx="13968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00" name=""/>
          <p:cNvGrpSpPr/>
          <p:nvPr/>
        </p:nvGrpSpPr>
        <p:grpSpPr>
          <a:xfrm>
            <a:off x="6356160" y="1828800"/>
            <a:ext cx="120960" cy="190440"/>
            <a:chOff x="6356160" y="1828800"/>
            <a:chExt cx="120960" cy="190440"/>
          </a:xfrm>
        </p:grpSpPr>
        <p:sp>
          <p:nvSpPr>
            <p:cNvPr id="3401" name=""/>
            <p:cNvSpPr/>
            <p:nvPr/>
          </p:nvSpPr>
          <p:spPr>
            <a:xfrm>
              <a:off x="6464160" y="1828800"/>
              <a:ext cx="12960" cy="171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 flipH="1">
              <a:off x="6356160" y="2000160"/>
              <a:ext cx="1206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03" name=""/>
          <p:cNvGrpSpPr/>
          <p:nvPr/>
        </p:nvGrpSpPr>
        <p:grpSpPr>
          <a:xfrm>
            <a:off x="6386040" y="2514600"/>
            <a:ext cx="120960" cy="190440"/>
            <a:chOff x="6386040" y="2514600"/>
            <a:chExt cx="120960" cy="190440"/>
          </a:xfrm>
        </p:grpSpPr>
        <p:sp>
          <p:nvSpPr>
            <p:cNvPr id="3404" name=""/>
            <p:cNvSpPr/>
            <p:nvPr/>
          </p:nvSpPr>
          <p:spPr>
            <a:xfrm>
              <a:off x="6494040" y="2514600"/>
              <a:ext cx="12960" cy="171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 flipH="1">
              <a:off x="6386040" y="2685960"/>
              <a:ext cx="1206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06" name=""/>
          <p:cNvGrpSpPr/>
          <p:nvPr/>
        </p:nvGrpSpPr>
        <p:grpSpPr>
          <a:xfrm>
            <a:off x="6279840" y="3124080"/>
            <a:ext cx="120960" cy="190800"/>
            <a:chOff x="6279840" y="3124080"/>
            <a:chExt cx="120960" cy="190800"/>
          </a:xfrm>
        </p:grpSpPr>
        <p:sp>
          <p:nvSpPr>
            <p:cNvPr id="3407" name=""/>
            <p:cNvSpPr/>
            <p:nvPr/>
          </p:nvSpPr>
          <p:spPr>
            <a:xfrm>
              <a:off x="6388200" y="3124080"/>
              <a:ext cx="12600" cy="17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 flipH="1">
              <a:off x="6279840" y="3295800"/>
              <a:ext cx="1206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09" name=""/>
          <p:cNvGrpSpPr/>
          <p:nvPr/>
        </p:nvGrpSpPr>
        <p:grpSpPr>
          <a:xfrm>
            <a:off x="6386040" y="3886200"/>
            <a:ext cx="120960" cy="190440"/>
            <a:chOff x="6386040" y="3886200"/>
            <a:chExt cx="120960" cy="190440"/>
          </a:xfrm>
        </p:grpSpPr>
        <p:sp>
          <p:nvSpPr>
            <p:cNvPr id="3410" name=""/>
            <p:cNvSpPr/>
            <p:nvPr/>
          </p:nvSpPr>
          <p:spPr>
            <a:xfrm>
              <a:off x="6494040" y="3886200"/>
              <a:ext cx="12960" cy="171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 flipH="1">
              <a:off x="6386040" y="4057560"/>
              <a:ext cx="1206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3F99-1777-4274-9DC6-D624DF46CF8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"/>
          <p:cNvSpPr/>
          <p:nvPr/>
        </p:nvSpPr>
        <p:spPr>
          <a:xfrm>
            <a:off x="935640" y="503280"/>
            <a:ext cx="3432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cccc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j množenja j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3" name=""/>
              <p:cNvSpPr txBox="1"/>
              <p:nvPr/>
            </p:nvSpPr>
            <p:spPr>
              <a:xfrm>
                <a:off x="4648320" y="331920"/>
                <a:ext cx="161136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14" name=""/>
          <p:cNvGrpSpPr/>
          <p:nvPr/>
        </p:nvGrpSpPr>
        <p:grpSpPr>
          <a:xfrm>
            <a:off x="-122400" y="1400040"/>
            <a:ext cx="9347400" cy="4695840"/>
            <a:chOff x="-122400" y="1400040"/>
            <a:chExt cx="9347400" cy="4695840"/>
          </a:xfrm>
        </p:grpSpPr>
        <p:sp>
          <p:nvSpPr>
            <p:cNvPr id="3415" name=""/>
            <p:cNvSpPr/>
            <p:nvPr/>
          </p:nvSpPr>
          <p:spPr>
            <a:xfrm>
              <a:off x="0" y="1459080"/>
              <a:ext cx="2217600" cy="4172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-93240" y="1414440"/>
              <a:ext cx="141192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1" lang="en-US" sz="2300" spc="-1" strike="noStrike">
                  <a:solidFill>
                    <a:srgbClr val="ffffff"/>
                  </a:solidFill>
                  <a:latin typeface="Times New Roman"/>
                </a:rPr>
                <a:t>Broj   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782640" y="1414440"/>
              <a:ext cx="123372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lang="en-US" sz="2300" spc="-1" strike="noStrike">
                  <a:solidFill>
                    <a:srgbClr val="ffffff"/>
                  </a:solidFill>
                  <a:latin typeface="Times New Roman"/>
                </a:rPr>
                <a:t>točaka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2217600" y="1459080"/>
              <a:ext cx="2333880" cy="4172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2228040" y="1400040"/>
              <a:ext cx="119232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1" lang="en-US" sz="2300" spc="-1" strike="noStrike">
                  <a:solidFill>
                    <a:srgbClr val="ffffff"/>
                  </a:solidFill>
                  <a:latin typeface="Times New Roman"/>
                </a:rPr>
                <a:t>Broj 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2989440" y="1414440"/>
              <a:ext cx="169704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1" lang="en-US" sz="2300" spc="-1" strike="noStrike">
                  <a:solidFill>
                    <a:srgbClr val="ffffff"/>
                  </a:solidFill>
                  <a:latin typeface="Times New Roman"/>
                </a:rPr>
                <a:t>množenja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4551480" y="1459080"/>
              <a:ext cx="2333520" cy="4172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4568040" y="1400040"/>
              <a:ext cx="161424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en-US" sz="2300" spc="-1" strike="noStrike">
                  <a:solidFill>
                    <a:srgbClr val="ffffff"/>
                  </a:solidFill>
                  <a:latin typeface="Times New Roman"/>
                </a:rPr>
                <a:t>FFT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6886440" y="1459080"/>
              <a:ext cx="2227320" cy="4172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6901200" y="1401840"/>
              <a:ext cx="9165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          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7471440" y="1414440"/>
              <a:ext cx="1265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lang="en-US" sz="2300" spc="-1" strike="noStrike">
                  <a:solidFill>
                    <a:srgbClr val="ffffff"/>
                  </a:solidFill>
                  <a:latin typeface="Times New Roman"/>
                </a:rPr>
                <a:t>Faktor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26" name=""/>
            <p:cNvGrpSpPr/>
            <p:nvPr/>
          </p:nvGrpSpPr>
          <p:grpSpPr>
            <a:xfrm>
              <a:off x="-122400" y="1801800"/>
              <a:ext cx="9347400" cy="4294080"/>
              <a:chOff x="-122400" y="1801800"/>
              <a:chExt cx="9347400" cy="4294080"/>
            </a:xfrm>
          </p:grpSpPr>
          <p:sp>
            <p:nvSpPr>
              <p:cNvPr id="3427" name=""/>
              <p:cNvSpPr/>
              <p:nvPr/>
            </p:nvSpPr>
            <p:spPr>
              <a:xfrm>
                <a:off x="0" y="1876320"/>
                <a:ext cx="2217600" cy="41760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-106200" y="1809720"/>
                <a:ext cx="134784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ffffff"/>
                    </a:solidFill>
                    <a:latin typeface="Times New Roman"/>
                  </a:rPr>
                  <a:t>             </a:t>
                </a:r>
                <a:r>
                  <a:rPr b="0" lang="en-US" sz="2300" spc="-1" strike="noStrike">
                    <a:solidFill>
                      <a:srgbClr val="ffffff"/>
                    </a:solidFill>
                    <a:latin typeface="Times New Roman"/>
                  </a:rPr>
                  <a:t>N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2217600" y="1876320"/>
                <a:ext cx="2333880" cy="41760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2244960" y="1832040"/>
                <a:ext cx="157932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Times New Roman"/>
                  </a:rPr>
                  <a:t>               </a:t>
                </a:r>
                <a:r>
                  <a:rPr b="1" lang="en-US" sz="2300" spc="-1" strike="noStrike">
                    <a:solidFill>
                      <a:srgbClr val="ffffff"/>
                    </a:solidFill>
                    <a:latin typeface="Times New Roman"/>
                  </a:rPr>
                  <a:t>N</a:t>
                </a:r>
                <a:r>
                  <a:rPr b="1" lang="en-US" sz="23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3228480" y="1801800"/>
                <a:ext cx="2293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4551480" y="1876320"/>
                <a:ext cx="2333520" cy="41760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4584600" y="1832040"/>
                <a:ext cx="2074680" cy="49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Times New Roman"/>
                  </a:rPr>
                  <a:t>        </a:t>
                </a:r>
                <a:r>
                  <a:rPr b="1" lang="en-US" sz="2300" spc="-1" strike="noStrike">
                    <a:solidFill>
                      <a:srgbClr val="ffffff"/>
                    </a:solidFill>
                    <a:latin typeface="Times New Roman"/>
                  </a:rPr>
                  <a:t>(N/2)log</a:t>
                </a:r>
                <a:r>
                  <a:rPr b="1" lang="en-US" sz="23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300" spc="-1" strike="noStrike">
                    <a:solidFill>
                      <a:srgbClr val="ffffff"/>
                    </a:solidFill>
                    <a:latin typeface="Times New Roman"/>
                  </a:rPr>
                  <a:t>N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6886440" y="1876320"/>
                <a:ext cx="2227320" cy="41760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6899760" y="1814400"/>
                <a:ext cx="210384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Times New Roman"/>
                  </a:rPr>
                  <a:t>        </a:t>
                </a:r>
                <a:r>
                  <a:rPr b="1" lang="en-US" sz="2300" spc="-1" strike="noStrike">
                    <a:solidFill>
                      <a:srgbClr val="ffffff"/>
                    </a:solidFill>
                    <a:latin typeface="Times New Roman"/>
                  </a:rPr>
                  <a:t>efikasnosti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0" y="2341440"/>
                <a:ext cx="2217600" cy="4176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-106200" y="2278080"/>
                <a:ext cx="128232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             </a:t>
                </a: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4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2217600" y="2341440"/>
                <a:ext cx="2333880" cy="4176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2227320" y="2278080"/>
                <a:ext cx="150192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              </a:t>
                </a: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16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4551480" y="2341440"/>
                <a:ext cx="2333520" cy="4176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4567320" y="2278080"/>
                <a:ext cx="142848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               </a:t>
                </a: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4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6886440" y="2341440"/>
                <a:ext cx="2227320" cy="4176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6901200" y="2278080"/>
                <a:ext cx="135540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              </a:t>
                </a: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4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-122400" y="2293920"/>
                <a:ext cx="2340000" cy="49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2217600" y="2293920"/>
                <a:ext cx="30240" cy="49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2247840" y="2293920"/>
                <a:ext cx="2303640" cy="49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4551480" y="2293920"/>
                <a:ext cx="29880" cy="49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4581360" y="2293920"/>
                <a:ext cx="2303640" cy="49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6886440" y="2293920"/>
                <a:ext cx="30240" cy="49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6916680" y="2293920"/>
                <a:ext cx="2308320" cy="49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0" y="2759040"/>
                <a:ext cx="2217600" cy="4176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-106200" y="2695680"/>
                <a:ext cx="128232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             </a:t>
                </a: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8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2217600" y="2759040"/>
                <a:ext cx="2333880" cy="4176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2227320" y="2695680"/>
                <a:ext cx="150192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              </a:t>
                </a: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64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4551480" y="2759040"/>
                <a:ext cx="2333520" cy="4176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4567320" y="2695680"/>
                <a:ext cx="157500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               </a:t>
                </a: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12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6886440" y="2759040"/>
                <a:ext cx="2227320" cy="4176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6900840" y="2695680"/>
                <a:ext cx="157500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              </a:t>
                </a: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5,3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0" y="3176640"/>
                <a:ext cx="2217600" cy="4176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-106200" y="3111480"/>
                <a:ext cx="135540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            </a:t>
                </a: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16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2217600" y="3176640"/>
                <a:ext cx="2333880" cy="4176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2227320" y="3111480"/>
                <a:ext cx="157500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             </a:t>
                </a: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256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4551480" y="3176640"/>
                <a:ext cx="2333520" cy="4176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4567320" y="3111480"/>
                <a:ext cx="157500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               </a:t>
                </a: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32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6886440" y="3176640"/>
                <a:ext cx="2227320" cy="4176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6900840" y="3111480"/>
                <a:ext cx="157500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              </a:t>
                </a: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8,0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0" y="3594240"/>
                <a:ext cx="2217600" cy="4172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-106200" y="3530520"/>
                <a:ext cx="135540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            </a:t>
                </a: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32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2217600" y="3594240"/>
                <a:ext cx="2333880" cy="4172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2227320" y="3530520"/>
                <a:ext cx="164808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            </a:t>
                </a: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1024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4551480" y="3594240"/>
                <a:ext cx="2333520" cy="4172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4567320" y="3530520"/>
                <a:ext cx="157500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               </a:t>
                </a: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80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6886440" y="3594240"/>
                <a:ext cx="2227320" cy="4172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6900840" y="3530520"/>
                <a:ext cx="172116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              </a:t>
                </a: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12,8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0" y="4011480"/>
                <a:ext cx="2217600" cy="4176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-106200" y="3944880"/>
                <a:ext cx="135540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            </a:t>
                </a: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64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2217600" y="4011480"/>
                <a:ext cx="2333880" cy="4176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2227320" y="3944880"/>
                <a:ext cx="164808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            </a:t>
                </a: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4096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4551480" y="4011480"/>
                <a:ext cx="2333520" cy="4176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4567320" y="3944880"/>
                <a:ext cx="172116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               </a:t>
                </a: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192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6886440" y="4011480"/>
                <a:ext cx="2227320" cy="4176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6900840" y="3944880"/>
                <a:ext cx="172116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              </a:t>
                </a: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21,3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0" y="4429080"/>
                <a:ext cx="2217600" cy="4176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-106200" y="4362480"/>
                <a:ext cx="150156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            </a:t>
                </a: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128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2217600" y="4429080"/>
                <a:ext cx="2333880" cy="4176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2226960" y="4362480"/>
                <a:ext cx="179424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            </a:t>
                </a: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16384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4551480" y="4429080"/>
                <a:ext cx="2333520" cy="4176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4567320" y="4362480"/>
                <a:ext cx="172116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               </a:t>
                </a: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448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6886440" y="4429080"/>
                <a:ext cx="2227320" cy="4176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6900840" y="4362480"/>
                <a:ext cx="172116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              </a:t>
                </a: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36,6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0" y="4846680"/>
                <a:ext cx="2217600" cy="4158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-106200" y="4780080"/>
                <a:ext cx="150156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            </a:t>
                </a: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256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2217600" y="4846680"/>
                <a:ext cx="2333880" cy="4158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2226960" y="4780080"/>
                <a:ext cx="179424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            </a:t>
                </a: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65536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4551480" y="4846680"/>
                <a:ext cx="2333520" cy="4158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4566960" y="4780080"/>
                <a:ext cx="172152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             </a:t>
                </a: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1024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6886440" y="4846680"/>
                <a:ext cx="2227320" cy="4158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6900840" y="4780080"/>
                <a:ext cx="150192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              </a:t>
                </a: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64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0" y="5261040"/>
                <a:ext cx="2217600" cy="419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-106200" y="5197320"/>
                <a:ext cx="150156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            </a:t>
                </a: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512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2217600" y="5261040"/>
                <a:ext cx="2333880" cy="419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2226960" y="5197320"/>
                <a:ext cx="186732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           </a:t>
                </a: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262144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4551480" y="5261040"/>
                <a:ext cx="2333520" cy="419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4566960" y="5197320"/>
                <a:ext cx="172152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             </a:t>
                </a: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2304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6886440" y="5261040"/>
                <a:ext cx="2227320" cy="419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6900480" y="5197320"/>
                <a:ext cx="186768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              </a:t>
                </a: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113,8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0" y="5680080"/>
                <a:ext cx="2217600" cy="4158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-106560" y="5613480"/>
                <a:ext cx="164808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            </a:t>
                </a: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1024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2217600" y="5680080"/>
                <a:ext cx="2333880" cy="4158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2226960" y="5613480"/>
                <a:ext cx="201384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           </a:t>
                </a: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1048576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4551480" y="5680080"/>
                <a:ext cx="2333520" cy="4158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4566960" y="5613480"/>
                <a:ext cx="172152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             </a:t>
                </a: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5120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6886440" y="5680080"/>
                <a:ext cx="2227320" cy="4158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6900480" y="5613480"/>
                <a:ext cx="186768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              </a:t>
                </a:r>
                <a:r>
                  <a:rPr b="0" lang="en-US" sz="2300" spc="-1" strike="noStrike">
                    <a:solidFill>
                      <a:srgbClr val="010000"/>
                    </a:solidFill>
                    <a:latin typeface="Times New Roman"/>
                  </a:rPr>
                  <a:t>204,8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5DEE-07C2-4E28-8679-9D39AB59927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5" name=""/>
          <p:cNvGrpSpPr/>
          <p:nvPr/>
        </p:nvGrpSpPr>
        <p:grpSpPr>
          <a:xfrm>
            <a:off x="210960" y="1265400"/>
            <a:ext cx="8561520" cy="5516280"/>
            <a:chOff x="210960" y="1265400"/>
            <a:chExt cx="8561520" cy="5516280"/>
          </a:xfrm>
        </p:grpSpPr>
        <p:sp>
          <p:nvSpPr>
            <p:cNvPr id="3516" name=""/>
            <p:cNvSpPr/>
            <p:nvPr/>
          </p:nvSpPr>
          <p:spPr>
            <a:xfrm>
              <a:off x="1143000" y="1600200"/>
              <a:ext cx="6629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1143000" y="2209680"/>
              <a:ext cx="6629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1143000" y="2971800"/>
              <a:ext cx="6629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1143000" y="3581280"/>
              <a:ext cx="6629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1143000" y="4343400"/>
              <a:ext cx="6629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1143000" y="4952880"/>
              <a:ext cx="6629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1143000" y="5715000"/>
              <a:ext cx="6629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1143000" y="6324480"/>
              <a:ext cx="6629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2057400" y="1600200"/>
              <a:ext cx="83808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2133720" y="2971800"/>
              <a:ext cx="83808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2209680" y="4343400"/>
              <a:ext cx="8384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2286000" y="5715000"/>
              <a:ext cx="83808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 flipV="1">
              <a:off x="2133720" y="1599840"/>
              <a:ext cx="83808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 flipV="1">
              <a:off x="2133720" y="2971440"/>
              <a:ext cx="83808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 flipV="1">
              <a:off x="2209680" y="4343040"/>
              <a:ext cx="8384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 flipV="1">
              <a:off x="2286000" y="5714640"/>
              <a:ext cx="83808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3657600" y="1600200"/>
              <a:ext cx="1143000" cy="137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3733920" y="2209680"/>
              <a:ext cx="1143000" cy="137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3962520" y="4343400"/>
              <a:ext cx="1143000" cy="137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3886200" y="4954680"/>
              <a:ext cx="1143000" cy="137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 flipH="1">
              <a:off x="3733560" y="1600200"/>
              <a:ext cx="1066680" cy="137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 flipH="1">
              <a:off x="3733560" y="2209680"/>
              <a:ext cx="1066680" cy="137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 flipH="1">
              <a:off x="3885840" y="4343400"/>
              <a:ext cx="1066680" cy="137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 flipH="1">
              <a:off x="3962160" y="4954680"/>
              <a:ext cx="1066680" cy="137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5791320" y="1600200"/>
              <a:ext cx="1981080" cy="274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5791320" y="2209680"/>
              <a:ext cx="1981080" cy="274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5791320" y="2971800"/>
              <a:ext cx="1981080" cy="274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5791320" y="3581280"/>
              <a:ext cx="1981080" cy="274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 flipH="1">
              <a:off x="5867280" y="1600200"/>
              <a:ext cx="1905120" cy="274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 flipH="1">
              <a:off x="5867280" y="2209680"/>
              <a:ext cx="1905120" cy="274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 flipH="1">
              <a:off x="5867280" y="2971800"/>
              <a:ext cx="1905120" cy="274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 flipH="1">
              <a:off x="5867280" y="3581280"/>
              <a:ext cx="1905120" cy="274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210960" y="1265400"/>
              <a:ext cx="954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X(0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210960" y="1874880"/>
              <a:ext cx="954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X(4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210960" y="2637000"/>
              <a:ext cx="954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X(2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210960" y="3246480"/>
              <a:ext cx="954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X(6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210960" y="4008600"/>
              <a:ext cx="954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X(1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210960" y="4618080"/>
              <a:ext cx="954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X(5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210960" y="5380200"/>
              <a:ext cx="954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X(3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210960" y="5989680"/>
              <a:ext cx="954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X(7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56" name=""/>
            <p:cNvGrpSpPr/>
            <p:nvPr/>
          </p:nvGrpSpPr>
          <p:grpSpPr>
            <a:xfrm>
              <a:off x="1599840" y="2133720"/>
              <a:ext cx="152640" cy="152280"/>
              <a:chOff x="1599840" y="2133720"/>
              <a:chExt cx="152640" cy="152280"/>
            </a:xfrm>
          </p:grpSpPr>
          <p:sp>
            <p:nvSpPr>
              <p:cNvPr id="3557" name=""/>
              <p:cNvSpPr/>
              <p:nvPr/>
            </p:nvSpPr>
            <p:spPr>
              <a:xfrm flipH="1">
                <a:off x="1599840" y="2133720"/>
                <a:ext cx="152280" cy="75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1600200" y="2209680"/>
                <a:ext cx="152280" cy="76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59" name=""/>
            <p:cNvGrpSpPr/>
            <p:nvPr/>
          </p:nvGrpSpPr>
          <p:grpSpPr>
            <a:xfrm>
              <a:off x="2438280" y="2133720"/>
              <a:ext cx="152640" cy="152280"/>
              <a:chOff x="2438280" y="2133720"/>
              <a:chExt cx="152640" cy="152280"/>
            </a:xfrm>
          </p:grpSpPr>
          <p:sp>
            <p:nvSpPr>
              <p:cNvPr id="3560" name=""/>
              <p:cNvSpPr/>
              <p:nvPr/>
            </p:nvSpPr>
            <p:spPr>
              <a:xfrm flipH="1">
                <a:off x="2438280" y="2133720"/>
                <a:ext cx="152640" cy="75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2438280" y="2209680"/>
                <a:ext cx="152640" cy="76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62" name=""/>
            <p:cNvGrpSpPr/>
            <p:nvPr/>
          </p:nvGrpSpPr>
          <p:grpSpPr>
            <a:xfrm>
              <a:off x="1599840" y="3505320"/>
              <a:ext cx="152640" cy="152280"/>
              <a:chOff x="1599840" y="3505320"/>
              <a:chExt cx="152640" cy="152280"/>
            </a:xfrm>
          </p:grpSpPr>
          <p:sp>
            <p:nvSpPr>
              <p:cNvPr id="3563" name=""/>
              <p:cNvSpPr/>
              <p:nvPr/>
            </p:nvSpPr>
            <p:spPr>
              <a:xfrm flipH="1">
                <a:off x="1599840" y="3505320"/>
                <a:ext cx="152280" cy="75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1600200" y="3581280"/>
                <a:ext cx="152280" cy="76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65" name=""/>
            <p:cNvGrpSpPr/>
            <p:nvPr/>
          </p:nvGrpSpPr>
          <p:grpSpPr>
            <a:xfrm>
              <a:off x="1599840" y="4876920"/>
              <a:ext cx="152640" cy="152280"/>
              <a:chOff x="1599840" y="4876920"/>
              <a:chExt cx="152640" cy="152280"/>
            </a:xfrm>
          </p:grpSpPr>
          <p:sp>
            <p:nvSpPr>
              <p:cNvPr id="3566" name=""/>
              <p:cNvSpPr/>
              <p:nvPr/>
            </p:nvSpPr>
            <p:spPr>
              <a:xfrm flipH="1">
                <a:off x="1599840" y="4876920"/>
                <a:ext cx="152280" cy="75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1600200" y="4952880"/>
                <a:ext cx="152280" cy="76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68" name=""/>
            <p:cNvGrpSpPr/>
            <p:nvPr/>
          </p:nvGrpSpPr>
          <p:grpSpPr>
            <a:xfrm>
              <a:off x="1599840" y="6248520"/>
              <a:ext cx="152640" cy="152280"/>
              <a:chOff x="1599840" y="6248520"/>
              <a:chExt cx="152640" cy="152280"/>
            </a:xfrm>
          </p:grpSpPr>
          <p:sp>
            <p:nvSpPr>
              <p:cNvPr id="3569" name=""/>
              <p:cNvSpPr/>
              <p:nvPr/>
            </p:nvSpPr>
            <p:spPr>
              <a:xfrm flipH="1">
                <a:off x="1599840" y="6248520"/>
                <a:ext cx="152280" cy="75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1600200" y="6324480"/>
                <a:ext cx="152280" cy="76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71" name=""/>
            <p:cNvGrpSpPr/>
            <p:nvPr/>
          </p:nvGrpSpPr>
          <p:grpSpPr>
            <a:xfrm>
              <a:off x="2514240" y="3505320"/>
              <a:ext cx="152640" cy="152280"/>
              <a:chOff x="2514240" y="3505320"/>
              <a:chExt cx="152640" cy="152280"/>
            </a:xfrm>
          </p:grpSpPr>
          <p:sp>
            <p:nvSpPr>
              <p:cNvPr id="3572" name=""/>
              <p:cNvSpPr/>
              <p:nvPr/>
            </p:nvSpPr>
            <p:spPr>
              <a:xfrm flipH="1">
                <a:off x="2514240" y="3505320"/>
                <a:ext cx="152280" cy="75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2514600" y="3581280"/>
                <a:ext cx="152280" cy="76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74" name=""/>
            <p:cNvGrpSpPr/>
            <p:nvPr/>
          </p:nvGrpSpPr>
          <p:grpSpPr>
            <a:xfrm>
              <a:off x="2590560" y="6248520"/>
              <a:ext cx="152640" cy="152280"/>
              <a:chOff x="2590560" y="6248520"/>
              <a:chExt cx="152640" cy="152280"/>
            </a:xfrm>
          </p:grpSpPr>
          <p:sp>
            <p:nvSpPr>
              <p:cNvPr id="3575" name=""/>
              <p:cNvSpPr/>
              <p:nvPr/>
            </p:nvSpPr>
            <p:spPr>
              <a:xfrm flipH="1">
                <a:off x="2590560" y="6248520"/>
                <a:ext cx="152280" cy="75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2590920" y="6324480"/>
                <a:ext cx="152280" cy="76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77" name=""/>
            <p:cNvGrpSpPr/>
            <p:nvPr/>
          </p:nvGrpSpPr>
          <p:grpSpPr>
            <a:xfrm>
              <a:off x="3428640" y="5638680"/>
              <a:ext cx="152640" cy="152640"/>
              <a:chOff x="3428640" y="5638680"/>
              <a:chExt cx="152640" cy="152640"/>
            </a:xfrm>
          </p:grpSpPr>
          <p:sp>
            <p:nvSpPr>
              <p:cNvPr id="3578" name=""/>
              <p:cNvSpPr/>
              <p:nvPr/>
            </p:nvSpPr>
            <p:spPr>
              <a:xfrm flipH="1">
                <a:off x="3428640" y="5638680"/>
                <a:ext cx="152280" cy="76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3429000" y="5715000"/>
                <a:ext cx="152280" cy="76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80" name=""/>
            <p:cNvGrpSpPr/>
            <p:nvPr/>
          </p:nvGrpSpPr>
          <p:grpSpPr>
            <a:xfrm>
              <a:off x="3428640" y="6248520"/>
              <a:ext cx="152640" cy="152280"/>
              <a:chOff x="3428640" y="6248520"/>
              <a:chExt cx="152640" cy="152280"/>
            </a:xfrm>
          </p:grpSpPr>
          <p:sp>
            <p:nvSpPr>
              <p:cNvPr id="3581" name=""/>
              <p:cNvSpPr/>
              <p:nvPr/>
            </p:nvSpPr>
            <p:spPr>
              <a:xfrm flipH="1">
                <a:off x="3428640" y="6248520"/>
                <a:ext cx="152280" cy="75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3429000" y="6324480"/>
                <a:ext cx="152280" cy="76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83" name=""/>
            <p:cNvGrpSpPr/>
            <p:nvPr/>
          </p:nvGrpSpPr>
          <p:grpSpPr>
            <a:xfrm>
              <a:off x="4114440" y="5638680"/>
              <a:ext cx="152640" cy="152640"/>
              <a:chOff x="4114440" y="5638680"/>
              <a:chExt cx="152640" cy="152640"/>
            </a:xfrm>
          </p:grpSpPr>
          <p:sp>
            <p:nvSpPr>
              <p:cNvPr id="3584" name=""/>
              <p:cNvSpPr/>
              <p:nvPr/>
            </p:nvSpPr>
            <p:spPr>
              <a:xfrm flipH="1">
                <a:off x="4114440" y="5638680"/>
                <a:ext cx="152280" cy="76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4114800" y="5715000"/>
                <a:ext cx="152280" cy="76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86" name=""/>
            <p:cNvGrpSpPr/>
            <p:nvPr/>
          </p:nvGrpSpPr>
          <p:grpSpPr>
            <a:xfrm>
              <a:off x="4114440" y="6248520"/>
              <a:ext cx="152640" cy="152280"/>
              <a:chOff x="4114440" y="6248520"/>
              <a:chExt cx="152640" cy="152280"/>
            </a:xfrm>
          </p:grpSpPr>
          <p:sp>
            <p:nvSpPr>
              <p:cNvPr id="3587" name=""/>
              <p:cNvSpPr/>
              <p:nvPr/>
            </p:nvSpPr>
            <p:spPr>
              <a:xfrm flipH="1">
                <a:off x="4114440" y="6248520"/>
                <a:ext cx="152280" cy="75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4114800" y="6324480"/>
                <a:ext cx="152280" cy="76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89" name=""/>
            <p:cNvGrpSpPr/>
            <p:nvPr/>
          </p:nvGrpSpPr>
          <p:grpSpPr>
            <a:xfrm>
              <a:off x="3885840" y="2895480"/>
              <a:ext cx="152640" cy="152640"/>
              <a:chOff x="3885840" y="2895480"/>
              <a:chExt cx="152640" cy="152640"/>
            </a:xfrm>
          </p:grpSpPr>
          <p:sp>
            <p:nvSpPr>
              <p:cNvPr id="3590" name=""/>
              <p:cNvSpPr/>
              <p:nvPr/>
            </p:nvSpPr>
            <p:spPr>
              <a:xfrm flipH="1">
                <a:off x="3885840" y="2895480"/>
                <a:ext cx="152280" cy="76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3886200" y="2971800"/>
                <a:ext cx="152280" cy="76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92" name=""/>
            <p:cNvGrpSpPr/>
            <p:nvPr/>
          </p:nvGrpSpPr>
          <p:grpSpPr>
            <a:xfrm>
              <a:off x="3885840" y="3505320"/>
              <a:ext cx="152640" cy="152280"/>
              <a:chOff x="3885840" y="3505320"/>
              <a:chExt cx="152640" cy="152280"/>
            </a:xfrm>
          </p:grpSpPr>
          <p:sp>
            <p:nvSpPr>
              <p:cNvPr id="3593" name=""/>
              <p:cNvSpPr/>
              <p:nvPr/>
            </p:nvSpPr>
            <p:spPr>
              <a:xfrm flipH="1">
                <a:off x="3885840" y="3505320"/>
                <a:ext cx="152280" cy="75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3886200" y="3581280"/>
                <a:ext cx="152280" cy="76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95" name=""/>
            <p:cNvGrpSpPr/>
            <p:nvPr/>
          </p:nvGrpSpPr>
          <p:grpSpPr>
            <a:xfrm>
              <a:off x="5410080" y="6248520"/>
              <a:ext cx="152640" cy="152280"/>
              <a:chOff x="5410080" y="6248520"/>
              <a:chExt cx="152640" cy="152280"/>
            </a:xfrm>
          </p:grpSpPr>
          <p:sp>
            <p:nvSpPr>
              <p:cNvPr id="3596" name=""/>
              <p:cNvSpPr/>
              <p:nvPr/>
            </p:nvSpPr>
            <p:spPr>
              <a:xfrm flipH="1">
                <a:off x="5410080" y="6248520"/>
                <a:ext cx="152640" cy="75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5410080" y="6324480"/>
                <a:ext cx="152640" cy="76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98" name=""/>
            <p:cNvGrpSpPr/>
            <p:nvPr/>
          </p:nvGrpSpPr>
          <p:grpSpPr>
            <a:xfrm>
              <a:off x="5410080" y="5638680"/>
              <a:ext cx="152640" cy="152640"/>
              <a:chOff x="5410080" y="5638680"/>
              <a:chExt cx="152640" cy="152640"/>
            </a:xfrm>
          </p:grpSpPr>
          <p:sp>
            <p:nvSpPr>
              <p:cNvPr id="3599" name=""/>
              <p:cNvSpPr/>
              <p:nvPr/>
            </p:nvSpPr>
            <p:spPr>
              <a:xfrm flipH="1">
                <a:off x="5410080" y="5638680"/>
                <a:ext cx="152640" cy="76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5410080" y="5715000"/>
                <a:ext cx="152640" cy="76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01" name=""/>
            <p:cNvGrpSpPr/>
            <p:nvPr/>
          </p:nvGrpSpPr>
          <p:grpSpPr>
            <a:xfrm>
              <a:off x="5410080" y="4876920"/>
              <a:ext cx="152640" cy="152280"/>
              <a:chOff x="5410080" y="4876920"/>
              <a:chExt cx="152640" cy="152280"/>
            </a:xfrm>
          </p:grpSpPr>
          <p:sp>
            <p:nvSpPr>
              <p:cNvPr id="3602" name=""/>
              <p:cNvSpPr/>
              <p:nvPr/>
            </p:nvSpPr>
            <p:spPr>
              <a:xfrm flipH="1">
                <a:off x="5410080" y="4876920"/>
                <a:ext cx="152640" cy="75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5410080" y="4952880"/>
                <a:ext cx="152640" cy="76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04" name=""/>
            <p:cNvGrpSpPr/>
            <p:nvPr/>
          </p:nvGrpSpPr>
          <p:grpSpPr>
            <a:xfrm>
              <a:off x="5410080" y="4267080"/>
              <a:ext cx="152640" cy="152640"/>
              <a:chOff x="5410080" y="4267080"/>
              <a:chExt cx="152640" cy="152640"/>
            </a:xfrm>
          </p:grpSpPr>
          <p:sp>
            <p:nvSpPr>
              <p:cNvPr id="3605" name=""/>
              <p:cNvSpPr/>
              <p:nvPr/>
            </p:nvSpPr>
            <p:spPr>
              <a:xfrm flipH="1">
                <a:off x="5410080" y="4267080"/>
                <a:ext cx="152640" cy="76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5410080" y="4343400"/>
                <a:ext cx="152640" cy="76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07" name=""/>
            <p:cNvGrpSpPr/>
            <p:nvPr/>
          </p:nvGrpSpPr>
          <p:grpSpPr>
            <a:xfrm>
              <a:off x="3200040" y="3505320"/>
              <a:ext cx="152640" cy="152280"/>
              <a:chOff x="3200040" y="3505320"/>
              <a:chExt cx="152640" cy="152280"/>
            </a:xfrm>
          </p:grpSpPr>
          <p:sp>
            <p:nvSpPr>
              <p:cNvPr id="3608" name=""/>
              <p:cNvSpPr/>
              <p:nvPr/>
            </p:nvSpPr>
            <p:spPr>
              <a:xfrm flipH="1">
                <a:off x="3200040" y="3505320"/>
                <a:ext cx="152280" cy="75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3200400" y="3581280"/>
                <a:ext cx="152280" cy="76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10" name=""/>
            <p:cNvGrpSpPr/>
            <p:nvPr/>
          </p:nvGrpSpPr>
          <p:grpSpPr>
            <a:xfrm>
              <a:off x="3200040" y="2895480"/>
              <a:ext cx="152640" cy="152640"/>
              <a:chOff x="3200040" y="2895480"/>
              <a:chExt cx="152640" cy="152640"/>
            </a:xfrm>
          </p:grpSpPr>
          <p:sp>
            <p:nvSpPr>
              <p:cNvPr id="3611" name=""/>
              <p:cNvSpPr/>
              <p:nvPr/>
            </p:nvSpPr>
            <p:spPr>
              <a:xfrm flipH="1">
                <a:off x="3200040" y="2895480"/>
                <a:ext cx="152280" cy="76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3200400" y="2971800"/>
                <a:ext cx="152280" cy="76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13" name=""/>
            <p:cNvGrpSpPr/>
            <p:nvPr/>
          </p:nvGrpSpPr>
          <p:grpSpPr>
            <a:xfrm>
              <a:off x="2514240" y="4876920"/>
              <a:ext cx="152640" cy="152280"/>
              <a:chOff x="2514240" y="4876920"/>
              <a:chExt cx="152640" cy="152280"/>
            </a:xfrm>
          </p:grpSpPr>
          <p:sp>
            <p:nvSpPr>
              <p:cNvPr id="3614" name=""/>
              <p:cNvSpPr/>
              <p:nvPr/>
            </p:nvSpPr>
            <p:spPr>
              <a:xfrm flipH="1">
                <a:off x="2514240" y="4876920"/>
                <a:ext cx="152280" cy="75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2514600" y="4952880"/>
                <a:ext cx="152280" cy="76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16" name=""/>
            <p:cNvGrpSpPr/>
            <p:nvPr/>
          </p:nvGrpSpPr>
          <p:grpSpPr>
            <a:xfrm>
              <a:off x="6095880" y="4876920"/>
              <a:ext cx="152640" cy="152280"/>
              <a:chOff x="6095880" y="4876920"/>
              <a:chExt cx="152640" cy="152280"/>
            </a:xfrm>
          </p:grpSpPr>
          <p:sp>
            <p:nvSpPr>
              <p:cNvPr id="3617" name=""/>
              <p:cNvSpPr/>
              <p:nvPr/>
            </p:nvSpPr>
            <p:spPr>
              <a:xfrm flipH="1">
                <a:off x="6095880" y="4876920"/>
                <a:ext cx="152640" cy="75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6095880" y="4952880"/>
                <a:ext cx="152640" cy="76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19" name=""/>
            <p:cNvGrpSpPr/>
            <p:nvPr/>
          </p:nvGrpSpPr>
          <p:grpSpPr>
            <a:xfrm>
              <a:off x="6476760" y="4267080"/>
              <a:ext cx="152640" cy="152640"/>
              <a:chOff x="6476760" y="4267080"/>
              <a:chExt cx="152640" cy="152640"/>
            </a:xfrm>
          </p:grpSpPr>
          <p:sp>
            <p:nvSpPr>
              <p:cNvPr id="3620" name=""/>
              <p:cNvSpPr/>
              <p:nvPr/>
            </p:nvSpPr>
            <p:spPr>
              <a:xfrm flipH="1">
                <a:off x="6476760" y="4267080"/>
                <a:ext cx="152280" cy="76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6477120" y="4343400"/>
                <a:ext cx="152280" cy="76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22" name=""/>
            <p:cNvGrpSpPr/>
            <p:nvPr/>
          </p:nvGrpSpPr>
          <p:grpSpPr>
            <a:xfrm>
              <a:off x="6553080" y="5638680"/>
              <a:ext cx="152640" cy="152640"/>
              <a:chOff x="6553080" y="5638680"/>
              <a:chExt cx="152640" cy="152640"/>
            </a:xfrm>
          </p:grpSpPr>
          <p:sp>
            <p:nvSpPr>
              <p:cNvPr id="3623" name=""/>
              <p:cNvSpPr/>
              <p:nvPr/>
            </p:nvSpPr>
            <p:spPr>
              <a:xfrm flipH="1">
                <a:off x="6553080" y="5638680"/>
                <a:ext cx="152640" cy="76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6553080" y="5715000"/>
                <a:ext cx="152640" cy="76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25" name=""/>
            <p:cNvGrpSpPr/>
            <p:nvPr/>
          </p:nvGrpSpPr>
          <p:grpSpPr>
            <a:xfrm>
              <a:off x="6553080" y="6248520"/>
              <a:ext cx="152640" cy="152280"/>
              <a:chOff x="6553080" y="6248520"/>
              <a:chExt cx="152640" cy="152280"/>
            </a:xfrm>
          </p:grpSpPr>
          <p:sp>
            <p:nvSpPr>
              <p:cNvPr id="3626" name=""/>
              <p:cNvSpPr/>
              <p:nvPr/>
            </p:nvSpPr>
            <p:spPr>
              <a:xfrm flipH="1">
                <a:off x="6553080" y="6248520"/>
                <a:ext cx="152640" cy="75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6553080" y="6324480"/>
                <a:ext cx="152640" cy="76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28" name=""/>
            <p:cNvSpPr/>
            <p:nvPr/>
          </p:nvSpPr>
          <p:spPr>
            <a:xfrm>
              <a:off x="7907760" y="1265400"/>
              <a:ext cx="864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x(0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7907760" y="1874880"/>
              <a:ext cx="864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x(1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7907760" y="2637000"/>
              <a:ext cx="864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x(2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7907760" y="3246480"/>
              <a:ext cx="864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x(3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7907760" y="4008600"/>
              <a:ext cx="864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x(4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7907760" y="4618080"/>
              <a:ext cx="864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x(5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7907760" y="5380200"/>
              <a:ext cx="864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x(6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7907760" y="5989680"/>
              <a:ext cx="864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x(7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36" name=""/>
                <p:cNvSpPr txBox="1"/>
                <p:nvPr/>
              </p:nvSpPr>
              <p:spPr>
                <a:xfrm>
                  <a:off x="1444680" y="2230560"/>
                  <a:ext cx="414360" cy="43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8</m:t>
                          </m:r>
                        </m:sub>
                        <m:sup>
                          <m:r>
                            <m:t xml:space="preserve">0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37" name=""/>
                <p:cNvSpPr txBox="1"/>
                <p:nvPr/>
              </p:nvSpPr>
              <p:spPr>
                <a:xfrm>
                  <a:off x="1444680" y="3678120"/>
                  <a:ext cx="41436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8</m:t>
                          </m:r>
                        </m:sub>
                        <m:sup>
                          <m:r>
                            <m:t xml:space="preserve">0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38" name=""/>
                <p:cNvSpPr txBox="1"/>
                <p:nvPr/>
              </p:nvSpPr>
              <p:spPr>
                <a:xfrm>
                  <a:off x="1521000" y="4973760"/>
                  <a:ext cx="414000" cy="43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8</m:t>
                          </m:r>
                        </m:sub>
                        <m:sup>
                          <m:r>
                            <m:t xml:space="preserve">0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39" name=""/>
                <p:cNvSpPr txBox="1"/>
                <p:nvPr/>
              </p:nvSpPr>
              <p:spPr>
                <a:xfrm>
                  <a:off x="1521000" y="6345360"/>
                  <a:ext cx="414000" cy="43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8</m:t>
                          </m:r>
                        </m:sub>
                        <m:sup>
                          <m:r>
                            <m:t xml:space="preserve">0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40" name=""/>
                <p:cNvSpPr txBox="1"/>
                <p:nvPr/>
              </p:nvSpPr>
              <p:spPr>
                <a:xfrm>
                  <a:off x="3121200" y="2459160"/>
                  <a:ext cx="414000" cy="43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8</m:t>
                          </m:r>
                        </m:sub>
                        <m:sup>
                          <m:r>
                            <m:t xml:space="preserve">0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41" name=""/>
                <p:cNvSpPr txBox="1"/>
                <p:nvPr/>
              </p:nvSpPr>
              <p:spPr>
                <a:xfrm>
                  <a:off x="3110040" y="3144960"/>
                  <a:ext cx="426960" cy="42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8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42" name=""/>
                <p:cNvSpPr txBox="1"/>
                <p:nvPr/>
              </p:nvSpPr>
              <p:spPr>
                <a:xfrm>
                  <a:off x="3338640" y="6345360"/>
                  <a:ext cx="426960" cy="42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8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43" name=""/>
                <p:cNvSpPr txBox="1"/>
                <p:nvPr/>
              </p:nvSpPr>
              <p:spPr>
                <a:xfrm>
                  <a:off x="3349800" y="5278320"/>
                  <a:ext cx="41400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8</m:t>
                          </m:r>
                        </m:sub>
                        <m:sup>
                          <m:r>
                            <m:t xml:space="preserve">0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44" name=""/>
                <p:cNvSpPr txBox="1"/>
                <p:nvPr/>
              </p:nvSpPr>
              <p:spPr>
                <a:xfrm>
                  <a:off x="5319720" y="5202360"/>
                  <a:ext cx="426960" cy="42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8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45" name=""/>
                <p:cNvSpPr txBox="1"/>
                <p:nvPr/>
              </p:nvSpPr>
              <p:spPr>
                <a:xfrm>
                  <a:off x="5342040" y="5910120"/>
                  <a:ext cx="382320" cy="3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8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46" name=""/>
                <p:cNvSpPr txBox="1"/>
                <p:nvPr/>
              </p:nvSpPr>
              <p:spPr>
                <a:xfrm>
                  <a:off x="5353200" y="4537080"/>
                  <a:ext cx="36036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8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47" name=""/>
                <p:cNvSpPr txBox="1"/>
                <p:nvPr/>
              </p:nvSpPr>
              <p:spPr>
                <a:xfrm>
                  <a:off x="5342040" y="3927600"/>
                  <a:ext cx="38232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8</m:t>
                          </m:r>
                        </m:sub>
                        <m:sup>
                          <m:r>
                            <m:t xml:space="preserve">0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48" name=""/>
                <p:cNvSpPr txBox="1"/>
                <p:nvPr/>
              </p:nvSpPr>
              <p:spPr>
                <a:xfrm>
                  <a:off x="2362320" y="2281320"/>
                  <a:ext cx="322200" cy="22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49" name=""/>
                <p:cNvSpPr txBox="1"/>
                <p:nvPr/>
              </p:nvSpPr>
              <p:spPr>
                <a:xfrm>
                  <a:off x="2438280" y="3652920"/>
                  <a:ext cx="322560" cy="22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50" name=""/>
                <p:cNvSpPr txBox="1"/>
                <p:nvPr/>
              </p:nvSpPr>
              <p:spPr>
                <a:xfrm>
                  <a:off x="2438280" y="5024520"/>
                  <a:ext cx="322560" cy="22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51" name=""/>
                <p:cNvSpPr txBox="1"/>
                <p:nvPr/>
              </p:nvSpPr>
              <p:spPr>
                <a:xfrm>
                  <a:off x="2514600" y="6396120"/>
                  <a:ext cx="322200" cy="22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52" name=""/>
                <p:cNvSpPr txBox="1"/>
                <p:nvPr/>
              </p:nvSpPr>
              <p:spPr>
                <a:xfrm>
                  <a:off x="3657600" y="3043080"/>
                  <a:ext cx="322200" cy="22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53" name=""/>
                <p:cNvSpPr txBox="1"/>
                <p:nvPr/>
              </p:nvSpPr>
              <p:spPr>
                <a:xfrm>
                  <a:off x="3809880" y="3652920"/>
                  <a:ext cx="322560" cy="22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54" name=""/>
                <p:cNvSpPr txBox="1"/>
                <p:nvPr/>
              </p:nvSpPr>
              <p:spPr>
                <a:xfrm>
                  <a:off x="3886200" y="5786280"/>
                  <a:ext cx="322200" cy="22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55" name=""/>
                <p:cNvSpPr txBox="1"/>
                <p:nvPr/>
              </p:nvSpPr>
              <p:spPr>
                <a:xfrm>
                  <a:off x="4038480" y="6396120"/>
                  <a:ext cx="322560" cy="22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56" name=""/>
                <p:cNvSpPr txBox="1"/>
                <p:nvPr/>
              </p:nvSpPr>
              <p:spPr>
                <a:xfrm>
                  <a:off x="6553080" y="6396120"/>
                  <a:ext cx="322560" cy="22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57" name=""/>
                <p:cNvSpPr txBox="1"/>
                <p:nvPr/>
              </p:nvSpPr>
              <p:spPr>
                <a:xfrm>
                  <a:off x="6477120" y="5786280"/>
                  <a:ext cx="322200" cy="22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58" name=""/>
                <p:cNvSpPr txBox="1"/>
                <p:nvPr/>
              </p:nvSpPr>
              <p:spPr>
                <a:xfrm>
                  <a:off x="5867280" y="5024520"/>
                  <a:ext cx="322560" cy="22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59" name=""/>
                <p:cNvSpPr txBox="1"/>
                <p:nvPr/>
              </p:nvSpPr>
              <p:spPr>
                <a:xfrm>
                  <a:off x="6400800" y="4338720"/>
                  <a:ext cx="322200" cy="22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60" name=""/>
          <p:cNvSpPr/>
          <p:nvPr/>
        </p:nvSpPr>
        <p:spPr>
          <a:xfrm>
            <a:off x="1803600" y="351000"/>
            <a:ext cx="6108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Decimacija u frekvencijskoj dome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30AB-DA41-49BC-9136-4F96C0676E3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Korištenje svojstava DFT-a u daljnjem povećanju efikasnosti FFT-a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49A0-9F7D-4529-83D7-02731EF6E85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Još jedno važno svojstvo DFT-a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3" name="PlaceHolder 2"/>
          <p:cNvSpPr>
            <a:spLocks noGrp="1"/>
          </p:cNvSpPr>
          <p:nvPr>
            <p:ph/>
          </p:nvPr>
        </p:nvSpPr>
        <p:spPr>
          <a:xfrm>
            <a:off x="91296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) je realan i periodičan niz perioda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4" name=""/>
              <p:cNvSpPr txBox="1"/>
              <p:nvPr/>
            </p:nvSpPr>
            <p:spPr>
              <a:xfrm>
                <a:off x="1279440" y="3230640"/>
                <a:ext cx="3490920" cy="17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kn</m:t>
                                </m:r>
                              </m:sup>
                            </m:sSup>
                          </m:e>
                        </m:nary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5" name=""/>
              <p:cNvSpPr txBox="1"/>
              <p:nvPr/>
            </p:nvSpPr>
            <p:spPr>
              <a:xfrm>
                <a:off x="1251000" y="3767040"/>
                <a:ext cx="4722840" cy="247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X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6" name=""/>
              <p:cNvSpPr txBox="1"/>
              <p:nvPr/>
            </p:nvSpPr>
            <p:spPr>
              <a:xfrm>
                <a:off x="1306440" y="5145120"/>
                <a:ext cx="403380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X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kn</m:t>
                                </m:r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58CF-AF0E-46B0-8714-EC524C7D28C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9d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67" name=""/>
              <p:cNvSpPr txBox="1"/>
              <p:nvPr/>
            </p:nvSpPr>
            <p:spPr>
              <a:xfrm>
                <a:off x="1752480" y="1374840"/>
                <a:ext cx="5000760" cy="19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8" name=""/>
              <p:cNvSpPr txBox="1"/>
              <p:nvPr/>
            </p:nvSpPr>
            <p:spPr>
              <a:xfrm>
                <a:off x="1800360" y="2732040"/>
                <a:ext cx="5187960" cy="19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=-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9" name=""/>
              <p:cNvSpPr txBox="1"/>
              <p:nvPr/>
            </p:nvSpPr>
            <p:spPr>
              <a:xfrm>
                <a:off x="1790640" y="4038480"/>
                <a:ext cx="5761080" cy="19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0" name=""/>
              <p:cNvSpPr txBox="1"/>
              <p:nvPr/>
            </p:nvSpPr>
            <p:spPr>
              <a:xfrm>
                <a:off x="1790640" y="5486400"/>
                <a:ext cx="563580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m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D406-D7B4-4B2B-9591-E0A037DF707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/>
          </p:nvPr>
        </p:nvSpPr>
        <p:spPr>
          <a:xfrm>
            <a:off x="60948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bivamo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2" name=""/>
              <p:cNvSpPr txBox="1"/>
              <p:nvPr/>
            </p:nvSpPr>
            <p:spPr>
              <a:xfrm>
                <a:off x="1571760" y="3127320"/>
                <a:ext cx="5973480" cy="17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e>
                            </m: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=-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CDF7-A4A0-446E-A9AE-769D0E09F48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0" dur="500"/>
                                        <p:tgtEl>
                                          <p:spTgt spid="3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FT dvaju realnih nizova uz pomoć kompleksne DFT  -  RE2FF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74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) i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) su dva nezavisna realna i periodična ni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treba naći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) i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stvaramo kompleksni niz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) =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) +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"/>
              </a:rPr>
              <a:t>jy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C9B7-490C-4156-B699-8B759E74BB5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PlaceHolder 1"/>
          <p:cNvSpPr>
            <a:spLocks noGrp="1"/>
          </p:cNvSpPr>
          <p:nvPr>
            <p:ph/>
          </p:nvPr>
        </p:nvSpPr>
        <p:spPr>
          <a:xfrm>
            <a:off x="457200" y="2362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radimo DFT niza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) =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) +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"/>
              </a:rPr>
              <a:t>jy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6" name=""/>
              <p:cNvSpPr txBox="1"/>
              <p:nvPr/>
            </p:nvSpPr>
            <p:spPr>
              <a:xfrm>
                <a:off x="453960" y="3513240"/>
                <a:ext cx="5141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y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7" name=""/>
              <p:cNvSpPr txBox="1"/>
              <p:nvPr/>
            </p:nvSpPr>
            <p:spPr>
              <a:xfrm>
                <a:off x="787320" y="4751280"/>
                <a:ext cx="74962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y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3E19-21B5-4BB1-A8C2-54709307CFF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d posebne važnosti je slučaj kada 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hr-HR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= r</a:t>
            </a:r>
            <a:r>
              <a:rPr b="1" lang="hr-HR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= ........= r</a:t>
            </a:r>
            <a:r>
              <a:rPr b="1" lang="hr-HR" sz="32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= r tako da je N = r</a:t>
            </a:r>
            <a:r>
              <a:rPr b="1" lang="hr-HR" sz="3200" spc="-1" strike="noStrike" baseline="30000">
                <a:solidFill>
                  <a:srgbClr val="ffffff"/>
                </a:solidFill>
                <a:latin typeface="Times New Roman"/>
              </a:rPr>
              <a:t> 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2040" y="3133800"/>
            <a:ext cx="7510320" cy="22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 tom slučaju svi DFT-ovi su dimenzije </a:t>
            </a: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o da izračunavanje DFT-a u N toča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prima pravilnu struktu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1680" y="5084640"/>
            <a:ext cx="7517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00cccc"/>
                </a:solidFill>
                <a:latin typeface="Times New Roman"/>
              </a:rPr>
              <a:t>r</a:t>
            </a:r>
            <a:r>
              <a:rPr b="0" lang="hr-HR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se tada naziva baza (radix) FFT algorit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9990-A78C-4AC6-BFA4-3D411BFBD3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8" name=""/>
              <p:cNvSpPr txBox="1"/>
              <p:nvPr/>
            </p:nvSpPr>
            <p:spPr>
              <a:xfrm>
                <a:off x="677880" y="2160720"/>
                <a:ext cx="69897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9" name=""/>
              <p:cNvSpPr txBox="1"/>
              <p:nvPr/>
            </p:nvSpPr>
            <p:spPr>
              <a:xfrm>
                <a:off x="1824120" y="3670200"/>
                <a:ext cx="636120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j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680" name=""/>
          <p:cNvGrpSpPr/>
          <p:nvPr/>
        </p:nvGrpSpPr>
        <p:grpSpPr>
          <a:xfrm>
            <a:off x="1871280" y="1360440"/>
            <a:ext cx="2475000" cy="800280"/>
            <a:chOff x="1871280" y="1360440"/>
            <a:chExt cx="2475000" cy="800280"/>
          </a:xfrm>
        </p:grpSpPr>
        <mc:AlternateContent>
          <mc:Choice xmlns:a14="http://schemas.microsoft.com/office/drawing/2010/main" Requires="a14">
            <p:sp>
              <p:nvSpPr>
                <p:cNvPr id="3681" name=""/>
                <p:cNvSpPr txBox="1"/>
                <p:nvPr/>
              </p:nvSpPr>
              <p:spPr>
                <a:xfrm>
                  <a:off x="2457360" y="1360440"/>
                  <a:ext cx="151452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k</m:t>
                          </m:r>
                          <m:r>
                            <m:t xml:space="preserve">)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682" name=""/>
            <p:cNvSpPr/>
            <p:nvPr/>
          </p:nvSpPr>
          <p:spPr>
            <a:xfrm rot="5400000">
              <a:off x="2977560" y="792000"/>
              <a:ext cx="262080" cy="2475000"/>
            </a:xfrm>
            <a:custGeom>
              <a:avLst/>
              <a:gdLst>
                <a:gd name="textAreaLeft" fmla="*/ 167400 w 262080"/>
                <a:gd name="textAreaRight" fmla="*/ 262440 w 262080"/>
                <a:gd name="textAreaTop" fmla="*/ 64440 h 2475000"/>
                <a:gd name="textAreaBottom" fmla="*/ 2410560 h 247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83" name=""/>
          <p:cNvGrpSpPr/>
          <p:nvPr/>
        </p:nvGrpSpPr>
        <p:grpSpPr>
          <a:xfrm>
            <a:off x="4625640" y="1403280"/>
            <a:ext cx="3041640" cy="714600"/>
            <a:chOff x="4625640" y="1403280"/>
            <a:chExt cx="3041640" cy="714600"/>
          </a:xfrm>
        </p:grpSpPr>
        <p:graphicFrame>
          <p:nvGraphicFramePr>
            <p:cNvPr id="3684" name=""/>
            <p:cNvGraphicFramePr/>
            <p:nvPr/>
          </p:nvGraphicFramePr>
          <p:xfrm>
            <a:off x="5119560" y="1403280"/>
            <a:ext cx="1657440" cy="451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19560" y="1403280"/>
                      <a:ext cx="1657440" cy="45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86" name=""/>
            <p:cNvSpPr/>
            <p:nvPr/>
          </p:nvSpPr>
          <p:spPr>
            <a:xfrm rot="5400000">
              <a:off x="6036840" y="487080"/>
              <a:ext cx="219240" cy="3041640"/>
            </a:xfrm>
            <a:custGeom>
              <a:avLst/>
              <a:gdLst>
                <a:gd name="textAreaLeft" fmla="*/ 140040 w 219240"/>
                <a:gd name="textAreaRight" fmla="*/ 219600 w 219240"/>
                <a:gd name="textAreaTop" fmla="*/ 79200 h 3041640"/>
                <a:gd name="textAreaBottom" fmla="*/ 2962440 h 30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87" name=""/>
          <p:cNvGrpSpPr/>
          <p:nvPr/>
        </p:nvGrpSpPr>
        <p:grpSpPr>
          <a:xfrm>
            <a:off x="2457000" y="4734000"/>
            <a:ext cx="2662200" cy="844560"/>
            <a:chOff x="2457000" y="4734000"/>
            <a:chExt cx="2662200" cy="844560"/>
          </a:xfrm>
        </p:grpSpPr>
        <mc:AlternateContent>
          <mc:Choice xmlns:a14="http://schemas.microsoft.com/office/drawing/2010/main" Requires="a14">
            <p:sp>
              <p:nvSpPr>
                <p:cNvPr id="3688" name=""/>
                <p:cNvSpPr txBox="1"/>
                <p:nvPr/>
              </p:nvSpPr>
              <p:spPr>
                <a:xfrm>
                  <a:off x="3222720" y="5138640"/>
                  <a:ext cx="140328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k</m:t>
                          </m:r>
                          <m:r>
                            <m:t xml:space="preserve">)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689" name=""/>
            <p:cNvSpPr/>
            <p:nvPr/>
          </p:nvSpPr>
          <p:spPr>
            <a:xfrm flipV="1" rot="16200000">
              <a:off x="3678480" y="3512160"/>
              <a:ext cx="218880" cy="266220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69120 h 2662200"/>
                <a:gd name="textAreaBottom" fmla="*/ 2593080 h 266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90" name=""/>
          <p:cNvGrpSpPr/>
          <p:nvPr/>
        </p:nvGrpSpPr>
        <p:grpSpPr>
          <a:xfrm>
            <a:off x="5197320" y="4662000"/>
            <a:ext cx="2749680" cy="883080"/>
            <a:chOff x="5197320" y="4662000"/>
            <a:chExt cx="2749680" cy="883080"/>
          </a:xfrm>
        </p:grpSpPr>
        <mc:AlternateContent>
          <mc:Choice xmlns:a14="http://schemas.microsoft.com/office/drawing/2010/main" Requires="a14">
            <p:sp>
              <p:nvSpPr>
                <p:cNvPr id="3691" name=""/>
                <p:cNvSpPr txBox="1"/>
                <p:nvPr/>
              </p:nvSpPr>
              <p:spPr>
                <a:xfrm>
                  <a:off x="6058080" y="5094360"/>
                  <a:ext cx="147924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m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k</m:t>
                          </m:r>
                          <m:r>
                            <m:t xml:space="preserve">)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692" name=""/>
            <p:cNvSpPr/>
            <p:nvPr/>
          </p:nvSpPr>
          <p:spPr>
            <a:xfrm flipV="1" rot="16200000">
              <a:off x="6426720" y="3431880"/>
              <a:ext cx="290520" cy="2749680"/>
            </a:xfrm>
            <a:custGeom>
              <a:avLst/>
              <a:gdLst>
                <a:gd name="textAreaLeft" fmla="*/ 185760 w 290520"/>
                <a:gd name="textAreaRight" fmla="*/ 290880 w 290520"/>
                <a:gd name="textAreaTop" fmla="*/ 71640 h 2749680"/>
                <a:gd name="textAreaBottom" fmla="*/ 2678040 h 274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1BBB-7406-4400-9D94-217F460ED57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/>
          </p:nvPr>
        </p:nvSpPr>
        <p:spPr>
          <a:xfrm>
            <a:off x="304920" y="19047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bivamo 4 jednadžb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4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5" name=""/>
              <p:cNvSpPr txBox="1"/>
              <p:nvPr/>
            </p:nvSpPr>
            <p:spPr>
              <a:xfrm>
                <a:off x="384120" y="2732040"/>
                <a:ext cx="54532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     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Im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6" name=""/>
              <p:cNvSpPr txBox="1"/>
              <p:nvPr/>
            </p:nvSpPr>
            <p:spPr>
              <a:xfrm>
                <a:off x="382680" y="3570120"/>
                <a:ext cx="545472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    </m:t>
                    </m:r>
                    <m:r>
                      <m:rPr>
                        <m:lit/>
                        <m:nor/>
                      </m:rPr>
                      <m:t xml:space="preserve">Im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m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7" name=""/>
              <p:cNvSpPr txBox="1"/>
              <p:nvPr/>
            </p:nvSpPr>
            <p:spPr>
              <a:xfrm>
                <a:off x="423720" y="4408560"/>
                <a:ext cx="750744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     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Im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8" name=""/>
              <p:cNvSpPr txBox="1"/>
              <p:nvPr/>
            </p:nvSpPr>
            <p:spPr>
              <a:xfrm>
                <a:off x="430200" y="5170320"/>
                <a:ext cx="749448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     </m:t>
                    </m:r>
                    <m:r>
                      <m:rPr>
                        <m:lit/>
                        <m:nor/>
                      </m:rPr>
                      <m:t xml:space="preserve">Im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m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4738-A352-4734-BC61-E353884AD29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9" name="PlaceHolder 1"/>
          <p:cNvSpPr>
            <a:spLocks noGrp="1"/>
          </p:cNvSpPr>
          <p:nvPr>
            <p:ph/>
          </p:nvPr>
        </p:nvSpPr>
        <p:spPr>
          <a:xfrm>
            <a:off x="137016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z njih slijede konačne četiri jednadžbe koje definiraju nizove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) i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)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00" name=""/>
          <p:cNvGrpSpPr/>
          <p:nvPr/>
        </p:nvGrpSpPr>
        <p:grpSpPr>
          <a:xfrm>
            <a:off x="529200" y="2084400"/>
            <a:ext cx="8460720" cy="974880"/>
            <a:chOff x="529200" y="2084400"/>
            <a:chExt cx="8460720" cy="974880"/>
          </a:xfrm>
        </p:grpSpPr>
        <mc:AlternateContent>
          <mc:Choice xmlns:a14="http://schemas.microsoft.com/office/drawing/2010/main" Requires="a14">
            <p:sp>
              <p:nvSpPr>
                <p:cNvPr id="3701" name=""/>
                <p:cNvSpPr txBox="1"/>
                <p:nvPr/>
              </p:nvSpPr>
              <p:spPr>
                <a:xfrm>
                  <a:off x="1639800" y="2084400"/>
                  <a:ext cx="7350120" cy="97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k</m:t>
                          </m:r>
                          <m:r>
                            <m:t xml:space="preserve">)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Re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Z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Re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Z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702" name=""/>
            <p:cNvSpPr/>
            <p:nvPr/>
          </p:nvSpPr>
          <p:spPr>
            <a:xfrm>
              <a:off x="529200" y="2352600"/>
              <a:ext cx="662040" cy="45828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+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3" name=""/>
          <p:cNvGrpSpPr/>
          <p:nvPr/>
        </p:nvGrpSpPr>
        <p:grpSpPr>
          <a:xfrm>
            <a:off x="529560" y="3303720"/>
            <a:ext cx="8381160" cy="965160"/>
            <a:chOff x="529560" y="3303720"/>
            <a:chExt cx="8381160" cy="965160"/>
          </a:xfrm>
        </p:grpSpPr>
        <mc:AlternateContent>
          <mc:Choice xmlns:a14="http://schemas.microsoft.com/office/drawing/2010/main" Requires="a14">
            <p:sp>
              <p:nvSpPr>
                <p:cNvPr id="3704" name=""/>
                <p:cNvSpPr txBox="1"/>
                <p:nvPr/>
              </p:nvSpPr>
              <p:spPr>
                <a:xfrm>
                  <a:off x="1709640" y="3303720"/>
                  <a:ext cx="7201080" cy="96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m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k</m:t>
                          </m:r>
                          <m:r>
                            <m:t xml:space="preserve">)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Re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Z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Re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Z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705" name=""/>
            <p:cNvSpPr/>
            <p:nvPr/>
          </p:nvSpPr>
          <p:spPr>
            <a:xfrm>
              <a:off x="529560" y="3495600"/>
              <a:ext cx="591840" cy="45828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3-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6" name=""/>
          <p:cNvGrpSpPr/>
          <p:nvPr/>
        </p:nvGrpSpPr>
        <p:grpSpPr>
          <a:xfrm>
            <a:off x="529200" y="4370400"/>
            <a:ext cx="8376840" cy="965160"/>
            <a:chOff x="529200" y="4370400"/>
            <a:chExt cx="8376840" cy="965160"/>
          </a:xfrm>
        </p:grpSpPr>
        <mc:AlternateContent>
          <mc:Choice xmlns:a14="http://schemas.microsoft.com/office/drawing/2010/main" Requires="a14">
            <p:sp>
              <p:nvSpPr>
                <p:cNvPr id="3707" name=""/>
                <p:cNvSpPr txBox="1"/>
                <p:nvPr/>
              </p:nvSpPr>
              <p:spPr>
                <a:xfrm>
                  <a:off x="1717560" y="4370400"/>
                  <a:ext cx="7188480" cy="96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k</m:t>
                          </m:r>
                          <m:r>
                            <m:t xml:space="preserve">)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Im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Z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Im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Z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708" name=""/>
            <p:cNvSpPr/>
            <p:nvPr/>
          </p:nvSpPr>
          <p:spPr>
            <a:xfrm>
              <a:off x="529200" y="4638600"/>
              <a:ext cx="662040" cy="45828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+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9" name=""/>
          <p:cNvGrpSpPr/>
          <p:nvPr/>
        </p:nvGrpSpPr>
        <p:grpSpPr>
          <a:xfrm>
            <a:off x="532800" y="5589720"/>
            <a:ext cx="8431920" cy="965160"/>
            <a:chOff x="532800" y="5589720"/>
            <a:chExt cx="8431920" cy="965160"/>
          </a:xfrm>
        </p:grpSpPr>
        <mc:AlternateContent>
          <mc:Choice xmlns:a14="http://schemas.microsoft.com/office/drawing/2010/main" Requires="a14">
            <p:sp>
              <p:nvSpPr>
                <p:cNvPr id="3710" name=""/>
                <p:cNvSpPr txBox="1"/>
                <p:nvPr/>
              </p:nvSpPr>
              <p:spPr>
                <a:xfrm>
                  <a:off x="1662120" y="5589720"/>
                  <a:ext cx="7302600" cy="96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m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k</m:t>
                          </m:r>
                          <m:r>
                            <m:t xml:space="preserve">)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Im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Z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Im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Z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711" name=""/>
            <p:cNvSpPr/>
            <p:nvPr/>
          </p:nvSpPr>
          <p:spPr>
            <a:xfrm>
              <a:off x="532800" y="5857920"/>
              <a:ext cx="591840" cy="45828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-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D24A-D69C-4101-BFF3-BFB95CAAE4A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Zaključujemo: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imes New Roman"/>
              </a:rPr>
              <a:t>jednom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DFT duljine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moguće j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stovremeno transformirati </a:t>
            </a:r>
            <a:r>
              <a:rPr b="1" lang="hr-HR" sz="3200" spc="-1" strike="noStrike">
                <a:solidFill>
                  <a:srgbClr val="ffffff"/>
                </a:solidFill>
                <a:latin typeface="Times New Roman"/>
              </a:rPr>
              <a:t>dva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realna niza duljine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slijedi da je moguće transformirati jedan realni niz duljine 2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uz pomoć DFT-a duljine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B9ED-26CD-4081-9701-96C2C562B69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REDFFT - transformacija realnog niza v(k) dužine 2N pomoću FFT dužine N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15" name="PlaceHolder 2"/>
          <p:cNvSpPr>
            <a:spLocks noGrp="1"/>
          </p:cNvSpPr>
          <p:nvPr>
            <p:ph/>
          </p:nvPr>
        </p:nvSpPr>
        <p:spPr>
          <a:xfrm>
            <a:off x="762120" y="2666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adan je niz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ljine 2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ramo dva niza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o da je 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2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        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2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BC27-6919-4701-A6B2-81FD79A9EAC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16" name=""/>
              <p:cNvSpPr txBox="1"/>
              <p:nvPr/>
            </p:nvSpPr>
            <p:spPr>
              <a:xfrm>
                <a:off x="324000" y="1854360"/>
                <a:ext cx="629892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FT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N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7" name=""/>
              <p:cNvSpPr txBox="1"/>
              <p:nvPr/>
            </p:nvSpPr>
            <p:spPr>
              <a:xfrm>
                <a:off x="287280" y="3052800"/>
                <a:ext cx="62136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,2,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  <m:sup/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N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p>
                    </m:sSubSup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3,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  <m:sup/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N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8" name=""/>
              <p:cNvSpPr txBox="1"/>
              <p:nvPr/>
            </p:nvSpPr>
            <p:spPr>
              <a:xfrm>
                <a:off x="228600" y="4194000"/>
                <a:ext cx="85345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nary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nary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9" name=""/>
              <p:cNvSpPr txBox="1"/>
              <p:nvPr/>
            </p:nvSpPr>
            <p:spPr>
              <a:xfrm>
                <a:off x="295200" y="5667480"/>
                <a:ext cx="81583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nary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nary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B328-583B-49C3-8A88-D1C5A82A314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20" name=""/>
              <p:cNvSpPr txBox="1"/>
              <p:nvPr/>
            </p:nvSpPr>
            <p:spPr>
              <a:xfrm>
                <a:off x="357120" y="2009880"/>
                <a:ext cx="788364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nary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nary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1" name=""/>
              <p:cNvSpPr txBox="1"/>
              <p:nvPr/>
            </p:nvSpPr>
            <p:spPr>
              <a:xfrm>
                <a:off x="363600" y="3228840"/>
                <a:ext cx="679428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nary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nary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722" name="PlaceHolder 1"/>
          <p:cNvSpPr>
            <a:spLocks noGrp="1"/>
          </p:cNvSpPr>
          <p:nvPr>
            <p:ph/>
          </p:nvPr>
        </p:nvSpPr>
        <p:spPr>
          <a:xfrm>
            <a:off x="380880" y="4343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bivam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3" name=""/>
              <p:cNvSpPr txBox="1"/>
              <p:nvPr/>
            </p:nvSpPr>
            <p:spPr>
              <a:xfrm>
                <a:off x="2087640" y="5175360"/>
                <a:ext cx="47052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F2E1-6AC9-4A61-B211-0721917AB3B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0" dur="500"/>
                                        <p:tgtEl>
                                          <p:spTgt spid="3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Ponovimo: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z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ljine 2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azbijemo u dva realna niza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ljin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 ta dva niza primijenimo RE2FFT i dobijemo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 bismo dobili konačnu transformaciju početnoga niza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jenjujemo formul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6" name=""/>
              <p:cNvSpPr txBox="1"/>
              <p:nvPr/>
            </p:nvSpPr>
            <p:spPr>
              <a:xfrm>
                <a:off x="1846440" y="5481720"/>
                <a:ext cx="50115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E390-90DE-4DD0-9638-A193E0ED4D3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5" dur="500"/>
                                        <p:tgtEl>
                                          <p:spTgt spid="3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Kompleksnost algoritma: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j kompleksnih množenja za realni niz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rištenjem DFT-a iznosi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rištenjem FFT-a iznosi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/2)log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rištenjem REDFFT-a iznosi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/4)log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/2) +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0032-9531-49A4-AAEA-533DAA407BC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3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3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3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Primjena FFT algoritma u linearnom filtriranju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žna primjena u filtriranju dugih nizo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amislimo niz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uljin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a ulazu FIR filtra impulsnog odziva duljin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1" name=""/>
              <p:cNvSpPr txBox="1"/>
              <p:nvPr/>
            </p:nvSpPr>
            <p:spPr>
              <a:xfrm>
                <a:off x="1793880" y="3924360"/>
                <a:ext cx="43099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n&lt;0   &amp;   n</m:t>
                    </m:r>
                    <m:r>
                      <m:t xml:space="preserve">³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2" name=""/>
              <p:cNvSpPr txBox="1"/>
              <p:nvPr/>
            </p:nvSpPr>
            <p:spPr>
              <a:xfrm>
                <a:off x="1806480" y="4527720"/>
                <a:ext cx="442764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n&lt;0   &amp;   n</m:t>
                    </m:r>
                    <m:r>
                      <m:t xml:space="preserve">³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9F3A-207B-49BA-BE8C-0C2AC7DCCDFF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3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3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ka je N=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 baseline="40000">
                <a:solidFill>
                  <a:srgbClr val="ffffff"/>
                </a:solidFill>
                <a:latin typeface="Times New Roman"/>
              </a:rPr>
              <a:t>j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koristi se “podijeli  pa vladaj” postupak i to tako da se izabere   M=N/2 i L=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lazni niz razvrstamo u 2 retka i N/2      stupa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 prvom retku je niz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n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, u drugom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n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tako da parni uzorci od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x(n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laze u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n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   neparni u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n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C76D-A2E2-4490-8549-40F5B94D1D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3" name="PlaceHolder 1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odziv filtra je dan konvolucijskom sumacijo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4" name=""/>
              <p:cNvSpPr txBox="1"/>
              <p:nvPr/>
            </p:nvSpPr>
            <p:spPr>
              <a:xfrm>
                <a:off x="1087560" y="2617920"/>
                <a:ext cx="359712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35" name="PlaceHolder 2"/>
          <p:cNvSpPr>
            <a:spLocks noGrp="1"/>
          </p:cNvSpPr>
          <p:nvPr>
            <p:ph/>
          </p:nvPr>
        </p:nvSpPr>
        <p:spPr>
          <a:xfrm>
            <a:off x="685440" y="3808440"/>
            <a:ext cx="8001000" cy="6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8000"/>
          </a:bodyPr>
          <a:p>
            <a:pPr marL="130320" indent="-13032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je duljine 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0320" indent="-13032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za određivanje 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dovoljan je DFT duljine</a:t>
            </a:r>
            <a:br>
              <a:rPr sz="2800"/>
            </a:b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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6" name=""/>
              <p:cNvSpPr txBox="1"/>
              <p:nvPr/>
            </p:nvSpPr>
            <p:spPr>
              <a:xfrm>
                <a:off x="1119240" y="5437080"/>
                <a:ext cx="292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862D-33C9-4EEB-A06E-86487963EFE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8" dur="500"/>
                                        <p:tgtEl>
                                          <p:spTgt spid="3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"/>
              </a:rPr>
              <a:t>u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moraju se do duljine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produljiti odgovarajućim brojem nu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koristit će se overlap-add meto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64FD-C70C-4B62-8229-3F9D8836F907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3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3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8" name=""/>
          <p:cNvGrpSpPr/>
          <p:nvPr/>
        </p:nvGrpSpPr>
        <p:grpSpPr>
          <a:xfrm>
            <a:off x="1220760" y="974880"/>
            <a:ext cx="6629400" cy="1000080"/>
            <a:chOff x="1220760" y="974880"/>
            <a:chExt cx="6629400" cy="1000080"/>
          </a:xfrm>
        </p:grpSpPr>
        <p:sp>
          <p:nvSpPr>
            <p:cNvPr id="3739" name=""/>
            <p:cNvSpPr/>
            <p:nvPr/>
          </p:nvSpPr>
          <p:spPr>
            <a:xfrm>
              <a:off x="1227240" y="1606680"/>
              <a:ext cx="2197080" cy="368280"/>
            </a:xfrm>
            <a:prstGeom prst="rect">
              <a:avLst/>
            </a:prstGeom>
            <a:solidFill>
              <a:srgbClr val="d60093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3436920" y="1606680"/>
              <a:ext cx="2197080" cy="368280"/>
            </a:xfrm>
            <a:prstGeom prst="rect">
              <a:avLst/>
            </a:prstGeom>
            <a:solidFill>
              <a:srgbClr val="d60093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5646600" y="1606680"/>
              <a:ext cx="2197080" cy="368280"/>
            </a:xfrm>
            <a:prstGeom prst="rect">
              <a:avLst/>
            </a:prstGeom>
            <a:solidFill>
              <a:srgbClr val="d60093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 flipV="1">
              <a:off x="1220760" y="129492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 flipV="1">
              <a:off x="3430440" y="129492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 flipV="1">
              <a:off x="5640480" y="129492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 flipV="1">
              <a:off x="7850160" y="129492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1220760" y="1447920"/>
              <a:ext cx="220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3430440" y="1447920"/>
              <a:ext cx="2210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5640480" y="1447920"/>
              <a:ext cx="220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1964880" y="974880"/>
              <a:ext cx="37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4098600" y="974880"/>
              <a:ext cx="37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6460920" y="974880"/>
              <a:ext cx="37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52" name=""/>
          <p:cNvGrpSpPr/>
          <p:nvPr/>
        </p:nvGrpSpPr>
        <p:grpSpPr>
          <a:xfrm>
            <a:off x="1227240" y="2879640"/>
            <a:ext cx="3651480" cy="915480"/>
            <a:chOff x="1227240" y="2879640"/>
            <a:chExt cx="3651480" cy="915480"/>
          </a:xfrm>
        </p:grpSpPr>
        <p:sp>
          <p:nvSpPr>
            <p:cNvPr id="3753" name=""/>
            <p:cNvSpPr/>
            <p:nvPr/>
          </p:nvSpPr>
          <p:spPr>
            <a:xfrm>
              <a:off x="1227240" y="2901960"/>
              <a:ext cx="2197080" cy="368280"/>
            </a:xfrm>
            <a:prstGeom prst="rect">
              <a:avLst/>
            </a:prstGeom>
            <a:solidFill>
              <a:srgbClr val="d60093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3436920" y="2901960"/>
              <a:ext cx="596880" cy="368280"/>
            </a:xfrm>
            <a:prstGeom prst="rect">
              <a:avLst/>
            </a:prstGeom>
            <a:solidFill>
              <a:srgbClr val="7500d7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1591200" y="2879640"/>
              <a:ext cx="7826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n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3565800" y="3336840"/>
              <a:ext cx="1312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-1 nul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57" name=""/>
          <p:cNvSpPr/>
          <p:nvPr/>
        </p:nvSpPr>
        <p:spPr>
          <a:xfrm>
            <a:off x="1220760" y="198108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8" name=""/>
          <p:cNvSpPr/>
          <p:nvPr/>
        </p:nvSpPr>
        <p:spPr>
          <a:xfrm>
            <a:off x="3430440" y="198108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59" name=""/>
          <p:cNvGrpSpPr/>
          <p:nvPr/>
        </p:nvGrpSpPr>
        <p:grpSpPr>
          <a:xfrm>
            <a:off x="3436920" y="4175280"/>
            <a:ext cx="3727800" cy="915480"/>
            <a:chOff x="3436920" y="4175280"/>
            <a:chExt cx="3727800" cy="915480"/>
          </a:xfrm>
        </p:grpSpPr>
        <p:sp>
          <p:nvSpPr>
            <p:cNvPr id="3760" name=""/>
            <p:cNvSpPr/>
            <p:nvPr/>
          </p:nvSpPr>
          <p:spPr>
            <a:xfrm>
              <a:off x="3436920" y="4197240"/>
              <a:ext cx="2197080" cy="368280"/>
            </a:xfrm>
            <a:prstGeom prst="rect">
              <a:avLst/>
            </a:prstGeom>
            <a:solidFill>
              <a:srgbClr val="d60093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5646600" y="4197240"/>
              <a:ext cx="596880" cy="368280"/>
            </a:xfrm>
            <a:prstGeom prst="rect">
              <a:avLst/>
            </a:prstGeom>
            <a:solidFill>
              <a:srgbClr val="7500d7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3877200" y="4175280"/>
              <a:ext cx="7826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n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5851800" y="4632480"/>
              <a:ext cx="1312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-1 nul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64" name=""/>
          <p:cNvSpPr/>
          <p:nvPr/>
        </p:nvSpPr>
        <p:spPr>
          <a:xfrm>
            <a:off x="3430440" y="327672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65" name=""/>
          <p:cNvGrpSpPr/>
          <p:nvPr/>
        </p:nvGrpSpPr>
        <p:grpSpPr>
          <a:xfrm>
            <a:off x="5640480" y="1981080"/>
            <a:ext cx="0" cy="2210040"/>
            <a:chOff x="5640480" y="1981080"/>
            <a:chExt cx="0" cy="2210040"/>
          </a:xfrm>
        </p:grpSpPr>
        <p:sp>
          <p:nvSpPr>
            <p:cNvPr id="3766" name=""/>
            <p:cNvSpPr/>
            <p:nvPr/>
          </p:nvSpPr>
          <p:spPr>
            <a:xfrm>
              <a:off x="5640480" y="3276720"/>
              <a:ext cx="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5640480" y="1981080"/>
              <a:ext cx="0" cy="144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68" name=""/>
          <p:cNvGrpSpPr/>
          <p:nvPr/>
        </p:nvGrpSpPr>
        <p:grpSpPr>
          <a:xfrm>
            <a:off x="5646600" y="5470560"/>
            <a:ext cx="3497760" cy="991800"/>
            <a:chOff x="5646600" y="5470560"/>
            <a:chExt cx="3497760" cy="991800"/>
          </a:xfrm>
        </p:grpSpPr>
        <p:sp>
          <p:nvSpPr>
            <p:cNvPr id="3769" name=""/>
            <p:cNvSpPr/>
            <p:nvPr/>
          </p:nvSpPr>
          <p:spPr>
            <a:xfrm>
              <a:off x="5646600" y="5492880"/>
              <a:ext cx="2197080" cy="368280"/>
            </a:xfrm>
            <a:prstGeom prst="rect">
              <a:avLst/>
            </a:prstGeom>
            <a:solidFill>
              <a:srgbClr val="d60093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7856640" y="5492880"/>
              <a:ext cx="596880" cy="368280"/>
            </a:xfrm>
            <a:prstGeom prst="rect">
              <a:avLst/>
            </a:prstGeom>
            <a:solidFill>
              <a:srgbClr val="7500d7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6087240" y="5470560"/>
              <a:ext cx="7826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n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7831440" y="6004080"/>
              <a:ext cx="1312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-1 nul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73" name=""/>
          <p:cNvSpPr/>
          <p:nvPr/>
        </p:nvSpPr>
        <p:spPr>
          <a:xfrm>
            <a:off x="5640480" y="457200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4" name=""/>
          <p:cNvGrpSpPr/>
          <p:nvPr/>
        </p:nvGrpSpPr>
        <p:grpSpPr>
          <a:xfrm>
            <a:off x="7850160" y="1981080"/>
            <a:ext cx="0" cy="3505320"/>
            <a:chOff x="7850160" y="1981080"/>
            <a:chExt cx="0" cy="3505320"/>
          </a:xfrm>
        </p:grpSpPr>
        <p:sp>
          <p:nvSpPr>
            <p:cNvPr id="3775" name=""/>
            <p:cNvSpPr/>
            <p:nvPr/>
          </p:nvSpPr>
          <p:spPr>
            <a:xfrm>
              <a:off x="7850160" y="4572000"/>
              <a:ext cx="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7850160" y="19810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6704-387C-4461-9AAD-2CF718F0C71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3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3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500"/>
                            </p:stCondLst>
                            <p:childTnLst>
                              <p:par>
                                <p:cTn id="8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000"/>
                            </p:stCondLst>
                            <p:childTnLst>
                              <p:par>
                                <p:cTn id="8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9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"/>
                            </p:stCondLst>
                            <p:childTnLst>
                              <p:par>
                                <p:cTn id="9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000"/>
                            </p:stCondLst>
                            <p:childTnLst>
                              <p:par>
                                <p:cTn id="9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ljina ulaznog bloka j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zora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žina DFT-a i IDFT-a j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=L+M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vakom bloku dodajemo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-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ula i izračunamo N točaka DFT-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8" name=""/>
              <p:cNvSpPr txBox="1"/>
              <p:nvPr/>
            </p:nvSpPr>
            <p:spPr>
              <a:xfrm>
                <a:off x="1220760" y="4408560"/>
                <a:ext cx="57690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0,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9" name=""/>
              <p:cNvSpPr txBox="1"/>
              <p:nvPr/>
            </p:nvSpPr>
            <p:spPr>
              <a:xfrm>
                <a:off x="1228680" y="5094360"/>
                <a:ext cx="665964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0,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780" name=""/>
          <p:cNvGrpSpPr/>
          <p:nvPr/>
        </p:nvGrpSpPr>
        <p:grpSpPr>
          <a:xfrm>
            <a:off x="1203480" y="5780160"/>
            <a:ext cx="7202160" cy="895320"/>
            <a:chOff x="1203480" y="5780160"/>
            <a:chExt cx="7202160" cy="895320"/>
          </a:xfrm>
        </p:grpSpPr>
        <mc:AlternateContent>
          <mc:Choice xmlns:a14="http://schemas.microsoft.com/office/drawing/2010/main" Requires="a14">
            <p:sp>
              <p:nvSpPr>
                <p:cNvPr id="3781" name=""/>
                <p:cNvSpPr txBox="1"/>
                <p:nvPr/>
              </p:nvSpPr>
              <p:spPr>
                <a:xfrm>
                  <a:off x="1203480" y="5780160"/>
                  <a:ext cx="701352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L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L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,</m:t>
                          </m:r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L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0,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82" name=""/>
                <p:cNvSpPr txBox="1"/>
                <p:nvPr/>
              </p:nvSpPr>
              <p:spPr>
                <a:xfrm>
                  <a:off x="6653160" y="5845320"/>
                  <a:ext cx="1752480" cy="83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groupChr>
                            <m:groupChrPr>
                              <m:chr m:val="⏟"/>
                              <m:pos m:val="bot"/>
                              <m:vertJc m:val="top"/>
                            </m:groupChr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        </m:t>
                              </m:r>
                            </m:e>
                          </m:groupChr>
                        </m:e>
                        <m:lim>
                          <m:r>
                            <m:t xml:space="preserve">M</m:t>
                          </m:r>
                          <m:r>
                            <m:rPr>
                              <m:lit/>
                              <m:nor/>
                            </m:rPr>
                            <m:t xml:space="preserve">-1 nula</m:t>
                          </m:r>
                        </m:lim>
                      </m:limLow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047D-C31C-47AD-BF62-51BF843645C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3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3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3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3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3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3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3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hr-HR" sz="3200" spc="-1" strike="noStrike" baseline="-25000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(k)=H(k)U</a:t>
            </a:r>
            <a:r>
              <a:rPr b="0" lang="hr-HR" sz="3200" spc="-1" strike="noStrike" baseline="-25000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(k)      k=0,1,…,N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dobivamo izlazne blokove duljine 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u kojima nema aliasinga jer su dužine DFT-a (i IDFT-a) 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N=L+M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na kraju je potrebno izvršiti </a:t>
            </a:r>
            <a:r>
              <a:rPr b="0" lang="hr-HR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eklapanje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osljednjih M-1 uzoraka svakog izlaznog bloka sa prvih M-1 uzoraka slijedećeg blo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9AFA-0431-4B58-9956-F35F6953873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3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3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3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3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3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4" name=""/>
          <p:cNvGrpSpPr/>
          <p:nvPr/>
        </p:nvGrpSpPr>
        <p:grpSpPr>
          <a:xfrm>
            <a:off x="534960" y="3032280"/>
            <a:ext cx="2813040" cy="1132560"/>
            <a:chOff x="534960" y="3032280"/>
            <a:chExt cx="2813040" cy="1132560"/>
          </a:xfrm>
        </p:grpSpPr>
        <p:grpSp>
          <p:nvGrpSpPr>
            <p:cNvPr id="3785" name=""/>
            <p:cNvGrpSpPr/>
            <p:nvPr/>
          </p:nvGrpSpPr>
          <p:grpSpPr>
            <a:xfrm>
              <a:off x="534960" y="3352320"/>
              <a:ext cx="2813040" cy="812520"/>
              <a:chOff x="534960" y="3352320"/>
              <a:chExt cx="2813040" cy="812520"/>
            </a:xfrm>
          </p:grpSpPr>
          <p:sp>
            <p:nvSpPr>
              <p:cNvPr id="3786" name=""/>
              <p:cNvSpPr/>
              <p:nvPr/>
            </p:nvSpPr>
            <p:spPr>
              <a:xfrm>
                <a:off x="541440" y="3678120"/>
                <a:ext cx="2197080" cy="368280"/>
              </a:xfrm>
              <a:prstGeom prst="rect">
                <a:avLst/>
              </a:prstGeom>
              <a:solidFill>
                <a:srgbClr val="ff66ff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2751120" y="3678120"/>
                <a:ext cx="596880" cy="36828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905400" y="3656160"/>
                <a:ext cx="7826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y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n)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 flipV="1">
                <a:off x="534960" y="3352320"/>
                <a:ext cx="0" cy="304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 flipV="1">
                <a:off x="2744640" y="3352320"/>
                <a:ext cx="0" cy="304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534960" y="3505320"/>
                <a:ext cx="2209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92" name=""/>
            <p:cNvSpPr/>
            <p:nvPr/>
          </p:nvSpPr>
          <p:spPr>
            <a:xfrm>
              <a:off x="1279080" y="3032280"/>
              <a:ext cx="37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93" name=""/>
          <p:cNvSpPr/>
          <p:nvPr/>
        </p:nvSpPr>
        <p:spPr>
          <a:xfrm>
            <a:off x="2802960" y="4022640"/>
            <a:ext cx="357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4" name=""/>
              <p:cNvSpPr txBox="1"/>
              <p:nvPr/>
            </p:nvSpPr>
            <p:spPr>
              <a:xfrm>
                <a:off x="1101600" y="1512720"/>
                <a:ext cx="47516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795" name=""/>
          <p:cNvGrpSpPr/>
          <p:nvPr/>
        </p:nvGrpSpPr>
        <p:grpSpPr>
          <a:xfrm>
            <a:off x="2751120" y="4417920"/>
            <a:ext cx="3416400" cy="508680"/>
            <a:chOff x="2751120" y="4417920"/>
            <a:chExt cx="3416400" cy="508680"/>
          </a:xfrm>
        </p:grpSpPr>
        <p:sp>
          <p:nvSpPr>
            <p:cNvPr id="3796" name=""/>
            <p:cNvSpPr/>
            <p:nvPr/>
          </p:nvSpPr>
          <p:spPr>
            <a:xfrm>
              <a:off x="3360600" y="4440240"/>
              <a:ext cx="2197080" cy="368280"/>
            </a:xfrm>
            <a:prstGeom prst="rect">
              <a:avLst/>
            </a:prstGeom>
            <a:solidFill>
              <a:srgbClr val="ff66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5570640" y="4440240"/>
              <a:ext cx="5968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3801240" y="4417920"/>
              <a:ext cx="7826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n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2751120" y="4440240"/>
              <a:ext cx="5968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00" name=""/>
              <p:cNvSpPr txBox="1"/>
              <p:nvPr/>
            </p:nvSpPr>
            <p:spPr>
              <a:xfrm>
                <a:off x="2276640" y="2133720"/>
                <a:ext cx="513864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1" name=""/>
          <p:cNvSpPr/>
          <p:nvPr/>
        </p:nvSpPr>
        <p:spPr>
          <a:xfrm>
            <a:off x="5622120" y="4784760"/>
            <a:ext cx="357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2" name=""/>
              <p:cNvSpPr txBox="1"/>
              <p:nvPr/>
            </p:nvSpPr>
            <p:spPr>
              <a:xfrm>
                <a:off x="2157480" y="2743200"/>
                <a:ext cx="44434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03" name=""/>
          <p:cNvGrpSpPr/>
          <p:nvPr/>
        </p:nvGrpSpPr>
        <p:grpSpPr>
          <a:xfrm>
            <a:off x="5570640" y="5180040"/>
            <a:ext cx="3416040" cy="508680"/>
            <a:chOff x="5570640" y="5180040"/>
            <a:chExt cx="3416040" cy="508680"/>
          </a:xfrm>
        </p:grpSpPr>
        <p:sp>
          <p:nvSpPr>
            <p:cNvPr id="3804" name=""/>
            <p:cNvSpPr/>
            <p:nvPr/>
          </p:nvSpPr>
          <p:spPr>
            <a:xfrm>
              <a:off x="6180120" y="5202360"/>
              <a:ext cx="2197080" cy="368280"/>
            </a:xfrm>
            <a:prstGeom prst="rect">
              <a:avLst/>
            </a:prstGeom>
            <a:solidFill>
              <a:srgbClr val="ff66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8389800" y="5202360"/>
              <a:ext cx="5968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6620400" y="5180040"/>
              <a:ext cx="7826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n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5570640" y="5202360"/>
              <a:ext cx="5968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08" name=""/>
              <p:cNvSpPr txBox="1"/>
              <p:nvPr/>
            </p:nvSpPr>
            <p:spPr>
              <a:xfrm>
                <a:off x="6527880" y="2732040"/>
                <a:ext cx="19526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3955-AB67-4F2C-B573-DD031A194F39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3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3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3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3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500"/>
                            </p:stCondLst>
                            <p:childTnLst>
                              <p:par>
                                <p:cTn id="9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3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3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3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3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iskusija uporabe FFT-a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 bi primijenili FFT uz bazu 2 moramo podesiti duljinu ulaznog bloka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o da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=L+M-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bude potencija broja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rebno produljiti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(n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(n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dgovarajućim brojem nula na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ča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formaciju impulsnog odziva sustava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(k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adi se samo jednom i zatim se izračunatih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čaka pohranjuje u memorij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9B45-434C-41C5-9033-FC0C1E892BC0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3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3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3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3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ovoljnije je primijeniti FFT algoritam decimacije u frekvenciji pa će uzorci od 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H(k)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U</a:t>
            </a:r>
            <a:r>
              <a:rPr b="0" lang="hr-HR" sz="3200" spc="-1" strike="noStrike" baseline="-25000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(k)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biti u </a:t>
            </a:r>
            <a:r>
              <a:rPr b="0" lang="hr-HR" sz="3200" spc="-1" strike="noStrike" u="sng">
                <a:solidFill>
                  <a:srgbClr val="ffffff"/>
                </a:solidFill>
                <a:uFillTx/>
                <a:latin typeface="Times New Roman"/>
              </a:rPr>
              <a:t>bit-reversed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poret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ošto je 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hr-HR" sz="3200" spc="-1" strike="noStrike" baseline="-25000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(k)=H(k)U</a:t>
            </a:r>
            <a:r>
              <a:rPr b="0" lang="hr-HR" sz="3200" spc="-1" strike="noStrike" baseline="-25000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(k)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transformacija izlaznog niza će biti također u </a:t>
            </a:r>
            <a:r>
              <a:rPr b="0" lang="hr-HR" sz="3200" spc="-1" strike="noStrike" u="sng">
                <a:solidFill>
                  <a:srgbClr val="ffffff"/>
                </a:solidFill>
                <a:uFillTx/>
                <a:latin typeface="Times New Roman"/>
              </a:rPr>
              <a:t>bit-reversed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oretk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inverzni DFT radimo s algoritmom koji koristi ulazni niz u bit-reversed poretku pa dobivamo 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y(n)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u normalnom poret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na kraju vršimo zbrajanje M-1 uzora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75FD-193A-4EAE-9C18-1C582D027FEF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3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3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Kompleksnost algoritma 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13" name=""/>
          <p:cNvSpPr/>
          <p:nvPr/>
        </p:nvSpPr>
        <p:spPr>
          <a:xfrm>
            <a:off x="304920" y="19810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(k) se računa samo jednom pa se može zanemari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14" name=""/>
          <p:cNvGrpSpPr/>
          <p:nvPr/>
        </p:nvGrpSpPr>
        <p:grpSpPr>
          <a:xfrm>
            <a:off x="304920" y="3048120"/>
            <a:ext cx="7772400" cy="1828800"/>
            <a:chOff x="304920" y="3048120"/>
            <a:chExt cx="7772400" cy="1828800"/>
          </a:xfrm>
        </p:grpSpPr>
        <mc:AlternateContent>
          <mc:Choice xmlns:a14="http://schemas.microsoft.com/office/drawing/2010/main" Requires="a14">
            <p:sp>
              <p:nvSpPr>
                <p:cNvPr id="3815" name=""/>
                <p:cNvSpPr txBox="1"/>
                <p:nvPr/>
              </p:nvSpPr>
              <p:spPr>
                <a:xfrm>
                  <a:off x="4471920" y="3125880"/>
                  <a:ext cx="216216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)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16" name=""/>
                <p:cNvSpPr txBox="1"/>
                <p:nvPr/>
              </p:nvSpPr>
              <p:spPr>
                <a:xfrm>
                  <a:off x="5289480" y="3735360"/>
                  <a:ext cx="143208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17" name=""/>
            <p:cNvSpPr/>
            <p:nvPr/>
          </p:nvSpPr>
          <p:spPr>
            <a:xfrm>
              <a:off x="304920" y="3048120"/>
              <a:ext cx="77724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cccc"/>
                </a:buClr>
                <a:buSzPct val="75000"/>
                <a:buFont typeface="Monotype Sort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svaki FFT zahtijeva                      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kompleksnih množenja i                         zbrajanja  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18" name="PlaceHolder 2"/>
          <p:cNvSpPr>
            <a:spLocks noGrp="1"/>
          </p:cNvSpPr>
          <p:nvPr>
            <p:ph/>
          </p:nvPr>
        </p:nvSpPr>
        <p:spPr>
          <a:xfrm>
            <a:off x="304920" y="4721040"/>
            <a:ext cx="7772400" cy="206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što radimo dva DFT-a (jednom FFT i jednom IDFT) imamo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mpleksnih množenja i                       zbrajanja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9" name=""/>
              <p:cNvSpPr txBox="1"/>
              <p:nvPr/>
            </p:nvSpPr>
            <p:spPr>
              <a:xfrm>
                <a:off x="4832280" y="5259240"/>
                <a:ext cx="14320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0" name=""/>
              <p:cNvSpPr txBox="1"/>
              <p:nvPr/>
            </p:nvSpPr>
            <p:spPr>
              <a:xfrm>
                <a:off x="5340240" y="5869080"/>
                <a:ext cx="16336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E49F-325F-41A4-A298-8E357430351F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7" dur="500"/>
                                        <p:tgtEl>
                                          <p:spTgt spid="3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6" dur="500"/>
                                        <p:tgtEl>
                                          <p:spTgt spid="3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500"/>
                            </p:stCondLst>
                            <p:childTnLst>
                              <p:par>
                                <p:cTn id="10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1" name=""/>
          <p:cNvSpPr/>
          <p:nvPr/>
        </p:nvSpPr>
        <p:spPr>
          <a:xfrm>
            <a:off x="23004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za izračunati Y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(k) potrebno je još N kompleksnih množenja i N-1 zbrajan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22" name=""/>
          <p:cNvGrpSpPr/>
          <p:nvPr/>
        </p:nvGrpSpPr>
        <p:grpSpPr>
          <a:xfrm>
            <a:off x="230040" y="2286000"/>
            <a:ext cx="7772400" cy="2093760"/>
            <a:chOff x="230040" y="2286000"/>
            <a:chExt cx="7772400" cy="2093760"/>
          </a:xfrm>
        </p:grpSpPr>
        <mc:AlternateContent>
          <mc:Choice xmlns:a14="http://schemas.microsoft.com/office/drawing/2010/main" Requires="a14">
            <p:sp>
              <p:nvSpPr>
                <p:cNvPr id="3823" name=""/>
                <p:cNvSpPr txBox="1"/>
                <p:nvPr/>
              </p:nvSpPr>
              <p:spPr>
                <a:xfrm>
                  <a:off x="1684440" y="3525840"/>
                  <a:ext cx="4079880" cy="85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⋅</m:t>
                          </m:r>
                          <m:r>
                            <m:t xml:space="preserve">M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824" name=""/>
            <p:cNvSpPr/>
            <p:nvPr/>
          </p:nvSpPr>
          <p:spPr>
            <a:xfrm>
              <a:off x="230040" y="2286000"/>
              <a:ext cx="777240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cccc"/>
                </a:buClr>
                <a:buSzPct val="75000"/>
                <a:buFont typeface="Monotype Sort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omjer broja množenja filtriranja primjenom FFT-a i običnog množenja iznosi: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25" name=""/>
          <p:cNvGrpSpPr/>
          <p:nvPr/>
        </p:nvGrpSpPr>
        <p:grpSpPr>
          <a:xfrm>
            <a:off x="152280" y="3581280"/>
            <a:ext cx="7929720" cy="1828800"/>
            <a:chOff x="152280" y="3581280"/>
            <a:chExt cx="7929720" cy="1828800"/>
          </a:xfrm>
        </p:grpSpPr>
        <mc:AlternateContent>
          <mc:Choice xmlns:a14="http://schemas.microsoft.com/office/drawing/2010/main" Requires="a14">
            <p:sp>
              <p:nvSpPr>
                <p:cNvPr id="3826" name=""/>
                <p:cNvSpPr txBox="1"/>
                <p:nvPr/>
              </p:nvSpPr>
              <p:spPr>
                <a:xfrm>
                  <a:off x="5157720" y="4516560"/>
                  <a:ext cx="2924280" cy="85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1024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8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827" name=""/>
            <p:cNvSpPr/>
            <p:nvPr/>
          </p:nvSpPr>
          <p:spPr>
            <a:xfrm>
              <a:off x="152280" y="3581280"/>
              <a:ext cx="77724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390000"/>
                </a:lnSpc>
                <a:spcBef>
                  <a:spcPts val="799"/>
                </a:spcBef>
                <a:buClr>
                  <a:srgbClr val="00cccc"/>
                </a:buClr>
                <a:buSzPct val="75000"/>
                <a:buFont typeface="Monotype Sort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pr. za N=1024 i M=128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28" name="PlaceHolder 1"/>
          <p:cNvSpPr>
            <a:spLocks noGrp="1"/>
          </p:cNvSpPr>
          <p:nvPr>
            <p:ph/>
          </p:nvPr>
        </p:nvSpPr>
        <p:spPr>
          <a:xfrm>
            <a:off x="152280" y="5562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am se dodatno skraćuje korištenjem dva sukcesivna bloka i primjenom RE2F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E6D4-837E-4E1F-A9E9-67E1445FFDCB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9" dur="500"/>
                                        <p:tgtEl>
                                          <p:spTgt spid="3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2" dur="500"/>
                                        <p:tgtEl>
                                          <p:spTgt spid="3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n) = x(2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n) = x(2n+1)   n = 0,1,.......,N/2 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9560" y="3316320"/>
            <a:ext cx="7748640" cy="18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1" lang="hr-HR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(n)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1" lang="hr-HR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(n)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dobiveni su decimacijom 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x(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za faktor 2 i zato se ovaj </a:t>
            </a:r>
            <a:r>
              <a:rPr b="0" lang="hr-HR" sz="3200" spc="-1" strike="noStrike">
                <a:solidFill>
                  <a:srgbClr val="00cccc"/>
                </a:solidFill>
                <a:latin typeface="Times New Roman"/>
              </a:rPr>
              <a:t>FFT</a:t>
            </a:r>
            <a:r>
              <a:rPr b="0" lang="hr-HR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algorit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naziva </a:t>
            </a:r>
            <a:r>
              <a:rPr b="0" lang="hr-HR" sz="3200" spc="-1" strike="noStrike">
                <a:solidFill>
                  <a:srgbClr val="00cccc"/>
                </a:solidFill>
                <a:latin typeface="Times New Roman"/>
              </a:rPr>
              <a:t>algoritam decimacije u vremen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4032-A914-4BD5-8D68-EA4FE8A4C8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09480" y="68544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 točaka DFT-a 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9680" y="1901880"/>
                <a:ext cx="836460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n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,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055520" y="4648320"/>
                <a:ext cx="648828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n je paran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n je neparan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CC92-62E9-4C3D-894F-08E04A392F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57200" y="871560"/>
                <a:ext cx="822960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k</m:t>
                            </m:r>
                          </m:sup>
                        </m:sSubSup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28600" y="3201840"/>
                <a:ext cx="548640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k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k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562720" y="3336840"/>
                <a:ext cx="3579840" cy="135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0" y="5100480"/>
                <a:ext cx="914256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k</m:t>
                            </m:r>
                          </m:sup>
                        </m:sSubSup>
                      </m:e>
                    </m:nary>
                    <m:r>
                      <m:t xml:space="preserve">+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k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18DD-5CE6-47EA-A1B5-A3D0834AD0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20T18:22:46Z</dcterms:created>
  <dc:creator>ZESOI</dc:creator>
  <dc:description/>
  <dc:language>en-US</dc:language>
  <cp:lastModifiedBy>Tomislav Petkovic</cp:lastModifiedBy>
  <dcterms:modified xsi:type="dcterms:W3CDTF">2004-01-19T15:45:11Z</dcterms:modified>
  <cp:revision>127</cp:revision>
  <dc:subject>Digitalna obradba signala</dc:subject>
  <dc:title>Korijen-2 metoda</dc:title>
</cp:coreProperties>
</file>