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8.wmf" ContentType="image/x-wmf"/>
  <Override PartName="/ppt/media/image13.wmf" ContentType="image/x-wmf"/>
  <Override PartName="/ppt/media/image38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1440" y="10800"/>
            <a:ext cx="307800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021200" y="10800"/>
            <a:ext cx="307800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i="1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-1440" y="9743760"/>
            <a:ext cx="307800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i="1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4021200" y="9743760"/>
            <a:ext cx="307800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i="1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3AEF594E-CB39-486D-8CF7-B210EA151F18}" type="slidenum"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942480" y="4875120"/>
            <a:ext cx="5208840" cy="43293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Img"/>
          </p:nvPr>
        </p:nvSpPr>
        <p:spPr>
          <a:xfrm>
            <a:off x="1163160" y="896760"/>
            <a:ext cx="4768920" cy="357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 txBox="1"/>
          <p:nvPr/>
        </p:nvSpPr>
        <p:spPr>
          <a:xfrm>
            <a:off x="4021200" y="9743760"/>
            <a:ext cx="307800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47380533-D097-4E4A-B544-A989934DE2A3}" type="slidenum"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 txBox="1"/>
          <p:nvPr/>
        </p:nvSpPr>
        <p:spPr>
          <a:xfrm>
            <a:off x="-1440" y="9743760"/>
            <a:ext cx="307800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 txBox="1"/>
          <p:nvPr/>
        </p:nvSpPr>
        <p:spPr>
          <a:xfrm>
            <a:off x="-1440" y="10800"/>
            <a:ext cx="307800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 txBox="1"/>
          <p:nvPr/>
        </p:nvSpPr>
        <p:spPr>
          <a:xfrm>
            <a:off x="4021200" y="10800"/>
            <a:ext cx="307800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65320" y="896760"/>
            <a:ext cx="4770360" cy="357840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47520" y="4865400"/>
            <a:ext cx="5203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4022640" y="6480"/>
            <a:ext cx="3076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4022640" y="9740880"/>
            <a:ext cx="3076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hr-HR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-1440" y="9740880"/>
            <a:ext cx="3074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-1440" y="6480"/>
            <a:ext cx="3074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65320" y="896760"/>
            <a:ext cx="4770360" cy="35784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945720" y="4876560"/>
            <a:ext cx="520380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12C9-23B7-4592-99E1-8134773FD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06080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EA37-3BEE-44C8-95CB-6610E8762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4640" y="17521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0608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04640" y="40608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9AD2-E924-43C6-B610-8D829511D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3760" y="17521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78040" y="17521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0608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3760" y="40608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78040" y="40608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14FB-148A-4F15-A65A-05BE72241A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B3F8-4A9B-4034-819D-CE23C7552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70B3-BDEA-4397-B060-03944DE5C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04640" y="17521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7F0B-3305-4081-8997-30355A92A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D2B3-210F-416F-98D8-DF1140528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76197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41B1-5E6D-4948-B570-2E5711209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4640" y="17521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0608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E65C-A5EC-4D74-ADDA-F060D8A71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4640" y="17521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04640" y="40608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787C-AF99-4BBF-8FF1-4CB5EFC13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4640" y="17521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06080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03ED-1ADB-4BC1-951E-23909DA4E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037C1A-D759-4DD5-AAA8-AE2050CF7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Metoda jednakog impulsnog odziv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gitalna Obradba Signa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72360" y="6076440"/>
            <a:ext cx="183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S&amp;S  - 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Metoda jednakog impulsnog odziv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557360"/>
            <a:ext cx="806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gledajmo transformaciju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i="1" lang="hr-HR" sz="32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koja preslikava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ravninu u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ravnin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6400" y="2932200"/>
            <a:ext cx="7758360" cy="1360440"/>
            <a:chOff x="536400" y="2932200"/>
            <a:chExt cx="7758360" cy="1360440"/>
          </a:xfrm>
        </p:grpSpPr>
        <p:sp>
          <p:nvSpPr>
            <p:cNvPr id="105" name=""/>
            <p:cNvSpPr/>
            <p:nvPr/>
          </p:nvSpPr>
          <p:spPr>
            <a:xfrm>
              <a:off x="549720" y="2954160"/>
              <a:ext cx="37134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Za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</a:t>
              </a:r>
              <a:r>
                <a:rPr b="0" lang="en-US" sz="32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+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j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32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vrijedi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4530600" y="2932200"/>
            <a:ext cx="3764160" cy="58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30600" y="2932200"/>
                      <a:ext cx="376416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536400" y="3573360"/>
              <a:ext cx="156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dnosn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2195640" y="3583080"/>
            <a:ext cx="2084400" cy="709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95640" y="3583080"/>
                      <a:ext cx="208440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1" name=""/>
          <p:cNvGrpSpPr/>
          <p:nvPr/>
        </p:nvGrpSpPr>
        <p:grpSpPr>
          <a:xfrm>
            <a:off x="539640" y="4292640"/>
            <a:ext cx="8604360" cy="978840"/>
            <a:chOff x="539640" y="4292640"/>
            <a:chExt cx="8604360" cy="978840"/>
          </a:xfrm>
        </p:grpSpPr>
        <p:sp>
          <p:nvSpPr>
            <p:cNvPr id="112" name=""/>
            <p:cNvSpPr/>
            <p:nvPr/>
          </p:nvSpPr>
          <p:spPr>
            <a:xfrm>
              <a:off x="539640" y="4292640"/>
              <a:ext cx="8280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iz ovoga slijedi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9640" y="4772160"/>
              <a:ext cx="860436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ffffff"/>
                  </a:solidFill>
                  <a:latin typeface="Times New Roman"/>
                </a:rPr>
                <a:t>imaginarna os u </a:t>
              </a:r>
              <a:r>
                <a:rPr b="0" i="1" lang="hr-HR" sz="22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hr-HR" sz="2200" spc="-1" strike="noStrike">
                  <a:solidFill>
                    <a:srgbClr val="ffffff"/>
                  </a:solidFill>
                  <a:latin typeface="Times New Roman"/>
                </a:rPr>
                <a:t> ravnini </a:t>
              </a:r>
              <a:r>
                <a:rPr b="0" lang="hr-HR" sz="22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r>
                <a:rPr b="0" lang="el-GR" sz="2200" spc="-1" strike="noStrike">
                  <a:solidFill>
                    <a:srgbClr val="ffff00"/>
                  </a:solidFill>
                  <a:latin typeface="Times New Roman"/>
                </a:rPr>
                <a:t>σ</a:t>
              </a:r>
              <a:r>
                <a:rPr b="0" lang="hr-HR" sz="22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r>
                <a:rPr b="0" lang="hr-HR" sz="2200" spc="-1" strike="noStrike">
                  <a:solidFill>
                    <a:srgbClr val="ffff00"/>
                  </a:solidFill>
                  <a:latin typeface="Times New Roman"/>
                </a:rPr>
                <a:t>=0) </a:t>
              </a:r>
              <a:r>
                <a:rPr b="0" lang="hr-HR" sz="2200" spc="-1" strike="noStrike">
                  <a:solidFill>
                    <a:srgbClr val="ffffff"/>
                  </a:solidFill>
                  <a:latin typeface="Times New Roman"/>
                </a:rPr>
                <a:t>→</a:t>
              </a:r>
              <a:r>
                <a:rPr b="0" lang="hr-HR" sz="2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hr-HR" sz="2200" spc="-1" strike="noStrike">
                  <a:solidFill>
                    <a:srgbClr val="ffffff"/>
                  </a:solidFill>
                  <a:latin typeface="Times New Roman"/>
                </a:rPr>
                <a:t>jedinična kružnica u </a:t>
              </a:r>
              <a:r>
                <a:rPr b="0" i="1" lang="hr-HR" sz="22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hr-HR" sz="2200" spc="-1" strike="noStrike">
                  <a:solidFill>
                    <a:srgbClr val="ffffff"/>
                  </a:solidFill>
                  <a:latin typeface="Times New Roman"/>
                </a:rPr>
                <a:t> ravnini </a:t>
              </a:r>
              <a:r>
                <a:rPr b="0" lang="hr-HR" sz="2400" spc="-1" strike="noStrike">
                  <a:solidFill>
                    <a:srgbClr val="ffff00"/>
                  </a:solidFill>
                  <a:latin typeface="Book Antiqua"/>
                </a:rPr>
                <a:t>(</a:t>
              </a:r>
              <a:r>
                <a:rPr b="1" lang="hr-HR" sz="2400" spc="-1" strike="noStrike">
                  <a:solidFill>
                    <a:srgbClr val="ffffff"/>
                  </a:solidFill>
                  <a:latin typeface="Book Antiqua"/>
                </a:rPr>
                <a:t> </a:t>
              </a: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|</a:t>
              </a:r>
              <a:r>
                <a:rPr b="0" lang="hr-HR" sz="2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z</a:t>
              </a: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|</a:t>
              </a:r>
              <a:r>
                <a:rPr b="0" lang="hr-HR" sz="2200" spc="-1" strike="noStrike">
                  <a:solidFill>
                    <a:srgbClr val="ffff00"/>
                  </a:solidFill>
                  <a:latin typeface="Times New Roman"/>
                </a:rPr>
                <a:t>= 1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39640" y="5300640"/>
            <a:ext cx="86043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lijeva </a:t>
            </a:r>
            <a:r>
              <a:rPr b="0" i="1" lang="hr-HR" sz="2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 poluravnina </a:t>
            </a:r>
            <a:r>
              <a:rPr b="0" lang="hr-HR" sz="2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l-GR" sz="2200" spc="-1" strike="noStrike">
                <a:solidFill>
                  <a:srgbClr val="ffff00"/>
                </a:solidFill>
                <a:latin typeface="Times New Roman"/>
              </a:rPr>
              <a:t>σ</a:t>
            </a:r>
            <a:r>
              <a:rPr b="0" lang="hr-HR" sz="2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hr-HR" sz="2200" spc="-1" strike="noStrike">
                <a:solidFill>
                  <a:srgbClr val="ffff00"/>
                </a:solidFill>
                <a:latin typeface="Times New Roman"/>
              </a:rPr>
              <a:t>&lt;0)          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→</a:t>
            </a:r>
            <a:r>
              <a:rPr b="0" lang="hr-HR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unutrašnjost jedinične kružnice u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hr-HR" sz="2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 ravnini </a:t>
            </a:r>
            <a:r>
              <a:rPr b="0" lang="hr-HR" sz="2400" spc="-1" strike="noStrike">
                <a:solidFill>
                  <a:srgbClr val="ffff00"/>
                </a:solidFill>
                <a:latin typeface="Book Antiqua"/>
              </a:rPr>
              <a:t>(</a:t>
            </a:r>
            <a:r>
              <a:rPr b="1" lang="hr-HR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lang="hr-HR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lang="hr-HR" sz="2200" spc="-1" strike="noStrike">
                <a:solidFill>
                  <a:srgbClr val="ffff00"/>
                </a:solidFill>
                <a:latin typeface="Times New Roman"/>
              </a:rPr>
              <a:t>= 1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6021360"/>
            <a:ext cx="86043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desna </a:t>
            </a:r>
            <a:r>
              <a:rPr b="0" i="1" lang="hr-HR" sz="2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 poluravnina </a:t>
            </a:r>
            <a:r>
              <a:rPr b="0" lang="hr-HR" sz="2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l-GR" sz="2200" spc="-1" strike="noStrike">
                <a:solidFill>
                  <a:srgbClr val="ffff00"/>
                </a:solidFill>
                <a:latin typeface="Times New Roman"/>
              </a:rPr>
              <a:t>σ</a:t>
            </a:r>
            <a:r>
              <a:rPr b="0" lang="hr-HR" sz="2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hr-HR" sz="2200" spc="-1" strike="noStrike">
                <a:solidFill>
                  <a:srgbClr val="ffff00"/>
                </a:solidFill>
                <a:latin typeface="Times New Roman"/>
              </a:rPr>
              <a:t>&lt;0)          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→</a:t>
            </a:r>
            <a:r>
              <a:rPr b="0" lang="hr-HR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izvan jedinične kružnice u  </a:t>
            </a:r>
            <a:r>
              <a:rPr b="0" i="1" lang="hr-HR" sz="2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r-HR" sz="2200" spc="-1" strike="noStrike">
                <a:solidFill>
                  <a:srgbClr val="ffffff"/>
                </a:solidFill>
                <a:latin typeface="Times New Roman"/>
              </a:rPr>
              <a:t>ravnini </a:t>
            </a:r>
            <a:r>
              <a:rPr b="0" lang="hr-HR" sz="2400" spc="-1" strike="noStrike">
                <a:solidFill>
                  <a:srgbClr val="ffff00"/>
                </a:solidFill>
                <a:latin typeface="Book Antiqua"/>
              </a:rPr>
              <a:t>(</a:t>
            </a:r>
            <a:r>
              <a:rPr b="1" lang="hr-HR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lang="hr-HR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lang="hr-HR" sz="2200" spc="-1" strike="noStrike">
                <a:solidFill>
                  <a:srgbClr val="ffff00"/>
                </a:solidFill>
                <a:latin typeface="Times New Roman"/>
              </a:rPr>
              <a:t>= 1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CF61-3811-4709-B4E4-B70D48FA67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Metoda jednakog impulsnog odziv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235240"/>
            <a:ext cx="80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ključak: transformacij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467240"/>
            <a:ext cx="806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ovi stabilnog analognog filtra se preslikavaju u unutrašnjost jedinične kružnice u z ravn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4680" y="3068640"/>
          <a:ext cx="118296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4680" y="3068640"/>
                    <a:ext cx="11829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BFA5-D1B1-4A52-B82A-A5D9CDC8FF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Metoda jednakog impulsnog odziv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413000"/>
            <a:ext cx="806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ransformacija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z = e</a:t>
            </a:r>
            <a:r>
              <a:rPr b="0" i="1" lang="hr-HR" sz="32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eslikava sve točke u s ravnini dane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3860640"/>
            <a:ext cx="80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jednu točku u z ravn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57520" y="4859280"/>
          <a:ext cx="234612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7520" y="4859280"/>
                    <a:ext cx="23461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946640" y="3173400"/>
            <a:ext cx="26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338560" y="2579760"/>
          <a:ext cx="3385800" cy="10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579760"/>
                    <a:ext cx="33858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1F9F-B644-480F-A41C-FAF9DD95EA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9640" y="207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Metoda jednakog impulsnog odziv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46640" y="3173400"/>
            <a:ext cx="26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39640" y="1785960"/>
            <a:ext cx="8064720" cy="1067400"/>
            <a:chOff x="539640" y="1785960"/>
            <a:chExt cx="8064720" cy="1067400"/>
          </a:xfrm>
        </p:grpSpPr>
        <p:sp>
          <p:nvSpPr>
            <p:cNvPr id="132" name=""/>
            <p:cNvSpPr/>
            <p:nvPr/>
          </p:nvSpPr>
          <p:spPr>
            <a:xfrm>
              <a:off x="539640" y="1785960"/>
              <a:ext cx="8064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Times New Roman"/>
                </a:rPr>
                <a:t>dakle, horizontalni odsječak                                u </a:t>
              </a:r>
              <a:r>
                <a:rPr b="0" i="1" lang="hr-HR" sz="32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hr-HR" sz="3200" spc="-1" strike="noStrike">
                  <a:solidFill>
                    <a:srgbClr val="ffffff"/>
                  </a:solidFill>
                  <a:latin typeface="Times New Roman"/>
                </a:rPr>
                <a:t> ravnini se preslikava u </a:t>
              </a:r>
              <a:r>
                <a:rPr b="0" lang="hr-HR" sz="3200" spc="-1" strike="noStrike">
                  <a:solidFill>
                    <a:srgbClr val="ffff00"/>
                  </a:solidFill>
                  <a:latin typeface="Times New Roman"/>
                </a:rPr>
                <a:t>cijelu </a:t>
              </a:r>
              <a:r>
                <a:rPr b="0" i="1" lang="hr-HR" sz="32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r>
                <a:rPr b="0" lang="hr-HR" sz="3200" spc="-1" strike="noStrike">
                  <a:solidFill>
                    <a:srgbClr val="ffff00"/>
                  </a:solidFill>
                  <a:latin typeface="Times New Roman"/>
                </a:rPr>
                <a:t> ravninu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3" name=""/>
            <p:cNvGraphicFramePr/>
            <p:nvPr/>
          </p:nvGraphicFramePr>
          <p:xfrm>
            <a:off x="5292720" y="1844640"/>
            <a:ext cx="2865600" cy="480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92720" y="1844640"/>
                      <a:ext cx="2865600" cy="48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5" name=""/>
          <p:cNvGrpSpPr/>
          <p:nvPr/>
        </p:nvGrpSpPr>
        <p:grpSpPr>
          <a:xfrm>
            <a:off x="139680" y="3284640"/>
            <a:ext cx="8970840" cy="2866680"/>
            <a:chOff x="139680" y="3284640"/>
            <a:chExt cx="8970840" cy="2866680"/>
          </a:xfrm>
        </p:grpSpPr>
        <p:grpSp>
          <p:nvGrpSpPr>
            <p:cNvPr id="136" name=""/>
            <p:cNvGrpSpPr/>
            <p:nvPr/>
          </p:nvGrpSpPr>
          <p:grpSpPr>
            <a:xfrm>
              <a:off x="5438520" y="3284640"/>
              <a:ext cx="3672000" cy="2749320"/>
              <a:chOff x="5438520" y="3284640"/>
              <a:chExt cx="3672000" cy="2749320"/>
            </a:xfrm>
          </p:grpSpPr>
          <p:sp>
            <p:nvSpPr>
              <p:cNvPr id="137" name=""/>
              <p:cNvSpPr/>
              <p:nvPr/>
            </p:nvSpPr>
            <p:spPr>
              <a:xfrm>
                <a:off x="5578920" y="3676680"/>
                <a:ext cx="2659680" cy="22748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5438520" y="3284640"/>
                <a:ext cx="3672000" cy="2749320"/>
                <a:chOff x="5438520" y="3284640"/>
                <a:chExt cx="3672000" cy="27493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370200" y="4194000"/>
                  <a:ext cx="1141200" cy="116712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6940440" y="3521160"/>
                  <a:ext cx="1080" cy="2512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38520" y="4792680"/>
                  <a:ext cx="2953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373960" y="4618080"/>
                  <a:ext cx="7365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000" spc="-1" strike="noStrike">
                      <a:solidFill>
                        <a:srgbClr val="ffffff"/>
                      </a:solidFill>
                      <a:latin typeface="Times New Roman"/>
                    </a:rPr>
                    <a:t>Re(</a:t>
                  </a:r>
                  <a:r>
                    <a:rPr b="0" i="1" lang="hr-HR" sz="2000" spc="-1" strike="noStrike">
                      <a:solidFill>
                        <a:srgbClr val="ffffff"/>
                      </a:solidFill>
                      <a:latin typeface="Times New Roman"/>
                    </a:rPr>
                    <a:t>z</a:t>
                  </a:r>
                  <a:r>
                    <a:rPr b="0" lang="hr-HR" sz="2000" spc="-1" strike="noStrike">
                      <a:solidFill>
                        <a:srgbClr val="ffffff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87960" y="3284640"/>
                  <a:ext cx="738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Im(</a:t>
                  </a:r>
                  <a:r>
                    <a:rPr b="0" i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z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139680" y="3319560"/>
              <a:ext cx="4681080" cy="2831760"/>
              <a:chOff x="139680" y="3319560"/>
              <a:chExt cx="4681080" cy="2831760"/>
            </a:xfrm>
          </p:grpSpPr>
          <p:sp>
            <p:nvSpPr>
              <p:cNvPr id="145" name=""/>
              <p:cNvSpPr/>
              <p:nvPr/>
            </p:nvSpPr>
            <p:spPr>
              <a:xfrm>
                <a:off x="139680" y="4435560"/>
                <a:ext cx="2180520" cy="6570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337480" y="4435560"/>
                <a:ext cx="2010240" cy="6570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340720" y="3319560"/>
                <a:ext cx="45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000" spc="-1" strike="noStrike">
                    <a:solidFill>
                      <a:srgbClr val="ffffff"/>
                    </a:solidFill>
                    <a:latin typeface="Times New Roman"/>
                  </a:rPr>
                  <a:t>j</a:t>
                </a:r>
                <a:r>
                  <a:rPr b="0" lang="hr-HR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93560" y="4087800"/>
                <a:ext cx="500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/</a:t>
                </a: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19480" y="5062680"/>
                <a:ext cx="576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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/</a:t>
                </a: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1400" y="4603680"/>
                <a:ext cx="369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2325600" y="3427200"/>
                <a:ext cx="1440" cy="2724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9680" y="4784760"/>
                <a:ext cx="4362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3680" y="5094360"/>
                <a:ext cx="4241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7600" y="3759120"/>
                <a:ext cx="419796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3680" y="5772240"/>
                <a:ext cx="4241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7600" y="4437000"/>
                <a:ext cx="419796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5850-F7AE-4DBA-9D90-6EF1688691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207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Metoda jednakog impulsnog odziv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1425600"/>
            <a:ext cx="8512200" cy="1067400"/>
            <a:chOff x="380880" y="1425600"/>
            <a:chExt cx="8512200" cy="1067400"/>
          </a:xfrm>
        </p:grpSpPr>
        <p:sp>
          <p:nvSpPr>
            <p:cNvPr id="159" name=""/>
            <p:cNvSpPr/>
            <p:nvPr/>
          </p:nvSpPr>
          <p:spPr>
            <a:xfrm>
              <a:off x="380880" y="1425600"/>
              <a:ext cx="8064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Times New Roman"/>
                </a:rPr>
                <a:t>isto tako horizontalni odsječak                                u </a:t>
              </a:r>
              <a:r>
                <a:rPr b="0" i="1" lang="hr-HR" sz="32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hr-HR" sz="3200" spc="-1" strike="noStrike">
                  <a:solidFill>
                    <a:srgbClr val="ffffff"/>
                  </a:solidFill>
                  <a:latin typeface="Times New Roman"/>
                </a:rPr>
                <a:t> ravnini se preslikava u </a:t>
              </a:r>
              <a:r>
                <a:rPr b="0" lang="hr-HR" sz="3200" spc="-1" strike="noStrike">
                  <a:solidFill>
                    <a:srgbClr val="ffff00"/>
                  </a:solidFill>
                  <a:latin typeface="Times New Roman"/>
                </a:rPr>
                <a:t>cijelu </a:t>
              </a:r>
              <a:r>
                <a:rPr b="0" i="1" lang="hr-HR" sz="32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r>
                <a:rPr b="0" lang="hr-HR" sz="3200" spc="-1" strike="noStrike">
                  <a:solidFill>
                    <a:srgbClr val="ffff00"/>
                  </a:solidFill>
                  <a:latin typeface="Times New Roman"/>
                </a:rPr>
                <a:t> ravninu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0" name=""/>
            <p:cNvGraphicFramePr/>
            <p:nvPr/>
          </p:nvGraphicFramePr>
          <p:xfrm>
            <a:off x="5637240" y="1484280"/>
            <a:ext cx="3255840" cy="480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7240" y="1484280"/>
                      <a:ext cx="325584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2" name=""/>
          <p:cNvGrpSpPr/>
          <p:nvPr/>
        </p:nvGrpSpPr>
        <p:grpSpPr>
          <a:xfrm>
            <a:off x="324000" y="2492280"/>
            <a:ext cx="8823240" cy="1067400"/>
            <a:chOff x="324000" y="2492280"/>
            <a:chExt cx="8823240" cy="1067400"/>
          </a:xfrm>
        </p:grpSpPr>
        <p:sp>
          <p:nvSpPr>
            <p:cNvPr id="163" name=""/>
            <p:cNvSpPr/>
            <p:nvPr/>
          </p:nvSpPr>
          <p:spPr>
            <a:xfrm>
              <a:off x="324000" y="2492280"/>
              <a:ext cx="8064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Times New Roman"/>
                </a:rPr>
                <a:t>svaki horizontalni odsječak                                u </a:t>
              </a:r>
              <a:r>
                <a:rPr b="0" i="1" lang="hr-HR" sz="32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hr-HR" sz="3200" spc="-1" strike="noStrike">
                  <a:solidFill>
                    <a:srgbClr val="ffffff"/>
                  </a:solidFill>
                  <a:latin typeface="Times New Roman"/>
                </a:rPr>
                <a:t> ravnini se preslikava u </a:t>
              </a:r>
              <a:r>
                <a:rPr b="0" lang="hr-HR" sz="3200" spc="-1" strike="noStrike">
                  <a:solidFill>
                    <a:srgbClr val="ffff00"/>
                  </a:solidFill>
                  <a:latin typeface="Times New Roman"/>
                </a:rPr>
                <a:t>cijelu </a:t>
              </a:r>
              <a:r>
                <a:rPr b="0" i="1" lang="hr-HR" sz="32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r>
                <a:rPr b="0" lang="hr-HR" sz="3200" spc="-1" strike="noStrike">
                  <a:solidFill>
                    <a:srgbClr val="ffff00"/>
                  </a:solidFill>
                  <a:latin typeface="Times New Roman"/>
                </a:rPr>
                <a:t> ravninu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4932360" y="2631960"/>
            <a:ext cx="4214880" cy="46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32360" y="2631960"/>
                      <a:ext cx="421488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"/>
          <p:cNvGrpSpPr/>
          <p:nvPr/>
        </p:nvGrpSpPr>
        <p:grpSpPr>
          <a:xfrm>
            <a:off x="139680" y="3989520"/>
            <a:ext cx="8970840" cy="2866680"/>
            <a:chOff x="139680" y="3989520"/>
            <a:chExt cx="8970840" cy="2866680"/>
          </a:xfrm>
        </p:grpSpPr>
        <p:grpSp>
          <p:nvGrpSpPr>
            <p:cNvPr id="167" name=""/>
            <p:cNvGrpSpPr/>
            <p:nvPr/>
          </p:nvGrpSpPr>
          <p:grpSpPr>
            <a:xfrm>
              <a:off x="5438520" y="3989520"/>
              <a:ext cx="3672000" cy="2749320"/>
              <a:chOff x="5438520" y="3989520"/>
              <a:chExt cx="3672000" cy="2749320"/>
            </a:xfrm>
          </p:grpSpPr>
          <p:sp>
            <p:nvSpPr>
              <p:cNvPr id="168" name=""/>
              <p:cNvSpPr/>
              <p:nvPr/>
            </p:nvSpPr>
            <p:spPr>
              <a:xfrm>
                <a:off x="5578920" y="4381560"/>
                <a:ext cx="2659680" cy="22748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438520" y="3989520"/>
                <a:ext cx="3672000" cy="2749320"/>
                <a:chOff x="5438520" y="3989520"/>
                <a:chExt cx="3672000" cy="27493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370200" y="4898880"/>
                  <a:ext cx="1141200" cy="116712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6940440" y="4226040"/>
                  <a:ext cx="1080" cy="2512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38520" y="5497560"/>
                  <a:ext cx="2953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73960" y="5322960"/>
                  <a:ext cx="7365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000" spc="-1" strike="noStrike">
                      <a:solidFill>
                        <a:srgbClr val="ffffff"/>
                      </a:solidFill>
                      <a:latin typeface="Times New Roman"/>
                    </a:rPr>
                    <a:t>Re(</a:t>
                  </a:r>
                  <a:r>
                    <a:rPr b="0" i="1" lang="hr-HR" sz="2000" spc="-1" strike="noStrike">
                      <a:solidFill>
                        <a:srgbClr val="ffffff"/>
                      </a:solidFill>
                      <a:latin typeface="Times New Roman"/>
                    </a:rPr>
                    <a:t>z</a:t>
                  </a:r>
                  <a:r>
                    <a:rPr b="0" lang="hr-HR" sz="2000" spc="-1" strike="noStrike">
                      <a:solidFill>
                        <a:srgbClr val="ffffff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987960" y="3989520"/>
                  <a:ext cx="738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Im(</a:t>
                  </a:r>
                  <a:r>
                    <a:rPr b="0" i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z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2337840" y="5805360"/>
              <a:ext cx="2102760" cy="657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41080" y="4024440"/>
              <a:ext cx="45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0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hr-HR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93200" y="4805280"/>
              <a:ext cx="500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19480" y="5481720"/>
              <a:ext cx="57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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52120" y="5308560"/>
              <a:ext cx="369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2325600" y="4132080"/>
              <a:ext cx="1440" cy="27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9680" y="5489640"/>
              <a:ext cx="436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680" y="5799240"/>
              <a:ext cx="4241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7960" y="4464000"/>
              <a:ext cx="4197600" cy="32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3680" y="6477120"/>
              <a:ext cx="4241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7960" y="5141880"/>
              <a:ext cx="4197600" cy="32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9680" y="5807160"/>
              <a:ext cx="2180520" cy="6570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19480" y="648180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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B6C7-08A5-4614-96A0-82C9A2D5F8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207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Metoda jednakog impulsnog odziv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2128680"/>
            <a:ext cx="806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akle, transform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4667400"/>
            <a:ext cx="80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e višestruko preslikavanje iz s ravnine u cijelu z ravni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33760" y="3463920"/>
          <a:ext cx="118260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3760" y="3463920"/>
                    <a:ext cx="11826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21F9-2EAE-4166-8930-FBCDAAB621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5360" y="83880"/>
            <a:ext cx="7747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fffe"/>
                </a:solidFill>
                <a:latin typeface="Times New Roman"/>
              </a:rPr>
              <a:t>Utjecaj preslikavanja s</a:t>
            </a:r>
            <a:r>
              <a:rPr b="0" lang="hr-HR" sz="2800" spc="-1" strike="noStrike">
                <a:solidFill>
                  <a:srgbClr val="00fffe"/>
                </a:solidFill>
                <a:latin typeface="Times New Roman"/>
              </a:rPr>
              <a:t>=(1/</a:t>
            </a:r>
            <a:r>
              <a:rPr b="0" i="1" lang="hr-HR" sz="2800" spc="-1" strike="noStrike">
                <a:solidFill>
                  <a:srgbClr val="00fffe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00fffe"/>
                </a:solidFill>
                <a:latin typeface="Times New Roman"/>
              </a:rPr>
              <a:t>)ln</a:t>
            </a:r>
            <a:r>
              <a:rPr b="0" i="1" lang="hr-HR" sz="2800" spc="-1" strike="noStrike">
                <a:solidFill>
                  <a:srgbClr val="00fffe"/>
                </a:solidFill>
                <a:latin typeface="Times New Roman"/>
              </a:rPr>
              <a:t>z</a:t>
            </a:r>
            <a:r>
              <a:rPr b="0" i="1" lang="hr-HR" sz="3200" spc="-1" strike="noStrike">
                <a:solidFill>
                  <a:srgbClr val="00fffe"/>
                </a:solidFill>
                <a:latin typeface="Times New Roman"/>
              </a:rPr>
              <a:t> na frekvencijsku karakteristiku</a:t>
            </a:r>
            <a:endParaRPr b="0" i="1" lang="en-US" sz="3200" spc="-1" strike="noStrike">
              <a:solidFill>
                <a:srgbClr val="00fffe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10960" y="1325520"/>
            <a:ext cx="8832960" cy="1737000"/>
            <a:chOff x="210960" y="1325520"/>
            <a:chExt cx="8832960" cy="1737000"/>
          </a:xfrm>
        </p:grpSpPr>
        <p:sp>
          <p:nvSpPr>
            <p:cNvPr id="195" name=""/>
            <p:cNvSpPr/>
            <p:nvPr/>
          </p:nvSpPr>
          <p:spPr>
            <a:xfrm>
              <a:off x="210960" y="2238480"/>
              <a:ext cx="8832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rekvencijska karakteristika digitalnog filtra je suma posmaknutih kopija frekvencijske karakteristike analognog filtra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1428120" y="1325520"/>
                  <a:ext cx="38815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w</m:t>
                              </m:r>
                            </m:sup>
                          </m:sSup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⋅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l</m:t>
                          </m:r>
                          <m:r>
                            <m:rPr>
                              <m:lit/>
                              <m:nor/>
                            </m:rPr>
                            <m:t xml:space="preserve">=-¥</m:t>
                          </m:r>
                        </m:sub>
                        <m:sup>
                          <m:r>
                            <m:t xml:space="preserve">¥</m:t>
                          </m:r>
                        </m:sup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w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pl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"/>
          <p:cNvGrpSpPr/>
          <p:nvPr/>
        </p:nvGrpSpPr>
        <p:grpSpPr>
          <a:xfrm>
            <a:off x="184680" y="3059280"/>
            <a:ext cx="8826120" cy="3006000"/>
            <a:chOff x="184680" y="3059280"/>
            <a:chExt cx="8826120" cy="3006000"/>
          </a:xfrm>
        </p:grpSpPr>
        <p:sp>
          <p:nvSpPr>
            <p:cNvPr id="198" name=""/>
            <p:cNvSpPr/>
            <p:nvPr/>
          </p:nvSpPr>
          <p:spPr>
            <a:xfrm>
              <a:off x="200160" y="3059280"/>
              <a:ext cx="8810640" cy="8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ko je frekvencijska karakteristika analognog filtra frekvencijski ograničena, tj. ako je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789280" y="3870360"/>
                  <a:ext cx="315576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a</m:t>
                                  </m:r>
                                </m:e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d>
                                  <m:r>
                                    <m:t xml:space="preserve">³</m:t>
                                  </m:r>
                                  <m:f>
                                    <m:num>
                                      <m:r>
                                        <m:t xml:space="preserve">p</m:t>
                                      </m:r>
                                    </m:num>
                                    <m:den>
                                      <m:r>
                                        <m:t xml:space="preserve">T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"/>
            <p:cNvSpPr/>
            <p:nvPr/>
          </p:nvSpPr>
          <p:spPr>
            <a:xfrm>
              <a:off x="191520" y="4537080"/>
              <a:ext cx="1568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ada vrijed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2727360" y="4762440"/>
                  <a:ext cx="374544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w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a</m:t>
                            </m:r>
                          </m:e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r>
                              <m:t xml:space="preserve">p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184680" y="560700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i nema aliasinga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64960" y="6033960"/>
            <a:ext cx="880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Ako gornji uvjet nije ispunjen, doći će do preklapanja spektara, odnosno aliasing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43DF-A822-4159-B988-956E91D96E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770120" y="171360"/>
            <a:ext cx="6014160" cy="1646280"/>
            <a:chOff x="1770120" y="171360"/>
            <a:chExt cx="6014160" cy="1646280"/>
          </a:xfrm>
        </p:grpSpPr>
        <p:sp>
          <p:nvSpPr>
            <p:cNvPr id="205" name=""/>
            <p:cNvSpPr/>
            <p:nvPr/>
          </p:nvSpPr>
          <p:spPr>
            <a:xfrm>
              <a:off x="4539240" y="819000"/>
              <a:ext cx="1107720" cy="598680"/>
            </a:xfrm>
            <a:custGeom>
              <a:avLst/>
              <a:gdLst/>
              <a:ahLst/>
              <a:rect l="l" t="t" r="r" b="b"/>
              <a:pathLst>
                <a:path w="756" h="377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7" y="0"/>
                  </a:lnTo>
                  <a:lnTo>
                    <a:pt x="159" y="0"/>
                  </a:lnTo>
                  <a:lnTo>
                    <a:pt x="162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2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3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9" y="0"/>
                  </a:lnTo>
                  <a:lnTo>
                    <a:pt x="221" y="0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7" y="0"/>
                  </a:lnTo>
                  <a:lnTo>
                    <a:pt x="229" y="0"/>
                  </a:lnTo>
                  <a:lnTo>
                    <a:pt x="231" y="1"/>
                  </a:lnTo>
                  <a:lnTo>
                    <a:pt x="233" y="1"/>
                  </a:lnTo>
                  <a:lnTo>
                    <a:pt x="236" y="1"/>
                  </a:lnTo>
                  <a:lnTo>
                    <a:pt x="238" y="1"/>
                  </a:lnTo>
                  <a:lnTo>
                    <a:pt x="240" y="1"/>
                  </a:lnTo>
                  <a:lnTo>
                    <a:pt x="242" y="1"/>
                  </a:lnTo>
                  <a:lnTo>
                    <a:pt x="244" y="1"/>
                  </a:lnTo>
                  <a:lnTo>
                    <a:pt x="246" y="1"/>
                  </a:lnTo>
                  <a:lnTo>
                    <a:pt x="248" y="1"/>
                  </a:lnTo>
                  <a:lnTo>
                    <a:pt x="250" y="1"/>
                  </a:lnTo>
                  <a:lnTo>
                    <a:pt x="252" y="1"/>
                  </a:lnTo>
                  <a:lnTo>
                    <a:pt x="254" y="1"/>
                  </a:lnTo>
                  <a:lnTo>
                    <a:pt x="256" y="1"/>
                  </a:lnTo>
                  <a:lnTo>
                    <a:pt x="258" y="1"/>
                  </a:lnTo>
                  <a:lnTo>
                    <a:pt x="260" y="1"/>
                  </a:lnTo>
                  <a:lnTo>
                    <a:pt x="262" y="1"/>
                  </a:lnTo>
                  <a:lnTo>
                    <a:pt x="264" y="1"/>
                  </a:lnTo>
                  <a:lnTo>
                    <a:pt x="266" y="1"/>
                  </a:lnTo>
                  <a:lnTo>
                    <a:pt x="268" y="1"/>
                  </a:lnTo>
                  <a:lnTo>
                    <a:pt x="270" y="2"/>
                  </a:lnTo>
                  <a:lnTo>
                    <a:pt x="273" y="2"/>
                  </a:lnTo>
                  <a:lnTo>
                    <a:pt x="275" y="2"/>
                  </a:lnTo>
                  <a:lnTo>
                    <a:pt x="277" y="2"/>
                  </a:lnTo>
                  <a:lnTo>
                    <a:pt x="279" y="2"/>
                  </a:lnTo>
                  <a:lnTo>
                    <a:pt x="281" y="2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7" y="2"/>
                  </a:lnTo>
                  <a:lnTo>
                    <a:pt x="289" y="3"/>
                  </a:lnTo>
                  <a:lnTo>
                    <a:pt x="291" y="3"/>
                  </a:lnTo>
                  <a:lnTo>
                    <a:pt x="293" y="3"/>
                  </a:lnTo>
                  <a:lnTo>
                    <a:pt x="295" y="3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301" y="4"/>
                  </a:lnTo>
                  <a:lnTo>
                    <a:pt x="303" y="4"/>
                  </a:lnTo>
                  <a:lnTo>
                    <a:pt x="305" y="4"/>
                  </a:lnTo>
                  <a:lnTo>
                    <a:pt x="307" y="4"/>
                  </a:lnTo>
                  <a:lnTo>
                    <a:pt x="310" y="4"/>
                  </a:lnTo>
                  <a:lnTo>
                    <a:pt x="312" y="5"/>
                  </a:lnTo>
                  <a:lnTo>
                    <a:pt x="314" y="5"/>
                  </a:lnTo>
                  <a:lnTo>
                    <a:pt x="316" y="5"/>
                  </a:lnTo>
                  <a:lnTo>
                    <a:pt x="318" y="5"/>
                  </a:lnTo>
                  <a:lnTo>
                    <a:pt x="320" y="6"/>
                  </a:lnTo>
                  <a:lnTo>
                    <a:pt x="322" y="6"/>
                  </a:lnTo>
                  <a:lnTo>
                    <a:pt x="324" y="6"/>
                  </a:lnTo>
                  <a:lnTo>
                    <a:pt x="326" y="7"/>
                  </a:lnTo>
                  <a:lnTo>
                    <a:pt x="328" y="7"/>
                  </a:lnTo>
                  <a:lnTo>
                    <a:pt x="330" y="7"/>
                  </a:lnTo>
                  <a:lnTo>
                    <a:pt x="332" y="8"/>
                  </a:lnTo>
                  <a:lnTo>
                    <a:pt x="334" y="8"/>
                  </a:lnTo>
                  <a:lnTo>
                    <a:pt x="336" y="8"/>
                  </a:lnTo>
                  <a:lnTo>
                    <a:pt x="336" y="9"/>
                  </a:lnTo>
                  <a:lnTo>
                    <a:pt x="338" y="9"/>
                  </a:lnTo>
                  <a:lnTo>
                    <a:pt x="340" y="9"/>
                  </a:lnTo>
                  <a:lnTo>
                    <a:pt x="340" y="10"/>
                  </a:lnTo>
                  <a:lnTo>
                    <a:pt x="342" y="10"/>
                  </a:lnTo>
                  <a:lnTo>
                    <a:pt x="344" y="10"/>
                  </a:lnTo>
                  <a:lnTo>
                    <a:pt x="346" y="11"/>
                  </a:lnTo>
                  <a:lnTo>
                    <a:pt x="348" y="11"/>
                  </a:lnTo>
                  <a:lnTo>
                    <a:pt x="350" y="13"/>
                  </a:lnTo>
                  <a:lnTo>
                    <a:pt x="352" y="14"/>
                  </a:lnTo>
                  <a:lnTo>
                    <a:pt x="354" y="14"/>
                  </a:lnTo>
                  <a:lnTo>
                    <a:pt x="356" y="15"/>
                  </a:lnTo>
                  <a:lnTo>
                    <a:pt x="359" y="16"/>
                  </a:lnTo>
                  <a:lnTo>
                    <a:pt x="361" y="16"/>
                  </a:lnTo>
                  <a:lnTo>
                    <a:pt x="363" y="17"/>
                  </a:lnTo>
                  <a:lnTo>
                    <a:pt x="365" y="18"/>
                  </a:lnTo>
                  <a:lnTo>
                    <a:pt x="367" y="18"/>
                  </a:lnTo>
                  <a:lnTo>
                    <a:pt x="367" y="19"/>
                  </a:lnTo>
                  <a:lnTo>
                    <a:pt x="369" y="19"/>
                  </a:lnTo>
                  <a:lnTo>
                    <a:pt x="371" y="20"/>
                  </a:lnTo>
                  <a:lnTo>
                    <a:pt x="373" y="21"/>
                  </a:lnTo>
                  <a:lnTo>
                    <a:pt x="375" y="23"/>
                  </a:lnTo>
                  <a:lnTo>
                    <a:pt x="377" y="24"/>
                  </a:lnTo>
                  <a:lnTo>
                    <a:pt x="377" y="25"/>
                  </a:lnTo>
                  <a:lnTo>
                    <a:pt x="379" y="25"/>
                  </a:lnTo>
                  <a:lnTo>
                    <a:pt x="381" y="26"/>
                  </a:lnTo>
                  <a:lnTo>
                    <a:pt x="383" y="27"/>
                  </a:lnTo>
                  <a:lnTo>
                    <a:pt x="383" y="28"/>
                  </a:lnTo>
                  <a:lnTo>
                    <a:pt x="385" y="29"/>
                  </a:lnTo>
                  <a:lnTo>
                    <a:pt x="387" y="30"/>
                  </a:lnTo>
                  <a:lnTo>
                    <a:pt x="389" y="30"/>
                  </a:lnTo>
                  <a:lnTo>
                    <a:pt x="389" y="31"/>
                  </a:lnTo>
                  <a:lnTo>
                    <a:pt x="391" y="32"/>
                  </a:lnTo>
                  <a:lnTo>
                    <a:pt x="393" y="34"/>
                  </a:lnTo>
                  <a:lnTo>
                    <a:pt x="393" y="35"/>
                  </a:lnTo>
                  <a:lnTo>
                    <a:pt x="395" y="36"/>
                  </a:lnTo>
                  <a:lnTo>
                    <a:pt x="398" y="37"/>
                  </a:lnTo>
                  <a:lnTo>
                    <a:pt x="400" y="39"/>
                  </a:lnTo>
                  <a:lnTo>
                    <a:pt x="400" y="40"/>
                  </a:lnTo>
                  <a:lnTo>
                    <a:pt x="402" y="41"/>
                  </a:lnTo>
                  <a:lnTo>
                    <a:pt x="404" y="42"/>
                  </a:lnTo>
                  <a:lnTo>
                    <a:pt x="404" y="44"/>
                  </a:lnTo>
                  <a:lnTo>
                    <a:pt x="406" y="46"/>
                  </a:lnTo>
                  <a:lnTo>
                    <a:pt x="408" y="47"/>
                  </a:lnTo>
                  <a:lnTo>
                    <a:pt x="410" y="48"/>
                  </a:lnTo>
                  <a:lnTo>
                    <a:pt x="410" y="49"/>
                  </a:lnTo>
                  <a:lnTo>
                    <a:pt x="412" y="51"/>
                  </a:lnTo>
                  <a:lnTo>
                    <a:pt x="414" y="52"/>
                  </a:lnTo>
                  <a:lnTo>
                    <a:pt x="416" y="55"/>
                  </a:lnTo>
                  <a:lnTo>
                    <a:pt x="416" y="56"/>
                  </a:lnTo>
                  <a:lnTo>
                    <a:pt x="418" y="58"/>
                  </a:lnTo>
                  <a:lnTo>
                    <a:pt x="420" y="59"/>
                  </a:lnTo>
                  <a:lnTo>
                    <a:pt x="420" y="61"/>
                  </a:lnTo>
                  <a:lnTo>
                    <a:pt x="422" y="62"/>
                  </a:lnTo>
                  <a:lnTo>
                    <a:pt x="424" y="65"/>
                  </a:lnTo>
                  <a:lnTo>
                    <a:pt x="426" y="67"/>
                  </a:lnTo>
                  <a:lnTo>
                    <a:pt x="426" y="69"/>
                  </a:lnTo>
                  <a:lnTo>
                    <a:pt x="428" y="70"/>
                  </a:lnTo>
                  <a:lnTo>
                    <a:pt x="430" y="72"/>
                  </a:lnTo>
                  <a:lnTo>
                    <a:pt x="430" y="74"/>
                  </a:lnTo>
                  <a:lnTo>
                    <a:pt x="432" y="77"/>
                  </a:lnTo>
                  <a:lnTo>
                    <a:pt x="435" y="79"/>
                  </a:lnTo>
                  <a:lnTo>
                    <a:pt x="437" y="81"/>
                  </a:lnTo>
                  <a:lnTo>
                    <a:pt x="437" y="83"/>
                  </a:lnTo>
                  <a:lnTo>
                    <a:pt x="439" y="85"/>
                  </a:lnTo>
                  <a:lnTo>
                    <a:pt x="441" y="88"/>
                  </a:lnTo>
                  <a:lnTo>
                    <a:pt x="443" y="90"/>
                  </a:lnTo>
                  <a:lnTo>
                    <a:pt x="443" y="92"/>
                  </a:lnTo>
                  <a:lnTo>
                    <a:pt x="445" y="94"/>
                  </a:lnTo>
                  <a:lnTo>
                    <a:pt x="447" y="96"/>
                  </a:lnTo>
                  <a:lnTo>
                    <a:pt x="447" y="99"/>
                  </a:lnTo>
                  <a:lnTo>
                    <a:pt x="449" y="102"/>
                  </a:lnTo>
                  <a:lnTo>
                    <a:pt x="451" y="104"/>
                  </a:lnTo>
                  <a:lnTo>
                    <a:pt x="453" y="106"/>
                  </a:lnTo>
                  <a:lnTo>
                    <a:pt x="453" y="109"/>
                  </a:lnTo>
                  <a:lnTo>
                    <a:pt x="455" y="112"/>
                  </a:lnTo>
                  <a:lnTo>
                    <a:pt x="457" y="114"/>
                  </a:lnTo>
                  <a:lnTo>
                    <a:pt x="457" y="117"/>
                  </a:lnTo>
                  <a:lnTo>
                    <a:pt x="459" y="120"/>
                  </a:lnTo>
                  <a:lnTo>
                    <a:pt x="461" y="122"/>
                  </a:lnTo>
                  <a:lnTo>
                    <a:pt x="463" y="125"/>
                  </a:lnTo>
                  <a:lnTo>
                    <a:pt x="463" y="127"/>
                  </a:lnTo>
                  <a:lnTo>
                    <a:pt x="465" y="131"/>
                  </a:lnTo>
                  <a:lnTo>
                    <a:pt x="467" y="133"/>
                  </a:lnTo>
                  <a:lnTo>
                    <a:pt x="467" y="136"/>
                  </a:lnTo>
                  <a:lnTo>
                    <a:pt x="469" y="138"/>
                  </a:lnTo>
                  <a:lnTo>
                    <a:pt x="472" y="142"/>
                  </a:lnTo>
                  <a:lnTo>
                    <a:pt x="474" y="145"/>
                  </a:lnTo>
                  <a:lnTo>
                    <a:pt x="474" y="147"/>
                  </a:lnTo>
                  <a:lnTo>
                    <a:pt x="476" y="151"/>
                  </a:lnTo>
                  <a:lnTo>
                    <a:pt x="478" y="153"/>
                  </a:lnTo>
                  <a:lnTo>
                    <a:pt x="480" y="156"/>
                  </a:lnTo>
                  <a:lnTo>
                    <a:pt x="480" y="159"/>
                  </a:lnTo>
                  <a:lnTo>
                    <a:pt x="482" y="161"/>
                  </a:lnTo>
                  <a:lnTo>
                    <a:pt x="484" y="165"/>
                  </a:lnTo>
                  <a:lnTo>
                    <a:pt x="484" y="168"/>
                  </a:lnTo>
                  <a:lnTo>
                    <a:pt x="486" y="170"/>
                  </a:lnTo>
                  <a:lnTo>
                    <a:pt x="488" y="174"/>
                  </a:lnTo>
                  <a:lnTo>
                    <a:pt x="490" y="177"/>
                  </a:lnTo>
                  <a:lnTo>
                    <a:pt x="490" y="179"/>
                  </a:lnTo>
                  <a:lnTo>
                    <a:pt x="492" y="182"/>
                  </a:lnTo>
                  <a:lnTo>
                    <a:pt x="494" y="186"/>
                  </a:lnTo>
                  <a:lnTo>
                    <a:pt x="494" y="188"/>
                  </a:lnTo>
                  <a:lnTo>
                    <a:pt x="496" y="191"/>
                  </a:lnTo>
                  <a:lnTo>
                    <a:pt x="498" y="195"/>
                  </a:lnTo>
                  <a:lnTo>
                    <a:pt x="500" y="197"/>
                  </a:lnTo>
                  <a:lnTo>
                    <a:pt x="500" y="200"/>
                  </a:lnTo>
                  <a:lnTo>
                    <a:pt x="502" y="203"/>
                  </a:lnTo>
                  <a:lnTo>
                    <a:pt x="504" y="206"/>
                  </a:lnTo>
                  <a:lnTo>
                    <a:pt x="506" y="209"/>
                  </a:lnTo>
                  <a:lnTo>
                    <a:pt x="506" y="211"/>
                  </a:lnTo>
                  <a:lnTo>
                    <a:pt x="509" y="214"/>
                  </a:lnTo>
                  <a:lnTo>
                    <a:pt x="511" y="217"/>
                  </a:lnTo>
                  <a:lnTo>
                    <a:pt x="511" y="220"/>
                  </a:lnTo>
                  <a:lnTo>
                    <a:pt x="513" y="223"/>
                  </a:lnTo>
                  <a:lnTo>
                    <a:pt x="515" y="226"/>
                  </a:lnTo>
                  <a:lnTo>
                    <a:pt x="517" y="229"/>
                  </a:lnTo>
                  <a:lnTo>
                    <a:pt x="517" y="231"/>
                  </a:lnTo>
                  <a:lnTo>
                    <a:pt x="519" y="233"/>
                  </a:lnTo>
                  <a:lnTo>
                    <a:pt x="521" y="236"/>
                  </a:lnTo>
                  <a:lnTo>
                    <a:pt x="521" y="239"/>
                  </a:lnTo>
                  <a:lnTo>
                    <a:pt x="523" y="242"/>
                  </a:lnTo>
                  <a:lnTo>
                    <a:pt x="525" y="244"/>
                  </a:lnTo>
                  <a:lnTo>
                    <a:pt x="527" y="246"/>
                  </a:lnTo>
                  <a:lnTo>
                    <a:pt x="527" y="250"/>
                  </a:lnTo>
                  <a:lnTo>
                    <a:pt x="529" y="252"/>
                  </a:lnTo>
                  <a:lnTo>
                    <a:pt x="531" y="254"/>
                  </a:lnTo>
                  <a:lnTo>
                    <a:pt x="533" y="256"/>
                  </a:lnTo>
                  <a:lnTo>
                    <a:pt x="533" y="260"/>
                  </a:lnTo>
                  <a:lnTo>
                    <a:pt x="535" y="262"/>
                  </a:lnTo>
                  <a:lnTo>
                    <a:pt x="537" y="264"/>
                  </a:lnTo>
                  <a:lnTo>
                    <a:pt x="537" y="266"/>
                  </a:lnTo>
                  <a:lnTo>
                    <a:pt x="539" y="268"/>
                  </a:lnTo>
                  <a:lnTo>
                    <a:pt x="541" y="271"/>
                  </a:lnTo>
                  <a:lnTo>
                    <a:pt x="543" y="273"/>
                  </a:lnTo>
                  <a:lnTo>
                    <a:pt x="543" y="275"/>
                  </a:lnTo>
                  <a:lnTo>
                    <a:pt x="545" y="277"/>
                  </a:lnTo>
                  <a:lnTo>
                    <a:pt x="547" y="280"/>
                  </a:lnTo>
                  <a:lnTo>
                    <a:pt x="547" y="282"/>
                  </a:lnTo>
                  <a:lnTo>
                    <a:pt x="549" y="284"/>
                  </a:lnTo>
                  <a:lnTo>
                    <a:pt x="551" y="286"/>
                  </a:lnTo>
                  <a:lnTo>
                    <a:pt x="553" y="288"/>
                  </a:lnTo>
                  <a:lnTo>
                    <a:pt x="553" y="291"/>
                  </a:lnTo>
                  <a:lnTo>
                    <a:pt x="555" y="292"/>
                  </a:lnTo>
                  <a:lnTo>
                    <a:pt x="558" y="294"/>
                  </a:lnTo>
                  <a:lnTo>
                    <a:pt x="560" y="296"/>
                  </a:lnTo>
                  <a:lnTo>
                    <a:pt x="560" y="298"/>
                  </a:lnTo>
                  <a:lnTo>
                    <a:pt x="562" y="299"/>
                  </a:lnTo>
                  <a:lnTo>
                    <a:pt x="564" y="302"/>
                  </a:lnTo>
                  <a:lnTo>
                    <a:pt x="564" y="304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70" y="308"/>
                  </a:lnTo>
                  <a:lnTo>
                    <a:pt x="570" y="310"/>
                  </a:lnTo>
                  <a:lnTo>
                    <a:pt x="572" y="312"/>
                  </a:lnTo>
                  <a:lnTo>
                    <a:pt x="574" y="314"/>
                  </a:lnTo>
                  <a:lnTo>
                    <a:pt x="574" y="315"/>
                  </a:lnTo>
                  <a:lnTo>
                    <a:pt x="576" y="317"/>
                  </a:lnTo>
                  <a:lnTo>
                    <a:pt x="578" y="318"/>
                  </a:lnTo>
                  <a:lnTo>
                    <a:pt x="580" y="320"/>
                  </a:lnTo>
                  <a:lnTo>
                    <a:pt x="580" y="321"/>
                  </a:lnTo>
                  <a:lnTo>
                    <a:pt x="582" y="322"/>
                  </a:lnTo>
                  <a:lnTo>
                    <a:pt x="584" y="324"/>
                  </a:lnTo>
                  <a:lnTo>
                    <a:pt x="586" y="326"/>
                  </a:lnTo>
                  <a:lnTo>
                    <a:pt x="586" y="327"/>
                  </a:lnTo>
                  <a:lnTo>
                    <a:pt x="588" y="328"/>
                  </a:lnTo>
                  <a:lnTo>
                    <a:pt x="590" y="329"/>
                  </a:lnTo>
                  <a:lnTo>
                    <a:pt x="590" y="331"/>
                  </a:lnTo>
                  <a:lnTo>
                    <a:pt x="592" y="332"/>
                  </a:lnTo>
                  <a:lnTo>
                    <a:pt x="595" y="333"/>
                  </a:lnTo>
                  <a:lnTo>
                    <a:pt x="597" y="335"/>
                  </a:lnTo>
                  <a:lnTo>
                    <a:pt x="597" y="336"/>
                  </a:lnTo>
                  <a:lnTo>
                    <a:pt x="599" y="337"/>
                  </a:lnTo>
                  <a:lnTo>
                    <a:pt x="601" y="338"/>
                  </a:lnTo>
                  <a:lnTo>
                    <a:pt x="601" y="339"/>
                  </a:lnTo>
                  <a:lnTo>
                    <a:pt x="603" y="340"/>
                  </a:lnTo>
                  <a:lnTo>
                    <a:pt x="605" y="341"/>
                  </a:lnTo>
                  <a:lnTo>
                    <a:pt x="607" y="342"/>
                  </a:lnTo>
                  <a:lnTo>
                    <a:pt x="607" y="343"/>
                  </a:lnTo>
                  <a:lnTo>
                    <a:pt x="609" y="345"/>
                  </a:lnTo>
                  <a:lnTo>
                    <a:pt x="611" y="346"/>
                  </a:lnTo>
                  <a:lnTo>
                    <a:pt x="611" y="347"/>
                  </a:lnTo>
                  <a:lnTo>
                    <a:pt x="613" y="347"/>
                  </a:lnTo>
                  <a:lnTo>
                    <a:pt x="615" y="348"/>
                  </a:lnTo>
                  <a:lnTo>
                    <a:pt x="617" y="349"/>
                  </a:lnTo>
                  <a:lnTo>
                    <a:pt x="617" y="350"/>
                  </a:lnTo>
                  <a:lnTo>
                    <a:pt x="619" y="351"/>
                  </a:lnTo>
                  <a:lnTo>
                    <a:pt x="621" y="351"/>
                  </a:lnTo>
                  <a:lnTo>
                    <a:pt x="623" y="352"/>
                  </a:lnTo>
                  <a:lnTo>
                    <a:pt x="623" y="353"/>
                  </a:lnTo>
                  <a:lnTo>
                    <a:pt x="625" y="354"/>
                  </a:lnTo>
                  <a:lnTo>
                    <a:pt x="627" y="354"/>
                  </a:lnTo>
                  <a:lnTo>
                    <a:pt x="627" y="356"/>
                  </a:lnTo>
                  <a:lnTo>
                    <a:pt x="629" y="356"/>
                  </a:lnTo>
                  <a:lnTo>
                    <a:pt x="632" y="357"/>
                  </a:lnTo>
                  <a:lnTo>
                    <a:pt x="634" y="358"/>
                  </a:lnTo>
                  <a:lnTo>
                    <a:pt x="636" y="359"/>
                  </a:lnTo>
                  <a:lnTo>
                    <a:pt x="638" y="359"/>
                  </a:lnTo>
                  <a:lnTo>
                    <a:pt x="638" y="360"/>
                  </a:lnTo>
                  <a:lnTo>
                    <a:pt x="640" y="361"/>
                  </a:lnTo>
                  <a:lnTo>
                    <a:pt x="642" y="361"/>
                  </a:lnTo>
                  <a:lnTo>
                    <a:pt x="644" y="362"/>
                  </a:lnTo>
                  <a:lnTo>
                    <a:pt x="646" y="363"/>
                  </a:lnTo>
                  <a:lnTo>
                    <a:pt x="648" y="363"/>
                  </a:lnTo>
                  <a:lnTo>
                    <a:pt x="650" y="363"/>
                  </a:lnTo>
                  <a:lnTo>
                    <a:pt x="650" y="364"/>
                  </a:lnTo>
                  <a:lnTo>
                    <a:pt x="652" y="364"/>
                  </a:lnTo>
                  <a:lnTo>
                    <a:pt x="654" y="366"/>
                  </a:lnTo>
                  <a:lnTo>
                    <a:pt x="656" y="367"/>
                  </a:lnTo>
                  <a:lnTo>
                    <a:pt x="658" y="367"/>
                  </a:lnTo>
                  <a:lnTo>
                    <a:pt x="660" y="367"/>
                  </a:lnTo>
                  <a:lnTo>
                    <a:pt x="660" y="368"/>
                  </a:lnTo>
                  <a:lnTo>
                    <a:pt x="662" y="368"/>
                  </a:lnTo>
                  <a:lnTo>
                    <a:pt x="664" y="368"/>
                  </a:lnTo>
                  <a:lnTo>
                    <a:pt x="664" y="369"/>
                  </a:lnTo>
                  <a:lnTo>
                    <a:pt x="666" y="369"/>
                  </a:lnTo>
                  <a:lnTo>
                    <a:pt x="669" y="369"/>
                  </a:lnTo>
                  <a:lnTo>
                    <a:pt x="671" y="370"/>
                  </a:lnTo>
                  <a:lnTo>
                    <a:pt x="673" y="370"/>
                  </a:lnTo>
                  <a:lnTo>
                    <a:pt x="675" y="370"/>
                  </a:lnTo>
                  <a:lnTo>
                    <a:pt x="677" y="371"/>
                  </a:lnTo>
                  <a:lnTo>
                    <a:pt x="679" y="371"/>
                  </a:lnTo>
                  <a:lnTo>
                    <a:pt x="681" y="371"/>
                  </a:lnTo>
                  <a:lnTo>
                    <a:pt x="681" y="372"/>
                  </a:lnTo>
                  <a:lnTo>
                    <a:pt x="683" y="372"/>
                  </a:lnTo>
                  <a:lnTo>
                    <a:pt x="685" y="372"/>
                  </a:lnTo>
                  <a:lnTo>
                    <a:pt x="687" y="372"/>
                  </a:lnTo>
                  <a:lnTo>
                    <a:pt x="689" y="372"/>
                  </a:lnTo>
                  <a:lnTo>
                    <a:pt x="691" y="373"/>
                  </a:lnTo>
                  <a:lnTo>
                    <a:pt x="693" y="373"/>
                  </a:lnTo>
                  <a:lnTo>
                    <a:pt x="695" y="373"/>
                  </a:lnTo>
                  <a:lnTo>
                    <a:pt x="697" y="373"/>
                  </a:lnTo>
                  <a:lnTo>
                    <a:pt x="699" y="373"/>
                  </a:lnTo>
                  <a:lnTo>
                    <a:pt x="701" y="374"/>
                  </a:lnTo>
                  <a:lnTo>
                    <a:pt x="703" y="374"/>
                  </a:lnTo>
                  <a:lnTo>
                    <a:pt x="706" y="374"/>
                  </a:lnTo>
                  <a:lnTo>
                    <a:pt x="708" y="374"/>
                  </a:lnTo>
                  <a:lnTo>
                    <a:pt x="710" y="374"/>
                  </a:lnTo>
                  <a:lnTo>
                    <a:pt x="712" y="374"/>
                  </a:lnTo>
                  <a:lnTo>
                    <a:pt x="713" y="374"/>
                  </a:lnTo>
                  <a:lnTo>
                    <a:pt x="715" y="374"/>
                  </a:lnTo>
                  <a:lnTo>
                    <a:pt x="718" y="374"/>
                  </a:lnTo>
                  <a:lnTo>
                    <a:pt x="718" y="376"/>
                  </a:lnTo>
                  <a:lnTo>
                    <a:pt x="720" y="376"/>
                  </a:lnTo>
                  <a:lnTo>
                    <a:pt x="722" y="376"/>
                  </a:lnTo>
                  <a:lnTo>
                    <a:pt x="724" y="376"/>
                  </a:lnTo>
                  <a:lnTo>
                    <a:pt x="726" y="376"/>
                  </a:lnTo>
                  <a:lnTo>
                    <a:pt x="728" y="376"/>
                  </a:lnTo>
                  <a:lnTo>
                    <a:pt x="730" y="376"/>
                  </a:lnTo>
                  <a:lnTo>
                    <a:pt x="732" y="376"/>
                  </a:lnTo>
                  <a:lnTo>
                    <a:pt x="734" y="376"/>
                  </a:lnTo>
                  <a:lnTo>
                    <a:pt x="736" y="376"/>
                  </a:lnTo>
                  <a:lnTo>
                    <a:pt x="738" y="376"/>
                  </a:lnTo>
                  <a:lnTo>
                    <a:pt x="740" y="376"/>
                  </a:lnTo>
                  <a:lnTo>
                    <a:pt x="742" y="376"/>
                  </a:lnTo>
                  <a:lnTo>
                    <a:pt x="744" y="376"/>
                  </a:lnTo>
                  <a:lnTo>
                    <a:pt x="746" y="376"/>
                  </a:lnTo>
                  <a:lnTo>
                    <a:pt x="748" y="376"/>
                  </a:lnTo>
                  <a:lnTo>
                    <a:pt x="750" y="376"/>
                  </a:lnTo>
                  <a:lnTo>
                    <a:pt x="752" y="376"/>
                  </a:lnTo>
                  <a:lnTo>
                    <a:pt x="755" y="376"/>
                  </a:lnTo>
                </a:path>
              </a:pathLst>
            </a:custGeom>
            <a:noFill/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21440" y="820800"/>
              <a:ext cx="1107360" cy="598320"/>
            </a:xfrm>
            <a:custGeom>
              <a:avLst/>
              <a:gdLst/>
              <a:ahLst/>
              <a:rect l="l" t="t" r="r" b="b"/>
              <a:pathLst>
                <a:path w="756" h="377">
                  <a:moveTo>
                    <a:pt x="755" y="0"/>
                  </a:moveTo>
                  <a:lnTo>
                    <a:pt x="753" y="0"/>
                  </a:lnTo>
                  <a:lnTo>
                    <a:pt x="751" y="0"/>
                  </a:lnTo>
                  <a:lnTo>
                    <a:pt x="749" y="0"/>
                  </a:lnTo>
                  <a:lnTo>
                    <a:pt x="747" y="0"/>
                  </a:lnTo>
                  <a:lnTo>
                    <a:pt x="745" y="0"/>
                  </a:lnTo>
                  <a:lnTo>
                    <a:pt x="743" y="0"/>
                  </a:lnTo>
                  <a:lnTo>
                    <a:pt x="741" y="0"/>
                  </a:lnTo>
                  <a:lnTo>
                    <a:pt x="739" y="0"/>
                  </a:lnTo>
                  <a:lnTo>
                    <a:pt x="737" y="0"/>
                  </a:lnTo>
                  <a:lnTo>
                    <a:pt x="735" y="0"/>
                  </a:lnTo>
                  <a:lnTo>
                    <a:pt x="733" y="0"/>
                  </a:lnTo>
                  <a:lnTo>
                    <a:pt x="731" y="0"/>
                  </a:lnTo>
                  <a:lnTo>
                    <a:pt x="729" y="0"/>
                  </a:lnTo>
                  <a:lnTo>
                    <a:pt x="727" y="0"/>
                  </a:lnTo>
                  <a:lnTo>
                    <a:pt x="725" y="0"/>
                  </a:lnTo>
                  <a:lnTo>
                    <a:pt x="723" y="0"/>
                  </a:lnTo>
                  <a:lnTo>
                    <a:pt x="721" y="0"/>
                  </a:lnTo>
                  <a:lnTo>
                    <a:pt x="719" y="0"/>
                  </a:lnTo>
                  <a:lnTo>
                    <a:pt x="716" y="0"/>
                  </a:lnTo>
                  <a:lnTo>
                    <a:pt x="714" y="0"/>
                  </a:lnTo>
                  <a:lnTo>
                    <a:pt x="712" y="0"/>
                  </a:lnTo>
                  <a:lnTo>
                    <a:pt x="710" y="0"/>
                  </a:lnTo>
                  <a:lnTo>
                    <a:pt x="708" y="0"/>
                  </a:lnTo>
                  <a:lnTo>
                    <a:pt x="706" y="0"/>
                  </a:lnTo>
                  <a:lnTo>
                    <a:pt x="704" y="0"/>
                  </a:lnTo>
                  <a:lnTo>
                    <a:pt x="702" y="0"/>
                  </a:lnTo>
                  <a:lnTo>
                    <a:pt x="700" y="0"/>
                  </a:lnTo>
                  <a:lnTo>
                    <a:pt x="698" y="0"/>
                  </a:lnTo>
                  <a:lnTo>
                    <a:pt x="696" y="0"/>
                  </a:lnTo>
                  <a:lnTo>
                    <a:pt x="694" y="0"/>
                  </a:lnTo>
                  <a:lnTo>
                    <a:pt x="692" y="0"/>
                  </a:lnTo>
                  <a:lnTo>
                    <a:pt x="690" y="0"/>
                  </a:lnTo>
                  <a:lnTo>
                    <a:pt x="688" y="0"/>
                  </a:lnTo>
                  <a:lnTo>
                    <a:pt x="686" y="0"/>
                  </a:lnTo>
                  <a:lnTo>
                    <a:pt x="684" y="0"/>
                  </a:lnTo>
                  <a:lnTo>
                    <a:pt x="682" y="0"/>
                  </a:lnTo>
                  <a:lnTo>
                    <a:pt x="679" y="0"/>
                  </a:lnTo>
                  <a:lnTo>
                    <a:pt x="677" y="0"/>
                  </a:lnTo>
                  <a:lnTo>
                    <a:pt x="675" y="0"/>
                  </a:lnTo>
                  <a:lnTo>
                    <a:pt x="673" y="0"/>
                  </a:lnTo>
                  <a:lnTo>
                    <a:pt x="671" y="0"/>
                  </a:lnTo>
                  <a:lnTo>
                    <a:pt x="669" y="0"/>
                  </a:lnTo>
                  <a:lnTo>
                    <a:pt x="667" y="0"/>
                  </a:lnTo>
                  <a:lnTo>
                    <a:pt x="665" y="0"/>
                  </a:lnTo>
                  <a:lnTo>
                    <a:pt x="663" y="0"/>
                  </a:lnTo>
                  <a:lnTo>
                    <a:pt x="661" y="0"/>
                  </a:lnTo>
                  <a:lnTo>
                    <a:pt x="659" y="0"/>
                  </a:lnTo>
                  <a:lnTo>
                    <a:pt x="657" y="0"/>
                  </a:lnTo>
                  <a:lnTo>
                    <a:pt x="655" y="0"/>
                  </a:lnTo>
                  <a:lnTo>
                    <a:pt x="653" y="0"/>
                  </a:lnTo>
                  <a:lnTo>
                    <a:pt x="651" y="0"/>
                  </a:lnTo>
                  <a:lnTo>
                    <a:pt x="649" y="0"/>
                  </a:lnTo>
                  <a:lnTo>
                    <a:pt x="647" y="0"/>
                  </a:lnTo>
                  <a:lnTo>
                    <a:pt x="645" y="0"/>
                  </a:lnTo>
                  <a:lnTo>
                    <a:pt x="642" y="0"/>
                  </a:lnTo>
                  <a:lnTo>
                    <a:pt x="640" y="0"/>
                  </a:lnTo>
                  <a:lnTo>
                    <a:pt x="638" y="0"/>
                  </a:lnTo>
                  <a:lnTo>
                    <a:pt x="636" y="0"/>
                  </a:lnTo>
                  <a:lnTo>
                    <a:pt x="634" y="0"/>
                  </a:lnTo>
                  <a:lnTo>
                    <a:pt x="632" y="0"/>
                  </a:lnTo>
                  <a:lnTo>
                    <a:pt x="630" y="0"/>
                  </a:lnTo>
                  <a:lnTo>
                    <a:pt x="628" y="0"/>
                  </a:lnTo>
                  <a:lnTo>
                    <a:pt x="626" y="0"/>
                  </a:lnTo>
                  <a:lnTo>
                    <a:pt x="624" y="0"/>
                  </a:lnTo>
                  <a:lnTo>
                    <a:pt x="622" y="0"/>
                  </a:lnTo>
                  <a:lnTo>
                    <a:pt x="620" y="0"/>
                  </a:lnTo>
                  <a:lnTo>
                    <a:pt x="618" y="0"/>
                  </a:lnTo>
                  <a:lnTo>
                    <a:pt x="616" y="0"/>
                  </a:lnTo>
                  <a:lnTo>
                    <a:pt x="614" y="0"/>
                  </a:lnTo>
                  <a:lnTo>
                    <a:pt x="612" y="0"/>
                  </a:lnTo>
                  <a:lnTo>
                    <a:pt x="610" y="0"/>
                  </a:lnTo>
                  <a:lnTo>
                    <a:pt x="608" y="0"/>
                  </a:lnTo>
                  <a:lnTo>
                    <a:pt x="606" y="0"/>
                  </a:lnTo>
                  <a:lnTo>
                    <a:pt x="604" y="0"/>
                  </a:lnTo>
                  <a:lnTo>
                    <a:pt x="602" y="0"/>
                  </a:lnTo>
                  <a:lnTo>
                    <a:pt x="600" y="0"/>
                  </a:lnTo>
                  <a:lnTo>
                    <a:pt x="598" y="0"/>
                  </a:lnTo>
                  <a:lnTo>
                    <a:pt x="596" y="0"/>
                  </a:lnTo>
                  <a:lnTo>
                    <a:pt x="593" y="0"/>
                  </a:lnTo>
                  <a:lnTo>
                    <a:pt x="591" y="0"/>
                  </a:lnTo>
                  <a:lnTo>
                    <a:pt x="589" y="0"/>
                  </a:lnTo>
                  <a:lnTo>
                    <a:pt x="587" y="0"/>
                  </a:lnTo>
                  <a:lnTo>
                    <a:pt x="585" y="0"/>
                  </a:lnTo>
                  <a:lnTo>
                    <a:pt x="583" y="0"/>
                  </a:lnTo>
                  <a:lnTo>
                    <a:pt x="581" y="0"/>
                  </a:lnTo>
                  <a:lnTo>
                    <a:pt x="579" y="0"/>
                  </a:lnTo>
                  <a:lnTo>
                    <a:pt x="577" y="0"/>
                  </a:lnTo>
                  <a:lnTo>
                    <a:pt x="575" y="0"/>
                  </a:lnTo>
                  <a:lnTo>
                    <a:pt x="573" y="0"/>
                  </a:lnTo>
                  <a:lnTo>
                    <a:pt x="571" y="0"/>
                  </a:lnTo>
                  <a:lnTo>
                    <a:pt x="569" y="0"/>
                  </a:lnTo>
                  <a:lnTo>
                    <a:pt x="567" y="0"/>
                  </a:lnTo>
                  <a:lnTo>
                    <a:pt x="565" y="0"/>
                  </a:lnTo>
                  <a:lnTo>
                    <a:pt x="563" y="0"/>
                  </a:lnTo>
                  <a:lnTo>
                    <a:pt x="561" y="0"/>
                  </a:lnTo>
                  <a:lnTo>
                    <a:pt x="559" y="0"/>
                  </a:lnTo>
                  <a:lnTo>
                    <a:pt x="556" y="0"/>
                  </a:lnTo>
                  <a:lnTo>
                    <a:pt x="554" y="0"/>
                  </a:lnTo>
                  <a:lnTo>
                    <a:pt x="552" y="0"/>
                  </a:lnTo>
                  <a:lnTo>
                    <a:pt x="550" y="0"/>
                  </a:lnTo>
                  <a:lnTo>
                    <a:pt x="548" y="0"/>
                  </a:lnTo>
                  <a:lnTo>
                    <a:pt x="546" y="0"/>
                  </a:lnTo>
                  <a:lnTo>
                    <a:pt x="544" y="0"/>
                  </a:lnTo>
                  <a:lnTo>
                    <a:pt x="542" y="0"/>
                  </a:lnTo>
                  <a:lnTo>
                    <a:pt x="540" y="0"/>
                  </a:lnTo>
                  <a:lnTo>
                    <a:pt x="538" y="0"/>
                  </a:lnTo>
                  <a:lnTo>
                    <a:pt x="536" y="0"/>
                  </a:lnTo>
                  <a:lnTo>
                    <a:pt x="534" y="0"/>
                  </a:lnTo>
                  <a:lnTo>
                    <a:pt x="532" y="0"/>
                  </a:lnTo>
                  <a:lnTo>
                    <a:pt x="530" y="0"/>
                  </a:lnTo>
                  <a:lnTo>
                    <a:pt x="528" y="0"/>
                  </a:lnTo>
                  <a:lnTo>
                    <a:pt x="526" y="0"/>
                  </a:lnTo>
                  <a:lnTo>
                    <a:pt x="524" y="1"/>
                  </a:lnTo>
                  <a:lnTo>
                    <a:pt x="522" y="1"/>
                  </a:lnTo>
                  <a:lnTo>
                    <a:pt x="519" y="1"/>
                  </a:lnTo>
                  <a:lnTo>
                    <a:pt x="517" y="1"/>
                  </a:lnTo>
                  <a:lnTo>
                    <a:pt x="515" y="1"/>
                  </a:lnTo>
                  <a:lnTo>
                    <a:pt x="513" y="1"/>
                  </a:lnTo>
                  <a:lnTo>
                    <a:pt x="511" y="1"/>
                  </a:lnTo>
                  <a:lnTo>
                    <a:pt x="509" y="1"/>
                  </a:lnTo>
                  <a:lnTo>
                    <a:pt x="507" y="1"/>
                  </a:lnTo>
                  <a:lnTo>
                    <a:pt x="505" y="1"/>
                  </a:lnTo>
                  <a:lnTo>
                    <a:pt x="503" y="1"/>
                  </a:lnTo>
                  <a:lnTo>
                    <a:pt x="501" y="1"/>
                  </a:lnTo>
                  <a:lnTo>
                    <a:pt x="499" y="1"/>
                  </a:lnTo>
                  <a:lnTo>
                    <a:pt x="497" y="1"/>
                  </a:lnTo>
                  <a:lnTo>
                    <a:pt x="495" y="1"/>
                  </a:lnTo>
                  <a:lnTo>
                    <a:pt x="493" y="1"/>
                  </a:lnTo>
                  <a:lnTo>
                    <a:pt x="491" y="1"/>
                  </a:lnTo>
                  <a:lnTo>
                    <a:pt x="489" y="1"/>
                  </a:lnTo>
                  <a:lnTo>
                    <a:pt x="487" y="1"/>
                  </a:lnTo>
                  <a:lnTo>
                    <a:pt x="485" y="2"/>
                  </a:lnTo>
                  <a:lnTo>
                    <a:pt x="482" y="2"/>
                  </a:lnTo>
                  <a:lnTo>
                    <a:pt x="480" y="2"/>
                  </a:lnTo>
                  <a:lnTo>
                    <a:pt x="478" y="2"/>
                  </a:lnTo>
                  <a:lnTo>
                    <a:pt x="476" y="2"/>
                  </a:lnTo>
                  <a:lnTo>
                    <a:pt x="474" y="2"/>
                  </a:lnTo>
                  <a:lnTo>
                    <a:pt x="472" y="2"/>
                  </a:lnTo>
                  <a:lnTo>
                    <a:pt x="470" y="2"/>
                  </a:lnTo>
                  <a:lnTo>
                    <a:pt x="468" y="2"/>
                  </a:lnTo>
                  <a:lnTo>
                    <a:pt x="466" y="3"/>
                  </a:lnTo>
                  <a:lnTo>
                    <a:pt x="464" y="3"/>
                  </a:lnTo>
                  <a:lnTo>
                    <a:pt x="462" y="3"/>
                  </a:lnTo>
                  <a:lnTo>
                    <a:pt x="460" y="3"/>
                  </a:lnTo>
                  <a:lnTo>
                    <a:pt x="458" y="3"/>
                  </a:lnTo>
                  <a:lnTo>
                    <a:pt x="456" y="3"/>
                  </a:lnTo>
                  <a:lnTo>
                    <a:pt x="454" y="5"/>
                  </a:lnTo>
                  <a:lnTo>
                    <a:pt x="452" y="5"/>
                  </a:lnTo>
                  <a:lnTo>
                    <a:pt x="450" y="5"/>
                  </a:lnTo>
                  <a:lnTo>
                    <a:pt x="448" y="5"/>
                  </a:lnTo>
                  <a:lnTo>
                    <a:pt x="445" y="5"/>
                  </a:lnTo>
                  <a:lnTo>
                    <a:pt x="443" y="5"/>
                  </a:lnTo>
                  <a:lnTo>
                    <a:pt x="441" y="5"/>
                  </a:lnTo>
                  <a:lnTo>
                    <a:pt x="439" y="5"/>
                  </a:lnTo>
                  <a:lnTo>
                    <a:pt x="437" y="5"/>
                  </a:lnTo>
                  <a:lnTo>
                    <a:pt x="435" y="7"/>
                  </a:lnTo>
                  <a:lnTo>
                    <a:pt x="433" y="7"/>
                  </a:lnTo>
                  <a:lnTo>
                    <a:pt x="431" y="7"/>
                  </a:lnTo>
                  <a:lnTo>
                    <a:pt x="429" y="8"/>
                  </a:lnTo>
                  <a:lnTo>
                    <a:pt x="427" y="8"/>
                  </a:lnTo>
                  <a:lnTo>
                    <a:pt x="425" y="8"/>
                  </a:lnTo>
                  <a:lnTo>
                    <a:pt x="423" y="9"/>
                  </a:lnTo>
                  <a:lnTo>
                    <a:pt x="421" y="9"/>
                  </a:lnTo>
                  <a:lnTo>
                    <a:pt x="419" y="9"/>
                  </a:lnTo>
                  <a:lnTo>
                    <a:pt x="419" y="10"/>
                  </a:lnTo>
                  <a:lnTo>
                    <a:pt x="417" y="10"/>
                  </a:lnTo>
                  <a:lnTo>
                    <a:pt x="415" y="10"/>
                  </a:lnTo>
                  <a:lnTo>
                    <a:pt x="415" y="11"/>
                  </a:lnTo>
                  <a:lnTo>
                    <a:pt x="413" y="11"/>
                  </a:lnTo>
                  <a:lnTo>
                    <a:pt x="411" y="11"/>
                  </a:lnTo>
                  <a:lnTo>
                    <a:pt x="409" y="12"/>
                  </a:lnTo>
                  <a:lnTo>
                    <a:pt x="407" y="12"/>
                  </a:lnTo>
                  <a:lnTo>
                    <a:pt x="405" y="13"/>
                  </a:lnTo>
                  <a:lnTo>
                    <a:pt x="403" y="14"/>
                  </a:lnTo>
                  <a:lnTo>
                    <a:pt x="401" y="14"/>
                  </a:lnTo>
                  <a:lnTo>
                    <a:pt x="399" y="15"/>
                  </a:lnTo>
                  <a:lnTo>
                    <a:pt x="396" y="16"/>
                  </a:lnTo>
                  <a:lnTo>
                    <a:pt x="394" y="16"/>
                  </a:lnTo>
                  <a:lnTo>
                    <a:pt x="392" y="18"/>
                  </a:lnTo>
                  <a:lnTo>
                    <a:pt x="390" y="19"/>
                  </a:lnTo>
                  <a:lnTo>
                    <a:pt x="388" y="19"/>
                  </a:lnTo>
                  <a:lnTo>
                    <a:pt x="388" y="20"/>
                  </a:lnTo>
                  <a:lnTo>
                    <a:pt x="386" y="20"/>
                  </a:lnTo>
                  <a:lnTo>
                    <a:pt x="384" y="21"/>
                  </a:lnTo>
                  <a:lnTo>
                    <a:pt x="382" y="22"/>
                  </a:lnTo>
                  <a:lnTo>
                    <a:pt x="380" y="23"/>
                  </a:lnTo>
                  <a:lnTo>
                    <a:pt x="378" y="24"/>
                  </a:lnTo>
                  <a:lnTo>
                    <a:pt x="378" y="25"/>
                  </a:lnTo>
                  <a:lnTo>
                    <a:pt x="376" y="25"/>
                  </a:lnTo>
                  <a:lnTo>
                    <a:pt x="374" y="26"/>
                  </a:lnTo>
                  <a:lnTo>
                    <a:pt x="372" y="28"/>
                  </a:lnTo>
                  <a:lnTo>
                    <a:pt x="372" y="29"/>
                  </a:lnTo>
                  <a:lnTo>
                    <a:pt x="370" y="30"/>
                  </a:lnTo>
                  <a:lnTo>
                    <a:pt x="368" y="31"/>
                  </a:lnTo>
                  <a:lnTo>
                    <a:pt x="366" y="31"/>
                  </a:lnTo>
                  <a:lnTo>
                    <a:pt x="366" y="32"/>
                  </a:lnTo>
                  <a:lnTo>
                    <a:pt x="364" y="33"/>
                  </a:lnTo>
                  <a:lnTo>
                    <a:pt x="362" y="34"/>
                  </a:lnTo>
                  <a:lnTo>
                    <a:pt x="362" y="35"/>
                  </a:lnTo>
                  <a:lnTo>
                    <a:pt x="360" y="36"/>
                  </a:lnTo>
                  <a:lnTo>
                    <a:pt x="357" y="37"/>
                  </a:lnTo>
                  <a:lnTo>
                    <a:pt x="355" y="40"/>
                  </a:lnTo>
                  <a:lnTo>
                    <a:pt x="355" y="41"/>
                  </a:lnTo>
                  <a:lnTo>
                    <a:pt x="353" y="42"/>
                  </a:lnTo>
                  <a:lnTo>
                    <a:pt x="351" y="43"/>
                  </a:lnTo>
                  <a:lnTo>
                    <a:pt x="351" y="44"/>
                  </a:lnTo>
                  <a:lnTo>
                    <a:pt x="349" y="46"/>
                  </a:lnTo>
                  <a:lnTo>
                    <a:pt x="347" y="47"/>
                  </a:lnTo>
                  <a:lnTo>
                    <a:pt x="345" y="49"/>
                  </a:lnTo>
                  <a:lnTo>
                    <a:pt x="345" y="50"/>
                  </a:lnTo>
                  <a:lnTo>
                    <a:pt x="343" y="52"/>
                  </a:lnTo>
                  <a:lnTo>
                    <a:pt x="341" y="53"/>
                  </a:lnTo>
                  <a:lnTo>
                    <a:pt x="339" y="55"/>
                  </a:lnTo>
                  <a:lnTo>
                    <a:pt x="339" y="56"/>
                  </a:lnTo>
                  <a:lnTo>
                    <a:pt x="337" y="58"/>
                  </a:lnTo>
                  <a:lnTo>
                    <a:pt x="335" y="60"/>
                  </a:lnTo>
                  <a:lnTo>
                    <a:pt x="335" y="62"/>
                  </a:lnTo>
                  <a:lnTo>
                    <a:pt x="333" y="63"/>
                  </a:lnTo>
                  <a:lnTo>
                    <a:pt x="331" y="65"/>
                  </a:lnTo>
                  <a:lnTo>
                    <a:pt x="329" y="67"/>
                  </a:lnTo>
                  <a:lnTo>
                    <a:pt x="329" y="70"/>
                  </a:lnTo>
                  <a:lnTo>
                    <a:pt x="327" y="71"/>
                  </a:lnTo>
                  <a:lnTo>
                    <a:pt x="325" y="73"/>
                  </a:lnTo>
                  <a:lnTo>
                    <a:pt x="325" y="75"/>
                  </a:lnTo>
                  <a:lnTo>
                    <a:pt x="323" y="77"/>
                  </a:lnTo>
                  <a:lnTo>
                    <a:pt x="320" y="79"/>
                  </a:lnTo>
                  <a:lnTo>
                    <a:pt x="318" y="82"/>
                  </a:lnTo>
                  <a:lnTo>
                    <a:pt x="318" y="84"/>
                  </a:lnTo>
                  <a:lnTo>
                    <a:pt x="316" y="86"/>
                  </a:lnTo>
                  <a:lnTo>
                    <a:pt x="314" y="88"/>
                  </a:lnTo>
                  <a:lnTo>
                    <a:pt x="312" y="90"/>
                  </a:lnTo>
                  <a:lnTo>
                    <a:pt x="312" y="93"/>
                  </a:lnTo>
                  <a:lnTo>
                    <a:pt x="310" y="95"/>
                  </a:lnTo>
                  <a:lnTo>
                    <a:pt x="308" y="97"/>
                  </a:lnTo>
                  <a:lnTo>
                    <a:pt x="308" y="99"/>
                  </a:lnTo>
                  <a:lnTo>
                    <a:pt x="306" y="103"/>
                  </a:lnTo>
                  <a:lnTo>
                    <a:pt x="304" y="105"/>
                  </a:lnTo>
                  <a:lnTo>
                    <a:pt x="302" y="107"/>
                  </a:lnTo>
                  <a:lnTo>
                    <a:pt x="302" y="109"/>
                  </a:lnTo>
                  <a:lnTo>
                    <a:pt x="300" y="112"/>
                  </a:lnTo>
                  <a:lnTo>
                    <a:pt x="298" y="115"/>
                  </a:lnTo>
                  <a:lnTo>
                    <a:pt x="298" y="118"/>
                  </a:lnTo>
                  <a:lnTo>
                    <a:pt x="296" y="120"/>
                  </a:lnTo>
                  <a:lnTo>
                    <a:pt x="294" y="122"/>
                  </a:lnTo>
                  <a:lnTo>
                    <a:pt x="292" y="126"/>
                  </a:lnTo>
                  <a:lnTo>
                    <a:pt x="292" y="128"/>
                  </a:lnTo>
                  <a:lnTo>
                    <a:pt x="290" y="131"/>
                  </a:lnTo>
                  <a:lnTo>
                    <a:pt x="288" y="133"/>
                  </a:lnTo>
                  <a:lnTo>
                    <a:pt x="288" y="137"/>
                  </a:lnTo>
                  <a:lnTo>
                    <a:pt x="286" y="139"/>
                  </a:lnTo>
                  <a:lnTo>
                    <a:pt x="283" y="142"/>
                  </a:lnTo>
                  <a:lnTo>
                    <a:pt x="281" y="146"/>
                  </a:lnTo>
                  <a:lnTo>
                    <a:pt x="281" y="148"/>
                  </a:lnTo>
                  <a:lnTo>
                    <a:pt x="279" y="151"/>
                  </a:lnTo>
                  <a:lnTo>
                    <a:pt x="277" y="153"/>
                  </a:lnTo>
                  <a:lnTo>
                    <a:pt x="275" y="157"/>
                  </a:lnTo>
                  <a:lnTo>
                    <a:pt x="275" y="160"/>
                  </a:lnTo>
                  <a:lnTo>
                    <a:pt x="273" y="162"/>
                  </a:lnTo>
                  <a:lnTo>
                    <a:pt x="271" y="165"/>
                  </a:lnTo>
                  <a:lnTo>
                    <a:pt x="271" y="169"/>
                  </a:lnTo>
                  <a:lnTo>
                    <a:pt x="269" y="171"/>
                  </a:lnTo>
                  <a:lnTo>
                    <a:pt x="267" y="174"/>
                  </a:lnTo>
                  <a:lnTo>
                    <a:pt x="265" y="177"/>
                  </a:lnTo>
                  <a:lnTo>
                    <a:pt x="265" y="180"/>
                  </a:lnTo>
                  <a:lnTo>
                    <a:pt x="263" y="183"/>
                  </a:lnTo>
                  <a:lnTo>
                    <a:pt x="261" y="186"/>
                  </a:lnTo>
                  <a:lnTo>
                    <a:pt x="261" y="189"/>
                  </a:lnTo>
                  <a:lnTo>
                    <a:pt x="259" y="192"/>
                  </a:lnTo>
                  <a:lnTo>
                    <a:pt x="257" y="195"/>
                  </a:lnTo>
                  <a:lnTo>
                    <a:pt x="255" y="197"/>
                  </a:lnTo>
                  <a:lnTo>
                    <a:pt x="255" y="201"/>
                  </a:lnTo>
                  <a:lnTo>
                    <a:pt x="253" y="204"/>
                  </a:lnTo>
                  <a:lnTo>
                    <a:pt x="251" y="206"/>
                  </a:lnTo>
                  <a:lnTo>
                    <a:pt x="249" y="210"/>
                  </a:lnTo>
                  <a:lnTo>
                    <a:pt x="249" y="212"/>
                  </a:lnTo>
                  <a:lnTo>
                    <a:pt x="246" y="215"/>
                  </a:lnTo>
                  <a:lnTo>
                    <a:pt x="244" y="217"/>
                  </a:lnTo>
                  <a:lnTo>
                    <a:pt x="244" y="221"/>
                  </a:lnTo>
                  <a:lnTo>
                    <a:pt x="242" y="224"/>
                  </a:lnTo>
                  <a:lnTo>
                    <a:pt x="240" y="226"/>
                  </a:lnTo>
                  <a:lnTo>
                    <a:pt x="238" y="229"/>
                  </a:lnTo>
                  <a:lnTo>
                    <a:pt x="238" y="232"/>
                  </a:lnTo>
                  <a:lnTo>
                    <a:pt x="236" y="234"/>
                  </a:lnTo>
                  <a:lnTo>
                    <a:pt x="234" y="237"/>
                  </a:lnTo>
                  <a:lnTo>
                    <a:pt x="234" y="239"/>
                  </a:lnTo>
                  <a:lnTo>
                    <a:pt x="232" y="243"/>
                  </a:lnTo>
                  <a:lnTo>
                    <a:pt x="230" y="245"/>
                  </a:lnTo>
                  <a:lnTo>
                    <a:pt x="228" y="247"/>
                  </a:lnTo>
                  <a:lnTo>
                    <a:pt x="228" y="250"/>
                  </a:lnTo>
                  <a:lnTo>
                    <a:pt x="226" y="252"/>
                  </a:lnTo>
                  <a:lnTo>
                    <a:pt x="224" y="255"/>
                  </a:lnTo>
                  <a:lnTo>
                    <a:pt x="222" y="257"/>
                  </a:lnTo>
                  <a:lnTo>
                    <a:pt x="222" y="260"/>
                  </a:lnTo>
                  <a:lnTo>
                    <a:pt x="220" y="262"/>
                  </a:lnTo>
                  <a:lnTo>
                    <a:pt x="218" y="265"/>
                  </a:lnTo>
                  <a:lnTo>
                    <a:pt x="218" y="267"/>
                  </a:lnTo>
                  <a:lnTo>
                    <a:pt x="216" y="269"/>
                  </a:lnTo>
                  <a:lnTo>
                    <a:pt x="214" y="271"/>
                  </a:lnTo>
                  <a:lnTo>
                    <a:pt x="212" y="273"/>
                  </a:lnTo>
                  <a:lnTo>
                    <a:pt x="212" y="276"/>
                  </a:lnTo>
                  <a:lnTo>
                    <a:pt x="210" y="278"/>
                  </a:lnTo>
                  <a:lnTo>
                    <a:pt x="208" y="280"/>
                  </a:lnTo>
                  <a:lnTo>
                    <a:pt x="208" y="282"/>
                  </a:lnTo>
                  <a:lnTo>
                    <a:pt x="206" y="285"/>
                  </a:lnTo>
                  <a:lnTo>
                    <a:pt x="204" y="287"/>
                  </a:lnTo>
                  <a:lnTo>
                    <a:pt x="202" y="289"/>
                  </a:lnTo>
                  <a:lnTo>
                    <a:pt x="202" y="291"/>
                  </a:lnTo>
                  <a:lnTo>
                    <a:pt x="200" y="292"/>
                  </a:lnTo>
                  <a:lnTo>
                    <a:pt x="197" y="294"/>
                  </a:lnTo>
                  <a:lnTo>
                    <a:pt x="195" y="297"/>
                  </a:lnTo>
                  <a:lnTo>
                    <a:pt x="195" y="299"/>
                  </a:lnTo>
                  <a:lnTo>
                    <a:pt x="193" y="300"/>
                  </a:lnTo>
                  <a:lnTo>
                    <a:pt x="191" y="302"/>
                  </a:lnTo>
                  <a:lnTo>
                    <a:pt x="191" y="304"/>
                  </a:lnTo>
                  <a:lnTo>
                    <a:pt x="189" y="306"/>
                  </a:lnTo>
                  <a:lnTo>
                    <a:pt x="187" y="308"/>
                  </a:lnTo>
                  <a:lnTo>
                    <a:pt x="185" y="309"/>
                  </a:lnTo>
                  <a:lnTo>
                    <a:pt x="185" y="311"/>
                  </a:lnTo>
                  <a:lnTo>
                    <a:pt x="183" y="312"/>
                  </a:lnTo>
                  <a:lnTo>
                    <a:pt x="181" y="314"/>
                  </a:lnTo>
                  <a:lnTo>
                    <a:pt x="181" y="315"/>
                  </a:lnTo>
                  <a:lnTo>
                    <a:pt x="179" y="318"/>
                  </a:lnTo>
                  <a:lnTo>
                    <a:pt x="177" y="319"/>
                  </a:lnTo>
                  <a:lnTo>
                    <a:pt x="175" y="321"/>
                  </a:lnTo>
                  <a:lnTo>
                    <a:pt x="175" y="322"/>
                  </a:lnTo>
                  <a:lnTo>
                    <a:pt x="173" y="323"/>
                  </a:lnTo>
                  <a:lnTo>
                    <a:pt x="171" y="324"/>
                  </a:lnTo>
                  <a:lnTo>
                    <a:pt x="169" y="326"/>
                  </a:lnTo>
                  <a:lnTo>
                    <a:pt x="169" y="327"/>
                  </a:lnTo>
                  <a:lnTo>
                    <a:pt x="167" y="329"/>
                  </a:lnTo>
                  <a:lnTo>
                    <a:pt x="165" y="330"/>
                  </a:lnTo>
                  <a:lnTo>
                    <a:pt x="165" y="332"/>
                  </a:lnTo>
                  <a:lnTo>
                    <a:pt x="163" y="333"/>
                  </a:lnTo>
                  <a:lnTo>
                    <a:pt x="160" y="334"/>
                  </a:lnTo>
                  <a:lnTo>
                    <a:pt x="158" y="335"/>
                  </a:lnTo>
                  <a:lnTo>
                    <a:pt x="158" y="336"/>
                  </a:lnTo>
                  <a:lnTo>
                    <a:pt x="156" y="337"/>
                  </a:lnTo>
                  <a:lnTo>
                    <a:pt x="154" y="339"/>
                  </a:lnTo>
                  <a:lnTo>
                    <a:pt x="154" y="340"/>
                  </a:lnTo>
                  <a:lnTo>
                    <a:pt x="152" y="341"/>
                  </a:lnTo>
                  <a:lnTo>
                    <a:pt x="150" y="342"/>
                  </a:lnTo>
                  <a:lnTo>
                    <a:pt x="148" y="343"/>
                  </a:lnTo>
                  <a:lnTo>
                    <a:pt x="148" y="344"/>
                  </a:lnTo>
                  <a:lnTo>
                    <a:pt x="146" y="345"/>
                  </a:lnTo>
                  <a:lnTo>
                    <a:pt x="144" y="346"/>
                  </a:lnTo>
                  <a:lnTo>
                    <a:pt x="144" y="347"/>
                  </a:lnTo>
                  <a:lnTo>
                    <a:pt x="142" y="347"/>
                  </a:lnTo>
                  <a:lnTo>
                    <a:pt x="140" y="348"/>
                  </a:lnTo>
                  <a:lnTo>
                    <a:pt x="138" y="350"/>
                  </a:lnTo>
                  <a:lnTo>
                    <a:pt x="138" y="351"/>
                  </a:lnTo>
                  <a:lnTo>
                    <a:pt x="136" y="352"/>
                  </a:lnTo>
                  <a:lnTo>
                    <a:pt x="134" y="352"/>
                  </a:lnTo>
                  <a:lnTo>
                    <a:pt x="132" y="353"/>
                  </a:lnTo>
                  <a:lnTo>
                    <a:pt x="132" y="354"/>
                  </a:lnTo>
                  <a:lnTo>
                    <a:pt x="130" y="355"/>
                  </a:lnTo>
                  <a:lnTo>
                    <a:pt x="128" y="355"/>
                  </a:lnTo>
                  <a:lnTo>
                    <a:pt x="128" y="356"/>
                  </a:lnTo>
                  <a:lnTo>
                    <a:pt x="126" y="356"/>
                  </a:lnTo>
                  <a:lnTo>
                    <a:pt x="123" y="357"/>
                  </a:lnTo>
                  <a:lnTo>
                    <a:pt x="121" y="358"/>
                  </a:lnTo>
                  <a:lnTo>
                    <a:pt x="119" y="360"/>
                  </a:lnTo>
                  <a:lnTo>
                    <a:pt x="117" y="360"/>
                  </a:lnTo>
                  <a:lnTo>
                    <a:pt x="117" y="361"/>
                  </a:lnTo>
                  <a:lnTo>
                    <a:pt x="115" y="362"/>
                  </a:lnTo>
                  <a:lnTo>
                    <a:pt x="113" y="362"/>
                  </a:lnTo>
                  <a:lnTo>
                    <a:pt x="111" y="363"/>
                  </a:lnTo>
                  <a:lnTo>
                    <a:pt x="109" y="364"/>
                  </a:lnTo>
                  <a:lnTo>
                    <a:pt x="107" y="364"/>
                  </a:lnTo>
                  <a:lnTo>
                    <a:pt x="105" y="364"/>
                  </a:lnTo>
                  <a:lnTo>
                    <a:pt x="105" y="365"/>
                  </a:lnTo>
                  <a:lnTo>
                    <a:pt x="103" y="365"/>
                  </a:lnTo>
                  <a:lnTo>
                    <a:pt x="101" y="366"/>
                  </a:lnTo>
                  <a:lnTo>
                    <a:pt x="99" y="367"/>
                  </a:lnTo>
                  <a:lnTo>
                    <a:pt x="97" y="367"/>
                  </a:lnTo>
                  <a:lnTo>
                    <a:pt x="95" y="367"/>
                  </a:lnTo>
                  <a:lnTo>
                    <a:pt x="95" y="368"/>
                  </a:lnTo>
                  <a:lnTo>
                    <a:pt x="93" y="368"/>
                  </a:lnTo>
                  <a:lnTo>
                    <a:pt x="91" y="368"/>
                  </a:lnTo>
                  <a:lnTo>
                    <a:pt x="91" y="369"/>
                  </a:lnTo>
                  <a:lnTo>
                    <a:pt x="89" y="369"/>
                  </a:lnTo>
                  <a:lnTo>
                    <a:pt x="86" y="369"/>
                  </a:lnTo>
                  <a:lnTo>
                    <a:pt x="84" y="371"/>
                  </a:lnTo>
                  <a:lnTo>
                    <a:pt x="82" y="371"/>
                  </a:lnTo>
                  <a:lnTo>
                    <a:pt x="80" y="371"/>
                  </a:lnTo>
                  <a:lnTo>
                    <a:pt x="78" y="372"/>
                  </a:lnTo>
                  <a:lnTo>
                    <a:pt x="76" y="372"/>
                  </a:lnTo>
                  <a:lnTo>
                    <a:pt x="74" y="372"/>
                  </a:lnTo>
                  <a:lnTo>
                    <a:pt x="74" y="373"/>
                  </a:lnTo>
                  <a:lnTo>
                    <a:pt x="72" y="373"/>
                  </a:lnTo>
                  <a:lnTo>
                    <a:pt x="70" y="373"/>
                  </a:lnTo>
                  <a:lnTo>
                    <a:pt x="68" y="373"/>
                  </a:lnTo>
                  <a:lnTo>
                    <a:pt x="66" y="373"/>
                  </a:lnTo>
                  <a:lnTo>
                    <a:pt x="64" y="374"/>
                  </a:lnTo>
                  <a:lnTo>
                    <a:pt x="62" y="374"/>
                  </a:lnTo>
                  <a:lnTo>
                    <a:pt x="60" y="374"/>
                  </a:lnTo>
                  <a:lnTo>
                    <a:pt x="58" y="374"/>
                  </a:lnTo>
                  <a:lnTo>
                    <a:pt x="56" y="374"/>
                  </a:lnTo>
                  <a:lnTo>
                    <a:pt x="54" y="375"/>
                  </a:lnTo>
                  <a:lnTo>
                    <a:pt x="52" y="375"/>
                  </a:lnTo>
                  <a:lnTo>
                    <a:pt x="49" y="375"/>
                  </a:lnTo>
                  <a:lnTo>
                    <a:pt x="47" y="375"/>
                  </a:lnTo>
                  <a:lnTo>
                    <a:pt x="45" y="375"/>
                  </a:lnTo>
                  <a:lnTo>
                    <a:pt x="43" y="375"/>
                  </a:lnTo>
                  <a:lnTo>
                    <a:pt x="42" y="375"/>
                  </a:lnTo>
                  <a:lnTo>
                    <a:pt x="40" y="375"/>
                  </a:lnTo>
                  <a:lnTo>
                    <a:pt x="37" y="375"/>
                  </a:lnTo>
                  <a:lnTo>
                    <a:pt x="37" y="376"/>
                  </a:lnTo>
                  <a:lnTo>
                    <a:pt x="35" y="376"/>
                  </a:lnTo>
                  <a:lnTo>
                    <a:pt x="33" y="376"/>
                  </a:lnTo>
                  <a:lnTo>
                    <a:pt x="31" y="376"/>
                  </a:lnTo>
                  <a:lnTo>
                    <a:pt x="29" y="376"/>
                  </a:lnTo>
                  <a:lnTo>
                    <a:pt x="27" y="376"/>
                  </a:lnTo>
                  <a:lnTo>
                    <a:pt x="25" y="376"/>
                  </a:lnTo>
                  <a:lnTo>
                    <a:pt x="23" y="376"/>
                  </a:lnTo>
                  <a:lnTo>
                    <a:pt x="21" y="376"/>
                  </a:lnTo>
                  <a:lnTo>
                    <a:pt x="19" y="376"/>
                  </a:lnTo>
                  <a:lnTo>
                    <a:pt x="17" y="376"/>
                  </a:lnTo>
                  <a:lnTo>
                    <a:pt x="15" y="376"/>
                  </a:lnTo>
                  <a:lnTo>
                    <a:pt x="13" y="376"/>
                  </a:lnTo>
                  <a:lnTo>
                    <a:pt x="11" y="376"/>
                  </a:lnTo>
                  <a:lnTo>
                    <a:pt x="9" y="376"/>
                  </a:lnTo>
                  <a:lnTo>
                    <a:pt x="7" y="376"/>
                  </a:lnTo>
                  <a:lnTo>
                    <a:pt x="5" y="376"/>
                  </a:lnTo>
                  <a:lnTo>
                    <a:pt x="3" y="376"/>
                  </a:lnTo>
                  <a:lnTo>
                    <a:pt x="0" y="376"/>
                  </a:lnTo>
                </a:path>
              </a:pathLst>
            </a:custGeom>
            <a:noFill/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70120" y="1428840"/>
              <a:ext cx="585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527720" y="410760"/>
              <a:ext cx="0" cy="10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4551480" y="171360"/>
                  <a:ext cx="824760" cy="62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j</m:t>
                          </m:r>
                          <m:f>
                            <m:num>
                              <m:r>
                                <m:t xml:space="preserve">w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"/>
            <p:cNvSpPr/>
            <p:nvPr/>
          </p:nvSpPr>
          <p:spPr>
            <a:xfrm>
              <a:off x="7442280" y="1425600"/>
              <a:ext cx="34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0280" y="1409760"/>
              <a:ext cx="40896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i="1" lang="hr-HR" sz="1800" spc="-1" strike="noStrike" baseline="-25000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44240" y="1395360"/>
              <a:ext cx="4852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i="1" lang="hr-HR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i="1" lang="hr-HR" sz="1800" spc="-1" strike="noStrike" baseline="-25000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98480" y="14508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17520" y="2133720"/>
            <a:ext cx="8654040" cy="1754280"/>
            <a:chOff x="317520" y="2133720"/>
            <a:chExt cx="8654040" cy="1754280"/>
          </a:xfrm>
        </p:grpSpPr>
        <p:grpSp>
          <p:nvGrpSpPr>
            <p:cNvPr id="215" name=""/>
            <p:cNvGrpSpPr/>
            <p:nvPr/>
          </p:nvGrpSpPr>
          <p:grpSpPr>
            <a:xfrm>
              <a:off x="3409560" y="2819520"/>
              <a:ext cx="2225880" cy="600120"/>
              <a:chOff x="3409560" y="2819520"/>
              <a:chExt cx="2225880" cy="600120"/>
            </a:xfrm>
          </p:grpSpPr>
          <p:sp>
            <p:nvSpPr>
              <p:cNvPr id="216" name=""/>
              <p:cNvSpPr/>
              <p:nvPr/>
            </p:nvSpPr>
            <p:spPr>
              <a:xfrm>
                <a:off x="4527720" y="2819520"/>
                <a:ext cx="1107720" cy="598320"/>
              </a:xfrm>
              <a:custGeom>
                <a:avLst/>
                <a:gdLst/>
                <a:ahLst/>
                <a:rect l="l" t="t" r="r" b="b"/>
                <a:pathLst>
                  <a:path w="756" h="377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0"/>
                    </a:lnTo>
                    <a:lnTo>
                      <a:pt x="106" y="0"/>
                    </a:lnTo>
                    <a:lnTo>
                      <a:pt x="108" y="0"/>
                    </a:lnTo>
                    <a:lnTo>
                      <a:pt x="110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7" y="0"/>
                    </a:lnTo>
                    <a:lnTo>
                      <a:pt x="119" y="0"/>
                    </a:lnTo>
                    <a:lnTo>
                      <a:pt x="121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41" y="0"/>
                    </a:lnTo>
                    <a:lnTo>
                      <a:pt x="143" y="0"/>
                    </a:lnTo>
                    <a:lnTo>
                      <a:pt x="145" y="0"/>
                    </a:lnTo>
                    <a:lnTo>
                      <a:pt x="147" y="0"/>
                    </a:lnTo>
                    <a:lnTo>
                      <a:pt x="149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7" y="0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64" y="0"/>
                    </a:lnTo>
                    <a:lnTo>
                      <a:pt x="166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8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4" y="0"/>
                    </a:lnTo>
                    <a:lnTo>
                      <a:pt x="186" y="0"/>
                    </a:lnTo>
                    <a:lnTo>
                      <a:pt x="188" y="0"/>
                    </a:lnTo>
                    <a:lnTo>
                      <a:pt x="190" y="0"/>
                    </a:lnTo>
                    <a:lnTo>
                      <a:pt x="192" y="0"/>
                    </a:lnTo>
                    <a:lnTo>
                      <a:pt x="194" y="0"/>
                    </a:lnTo>
                    <a:lnTo>
                      <a:pt x="196" y="0"/>
                    </a:lnTo>
                    <a:lnTo>
                      <a:pt x="199" y="0"/>
                    </a:lnTo>
                    <a:lnTo>
                      <a:pt x="201" y="0"/>
                    </a:lnTo>
                    <a:lnTo>
                      <a:pt x="203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9" y="0"/>
                    </a:lnTo>
                    <a:lnTo>
                      <a:pt x="211" y="0"/>
                    </a:lnTo>
                    <a:lnTo>
                      <a:pt x="213" y="0"/>
                    </a:lnTo>
                    <a:lnTo>
                      <a:pt x="215" y="0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21" y="0"/>
                    </a:lnTo>
                    <a:lnTo>
                      <a:pt x="223" y="0"/>
                    </a:lnTo>
                    <a:lnTo>
                      <a:pt x="225" y="0"/>
                    </a:lnTo>
                    <a:lnTo>
                      <a:pt x="227" y="0"/>
                    </a:lnTo>
                    <a:lnTo>
                      <a:pt x="229" y="0"/>
                    </a:lnTo>
                    <a:lnTo>
                      <a:pt x="231" y="1"/>
                    </a:lnTo>
                    <a:lnTo>
                      <a:pt x="233" y="1"/>
                    </a:lnTo>
                    <a:lnTo>
                      <a:pt x="236" y="1"/>
                    </a:lnTo>
                    <a:lnTo>
                      <a:pt x="238" y="1"/>
                    </a:lnTo>
                    <a:lnTo>
                      <a:pt x="240" y="1"/>
                    </a:lnTo>
                    <a:lnTo>
                      <a:pt x="242" y="1"/>
                    </a:lnTo>
                    <a:lnTo>
                      <a:pt x="244" y="1"/>
                    </a:lnTo>
                    <a:lnTo>
                      <a:pt x="246" y="1"/>
                    </a:lnTo>
                    <a:lnTo>
                      <a:pt x="248" y="1"/>
                    </a:lnTo>
                    <a:lnTo>
                      <a:pt x="250" y="1"/>
                    </a:lnTo>
                    <a:lnTo>
                      <a:pt x="252" y="1"/>
                    </a:lnTo>
                    <a:lnTo>
                      <a:pt x="254" y="1"/>
                    </a:lnTo>
                    <a:lnTo>
                      <a:pt x="256" y="1"/>
                    </a:lnTo>
                    <a:lnTo>
                      <a:pt x="258" y="1"/>
                    </a:lnTo>
                    <a:lnTo>
                      <a:pt x="260" y="1"/>
                    </a:lnTo>
                    <a:lnTo>
                      <a:pt x="262" y="1"/>
                    </a:lnTo>
                    <a:lnTo>
                      <a:pt x="264" y="1"/>
                    </a:lnTo>
                    <a:lnTo>
                      <a:pt x="266" y="1"/>
                    </a:lnTo>
                    <a:lnTo>
                      <a:pt x="268" y="1"/>
                    </a:lnTo>
                    <a:lnTo>
                      <a:pt x="270" y="2"/>
                    </a:lnTo>
                    <a:lnTo>
                      <a:pt x="273" y="2"/>
                    </a:lnTo>
                    <a:lnTo>
                      <a:pt x="275" y="2"/>
                    </a:lnTo>
                    <a:lnTo>
                      <a:pt x="277" y="2"/>
                    </a:lnTo>
                    <a:lnTo>
                      <a:pt x="279" y="2"/>
                    </a:lnTo>
                    <a:lnTo>
                      <a:pt x="281" y="2"/>
                    </a:lnTo>
                    <a:lnTo>
                      <a:pt x="283" y="2"/>
                    </a:lnTo>
                    <a:lnTo>
                      <a:pt x="285" y="2"/>
                    </a:lnTo>
                    <a:lnTo>
                      <a:pt x="287" y="2"/>
                    </a:lnTo>
                    <a:lnTo>
                      <a:pt x="289" y="3"/>
                    </a:lnTo>
                    <a:lnTo>
                      <a:pt x="291" y="3"/>
                    </a:lnTo>
                    <a:lnTo>
                      <a:pt x="293" y="3"/>
                    </a:lnTo>
                    <a:lnTo>
                      <a:pt x="295" y="3"/>
                    </a:lnTo>
                    <a:lnTo>
                      <a:pt x="297" y="3"/>
                    </a:lnTo>
                    <a:lnTo>
                      <a:pt x="299" y="3"/>
                    </a:lnTo>
                    <a:lnTo>
                      <a:pt x="301" y="4"/>
                    </a:lnTo>
                    <a:lnTo>
                      <a:pt x="303" y="4"/>
                    </a:lnTo>
                    <a:lnTo>
                      <a:pt x="305" y="4"/>
                    </a:lnTo>
                    <a:lnTo>
                      <a:pt x="307" y="4"/>
                    </a:lnTo>
                    <a:lnTo>
                      <a:pt x="310" y="4"/>
                    </a:lnTo>
                    <a:lnTo>
                      <a:pt x="312" y="5"/>
                    </a:lnTo>
                    <a:lnTo>
                      <a:pt x="314" y="5"/>
                    </a:lnTo>
                    <a:lnTo>
                      <a:pt x="316" y="5"/>
                    </a:lnTo>
                    <a:lnTo>
                      <a:pt x="318" y="5"/>
                    </a:lnTo>
                    <a:lnTo>
                      <a:pt x="320" y="6"/>
                    </a:lnTo>
                    <a:lnTo>
                      <a:pt x="322" y="6"/>
                    </a:lnTo>
                    <a:lnTo>
                      <a:pt x="324" y="6"/>
                    </a:lnTo>
                    <a:lnTo>
                      <a:pt x="326" y="7"/>
                    </a:lnTo>
                    <a:lnTo>
                      <a:pt x="328" y="7"/>
                    </a:lnTo>
                    <a:lnTo>
                      <a:pt x="330" y="7"/>
                    </a:lnTo>
                    <a:lnTo>
                      <a:pt x="332" y="8"/>
                    </a:lnTo>
                    <a:lnTo>
                      <a:pt x="334" y="8"/>
                    </a:lnTo>
                    <a:lnTo>
                      <a:pt x="336" y="8"/>
                    </a:lnTo>
                    <a:lnTo>
                      <a:pt x="336" y="9"/>
                    </a:lnTo>
                    <a:lnTo>
                      <a:pt x="338" y="9"/>
                    </a:lnTo>
                    <a:lnTo>
                      <a:pt x="340" y="9"/>
                    </a:lnTo>
                    <a:lnTo>
                      <a:pt x="340" y="10"/>
                    </a:lnTo>
                    <a:lnTo>
                      <a:pt x="342" y="10"/>
                    </a:lnTo>
                    <a:lnTo>
                      <a:pt x="344" y="10"/>
                    </a:lnTo>
                    <a:lnTo>
                      <a:pt x="346" y="11"/>
                    </a:lnTo>
                    <a:lnTo>
                      <a:pt x="348" y="11"/>
                    </a:lnTo>
                    <a:lnTo>
                      <a:pt x="350" y="13"/>
                    </a:lnTo>
                    <a:lnTo>
                      <a:pt x="352" y="14"/>
                    </a:lnTo>
                    <a:lnTo>
                      <a:pt x="354" y="14"/>
                    </a:lnTo>
                    <a:lnTo>
                      <a:pt x="356" y="15"/>
                    </a:lnTo>
                    <a:lnTo>
                      <a:pt x="359" y="16"/>
                    </a:lnTo>
                    <a:lnTo>
                      <a:pt x="361" y="16"/>
                    </a:lnTo>
                    <a:lnTo>
                      <a:pt x="363" y="17"/>
                    </a:lnTo>
                    <a:lnTo>
                      <a:pt x="365" y="18"/>
                    </a:lnTo>
                    <a:lnTo>
                      <a:pt x="367" y="18"/>
                    </a:lnTo>
                    <a:lnTo>
                      <a:pt x="367" y="19"/>
                    </a:lnTo>
                    <a:lnTo>
                      <a:pt x="369" y="19"/>
                    </a:lnTo>
                    <a:lnTo>
                      <a:pt x="371" y="20"/>
                    </a:lnTo>
                    <a:lnTo>
                      <a:pt x="373" y="21"/>
                    </a:lnTo>
                    <a:lnTo>
                      <a:pt x="375" y="23"/>
                    </a:lnTo>
                    <a:lnTo>
                      <a:pt x="377" y="24"/>
                    </a:lnTo>
                    <a:lnTo>
                      <a:pt x="377" y="25"/>
                    </a:lnTo>
                    <a:lnTo>
                      <a:pt x="379" y="25"/>
                    </a:lnTo>
                    <a:lnTo>
                      <a:pt x="381" y="26"/>
                    </a:lnTo>
                    <a:lnTo>
                      <a:pt x="383" y="27"/>
                    </a:lnTo>
                    <a:lnTo>
                      <a:pt x="383" y="28"/>
                    </a:lnTo>
                    <a:lnTo>
                      <a:pt x="385" y="29"/>
                    </a:lnTo>
                    <a:lnTo>
                      <a:pt x="387" y="30"/>
                    </a:lnTo>
                    <a:lnTo>
                      <a:pt x="389" y="30"/>
                    </a:lnTo>
                    <a:lnTo>
                      <a:pt x="389" y="31"/>
                    </a:lnTo>
                    <a:lnTo>
                      <a:pt x="391" y="32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5" y="36"/>
                    </a:lnTo>
                    <a:lnTo>
                      <a:pt x="398" y="37"/>
                    </a:lnTo>
                    <a:lnTo>
                      <a:pt x="400" y="39"/>
                    </a:lnTo>
                    <a:lnTo>
                      <a:pt x="400" y="40"/>
                    </a:lnTo>
                    <a:lnTo>
                      <a:pt x="402" y="41"/>
                    </a:lnTo>
                    <a:lnTo>
                      <a:pt x="404" y="42"/>
                    </a:lnTo>
                    <a:lnTo>
                      <a:pt x="404" y="44"/>
                    </a:lnTo>
                    <a:lnTo>
                      <a:pt x="406" y="46"/>
                    </a:lnTo>
                    <a:lnTo>
                      <a:pt x="408" y="47"/>
                    </a:lnTo>
                    <a:lnTo>
                      <a:pt x="410" y="48"/>
                    </a:lnTo>
                    <a:lnTo>
                      <a:pt x="410" y="49"/>
                    </a:lnTo>
                    <a:lnTo>
                      <a:pt x="412" y="51"/>
                    </a:lnTo>
                    <a:lnTo>
                      <a:pt x="414" y="52"/>
                    </a:lnTo>
                    <a:lnTo>
                      <a:pt x="416" y="55"/>
                    </a:lnTo>
                    <a:lnTo>
                      <a:pt x="416" y="56"/>
                    </a:lnTo>
                    <a:lnTo>
                      <a:pt x="418" y="58"/>
                    </a:lnTo>
                    <a:lnTo>
                      <a:pt x="420" y="59"/>
                    </a:lnTo>
                    <a:lnTo>
                      <a:pt x="420" y="61"/>
                    </a:lnTo>
                    <a:lnTo>
                      <a:pt x="422" y="62"/>
                    </a:lnTo>
                    <a:lnTo>
                      <a:pt x="424" y="65"/>
                    </a:lnTo>
                    <a:lnTo>
                      <a:pt x="426" y="67"/>
                    </a:lnTo>
                    <a:lnTo>
                      <a:pt x="426" y="69"/>
                    </a:lnTo>
                    <a:lnTo>
                      <a:pt x="428" y="70"/>
                    </a:lnTo>
                    <a:lnTo>
                      <a:pt x="430" y="72"/>
                    </a:lnTo>
                    <a:lnTo>
                      <a:pt x="430" y="74"/>
                    </a:lnTo>
                    <a:lnTo>
                      <a:pt x="432" y="77"/>
                    </a:lnTo>
                    <a:lnTo>
                      <a:pt x="435" y="79"/>
                    </a:lnTo>
                    <a:lnTo>
                      <a:pt x="437" y="81"/>
                    </a:lnTo>
                    <a:lnTo>
                      <a:pt x="437" y="83"/>
                    </a:lnTo>
                    <a:lnTo>
                      <a:pt x="439" y="85"/>
                    </a:lnTo>
                    <a:lnTo>
                      <a:pt x="441" y="88"/>
                    </a:lnTo>
                    <a:lnTo>
                      <a:pt x="443" y="90"/>
                    </a:lnTo>
                    <a:lnTo>
                      <a:pt x="443" y="92"/>
                    </a:lnTo>
                    <a:lnTo>
                      <a:pt x="445" y="94"/>
                    </a:lnTo>
                    <a:lnTo>
                      <a:pt x="447" y="96"/>
                    </a:lnTo>
                    <a:lnTo>
                      <a:pt x="447" y="99"/>
                    </a:lnTo>
                    <a:lnTo>
                      <a:pt x="449" y="102"/>
                    </a:lnTo>
                    <a:lnTo>
                      <a:pt x="451" y="104"/>
                    </a:lnTo>
                    <a:lnTo>
                      <a:pt x="453" y="106"/>
                    </a:lnTo>
                    <a:lnTo>
                      <a:pt x="453" y="109"/>
                    </a:lnTo>
                    <a:lnTo>
                      <a:pt x="455" y="112"/>
                    </a:lnTo>
                    <a:lnTo>
                      <a:pt x="457" y="114"/>
                    </a:lnTo>
                    <a:lnTo>
                      <a:pt x="457" y="117"/>
                    </a:lnTo>
                    <a:lnTo>
                      <a:pt x="459" y="120"/>
                    </a:lnTo>
                    <a:lnTo>
                      <a:pt x="461" y="122"/>
                    </a:lnTo>
                    <a:lnTo>
                      <a:pt x="463" y="125"/>
                    </a:lnTo>
                    <a:lnTo>
                      <a:pt x="463" y="127"/>
                    </a:lnTo>
                    <a:lnTo>
                      <a:pt x="465" y="131"/>
                    </a:lnTo>
                    <a:lnTo>
                      <a:pt x="467" y="133"/>
                    </a:lnTo>
                    <a:lnTo>
                      <a:pt x="467" y="136"/>
                    </a:lnTo>
                    <a:lnTo>
                      <a:pt x="469" y="138"/>
                    </a:lnTo>
                    <a:lnTo>
                      <a:pt x="472" y="142"/>
                    </a:lnTo>
                    <a:lnTo>
                      <a:pt x="474" y="145"/>
                    </a:lnTo>
                    <a:lnTo>
                      <a:pt x="474" y="147"/>
                    </a:lnTo>
                    <a:lnTo>
                      <a:pt x="476" y="151"/>
                    </a:lnTo>
                    <a:lnTo>
                      <a:pt x="478" y="153"/>
                    </a:lnTo>
                    <a:lnTo>
                      <a:pt x="480" y="156"/>
                    </a:lnTo>
                    <a:lnTo>
                      <a:pt x="480" y="159"/>
                    </a:lnTo>
                    <a:lnTo>
                      <a:pt x="482" y="161"/>
                    </a:lnTo>
                    <a:lnTo>
                      <a:pt x="484" y="165"/>
                    </a:lnTo>
                    <a:lnTo>
                      <a:pt x="484" y="168"/>
                    </a:lnTo>
                    <a:lnTo>
                      <a:pt x="486" y="170"/>
                    </a:lnTo>
                    <a:lnTo>
                      <a:pt x="488" y="174"/>
                    </a:lnTo>
                    <a:lnTo>
                      <a:pt x="490" y="177"/>
                    </a:lnTo>
                    <a:lnTo>
                      <a:pt x="490" y="179"/>
                    </a:lnTo>
                    <a:lnTo>
                      <a:pt x="492" y="182"/>
                    </a:lnTo>
                    <a:lnTo>
                      <a:pt x="494" y="186"/>
                    </a:lnTo>
                    <a:lnTo>
                      <a:pt x="494" y="188"/>
                    </a:lnTo>
                    <a:lnTo>
                      <a:pt x="496" y="191"/>
                    </a:lnTo>
                    <a:lnTo>
                      <a:pt x="498" y="195"/>
                    </a:lnTo>
                    <a:lnTo>
                      <a:pt x="500" y="197"/>
                    </a:lnTo>
                    <a:lnTo>
                      <a:pt x="500" y="200"/>
                    </a:lnTo>
                    <a:lnTo>
                      <a:pt x="502" y="203"/>
                    </a:lnTo>
                    <a:lnTo>
                      <a:pt x="504" y="206"/>
                    </a:lnTo>
                    <a:lnTo>
                      <a:pt x="506" y="209"/>
                    </a:lnTo>
                    <a:lnTo>
                      <a:pt x="506" y="211"/>
                    </a:lnTo>
                    <a:lnTo>
                      <a:pt x="509" y="214"/>
                    </a:lnTo>
                    <a:lnTo>
                      <a:pt x="511" y="217"/>
                    </a:lnTo>
                    <a:lnTo>
                      <a:pt x="511" y="220"/>
                    </a:lnTo>
                    <a:lnTo>
                      <a:pt x="513" y="223"/>
                    </a:lnTo>
                    <a:lnTo>
                      <a:pt x="515" y="226"/>
                    </a:lnTo>
                    <a:lnTo>
                      <a:pt x="517" y="229"/>
                    </a:lnTo>
                    <a:lnTo>
                      <a:pt x="517" y="231"/>
                    </a:lnTo>
                    <a:lnTo>
                      <a:pt x="519" y="233"/>
                    </a:lnTo>
                    <a:lnTo>
                      <a:pt x="521" y="236"/>
                    </a:lnTo>
                    <a:lnTo>
                      <a:pt x="521" y="239"/>
                    </a:lnTo>
                    <a:lnTo>
                      <a:pt x="523" y="242"/>
                    </a:lnTo>
                    <a:lnTo>
                      <a:pt x="525" y="244"/>
                    </a:lnTo>
                    <a:lnTo>
                      <a:pt x="527" y="246"/>
                    </a:lnTo>
                    <a:lnTo>
                      <a:pt x="527" y="250"/>
                    </a:lnTo>
                    <a:lnTo>
                      <a:pt x="529" y="252"/>
                    </a:lnTo>
                    <a:lnTo>
                      <a:pt x="531" y="254"/>
                    </a:lnTo>
                    <a:lnTo>
                      <a:pt x="533" y="256"/>
                    </a:lnTo>
                    <a:lnTo>
                      <a:pt x="533" y="260"/>
                    </a:lnTo>
                    <a:lnTo>
                      <a:pt x="535" y="262"/>
                    </a:lnTo>
                    <a:lnTo>
                      <a:pt x="537" y="264"/>
                    </a:lnTo>
                    <a:lnTo>
                      <a:pt x="537" y="266"/>
                    </a:lnTo>
                    <a:lnTo>
                      <a:pt x="539" y="268"/>
                    </a:lnTo>
                    <a:lnTo>
                      <a:pt x="541" y="271"/>
                    </a:lnTo>
                    <a:lnTo>
                      <a:pt x="543" y="273"/>
                    </a:lnTo>
                    <a:lnTo>
                      <a:pt x="543" y="275"/>
                    </a:lnTo>
                    <a:lnTo>
                      <a:pt x="545" y="277"/>
                    </a:lnTo>
                    <a:lnTo>
                      <a:pt x="547" y="280"/>
                    </a:lnTo>
                    <a:lnTo>
                      <a:pt x="547" y="282"/>
                    </a:lnTo>
                    <a:lnTo>
                      <a:pt x="549" y="284"/>
                    </a:lnTo>
                    <a:lnTo>
                      <a:pt x="551" y="286"/>
                    </a:lnTo>
                    <a:lnTo>
                      <a:pt x="553" y="288"/>
                    </a:lnTo>
                    <a:lnTo>
                      <a:pt x="553" y="291"/>
                    </a:lnTo>
                    <a:lnTo>
                      <a:pt x="555" y="292"/>
                    </a:lnTo>
                    <a:lnTo>
                      <a:pt x="558" y="294"/>
                    </a:lnTo>
                    <a:lnTo>
                      <a:pt x="560" y="296"/>
                    </a:lnTo>
                    <a:lnTo>
                      <a:pt x="560" y="298"/>
                    </a:lnTo>
                    <a:lnTo>
                      <a:pt x="562" y="299"/>
                    </a:lnTo>
                    <a:lnTo>
                      <a:pt x="564" y="302"/>
                    </a:lnTo>
                    <a:lnTo>
                      <a:pt x="564" y="304"/>
                    </a:lnTo>
                    <a:lnTo>
                      <a:pt x="566" y="305"/>
                    </a:lnTo>
                    <a:lnTo>
                      <a:pt x="568" y="307"/>
                    </a:lnTo>
                    <a:lnTo>
                      <a:pt x="570" y="308"/>
                    </a:lnTo>
                    <a:lnTo>
                      <a:pt x="570" y="310"/>
                    </a:lnTo>
                    <a:lnTo>
                      <a:pt x="572" y="312"/>
                    </a:lnTo>
                    <a:lnTo>
                      <a:pt x="574" y="314"/>
                    </a:lnTo>
                    <a:lnTo>
                      <a:pt x="574" y="315"/>
                    </a:lnTo>
                    <a:lnTo>
                      <a:pt x="576" y="317"/>
                    </a:lnTo>
                    <a:lnTo>
                      <a:pt x="578" y="318"/>
                    </a:lnTo>
                    <a:lnTo>
                      <a:pt x="580" y="320"/>
                    </a:lnTo>
                    <a:lnTo>
                      <a:pt x="580" y="321"/>
                    </a:lnTo>
                    <a:lnTo>
                      <a:pt x="582" y="322"/>
                    </a:lnTo>
                    <a:lnTo>
                      <a:pt x="584" y="324"/>
                    </a:lnTo>
                    <a:lnTo>
                      <a:pt x="586" y="326"/>
                    </a:lnTo>
                    <a:lnTo>
                      <a:pt x="586" y="327"/>
                    </a:lnTo>
                    <a:lnTo>
                      <a:pt x="588" y="328"/>
                    </a:lnTo>
                    <a:lnTo>
                      <a:pt x="590" y="329"/>
                    </a:lnTo>
                    <a:lnTo>
                      <a:pt x="590" y="331"/>
                    </a:lnTo>
                    <a:lnTo>
                      <a:pt x="592" y="332"/>
                    </a:lnTo>
                    <a:lnTo>
                      <a:pt x="595" y="333"/>
                    </a:lnTo>
                    <a:lnTo>
                      <a:pt x="597" y="335"/>
                    </a:lnTo>
                    <a:lnTo>
                      <a:pt x="597" y="336"/>
                    </a:lnTo>
                    <a:lnTo>
                      <a:pt x="599" y="337"/>
                    </a:lnTo>
                    <a:lnTo>
                      <a:pt x="601" y="338"/>
                    </a:lnTo>
                    <a:lnTo>
                      <a:pt x="601" y="339"/>
                    </a:lnTo>
                    <a:lnTo>
                      <a:pt x="603" y="340"/>
                    </a:lnTo>
                    <a:lnTo>
                      <a:pt x="605" y="341"/>
                    </a:lnTo>
                    <a:lnTo>
                      <a:pt x="607" y="342"/>
                    </a:lnTo>
                    <a:lnTo>
                      <a:pt x="607" y="343"/>
                    </a:lnTo>
                    <a:lnTo>
                      <a:pt x="609" y="345"/>
                    </a:lnTo>
                    <a:lnTo>
                      <a:pt x="611" y="346"/>
                    </a:lnTo>
                    <a:lnTo>
                      <a:pt x="611" y="347"/>
                    </a:lnTo>
                    <a:lnTo>
                      <a:pt x="613" y="347"/>
                    </a:lnTo>
                    <a:lnTo>
                      <a:pt x="615" y="348"/>
                    </a:lnTo>
                    <a:lnTo>
                      <a:pt x="617" y="349"/>
                    </a:lnTo>
                    <a:lnTo>
                      <a:pt x="617" y="350"/>
                    </a:lnTo>
                    <a:lnTo>
                      <a:pt x="619" y="351"/>
                    </a:lnTo>
                    <a:lnTo>
                      <a:pt x="621" y="351"/>
                    </a:lnTo>
                    <a:lnTo>
                      <a:pt x="623" y="352"/>
                    </a:lnTo>
                    <a:lnTo>
                      <a:pt x="623" y="353"/>
                    </a:lnTo>
                    <a:lnTo>
                      <a:pt x="625" y="354"/>
                    </a:lnTo>
                    <a:lnTo>
                      <a:pt x="627" y="354"/>
                    </a:lnTo>
                    <a:lnTo>
                      <a:pt x="627" y="356"/>
                    </a:lnTo>
                    <a:lnTo>
                      <a:pt x="629" y="356"/>
                    </a:lnTo>
                    <a:lnTo>
                      <a:pt x="632" y="357"/>
                    </a:lnTo>
                    <a:lnTo>
                      <a:pt x="634" y="358"/>
                    </a:lnTo>
                    <a:lnTo>
                      <a:pt x="636" y="359"/>
                    </a:lnTo>
                    <a:lnTo>
                      <a:pt x="638" y="359"/>
                    </a:lnTo>
                    <a:lnTo>
                      <a:pt x="638" y="360"/>
                    </a:lnTo>
                    <a:lnTo>
                      <a:pt x="640" y="361"/>
                    </a:lnTo>
                    <a:lnTo>
                      <a:pt x="642" y="361"/>
                    </a:lnTo>
                    <a:lnTo>
                      <a:pt x="644" y="362"/>
                    </a:lnTo>
                    <a:lnTo>
                      <a:pt x="646" y="363"/>
                    </a:lnTo>
                    <a:lnTo>
                      <a:pt x="648" y="363"/>
                    </a:lnTo>
                    <a:lnTo>
                      <a:pt x="650" y="363"/>
                    </a:lnTo>
                    <a:lnTo>
                      <a:pt x="650" y="364"/>
                    </a:lnTo>
                    <a:lnTo>
                      <a:pt x="652" y="364"/>
                    </a:lnTo>
                    <a:lnTo>
                      <a:pt x="654" y="366"/>
                    </a:lnTo>
                    <a:lnTo>
                      <a:pt x="656" y="367"/>
                    </a:lnTo>
                    <a:lnTo>
                      <a:pt x="658" y="367"/>
                    </a:lnTo>
                    <a:lnTo>
                      <a:pt x="660" y="367"/>
                    </a:lnTo>
                    <a:lnTo>
                      <a:pt x="660" y="368"/>
                    </a:lnTo>
                    <a:lnTo>
                      <a:pt x="662" y="368"/>
                    </a:lnTo>
                    <a:lnTo>
                      <a:pt x="664" y="368"/>
                    </a:lnTo>
                    <a:lnTo>
                      <a:pt x="664" y="369"/>
                    </a:lnTo>
                    <a:lnTo>
                      <a:pt x="666" y="369"/>
                    </a:lnTo>
                    <a:lnTo>
                      <a:pt x="669" y="369"/>
                    </a:lnTo>
                    <a:lnTo>
                      <a:pt x="671" y="370"/>
                    </a:lnTo>
                    <a:lnTo>
                      <a:pt x="673" y="370"/>
                    </a:lnTo>
                    <a:lnTo>
                      <a:pt x="675" y="370"/>
                    </a:lnTo>
                    <a:lnTo>
                      <a:pt x="677" y="371"/>
                    </a:lnTo>
                    <a:lnTo>
                      <a:pt x="679" y="371"/>
                    </a:lnTo>
                    <a:lnTo>
                      <a:pt x="681" y="371"/>
                    </a:lnTo>
                    <a:lnTo>
                      <a:pt x="681" y="372"/>
                    </a:lnTo>
                    <a:lnTo>
                      <a:pt x="683" y="372"/>
                    </a:lnTo>
                    <a:lnTo>
                      <a:pt x="685" y="372"/>
                    </a:lnTo>
                    <a:lnTo>
                      <a:pt x="687" y="372"/>
                    </a:lnTo>
                    <a:lnTo>
                      <a:pt x="689" y="372"/>
                    </a:lnTo>
                    <a:lnTo>
                      <a:pt x="691" y="373"/>
                    </a:lnTo>
                    <a:lnTo>
                      <a:pt x="693" y="373"/>
                    </a:lnTo>
                    <a:lnTo>
                      <a:pt x="695" y="373"/>
                    </a:lnTo>
                    <a:lnTo>
                      <a:pt x="697" y="373"/>
                    </a:lnTo>
                    <a:lnTo>
                      <a:pt x="699" y="373"/>
                    </a:lnTo>
                    <a:lnTo>
                      <a:pt x="701" y="374"/>
                    </a:lnTo>
                    <a:lnTo>
                      <a:pt x="703" y="374"/>
                    </a:lnTo>
                    <a:lnTo>
                      <a:pt x="706" y="374"/>
                    </a:lnTo>
                    <a:lnTo>
                      <a:pt x="708" y="374"/>
                    </a:lnTo>
                    <a:lnTo>
                      <a:pt x="710" y="374"/>
                    </a:lnTo>
                    <a:lnTo>
                      <a:pt x="712" y="374"/>
                    </a:lnTo>
                    <a:lnTo>
                      <a:pt x="713" y="374"/>
                    </a:lnTo>
                    <a:lnTo>
                      <a:pt x="715" y="374"/>
                    </a:lnTo>
                    <a:lnTo>
                      <a:pt x="718" y="374"/>
                    </a:lnTo>
                    <a:lnTo>
                      <a:pt x="718" y="376"/>
                    </a:lnTo>
                    <a:lnTo>
                      <a:pt x="720" y="376"/>
                    </a:lnTo>
                    <a:lnTo>
                      <a:pt x="722" y="376"/>
                    </a:lnTo>
                    <a:lnTo>
                      <a:pt x="724" y="376"/>
                    </a:lnTo>
                    <a:lnTo>
                      <a:pt x="726" y="376"/>
                    </a:lnTo>
                    <a:lnTo>
                      <a:pt x="728" y="376"/>
                    </a:lnTo>
                    <a:lnTo>
                      <a:pt x="730" y="376"/>
                    </a:lnTo>
                    <a:lnTo>
                      <a:pt x="732" y="376"/>
                    </a:lnTo>
                    <a:lnTo>
                      <a:pt x="734" y="376"/>
                    </a:lnTo>
                    <a:lnTo>
                      <a:pt x="736" y="376"/>
                    </a:lnTo>
                    <a:lnTo>
                      <a:pt x="738" y="376"/>
                    </a:lnTo>
                    <a:lnTo>
                      <a:pt x="740" y="376"/>
                    </a:lnTo>
                    <a:lnTo>
                      <a:pt x="742" y="376"/>
                    </a:lnTo>
                    <a:lnTo>
                      <a:pt x="744" y="376"/>
                    </a:lnTo>
                    <a:lnTo>
                      <a:pt x="746" y="376"/>
                    </a:lnTo>
                    <a:lnTo>
                      <a:pt x="748" y="376"/>
                    </a:lnTo>
                    <a:lnTo>
                      <a:pt x="750" y="376"/>
                    </a:lnTo>
                    <a:lnTo>
                      <a:pt x="752" y="376"/>
                    </a:lnTo>
                    <a:lnTo>
                      <a:pt x="755" y="376"/>
                    </a:lnTo>
                  </a:path>
                </a:pathLst>
              </a:custGeom>
              <a:noFill/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409560" y="2820960"/>
                <a:ext cx="1107720" cy="598680"/>
              </a:xfrm>
              <a:custGeom>
                <a:avLst/>
                <a:gdLst/>
                <a:ahLst/>
                <a:rect l="l" t="t" r="r" b="b"/>
                <a:pathLst>
                  <a:path w="756" h="377">
                    <a:moveTo>
                      <a:pt x="755" y="0"/>
                    </a:moveTo>
                    <a:lnTo>
                      <a:pt x="753" y="0"/>
                    </a:lnTo>
                    <a:lnTo>
                      <a:pt x="751" y="0"/>
                    </a:lnTo>
                    <a:lnTo>
                      <a:pt x="749" y="0"/>
                    </a:lnTo>
                    <a:lnTo>
                      <a:pt x="747" y="0"/>
                    </a:lnTo>
                    <a:lnTo>
                      <a:pt x="745" y="0"/>
                    </a:lnTo>
                    <a:lnTo>
                      <a:pt x="743" y="0"/>
                    </a:lnTo>
                    <a:lnTo>
                      <a:pt x="741" y="0"/>
                    </a:lnTo>
                    <a:lnTo>
                      <a:pt x="739" y="0"/>
                    </a:lnTo>
                    <a:lnTo>
                      <a:pt x="737" y="0"/>
                    </a:lnTo>
                    <a:lnTo>
                      <a:pt x="735" y="0"/>
                    </a:lnTo>
                    <a:lnTo>
                      <a:pt x="733" y="0"/>
                    </a:lnTo>
                    <a:lnTo>
                      <a:pt x="731" y="0"/>
                    </a:lnTo>
                    <a:lnTo>
                      <a:pt x="729" y="0"/>
                    </a:lnTo>
                    <a:lnTo>
                      <a:pt x="727" y="0"/>
                    </a:lnTo>
                    <a:lnTo>
                      <a:pt x="725" y="0"/>
                    </a:lnTo>
                    <a:lnTo>
                      <a:pt x="723" y="0"/>
                    </a:lnTo>
                    <a:lnTo>
                      <a:pt x="721" y="0"/>
                    </a:lnTo>
                    <a:lnTo>
                      <a:pt x="719" y="0"/>
                    </a:lnTo>
                    <a:lnTo>
                      <a:pt x="716" y="0"/>
                    </a:lnTo>
                    <a:lnTo>
                      <a:pt x="714" y="0"/>
                    </a:lnTo>
                    <a:lnTo>
                      <a:pt x="712" y="0"/>
                    </a:lnTo>
                    <a:lnTo>
                      <a:pt x="710" y="0"/>
                    </a:lnTo>
                    <a:lnTo>
                      <a:pt x="708" y="0"/>
                    </a:lnTo>
                    <a:lnTo>
                      <a:pt x="706" y="0"/>
                    </a:lnTo>
                    <a:lnTo>
                      <a:pt x="704" y="0"/>
                    </a:lnTo>
                    <a:lnTo>
                      <a:pt x="702" y="0"/>
                    </a:lnTo>
                    <a:lnTo>
                      <a:pt x="700" y="0"/>
                    </a:lnTo>
                    <a:lnTo>
                      <a:pt x="698" y="0"/>
                    </a:lnTo>
                    <a:lnTo>
                      <a:pt x="696" y="0"/>
                    </a:lnTo>
                    <a:lnTo>
                      <a:pt x="694" y="0"/>
                    </a:lnTo>
                    <a:lnTo>
                      <a:pt x="692" y="0"/>
                    </a:lnTo>
                    <a:lnTo>
                      <a:pt x="690" y="0"/>
                    </a:lnTo>
                    <a:lnTo>
                      <a:pt x="688" y="0"/>
                    </a:lnTo>
                    <a:lnTo>
                      <a:pt x="686" y="0"/>
                    </a:lnTo>
                    <a:lnTo>
                      <a:pt x="684" y="0"/>
                    </a:lnTo>
                    <a:lnTo>
                      <a:pt x="682" y="0"/>
                    </a:lnTo>
                    <a:lnTo>
                      <a:pt x="679" y="0"/>
                    </a:lnTo>
                    <a:lnTo>
                      <a:pt x="677" y="0"/>
                    </a:lnTo>
                    <a:lnTo>
                      <a:pt x="675" y="0"/>
                    </a:lnTo>
                    <a:lnTo>
                      <a:pt x="673" y="0"/>
                    </a:lnTo>
                    <a:lnTo>
                      <a:pt x="671" y="0"/>
                    </a:lnTo>
                    <a:lnTo>
                      <a:pt x="669" y="0"/>
                    </a:lnTo>
                    <a:lnTo>
                      <a:pt x="667" y="0"/>
                    </a:lnTo>
                    <a:lnTo>
                      <a:pt x="665" y="0"/>
                    </a:lnTo>
                    <a:lnTo>
                      <a:pt x="663" y="0"/>
                    </a:lnTo>
                    <a:lnTo>
                      <a:pt x="661" y="0"/>
                    </a:lnTo>
                    <a:lnTo>
                      <a:pt x="659" y="0"/>
                    </a:lnTo>
                    <a:lnTo>
                      <a:pt x="657" y="0"/>
                    </a:lnTo>
                    <a:lnTo>
                      <a:pt x="655" y="0"/>
                    </a:lnTo>
                    <a:lnTo>
                      <a:pt x="653" y="0"/>
                    </a:lnTo>
                    <a:lnTo>
                      <a:pt x="651" y="0"/>
                    </a:lnTo>
                    <a:lnTo>
                      <a:pt x="649" y="0"/>
                    </a:lnTo>
                    <a:lnTo>
                      <a:pt x="647" y="0"/>
                    </a:lnTo>
                    <a:lnTo>
                      <a:pt x="645" y="0"/>
                    </a:lnTo>
                    <a:lnTo>
                      <a:pt x="642" y="0"/>
                    </a:lnTo>
                    <a:lnTo>
                      <a:pt x="640" y="0"/>
                    </a:lnTo>
                    <a:lnTo>
                      <a:pt x="638" y="0"/>
                    </a:lnTo>
                    <a:lnTo>
                      <a:pt x="636" y="0"/>
                    </a:lnTo>
                    <a:lnTo>
                      <a:pt x="634" y="0"/>
                    </a:lnTo>
                    <a:lnTo>
                      <a:pt x="632" y="0"/>
                    </a:lnTo>
                    <a:lnTo>
                      <a:pt x="630" y="0"/>
                    </a:lnTo>
                    <a:lnTo>
                      <a:pt x="628" y="0"/>
                    </a:lnTo>
                    <a:lnTo>
                      <a:pt x="626" y="0"/>
                    </a:lnTo>
                    <a:lnTo>
                      <a:pt x="624" y="0"/>
                    </a:lnTo>
                    <a:lnTo>
                      <a:pt x="622" y="0"/>
                    </a:lnTo>
                    <a:lnTo>
                      <a:pt x="620" y="0"/>
                    </a:lnTo>
                    <a:lnTo>
                      <a:pt x="618" y="0"/>
                    </a:lnTo>
                    <a:lnTo>
                      <a:pt x="616" y="0"/>
                    </a:lnTo>
                    <a:lnTo>
                      <a:pt x="614" y="0"/>
                    </a:lnTo>
                    <a:lnTo>
                      <a:pt x="612" y="0"/>
                    </a:lnTo>
                    <a:lnTo>
                      <a:pt x="610" y="0"/>
                    </a:lnTo>
                    <a:lnTo>
                      <a:pt x="608" y="0"/>
                    </a:lnTo>
                    <a:lnTo>
                      <a:pt x="606" y="0"/>
                    </a:lnTo>
                    <a:lnTo>
                      <a:pt x="604" y="0"/>
                    </a:lnTo>
                    <a:lnTo>
                      <a:pt x="602" y="0"/>
                    </a:lnTo>
                    <a:lnTo>
                      <a:pt x="600" y="0"/>
                    </a:lnTo>
                    <a:lnTo>
                      <a:pt x="598" y="0"/>
                    </a:lnTo>
                    <a:lnTo>
                      <a:pt x="596" y="0"/>
                    </a:lnTo>
                    <a:lnTo>
                      <a:pt x="593" y="0"/>
                    </a:lnTo>
                    <a:lnTo>
                      <a:pt x="591" y="0"/>
                    </a:lnTo>
                    <a:lnTo>
                      <a:pt x="589" y="0"/>
                    </a:lnTo>
                    <a:lnTo>
                      <a:pt x="587" y="0"/>
                    </a:lnTo>
                    <a:lnTo>
                      <a:pt x="585" y="0"/>
                    </a:lnTo>
                    <a:lnTo>
                      <a:pt x="583" y="0"/>
                    </a:lnTo>
                    <a:lnTo>
                      <a:pt x="581" y="0"/>
                    </a:lnTo>
                    <a:lnTo>
                      <a:pt x="579" y="0"/>
                    </a:lnTo>
                    <a:lnTo>
                      <a:pt x="577" y="0"/>
                    </a:lnTo>
                    <a:lnTo>
                      <a:pt x="575" y="0"/>
                    </a:lnTo>
                    <a:lnTo>
                      <a:pt x="573" y="0"/>
                    </a:lnTo>
                    <a:lnTo>
                      <a:pt x="571" y="0"/>
                    </a:lnTo>
                    <a:lnTo>
                      <a:pt x="569" y="0"/>
                    </a:lnTo>
                    <a:lnTo>
                      <a:pt x="567" y="0"/>
                    </a:lnTo>
                    <a:lnTo>
                      <a:pt x="565" y="0"/>
                    </a:lnTo>
                    <a:lnTo>
                      <a:pt x="563" y="0"/>
                    </a:lnTo>
                    <a:lnTo>
                      <a:pt x="561" y="0"/>
                    </a:lnTo>
                    <a:lnTo>
                      <a:pt x="559" y="0"/>
                    </a:lnTo>
                    <a:lnTo>
                      <a:pt x="556" y="0"/>
                    </a:lnTo>
                    <a:lnTo>
                      <a:pt x="554" y="0"/>
                    </a:lnTo>
                    <a:lnTo>
                      <a:pt x="552" y="0"/>
                    </a:lnTo>
                    <a:lnTo>
                      <a:pt x="550" y="0"/>
                    </a:lnTo>
                    <a:lnTo>
                      <a:pt x="548" y="0"/>
                    </a:lnTo>
                    <a:lnTo>
                      <a:pt x="546" y="0"/>
                    </a:lnTo>
                    <a:lnTo>
                      <a:pt x="544" y="0"/>
                    </a:lnTo>
                    <a:lnTo>
                      <a:pt x="542" y="0"/>
                    </a:lnTo>
                    <a:lnTo>
                      <a:pt x="540" y="0"/>
                    </a:lnTo>
                    <a:lnTo>
                      <a:pt x="538" y="0"/>
                    </a:lnTo>
                    <a:lnTo>
                      <a:pt x="536" y="0"/>
                    </a:lnTo>
                    <a:lnTo>
                      <a:pt x="534" y="0"/>
                    </a:lnTo>
                    <a:lnTo>
                      <a:pt x="532" y="0"/>
                    </a:lnTo>
                    <a:lnTo>
                      <a:pt x="530" y="0"/>
                    </a:lnTo>
                    <a:lnTo>
                      <a:pt x="528" y="0"/>
                    </a:lnTo>
                    <a:lnTo>
                      <a:pt x="526" y="0"/>
                    </a:lnTo>
                    <a:lnTo>
                      <a:pt x="524" y="1"/>
                    </a:lnTo>
                    <a:lnTo>
                      <a:pt x="522" y="1"/>
                    </a:lnTo>
                    <a:lnTo>
                      <a:pt x="519" y="1"/>
                    </a:lnTo>
                    <a:lnTo>
                      <a:pt x="517" y="1"/>
                    </a:lnTo>
                    <a:lnTo>
                      <a:pt x="515" y="1"/>
                    </a:lnTo>
                    <a:lnTo>
                      <a:pt x="513" y="1"/>
                    </a:lnTo>
                    <a:lnTo>
                      <a:pt x="511" y="1"/>
                    </a:lnTo>
                    <a:lnTo>
                      <a:pt x="509" y="1"/>
                    </a:lnTo>
                    <a:lnTo>
                      <a:pt x="507" y="1"/>
                    </a:lnTo>
                    <a:lnTo>
                      <a:pt x="505" y="1"/>
                    </a:lnTo>
                    <a:lnTo>
                      <a:pt x="503" y="1"/>
                    </a:lnTo>
                    <a:lnTo>
                      <a:pt x="501" y="1"/>
                    </a:lnTo>
                    <a:lnTo>
                      <a:pt x="499" y="1"/>
                    </a:lnTo>
                    <a:lnTo>
                      <a:pt x="497" y="1"/>
                    </a:lnTo>
                    <a:lnTo>
                      <a:pt x="495" y="1"/>
                    </a:lnTo>
                    <a:lnTo>
                      <a:pt x="493" y="1"/>
                    </a:lnTo>
                    <a:lnTo>
                      <a:pt x="491" y="1"/>
                    </a:lnTo>
                    <a:lnTo>
                      <a:pt x="489" y="1"/>
                    </a:lnTo>
                    <a:lnTo>
                      <a:pt x="487" y="1"/>
                    </a:lnTo>
                    <a:lnTo>
                      <a:pt x="485" y="2"/>
                    </a:lnTo>
                    <a:lnTo>
                      <a:pt x="482" y="2"/>
                    </a:lnTo>
                    <a:lnTo>
                      <a:pt x="480" y="2"/>
                    </a:lnTo>
                    <a:lnTo>
                      <a:pt x="478" y="2"/>
                    </a:lnTo>
                    <a:lnTo>
                      <a:pt x="476" y="2"/>
                    </a:lnTo>
                    <a:lnTo>
                      <a:pt x="474" y="2"/>
                    </a:lnTo>
                    <a:lnTo>
                      <a:pt x="472" y="2"/>
                    </a:lnTo>
                    <a:lnTo>
                      <a:pt x="470" y="2"/>
                    </a:lnTo>
                    <a:lnTo>
                      <a:pt x="468" y="2"/>
                    </a:lnTo>
                    <a:lnTo>
                      <a:pt x="466" y="3"/>
                    </a:lnTo>
                    <a:lnTo>
                      <a:pt x="464" y="3"/>
                    </a:lnTo>
                    <a:lnTo>
                      <a:pt x="462" y="3"/>
                    </a:lnTo>
                    <a:lnTo>
                      <a:pt x="460" y="3"/>
                    </a:lnTo>
                    <a:lnTo>
                      <a:pt x="458" y="3"/>
                    </a:lnTo>
                    <a:lnTo>
                      <a:pt x="456" y="3"/>
                    </a:lnTo>
                    <a:lnTo>
                      <a:pt x="454" y="5"/>
                    </a:lnTo>
                    <a:lnTo>
                      <a:pt x="452" y="5"/>
                    </a:lnTo>
                    <a:lnTo>
                      <a:pt x="450" y="5"/>
                    </a:lnTo>
                    <a:lnTo>
                      <a:pt x="448" y="5"/>
                    </a:lnTo>
                    <a:lnTo>
                      <a:pt x="445" y="5"/>
                    </a:lnTo>
                    <a:lnTo>
                      <a:pt x="443" y="5"/>
                    </a:lnTo>
                    <a:lnTo>
                      <a:pt x="441" y="5"/>
                    </a:lnTo>
                    <a:lnTo>
                      <a:pt x="439" y="5"/>
                    </a:lnTo>
                    <a:lnTo>
                      <a:pt x="437" y="5"/>
                    </a:lnTo>
                    <a:lnTo>
                      <a:pt x="435" y="7"/>
                    </a:lnTo>
                    <a:lnTo>
                      <a:pt x="433" y="7"/>
                    </a:lnTo>
                    <a:lnTo>
                      <a:pt x="431" y="7"/>
                    </a:lnTo>
                    <a:lnTo>
                      <a:pt x="429" y="8"/>
                    </a:lnTo>
                    <a:lnTo>
                      <a:pt x="427" y="8"/>
                    </a:lnTo>
                    <a:lnTo>
                      <a:pt x="425" y="8"/>
                    </a:lnTo>
                    <a:lnTo>
                      <a:pt x="423" y="9"/>
                    </a:lnTo>
                    <a:lnTo>
                      <a:pt x="421" y="9"/>
                    </a:lnTo>
                    <a:lnTo>
                      <a:pt x="419" y="9"/>
                    </a:lnTo>
                    <a:lnTo>
                      <a:pt x="419" y="10"/>
                    </a:lnTo>
                    <a:lnTo>
                      <a:pt x="417" y="10"/>
                    </a:lnTo>
                    <a:lnTo>
                      <a:pt x="415" y="10"/>
                    </a:lnTo>
                    <a:lnTo>
                      <a:pt x="415" y="11"/>
                    </a:lnTo>
                    <a:lnTo>
                      <a:pt x="413" y="11"/>
                    </a:lnTo>
                    <a:lnTo>
                      <a:pt x="411" y="11"/>
                    </a:lnTo>
                    <a:lnTo>
                      <a:pt x="409" y="12"/>
                    </a:lnTo>
                    <a:lnTo>
                      <a:pt x="407" y="12"/>
                    </a:lnTo>
                    <a:lnTo>
                      <a:pt x="405" y="13"/>
                    </a:lnTo>
                    <a:lnTo>
                      <a:pt x="403" y="14"/>
                    </a:lnTo>
                    <a:lnTo>
                      <a:pt x="401" y="14"/>
                    </a:lnTo>
                    <a:lnTo>
                      <a:pt x="399" y="15"/>
                    </a:lnTo>
                    <a:lnTo>
                      <a:pt x="396" y="16"/>
                    </a:lnTo>
                    <a:lnTo>
                      <a:pt x="394" y="16"/>
                    </a:lnTo>
                    <a:lnTo>
                      <a:pt x="392" y="18"/>
                    </a:lnTo>
                    <a:lnTo>
                      <a:pt x="390" y="19"/>
                    </a:lnTo>
                    <a:lnTo>
                      <a:pt x="388" y="19"/>
                    </a:lnTo>
                    <a:lnTo>
                      <a:pt x="388" y="20"/>
                    </a:lnTo>
                    <a:lnTo>
                      <a:pt x="386" y="20"/>
                    </a:lnTo>
                    <a:lnTo>
                      <a:pt x="384" y="21"/>
                    </a:lnTo>
                    <a:lnTo>
                      <a:pt x="382" y="22"/>
                    </a:lnTo>
                    <a:lnTo>
                      <a:pt x="380" y="23"/>
                    </a:lnTo>
                    <a:lnTo>
                      <a:pt x="378" y="24"/>
                    </a:lnTo>
                    <a:lnTo>
                      <a:pt x="378" y="25"/>
                    </a:lnTo>
                    <a:lnTo>
                      <a:pt x="376" y="25"/>
                    </a:lnTo>
                    <a:lnTo>
                      <a:pt x="374" y="26"/>
                    </a:lnTo>
                    <a:lnTo>
                      <a:pt x="372" y="28"/>
                    </a:lnTo>
                    <a:lnTo>
                      <a:pt x="372" y="29"/>
                    </a:lnTo>
                    <a:lnTo>
                      <a:pt x="370" y="30"/>
                    </a:lnTo>
                    <a:lnTo>
                      <a:pt x="368" y="31"/>
                    </a:lnTo>
                    <a:lnTo>
                      <a:pt x="366" y="31"/>
                    </a:lnTo>
                    <a:lnTo>
                      <a:pt x="366" y="32"/>
                    </a:lnTo>
                    <a:lnTo>
                      <a:pt x="364" y="33"/>
                    </a:lnTo>
                    <a:lnTo>
                      <a:pt x="362" y="34"/>
                    </a:lnTo>
                    <a:lnTo>
                      <a:pt x="362" y="35"/>
                    </a:lnTo>
                    <a:lnTo>
                      <a:pt x="360" y="36"/>
                    </a:lnTo>
                    <a:lnTo>
                      <a:pt x="357" y="37"/>
                    </a:lnTo>
                    <a:lnTo>
                      <a:pt x="355" y="40"/>
                    </a:lnTo>
                    <a:lnTo>
                      <a:pt x="355" y="41"/>
                    </a:lnTo>
                    <a:lnTo>
                      <a:pt x="353" y="42"/>
                    </a:lnTo>
                    <a:lnTo>
                      <a:pt x="351" y="43"/>
                    </a:lnTo>
                    <a:lnTo>
                      <a:pt x="351" y="44"/>
                    </a:lnTo>
                    <a:lnTo>
                      <a:pt x="349" y="46"/>
                    </a:lnTo>
                    <a:lnTo>
                      <a:pt x="347" y="47"/>
                    </a:lnTo>
                    <a:lnTo>
                      <a:pt x="345" y="49"/>
                    </a:lnTo>
                    <a:lnTo>
                      <a:pt x="345" y="50"/>
                    </a:lnTo>
                    <a:lnTo>
                      <a:pt x="343" y="52"/>
                    </a:lnTo>
                    <a:lnTo>
                      <a:pt x="341" y="53"/>
                    </a:lnTo>
                    <a:lnTo>
                      <a:pt x="339" y="55"/>
                    </a:lnTo>
                    <a:lnTo>
                      <a:pt x="339" y="56"/>
                    </a:lnTo>
                    <a:lnTo>
                      <a:pt x="337" y="58"/>
                    </a:lnTo>
                    <a:lnTo>
                      <a:pt x="335" y="60"/>
                    </a:lnTo>
                    <a:lnTo>
                      <a:pt x="335" y="62"/>
                    </a:lnTo>
                    <a:lnTo>
                      <a:pt x="333" y="63"/>
                    </a:lnTo>
                    <a:lnTo>
                      <a:pt x="331" y="65"/>
                    </a:lnTo>
                    <a:lnTo>
                      <a:pt x="329" y="67"/>
                    </a:lnTo>
                    <a:lnTo>
                      <a:pt x="329" y="70"/>
                    </a:lnTo>
                    <a:lnTo>
                      <a:pt x="327" y="71"/>
                    </a:lnTo>
                    <a:lnTo>
                      <a:pt x="325" y="73"/>
                    </a:lnTo>
                    <a:lnTo>
                      <a:pt x="325" y="75"/>
                    </a:lnTo>
                    <a:lnTo>
                      <a:pt x="323" y="77"/>
                    </a:lnTo>
                    <a:lnTo>
                      <a:pt x="320" y="79"/>
                    </a:lnTo>
                    <a:lnTo>
                      <a:pt x="318" y="82"/>
                    </a:lnTo>
                    <a:lnTo>
                      <a:pt x="318" y="84"/>
                    </a:lnTo>
                    <a:lnTo>
                      <a:pt x="316" y="86"/>
                    </a:lnTo>
                    <a:lnTo>
                      <a:pt x="314" y="88"/>
                    </a:lnTo>
                    <a:lnTo>
                      <a:pt x="312" y="90"/>
                    </a:lnTo>
                    <a:lnTo>
                      <a:pt x="312" y="93"/>
                    </a:lnTo>
                    <a:lnTo>
                      <a:pt x="310" y="95"/>
                    </a:lnTo>
                    <a:lnTo>
                      <a:pt x="308" y="97"/>
                    </a:lnTo>
                    <a:lnTo>
                      <a:pt x="308" y="99"/>
                    </a:lnTo>
                    <a:lnTo>
                      <a:pt x="306" y="103"/>
                    </a:lnTo>
                    <a:lnTo>
                      <a:pt x="304" y="105"/>
                    </a:lnTo>
                    <a:lnTo>
                      <a:pt x="302" y="107"/>
                    </a:lnTo>
                    <a:lnTo>
                      <a:pt x="302" y="109"/>
                    </a:lnTo>
                    <a:lnTo>
                      <a:pt x="300" y="112"/>
                    </a:lnTo>
                    <a:lnTo>
                      <a:pt x="298" y="115"/>
                    </a:lnTo>
                    <a:lnTo>
                      <a:pt x="298" y="118"/>
                    </a:lnTo>
                    <a:lnTo>
                      <a:pt x="296" y="120"/>
                    </a:lnTo>
                    <a:lnTo>
                      <a:pt x="294" y="122"/>
                    </a:lnTo>
                    <a:lnTo>
                      <a:pt x="292" y="126"/>
                    </a:lnTo>
                    <a:lnTo>
                      <a:pt x="292" y="128"/>
                    </a:lnTo>
                    <a:lnTo>
                      <a:pt x="290" y="131"/>
                    </a:lnTo>
                    <a:lnTo>
                      <a:pt x="288" y="133"/>
                    </a:lnTo>
                    <a:lnTo>
                      <a:pt x="288" y="137"/>
                    </a:lnTo>
                    <a:lnTo>
                      <a:pt x="286" y="139"/>
                    </a:lnTo>
                    <a:lnTo>
                      <a:pt x="283" y="142"/>
                    </a:lnTo>
                    <a:lnTo>
                      <a:pt x="281" y="146"/>
                    </a:lnTo>
                    <a:lnTo>
                      <a:pt x="281" y="148"/>
                    </a:lnTo>
                    <a:lnTo>
                      <a:pt x="279" y="151"/>
                    </a:lnTo>
                    <a:lnTo>
                      <a:pt x="277" y="153"/>
                    </a:lnTo>
                    <a:lnTo>
                      <a:pt x="275" y="157"/>
                    </a:lnTo>
                    <a:lnTo>
                      <a:pt x="275" y="160"/>
                    </a:lnTo>
                    <a:lnTo>
                      <a:pt x="273" y="162"/>
                    </a:lnTo>
                    <a:lnTo>
                      <a:pt x="271" y="165"/>
                    </a:lnTo>
                    <a:lnTo>
                      <a:pt x="271" y="169"/>
                    </a:lnTo>
                    <a:lnTo>
                      <a:pt x="269" y="171"/>
                    </a:lnTo>
                    <a:lnTo>
                      <a:pt x="267" y="174"/>
                    </a:lnTo>
                    <a:lnTo>
                      <a:pt x="265" y="177"/>
                    </a:lnTo>
                    <a:lnTo>
                      <a:pt x="265" y="180"/>
                    </a:lnTo>
                    <a:lnTo>
                      <a:pt x="263" y="183"/>
                    </a:lnTo>
                    <a:lnTo>
                      <a:pt x="261" y="186"/>
                    </a:lnTo>
                    <a:lnTo>
                      <a:pt x="261" y="189"/>
                    </a:lnTo>
                    <a:lnTo>
                      <a:pt x="259" y="192"/>
                    </a:lnTo>
                    <a:lnTo>
                      <a:pt x="257" y="195"/>
                    </a:lnTo>
                    <a:lnTo>
                      <a:pt x="255" y="197"/>
                    </a:lnTo>
                    <a:lnTo>
                      <a:pt x="255" y="201"/>
                    </a:lnTo>
                    <a:lnTo>
                      <a:pt x="253" y="204"/>
                    </a:lnTo>
                    <a:lnTo>
                      <a:pt x="251" y="206"/>
                    </a:lnTo>
                    <a:lnTo>
                      <a:pt x="249" y="210"/>
                    </a:lnTo>
                    <a:lnTo>
                      <a:pt x="249" y="212"/>
                    </a:lnTo>
                    <a:lnTo>
                      <a:pt x="246" y="215"/>
                    </a:lnTo>
                    <a:lnTo>
                      <a:pt x="244" y="217"/>
                    </a:lnTo>
                    <a:lnTo>
                      <a:pt x="244" y="221"/>
                    </a:lnTo>
                    <a:lnTo>
                      <a:pt x="242" y="224"/>
                    </a:lnTo>
                    <a:lnTo>
                      <a:pt x="240" y="226"/>
                    </a:lnTo>
                    <a:lnTo>
                      <a:pt x="238" y="229"/>
                    </a:lnTo>
                    <a:lnTo>
                      <a:pt x="238" y="232"/>
                    </a:lnTo>
                    <a:lnTo>
                      <a:pt x="236" y="234"/>
                    </a:lnTo>
                    <a:lnTo>
                      <a:pt x="234" y="237"/>
                    </a:lnTo>
                    <a:lnTo>
                      <a:pt x="234" y="239"/>
                    </a:lnTo>
                    <a:lnTo>
                      <a:pt x="232" y="243"/>
                    </a:lnTo>
                    <a:lnTo>
                      <a:pt x="230" y="245"/>
                    </a:lnTo>
                    <a:lnTo>
                      <a:pt x="228" y="247"/>
                    </a:lnTo>
                    <a:lnTo>
                      <a:pt x="228" y="250"/>
                    </a:lnTo>
                    <a:lnTo>
                      <a:pt x="226" y="252"/>
                    </a:lnTo>
                    <a:lnTo>
                      <a:pt x="224" y="255"/>
                    </a:lnTo>
                    <a:lnTo>
                      <a:pt x="222" y="257"/>
                    </a:lnTo>
                    <a:lnTo>
                      <a:pt x="222" y="260"/>
                    </a:lnTo>
                    <a:lnTo>
                      <a:pt x="220" y="262"/>
                    </a:lnTo>
                    <a:lnTo>
                      <a:pt x="218" y="265"/>
                    </a:lnTo>
                    <a:lnTo>
                      <a:pt x="218" y="267"/>
                    </a:lnTo>
                    <a:lnTo>
                      <a:pt x="216" y="269"/>
                    </a:lnTo>
                    <a:lnTo>
                      <a:pt x="214" y="271"/>
                    </a:lnTo>
                    <a:lnTo>
                      <a:pt x="212" y="273"/>
                    </a:lnTo>
                    <a:lnTo>
                      <a:pt x="212" y="276"/>
                    </a:lnTo>
                    <a:lnTo>
                      <a:pt x="210" y="278"/>
                    </a:lnTo>
                    <a:lnTo>
                      <a:pt x="208" y="280"/>
                    </a:lnTo>
                    <a:lnTo>
                      <a:pt x="208" y="282"/>
                    </a:lnTo>
                    <a:lnTo>
                      <a:pt x="206" y="285"/>
                    </a:lnTo>
                    <a:lnTo>
                      <a:pt x="204" y="287"/>
                    </a:lnTo>
                    <a:lnTo>
                      <a:pt x="202" y="289"/>
                    </a:lnTo>
                    <a:lnTo>
                      <a:pt x="202" y="291"/>
                    </a:lnTo>
                    <a:lnTo>
                      <a:pt x="200" y="292"/>
                    </a:lnTo>
                    <a:lnTo>
                      <a:pt x="197" y="294"/>
                    </a:lnTo>
                    <a:lnTo>
                      <a:pt x="195" y="297"/>
                    </a:lnTo>
                    <a:lnTo>
                      <a:pt x="195" y="299"/>
                    </a:lnTo>
                    <a:lnTo>
                      <a:pt x="193" y="300"/>
                    </a:lnTo>
                    <a:lnTo>
                      <a:pt x="191" y="302"/>
                    </a:lnTo>
                    <a:lnTo>
                      <a:pt x="191" y="304"/>
                    </a:lnTo>
                    <a:lnTo>
                      <a:pt x="189" y="306"/>
                    </a:lnTo>
                    <a:lnTo>
                      <a:pt x="187" y="308"/>
                    </a:lnTo>
                    <a:lnTo>
                      <a:pt x="185" y="309"/>
                    </a:lnTo>
                    <a:lnTo>
                      <a:pt x="185" y="311"/>
                    </a:lnTo>
                    <a:lnTo>
                      <a:pt x="183" y="312"/>
                    </a:lnTo>
                    <a:lnTo>
                      <a:pt x="181" y="314"/>
                    </a:lnTo>
                    <a:lnTo>
                      <a:pt x="181" y="315"/>
                    </a:lnTo>
                    <a:lnTo>
                      <a:pt x="179" y="318"/>
                    </a:lnTo>
                    <a:lnTo>
                      <a:pt x="177" y="319"/>
                    </a:lnTo>
                    <a:lnTo>
                      <a:pt x="175" y="321"/>
                    </a:lnTo>
                    <a:lnTo>
                      <a:pt x="175" y="322"/>
                    </a:lnTo>
                    <a:lnTo>
                      <a:pt x="173" y="323"/>
                    </a:lnTo>
                    <a:lnTo>
                      <a:pt x="171" y="324"/>
                    </a:lnTo>
                    <a:lnTo>
                      <a:pt x="169" y="326"/>
                    </a:lnTo>
                    <a:lnTo>
                      <a:pt x="169" y="327"/>
                    </a:lnTo>
                    <a:lnTo>
                      <a:pt x="167" y="329"/>
                    </a:lnTo>
                    <a:lnTo>
                      <a:pt x="165" y="330"/>
                    </a:lnTo>
                    <a:lnTo>
                      <a:pt x="165" y="332"/>
                    </a:lnTo>
                    <a:lnTo>
                      <a:pt x="163" y="333"/>
                    </a:lnTo>
                    <a:lnTo>
                      <a:pt x="160" y="334"/>
                    </a:lnTo>
                    <a:lnTo>
                      <a:pt x="158" y="335"/>
                    </a:lnTo>
                    <a:lnTo>
                      <a:pt x="158" y="336"/>
                    </a:lnTo>
                    <a:lnTo>
                      <a:pt x="156" y="337"/>
                    </a:lnTo>
                    <a:lnTo>
                      <a:pt x="154" y="339"/>
                    </a:lnTo>
                    <a:lnTo>
                      <a:pt x="154" y="340"/>
                    </a:lnTo>
                    <a:lnTo>
                      <a:pt x="152" y="341"/>
                    </a:lnTo>
                    <a:lnTo>
                      <a:pt x="150" y="342"/>
                    </a:lnTo>
                    <a:lnTo>
                      <a:pt x="148" y="343"/>
                    </a:lnTo>
                    <a:lnTo>
                      <a:pt x="148" y="344"/>
                    </a:lnTo>
                    <a:lnTo>
                      <a:pt x="146" y="345"/>
                    </a:lnTo>
                    <a:lnTo>
                      <a:pt x="144" y="346"/>
                    </a:lnTo>
                    <a:lnTo>
                      <a:pt x="144" y="347"/>
                    </a:lnTo>
                    <a:lnTo>
                      <a:pt x="142" y="347"/>
                    </a:lnTo>
                    <a:lnTo>
                      <a:pt x="140" y="348"/>
                    </a:lnTo>
                    <a:lnTo>
                      <a:pt x="138" y="350"/>
                    </a:lnTo>
                    <a:lnTo>
                      <a:pt x="138" y="351"/>
                    </a:lnTo>
                    <a:lnTo>
                      <a:pt x="136" y="352"/>
                    </a:lnTo>
                    <a:lnTo>
                      <a:pt x="134" y="352"/>
                    </a:lnTo>
                    <a:lnTo>
                      <a:pt x="132" y="353"/>
                    </a:lnTo>
                    <a:lnTo>
                      <a:pt x="132" y="354"/>
                    </a:lnTo>
                    <a:lnTo>
                      <a:pt x="130" y="355"/>
                    </a:lnTo>
                    <a:lnTo>
                      <a:pt x="128" y="355"/>
                    </a:lnTo>
                    <a:lnTo>
                      <a:pt x="128" y="356"/>
                    </a:lnTo>
                    <a:lnTo>
                      <a:pt x="126" y="356"/>
                    </a:lnTo>
                    <a:lnTo>
                      <a:pt x="123" y="357"/>
                    </a:lnTo>
                    <a:lnTo>
                      <a:pt x="121" y="358"/>
                    </a:lnTo>
                    <a:lnTo>
                      <a:pt x="119" y="360"/>
                    </a:lnTo>
                    <a:lnTo>
                      <a:pt x="117" y="360"/>
                    </a:lnTo>
                    <a:lnTo>
                      <a:pt x="117" y="361"/>
                    </a:lnTo>
                    <a:lnTo>
                      <a:pt x="115" y="362"/>
                    </a:lnTo>
                    <a:lnTo>
                      <a:pt x="113" y="362"/>
                    </a:lnTo>
                    <a:lnTo>
                      <a:pt x="111" y="363"/>
                    </a:lnTo>
                    <a:lnTo>
                      <a:pt x="109" y="364"/>
                    </a:lnTo>
                    <a:lnTo>
                      <a:pt x="107" y="364"/>
                    </a:lnTo>
                    <a:lnTo>
                      <a:pt x="105" y="364"/>
                    </a:lnTo>
                    <a:lnTo>
                      <a:pt x="105" y="365"/>
                    </a:lnTo>
                    <a:lnTo>
                      <a:pt x="103" y="365"/>
                    </a:lnTo>
                    <a:lnTo>
                      <a:pt x="101" y="366"/>
                    </a:lnTo>
                    <a:lnTo>
                      <a:pt x="99" y="367"/>
                    </a:lnTo>
                    <a:lnTo>
                      <a:pt x="97" y="367"/>
                    </a:lnTo>
                    <a:lnTo>
                      <a:pt x="95" y="367"/>
                    </a:lnTo>
                    <a:lnTo>
                      <a:pt x="95" y="368"/>
                    </a:lnTo>
                    <a:lnTo>
                      <a:pt x="93" y="368"/>
                    </a:lnTo>
                    <a:lnTo>
                      <a:pt x="91" y="368"/>
                    </a:lnTo>
                    <a:lnTo>
                      <a:pt x="91" y="369"/>
                    </a:lnTo>
                    <a:lnTo>
                      <a:pt x="89" y="369"/>
                    </a:lnTo>
                    <a:lnTo>
                      <a:pt x="86" y="369"/>
                    </a:lnTo>
                    <a:lnTo>
                      <a:pt x="84" y="371"/>
                    </a:lnTo>
                    <a:lnTo>
                      <a:pt x="82" y="371"/>
                    </a:lnTo>
                    <a:lnTo>
                      <a:pt x="80" y="371"/>
                    </a:lnTo>
                    <a:lnTo>
                      <a:pt x="78" y="372"/>
                    </a:lnTo>
                    <a:lnTo>
                      <a:pt x="76" y="372"/>
                    </a:lnTo>
                    <a:lnTo>
                      <a:pt x="74" y="372"/>
                    </a:lnTo>
                    <a:lnTo>
                      <a:pt x="74" y="373"/>
                    </a:lnTo>
                    <a:lnTo>
                      <a:pt x="72" y="373"/>
                    </a:lnTo>
                    <a:lnTo>
                      <a:pt x="70" y="373"/>
                    </a:lnTo>
                    <a:lnTo>
                      <a:pt x="68" y="373"/>
                    </a:lnTo>
                    <a:lnTo>
                      <a:pt x="66" y="373"/>
                    </a:lnTo>
                    <a:lnTo>
                      <a:pt x="64" y="374"/>
                    </a:lnTo>
                    <a:lnTo>
                      <a:pt x="62" y="374"/>
                    </a:lnTo>
                    <a:lnTo>
                      <a:pt x="60" y="374"/>
                    </a:lnTo>
                    <a:lnTo>
                      <a:pt x="58" y="374"/>
                    </a:lnTo>
                    <a:lnTo>
                      <a:pt x="56" y="374"/>
                    </a:lnTo>
                    <a:lnTo>
                      <a:pt x="54" y="375"/>
                    </a:lnTo>
                    <a:lnTo>
                      <a:pt x="52" y="375"/>
                    </a:lnTo>
                    <a:lnTo>
                      <a:pt x="49" y="375"/>
                    </a:lnTo>
                    <a:lnTo>
                      <a:pt x="47" y="375"/>
                    </a:lnTo>
                    <a:lnTo>
                      <a:pt x="45" y="375"/>
                    </a:lnTo>
                    <a:lnTo>
                      <a:pt x="43" y="375"/>
                    </a:lnTo>
                    <a:lnTo>
                      <a:pt x="42" y="375"/>
                    </a:lnTo>
                    <a:lnTo>
                      <a:pt x="40" y="375"/>
                    </a:lnTo>
                    <a:lnTo>
                      <a:pt x="37" y="375"/>
                    </a:lnTo>
                    <a:lnTo>
                      <a:pt x="37" y="376"/>
                    </a:lnTo>
                    <a:lnTo>
                      <a:pt x="35" y="376"/>
                    </a:lnTo>
                    <a:lnTo>
                      <a:pt x="33" y="376"/>
                    </a:lnTo>
                    <a:lnTo>
                      <a:pt x="31" y="376"/>
                    </a:lnTo>
                    <a:lnTo>
                      <a:pt x="29" y="376"/>
                    </a:lnTo>
                    <a:lnTo>
                      <a:pt x="27" y="376"/>
                    </a:lnTo>
                    <a:lnTo>
                      <a:pt x="25" y="376"/>
                    </a:lnTo>
                    <a:lnTo>
                      <a:pt x="23" y="376"/>
                    </a:lnTo>
                    <a:lnTo>
                      <a:pt x="21" y="376"/>
                    </a:lnTo>
                    <a:lnTo>
                      <a:pt x="19" y="376"/>
                    </a:lnTo>
                    <a:lnTo>
                      <a:pt x="17" y="376"/>
                    </a:lnTo>
                    <a:lnTo>
                      <a:pt x="15" y="376"/>
                    </a:lnTo>
                    <a:lnTo>
                      <a:pt x="13" y="376"/>
                    </a:lnTo>
                    <a:lnTo>
                      <a:pt x="11" y="376"/>
                    </a:lnTo>
                    <a:lnTo>
                      <a:pt x="9" y="376"/>
                    </a:lnTo>
                    <a:lnTo>
                      <a:pt x="7" y="376"/>
                    </a:lnTo>
                    <a:lnTo>
                      <a:pt x="5" y="376"/>
                    </a:lnTo>
                    <a:lnTo>
                      <a:pt x="3" y="376"/>
                    </a:lnTo>
                    <a:lnTo>
                      <a:pt x="0" y="376"/>
                    </a:lnTo>
                  </a:path>
                </a:pathLst>
              </a:custGeom>
              <a:noFill/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17520" y="3429000"/>
              <a:ext cx="848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516200" y="2225160"/>
              <a:ext cx="0" cy="120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4586040" y="2133720"/>
                  <a:ext cx="6109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w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"/>
            <p:cNvSpPr/>
            <p:nvPr/>
          </p:nvSpPr>
          <p:spPr>
            <a:xfrm>
              <a:off x="5522400" y="3409920"/>
              <a:ext cx="309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32000" y="3419640"/>
              <a:ext cx="386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707440" y="2819520"/>
              <a:ext cx="2225520" cy="600120"/>
              <a:chOff x="5707440" y="2819520"/>
              <a:chExt cx="2225520" cy="600120"/>
            </a:xfrm>
          </p:grpSpPr>
          <p:sp>
            <p:nvSpPr>
              <p:cNvPr id="224" name=""/>
              <p:cNvSpPr/>
              <p:nvPr/>
            </p:nvSpPr>
            <p:spPr>
              <a:xfrm>
                <a:off x="6825240" y="2819520"/>
                <a:ext cx="1107720" cy="598320"/>
              </a:xfrm>
              <a:custGeom>
                <a:avLst/>
                <a:gdLst/>
                <a:ahLst/>
                <a:rect l="l" t="t" r="r" b="b"/>
                <a:pathLst>
                  <a:path w="756" h="377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0"/>
                    </a:lnTo>
                    <a:lnTo>
                      <a:pt x="106" y="0"/>
                    </a:lnTo>
                    <a:lnTo>
                      <a:pt x="108" y="0"/>
                    </a:lnTo>
                    <a:lnTo>
                      <a:pt x="110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7" y="0"/>
                    </a:lnTo>
                    <a:lnTo>
                      <a:pt x="119" y="0"/>
                    </a:lnTo>
                    <a:lnTo>
                      <a:pt x="121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41" y="0"/>
                    </a:lnTo>
                    <a:lnTo>
                      <a:pt x="143" y="0"/>
                    </a:lnTo>
                    <a:lnTo>
                      <a:pt x="145" y="0"/>
                    </a:lnTo>
                    <a:lnTo>
                      <a:pt x="147" y="0"/>
                    </a:lnTo>
                    <a:lnTo>
                      <a:pt x="149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7" y="0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64" y="0"/>
                    </a:lnTo>
                    <a:lnTo>
                      <a:pt x="166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8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4" y="0"/>
                    </a:lnTo>
                    <a:lnTo>
                      <a:pt x="186" y="0"/>
                    </a:lnTo>
                    <a:lnTo>
                      <a:pt x="188" y="0"/>
                    </a:lnTo>
                    <a:lnTo>
                      <a:pt x="190" y="0"/>
                    </a:lnTo>
                    <a:lnTo>
                      <a:pt x="192" y="0"/>
                    </a:lnTo>
                    <a:lnTo>
                      <a:pt x="194" y="0"/>
                    </a:lnTo>
                    <a:lnTo>
                      <a:pt x="196" y="0"/>
                    </a:lnTo>
                    <a:lnTo>
                      <a:pt x="199" y="0"/>
                    </a:lnTo>
                    <a:lnTo>
                      <a:pt x="201" y="0"/>
                    </a:lnTo>
                    <a:lnTo>
                      <a:pt x="203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9" y="0"/>
                    </a:lnTo>
                    <a:lnTo>
                      <a:pt x="211" y="0"/>
                    </a:lnTo>
                    <a:lnTo>
                      <a:pt x="213" y="0"/>
                    </a:lnTo>
                    <a:lnTo>
                      <a:pt x="215" y="0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21" y="0"/>
                    </a:lnTo>
                    <a:lnTo>
                      <a:pt x="223" y="0"/>
                    </a:lnTo>
                    <a:lnTo>
                      <a:pt x="225" y="0"/>
                    </a:lnTo>
                    <a:lnTo>
                      <a:pt x="227" y="0"/>
                    </a:lnTo>
                    <a:lnTo>
                      <a:pt x="229" y="0"/>
                    </a:lnTo>
                    <a:lnTo>
                      <a:pt x="231" y="1"/>
                    </a:lnTo>
                    <a:lnTo>
                      <a:pt x="233" y="1"/>
                    </a:lnTo>
                    <a:lnTo>
                      <a:pt x="236" y="1"/>
                    </a:lnTo>
                    <a:lnTo>
                      <a:pt x="238" y="1"/>
                    </a:lnTo>
                    <a:lnTo>
                      <a:pt x="240" y="1"/>
                    </a:lnTo>
                    <a:lnTo>
                      <a:pt x="242" y="1"/>
                    </a:lnTo>
                    <a:lnTo>
                      <a:pt x="244" y="1"/>
                    </a:lnTo>
                    <a:lnTo>
                      <a:pt x="246" y="1"/>
                    </a:lnTo>
                    <a:lnTo>
                      <a:pt x="248" y="1"/>
                    </a:lnTo>
                    <a:lnTo>
                      <a:pt x="250" y="1"/>
                    </a:lnTo>
                    <a:lnTo>
                      <a:pt x="252" y="1"/>
                    </a:lnTo>
                    <a:lnTo>
                      <a:pt x="254" y="1"/>
                    </a:lnTo>
                    <a:lnTo>
                      <a:pt x="256" y="1"/>
                    </a:lnTo>
                    <a:lnTo>
                      <a:pt x="258" y="1"/>
                    </a:lnTo>
                    <a:lnTo>
                      <a:pt x="260" y="1"/>
                    </a:lnTo>
                    <a:lnTo>
                      <a:pt x="262" y="1"/>
                    </a:lnTo>
                    <a:lnTo>
                      <a:pt x="264" y="1"/>
                    </a:lnTo>
                    <a:lnTo>
                      <a:pt x="266" y="1"/>
                    </a:lnTo>
                    <a:lnTo>
                      <a:pt x="268" y="1"/>
                    </a:lnTo>
                    <a:lnTo>
                      <a:pt x="270" y="2"/>
                    </a:lnTo>
                    <a:lnTo>
                      <a:pt x="273" y="2"/>
                    </a:lnTo>
                    <a:lnTo>
                      <a:pt x="275" y="2"/>
                    </a:lnTo>
                    <a:lnTo>
                      <a:pt x="277" y="2"/>
                    </a:lnTo>
                    <a:lnTo>
                      <a:pt x="279" y="2"/>
                    </a:lnTo>
                    <a:lnTo>
                      <a:pt x="281" y="2"/>
                    </a:lnTo>
                    <a:lnTo>
                      <a:pt x="283" y="2"/>
                    </a:lnTo>
                    <a:lnTo>
                      <a:pt x="285" y="2"/>
                    </a:lnTo>
                    <a:lnTo>
                      <a:pt x="287" y="2"/>
                    </a:lnTo>
                    <a:lnTo>
                      <a:pt x="289" y="3"/>
                    </a:lnTo>
                    <a:lnTo>
                      <a:pt x="291" y="3"/>
                    </a:lnTo>
                    <a:lnTo>
                      <a:pt x="293" y="3"/>
                    </a:lnTo>
                    <a:lnTo>
                      <a:pt x="295" y="3"/>
                    </a:lnTo>
                    <a:lnTo>
                      <a:pt x="297" y="3"/>
                    </a:lnTo>
                    <a:lnTo>
                      <a:pt x="299" y="3"/>
                    </a:lnTo>
                    <a:lnTo>
                      <a:pt x="301" y="4"/>
                    </a:lnTo>
                    <a:lnTo>
                      <a:pt x="303" y="4"/>
                    </a:lnTo>
                    <a:lnTo>
                      <a:pt x="305" y="4"/>
                    </a:lnTo>
                    <a:lnTo>
                      <a:pt x="307" y="4"/>
                    </a:lnTo>
                    <a:lnTo>
                      <a:pt x="310" y="4"/>
                    </a:lnTo>
                    <a:lnTo>
                      <a:pt x="312" y="5"/>
                    </a:lnTo>
                    <a:lnTo>
                      <a:pt x="314" y="5"/>
                    </a:lnTo>
                    <a:lnTo>
                      <a:pt x="316" y="5"/>
                    </a:lnTo>
                    <a:lnTo>
                      <a:pt x="318" y="5"/>
                    </a:lnTo>
                    <a:lnTo>
                      <a:pt x="320" y="6"/>
                    </a:lnTo>
                    <a:lnTo>
                      <a:pt x="322" y="6"/>
                    </a:lnTo>
                    <a:lnTo>
                      <a:pt x="324" y="6"/>
                    </a:lnTo>
                    <a:lnTo>
                      <a:pt x="326" y="7"/>
                    </a:lnTo>
                    <a:lnTo>
                      <a:pt x="328" y="7"/>
                    </a:lnTo>
                    <a:lnTo>
                      <a:pt x="330" y="7"/>
                    </a:lnTo>
                    <a:lnTo>
                      <a:pt x="332" y="8"/>
                    </a:lnTo>
                    <a:lnTo>
                      <a:pt x="334" y="8"/>
                    </a:lnTo>
                    <a:lnTo>
                      <a:pt x="336" y="8"/>
                    </a:lnTo>
                    <a:lnTo>
                      <a:pt x="336" y="9"/>
                    </a:lnTo>
                    <a:lnTo>
                      <a:pt x="338" y="9"/>
                    </a:lnTo>
                    <a:lnTo>
                      <a:pt x="340" y="9"/>
                    </a:lnTo>
                    <a:lnTo>
                      <a:pt x="340" y="10"/>
                    </a:lnTo>
                    <a:lnTo>
                      <a:pt x="342" y="10"/>
                    </a:lnTo>
                    <a:lnTo>
                      <a:pt x="344" y="10"/>
                    </a:lnTo>
                    <a:lnTo>
                      <a:pt x="346" y="11"/>
                    </a:lnTo>
                    <a:lnTo>
                      <a:pt x="348" y="11"/>
                    </a:lnTo>
                    <a:lnTo>
                      <a:pt x="350" y="13"/>
                    </a:lnTo>
                    <a:lnTo>
                      <a:pt x="352" y="14"/>
                    </a:lnTo>
                    <a:lnTo>
                      <a:pt x="354" y="14"/>
                    </a:lnTo>
                    <a:lnTo>
                      <a:pt x="356" y="15"/>
                    </a:lnTo>
                    <a:lnTo>
                      <a:pt x="359" y="16"/>
                    </a:lnTo>
                    <a:lnTo>
                      <a:pt x="361" y="16"/>
                    </a:lnTo>
                    <a:lnTo>
                      <a:pt x="363" y="17"/>
                    </a:lnTo>
                    <a:lnTo>
                      <a:pt x="365" y="18"/>
                    </a:lnTo>
                    <a:lnTo>
                      <a:pt x="367" y="18"/>
                    </a:lnTo>
                    <a:lnTo>
                      <a:pt x="367" y="19"/>
                    </a:lnTo>
                    <a:lnTo>
                      <a:pt x="369" y="19"/>
                    </a:lnTo>
                    <a:lnTo>
                      <a:pt x="371" y="20"/>
                    </a:lnTo>
                    <a:lnTo>
                      <a:pt x="373" y="21"/>
                    </a:lnTo>
                    <a:lnTo>
                      <a:pt x="375" y="23"/>
                    </a:lnTo>
                    <a:lnTo>
                      <a:pt x="377" y="24"/>
                    </a:lnTo>
                    <a:lnTo>
                      <a:pt x="377" y="25"/>
                    </a:lnTo>
                    <a:lnTo>
                      <a:pt x="379" y="25"/>
                    </a:lnTo>
                    <a:lnTo>
                      <a:pt x="381" y="26"/>
                    </a:lnTo>
                    <a:lnTo>
                      <a:pt x="383" y="27"/>
                    </a:lnTo>
                    <a:lnTo>
                      <a:pt x="383" y="28"/>
                    </a:lnTo>
                    <a:lnTo>
                      <a:pt x="385" y="29"/>
                    </a:lnTo>
                    <a:lnTo>
                      <a:pt x="387" y="30"/>
                    </a:lnTo>
                    <a:lnTo>
                      <a:pt x="389" y="30"/>
                    </a:lnTo>
                    <a:lnTo>
                      <a:pt x="389" y="31"/>
                    </a:lnTo>
                    <a:lnTo>
                      <a:pt x="391" y="32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5" y="36"/>
                    </a:lnTo>
                    <a:lnTo>
                      <a:pt x="398" y="37"/>
                    </a:lnTo>
                    <a:lnTo>
                      <a:pt x="400" y="39"/>
                    </a:lnTo>
                    <a:lnTo>
                      <a:pt x="400" y="40"/>
                    </a:lnTo>
                    <a:lnTo>
                      <a:pt x="402" y="41"/>
                    </a:lnTo>
                    <a:lnTo>
                      <a:pt x="404" y="42"/>
                    </a:lnTo>
                    <a:lnTo>
                      <a:pt x="404" y="44"/>
                    </a:lnTo>
                    <a:lnTo>
                      <a:pt x="406" y="46"/>
                    </a:lnTo>
                    <a:lnTo>
                      <a:pt x="408" y="47"/>
                    </a:lnTo>
                    <a:lnTo>
                      <a:pt x="410" y="48"/>
                    </a:lnTo>
                    <a:lnTo>
                      <a:pt x="410" y="49"/>
                    </a:lnTo>
                    <a:lnTo>
                      <a:pt x="412" y="51"/>
                    </a:lnTo>
                    <a:lnTo>
                      <a:pt x="414" y="52"/>
                    </a:lnTo>
                    <a:lnTo>
                      <a:pt x="416" y="55"/>
                    </a:lnTo>
                    <a:lnTo>
                      <a:pt x="416" y="56"/>
                    </a:lnTo>
                    <a:lnTo>
                      <a:pt x="418" y="58"/>
                    </a:lnTo>
                    <a:lnTo>
                      <a:pt x="420" y="59"/>
                    </a:lnTo>
                    <a:lnTo>
                      <a:pt x="420" y="61"/>
                    </a:lnTo>
                    <a:lnTo>
                      <a:pt x="422" y="62"/>
                    </a:lnTo>
                    <a:lnTo>
                      <a:pt x="424" y="65"/>
                    </a:lnTo>
                    <a:lnTo>
                      <a:pt x="426" y="67"/>
                    </a:lnTo>
                    <a:lnTo>
                      <a:pt x="426" y="69"/>
                    </a:lnTo>
                    <a:lnTo>
                      <a:pt x="428" y="70"/>
                    </a:lnTo>
                    <a:lnTo>
                      <a:pt x="430" y="72"/>
                    </a:lnTo>
                    <a:lnTo>
                      <a:pt x="430" y="74"/>
                    </a:lnTo>
                    <a:lnTo>
                      <a:pt x="432" y="77"/>
                    </a:lnTo>
                    <a:lnTo>
                      <a:pt x="435" y="79"/>
                    </a:lnTo>
                    <a:lnTo>
                      <a:pt x="437" y="81"/>
                    </a:lnTo>
                    <a:lnTo>
                      <a:pt x="437" y="83"/>
                    </a:lnTo>
                    <a:lnTo>
                      <a:pt x="439" y="85"/>
                    </a:lnTo>
                    <a:lnTo>
                      <a:pt x="441" y="88"/>
                    </a:lnTo>
                    <a:lnTo>
                      <a:pt x="443" y="90"/>
                    </a:lnTo>
                    <a:lnTo>
                      <a:pt x="443" y="92"/>
                    </a:lnTo>
                    <a:lnTo>
                      <a:pt x="445" y="94"/>
                    </a:lnTo>
                    <a:lnTo>
                      <a:pt x="447" y="96"/>
                    </a:lnTo>
                    <a:lnTo>
                      <a:pt x="447" y="99"/>
                    </a:lnTo>
                    <a:lnTo>
                      <a:pt x="449" y="102"/>
                    </a:lnTo>
                    <a:lnTo>
                      <a:pt x="451" y="104"/>
                    </a:lnTo>
                    <a:lnTo>
                      <a:pt x="453" y="106"/>
                    </a:lnTo>
                    <a:lnTo>
                      <a:pt x="453" y="109"/>
                    </a:lnTo>
                    <a:lnTo>
                      <a:pt x="455" y="112"/>
                    </a:lnTo>
                    <a:lnTo>
                      <a:pt x="457" y="114"/>
                    </a:lnTo>
                    <a:lnTo>
                      <a:pt x="457" y="117"/>
                    </a:lnTo>
                    <a:lnTo>
                      <a:pt x="459" y="120"/>
                    </a:lnTo>
                    <a:lnTo>
                      <a:pt x="461" y="122"/>
                    </a:lnTo>
                    <a:lnTo>
                      <a:pt x="463" y="125"/>
                    </a:lnTo>
                    <a:lnTo>
                      <a:pt x="463" y="127"/>
                    </a:lnTo>
                    <a:lnTo>
                      <a:pt x="465" y="131"/>
                    </a:lnTo>
                    <a:lnTo>
                      <a:pt x="467" y="133"/>
                    </a:lnTo>
                    <a:lnTo>
                      <a:pt x="467" y="136"/>
                    </a:lnTo>
                    <a:lnTo>
                      <a:pt x="469" y="138"/>
                    </a:lnTo>
                    <a:lnTo>
                      <a:pt x="472" y="142"/>
                    </a:lnTo>
                    <a:lnTo>
                      <a:pt x="474" y="145"/>
                    </a:lnTo>
                    <a:lnTo>
                      <a:pt x="474" y="147"/>
                    </a:lnTo>
                    <a:lnTo>
                      <a:pt x="476" y="151"/>
                    </a:lnTo>
                    <a:lnTo>
                      <a:pt x="478" y="153"/>
                    </a:lnTo>
                    <a:lnTo>
                      <a:pt x="480" y="156"/>
                    </a:lnTo>
                    <a:lnTo>
                      <a:pt x="480" y="159"/>
                    </a:lnTo>
                    <a:lnTo>
                      <a:pt x="482" y="161"/>
                    </a:lnTo>
                    <a:lnTo>
                      <a:pt x="484" y="165"/>
                    </a:lnTo>
                    <a:lnTo>
                      <a:pt x="484" y="168"/>
                    </a:lnTo>
                    <a:lnTo>
                      <a:pt x="486" y="170"/>
                    </a:lnTo>
                    <a:lnTo>
                      <a:pt x="488" y="174"/>
                    </a:lnTo>
                    <a:lnTo>
                      <a:pt x="490" y="177"/>
                    </a:lnTo>
                    <a:lnTo>
                      <a:pt x="490" y="179"/>
                    </a:lnTo>
                    <a:lnTo>
                      <a:pt x="492" y="182"/>
                    </a:lnTo>
                    <a:lnTo>
                      <a:pt x="494" y="186"/>
                    </a:lnTo>
                    <a:lnTo>
                      <a:pt x="494" y="188"/>
                    </a:lnTo>
                    <a:lnTo>
                      <a:pt x="496" y="191"/>
                    </a:lnTo>
                    <a:lnTo>
                      <a:pt x="498" y="195"/>
                    </a:lnTo>
                    <a:lnTo>
                      <a:pt x="500" y="197"/>
                    </a:lnTo>
                    <a:lnTo>
                      <a:pt x="500" y="200"/>
                    </a:lnTo>
                    <a:lnTo>
                      <a:pt x="502" y="203"/>
                    </a:lnTo>
                    <a:lnTo>
                      <a:pt x="504" y="206"/>
                    </a:lnTo>
                    <a:lnTo>
                      <a:pt x="506" y="209"/>
                    </a:lnTo>
                    <a:lnTo>
                      <a:pt x="506" y="211"/>
                    </a:lnTo>
                    <a:lnTo>
                      <a:pt x="509" y="214"/>
                    </a:lnTo>
                    <a:lnTo>
                      <a:pt x="511" y="217"/>
                    </a:lnTo>
                    <a:lnTo>
                      <a:pt x="511" y="220"/>
                    </a:lnTo>
                    <a:lnTo>
                      <a:pt x="513" y="223"/>
                    </a:lnTo>
                    <a:lnTo>
                      <a:pt x="515" y="226"/>
                    </a:lnTo>
                    <a:lnTo>
                      <a:pt x="517" y="229"/>
                    </a:lnTo>
                    <a:lnTo>
                      <a:pt x="517" y="231"/>
                    </a:lnTo>
                    <a:lnTo>
                      <a:pt x="519" y="233"/>
                    </a:lnTo>
                    <a:lnTo>
                      <a:pt x="521" y="236"/>
                    </a:lnTo>
                    <a:lnTo>
                      <a:pt x="521" y="239"/>
                    </a:lnTo>
                    <a:lnTo>
                      <a:pt x="523" y="242"/>
                    </a:lnTo>
                    <a:lnTo>
                      <a:pt x="525" y="244"/>
                    </a:lnTo>
                    <a:lnTo>
                      <a:pt x="527" y="246"/>
                    </a:lnTo>
                    <a:lnTo>
                      <a:pt x="527" y="250"/>
                    </a:lnTo>
                    <a:lnTo>
                      <a:pt x="529" y="252"/>
                    </a:lnTo>
                    <a:lnTo>
                      <a:pt x="531" y="254"/>
                    </a:lnTo>
                    <a:lnTo>
                      <a:pt x="533" y="256"/>
                    </a:lnTo>
                    <a:lnTo>
                      <a:pt x="533" y="260"/>
                    </a:lnTo>
                    <a:lnTo>
                      <a:pt x="535" y="262"/>
                    </a:lnTo>
                    <a:lnTo>
                      <a:pt x="537" y="264"/>
                    </a:lnTo>
                    <a:lnTo>
                      <a:pt x="537" y="266"/>
                    </a:lnTo>
                    <a:lnTo>
                      <a:pt x="539" y="268"/>
                    </a:lnTo>
                    <a:lnTo>
                      <a:pt x="541" y="271"/>
                    </a:lnTo>
                    <a:lnTo>
                      <a:pt x="543" y="273"/>
                    </a:lnTo>
                    <a:lnTo>
                      <a:pt x="543" y="275"/>
                    </a:lnTo>
                    <a:lnTo>
                      <a:pt x="545" y="277"/>
                    </a:lnTo>
                    <a:lnTo>
                      <a:pt x="547" y="280"/>
                    </a:lnTo>
                    <a:lnTo>
                      <a:pt x="547" y="282"/>
                    </a:lnTo>
                    <a:lnTo>
                      <a:pt x="549" y="284"/>
                    </a:lnTo>
                    <a:lnTo>
                      <a:pt x="551" y="286"/>
                    </a:lnTo>
                    <a:lnTo>
                      <a:pt x="553" y="288"/>
                    </a:lnTo>
                    <a:lnTo>
                      <a:pt x="553" y="291"/>
                    </a:lnTo>
                    <a:lnTo>
                      <a:pt x="555" y="292"/>
                    </a:lnTo>
                    <a:lnTo>
                      <a:pt x="558" y="294"/>
                    </a:lnTo>
                    <a:lnTo>
                      <a:pt x="560" y="296"/>
                    </a:lnTo>
                    <a:lnTo>
                      <a:pt x="560" y="298"/>
                    </a:lnTo>
                    <a:lnTo>
                      <a:pt x="562" y="299"/>
                    </a:lnTo>
                    <a:lnTo>
                      <a:pt x="564" y="302"/>
                    </a:lnTo>
                    <a:lnTo>
                      <a:pt x="564" y="304"/>
                    </a:lnTo>
                    <a:lnTo>
                      <a:pt x="566" y="305"/>
                    </a:lnTo>
                    <a:lnTo>
                      <a:pt x="568" y="307"/>
                    </a:lnTo>
                    <a:lnTo>
                      <a:pt x="570" y="308"/>
                    </a:lnTo>
                    <a:lnTo>
                      <a:pt x="570" y="310"/>
                    </a:lnTo>
                    <a:lnTo>
                      <a:pt x="572" y="312"/>
                    </a:lnTo>
                    <a:lnTo>
                      <a:pt x="574" y="314"/>
                    </a:lnTo>
                    <a:lnTo>
                      <a:pt x="574" y="315"/>
                    </a:lnTo>
                    <a:lnTo>
                      <a:pt x="576" y="317"/>
                    </a:lnTo>
                    <a:lnTo>
                      <a:pt x="578" y="318"/>
                    </a:lnTo>
                    <a:lnTo>
                      <a:pt x="580" y="320"/>
                    </a:lnTo>
                    <a:lnTo>
                      <a:pt x="580" y="321"/>
                    </a:lnTo>
                    <a:lnTo>
                      <a:pt x="582" y="322"/>
                    </a:lnTo>
                    <a:lnTo>
                      <a:pt x="584" y="324"/>
                    </a:lnTo>
                    <a:lnTo>
                      <a:pt x="586" y="326"/>
                    </a:lnTo>
                    <a:lnTo>
                      <a:pt x="586" y="327"/>
                    </a:lnTo>
                    <a:lnTo>
                      <a:pt x="588" y="328"/>
                    </a:lnTo>
                    <a:lnTo>
                      <a:pt x="590" y="329"/>
                    </a:lnTo>
                    <a:lnTo>
                      <a:pt x="590" y="331"/>
                    </a:lnTo>
                    <a:lnTo>
                      <a:pt x="592" y="332"/>
                    </a:lnTo>
                    <a:lnTo>
                      <a:pt x="595" y="333"/>
                    </a:lnTo>
                    <a:lnTo>
                      <a:pt x="597" y="335"/>
                    </a:lnTo>
                    <a:lnTo>
                      <a:pt x="597" y="336"/>
                    </a:lnTo>
                    <a:lnTo>
                      <a:pt x="599" y="337"/>
                    </a:lnTo>
                    <a:lnTo>
                      <a:pt x="601" y="338"/>
                    </a:lnTo>
                    <a:lnTo>
                      <a:pt x="601" y="339"/>
                    </a:lnTo>
                    <a:lnTo>
                      <a:pt x="603" y="340"/>
                    </a:lnTo>
                    <a:lnTo>
                      <a:pt x="605" y="341"/>
                    </a:lnTo>
                    <a:lnTo>
                      <a:pt x="607" y="342"/>
                    </a:lnTo>
                    <a:lnTo>
                      <a:pt x="607" y="343"/>
                    </a:lnTo>
                    <a:lnTo>
                      <a:pt x="609" y="345"/>
                    </a:lnTo>
                    <a:lnTo>
                      <a:pt x="611" y="346"/>
                    </a:lnTo>
                    <a:lnTo>
                      <a:pt x="611" y="347"/>
                    </a:lnTo>
                    <a:lnTo>
                      <a:pt x="613" y="347"/>
                    </a:lnTo>
                    <a:lnTo>
                      <a:pt x="615" y="348"/>
                    </a:lnTo>
                    <a:lnTo>
                      <a:pt x="617" y="349"/>
                    </a:lnTo>
                    <a:lnTo>
                      <a:pt x="617" y="350"/>
                    </a:lnTo>
                    <a:lnTo>
                      <a:pt x="619" y="351"/>
                    </a:lnTo>
                    <a:lnTo>
                      <a:pt x="621" y="351"/>
                    </a:lnTo>
                    <a:lnTo>
                      <a:pt x="623" y="352"/>
                    </a:lnTo>
                    <a:lnTo>
                      <a:pt x="623" y="353"/>
                    </a:lnTo>
                    <a:lnTo>
                      <a:pt x="625" y="354"/>
                    </a:lnTo>
                    <a:lnTo>
                      <a:pt x="627" y="354"/>
                    </a:lnTo>
                    <a:lnTo>
                      <a:pt x="627" y="356"/>
                    </a:lnTo>
                    <a:lnTo>
                      <a:pt x="629" y="356"/>
                    </a:lnTo>
                    <a:lnTo>
                      <a:pt x="632" y="357"/>
                    </a:lnTo>
                    <a:lnTo>
                      <a:pt x="634" y="358"/>
                    </a:lnTo>
                    <a:lnTo>
                      <a:pt x="636" y="359"/>
                    </a:lnTo>
                    <a:lnTo>
                      <a:pt x="638" y="359"/>
                    </a:lnTo>
                    <a:lnTo>
                      <a:pt x="638" y="360"/>
                    </a:lnTo>
                    <a:lnTo>
                      <a:pt x="640" y="361"/>
                    </a:lnTo>
                    <a:lnTo>
                      <a:pt x="642" y="361"/>
                    </a:lnTo>
                    <a:lnTo>
                      <a:pt x="644" y="362"/>
                    </a:lnTo>
                    <a:lnTo>
                      <a:pt x="646" y="363"/>
                    </a:lnTo>
                    <a:lnTo>
                      <a:pt x="648" y="363"/>
                    </a:lnTo>
                    <a:lnTo>
                      <a:pt x="650" y="363"/>
                    </a:lnTo>
                    <a:lnTo>
                      <a:pt x="650" y="364"/>
                    </a:lnTo>
                    <a:lnTo>
                      <a:pt x="652" y="364"/>
                    </a:lnTo>
                    <a:lnTo>
                      <a:pt x="654" y="366"/>
                    </a:lnTo>
                    <a:lnTo>
                      <a:pt x="656" y="367"/>
                    </a:lnTo>
                    <a:lnTo>
                      <a:pt x="658" y="367"/>
                    </a:lnTo>
                    <a:lnTo>
                      <a:pt x="660" y="367"/>
                    </a:lnTo>
                    <a:lnTo>
                      <a:pt x="660" y="368"/>
                    </a:lnTo>
                    <a:lnTo>
                      <a:pt x="662" y="368"/>
                    </a:lnTo>
                    <a:lnTo>
                      <a:pt x="664" y="368"/>
                    </a:lnTo>
                    <a:lnTo>
                      <a:pt x="664" y="369"/>
                    </a:lnTo>
                    <a:lnTo>
                      <a:pt x="666" y="369"/>
                    </a:lnTo>
                    <a:lnTo>
                      <a:pt x="669" y="369"/>
                    </a:lnTo>
                    <a:lnTo>
                      <a:pt x="671" y="370"/>
                    </a:lnTo>
                    <a:lnTo>
                      <a:pt x="673" y="370"/>
                    </a:lnTo>
                    <a:lnTo>
                      <a:pt x="675" y="370"/>
                    </a:lnTo>
                    <a:lnTo>
                      <a:pt x="677" y="371"/>
                    </a:lnTo>
                    <a:lnTo>
                      <a:pt x="679" y="371"/>
                    </a:lnTo>
                    <a:lnTo>
                      <a:pt x="681" y="371"/>
                    </a:lnTo>
                    <a:lnTo>
                      <a:pt x="681" y="372"/>
                    </a:lnTo>
                    <a:lnTo>
                      <a:pt x="683" y="372"/>
                    </a:lnTo>
                    <a:lnTo>
                      <a:pt x="685" y="372"/>
                    </a:lnTo>
                    <a:lnTo>
                      <a:pt x="687" y="372"/>
                    </a:lnTo>
                    <a:lnTo>
                      <a:pt x="689" y="372"/>
                    </a:lnTo>
                    <a:lnTo>
                      <a:pt x="691" y="373"/>
                    </a:lnTo>
                    <a:lnTo>
                      <a:pt x="693" y="373"/>
                    </a:lnTo>
                    <a:lnTo>
                      <a:pt x="695" y="373"/>
                    </a:lnTo>
                    <a:lnTo>
                      <a:pt x="697" y="373"/>
                    </a:lnTo>
                    <a:lnTo>
                      <a:pt x="699" y="373"/>
                    </a:lnTo>
                    <a:lnTo>
                      <a:pt x="701" y="374"/>
                    </a:lnTo>
                    <a:lnTo>
                      <a:pt x="703" y="374"/>
                    </a:lnTo>
                    <a:lnTo>
                      <a:pt x="706" y="374"/>
                    </a:lnTo>
                    <a:lnTo>
                      <a:pt x="708" y="374"/>
                    </a:lnTo>
                    <a:lnTo>
                      <a:pt x="710" y="374"/>
                    </a:lnTo>
                    <a:lnTo>
                      <a:pt x="712" y="374"/>
                    </a:lnTo>
                    <a:lnTo>
                      <a:pt x="713" y="374"/>
                    </a:lnTo>
                    <a:lnTo>
                      <a:pt x="715" y="374"/>
                    </a:lnTo>
                    <a:lnTo>
                      <a:pt x="718" y="374"/>
                    </a:lnTo>
                    <a:lnTo>
                      <a:pt x="718" y="376"/>
                    </a:lnTo>
                    <a:lnTo>
                      <a:pt x="720" y="376"/>
                    </a:lnTo>
                    <a:lnTo>
                      <a:pt x="722" y="376"/>
                    </a:lnTo>
                    <a:lnTo>
                      <a:pt x="724" y="376"/>
                    </a:lnTo>
                    <a:lnTo>
                      <a:pt x="726" y="376"/>
                    </a:lnTo>
                    <a:lnTo>
                      <a:pt x="728" y="376"/>
                    </a:lnTo>
                    <a:lnTo>
                      <a:pt x="730" y="376"/>
                    </a:lnTo>
                    <a:lnTo>
                      <a:pt x="732" y="376"/>
                    </a:lnTo>
                    <a:lnTo>
                      <a:pt x="734" y="376"/>
                    </a:lnTo>
                    <a:lnTo>
                      <a:pt x="736" y="376"/>
                    </a:lnTo>
                    <a:lnTo>
                      <a:pt x="738" y="376"/>
                    </a:lnTo>
                    <a:lnTo>
                      <a:pt x="740" y="376"/>
                    </a:lnTo>
                    <a:lnTo>
                      <a:pt x="742" y="376"/>
                    </a:lnTo>
                    <a:lnTo>
                      <a:pt x="744" y="376"/>
                    </a:lnTo>
                    <a:lnTo>
                      <a:pt x="746" y="376"/>
                    </a:lnTo>
                    <a:lnTo>
                      <a:pt x="748" y="376"/>
                    </a:lnTo>
                    <a:lnTo>
                      <a:pt x="750" y="376"/>
                    </a:lnTo>
                    <a:lnTo>
                      <a:pt x="752" y="376"/>
                    </a:lnTo>
                    <a:lnTo>
                      <a:pt x="755" y="376"/>
                    </a:lnTo>
                  </a:path>
                </a:pathLst>
              </a:custGeom>
              <a:noFill/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707440" y="2820960"/>
                <a:ext cx="1107720" cy="598680"/>
              </a:xfrm>
              <a:custGeom>
                <a:avLst/>
                <a:gdLst/>
                <a:ahLst/>
                <a:rect l="l" t="t" r="r" b="b"/>
                <a:pathLst>
                  <a:path w="756" h="377">
                    <a:moveTo>
                      <a:pt x="755" y="0"/>
                    </a:moveTo>
                    <a:lnTo>
                      <a:pt x="753" y="0"/>
                    </a:lnTo>
                    <a:lnTo>
                      <a:pt x="751" y="0"/>
                    </a:lnTo>
                    <a:lnTo>
                      <a:pt x="749" y="0"/>
                    </a:lnTo>
                    <a:lnTo>
                      <a:pt x="747" y="0"/>
                    </a:lnTo>
                    <a:lnTo>
                      <a:pt x="745" y="0"/>
                    </a:lnTo>
                    <a:lnTo>
                      <a:pt x="743" y="0"/>
                    </a:lnTo>
                    <a:lnTo>
                      <a:pt x="741" y="0"/>
                    </a:lnTo>
                    <a:lnTo>
                      <a:pt x="739" y="0"/>
                    </a:lnTo>
                    <a:lnTo>
                      <a:pt x="737" y="0"/>
                    </a:lnTo>
                    <a:lnTo>
                      <a:pt x="735" y="0"/>
                    </a:lnTo>
                    <a:lnTo>
                      <a:pt x="733" y="0"/>
                    </a:lnTo>
                    <a:lnTo>
                      <a:pt x="731" y="0"/>
                    </a:lnTo>
                    <a:lnTo>
                      <a:pt x="729" y="0"/>
                    </a:lnTo>
                    <a:lnTo>
                      <a:pt x="727" y="0"/>
                    </a:lnTo>
                    <a:lnTo>
                      <a:pt x="725" y="0"/>
                    </a:lnTo>
                    <a:lnTo>
                      <a:pt x="723" y="0"/>
                    </a:lnTo>
                    <a:lnTo>
                      <a:pt x="721" y="0"/>
                    </a:lnTo>
                    <a:lnTo>
                      <a:pt x="719" y="0"/>
                    </a:lnTo>
                    <a:lnTo>
                      <a:pt x="716" y="0"/>
                    </a:lnTo>
                    <a:lnTo>
                      <a:pt x="714" y="0"/>
                    </a:lnTo>
                    <a:lnTo>
                      <a:pt x="712" y="0"/>
                    </a:lnTo>
                    <a:lnTo>
                      <a:pt x="710" y="0"/>
                    </a:lnTo>
                    <a:lnTo>
                      <a:pt x="708" y="0"/>
                    </a:lnTo>
                    <a:lnTo>
                      <a:pt x="706" y="0"/>
                    </a:lnTo>
                    <a:lnTo>
                      <a:pt x="704" y="0"/>
                    </a:lnTo>
                    <a:lnTo>
                      <a:pt x="702" y="0"/>
                    </a:lnTo>
                    <a:lnTo>
                      <a:pt x="700" y="0"/>
                    </a:lnTo>
                    <a:lnTo>
                      <a:pt x="698" y="0"/>
                    </a:lnTo>
                    <a:lnTo>
                      <a:pt x="696" y="0"/>
                    </a:lnTo>
                    <a:lnTo>
                      <a:pt x="694" y="0"/>
                    </a:lnTo>
                    <a:lnTo>
                      <a:pt x="692" y="0"/>
                    </a:lnTo>
                    <a:lnTo>
                      <a:pt x="690" y="0"/>
                    </a:lnTo>
                    <a:lnTo>
                      <a:pt x="688" y="0"/>
                    </a:lnTo>
                    <a:lnTo>
                      <a:pt x="686" y="0"/>
                    </a:lnTo>
                    <a:lnTo>
                      <a:pt x="684" y="0"/>
                    </a:lnTo>
                    <a:lnTo>
                      <a:pt x="682" y="0"/>
                    </a:lnTo>
                    <a:lnTo>
                      <a:pt x="679" y="0"/>
                    </a:lnTo>
                    <a:lnTo>
                      <a:pt x="677" y="0"/>
                    </a:lnTo>
                    <a:lnTo>
                      <a:pt x="675" y="0"/>
                    </a:lnTo>
                    <a:lnTo>
                      <a:pt x="673" y="0"/>
                    </a:lnTo>
                    <a:lnTo>
                      <a:pt x="671" y="0"/>
                    </a:lnTo>
                    <a:lnTo>
                      <a:pt x="669" y="0"/>
                    </a:lnTo>
                    <a:lnTo>
                      <a:pt x="667" y="0"/>
                    </a:lnTo>
                    <a:lnTo>
                      <a:pt x="665" y="0"/>
                    </a:lnTo>
                    <a:lnTo>
                      <a:pt x="663" y="0"/>
                    </a:lnTo>
                    <a:lnTo>
                      <a:pt x="661" y="0"/>
                    </a:lnTo>
                    <a:lnTo>
                      <a:pt x="659" y="0"/>
                    </a:lnTo>
                    <a:lnTo>
                      <a:pt x="657" y="0"/>
                    </a:lnTo>
                    <a:lnTo>
                      <a:pt x="655" y="0"/>
                    </a:lnTo>
                    <a:lnTo>
                      <a:pt x="653" y="0"/>
                    </a:lnTo>
                    <a:lnTo>
                      <a:pt x="651" y="0"/>
                    </a:lnTo>
                    <a:lnTo>
                      <a:pt x="649" y="0"/>
                    </a:lnTo>
                    <a:lnTo>
                      <a:pt x="647" y="0"/>
                    </a:lnTo>
                    <a:lnTo>
                      <a:pt x="645" y="0"/>
                    </a:lnTo>
                    <a:lnTo>
                      <a:pt x="642" y="0"/>
                    </a:lnTo>
                    <a:lnTo>
                      <a:pt x="640" y="0"/>
                    </a:lnTo>
                    <a:lnTo>
                      <a:pt x="638" y="0"/>
                    </a:lnTo>
                    <a:lnTo>
                      <a:pt x="636" y="0"/>
                    </a:lnTo>
                    <a:lnTo>
                      <a:pt x="634" y="0"/>
                    </a:lnTo>
                    <a:lnTo>
                      <a:pt x="632" y="0"/>
                    </a:lnTo>
                    <a:lnTo>
                      <a:pt x="630" y="0"/>
                    </a:lnTo>
                    <a:lnTo>
                      <a:pt x="628" y="0"/>
                    </a:lnTo>
                    <a:lnTo>
                      <a:pt x="626" y="0"/>
                    </a:lnTo>
                    <a:lnTo>
                      <a:pt x="624" y="0"/>
                    </a:lnTo>
                    <a:lnTo>
                      <a:pt x="622" y="0"/>
                    </a:lnTo>
                    <a:lnTo>
                      <a:pt x="620" y="0"/>
                    </a:lnTo>
                    <a:lnTo>
                      <a:pt x="618" y="0"/>
                    </a:lnTo>
                    <a:lnTo>
                      <a:pt x="616" y="0"/>
                    </a:lnTo>
                    <a:lnTo>
                      <a:pt x="614" y="0"/>
                    </a:lnTo>
                    <a:lnTo>
                      <a:pt x="612" y="0"/>
                    </a:lnTo>
                    <a:lnTo>
                      <a:pt x="610" y="0"/>
                    </a:lnTo>
                    <a:lnTo>
                      <a:pt x="608" y="0"/>
                    </a:lnTo>
                    <a:lnTo>
                      <a:pt x="606" y="0"/>
                    </a:lnTo>
                    <a:lnTo>
                      <a:pt x="604" y="0"/>
                    </a:lnTo>
                    <a:lnTo>
                      <a:pt x="602" y="0"/>
                    </a:lnTo>
                    <a:lnTo>
                      <a:pt x="600" y="0"/>
                    </a:lnTo>
                    <a:lnTo>
                      <a:pt x="598" y="0"/>
                    </a:lnTo>
                    <a:lnTo>
                      <a:pt x="596" y="0"/>
                    </a:lnTo>
                    <a:lnTo>
                      <a:pt x="593" y="0"/>
                    </a:lnTo>
                    <a:lnTo>
                      <a:pt x="591" y="0"/>
                    </a:lnTo>
                    <a:lnTo>
                      <a:pt x="589" y="0"/>
                    </a:lnTo>
                    <a:lnTo>
                      <a:pt x="587" y="0"/>
                    </a:lnTo>
                    <a:lnTo>
                      <a:pt x="585" y="0"/>
                    </a:lnTo>
                    <a:lnTo>
                      <a:pt x="583" y="0"/>
                    </a:lnTo>
                    <a:lnTo>
                      <a:pt x="581" y="0"/>
                    </a:lnTo>
                    <a:lnTo>
                      <a:pt x="579" y="0"/>
                    </a:lnTo>
                    <a:lnTo>
                      <a:pt x="577" y="0"/>
                    </a:lnTo>
                    <a:lnTo>
                      <a:pt x="575" y="0"/>
                    </a:lnTo>
                    <a:lnTo>
                      <a:pt x="573" y="0"/>
                    </a:lnTo>
                    <a:lnTo>
                      <a:pt x="571" y="0"/>
                    </a:lnTo>
                    <a:lnTo>
                      <a:pt x="569" y="0"/>
                    </a:lnTo>
                    <a:lnTo>
                      <a:pt x="567" y="0"/>
                    </a:lnTo>
                    <a:lnTo>
                      <a:pt x="565" y="0"/>
                    </a:lnTo>
                    <a:lnTo>
                      <a:pt x="563" y="0"/>
                    </a:lnTo>
                    <a:lnTo>
                      <a:pt x="561" y="0"/>
                    </a:lnTo>
                    <a:lnTo>
                      <a:pt x="559" y="0"/>
                    </a:lnTo>
                    <a:lnTo>
                      <a:pt x="556" y="0"/>
                    </a:lnTo>
                    <a:lnTo>
                      <a:pt x="554" y="0"/>
                    </a:lnTo>
                    <a:lnTo>
                      <a:pt x="552" y="0"/>
                    </a:lnTo>
                    <a:lnTo>
                      <a:pt x="550" y="0"/>
                    </a:lnTo>
                    <a:lnTo>
                      <a:pt x="548" y="0"/>
                    </a:lnTo>
                    <a:lnTo>
                      <a:pt x="546" y="0"/>
                    </a:lnTo>
                    <a:lnTo>
                      <a:pt x="544" y="0"/>
                    </a:lnTo>
                    <a:lnTo>
                      <a:pt x="542" y="0"/>
                    </a:lnTo>
                    <a:lnTo>
                      <a:pt x="540" y="0"/>
                    </a:lnTo>
                    <a:lnTo>
                      <a:pt x="538" y="0"/>
                    </a:lnTo>
                    <a:lnTo>
                      <a:pt x="536" y="0"/>
                    </a:lnTo>
                    <a:lnTo>
                      <a:pt x="534" y="0"/>
                    </a:lnTo>
                    <a:lnTo>
                      <a:pt x="532" y="0"/>
                    </a:lnTo>
                    <a:lnTo>
                      <a:pt x="530" y="0"/>
                    </a:lnTo>
                    <a:lnTo>
                      <a:pt x="528" y="0"/>
                    </a:lnTo>
                    <a:lnTo>
                      <a:pt x="526" y="0"/>
                    </a:lnTo>
                    <a:lnTo>
                      <a:pt x="524" y="1"/>
                    </a:lnTo>
                    <a:lnTo>
                      <a:pt x="522" y="1"/>
                    </a:lnTo>
                    <a:lnTo>
                      <a:pt x="519" y="1"/>
                    </a:lnTo>
                    <a:lnTo>
                      <a:pt x="517" y="1"/>
                    </a:lnTo>
                    <a:lnTo>
                      <a:pt x="515" y="1"/>
                    </a:lnTo>
                    <a:lnTo>
                      <a:pt x="513" y="1"/>
                    </a:lnTo>
                    <a:lnTo>
                      <a:pt x="511" y="1"/>
                    </a:lnTo>
                    <a:lnTo>
                      <a:pt x="509" y="1"/>
                    </a:lnTo>
                    <a:lnTo>
                      <a:pt x="507" y="1"/>
                    </a:lnTo>
                    <a:lnTo>
                      <a:pt x="505" y="1"/>
                    </a:lnTo>
                    <a:lnTo>
                      <a:pt x="503" y="1"/>
                    </a:lnTo>
                    <a:lnTo>
                      <a:pt x="501" y="1"/>
                    </a:lnTo>
                    <a:lnTo>
                      <a:pt x="499" y="1"/>
                    </a:lnTo>
                    <a:lnTo>
                      <a:pt x="497" y="1"/>
                    </a:lnTo>
                    <a:lnTo>
                      <a:pt x="495" y="1"/>
                    </a:lnTo>
                    <a:lnTo>
                      <a:pt x="493" y="1"/>
                    </a:lnTo>
                    <a:lnTo>
                      <a:pt x="491" y="1"/>
                    </a:lnTo>
                    <a:lnTo>
                      <a:pt x="489" y="1"/>
                    </a:lnTo>
                    <a:lnTo>
                      <a:pt x="487" y="1"/>
                    </a:lnTo>
                    <a:lnTo>
                      <a:pt x="485" y="2"/>
                    </a:lnTo>
                    <a:lnTo>
                      <a:pt x="482" y="2"/>
                    </a:lnTo>
                    <a:lnTo>
                      <a:pt x="480" y="2"/>
                    </a:lnTo>
                    <a:lnTo>
                      <a:pt x="478" y="2"/>
                    </a:lnTo>
                    <a:lnTo>
                      <a:pt x="476" y="2"/>
                    </a:lnTo>
                    <a:lnTo>
                      <a:pt x="474" y="2"/>
                    </a:lnTo>
                    <a:lnTo>
                      <a:pt x="472" y="2"/>
                    </a:lnTo>
                    <a:lnTo>
                      <a:pt x="470" y="2"/>
                    </a:lnTo>
                    <a:lnTo>
                      <a:pt x="468" y="2"/>
                    </a:lnTo>
                    <a:lnTo>
                      <a:pt x="466" y="3"/>
                    </a:lnTo>
                    <a:lnTo>
                      <a:pt x="464" y="3"/>
                    </a:lnTo>
                    <a:lnTo>
                      <a:pt x="462" y="3"/>
                    </a:lnTo>
                    <a:lnTo>
                      <a:pt x="460" y="3"/>
                    </a:lnTo>
                    <a:lnTo>
                      <a:pt x="458" y="3"/>
                    </a:lnTo>
                    <a:lnTo>
                      <a:pt x="456" y="3"/>
                    </a:lnTo>
                    <a:lnTo>
                      <a:pt x="454" y="5"/>
                    </a:lnTo>
                    <a:lnTo>
                      <a:pt x="452" y="5"/>
                    </a:lnTo>
                    <a:lnTo>
                      <a:pt x="450" y="5"/>
                    </a:lnTo>
                    <a:lnTo>
                      <a:pt x="448" y="5"/>
                    </a:lnTo>
                    <a:lnTo>
                      <a:pt x="445" y="5"/>
                    </a:lnTo>
                    <a:lnTo>
                      <a:pt x="443" y="5"/>
                    </a:lnTo>
                    <a:lnTo>
                      <a:pt x="441" y="5"/>
                    </a:lnTo>
                    <a:lnTo>
                      <a:pt x="439" y="5"/>
                    </a:lnTo>
                    <a:lnTo>
                      <a:pt x="437" y="5"/>
                    </a:lnTo>
                    <a:lnTo>
                      <a:pt x="435" y="7"/>
                    </a:lnTo>
                    <a:lnTo>
                      <a:pt x="433" y="7"/>
                    </a:lnTo>
                    <a:lnTo>
                      <a:pt x="431" y="7"/>
                    </a:lnTo>
                    <a:lnTo>
                      <a:pt x="429" y="8"/>
                    </a:lnTo>
                    <a:lnTo>
                      <a:pt x="427" y="8"/>
                    </a:lnTo>
                    <a:lnTo>
                      <a:pt x="425" y="8"/>
                    </a:lnTo>
                    <a:lnTo>
                      <a:pt x="423" y="9"/>
                    </a:lnTo>
                    <a:lnTo>
                      <a:pt x="421" y="9"/>
                    </a:lnTo>
                    <a:lnTo>
                      <a:pt x="419" y="9"/>
                    </a:lnTo>
                    <a:lnTo>
                      <a:pt x="419" y="10"/>
                    </a:lnTo>
                    <a:lnTo>
                      <a:pt x="417" y="10"/>
                    </a:lnTo>
                    <a:lnTo>
                      <a:pt x="415" y="10"/>
                    </a:lnTo>
                    <a:lnTo>
                      <a:pt x="415" y="11"/>
                    </a:lnTo>
                    <a:lnTo>
                      <a:pt x="413" y="11"/>
                    </a:lnTo>
                    <a:lnTo>
                      <a:pt x="411" y="11"/>
                    </a:lnTo>
                    <a:lnTo>
                      <a:pt x="409" y="12"/>
                    </a:lnTo>
                    <a:lnTo>
                      <a:pt x="407" y="12"/>
                    </a:lnTo>
                    <a:lnTo>
                      <a:pt x="405" y="13"/>
                    </a:lnTo>
                    <a:lnTo>
                      <a:pt x="403" y="14"/>
                    </a:lnTo>
                    <a:lnTo>
                      <a:pt x="401" y="14"/>
                    </a:lnTo>
                    <a:lnTo>
                      <a:pt x="399" y="15"/>
                    </a:lnTo>
                    <a:lnTo>
                      <a:pt x="396" y="16"/>
                    </a:lnTo>
                    <a:lnTo>
                      <a:pt x="394" y="16"/>
                    </a:lnTo>
                    <a:lnTo>
                      <a:pt x="392" y="18"/>
                    </a:lnTo>
                    <a:lnTo>
                      <a:pt x="390" y="19"/>
                    </a:lnTo>
                    <a:lnTo>
                      <a:pt x="388" y="19"/>
                    </a:lnTo>
                    <a:lnTo>
                      <a:pt x="388" y="20"/>
                    </a:lnTo>
                    <a:lnTo>
                      <a:pt x="386" y="20"/>
                    </a:lnTo>
                    <a:lnTo>
                      <a:pt x="384" y="21"/>
                    </a:lnTo>
                    <a:lnTo>
                      <a:pt x="382" y="22"/>
                    </a:lnTo>
                    <a:lnTo>
                      <a:pt x="380" y="23"/>
                    </a:lnTo>
                    <a:lnTo>
                      <a:pt x="378" y="24"/>
                    </a:lnTo>
                    <a:lnTo>
                      <a:pt x="378" y="25"/>
                    </a:lnTo>
                    <a:lnTo>
                      <a:pt x="376" y="25"/>
                    </a:lnTo>
                    <a:lnTo>
                      <a:pt x="374" y="26"/>
                    </a:lnTo>
                    <a:lnTo>
                      <a:pt x="372" y="28"/>
                    </a:lnTo>
                    <a:lnTo>
                      <a:pt x="372" y="29"/>
                    </a:lnTo>
                    <a:lnTo>
                      <a:pt x="370" y="30"/>
                    </a:lnTo>
                    <a:lnTo>
                      <a:pt x="368" y="31"/>
                    </a:lnTo>
                    <a:lnTo>
                      <a:pt x="366" y="31"/>
                    </a:lnTo>
                    <a:lnTo>
                      <a:pt x="366" y="32"/>
                    </a:lnTo>
                    <a:lnTo>
                      <a:pt x="364" y="33"/>
                    </a:lnTo>
                    <a:lnTo>
                      <a:pt x="362" y="34"/>
                    </a:lnTo>
                    <a:lnTo>
                      <a:pt x="362" y="35"/>
                    </a:lnTo>
                    <a:lnTo>
                      <a:pt x="360" y="36"/>
                    </a:lnTo>
                    <a:lnTo>
                      <a:pt x="357" y="37"/>
                    </a:lnTo>
                    <a:lnTo>
                      <a:pt x="355" y="40"/>
                    </a:lnTo>
                    <a:lnTo>
                      <a:pt x="355" y="41"/>
                    </a:lnTo>
                    <a:lnTo>
                      <a:pt x="353" y="42"/>
                    </a:lnTo>
                    <a:lnTo>
                      <a:pt x="351" y="43"/>
                    </a:lnTo>
                    <a:lnTo>
                      <a:pt x="351" y="44"/>
                    </a:lnTo>
                    <a:lnTo>
                      <a:pt x="349" y="46"/>
                    </a:lnTo>
                    <a:lnTo>
                      <a:pt x="347" y="47"/>
                    </a:lnTo>
                    <a:lnTo>
                      <a:pt x="345" y="49"/>
                    </a:lnTo>
                    <a:lnTo>
                      <a:pt x="345" y="50"/>
                    </a:lnTo>
                    <a:lnTo>
                      <a:pt x="343" y="52"/>
                    </a:lnTo>
                    <a:lnTo>
                      <a:pt x="341" y="53"/>
                    </a:lnTo>
                    <a:lnTo>
                      <a:pt x="339" y="55"/>
                    </a:lnTo>
                    <a:lnTo>
                      <a:pt x="339" y="56"/>
                    </a:lnTo>
                    <a:lnTo>
                      <a:pt x="337" y="58"/>
                    </a:lnTo>
                    <a:lnTo>
                      <a:pt x="335" y="60"/>
                    </a:lnTo>
                    <a:lnTo>
                      <a:pt x="335" y="62"/>
                    </a:lnTo>
                    <a:lnTo>
                      <a:pt x="333" y="63"/>
                    </a:lnTo>
                    <a:lnTo>
                      <a:pt x="331" y="65"/>
                    </a:lnTo>
                    <a:lnTo>
                      <a:pt x="329" y="67"/>
                    </a:lnTo>
                    <a:lnTo>
                      <a:pt x="329" y="70"/>
                    </a:lnTo>
                    <a:lnTo>
                      <a:pt x="327" y="71"/>
                    </a:lnTo>
                    <a:lnTo>
                      <a:pt x="325" y="73"/>
                    </a:lnTo>
                    <a:lnTo>
                      <a:pt x="325" y="75"/>
                    </a:lnTo>
                    <a:lnTo>
                      <a:pt x="323" y="77"/>
                    </a:lnTo>
                    <a:lnTo>
                      <a:pt x="320" y="79"/>
                    </a:lnTo>
                    <a:lnTo>
                      <a:pt x="318" y="82"/>
                    </a:lnTo>
                    <a:lnTo>
                      <a:pt x="318" y="84"/>
                    </a:lnTo>
                    <a:lnTo>
                      <a:pt x="316" y="86"/>
                    </a:lnTo>
                    <a:lnTo>
                      <a:pt x="314" y="88"/>
                    </a:lnTo>
                    <a:lnTo>
                      <a:pt x="312" y="90"/>
                    </a:lnTo>
                    <a:lnTo>
                      <a:pt x="312" y="93"/>
                    </a:lnTo>
                    <a:lnTo>
                      <a:pt x="310" y="95"/>
                    </a:lnTo>
                    <a:lnTo>
                      <a:pt x="308" y="97"/>
                    </a:lnTo>
                    <a:lnTo>
                      <a:pt x="308" y="99"/>
                    </a:lnTo>
                    <a:lnTo>
                      <a:pt x="306" y="103"/>
                    </a:lnTo>
                    <a:lnTo>
                      <a:pt x="304" y="105"/>
                    </a:lnTo>
                    <a:lnTo>
                      <a:pt x="302" y="107"/>
                    </a:lnTo>
                    <a:lnTo>
                      <a:pt x="302" y="109"/>
                    </a:lnTo>
                    <a:lnTo>
                      <a:pt x="300" y="112"/>
                    </a:lnTo>
                    <a:lnTo>
                      <a:pt x="298" y="115"/>
                    </a:lnTo>
                    <a:lnTo>
                      <a:pt x="298" y="118"/>
                    </a:lnTo>
                    <a:lnTo>
                      <a:pt x="296" y="120"/>
                    </a:lnTo>
                    <a:lnTo>
                      <a:pt x="294" y="122"/>
                    </a:lnTo>
                    <a:lnTo>
                      <a:pt x="292" y="126"/>
                    </a:lnTo>
                    <a:lnTo>
                      <a:pt x="292" y="128"/>
                    </a:lnTo>
                    <a:lnTo>
                      <a:pt x="290" y="131"/>
                    </a:lnTo>
                    <a:lnTo>
                      <a:pt x="288" y="133"/>
                    </a:lnTo>
                    <a:lnTo>
                      <a:pt x="288" y="137"/>
                    </a:lnTo>
                    <a:lnTo>
                      <a:pt x="286" y="139"/>
                    </a:lnTo>
                    <a:lnTo>
                      <a:pt x="283" y="142"/>
                    </a:lnTo>
                    <a:lnTo>
                      <a:pt x="281" y="146"/>
                    </a:lnTo>
                    <a:lnTo>
                      <a:pt x="281" y="148"/>
                    </a:lnTo>
                    <a:lnTo>
                      <a:pt x="279" y="151"/>
                    </a:lnTo>
                    <a:lnTo>
                      <a:pt x="277" y="153"/>
                    </a:lnTo>
                    <a:lnTo>
                      <a:pt x="275" y="157"/>
                    </a:lnTo>
                    <a:lnTo>
                      <a:pt x="275" y="160"/>
                    </a:lnTo>
                    <a:lnTo>
                      <a:pt x="273" y="162"/>
                    </a:lnTo>
                    <a:lnTo>
                      <a:pt x="271" y="165"/>
                    </a:lnTo>
                    <a:lnTo>
                      <a:pt x="271" y="169"/>
                    </a:lnTo>
                    <a:lnTo>
                      <a:pt x="269" y="171"/>
                    </a:lnTo>
                    <a:lnTo>
                      <a:pt x="267" y="174"/>
                    </a:lnTo>
                    <a:lnTo>
                      <a:pt x="265" y="177"/>
                    </a:lnTo>
                    <a:lnTo>
                      <a:pt x="265" y="180"/>
                    </a:lnTo>
                    <a:lnTo>
                      <a:pt x="263" y="183"/>
                    </a:lnTo>
                    <a:lnTo>
                      <a:pt x="261" y="186"/>
                    </a:lnTo>
                    <a:lnTo>
                      <a:pt x="261" y="189"/>
                    </a:lnTo>
                    <a:lnTo>
                      <a:pt x="259" y="192"/>
                    </a:lnTo>
                    <a:lnTo>
                      <a:pt x="257" y="195"/>
                    </a:lnTo>
                    <a:lnTo>
                      <a:pt x="255" y="197"/>
                    </a:lnTo>
                    <a:lnTo>
                      <a:pt x="255" y="201"/>
                    </a:lnTo>
                    <a:lnTo>
                      <a:pt x="253" y="204"/>
                    </a:lnTo>
                    <a:lnTo>
                      <a:pt x="251" y="206"/>
                    </a:lnTo>
                    <a:lnTo>
                      <a:pt x="249" y="210"/>
                    </a:lnTo>
                    <a:lnTo>
                      <a:pt x="249" y="212"/>
                    </a:lnTo>
                    <a:lnTo>
                      <a:pt x="246" y="215"/>
                    </a:lnTo>
                    <a:lnTo>
                      <a:pt x="244" y="217"/>
                    </a:lnTo>
                    <a:lnTo>
                      <a:pt x="244" y="221"/>
                    </a:lnTo>
                    <a:lnTo>
                      <a:pt x="242" y="224"/>
                    </a:lnTo>
                    <a:lnTo>
                      <a:pt x="240" y="226"/>
                    </a:lnTo>
                    <a:lnTo>
                      <a:pt x="238" y="229"/>
                    </a:lnTo>
                    <a:lnTo>
                      <a:pt x="238" y="232"/>
                    </a:lnTo>
                    <a:lnTo>
                      <a:pt x="236" y="234"/>
                    </a:lnTo>
                    <a:lnTo>
                      <a:pt x="234" y="237"/>
                    </a:lnTo>
                    <a:lnTo>
                      <a:pt x="234" y="239"/>
                    </a:lnTo>
                    <a:lnTo>
                      <a:pt x="232" y="243"/>
                    </a:lnTo>
                    <a:lnTo>
                      <a:pt x="230" y="245"/>
                    </a:lnTo>
                    <a:lnTo>
                      <a:pt x="228" y="247"/>
                    </a:lnTo>
                    <a:lnTo>
                      <a:pt x="228" y="250"/>
                    </a:lnTo>
                    <a:lnTo>
                      <a:pt x="226" y="252"/>
                    </a:lnTo>
                    <a:lnTo>
                      <a:pt x="224" y="255"/>
                    </a:lnTo>
                    <a:lnTo>
                      <a:pt x="222" y="257"/>
                    </a:lnTo>
                    <a:lnTo>
                      <a:pt x="222" y="260"/>
                    </a:lnTo>
                    <a:lnTo>
                      <a:pt x="220" y="262"/>
                    </a:lnTo>
                    <a:lnTo>
                      <a:pt x="218" y="265"/>
                    </a:lnTo>
                    <a:lnTo>
                      <a:pt x="218" y="267"/>
                    </a:lnTo>
                    <a:lnTo>
                      <a:pt x="216" y="269"/>
                    </a:lnTo>
                    <a:lnTo>
                      <a:pt x="214" y="271"/>
                    </a:lnTo>
                    <a:lnTo>
                      <a:pt x="212" y="273"/>
                    </a:lnTo>
                    <a:lnTo>
                      <a:pt x="212" y="276"/>
                    </a:lnTo>
                    <a:lnTo>
                      <a:pt x="210" y="278"/>
                    </a:lnTo>
                    <a:lnTo>
                      <a:pt x="208" y="280"/>
                    </a:lnTo>
                    <a:lnTo>
                      <a:pt x="208" y="282"/>
                    </a:lnTo>
                    <a:lnTo>
                      <a:pt x="206" y="285"/>
                    </a:lnTo>
                    <a:lnTo>
                      <a:pt x="204" y="287"/>
                    </a:lnTo>
                    <a:lnTo>
                      <a:pt x="202" y="289"/>
                    </a:lnTo>
                    <a:lnTo>
                      <a:pt x="202" y="291"/>
                    </a:lnTo>
                    <a:lnTo>
                      <a:pt x="200" y="292"/>
                    </a:lnTo>
                    <a:lnTo>
                      <a:pt x="197" y="294"/>
                    </a:lnTo>
                    <a:lnTo>
                      <a:pt x="195" y="297"/>
                    </a:lnTo>
                    <a:lnTo>
                      <a:pt x="195" y="299"/>
                    </a:lnTo>
                    <a:lnTo>
                      <a:pt x="193" y="300"/>
                    </a:lnTo>
                    <a:lnTo>
                      <a:pt x="191" y="302"/>
                    </a:lnTo>
                    <a:lnTo>
                      <a:pt x="191" y="304"/>
                    </a:lnTo>
                    <a:lnTo>
                      <a:pt x="189" y="306"/>
                    </a:lnTo>
                    <a:lnTo>
                      <a:pt x="187" y="308"/>
                    </a:lnTo>
                    <a:lnTo>
                      <a:pt x="185" y="309"/>
                    </a:lnTo>
                    <a:lnTo>
                      <a:pt x="185" y="311"/>
                    </a:lnTo>
                    <a:lnTo>
                      <a:pt x="183" y="312"/>
                    </a:lnTo>
                    <a:lnTo>
                      <a:pt x="181" y="314"/>
                    </a:lnTo>
                    <a:lnTo>
                      <a:pt x="181" y="315"/>
                    </a:lnTo>
                    <a:lnTo>
                      <a:pt x="179" y="318"/>
                    </a:lnTo>
                    <a:lnTo>
                      <a:pt x="177" y="319"/>
                    </a:lnTo>
                    <a:lnTo>
                      <a:pt x="175" y="321"/>
                    </a:lnTo>
                    <a:lnTo>
                      <a:pt x="175" y="322"/>
                    </a:lnTo>
                    <a:lnTo>
                      <a:pt x="173" y="323"/>
                    </a:lnTo>
                    <a:lnTo>
                      <a:pt x="171" y="324"/>
                    </a:lnTo>
                    <a:lnTo>
                      <a:pt x="169" y="326"/>
                    </a:lnTo>
                    <a:lnTo>
                      <a:pt x="169" y="327"/>
                    </a:lnTo>
                    <a:lnTo>
                      <a:pt x="167" y="329"/>
                    </a:lnTo>
                    <a:lnTo>
                      <a:pt x="165" y="330"/>
                    </a:lnTo>
                    <a:lnTo>
                      <a:pt x="165" y="332"/>
                    </a:lnTo>
                    <a:lnTo>
                      <a:pt x="163" y="333"/>
                    </a:lnTo>
                    <a:lnTo>
                      <a:pt x="160" y="334"/>
                    </a:lnTo>
                    <a:lnTo>
                      <a:pt x="158" y="335"/>
                    </a:lnTo>
                    <a:lnTo>
                      <a:pt x="158" y="336"/>
                    </a:lnTo>
                    <a:lnTo>
                      <a:pt x="156" y="337"/>
                    </a:lnTo>
                    <a:lnTo>
                      <a:pt x="154" y="339"/>
                    </a:lnTo>
                    <a:lnTo>
                      <a:pt x="154" y="340"/>
                    </a:lnTo>
                    <a:lnTo>
                      <a:pt x="152" y="341"/>
                    </a:lnTo>
                    <a:lnTo>
                      <a:pt x="150" y="342"/>
                    </a:lnTo>
                    <a:lnTo>
                      <a:pt x="148" y="343"/>
                    </a:lnTo>
                    <a:lnTo>
                      <a:pt x="148" y="344"/>
                    </a:lnTo>
                    <a:lnTo>
                      <a:pt x="146" y="345"/>
                    </a:lnTo>
                    <a:lnTo>
                      <a:pt x="144" y="346"/>
                    </a:lnTo>
                    <a:lnTo>
                      <a:pt x="144" y="347"/>
                    </a:lnTo>
                    <a:lnTo>
                      <a:pt x="142" y="347"/>
                    </a:lnTo>
                    <a:lnTo>
                      <a:pt x="140" y="348"/>
                    </a:lnTo>
                    <a:lnTo>
                      <a:pt x="138" y="350"/>
                    </a:lnTo>
                    <a:lnTo>
                      <a:pt x="138" y="351"/>
                    </a:lnTo>
                    <a:lnTo>
                      <a:pt x="136" y="352"/>
                    </a:lnTo>
                    <a:lnTo>
                      <a:pt x="134" y="352"/>
                    </a:lnTo>
                    <a:lnTo>
                      <a:pt x="132" y="353"/>
                    </a:lnTo>
                    <a:lnTo>
                      <a:pt x="132" y="354"/>
                    </a:lnTo>
                    <a:lnTo>
                      <a:pt x="130" y="355"/>
                    </a:lnTo>
                    <a:lnTo>
                      <a:pt x="128" y="355"/>
                    </a:lnTo>
                    <a:lnTo>
                      <a:pt x="128" y="356"/>
                    </a:lnTo>
                    <a:lnTo>
                      <a:pt x="126" y="356"/>
                    </a:lnTo>
                    <a:lnTo>
                      <a:pt x="123" y="357"/>
                    </a:lnTo>
                    <a:lnTo>
                      <a:pt x="121" y="358"/>
                    </a:lnTo>
                    <a:lnTo>
                      <a:pt x="119" y="360"/>
                    </a:lnTo>
                    <a:lnTo>
                      <a:pt x="117" y="360"/>
                    </a:lnTo>
                    <a:lnTo>
                      <a:pt x="117" y="361"/>
                    </a:lnTo>
                    <a:lnTo>
                      <a:pt x="115" y="362"/>
                    </a:lnTo>
                    <a:lnTo>
                      <a:pt x="113" y="362"/>
                    </a:lnTo>
                    <a:lnTo>
                      <a:pt x="111" y="363"/>
                    </a:lnTo>
                    <a:lnTo>
                      <a:pt x="109" y="364"/>
                    </a:lnTo>
                    <a:lnTo>
                      <a:pt x="107" y="364"/>
                    </a:lnTo>
                    <a:lnTo>
                      <a:pt x="105" y="364"/>
                    </a:lnTo>
                    <a:lnTo>
                      <a:pt x="105" y="365"/>
                    </a:lnTo>
                    <a:lnTo>
                      <a:pt x="103" y="365"/>
                    </a:lnTo>
                    <a:lnTo>
                      <a:pt x="101" y="366"/>
                    </a:lnTo>
                    <a:lnTo>
                      <a:pt x="99" y="367"/>
                    </a:lnTo>
                    <a:lnTo>
                      <a:pt x="97" y="367"/>
                    </a:lnTo>
                    <a:lnTo>
                      <a:pt x="95" y="367"/>
                    </a:lnTo>
                    <a:lnTo>
                      <a:pt x="95" y="368"/>
                    </a:lnTo>
                    <a:lnTo>
                      <a:pt x="93" y="368"/>
                    </a:lnTo>
                    <a:lnTo>
                      <a:pt x="91" y="368"/>
                    </a:lnTo>
                    <a:lnTo>
                      <a:pt x="91" y="369"/>
                    </a:lnTo>
                    <a:lnTo>
                      <a:pt x="89" y="369"/>
                    </a:lnTo>
                    <a:lnTo>
                      <a:pt x="86" y="369"/>
                    </a:lnTo>
                    <a:lnTo>
                      <a:pt x="84" y="371"/>
                    </a:lnTo>
                    <a:lnTo>
                      <a:pt x="82" y="371"/>
                    </a:lnTo>
                    <a:lnTo>
                      <a:pt x="80" y="371"/>
                    </a:lnTo>
                    <a:lnTo>
                      <a:pt x="78" y="372"/>
                    </a:lnTo>
                    <a:lnTo>
                      <a:pt x="76" y="372"/>
                    </a:lnTo>
                    <a:lnTo>
                      <a:pt x="74" y="372"/>
                    </a:lnTo>
                    <a:lnTo>
                      <a:pt x="74" y="373"/>
                    </a:lnTo>
                    <a:lnTo>
                      <a:pt x="72" y="373"/>
                    </a:lnTo>
                    <a:lnTo>
                      <a:pt x="70" y="373"/>
                    </a:lnTo>
                    <a:lnTo>
                      <a:pt x="68" y="373"/>
                    </a:lnTo>
                    <a:lnTo>
                      <a:pt x="66" y="373"/>
                    </a:lnTo>
                    <a:lnTo>
                      <a:pt x="64" y="374"/>
                    </a:lnTo>
                    <a:lnTo>
                      <a:pt x="62" y="374"/>
                    </a:lnTo>
                    <a:lnTo>
                      <a:pt x="60" y="374"/>
                    </a:lnTo>
                    <a:lnTo>
                      <a:pt x="58" y="374"/>
                    </a:lnTo>
                    <a:lnTo>
                      <a:pt x="56" y="374"/>
                    </a:lnTo>
                    <a:lnTo>
                      <a:pt x="54" y="375"/>
                    </a:lnTo>
                    <a:lnTo>
                      <a:pt x="52" y="375"/>
                    </a:lnTo>
                    <a:lnTo>
                      <a:pt x="49" y="375"/>
                    </a:lnTo>
                    <a:lnTo>
                      <a:pt x="47" y="375"/>
                    </a:lnTo>
                    <a:lnTo>
                      <a:pt x="45" y="375"/>
                    </a:lnTo>
                    <a:lnTo>
                      <a:pt x="43" y="375"/>
                    </a:lnTo>
                    <a:lnTo>
                      <a:pt x="42" y="375"/>
                    </a:lnTo>
                    <a:lnTo>
                      <a:pt x="40" y="375"/>
                    </a:lnTo>
                    <a:lnTo>
                      <a:pt x="37" y="375"/>
                    </a:lnTo>
                    <a:lnTo>
                      <a:pt x="37" y="376"/>
                    </a:lnTo>
                    <a:lnTo>
                      <a:pt x="35" y="376"/>
                    </a:lnTo>
                    <a:lnTo>
                      <a:pt x="33" y="376"/>
                    </a:lnTo>
                    <a:lnTo>
                      <a:pt x="31" y="376"/>
                    </a:lnTo>
                    <a:lnTo>
                      <a:pt x="29" y="376"/>
                    </a:lnTo>
                    <a:lnTo>
                      <a:pt x="27" y="376"/>
                    </a:lnTo>
                    <a:lnTo>
                      <a:pt x="25" y="376"/>
                    </a:lnTo>
                    <a:lnTo>
                      <a:pt x="23" y="376"/>
                    </a:lnTo>
                    <a:lnTo>
                      <a:pt x="21" y="376"/>
                    </a:lnTo>
                    <a:lnTo>
                      <a:pt x="19" y="376"/>
                    </a:lnTo>
                    <a:lnTo>
                      <a:pt x="17" y="376"/>
                    </a:lnTo>
                    <a:lnTo>
                      <a:pt x="15" y="376"/>
                    </a:lnTo>
                    <a:lnTo>
                      <a:pt x="13" y="376"/>
                    </a:lnTo>
                    <a:lnTo>
                      <a:pt x="11" y="376"/>
                    </a:lnTo>
                    <a:lnTo>
                      <a:pt x="9" y="376"/>
                    </a:lnTo>
                    <a:lnTo>
                      <a:pt x="7" y="376"/>
                    </a:lnTo>
                    <a:lnTo>
                      <a:pt x="5" y="376"/>
                    </a:lnTo>
                    <a:lnTo>
                      <a:pt x="3" y="376"/>
                    </a:lnTo>
                    <a:lnTo>
                      <a:pt x="0" y="376"/>
                    </a:lnTo>
                  </a:path>
                </a:pathLst>
              </a:custGeom>
              <a:noFill/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089720" y="2819520"/>
              <a:ext cx="2225520" cy="600120"/>
              <a:chOff x="1089720" y="2819520"/>
              <a:chExt cx="2225520" cy="600120"/>
            </a:xfrm>
          </p:grpSpPr>
          <p:sp>
            <p:nvSpPr>
              <p:cNvPr id="227" name=""/>
              <p:cNvSpPr/>
              <p:nvPr/>
            </p:nvSpPr>
            <p:spPr>
              <a:xfrm>
                <a:off x="2207520" y="2819520"/>
                <a:ext cx="1107720" cy="598320"/>
              </a:xfrm>
              <a:custGeom>
                <a:avLst/>
                <a:gdLst/>
                <a:ahLst/>
                <a:rect l="l" t="t" r="r" b="b"/>
                <a:pathLst>
                  <a:path w="756" h="377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0"/>
                    </a:lnTo>
                    <a:lnTo>
                      <a:pt x="106" y="0"/>
                    </a:lnTo>
                    <a:lnTo>
                      <a:pt x="108" y="0"/>
                    </a:lnTo>
                    <a:lnTo>
                      <a:pt x="110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7" y="0"/>
                    </a:lnTo>
                    <a:lnTo>
                      <a:pt x="119" y="0"/>
                    </a:lnTo>
                    <a:lnTo>
                      <a:pt x="121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41" y="0"/>
                    </a:lnTo>
                    <a:lnTo>
                      <a:pt x="143" y="0"/>
                    </a:lnTo>
                    <a:lnTo>
                      <a:pt x="145" y="0"/>
                    </a:lnTo>
                    <a:lnTo>
                      <a:pt x="147" y="0"/>
                    </a:lnTo>
                    <a:lnTo>
                      <a:pt x="149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7" y="0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64" y="0"/>
                    </a:lnTo>
                    <a:lnTo>
                      <a:pt x="166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8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4" y="0"/>
                    </a:lnTo>
                    <a:lnTo>
                      <a:pt x="186" y="0"/>
                    </a:lnTo>
                    <a:lnTo>
                      <a:pt x="188" y="0"/>
                    </a:lnTo>
                    <a:lnTo>
                      <a:pt x="190" y="0"/>
                    </a:lnTo>
                    <a:lnTo>
                      <a:pt x="192" y="0"/>
                    </a:lnTo>
                    <a:lnTo>
                      <a:pt x="194" y="0"/>
                    </a:lnTo>
                    <a:lnTo>
                      <a:pt x="196" y="0"/>
                    </a:lnTo>
                    <a:lnTo>
                      <a:pt x="199" y="0"/>
                    </a:lnTo>
                    <a:lnTo>
                      <a:pt x="201" y="0"/>
                    </a:lnTo>
                    <a:lnTo>
                      <a:pt x="203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9" y="0"/>
                    </a:lnTo>
                    <a:lnTo>
                      <a:pt x="211" y="0"/>
                    </a:lnTo>
                    <a:lnTo>
                      <a:pt x="213" y="0"/>
                    </a:lnTo>
                    <a:lnTo>
                      <a:pt x="215" y="0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21" y="0"/>
                    </a:lnTo>
                    <a:lnTo>
                      <a:pt x="223" y="0"/>
                    </a:lnTo>
                    <a:lnTo>
                      <a:pt x="225" y="0"/>
                    </a:lnTo>
                    <a:lnTo>
                      <a:pt x="227" y="0"/>
                    </a:lnTo>
                    <a:lnTo>
                      <a:pt x="229" y="0"/>
                    </a:lnTo>
                    <a:lnTo>
                      <a:pt x="231" y="1"/>
                    </a:lnTo>
                    <a:lnTo>
                      <a:pt x="233" y="1"/>
                    </a:lnTo>
                    <a:lnTo>
                      <a:pt x="236" y="1"/>
                    </a:lnTo>
                    <a:lnTo>
                      <a:pt x="238" y="1"/>
                    </a:lnTo>
                    <a:lnTo>
                      <a:pt x="240" y="1"/>
                    </a:lnTo>
                    <a:lnTo>
                      <a:pt x="242" y="1"/>
                    </a:lnTo>
                    <a:lnTo>
                      <a:pt x="244" y="1"/>
                    </a:lnTo>
                    <a:lnTo>
                      <a:pt x="246" y="1"/>
                    </a:lnTo>
                    <a:lnTo>
                      <a:pt x="248" y="1"/>
                    </a:lnTo>
                    <a:lnTo>
                      <a:pt x="250" y="1"/>
                    </a:lnTo>
                    <a:lnTo>
                      <a:pt x="252" y="1"/>
                    </a:lnTo>
                    <a:lnTo>
                      <a:pt x="254" y="1"/>
                    </a:lnTo>
                    <a:lnTo>
                      <a:pt x="256" y="1"/>
                    </a:lnTo>
                    <a:lnTo>
                      <a:pt x="258" y="1"/>
                    </a:lnTo>
                    <a:lnTo>
                      <a:pt x="260" y="1"/>
                    </a:lnTo>
                    <a:lnTo>
                      <a:pt x="262" y="1"/>
                    </a:lnTo>
                    <a:lnTo>
                      <a:pt x="264" y="1"/>
                    </a:lnTo>
                    <a:lnTo>
                      <a:pt x="266" y="1"/>
                    </a:lnTo>
                    <a:lnTo>
                      <a:pt x="268" y="1"/>
                    </a:lnTo>
                    <a:lnTo>
                      <a:pt x="270" y="2"/>
                    </a:lnTo>
                    <a:lnTo>
                      <a:pt x="273" y="2"/>
                    </a:lnTo>
                    <a:lnTo>
                      <a:pt x="275" y="2"/>
                    </a:lnTo>
                    <a:lnTo>
                      <a:pt x="277" y="2"/>
                    </a:lnTo>
                    <a:lnTo>
                      <a:pt x="279" y="2"/>
                    </a:lnTo>
                    <a:lnTo>
                      <a:pt x="281" y="2"/>
                    </a:lnTo>
                    <a:lnTo>
                      <a:pt x="283" y="2"/>
                    </a:lnTo>
                    <a:lnTo>
                      <a:pt x="285" y="2"/>
                    </a:lnTo>
                    <a:lnTo>
                      <a:pt x="287" y="2"/>
                    </a:lnTo>
                    <a:lnTo>
                      <a:pt x="289" y="3"/>
                    </a:lnTo>
                    <a:lnTo>
                      <a:pt x="291" y="3"/>
                    </a:lnTo>
                    <a:lnTo>
                      <a:pt x="293" y="3"/>
                    </a:lnTo>
                    <a:lnTo>
                      <a:pt x="295" y="3"/>
                    </a:lnTo>
                    <a:lnTo>
                      <a:pt x="297" y="3"/>
                    </a:lnTo>
                    <a:lnTo>
                      <a:pt x="299" y="3"/>
                    </a:lnTo>
                    <a:lnTo>
                      <a:pt x="301" y="4"/>
                    </a:lnTo>
                    <a:lnTo>
                      <a:pt x="303" y="4"/>
                    </a:lnTo>
                    <a:lnTo>
                      <a:pt x="305" y="4"/>
                    </a:lnTo>
                    <a:lnTo>
                      <a:pt x="307" y="4"/>
                    </a:lnTo>
                    <a:lnTo>
                      <a:pt x="310" y="4"/>
                    </a:lnTo>
                    <a:lnTo>
                      <a:pt x="312" y="5"/>
                    </a:lnTo>
                    <a:lnTo>
                      <a:pt x="314" y="5"/>
                    </a:lnTo>
                    <a:lnTo>
                      <a:pt x="316" y="5"/>
                    </a:lnTo>
                    <a:lnTo>
                      <a:pt x="318" y="5"/>
                    </a:lnTo>
                    <a:lnTo>
                      <a:pt x="320" y="6"/>
                    </a:lnTo>
                    <a:lnTo>
                      <a:pt x="322" y="6"/>
                    </a:lnTo>
                    <a:lnTo>
                      <a:pt x="324" y="6"/>
                    </a:lnTo>
                    <a:lnTo>
                      <a:pt x="326" y="7"/>
                    </a:lnTo>
                    <a:lnTo>
                      <a:pt x="328" y="7"/>
                    </a:lnTo>
                    <a:lnTo>
                      <a:pt x="330" y="7"/>
                    </a:lnTo>
                    <a:lnTo>
                      <a:pt x="332" y="8"/>
                    </a:lnTo>
                    <a:lnTo>
                      <a:pt x="334" y="8"/>
                    </a:lnTo>
                    <a:lnTo>
                      <a:pt x="336" y="8"/>
                    </a:lnTo>
                    <a:lnTo>
                      <a:pt x="336" y="9"/>
                    </a:lnTo>
                    <a:lnTo>
                      <a:pt x="338" y="9"/>
                    </a:lnTo>
                    <a:lnTo>
                      <a:pt x="340" y="9"/>
                    </a:lnTo>
                    <a:lnTo>
                      <a:pt x="340" y="10"/>
                    </a:lnTo>
                    <a:lnTo>
                      <a:pt x="342" y="10"/>
                    </a:lnTo>
                    <a:lnTo>
                      <a:pt x="344" y="10"/>
                    </a:lnTo>
                    <a:lnTo>
                      <a:pt x="346" y="11"/>
                    </a:lnTo>
                    <a:lnTo>
                      <a:pt x="348" y="11"/>
                    </a:lnTo>
                    <a:lnTo>
                      <a:pt x="350" y="13"/>
                    </a:lnTo>
                    <a:lnTo>
                      <a:pt x="352" y="14"/>
                    </a:lnTo>
                    <a:lnTo>
                      <a:pt x="354" y="14"/>
                    </a:lnTo>
                    <a:lnTo>
                      <a:pt x="356" y="15"/>
                    </a:lnTo>
                    <a:lnTo>
                      <a:pt x="359" y="16"/>
                    </a:lnTo>
                    <a:lnTo>
                      <a:pt x="361" y="16"/>
                    </a:lnTo>
                    <a:lnTo>
                      <a:pt x="363" y="17"/>
                    </a:lnTo>
                    <a:lnTo>
                      <a:pt x="365" y="18"/>
                    </a:lnTo>
                    <a:lnTo>
                      <a:pt x="367" y="18"/>
                    </a:lnTo>
                    <a:lnTo>
                      <a:pt x="367" y="19"/>
                    </a:lnTo>
                    <a:lnTo>
                      <a:pt x="369" y="19"/>
                    </a:lnTo>
                    <a:lnTo>
                      <a:pt x="371" y="20"/>
                    </a:lnTo>
                    <a:lnTo>
                      <a:pt x="373" y="21"/>
                    </a:lnTo>
                    <a:lnTo>
                      <a:pt x="375" y="23"/>
                    </a:lnTo>
                    <a:lnTo>
                      <a:pt x="377" y="24"/>
                    </a:lnTo>
                    <a:lnTo>
                      <a:pt x="377" y="25"/>
                    </a:lnTo>
                    <a:lnTo>
                      <a:pt x="379" y="25"/>
                    </a:lnTo>
                    <a:lnTo>
                      <a:pt x="381" y="26"/>
                    </a:lnTo>
                    <a:lnTo>
                      <a:pt x="383" y="27"/>
                    </a:lnTo>
                    <a:lnTo>
                      <a:pt x="383" y="28"/>
                    </a:lnTo>
                    <a:lnTo>
                      <a:pt x="385" y="29"/>
                    </a:lnTo>
                    <a:lnTo>
                      <a:pt x="387" y="30"/>
                    </a:lnTo>
                    <a:lnTo>
                      <a:pt x="389" y="30"/>
                    </a:lnTo>
                    <a:lnTo>
                      <a:pt x="389" y="31"/>
                    </a:lnTo>
                    <a:lnTo>
                      <a:pt x="391" y="32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5" y="36"/>
                    </a:lnTo>
                    <a:lnTo>
                      <a:pt x="398" y="37"/>
                    </a:lnTo>
                    <a:lnTo>
                      <a:pt x="400" y="39"/>
                    </a:lnTo>
                    <a:lnTo>
                      <a:pt x="400" y="40"/>
                    </a:lnTo>
                    <a:lnTo>
                      <a:pt x="402" y="41"/>
                    </a:lnTo>
                    <a:lnTo>
                      <a:pt x="404" y="42"/>
                    </a:lnTo>
                    <a:lnTo>
                      <a:pt x="404" y="44"/>
                    </a:lnTo>
                    <a:lnTo>
                      <a:pt x="406" y="46"/>
                    </a:lnTo>
                    <a:lnTo>
                      <a:pt x="408" y="47"/>
                    </a:lnTo>
                    <a:lnTo>
                      <a:pt x="410" y="48"/>
                    </a:lnTo>
                    <a:lnTo>
                      <a:pt x="410" y="49"/>
                    </a:lnTo>
                    <a:lnTo>
                      <a:pt x="412" y="51"/>
                    </a:lnTo>
                    <a:lnTo>
                      <a:pt x="414" y="52"/>
                    </a:lnTo>
                    <a:lnTo>
                      <a:pt x="416" y="55"/>
                    </a:lnTo>
                    <a:lnTo>
                      <a:pt x="416" y="56"/>
                    </a:lnTo>
                    <a:lnTo>
                      <a:pt x="418" y="58"/>
                    </a:lnTo>
                    <a:lnTo>
                      <a:pt x="420" y="59"/>
                    </a:lnTo>
                    <a:lnTo>
                      <a:pt x="420" y="61"/>
                    </a:lnTo>
                    <a:lnTo>
                      <a:pt x="422" y="62"/>
                    </a:lnTo>
                    <a:lnTo>
                      <a:pt x="424" y="65"/>
                    </a:lnTo>
                    <a:lnTo>
                      <a:pt x="426" y="67"/>
                    </a:lnTo>
                    <a:lnTo>
                      <a:pt x="426" y="69"/>
                    </a:lnTo>
                    <a:lnTo>
                      <a:pt x="428" y="70"/>
                    </a:lnTo>
                    <a:lnTo>
                      <a:pt x="430" y="72"/>
                    </a:lnTo>
                    <a:lnTo>
                      <a:pt x="430" y="74"/>
                    </a:lnTo>
                    <a:lnTo>
                      <a:pt x="432" y="77"/>
                    </a:lnTo>
                    <a:lnTo>
                      <a:pt x="435" y="79"/>
                    </a:lnTo>
                    <a:lnTo>
                      <a:pt x="437" y="81"/>
                    </a:lnTo>
                    <a:lnTo>
                      <a:pt x="437" y="83"/>
                    </a:lnTo>
                    <a:lnTo>
                      <a:pt x="439" y="85"/>
                    </a:lnTo>
                    <a:lnTo>
                      <a:pt x="441" y="88"/>
                    </a:lnTo>
                    <a:lnTo>
                      <a:pt x="443" y="90"/>
                    </a:lnTo>
                    <a:lnTo>
                      <a:pt x="443" y="92"/>
                    </a:lnTo>
                    <a:lnTo>
                      <a:pt x="445" y="94"/>
                    </a:lnTo>
                    <a:lnTo>
                      <a:pt x="447" y="96"/>
                    </a:lnTo>
                    <a:lnTo>
                      <a:pt x="447" y="99"/>
                    </a:lnTo>
                    <a:lnTo>
                      <a:pt x="449" y="102"/>
                    </a:lnTo>
                    <a:lnTo>
                      <a:pt x="451" y="104"/>
                    </a:lnTo>
                    <a:lnTo>
                      <a:pt x="453" y="106"/>
                    </a:lnTo>
                    <a:lnTo>
                      <a:pt x="453" y="109"/>
                    </a:lnTo>
                    <a:lnTo>
                      <a:pt x="455" y="112"/>
                    </a:lnTo>
                    <a:lnTo>
                      <a:pt x="457" y="114"/>
                    </a:lnTo>
                    <a:lnTo>
                      <a:pt x="457" y="117"/>
                    </a:lnTo>
                    <a:lnTo>
                      <a:pt x="459" y="120"/>
                    </a:lnTo>
                    <a:lnTo>
                      <a:pt x="461" y="122"/>
                    </a:lnTo>
                    <a:lnTo>
                      <a:pt x="463" y="125"/>
                    </a:lnTo>
                    <a:lnTo>
                      <a:pt x="463" y="127"/>
                    </a:lnTo>
                    <a:lnTo>
                      <a:pt x="465" y="131"/>
                    </a:lnTo>
                    <a:lnTo>
                      <a:pt x="467" y="133"/>
                    </a:lnTo>
                    <a:lnTo>
                      <a:pt x="467" y="136"/>
                    </a:lnTo>
                    <a:lnTo>
                      <a:pt x="469" y="138"/>
                    </a:lnTo>
                    <a:lnTo>
                      <a:pt x="472" y="142"/>
                    </a:lnTo>
                    <a:lnTo>
                      <a:pt x="474" y="145"/>
                    </a:lnTo>
                    <a:lnTo>
                      <a:pt x="474" y="147"/>
                    </a:lnTo>
                    <a:lnTo>
                      <a:pt x="476" y="151"/>
                    </a:lnTo>
                    <a:lnTo>
                      <a:pt x="478" y="153"/>
                    </a:lnTo>
                    <a:lnTo>
                      <a:pt x="480" y="156"/>
                    </a:lnTo>
                    <a:lnTo>
                      <a:pt x="480" y="159"/>
                    </a:lnTo>
                    <a:lnTo>
                      <a:pt x="482" y="161"/>
                    </a:lnTo>
                    <a:lnTo>
                      <a:pt x="484" y="165"/>
                    </a:lnTo>
                    <a:lnTo>
                      <a:pt x="484" y="168"/>
                    </a:lnTo>
                    <a:lnTo>
                      <a:pt x="486" y="170"/>
                    </a:lnTo>
                    <a:lnTo>
                      <a:pt x="488" y="174"/>
                    </a:lnTo>
                    <a:lnTo>
                      <a:pt x="490" y="177"/>
                    </a:lnTo>
                    <a:lnTo>
                      <a:pt x="490" y="179"/>
                    </a:lnTo>
                    <a:lnTo>
                      <a:pt x="492" y="182"/>
                    </a:lnTo>
                    <a:lnTo>
                      <a:pt x="494" y="186"/>
                    </a:lnTo>
                    <a:lnTo>
                      <a:pt x="494" y="188"/>
                    </a:lnTo>
                    <a:lnTo>
                      <a:pt x="496" y="191"/>
                    </a:lnTo>
                    <a:lnTo>
                      <a:pt x="498" y="195"/>
                    </a:lnTo>
                    <a:lnTo>
                      <a:pt x="500" y="197"/>
                    </a:lnTo>
                    <a:lnTo>
                      <a:pt x="500" y="200"/>
                    </a:lnTo>
                    <a:lnTo>
                      <a:pt x="502" y="203"/>
                    </a:lnTo>
                    <a:lnTo>
                      <a:pt x="504" y="206"/>
                    </a:lnTo>
                    <a:lnTo>
                      <a:pt x="506" y="209"/>
                    </a:lnTo>
                    <a:lnTo>
                      <a:pt x="506" y="211"/>
                    </a:lnTo>
                    <a:lnTo>
                      <a:pt x="509" y="214"/>
                    </a:lnTo>
                    <a:lnTo>
                      <a:pt x="511" y="217"/>
                    </a:lnTo>
                    <a:lnTo>
                      <a:pt x="511" y="220"/>
                    </a:lnTo>
                    <a:lnTo>
                      <a:pt x="513" y="223"/>
                    </a:lnTo>
                    <a:lnTo>
                      <a:pt x="515" y="226"/>
                    </a:lnTo>
                    <a:lnTo>
                      <a:pt x="517" y="229"/>
                    </a:lnTo>
                    <a:lnTo>
                      <a:pt x="517" y="231"/>
                    </a:lnTo>
                    <a:lnTo>
                      <a:pt x="519" y="233"/>
                    </a:lnTo>
                    <a:lnTo>
                      <a:pt x="521" y="236"/>
                    </a:lnTo>
                    <a:lnTo>
                      <a:pt x="521" y="239"/>
                    </a:lnTo>
                    <a:lnTo>
                      <a:pt x="523" y="242"/>
                    </a:lnTo>
                    <a:lnTo>
                      <a:pt x="525" y="244"/>
                    </a:lnTo>
                    <a:lnTo>
                      <a:pt x="527" y="246"/>
                    </a:lnTo>
                    <a:lnTo>
                      <a:pt x="527" y="250"/>
                    </a:lnTo>
                    <a:lnTo>
                      <a:pt x="529" y="252"/>
                    </a:lnTo>
                    <a:lnTo>
                      <a:pt x="531" y="254"/>
                    </a:lnTo>
                    <a:lnTo>
                      <a:pt x="533" y="256"/>
                    </a:lnTo>
                    <a:lnTo>
                      <a:pt x="533" y="260"/>
                    </a:lnTo>
                    <a:lnTo>
                      <a:pt x="535" y="262"/>
                    </a:lnTo>
                    <a:lnTo>
                      <a:pt x="537" y="264"/>
                    </a:lnTo>
                    <a:lnTo>
                      <a:pt x="537" y="266"/>
                    </a:lnTo>
                    <a:lnTo>
                      <a:pt x="539" y="268"/>
                    </a:lnTo>
                    <a:lnTo>
                      <a:pt x="541" y="271"/>
                    </a:lnTo>
                    <a:lnTo>
                      <a:pt x="543" y="273"/>
                    </a:lnTo>
                    <a:lnTo>
                      <a:pt x="543" y="275"/>
                    </a:lnTo>
                    <a:lnTo>
                      <a:pt x="545" y="277"/>
                    </a:lnTo>
                    <a:lnTo>
                      <a:pt x="547" y="280"/>
                    </a:lnTo>
                    <a:lnTo>
                      <a:pt x="547" y="282"/>
                    </a:lnTo>
                    <a:lnTo>
                      <a:pt x="549" y="284"/>
                    </a:lnTo>
                    <a:lnTo>
                      <a:pt x="551" y="286"/>
                    </a:lnTo>
                    <a:lnTo>
                      <a:pt x="553" y="288"/>
                    </a:lnTo>
                    <a:lnTo>
                      <a:pt x="553" y="291"/>
                    </a:lnTo>
                    <a:lnTo>
                      <a:pt x="555" y="292"/>
                    </a:lnTo>
                    <a:lnTo>
                      <a:pt x="558" y="294"/>
                    </a:lnTo>
                    <a:lnTo>
                      <a:pt x="560" y="296"/>
                    </a:lnTo>
                    <a:lnTo>
                      <a:pt x="560" y="298"/>
                    </a:lnTo>
                    <a:lnTo>
                      <a:pt x="562" y="299"/>
                    </a:lnTo>
                    <a:lnTo>
                      <a:pt x="564" y="302"/>
                    </a:lnTo>
                    <a:lnTo>
                      <a:pt x="564" y="304"/>
                    </a:lnTo>
                    <a:lnTo>
                      <a:pt x="566" y="305"/>
                    </a:lnTo>
                    <a:lnTo>
                      <a:pt x="568" y="307"/>
                    </a:lnTo>
                    <a:lnTo>
                      <a:pt x="570" y="308"/>
                    </a:lnTo>
                    <a:lnTo>
                      <a:pt x="570" y="310"/>
                    </a:lnTo>
                    <a:lnTo>
                      <a:pt x="572" y="312"/>
                    </a:lnTo>
                    <a:lnTo>
                      <a:pt x="574" y="314"/>
                    </a:lnTo>
                    <a:lnTo>
                      <a:pt x="574" y="315"/>
                    </a:lnTo>
                    <a:lnTo>
                      <a:pt x="576" y="317"/>
                    </a:lnTo>
                    <a:lnTo>
                      <a:pt x="578" y="318"/>
                    </a:lnTo>
                    <a:lnTo>
                      <a:pt x="580" y="320"/>
                    </a:lnTo>
                    <a:lnTo>
                      <a:pt x="580" y="321"/>
                    </a:lnTo>
                    <a:lnTo>
                      <a:pt x="582" y="322"/>
                    </a:lnTo>
                    <a:lnTo>
                      <a:pt x="584" y="324"/>
                    </a:lnTo>
                    <a:lnTo>
                      <a:pt x="586" y="326"/>
                    </a:lnTo>
                    <a:lnTo>
                      <a:pt x="586" y="327"/>
                    </a:lnTo>
                    <a:lnTo>
                      <a:pt x="588" y="328"/>
                    </a:lnTo>
                    <a:lnTo>
                      <a:pt x="590" y="329"/>
                    </a:lnTo>
                    <a:lnTo>
                      <a:pt x="590" y="331"/>
                    </a:lnTo>
                    <a:lnTo>
                      <a:pt x="592" y="332"/>
                    </a:lnTo>
                    <a:lnTo>
                      <a:pt x="595" y="333"/>
                    </a:lnTo>
                    <a:lnTo>
                      <a:pt x="597" y="335"/>
                    </a:lnTo>
                    <a:lnTo>
                      <a:pt x="597" y="336"/>
                    </a:lnTo>
                    <a:lnTo>
                      <a:pt x="599" y="337"/>
                    </a:lnTo>
                    <a:lnTo>
                      <a:pt x="601" y="338"/>
                    </a:lnTo>
                    <a:lnTo>
                      <a:pt x="601" y="339"/>
                    </a:lnTo>
                    <a:lnTo>
                      <a:pt x="603" y="340"/>
                    </a:lnTo>
                    <a:lnTo>
                      <a:pt x="605" y="341"/>
                    </a:lnTo>
                    <a:lnTo>
                      <a:pt x="607" y="342"/>
                    </a:lnTo>
                    <a:lnTo>
                      <a:pt x="607" y="343"/>
                    </a:lnTo>
                    <a:lnTo>
                      <a:pt x="609" y="345"/>
                    </a:lnTo>
                    <a:lnTo>
                      <a:pt x="611" y="346"/>
                    </a:lnTo>
                    <a:lnTo>
                      <a:pt x="611" y="347"/>
                    </a:lnTo>
                    <a:lnTo>
                      <a:pt x="613" y="347"/>
                    </a:lnTo>
                    <a:lnTo>
                      <a:pt x="615" y="348"/>
                    </a:lnTo>
                    <a:lnTo>
                      <a:pt x="617" y="349"/>
                    </a:lnTo>
                    <a:lnTo>
                      <a:pt x="617" y="350"/>
                    </a:lnTo>
                    <a:lnTo>
                      <a:pt x="619" y="351"/>
                    </a:lnTo>
                    <a:lnTo>
                      <a:pt x="621" y="351"/>
                    </a:lnTo>
                    <a:lnTo>
                      <a:pt x="623" y="352"/>
                    </a:lnTo>
                    <a:lnTo>
                      <a:pt x="623" y="353"/>
                    </a:lnTo>
                    <a:lnTo>
                      <a:pt x="625" y="354"/>
                    </a:lnTo>
                    <a:lnTo>
                      <a:pt x="627" y="354"/>
                    </a:lnTo>
                    <a:lnTo>
                      <a:pt x="627" y="356"/>
                    </a:lnTo>
                    <a:lnTo>
                      <a:pt x="629" y="356"/>
                    </a:lnTo>
                    <a:lnTo>
                      <a:pt x="632" y="357"/>
                    </a:lnTo>
                    <a:lnTo>
                      <a:pt x="634" y="358"/>
                    </a:lnTo>
                    <a:lnTo>
                      <a:pt x="636" y="359"/>
                    </a:lnTo>
                    <a:lnTo>
                      <a:pt x="638" y="359"/>
                    </a:lnTo>
                    <a:lnTo>
                      <a:pt x="638" y="360"/>
                    </a:lnTo>
                    <a:lnTo>
                      <a:pt x="640" y="361"/>
                    </a:lnTo>
                    <a:lnTo>
                      <a:pt x="642" y="361"/>
                    </a:lnTo>
                    <a:lnTo>
                      <a:pt x="644" y="362"/>
                    </a:lnTo>
                    <a:lnTo>
                      <a:pt x="646" y="363"/>
                    </a:lnTo>
                    <a:lnTo>
                      <a:pt x="648" y="363"/>
                    </a:lnTo>
                    <a:lnTo>
                      <a:pt x="650" y="363"/>
                    </a:lnTo>
                    <a:lnTo>
                      <a:pt x="650" y="364"/>
                    </a:lnTo>
                    <a:lnTo>
                      <a:pt x="652" y="364"/>
                    </a:lnTo>
                    <a:lnTo>
                      <a:pt x="654" y="366"/>
                    </a:lnTo>
                    <a:lnTo>
                      <a:pt x="656" y="367"/>
                    </a:lnTo>
                    <a:lnTo>
                      <a:pt x="658" y="367"/>
                    </a:lnTo>
                    <a:lnTo>
                      <a:pt x="660" y="367"/>
                    </a:lnTo>
                    <a:lnTo>
                      <a:pt x="660" y="368"/>
                    </a:lnTo>
                    <a:lnTo>
                      <a:pt x="662" y="368"/>
                    </a:lnTo>
                    <a:lnTo>
                      <a:pt x="664" y="368"/>
                    </a:lnTo>
                    <a:lnTo>
                      <a:pt x="664" y="369"/>
                    </a:lnTo>
                    <a:lnTo>
                      <a:pt x="666" y="369"/>
                    </a:lnTo>
                    <a:lnTo>
                      <a:pt x="669" y="369"/>
                    </a:lnTo>
                    <a:lnTo>
                      <a:pt x="671" y="370"/>
                    </a:lnTo>
                    <a:lnTo>
                      <a:pt x="673" y="370"/>
                    </a:lnTo>
                    <a:lnTo>
                      <a:pt x="675" y="370"/>
                    </a:lnTo>
                    <a:lnTo>
                      <a:pt x="677" y="371"/>
                    </a:lnTo>
                    <a:lnTo>
                      <a:pt x="679" y="371"/>
                    </a:lnTo>
                    <a:lnTo>
                      <a:pt x="681" y="371"/>
                    </a:lnTo>
                    <a:lnTo>
                      <a:pt x="681" y="372"/>
                    </a:lnTo>
                    <a:lnTo>
                      <a:pt x="683" y="372"/>
                    </a:lnTo>
                    <a:lnTo>
                      <a:pt x="685" y="372"/>
                    </a:lnTo>
                    <a:lnTo>
                      <a:pt x="687" y="372"/>
                    </a:lnTo>
                    <a:lnTo>
                      <a:pt x="689" y="372"/>
                    </a:lnTo>
                    <a:lnTo>
                      <a:pt x="691" y="373"/>
                    </a:lnTo>
                    <a:lnTo>
                      <a:pt x="693" y="373"/>
                    </a:lnTo>
                    <a:lnTo>
                      <a:pt x="695" y="373"/>
                    </a:lnTo>
                    <a:lnTo>
                      <a:pt x="697" y="373"/>
                    </a:lnTo>
                    <a:lnTo>
                      <a:pt x="699" y="373"/>
                    </a:lnTo>
                    <a:lnTo>
                      <a:pt x="701" y="374"/>
                    </a:lnTo>
                    <a:lnTo>
                      <a:pt x="703" y="374"/>
                    </a:lnTo>
                    <a:lnTo>
                      <a:pt x="706" y="374"/>
                    </a:lnTo>
                    <a:lnTo>
                      <a:pt x="708" y="374"/>
                    </a:lnTo>
                    <a:lnTo>
                      <a:pt x="710" y="374"/>
                    </a:lnTo>
                    <a:lnTo>
                      <a:pt x="712" y="374"/>
                    </a:lnTo>
                    <a:lnTo>
                      <a:pt x="713" y="374"/>
                    </a:lnTo>
                    <a:lnTo>
                      <a:pt x="715" y="374"/>
                    </a:lnTo>
                    <a:lnTo>
                      <a:pt x="718" y="374"/>
                    </a:lnTo>
                    <a:lnTo>
                      <a:pt x="718" y="376"/>
                    </a:lnTo>
                    <a:lnTo>
                      <a:pt x="720" y="376"/>
                    </a:lnTo>
                    <a:lnTo>
                      <a:pt x="722" y="376"/>
                    </a:lnTo>
                    <a:lnTo>
                      <a:pt x="724" y="376"/>
                    </a:lnTo>
                    <a:lnTo>
                      <a:pt x="726" y="376"/>
                    </a:lnTo>
                    <a:lnTo>
                      <a:pt x="728" y="376"/>
                    </a:lnTo>
                    <a:lnTo>
                      <a:pt x="730" y="376"/>
                    </a:lnTo>
                    <a:lnTo>
                      <a:pt x="732" y="376"/>
                    </a:lnTo>
                    <a:lnTo>
                      <a:pt x="734" y="376"/>
                    </a:lnTo>
                    <a:lnTo>
                      <a:pt x="736" y="376"/>
                    </a:lnTo>
                    <a:lnTo>
                      <a:pt x="738" y="376"/>
                    </a:lnTo>
                    <a:lnTo>
                      <a:pt x="740" y="376"/>
                    </a:lnTo>
                    <a:lnTo>
                      <a:pt x="742" y="376"/>
                    </a:lnTo>
                    <a:lnTo>
                      <a:pt x="744" y="376"/>
                    </a:lnTo>
                    <a:lnTo>
                      <a:pt x="746" y="376"/>
                    </a:lnTo>
                    <a:lnTo>
                      <a:pt x="748" y="376"/>
                    </a:lnTo>
                    <a:lnTo>
                      <a:pt x="750" y="376"/>
                    </a:lnTo>
                    <a:lnTo>
                      <a:pt x="752" y="376"/>
                    </a:lnTo>
                    <a:lnTo>
                      <a:pt x="755" y="376"/>
                    </a:lnTo>
                  </a:path>
                </a:pathLst>
              </a:custGeom>
              <a:noFill/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089720" y="2820960"/>
                <a:ext cx="1107720" cy="598680"/>
              </a:xfrm>
              <a:custGeom>
                <a:avLst/>
                <a:gdLst/>
                <a:ahLst/>
                <a:rect l="l" t="t" r="r" b="b"/>
                <a:pathLst>
                  <a:path w="756" h="377">
                    <a:moveTo>
                      <a:pt x="755" y="0"/>
                    </a:moveTo>
                    <a:lnTo>
                      <a:pt x="753" y="0"/>
                    </a:lnTo>
                    <a:lnTo>
                      <a:pt x="751" y="0"/>
                    </a:lnTo>
                    <a:lnTo>
                      <a:pt x="749" y="0"/>
                    </a:lnTo>
                    <a:lnTo>
                      <a:pt x="747" y="0"/>
                    </a:lnTo>
                    <a:lnTo>
                      <a:pt x="745" y="0"/>
                    </a:lnTo>
                    <a:lnTo>
                      <a:pt x="743" y="0"/>
                    </a:lnTo>
                    <a:lnTo>
                      <a:pt x="741" y="0"/>
                    </a:lnTo>
                    <a:lnTo>
                      <a:pt x="739" y="0"/>
                    </a:lnTo>
                    <a:lnTo>
                      <a:pt x="737" y="0"/>
                    </a:lnTo>
                    <a:lnTo>
                      <a:pt x="735" y="0"/>
                    </a:lnTo>
                    <a:lnTo>
                      <a:pt x="733" y="0"/>
                    </a:lnTo>
                    <a:lnTo>
                      <a:pt x="731" y="0"/>
                    </a:lnTo>
                    <a:lnTo>
                      <a:pt x="729" y="0"/>
                    </a:lnTo>
                    <a:lnTo>
                      <a:pt x="727" y="0"/>
                    </a:lnTo>
                    <a:lnTo>
                      <a:pt x="725" y="0"/>
                    </a:lnTo>
                    <a:lnTo>
                      <a:pt x="723" y="0"/>
                    </a:lnTo>
                    <a:lnTo>
                      <a:pt x="721" y="0"/>
                    </a:lnTo>
                    <a:lnTo>
                      <a:pt x="719" y="0"/>
                    </a:lnTo>
                    <a:lnTo>
                      <a:pt x="716" y="0"/>
                    </a:lnTo>
                    <a:lnTo>
                      <a:pt x="714" y="0"/>
                    </a:lnTo>
                    <a:lnTo>
                      <a:pt x="712" y="0"/>
                    </a:lnTo>
                    <a:lnTo>
                      <a:pt x="710" y="0"/>
                    </a:lnTo>
                    <a:lnTo>
                      <a:pt x="708" y="0"/>
                    </a:lnTo>
                    <a:lnTo>
                      <a:pt x="706" y="0"/>
                    </a:lnTo>
                    <a:lnTo>
                      <a:pt x="704" y="0"/>
                    </a:lnTo>
                    <a:lnTo>
                      <a:pt x="702" y="0"/>
                    </a:lnTo>
                    <a:lnTo>
                      <a:pt x="700" y="0"/>
                    </a:lnTo>
                    <a:lnTo>
                      <a:pt x="698" y="0"/>
                    </a:lnTo>
                    <a:lnTo>
                      <a:pt x="696" y="0"/>
                    </a:lnTo>
                    <a:lnTo>
                      <a:pt x="694" y="0"/>
                    </a:lnTo>
                    <a:lnTo>
                      <a:pt x="692" y="0"/>
                    </a:lnTo>
                    <a:lnTo>
                      <a:pt x="690" y="0"/>
                    </a:lnTo>
                    <a:lnTo>
                      <a:pt x="688" y="0"/>
                    </a:lnTo>
                    <a:lnTo>
                      <a:pt x="686" y="0"/>
                    </a:lnTo>
                    <a:lnTo>
                      <a:pt x="684" y="0"/>
                    </a:lnTo>
                    <a:lnTo>
                      <a:pt x="682" y="0"/>
                    </a:lnTo>
                    <a:lnTo>
                      <a:pt x="679" y="0"/>
                    </a:lnTo>
                    <a:lnTo>
                      <a:pt x="677" y="0"/>
                    </a:lnTo>
                    <a:lnTo>
                      <a:pt x="675" y="0"/>
                    </a:lnTo>
                    <a:lnTo>
                      <a:pt x="673" y="0"/>
                    </a:lnTo>
                    <a:lnTo>
                      <a:pt x="671" y="0"/>
                    </a:lnTo>
                    <a:lnTo>
                      <a:pt x="669" y="0"/>
                    </a:lnTo>
                    <a:lnTo>
                      <a:pt x="667" y="0"/>
                    </a:lnTo>
                    <a:lnTo>
                      <a:pt x="665" y="0"/>
                    </a:lnTo>
                    <a:lnTo>
                      <a:pt x="663" y="0"/>
                    </a:lnTo>
                    <a:lnTo>
                      <a:pt x="661" y="0"/>
                    </a:lnTo>
                    <a:lnTo>
                      <a:pt x="659" y="0"/>
                    </a:lnTo>
                    <a:lnTo>
                      <a:pt x="657" y="0"/>
                    </a:lnTo>
                    <a:lnTo>
                      <a:pt x="655" y="0"/>
                    </a:lnTo>
                    <a:lnTo>
                      <a:pt x="653" y="0"/>
                    </a:lnTo>
                    <a:lnTo>
                      <a:pt x="651" y="0"/>
                    </a:lnTo>
                    <a:lnTo>
                      <a:pt x="649" y="0"/>
                    </a:lnTo>
                    <a:lnTo>
                      <a:pt x="647" y="0"/>
                    </a:lnTo>
                    <a:lnTo>
                      <a:pt x="645" y="0"/>
                    </a:lnTo>
                    <a:lnTo>
                      <a:pt x="642" y="0"/>
                    </a:lnTo>
                    <a:lnTo>
                      <a:pt x="640" y="0"/>
                    </a:lnTo>
                    <a:lnTo>
                      <a:pt x="638" y="0"/>
                    </a:lnTo>
                    <a:lnTo>
                      <a:pt x="636" y="0"/>
                    </a:lnTo>
                    <a:lnTo>
                      <a:pt x="634" y="0"/>
                    </a:lnTo>
                    <a:lnTo>
                      <a:pt x="632" y="0"/>
                    </a:lnTo>
                    <a:lnTo>
                      <a:pt x="630" y="0"/>
                    </a:lnTo>
                    <a:lnTo>
                      <a:pt x="628" y="0"/>
                    </a:lnTo>
                    <a:lnTo>
                      <a:pt x="626" y="0"/>
                    </a:lnTo>
                    <a:lnTo>
                      <a:pt x="624" y="0"/>
                    </a:lnTo>
                    <a:lnTo>
                      <a:pt x="622" y="0"/>
                    </a:lnTo>
                    <a:lnTo>
                      <a:pt x="620" y="0"/>
                    </a:lnTo>
                    <a:lnTo>
                      <a:pt x="618" y="0"/>
                    </a:lnTo>
                    <a:lnTo>
                      <a:pt x="616" y="0"/>
                    </a:lnTo>
                    <a:lnTo>
                      <a:pt x="614" y="0"/>
                    </a:lnTo>
                    <a:lnTo>
                      <a:pt x="612" y="0"/>
                    </a:lnTo>
                    <a:lnTo>
                      <a:pt x="610" y="0"/>
                    </a:lnTo>
                    <a:lnTo>
                      <a:pt x="608" y="0"/>
                    </a:lnTo>
                    <a:lnTo>
                      <a:pt x="606" y="0"/>
                    </a:lnTo>
                    <a:lnTo>
                      <a:pt x="604" y="0"/>
                    </a:lnTo>
                    <a:lnTo>
                      <a:pt x="602" y="0"/>
                    </a:lnTo>
                    <a:lnTo>
                      <a:pt x="600" y="0"/>
                    </a:lnTo>
                    <a:lnTo>
                      <a:pt x="598" y="0"/>
                    </a:lnTo>
                    <a:lnTo>
                      <a:pt x="596" y="0"/>
                    </a:lnTo>
                    <a:lnTo>
                      <a:pt x="593" y="0"/>
                    </a:lnTo>
                    <a:lnTo>
                      <a:pt x="591" y="0"/>
                    </a:lnTo>
                    <a:lnTo>
                      <a:pt x="589" y="0"/>
                    </a:lnTo>
                    <a:lnTo>
                      <a:pt x="587" y="0"/>
                    </a:lnTo>
                    <a:lnTo>
                      <a:pt x="585" y="0"/>
                    </a:lnTo>
                    <a:lnTo>
                      <a:pt x="583" y="0"/>
                    </a:lnTo>
                    <a:lnTo>
                      <a:pt x="581" y="0"/>
                    </a:lnTo>
                    <a:lnTo>
                      <a:pt x="579" y="0"/>
                    </a:lnTo>
                    <a:lnTo>
                      <a:pt x="577" y="0"/>
                    </a:lnTo>
                    <a:lnTo>
                      <a:pt x="575" y="0"/>
                    </a:lnTo>
                    <a:lnTo>
                      <a:pt x="573" y="0"/>
                    </a:lnTo>
                    <a:lnTo>
                      <a:pt x="571" y="0"/>
                    </a:lnTo>
                    <a:lnTo>
                      <a:pt x="569" y="0"/>
                    </a:lnTo>
                    <a:lnTo>
                      <a:pt x="567" y="0"/>
                    </a:lnTo>
                    <a:lnTo>
                      <a:pt x="565" y="0"/>
                    </a:lnTo>
                    <a:lnTo>
                      <a:pt x="563" y="0"/>
                    </a:lnTo>
                    <a:lnTo>
                      <a:pt x="561" y="0"/>
                    </a:lnTo>
                    <a:lnTo>
                      <a:pt x="559" y="0"/>
                    </a:lnTo>
                    <a:lnTo>
                      <a:pt x="556" y="0"/>
                    </a:lnTo>
                    <a:lnTo>
                      <a:pt x="554" y="0"/>
                    </a:lnTo>
                    <a:lnTo>
                      <a:pt x="552" y="0"/>
                    </a:lnTo>
                    <a:lnTo>
                      <a:pt x="550" y="0"/>
                    </a:lnTo>
                    <a:lnTo>
                      <a:pt x="548" y="0"/>
                    </a:lnTo>
                    <a:lnTo>
                      <a:pt x="546" y="0"/>
                    </a:lnTo>
                    <a:lnTo>
                      <a:pt x="544" y="0"/>
                    </a:lnTo>
                    <a:lnTo>
                      <a:pt x="542" y="0"/>
                    </a:lnTo>
                    <a:lnTo>
                      <a:pt x="540" y="0"/>
                    </a:lnTo>
                    <a:lnTo>
                      <a:pt x="538" y="0"/>
                    </a:lnTo>
                    <a:lnTo>
                      <a:pt x="536" y="0"/>
                    </a:lnTo>
                    <a:lnTo>
                      <a:pt x="534" y="0"/>
                    </a:lnTo>
                    <a:lnTo>
                      <a:pt x="532" y="0"/>
                    </a:lnTo>
                    <a:lnTo>
                      <a:pt x="530" y="0"/>
                    </a:lnTo>
                    <a:lnTo>
                      <a:pt x="528" y="0"/>
                    </a:lnTo>
                    <a:lnTo>
                      <a:pt x="526" y="0"/>
                    </a:lnTo>
                    <a:lnTo>
                      <a:pt x="524" y="1"/>
                    </a:lnTo>
                    <a:lnTo>
                      <a:pt x="522" y="1"/>
                    </a:lnTo>
                    <a:lnTo>
                      <a:pt x="519" y="1"/>
                    </a:lnTo>
                    <a:lnTo>
                      <a:pt x="517" y="1"/>
                    </a:lnTo>
                    <a:lnTo>
                      <a:pt x="515" y="1"/>
                    </a:lnTo>
                    <a:lnTo>
                      <a:pt x="513" y="1"/>
                    </a:lnTo>
                    <a:lnTo>
                      <a:pt x="511" y="1"/>
                    </a:lnTo>
                    <a:lnTo>
                      <a:pt x="509" y="1"/>
                    </a:lnTo>
                    <a:lnTo>
                      <a:pt x="507" y="1"/>
                    </a:lnTo>
                    <a:lnTo>
                      <a:pt x="505" y="1"/>
                    </a:lnTo>
                    <a:lnTo>
                      <a:pt x="503" y="1"/>
                    </a:lnTo>
                    <a:lnTo>
                      <a:pt x="501" y="1"/>
                    </a:lnTo>
                    <a:lnTo>
                      <a:pt x="499" y="1"/>
                    </a:lnTo>
                    <a:lnTo>
                      <a:pt x="497" y="1"/>
                    </a:lnTo>
                    <a:lnTo>
                      <a:pt x="495" y="1"/>
                    </a:lnTo>
                    <a:lnTo>
                      <a:pt x="493" y="1"/>
                    </a:lnTo>
                    <a:lnTo>
                      <a:pt x="491" y="1"/>
                    </a:lnTo>
                    <a:lnTo>
                      <a:pt x="489" y="1"/>
                    </a:lnTo>
                    <a:lnTo>
                      <a:pt x="487" y="1"/>
                    </a:lnTo>
                    <a:lnTo>
                      <a:pt x="485" y="2"/>
                    </a:lnTo>
                    <a:lnTo>
                      <a:pt x="482" y="2"/>
                    </a:lnTo>
                    <a:lnTo>
                      <a:pt x="480" y="2"/>
                    </a:lnTo>
                    <a:lnTo>
                      <a:pt x="478" y="2"/>
                    </a:lnTo>
                    <a:lnTo>
                      <a:pt x="476" y="2"/>
                    </a:lnTo>
                    <a:lnTo>
                      <a:pt x="474" y="2"/>
                    </a:lnTo>
                    <a:lnTo>
                      <a:pt x="472" y="2"/>
                    </a:lnTo>
                    <a:lnTo>
                      <a:pt x="470" y="2"/>
                    </a:lnTo>
                    <a:lnTo>
                      <a:pt x="468" y="2"/>
                    </a:lnTo>
                    <a:lnTo>
                      <a:pt x="466" y="3"/>
                    </a:lnTo>
                    <a:lnTo>
                      <a:pt x="464" y="3"/>
                    </a:lnTo>
                    <a:lnTo>
                      <a:pt x="462" y="3"/>
                    </a:lnTo>
                    <a:lnTo>
                      <a:pt x="460" y="3"/>
                    </a:lnTo>
                    <a:lnTo>
                      <a:pt x="458" y="3"/>
                    </a:lnTo>
                    <a:lnTo>
                      <a:pt x="456" y="3"/>
                    </a:lnTo>
                    <a:lnTo>
                      <a:pt x="454" y="5"/>
                    </a:lnTo>
                    <a:lnTo>
                      <a:pt x="452" y="5"/>
                    </a:lnTo>
                    <a:lnTo>
                      <a:pt x="450" y="5"/>
                    </a:lnTo>
                    <a:lnTo>
                      <a:pt x="448" y="5"/>
                    </a:lnTo>
                    <a:lnTo>
                      <a:pt x="445" y="5"/>
                    </a:lnTo>
                    <a:lnTo>
                      <a:pt x="443" y="5"/>
                    </a:lnTo>
                    <a:lnTo>
                      <a:pt x="441" y="5"/>
                    </a:lnTo>
                    <a:lnTo>
                      <a:pt x="439" y="5"/>
                    </a:lnTo>
                    <a:lnTo>
                      <a:pt x="437" y="5"/>
                    </a:lnTo>
                    <a:lnTo>
                      <a:pt x="435" y="7"/>
                    </a:lnTo>
                    <a:lnTo>
                      <a:pt x="433" y="7"/>
                    </a:lnTo>
                    <a:lnTo>
                      <a:pt x="431" y="7"/>
                    </a:lnTo>
                    <a:lnTo>
                      <a:pt x="429" y="8"/>
                    </a:lnTo>
                    <a:lnTo>
                      <a:pt x="427" y="8"/>
                    </a:lnTo>
                    <a:lnTo>
                      <a:pt x="425" y="8"/>
                    </a:lnTo>
                    <a:lnTo>
                      <a:pt x="423" y="9"/>
                    </a:lnTo>
                    <a:lnTo>
                      <a:pt x="421" y="9"/>
                    </a:lnTo>
                    <a:lnTo>
                      <a:pt x="419" y="9"/>
                    </a:lnTo>
                    <a:lnTo>
                      <a:pt x="419" y="10"/>
                    </a:lnTo>
                    <a:lnTo>
                      <a:pt x="417" y="10"/>
                    </a:lnTo>
                    <a:lnTo>
                      <a:pt x="415" y="10"/>
                    </a:lnTo>
                    <a:lnTo>
                      <a:pt x="415" y="11"/>
                    </a:lnTo>
                    <a:lnTo>
                      <a:pt x="413" y="11"/>
                    </a:lnTo>
                    <a:lnTo>
                      <a:pt x="411" y="11"/>
                    </a:lnTo>
                    <a:lnTo>
                      <a:pt x="409" y="12"/>
                    </a:lnTo>
                    <a:lnTo>
                      <a:pt x="407" y="12"/>
                    </a:lnTo>
                    <a:lnTo>
                      <a:pt x="405" y="13"/>
                    </a:lnTo>
                    <a:lnTo>
                      <a:pt x="403" y="14"/>
                    </a:lnTo>
                    <a:lnTo>
                      <a:pt x="401" y="14"/>
                    </a:lnTo>
                    <a:lnTo>
                      <a:pt x="399" y="15"/>
                    </a:lnTo>
                    <a:lnTo>
                      <a:pt x="396" y="16"/>
                    </a:lnTo>
                    <a:lnTo>
                      <a:pt x="394" y="16"/>
                    </a:lnTo>
                    <a:lnTo>
                      <a:pt x="392" y="18"/>
                    </a:lnTo>
                    <a:lnTo>
                      <a:pt x="390" y="19"/>
                    </a:lnTo>
                    <a:lnTo>
                      <a:pt x="388" y="19"/>
                    </a:lnTo>
                    <a:lnTo>
                      <a:pt x="388" y="20"/>
                    </a:lnTo>
                    <a:lnTo>
                      <a:pt x="386" y="20"/>
                    </a:lnTo>
                    <a:lnTo>
                      <a:pt x="384" y="21"/>
                    </a:lnTo>
                    <a:lnTo>
                      <a:pt x="382" y="22"/>
                    </a:lnTo>
                    <a:lnTo>
                      <a:pt x="380" y="23"/>
                    </a:lnTo>
                    <a:lnTo>
                      <a:pt x="378" y="24"/>
                    </a:lnTo>
                    <a:lnTo>
                      <a:pt x="378" y="25"/>
                    </a:lnTo>
                    <a:lnTo>
                      <a:pt x="376" y="25"/>
                    </a:lnTo>
                    <a:lnTo>
                      <a:pt x="374" y="26"/>
                    </a:lnTo>
                    <a:lnTo>
                      <a:pt x="372" y="28"/>
                    </a:lnTo>
                    <a:lnTo>
                      <a:pt x="372" y="29"/>
                    </a:lnTo>
                    <a:lnTo>
                      <a:pt x="370" y="30"/>
                    </a:lnTo>
                    <a:lnTo>
                      <a:pt x="368" y="31"/>
                    </a:lnTo>
                    <a:lnTo>
                      <a:pt x="366" y="31"/>
                    </a:lnTo>
                    <a:lnTo>
                      <a:pt x="366" y="32"/>
                    </a:lnTo>
                    <a:lnTo>
                      <a:pt x="364" y="33"/>
                    </a:lnTo>
                    <a:lnTo>
                      <a:pt x="362" y="34"/>
                    </a:lnTo>
                    <a:lnTo>
                      <a:pt x="362" y="35"/>
                    </a:lnTo>
                    <a:lnTo>
                      <a:pt x="360" y="36"/>
                    </a:lnTo>
                    <a:lnTo>
                      <a:pt x="357" y="37"/>
                    </a:lnTo>
                    <a:lnTo>
                      <a:pt x="355" y="40"/>
                    </a:lnTo>
                    <a:lnTo>
                      <a:pt x="355" y="41"/>
                    </a:lnTo>
                    <a:lnTo>
                      <a:pt x="353" y="42"/>
                    </a:lnTo>
                    <a:lnTo>
                      <a:pt x="351" y="43"/>
                    </a:lnTo>
                    <a:lnTo>
                      <a:pt x="351" y="44"/>
                    </a:lnTo>
                    <a:lnTo>
                      <a:pt x="349" y="46"/>
                    </a:lnTo>
                    <a:lnTo>
                      <a:pt x="347" y="47"/>
                    </a:lnTo>
                    <a:lnTo>
                      <a:pt x="345" y="49"/>
                    </a:lnTo>
                    <a:lnTo>
                      <a:pt x="345" y="50"/>
                    </a:lnTo>
                    <a:lnTo>
                      <a:pt x="343" y="52"/>
                    </a:lnTo>
                    <a:lnTo>
                      <a:pt x="341" y="53"/>
                    </a:lnTo>
                    <a:lnTo>
                      <a:pt x="339" y="55"/>
                    </a:lnTo>
                    <a:lnTo>
                      <a:pt x="339" y="56"/>
                    </a:lnTo>
                    <a:lnTo>
                      <a:pt x="337" y="58"/>
                    </a:lnTo>
                    <a:lnTo>
                      <a:pt x="335" y="60"/>
                    </a:lnTo>
                    <a:lnTo>
                      <a:pt x="335" y="62"/>
                    </a:lnTo>
                    <a:lnTo>
                      <a:pt x="333" y="63"/>
                    </a:lnTo>
                    <a:lnTo>
                      <a:pt x="331" y="65"/>
                    </a:lnTo>
                    <a:lnTo>
                      <a:pt x="329" y="67"/>
                    </a:lnTo>
                    <a:lnTo>
                      <a:pt x="329" y="70"/>
                    </a:lnTo>
                    <a:lnTo>
                      <a:pt x="327" y="71"/>
                    </a:lnTo>
                    <a:lnTo>
                      <a:pt x="325" y="73"/>
                    </a:lnTo>
                    <a:lnTo>
                      <a:pt x="325" y="75"/>
                    </a:lnTo>
                    <a:lnTo>
                      <a:pt x="323" y="77"/>
                    </a:lnTo>
                    <a:lnTo>
                      <a:pt x="320" y="79"/>
                    </a:lnTo>
                    <a:lnTo>
                      <a:pt x="318" y="82"/>
                    </a:lnTo>
                    <a:lnTo>
                      <a:pt x="318" y="84"/>
                    </a:lnTo>
                    <a:lnTo>
                      <a:pt x="316" y="86"/>
                    </a:lnTo>
                    <a:lnTo>
                      <a:pt x="314" y="88"/>
                    </a:lnTo>
                    <a:lnTo>
                      <a:pt x="312" y="90"/>
                    </a:lnTo>
                    <a:lnTo>
                      <a:pt x="312" y="93"/>
                    </a:lnTo>
                    <a:lnTo>
                      <a:pt x="310" y="95"/>
                    </a:lnTo>
                    <a:lnTo>
                      <a:pt x="308" y="97"/>
                    </a:lnTo>
                    <a:lnTo>
                      <a:pt x="308" y="99"/>
                    </a:lnTo>
                    <a:lnTo>
                      <a:pt x="306" y="103"/>
                    </a:lnTo>
                    <a:lnTo>
                      <a:pt x="304" y="105"/>
                    </a:lnTo>
                    <a:lnTo>
                      <a:pt x="302" y="107"/>
                    </a:lnTo>
                    <a:lnTo>
                      <a:pt x="302" y="109"/>
                    </a:lnTo>
                    <a:lnTo>
                      <a:pt x="300" y="112"/>
                    </a:lnTo>
                    <a:lnTo>
                      <a:pt x="298" y="115"/>
                    </a:lnTo>
                    <a:lnTo>
                      <a:pt x="298" y="118"/>
                    </a:lnTo>
                    <a:lnTo>
                      <a:pt x="296" y="120"/>
                    </a:lnTo>
                    <a:lnTo>
                      <a:pt x="294" y="122"/>
                    </a:lnTo>
                    <a:lnTo>
                      <a:pt x="292" y="126"/>
                    </a:lnTo>
                    <a:lnTo>
                      <a:pt x="292" y="128"/>
                    </a:lnTo>
                    <a:lnTo>
                      <a:pt x="290" y="131"/>
                    </a:lnTo>
                    <a:lnTo>
                      <a:pt x="288" y="133"/>
                    </a:lnTo>
                    <a:lnTo>
                      <a:pt x="288" y="137"/>
                    </a:lnTo>
                    <a:lnTo>
                      <a:pt x="286" y="139"/>
                    </a:lnTo>
                    <a:lnTo>
                      <a:pt x="283" y="142"/>
                    </a:lnTo>
                    <a:lnTo>
                      <a:pt x="281" y="146"/>
                    </a:lnTo>
                    <a:lnTo>
                      <a:pt x="281" y="148"/>
                    </a:lnTo>
                    <a:lnTo>
                      <a:pt x="279" y="151"/>
                    </a:lnTo>
                    <a:lnTo>
                      <a:pt x="277" y="153"/>
                    </a:lnTo>
                    <a:lnTo>
                      <a:pt x="275" y="157"/>
                    </a:lnTo>
                    <a:lnTo>
                      <a:pt x="275" y="160"/>
                    </a:lnTo>
                    <a:lnTo>
                      <a:pt x="273" y="162"/>
                    </a:lnTo>
                    <a:lnTo>
                      <a:pt x="271" y="165"/>
                    </a:lnTo>
                    <a:lnTo>
                      <a:pt x="271" y="169"/>
                    </a:lnTo>
                    <a:lnTo>
                      <a:pt x="269" y="171"/>
                    </a:lnTo>
                    <a:lnTo>
                      <a:pt x="267" y="174"/>
                    </a:lnTo>
                    <a:lnTo>
                      <a:pt x="265" y="177"/>
                    </a:lnTo>
                    <a:lnTo>
                      <a:pt x="265" y="180"/>
                    </a:lnTo>
                    <a:lnTo>
                      <a:pt x="263" y="183"/>
                    </a:lnTo>
                    <a:lnTo>
                      <a:pt x="261" y="186"/>
                    </a:lnTo>
                    <a:lnTo>
                      <a:pt x="261" y="189"/>
                    </a:lnTo>
                    <a:lnTo>
                      <a:pt x="259" y="192"/>
                    </a:lnTo>
                    <a:lnTo>
                      <a:pt x="257" y="195"/>
                    </a:lnTo>
                    <a:lnTo>
                      <a:pt x="255" y="197"/>
                    </a:lnTo>
                    <a:lnTo>
                      <a:pt x="255" y="201"/>
                    </a:lnTo>
                    <a:lnTo>
                      <a:pt x="253" y="204"/>
                    </a:lnTo>
                    <a:lnTo>
                      <a:pt x="251" y="206"/>
                    </a:lnTo>
                    <a:lnTo>
                      <a:pt x="249" y="210"/>
                    </a:lnTo>
                    <a:lnTo>
                      <a:pt x="249" y="212"/>
                    </a:lnTo>
                    <a:lnTo>
                      <a:pt x="246" y="215"/>
                    </a:lnTo>
                    <a:lnTo>
                      <a:pt x="244" y="217"/>
                    </a:lnTo>
                    <a:lnTo>
                      <a:pt x="244" y="221"/>
                    </a:lnTo>
                    <a:lnTo>
                      <a:pt x="242" y="224"/>
                    </a:lnTo>
                    <a:lnTo>
                      <a:pt x="240" y="226"/>
                    </a:lnTo>
                    <a:lnTo>
                      <a:pt x="238" y="229"/>
                    </a:lnTo>
                    <a:lnTo>
                      <a:pt x="238" y="232"/>
                    </a:lnTo>
                    <a:lnTo>
                      <a:pt x="236" y="234"/>
                    </a:lnTo>
                    <a:lnTo>
                      <a:pt x="234" y="237"/>
                    </a:lnTo>
                    <a:lnTo>
                      <a:pt x="234" y="239"/>
                    </a:lnTo>
                    <a:lnTo>
                      <a:pt x="232" y="243"/>
                    </a:lnTo>
                    <a:lnTo>
                      <a:pt x="230" y="245"/>
                    </a:lnTo>
                    <a:lnTo>
                      <a:pt x="228" y="247"/>
                    </a:lnTo>
                    <a:lnTo>
                      <a:pt x="228" y="250"/>
                    </a:lnTo>
                    <a:lnTo>
                      <a:pt x="226" y="252"/>
                    </a:lnTo>
                    <a:lnTo>
                      <a:pt x="224" y="255"/>
                    </a:lnTo>
                    <a:lnTo>
                      <a:pt x="222" y="257"/>
                    </a:lnTo>
                    <a:lnTo>
                      <a:pt x="222" y="260"/>
                    </a:lnTo>
                    <a:lnTo>
                      <a:pt x="220" y="262"/>
                    </a:lnTo>
                    <a:lnTo>
                      <a:pt x="218" y="265"/>
                    </a:lnTo>
                    <a:lnTo>
                      <a:pt x="218" y="267"/>
                    </a:lnTo>
                    <a:lnTo>
                      <a:pt x="216" y="269"/>
                    </a:lnTo>
                    <a:lnTo>
                      <a:pt x="214" y="271"/>
                    </a:lnTo>
                    <a:lnTo>
                      <a:pt x="212" y="273"/>
                    </a:lnTo>
                    <a:lnTo>
                      <a:pt x="212" y="276"/>
                    </a:lnTo>
                    <a:lnTo>
                      <a:pt x="210" y="278"/>
                    </a:lnTo>
                    <a:lnTo>
                      <a:pt x="208" y="280"/>
                    </a:lnTo>
                    <a:lnTo>
                      <a:pt x="208" y="282"/>
                    </a:lnTo>
                    <a:lnTo>
                      <a:pt x="206" y="285"/>
                    </a:lnTo>
                    <a:lnTo>
                      <a:pt x="204" y="287"/>
                    </a:lnTo>
                    <a:lnTo>
                      <a:pt x="202" y="289"/>
                    </a:lnTo>
                    <a:lnTo>
                      <a:pt x="202" y="291"/>
                    </a:lnTo>
                    <a:lnTo>
                      <a:pt x="200" y="292"/>
                    </a:lnTo>
                    <a:lnTo>
                      <a:pt x="197" y="294"/>
                    </a:lnTo>
                    <a:lnTo>
                      <a:pt x="195" y="297"/>
                    </a:lnTo>
                    <a:lnTo>
                      <a:pt x="195" y="299"/>
                    </a:lnTo>
                    <a:lnTo>
                      <a:pt x="193" y="300"/>
                    </a:lnTo>
                    <a:lnTo>
                      <a:pt x="191" y="302"/>
                    </a:lnTo>
                    <a:lnTo>
                      <a:pt x="191" y="304"/>
                    </a:lnTo>
                    <a:lnTo>
                      <a:pt x="189" y="306"/>
                    </a:lnTo>
                    <a:lnTo>
                      <a:pt x="187" y="308"/>
                    </a:lnTo>
                    <a:lnTo>
                      <a:pt x="185" y="309"/>
                    </a:lnTo>
                    <a:lnTo>
                      <a:pt x="185" y="311"/>
                    </a:lnTo>
                    <a:lnTo>
                      <a:pt x="183" y="312"/>
                    </a:lnTo>
                    <a:lnTo>
                      <a:pt x="181" y="314"/>
                    </a:lnTo>
                    <a:lnTo>
                      <a:pt x="181" y="315"/>
                    </a:lnTo>
                    <a:lnTo>
                      <a:pt x="179" y="318"/>
                    </a:lnTo>
                    <a:lnTo>
                      <a:pt x="177" y="319"/>
                    </a:lnTo>
                    <a:lnTo>
                      <a:pt x="175" y="321"/>
                    </a:lnTo>
                    <a:lnTo>
                      <a:pt x="175" y="322"/>
                    </a:lnTo>
                    <a:lnTo>
                      <a:pt x="173" y="323"/>
                    </a:lnTo>
                    <a:lnTo>
                      <a:pt x="171" y="324"/>
                    </a:lnTo>
                    <a:lnTo>
                      <a:pt x="169" y="326"/>
                    </a:lnTo>
                    <a:lnTo>
                      <a:pt x="169" y="327"/>
                    </a:lnTo>
                    <a:lnTo>
                      <a:pt x="167" y="329"/>
                    </a:lnTo>
                    <a:lnTo>
                      <a:pt x="165" y="330"/>
                    </a:lnTo>
                    <a:lnTo>
                      <a:pt x="165" y="332"/>
                    </a:lnTo>
                    <a:lnTo>
                      <a:pt x="163" y="333"/>
                    </a:lnTo>
                    <a:lnTo>
                      <a:pt x="160" y="334"/>
                    </a:lnTo>
                    <a:lnTo>
                      <a:pt x="158" y="335"/>
                    </a:lnTo>
                    <a:lnTo>
                      <a:pt x="158" y="336"/>
                    </a:lnTo>
                    <a:lnTo>
                      <a:pt x="156" y="337"/>
                    </a:lnTo>
                    <a:lnTo>
                      <a:pt x="154" y="339"/>
                    </a:lnTo>
                    <a:lnTo>
                      <a:pt x="154" y="340"/>
                    </a:lnTo>
                    <a:lnTo>
                      <a:pt x="152" y="341"/>
                    </a:lnTo>
                    <a:lnTo>
                      <a:pt x="150" y="342"/>
                    </a:lnTo>
                    <a:lnTo>
                      <a:pt x="148" y="343"/>
                    </a:lnTo>
                    <a:lnTo>
                      <a:pt x="148" y="344"/>
                    </a:lnTo>
                    <a:lnTo>
                      <a:pt x="146" y="345"/>
                    </a:lnTo>
                    <a:lnTo>
                      <a:pt x="144" y="346"/>
                    </a:lnTo>
                    <a:lnTo>
                      <a:pt x="144" y="347"/>
                    </a:lnTo>
                    <a:lnTo>
                      <a:pt x="142" y="347"/>
                    </a:lnTo>
                    <a:lnTo>
                      <a:pt x="140" y="348"/>
                    </a:lnTo>
                    <a:lnTo>
                      <a:pt x="138" y="350"/>
                    </a:lnTo>
                    <a:lnTo>
                      <a:pt x="138" y="351"/>
                    </a:lnTo>
                    <a:lnTo>
                      <a:pt x="136" y="352"/>
                    </a:lnTo>
                    <a:lnTo>
                      <a:pt x="134" y="352"/>
                    </a:lnTo>
                    <a:lnTo>
                      <a:pt x="132" y="353"/>
                    </a:lnTo>
                    <a:lnTo>
                      <a:pt x="132" y="354"/>
                    </a:lnTo>
                    <a:lnTo>
                      <a:pt x="130" y="355"/>
                    </a:lnTo>
                    <a:lnTo>
                      <a:pt x="128" y="355"/>
                    </a:lnTo>
                    <a:lnTo>
                      <a:pt x="128" y="356"/>
                    </a:lnTo>
                    <a:lnTo>
                      <a:pt x="126" y="356"/>
                    </a:lnTo>
                    <a:lnTo>
                      <a:pt x="123" y="357"/>
                    </a:lnTo>
                    <a:lnTo>
                      <a:pt x="121" y="358"/>
                    </a:lnTo>
                    <a:lnTo>
                      <a:pt x="119" y="360"/>
                    </a:lnTo>
                    <a:lnTo>
                      <a:pt x="117" y="360"/>
                    </a:lnTo>
                    <a:lnTo>
                      <a:pt x="117" y="361"/>
                    </a:lnTo>
                    <a:lnTo>
                      <a:pt x="115" y="362"/>
                    </a:lnTo>
                    <a:lnTo>
                      <a:pt x="113" y="362"/>
                    </a:lnTo>
                    <a:lnTo>
                      <a:pt x="111" y="363"/>
                    </a:lnTo>
                    <a:lnTo>
                      <a:pt x="109" y="364"/>
                    </a:lnTo>
                    <a:lnTo>
                      <a:pt x="107" y="364"/>
                    </a:lnTo>
                    <a:lnTo>
                      <a:pt x="105" y="364"/>
                    </a:lnTo>
                    <a:lnTo>
                      <a:pt x="105" y="365"/>
                    </a:lnTo>
                    <a:lnTo>
                      <a:pt x="103" y="365"/>
                    </a:lnTo>
                    <a:lnTo>
                      <a:pt x="101" y="366"/>
                    </a:lnTo>
                    <a:lnTo>
                      <a:pt x="99" y="367"/>
                    </a:lnTo>
                    <a:lnTo>
                      <a:pt x="97" y="367"/>
                    </a:lnTo>
                    <a:lnTo>
                      <a:pt x="95" y="367"/>
                    </a:lnTo>
                    <a:lnTo>
                      <a:pt x="95" y="368"/>
                    </a:lnTo>
                    <a:lnTo>
                      <a:pt x="93" y="368"/>
                    </a:lnTo>
                    <a:lnTo>
                      <a:pt x="91" y="368"/>
                    </a:lnTo>
                    <a:lnTo>
                      <a:pt x="91" y="369"/>
                    </a:lnTo>
                    <a:lnTo>
                      <a:pt x="89" y="369"/>
                    </a:lnTo>
                    <a:lnTo>
                      <a:pt x="86" y="369"/>
                    </a:lnTo>
                    <a:lnTo>
                      <a:pt x="84" y="371"/>
                    </a:lnTo>
                    <a:lnTo>
                      <a:pt x="82" y="371"/>
                    </a:lnTo>
                    <a:lnTo>
                      <a:pt x="80" y="371"/>
                    </a:lnTo>
                    <a:lnTo>
                      <a:pt x="78" y="372"/>
                    </a:lnTo>
                    <a:lnTo>
                      <a:pt x="76" y="372"/>
                    </a:lnTo>
                    <a:lnTo>
                      <a:pt x="74" y="372"/>
                    </a:lnTo>
                    <a:lnTo>
                      <a:pt x="74" y="373"/>
                    </a:lnTo>
                    <a:lnTo>
                      <a:pt x="72" y="373"/>
                    </a:lnTo>
                    <a:lnTo>
                      <a:pt x="70" y="373"/>
                    </a:lnTo>
                    <a:lnTo>
                      <a:pt x="68" y="373"/>
                    </a:lnTo>
                    <a:lnTo>
                      <a:pt x="66" y="373"/>
                    </a:lnTo>
                    <a:lnTo>
                      <a:pt x="64" y="374"/>
                    </a:lnTo>
                    <a:lnTo>
                      <a:pt x="62" y="374"/>
                    </a:lnTo>
                    <a:lnTo>
                      <a:pt x="60" y="374"/>
                    </a:lnTo>
                    <a:lnTo>
                      <a:pt x="58" y="374"/>
                    </a:lnTo>
                    <a:lnTo>
                      <a:pt x="56" y="374"/>
                    </a:lnTo>
                    <a:lnTo>
                      <a:pt x="54" y="375"/>
                    </a:lnTo>
                    <a:lnTo>
                      <a:pt x="52" y="375"/>
                    </a:lnTo>
                    <a:lnTo>
                      <a:pt x="49" y="375"/>
                    </a:lnTo>
                    <a:lnTo>
                      <a:pt x="47" y="375"/>
                    </a:lnTo>
                    <a:lnTo>
                      <a:pt x="45" y="375"/>
                    </a:lnTo>
                    <a:lnTo>
                      <a:pt x="43" y="375"/>
                    </a:lnTo>
                    <a:lnTo>
                      <a:pt x="42" y="375"/>
                    </a:lnTo>
                    <a:lnTo>
                      <a:pt x="40" y="375"/>
                    </a:lnTo>
                    <a:lnTo>
                      <a:pt x="37" y="375"/>
                    </a:lnTo>
                    <a:lnTo>
                      <a:pt x="37" y="376"/>
                    </a:lnTo>
                    <a:lnTo>
                      <a:pt x="35" y="376"/>
                    </a:lnTo>
                    <a:lnTo>
                      <a:pt x="33" y="376"/>
                    </a:lnTo>
                    <a:lnTo>
                      <a:pt x="31" y="376"/>
                    </a:lnTo>
                    <a:lnTo>
                      <a:pt x="29" y="376"/>
                    </a:lnTo>
                    <a:lnTo>
                      <a:pt x="27" y="376"/>
                    </a:lnTo>
                    <a:lnTo>
                      <a:pt x="25" y="376"/>
                    </a:lnTo>
                    <a:lnTo>
                      <a:pt x="23" y="376"/>
                    </a:lnTo>
                    <a:lnTo>
                      <a:pt x="21" y="376"/>
                    </a:lnTo>
                    <a:lnTo>
                      <a:pt x="19" y="376"/>
                    </a:lnTo>
                    <a:lnTo>
                      <a:pt x="17" y="376"/>
                    </a:lnTo>
                    <a:lnTo>
                      <a:pt x="15" y="376"/>
                    </a:lnTo>
                    <a:lnTo>
                      <a:pt x="13" y="376"/>
                    </a:lnTo>
                    <a:lnTo>
                      <a:pt x="11" y="376"/>
                    </a:lnTo>
                    <a:lnTo>
                      <a:pt x="9" y="376"/>
                    </a:lnTo>
                    <a:lnTo>
                      <a:pt x="7" y="376"/>
                    </a:lnTo>
                    <a:lnTo>
                      <a:pt x="5" y="376"/>
                    </a:lnTo>
                    <a:lnTo>
                      <a:pt x="3" y="376"/>
                    </a:lnTo>
                    <a:lnTo>
                      <a:pt x="0" y="376"/>
                    </a:lnTo>
                  </a:path>
                </a:pathLst>
              </a:custGeom>
              <a:noFill/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6612840" y="3421080"/>
              <a:ext cx="424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31040" y="3409920"/>
              <a:ext cx="500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59720" y="2238480"/>
              <a:ext cx="822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i="1" lang="hr-HR" sz="2400" spc="-1" strike="noStrike" baseline="-25000">
                  <a:solidFill>
                    <a:srgbClr val="ffff00"/>
                  </a:solidFill>
                  <a:latin typeface="Times New Roman"/>
                </a:rPr>
                <a:t>g</a:t>
              </a: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</a:rPr>
                <a:t>&lt;</a:t>
              </a: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97800" y="3378240"/>
              <a:ext cx="0" cy="9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25600" y="3378240"/>
              <a:ext cx="0" cy="9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629560" y="3521160"/>
              <a:ext cx="34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98480" y="347508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85760" y="4278240"/>
            <a:ext cx="8939880" cy="2316240"/>
            <a:chOff x="185760" y="4278240"/>
            <a:chExt cx="8939880" cy="2316240"/>
          </a:xfrm>
        </p:grpSpPr>
        <p:grpSp>
          <p:nvGrpSpPr>
            <p:cNvPr id="237" name=""/>
            <p:cNvGrpSpPr/>
            <p:nvPr/>
          </p:nvGrpSpPr>
          <p:grpSpPr>
            <a:xfrm>
              <a:off x="185760" y="4278240"/>
              <a:ext cx="8939880" cy="1843200"/>
              <a:chOff x="185760" y="4278240"/>
              <a:chExt cx="8939880" cy="1843200"/>
            </a:xfrm>
          </p:grpSpPr>
          <p:sp>
            <p:nvSpPr>
              <p:cNvPr id="238" name=""/>
              <p:cNvSpPr/>
              <p:nvPr/>
            </p:nvSpPr>
            <p:spPr>
              <a:xfrm>
                <a:off x="8783640" y="5735520"/>
                <a:ext cx="342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434880" y="5073480"/>
                <a:ext cx="8238600" cy="608040"/>
                <a:chOff x="434880" y="5073480"/>
                <a:chExt cx="8238600" cy="60804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056280" y="5073480"/>
                  <a:ext cx="1547280" cy="608040"/>
                  <a:chOff x="6056280" y="5073480"/>
                  <a:chExt cx="1547280" cy="6080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6491520" y="5073480"/>
                    <a:ext cx="1112040" cy="60804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383">
                        <a:moveTo>
                          <a:pt x="0" y="382"/>
                        </a:moveTo>
                        <a:lnTo>
                          <a:pt x="2" y="382"/>
                        </a:lnTo>
                        <a:lnTo>
                          <a:pt x="5" y="382"/>
                        </a:lnTo>
                        <a:lnTo>
                          <a:pt x="8" y="382"/>
                        </a:lnTo>
                        <a:lnTo>
                          <a:pt x="11" y="382"/>
                        </a:lnTo>
                        <a:lnTo>
                          <a:pt x="13" y="382"/>
                        </a:lnTo>
                        <a:lnTo>
                          <a:pt x="16" y="382"/>
                        </a:lnTo>
                        <a:lnTo>
                          <a:pt x="19" y="382"/>
                        </a:lnTo>
                        <a:lnTo>
                          <a:pt x="22" y="382"/>
                        </a:lnTo>
                        <a:lnTo>
                          <a:pt x="24" y="382"/>
                        </a:lnTo>
                        <a:lnTo>
                          <a:pt x="27" y="382"/>
                        </a:lnTo>
                        <a:lnTo>
                          <a:pt x="30" y="382"/>
                        </a:lnTo>
                        <a:lnTo>
                          <a:pt x="33" y="382"/>
                        </a:lnTo>
                        <a:lnTo>
                          <a:pt x="35" y="382"/>
                        </a:lnTo>
                        <a:lnTo>
                          <a:pt x="38" y="380"/>
                        </a:lnTo>
                        <a:lnTo>
                          <a:pt x="41" y="380"/>
                        </a:lnTo>
                        <a:lnTo>
                          <a:pt x="44" y="380"/>
                        </a:lnTo>
                        <a:lnTo>
                          <a:pt x="46" y="380"/>
                        </a:lnTo>
                        <a:lnTo>
                          <a:pt x="49" y="380"/>
                        </a:lnTo>
                        <a:lnTo>
                          <a:pt x="52" y="380"/>
                        </a:lnTo>
                        <a:lnTo>
                          <a:pt x="55" y="380"/>
                        </a:lnTo>
                        <a:lnTo>
                          <a:pt x="55" y="379"/>
                        </a:lnTo>
                        <a:lnTo>
                          <a:pt x="57" y="379"/>
                        </a:lnTo>
                        <a:lnTo>
                          <a:pt x="60" y="379"/>
                        </a:lnTo>
                        <a:lnTo>
                          <a:pt x="63" y="379"/>
                        </a:lnTo>
                        <a:lnTo>
                          <a:pt x="66" y="379"/>
                        </a:lnTo>
                        <a:lnTo>
                          <a:pt x="66" y="378"/>
                        </a:lnTo>
                        <a:lnTo>
                          <a:pt x="68" y="378"/>
                        </a:lnTo>
                        <a:lnTo>
                          <a:pt x="71" y="378"/>
                        </a:lnTo>
                        <a:lnTo>
                          <a:pt x="74" y="378"/>
                        </a:lnTo>
                        <a:lnTo>
                          <a:pt x="74" y="377"/>
                        </a:lnTo>
                        <a:lnTo>
                          <a:pt x="77" y="377"/>
                        </a:lnTo>
                        <a:lnTo>
                          <a:pt x="79" y="377"/>
                        </a:lnTo>
                        <a:lnTo>
                          <a:pt x="82" y="376"/>
                        </a:lnTo>
                        <a:lnTo>
                          <a:pt x="85" y="376"/>
                        </a:lnTo>
                        <a:lnTo>
                          <a:pt x="88" y="375"/>
                        </a:lnTo>
                        <a:lnTo>
                          <a:pt x="90" y="375"/>
                        </a:lnTo>
                        <a:lnTo>
                          <a:pt x="90" y="374"/>
                        </a:lnTo>
                        <a:lnTo>
                          <a:pt x="93" y="374"/>
                        </a:lnTo>
                        <a:lnTo>
                          <a:pt x="96" y="373"/>
                        </a:lnTo>
                        <a:lnTo>
                          <a:pt x="99" y="373"/>
                        </a:lnTo>
                        <a:lnTo>
                          <a:pt x="101" y="371"/>
                        </a:lnTo>
                        <a:lnTo>
                          <a:pt x="104" y="370"/>
                        </a:lnTo>
                        <a:lnTo>
                          <a:pt x="107" y="369"/>
                        </a:lnTo>
                        <a:lnTo>
                          <a:pt x="110" y="369"/>
                        </a:lnTo>
                        <a:lnTo>
                          <a:pt x="110" y="368"/>
                        </a:lnTo>
                        <a:lnTo>
                          <a:pt x="112" y="368"/>
                        </a:lnTo>
                        <a:lnTo>
                          <a:pt x="112" y="367"/>
                        </a:lnTo>
                        <a:lnTo>
                          <a:pt x="115" y="367"/>
                        </a:lnTo>
                        <a:lnTo>
                          <a:pt x="118" y="366"/>
                        </a:lnTo>
                        <a:lnTo>
                          <a:pt x="118" y="365"/>
                        </a:lnTo>
                        <a:lnTo>
                          <a:pt x="121" y="365"/>
                        </a:lnTo>
                        <a:lnTo>
                          <a:pt x="121" y="364"/>
                        </a:lnTo>
                        <a:lnTo>
                          <a:pt x="123" y="364"/>
                        </a:lnTo>
                        <a:lnTo>
                          <a:pt x="123" y="362"/>
                        </a:lnTo>
                        <a:lnTo>
                          <a:pt x="126" y="361"/>
                        </a:lnTo>
                        <a:lnTo>
                          <a:pt x="129" y="360"/>
                        </a:lnTo>
                        <a:lnTo>
                          <a:pt x="132" y="359"/>
                        </a:lnTo>
                        <a:lnTo>
                          <a:pt x="134" y="358"/>
                        </a:lnTo>
                        <a:lnTo>
                          <a:pt x="134" y="357"/>
                        </a:lnTo>
                        <a:lnTo>
                          <a:pt x="137" y="357"/>
                        </a:lnTo>
                        <a:lnTo>
                          <a:pt x="137" y="356"/>
                        </a:lnTo>
                        <a:lnTo>
                          <a:pt x="140" y="355"/>
                        </a:lnTo>
                        <a:lnTo>
                          <a:pt x="140" y="353"/>
                        </a:lnTo>
                        <a:lnTo>
                          <a:pt x="143" y="352"/>
                        </a:lnTo>
                        <a:lnTo>
                          <a:pt x="145" y="351"/>
                        </a:lnTo>
                        <a:lnTo>
                          <a:pt x="145" y="350"/>
                        </a:lnTo>
                        <a:lnTo>
                          <a:pt x="148" y="349"/>
                        </a:lnTo>
                        <a:lnTo>
                          <a:pt x="148" y="348"/>
                        </a:lnTo>
                        <a:lnTo>
                          <a:pt x="150" y="347"/>
                        </a:lnTo>
                        <a:lnTo>
                          <a:pt x="153" y="346"/>
                        </a:lnTo>
                        <a:lnTo>
                          <a:pt x="153" y="344"/>
                        </a:lnTo>
                        <a:lnTo>
                          <a:pt x="156" y="343"/>
                        </a:lnTo>
                        <a:lnTo>
                          <a:pt x="156" y="342"/>
                        </a:lnTo>
                        <a:lnTo>
                          <a:pt x="159" y="341"/>
                        </a:lnTo>
                        <a:lnTo>
                          <a:pt x="159" y="340"/>
                        </a:lnTo>
                        <a:lnTo>
                          <a:pt x="161" y="339"/>
                        </a:lnTo>
                        <a:lnTo>
                          <a:pt x="161" y="338"/>
                        </a:lnTo>
                        <a:lnTo>
                          <a:pt x="164" y="337"/>
                        </a:lnTo>
                        <a:lnTo>
                          <a:pt x="164" y="334"/>
                        </a:lnTo>
                        <a:lnTo>
                          <a:pt x="167" y="333"/>
                        </a:lnTo>
                        <a:lnTo>
                          <a:pt x="167" y="332"/>
                        </a:lnTo>
                        <a:lnTo>
                          <a:pt x="170" y="331"/>
                        </a:lnTo>
                        <a:lnTo>
                          <a:pt x="172" y="329"/>
                        </a:lnTo>
                        <a:lnTo>
                          <a:pt x="172" y="328"/>
                        </a:lnTo>
                        <a:lnTo>
                          <a:pt x="175" y="326"/>
                        </a:lnTo>
                        <a:lnTo>
                          <a:pt x="175" y="325"/>
                        </a:lnTo>
                        <a:lnTo>
                          <a:pt x="178" y="323"/>
                        </a:lnTo>
                        <a:lnTo>
                          <a:pt x="178" y="322"/>
                        </a:lnTo>
                        <a:lnTo>
                          <a:pt x="181" y="320"/>
                        </a:lnTo>
                        <a:lnTo>
                          <a:pt x="181" y="319"/>
                        </a:lnTo>
                        <a:lnTo>
                          <a:pt x="183" y="317"/>
                        </a:lnTo>
                        <a:lnTo>
                          <a:pt x="183" y="315"/>
                        </a:lnTo>
                        <a:lnTo>
                          <a:pt x="186" y="313"/>
                        </a:lnTo>
                        <a:lnTo>
                          <a:pt x="189" y="312"/>
                        </a:lnTo>
                        <a:lnTo>
                          <a:pt x="189" y="310"/>
                        </a:lnTo>
                        <a:lnTo>
                          <a:pt x="192" y="309"/>
                        </a:lnTo>
                        <a:lnTo>
                          <a:pt x="192" y="306"/>
                        </a:lnTo>
                        <a:lnTo>
                          <a:pt x="194" y="304"/>
                        </a:lnTo>
                        <a:lnTo>
                          <a:pt x="194" y="303"/>
                        </a:lnTo>
                        <a:lnTo>
                          <a:pt x="197" y="301"/>
                        </a:lnTo>
                        <a:lnTo>
                          <a:pt x="197" y="299"/>
                        </a:lnTo>
                        <a:lnTo>
                          <a:pt x="200" y="296"/>
                        </a:lnTo>
                        <a:lnTo>
                          <a:pt x="200" y="295"/>
                        </a:lnTo>
                        <a:lnTo>
                          <a:pt x="203" y="293"/>
                        </a:lnTo>
                        <a:lnTo>
                          <a:pt x="203" y="291"/>
                        </a:lnTo>
                        <a:lnTo>
                          <a:pt x="205" y="288"/>
                        </a:lnTo>
                        <a:lnTo>
                          <a:pt x="208" y="286"/>
                        </a:lnTo>
                        <a:lnTo>
                          <a:pt x="208" y="284"/>
                        </a:lnTo>
                        <a:lnTo>
                          <a:pt x="211" y="282"/>
                        </a:lnTo>
                        <a:lnTo>
                          <a:pt x="211" y="279"/>
                        </a:lnTo>
                        <a:lnTo>
                          <a:pt x="214" y="277"/>
                        </a:lnTo>
                        <a:lnTo>
                          <a:pt x="214" y="275"/>
                        </a:lnTo>
                        <a:lnTo>
                          <a:pt x="216" y="273"/>
                        </a:lnTo>
                        <a:lnTo>
                          <a:pt x="216" y="271"/>
                        </a:lnTo>
                        <a:lnTo>
                          <a:pt x="219" y="268"/>
                        </a:lnTo>
                        <a:lnTo>
                          <a:pt x="219" y="266"/>
                        </a:lnTo>
                        <a:lnTo>
                          <a:pt x="222" y="264"/>
                        </a:lnTo>
                        <a:lnTo>
                          <a:pt x="225" y="260"/>
                        </a:lnTo>
                        <a:lnTo>
                          <a:pt x="225" y="258"/>
                        </a:lnTo>
                        <a:lnTo>
                          <a:pt x="227" y="256"/>
                        </a:lnTo>
                        <a:lnTo>
                          <a:pt x="227" y="254"/>
                        </a:lnTo>
                        <a:lnTo>
                          <a:pt x="230" y="250"/>
                        </a:lnTo>
                        <a:lnTo>
                          <a:pt x="230" y="248"/>
                        </a:lnTo>
                        <a:lnTo>
                          <a:pt x="233" y="246"/>
                        </a:lnTo>
                        <a:lnTo>
                          <a:pt x="233" y="242"/>
                        </a:lnTo>
                        <a:lnTo>
                          <a:pt x="236" y="240"/>
                        </a:lnTo>
                        <a:lnTo>
                          <a:pt x="236" y="237"/>
                        </a:lnTo>
                        <a:lnTo>
                          <a:pt x="238" y="235"/>
                        </a:lnTo>
                        <a:lnTo>
                          <a:pt x="238" y="233"/>
                        </a:lnTo>
                        <a:lnTo>
                          <a:pt x="241" y="229"/>
                        </a:lnTo>
                        <a:lnTo>
                          <a:pt x="244" y="227"/>
                        </a:lnTo>
                        <a:lnTo>
                          <a:pt x="244" y="224"/>
                        </a:lnTo>
                        <a:lnTo>
                          <a:pt x="247" y="220"/>
                        </a:lnTo>
                        <a:lnTo>
                          <a:pt x="247" y="218"/>
                        </a:lnTo>
                        <a:lnTo>
                          <a:pt x="249" y="215"/>
                        </a:lnTo>
                        <a:lnTo>
                          <a:pt x="249" y="212"/>
                        </a:lnTo>
                        <a:lnTo>
                          <a:pt x="252" y="209"/>
                        </a:lnTo>
                        <a:lnTo>
                          <a:pt x="252" y="207"/>
                        </a:lnTo>
                        <a:lnTo>
                          <a:pt x="255" y="203"/>
                        </a:lnTo>
                        <a:lnTo>
                          <a:pt x="255" y="200"/>
                        </a:lnTo>
                        <a:lnTo>
                          <a:pt x="258" y="198"/>
                        </a:lnTo>
                        <a:lnTo>
                          <a:pt x="260" y="194"/>
                        </a:lnTo>
                        <a:lnTo>
                          <a:pt x="260" y="191"/>
                        </a:lnTo>
                        <a:lnTo>
                          <a:pt x="263" y="189"/>
                        </a:lnTo>
                        <a:lnTo>
                          <a:pt x="263" y="185"/>
                        </a:lnTo>
                        <a:lnTo>
                          <a:pt x="266" y="182"/>
                        </a:lnTo>
                        <a:lnTo>
                          <a:pt x="266" y="180"/>
                        </a:lnTo>
                        <a:lnTo>
                          <a:pt x="269" y="176"/>
                        </a:lnTo>
                        <a:lnTo>
                          <a:pt x="269" y="173"/>
                        </a:lnTo>
                        <a:lnTo>
                          <a:pt x="271" y="171"/>
                        </a:lnTo>
                        <a:lnTo>
                          <a:pt x="271" y="167"/>
                        </a:lnTo>
                        <a:lnTo>
                          <a:pt x="274" y="164"/>
                        </a:lnTo>
                        <a:lnTo>
                          <a:pt x="274" y="162"/>
                        </a:lnTo>
                        <a:lnTo>
                          <a:pt x="277" y="159"/>
                        </a:lnTo>
                        <a:lnTo>
                          <a:pt x="280" y="155"/>
                        </a:lnTo>
                        <a:lnTo>
                          <a:pt x="280" y="153"/>
                        </a:lnTo>
                        <a:lnTo>
                          <a:pt x="282" y="150"/>
                        </a:lnTo>
                        <a:lnTo>
                          <a:pt x="282" y="147"/>
                        </a:lnTo>
                        <a:lnTo>
                          <a:pt x="285" y="144"/>
                        </a:lnTo>
                        <a:lnTo>
                          <a:pt x="285" y="141"/>
                        </a:lnTo>
                        <a:lnTo>
                          <a:pt x="288" y="138"/>
                        </a:lnTo>
                        <a:lnTo>
                          <a:pt x="288" y="135"/>
                        </a:lnTo>
                        <a:lnTo>
                          <a:pt x="291" y="133"/>
                        </a:lnTo>
                        <a:lnTo>
                          <a:pt x="291" y="129"/>
                        </a:lnTo>
                        <a:lnTo>
                          <a:pt x="293" y="127"/>
                        </a:lnTo>
                        <a:lnTo>
                          <a:pt x="296" y="124"/>
                        </a:lnTo>
                        <a:lnTo>
                          <a:pt x="296" y="122"/>
                        </a:lnTo>
                        <a:lnTo>
                          <a:pt x="299" y="119"/>
                        </a:lnTo>
                        <a:lnTo>
                          <a:pt x="299" y="116"/>
                        </a:lnTo>
                        <a:lnTo>
                          <a:pt x="302" y="114"/>
                        </a:lnTo>
                        <a:lnTo>
                          <a:pt x="302" y="110"/>
                        </a:lnTo>
                        <a:lnTo>
                          <a:pt x="304" y="108"/>
                        </a:lnTo>
                        <a:lnTo>
                          <a:pt x="304" y="106"/>
                        </a:lnTo>
                        <a:lnTo>
                          <a:pt x="307" y="104"/>
                        </a:lnTo>
                        <a:lnTo>
                          <a:pt x="307" y="100"/>
                        </a:lnTo>
                        <a:lnTo>
                          <a:pt x="310" y="98"/>
                        </a:lnTo>
                        <a:lnTo>
                          <a:pt x="310" y="96"/>
                        </a:lnTo>
                        <a:lnTo>
                          <a:pt x="313" y="93"/>
                        </a:lnTo>
                        <a:lnTo>
                          <a:pt x="315" y="91"/>
                        </a:lnTo>
                        <a:lnTo>
                          <a:pt x="315" y="89"/>
                        </a:lnTo>
                        <a:lnTo>
                          <a:pt x="318" y="87"/>
                        </a:lnTo>
                        <a:lnTo>
                          <a:pt x="318" y="84"/>
                        </a:lnTo>
                        <a:lnTo>
                          <a:pt x="321" y="82"/>
                        </a:lnTo>
                        <a:lnTo>
                          <a:pt x="321" y="80"/>
                        </a:lnTo>
                        <a:lnTo>
                          <a:pt x="324" y="78"/>
                        </a:lnTo>
                        <a:lnTo>
                          <a:pt x="324" y="76"/>
                        </a:lnTo>
                        <a:lnTo>
                          <a:pt x="326" y="73"/>
                        </a:lnTo>
                        <a:lnTo>
                          <a:pt x="326" y="71"/>
                        </a:lnTo>
                        <a:lnTo>
                          <a:pt x="329" y="70"/>
                        </a:lnTo>
                        <a:lnTo>
                          <a:pt x="329" y="68"/>
                        </a:lnTo>
                        <a:lnTo>
                          <a:pt x="332" y="66"/>
                        </a:lnTo>
                        <a:lnTo>
                          <a:pt x="335" y="63"/>
                        </a:lnTo>
                        <a:lnTo>
                          <a:pt x="335" y="62"/>
                        </a:lnTo>
                        <a:lnTo>
                          <a:pt x="337" y="60"/>
                        </a:lnTo>
                        <a:lnTo>
                          <a:pt x="337" y="59"/>
                        </a:lnTo>
                        <a:lnTo>
                          <a:pt x="340" y="57"/>
                        </a:lnTo>
                        <a:lnTo>
                          <a:pt x="340" y="55"/>
                        </a:lnTo>
                        <a:lnTo>
                          <a:pt x="343" y="53"/>
                        </a:lnTo>
                        <a:lnTo>
                          <a:pt x="343" y="52"/>
                        </a:lnTo>
                        <a:lnTo>
                          <a:pt x="346" y="50"/>
                        </a:lnTo>
                        <a:lnTo>
                          <a:pt x="346" y="49"/>
                        </a:lnTo>
                        <a:lnTo>
                          <a:pt x="348" y="48"/>
                        </a:lnTo>
                        <a:lnTo>
                          <a:pt x="351" y="46"/>
                        </a:lnTo>
                        <a:lnTo>
                          <a:pt x="351" y="44"/>
                        </a:lnTo>
                        <a:lnTo>
                          <a:pt x="354" y="43"/>
                        </a:lnTo>
                        <a:lnTo>
                          <a:pt x="354" y="42"/>
                        </a:lnTo>
                        <a:lnTo>
                          <a:pt x="357" y="41"/>
                        </a:lnTo>
                        <a:lnTo>
                          <a:pt x="357" y="40"/>
                        </a:lnTo>
                        <a:lnTo>
                          <a:pt x="359" y="37"/>
                        </a:lnTo>
                        <a:lnTo>
                          <a:pt x="359" y="36"/>
                        </a:lnTo>
                        <a:lnTo>
                          <a:pt x="362" y="35"/>
                        </a:lnTo>
                        <a:lnTo>
                          <a:pt x="362" y="34"/>
                        </a:lnTo>
                        <a:lnTo>
                          <a:pt x="365" y="33"/>
                        </a:lnTo>
                        <a:lnTo>
                          <a:pt x="365" y="32"/>
                        </a:lnTo>
                        <a:lnTo>
                          <a:pt x="368" y="31"/>
                        </a:lnTo>
                        <a:lnTo>
                          <a:pt x="370" y="31"/>
                        </a:lnTo>
                        <a:lnTo>
                          <a:pt x="370" y="30"/>
                        </a:lnTo>
                        <a:lnTo>
                          <a:pt x="373" y="29"/>
                        </a:lnTo>
                        <a:lnTo>
                          <a:pt x="373" y="27"/>
                        </a:lnTo>
                        <a:lnTo>
                          <a:pt x="376" y="26"/>
                        </a:lnTo>
                        <a:lnTo>
                          <a:pt x="376" y="25"/>
                        </a:lnTo>
                        <a:lnTo>
                          <a:pt x="379" y="25"/>
                        </a:lnTo>
                        <a:lnTo>
                          <a:pt x="379" y="24"/>
                        </a:lnTo>
                        <a:lnTo>
                          <a:pt x="381" y="23"/>
                        </a:lnTo>
                        <a:lnTo>
                          <a:pt x="381" y="22"/>
                        </a:lnTo>
                        <a:lnTo>
                          <a:pt x="384" y="22"/>
                        </a:lnTo>
                        <a:lnTo>
                          <a:pt x="387" y="21"/>
                        </a:lnTo>
                        <a:lnTo>
                          <a:pt x="387" y="20"/>
                        </a:lnTo>
                        <a:lnTo>
                          <a:pt x="390" y="20"/>
                        </a:lnTo>
                        <a:lnTo>
                          <a:pt x="390" y="18"/>
                        </a:lnTo>
                        <a:lnTo>
                          <a:pt x="392" y="18"/>
                        </a:lnTo>
                        <a:lnTo>
                          <a:pt x="392" y="17"/>
                        </a:lnTo>
                        <a:lnTo>
                          <a:pt x="395" y="17"/>
                        </a:lnTo>
                        <a:lnTo>
                          <a:pt x="395" y="16"/>
                        </a:lnTo>
                        <a:lnTo>
                          <a:pt x="398" y="16"/>
                        </a:lnTo>
                        <a:lnTo>
                          <a:pt x="398" y="15"/>
                        </a:lnTo>
                        <a:lnTo>
                          <a:pt x="400" y="15"/>
                        </a:lnTo>
                        <a:lnTo>
                          <a:pt x="400" y="14"/>
                        </a:lnTo>
                        <a:lnTo>
                          <a:pt x="403" y="14"/>
                        </a:lnTo>
                        <a:lnTo>
                          <a:pt x="406" y="13"/>
                        </a:lnTo>
                        <a:lnTo>
                          <a:pt x="409" y="12"/>
                        </a:lnTo>
                        <a:lnTo>
                          <a:pt x="411" y="12"/>
                        </a:lnTo>
                        <a:lnTo>
                          <a:pt x="411" y="11"/>
                        </a:lnTo>
                        <a:lnTo>
                          <a:pt x="414" y="11"/>
                        </a:lnTo>
                        <a:lnTo>
                          <a:pt x="417" y="9"/>
                        </a:lnTo>
                        <a:lnTo>
                          <a:pt x="420" y="9"/>
                        </a:lnTo>
                        <a:lnTo>
                          <a:pt x="422" y="8"/>
                        </a:lnTo>
                        <a:lnTo>
                          <a:pt x="425" y="8"/>
                        </a:lnTo>
                        <a:lnTo>
                          <a:pt x="425" y="7"/>
                        </a:lnTo>
                        <a:lnTo>
                          <a:pt x="428" y="7"/>
                        </a:lnTo>
                        <a:lnTo>
                          <a:pt x="431" y="7"/>
                        </a:lnTo>
                        <a:lnTo>
                          <a:pt x="431" y="6"/>
                        </a:lnTo>
                        <a:lnTo>
                          <a:pt x="433" y="6"/>
                        </a:lnTo>
                        <a:lnTo>
                          <a:pt x="436" y="6"/>
                        </a:lnTo>
                        <a:lnTo>
                          <a:pt x="439" y="5"/>
                        </a:lnTo>
                        <a:lnTo>
                          <a:pt x="442" y="5"/>
                        </a:lnTo>
                        <a:lnTo>
                          <a:pt x="444" y="5"/>
                        </a:lnTo>
                        <a:lnTo>
                          <a:pt x="447" y="4"/>
                        </a:lnTo>
                        <a:lnTo>
                          <a:pt x="450" y="4"/>
                        </a:lnTo>
                        <a:lnTo>
                          <a:pt x="453" y="4"/>
                        </a:lnTo>
                        <a:lnTo>
                          <a:pt x="455" y="4"/>
                        </a:lnTo>
                        <a:lnTo>
                          <a:pt x="455" y="3"/>
                        </a:lnTo>
                        <a:lnTo>
                          <a:pt x="458" y="3"/>
                        </a:lnTo>
                        <a:lnTo>
                          <a:pt x="461" y="3"/>
                        </a:lnTo>
                        <a:lnTo>
                          <a:pt x="464" y="3"/>
                        </a:lnTo>
                        <a:lnTo>
                          <a:pt x="466" y="3"/>
                        </a:lnTo>
                        <a:lnTo>
                          <a:pt x="469" y="2"/>
                        </a:lnTo>
                        <a:lnTo>
                          <a:pt x="472" y="2"/>
                        </a:lnTo>
                        <a:lnTo>
                          <a:pt x="475" y="2"/>
                        </a:lnTo>
                        <a:lnTo>
                          <a:pt x="477" y="2"/>
                        </a:lnTo>
                        <a:lnTo>
                          <a:pt x="480" y="2"/>
                        </a:lnTo>
                        <a:lnTo>
                          <a:pt x="483" y="2"/>
                        </a:lnTo>
                        <a:lnTo>
                          <a:pt x="486" y="2"/>
                        </a:lnTo>
                        <a:lnTo>
                          <a:pt x="488" y="1"/>
                        </a:lnTo>
                        <a:lnTo>
                          <a:pt x="491" y="1"/>
                        </a:lnTo>
                        <a:lnTo>
                          <a:pt x="494" y="1"/>
                        </a:lnTo>
                        <a:lnTo>
                          <a:pt x="497" y="1"/>
                        </a:lnTo>
                        <a:lnTo>
                          <a:pt x="499" y="1"/>
                        </a:lnTo>
                        <a:lnTo>
                          <a:pt x="502" y="1"/>
                        </a:lnTo>
                        <a:lnTo>
                          <a:pt x="505" y="1"/>
                        </a:lnTo>
                        <a:lnTo>
                          <a:pt x="508" y="1"/>
                        </a:lnTo>
                        <a:lnTo>
                          <a:pt x="510" y="1"/>
                        </a:lnTo>
                        <a:lnTo>
                          <a:pt x="513" y="1"/>
                        </a:lnTo>
                        <a:lnTo>
                          <a:pt x="516" y="1"/>
                        </a:lnTo>
                        <a:lnTo>
                          <a:pt x="519" y="1"/>
                        </a:lnTo>
                        <a:lnTo>
                          <a:pt x="521" y="1"/>
                        </a:lnTo>
                        <a:lnTo>
                          <a:pt x="524" y="1"/>
                        </a:lnTo>
                        <a:lnTo>
                          <a:pt x="527" y="0"/>
                        </a:lnTo>
                        <a:lnTo>
                          <a:pt x="530" y="0"/>
                        </a:lnTo>
                        <a:lnTo>
                          <a:pt x="532" y="0"/>
                        </a:lnTo>
                        <a:lnTo>
                          <a:pt x="535" y="0"/>
                        </a:lnTo>
                        <a:lnTo>
                          <a:pt x="538" y="0"/>
                        </a:lnTo>
                        <a:lnTo>
                          <a:pt x="541" y="0"/>
                        </a:lnTo>
                        <a:lnTo>
                          <a:pt x="543" y="0"/>
                        </a:lnTo>
                        <a:lnTo>
                          <a:pt x="546" y="0"/>
                        </a:lnTo>
                        <a:lnTo>
                          <a:pt x="549" y="0"/>
                        </a:lnTo>
                        <a:lnTo>
                          <a:pt x="552" y="0"/>
                        </a:lnTo>
                        <a:lnTo>
                          <a:pt x="554" y="0"/>
                        </a:lnTo>
                        <a:lnTo>
                          <a:pt x="557" y="0"/>
                        </a:lnTo>
                        <a:lnTo>
                          <a:pt x="560" y="0"/>
                        </a:lnTo>
                        <a:lnTo>
                          <a:pt x="563" y="0"/>
                        </a:lnTo>
                        <a:lnTo>
                          <a:pt x="565" y="0"/>
                        </a:lnTo>
                        <a:lnTo>
                          <a:pt x="568" y="0"/>
                        </a:lnTo>
                        <a:lnTo>
                          <a:pt x="571" y="0"/>
                        </a:lnTo>
                        <a:lnTo>
                          <a:pt x="574" y="0"/>
                        </a:lnTo>
                        <a:lnTo>
                          <a:pt x="576" y="0"/>
                        </a:lnTo>
                        <a:lnTo>
                          <a:pt x="579" y="0"/>
                        </a:lnTo>
                        <a:lnTo>
                          <a:pt x="582" y="0"/>
                        </a:lnTo>
                        <a:lnTo>
                          <a:pt x="585" y="0"/>
                        </a:lnTo>
                        <a:lnTo>
                          <a:pt x="587" y="0"/>
                        </a:lnTo>
                        <a:lnTo>
                          <a:pt x="590" y="0"/>
                        </a:lnTo>
                        <a:lnTo>
                          <a:pt x="593" y="0"/>
                        </a:lnTo>
                        <a:lnTo>
                          <a:pt x="596" y="0"/>
                        </a:lnTo>
                        <a:lnTo>
                          <a:pt x="598" y="0"/>
                        </a:lnTo>
                        <a:lnTo>
                          <a:pt x="601" y="0"/>
                        </a:lnTo>
                        <a:lnTo>
                          <a:pt x="604" y="0"/>
                        </a:lnTo>
                        <a:lnTo>
                          <a:pt x="607" y="0"/>
                        </a:lnTo>
                        <a:lnTo>
                          <a:pt x="609" y="0"/>
                        </a:lnTo>
                        <a:lnTo>
                          <a:pt x="612" y="0"/>
                        </a:lnTo>
                        <a:lnTo>
                          <a:pt x="615" y="0"/>
                        </a:lnTo>
                        <a:lnTo>
                          <a:pt x="618" y="0"/>
                        </a:lnTo>
                        <a:lnTo>
                          <a:pt x="620" y="0"/>
                        </a:lnTo>
                        <a:lnTo>
                          <a:pt x="623" y="0"/>
                        </a:lnTo>
                        <a:lnTo>
                          <a:pt x="626" y="0"/>
                        </a:lnTo>
                        <a:lnTo>
                          <a:pt x="629" y="0"/>
                        </a:lnTo>
                        <a:lnTo>
                          <a:pt x="631" y="0"/>
                        </a:lnTo>
                        <a:lnTo>
                          <a:pt x="634" y="0"/>
                        </a:lnTo>
                        <a:lnTo>
                          <a:pt x="637" y="0"/>
                        </a:lnTo>
                        <a:lnTo>
                          <a:pt x="640" y="0"/>
                        </a:lnTo>
                        <a:lnTo>
                          <a:pt x="642" y="0"/>
                        </a:lnTo>
                        <a:lnTo>
                          <a:pt x="645" y="0"/>
                        </a:lnTo>
                        <a:lnTo>
                          <a:pt x="648" y="0"/>
                        </a:lnTo>
                        <a:lnTo>
                          <a:pt x="651" y="0"/>
                        </a:lnTo>
                        <a:lnTo>
                          <a:pt x="653" y="0"/>
                        </a:lnTo>
                        <a:lnTo>
                          <a:pt x="656" y="0"/>
                        </a:lnTo>
                        <a:lnTo>
                          <a:pt x="658" y="0"/>
                        </a:lnTo>
                        <a:lnTo>
                          <a:pt x="661" y="0"/>
                        </a:lnTo>
                        <a:lnTo>
                          <a:pt x="664" y="0"/>
                        </a:lnTo>
                        <a:lnTo>
                          <a:pt x="667" y="0"/>
                        </a:lnTo>
                        <a:lnTo>
                          <a:pt x="669" y="0"/>
                        </a:lnTo>
                        <a:lnTo>
                          <a:pt x="672" y="0"/>
                        </a:lnTo>
                        <a:lnTo>
                          <a:pt x="675" y="0"/>
                        </a:lnTo>
                        <a:lnTo>
                          <a:pt x="678" y="0"/>
                        </a:lnTo>
                        <a:lnTo>
                          <a:pt x="680" y="0"/>
                        </a:lnTo>
                        <a:lnTo>
                          <a:pt x="683" y="0"/>
                        </a:lnTo>
                        <a:lnTo>
                          <a:pt x="686" y="0"/>
                        </a:lnTo>
                        <a:lnTo>
                          <a:pt x="689" y="0"/>
                        </a:lnTo>
                        <a:lnTo>
                          <a:pt x="691" y="0"/>
                        </a:lnTo>
                        <a:lnTo>
                          <a:pt x="694" y="0"/>
                        </a:lnTo>
                        <a:lnTo>
                          <a:pt x="697" y="0"/>
                        </a:lnTo>
                        <a:lnTo>
                          <a:pt x="700" y="0"/>
                        </a:lnTo>
                        <a:lnTo>
                          <a:pt x="702" y="0"/>
                        </a:lnTo>
                        <a:lnTo>
                          <a:pt x="705" y="0"/>
                        </a:lnTo>
                        <a:lnTo>
                          <a:pt x="708" y="0"/>
                        </a:lnTo>
                        <a:lnTo>
                          <a:pt x="711" y="0"/>
                        </a:lnTo>
                        <a:lnTo>
                          <a:pt x="713" y="0"/>
                        </a:lnTo>
                        <a:lnTo>
                          <a:pt x="716" y="0"/>
                        </a:lnTo>
                        <a:lnTo>
                          <a:pt x="719" y="0"/>
                        </a:lnTo>
                        <a:lnTo>
                          <a:pt x="722" y="0"/>
                        </a:lnTo>
                        <a:lnTo>
                          <a:pt x="724" y="0"/>
                        </a:lnTo>
                        <a:lnTo>
                          <a:pt x="727" y="0"/>
                        </a:lnTo>
                        <a:lnTo>
                          <a:pt x="730" y="0"/>
                        </a:lnTo>
                        <a:lnTo>
                          <a:pt x="733" y="0"/>
                        </a:lnTo>
                        <a:lnTo>
                          <a:pt x="735" y="0"/>
                        </a:lnTo>
                        <a:lnTo>
                          <a:pt x="738" y="0"/>
                        </a:lnTo>
                        <a:lnTo>
                          <a:pt x="741" y="0"/>
                        </a:lnTo>
                        <a:lnTo>
                          <a:pt x="744" y="0"/>
                        </a:lnTo>
                        <a:lnTo>
                          <a:pt x="746" y="0"/>
                        </a:lnTo>
                        <a:lnTo>
                          <a:pt x="749" y="0"/>
                        </a:lnTo>
                        <a:lnTo>
                          <a:pt x="752" y="0"/>
                        </a:lnTo>
                        <a:lnTo>
                          <a:pt x="755" y="0"/>
                        </a:lnTo>
                        <a:lnTo>
                          <a:pt x="75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6056280" y="5073480"/>
                    <a:ext cx="1112040" cy="60804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383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2" y="0"/>
                        </a:ln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38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46" y="0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60" y="0"/>
                        </a:lnTo>
                        <a:lnTo>
                          <a:pt x="63" y="0"/>
                        </a:lnTo>
                        <a:lnTo>
                          <a:pt x="66" y="0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9" y="0"/>
                        </a:lnTo>
                        <a:lnTo>
                          <a:pt x="82" y="0"/>
                        </a:lnTo>
                        <a:lnTo>
                          <a:pt x="85" y="0"/>
                        </a:lnTo>
                        <a:lnTo>
                          <a:pt x="88" y="0"/>
                        </a:lnTo>
                        <a:lnTo>
                          <a:pt x="90" y="0"/>
                        </a:lnTo>
                        <a:lnTo>
                          <a:pt x="93" y="0"/>
                        </a:lnTo>
                        <a:lnTo>
                          <a:pt x="96" y="0"/>
                        </a:lnTo>
                        <a:lnTo>
                          <a:pt x="99" y="0"/>
                        </a:lnTo>
                        <a:lnTo>
                          <a:pt x="101" y="0"/>
                        </a:lnTo>
                        <a:lnTo>
                          <a:pt x="104" y="0"/>
                        </a:lnTo>
                        <a:lnTo>
                          <a:pt x="107" y="0"/>
                        </a:lnTo>
                        <a:lnTo>
                          <a:pt x="110" y="0"/>
                        </a:lnTo>
                        <a:lnTo>
                          <a:pt x="112" y="0"/>
                        </a:lnTo>
                        <a:lnTo>
                          <a:pt x="115" y="0"/>
                        </a:lnTo>
                        <a:lnTo>
                          <a:pt x="118" y="0"/>
                        </a:lnTo>
                        <a:lnTo>
                          <a:pt x="121" y="0"/>
                        </a:lnTo>
                        <a:lnTo>
                          <a:pt x="123" y="0"/>
                        </a:lnTo>
                        <a:lnTo>
                          <a:pt x="126" y="0"/>
                        </a:lnTo>
                        <a:lnTo>
                          <a:pt x="129" y="0"/>
                        </a:lnTo>
                        <a:lnTo>
                          <a:pt x="132" y="0"/>
                        </a:lnTo>
                        <a:lnTo>
                          <a:pt x="134" y="0"/>
                        </a:lnTo>
                        <a:lnTo>
                          <a:pt x="137" y="0"/>
                        </a:lnTo>
                        <a:lnTo>
                          <a:pt x="140" y="0"/>
                        </a:lnTo>
                        <a:lnTo>
                          <a:pt x="143" y="0"/>
                        </a:lnTo>
                        <a:lnTo>
                          <a:pt x="145" y="0"/>
                        </a:lnTo>
                        <a:lnTo>
                          <a:pt x="148" y="0"/>
                        </a:lnTo>
                        <a:lnTo>
                          <a:pt x="151" y="0"/>
                        </a:lnTo>
                        <a:lnTo>
                          <a:pt x="154" y="0"/>
                        </a:lnTo>
                        <a:lnTo>
                          <a:pt x="156" y="0"/>
                        </a:lnTo>
                        <a:lnTo>
                          <a:pt x="159" y="0"/>
                        </a:lnTo>
                        <a:lnTo>
                          <a:pt x="162" y="0"/>
                        </a:lnTo>
                        <a:lnTo>
                          <a:pt x="165" y="0"/>
                        </a:lnTo>
                        <a:lnTo>
                          <a:pt x="167" y="0"/>
                        </a:lnTo>
                        <a:lnTo>
                          <a:pt x="170" y="0"/>
                        </a:lnTo>
                        <a:lnTo>
                          <a:pt x="173" y="0"/>
                        </a:lnTo>
                        <a:lnTo>
                          <a:pt x="176" y="0"/>
                        </a:lnTo>
                        <a:lnTo>
                          <a:pt x="178" y="0"/>
                        </a:lnTo>
                        <a:lnTo>
                          <a:pt x="181" y="0"/>
                        </a:lnTo>
                        <a:lnTo>
                          <a:pt x="184" y="0"/>
                        </a:lnTo>
                        <a:lnTo>
                          <a:pt x="186" y="0"/>
                        </a:lnTo>
                        <a:lnTo>
                          <a:pt x="189" y="0"/>
                        </a:lnTo>
                        <a:lnTo>
                          <a:pt x="192" y="0"/>
                        </a:lnTo>
                        <a:lnTo>
                          <a:pt x="194" y="0"/>
                        </a:lnTo>
                        <a:lnTo>
                          <a:pt x="197" y="0"/>
                        </a:lnTo>
                        <a:lnTo>
                          <a:pt x="200" y="0"/>
                        </a:lnTo>
                        <a:lnTo>
                          <a:pt x="203" y="0"/>
                        </a:lnTo>
                        <a:lnTo>
                          <a:pt x="205" y="0"/>
                        </a:lnTo>
                        <a:lnTo>
                          <a:pt x="208" y="0"/>
                        </a:lnTo>
                        <a:lnTo>
                          <a:pt x="211" y="0"/>
                        </a:lnTo>
                        <a:lnTo>
                          <a:pt x="214" y="0"/>
                        </a:lnTo>
                        <a:lnTo>
                          <a:pt x="216" y="0"/>
                        </a:lnTo>
                        <a:lnTo>
                          <a:pt x="219" y="0"/>
                        </a:lnTo>
                        <a:lnTo>
                          <a:pt x="222" y="0"/>
                        </a:lnTo>
                        <a:lnTo>
                          <a:pt x="225" y="0"/>
                        </a:lnTo>
                        <a:lnTo>
                          <a:pt x="227" y="0"/>
                        </a:lnTo>
                        <a:lnTo>
                          <a:pt x="230" y="0"/>
                        </a:lnTo>
                        <a:lnTo>
                          <a:pt x="233" y="1"/>
                        </a:lnTo>
                        <a:lnTo>
                          <a:pt x="236" y="1"/>
                        </a:lnTo>
                        <a:lnTo>
                          <a:pt x="238" y="1"/>
                        </a:lnTo>
                        <a:lnTo>
                          <a:pt x="241" y="1"/>
                        </a:lnTo>
                        <a:lnTo>
                          <a:pt x="244" y="1"/>
                        </a:lnTo>
                        <a:lnTo>
                          <a:pt x="247" y="1"/>
                        </a:lnTo>
                        <a:lnTo>
                          <a:pt x="249" y="1"/>
                        </a:lnTo>
                        <a:lnTo>
                          <a:pt x="252" y="1"/>
                        </a:lnTo>
                        <a:lnTo>
                          <a:pt x="255" y="1"/>
                        </a:lnTo>
                        <a:lnTo>
                          <a:pt x="258" y="1"/>
                        </a:lnTo>
                        <a:lnTo>
                          <a:pt x="260" y="1"/>
                        </a:lnTo>
                        <a:lnTo>
                          <a:pt x="263" y="1"/>
                        </a:lnTo>
                        <a:lnTo>
                          <a:pt x="266" y="1"/>
                        </a:lnTo>
                        <a:lnTo>
                          <a:pt x="269" y="1"/>
                        </a:lnTo>
                        <a:lnTo>
                          <a:pt x="271" y="2"/>
                        </a:lnTo>
                        <a:lnTo>
                          <a:pt x="274" y="2"/>
                        </a:lnTo>
                        <a:lnTo>
                          <a:pt x="277" y="2"/>
                        </a:lnTo>
                        <a:lnTo>
                          <a:pt x="280" y="2"/>
                        </a:lnTo>
                        <a:lnTo>
                          <a:pt x="282" y="2"/>
                        </a:lnTo>
                        <a:lnTo>
                          <a:pt x="285" y="2"/>
                        </a:lnTo>
                        <a:lnTo>
                          <a:pt x="288" y="2"/>
                        </a:lnTo>
                        <a:lnTo>
                          <a:pt x="291" y="3"/>
                        </a:lnTo>
                        <a:lnTo>
                          <a:pt x="293" y="3"/>
                        </a:lnTo>
                        <a:lnTo>
                          <a:pt x="296" y="3"/>
                        </a:lnTo>
                        <a:lnTo>
                          <a:pt x="299" y="3"/>
                        </a:lnTo>
                        <a:lnTo>
                          <a:pt x="302" y="4"/>
                        </a:lnTo>
                        <a:lnTo>
                          <a:pt x="304" y="4"/>
                        </a:lnTo>
                        <a:lnTo>
                          <a:pt x="307" y="4"/>
                        </a:lnTo>
                        <a:lnTo>
                          <a:pt x="310" y="4"/>
                        </a:lnTo>
                        <a:lnTo>
                          <a:pt x="313" y="5"/>
                        </a:lnTo>
                        <a:lnTo>
                          <a:pt x="315" y="5"/>
                        </a:lnTo>
                        <a:lnTo>
                          <a:pt x="318" y="5"/>
                        </a:lnTo>
                        <a:lnTo>
                          <a:pt x="318" y="6"/>
                        </a:lnTo>
                        <a:lnTo>
                          <a:pt x="321" y="6"/>
                        </a:lnTo>
                        <a:lnTo>
                          <a:pt x="324" y="6"/>
                        </a:lnTo>
                        <a:lnTo>
                          <a:pt x="326" y="6"/>
                        </a:lnTo>
                        <a:lnTo>
                          <a:pt x="326" y="7"/>
                        </a:lnTo>
                        <a:lnTo>
                          <a:pt x="329" y="7"/>
                        </a:lnTo>
                        <a:lnTo>
                          <a:pt x="332" y="7"/>
                        </a:lnTo>
                        <a:lnTo>
                          <a:pt x="332" y="8"/>
                        </a:lnTo>
                        <a:lnTo>
                          <a:pt x="335" y="8"/>
                        </a:lnTo>
                        <a:lnTo>
                          <a:pt x="337" y="9"/>
                        </a:lnTo>
                        <a:lnTo>
                          <a:pt x="340" y="9"/>
                        </a:lnTo>
                        <a:lnTo>
                          <a:pt x="343" y="11"/>
                        </a:lnTo>
                        <a:lnTo>
                          <a:pt x="346" y="11"/>
                        </a:lnTo>
                        <a:lnTo>
                          <a:pt x="346" y="12"/>
                        </a:lnTo>
                        <a:lnTo>
                          <a:pt x="348" y="12"/>
                        </a:lnTo>
                        <a:lnTo>
                          <a:pt x="351" y="13"/>
                        </a:lnTo>
                        <a:lnTo>
                          <a:pt x="354" y="14"/>
                        </a:lnTo>
                        <a:lnTo>
                          <a:pt x="357" y="15"/>
                        </a:lnTo>
                        <a:lnTo>
                          <a:pt x="359" y="15"/>
                        </a:lnTo>
                        <a:lnTo>
                          <a:pt x="359" y="16"/>
                        </a:lnTo>
                        <a:lnTo>
                          <a:pt x="362" y="16"/>
                        </a:lnTo>
                        <a:lnTo>
                          <a:pt x="362" y="17"/>
                        </a:lnTo>
                        <a:lnTo>
                          <a:pt x="365" y="17"/>
                        </a:lnTo>
                        <a:lnTo>
                          <a:pt x="365" y="18"/>
                        </a:lnTo>
                        <a:lnTo>
                          <a:pt x="368" y="18"/>
                        </a:lnTo>
                        <a:lnTo>
                          <a:pt x="368" y="20"/>
                        </a:lnTo>
                        <a:lnTo>
                          <a:pt x="370" y="20"/>
                        </a:lnTo>
                        <a:lnTo>
                          <a:pt x="370" y="21"/>
                        </a:lnTo>
                        <a:lnTo>
                          <a:pt x="373" y="22"/>
                        </a:lnTo>
                        <a:lnTo>
                          <a:pt x="376" y="23"/>
                        </a:lnTo>
                        <a:lnTo>
                          <a:pt x="379" y="24"/>
                        </a:lnTo>
                        <a:lnTo>
                          <a:pt x="379" y="25"/>
                        </a:lnTo>
                        <a:lnTo>
                          <a:pt x="381" y="25"/>
                        </a:lnTo>
                        <a:lnTo>
                          <a:pt x="381" y="26"/>
                        </a:lnTo>
                        <a:lnTo>
                          <a:pt x="384" y="27"/>
                        </a:lnTo>
                        <a:lnTo>
                          <a:pt x="384" y="29"/>
                        </a:lnTo>
                        <a:lnTo>
                          <a:pt x="387" y="30"/>
                        </a:lnTo>
                        <a:lnTo>
                          <a:pt x="387" y="31"/>
                        </a:lnTo>
                        <a:lnTo>
                          <a:pt x="390" y="31"/>
                        </a:lnTo>
                        <a:lnTo>
                          <a:pt x="390" y="32"/>
                        </a:lnTo>
                        <a:lnTo>
                          <a:pt x="392" y="33"/>
                        </a:lnTo>
                        <a:lnTo>
                          <a:pt x="395" y="34"/>
                        </a:lnTo>
                        <a:lnTo>
                          <a:pt x="395" y="35"/>
                        </a:lnTo>
                        <a:lnTo>
                          <a:pt x="398" y="36"/>
                        </a:lnTo>
                        <a:lnTo>
                          <a:pt x="398" y="37"/>
                        </a:lnTo>
                        <a:lnTo>
                          <a:pt x="401" y="40"/>
                        </a:lnTo>
                        <a:lnTo>
                          <a:pt x="401" y="41"/>
                        </a:lnTo>
                        <a:lnTo>
                          <a:pt x="403" y="42"/>
                        </a:lnTo>
                        <a:lnTo>
                          <a:pt x="403" y="43"/>
                        </a:lnTo>
                        <a:lnTo>
                          <a:pt x="406" y="44"/>
                        </a:lnTo>
                        <a:lnTo>
                          <a:pt x="406" y="46"/>
                        </a:lnTo>
                        <a:lnTo>
                          <a:pt x="409" y="48"/>
                        </a:lnTo>
                        <a:lnTo>
                          <a:pt x="409" y="49"/>
                        </a:lnTo>
                        <a:lnTo>
                          <a:pt x="412" y="50"/>
                        </a:lnTo>
                        <a:lnTo>
                          <a:pt x="414" y="52"/>
                        </a:lnTo>
                        <a:lnTo>
                          <a:pt x="414" y="53"/>
                        </a:lnTo>
                        <a:lnTo>
                          <a:pt x="417" y="55"/>
                        </a:lnTo>
                        <a:lnTo>
                          <a:pt x="417" y="57"/>
                        </a:lnTo>
                        <a:lnTo>
                          <a:pt x="420" y="59"/>
                        </a:lnTo>
                        <a:lnTo>
                          <a:pt x="420" y="60"/>
                        </a:lnTo>
                        <a:lnTo>
                          <a:pt x="423" y="62"/>
                        </a:lnTo>
                        <a:lnTo>
                          <a:pt x="423" y="63"/>
                        </a:lnTo>
                        <a:lnTo>
                          <a:pt x="426" y="66"/>
                        </a:lnTo>
                        <a:lnTo>
                          <a:pt x="426" y="68"/>
                        </a:lnTo>
                        <a:lnTo>
                          <a:pt x="428" y="70"/>
                        </a:lnTo>
                        <a:lnTo>
                          <a:pt x="431" y="71"/>
                        </a:lnTo>
                        <a:lnTo>
                          <a:pt x="431" y="73"/>
                        </a:lnTo>
                        <a:lnTo>
                          <a:pt x="434" y="76"/>
                        </a:lnTo>
                        <a:lnTo>
                          <a:pt x="434" y="78"/>
                        </a:lnTo>
                        <a:lnTo>
                          <a:pt x="437" y="80"/>
                        </a:lnTo>
                        <a:lnTo>
                          <a:pt x="437" y="82"/>
                        </a:lnTo>
                        <a:lnTo>
                          <a:pt x="439" y="84"/>
                        </a:lnTo>
                        <a:lnTo>
                          <a:pt x="439" y="87"/>
                        </a:lnTo>
                        <a:lnTo>
                          <a:pt x="442" y="89"/>
                        </a:lnTo>
                        <a:lnTo>
                          <a:pt x="442" y="91"/>
                        </a:lnTo>
                        <a:lnTo>
                          <a:pt x="444" y="93"/>
                        </a:lnTo>
                        <a:lnTo>
                          <a:pt x="444" y="96"/>
                        </a:lnTo>
                        <a:lnTo>
                          <a:pt x="447" y="98"/>
                        </a:lnTo>
                        <a:lnTo>
                          <a:pt x="450" y="100"/>
                        </a:lnTo>
                        <a:lnTo>
                          <a:pt x="450" y="104"/>
                        </a:lnTo>
                        <a:lnTo>
                          <a:pt x="453" y="106"/>
                        </a:lnTo>
                        <a:lnTo>
                          <a:pt x="453" y="108"/>
                        </a:lnTo>
                        <a:lnTo>
                          <a:pt x="455" y="110"/>
                        </a:lnTo>
                        <a:lnTo>
                          <a:pt x="455" y="114"/>
                        </a:lnTo>
                        <a:lnTo>
                          <a:pt x="458" y="116"/>
                        </a:lnTo>
                        <a:lnTo>
                          <a:pt x="458" y="119"/>
                        </a:lnTo>
                        <a:lnTo>
                          <a:pt x="461" y="122"/>
                        </a:lnTo>
                        <a:lnTo>
                          <a:pt x="461" y="124"/>
                        </a:lnTo>
                        <a:lnTo>
                          <a:pt x="464" y="127"/>
                        </a:lnTo>
                        <a:lnTo>
                          <a:pt x="464" y="129"/>
                        </a:lnTo>
                        <a:lnTo>
                          <a:pt x="466" y="133"/>
                        </a:lnTo>
                        <a:lnTo>
                          <a:pt x="469" y="135"/>
                        </a:lnTo>
                        <a:lnTo>
                          <a:pt x="469" y="138"/>
                        </a:lnTo>
                        <a:lnTo>
                          <a:pt x="472" y="141"/>
                        </a:lnTo>
                        <a:lnTo>
                          <a:pt x="472" y="144"/>
                        </a:lnTo>
                        <a:lnTo>
                          <a:pt x="475" y="147"/>
                        </a:lnTo>
                        <a:lnTo>
                          <a:pt x="475" y="150"/>
                        </a:lnTo>
                        <a:lnTo>
                          <a:pt x="477" y="153"/>
                        </a:lnTo>
                        <a:lnTo>
                          <a:pt x="477" y="155"/>
                        </a:lnTo>
                        <a:lnTo>
                          <a:pt x="480" y="159"/>
                        </a:lnTo>
                        <a:lnTo>
                          <a:pt x="480" y="162"/>
                        </a:lnTo>
                        <a:lnTo>
                          <a:pt x="483" y="164"/>
                        </a:lnTo>
                        <a:lnTo>
                          <a:pt x="486" y="167"/>
                        </a:lnTo>
                        <a:lnTo>
                          <a:pt x="486" y="171"/>
                        </a:lnTo>
                        <a:lnTo>
                          <a:pt x="488" y="173"/>
                        </a:lnTo>
                        <a:lnTo>
                          <a:pt x="488" y="176"/>
                        </a:lnTo>
                        <a:lnTo>
                          <a:pt x="491" y="180"/>
                        </a:lnTo>
                        <a:lnTo>
                          <a:pt x="491" y="182"/>
                        </a:lnTo>
                        <a:lnTo>
                          <a:pt x="494" y="185"/>
                        </a:lnTo>
                        <a:lnTo>
                          <a:pt x="494" y="189"/>
                        </a:lnTo>
                        <a:lnTo>
                          <a:pt x="497" y="191"/>
                        </a:lnTo>
                        <a:lnTo>
                          <a:pt x="497" y="194"/>
                        </a:lnTo>
                        <a:lnTo>
                          <a:pt x="499" y="198"/>
                        </a:lnTo>
                        <a:lnTo>
                          <a:pt x="499" y="200"/>
                        </a:lnTo>
                        <a:lnTo>
                          <a:pt x="502" y="203"/>
                        </a:lnTo>
                        <a:lnTo>
                          <a:pt x="505" y="207"/>
                        </a:lnTo>
                        <a:lnTo>
                          <a:pt x="505" y="209"/>
                        </a:lnTo>
                        <a:lnTo>
                          <a:pt x="508" y="212"/>
                        </a:lnTo>
                        <a:lnTo>
                          <a:pt x="508" y="215"/>
                        </a:lnTo>
                        <a:lnTo>
                          <a:pt x="510" y="218"/>
                        </a:lnTo>
                        <a:lnTo>
                          <a:pt x="510" y="220"/>
                        </a:lnTo>
                        <a:lnTo>
                          <a:pt x="513" y="224"/>
                        </a:lnTo>
                        <a:lnTo>
                          <a:pt x="513" y="227"/>
                        </a:lnTo>
                        <a:lnTo>
                          <a:pt x="516" y="229"/>
                        </a:lnTo>
                        <a:lnTo>
                          <a:pt x="516" y="233"/>
                        </a:lnTo>
                        <a:lnTo>
                          <a:pt x="519" y="235"/>
                        </a:lnTo>
                        <a:lnTo>
                          <a:pt x="521" y="237"/>
                        </a:lnTo>
                        <a:lnTo>
                          <a:pt x="521" y="240"/>
                        </a:lnTo>
                        <a:lnTo>
                          <a:pt x="524" y="242"/>
                        </a:lnTo>
                        <a:lnTo>
                          <a:pt x="524" y="246"/>
                        </a:lnTo>
                        <a:lnTo>
                          <a:pt x="527" y="248"/>
                        </a:lnTo>
                        <a:lnTo>
                          <a:pt x="527" y="250"/>
                        </a:lnTo>
                        <a:lnTo>
                          <a:pt x="530" y="254"/>
                        </a:lnTo>
                        <a:lnTo>
                          <a:pt x="530" y="256"/>
                        </a:lnTo>
                        <a:lnTo>
                          <a:pt x="532" y="258"/>
                        </a:lnTo>
                        <a:lnTo>
                          <a:pt x="532" y="260"/>
                        </a:lnTo>
                        <a:lnTo>
                          <a:pt x="535" y="264"/>
                        </a:lnTo>
                        <a:lnTo>
                          <a:pt x="535" y="266"/>
                        </a:lnTo>
                        <a:lnTo>
                          <a:pt x="538" y="268"/>
                        </a:lnTo>
                        <a:lnTo>
                          <a:pt x="541" y="271"/>
                        </a:lnTo>
                        <a:lnTo>
                          <a:pt x="541" y="273"/>
                        </a:lnTo>
                        <a:lnTo>
                          <a:pt x="543" y="275"/>
                        </a:lnTo>
                        <a:lnTo>
                          <a:pt x="543" y="277"/>
                        </a:lnTo>
                        <a:lnTo>
                          <a:pt x="546" y="279"/>
                        </a:lnTo>
                        <a:lnTo>
                          <a:pt x="546" y="282"/>
                        </a:lnTo>
                        <a:lnTo>
                          <a:pt x="549" y="284"/>
                        </a:lnTo>
                        <a:lnTo>
                          <a:pt x="549" y="286"/>
                        </a:lnTo>
                        <a:lnTo>
                          <a:pt x="552" y="288"/>
                        </a:lnTo>
                        <a:lnTo>
                          <a:pt x="552" y="291"/>
                        </a:lnTo>
                        <a:lnTo>
                          <a:pt x="554" y="293"/>
                        </a:lnTo>
                        <a:lnTo>
                          <a:pt x="557" y="295"/>
                        </a:lnTo>
                        <a:lnTo>
                          <a:pt x="557" y="296"/>
                        </a:lnTo>
                        <a:lnTo>
                          <a:pt x="560" y="299"/>
                        </a:lnTo>
                        <a:lnTo>
                          <a:pt x="560" y="301"/>
                        </a:lnTo>
                        <a:lnTo>
                          <a:pt x="563" y="303"/>
                        </a:lnTo>
                        <a:lnTo>
                          <a:pt x="563" y="304"/>
                        </a:lnTo>
                        <a:lnTo>
                          <a:pt x="565" y="306"/>
                        </a:lnTo>
                        <a:lnTo>
                          <a:pt x="565" y="309"/>
                        </a:lnTo>
                        <a:lnTo>
                          <a:pt x="568" y="310"/>
                        </a:lnTo>
                        <a:lnTo>
                          <a:pt x="568" y="312"/>
                        </a:lnTo>
                        <a:lnTo>
                          <a:pt x="571" y="313"/>
                        </a:lnTo>
                        <a:lnTo>
                          <a:pt x="571" y="315"/>
                        </a:lnTo>
                        <a:lnTo>
                          <a:pt x="574" y="317"/>
                        </a:lnTo>
                        <a:lnTo>
                          <a:pt x="576" y="319"/>
                        </a:lnTo>
                        <a:lnTo>
                          <a:pt x="576" y="320"/>
                        </a:lnTo>
                        <a:lnTo>
                          <a:pt x="579" y="322"/>
                        </a:lnTo>
                        <a:lnTo>
                          <a:pt x="579" y="323"/>
                        </a:lnTo>
                        <a:lnTo>
                          <a:pt x="582" y="325"/>
                        </a:lnTo>
                        <a:lnTo>
                          <a:pt x="582" y="326"/>
                        </a:lnTo>
                        <a:lnTo>
                          <a:pt x="585" y="328"/>
                        </a:lnTo>
                        <a:lnTo>
                          <a:pt x="585" y="329"/>
                        </a:lnTo>
                        <a:lnTo>
                          <a:pt x="587" y="331"/>
                        </a:lnTo>
                        <a:lnTo>
                          <a:pt x="587" y="332"/>
                        </a:lnTo>
                        <a:lnTo>
                          <a:pt x="590" y="333"/>
                        </a:lnTo>
                        <a:lnTo>
                          <a:pt x="593" y="334"/>
                        </a:lnTo>
                        <a:lnTo>
                          <a:pt x="593" y="337"/>
                        </a:lnTo>
                        <a:lnTo>
                          <a:pt x="596" y="338"/>
                        </a:lnTo>
                        <a:lnTo>
                          <a:pt x="596" y="339"/>
                        </a:lnTo>
                        <a:lnTo>
                          <a:pt x="598" y="340"/>
                        </a:lnTo>
                        <a:lnTo>
                          <a:pt x="598" y="341"/>
                        </a:lnTo>
                        <a:lnTo>
                          <a:pt x="601" y="342"/>
                        </a:lnTo>
                        <a:lnTo>
                          <a:pt x="601" y="343"/>
                        </a:lnTo>
                        <a:lnTo>
                          <a:pt x="604" y="344"/>
                        </a:lnTo>
                        <a:lnTo>
                          <a:pt x="604" y="346"/>
                        </a:lnTo>
                        <a:lnTo>
                          <a:pt x="607" y="347"/>
                        </a:lnTo>
                        <a:lnTo>
                          <a:pt x="607" y="348"/>
                        </a:lnTo>
                        <a:lnTo>
                          <a:pt x="609" y="349"/>
                        </a:lnTo>
                        <a:lnTo>
                          <a:pt x="612" y="350"/>
                        </a:lnTo>
                        <a:lnTo>
                          <a:pt x="612" y="351"/>
                        </a:lnTo>
                        <a:lnTo>
                          <a:pt x="615" y="352"/>
                        </a:lnTo>
                        <a:lnTo>
                          <a:pt x="618" y="353"/>
                        </a:lnTo>
                        <a:lnTo>
                          <a:pt x="618" y="355"/>
                        </a:lnTo>
                        <a:lnTo>
                          <a:pt x="620" y="356"/>
                        </a:lnTo>
                        <a:lnTo>
                          <a:pt x="620" y="357"/>
                        </a:lnTo>
                        <a:lnTo>
                          <a:pt x="623" y="357"/>
                        </a:lnTo>
                        <a:lnTo>
                          <a:pt x="623" y="358"/>
                        </a:lnTo>
                        <a:lnTo>
                          <a:pt x="626" y="359"/>
                        </a:lnTo>
                        <a:lnTo>
                          <a:pt x="626" y="360"/>
                        </a:lnTo>
                        <a:lnTo>
                          <a:pt x="629" y="360"/>
                        </a:lnTo>
                        <a:lnTo>
                          <a:pt x="631" y="361"/>
                        </a:lnTo>
                        <a:lnTo>
                          <a:pt x="634" y="362"/>
                        </a:lnTo>
                        <a:lnTo>
                          <a:pt x="634" y="364"/>
                        </a:lnTo>
                        <a:lnTo>
                          <a:pt x="637" y="364"/>
                        </a:lnTo>
                        <a:lnTo>
                          <a:pt x="637" y="365"/>
                        </a:lnTo>
                        <a:lnTo>
                          <a:pt x="640" y="365"/>
                        </a:lnTo>
                        <a:lnTo>
                          <a:pt x="640" y="366"/>
                        </a:lnTo>
                        <a:lnTo>
                          <a:pt x="642" y="367"/>
                        </a:lnTo>
                        <a:lnTo>
                          <a:pt x="645" y="368"/>
                        </a:lnTo>
                        <a:lnTo>
                          <a:pt x="648" y="368"/>
                        </a:lnTo>
                        <a:lnTo>
                          <a:pt x="648" y="369"/>
                        </a:lnTo>
                        <a:lnTo>
                          <a:pt x="651" y="369"/>
                        </a:lnTo>
                        <a:lnTo>
                          <a:pt x="653" y="370"/>
                        </a:lnTo>
                        <a:lnTo>
                          <a:pt x="656" y="371"/>
                        </a:lnTo>
                        <a:lnTo>
                          <a:pt x="659" y="373"/>
                        </a:lnTo>
                        <a:lnTo>
                          <a:pt x="662" y="373"/>
                        </a:lnTo>
                        <a:lnTo>
                          <a:pt x="662" y="374"/>
                        </a:lnTo>
                        <a:lnTo>
                          <a:pt x="664" y="374"/>
                        </a:lnTo>
                        <a:lnTo>
                          <a:pt x="667" y="374"/>
                        </a:lnTo>
                        <a:lnTo>
                          <a:pt x="667" y="375"/>
                        </a:lnTo>
                        <a:lnTo>
                          <a:pt x="670" y="375"/>
                        </a:lnTo>
                        <a:lnTo>
                          <a:pt x="673" y="376"/>
                        </a:lnTo>
                        <a:lnTo>
                          <a:pt x="675" y="376"/>
                        </a:lnTo>
                        <a:lnTo>
                          <a:pt x="678" y="377"/>
                        </a:lnTo>
                        <a:lnTo>
                          <a:pt x="681" y="377"/>
                        </a:lnTo>
                        <a:lnTo>
                          <a:pt x="684" y="377"/>
                        </a:lnTo>
                        <a:lnTo>
                          <a:pt x="684" y="378"/>
                        </a:lnTo>
                        <a:lnTo>
                          <a:pt x="686" y="378"/>
                        </a:lnTo>
                        <a:lnTo>
                          <a:pt x="689" y="378"/>
                        </a:lnTo>
                        <a:lnTo>
                          <a:pt x="692" y="378"/>
                        </a:lnTo>
                        <a:lnTo>
                          <a:pt x="692" y="379"/>
                        </a:lnTo>
                        <a:lnTo>
                          <a:pt x="695" y="379"/>
                        </a:lnTo>
                        <a:lnTo>
                          <a:pt x="697" y="379"/>
                        </a:lnTo>
                        <a:lnTo>
                          <a:pt x="700" y="379"/>
                        </a:lnTo>
                        <a:lnTo>
                          <a:pt x="702" y="379"/>
                        </a:lnTo>
                        <a:lnTo>
                          <a:pt x="702" y="380"/>
                        </a:lnTo>
                        <a:lnTo>
                          <a:pt x="705" y="380"/>
                        </a:lnTo>
                        <a:lnTo>
                          <a:pt x="708" y="380"/>
                        </a:lnTo>
                        <a:lnTo>
                          <a:pt x="711" y="380"/>
                        </a:lnTo>
                        <a:lnTo>
                          <a:pt x="713" y="380"/>
                        </a:lnTo>
                        <a:lnTo>
                          <a:pt x="716" y="380"/>
                        </a:lnTo>
                        <a:lnTo>
                          <a:pt x="719" y="380"/>
                        </a:lnTo>
                        <a:lnTo>
                          <a:pt x="722" y="382"/>
                        </a:lnTo>
                        <a:lnTo>
                          <a:pt x="724" y="382"/>
                        </a:lnTo>
                        <a:lnTo>
                          <a:pt x="727" y="382"/>
                        </a:lnTo>
                        <a:lnTo>
                          <a:pt x="730" y="382"/>
                        </a:lnTo>
                        <a:lnTo>
                          <a:pt x="733" y="382"/>
                        </a:lnTo>
                        <a:lnTo>
                          <a:pt x="735" y="382"/>
                        </a:lnTo>
                        <a:lnTo>
                          <a:pt x="738" y="382"/>
                        </a:lnTo>
                        <a:lnTo>
                          <a:pt x="741" y="382"/>
                        </a:lnTo>
                        <a:lnTo>
                          <a:pt x="744" y="382"/>
                        </a:lnTo>
                        <a:lnTo>
                          <a:pt x="746" y="382"/>
                        </a:lnTo>
                        <a:lnTo>
                          <a:pt x="749" y="382"/>
                        </a:lnTo>
                        <a:lnTo>
                          <a:pt x="752" y="382"/>
                        </a:lnTo>
                        <a:lnTo>
                          <a:pt x="755" y="382"/>
                        </a:lnTo>
                        <a:lnTo>
                          <a:pt x="758" y="3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4505760" y="5073480"/>
                  <a:ext cx="1547280" cy="608040"/>
                  <a:chOff x="4505760" y="5073480"/>
                  <a:chExt cx="1547280" cy="6080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941000" y="5073480"/>
                    <a:ext cx="1112040" cy="60804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383">
                        <a:moveTo>
                          <a:pt x="0" y="382"/>
                        </a:moveTo>
                        <a:lnTo>
                          <a:pt x="2" y="382"/>
                        </a:lnTo>
                        <a:lnTo>
                          <a:pt x="5" y="382"/>
                        </a:lnTo>
                        <a:lnTo>
                          <a:pt x="8" y="382"/>
                        </a:lnTo>
                        <a:lnTo>
                          <a:pt x="11" y="382"/>
                        </a:lnTo>
                        <a:lnTo>
                          <a:pt x="13" y="382"/>
                        </a:lnTo>
                        <a:lnTo>
                          <a:pt x="16" y="382"/>
                        </a:lnTo>
                        <a:lnTo>
                          <a:pt x="19" y="382"/>
                        </a:lnTo>
                        <a:lnTo>
                          <a:pt x="22" y="382"/>
                        </a:lnTo>
                        <a:lnTo>
                          <a:pt x="24" y="382"/>
                        </a:lnTo>
                        <a:lnTo>
                          <a:pt x="27" y="382"/>
                        </a:lnTo>
                        <a:lnTo>
                          <a:pt x="30" y="382"/>
                        </a:lnTo>
                        <a:lnTo>
                          <a:pt x="33" y="382"/>
                        </a:lnTo>
                        <a:lnTo>
                          <a:pt x="35" y="382"/>
                        </a:lnTo>
                        <a:lnTo>
                          <a:pt x="38" y="380"/>
                        </a:lnTo>
                        <a:lnTo>
                          <a:pt x="41" y="380"/>
                        </a:lnTo>
                        <a:lnTo>
                          <a:pt x="44" y="380"/>
                        </a:lnTo>
                        <a:lnTo>
                          <a:pt x="46" y="380"/>
                        </a:lnTo>
                        <a:lnTo>
                          <a:pt x="49" y="380"/>
                        </a:lnTo>
                        <a:lnTo>
                          <a:pt x="52" y="380"/>
                        </a:lnTo>
                        <a:lnTo>
                          <a:pt x="55" y="380"/>
                        </a:lnTo>
                        <a:lnTo>
                          <a:pt x="55" y="379"/>
                        </a:lnTo>
                        <a:lnTo>
                          <a:pt x="57" y="379"/>
                        </a:lnTo>
                        <a:lnTo>
                          <a:pt x="60" y="379"/>
                        </a:lnTo>
                        <a:lnTo>
                          <a:pt x="63" y="379"/>
                        </a:lnTo>
                        <a:lnTo>
                          <a:pt x="66" y="379"/>
                        </a:lnTo>
                        <a:lnTo>
                          <a:pt x="66" y="378"/>
                        </a:lnTo>
                        <a:lnTo>
                          <a:pt x="68" y="378"/>
                        </a:lnTo>
                        <a:lnTo>
                          <a:pt x="71" y="378"/>
                        </a:lnTo>
                        <a:lnTo>
                          <a:pt x="74" y="378"/>
                        </a:lnTo>
                        <a:lnTo>
                          <a:pt x="74" y="377"/>
                        </a:lnTo>
                        <a:lnTo>
                          <a:pt x="77" y="377"/>
                        </a:lnTo>
                        <a:lnTo>
                          <a:pt x="79" y="377"/>
                        </a:lnTo>
                        <a:lnTo>
                          <a:pt x="82" y="376"/>
                        </a:lnTo>
                        <a:lnTo>
                          <a:pt x="85" y="376"/>
                        </a:lnTo>
                        <a:lnTo>
                          <a:pt x="88" y="375"/>
                        </a:lnTo>
                        <a:lnTo>
                          <a:pt x="90" y="375"/>
                        </a:lnTo>
                        <a:lnTo>
                          <a:pt x="90" y="374"/>
                        </a:lnTo>
                        <a:lnTo>
                          <a:pt x="93" y="374"/>
                        </a:lnTo>
                        <a:lnTo>
                          <a:pt x="96" y="373"/>
                        </a:lnTo>
                        <a:lnTo>
                          <a:pt x="99" y="373"/>
                        </a:lnTo>
                        <a:lnTo>
                          <a:pt x="101" y="371"/>
                        </a:lnTo>
                        <a:lnTo>
                          <a:pt x="104" y="370"/>
                        </a:lnTo>
                        <a:lnTo>
                          <a:pt x="107" y="369"/>
                        </a:lnTo>
                        <a:lnTo>
                          <a:pt x="110" y="369"/>
                        </a:lnTo>
                        <a:lnTo>
                          <a:pt x="110" y="368"/>
                        </a:lnTo>
                        <a:lnTo>
                          <a:pt x="112" y="368"/>
                        </a:lnTo>
                        <a:lnTo>
                          <a:pt x="112" y="367"/>
                        </a:lnTo>
                        <a:lnTo>
                          <a:pt x="115" y="367"/>
                        </a:lnTo>
                        <a:lnTo>
                          <a:pt x="118" y="366"/>
                        </a:lnTo>
                        <a:lnTo>
                          <a:pt x="118" y="365"/>
                        </a:lnTo>
                        <a:lnTo>
                          <a:pt x="121" y="365"/>
                        </a:lnTo>
                        <a:lnTo>
                          <a:pt x="121" y="364"/>
                        </a:lnTo>
                        <a:lnTo>
                          <a:pt x="123" y="364"/>
                        </a:lnTo>
                        <a:lnTo>
                          <a:pt x="123" y="362"/>
                        </a:lnTo>
                        <a:lnTo>
                          <a:pt x="126" y="361"/>
                        </a:lnTo>
                        <a:lnTo>
                          <a:pt x="129" y="360"/>
                        </a:lnTo>
                        <a:lnTo>
                          <a:pt x="132" y="359"/>
                        </a:lnTo>
                        <a:lnTo>
                          <a:pt x="134" y="358"/>
                        </a:lnTo>
                        <a:lnTo>
                          <a:pt x="134" y="357"/>
                        </a:lnTo>
                        <a:lnTo>
                          <a:pt x="137" y="357"/>
                        </a:lnTo>
                        <a:lnTo>
                          <a:pt x="137" y="356"/>
                        </a:lnTo>
                        <a:lnTo>
                          <a:pt x="140" y="355"/>
                        </a:lnTo>
                        <a:lnTo>
                          <a:pt x="140" y="353"/>
                        </a:lnTo>
                        <a:lnTo>
                          <a:pt x="143" y="352"/>
                        </a:lnTo>
                        <a:lnTo>
                          <a:pt x="145" y="351"/>
                        </a:lnTo>
                        <a:lnTo>
                          <a:pt x="145" y="350"/>
                        </a:lnTo>
                        <a:lnTo>
                          <a:pt x="148" y="349"/>
                        </a:lnTo>
                        <a:lnTo>
                          <a:pt x="148" y="348"/>
                        </a:lnTo>
                        <a:lnTo>
                          <a:pt x="150" y="347"/>
                        </a:lnTo>
                        <a:lnTo>
                          <a:pt x="153" y="346"/>
                        </a:lnTo>
                        <a:lnTo>
                          <a:pt x="153" y="344"/>
                        </a:lnTo>
                        <a:lnTo>
                          <a:pt x="156" y="343"/>
                        </a:lnTo>
                        <a:lnTo>
                          <a:pt x="156" y="342"/>
                        </a:lnTo>
                        <a:lnTo>
                          <a:pt x="159" y="341"/>
                        </a:lnTo>
                        <a:lnTo>
                          <a:pt x="159" y="340"/>
                        </a:lnTo>
                        <a:lnTo>
                          <a:pt x="161" y="339"/>
                        </a:lnTo>
                        <a:lnTo>
                          <a:pt x="161" y="338"/>
                        </a:lnTo>
                        <a:lnTo>
                          <a:pt x="164" y="337"/>
                        </a:lnTo>
                        <a:lnTo>
                          <a:pt x="164" y="334"/>
                        </a:lnTo>
                        <a:lnTo>
                          <a:pt x="167" y="333"/>
                        </a:lnTo>
                        <a:lnTo>
                          <a:pt x="167" y="332"/>
                        </a:lnTo>
                        <a:lnTo>
                          <a:pt x="170" y="331"/>
                        </a:lnTo>
                        <a:lnTo>
                          <a:pt x="172" y="329"/>
                        </a:lnTo>
                        <a:lnTo>
                          <a:pt x="172" y="328"/>
                        </a:lnTo>
                        <a:lnTo>
                          <a:pt x="175" y="326"/>
                        </a:lnTo>
                        <a:lnTo>
                          <a:pt x="175" y="325"/>
                        </a:lnTo>
                        <a:lnTo>
                          <a:pt x="178" y="323"/>
                        </a:lnTo>
                        <a:lnTo>
                          <a:pt x="178" y="322"/>
                        </a:lnTo>
                        <a:lnTo>
                          <a:pt x="181" y="320"/>
                        </a:lnTo>
                        <a:lnTo>
                          <a:pt x="181" y="319"/>
                        </a:lnTo>
                        <a:lnTo>
                          <a:pt x="183" y="317"/>
                        </a:lnTo>
                        <a:lnTo>
                          <a:pt x="183" y="315"/>
                        </a:lnTo>
                        <a:lnTo>
                          <a:pt x="186" y="313"/>
                        </a:lnTo>
                        <a:lnTo>
                          <a:pt x="189" y="312"/>
                        </a:lnTo>
                        <a:lnTo>
                          <a:pt x="189" y="310"/>
                        </a:lnTo>
                        <a:lnTo>
                          <a:pt x="192" y="309"/>
                        </a:lnTo>
                        <a:lnTo>
                          <a:pt x="192" y="306"/>
                        </a:lnTo>
                        <a:lnTo>
                          <a:pt x="194" y="304"/>
                        </a:lnTo>
                        <a:lnTo>
                          <a:pt x="194" y="303"/>
                        </a:lnTo>
                        <a:lnTo>
                          <a:pt x="197" y="301"/>
                        </a:lnTo>
                        <a:lnTo>
                          <a:pt x="197" y="299"/>
                        </a:lnTo>
                        <a:lnTo>
                          <a:pt x="200" y="296"/>
                        </a:lnTo>
                        <a:lnTo>
                          <a:pt x="200" y="295"/>
                        </a:lnTo>
                        <a:lnTo>
                          <a:pt x="203" y="293"/>
                        </a:lnTo>
                        <a:lnTo>
                          <a:pt x="203" y="291"/>
                        </a:lnTo>
                        <a:lnTo>
                          <a:pt x="205" y="288"/>
                        </a:lnTo>
                        <a:lnTo>
                          <a:pt x="208" y="286"/>
                        </a:lnTo>
                        <a:lnTo>
                          <a:pt x="208" y="284"/>
                        </a:lnTo>
                        <a:lnTo>
                          <a:pt x="211" y="282"/>
                        </a:lnTo>
                        <a:lnTo>
                          <a:pt x="211" y="279"/>
                        </a:lnTo>
                        <a:lnTo>
                          <a:pt x="214" y="277"/>
                        </a:lnTo>
                        <a:lnTo>
                          <a:pt x="214" y="275"/>
                        </a:lnTo>
                        <a:lnTo>
                          <a:pt x="216" y="273"/>
                        </a:lnTo>
                        <a:lnTo>
                          <a:pt x="216" y="271"/>
                        </a:lnTo>
                        <a:lnTo>
                          <a:pt x="219" y="268"/>
                        </a:lnTo>
                        <a:lnTo>
                          <a:pt x="219" y="266"/>
                        </a:lnTo>
                        <a:lnTo>
                          <a:pt x="222" y="264"/>
                        </a:lnTo>
                        <a:lnTo>
                          <a:pt x="225" y="260"/>
                        </a:lnTo>
                        <a:lnTo>
                          <a:pt x="225" y="258"/>
                        </a:lnTo>
                        <a:lnTo>
                          <a:pt x="227" y="256"/>
                        </a:lnTo>
                        <a:lnTo>
                          <a:pt x="227" y="254"/>
                        </a:lnTo>
                        <a:lnTo>
                          <a:pt x="230" y="250"/>
                        </a:lnTo>
                        <a:lnTo>
                          <a:pt x="230" y="248"/>
                        </a:lnTo>
                        <a:lnTo>
                          <a:pt x="233" y="246"/>
                        </a:lnTo>
                        <a:lnTo>
                          <a:pt x="233" y="242"/>
                        </a:lnTo>
                        <a:lnTo>
                          <a:pt x="236" y="240"/>
                        </a:lnTo>
                        <a:lnTo>
                          <a:pt x="236" y="237"/>
                        </a:lnTo>
                        <a:lnTo>
                          <a:pt x="238" y="235"/>
                        </a:lnTo>
                        <a:lnTo>
                          <a:pt x="238" y="233"/>
                        </a:lnTo>
                        <a:lnTo>
                          <a:pt x="241" y="229"/>
                        </a:lnTo>
                        <a:lnTo>
                          <a:pt x="244" y="227"/>
                        </a:lnTo>
                        <a:lnTo>
                          <a:pt x="244" y="224"/>
                        </a:lnTo>
                        <a:lnTo>
                          <a:pt x="247" y="220"/>
                        </a:lnTo>
                        <a:lnTo>
                          <a:pt x="247" y="218"/>
                        </a:lnTo>
                        <a:lnTo>
                          <a:pt x="249" y="215"/>
                        </a:lnTo>
                        <a:lnTo>
                          <a:pt x="249" y="212"/>
                        </a:lnTo>
                        <a:lnTo>
                          <a:pt x="252" y="209"/>
                        </a:lnTo>
                        <a:lnTo>
                          <a:pt x="252" y="207"/>
                        </a:lnTo>
                        <a:lnTo>
                          <a:pt x="255" y="203"/>
                        </a:lnTo>
                        <a:lnTo>
                          <a:pt x="255" y="200"/>
                        </a:lnTo>
                        <a:lnTo>
                          <a:pt x="258" y="198"/>
                        </a:lnTo>
                        <a:lnTo>
                          <a:pt x="260" y="194"/>
                        </a:lnTo>
                        <a:lnTo>
                          <a:pt x="260" y="191"/>
                        </a:lnTo>
                        <a:lnTo>
                          <a:pt x="263" y="189"/>
                        </a:lnTo>
                        <a:lnTo>
                          <a:pt x="263" y="185"/>
                        </a:lnTo>
                        <a:lnTo>
                          <a:pt x="266" y="182"/>
                        </a:lnTo>
                        <a:lnTo>
                          <a:pt x="266" y="180"/>
                        </a:lnTo>
                        <a:lnTo>
                          <a:pt x="269" y="176"/>
                        </a:lnTo>
                        <a:lnTo>
                          <a:pt x="269" y="173"/>
                        </a:lnTo>
                        <a:lnTo>
                          <a:pt x="271" y="171"/>
                        </a:lnTo>
                        <a:lnTo>
                          <a:pt x="271" y="167"/>
                        </a:lnTo>
                        <a:lnTo>
                          <a:pt x="274" y="164"/>
                        </a:lnTo>
                        <a:lnTo>
                          <a:pt x="274" y="162"/>
                        </a:lnTo>
                        <a:lnTo>
                          <a:pt x="277" y="159"/>
                        </a:lnTo>
                        <a:lnTo>
                          <a:pt x="280" y="155"/>
                        </a:lnTo>
                        <a:lnTo>
                          <a:pt x="280" y="153"/>
                        </a:lnTo>
                        <a:lnTo>
                          <a:pt x="282" y="150"/>
                        </a:lnTo>
                        <a:lnTo>
                          <a:pt x="282" y="147"/>
                        </a:lnTo>
                        <a:lnTo>
                          <a:pt x="285" y="144"/>
                        </a:lnTo>
                        <a:lnTo>
                          <a:pt x="285" y="141"/>
                        </a:lnTo>
                        <a:lnTo>
                          <a:pt x="288" y="138"/>
                        </a:lnTo>
                        <a:lnTo>
                          <a:pt x="288" y="135"/>
                        </a:lnTo>
                        <a:lnTo>
                          <a:pt x="291" y="133"/>
                        </a:lnTo>
                        <a:lnTo>
                          <a:pt x="291" y="129"/>
                        </a:lnTo>
                        <a:lnTo>
                          <a:pt x="293" y="127"/>
                        </a:lnTo>
                        <a:lnTo>
                          <a:pt x="296" y="124"/>
                        </a:lnTo>
                        <a:lnTo>
                          <a:pt x="296" y="122"/>
                        </a:lnTo>
                        <a:lnTo>
                          <a:pt x="299" y="119"/>
                        </a:lnTo>
                        <a:lnTo>
                          <a:pt x="299" y="116"/>
                        </a:lnTo>
                        <a:lnTo>
                          <a:pt x="302" y="114"/>
                        </a:lnTo>
                        <a:lnTo>
                          <a:pt x="302" y="110"/>
                        </a:lnTo>
                        <a:lnTo>
                          <a:pt x="304" y="108"/>
                        </a:lnTo>
                        <a:lnTo>
                          <a:pt x="304" y="106"/>
                        </a:lnTo>
                        <a:lnTo>
                          <a:pt x="307" y="104"/>
                        </a:lnTo>
                        <a:lnTo>
                          <a:pt x="307" y="100"/>
                        </a:lnTo>
                        <a:lnTo>
                          <a:pt x="310" y="98"/>
                        </a:lnTo>
                        <a:lnTo>
                          <a:pt x="310" y="96"/>
                        </a:lnTo>
                        <a:lnTo>
                          <a:pt x="313" y="93"/>
                        </a:lnTo>
                        <a:lnTo>
                          <a:pt x="315" y="91"/>
                        </a:lnTo>
                        <a:lnTo>
                          <a:pt x="315" y="89"/>
                        </a:lnTo>
                        <a:lnTo>
                          <a:pt x="318" y="87"/>
                        </a:lnTo>
                        <a:lnTo>
                          <a:pt x="318" y="84"/>
                        </a:lnTo>
                        <a:lnTo>
                          <a:pt x="321" y="82"/>
                        </a:lnTo>
                        <a:lnTo>
                          <a:pt x="321" y="80"/>
                        </a:lnTo>
                        <a:lnTo>
                          <a:pt x="324" y="78"/>
                        </a:lnTo>
                        <a:lnTo>
                          <a:pt x="324" y="76"/>
                        </a:lnTo>
                        <a:lnTo>
                          <a:pt x="326" y="73"/>
                        </a:lnTo>
                        <a:lnTo>
                          <a:pt x="326" y="71"/>
                        </a:lnTo>
                        <a:lnTo>
                          <a:pt x="329" y="70"/>
                        </a:lnTo>
                        <a:lnTo>
                          <a:pt x="329" y="68"/>
                        </a:lnTo>
                        <a:lnTo>
                          <a:pt x="332" y="66"/>
                        </a:lnTo>
                        <a:lnTo>
                          <a:pt x="335" y="63"/>
                        </a:lnTo>
                        <a:lnTo>
                          <a:pt x="335" y="62"/>
                        </a:lnTo>
                        <a:lnTo>
                          <a:pt x="337" y="60"/>
                        </a:lnTo>
                        <a:lnTo>
                          <a:pt x="337" y="59"/>
                        </a:lnTo>
                        <a:lnTo>
                          <a:pt x="340" y="57"/>
                        </a:lnTo>
                        <a:lnTo>
                          <a:pt x="340" y="55"/>
                        </a:lnTo>
                        <a:lnTo>
                          <a:pt x="343" y="53"/>
                        </a:lnTo>
                        <a:lnTo>
                          <a:pt x="343" y="52"/>
                        </a:lnTo>
                        <a:lnTo>
                          <a:pt x="346" y="50"/>
                        </a:lnTo>
                        <a:lnTo>
                          <a:pt x="346" y="49"/>
                        </a:lnTo>
                        <a:lnTo>
                          <a:pt x="348" y="48"/>
                        </a:lnTo>
                        <a:lnTo>
                          <a:pt x="351" y="46"/>
                        </a:lnTo>
                        <a:lnTo>
                          <a:pt x="351" y="44"/>
                        </a:lnTo>
                        <a:lnTo>
                          <a:pt x="354" y="43"/>
                        </a:lnTo>
                        <a:lnTo>
                          <a:pt x="354" y="42"/>
                        </a:lnTo>
                        <a:lnTo>
                          <a:pt x="357" y="41"/>
                        </a:lnTo>
                        <a:lnTo>
                          <a:pt x="357" y="40"/>
                        </a:lnTo>
                        <a:lnTo>
                          <a:pt x="359" y="37"/>
                        </a:lnTo>
                        <a:lnTo>
                          <a:pt x="359" y="36"/>
                        </a:lnTo>
                        <a:lnTo>
                          <a:pt x="362" y="35"/>
                        </a:lnTo>
                        <a:lnTo>
                          <a:pt x="362" y="34"/>
                        </a:lnTo>
                        <a:lnTo>
                          <a:pt x="365" y="33"/>
                        </a:lnTo>
                        <a:lnTo>
                          <a:pt x="365" y="32"/>
                        </a:lnTo>
                        <a:lnTo>
                          <a:pt x="368" y="31"/>
                        </a:lnTo>
                        <a:lnTo>
                          <a:pt x="370" y="31"/>
                        </a:lnTo>
                        <a:lnTo>
                          <a:pt x="370" y="30"/>
                        </a:lnTo>
                        <a:lnTo>
                          <a:pt x="373" y="29"/>
                        </a:lnTo>
                        <a:lnTo>
                          <a:pt x="373" y="27"/>
                        </a:lnTo>
                        <a:lnTo>
                          <a:pt x="376" y="26"/>
                        </a:lnTo>
                        <a:lnTo>
                          <a:pt x="376" y="25"/>
                        </a:lnTo>
                        <a:lnTo>
                          <a:pt x="379" y="25"/>
                        </a:lnTo>
                        <a:lnTo>
                          <a:pt x="379" y="24"/>
                        </a:lnTo>
                        <a:lnTo>
                          <a:pt x="381" y="23"/>
                        </a:lnTo>
                        <a:lnTo>
                          <a:pt x="381" y="22"/>
                        </a:lnTo>
                        <a:lnTo>
                          <a:pt x="384" y="22"/>
                        </a:lnTo>
                        <a:lnTo>
                          <a:pt x="387" y="21"/>
                        </a:lnTo>
                        <a:lnTo>
                          <a:pt x="387" y="20"/>
                        </a:lnTo>
                        <a:lnTo>
                          <a:pt x="390" y="20"/>
                        </a:lnTo>
                        <a:lnTo>
                          <a:pt x="390" y="18"/>
                        </a:lnTo>
                        <a:lnTo>
                          <a:pt x="392" y="18"/>
                        </a:lnTo>
                        <a:lnTo>
                          <a:pt x="392" y="17"/>
                        </a:lnTo>
                        <a:lnTo>
                          <a:pt x="395" y="17"/>
                        </a:lnTo>
                        <a:lnTo>
                          <a:pt x="395" y="16"/>
                        </a:lnTo>
                        <a:lnTo>
                          <a:pt x="398" y="16"/>
                        </a:lnTo>
                        <a:lnTo>
                          <a:pt x="398" y="15"/>
                        </a:lnTo>
                        <a:lnTo>
                          <a:pt x="400" y="15"/>
                        </a:lnTo>
                        <a:lnTo>
                          <a:pt x="400" y="14"/>
                        </a:lnTo>
                        <a:lnTo>
                          <a:pt x="403" y="14"/>
                        </a:lnTo>
                        <a:lnTo>
                          <a:pt x="406" y="13"/>
                        </a:lnTo>
                        <a:lnTo>
                          <a:pt x="409" y="12"/>
                        </a:lnTo>
                        <a:lnTo>
                          <a:pt x="411" y="12"/>
                        </a:lnTo>
                        <a:lnTo>
                          <a:pt x="411" y="11"/>
                        </a:lnTo>
                        <a:lnTo>
                          <a:pt x="414" y="11"/>
                        </a:lnTo>
                        <a:lnTo>
                          <a:pt x="417" y="9"/>
                        </a:lnTo>
                        <a:lnTo>
                          <a:pt x="420" y="9"/>
                        </a:lnTo>
                        <a:lnTo>
                          <a:pt x="422" y="8"/>
                        </a:lnTo>
                        <a:lnTo>
                          <a:pt x="425" y="8"/>
                        </a:lnTo>
                        <a:lnTo>
                          <a:pt x="425" y="7"/>
                        </a:lnTo>
                        <a:lnTo>
                          <a:pt x="428" y="7"/>
                        </a:lnTo>
                        <a:lnTo>
                          <a:pt x="431" y="7"/>
                        </a:lnTo>
                        <a:lnTo>
                          <a:pt x="431" y="6"/>
                        </a:lnTo>
                        <a:lnTo>
                          <a:pt x="433" y="6"/>
                        </a:lnTo>
                        <a:lnTo>
                          <a:pt x="436" y="6"/>
                        </a:lnTo>
                        <a:lnTo>
                          <a:pt x="439" y="5"/>
                        </a:lnTo>
                        <a:lnTo>
                          <a:pt x="442" y="5"/>
                        </a:lnTo>
                        <a:lnTo>
                          <a:pt x="444" y="5"/>
                        </a:lnTo>
                        <a:lnTo>
                          <a:pt x="447" y="4"/>
                        </a:lnTo>
                        <a:lnTo>
                          <a:pt x="450" y="4"/>
                        </a:lnTo>
                        <a:lnTo>
                          <a:pt x="453" y="4"/>
                        </a:lnTo>
                        <a:lnTo>
                          <a:pt x="455" y="4"/>
                        </a:lnTo>
                        <a:lnTo>
                          <a:pt x="455" y="3"/>
                        </a:lnTo>
                        <a:lnTo>
                          <a:pt x="458" y="3"/>
                        </a:lnTo>
                        <a:lnTo>
                          <a:pt x="461" y="3"/>
                        </a:lnTo>
                        <a:lnTo>
                          <a:pt x="464" y="3"/>
                        </a:lnTo>
                        <a:lnTo>
                          <a:pt x="466" y="3"/>
                        </a:lnTo>
                        <a:lnTo>
                          <a:pt x="469" y="2"/>
                        </a:lnTo>
                        <a:lnTo>
                          <a:pt x="472" y="2"/>
                        </a:lnTo>
                        <a:lnTo>
                          <a:pt x="475" y="2"/>
                        </a:lnTo>
                        <a:lnTo>
                          <a:pt x="477" y="2"/>
                        </a:lnTo>
                        <a:lnTo>
                          <a:pt x="480" y="2"/>
                        </a:lnTo>
                        <a:lnTo>
                          <a:pt x="483" y="2"/>
                        </a:lnTo>
                        <a:lnTo>
                          <a:pt x="486" y="2"/>
                        </a:lnTo>
                        <a:lnTo>
                          <a:pt x="488" y="1"/>
                        </a:lnTo>
                        <a:lnTo>
                          <a:pt x="491" y="1"/>
                        </a:lnTo>
                        <a:lnTo>
                          <a:pt x="494" y="1"/>
                        </a:lnTo>
                        <a:lnTo>
                          <a:pt x="497" y="1"/>
                        </a:lnTo>
                        <a:lnTo>
                          <a:pt x="499" y="1"/>
                        </a:lnTo>
                        <a:lnTo>
                          <a:pt x="502" y="1"/>
                        </a:lnTo>
                        <a:lnTo>
                          <a:pt x="505" y="1"/>
                        </a:lnTo>
                        <a:lnTo>
                          <a:pt x="508" y="1"/>
                        </a:lnTo>
                        <a:lnTo>
                          <a:pt x="510" y="1"/>
                        </a:lnTo>
                        <a:lnTo>
                          <a:pt x="513" y="1"/>
                        </a:lnTo>
                        <a:lnTo>
                          <a:pt x="516" y="1"/>
                        </a:lnTo>
                        <a:lnTo>
                          <a:pt x="519" y="1"/>
                        </a:lnTo>
                        <a:lnTo>
                          <a:pt x="521" y="1"/>
                        </a:lnTo>
                        <a:lnTo>
                          <a:pt x="524" y="1"/>
                        </a:lnTo>
                        <a:lnTo>
                          <a:pt x="527" y="0"/>
                        </a:lnTo>
                        <a:lnTo>
                          <a:pt x="530" y="0"/>
                        </a:lnTo>
                        <a:lnTo>
                          <a:pt x="532" y="0"/>
                        </a:lnTo>
                        <a:lnTo>
                          <a:pt x="535" y="0"/>
                        </a:lnTo>
                        <a:lnTo>
                          <a:pt x="538" y="0"/>
                        </a:lnTo>
                        <a:lnTo>
                          <a:pt x="541" y="0"/>
                        </a:lnTo>
                        <a:lnTo>
                          <a:pt x="543" y="0"/>
                        </a:lnTo>
                        <a:lnTo>
                          <a:pt x="546" y="0"/>
                        </a:lnTo>
                        <a:lnTo>
                          <a:pt x="549" y="0"/>
                        </a:lnTo>
                        <a:lnTo>
                          <a:pt x="552" y="0"/>
                        </a:lnTo>
                        <a:lnTo>
                          <a:pt x="554" y="0"/>
                        </a:lnTo>
                        <a:lnTo>
                          <a:pt x="557" y="0"/>
                        </a:lnTo>
                        <a:lnTo>
                          <a:pt x="560" y="0"/>
                        </a:lnTo>
                        <a:lnTo>
                          <a:pt x="563" y="0"/>
                        </a:lnTo>
                        <a:lnTo>
                          <a:pt x="565" y="0"/>
                        </a:lnTo>
                        <a:lnTo>
                          <a:pt x="568" y="0"/>
                        </a:lnTo>
                        <a:lnTo>
                          <a:pt x="571" y="0"/>
                        </a:lnTo>
                        <a:lnTo>
                          <a:pt x="574" y="0"/>
                        </a:lnTo>
                        <a:lnTo>
                          <a:pt x="576" y="0"/>
                        </a:lnTo>
                        <a:lnTo>
                          <a:pt x="579" y="0"/>
                        </a:lnTo>
                        <a:lnTo>
                          <a:pt x="582" y="0"/>
                        </a:lnTo>
                        <a:lnTo>
                          <a:pt x="585" y="0"/>
                        </a:lnTo>
                        <a:lnTo>
                          <a:pt x="587" y="0"/>
                        </a:lnTo>
                        <a:lnTo>
                          <a:pt x="590" y="0"/>
                        </a:lnTo>
                        <a:lnTo>
                          <a:pt x="593" y="0"/>
                        </a:lnTo>
                        <a:lnTo>
                          <a:pt x="596" y="0"/>
                        </a:lnTo>
                        <a:lnTo>
                          <a:pt x="598" y="0"/>
                        </a:lnTo>
                        <a:lnTo>
                          <a:pt x="601" y="0"/>
                        </a:lnTo>
                        <a:lnTo>
                          <a:pt x="604" y="0"/>
                        </a:lnTo>
                        <a:lnTo>
                          <a:pt x="607" y="0"/>
                        </a:lnTo>
                        <a:lnTo>
                          <a:pt x="609" y="0"/>
                        </a:lnTo>
                        <a:lnTo>
                          <a:pt x="612" y="0"/>
                        </a:lnTo>
                        <a:lnTo>
                          <a:pt x="615" y="0"/>
                        </a:lnTo>
                        <a:lnTo>
                          <a:pt x="618" y="0"/>
                        </a:lnTo>
                        <a:lnTo>
                          <a:pt x="620" y="0"/>
                        </a:lnTo>
                        <a:lnTo>
                          <a:pt x="623" y="0"/>
                        </a:lnTo>
                        <a:lnTo>
                          <a:pt x="626" y="0"/>
                        </a:lnTo>
                        <a:lnTo>
                          <a:pt x="629" y="0"/>
                        </a:lnTo>
                        <a:lnTo>
                          <a:pt x="631" y="0"/>
                        </a:lnTo>
                        <a:lnTo>
                          <a:pt x="634" y="0"/>
                        </a:lnTo>
                        <a:lnTo>
                          <a:pt x="637" y="0"/>
                        </a:lnTo>
                        <a:lnTo>
                          <a:pt x="640" y="0"/>
                        </a:lnTo>
                        <a:lnTo>
                          <a:pt x="642" y="0"/>
                        </a:lnTo>
                        <a:lnTo>
                          <a:pt x="645" y="0"/>
                        </a:lnTo>
                        <a:lnTo>
                          <a:pt x="648" y="0"/>
                        </a:lnTo>
                        <a:lnTo>
                          <a:pt x="651" y="0"/>
                        </a:lnTo>
                        <a:lnTo>
                          <a:pt x="653" y="0"/>
                        </a:lnTo>
                        <a:lnTo>
                          <a:pt x="656" y="0"/>
                        </a:lnTo>
                        <a:lnTo>
                          <a:pt x="658" y="0"/>
                        </a:lnTo>
                        <a:lnTo>
                          <a:pt x="661" y="0"/>
                        </a:lnTo>
                        <a:lnTo>
                          <a:pt x="664" y="0"/>
                        </a:lnTo>
                        <a:lnTo>
                          <a:pt x="667" y="0"/>
                        </a:lnTo>
                        <a:lnTo>
                          <a:pt x="669" y="0"/>
                        </a:lnTo>
                        <a:lnTo>
                          <a:pt x="672" y="0"/>
                        </a:lnTo>
                        <a:lnTo>
                          <a:pt x="675" y="0"/>
                        </a:lnTo>
                        <a:lnTo>
                          <a:pt x="678" y="0"/>
                        </a:lnTo>
                        <a:lnTo>
                          <a:pt x="680" y="0"/>
                        </a:lnTo>
                        <a:lnTo>
                          <a:pt x="683" y="0"/>
                        </a:lnTo>
                        <a:lnTo>
                          <a:pt x="686" y="0"/>
                        </a:lnTo>
                        <a:lnTo>
                          <a:pt x="689" y="0"/>
                        </a:lnTo>
                        <a:lnTo>
                          <a:pt x="691" y="0"/>
                        </a:lnTo>
                        <a:lnTo>
                          <a:pt x="694" y="0"/>
                        </a:lnTo>
                        <a:lnTo>
                          <a:pt x="697" y="0"/>
                        </a:lnTo>
                        <a:lnTo>
                          <a:pt x="700" y="0"/>
                        </a:lnTo>
                        <a:lnTo>
                          <a:pt x="702" y="0"/>
                        </a:lnTo>
                        <a:lnTo>
                          <a:pt x="705" y="0"/>
                        </a:lnTo>
                        <a:lnTo>
                          <a:pt x="708" y="0"/>
                        </a:lnTo>
                        <a:lnTo>
                          <a:pt x="711" y="0"/>
                        </a:lnTo>
                        <a:lnTo>
                          <a:pt x="713" y="0"/>
                        </a:lnTo>
                        <a:lnTo>
                          <a:pt x="716" y="0"/>
                        </a:lnTo>
                        <a:lnTo>
                          <a:pt x="719" y="0"/>
                        </a:lnTo>
                        <a:lnTo>
                          <a:pt x="722" y="0"/>
                        </a:lnTo>
                        <a:lnTo>
                          <a:pt x="724" y="0"/>
                        </a:lnTo>
                        <a:lnTo>
                          <a:pt x="727" y="0"/>
                        </a:lnTo>
                        <a:lnTo>
                          <a:pt x="730" y="0"/>
                        </a:lnTo>
                        <a:lnTo>
                          <a:pt x="733" y="0"/>
                        </a:lnTo>
                        <a:lnTo>
                          <a:pt x="735" y="0"/>
                        </a:lnTo>
                        <a:lnTo>
                          <a:pt x="738" y="0"/>
                        </a:lnTo>
                        <a:lnTo>
                          <a:pt x="741" y="0"/>
                        </a:lnTo>
                        <a:lnTo>
                          <a:pt x="744" y="0"/>
                        </a:lnTo>
                        <a:lnTo>
                          <a:pt x="746" y="0"/>
                        </a:lnTo>
                        <a:lnTo>
                          <a:pt x="749" y="0"/>
                        </a:lnTo>
                        <a:lnTo>
                          <a:pt x="752" y="0"/>
                        </a:lnTo>
                        <a:lnTo>
                          <a:pt x="755" y="0"/>
                        </a:lnTo>
                        <a:lnTo>
                          <a:pt x="75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505760" y="5073480"/>
                    <a:ext cx="1112040" cy="60804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383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2" y="0"/>
                        </a:ln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38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46" y="0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60" y="0"/>
                        </a:lnTo>
                        <a:lnTo>
                          <a:pt x="63" y="0"/>
                        </a:lnTo>
                        <a:lnTo>
                          <a:pt x="66" y="0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9" y="0"/>
                        </a:lnTo>
                        <a:lnTo>
                          <a:pt x="82" y="0"/>
                        </a:lnTo>
                        <a:lnTo>
                          <a:pt x="85" y="0"/>
                        </a:lnTo>
                        <a:lnTo>
                          <a:pt x="88" y="0"/>
                        </a:lnTo>
                        <a:lnTo>
                          <a:pt x="90" y="0"/>
                        </a:lnTo>
                        <a:lnTo>
                          <a:pt x="93" y="0"/>
                        </a:lnTo>
                        <a:lnTo>
                          <a:pt x="96" y="0"/>
                        </a:lnTo>
                        <a:lnTo>
                          <a:pt x="99" y="0"/>
                        </a:lnTo>
                        <a:lnTo>
                          <a:pt x="101" y="0"/>
                        </a:lnTo>
                        <a:lnTo>
                          <a:pt x="104" y="0"/>
                        </a:lnTo>
                        <a:lnTo>
                          <a:pt x="107" y="0"/>
                        </a:lnTo>
                        <a:lnTo>
                          <a:pt x="110" y="0"/>
                        </a:lnTo>
                        <a:lnTo>
                          <a:pt x="112" y="0"/>
                        </a:lnTo>
                        <a:lnTo>
                          <a:pt x="115" y="0"/>
                        </a:lnTo>
                        <a:lnTo>
                          <a:pt x="118" y="0"/>
                        </a:lnTo>
                        <a:lnTo>
                          <a:pt x="121" y="0"/>
                        </a:lnTo>
                        <a:lnTo>
                          <a:pt x="123" y="0"/>
                        </a:lnTo>
                        <a:lnTo>
                          <a:pt x="126" y="0"/>
                        </a:lnTo>
                        <a:lnTo>
                          <a:pt x="129" y="0"/>
                        </a:lnTo>
                        <a:lnTo>
                          <a:pt x="132" y="0"/>
                        </a:lnTo>
                        <a:lnTo>
                          <a:pt x="134" y="0"/>
                        </a:lnTo>
                        <a:lnTo>
                          <a:pt x="137" y="0"/>
                        </a:lnTo>
                        <a:lnTo>
                          <a:pt x="140" y="0"/>
                        </a:lnTo>
                        <a:lnTo>
                          <a:pt x="143" y="0"/>
                        </a:lnTo>
                        <a:lnTo>
                          <a:pt x="145" y="0"/>
                        </a:lnTo>
                        <a:lnTo>
                          <a:pt x="148" y="0"/>
                        </a:lnTo>
                        <a:lnTo>
                          <a:pt x="151" y="0"/>
                        </a:lnTo>
                        <a:lnTo>
                          <a:pt x="154" y="0"/>
                        </a:lnTo>
                        <a:lnTo>
                          <a:pt x="156" y="0"/>
                        </a:lnTo>
                        <a:lnTo>
                          <a:pt x="159" y="0"/>
                        </a:lnTo>
                        <a:lnTo>
                          <a:pt x="162" y="0"/>
                        </a:lnTo>
                        <a:lnTo>
                          <a:pt x="165" y="0"/>
                        </a:lnTo>
                        <a:lnTo>
                          <a:pt x="167" y="0"/>
                        </a:lnTo>
                        <a:lnTo>
                          <a:pt x="170" y="0"/>
                        </a:lnTo>
                        <a:lnTo>
                          <a:pt x="173" y="0"/>
                        </a:lnTo>
                        <a:lnTo>
                          <a:pt x="176" y="0"/>
                        </a:lnTo>
                        <a:lnTo>
                          <a:pt x="178" y="0"/>
                        </a:lnTo>
                        <a:lnTo>
                          <a:pt x="181" y="0"/>
                        </a:lnTo>
                        <a:lnTo>
                          <a:pt x="184" y="0"/>
                        </a:lnTo>
                        <a:lnTo>
                          <a:pt x="186" y="0"/>
                        </a:lnTo>
                        <a:lnTo>
                          <a:pt x="189" y="0"/>
                        </a:lnTo>
                        <a:lnTo>
                          <a:pt x="192" y="0"/>
                        </a:lnTo>
                        <a:lnTo>
                          <a:pt x="194" y="0"/>
                        </a:lnTo>
                        <a:lnTo>
                          <a:pt x="197" y="0"/>
                        </a:lnTo>
                        <a:lnTo>
                          <a:pt x="200" y="0"/>
                        </a:lnTo>
                        <a:lnTo>
                          <a:pt x="203" y="0"/>
                        </a:lnTo>
                        <a:lnTo>
                          <a:pt x="205" y="0"/>
                        </a:lnTo>
                        <a:lnTo>
                          <a:pt x="208" y="0"/>
                        </a:lnTo>
                        <a:lnTo>
                          <a:pt x="211" y="0"/>
                        </a:lnTo>
                        <a:lnTo>
                          <a:pt x="214" y="0"/>
                        </a:lnTo>
                        <a:lnTo>
                          <a:pt x="216" y="0"/>
                        </a:lnTo>
                        <a:lnTo>
                          <a:pt x="219" y="0"/>
                        </a:lnTo>
                        <a:lnTo>
                          <a:pt x="222" y="0"/>
                        </a:lnTo>
                        <a:lnTo>
                          <a:pt x="225" y="0"/>
                        </a:lnTo>
                        <a:lnTo>
                          <a:pt x="227" y="0"/>
                        </a:lnTo>
                        <a:lnTo>
                          <a:pt x="230" y="0"/>
                        </a:lnTo>
                        <a:lnTo>
                          <a:pt x="233" y="1"/>
                        </a:lnTo>
                        <a:lnTo>
                          <a:pt x="236" y="1"/>
                        </a:lnTo>
                        <a:lnTo>
                          <a:pt x="238" y="1"/>
                        </a:lnTo>
                        <a:lnTo>
                          <a:pt x="241" y="1"/>
                        </a:lnTo>
                        <a:lnTo>
                          <a:pt x="244" y="1"/>
                        </a:lnTo>
                        <a:lnTo>
                          <a:pt x="247" y="1"/>
                        </a:lnTo>
                        <a:lnTo>
                          <a:pt x="249" y="1"/>
                        </a:lnTo>
                        <a:lnTo>
                          <a:pt x="252" y="1"/>
                        </a:lnTo>
                        <a:lnTo>
                          <a:pt x="255" y="1"/>
                        </a:lnTo>
                        <a:lnTo>
                          <a:pt x="258" y="1"/>
                        </a:lnTo>
                        <a:lnTo>
                          <a:pt x="260" y="1"/>
                        </a:lnTo>
                        <a:lnTo>
                          <a:pt x="263" y="1"/>
                        </a:lnTo>
                        <a:lnTo>
                          <a:pt x="266" y="1"/>
                        </a:lnTo>
                        <a:lnTo>
                          <a:pt x="269" y="1"/>
                        </a:lnTo>
                        <a:lnTo>
                          <a:pt x="271" y="2"/>
                        </a:lnTo>
                        <a:lnTo>
                          <a:pt x="274" y="2"/>
                        </a:lnTo>
                        <a:lnTo>
                          <a:pt x="277" y="2"/>
                        </a:lnTo>
                        <a:lnTo>
                          <a:pt x="280" y="2"/>
                        </a:lnTo>
                        <a:lnTo>
                          <a:pt x="282" y="2"/>
                        </a:lnTo>
                        <a:lnTo>
                          <a:pt x="285" y="2"/>
                        </a:lnTo>
                        <a:lnTo>
                          <a:pt x="288" y="2"/>
                        </a:lnTo>
                        <a:lnTo>
                          <a:pt x="291" y="3"/>
                        </a:lnTo>
                        <a:lnTo>
                          <a:pt x="293" y="3"/>
                        </a:lnTo>
                        <a:lnTo>
                          <a:pt x="296" y="3"/>
                        </a:lnTo>
                        <a:lnTo>
                          <a:pt x="299" y="3"/>
                        </a:lnTo>
                        <a:lnTo>
                          <a:pt x="302" y="4"/>
                        </a:lnTo>
                        <a:lnTo>
                          <a:pt x="304" y="4"/>
                        </a:lnTo>
                        <a:lnTo>
                          <a:pt x="307" y="4"/>
                        </a:lnTo>
                        <a:lnTo>
                          <a:pt x="310" y="4"/>
                        </a:lnTo>
                        <a:lnTo>
                          <a:pt x="313" y="5"/>
                        </a:lnTo>
                        <a:lnTo>
                          <a:pt x="315" y="5"/>
                        </a:lnTo>
                        <a:lnTo>
                          <a:pt x="318" y="5"/>
                        </a:lnTo>
                        <a:lnTo>
                          <a:pt x="318" y="6"/>
                        </a:lnTo>
                        <a:lnTo>
                          <a:pt x="321" y="6"/>
                        </a:lnTo>
                        <a:lnTo>
                          <a:pt x="324" y="6"/>
                        </a:lnTo>
                        <a:lnTo>
                          <a:pt x="326" y="6"/>
                        </a:lnTo>
                        <a:lnTo>
                          <a:pt x="326" y="7"/>
                        </a:lnTo>
                        <a:lnTo>
                          <a:pt x="329" y="7"/>
                        </a:lnTo>
                        <a:lnTo>
                          <a:pt x="332" y="7"/>
                        </a:lnTo>
                        <a:lnTo>
                          <a:pt x="332" y="8"/>
                        </a:lnTo>
                        <a:lnTo>
                          <a:pt x="335" y="8"/>
                        </a:lnTo>
                        <a:lnTo>
                          <a:pt x="337" y="9"/>
                        </a:lnTo>
                        <a:lnTo>
                          <a:pt x="340" y="9"/>
                        </a:lnTo>
                        <a:lnTo>
                          <a:pt x="343" y="11"/>
                        </a:lnTo>
                        <a:lnTo>
                          <a:pt x="346" y="11"/>
                        </a:lnTo>
                        <a:lnTo>
                          <a:pt x="346" y="12"/>
                        </a:lnTo>
                        <a:lnTo>
                          <a:pt x="348" y="12"/>
                        </a:lnTo>
                        <a:lnTo>
                          <a:pt x="351" y="13"/>
                        </a:lnTo>
                        <a:lnTo>
                          <a:pt x="354" y="14"/>
                        </a:lnTo>
                        <a:lnTo>
                          <a:pt x="357" y="15"/>
                        </a:lnTo>
                        <a:lnTo>
                          <a:pt x="359" y="15"/>
                        </a:lnTo>
                        <a:lnTo>
                          <a:pt x="359" y="16"/>
                        </a:lnTo>
                        <a:lnTo>
                          <a:pt x="362" y="16"/>
                        </a:lnTo>
                        <a:lnTo>
                          <a:pt x="362" y="17"/>
                        </a:lnTo>
                        <a:lnTo>
                          <a:pt x="365" y="17"/>
                        </a:lnTo>
                        <a:lnTo>
                          <a:pt x="365" y="18"/>
                        </a:lnTo>
                        <a:lnTo>
                          <a:pt x="368" y="18"/>
                        </a:lnTo>
                        <a:lnTo>
                          <a:pt x="368" y="20"/>
                        </a:lnTo>
                        <a:lnTo>
                          <a:pt x="370" y="20"/>
                        </a:lnTo>
                        <a:lnTo>
                          <a:pt x="370" y="21"/>
                        </a:lnTo>
                        <a:lnTo>
                          <a:pt x="373" y="22"/>
                        </a:lnTo>
                        <a:lnTo>
                          <a:pt x="376" y="23"/>
                        </a:lnTo>
                        <a:lnTo>
                          <a:pt x="379" y="24"/>
                        </a:lnTo>
                        <a:lnTo>
                          <a:pt x="379" y="25"/>
                        </a:lnTo>
                        <a:lnTo>
                          <a:pt x="381" y="25"/>
                        </a:lnTo>
                        <a:lnTo>
                          <a:pt x="381" y="26"/>
                        </a:lnTo>
                        <a:lnTo>
                          <a:pt x="384" y="27"/>
                        </a:lnTo>
                        <a:lnTo>
                          <a:pt x="384" y="29"/>
                        </a:lnTo>
                        <a:lnTo>
                          <a:pt x="387" y="30"/>
                        </a:lnTo>
                        <a:lnTo>
                          <a:pt x="387" y="31"/>
                        </a:lnTo>
                        <a:lnTo>
                          <a:pt x="390" y="31"/>
                        </a:lnTo>
                        <a:lnTo>
                          <a:pt x="390" y="32"/>
                        </a:lnTo>
                        <a:lnTo>
                          <a:pt x="392" y="33"/>
                        </a:lnTo>
                        <a:lnTo>
                          <a:pt x="395" y="34"/>
                        </a:lnTo>
                        <a:lnTo>
                          <a:pt x="395" y="35"/>
                        </a:lnTo>
                        <a:lnTo>
                          <a:pt x="398" y="36"/>
                        </a:lnTo>
                        <a:lnTo>
                          <a:pt x="398" y="37"/>
                        </a:lnTo>
                        <a:lnTo>
                          <a:pt x="401" y="40"/>
                        </a:lnTo>
                        <a:lnTo>
                          <a:pt x="401" y="41"/>
                        </a:lnTo>
                        <a:lnTo>
                          <a:pt x="403" y="42"/>
                        </a:lnTo>
                        <a:lnTo>
                          <a:pt x="403" y="43"/>
                        </a:lnTo>
                        <a:lnTo>
                          <a:pt x="406" y="44"/>
                        </a:lnTo>
                        <a:lnTo>
                          <a:pt x="406" y="46"/>
                        </a:lnTo>
                        <a:lnTo>
                          <a:pt x="409" y="48"/>
                        </a:lnTo>
                        <a:lnTo>
                          <a:pt x="409" y="49"/>
                        </a:lnTo>
                        <a:lnTo>
                          <a:pt x="412" y="50"/>
                        </a:lnTo>
                        <a:lnTo>
                          <a:pt x="414" y="52"/>
                        </a:lnTo>
                        <a:lnTo>
                          <a:pt x="414" y="53"/>
                        </a:lnTo>
                        <a:lnTo>
                          <a:pt x="417" y="55"/>
                        </a:lnTo>
                        <a:lnTo>
                          <a:pt x="417" y="57"/>
                        </a:lnTo>
                        <a:lnTo>
                          <a:pt x="420" y="59"/>
                        </a:lnTo>
                        <a:lnTo>
                          <a:pt x="420" y="60"/>
                        </a:lnTo>
                        <a:lnTo>
                          <a:pt x="423" y="62"/>
                        </a:lnTo>
                        <a:lnTo>
                          <a:pt x="423" y="63"/>
                        </a:lnTo>
                        <a:lnTo>
                          <a:pt x="426" y="66"/>
                        </a:lnTo>
                        <a:lnTo>
                          <a:pt x="426" y="68"/>
                        </a:lnTo>
                        <a:lnTo>
                          <a:pt x="428" y="70"/>
                        </a:lnTo>
                        <a:lnTo>
                          <a:pt x="431" y="71"/>
                        </a:lnTo>
                        <a:lnTo>
                          <a:pt x="431" y="73"/>
                        </a:lnTo>
                        <a:lnTo>
                          <a:pt x="434" y="76"/>
                        </a:lnTo>
                        <a:lnTo>
                          <a:pt x="434" y="78"/>
                        </a:lnTo>
                        <a:lnTo>
                          <a:pt x="437" y="80"/>
                        </a:lnTo>
                        <a:lnTo>
                          <a:pt x="437" y="82"/>
                        </a:lnTo>
                        <a:lnTo>
                          <a:pt x="439" y="84"/>
                        </a:lnTo>
                        <a:lnTo>
                          <a:pt x="439" y="87"/>
                        </a:lnTo>
                        <a:lnTo>
                          <a:pt x="442" y="89"/>
                        </a:lnTo>
                        <a:lnTo>
                          <a:pt x="442" y="91"/>
                        </a:lnTo>
                        <a:lnTo>
                          <a:pt x="444" y="93"/>
                        </a:lnTo>
                        <a:lnTo>
                          <a:pt x="444" y="96"/>
                        </a:lnTo>
                        <a:lnTo>
                          <a:pt x="447" y="98"/>
                        </a:lnTo>
                        <a:lnTo>
                          <a:pt x="450" y="100"/>
                        </a:lnTo>
                        <a:lnTo>
                          <a:pt x="450" y="104"/>
                        </a:lnTo>
                        <a:lnTo>
                          <a:pt x="453" y="106"/>
                        </a:lnTo>
                        <a:lnTo>
                          <a:pt x="453" y="108"/>
                        </a:lnTo>
                        <a:lnTo>
                          <a:pt x="455" y="110"/>
                        </a:lnTo>
                        <a:lnTo>
                          <a:pt x="455" y="114"/>
                        </a:lnTo>
                        <a:lnTo>
                          <a:pt x="458" y="116"/>
                        </a:lnTo>
                        <a:lnTo>
                          <a:pt x="458" y="119"/>
                        </a:lnTo>
                        <a:lnTo>
                          <a:pt x="461" y="122"/>
                        </a:lnTo>
                        <a:lnTo>
                          <a:pt x="461" y="124"/>
                        </a:lnTo>
                        <a:lnTo>
                          <a:pt x="464" y="127"/>
                        </a:lnTo>
                        <a:lnTo>
                          <a:pt x="464" y="129"/>
                        </a:lnTo>
                        <a:lnTo>
                          <a:pt x="466" y="133"/>
                        </a:lnTo>
                        <a:lnTo>
                          <a:pt x="469" y="135"/>
                        </a:lnTo>
                        <a:lnTo>
                          <a:pt x="469" y="138"/>
                        </a:lnTo>
                        <a:lnTo>
                          <a:pt x="472" y="141"/>
                        </a:lnTo>
                        <a:lnTo>
                          <a:pt x="472" y="144"/>
                        </a:lnTo>
                        <a:lnTo>
                          <a:pt x="475" y="147"/>
                        </a:lnTo>
                        <a:lnTo>
                          <a:pt x="475" y="150"/>
                        </a:lnTo>
                        <a:lnTo>
                          <a:pt x="477" y="153"/>
                        </a:lnTo>
                        <a:lnTo>
                          <a:pt x="477" y="155"/>
                        </a:lnTo>
                        <a:lnTo>
                          <a:pt x="480" y="159"/>
                        </a:lnTo>
                        <a:lnTo>
                          <a:pt x="480" y="162"/>
                        </a:lnTo>
                        <a:lnTo>
                          <a:pt x="483" y="164"/>
                        </a:lnTo>
                        <a:lnTo>
                          <a:pt x="486" y="167"/>
                        </a:lnTo>
                        <a:lnTo>
                          <a:pt x="486" y="171"/>
                        </a:lnTo>
                        <a:lnTo>
                          <a:pt x="488" y="173"/>
                        </a:lnTo>
                        <a:lnTo>
                          <a:pt x="488" y="176"/>
                        </a:lnTo>
                        <a:lnTo>
                          <a:pt x="491" y="180"/>
                        </a:lnTo>
                        <a:lnTo>
                          <a:pt x="491" y="182"/>
                        </a:lnTo>
                        <a:lnTo>
                          <a:pt x="494" y="185"/>
                        </a:lnTo>
                        <a:lnTo>
                          <a:pt x="494" y="189"/>
                        </a:lnTo>
                        <a:lnTo>
                          <a:pt x="497" y="191"/>
                        </a:lnTo>
                        <a:lnTo>
                          <a:pt x="497" y="194"/>
                        </a:lnTo>
                        <a:lnTo>
                          <a:pt x="499" y="198"/>
                        </a:lnTo>
                        <a:lnTo>
                          <a:pt x="499" y="200"/>
                        </a:lnTo>
                        <a:lnTo>
                          <a:pt x="502" y="203"/>
                        </a:lnTo>
                        <a:lnTo>
                          <a:pt x="505" y="207"/>
                        </a:lnTo>
                        <a:lnTo>
                          <a:pt x="505" y="209"/>
                        </a:lnTo>
                        <a:lnTo>
                          <a:pt x="508" y="212"/>
                        </a:lnTo>
                        <a:lnTo>
                          <a:pt x="508" y="215"/>
                        </a:lnTo>
                        <a:lnTo>
                          <a:pt x="510" y="218"/>
                        </a:lnTo>
                        <a:lnTo>
                          <a:pt x="510" y="220"/>
                        </a:lnTo>
                        <a:lnTo>
                          <a:pt x="513" y="224"/>
                        </a:lnTo>
                        <a:lnTo>
                          <a:pt x="513" y="227"/>
                        </a:lnTo>
                        <a:lnTo>
                          <a:pt x="516" y="229"/>
                        </a:lnTo>
                        <a:lnTo>
                          <a:pt x="516" y="233"/>
                        </a:lnTo>
                        <a:lnTo>
                          <a:pt x="519" y="235"/>
                        </a:lnTo>
                        <a:lnTo>
                          <a:pt x="521" y="237"/>
                        </a:lnTo>
                        <a:lnTo>
                          <a:pt x="521" y="240"/>
                        </a:lnTo>
                        <a:lnTo>
                          <a:pt x="524" y="242"/>
                        </a:lnTo>
                        <a:lnTo>
                          <a:pt x="524" y="246"/>
                        </a:lnTo>
                        <a:lnTo>
                          <a:pt x="527" y="248"/>
                        </a:lnTo>
                        <a:lnTo>
                          <a:pt x="527" y="250"/>
                        </a:lnTo>
                        <a:lnTo>
                          <a:pt x="530" y="254"/>
                        </a:lnTo>
                        <a:lnTo>
                          <a:pt x="530" y="256"/>
                        </a:lnTo>
                        <a:lnTo>
                          <a:pt x="532" y="258"/>
                        </a:lnTo>
                        <a:lnTo>
                          <a:pt x="532" y="260"/>
                        </a:lnTo>
                        <a:lnTo>
                          <a:pt x="535" y="264"/>
                        </a:lnTo>
                        <a:lnTo>
                          <a:pt x="535" y="266"/>
                        </a:lnTo>
                        <a:lnTo>
                          <a:pt x="538" y="268"/>
                        </a:lnTo>
                        <a:lnTo>
                          <a:pt x="541" y="271"/>
                        </a:lnTo>
                        <a:lnTo>
                          <a:pt x="541" y="273"/>
                        </a:lnTo>
                        <a:lnTo>
                          <a:pt x="543" y="275"/>
                        </a:lnTo>
                        <a:lnTo>
                          <a:pt x="543" y="277"/>
                        </a:lnTo>
                        <a:lnTo>
                          <a:pt x="546" y="279"/>
                        </a:lnTo>
                        <a:lnTo>
                          <a:pt x="546" y="282"/>
                        </a:lnTo>
                        <a:lnTo>
                          <a:pt x="549" y="284"/>
                        </a:lnTo>
                        <a:lnTo>
                          <a:pt x="549" y="286"/>
                        </a:lnTo>
                        <a:lnTo>
                          <a:pt x="552" y="288"/>
                        </a:lnTo>
                        <a:lnTo>
                          <a:pt x="552" y="291"/>
                        </a:lnTo>
                        <a:lnTo>
                          <a:pt x="554" y="293"/>
                        </a:lnTo>
                        <a:lnTo>
                          <a:pt x="557" y="295"/>
                        </a:lnTo>
                        <a:lnTo>
                          <a:pt x="557" y="296"/>
                        </a:lnTo>
                        <a:lnTo>
                          <a:pt x="560" y="299"/>
                        </a:lnTo>
                        <a:lnTo>
                          <a:pt x="560" y="301"/>
                        </a:lnTo>
                        <a:lnTo>
                          <a:pt x="563" y="303"/>
                        </a:lnTo>
                        <a:lnTo>
                          <a:pt x="563" y="304"/>
                        </a:lnTo>
                        <a:lnTo>
                          <a:pt x="565" y="306"/>
                        </a:lnTo>
                        <a:lnTo>
                          <a:pt x="565" y="309"/>
                        </a:lnTo>
                        <a:lnTo>
                          <a:pt x="568" y="310"/>
                        </a:lnTo>
                        <a:lnTo>
                          <a:pt x="568" y="312"/>
                        </a:lnTo>
                        <a:lnTo>
                          <a:pt x="571" y="313"/>
                        </a:lnTo>
                        <a:lnTo>
                          <a:pt x="571" y="315"/>
                        </a:lnTo>
                        <a:lnTo>
                          <a:pt x="574" y="317"/>
                        </a:lnTo>
                        <a:lnTo>
                          <a:pt x="576" y="319"/>
                        </a:lnTo>
                        <a:lnTo>
                          <a:pt x="576" y="320"/>
                        </a:lnTo>
                        <a:lnTo>
                          <a:pt x="579" y="322"/>
                        </a:lnTo>
                        <a:lnTo>
                          <a:pt x="579" y="323"/>
                        </a:lnTo>
                        <a:lnTo>
                          <a:pt x="582" y="325"/>
                        </a:lnTo>
                        <a:lnTo>
                          <a:pt x="582" y="326"/>
                        </a:lnTo>
                        <a:lnTo>
                          <a:pt x="585" y="328"/>
                        </a:lnTo>
                        <a:lnTo>
                          <a:pt x="585" y="329"/>
                        </a:lnTo>
                        <a:lnTo>
                          <a:pt x="587" y="331"/>
                        </a:lnTo>
                        <a:lnTo>
                          <a:pt x="587" y="332"/>
                        </a:lnTo>
                        <a:lnTo>
                          <a:pt x="590" y="333"/>
                        </a:lnTo>
                        <a:lnTo>
                          <a:pt x="593" y="334"/>
                        </a:lnTo>
                        <a:lnTo>
                          <a:pt x="593" y="337"/>
                        </a:lnTo>
                        <a:lnTo>
                          <a:pt x="596" y="338"/>
                        </a:lnTo>
                        <a:lnTo>
                          <a:pt x="596" y="339"/>
                        </a:lnTo>
                        <a:lnTo>
                          <a:pt x="598" y="340"/>
                        </a:lnTo>
                        <a:lnTo>
                          <a:pt x="598" y="341"/>
                        </a:lnTo>
                        <a:lnTo>
                          <a:pt x="601" y="342"/>
                        </a:lnTo>
                        <a:lnTo>
                          <a:pt x="601" y="343"/>
                        </a:lnTo>
                        <a:lnTo>
                          <a:pt x="604" y="344"/>
                        </a:lnTo>
                        <a:lnTo>
                          <a:pt x="604" y="346"/>
                        </a:lnTo>
                        <a:lnTo>
                          <a:pt x="607" y="347"/>
                        </a:lnTo>
                        <a:lnTo>
                          <a:pt x="607" y="348"/>
                        </a:lnTo>
                        <a:lnTo>
                          <a:pt x="609" y="349"/>
                        </a:lnTo>
                        <a:lnTo>
                          <a:pt x="612" y="350"/>
                        </a:lnTo>
                        <a:lnTo>
                          <a:pt x="612" y="351"/>
                        </a:lnTo>
                        <a:lnTo>
                          <a:pt x="615" y="352"/>
                        </a:lnTo>
                        <a:lnTo>
                          <a:pt x="618" y="353"/>
                        </a:lnTo>
                        <a:lnTo>
                          <a:pt x="618" y="355"/>
                        </a:lnTo>
                        <a:lnTo>
                          <a:pt x="620" y="356"/>
                        </a:lnTo>
                        <a:lnTo>
                          <a:pt x="620" y="357"/>
                        </a:lnTo>
                        <a:lnTo>
                          <a:pt x="623" y="357"/>
                        </a:lnTo>
                        <a:lnTo>
                          <a:pt x="623" y="358"/>
                        </a:lnTo>
                        <a:lnTo>
                          <a:pt x="626" y="359"/>
                        </a:lnTo>
                        <a:lnTo>
                          <a:pt x="626" y="360"/>
                        </a:lnTo>
                        <a:lnTo>
                          <a:pt x="629" y="360"/>
                        </a:lnTo>
                        <a:lnTo>
                          <a:pt x="631" y="361"/>
                        </a:lnTo>
                        <a:lnTo>
                          <a:pt x="634" y="362"/>
                        </a:lnTo>
                        <a:lnTo>
                          <a:pt x="634" y="364"/>
                        </a:lnTo>
                        <a:lnTo>
                          <a:pt x="637" y="364"/>
                        </a:lnTo>
                        <a:lnTo>
                          <a:pt x="637" y="365"/>
                        </a:lnTo>
                        <a:lnTo>
                          <a:pt x="640" y="365"/>
                        </a:lnTo>
                        <a:lnTo>
                          <a:pt x="640" y="366"/>
                        </a:lnTo>
                        <a:lnTo>
                          <a:pt x="642" y="367"/>
                        </a:lnTo>
                        <a:lnTo>
                          <a:pt x="645" y="368"/>
                        </a:lnTo>
                        <a:lnTo>
                          <a:pt x="648" y="368"/>
                        </a:lnTo>
                        <a:lnTo>
                          <a:pt x="648" y="369"/>
                        </a:lnTo>
                        <a:lnTo>
                          <a:pt x="651" y="369"/>
                        </a:lnTo>
                        <a:lnTo>
                          <a:pt x="653" y="370"/>
                        </a:lnTo>
                        <a:lnTo>
                          <a:pt x="656" y="371"/>
                        </a:lnTo>
                        <a:lnTo>
                          <a:pt x="659" y="373"/>
                        </a:lnTo>
                        <a:lnTo>
                          <a:pt x="662" y="373"/>
                        </a:lnTo>
                        <a:lnTo>
                          <a:pt x="662" y="374"/>
                        </a:lnTo>
                        <a:lnTo>
                          <a:pt x="664" y="374"/>
                        </a:lnTo>
                        <a:lnTo>
                          <a:pt x="667" y="374"/>
                        </a:lnTo>
                        <a:lnTo>
                          <a:pt x="667" y="375"/>
                        </a:lnTo>
                        <a:lnTo>
                          <a:pt x="670" y="375"/>
                        </a:lnTo>
                        <a:lnTo>
                          <a:pt x="673" y="376"/>
                        </a:lnTo>
                        <a:lnTo>
                          <a:pt x="675" y="376"/>
                        </a:lnTo>
                        <a:lnTo>
                          <a:pt x="678" y="377"/>
                        </a:lnTo>
                        <a:lnTo>
                          <a:pt x="681" y="377"/>
                        </a:lnTo>
                        <a:lnTo>
                          <a:pt x="684" y="377"/>
                        </a:lnTo>
                        <a:lnTo>
                          <a:pt x="684" y="378"/>
                        </a:lnTo>
                        <a:lnTo>
                          <a:pt x="686" y="378"/>
                        </a:lnTo>
                        <a:lnTo>
                          <a:pt x="689" y="378"/>
                        </a:lnTo>
                        <a:lnTo>
                          <a:pt x="692" y="378"/>
                        </a:lnTo>
                        <a:lnTo>
                          <a:pt x="692" y="379"/>
                        </a:lnTo>
                        <a:lnTo>
                          <a:pt x="695" y="379"/>
                        </a:lnTo>
                        <a:lnTo>
                          <a:pt x="697" y="379"/>
                        </a:lnTo>
                        <a:lnTo>
                          <a:pt x="700" y="379"/>
                        </a:lnTo>
                        <a:lnTo>
                          <a:pt x="702" y="379"/>
                        </a:lnTo>
                        <a:lnTo>
                          <a:pt x="702" y="380"/>
                        </a:lnTo>
                        <a:lnTo>
                          <a:pt x="705" y="380"/>
                        </a:lnTo>
                        <a:lnTo>
                          <a:pt x="708" y="380"/>
                        </a:lnTo>
                        <a:lnTo>
                          <a:pt x="711" y="380"/>
                        </a:lnTo>
                        <a:lnTo>
                          <a:pt x="713" y="380"/>
                        </a:lnTo>
                        <a:lnTo>
                          <a:pt x="716" y="380"/>
                        </a:lnTo>
                        <a:lnTo>
                          <a:pt x="719" y="380"/>
                        </a:lnTo>
                        <a:lnTo>
                          <a:pt x="722" y="382"/>
                        </a:lnTo>
                        <a:lnTo>
                          <a:pt x="724" y="382"/>
                        </a:lnTo>
                        <a:lnTo>
                          <a:pt x="727" y="382"/>
                        </a:lnTo>
                        <a:lnTo>
                          <a:pt x="730" y="382"/>
                        </a:lnTo>
                        <a:lnTo>
                          <a:pt x="733" y="382"/>
                        </a:lnTo>
                        <a:lnTo>
                          <a:pt x="735" y="382"/>
                        </a:lnTo>
                        <a:lnTo>
                          <a:pt x="738" y="382"/>
                        </a:lnTo>
                        <a:lnTo>
                          <a:pt x="741" y="382"/>
                        </a:lnTo>
                        <a:lnTo>
                          <a:pt x="744" y="382"/>
                        </a:lnTo>
                        <a:lnTo>
                          <a:pt x="746" y="382"/>
                        </a:lnTo>
                        <a:lnTo>
                          <a:pt x="749" y="382"/>
                        </a:lnTo>
                        <a:lnTo>
                          <a:pt x="752" y="382"/>
                        </a:lnTo>
                        <a:lnTo>
                          <a:pt x="755" y="382"/>
                        </a:lnTo>
                        <a:lnTo>
                          <a:pt x="758" y="3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3011040" y="5073480"/>
                  <a:ext cx="1547280" cy="608040"/>
                  <a:chOff x="3011040" y="5073480"/>
                  <a:chExt cx="1547280" cy="60804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3446280" y="5073480"/>
                    <a:ext cx="1112040" cy="60804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383">
                        <a:moveTo>
                          <a:pt x="0" y="382"/>
                        </a:moveTo>
                        <a:lnTo>
                          <a:pt x="2" y="382"/>
                        </a:lnTo>
                        <a:lnTo>
                          <a:pt x="5" y="382"/>
                        </a:lnTo>
                        <a:lnTo>
                          <a:pt x="8" y="382"/>
                        </a:lnTo>
                        <a:lnTo>
                          <a:pt x="11" y="382"/>
                        </a:lnTo>
                        <a:lnTo>
                          <a:pt x="13" y="382"/>
                        </a:lnTo>
                        <a:lnTo>
                          <a:pt x="16" y="382"/>
                        </a:lnTo>
                        <a:lnTo>
                          <a:pt x="19" y="382"/>
                        </a:lnTo>
                        <a:lnTo>
                          <a:pt x="22" y="382"/>
                        </a:lnTo>
                        <a:lnTo>
                          <a:pt x="24" y="382"/>
                        </a:lnTo>
                        <a:lnTo>
                          <a:pt x="27" y="382"/>
                        </a:lnTo>
                        <a:lnTo>
                          <a:pt x="30" y="382"/>
                        </a:lnTo>
                        <a:lnTo>
                          <a:pt x="33" y="382"/>
                        </a:lnTo>
                        <a:lnTo>
                          <a:pt x="35" y="382"/>
                        </a:lnTo>
                        <a:lnTo>
                          <a:pt x="38" y="380"/>
                        </a:lnTo>
                        <a:lnTo>
                          <a:pt x="41" y="380"/>
                        </a:lnTo>
                        <a:lnTo>
                          <a:pt x="44" y="380"/>
                        </a:lnTo>
                        <a:lnTo>
                          <a:pt x="46" y="380"/>
                        </a:lnTo>
                        <a:lnTo>
                          <a:pt x="49" y="380"/>
                        </a:lnTo>
                        <a:lnTo>
                          <a:pt x="52" y="380"/>
                        </a:lnTo>
                        <a:lnTo>
                          <a:pt x="55" y="380"/>
                        </a:lnTo>
                        <a:lnTo>
                          <a:pt x="55" y="379"/>
                        </a:lnTo>
                        <a:lnTo>
                          <a:pt x="57" y="379"/>
                        </a:lnTo>
                        <a:lnTo>
                          <a:pt x="60" y="379"/>
                        </a:lnTo>
                        <a:lnTo>
                          <a:pt x="63" y="379"/>
                        </a:lnTo>
                        <a:lnTo>
                          <a:pt x="66" y="379"/>
                        </a:lnTo>
                        <a:lnTo>
                          <a:pt x="66" y="378"/>
                        </a:lnTo>
                        <a:lnTo>
                          <a:pt x="68" y="378"/>
                        </a:lnTo>
                        <a:lnTo>
                          <a:pt x="71" y="378"/>
                        </a:lnTo>
                        <a:lnTo>
                          <a:pt x="74" y="378"/>
                        </a:lnTo>
                        <a:lnTo>
                          <a:pt x="74" y="377"/>
                        </a:lnTo>
                        <a:lnTo>
                          <a:pt x="77" y="377"/>
                        </a:lnTo>
                        <a:lnTo>
                          <a:pt x="79" y="377"/>
                        </a:lnTo>
                        <a:lnTo>
                          <a:pt x="82" y="376"/>
                        </a:lnTo>
                        <a:lnTo>
                          <a:pt x="85" y="376"/>
                        </a:lnTo>
                        <a:lnTo>
                          <a:pt x="88" y="375"/>
                        </a:lnTo>
                        <a:lnTo>
                          <a:pt x="90" y="375"/>
                        </a:lnTo>
                        <a:lnTo>
                          <a:pt x="90" y="374"/>
                        </a:lnTo>
                        <a:lnTo>
                          <a:pt x="93" y="374"/>
                        </a:lnTo>
                        <a:lnTo>
                          <a:pt x="96" y="373"/>
                        </a:lnTo>
                        <a:lnTo>
                          <a:pt x="99" y="373"/>
                        </a:lnTo>
                        <a:lnTo>
                          <a:pt x="101" y="371"/>
                        </a:lnTo>
                        <a:lnTo>
                          <a:pt x="104" y="370"/>
                        </a:lnTo>
                        <a:lnTo>
                          <a:pt x="107" y="369"/>
                        </a:lnTo>
                        <a:lnTo>
                          <a:pt x="110" y="369"/>
                        </a:lnTo>
                        <a:lnTo>
                          <a:pt x="110" y="368"/>
                        </a:lnTo>
                        <a:lnTo>
                          <a:pt x="112" y="368"/>
                        </a:lnTo>
                        <a:lnTo>
                          <a:pt x="112" y="367"/>
                        </a:lnTo>
                        <a:lnTo>
                          <a:pt x="115" y="367"/>
                        </a:lnTo>
                        <a:lnTo>
                          <a:pt x="118" y="366"/>
                        </a:lnTo>
                        <a:lnTo>
                          <a:pt x="118" y="365"/>
                        </a:lnTo>
                        <a:lnTo>
                          <a:pt x="121" y="365"/>
                        </a:lnTo>
                        <a:lnTo>
                          <a:pt x="121" y="364"/>
                        </a:lnTo>
                        <a:lnTo>
                          <a:pt x="123" y="364"/>
                        </a:lnTo>
                        <a:lnTo>
                          <a:pt x="123" y="362"/>
                        </a:lnTo>
                        <a:lnTo>
                          <a:pt x="126" y="361"/>
                        </a:lnTo>
                        <a:lnTo>
                          <a:pt x="129" y="360"/>
                        </a:lnTo>
                        <a:lnTo>
                          <a:pt x="132" y="359"/>
                        </a:lnTo>
                        <a:lnTo>
                          <a:pt x="134" y="358"/>
                        </a:lnTo>
                        <a:lnTo>
                          <a:pt x="134" y="357"/>
                        </a:lnTo>
                        <a:lnTo>
                          <a:pt x="137" y="357"/>
                        </a:lnTo>
                        <a:lnTo>
                          <a:pt x="137" y="356"/>
                        </a:lnTo>
                        <a:lnTo>
                          <a:pt x="140" y="355"/>
                        </a:lnTo>
                        <a:lnTo>
                          <a:pt x="140" y="353"/>
                        </a:lnTo>
                        <a:lnTo>
                          <a:pt x="143" y="352"/>
                        </a:lnTo>
                        <a:lnTo>
                          <a:pt x="145" y="351"/>
                        </a:lnTo>
                        <a:lnTo>
                          <a:pt x="145" y="350"/>
                        </a:lnTo>
                        <a:lnTo>
                          <a:pt x="148" y="349"/>
                        </a:lnTo>
                        <a:lnTo>
                          <a:pt x="148" y="348"/>
                        </a:lnTo>
                        <a:lnTo>
                          <a:pt x="150" y="347"/>
                        </a:lnTo>
                        <a:lnTo>
                          <a:pt x="153" y="346"/>
                        </a:lnTo>
                        <a:lnTo>
                          <a:pt x="153" y="344"/>
                        </a:lnTo>
                        <a:lnTo>
                          <a:pt x="156" y="343"/>
                        </a:lnTo>
                        <a:lnTo>
                          <a:pt x="156" y="342"/>
                        </a:lnTo>
                        <a:lnTo>
                          <a:pt x="159" y="341"/>
                        </a:lnTo>
                        <a:lnTo>
                          <a:pt x="159" y="340"/>
                        </a:lnTo>
                        <a:lnTo>
                          <a:pt x="161" y="339"/>
                        </a:lnTo>
                        <a:lnTo>
                          <a:pt x="161" y="338"/>
                        </a:lnTo>
                        <a:lnTo>
                          <a:pt x="164" y="337"/>
                        </a:lnTo>
                        <a:lnTo>
                          <a:pt x="164" y="334"/>
                        </a:lnTo>
                        <a:lnTo>
                          <a:pt x="167" y="333"/>
                        </a:lnTo>
                        <a:lnTo>
                          <a:pt x="167" y="332"/>
                        </a:lnTo>
                        <a:lnTo>
                          <a:pt x="170" y="331"/>
                        </a:lnTo>
                        <a:lnTo>
                          <a:pt x="172" y="329"/>
                        </a:lnTo>
                        <a:lnTo>
                          <a:pt x="172" y="328"/>
                        </a:lnTo>
                        <a:lnTo>
                          <a:pt x="175" y="326"/>
                        </a:lnTo>
                        <a:lnTo>
                          <a:pt x="175" y="325"/>
                        </a:lnTo>
                        <a:lnTo>
                          <a:pt x="178" y="323"/>
                        </a:lnTo>
                        <a:lnTo>
                          <a:pt x="178" y="322"/>
                        </a:lnTo>
                        <a:lnTo>
                          <a:pt x="181" y="320"/>
                        </a:lnTo>
                        <a:lnTo>
                          <a:pt x="181" y="319"/>
                        </a:lnTo>
                        <a:lnTo>
                          <a:pt x="183" y="317"/>
                        </a:lnTo>
                        <a:lnTo>
                          <a:pt x="183" y="315"/>
                        </a:lnTo>
                        <a:lnTo>
                          <a:pt x="186" y="313"/>
                        </a:lnTo>
                        <a:lnTo>
                          <a:pt x="189" y="312"/>
                        </a:lnTo>
                        <a:lnTo>
                          <a:pt x="189" y="310"/>
                        </a:lnTo>
                        <a:lnTo>
                          <a:pt x="192" y="309"/>
                        </a:lnTo>
                        <a:lnTo>
                          <a:pt x="192" y="306"/>
                        </a:lnTo>
                        <a:lnTo>
                          <a:pt x="194" y="304"/>
                        </a:lnTo>
                        <a:lnTo>
                          <a:pt x="194" y="303"/>
                        </a:lnTo>
                        <a:lnTo>
                          <a:pt x="197" y="301"/>
                        </a:lnTo>
                        <a:lnTo>
                          <a:pt x="197" y="299"/>
                        </a:lnTo>
                        <a:lnTo>
                          <a:pt x="200" y="296"/>
                        </a:lnTo>
                        <a:lnTo>
                          <a:pt x="200" y="295"/>
                        </a:lnTo>
                        <a:lnTo>
                          <a:pt x="203" y="293"/>
                        </a:lnTo>
                        <a:lnTo>
                          <a:pt x="203" y="291"/>
                        </a:lnTo>
                        <a:lnTo>
                          <a:pt x="205" y="288"/>
                        </a:lnTo>
                        <a:lnTo>
                          <a:pt x="208" y="286"/>
                        </a:lnTo>
                        <a:lnTo>
                          <a:pt x="208" y="284"/>
                        </a:lnTo>
                        <a:lnTo>
                          <a:pt x="211" y="282"/>
                        </a:lnTo>
                        <a:lnTo>
                          <a:pt x="211" y="279"/>
                        </a:lnTo>
                        <a:lnTo>
                          <a:pt x="214" y="277"/>
                        </a:lnTo>
                        <a:lnTo>
                          <a:pt x="214" y="275"/>
                        </a:lnTo>
                        <a:lnTo>
                          <a:pt x="216" y="273"/>
                        </a:lnTo>
                        <a:lnTo>
                          <a:pt x="216" y="271"/>
                        </a:lnTo>
                        <a:lnTo>
                          <a:pt x="219" y="268"/>
                        </a:lnTo>
                        <a:lnTo>
                          <a:pt x="219" y="266"/>
                        </a:lnTo>
                        <a:lnTo>
                          <a:pt x="222" y="264"/>
                        </a:lnTo>
                        <a:lnTo>
                          <a:pt x="225" y="260"/>
                        </a:lnTo>
                        <a:lnTo>
                          <a:pt x="225" y="258"/>
                        </a:lnTo>
                        <a:lnTo>
                          <a:pt x="227" y="256"/>
                        </a:lnTo>
                        <a:lnTo>
                          <a:pt x="227" y="254"/>
                        </a:lnTo>
                        <a:lnTo>
                          <a:pt x="230" y="250"/>
                        </a:lnTo>
                        <a:lnTo>
                          <a:pt x="230" y="248"/>
                        </a:lnTo>
                        <a:lnTo>
                          <a:pt x="233" y="246"/>
                        </a:lnTo>
                        <a:lnTo>
                          <a:pt x="233" y="242"/>
                        </a:lnTo>
                        <a:lnTo>
                          <a:pt x="236" y="240"/>
                        </a:lnTo>
                        <a:lnTo>
                          <a:pt x="236" y="237"/>
                        </a:lnTo>
                        <a:lnTo>
                          <a:pt x="238" y="235"/>
                        </a:lnTo>
                        <a:lnTo>
                          <a:pt x="238" y="233"/>
                        </a:lnTo>
                        <a:lnTo>
                          <a:pt x="241" y="229"/>
                        </a:lnTo>
                        <a:lnTo>
                          <a:pt x="244" y="227"/>
                        </a:lnTo>
                        <a:lnTo>
                          <a:pt x="244" y="224"/>
                        </a:lnTo>
                        <a:lnTo>
                          <a:pt x="247" y="220"/>
                        </a:lnTo>
                        <a:lnTo>
                          <a:pt x="247" y="218"/>
                        </a:lnTo>
                        <a:lnTo>
                          <a:pt x="249" y="215"/>
                        </a:lnTo>
                        <a:lnTo>
                          <a:pt x="249" y="212"/>
                        </a:lnTo>
                        <a:lnTo>
                          <a:pt x="252" y="209"/>
                        </a:lnTo>
                        <a:lnTo>
                          <a:pt x="252" y="207"/>
                        </a:lnTo>
                        <a:lnTo>
                          <a:pt x="255" y="203"/>
                        </a:lnTo>
                        <a:lnTo>
                          <a:pt x="255" y="200"/>
                        </a:lnTo>
                        <a:lnTo>
                          <a:pt x="258" y="198"/>
                        </a:lnTo>
                        <a:lnTo>
                          <a:pt x="260" y="194"/>
                        </a:lnTo>
                        <a:lnTo>
                          <a:pt x="260" y="191"/>
                        </a:lnTo>
                        <a:lnTo>
                          <a:pt x="263" y="189"/>
                        </a:lnTo>
                        <a:lnTo>
                          <a:pt x="263" y="185"/>
                        </a:lnTo>
                        <a:lnTo>
                          <a:pt x="266" y="182"/>
                        </a:lnTo>
                        <a:lnTo>
                          <a:pt x="266" y="180"/>
                        </a:lnTo>
                        <a:lnTo>
                          <a:pt x="269" y="176"/>
                        </a:lnTo>
                        <a:lnTo>
                          <a:pt x="269" y="173"/>
                        </a:lnTo>
                        <a:lnTo>
                          <a:pt x="271" y="171"/>
                        </a:lnTo>
                        <a:lnTo>
                          <a:pt x="271" y="167"/>
                        </a:lnTo>
                        <a:lnTo>
                          <a:pt x="274" y="164"/>
                        </a:lnTo>
                        <a:lnTo>
                          <a:pt x="274" y="162"/>
                        </a:lnTo>
                        <a:lnTo>
                          <a:pt x="277" y="159"/>
                        </a:lnTo>
                        <a:lnTo>
                          <a:pt x="280" y="155"/>
                        </a:lnTo>
                        <a:lnTo>
                          <a:pt x="280" y="153"/>
                        </a:lnTo>
                        <a:lnTo>
                          <a:pt x="282" y="150"/>
                        </a:lnTo>
                        <a:lnTo>
                          <a:pt x="282" y="147"/>
                        </a:lnTo>
                        <a:lnTo>
                          <a:pt x="285" y="144"/>
                        </a:lnTo>
                        <a:lnTo>
                          <a:pt x="285" y="141"/>
                        </a:lnTo>
                        <a:lnTo>
                          <a:pt x="288" y="138"/>
                        </a:lnTo>
                        <a:lnTo>
                          <a:pt x="288" y="135"/>
                        </a:lnTo>
                        <a:lnTo>
                          <a:pt x="291" y="133"/>
                        </a:lnTo>
                        <a:lnTo>
                          <a:pt x="291" y="129"/>
                        </a:lnTo>
                        <a:lnTo>
                          <a:pt x="293" y="127"/>
                        </a:lnTo>
                        <a:lnTo>
                          <a:pt x="296" y="124"/>
                        </a:lnTo>
                        <a:lnTo>
                          <a:pt x="296" y="122"/>
                        </a:lnTo>
                        <a:lnTo>
                          <a:pt x="299" y="119"/>
                        </a:lnTo>
                        <a:lnTo>
                          <a:pt x="299" y="116"/>
                        </a:lnTo>
                        <a:lnTo>
                          <a:pt x="302" y="114"/>
                        </a:lnTo>
                        <a:lnTo>
                          <a:pt x="302" y="110"/>
                        </a:lnTo>
                        <a:lnTo>
                          <a:pt x="304" y="108"/>
                        </a:lnTo>
                        <a:lnTo>
                          <a:pt x="304" y="106"/>
                        </a:lnTo>
                        <a:lnTo>
                          <a:pt x="307" y="104"/>
                        </a:lnTo>
                        <a:lnTo>
                          <a:pt x="307" y="100"/>
                        </a:lnTo>
                        <a:lnTo>
                          <a:pt x="310" y="98"/>
                        </a:lnTo>
                        <a:lnTo>
                          <a:pt x="310" y="96"/>
                        </a:lnTo>
                        <a:lnTo>
                          <a:pt x="313" y="93"/>
                        </a:lnTo>
                        <a:lnTo>
                          <a:pt x="315" y="91"/>
                        </a:lnTo>
                        <a:lnTo>
                          <a:pt x="315" y="89"/>
                        </a:lnTo>
                        <a:lnTo>
                          <a:pt x="318" y="87"/>
                        </a:lnTo>
                        <a:lnTo>
                          <a:pt x="318" y="84"/>
                        </a:lnTo>
                        <a:lnTo>
                          <a:pt x="321" y="82"/>
                        </a:lnTo>
                        <a:lnTo>
                          <a:pt x="321" y="80"/>
                        </a:lnTo>
                        <a:lnTo>
                          <a:pt x="324" y="78"/>
                        </a:lnTo>
                        <a:lnTo>
                          <a:pt x="324" y="76"/>
                        </a:lnTo>
                        <a:lnTo>
                          <a:pt x="326" y="73"/>
                        </a:lnTo>
                        <a:lnTo>
                          <a:pt x="326" y="71"/>
                        </a:lnTo>
                        <a:lnTo>
                          <a:pt x="329" y="70"/>
                        </a:lnTo>
                        <a:lnTo>
                          <a:pt x="329" y="68"/>
                        </a:lnTo>
                        <a:lnTo>
                          <a:pt x="332" y="66"/>
                        </a:lnTo>
                        <a:lnTo>
                          <a:pt x="335" y="63"/>
                        </a:lnTo>
                        <a:lnTo>
                          <a:pt x="335" y="62"/>
                        </a:lnTo>
                        <a:lnTo>
                          <a:pt x="337" y="60"/>
                        </a:lnTo>
                        <a:lnTo>
                          <a:pt x="337" y="59"/>
                        </a:lnTo>
                        <a:lnTo>
                          <a:pt x="340" y="57"/>
                        </a:lnTo>
                        <a:lnTo>
                          <a:pt x="340" y="55"/>
                        </a:lnTo>
                        <a:lnTo>
                          <a:pt x="343" y="53"/>
                        </a:lnTo>
                        <a:lnTo>
                          <a:pt x="343" y="52"/>
                        </a:lnTo>
                        <a:lnTo>
                          <a:pt x="346" y="50"/>
                        </a:lnTo>
                        <a:lnTo>
                          <a:pt x="346" y="49"/>
                        </a:lnTo>
                        <a:lnTo>
                          <a:pt x="348" y="48"/>
                        </a:lnTo>
                        <a:lnTo>
                          <a:pt x="351" y="46"/>
                        </a:lnTo>
                        <a:lnTo>
                          <a:pt x="351" y="44"/>
                        </a:lnTo>
                        <a:lnTo>
                          <a:pt x="354" y="43"/>
                        </a:lnTo>
                        <a:lnTo>
                          <a:pt x="354" y="42"/>
                        </a:lnTo>
                        <a:lnTo>
                          <a:pt x="357" y="41"/>
                        </a:lnTo>
                        <a:lnTo>
                          <a:pt x="357" y="40"/>
                        </a:lnTo>
                        <a:lnTo>
                          <a:pt x="359" y="37"/>
                        </a:lnTo>
                        <a:lnTo>
                          <a:pt x="359" y="36"/>
                        </a:lnTo>
                        <a:lnTo>
                          <a:pt x="362" y="35"/>
                        </a:lnTo>
                        <a:lnTo>
                          <a:pt x="362" y="34"/>
                        </a:lnTo>
                        <a:lnTo>
                          <a:pt x="365" y="33"/>
                        </a:lnTo>
                        <a:lnTo>
                          <a:pt x="365" y="32"/>
                        </a:lnTo>
                        <a:lnTo>
                          <a:pt x="368" y="31"/>
                        </a:lnTo>
                        <a:lnTo>
                          <a:pt x="370" y="31"/>
                        </a:lnTo>
                        <a:lnTo>
                          <a:pt x="370" y="30"/>
                        </a:lnTo>
                        <a:lnTo>
                          <a:pt x="373" y="29"/>
                        </a:lnTo>
                        <a:lnTo>
                          <a:pt x="373" y="27"/>
                        </a:lnTo>
                        <a:lnTo>
                          <a:pt x="376" y="26"/>
                        </a:lnTo>
                        <a:lnTo>
                          <a:pt x="376" y="25"/>
                        </a:lnTo>
                        <a:lnTo>
                          <a:pt x="379" y="25"/>
                        </a:lnTo>
                        <a:lnTo>
                          <a:pt x="379" y="24"/>
                        </a:lnTo>
                        <a:lnTo>
                          <a:pt x="381" y="23"/>
                        </a:lnTo>
                        <a:lnTo>
                          <a:pt x="381" y="22"/>
                        </a:lnTo>
                        <a:lnTo>
                          <a:pt x="384" y="22"/>
                        </a:lnTo>
                        <a:lnTo>
                          <a:pt x="387" y="21"/>
                        </a:lnTo>
                        <a:lnTo>
                          <a:pt x="387" y="20"/>
                        </a:lnTo>
                        <a:lnTo>
                          <a:pt x="390" y="20"/>
                        </a:lnTo>
                        <a:lnTo>
                          <a:pt x="390" y="18"/>
                        </a:lnTo>
                        <a:lnTo>
                          <a:pt x="392" y="18"/>
                        </a:lnTo>
                        <a:lnTo>
                          <a:pt x="392" y="17"/>
                        </a:lnTo>
                        <a:lnTo>
                          <a:pt x="395" y="17"/>
                        </a:lnTo>
                        <a:lnTo>
                          <a:pt x="395" y="16"/>
                        </a:lnTo>
                        <a:lnTo>
                          <a:pt x="398" y="16"/>
                        </a:lnTo>
                        <a:lnTo>
                          <a:pt x="398" y="15"/>
                        </a:lnTo>
                        <a:lnTo>
                          <a:pt x="400" y="15"/>
                        </a:lnTo>
                        <a:lnTo>
                          <a:pt x="400" y="14"/>
                        </a:lnTo>
                        <a:lnTo>
                          <a:pt x="403" y="14"/>
                        </a:lnTo>
                        <a:lnTo>
                          <a:pt x="406" y="13"/>
                        </a:lnTo>
                        <a:lnTo>
                          <a:pt x="409" y="12"/>
                        </a:lnTo>
                        <a:lnTo>
                          <a:pt x="411" y="12"/>
                        </a:lnTo>
                        <a:lnTo>
                          <a:pt x="411" y="11"/>
                        </a:lnTo>
                        <a:lnTo>
                          <a:pt x="414" y="11"/>
                        </a:lnTo>
                        <a:lnTo>
                          <a:pt x="417" y="9"/>
                        </a:lnTo>
                        <a:lnTo>
                          <a:pt x="420" y="9"/>
                        </a:lnTo>
                        <a:lnTo>
                          <a:pt x="422" y="8"/>
                        </a:lnTo>
                        <a:lnTo>
                          <a:pt x="425" y="8"/>
                        </a:lnTo>
                        <a:lnTo>
                          <a:pt x="425" y="7"/>
                        </a:lnTo>
                        <a:lnTo>
                          <a:pt x="428" y="7"/>
                        </a:lnTo>
                        <a:lnTo>
                          <a:pt x="431" y="7"/>
                        </a:lnTo>
                        <a:lnTo>
                          <a:pt x="431" y="6"/>
                        </a:lnTo>
                        <a:lnTo>
                          <a:pt x="433" y="6"/>
                        </a:lnTo>
                        <a:lnTo>
                          <a:pt x="436" y="6"/>
                        </a:lnTo>
                        <a:lnTo>
                          <a:pt x="439" y="5"/>
                        </a:lnTo>
                        <a:lnTo>
                          <a:pt x="442" y="5"/>
                        </a:lnTo>
                        <a:lnTo>
                          <a:pt x="444" y="5"/>
                        </a:lnTo>
                        <a:lnTo>
                          <a:pt x="447" y="4"/>
                        </a:lnTo>
                        <a:lnTo>
                          <a:pt x="450" y="4"/>
                        </a:lnTo>
                        <a:lnTo>
                          <a:pt x="453" y="4"/>
                        </a:lnTo>
                        <a:lnTo>
                          <a:pt x="455" y="4"/>
                        </a:lnTo>
                        <a:lnTo>
                          <a:pt x="455" y="3"/>
                        </a:lnTo>
                        <a:lnTo>
                          <a:pt x="458" y="3"/>
                        </a:lnTo>
                        <a:lnTo>
                          <a:pt x="461" y="3"/>
                        </a:lnTo>
                        <a:lnTo>
                          <a:pt x="464" y="3"/>
                        </a:lnTo>
                        <a:lnTo>
                          <a:pt x="466" y="3"/>
                        </a:lnTo>
                        <a:lnTo>
                          <a:pt x="469" y="2"/>
                        </a:lnTo>
                        <a:lnTo>
                          <a:pt x="472" y="2"/>
                        </a:lnTo>
                        <a:lnTo>
                          <a:pt x="475" y="2"/>
                        </a:lnTo>
                        <a:lnTo>
                          <a:pt x="477" y="2"/>
                        </a:lnTo>
                        <a:lnTo>
                          <a:pt x="480" y="2"/>
                        </a:lnTo>
                        <a:lnTo>
                          <a:pt x="483" y="2"/>
                        </a:lnTo>
                        <a:lnTo>
                          <a:pt x="486" y="2"/>
                        </a:lnTo>
                        <a:lnTo>
                          <a:pt x="488" y="1"/>
                        </a:lnTo>
                        <a:lnTo>
                          <a:pt x="491" y="1"/>
                        </a:lnTo>
                        <a:lnTo>
                          <a:pt x="494" y="1"/>
                        </a:lnTo>
                        <a:lnTo>
                          <a:pt x="497" y="1"/>
                        </a:lnTo>
                        <a:lnTo>
                          <a:pt x="499" y="1"/>
                        </a:lnTo>
                        <a:lnTo>
                          <a:pt x="502" y="1"/>
                        </a:lnTo>
                        <a:lnTo>
                          <a:pt x="505" y="1"/>
                        </a:lnTo>
                        <a:lnTo>
                          <a:pt x="508" y="1"/>
                        </a:lnTo>
                        <a:lnTo>
                          <a:pt x="510" y="1"/>
                        </a:lnTo>
                        <a:lnTo>
                          <a:pt x="513" y="1"/>
                        </a:lnTo>
                        <a:lnTo>
                          <a:pt x="516" y="1"/>
                        </a:lnTo>
                        <a:lnTo>
                          <a:pt x="519" y="1"/>
                        </a:lnTo>
                        <a:lnTo>
                          <a:pt x="521" y="1"/>
                        </a:lnTo>
                        <a:lnTo>
                          <a:pt x="524" y="1"/>
                        </a:lnTo>
                        <a:lnTo>
                          <a:pt x="527" y="0"/>
                        </a:lnTo>
                        <a:lnTo>
                          <a:pt x="530" y="0"/>
                        </a:lnTo>
                        <a:lnTo>
                          <a:pt x="532" y="0"/>
                        </a:lnTo>
                        <a:lnTo>
                          <a:pt x="535" y="0"/>
                        </a:lnTo>
                        <a:lnTo>
                          <a:pt x="538" y="0"/>
                        </a:lnTo>
                        <a:lnTo>
                          <a:pt x="541" y="0"/>
                        </a:lnTo>
                        <a:lnTo>
                          <a:pt x="543" y="0"/>
                        </a:lnTo>
                        <a:lnTo>
                          <a:pt x="546" y="0"/>
                        </a:lnTo>
                        <a:lnTo>
                          <a:pt x="549" y="0"/>
                        </a:lnTo>
                        <a:lnTo>
                          <a:pt x="552" y="0"/>
                        </a:lnTo>
                        <a:lnTo>
                          <a:pt x="554" y="0"/>
                        </a:lnTo>
                        <a:lnTo>
                          <a:pt x="557" y="0"/>
                        </a:lnTo>
                        <a:lnTo>
                          <a:pt x="560" y="0"/>
                        </a:lnTo>
                        <a:lnTo>
                          <a:pt x="563" y="0"/>
                        </a:lnTo>
                        <a:lnTo>
                          <a:pt x="565" y="0"/>
                        </a:lnTo>
                        <a:lnTo>
                          <a:pt x="568" y="0"/>
                        </a:lnTo>
                        <a:lnTo>
                          <a:pt x="571" y="0"/>
                        </a:lnTo>
                        <a:lnTo>
                          <a:pt x="574" y="0"/>
                        </a:lnTo>
                        <a:lnTo>
                          <a:pt x="576" y="0"/>
                        </a:lnTo>
                        <a:lnTo>
                          <a:pt x="579" y="0"/>
                        </a:lnTo>
                        <a:lnTo>
                          <a:pt x="582" y="0"/>
                        </a:lnTo>
                        <a:lnTo>
                          <a:pt x="585" y="0"/>
                        </a:lnTo>
                        <a:lnTo>
                          <a:pt x="587" y="0"/>
                        </a:lnTo>
                        <a:lnTo>
                          <a:pt x="590" y="0"/>
                        </a:lnTo>
                        <a:lnTo>
                          <a:pt x="593" y="0"/>
                        </a:lnTo>
                        <a:lnTo>
                          <a:pt x="596" y="0"/>
                        </a:lnTo>
                        <a:lnTo>
                          <a:pt x="598" y="0"/>
                        </a:lnTo>
                        <a:lnTo>
                          <a:pt x="601" y="0"/>
                        </a:lnTo>
                        <a:lnTo>
                          <a:pt x="604" y="0"/>
                        </a:lnTo>
                        <a:lnTo>
                          <a:pt x="607" y="0"/>
                        </a:lnTo>
                        <a:lnTo>
                          <a:pt x="609" y="0"/>
                        </a:lnTo>
                        <a:lnTo>
                          <a:pt x="612" y="0"/>
                        </a:lnTo>
                        <a:lnTo>
                          <a:pt x="615" y="0"/>
                        </a:lnTo>
                        <a:lnTo>
                          <a:pt x="618" y="0"/>
                        </a:lnTo>
                        <a:lnTo>
                          <a:pt x="620" y="0"/>
                        </a:lnTo>
                        <a:lnTo>
                          <a:pt x="623" y="0"/>
                        </a:lnTo>
                        <a:lnTo>
                          <a:pt x="626" y="0"/>
                        </a:lnTo>
                        <a:lnTo>
                          <a:pt x="629" y="0"/>
                        </a:lnTo>
                        <a:lnTo>
                          <a:pt x="631" y="0"/>
                        </a:lnTo>
                        <a:lnTo>
                          <a:pt x="634" y="0"/>
                        </a:lnTo>
                        <a:lnTo>
                          <a:pt x="637" y="0"/>
                        </a:lnTo>
                        <a:lnTo>
                          <a:pt x="640" y="0"/>
                        </a:lnTo>
                        <a:lnTo>
                          <a:pt x="642" y="0"/>
                        </a:lnTo>
                        <a:lnTo>
                          <a:pt x="645" y="0"/>
                        </a:lnTo>
                        <a:lnTo>
                          <a:pt x="648" y="0"/>
                        </a:lnTo>
                        <a:lnTo>
                          <a:pt x="651" y="0"/>
                        </a:lnTo>
                        <a:lnTo>
                          <a:pt x="653" y="0"/>
                        </a:lnTo>
                        <a:lnTo>
                          <a:pt x="656" y="0"/>
                        </a:lnTo>
                        <a:lnTo>
                          <a:pt x="658" y="0"/>
                        </a:lnTo>
                        <a:lnTo>
                          <a:pt x="661" y="0"/>
                        </a:lnTo>
                        <a:lnTo>
                          <a:pt x="664" y="0"/>
                        </a:lnTo>
                        <a:lnTo>
                          <a:pt x="667" y="0"/>
                        </a:lnTo>
                        <a:lnTo>
                          <a:pt x="669" y="0"/>
                        </a:lnTo>
                        <a:lnTo>
                          <a:pt x="672" y="0"/>
                        </a:lnTo>
                        <a:lnTo>
                          <a:pt x="675" y="0"/>
                        </a:lnTo>
                        <a:lnTo>
                          <a:pt x="678" y="0"/>
                        </a:lnTo>
                        <a:lnTo>
                          <a:pt x="680" y="0"/>
                        </a:lnTo>
                        <a:lnTo>
                          <a:pt x="683" y="0"/>
                        </a:lnTo>
                        <a:lnTo>
                          <a:pt x="686" y="0"/>
                        </a:lnTo>
                        <a:lnTo>
                          <a:pt x="689" y="0"/>
                        </a:lnTo>
                        <a:lnTo>
                          <a:pt x="691" y="0"/>
                        </a:lnTo>
                        <a:lnTo>
                          <a:pt x="694" y="0"/>
                        </a:lnTo>
                        <a:lnTo>
                          <a:pt x="697" y="0"/>
                        </a:lnTo>
                        <a:lnTo>
                          <a:pt x="700" y="0"/>
                        </a:lnTo>
                        <a:lnTo>
                          <a:pt x="702" y="0"/>
                        </a:lnTo>
                        <a:lnTo>
                          <a:pt x="705" y="0"/>
                        </a:lnTo>
                        <a:lnTo>
                          <a:pt x="708" y="0"/>
                        </a:lnTo>
                        <a:lnTo>
                          <a:pt x="711" y="0"/>
                        </a:lnTo>
                        <a:lnTo>
                          <a:pt x="713" y="0"/>
                        </a:lnTo>
                        <a:lnTo>
                          <a:pt x="716" y="0"/>
                        </a:lnTo>
                        <a:lnTo>
                          <a:pt x="719" y="0"/>
                        </a:lnTo>
                        <a:lnTo>
                          <a:pt x="722" y="0"/>
                        </a:lnTo>
                        <a:lnTo>
                          <a:pt x="724" y="0"/>
                        </a:lnTo>
                        <a:lnTo>
                          <a:pt x="727" y="0"/>
                        </a:lnTo>
                        <a:lnTo>
                          <a:pt x="730" y="0"/>
                        </a:lnTo>
                        <a:lnTo>
                          <a:pt x="733" y="0"/>
                        </a:lnTo>
                        <a:lnTo>
                          <a:pt x="735" y="0"/>
                        </a:lnTo>
                        <a:lnTo>
                          <a:pt x="738" y="0"/>
                        </a:lnTo>
                        <a:lnTo>
                          <a:pt x="741" y="0"/>
                        </a:lnTo>
                        <a:lnTo>
                          <a:pt x="744" y="0"/>
                        </a:lnTo>
                        <a:lnTo>
                          <a:pt x="746" y="0"/>
                        </a:lnTo>
                        <a:lnTo>
                          <a:pt x="749" y="0"/>
                        </a:lnTo>
                        <a:lnTo>
                          <a:pt x="752" y="0"/>
                        </a:lnTo>
                        <a:lnTo>
                          <a:pt x="755" y="0"/>
                        </a:lnTo>
                        <a:lnTo>
                          <a:pt x="75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11040" y="5073480"/>
                    <a:ext cx="1112040" cy="60804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383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2" y="0"/>
                        </a:ln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38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46" y="0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60" y="0"/>
                        </a:lnTo>
                        <a:lnTo>
                          <a:pt x="63" y="0"/>
                        </a:lnTo>
                        <a:lnTo>
                          <a:pt x="66" y="0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9" y="0"/>
                        </a:lnTo>
                        <a:lnTo>
                          <a:pt x="82" y="0"/>
                        </a:lnTo>
                        <a:lnTo>
                          <a:pt x="85" y="0"/>
                        </a:lnTo>
                        <a:lnTo>
                          <a:pt x="88" y="0"/>
                        </a:lnTo>
                        <a:lnTo>
                          <a:pt x="90" y="0"/>
                        </a:lnTo>
                        <a:lnTo>
                          <a:pt x="93" y="0"/>
                        </a:lnTo>
                        <a:lnTo>
                          <a:pt x="96" y="0"/>
                        </a:lnTo>
                        <a:lnTo>
                          <a:pt x="99" y="0"/>
                        </a:lnTo>
                        <a:lnTo>
                          <a:pt x="101" y="0"/>
                        </a:lnTo>
                        <a:lnTo>
                          <a:pt x="104" y="0"/>
                        </a:lnTo>
                        <a:lnTo>
                          <a:pt x="107" y="0"/>
                        </a:lnTo>
                        <a:lnTo>
                          <a:pt x="110" y="0"/>
                        </a:lnTo>
                        <a:lnTo>
                          <a:pt x="112" y="0"/>
                        </a:lnTo>
                        <a:lnTo>
                          <a:pt x="115" y="0"/>
                        </a:lnTo>
                        <a:lnTo>
                          <a:pt x="118" y="0"/>
                        </a:lnTo>
                        <a:lnTo>
                          <a:pt x="121" y="0"/>
                        </a:lnTo>
                        <a:lnTo>
                          <a:pt x="123" y="0"/>
                        </a:lnTo>
                        <a:lnTo>
                          <a:pt x="126" y="0"/>
                        </a:lnTo>
                        <a:lnTo>
                          <a:pt x="129" y="0"/>
                        </a:lnTo>
                        <a:lnTo>
                          <a:pt x="132" y="0"/>
                        </a:lnTo>
                        <a:lnTo>
                          <a:pt x="134" y="0"/>
                        </a:lnTo>
                        <a:lnTo>
                          <a:pt x="137" y="0"/>
                        </a:lnTo>
                        <a:lnTo>
                          <a:pt x="140" y="0"/>
                        </a:lnTo>
                        <a:lnTo>
                          <a:pt x="143" y="0"/>
                        </a:lnTo>
                        <a:lnTo>
                          <a:pt x="145" y="0"/>
                        </a:lnTo>
                        <a:lnTo>
                          <a:pt x="148" y="0"/>
                        </a:lnTo>
                        <a:lnTo>
                          <a:pt x="151" y="0"/>
                        </a:lnTo>
                        <a:lnTo>
                          <a:pt x="154" y="0"/>
                        </a:lnTo>
                        <a:lnTo>
                          <a:pt x="156" y="0"/>
                        </a:lnTo>
                        <a:lnTo>
                          <a:pt x="159" y="0"/>
                        </a:lnTo>
                        <a:lnTo>
                          <a:pt x="162" y="0"/>
                        </a:lnTo>
                        <a:lnTo>
                          <a:pt x="165" y="0"/>
                        </a:lnTo>
                        <a:lnTo>
                          <a:pt x="167" y="0"/>
                        </a:lnTo>
                        <a:lnTo>
                          <a:pt x="170" y="0"/>
                        </a:lnTo>
                        <a:lnTo>
                          <a:pt x="173" y="0"/>
                        </a:lnTo>
                        <a:lnTo>
                          <a:pt x="176" y="0"/>
                        </a:lnTo>
                        <a:lnTo>
                          <a:pt x="178" y="0"/>
                        </a:lnTo>
                        <a:lnTo>
                          <a:pt x="181" y="0"/>
                        </a:lnTo>
                        <a:lnTo>
                          <a:pt x="184" y="0"/>
                        </a:lnTo>
                        <a:lnTo>
                          <a:pt x="186" y="0"/>
                        </a:lnTo>
                        <a:lnTo>
                          <a:pt x="189" y="0"/>
                        </a:lnTo>
                        <a:lnTo>
                          <a:pt x="192" y="0"/>
                        </a:lnTo>
                        <a:lnTo>
                          <a:pt x="194" y="0"/>
                        </a:lnTo>
                        <a:lnTo>
                          <a:pt x="197" y="0"/>
                        </a:lnTo>
                        <a:lnTo>
                          <a:pt x="200" y="0"/>
                        </a:lnTo>
                        <a:lnTo>
                          <a:pt x="203" y="0"/>
                        </a:lnTo>
                        <a:lnTo>
                          <a:pt x="205" y="0"/>
                        </a:lnTo>
                        <a:lnTo>
                          <a:pt x="208" y="0"/>
                        </a:lnTo>
                        <a:lnTo>
                          <a:pt x="211" y="0"/>
                        </a:lnTo>
                        <a:lnTo>
                          <a:pt x="214" y="0"/>
                        </a:lnTo>
                        <a:lnTo>
                          <a:pt x="216" y="0"/>
                        </a:lnTo>
                        <a:lnTo>
                          <a:pt x="219" y="0"/>
                        </a:lnTo>
                        <a:lnTo>
                          <a:pt x="222" y="0"/>
                        </a:lnTo>
                        <a:lnTo>
                          <a:pt x="225" y="0"/>
                        </a:lnTo>
                        <a:lnTo>
                          <a:pt x="227" y="0"/>
                        </a:lnTo>
                        <a:lnTo>
                          <a:pt x="230" y="0"/>
                        </a:lnTo>
                        <a:lnTo>
                          <a:pt x="233" y="1"/>
                        </a:lnTo>
                        <a:lnTo>
                          <a:pt x="236" y="1"/>
                        </a:lnTo>
                        <a:lnTo>
                          <a:pt x="238" y="1"/>
                        </a:lnTo>
                        <a:lnTo>
                          <a:pt x="241" y="1"/>
                        </a:lnTo>
                        <a:lnTo>
                          <a:pt x="244" y="1"/>
                        </a:lnTo>
                        <a:lnTo>
                          <a:pt x="247" y="1"/>
                        </a:lnTo>
                        <a:lnTo>
                          <a:pt x="249" y="1"/>
                        </a:lnTo>
                        <a:lnTo>
                          <a:pt x="252" y="1"/>
                        </a:lnTo>
                        <a:lnTo>
                          <a:pt x="255" y="1"/>
                        </a:lnTo>
                        <a:lnTo>
                          <a:pt x="258" y="1"/>
                        </a:lnTo>
                        <a:lnTo>
                          <a:pt x="260" y="1"/>
                        </a:lnTo>
                        <a:lnTo>
                          <a:pt x="263" y="1"/>
                        </a:lnTo>
                        <a:lnTo>
                          <a:pt x="266" y="1"/>
                        </a:lnTo>
                        <a:lnTo>
                          <a:pt x="269" y="1"/>
                        </a:lnTo>
                        <a:lnTo>
                          <a:pt x="271" y="2"/>
                        </a:lnTo>
                        <a:lnTo>
                          <a:pt x="274" y="2"/>
                        </a:lnTo>
                        <a:lnTo>
                          <a:pt x="277" y="2"/>
                        </a:lnTo>
                        <a:lnTo>
                          <a:pt x="280" y="2"/>
                        </a:lnTo>
                        <a:lnTo>
                          <a:pt x="282" y="2"/>
                        </a:lnTo>
                        <a:lnTo>
                          <a:pt x="285" y="2"/>
                        </a:lnTo>
                        <a:lnTo>
                          <a:pt x="288" y="2"/>
                        </a:lnTo>
                        <a:lnTo>
                          <a:pt x="291" y="3"/>
                        </a:lnTo>
                        <a:lnTo>
                          <a:pt x="293" y="3"/>
                        </a:lnTo>
                        <a:lnTo>
                          <a:pt x="296" y="3"/>
                        </a:lnTo>
                        <a:lnTo>
                          <a:pt x="299" y="3"/>
                        </a:lnTo>
                        <a:lnTo>
                          <a:pt x="302" y="4"/>
                        </a:lnTo>
                        <a:lnTo>
                          <a:pt x="304" y="4"/>
                        </a:lnTo>
                        <a:lnTo>
                          <a:pt x="307" y="4"/>
                        </a:lnTo>
                        <a:lnTo>
                          <a:pt x="310" y="4"/>
                        </a:lnTo>
                        <a:lnTo>
                          <a:pt x="313" y="5"/>
                        </a:lnTo>
                        <a:lnTo>
                          <a:pt x="315" y="5"/>
                        </a:lnTo>
                        <a:lnTo>
                          <a:pt x="318" y="5"/>
                        </a:lnTo>
                        <a:lnTo>
                          <a:pt x="318" y="6"/>
                        </a:lnTo>
                        <a:lnTo>
                          <a:pt x="321" y="6"/>
                        </a:lnTo>
                        <a:lnTo>
                          <a:pt x="324" y="6"/>
                        </a:lnTo>
                        <a:lnTo>
                          <a:pt x="326" y="6"/>
                        </a:lnTo>
                        <a:lnTo>
                          <a:pt x="326" y="7"/>
                        </a:lnTo>
                        <a:lnTo>
                          <a:pt x="329" y="7"/>
                        </a:lnTo>
                        <a:lnTo>
                          <a:pt x="332" y="7"/>
                        </a:lnTo>
                        <a:lnTo>
                          <a:pt x="332" y="8"/>
                        </a:lnTo>
                        <a:lnTo>
                          <a:pt x="335" y="8"/>
                        </a:lnTo>
                        <a:lnTo>
                          <a:pt x="337" y="9"/>
                        </a:lnTo>
                        <a:lnTo>
                          <a:pt x="340" y="9"/>
                        </a:lnTo>
                        <a:lnTo>
                          <a:pt x="343" y="11"/>
                        </a:lnTo>
                        <a:lnTo>
                          <a:pt x="346" y="11"/>
                        </a:lnTo>
                        <a:lnTo>
                          <a:pt x="346" y="12"/>
                        </a:lnTo>
                        <a:lnTo>
                          <a:pt x="348" y="12"/>
                        </a:lnTo>
                        <a:lnTo>
                          <a:pt x="351" y="13"/>
                        </a:lnTo>
                        <a:lnTo>
                          <a:pt x="354" y="14"/>
                        </a:lnTo>
                        <a:lnTo>
                          <a:pt x="357" y="15"/>
                        </a:lnTo>
                        <a:lnTo>
                          <a:pt x="359" y="15"/>
                        </a:lnTo>
                        <a:lnTo>
                          <a:pt x="359" y="16"/>
                        </a:lnTo>
                        <a:lnTo>
                          <a:pt x="362" y="16"/>
                        </a:lnTo>
                        <a:lnTo>
                          <a:pt x="362" y="17"/>
                        </a:lnTo>
                        <a:lnTo>
                          <a:pt x="365" y="17"/>
                        </a:lnTo>
                        <a:lnTo>
                          <a:pt x="365" y="18"/>
                        </a:lnTo>
                        <a:lnTo>
                          <a:pt x="368" y="18"/>
                        </a:lnTo>
                        <a:lnTo>
                          <a:pt x="368" y="20"/>
                        </a:lnTo>
                        <a:lnTo>
                          <a:pt x="370" y="20"/>
                        </a:lnTo>
                        <a:lnTo>
                          <a:pt x="370" y="21"/>
                        </a:lnTo>
                        <a:lnTo>
                          <a:pt x="373" y="22"/>
                        </a:lnTo>
                        <a:lnTo>
                          <a:pt x="376" y="23"/>
                        </a:lnTo>
                        <a:lnTo>
                          <a:pt x="379" y="24"/>
                        </a:lnTo>
                        <a:lnTo>
                          <a:pt x="379" y="25"/>
                        </a:lnTo>
                        <a:lnTo>
                          <a:pt x="381" y="25"/>
                        </a:lnTo>
                        <a:lnTo>
                          <a:pt x="381" y="26"/>
                        </a:lnTo>
                        <a:lnTo>
                          <a:pt x="384" y="27"/>
                        </a:lnTo>
                        <a:lnTo>
                          <a:pt x="384" y="29"/>
                        </a:lnTo>
                        <a:lnTo>
                          <a:pt x="387" y="30"/>
                        </a:lnTo>
                        <a:lnTo>
                          <a:pt x="387" y="31"/>
                        </a:lnTo>
                        <a:lnTo>
                          <a:pt x="390" y="31"/>
                        </a:lnTo>
                        <a:lnTo>
                          <a:pt x="390" y="32"/>
                        </a:lnTo>
                        <a:lnTo>
                          <a:pt x="392" y="33"/>
                        </a:lnTo>
                        <a:lnTo>
                          <a:pt x="395" y="34"/>
                        </a:lnTo>
                        <a:lnTo>
                          <a:pt x="395" y="35"/>
                        </a:lnTo>
                        <a:lnTo>
                          <a:pt x="398" y="36"/>
                        </a:lnTo>
                        <a:lnTo>
                          <a:pt x="398" y="37"/>
                        </a:lnTo>
                        <a:lnTo>
                          <a:pt x="401" y="40"/>
                        </a:lnTo>
                        <a:lnTo>
                          <a:pt x="401" y="41"/>
                        </a:lnTo>
                        <a:lnTo>
                          <a:pt x="403" y="42"/>
                        </a:lnTo>
                        <a:lnTo>
                          <a:pt x="403" y="43"/>
                        </a:lnTo>
                        <a:lnTo>
                          <a:pt x="406" y="44"/>
                        </a:lnTo>
                        <a:lnTo>
                          <a:pt x="406" y="46"/>
                        </a:lnTo>
                        <a:lnTo>
                          <a:pt x="409" y="48"/>
                        </a:lnTo>
                        <a:lnTo>
                          <a:pt x="409" y="49"/>
                        </a:lnTo>
                        <a:lnTo>
                          <a:pt x="412" y="50"/>
                        </a:lnTo>
                        <a:lnTo>
                          <a:pt x="414" y="52"/>
                        </a:lnTo>
                        <a:lnTo>
                          <a:pt x="414" y="53"/>
                        </a:lnTo>
                        <a:lnTo>
                          <a:pt x="417" y="55"/>
                        </a:lnTo>
                        <a:lnTo>
                          <a:pt x="417" y="57"/>
                        </a:lnTo>
                        <a:lnTo>
                          <a:pt x="420" y="59"/>
                        </a:lnTo>
                        <a:lnTo>
                          <a:pt x="420" y="60"/>
                        </a:lnTo>
                        <a:lnTo>
                          <a:pt x="423" y="62"/>
                        </a:lnTo>
                        <a:lnTo>
                          <a:pt x="423" y="63"/>
                        </a:lnTo>
                        <a:lnTo>
                          <a:pt x="426" y="66"/>
                        </a:lnTo>
                        <a:lnTo>
                          <a:pt x="426" y="68"/>
                        </a:lnTo>
                        <a:lnTo>
                          <a:pt x="428" y="70"/>
                        </a:lnTo>
                        <a:lnTo>
                          <a:pt x="431" y="71"/>
                        </a:lnTo>
                        <a:lnTo>
                          <a:pt x="431" y="73"/>
                        </a:lnTo>
                        <a:lnTo>
                          <a:pt x="434" y="76"/>
                        </a:lnTo>
                        <a:lnTo>
                          <a:pt x="434" y="78"/>
                        </a:lnTo>
                        <a:lnTo>
                          <a:pt x="437" y="80"/>
                        </a:lnTo>
                        <a:lnTo>
                          <a:pt x="437" y="82"/>
                        </a:lnTo>
                        <a:lnTo>
                          <a:pt x="439" y="84"/>
                        </a:lnTo>
                        <a:lnTo>
                          <a:pt x="439" y="87"/>
                        </a:lnTo>
                        <a:lnTo>
                          <a:pt x="442" y="89"/>
                        </a:lnTo>
                        <a:lnTo>
                          <a:pt x="442" y="91"/>
                        </a:lnTo>
                        <a:lnTo>
                          <a:pt x="444" y="93"/>
                        </a:lnTo>
                        <a:lnTo>
                          <a:pt x="444" y="96"/>
                        </a:lnTo>
                        <a:lnTo>
                          <a:pt x="447" y="98"/>
                        </a:lnTo>
                        <a:lnTo>
                          <a:pt x="450" y="100"/>
                        </a:lnTo>
                        <a:lnTo>
                          <a:pt x="450" y="104"/>
                        </a:lnTo>
                        <a:lnTo>
                          <a:pt x="453" y="106"/>
                        </a:lnTo>
                        <a:lnTo>
                          <a:pt x="453" y="108"/>
                        </a:lnTo>
                        <a:lnTo>
                          <a:pt x="455" y="110"/>
                        </a:lnTo>
                        <a:lnTo>
                          <a:pt x="455" y="114"/>
                        </a:lnTo>
                        <a:lnTo>
                          <a:pt x="458" y="116"/>
                        </a:lnTo>
                        <a:lnTo>
                          <a:pt x="458" y="119"/>
                        </a:lnTo>
                        <a:lnTo>
                          <a:pt x="461" y="122"/>
                        </a:lnTo>
                        <a:lnTo>
                          <a:pt x="461" y="124"/>
                        </a:lnTo>
                        <a:lnTo>
                          <a:pt x="464" y="127"/>
                        </a:lnTo>
                        <a:lnTo>
                          <a:pt x="464" y="129"/>
                        </a:lnTo>
                        <a:lnTo>
                          <a:pt x="466" y="133"/>
                        </a:lnTo>
                        <a:lnTo>
                          <a:pt x="469" y="135"/>
                        </a:lnTo>
                        <a:lnTo>
                          <a:pt x="469" y="138"/>
                        </a:lnTo>
                        <a:lnTo>
                          <a:pt x="472" y="141"/>
                        </a:lnTo>
                        <a:lnTo>
                          <a:pt x="472" y="144"/>
                        </a:lnTo>
                        <a:lnTo>
                          <a:pt x="475" y="147"/>
                        </a:lnTo>
                        <a:lnTo>
                          <a:pt x="475" y="150"/>
                        </a:lnTo>
                        <a:lnTo>
                          <a:pt x="477" y="153"/>
                        </a:lnTo>
                        <a:lnTo>
                          <a:pt x="477" y="155"/>
                        </a:lnTo>
                        <a:lnTo>
                          <a:pt x="480" y="159"/>
                        </a:lnTo>
                        <a:lnTo>
                          <a:pt x="480" y="162"/>
                        </a:lnTo>
                        <a:lnTo>
                          <a:pt x="483" y="164"/>
                        </a:lnTo>
                        <a:lnTo>
                          <a:pt x="486" y="167"/>
                        </a:lnTo>
                        <a:lnTo>
                          <a:pt x="486" y="171"/>
                        </a:lnTo>
                        <a:lnTo>
                          <a:pt x="488" y="173"/>
                        </a:lnTo>
                        <a:lnTo>
                          <a:pt x="488" y="176"/>
                        </a:lnTo>
                        <a:lnTo>
                          <a:pt x="491" y="180"/>
                        </a:lnTo>
                        <a:lnTo>
                          <a:pt x="491" y="182"/>
                        </a:lnTo>
                        <a:lnTo>
                          <a:pt x="494" y="185"/>
                        </a:lnTo>
                        <a:lnTo>
                          <a:pt x="494" y="189"/>
                        </a:lnTo>
                        <a:lnTo>
                          <a:pt x="497" y="191"/>
                        </a:lnTo>
                        <a:lnTo>
                          <a:pt x="497" y="194"/>
                        </a:lnTo>
                        <a:lnTo>
                          <a:pt x="499" y="198"/>
                        </a:lnTo>
                        <a:lnTo>
                          <a:pt x="499" y="200"/>
                        </a:lnTo>
                        <a:lnTo>
                          <a:pt x="502" y="203"/>
                        </a:lnTo>
                        <a:lnTo>
                          <a:pt x="505" y="207"/>
                        </a:lnTo>
                        <a:lnTo>
                          <a:pt x="505" y="209"/>
                        </a:lnTo>
                        <a:lnTo>
                          <a:pt x="508" y="212"/>
                        </a:lnTo>
                        <a:lnTo>
                          <a:pt x="508" y="215"/>
                        </a:lnTo>
                        <a:lnTo>
                          <a:pt x="510" y="218"/>
                        </a:lnTo>
                        <a:lnTo>
                          <a:pt x="510" y="220"/>
                        </a:lnTo>
                        <a:lnTo>
                          <a:pt x="513" y="224"/>
                        </a:lnTo>
                        <a:lnTo>
                          <a:pt x="513" y="227"/>
                        </a:lnTo>
                        <a:lnTo>
                          <a:pt x="516" y="229"/>
                        </a:lnTo>
                        <a:lnTo>
                          <a:pt x="516" y="233"/>
                        </a:lnTo>
                        <a:lnTo>
                          <a:pt x="519" y="235"/>
                        </a:lnTo>
                        <a:lnTo>
                          <a:pt x="521" y="237"/>
                        </a:lnTo>
                        <a:lnTo>
                          <a:pt x="521" y="240"/>
                        </a:lnTo>
                        <a:lnTo>
                          <a:pt x="524" y="242"/>
                        </a:lnTo>
                        <a:lnTo>
                          <a:pt x="524" y="246"/>
                        </a:lnTo>
                        <a:lnTo>
                          <a:pt x="527" y="248"/>
                        </a:lnTo>
                        <a:lnTo>
                          <a:pt x="527" y="250"/>
                        </a:lnTo>
                        <a:lnTo>
                          <a:pt x="530" y="254"/>
                        </a:lnTo>
                        <a:lnTo>
                          <a:pt x="530" y="256"/>
                        </a:lnTo>
                        <a:lnTo>
                          <a:pt x="532" y="258"/>
                        </a:lnTo>
                        <a:lnTo>
                          <a:pt x="532" y="260"/>
                        </a:lnTo>
                        <a:lnTo>
                          <a:pt x="535" y="264"/>
                        </a:lnTo>
                        <a:lnTo>
                          <a:pt x="535" y="266"/>
                        </a:lnTo>
                        <a:lnTo>
                          <a:pt x="538" y="268"/>
                        </a:lnTo>
                        <a:lnTo>
                          <a:pt x="541" y="271"/>
                        </a:lnTo>
                        <a:lnTo>
                          <a:pt x="541" y="273"/>
                        </a:lnTo>
                        <a:lnTo>
                          <a:pt x="543" y="275"/>
                        </a:lnTo>
                        <a:lnTo>
                          <a:pt x="543" y="277"/>
                        </a:lnTo>
                        <a:lnTo>
                          <a:pt x="546" y="279"/>
                        </a:lnTo>
                        <a:lnTo>
                          <a:pt x="546" y="282"/>
                        </a:lnTo>
                        <a:lnTo>
                          <a:pt x="549" y="284"/>
                        </a:lnTo>
                        <a:lnTo>
                          <a:pt x="549" y="286"/>
                        </a:lnTo>
                        <a:lnTo>
                          <a:pt x="552" y="288"/>
                        </a:lnTo>
                        <a:lnTo>
                          <a:pt x="552" y="291"/>
                        </a:lnTo>
                        <a:lnTo>
                          <a:pt x="554" y="293"/>
                        </a:lnTo>
                        <a:lnTo>
                          <a:pt x="557" y="295"/>
                        </a:lnTo>
                        <a:lnTo>
                          <a:pt x="557" y="296"/>
                        </a:lnTo>
                        <a:lnTo>
                          <a:pt x="560" y="299"/>
                        </a:lnTo>
                        <a:lnTo>
                          <a:pt x="560" y="301"/>
                        </a:lnTo>
                        <a:lnTo>
                          <a:pt x="563" y="303"/>
                        </a:lnTo>
                        <a:lnTo>
                          <a:pt x="563" y="304"/>
                        </a:lnTo>
                        <a:lnTo>
                          <a:pt x="565" y="306"/>
                        </a:lnTo>
                        <a:lnTo>
                          <a:pt x="565" y="309"/>
                        </a:lnTo>
                        <a:lnTo>
                          <a:pt x="568" y="310"/>
                        </a:lnTo>
                        <a:lnTo>
                          <a:pt x="568" y="312"/>
                        </a:lnTo>
                        <a:lnTo>
                          <a:pt x="571" y="313"/>
                        </a:lnTo>
                        <a:lnTo>
                          <a:pt x="571" y="315"/>
                        </a:lnTo>
                        <a:lnTo>
                          <a:pt x="574" y="317"/>
                        </a:lnTo>
                        <a:lnTo>
                          <a:pt x="576" y="319"/>
                        </a:lnTo>
                        <a:lnTo>
                          <a:pt x="576" y="320"/>
                        </a:lnTo>
                        <a:lnTo>
                          <a:pt x="579" y="322"/>
                        </a:lnTo>
                        <a:lnTo>
                          <a:pt x="579" y="323"/>
                        </a:lnTo>
                        <a:lnTo>
                          <a:pt x="582" y="325"/>
                        </a:lnTo>
                        <a:lnTo>
                          <a:pt x="582" y="326"/>
                        </a:lnTo>
                        <a:lnTo>
                          <a:pt x="585" y="328"/>
                        </a:lnTo>
                        <a:lnTo>
                          <a:pt x="585" y="329"/>
                        </a:lnTo>
                        <a:lnTo>
                          <a:pt x="587" y="331"/>
                        </a:lnTo>
                        <a:lnTo>
                          <a:pt x="587" y="332"/>
                        </a:lnTo>
                        <a:lnTo>
                          <a:pt x="590" y="333"/>
                        </a:lnTo>
                        <a:lnTo>
                          <a:pt x="593" y="334"/>
                        </a:lnTo>
                        <a:lnTo>
                          <a:pt x="593" y="337"/>
                        </a:lnTo>
                        <a:lnTo>
                          <a:pt x="596" y="338"/>
                        </a:lnTo>
                        <a:lnTo>
                          <a:pt x="596" y="339"/>
                        </a:lnTo>
                        <a:lnTo>
                          <a:pt x="598" y="340"/>
                        </a:lnTo>
                        <a:lnTo>
                          <a:pt x="598" y="341"/>
                        </a:lnTo>
                        <a:lnTo>
                          <a:pt x="601" y="342"/>
                        </a:lnTo>
                        <a:lnTo>
                          <a:pt x="601" y="343"/>
                        </a:lnTo>
                        <a:lnTo>
                          <a:pt x="604" y="344"/>
                        </a:lnTo>
                        <a:lnTo>
                          <a:pt x="604" y="346"/>
                        </a:lnTo>
                        <a:lnTo>
                          <a:pt x="607" y="347"/>
                        </a:lnTo>
                        <a:lnTo>
                          <a:pt x="607" y="348"/>
                        </a:lnTo>
                        <a:lnTo>
                          <a:pt x="609" y="349"/>
                        </a:lnTo>
                        <a:lnTo>
                          <a:pt x="612" y="350"/>
                        </a:lnTo>
                        <a:lnTo>
                          <a:pt x="612" y="351"/>
                        </a:lnTo>
                        <a:lnTo>
                          <a:pt x="615" y="352"/>
                        </a:lnTo>
                        <a:lnTo>
                          <a:pt x="618" y="353"/>
                        </a:lnTo>
                        <a:lnTo>
                          <a:pt x="618" y="355"/>
                        </a:lnTo>
                        <a:lnTo>
                          <a:pt x="620" y="356"/>
                        </a:lnTo>
                        <a:lnTo>
                          <a:pt x="620" y="357"/>
                        </a:lnTo>
                        <a:lnTo>
                          <a:pt x="623" y="357"/>
                        </a:lnTo>
                        <a:lnTo>
                          <a:pt x="623" y="358"/>
                        </a:lnTo>
                        <a:lnTo>
                          <a:pt x="626" y="359"/>
                        </a:lnTo>
                        <a:lnTo>
                          <a:pt x="626" y="360"/>
                        </a:lnTo>
                        <a:lnTo>
                          <a:pt x="629" y="360"/>
                        </a:lnTo>
                        <a:lnTo>
                          <a:pt x="631" y="361"/>
                        </a:lnTo>
                        <a:lnTo>
                          <a:pt x="634" y="362"/>
                        </a:lnTo>
                        <a:lnTo>
                          <a:pt x="634" y="364"/>
                        </a:lnTo>
                        <a:lnTo>
                          <a:pt x="637" y="364"/>
                        </a:lnTo>
                        <a:lnTo>
                          <a:pt x="637" y="365"/>
                        </a:lnTo>
                        <a:lnTo>
                          <a:pt x="640" y="365"/>
                        </a:lnTo>
                        <a:lnTo>
                          <a:pt x="640" y="366"/>
                        </a:lnTo>
                        <a:lnTo>
                          <a:pt x="642" y="367"/>
                        </a:lnTo>
                        <a:lnTo>
                          <a:pt x="645" y="368"/>
                        </a:lnTo>
                        <a:lnTo>
                          <a:pt x="648" y="368"/>
                        </a:lnTo>
                        <a:lnTo>
                          <a:pt x="648" y="369"/>
                        </a:lnTo>
                        <a:lnTo>
                          <a:pt x="651" y="369"/>
                        </a:lnTo>
                        <a:lnTo>
                          <a:pt x="653" y="370"/>
                        </a:lnTo>
                        <a:lnTo>
                          <a:pt x="656" y="371"/>
                        </a:lnTo>
                        <a:lnTo>
                          <a:pt x="659" y="373"/>
                        </a:lnTo>
                        <a:lnTo>
                          <a:pt x="662" y="373"/>
                        </a:lnTo>
                        <a:lnTo>
                          <a:pt x="662" y="374"/>
                        </a:lnTo>
                        <a:lnTo>
                          <a:pt x="664" y="374"/>
                        </a:lnTo>
                        <a:lnTo>
                          <a:pt x="667" y="374"/>
                        </a:lnTo>
                        <a:lnTo>
                          <a:pt x="667" y="375"/>
                        </a:lnTo>
                        <a:lnTo>
                          <a:pt x="670" y="375"/>
                        </a:lnTo>
                        <a:lnTo>
                          <a:pt x="673" y="376"/>
                        </a:lnTo>
                        <a:lnTo>
                          <a:pt x="675" y="376"/>
                        </a:lnTo>
                        <a:lnTo>
                          <a:pt x="678" y="377"/>
                        </a:lnTo>
                        <a:lnTo>
                          <a:pt x="681" y="377"/>
                        </a:lnTo>
                        <a:lnTo>
                          <a:pt x="684" y="377"/>
                        </a:lnTo>
                        <a:lnTo>
                          <a:pt x="684" y="378"/>
                        </a:lnTo>
                        <a:lnTo>
                          <a:pt x="686" y="378"/>
                        </a:lnTo>
                        <a:lnTo>
                          <a:pt x="689" y="378"/>
                        </a:lnTo>
                        <a:lnTo>
                          <a:pt x="692" y="378"/>
                        </a:lnTo>
                        <a:lnTo>
                          <a:pt x="692" y="379"/>
                        </a:lnTo>
                        <a:lnTo>
                          <a:pt x="695" y="379"/>
                        </a:lnTo>
                        <a:lnTo>
                          <a:pt x="697" y="379"/>
                        </a:lnTo>
                        <a:lnTo>
                          <a:pt x="700" y="379"/>
                        </a:lnTo>
                        <a:lnTo>
                          <a:pt x="702" y="379"/>
                        </a:lnTo>
                        <a:lnTo>
                          <a:pt x="702" y="380"/>
                        </a:lnTo>
                        <a:lnTo>
                          <a:pt x="705" y="380"/>
                        </a:lnTo>
                        <a:lnTo>
                          <a:pt x="708" y="380"/>
                        </a:lnTo>
                        <a:lnTo>
                          <a:pt x="711" y="380"/>
                        </a:lnTo>
                        <a:lnTo>
                          <a:pt x="713" y="380"/>
                        </a:lnTo>
                        <a:lnTo>
                          <a:pt x="716" y="380"/>
                        </a:lnTo>
                        <a:lnTo>
                          <a:pt x="719" y="380"/>
                        </a:lnTo>
                        <a:lnTo>
                          <a:pt x="722" y="382"/>
                        </a:lnTo>
                        <a:lnTo>
                          <a:pt x="724" y="382"/>
                        </a:lnTo>
                        <a:lnTo>
                          <a:pt x="727" y="382"/>
                        </a:lnTo>
                        <a:lnTo>
                          <a:pt x="730" y="382"/>
                        </a:lnTo>
                        <a:lnTo>
                          <a:pt x="733" y="382"/>
                        </a:lnTo>
                        <a:lnTo>
                          <a:pt x="735" y="382"/>
                        </a:lnTo>
                        <a:lnTo>
                          <a:pt x="738" y="382"/>
                        </a:lnTo>
                        <a:lnTo>
                          <a:pt x="741" y="382"/>
                        </a:lnTo>
                        <a:lnTo>
                          <a:pt x="744" y="382"/>
                        </a:lnTo>
                        <a:lnTo>
                          <a:pt x="746" y="382"/>
                        </a:lnTo>
                        <a:lnTo>
                          <a:pt x="749" y="382"/>
                        </a:lnTo>
                        <a:lnTo>
                          <a:pt x="752" y="382"/>
                        </a:lnTo>
                        <a:lnTo>
                          <a:pt x="755" y="382"/>
                        </a:lnTo>
                        <a:lnTo>
                          <a:pt x="758" y="3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1483920" y="5073480"/>
                  <a:ext cx="1547280" cy="608040"/>
                  <a:chOff x="1483920" y="5073480"/>
                  <a:chExt cx="1547280" cy="60804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1919160" y="5073480"/>
                    <a:ext cx="1112040" cy="60804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383">
                        <a:moveTo>
                          <a:pt x="0" y="382"/>
                        </a:moveTo>
                        <a:lnTo>
                          <a:pt x="2" y="382"/>
                        </a:lnTo>
                        <a:lnTo>
                          <a:pt x="5" y="382"/>
                        </a:lnTo>
                        <a:lnTo>
                          <a:pt x="8" y="382"/>
                        </a:lnTo>
                        <a:lnTo>
                          <a:pt x="11" y="382"/>
                        </a:lnTo>
                        <a:lnTo>
                          <a:pt x="13" y="382"/>
                        </a:lnTo>
                        <a:lnTo>
                          <a:pt x="16" y="382"/>
                        </a:lnTo>
                        <a:lnTo>
                          <a:pt x="19" y="382"/>
                        </a:lnTo>
                        <a:lnTo>
                          <a:pt x="22" y="382"/>
                        </a:lnTo>
                        <a:lnTo>
                          <a:pt x="24" y="382"/>
                        </a:lnTo>
                        <a:lnTo>
                          <a:pt x="27" y="382"/>
                        </a:lnTo>
                        <a:lnTo>
                          <a:pt x="30" y="382"/>
                        </a:lnTo>
                        <a:lnTo>
                          <a:pt x="33" y="382"/>
                        </a:lnTo>
                        <a:lnTo>
                          <a:pt x="35" y="382"/>
                        </a:lnTo>
                        <a:lnTo>
                          <a:pt x="38" y="380"/>
                        </a:lnTo>
                        <a:lnTo>
                          <a:pt x="41" y="380"/>
                        </a:lnTo>
                        <a:lnTo>
                          <a:pt x="44" y="380"/>
                        </a:lnTo>
                        <a:lnTo>
                          <a:pt x="46" y="380"/>
                        </a:lnTo>
                        <a:lnTo>
                          <a:pt x="49" y="380"/>
                        </a:lnTo>
                        <a:lnTo>
                          <a:pt x="52" y="380"/>
                        </a:lnTo>
                        <a:lnTo>
                          <a:pt x="55" y="380"/>
                        </a:lnTo>
                        <a:lnTo>
                          <a:pt x="55" y="379"/>
                        </a:lnTo>
                        <a:lnTo>
                          <a:pt x="57" y="379"/>
                        </a:lnTo>
                        <a:lnTo>
                          <a:pt x="60" y="379"/>
                        </a:lnTo>
                        <a:lnTo>
                          <a:pt x="63" y="379"/>
                        </a:lnTo>
                        <a:lnTo>
                          <a:pt x="66" y="379"/>
                        </a:lnTo>
                        <a:lnTo>
                          <a:pt x="66" y="378"/>
                        </a:lnTo>
                        <a:lnTo>
                          <a:pt x="68" y="378"/>
                        </a:lnTo>
                        <a:lnTo>
                          <a:pt x="71" y="378"/>
                        </a:lnTo>
                        <a:lnTo>
                          <a:pt x="74" y="378"/>
                        </a:lnTo>
                        <a:lnTo>
                          <a:pt x="74" y="377"/>
                        </a:lnTo>
                        <a:lnTo>
                          <a:pt x="77" y="377"/>
                        </a:lnTo>
                        <a:lnTo>
                          <a:pt x="79" y="377"/>
                        </a:lnTo>
                        <a:lnTo>
                          <a:pt x="82" y="376"/>
                        </a:lnTo>
                        <a:lnTo>
                          <a:pt x="85" y="376"/>
                        </a:lnTo>
                        <a:lnTo>
                          <a:pt x="88" y="375"/>
                        </a:lnTo>
                        <a:lnTo>
                          <a:pt x="90" y="375"/>
                        </a:lnTo>
                        <a:lnTo>
                          <a:pt x="90" y="374"/>
                        </a:lnTo>
                        <a:lnTo>
                          <a:pt x="93" y="374"/>
                        </a:lnTo>
                        <a:lnTo>
                          <a:pt x="96" y="373"/>
                        </a:lnTo>
                        <a:lnTo>
                          <a:pt x="99" y="373"/>
                        </a:lnTo>
                        <a:lnTo>
                          <a:pt x="101" y="371"/>
                        </a:lnTo>
                        <a:lnTo>
                          <a:pt x="104" y="370"/>
                        </a:lnTo>
                        <a:lnTo>
                          <a:pt x="107" y="369"/>
                        </a:lnTo>
                        <a:lnTo>
                          <a:pt x="110" y="369"/>
                        </a:lnTo>
                        <a:lnTo>
                          <a:pt x="110" y="368"/>
                        </a:lnTo>
                        <a:lnTo>
                          <a:pt x="112" y="368"/>
                        </a:lnTo>
                        <a:lnTo>
                          <a:pt x="112" y="367"/>
                        </a:lnTo>
                        <a:lnTo>
                          <a:pt x="115" y="367"/>
                        </a:lnTo>
                        <a:lnTo>
                          <a:pt x="118" y="366"/>
                        </a:lnTo>
                        <a:lnTo>
                          <a:pt x="118" y="365"/>
                        </a:lnTo>
                        <a:lnTo>
                          <a:pt x="121" y="365"/>
                        </a:lnTo>
                        <a:lnTo>
                          <a:pt x="121" y="364"/>
                        </a:lnTo>
                        <a:lnTo>
                          <a:pt x="123" y="364"/>
                        </a:lnTo>
                        <a:lnTo>
                          <a:pt x="123" y="362"/>
                        </a:lnTo>
                        <a:lnTo>
                          <a:pt x="126" y="361"/>
                        </a:lnTo>
                        <a:lnTo>
                          <a:pt x="129" y="360"/>
                        </a:lnTo>
                        <a:lnTo>
                          <a:pt x="132" y="359"/>
                        </a:lnTo>
                        <a:lnTo>
                          <a:pt x="134" y="358"/>
                        </a:lnTo>
                        <a:lnTo>
                          <a:pt x="134" y="357"/>
                        </a:lnTo>
                        <a:lnTo>
                          <a:pt x="137" y="357"/>
                        </a:lnTo>
                        <a:lnTo>
                          <a:pt x="137" y="356"/>
                        </a:lnTo>
                        <a:lnTo>
                          <a:pt x="140" y="355"/>
                        </a:lnTo>
                        <a:lnTo>
                          <a:pt x="140" y="353"/>
                        </a:lnTo>
                        <a:lnTo>
                          <a:pt x="143" y="352"/>
                        </a:lnTo>
                        <a:lnTo>
                          <a:pt x="145" y="351"/>
                        </a:lnTo>
                        <a:lnTo>
                          <a:pt x="145" y="350"/>
                        </a:lnTo>
                        <a:lnTo>
                          <a:pt x="148" y="349"/>
                        </a:lnTo>
                        <a:lnTo>
                          <a:pt x="148" y="348"/>
                        </a:lnTo>
                        <a:lnTo>
                          <a:pt x="150" y="347"/>
                        </a:lnTo>
                        <a:lnTo>
                          <a:pt x="153" y="346"/>
                        </a:lnTo>
                        <a:lnTo>
                          <a:pt x="153" y="344"/>
                        </a:lnTo>
                        <a:lnTo>
                          <a:pt x="156" y="343"/>
                        </a:lnTo>
                        <a:lnTo>
                          <a:pt x="156" y="342"/>
                        </a:lnTo>
                        <a:lnTo>
                          <a:pt x="159" y="341"/>
                        </a:lnTo>
                        <a:lnTo>
                          <a:pt x="159" y="340"/>
                        </a:lnTo>
                        <a:lnTo>
                          <a:pt x="161" y="339"/>
                        </a:lnTo>
                        <a:lnTo>
                          <a:pt x="161" y="338"/>
                        </a:lnTo>
                        <a:lnTo>
                          <a:pt x="164" y="337"/>
                        </a:lnTo>
                        <a:lnTo>
                          <a:pt x="164" y="334"/>
                        </a:lnTo>
                        <a:lnTo>
                          <a:pt x="167" y="333"/>
                        </a:lnTo>
                        <a:lnTo>
                          <a:pt x="167" y="332"/>
                        </a:lnTo>
                        <a:lnTo>
                          <a:pt x="170" y="331"/>
                        </a:lnTo>
                        <a:lnTo>
                          <a:pt x="172" y="329"/>
                        </a:lnTo>
                        <a:lnTo>
                          <a:pt x="172" y="328"/>
                        </a:lnTo>
                        <a:lnTo>
                          <a:pt x="175" y="326"/>
                        </a:lnTo>
                        <a:lnTo>
                          <a:pt x="175" y="325"/>
                        </a:lnTo>
                        <a:lnTo>
                          <a:pt x="178" y="323"/>
                        </a:lnTo>
                        <a:lnTo>
                          <a:pt x="178" y="322"/>
                        </a:lnTo>
                        <a:lnTo>
                          <a:pt x="181" y="320"/>
                        </a:lnTo>
                        <a:lnTo>
                          <a:pt x="181" y="319"/>
                        </a:lnTo>
                        <a:lnTo>
                          <a:pt x="183" y="317"/>
                        </a:lnTo>
                        <a:lnTo>
                          <a:pt x="183" y="315"/>
                        </a:lnTo>
                        <a:lnTo>
                          <a:pt x="186" y="313"/>
                        </a:lnTo>
                        <a:lnTo>
                          <a:pt x="189" y="312"/>
                        </a:lnTo>
                        <a:lnTo>
                          <a:pt x="189" y="310"/>
                        </a:lnTo>
                        <a:lnTo>
                          <a:pt x="192" y="309"/>
                        </a:lnTo>
                        <a:lnTo>
                          <a:pt x="192" y="306"/>
                        </a:lnTo>
                        <a:lnTo>
                          <a:pt x="194" y="304"/>
                        </a:lnTo>
                        <a:lnTo>
                          <a:pt x="194" y="303"/>
                        </a:lnTo>
                        <a:lnTo>
                          <a:pt x="197" y="301"/>
                        </a:lnTo>
                        <a:lnTo>
                          <a:pt x="197" y="299"/>
                        </a:lnTo>
                        <a:lnTo>
                          <a:pt x="200" y="296"/>
                        </a:lnTo>
                        <a:lnTo>
                          <a:pt x="200" y="295"/>
                        </a:lnTo>
                        <a:lnTo>
                          <a:pt x="203" y="293"/>
                        </a:lnTo>
                        <a:lnTo>
                          <a:pt x="203" y="291"/>
                        </a:lnTo>
                        <a:lnTo>
                          <a:pt x="205" y="288"/>
                        </a:lnTo>
                        <a:lnTo>
                          <a:pt x="208" y="286"/>
                        </a:lnTo>
                        <a:lnTo>
                          <a:pt x="208" y="284"/>
                        </a:lnTo>
                        <a:lnTo>
                          <a:pt x="211" y="282"/>
                        </a:lnTo>
                        <a:lnTo>
                          <a:pt x="211" y="279"/>
                        </a:lnTo>
                        <a:lnTo>
                          <a:pt x="214" y="277"/>
                        </a:lnTo>
                        <a:lnTo>
                          <a:pt x="214" y="275"/>
                        </a:lnTo>
                        <a:lnTo>
                          <a:pt x="216" y="273"/>
                        </a:lnTo>
                        <a:lnTo>
                          <a:pt x="216" y="271"/>
                        </a:lnTo>
                        <a:lnTo>
                          <a:pt x="219" y="268"/>
                        </a:lnTo>
                        <a:lnTo>
                          <a:pt x="219" y="266"/>
                        </a:lnTo>
                        <a:lnTo>
                          <a:pt x="222" y="264"/>
                        </a:lnTo>
                        <a:lnTo>
                          <a:pt x="225" y="260"/>
                        </a:lnTo>
                        <a:lnTo>
                          <a:pt x="225" y="258"/>
                        </a:lnTo>
                        <a:lnTo>
                          <a:pt x="227" y="256"/>
                        </a:lnTo>
                        <a:lnTo>
                          <a:pt x="227" y="254"/>
                        </a:lnTo>
                        <a:lnTo>
                          <a:pt x="230" y="250"/>
                        </a:lnTo>
                        <a:lnTo>
                          <a:pt x="230" y="248"/>
                        </a:lnTo>
                        <a:lnTo>
                          <a:pt x="233" y="246"/>
                        </a:lnTo>
                        <a:lnTo>
                          <a:pt x="233" y="242"/>
                        </a:lnTo>
                        <a:lnTo>
                          <a:pt x="236" y="240"/>
                        </a:lnTo>
                        <a:lnTo>
                          <a:pt x="236" y="237"/>
                        </a:lnTo>
                        <a:lnTo>
                          <a:pt x="238" y="235"/>
                        </a:lnTo>
                        <a:lnTo>
                          <a:pt x="238" y="233"/>
                        </a:lnTo>
                        <a:lnTo>
                          <a:pt x="241" y="229"/>
                        </a:lnTo>
                        <a:lnTo>
                          <a:pt x="244" y="227"/>
                        </a:lnTo>
                        <a:lnTo>
                          <a:pt x="244" y="224"/>
                        </a:lnTo>
                        <a:lnTo>
                          <a:pt x="247" y="220"/>
                        </a:lnTo>
                        <a:lnTo>
                          <a:pt x="247" y="218"/>
                        </a:lnTo>
                        <a:lnTo>
                          <a:pt x="249" y="215"/>
                        </a:lnTo>
                        <a:lnTo>
                          <a:pt x="249" y="212"/>
                        </a:lnTo>
                        <a:lnTo>
                          <a:pt x="252" y="209"/>
                        </a:lnTo>
                        <a:lnTo>
                          <a:pt x="252" y="207"/>
                        </a:lnTo>
                        <a:lnTo>
                          <a:pt x="255" y="203"/>
                        </a:lnTo>
                        <a:lnTo>
                          <a:pt x="255" y="200"/>
                        </a:lnTo>
                        <a:lnTo>
                          <a:pt x="258" y="198"/>
                        </a:lnTo>
                        <a:lnTo>
                          <a:pt x="260" y="194"/>
                        </a:lnTo>
                        <a:lnTo>
                          <a:pt x="260" y="191"/>
                        </a:lnTo>
                        <a:lnTo>
                          <a:pt x="263" y="189"/>
                        </a:lnTo>
                        <a:lnTo>
                          <a:pt x="263" y="185"/>
                        </a:lnTo>
                        <a:lnTo>
                          <a:pt x="266" y="182"/>
                        </a:lnTo>
                        <a:lnTo>
                          <a:pt x="266" y="180"/>
                        </a:lnTo>
                        <a:lnTo>
                          <a:pt x="269" y="176"/>
                        </a:lnTo>
                        <a:lnTo>
                          <a:pt x="269" y="173"/>
                        </a:lnTo>
                        <a:lnTo>
                          <a:pt x="271" y="171"/>
                        </a:lnTo>
                        <a:lnTo>
                          <a:pt x="271" y="167"/>
                        </a:lnTo>
                        <a:lnTo>
                          <a:pt x="274" y="164"/>
                        </a:lnTo>
                        <a:lnTo>
                          <a:pt x="274" y="162"/>
                        </a:lnTo>
                        <a:lnTo>
                          <a:pt x="277" y="159"/>
                        </a:lnTo>
                        <a:lnTo>
                          <a:pt x="280" y="155"/>
                        </a:lnTo>
                        <a:lnTo>
                          <a:pt x="280" y="153"/>
                        </a:lnTo>
                        <a:lnTo>
                          <a:pt x="282" y="150"/>
                        </a:lnTo>
                        <a:lnTo>
                          <a:pt x="282" y="147"/>
                        </a:lnTo>
                        <a:lnTo>
                          <a:pt x="285" y="144"/>
                        </a:lnTo>
                        <a:lnTo>
                          <a:pt x="285" y="141"/>
                        </a:lnTo>
                        <a:lnTo>
                          <a:pt x="288" y="138"/>
                        </a:lnTo>
                        <a:lnTo>
                          <a:pt x="288" y="135"/>
                        </a:lnTo>
                        <a:lnTo>
                          <a:pt x="291" y="133"/>
                        </a:lnTo>
                        <a:lnTo>
                          <a:pt x="291" y="129"/>
                        </a:lnTo>
                        <a:lnTo>
                          <a:pt x="293" y="127"/>
                        </a:lnTo>
                        <a:lnTo>
                          <a:pt x="296" y="124"/>
                        </a:lnTo>
                        <a:lnTo>
                          <a:pt x="296" y="122"/>
                        </a:lnTo>
                        <a:lnTo>
                          <a:pt x="299" y="119"/>
                        </a:lnTo>
                        <a:lnTo>
                          <a:pt x="299" y="116"/>
                        </a:lnTo>
                        <a:lnTo>
                          <a:pt x="302" y="114"/>
                        </a:lnTo>
                        <a:lnTo>
                          <a:pt x="302" y="110"/>
                        </a:lnTo>
                        <a:lnTo>
                          <a:pt x="304" y="108"/>
                        </a:lnTo>
                        <a:lnTo>
                          <a:pt x="304" y="106"/>
                        </a:lnTo>
                        <a:lnTo>
                          <a:pt x="307" y="104"/>
                        </a:lnTo>
                        <a:lnTo>
                          <a:pt x="307" y="100"/>
                        </a:lnTo>
                        <a:lnTo>
                          <a:pt x="310" y="98"/>
                        </a:lnTo>
                        <a:lnTo>
                          <a:pt x="310" y="96"/>
                        </a:lnTo>
                        <a:lnTo>
                          <a:pt x="313" y="93"/>
                        </a:lnTo>
                        <a:lnTo>
                          <a:pt x="315" y="91"/>
                        </a:lnTo>
                        <a:lnTo>
                          <a:pt x="315" y="89"/>
                        </a:lnTo>
                        <a:lnTo>
                          <a:pt x="318" y="87"/>
                        </a:lnTo>
                        <a:lnTo>
                          <a:pt x="318" y="84"/>
                        </a:lnTo>
                        <a:lnTo>
                          <a:pt x="321" y="82"/>
                        </a:lnTo>
                        <a:lnTo>
                          <a:pt x="321" y="80"/>
                        </a:lnTo>
                        <a:lnTo>
                          <a:pt x="324" y="78"/>
                        </a:lnTo>
                        <a:lnTo>
                          <a:pt x="324" y="76"/>
                        </a:lnTo>
                        <a:lnTo>
                          <a:pt x="326" y="73"/>
                        </a:lnTo>
                        <a:lnTo>
                          <a:pt x="326" y="71"/>
                        </a:lnTo>
                        <a:lnTo>
                          <a:pt x="329" y="70"/>
                        </a:lnTo>
                        <a:lnTo>
                          <a:pt x="329" y="68"/>
                        </a:lnTo>
                        <a:lnTo>
                          <a:pt x="332" y="66"/>
                        </a:lnTo>
                        <a:lnTo>
                          <a:pt x="335" y="63"/>
                        </a:lnTo>
                        <a:lnTo>
                          <a:pt x="335" y="62"/>
                        </a:lnTo>
                        <a:lnTo>
                          <a:pt x="337" y="60"/>
                        </a:lnTo>
                        <a:lnTo>
                          <a:pt x="337" y="59"/>
                        </a:lnTo>
                        <a:lnTo>
                          <a:pt x="340" y="57"/>
                        </a:lnTo>
                        <a:lnTo>
                          <a:pt x="340" y="55"/>
                        </a:lnTo>
                        <a:lnTo>
                          <a:pt x="343" y="53"/>
                        </a:lnTo>
                        <a:lnTo>
                          <a:pt x="343" y="52"/>
                        </a:lnTo>
                        <a:lnTo>
                          <a:pt x="346" y="50"/>
                        </a:lnTo>
                        <a:lnTo>
                          <a:pt x="346" y="49"/>
                        </a:lnTo>
                        <a:lnTo>
                          <a:pt x="348" y="48"/>
                        </a:lnTo>
                        <a:lnTo>
                          <a:pt x="351" y="46"/>
                        </a:lnTo>
                        <a:lnTo>
                          <a:pt x="351" y="44"/>
                        </a:lnTo>
                        <a:lnTo>
                          <a:pt x="354" y="43"/>
                        </a:lnTo>
                        <a:lnTo>
                          <a:pt x="354" y="42"/>
                        </a:lnTo>
                        <a:lnTo>
                          <a:pt x="357" y="41"/>
                        </a:lnTo>
                        <a:lnTo>
                          <a:pt x="357" y="40"/>
                        </a:lnTo>
                        <a:lnTo>
                          <a:pt x="359" y="37"/>
                        </a:lnTo>
                        <a:lnTo>
                          <a:pt x="359" y="36"/>
                        </a:lnTo>
                        <a:lnTo>
                          <a:pt x="362" y="35"/>
                        </a:lnTo>
                        <a:lnTo>
                          <a:pt x="362" y="34"/>
                        </a:lnTo>
                        <a:lnTo>
                          <a:pt x="365" y="33"/>
                        </a:lnTo>
                        <a:lnTo>
                          <a:pt x="365" y="32"/>
                        </a:lnTo>
                        <a:lnTo>
                          <a:pt x="368" y="31"/>
                        </a:lnTo>
                        <a:lnTo>
                          <a:pt x="370" y="31"/>
                        </a:lnTo>
                        <a:lnTo>
                          <a:pt x="370" y="30"/>
                        </a:lnTo>
                        <a:lnTo>
                          <a:pt x="373" y="29"/>
                        </a:lnTo>
                        <a:lnTo>
                          <a:pt x="373" y="27"/>
                        </a:lnTo>
                        <a:lnTo>
                          <a:pt x="376" y="26"/>
                        </a:lnTo>
                        <a:lnTo>
                          <a:pt x="376" y="25"/>
                        </a:lnTo>
                        <a:lnTo>
                          <a:pt x="379" y="25"/>
                        </a:lnTo>
                        <a:lnTo>
                          <a:pt x="379" y="24"/>
                        </a:lnTo>
                        <a:lnTo>
                          <a:pt x="381" y="23"/>
                        </a:lnTo>
                        <a:lnTo>
                          <a:pt x="381" y="22"/>
                        </a:lnTo>
                        <a:lnTo>
                          <a:pt x="384" y="22"/>
                        </a:lnTo>
                        <a:lnTo>
                          <a:pt x="387" y="21"/>
                        </a:lnTo>
                        <a:lnTo>
                          <a:pt x="387" y="20"/>
                        </a:lnTo>
                        <a:lnTo>
                          <a:pt x="390" y="20"/>
                        </a:lnTo>
                        <a:lnTo>
                          <a:pt x="390" y="18"/>
                        </a:lnTo>
                        <a:lnTo>
                          <a:pt x="392" y="18"/>
                        </a:lnTo>
                        <a:lnTo>
                          <a:pt x="392" y="17"/>
                        </a:lnTo>
                        <a:lnTo>
                          <a:pt x="395" y="17"/>
                        </a:lnTo>
                        <a:lnTo>
                          <a:pt x="395" y="16"/>
                        </a:lnTo>
                        <a:lnTo>
                          <a:pt x="398" y="16"/>
                        </a:lnTo>
                        <a:lnTo>
                          <a:pt x="398" y="15"/>
                        </a:lnTo>
                        <a:lnTo>
                          <a:pt x="400" y="15"/>
                        </a:lnTo>
                        <a:lnTo>
                          <a:pt x="400" y="14"/>
                        </a:lnTo>
                        <a:lnTo>
                          <a:pt x="403" y="14"/>
                        </a:lnTo>
                        <a:lnTo>
                          <a:pt x="406" y="13"/>
                        </a:lnTo>
                        <a:lnTo>
                          <a:pt x="409" y="12"/>
                        </a:lnTo>
                        <a:lnTo>
                          <a:pt x="411" y="12"/>
                        </a:lnTo>
                        <a:lnTo>
                          <a:pt x="411" y="11"/>
                        </a:lnTo>
                        <a:lnTo>
                          <a:pt x="414" y="11"/>
                        </a:lnTo>
                        <a:lnTo>
                          <a:pt x="417" y="9"/>
                        </a:lnTo>
                        <a:lnTo>
                          <a:pt x="420" y="9"/>
                        </a:lnTo>
                        <a:lnTo>
                          <a:pt x="422" y="8"/>
                        </a:lnTo>
                        <a:lnTo>
                          <a:pt x="425" y="8"/>
                        </a:lnTo>
                        <a:lnTo>
                          <a:pt x="425" y="7"/>
                        </a:lnTo>
                        <a:lnTo>
                          <a:pt x="428" y="7"/>
                        </a:lnTo>
                        <a:lnTo>
                          <a:pt x="431" y="7"/>
                        </a:lnTo>
                        <a:lnTo>
                          <a:pt x="431" y="6"/>
                        </a:lnTo>
                        <a:lnTo>
                          <a:pt x="433" y="6"/>
                        </a:lnTo>
                        <a:lnTo>
                          <a:pt x="436" y="6"/>
                        </a:lnTo>
                        <a:lnTo>
                          <a:pt x="439" y="5"/>
                        </a:lnTo>
                        <a:lnTo>
                          <a:pt x="442" y="5"/>
                        </a:lnTo>
                        <a:lnTo>
                          <a:pt x="444" y="5"/>
                        </a:lnTo>
                        <a:lnTo>
                          <a:pt x="447" y="4"/>
                        </a:lnTo>
                        <a:lnTo>
                          <a:pt x="450" y="4"/>
                        </a:lnTo>
                        <a:lnTo>
                          <a:pt x="453" y="4"/>
                        </a:lnTo>
                        <a:lnTo>
                          <a:pt x="455" y="4"/>
                        </a:lnTo>
                        <a:lnTo>
                          <a:pt x="455" y="3"/>
                        </a:lnTo>
                        <a:lnTo>
                          <a:pt x="458" y="3"/>
                        </a:lnTo>
                        <a:lnTo>
                          <a:pt x="461" y="3"/>
                        </a:lnTo>
                        <a:lnTo>
                          <a:pt x="464" y="3"/>
                        </a:lnTo>
                        <a:lnTo>
                          <a:pt x="466" y="3"/>
                        </a:lnTo>
                        <a:lnTo>
                          <a:pt x="469" y="2"/>
                        </a:lnTo>
                        <a:lnTo>
                          <a:pt x="472" y="2"/>
                        </a:lnTo>
                        <a:lnTo>
                          <a:pt x="475" y="2"/>
                        </a:lnTo>
                        <a:lnTo>
                          <a:pt x="477" y="2"/>
                        </a:lnTo>
                        <a:lnTo>
                          <a:pt x="480" y="2"/>
                        </a:lnTo>
                        <a:lnTo>
                          <a:pt x="483" y="2"/>
                        </a:lnTo>
                        <a:lnTo>
                          <a:pt x="486" y="2"/>
                        </a:lnTo>
                        <a:lnTo>
                          <a:pt x="488" y="1"/>
                        </a:lnTo>
                        <a:lnTo>
                          <a:pt x="491" y="1"/>
                        </a:lnTo>
                        <a:lnTo>
                          <a:pt x="494" y="1"/>
                        </a:lnTo>
                        <a:lnTo>
                          <a:pt x="497" y="1"/>
                        </a:lnTo>
                        <a:lnTo>
                          <a:pt x="499" y="1"/>
                        </a:lnTo>
                        <a:lnTo>
                          <a:pt x="502" y="1"/>
                        </a:lnTo>
                        <a:lnTo>
                          <a:pt x="505" y="1"/>
                        </a:lnTo>
                        <a:lnTo>
                          <a:pt x="508" y="1"/>
                        </a:lnTo>
                        <a:lnTo>
                          <a:pt x="510" y="1"/>
                        </a:lnTo>
                        <a:lnTo>
                          <a:pt x="513" y="1"/>
                        </a:lnTo>
                        <a:lnTo>
                          <a:pt x="516" y="1"/>
                        </a:lnTo>
                        <a:lnTo>
                          <a:pt x="519" y="1"/>
                        </a:lnTo>
                        <a:lnTo>
                          <a:pt x="521" y="1"/>
                        </a:lnTo>
                        <a:lnTo>
                          <a:pt x="524" y="1"/>
                        </a:lnTo>
                        <a:lnTo>
                          <a:pt x="527" y="0"/>
                        </a:lnTo>
                        <a:lnTo>
                          <a:pt x="530" y="0"/>
                        </a:lnTo>
                        <a:lnTo>
                          <a:pt x="532" y="0"/>
                        </a:lnTo>
                        <a:lnTo>
                          <a:pt x="535" y="0"/>
                        </a:lnTo>
                        <a:lnTo>
                          <a:pt x="538" y="0"/>
                        </a:lnTo>
                        <a:lnTo>
                          <a:pt x="541" y="0"/>
                        </a:lnTo>
                        <a:lnTo>
                          <a:pt x="543" y="0"/>
                        </a:lnTo>
                        <a:lnTo>
                          <a:pt x="546" y="0"/>
                        </a:lnTo>
                        <a:lnTo>
                          <a:pt x="549" y="0"/>
                        </a:lnTo>
                        <a:lnTo>
                          <a:pt x="552" y="0"/>
                        </a:lnTo>
                        <a:lnTo>
                          <a:pt x="554" y="0"/>
                        </a:lnTo>
                        <a:lnTo>
                          <a:pt x="557" y="0"/>
                        </a:lnTo>
                        <a:lnTo>
                          <a:pt x="560" y="0"/>
                        </a:lnTo>
                        <a:lnTo>
                          <a:pt x="563" y="0"/>
                        </a:lnTo>
                        <a:lnTo>
                          <a:pt x="565" y="0"/>
                        </a:lnTo>
                        <a:lnTo>
                          <a:pt x="568" y="0"/>
                        </a:lnTo>
                        <a:lnTo>
                          <a:pt x="571" y="0"/>
                        </a:lnTo>
                        <a:lnTo>
                          <a:pt x="574" y="0"/>
                        </a:lnTo>
                        <a:lnTo>
                          <a:pt x="576" y="0"/>
                        </a:lnTo>
                        <a:lnTo>
                          <a:pt x="579" y="0"/>
                        </a:lnTo>
                        <a:lnTo>
                          <a:pt x="582" y="0"/>
                        </a:lnTo>
                        <a:lnTo>
                          <a:pt x="585" y="0"/>
                        </a:lnTo>
                        <a:lnTo>
                          <a:pt x="587" y="0"/>
                        </a:lnTo>
                        <a:lnTo>
                          <a:pt x="590" y="0"/>
                        </a:lnTo>
                        <a:lnTo>
                          <a:pt x="593" y="0"/>
                        </a:lnTo>
                        <a:lnTo>
                          <a:pt x="596" y="0"/>
                        </a:lnTo>
                        <a:lnTo>
                          <a:pt x="598" y="0"/>
                        </a:lnTo>
                        <a:lnTo>
                          <a:pt x="601" y="0"/>
                        </a:lnTo>
                        <a:lnTo>
                          <a:pt x="604" y="0"/>
                        </a:lnTo>
                        <a:lnTo>
                          <a:pt x="607" y="0"/>
                        </a:lnTo>
                        <a:lnTo>
                          <a:pt x="609" y="0"/>
                        </a:lnTo>
                        <a:lnTo>
                          <a:pt x="612" y="0"/>
                        </a:lnTo>
                        <a:lnTo>
                          <a:pt x="615" y="0"/>
                        </a:lnTo>
                        <a:lnTo>
                          <a:pt x="618" y="0"/>
                        </a:lnTo>
                        <a:lnTo>
                          <a:pt x="620" y="0"/>
                        </a:lnTo>
                        <a:lnTo>
                          <a:pt x="623" y="0"/>
                        </a:lnTo>
                        <a:lnTo>
                          <a:pt x="626" y="0"/>
                        </a:lnTo>
                        <a:lnTo>
                          <a:pt x="629" y="0"/>
                        </a:lnTo>
                        <a:lnTo>
                          <a:pt x="631" y="0"/>
                        </a:lnTo>
                        <a:lnTo>
                          <a:pt x="634" y="0"/>
                        </a:lnTo>
                        <a:lnTo>
                          <a:pt x="637" y="0"/>
                        </a:lnTo>
                        <a:lnTo>
                          <a:pt x="640" y="0"/>
                        </a:lnTo>
                        <a:lnTo>
                          <a:pt x="642" y="0"/>
                        </a:lnTo>
                        <a:lnTo>
                          <a:pt x="645" y="0"/>
                        </a:lnTo>
                        <a:lnTo>
                          <a:pt x="648" y="0"/>
                        </a:lnTo>
                        <a:lnTo>
                          <a:pt x="651" y="0"/>
                        </a:lnTo>
                        <a:lnTo>
                          <a:pt x="653" y="0"/>
                        </a:lnTo>
                        <a:lnTo>
                          <a:pt x="656" y="0"/>
                        </a:lnTo>
                        <a:lnTo>
                          <a:pt x="658" y="0"/>
                        </a:lnTo>
                        <a:lnTo>
                          <a:pt x="661" y="0"/>
                        </a:lnTo>
                        <a:lnTo>
                          <a:pt x="664" y="0"/>
                        </a:lnTo>
                        <a:lnTo>
                          <a:pt x="667" y="0"/>
                        </a:lnTo>
                        <a:lnTo>
                          <a:pt x="669" y="0"/>
                        </a:lnTo>
                        <a:lnTo>
                          <a:pt x="672" y="0"/>
                        </a:lnTo>
                        <a:lnTo>
                          <a:pt x="675" y="0"/>
                        </a:lnTo>
                        <a:lnTo>
                          <a:pt x="678" y="0"/>
                        </a:lnTo>
                        <a:lnTo>
                          <a:pt x="680" y="0"/>
                        </a:lnTo>
                        <a:lnTo>
                          <a:pt x="683" y="0"/>
                        </a:lnTo>
                        <a:lnTo>
                          <a:pt x="686" y="0"/>
                        </a:lnTo>
                        <a:lnTo>
                          <a:pt x="689" y="0"/>
                        </a:lnTo>
                        <a:lnTo>
                          <a:pt x="691" y="0"/>
                        </a:lnTo>
                        <a:lnTo>
                          <a:pt x="694" y="0"/>
                        </a:lnTo>
                        <a:lnTo>
                          <a:pt x="697" y="0"/>
                        </a:lnTo>
                        <a:lnTo>
                          <a:pt x="700" y="0"/>
                        </a:lnTo>
                        <a:lnTo>
                          <a:pt x="702" y="0"/>
                        </a:lnTo>
                        <a:lnTo>
                          <a:pt x="705" y="0"/>
                        </a:lnTo>
                        <a:lnTo>
                          <a:pt x="708" y="0"/>
                        </a:lnTo>
                        <a:lnTo>
                          <a:pt x="711" y="0"/>
                        </a:lnTo>
                        <a:lnTo>
                          <a:pt x="713" y="0"/>
                        </a:lnTo>
                        <a:lnTo>
                          <a:pt x="716" y="0"/>
                        </a:lnTo>
                        <a:lnTo>
                          <a:pt x="719" y="0"/>
                        </a:lnTo>
                        <a:lnTo>
                          <a:pt x="722" y="0"/>
                        </a:lnTo>
                        <a:lnTo>
                          <a:pt x="724" y="0"/>
                        </a:lnTo>
                        <a:lnTo>
                          <a:pt x="727" y="0"/>
                        </a:lnTo>
                        <a:lnTo>
                          <a:pt x="730" y="0"/>
                        </a:lnTo>
                        <a:lnTo>
                          <a:pt x="733" y="0"/>
                        </a:lnTo>
                        <a:lnTo>
                          <a:pt x="735" y="0"/>
                        </a:lnTo>
                        <a:lnTo>
                          <a:pt x="738" y="0"/>
                        </a:lnTo>
                        <a:lnTo>
                          <a:pt x="741" y="0"/>
                        </a:lnTo>
                        <a:lnTo>
                          <a:pt x="744" y="0"/>
                        </a:lnTo>
                        <a:lnTo>
                          <a:pt x="746" y="0"/>
                        </a:lnTo>
                        <a:lnTo>
                          <a:pt x="749" y="0"/>
                        </a:lnTo>
                        <a:lnTo>
                          <a:pt x="752" y="0"/>
                        </a:lnTo>
                        <a:lnTo>
                          <a:pt x="755" y="0"/>
                        </a:lnTo>
                        <a:lnTo>
                          <a:pt x="75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1483920" y="5073480"/>
                    <a:ext cx="1112040" cy="60804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383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2" y="0"/>
                        </a:ln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38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46" y="0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60" y="0"/>
                        </a:lnTo>
                        <a:lnTo>
                          <a:pt x="63" y="0"/>
                        </a:lnTo>
                        <a:lnTo>
                          <a:pt x="66" y="0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9" y="0"/>
                        </a:lnTo>
                        <a:lnTo>
                          <a:pt x="82" y="0"/>
                        </a:lnTo>
                        <a:lnTo>
                          <a:pt x="85" y="0"/>
                        </a:lnTo>
                        <a:lnTo>
                          <a:pt x="88" y="0"/>
                        </a:lnTo>
                        <a:lnTo>
                          <a:pt x="90" y="0"/>
                        </a:lnTo>
                        <a:lnTo>
                          <a:pt x="93" y="0"/>
                        </a:lnTo>
                        <a:lnTo>
                          <a:pt x="96" y="0"/>
                        </a:lnTo>
                        <a:lnTo>
                          <a:pt x="99" y="0"/>
                        </a:lnTo>
                        <a:lnTo>
                          <a:pt x="101" y="0"/>
                        </a:lnTo>
                        <a:lnTo>
                          <a:pt x="104" y="0"/>
                        </a:lnTo>
                        <a:lnTo>
                          <a:pt x="107" y="0"/>
                        </a:lnTo>
                        <a:lnTo>
                          <a:pt x="110" y="0"/>
                        </a:lnTo>
                        <a:lnTo>
                          <a:pt x="112" y="0"/>
                        </a:lnTo>
                        <a:lnTo>
                          <a:pt x="115" y="0"/>
                        </a:lnTo>
                        <a:lnTo>
                          <a:pt x="118" y="0"/>
                        </a:lnTo>
                        <a:lnTo>
                          <a:pt x="121" y="0"/>
                        </a:lnTo>
                        <a:lnTo>
                          <a:pt x="123" y="0"/>
                        </a:lnTo>
                        <a:lnTo>
                          <a:pt x="126" y="0"/>
                        </a:lnTo>
                        <a:lnTo>
                          <a:pt x="129" y="0"/>
                        </a:lnTo>
                        <a:lnTo>
                          <a:pt x="132" y="0"/>
                        </a:lnTo>
                        <a:lnTo>
                          <a:pt x="134" y="0"/>
                        </a:lnTo>
                        <a:lnTo>
                          <a:pt x="137" y="0"/>
                        </a:lnTo>
                        <a:lnTo>
                          <a:pt x="140" y="0"/>
                        </a:lnTo>
                        <a:lnTo>
                          <a:pt x="143" y="0"/>
                        </a:lnTo>
                        <a:lnTo>
                          <a:pt x="145" y="0"/>
                        </a:lnTo>
                        <a:lnTo>
                          <a:pt x="148" y="0"/>
                        </a:lnTo>
                        <a:lnTo>
                          <a:pt x="151" y="0"/>
                        </a:lnTo>
                        <a:lnTo>
                          <a:pt x="154" y="0"/>
                        </a:lnTo>
                        <a:lnTo>
                          <a:pt x="156" y="0"/>
                        </a:lnTo>
                        <a:lnTo>
                          <a:pt x="159" y="0"/>
                        </a:lnTo>
                        <a:lnTo>
                          <a:pt x="162" y="0"/>
                        </a:lnTo>
                        <a:lnTo>
                          <a:pt x="165" y="0"/>
                        </a:lnTo>
                        <a:lnTo>
                          <a:pt x="167" y="0"/>
                        </a:lnTo>
                        <a:lnTo>
                          <a:pt x="170" y="0"/>
                        </a:lnTo>
                        <a:lnTo>
                          <a:pt x="173" y="0"/>
                        </a:lnTo>
                        <a:lnTo>
                          <a:pt x="176" y="0"/>
                        </a:lnTo>
                        <a:lnTo>
                          <a:pt x="178" y="0"/>
                        </a:lnTo>
                        <a:lnTo>
                          <a:pt x="181" y="0"/>
                        </a:lnTo>
                        <a:lnTo>
                          <a:pt x="184" y="0"/>
                        </a:lnTo>
                        <a:lnTo>
                          <a:pt x="186" y="0"/>
                        </a:lnTo>
                        <a:lnTo>
                          <a:pt x="189" y="0"/>
                        </a:lnTo>
                        <a:lnTo>
                          <a:pt x="192" y="0"/>
                        </a:lnTo>
                        <a:lnTo>
                          <a:pt x="194" y="0"/>
                        </a:lnTo>
                        <a:lnTo>
                          <a:pt x="197" y="0"/>
                        </a:lnTo>
                        <a:lnTo>
                          <a:pt x="200" y="0"/>
                        </a:lnTo>
                        <a:lnTo>
                          <a:pt x="203" y="0"/>
                        </a:lnTo>
                        <a:lnTo>
                          <a:pt x="205" y="0"/>
                        </a:lnTo>
                        <a:lnTo>
                          <a:pt x="208" y="0"/>
                        </a:lnTo>
                        <a:lnTo>
                          <a:pt x="211" y="0"/>
                        </a:lnTo>
                        <a:lnTo>
                          <a:pt x="214" y="0"/>
                        </a:lnTo>
                        <a:lnTo>
                          <a:pt x="216" y="0"/>
                        </a:lnTo>
                        <a:lnTo>
                          <a:pt x="219" y="0"/>
                        </a:lnTo>
                        <a:lnTo>
                          <a:pt x="222" y="0"/>
                        </a:lnTo>
                        <a:lnTo>
                          <a:pt x="225" y="0"/>
                        </a:lnTo>
                        <a:lnTo>
                          <a:pt x="227" y="0"/>
                        </a:lnTo>
                        <a:lnTo>
                          <a:pt x="230" y="0"/>
                        </a:lnTo>
                        <a:lnTo>
                          <a:pt x="233" y="1"/>
                        </a:lnTo>
                        <a:lnTo>
                          <a:pt x="236" y="1"/>
                        </a:lnTo>
                        <a:lnTo>
                          <a:pt x="238" y="1"/>
                        </a:lnTo>
                        <a:lnTo>
                          <a:pt x="241" y="1"/>
                        </a:lnTo>
                        <a:lnTo>
                          <a:pt x="244" y="1"/>
                        </a:lnTo>
                        <a:lnTo>
                          <a:pt x="247" y="1"/>
                        </a:lnTo>
                        <a:lnTo>
                          <a:pt x="249" y="1"/>
                        </a:lnTo>
                        <a:lnTo>
                          <a:pt x="252" y="1"/>
                        </a:lnTo>
                        <a:lnTo>
                          <a:pt x="255" y="1"/>
                        </a:lnTo>
                        <a:lnTo>
                          <a:pt x="258" y="1"/>
                        </a:lnTo>
                        <a:lnTo>
                          <a:pt x="260" y="1"/>
                        </a:lnTo>
                        <a:lnTo>
                          <a:pt x="263" y="1"/>
                        </a:lnTo>
                        <a:lnTo>
                          <a:pt x="266" y="1"/>
                        </a:lnTo>
                        <a:lnTo>
                          <a:pt x="269" y="1"/>
                        </a:lnTo>
                        <a:lnTo>
                          <a:pt x="271" y="2"/>
                        </a:lnTo>
                        <a:lnTo>
                          <a:pt x="274" y="2"/>
                        </a:lnTo>
                        <a:lnTo>
                          <a:pt x="277" y="2"/>
                        </a:lnTo>
                        <a:lnTo>
                          <a:pt x="280" y="2"/>
                        </a:lnTo>
                        <a:lnTo>
                          <a:pt x="282" y="2"/>
                        </a:lnTo>
                        <a:lnTo>
                          <a:pt x="285" y="2"/>
                        </a:lnTo>
                        <a:lnTo>
                          <a:pt x="288" y="2"/>
                        </a:lnTo>
                        <a:lnTo>
                          <a:pt x="291" y="3"/>
                        </a:lnTo>
                        <a:lnTo>
                          <a:pt x="293" y="3"/>
                        </a:lnTo>
                        <a:lnTo>
                          <a:pt x="296" y="3"/>
                        </a:lnTo>
                        <a:lnTo>
                          <a:pt x="299" y="3"/>
                        </a:lnTo>
                        <a:lnTo>
                          <a:pt x="302" y="4"/>
                        </a:lnTo>
                        <a:lnTo>
                          <a:pt x="304" y="4"/>
                        </a:lnTo>
                        <a:lnTo>
                          <a:pt x="307" y="4"/>
                        </a:lnTo>
                        <a:lnTo>
                          <a:pt x="310" y="4"/>
                        </a:lnTo>
                        <a:lnTo>
                          <a:pt x="313" y="5"/>
                        </a:lnTo>
                        <a:lnTo>
                          <a:pt x="315" y="5"/>
                        </a:lnTo>
                        <a:lnTo>
                          <a:pt x="318" y="5"/>
                        </a:lnTo>
                        <a:lnTo>
                          <a:pt x="318" y="6"/>
                        </a:lnTo>
                        <a:lnTo>
                          <a:pt x="321" y="6"/>
                        </a:lnTo>
                        <a:lnTo>
                          <a:pt x="324" y="6"/>
                        </a:lnTo>
                        <a:lnTo>
                          <a:pt x="326" y="6"/>
                        </a:lnTo>
                        <a:lnTo>
                          <a:pt x="326" y="7"/>
                        </a:lnTo>
                        <a:lnTo>
                          <a:pt x="329" y="7"/>
                        </a:lnTo>
                        <a:lnTo>
                          <a:pt x="332" y="7"/>
                        </a:lnTo>
                        <a:lnTo>
                          <a:pt x="332" y="8"/>
                        </a:lnTo>
                        <a:lnTo>
                          <a:pt x="335" y="8"/>
                        </a:lnTo>
                        <a:lnTo>
                          <a:pt x="337" y="9"/>
                        </a:lnTo>
                        <a:lnTo>
                          <a:pt x="340" y="9"/>
                        </a:lnTo>
                        <a:lnTo>
                          <a:pt x="343" y="11"/>
                        </a:lnTo>
                        <a:lnTo>
                          <a:pt x="346" y="11"/>
                        </a:lnTo>
                        <a:lnTo>
                          <a:pt x="346" y="12"/>
                        </a:lnTo>
                        <a:lnTo>
                          <a:pt x="348" y="12"/>
                        </a:lnTo>
                        <a:lnTo>
                          <a:pt x="351" y="13"/>
                        </a:lnTo>
                        <a:lnTo>
                          <a:pt x="354" y="14"/>
                        </a:lnTo>
                        <a:lnTo>
                          <a:pt x="357" y="15"/>
                        </a:lnTo>
                        <a:lnTo>
                          <a:pt x="359" y="15"/>
                        </a:lnTo>
                        <a:lnTo>
                          <a:pt x="359" y="16"/>
                        </a:lnTo>
                        <a:lnTo>
                          <a:pt x="362" y="16"/>
                        </a:lnTo>
                        <a:lnTo>
                          <a:pt x="362" y="17"/>
                        </a:lnTo>
                        <a:lnTo>
                          <a:pt x="365" y="17"/>
                        </a:lnTo>
                        <a:lnTo>
                          <a:pt x="365" y="18"/>
                        </a:lnTo>
                        <a:lnTo>
                          <a:pt x="368" y="18"/>
                        </a:lnTo>
                        <a:lnTo>
                          <a:pt x="368" y="20"/>
                        </a:lnTo>
                        <a:lnTo>
                          <a:pt x="370" y="20"/>
                        </a:lnTo>
                        <a:lnTo>
                          <a:pt x="370" y="21"/>
                        </a:lnTo>
                        <a:lnTo>
                          <a:pt x="373" y="22"/>
                        </a:lnTo>
                        <a:lnTo>
                          <a:pt x="376" y="23"/>
                        </a:lnTo>
                        <a:lnTo>
                          <a:pt x="379" y="24"/>
                        </a:lnTo>
                        <a:lnTo>
                          <a:pt x="379" y="25"/>
                        </a:lnTo>
                        <a:lnTo>
                          <a:pt x="381" y="25"/>
                        </a:lnTo>
                        <a:lnTo>
                          <a:pt x="381" y="26"/>
                        </a:lnTo>
                        <a:lnTo>
                          <a:pt x="384" y="27"/>
                        </a:lnTo>
                        <a:lnTo>
                          <a:pt x="384" y="29"/>
                        </a:lnTo>
                        <a:lnTo>
                          <a:pt x="387" y="30"/>
                        </a:lnTo>
                        <a:lnTo>
                          <a:pt x="387" y="31"/>
                        </a:lnTo>
                        <a:lnTo>
                          <a:pt x="390" y="31"/>
                        </a:lnTo>
                        <a:lnTo>
                          <a:pt x="390" y="32"/>
                        </a:lnTo>
                        <a:lnTo>
                          <a:pt x="392" y="33"/>
                        </a:lnTo>
                        <a:lnTo>
                          <a:pt x="395" y="34"/>
                        </a:lnTo>
                        <a:lnTo>
                          <a:pt x="395" y="35"/>
                        </a:lnTo>
                        <a:lnTo>
                          <a:pt x="398" y="36"/>
                        </a:lnTo>
                        <a:lnTo>
                          <a:pt x="398" y="37"/>
                        </a:lnTo>
                        <a:lnTo>
                          <a:pt x="401" y="40"/>
                        </a:lnTo>
                        <a:lnTo>
                          <a:pt x="401" y="41"/>
                        </a:lnTo>
                        <a:lnTo>
                          <a:pt x="403" y="42"/>
                        </a:lnTo>
                        <a:lnTo>
                          <a:pt x="403" y="43"/>
                        </a:lnTo>
                        <a:lnTo>
                          <a:pt x="406" y="44"/>
                        </a:lnTo>
                        <a:lnTo>
                          <a:pt x="406" y="46"/>
                        </a:lnTo>
                        <a:lnTo>
                          <a:pt x="409" y="48"/>
                        </a:lnTo>
                        <a:lnTo>
                          <a:pt x="409" y="49"/>
                        </a:lnTo>
                        <a:lnTo>
                          <a:pt x="412" y="50"/>
                        </a:lnTo>
                        <a:lnTo>
                          <a:pt x="414" y="52"/>
                        </a:lnTo>
                        <a:lnTo>
                          <a:pt x="414" y="53"/>
                        </a:lnTo>
                        <a:lnTo>
                          <a:pt x="417" y="55"/>
                        </a:lnTo>
                        <a:lnTo>
                          <a:pt x="417" y="57"/>
                        </a:lnTo>
                        <a:lnTo>
                          <a:pt x="420" y="59"/>
                        </a:lnTo>
                        <a:lnTo>
                          <a:pt x="420" y="60"/>
                        </a:lnTo>
                        <a:lnTo>
                          <a:pt x="423" y="62"/>
                        </a:lnTo>
                        <a:lnTo>
                          <a:pt x="423" y="63"/>
                        </a:lnTo>
                        <a:lnTo>
                          <a:pt x="426" y="66"/>
                        </a:lnTo>
                        <a:lnTo>
                          <a:pt x="426" y="68"/>
                        </a:lnTo>
                        <a:lnTo>
                          <a:pt x="428" y="70"/>
                        </a:lnTo>
                        <a:lnTo>
                          <a:pt x="431" y="71"/>
                        </a:lnTo>
                        <a:lnTo>
                          <a:pt x="431" y="73"/>
                        </a:lnTo>
                        <a:lnTo>
                          <a:pt x="434" y="76"/>
                        </a:lnTo>
                        <a:lnTo>
                          <a:pt x="434" y="78"/>
                        </a:lnTo>
                        <a:lnTo>
                          <a:pt x="437" y="80"/>
                        </a:lnTo>
                        <a:lnTo>
                          <a:pt x="437" y="82"/>
                        </a:lnTo>
                        <a:lnTo>
                          <a:pt x="439" y="84"/>
                        </a:lnTo>
                        <a:lnTo>
                          <a:pt x="439" y="87"/>
                        </a:lnTo>
                        <a:lnTo>
                          <a:pt x="442" y="89"/>
                        </a:lnTo>
                        <a:lnTo>
                          <a:pt x="442" y="91"/>
                        </a:lnTo>
                        <a:lnTo>
                          <a:pt x="444" y="93"/>
                        </a:lnTo>
                        <a:lnTo>
                          <a:pt x="444" y="96"/>
                        </a:lnTo>
                        <a:lnTo>
                          <a:pt x="447" y="98"/>
                        </a:lnTo>
                        <a:lnTo>
                          <a:pt x="450" y="100"/>
                        </a:lnTo>
                        <a:lnTo>
                          <a:pt x="450" y="104"/>
                        </a:lnTo>
                        <a:lnTo>
                          <a:pt x="453" y="106"/>
                        </a:lnTo>
                        <a:lnTo>
                          <a:pt x="453" y="108"/>
                        </a:lnTo>
                        <a:lnTo>
                          <a:pt x="455" y="110"/>
                        </a:lnTo>
                        <a:lnTo>
                          <a:pt x="455" y="114"/>
                        </a:lnTo>
                        <a:lnTo>
                          <a:pt x="458" y="116"/>
                        </a:lnTo>
                        <a:lnTo>
                          <a:pt x="458" y="119"/>
                        </a:lnTo>
                        <a:lnTo>
                          <a:pt x="461" y="122"/>
                        </a:lnTo>
                        <a:lnTo>
                          <a:pt x="461" y="124"/>
                        </a:lnTo>
                        <a:lnTo>
                          <a:pt x="464" y="127"/>
                        </a:lnTo>
                        <a:lnTo>
                          <a:pt x="464" y="129"/>
                        </a:lnTo>
                        <a:lnTo>
                          <a:pt x="466" y="133"/>
                        </a:lnTo>
                        <a:lnTo>
                          <a:pt x="469" y="135"/>
                        </a:lnTo>
                        <a:lnTo>
                          <a:pt x="469" y="138"/>
                        </a:lnTo>
                        <a:lnTo>
                          <a:pt x="472" y="141"/>
                        </a:lnTo>
                        <a:lnTo>
                          <a:pt x="472" y="144"/>
                        </a:lnTo>
                        <a:lnTo>
                          <a:pt x="475" y="147"/>
                        </a:lnTo>
                        <a:lnTo>
                          <a:pt x="475" y="150"/>
                        </a:lnTo>
                        <a:lnTo>
                          <a:pt x="477" y="153"/>
                        </a:lnTo>
                        <a:lnTo>
                          <a:pt x="477" y="155"/>
                        </a:lnTo>
                        <a:lnTo>
                          <a:pt x="480" y="159"/>
                        </a:lnTo>
                        <a:lnTo>
                          <a:pt x="480" y="162"/>
                        </a:lnTo>
                        <a:lnTo>
                          <a:pt x="483" y="164"/>
                        </a:lnTo>
                        <a:lnTo>
                          <a:pt x="486" y="167"/>
                        </a:lnTo>
                        <a:lnTo>
                          <a:pt x="486" y="171"/>
                        </a:lnTo>
                        <a:lnTo>
                          <a:pt x="488" y="173"/>
                        </a:lnTo>
                        <a:lnTo>
                          <a:pt x="488" y="176"/>
                        </a:lnTo>
                        <a:lnTo>
                          <a:pt x="491" y="180"/>
                        </a:lnTo>
                        <a:lnTo>
                          <a:pt x="491" y="182"/>
                        </a:lnTo>
                        <a:lnTo>
                          <a:pt x="494" y="185"/>
                        </a:lnTo>
                        <a:lnTo>
                          <a:pt x="494" y="189"/>
                        </a:lnTo>
                        <a:lnTo>
                          <a:pt x="497" y="191"/>
                        </a:lnTo>
                        <a:lnTo>
                          <a:pt x="497" y="194"/>
                        </a:lnTo>
                        <a:lnTo>
                          <a:pt x="499" y="198"/>
                        </a:lnTo>
                        <a:lnTo>
                          <a:pt x="499" y="200"/>
                        </a:lnTo>
                        <a:lnTo>
                          <a:pt x="502" y="203"/>
                        </a:lnTo>
                        <a:lnTo>
                          <a:pt x="505" y="207"/>
                        </a:lnTo>
                        <a:lnTo>
                          <a:pt x="505" y="209"/>
                        </a:lnTo>
                        <a:lnTo>
                          <a:pt x="508" y="212"/>
                        </a:lnTo>
                        <a:lnTo>
                          <a:pt x="508" y="215"/>
                        </a:lnTo>
                        <a:lnTo>
                          <a:pt x="510" y="218"/>
                        </a:lnTo>
                        <a:lnTo>
                          <a:pt x="510" y="220"/>
                        </a:lnTo>
                        <a:lnTo>
                          <a:pt x="513" y="224"/>
                        </a:lnTo>
                        <a:lnTo>
                          <a:pt x="513" y="227"/>
                        </a:lnTo>
                        <a:lnTo>
                          <a:pt x="516" y="229"/>
                        </a:lnTo>
                        <a:lnTo>
                          <a:pt x="516" y="233"/>
                        </a:lnTo>
                        <a:lnTo>
                          <a:pt x="519" y="235"/>
                        </a:lnTo>
                        <a:lnTo>
                          <a:pt x="521" y="237"/>
                        </a:lnTo>
                        <a:lnTo>
                          <a:pt x="521" y="240"/>
                        </a:lnTo>
                        <a:lnTo>
                          <a:pt x="524" y="242"/>
                        </a:lnTo>
                        <a:lnTo>
                          <a:pt x="524" y="246"/>
                        </a:lnTo>
                        <a:lnTo>
                          <a:pt x="527" y="248"/>
                        </a:lnTo>
                        <a:lnTo>
                          <a:pt x="527" y="250"/>
                        </a:lnTo>
                        <a:lnTo>
                          <a:pt x="530" y="254"/>
                        </a:lnTo>
                        <a:lnTo>
                          <a:pt x="530" y="256"/>
                        </a:lnTo>
                        <a:lnTo>
                          <a:pt x="532" y="258"/>
                        </a:lnTo>
                        <a:lnTo>
                          <a:pt x="532" y="260"/>
                        </a:lnTo>
                        <a:lnTo>
                          <a:pt x="535" y="264"/>
                        </a:lnTo>
                        <a:lnTo>
                          <a:pt x="535" y="266"/>
                        </a:lnTo>
                        <a:lnTo>
                          <a:pt x="538" y="268"/>
                        </a:lnTo>
                        <a:lnTo>
                          <a:pt x="541" y="271"/>
                        </a:lnTo>
                        <a:lnTo>
                          <a:pt x="541" y="273"/>
                        </a:lnTo>
                        <a:lnTo>
                          <a:pt x="543" y="275"/>
                        </a:lnTo>
                        <a:lnTo>
                          <a:pt x="543" y="277"/>
                        </a:lnTo>
                        <a:lnTo>
                          <a:pt x="546" y="279"/>
                        </a:lnTo>
                        <a:lnTo>
                          <a:pt x="546" y="282"/>
                        </a:lnTo>
                        <a:lnTo>
                          <a:pt x="549" y="284"/>
                        </a:lnTo>
                        <a:lnTo>
                          <a:pt x="549" y="286"/>
                        </a:lnTo>
                        <a:lnTo>
                          <a:pt x="552" y="288"/>
                        </a:lnTo>
                        <a:lnTo>
                          <a:pt x="552" y="291"/>
                        </a:lnTo>
                        <a:lnTo>
                          <a:pt x="554" y="293"/>
                        </a:lnTo>
                        <a:lnTo>
                          <a:pt x="557" y="295"/>
                        </a:lnTo>
                        <a:lnTo>
                          <a:pt x="557" y="296"/>
                        </a:lnTo>
                        <a:lnTo>
                          <a:pt x="560" y="299"/>
                        </a:lnTo>
                        <a:lnTo>
                          <a:pt x="560" y="301"/>
                        </a:lnTo>
                        <a:lnTo>
                          <a:pt x="563" y="303"/>
                        </a:lnTo>
                        <a:lnTo>
                          <a:pt x="563" y="304"/>
                        </a:lnTo>
                        <a:lnTo>
                          <a:pt x="565" y="306"/>
                        </a:lnTo>
                        <a:lnTo>
                          <a:pt x="565" y="309"/>
                        </a:lnTo>
                        <a:lnTo>
                          <a:pt x="568" y="310"/>
                        </a:lnTo>
                        <a:lnTo>
                          <a:pt x="568" y="312"/>
                        </a:lnTo>
                        <a:lnTo>
                          <a:pt x="571" y="313"/>
                        </a:lnTo>
                        <a:lnTo>
                          <a:pt x="571" y="315"/>
                        </a:lnTo>
                        <a:lnTo>
                          <a:pt x="574" y="317"/>
                        </a:lnTo>
                        <a:lnTo>
                          <a:pt x="576" y="319"/>
                        </a:lnTo>
                        <a:lnTo>
                          <a:pt x="576" y="320"/>
                        </a:lnTo>
                        <a:lnTo>
                          <a:pt x="579" y="322"/>
                        </a:lnTo>
                        <a:lnTo>
                          <a:pt x="579" y="323"/>
                        </a:lnTo>
                        <a:lnTo>
                          <a:pt x="582" y="325"/>
                        </a:lnTo>
                        <a:lnTo>
                          <a:pt x="582" y="326"/>
                        </a:lnTo>
                        <a:lnTo>
                          <a:pt x="585" y="328"/>
                        </a:lnTo>
                        <a:lnTo>
                          <a:pt x="585" y="329"/>
                        </a:lnTo>
                        <a:lnTo>
                          <a:pt x="587" y="331"/>
                        </a:lnTo>
                        <a:lnTo>
                          <a:pt x="587" y="332"/>
                        </a:lnTo>
                        <a:lnTo>
                          <a:pt x="590" y="333"/>
                        </a:lnTo>
                        <a:lnTo>
                          <a:pt x="593" y="334"/>
                        </a:lnTo>
                        <a:lnTo>
                          <a:pt x="593" y="337"/>
                        </a:lnTo>
                        <a:lnTo>
                          <a:pt x="596" y="338"/>
                        </a:lnTo>
                        <a:lnTo>
                          <a:pt x="596" y="339"/>
                        </a:lnTo>
                        <a:lnTo>
                          <a:pt x="598" y="340"/>
                        </a:lnTo>
                        <a:lnTo>
                          <a:pt x="598" y="341"/>
                        </a:lnTo>
                        <a:lnTo>
                          <a:pt x="601" y="342"/>
                        </a:lnTo>
                        <a:lnTo>
                          <a:pt x="601" y="343"/>
                        </a:lnTo>
                        <a:lnTo>
                          <a:pt x="604" y="344"/>
                        </a:lnTo>
                        <a:lnTo>
                          <a:pt x="604" y="346"/>
                        </a:lnTo>
                        <a:lnTo>
                          <a:pt x="607" y="347"/>
                        </a:lnTo>
                        <a:lnTo>
                          <a:pt x="607" y="348"/>
                        </a:lnTo>
                        <a:lnTo>
                          <a:pt x="609" y="349"/>
                        </a:lnTo>
                        <a:lnTo>
                          <a:pt x="612" y="350"/>
                        </a:lnTo>
                        <a:lnTo>
                          <a:pt x="612" y="351"/>
                        </a:lnTo>
                        <a:lnTo>
                          <a:pt x="615" y="352"/>
                        </a:lnTo>
                        <a:lnTo>
                          <a:pt x="618" y="353"/>
                        </a:lnTo>
                        <a:lnTo>
                          <a:pt x="618" y="355"/>
                        </a:lnTo>
                        <a:lnTo>
                          <a:pt x="620" y="356"/>
                        </a:lnTo>
                        <a:lnTo>
                          <a:pt x="620" y="357"/>
                        </a:lnTo>
                        <a:lnTo>
                          <a:pt x="623" y="357"/>
                        </a:lnTo>
                        <a:lnTo>
                          <a:pt x="623" y="358"/>
                        </a:lnTo>
                        <a:lnTo>
                          <a:pt x="626" y="359"/>
                        </a:lnTo>
                        <a:lnTo>
                          <a:pt x="626" y="360"/>
                        </a:lnTo>
                        <a:lnTo>
                          <a:pt x="629" y="360"/>
                        </a:lnTo>
                        <a:lnTo>
                          <a:pt x="631" y="361"/>
                        </a:lnTo>
                        <a:lnTo>
                          <a:pt x="634" y="362"/>
                        </a:lnTo>
                        <a:lnTo>
                          <a:pt x="634" y="364"/>
                        </a:lnTo>
                        <a:lnTo>
                          <a:pt x="637" y="364"/>
                        </a:lnTo>
                        <a:lnTo>
                          <a:pt x="637" y="365"/>
                        </a:lnTo>
                        <a:lnTo>
                          <a:pt x="640" y="365"/>
                        </a:lnTo>
                        <a:lnTo>
                          <a:pt x="640" y="366"/>
                        </a:lnTo>
                        <a:lnTo>
                          <a:pt x="642" y="367"/>
                        </a:lnTo>
                        <a:lnTo>
                          <a:pt x="645" y="368"/>
                        </a:lnTo>
                        <a:lnTo>
                          <a:pt x="648" y="368"/>
                        </a:lnTo>
                        <a:lnTo>
                          <a:pt x="648" y="369"/>
                        </a:lnTo>
                        <a:lnTo>
                          <a:pt x="651" y="369"/>
                        </a:lnTo>
                        <a:lnTo>
                          <a:pt x="653" y="370"/>
                        </a:lnTo>
                        <a:lnTo>
                          <a:pt x="656" y="371"/>
                        </a:lnTo>
                        <a:lnTo>
                          <a:pt x="659" y="373"/>
                        </a:lnTo>
                        <a:lnTo>
                          <a:pt x="662" y="373"/>
                        </a:lnTo>
                        <a:lnTo>
                          <a:pt x="662" y="374"/>
                        </a:lnTo>
                        <a:lnTo>
                          <a:pt x="664" y="374"/>
                        </a:lnTo>
                        <a:lnTo>
                          <a:pt x="667" y="374"/>
                        </a:lnTo>
                        <a:lnTo>
                          <a:pt x="667" y="375"/>
                        </a:lnTo>
                        <a:lnTo>
                          <a:pt x="670" y="375"/>
                        </a:lnTo>
                        <a:lnTo>
                          <a:pt x="673" y="376"/>
                        </a:lnTo>
                        <a:lnTo>
                          <a:pt x="675" y="376"/>
                        </a:lnTo>
                        <a:lnTo>
                          <a:pt x="678" y="377"/>
                        </a:lnTo>
                        <a:lnTo>
                          <a:pt x="681" y="377"/>
                        </a:lnTo>
                        <a:lnTo>
                          <a:pt x="684" y="377"/>
                        </a:lnTo>
                        <a:lnTo>
                          <a:pt x="684" y="378"/>
                        </a:lnTo>
                        <a:lnTo>
                          <a:pt x="686" y="378"/>
                        </a:lnTo>
                        <a:lnTo>
                          <a:pt x="689" y="378"/>
                        </a:lnTo>
                        <a:lnTo>
                          <a:pt x="692" y="378"/>
                        </a:lnTo>
                        <a:lnTo>
                          <a:pt x="692" y="379"/>
                        </a:lnTo>
                        <a:lnTo>
                          <a:pt x="695" y="379"/>
                        </a:lnTo>
                        <a:lnTo>
                          <a:pt x="697" y="379"/>
                        </a:lnTo>
                        <a:lnTo>
                          <a:pt x="700" y="379"/>
                        </a:lnTo>
                        <a:lnTo>
                          <a:pt x="702" y="379"/>
                        </a:lnTo>
                        <a:lnTo>
                          <a:pt x="702" y="380"/>
                        </a:lnTo>
                        <a:lnTo>
                          <a:pt x="705" y="380"/>
                        </a:lnTo>
                        <a:lnTo>
                          <a:pt x="708" y="380"/>
                        </a:lnTo>
                        <a:lnTo>
                          <a:pt x="711" y="380"/>
                        </a:lnTo>
                        <a:lnTo>
                          <a:pt x="713" y="380"/>
                        </a:lnTo>
                        <a:lnTo>
                          <a:pt x="716" y="380"/>
                        </a:lnTo>
                        <a:lnTo>
                          <a:pt x="719" y="380"/>
                        </a:lnTo>
                        <a:lnTo>
                          <a:pt x="722" y="382"/>
                        </a:lnTo>
                        <a:lnTo>
                          <a:pt x="724" y="382"/>
                        </a:lnTo>
                        <a:lnTo>
                          <a:pt x="727" y="382"/>
                        </a:lnTo>
                        <a:lnTo>
                          <a:pt x="730" y="382"/>
                        </a:lnTo>
                        <a:lnTo>
                          <a:pt x="733" y="382"/>
                        </a:lnTo>
                        <a:lnTo>
                          <a:pt x="735" y="382"/>
                        </a:lnTo>
                        <a:lnTo>
                          <a:pt x="738" y="382"/>
                        </a:lnTo>
                        <a:lnTo>
                          <a:pt x="741" y="382"/>
                        </a:lnTo>
                        <a:lnTo>
                          <a:pt x="744" y="382"/>
                        </a:lnTo>
                        <a:lnTo>
                          <a:pt x="746" y="382"/>
                        </a:lnTo>
                        <a:lnTo>
                          <a:pt x="749" y="382"/>
                        </a:lnTo>
                        <a:lnTo>
                          <a:pt x="752" y="382"/>
                        </a:lnTo>
                        <a:lnTo>
                          <a:pt x="755" y="382"/>
                        </a:lnTo>
                        <a:lnTo>
                          <a:pt x="758" y="3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" name=""/>
                <p:cNvSpPr/>
                <p:nvPr/>
              </p:nvSpPr>
              <p:spPr>
                <a:xfrm>
                  <a:off x="434880" y="5073480"/>
                  <a:ext cx="1112040" cy="608040"/>
                </a:xfrm>
                <a:custGeom>
                  <a:avLst/>
                  <a:gdLst/>
                  <a:ahLst/>
                  <a:rect l="l" t="t" r="r" b="b"/>
                  <a:pathLst>
                    <a:path w="759" h="383">
                      <a:moveTo>
                        <a:pt x="0" y="382"/>
                      </a:moveTo>
                      <a:lnTo>
                        <a:pt x="2" y="382"/>
                      </a:lnTo>
                      <a:lnTo>
                        <a:pt x="5" y="382"/>
                      </a:lnTo>
                      <a:lnTo>
                        <a:pt x="8" y="382"/>
                      </a:lnTo>
                      <a:lnTo>
                        <a:pt x="11" y="382"/>
                      </a:lnTo>
                      <a:lnTo>
                        <a:pt x="13" y="382"/>
                      </a:lnTo>
                      <a:lnTo>
                        <a:pt x="16" y="382"/>
                      </a:lnTo>
                      <a:lnTo>
                        <a:pt x="19" y="382"/>
                      </a:lnTo>
                      <a:lnTo>
                        <a:pt x="22" y="382"/>
                      </a:lnTo>
                      <a:lnTo>
                        <a:pt x="24" y="382"/>
                      </a:lnTo>
                      <a:lnTo>
                        <a:pt x="27" y="382"/>
                      </a:lnTo>
                      <a:lnTo>
                        <a:pt x="30" y="382"/>
                      </a:lnTo>
                      <a:lnTo>
                        <a:pt x="33" y="382"/>
                      </a:lnTo>
                      <a:lnTo>
                        <a:pt x="35" y="382"/>
                      </a:lnTo>
                      <a:lnTo>
                        <a:pt x="38" y="380"/>
                      </a:lnTo>
                      <a:lnTo>
                        <a:pt x="41" y="380"/>
                      </a:lnTo>
                      <a:lnTo>
                        <a:pt x="44" y="380"/>
                      </a:lnTo>
                      <a:lnTo>
                        <a:pt x="46" y="380"/>
                      </a:lnTo>
                      <a:lnTo>
                        <a:pt x="49" y="380"/>
                      </a:lnTo>
                      <a:lnTo>
                        <a:pt x="52" y="380"/>
                      </a:lnTo>
                      <a:lnTo>
                        <a:pt x="55" y="380"/>
                      </a:lnTo>
                      <a:lnTo>
                        <a:pt x="55" y="379"/>
                      </a:lnTo>
                      <a:lnTo>
                        <a:pt x="57" y="379"/>
                      </a:lnTo>
                      <a:lnTo>
                        <a:pt x="60" y="379"/>
                      </a:lnTo>
                      <a:lnTo>
                        <a:pt x="63" y="379"/>
                      </a:lnTo>
                      <a:lnTo>
                        <a:pt x="66" y="379"/>
                      </a:lnTo>
                      <a:lnTo>
                        <a:pt x="66" y="378"/>
                      </a:lnTo>
                      <a:lnTo>
                        <a:pt x="68" y="378"/>
                      </a:lnTo>
                      <a:lnTo>
                        <a:pt x="71" y="378"/>
                      </a:lnTo>
                      <a:lnTo>
                        <a:pt x="74" y="378"/>
                      </a:lnTo>
                      <a:lnTo>
                        <a:pt x="74" y="377"/>
                      </a:lnTo>
                      <a:lnTo>
                        <a:pt x="77" y="377"/>
                      </a:lnTo>
                      <a:lnTo>
                        <a:pt x="79" y="377"/>
                      </a:lnTo>
                      <a:lnTo>
                        <a:pt x="82" y="376"/>
                      </a:lnTo>
                      <a:lnTo>
                        <a:pt x="85" y="376"/>
                      </a:lnTo>
                      <a:lnTo>
                        <a:pt x="88" y="375"/>
                      </a:lnTo>
                      <a:lnTo>
                        <a:pt x="90" y="375"/>
                      </a:lnTo>
                      <a:lnTo>
                        <a:pt x="90" y="374"/>
                      </a:lnTo>
                      <a:lnTo>
                        <a:pt x="93" y="374"/>
                      </a:lnTo>
                      <a:lnTo>
                        <a:pt x="96" y="373"/>
                      </a:lnTo>
                      <a:lnTo>
                        <a:pt x="99" y="373"/>
                      </a:lnTo>
                      <a:lnTo>
                        <a:pt x="101" y="371"/>
                      </a:lnTo>
                      <a:lnTo>
                        <a:pt x="104" y="370"/>
                      </a:lnTo>
                      <a:lnTo>
                        <a:pt x="107" y="369"/>
                      </a:lnTo>
                      <a:lnTo>
                        <a:pt x="110" y="369"/>
                      </a:lnTo>
                      <a:lnTo>
                        <a:pt x="110" y="368"/>
                      </a:lnTo>
                      <a:lnTo>
                        <a:pt x="112" y="368"/>
                      </a:lnTo>
                      <a:lnTo>
                        <a:pt x="112" y="367"/>
                      </a:lnTo>
                      <a:lnTo>
                        <a:pt x="115" y="367"/>
                      </a:lnTo>
                      <a:lnTo>
                        <a:pt x="118" y="366"/>
                      </a:lnTo>
                      <a:lnTo>
                        <a:pt x="118" y="365"/>
                      </a:lnTo>
                      <a:lnTo>
                        <a:pt x="121" y="365"/>
                      </a:lnTo>
                      <a:lnTo>
                        <a:pt x="121" y="364"/>
                      </a:lnTo>
                      <a:lnTo>
                        <a:pt x="123" y="364"/>
                      </a:lnTo>
                      <a:lnTo>
                        <a:pt x="123" y="362"/>
                      </a:lnTo>
                      <a:lnTo>
                        <a:pt x="126" y="361"/>
                      </a:lnTo>
                      <a:lnTo>
                        <a:pt x="129" y="360"/>
                      </a:lnTo>
                      <a:lnTo>
                        <a:pt x="132" y="359"/>
                      </a:lnTo>
                      <a:lnTo>
                        <a:pt x="134" y="358"/>
                      </a:lnTo>
                      <a:lnTo>
                        <a:pt x="134" y="357"/>
                      </a:lnTo>
                      <a:lnTo>
                        <a:pt x="137" y="357"/>
                      </a:lnTo>
                      <a:lnTo>
                        <a:pt x="137" y="356"/>
                      </a:lnTo>
                      <a:lnTo>
                        <a:pt x="140" y="355"/>
                      </a:lnTo>
                      <a:lnTo>
                        <a:pt x="140" y="353"/>
                      </a:lnTo>
                      <a:lnTo>
                        <a:pt x="143" y="352"/>
                      </a:lnTo>
                      <a:lnTo>
                        <a:pt x="145" y="351"/>
                      </a:lnTo>
                      <a:lnTo>
                        <a:pt x="145" y="350"/>
                      </a:lnTo>
                      <a:lnTo>
                        <a:pt x="148" y="349"/>
                      </a:lnTo>
                      <a:lnTo>
                        <a:pt x="148" y="348"/>
                      </a:lnTo>
                      <a:lnTo>
                        <a:pt x="150" y="347"/>
                      </a:lnTo>
                      <a:lnTo>
                        <a:pt x="153" y="346"/>
                      </a:lnTo>
                      <a:lnTo>
                        <a:pt x="153" y="344"/>
                      </a:lnTo>
                      <a:lnTo>
                        <a:pt x="156" y="343"/>
                      </a:lnTo>
                      <a:lnTo>
                        <a:pt x="156" y="342"/>
                      </a:lnTo>
                      <a:lnTo>
                        <a:pt x="159" y="341"/>
                      </a:lnTo>
                      <a:lnTo>
                        <a:pt x="159" y="340"/>
                      </a:lnTo>
                      <a:lnTo>
                        <a:pt x="161" y="339"/>
                      </a:lnTo>
                      <a:lnTo>
                        <a:pt x="161" y="338"/>
                      </a:lnTo>
                      <a:lnTo>
                        <a:pt x="164" y="337"/>
                      </a:lnTo>
                      <a:lnTo>
                        <a:pt x="164" y="334"/>
                      </a:lnTo>
                      <a:lnTo>
                        <a:pt x="167" y="333"/>
                      </a:lnTo>
                      <a:lnTo>
                        <a:pt x="167" y="332"/>
                      </a:lnTo>
                      <a:lnTo>
                        <a:pt x="170" y="331"/>
                      </a:lnTo>
                      <a:lnTo>
                        <a:pt x="172" y="329"/>
                      </a:lnTo>
                      <a:lnTo>
                        <a:pt x="172" y="328"/>
                      </a:lnTo>
                      <a:lnTo>
                        <a:pt x="175" y="326"/>
                      </a:lnTo>
                      <a:lnTo>
                        <a:pt x="175" y="325"/>
                      </a:lnTo>
                      <a:lnTo>
                        <a:pt x="178" y="323"/>
                      </a:lnTo>
                      <a:lnTo>
                        <a:pt x="178" y="322"/>
                      </a:lnTo>
                      <a:lnTo>
                        <a:pt x="181" y="320"/>
                      </a:lnTo>
                      <a:lnTo>
                        <a:pt x="181" y="319"/>
                      </a:lnTo>
                      <a:lnTo>
                        <a:pt x="183" y="317"/>
                      </a:lnTo>
                      <a:lnTo>
                        <a:pt x="183" y="315"/>
                      </a:lnTo>
                      <a:lnTo>
                        <a:pt x="186" y="313"/>
                      </a:lnTo>
                      <a:lnTo>
                        <a:pt x="189" y="312"/>
                      </a:lnTo>
                      <a:lnTo>
                        <a:pt x="189" y="310"/>
                      </a:lnTo>
                      <a:lnTo>
                        <a:pt x="192" y="309"/>
                      </a:lnTo>
                      <a:lnTo>
                        <a:pt x="192" y="306"/>
                      </a:lnTo>
                      <a:lnTo>
                        <a:pt x="194" y="304"/>
                      </a:lnTo>
                      <a:lnTo>
                        <a:pt x="194" y="303"/>
                      </a:lnTo>
                      <a:lnTo>
                        <a:pt x="197" y="301"/>
                      </a:lnTo>
                      <a:lnTo>
                        <a:pt x="197" y="299"/>
                      </a:lnTo>
                      <a:lnTo>
                        <a:pt x="200" y="296"/>
                      </a:lnTo>
                      <a:lnTo>
                        <a:pt x="200" y="295"/>
                      </a:lnTo>
                      <a:lnTo>
                        <a:pt x="203" y="293"/>
                      </a:lnTo>
                      <a:lnTo>
                        <a:pt x="203" y="291"/>
                      </a:lnTo>
                      <a:lnTo>
                        <a:pt x="205" y="288"/>
                      </a:lnTo>
                      <a:lnTo>
                        <a:pt x="208" y="286"/>
                      </a:lnTo>
                      <a:lnTo>
                        <a:pt x="208" y="284"/>
                      </a:lnTo>
                      <a:lnTo>
                        <a:pt x="211" y="282"/>
                      </a:lnTo>
                      <a:lnTo>
                        <a:pt x="211" y="279"/>
                      </a:lnTo>
                      <a:lnTo>
                        <a:pt x="214" y="277"/>
                      </a:lnTo>
                      <a:lnTo>
                        <a:pt x="214" y="275"/>
                      </a:lnTo>
                      <a:lnTo>
                        <a:pt x="216" y="273"/>
                      </a:lnTo>
                      <a:lnTo>
                        <a:pt x="216" y="271"/>
                      </a:lnTo>
                      <a:lnTo>
                        <a:pt x="219" y="268"/>
                      </a:lnTo>
                      <a:lnTo>
                        <a:pt x="219" y="266"/>
                      </a:lnTo>
                      <a:lnTo>
                        <a:pt x="222" y="264"/>
                      </a:lnTo>
                      <a:lnTo>
                        <a:pt x="225" y="260"/>
                      </a:lnTo>
                      <a:lnTo>
                        <a:pt x="225" y="258"/>
                      </a:lnTo>
                      <a:lnTo>
                        <a:pt x="227" y="256"/>
                      </a:lnTo>
                      <a:lnTo>
                        <a:pt x="227" y="254"/>
                      </a:lnTo>
                      <a:lnTo>
                        <a:pt x="230" y="250"/>
                      </a:lnTo>
                      <a:lnTo>
                        <a:pt x="230" y="248"/>
                      </a:lnTo>
                      <a:lnTo>
                        <a:pt x="233" y="246"/>
                      </a:lnTo>
                      <a:lnTo>
                        <a:pt x="233" y="242"/>
                      </a:lnTo>
                      <a:lnTo>
                        <a:pt x="236" y="240"/>
                      </a:lnTo>
                      <a:lnTo>
                        <a:pt x="236" y="237"/>
                      </a:lnTo>
                      <a:lnTo>
                        <a:pt x="238" y="235"/>
                      </a:lnTo>
                      <a:lnTo>
                        <a:pt x="238" y="233"/>
                      </a:lnTo>
                      <a:lnTo>
                        <a:pt x="241" y="229"/>
                      </a:lnTo>
                      <a:lnTo>
                        <a:pt x="244" y="227"/>
                      </a:lnTo>
                      <a:lnTo>
                        <a:pt x="244" y="224"/>
                      </a:lnTo>
                      <a:lnTo>
                        <a:pt x="247" y="220"/>
                      </a:lnTo>
                      <a:lnTo>
                        <a:pt x="247" y="218"/>
                      </a:lnTo>
                      <a:lnTo>
                        <a:pt x="249" y="215"/>
                      </a:lnTo>
                      <a:lnTo>
                        <a:pt x="249" y="212"/>
                      </a:lnTo>
                      <a:lnTo>
                        <a:pt x="252" y="209"/>
                      </a:lnTo>
                      <a:lnTo>
                        <a:pt x="252" y="207"/>
                      </a:lnTo>
                      <a:lnTo>
                        <a:pt x="255" y="203"/>
                      </a:lnTo>
                      <a:lnTo>
                        <a:pt x="255" y="200"/>
                      </a:lnTo>
                      <a:lnTo>
                        <a:pt x="258" y="198"/>
                      </a:lnTo>
                      <a:lnTo>
                        <a:pt x="260" y="194"/>
                      </a:lnTo>
                      <a:lnTo>
                        <a:pt x="260" y="191"/>
                      </a:lnTo>
                      <a:lnTo>
                        <a:pt x="263" y="189"/>
                      </a:lnTo>
                      <a:lnTo>
                        <a:pt x="263" y="185"/>
                      </a:lnTo>
                      <a:lnTo>
                        <a:pt x="266" y="182"/>
                      </a:lnTo>
                      <a:lnTo>
                        <a:pt x="266" y="180"/>
                      </a:lnTo>
                      <a:lnTo>
                        <a:pt x="269" y="176"/>
                      </a:lnTo>
                      <a:lnTo>
                        <a:pt x="269" y="173"/>
                      </a:lnTo>
                      <a:lnTo>
                        <a:pt x="271" y="171"/>
                      </a:lnTo>
                      <a:lnTo>
                        <a:pt x="271" y="167"/>
                      </a:lnTo>
                      <a:lnTo>
                        <a:pt x="274" y="164"/>
                      </a:lnTo>
                      <a:lnTo>
                        <a:pt x="274" y="162"/>
                      </a:lnTo>
                      <a:lnTo>
                        <a:pt x="277" y="159"/>
                      </a:lnTo>
                      <a:lnTo>
                        <a:pt x="280" y="155"/>
                      </a:lnTo>
                      <a:lnTo>
                        <a:pt x="280" y="153"/>
                      </a:lnTo>
                      <a:lnTo>
                        <a:pt x="282" y="150"/>
                      </a:lnTo>
                      <a:lnTo>
                        <a:pt x="282" y="147"/>
                      </a:lnTo>
                      <a:lnTo>
                        <a:pt x="285" y="144"/>
                      </a:lnTo>
                      <a:lnTo>
                        <a:pt x="285" y="141"/>
                      </a:lnTo>
                      <a:lnTo>
                        <a:pt x="288" y="138"/>
                      </a:lnTo>
                      <a:lnTo>
                        <a:pt x="288" y="135"/>
                      </a:lnTo>
                      <a:lnTo>
                        <a:pt x="291" y="133"/>
                      </a:lnTo>
                      <a:lnTo>
                        <a:pt x="291" y="129"/>
                      </a:lnTo>
                      <a:lnTo>
                        <a:pt x="293" y="127"/>
                      </a:lnTo>
                      <a:lnTo>
                        <a:pt x="296" y="124"/>
                      </a:lnTo>
                      <a:lnTo>
                        <a:pt x="296" y="122"/>
                      </a:lnTo>
                      <a:lnTo>
                        <a:pt x="299" y="119"/>
                      </a:lnTo>
                      <a:lnTo>
                        <a:pt x="299" y="116"/>
                      </a:lnTo>
                      <a:lnTo>
                        <a:pt x="302" y="114"/>
                      </a:lnTo>
                      <a:lnTo>
                        <a:pt x="302" y="110"/>
                      </a:lnTo>
                      <a:lnTo>
                        <a:pt x="304" y="108"/>
                      </a:lnTo>
                      <a:lnTo>
                        <a:pt x="304" y="106"/>
                      </a:lnTo>
                      <a:lnTo>
                        <a:pt x="307" y="104"/>
                      </a:lnTo>
                      <a:lnTo>
                        <a:pt x="307" y="100"/>
                      </a:lnTo>
                      <a:lnTo>
                        <a:pt x="310" y="98"/>
                      </a:lnTo>
                      <a:lnTo>
                        <a:pt x="310" y="96"/>
                      </a:lnTo>
                      <a:lnTo>
                        <a:pt x="313" y="93"/>
                      </a:lnTo>
                      <a:lnTo>
                        <a:pt x="315" y="91"/>
                      </a:lnTo>
                      <a:lnTo>
                        <a:pt x="315" y="89"/>
                      </a:lnTo>
                      <a:lnTo>
                        <a:pt x="318" y="87"/>
                      </a:lnTo>
                      <a:lnTo>
                        <a:pt x="318" y="84"/>
                      </a:lnTo>
                      <a:lnTo>
                        <a:pt x="321" y="82"/>
                      </a:lnTo>
                      <a:lnTo>
                        <a:pt x="321" y="80"/>
                      </a:lnTo>
                      <a:lnTo>
                        <a:pt x="324" y="78"/>
                      </a:lnTo>
                      <a:lnTo>
                        <a:pt x="324" y="76"/>
                      </a:lnTo>
                      <a:lnTo>
                        <a:pt x="326" y="73"/>
                      </a:lnTo>
                      <a:lnTo>
                        <a:pt x="326" y="71"/>
                      </a:lnTo>
                      <a:lnTo>
                        <a:pt x="329" y="70"/>
                      </a:lnTo>
                      <a:lnTo>
                        <a:pt x="329" y="68"/>
                      </a:lnTo>
                      <a:lnTo>
                        <a:pt x="332" y="66"/>
                      </a:lnTo>
                      <a:lnTo>
                        <a:pt x="335" y="63"/>
                      </a:lnTo>
                      <a:lnTo>
                        <a:pt x="335" y="62"/>
                      </a:lnTo>
                      <a:lnTo>
                        <a:pt x="337" y="60"/>
                      </a:lnTo>
                      <a:lnTo>
                        <a:pt x="337" y="59"/>
                      </a:lnTo>
                      <a:lnTo>
                        <a:pt x="340" y="57"/>
                      </a:lnTo>
                      <a:lnTo>
                        <a:pt x="340" y="55"/>
                      </a:lnTo>
                      <a:lnTo>
                        <a:pt x="343" y="53"/>
                      </a:lnTo>
                      <a:lnTo>
                        <a:pt x="343" y="52"/>
                      </a:lnTo>
                      <a:lnTo>
                        <a:pt x="346" y="50"/>
                      </a:lnTo>
                      <a:lnTo>
                        <a:pt x="346" y="49"/>
                      </a:lnTo>
                      <a:lnTo>
                        <a:pt x="348" y="48"/>
                      </a:lnTo>
                      <a:lnTo>
                        <a:pt x="351" y="46"/>
                      </a:lnTo>
                      <a:lnTo>
                        <a:pt x="351" y="44"/>
                      </a:lnTo>
                      <a:lnTo>
                        <a:pt x="354" y="43"/>
                      </a:lnTo>
                      <a:lnTo>
                        <a:pt x="354" y="42"/>
                      </a:lnTo>
                      <a:lnTo>
                        <a:pt x="357" y="41"/>
                      </a:lnTo>
                      <a:lnTo>
                        <a:pt x="357" y="40"/>
                      </a:lnTo>
                      <a:lnTo>
                        <a:pt x="359" y="37"/>
                      </a:lnTo>
                      <a:lnTo>
                        <a:pt x="359" y="36"/>
                      </a:lnTo>
                      <a:lnTo>
                        <a:pt x="362" y="35"/>
                      </a:lnTo>
                      <a:lnTo>
                        <a:pt x="362" y="34"/>
                      </a:lnTo>
                      <a:lnTo>
                        <a:pt x="365" y="33"/>
                      </a:lnTo>
                      <a:lnTo>
                        <a:pt x="365" y="32"/>
                      </a:lnTo>
                      <a:lnTo>
                        <a:pt x="368" y="31"/>
                      </a:lnTo>
                      <a:lnTo>
                        <a:pt x="370" y="31"/>
                      </a:lnTo>
                      <a:lnTo>
                        <a:pt x="370" y="30"/>
                      </a:lnTo>
                      <a:lnTo>
                        <a:pt x="373" y="29"/>
                      </a:lnTo>
                      <a:lnTo>
                        <a:pt x="373" y="27"/>
                      </a:lnTo>
                      <a:lnTo>
                        <a:pt x="376" y="26"/>
                      </a:lnTo>
                      <a:lnTo>
                        <a:pt x="376" y="25"/>
                      </a:lnTo>
                      <a:lnTo>
                        <a:pt x="379" y="25"/>
                      </a:lnTo>
                      <a:lnTo>
                        <a:pt x="379" y="24"/>
                      </a:lnTo>
                      <a:lnTo>
                        <a:pt x="381" y="23"/>
                      </a:lnTo>
                      <a:lnTo>
                        <a:pt x="381" y="22"/>
                      </a:lnTo>
                      <a:lnTo>
                        <a:pt x="384" y="22"/>
                      </a:lnTo>
                      <a:lnTo>
                        <a:pt x="387" y="21"/>
                      </a:lnTo>
                      <a:lnTo>
                        <a:pt x="387" y="20"/>
                      </a:lnTo>
                      <a:lnTo>
                        <a:pt x="390" y="20"/>
                      </a:lnTo>
                      <a:lnTo>
                        <a:pt x="390" y="18"/>
                      </a:lnTo>
                      <a:lnTo>
                        <a:pt x="392" y="18"/>
                      </a:lnTo>
                      <a:lnTo>
                        <a:pt x="392" y="17"/>
                      </a:lnTo>
                      <a:lnTo>
                        <a:pt x="395" y="17"/>
                      </a:lnTo>
                      <a:lnTo>
                        <a:pt x="395" y="16"/>
                      </a:lnTo>
                      <a:lnTo>
                        <a:pt x="398" y="16"/>
                      </a:lnTo>
                      <a:lnTo>
                        <a:pt x="398" y="15"/>
                      </a:lnTo>
                      <a:lnTo>
                        <a:pt x="400" y="15"/>
                      </a:lnTo>
                      <a:lnTo>
                        <a:pt x="400" y="14"/>
                      </a:lnTo>
                      <a:lnTo>
                        <a:pt x="403" y="14"/>
                      </a:lnTo>
                      <a:lnTo>
                        <a:pt x="406" y="13"/>
                      </a:lnTo>
                      <a:lnTo>
                        <a:pt x="409" y="12"/>
                      </a:lnTo>
                      <a:lnTo>
                        <a:pt x="411" y="12"/>
                      </a:lnTo>
                      <a:lnTo>
                        <a:pt x="411" y="11"/>
                      </a:lnTo>
                      <a:lnTo>
                        <a:pt x="414" y="11"/>
                      </a:lnTo>
                      <a:lnTo>
                        <a:pt x="417" y="9"/>
                      </a:lnTo>
                      <a:lnTo>
                        <a:pt x="420" y="9"/>
                      </a:lnTo>
                      <a:lnTo>
                        <a:pt x="422" y="8"/>
                      </a:lnTo>
                      <a:lnTo>
                        <a:pt x="425" y="8"/>
                      </a:lnTo>
                      <a:lnTo>
                        <a:pt x="425" y="7"/>
                      </a:lnTo>
                      <a:lnTo>
                        <a:pt x="428" y="7"/>
                      </a:lnTo>
                      <a:lnTo>
                        <a:pt x="431" y="7"/>
                      </a:lnTo>
                      <a:lnTo>
                        <a:pt x="431" y="6"/>
                      </a:lnTo>
                      <a:lnTo>
                        <a:pt x="433" y="6"/>
                      </a:lnTo>
                      <a:lnTo>
                        <a:pt x="436" y="6"/>
                      </a:lnTo>
                      <a:lnTo>
                        <a:pt x="439" y="5"/>
                      </a:lnTo>
                      <a:lnTo>
                        <a:pt x="442" y="5"/>
                      </a:lnTo>
                      <a:lnTo>
                        <a:pt x="444" y="5"/>
                      </a:lnTo>
                      <a:lnTo>
                        <a:pt x="447" y="4"/>
                      </a:lnTo>
                      <a:lnTo>
                        <a:pt x="450" y="4"/>
                      </a:lnTo>
                      <a:lnTo>
                        <a:pt x="453" y="4"/>
                      </a:lnTo>
                      <a:lnTo>
                        <a:pt x="455" y="4"/>
                      </a:lnTo>
                      <a:lnTo>
                        <a:pt x="455" y="3"/>
                      </a:lnTo>
                      <a:lnTo>
                        <a:pt x="458" y="3"/>
                      </a:lnTo>
                      <a:lnTo>
                        <a:pt x="461" y="3"/>
                      </a:lnTo>
                      <a:lnTo>
                        <a:pt x="464" y="3"/>
                      </a:lnTo>
                      <a:lnTo>
                        <a:pt x="466" y="3"/>
                      </a:lnTo>
                      <a:lnTo>
                        <a:pt x="469" y="2"/>
                      </a:lnTo>
                      <a:lnTo>
                        <a:pt x="472" y="2"/>
                      </a:lnTo>
                      <a:lnTo>
                        <a:pt x="475" y="2"/>
                      </a:lnTo>
                      <a:lnTo>
                        <a:pt x="477" y="2"/>
                      </a:lnTo>
                      <a:lnTo>
                        <a:pt x="480" y="2"/>
                      </a:lnTo>
                      <a:lnTo>
                        <a:pt x="483" y="2"/>
                      </a:lnTo>
                      <a:lnTo>
                        <a:pt x="486" y="2"/>
                      </a:lnTo>
                      <a:lnTo>
                        <a:pt x="488" y="1"/>
                      </a:lnTo>
                      <a:lnTo>
                        <a:pt x="491" y="1"/>
                      </a:lnTo>
                      <a:lnTo>
                        <a:pt x="494" y="1"/>
                      </a:lnTo>
                      <a:lnTo>
                        <a:pt x="497" y="1"/>
                      </a:lnTo>
                      <a:lnTo>
                        <a:pt x="499" y="1"/>
                      </a:lnTo>
                      <a:lnTo>
                        <a:pt x="502" y="1"/>
                      </a:lnTo>
                      <a:lnTo>
                        <a:pt x="505" y="1"/>
                      </a:lnTo>
                      <a:lnTo>
                        <a:pt x="508" y="1"/>
                      </a:lnTo>
                      <a:lnTo>
                        <a:pt x="510" y="1"/>
                      </a:lnTo>
                      <a:lnTo>
                        <a:pt x="513" y="1"/>
                      </a:lnTo>
                      <a:lnTo>
                        <a:pt x="516" y="1"/>
                      </a:lnTo>
                      <a:lnTo>
                        <a:pt x="519" y="1"/>
                      </a:lnTo>
                      <a:lnTo>
                        <a:pt x="521" y="1"/>
                      </a:lnTo>
                      <a:lnTo>
                        <a:pt x="524" y="1"/>
                      </a:lnTo>
                      <a:lnTo>
                        <a:pt x="527" y="0"/>
                      </a:lnTo>
                      <a:lnTo>
                        <a:pt x="530" y="0"/>
                      </a:lnTo>
                      <a:lnTo>
                        <a:pt x="532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1" y="0"/>
                      </a:lnTo>
                      <a:lnTo>
                        <a:pt x="543" y="0"/>
                      </a:lnTo>
                      <a:lnTo>
                        <a:pt x="546" y="0"/>
                      </a:lnTo>
                      <a:lnTo>
                        <a:pt x="549" y="0"/>
                      </a:lnTo>
                      <a:lnTo>
                        <a:pt x="552" y="0"/>
                      </a:lnTo>
                      <a:lnTo>
                        <a:pt x="554" y="0"/>
                      </a:lnTo>
                      <a:lnTo>
                        <a:pt x="557" y="0"/>
                      </a:lnTo>
                      <a:lnTo>
                        <a:pt x="560" y="0"/>
                      </a:lnTo>
                      <a:lnTo>
                        <a:pt x="563" y="0"/>
                      </a:lnTo>
                      <a:lnTo>
                        <a:pt x="565" y="0"/>
                      </a:lnTo>
                      <a:lnTo>
                        <a:pt x="568" y="0"/>
                      </a:lnTo>
                      <a:lnTo>
                        <a:pt x="571" y="0"/>
                      </a:lnTo>
                      <a:lnTo>
                        <a:pt x="574" y="0"/>
                      </a:lnTo>
                      <a:lnTo>
                        <a:pt x="576" y="0"/>
                      </a:lnTo>
                      <a:lnTo>
                        <a:pt x="579" y="0"/>
                      </a:lnTo>
                      <a:lnTo>
                        <a:pt x="582" y="0"/>
                      </a:lnTo>
                      <a:lnTo>
                        <a:pt x="585" y="0"/>
                      </a:lnTo>
                      <a:lnTo>
                        <a:pt x="587" y="0"/>
                      </a:lnTo>
                      <a:lnTo>
                        <a:pt x="590" y="0"/>
                      </a:lnTo>
                      <a:lnTo>
                        <a:pt x="593" y="0"/>
                      </a:lnTo>
                      <a:lnTo>
                        <a:pt x="596" y="0"/>
                      </a:lnTo>
                      <a:lnTo>
                        <a:pt x="598" y="0"/>
                      </a:lnTo>
                      <a:lnTo>
                        <a:pt x="601" y="0"/>
                      </a:lnTo>
                      <a:lnTo>
                        <a:pt x="604" y="0"/>
                      </a:lnTo>
                      <a:lnTo>
                        <a:pt x="607" y="0"/>
                      </a:lnTo>
                      <a:lnTo>
                        <a:pt x="609" y="0"/>
                      </a:lnTo>
                      <a:lnTo>
                        <a:pt x="612" y="0"/>
                      </a:lnTo>
                      <a:lnTo>
                        <a:pt x="615" y="0"/>
                      </a:lnTo>
                      <a:lnTo>
                        <a:pt x="618" y="0"/>
                      </a:lnTo>
                      <a:lnTo>
                        <a:pt x="620" y="0"/>
                      </a:lnTo>
                      <a:lnTo>
                        <a:pt x="623" y="0"/>
                      </a:lnTo>
                      <a:lnTo>
                        <a:pt x="626" y="0"/>
                      </a:lnTo>
                      <a:lnTo>
                        <a:pt x="629" y="0"/>
                      </a:lnTo>
                      <a:lnTo>
                        <a:pt x="631" y="0"/>
                      </a:lnTo>
                      <a:lnTo>
                        <a:pt x="634" y="0"/>
                      </a:lnTo>
                      <a:lnTo>
                        <a:pt x="637" y="0"/>
                      </a:lnTo>
                      <a:lnTo>
                        <a:pt x="640" y="0"/>
                      </a:lnTo>
                      <a:lnTo>
                        <a:pt x="642" y="0"/>
                      </a:lnTo>
                      <a:lnTo>
                        <a:pt x="645" y="0"/>
                      </a:lnTo>
                      <a:lnTo>
                        <a:pt x="648" y="0"/>
                      </a:lnTo>
                      <a:lnTo>
                        <a:pt x="651" y="0"/>
                      </a:lnTo>
                      <a:lnTo>
                        <a:pt x="653" y="0"/>
                      </a:lnTo>
                      <a:lnTo>
                        <a:pt x="656" y="0"/>
                      </a:lnTo>
                      <a:lnTo>
                        <a:pt x="658" y="0"/>
                      </a:lnTo>
                      <a:lnTo>
                        <a:pt x="661" y="0"/>
                      </a:lnTo>
                      <a:lnTo>
                        <a:pt x="664" y="0"/>
                      </a:lnTo>
                      <a:lnTo>
                        <a:pt x="667" y="0"/>
                      </a:lnTo>
                      <a:lnTo>
                        <a:pt x="669" y="0"/>
                      </a:lnTo>
                      <a:lnTo>
                        <a:pt x="672" y="0"/>
                      </a:lnTo>
                      <a:lnTo>
                        <a:pt x="675" y="0"/>
                      </a:lnTo>
                      <a:lnTo>
                        <a:pt x="678" y="0"/>
                      </a:lnTo>
                      <a:lnTo>
                        <a:pt x="680" y="0"/>
                      </a:lnTo>
                      <a:lnTo>
                        <a:pt x="683" y="0"/>
                      </a:lnTo>
                      <a:lnTo>
                        <a:pt x="686" y="0"/>
                      </a:lnTo>
                      <a:lnTo>
                        <a:pt x="689" y="0"/>
                      </a:lnTo>
                      <a:lnTo>
                        <a:pt x="691" y="0"/>
                      </a:lnTo>
                      <a:lnTo>
                        <a:pt x="694" y="0"/>
                      </a:lnTo>
                      <a:lnTo>
                        <a:pt x="697" y="0"/>
                      </a:lnTo>
                      <a:lnTo>
                        <a:pt x="700" y="0"/>
                      </a:lnTo>
                      <a:lnTo>
                        <a:pt x="702" y="0"/>
                      </a:lnTo>
                      <a:lnTo>
                        <a:pt x="705" y="0"/>
                      </a:lnTo>
                      <a:lnTo>
                        <a:pt x="708" y="0"/>
                      </a:lnTo>
                      <a:lnTo>
                        <a:pt x="711" y="0"/>
                      </a:lnTo>
                      <a:lnTo>
                        <a:pt x="713" y="0"/>
                      </a:lnTo>
                      <a:lnTo>
                        <a:pt x="716" y="0"/>
                      </a:lnTo>
                      <a:lnTo>
                        <a:pt x="719" y="0"/>
                      </a:lnTo>
                      <a:lnTo>
                        <a:pt x="722" y="0"/>
                      </a:lnTo>
                      <a:lnTo>
                        <a:pt x="724" y="0"/>
                      </a:lnTo>
                      <a:lnTo>
                        <a:pt x="727" y="0"/>
                      </a:lnTo>
                      <a:lnTo>
                        <a:pt x="730" y="0"/>
                      </a:lnTo>
                      <a:lnTo>
                        <a:pt x="733" y="0"/>
                      </a:lnTo>
                      <a:lnTo>
                        <a:pt x="735" y="0"/>
                      </a:lnTo>
                      <a:lnTo>
                        <a:pt x="738" y="0"/>
                      </a:lnTo>
                      <a:lnTo>
                        <a:pt x="741" y="0"/>
                      </a:lnTo>
                      <a:lnTo>
                        <a:pt x="744" y="0"/>
                      </a:lnTo>
                      <a:lnTo>
                        <a:pt x="746" y="0"/>
                      </a:lnTo>
                      <a:lnTo>
                        <a:pt x="749" y="0"/>
                      </a:lnTo>
                      <a:lnTo>
                        <a:pt x="752" y="0"/>
                      </a:lnTo>
                      <a:lnTo>
                        <a:pt x="755" y="0"/>
                      </a:lnTo>
                      <a:lnTo>
                        <a:pt x="758" y="0"/>
                      </a:lnTo>
                    </a:path>
                  </a:pathLst>
                </a:custGeom>
                <a:noFill/>
                <a:ln cap="rnd"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561440" y="5073480"/>
                  <a:ext cx="1112040" cy="608040"/>
                </a:xfrm>
                <a:custGeom>
                  <a:avLst/>
                  <a:gdLst/>
                  <a:ahLst/>
                  <a:rect l="l" t="t" r="r" b="b"/>
                  <a:pathLst>
                    <a:path w="759" h="383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7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0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9" y="0"/>
                      </a:lnTo>
                      <a:lnTo>
                        <a:pt x="82" y="0"/>
                      </a:lnTo>
                      <a:lnTo>
                        <a:pt x="85" y="0"/>
                      </a:lnTo>
                      <a:lnTo>
                        <a:pt x="88" y="0"/>
                      </a:lnTo>
                      <a:lnTo>
                        <a:pt x="90" y="0"/>
                      </a:lnTo>
                      <a:lnTo>
                        <a:pt x="93" y="0"/>
                      </a:lnTo>
                      <a:lnTo>
                        <a:pt x="96" y="0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104" y="0"/>
                      </a:lnTo>
                      <a:lnTo>
                        <a:pt x="107" y="0"/>
                      </a:lnTo>
                      <a:lnTo>
                        <a:pt x="110" y="0"/>
                      </a:lnTo>
                      <a:lnTo>
                        <a:pt x="112" y="0"/>
                      </a:lnTo>
                      <a:lnTo>
                        <a:pt x="115" y="0"/>
                      </a:lnTo>
                      <a:lnTo>
                        <a:pt x="118" y="0"/>
                      </a:lnTo>
                      <a:lnTo>
                        <a:pt x="121" y="0"/>
                      </a:lnTo>
                      <a:lnTo>
                        <a:pt x="123" y="0"/>
                      </a:lnTo>
                      <a:lnTo>
                        <a:pt x="126" y="0"/>
                      </a:lnTo>
                      <a:lnTo>
                        <a:pt x="129" y="0"/>
                      </a:lnTo>
                      <a:lnTo>
                        <a:pt x="132" y="0"/>
                      </a:lnTo>
                      <a:lnTo>
                        <a:pt x="134" y="0"/>
                      </a:lnTo>
                      <a:lnTo>
                        <a:pt x="137" y="0"/>
                      </a:lnTo>
                      <a:lnTo>
                        <a:pt x="140" y="0"/>
                      </a:lnTo>
                      <a:lnTo>
                        <a:pt x="143" y="0"/>
                      </a:lnTo>
                      <a:lnTo>
                        <a:pt x="145" y="0"/>
                      </a:lnTo>
                      <a:lnTo>
                        <a:pt x="148" y="0"/>
                      </a:lnTo>
                      <a:lnTo>
                        <a:pt x="151" y="0"/>
                      </a:lnTo>
                      <a:lnTo>
                        <a:pt x="154" y="0"/>
                      </a:lnTo>
                      <a:lnTo>
                        <a:pt x="156" y="0"/>
                      </a:lnTo>
                      <a:lnTo>
                        <a:pt x="159" y="0"/>
                      </a:lnTo>
                      <a:lnTo>
                        <a:pt x="162" y="0"/>
                      </a:lnTo>
                      <a:lnTo>
                        <a:pt x="165" y="0"/>
                      </a:lnTo>
                      <a:lnTo>
                        <a:pt x="167" y="0"/>
                      </a:lnTo>
                      <a:lnTo>
                        <a:pt x="170" y="0"/>
                      </a:lnTo>
                      <a:lnTo>
                        <a:pt x="173" y="0"/>
                      </a:lnTo>
                      <a:lnTo>
                        <a:pt x="176" y="0"/>
                      </a:lnTo>
                      <a:lnTo>
                        <a:pt x="178" y="0"/>
                      </a:lnTo>
                      <a:lnTo>
                        <a:pt x="181" y="0"/>
                      </a:lnTo>
                      <a:lnTo>
                        <a:pt x="184" y="0"/>
                      </a:lnTo>
                      <a:lnTo>
                        <a:pt x="186" y="0"/>
                      </a:lnTo>
                      <a:lnTo>
                        <a:pt x="189" y="0"/>
                      </a:lnTo>
                      <a:lnTo>
                        <a:pt x="192" y="0"/>
                      </a:lnTo>
                      <a:lnTo>
                        <a:pt x="194" y="0"/>
                      </a:lnTo>
                      <a:lnTo>
                        <a:pt x="197" y="0"/>
                      </a:lnTo>
                      <a:lnTo>
                        <a:pt x="200" y="0"/>
                      </a:lnTo>
                      <a:lnTo>
                        <a:pt x="203" y="0"/>
                      </a:lnTo>
                      <a:lnTo>
                        <a:pt x="205" y="0"/>
                      </a:lnTo>
                      <a:lnTo>
                        <a:pt x="208" y="0"/>
                      </a:lnTo>
                      <a:lnTo>
                        <a:pt x="211" y="0"/>
                      </a:lnTo>
                      <a:lnTo>
                        <a:pt x="214" y="0"/>
                      </a:lnTo>
                      <a:lnTo>
                        <a:pt x="216" y="0"/>
                      </a:lnTo>
                      <a:lnTo>
                        <a:pt x="219" y="0"/>
                      </a:lnTo>
                      <a:lnTo>
                        <a:pt x="222" y="0"/>
                      </a:lnTo>
                      <a:lnTo>
                        <a:pt x="225" y="0"/>
                      </a:lnTo>
                      <a:lnTo>
                        <a:pt x="227" y="0"/>
                      </a:lnTo>
                      <a:lnTo>
                        <a:pt x="230" y="0"/>
                      </a:lnTo>
                      <a:lnTo>
                        <a:pt x="233" y="1"/>
                      </a:lnTo>
                      <a:lnTo>
                        <a:pt x="236" y="1"/>
                      </a:lnTo>
                      <a:lnTo>
                        <a:pt x="238" y="1"/>
                      </a:lnTo>
                      <a:lnTo>
                        <a:pt x="241" y="1"/>
                      </a:lnTo>
                      <a:lnTo>
                        <a:pt x="244" y="1"/>
                      </a:lnTo>
                      <a:lnTo>
                        <a:pt x="247" y="1"/>
                      </a:lnTo>
                      <a:lnTo>
                        <a:pt x="249" y="1"/>
                      </a:lnTo>
                      <a:lnTo>
                        <a:pt x="252" y="1"/>
                      </a:lnTo>
                      <a:lnTo>
                        <a:pt x="255" y="1"/>
                      </a:lnTo>
                      <a:lnTo>
                        <a:pt x="258" y="1"/>
                      </a:lnTo>
                      <a:lnTo>
                        <a:pt x="260" y="1"/>
                      </a:lnTo>
                      <a:lnTo>
                        <a:pt x="263" y="1"/>
                      </a:lnTo>
                      <a:lnTo>
                        <a:pt x="266" y="1"/>
                      </a:lnTo>
                      <a:lnTo>
                        <a:pt x="269" y="1"/>
                      </a:lnTo>
                      <a:lnTo>
                        <a:pt x="271" y="2"/>
                      </a:lnTo>
                      <a:lnTo>
                        <a:pt x="274" y="2"/>
                      </a:lnTo>
                      <a:lnTo>
                        <a:pt x="277" y="2"/>
                      </a:lnTo>
                      <a:lnTo>
                        <a:pt x="280" y="2"/>
                      </a:lnTo>
                      <a:lnTo>
                        <a:pt x="282" y="2"/>
                      </a:lnTo>
                      <a:lnTo>
                        <a:pt x="285" y="2"/>
                      </a:lnTo>
                      <a:lnTo>
                        <a:pt x="288" y="2"/>
                      </a:lnTo>
                      <a:lnTo>
                        <a:pt x="291" y="3"/>
                      </a:lnTo>
                      <a:lnTo>
                        <a:pt x="293" y="3"/>
                      </a:lnTo>
                      <a:lnTo>
                        <a:pt x="296" y="3"/>
                      </a:lnTo>
                      <a:lnTo>
                        <a:pt x="299" y="3"/>
                      </a:lnTo>
                      <a:lnTo>
                        <a:pt x="302" y="4"/>
                      </a:lnTo>
                      <a:lnTo>
                        <a:pt x="304" y="4"/>
                      </a:lnTo>
                      <a:lnTo>
                        <a:pt x="307" y="4"/>
                      </a:lnTo>
                      <a:lnTo>
                        <a:pt x="310" y="4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8" y="5"/>
                      </a:lnTo>
                      <a:lnTo>
                        <a:pt x="318" y="6"/>
                      </a:lnTo>
                      <a:lnTo>
                        <a:pt x="321" y="6"/>
                      </a:lnTo>
                      <a:lnTo>
                        <a:pt x="324" y="6"/>
                      </a:lnTo>
                      <a:lnTo>
                        <a:pt x="326" y="6"/>
                      </a:lnTo>
                      <a:lnTo>
                        <a:pt x="326" y="7"/>
                      </a:lnTo>
                      <a:lnTo>
                        <a:pt x="329" y="7"/>
                      </a:lnTo>
                      <a:lnTo>
                        <a:pt x="332" y="7"/>
                      </a:lnTo>
                      <a:lnTo>
                        <a:pt x="332" y="8"/>
                      </a:lnTo>
                      <a:lnTo>
                        <a:pt x="335" y="8"/>
                      </a:lnTo>
                      <a:lnTo>
                        <a:pt x="337" y="9"/>
                      </a:lnTo>
                      <a:lnTo>
                        <a:pt x="340" y="9"/>
                      </a:lnTo>
                      <a:lnTo>
                        <a:pt x="343" y="11"/>
                      </a:lnTo>
                      <a:lnTo>
                        <a:pt x="346" y="11"/>
                      </a:lnTo>
                      <a:lnTo>
                        <a:pt x="346" y="12"/>
                      </a:lnTo>
                      <a:lnTo>
                        <a:pt x="348" y="12"/>
                      </a:lnTo>
                      <a:lnTo>
                        <a:pt x="351" y="13"/>
                      </a:lnTo>
                      <a:lnTo>
                        <a:pt x="354" y="14"/>
                      </a:lnTo>
                      <a:lnTo>
                        <a:pt x="357" y="15"/>
                      </a:lnTo>
                      <a:lnTo>
                        <a:pt x="359" y="15"/>
                      </a:lnTo>
                      <a:lnTo>
                        <a:pt x="359" y="16"/>
                      </a:lnTo>
                      <a:lnTo>
                        <a:pt x="362" y="16"/>
                      </a:lnTo>
                      <a:lnTo>
                        <a:pt x="362" y="17"/>
                      </a:lnTo>
                      <a:lnTo>
                        <a:pt x="365" y="17"/>
                      </a:lnTo>
                      <a:lnTo>
                        <a:pt x="365" y="18"/>
                      </a:lnTo>
                      <a:lnTo>
                        <a:pt x="368" y="18"/>
                      </a:lnTo>
                      <a:lnTo>
                        <a:pt x="368" y="20"/>
                      </a:lnTo>
                      <a:lnTo>
                        <a:pt x="370" y="20"/>
                      </a:lnTo>
                      <a:lnTo>
                        <a:pt x="370" y="21"/>
                      </a:lnTo>
                      <a:lnTo>
                        <a:pt x="373" y="22"/>
                      </a:lnTo>
                      <a:lnTo>
                        <a:pt x="376" y="23"/>
                      </a:lnTo>
                      <a:lnTo>
                        <a:pt x="379" y="24"/>
                      </a:lnTo>
                      <a:lnTo>
                        <a:pt x="379" y="25"/>
                      </a:lnTo>
                      <a:lnTo>
                        <a:pt x="381" y="25"/>
                      </a:lnTo>
                      <a:lnTo>
                        <a:pt x="381" y="26"/>
                      </a:lnTo>
                      <a:lnTo>
                        <a:pt x="384" y="27"/>
                      </a:lnTo>
                      <a:lnTo>
                        <a:pt x="384" y="29"/>
                      </a:lnTo>
                      <a:lnTo>
                        <a:pt x="387" y="30"/>
                      </a:lnTo>
                      <a:lnTo>
                        <a:pt x="387" y="31"/>
                      </a:lnTo>
                      <a:lnTo>
                        <a:pt x="390" y="31"/>
                      </a:lnTo>
                      <a:lnTo>
                        <a:pt x="390" y="32"/>
                      </a:lnTo>
                      <a:lnTo>
                        <a:pt x="392" y="33"/>
                      </a:lnTo>
                      <a:lnTo>
                        <a:pt x="395" y="34"/>
                      </a:lnTo>
                      <a:lnTo>
                        <a:pt x="395" y="35"/>
                      </a:lnTo>
                      <a:lnTo>
                        <a:pt x="398" y="36"/>
                      </a:lnTo>
                      <a:lnTo>
                        <a:pt x="398" y="37"/>
                      </a:lnTo>
                      <a:lnTo>
                        <a:pt x="401" y="40"/>
                      </a:lnTo>
                      <a:lnTo>
                        <a:pt x="401" y="41"/>
                      </a:lnTo>
                      <a:lnTo>
                        <a:pt x="403" y="42"/>
                      </a:lnTo>
                      <a:lnTo>
                        <a:pt x="403" y="43"/>
                      </a:lnTo>
                      <a:lnTo>
                        <a:pt x="406" y="44"/>
                      </a:lnTo>
                      <a:lnTo>
                        <a:pt x="406" y="46"/>
                      </a:lnTo>
                      <a:lnTo>
                        <a:pt x="409" y="48"/>
                      </a:lnTo>
                      <a:lnTo>
                        <a:pt x="409" y="49"/>
                      </a:lnTo>
                      <a:lnTo>
                        <a:pt x="412" y="50"/>
                      </a:lnTo>
                      <a:lnTo>
                        <a:pt x="414" y="52"/>
                      </a:lnTo>
                      <a:lnTo>
                        <a:pt x="414" y="53"/>
                      </a:lnTo>
                      <a:lnTo>
                        <a:pt x="417" y="55"/>
                      </a:lnTo>
                      <a:lnTo>
                        <a:pt x="417" y="57"/>
                      </a:lnTo>
                      <a:lnTo>
                        <a:pt x="420" y="59"/>
                      </a:lnTo>
                      <a:lnTo>
                        <a:pt x="420" y="60"/>
                      </a:lnTo>
                      <a:lnTo>
                        <a:pt x="423" y="62"/>
                      </a:lnTo>
                      <a:lnTo>
                        <a:pt x="423" y="63"/>
                      </a:lnTo>
                      <a:lnTo>
                        <a:pt x="426" y="66"/>
                      </a:lnTo>
                      <a:lnTo>
                        <a:pt x="426" y="68"/>
                      </a:lnTo>
                      <a:lnTo>
                        <a:pt x="428" y="70"/>
                      </a:lnTo>
                      <a:lnTo>
                        <a:pt x="431" y="71"/>
                      </a:lnTo>
                      <a:lnTo>
                        <a:pt x="431" y="73"/>
                      </a:lnTo>
                      <a:lnTo>
                        <a:pt x="434" y="76"/>
                      </a:lnTo>
                      <a:lnTo>
                        <a:pt x="434" y="78"/>
                      </a:lnTo>
                      <a:lnTo>
                        <a:pt x="437" y="80"/>
                      </a:lnTo>
                      <a:lnTo>
                        <a:pt x="437" y="82"/>
                      </a:lnTo>
                      <a:lnTo>
                        <a:pt x="439" y="84"/>
                      </a:lnTo>
                      <a:lnTo>
                        <a:pt x="439" y="87"/>
                      </a:lnTo>
                      <a:lnTo>
                        <a:pt x="442" y="89"/>
                      </a:lnTo>
                      <a:lnTo>
                        <a:pt x="442" y="91"/>
                      </a:lnTo>
                      <a:lnTo>
                        <a:pt x="444" y="93"/>
                      </a:lnTo>
                      <a:lnTo>
                        <a:pt x="444" y="96"/>
                      </a:lnTo>
                      <a:lnTo>
                        <a:pt x="447" y="98"/>
                      </a:lnTo>
                      <a:lnTo>
                        <a:pt x="450" y="100"/>
                      </a:lnTo>
                      <a:lnTo>
                        <a:pt x="450" y="104"/>
                      </a:lnTo>
                      <a:lnTo>
                        <a:pt x="453" y="106"/>
                      </a:lnTo>
                      <a:lnTo>
                        <a:pt x="453" y="108"/>
                      </a:lnTo>
                      <a:lnTo>
                        <a:pt x="455" y="110"/>
                      </a:lnTo>
                      <a:lnTo>
                        <a:pt x="455" y="114"/>
                      </a:lnTo>
                      <a:lnTo>
                        <a:pt x="458" y="116"/>
                      </a:lnTo>
                      <a:lnTo>
                        <a:pt x="458" y="119"/>
                      </a:lnTo>
                      <a:lnTo>
                        <a:pt x="461" y="122"/>
                      </a:lnTo>
                      <a:lnTo>
                        <a:pt x="461" y="124"/>
                      </a:lnTo>
                      <a:lnTo>
                        <a:pt x="464" y="127"/>
                      </a:lnTo>
                      <a:lnTo>
                        <a:pt x="464" y="129"/>
                      </a:lnTo>
                      <a:lnTo>
                        <a:pt x="466" y="133"/>
                      </a:lnTo>
                      <a:lnTo>
                        <a:pt x="469" y="135"/>
                      </a:lnTo>
                      <a:lnTo>
                        <a:pt x="469" y="138"/>
                      </a:lnTo>
                      <a:lnTo>
                        <a:pt x="472" y="141"/>
                      </a:lnTo>
                      <a:lnTo>
                        <a:pt x="472" y="144"/>
                      </a:lnTo>
                      <a:lnTo>
                        <a:pt x="475" y="147"/>
                      </a:lnTo>
                      <a:lnTo>
                        <a:pt x="475" y="150"/>
                      </a:lnTo>
                      <a:lnTo>
                        <a:pt x="477" y="153"/>
                      </a:lnTo>
                      <a:lnTo>
                        <a:pt x="477" y="155"/>
                      </a:lnTo>
                      <a:lnTo>
                        <a:pt x="480" y="159"/>
                      </a:lnTo>
                      <a:lnTo>
                        <a:pt x="480" y="162"/>
                      </a:lnTo>
                      <a:lnTo>
                        <a:pt x="483" y="164"/>
                      </a:lnTo>
                      <a:lnTo>
                        <a:pt x="486" y="167"/>
                      </a:lnTo>
                      <a:lnTo>
                        <a:pt x="486" y="171"/>
                      </a:lnTo>
                      <a:lnTo>
                        <a:pt x="488" y="173"/>
                      </a:lnTo>
                      <a:lnTo>
                        <a:pt x="488" y="176"/>
                      </a:lnTo>
                      <a:lnTo>
                        <a:pt x="491" y="180"/>
                      </a:lnTo>
                      <a:lnTo>
                        <a:pt x="491" y="182"/>
                      </a:lnTo>
                      <a:lnTo>
                        <a:pt x="494" y="185"/>
                      </a:lnTo>
                      <a:lnTo>
                        <a:pt x="494" y="189"/>
                      </a:lnTo>
                      <a:lnTo>
                        <a:pt x="497" y="191"/>
                      </a:lnTo>
                      <a:lnTo>
                        <a:pt x="497" y="194"/>
                      </a:lnTo>
                      <a:lnTo>
                        <a:pt x="499" y="198"/>
                      </a:lnTo>
                      <a:lnTo>
                        <a:pt x="499" y="200"/>
                      </a:lnTo>
                      <a:lnTo>
                        <a:pt x="502" y="203"/>
                      </a:lnTo>
                      <a:lnTo>
                        <a:pt x="505" y="207"/>
                      </a:lnTo>
                      <a:lnTo>
                        <a:pt x="505" y="209"/>
                      </a:lnTo>
                      <a:lnTo>
                        <a:pt x="508" y="212"/>
                      </a:lnTo>
                      <a:lnTo>
                        <a:pt x="508" y="215"/>
                      </a:lnTo>
                      <a:lnTo>
                        <a:pt x="510" y="218"/>
                      </a:lnTo>
                      <a:lnTo>
                        <a:pt x="510" y="220"/>
                      </a:lnTo>
                      <a:lnTo>
                        <a:pt x="513" y="224"/>
                      </a:lnTo>
                      <a:lnTo>
                        <a:pt x="513" y="227"/>
                      </a:lnTo>
                      <a:lnTo>
                        <a:pt x="516" y="229"/>
                      </a:lnTo>
                      <a:lnTo>
                        <a:pt x="516" y="233"/>
                      </a:lnTo>
                      <a:lnTo>
                        <a:pt x="519" y="235"/>
                      </a:lnTo>
                      <a:lnTo>
                        <a:pt x="521" y="237"/>
                      </a:lnTo>
                      <a:lnTo>
                        <a:pt x="521" y="240"/>
                      </a:lnTo>
                      <a:lnTo>
                        <a:pt x="524" y="242"/>
                      </a:lnTo>
                      <a:lnTo>
                        <a:pt x="524" y="246"/>
                      </a:lnTo>
                      <a:lnTo>
                        <a:pt x="527" y="248"/>
                      </a:lnTo>
                      <a:lnTo>
                        <a:pt x="527" y="250"/>
                      </a:lnTo>
                      <a:lnTo>
                        <a:pt x="530" y="254"/>
                      </a:lnTo>
                      <a:lnTo>
                        <a:pt x="530" y="256"/>
                      </a:lnTo>
                      <a:lnTo>
                        <a:pt x="532" y="258"/>
                      </a:lnTo>
                      <a:lnTo>
                        <a:pt x="532" y="260"/>
                      </a:lnTo>
                      <a:lnTo>
                        <a:pt x="535" y="264"/>
                      </a:lnTo>
                      <a:lnTo>
                        <a:pt x="535" y="266"/>
                      </a:lnTo>
                      <a:lnTo>
                        <a:pt x="538" y="268"/>
                      </a:lnTo>
                      <a:lnTo>
                        <a:pt x="541" y="271"/>
                      </a:lnTo>
                      <a:lnTo>
                        <a:pt x="541" y="273"/>
                      </a:lnTo>
                      <a:lnTo>
                        <a:pt x="543" y="275"/>
                      </a:lnTo>
                      <a:lnTo>
                        <a:pt x="543" y="277"/>
                      </a:lnTo>
                      <a:lnTo>
                        <a:pt x="546" y="279"/>
                      </a:lnTo>
                      <a:lnTo>
                        <a:pt x="546" y="282"/>
                      </a:lnTo>
                      <a:lnTo>
                        <a:pt x="549" y="284"/>
                      </a:lnTo>
                      <a:lnTo>
                        <a:pt x="549" y="286"/>
                      </a:lnTo>
                      <a:lnTo>
                        <a:pt x="552" y="288"/>
                      </a:lnTo>
                      <a:lnTo>
                        <a:pt x="552" y="291"/>
                      </a:lnTo>
                      <a:lnTo>
                        <a:pt x="554" y="293"/>
                      </a:lnTo>
                      <a:lnTo>
                        <a:pt x="557" y="295"/>
                      </a:lnTo>
                      <a:lnTo>
                        <a:pt x="557" y="296"/>
                      </a:lnTo>
                      <a:lnTo>
                        <a:pt x="560" y="299"/>
                      </a:lnTo>
                      <a:lnTo>
                        <a:pt x="560" y="301"/>
                      </a:lnTo>
                      <a:lnTo>
                        <a:pt x="563" y="303"/>
                      </a:lnTo>
                      <a:lnTo>
                        <a:pt x="563" y="304"/>
                      </a:lnTo>
                      <a:lnTo>
                        <a:pt x="565" y="306"/>
                      </a:lnTo>
                      <a:lnTo>
                        <a:pt x="565" y="309"/>
                      </a:lnTo>
                      <a:lnTo>
                        <a:pt x="568" y="310"/>
                      </a:lnTo>
                      <a:lnTo>
                        <a:pt x="568" y="312"/>
                      </a:lnTo>
                      <a:lnTo>
                        <a:pt x="571" y="313"/>
                      </a:lnTo>
                      <a:lnTo>
                        <a:pt x="571" y="315"/>
                      </a:lnTo>
                      <a:lnTo>
                        <a:pt x="574" y="317"/>
                      </a:lnTo>
                      <a:lnTo>
                        <a:pt x="576" y="319"/>
                      </a:lnTo>
                      <a:lnTo>
                        <a:pt x="576" y="320"/>
                      </a:lnTo>
                      <a:lnTo>
                        <a:pt x="579" y="322"/>
                      </a:lnTo>
                      <a:lnTo>
                        <a:pt x="579" y="323"/>
                      </a:lnTo>
                      <a:lnTo>
                        <a:pt x="582" y="325"/>
                      </a:lnTo>
                      <a:lnTo>
                        <a:pt x="582" y="326"/>
                      </a:lnTo>
                      <a:lnTo>
                        <a:pt x="585" y="328"/>
                      </a:lnTo>
                      <a:lnTo>
                        <a:pt x="585" y="329"/>
                      </a:lnTo>
                      <a:lnTo>
                        <a:pt x="587" y="331"/>
                      </a:lnTo>
                      <a:lnTo>
                        <a:pt x="587" y="332"/>
                      </a:lnTo>
                      <a:lnTo>
                        <a:pt x="590" y="333"/>
                      </a:lnTo>
                      <a:lnTo>
                        <a:pt x="593" y="334"/>
                      </a:lnTo>
                      <a:lnTo>
                        <a:pt x="593" y="337"/>
                      </a:lnTo>
                      <a:lnTo>
                        <a:pt x="596" y="338"/>
                      </a:lnTo>
                      <a:lnTo>
                        <a:pt x="596" y="339"/>
                      </a:lnTo>
                      <a:lnTo>
                        <a:pt x="598" y="340"/>
                      </a:lnTo>
                      <a:lnTo>
                        <a:pt x="598" y="341"/>
                      </a:lnTo>
                      <a:lnTo>
                        <a:pt x="601" y="342"/>
                      </a:lnTo>
                      <a:lnTo>
                        <a:pt x="601" y="343"/>
                      </a:lnTo>
                      <a:lnTo>
                        <a:pt x="604" y="344"/>
                      </a:lnTo>
                      <a:lnTo>
                        <a:pt x="604" y="346"/>
                      </a:lnTo>
                      <a:lnTo>
                        <a:pt x="607" y="347"/>
                      </a:lnTo>
                      <a:lnTo>
                        <a:pt x="607" y="348"/>
                      </a:lnTo>
                      <a:lnTo>
                        <a:pt x="609" y="349"/>
                      </a:lnTo>
                      <a:lnTo>
                        <a:pt x="612" y="350"/>
                      </a:lnTo>
                      <a:lnTo>
                        <a:pt x="612" y="351"/>
                      </a:lnTo>
                      <a:lnTo>
                        <a:pt x="615" y="352"/>
                      </a:lnTo>
                      <a:lnTo>
                        <a:pt x="618" y="353"/>
                      </a:lnTo>
                      <a:lnTo>
                        <a:pt x="618" y="355"/>
                      </a:lnTo>
                      <a:lnTo>
                        <a:pt x="620" y="356"/>
                      </a:lnTo>
                      <a:lnTo>
                        <a:pt x="620" y="357"/>
                      </a:lnTo>
                      <a:lnTo>
                        <a:pt x="623" y="357"/>
                      </a:lnTo>
                      <a:lnTo>
                        <a:pt x="623" y="358"/>
                      </a:lnTo>
                      <a:lnTo>
                        <a:pt x="626" y="359"/>
                      </a:lnTo>
                      <a:lnTo>
                        <a:pt x="626" y="360"/>
                      </a:lnTo>
                      <a:lnTo>
                        <a:pt x="629" y="360"/>
                      </a:lnTo>
                      <a:lnTo>
                        <a:pt x="631" y="361"/>
                      </a:lnTo>
                      <a:lnTo>
                        <a:pt x="634" y="362"/>
                      </a:lnTo>
                      <a:lnTo>
                        <a:pt x="634" y="364"/>
                      </a:lnTo>
                      <a:lnTo>
                        <a:pt x="637" y="364"/>
                      </a:lnTo>
                      <a:lnTo>
                        <a:pt x="637" y="365"/>
                      </a:lnTo>
                      <a:lnTo>
                        <a:pt x="640" y="365"/>
                      </a:lnTo>
                      <a:lnTo>
                        <a:pt x="640" y="366"/>
                      </a:lnTo>
                      <a:lnTo>
                        <a:pt x="642" y="367"/>
                      </a:lnTo>
                      <a:lnTo>
                        <a:pt x="645" y="368"/>
                      </a:lnTo>
                      <a:lnTo>
                        <a:pt x="648" y="368"/>
                      </a:lnTo>
                      <a:lnTo>
                        <a:pt x="648" y="369"/>
                      </a:lnTo>
                      <a:lnTo>
                        <a:pt x="651" y="369"/>
                      </a:lnTo>
                      <a:lnTo>
                        <a:pt x="653" y="370"/>
                      </a:lnTo>
                      <a:lnTo>
                        <a:pt x="656" y="371"/>
                      </a:lnTo>
                      <a:lnTo>
                        <a:pt x="659" y="373"/>
                      </a:lnTo>
                      <a:lnTo>
                        <a:pt x="662" y="373"/>
                      </a:lnTo>
                      <a:lnTo>
                        <a:pt x="662" y="374"/>
                      </a:lnTo>
                      <a:lnTo>
                        <a:pt x="664" y="374"/>
                      </a:lnTo>
                      <a:lnTo>
                        <a:pt x="667" y="374"/>
                      </a:lnTo>
                      <a:lnTo>
                        <a:pt x="667" y="375"/>
                      </a:lnTo>
                      <a:lnTo>
                        <a:pt x="670" y="375"/>
                      </a:lnTo>
                      <a:lnTo>
                        <a:pt x="673" y="376"/>
                      </a:lnTo>
                      <a:lnTo>
                        <a:pt x="675" y="376"/>
                      </a:lnTo>
                      <a:lnTo>
                        <a:pt x="678" y="377"/>
                      </a:lnTo>
                      <a:lnTo>
                        <a:pt x="681" y="377"/>
                      </a:lnTo>
                      <a:lnTo>
                        <a:pt x="684" y="377"/>
                      </a:lnTo>
                      <a:lnTo>
                        <a:pt x="684" y="378"/>
                      </a:lnTo>
                      <a:lnTo>
                        <a:pt x="686" y="378"/>
                      </a:lnTo>
                      <a:lnTo>
                        <a:pt x="689" y="378"/>
                      </a:lnTo>
                      <a:lnTo>
                        <a:pt x="692" y="378"/>
                      </a:lnTo>
                      <a:lnTo>
                        <a:pt x="692" y="379"/>
                      </a:lnTo>
                      <a:lnTo>
                        <a:pt x="695" y="379"/>
                      </a:lnTo>
                      <a:lnTo>
                        <a:pt x="697" y="379"/>
                      </a:lnTo>
                      <a:lnTo>
                        <a:pt x="700" y="379"/>
                      </a:lnTo>
                      <a:lnTo>
                        <a:pt x="702" y="379"/>
                      </a:lnTo>
                      <a:lnTo>
                        <a:pt x="702" y="380"/>
                      </a:lnTo>
                      <a:lnTo>
                        <a:pt x="705" y="380"/>
                      </a:lnTo>
                      <a:lnTo>
                        <a:pt x="708" y="380"/>
                      </a:lnTo>
                      <a:lnTo>
                        <a:pt x="711" y="380"/>
                      </a:lnTo>
                      <a:lnTo>
                        <a:pt x="713" y="380"/>
                      </a:lnTo>
                      <a:lnTo>
                        <a:pt x="716" y="380"/>
                      </a:lnTo>
                      <a:lnTo>
                        <a:pt x="719" y="380"/>
                      </a:lnTo>
                      <a:lnTo>
                        <a:pt x="722" y="382"/>
                      </a:lnTo>
                      <a:lnTo>
                        <a:pt x="724" y="382"/>
                      </a:lnTo>
                      <a:lnTo>
                        <a:pt x="727" y="382"/>
                      </a:lnTo>
                      <a:lnTo>
                        <a:pt x="730" y="382"/>
                      </a:lnTo>
                      <a:lnTo>
                        <a:pt x="733" y="382"/>
                      </a:lnTo>
                      <a:lnTo>
                        <a:pt x="735" y="382"/>
                      </a:lnTo>
                      <a:lnTo>
                        <a:pt x="738" y="382"/>
                      </a:lnTo>
                      <a:lnTo>
                        <a:pt x="741" y="382"/>
                      </a:lnTo>
                      <a:lnTo>
                        <a:pt x="744" y="382"/>
                      </a:lnTo>
                      <a:lnTo>
                        <a:pt x="746" y="382"/>
                      </a:lnTo>
                      <a:lnTo>
                        <a:pt x="749" y="382"/>
                      </a:lnTo>
                      <a:lnTo>
                        <a:pt x="752" y="382"/>
                      </a:lnTo>
                      <a:lnTo>
                        <a:pt x="755" y="382"/>
                      </a:lnTo>
                      <a:lnTo>
                        <a:pt x="758" y="382"/>
                      </a:lnTo>
                    </a:path>
                  </a:pathLst>
                </a:custGeom>
                <a:noFill/>
                <a:ln cap="rnd"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185760" y="5689440"/>
                <a:ext cx="8826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538160" y="4285800"/>
                <a:ext cx="4320" cy="1405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618800" y="4278240"/>
                    <a:ext cx="61092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w</m:t>
                                </m:r>
                              </m:sup>
                            </m:sSup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7" name=""/>
              <p:cNvSpPr/>
              <p:nvPr/>
            </p:nvSpPr>
            <p:spPr>
              <a:xfrm>
                <a:off x="6084360" y="5640480"/>
                <a:ext cx="0" cy="9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607160" y="5640480"/>
                <a:ext cx="0" cy="9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06720" y="5640480"/>
                <a:ext cx="0" cy="9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91480" y="5640480"/>
                <a:ext cx="0" cy="9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87440" y="5754600"/>
                <a:ext cx="424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16000" y="5754600"/>
                <a:ext cx="424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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44640" y="5743440"/>
                <a:ext cx="500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27600" y="5743440"/>
                <a:ext cx="500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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398840" y="5689440"/>
                <a:ext cx="299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659720" y="4370400"/>
                <a:ext cx="8222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r>
                  <a:rPr b="0" i="1" lang="hr-HR" sz="2400" spc="-1" strike="noStrike" baseline="-25000">
                    <a:solidFill>
                      <a:srgbClr val="ffff00"/>
                    </a:solidFill>
                    <a:latin typeface="Times New Roman"/>
                  </a:rPr>
                  <a:t>g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Times New Roman"/>
                  </a:rPr>
                  <a:t>&gt;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812880" y="5072040"/>
                <a:ext cx="7463520" cy="190440"/>
                <a:chOff x="812880" y="5072040"/>
                <a:chExt cx="7463520" cy="1904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1494360" y="5075280"/>
                  <a:ext cx="6098760" cy="187200"/>
                  <a:chOff x="1494360" y="5075280"/>
                  <a:chExt cx="6098760" cy="1872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4528800" y="5075280"/>
                    <a:ext cx="151236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2" h="118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29" y="0"/>
                        </a:lnTo>
                        <a:lnTo>
                          <a:pt x="32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40" y="0"/>
                        </a:lnTo>
                        <a:lnTo>
                          <a:pt x="43" y="0"/>
                        </a:lnTo>
                        <a:lnTo>
                          <a:pt x="45" y="0"/>
                        </a:lnTo>
                        <a:lnTo>
                          <a:pt x="48" y="0"/>
                        </a:lnTo>
                        <a:lnTo>
                          <a:pt x="51" y="0"/>
                        </a:lnTo>
                        <a:lnTo>
                          <a:pt x="53" y="0"/>
                        </a:lnTo>
                        <a:lnTo>
                          <a:pt x="56" y="0"/>
                        </a:lnTo>
                        <a:lnTo>
                          <a:pt x="59" y="0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7" y="0"/>
                        </a:lnTo>
                        <a:lnTo>
                          <a:pt x="69" y="0"/>
                        </a:lnTo>
                        <a:lnTo>
                          <a:pt x="72" y="0"/>
                        </a:lnTo>
                        <a:lnTo>
                          <a:pt x="75" y="0"/>
                        </a:lnTo>
                        <a:lnTo>
                          <a:pt x="77" y="0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6" y="0"/>
                        </a:lnTo>
                        <a:lnTo>
                          <a:pt x="88" y="0"/>
                        </a:lnTo>
                        <a:lnTo>
                          <a:pt x="91" y="0"/>
                        </a:lnTo>
                        <a:lnTo>
                          <a:pt x="94" y="0"/>
                        </a:lnTo>
                        <a:lnTo>
                          <a:pt x="96" y="0"/>
                        </a:lnTo>
                        <a:lnTo>
                          <a:pt x="99" y="0"/>
                        </a:lnTo>
                        <a:lnTo>
                          <a:pt x="102" y="0"/>
                        </a:lnTo>
                        <a:lnTo>
                          <a:pt x="104" y="0"/>
                        </a:lnTo>
                        <a:lnTo>
                          <a:pt x="107" y="0"/>
                        </a:lnTo>
                        <a:lnTo>
                          <a:pt x="110" y="0"/>
                        </a:lnTo>
                        <a:lnTo>
                          <a:pt x="112" y="0"/>
                        </a:lnTo>
                        <a:lnTo>
                          <a:pt x="115" y="0"/>
                        </a:lnTo>
                        <a:lnTo>
                          <a:pt x="118" y="0"/>
                        </a:lnTo>
                        <a:lnTo>
                          <a:pt x="121" y="0"/>
                        </a:lnTo>
                        <a:lnTo>
                          <a:pt x="123" y="0"/>
                        </a:lnTo>
                        <a:lnTo>
                          <a:pt x="126" y="0"/>
                        </a:lnTo>
                        <a:lnTo>
                          <a:pt x="129" y="0"/>
                        </a:lnTo>
                        <a:lnTo>
                          <a:pt x="131" y="0"/>
                        </a:lnTo>
                        <a:lnTo>
                          <a:pt x="134" y="0"/>
                        </a:lnTo>
                        <a:lnTo>
                          <a:pt x="137" y="0"/>
                        </a:lnTo>
                        <a:lnTo>
                          <a:pt x="139" y="0"/>
                        </a:lnTo>
                        <a:lnTo>
                          <a:pt x="142" y="0"/>
                        </a:lnTo>
                        <a:lnTo>
                          <a:pt x="145" y="0"/>
                        </a:lnTo>
                        <a:lnTo>
                          <a:pt x="147" y="0"/>
                        </a:lnTo>
                        <a:lnTo>
                          <a:pt x="150" y="0"/>
                        </a:lnTo>
                        <a:lnTo>
                          <a:pt x="153" y="0"/>
                        </a:lnTo>
                        <a:lnTo>
                          <a:pt x="155" y="0"/>
                        </a:lnTo>
                        <a:lnTo>
                          <a:pt x="158" y="0"/>
                        </a:lnTo>
                        <a:lnTo>
                          <a:pt x="161" y="0"/>
                        </a:lnTo>
                        <a:lnTo>
                          <a:pt x="164" y="0"/>
                        </a:lnTo>
                        <a:lnTo>
                          <a:pt x="166" y="0"/>
                        </a:lnTo>
                        <a:lnTo>
                          <a:pt x="169" y="0"/>
                        </a:lnTo>
                        <a:lnTo>
                          <a:pt x="172" y="0"/>
                        </a:lnTo>
                        <a:lnTo>
                          <a:pt x="174" y="0"/>
                        </a:lnTo>
                        <a:lnTo>
                          <a:pt x="177" y="0"/>
                        </a:lnTo>
                        <a:lnTo>
                          <a:pt x="180" y="0"/>
                        </a:lnTo>
                        <a:lnTo>
                          <a:pt x="182" y="0"/>
                        </a:lnTo>
                        <a:lnTo>
                          <a:pt x="185" y="0"/>
                        </a:lnTo>
                        <a:lnTo>
                          <a:pt x="187" y="0"/>
                        </a:lnTo>
                        <a:lnTo>
                          <a:pt x="190" y="0"/>
                        </a:lnTo>
                        <a:lnTo>
                          <a:pt x="193" y="0"/>
                        </a:lnTo>
                        <a:lnTo>
                          <a:pt x="195" y="0"/>
                        </a:lnTo>
                        <a:lnTo>
                          <a:pt x="198" y="0"/>
                        </a:lnTo>
                        <a:lnTo>
                          <a:pt x="201" y="0"/>
                        </a:lnTo>
                        <a:lnTo>
                          <a:pt x="203" y="0"/>
                        </a:lnTo>
                        <a:lnTo>
                          <a:pt x="206" y="0"/>
                        </a:lnTo>
                        <a:lnTo>
                          <a:pt x="209" y="0"/>
                        </a:lnTo>
                        <a:lnTo>
                          <a:pt x="212" y="0"/>
                        </a:lnTo>
                        <a:lnTo>
                          <a:pt x="214" y="0"/>
                        </a:lnTo>
                        <a:lnTo>
                          <a:pt x="217" y="0"/>
                        </a:lnTo>
                        <a:lnTo>
                          <a:pt x="220" y="0"/>
                        </a:lnTo>
                        <a:lnTo>
                          <a:pt x="222" y="0"/>
                        </a:lnTo>
                        <a:lnTo>
                          <a:pt x="225" y="0"/>
                        </a:lnTo>
                        <a:lnTo>
                          <a:pt x="228" y="1"/>
                        </a:lnTo>
                        <a:lnTo>
                          <a:pt x="230" y="1"/>
                        </a:lnTo>
                        <a:lnTo>
                          <a:pt x="233" y="1"/>
                        </a:lnTo>
                        <a:lnTo>
                          <a:pt x="236" y="1"/>
                        </a:lnTo>
                        <a:lnTo>
                          <a:pt x="238" y="1"/>
                        </a:lnTo>
                        <a:lnTo>
                          <a:pt x="241" y="1"/>
                        </a:lnTo>
                        <a:lnTo>
                          <a:pt x="244" y="1"/>
                        </a:lnTo>
                        <a:lnTo>
                          <a:pt x="246" y="1"/>
                        </a:lnTo>
                        <a:lnTo>
                          <a:pt x="249" y="1"/>
                        </a:lnTo>
                        <a:lnTo>
                          <a:pt x="252" y="1"/>
                        </a:lnTo>
                        <a:lnTo>
                          <a:pt x="255" y="1"/>
                        </a:lnTo>
                        <a:lnTo>
                          <a:pt x="257" y="1"/>
                        </a:lnTo>
                        <a:lnTo>
                          <a:pt x="260" y="1"/>
                        </a:lnTo>
                        <a:lnTo>
                          <a:pt x="263" y="1"/>
                        </a:lnTo>
                        <a:lnTo>
                          <a:pt x="265" y="2"/>
                        </a:lnTo>
                        <a:lnTo>
                          <a:pt x="268" y="2"/>
                        </a:lnTo>
                        <a:lnTo>
                          <a:pt x="271" y="2"/>
                        </a:lnTo>
                        <a:lnTo>
                          <a:pt x="273" y="2"/>
                        </a:lnTo>
                        <a:lnTo>
                          <a:pt x="276" y="2"/>
                        </a:lnTo>
                        <a:lnTo>
                          <a:pt x="279" y="2"/>
                        </a:lnTo>
                        <a:lnTo>
                          <a:pt x="281" y="2"/>
                        </a:lnTo>
                        <a:lnTo>
                          <a:pt x="284" y="3"/>
                        </a:lnTo>
                        <a:lnTo>
                          <a:pt x="287" y="3"/>
                        </a:lnTo>
                        <a:lnTo>
                          <a:pt x="290" y="3"/>
                        </a:lnTo>
                        <a:lnTo>
                          <a:pt x="292" y="3"/>
                        </a:lnTo>
                        <a:lnTo>
                          <a:pt x="295" y="4"/>
                        </a:lnTo>
                        <a:lnTo>
                          <a:pt x="298" y="4"/>
                        </a:lnTo>
                        <a:lnTo>
                          <a:pt x="300" y="4"/>
                        </a:lnTo>
                        <a:lnTo>
                          <a:pt x="303" y="4"/>
                        </a:lnTo>
                        <a:lnTo>
                          <a:pt x="306" y="5"/>
                        </a:lnTo>
                        <a:lnTo>
                          <a:pt x="308" y="5"/>
                        </a:lnTo>
                        <a:lnTo>
                          <a:pt x="311" y="5"/>
                        </a:lnTo>
                        <a:lnTo>
                          <a:pt x="314" y="6"/>
                        </a:lnTo>
                        <a:lnTo>
                          <a:pt x="316" y="6"/>
                        </a:lnTo>
                        <a:lnTo>
                          <a:pt x="319" y="6"/>
                        </a:lnTo>
                        <a:lnTo>
                          <a:pt x="322" y="7"/>
                        </a:lnTo>
                        <a:lnTo>
                          <a:pt x="324" y="7"/>
                        </a:lnTo>
                        <a:lnTo>
                          <a:pt x="327" y="7"/>
                        </a:lnTo>
                        <a:lnTo>
                          <a:pt x="327" y="8"/>
                        </a:lnTo>
                        <a:lnTo>
                          <a:pt x="330" y="8"/>
                        </a:lnTo>
                        <a:lnTo>
                          <a:pt x="333" y="8"/>
                        </a:lnTo>
                        <a:lnTo>
                          <a:pt x="335" y="9"/>
                        </a:lnTo>
                        <a:lnTo>
                          <a:pt x="338" y="9"/>
                        </a:lnTo>
                        <a:lnTo>
                          <a:pt x="341" y="10"/>
                        </a:lnTo>
                        <a:lnTo>
                          <a:pt x="343" y="10"/>
                        </a:lnTo>
                        <a:lnTo>
                          <a:pt x="343" y="12"/>
                        </a:lnTo>
                        <a:lnTo>
                          <a:pt x="346" y="12"/>
                        </a:lnTo>
                        <a:lnTo>
                          <a:pt x="349" y="13"/>
                        </a:lnTo>
                        <a:lnTo>
                          <a:pt x="351" y="13"/>
                        </a:lnTo>
                        <a:lnTo>
                          <a:pt x="354" y="14"/>
                        </a:lnTo>
                        <a:lnTo>
                          <a:pt x="357" y="14"/>
                        </a:lnTo>
                        <a:lnTo>
                          <a:pt x="357" y="15"/>
                        </a:lnTo>
                        <a:lnTo>
                          <a:pt x="359" y="15"/>
                        </a:lnTo>
                        <a:lnTo>
                          <a:pt x="359" y="16"/>
                        </a:lnTo>
                        <a:lnTo>
                          <a:pt x="362" y="16"/>
                        </a:lnTo>
                        <a:lnTo>
                          <a:pt x="365" y="17"/>
                        </a:lnTo>
                        <a:lnTo>
                          <a:pt x="368" y="18"/>
                        </a:lnTo>
                        <a:lnTo>
                          <a:pt x="370" y="18"/>
                        </a:lnTo>
                        <a:lnTo>
                          <a:pt x="370" y="19"/>
                        </a:lnTo>
                        <a:lnTo>
                          <a:pt x="373" y="19"/>
                        </a:lnTo>
                        <a:lnTo>
                          <a:pt x="373" y="21"/>
                        </a:lnTo>
                        <a:lnTo>
                          <a:pt x="376" y="21"/>
                        </a:lnTo>
                        <a:lnTo>
                          <a:pt x="376" y="22"/>
                        </a:lnTo>
                        <a:lnTo>
                          <a:pt x="378" y="22"/>
                        </a:lnTo>
                        <a:lnTo>
                          <a:pt x="378" y="23"/>
                        </a:lnTo>
                        <a:lnTo>
                          <a:pt x="381" y="23"/>
                        </a:lnTo>
                        <a:lnTo>
                          <a:pt x="381" y="24"/>
                        </a:lnTo>
                        <a:lnTo>
                          <a:pt x="384" y="25"/>
                        </a:lnTo>
                        <a:lnTo>
                          <a:pt x="386" y="25"/>
                        </a:lnTo>
                        <a:lnTo>
                          <a:pt x="386" y="26"/>
                        </a:lnTo>
                        <a:lnTo>
                          <a:pt x="389" y="27"/>
                        </a:lnTo>
                        <a:lnTo>
                          <a:pt x="392" y="28"/>
                        </a:lnTo>
                        <a:lnTo>
                          <a:pt x="392" y="29"/>
                        </a:lnTo>
                        <a:lnTo>
                          <a:pt x="394" y="29"/>
                        </a:lnTo>
                        <a:lnTo>
                          <a:pt x="394" y="31"/>
                        </a:lnTo>
                        <a:lnTo>
                          <a:pt x="397" y="32"/>
                        </a:lnTo>
                        <a:lnTo>
                          <a:pt x="397" y="33"/>
                        </a:lnTo>
                        <a:lnTo>
                          <a:pt x="400" y="33"/>
                        </a:lnTo>
                        <a:lnTo>
                          <a:pt x="400" y="34"/>
                        </a:lnTo>
                        <a:lnTo>
                          <a:pt x="402" y="35"/>
                        </a:lnTo>
                        <a:lnTo>
                          <a:pt x="405" y="36"/>
                        </a:lnTo>
                        <a:lnTo>
                          <a:pt x="405" y="37"/>
                        </a:lnTo>
                        <a:lnTo>
                          <a:pt x="408" y="38"/>
                        </a:lnTo>
                        <a:lnTo>
                          <a:pt x="408" y="40"/>
                        </a:lnTo>
                        <a:lnTo>
                          <a:pt x="411" y="40"/>
                        </a:lnTo>
                        <a:lnTo>
                          <a:pt x="411" y="41"/>
                        </a:lnTo>
                        <a:lnTo>
                          <a:pt x="413" y="42"/>
                        </a:lnTo>
                        <a:lnTo>
                          <a:pt x="413" y="43"/>
                        </a:lnTo>
                        <a:lnTo>
                          <a:pt x="416" y="44"/>
                        </a:lnTo>
                        <a:lnTo>
                          <a:pt x="416" y="45"/>
                        </a:lnTo>
                        <a:lnTo>
                          <a:pt x="419" y="46"/>
                        </a:lnTo>
                        <a:lnTo>
                          <a:pt x="421" y="47"/>
                        </a:lnTo>
                        <a:lnTo>
                          <a:pt x="421" y="48"/>
                        </a:lnTo>
                        <a:lnTo>
                          <a:pt x="424" y="51"/>
                        </a:lnTo>
                        <a:lnTo>
                          <a:pt x="424" y="52"/>
                        </a:lnTo>
                        <a:lnTo>
                          <a:pt x="427" y="53"/>
                        </a:lnTo>
                        <a:lnTo>
                          <a:pt x="427" y="54"/>
                        </a:lnTo>
                        <a:lnTo>
                          <a:pt x="429" y="55"/>
                        </a:lnTo>
                        <a:lnTo>
                          <a:pt x="429" y="56"/>
                        </a:lnTo>
                        <a:lnTo>
                          <a:pt x="432" y="57"/>
                        </a:lnTo>
                        <a:lnTo>
                          <a:pt x="432" y="60"/>
                        </a:lnTo>
                        <a:lnTo>
                          <a:pt x="434" y="61"/>
                        </a:lnTo>
                        <a:lnTo>
                          <a:pt x="434" y="62"/>
                        </a:lnTo>
                        <a:lnTo>
                          <a:pt x="437" y="63"/>
                        </a:lnTo>
                        <a:lnTo>
                          <a:pt x="440" y="64"/>
                        </a:lnTo>
                        <a:lnTo>
                          <a:pt x="440" y="66"/>
                        </a:lnTo>
                        <a:lnTo>
                          <a:pt x="442" y="68"/>
                        </a:lnTo>
                        <a:lnTo>
                          <a:pt x="442" y="69"/>
                        </a:lnTo>
                        <a:lnTo>
                          <a:pt x="445" y="70"/>
                        </a:lnTo>
                        <a:lnTo>
                          <a:pt x="445" y="72"/>
                        </a:lnTo>
                        <a:lnTo>
                          <a:pt x="448" y="73"/>
                        </a:lnTo>
                        <a:lnTo>
                          <a:pt x="448" y="74"/>
                        </a:lnTo>
                        <a:lnTo>
                          <a:pt x="450" y="75"/>
                        </a:lnTo>
                        <a:lnTo>
                          <a:pt x="450" y="78"/>
                        </a:lnTo>
                        <a:lnTo>
                          <a:pt x="453" y="79"/>
                        </a:lnTo>
                        <a:lnTo>
                          <a:pt x="453" y="80"/>
                        </a:lnTo>
                        <a:lnTo>
                          <a:pt x="456" y="82"/>
                        </a:lnTo>
                        <a:lnTo>
                          <a:pt x="459" y="83"/>
                        </a:lnTo>
                        <a:lnTo>
                          <a:pt x="459" y="84"/>
                        </a:lnTo>
                        <a:lnTo>
                          <a:pt x="461" y="85"/>
                        </a:lnTo>
                        <a:lnTo>
                          <a:pt x="461" y="87"/>
                        </a:lnTo>
                        <a:lnTo>
                          <a:pt x="464" y="89"/>
                        </a:lnTo>
                        <a:lnTo>
                          <a:pt x="464" y="90"/>
                        </a:lnTo>
                        <a:lnTo>
                          <a:pt x="467" y="91"/>
                        </a:lnTo>
                        <a:lnTo>
                          <a:pt x="467" y="92"/>
                        </a:lnTo>
                        <a:lnTo>
                          <a:pt x="469" y="94"/>
                        </a:lnTo>
                        <a:lnTo>
                          <a:pt x="469" y="95"/>
                        </a:lnTo>
                        <a:lnTo>
                          <a:pt x="472" y="96"/>
                        </a:lnTo>
                        <a:lnTo>
                          <a:pt x="475" y="97"/>
                        </a:lnTo>
                        <a:lnTo>
                          <a:pt x="475" y="99"/>
                        </a:lnTo>
                        <a:lnTo>
                          <a:pt x="477" y="100"/>
                        </a:lnTo>
                        <a:lnTo>
                          <a:pt x="477" y="101"/>
                        </a:lnTo>
                        <a:lnTo>
                          <a:pt x="480" y="102"/>
                        </a:lnTo>
                        <a:lnTo>
                          <a:pt x="480" y="103"/>
                        </a:lnTo>
                        <a:lnTo>
                          <a:pt x="483" y="104"/>
                        </a:lnTo>
                        <a:lnTo>
                          <a:pt x="483" y="105"/>
                        </a:lnTo>
                        <a:lnTo>
                          <a:pt x="485" y="106"/>
                        </a:lnTo>
                        <a:lnTo>
                          <a:pt x="485" y="108"/>
                        </a:lnTo>
                        <a:lnTo>
                          <a:pt x="488" y="109"/>
                        </a:lnTo>
                        <a:lnTo>
                          <a:pt x="491" y="110"/>
                        </a:lnTo>
                        <a:lnTo>
                          <a:pt x="493" y="111"/>
                        </a:lnTo>
                        <a:lnTo>
                          <a:pt x="496" y="112"/>
                        </a:lnTo>
                        <a:lnTo>
                          <a:pt x="496" y="113"/>
                        </a:lnTo>
                        <a:lnTo>
                          <a:pt x="499" y="113"/>
                        </a:lnTo>
                        <a:lnTo>
                          <a:pt x="499" y="114"/>
                        </a:lnTo>
                        <a:lnTo>
                          <a:pt x="502" y="114"/>
                        </a:lnTo>
                        <a:lnTo>
                          <a:pt x="502" y="115"/>
                        </a:lnTo>
                        <a:lnTo>
                          <a:pt x="504" y="115"/>
                        </a:lnTo>
                        <a:lnTo>
                          <a:pt x="507" y="117"/>
                        </a:lnTo>
                        <a:lnTo>
                          <a:pt x="510" y="117"/>
                        </a:lnTo>
                        <a:lnTo>
                          <a:pt x="512" y="117"/>
                        </a:lnTo>
                        <a:lnTo>
                          <a:pt x="515" y="117"/>
                        </a:lnTo>
                        <a:lnTo>
                          <a:pt x="518" y="117"/>
                        </a:lnTo>
                        <a:lnTo>
                          <a:pt x="520" y="117"/>
                        </a:lnTo>
                        <a:lnTo>
                          <a:pt x="523" y="117"/>
                        </a:lnTo>
                        <a:lnTo>
                          <a:pt x="523" y="115"/>
                        </a:lnTo>
                        <a:lnTo>
                          <a:pt x="526" y="115"/>
                        </a:lnTo>
                        <a:lnTo>
                          <a:pt x="528" y="115"/>
                        </a:lnTo>
                        <a:lnTo>
                          <a:pt x="528" y="114"/>
                        </a:lnTo>
                        <a:lnTo>
                          <a:pt x="531" y="114"/>
                        </a:lnTo>
                        <a:lnTo>
                          <a:pt x="531" y="113"/>
                        </a:lnTo>
                        <a:lnTo>
                          <a:pt x="534" y="113"/>
                        </a:lnTo>
                        <a:lnTo>
                          <a:pt x="534" y="112"/>
                        </a:lnTo>
                        <a:lnTo>
                          <a:pt x="537" y="111"/>
                        </a:lnTo>
                        <a:lnTo>
                          <a:pt x="539" y="110"/>
                        </a:lnTo>
                        <a:lnTo>
                          <a:pt x="539" y="109"/>
                        </a:lnTo>
                        <a:lnTo>
                          <a:pt x="542" y="109"/>
                        </a:lnTo>
                        <a:lnTo>
                          <a:pt x="545" y="108"/>
                        </a:lnTo>
                        <a:lnTo>
                          <a:pt x="545" y="106"/>
                        </a:lnTo>
                        <a:lnTo>
                          <a:pt x="547" y="105"/>
                        </a:lnTo>
                        <a:lnTo>
                          <a:pt x="547" y="104"/>
                        </a:lnTo>
                        <a:lnTo>
                          <a:pt x="550" y="103"/>
                        </a:lnTo>
                        <a:lnTo>
                          <a:pt x="550" y="102"/>
                        </a:lnTo>
                        <a:lnTo>
                          <a:pt x="553" y="101"/>
                        </a:lnTo>
                        <a:lnTo>
                          <a:pt x="553" y="100"/>
                        </a:lnTo>
                        <a:lnTo>
                          <a:pt x="555" y="99"/>
                        </a:lnTo>
                        <a:lnTo>
                          <a:pt x="555" y="97"/>
                        </a:lnTo>
                        <a:lnTo>
                          <a:pt x="558" y="96"/>
                        </a:lnTo>
                        <a:lnTo>
                          <a:pt x="558" y="95"/>
                        </a:lnTo>
                        <a:lnTo>
                          <a:pt x="561" y="94"/>
                        </a:lnTo>
                        <a:lnTo>
                          <a:pt x="563" y="92"/>
                        </a:lnTo>
                        <a:lnTo>
                          <a:pt x="563" y="91"/>
                        </a:lnTo>
                        <a:lnTo>
                          <a:pt x="566" y="90"/>
                        </a:lnTo>
                        <a:lnTo>
                          <a:pt x="566" y="89"/>
                        </a:lnTo>
                        <a:lnTo>
                          <a:pt x="569" y="87"/>
                        </a:lnTo>
                        <a:lnTo>
                          <a:pt x="569" y="85"/>
                        </a:lnTo>
                        <a:lnTo>
                          <a:pt x="571" y="84"/>
                        </a:lnTo>
                        <a:lnTo>
                          <a:pt x="571" y="83"/>
                        </a:lnTo>
                        <a:lnTo>
                          <a:pt x="574" y="82"/>
                        </a:lnTo>
                        <a:lnTo>
                          <a:pt x="574" y="80"/>
                        </a:lnTo>
                        <a:lnTo>
                          <a:pt x="577" y="79"/>
                        </a:lnTo>
                        <a:lnTo>
                          <a:pt x="580" y="78"/>
                        </a:lnTo>
                        <a:lnTo>
                          <a:pt x="580" y="75"/>
                        </a:lnTo>
                        <a:lnTo>
                          <a:pt x="582" y="74"/>
                        </a:lnTo>
                        <a:lnTo>
                          <a:pt x="582" y="73"/>
                        </a:lnTo>
                        <a:lnTo>
                          <a:pt x="585" y="72"/>
                        </a:lnTo>
                        <a:lnTo>
                          <a:pt x="585" y="70"/>
                        </a:lnTo>
                        <a:lnTo>
                          <a:pt x="588" y="69"/>
                        </a:lnTo>
                        <a:lnTo>
                          <a:pt x="588" y="68"/>
                        </a:lnTo>
                        <a:lnTo>
                          <a:pt x="590" y="66"/>
                        </a:lnTo>
                        <a:lnTo>
                          <a:pt x="590" y="64"/>
                        </a:lnTo>
                        <a:lnTo>
                          <a:pt x="593" y="63"/>
                        </a:lnTo>
                        <a:lnTo>
                          <a:pt x="593" y="62"/>
                        </a:lnTo>
                        <a:lnTo>
                          <a:pt x="596" y="61"/>
                        </a:lnTo>
                        <a:lnTo>
                          <a:pt x="598" y="60"/>
                        </a:lnTo>
                        <a:lnTo>
                          <a:pt x="598" y="57"/>
                        </a:lnTo>
                        <a:lnTo>
                          <a:pt x="601" y="56"/>
                        </a:lnTo>
                        <a:lnTo>
                          <a:pt x="601" y="55"/>
                        </a:lnTo>
                        <a:lnTo>
                          <a:pt x="604" y="54"/>
                        </a:lnTo>
                        <a:lnTo>
                          <a:pt x="604" y="53"/>
                        </a:lnTo>
                        <a:lnTo>
                          <a:pt x="606" y="52"/>
                        </a:lnTo>
                        <a:lnTo>
                          <a:pt x="606" y="51"/>
                        </a:lnTo>
                        <a:lnTo>
                          <a:pt x="609" y="48"/>
                        </a:lnTo>
                        <a:lnTo>
                          <a:pt x="609" y="47"/>
                        </a:lnTo>
                        <a:lnTo>
                          <a:pt x="612" y="46"/>
                        </a:lnTo>
                        <a:lnTo>
                          <a:pt x="612" y="45"/>
                        </a:lnTo>
                        <a:lnTo>
                          <a:pt x="615" y="44"/>
                        </a:lnTo>
                        <a:lnTo>
                          <a:pt x="617" y="43"/>
                        </a:lnTo>
                        <a:lnTo>
                          <a:pt x="617" y="42"/>
                        </a:lnTo>
                        <a:lnTo>
                          <a:pt x="620" y="41"/>
                        </a:lnTo>
                        <a:lnTo>
                          <a:pt x="620" y="40"/>
                        </a:lnTo>
                        <a:lnTo>
                          <a:pt x="623" y="40"/>
                        </a:lnTo>
                        <a:lnTo>
                          <a:pt x="623" y="38"/>
                        </a:lnTo>
                        <a:lnTo>
                          <a:pt x="625" y="37"/>
                        </a:lnTo>
                        <a:lnTo>
                          <a:pt x="625" y="36"/>
                        </a:lnTo>
                        <a:lnTo>
                          <a:pt x="628" y="35"/>
                        </a:lnTo>
                        <a:lnTo>
                          <a:pt x="628" y="34"/>
                        </a:lnTo>
                        <a:lnTo>
                          <a:pt x="631" y="33"/>
                        </a:lnTo>
                        <a:lnTo>
                          <a:pt x="633" y="33"/>
                        </a:lnTo>
                        <a:lnTo>
                          <a:pt x="633" y="32"/>
                        </a:lnTo>
                        <a:lnTo>
                          <a:pt x="636" y="31"/>
                        </a:lnTo>
                        <a:lnTo>
                          <a:pt x="636" y="29"/>
                        </a:lnTo>
                        <a:lnTo>
                          <a:pt x="639" y="29"/>
                        </a:lnTo>
                        <a:lnTo>
                          <a:pt x="639" y="28"/>
                        </a:lnTo>
                        <a:lnTo>
                          <a:pt x="641" y="27"/>
                        </a:lnTo>
                        <a:lnTo>
                          <a:pt x="644" y="26"/>
                        </a:lnTo>
                        <a:lnTo>
                          <a:pt x="644" y="25"/>
                        </a:lnTo>
                        <a:lnTo>
                          <a:pt x="647" y="25"/>
                        </a:lnTo>
                        <a:lnTo>
                          <a:pt x="647" y="24"/>
                        </a:lnTo>
                        <a:lnTo>
                          <a:pt x="649" y="23"/>
                        </a:lnTo>
                        <a:lnTo>
                          <a:pt x="652" y="23"/>
                        </a:lnTo>
                        <a:lnTo>
                          <a:pt x="652" y="22"/>
                        </a:lnTo>
                        <a:lnTo>
                          <a:pt x="655" y="22"/>
                        </a:lnTo>
                        <a:lnTo>
                          <a:pt x="655" y="21"/>
                        </a:lnTo>
                        <a:lnTo>
                          <a:pt x="658" y="21"/>
                        </a:lnTo>
                        <a:lnTo>
                          <a:pt x="658" y="19"/>
                        </a:lnTo>
                        <a:lnTo>
                          <a:pt x="660" y="19"/>
                        </a:lnTo>
                        <a:lnTo>
                          <a:pt x="660" y="18"/>
                        </a:lnTo>
                        <a:lnTo>
                          <a:pt x="663" y="18"/>
                        </a:lnTo>
                        <a:lnTo>
                          <a:pt x="663" y="17"/>
                        </a:lnTo>
                        <a:lnTo>
                          <a:pt x="666" y="17"/>
                        </a:lnTo>
                        <a:lnTo>
                          <a:pt x="668" y="16"/>
                        </a:lnTo>
                        <a:lnTo>
                          <a:pt x="671" y="16"/>
                        </a:lnTo>
                        <a:lnTo>
                          <a:pt x="671" y="15"/>
                        </a:lnTo>
                        <a:lnTo>
                          <a:pt x="674" y="15"/>
                        </a:lnTo>
                        <a:lnTo>
                          <a:pt x="674" y="14"/>
                        </a:lnTo>
                        <a:lnTo>
                          <a:pt x="676" y="14"/>
                        </a:lnTo>
                        <a:lnTo>
                          <a:pt x="679" y="13"/>
                        </a:lnTo>
                        <a:lnTo>
                          <a:pt x="681" y="13"/>
                        </a:lnTo>
                        <a:lnTo>
                          <a:pt x="681" y="12"/>
                        </a:lnTo>
                        <a:lnTo>
                          <a:pt x="684" y="12"/>
                        </a:lnTo>
                        <a:lnTo>
                          <a:pt x="687" y="12"/>
                        </a:lnTo>
                        <a:lnTo>
                          <a:pt x="687" y="10"/>
                        </a:lnTo>
                        <a:lnTo>
                          <a:pt x="689" y="10"/>
                        </a:lnTo>
                        <a:lnTo>
                          <a:pt x="692" y="9"/>
                        </a:lnTo>
                        <a:lnTo>
                          <a:pt x="695" y="9"/>
                        </a:lnTo>
                        <a:lnTo>
                          <a:pt x="697" y="8"/>
                        </a:lnTo>
                        <a:lnTo>
                          <a:pt x="700" y="8"/>
                        </a:lnTo>
                        <a:lnTo>
                          <a:pt x="703" y="8"/>
                        </a:lnTo>
                        <a:lnTo>
                          <a:pt x="703" y="7"/>
                        </a:lnTo>
                        <a:lnTo>
                          <a:pt x="706" y="7"/>
                        </a:lnTo>
                        <a:lnTo>
                          <a:pt x="708" y="7"/>
                        </a:lnTo>
                        <a:lnTo>
                          <a:pt x="711" y="6"/>
                        </a:lnTo>
                        <a:lnTo>
                          <a:pt x="714" y="6"/>
                        </a:lnTo>
                        <a:lnTo>
                          <a:pt x="716" y="6"/>
                        </a:lnTo>
                        <a:lnTo>
                          <a:pt x="716" y="5"/>
                        </a:lnTo>
                        <a:lnTo>
                          <a:pt x="719" y="5"/>
                        </a:lnTo>
                        <a:lnTo>
                          <a:pt x="722" y="5"/>
                        </a:lnTo>
                        <a:lnTo>
                          <a:pt x="724" y="5"/>
                        </a:lnTo>
                        <a:lnTo>
                          <a:pt x="727" y="4"/>
                        </a:lnTo>
                        <a:lnTo>
                          <a:pt x="730" y="4"/>
                        </a:lnTo>
                        <a:lnTo>
                          <a:pt x="732" y="4"/>
                        </a:lnTo>
                        <a:lnTo>
                          <a:pt x="735" y="4"/>
                        </a:lnTo>
                        <a:lnTo>
                          <a:pt x="735" y="3"/>
                        </a:lnTo>
                        <a:lnTo>
                          <a:pt x="738" y="3"/>
                        </a:lnTo>
                        <a:lnTo>
                          <a:pt x="740" y="3"/>
                        </a:lnTo>
                        <a:lnTo>
                          <a:pt x="743" y="3"/>
                        </a:lnTo>
                        <a:lnTo>
                          <a:pt x="746" y="3"/>
                        </a:lnTo>
                        <a:lnTo>
                          <a:pt x="749" y="2"/>
                        </a:lnTo>
                        <a:lnTo>
                          <a:pt x="751" y="2"/>
                        </a:lnTo>
                        <a:lnTo>
                          <a:pt x="754" y="2"/>
                        </a:lnTo>
                        <a:lnTo>
                          <a:pt x="757" y="2"/>
                        </a:lnTo>
                        <a:lnTo>
                          <a:pt x="759" y="2"/>
                        </a:lnTo>
                        <a:lnTo>
                          <a:pt x="762" y="2"/>
                        </a:lnTo>
                        <a:lnTo>
                          <a:pt x="765" y="2"/>
                        </a:lnTo>
                        <a:lnTo>
                          <a:pt x="767" y="1"/>
                        </a:lnTo>
                        <a:lnTo>
                          <a:pt x="770" y="1"/>
                        </a:lnTo>
                        <a:lnTo>
                          <a:pt x="773" y="1"/>
                        </a:lnTo>
                        <a:lnTo>
                          <a:pt x="775" y="1"/>
                        </a:lnTo>
                        <a:lnTo>
                          <a:pt x="778" y="1"/>
                        </a:lnTo>
                        <a:lnTo>
                          <a:pt x="781" y="1"/>
                        </a:lnTo>
                        <a:lnTo>
                          <a:pt x="784" y="1"/>
                        </a:lnTo>
                        <a:lnTo>
                          <a:pt x="786" y="1"/>
                        </a:lnTo>
                        <a:lnTo>
                          <a:pt x="789" y="1"/>
                        </a:lnTo>
                        <a:lnTo>
                          <a:pt x="792" y="1"/>
                        </a:lnTo>
                        <a:lnTo>
                          <a:pt x="794" y="1"/>
                        </a:lnTo>
                        <a:lnTo>
                          <a:pt x="797" y="1"/>
                        </a:lnTo>
                        <a:lnTo>
                          <a:pt x="800" y="1"/>
                        </a:lnTo>
                        <a:lnTo>
                          <a:pt x="802" y="1"/>
                        </a:lnTo>
                        <a:lnTo>
                          <a:pt x="805" y="0"/>
                        </a:lnTo>
                        <a:lnTo>
                          <a:pt x="808" y="0"/>
                        </a:lnTo>
                        <a:lnTo>
                          <a:pt x="810" y="0"/>
                        </a:lnTo>
                        <a:lnTo>
                          <a:pt x="813" y="0"/>
                        </a:lnTo>
                        <a:lnTo>
                          <a:pt x="816" y="0"/>
                        </a:lnTo>
                        <a:lnTo>
                          <a:pt x="818" y="0"/>
                        </a:lnTo>
                        <a:lnTo>
                          <a:pt x="821" y="0"/>
                        </a:lnTo>
                        <a:lnTo>
                          <a:pt x="824" y="0"/>
                        </a:lnTo>
                        <a:lnTo>
                          <a:pt x="827" y="0"/>
                        </a:lnTo>
                        <a:lnTo>
                          <a:pt x="829" y="0"/>
                        </a:lnTo>
                        <a:lnTo>
                          <a:pt x="832" y="0"/>
                        </a:lnTo>
                        <a:lnTo>
                          <a:pt x="835" y="0"/>
                        </a:lnTo>
                        <a:lnTo>
                          <a:pt x="837" y="0"/>
                        </a:lnTo>
                        <a:lnTo>
                          <a:pt x="840" y="0"/>
                        </a:lnTo>
                        <a:lnTo>
                          <a:pt x="843" y="0"/>
                        </a:lnTo>
                        <a:lnTo>
                          <a:pt x="845" y="0"/>
                        </a:lnTo>
                        <a:lnTo>
                          <a:pt x="848" y="0"/>
                        </a:lnTo>
                        <a:lnTo>
                          <a:pt x="851" y="0"/>
                        </a:lnTo>
                        <a:lnTo>
                          <a:pt x="853" y="0"/>
                        </a:lnTo>
                        <a:lnTo>
                          <a:pt x="856" y="0"/>
                        </a:lnTo>
                        <a:lnTo>
                          <a:pt x="859" y="0"/>
                        </a:lnTo>
                        <a:lnTo>
                          <a:pt x="862" y="0"/>
                        </a:lnTo>
                        <a:lnTo>
                          <a:pt x="864" y="0"/>
                        </a:lnTo>
                        <a:lnTo>
                          <a:pt x="867" y="0"/>
                        </a:lnTo>
                        <a:lnTo>
                          <a:pt x="870" y="0"/>
                        </a:lnTo>
                        <a:lnTo>
                          <a:pt x="872" y="0"/>
                        </a:lnTo>
                        <a:lnTo>
                          <a:pt x="875" y="0"/>
                        </a:lnTo>
                        <a:lnTo>
                          <a:pt x="878" y="0"/>
                        </a:lnTo>
                        <a:lnTo>
                          <a:pt x="880" y="0"/>
                        </a:lnTo>
                        <a:lnTo>
                          <a:pt x="883" y="0"/>
                        </a:lnTo>
                        <a:lnTo>
                          <a:pt x="886" y="0"/>
                        </a:lnTo>
                        <a:lnTo>
                          <a:pt x="888" y="0"/>
                        </a:lnTo>
                        <a:lnTo>
                          <a:pt x="891" y="0"/>
                        </a:lnTo>
                        <a:lnTo>
                          <a:pt x="894" y="0"/>
                        </a:lnTo>
                        <a:lnTo>
                          <a:pt x="896" y="0"/>
                        </a:lnTo>
                        <a:lnTo>
                          <a:pt x="899" y="0"/>
                        </a:lnTo>
                        <a:lnTo>
                          <a:pt x="902" y="0"/>
                        </a:lnTo>
                        <a:lnTo>
                          <a:pt x="905" y="0"/>
                        </a:lnTo>
                        <a:lnTo>
                          <a:pt x="907" y="0"/>
                        </a:lnTo>
                        <a:lnTo>
                          <a:pt x="910" y="0"/>
                        </a:lnTo>
                        <a:lnTo>
                          <a:pt x="913" y="0"/>
                        </a:lnTo>
                        <a:lnTo>
                          <a:pt x="915" y="0"/>
                        </a:lnTo>
                        <a:lnTo>
                          <a:pt x="918" y="0"/>
                        </a:lnTo>
                        <a:lnTo>
                          <a:pt x="921" y="0"/>
                        </a:lnTo>
                        <a:lnTo>
                          <a:pt x="923" y="0"/>
                        </a:lnTo>
                        <a:lnTo>
                          <a:pt x="926" y="0"/>
                        </a:lnTo>
                        <a:lnTo>
                          <a:pt x="929" y="0"/>
                        </a:lnTo>
                        <a:lnTo>
                          <a:pt x="931" y="0"/>
                        </a:lnTo>
                        <a:lnTo>
                          <a:pt x="934" y="0"/>
                        </a:lnTo>
                        <a:lnTo>
                          <a:pt x="936" y="0"/>
                        </a:lnTo>
                        <a:lnTo>
                          <a:pt x="939" y="0"/>
                        </a:lnTo>
                        <a:lnTo>
                          <a:pt x="942" y="0"/>
                        </a:lnTo>
                        <a:lnTo>
                          <a:pt x="944" y="0"/>
                        </a:lnTo>
                        <a:lnTo>
                          <a:pt x="947" y="0"/>
                        </a:lnTo>
                        <a:lnTo>
                          <a:pt x="950" y="0"/>
                        </a:lnTo>
                        <a:lnTo>
                          <a:pt x="953" y="0"/>
                        </a:lnTo>
                        <a:lnTo>
                          <a:pt x="955" y="0"/>
                        </a:lnTo>
                        <a:lnTo>
                          <a:pt x="958" y="0"/>
                        </a:lnTo>
                        <a:lnTo>
                          <a:pt x="961" y="0"/>
                        </a:lnTo>
                        <a:lnTo>
                          <a:pt x="963" y="0"/>
                        </a:lnTo>
                        <a:lnTo>
                          <a:pt x="966" y="0"/>
                        </a:lnTo>
                        <a:lnTo>
                          <a:pt x="969" y="0"/>
                        </a:lnTo>
                        <a:lnTo>
                          <a:pt x="971" y="0"/>
                        </a:lnTo>
                        <a:lnTo>
                          <a:pt x="974" y="0"/>
                        </a:lnTo>
                        <a:lnTo>
                          <a:pt x="977" y="0"/>
                        </a:lnTo>
                        <a:lnTo>
                          <a:pt x="979" y="0"/>
                        </a:lnTo>
                        <a:lnTo>
                          <a:pt x="982" y="0"/>
                        </a:lnTo>
                        <a:lnTo>
                          <a:pt x="985" y="0"/>
                        </a:lnTo>
                        <a:lnTo>
                          <a:pt x="987" y="0"/>
                        </a:lnTo>
                        <a:lnTo>
                          <a:pt x="990" y="0"/>
                        </a:lnTo>
                        <a:lnTo>
                          <a:pt x="993" y="0"/>
                        </a:lnTo>
                        <a:lnTo>
                          <a:pt x="996" y="0"/>
                        </a:lnTo>
                        <a:lnTo>
                          <a:pt x="998" y="0"/>
                        </a:lnTo>
                        <a:lnTo>
                          <a:pt x="1001" y="0"/>
                        </a:lnTo>
                        <a:lnTo>
                          <a:pt x="1004" y="0"/>
                        </a:lnTo>
                        <a:lnTo>
                          <a:pt x="1006" y="0"/>
                        </a:lnTo>
                        <a:lnTo>
                          <a:pt x="1009" y="0"/>
                        </a:lnTo>
                        <a:lnTo>
                          <a:pt x="1012" y="0"/>
                        </a:lnTo>
                        <a:lnTo>
                          <a:pt x="1014" y="0"/>
                        </a:lnTo>
                        <a:lnTo>
                          <a:pt x="1017" y="0"/>
                        </a:lnTo>
                        <a:lnTo>
                          <a:pt x="1020" y="0"/>
                        </a:lnTo>
                        <a:lnTo>
                          <a:pt x="1022" y="0"/>
                        </a:lnTo>
                        <a:lnTo>
                          <a:pt x="1025" y="0"/>
                        </a:lnTo>
                        <a:lnTo>
                          <a:pt x="1028" y="0"/>
                        </a:lnTo>
                        <a:lnTo>
                          <a:pt x="103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99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044400" y="5075280"/>
                    <a:ext cx="154872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7" h="118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2" y="0"/>
                        </a:ln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38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46" y="0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60" y="0"/>
                        </a:lnTo>
                        <a:lnTo>
                          <a:pt x="63" y="0"/>
                        </a:lnTo>
                        <a:lnTo>
                          <a:pt x="66" y="0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9" y="0"/>
                        </a:lnTo>
                        <a:lnTo>
                          <a:pt x="82" y="0"/>
                        </a:lnTo>
                        <a:lnTo>
                          <a:pt x="85" y="0"/>
                        </a:lnTo>
                        <a:lnTo>
                          <a:pt x="88" y="0"/>
                        </a:lnTo>
                        <a:lnTo>
                          <a:pt x="90" y="0"/>
                        </a:lnTo>
                        <a:lnTo>
                          <a:pt x="93" y="0"/>
                        </a:lnTo>
                        <a:lnTo>
                          <a:pt x="96" y="0"/>
                        </a:lnTo>
                        <a:lnTo>
                          <a:pt x="99" y="0"/>
                        </a:lnTo>
                        <a:lnTo>
                          <a:pt x="101" y="0"/>
                        </a:lnTo>
                        <a:lnTo>
                          <a:pt x="104" y="0"/>
                        </a:lnTo>
                        <a:lnTo>
                          <a:pt x="107" y="0"/>
                        </a:lnTo>
                        <a:lnTo>
                          <a:pt x="110" y="0"/>
                        </a:lnTo>
                        <a:lnTo>
                          <a:pt x="112" y="0"/>
                        </a:lnTo>
                        <a:lnTo>
                          <a:pt x="115" y="0"/>
                        </a:lnTo>
                        <a:lnTo>
                          <a:pt x="118" y="0"/>
                        </a:lnTo>
                        <a:lnTo>
                          <a:pt x="121" y="0"/>
                        </a:lnTo>
                        <a:lnTo>
                          <a:pt x="123" y="0"/>
                        </a:lnTo>
                        <a:lnTo>
                          <a:pt x="126" y="0"/>
                        </a:lnTo>
                        <a:lnTo>
                          <a:pt x="129" y="0"/>
                        </a:lnTo>
                        <a:lnTo>
                          <a:pt x="132" y="0"/>
                        </a:lnTo>
                        <a:lnTo>
                          <a:pt x="134" y="0"/>
                        </a:lnTo>
                        <a:lnTo>
                          <a:pt x="137" y="0"/>
                        </a:lnTo>
                        <a:lnTo>
                          <a:pt x="140" y="0"/>
                        </a:lnTo>
                        <a:lnTo>
                          <a:pt x="143" y="0"/>
                        </a:lnTo>
                        <a:lnTo>
                          <a:pt x="146" y="0"/>
                        </a:lnTo>
                        <a:lnTo>
                          <a:pt x="148" y="0"/>
                        </a:lnTo>
                        <a:lnTo>
                          <a:pt x="151" y="0"/>
                        </a:lnTo>
                        <a:lnTo>
                          <a:pt x="154" y="0"/>
                        </a:lnTo>
                        <a:lnTo>
                          <a:pt x="157" y="0"/>
                        </a:lnTo>
                        <a:lnTo>
                          <a:pt x="159" y="0"/>
                        </a:lnTo>
                        <a:lnTo>
                          <a:pt x="162" y="0"/>
                        </a:lnTo>
                        <a:lnTo>
                          <a:pt x="165" y="0"/>
                        </a:lnTo>
                        <a:lnTo>
                          <a:pt x="168" y="0"/>
                        </a:lnTo>
                        <a:lnTo>
                          <a:pt x="170" y="0"/>
                        </a:lnTo>
                        <a:lnTo>
                          <a:pt x="173" y="0"/>
                        </a:lnTo>
                        <a:lnTo>
                          <a:pt x="176" y="0"/>
                        </a:lnTo>
                        <a:lnTo>
                          <a:pt x="179" y="0"/>
                        </a:lnTo>
                        <a:lnTo>
                          <a:pt x="181" y="0"/>
                        </a:lnTo>
                        <a:lnTo>
                          <a:pt x="184" y="0"/>
                        </a:lnTo>
                        <a:lnTo>
                          <a:pt x="186" y="0"/>
                        </a:lnTo>
                        <a:lnTo>
                          <a:pt x="189" y="0"/>
                        </a:lnTo>
                        <a:lnTo>
                          <a:pt x="192" y="0"/>
                        </a:lnTo>
                        <a:lnTo>
                          <a:pt x="195" y="0"/>
                        </a:lnTo>
                        <a:lnTo>
                          <a:pt x="197" y="0"/>
                        </a:lnTo>
                        <a:lnTo>
                          <a:pt x="200" y="0"/>
                        </a:lnTo>
                        <a:lnTo>
                          <a:pt x="203" y="0"/>
                        </a:lnTo>
                        <a:lnTo>
                          <a:pt x="206" y="0"/>
                        </a:lnTo>
                        <a:lnTo>
                          <a:pt x="208" y="0"/>
                        </a:lnTo>
                        <a:lnTo>
                          <a:pt x="211" y="0"/>
                        </a:lnTo>
                        <a:lnTo>
                          <a:pt x="214" y="0"/>
                        </a:lnTo>
                        <a:lnTo>
                          <a:pt x="217" y="0"/>
                        </a:lnTo>
                        <a:lnTo>
                          <a:pt x="219" y="0"/>
                        </a:lnTo>
                        <a:lnTo>
                          <a:pt x="222" y="0"/>
                        </a:lnTo>
                        <a:lnTo>
                          <a:pt x="225" y="0"/>
                        </a:lnTo>
                        <a:lnTo>
                          <a:pt x="228" y="0"/>
                        </a:lnTo>
                        <a:lnTo>
                          <a:pt x="230" y="0"/>
                        </a:lnTo>
                        <a:lnTo>
                          <a:pt x="233" y="1"/>
                        </a:lnTo>
                        <a:lnTo>
                          <a:pt x="236" y="1"/>
                        </a:lnTo>
                        <a:lnTo>
                          <a:pt x="239" y="1"/>
                        </a:lnTo>
                        <a:lnTo>
                          <a:pt x="241" y="1"/>
                        </a:lnTo>
                        <a:lnTo>
                          <a:pt x="244" y="1"/>
                        </a:lnTo>
                        <a:lnTo>
                          <a:pt x="247" y="1"/>
                        </a:lnTo>
                        <a:lnTo>
                          <a:pt x="250" y="1"/>
                        </a:lnTo>
                        <a:lnTo>
                          <a:pt x="252" y="1"/>
                        </a:lnTo>
                        <a:lnTo>
                          <a:pt x="255" y="1"/>
                        </a:lnTo>
                        <a:lnTo>
                          <a:pt x="258" y="1"/>
                        </a:lnTo>
                        <a:lnTo>
                          <a:pt x="261" y="1"/>
                        </a:lnTo>
                        <a:lnTo>
                          <a:pt x="264" y="1"/>
                        </a:lnTo>
                        <a:lnTo>
                          <a:pt x="266" y="1"/>
                        </a:lnTo>
                        <a:lnTo>
                          <a:pt x="269" y="1"/>
                        </a:lnTo>
                        <a:lnTo>
                          <a:pt x="272" y="2"/>
                        </a:lnTo>
                        <a:lnTo>
                          <a:pt x="275" y="2"/>
                        </a:lnTo>
                        <a:lnTo>
                          <a:pt x="277" y="2"/>
                        </a:lnTo>
                        <a:lnTo>
                          <a:pt x="280" y="2"/>
                        </a:lnTo>
                        <a:lnTo>
                          <a:pt x="283" y="2"/>
                        </a:lnTo>
                        <a:lnTo>
                          <a:pt x="286" y="2"/>
                        </a:lnTo>
                        <a:lnTo>
                          <a:pt x="288" y="2"/>
                        </a:lnTo>
                        <a:lnTo>
                          <a:pt x="291" y="3"/>
                        </a:lnTo>
                        <a:lnTo>
                          <a:pt x="294" y="3"/>
                        </a:lnTo>
                        <a:lnTo>
                          <a:pt x="297" y="3"/>
                        </a:lnTo>
                        <a:lnTo>
                          <a:pt x="299" y="3"/>
                        </a:lnTo>
                        <a:lnTo>
                          <a:pt x="302" y="4"/>
                        </a:lnTo>
                        <a:lnTo>
                          <a:pt x="305" y="4"/>
                        </a:lnTo>
                        <a:lnTo>
                          <a:pt x="308" y="4"/>
                        </a:lnTo>
                        <a:lnTo>
                          <a:pt x="310" y="4"/>
                        </a:lnTo>
                        <a:lnTo>
                          <a:pt x="313" y="5"/>
                        </a:lnTo>
                        <a:lnTo>
                          <a:pt x="316" y="5"/>
                        </a:lnTo>
                        <a:lnTo>
                          <a:pt x="319" y="5"/>
                        </a:lnTo>
                        <a:lnTo>
                          <a:pt x="321" y="6"/>
                        </a:lnTo>
                        <a:lnTo>
                          <a:pt x="324" y="6"/>
                        </a:lnTo>
                        <a:lnTo>
                          <a:pt x="327" y="6"/>
                        </a:lnTo>
                        <a:lnTo>
                          <a:pt x="330" y="7"/>
                        </a:lnTo>
                        <a:lnTo>
                          <a:pt x="332" y="7"/>
                        </a:lnTo>
                        <a:lnTo>
                          <a:pt x="335" y="7"/>
                        </a:lnTo>
                        <a:lnTo>
                          <a:pt x="335" y="8"/>
                        </a:lnTo>
                        <a:lnTo>
                          <a:pt x="338" y="8"/>
                        </a:lnTo>
                        <a:lnTo>
                          <a:pt x="341" y="8"/>
                        </a:lnTo>
                        <a:lnTo>
                          <a:pt x="343" y="9"/>
                        </a:lnTo>
                        <a:lnTo>
                          <a:pt x="346" y="9"/>
                        </a:lnTo>
                        <a:lnTo>
                          <a:pt x="349" y="10"/>
                        </a:lnTo>
                        <a:lnTo>
                          <a:pt x="352" y="10"/>
                        </a:lnTo>
                        <a:lnTo>
                          <a:pt x="352" y="12"/>
                        </a:lnTo>
                        <a:lnTo>
                          <a:pt x="354" y="12"/>
                        </a:lnTo>
                        <a:lnTo>
                          <a:pt x="357" y="13"/>
                        </a:lnTo>
                        <a:lnTo>
                          <a:pt x="360" y="13"/>
                        </a:lnTo>
                        <a:lnTo>
                          <a:pt x="363" y="14"/>
                        </a:lnTo>
                        <a:lnTo>
                          <a:pt x="365" y="14"/>
                        </a:lnTo>
                        <a:lnTo>
                          <a:pt x="365" y="15"/>
                        </a:lnTo>
                        <a:lnTo>
                          <a:pt x="368" y="15"/>
                        </a:lnTo>
                        <a:lnTo>
                          <a:pt x="368" y="16"/>
                        </a:lnTo>
                        <a:lnTo>
                          <a:pt x="371" y="16"/>
                        </a:lnTo>
                        <a:lnTo>
                          <a:pt x="374" y="17"/>
                        </a:lnTo>
                        <a:lnTo>
                          <a:pt x="376" y="18"/>
                        </a:lnTo>
                        <a:lnTo>
                          <a:pt x="379" y="18"/>
                        </a:lnTo>
                        <a:lnTo>
                          <a:pt x="379" y="19"/>
                        </a:lnTo>
                        <a:lnTo>
                          <a:pt x="382" y="19"/>
                        </a:lnTo>
                        <a:lnTo>
                          <a:pt x="382" y="21"/>
                        </a:lnTo>
                        <a:lnTo>
                          <a:pt x="385" y="21"/>
                        </a:lnTo>
                        <a:lnTo>
                          <a:pt x="385" y="22"/>
                        </a:lnTo>
                        <a:lnTo>
                          <a:pt x="387" y="22"/>
                        </a:lnTo>
                        <a:lnTo>
                          <a:pt x="387" y="23"/>
                        </a:lnTo>
                        <a:lnTo>
                          <a:pt x="390" y="23"/>
                        </a:lnTo>
                        <a:lnTo>
                          <a:pt x="390" y="24"/>
                        </a:lnTo>
                        <a:lnTo>
                          <a:pt x="393" y="25"/>
                        </a:lnTo>
                        <a:lnTo>
                          <a:pt x="396" y="25"/>
                        </a:lnTo>
                        <a:lnTo>
                          <a:pt x="396" y="26"/>
                        </a:lnTo>
                        <a:lnTo>
                          <a:pt x="398" y="27"/>
                        </a:lnTo>
                        <a:lnTo>
                          <a:pt x="401" y="28"/>
                        </a:lnTo>
                        <a:lnTo>
                          <a:pt x="401" y="29"/>
                        </a:lnTo>
                        <a:lnTo>
                          <a:pt x="404" y="29"/>
                        </a:lnTo>
                        <a:lnTo>
                          <a:pt x="404" y="31"/>
                        </a:lnTo>
                        <a:lnTo>
                          <a:pt x="407" y="32"/>
                        </a:lnTo>
                        <a:lnTo>
                          <a:pt x="407" y="33"/>
                        </a:lnTo>
                        <a:lnTo>
                          <a:pt x="410" y="33"/>
                        </a:lnTo>
                        <a:lnTo>
                          <a:pt x="410" y="34"/>
                        </a:lnTo>
                        <a:lnTo>
                          <a:pt x="412" y="35"/>
                        </a:lnTo>
                        <a:lnTo>
                          <a:pt x="415" y="36"/>
                        </a:lnTo>
                        <a:lnTo>
                          <a:pt x="415" y="37"/>
                        </a:lnTo>
                        <a:lnTo>
                          <a:pt x="418" y="38"/>
                        </a:lnTo>
                        <a:lnTo>
                          <a:pt x="418" y="40"/>
                        </a:lnTo>
                        <a:lnTo>
                          <a:pt x="421" y="40"/>
                        </a:lnTo>
                        <a:lnTo>
                          <a:pt x="421" y="41"/>
                        </a:lnTo>
                        <a:lnTo>
                          <a:pt x="423" y="42"/>
                        </a:lnTo>
                        <a:lnTo>
                          <a:pt x="423" y="43"/>
                        </a:lnTo>
                        <a:lnTo>
                          <a:pt x="426" y="44"/>
                        </a:lnTo>
                        <a:lnTo>
                          <a:pt x="426" y="45"/>
                        </a:lnTo>
                        <a:lnTo>
                          <a:pt x="429" y="46"/>
                        </a:lnTo>
                        <a:lnTo>
                          <a:pt x="432" y="47"/>
                        </a:lnTo>
                        <a:lnTo>
                          <a:pt x="432" y="48"/>
                        </a:lnTo>
                        <a:lnTo>
                          <a:pt x="434" y="51"/>
                        </a:lnTo>
                        <a:lnTo>
                          <a:pt x="434" y="52"/>
                        </a:lnTo>
                        <a:lnTo>
                          <a:pt x="437" y="53"/>
                        </a:lnTo>
                        <a:lnTo>
                          <a:pt x="437" y="54"/>
                        </a:lnTo>
                        <a:lnTo>
                          <a:pt x="440" y="55"/>
                        </a:lnTo>
                        <a:lnTo>
                          <a:pt x="440" y="56"/>
                        </a:lnTo>
                        <a:lnTo>
                          <a:pt x="442" y="57"/>
                        </a:lnTo>
                        <a:lnTo>
                          <a:pt x="442" y="60"/>
                        </a:lnTo>
                        <a:lnTo>
                          <a:pt x="445" y="61"/>
                        </a:lnTo>
                        <a:lnTo>
                          <a:pt x="445" y="62"/>
                        </a:lnTo>
                        <a:lnTo>
                          <a:pt x="448" y="63"/>
                        </a:lnTo>
                        <a:lnTo>
                          <a:pt x="450" y="64"/>
                        </a:lnTo>
                        <a:lnTo>
                          <a:pt x="450" y="66"/>
                        </a:lnTo>
                        <a:lnTo>
                          <a:pt x="453" y="68"/>
                        </a:lnTo>
                        <a:lnTo>
                          <a:pt x="453" y="69"/>
                        </a:lnTo>
                        <a:lnTo>
                          <a:pt x="456" y="70"/>
                        </a:lnTo>
                        <a:lnTo>
                          <a:pt x="456" y="72"/>
                        </a:lnTo>
                        <a:lnTo>
                          <a:pt x="459" y="73"/>
                        </a:lnTo>
                        <a:lnTo>
                          <a:pt x="459" y="74"/>
                        </a:lnTo>
                        <a:lnTo>
                          <a:pt x="461" y="75"/>
                        </a:lnTo>
                        <a:lnTo>
                          <a:pt x="461" y="78"/>
                        </a:lnTo>
                        <a:lnTo>
                          <a:pt x="464" y="79"/>
                        </a:lnTo>
                        <a:lnTo>
                          <a:pt x="464" y="80"/>
                        </a:lnTo>
                        <a:lnTo>
                          <a:pt x="467" y="82"/>
                        </a:lnTo>
                        <a:lnTo>
                          <a:pt x="470" y="83"/>
                        </a:lnTo>
                        <a:lnTo>
                          <a:pt x="470" y="84"/>
                        </a:lnTo>
                        <a:lnTo>
                          <a:pt x="472" y="85"/>
                        </a:lnTo>
                        <a:lnTo>
                          <a:pt x="472" y="87"/>
                        </a:lnTo>
                        <a:lnTo>
                          <a:pt x="475" y="89"/>
                        </a:lnTo>
                        <a:lnTo>
                          <a:pt x="475" y="90"/>
                        </a:lnTo>
                        <a:lnTo>
                          <a:pt x="478" y="91"/>
                        </a:lnTo>
                        <a:lnTo>
                          <a:pt x="478" y="92"/>
                        </a:lnTo>
                        <a:lnTo>
                          <a:pt x="481" y="94"/>
                        </a:lnTo>
                        <a:lnTo>
                          <a:pt x="481" y="95"/>
                        </a:lnTo>
                        <a:lnTo>
                          <a:pt x="483" y="96"/>
                        </a:lnTo>
                        <a:lnTo>
                          <a:pt x="486" y="97"/>
                        </a:lnTo>
                        <a:lnTo>
                          <a:pt x="486" y="99"/>
                        </a:lnTo>
                        <a:lnTo>
                          <a:pt x="489" y="100"/>
                        </a:lnTo>
                        <a:lnTo>
                          <a:pt x="489" y="101"/>
                        </a:lnTo>
                        <a:lnTo>
                          <a:pt x="492" y="102"/>
                        </a:lnTo>
                        <a:lnTo>
                          <a:pt x="492" y="103"/>
                        </a:lnTo>
                        <a:lnTo>
                          <a:pt x="494" y="104"/>
                        </a:lnTo>
                        <a:lnTo>
                          <a:pt x="494" y="105"/>
                        </a:lnTo>
                        <a:lnTo>
                          <a:pt x="497" y="106"/>
                        </a:lnTo>
                        <a:lnTo>
                          <a:pt x="497" y="108"/>
                        </a:lnTo>
                        <a:lnTo>
                          <a:pt x="500" y="109"/>
                        </a:lnTo>
                        <a:lnTo>
                          <a:pt x="503" y="110"/>
                        </a:lnTo>
                        <a:lnTo>
                          <a:pt x="505" y="111"/>
                        </a:lnTo>
                        <a:lnTo>
                          <a:pt x="508" y="112"/>
                        </a:lnTo>
                        <a:lnTo>
                          <a:pt x="508" y="113"/>
                        </a:lnTo>
                        <a:lnTo>
                          <a:pt x="511" y="113"/>
                        </a:lnTo>
                        <a:lnTo>
                          <a:pt x="511" y="114"/>
                        </a:lnTo>
                        <a:lnTo>
                          <a:pt x="514" y="114"/>
                        </a:lnTo>
                        <a:lnTo>
                          <a:pt x="514" y="115"/>
                        </a:lnTo>
                        <a:lnTo>
                          <a:pt x="516" y="115"/>
                        </a:lnTo>
                        <a:lnTo>
                          <a:pt x="519" y="117"/>
                        </a:lnTo>
                        <a:lnTo>
                          <a:pt x="522" y="117"/>
                        </a:lnTo>
                        <a:lnTo>
                          <a:pt x="525" y="117"/>
                        </a:lnTo>
                        <a:lnTo>
                          <a:pt x="528" y="117"/>
                        </a:lnTo>
                        <a:lnTo>
                          <a:pt x="530" y="117"/>
                        </a:lnTo>
                        <a:lnTo>
                          <a:pt x="533" y="117"/>
                        </a:lnTo>
                        <a:lnTo>
                          <a:pt x="536" y="117"/>
                        </a:lnTo>
                        <a:lnTo>
                          <a:pt x="536" y="115"/>
                        </a:lnTo>
                        <a:lnTo>
                          <a:pt x="539" y="115"/>
                        </a:lnTo>
                        <a:lnTo>
                          <a:pt x="541" y="115"/>
                        </a:lnTo>
                        <a:lnTo>
                          <a:pt x="541" y="114"/>
                        </a:lnTo>
                        <a:lnTo>
                          <a:pt x="544" y="114"/>
                        </a:lnTo>
                        <a:lnTo>
                          <a:pt x="544" y="113"/>
                        </a:lnTo>
                        <a:lnTo>
                          <a:pt x="547" y="113"/>
                        </a:lnTo>
                        <a:lnTo>
                          <a:pt x="547" y="112"/>
                        </a:lnTo>
                        <a:lnTo>
                          <a:pt x="550" y="111"/>
                        </a:lnTo>
                        <a:lnTo>
                          <a:pt x="552" y="110"/>
                        </a:lnTo>
                        <a:lnTo>
                          <a:pt x="552" y="109"/>
                        </a:lnTo>
                        <a:lnTo>
                          <a:pt x="555" y="109"/>
                        </a:lnTo>
                        <a:lnTo>
                          <a:pt x="558" y="108"/>
                        </a:lnTo>
                        <a:lnTo>
                          <a:pt x="558" y="106"/>
                        </a:lnTo>
                        <a:lnTo>
                          <a:pt x="561" y="105"/>
                        </a:lnTo>
                        <a:lnTo>
                          <a:pt x="561" y="104"/>
                        </a:lnTo>
                        <a:lnTo>
                          <a:pt x="563" y="103"/>
                        </a:lnTo>
                        <a:lnTo>
                          <a:pt x="563" y="102"/>
                        </a:lnTo>
                        <a:lnTo>
                          <a:pt x="566" y="101"/>
                        </a:lnTo>
                        <a:lnTo>
                          <a:pt x="566" y="100"/>
                        </a:lnTo>
                        <a:lnTo>
                          <a:pt x="569" y="99"/>
                        </a:lnTo>
                        <a:lnTo>
                          <a:pt x="569" y="97"/>
                        </a:lnTo>
                        <a:lnTo>
                          <a:pt x="572" y="96"/>
                        </a:lnTo>
                        <a:lnTo>
                          <a:pt x="572" y="95"/>
                        </a:lnTo>
                        <a:lnTo>
                          <a:pt x="574" y="94"/>
                        </a:lnTo>
                        <a:lnTo>
                          <a:pt x="577" y="92"/>
                        </a:lnTo>
                        <a:lnTo>
                          <a:pt x="577" y="91"/>
                        </a:lnTo>
                        <a:lnTo>
                          <a:pt x="580" y="90"/>
                        </a:lnTo>
                        <a:lnTo>
                          <a:pt x="580" y="89"/>
                        </a:lnTo>
                        <a:lnTo>
                          <a:pt x="583" y="87"/>
                        </a:lnTo>
                        <a:lnTo>
                          <a:pt x="583" y="85"/>
                        </a:lnTo>
                        <a:lnTo>
                          <a:pt x="585" y="84"/>
                        </a:lnTo>
                        <a:lnTo>
                          <a:pt x="585" y="83"/>
                        </a:lnTo>
                        <a:lnTo>
                          <a:pt x="588" y="82"/>
                        </a:lnTo>
                        <a:lnTo>
                          <a:pt x="588" y="80"/>
                        </a:lnTo>
                        <a:lnTo>
                          <a:pt x="591" y="79"/>
                        </a:lnTo>
                        <a:lnTo>
                          <a:pt x="594" y="78"/>
                        </a:lnTo>
                        <a:lnTo>
                          <a:pt x="594" y="75"/>
                        </a:lnTo>
                        <a:lnTo>
                          <a:pt x="596" y="74"/>
                        </a:lnTo>
                        <a:lnTo>
                          <a:pt x="596" y="73"/>
                        </a:lnTo>
                        <a:lnTo>
                          <a:pt x="599" y="72"/>
                        </a:lnTo>
                        <a:lnTo>
                          <a:pt x="599" y="70"/>
                        </a:lnTo>
                        <a:lnTo>
                          <a:pt x="602" y="69"/>
                        </a:lnTo>
                        <a:lnTo>
                          <a:pt x="602" y="68"/>
                        </a:lnTo>
                        <a:lnTo>
                          <a:pt x="605" y="66"/>
                        </a:lnTo>
                        <a:lnTo>
                          <a:pt x="605" y="64"/>
                        </a:lnTo>
                        <a:lnTo>
                          <a:pt x="607" y="63"/>
                        </a:lnTo>
                        <a:lnTo>
                          <a:pt x="607" y="62"/>
                        </a:lnTo>
                        <a:lnTo>
                          <a:pt x="610" y="61"/>
                        </a:lnTo>
                        <a:lnTo>
                          <a:pt x="613" y="60"/>
                        </a:lnTo>
                        <a:lnTo>
                          <a:pt x="613" y="57"/>
                        </a:lnTo>
                        <a:lnTo>
                          <a:pt x="616" y="56"/>
                        </a:lnTo>
                        <a:lnTo>
                          <a:pt x="616" y="55"/>
                        </a:lnTo>
                        <a:lnTo>
                          <a:pt x="618" y="54"/>
                        </a:lnTo>
                        <a:lnTo>
                          <a:pt x="618" y="53"/>
                        </a:lnTo>
                        <a:lnTo>
                          <a:pt x="621" y="52"/>
                        </a:lnTo>
                        <a:lnTo>
                          <a:pt x="621" y="51"/>
                        </a:lnTo>
                        <a:lnTo>
                          <a:pt x="624" y="48"/>
                        </a:lnTo>
                        <a:lnTo>
                          <a:pt x="624" y="47"/>
                        </a:lnTo>
                        <a:lnTo>
                          <a:pt x="627" y="46"/>
                        </a:lnTo>
                        <a:lnTo>
                          <a:pt x="627" y="45"/>
                        </a:lnTo>
                        <a:lnTo>
                          <a:pt x="629" y="44"/>
                        </a:lnTo>
                        <a:lnTo>
                          <a:pt x="632" y="43"/>
                        </a:lnTo>
                        <a:lnTo>
                          <a:pt x="632" y="42"/>
                        </a:lnTo>
                        <a:lnTo>
                          <a:pt x="635" y="41"/>
                        </a:lnTo>
                        <a:lnTo>
                          <a:pt x="635" y="40"/>
                        </a:lnTo>
                        <a:lnTo>
                          <a:pt x="638" y="40"/>
                        </a:lnTo>
                        <a:lnTo>
                          <a:pt x="638" y="38"/>
                        </a:lnTo>
                        <a:lnTo>
                          <a:pt x="640" y="37"/>
                        </a:lnTo>
                        <a:lnTo>
                          <a:pt x="640" y="36"/>
                        </a:lnTo>
                        <a:lnTo>
                          <a:pt x="643" y="35"/>
                        </a:lnTo>
                        <a:lnTo>
                          <a:pt x="643" y="34"/>
                        </a:lnTo>
                        <a:lnTo>
                          <a:pt x="646" y="33"/>
                        </a:lnTo>
                        <a:lnTo>
                          <a:pt x="649" y="33"/>
                        </a:lnTo>
                        <a:lnTo>
                          <a:pt x="649" y="32"/>
                        </a:lnTo>
                        <a:lnTo>
                          <a:pt x="651" y="31"/>
                        </a:lnTo>
                        <a:lnTo>
                          <a:pt x="651" y="29"/>
                        </a:lnTo>
                        <a:lnTo>
                          <a:pt x="654" y="29"/>
                        </a:lnTo>
                        <a:lnTo>
                          <a:pt x="654" y="28"/>
                        </a:lnTo>
                        <a:lnTo>
                          <a:pt x="657" y="27"/>
                        </a:lnTo>
                        <a:lnTo>
                          <a:pt x="660" y="26"/>
                        </a:lnTo>
                        <a:lnTo>
                          <a:pt x="660" y="25"/>
                        </a:lnTo>
                        <a:lnTo>
                          <a:pt x="662" y="25"/>
                        </a:lnTo>
                        <a:lnTo>
                          <a:pt x="662" y="24"/>
                        </a:lnTo>
                        <a:lnTo>
                          <a:pt x="665" y="23"/>
                        </a:lnTo>
                        <a:lnTo>
                          <a:pt x="668" y="23"/>
                        </a:lnTo>
                        <a:lnTo>
                          <a:pt x="668" y="22"/>
                        </a:lnTo>
                        <a:lnTo>
                          <a:pt x="671" y="22"/>
                        </a:lnTo>
                        <a:lnTo>
                          <a:pt x="671" y="21"/>
                        </a:lnTo>
                        <a:lnTo>
                          <a:pt x="674" y="21"/>
                        </a:lnTo>
                        <a:lnTo>
                          <a:pt x="674" y="19"/>
                        </a:lnTo>
                        <a:lnTo>
                          <a:pt x="676" y="19"/>
                        </a:lnTo>
                        <a:lnTo>
                          <a:pt x="676" y="18"/>
                        </a:lnTo>
                        <a:lnTo>
                          <a:pt x="679" y="18"/>
                        </a:lnTo>
                        <a:lnTo>
                          <a:pt x="679" y="17"/>
                        </a:lnTo>
                        <a:lnTo>
                          <a:pt x="682" y="17"/>
                        </a:lnTo>
                        <a:lnTo>
                          <a:pt x="685" y="16"/>
                        </a:lnTo>
                        <a:lnTo>
                          <a:pt x="687" y="16"/>
                        </a:lnTo>
                        <a:lnTo>
                          <a:pt x="687" y="15"/>
                        </a:lnTo>
                        <a:lnTo>
                          <a:pt x="690" y="15"/>
                        </a:lnTo>
                        <a:lnTo>
                          <a:pt x="690" y="14"/>
                        </a:lnTo>
                        <a:lnTo>
                          <a:pt x="693" y="14"/>
                        </a:lnTo>
                        <a:lnTo>
                          <a:pt x="696" y="13"/>
                        </a:lnTo>
                        <a:lnTo>
                          <a:pt x="698" y="13"/>
                        </a:lnTo>
                        <a:lnTo>
                          <a:pt x="698" y="12"/>
                        </a:lnTo>
                        <a:lnTo>
                          <a:pt x="701" y="12"/>
                        </a:lnTo>
                        <a:lnTo>
                          <a:pt x="703" y="12"/>
                        </a:lnTo>
                        <a:lnTo>
                          <a:pt x="703" y="10"/>
                        </a:lnTo>
                        <a:lnTo>
                          <a:pt x="706" y="10"/>
                        </a:lnTo>
                        <a:lnTo>
                          <a:pt x="709" y="9"/>
                        </a:lnTo>
                        <a:lnTo>
                          <a:pt x="712" y="9"/>
                        </a:lnTo>
                        <a:lnTo>
                          <a:pt x="714" y="8"/>
                        </a:lnTo>
                        <a:lnTo>
                          <a:pt x="717" y="8"/>
                        </a:lnTo>
                        <a:lnTo>
                          <a:pt x="720" y="8"/>
                        </a:lnTo>
                        <a:lnTo>
                          <a:pt x="720" y="7"/>
                        </a:lnTo>
                        <a:lnTo>
                          <a:pt x="723" y="7"/>
                        </a:lnTo>
                        <a:lnTo>
                          <a:pt x="725" y="7"/>
                        </a:lnTo>
                        <a:lnTo>
                          <a:pt x="728" y="6"/>
                        </a:lnTo>
                        <a:lnTo>
                          <a:pt x="731" y="6"/>
                        </a:lnTo>
                        <a:lnTo>
                          <a:pt x="734" y="6"/>
                        </a:lnTo>
                        <a:lnTo>
                          <a:pt x="734" y="5"/>
                        </a:lnTo>
                        <a:lnTo>
                          <a:pt x="736" y="5"/>
                        </a:lnTo>
                        <a:lnTo>
                          <a:pt x="739" y="5"/>
                        </a:lnTo>
                        <a:lnTo>
                          <a:pt x="742" y="5"/>
                        </a:lnTo>
                        <a:lnTo>
                          <a:pt x="745" y="4"/>
                        </a:lnTo>
                        <a:lnTo>
                          <a:pt x="747" y="4"/>
                        </a:lnTo>
                        <a:lnTo>
                          <a:pt x="750" y="4"/>
                        </a:lnTo>
                        <a:lnTo>
                          <a:pt x="753" y="4"/>
                        </a:lnTo>
                        <a:lnTo>
                          <a:pt x="753" y="3"/>
                        </a:lnTo>
                        <a:lnTo>
                          <a:pt x="756" y="3"/>
                        </a:lnTo>
                        <a:lnTo>
                          <a:pt x="758" y="3"/>
                        </a:lnTo>
                        <a:lnTo>
                          <a:pt x="761" y="3"/>
                        </a:lnTo>
                        <a:lnTo>
                          <a:pt x="764" y="3"/>
                        </a:lnTo>
                        <a:lnTo>
                          <a:pt x="767" y="2"/>
                        </a:lnTo>
                        <a:lnTo>
                          <a:pt x="769" y="2"/>
                        </a:lnTo>
                        <a:lnTo>
                          <a:pt x="772" y="2"/>
                        </a:lnTo>
                        <a:lnTo>
                          <a:pt x="775" y="2"/>
                        </a:lnTo>
                        <a:lnTo>
                          <a:pt x="778" y="2"/>
                        </a:lnTo>
                        <a:lnTo>
                          <a:pt x="780" y="2"/>
                        </a:lnTo>
                        <a:lnTo>
                          <a:pt x="783" y="2"/>
                        </a:lnTo>
                        <a:lnTo>
                          <a:pt x="786" y="1"/>
                        </a:lnTo>
                        <a:lnTo>
                          <a:pt x="789" y="1"/>
                        </a:lnTo>
                        <a:lnTo>
                          <a:pt x="792" y="1"/>
                        </a:lnTo>
                        <a:lnTo>
                          <a:pt x="794" y="1"/>
                        </a:lnTo>
                        <a:lnTo>
                          <a:pt x="797" y="1"/>
                        </a:lnTo>
                        <a:lnTo>
                          <a:pt x="800" y="1"/>
                        </a:lnTo>
                        <a:lnTo>
                          <a:pt x="803" y="1"/>
                        </a:lnTo>
                        <a:lnTo>
                          <a:pt x="805" y="1"/>
                        </a:lnTo>
                        <a:lnTo>
                          <a:pt x="808" y="1"/>
                        </a:lnTo>
                        <a:lnTo>
                          <a:pt x="811" y="1"/>
                        </a:lnTo>
                        <a:lnTo>
                          <a:pt x="814" y="1"/>
                        </a:lnTo>
                        <a:lnTo>
                          <a:pt x="816" y="1"/>
                        </a:lnTo>
                        <a:lnTo>
                          <a:pt x="819" y="1"/>
                        </a:lnTo>
                        <a:lnTo>
                          <a:pt x="822" y="1"/>
                        </a:lnTo>
                        <a:lnTo>
                          <a:pt x="825" y="0"/>
                        </a:lnTo>
                        <a:lnTo>
                          <a:pt x="827" y="0"/>
                        </a:lnTo>
                        <a:lnTo>
                          <a:pt x="830" y="0"/>
                        </a:lnTo>
                        <a:lnTo>
                          <a:pt x="833" y="0"/>
                        </a:lnTo>
                        <a:lnTo>
                          <a:pt x="836" y="0"/>
                        </a:lnTo>
                        <a:lnTo>
                          <a:pt x="838" y="0"/>
                        </a:lnTo>
                        <a:lnTo>
                          <a:pt x="841" y="0"/>
                        </a:lnTo>
                        <a:lnTo>
                          <a:pt x="844" y="0"/>
                        </a:lnTo>
                        <a:lnTo>
                          <a:pt x="847" y="0"/>
                        </a:lnTo>
                        <a:lnTo>
                          <a:pt x="849" y="0"/>
                        </a:lnTo>
                        <a:lnTo>
                          <a:pt x="852" y="0"/>
                        </a:lnTo>
                        <a:lnTo>
                          <a:pt x="855" y="0"/>
                        </a:lnTo>
                        <a:lnTo>
                          <a:pt x="858" y="0"/>
                        </a:lnTo>
                        <a:lnTo>
                          <a:pt x="860" y="0"/>
                        </a:lnTo>
                        <a:lnTo>
                          <a:pt x="863" y="0"/>
                        </a:lnTo>
                        <a:lnTo>
                          <a:pt x="866" y="0"/>
                        </a:lnTo>
                        <a:lnTo>
                          <a:pt x="869" y="0"/>
                        </a:lnTo>
                        <a:lnTo>
                          <a:pt x="871" y="0"/>
                        </a:lnTo>
                        <a:lnTo>
                          <a:pt x="874" y="0"/>
                        </a:lnTo>
                        <a:lnTo>
                          <a:pt x="877" y="0"/>
                        </a:lnTo>
                        <a:lnTo>
                          <a:pt x="880" y="0"/>
                        </a:lnTo>
                        <a:lnTo>
                          <a:pt x="882" y="0"/>
                        </a:lnTo>
                        <a:lnTo>
                          <a:pt x="885" y="0"/>
                        </a:lnTo>
                        <a:lnTo>
                          <a:pt x="888" y="0"/>
                        </a:lnTo>
                        <a:lnTo>
                          <a:pt x="891" y="0"/>
                        </a:lnTo>
                        <a:lnTo>
                          <a:pt x="893" y="0"/>
                        </a:lnTo>
                        <a:lnTo>
                          <a:pt x="896" y="0"/>
                        </a:lnTo>
                        <a:lnTo>
                          <a:pt x="899" y="0"/>
                        </a:lnTo>
                        <a:lnTo>
                          <a:pt x="902" y="0"/>
                        </a:lnTo>
                        <a:lnTo>
                          <a:pt x="904" y="0"/>
                        </a:lnTo>
                        <a:lnTo>
                          <a:pt x="907" y="0"/>
                        </a:lnTo>
                        <a:lnTo>
                          <a:pt x="910" y="0"/>
                        </a:lnTo>
                        <a:lnTo>
                          <a:pt x="913" y="0"/>
                        </a:lnTo>
                        <a:lnTo>
                          <a:pt x="915" y="0"/>
                        </a:lnTo>
                        <a:lnTo>
                          <a:pt x="918" y="0"/>
                        </a:lnTo>
                        <a:lnTo>
                          <a:pt x="921" y="0"/>
                        </a:lnTo>
                        <a:lnTo>
                          <a:pt x="924" y="0"/>
                        </a:lnTo>
                        <a:lnTo>
                          <a:pt x="926" y="0"/>
                        </a:lnTo>
                        <a:lnTo>
                          <a:pt x="929" y="0"/>
                        </a:lnTo>
                        <a:lnTo>
                          <a:pt x="932" y="0"/>
                        </a:lnTo>
                        <a:lnTo>
                          <a:pt x="935" y="0"/>
                        </a:lnTo>
                        <a:lnTo>
                          <a:pt x="938" y="0"/>
                        </a:lnTo>
                        <a:lnTo>
                          <a:pt x="940" y="0"/>
                        </a:lnTo>
                        <a:lnTo>
                          <a:pt x="943" y="0"/>
                        </a:lnTo>
                        <a:lnTo>
                          <a:pt x="946" y="0"/>
                        </a:lnTo>
                        <a:lnTo>
                          <a:pt x="949" y="0"/>
                        </a:lnTo>
                        <a:lnTo>
                          <a:pt x="951" y="0"/>
                        </a:lnTo>
                        <a:lnTo>
                          <a:pt x="954" y="0"/>
                        </a:lnTo>
                        <a:lnTo>
                          <a:pt x="956" y="0"/>
                        </a:lnTo>
                        <a:lnTo>
                          <a:pt x="959" y="0"/>
                        </a:lnTo>
                        <a:lnTo>
                          <a:pt x="962" y="0"/>
                        </a:lnTo>
                        <a:lnTo>
                          <a:pt x="965" y="0"/>
                        </a:lnTo>
                        <a:lnTo>
                          <a:pt x="967" y="0"/>
                        </a:lnTo>
                        <a:lnTo>
                          <a:pt x="970" y="0"/>
                        </a:lnTo>
                        <a:lnTo>
                          <a:pt x="973" y="0"/>
                        </a:lnTo>
                        <a:lnTo>
                          <a:pt x="976" y="0"/>
                        </a:lnTo>
                        <a:lnTo>
                          <a:pt x="978" y="0"/>
                        </a:lnTo>
                        <a:lnTo>
                          <a:pt x="981" y="0"/>
                        </a:lnTo>
                        <a:lnTo>
                          <a:pt x="984" y="0"/>
                        </a:lnTo>
                        <a:lnTo>
                          <a:pt x="987" y="0"/>
                        </a:lnTo>
                        <a:lnTo>
                          <a:pt x="989" y="0"/>
                        </a:lnTo>
                        <a:lnTo>
                          <a:pt x="992" y="0"/>
                        </a:lnTo>
                        <a:lnTo>
                          <a:pt x="995" y="0"/>
                        </a:lnTo>
                        <a:lnTo>
                          <a:pt x="998" y="0"/>
                        </a:lnTo>
                        <a:lnTo>
                          <a:pt x="1000" y="0"/>
                        </a:lnTo>
                        <a:lnTo>
                          <a:pt x="1003" y="0"/>
                        </a:lnTo>
                        <a:lnTo>
                          <a:pt x="1006" y="0"/>
                        </a:lnTo>
                        <a:lnTo>
                          <a:pt x="1009" y="0"/>
                        </a:lnTo>
                        <a:lnTo>
                          <a:pt x="1011" y="0"/>
                        </a:lnTo>
                        <a:lnTo>
                          <a:pt x="1014" y="0"/>
                        </a:lnTo>
                        <a:lnTo>
                          <a:pt x="1017" y="0"/>
                        </a:lnTo>
                        <a:lnTo>
                          <a:pt x="1020" y="0"/>
                        </a:lnTo>
                        <a:lnTo>
                          <a:pt x="1022" y="0"/>
                        </a:lnTo>
                        <a:lnTo>
                          <a:pt x="1025" y="0"/>
                        </a:lnTo>
                        <a:lnTo>
                          <a:pt x="1028" y="0"/>
                        </a:lnTo>
                        <a:lnTo>
                          <a:pt x="1031" y="0"/>
                        </a:lnTo>
                        <a:lnTo>
                          <a:pt x="1033" y="0"/>
                        </a:lnTo>
                        <a:lnTo>
                          <a:pt x="1036" y="0"/>
                        </a:lnTo>
                        <a:lnTo>
                          <a:pt x="1039" y="0"/>
                        </a:lnTo>
                        <a:lnTo>
                          <a:pt x="1042" y="0"/>
                        </a:lnTo>
                        <a:lnTo>
                          <a:pt x="1044" y="0"/>
                        </a:lnTo>
                        <a:lnTo>
                          <a:pt x="1047" y="0"/>
                        </a:lnTo>
                        <a:lnTo>
                          <a:pt x="1050" y="0"/>
                        </a:lnTo>
                        <a:lnTo>
                          <a:pt x="1053" y="0"/>
                        </a:lnTo>
                        <a:lnTo>
                          <a:pt x="1056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99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038760" y="5075280"/>
                    <a:ext cx="149004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7" h="118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9" y="0"/>
                        </a:lnTo>
                        <a:lnTo>
                          <a:pt x="31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42" y="0"/>
                        </a:lnTo>
                        <a:lnTo>
                          <a:pt x="45" y="0"/>
                        </a:lnTo>
                        <a:lnTo>
                          <a:pt x="47" y="0"/>
                        </a:lnTo>
                        <a:lnTo>
                          <a:pt x="50" y="0"/>
                        </a:lnTo>
                        <a:lnTo>
                          <a:pt x="53" y="0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lnTo>
                          <a:pt x="60" y="0"/>
                        </a:lnTo>
                        <a:lnTo>
                          <a:pt x="63" y="0"/>
                        </a:lnTo>
                        <a:lnTo>
                          <a:pt x="66" y="0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4" y="0"/>
                        </a:lnTo>
                        <a:lnTo>
                          <a:pt x="76" y="0"/>
                        </a:lnTo>
                        <a:lnTo>
                          <a:pt x="79" y="0"/>
                        </a:lnTo>
                        <a:lnTo>
                          <a:pt x="82" y="0"/>
                        </a:lnTo>
                        <a:lnTo>
                          <a:pt x="84" y="0"/>
                        </a:lnTo>
                        <a:lnTo>
                          <a:pt x="87" y="0"/>
                        </a:lnTo>
                        <a:lnTo>
                          <a:pt x="90" y="0"/>
                        </a:lnTo>
                        <a:lnTo>
                          <a:pt x="92" y="0"/>
                        </a:lnTo>
                        <a:lnTo>
                          <a:pt x="95" y="0"/>
                        </a:lnTo>
                        <a:lnTo>
                          <a:pt x="98" y="0"/>
                        </a:lnTo>
                        <a:lnTo>
                          <a:pt x="100" y="0"/>
                        </a:lnTo>
                        <a:lnTo>
                          <a:pt x="103" y="0"/>
                        </a:lnTo>
                        <a:lnTo>
                          <a:pt x="106" y="0"/>
                        </a:lnTo>
                        <a:lnTo>
                          <a:pt x="108" y="0"/>
                        </a:lnTo>
                        <a:lnTo>
                          <a:pt x="111" y="0"/>
                        </a:lnTo>
                        <a:lnTo>
                          <a:pt x="113" y="0"/>
                        </a:lnTo>
                        <a:lnTo>
                          <a:pt x="116" y="0"/>
                        </a:lnTo>
                        <a:lnTo>
                          <a:pt x="119" y="0"/>
                        </a:lnTo>
                        <a:lnTo>
                          <a:pt x="121" y="0"/>
                        </a:lnTo>
                        <a:lnTo>
                          <a:pt x="124" y="0"/>
                        </a:lnTo>
                        <a:lnTo>
                          <a:pt x="127" y="0"/>
                        </a:lnTo>
                        <a:lnTo>
                          <a:pt x="129" y="0"/>
                        </a:lnTo>
                        <a:lnTo>
                          <a:pt x="132" y="0"/>
                        </a:lnTo>
                        <a:lnTo>
                          <a:pt x="135" y="0"/>
                        </a:lnTo>
                        <a:lnTo>
                          <a:pt x="137" y="0"/>
                        </a:lnTo>
                        <a:lnTo>
                          <a:pt x="140" y="0"/>
                        </a:lnTo>
                        <a:lnTo>
                          <a:pt x="143" y="0"/>
                        </a:lnTo>
                        <a:lnTo>
                          <a:pt x="145" y="0"/>
                        </a:lnTo>
                        <a:lnTo>
                          <a:pt x="148" y="0"/>
                        </a:lnTo>
                        <a:lnTo>
                          <a:pt x="151" y="0"/>
                        </a:lnTo>
                        <a:lnTo>
                          <a:pt x="153" y="0"/>
                        </a:lnTo>
                        <a:lnTo>
                          <a:pt x="156" y="0"/>
                        </a:lnTo>
                        <a:lnTo>
                          <a:pt x="159" y="0"/>
                        </a:lnTo>
                        <a:lnTo>
                          <a:pt x="161" y="0"/>
                        </a:lnTo>
                        <a:lnTo>
                          <a:pt x="164" y="0"/>
                        </a:lnTo>
                        <a:lnTo>
                          <a:pt x="166" y="0"/>
                        </a:lnTo>
                        <a:lnTo>
                          <a:pt x="169" y="0"/>
                        </a:lnTo>
                        <a:lnTo>
                          <a:pt x="172" y="0"/>
                        </a:lnTo>
                        <a:lnTo>
                          <a:pt x="174" y="0"/>
                        </a:lnTo>
                        <a:lnTo>
                          <a:pt x="177" y="0"/>
                        </a:lnTo>
                        <a:lnTo>
                          <a:pt x="179" y="0"/>
                        </a:lnTo>
                        <a:lnTo>
                          <a:pt x="182" y="0"/>
                        </a:lnTo>
                        <a:lnTo>
                          <a:pt x="185" y="0"/>
                        </a:lnTo>
                        <a:lnTo>
                          <a:pt x="187" y="0"/>
                        </a:lnTo>
                        <a:lnTo>
                          <a:pt x="190" y="0"/>
                        </a:lnTo>
                        <a:lnTo>
                          <a:pt x="193" y="0"/>
                        </a:lnTo>
                        <a:lnTo>
                          <a:pt x="195" y="0"/>
                        </a:lnTo>
                        <a:lnTo>
                          <a:pt x="198" y="0"/>
                        </a:lnTo>
                        <a:lnTo>
                          <a:pt x="200" y="0"/>
                        </a:lnTo>
                        <a:lnTo>
                          <a:pt x="203" y="0"/>
                        </a:lnTo>
                        <a:lnTo>
                          <a:pt x="206" y="0"/>
                        </a:lnTo>
                        <a:lnTo>
                          <a:pt x="208" y="0"/>
                        </a:lnTo>
                        <a:lnTo>
                          <a:pt x="211" y="0"/>
                        </a:lnTo>
                        <a:lnTo>
                          <a:pt x="214" y="0"/>
                        </a:lnTo>
                        <a:lnTo>
                          <a:pt x="216" y="0"/>
                        </a:lnTo>
                        <a:lnTo>
                          <a:pt x="219" y="0"/>
                        </a:lnTo>
                        <a:lnTo>
                          <a:pt x="222" y="0"/>
                        </a:lnTo>
                        <a:lnTo>
                          <a:pt x="224" y="1"/>
                        </a:lnTo>
                        <a:lnTo>
                          <a:pt x="227" y="1"/>
                        </a:lnTo>
                        <a:lnTo>
                          <a:pt x="230" y="1"/>
                        </a:lnTo>
                        <a:lnTo>
                          <a:pt x="232" y="1"/>
                        </a:lnTo>
                        <a:lnTo>
                          <a:pt x="235" y="1"/>
                        </a:lnTo>
                        <a:lnTo>
                          <a:pt x="238" y="1"/>
                        </a:lnTo>
                        <a:lnTo>
                          <a:pt x="240" y="1"/>
                        </a:lnTo>
                        <a:lnTo>
                          <a:pt x="243" y="1"/>
                        </a:lnTo>
                        <a:lnTo>
                          <a:pt x="246" y="1"/>
                        </a:lnTo>
                        <a:lnTo>
                          <a:pt x="248" y="1"/>
                        </a:lnTo>
                        <a:lnTo>
                          <a:pt x="251" y="1"/>
                        </a:lnTo>
                        <a:lnTo>
                          <a:pt x="254" y="1"/>
                        </a:lnTo>
                        <a:lnTo>
                          <a:pt x="256" y="1"/>
                        </a:lnTo>
                        <a:lnTo>
                          <a:pt x="259" y="1"/>
                        </a:lnTo>
                        <a:lnTo>
                          <a:pt x="261" y="2"/>
                        </a:lnTo>
                        <a:lnTo>
                          <a:pt x="264" y="2"/>
                        </a:lnTo>
                        <a:lnTo>
                          <a:pt x="267" y="2"/>
                        </a:lnTo>
                        <a:lnTo>
                          <a:pt x="269" y="2"/>
                        </a:lnTo>
                        <a:lnTo>
                          <a:pt x="272" y="2"/>
                        </a:lnTo>
                        <a:lnTo>
                          <a:pt x="275" y="2"/>
                        </a:lnTo>
                        <a:lnTo>
                          <a:pt x="277" y="2"/>
                        </a:lnTo>
                        <a:lnTo>
                          <a:pt x="280" y="3"/>
                        </a:lnTo>
                        <a:lnTo>
                          <a:pt x="283" y="3"/>
                        </a:lnTo>
                        <a:lnTo>
                          <a:pt x="285" y="3"/>
                        </a:lnTo>
                        <a:lnTo>
                          <a:pt x="288" y="3"/>
                        </a:lnTo>
                        <a:lnTo>
                          <a:pt x="291" y="4"/>
                        </a:lnTo>
                        <a:lnTo>
                          <a:pt x="293" y="4"/>
                        </a:lnTo>
                        <a:lnTo>
                          <a:pt x="296" y="4"/>
                        </a:lnTo>
                        <a:lnTo>
                          <a:pt x="299" y="4"/>
                        </a:lnTo>
                        <a:lnTo>
                          <a:pt x="301" y="5"/>
                        </a:lnTo>
                        <a:lnTo>
                          <a:pt x="304" y="5"/>
                        </a:lnTo>
                        <a:lnTo>
                          <a:pt x="307" y="5"/>
                        </a:lnTo>
                        <a:lnTo>
                          <a:pt x="309" y="6"/>
                        </a:lnTo>
                        <a:lnTo>
                          <a:pt x="312" y="6"/>
                        </a:lnTo>
                        <a:lnTo>
                          <a:pt x="314" y="6"/>
                        </a:lnTo>
                        <a:lnTo>
                          <a:pt x="317" y="7"/>
                        </a:lnTo>
                        <a:lnTo>
                          <a:pt x="320" y="7"/>
                        </a:lnTo>
                        <a:lnTo>
                          <a:pt x="322" y="7"/>
                        </a:lnTo>
                        <a:lnTo>
                          <a:pt x="322" y="8"/>
                        </a:lnTo>
                        <a:lnTo>
                          <a:pt x="325" y="8"/>
                        </a:lnTo>
                        <a:lnTo>
                          <a:pt x="328" y="8"/>
                        </a:lnTo>
                        <a:lnTo>
                          <a:pt x="330" y="9"/>
                        </a:lnTo>
                        <a:lnTo>
                          <a:pt x="333" y="9"/>
                        </a:lnTo>
                        <a:lnTo>
                          <a:pt x="336" y="10"/>
                        </a:lnTo>
                        <a:lnTo>
                          <a:pt x="338" y="10"/>
                        </a:lnTo>
                        <a:lnTo>
                          <a:pt x="338" y="12"/>
                        </a:lnTo>
                        <a:lnTo>
                          <a:pt x="341" y="12"/>
                        </a:lnTo>
                        <a:lnTo>
                          <a:pt x="344" y="13"/>
                        </a:lnTo>
                        <a:lnTo>
                          <a:pt x="346" y="13"/>
                        </a:lnTo>
                        <a:lnTo>
                          <a:pt x="349" y="14"/>
                        </a:lnTo>
                        <a:lnTo>
                          <a:pt x="352" y="14"/>
                        </a:lnTo>
                        <a:lnTo>
                          <a:pt x="352" y="15"/>
                        </a:lnTo>
                        <a:lnTo>
                          <a:pt x="354" y="15"/>
                        </a:lnTo>
                        <a:lnTo>
                          <a:pt x="354" y="16"/>
                        </a:lnTo>
                        <a:lnTo>
                          <a:pt x="357" y="16"/>
                        </a:lnTo>
                        <a:lnTo>
                          <a:pt x="360" y="17"/>
                        </a:lnTo>
                        <a:lnTo>
                          <a:pt x="362" y="18"/>
                        </a:lnTo>
                        <a:lnTo>
                          <a:pt x="365" y="18"/>
                        </a:lnTo>
                        <a:lnTo>
                          <a:pt x="365" y="19"/>
                        </a:lnTo>
                        <a:lnTo>
                          <a:pt x="367" y="19"/>
                        </a:lnTo>
                        <a:lnTo>
                          <a:pt x="367" y="21"/>
                        </a:lnTo>
                        <a:lnTo>
                          <a:pt x="370" y="21"/>
                        </a:lnTo>
                        <a:lnTo>
                          <a:pt x="370" y="22"/>
                        </a:lnTo>
                        <a:lnTo>
                          <a:pt x="373" y="22"/>
                        </a:lnTo>
                        <a:lnTo>
                          <a:pt x="373" y="23"/>
                        </a:lnTo>
                        <a:lnTo>
                          <a:pt x="375" y="23"/>
                        </a:lnTo>
                        <a:lnTo>
                          <a:pt x="375" y="24"/>
                        </a:lnTo>
                        <a:lnTo>
                          <a:pt x="378" y="25"/>
                        </a:lnTo>
                        <a:lnTo>
                          <a:pt x="381" y="25"/>
                        </a:lnTo>
                        <a:lnTo>
                          <a:pt x="381" y="26"/>
                        </a:lnTo>
                        <a:lnTo>
                          <a:pt x="383" y="27"/>
                        </a:lnTo>
                        <a:lnTo>
                          <a:pt x="386" y="28"/>
                        </a:lnTo>
                        <a:lnTo>
                          <a:pt x="386" y="29"/>
                        </a:lnTo>
                        <a:lnTo>
                          <a:pt x="389" y="29"/>
                        </a:lnTo>
                        <a:lnTo>
                          <a:pt x="389" y="31"/>
                        </a:lnTo>
                        <a:lnTo>
                          <a:pt x="391" y="32"/>
                        </a:lnTo>
                        <a:lnTo>
                          <a:pt x="391" y="33"/>
                        </a:lnTo>
                        <a:lnTo>
                          <a:pt x="394" y="33"/>
                        </a:lnTo>
                        <a:lnTo>
                          <a:pt x="394" y="34"/>
                        </a:lnTo>
                        <a:lnTo>
                          <a:pt x="397" y="35"/>
                        </a:lnTo>
                        <a:lnTo>
                          <a:pt x="399" y="36"/>
                        </a:lnTo>
                        <a:lnTo>
                          <a:pt x="399" y="37"/>
                        </a:lnTo>
                        <a:lnTo>
                          <a:pt x="402" y="38"/>
                        </a:lnTo>
                        <a:lnTo>
                          <a:pt x="402" y="40"/>
                        </a:lnTo>
                        <a:lnTo>
                          <a:pt x="405" y="40"/>
                        </a:lnTo>
                        <a:lnTo>
                          <a:pt x="405" y="41"/>
                        </a:lnTo>
                        <a:lnTo>
                          <a:pt x="407" y="42"/>
                        </a:lnTo>
                        <a:lnTo>
                          <a:pt x="407" y="43"/>
                        </a:lnTo>
                        <a:lnTo>
                          <a:pt x="410" y="44"/>
                        </a:lnTo>
                        <a:lnTo>
                          <a:pt x="410" y="45"/>
                        </a:lnTo>
                        <a:lnTo>
                          <a:pt x="413" y="46"/>
                        </a:lnTo>
                        <a:lnTo>
                          <a:pt x="415" y="47"/>
                        </a:lnTo>
                        <a:lnTo>
                          <a:pt x="415" y="48"/>
                        </a:lnTo>
                        <a:lnTo>
                          <a:pt x="418" y="51"/>
                        </a:lnTo>
                        <a:lnTo>
                          <a:pt x="418" y="52"/>
                        </a:lnTo>
                        <a:lnTo>
                          <a:pt x="420" y="53"/>
                        </a:lnTo>
                        <a:lnTo>
                          <a:pt x="420" y="54"/>
                        </a:lnTo>
                        <a:lnTo>
                          <a:pt x="423" y="55"/>
                        </a:lnTo>
                        <a:lnTo>
                          <a:pt x="423" y="56"/>
                        </a:lnTo>
                        <a:lnTo>
                          <a:pt x="425" y="57"/>
                        </a:lnTo>
                        <a:lnTo>
                          <a:pt x="425" y="60"/>
                        </a:lnTo>
                        <a:lnTo>
                          <a:pt x="428" y="61"/>
                        </a:lnTo>
                        <a:lnTo>
                          <a:pt x="428" y="62"/>
                        </a:lnTo>
                        <a:lnTo>
                          <a:pt x="431" y="63"/>
                        </a:lnTo>
                        <a:lnTo>
                          <a:pt x="433" y="64"/>
                        </a:lnTo>
                        <a:lnTo>
                          <a:pt x="433" y="66"/>
                        </a:lnTo>
                        <a:lnTo>
                          <a:pt x="436" y="68"/>
                        </a:lnTo>
                        <a:lnTo>
                          <a:pt x="436" y="69"/>
                        </a:lnTo>
                        <a:lnTo>
                          <a:pt x="439" y="70"/>
                        </a:lnTo>
                        <a:lnTo>
                          <a:pt x="439" y="72"/>
                        </a:lnTo>
                        <a:lnTo>
                          <a:pt x="441" y="73"/>
                        </a:lnTo>
                        <a:lnTo>
                          <a:pt x="441" y="74"/>
                        </a:lnTo>
                        <a:lnTo>
                          <a:pt x="444" y="75"/>
                        </a:lnTo>
                        <a:lnTo>
                          <a:pt x="444" y="78"/>
                        </a:lnTo>
                        <a:lnTo>
                          <a:pt x="447" y="79"/>
                        </a:lnTo>
                        <a:lnTo>
                          <a:pt x="447" y="80"/>
                        </a:lnTo>
                        <a:lnTo>
                          <a:pt x="449" y="82"/>
                        </a:lnTo>
                        <a:lnTo>
                          <a:pt x="452" y="83"/>
                        </a:lnTo>
                        <a:lnTo>
                          <a:pt x="452" y="84"/>
                        </a:lnTo>
                        <a:lnTo>
                          <a:pt x="454" y="85"/>
                        </a:lnTo>
                        <a:lnTo>
                          <a:pt x="454" y="87"/>
                        </a:lnTo>
                        <a:lnTo>
                          <a:pt x="457" y="89"/>
                        </a:lnTo>
                        <a:lnTo>
                          <a:pt x="457" y="90"/>
                        </a:lnTo>
                        <a:lnTo>
                          <a:pt x="460" y="91"/>
                        </a:lnTo>
                        <a:lnTo>
                          <a:pt x="460" y="92"/>
                        </a:lnTo>
                        <a:lnTo>
                          <a:pt x="462" y="94"/>
                        </a:lnTo>
                        <a:lnTo>
                          <a:pt x="462" y="95"/>
                        </a:lnTo>
                        <a:lnTo>
                          <a:pt x="465" y="96"/>
                        </a:lnTo>
                        <a:lnTo>
                          <a:pt x="468" y="97"/>
                        </a:lnTo>
                        <a:lnTo>
                          <a:pt x="468" y="99"/>
                        </a:lnTo>
                        <a:lnTo>
                          <a:pt x="470" y="100"/>
                        </a:lnTo>
                        <a:lnTo>
                          <a:pt x="470" y="101"/>
                        </a:lnTo>
                        <a:lnTo>
                          <a:pt x="473" y="102"/>
                        </a:lnTo>
                        <a:lnTo>
                          <a:pt x="473" y="103"/>
                        </a:lnTo>
                        <a:lnTo>
                          <a:pt x="476" y="104"/>
                        </a:lnTo>
                        <a:lnTo>
                          <a:pt x="476" y="105"/>
                        </a:lnTo>
                        <a:lnTo>
                          <a:pt x="478" y="106"/>
                        </a:lnTo>
                        <a:lnTo>
                          <a:pt x="478" y="108"/>
                        </a:lnTo>
                        <a:lnTo>
                          <a:pt x="481" y="109"/>
                        </a:lnTo>
                        <a:lnTo>
                          <a:pt x="484" y="110"/>
                        </a:lnTo>
                        <a:lnTo>
                          <a:pt x="486" y="111"/>
                        </a:lnTo>
                        <a:lnTo>
                          <a:pt x="489" y="112"/>
                        </a:lnTo>
                        <a:lnTo>
                          <a:pt x="489" y="113"/>
                        </a:lnTo>
                        <a:lnTo>
                          <a:pt x="492" y="113"/>
                        </a:lnTo>
                        <a:lnTo>
                          <a:pt x="492" y="114"/>
                        </a:lnTo>
                        <a:lnTo>
                          <a:pt x="494" y="114"/>
                        </a:lnTo>
                        <a:lnTo>
                          <a:pt x="494" y="115"/>
                        </a:lnTo>
                        <a:lnTo>
                          <a:pt x="497" y="115"/>
                        </a:lnTo>
                        <a:lnTo>
                          <a:pt x="500" y="117"/>
                        </a:lnTo>
                        <a:lnTo>
                          <a:pt x="502" y="117"/>
                        </a:lnTo>
                        <a:lnTo>
                          <a:pt x="505" y="117"/>
                        </a:lnTo>
                        <a:lnTo>
                          <a:pt x="508" y="117"/>
                        </a:lnTo>
                        <a:lnTo>
                          <a:pt x="510" y="117"/>
                        </a:lnTo>
                        <a:lnTo>
                          <a:pt x="513" y="117"/>
                        </a:lnTo>
                        <a:lnTo>
                          <a:pt x="515" y="117"/>
                        </a:lnTo>
                        <a:lnTo>
                          <a:pt x="515" y="115"/>
                        </a:lnTo>
                        <a:lnTo>
                          <a:pt x="518" y="115"/>
                        </a:lnTo>
                        <a:lnTo>
                          <a:pt x="521" y="115"/>
                        </a:lnTo>
                        <a:lnTo>
                          <a:pt x="521" y="114"/>
                        </a:lnTo>
                        <a:lnTo>
                          <a:pt x="523" y="114"/>
                        </a:lnTo>
                        <a:lnTo>
                          <a:pt x="523" y="113"/>
                        </a:lnTo>
                        <a:lnTo>
                          <a:pt x="526" y="113"/>
                        </a:lnTo>
                        <a:lnTo>
                          <a:pt x="526" y="112"/>
                        </a:lnTo>
                        <a:lnTo>
                          <a:pt x="529" y="111"/>
                        </a:lnTo>
                        <a:lnTo>
                          <a:pt x="531" y="110"/>
                        </a:lnTo>
                        <a:lnTo>
                          <a:pt x="531" y="109"/>
                        </a:lnTo>
                        <a:lnTo>
                          <a:pt x="534" y="109"/>
                        </a:lnTo>
                        <a:lnTo>
                          <a:pt x="537" y="108"/>
                        </a:lnTo>
                        <a:lnTo>
                          <a:pt x="537" y="106"/>
                        </a:lnTo>
                        <a:lnTo>
                          <a:pt x="539" y="105"/>
                        </a:lnTo>
                        <a:lnTo>
                          <a:pt x="539" y="104"/>
                        </a:lnTo>
                        <a:lnTo>
                          <a:pt x="542" y="103"/>
                        </a:lnTo>
                        <a:lnTo>
                          <a:pt x="542" y="102"/>
                        </a:lnTo>
                        <a:lnTo>
                          <a:pt x="545" y="101"/>
                        </a:lnTo>
                        <a:lnTo>
                          <a:pt x="545" y="100"/>
                        </a:lnTo>
                        <a:lnTo>
                          <a:pt x="547" y="99"/>
                        </a:lnTo>
                        <a:lnTo>
                          <a:pt x="547" y="97"/>
                        </a:lnTo>
                        <a:lnTo>
                          <a:pt x="550" y="96"/>
                        </a:lnTo>
                        <a:lnTo>
                          <a:pt x="550" y="95"/>
                        </a:lnTo>
                        <a:lnTo>
                          <a:pt x="553" y="94"/>
                        </a:lnTo>
                        <a:lnTo>
                          <a:pt x="555" y="92"/>
                        </a:lnTo>
                        <a:lnTo>
                          <a:pt x="555" y="91"/>
                        </a:lnTo>
                        <a:lnTo>
                          <a:pt x="558" y="90"/>
                        </a:lnTo>
                        <a:lnTo>
                          <a:pt x="558" y="89"/>
                        </a:lnTo>
                        <a:lnTo>
                          <a:pt x="561" y="87"/>
                        </a:lnTo>
                        <a:lnTo>
                          <a:pt x="561" y="85"/>
                        </a:lnTo>
                        <a:lnTo>
                          <a:pt x="563" y="84"/>
                        </a:lnTo>
                        <a:lnTo>
                          <a:pt x="563" y="83"/>
                        </a:lnTo>
                        <a:lnTo>
                          <a:pt x="566" y="82"/>
                        </a:lnTo>
                        <a:lnTo>
                          <a:pt x="566" y="80"/>
                        </a:lnTo>
                        <a:lnTo>
                          <a:pt x="568" y="79"/>
                        </a:lnTo>
                        <a:lnTo>
                          <a:pt x="571" y="78"/>
                        </a:lnTo>
                        <a:lnTo>
                          <a:pt x="571" y="75"/>
                        </a:lnTo>
                        <a:lnTo>
                          <a:pt x="574" y="74"/>
                        </a:lnTo>
                        <a:lnTo>
                          <a:pt x="574" y="73"/>
                        </a:lnTo>
                        <a:lnTo>
                          <a:pt x="576" y="72"/>
                        </a:lnTo>
                        <a:lnTo>
                          <a:pt x="576" y="70"/>
                        </a:lnTo>
                        <a:lnTo>
                          <a:pt x="579" y="69"/>
                        </a:lnTo>
                        <a:lnTo>
                          <a:pt x="579" y="68"/>
                        </a:lnTo>
                        <a:lnTo>
                          <a:pt x="582" y="66"/>
                        </a:lnTo>
                        <a:lnTo>
                          <a:pt x="582" y="64"/>
                        </a:lnTo>
                        <a:lnTo>
                          <a:pt x="584" y="63"/>
                        </a:lnTo>
                        <a:lnTo>
                          <a:pt x="584" y="62"/>
                        </a:lnTo>
                        <a:lnTo>
                          <a:pt x="587" y="61"/>
                        </a:lnTo>
                        <a:lnTo>
                          <a:pt x="590" y="60"/>
                        </a:lnTo>
                        <a:lnTo>
                          <a:pt x="590" y="57"/>
                        </a:lnTo>
                        <a:lnTo>
                          <a:pt x="592" y="56"/>
                        </a:lnTo>
                        <a:lnTo>
                          <a:pt x="592" y="55"/>
                        </a:lnTo>
                        <a:lnTo>
                          <a:pt x="595" y="54"/>
                        </a:lnTo>
                        <a:lnTo>
                          <a:pt x="595" y="53"/>
                        </a:lnTo>
                        <a:lnTo>
                          <a:pt x="598" y="52"/>
                        </a:lnTo>
                        <a:lnTo>
                          <a:pt x="598" y="51"/>
                        </a:lnTo>
                        <a:lnTo>
                          <a:pt x="600" y="48"/>
                        </a:lnTo>
                        <a:lnTo>
                          <a:pt x="600" y="47"/>
                        </a:lnTo>
                        <a:lnTo>
                          <a:pt x="603" y="46"/>
                        </a:lnTo>
                        <a:lnTo>
                          <a:pt x="603" y="45"/>
                        </a:lnTo>
                        <a:lnTo>
                          <a:pt x="606" y="44"/>
                        </a:lnTo>
                        <a:lnTo>
                          <a:pt x="608" y="43"/>
                        </a:lnTo>
                        <a:lnTo>
                          <a:pt x="608" y="42"/>
                        </a:lnTo>
                        <a:lnTo>
                          <a:pt x="611" y="41"/>
                        </a:lnTo>
                        <a:lnTo>
                          <a:pt x="611" y="40"/>
                        </a:lnTo>
                        <a:lnTo>
                          <a:pt x="614" y="40"/>
                        </a:lnTo>
                        <a:lnTo>
                          <a:pt x="614" y="38"/>
                        </a:lnTo>
                        <a:lnTo>
                          <a:pt x="616" y="37"/>
                        </a:lnTo>
                        <a:lnTo>
                          <a:pt x="616" y="36"/>
                        </a:lnTo>
                        <a:lnTo>
                          <a:pt x="619" y="35"/>
                        </a:lnTo>
                        <a:lnTo>
                          <a:pt x="619" y="34"/>
                        </a:lnTo>
                        <a:lnTo>
                          <a:pt x="621" y="33"/>
                        </a:lnTo>
                        <a:lnTo>
                          <a:pt x="624" y="33"/>
                        </a:lnTo>
                        <a:lnTo>
                          <a:pt x="624" y="32"/>
                        </a:lnTo>
                        <a:lnTo>
                          <a:pt x="627" y="31"/>
                        </a:lnTo>
                        <a:lnTo>
                          <a:pt x="627" y="29"/>
                        </a:lnTo>
                        <a:lnTo>
                          <a:pt x="629" y="29"/>
                        </a:lnTo>
                        <a:lnTo>
                          <a:pt x="629" y="28"/>
                        </a:lnTo>
                        <a:lnTo>
                          <a:pt x="632" y="27"/>
                        </a:lnTo>
                        <a:lnTo>
                          <a:pt x="635" y="26"/>
                        </a:lnTo>
                        <a:lnTo>
                          <a:pt x="635" y="25"/>
                        </a:lnTo>
                        <a:lnTo>
                          <a:pt x="637" y="25"/>
                        </a:lnTo>
                        <a:lnTo>
                          <a:pt x="637" y="24"/>
                        </a:lnTo>
                        <a:lnTo>
                          <a:pt x="640" y="23"/>
                        </a:lnTo>
                        <a:lnTo>
                          <a:pt x="643" y="23"/>
                        </a:lnTo>
                        <a:lnTo>
                          <a:pt x="643" y="22"/>
                        </a:lnTo>
                        <a:lnTo>
                          <a:pt x="645" y="22"/>
                        </a:lnTo>
                        <a:lnTo>
                          <a:pt x="645" y="21"/>
                        </a:lnTo>
                        <a:lnTo>
                          <a:pt x="648" y="21"/>
                        </a:lnTo>
                        <a:lnTo>
                          <a:pt x="648" y="19"/>
                        </a:lnTo>
                        <a:lnTo>
                          <a:pt x="651" y="19"/>
                        </a:lnTo>
                        <a:lnTo>
                          <a:pt x="651" y="18"/>
                        </a:lnTo>
                        <a:lnTo>
                          <a:pt x="653" y="18"/>
                        </a:lnTo>
                        <a:lnTo>
                          <a:pt x="653" y="17"/>
                        </a:lnTo>
                        <a:lnTo>
                          <a:pt x="656" y="17"/>
                        </a:lnTo>
                        <a:lnTo>
                          <a:pt x="659" y="16"/>
                        </a:lnTo>
                        <a:lnTo>
                          <a:pt x="661" y="16"/>
                        </a:lnTo>
                        <a:lnTo>
                          <a:pt x="661" y="15"/>
                        </a:lnTo>
                        <a:lnTo>
                          <a:pt x="664" y="15"/>
                        </a:lnTo>
                        <a:lnTo>
                          <a:pt x="664" y="14"/>
                        </a:lnTo>
                        <a:lnTo>
                          <a:pt x="667" y="14"/>
                        </a:lnTo>
                        <a:lnTo>
                          <a:pt x="669" y="13"/>
                        </a:lnTo>
                        <a:lnTo>
                          <a:pt x="671" y="13"/>
                        </a:lnTo>
                        <a:lnTo>
                          <a:pt x="671" y="12"/>
                        </a:lnTo>
                        <a:lnTo>
                          <a:pt x="674" y="12"/>
                        </a:lnTo>
                        <a:lnTo>
                          <a:pt x="677" y="12"/>
                        </a:lnTo>
                        <a:lnTo>
                          <a:pt x="677" y="10"/>
                        </a:lnTo>
                        <a:lnTo>
                          <a:pt x="679" y="10"/>
                        </a:lnTo>
                        <a:lnTo>
                          <a:pt x="682" y="9"/>
                        </a:lnTo>
                        <a:lnTo>
                          <a:pt x="685" y="9"/>
                        </a:lnTo>
                        <a:lnTo>
                          <a:pt x="687" y="8"/>
                        </a:lnTo>
                        <a:lnTo>
                          <a:pt x="690" y="8"/>
                        </a:lnTo>
                        <a:lnTo>
                          <a:pt x="693" y="8"/>
                        </a:lnTo>
                        <a:lnTo>
                          <a:pt x="693" y="7"/>
                        </a:lnTo>
                        <a:lnTo>
                          <a:pt x="695" y="7"/>
                        </a:lnTo>
                        <a:lnTo>
                          <a:pt x="698" y="7"/>
                        </a:lnTo>
                        <a:lnTo>
                          <a:pt x="701" y="6"/>
                        </a:lnTo>
                        <a:lnTo>
                          <a:pt x="703" y="6"/>
                        </a:lnTo>
                        <a:lnTo>
                          <a:pt x="706" y="6"/>
                        </a:lnTo>
                        <a:lnTo>
                          <a:pt x="706" y="5"/>
                        </a:lnTo>
                        <a:lnTo>
                          <a:pt x="708" y="5"/>
                        </a:lnTo>
                        <a:lnTo>
                          <a:pt x="711" y="5"/>
                        </a:lnTo>
                        <a:lnTo>
                          <a:pt x="714" y="5"/>
                        </a:lnTo>
                        <a:lnTo>
                          <a:pt x="716" y="4"/>
                        </a:lnTo>
                        <a:lnTo>
                          <a:pt x="719" y="4"/>
                        </a:lnTo>
                        <a:lnTo>
                          <a:pt x="722" y="4"/>
                        </a:lnTo>
                        <a:lnTo>
                          <a:pt x="724" y="4"/>
                        </a:lnTo>
                        <a:lnTo>
                          <a:pt x="724" y="3"/>
                        </a:lnTo>
                        <a:lnTo>
                          <a:pt x="727" y="3"/>
                        </a:lnTo>
                        <a:lnTo>
                          <a:pt x="730" y="3"/>
                        </a:lnTo>
                        <a:lnTo>
                          <a:pt x="732" y="3"/>
                        </a:lnTo>
                        <a:lnTo>
                          <a:pt x="735" y="3"/>
                        </a:lnTo>
                        <a:lnTo>
                          <a:pt x="738" y="2"/>
                        </a:lnTo>
                        <a:lnTo>
                          <a:pt x="740" y="2"/>
                        </a:lnTo>
                        <a:lnTo>
                          <a:pt x="743" y="2"/>
                        </a:lnTo>
                        <a:lnTo>
                          <a:pt x="746" y="2"/>
                        </a:lnTo>
                        <a:lnTo>
                          <a:pt x="748" y="2"/>
                        </a:lnTo>
                        <a:lnTo>
                          <a:pt x="751" y="2"/>
                        </a:lnTo>
                        <a:lnTo>
                          <a:pt x="754" y="2"/>
                        </a:lnTo>
                        <a:lnTo>
                          <a:pt x="756" y="1"/>
                        </a:lnTo>
                        <a:lnTo>
                          <a:pt x="759" y="1"/>
                        </a:lnTo>
                        <a:lnTo>
                          <a:pt x="762" y="1"/>
                        </a:lnTo>
                        <a:lnTo>
                          <a:pt x="764" y="1"/>
                        </a:lnTo>
                        <a:lnTo>
                          <a:pt x="767" y="1"/>
                        </a:lnTo>
                        <a:lnTo>
                          <a:pt x="769" y="1"/>
                        </a:lnTo>
                        <a:lnTo>
                          <a:pt x="772" y="1"/>
                        </a:lnTo>
                        <a:lnTo>
                          <a:pt x="775" y="1"/>
                        </a:lnTo>
                        <a:lnTo>
                          <a:pt x="777" y="1"/>
                        </a:lnTo>
                        <a:lnTo>
                          <a:pt x="780" y="1"/>
                        </a:lnTo>
                        <a:lnTo>
                          <a:pt x="783" y="1"/>
                        </a:lnTo>
                        <a:lnTo>
                          <a:pt x="785" y="1"/>
                        </a:lnTo>
                        <a:lnTo>
                          <a:pt x="788" y="1"/>
                        </a:lnTo>
                        <a:lnTo>
                          <a:pt x="791" y="1"/>
                        </a:lnTo>
                        <a:lnTo>
                          <a:pt x="793" y="0"/>
                        </a:lnTo>
                        <a:lnTo>
                          <a:pt x="796" y="0"/>
                        </a:lnTo>
                        <a:lnTo>
                          <a:pt x="799" y="0"/>
                        </a:lnTo>
                        <a:lnTo>
                          <a:pt x="801" y="0"/>
                        </a:lnTo>
                        <a:lnTo>
                          <a:pt x="804" y="0"/>
                        </a:lnTo>
                        <a:lnTo>
                          <a:pt x="807" y="0"/>
                        </a:lnTo>
                        <a:lnTo>
                          <a:pt x="809" y="0"/>
                        </a:lnTo>
                        <a:lnTo>
                          <a:pt x="812" y="0"/>
                        </a:lnTo>
                        <a:lnTo>
                          <a:pt x="815" y="0"/>
                        </a:lnTo>
                        <a:lnTo>
                          <a:pt x="817" y="0"/>
                        </a:lnTo>
                        <a:lnTo>
                          <a:pt x="820" y="0"/>
                        </a:lnTo>
                        <a:lnTo>
                          <a:pt x="822" y="0"/>
                        </a:lnTo>
                        <a:lnTo>
                          <a:pt x="825" y="0"/>
                        </a:lnTo>
                        <a:lnTo>
                          <a:pt x="828" y="0"/>
                        </a:lnTo>
                        <a:lnTo>
                          <a:pt x="830" y="0"/>
                        </a:lnTo>
                        <a:lnTo>
                          <a:pt x="833" y="0"/>
                        </a:lnTo>
                        <a:lnTo>
                          <a:pt x="836" y="0"/>
                        </a:lnTo>
                        <a:lnTo>
                          <a:pt x="838" y="0"/>
                        </a:lnTo>
                        <a:lnTo>
                          <a:pt x="841" y="0"/>
                        </a:lnTo>
                        <a:lnTo>
                          <a:pt x="844" y="0"/>
                        </a:lnTo>
                        <a:lnTo>
                          <a:pt x="846" y="0"/>
                        </a:lnTo>
                        <a:lnTo>
                          <a:pt x="849" y="0"/>
                        </a:lnTo>
                        <a:lnTo>
                          <a:pt x="852" y="0"/>
                        </a:lnTo>
                        <a:lnTo>
                          <a:pt x="854" y="0"/>
                        </a:lnTo>
                        <a:lnTo>
                          <a:pt x="857" y="0"/>
                        </a:lnTo>
                        <a:lnTo>
                          <a:pt x="860" y="0"/>
                        </a:lnTo>
                        <a:lnTo>
                          <a:pt x="862" y="0"/>
                        </a:lnTo>
                        <a:lnTo>
                          <a:pt x="865" y="0"/>
                        </a:lnTo>
                        <a:lnTo>
                          <a:pt x="868" y="0"/>
                        </a:lnTo>
                        <a:lnTo>
                          <a:pt x="870" y="0"/>
                        </a:lnTo>
                        <a:lnTo>
                          <a:pt x="873" y="0"/>
                        </a:lnTo>
                        <a:lnTo>
                          <a:pt x="875" y="0"/>
                        </a:lnTo>
                        <a:lnTo>
                          <a:pt x="878" y="0"/>
                        </a:lnTo>
                        <a:lnTo>
                          <a:pt x="881" y="0"/>
                        </a:lnTo>
                        <a:lnTo>
                          <a:pt x="883" y="0"/>
                        </a:lnTo>
                        <a:lnTo>
                          <a:pt x="886" y="0"/>
                        </a:lnTo>
                        <a:lnTo>
                          <a:pt x="889" y="0"/>
                        </a:lnTo>
                        <a:lnTo>
                          <a:pt x="891" y="0"/>
                        </a:lnTo>
                        <a:lnTo>
                          <a:pt x="894" y="0"/>
                        </a:lnTo>
                        <a:lnTo>
                          <a:pt x="897" y="0"/>
                        </a:lnTo>
                        <a:lnTo>
                          <a:pt x="899" y="0"/>
                        </a:lnTo>
                        <a:lnTo>
                          <a:pt x="902" y="0"/>
                        </a:lnTo>
                        <a:lnTo>
                          <a:pt x="905" y="0"/>
                        </a:lnTo>
                        <a:lnTo>
                          <a:pt x="907" y="0"/>
                        </a:lnTo>
                        <a:lnTo>
                          <a:pt x="910" y="0"/>
                        </a:lnTo>
                        <a:lnTo>
                          <a:pt x="913" y="0"/>
                        </a:lnTo>
                        <a:lnTo>
                          <a:pt x="915" y="0"/>
                        </a:lnTo>
                        <a:lnTo>
                          <a:pt x="918" y="0"/>
                        </a:lnTo>
                        <a:lnTo>
                          <a:pt x="920" y="0"/>
                        </a:lnTo>
                        <a:lnTo>
                          <a:pt x="923" y="0"/>
                        </a:lnTo>
                        <a:lnTo>
                          <a:pt x="925" y="0"/>
                        </a:lnTo>
                        <a:lnTo>
                          <a:pt x="928" y="0"/>
                        </a:lnTo>
                        <a:lnTo>
                          <a:pt x="931" y="0"/>
                        </a:lnTo>
                        <a:lnTo>
                          <a:pt x="933" y="0"/>
                        </a:lnTo>
                        <a:lnTo>
                          <a:pt x="936" y="0"/>
                        </a:lnTo>
                        <a:lnTo>
                          <a:pt x="939" y="0"/>
                        </a:lnTo>
                        <a:lnTo>
                          <a:pt x="941" y="0"/>
                        </a:lnTo>
                        <a:lnTo>
                          <a:pt x="944" y="0"/>
                        </a:lnTo>
                        <a:lnTo>
                          <a:pt x="947" y="0"/>
                        </a:lnTo>
                        <a:lnTo>
                          <a:pt x="949" y="0"/>
                        </a:lnTo>
                        <a:lnTo>
                          <a:pt x="952" y="0"/>
                        </a:lnTo>
                        <a:lnTo>
                          <a:pt x="955" y="0"/>
                        </a:lnTo>
                        <a:lnTo>
                          <a:pt x="957" y="0"/>
                        </a:lnTo>
                        <a:lnTo>
                          <a:pt x="960" y="0"/>
                        </a:lnTo>
                        <a:lnTo>
                          <a:pt x="962" y="0"/>
                        </a:lnTo>
                        <a:lnTo>
                          <a:pt x="965" y="0"/>
                        </a:lnTo>
                        <a:lnTo>
                          <a:pt x="968" y="0"/>
                        </a:lnTo>
                        <a:lnTo>
                          <a:pt x="970" y="0"/>
                        </a:lnTo>
                        <a:lnTo>
                          <a:pt x="973" y="0"/>
                        </a:lnTo>
                        <a:lnTo>
                          <a:pt x="976" y="0"/>
                        </a:lnTo>
                        <a:lnTo>
                          <a:pt x="978" y="0"/>
                        </a:lnTo>
                        <a:lnTo>
                          <a:pt x="981" y="0"/>
                        </a:lnTo>
                        <a:lnTo>
                          <a:pt x="984" y="0"/>
                        </a:lnTo>
                        <a:lnTo>
                          <a:pt x="986" y="0"/>
                        </a:lnTo>
                        <a:lnTo>
                          <a:pt x="989" y="0"/>
                        </a:lnTo>
                        <a:lnTo>
                          <a:pt x="992" y="0"/>
                        </a:lnTo>
                        <a:lnTo>
                          <a:pt x="994" y="0"/>
                        </a:lnTo>
                        <a:lnTo>
                          <a:pt x="997" y="0"/>
                        </a:lnTo>
                        <a:lnTo>
                          <a:pt x="1000" y="0"/>
                        </a:lnTo>
                        <a:lnTo>
                          <a:pt x="1002" y="0"/>
                        </a:lnTo>
                        <a:lnTo>
                          <a:pt x="1005" y="0"/>
                        </a:lnTo>
                        <a:lnTo>
                          <a:pt x="1008" y="0"/>
                        </a:lnTo>
                        <a:lnTo>
                          <a:pt x="1010" y="0"/>
                        </a:lnTo>
                        <a:lnTo>
                          <a:pt x="1013" y="0"/>
                        </a:lnTo>
                        <a:lnTo>
                          <a:pt x="1016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99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494360" y="5075280"/>
                    <a:ext cx="153720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9" h="118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30" y="0"/>
                        </a:lnTo>
                        <a:lnTo>
                          <a:pt x="32" y="0"/>
                        </a:lnTo>
                        <a:lnTo>
                          <a:pt x="35" y="0"/>
                        </a:lnTo>
                        <a:lnTo>
                          <a:pt x="38" y="0"/>
                        </a:lnTo>
                        <a:lnTo>
                          <a:pt x="41" y="0"/>
                        </a:lnTo>
                        <a:lnTo>
                          <a:pt x="43" y="0"/>
                        </a:lnTo>
                        <a:lnTo>
                          <a:pt x="46" y="0"/>
                        </a:lnTo>
                        <a:lnTo>
                          <a:pt x="49" y="0"/>
                        </a:lnTo>
                        <a:lnTo>
                          <a:pt x="51" y="0"/>
                        </a:lnTo>
                        <a:lnTo>
                          <a:pt x="54" y="0"/>
                        </a:lnTo>
                        <a:lnTo>
                          <a:pt x="57" y="0"/>
                        </a:lnTo>
                        <a:lnTo>
                          <a:pt x="60" y="0"/>
                        </a:lnTo>
                        <a:lnTo>
                          <a:pt x="62" y="0"/>
                        </a:lnTo>
                        <a:lnTo>
                          <a:pt x="65" y="0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3" y="0"/>
                        </a:lnTo>
                        <a:lnTo>
                          <a:pt x="76" y="0"/>
                        </a:lnTo>
                        <a:lnTo>
                          <a:pt x="79" y="0"/>
                        </a:lnTo>
                        <a:lnTo>
                          <a:pt x="82" y="0"/>
                        </a:lnTo>
                        <a:lnTo>
                          <a:pt x="84" y="0"/>
                        </a:lnTo>
                        <a:lnTo>
                          <a:pt x="87" y="0"/>
                        </a:lnTo>
                        <a:lnTo>
                          <a:pt x="90" y="0"/>
                        </a:lnTo>
                        <a:lnTo>
                          <a:pt x="92" y="0"/>
                        </a:lnTo>
                        <a:lnTo>
                          <a:pt x="95" y="0"/>
                        </a:lnTo>
                        <a:lnTo>
                          <a:pt x="98" y="0"/>
                        </a:lnTo>
                        <a:lnTo>
                          <a:pt x="101" y="0"/>
                        </a:lnTo>
                        <a:lnTo>
                          <a:pt x="103" y="0"/>
                        </a:lnTo>
                        <a:lnTo>
                          <a:pt x="106" y="0"/>
                        </a:lnTo>
                        <a:lnTo>
                          <a:pt x="109" y="0"/>
                        </a:lnTo>
                        <a:lnTo>
                          <a:pt x="112" y="0"/>
                        </a:lnTo>
                        <a:lnTo>
                          <a:pt x="114" y="0"/>
                        </a:lnTo>
                        <a:lnTo>
                          <a:pt x="117" y="0"/>
                        </a:lnTo>
                        <a:lnTo>
                          <a:pt x="120" y="0"/>
                        </a:lnTo>
                        <a:lnTo>
                          <a:pt x="123" y="0"/>
                        </a:lnTo>
                        <a:lnTo>
                          <a:pt x="125" y="0"/>
                        </a:lnTo>
                        <a:lnTo>
                          <a:pt x="128" y="0"/>
                        </a:lnTo>
                        <a:lnTo>
                          <a:pt x="131" y="0"/>
                        </a:lnTo>
                        <a:lnTo>
                          <a:pt x="133" y="0"/>
                        </a:lnTo>
                        <a:lnTo>
                          <a:pt x="136" y="0"/>
                        </a:lnTo>
                        <a:lnTo>
                          <a:pt x="139" y="0"/>
                        </a:lnTo>
                        <a:lnTo>
                          <a:pt x="142" y="0"/>
                        </a:lnTo>
                        <a:lnTo>
                          <a:pt x="144" y="0"/>
                        </a:lnTo>
                        <a:lnTo>
                          <a:pt x="147" y="0"/>
                        </a:lnTo>
                        <a:lnTo>
                          <a:pt x="150" y="0"/>
                        </a:lnTo>
                        <a:lnTo>
                          <a:pt x="153" y="0"/>
                        </a:lnTo>
                        <a:lnTo>
                          <a:pt x="155" y="0"/>
                        </a:lnTo>
                        <a:lnTo>
                          <a:pt x="158" y="0"/>
                        </a:lnTo>
                        <a:lnTo>
                          <a:pt x="161" y="0"/>
                        </a:lnTo>
                        <a:lnTo>
                          <a:pt x="164" y="0"/>
                        </a:lnTo>
                        <a:lnTo>
                          <a:pt x="166" y="0"/>
                        </a:lnTo>
                        <a:lnTo>
                          <a:pt x="169" y="0"/>
                        </a:lnTo>
                        <a:lnTo>
                          <a:pt x="172" y="0"/>
                        </a:lnTo>
                        <a:lnTo>
                          <a:pt x="174" y="0"/>
                        </a:lnTo>
                        <a:lnTo>
                          <a:pt x="177" y="0"/>
                        </a:lnTo>
                        <a:lnTo>
                          <a:pt x="180" y="0"/>
                        </a:lnTo>
                        <a:lnTo>
                          <a:pt x="183" y="0"/>
                        </a:lnTo>
                        <a:lnTo>
                          <a:pt x="185" y="0"/>
                        </a:lnTo>
                        <a:lnTo>
                          <a:pt x="188" y="0"/>
                        </a:lnTo>
                        <a:lnTo>
                          <a:pt x="190" y="0"/>
                        </a:lnTo>
                        <a:lnTo>
                          <a:pt x="193" y="0"/>
                        </a:lnTo>
                        <a:lnTo>
                          <a:pt x="196" y="0"/>
                        </a:lnTo>
                        <a:lnTo>
                          <a:pt x="199" y="0"/>
                        </a:lnTo>
                        <a:lnTo>
                          <a:pt x="201" y="0"/>
                        </a:lnTo>
                        <a:lnTo>
                          <a:pt x="204" y="0"/>
                        </a:lnTo>
                        <a:lnTo>
                          <a:pt x="207" y="0"/>
                        </a:lnTo>
                        <a:lnTo>
                          <a:pt x="210" y="0"/>
                        </a:lnTo>
                        <a:lnTo>
                          <a:pt x="212" y="0"/>
                        </a:lnTo>
                        <a:lnTo>
                          <a:pt x="215" y="0"/>
                        </a:lnTo>
                        <a:lnTo>
                          <a:pt x="218" y="0"/>
                        </a:lnTo>
                        <a:lnTo>
                          <a:pt x="220" y="0"/>
                        </a:lnTo>
                        <a:lnTo>
                          <a:pt x="223" y="0"/>
                        </a:lnTo>
                        <a:lnTo>
                          <a:pt x="226" y="0"/>
                        </a:lnTo>
                        <a:lnTo>
                          <a:pt x="229" y="0"/>
                        </a:lnTo>
                        <a:lnTo>
                          <a:pt x="231" y="1"/>
                        </a:lnTo>
                        <a:lnTo>
                          <a:pt x="234" y="1"/>
                        </a:lnTo>
                        <a:lnTo>
                          <a:pt x="237" y="1"/>
                        </a:lnTo>
                        <a:lnTo>
                          <a:pt x="240" y="1"/>
                        </a:lnTo>
                        <a:lnTo>
                          <a:pt x="242" y="1"/>
                        </a:lnTo>
                        <a:lnTo>
                          <a:pt x="245" y="1"/>
                        </a:lnTo>
                        <a:lnTo>
                          <a:pt x="248" y="1"/>
                        </a:lnTo>
                        <a:lnTo>
                          <a:pt x="251" y="1"/>
                        </a:lnTo>
                        <a:lnTo>
                          <a:pt x="253" y="1"/>
                        </a:lnTo>
                        <a:lnTo>
                          <a:pt x="256" y="1"/>
                        </a:lnTo>
                        <a:lnTo>
                          <a:pt x="259" y="1"/>
                        </a:lnTo>
                        <a:lnTo>
                          <a:pt x="262" y="1"/>
                        </a:lnTo>
                        <a:lnTo>
                          <a:pt x="264" y="1"/>
                        </a:lnTo>
                        <a:lnTo>
                          <a:pt x="267" y="1"/>
                        </a:lnTo>
                        <a:lnTo>
                          <a:pt x="270" y="2"/>
                        </a:lnTo>
                        <a:lnTo>
                          <a:pt x="272" y="2"/>
                        </a:lnTo>
                        <a:lnTo>
                          <a:pt x="275" y="2"/>
                        </a:lnTo>
                        <a:lnTo>
                          <a:pt x="278" y="2"/>
                        </a:lnTo>
                        <a:lnTo>
                          <a:pt x="281" y="2"/>
                        </a:lnTo>
                        <a:lnTo>
                          <a:pt x="283" y="2"/>
                        </a:lnTo>
                        <a:lnTo>
                          <a:pt x="286" y="2"/>
                        </a:lnTo>
                        <a:lnTo>
                          <a:pt x="289" y="3"/>
                        </a:lnTo>
                        <a:lnTo>
                          <a:pt x="292" y="3"/>
                        </a:lnTo>
                        <a:lnTo>
                          <a:pt x="294" y="3"/>
                        </a:lnTo>
                        <a:lnTo>
                          <a:pt x="297" y="3"/>
                        </a:lnTo>
                        <a:lnTo>
                          <a:pt x="300" y="4"/>
                        </a:lnTo>
                        <a:lnTo>
                          <a:pt x="303" y="4"/>
                        </a:lnTo>
                        <a:lnTo>
                          <a:pt x="305" y="4"/>
                        </a:lnTo>
                        <a:lnTo>
                          <a:pt x="308" y="4"/>
                        </a:lnTo>
                        <a:lnTo>
                          <a:pt x="311" y="5"/>
                        </a:lnTo>
                        <a:lnTo>
                          <a:pt x="313" y="5"/>
                        </a:lnTo>
                        <a:lnTo>
                          <a:pt x="316" y="5"/>
                        </a:lnTo>
                        <a:lnTo>
                          <a:pt x="319" y="6"/>
                        </a:lnTo>
                        <a:lnTo>
                          <a:pt x="322" y="6"/>
                        </a:lnTo>
                        <a:lnTo>
                          <a:pt x="324" y="6"/>
                        </a:lnTo>
                        <a:lnTo>
                          <a:pt x="327" y="7"/>
                        </a:lnTo>
                        <a:lnTo>
                          <a:pt x="330" y="7"/>
                        </a:lnTo>
                        <a:lnTo>
                          <a:pt x="333" y="7"/>
                        </a:lnTo>
                        <a:lnTo>
                          <a:pt x="333" y="8"/>
                        </a:lnTo>
                        <a:lnTo>
                          <a:pt x="335" y="8"/>
                        </a:lnTo>
                        <a:lnTo>
                          <a:pt x="338" y="8"/>
                        </a:lnTo>
                        <a:lnTo>
                          <a:pt x="341" y="9"/>
                        </a:lnTo>
                        <a:lnTo>
                          <a:pt x="344" y="9"/>
                        </a:lnTo>
                        <a:lnTo>
                          <a:pt x="346" y="10"/>
                        </a:lnTo>
                        <a:lnTo>
                          <a:pt x="349" y="10"/>
                        </a:lnTo>
                        <a:lnTo>
                          <a:pt x="349" y="12"/>
                        </a:lnTo>
                        <a:lnTo>
                          <a:pt x="352" y="12"/>
                        </a:lnTo>
                        <a:lnTo>
                          <a:pt x="354" y="13"/>
                        </a:lnTo>
                        <a:lnTo>
                          <a:pt x="357" y="13"/>
                        </a:lnTo>
                        <a:lnTo>
                          <a:pt x="360" y="14"/>
                        </a:lnTo>
                        <a:lnTo>
                          <a:pt x="363" y="14"/>
                        </a:lnTo>
                        <a:lnTo>
                          <a:pt x="363" y="15"/>
                        </a:lnTo>
                        <a:lnTo>
                          <a:pt x="365" y="15"/>
                        </a:lnTo>
                        <a:lnTo>
                          <a:pt x="365" y="16"/>
                        </a:lnTo>
                        <a:lnTo>
                          <a:pt x="368" y="16"/>
                        </a:lnTo>
                        <a:lnTo>
                          <a:pt x="371" y="17"/>
                        </a:lnTo>
                        <a:lnTo>
                          <a:pt x="374" y="18"/>
                        </a:lnTo>
                        <a:lnTo>
                          <a:pt x="376" y="18"/>
                        </a:lnTo>
                        <a:lnTo>
                          <a:pt x="376" y="19"/>
                        </a:lnTo>
                        <a:lnTo>
                          <a:pt x="379" y="19"/>
                        </a:lnTo>
                        <a:lnTo>
                          <a:pt x="379" y="21"/>
                        </a:lnTo>
                        <a:lnTo>
                          <a:pt x="382" y="21"/>
                        </a:lnTo>
                        <a:lnTo>
                          <a:pt x="382" y="22"/>
                        </a:lnTo>
                        <a:lnTo>
                          <a:pt x="385" y="22"/>
                        </a:lnTo>
                        <a:lnTo>
                          <a:pt x="385" y="23"/>
                        </a:lnTo>
                        <a:lnTo>
                          <a:pt x="387" y="23"/>
                        </a:lnTo>
                        <a:lnTo>
                          <a:pt x="387" y="24"/>
                        </a:lnTo>
                        <a:lnTo>
                          <a:pt x="390" y="25"/>
                        </a:lnTo>
                        <a:lnTo>
                          <a:pt x="393" y="25"/>
                        </a:lnTo>
                        <a:lnTo>
                          <a:pt x="393" y="26"/>
                        </a:lnTo>
                        <a:lnTo>
                          <a:pt x="395" y="27"/>
                        </a:lnTo>
                        <a:lnTo>
                          <a:pt x="398" y="28"/>
                        </a:lnTo>
                        <a:lnTo>
                          <a:pt x="398" y="29"/>
                        </a:lnTo>
                        <a:lnTo>
                          <a:pt x="401" y="29"/>
                        </a:lnTo>
                        <a:lnTo>
                          <a:pt x="401" y="31"/>
                        </a:lnTo>
                        <a:lnTo>
                          <a:pt x="404" y="32"/>
                        </a:lnTo>
                        <a:lnTo>
                          <a:pt x="404" y="33"/>
                        </a:lnTo>
                        <a:lnTo>
                          <a:pt x="406" y="33"/>
                        </a:lnTo>
                        <a:lnTo>
                          <a:pt x="406" y="34"/>
                        </a:lnTo>
                        <a:lnTo>
                          <a:pt x="409" y="35"/>
                        </a:lnTo>
                        <a:lnTo>
                          <a:pt x="412" y="36"/>
                        </a:lnTo>
                        <a:lnTo>
                          <a:pt x="412" y="37"/>
                        </a:lnTo>
                        <a:lnTo>
                          <a:pt x="415" y="38"/>
                        </a:lnTo>
                        <a:lnTo>
                          <a:pt x="415" y="40"/>
                        </a:lnTo>
                        <a:lnTo>
                          <a:pt x="417" y="40"/>
                        </a:lnTo>
                        <a:lnTo>
                          <a:pt x="417" y="41"/>
                        </a:lnTo>
                        <a:lnTo>
                          <a:pt x="420" y="42"/>
                        </a:lnTo>
                        <a:lnTo>
                          <a:pt x="420" y="43"/>
                        </a:lnTo>
                        <a:lnTo>
                          <a:pt x="423" y="44"/>
                        </a:lnTo>
                        <a:lnTo>
                          <a:pt x="423" y="45"/>
                        </a:lnTo>
                        <a:lnTo>
                          <a:pt x="426" y="46"/>
                        </a:lnTo>
                        <a:lnTo>
                          <a:pt x="428" y="47"/>
                        </a:lnTo>
                        <a:lnTo>
                          <a:pt x="428" y="48"/>
                        </a:lnTo>
                        <a:lnTo>
                          <a:pt x="431" y="51"/>
                        </a:lnTo>
                        <a:lnTo>
                          <a:pt x="431" y="52"/>
                        </a:lnTo>
                        <a:lnTo>
                          <a:pt x="434" y="53"/>
                        </a:lnTo>
                        <a:lnTo>
                          <a:pt x="434" y="54"/>
                        </a:lnTo>
                        <a:lnTo>
                          <a:pt x="436" y="55"/>
                        </a:lnTo>
                        <a:lnTo>
                          <a:pt x="436" y="56"/>
                        </a:lnTo>
                        <a:lnTo>
                          <a:pt x="439" y="57"/>
                        </a:lnTo>
                        <a:lnTo>
                          <a:pt x="439" y="60"/>
                        </a:lnTo>
                        <a:lnTo>
                          <a:pt x="441" y="61"/>
                        </a:lnTo>
                        <a:lnTo>
                          <a:pt x="441" y="62"/>
                        </a:lnTo>
                        <a:lnTo>
                          <a:pt x="444" y="63"/>
                        </a:lnTo>
                        <a:lnTo>
                          <a:pt x="447" y="64"/>
                        </a:lnTo>
                        <a:lnTo>
                          <a:pt x="447" y="66"/>
                        </a:lnTo>
                        <a:lnTo>
                          <a:pt x="450" y="68"/>
                        </a:lnTo>
                        <a:lnTo>
                          <a:pt x="450" y="69"/>
                        </a:lnTo>
                        <a:lnTo>
                          <a:pt x="452" y="70"/>
                        </a:lnTo>
                        <a:lnTo>
                          <a:pt x="452" y="72"/>
                        </a:lnTo>
                        <a:lnTo>
                          <a:pt x="455" y="73"/>
                        </a:lnTo>
                        <a:lnTo>
                          <a:pt x="455" y="74"/>
                        </a:lnTo>
                        <a:lnTo>
                          <a:pt x="458" y="75"/>
                        </a:lnTo>
                        <a:lnTo>
                          <a:pt x="458" y="78"/>
                        </a:lnTo>
                        <a:lnTo>
                          <a:pt x="461" y="79"/>
                        </a:lnTo>
                        <a:lnTo>
                          <a:pt x="461" y="80"/>
                        </a:lnTo>
                        <a:lnTo>
                          <a:pt x="463" y="82"/>
                        </a:lnTo>
                        <a:lnTo>
                          <a:pt x="466" y="83"/>
                        </a:lnTo>
                        <a:lnTo>
                          <a:pt x="466" y="84"/>
                        </a:lnTo>
                        <a:lnTo>
                          <a:pt x="469" y="85"/>
                        </a:lnTo>
                        <a:lnTo>
                          <a:pt x="469" y="87"/>
                        </a:lnTo>
                        <a:lnTo>
                          <a:pt x="472" y="89"/>
                        </a:lnTo>
                        <a:lnTo>
                          <a:pt x="472" y="90"/>
                        </a:lnTo>
                        <a:lnTo>
                          <a:pt x="474" y="91"/>
                        </a:lnTo>
                        <a:lnTo>
                          <a:pt x="474" y="92"/>
                        </a:lnTo>
                        <a:lnTo>
                          <a:pt x="477" y="94"/>
                        </a:lnTo>
                        <a:lnTo>
                          <a:pt x="477" y="95"/>
                        </a:lnTo>
                        <a:lnTo>
                          <a:pt x="480" y="96"/>
                        </a:lnTo>
                        <a:lnTo>
                          <a:pt x="482" y="97"/>
                        </a:lnTo>
                        <a:lnTo>
                          <a:pt x="482" y="99"/>
                        </a:lnTo>
                        <a:lnTo>
                          <a:pt x="485" y="100"/>
                        </a:lnTo>
                        <a:lnTo>
                          <a:pt x="485" y="101"/>
                        </a:lnTo>
                        <a:lnTo>
                          <a:pt x="488" y="102"/>
                        </a:lnTo>
                        <a:lnTo>
                          <a:pt x="488" y="103"/>
                        </a:lnTo>
                        <a:lnTo>
                          <a:pt x="491" y="104"/>
                        </a:lnTo>
                        <a:lnTo>
                          <a:pt x="491" y="105"/>
                        </a:lnTo>
                        <a:lnTo>
                          <a:pt x="493" y="106"/>
                        </a:lnTo>
                        <a:lnTo>
                          <a:pt x="493" y="108"/>
                        </a:lnTo>
                        <a:lnTo>
                          <a:pt x="496" y="109"/>
                        </a:lnTo>
                        <a:lnTo>
                          <a:pt x="499" y="110"/>
                        </a:lnTo>
                        <a:lnTo>
                          <a:pt x="502" y="111"/>
                        </a:lnTo>
                        <a:lnTo>
                          <a:pt x="504" y="112"/>
                        </a:lnTo>
                        <a:lnTo>
                          <a:pt x="504" y="113"/>
                        </a:lnTo>
                        <a:lnTo>
                          <a:pt x="507" y="113"/>
                        </a:lnTo>
                        <a:lnTo>
                          <a:pt x="507" y="114"/>
                        </a:lnTo>
                        <a:lnTo>
                          <a:pt x="510" y="114"/>
                        </a:lnTo>
                        <a:lnTo>
                          <a:pt x="510" y="115"/>
                        </a:lnTo>
                        <a:lnTo>
                          <a:pt x="513" y="115"/>
                        </a:lnTo>
                        <a:lnTo>
                          <a:pt x="515" y="117"/>
                        </a:lnTo>
                        <a:lnTo>
                          <a:pt x="518" y="117"/>
                        </a:lnTo>
                        <a:lnTo>
                          <a:pt x="521" y="117"/>
                        </a:lnTo>
                        <a:lnTo>
                          <a:pt x="524" y="117"/>
                        </a:lnTo>
                        <a:lnTo>
                          <a:pt x="526" y="117"/>
                        </a:lnTo>
                        <a:lnTo>
                          <a:pt x="529" y="117"/>
                        </a:lnTo>
                        <a:lnTo>
                          <a:pt x="532" y="117"/>
                        </a:lnTo>
                        <a:lnTo>
                          <a:pt x="532" y="115"/>
                        </a:lnTo>
                        <a:lnTo>
                          <a:pt x="534" y="115"/>
                        </a:lnTo>
                        <a:lnTo>
                          <a:pt x="537" y="115"/>
                        </a:lnTo>
                        <a:lnTo>
                          <a:pt x="537" y="114"/>
                        </a:lnTo>
                        <a:lnTo>
                          <a:pt x="540" y="114"/>
                        </a:lnTo>
                        <a:lnTo>
                          <a:pt x="540" y="113"/>
                        </a:lnTo>
                        <a:lnTo>
                          <a:pt x="543" y="113"/>
                        </a:lnTo>
                        <a:lnTo>
                          <a:pt x="543" y="112"/>
                        </a:lnTo>
                        <a:lnTo>
                          <a:pt x="545" y="111"/>
                        </a:lnTo>
                        <a:lnTo>
                          <a:pt x="548" y="110"/>
                        </a:lnTo>
                        <a:lnTo>
                          <a:pt x="548" y="109"/>
                        </a:lnTo>
                        <a:lnTo>
                          <a:pt x="551" y="109"/>
                        </a:lnTo>
                        <a:lnTo>
                          <a:pt x="554" y="108"/>
                        </a:lnTo>
                        <a:lnTo>
                          <a:pt x="554" y="106"/>
                        </a:lnTo>
                        <a:lnTo>
                          <a:pt x="556" y="105"/>
                        </a:lnTo>
                        <a:lnTo>
                          <a:pt x="556" y="104"/>
                        </a:lnTo>
                        <a:lnTo>
                          <a:pt x="559" y="103"/>
                        </a:lnTo>
                        <a:lnTo>
                          <a:pt x="559" y="102"/>
                        </a:lnTo>
                        <a:lnTo>
                          <a:pt x="562" y="101"/>
                        </a:lnTo>
                        <a:lnTo>
                          <a:pt x="562" y="100"/>
                        </a:lnTo>
                        <a:lnTo>
                          <a:pt x="565" y="99"/>
                        </a:lnTo>
                        <a:lnTo>
                          <a:pt x="565" y="97"/>
                        </a:lnTo>
                        <a:lnTo>
                          <a:pt x="567" y="96"/>
                        </a:lnTo>
                        <a:lnTo>
                          <a:pt x="567" y="95"/>
                        </a:lnTo>
                        <a:lnTo>
                          <a:pt x="570" y="94"/>
                        </a:lnTo>
                        <a:lnTo>
                          <a:pt x="573" y="92"/>
                        </a:lnTo>
                        <a:lnTo>
                          <a:pt x="573" y="91"/>
                        </a:lnTo>
                        <a:lnTo>
                          <a:pt x="575" y="90"/>
                        </a:lnTo>
                        <a:lnTo>
                          <a:pt x="575" y="89"/>
                        </a:lnTo>
                        <a:lnTo>
                          <a:pt x="578" y="87"/>
                        </a:lnTo>
                        <a:lnTo>
                          <a:pt x="578" y="85"/>
                        </a:lnTo>
                        <a:lnTo>
                          <a:pt x="581" y="84"/>
                        </a:lnTo>
                        <a:lnTo>
                          <a:pt x="581" y="83"/>
                        </a:lnTo>
                        <a:lnTo>
                          <a:pt x="584" y="82"/>
                        </a:lnTo>
                        <a:lnTo>
                          <a:pt x="584" y="80"/>
                        </a:lnTo>
                        <a:lnTo>
                          <a:pt x="586" y="79"/>
                        </a:lnTo>
                        <a:lnTo>
                          <a:pt x="589" y="78"/>
                        </a:lnTo>
                        <a:lnTo>
                          <a:pt x="589" y="75"/>
                        </a:lnTo>
                        <a:lnTo>
                          <a:pt x="592" y="74"/>
                        </a:lnTo>
                        <a:lnTo>
                          <a:pt x="592" y="73"/>
                        </a:lnTo>
                        <a:lnTo>
                          <a:pt x="595" y="72"/>
                        </a:lnTo>
                        <a:lnTo>
                          <a:pt x="595" y="70"/>
                        </a:lnTo>
                        <a:lnTo>
                          <a:pt x="597" y="69"/>
                        </a:lnTo>
                        <a:lnTo>
                          <a:pt x="597" y="68"/>
                        </a:lnTo>
                        <a:lnTo>
                          <a:pt x="600" y="66"/>
                        </a:lnTo>
                        <a:lnTo>
                          <a:pt x="600" y="64"/>
                        </a:lnTo>
                        <a:lnTo>
                          <a:pt x="603" y="63"/>
                        </a:lnTo>
                        <a:lnTo>
                          <a:pt x="603" y="62"/>
                        </a:lnTo>
                        <a:lnTo>
                          <a:pt x="606" y="61"/>
                        </a:lnTo>
                        <a:lnTo>
                          <a:pt x="608" y="60"/>
                        </a:lnTo>
                        <a:lnTo>
                          <a:pt x="608" y="57"/>
                        </a:lnTo>
                        <a:lnTo>
                          <a:pt x="611" y="56"/>
                        </a:lnTo>
                        <a:lnTo>
                          <a:pt x="611" y="55"/>
                        </a:lnTo>
                        <a:lnTo>
                          <a:pt x="614" y="54"/>
                        </a:lnTo>
                        <a:lnTo>
                          <a:pt x="614" y="53"/>
                        </a:lnTo>
                        <a:lnTo>
                          <a:pt x="616" y="52"/>
                        </a:lnTo>
                        <a:lnTo>
                          <a:pt x="616" y="51"/>
                        </a:lnTo>
                        <a:lnTo>
                          <a:pt x="619" y="48"/>
                        </a:lnTo>
                        <a:lnTo>
                          <a:pt x="619" y="47"/>
                        </a:lnTo>
                        <a:lnTo>
                          <a:pt x="622" y="46"/>
                        </a:lnTo>
                        <a:lnTo>
                          <a:pt x="622" y="45"/>
                        </a:lnTo>
                        <a:lnTo>
                          <a:pt x="625" y="44"/>
                        </a:lnTo>
                        <a:lnTo>
                          <a:pt x="627" y="43"/>
                        </a:lnTo>
                        <a:lnTo>
                          <a:pt x="627" y="42"/>
                        </a:lnTo>
                        <a:lnTo>
                          <a:pt x="630" y="41"/>
                        </a:lnTo>
                        <a:lnTo>
                          <a:pt x="630" y="40"/>
                        </a:lnTo>
                        <a:lnTo>
                          <a:pt x="633" y="40"/>
                        </a:lnTo>
                        <a:lnTo>
                          <a:pt x="633" y="38"/>
                        </a:lnTo>
                        <a:lnTo>
                          <a:pt x="636" y="37"/>
                        </a:lnTo>
                        <a:lnTo>
                          <a:pt x="636" y="36"/>
                        </a:lnTo>
                        <a:lnTo>
                          <a:pt x="638" y="35"/>
                        </a:lnTo>
                        <a:lnTo>
                          <a:pt x="638" y="34"/>
                        </a:lnTo>
                        <a:lnTo>
                          <a:pt x="641" y="33"/>
                        </a:lnTo>
                        <a:lnTo>
                          <a:pt x="644" y="33"/>
                        </a:lnTo>
                        <a:lnTo>
                          <a:pt x="644" y="32"/>
                        </a:lnTo>
                        <a:lnTo>
                          <a:pt x="647" y="31"/>
                        </a:lnTo>
                        <a:lnTo>
                          <a:pt x="647" y="29"/>
                        </a:lnTo>
                        <a:lnTo>
                          <a:pt x="649" y="29"/>
                        </a:lnTo>
                        <a:lnTo>
                          <a:pt x="649" y="28"/>
                        </a:lnTo>
                        <a:lnTo>
                          <a:pt x="652" y="27"/>
                        </a:lnTo>
                        <a:lnTo>
                          <a:pt x="655" y="26"/>
                        </a:lnTo>
                        <a:lnTo>
                          <a:pt x="655" y="25"/>
                        </a:lnTo>
                        <a:lnTo>
                          <a:pt x="657" y="25"/>
                        </a:lnTo>
                        <a:lnTo>
                          <a:pt x="657" y="24"/>
                        </a:lnTo>
                        <a:lnTo>
                          <a:pt x="660" y="23"/>
                        </a:lnTo>
                        <a:lnTo>
                          <a:pt x="663" y="23"/>
                        </a:lnTo>
                        <a:lnTo>
                          <a:pt x="663" y="22"/>
                        </a:lnTo>
                        <a:lnTo>
                          <a:pt x="666" y="22"/>
                        </a:lnTo>
                        <a:lnTo>
                          <a:pt x="666" y="21"/>
                        </a:lnTo>
                        <a:lnTo>
                          <a:pt x="668" y="21"/>
                        </a:lnTo>
                        <a:lnTo>
                          <a:pt x="668" y="19"/>
                        </a:lnTo>
                        <a:lnTo>
                          <a:pt x="671" y="19"/>
                        </a:lnTo>
                        <a:lnTo>
                          <a:pt x="671" y="18"/>
                        </a:lnTo>
                        <a:lnTo>
                          <a:pt x="674" y="18"/>
                        </a:lnTo>
                        <a:lnTo>
                          <a:pt x="674" y="17"/>
                        </a:lnTo>
                        <a:lnTo>
                          <a:pt x="677" y="17"/>
                        </a:lnTo>
                        <a:lnTo>
                          <a:pt x="679" y="16"/>
                        </a:lnTo>
                        <a:lnTo>
                          <a:pt x="682" y="16"/>
                        </a:lnTo>
                        <a:lnTo>
                          <a:pt x="682" y="15"/>
                        </a:lnTo>
                        <a:lnTo>
                          <a:pt x="685" y="15"/>
                        </a:lnTo>
                        <a:lnTo>
                          <a:pt x="685" y="14"/>
                        </a:lnTo>
                        <a:lnTo>
                          <a:pt x="688" y="14"/>
                        </a:lnTo>
                        <a:lnTo>
                          <a:pt x="690" y="13"/>
                        </a:lnTo>
                        <a:lnTo>
                          <a:pt x="693" y="13"/>
                        </a:lnTo>
                        <a:lnTo>
                          <a:pt x="693" y="12"/>
                        </a:lnTo>
                        <a:lnTo>
                          <a:pt x="695" y="12"/>
                        </a:lnTo>
                        <a:lnTo>
                          <a:pt x="698" y="12"/>
                        </a:lnTo>
                        <a:lnTo>
                          <a:pt x="698" y="10"/>
                        </a:lnTo>
                        <a:lnTo>
                          <a:pt x="701" y="10"/>
                        </a:lnTo>
                        <a:lnTo>
                          <a:pt x="703" y="9"/>
                        </a:lnTo>
                        <a:lnTo>
                          <a:pt x="706" y="9"/>
                        </a:lnTo>
                        <a:lnTo>
                          <a:pt x="709" y="8"/>
                        </a:lnTo>
                        <a:lnTo>
                          <a:pt x="712" y="8"/>
                        </a:lnTo>
                        <a:lnTo>
                          <a:pt x="714" y="8"/>
                        </a:lnTo>
                        <a:lnTo>
                          <a:pt x="714" y="7"/>
                        </a:lnTo>
                        <a:lnTo>
                          <a:pt x="717" y="7"/>
                        </a:lnTo>
                        <a:lnTo>
                          <a:pt x="720" y="7"/>
                        </a:lnTo>
                        <a:lnTo>
                          <a:pt x="723" y="6"/>
                        </a:lnTo>
                        <a:lnTo>
                          <a:pt x="725" y="6"/>
                        </a:lnTo>
                        <a:lnTo>
                          <a:pt x="728" y="6"/>
                        </a:lnTo>
                        <a:lnTo>
                          <a:pt x="728" y="5"/>
                        </a:lnTo>
                        <a:lnTo>
                          <a:pt x="731" y="5"/>
                        </a:lnTo>
                        <a:lnTo>
                          <a:pt x="734" y="5"/>
                        </a:lnTo>
                        <a:lnTo>
                          <a:pt x="736" y="5"/>
                        </a:lnTo>
                        <a:lnTo>
                          <a:pt x="739" y="4"/>
                        </a:lnTo>
                        <a:lnTo>
                          <a:pt x="742" y="4"/>
                        </a:lnTo>
                        <a:lnTo>
                          <a:pt x="744" y="4"/>
                        </a:lnTo>
                        <a:lnTo>
                          <a:pt x="747" y="4"/>
                        </a:lnTo>
                        <a:lnTo>
                          <a:pt x="747" y="3"/>
                        </a:lnTo>
                        <a:lnTo>
                          <a:pt x="750" y="3"/>
                        </a:lnTo>
                        <a:lnTo>
                          <a:pt x="753" y="3"/>
                        </a:lnTo>
                        <a:lnTo>
                          <a:pt x="755" y="3"/>
                        </a:lnTo>
                        <a:lnTo>
                          <a:pt x="758" y="3"/>
                        </a:lnTo>
                        <a:lnTo>
                          <a:pt x="761" y="2"/>
                        </a:lnTo>
                        <a:lnTo>
                          <a:pt x="764" y="2"/>
                        </a:lnTo>
                        <a:lnTo>
                          <a:pt x="766" y="2"/>
                        </a:lnTo>
                        <a:lnTo>
                          <a:pt x="769" y="2"/>
                        </a:lnTo>
                        <a:lnTo>
                          <a:pt x="772" y="2"/>
                        </a:lnTo>
                        <a:lnTo>
                          <a:pt x="775" y="2"/>
                        </a:lnTo>
                        <a:lnTo>
                          <a:pt x="777" y="2"/>
                        </a:lnTo>
                        <a:lnTo>
                          <a:pt x="780" y="1"/>
                        </a:lnTo>
                        <a:lnTo>
                          <a:pt x="783" y="1"/>
                        </a:lnTo>
                        <a:lnTo>
                          <a:pt x="786" y="1"/>
                        </a:lnTo>
                        <a:lnTo>
                          <a:pt x="788" y="1"/>
                        </a:lnTo>
                        <a:lnTo>
                          <a:pt x="791" y="1"/>
                        </a:lnTo>
                        <a:lnTo>
                          <a:pt x="794" y="1"/>
                        </a:lnTo>
                        <a:lnTo>
                          <a:pt x="796" y="1"/>
                        </a:lnTo>
                        <a:lnTo>
                          <a:pt x="799" y="1"/>
                        </a:lnTo>
                        <a:lnTo>
                          <a:pt x="802" y="1"/>
                        </a:lnTo>
                        <a:lnTo>
                          <a:pt x="805" y="1"/>
                        </a:lnTo>
                        <a:lnTo>
                          <a:pt x="807" y="1"/>
                        </a:lnTo>
                        <a:lnTo>
                          <a:pt x="810" y="1"/>
                        </a:lnTo>
                        <a:lnTo>
                          <a:pt x="813" y="1"/>
                        </a:lnTo>
                        <a:lnTo>
                          <a:pt x="816" y="1"/>
                        </a:lnTo>
                        <a:lnTo>
                          <a:pt x="818" y="0"/>
                        </a:lnTo>
                        <a:lnTo>
                          <a:pt x="821" y="0"/>
                        </a:lnTo>
                        <a:lnTo>
                          <a:pt x="824" y="0"/>
                        </a:lnTo>
                        <a:lnTo>
                          <a:pt x="827" y="0"/>
                        </a:lnTo>
                        <a:lnTo>
                          <a:pt x="829" y="0"/>
                        </a:lnTo>
                        <a:lnTo>
                          <a:pt x="832" y="0"/>
                        </a:lnTo>
                        <a:lnTo>
                          <a:pt x="835" y="0"/>
                        </a:lnTo>
                        <a:lnTo>
                          <a:pt x="837" y="0"/>
                        </a:lnTo>
                        <a:lnTo>
                          <a:pt x="840" y="0"/>
                        </a:lnTo>
                        <a:lnTo>
                          <a:pt x="843" y="0"/>
                        </a:lnTo>
                        <a:lnTo>
                          <a:pt x="846" y="0"/>
                        </a:lnTo>
                        <a:lnTo>
                          <a:pt x="848" y="0"/>
                        </a:lnTo>
                        <a:lnTo>
                          <a:pt x="851" y="0"/>
                        </a:lnTo>
                        <a:lnTo>
                          <a:pt x="854" y="0"/>
                        </a:lnTo>
                        <a:lnTo>
                          <a:pt x="857" y="0"/>
                        </a:lnTo>
                        <a:lnTo>
                          <a:pt x="859" y="0"/>
                        </a:lnTo>
                        <a:lnTo>
                          <a:pt x="862" y="0"/>
                        </a:lnTo>
                        <a:lnTo>
                          <a:pt x="865" y="0"/>
                        </a:lnTo>
                        <a:lnTo>
                          <a:pt x="868" y="0"/>
                        </a:lnTo>
                        <a:lnTo>
                          <a:pt x="870" y="0"/>
                        </a:lnTo>
                        <a:lnTo>
                          <a:pt x="873" y="0"/>
                        </a:lnTo>
                        <a:lnTo>
                          <a:pt x="876" y="0"/>
                        </a:lnTo>
                        <a:lnTo>
                          <a:pt x="878" y="0"/>
                        </a:lnTo>
                        <a:lnTo>
                          <a:pt x="881" y="0"/>
                        </a:lnTo>
                        <a:lnTo>
                          <a:pt x="884" y="0"/>
                        </a:lnTo>
                        <a:lnTo>
                          <a:pt x="887" y="0"/>
                        </a:lnTo>
                        <a:lnTo>
                          <a:pt x="889" y="0"/>
                        </a:lnTo>
                        <a:lnTo>
                          <a:pt x="892" y="0"/>
                        </a:lnTo>
                        <a:lnTo>
                          <a:pt x="895" y="0"/>
                        </a:lnTo>
                        <a:lnTo>
                          <a:pt x="898" y="0"/>
                        </a:lnTo>
                        <a:lnTo>
                          <a:pt x="900" y="0"/>
                        </a:lnTo>
                        <a:lnTo>
                          <a:pt x="903" y="0"/>
                        </a:lnTo>
                        <a:lnTo>
                          <a:pt x="906" y="0"/>
                        </a:lnTo>
                        <a:lnTo>
                          <a:pt x="909" y="0"/>
                        </a:lnTo>
                        <a:lnTo>
                          <a:pt x="911" y="0"/>
                        </a:lnTo>
                        <a:lnTo>
                          <a:pt x="914" y="0"/>
                        </a:lnTo>
                        <a:lnTo>
                          <a:pt x="917" y="0"/>
                        </a:lnTo>
                        <a:lnTo>
                          <a:pt x="919" y="0"/>
                        </a:lnTo>
                        <a:lnTo>
                          <a:pt x="922" y="0"/>
                        </a:lnTo>
                        <a:lnTo>
                          <a:pt x="925" y="0"/>
                        </a:lnTo>
                        <a:lnTo>
                          <a:pt x="928" y="0"/>
                        </a:lnTo>
                        <a:lnTo>
                          <a:pt x="930" y="0"/>
                        </a:lnTo>
                        <a:lnTo>
                          <a:pt x="933" y="0"/>
                        </a:lnTo>
                        <a:lnTo>
                          <a:pt x="936" y="0"/>
                        </a:lnTo>
                        <a:lnTo>
                          <a:pt x="939" y="0"/>
                        </a:lnTo>
                        <a:lnTo>
                          <a:pt x="941" y="0"/>
                        </a:lnTo>
                        <a:lnTo>
                          <a:pt x="944" y="0"/>
                        </a:lnTo>
                        <a:lnTo>
                          <a:pt x="947" y="0"/>
                        </a:lnTo>
                        <a:lnTo>
                          <a:pt x="949" y="0"/>
                        </a:lnTo>
                        <a:lnTo>
                          <a:pt x="952" y="0"/>
                        </a:lnTo>
                        <a:lnTo>
                          <a:pt x="955" y="0"/>
                        </a:lnTo>
                        <a:lnTo>
                          <a:pt x="957" y="0"/>
                        </a:lnTo>
                        <a:lnTo>
                          <a:pt x="960" y="0"/>
                        </a:lnTo>
                        <a:lnTo>
                          <a:pt x="963" y="0"/>
                        </a:lnTo>
                        <a:lnTo>
                          <a:pt x="965" y="0"/>
                        </a:lnTo>
                        <a:lnTo>
                          <a:pt x="968" y="0"/>
                        </a:lnTo>
                        <a:lnTo>
                          <a:pt x="971" y="0"/>
                        </a:lnTo>
                        <a:lnTo>
                          <a:pt x="974" y="0"/>
                        </a:lnTo>
                        <a:lnTo>
                          <a:pt x="976" y="0"/>
                        </a:lnTo>
                        <a:lnTo>
                          <a:pt x="979" y="0"/>
                        </a:lnTo>
                        <a:lnTo>
                          <a:pt x="982" y="0"/>
                        </a:lnTo>
                        <a:lnTo>
                          <a:pt x="985" y="0"/>
                        </a:lnTo>
                        <a:lnTo>
                          <a:pt x="987" y="0"/>
                        </a:lnTo>
                        <a:lnTo>
                          <a:pt x="990" y="0"/>
                        </a:lnTo>
                        <a:lnTo>
                          <a:pt x="993" y="0"/>
                        </a:lnTo>
                        <a:lnTo>
                          <a:pt x="996" y="0"/>
                        </a:lnTo>
                        <a:lnTo>
                          <a:pt x="998" y="0"/>
                        </a:lnTo>
                        <a:lnTo>
                          <a:pt x="1001" y="0"/>
                        </a:lnTo>
                        <a:lnTo>
                          <a:pt x="1004" y="0"/>
                        </a:lnTo>
                        <a:lnTo>
                          <a:pt x="1006" y="0"/>
                        </a:lnTo>
                        <a:lnTo>
                          <a:pt x="1009" y="0"/>
                        </a:lnTo>
                        <a:lnTo>
                          <a:pt x="1012" y="0"/>
                        </a:lnTo>
                        <a:lnTo>
                          <a:pt x="1015" y="0"/>
                        </a:lnTo>
                        <a:lnTo>
                          <a:pt x="1017" y="0"/>
                        </a:lnTo>
                        <a:lnTo>
                          <a:pt x="1020" y="0"/>
                        </a:lnTo>
                        <a:lnTo>
                          <a:pt x="1023" y="0"/>
                        </a:lnTo>
                        <a:lnTo>
                          <a:pt x="1026" y="0"/>
                        </a:lnTo>
                        <a:lnTo>
                          <a:pt x="1028" y="0"/>
                        </a:lnTo>
                        <a:lnTo>
                          <a:pt x="1031" y="0"/>
                        </a:lnTo>
                        <a:lnTo>
                          <a:pt x="1034" y="0"/>
                        </a:lnTo>
                        <a:lnTo>
                          <a:pt x="1037" y="0"/>
                        </a:lnTo>
                        <a:lnTo>
                          <a:pt x="1039" y="0"/>
                        </a:lnTo>
                        <a:lnTo>
                          <a:pt x="1042" y="0"/>
                        </a:lnTo>
                        <a:lnTo>
                          <a:pt x="1045" y="0"/>
                        </a:lnTo>
                        <a:lnTo>
                          <a:pt x="1048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99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3" name=""/>
                <p:cNvSpPr/>
                <p:nvPr/>
              </p:nvSpPr>
              <p:spPr>
                <a:xfrm>
                  <a:off x="7605360" y="5076720"/>
                  <a:ext cx="671040" cy="168480"/>
                </a:xfrm>
                <a:custGeom>
                  <a:avLst/>
                  <a:gdLst/>
                  <a:ahLst/>
                  <a:rect l="l" t="t" r="r" b="b"/>
                  <a:pathLst>
                    <a:path w="458" h="10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2" y="0"/>
                      </a:lnTo>
                      <a:lnTo>
                        <a:pt x="33" y="0"/>
                      </a:lnTo>
                      <a:lnTo>
                        <a:pt x="36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0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58" y="0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4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8" y="0"/>
                      </a:lnTo>
                      <a:lnTo>
                        <a:pt x="70" y="0"/>
                      </a:lnTo>
                      <a:lnTo>
                        <a:pt x="71" y="0"/>
                      </a:lnTo>
                      <a:lnTo>
                        <a:pt x="73" y="0"/>
                      </a:lnTo>
                      <a:lnTo>
                        <a:pt x="75" y="0"/>
                      </a:lnTo>
                      <a:lnTo>
                        <a:pt x="77" y="0"/>
                      </a:lnTo>
                      <a:lnTo>
                        <a:pt x="78" y="0"/>
                      </a:lnTo>
                      <a:lnTo>
                        <a:pt x="79" y="0"/>
                      </a:lnTo>
                      <a:lnTo>
                        <a:pt x="81" y="0"/>
                      </a:lnTo>
                      <a:lnTo>
                        <a:pt x="82" y="0"/>
                      </a:lnTo>
                      <a:lnTo>
                        <a:pt x="84" y="0"/>
                      </a:lnTo>
                      <a:lnTo>
                        <a:pt x="85" y="0"/>
                      </a:lnTo>
                      <a:lnTo>
                        <a:pt x="87" y="0"/>
                      </a:lnTo>
                      <a:lnTo>
                        <a:pt x="88" y="0"/>
                      </a:lnTo>
                      <a:lnTo>
                        <a:pt x="90" y="0"/>
                      </a:lnTo>
                      <a:lnTo>
                        <a:pt x="92" y="0"/>
                      </a:lnTo>
                      <a:lnTo>
                        <a:pt x="93" y="0"/>
                      </a:lnTo>
                      <a:lnTo>
                        <a:pt x="95" y="0"/>
                      </a:lnTo>
                      <a:lnTo>
                        <a:pt x="96" y="0"/>
                      </a:lnTo>
                      <a:lnTo>
                        <a:pt x="98" y="0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102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8" y="0"/>
                      </a:lnTo>
                      <a:lnTo>
                        <a:pt x="110" y="0"/>
                      </a:lnTo>
                      <a:lnTo>
                        <a:pt x="112" y="0"/>
                      </a:lnTo>
                      <a:lnTo>
                        <a:pt x="113" y="0"/>
                      </a:lnTo>
                      <a:lnTo>
                        <a:pt x="115" y="0"/>
                      </a:lnTo>
                      <a:lnTo>
                        <a:pt x="116" y="0"/>
                      </a:lnTo>
                      <a:lnTo>
                        <a:pt x="118" y="0"/>
                      </a:lnTo>
                      <a:lnTo>
                        <a:pt x="119" y="0"/>
                      </a:lnTo>
                      <a:lnTo>
                        <a:pt x="120" y="0"/>
                      </a:lnTo>
                      <a:lnTo>
                        <a:pt x="122" y="0"/>
                      </a:lnTo>
                      <a:lnTo>
                        <a:pt x="123" y="0"/>
                      </a:lnTo>
                      <a:lnTo>
                        <a:pt x="125" y="0"/>
                      </a:lnTo>
                      <a:lnTo>
                        <a:pt x="126" y="0"/>
                      </a:lnTo>
                      <a:lnTo>
                        <a:pt x="129" y="0"/>
                      </a:lnTo>
                      <a:lnTo>
                        <a:pt x="130" y="0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0"/>
                      </a:lnTo>
                      <a:lnTo>
                        <a:pt x="142" y="0"/>
                      </a:lnTo>
                      <a:lnTo>
                        <a:pt x="143" y="0"/>
                      </a:lnTo>
                      <a:lnTo>
                        <a:pt x="146" y="0"/>
                      </a:lnTo>
                      <a:lnTo>
                        <a:pt x="147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1" y="0"/>
                      </a:lnTo>
                      <a:lnTo>
                        <a:pt x="153" y="0"/>
                      </a:lnTo>
                      <a:lnTo>
                        <a:pt x="154" y="0"/>
                      </a:lnTo>
                      <a:lnTo>
                        <a:pt x="156" y="0"/>
                      </a:lnTo>
                      <a:lnTo>
                        <a:pt x="157" y="0"/>
                      </a:lnTo>
                      <a:lnTo>
                        <a:pt x="159" y="0"/>
                      </a:lnTo>
                      <a:lnTo>
                        <a:pt x="160" y="0"/>
                      </a:lnTo>
                      <a:lnTo>
                        <a:pt x="161" y="0"/>
                      </a:lnTo>
                      <a:lnTo>
                        <a:pt x="164" y="0"/>
                      </a:lnTo>
                      <a:lnTo>
                        <a:pt x="165" y="0"/>
                      </a:lnTo>
                      <a:lnTo>
                        <a:pt x="167" y="0"/>
                      </a:lnTo>
                      <a:lnTo>
                        <a:pt x="168" y="0"/>
                      </a:lnTo>
                      <a:lnTo>
                        <a:pt x="170" y="0"/>
                      </a:lnTo>
                      <a:lnTo>
                        <a:pt x="171" y="0"/>
                      </a:lnTo>
                      <a:lnTo>
                        <a:pt x="173" y="0"/>
                      </a:lnTo>
                      <a:lnTo>
                        <a:pt x="174" y="0"/>
                      </a:lnTo>
                      <a:lnTo>
                        <a:pt x="175" y="0"/>
                      </a:lnTo>
                      <a:lnTo>
                        <a:pt x="177" y="0"/>
                      </a:lnTo>
                      <a:lnTo>
                        <a:pt x="178" y="0"/>
                      </a:lnTo>
                      <a:lnTo>
                        <a:pt x="180" y="0"/>
                      </a:lnTo>
                      <a:lnTo>
                        <a:pt x="181" y="0"/>
                      </a:lnTo>
                      <a:lnTo>
                        <a:pt x="184" y="0"/>
                      </a:lnTo>
                      <a:lnTo>
                        <a:pt x="185" y="0"/>
                      </a:lnTo>
                      <a:lnTo>
                        <a:pt x="187" y="0"/>
                      </a:lnTo>
                      <a:lnTo>
                        <a:pt x="188" y="0"/>
                      </a:lnTo>
                      <a:lnTo>
                        <a:pt x="189" y="0"/>
                      </a:lnTo>
                      <a:lnTo>
                        <a:pt x="191" y="0"/>
                      </a:lnTo>
                      <a:lnTo>
                        <a:pt x="192" y="0"/>
                      </a:lnTo>
                      <a:lnTo>
                        <a:pt x="194" y="0"/>
                      </a:lnTo>
                      <a:lnTo>
                        <a:pt x="195" y="0"/>
                      </a:lnTo>
                      <a:lnTo>
                        <a:pt x="197" y="0"/>
                      </a:lnTo>
                      <a:lnTo>
                        <a:pt x="198" y="0"/>
                      </a:lnTo>
                      <a:lnTo>
                        <a:pt x="200" y="0"/>
                      </a:lnTo>
                      <a:lnTo>
                        <a:pt x="202" y="0"/>
                      </a:lnTo>
                      <a:lnTo>
                        <a:pt x="203" y="0"/>
                      </a:lnTo>
                      <a:lnTo>
                        <a:pt x="205" y="0"/>
                      </a:lnTo>
                      <a:lnTo>
                        <a:pt x="206" y="0"/>
                      </a:lnTo>
                      <a:lnTo>
                        <a:pt x="208" y="0"/>
                      </a:lnTo>
                      <a:lnTo>
                        <a:pt x="209" y="0"/>
                      </a:lnTo>
                      <a:lnTo>
                        <a:pt x="211" y="0"/>
                      </a:lnTo>
                      <a:lnTo>
                        <a:pt x="212" y="0"/>
                      </a:lnTo>
                      <a:lnTo>
                        <a:pt x="214" y="0"/>
                      </a:lnTo>
                      <a:lnTo>
                        <a:pt x="215" y="0"/>
                      </a:lnTo>
                      <a:lnTo>
                        <a:pt x="216" y="0"/>
                      </a:lnTo>
                      <a:lnTo>
                        <a:pt x="218" y="0"/>
                      </a:lnTo>
                      <a:lnTo>
                        <a:pt x="220" y="0"/>
                      </a:lnTo>
                      <a:lnTo>
                        <a:pt x="222" y="0"/>
                      </a:lnTo>
                      <a:lnTo>
                        <a:pt x="223" y="0"/>
                      </a:lnTo>
                      <a:lnTo>
                        <a:pt x="225" y="0"/>
                      </a:lnTo>
                      <a:lnTo>
                        <a:pt x="226" y="0"/>
                      </a:lnTo>
                      <a:lnTo>
                        <a:pt x="228" y="0"/>
                      </a:lnTo>
                      <a:lnTo>
                        <a:pt x="229" y="0"/>
                      </a:lnTo>
                      <a:lnTo>
                        <a:pt x="230" y="0"/>
                      </a:lnTo>
                      <a:lnTo>
                        <a:pt x="232" y="0"/>
                      </a:lnTo>
                      <a:lnTo>
                        <a:pt x="233" y="0"/>
                      </a:lnTo>
                      <a:lnTo>
                        <a:pt x="235" y="0"/>
                      </a:lnTo>
                      <a:lnTo>
                        <a:pt x="236" y="0"/>
                      </a:lnTo>
                      <a:lnTo>
                        <a:pt x="239" y="0"/>
                      </a:lnTo>
                      <a:lnTo>
                        <a:pt x="240" y="0"/>
                      </a:lnTo>
                      <a:lnTo>
                        <a:pt x="241" y="0"/>
                      </a:lnTo>
                      <a:lnTo>
                        <a:pt x="243" y="0"/>
                      </a:lnTo>
                      <a:lnTo>
                        <a:pt x="244" y="1"/>
                      </a:lnTo>
                      <a:lnTo>
                        <a:pt x="246" y="1"/>
                      </a:lnTo>
                      <a:lnTo>
                        <a:pt x="247" y="1"/>
                      </a:lnTo>
                      <a:lnTo>
                        <a:pt x="249" y="1"/>
                      </a:lnTo>
                      <a:lnTo>
                        <a:pt x="250" y="1"/>
                      </a:lnTo>
                      <a:lnTo>
                        <a:pt x="252" y="1"/>
                      </a:lnTo>
                      <a:lnTo>
                        <a:pt x="253" y="1"/>
                      </a:lnTo>
                      <a:lnTo>
                        <a:pt x="254" y="1"/>
                      </a:lnTo>
                      <a:lnTo>
                        <a:pt x="257" y="1"/>
                      </a:lnTo>
                      <a:lnTo>
                        <a:pt x="258" y="1"/>
                      </a:lnTo>
                      <a:lnTo>
                        <a:pt x="260" y="1"/>
                      </a:lnTo>
                      <a:lnTo>
                        <a:pt x="261" y="1"/>
                      </a:lnTo>
                      <a:lnTo>
                        <a:pt x="263" y="1"/>
                      </a:lnTo>
                      <a:lnTo>
                        <a:pt x="264" y="1"/>
                      </a:lnTo>
                      <a:lnTo>
                        <a:pt x="266" y="2"/>
                      </a:lnTo>
                      <a:lnTo>
                        <a:pt x="267" y="2"/>
                      </a:lnTo>
                      <a:lnTo>
                        <a:pt x="268" y="2"/>
                      </a:lnTo>
                      <a:lnTo>
                        <a:pt x="270" y="2"/>
                      </a:lnTo>
                      <a:lnTo>
                        <a:pt x="271" y="2"/>
                      </a:lnTo>
                      <a:lnTo>
                        <a:pt x="273" y="2"/>
                      </a:lnTo>
                      <a:lnTo>
                        <a:pt x="274" y="2"/>
                      </a:lnTo>
                      <a:lnTo>
                        <a:pt x="277" y="2"/>
                      </a:lnTo>
                      <a:lnTo>
                        <a:pt x="278" y="2"/>
                      </a:lnTo>
                      <a:lnTo>
                        <a:pt x="280" y="3"/>
                      </a:lnTo>
                      <a:lnTo>
                        <a:pt x="281" y="3"/>
                      </a:lnTo>
                      <a:lnTo>
                        <a:pt x="282" y="3"/>
                      </a:lnTo>
                      <a:lnTo>
                        <a:pt x="284" y="3"/>
                      </a:lnTo>
                      <a:lnTo>
                        <a:pt x="285" y="3"/>
                      </a:lnTo>
                      <a:lnTo>
                        <a:pt x="287" y="3"/>
                      </a:lnTo>
                      <a:lnTo>
                        <a:pt x="288" y="3"/>
                      </a:lnTo>
                      <a:lnTo>
                        <a:pt x="290" y="4"/>
                      </a:lnTo>
                      <a:lnTo>
                        <a:pt x="291" y="4"/>
                      </a:lnTo>
                      <a:lnTo>
                        <a:pt x="294" y="4"/>
                      </a:lnTo>
                      <a:lnTo>
                        <a:pt x="295" y="4"/>
                      </a:lnTo>
                      <a:lnTo>
                        <a:pt x="296" y="4"/>
                      </a:lnTo>
                      <a:lnTo>
                        <a:pt x="298" y="4"/>
                      </a:lnTo>
                      <a:lnTo>
                        <a:pt x="299" y="4"/>
                      </a:lnTo>
                      <a:lnTo>
                        <a:pt x="301" y="5"/>
                      </a:lnTo>
                      <a:lnTo>
                        <a:pt x="302" y="5"/>
                      </a:lnTo>
                      <a:lnTo>
                        <a:pt x="304" y="5"/>
                      </a:lnTo>
                      <a:lnTo>
                        <a:pt x="305" y="5"/>
                      </a:lnTo>
                      <a:lnTo>
                        <a:pt x="307" y="6"/>
                      </a:lnTo>
                      <a:lnTo>
                        <a:pt x="308" y="6"/>
                      </a:lnTo>
                      <a:lnTo>
                        <a:pt x="309" y="6"/>
                      </a:lnTo>
                      <a:lnTo>
                        <a:pt x="312" y="6"/>
                      </a:lnTo>
                      <a:lnTo>
                        <a:pt x="313" y="7"/>
                      </a:lnTo>
                      <a:lnTo>
                        <a:pt x="315" y="7"/>
                      </a:lnTo>
                      <a:lnTo>
                        <a:pt x="316" y="7"/>
                      </a:lnTo>
                      <a:lnTo>
                        <a:pt x="318" y="7"/>
                      </a:lnTo>
                      <a:lnTo>
                        <a:pt x="319" y="8"/>
                      </a:lnTo>
                      <a:lnTo>
                        <a:pt x="321" y="8"/>
                      </a:lnTo>
                      <a:lnTo>
                        <a:pt x="322" y="8"/>
                      </a:lnTo>
                      <a:lnTo>
                        <a:pt x="323" y="9"/>
                      </a:lnTo>
                      <a:lnTo>
                        <a:pt x="325" y="9"/>
                      </a:lnTo>
                      <a:lnTo>
                        <a:pt x="326" y="10"/>
                      </a:lnTo>
                      <a:lnTo>
                        <a:pt x="328" y="10"/>
                      </a:lnTo>
                      <a:lnTo>
                        <a:pt x="330" y="10"/>
                      </a:lnTo>
                      <a:lnTo>
                        <a:pt x="332" y="10"/>
                      </a:lnTo>
                      <a:lnTo>
                        <a:pt x="333" y="11"/>
                      </a:lnTo>
                      <a:lnTo>
                        <a:pt x="335" y="11"/>
                      </a:lnTo>
                      <a:lnTo>
                        <a:pt x="336" y="12"/>
                      </a:lnTo>
                      <a:lnTo>
                        <a:pt x="337" y="12"/>
                      </a:lnTo>
                      <a:lnTo>
                        <a:pt x="339" y="12"/>
                      </a:lnTo>
                      <a:lnTo>
                        <a:pt x="340" y="13"/>
                      </a:lnTo>
                      <a:lnTo>
                        <a:pt x="342" y="13"/>
                      </a:lnTo>
                      <a:lnTo>
                        <a:pt x="343" y="14"/>
                      </a:lnTo>
                      <a:lnTo>
                        <a:pt x="345" y="14"/>
                      </a:lnTo>
                      <a:lnTo>
                        <a:pt x="346" y="15"/>
                      </a:lnTo>
                      <a:lnTo>
                        <a:pt x="349" y="15"/>
                      </a:lnTo>
                      <a:lnTo>
                        <a:pt x="350" y="15"/>
                      </a:lnTo>
                      <a:lnTo>
                        <a:pt x="351" y="16"/>
                      </a:lnTo>
                      <a:lnTo>
                        <a:pt x="353" y="16"/>
                      </a:lnTo>
                      <a:lnTo>
                        <a:pt x="354" y="17"/>
                      </a:lnTo>
                      <a:lnTo>
                        <a:pt x="356" y="18"/>
                      </a:lnTo>
                      <a:lnTo>
                        <a:pt x="357" y="18"/>
                      </a:lnTo>
                      <a:lnTo>
                        <a:pt x="359" y="19"/>
                      </a:lnTo>
                      <a:lnTo>
                        <a:pt x="360" y="19"/>
                      </a:lnTo>
                      <a:lnTo>
                        <a:pt x="362" y="20"/>
                      </a:lnTo>
                      <a:lnTo>
                        <a:pt x="363" y="21"/>
                      </a:lnTo>
                      <a:lnTo>
                        <a:pt x="364" y="21"/>
                      </a:lnTo>
                      <a:lnTo>
                        <a:pt x="367" y="22"/>
                      </a:lnTo>
                      <a:lnTo>
                        <a:pt x="368" y="22"/>
                      </a:lnTo>
                      <a:lnTo>
                        <a:pt x="370" y="23"/>
                      </a:lnTo>
                      <a:lnTo>
                        <a:pt x="371" y="24"/>
                      </a:lnTo>
                      <a:lnTo>
                        <a:pt x="373" y="24"/>
                      </a:lnTo>
                      <a:lnTo>
                        <a:pt x="374" y="25"/>
                      </a:lnTo>
                      <a:lnTo>
                        <a:pt x="376" y="26"/>
                      </a:lnTo>
                      <a:lnTo>
                        <a:pt x="377" y="26"/>
                      </a:lnTo>
                      <a:lnTo>
                        <a:pt x="378" y="27"/>
                      </a:lnTo>
                      <a:lnTo>
                        <a:pt x="380" y="28"/>
                      </a:lnTo>
                      <a:lnTo>
                        <a:pt x="381" y="29"/>
                      </a:lnTo>
                      <a:lnTo>
                        <a:pt x="383" y="30"/>
                      </a:lnTo>
                      <a:lnTo>
                        <a:pt x="384" y="31"/>
                      </a:lnTo>
                      <a:lnTo>
                        <a:pt x="387" y="31"/>
                      </a:lnTo>
                      <a:lnTo>
                        <a:pt x="388" y="32"/>
                      </a:lnTo>
                      <a:lnTo>
                        <a:pt x="389" y="33"/>
                      </a:lnTo>
                      <a:lnTo>
                        <a:pt x="391" y="34"/>
                      </a:lnTo>
                      <a:lnTo>
                        <a:pt x="392" y="35"/>
                      </a:lnTo>
                      <a:lnTo>
                        <a:pt x="394" y="36"/>
                      </a:lnTo>
                      <a:lnTo>
                        <a:pt x="395" y="37"/>
                      </a:lnTo>
                      <a:lnTo>
                        <a:pt x="397" y="38"/>
                      </a:lnTo>
                      <a:lnTo>
                        <a:pt x="398" y="39"/>
                      </a:lnTo>
                      <a:lnTo>
                        <a:pt x="400" y="40"/>
                      </a:lnTo>
                      <a:lnTo>
                        <a:pt x="401" y="42"/>
                      </a:lnTo>
                      <a:lnTo>
                        <a:pt x="402" y="43"/>
                      </a:lnTo>
                      <a:lnTo>
                        <a:pt x="405" y="44"/>
                      </a:lnTo>
                      <a:lnTo>
                        <a:pt x="406" y="45"/>
                      </a:lnTo>
                      <a:lnTo>
                        <a:pt x="408" y="46"/>
                      </a:lnTo>
                      <a:lnTo>
                        <a:pt x="409" y="48"/>
                      </a:lnTo>
                      <a:lnTo>
                        <a:pt x="411" y="49"/>
                      </a:lnTo>
                      <a:lnTo>
                        <a:pt x="412" y="50"/>
                      </a:lnTo>
                      <a:lnTo>
                        <a:pt x="414" y="52"/>
                      </a:lnTo>
                      <a:lnTo>
                        <a:pt x="415" y="53"/>
                      </a:lnTo>
                      <a:lnTo>
                        <a:pt x="416" y="55"/>
                      </a:lnTo>
                      <a:lnTo>
                        <a:pt x="418" y="56"/>
                      </a:lnTo>
                      <a:lnTo>
                        <a:pt x="419" y="57"/>
                      </a:lnTo>
                      <a:lnTo>
                        <a:pt x="422" y="59"/>
                      </a:lnTo>
                      <a:lnTo>
                        <a:pt x="423" y="61"/>
                      </a:lnTo>
                      <a:lnTo>
                        <a:pt x="425" y="62"/>
                      </a:lnTo>
                      <a:lnTo>
                        <a:pt x="426" y="64"/>
                      </a:lnTo>
                      <a:lnTo>
                        <a:pt x="428" y="66"/>
                      </a:lnTo>
                      <a:lnTo>
                        <a:pt x="429" y="67"/>
                      </a:lnTo>
                      <a:lnTo>
                        <a:pt x="430" y="69"/>
                      </a:lnTo>
                      <a:lnTo>
                        <a:pt x="432" y="71"/>
                      </a:lnTo>
                      <a:lnTo>
                        <a:pt x="433" y="73"/>
                      </a:lnTo>
                      <a:lnTo>
                        <a:pt x="435" y="75"/>
                      </a:lnTo>
                      <a:lnTo>
                        <a:pt x="436" y="77"/>
                      </a:lnTo>
                      <a:lnTo>
                        <a:pt x="438" y="78"/>
                      </a:lnTo>
                      <a:lnTo>
                        <a:pt x="440" y="80"/>
                      </a:lnTo>
                      <a:lnTo>
                        <a:pt x="442" y="83"/>
                      </a:lnTo>
                      <a:lnTo>
                        <a:pt x="443" y="84"/>
                      </a:lnTo>
                      <a:lnTo>
                        <a:pt x="444" y="87"/>
                      </a:lnTo>
                      <a:lnTo>
                        <a:pt x="446" y="89"/>
                      </a:lnTo>
                      <a:lnTo>
                        <a:pt x="447" y="91"/>
                      </a:lnTo>
                      <a:lnTo>
                        <a:pt x="449" y="93"/>
                      </a:lnTo>
                      <a:lnTo>
                        <a:pt x="450" y="95"/>
                      </a:lnTo>
                      <a:lnTo>
                        <a:pt x="452" y="98"/>
                      </a:lnTo>
                      <a:lnTo>
                        <a:pt x="453" y="100"/>
                      </a:lnTo>
                      <a:lnTo>
                        <a:pt x="455" y="102"/>
                      </a:lnTo>
                      <a:lnTo>
                        <a:pt x="457" y="105"/>
                      </a:lnTo>
                    </a:path>
                  </a:pathLst>
                </a:custGeom>
                <a:noFill/>
                <a:ln cap="rnd" w="25560">
                  <a:solidFill>
                    <a:srgbClr val="99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12880" y="5072040"/>
                  <a:ext cx="671040" cy="168120"/>
                </a:xfrm>
                <a:custGeom>
                  <a:avLst/>
                  <a:gdLst/>
                  <a:ahLst/>
                  <a:rect l="l" t="t" r="r" b="b"/>
                  <a:pathLst>
                    <a:path w="458" h="106">
                      <a:moveTo>
                        <a:pt x="457" y="0"/>
                      </a:moveTo>
                      <a:lnTo>
                        <a:pt x="454" y="0"/>
                      </a:lnTo>
                      <a:lnTo>
                        <a:pt x="453" y="0"/>
                      </a:lnTo>
                      <a:lnTo>
                        <a:pt x="451" y="0"/>
                      </a:lnTo>
                      <a:lnTo>
                        <a:pt x="450" y="0"/>
                      </a:lnTo>
                      <a:lnTo>
                        <a:pt x="448" y="0"/>
                      </a:lnTo>
                      <a:lnTo>
                        <a:pt x="447" y="0"/>
                      </a:lnTo>
                      <a:lnTo>
                        <a:pt x="445" y="0"/>
                      </a:lnTo>
                      <a:lnTo>
                        <a:pt x="444" y="0"/>
                      </a:lnTo>
                      <a:lnTo>
                        <a:pt x="443" y="0"/>
                      </a:lnTo>
                      <a:lnTo>
                        <a:pt x="441" y="0"/>
                      </a:lnTo>
                      <a:lnTo>
                        <a:pt x="440" y="0"/>
                      </a:lnTo>
                      <a:lnTo>
                        <a:pt x="437" y="0"/>
                      </a:lnTo>
                      <a:lnTo>
                        <a:pt x="436" y="0"/>
                      </a:lnTo>
                      <a:lnTo>
                        <a:pt x="434" y="0"/>
                      </a:lnTo>
                      <a:lnTo>
                        <a:pt x="433" y="0"/>
                      </a:lnTo>
                      <a:lnTo>
                        <a:pt x="431" y="0"/>
                      </a:lnTo>
                      <a:lnTo>
                        <a:pt x="430" y="0"/>
                      </a:lnTo>
                      <a:lnTo>
                        <a:pt x="429" y="0"/>
                      </a:lnTo>
                      <a:lnTo>
                        <a:pt x="427" y="0"/>
                      </a:lnTo>
                      <a:lnTo>
                        <a:pt x="426" y="0"/>
                      </a:lnTo>
                      <a:lnTo>
                        <a:pt x="424" y="0"/>
                      </a:lnTo>
                      <a:lnTo>
                        <a:pt x="423" y="0"/>
                      </a:lnTo>
                      <a:lnTo>
                        <a:pt x="420" y="0"/>
                      </a:lnTo>
                      <a:lnTo>
                        <a:pt x="419" y="0"/>
                      </a:lnTo>
                      <a:lnTo>
                        <a:pt x="417" y="0"/>
                      </a:lnTo>
                      <a:lnTo>
                        <a:pt x="416" y="0"/>
                      </a:lnTo>
                      <a:lnTo>
                        <a:pt x="415" y="0"/>
                      </a:lnTo>
                      <a:lnTo>
                        <a:pt x="413" y="0"/>
                      </a:lnTo>
                      <a:lnTo>
                        <a:pt x="412" y="0"/>
                      </a:lnTo>
                      <a:lnTo>
                        <a:pt x="410" y="0"/>
                      </a:lnTo>
                      <a:lnTo>
                        <a:pt x="409" y="0"/>
                      </a:lnTo>
                      <a:lnTo>
                        <a:pt x="407" y="0"/>
                      </a:lnTo>
                      <a:lnTo>
                        <a:pt x="406" y="0"/>
                      </a:lnTo>
                      <a:lnTo>
                        <a:pt x="404" y="0"/>
                      </a:lnTo>
                      <a:lnTo>
                        <a:pt x="402" y="0"/>
                      </a:lnTo>
                      <a:lnTo>
                        <a:pt x="401" y="0"/>
                      </a:lnTo>
                      <a:lnTo>
                        <a:pt x="399" y="0"/>
                      </a:lnTo>
                      <a:lnTo>
                        <a:pt x="398" y="0"/>
                      </a:lnTo>
                      <a:lnTo>
                        <a:pt x="396" y="0"/>
                      </a:lnTo>
                      <a:lnTo>
                        <a:pt x="395" y="0"/>
                      </a:lnTo>
                      <a:lnTo>
                        <a:pt x="393" y="0"/>
                      </a:lnTo>
                      <a:lnTo>
                        <a:pt x="392" y="0"/>
                      </a:lnTo>
                      <a:lnTo>
                        <a:pt x="390" y="0"/>
                      </a:lnTo>
                      <a:lnTo>
                        <a:pt x="389" y="0"/>
                      </a:lnTo>
                      <a:lnTo>
                        <a:pt x="388" y="0"/>
                      </a:lnTo>
                      <a:lnTo>
                        <a:pt x="386" y="0"/>
                      </a:lnTo>
                      <a:lnTo>
                        <a:pt x="385" y="0"/>
                      </a:lnTo>
                      <a:lnTo>
                        <a:pt x="383" y="0"/>
                      </a:lnTo>
                      <a:lnTo>
                        <a:pt x="381" y="0"/>
                      </a:lnTo>
                      <a:lnTo>
                        <a:pt x="379" y="0"/>
                      </a:lnTo>
                      <a:lnTo>
                        <a:pt x="378" y="0"/>
                      </a:lnTo>
                      <a:lnTo>
                        <a:pt x="377" y="0"/>
                      </a:lnTo>
                      <a:lnTo>
                        <a:pt x="375" y="0"/>
                      </a:lnTo>
                      <a:lnTo>
                        <a:pt x="374" y="0"/>
                      </a:lnTo>
                      <a:lnTo>
                        <a:pt x="372" y="0"/>
                      </a:lnTo>
                      <a:lnTo>
                        <a:pt x="371" y="0"/>
                      </a:lnTo>
                      <a:lnTo>
                        <a:pt x="369" y="0"/>
                      </a:lnTo>
                      <a:lnTo>
                        <a:pt x="368" y="0"/>
                      </a:lnTo>
                      <a:lnTo>
                        <a:pt x="366" y="0"/>
                      </a:lnTo>
                      <a:lnTo>
                        <a:pt x="364" y="0"/>
                      </a:lnTo>
                      <a:lnTo>
                        <a:pt x="363" y="0"/>
                      </a:lnTo>
                      <a:lnTo>
                        <a:pt x="361" y="0"/>
                      </a:lnTo>
                      <a:lnTo>
                        <a:pt x="360" y="0"/>
                      </a:lnTo>
                      <a:lnTo>
                        <a:pt x="358" y="0"/>
                      </a:lnTo>
                      <a:lnTo>
                        <a:pt x="357" y="0"/>
                      </a:lnTo>
                      <a:lnTo>
                        <a:pt x="355" y="0"/>
                      </a:lnTo>
                      <a:lnTo>
                        <a:pt x="354" y="0"/>
                      </a:lnTo>
                      <a:lnTo>
                        <a:pt x="352" y="0"/>
                      </a:lnTo>
                      <a:lnTo>
                        <a:pt x="351" y="0"/>
                      </a:lnTo>
                      <a:lnTo>
                        <a:pt x="350" y="0"/>
                      </a:lnTo>
                      <a:lnTo>
                        <a:pt x="348" y="0"/>
                      </a:lnTo>
                      <a:lnTo>
                        <a:pt x="346" y="0"/>
                      </a:lnTo>
                      <a:lnTo>
                        <a:pt x="344" y="0"/>
                      </a:lnTo>
                      <a:lnTo>
                        <a:pt x="343" y="0"/>
                      </a:lnTo>
                      <a:lnTo>
                        <a:pt x="341" y="0"/>
                      </a:lnTo>
                      <a:lnTo>
                        <a:pt x="340" y="0"/>
                      </a:lnTo>
                      <a:lnTo>
                        <a:pt x="338" y="0"/>
                      </a:lnTo>
                      <a:lnTo>
                        <a:pt x="337" y="0"/>
                      </a:lnTo>
                      <a:lnTo>
                        <a:pt x="336" y="0"/>
                      </a:lnTo>
                      <a:lnTo>
                        <a:pt x="334" y="0"/>
                      </a:lnTo>
                      <a:lnTo>
                        <a:pt x="333" y="0"/>
                      </a:lnTo>
                      <a:lnTo>
                        <a:pt x="331" y="0"/>
                      </a:lnTo>
                      <a:lnTo>
                        <a:pt x="330" y="0"/>
                      </a:lnTo>
                      <a:lnTo>
                        <a:pt x="327" y="0"/>
                      </a:lnTo>
                      <a:lnTo>
                        <a:pt x="326" y="0"/>
                      </a:lnTo>
                      <a:lnTo>
                        <a:pt x="324" y="0"/>
                      </a:lnTo>
                      <a:lnTo>
                        <a:pt x="323" y="0"/>
                      </a:lnTo>
                      <a:lnTo>
                        <a:pt x="322" y="0"/>
                      </a:lnTo>
                      <a:lnTo>
                        <a:pt x="320" y="0"/>
                      </a:lnTo>
                      <a:lnTo>
                        <a:pt x="319" y="0"/>
                      </a:lnTo>
                      <a:lnTo>
                        <a:pt x="317" y="0"/>
                      </a:lnTo>
                      <a:lnTo>
                        <a:pt x="316" y="0"/>
                      </a:lnTo>
                      <a:lnTo>
                        <a:pt x="314" y="0"/>
                      </a:lnTo>
                      <a:lnTo>
                        <a:pt x="313" y="0"/>
                      </a:lnTo>
                      <a:lnTo>
                        <a:pt x="310" y="0"/>
                      </a:lnTo>
                      <a:lnTo>
                        <a:pt x="309" y="0"/>
                      </a:lnTo>
                      <a:lnTo>
                        <a:pt x="308" y="0"/>
                      </a:lnTo>
                      <a:lnTo>
                        <a:pt x="306" y="0"/>
                      </a:lnTo>
                      <a:lnTo>
                        <a:pt x="305" y="0"/>
                      </a:lnTo>
                      <a:lnTo>
                        <a:pt x="303" y="0"/>
                      </a:lnTo>
                      <a:lnTo>
                        <a:pt x="302" y="0"/>
                      </a:lnTo>
                      <a:lnTo>
                        <a:pt x="300" y="0"/>
                      </a:lnTo>
                      <a:lnTo>
                        <a:pt x="299" y="0"/>
                      </a:lnTo>
                      <a:lnTo>
                        <a:pt x="297" y="0"/>
                      </a:lnTo>
                      <a:lnTo>
                        <a:pt x="296" y="0"/>
                      </a:lnTo>
                      <a:lnTo>
                        <a:pt x="295" y="0"/>
                      </a:lnTo>
                      <a:lnTo>
                        <a:pt x="292" y="0"/>
                      </a:lnTo>
                      <a:lnTo>
                        <a:pt x="291" y="0"/>
                      </a:lnTo>
                      <a:lnTo>
                        <a:pt x="289" y="0"/>
                      </a:lnTo>
                      <a:lnTo>
                        <a:pt x="288" y="0"/>
                      </a:lnTo>
                      <a:lnTo>
                        <a:pt x="286" y="0"/>
                      </a:lnTo>
                      <a:lnTo>
                        <a:pt x="285" y="0"/>
                      </a:lnTo>
                      <a:lnTo>
                        <a:pt x="283" y="0"/>
                      </a:lnTo>
                      <a:lnTo>
                        <a:pt x="282" y="0"/>
                      </a:lnTo>
                      <a:lnTo>
                        <a:pt x="281" y="0"/>
                      </a:lnTo>
                      <a:lnTo>
                        <a:pt x="279" y="0"/>
                      </a:lnTo>
                      <a:lnTo>
                        <a:pt x="278" y="0"/>
                      </a:lnTo>
                      <a:lnTo>
                        <a:pt x="276" y="0"/>
                      </a:lnTo>
                      <a:lnTo>
                        <a:pt x="275" y="0"/>
                      </a:lnTo>
                      <a:lnTo>
                        <a:pt x="272" y="0"/>
                      </a:lnTo>
                      <a:lnTo>
                        <a:pt x="271" y="0"/>
                      </a:lnTo>
                      <a:lnTo>
                        <a:pt x="269" y="0"/>
                      </a:lnTo>
                      <a:lnTo>
                        <a:pt x="268" y="0"/>
                      </a:lnTo>
                      <a:lnTo>
                        <a:pt x="267" y="0"/>
                      </a:lnTo>
                      <a:lnTo>
                        <a:pt x="265" y="0"/>
                      </a:lnTo>
                      <a:lnTo>
                        <a:pt x="264" y="0"/>
                      </a:lnTo>
                      <a:lnTo>
                        <a:pt x="262" y="0"/>
                      </a:lnTo>
                      <a:lnTo>
                        <a:pt x="261" y="0"/>
                      </a:lnTo>
                      <a:lnTo>
                        <a:pt x="259" y="0"/>
                      </a:lnTo>
                      <a:lnTo>
                        <a:pt x="258" y="0"/>
                      </a:lnTo>
                      <a:lnTo>
                        <a:pt x="256" y="0"/>
                      </a:lnTo>
                      <a:lnTo>
                        <a:pt x="254" y="0"/>
                      </a:lnTo>
                      <a:lnTo>
                        <a:pt x="253" y="0"/>
                      </a:lnTo>
                      <a:lnTo>
                        <a:pt x="251" y="0"/>
                      </a:lnTo>
                      <a:lnTo>
                        <a:pt x="250" y="0"/>
                      </a:lnTo>
                      <a:lnTo>
                        <a:pt x="248" y="0"/>
                      </a:lnTo>
                      <a:lnTo>
                        <a:pt x="247" y="0"/>
                      </a:lnTo>
                      <a:lnTo>
                        <a:pt x="245" y="0"/>
                      </a:lnTo>
                      <a:lnTo>
                        <a:pt x="244" y="0"/>
                      </a:lnTo>
                      <a:lnTo>
                        <a:pt x="242" y="0"/>
                      </a:lnTo>
                      <a:lnTo>
                        <a:pt x="241" y="0"/>
                      </a:lnTo>
                      <a:lnTo>
                        <a:pt x="240" y="0"/>
                      </a:lnTo>
                      <a:lnTo>
                        <a:pt x="238" y="0"/>
                      </a:lnTo>
                      <a:lnTo>
                        <a:pt x="236" y="0"/>
                      </a:lnTo>
                      <a:lnTo>
                        <a:pt x="234" y="0"/>
                      </a:lnTo>
                      <a:lnTo>
                        <a:pt x="233" y="0"/>
                      </a:lnTo>
                      <a:lnTo>
                        <a:pt x="231" y="0"/>
                      </a:lnTo>
                      <a:lnTo>
                        <a:pt x="230" y="0"/>
                      </a:lnTo>
                      <a:lnTo>
                        <a:pt x="228" y="0"/>
                      </a:lnTo>
                      <a:lnTo>
                        <a:pt x="227" y="0"/>
                      </a:lnTo>
                      <a:lnTo>
                        <a:pt x="226" y="0"/>
                      </a:lnTo>
                      <a:lnTo>
                        <a:pt x="224" y="0"/>
                      </a:lnTo>
                      <a:lnTo>
                        <a:pt x="223" y="0"/>
                      </a:lnTo>
                      <a:lnTo>
                        <a:pt x="221" y="0"/>
                      </a:lnTo>
                      <a:lnTo>
                        <a:pt x="220" y="0"/>
                      </a:lnTo>
                      <a:lnTo>
                        <a:pt x="217" y="0"/>
                      </a:lnTo>
                      <a:lnTo>
                        <a:pt x="216" y="0"/>
                      </a:lnTo>
                      <a:lnTo>
                        <a:pt x="215" y="0"/>
                      </a:lnTo>
                      <a:lnTo>
                        <a:pt x="213" y="0"/>
                      </a:lnTo>
                      <a:lnTo>
                        <a:pt x="212" y="1"/>
                      </a:lnTo>
                      <a:lnTo>
                        <a:pt x="210" y="1"/>
                      </a:lnTo>
                      <a:lnTo>
                        <a:pt x="209" y="1"/>
                      </a:lnTo>
                      <a:lnTo>
                        <a:pt x="207" y="1"/>
                      </a:lnTo>
                      <a:lnTo>
                        <a:pt x="206" y="1"/>
                      </a:lnTo>
                      <a:lnTo>
                        <a:pt x="204" y="1"/>
                      </a:lnTo>
                      <a:lnTo>
                        <a:pt x="203" y="1"/>
                      </a:lnTo>
                      <a:lnTo>
                        <a:pt x="202" y="1"/>
                      </a:lnTo>
                      <a:lnTo>
                        <a:pt x="199" y="1"/>
                      </a:lnTo>
                      <a:lnTo>
                        <a:pt x="198" y="1"/>
                      </a:lnTo>
                      <a:lnTo>
                        <a:pt x="196" y="1"/>
                      </a:lnTo>
                      <a:lnTo>
                        <a:pt x="195" y="1"/>
                      </a:lnTo>
                      <a:lnTo>
                        <a:pt x="193" y="1"/>
                      </a:lnTo>
                      <a:lnTo>
                        <a:pt x="192" y="1"/>
                      </a:lnTo>
                      <a:lnTo>
                        <a:pt x="190" y="2"/>
                      </a:lnTo>
                      <a:lnTo>
                        <a:pt x="189" y="2"/>
                      </a:lnTo>
                      <a:lnTo>
                        <a:pt x="188" y="2"/>
                      </a:lnTo>
                      <a:lnTo>
                        <a:pt x="186" y="2"/>
                      </a:lnTo>
                      <a:lnTo>
                        <a:pt x="185" y="2"/>
                      </a:lnTo>
                      <a:lnTo>
                        <a:pt x="183" y="2"/>
                      </a:lnTo>
                      <a:lnTo>
                        <a:pt x="182" y="2"/>
                      </a:lnTo>
                      <a:lnTo>
                        <a:pt x="179" y="2"/>
                      </a:lnTo>
                      <a:lnTo>
                        <a:pt x="178" y="2"/>
                      </a:lnTo>
                      <a:lnTo>
                        <a:pt x="176" y="3"/>
                      </a:lnTo>
                      <a:lnTo>
                        <a:pt x="175" y="3"/>
                      </a:lnTo>
                      <a:lnTo>
                        <a:pt x="174" y="3"/>
                      </a:lnTo>
                      <a:lnTo>
                        <a:pt x="172" y="3"/>
                      </a:lnTo>
                      <a:lnTo>
                        <a:pt x="171" y="3"/>
                      </a:lnTo>
                      <a:lnTo>
                        <a:pt x="169" y="3"/>
                      </a:lnTo>
                      <a:lnTo>
                        <a:pt x="168" y="3"/>
                      </a:lnTo>
                      <a:lnTo>
                        <a:pt x="166" y="4"/>
                      </a:lnTo>
                      <a:lnTo>
                        <a:pt x="165" y="4"/>
                      </a:lnTo>
                      <a:lnTo>
                        <a:pt x="162" y="4"/>
                      </a:lnTo>
                      <a:lnTo>
                        <a:pt x="161" y="4"/>
                      </a:lnTo>
                      <a:lnTo>
                        <a:pt x="160" y="4"/>
                      </a:lnTo>
                      <a:lnTo>
                        <a:pt x="158" y="5"/>
                      </a:lnTo>
                      <a:lnTo>
                        <a:pt x="157" y="5"/>
                      </a:lnTo>
                      <a:lnTo>
                        <a:pt x="155" y="5"/>
                      </a:lnTo>
                      <a:lnTo>
                        <a:pt x="154" y="5"/>
                      </a:lnTo>
                      <a:lnTo>
                        <a:pt x="152" y="5"/>
                      </a:lnTo>
                      <a:lnTo>
                        <a:pt x="151" y="5"/>
                      </a:lnTo>
                      <a:lnTo>
                        <a:pt x="149" y="6"/>
                      </a:lnTo>
                      <a:lnTo>
                        <a:pt x="148" y="6"/>
                      </a:lnTo>
                      <a:lnTo>
                        <a:pt x="147" y="6"/>
                      </a:lnTo>
                      <a:lnTo>
                        <a:pt x="144" y="6"/>
                      </a:lnTo>
                      <a:lnTo>
                        <a:pt x="143" y="7"/>
                      </a:lnTo>
                      <a:lnTo>
                        <a:pt x="141" y="7"/>
                      </a:lnTo>
                      <a:lnTo>
                        <a:pt x="140" y="7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5" y="8"/>
                      </a:lnTo>
                      <a:lnTo>
                        <a:pt x="134" y="8"/>
                      </a:lnTo>
                      <a:lnTo>
                        <a:pt x="133" y="9"/>
                      </a:lnTo>
                      <a:lnTo>
                        <a:pt x="131" y="9"/>
                      </a:lnTo>
                      <a:lnTo>
                        <a:pt x="130" y="10"/>
                      </a:lnTo>
                      <a:lnTo>
                        <a:pt x="128" y="10"/>
                      </a:lnTo>
                      <a:lnTo>
                        <a:pt x="126" y="10"/>
                      </a:lnTo>
                      <a:lnTo>
                        <a:pt x="124" y="10"/>
                      </a:lnTo>
                      <a:lnTo>
                        <a:pt x="123" y="11"/>
                      </a:lnTo>
                      <a:lnTo>
                        <a:pt x="121" y="11"/>
                      </a:lnTo>
                      <a:lnTo>
                        <a:pt x="120" y="12"/>
                      </a:lnTo>
                      <a:lnTo>
                        <a:pt x="119" y="12"/>
                      </a:lnTo>
                      <a:lnTo>
                        <a:pt x="117" y="12"/>
                      </a:lnTo>
                      <a:lnTo>
                        <a:pt x="116" y="13"/>
                      </a:lnTo>
                      <a:lnTo>
                        <a:pt x="114" y="13"/>
                      </a:lnTo>
                      <a:lnTo>
                        <a:pt x="113" y="14"/>
                      </a:lnTo>
                      <a:lnTo>
                        <a:pt x="111" y="14"/>
                      </a:lnTo>
                      <a:lnTo>
                        <a:pt x="110" y="15"/>
                      </a:lnTo>
                      <a:lnTo>
                        <a:pt x="107" y="15"/>
                      </a:lnTo>
                      <a:lnTo>
                        <a:pt x="106" y="15"/>
                      </a:lnTo>
                      <a:lnTo>
                        <a:pt x="105" y="16"/>
                      </a:lnTo>
                      <a:lnTo>
                        <a:pt x="103" y="16"/>
                      </a:lnTo>
                      <a:lnTo>
                        <a:pt x="102" y="17"/>
                      </a:lnTo>
                      <a:lnTo>
                        <a:pt x="100" y="18"/>
                      </a:lnTo>
                      <a:lnTo>
                        <a:pt x="99" y="18"/>
                      </a:lnTo>
                      <a:lnTo>
                        <a:pt x="97" y="19"/>
                      </a:lnTo>
                      <a:lnTo>
                        <a:pt x="96" y="19"/>
                      </a:lnTo>
                      <a:lnTo>
                        <a:pt x="94" y="20"/>
                      </a:lnTo>
                      <a:lnTo>
                        <a:pt x="93" y="21"/>
                      </a:lnTo>
                      <a:lnTo>
                        <a:pt x="92" y="21"/>
                      </a:lnTo>
                      <a:lnTo>
                        <a:pt x="89" y="22"/>
                      </a:lnTo>
                      <a:lnTo>
                        <a:pt x="88" y="22"/>
                      </a:lnTo>
                      <a:lnTo>
                        <a:pt x="86" y="23"/>
                      </a:lnTo>
                      <a:lnTo>
                        <a:pt x="85" y="24"/>
                      </a:lnTo>
                      <a:lnTo>
                        <a:pt x="83" y="24"/>
                      </a:lnTo>
                      <a:lnTo>
                        <a:pt x="82" y="25"/>
                      </a:lnTo>
                      <a:lnTo>
                        <a:pt x="80" y="26"/>
                      </a:lnTo>
                      <a:lnTo>
                        <a:pt x="79" y="26"/>
                      </a:lnTo>
                      <a:lnTo>
                        <a:pt x="78" y="27"/>
                      </a:lnTo>
                      <a:lnTo>
                        <a:pt x="76" y="28"/>
                      </a:lnTo>
                      <a:lnTo>
                        <a:pt x="75" y="29"/>
                      </a:lnTo>
                      <a:lnTo>
                        <a:pt x="73" y="30"/>
                      </a:lnTo>
                      <a:lnTo>
                        <a:pt x="72" y="31"/>
                      </a:lnTo>
                      <a:lnTo>
                        <a:pt x="69" y="31"/>
                      </a:lnTo>
                      <a:lnTo>
                        <a:pt x="68" y="32"/>
                      </a:lnTo>
                      <a:lnTo>
                        <a:pt x="67" y="33"/>
                      </a:lnTo>
                      <a:lnTo>
                        <a:pt x="65" y="34"/>
                      </a:lnTo>
                      <a:lnTo>
                        <a:pt x="64" y="35"/>
                      </a:lnTo>
                      <a:lnTo>
                        <a:pt x="62" y="36"/>
                      </a:lnTo>
                      <a:lnTo>
                        <a:pt x="61" y="37"/>
                      </a:lnTo>
                      <a:lnTo>
                        <a:pt x="59" y="38"/>
                      </a:lnTo>
                      <a:lnTo>
                        <a:pt x="58" y="39"/>
                      </a:lnTo>
                      <a:lnTo>
                        <a:pt x="56" y="40"/>
                      </a:lnTo>
                      <a:lnTo>
                        <a:pt x="55" y="42"/>
                      </a:lnTo>
                      <a:lnTo>
                        <a:pt x="54" y="43"/>
                      </a:lnTo>
                      <a:lnTo>
                        <a:pt x="51" y="44"/>
                      </a:lnTo>
                      <a:lnTo>
                        <a:pt x="50" y="45"/>
                      </a:lnTo>
                      <a:lnTo>
                        <a:pt x="48" y="46"/>
                      </a:lnTo>
                      <a:lnTo>
                        <a:pt x="47" y="48"/>
                      </a:lnTo>
                      <a:lnTo>
                        <a:pt x="45" y="49"/>
                      </a:lnTo>
                      <a:lnTo>
                        <a:pt x="44" y="50"/>
                      </a:lnTo>
                      <a:lnTo>
                        <a:pt x="42" y="52"/>
                      </a:lnTo>
                      <a:lnTo>
                        <a:pt x="41" y="53"/>
                      </a:lnTo>
                      <a:lnTo>
                        <a:pt x="40" y="55"/>
                      </a:lnTo>
                      <a:lnTo>
                        <a:pt x="38" y="56"/>
                      </a:lnTo>
                      <a:lnTo>
                        <a:pt x="37" y="57"/>
                      </a:lnTo>
                      <a:lnTo>
                        <a:pt x="34" y="59"/>
                      </a:lnTo>
                      <a:lnTo>
                        <a:pt x="33" y="61"/>
                      </a:lnTo>
                      <a:lnTo>
                        <a:pt x="31" y="62"/>
                      </a:lnTo>
                      <a:lnTo>
                        <a:pt x="30" y="64"/>
                      </a:lnTo>
                      <a:lnTo>
                        <a:pt x="28" y="66"/>
                      </a:lnTo>
                      <a:lnTo>
                        <a:pt x="27" y="68"/>
                      </a:lnTo>
                      <a:lnTo>
                        <a:pt x="26" y="69"/>
                      </a:lnTo>
                      <a:lnTo>
                        <a:pt x="24" y="71"/>
                      </a:lnTo>
                      <a:lnTo>
                        <a:pt x="23" y="73"/>
                      </a:lnTo>
                      <a:lnTo>
                        <a:pt x="21" y="75"/>
                      </a:lnTo>
                      <a:lnTo>
                        <a:pt x="20" y="77"/>
                      </a:lnTo>
                      <a:lnTo>
                        <a:pt x="18" y="78"/>
                      </a:lnTo>
                      <a:lnTo>
                        <a:pt x="16" y="80"/>
                      </a:lnTo>
                      <a:lnTo>
                        <a:pt x="14" y="83"/>
                      </a:lnTo>
                      <a:lnTo>
                        <a:pt x="13" y="84"/>
                      </a:lnTo>
                      <a:lnTo>
                        <a:pt x="12" y="87"/>
                      </a:lnTo>
                      <a:lnTo>
                        <a:pt x="10" y="89"/>
                      </a:lnTo>
                      <a:lnTo>
                        <a:pt x="9" y="91"/>
                      </a:lnTo>
                      <a:lnTo>
                        <a:pt x="7" y="93"/>
                      </a:lnTo>
                      <a:lnTo>
                        <a:pt x="6" y="95"/>
                      </a:lnTo>
                      <a:lnTo>
                        <a:pt x="4" y="98"/>
                      </a:lnTo>
                      <a:lnTo>
                        <a:pt x="3" y="100"/>
                      </a:lnTo>
                      <a:lnTo>
                        <a:pt x="1" y="102"/>
                      </a:lnTo>
                      <a:lnTo>
                        <a:pt x="0" y="105"/>
                      </a:lnTo>
                    </a:path>
                  </a:pathLst>
                </a:custGeom>
                <a:noFill/>
                <a:ln cap="rnd" w="25560">
                  <a:solidFill>
                    <a:srgbClr val="99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" name=""/>
            <p:cNvSpPr/>
            <p:nvPr/>
          </p:nvSpPr>
          <p:spPr>
            <a:xfrm>
              <a:off x="3898800" y="6075360"/>
              <a:ext cx="1291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0"/>
                  </a:solidFill>
                  <a:latin typeface="Times New Roman"/>
                </a:rPr>
                <a:t>alias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08F0-2B8B-4E1A-9EAC-F69F43CC2B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49280" y="417240"/>
            <a:ext cx="77709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Metoda jednakog impulsnog odziv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2280" y="1878120"/>
            <a:ext cx="8034120" cy="36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fff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e postoji analogni filtar čija je prijenosna karakteristika frekvencijski ograniče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fff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 praksi, ako je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i="1" lang="hr-HR" sz="32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)|</a:t>
            </a:r>
            <a:r>
              <a:rPr b="0" lang="hr-HR" sz="3200" spc="-1" strike="noStrike">
                <a:solidFill>
                  <a:srgbClr val="ffff00"/>
                </a:solidFill>
                <a:latin typeface="Symbol"/>
                <a:ea typeface="Symbol"/>
              </a:rPr>
              <a:t>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3200" spc="-1" strike="noStrike" baseline="-25000">
                <a:solidFill>
                  <a:srgbClr val="ffff00"/>
                </a:solidFill>
                <a:latin typeface="Times New Roman"/>
              </a:rPr>
              <a:t>max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za </a:t>
            </a:r>
            <a:r>
              <a:rPr b="0" lang="hr-HR" sz="3200" spc="-1" strike="noStrike">
                <a:solidFill>
                  <a:srgbClr val="ffff00"/>
                </a:solidFill>
                <a:latin typeface="Symbol"/>
                <a:ea typeface="Symbol"/>
              </a:rPr>
              <a:t>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gdje je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=max(|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hr-HR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)|) u intervalu 0</a:t>
            </a:r>
            <a:r>
              <a:rPr b="0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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može se smatrati da je prijenosna karakteristika “dovoljno” ograniče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E576-3D2D-4F91-9C29-62578970E4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630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Metoda jednakog impulsnog odziv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1480" y="1636200"/>
            <a:ext cx="8637480" cy="19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etoda jednakog impulsnog odziva nije pogodna za projektiranje filtra ako prototipni analogni filtar nema frekvencijski ograničenu prijenosnu karakteristiku, kao što je npr. slučaj s visokopropusnim analognim filtr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76040" y="3370320"/>
            <a:ext cx="8637840" cy="3486240"/>
            <a:chOff x="176040" y="3370320"/>
            <a:chExt cx="8637840" cy="3486240"/>
          </a:xfrm>
        </p:grpSpPr>
        <p:sp>
          <p:nvSpPr>
            <p:cNvPr id="281" name=""/>
            <p:cNvSpPr/>
            <p:nvPr/>
          </p:nvSpPr>
          <p:spPr>
            <a:xfrm>
              <a:off x="176040" y="3370320"/>
              <a:ext cx="863784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fffe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Ako želimo projektirati digitalni filtar čija frekvencijska karakteristika odgovara frekvencijskoj karakteristici analognog filtra do frekvencije </a:t>
              </a:r>
              <a:r>
                <a:rPr b="0" lang="hr-HR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hr-HR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, potrebno je odabrati tzv. “guard filter” 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hr-HR" sz="2800" spc="-1" strike="noStrike" baseline="-25000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) takav da je produkt 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hr-HR" sz="28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hr-HR" sz="2800" spc="-1" strike="noStrike" baseline="-25000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) frekvencijski ograničen i da vrijed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1967760" y="5450040"/>
                  <a:ext cx="5748480" cy="14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m>
                            <m:m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  <m:r>
                                  <m:t xml:space="preserve">»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a</m:t>
                                </m:r>
                              </m:e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&lt;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  <m:r>
                                  <m:t xml:space="preserve">»</m:t>
                                </m:r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za</m:t>
                                </m:r>
                              </m:e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³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40D5-9C41-4BFE-8338-E418608DF0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Metoda jednakog impulsnog odziv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1880" y="2286000"/>
            <a:ext cx="8537760" cy="29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buClr>
                <a:srgbClr val="00fff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oda projektiranja IIR filtra transformacijom prijenosne funkcije prototipnog analognog filt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fff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f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novna ideja: naći IIR prijenosnu funkciju čiji je impulsni odziv jednak jednoliko otipkanom impulsnom odzivu prototipnog analognog filt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EE0A-8509-4126-9E0C-F844B328F1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80960" y="357120"/>
            <a:ext cx="749952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e"/>
                </a:solidFill>
                <a:latin typeface="Times New Roman"/>
              </a:rPr>
              <a:t>Projektiranje digitalnog filtra metodom jednakog impulsnog odziva</a:t>
            </a:r>
            <a:endParaRPr b="0" i="1" lang="en-US" sz="4000" spc="-1" strike="noStrike">
              <a:solidFill>
                <a:srgbClr val="00fffe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36600" y="2013120"/>
            <a:ext cx="8628120" cy="1350720"/>
            <a:chOff x="336600" y="2013120"/>
            <a:chExt cx="8628120" cy="1350720"/>
          </a:xfrm>
        </p:grpSpPr>
        <p:sp>
          <p:nvSpPr>
            <p:cNvPr id="285" name=""/>
            <p:cNvSpPr/>
            <p:nvPr/>
          </p:nvSpPr>
          <p:spPr>
            <a:xfrm>
              <a:off x="336600" y="2013120"/>
              <a:ext cx="862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ko je prijenosna funkcija prototipnog analognog filtra racionalna funkcij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3741840" y="2502000"/>
                  <a:ext cx="163692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num>
                        <m:den>
                          <m:r>
                            <m:t xml:space="preserve">A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-47520" y="3489480"/>
            <a:ext cx="7450200" cy="1536480"/>
            <a:chOff x="-47520" y="3489480"/>
            <a:chExt cx="7450200" cy="1536480"/>
          </a:xfrm>
        </p:grpSpPr>
        <p:sp>
          <p:nvSpPr>
            <p:cNvPr id="288" name=""/>
            <p:cNvSpPr/>
            <p:nvPr/>
          </p:nvSpPr>
          <p:spPr>
            <a:xfrm>
              <a:off x="-47520" y="3489480"/>
              <a:ext cx="7450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 se može napisati u obliku sume parcijalnih razlomak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3399840" y="4121280"/>
                  <a:ext cx="2042640" cy="90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311040" y="5084640"/>
            <a:ext cx="8494920" cy="1535400"/>
            <a:chOff x="311040" y="5084640"/>
            <a:chExt cx="8494920" cy="1535400"/>
          </a:xfrm>
        </p:grpSpPr>
        <p:sp>
          <p:nvSpPr>
            <p:cNvPr id="291" name=""/>
            <p:cNvSpPr/>
            <p:nvPr/>
          </p:nvSpPr>
          <p:spPr>
            <a:xfrm>
              <a:off x="311040" y="5084640"/>
              <a:ext cx="8494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Impulsni odziv filtra se dobije inverznom Laplace-ovom transformacijom</a:t>
              </a:r>
              <a:r>
                <a:rPr b="0" lang="hr-HR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411720" y="5705640"/>
                  <a:ext cx="21114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9E63-0D72-4499-A08D-D73F0BFBE8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82400" y="40464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ojektiranje ...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42920" y="1928880"/>
            <a:ext cx="8924760" cy="1790640"/>
            <a:chOff x="142920" y="1928880"/>
            <a:chExt cx="8924760" cy="1790640"/>
          </a:xfrm>
        </p:grpSpPr>
        <p:sp>
          <p:nvSpPr>
            <p:cNvPr id="295" name=""/>
            <p:cNvSpPr/>
            <p:nvPr/>
          </p:nvSpPr>
          <p:spPr>
            <a:xfrm>
              <a:off x="142920" y="1928880"/>
              <a:ext cx="8924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Impulsni odziv digitalnog filtra dobijemo otipkavanjem impulsnog odziva analognog filtra svakih 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2388960" y="2824200"/>
                  <a:ext cx="402768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nT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7" name=""/>
          <p:cNvGrpSpPr/>
          <p:nvPr/>
        </p:nvGrpSpPr>
        <p:grpSpPr>
          <a:xfrm>
            <a:off x="135720" y="4049640"/>
            <a:ext cx="7745760" cy="1462320"/>
            <a:chOff x="135720" y="4049640"/>
            <a:chExt cx="7745760" cy="1462320"/>
          </a:xfrm>
        </p:grpSpPr>
        <p:sp>
          <p:nvSpPr>
            <p:cNvPr id="298" name=""/>
            <p:cNvSpPr/>
            <p:nvPr/>
          </p:nvSpPr>
          <p:spPr>
            <a:xfrm>
              <a:off x="135720" y="4049640"/>
              <a:ext cx="469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transformacija impulsnog odziva j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99" name=""/>
            <p:cNvGraphicFramePr/>
            <p:nvPr/>
          </p:nvGraphicFramePr>
          <p:xfrm>
            <a:off x="1043640" y="4572000"/>
            <a:ext cx="6837840" cy="93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3640" y="4572000"/>
                      <a:ext cx="6837840" cy="93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"/>
          <p:cNvSpPr/>
          <p:nvPr/>
        </p:nvSpPr>
        <p:spPr>
          <a:xfrm>
            <a:off x="71280" y="5810400"/>
            <a:ext cx="914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bili smo racionalnu funkciju p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i to je prijenosna funkcija digitalnog filt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D4D7-6D48-4007-A9F6-CE47306238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8240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ojektiranje ...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1125360"/>
            <a:ext cx="82296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rnje jednadžbe vrijede ako prijenosna funkcija analognog filtra ima jednostruke polove. U slučaju dvostrukih polova, tj. ako se pri rastavu prijenosne funkcije analognog filtra na parcijalne razlomke pojavi član oblika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637240" y="3227400"/>
          <a:ext cx="1382760" cy="13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7240" y="3227400"/>
                    <a:ext cx="138276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300640" y="5300640"/>
          <a:ext cx="207972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0640" y="5300640"/>
                    <a:ext cx="207972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11280" y="45813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govarajući član u prijenosnoj funkciji digitalnog filtra ima obli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50EF-EF30-45E5-AB91-82D6B25773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8240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ojektiranje ...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1413000"/>
            <a:ext cx="77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 slučaju pola (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+1)-og reda, tj. parcijalnog razlomka oblik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419640" y="2637000"/>
          <a:ext cx="152532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637000"/>
                    <a:ext cx="152532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490680" y="4149720"/>
            <a:ext cx="818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govarajući član prijenosne funkcije digitalnog filtra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411280" y="5157720"/>
          <a:ext cx="4459320" cy="11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5157720"/>
                    <a:ext cx="44593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F747-3723-4898-866F-B4F355C0B1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ojektiranje ...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11280" y="1413000"/>
            <a:ext cx="7848360" cy="1203120"/>
            <a:chOff x="611280" y="1413000"/>
            <a:chExt cx="7848360" cy="1203120"/>
          </a:xfrm>
        </p:grpSpPr>
        <p:sp>
          <p:nvSpPr>
            <p:cNvPr id="318" name=""/>
            <p:cNvSpPr/>
            <p:nvPr/>
          </p:nvSpPr>
          <p:spPr>
            <a:xfrm>
              <a:off x="611280" y="1413000"/>
              <a:ext cx="7848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Za slučaj analognog filtra s kompleksnim parom polov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9" name=""/>
            <p:cNvGraphicFramePr/>
            <p:nvPr/>
          </p:nvGraphicFramePr>
          <p:xfrm>
            <a:off x="3132000" y="1989000"/>
            <a:ext cx="2130480" cy="627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32000" y="1989000"/>
                      <a:ext cx="2130480" cy="62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1" name=""/>
            <p:cNvSpPr/>
            <p:nvPr/>
          </p:nvSpPr>
          <p:spPr>
            <a:xfrm>
              <a:off x="5300280" y="1913040"/>
              <a:ext cx="1361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rijedi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00840" y="2708280"/>
            <a:ext cx="6332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o je analogna prijenosna funkci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268360" y="3213000"/>
          <a:ext cx="321012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13000"/>
                    <a:ext cx="321012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804960" y="4437000"/>
            <a:ext cx="808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italna prijenosna funkcija dobivena metodom jednakog impulsnog odziva j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35280" y="5589720"/>
          <a:ext cx="5470560" cy="10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5589720"/>
                    <a:ext cx="54705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A049-E6D0-4022-B2A3-511AB91ED5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ojektiranje ...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61200" y="1773360"/>
            <a:ext cx="6332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o je analogna prijenosna funkci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556000" y="2492280"/>
          <a:ext cx="320976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492280"/>
                    <a:ext cx="32097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1163520" y="3786120"/>
            <a:ext cx="772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govarajuća digitalna prijenosna funkcija j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908000" y="4797360"/>
          <a:ext cx="5470560" cy="109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797360"/>
                    <a:ext cx="54705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1A26-B25F-467F-91B3-A5CD5602DF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- projektiranje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4960" y="1563840"/>
            <a:ext cx="858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ka je prijenosna funkcija analognog filtra dana 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788000" y="2133720"/>
          <a:ext cx="421776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133720"/>
                    <a:ext cx="42177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-16920" y="2554200"/>
            <a:ext cx="8198640" cy="4294800"/>
            <a:chOff x="-16920" y="2554200"/>
            <a:chExt cx="8198640" cy="4294800"/>
          </a:xfrm>
        </p:grpSpPr>
        <p:sp>
          <p:nvSpPr>
            <p:cNvPr id="340" name=""/>
            <p:cNvSpPr/>
            <p:nvPr/>
          </p:nvSpPr>
          <p:spPr>
            <a:xfrm>
              <a:off x="-16920" y="6340320"/>
              <a:ext cx="8198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Amplitudno-frekvencijska karakteristika analognog filtra |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hr-HR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)|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772280" y="2554200"/>
              <a:ext cx="4046040" cy="3780360"/>
              <a:chOff x="1772280" y="2554200"/>
              <a:chExt cx="4046040" cy="3780360"/>
            </a:xfrm>
          </p:grpSpPr>
          <p:sp>
            <p:nvSpPr>
              <p:cNvPr id="342" name=""/>
              <p:cNvSpPr/>
              <p:nvPr/>
            </p:nvSpPr>
            <p:spPr>
              <a:xfrm>
                <a:off x="1772280" y="59133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429280" y="593712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075120" y="59133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17720" y="59133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8680" y="592452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49640" y="5924520"/>
                <a:ext cx="441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98560" y="5442120"/>
                <a:ext cx="419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938960" y="2554200"/>
                <a:ext cx="11394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Times New Roman"/>
                  </a:rPr>
                  <a:t>|</a:t>
                </a:r>
                <a:r>
                  <a:rPr b="0" i="1" lang="hr-HR" sz="2400" spc="-1" strike="noStrike">
                    <a:solidFill>
                      <a:srgbClr val="ffff00"/>
                    </a:solidFill>
                    <a:latin typeface="Times New Roman"/>
                  </a:rPr>
                  <a:t>H</a:t>
                </a:r>
                <a:r>
                  <a:rPr b="0" i="1" lang="hr-HR" sz="2400" spc="-1" strike="noStrike" baseline="-25000">
                    <a:solidFill>
                      <a:srgbClr val="ffff00"/>
                    </a:solidFill>
                    <a:latin typeface="Times New Roman"/>
                  </a:rPr>
                  <a:t>a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Times New Roman"/>
                  </a:rPr>
                  <a:t>(</a:t>
                </a:r>
                <a:r>
                  <a:rPr b="0" i="1" lang="hr-HR" sz="2400" spc="-1" strike="noStrike">
                    <a:solidFill>
                      <a:srgbClr val="ffff00"/>
                    </a:solidFill>
                    <a:latin typeface="Times New Roman"/>
                  </a:rPr>
                  <a:t>j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Times New Roman"/>
                  </a:rPr>
                  <a:t>)|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1914120" y="2833560"/>
                <a:ext cx="3771360" cy="3094200"/>
                <a:chOff x="1914120" y="2833560"/>
                <a:chExt cx="3771360" cy="3094200"/>
              </a:xfrm>
            </p:grpSpPr>
            <p:sp>
              <p:nvSpPr>
                <p:cNvPr id="351" name=""/>
                <p:cNvSpPr/>
                <p:nvPr/>
              </p:nvSpPr>
              <p:spPr>
                <a:xfrm flipV="1">
                  <a:off x="1914120" y="3165480"/>
                  <a:ext cx="0" cy="2760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2564640" y="3165480"/>
                  <a:ext cx="0" cy="2760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3207600" y="3165480"/>
                  <a:ext cx="0" cy="2760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V="1">
                  <a:off x="3856680" y="3165480"/>
                  <a:ext cx="0" cy="2760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4500000" y="3165480"/>
                  <a:ext cx="0" cy="2760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5150520" y="3165480"/>
                  <a:ext cx="0" cy="2760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914120" y="5925960"/>
                  <a:ext cx="3236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914120" y="5375160"/>
                  <a:ext cx="3236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914120" y="4826160"/>
                  <a:ext cx="3236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914120" y="4267080"/>
                  <a:ext cx="3236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914120" y="3716280"/>
                  <a:ext cx="3236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914120" y="3165480"/>
                  <a:ext cx="3236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914120" y="3165480"/>
                  <a:ext cx="3237840" cy="2762280"/>
                </a:xfrm>
                <a:custGeom>
                  <a:avLst/>
                  <a:gdLst/>
                  <a:ahLst/>
                  <a:rect l="l" t="t" r="r" b="b"/>
                  <a:pathLst>
                    <a:path w="2210" h="1740">
                      <a:moveTo>
                        <a:pt x="0" y="1739"/>
                      </a:moveTo>
                      <a:lnTo>
                        <a:pt x="0" y="0"/>
                      </a:lnTo>
                      <a:lnTo>
                        <a:pt x="2209" y="0"/>
                      </a:lnTo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914120" y="3165480"/>
                  <a:ext cx="3237840" cy="2762280"/>
                </a:xfrm>
                <a:custGeom>
                  <a:avLst/>
                  <a:gdLst/>
                  <a:ahLst/>
                  <a:rect l="l" t="t" r="r" b="b"/>
                  <a:pathLst>
                    <a:path w="2210" h="1740">
                      <a:moveTo>
                        <a:pt x="0" y="1739"/>
                      </a:moveTo>
                      <a:lnTo>
                        <a:pt x="0" y="0"/>
                      </a:lnTo>
                      <a:lnTo>
                        <a:pt x="2209" y="0"/>
                      </a:lnTo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914120" y="3165480"/>
                  <a:ext cx="3237840" cy="2762280"/>
                </a:xfrm>
                <a:custGeom>
                  <a:avLst/>
                  <a:gdLst/>
                  <a:ahLst/>
                  <a:rect l="l" t="t" r="r" b="b"/>
                  <a:pathLst>
                    <a:path w="2210" h="1740">
                      <a:moveTo>
                        <a:pt x="0" y="1739"/>
                      </a:moveTo>
                      <a:lnTo>
                        <a:pt x="0" y="0"/>
                      </a:lnTo>
                      <a:lnTo>
                        <a:pt x="2209" y="0"/>
                      </a:lnTo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914120" y="5925960"/>
                  <a:ext cx="3236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914120" y="3165480"/>
                  <a:ext cx="3236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1914120" y="3165480"/>
                  <a:ext cx="0" cy="2760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5150520" y="3165480"/>
                  <a:ext cx="0" cy="2760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914120" y="3165480"/>
                  <a:ext cx="23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914120" y="5925960"/>
                  <a:ext cx="3236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V="1">
                  <a:off x="1914120" y="3165480"/>
                  <a:ext cx="0" cy="2760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914120" y="5925960"/>
                  <a:ext cx="23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1914120" y="5894280"/>
                  <a:ext cx="0" cy="316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914120" y="3165480"/>
                  <a:ext cx="0" cy="33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2564640" y="5894280"/>
                  <a:ext cx="0" cy="316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564640" y="3165480"/>
                  <a:ext cx="0" cy="33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3207600" y="5894280"/>
                  <a:ext cx="0" cy="316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207600" y="3165480"/>
                  <a:ext cx="0" cy="33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3856680" y="5894280"/>
                  <a:ext cx="0" cy="316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56680" y="3165480"/>
                  <a:ext cx="0" cy="33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4500000" y="5894280"/>
                  <a:ext cx="0" cy="316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500000" y="3165480"/>
                  <a:ext cx="0" cy="33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5150520" y="5894280"/>
                  <a:ext cx="0" cy="316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50520" y="3165480"/>
                  <a:ext cx="0" cy="33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914120" y="5925960"/>
                  <a:ext cx="306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5119920" y="592596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914120" y="5375160"/>
                  <a:ext cx="306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5119920" y="537516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914120" y="4826160"/>
                  <a:ext cx="306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>
                  <a:off x="5119920" y="482616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914120" y="4267080"/>
                  <a:ext cx="306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5119920" y="426708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914120" y="3716280"/>
                  <a:ext cx="306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5119920" y="371628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914120" y="3165480"/>
                  <a:ext cx="306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5119920" y="316548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914120" y="5925960"/>
                  <a:ext cx="377136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914120" y="3165480"/>
                  <a:ext cx="3236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1914120" y="2833560"/>
                  <a:ext cx="0" cy="309240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5150520" y="3165480"/>
                  <a:ext cx="0" cy="27604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914120" y="5925960"/>
                  <a:ext cx="23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36320" y="5925960"/>
                  <a:ext cx="234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944720" y="3165480"/>
                  <a:ext cx="3206880" cy="2616120"/>
                </a:xfrm>
                <a:custGeom>
                  <a:avLst/>
                  <a:gdLst/>
                  <a:ahLst/>
                  <a:rect l="l" t="t" r="r" b="b"/>
                  <a:pathLst>
                    <a:path w="2189" h="1648">
                      <a:moveTo>
                        <a:pt x="0" y="531"/>
                      </a:moveTo>
                      <a:lnTo>
                        <a:pt x="5" y="531"/>
                      </a:lnTo>
                      <a:lnTo>
                        <a:pt x="10" y="531"/>
                      </a:lnTo>
                      <a:lnTo>
                        <a:pt x="10" y="525"/>
                      </a:lnTo>
                      <a:lnTo>
                        <a:pt x="15" y="525"/>
                      </a:lnTo>
                      <a:lnTo>
                        <a:pt x="20" y="525"/>
                      </a:lnTo>
                      <a:lnTo>
                        <a:pt x="25" y="525"/>
                      </a:lnTo>
                      <a:lnTo>
                        <a:pt x="25" y="520"/>
                      </a:lnTo>
                      <a:lnTo>
                        <a:pt x="30" y="520"/>
                      </a:lnTo>
                      <a:lnTo>
                        <a:pt x="35" y="520"/>
                      </a:lnTo>
                      <a:lnTo>
                        <a:pt x="35" y="515"/>
                      </a:lnTo>
                      <a:lnTo>
                        <a:pt x="40" y="515"/>
                      </a:lnTo>
                      <a:lnTo>
                        <a:pt x="46" y="515"/>
                      </a:lnTo>
                      <a:lnTo>
                        <a:pt x="46" y="510"/>
                      </a:lnTo>
                      <a:lnTo>
                        <a:pt x="51" y="510"/>
                      </a:lnTo>
                      <a:lnTo>
                        <a:pt x="51" y="505"/>
                      </a:lnTo>
                      <a:lnTo>
                        <a:pt x="56" y="505"/>
                      </a:lnTo>
                      <a:lnTo>
                        <a:pt x="61" y="505"/>
                      </a:lnTo>
                      <a:lnTo>
                        <a:pt x="61" y="500"/>
                      </a:lnTo>
                      <a:lnTo>
                        <a:pt x="66" y="500"/>
                      </a:lnTo>
                      <a:lnTo>
                        <a:pt x="66" y="495"/>
                      </a:lnTo>
                      <a:lnTo>
                        <a:pt x="71" y="495"/>
                      </a:lnTo>
                      <a:lnTo>
                        <a:pt x="71" y="490"/>
                      </a:lnTo>
                      <a:lnTo>
                        <a:pt x="76" y="490"/>
                      </a:lnTo>
                      <a:lnTo>
                        <a:pt x="76" y="485"/>
                      </a:lnTo>
                      <a:lnTo>
                        <a:pt x="81" y="485"/>
                      </a:lnTo>
                      <a:lnTo>
                        <a:pt x="86" y="480"/>
                      </a:lnTo>
                      <a:lnTo>
                        <a:pt x="86" y="474"/>
                      </a:lnTo>
                      <a:lnTo>
                        <a:pt x="91" y="474"/>
                      </a:lnTo>
                      <a:lnTo>
                        <a:pt x="91" y="469"/>
                      </a:lnTo>
                      <a:lnTo>
                        <a:pt x="97" y="469"/>
                      </a:lnTo>
                      <a:lnTo>
                        <a:pt x="97" y="464"/>
                      </a:lnTo>
                      <a:lnTo>
                        <a:pt x="102" y="464"/>
                      </a:lnTo>
                      <a:lnTo>
                        <a:pt x="102" y="459"/>
                      </a:lnTo>
                      <a:lnTo>
                        <a:pt x="107" y="459"/>
                      </a:lnTo>
                      <a:lnTo>
                        <a:pt x="107" y="454"/>
                      </a:lnTo>
                      <a:lnTo>
                        <a:pt x="112" y="454"/>
                      </a:lnTo>
                      <a:lnTo>
                        <a:pt x="112" y="449"/>
                      </a:lnTo>
                      <a:lnTo>
                        <a:pt x="117" y="444"/>
                      </a:lnTo>
                      <a:lnTo>
                        <a:pt x="122" y="439"/>
                      </a:lnTo>
                      <a:lnTo>
                        <a:pt x="122" y="434"/>
                      </a:lnTo>
                      <a:lnTo>
                        <a:pt x="127" y="434"/>
                      </a:lnTo>
                      <a:lnTo>
                        <a:pt x="127" y="429"/>
                      </a:lnTo>
                      <a:lnTo>
                        <a:pt x="132" y="423"/>
                      </a:lnTo>
                      <a:lnTo>
                        <a:pt x="137" y="418"/>
                      </a:lnTo>
                      <a:lnTo>
                        <a:pt x="137" y="413"/>
                      </a:lnTo>
                      <a:lnTo>
                        <a:pt x="142" y="413"/>
                      </a:lnTo>
                      <a:lnTo>
                        <a:pt x="142" y="408"/>
                      </a:lnTo>
                      <a:lnTo>
                        <a:pt x="148" y="403"/>
                      </a:lnTo>
                      <a:lnTo>
                        <a:pt x="148" y="398"/>
                      </a:lnTo>
                      <a:lnTo>
                        <a:pt x="153" y="393"/>
                      </a:lnTo>
                      <a:lnTo>
                        <a:pt x="153" y="388"/>
                      </a:lnTo>
                      <a:lnTo>
                        <a:pt x="158" y="388"/>
                      </a:lnTo>
                      <a:lnTo>
                        <a:pt x="158" y="383"/>
                      </a:lnTo>
                      <a:lnTo>
                        <a:pt x="163" y="378"/>
                      </a:lnTo>
                      <a:lnTo>
                        <a:pt x="163" y="372"/>
                      </a:lnTo>
                      <a:lnTo>
                        <a:pt x="168" y="372"/>
                      </a:lnTo>
                      <a:lnTo>
                        <a:pt x="168" y="367"/>
                      </a:lnTo>
                      <a:lnTo>
                        <a:pt x="173" y="362"/>
                      </a:lnTo>
                      <a:lnTo>
                        <a:pt x="173" y="357"/>
                      </a:lnTo>
                      <a:lnTo>
                        <a:pt x="178" y="352"/>
                      </a:lnTo>
                      <a:lnTo>
                        <a:pt x="178" y="347"/>
                      </a:lnTo>
                      <a:lnTo>
                        <a:pt x="183" y="342"/>
                      </a:lnTo>
                      <a:lnTo>
                        <a:pt x="183" y="337"/>
                      </a:lnTo>
                      <a:lnTo>
                        <a:pt x="188" y="332"/>
                      </a:lnTo>
                      <a:lnTo>
                        <a:pt x="188" y="327"/>
                      </a:lnTo>
                      <a:lnTo>
                        <a:pt x="193" y="321"/>
                      </a:lnTo>
                      <a:lnTo>
                        <a:pt x="199" y="316"/>
                      </a:lnTo>
                      <a:lnTo>
                        <a:pt x="199" y="311"/>
                      </a:lnTo>
                      <a:lnTo>
                        <a:pt x="199" y="306"/>
                      </a:lnTo>
                      <a:lnTo>
                        <a:pt x="204" y="306"/>
                      </a:lnTo>
                      <a:lnTo>
                        <a:pt x="204" y="301"/>
                      </a:lnTo>
                      <a:lnTo>
                        <a:pt x="209" y="296"/>
                      </a:lnTo>
                      <a:lnTo>
                        <a:pt x="209" y="291"/>
                      </a:lnTo>
                      <a:lnTo>
                        <a:pt x="209" y="286"/>
                      </a:lnTo>
                      <a:lnTo>
                        <a:pt x="214" y="286"/>
                      </a:lnTo>
                      <a:lnTo>
                        <a:pt x="214" y="281"/>
                      </a:lnTo>
                      <a:lnTo>
                        <a:pt x="219" y="276"/>
                      </a:lnTo>
                      <a:lnTo>
                        <a:pt x="219" y="270"/>
                      </a:lnTo>
                      <a:lnTo>
                        <a:pt x="219" y="265"/>
                      </a:lnTo>
                      <a:lnTo>
                        <a:pt x="224" y="260"/>
                      </a:lnTo>
                      <a:lnTo>
                        <a:pt x="224" y="255"/>
                      </a:lnTo>
                      <a:lnTo>
                        <a:pt x="229" y="250"/>
                      </a:lnTo>
                      <a:lnTo>
                        <a:pt x="234" y="245"/>
                      </a:lnTo>
                      <a:lnTo>
                        <a:pt x="234" y="240"/>
                      </a:lnTo>
                      <a:lnTo>
                        <a:pt x="239" y="235"/>
                      </a:lnTo>
                      <a:lnTo>
                        <a:pt x="239" y="230"/>
                      </a:lnTo>
                      <a:lnTo>
                        <a:pt x="239" y="225"/>
                      </a:lnTo>
                      <a:lnTo>
                        <a:pt x="244" y="219"/>
                      </a:lnTo>
                      <a:lnTo>
                        <a:pt x="244" y="214"/>
                      </a:lnTo>
                      <a:lnTo>
                        <a:pt x="250" y="209"/>
                      </a:lnTo>
                      <a:lnTo>
                        <a:pt x="250" y="204"/>
                      </a:lnTo>
                      <a:lnTo>
                        <a:pt x="255" y="199"/>
                      </a:lnTo>
                      <a:lnTo>
                        <a:pt x="255" y="194"/>
                      </a:lnTo>
                      <a:lnTo>
                        <a:pt x="260" y="189"/>
                      </a:lnTo>
                      <a:lnTo>
                        <a:pt x="260" y="184"/>
                      </a:lnTo>
                      <a:lnTo>
                        <a:pt x="265" y="179"/>
                      </a:lnTo>
                      <a:lnTo>
                        <a:pt x="265" y="168"/>
                      </a:lnTo>
                      <a:lnTo>
                        <a:pt x="270" y="163"/>
                      </a:lnTo>
                      <a:lnTo>
                        <a:pt x="270" y="158"/>
                      </a:lnTo>
                      <a:lnTo>
                        <a:pt x="275" y="153"/>
                      </a:lnTo>
                      <a:lnTo>
                        <a:pt x="275" y="148"/>
                      </a:lnTo>
                      <a:lnTo>
                        <a:pt x="280" y="143"/>
                      </a:lnTo>
                      <a:lnTo>
                        <a:pt x="280" y="138"/>
                      </a:lnTo>
                      <a:lnTo>
                        <a:pt x="285" y="133"/>
                      </a:lnTo>
                      <a:lnTo>
                        <a:pt x="285" y="128"/>
                      </a:lnTo>
                      <a:lnTo>
                        <a:pt x="290" y="123"/>
                      </a:lnTo>
                      <a:lnTo>
                        <a:pt x="295" y="112"/>
                      </a:lnTo>
                      <a:lnTo>
                        <a:pt x="295" y="107"/>
                      </a:lnTo>
                      <a:lnTo>
                        <a:pt x="301" y="102"/>
                      </a:lnTo>
                      <a:lnTo>
                        <a:pt x="301" y="97"/>
                      </a:lnTo>
                      <a:lnTo>
                        <a:pt x="306" y="92"/>
                      </a:lnTo>
                      <a:lnTo>
                        <a:pt x="306" y="87"/>
                      </a:lnTo>
                      <a:lnTo>
                        <a:pt x="311" y="82"/>
                      </a:lnTo>
                      <a:lnTo>
                        <a:pt x="316" y="77"/>
                      </a:lnTo>
                      <a:lnTo>
                        <a:pt x="316" y="72"/>
                      </a:lnTo>
                      <a:lnTo>
                        <a:pt x="321" y="66"/>
                      </a:lnTo>
                      <a:lnTo>
                        <a:pt x="321" y="61"/>
                      </a:lnTo>
                      <a:lnTo>
                        <a:pt x="326" y="56"/>
                      </a:lnTo>
                      <a:lnTo>
                        <a:pt x="331" y="51"/>
                      </a:lnTo>
                      <a:lnTo>
                        <a:pt x="331" y="46"/>
                      </a:lnTo>
                      <a:lnTo>
                        <a:pt x="336" y="41"/>
                      </a:lnTo>
                      <a:lnTo>
                        <a:pt x="336" y="36"/>
                      </a:lnTo>
                      <a:lnTo>
                        <a:pt x="341" y="31"/>
                      </a:lnTo>
                      <a:lnTo>
                        <a:pt x="346" y="26"/>
                      </a:lnTo>
                      <a:lnTo>
                        <a:pt x="352" y="21"/>
                      </a:lnTo>
                      <a:lnTo>
                        <a:pt x="357" y="15"/>
                      </a:lnTo>
                      <a:lnTo>
                        <a:pt x="362" y="10"/>
                      </a:lnTo>
                      <a:lnTo>
                        <a:pt x="367" y="10"/>
                      </a:lnTo>
                      <a:lnTo>
                        <a:pt x="367" y="5"/>
                      </a:lnTo>
                      <a:lnTo>
                        <a:pt x="372" y="5"/>
                      </a:lnTo>
                      <a:lnTo>
                        <a:pt x="377" y="0"/>
                      </a:lnTo>
                      <a:lnTo>
                        <a:pt x="382" y="0"/>
                      </a:lnTo>
                      <a:lnTo>
                        <a:pt x="387" y="0"/>
                      </a:lnTo>
                      <a:lnTo>
                        <a:pt x="392" y="0"/>
                      </a:lnTo>
                      <a:lnTo>
                        <a:pt x="397" y="0"/>
                      </a:lnTo>
                      <a:lnTo>
                        <a:pt x="403" y="5"/>
                      </a:lnTo>
                      <a:lnTo>
                        <a:pt x="408" y="5"/>
                      </a:lnTo>
                      <a:lnTo>
                        <a:pt x="413" y="10"/>
                      </a:lnTo>
                      <a:lnTo>
                        <a:pt x="418" y="15"/>
                      </a:lnTo>
                      <a:lnTo>
                        <a:pt x="423" y="21"/>
                      </a:lnTo>
                      <a:lnTo>
                        <a:pt x="428" y="26"/>
                      </a:lnTo>
                      <a:lnTo>
                        <a:pt x="433" y="36"/>
                      </a:lnTo>
                      <a:lnTo>
                        <a:pt x="438" y="41"/>
                      </a:lnTo>
                      <a:lnTo>
                        <a:pt x="443" y="46"/>
                      </a:lnTo>
                      <a:lnTo>
                        <a:pt x="448" y="56"/>
                      </a:lnTo>
                      <a:lnTo>
                        <a:pt x="448" y="61"/>
                      </a:lnTo>
                      <a:lnTo>
                        <a:pt x="454" y="72"/>
                      </a:lnTo>
                      <a:lnTo>
                        <a:pt x="459" y="82"/>
                      </a:lnTo>
                      <a:lnTo>
                        <a:pt x="464" y="92"/>
                      </a:lnTo>
                      <a:lnTo>
                        <a:pt x="469" y="102"/>
                      </a:lnTo>
                      <a:lnTo>
                        <a:pt x="474" y="112"/>
                      </a:lnTo>
                      <a:lnTo>
                        <a:pt x="474" y="128"/>
                      </a:lnTo>
                      <a:lnTo>
                        <a:pt x="479" y="138"/>
                      </a:lnTo>
                      <a:lnTo>
                        <a:pt x="484" y="153"/>
                      </a:lnTo>
                      <a:lnTo>
                        <a:pt x="489" y="163"/>
                      </a:lnTo>
                      <a:lnTo>
                        <a:pt x="494" y="179"/>
                      </a:lnTo>
                      <a:lnTo>
                        <a:pt x="499" y="194"/>
                      </a:lnTo>
                      <a:lnTo>
                        <a:pt x="505" y="209"/>
                      </a:lnTo>
                      <a:lnTo>
                        <a:pt x="510" y="225"/>
                      </a:lnTo>
                      <a:lnTo>
                        <a:pt x="515" y="240"/>
                      </a:lnTo>
                      <a:lnTo>
                        <a:pt x="520" y="255"/>
                      </a:lnTo>
                      <a:lnTo>
                        <a:pt x="525" y="270"/>
                      </a:lnTo>
                      <a:lnTo>
                        <a:pt x="530" y="291"/>
                      </a:lnTo>
                      <a:lnTo>
                        <a:pt x="535" y="306"/>
                      </a:lnTo>
                      <a:lnTo>
                        <a:pt x="540" y="321"/>
                      </a:lnTo>
                      <a:lnTo>
                        <a:pt x="545" y="342"/>
                      </a:lnTo>
                      <a:lnTo>
                        <a:pt x="550" y="357"/>
                      </a:lnTo>
                      <a:lnTo>
                        <a:pt x="556" y="378"/>
                      </a:lnTo>
                      <a:lnTo>
                        <a:pt x="561" y="393"/>
                      </a:lnTo>
                      <a:lnTo>
                        <a:pt x="566" y="413"/>
                      </a:lnTo>
                      <a:lnTo>
                        <a:pt x="571" y="434"/>
                      </a:lnTo>
                      <a:lnTo>
                        <a:pt x="576" y="449"/>
                      </a:lnTo>
                      <a:lnTo>
                        <a:pt x="581" y="469"/>
                      </a:lnTo>
                      <a:lnTo>
                        <a:pt x="586" y="490"/>
                      </a:lnTo>
                      <a:lnTo>
                        <a:pt x="591" y="505"/>
                      </a:lnTo>
                      <a:lnTo>
                        <a:pt x="596" y="525"/>
                      </a:lnTo>
                      <a:lnTo>
                        <a:pt x="601" y="546"/>
                      </a:lnTo>
                      <a:lnTo>
                        <a:pt x="607" y="561"/>
                      </a:lnTo>
                      <a:lnTo>
                        <a:pt x="612" y="582"/>
                      </a:lnTo>
                      <a:lnTo>
                        <a:pt x="617" y="602"/>
                      </a:lnTo>
                      <a:lnTo>
                        <a:pt x="627" y="617"/>
                      </a:lnTo>
                      <a:lnTo>
                        <a:pt x="632" y="638"/>
                      </a:lnTo>
                      <a:lnTo>
                        <a:pt x="637" y="658"/>
                      </a:lnTo>
                      <a:lnTo>
                        <a:pt x="642" y="673"/>
                      </a:lnTo>
                      <a:lnTo>
                        <a:pt x="647" y="694"/>
                      </a:lnTo>
                      <a:lnTo>
                        <a:pt x="652" y="709"/>
                      </a:lnTo>
                      <a:lnTo>
                        <a:pt x="663" y="729"/>
                      </a:lnTo>
                      <a:lnTo>
                        <a:pt x="668" y="745"/>
                      </a:lnTo>
                      <a:lnTo>
                        <a:pt x="673" y="760"/>
                      </a:lnTo>
                      <a:lnTo>
                        <a:pt x="678" y="780"/>
                      </a:lnTo>
                      <a:lnTo>
                        <a:pt x="683" y="796"/>
                      </a:lnTo>
                      <a:lnTo>
                        <a:pt x="693" y="811"/>
                      </a:lnTo>
                      <a:lnTo>
                        <a:pt x="698" y="831"/>
                      </a:lnTo>
                      <a:lnTo>
                        <a:pt x="703" y="847"/>
                      </a:lnTo>
                      <a:lnTo>
                        <a:pt x="714" y="862"/>
                      </a:lnTo>
                      <a:lnTo>
                        <a:pt x="719" y="877"/>
                      </a:lnTo>
                      <a:lnTo>
                        <a:pt x="724" y="893"/>
                      </a:lnTo>
                      <a:lnTo>
                        <a:pt x="729" y="908"/>
                      </a:lnTo>
                      <a:lnTo>
                        <a:pt x="739" y="923"/>
                      </a:lnTo>
                      <a:lnTo>
                        <a:pt x="744" y="939"/>
                      </a:lnTo>
                      <a:lnTo>
                        <a:pt x="749" y="954"/>
                      </a:lnTo>
                      <a:lnTo>
                        <a:pt x="760" y="969"/>
                      </a:lnTo>
                      <a:lnTo>
                        <a:pt x="765" y="984"/>
                      </a:lnTo>
                      <a:lnTo>
                        <a:pt x="775" y="995"/>
                      </a:lnTo>
                      <a:lnTo>
                        <a:pt x="780" y="1010"/>
                      </a:lnTo>
                      <a:lnTo>
                        <a:pt x="785" y="1025"/>
                      </a:lnTo>
                      <a:lnTo>
                        <a:pt x="795" y="1035"/>
                      </a:lnTo>
                      <a:lnTo>
                        <a:pt x="800" y="1051"/>
                      </a:lnTo>
                      <a:lnTo>
                        <a:pt x="811" y="1061"/>
                      </a:lnTo>
                      <a:lnTo>
                        <a:pt x="816" y="1076"/>
                      </a:lnTo>
                      <a:lnTo>
                        <a:pt x="826" y="1086"/>
                      </a:lnTo>
                      <a:lnTo>
                        <a:pt x="831" y="1097"/>
                      </a:lnTo>
                      <a:lnTo>
                        <a:pt x="841" y="1112"/>
                      </a:lnTo>
                      <a:lnTo>
                        <a:pt x="846" y="1122"/>
                      </a:lnTo>
                      <a:lnTo>
                        <a:pt x="856" y="1132"/>
                      </a:lnTo>
                      <a:lnTo>
                        <a:pt x="862" y="1148"/>
                      </a:lnTo>
                      <a:lnTo>
                        <a:pt x="872" y="1158"/>
                      </a:lnTo>
                      <a:lnTo>
                        <a:pt x="882" y="1168"/>
                      </a:lnTo>
                      <a:lnTo>
                        <a:pt x="887" y="1178"/>
                      </a:lnTo>
                      <a:lnTo>
                        <a:pt x="897" y="1188"/>
                      </a:lnTo>
                      <a:lnTo>
                        <a:pt x="902" y="1199"/>
                      </a:lnTo>
                      <a:lnTo>
                        <a:pt x="913" y="1209"/>
                      </a:lnTo>
                      <a:lnTo>
                        <a:pt x="923" y="1219"/>
                      </a:lnTo>
                      <a:lnTo>
                        <a:pt x="928" y="1229"/>
                      </a:lnTo>
                      <a:lnTo>
                        <a:pt x="938" y="1239"/>
                      </a:lnTo>
                      <a:lnTo>
                        <a:pt x="948" y="1250"/>
                      </a:lnTo>
                      <a:lnTo>
                        <a:pt x="953" y="1255"/>
                      </a:lnTo>
                      <a:lnTo>
                        <a:pt x="964" y="1265"/>
                      </a:lnTo>
                      <a:lnTo>
                        <a:pt x="974" y="1275"/>
                      </a:lnTo>
                      <a:lnTo>
                        <a:pt x="984" y="1285"/>
                      </a:lnTo>
                      <a:lnTo>
                        <a:pt x="989" y="1290"/>
                      </a:lnTo>
                      <a:lnTo>
                        <a:pt x="999" y="1301"/>
                      </a:lnTo>
                      <a:lnTo>
                        <a:pt x="1009" y="1306"/>
                      </a:lnTo>
                      <a:lnTo>
                        <a:pt x="1020" y="1316"/>
                      </a:lnTo>
                      <a:lnTo>
                        <a:pt x="1030" y="1326"/>
                      </a:lnTo>
                      <a:lnTo>
                        <a:pt x="1040" y="1331"/>
                      </a:lnTo>
                      <a:lnTo>
                        <a:pt x="1045" y="1341"/>
                      </a:lnTo>
                      <a:lnTo>
                        <a:pt x="1055" y="1347"/>
                      </a:lnTo>
                      <a:lnTo>
                        <a:pt x="1066" y="1352"/>
                      </a:lnTo>
                      <a:lnTo>
                        <a:pt x="1076" y="1362"/>
                      </a:lnTo>
                      <a:lnTo>
                        <a:pt x="1086" y="1367"/>
                      </a:lnTo>
                      <a:lnTo>
                        <a:pt x="1096" y="1372"/>
                      </a:lnTo>
                      <a:lnTo>
                        <a:pt x="1106" y="1382"/>
                      </a:lnTo>
                      <a:lnTo>
                        <a:pt x="1117" y="1387"/>
                      </a:lnTo>
                      <a:lnTo>
                        <a:pt x="1127" y="1392"/>
                      </a:lnTo>
                      <a:lnTo>
                        <a:pt x="1137" y="1403"/>
                      </a:lnTo>
                      <a:lnTo>
                        <a:pt x="1147" y="1408"/>
                      </a:lnTo>
                      <a:lnTo>
                        <a:pt x="1157" y="1413"/>
                      </a:lnTo>
                      <a:lnTo>
                        <a:pt x="1168" y="1418"/>
                      </a:lnTo>
                      <a:lnTo>
                        <a:pt x="1178" y="1423"/>
                      </a:lnTo>
                      <a:lnTo>
                        <a:pt x="1193" y="1433"/>
                      </a:lnTo>
                      <a:lnTo>
                        <a:pt x="1203" y="1438"/>
                      </a:lnTo>
                      <a:lnTo>
                        <a:pt x="1213" y="1443"/>
                      </a:lnTo>
                      <a:lnTo>
                        <a:pt x="1224" y="1449"/>
                      </a:lnTo>
                      <a:lnTo>
                        <a:pt x="1234" y="1454"/>
                      </a:lnTo>
                      <a:lnTo>
                        <a:pt x="1249" y="1459"/>
                      </a:lnTo>
                      <a:lnTo>
                        <a:pt x="1259" y="1464"/>
                      </a:lnTo>
                      <a:lnTo>
                        <a:pt x="1270" y="1469"/>
                      </a:lnTo>
                      <a:lnTo>
                        <a:pt x="1280" y="1474"/>
                      </a:lnTo>
                      <a:lnTo>
                        <a:pt x="1295" y="1479"/>
                      </a:lnTo>
                      <a:lnTo>
                        <a:pt x="1305" y="1484"/>
                      </a:lnTo>
                      <a:lnTo>
                        <a:pt x="1315" y="1489"/>
                      </a:lnTo>
                      <a:lnTo>
                        <a:pt x="1331" y="1494"/>
                      </a:lnTo>
                      <a:lnTo>
                        <a:pt x="1341" y="1494"/>
                      </a:lnTo>
                      <a:lnTo>
                        <a:pt x="1351" y="1500"/>
                      </a:lnTo>
                      <a:lnTo>
                        <a:pt x="1366" y="1505"/>
                      </a:lnTo>
                      <a:lnTo>
                        <a:pt x="1377" y="1510"/>
                      </a:lnTo>
                      <a:lnTo>
                        <a:pt x="1392" y="1515"/>
                      </a:lnTo>
                      <a:lnTo>
                        <a:pt x="1402" y="1515"/>
                      </a:lnTo>
                      <a:lnTo>
                        <a:pt x="1412" y="1520"/>
                      </a:lnTo>
                      <a:lnTo>
                        <a:pt x="1428" y="1525"/>
                      </a:lnTo>
                      <a:lnTo>
                        <a:pt x="1438" y="1530"/>
                      </a:lnTo>
                      <a:lnTo>
                        <a:pt x="1453" y="1535"/>
                      </a:lnTo>
                      <a:lnTo>
                        <a:pt x="1468" y="1535"/>
                      </a:lnTo>
                      <a:lnTo>
                        <a:pt x="1479" y="1540"/>
                      </a:lnTo>
                      <a:lnTo>
                        <a:pt x="1494" y="1545"/>
                      </a:lnTo>
                      <a:lnTo>
                        <a:pt x="1509" y="1545"/>
                      </a:lnTo>
                      <a:lnTo>
                        <a:pt x="1525" y="1551"/>
                      </a:lnTo>
                      <a:lnTo>
                        <a:pt x="1535" y="1556"/>
                      </a:lnTo>
                      <a:lnTo>
                        <a:pt x="1550" y="1561"/>
                      </a:lnTo>
                      <a:lnTo>
                        <a:pt x="1565" y="1561"/>
                      </a:lnTo>
                      <a:lnTo>
                        <a:pt x="1581" y="1566"/>
                      </a:lnTo>
                      <a:lnTo>
                        <a:pt x="1596" y="1566"/>
                      </a:lnTo>
                      <a:lnTo>
                        <a:pt x="1611" y="1571"/>
                      </a:lnTo>
                      <a:lnTo>
                        <a:pt x="1627" y="1576"/>
                      </a:lnTo>
                      <a:lnTo>
                        <a:pt x="1642" y="1576"/>
                      </a:lnTo>
                      <a:lnTo>
                        <a:pt x="1657" y="1581"/>
                      </a:lnTo>
                      <a:lnTo>
                        <a:pt x="1672" y="1581"/>
                      </a:lnTo>
                      <a:lnTo>
                        <a:pt x="1688" y="1586"/>
                      </a:lnTo>
                      <a:lnTo>
                        <a:pt x="1703" y="1591"/>
                      </a:lnTo>
                      <a:lnTo>
                        <a:pt x="1718" y="1591"/>
                      </a:lnTo>
                      <a:lnTo>
                        <a:pt x="1734" y="1596"/>
                      </a:lnTo>
                      <a:lnTo>
                        <a:pt x="1749" y="1596"/>
                      </a:lnTo>
                      <a:lnTo>
                        <a:pt x="1769" y="1602"/>
                      </a:lnTo>
                      <a:lnTo>
                        <a:pt x="1785" y="1602"/>
                      </a:lnTo>
                      <a:lnTo>
                        <a:pt x="1800" y="1607"/>
                      </a:lnTo>
                      <a:lnTo>
                        <a:pt x="1815" y="1607"/>
                      </a:lnTo>
                      <a:lnTo>
                        <a:pt x="1836" y="1612"/>
                      </a:lnTo>
                      <a:lnTo>
                        <a:pt x="1851" y="1612"/>
                      </a:lnTo>
                      <a:lnTo>
                        <a:pt x="1866" y="1617"/>
                      </a:lnTo>
                      <a:lnTo>
                        <a:pt x="1887" y="1617"/>
                      </a:lnTo>
                      <a:lnTo>
                        <a:pt x="1902" y="1617"/>
                      </a:lnTo>
                      <a:lnTo>
                        <a:pt x="1922" y="1622"/>
                      </a:lnTo>
                      <a:lnTo>
                        <a:pt x="1938" y="1622"/>
                      </a:lnTo>
                      <a:lnTo>
                        <a:pt x="1958" y="1627"/>
                      </a:lnTo>
                      <a:lnTo>
                        <a:pt x="1973" y="1627"/>
                      </a:lnTo>
                      <a:lnTo>
                        <a:pt x="1994" y="1632"/>
                      </a:lnTo>
                      <a:lnTo>
                        <a:pt x="2014" y="1632"/>
                      </a:lnTo>
                      <a:lnTo>
                        <a:pt x="2029" y="1632"/>
                      </a:lnTo>
                      <a:lnTo>
                        <a:pt x="2050" y="1637"/>
                      </a:lnTo>
                      <a:lnTo>
                        <a:pt x="2070" y="1637"/>
                      </a:lnTo>
                      <a:lnTo>
                        <a:pt x="2091" y="1637"/>
                      </a:lnTo>
                      <a:lnTo>
                        <a:pt x="2106" y="1642"/>
                      </a:lnTo>
                      <a:lnTo>
                        <a:pt x="2126" y="1642"/>
                      </a:lnTo>
                      <a:lnTo>
                        <a:pt x="2147" y="1642"/>
                      </a:lnTo>
                      <a:lnTo>
                        <a:pt x="2167" y="1647"/>
                      </a:lnTo>
                      <a:lnTo>
                        <a:pt x="2188" y="1647"/>
                      </a:lnTo>
                    </a:path>
                  </a:pathLst>
                </a:custGeom>
                <a:noFill/>
                <a:ln cap="rnd"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F122-BDA8-41B1-A343-30C11B792F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- projektiranje ...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2240" y="2035080"/>
            <a:ext cx="7783560" cy="1476360"/>
            <a:chOff x="12240" y="2035080"/>
            <a:chExt cx="7783560" cy="1476360"/>
          </a:xfrm>
        </p:grpSpPr>
        <p:sp>
          <p:nvSpPr>
            <p:cNvPr id="407" name=""/>
            <p:cNvSpPr/>
            <p:nvPr/>
          </p:nvSpPr>
          <p:spPr>
            <a:xfrm>
              <a:off x="12240" y="2035080"/>
              <a:ext cx="5494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astavom na parcijalne razlomke dobijem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1798200" y="2665440"/>
                  <a:ext cx="599760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=-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-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801800" y="3763800"/>
                <a:ext cx="56642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-82080" y="5002200"/>
            <a:ext cx="8678160" cy="1511280"/>
            <a:chOff x="-82080" y="5002200"/>
            <a:chExt cx="8678160" cy="1511280"/>
          </a:xfrm>
        </p:grpSpPr>
        <mc:AlternateContent>
          <mc:Choice xmlns:a14="http://schemas.microsoft.com/office/drawing/2010/main" Requires="a14">
            <p:sp>
              <p:nvSpPr>
                <p:cNvPr id="411" name=""/>
                <p:cNvSpPr txBox="1"/>
                <p:nvPr/>
              </p:nvSpPr>
              <p:spPr>
                <a:xfrm>
                  <a:off x="1689120" y="5632560"/>
                  <a:ext cx="6392160" cy="88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z</m:t>
                          </m:r>
                        </m:num>
                        <m:den>
                          <m:r>
                            <m:t xml:space="preserve">z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z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6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e>
                          </m:d>
                        </m:num>
                        <m:den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z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12" name=""/>
            <p:cNvSpPr/>
            <p:nvPr/>
          </p:nvSpPr>
          <p:spPr>
            <a:xfrm>
              <a:off x="-82080" y="5002200"/>
              <a:ext cx="8678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Koristeći dane formule dobijemo prijenosnu funkciju digitalnog filt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6B79-EFB6-40C3-82B0-9CDA967D93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82400" y="1080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- projektiranje ...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0440" y="1082520"/>
            <a:ext cx="881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Amplitudno-frekvencijske karakteristike digitalnog filtra |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hr-HR" sz="24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r-HR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)| za različite frekvencije otipkavanja, odnosno različite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66720" y="5556240"/>
            <a:ext cx="79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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32840" y="1857240"/>
            <a:ext cx="3510720" cy="2563920"/>
            <a:chOff x="132840" y="1857240"/>
            <a:chExt cx="3510720" cy="2563920"/>
          </a:xfrm>
        </p:grpSpPr>
        <p:sp>
          <p:nvSpPr>
            <p:cNvPr id="417" name=""/>
            <p:cNvSpPr/>
            <p:nvPr/>
          </p:nvSpPr>
          <p:spPr>
            <a:xfrm>
              <a:off x="132840" y="3032280"/>
              <a:ext cx="790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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078560" y="230796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499040" y="230796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15560" y="230796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336040" y="230796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751120" y="230796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173400" y="230796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78560" y="4095720"/>
              <a:ext cx="20944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78560" y="3738600"/>
              <a:ext cx="20944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78560" y="3382920"/>
              <a:ext cx="20944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78560" y="3021120"/>
              <a:ext cx="20944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78560" y="2665440"/>
              <a:ext cx="20944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78560" y="2308320"/>
              <a:ext cx="20944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78560" y="2308320"/>
              <a:ext cx="2095920" cy="1788840"/>
            </a:xfrm>
            <a:custGeom>
              <a:avLst/>
              <a:gdLst/>
              <a:ahLst/>
              <a:rect l="l" t="t" r="r" b="b"/>
              <a:pathLst>
                <a:path w="1430" h="1127">
                  <a:moveTo>
                    <a:pt x="0" y="1126"/>
                  </a:moveTo>
                  <a:lnTo>
                    <a:pt x="0" y="0"/>
                  </a:lnTo>
                  <a:lnTo>
                    <a:pt x="142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78560" y="2308320"/>
              <a:ext cx="2095920" cy="1788840"/>
            </a:xfrm>
            <a:custGeom>
              <a:avLst/>
              <a:gdLst/>
              <a:ahLst/>
              <a:rect l="l" t="t" r="r" b="b"/>
              <a:pathLst>
                <a:path w="1430" h="1127">
                  <a:moveTo>
                    <a:pt x="0" y="1126"/>
                  </a:moveTo>
                  <a:lnTo>
                    <a:pt x="0" y="0"/>
                  </a:lnTo>
                  <a:lnTo>
                    <a:pt x="142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8560" y="2308320"/>
              <a:ext cx="2095920" cy="1788840"/>
            </a:xfrm>
            <a:custGeom>
              <a:avLst/>
              <a:gdLst/>
              <a:ahLst/>
              <a:rect l="l" t="t" r="r" b="b"/>
              <a:pathLst>
                <a:path w="1430" h="1127">
                  <a:moveTo>
                    <a:pt x="0" y="1126"/>
                  </a:moveTo>
                  <a:lnTo>
                    <a:pt x="0" y="0"/>
                  </a:lnTo>
                  <a:lnTo>
                    <a:pt x="142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8560" y="4095720"/>
              <a:ext cx="20944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78560" y="2308320"/>
              <a:ext cx="20944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1078560" y="230796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173400" y="230796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78560" y="230832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78560" y="4095720"/>
              <a:ext cx="20944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078560" y="230796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78560" y="409572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078560" y="407340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78560" y="2308320"/>
              <a:ext cx="0" cy="2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499040" y="407340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499040" y="2308320"/>
              <a:ext cx="0" cy="2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1915560" y="407340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5560" y="2308320"/>
              <a:ext cx="0" cy="2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336040" y="407340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36040" y="2308320"/>
              <a:ext cx="0" cy="2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751120" y="407340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51120" y="2308320"/>
              <a:ext cx="0" cy="2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173400" y="407340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73400" y="2308320"/>
              <a:ext cx="0" cy="2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78560" y="409572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152160" y="4095720"/>
              <a:ext cx="20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78560" y="373860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3152160" y="3738600"/>
              <a:ext cx="20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78560" y="338292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3152160" y="3382920"/>
              <a:ext cx="20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78560" y="302112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152160" y="3021120"/>
              <a:ext cx="20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78560" y="284328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078560" y="266544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3152160" y="2665440"/>
              <a:ext cx="20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78560" y="230832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3152160" y="2308320"/>
              <a:ext cx="20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1078560" y="4094280"/>
              <a:ext cx="2388960" cy="1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8560" y="2308320"/>
              <a:ext cx="20944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078560" y="2001960"/>
              <a:ext cx="0" cy="2093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173400" y="230796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78560" y="409572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078560" y="2308320"/>
              <a:ext cx="2090160" cy="1766880"/>
            </a:xfrm>
            <a:custGeom>
              <a:avLst/>
              <a:gdLst/>
              <a:ahLst/>
              <a:rect l="l" t="t" r="r" b="b"/>
              <a:pathLst>
                <a:path w="1426" h="1113">
                  <a:moveTo>
                    <a:pt x="0" y="347"/>
                  </a:moveTo>
                  <a:lnTo>
                    <a:pt x="3" y="347"/>
                  </a:lnTo>
                  <a:lnTo>
                    <a:pt x="6" y="347"/>
                  </a:lnTo>
                  <a:lnTo>
                    <a:pt x="10" y="344"/>
                  </a:lnTo>
                  <a:lnTo>
                    <a:pt x="10" y="340"/>
                  </a:lnTo>
                  <a:lnTo>
                    <a:pt x="13" y="334"/>
                  </a:lnTo>
                  <a:lnTo>
                    <a:pt x="16" y="327"/>
                  </a:lnTo>
                  <a:lnTo>
                    <a:pt x="19" y="320"/>
                  </a:lnTo>
                  <a:lnTo>
                    <a:pt x="23" y="311"/>
                  </a:lnTo>
                  <a:lnTo>
                    <a:pt x="26" y="304"/>
                  </a:lnTo>
                  <a:lnTo>
                    <a:pt x="26" y="291"/>
                  </a:lnTo>
                  <a:lnTo>
                    <a:pt x="29" y="281"/>
                  </a:lnTo>
                  <a:lnTo>
                    <a:pt x="33" y="268"/>
                  </a:lnTo>
                  <a:lnTo>
                    <a:pt x="36" y="254"/>
                  </a:lnTo>
                  <a:lnTo>
                    <a:pt x="39" y="238"/>
                  </a:lnTo>
                  <a:lnTo>
                    <a:pt x="43" y="225"/>
                  </a:lnTo>
                  <a:lnTo>
                    <a:pt x="46" y="208"/>
                  </a:lnTo>
                  <a:lnTo>
                    <a:pt x="46" y="188"/>
                  </a:lnTo>
                  <a:lnTo>
                    <a:pt x="49" y="172"/>
                  </a:lnTo>
                  <a:lnTo>
                    <a:pt x="52" y="152"/>
                  </a:lnTo>
                  <a:lnTo>
                    <a:pt x="56" y="136"/>
                  </a:lnTo>
                  <a:lnTo>
                    <a:pt x="59" y="116"/>
                  </a:lnTo>
                  <a:lnTo>
                    <a:pt x="62" y="96"/>
                  </a:lnTo>
                  <a:lnTo>
                    <a:pt x="62" y="80"/>
                  </a:lnTo>
                  <a:lnTo>
                    <a:pt x="66" y="63"/>
                  </a:lnTo>
                  <a:lnTo>
                    <a:pt x="69" y="47"/>
                  </a:lnTo>
                  <a:lnTo>
                    <a:pt x="72" y="30"/>
                  </a:lnTo>
                  <a:lnTo>
                    <a:pt x="76" y="20"/>
                  </a:lnTo>
                  <a:lnTo>
                    <a:pt x="79" y="10"/>
                  </a:lnTo>
                  <a:lnTo>
                    <a:pt x="82" y="4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9" y="7"/>
                  </a:lnTo>
                  <a:lnTo>
                    <a:pt x="92" y="14"/>
                  </a:lnTo>
                  <a:lnTo>
                    <a:pt x="95" y="27"/>
                  </a:lnTo>
                  <a:lnTo>
                    <a:pt x="99" y="43"/>
                  </a:lnTo>
                  <a:lnTo>
                    <a:pt x="99" y="63"/>
                  </a:lnTo>
                  <a:lnTo>
                    <a:pt x="102" y="86"/>
                  </a:lnTo>
                  <a:lnTo>
                    <a:pt x="105" y="113"/>
                  </a:lnTo>
                  <a:lnTo>
                    <a:pt x="109" y="139"/>
                  </a:lnTo>
                  <a:lnTo>
                    <a:pt x="112" y="169"/>
                  </a:lnTo>
                  <a:lnTo>
                    <a:pt x="115" y="198"/>
                  </a:lnTo>
                  <a:lnTo>
                    <a:pt x="118" y="231"/>
                  </a:lnTo>
                  <a:lnTo>
                    <a:pt x="118" y="261"/>
                  </a:lnTo>
                  <a:lnTo>
                    <a:pt x="122" y="291"/>
                  </a:lnTo>
                  <a:lnTo>
                    <a:pt x="125" y="320"/>
                  </a:lnTo>
                  <a:lnTo>
                    <a:pt x="128" y="350"/>
                  </a:lnTo>
                  <a:lnTo>
                    <a:pt x="132" y="380"/>
                  </a:lnTo>
                  <a:lnTo>
                    <a:pt x="135" y="406"/>
                  </a:lnTo>
                  <a:lnTo>
                    <a:pt x="135" y="436"/>
                  </a:lnTo>
                  <a:lnTo>
                    <a:pt x="138" y="459"/>
                  </a:lnTo>
                  <a:lnTo>
                    <a:pt x="142" y="485"/>
                  </a:lnTo>
                  <a:lnTo>
                    <a:pt x="145" y="509"/>
                  </a:lnTo>
                  <a:lnTo>
                    <a:pt x="148" y="532"/>
                  </a:lnTo>
                  <a:lnTo>
                    <a:pt x="151" y="555"/>
                  </a:lnTo>
                  <a:lnTo>
                    <a:pt x="155" y="575"/>
                  </a:lnTo>
                  <a:lnTo>
                    <a:pt x="155" y="594"/>
                  </a:lnTo>
                  <a:lnTo>
                    <a:pt x="158" y="614"/>
                  </a:lnTo>
                  <a:lnTo>
                    <a:pt x="161" y="631"/>
                  </a:lnTo>
                  <a:lnTo>
                    <a:pt x="165" y="647"/>
                  </a:lnTo>
                  <a:lnTo>
                    <a:pt x="168" y="664"/>
                  </a:lnTo>
                  <a:lnTo>
                    <a:pt x="171" y="680"/>
                  </a:lnTo>
                  <a:lnTo>
                    <a:pt x="171" y="693"/>
                  </a:lnTo>
                  <a:lnTo>
                    <a:pt x="175" y="707"/>
                  </a:lnTo>
                  <a:lnTo>
                    <a:pt x="178" y="720"/>
                  </a:lnTo>
                  <a:lnTo>
                    <a:pt x="181" y="733"/>
                  </a:lnTo>
                  <a:lnTo>
                    <a:pt x="184" y="746"/>
                  </a:lnTo>
                  <a:lnTo>
                    <a:pt x="188" y="756"/>
                  </a:lnTo>
                  <a:lnTo>
                    <a:pt x="191" y="769"/>
                  </a:lnTo>
                  <a:lnTo>
                    <a:pt x="191" y="779"/>
                  </a:lnTo>
                  <a:lnTo>
                    <a:pt x="194" y="789"/>
                  </a:lnTo>
                  <a:lnTo>
                    <a:pt x="198" y="799"/>
                  </a:lnTo>
                  <a:lnTo>
                    <a:pt x="201" y="809"/>
                  </a:lnTo>
                  <a:lnTo>
                    <a:pt x="204" y="819"/>
                  </a:lnTo>
                  <a:lnTo>
                    <a:pt x="208" y="825"/>
                  </a:lnTo>
                  <a:lnTo>
                    <a:pt x="208" y="835"/>
                  </a:lnTo>
                  <a:lnTo>
                    <a:pt x="211" y="842"/>
                  </a:lnTo>
                  <a:lnTo>
                    <a:pt x="214" y="848"/>
                  </a:lnTo>
                  <a:lnTo>
                    <a:pt x="217" y="855"/>
                  </a:lnTo>
                  <a:lnTo>
                    <a:pt x="221" y="862"/>
                  </a:lnTo>
                  <a:lnTo>
                    <a:pt x="224" y="868"/>
                  </a:lnTo>
                  <a:lnTo>
                    <a:pt x="227" y="875"/>
                  </a:lnTo>
                  <a:lnTo>
                    <a:pt x="227" y="881"/>
                  </a:lnTo>
                  <a:lnTo>
                    <a:pt x="231" y="888"/>
                  </a:lnTo>
                  <a:lnTo>
                    <a:pt x="234" y="895"/>
                  </a:lnTo>
                  <a:lnTo>
                    <a:pt x="237" y="898"/>
                  </a:lnTo>
                  <a:lnTo>
                    <a:pt x="241" y="905"/>
                  </a:lnTo>
                  <a:lnTo>
                    <a:pt x="244" y="911"/>
                  </a:lnTo>
                  <a:lnTo>
                    <a:pt x="244" y="914"/>
                  </a:lnTo>
                  <a:lnTo>
                    <a:pt x="247" y="921"/>
                  </a:lnTo>
                  <a:lnTo>
                    <a:pt x="250" y="924"/>
                  </a:lnTo>
                  <a:lnTo>
                    <a:pt x="254" y="928"/>
                  </a:lnTo>
                  <a:lnTo>
                    <a:pt x="257" y="934"/>
                  </a:lnTo>
                  <a:lnTo>
                    <a:pt x="260" y="938"/>
                  </a:lnTo>
                  <a:lnTo>
                    <a:pt x="260" y="941"/>
                  </a:lnTo>
                  <a:lnTo>
                    <a:pt x="264" y="944"/>
                  </a:lnTo>
                  <a:lnTo>
                    <a:pt x="267" y="947"/>
                  </a:lnTo>
                  <a:lnTo>
                    <a:pt x="270" y="951"/>
                  </a:lnTo>
                  <a:lnTo>
                    <a:pt x="274" y="954"/>
                  </a:lnTo>
                  <a:lnTo>
                    <a:pt x="277" y="957"/>
                  </a:lnTo>
                  <a:lnTo>
                    <a:pt x="280" y="961"/>
                  </a:lnTo>
                  <a:lnTo>
                    <a:pt x="280" y="964"/>
                  </a:lnTo>
                  <a:lnTo>
                    <a:pt x="283" y="967"/>
                  </a:lnTo>
                  <a:lnTo>
                    <a:pt x="287" y="971"/>
                  </a:lnTo>
                  <a:lnTo>
                    <a:pt x="290" y="974"/>
                  </a:lnTo>
                  <a:lnTo>
                    <a:pt x="293" y="977"/>
                  </a:lnTo>
                  <a:lnTo>
                    <a:pt x="297" y="980"/>
                  </a:lnTo>
                  <a:lnTo>
                    <a:pt x="297" y="984"/>
                  </a:lnTo>
                  <a:lnTo>
                    <a:pt x="300" y="984"/>
                  </a:lnTo>
                  <a:lnTo>
                    <a:pt x="303" y="987"/>
                  </a:lnTo>
                  <a:lnTo>
                    <a:pt x="307" y="990"/>
                  </a:lnTo>
                  <a:lnTo>
                    <a:pt x="310" y="994"/>
                  </a:lnTo>
                  <a:lnTo>
                    <a:pt x="313" y="994"/>
                  </a:lnTo>
                  <a:lnTo>
                    <a:pt x="316" y="997"/>
                  </a:lnTo>
                  <a:lnTo>
                    <a:pt x="316" y="1000"/>
                  </a:lnTo>
                  <a:lnTo>
                    <a:pt x="320" y="1000"/>
                  </a:lnTo>
                  <a:lnTo>
                    <a:pt x="323" y="1004"/>
                  </a:lnTo>
                  <a:lnTo>
                    <a:pt x="326" y="1007"/>
                  </a:lnTo>
                  <a:lnTo>
                    <a:pt x="330" y="1007"/>
                  </a:lnTo>
                  <a:lnTo>
                    <a:pt x="333" y="1010"/>
                  </a:lnTo>
                  <a:lnTo>
                    <a:pt x="336" y="1013"/>
                  </a:lnTo>
                  <a:lnTo>
                    <a:pt x="340" y="1013"/>
                  </a:lnTo>
                  <a:lnTo>
                    <a:pt x="343" y="1017"/>
                  </a:lnTo>
                  <a:lnTo>
                    <a:pt x="346" y="1020"/>
                  </a:lnTo>
                  <a:lnTo>
                    <a:pt x="349" y="1020"/>
                  </a:lnTo>
                  <a:lnTo>
                    <a:pt x="353" y="1020"/>
                  </a:lnTo>
                  <a:lnTo>
                    <a:pt x="353" y="1023"/>
                  </a:lnTo>
                  <a:lnTo>
                    <a:pt x="356" y="1023"/>
                  </a:lnTo>
                  <a:lnTo>
                    <a:pt x="359" y="1027"/>
                  </a:lnTo>
                  <a:lnTo>
                    <a:pt x="363" y="1027"/>
                  </a:lnTo>
                  <a:lnTo>
                    <a:pt x="366" y="1030"/>
                  </a:lnTo>
                  <a:lnTo>
                    <a:pt x="369" y="1030"/>
                  </a:lnTo>
                  <a:lnTo>
                    <a:pt x="369" y="1033"/>
                  </a:lnTo>
                  <a:lnTo>
                    <a:pt x="373" y="1033"/>
                  </a:lnTo>
                  <a:lnTo>
                    <a:pt x="376" y="1033"/>
                  </a:lnTo>
                  <a:lnTo>
                    <a:pt x="379" y="1037"/>
                  </a:lnTo>
                  <a:lnTo>
                    <a:pt x="382" y="1037"/>
                  </a:lnTo>
                  <a:lnTo>
                    <a:pt x="386" y="1040"/>
                  </a:lnTo>
                  <a:lnTo>
                    <a:pt x="389" y="1040"/>
                  </a:lnTo>
                  <a:lnTo>
                    <a:pt x="392" y="1043"/>
                  </a:lnTo>
                  <a:lnTo>
                    <a:pt x="396" y="1043"/>
                  </a:lnTo>
                  <a:lnTo>
                    <a:pt x="399" y="1043"/>
                  </a:lnTo>
                  <a:lnTo>
                    <a:pt x="402" y="1046"/>
                  </a:lnTo>
                  <a:lnTo>
                    <a:pt x="406" y="1046"/>
                  </a:lnTo>
                  <a:lnTo>
                    <a:pt x="409" y="1050"/>
                  </a:lnTo>
                  <a:lnTo>
                    <a:pt x="412" y="1050"/>
                  </a:lnTo>
                  <a:lnTo>
                    <a:pt x="415" y="1050"/>
                  </a:lnTo>
                  <a:lnTo>
                    <a:pt x="419" y="1050"/>
                  </a:lnTo>
                  <a:lnTo>
                    <a:pt x="422" y="1053"/>
                  </a:lnTo>
                  <a:lnTo>
                    <a:pt x="425" y="1053"/>
                  </a:lnTo>
                  <a:lnTo>
                    <a:pt x="429" y="1053"/>
                  </a:lnTo>
                  <a:lnTo>
                    <a:pt x="432" y="1056"/>
                  </a:lnTo>
                  <a:lnTo>
                    <a:pt x="435" y="1056"/>
                  </a:lnTo>
                  <a:lnTo>
                    <a:pt x="439" y="1056"/>
                  </a:lnTo>
                  <a:lnTo>
                    <a:pt x="442" y="1056"/>
                  </a:lnTo>
                  <a:lnTo>
                    <a:pt x="442" y="1060"/>
                  </a:lnTo>
                  <a:lnTo>
                    <a:pt x="445" y="1060"/>
                  </a:lnTo>
                  <a:lnTo>
                    <a:pt x="448" y="1060"/>
                  </a:lnTo>
                  <a:lnTo>
                    <a:pt x="452" y="1060"/>
                  </a:lnTo>
                  <a:lnTo>
                    <a:pt x="455" y="1063"/>
                  </a:lnTo>
                  <a:lnTo>
                    <a:pt x="458" y="1063"/>
                  </a:lnTo>
                  <a:lnTo>
                    <a:pt x="462" y="1063"/>
                  </a:lnTo>
                  <a:lnTo>
                    <a:pt x="465" y="1063"/>
                  </a:lnTo>
                  <a:lnTo>
                    <a:pt x="468" y="1066"/>
                  </a:lnTo>
                  <a:lnTo>
                    <a:pt x="472" y="1066"/>
                  </a:lnTo>
                  <a:lnTo>
                    <a:pt x="475" y="1066"/>
                  </a:lnTo>
                  <a:lnTo>
                    <a:pt x="478" y="1066"/>
                  </a:lnTo>
                  <a:lnTo>
                    <a:pt x="481" y="1070"/>
                  </a:lnTo>
                  <a:lnTo>
                    <a:pt x="485" y="1070"/>
                  </a:lnTo>
                  <a:lnTo>
                    <a:pt x="488" y="1070"/>
                  </a:lnTo>
                  <a:lnTo>
                    <a:pt x="491" y="1070"/>
                  </a:lnTo>
                  <a:lnTo>
                    <a:pt x="495" y="1070"/>
                  </a:lnTo>
                  <a:lnTo>
                    <a:pt x="498" y="1070"/>
                  </a:lnTo>
                  <a:lnTo>
                    <a:pt x="498" y="1073"/>
                  </a:lnTo>
                  <a:lnTo>
                    <a:pt x="501" y="1073"/>
                  </a:lnTo>
                  <a:lnTo>
                    <a:pt x="505" y="1073"/>
                  </a:lnTo>
                  <a:lnTo>
                    <a:pt x="508" y="1073"/>
                  </a:lnTo>
                  <a:lnTo>
                    <a:pt x="511" y="1073"/>
                  </a:lnTo>
                  <a:lnTo>
                    <a:pt x="514" y="1073"/>
                  </a:lnTo>
                  <a:lnTo>
                    <a:pt x="514" y="1076"/>
                  </a:lnTo>
                  <a:lnTo>
                    <a:pt x="518" y="1076"/>
                  </a:lnTo>
                  <a:lnTo>
                    <a:pt x="521" y="1076"/>
                  </a:lnTo>
                  <a:lnTo>
                    <a:pt x="524" y="1076"/>
                  </a:lnTo>
                  <a:lnTo>
                    <a:pt x="528" y="1076"/>
                  </a:lnTo>
                  <a:lnTo>
                    <a:pt x="531" y="1076"/>
                  </a:lnTo>
                  <a:lnTo>
                    <a:pt x="534" y="1076"/>
                  </a:lnTo>
                  <a:lnTo>
                    <a:pt x="534" y="1079"/>
                  </a:lnTo>
                  <a:lnTo>
                    <a:pt x="538" y="1079"/>
                  </a:lnTo>
                  <a:lnTo>
                    <a:pt x="541" y="1079"/>
                  </a:lnTo>
                  <a:lnTo>
                    <a:pt x="544" y="1079"/>
                  </a:lnTo>
                  <a:lnTo>
                    <a:pt x="547" y="1079"/>
                  </a:lnTo>
                  <a:lnTo>
                    <a:pt x="551" y="1079"/>
                  </a:lnTo>
                  <a:lnTo>
                    <a:pt x="554" y="1079"/>
                  </a:lnTo>
                  <a:lnTo>
                    <a:pt x="557" y="1083"/>
                  </a:lnTo>
                  <a:lnTo>
                    <a:pt x="561" y="1083"/>
                  </a:lnTo>
                  <a:lnTo>
                    <a:pt x="564" y="1083"/>
                  </a:lnTo>
                  <a:lnTo>
                    <a:pt x="567" y="1083"/>
                  </a:lnTo>
                  <a:lnTo>
                    <a:pt x="571" y="1083"/>
                  </a:lnTo>
                  <a:lnTo>
                    <a:pt x="574" y="1083"/>
                  </a:lnTo>
                  <a:lnTo>
                    <a:pt x="577" y="1083"/>
                  </a:lnTo>
                  <a:lnTo>
                    <a:pt x="580" y="1083"/>
                  </a:lnTo>
                  <a:lnTo>
                    <a:pt x="584" y="1086"/>
                  </a:lnTo>
                  <a:lnTo>
                    <a:pt x="587" y="1086"/>
                  </a:lnTo>
                  <a:lnTo>
                    <a:pt x="590" y="1086"/>
                  </a:lnTo>
                  <a:lnTo>
                    <a:pt x="594" y="1086"/>
                  </a:lnTo>
                  <a:lnTo>
                    <a:pt x="597" y="1086"/>
                  </a:lnTo>
                  <a:lnTo>
                    <a:pt x="600" y="1086"/>
                  </a:lnTo>
                  <a:lnTo>
                    <a:pt x="604" y="1086"/>
                  </a:lnTo>
                  <a:lnTo>
                    <a:pt x="607" y="1086"/>
                  </a:lnTo>
                  <a:lnTo>
                    <a:pt x="610" y="1089"/>
                  </a:lnTo>
                  <a:lnTo>
                    <a:pt x="613" y="1089"/>
                  </a:lnTo>
                  <a:lnTo>
                    <a:pt x="617" y="1089"/>
                  </a:lnTo>
                  <a:lnTo>
                    <a:pt x="620" y="1089"/>
                  </a:lnTo>
                  <a:lnTo>
                    <a:pt x="623" y="1089"/>
                  </a:lnTo>
                  <a:lnTo>
                    <a:pt x="627" y="1089"/>
                  </a:lnTo>
                  <a:lnTo>
                    <a:pt x="630" y="1089"/>
                  </a:lnTo>
                  <a:lnTo>
                    <a:pt x="633" y="1089"/>
                  </a:lnTo>
                  <a:lnTo>
                    <a:pt x="637" y="1089"/>
                  </a:lnTo>
                  <a:lnTo>
                    <a:pt x="640" y="1089"/>
                  </a:lnTo>
                  <a:lnTo>
                    <a:pt x="643" y="1089"/>
                  </a:lnTo>
                  <a:lnTo>
                    <a:pt x="643" y="1093"/>
                  </a:lnTo>
                  <a:lnTo>
                    <a:pt x="646" y="1093"/>
                  </a:lnTo>
                  <a:lnTo>
                    <a:pt x="650" y="1093"/>
                  </a:lnTo>
                  <a:lnTo>
                    <a:pt x="653" y="1093"/>
                  </a:lnTo>
                  <a:lnTo>
                    <a:pt x="656" y="1093"/>
                  </a:lnTo>
                  <a:lnTo>
                    <a:pt x="660" y="1093"/>
                  </a:lnTo>
                  <a:lnTo>
                    <a:pt x="663" y="1093"/>
                  </a:lnTo>
                  <a:lnTo>
                    <a:pt x="666" y="1093"/>
                  </a:lnTo>
                  <a:lnTo>
                    <a:pt x="670" y="1093"/>
                  </a:lnTo>
                  <a:lnTo>
                    <a:pt x="673" y="1093"/>
                  </a:lnTo>
                  <a:lnTo>
                    <a:pt x="676" y="1093"/>
                  </a:lnTo>
                  <a:lnTo>
                    <a:pt x="679" y="1093"/>
                  </a:lnTo>
                  <a:lnTo>
                    <a:pt x="683" y="1093"/>
                  </a:lnTo>
                  <a:lnTo>
                    <a:pt x="686" y="1096"/>
                  </a:lnTo>
                  <a:lnTo>
                    <a:pt x="689" y="1096"/>
                  </a:lnTo>
                  <a:lnTo>
                    <a:pt x="693" y="1096"/>
                  </a:lnTo>
                  <a:lnTo>
                    <a:pt x="696" y="1096"/>
                  </a:lnTo>
                  <a:lnTo>
                    <a:pt x="699" y="1096"/>
                  </a:lnTo>
                  <a:lnTo>
                    <a:pt x="703" y="1096"/>
                  </a:lnTo>
                  <a:lnTo>
                    <a:pt x="706" y="1096"/>
                  </a:lnTo>
                  <a:lnTo>
                    <a:pt x="709" y="1096"/>
                  </a:lnTo>
                  <a:lnTo>
                    <a:pt x="712" y="1096"/>
                  </a:lnTo>
                  <a:lnTo>
                    <a:pt x="716" y="1096"/>
                  </a:lnTo>
                  <a:lnTo>
                    <a:pt x="719" y="1096"/>
                  </a:lnTo>
                  <a:lnTo>
                    <a:pt x="722" y="1096"/>
                  </a:lnTo>
                  <a:lnTo>
                    <a:pt x="726" y="1096"/>
                  </a:lnTo>
                  <a:lnTo>
                    <a:pt x="729" y="1096"/>
                  </a:lnTo>
                  <a:lnTo>
                    <a:pt x="732" y="1096"/>
                  </a:lnTo>
                  <a:lnTo>
                    <a:pt x="736" y="1099"/>
                  </a:lnTo>
                  <a:lnTo>
                    <a:pt x="739" y="1099"/>
                  </a:lnTo>
                  <a:lnTo>
                    <a:pt x="742" y="1099"/>
                  </a:lnTo>
                  <a:lnTo>
                    <a:pt x="745" y="1099"/>
                  </a:lnTo>
                  <a:lnTo>
                    <a:pt x="749" y="1099"/>
                  </a:lnTo>
                  <a:lnTo>
                    <a:pt x="752" y="1099"/>
                  </a:lnTo>
                  <a:lnTo>
                    <a:pt x="755" y="1099"/>
                  </a:lnTo>
                  <a:lnTo>
                    <a:pt x="759" y="1099"/>
                  </a:lnTo>
                  <a:lnTo>
                    <a:pt x="762" y="1099"/>
                  </a:lnTo>
                  <a:lnTo>
                    <a:pt x="765" y="1099"/>
                  </a:lnTo>
                  <a:lnTo>
                    <a:pt x="769" y="1099"/>
                  </a:lnTo>
                  <a:lnTo>
                    <a:pt x="772" y="1099"/>
                  </a:lnTo>
                  <a:lnTo>
                    <a:pt x="775" y="1099"/>
                  </a:lnTo>
                  <a:lnTo>
                    <a:pt x="778" y="1099"/>
                  </a:lnTo>
                  <a:lnTo>
                    <a:pt x="782" y="1099"/>
                  </a:lnTo>
                  <a:lnTo>
                    <a:pt x="785" y="1099"/>
                  </a:lnTo>
                  <a:lnTo>
                    <a:pt x="788" y="1099"/>
                  </a:lnTo>
                  <a:lnTo>
                    <a:pt x="792" y="1099"/>
                  </a:lnTo>
                  <a:lnTo>
                    <a:pt x="795" y="1099"/>
                  </a:lnTo>
                  <a:lnTo>
                    <a:pt x="798" y="1099"/>
                  </a:lnTo>
                  <a:lnTo>
                    <a:pt x="802" y="1103"/>
                  </a:lnTo>
                  <a:lnTo>
                    <a:pt x="805" y="1103"/>
                  </a:lnTo>
                  <a:lnTo>
                    <a:pt x="808" y="1103"/>
                  </a:lnTo>
                  <a:lnTo>
                    <a:pt x="811" y="1103"/>
                  </a:lnTo>
                  <a:lnTo>
                    <a:pt x="815" y="1103"/>
                  </a:lnTo>
                  <a:lnTo>
                    <a:pt x="818" y="1103"/>
                  </a:lnTo>
                  <a:lnTo>
                    <a:pt x="821" y="1103"/>
                  </a:lnTo>
                  <a:lnTo>
                    <a:pt x="825" y="1103"/>
                  </a:lnTo>
                  <a:lnTo>
                    <a:pt x="828" y="1103"/>
                  </a:lnTo>
                  <a:lnTo>
                    <a:pt x="831" y="1103"/>
                  </a:lnTo>
                  <a:lnTo>
                    <a:pt x="835" y="1103"/>
                  </a:lnTo>
                  <a:lnTo>
                    <a:pt x="838" y="1103"/>
                  </a:lnTo>
                  <a:lnTo>
                    <a:pt x="841" y="1103"/>
                  </a:lnTo>
                  <a:lnTo>
                    <a:pt x="844" y="1103"/>
                  </a:lnTo>
                  <a:lnTo>
                    <a:pt x="848" y="1103"/>
                  </a:lnTo>
                  <a:lnTo>
                    <a:pt x="851" y="1103"/>
                  </a:lnTo>
                  <a:lnTo>
                    <a:pt x="854" y="1103"/>
                  </a:lnTo>
                  <a:lnTo>
                    <a:pt x="858" y="1103"/>
                  </a:lnTo>
                  <a:lnTo>
                    <a:pt x="861" y="1103"/>
                  </a:lnTo>
                  <a:lnTo>
                    <a:pt x="864" y="1103"/>
                  </a:lnTo>
                  <a:lnTo>
                    <a:pt x="868" y="1103"/>
                  </a:lnTo>
                  <a:lnTo>
                    <a:pt x="871" y="1103"/>
                  </a:lnTo>
                  <a:lnTo>
                    <a:pt x="874" y="1103"/>
                  </a:lnTo>
                  <a:lnTo>
                    <a:pt x="877" y="1103"/>
                  </a:lnTo>
                  <a:lnTo>
                    <a:pt x="881" y="1103"/>
                  </a:lnTo>
                  <a:lnTo>
                    <a:pt x="884" y="1106"/>
                  </a:lnTo>
                  <a:lnTo>
                    <a:pt x="887" y="1106"/>
                  </a:lnTo>
                  <a:lnTo>
                    <a:pt x="891" y="1106"/>
                  </a:lnTo>
                  <a:lnTo>
                    <a:pt x="894" y="1106"/>
                  </a:lnTo>
                  <a:lnTo>
                    <a:pt x="897" y="1106"/>
                  </a:lnTo>
                  <a:lnTo>
                    <a:pt x="901" y="1106"/>
                  </a:lnTo>
                  <a:lnTo>
                    <a:pt x="904" y="1106"/>
                  </a:lnTo>
                  <a:lnTo>
                    <a:pt x="907" y="1106"/>
                  </a:lnTo>
                  <a:lnTo>
                    <a:pt x="910" y="1106"/>
                  </a:lnTo>
                  <a:lnTo>
                    <a:pt x="914" y="1106"/>
                  </a:lnTo>
                  <a:lnTo>
                    <a:pt x="917" y="1106"/>
                  </a:lnTo>
                  <a:lnTo>
                    <a:pt x="920" y="1106"/>
                  </a:lnTo>
                  <a:lnTo>
                    <a:pt x="924" y="1106"/>
                  </a:lnTo>
                  <a:lnTo>
                    <a:pt x="927" y="1106"/>
                  </a:lnTo>
                  <a:lnTo>
                    <a:pt x="930" y="1106"/>
                  </a:lnTo>
                  <a:lnTo>
                    <a:pt x="934" y="1106"/>
                  </a:lnTo>
                  <a:lnTo>
                    <a:pt x="937" y="1106"/>
                  </a:lnTo>
                  <a:lnTo>
                    <a:pt x="940" y="1106"/>
                  </a:lnTo>
                  <a:lnTo>
                    <a:pt x="943" y="1106"/>
                  </a:lnTo>
                  <a:lnTo>
                    <a:pt x="947" y="1106"/>
                  </a:lnTo>
                  <a:lnTo>
                    <a:pt x="950" y="1106"/>
                  </a:lnTo>
                  <a:lnTo>
                    <a:pt x="953" y="1106"/>
                  </a:lnTo>
                  <a:lnTo>
                    <a:pt x="957" y="1106"/>
                  </a:lnTo>
                  <a:lnTo>
                    <a:pt x="960" y="1106"/>
                  </a:lnTo>
                  <a:lnTo>
                    <a:pt x="963" y="1106"/>
                  </a:lnTo>
                  <a:lnTo>
                    <a:pt x="967" y="1106"/>
                  </a:lnTo>
                  <a:lnTo>
                    <a:pt x="970" y="1106"/>
                  </a:lnTo>
                  <a:lnTo>
                    <a:pt x="973" y="1106"/>
                  </a:lnTo>
                  <a:lnTo>
                    <a:pt x="976" y="1106"/>
                  </a:lnTo>
                  <a:lnTo>
                    <a:pt x="980" y="1106"/>
                  </a:lnTo>
                  <a:lnTo>
                    <a:pt x="983" y="1106"/>
                  </a:lnTo>
                  <a:lnTo>
                    <a:pt x="986" y="1106"/>
                  </a:lnTo>
                  <a:lnTo>
                    <a:pt x="990" y="1106"/>
                  </a:lnTo>
                  <a:lnTo>
                    <a:pt x="993" y="1106"/>
                  </a:lnTo>
                  <a:lnTo>
                    <a:pt x="996" y="1106"/>
                  </a:lnTo>
                  <a:lnTo>
                    <a:pt x="1000" y="1106"/>
                  </a:lnTo>
                  <a:lnTo>
                    <a:pt x="1003" y="1106"/>
                  </a:lnTo>
                  <a:lnTo>
                    <a:pt x="1006" y="1106"/>
                  </a:lnTo>
                  <a:lnTo>
                    <a:pt x="1009" y="1106"/>
                  </a:lnTo>
                  <a:lnTo>
                    <a:pt x="1013" y="1106"/>
                  </a:lnTo>
                  <a:lnTo>
                    <a:pt x="1016" y="1109"/>
                  </a:lnTo>
                  <a:lnTo>
                    <a:pt x="1019" y="1109"/>
                  </a:lnTo>
                  <a:lnTo>
                    <a:pt x="1023" y="1109"/>
                  </a:lnTo>
                  <a:lnTo>
                    <a:pt x="1026" y="1109"/>
                  </a:lnTo>
                  <a:lnTo>
                    <a:pt x="1029" y="1109"/>
                  </a:lnTo>
                  <a:lnTo>
                    <a:pt x="1033" y="1109"/>
                  </a:lnTo>
                  <a:lnTo>
                    <a:pt x="1036" y="1109"/>
                  </a:lnTo>
                  <a:lnTo>
                    <a:pt x="1039" y="1109"/>
                  </a:lnTo>
                  <a:lnTo>
                    <a:pt x="1042" y="1109"/>
                  </a:lnTo>
                  <a:lnTo>
                    <a:pt x="1046" y="1109"/>
                  </a:lnTo>
                  <a:lnTo>
                    <a:pt x="1049" y="1109"/>
                  </a:lnTo>
                  <a:lnTo>
                    <a:pt x="1052" y="1109"/>
                  </a:lnTo>
                  <a:lnTo>
                    <a:pt x="1056" y="1109"/>
                  </a:lnTo>
                  <a:lnTo>
                    <a:pt x="1059" y="1109"/>
                  </a:lnTo>
                  <a:lnTo>
                    <a:pt x="1062" y="1109"/>
                  </a:lnTo>
                  <a:lnTo>
                    <a:pt x="1066" y="1109"/>
                  </a:lnTo>
                  <a:lnTo>
                    <a:pt x="1069" y="1109"/>
                  </a:lnTo>
                  <a:lnTo>
                    <a:pt x="1072" y="1109"/>
                  </a:lnTo>
                  <a:lnTo>
                    <a:pt x="1075" y="1109"/>
                  </a:lnTo>
                  <a:lnTo>
                    <a:pt x="1079" y="1109"/>
                  </a:lnTo>
                  <a:lnTo>
                    <a:pt x="1082" y="1109"/>
                  </a:lnTo>
                  <a:lnTo>
                    <a:pt x="1085" y="1109"/>
                  </a:lnTo>
                  <a:lnTo>
                    <a:pt x="1089" y="1109"/>
                  </a:lnTo>
                  <a:lnTo>
                    <a:pt x="1092" y="1109"/>
                  </a:lnTo>
                  <a:lnTo>
                    <a:pt x="1095" y="1109"/>
                  </a:lnTo>
                  <a:lnTo>
                    <a:pt x="1099" y="1109"/>
                  </a:lnTo>
                  <a:lnTo>
                    <a:pt x="1102" y="1109"/>
                  </a:lnTo>
                  <a:lnTo>
                    <a:pt x="1105" y="1109"/>
                  </a:lnTo>
                  <a:lnTo>
                    <a:pt x="1108" y="1109"/>
                  </a:lnTo>
                  <a:lnTo>
                    <a:pt x="1112" y="1109"/>
                  </a:lnTo>
                  <a:lnTo>
                    <a:pt x="1115" y="1109"/>
                  </a:lnTo>
                  <a:lnTo>
                    <a:pt x="1118" y="1109"/>
                  </a:lnTo>
                  <a:lnTo>
                    <a:pt x="1122" y="1109"/>
                  </a:lnTo>
                  <a:lnTo>
                    <a:pt x="1125" y="1109"/>
                  </a:lnTo>
                  <a:lnTo>
                    <a:pt x="1128" y="1109"/>
                  </a:lnTo>
                  <a:lnTo>
                    <a:pt x="1132" y="1109"/>
                  </a:lnTo>
                  <a:lnTo>
                    <a:pt x="1135" y="1109"/>
                  </a:lnTo>
                  <a:lnTo>
                    <a:pt x="1138" y="1109"/>
                  </a:lnTo>
                  <a:lnTo>
                    <a:pt x="1141" y="1109"/>
                  </a:lnTo>
                  <a:lnTo>
                    <a:pt x="1145" y="1109"/>
                  </a:lnTo>
                  <a:lnTo>
                    <a:pt x="1148" y="1109"/>
                  </a:lnTo>
                  <a:lnTo>
                    <a:pt x="1151" y="1109"/>
                  </a:lnTo>
                  <a:lnTo>
                    <a:pt x="1155" y="1109"/>
                  </a:lnTo>
                  <a:lnTo>
                    <a:pt x="1158" y="1109"/>
                  </a:lnTo>
                  <a:lnTo>
                    <a:pt x="1161" y="1109"/>
                  </a:lnTo>
                  <a:lnTo>
                    <a:pt x="1165" y="1109"/>
                  </a:lnTo>
                  <a:lnTo>
                    <a:pt x="1168" y="1109"/>
                  </a:lnTo>
                  <a:lnTo>
                    <a:pt x="1171" y="1109"/>
                  </a:lnTo>
                  <a:lnTo>
                    <a:pt x="1174" y="1109"/>
                  </a:lnTo>
                  <a:lnTo>
                    <a:pt x="1178" y="1109"/>
                  </a:lnTo>
                  <a:lnTo>
                    <a:pt x="1181" y="1109"/>
                  </a:lnTo>
                  <a:lnTo>
                    <a:pt x="1184" y="1109"/>
                  </a:lnTo>
                  <a:lnTo>
                    <a:pt x="1188" y="1109"/>
                  </a:lnTo>
                  <a:lnTo>
                    <a:pt x="1191" y="1109"/>
                  </a:lnTo>
                  <a:lnTo>
                    <a:pt x="1194" y="1109"/>
                  </a:lnTo>
                  <a:lnTo>
                    <a:pt x="1198" y="1109"/>
                  </a:lnTo>
                  <a:lnTo>
                    <a:pt x="1201" y="1109"/>
                  </a:lnTo>
                  <a:lnTo>
                    <a:pt x="1204" y="1109"/>
                  </a:lnTo>
                  <a:lnTo>
                    <a:pt x="1207" y="1109"/>
                  </a:lnTo>
                  <a:lnTo>
                    <a:pt x="1211" y="1109"/>
                  </a:lnTo>
                  <a:lnTo>
                    <a:pt x="1214" y="1109"/>
                  </a:lnTo>
                  <a:lnTo>
                    <a:pt x="1217" y="1109"/>
                  </a:lnTo>
                  <a:lnTo>
                    <a:pt x="1221" y="1109"/>
                  </a:lnTo>
                  <a:lnTo>
                    <a:pt x="1224" y="1109"/>
                  </a:lnTo>
                  <a:lnTo>
                    <a:pt x="1227" y="1109"/>
                  </a:lnTo>
                  <a:lnTo>
                    <a:pt x="1231" y="1109"/>
                  </a:lnTo>
                  <a:lnTo>
                    <a:pt x="1234" y="1109"/>
                  </a:lnTo>
                  <a:lnTo>
                    <a:pt x="1237" y="1109"/>
                  </a:lnTo>
                  <a:lnTo>
                    <a:pt x="1240" y="1109"/>
                  </a:lnTo>
                  <a:lnTo>
                    <a:pt x="1244" y="1109"/>
                  </a:lnTo>
                  <a:lnTo>
                    <a:pt x="1247" y="1109"/>
                  </a:lnTo>
                  <a:lnTo>
                    <a:pt x="1250" y="1109"/>
                  </a:lnTo>
                  <a:lnTo>
                    <a:pt x="1254" y="1109"/>
                  </a:lnTo>
                  <a:lnTo>
                    <a:pt x="1257" y="1109"/>
                  </a:lnTo>
                  <a:lnTo>
                    <a:pt x="1260" y="1109"/>
                  </a:lnTo>
                  <a:lnTo>
                    <a:pt x="1264" y="1109"/>
                  </a:lnTo>
                  <a:lnTo>
                    <a:pt x="1267" y="1109"/>
                  </a:lnTo>
                  <a:lnTo>
                    <a:pt x="1270" y="1109"/>
                  </a:lnTo>
                  <a:lnTo>
                    <a:pt x="1273" y="1109"/>
                  </a:lnTo>
                  <a:lnTo>
                    <a:pt x="1277" y="1109"/>
                  </a:lnTo>
                  <a:lnTo>
                    <a:pt x="1280" y="1109"/>
                  </a:lnTo>
                  <a:lnTo>
                    <a:pt x="1283" y="1109"/>
                  </a:lnTo>
                  <a:lnTo>
                    <a:pt x="1287" y="1109"/>
                  </a:lnTo>
                  <a:lnTo>
                    <a:pt x="1290" y="1109"/>
                  </a:lnTo>
                  <a:lnTo>
                    <a:pt x="1293" y="1109"/>
                  </a:lnTo>
                  <a:lnTo>
                    <a:pt x="1297" y="1109"/>
                  </a:lnTo>
                  <a:lnTo>
                    <a:pt x="1300" y="1109"/>
                  </a:lnTo>
                  <a:lnTo>
                    <a:pt x="1303" y="1109"/>
                  </a:lnTo>
                  <a:lnTo>
                    <a:pt x="1306" y="1109"/>
                  </a:lnTo>
                  <a:lnTo>
                    <a:pt x="1310" y="1109"/>
                  </a:lnTo>
                  <a:lnTo>
                    <a:pt x="1313" y="1109"/>
                  </a:lnTo>
                  <a:lnTo>
                    <a:pt x="1316" y="1109"/>
                  </a:lnTo>
                  <a:lnTo>
                    <a:pt x="1320" y="1112"/>
                  </a:lnTo>
                  <a:lnTo>
                    <a:pt x="1323" y="1112"/>
                  </a:lnTo>
                  <a:lnTo>
                    <a:pt x="1326" y="1112"/>
                  </a:lnTo>
                  <a:lnTo>
                    <a:pt x="1330" y="1112"/>
                  </a:lnTo>
                  <a:lnTo>
                    <a:pt x="1333" y="1112"/>
                  </a:lnTo>
                  <a:lnTo>
                    <a:pt x="1336" y="1112"/>
                  </a:lnTo>
                  <a:lnTo>
                    <a:pt x="1339" y="1112"/>
                  </a:lnTo>
                  <a:lnTo>
                    <a:pt x="1343" y="1112"/>
                  </a:lnTo>
                  <a:lnTo>
                    <a:pt x="1346" y="1112"/>
                  </a:lnTo>
                  <a:lnTo>
                    <a:pt x="1349" y="1112"/>
                  </a:lnTo>
                  <a:lnTo>
                    <a:pt x="1353" y="1112"/>
                  </a:lnTo>
                  <a:lnTo>
                    <a:pt x="1356" y="1112"/>
                  </a:lnTo>
                  <a:lnTo>
                    <a:pt x="1359" y="1112"/>
                  </a:lnTo>
                  <a:lnTo>
                    <a:pt x="1363" y="1112"/>
                  </a:lnTo>
                  <a:lnTo>
                    <a:pt x="1366" y="1112"/>
                  </a:lnTo>
                  <a:lnTo>
                    <a:pt x="1369" y="1112"/>
                  </a:lnTo>
                  <a:lnTo>
                    <a:pt x="1372" y="1112"/>
                  </a:lnTo>
                  <a:lnTo>
                    <a:pt x="1376" y="1112"/>
                  </a:lnTo>
                  <a:lnTo>
                    <a:pt x="1379" y="1112"/>
                  </a:lnTo>
                  <a:lnTo>
                    <a:pt x="1382" y="1112"/>
                  </a:lnTo>
                  <a:lnTo>
                    <a:pt x="1386" y="1112"/>
                  </a:lnTo>
                  <a:lnTo>
                    <a:pt x="1389" y="1112"/>
                  </a:lnTo>
                  <a:lnTo>
                    <a:pt x="1392" y="1112"/>
                  </a:lnTo>
                  <a:lnTo>
                    <a:pt x="1396" y="1112"/>
                  </a:lnTo>
                  <a:lnTo>
                    <a:pt x="1399" y="1112"/>
                  </a:lnTo>
                  <a:lnTo>
                    <a:pt x="1402" y="1112"/>
                  </a:lnTo>
                  <a:lnTo>
                    <a:pt x="1405" y="1112"/>
                  </a:lnTo>
                  <a:lnTo>
                    <a:pt x="1409" y="1112"/>
                  </a:lnTo>
                  <a:lnTo>
                    <a:pt x="1412" y="1112"/>
                  </a:lnTo>
                  <a:lnTo>
                    <a:pt x="1415" y="1112"/>
                  </a:lnTo>
                  <a:lnTo>
                    <a:pt x="1419" y="1112"/>
                  </a:lnTo>
                  <a:lnTo>
                    <a:pt x="1422" y="1112"/>
                  </a:lnTo>
                  <a:lnTo>
                    <a:pt x="1425" y="1112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83200" y="3691080"/>
              <a:ext cx="36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60840" y="40543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47040" y="4048200"/>
              <a:ext cx="309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73520" y="1857240"/>
              <a:ext cx="89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00"/>
                  </a:solidFill>
                  <a:latin typeface="Times New Roman"/>
                </a:rPr>
                <a:t>|G(</a:t>
              </a:r>
              <a:r>
                <a:rPr b="0" i="1" lang="hr-HR" sz="20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r>
                <a:rPr b="0" lang="hr-HR" sz="2000" spc="-1" strike="noStrike" baseline="30000">
                  <a:solidFill>
                    <a:srgbClr val="ffff00"/>
                  </a:solidFill>
                  <a:latin typeface="Times New Roman"/>
                </a:rPr>
                <a:t>j</a:t>
              </a:r>
              <a:r>
                <a:rPr b="0" lang="hr-HR" sz="2000" spc="-1" strike="noStrike" baseline="30000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hr-HR" sz="2000" spc="-1" strike="noStrike">
                  <a:solidFill>
                    <a:srgbClr val="ffff00"/>
                  </a:solidFill>
                  <a:latin typeface="Times New Roman"/>
                </a:rPr>
                <a:t>)|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220720" y="1844640"/>
            <a:ext cx="3456360" cy="2563920"/>
            <a:chOff x="5220720" y="1844640"/>
            <a:chExt cx="3456360" cy="2563920"/>
          </a:xfrm>
        </p:grpSpPr>
        <p:sp>
          <p:nvSpPr>
            <p:cNvPr id="477" name=""/>
            <p:cNvSpPr/>
            <p:nvPr/>
          </p:nvSpPr>
          <p:spPr>
            <a:xfrm>
              <a:off x="5220720" y="3043080"/>
              <a:ext cx="790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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5984280" y="1844640"/>
              <a:ext cx="2692800" cy="2563920"/>
              <a:chOff x="5984280" y="1844640"/>
              <a:chExt cx="2692800" cy="2563920"/>
            </a:xfrm>
          </p:grpSpPr>
          <p:sp>
            <p:nvSpPr>
              <p:cNvPr id="479" name=""/>
              <p:cNvSpPr/>
              <p:nvPr/>
            </p:nvSpPr>
            <p:spPr>
              <a:xfrm flipV="1">
                <a:off x="6554160" y="2269800"/>
                <a:ext cx="0" cy="1787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6970320" y="2269800"/>
                <a:ext cx="0" cy="1787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390800" y="2269800"/>
                <a:ext cx="0" cy="1787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7805520" y="2269800"/>
                <a:ext cx="0" cy="1787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8227440" y="2269800"/>
                <a:ext cx="0" cy="1787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133680" y="4057560"/>
                <a:ext cx="20937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133680" y="3700440"/>
                <a:ext cx="20937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33680" y="3344760"/>
                <a:ext cx="20937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133680" y="2982960"/>
                <a:ext cx="20937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33680" y="2627280"/>
                <a:ext cx="20937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133680" y="2270160"/>
                <a:ext cx="20937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133680" y="2270160"/>
                <a:ext cx="2095200" cy="1789200"/>
              </a:xfrm>
              <a:custGeom>
                <a:avLst/>
                <a:gdLst/>
                <a:ahLst/>
                <a:rect l="l" t="t" r="r" b="b"/>
                <a:pathLst>
                  <a:path w="1430" h="1127">
                    <a:moveTo>
                      <a:pt x="0" y="1126"/>
                    </a:moveTo>
                    <a:lnTo>
                      <a:pt x="0" y="0"/>
                    </a:lnTo>
                    <a:lnTo>
                      <a:pt x="1429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33680" y="2270160"/>
                <a:ext cx="2095200" cy="1789200"/>
              </a:xfrm>
              <a:custGeom>
                <a:avLst/>
                <a:gdLst/>
                <a:ahLst/>
                <a:rect l="l" t="t" r="r" b="b"/>
                <a:pathLst>
                  <a:path w="1430" h="1127">
                    <a:moveTo>
                      <a:pt x="0" y="1126"/>
                    </a:moveTo>
                    <a:lnTo>
                      <a:pt x="0" y="0"/>
                    </a:lnTo>
                    <a:lnTo>
                      <a:pt x="1429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33680" y="2270160"/>
                <a:ext cx="2095200" cy="1789200"/>
              </a:xfrm>
              <a:custGeom>
                <a:avLst/>
                <a:gdLst/>
                <a:ahLst/>
                <a:rect l="l" t="t" r="r" b="b"/>
                <a:pathLst>
                  <a:path w="1430" h="1127">
                    <a:moveTo>
                      <a:pt x="0" y="1126"/>
                    </a:moveTo>
                    <a:lnTo>
                      <a:pt x="0" y="0"/>
                    </a:lnTo>
                    <a:lnTo>
                      <a:pt x="1429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33680" y="4057560"/>
                <a:ext cx="20937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133680" y="2270160"/>
                <a:ext cx="20937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133680" y="2269800"/>
                <a:ext cx="0" cy="1787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8227440" y="2269800"/>
                <a:ext cx="0" cy="1787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33680" y="227016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33680" y="4057560"/>
                <a:ext cx="20937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133680" y="2269800"/>
                <a:ext cx="0" cy="1787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133680" y="405756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133680" y="4035240"/>
                <a:ext cx="0" cy="21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33680" y="2270160"/>
                <a:ext cx="0" cy="223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554160" y="4035240"/>
                <a:ext cx="0" cy="21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554160" y="2270160"/>
                <a:ext cx="0" cy="223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970320" y="4035240"/>
                <a:ext cx="0" cy="21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70320" y="2270160"/>
                <a:ext cx="0" cy="223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7390800" y="4035240"/>
                <a:ext cx="0" cy="21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90800" y="2270160"/>
                <a:ext cx="0" cy="223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7805520" y="4035240"/>
                <a:ext cx="0" cy="21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05520" y="2270160"/>
                <a:ext cx="0" cy="223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8227440" y="4035240"/>
                <a:ext cx="0" cy="219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227440" y="2270160"/>
                <a:ext cx="0" cy="223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33680" y="4057560"/>
                <a:ext cx="18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8206560" y="4057560"/>
                <a:ext cx="205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33680" y="3700440"/>
                <a:ext cx="18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8206560" y="3700440"/>
                <a:ext cx="205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133680" y="3344760"/>
                <a:ext cx="18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8206560" y="3344760"/>
                <a:ext cx="205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133680" y="2982960"/>
                <a:ext cx="18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8206560" y="2982960"/>
                <a:ext cx="205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133680" y="2627280"/>
                <a:ext cx="18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8206560" y="2627280"/>
                <a:ext cx="205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33680" y="2270160"/>
                <a:ext cx="18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8206560" y="2270160"/>
                <a:ext cx="205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133680" y="4057560"/>
                <a:ext cx="2407320" cy="1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33680" y="2270160"/>
                <a:ext cx="20937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6133680" y="2004840"/>
                <a:ext cx="1440" cy="20527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8227440" y="2269800"/>
                <a:ext cx="0" cy="1787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33680" y="405756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33680" y="2270160"/>
                <a:ext cx="2089080" cy="1579680"/>
              </a:xfrm>
              <a:custGeom>
                <a:avLst/>
                <a:gdLst/>
                <a:ahLst/>
                <a:rect l="l" t="t" r="r" b="b"/>
                <a:pathLst>
                  <a:path w="1426" h="995">
                    <a:moveTo>
                      <a:pt x="0" y="373"/>
                    </a:moveTo>
                    <a:lnTo>
                      <a:pt x="3" y="373"/>
                    </a:lnTo>
                    <a:lnTo>
                      <a:pt x="6" y="373"/>
                    </a:lnTo>
                    <a:lnTo>
                      <a:pt x="10" y="373"/>
                    </a:lnTo>
                    <a:lnTo>
                      <a:pt x="10" y="370"/>
                    </a:lnTo>
                    <a:lnTo>
                      <a:pt x="13" y="370"/>
                    </a:lnTo>
                    <a:lnTo>
                      <a:pt x="16" y="370"/>
                    </a:lnTo>
                    <a:lnTo>
                      <a:pt x="19" y="370"/>
                    </a:lnTo>
                    <a:lnTo>
                      <a:pt x="23" y="367"/>
                    </a:lnTo>
                    <a:lnTo>
                      <a:pt x="26" y="367"/>
                    </a:lnTo>
                    <a:lnTo>
                      <a:pt x="29" y="363"/>
                    </a:lnTo>
                    <a:lnTo>
                      <a:pt x="33" y="363"/>
                    </a:lnTo>
                    <a:lnTo>
                      <a:pt x="36" y="360"/>
                    </a:lnTo>
                    <a:lnTo>
                      <a:pt x="39" y="360"/>
                    </a:lnTo>
                    <a:lnTo>
                      <a:pt x="43" y="357"/>
                    </a:lnTo>
                    <a:lnTo>
                      <a:pt x="46" y="357"/>
                    </a:lnTo>
                    <a:lnTo>
                      <a:pt x="46" y="353"/>
                    </a:lnTo>
                    <a:lnTo>
                      <a:pt x="49" y="350"/>
                    </a:lnTo>
                    <a:lnTo>
                      <a:pt x="52" y="350"/>
                    </a:lnTo>
                    <a:lnTo>
                      <a:pt x="56" y="347"/>
                    </a:lnTo>
                    <a:lnTo>
                      <a:pt x="59" y="344"/>
                    </a:lnTo>
                    <a:lnTo>
                      <a:pt x="62" y="340"/>
                    </a:lnTo>
                    <a:lnTo>
                      <a:pt x="62" y="337"/>
                    </a:lnTo>
                    <a:lnTo>
                      <a:pt x="66" y="337"/>
                    </a:lnTo>
                    <a:lnTo>
                      <a:pt x="69" y="334"/>
                    </a:lnTo>
                    <a:lnTo>
                      <a:pt x="72" y="330"/>
                    </a:lnTo>
                    <a:lnTo>
                      <a:pt x="76" y="327"/>
                    </a:lnTo>
                    <a:lnTo>
                      <a:pt x="79" y="324"/>
                    </a:lnTo>
                    <a:lnTo>
                      <a:pt x="82" y="317"/>
                    </a:lnTo>
                    <a:lnTo>
                      <a:pt x="82" y="314"/>
                    </a:lnTo>
                    <a:lnTo>
                      <a:pt x="85" y="311"/>
                    </a:lnTo>
                    <a:lnTo>
                      <a:pt x="89" y="307"/>
                    </a:lnTo>
                    <a:lnTo>
                      <a:pt x="92" y="304"/>
                    </a:lnTo>
                    <a:lnTo>
                      <a:pt x="95" y="297"/>
                    </a:lnTo>
                    <a:lnTo>
                      <a:pt x="99" y="294"/>
                    </a:lnTo>
                    <a:lnTo>
                      <a:pt x="99" y="291"/>
                    </a:lnTo>
                    <a:lnTo>
                      <a:pt x="102" y="284"/>
                    </a:lnTo>
                    <a:lnTo>
                      <a:pt x="105" y="281"/>
                    </a:lnTo>
                    <a:lnTo>
                      <a:pt x="109" y="274"/>
                    </a:lnTo>
                    <a:lnTo>
                      <a:pt x="112" y="271"/>
                    </a:lnTo>
                    <a:lnTo>
                      <a:pt x="115" y="264"/>
                    </a:lnTo>
                    <a:lnTo>
                      <a:pt x="118" y="261"/>
                    </a:lnTo>
                    <a:lnTo>
                      <a:pt x="118" y="254"/>
                    </a:lnTo>
                    <a:lnTo>
                      <a:pt x="122" y="251"/>
                    </a:lnTo>
                    <a:lnTo>
                      <a:pt x="125" y="245"/>
                    </a:lnTo>
                    <a:lnTo>
                      <a:pt x="128" y="238"/>
                    </a:lnTo>
                    <a:lnTo>
                      <a:pt x="132" y="231"/>
                    </a:lnTo>
                    <a:lnTo>
                      <a:pt x="135" y="228"/>
                    </a:lnTo>
                    <a:lnTo>
                      <a:pt x="135" y="221"/>
                    </a:lnTo>
                    <a:lnTo>
                      <a:pt x="138" y="215"/>
                    </a:lnTo>
                    <a:lnTo>
                      <a:pt x="142" y="208"/>
                    </a:lnTo>
                    <a:lnTo>
                      <a:pt x="145" y="202"/>
                    </a:lnTo>
                    <a:lnTo>
                      <a:pt x="148" y="198"/>
                    </a:lnTo>
                    <a:lnTo>
                      <a:pt x="151" y="192"/>
                    </a:lnTo>
                    <a:lnTo>
                      <a:pt x="155" y="185"/>
                    </a:lnTo>
                    <a:lnTo>
                      <a:pt x="155" y="179"/>
                    </a:lnTo>
                    <a:lnTo>
                      <a:pt x="158" y="172"/>
                    </a:lnTo>
                    <a:lnTo>
                      <a:pt x="161" y="165"/>
                    </a:lnTo>
                    <a:lnTo>
                      <a:pt x="165" y="159"/>
                    </a:lnTo>
                    <a:lnTo>
                      <a:pt x="168" y="152"/>
                    </a:lnTo>
                    <a:lnTo>
                      <a:pt x="171" y="146"/>
                    </a:lnTo>
                    <a:lnTo>
                      <a:pt x="171" y="139"/>
                    </a:lnTo>
                    <a:lnTo>
                      <a:pt x="175" y="132"/>
                    </a:lnTo>
                    <a:lnTo>
                      <a:pt x="178" y="126"/>
                    </a:lnTo>
                    <a:lnTo>
                      <a:pt x="181" y="119"/>
                    </a:lnTo>
                    <a:lnTo>
                      <a:pt x="184" y="113"/>
                    </a:lnTo>
                    <a:lnTo>
                      <a:pt x="188" y="106"/>
                    </a:lnTo>
                    <a:lnTo>
                      <a:pt x="191" y="99"/>
                    </a:lnTo>
                    <a:lnTo>
                      <a:pt x="191" y="93"/>
                    </a:lnTo>
                    <a:lnTo>
                      <a:pt x="194" y="86"/>
                    </a:lnTo>
                    <a:lnTo>
                      <a:pt x="198" y="80"/>
                    </a:lnTo>
                    <a:lnTo>
                      <a:pt x="201" y="73"/>
                    </a:lnTo>
                    <a:lnTo>
                      <a:pt x="204" y="66"/>
                    </a:lnTo>
                    <a:lnTo>
                      <a:pt x="208" y="63"/>
                    </a:lnTo>
                    <a:lnTo>
                      <a:pt x="208" y="56"/>
                    </a:lnTo>
                    <a:lnTo>
                      <a:pt x="211" y="50"/>
                    </a:lnTo>
                    <a:lnTo>
                      <a:pt x="214" y="47"/>
                    </a:lnTo>
                    <a:lnTo>
                      <a:pt x="217" y="40"/>
                    </a:lnTo>
                    <a:lnTo>
                      <a:pt x="221" y="37"/>
                    </a:lnTo>
                    <a:lnTo>
                      <a:pt x="224" y="30"/>
                    </a:lnTo>
                    <a:lnTo>
                      <a:pt x="227" y="27"/>
                    </a:lnTo>
                    <a:lnTo>
                      <a:pt x="227" y="23"/>
                    </a:lnTo>
                    <a:lnTo>
                      <a:pt x="231" y="17"/>
                    </a:lnTo>
                    <a:lnTo>
                      <a:pt x="234" y="14"/>
                    </a:lnTo>
                    <a:lnTo>
                      <a:pt x="237" y="10"/>
                    </a:lnTo>
                    <a:lnTo>
                      <a:pt x="241" y="10"/>
                    </a:lnTo>
                    <a:lnTo>
                      <a:pt x="244" y="7"/>
                    </a:lnTo>
                    <a:lnTo>
                      <a:pt x="244" y="4"/>
                    </a:lnTo>
                    <a:lnTo>
                      <a:pt x="247" y="4"/>
                    </a:lnTo>
                    <a:lnTo>
                      <a:pt x="250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0" y="0"/>
                    </a:lnTo>
                    <a:lnTo>
                      <a:pt x="264" y="0"/>
                    </a:lnTo>
                    <a:lnTo>
                      <a:pt x="267" y="4"/>
                    </a:lnTo>
                    <a:lnTo>
                      <a:pt x="270" y="4"/>
                    </a:lnTo>
                    <a:lnTo>
                      <a:pt x="274" y="7"/>
                    </a:lnTo>
                    <a:lnTo>
                      <a:pt x="277" y="10"/>
                    </a:lnTo>
                    <a:lnTo>
                      <a:pt x="280" y="14"/>
                    </a:lnTo>
                    <a:lnTo>
                      <a:pt x="280" y="17"/>
                    </a:lnTo>
                    <a:lnTo>
                      <a:pt x="283" y="20"/>
                    </a:lnTo>
                    <a:lnTo>
                      <a:pt x="287" y="23"/>
                    </a:lnTo>
                    <a:lnTo>
                      <a:pt x="290" y="30"/>
                    </a:lnTo>
                    <a:lnTo>
                      <a:pt x="293" y="37"/>
                    </a:lnTo>
                    <a:lnTo>
                      <a:pt x="297" y="40"/>
                    </a:lnTo>
                    <a:lnTo>
                      <a:pt x="297" y="47"/>
                    </a:lnTo>
                    <a:lnTo>
                      <a:pt x="300" y="53"/>
                    </a:lnTo>
                    <a:lnTo>
                      <a:pt x="303" y="60"/>
                    </a:lnTo>
                    <a:lnTo>
                      <a:pt x="307" y="66"/>
                    </a:lnTo>
                    <a:lnTo>
                      <a:pt x="310" y="73"/>
                    </a:lnTo>
                    <a:lnTo>
                      <a:pt x="313" y="83"/>
                    </a:lnTo>
                    <a:lnTo>
                      <a:pt x="316" y="89"/>
                    </a:lnTo>
                    <a:lnTo>
                      <a:pt x="316" y="99"/>
                    </a:lnTo>
                    <a:lnTo>
                      <a:pt x="320" y="106"/>
                    </a:lnTo>
                    <a:lnTo>
                      <a:pt x="323" y="116"/>
                    </a:lnTo>
                    <a:lnTo>
                      <a:pt x="326" y="122"/>
                    </a:lnTo>
                    <a:lnTo>
                      <a:pt x="330" y="132"/>
                    </a:lnTo>
                    <a:lnTo>
                      <a:pt x="333" y="142"/>
                    </a:lnTo>
                    <a:lnTo>
                      <a:pt x="333" y="152"/>
                    </a:lnTo>
                    <a:lnTo>
                      <a:pt x="336" y="159"/>
                    </a:lnTo>
                    <a:lnTo>
                      <a:pt x="340" y="169"/>
                    </a:lnTo>
                    <a:lnTo>
                      <a:pt x="343" y="179"/>
                    </a:lnTo>
                    <a:lnTo>
                      <a:pt x="346" y="188"/>
                    </a:lnTo>
                    <a:lnTo>
                      <a:pt x="349" y="198"/>
                    </a:lnTo>
                    <a:lnTo>
                      <a:pt x="353" y="208"/>
                    </a:lnTo>
                    <a:lnTo>
                      <a:pt x="353" y="218"/>
                    </a:lnTo>
                    <a:lnTo>
                      <a:pt x="356" y="228"/>
                    </a:lnTo>
                    <a:lnTo>
                      <a:pt x="359" y="238"/>
                    </a:lnTo>
                    <a:lnTo>
                      <a:pt x="363" y="248"/>
                    </a:lnTo>
                    <a:lnTo>
                      <a:pt x="366" y="258"/>
                    </a:lnTo>
                    <a:lnTo>
                      <a:pt x="369" y="268"/>
                    </a:lnTo>
                    <a:lnTo>
                      <a:pt x="369" y="278"/>
                    </a:lnTo>
                    <a:lnTo>
                      <a:pt x="373" y="287"/>
                    </a:lnTo>
                    <a:lnTo>
                      <a:pt x="376" y="297"/>
                    </a:lnTo>
                    <a:lnTo>
                      <a:pt x="379" y="307"/>
                    </a:lnTo>
                    <a:lnTo>
                      <a:pt x="382" y="314"/>
                    </a:lnTo>
                    <a:lnTo>
                      <a:pt x="386" y="324"/>
                    </a:lnTo>
                    <a:lnTo>
                      <a:pt x="389" y="334"/>
                    </a:lnTo>
                    <a:lnTo>
                      <a:pt x="389" y="344"/>
                    </a:lnTo>
                    <a:lnTo>
                      <a:pt x="392" y="353"/>
                    </a:lnTo>
                    <a:lnTo>
                      <a:pt x="396" y="363"/>
                    </a:lnTo>
                    <a:lnTo>
                      <a:pt x="399" y="370"/>
                    </a:lnTo>
                    <a:lnTo>
                      <a:pt x="402" y="380"/>
                    </a:lnTo>
                    <a:lnTo>
                      <a:pt x="406" y="390"/>
                    </a:lnTo>
                    <a:lnTo>
                      <a:pt x="406" y="396"/>
                    </a:lnTo>
                    <a:lnTo>
                      <a:pt x="409" y="406"/>
                    </a:lnTo>
                    <a:lnTo>
                      <a:pt x="412" y="413"/>
                    </a:lnTo>
                    <a:lnTo>
                      <a:pt x="415" y="423"/>
                    </a:lnTo>
                    <a:lnTo>
                      <a:pt x="419" y="429"/>
                    </a:lnTo>
                    <a:lnTo>
                      <a:pt x="422" y="439"/>
                    </a:lnTo>
                    <a:lnTo>
                      <a:pt x="425" y="446"/>
                    </a:lnTo>
                    <a:lnTo>
                      <a:pt x="425" y="456"/>
                    </a:lnTo>
                    <a:lnTo>
                      <a:pt x="429" y="462"/>
                    </a:lnTo>
                    <a:lnTo>
                      <a:pt x="432" y="469"/>
                    </a:lnTo>
                    <a:lnTo>
                      <a:pt x="435" y="479"/>
                    </a:lnTo>
                    <a:lnTo>
                      <a:pt x="439" y="485"/>
                    </a:lnTo>
                    <a:lnTo>
                      <a:pt x="442" y="492"/>
                    </a:lnTo>
                    <a:lnTo>
                      <a:pt x="442" y="499"/>
                    </a:lnTo>
                    <a:lnTo>
                      <a:pt x="445" y="509"/>
                    </a:lnTo>
                    <a:lnTo>
                      <a:pt x="448" y="515"/>
                    </a:lnTo>
                    <a:lnTo>
                      <a:pt x="452" y="522"/>
                    </a:lnTo>
                    <a:lnTo>
                      <a:pt x="455" y="528"/>
                    </a:lnTo>
                    <a:lnTo>
                      <a:pt x="458" y="535"/>
                    </a:lnTo>
                    <a:lnTo>
                      <a:pt x="462" y="542"/>
                    </a:lnTo>
                    <a:lnTo>
                      <a:pt x="462" y="548"/>
                    </a:lnTo>
                    <a:lnTo>
                      <a:pt x="465" y="555"/>
                    </a:lnTo>
                    <a:lnTo>
                      <a:pt x="468" y="561"/>
                    </a:lnTo>
                    <a:lnTo>
                      <a:pt x="472" y="568"/>
                    </a:lnTo>
                    <a:lnTo>
                      <a:pt x="475" y="571"/>
                    </a:lnTo>
                    <a:lnTo>
                      <a:pt x="478" y="578"/>
                    </a:lnTo>
                    <a:lnTo>
                      <a:pt x="478" y="584"/>
                    </a:lnTo>
                    <a:lnTo>
                      <a:pt x="481" y="591"/>
                    </a:lnTo>
                    <a:lnTo>
                      <a:pt x="485" y="598"/>
                    </a:lnTo>
                    <a:lnTo>
                      <a:pt x="488" y="601"/>
                    </a:lnTo>
                    <a:lnTo>
                      <a:pt x="491" y="608"/>
                    </a:lnTo>
                    <a:lnTo>
                      <a:pt x="495" y="614"/>
                    </a:lnTo>
                    <a:lnTo>
                      <a:pt x="498" y="617"/>
                    </a:lnTo>
                    <a:lnTo>
                      <a:pt x="498" y="624"/>
                    </a:lnTo>
                    <a:lnTo>
                      <a:pt x="501" y="627"/>
                    </a:lnTo>
                    <a:lnTo>
                      <a:pt x="505" y="634"/>
                    </a:lnTo>
                    <a:lnTo>
                      <a:pt x="508" y="637"/>
                    </a:lnTo>
                    <a:lnTo>
                      <a:pt x="511" y="644"/>
                    </a:lnTo>
                    <a:lnTo>
                      <a:pt x="514" y="647"/>
                    </a:lnTo>
                    <a:lnTo>
                      <a:pt x="514" y="654"/>
                    </a:lnTo>
                    <a:lnTo>
                      <a:pt x="518" y="657"/>
                    </a:lnTo>
                    <a:lnTo>
                      <a:pt x="521" y="664"/>
                    </a:lnTo>
                    <a:lnTo>
                      <a:pt x="524" y="667"/>
                    </a:lnTo>
                    <a:lnTo>
                      <a:pt x="528" y="670"/>
                    </a:lnTo>
                    <a:lnTo>
                      <a:pt x="531" y="677"/>
                    </a:lnTo>
                    <a:lnTo>
                      <a:pt x="534" y="680"/>
                    </a:lnTo>
                    <a:lnTo>
                      <a:pt x="534" y="683"/>
                    </a:lnTo>
                    <a:lnTo>
                      <a:pt x="538" y="690"/>
                    </a:lnTo>
                    <a:lnTo>
                      <a:pt x="541" y="693"/>
                    </a:lnTo>
                    <a:lnTo>
                      <a:pt x="544" y="697"/>
                    </a:lnTo>
                    <a:lnTo>
                      <a:pt x="547" y="700"/>
                    </a:lnTo>
                    <a:lnTo>
                      <a:pt x="551" y="707"/>
                    </a:lnTo>
                    <a:lnTo>
                      <a:pt x="551" y="710"/>
                    </a:lnTo>
                    <a:lnTo>
                      <a:pt x="554" y="713"/>
                    </a:lnTo>
                    <a:lnTo>
                      <a:pt x="557" y="716"/>
                    </a:lnTo>
                    <a:lnTo>
                      <a:pt x="561" y="720"/>
                    </a:lnTo>
                    <a:lnTo>
                      <a:pt x="564" y="723"/>
                    </a:lnTo>
                    <a:lnTo>
                      <a:pt x="567" y="726"/>
                    </a:lnTo>
                    <a:lnTo>
                      <a:pt x="571" y="730"/>
                    </a:lnTo>
                    <a:lnTo>
                      <a:pt x="571" y="733"/>
                    </a:lnTo>
                    <a:lnTo>
                      <a:pt x="574" y="736"/>
                    </a:lnTo>
                    <a:lnTo>
                      <a:pt x="577" y="743"/>
                    </a:lnTo>
                    <a:lnTo>
                      <a:pt x="580" y="746"/>
                    </a:lnTo>
                    <a:lnTo>
                      <a:pt x="584" y="749"/>
                    </a:lnTo>
                    <a:lnTo>
                      <a:pt x="587" y="749"/>
                    </a:lnTo>
                    <a:lnTo>
                      <a:pt x="587" y="753"/>
                    </a:lnTo>
                    <a:lnTo>
                      <a:pt x="590" y="756"/>
                    </a:lnTo>
                    <a:lnTo>
                      <a:pt x="594" y="759"/>
                    </a:lnTo>
                    <a:lnTo>
                      <a:pt x="597" y="763"/>
                    </a:lnTo>
                    <a:lnTo>
                      <a:pt x="600" y="766"/>
                    </a:lnTo>
                    <a:lnTo>
                      <a:pt x="604" y="769"/>
                    </a:lnTo>
                    <a:lnTo>
                      <a:pt x="607" y="773"/>
                    </a:lnTo>
                    <a:lnTo>
                      <a:pt x="607" y="776"/>
                    </a:lnTo>
                    <a:lnTo>
                      <a:pt x="610" y="779"/>
                    </a:lnTo>
                    <a:lnTo>
                      <a:pt x="613" y="782"/>
                    </a:lnTo>
                    <a:lnTo>
                      <a:pt x="617" y="782"/>
                    </a:lnTo>
                    <a:lnTo>
                      <a:pt x="620" y="786"/>
                    </a:lnTo>
                    <a:lnTo>
                      <a:pt x="623" y="789"/>
                    </a:lnTo>
                    <a:lnTo>
                      <a:pt x="623" y="792"/>
                    </a:lnTo>
                    <a:lnTo>
                      <a:pt x="627" y="796"/>
                    </a:lnTo>
                    <a:lnTo>
                      <a:pt x="630" y="796"/>
                    </a:lnTo>
                    <a:lnTo>
                      <a:pt x="633" y="799"/>
                    </a:lnTo>
                    <a:lnTo>
                      <a:pt x="637" y="802"/>
                    </a:lnTo>
                    <a:lnTo>
                      <a:pt x="640" y="806"/>
                    </a:lnTo>
                    <a:lnTo>
                      <a:pt x="643" y="806"/>
                    </a:lnTo>
                    <a:lnTo>
                      <a:pt x="643" y="809"/>
                    </a:lnTo>
                    <a:lnTo>
                      <a:pt x="646" y="812"/>
                    </a:lnTo>
                    <a:lnTo>
                      <a:pt x="650" y="812"/>
                    </a:lnTo>
                    <a:lnTo>
                      <a:pt x="653" y="815"/>
                    </a:lnTo>
                    <a:lnTo>
                      <a:pt x="656" y="819"/>
                    </a:lnTo>
                    <a:lnTo>
                      <a:pt x="660" y="822"/>
                    </a:lnTo>
                    <a:lnTo>
                      <a:pt x="663" y="825"/>
                    </a:lnTo>
                    <a:lnTo>
                      <a:pt x="666" y="825"/>
                    </a:lnTo>
                    <a:lnTo>
                      <a:pt x="670" y="829"/>
                    </a:lnTo>
                    <a:lnTo>
                      <a:pt x="673" y="832"/>
                    </a:lnTo>
                    <a:lnTo>
                      <a:pt x="676" y="832"/>
                    </a:lnTo>
                    <a:lnTo>
                      <a:pt x="679" y="835"/>
                    </a:lnTo>
                    <a:lnTo>
                      <a:pt x="679" y="839"/>
                    </a:lnTo>
                    <a:lnTo>
                      <a:pt x="683" y="839"/>
                    </a:lnTo>
                    <a:lnTo>
                      <a:pt x="686" y="842"/>
                    </a:lnTo>
                    <a:lnTo>
                      <a:pt x="689" y="842"/>
                    </a:lnTo>
                    <a:lnTo>
                      <a:pt x="693" y="845"/>
                    </a:lnTo>
                    <a:lnTo>
                      <a:pt x="696" y="848"/>
                    </a:lnTo>
                    <a:lnTo>
                      <a:pt x="699" y="852"/>
                    </a:lnTo>
                    <a:lnTo>
                      <a:pt x="703" y="852"/>
                    </a:lnTo>
                    <a:lnTo>
                      <a:pt x="706" y="855"/>
                    </a:lnTo>
                    <a:lnTo>
                      <a:pt x="709" y="855"/>
                    </a:lnTo>
                    <a:lnTo>
                      <a:pt x="712" y="858"/>
                    </a:lnTo>
                    <a:lnTo>
                      <a:pt x="716" y="858"/>
                    </a:lnTo>
                    <a:lnTo>
                      <a:pt x="716" y="862"/>
                    </a:lnTo>
                    <a:lnTo>
                      <a:pt x="719" y="862"/>
                    </a:lnTo>
                    <a:lnTo>
                      <a:pt x="722" y="865"/>
                    </a:lnTo>
                    <a:lnTo>
                      <a:pt x="726" y="865"/>
                    </a:lnTo>
                    <a:lnTo>
                      <a:pt x="729" y="868"/>
                    </a:lnTo>
                    <a:lnTo>
                      <a:pt x="732" y="868"/>
                    </a:lnTo>
                    <a:lnTo>
                      <a:pt x="732" y="872"/>
                    </a:lnTo>
                    <a:lnTo>
                      <a:pt x="736" y="872"/>
                    </a:lnTo>
                    <a:lnTo>
                      <a:pt x="739" y="875"/>
                    </a:lnTo>
                    <a:lnTo>
                      <a:pt x="742" y="875"/>
                    </a:lnTo>
                    <a:lnTo>
                      <a:pt x="745" y="878"/>
                    </a:lnTo>
                    <a:lnTo>
                      <a:pt x="749" y="878"/>
                    </a:lnTo>
                    <a:lnTo>
                      <a:pt x="752" y="881"/>
                    </a:lnTo>
                    <a:lnTo>
                      <a:pt x="755" y="881"/>
                    </a:lnTo>
                    <a:lnTo>
                      <a:pt x="759" y="885"/>
                    </a:lnTo>
                    <a:lnTo>
                      <a:pt x="762" y="885"/>
                    </a:lnTo>
                    <a:lnTo>
                      <a:pt x="765" y="888"/>
                    </a:lnTo>
                    <a:lnTo>
                      <a:pt x="769" y="888"/>
                    </a:lnTo>
                    <a:lnTo>
                      <a:pt x="772" y="891"/>
                    </a:lnTo>
                    <a:lnTo>
                      <a:pt x="775" y="891"/>
                    </a:lnTo>
                    <a:lnTo>
                      <a:pt x="778" y="895"/>
                    </a:lnTo>
                    <a:lnTo>
                      <a:pt x="782" y="895"/>
                    </a:lnTo>
                    <a:lnTo>
                      <a:pt x="785" y="895"/>
                    </a:lnTo>
                    <a:lnTo>
                      <a:pt x="785" y="898"/>
                    </a:lnTo>
                    <a:lnTo>
                      <a:pt x="788" y="898"/>
                    </a:lnTo>
                    <a:lnTo>
                      <a:pt x="792" y="898"/>
                    </a:lnTo>
                    <a:lnTo>
                      <a:pt x="795" y="901"/>
                    </a:lnTo>
                    <a:lnTo>
                      <a:pt x="798" y="901"/>
                    </a:lnTo>
                    <a:lnTo>
                      <a:pt x="802" y="905"/>
                    </a:lnTo>
                    <a:lnTo>
                      <a:pt x="805" y="905"/>
                    </a:lnTo>
                    <a:lnTo>
                      <a:pt x="808" y="908"/>
                    </a:lnTo>
                    <a:lnTo>
                      <a:pt x="811" y="908"/>
                    </a:lnTo>
                    <a:lnTo>
                      <a:pt x="815" y="908"/>
                    </a:lnTo>
                    <a:lnTo>
                      <a:pt x="818" y="911"/>
                    </a:lnTo>
                    <a:lnTo>
                      <a:pt x="821" y="911"/>
                    </a:lnTo>
                    <a:lnTo>
                      <a:pt x="825" y="914"/>
                    </a:lnTo>
                    <a:lnTo>
                      <a:pt x="828" y="914"/>
                    </a:lnTo>
                    <a:lnTo>
                      <a:pt x="831" y="914"/>
                    </a:lnTo>
                    <a:lnTo>
                      <a:pt x="835" y="914"/>
                    </a:lnTo>
                    <a:lnTo>
                      <a:pt x="838" y="918"/>
                    </a:lnTo>
                    <a:lnTo>
                      <a:pt x="841" y="918"/>
                    </a:lnTo>
                    <a:lnTo>
                      <a:pt x="844" y="921"/>
                    </a:lnTo>
                    <a:lnTo>
                      <a:pt x="848" y="921"/>
                    </a:lnTo>
                    <a:lnTo>
                      <a:pt x="851" y="921"/>
                    </a:lnTo>
                    <a:lnTo>
                      <a:pt x="854" y="924"/>
                    </a:lnTo>
                    <a:lnTo>
                      <a:pt x="858" y="924"/>
                    </a:lnTo>
                    <a:lnTo>
                      <a:pt x="861" y="924"/>
                    </a:lnTo>
                    <a:lnTo>
                      <a:pt x="864" y="928"/>
                    </a:lnTo>
                    <a:lnTo>
                      <a:pt x="868" y="928"/>
                    </a:lnTo>
                    <a:lnTo>
                      <a:pt x="871" y="928"/>
                    </a:lnTo>
                    <a:lnTo>
                      <a:pt x="874" y="928"/>
                    </a:lnTo>
                    <a:lnTo>
                      <a:pt x="877" y="931"/>
                    </a:lnTo>
                    <a:lnTo>
                      <a:pt x="881" y="931"/>
                    </a:lnTo>
                    <a:lnTo>
                      <a:pt x="884" y="934"/>
                    </a:lnTo>
                    <a:lnTo>
                      <a:pt x="887" y="934"/>
                    </a:lnTo>
                    <a:lnTo>
                      <a:pt x="891" y="934"/>
                    </a:lnTo>
                    <a:lnTo>
                      <a:pt x="894" y="934"/>
                    </a:lnTo>
                    <a:lnTo>
                      <a:pt x="897" y="938"/>
                    </a:lnTo>
                    <a:lnTo>
                      <a:pt x="901" y="938"/>
                    </a:lnTo>
                    <a:lnTo>
                      <a:pt x="904" y="938"/>
                    </a:lnTo>
                    <a:lnTo>
                      <a:pt x="907" y="938"/>
                    </a:lnTo>
                    <a:lnTo>
                      <a:pt x="910" y="941"/>
                    </a:lnTo>
                    <a:lnTo>
                      <a:pt x="914" y="941"/>
                    </a:lnTo>
                    <a:lnTo>
                      <a:pt x="917" y="941"/>
                    </a:lnTo>
                    <a:lnTo>
                      <a:pt x="920" y="944"/>
                    </a:lnTo>
                    <a:lnTo>
                      <a:pt x="924" y="944"/>
                    </a:lnTo>
                    <a:lnTo>
                      <a:pt x="927" y="944"/>
                    </a:lnTo>
                    <a:lnTo>
                      <a:pt x="930" y="944"/>
                    </a:lnTo>
                    <a:lnTo>
                      <a:pt x="934" y="947"/>
                    </a:lnTo>
                    <a:lnTo>
                      <a:pt x="937" y="947"/>
                    </a:lnTo>
                    <a:lnTo>
                      <a:pt x="940" y="947"/>
                    </a:lnTo>
                    <a:lnTo>
                      <a:pt x="943" y="947"/>
                    </a:lnTo>
                    <a:lnTo>
                      <a:pt x="947" y="947"/>
                    </a:lnTo>
                    <a:lnTo>
                      <a:pt x="950" y="951"/>
                    </a:lnTo>
                    <a:lnTo>
                      <a:pt x="953" y="951"/>
                    </a:lnTo>
                    <a:lnTo>
                      <a:pt x="957" y="951"/>
                    </a:lnTo>
                    <a:lnTo>
                      <a:pt x="960" y="951"/>
                    </a:lnTo>
                    <a:lnTo>
                      <a:pt x="963" y="954"/>
                    </a:lnTo>
                    <a:lnTo>
                      <a:pt x="967" y="954"/>
                    </a:lnTo>
                    <a:lnTo>
                      <a:pt x="970" y="954"/>
                    </a:lnTo>
                    <a:lnTo>
                      <a:pt x="973" y="954"/>
                    </a:lnTo>
                    <a:lnTo>
                      <a:pt x="976" y="954"/>
                    </a:lnTo>
                    <a:lnTo>
                      <a:pt x="980" y="957"/>
                    </a:lnTo>
                    <a:lnTo>
                      <a:pt x="983" y="957"/>
                    </a:lnTo>
                    <a:lnTo>
                      <a:pt x="986" y="957"/>
                    </a:lnTo>
                    <a:lnTo>
                      <a:pt x="990" y="957"/>
                    </a:lnTo>
                    <a:lnTo>
                      <a:pt x="993" y="957"/>
                    </a:lnTo>
                    <a:lnTo>
                      <a:pt x="996" y="961"/>
                    </a:lnTo>
                    <a:lnTo>
                      <a:pt x="1000" y="961"/>
                    </a:lnTo>
                    <a:lnTo>
                      <a:pt x="1003" y="961"/>
                    </a:lnTo>
                    <a:lnTo>
                      <a:pt x="1006" y="961"/>
                    </a:lnTo>
                    <a:lnTo>
                      <a:pt x="1009" y="961"/>
                    </a:lnTo>
                    <a:lnTo>
                      <a:pt x="1013" y="964"/>
                    </a:lnTo>
                    <a:lnTo>
                      <a:pt x="1016" y="964"/>
                    </a:lnTo>
                    <a:lnTo>
                      <a:pt x="1019" y="964"/>
                    </a:lnTo>
                    <a:lnTo>
                      <a:pt x="1023" y="964"/>
                    </a:lnTo>
                    <a:lnTo>
                      <a:pt x="1026" y="964"/>
                    </a:lnTo>
                    <a:lnTo>
                      <a:pt x="1029" y="964"/>
                    </a:lnTo>
                    <a:lnTo>
                      <a:pt x="1033" y="967"/>
                    </a:lnTo>
                    <a:lnTo>
                      <a:pt x="1036" y="967"/>
                    </a:lnTo>
                    <a:lnTo>
                      <a:pt x="1039" y="967"/>
                    </a:lnTo>
                    <a:lnTo>
                      <a:pt x="1042" y="967"/>
                    </a:lnTo>
                    <a:lnTo>
                      <a:pt x="1046" y="967"/>
                    </a:lnTo>
                    <a:lnTo>
                      <a:pt x="1049" y="967"/>
                    </a:lnTo>
                    <a:lnTo>
                      <a:pt x="1052" y="971"/>
                    </a:lnTo>
                    <a:lnTo>
                      <a:pt x="1056" y="971"/>
                    </a:lnTo>
                    <a:lnTo>
                      <a:pt x="1059" y="971"/>
                    </a:lnTo>
                    <a:lnTo>
                      <a:pt x="1062" y="971"/>
                    </a:lnTo>
                    <a:lnTo>
                      <a:pt x="1066" y="971"/>
                    </a:lnTo>
                    <a:lnTo>
                      <a:pt x="1069" y="971"/>
                    </a:lnTo>
                    <a:lnTo>
                      <a:pt x="1072" y="971"/>
                    </a:lnTo>
                    <a:lnTo>
                      <a:pt x="1075" y="974"/>
                    </a:lnTo>
                    <a:lnTo>
                      <a:pt x="1079" y="974"/>
                    </a:lnTo>
                    <a:lnTo>
                      <a:pt x="1082" y="974"/>
                    </a:lnTo>
                    <a:lnTo>
                      <a:pt x="1085" y="974"/>
                    </a:lnTo>
                    <a:lnTo>
                      <a:pt x="1089" y="974"/>
                    </a:lnTo>
                    <a:lnTo>
                      <a:pt x="1092" y="974"/>
                    </a:lnTo>
                    <a:lnTo>
                      <a:pt x="1095" y="974"/>
                    </a:lnTo>
                    <a:lnTo>
                      <a:pt x="1099" y="977"/>
                    </a:lnTo>
                    <a:lnTo>
                      <a:pt x="1102" y="977"/>
                    </a:lnTo>
                    <a:lnTo>
                      <a:pt x="1105" y="977"/>
                    </a:lnTo>
                    <a:lnTo>
                      <a:pt x="1108" y="977"/>
                    </a:lnTo>
                    <a:lnTo>
                      <a:pt x="1112" y="977"/>
                    </a:lnTo>
                    <a:lnTo>
                      <a:pt x="1115" y="977"/>
                    </a:lnTo>
                    <a:lnTo>
                      <a:pt x="1118" y="977"/>
                    </a:lnTo>
                    <a:lnTo>
                      <a:pt x="1122" y="977"/>
                    </a:lnTo>
                    <a:lnTo>
                      <a:pt x="1125" y="980"/>
                    </a:lnTo>
                    <a:lnTo>
                      <a:pt x="1128" y="980"/>
                    </a:lnTo>
                    <a:lnTo>
                      <a:pt x="1132" y="980"/>
                    </a:lnTo>
                    <a:lnTo>
                      <a:pt x="1135" y="980"/>
                    </a:lnTo>
                    <a:lnTo>
                      <a:pt x="1138" y="980"/>
                    </a:lnTo>
                    <a:lnTo>
                      <a:pt x="1141" y="980"/>
                    </a:lnTo>
                    <a:lnTo>
                      <a:pt x="1145" y="980"/>
                    </a:lnTo>
                    <a:lnTo>
                      <a:pt x="1148" y="980"/>
                    </a:lnTo>
                    <a:lnTo>
                      <a:pt x="1151" y="980"/>
                    </a:lnTo>
                    <a:lnTo>
                      <a:pt x="1155" y="984"/>
                    </a:lnTo>
                    <a:lnTo>
                      <a:pt x="1158" y="984"/>
                    </a:lnTo>
                    <a:lnTo>
                      <a:pt x="1161" y="984"/>
                    </a:lnTo>
                    <a:lnTo>
                      <a:pt x="1165" y="984"/>
                    </a:lnTo>
                    <a:lnTo>
                      <a:pt x="1168" y="984"/>
                    </a:lnTo>
                    <a:lnTo>
                      <a:pt x="1171" y="984"/>
                    </a:lnTo>
                    <a:lnTo>
                      <a:pt x="1174" y="984"/>
                    </a:lnTo>
                    <a:lnTo>
                      <a:pt x="1178" y="984"/>
                    </a:lnTo>
                    <a:lnTo>
                      <a:pt x="1181" y="984"/>
                    </a:lnTo>
                    <a:lnTo>
                      <a:pt x="1184" y="984"/>
                    </a:lnTo>
                    <a:lnTo>
                      <a:pt x="1188" y="984"/>
                    </a:lnTo>
                    <a:lnTo>
                      <a:pt x="1191" y="987"/>
                    </a:lnTo>
                    <a:lnTo>
                      <a:pt x="1194" y="987"/>
                    </a:lnTo>
                    <a:lnTo>
                      <a:pt x="1198" y="987"/>
                    </a:lnTo>
                    <a:lnTo>
                      <a:pt x="1201" y="987"/>
                    </a:lnTo>
                    <a:lnTo>
                      <a:pt x="1204" y="987"/>
                    </a:lnTo>
                    <a:lnTo>
                      <a:pt x="1207" y="987"/>
                    </a:lnTo>
                    <a:lnTo>
                      <a:pt x="1211" y="987"/>
                    </a:lnTo>
                    <a:lnTo>
                      <a:pt x="1214" y="987"/>
                    </a:lnTo>
                    <a:lnTo>
                      <a:pt x="1217" y="987"/>
                    </a:lnTo>
                    <a:lnTo>
                      <a:pt x="1221" y="987"/>
                    </a:lnTo>
                    <a:lnTo>
                      <a:pt x="1224" y="987"/>
                    </a:lnTo>
                    <a:lnTo>
                      <a:pt x="1227" y="987"/>
                    </a:lnTo>
                    <a:lnTo>
                      <a:pt x="1231" y="987"/>
                    </a:lnTo>
                    <a:lnTo>
                      <a:pt x="1234" y="987"/>
                    </a:lnTo>
                    <a:lnTo>
                      <a:pt x="1237" y="990"/>
                    </a:lnTo>
                    <a:lnTo>
                      <a:pt x="1240" y="990"/>
                    </a:lnTo>
                    <a:lnTo>
                      <a:pt x="1244" y="990"/>
                    </a:lnTo>
                    <a:lnTo>
                      <a:pt x="1247" y="990"/>
                    </a:lnTo>
                    <a:lnTo>
                      <a:pt x="1250" y="990"/>
                    </a:lnTo>
                    <a:lnTo>
                      <a:pt x="1254" y="990"/>
                    </a:lnTo>
                    <a:lnTo>
                      <a:pt x="1257" y="990"/>
                    </a:lnTo>
                    <a:lnTo>
                      <a:pt x="1260" y="990"/>
                    </a:lnTo>
                    <a:lnTo>
                      <a:pt x="1264" y="990"/>
                    </a:lnTo>
                    <a:lnTo>
                      <a:pt x="1267" y="990"/>
                    </a:lnTo>
                    <a:lnTo>
                      <a:pt x="1270" y="990"/>
                    </a:lnTo>
                    <a:lnTo>
                      <a:pt x="1273" y="990"/>
                    </a:lnTo>
                    <a:lnTo>
                      <a:pt x="1277" y="990"/>
                    </a:lnTo>
                    <a:lnTo>
                      <a:pt x="1280" y="990"/>
                    </a:lnTo>
                    <a:lnTo>
                      <a:pt x="1283" y="990"/>
                    </a:lnTo>
                    <a:lnTo>
                      <a:pt x="1287" y="990"/>
                    </a:lnTo>
                    <a:lnTo>
                      <a:pt x="1290" y="990"/>
                    </a:lnTo>
                    <a:lnTo>
                      <a:pt x="1293" y="990"/>
                    </a:lnTo>
                    <a:lnTo>
                      <a:pt x="1293" y="994"/>
                    </a:lnTo>
                    <a:lnTo>
                      <a:pt x="1297" y="994"/>
                    </a:lnTo>
                    <a:lnTo>
                      <a:pt x="1300" y="994"/>
                    </a:lnTo>
                    <a:lnTo>
                      <a:pt x="1303" y="994"/>
                    </a:lnTo>
                    <a:lnTo>
                      <a:pt x="1306" y="994"/>
                    </a:lnTo>
                    <a:lnTo>
                      <a:pt x="1310" y="994"/>
                    </a:lnTo>
                    <a:lnTo>
                      <a:pt x="1313" y="994"/>
                    </a:lnTo>
                    <a:lnTo>
                      <a:pt x="1316" y="994"/>
                    </a:lnTo>
                    <a:lnTo>
                      <a:pt x="1320" y="994"/>
                    </a:lnTo>
                    <a:lnTo>
                      <a:pt x="1323" y="994"/>
                    </a:lnTo>
                    <a:lnTo>
                      <a:pt x="1326" y="994"/>
                    </a:lnTo>
                    <a:lnTo>
                      <a:pt x="1330" y="994"/>
                    </a:lnTo>
                    <a:lnTo>
                      <a:pt x="1333" y="994"/>
                    </a:lnTo>
                    <a:lnTo>
                      <a:pt x="1336" y="994"/>
                    </a:lnTo>
                    <a:lnTo>
                      <a:pt x="1339" y="994"/>
                    </a:lnTo>
                    <a:lnTo>
                      <a:pt x="1343" y="994"/>
                    </a:lnTo>
                    <a:lnTo>
                      <a:pt x="1346" y="994"/>
                    </a:lnTo>
                    <a:lnTo>
                      <a:pt x="1349" y="994"/>
                    </a:lnTo>
                    <a:lnTo>
                      <a:pt x="1353" y="994"/>
                    </a:lnTo>
                    <a:lnTo>
                      <a:pt x="1356" y="994"/>
                    </a:lnTo>
                    <a:lnTo>
                      <a:pt x="1359" y="994"/>
                    </a:lnTo>
                    <a:lnTo>
                      <a:pt x="1363" y="994"/>
                    </a:lnTo>
                    <a:lnTo>
                      <a:pt x="1366" y="994"/>
                    </a:lnTo>
                    <a:lnTo>
                      <a:pt x="1369" y="994"/>
                    </a:lnTo>
                    <a:lnTo>
                      <a:pt x="1372" y="994"/>
                    </a:lnTo>
                    <a:lnTo>
                      <a:pt x="1376" y="994"/>
                    </a:lnTo>
                    <a:lnTo>
                      <a:pt x="1379" y="994"/>
                    </a:lnTo>
                    <a:lnTo>
                      <a:pt x="1382" y="994"/>
                    </a:lnTo>
                    <a:lnTo>
                      <a:pt x="1386" y="994"/>
                    </a:lnTo>
                    <a:lnTo>
                      <a:pt x="1389" y="994"/>
                    </a:lnTo>
                    <a:lnTo>
                      <a:pt x="1392" y="994"/>
                    </a:lnTo>
                    <a:lnTo>
                      <a:pt x="1396" y="994"/>
                    </a:lnTo>
                    <a:lnTo>
                      <a:pt x="1399" y="994"/>
                    </a:lnTo>
                    <a:lnTo>
                      <a:pt x="1402" y="994"/>
                    </a:lnTo>
                    <a:lnTo>
                      <a:pt x="1405" y="994"/>
                    </a:lnTo>
                    <a:lnTo>
                      <a:pt x="1409" y="994"/>
                    </a:lnTo>
                    <a:lnTo>
                      <a:pt x="1412" y="994"/>
                    </a:lnTo>
                    <a:lnTo>
                      <a:pt x="1415" y="994"/>
                    </a:lnTo>
                    <a:lnTo>
                      <a:pt x="1419" y="994"/>
                    </a:lnTo>
                    <a:lnTo>
                      <a:pt x="1422" y="994"/>
                    </a:lnTo>
                    <a:lnTo>
                      <a:pt x="1425" y="99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128280" y="1844640"/>
                <a:ext cx="896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000" spc="-1" strike="noStrike">
                    <a:solidFill>
                      <a:srgbClr val="ffff00"/>
                    </a:solidFill>
                    <a:latin typeface="Times New Roman"/>
                  </a:rPr>
                  <a:t>|G(</a:t>
                </a:r>
                <a:r>
                  <a:rPr b="0" i="1" lang="hr-HR" sz="20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r>
                  <a:rPr b="0" lang="hr-HR" sz="2000" spc="-1" strike="noStrike" baseline="30000">
                    <a:solidFill>
                      <a:srgbClr val="ffff00"/>
                    </a:solidFill>
                    <a:latin typeface="Times New Roman"/>
                  </a:rPr>
                  <a:t>j</a:t>
                </a:r>
                <a:r>
                  <a:rPr b="0" lang="hr-HR" sz="2000" spc="-1" strike="noStrike" baseline="30000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2000" spc="-1" strike="noStrike">
                    <a:solidFill>
                      <a:srgbClr val="ffff00"/>
                    </a:solidFill>
                    <a:latin typeface="Times New Roman"/>
                  </a:rPr>
                  <a:t>)|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84280" y="4041720"/>
                <a:ext cx="299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068680" y="4035600"/>
                <a:ext cx="309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316720" y="3678120"/>
                <a:ext cx="36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5" name=""/>
          <p:cNvGrpSpPr/>
          <p:nvPr/>
        </p:nvGrpSpPr>
        <p:grpSpPr>
          <a:xfrm>
            <a:off x="67680" y="4286160"/>
            <a:ext cx="3553560" cy="2570400"/>
            <a:chOff x="67680" y="4286160"/>
            <a:chExt cx="3553560" cy="2570400"/>
          </a:xfrm>
        </p:grpSpPr>
        <p:sp>
          <p:nvSpPr>
            <p:cNvPr id="536" name=""/>
            <p:cNvSpPr/>
            <p:nvPr/>
          </p:nvSpPr>
          <p:spPr>
            <a:xfrm>
              <a:off x="67680" y="5460840"/>
              <a:ext cx="790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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100880" y="4760640"/>
              <a:ext cx="0" cy="204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1521360" y="476064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937880" y="476064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2358000" y="476064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772720" y="476064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3195000" y="476064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100880" y="6548400"/>
              <a:ext cx="2093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00880" y="6191280"/>
              <a:ext cx="2093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00880" y="5835600"/>
              <a:ext cx="2093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00880" y="5473800"/>
              <a:ext cx="2093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00880" y="5118120"/>
              <a:ext cx="2093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00880" y="4761000"/>
              <a:ext cx="2093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00880" y="4761000"/>
              <a:ext cx="2095560" cy="1789200"/>
            </a:xfrm>
            <a:custGeom>
              <a:avLst/>
              <a:gdLst/>
              <a:ahLst/>
              <a:rect l="l" t="t" r="r" b="b"/>
              <a:pathLst>
                <a:path w="1430" h="1127">
                  <a:moveTo>
                    <a:pt x="0" y="1126"/>
                  </a:moveTo>
                  <a:lnTo>
                    <a:pt x="0" y="0"/>
                  </a:lnTo>
                  <a:lnTo>
                    <a:pt x="142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00880" y="4761000"/>
              <a:ext cx="2095560" cy="1789200"/>
            </a:xfrm>
            <a:custGeom>
              <a:avLst/>
              <a:gdLst/>
              <a:ahLst/>
              <a:rect l="l" t="t" r="r" b="b"/>
              <a:pathLst>
                <a:path w="1430" h="1127">
                  <a:moveTo>
                    <a:pt x="0" y="1126"/>
                  </a:moveTo>
                  <a:lnTo>
                    <a:pt x="0" y="0"/>
                  </a:lnTo>
                  <a:lnTo>
                    <a:pt x="142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00880" y="4761000"/>
              <a:ext cx="2095560" cy="1789200"/>
            </a:xfrm>
            <a:custGeom>
              <a:avLst/>
              <a:gdLst/>
              <a:ahLst/>
              <a:rect l="l" t="t" r="r" b="b"/>
              <a:pathLst>
                <a:path w="1430" h="1127">
                  <a:moveTo>
                    <a:pt x="0" y="1126"/>
                  </a:moveTo>
                  <a:lnTo>
                    <a:pt x="0" y="0"/>
                  </a:lnTo>
                  <a:lnTo>
                    <a:pt x="142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00880" y="6548400"/>
              <a:ext cx="2093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00880" y="4761000"/>
              <a:ext cx="2093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1100880" y="476064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3195000" y="476064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00880" y="476100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00880" y="6548400"/>
              <a:ext cx="2093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1100880" y="476064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00880" y="654840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1100880" y="652608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00880" y="4761000"/>
              <a:ext cx="0" cy="2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1521360" y="652608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21360" y="4761000"/>
              <a:ext cx="0" cy="2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1937880" y="652608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37880" y="4761000"/>
              <a:ext cx="0" cy="2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2358000" y="652608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58000" y="4761000"/>
              <a:ext cx="0" cy="2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2772720" y="652608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72720" y="4761000"/>
              <a:ext cx="0" cy="2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195000" y="652608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195000" y="4761000"/>
              <a:ext cx="0" cy="2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00880" y="654840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174120" y="6548400"/>
              <a:ext cx="20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00880" y="619128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174120" y="6191280"/>
              <a:ext cx="20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00880" y="583560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3174120" y="5835600"/>
              <a:ext cx="20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00880" y="547380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174120" y="5473800"/>
              <a:ext cx="20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00880" y="511812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174120" y="5118120"/>
              <a:ext cx="20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100880" y="476100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3174120" y="4761000"/>
              <a:ext cx="20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00880" y="6548400"/>
              <a:ext cx="2436840" cy="1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100880" y="4761000"/>
              <a:ext cx="2093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1099080" y="4441680"/>
              <a:ext cx="1440" cy="2106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195000" y="4760640"/>
              <a:ext cx="0" cy="1787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00880" y="654840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00880" y="4761000"/>
              <a:ext cx="2089440" cy="1222200"/>
            </a:xfrm>
            <a:custGeom>
              <a:avLst/>
              <a:gdLst/>
              <a:ahLst/>
              <a:rect l="l" t="t" r="r" b="b"/>
              <a:pathLst>
                <a:path w="1426" h="770">
                  <a:moveTo>
                    <a:pt x="0" y="423"/>
                  </a:moveTo>
                  <a:lnTo>
                    <a:pt x="3" y="423"/>
                  </a:lnTo>
                  <a:lnTo>
                    <a:pt x="6" y="423"/>
                  </a:lnTo>
                  <a:lnTo>
                    <a:pt x="10" y="423"/>
                  </a:lnTo>
                  <a:lnTo>
                    <a:pt x="13" y="423"/>
                  </a:lnTo>
                  <a:lnTo>
                    <a:pt x="16" y="423"/>
                  </a:lnTo>
                  <a:lnTo>
                    <a:pt x="19" y="423"/>
                  </a:lnTo>
                  <a:lnTo>
                    <a:pt x="23" y="423"/>
                  </a:lnTo>
                  <a:lnTo>
                    <a:pt x="26" y="419"/>
                  </a:lnTo>
                  <a:lnTo>
                    <a:pt x="29" y="419"/>
                  </a:lnTo>
                  <a:lnTo>
                    <a:pt x="33" y="419"/>
                  </a:lnTo>
                  <a:lnTo>
                    <a:pt x="36" y="419"/>
                  </a:lnTo>
                  <a:lnTo>
                    <a:pt x="39" y="419"/>
                  </a:lnTo>
                  <a:lnTo>
                    <a:pt x="43" y="416"/>
                  </a:lnTo>
                  <a:lnTo>
                    <a:pt x="46" y="416"/>
                  </a:lnTo>
                  <a:lnTo>
                    <a:pt x="49" y="416"/>
                  </a:lnTo>
                  <a:lnTo>
                    <a:pt x="52" y="413"/>
                  </a:lnTo>
                  <a:lnTo>
                    <a:pt x="56" y="413"/>
                  </a:lnTo>
                  <a:lnTo>
                    <a:pt x="59" y="413"/>
                  </a:lnTo>
                  <a:lnTo>
                    <a:pt x="62" y="410"/>
                  </a:lnTo>
                  <a:lnTo>
                    <a:pt x="66" y="410"/>
                  </a:lnTo>
                  <a:lnTo>
                    <a:pt x="69" y="406"/>
                  </a:lnTo>
                  <a:lnTo>
                    <a:pt x="72" y="406"/>
                  </a:lnTo>
                  <a:lnTo>
                    <a:pt x="76" y="406"/>
                  </a:lnTo>
                  <a:lnTo>
                    <a:pt x="79" y="403"/>
                  </a:lnTo>
                  <a:lnTo>
                    <a:pt x="82" y="403"/>
                  </a:lnTo>
                  <a:lnTo>
                    <a:pt x="82" y="400"/>
                  </a:lnTo>
                  <a:lnTo>
                    <a:pt x="85" y="400"/>
                  </a:lnTo>
                  <a:lnTo>
                    <a:pt x="89" y="400"/>
                  </a:lnTo>
                  <a:lnTo>
                    <a:pt x="92" y="396"/>
                  </a:lnTo>
                  <a:lnTo>
                    <a:pt x="95" y="396"/>
                  </a:lnTo>
                  <a:lnTo>
                    <a:pt x="99" y="393"/>
                  </a:lnTo>
                  <a:lnTo>
                    <a:pt x="102" y="390"/>
                  </a:lnTo>
                  <a:lnTo>
                    <a:pt x="105" y="390"/>
                  </a:lnTo>
                  <a:lnTo>
                    <a:pt x="109" y="386"/>
                  </a:lnTo>
                  <a:lnTo>
                    <a:pt x="112" y="383"/>
                  </a:lnTo>
                  <a:lnTo>
                    <a:pt x="115" y="383"/>
                  </a:lnTo>
                  <a:lnTo>
                    <a:pt x="118" y="380"/>
                  </a:lnTo>
                  <a:lnTo>
                    <a:pt x="122" y="377"/>
                  </a:lnTo>
                  <a:lnTo>
                    <a:pt x="125" y="373"/>
                  </a:lnTo>
                  <a:lnTo>
                    <a:pt x="128" y="373"/>
                  </a:lnTo>
                  <a:lnTo>
                    <a:pt x="132" y="370"/>
                  </a:lnTo>
                  <a:lnTo>
                    <a:pt x="135" y="367"/>
                  </a:lnTo>
                  <a:lnTo>
                    <a:pt x="138" y="363"/>
                  </a:lnTo>
                  <a:lnTo>
                    <a:pt x="142" y="360"/>
                  </a:lnTo>
                  <a:lnTo>
                    <a:pt x="145" y="357"/>
                  </a:lnTo>
                  <a:lnTo>
                    <a:pt x="148" y="357"/>
                  </a:lnTo>
                  <a:lnTo>
                    <a:pt x="151" y="353"/>
                  </a:lnTo>
                  <a:lnTo>
                    <a:pt x="155" y="350"/>
                  </a:lnTo>
                  <a:lnTo>
                    <a:pt x="155" y="347"/>
                  </a:lnTo>
                  <a:lnTo>
                    <a:pt x="158" y="344"/>
                  </a:lnTo>
                  <a:lnTo>
                    <a:pt x="161" y="344"/>
                  </a:lnTo>
                  <a:lnTo>
                    <a:pt x="165" y="340"/>
                  </a:lnTo>
                  <a:lnTo>
                    <a:pt x="168" y="337"/>
                  </a:lnTo>
                  <a:lnTo>
                    <a:pt x="171" y="334"/>
                  </a:lnTo>
                  <a:lnTo>
                    <a:pt x="171" y="330"/>
                  </a:lnTo>
                  <a:lnTo>
                    <a:pt x="175" y="327"/>
                  </a:lnTo>
                  <a:lnTo>
                    <a:pt x="178" y="324"/>
                  </a:lnTo>
                  <a:lnTo>
                    <a:pt x="181" y="320"/>
                  </a:lnTo>
                  <a:lnTo>
                    <a:pt x="184" y="317"/>
                  </a:lnTo>
                  <a:lnTo>
                    <a:pt x="188" y="314"/>
                  </a:lnTo>
                  <a:lnTo>
                    <a:pt x="191" y="311"/>
                  </a:lnTo>
                  <a:lnTo>
                    <a:pt x="191" y="307"/>
                  </a:lnTo>
                  <a:lnTo>
                    <a:pt x="194" y="304"/>
                  </a:lnTo>
                  <a:lnTo>
                    <a:pt x="198" y="301"/>
                  </a:lnTo>
                  <a:lnTo>
                    <a:pt x="201" y="297"/>
                  </a:lnTo>
                  <a:lnTo>
                    <a:pt x="204" y="294"/>
                  </a:lnTo>
                  <a:lnTo>
                    <a:pt x="208" y="291"/>
                  </a:lnTo>
                  <a:lnTo>
                    <a:pt x="208" y="287"/>
                  </a:lnTo>
                  <a:lnTo>
                    <a:pt x="211" y="284"/>
                  </a:lnTo>
                  <a:lnTo>
                    <a:pt x="214" y="281"/>
                  </a:lnTo>
                  <a:lnTo>
                    <a:pt x="217" y="278"/>
                  </a:lnTo>
                  <a:lnTo>
                    <a:pt x="221" y="274"/>
                  </a:lnTo>
                  <a:lnTo>
                    <a:pt x="224" y="271"/>
                  </a:lnTo>
                  <a:lnTo>
                    <a:pt x="227" y="264"/>
                  </a:lnTo>
                  <a:lnTo>
                    <a:pt x="227" y="261"/>
                  </a:lnTo>
                  <a:lnTo>
                    <a:pt x="231" y="258"/>
                  </a:lnTo>
                  <a:lnTo>
                    <a:pt x="234" y="254"/>
                  </a:lnTo>
                  <a:lnTo>
                    <a:pt x="237" y="251"/>
                  </a:lnTo>
                  <a:lnTo>
                    <a:pt x="241" y="248"/>
                  </a:lnTo>
                  <a:lnTo>
                    <a:pt x="244" y="241"/>
                  </a:lnTo>
                  <a:lnTo>
                    <a:pt x="244" y="238"/>
                  </a:lnTo>
                  <a:lnTo>
                    <a:pt x="247" y="235"/>
                  </a:lnTo>
                  <a:lnTo>
                    <a:pt x="250" y="231"/>
                  </a:lnTo>
                  <a:lnTo>
                    <a:pt x="254" y="225"/>
                  </a:lnTo>
                  <a:lnTo>
                    <a:pt x="257" y="221"/>
                  </a:lnTo>
                  <a:lnTo>
                    <a:pt x="260" y="218"/>
                  </a:lnTo>
                  <a:lnTo>
                    <a:pt x="260" y="215"/>
                  </a:lnTo>
                  <a:lnTo>
                    <a:pt x="264" y="208"/>
                  </a:lnTo>
                  <a:lnTo>
                    <a:pt x="267" y="205"/>
                  </a:lnTo>
                  <a:lnTo>
                    <a:pt x="270" y="202"/>
                  </a:lnTo>
                  <a:lnTo>
                    <a:pt x="274" y="195"/>
                  </a:lnTo>
                  <a:lnTo>
                    <a:pt x="277" y="192"/>
                  </a:lnTo>
                  <a:lnTo>
                    <a:pt x="280" y="188"/>
                  </a:lnTo>
                  <a:lnTo>
                    <a:pt x="280" y="182"/>
                  </a:lnTo>
                  <a:lnTo>
                    <a:pt x="283" y="179"/>
                  </a:lnTo>
                  <a:lnTo>
                    <a:pt x="287" y="175"/>
                  </a:lnTo>
                  <a:lnTo>
                    <a:pt x="290" y="172"/>
                  </a:lnTo>
                  <a:lnTo>
                    <a:pt x="293" y="165"/>
                  </a:lnTo>
                  <a:lnTo>
                    <a:pt x="297" y="162"/>
                  </a:lnTo>
                  <a:lnTo>
                    <a:pt x="297" y="155"/>
                  </a:lnTo>
                  <a:lnTo>
                    <a:pt x="300" y="152"/>
                  </a:lnTo>
                  <a:lnTo>
                    <a:pt x="303" y="149"/>
                  </a:lnTo>
                  <a:lnTo>
                    <a:pt x="307" y="142"/>
                  </a:lnTo>
                  <a:lnTo>
                    <a:pt x="310" y="139"/>
                  </a:lnTo>
                  <a:lnTo>
                    <a:pt x="313" y="136"/>
                  </a:lnTo>
                  <a:lnTo>
                    <a:pt x="316" y="129"/>
                  </a:lnTo>
                  <a:lnTo>
                    <a:pt x="316" y="126"/>
                  </a:lnTo>
                  <a:lnTo>
                    <a:pt x="320" y="122"/>
                  </a:lnTo>
                  <a:lnTo>
                    <a:pt x="323" y="119"/>
                  </a:lnTo>
                  <a:lnTo>
                    <a:pt x="326" y="113"/>
                  </a:lnTo>
                  <a:lnTo>
                    <a:pt x="330" y="109"/>
                  </a:lnTo>
                  <a:lnTo>
                    <a:pt x="333" y="106"/>
                  </a:lnTo>
                  <a:lnTo>
                    <a:pt x="333" y="99"/>
                  </a:lnTo>
                  <a:lnTo>
                    <a:pt x="336" y="96"/>
                  </a:lnTo>
                  <a:lnTo>
                    <a:pt x="340" y="93"/>
                  </a:lnTo>
                  <a:lnTo>
                    <a:pt x="343" y="89"/>
                  </a:lnTo>
                  <a:lnTo>
                    <a:pt x="346" y="83"/>
                  </a:lnTo>
                  <a:lnTo>
                    <a:pt x="349" y="80"/>
                  </a:lnTo>
                  <a:lnTo>
                    <a:pt x="353" y="76"/>
                  </a:lnTo>
                  <a:lnTo>
                    <a:pt x="353" y="73"/>
                  </a:lnTo>
                  <a:lnTo>
                    <a:pt x="356" y="70"/>
                  </a:lnTo>
                  <a:lnTo>
                    <a:pt x="359" y="63"/>
                  </a:lnTo>
                  <a:lnTo>
                    <a:pt x="363" y="60"/>
                  </a:lnTo>
                  <a:lnTo>
                    <a:pt x="366" y="56"/>
                  </a:lnTo>
                  <a:lnTo>
                    <a:pt x="369" y="53"/>
                  </a:lnTo>
                  <a:lnTo>
                    <a:pt x="369" y="50"/>
                  </a:lnTo>
                  <a:lnTo>
                    <a:pt x="373" y="47"/>
                  </a:lnTo>
                  <a:lnTo>
                    <a:pt x="376" y="43"/>
                  </a:lnTo>
                  <a:lnTo>
                    <a:pt x="379" y="40"/>
                  </a:lnTo>
                  <a:lnTo>
                    <a:pt x="382" y="37"/>
                  </a:lnTo>
                  <a:lnTo>
                    <a:pt x="386" y="33"/>
                  </a:lnTo>
                  <a:lnTo>
                    <a:pt x="389" y="30"/>
                  </a:lnTo>
                  <a:lnTo>
                    <a:pt x="392" y="27"/>
                  </a:lnTo>
                  <a:lnTo>
                    <a:pt x="396" y="23"/>
                  </a:lnTo>
                  <a:lnTo>
                    <a:pt x="399" y="20"/>
                  </a:lnTo>
                  <a:lnTo>
                    <a:pt x="402" y="20"/>
                  </a:lnTo>
                  <a:lnTo>
                    <a:pt x="406" y="17"/>
                  </a:lnTo>
                  <a:lnTo>
                    <a:pt x="406" y="14"/>
                  </a:lnTo>
                  <a:lnTo>
                    <a:pt x="409" y="14"/>
                  </a:lnTo>
                  <a:lnTo>
                    <a:pt x="412" y="10"/>
                  </a:lnTo>
                  <a:lnTo>
                    <a:pt x="415" y="10"/>
                  </a:lnTo>
                  <a:lnTo>
                    <a:pt x="419" y="7"/>
                  </a:lnTo>
                  <a:lnTo>
                    <a:pt x="422" y="7"/>
                  </a:lnTo>
                  <a:lnTo>
                    <a:pt x="425" y="4"/>
                  </a:lnTo>
                  <a:lnTo>
                    <a:pt x="429" y="4"/>
                  </a:lnTo>
                  <a:lnTo>
                    <a:pt x="432" y="0"/>
                  </a:lnTo>
                  <a:lnTo>
                    <a:pt x="435" y="0"/>
                  </a:lnTo>
                  <a:lnTo>
                    <a:pt x="439" y="0"/>
                  </a:lnTo>
                  <a:lnTo>
                    <a:pt x="442" y="0"/>
                  </a:lnTo>
                  <a:lnTo>
                    <a:pt x="445" y="0"/>
                  </a:lnTo>
                  <a:lnTo>
                    <a:pt x="448" y="0"/>
                  </a:lnTo>
                  <a:lnTo>
                    <a:pt x="452" y="0"/>
                  </a:lnTo>
                  <a:lnTo>
                    <a:pt x="455" y="0"/>
                  </a:lnTo>
                  <a:lnTo>
                    <a:pt x="458" y="0"/>
                  </a:lnTo>
                  <a:lnTo>
                    <a:pt x="462" y="4"/>
                  </a:lnTo>
                  <a:lnTo>
                    <a:pt x="465" y="4"/>
                  </a:lnTo>
                  <a:lnTo>
                    <a:pt x="468" y="7"/>
                  </a:lnTo>
                  <a:lnTo>
                    <a:pt x="472" y="7"/>
                  </a:lnTo>
                  <a:lnTo>
                    <a:pt x="475" y="10"/>
                  </a:lnTo>
                  <a:lnTo>
                    <a:pt x="478" y="10"/>
                  </a:lnTo>
                  <a:lnTo>
                    <a:pt x="478" y="14"/>
                  </a:lnTo>
                  <a:lnTo>
                    <a:pt x="481" y="14"/>
                  </a:lnTo>
                  <a:lnTo>
                    <a:pt x="485" y="17"/>
                  </a:lnTo>
                  <a:lnTo>
                    <a:pt x="488" y="20"/>
                  </a:lnTo>
                  <a:lnTo>
                    <a:pt x="491" y="20"/>
                  </a:lnTo>
                  <a:lnTo>
                    <a:pt x="495" y="23"/>
                  </a:lnTo>
                  <a:lnTo>
                    <a:pt x="498" y="27"/>
                  </a:lnTo>
                  <a:lnTo>
                    <a:pt x="498" y="30"/>
                  </a:lnTo>
                  <a:lnTo>
                    <a:pt x="501" y="33"/>
                  </a:lnTo>
                  <a:lnTo>
                    <a:pt x="505" y="37"/>
                  </a:lnTo>
                  <a:lnTo>
                    <a:pt x="508" y="40"/>
                  </a:lnTo>
                  <a:lnTo>
                    <a:pt x="511" y="43"/>
                  </a:lnTo>
                  <a:lnTo>
                    <a:pt x="514" y="47"/>
                  </a:lnTo>
                  <a:lnTo>
                    <a:pt x="514" y="50"/>
                  </a:lnTo>
                  <a:lnTo>
                    <a:pt x="518" y="53"/>
                  </a:lnTo>
                  <a:lnTo>
                    <a:pt x="521" y="56"/>
                  </a:lnTo>
                  <a:lnTo>
                    <a:pt x="524" y="60"/>
                  </a:lnTo>
                  <a:lnTo>
                    <a:pt x="528" y="66"/>
                  </a:lnTo>
                  <a:lnTo>
                    <a:pt x="531" y="70"/>
                  </a:lnTo>
                  <a:lnTo>
                    <a:pt x="534" y="73"/>
                  </a:lnTo>
                  <a:lnTo>
                    <a:pt x="534" y="76"/>
                  </a:lnTo>
                  <a:lnTo>
                    <a:pt x="538" y="83"/>
                  </a:lnTo>
                  <a:lnTo>
                    <a:pt x="541" y="86"/>
                  </a:lnTo>
                  <a:lnTo>
                    <a:pt x="544" y="89"/>
                  </a:lnTo>
                  <a:lnTo>
                    <a:pt x="547" y="96"/>
                  </a:lnTo>
                  <a:lnTo>
                    <a:pt x="551" y="99"/>
                  </a:lnTo>
                  <a:lnTo>
                    <a:pt x="551" y="106"/>
                  </a:lnTo>
                  <a:lnTo>
                    <a:pt x="554" y="109"/>
                  </a:lnTo>
                  <a:lnTo>
                    <a:pt x="557" y="116"/>
                  </a:lnTo>
                  <a:lnTo>
                    <a:pt x="561" y="119"/>
                  </a:lnTo>
                  <a:lnTo>
                    <a:pt x="564" y="126"/>
                  </a:lnTo>
                  <a:lnTo>
                    <a:pt x="567" y="129"/>
                  </a:lnTo>
                  <a:lnTo>
                    <a:pt x="571" y="136"/>
                  </a:lnTo>
                  <a:lnTo>
                    <a:pt x="571" y="139"/>
                  </a:lnTo>
                  <a:lnTo>
                    <a:pt x="574" y="146"/>
                  </a:lnTo>
                  <a:lnTo>
                    <a:pt x="577" y="149"/>
                  </a:lnTo>
                  <a:lnTo>
                    <a:pt x="580" y="155"/>
                  </a:lnTo>
                  <a:lnTo>
                    <a:pt x="584" y="159"/>
                  </a:lnTo>
                  <a:lnTo>
                    <a:pt x="587" y="165"/>
                  </a:lnTo>
                  <a:lnTo>
                    <a:pt x="587" y="172"/>
                  </a:lnTo>
                  <a:lnTo>
                    <a:pt x="590" y="175"/>
                  </a:lnTo>
                  <a:lnTo>
                    <a:pt x="594" y="182"/>
                  </a:lnTo>
                  <a:lnTo>
                    <a:pt x="597" y="185"/>
                  </a:lnTo>
                  <a:lnTo>
                    <a:pt x="600" y="192"/>
                  </a:lnTo>
                  <a:lnTo>
                    <a:pt x="604" y="195"/>
                  </a:lnTo>
                  <a:lnTo>
                    <a:pt x="607" y="202"/>
                  </a:lnTo>
                  <a:lnTo>
                    <a:pt x="607" y="208"/>
                  </a:lnTo>
                  <a:lnTo>
                    <a:pt x="610" y="212"/>
                  </a:lnTo>
                  <a:lnTo>
                    <a:pt x="613" y="218"/>
                  </a:lnTo>
                  <a:lnTo>
                    <a:pt x="617" y="221"/>
                  </a:lnTo>
                  <a:lnTo>
                    <a:pt x="620" y="228"/>
                  </a:lnTo>
                  <a:lnTo>
                    <a:pt x="623" y="235"/>
                  </a:lnTo>
                  <a:lnTo>
                    <a:pt x="623" y="238"/>
                  </a:lnTo>
                  <a:lnTo>
                    <a:pt x="627" y="245"/>
                  </a:lnTo>
                  <a:lnTo>
                    <a:pt x="630" y="248"/>
                  </a:lnTo>
                  <a:lnTo>
                    <a:pt x="633" y="254"/>
                  </a:lnTo>
                  <a:lnTo>
                    <a:pt x="637" y="261"/>
                  </a:lnTo>
                  <a:lnTo>
                    <a:pt x="640" y="264"/>
                  </a:lnTo>
                  <a:lnTo>
                    <a:pt x="643" y="271"/>
                  </a:lnTo>
                  <a:lnTo>
                    <a:pt x="643" y="274"/>
                  </a:lnTo>
                  <a:lnTo>
                    <a:pt x="646" y="281"/>
                  </a:lnTo>
                  <a:lnTo>
                    <a:pt x="650" y="284"/>
                  </a:lnTo>
                  <a:lnTo>
                    <a:pt x="653" y="291"/>
                  </a:lnTo>
                  <a:lnTo>
                    <a:pt x="656" y="294"/>
                  </a:lnTo>
                  <a:lnTo>
                    <a:pt x="660" y="301"/>
                  </a:lnTo>
                  <a:lnTo>
                    <a:pt x="660" y="304"/>
                  </a:lnTo>
                  <a:lnTo>
                    <a:pt x="663" y="311"/>
                  </a:lnTo>
                  <a:lnTo>
                    <a:pt x="666" y="314"/>
                  </a:lnTo>
                  <a:lnTo>
                    <a:pt x="670" y="320"/>
                  </a:lnTo>
                  <a:lnTo>
                    <a:pt x="673" y="324"/>
                  </a:lnTo>
                  <a:lnTo>
                    <a:pt x="676" y="330"/>
                  </a:lnTo>
                  <a:lnTo>
                    <a:pt x="679" y="334"/>
                  </a:lnTo>
                  <a:lnTo>
                    <a:pt x="679" y="340"/>
                  </a:lnTo>
                  <a:lnTo>
                    <a:pt x="683" y="344"/>
                  </a:lnTo>
                  <a:lnTo>
                    <a:pt x="686" y="347"/>
                  </a:lnTo>
                  <a:lnTo>
                    <a:pt x="689" y="353"/>
                  </a:lnTo>
                  <a:lnTo>
                    <a:pt x="693" y="357"/>
                  </a:lnTo>
                  <a:lnTo>
                    <a:pt x="696" y="363"/>
                  </a:lnTo>
                  <a:lnTo>
                    <a:pt x="696" y="367"/>
                  </a:lnTo>
                  <a:lnTo>
                    <a:pt x="699" y="370"/>
                  </a:lnTo>
                  <a:lnTo>
                    <a:pt x="703" y="377"/>
                  </a:lnTo>
                  <a:lnTo>
                    <a:pt x="706" y="380"/>
                  </a:lnTo>
                  <a:lnTo>
                    <a:pt x="709" y="383"/>
                  </a:lnTo>
                  <a:lnTo>
                    <a:pt x="712" y="390"/>
                  </a:lnTo>
                  <a:lnTo>
                    <a:pt x="716" y="393"/>
                  </a:lnTo>
                  <a:lnTo>
                    <a:pt x="716" y="396"/>
                  </a:lnTo>
                  <a:lnTo>
                    <a:pt x="719" y="403"/>
                  </a:lnTo>
                  <a:lnTo>
                    <a:pt x="722" y="406"/>
                  </a:lnTo>
                  <a:lnTo>
                    <a:pt x="726" y="410"/>
                  </a:lnTo>
                  <a:lnTo>
                    <a:pt x="729" y="413"/>
                  </a:lnTo>
                  <a:lnTo>
                    <a:pt x="732" y="419"/>
                  </a:lnTo>
                  <a:lnTo>
                    <a:pt x="732" y="423"/>
                  </a:lnTo>
                  <a:lnTo>
                    <a:pt x="736" y="426"/>
                  </a:lnTo>
                  <a:lnTo>
                    <a:pt x="739" y="429"/>
                  </a:lnTo>
                  <a:lnTo>
                    <a:pt x="742" y="436"/>
                  </a:lnTo>
                  <a:lnTo>
                    <a:pt x="745" y="439"/>
                  </a:lnTo>
                  <a:lnTo>
                    <a:pt x="749" y="443"/>
                  </a:lnTo>
                  <a:lnTo>
                    <a:pt x="749" y="446"/>
                  </a:lnTo>
                  <a:lnTo>
                    <a:pt x="752" y="449"/>
                  </a:lnTo>
                  <a:lnTo>
                    <a:pt x="755" y="452"/>
                  </a:lnTo>
                  <a:lnTo>
                    <a:pt x="759" y="456"/>
                  </a:lnTo>
                  <a:lnTo>
                    <a:pt x="762" y="462"/>
                  </a:lnTo>
                  <a:lnTo>
                    <a:pt x="765" y="466"/>
                  </a:lnTo>
                  <a:lnTo>
                    <a:pt x="769" y="469"/>
                  </a:lnTo>
                  <a:lnTo>
                    <a:pt x="769" y="472"/>
                  </a:lnTo>
                  <a:lnTo>
                    <a:pt x="772" y="476"/>
                  </a:lnTo>
                  <a:lnTo>
                    <a:pt x="775" y="479"/>
                  </a:lnTo>
                  <a:lnTo>
                    <a:pt x="778" y="482"/>
                  </a:lnTo>
                  <a:lnTo>
                    <a:pt x="782" y="485"/>
                  </a:lnTo>
                  <a:lnTo>
                    <a:pt x="785" y="489"/>
                  </a:lnTo>
                  <a:lnTo>
                    <a:pt x="785" y="492"/>
                  </a:lnTo>
                  <a:lnTo>
                    <a:pt x="788" y="495"/>
                  </a:lnTo>
                  <a:lnTo>
                    <a:pt x="792" y="499"/>
                  </a:lnTo>
                  <a:lnTo>
                    <a:pt x="795" y="502"/>
                  </a:lnTo>
                  <a:lnTo>
                    <a:pt x="798" y="505"/>
                  </a:lnTo>
                  <a:lnTo>
                    <a:pt x="802" y="509"/>
                  </a:lnTo>
                  <a:lnTo>
                    <a:pt x="805" y="512"/>
                  </a:lnTo>
                  <a:lnTo>
                    <a:pt x="805" y="515"/>
                  </a:lnTo>
                  <a:lnTo>
                    <a:pt x="808" y="518"/>
                  </a:lnTo>
                  <a:lnTo>
                    <a:pt x="811" y="522"/>
                  </a:lnTo>
                  <a:lnTo>
                    <a:pt x="815" y="525"/>
                  </a:lnTo>
                  <a:lnTo>
                    <a:pt x="818" y="528"/>
                  </a:lnTo>
                  <a:lnTo>
                    <a:pt x="821" y="532"/>
                  </a:lnTo>
                  <a:lnTo>
                    <a:pt x="821" y="535"/>
                  </a:lnTo>
                  <a:lnTo>
                    <a:pt x="825" y="535"/>
                  </a:lnTo>
                  <a:lnTo>
                    <a:pt x="828" y="538"/>
                  </a:lnTo>
                  <a:lnTo>
                    <a:pt x="831" y="542"/>
                  </a:lnTo>
                  <a:lnTo>
                    <a:pt x="835" y="545"/>
                  </a:lnTo>
                  <a:lnTo>
                    <a:pt x="838" y="548"/>
                  </a:lnTo>
                  <a:lnTo>
                    <a:pt x="841" y="551"/>
                  </a:lnTo>
                  <a:lnTo>
                    <a:pt x="841" y="555"/>
                  </a:lnTo>
                  <a:lnTo>
                    <a:pt x="844" y="555"/>
                  </a:lnTo>
                  <a:lnTo>
                    <a:pt x="848" y="558"/>
                  </a:lnTo>
                  <a:lnTo>
                    <a:pt x="851" y="561"/>
                  </a:lnTo>
                  <a:lnTo>
                    <a:pt x="854" y="565"/>
                  </a:lnTo>
                  <a:lnTo>
                    <a:pt x="858" y="568"/>
                  </a:lnTo>
                  <a:lnTo>
                    <a:pt x="861" y="571"/>
                  </a:lnTo>
                  <a:lnTo>
                    <a:pt x="864" y="575"/>
                  </a:lnTo>
                  <a:lnTo>
                    <a:pt x="868" y="578"/>
                  </a:lnTo>
                  <a:lnTo>
                    <a:pt x="871" y="578"/>
                  </a:lnTo>
                  <a:lnTo>
                    <a:pt x="874" y="581"/>
                  </a:lnTo>
                  <a:lnTo>
                    <a:pt x="877" y="584"/>
                  </a:lnTo>
                  <a:lnTo>
                    <a:pt x="877" y="588"/>
                  </a:lnTo>
                  <a:lnTo>
                    <a:pt x="881" y="588"/>
                  </a:lnTo>
                  <a:lnTo>
                    <a:pt x="884" y="591"/>
                  </a:lnTo>
                  <a:lnTo>
                    <a:pt x="887" y="594"/>
                  </a:lnTo>
                  <a:lnTo>
                    <a:pt x="891" y="594"/>
                  </a:lnTo>
                  <a:lnTo>
                    <a:pt x="894" y="598"/>
                  </a:lnTo>
                  <a:lnTo>
                    <a:pt x="894" y="601"/>
                  </a:lnTo>
                  <a:lnTo>
                    <a:pt x="897" y="604"/>
                  </a:lnTo>
                  <a:lnTo>
                    <a:pt x="901" y="604"/>
                  </a:lnTo>
                  <a:lnTo>
                    <a:pt x="904" y="608"/>
                  </a:lnTo>
                  <a:lnTo>
                    <a:pt x="907" y="611"/>
                  </a:lnTo>
                  <a:lnTo>
                    <a:pt x="910" y="611"/>
                  </a:lnTo>
                  <a:lnTo>
                    <a:pt x="914" y="614"/>
                  </a:lnTo>
                  <a:lnTo>
                    <a:pt x="917" y="617"/>
                  </a:lnTo>
                  <a:lnTo>
                    <a:pt x="920" y="621"/>
                  </a:lnTo>
                  <a:lnTo>
                    <a:pt x="924" y="621"/>
                  </a:lnTo>
                  <a:lnTo>
                    <a:pt x="927" y="624"/>
                  </a:lnTo>
                  <a:lnTo>
                    <a:pt x="930" y="627"/>
                  </a:lnTo>
                  <a:lnTo>
                    <a:pt x="934" y="631"/>
                  </a:lnTo>
                  <a:lnTo>
                    <a:pt x="937" y="631"/>
                  </a:lnTo>
                  <a:lnTo>
                    <a:pt x="940" y="634"/>
                  </a:lnTo>
                  <a:lnTo>
                    <a:pt x="943" y="634"/>
                  </a:lnTo>
                  <a:lnTo>
                    <a:pt x="947" y="637"/>
                  </a:lnTo>
                  <a:lnTo>
                    <a:pt x="950" y="641"/>
                  </a:lnTo>
                  <a:lnTo>
                    <a:pt x="953" y="644"/>
                  </a:lnTo>
                  <a:lnTo>
                    <a:pt x="957" y="644"/>
                  </a:lnTo>
                  <a:lnTo>
                    <a:pt x="960" y="647"/>
                  </a:lnTo>
                  <a:lnTo>
                    <a:pt x="963" y="647"/>
                  </a:lnTo>
                  <a:lnTo>
                    <a:pt x="967" y="650"/>
                  </a:lnTo>
                  <a:lnTo>
                    <a:pt x="970" y="654"/>
                  </a:lnTo>
                  <a:lnTo>
                    <a:pt x="973" y="654"/>
                  </a:lnTo>
                  <a:lnTo>
                    <a:pt x="976" y="657"/>
                  </a:lnTo>
                  <a:lnTo>
                    <a:pt x="980" y="657"/>
                  </a:lnTo>
                  <a:lnTo>
                    <a:pt x="983" y="660"/>
                  </a:lnTo>
                  <a:lnTo>
                    <a:pt x="986" y="660"/>
                  </a:lnTo>
                  <a:lnTo>
                    <a:pt x="986" y="664"/>
                  </a:lnTo>
                  <a:lnTo>
                    <a:pt x="990" y="664"/>
                  </a:lnTo>
                  <a:lnTo>
                    <a:pt x="993" y="667"/>
                  </a:lnTo>
                  <a:lnTo>
                    <a:pt x="996" y="667"/>
                  </a:lnTo>
                  <a:lnTo>
                    <a:pt x="1000" y="670"/>
                  </a:lnTo>
                  <a:lnTo>
                    <a:pt x="1003" y="670"/>
                  </a:lnTo>
                  <a:lnTo>
                    <a:pt x="1003" y="674"/>
                  </a:lnTo>
                  <a:lnTo>
                    <a:pt x="1006" y="674"/>
                  </a:lnTo>
                  <a:lnTo>
                    <a:pt x="1009" y="674"/>
                  </a:lnTo>
                  <a:lnTo>
                    <a:pt x="1013" y="677"/>
                  </a:lnTo>
                  <a:lnTo>
                    <a:pt x="1016" y="677"/>
                  </a:lnTo>
                  <a:lnTo>
                    <a:pt x="1019" y="680"/>
                  </a:lnTo>
                  <a:lnTo>
                    <a:pt x="1023" y="680"/>
                  </a:lnTo>
                  <a:lnTo>
                    <a:pt x="1023" y="683"/>
                  </a:lnTo>
                  <a:lnTo>
                    <a:pt x="1026" y="683"/>
                  </a:lnTo>
                  <a:lnTo>
                    <a:pt x="1029" y="683"/>
                  </a:lnTo>
                  <a:lnTo>
                    <a:pt x="1033" y="687"/>
                  </a:lnTo>
                  <a:lnTo>
                    <a:pt x="1036" y="687"/>
                  </a:lnTo>
                  <a:lnTo>
                    <a:pt x="1039" y="690"/>
                  </a:lnTo>
                  <a:lnTo>
                    <a:pt x="1042" y="690"/>
                  </a:lnTo>
                  <a:lnTo>
                    <a:pt x="1046" y="693"/>
                  </a:lnTo>
                  <a:lnTo>
                    <a:pt x="1049" y="693"/>
                  </a:lnTo>
                  <a:lnTo>
                    <a:pt x="1052" y="697"/>
                  </a:lnTo>
                  <a:lnTo>
                    <a:pt x="1056" y="697"/>
                  </a:lnTo>
                  <a:lnTo>
                    <a:pt x="1059" y="697"/>
                  </a:lnTo>
                  <a:lnTo>
                    <a:pt x="1059" y="700"/>
                  </a:lnTo>
                  <a:lnTo>
                    <a:pt x="1062" y="700"/>
                  </a:lnTo>
                  <a:lnTo>
                    <a:pt x="1066" y="700"/>
                  </a:lnTo>
                  <a:lnTo>
                    <a:pt x="1069" y="703"/>
                  </a:lnTo>
                  <a:lnTo>
                    <a:pt x="1072" y="703"/>
                  </a:lnTo>
                  <a:lnTo>
                    <a:pt x="1075" y="703"/>
                  </a:lnTo>
                  <a:lnTo>
                    <a:pt x="1075" y="707"/>
                  </a:lnTo>
                  <a:lnTo>
                    <a:pt x="1079" y="707"/>
                  </a:lnTo>
                  <a:lnTo>
                    <a:pt x="1082" y="707"/>
                  </a:lnTo>
                  <a:lnTo>
                    <a:pt x="1085" y="710"/>
                  </a:lnTo>
                  <a:lnTo>
                    <a:pt x="1089" y="710"/>
                  </a:lnTo>
                  <a:lnTo>
                    <a:pt x="1092" y="710"/>
                  </a:lnTo>
                  <a:lnTo>
                    <a:pt x="1095" y="713"/>
                  </a:lnTo>
                  <a:lnTo>
                    <a:pt x="1099" y="713"/>
                  </a:lnTo>
                  <a:lnTo>
                    <a:pt x="1102" y="716"/>
                  </a:lnTo>
                  <a:lnTo>
                    <a:pt x="1105" y="716"/>
                  </a:lnTo>
                  <a:lnTo>
                    <a:pt x="1108" y="716"/>
                  </a:lnTo>
                  <a:lnTo>
                    <a:pt x="1112" y="716"/>
                  </a:lnTo>
                  <a:lnTo>
                    <a:pt x="1112" y="720"/>
                  </a:lnTo>
                  <a:lnTo>
                    <a:pt x="1115" y="720"/>
                  </a:lnTo>
                  <a:lnTo>
                    <a:pt x="1118" y="720"/>
                  </a:lnTo>
                  <a:lnTo>
                    <a:pt x="1122" y="723"/>
                  </a:lnTo>
                  <a:lnTo>
                    <a:pt x="1125" y="723"/>
                  </a:lnTo>
                  <a:lnTo>
                    <a:pt x="1128" y="723"/>
                  </a:lnTo>
                  <a:lnTo>
                    <a:pt x="1132" y="723"/>
                  </a:lnTo>
                  <a:lnTo>
                    <a:pt x="1132" y="726"/>
                  </a:lnTo>
                  <a:lnTo>
                    <a:pt x="1135" y="726"/>
                  </a:lnTo>
                  <a:lnTo>
                    <a:pt x="1138" y="726"/>
                  </a:lnTo>
                  <a:lnTo>
                    <a:pt x="1141" y="726"/>
                  </a:lnTo>
                  <a:lnTo>
                    <a:pt x="1145" y="730"/>
                  </a:lnTo>
                  <a:lnTo>
                    <a:pt x="1148" y="730"/>
                  </a:lnTo>
                  <a:lnTo>
                    <a:pt x="1151" y="730"/>
                  </a:lnTo>
                  <a:lnTo>
                    <a:pt x="1155" y="733"/>
                  </a:lnTo>
                  <a:lnTo>
                    <a:pt x="1158" y="733"/>
                  </a:lnTo>
                  <a:lnTo>
                    <a:pt x="1161" y="733"/>
                  </a:lnTo>
                  <a:lnTo>
                    <a:pt x="1165" y="733"/>
                  </a:lnTo>
                  <a:lnTo>
                    <a:pt x="1168" y="736"/>
                  </a:lnTo>
                  <a:lnTo>
                    <a:pt x="1171" y="736"/>
                  </a:lnTo>
                  <a:lnTo>
                    <a:pt x="1174" y="736"/>
                  </a:lnTo>
                  <a:lnTo>
                    <a:pt x="1178" y="740"/>
                  </a:lnTo>
                  <a:lnTo>
                    <a:pt x="1181" y="740"/>
                  </a:lnTo>
                  <a:lnTo>
                    <a:pt x="1184" y="740"/>
                  </a:lnTo>
                  <a:lnTo>
                    <a:pt x="1188" y="740"/>
                  </a:lnTo>
                  <a:lnTo>
                    <a:pt x="1191" y="743"/>
                  </a:lnTo>
                  <a:lnTo>
                    <a:pt x="1194" y="743"/>
                  </a:lnTo>
                  <a:lnTo>
                    <a:pt x="1198" y="743"/>
                  </a:lnTo>
                  <a:lnTo>
                    <a:pt x="1201" y="743"/>
                  </a:lnTo>
                  <a:lnTo>
                    <a:pt x="1204" y="746"/>
                  </a:lnTo>
                  <a:lnTo>
                    <a:pt x="1207" y="746"/>
                  </a:lnTo>
                  <a:lnTo>
                    <a:pt x="1211" y="746"/>
                  </a:lnTo>
                  <a:lnTo>
                    <a:pt x="1214" y="746"/>
                  </a:lnTo>
                  <a:lnTo>
                    <a:pt x="1217" y="746"/>
                  </a:lnTo>
                  <a:lnTo>
                    <a:pt x="1221" y="746"/>
                  </a:lnTo>
                  <a:lnTo>
                    <a:pt x="1221" y="749"/>
                  </a:lnTo>
                  <a:lnTo>
                    <a:pt x="1224" y="749"/>
                  </a:lnTo>
                  <a:lnTo>
                    <a:pt x="1227" y="749"/>
                  </a:lnTo>
                  <a:lnTo>
                    <a:pt x="1231" y="749"/>
                  </a:lnTo>
                  <a:lnTo>
                    <a:pt x="1234" y="749"/>
                  </a:lnTo>
                  <a:lnTo>
                    <a:pt x="1237" y="749"/>
                  </a:lnTo>
                  <a:lnTo>
                    <a:pt x="1237" y="753"/>
                  </a:lnTo>
                  <a:lnTo>
                    <a:pt x="1240" y="753"/>
                  </a:lnTo>
                  <a:lnTo>
                    <a:pt x="1244" y="753"/>
                  </a:lnTo>
                  <a:lnTo>
                    <a:pt x="1247" y="753"/>
                  </a:lnTo>
                  <a:lnTo>
                    <a:pt x="1250" y="753"/>
                  </a:lnTo>
                  <a:lnTo>
                    <a:pt x="1254" y="753"/>
                  </a:lnTo>
                  <a:lnTo>
                    <a:pt x="1257" y="753"/>
                  </a:lnTo>
                  <a:lnTo>
                    <a:pt x="1257" y="756"/>
                  </a:lnTo>
                  <a:lnTo>
                    <a:pt x="1260" y="756"/>
                  </a:lnTo>
                  <a:lnTo>
                    <a:pt x="1264" y="756"/>
                  </a:lnTo>
                  <a:lnTo>
                    <a:pt x="1267" y="756"/>
                  </a:lnTo>
                  <a:lnTo>
                    <a:pt x="1270" y="756"/>
                  </a:lnTo>
                  <a:lnTo>
                    <a:pt x="1273" y="756"/>
                  </a:lnTo>
                  <a:lnTo>
                    <a:pt x="1277" y="756"/>
                  </a:lnTo>
                  <a:lnTo>
                    <a:pt x="1280" y="759"/>
                  </a:lnTo>
                  <a:lnTo>
                    <a:pt x="1283" y="759"/>
                  </a:lnTo>
                  <a:lnTo>
                    <a:pt x="1287" y="759"/>
                  </a:lnTo>
                  <a:lnTo>
                    <a:pt x="1290" y="759"/>
                  </a:lnTo>
                  <a:lnTo>
                    <a:pt x="1293" y="759"/>
                  </a:lnTo>
                  <a:lnTo>
                    <a:pt x="1297" y="759"/>
                  </a:lnTo>
                  <a:lnTo>
                    <a:pt x="1300" y="759"/>
                  </a:lnTo>
                  <a:lnTo>
                    <a:pt x="1303" y="759"/>
                  </a:lnTo>
                  <a:lnTo>
                    <a:pt x="1306" y="763"/>
                  </a:lnTo>
                  <a:lnTo>
                    <a:pt x="1310" y="763"/>
                  </a:lnTo>
                  <a:lnTo>
                    <a:pt x="1313" y="763"/>
                  </a:lnTo>
                  <a:lnTo>
                    <a:pt x="1316" y="763"/>
                  </a:lnTo>
                  <a:lnTo>
                    <a:pt x="1320" y="763"/>
                  </a:lnTo>
                  <a:lnTo>
                    <a:pt x="1323" y="763"/>
                  </a:lnTo>
                  <a:lnTo>
                    <a:pt x="1326" y="763"/>
                  </a:lnTo>
                  <a:lnTo>
                    <a:pt x="1330" y="763"/>
                  </a:lnTo>
                  <a:lnTo>
                    <a:pt x="1333" y="763"/>
                  </a:lnTo>
                  <a:lnTo>
                    <a:pt x="1336" y="766"/>
                  </a:lnTo>
                  <a:lnTo>
                    <a:pt x="1339" y="766"/>
                  </a:lnTo>
                  <a:lnTo>
                    <a:pt x="1343" y="766"/>
                  </a:lnTo>
                  <a:lnTo>
                    <a:pt x="1346" y="766"/>
                  </a:lnTo>
                  <a:lnTo>
                    <a:pt x="1349" y="766"/>
                  </a:lnTo>
                  <a:lnTo>
                    <a:pt x="1353" y="766"/>
                  </a:lnTo>
                  <a:lnTo>
                    <a:pt x="1356" y="766"/>
                  </a:lnTo>
                  <a:lnTo>
                    <a:pt x="1359" y="766"/>
                  </a:lnTo>
                  <a:lnTo>
                    <a:pt x="1363" y="766"/>
                  </a:lnTo>
                  <a:lnTo>
                    <a:pt x="1366" y="766"/>
                  </a:lnTo>
                  <a:lnTo>
                    <a:pt x="1369" y="766"/>
                  </a:lnTo>
                  <a:lnTo>
                    <a:pt x="1372" y="766"/>
                  </a:lnTo>
                  <a:lnTo>
                    <a:pt x="1376" y="766"/>
                  </a:lnTo>
                  <a:lnTo>
                    <a:pt x="1379" y="766"/>
                  </a:lnTo>
                  <a:lnTo>
                    <a:pt x="1382" y="766"/>
                  </a:lnTo>
                  <a:lnTo>
                    <a:pt x="1386" y="766"/>
                  </a:lnTo>
                  <a:lnTo>
                    <a:pt x="1389" y="766"/>
                  </a:lnTo>
                  <a:lnTo>
                    <a:pt x="1392" y="769"/>
                  </a:lnTo>
                  <a:lnTo>
                    <a:pt x="1396" y="769"/>
                  </a:lnTo>
                  <a:lnTo>
                    <a:pt x="1399" y="769"/>
                  </a:lnTo>
                  <a:lnTo>
                    <a:pt x="1402" y="769"/>
                  </a:lnTo>
                  <a:lnTo>
                    <a:pt x="1405" y="769"/>
                  </a:lnTo>
                  <a:lnTo>
                    <a:pt x="1409" y="769"/>
                  </a:lnTo>
                  <a:lnTo>
                    <a:pt x="1412" y="769"/>
                  </a:lnTo>
                  <a:lnTo>
                    <a:pt x="1415" y="769"/>
                  </a:lnTo>
                  <a:lnTo>
                    <a:pt x="1419" y="769"/>
                  </a:lnTo>
                  <a:lnTo>
                    <a:pt x="1422" y="769"/>
                  </a:lnTo>
                  <a:lnTo>
                    <a:pt x="1425" y="769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95840" y="4286160"/>
              <a:ext cx="89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00"/>
                  </a:solidFill>
                  <a:latin typeface="Times New Roman"/>
                </a:rPr>
                <a:t>|G(</a:t>
              </a:r>
              <a:r>
                <a:rPr b="0" i="1" lang="hr-HR" sz="20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r>
                <a:rPr b="0" lang="hr-HR" sz="2000" spc="-1" strike="noStrike" baseline="30000">
                  <a:solidFill>
                    <a:srgbClr val="ffff00"/>
                  </a:solidFill>
                  <a:latin typeface="Times New Roman"/>
                </a:rPr>
                <a:t>j</a:t>
              </a:r>
              <a:r>
                <a:rPr b="0" lang="hr-HR" sz="2000" spc="-1" strike="noStrike" baseline="30000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hr-HR" sz="2000" spc="-1" strike="noStrike">
                  <a:solidFill>
                    <a:srgbClr val="ffff00"/>
                  </a:solidFill>
                  <a:latin typeface="Times New Roman"/>
                </a:rPr>
                <a:t>)|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60880" y="6126120"/>
              <a:ext cx="36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39600" y="64897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24360" y="6483240"/>
              <a:ext cx="309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017400" y="4286160"/>
            <a:ext cx="2660040" cy="2570400"/>
            <a:chOff x="6017400" y="4286160"/>
            <a:chExt cx="2660040" cy="2570400"/>
          </a:xfrm>
        </p:grpSpPr>
        <p:sp>
          <p:nvSpPr>
            <p:cNvPr id="595" name=""/>
            <p:cNvSpPr/>
            <p:nvPr/>
          </p:nvSpPr>
          <p:spPr>
            <a:xfrm flipV="1">
              <a:off x="6566760" y="4748040"/>
              <a:ext cx="0" cy="17877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6983280" y="4748040"/>
              <a:ext cx="0" cy="17877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403760" y="4748040"/>
              <a:ext cx="0" cy="17877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818480" y="4748040"/>
              <a:ext cx="0" cy="17877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8240760" y="4748040"/>
              <a:ext cx="0" cy="1787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46280" y="6535800"/>
              <a:ext cx="2094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46280" y="6178680"/>
              <a:ext cx="20941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46280" y="5823000"/>
              <a:ext cx="20941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46280" y="5460840"/>
              <a:ext cx="20941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46280" y="5105520"/>
              <a:ext cx="20941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46280" y="4748040"/>
              <a:ext cx="2094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146280" y="4748040"/>
              <a:ext cx="2095920" cy="1789200"/>
            </a:xfrm>
            <a:custGeom>
              <a:avLst/>
              <a:gdLst/>
              <a:ahLst/>
              <a:rect l="l" t="t" r="r" b="b"/>
              <a:pathLst>
                <a:path w="1430" h="1127">
                  <a:moveTo>
                    <a:pt x="0" y="1126"/>
                  </a:moveTo>
                  <a:lnTo>
                    <a:pt x="0" y="0"/>
                  </a:lnTo>
                  <a:lnTo>
                    <a:pt x="142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46280" y="4748040"/>
              <a:ext cx="2095920" cy="1789200"/>
            </a:xfrm>
            <a:custGeom>
              <a:avLst/>
              <a:gdLst/>
              <a:ahLst/>
              <a:rect l="l" t="t" r="r" b="b"/>
              <a:pathLst>
                <a:path w="1430" h="1127">
                  <a:moveTo>
                    <a:pt x="0" y="1126"/>
                  </a:moveTo>
                  <a:lnTo>
                    <a:pt x="0" y="0"/>
                  </a:lnTo>
                  <a:lnTo>
                    <a:pt x="142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46280" y="4748040"/>
              <a:ext cx="2095920" cy="1789200"/>
            </a:xfrm>
            <a:custGeom>
              <a:avLst/>
              <a:gdLst/>
              <a:ahLst/>
              <a:rect l="l" t="t" r="r" b="b"/>
              <a:pathLst>
                <a:path w="1430" h="1127">
                  <a:moveTo>
                    <a:pt x="0" y="1126"/>
                  </a:moveTo>
                  <a:lnTo>
                    <a:pt x="0" y="0"/>
                  </a:lnTo>
                  <a:lnTo>
                    <a:pt x="142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46280" y="6535800"/>
              <a:ext cx="2094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46280" y="4748040"/>
              <a:ext cx="2094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46280" y="4748040"/>
              <a:ext cx="0" cy="1787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8240760" y="4748040"/>
              <a:ext cx="0" cy="1787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146280" y="474804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46280" y="6535800"/>
              <a:ext cx="2094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6146280" y="4748040"/>
              <a:ext cx="0" cy="1787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46280" y="653580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46280" y="651348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46280" y="474804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566760" y="651348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66760" y="474804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983280" y="651348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83280" y="474804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403760" y="651348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03760" y="474804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7818480" y="651348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818480" y="474804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8240760" y="651348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240760" y="4748040"/>
              <a:ext cx="0" cy="2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46280" y="653580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8220600" y="6535800"/>
              <a:ext cx="20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146280" y="617868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220600" y="6178680"/>
              <a:ext cx="20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46280" y="582300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8220600" y="5823000"/>
              <a:ext cx="20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46280" y="546084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8220600" y="5460840"/>
              <a:ext cx="20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146280" y="510552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8220600" y="5105520"/>
              <a:ext cx="20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46280" y="4748040"/>
              <a:ext cx="18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8220600" y="4748040"/>
              <a:ext cx="20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146280" y="6533640"/>
              <a:ext cx="2422440" cy="1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46280" y="4748040"/>
              <a:ext cx="2094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6146280" y="4390920"/>
              <a:ext cx="1080" cy="2144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8240760" y="4748040"/>
              <a:ext cx="0" cy="1787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46280" y="653580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46280" y="4748040"/>
              <a:ext cx="2089800" cy="981360"/>
            </a:xfrm>
            <a:custGeom>
              <a:avLst/>
              <a:gdLst/>
              <a:ahLst/>
              <a:rect l="l" t="t" r="r" b="b"/>
              <a:pathLst>
                <a:path w="1426" h="618">
                  <a:moveTo>
                    <a:pt x="0" y="459"/>
                  </a:moveTo>
                  <a:lnTo>
                    <a:pt x="3" y="459"/>
                  </a:lnTo>
                  <a:lnTo>
                    <a:pt x="6" y="459"/>
                  </a:lnTo>
                  <a:lnTo>
                    <a:pt x="10" y="459"/>
                  </a:lnTo>
                  <a:lnTo>
                    <a:pt x="13" y="459"/>
                  </a:lnTo>
                  <a:lnTo>
                    <a:pt x="16" y="459"/>
                  </a:lnTo>
                  <a:lnTo>
                    <a:pt x="19" y="459"/>
                  </a:lnTo>
                  <a:lnTo>
                    <a:pt x="23" y="459"/>
                  </a:lnTo>
                  <a:lnTo>
                    <a:pt x="26" y="459"/>
                  </a:lnTo>
                  <a:lnTo>
                    <a:pt x="26" y="456"/>
                  </a:lnTo>
                  <a:lnTo>
                    <a:pt x="29" y="456"/>
                  </a:lnTo>
                  <a:lnTo>
                    <a:pt x="33" y="456"/>
                  </a:lnTo>
                  <a:lnTo>
                    <a:pt x="36" y="456"/>
                  </a:lnTo>
                  <a:lnTo>
                    <a:pt x="39" y="456"/>
                  </a:lnTo>
                  <a:lnTo>
                    <a:pt x="43" y="456"/>
                  </a:lnTo>
                  <a:lnTo>
                    <a:pt x="46" y="456"/>
                  </a:lnTo>
                  <a:lnTo>
                    <a:pt x="49" y="452"/>
                  </a:lnTo>
                  <a:lnTo>
                    <a:pt x="52" y="452"/>
                  </a:lnTo>
                  <a:lnTo>
                    <a:pt x="56" y="452"/>
                  </a:lnTo>
                  <a:lnTo>
                    <a:pt x="59" y="452"/>
                  </a:lnTo>
                  <a:lnTo>
                    <a:pt x="62" y="452"/>
                  </a:lnTo>
                  <a:lnTo>
                    <a:pt x="62" y="449"/>
                  </a:lnTo>
                  <a:lnTo>
                    <a:pt x="66" y="449"/>
                  </a:lnTo>
                  <a:lnTo>
                    <a:pt x="69" y="449"/>
                  </a:lnTo>
                  <a:lnTo>
                    <a:pt x="72" y="449"/>
                  </a:lnTo>
                  <a:lnTo>
                    <a:pt x="76" y="446"/>
                  </a:lnTo>
                  <a:lnTo>
                    <a:pt x="79" y="446"/>
                  </a:lnTo>
                  <a:lnTo>
                    <a:pt x="82" y="446"/>
                  </a:lnTo>
                  <a:lnTo>
                    <a:pt x="82" y="443"/>
                  </a:lnTo>
                  <a:lnTo>
                    <a:pt x="85" y="443"/>
                  </a:lnTo>
                  <a:lnTo>
                    <a:pt x="89" y="443"/>
                  </a:lnTo>
                  <a:lnTo>
                    <a:pt x="92" y="439"/>
                  </a:lnTo>
                  <a:lnTo>
                    <a:pt x="95" y="439"/>
                  </a:lnTo>
                  <a:lnTo>
                    <a:pt x="99" y="439"/>
                  </a:lnTo>
                  <a:lnTo>
                    <a:pt x="99" y="436"/>
                  </a:lnTo>
                  <a:lnTo>
                    <a:pt x="102" y="436"/>
                  </a:lnTo>
                  <a:lnTo>
                    <a:pt x="105" y="436"/>
                  </a:lnTo>
                  <a:lnTo>
                    <a:pt x="109" y="433"/>
                  </a:lnTo>
                  <a:lnTo>
                    <a:pt x="112" y="433"/>
                  </a:lnTo>
                  <a:lnTo>
                    <a:pt x="115" y="429"/>
                  </a:lnTo>
                  <a:lnTo>
                    <a:pt x="118" y="429"/>
                  </a:lnTo>
                  <a:lnTo>
                    <a:pt x="118" y="426"/>
                  </a:lnTo>
                  <a:lnTo>
                    <a:pt x="122" y="426"/>
                  </a:lnTo>
                  <a:lnTo>
                    <a:pt x="125" y="426"/>
                  </a:lnTo>
                  <a:lnTo>
                    <a:pt x="128" y="423"/>
                  </a:lnTo>
                  <a:lnTo>
                    <a:pt x="132" y="423"/>
                  </a:lnTo>
                  <a:lnTo>
                    <a:pt x="135" y="419"/>
                  </a:lnTo>
                  <a:lnTo>
                    <a:pt x="138" y="416"/>
                  </a:lnTo>
                  <a:lnTo>
                    <a:pt x="142" y="416"/>
                  </a:lnTo>
                  <a:lnTo>
                    <a:pt x="145" y="413"/>
                  </a:lnTo>
                  <a:lnTo>
                    <a:pt x="148" y="410"/>
                  </a:lnTo>
                  <a:lnTo>
                    <a:pt x="151" y="410"/>
                  </a:lnTo>
                  <a:lnTo>
                    <a:pt x="155" y="406"/>
                  </a:lnTo>
                  <a:lnTo>
                    <a:pt x="158" y="403"/>
                  </a:lnTo>
                  <a:lnTo>
                    <a:pt x="161" y="403"/>
                  </a:lnTo>
                  <a:lnTo>
                    <a:pt x="165" y="400"/>
                  </a:lnTo>
                  <a:lnTo>
                    <a:pt x="168" y="396"/>
                  </a:lnTo>
                  <a:lnTo>
                    <a:pt x="171" y="396"/>
                  </a:lnTo>
                  <a:lnTo>
                    <a:pt x="171" y="393"/>
                  </a:lnTo>
                  <a:lnTo>
                    <a:pt x="175" y="390"/>
                  </a:lnTo>
                  <a:lnTo>
                    <a:pt x="178" y="390"/>
                  </a:lnTo>
                  <a:lnTo>
                    <a:pt x="181" y="386"/>
                  </a:lnTo>
                  <a:lnTo>
                    <a:pt x="184" y="383"/>
                  </a:lnTo>
                  <a:lnTo>
                    <a:pt x="188" y="383"/>
                  </a:lnTo>
                  <a:lnTo>
                    <a:pt x="191" y="380"/>
                  </a:lnTo>
                  <a:lnTo>
                    <a:pt x="191" y="377"/>
                  </a:lnTo>
                  <a:lnTo>
                    <a:pt x="194" y="377"/>
                  </a:lnTo>
                  <a:lnTo>
                    <a:pt x="198" y="373"/>
                  </a:lnTo>
                  <a:lnTo>
                    <a:pt x="201" y="370"/>
                  </a:lnTo>
                  <a:lnTo>
                    <a:pt x="204" y="367"/>
                  </a:lnTo>
                  <a:lnTo>
                    <a:pt x="208" y="367"/>
                  </a:lnTo>
                  <a:lnTo>
                    <a:pt x="208" y="363"/>
                  </a:lnTo>
                  <a:lnTo>
                    <a:pt x="211" y="360"/>
                  </a:lnTo>
                  <a:lnTo>
                    <a:pt x="214" y="357"/>
                  </a:lnTo>
                  <a:lnTo>
                    <a:pt x="217" y="353"/>
                  </a:lnTo>
                  <a:lnTo>
                    <a:pt x="221" y="353"/>
                  </a:lnTo>
                  <a:lnTo>
                    <a:pt x="224" y="350"/>
                  </a:lnTo>
                  <a:lnTo>
                    <a:pt x="227" y="347"/>
                  </a:lnTo>
                  <a:lnTo>
                    <a:pt x="227" y="344"/>
                  </a:lnTo>
                  <a:lnTo>
                    <a:pt x="231" y="340"/>
                  </a:lnTo>
                  <a:lnTo>
                    <a:pt x="234" y="337"/>
                  </a:lnTo>
                  <a:lnTo>
                    <a:pt x="237" y="334"/>
                  </a:lnTo>
                  <a:lnTo>
                    <a:pt x="241" y="334"/>
                  </a:lnTo>
                  <a:lnTo>
                    <a:pt x="244" y="330"/>
                  </a:lnTo>
                  <a:lnTo>
                    <a:pt x="244" y="327"/>
                  </a:lnTo>
                  <a:lnTo>
                    <a:pt x="247" y="324"/>
                  </a:lnTo>
                  <a:lnTo>
                    <a:pt x="250" y="320"/>
                  </a:lnTo>
                  <a:lnTo>
                    <a:pt x="254" y="317"/>
                  </a:lnTo>
                  <a:lnTo>
                    <a:pt x="257" y="314"/>
                  </a:lnTo>
                  <a:lnTo>
                    <a:pt x="260" y="311"/>
                  </a:lnTo>
                  <a:lnTo>
                    <a:pt x="260" y="307"/>
                  </a:lnTo>
                  <a:lnTo>
                    <a:pt x="264" y="304"/>
                  </a:lnTo>
                  <a:lnTo>
                    <a:pt x="267" y="301"/>
                  </a:lnTo>
                  <a:lnTo>
                    <a:pt x="270" y="297"/>
                  </a:lnTo>
                  <a:lnTo>
                    <a:pt x="274" y="294"/>
                  </a:lnTo>
                  <a:lnTo>
                    <a:pt x="277" y="291"/>
                  </a:lnTo>
                  <a:lnTo>
                    <a:pt x="280" y="287"/>
                  </a:lnTo>
                  <a:lnTo>
                    <a:pt x="280" y="284"/>
                  </a:lnTo>
                  <a:lnTo>
                    <a:pt x="283" y="281"/>
                  </a:lnTo>
                  <a:lnTo>
                    <a:pt x="287" y="278"/>
                  </a:lnTo>
                  <a:lnTo>
                    <a:pt x="290" y="274"/>
                  </a:lnTo>
                  <a:lnTo>
                    <a:pt x="293" y="271"/>
                  </a:lnTo>
                  <a:lnTo>
                    <a:pt x="297" y="268"/>
                  </a:lnTo>
                  <a:lnTo>
                    <a:pt x="297" y="264"/>
                  </a:lnTo>
                  <a:lnTo>
                    <a:pt x="300" y="261"/>
                  </a:lnTo>
                  <a:lnTo>
                    <a:pt x="303" y="258"/>
                  </a:lnTo>
                  <a:lnTo>
                    <a:pt x="307" y="254"/>
                  </a:lnTo>
                  <a:lnTo>
                    <a:pt x="310" y="248"/>
                  </a:lnTo>
                  <a:lnTo>
                    <a:pt x="313" y="245"/>
                  </a:lnTo>
                  <a:lnTo>
                    <a:pt x="316" y="241"/>
                  </a:lnTo>
                  <a:lnTo>
                    <a:pt x="316" y="238"/>
                  </a:lnTo>
                  <a:lnTo>
                    <a:pt x="320" y="235"/>
                  </a:lnTo>
                  <a:lnTo>
                    <a:pt x="323" y="231"/>
                  </a:lnTo>
                  <a:lnTo>
                    <a:pt x="326" y="228"/>
                  </a:lnTo>
                  <a:lnTo>
                    <a:pt x="330" y="225"/>
                  </a:lnTo>
                  <a:lnTo>
                    <a:pt x="333" y="218"/>
                  </a:lnTo>
                  <a:lnTo>
                    <a:pt x="333" y="215"/>
                  </a:lnTo>
                  <a:lnTo>
                    <a:pt x="336" y="212"/>
                  </a:lnTo>
                  <a:lnTo>
                    <a:pt x="340" y="208"/>
                  </a:lnTo>
                  <a:lnTo>
                    <a:pt x="343" y="205"/>
                  </a:lnTo>
                  <a:lnTo>
                    <a:pt x="346" y="202"/>
                  </a:lnTo>
                  <a:lnTo>
                    <a:pt x="349" y="195"/>
                  </a:lnTo>
                  <a:lnTo>
                    <a:pt x="353" y="192"/>
                  </a:lnTo>
                  <a:lnTo>
                    <a:pt x="353" y="188"/>
                  </a:lnTo>
                  <a:lnTo>
                    <a:pt x="356" y="185"/>
                  </a:lnTo>
                  <a:lnTo>
                    <a:pt x="359" y="182"/>
                  </a:lnTo>
                  <a:lnTo>
                    <a:pt x="363" y="175"/>
                  </a:lnTo>
                  <a:lnTo>
                    <a:pt x="366" y="172"/>
                  </a:lnTo>
                  <a:lnTo>
                    <a:pt x="369" y="169"/>
                  </a:lnTo>
                  <a:lnTo>
                    <a:pt x="369" y="165"/>
                  </a:lnTo>
                  <a:lnTo>
                    <a:pt x="373" y="162"/>
                  </a:lnTo>
                  <a:lnTo>
                    <a:pt x="376" y="155"/>
                  </a:lnTo>
                  <a:lnTo>
                    <a:pt x="379" y="152"/>
                  </a:lnTo>
                  <a:lnTo>
                    <a:pt x="382" y="149"/>
                  </a:lnTo>
                  <a:lnTo>
                    <a:pt x="386" y="146"/>
                  </a:lnTo>
                  <a:lnTo>
                    <a:pt x="389" y="142"/>
                  </a:lnTo>
                  <a:lnTo>
                    <a:pt x="389" y="139"/>
                  </a:lnTo>
                  <a:lnTo>
                    <a:pt x="392" y="132"/>
                  </a:lnTo>
                  <a:lnTo>
                    <a:pt x="396" y="129"/>
                  </a:lnTo>
                  <a:lnTo>
                    <a:pt x="399" y="126"/>
                  </a:lnTo>
                  <a:lnTo>
                    <a:pt x="402" y="122"/>
                  </a:lnTo>
                  <a:lnTo>
                    <a:pt x="406" y="119"/>
                  </a:lnTo>
                  <a:lnTo>
                    <a:pt x="406" y="116"/>
                  </a:lnTo>
                  <a:lnTo>
                    <a:pt x="409" y="109"/>
                  </a:lnTo>
                  <a:lnTo>
                    <a:pt x="412" y="106"/>
                  </a:lnTo>
                  <a:lnTo>
                    <a:pt x="415" y="103"/>
                  </a:lnTo>
                  <a:lnTo>
                    <a:pt x="419" y="99"/>
                  </a:lnTo>
                  <a:lnTo>
                    <a:pt x="422" y="96"/>
                  </a:lnTo>
                  <a:lnTo>
                    <a:pt x="425" y="93"/>
                  </a:lnTo>
                  <a:lnTo>
                    <a:pt x="425" y="89"/>
                  </a:lnTo>
                  <a:lnTo>
                    <a:pt x="429" y="86"/>
                  </a:lnTo>
                  <a:lnTo>
                    <a:pt x="432" y="83"/>
                  </a:lnTo>
                  <a:lnTo>
                    <a:pt x="435" y="80"/>
                  </a:lnTo>
                  <a:lnTo>
                    <a:pt x="439" y="76"/>
                  </a:lnTo>
                  <a:lnTo>
                    <a:pt x="442" y="73"/>
                  </a:lnTo>
                  <a:lnTo>
                    <a:pt x="442" y="70"/>
                  </a:lnTo>
                  <a:lnTo>
                    <a:pt x="445" y="66"/>
                  </a:lnTo>
                  <a:lnTo>
                    <a:pt x="448" y="63"/>
                  </a:lnTo>
                  <a:lnTo>
                    <a:pt x="452" y="60"/>
                  </a:lnTo>
                  <a:lnTo>
                    <a:pt x="455" y="56"/>
                  </a:lnTo>
                  <a:lnTo>
                    <a:pt x="458" y="53"/>
                  </a:lnTo>
                  <a:lnTo>
                    <a:pt x="462" y="50"/>
                  </a:lnTo>
                  <a:lnTo>
                    <a:pt x="462" y="47"/>
                  </a:lnTo>
                  <a:lnTo>
                    <a:pt x="465" y="43"/>
                  </a:lnTo>
                  <a:lnTo>
                    <a:pt x="468" y="40"/>
                  </a:lnTo>
                  <a:lnTo>
                    <a:pt x="472" y="40"/>
                  </a:lnTo>
                  <a:lnTo>
                    <a:pt x="475" y="37"/>
                  </a:lnTo>
                  <a:lnTo>
                    <a:pt x="478" y="33"/>
                  </a:lnTo>
                  <a:lnTo>
                    <a:pt x="478" y="30"/>
                  </a:lnTo>
                  <a:lnTo>
                    <a:pt x="481" y="30"/>
                  </a:lnTo>
                  <a:lnTo>
                    <a:pt x="485" y="27"/>
                  </a:lnTo>
                  <a:lnTo>
                    <a:pt x="488" y="23"/>
                  </a:lnTo>
                  <a:lnTo>
                    <a:pt x="491" y="23"/>
                  </a:lnTo>
                  <a:lnTo>
                    <a:pt x="495" y="20"/>
                  </a:lnTo>
                  <a:lnTo>
                    <a:pt x="498" y="17"/>
                  </a:lnTo>
                  <a:lnTo>
                    <a:pt x="501" y="14"/>
                  </a:lnTo>
                  <a:lnTo>
                    <a:pt x="505" y="14"/>
                  </a:lnTo>
                  <a:lnTo>
                    <a:pt x="508" y="10"/>
                  </a:lnTo>
                  <a:lnTo>
                    <a:pt x="511" y="10"/>
                  </a:lnTo>
                  <a:lnTo>
                    <a:pt x="514" y="7"/>
                  </a:lnTo>
                  <a:lnTo>
                    <a:pt x="518" y="7"/>
                  </a:lnTo>
                  <a:lnTo>
                    <a:pt x="521" y="4"/>
                  </a:lnTo>
                  <a:lnTo>
                    <a:pt x="524" y="4"/>
                  </a:lnTo>
                  <a:lnTo>
                    <a:pt x="528" y="4"/>
                  </a:lnTo>
                  <a:lnTo>
                    <a:pt x="531" y="4"/>
                  </a:lnTo>
                  <a:lnTo>
                    <a:pt x="534" y="0"/>
                  </a:lnTo>
                  <a:lnTo>
                    <a:pt x="538" y="0"/>
                  </a:lnTo>
                  <a:lnTo>
                    <a:pt x="541" y="0"/>
                  </a:lnTo>
                  <a:lnTo>
                    <a:pt x="544" y="0"/>
                  </a:lnTo>
                  <a:lnTo>
                    <a:pt x="547" y="0"/>
                  </a:lnTo>
                  <a:lnTo>
                    <a:pt x="551" y="0"/>
                  </a:lnTo>
                  <a:lnTo>
                    <a:pt x="554" y="0"/>
                  </a:lnTo>
                  <a:lnTo>
                    <a:pt x="557" y="0"/>
                  </a:lnTo>
                  <a:lnTo>
                    <a:pt x="561" y="0"/>
                  </a:lnTo>
                  <a:lnTo>
                    <a:pt x="564" y="4"/>
                  </a:lnTo>
                  <a:lnTo>
                    <a:pt x="567" y="4"/>
                  </a:lnTo>
                  <a:lnTo>
                    <a:pt x="571" y="4"/>
                  </a:lnTo>
                  <a:lnTo>
                    <a:pt x="574" y="7"/>
                  </a:lnTo>
                  <a:lnTo>
                    <a:pt x="577" y="7"/>
                  </a:lnTo>
                  <a:lnTo>
                    <a:pt x="580" y="7"/>
                  </a:lnTo>
                  <a:lnTo>
                    <a:pt x="584" y="10"/>
                  </a:lnTo>
                  <a:lnTo>
                    <a:pt x="587" y="10"/>
                  </a:lnTo>
                  <a:lnTo>
                    <a:pt x="590" y="14"/>
                  </a:lnTo>
                  <a:lnTo>
                    <a:pt x="594" y="14"/>
                  </a:lnTo>
                  <a:lnTo>
                    <a:pt x="597" y="17"/>
                  </a:lnTo>
                  <a:lnTo>
                    <a:pt x="600" y="20"/>
                  </a:lnTo>
                  <a:lnTo>
                    <a:pt x="604" y="20"/>
                  </a:lnTo>
                  <a:lnTo>
                    <a:pt x="607" y="23"/>
                  </a:lnTo>
                  <a:lnTo>
                    <a:pt x="610" y="27"/>
                  </a:lnTo>
                  <a:lnTo>
                    <a:pt x="613" y="30"/>
                  </a:lnTo>
                  <a:lnTo>
                    <a:pt x="617" y="33"/>
                  </a:lnTo>
                  <a:lnTo>
                    <a:pt x="620" y="33"/>
                  </a:lnTo>
                  <a:lnTo>
                    <a:pt x="623" y="37"/>
                  </a:lnTo>
                  <a:lnTo>
                    <a:pt x="623" y="40"/>
                  </a:lnTo>
                  <a:lnTo>
                    <a:pt x="627" y="43"/>
                  </a:lnTo>
                  <a:lnTo>
                    <a:pt x="630" y="47"/>
                  </a:lnTo>
                  <a:lnTo>
                    <a:pt x="633" y="47"/>
                  </a:lnTo>
                  <a:lnTo>
                    <a:pt x="637" y="50"/>
                  </a:lnTo>
                  <a:lnTo>
                    <a:pt x="640" y="53"/>
                  </a:lnTo>
                  <a:lnTo>
                    <a:pt x="643" y="56"/>
                  </a:lnTo>
                  <a:lnTo>
                    <a:pt x="643" y="60"/>
                  </a:lnTo>
                  <a:lnTo>
                    <a:pt x="646" y="63"/>
                  </a:lnTo>
                  <a:lnTo>
                    <a:pt x="650" y="66"/>
                  </a:lnTo>
                  <a:lnTo>
                    <a:pt x="653" y="70"/>
                  </a:lnTo>
                  <a:lnTo>
                    <a:pt x="656" y="73"/>
                  </a:lnTo>
                  <a:lnTo>
                    <a:pt x="660" y="76"/>
                  </a:lnTo>
                  <a:lnTo>
                    <a:pt x="660" y="80"/>
                  </a:lnTo>
                  <a:lnTo>
                    <a:pt x="663" y="83"/>
                  </a:lnTo>
                  <a:lnTo>
                    <a:pt x="666" y="86"/>
                  </a:lnTo>
                  <a:lnTo>
                    <a:pt x="670" y="89"/>
                  </a:lnTo>
                  <a:lnTo>
                    <a:pt x="673" y="93"/>
                  </a:lnTo>
                  <a:lnTo>
                    <a:pt x="676" y="96"/>
                  </a:lnTo>
                  <a:lnTo>
                    <a:pt x="679" y="103"/>
                  </a:lnTo>
                  <a:lnTo>
                    <a:pt x="679" y="106"/>
                  </a:lnTo>
                  <a:lnTo>
                    <a:pt x="683" y="109"/>
                  </a:lnTo>
                  <a:lnTo>
                    <a:pt x="686" y="113"/>
                  </a:lnTo>
                  <a:lnTo>
                    <a:pt x="689" y="116"/>
                  </a:lnTo>
                  <a:lnTo>
                    <a:pt x="693" y="119"/>
                  </a:lnTo>
                  <a:lnTo>
                    <a:pt x="696" y="122"/>
                  </a:lnTo>
                  <a:lnTo>
                    <a:pt x="696" y="129"/>
                  </a:lnTo>
                  <a:lnTo>
                    <a:pt x="699" y="132"/>
                  </a:lnTo>
                  <a:lnTo>
                    <a:pt x="703" y="136"/>
                  </a:lnTo>
                  <a:lnTo>
                    <a:pt x="706" y="139"/>
                  </a:lnTo>
                  <a:lnTo>
                    <a:pt x="709" y="142"/>
                  </a:lnTo>
                  <a:lnTo>
                    <a:pt x="712" y="149"/>
                  </a:lnTo>
                  <a:lnTo>
                    <a:pt x="716" y="152"/>
                  </a:lnTo>
                  <a:lnTo>
                    <a:pt x="716" y="155"/>
                  </a:lnTo>
                  <a:lnTo>
                    <a:pt x="719" y="159"/>
                  </a:lnTo>
                  <a:lnTo>
                    <a:pt x="722" y="162"/>
                  </a:lnTo>
                  <a:lnTo>
                    <a:pt x="726" y="169"/>
                  </a:lnTo>
                  <a:lnTo>
                    <a:pt x="729" y="172"/>
                  </a:lnTo>
                  <a:lnTo>
                    <a:pt x="732" y="175"/>
                  </a:lnTo>
                  <a:lnTo>
                    <a:pt x="732" y="179"/>
                  </a:lnTo>
                  <a:lnTo>
                    <a:pt x="736" y="182"/>
                  </a:lnTo>
                  <a:lnTo>
                    <a:pt x="739" y="188"/>
                  </a:lnTo>
                  <a:lnTo>
                    <a:pt x="742" y="192"/>
                  </a:lnTo>
                  <a:lnTo>
                    <a:pt x="745" y="195"/>
                  </a:lnTo>
                  <a:lnTo>
                    <a:pt x="749" y="198"/>
                  </a:lnTo>
                  <a:lnTo>
                    <a:pt x="749" y="202"/>
                  </a:lnTo>
                  <a:lnTo>
                    <a:pt x="752" y="208"/>
                  </a:lnTo>
                  <a:lnTo>
                    <a:pt x="755" y="212"/>
                  </a:lnTo>
                  <a:lnTo>
                    <a:pt x="759" y="215"/>
                  </a:lnTo>
                  <a:lnTo>
                    <a:pt x="762" y="218"/>
                  </a:lnTo>
                  <a:lnTo>
                    <a:pt x="765" y="221"/>
                  </a:lnTo>
                  <a:lnTo>
                    <a:pt x="769" y="228"/>
                  </a:lnTo>
                  <a:lnTo>
                    <a:pt x="769" y="231"/>
                  </a:lnTo>
                  <a:lnTo>
                    <a:pt x="772" y="235"/>
                  </a:lnTo>
                  <a:lnTo>
                    <a:pt x="775" y="238"/>
                  </a:lnTo>
                  <a:lnTo>
                    <a:pt x="778" y="241"/>
                  </a:lnTo>
                  <a:lnTo>
                    <a:pt x="782" y="245"/>
                  </a:lnTo>
                  <a:lnTo>
                    <a:pt x="785" y="251"/>
                  </a:lnTo>
                  <a:lnTo>
                    <a:pt x="785" y="254"/>
                  </a:lnTo>
                  <a:lnTo>
                    <a:pt x="788" y="258"/>
                  </a:lnTo>
                  <a:lnTo>
                    <a:pt x="792" y="261"/>
                  </a:lnTo>
                  <a:lnTo>
                    <a:pt x="795" y="264"/>
                  </a:lnTo>
                  <a:lnTo>
                    <a:pt x="798" y="268"/>
                  </a:lnTo>
                  <a:lnTo>
                    <a:pt x="802" y="271"/>
                  </a:lnTo>
                  <a:lnTo>
                    <a:pt x="805" y="278"/>
                  </a:lnTo>
                  <a:lnTo>
                    <a:pt x="805" y="281"/>
                  </a:lnTo>
                  <a:lnTo>
                    <a:pt x="808" y="284"/>
                  </a:lnTo>
                  <a:lnTo>
                    <a:pt x="811" y="287"/>
                  </a:lnTo>
                  <a:lnTo>
                    <a:pt x="815" y="291"/>
                  </a:lnTo>
                  <a:lnTo>
                    <a:pt x="818" y="294"/>
                  </a:lnTo>
                  <a:lnTo>
                    <a:pt x="821" y="297"/>
                  </a:lnTo>
                  <a:lnTo>
                    <a:pt x="821" y="301"/>
                  </a:lnTo>
                  <a:lnTo>
                    <a:pt x="825" y="304"/>
                  </a:lnTo>
                  <a:lnTo>
                    <a:pt x="828" y="307"/>
                  </a:lnTo>
                  <a:lnTo>
                    <a:pt x="831" y="314"/>
                  </a:lnTo>
                  <a:lnTo>
                    <a:pt x="835" y="317"/>
                  </a:lnTo>
                  <a:lnTo>
                    <a:pt x="838" y="320"/>
                  </a:lnTo>
                  <a:lnTo>
                    <a:pt x="841" y="324"/>
                  </a:lnTo>
                  <a:lnTo>
                    <a:pt x="841" y="327"/>
                  </a:lnTo>
                  <a:lnTo>
                    <a:pt x="844" y="330"/>
                  </a:lnTo>
                  <a:lnTo>
                    <a:pt x="848" y="334"/>
                  </a:lnTo>
                  <a:lnTo>
                    <a:pt x="851" y="337"/>
                  </a:lnTo>
                  <a:lnTo>
                    <a:pt x="854" y="340"/>
                  </a:lnTo>
                  <a:lnTo>
                    <a:pt x="858" y="344"/>
                  </a:lnTo>
                  <a:lnTo>
                    <a:pt x="858" y="347"/>
                  </a:lnTo>
                  <a:lnTo>
                    <a:pt x="861" y="350"/>
                  </a:lnTo>
                  <a:lnTo>
                    <a:pt x="864" y="353"/>
                  </a:lnTo>
                  <a:lnTo>
                    <a:pt x="868" y="357"/>
                  </a:lnTo>
                  <a:lnTo>
                    <a:pt x="871" y="360"/>
                  </a:lnTo>
                  <a:lnTo>
                    <a:pt x="874" y="363"/>
                  </a:lnTo>
                  <a:lnTo>
                    <a:pt x="877" y="367"/>
                  </a:lnTo>
                  <a:lnTo>
                    <a:pt x="881" y="370"/>
                  </a:lnTo>
                  <a:lnTo>
                    <a:pt x="884" y="373"/>
                  </a:lnTo>
                  <a:lnTo>
                    <a:pt x="887" y="377"/>
                  </a:lnTo>
                  <a:lnTo>
                    <a:pt x="891" y="380"/>
                  </a:lnTo>
                  <a:lnTo>
                    <a:pt x="894" y="383"/>
                  </a:lnTo>
                  <a:lnTo>
                    <a:pt x="894" y="386"/>
                  </a:lnTo>
                  <a:lnTo>
                    <a:pt x="897" y="390"/>
                  </a:lnTo>
                  <a:lnTo>
                    <a:pt x="901" y="393"/>
                  </a:lnTo>
                  <a:lnTo>
                    <a:pt x="904" y="396"/>
                  </a:lnTo>
                  <a:lnTo>
                    <a:pt x="907" y="396"/>
                  </a:lnTo>
                  <a:lnTo>
                    <a:pt x="910" y="400"/>
                  </a:lnTo>
                  <a:lnTo>
                    <a:pt x="914" y="403"/>
                  </a:lnTo>
                  <a:lnTo>
                    <a:pt x="914" y="406"/>
                  </a:lnTo>
                  <a:lnTo>
                    <a:pt x="917" y="410"/>
                  </a:lnTo>
                  <a:lnTo>
                    <a:pt x="920" y="413"/>
                  </a:lnTo>
                  <a:lnTo>
                    <a:pt x="924" y="413"/>
                  </a:lnTo>
                  <a:lnTo>
                    <a:pt x="927" y="416"/>
                  </a:lnTo>
                  <a:lnTo>
                    <a:pt x="930" y="419"/>
                  </a:lnTo>
                  <a:lnTo>
                    <a:pt x="930" y="423"/>
                  </a:lnTo>
                  <a:lnTo>
                    <a:pt x="934" y="426"/>
                  </a:lnTo>
                  <a:lnTo>
                    <a:pt x="937" y="426"/>
                  </a:lnTo>
                  <a:lnTo>
                    <a:pt x="940" y="429"/>
                  </a:lnTo>
                  <a:lnTo>
                    <a:pt x="943" y="433"/>
                  </a:lnTo>
                  <a:lnTo>
                    <a:pt x="947" y="436"/>
                  </a:lnTo>
                  <a:lnTo>
                    <a:pt x="950" y="436"/>
                  </a:lnTo>
                  <a:lnTo>
                    <a:pt x="950" y="439"/>
                  </a:lnTo>
                  <a:lnTo>
                    <a:pt x="953" y="443"/>
                  </a:lnTo>
                  <a:lnTo>
                    <a:pt x="957" y="446"/>
                  </a:lnTo>
                  <a:lnTo>
                    <a:pt x="960" y="446"/>
                  </a:lnTo>
                  <a:lnTo>
                    <a:pt x="963" y="449"/>
                  </a:lnTo>
                  <a:lnTo>
                    <a:pt x="967" y="452"/>
                  </a:lnTo>
                  <a:lnTo>
                    <a:pt x="967" y="456"/>
                  </a:lnTo>
                  <a:lnTo>
                    <a:pt x="970" y="456"/>
                  </a:lnTo>
                  <a:lnTo>
                    <a:pt x="973" y="459"/>
                  </a:lnTo>
                  <a:lnTo>
                    <a:pt x="976" y="462"/>
                  </a:lnTo>
                  <a:lnTo>
                    <a:pt x="980" y="462"/>
                  </a:lnTo>
                  <a:lnTo>
                    <a:pt x="983" y="466"/>
                  </a:lnTo>
                  <a:lnTo>
                    <a:pt x="986" y="469"/>
                  </a:lnTo>
                  <a:lnTo>
                    <a:pt x="990" y="472"/>
                  </a:lnTo>
                  <a:lnTo>
                    <a:pt x="993" y="476"/>
                  </a:lnTo>
                  <a:lnTo>
                    <a:pt x="996" y="476"/>
                  </a:lnTo>
                  <a:lnTo>
                    <a:pt x="1000" y="479"/>
                  </a:lnTo>
                  <a:lnTo>
                    <a:pt x="1003" y="482"/>
                  </a:lnTo>
                  <a:lnTo>
                    <a:pt x="1006" y="485"/>
                  </a:lnTo>
                  <a:lnTo>
                    <a:pt x="1009" y="485"/>
                  </a:lnTo>
                  <a:lnTo>
                    <a:pt x="1013" y="489"/>
                  </a:lnTo>
                  <a:lnTo>
                    <a:pt x="1016" y="492"/>
                  </a:lnTo>
                  <a:lnTo>
                    <a:pt x="1019" y="492"/>
                  </a:lnTo>
                  <a:lnTo>
                    <a:pt x="1023" y="495"/>
                  </a:lnTo>
                  <a:lnTo>
                    <a:pt x="1026" y="499"/>
                  </a:lnTo>
                  <a:lnTo>
                    <a:pt x="1029" y="499"/>
                  </a:lnTo>
                  <a:lnTo>
                    <a:pt x="1033" y="502"/>
                  </a:lnTo>
                  <a:lnTo>
                    <a:pt x="1036" y="505"/>
                  </a:lnTo>
                  <a:lnTo>
                    <a:pt x="1039" y="505"/>
                  </a:lnTo>
                  <a:lnTo>
                    <a:pt x="1039" y="509"/>
                  </a:lnTo>
                  <a:lnTo>
                    <a:pt x="1042" y="509"/>
                  </a:lnTo>
                  <a:lnTo>
                    <a:pt x="1046" y="512"/>
                  </a:lnTo>
                  <a:lnTo>
                    <a:pt x="1049" y="512"/>
                  </a:lnTo>
                  <a:lnTo>
                    <a:pt x="1052" y="515"/>
                  </a:lnTo>
                  <a:lnTo>
                    <a:pt x="1056" y="515"/>
                  </a:lnTo>
                  <a:lnTo>
                    <a:pt x="1059" y="518"/>
                  </a:lnTo>
                  <a:lnTo>
                    <a:pt x="1062" y="522"/>
                  </a:lnTo>
                  <a:lnTo>
                    <a:pt x="1066" y="522"/>
                  </a:lnTo>
                  <a:lnTo>
                    <a:pt x="1069" y="525"/>
                  </a:lnTo>
                  <a:lnTo>
                    <a:pt x="1072" y="525"/>
                  </a:lnTo>
                  <a:lnTo>
                    <a:pt x="1075" y="528"/>
                  </a:lnTo>
                  <a:lnTo>
                    <a:pt x="1079" y="532"/>
                  </a:lnTo>
                  <a:lnTo>
                    <a:pt x="1082" y="532"/>
                  </a:lnTo>
                  <a:lnTo>
                    <a:pt x="1085" y="535"/>
                  </a:lnTo>
                  <a:lnTo>
                    <a:pt x="1089" y="535"/>
                  </a:lnTo>
                  <a:lnTo>
                    <a:pt x="1092" y="538"/>
                  </a:lnTo>
                  <a:lnTo>
                    <a:pt x="1095" y="538"/>
                  </a:lnTo>
                  <a:lnTo>
                    <a:pt x="1099" y="542"/>
                  </a:lnTo>
                  <a:lnTo>
                    <a:pt x="1102" y="542"/>
                  </a:lnTo>
                  <a:lnTo>
                    <a:pt x="1105" y="545"/>
                  </a:lnTo>
                  <a:lnTo>
                    <a:pt x="1108" y="545"/>
                  </a:lnTo>
                  <a:lnTo>
                    <a:pt x="1112" y="548"/>
                  </a:lnTo>
                  <a:lnTo>
                    <a:pt x="1115" y="548"/>
                  </a:lnTo>
                  <a:lnTo>
                    <a:pt x="1118" y="551"/>
                  </a:lnTo>
                  <a:lnTo>
                    <a:pt x="1122" y="551"/>
                  </a:lnTo>
                  <a:lnTo>
                    <a:pt x="1125" y="555"/>
                  </a:lnTo>
                  <a:lnTo>
                    <a:pt x="1128" y="555"/>
                  </a:lnTo>
                  <a:lnTo>
                    <a:pt x="1132" y="555"/>
                  </a:lnTo>
                  <a:lnTo>
                    <a:pt x="1132" y="558"/>
                  </a:lnTo>
                  <a:lnTo>
                    <a:pt x="1135" y="558"/>
                  </a:lnTo>
                  <a:lnTo>
                    <a:pt x="1138" y="558"/>
                  </a:lnTo>
                  <a:lnTo>
                    <a:pt x="1141" y="561"/>
                  </a:lnTo>
                  <a:lnTo>
                    <a:pt x="1145" y="561"/>
                  </a:lnTo>
                  <a:lnTo>
                    <a:pt x="1148" y="565"/>
                  </a:lnTo>
                  <a:lnTo>
                    <a:pt x="1151" y="565"/>
                  </a:lnTo>
                  <a:lnTo>
                    <a:pt x="1155" y="568"/>
                  </a:lnTo>
                  <a:lnTo>
                    <a:pt x="1158" y="568"/>
                  </a:lnTo>
                  <a:lnTo>
                    <a:pt x="1161" y="568"/>
                  </a:lnTo>
                  <a:lnTo>
                    <a:pt x="1165" y="571"/>
                  </a:lnTo>
                  <a:lnTo>
                    <a:pt x="1168" y="571"/>
                  </a:lnTo>
                  <a:lnTo>
                    <a:pt x="1171" y="575"/>
                  </a:lnTo>
                  <a:lnTo>
                    <a:pt x="1174" y="575"/>
                  </a:lnTo>
                  <a:lnTo>
                    <a:pt x="1178" y="575"/>
                  </a:lnTo>
                  <a:lnTo>
                    <a:pt x="1181" y="575"/>
                  </a:lnTo>
                  <a:lnTo>
                    <a:pt x="1184" y="578"/>
                  </a:lnTo>
                  <a:lnTo>
                    <a:pt x="1188" y="578"/>
                  </a:lnTo>
                  <a:lnTo>
                    <a:pt x="1191" y="581"/>
                  </a:lnTo>
                  <a:lnTo>
                    <a:pt x="1194" y="581"/>
                  </a:lnTo>
                  <a:lnTo>
                    <a:pt x="1198" y="581"/>
                  </a:lnTo>
                  <a:lnTo>
                    <a:pt x="1201" y="581"/>
                  </a:lnTo>
                  <a:lnTo>
                    <a:pt x="1201" y="584"/>
                  </a:lnTo>
                  <a:lnTo>
                    <a:pt x="1204" y="584"/>
                  </a:lnTo>
                  <a:lnTo>
                    <a:pt x="1207" y="584"/>
                  </a:lnTo>
                  <a:lnTo>
                    <a:pt x="1211" y="588"/>
                  </a:lnTo>
                  <a:lnTo>
                    <a:pt x="1214" y="588"/>
                  </a:lnTo>
                  <a:lnTo>
                    <a:pt x="1217" y="588"/>
                  </a:lnTo>
                  <a:lnTo>
                    <a:pt x="1221" y="588"/>
                  </a:lnTo>
                  <a:lnTo>
                    <a:pt x="1221" y="591"/>
                  </a:lnTo>
                  <a:lnTo>
                    <a:pt x="1224" y="591"/>
                  </a:lnTo>
                  <a:lnTo>
                    <a:pt x="1227" y="591"/>
                  </a:lnTo>
                  <a:lnTo>
                    <a:pt x="1231" y="591"/>
                  </a:lnTo>
                  <a:lnTo>
                    <a:pt x="1234" y="591"/>
                  </a:lnTo>
                  <a:lnTo>
                    <a:pt x="1237" y="594"/>
                  </a:lnTo>
                  <a:lnTo>
                    <a:pt x="1240" y="594"/>
                  </a:lnTo>
                  <a:lnTo>
                    <a:pt x="1244" y="594"/>
                  </a:lnTo>
                  <a:lnTo>
                    <a:pt x="1247" y="598"/>
                  </a:lnTo>
                  <a:lnTo>
                    <a:pt x="1250" y="598"/>
                  </a:lnTo>
                  <a:lnTo>
                    <a:pt x="1254" y="598"/>
                  </a:lnTo>
                  <a:lnTo>
                    <a:pt x="1257" y="598"/>
                  </a:lnTo>
                  <a:lnTo>
                    <a:pt x="1260" y="601"/>
                  </a:lnTo>
                  <a:lnTo>
                    <a:pt x="1264" y="601"/>
                  </a:lnTo>
                  <a:lnTo>
                    <a:pt x="1267" y="601"/>
                  </a:lnTo>
                  <a:lnTo>
                    <a:pt x="1270" y="601"/>
                  </a:lnTo>
                  <a:lnTo>
                    <a:pt x="1273" y="601"/>
                  </a:lnTo>
                  <a:lnTo>
                    <a:pt x="1273" y="604"/>
                  </a:lnTo>
                  <a:lnTo>
                    <a:pt x="1277" y="604"/>
                  </a:lnTo>
                  <a:lnTo>
                    <a:pt x="1280" y="604"/>
                  </a:lnTo>
                  <a:lnTo>
                    <a:pt x="1283" y="604"/>
                  </a:lnTo>
                  <a:lnTo>
                    <a:pt x="1287" y="604"/>
                  </a:lnTo>
                  <a:lnTo>
                    <a:pt x="1290" y="604"/>
                  </a:lnTo>
                  <a:lnTo>
                    <a:pt x="1293" y="608"/>
                  </a:lnTo>
                  <a:lnTo>
                    <a:pt x="1297" y="608"/>
                  </a:lnTo>
                  <a:lnTo>
                    <a:pt x="1300" y="608"/>
                  </a:lnTo>
                  <a:lnTo>
                    <a:pt x="1303" y="608"/>
                  </a:lnTo>
                  <a:lnTo>
                    <a:pt x="1306" y="608"/>
                  </a:lnTo>
                  <a:lnTo>
                    <a:pt x="1310" y="608"/>
                  </a:lnTo>
                  <a:lnTo>
                    <a:pt x="1310" y="611"/>
                  </a:lnTo>
                  <a:lnTo>
                    <a:pt x="1313" y="611"/>
                  </a:lnTo>
                  <a:lnTo>
                    <a:pt x="1316" y="611"/>
                  </a:lnTo>
                  <a:lnTo>
                    <a:pt x="1320" y="611"/>
                  </a:lnTo>
                  <a:lnTo>
                    <a:pt x="1323" y="611"/>
                  </a:lnTo>
                  <a:lnTo>
                    <a:pt x="1326" y="611"/>
                  </a:lnTo>
                  <a:lnTo>
                    <a:pt x="1330" y="611"/>
                  </a:lnTo>
                  <a:lnTo>
                    <a:pt x="1333" y="611"/>
                  </a:lnTo>
                  <a:lnTo>
                    <a:pt x="1336" y="614"/>
                  </a:lnTo>
                  <a:lnTo>
                    <a:pt x="1339" y="614"/>
                  </a:lnTo>
                  <a:lnTo>
                    <a:pt x="1343" y="614"/>
                  </a:lnTo>
                  <a:lnTo>
                    <a:pt x="1346" y="614"/>
                  </a:lnTo>
                  <a:lnTo>
                    <a:pt x="1349" y="614"/>
                  </a:lnTo>
                  <a:lnTo>
                    <a:pt x="1353" y="614"/>
                  </a:lnTo>
                  <a:lnTo>
                    <a:pt x="1356" y="614"/>
                  </a:lnTo>
                  <a:lnTo>
                    <a:pt x="1359" y="614"/>
                  </a:lnTo>
                  <a:lnTo>
                    <a:pt x="1363" y="614"/>
                  </a:lnTo>
                  <a:lnTo>
                    <a:pt x="1366" y="614"/>
                  </a:lnTo>
                  <a:lnTo>
                    <a:pt x="1366" y="617"/>
                  </a:lnTo>
                  <a:lnTo>
                    <a:pt x="1369" y="617"/>
                  </a:lnTo>
                  <a:lnTo>
                    <a:pt x="1372" y="617"/>
                  </a:lnTo>
                  <a:lnTo>
                    <a:pt x="1376" y="617"/>
                  </a:lnTo>
                  <a:lnTo>
                    <a:pt x="1379" y="617"/>
                  </a:lnTo>
                  <a:lnTo>
                    <a:pt x="1382" y="617"/>
                  </a:lnTo>
                  <a:lnTo>
                    <a:pt x="1386" y="617"/>
                  </a:lnTo>
                  <a:lnTo>
                    <a:pt x="1389" y="617"/>
                  </a:lnTo>
                  <a:lnTo>
                    <a:pt x="1392" y="617"/>
                  </a:lnTo>
                  <a:lnTo>
                    <a:pt x="1396" y="617"/>
                  </a:lnTo>
                  <a:lnTo>
                    <a:pt x="1399" y="617"/>
                  </a:lnTo>
                  <a:lnTo>
                    <a:pt x="1402" y="617"/>
                  </a:lnTo>
                  <a:lnTo>
                    <a:pt x="1405" y="617"/>
                  </a:lnTo>
                  <a:lnTo>
                    <a:pt x="1409" y="617"/>
                  </a:lnTo>
                  <a:lnTo>
                    <a:pt x="1412" y="617"/>
                  </a:lnTo>
                  <a:lnTo>
                    <a:pt x="1415" y="617"/>
                  </a:lnTo>
                  <a:lnTo>
                    <a:pt x="1419" y="617"/>
                  </a:lnTo>
                  <a:lnTo>
                    <a:pt x="1422" y="617"/>
                  </a:lnTo>
                  <a:lnTo>
                    <a:pt x="1425" y="617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7080" y="6138720"/>
              <a:ext cx="36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017400" y="64897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102880" y="6483240"/>
              <a:ext cx="309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61760" y="4286160"/>
              <a:ext cx="89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00"/>
                  </a:solidFill>
                  <a:latin typeface="Times New Roman"/>
                </a:rPr>
                <a:t>|G(</a:t>
              </a:r>
              <a:r>
                <a:rPr b="0" i="1" lang="hr-HR" sz="20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r>
                <a:rPr b="0" lang="hr-HR" sz="2000" spc="-1" strike="noStrike" baseline="30000">
                  <a:solidFill>
                    <a:srgbClr val="ffff00"/>
                  </a:solidFill>
                  <a:latin typeface="Times New Roman"/>
                </a:rPr>
                <a:t>j</a:t>
              </a:r>
              <a:r>
                <a:rPr b="0" lang="hr-HR" sz="2000" spc="-1" strike="noStrike" baseline="30000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hr-HR" sz="2000" spc="-1" strike="noStrike">
                  <a:solidFill>
                    <a:srgbClr val="ffff00"/>
                  </a:solidFill>
                  <a:latin typeface="Times New Roman"/>
                </a:rPr>
                <a:t>)|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9BD8-E9D2-4C45-A8AC-3C6D1C17C8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ojektiranje - sažetak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76040" y="2017800"/>
            <a:ext cx="890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Ako je specifikacija filtra dana u digitalnoj domeni, specifikacija prototipnog analognog filtra se dobije frekvencijskom transformacijom </a:t>
            </a:r>
            <a:r>
              <a:rPr b="0" i="1" lang="hr-HR" sz="32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i="1" lang="hr-HR" sz="3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ojektirati prototipni analogni filtar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hr-HR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astaviti prijenosnu funkciju analognog filtra na parcijalne razlomke. Tako dobivamo koeficijente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hr-HR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hr-HR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zračunati prijenosnu funkciju digitalnog filtra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D29F-B383-4E55-85BD-E359B6ADDB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Metoda jednakog impulsnog odziv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6200" y="1514520"/>
            <a:ext cx="876780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eka je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hr-HR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) prijenosna funkcija kauzalnog i stabilnog analognog filtra. Njegov impulsni odziv je dan inverznom Laplace-ovom transformacij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52360" y="3497400"/>
            <a:ext cx="278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=</a:t>
            </a:r>
            <a:r>
              <a:rPr b="0" lang="en-US" sz="3200" spc="-1" strike="noStrike">
                <a:solidFill>
                  <a:srgbClr val="ffff00"/>
                </a:solidFill>
                <a:latin typeface="Monotype Corsiva"/>
              </a:rPr>
              <a:t>Z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200" y="4402080"/>
            <a:ext cx="8867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lsni odziv digitalnog filtra je jednoliko otipkana verzija impulsnog odziva analognog filtra, t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70120" y="5805360"/>
            <a:ext cx="1984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]=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hr-HR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nT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229D-D4CD-432A-9356-ECC79BBA39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30480" y="404640"/>
            <a:ext cx="791208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Svojstva filtra projektiranog metodom jednakog impulsnog odziv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3920" y="1981080"/>
            <a:ext cx="9098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roj polova digitalnog filtra jednak je broju polova analognog filt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igitalni filtar je stabilan ako je prototipni analogni filtar bio stabi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rekvencijska karakteristika digitalnog filtra je periodizirana frekvencijska karakteristika analognog filt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askada dva digitalna filtra projektirana metodom jednakog impulsnog odziva nema impulsni odziv jednak impulsnom odzivu kaskade dva analogna prototipa. Drugim riječima, filtar mora biti projektiran u jednom korak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17E5-4D8A-4690-8EE1-A9F060D08C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1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040" y="1881360"/>
            <a:ext cx="432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Butterworth, niski propust, 3. 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4657680" y="1677960"/>
                <a:ext cx="2782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58" name=""/>
          <p:cNvGrpSpPr/>
          <p:nvPr/>
        </p:nvGrpSpPr>
        <p:grpSpPr>
          <a:xfrm>
            <a:off x="295200" y="2917800"/>
            <a:ext cx="8389440" cy="3650400"/>
            <a:chOff x="295200" y="2917800"/>
            <a:chExt cx="8389440" cy="3650400"/>
          </a:xfrm>
        </p:grpSpPr>
        <p:grpSp>
          <p:nvGrpSpPr>
            <p:cNvPr id="659" name=""/>
            <p:cNvGrpSpPr/>
            <p:nvPr/>
          </p:nvGrpSpPr>
          <p:grpSpPr>
            <a:xfrm>
              <a:off x="295200" y="3009960"/>
              <a:ext cx="3959280" cy="3558240"/>
              <a:chOff x="295200" y="3009960"/>
              <a:chExt cx="3959280" cy="3558240"/>
            </a:xfrm>
          </p:grpSpPr>
          <p:sp>
            <p:nvSpPr>
              <p:cNvPr id="660" name=""/>
              <p:cNvSpPr/>
              <p:nvPr/>
            </p:nvSpPr>
            <p:spPr>
              <a:xfrm flipV="1">
                <a:off x="606960" y="362124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1218240" y="362124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1823400" y="362124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2435760" y="362124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3039840" y="362124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3652200" y="362124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06960" y="621972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06960" y="570060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06960" y="518328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06960" y="465768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6960" y="413856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06960" y="362124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06960" y="3621240"/>
                <a:ext cx="3046680" cy="2600280"/>
              </a:xfrm>
              <a:custGeom>
                <a:avLst/>
                <a:gdLst/>
                <a:ahLst/>
                <a:rect l="l" t="t" r="r" b="b"/>
                <a:pathLst>
                  <a:path w="2079" h="1638">
                    <a:moveTo>
                      <a:pt x="0" y="1637"/>
                    </a:moveTo>
                    <a:lnTo>
                      <a:pt x="0" y="0"/>
                    </a:lnTo>
                    <a:lnTo>
                      <a:pt x="207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06960" y="3621240"/>
                <a:ext cx="3046680" cy="2600280"/>
              </a:xfrm>
              <a:custGeom>
                <a:avLst/>
                <a:gdLst/>
                <a:ahLst/>
                <a:rect l="l" t="t" r="r" b="b"/>
                <a:pathLst>
                  <a:path w="2079" h="1638">
                    <a:moveTo>
                      <a:pt x="0" y="1637"/>
                    </a:moveTo>
                    <a:lnTo>
                      <a:pt x="0" y="0"/>
                    </a:lnTo>
                    <a:lnTo>
                      <a:pt x="207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06960" y="3621240"/>
                <a:ext cx="3046680" cy="2600280"/>
              </a:xfrm>
              <a:custGeom>
                <a:avLst/>
                <a:gdLst/>
                <a:ahLst/>
                <a:rect l="l" t="t" r="r" b="b"/>
                <a:pathLst>
                  <a:path w="2079" h="1638">
                    <a:moveTo>
                      <a:pt x="0" y="1637"/>
                    </a:moveTo>
                    <a:lnTo>
                      <a:pt x="0" y="0"/>
                    </a:lnTo>
                    <a:lnTo>
                      <a:pt x="207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06960" y="621972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06960" y="362124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606960" y="362124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3652200" y="362124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06960" y="362124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06960" y="621972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06960" y="362124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06960" y="621972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606960" y="618804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06960" y="3621240"/>
                <a:ext cx="0" cy="29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46400" y="61707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1218240" y="618804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218240" y="3621240"/>
                <a:ext cx="0" cy="29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058760" y="61707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1823400" y="618804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823400" y="3621240"/>
                <a:ext cx="0" cy="29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63920" y="61707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435760" y="618804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35760" y="3621240"/>
                <a:ext cx="0" cy="29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275200" y="61707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3039840" y="618804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039840" y="3621240"/>
                <a:ext cx="0" cy="29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880360" y="61707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652200" y="618804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652200" y="3621240"/>
                <a:ext cx="0" cy="29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492720" y="61707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06960" y="621972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3624840" y="621972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95200" y="5967360"/>
                <a:ext cx="4024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06960" y="570060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3624840" y="570060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06960" y="518328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3624840" y="518328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960" y="465768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3624840" y="465768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06960" y="413856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624840" y="413856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6960" y="362124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3624840" y="362124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59640" y="34304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06960" y="6219720"/>
                <a:ext cx="35521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6960" y="362124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606960" y="3228840"/>
                <a:ext cx="0" cy="2990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652200" y="362124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06960" y="621972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13080" y="3621240"/>
                <a:ext cx="3040560" cy="2576520"/>
              </a:xfrm>
              <a:custGeom>
                <a:avLst/>
                <a:gdLst/>
                <a:ahLst/>
                <a:rect l="l" t="t" r="r" b="b"/>
                <a:pathLst>
                  <a:path w="2075" h="1623">
                    <a:moveTo>
                      <a:pt x="0" y="0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2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5" y="0"/>
                    </a:lnTo>
                    <a:lnTo>
                      <a:pt x="130" y="0"/>
                    </a:lnTo>
                    <a:lnTo>
                      <a:pt x="135" y="0"/>
                    </a:lnTo>
                    <a:lnTo>
                      <a:pt x="140" y="0"/>
                    </a:lnTo>
                    <a:lnTo>
                      <a:pt x="144" y="0"/>
                    </a:lnTo>
                    <a:lnTo>
                      <a:pt x="149" y="0"/>
                    </a:lnTo>
                    <a:lnTo>
                      <a:pt x="154" y="5"/>
                    </a:lnTo>
                    <a:lnTo>
                      <a:pt x="159" y="5"/>
                    </a:lnTo>
                    <a:lnTo>
                      <a:pt x="164" y="5"/>
                    </a:lnTo>
                    <a:lnTo>
                      <a:pt x="168" y="5"/>
                    </a:lnTo>
                    <a:lnTo>
                      <a:pt x="173" y="5"/>
                    </a:lnTo>
                    <a:lnTo>
                      <a:pt x="178" y="5"/>
                    </a:lnTo>
                    <a:lnTo>
                      <a:pt x="183" y="5"/>
                    </a:lnTo>
                    <a:lnTo>
                      <a:pt x="188" y="9"/>
                    </a:lnTo>
                    <a:lnTo>
                      <a:pt x="192" y="9"/>
                    </a:lnTo>
                    <a:lnTo>
                      <a:pt x="197" y="9"/>
                    </a:lnTo>
                    <a:lnTo>
                      <a:pt x="202" y="14"/>
                    </a:lnTo>
                    <a:lnTo>
                      <a:pt x="207" y="14"/>
                    </a:lnTo>
                    <a:lnTo>
                      <a:pt x="212" y="14"/>
                    </a:lnTo>
                    <a:lnTo>
                      <a:pt x="216" y="19"/>
                    </a:lnTo>
                    <a:lnTo>
                      <a:pt x="221" y="19"/>
                    </a:lnTo>
                    <a:lnTo>
                      <a:pt x="226" y="24"/>
                    </a:lnTo>
                    <a:lnTo>
                      <a:pt x="231" y="24"/>
                    </a:lnTo>
                    <a:lnTo>
                      <a:pt x="236" y="29"/>
                    </a:lnTo>
                    <a:lnTo>
                      <a:pt x="240" y="33"/>
                    </a:lnTo>
                    <a:lnTo>
                      <a:pt x="245" y="33"/>
                    </a:lnTo>
                    <a:lnTo>
                      <a:pt x="245" y="38"/>
                    </a:lnTo>
                    <a:lnTo>
                      <a:pt x="250" y="43"/>
                    </a:lnTo>
                    <a:lnTo>
                      <a:pt x="255" y="48"/>
                    </a:lnTo>
                    <a:lnTo>
                      <a:pt x="260" y="53"/>
                    </a:lnTo>
                    <a:lnTo>
                      <a:pt x="264" y="57"/>
                    </a:lnTo>
                    <a:lnTo>
                      <a:pt x="269" y="62"/>
                    </a:lnTo>
                    <a:lnTo>
                      <a:pt x="274" y="67"/>
                    </a:lnTo>
                    <a:lnTo>
                      <a:pt x="274" y="72"/>
                    </a:lnTo>
                    <a:lnTo>
                      <a:pt x="279" y="77"/>
                    </a:lnTo>
                    <a:lnTo>
                      <a:pt x="284" y="81"/>
                    </a:lnTo>
                    <a:lnTo>
                      <a:pt x="288" y="91"/>
                    </a:lnTo>
                    <a:lnTo>
                      <a:pt x="293" y="96"/>
                    </a:lnTo>
                    <a:lnTo>
                      <a:pt x="298" y="105"/>
                    </a:lnTo>
                    <a:lnTo>
                      <a:pt x="298" y="115"/>
                    </a:lnTo>
                    <a:lnTo>
                      <a:pt x="303" y="120"/>
                    </a:lnTo>
                    <a:lnTo>
                      <a:pt x="308" y="129"/>
                    </a:lnTo>
                    <a:lnTo>
                      <a:pt x="312" y="139"/>
                    </a:lnTo>
                    <a:lnTo>
                      <a:pt x="317" y="149"/>
                    </a:lnTo>
                    <a:lnTo>
                      <a:pt x="322" y="158"/>
                    </a:lnTo>
                    <a:lnTo>
                      <a:pt x="327" y="168"/>
                    </a:lnTo>
                    <a:lnTo>
                      <a:pt x="327" y="182"/>
                    </a:lnTo>
                    <a:lnTo>
                      <a:pt x="332" y="192"/>
                    </a:lnTo>
                    <a:lnTo>
                      <a:pt x="336" y="201"/>
                    </a:lnTo>
                    <a:lnTo>
                      <a:pt x="341" y="216"/>
                    </a:lnTo>
                    <a:lnTo>
                      <a:pt x="346" y="230"/>
                    </a:lnTo>
                    <a:lnTo>
                      <a:pt x="351" y="240"/>
                    </a:lnTo>
                    <a:lnTo>
                      <a:pt x="351" y="254"/>
                    </a:lnTo>
                    <a:lnTo>
                      <a:pt x="356" y="269"/>
                    </a:lnTo>
                    <a:lnTo>
                      <a:pt x="360" y="283"/>
                    </a:lnTo>
                    <a:lnTo>
                      <a:pt x="365" y="297"/>
                    </a:lnTo>
                    <a:lnTo>
                      <a:pt x="370" y="312"/>
                    </a:lnTo>
                    <a:lnTo>
                      <a:pt x="375" y="326"/>
                    </a:lnTo>
                    <a:lnTo>
                      <a:pt x="375" y="341"/>
                    </a:lnTo>
                    <a:lnTo>
                      <a:pt x="380" y="360"/>
                    </a:lnTo>
                    <a:lnTo>
                      <a:pt x="384" y="374"/>
                    </a:lnTo>
                    <a:lnTo>
                      <a:pt x="389" y="389"/>
                    </a:lnTo>
                    <a:lnTo>
                      <a:pt x="394" y="408"/>
                    </a:lnTo>
                    <a:lnTo>
                      <a:pt x="399" y="422"/>
                    </a:lnTo>
                    <a:lnTo>
                      <a:pt x="404" y="437"/>
                    </a:lnTo>
                    <a:lnTo>
                      <a:pt x="404" y="456"/>
                    </a:lnTo>
                    <a:lnTo>
                      <a:pt x="408" y="470"/>
                    </a:lnTo>
                    <a:lnTo>
                      <a:pt x="413" y="489"/>
                    </a:lnTo>
                    <a:lnTo>
                      <a:pt x="418" y="509"/>
                    </a:lnTo>
                    <a:lnTo>
                      <a:pt x="423" y="523"/>
                    </a:lnTo>
                    <a:lnTo>
                      <a:pt x="428" y="542"/>
                    </a:lnTo>
                    <a:lnTo>
                      <a:pt x="428" y="557"/>
                    </a:lnTo>
                    <a:lnTo>
                      <a:pt x="432" y="576"/>
                    </a:lnTo>
                    <a:lnTo>
                      <a:pt x="437" y="590"/>
                    </a:lnTo>
                    <a:lnTo>
                      <a:pt x="442" y="609"/>
                    </a:lnTo>
                    <a:lnTo>
                      <a:pt x="447" y="624"/>
                    </a:lnTo>
                    <a:lnTo>
                      <a:pt x="452" y="643"/>
                    </a:lnTo>
                    <a:lnTo>
                      <a:pt x="456" y="657"/>
                    </a:lnTo>
                    <a:lnTo>
                      <a:pt x="456" y="677"/>
                    </a:lnTo>
                    <a:lnTo>
                      <a:pt x="461" y="691"/>
                    </a:lnTo>
                    <a:lnTo>
                      <a:pt x="466" y="710"/>
                    </a:lnTo>
                    <a:lnTo>
                      <a:pt x="471" y="725"/>
                    </a:lnTo>
                    <a:lnTo>
                      <a:pt x="476" y="739"/>
                    </a:lnTo>
                    <a:lnTo>
                      <a:pt x="480" y="758"/>
                    </a:lnTo>
                    <a:lnTo>
                      <a:pt x="480" y="773"/>
                    </a:lnTo>
                    <a:lnTo>
                      <a:pt x="485" y="787"/>
                    </a:lnTo>
                    <a:lnTo>
                      <a:pt x="490" y="801"/>
                    </a:lnTo>
                    <a:lnTo>
                      <a:pt x="495" y="821"/>
                    </a:lnTo>
                    <a:lnTo>
                      <a:pt x="500" y="835"/>
                    </a:lnTo>
                    <a:lnTo>
                      <a:pt x="504" y="849"/>
                    </a:lnTo>
                    <a:lnTo>
                      <a:pt x="509" y="864"/>
                    </a:lnTo>
                    <a:lnTo>
                      <a:pt x="509" y="878"/>
                    </a:lnTo>
                    <a:lnTo>
                      <a:pt x="514" y="893"/>
                    </a:lnTo>
                    <a:lnTo>
                      <a:pt x="519" y="902"/>
                    </a:lnTo>
                    <a:lnTo>
                      <a:pt x="524" y="917"/>
                    </a:lnTo>
                    <a:lnTo>
                      <a:pt x="528" y="931"/>
                    </a:lnTo>
                    <a:lnTo>
                      <a:pt x="533" y="945"/>
                    </a:lnTo>
                    <a:lnTo>
                      <a:pt x="533" y="955"/>
                    </a:lnTo>
                    <a:lnTo>
                      <a:pt x="538" y="969"/>
                    </a:lnTo>
                    <a:lnTo>
                      <a:pt x="543" y="984"/>
                    </a:lnTo>
                    <a:lnTo>
                      <a:pt x="548" y="993"/>
                    </a:lnTo>
                    <a:lnTo>
                      <a:pt x="552" y="1008"/>
                    </a:lnTo>
                    <a:lnTo>
                      <a:pt x="557" y="1017"/>
                    </a:lnTo>
                    <a:lnTo>
                      <a:pt x="562" y="1027"/>
                    </a:lnTo>
                    <a:lnTo>
                      <a:pt x="562" y="1041"/>
                    </a:lnTo>
                    <a:lnTo>
                      <a:pt x="567" y="1051"/>
                    </a:lnTo>
                    <a:lnTo>
                      <a:pt x="572" y="1061"/>
                    </a:lnTo>
                    <a:lnTo>
                      <a:pt x="576" y="1070"/>
                    </a:lnTo>
                    <a:lnTo>
                      <a:pt x="581" y="1085"/>
                    </a:lnTo>
                    <a:lnTo>
                      <a:pt x="586" y="1094"/>
                    </a:lnTo>
                    <a:lnTo>
                      <a:pt x="586" y="1104"/>
                    </a:lnTo>
                    <a:lnTo>
                      <a:pt x="591" y="1113"/>
                    </a:lnTo>
                    <a:lnTo>
                      <a:pt x="596" y="1123"/>
                    </a:lnTo>
                    <a:lnTo>
                      <a:pt x="600" y="1133"/>
                    </a:lnTo>
                    <a:lnTo>
                      <a:pt x="605" y="1142"/>
                    </a:lnTo>
                    <a:lnTo>
                      <a:pt x="610" y="1147"/>
                    </a:lnTo>
                    <a:lnTo>
                      <a:pt x="615" y="1157"/>
                    </a:lnTo>
                    <a:lnTo>
                      <a:pt x="615" y="1166"/>
                    </a:lnTo>
                    <a:lnTo>
                      <a:pt x="620" y="1176"/>
                    </a:lnTo>
                    <a:lnTo>
                      <a:pt x="624" y="1185"/>
                    </a:lnTo>
                    <a:lnTo>
                      <a:pt x="629" y="1190"/>
                    </a:lnTo>
                    <a:lnTo>
                      <a:pt x="634" y="1200"/>
                    </a:lnTo>
                    <a:lnTo>
                      <a:pt x="639" y="1205"/>
                    </a:lnTo>
                    <a:lnTo>
                      <a:pt x="639" y="1214"/>
                    </a:lnTo>
                    <a:lnTo>
                      <a:pt x="644" y="1224"/>
                    </a:lnTo>
                    <a:lnTo>
                      <a:pt x="648" y="1229"/>
                    </a:lnTo>
                    <a:lnTo>
                      <a:pt x="653" y="1238"/>
                    </a:lnTo>
                    <a:lnTo>
                      <a:pt x="658" y="1243"/>
                    </a:lnTo>
                    <a:lnTo>
                      <a:pt x="663" y="1248"/>
                    </a:lnTo>
                    <a:lnTo>
                      <a:pt x="668" y="1257"/>
                    </a:lnTo>
                    <a:lnTo>
                      <a:pt x="668" y="1262"/>
                    </a:lnTo>
                    <a:lnTo>
                      <a:pt x="672" y="1267"/>
                    </a:lnTo>
                    <a:lnTo>
                      <a:pt x="677" y="1277"/>
                    </a:lnTo>
                    <a:lnTo>
                      <a:pt x="682" y="1281"/>
                    </a:lnTo>
                    <a:lnTo>
                      <a:pt x="687" y="1286"/>
                    </a:lnTo>
                    <a:lnTo>
                      <a:pt x="692" y="1291"/>
                    </a:lnTo>
                    <a:lnTo>
                      <a:pt x="692" y="1301"/>
                    </a:lnTo>
                    <a:lnTo>
                      <a:pt x="696" y="1305"/>
                    </a:lnTo>
                    <a:lnTo>
                      <a:pt x="701" y="1310"/>
                    </a:lnTo>
                    <a:lnTo>
                      <a:pt x="706" y="1315"/>
                    </a:lnTo>
                    <a:lnTo>
                      <a:pt x="711" y="1320"/>
                    </a:lnTo>
                    <a:lnTo>
                      <a:pt x="716" y="1325"/>
                    </a:lnTo>
                    <a:lnTo>
                      <a:pt x="720" y="1329"/>
                    </a:lnTo>
                    <a:lnTo>
                      <a:pt x="720" y="1334"/>
                    </a:lnTo>
                    <a:lnTo>
                      <a:pt x="725" y="1339"/>
                    </a:lnTo>
                    <a:lnTo>
                      <a:pt x="730" y="1344"/>
                    </a:lnTo>
                    <a:lnTo>
                      <a:pt x="735" y="1349"/>
                    </a:lnTo>
                    <a:lnTo>
                      <a:pt x="740" y="1353"/>
                    </a:lnTo>
                    <a:lnTo>
                      <a:pt x="744" y="1358"/>
                    </a:lnTo>
                    <a:lnTo>
                      <a:pt x="744" y="1363"/>
                    </a:lnTo>
                    <a:lnTo>
                      <a:pt x="749" y="1368"/>
                    </a:lnTo>
                    <a:lnTo>
                      <a:pt x="754" y="1373"/>
                    </a:lnTo>
                    <a:lnTo>
                      <a:pt x="759" y="1377"/>
                    </a:lnTo>
                    <a:lnTo>
                      <a:pt x="764" y="1377"/>
                    </a:lnTo>
                    <a:lnTo>
                      <a:pt x="768" y="1382"/>
                    </a:lnTo>
                    <a:lnTo>
                      <a:pt x="773" y="1387"/>
                    </a:lnTo>
                    <a:lnTo>
                      <a:pt x="773" y="1392"/>
                    </a:lnTo>
                    <a:lnTo>
                      <a:pt x="778" y="1397"/>
                    </a:lnTo>
                    <a:lnTo>
                      <a:pt x="783" y="1397"/>
                    </a:lnTo>
                    <a:lnTo>
                      <a:pt x="788" y="1401"/>
                    </a:lnTo>
                    <a:lnTo>
                      <a:pt x="792" y="1406"/>
                    </a:lnTo>
                    <a:lnTo>
                      <a:pt x="797" y="1411"/>
                    </a:lnTo>
                    <a:lnTo>
                      <a:pt x="802" y="1416"/>
                    </a:lnTo>
                    <a:lnTo>
                      <a:pt x="807" y="1421"/>
                    </a:lnTo>
                    <a:lnTo>
                      <a:pt x="812" y="1421"/>
                    </a:lnTo>
                    <a:lnTo>
                      <a:pt x="816" y="1425"/>
                    </a:lnTo>
                    <a:lnTo>
                      <a:pt x="821" y="1430"/>
                    </a:lnTo>
                    <a:lnTo>
                      <a:pt x="826" y="1430"/>
                    </a:lnTo>
                    <a:lnTo>
                      <a:pt x="826" y="1435"/>
                    </a:lnTo>
                    <a:lnTo>
                      <a:pt x="831" y="1435"/>
                    </a:lnTo>
                    <a:lnTo>
                      <a:pt x="836" y="1440"/>
                    </a:lnTo>
                    <a:lnTo>
                      <a:pt x="840" y="1445"/>
                    </a:lnTo>
                    <a:lnTo>
                      <a:pt x="845" y="1445"/>
                    </a:lnTo>
                    <a:lnTo>
                      <a:pt x="850" y="1449"/>
                    </a:lnTo>
                    <a:lnTo>
                      <a:pt x="855" y="1454"/>
                    </a:lnTo>
                    <a:lnTo>
                      <a:pt x="860" y="1454"/>
                    </a:lnTo>
                    <a:lnTo>
                      <a:pt x="864" y="1459"/>
                    </a:lnTo>
                    <a:lnTo>
                      <a:pt x="869" y="1459"/>
                    </a:lnTo>
                    <a:lnTo>
                      <a:pt x="874" y="1464"/>
                    </a:lnTo>
                    <a:lnTo>
                      <a:pt x="879" y="1464"/>
                    </a:lnTo>
                    <a:lnTo>
                      <a:pt x="879" y="1469"/>
                    </a:lnTo>
                    <a:lnTo>
                      <a:pt x="884" y="1469"/>
                    </a:lnTo>
                    <a:lnTo>
                      <a:pt x="888" y="1473"/>
                    </a:lnTo>
                    <a:lnTo>
                      <a:pt x="893" y="1473"/>
                    </a:lnTo>
                    <a:lnTo>
                      <a:pt x="898" y="1478"/>
                    </a:lnTo>
                    <a:lnTo>
                      <a:pt x="903" y="1478"/>
                    </a:lnTo>
                    <a:lnTo>
                      <a:pt x="903" y="1483"/>
                    </a:lnTo>
                    <a:lnTo>
                      <a:pt x="908" y="1483"/>
                    </a:lnTo>
                    <a:lnTo>
                      <a:pt x="912" y="1483"/>
                    </a:lnTo>
                    <a:lnTo>
                      <a:pt x="917" y="1488"/>
                    </a:lnTo>
                    <a:lnTo>
                      <a:pt x="922" y="1488"/>
                    </a:lnTo>
                    <a:lnTo>
                      <a:pt x="927" y="1493"/>
                    </a:lnTo>
                    <a:lnTo>
                      <a:pt x="932" y="1493"/>
                    </a:lnTo>
                    <a:lnTo>
                      <a:pt x="936" y="1497"/>
                    </a:lnTo>
                    <a:lnTo>
                      <a:pt x="941" y="1497"/>
                    </a:lnTo>
                    <a:lnTo>
                      <a:pt x="946" y="1502"/>
                    </a:lnTo>
                    <a:lnTo>
                      <a:pt x="951" y="1502"/>
                    </a:lnTo>
                    <a:lnTo>
                      <a:pt x="956" y="1502"/>
                    </a:lnTo>
                    <a:lnTo>
                      <a:pt x="956" y="1507"/>
                    </a:lnTo>
                    <a:lnTo>
                      <a:pt x="960" y="1507"/>
                    </a:lnTo>
                    <a:lnTo>
                      <a:pt x="965" y="1507"/>
                    </a:lnTo>
                    <a:lnTo>
                      <a:pt x="970" y="1512"/>
                    </a:lnTo>
                    <a:lnTo>
                      <a:pt x="975" y="1512"/>
                    </a:lnTo>
                    <a:lnTo>
                      <a:pt x="980" y="1512"/>
                    </a:lnTo>
                    <a:lnTo>
                      <a:pt x="984" y="1517"/>
                    </a:lnTo>
                    <a:lnTo>
                      <a:pt x="989" y="1517"/>
                    </a:lnTo>
                    <a:lnTo>
                      <a:pt x="994" y="1517"/>
                    </a:lnTo>
                    <a:lnTo>
                      <a:pt x="999" y="1521"/>
                    </a:lnTo>
                    <a:lnTo>
                      <a:pt x="1004" y="1521"/>
                    </a:lnTo>
                    <a:lnTo>
                      <a:pt x="1008" y="1521"/>
                    </a:lnTo>
                    <a:lnTo>
                      <a:pt x="1008" y="1526"/>
                    </a:lnTo>
                    <a:lnTo>
                      <a:pt x="1013" y="1526"/>
                    </a:lnTo>
                    <a:lnTo>
                      <a:pt x="1018" y="1526"/>
                    </a:lnTo>
                    <a:lnTo>
                      <a:pt x="1023" y="1526"/>
                    </a:lnTo>
                    <a:lnTo>
                      <a:pt x="1028" y="1531"/>
                    </a:lnTo>
                    <a:lnTo>
                      <a:pt x="1032" y="1531"/>
                    </a:lnTo>
                    <a:lnTo>
                      <a:pt x="1037" y="1531"/>
                    </a:lnTo>
                    <a:lnTo>
                      <a:pt x="1042" y="1536"/>
                    </a:lnTo>
                    <a:lnTo>
                      <a:pt x="1047" y="1536"/>
                    </a:lnTo>
                    <a:lnTo>
                      <a:pt x="1052" y="1536"/>
                    </a:lnTo>
                    <a:lnTo>
                      <a:pt x="1056" y="1536"/>
                    </a:lnTo>
                    <a:lnTo>
                      <a:pt x="1061" y="1541"/>
                    </a:lnTo>
                    <a:lnTo>
                      <a:pt x="1066" y="1541"/>
                    </a:lnTo>
                    <a:lnTo>
                      <a:pt x="1071" y="1541"/>
                    </a:lnTo>
                    <a:lnTo>
                      <a:pt x="1076" y="1545"/>
                    </a:lnTo>
                    <a:lnTo>
                      <a:pt x="1080" y="1545"/>
                    </a:lnTo>
                    <a:lnTo>
                      <a:pt x="1085" y="1545"/>
                    </a:lnTo>
                    <a:lnTo>
                      <a:pt x="1090" y="1545"/>
                    </a:lnTo>
                    <a:lnTo>
                      <a:pt x="1095" y="1550"/>
                    </a:lnTo>
                    <a:lnTo>
                      <a:pt x="1100" y="1550"/>
                    </a:lnTo>
                    <a:lnTo>
                      <a:pt x="1104" y="1550"/>
                    </a:lnTo>
                    <a:lnTo>
                      <a:pt x="1109" y="1550"/>
                    </a:lnTo>
                    <a:lnTo>
                      <a:pt x="1114" y="1550"/>
                    </a:lnTo>
                    <a:lnTo>
                      <a:pt x="1114" y="1555"/>
                    </a:lnTo>
                    <a:lnTo>
                      <a:pt x="1119" y="1555"/>
                    </a:lnTo>
                    <a:lnTo>
                      <a:pt x="1124" y="1555"/>
                    </a:lnTo>
                    <a:lnTo>
                      <a:pt x="1128" y="1555"/>
                    </a:lnTo>
                    <a:lnTo>
                      <a:pt x="1133" y="1555"/>
                    </a:lnTo>
                    <a:lnTo>
                      <a:pt x="1138" y="1560"/>
                    </a:lnTo>
                    <a:lnTo>
                      <a:pt x="1143" y="1560"/>
                    </a:lnTo>
                    <a:lnTo>
                      <a:pt x="1148" y="1560"/>
                    </a:lnTo>
                    <a:lnTo>
                      <a:pt x="1152" y="1560"/>
                    </a:lnTo>
                    <a:lnTo>
                      <a:pt x="1157" y="1560"/>
                    </a:lnTo>
                    <a:lnTo>
                      <a:pt x="1162" y="1565"/>
                    </a:lnTo>
                    <a:lnTo>
                      <a:pt x="1167" y="1565"/>
                    </a:lnTo>
                    <a:lnTo>
                      <a:pt x="1172" y="1565"/>
                    </a:lnTo>
                    <a:lnTo>
                      <a:pt x="1176" y="1565"/>
                    </a:lnTo>
                    <a:lnTo>
                      <a:pt x="1181" y="1565"/>
                    </a:lnTo>
                    <a:lnTo>
                      <a:pt x="1186" y="1565"/>
                    </a:lnTo>
                    <a:lnTo>
                      <a:pt x="1191" y="1569"/>
                    </a:lnTo>
                    <a:lnTo>
                      <a:pt x="1196" y="1569"/>
                    </a:lnTo>
                    <a:lnTo>
                      <a:pt x="1200" y="1569"/>
                    </a:lnTo>
                    <a:lnTo>
                      <a:pt x="1205" y="1569"/>
                    </a:lnTo>
                    <a:lnTo>
                      <a:pt x="1210" y="1569"/>
                    </a:lnTo>
                    <a:lnTo>
                      <a:pt x="1215" y="1569"/>
                    </a:lnTo>
                    <a:lnTo>
                      <a:pt x="1220" y="1574"/>
                    </a:lnTo>
                    <a:lnTo>
                      <a:pt x="1224" y="1574"/>
                    </a:lnTo>
                    <a:lnTo>
                      <a:pt x="1229" y="1574"/>
                    </a:lnTo>
                    <a:lnTo>
                      <a:pt x="1234" y="1574"/>
                    </a:lnTo>
                    <a:lnTo>
                      <a:pt x="1239" y="1574"/>
                    </a:lnTo>
                    <a:lnTo>
                      <a:pt x="1244" y="1574"/>
                    </a:lnTo>
                    <a:lnTo>
                      <a:pt x="1248" y="1579"/>
                    </a:lnTo>
                    <a:lnTo>
                      <a:pt x="1253" y="1579"/>
                    </a:lnTo>
                    <a:lnTo>
                      <a:pt x="1258" y="1579"/>
                    </a:lnTo>
                    <a:lnTo>
                      <a:pt x="1263" y="1579"/>
                    </a:lnTo>
                    <a:lnTo>
                      <a:pt x="1268" y="1579"/>
                    </a:lnTo>
                    <a:lnTo>
                      <a:pt x="1272" y="1579"/>
                    </a:lnTo>
                    <a:lnTo>
                      <a:pt x="1277" y="1579"/>
                    </a:lnTo>
                    <a:lnTo>
                      <a:pt x="1282" y="1584"/>
                    </a:lnTo>
                    <a:lnTo>
                      <a:pt x="1287" y="1584"/>
                    </a:lnTo>
                    <a:lnTo>
                      <a:pt x="1292" y="1584"/>
                    </a:lnTo>
                    <a:lnTo>
                      <a:pt x="1296" y="1584"/>
                    </a:lnTo>
                    <a:lnTo>
                      <a:pt x="1301" y="1584"/>
                    </a:lnTo>
                    <a:lnTo>
                      <a:pt x="1306" y="1584"/>
                    </a:lnTo>
                    <a:lnTo>
                      <a:pt x="1311" y="1584"/>
                    </a:lnTo>
                    <a:lnTo>
                      <a:pt x="1316" y="1584"/>
                    </a:lnTo>
                    <a:lnTo>
                      <a:pt x="1320" y="1584"/>
                    </a:lnTo>
                    <a:lnTo>
                      <a:pt x="1325" y="1589"/>
                    </a:lnTo>
                    <a:lnTo>
                      <a:pt x="1330" y="1589"/>
                    </a:lnTo>
                    <a:lnTo>
                      <a:pt x="1335" y="1589"/>
                    </a:lnTo>
                    <a:lnTo>
                      <a:pt x="1340" y="1589"/>
                    </a:lnTo>
                    <a:lnTo>
                      <a:pt x="1344" y="1589"/>
                    </a:lnTo>
                    <a:lnTo>
                      <a:pt x="1349" y="1589"/>
                    </a:lnTo>
                    <a:lnTo>
                      <a:pt x="1354" y="1589"/>
                    </a:lnTo>
                    <a:lnTo>
                      <a:pt x="1359" y="1589"/>
                    </a:lnTo>
                    <a:lnTo>
                      <a:pt x="1364" y="1589"/>
                    </a:lnTo>
                    <a:lnTo>
                      <a:pt x="1368" y="1593"/>
                    </a:lnTo>
                    <a:lnTo>
                      <a:pt x="1373" y="1593"/>
                    </a:lnTo>
                    <a:lnTo>
                      <a:pt x="1378" y="1593"/>
                    </a:lnTo>
                    <a:lnTo>
                      <a:pt x="1383" y="1593"/>
                    </a:lnTo>
                    <a:lnTo>
                      <a:pt x="1388" y="1593"/>
                    </a:lnTo>
                    <a:lnTo>
                      <a:pt x="1392" y="1593"/>
                    </a:lnTo>
                    <a:lnTo>
                      <a:pt x="1397" y="1593"/>
                    </a:lnTo>
                    <a:lnTo>
                      <a:pt x="1402" y="1593"/>
                    </a:lnTo>
                    <a:lnTo>
                      <a:pt x="1407" y="1593"/>
                    </a:lnTo>
                    <a:lnTo>
                      <a:pt x="1412" y="1593"/>
                    </a:lnTo>
                    <a:lnTo>
                      <a:pt x="1416" y="1593"/>
                    </a:lnTo>
                    <a:lnTo>
                      <a:pt x="1421" y="1598"/>
                    </a:lnTo>
                    <a:lnTo>
                      <a:pt x="1426" y="1598"/>
                    </a:lnTo>
                    <a:lnTo>
                      <a:pt x="1431" y="1598"/>
                    </a:lnTo>
                    <a:lnTo>
                      <a:pt x="1436" y="1598"/>
                    </a:lnTo>
                    <a:lnTo>
                      <a:pt x="1440" y="1598"/>
                    </a:lnTo>
                    <a:lnTo>
                      <a:pt x="1445" y="1598"/>
                    </a:lnTo>
                    <a:lnTo>
                      <a:pt x="1450" y="1598"/>
                    </a:lnTo>
                    <a:lnTo>
                      <a:pt x="1455" y="1598"/>
                    </a:lnTo>
                    <a:lnTo>
                      <a:pt x="1460" y="1598"/>
                    </a:lnTo>
                    <a:lnTo>
                      <a:pt x="1464" y="1598"/>
                    </a:lnTo>
                    <a:lnTo>
                      <a:pt x="1469" y="1598"/>
                    </a:lnTo>
                    <a:lnTo>
                      <a:pt x="1474" y="1598"/>
                    </a:lnTo>
                    <a:lnTo>
                      <a:pt x="1479" y="1598"/>
                    </a:lnTo>
                    <a:lnTo>
                      <a:pt x="1484" y="1603"/>
                    </a:lnTo>
                    <a:lnTo>
                      <a:pt x="1488" y="1603"/>
                    </a:lnTo>
                    <a:lnTo>
                      <a:pt x="1493" y="1603"/>
                    </a:lnTo>
                    <a:lnTo>
                      <a:pt x="1498" y="1603"/>
                    </a:lnTo>
                    <a:lnTo>
                      <a:pt x="1503" y="1603"/>
                    </a:lnTo>
                    <a:lnTo>
                      <a:pt x="1508" y="1603"/>
                    </a:lnTo>
                    <a:lnTo>
                      <a:pt x="1512" y="1603"/>
                    </a:lnTo>
                    <a:lnTo>
                      <a:pt x="1517" y="1603"/>
                    </a:lnTo>
                    <a:lnTo>
                      <a:pt x="1522" y="1603"/>
                    </a:lnTo>
                    <a:lnTo>
                      <a:pt x="1527" y="1603"/>
                    </a:lnTo>
                    <a:lnTo>
                      <a:pt x="1532" y="1603"/>
                    </a:lnTo>
                    <a:lnTo>
                      <a:pt x="1536" y="1603"/>
                    </a:lnTo>
                    <a:lnTo>
                      <a:pt x="1541" y="1603"/>
                    </a:lnTo>
                    <a:lnTo>
                      <a:pt x="1546" y="1603"/>
                    </a:lnTo>
                    <a:lnTo>
                      <a:pt x="1551" y="1603"/>
                    </a:lnTo>
                    <a:lnTo>
                      <a:pt x="1556" y="1608"/>
                    </a:lnTo>
                    <a:lnTo>
                      <a:pt x="1560" y="1608"/>
                    </a:lnTo>
                    <a:lnTo>
                      <a:pt x="1565" y="1608"/>
                    </a:lnTo>
                    <a:lnTo>
                      <a:pt x="1570" y="1608"/>
                    </a:lnTo>
                    <a:lnTo>
                      <a:pt x="1575" y="1608"/>
                    </a:lnTo>
                    <a:lnTo>
                      <a:pt x="1580" y="1608"/>
                    </a:lnTo>
                    <a:lnTo>
                      <a:pt x="1584" y="1608"/>
                    </a:lnTo>
                    <a:lnTo>
                      <a:pt x="1589" y="1608"/>
                    </a:lnTo>
                    <a:lnTo>
                      <a:pt x="1594" y="1608"/>
                    </a:lnTo>
                    <a:lnTo>
                      <a:pt x="1599" y="1608"/>
                    </a:lnTo>
                    <a:lnTo>
                      <a:pt x="1604" y="1608"/>
                    </a:lnTo>
                    <a:lnTo>
                      <a:pt x="1608" y="1608"/>
                    </a:lnTo>
                    <a:lnTo>
                      <a:pt x="1613" y="1608"/>
                    </a:lnTo>
                    <a:lnTo>
                      <a:pt x="1618" y="1608"/>
                    </a:lnTo>
                    <a:lnTo>
                      <a:pt x="1623" y="1608"/>
                    </a:lnTo>
                    <a:lnTo>
                      <a:pt x="1628" y="1608"/>
                    </a:lnTo>
                    <a:lnTo>
                      <a:pt x="1632" y="1608"/>
                    </a:lnTo>
                    <a:lnTo>
                      <a:pt x="1637" y="1608"/>
                    </a:lnTo>
                    <a:lnTo>
                      <a:pt x="1642" y="1608"/>
                    </a:lnTo>
                    <a:lnTo>
                      <a:pt x="1642" y="1613"/>
                    </a:lnTo>
                    <a:lnTo>
                      <a:pt x="1647" y="1613"/>
                    </a:lnTo>
                    <a:lnTo>
                      <a:pt x="1652" y="1613"/>
                    </a:lnTo>
                    <a:lnTo>
                      <a:pt x="1656" y="1613"/>
                    </a:lnTo>
                    <a:lnTo>
                      <a:pt x="1661" y="1613"/>
                    </a:lnTo>
                    <a:lnTo>
                      <a:pt x="1666" y="1613"/>
                    </a:lnTo>
                    <a:lnTo>
                      <a:pt x="1671" y="1613"/>
                    </a:lnTo>
                    <a:lnTo>
                      <a:pt x="1676" y="1613"/>
                    </a:lnTo>
                    <a:lnTo>
                      <a:pt x="1680" y="1613"/>
                    </a:lnTo>
                    <a:lnTo>
                      <a:pt x="1685" y="1613"/>
                    </a:lnTo>
                    <a:lnTo>
                      <a:pt x="1690" y="1613"/>
                    </a:lnTo>
                    <a:lnTo>
                      <a:pt x="1695" y="1613"/>
                    </a:lnTo>
                    <a:lnTo>
                      <a:pt x="1700" y="1613"/>
                    </a:lnTo>
                    <a:lnTo>
                      <a:pt x="1704" y="1613"/>
                    </a:lnTo>
                    <a:lnTo>
                      <a:pt x="1709" y="1613"/>
                    </a:lnTo>
                    <a:lnTo>
                      <a:pt x="1714" y="1613"/>
                    </a:lnTo>
                    <a:lnTo>
                      <a:pt x="1719" y="1613"/>
                    </a:lnTo>
                    <a:lnTo>
                      <a:pt x="1724" y="1613"/>
                    </a:lnTo>
                    <a:lnTo>
                      <a:pt x="1728" y="1613"/>
                    </a:lnTo>
                    <a:lnTo>
                      <a:pt x="1733" y="1613"/>
                    </a:lnTo>
                    <a:lnTo>
                      <a:pt x="1738" y="1613"/>
                    </a:lnTo>
                    <a:lnTo>
                      <a:pt x="1743" y="1613"/>
                    </a:lnTo>
                    <a:lnTo>
                      <a:pt x="1748" y="1613"/>
                    </a:lnTo>
                    <a:lnTo>
                      <a:pt x="1752" y="1613"/>
                    </a:lnTo>
                    <a:lnTo>
                      <a:pt x="1757" y="1617"/>
                    </a:lnTo>
                    <a:lnTo>
                      <a:pt x="1762" y="1617"/>
                    </a:lnTo>
                    <a:lnTo>
                      <a:pt x="1767" y="1617"/>
                    </a:lnTo>
                    <a:lnTo>
                      <a:pt x="1772" y="1617"/>
                    </a:lnTo>
                    <a:lnTo>
                      <a:pt x="1776" y="1617"/>
                    </a:lnTo>
                    <a:lnTo>
                      <a:pt x="1781" y="1617"/>
                    </a:lnTo>
                    <a:lnTo>
                      <a:pt x="1786" y="1617"/>
                    </a:lnTo>
                    <a:lnTo>
                      <a:pt x="1791" y="1617"/>
                    </a:lnTo>
                    <a:lnTo>
                      <a:pt x="1796" y="1617"/>
                    </a:lnTo>
                    <a:lnTo>
                      <a:pt x="1800" y="1617"/>
                    </a:lnTo>
                    <a:lnTo>
                      <a:pt x="1805" y="1617"/>
                    </a:lnTo>
                    <a:lnTo>
                      <a:pt x="1810" y="1617"/>
                    </a:lnTo>
                    <a:lnTo>
                      <a:pt x="1815" y="1617"/>
                    </a:lnTo>
                    <a:lnTo>
                      <a:pt x="1820" y="1617"/>
                    </a:lnTo>
                    <a:lnTo>
                      <a:pt x="1824" y="1617"/>
                    </a:lnTo>
                    <a:lnTo>
                      <a:pt x="1829" y="1617"/>
                    </a:lnTo>
                    <a:lnTo>
                      <a:pt x="1834" y="1617"/>
                    </a:lnTo>
                    <a:lnTo>
                      <a:pt x="1839" y="1617"/>
                    </a:lnTo>
                    <a:lnTo>
                      <a:pt x="1844" y="1617"/>
                    </a:lnTo>
                    <a:lnTo>
                      <a:pt x="1848" y="1617"/>
                    </a:lnTo>
                    <a:lnTo>
                      <a:pt x="1853" y="1617"/>
                    </a:lnTo>
                    <a:lnTo>
                      <a:pt x="1858" y="1617"/>
                    </a:lnTo>
                    <a:lnTo>
                      <a:pt x="1863" y="1617"/>
                    </a:lnTo>
                    <a:lnTo>
                      <a:pt x="1868" y="1617"/>
                    </a:lnTo>
                    <a:lnTo>
                      <a:pt x="1872" y="1617"/>
                    </a:lnTo>
                    <a:lnTo>
                      <a:pt x="1877" y="1617"/>
                    </a:lnTo>
                    <a:lnTo>
                      <a:pt x="1882" y="1617"/>
                    </a:lnTo>
                    <a:lnTo>
                      <a:pt x="1887" y="1617"/>
                    </a:lnTo>
                    <a:lnTo>
                      <a:pt x="1892" y="1617"/>
                    </a:lnTo>
                    <a:lnTo>
                      <a:pt x="1896" y="1617"/>
                    </a:lnTo>
                    <a:lnTo>
                      <a:pt x="1901" y="1617"/>
                    </a:lnTo>
                    <a:lnTo>
                      <a:pt x="1906" y="1617"/>
                    </a:lnTo>
                    <a:lnTo>
                      <a:pt x="1911" y="1622"/>
                    </a:lnTo>
                    <a:lnTo>
                      <a:pt x="1916" y="1622"/>
                    </a:lnTo>
                    <a:lnTo>
                      <a:pt x="1920" y="1622"/>
                    </a:lnTo>
                    <a:lnTo>
                      <a:pt x="1925" y="1622"/>
                    </a:lnTo>
                    <a:lnTo>
                      <a:pt x="1930" y="1622"/>
                    </a:lnTo>
                    <a:lnTo>
                      <a:pt x="1935" y="1622"/>
                    </a:lnTo>
                    <a:lnTo>
                      <a:pt x="1940" y="1622"/>
                    </a:lnTo>
                    <a:lnTo>
                      <a:pt x="1944" y="1622"/>
                    </a:lnTo>
                    <a:lnTo>
                      <a:pt x="1949" y="1622"/>
                    </a:lnTo>
                    <a:lnTo>
                      <a:pt x="1954" y="1622"/>
                    </a:lnTo>
                    <a:lnTo>
                      <a:pt x="1959" y="1622"/>
                    </a:lnTo>
                    <a:lnTo>
                      <a:pt x="1964" y="1622"/>
                    </a:lnTo>
                    <a:lnTo>
                      <a:pt x="1968" y="1622"/>
                    </a:lnTo>
                    <a:lnTo>
                      <a:pt x="1973" y="1622"/>
                    </a:lnTo>
                    <a:lnTo>
                      <a:pt x="1978" y="1622"/>
                    </a:lnTo>
                    <a:lnTo>
                      <a:pt x="1983" y="1622"/>
                    </a:lnTo>
                    <a:lnTo>
                      <a:pt x="1988" y="1622"/>
                    </a:lnTo>
                    <a:lnTo>
                      <a:pt x="1992" y="1622"/>
                    </a:lnTo>
                    <a:lnTo>
                      <a:pt x="1997" y="1622"/>
                    </a:lnTo>
                    <a:lnTo>
                      <a:pt x="2002" y="1622"/>
                    </a:lnTo>
                    <a:lnTo>
                      <a:pt x="2007" y="1622"/>
                    </a:lnTo>
                    <a:lnTo>
                      <a:pt x="2012" y="1622"/>
                    </a:lnTo>
                    <a:lnTo>
                      <a:pt x="2016" y="1622"/>
                    </a:lnTo>
                    <a:lnTo>
                      <a:pt x="2021" y="1622"/>
                    </a:lnTo>
                    <a:lnTo>
                      <a:pt x="2026" y="1622"/>
                    </a:lnTo>
                    <a:lnTo>
                      <a:pt x="2031" y="1622"/>
                    </a:lnTo>
                    <a:lnTo>
                      <a:pt x="2036" y="1622"/>
                    </a:lnTo>
                    <a:lnTo>
                      <a:pt x="2040" y="1622"/>
                    </a:lnTo>
                    <a:lnTo>
                      <a:pt x="2045" y="1622"/>
                    </a:lnTo>
                    <a:lnTo>
                      <a:pt x="2050" y="1622"/>
                    </a:lnTo>
                    <a:lnTo>
                      <a:pt x="2055" y="1622"/>
                    </a:lnTo>
                    <a:lnTo>
                      <a:pt x="2060" y="1622"/>
                    </a:lnTo>
                    <a:lnTo>
                      <a:pt x="2064" y="1622"/>
                    </a:lnTo>
                    <a:lnTo>
                      <a:pt x="2069" y="1622"/>
                    </a:lnTo>
                    <a:lnTo>
                      <a:pt x="2074" y="1622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54520" y="5776920"/>
                <a:ext cx="39996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9120" y="3009960"/>
                <a:ext cx="105840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200" spc="-1" strike="noStrike">
                    <a:solidFill>
                      <a:srgbClr val="ffff00"/>
                    </a:solidFill>
                    <a:latin typeface="Times New Roman"/>
                  </a:rPr>
                  <a:t>|</a:t>
                </a:r>
                <a:r>
                  <a:rPr b="0" i="1" lang="hr-HR" sz="2200" spc="-1" strike="noStrike">
                    <a:solidFill>
                      <a:srgbClr val="ffff00"/>
                    </a:solidFill>
                    <a:latin typeface="Times New Roman"/>
                  </a:rPr>
                  <a:t>H</a:t>
                </a:r>
                <a:r>
                  <a:rPr b="0" i="1" lang="hr-HR" sz="2200" spc="-1" strike="noStrike" baseline="-25000">
                    <a:solidFill>
                      <a:srgbClr val="ffff00"/>
                    </a:solidFill>
                    <a:latin typeface="Times New Roman"/>
                  </a:rPr>
                  <a:t>a</a:t>
                </a:r>
                <a:r>
                  <a:rPr b="0" lang="hr-HR" sz="2200" spc="-1" strike="noStrike">
                    <a:solidFill>
                      <a:srgbClr val="ffff00"/>
                    </a:solidFill>
                    <a:latin typeface="Times New Roman"/>
                  </a:rPr>
                  <a:t>(</a:t>
                </a:r>
                <a:r>
                  <a:rPr b="0" i="1" lang="hr-HR" sz="2200" spc="-1" strike="noStrike">
                    <a:solidFill>
                      <a:srgbClr val="ffff00"/>
                    </a:solidFill>
                    <a:latin typeface="Times New Roman"/>
                  </a:rPr>
                  <a:t>j</a:t>
                </a:r>
                <a:r>
                  <a:rPr b="0" lang="hr-HR" sz="2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hr-HR" sz="2200" spc="-1" strike="noStrike">
                    <a:solidFill>
                      <a:srgbClr val="ffff00"/>
                    </a:solidFill>
                    <a:latin typeface="Times New Roman"/>
                  </a:rPr>
                  <a:t>)|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4668480" y="2917800"/>
              <a:ext cx="4016160" cy="3314880"/>
              <a:chOff x="4668480" y="2917800"/>
              <a:chExt cx="4016160" cy="3314880"/>
            </a:xfrm>
          </p:grpSpPr>
          <p:sp>
            <p:nvSpPr>
              <p:cNvPr id="724" name=""/>
              <p:cNvSpPr/>
              <p:nvPr/>
            </p:nvSpPr>
            <p:spPr>
              <a:xfrm flipV="1">
                <a:off x="5038560" y="363168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649840" y="363168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255000" y="363168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6867360" y="363168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7471080" y="363168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8083800" y="363168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038560" y="623088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038560" y="585612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038560" y="549108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038560" y="511812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038560" y="474516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038560" y="437040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38560" y="400536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38560" y="363204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38560" y="3632040"/>
                <a:ext cx="3046680" cy="2600640"/>
              </a:xfrm>
              <a:custGeom>
                <a:avLst/>
                <a:gdLst/>
                <a:ahLst/>
                <a:rect l="l" t="t" r="r" b="b"/>
                <a:pathLst>
                  <a:path w="2079" h="1638">
                    <a:moveTo>
                      <a:pt x="0" y="1637"/>
                    </a:moveTo>
                    <a:lnTo>
                      <a:pt x="0" y="0"/>
                    </a:lnTo>
                    <a:lnTo>
                      <a:pt x="207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38560" y="3632040"/>
                <a:ext cx="3046680" cy="2600640"/>
              </a:xfrm>
              <a:custGeom>
                <a:avLst/>
                <a:gdLst/>
                <a:ahLst/>
                <a:rect l="l" t="t" r="r" b="b"/>
                <a:pathLst>
                  <a:path w="2079" h="1638">
                    <a:moveTo>
                      <a:pt x="0" y="1637"/>
                    </a:moveTo>
                    <a:lnTo>
                      <a:pt x="0" y="0"/>
                    </a:lnTo>
                    <a:lnTo>
                      <a:pt x="207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38560" y="3632040"/>
                <a:ext cx="3046680" cy="2600640"/>
              </a:xfrm>
              <a:custGeom>
                <a:avLst/>
                <a:gdLst/>
                <a:ahLst/>
                <a:rect l="l" t="t" r="r" b="b"/>
                <a:pathLst>
                  <a:path w="2079" h="1638">
                    <a:moveTo>
                      <a:pt x="0" y="1637"/>
                    </a:moveTo>
                    <a:lnTo>
                      <a:pt x="0" y="0"/>
                    </a:lnTo>
                    <a:lnTo>
                      <a:pt x="207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38560" y="623088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038560" y="363204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038560" y="363168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8083800" y="363168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038560" y="363204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38560" y="623088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5038560" y="363168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038560" y="623088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5038560" y="619920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038560" y="363204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5649840" y="619920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649840" y="363204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6255000" y="619920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255000" y="363204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6867360" y="619920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867360" y="363204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7471080" y="619920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471080" y="363204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8083800" y="619920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083800" y="363204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038560" y="623088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8056080" y="623088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038560" y="585612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8056080" y="585612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038560" y="549108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8056080" y="549108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38560" y="511812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8056080" y="511812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038560" y="474516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8056080" y="474516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038560" y="437040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8056080" y="437040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038560" y="400536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8056080" y="400536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8560" y="363204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8056080" y="3632040"/>
                <a:ext cx="273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38560" y="6230880"/>
                <a:ext cx="304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38560" y="3632040"/>
                <a:ext cx="35654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5038560" y="3286080"/>
                <a:ext cx="4320" cy="2944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8083800" y="363168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38560" y="623088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44320" y="3646440"/>
                <a:ext cx="3040560" cy="2532240"/>
              </a:xfrm>
              <a:custGeom>
                <a:avLst/>
                <a:gdLst/>
                <a:ahLst/>
                <a:rect l="l" t="t" r="r" b="b"/>
                <a:pathLst>
                  <a:path w="2075" h="1595">
                    <a:moveTo>
                      <a:pt x="0" y="0"/>
                    </a:moveTo>
                    <a:lnTo>
                      <a:pt x="5" y="5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5" y="29"/>
                    </a:lnTo>
                    <a:lnTo>
                      <a:pt x="20" y="34"/>
                    </a:lnTo>
                    <a:lnTo>
                      <a:pt x="24" y="44"/>
                    </a:lnTo>
                    <a:lnTo>
                      <a:pt x="29" y="48"/>
                    </a:lnTo>
                    <a:lnTo>
                      <a:pt x="34" y="58"/>
                    </a:lnTo>
                    <a:lnTo>
                      <a:pt x="34" y="63"/>
                    </a:lnTo>
                    <a:lnTo>
                      <a:pt x="39" y="72"/>
                    </a:lnTo>
                    <a:lnTo>
                      <a:pt x="44" y="77"/>
                    </a:lnTo>
                    <a:lnTo>
                      <a:pt x="48" y="87"/>
                    </a:lnTo>
                    <a:lnTo>
                      <a:pt x="53" y="92"/>
                    </a:lnTo>
                    <a:lnTo>
                      <a:pt x="58" y="101"/>
                    </a:lnTo>
                    <a:lnTo>
                      <a:pt x="63" y="106"/>
                    </a:lnTo>
                    <a:lnTo>
                      <a:pt x="63" y="116"/>
                    </a:lnTo>
                    <a:lnTo>
                      <a:pt x="68" y="120"/>
                    </a:lnTo>
                    <a:lnTo>
                      <a:pt x="72" y="130"/>
                    </a:lnTo>
                    <a:lnTo>
                      <a:pt x="77" y="135"/>
                    </a:lnTo>
                    <a:lnTo>
                      <a:pt x="82" y="144"/>
                    </a:lnTo>
                    <a:lnTo>
                      <a:pt x="87" y="154"/>
                    </a:lnTo>
                    <a:lnTo>
                      <a:pt x="87" y="159"/>
                    </a:lnTo>
                    <a:lnTo>
                      <a:pt x="92" y="168"/>
                    </a:lnTo>
                    <a:lnTo>
                      <a:pt x="96" y="173"/>
                    </a:lnTo>
                    <a:lnTo>
                      <a:pt x="101" y="183"/>
                    </a:lnTo>
                    <a:lnTo>
                      <a:pt x="106" y="188"/>
                    </a:lnTo>
                    <a:lnTo>
                      <a:pt x="111" y="197"/>
                    </a:lnTo>
                    <a:lnTo>
                      <a:pt x="116" y="207"/>
                    </a:lnTo>
                    <a:lnTo>
                      <a:pt x="116" y="212"/>
                    </a:lnTo>
                    <a:lnTo>
                      <a:pt x="120" y="221"/>
                    </a:lnTo>
                    <a:lnTo>
                      <a:pt x="125" y="226"/>
                    </a:lnTo>
                    <a:lnTo>
                      <a:pt x="130" y="236"/>
                    </a:lnTo>
                    <a:lnTo>
                      <a:pt x="135" y="245"/>
                    </a:lnTo>
                    <a:lnTo>
                      <a:pt x="140" y="250"/>
                    </a:lnTo>
                    <a:lnTo>
                      <a:pt x="140" y="260"/>
                    </a:lnTo>
                    <a:lnTo>
                      <a:pt x="144" y="264"/>
                    </a:lnTo>
                    <a:lnTo>
                      <a:pt x="149" y="274"/>
                    </a:lnTo>
                    <a:lnTo>
                      <a:pt x="154" y="284"/>
                    </a:lnTo>
                    <a:lnTo>
                      <a:pt x="159" y="288"/>
                    </a:lnTo>
                    <a:lnTo>
                      <a:pt x="164" y="298"/>
                    </a:lnTo>
                    <a:lnTo>
                      <a:pt x="168" y="308"/>
                    </a:lnTo>
                    <a:lnTo>
                      <a:pt x="168" y="312"/>
                    </a:lnTo>
                    <a:lnTo>
                      <a:pt x="173" y="322"/>
                    </a:lnTo>
                    <a:lnTo>
                      <a:pt x="178" y="332"/>
                    </a:lnTo>
                    <a:lnTo>
                      <a:pt x="183" y="336"/>
                    </a:lnTo>
                    <a:lnTo>
                      <a:pt x="188" y="346"/>
                    </a:lnTo>
                    <a:lnTo>
                      <a:pt x="192" y="356"/>
                    </a:lnTo>
                    <a:lnTo>
                      <a:pt x="192" y="365"/>
                    </a:lnTo>
                    <a:lnTo>
                      <a:pt x="197" y="370"/>
                    </a:lnTo>
                    <a:lnTo>
                      <a:pt x="202" y="380"/>
                    </a:lnTo>
                    <a:lnTo>
                      <a:pt x="207" y="389"/>
                    </a:lnTo>
                    <a:lnTo>
                      <a:pt x="212" y="399"/>
                    </a:lnTo>
                    <a:lnTo>
                      <a:pt x="216" y="408"/>
                    </a:lnTo>
                    <a:lnTo>
                      <a:pt x="221" y="413"/>
                    </a:lnTo>
                    <a:lnTo>
                      <a:pt x="221" y="423"/>
                    </a:lnTo>
                    <a:lnTo>
                      <a:pt x="226" y="432"/>
                    </a:lnTo>
                    <a:lnTo>
                      <a:pt x="231" y="442"/>
                    </a:lnTo>
                    <a:lnTo>
                      <a:pt x="236" y="452"/>
                    </a:lnTo>
                    <a:lnTo>
                      <a:pt x="240" y="461"/>
                    </a:lnTo>
                    <a:lnTo>
                      <a:pt x="245" y="466"/>
                    </a:lnTo>
                    <a:lnTo>
                      <a:pt x="245" y="476"/>
                    </a:lnTo>
                    <a:lnTo>
                      <a:pt x="250" y="485"/>
                    </a:lnTo>
                    <a:lnTo>
                      <a:pt x="255" y="495"/>
                    </a:lnTo>
                    <a:lnTo>
                      <a:pt x="260" y="504"/>
                    </a:lnTo>
                    <a:lnTo>
                      <a:pt x="264" y="514"/>
                    </a:lnTo>
                    <a:lnTo>
                      <a:pt x="269" y="524"/>
                    </a:lnTo>
                    <a:lnTo>
                      <a:pt x="274" y="533"/>
                    </a:lnTo>
                    <a:lnTo>
                      <a:pt x="274" y="543"/>
                    </a:lnTo>
                    <a:lnTo>
                      <a:pt x="279" y="552"/>
                    </a:lnTo>
                    <a:lnTo>
                      <a:pt x="284" y="562"/>
                    </a:lnTo>
                    <a:lnTo>
                      <a:pt x="288" y="572"/>
                    </a:lnTo>
                    <a:lnTo>
                      <a:pt x="293" y="581"/>
                    </a:lnTo>
                    <a:lnTo>
                      <a:pt x="298" y="591"/>
                    </a:lnTo>
                    <a:lnTo>
                      <a:pt x="298" y="600"/>
                    </a:lnTo>
                    <a:lnTo>
                      <a:pt x="303" y="610"/>
                    </a:lnTo>
                    <a:lnTo>
                      <a:pt x="308" y="620"/>
                    </a:lnTo>
                    <a:lnTo>
                      <a:pt x="312" y="629"/>
                    </a:lnTo>
                    <a:lnTo>
                      <a:pt x="317" y="639"/>
                    </a:lnTo>
                    <a:lnTo>
                      <a:pt x="322" y="648"/>
                    </a:lnTo>
                    <a:lnTo>
                      <a:pt x="327" y="658"/>
                    </a:lnTo>
                    <a:lnTo>
                      <a:pt x="327" y="668"/>
                    </a:lnTo>
                    <a:lnTo>
                      <a:pt x="332" y="682"/>
                    </a:lnTo>
                    <a:lnTo>
                      <a:pt x="336" y="692"/>
                    </a:lnTo>
                    <a:lnTo>
                      <a:pt x="341" y="701"/>
                    </a:lnTo>
                    <a:lnTo>
                      <a:pt x="346" y="711"/>
                    </a:lnTo>
                    <a:lnTo>
                      <a:pt x="351" y="720"/>
                    </a:lnTo>
                    <a:lnTo>
                      <a:pt x="351" y="730"/>
                    </a:lnTo>
                    <a:lnTo>
                      <a:pt x="356" y="740"/>
                    </a:lnTo>
                    <a:lnTo>
                      <a:pt x="360" y="749"/>
                    </a:lnTo>
                    <a:lnTo>
                      <a:pt x="365" y="759"/>
                    </a:lnTo>
                    <a:lnTo>
                      <a:pt x="370" y="768"/>
                    </a:lnTo>
                    <a:lnTo>
                      <a:pt x="375" y="778"/>
                    </a:lnTo>
                    <a:lnTo>
                      <a:pt x="375" y="788"/>
                    </a:lnTo>
                    <a:lnTo>
                      <a:pt x="380" y="797"/>
                    </a:lnTo>
                    <a:lnTo>
                      <a:pt x="384" y="807"/>
                    </a:lnTo>
                    <a:lnTo>
                      <a:pt x="389" y="816"/>
                    </a:lnTo>
                    <a:lnTo>
                      <a:pt x="394" y="826"/>
                    </a:lnTo>
                    <a:lnTo>
                      <a:pt x="399" y="836"/>
                    </a:lnTo>
                    <a:lnTo>
                      <a:pt x="404" y="845"/>
                    </a:lnTo>
                    <a:lnTo>
                      <a:pt x="404" y="855"/>
                    </a:lnTo>
                    <a:lnTo>
                      <a:pt x="408" y="864"/>
                    </a:lnTo>
                    <a:lnTo>
                      <a:pt x="413" y="874"/>
                    </a:lnTo>
                    <a:lnTo>
                      <a:pt x="418" y="884"/>
                    </a:lnTo>
                    <a:lnTo>
                      <a:pt x="423" y="893"/>
                    </a:lnTo>
                    <a:lnTo>
                      <a:pt x="428" y="898"/>
                    </a:lnTo>
                    <a:lnTo>
                      <a:pt x="428" y="908"/>
                    </a:lnTo>
                    <a:lnTo>
                      <a:pt x="432" y="917"/>
                    </a:lnTo>
                    <a:lnTo>
                      <a:pt x="437" y="927"/>
                    </a:lnTo>
                    <a:lnTo>
                      <a:pt x="442" y="932"/>
                    </a:lnTo>
                    <a:lnTo>
                      <a:pt x="447" y="941"/>
                    </a:lnTo>
                    <a:lnTo>
                      <a:pt x="452" y="951"/>
                    </a:lnTo>
                    <a:lnTo>
                      <a:pt x="456" y="960"/>
                    </a:lnTo>
                    <a:lnTo>
                      <a:pt x="456" y="965"/>
                    </a:lnTo>
                    <a:lnTo>
                      <a:pt x="461" y="975"/>
                    </a:lnTo>
                    <a:lnTo>
                      <a:pt x="466" y="980"/>
                    </a:lnTo>
                    <a:lnTo>
                      <a:pt x="471" y="989"/>
                    </a:lnTo>
                    <a:lnTo>
                      <a:pt x="476" y="999"/>
                    </a:lnTo>
                    <a:lnTo>
                      <a:pt x="480" y="1004"/>
                    </a:lnTo>
                    <a:lnTo>
                      <a:pt x="480" y="1013"/>
                    </a:lnTo>
                    <a:lnTo>
                      <a:pt x="485" y="1018"/>
                    </a:lnTo>
                    <a:lnTo>
                      <a:pt x="490" y="1028"/>
                    </a:lnTo>
                    <a:lnTo>
                      <a:pt x="495" y="1032"/>
                    </a:lnTo>
                    <a:lnTo>
                      <a:pt x="500" y="1042"/>
                    </a:lnTo>
                    <a:lnTo>
                      <a:pt x="504" y="1047"/>
                    </a:lnTo>
                    <a:lnTo>
                      <a:pt x="509" y="1052"/>
                    </a:lnTo>
                    <a:lnTo>
                      <a:pt x="509" y="1061"/>
                    </a:lnTo>
                    <a:lnTo>
                      <a:pt x="514" y="1066"/>
                    </a:lnTo>
                    <a:lnTo>
                      <a:pt x="519" y="1071"/>
                    </a:lnTo>
                    <a:lnTo>
                      <a:pt x="524" y="1080"/>
                    </a:lnTo>
                    <a:lnTo>
                      <a:pt x="528" y="1085"/>
                    </a:lnTo>
                    <a:lnTo>
                      <a:pt x="533" y="1090"/>
                    </a:lnTo>
                    <a:lnTo>
                      <a:pt x="533" y="1095"/>
                    </a:lnTo>
                    <a:lnTo>
                      <a:pt x="538" y="1104"/>
                    </a:lnTo>
                    <a:lnTo>
                      <a:pt x="543" y="1109"/>
                    </a:lnTo>
                    <a:lnTo>
                      <a:pt x="548" y="1114"/>
                    </a:lnTo>
                    <a:lnTo>
                      <a:pt x="552" y="1119"/>
                    </a:lnTo>
                    <a:lnTo>
                      <a:pt x="557" y="1124"/>
                    </a:lnTo>
                    <a:lnTo>
                      <a:pt x="562" y="1128"/>
                    </a:lnTo>
                    <a:lnTo>
                      <a:pt x="562" y="1138"/>
                    </a:lnTo>
                    <a:lnTo>
                      <a:pt x="567" y="1143"/>
                    </a:lnTo>
                    <a:lnTo>
                      <a:pt x="572" y="1148"/>
                    </a:lnTo>
                    <a:lnTo>
                      <a:pt x="576" y="1152"/>
                    </a:lnTo>
                    <a:lnTo>
                      <a:pt x="581" y="1157"/>
                    </a:lnTo>
                    <a:lnTo>
                      <a:pt x="586" y="1162"/>
                    </a:lnTo>
                    <a:lnTo>
                      <a:pt x="586" y="1167"/>
                    </a:lnTo>
                    <a:lnTo>
                      <a:pt x="591" y="1172"/>
                    </a:lnTo>
                    <a:lnTo>
                      <a:pt x="596" y="1176"/>
                    </a:lnTo>
                    <a:lnTo>
                      <a:pt x="600" y="1181"/>
                    </a:lnTo>
                    <a:lnTo>
                      <a:pt x="605" y="1186"/>
                    </a:lnTo>
                    <a:lnTo>
                      <a:pt x="610" y="1191"/>
                    </a:lnTo>
                    <a:lnTo>
                      <a:pt x="615" y="1191"/>
                    </a:lnTo>
                    <a:lnTo>
                      <a:pt x="615" y="1196"/>
                    </a:lnTo>
                    <a:lnTo>
                      <a:pt x="620" y="1200"/>
                    </a:lnTo>
                    <a:lnTo>
                      <a:pt x="624" y="1205"/>
                    </a:lnTo>
                    <a:lnTo>
                      <a:pt x="629" y="1210"/>
                    </a:lnTo>
                    <a:lnTo>
                      <a:pt x="634" y="1215"/>
                    </a:lnTo>
                    <a:lnTo>
                      <a:pt x="639" y="1220"/>
                    </a:lnTo>
                    <a:lnTo>
                      <a:pt x="644" y="1224"/>
                    </a:lnTo>
                    <a:lnTo>
                      <a:pt x="648" y="1229"/>
                    </a:lnTo>
                    <a:lnTo>
                      <a:pt x="653" y="1234"/>
                    </a:lnTo>
                    <a:lnTo>
                      <a:pt x="658" y="1239"/>
                    </a:lnTo>
                    <a:lnTo>
                      <a:pt x="663" y="1239"/>
                    </a:lnTo>
                    <a:lnTo>
                      <a:pt x="668" y="1244"/>
                    </a:lnTo>
                    <a:lnTo>
                      <a:pt x="668" y="1248"/>
                    </a:lnTo>
                    <a:lnTo>
                      <a:pt x="672" y="1248"/>
                    </a:lnTo>
                    <a:lnTo>
                      <a:pt x="677" y="1253"/>
                    </a:lnTo>
                    <a:lnTo>
                      <a:pt x="682" y="1258"/>
                    </a:lnTo>
                    <a:lnTo>
                      <a:pt x="687" y="1263"/>
                    </a:lnTo>
                    <a:lnTo>
                      <a:pt x="692" y="1263"/>
                    </a:lnTo>
                    <a:lnTo>
                      <a:pt x="692" y="1268"/>
                    </a:lnTo>
                    <a:lnTo>
                      <a:pt x="696" y="1272"/>
                    </a:lnTo>
                    <a:lnTo>
                      <a:pt x="701" y="1272"/>
                    </a:lnTo>
                    <a:lnTo>
                      <a:pt x="706" y="1277"/>
                    </a:lnTo>
                    <a:lnTo>
                      <a:pt x="711" y="1282"/>
                    </a:lnTo>
                    <a:lnTo>
                      <a:pt x="716" y="1282"/>
                    </a:lnTo>
                    <a:lnTo>
                      <a:pt x="720" y="1287"/>
                    </a:lnTo>
                    <a:lnTo>
                      <a:pt x="725" y="1292"/>
                    </a:lnTo>
                    <a:lnTo>
                      <a:pt x="730" y="1296"/>
                    </a:lnTo>
                    <a:lnTo>
                      <a:pt x="735" y="1296"/>
                    </a:lnTo>
                    <a:lnTo>
                      <a:pt x="740" y="1301"/>
                    </a:lnTo>
                    <a:lnTo>
                      <a:pt x="744" y="1301"/>
                    </a:lnTo>
                    <a:lnTo>
                      <a:pt x="744" y="1306"/>
                    </a:lnTo>
                    <a:lnTo>
                      <a:pt x="749" y="1311"/>
                    </a:lnTo>
                    <a:lnTo>
                      <a:pt x="754" y="1311"/>
                    </a:lnTo>
                    <a:lnTo>
                      <a:pt x="759" y="1316"/>
                    </a:lnTo>
                    <a:lnTo>
                      <a:pt x="764" y="1316"/>
                    </a:lnTo>
                    <a:lnTo>
                      <a:pt x="768" y="1320"/>
                    </a:lnTo>
                    <a:lnTo>
                      <a:pt x="773" y="1320"/>
                    </a:lnTo>
                    <a:lnTo>
                      <a:pt x="773" y="1325"/>
                    </a:lnTo>
                    <a:lnTo>
                      <a:pt x="778" y="1325"/>
                    </a:lnTo>
                    <a:lnTo>
                      <a:pt x="783" y="1330"/>
                    </a:lnTo>
                    <a:lnTo>
                      <a:pt x="788" y="1330"/>
                    </a:lnTo>
                    <a:lnTo>
                      <a:pt x="792" y="1335"/>
                    </a:lnTo>
                    <a:lnTo>
                      <a:pt x="797" y="1335"/>
                    </a:lnTo>
                    <a:lnTo>
                      <a:pt x="797" y="1340"/>
                    </a:lnTo>
                    <a:lnTo>
                      <a:pt x="802" y="1340"/>
                    </a:lnTo>
                    <a:lnTo>
                      <a:pt x="807" y="1344"/>
                    </a:lnTo>
                    <a:lnTo>
                      <a:pt x="812" y="1344"/>
                    </a:lnTo>
                    <a:lnTo>
                      <a:pt x="816" y="1349"/>
                    </a:lnTo>
                    <a:lnTo>
                      <a:pt x="821" y="1349"/>
                    </a:lnTo>
                    <a:lnTo>
                      <a:pt x="826" y="1349"/>
                    </a:lnTo>
                    <a:lnTo>
                      <a:pt x="826" y="1354"/>
                    </a:lnTo>
                    <a:lnTo>
                      <a:pt x="831" y="1354"/>
                    </a:lnTo>
                    <a:lnTo>
                      <a:pt x="836" y="1359"/>
                    </a:lnTo>
                    <a:lnTo>
                      <a:pt x="840" y="1359"/>
                    </a:lnTo>
                    <a:lnTo>
                      <a:pt x="845" y="1364"/>
                    </a:lnTo>
                    <a:lnTo>
                      <a:pt x="850" y="1364"/>
                    </a:lnTo>
                    <a:lnTo>
                      <a:pt x="855" y="1368"/>
                    </a:lnTo>
                    <a:lnTo>
                      <a:pt x="860" y="1368"/>
                    </a:lnTo>
                    <a:lnTo>
                      <a:pt x="864" y="1373"/>
                    </a:lnTo>
                    <a:lnTo>
                      <a:pt x="869" y="1373"/>
                    </a:lnTo>
                    <a:lnTo>
                      <a:pt x="874" y="1373"/>
                    </a:lnTo>
                    <a:lnTo>
                      <a:pt x="879" y="1378"/>
                    </a:lnTo>
                    <a:lnTo>
                      <a:pt x="884" y="1383"/>
                    </a:lnTo>
                    <a:lnTo>
                      <a:pt x="888" y="1383"/>
                    </a:lnTo>
                    <a:lnTo>
                      <a:pt x="893" y="1383"/>
                    </a:lnTo>
                    <a:lnTo>
                      <a:pt x="898" y="1388"/>
                    </a:lnTo>
                    <a:lnTo>
                      <a:pt x="903" y="1388"/>
                    </a:lnTo>
                    <a:lnTo>
                      <a:pt x="908" y="1392"/>
                    </a:lnTo>
                    <a:lnTo>
                      <a:pt x="912" y="1392"/>
                    </a:lnTo>
                    <a:lnTo>
                      <a:pt x="917" y="1397"/>
                    </a:lnTo>
                    <a:lnTo>
                      <a:pt x="922" y="1397"/>
                    </a:lnTo>
                    <a:lnTo>
                      <a:pt x="927" y="1397"/>
                    </a:lnTo>
                    <a:lnTo>
                      <a:pt x="932" y="1402"/>
                    </a:lnTo>
                    <a:lnTo>
                      <a:pt x="936" y="1402"/>
                    </a:lnTo>
                    <a:lnTo>
                      <a:pt x="941" y="1407"/>
                    </a:lnTo>
                    <a:lnTo>
                      <a:pt x="946" y="1407"/>
                    </a:lnTo>
                    <a:lnTo>
                      <a:pt x="951" y="1407"/>
                    </a:lnTo>
                    <a:lnTo>
                      <a:pt x="956" y="1412"/>
                    </a:lnTo>
                    <a:lnTo>
                      <a:pt x="960" y="1412"/>
                    </a:lnTo>
                    <a:lnTo>
                      <a:pt x="965" y="1416"/>
                    </a:lnTo>
                    <a:lnTo>
                      <a:pt x="970" y="1416"/>
                    </a:lnTo>
                    <a:lnTo>
                      <a:pt x="975" y="1416"/>
                    </a:lnTo>
                    <a:lnTo>
                      <a:pt x="980" y="1416"/>
                    </a:lnTo>
                    <a:lnTo>
                      <a:pt x="984" y="1421"/>
                    </a:lnTo>
                    <a:lnTo>
                      <a:pt x="989" y="1421"/>
                    </a:lnTo>
                    <a:lnTo>
                      <a:pt x="994" y="1426"/>
                    </a:lnTo>
                    <a:lnTo>
                      <a:pt x="999" y="1426"/>
                    </a:lnTo>
                    <a:lnTo>
                      <a:pt x="1004" y="1426"/>
                    </a:lnTo>
                    <a:lnTo>
                      <a:pt x="1008" y="1426"/>
                    </a:lnTo>
                    <a:lnTo>
                      <a:pt x="1008" y="1431"/>
                    </a:lnTo>
                    <a:lnTo>
                      <a:pt x="1013" y="1431"/>
                    </a:lnTo>
                    <a:lnTo>
                      <a:pt x="1018" y="1431"/>
                    </a:lnTo>
                    <a:lnTo>
                      <a:pt x="1023" y="1436"/>
                    </a:lnTo>
                    <a:lnTo>
                      <a:pt x="1028" y="1436"/>
                    </a:lnTo>
                    <a:lnTo>
                      <a:pt x="1032" y="1436"/>
                    </a:lnTo>
                    <a:lnTo>
                      <a:pt x="1037" y="1436"/>
                    </a:lnTo>
                    <a:lnTo>
                      <a:pt x="1037" y="1440"/>
                    </a:lnTo>
                    <a:lnTo>
                      <a:pt x="1042" y="1440"/>
                    </a:lnTo>
                    <a:lnTo>
                      <a:pt x="1047" y="1440"/>
                    </a:lnTo>
                    <a:lnTo>
                      <a:pt x="1052" y="1440"/>
                    </a:lnTo>
                    <a:lnTo>
                      <a:pt x="1056" y="1445"/>
                    </a:lnTo>
                    <a:lnTo>
                      <a:pt x="1061" y="1445"/>
                    </a:lnTo>
                    <a:lnTo>
                      <a:pt x="1066" y="1445"/>
                    </a:lnTo>
                    <a:lnTo>
                      <a:pt x="1071" y="1450"/>
                    </a:lnTo>
                    <a:lnTo>
                      <a:pt x="1076" y="1450"/>
                    </a:lnTo>
                    <a:lnTo>
                      <a:pt x="1080" y="1450"/>
                    </a:lnTo>
                    <a:lnTo>
                      <a:pt x="1085" y="1450"/>
                    </a:lnTo>
                    <a:lnTo>
                      <a:pt x="1085" y="1455"/>
                    </a:lnTo>
                    <a:lnTo>
                      <a:pt x="1090" y="1455"/>
                    </a:lnTo>
                    <a:lnTo>
                      <a:pt x="1095" y="1455"/>
                    </a:lnTo>
                    <a:lnTo>
                      <a:pt x="1100" y="1455"/>
                    </a:lnTo>
                    <a:lnTo>
                      <a:pt x="1104" y="1460"/>
                    </a:lnTo>
                    <a:lnTo>
                      <a:pt x="1109" y="1460"/>
                    </a:lnTo>
                    <a:lnTo>
                      <a:pt x="1114" y="1460"/>
                    </a:lnTo>
                    <a:lnTo>
                      <a:pt x="1119" y="1464"/>
                    </a:lnTo>
                    <a:lnTo>
                      <a:pt x="1124" y="1464"/>
                    </a:lnTo>
                    <a:lnTo>
                      <a:pt x="1128" y="1464"/>
                    </a:lnTo>
                    <a:lnTo>
                      <a:pt x="1133" y="1464"/>
                    </a:lnTo>
                    <a:lnTo>
                      <a:pt x="1138" y="1464"/>
                    </a:lnTo>
                    <a:lnTo>
                      <a:pt x="1138" y="1469"/>
                    </a:lnTo>
                    <a:lnTo>
                      <a:pt x="1143" y="1469"/>
                    </a:lnTo>
                    <a:lnTo>
                      <a:pt x="1148" y="1469"/>
                    </a:lnTo>
                    <a:lnTo>
                      <a:pt x="1152" y="1469"/>
                    </a:lnTo>
                    <a:lnTo>
                      <a:pt x="1157" y="1469"/>
                    </a:lnTo>
                    <a:lnTo>
                      <a:pt x="1162" y="1474"/>
                    </a:lnTo>
                    <a:lnTo>
                      <a:pt x="1167" y="1474"/>
                    </a:lnTo>
                    <a:lnTo>
                      <a:pt x="1172" y="1474"/>
                    </a:lnTo>
                    <a:lnTo>
                      <a:pt x="1176" y="1479"/>
                    </a:lnTo>
                    <a:lnTo>
                      <a:pt x="1181" y="1479"/>
                    </a:lnTo>
                    <a:lnTo>
                      <a:pt x="1186" y="1479"/>
                    </a:lnTo>
                    <a:lnTo>
                      <a:pt x="1191" y="1479"/>
                    </a:lnTo>
                    <a:lnTo>
                      <a:pt x="1196" y="1484"/>
                    </a:lnTo>
                    <a:lnTo>
                      <a:pt x="1200" y="1484"/>
                    </a:lnTo>
                    <a:lnTo>
                      <a:pt x="1205" y="1484"/>
                    </a:lnTo>
                    <a:lnTo>
                      <a:pt x="1210" y="1484"/>
                    </a:lnTo>
                    <a:lnTo>
                      <a:pt x="1215" y="1484"/>
                    </a:lnTo>
                    <a:lnTo>
                      <a:pt x="1220" y="1484"/>
                    </a:lnTo>
                    <a:lnTo>
                      <a:pt x="1220" y="1488"/>
                    </a:lnTo>
                    <a:lnTo>
                      <a:pt x="1224" y="1488"/>
                    </a:lnTo>
                    <a:lnTo>
                      <a:pt x="1229" y="1488"/>
                    </a:lnTo>
                    <a:lnTo>
                      <a:pt x="1234" y="1488"/>
                    </a:lnTo>
                    <a:lnTo>
                      <a:pt x="1239" y="1488"/>
                    </a:lnTo>
                    <a:lnTo>
                      <a:pt x="1244" y="1493"/>
                    </a:lnTo>
                    <a:lnTo>
                      <a:pt x="1248" y="1493"/>
                    </a:lnTo>
                    <a:lnTo>
                      <a:pt x="1253" y="1493"/>
                    </a:lnTo>
                    <a:lnTo>
                      <a:pt x="1258" y="1493"/>
                    </a:lnTo>
                    <a:lnTo>
                      <a:pt x="1263" y="1493"/>
                    </a:lnTo>
                    <a:lnTo>
                      <a:pt x="1268" y="1498"/>
                    </a:lnTo>
                    <a:lnTo>
                      <a:pt x="1272" y="1498"/>
                    </a:lnTo>
                    <a:lnTo>
                      <a:pt x="1277" y="1498"/>
                    </a:lnTo>
                    <a:lnTo>
                      <a:pt x="1282" y="1498"/>
                    </a:lnTo>
                    <a:lnTo>
                      <a:pt x="1287" y="1498"/>
                    </a:lnTo>
                    <a:lnTo>
                      <a:pt x="1292" y="1503"/>
                    </a:lnTo>
                    <a:lnTo>
                      <a:pt x="1296" y="1503"/>
                    </a:lnTo>
                    <a:lnTo>
                      <a:pt x="1301" y="1503"/>
                    </a:lnTo>
                    <a:lnTo>
                      <a:pt x="1306" y="1503"/>
                    </a:lnTo>
                    <a:lnTo>
                      <a:pt x="1311" y="1503"/>
                    </a:lnTo>
                    <a:lnTo>
                      <a:pt x="1316" y="1508"/>
                    </a:lnTo>
                    <a:lnTo>
                      <a:pt x="1320" y="1508"/>
                    </a:lnTo>
                    <a:lnTo>
                      <a:pt x="1325" y="1508"/>
                    </a:lnTo>
                    <a:lnTo>
                      <a:pt x="1330" y="1508"/>
                    </a:lnTo>
                    <a:lnTo>
                      <a:pt x="1335" y="1508"/>
                    </a:lnTo>
                    <a:lnTo>
                      <a:pt x="1340" y="1512"/>
                    </a:lnTo>
                    <a:lnTo>
                      <a:pt x="1344" y="1512"/>
                    </a:lnTo>
                    <a:lnTo>
                      <a:pt x="1349" y="1512"/>
                    </a:lnTo>
                    <a:lnTo>
                      <a:pt x="1354" y="1512"/>
                    </a:lnTo>
                    <a:lnTo>
                      <a:pt x="1359" y="1512"/>
                    </a:lnTo>
                    <a:lnTo>
                      <a:pt x="1364" y="1512"/>
                    </a:lnTo>
                    <a:lnTo>
                      <a:pt x="1368" y="1517"/>
                    </a:lnTo>
                    <a:lnTo>
                      <a:pt x="1373" y="1517"/>
                    </a:lnTo>
                    <a:lnTo>
                      <a:pt x="1378" y="1517"/>
                    </a:lnTo>
                    <a:lnTo>
                      <a:pt x="1383" y="1517"/>
                    </a:lnTo>
                    <a:lnTo>
                      <a:pt x="1388" y="1517"/>
                    </a:lnTo>
                    <a:lnTo>
                      <a:pt x="1392" y="1517"/>
                    </a:lnTo>
                    <a:lnTo>
                      <a:pt x="1397" y="1522"/>
                    </a:lnTo>
                    <a:lnTo>
                      <a:pt x="1402" y="1522"/>
                    </a:lnTo>
                    <a:lnTo>
                      <a:pt x="1407" y="1522"/>
                    </a:lnTo>
                    <a:lnTo>
                      <a:pt x="1412" y="1522"/>
                    </a:lnTo>
                    <a:lnTo>
                      <a:pt x="1416" y="1522"/>
                    </a:lnTo>
                    <a:lnTo>
                      <a:pt x="1421" y="1522"/>
                    </a:lnTo>
                    <a:lnTo>
                      <a:pt x="1426" y="1527"/>
                    </a:lnTo>
                    <a:lnTo>
                      <a:pt x="1431" y="1527"/>
                    </a:lnTo>
                    <a:lnTo>
                      <a:pt x="1436" y="1527"/>
                    </a:lnTo>
                    <a:lnTo>
                      <a:pt x="1440" y="1527"/>
                    </a:lnTo>
                    <a:lnTo>
                      <a:pt x="1445" y="1527"/>
                    </a:lnTo>
                    <a:lnTo>
                      <a:pt x="1450" y="1527"/>
                    </a:lnTo>
                    <a:lnTo>
                      <a:pt x="1455" y="1527"/>
                    </a:lnTo>
                    <a:lnTo>
                      <a:pt x="1455" y="1532"/>
                    </a:lnTo>
                    <a:lnTo>
                      <a:pt x="1460" y="1532"/>
                    </a:lnTo>
                    <a:lnTo>
                      <a:pt x="1464" y="1532"/>
                    </a:lnTo>
                    <a:lnTo>
                      <a:pt x="1469" y="1532"/>
                    </a:lnTo>
                    <a:lnTo>
                      <a:pt x="1474" y="1532"/>
                    </a:lnTo>
                    <a:lnTo>
                      <a:pt x="1479" y="1532"/>
                    </a:lnTo>
                    <a:lnTo>
                      <a:pt x="1484" y="1532"/>
                    </a:lnTo>
                    <a:lnTo>
                      <a:pt x="1488" y="1536"/>
                    </a:lnTo>
                    <a:lnTo>
                      <a:pt x="1493" y="1536"/>
                    </a:lnTo>
                    <a:lnTo>
                      <a:pt x="1498" y="1536"/>
                    </a:lnTo>
                    <a:lnTo>
                      <a:pt x="1503" y="1536"/>
                    </a:lnTo>
                    <a:lnTo>
                      <a:pt x="1508" y="1536"/>
                    </a:lnTo>
                    <a:lnTo>
                      <a:pt x="1512" y="1536"/>
                    </a:lnTo>
                    <a:lnTo>
                      <a:pt x="1517" y="1536"/>
                    </a:lnTo>
                    <a:lnTo>
                      <a:pt x="1522" y="1541"/>
                    </a:lnTo>
                    <a:lnTo>
                      <a:pt x="1527" y="1541"/>
                    </a:lnTo>
                    <a:lnTo>
                      <a:pt x="1532" y="1541"/>
                    </a:lnTo>
                    <a:lnTo>
                      <a:pt x="1536" y="1541"/>
                    </a:lnTo>
                    <a:lnTo>
                      <a:pt x="1541" y="1541"/>
                    </a:lnTo>
                    <a:lnTo>
                      <a:pt x="1546" y="1541"/>
                    </a:lnTo>
                    <a:lnTo>
                      <a:pt x="1551" y="1541"/>
                    </a:lnTo>
                    <a:lnTo>
                      <a:pt x="1556" y="1541"/>
                    </a:lnTo>
                    <a:lnTo>
                      <a:pt x="1560" y="1546"/>
                    </a:lnTo>
                    <a:lnTo>
                      <a:pt x="1565" y="1546"/>
                    </a:lnTo>
                    <a:lnTo>
                      <a:pt x="1570" y="1546"/>
                    </a:lnTo>
                    <a:lnTo>
                      <a:pt x="1575" y="1546"/>
                    </a:lnTo>
                    <a:lnTo>
                      <a:pt x="1580" y="1546"/>
                    </a:lnTo>
                    <a:lnTo>
                      <a:pt x="1584" y="1546"/>
                    </a:lnTo>
                    <a:lnTo>
                      <a:pt x="1589" y="1546"/>
                    </a:lnTo>
                    <a:lnTo>
                      <a:pt x="1594" y="1551"/>
                    </a:lnTo>
                    <a:lnTo>
                      <a:pt x="1599" y="1551"/>
                    </a:lnTo>
                    <a:lnTo>
                      <a:pt x="1604" y="1551"/>
                    </a:lnTo>
                    <a:lnTo>
                      <a:pt x="1608" y="1551"/>
                    </a:lnTo>
                    <a:lnTo>
                      <a:pt x="1613" y="1551"/>
                    </a:lnTo>
                    <a:lnTo>
                      <a:pt x="1618" y="1551"/>
                    </a:lnTo>
                    <a:lnTo>
                      <a:pt x="1623" y="1551"/>
                    </a:lnTo>
                    <a:lnTo>
                      <a:pt x="1628" y="1551"/>
                    </a:lnTo>
                    <a:lnTo>
                      <a:pt x="1632" y="1556"/>
                    </a:lnTo>
                    <a:lnTo>
                      <a:pt x="1637" y="1556"/>
                    </a:lnTo>
                    <a:lnTo>
                      <a:pt x="1642" y="1556"/>
                    </a:lnTo>
                    <a:lnTo>
                      <a:pt x="1647" y="1556"/>
                    </a:lnTo>
                    <a:lnTo>
                      <a:pt x="1652" y="1556"/>
                    </a:lnTo>
                    <a:lnTo>
                      <a:pt x="1656" y="1556"/>
                    </a:lnTo>
                    <a:lnTo>
                      <a:pt x="1661" y="1556"/>
                    </a:lnTo>
                    <a:lnTo>
                      <a:pt x="1666" y="1556"/>
                    </a:lnTo>
                    <a:lnTo>
                      <a:pt x="1671" y="1556"/>
                    </a:lnTo>
                    <a:lnTo>
                      <a:pt x="1676" y="1560"/>
                    </a:lnTo>
                    <a:lnTo>
                      <a:pt x="1680" y="1560"/>
                    </a:lnTo>
                    <a:lnTo>
                      <a:pt x="1685" y="1560"/>
                    </a:lnTo>
                    <a:lnTo>
                      <a:pt x="1690" y="1560"/>
                    </a:lnTo>
                    <a:lnTo>
                      <a:pt x="1695" y="1560"/>
                    </a:lnTo>
                    <a:lnTo>
                      <a:pt x="1700" y="1560"/>
                    </a:lnTo>
                    <a:lnTo>
                      <a:pt x="1704" y="1560"/>
                    </a:lnTo>
                    <a:lnTo>
                      <a:pt x="1709" y="1560"/>
                    </a:lnTo>
                    <a:lnTo>
                      <a:pt x="1714" y="1560"/>
                    </a:lnTo>
                    <a:lnTo>
                      <a:pt x="1719" y="1565"/>
                    </a:lnTo>
                    <a:lnTo>
                      <a:pt x="1724" y="1565"/>
                    </a:lnTo>
                    <a:lnTo>
                      <a:pt x="1728" y="1565"/>
                    </a:lnTo>
                    <a:lnTo>
                      <a:pt x="1733" y="1565"/>
                    </a:lnTo>
                    <a:lnTo>
                      <a:pt x="1738" y="1565"/>
                    </a:lnTo>
                    <a:lnTo>
                      <a:pt x="1743" y="1565"/>
                    </a:lnTo>
                    <a:lnTo>
                      <a:pt x="1748" y="1565"/>
                    </a:lnTo>
                    <a:lnTo>
                      <a:pt x="1752" y="1565"/>
                    </a:lnTo>
                    <a:lnTo>
                      <a:pt x="1757" y="1565"/>
                    </a:lnTo>
                    <a:lnTo>
                      <a:pt x="1762" y="1565"/>
                    </a:lnTo>
                    <a:lnTo>
                      <a:pt x="1767" y="1570"/>
                    </a:lnTo>
                    <a:lnTo>
                      <a:pt x="1772" y="1570"/>
                    </a:lnTo>
                    <a:lnTo>
                      <a:pt x="1776" y="1570"/>
                    </a:lnTo>
                    <a:lnTo>
                      <a:pt x="1781" y="1570"/>
                    </a:lnTo>
                    <a:lnTo>
                      <a:pt x="1786" y="1570"/>
                    </a:lnTo>
                    <a:lnTo>
                      <a:pt x="1791" y="1570"/>
                    </a:lnTo>
                    <a:lnTo>
                      <a:pt x="1796" y="1570"/>
                    </a:lnTo>
                    <a:lnTo>
                      <a:pt x="1800" y="1570"/>
                    </a:lnTo>
                    <a:lnTo>
                      <a:pt x="1805" y="1570"/>
                    </a:lnTo>
                    <a:lnTo>
                      <a:pt x="1810" y="1575"/>
                    </a:lnTo>
                    <a:lnTo>
                      <a:pt x="1815" y="1575"/>
                    </a:lnTo>
                    <a:lnTo>
                      <a:pt x="1820" y="1575"/>
                    </a:lnTo>
                    <a:lnTo>
                      <a:pt x="1824" y="1575"/>
                    </a:lnTo>
                    <a:lnTo>
                      <a:pt x="1829" y="1575"/>
                    </a:lnTo>
                    <a:lnTo>
                      <a:pt x="1834" y="1575"/>
                    </a:lnTo>
                    <a:lnTo>
                      <a:pt x="1839" y="1575"/>
                    </a:lnTo>
                    <a:lnTo>
                      <a:pt x="1844" y="1575"/>
                    </a:lnTo>
                    <a:lnTo>
                      <a:pt x="1848" y="1575"/>
                    </a:lnTo>
                    <a:lnTo>
                      <a:pt x="1853" y="1575"/>
                    </a:lnTo>
                    <a:lnTo>
                      <a:pt x="1858" y="1575"/>
                    </a:lnTo>
                    <a:lnTo>
                      <a:pt x="1863" y="1580"/>
                    </a:lnTo>
                    <a:lnTo>
                      <a:pt x="1868" y="1580"/>
                    </a:lnTo>
                    <a:lnTo>
                      <a:pt x="1872" y="1580"/>
                    </a:lnTo>
                    <a:lnTo>
                      <a:pt x="1877" y="1580"/>
                    </a:lnTo>
                    <a:lnTo>
                      <a:pt x="1882" y="1580"/>
                    </a:lnTo>
                    <a:lnTo>
                      <a:pt x="1887" y="1580"/>
                    </a:lnTo>
                    <a:lnTo>
                      <a:pt x="1892" y="1580"/>
                    </a:lnTo>
                    <a:lnTo>
                      <a:pt x="1896" y="1580"/>
                    </a:lnTo>
                    <a:lnTo>
                      <a:pt x="1901" y="1580"/>
                    </a:lnTo>
                    <a:lnTo>
                      <a:pt x="1906" y="1580"/>
                    </a:lnTo>
                    <a:lnTo>
                      <a:pt x="1911" y="1580"/>
                    </a:lnTo>
                    <a:lnTo>
                      <a:pt x="1916" y="1584"/>
                    </a:lnTo>
                    <a:lnTo>
                      <a:pt x="1920" y="1584"/>
                    </a:lnTo>
                    <a:lnTo>
                      <a:pt x="1925" y="1584"/>
                    </a:lnTo>
                    <a:lnTo>
                      <a:pt x="1930" y="1584"/>
                    </a:lnTo>
                    <a:lnTo>
                      <a:pt x="1935" y="1584"/>
                    </a:lnTo>
                    <a:lnTo>
                      <a:pt x="1940" y="1584"/>
                    </a:lnTo>
                    <a:lnTo>
                      <a:pt x="1944" y="1584"/>
                    </a:lnTo>
                    <a:lnTo>
                      <a:pt x="1949" y="1584"/>
                    </a:lnTo>
                    <a:lnTo>
                      <a:pt x="1954" y="1584"/>
                    </a:lnTo>
                    <a:lnTo>
                      <a:pt x="1959" y="1584"/>
                    </a:lnTo>
                    <a:lnTo>
                      <a:pt x="1964" y="1584"/>
                    </a:lnTo>
                    <a:lnTo>
                      <a:pt x="1968" y="1584"/>
                    </a:lnTo>
                    <a:lnTo>
                      <a:pt x="1973" y="1589"/>
                    </a:lnTo>
                    <a:lnTo>
                      <a:pt x="1978" y="1589"/>
                    </a:lnTo>
                    <a:lnTo>
                      <a:pt x="1983" y="1589"/>
                    </a:lnTo>
                    <a:lnTo>
                      <a:pt x="1988" y="1589"/>
                    </a:lnTo>
                    <a:lnTo>
                      <a:pt x="1992" y="1589"/>
                    </a:lnTo>
                    <a:lnTo>
                      <a:pt x="1997" y="1589"/>
                    </a:lnTo>
                    <a:lnTo>
                      <a:pt x="2002" y="1589"/>
                    </a:lnTo>
                    <a:lnTo>
                      <a:pt x="2007" y="1589"/>
                    </a:lnTo>
                    <a:lnTo>
                      <a:pt x="2012" y="1589"/>
                    </a:lnTo>
                    <a:lnTo>
                      <a:pt x="2016" y="1589"/>
                    </a:lnTo>
                    <a:lnTo>
                      <a:pt x="2021" y="1589"/>
                    </a:lnTo>
                    <a:lnTo>
                      <a:pt x="2026" y="1589"/>
                    </a:lnTo>
                    <a:lnTo>
                      <a:pt x="2031" y="1589"/>
                    </a:lnTo>
                    <a:lnTo>
                      <a:pt x="2036" y="1589"/>
                    </a:lnTo>
                    <a:lnTo>
                      <a:pt x="2036" y="1594"/>
                    </a:lnTo>
                    <a:lnTo>
                      <a:pt x="2040" y="1594"/>
                    </a:lnTo>
                    <a:lnTo>
                      <a:pt x="2045" y="1594"/>
                    </a:lnTo>
                    <a:lnTo>
                      <a:pt x="2050" y="1594"/>
                    </a:lnTo>
                    <a:lnTo>
                      <a:pt x="2055" y="1594"/>
                    </a:lnTo>
                    <a:lnTo>
                      <a:pt x="2060" y="1594"/>
                    </a:lnTo>
                    <a:lnTo>
                      <a:pt x="2064" y="1594"/>
                    </a:lnTo>
                    <a:lnTo>
                      <a:pt x="2069" y="1594"/>
                    </a:lnTo>
                    <a:lnTo>
                      <a:pt x="2074" y="159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758840" y="34257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668480" y="5283360"/>
                <a:ext cx="410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914360" y="2917800"/>
                <a:ext cx="13154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</a:t>
                </a:r>
                <a:r>
                  <a:rPr b="0" lang="hr-HR" sz="2200" spc="-1" strike="noStrike">
                    <a:solidFill>
                      <a:srgbClr val="ffff00"/>
                    </a:solidFill>
                    <a:latin typeface="Times New Roman"/>
                  </a:rPr>
                  <a:t>(</a:t>
                </a:r>
                <a:r>
                  <a:rPr b="0" i="1" lang="hr-HR" sz="2200" spc="-1" strike="noStrike">
                    <a:solidFill>
                      <a:srgbClr val="ffff00"/>
                    </a:solidFill>
                    <a:latin typeface="Times New Roman"/>
                  </a:rPr>
                  <a:t>H</a:t>
                </a:r>
                <a:r>
                  <a:rPr b="0" i="1" lang="hr-HR" sz="2200" spc="-1" strike="noStrike" baseline="-25000">
                    <a:solidFill>
                      <a:srgbClr val="ffff00"/>
                    </a:solidFill>
                    <a:latin typeface="Times New Roman"/>
                  </a:rPr>
                  <a:t>a</a:t>
                </a:r>
                <a:r>
                  <a:rPr b="0" lang="hr-HR" sz="2200" spc="-1" strike="noStrike">
                    <a:solidFill>
                      <a:srgbClr val="ffff00"/>
                    </a:solidFill>
                    <a:latin typeface="Times New Roman"/>
                  </a:rPr>
                  <a:t>(</a:t>
                </a:r>
                <a:r>
                  <a:rPr b="0" i="1" lang="hr-HR" sz="2200" spc="-1" strike="noStrike">
                    <a:solidFill>
                      <a:srgbClr val="ffff00"/>
                    </a:solidFill>
                    <a:latin typeface="Times New Roman"/>
                  </a:rPr>
                  <a:t>j</a:t>
                </a:r>
                <a:r>
                  <a:rPr b="0" lang="hr-HR" sz="2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hr-HR" sz="2200" spc="-1" strike="noStrike">
                    <a:solidFill>
                      <a:srgbClr val="ffff00"/>
                    </a:solidFill>
                    <a:latin typeface="Times New Roman"/>
                  </a:rPr>
                  <a:t>))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488920" y="330192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94080" y="330192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705360" y="330192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310520" y="330192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922880" y="330192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284680" y="3181320"/>
                <a:ext cx="39996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1BA9-E12E-4F17-B054-3FE682BFB5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1 - nastavak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66760" y="1751040"/>
            <a:ext cx="870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jenosna funkcija digitalnog filtra projektiranog metodom jednakog impulsnog odziva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11160" y="2668680"/>
                <a:ext cx="912168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3</m:t>
                                            </m:r>
                                          </m:e>
                                        </m:ra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</m:rad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3</m:t>
                                            </m:r>
                                          </m:e>
                                        </m:ra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A4D7-7F15-4CEB-8E1E-E75B35EB04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1 - nastavak 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85520" y="1668600"/>
            <a:ext cx="689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5=0,628 prijenosna funkcija digitalnog filtra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1933560" y="2130480"/>
                <a:ext cx="52182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7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6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8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84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8" name=""/>
          <p:cNvGrpSpPr/>
          <p:nvPr/>
        </p:nvGrpSpPr>
        <p:grpSpPr>
          <a:xfrm>
            <a:off x="418680" y="3179880"/>
            <a:ext cx="8584200" cy="3580200"/>
            <a:chOff x="418680" y="3179880"/>
            <a:chExt cx="8584200" cy="3580200"/>
          </a:xfrm>
        </p:grpSpPr>
        <p:grpSp>
          <p:nvGrpSpPr>
            <p:cNvPr id="799" name=""/>
            <p:cNvGrpSpPr/>
            <p:nvPr/>
          </p:nvGrpSpPr>
          <p:grpSpPr>
            <a:xfrm>
              <a:off x="418680" y="3263760"/>
              <a:ext cx="3801240" cy="3496320"/>
              <a:chOff x="418680" y="3263760"/>
              <a:chExt cx="3801240" cy="3496320"/>
            </a:xfrm>
          </p:grpSpPr>
          <p:sp>
            <p:nvSpPr>
              <p:cNvPr id="800" name=""/>
              <p:cNvSpPr/>
              <p:nvPr/>
            </p:nvSpPr>
            <p:spPr>
              <a:xfrm flipV="1">
                <a:off x="708120" y="378900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1319400" y="378900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1924560" y="378900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2537280" y="378900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3141000" y="378900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3753720" y="378900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08120" y="638820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08120" y="586908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08120" y="535140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08120" y="482616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08120" y="430704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08120" y="378936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08120" y="3789360"/>
                <a:ext cx="3046680" cy="2600280"/>
              </a:xfrm>
              <a:custGeom>
                <a:avLst/>
                <a:gdLst/>
                <a:ahLst/>
                <a:rect l="l" t="t" r="r" b="b"/>
                <a:pathLst>
                  <a:path w="2079" h="1638">
                    <a:moveTo>
                      <a:pt x="0" y="1637"/>
                    </a:moveTo>
                    <a:lnTo>
                      <a:pt x="0" y="0"/>
                    </a:lnTo>
                    <a:lnTo>
                      <a:pt x="207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08120" y="3789360"/>
                <a:ext cx="3046680" cy="2600280"/>
              </a:xfrm>
              <a:custGeom>
                <a:avLst/>
                <a:gdLst/>
                <a:ahLst/>
                <a:rect l="l" t="t" r="r" b="b"/>
                <a:pathLst>
                  <a:path w="2079" h="1638">
                    <a:moveTo>
                      <a:pt x="0" y="1637"/>
                    </a:moveTo>
                    <a:lnTo>
                      <a:pt x="0" y="0"/>
                    </a:lnTo>
                    <a:lnTo>
                      <a:pt x="207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08120" y="3789360"/>
                <a:ext cx="3046680" cy="2600280"/>
              </a:xfrm>
              <a:custGeom>
                <a:avLst/>
                <a:gdLst/>
                <a:ahLst/>
                <a:rect l="l" t="t" r="r" b="b"/>
                <a:pathLst>
                  <a:path w="2079" h="1638">
                    <a:moveTo>
                      <a:pt x="0" y="1637"/>
                    </a:moveTo>
                    <a:lnTo>
                      <a:pt x="0" y="0"/>
                    </a:lnTo>
                    <a:lnTo>
                      <a:pt x="207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08120" y="638820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08120" y="378936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708120" y="378900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753720" y="378900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08120" y="378936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08120" y="638820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708120" y="378900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08120" y="638820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708120" y="635652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8120" y="378936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1319400" y="635652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319400" y="378936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1924560" y="635652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24560" y="378936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2537280" y="635652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37280" y="378936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3141000" y="635652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141000" y="378936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3753720" y="635652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753720" y="378936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8120" y="638820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3725280" y="638820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8120" y="586908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725280" y="586908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8120" y="535140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3725280" y="535140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8120" y="482616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3725280" y="482616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8120" y="430704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3725280" y="430704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8120" y="378936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725280" y="378936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8120" y="6388200"/>
                <a:ext cx="3423240" cy="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8120" y="378936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708120" y="3455640"/>
                <a:ext cx="0" cy="2932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3753720" y="3789000"/>
                <a:ext cx="0" cy="2598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8120" y="638820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8120" y="3789360"/>
                <a:ext cx="3039120" cy="2576520"/>
              </a:xfrm>
              <a:custGeom>
                <a:avLst/>
                <a:gdLst/>
                <a:ahLst/>
                <a:rect l="l" t="t" r="r" b="b"/>
                <a:pathLst>
                  <a:path w="2074" h="1623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39" y="0"/>
                    </a:lnTo>
                    <a:lnTo>
                      <a:pt x="144" y="0"/>
                    </a:lnTo>
                    <a:lnTo>
                      <a:pt x="148" y="0"/>
                    </a:lnTo>
                    <a:lnTo>
                      <a:pt x="153" y="0"/>
                    </a:lnTo>
                    <a:lnTo>
                      <a:pt x="158" y="0"/>
                    </a:lnTo>
                    <a:lnTo>
                      <a:pt x="163" y="0"/>
                    </a:lnTo>
                    <a:lnTo>
                      <a:pt x="168" y="5"/>
                    </a:lnTo>
                    <a:lnTo>
                      <a:pt x="172" y="5"/>
                    </a:lnTo>
                    <a:lnTo>
                      <a:pt x="177" y="5"/>
                    </a:lnTo>
                    <a:lnTo>
                      <a:pt x="182" y="5"/>
                    </a:lnTo>
                    <a:lnTo>
                      <a:pt x="187" y="5"/>
                    </a:lnTo>
                    <a:lnTo>
                      <a:pt x="192" y="5"/>
                    </a:lnTo>
                    <a:lnTo>
                      <a:pt x="196" y="9"/>
                    </a:lnTo>
                    <a:lnTo>
                      <a:pt x="201" y="9"/>
                    </a:lnTo>
                    <a:lnTo>
                      <a:pt x="206" y="9"/>
                    </a:lnTo>
                    <a:lnTo>
                      <a:pt x="211" y="14"/>
                    </a:lnTo>
                    <a:lnTo>
                      <a:pt x="216" y="14"/>
                    </a:lnTo>
                    <a:lnTo>
                      <a:pt x="220" y="14"/>
                    </a:lnTo>
                    <a:lnTo>
                      <a:pt x="225" y="19"/>
                    </a:lnTo>
                    <a:lnTo>
                      <a:pt x="230" y="24"/>
                    </a:lnTo>
                    <a:lnTo>
                      <a:pt x="235" y="24"/>
                    </a:lnTo>
                    <a:lnTo>
                      <a:pt x="240" y="29"/>
                    </a:lnTo>
                    <a:lnTo>
                      <a:pt x="244" y="29"/>
                    </a:lnTo>
                    <a:lnTo>
                      <a:pt x="249" y="33"/>
                    </a:lnTo>
                    <a:lnTo>
                      <a:pt x="249" y="38"/>
                    </a:lnTo>
                    <a:lnTo>
                      <a:pt x="254" y="38"/>
                    </a:lnTo>
                    <a:lnTo>
                      <a:pt x="259" y="43"/>
                    </a:lnTo>
                    <a:lnTo>
                      <a:pt x="264" y="48"/>
                    </a:lnTo>
                    <a:lnTo>
                      <a:pt x="268" y="53"/>
                    </a:lnTo>
                    <a:lnTo>
                      <a:pt x="273" y="57"/>
                    </a:lnTo>
                    <a:lnTo>
                      <a:pt x="278" y="62"/>
                    </a:lnTo>
                    <a:lnTo>
                      <a:pt x="278" y="67"/>
                    </a:lnTo>
                    <a:lnTo>
                      <a:pt x="283" y="77"/>
                    </a:lnTo>
                    <a:lnTo>
                      <a:pt x="288" y="81"/>
                    </a:lnTo>
                    <a:lnTo>
                      <a:pt x="292" y="86"/>
                    </a:lnTo>
                    <a:lnTo>
                      <a:pt x="297" y="96"/>
                    </a:lnTo>
                    <a:lnTo>
                      <a:pt x="302" y="101"/>
                    </a:lnTo>
                    <a:lnTo>
                      <a:pt x="302" y="110"/>
                    </a:lnTo>
                    <a:lnTo>
                      <a:pt x="307" y="120"/>
                    </a:lnTo>
                    <a:lnTo>
                      <a:pt x="312" y="125"/>
                    </a:lnTo>
                    <a:lnTo>
                      <a:pt x="316" y="134"/>
                    </a:lnTo>
                    <a:lnTo>
                      <a:pt x="321" y="144"/>
                    </a:lnTo>
                    <a:lnTo>
                      <a:pt x="326" y="153"/>
                    </a:lnTo>
                    <a:lnTo>
                      <a:pt x="331" y="168"/>
                    </a:lnTo>
                    <a:lnTo>
                      <a:pt x="331" y="177"/>
                    </a:lnTo>
                    <a:lnTo>
                      <a:pt x="336" y="187"/>
                    </a:lnTo>
                    <a:lnTo>
                      <a:pt x="340" y="201"/>
                    </a:lnTo>
                    <a:lnTo>
                      <a:pt x="345" y="211"/>
                    </a:lnTo>
                    <a:lnTo>
                      <a:pt x="350" y="225"/>
                    </a:lnTo>
                    <a:lnTo>
                      <a:pt x="355" y="235"/>
                    </a:lnTo>
                    <a:lnTo>
                      <a:pt x="355" y="249"/>
                    </a:lnTo>
                    <a:lnTo>
                      <a:pt x="360" y="264"/>
                    </a:lnTo>
                    <a:lnTo>
                      <a:pt x="364" y="278"/>
                    </a:lnTo>
                    <a:lnTo>
                      <a:pt x="369" y="293"/>
                    </a:lnTo>
                    <a:lnTo>
                      <a:pt x="374" y="307"/>
                    </a:lnTo>
                    <a:lnTo>
                      <a:pt x="379" y="321"/>
                    </a:lnTo>
                    <a:lnTo>
                      <a:pt x="379" y="336"/>
                    </a:lnTo>
                    <a:lnTo>
                      <a:pt x="384" y="355"/>
                    </a:lnTo>
                    <a:lnTo>
                      <a:pt x="388" y="369"/>
                    </a:lnTo>
                    <a:lnTo>
                      <a:pt x="393" y="384"/>
                    </a:lnTo>
                    <a:lnTo>
                      <a:pt x="398" y="403"/>
                    </a:lnTo>
                    <a:lnTo>
                      <a:pt x="403" y="417"/>
                    </a:lnTo>
                    <a:lnTo>
                      <a:pt x="408" y="437"/>
                    </a:lnTo>
                    <a:lnTo>
                      <a:pt x="408" y="451"/>
                    </a:lnTo>
                    <a:lnTo>
                      <a:pt x="412" y="470"/>
                    </a:lnTo>
                    <a:lnTo>
                      <a:pt x="417" y="485"/>
                    </a:lnTo>
                    <a:lnTo>
                      <a:pt x="422" y="504"/>
                    </a:lnTo>
                    <a:lnTo>
                      <a:pt x="427" y="518"/>
                    </a:lnTo>
                    <a:lnTo>
                      <a:pt x="432" y="537"/>
                    </a:lnTo>
                    <a:lnTo>
                      <a:pt x="432" y="552"/>
                    </a:lnTo>
                    <a:lnTo>
                      <a:pt x="436" y="571"/>
                    </a:lnTo>
                    <a:lnTo>
                      <a:pt x="441" y="585"/>
                    </a:lnTo>
                    <a:lnTo>
                      <a:pt x="446" y="605"/>
                    </a:lnTo>
                    <a:lnTo>
                      <a:pt x="451" y="619"/>
                    </a:lnTo>
                    <a:lnTo>
                      <a:pt x="456" y="638"/>
                    </a:lnTo>
                    <a:lnTo>
                      <a:pt x="460" y="653"/>
                    </a:lnTo>
                    <a:lnTo>
                      <a:pt x="460" y="672"/>
                    </a:lnTo>
                    <a:lnTo>
                      <a:pt x="465" y="686"/>
                    </a:lnTo>
                    <a:lnTo>
                      <a:pt x="470" y="705"/>
                    </a:lnTo>
                    <a:lnTo>
                      <a:pt x="475" y="720"/>
                    </a:lnTo>
                    <a:lnTo>
                      <a:pt x="480" y="739"/>
                    </a:lnTo>
                    <a:lnTo>
                      <a:pt x="484" y="753"/>
                    </a:lnTo>
                    <a:lnTo>
                      <a:pt x="484" y="768"/>
                    </a:lnTo>
                    <a:lnTo>
                      <a:pt x="489" y="782"/>
                    </a:lnTo>
                    <a:lnTo>
                      <a:pt x="494" y="801"/>
                    </a:lnTo>
                    <a:lnTo>
                      <a:pt x="499" y="816"/>
                    </a:lnTo>
                    <a:lnTo>
                      <a:pt x="504" y="830"/>
                    </a:lnTo>
                    <a:lnTo>
                      <a:pt x="508" y="845"/>
                    </a:lnTo>
                    <a:lnTo>
                      <a:pt x="513" y="859"/>
                    </a:lnTo>
                    <a:lnTo>
                      <a:pt x="513" y="873"/>
                    </a:lnTo>
                    <a:lnTo>
                      <a:pt x="518" y="888"/>
                    </a:lnTo>
                    <a:lnTo>
                      <a:pt x="523" y="902"/>
                    </a:lnTo>
                    <a:lnTo>
                      <a:pt x="528" y="912"/>
                    </a:lnTo>
                    <a:lnTo>
                      <a:pt x="532" y="926"/>
                    </a:lnTo>
                    <a:lnTo>
                      <a:pt x="537" y="941"/>
                    </a:lnTo>
                    <a:lnTo>
                      <a:pt x="537" y="955"/>
                    </a:lnTo>
                    <a:lnTo>
                      <a:pt x="542" y="965"/>
                    </a:lnTo>
                    <a:lnTo>
                      <a:pt x="547" y="979"/>
                    </a:lnTo>
                    <a:lnTo>
                      <a:pt x="552" y="989"/>
                    </a:lnTo>
                    <a:lnTo>
                      <a:pt x="556" y="1003"/>
                    </a:lnTo>
                    <a:lnTo>
                      <a:pt x="561" y="1013"/>
                    </a:lnTo>
                    <a:lnTo>
                      <a:pt x="566" y="1027"/>
                    </a:lnTo>
                    <a:lnTo>
                      <a:pt x="566" y="1037"/>
                    </a:lnTo>
                    <a:lnTo>
                      <a:pt x="571" y="1046"/>
                    </a:lnTo>
                    <a:lnTo>
                      <a:pt x="576" y="1056"/>
                    </a:lnTo>
                    <a:lnTo>
                      <a:pt x="580" y="1070"/>
                    </a:lnTo>
                    <a:lnTo>
                      <a:pt x="585" y="1080"/>
                    </a:lnTo>
                    <a:lnTo>
                      <a:pt x="590" y="1089"/>
                    </a:lnTo>
                    <a:lnTo>
                      <a:pt x="590" y="1099"/>
                    </a:lnTo>
                    <a:lnTo>
                      <a:pt x="595" y="1109"/>
                    </a:lnTo>
                    <a:lnTo>
                      <a:pt x="600" y="1118"/>
                    </a:lnTo>
                    <a:lnTo>
                      <a:pt x="604" y="1128"/>
                    </a:lnTo>
                    <a:lnTo>
                      <a:pt x="609" y="1137"/>
                    </a:lnTo>
                    <a:lnTo>
                      <a:pt x="614" y="1147"/>
                    </a:lnTo>
                    <a:lnTo>
                      <a:pt x="619" y="1157"/>
                    </a:lnTo>
                    <a:lnTo>
                      <a:pt x="619" y="1161"/>
                    </a:lnTo>
                    <a:lnTo>
                      <a:pt x="624" y="1171"/>
                    </a:lnTo>
                    <a:lnTo>
                      <a:pt x="628" y="1181"/>
                    </a:lnTo>
                    <a:lnTo>
                      <a:pt x="633" y="1185"/>
                    </a:lnTo>
                    <a:lnTo>
                      <a:pt x="638" y="1195"/>
                    </a:lnTo>
                    <a:lnTo>
                      <a:pt x="643" y="1205"/>
                    </a:lnTo>
                    <a:lnTo>
                      <a:pt x="643" y="1209"/>
                    </a:lnTo>
                    <a:lnTo>
                      <a:pt x="648" y="1219"/>
                    </a:lnTo>
                    <a:lnTo>
                      <a:pt x="652" y="1224"/>
                    </a:lnTo>
                    <a:lnTo>
                      <a:pt x="657" y="1233"/>
                    </a:lnTo>
                    <a:lnTo>
                      <a:pt x="662" y="1238"/>
                    </a:lnTo>
                    <a:lnTo>
                      <a:pt x="667" y="1248"/>
                    </a:lnTo>
                    <a:lnTo>
                      <a:pt x="672" y="1253"/>
                    </a:lnTo>
                    <a:lnTo>
                      <a:pt x="672" y="1257"/>
                    </a:lnTo>
                    <a:lnTo>
                      <a:pt x="676" y="1267"/>
                    </a:lnTo>
                    <a:lnTo>
                      <a:pt x="681" y="1272"/>
                    </a:lnTo>
                    <a:lnTo>
                      <a:pt x="686" y="1277"/>
                    </a:lnTo>
                    <a:lnTo>
                      <a:pt x="691" y="1286"/>
                    </a:lnTo>
                    <a:lnTo>
                      <a:pt x="696" y="1291"/>
                    </a:lnTo>
                    <a:lnTo>
                      <a:pt x="696" y="1296"/>
                    </a:lnTo>
                    <a:lnTo>
                      <a:pt x="700" y="1301"/>
                    </a:lnTo>
                    <a:lnTo>
                      <a:pt x="705" y="1305"/>
                    </a:lnTo>
                    <a:lnTo>
                      <a:pt x="710" y="1310"/>
                    </a:lnTo>
                    <a:lnTo>
                      <a:pt x="715" y="1315"/>
                    </a:lnTo>
                    <a:lnTo>
                      <a:pt x="720" y="1325"/>
                    </a:lnTo>
                    <a:lnTo>
                      <a:pt x="724" y="1329"/>
                    </a:lnTo>
                    <a:lnTo>
                      <a:pt x="724" y="1334"/>
                    </a:lnTo>
                    <a:lnTo>
                      <a:pt x="729" y="1339"/>
                    </a:lnTo>
                    <a:lnTo>
                      <a:pt x="734" y="1344"/>
                    </a:lnTo>
                    <a:lnTo>
                      <a:pt x="739" y="1349"/>
                    </a:lnTo>
                    <a:lnTo>
                      <a:pt x="744" y="1353"/>
                    </a:lnTo>
                    <a:lnTo>
                      <a:pt x="748" y="1353"/>
                    </a:lnTo>
                    <a:lnTo>
                      <a:pt x="748" y="1358"/>
                    </a:lnTo>
                    <a:lnTo>
                      <a:pt x="753" y="1363"/>
                    </a:lnTo>
                    <a:lnTo>
                      <a:pt x="758" y="1368"/>
                    </a:lnTo>
                    <a:lnTo>
                      <a:pt x="763" y="1373"/>
                    </a:lnTo>
                    <a:lnTo>
                      <a:pt x="768" y="1377"/>
                    </a:lnTo>
                    <a:lnTo>
                      <a:pt x="772" y="1382"/>
                    </a:lnTo>
                    <a:lnTo>
                      <a:pt x="777" y="1387"/>
                    </a:lnTo>
                    <a:lnTo>
                      <a:pt x="782" y="1392"/>
                    </a:lnTo>
                    <a:lnTo>
                      <a:pt x="787" y="1397"/>
                    </a:lnTo>
                    <a:lnTo>
                      <a:pt x="792" y="1401"/>
                    </a:lnTo>
                    <a:lnTo>
                      <a:pt x="796" y="1401"/>
                    </a:lnTo>
                    <a:lnTo>
                      <a:pt x="801" y="1406"/>
                    </a:lnTo>
                    <a:lnTo>
                      <a:pt x="801" y="1411"/>
                    </a:lnTo>
                    <a:lnTo>
                      <a:pt x="806" y="1411"/>
                    </a:lnTo>
                    <a:lnTo>
                      <a:pt x="811" y="1416"/>
                    </a:lnTo>
                    <a:lnTo>
                      <a:pt x="816" y="1421"/>
                    </a:lnTo>
                    <a:lnTo>
                      <a:pt x="820" y="1421"/>
                    </a:lnTo>
                    <a:lnTo>
                      <a:pt x="825" y="1425"/>
                    </a:lnTo>
                    <a:lnTo>
                      <a:pt x="830" y="1430"/>
                    </a:lnTo>
                    <a:lnTo>
                      <a:pt x="835" y="1435"/>
                    </a:lnTo>
                    <a:lnTo>
                      <a:pt x="840" y="1440"/>
                    </a:lnTo>
                    <a:lnTo>
                      <a:pt x="844" y="1440"/>
                    </a:lnTo>
                    <a:lnTo>
                      <a:pt x="849" y="1445"/>
                    </a:lnTo>
                    <a:lnTo>
                      <a:pt x="854" y="1445"/>
                    </a:lnTo>
                    <a:lnTo>
                      <a:pt x="854" y="1449"/>
                    </a:lnTo>
                    <a:lnTo>
                      <a:pt x="859" y="1449"/>
                    </a:lnTo>
                    <a:lnTo>
                      <a:pt x="864" y="1454"/>
                    </a:lnTo>
                    <a:lnTo>
                      <a:pt x="868" y="1454"/>
                    </a:lnTo>
                    <a:lnTo>
                      <a:pt x="873" y="1459"/>
                    </a:lnTo>
                    <a:lnTo>
                      <a:pt x="878" y="1459"/>
                    </a:lnTo>
                    <a:lnTo>
                      <a:pt x="883" y="1464"/>
                    </a:lnTo>
                    <a:lnTo>
                      <a:pt x="888" y="1469"/>
                    </a:lnTo>
                    <a:lnTo>
                      <a:pt x="892" y="1469"/>
                    </a:lnTo>
                    <a:lnTo>
                      <a:pt x="897" y="1473"/>
                    </a:lnTo>
                    <a:lnTo>
                      <a:pt x="902" y="1473"/>
                    </a:lnTo>
                    <a:lnTo>
                      <a:pt x="907" y="1478"/>
                    </a:lnTo>
                    <a:lnTo>
                      <a:pt x="912" y="1483"/>
                    </a:lnTo>
                    <a:lnTo>
                      <a:pt x="916" y="1483"/>
                    </a:lnTo>
                    <a:lnTo>
                      <a:pt x="921" y="1483"/>
                    </a:lnTo>
                    <a:lnTo>
                      <a:pt x="926" y="1488"/>
                    </a:lnTo>
                    <a:lnTo>
                      <a:pt x="931" y="1488"/>
                    </a:lnTo>
                    <a:lnTo>
                      <a:pt x="936" y="1493"/>
                    </a:lnTo>
                    <a:lnTo>
                      <a:pt x="940" y="1493"/>
                    </a:lnTo>
                    <a:lnTo>
                      <a:pt x="945" y="1497"/>
                    </a:lnTo>
                    <a:lnTo>
                      <a:pt x="950" y="1497"/>
                    </a:lnTo>
                    <a:lnTo>
                      <a:pt x="955" y="1502"/>
                    </a:lnTo>
                    <a:lnTo>
                      <a:pt x="960" y="1502"/>
                    </a:lnTo>
                    <a:lnTo>
                      <a:pt x="964" y="1507"/>
                    </a:lnTo>
                    <a:lnTo>
                      <a:pt x="969" y="1507"/>
                    </a:lnTo>
                    <a:lnTo>
                      <a:pt x="974" y="1507"/>
                    </a:lnTo>
                    <a:lnTo>
                      <a:pt x="979" y="1512"/>
                    </a:lnTo>
                    <a:lnTo>
                      <a:pt x="984" y="1512"/>
                    </a:lnTo>
                    <a:lnTo>
                      <a:pt x="988" y="1512"/>
                    </a:lnTo>
                    <a:lnTo>
                      <a:pt x="988" y="1517"/>
                    </a:lnTo>
                    <a:lnTo>
                      <a:pt x="993" y="1517"/>
                    </a:lnTo>
                    <a:lnTo>
                      <a:pt x="998" y="1517"/>
                    </a:lnTo>
                    <a:lnTo>
                      <a:pt x="1003" y="1517"/>
                    </a:lnTo>
                    <a:lnTo>
                      <a:pt x="1008" y="1521"/>
                    </a:lnTo>
                    <a:lnTo>
                      <a:pt x="1012" y="1521"/>
                    </a:lnTo>
                    <a:lnTo>
                      <a:pt x="1017" y="1526"/>
                    </a:lnTo>
                    <a:lnTo>
                      <a:pt x="1022" y="1526"/>
                    </a:lnTo>
                    <a:lnTo>
                      <a:pt x="1027" y="1526"/>
                    </a:lnTo>
                    <a:lnTo>
                      <a:pt x="1032" y="1526"/>
                    </a:lnTo>
                    <a:lnTo>
                      <a:pt x="1036" y="1531"/>
                    </a:lnTo>
                    <a:lnTo>
                      <a:pt x="1041" y="1531"/>
                    </a:lnTo>
                    <a:lnTo>
                      <a:pt x="1046" y="1531"/>
                    </a:lnTo>
                    <a:lnTo>
                      <a:pt x="1051" y="1536"/>
                    </a:lnTo>
                    <a:lnTo>
                      <a:pt x="1056" y="1536"/>
                    </a:lnTo>
                    <a:lnTo>
                      <a:pt x="1060" y="1536"/>
                    </a:lnTo>
                    <a:lnTo>
                      <a:pt x="1065" y="1536"/>
                    </a:lnTo>
                    <a:lnTo>
                      <a:pt x="1065" y="1541"/>
                    </a:lnTo>
                    <a:lnTo>
                      <a:pt x="1070" y="1541"/>
                    </a:lnTo>
                    <a:lnTo>
                      <a:pt x="1075" y="1541"/>
                    </a:lnTo>
                    <a:lnTo>
                      <a:pt x="1080" y="1541"/>
                    </a:lnTo>
                    <a:lnTo>
                      <a:pt x="1084" y="1545"/>
                    </a:lnTo>
                    <a:lnTo>
                      <a:pt x="1089" y="1545"/>
                    </a:lnTo>
                    <a:lnTo>
                      <a:pt x="1094" y="1545"/>
                    </a:lnTo>
                    <a:lnTo>
                      <a:pt x="1099" y="1545"/>
                    </a:lnTo>
                    <a:lnTo>
                      <a:pt x="1104" y="1550"/>
                    </a:lnTo>
                    <a:lnTo>
                      <a:pt x="1108" y="1550"/>
                    </a:lnTo>
                    <a:lnTo>
                      <a:pt x="1113" y="1550"/>
                    </a:lnTo>
                    <a:lnTo>
                      <a:pt x="1118" y="1550"/>
                    </a:lnTo>
                    <a:lnTo>
                      <a:pt x="1123" y="1555"/>
                    </a:lnTo>
                    <a:lnTo>
                      <a:pt x="1128" y="1555"/>
                    </a:lnTo>
                    <a:lnTo>
                      <a:pt x="1132" y="1555"/>
                    </a:lnTo>
                    <a:lnTo>
                      <a:pt x="1137" y="1555"/>
                    </a:lnTo>
                    <a:lnTo>
                      <a:pt x="1142" y="1555"/>
                    </a:lnTo>
                    <a:lnTo>
                      <a:pt x="1142" y="1560"/>
                    </a:lnTo>
                    <a:lnTo>
                      <a:pt x="1147" y="1560"/>
                    </a:lnTo>
                    <a:lnTo>
                      <a:pt x="1152" y="1560"/>
                    </a:lnTo>
                    <a:lnTo>
                      <a:pt x="1156" y="1560"/>
                    </a:lnTo>
                    <a:lnTo>
                      <a:pt x="1161" y="1560"/>
                    </a:lnTo>
                    <a:lnTo>
                      <a:pt x="1166" y="1560"/>
                    </a:lnTo>
                    <a:lnTo>
                      <a:pt x="1171" y="1565"/>
                    </a:lnTo>
                    <a:lnTo>
                      <a:pt x="1176" y="1565"/>
                    </a:lnTo>
                    <a:lnTo>
                      <a:pt x="1180" y="1565"/>
                    </a:lnTo>
                    <a:lnTo>
                      <a:pt x="1185" y="1565"/>
                    </a:lnTo>
                    <a:lnTo>
                      <a:pt x="1190" y="1565"/>
                    </a:lnTo>
                    <a:lnTo>
                      <a:pt x="1195" y="1565"/>
                    </a:lnTo>
                    <a:lnTo>
                      <a:pt x="1195" y="1569"/>
                    </a:lnTo>
                    <a:lnTo>
                      <a:pt x="1200" y="1569"/>
                    </a:lnTo>
                    <a:lnTo>
                      <a:pt x="1204" y="1569"/>
                    </a:lnTo>
                    <a:lnTo>
                      <a:pt x="1209" y="1569"/>
                    </a:lnTo>
                    <a:lnTo>
                      <a:pt x="1214" y="1569"/>
                    </a:lnTo>
                    <a:lnTo>
                      <a:pt x="1219" y="1569"/>
                    </a:lnTo>
                    <a:lnTo>
                      <a:pt x="1224" y="1569"/>
                    </a:lnTo>
                    <a:lnTo>
                      <a:pt x="1224" y="1574"/>
                    </a:lnTo>
                    <a:lnTo>
                      <a:pt x="1228" y="1574"/>
                    </a:lnTo>
                    <a:lnTo>
                      <a:pt x="1233" y="1574"/>
                    </a:lnTo>
                    <a:lnTo>
                      <a:pt x="1238" y="1574"/>
                    </a:lnTo>
                    <a:lnTo>
                      <a:pt x="1243" y="1574"/>
                    </a:lnTo>
                    <a:lnTo>
                      <a:pt x="1248" y="1574"/>
                    </a:lnTo>
                    <a:lnTo>
                      <a:pt x="1252" y="1579"/>
                    </a:lnTo>
                    <a:lnTo>
                      <a:pt x="1257" y="1579"/>
                    </a:lnTo>
                    <a:lnTo>
                      <a:pt x="1262" y="1579"/>
                    </a:lnTo>
                    <a:lnTo>
                      <a:pt x="1267" y="1579"/>
                    </a:lnTo>
                    <a:lnTo>
                      <a:pt x="1272" y="1579"/>
                    </a:lnTo>
                    <a:lnTo>
                      <a:pt x="1276" y="1579"/>
                    </a:lnTo>
                    <a:lnTo>
                      <a:pt x="1281" y="1579"/>
                    </a:lnTo>
                    <a:lnTo>
                      <a:pt x="1286" y="1579"/>
                    </a:lnTo>
                    <a:lnTo>
                      <a:pt x="1291" y="1584"/>
                    </a:lnTo>
                    <a:lnTo>
                      <a:pt x="1296" y="1584"/>
                    </a:lnTo>
                    <a:lnTo>
                      <a:pt x="1300" y="1584"/>
                    </a:lnTo>
                    <a:lnTo>
                      <a:pt x="1305" y="1584"/>
                    </a:lnTo>
                    <a:lnTo>
                      <a:pt x="1310" y="1584"/>
                    </a:lnTo>
                    <a:lnTo>
                      <a:pt x="1315" y="1584"/>
                    </a:lnTo>
                    <a:lnTo>
                      <a:pt x="1320" y="1584"/>
                    </a:lnTo>
                    <a:lnTo>
                      <a:pt x="1324" y="1584"/>
                    </a:lnTo>
                    <a:lnTo>
                      <a:pt x="1329" y="1589"/>
                    </a:lnTo>
                    <a:lnTo>
                      <a:pt x="1334" y="1589"/>
                    </a:lnTo>
                    <a:lnTo>
                      <a:pt x="1339" y="1589"/>
                    </a:lnTo>
                    <a:lnTo>
                      <a:pt x="1344" y="1589"/>
                    </a:lnTo>
                    <a:lnTo>
                      <a:pt x="1348" y="1589"/>
                    </a:lnTo>
                    <a:lnTo>
                      <a:pt x="1353" y="1589"/>
                    </a:lnTo>
                    <a:lnTo>
                      <a:pt x="1358" y="1589"/>
                    </a:lnTo>
                    <a:lnTo>
                      <a:pt x="1363" y="1589"/>
                    </a:lnTo>
                    <a:lnTo>
                      <a:pt x="1368" y="1589"/>
                    </a:lnTo>
                    <a:lnTo>
                      <a:pt x="1372" y="1593"/>
                    </a:lnTo>
                    <a:lnTo>
                      <a:pt x="1377" y="1593"/>
                    </a:lnTo>
                    <a:lnTo>
                      <a:pt x="1382" y="1593"/>
                    </a:lnTo>
                    <a:lnTo>
                      <a:pt x="1387" y="1593"/>
                    </a:lnTo>
                    <a:lnTo>
                      <a:pt x="1392" y="1593"/>
                    </a:lnTo>
                    <a:lnTo>
                      <a:pt x="1396" y="1593"/>
                    </a:lnTo>
                    <a:lnTo>
                      <a:pt x="1401" y="1593"/>
                    </a:lnTo>
                    <a:lnTo>
                      <a:pt x="1406" y="1593"/>
                    </a:lnTo>
                    <a:lnTo>
                      <a:pt x="1411" y="1593"/>
                    </a:lnTo>
                    <a:lnTo>
                      <a:pt x="1416" y="1593"/>
                    </a:lnTo>
                    <a:lnTo>
                      <a:pt x="1420" y="1598"/>
                    </a:lnTo>
                    <a:lnTo>
                      <a:pt x="1425" y="1598"/>
                    </a:lnTo>
                    <a:lnTo>
                      <a:pt x="1430" y="1598"/>
                    </a:lnTo>
                    <a:lnTo>
                      <a:pt x="1435" y="1598"/>
                    </a:lnTo>
                    <a:lnTo>
                      <a:pt x="1440" y="1598"/>
                    </a:lnTo>
                    <a:lnTo>
                      <a:pt x="1444" y="1598"/>
                    </a:lnTo>
                    <a:lnTo>
                      <a:pt x="1449" y="1598"/>
                    </a:lnTo>
                    <a:lnTo>
                      <a:pt x="1454" y="1598"/>
                    </a:lnTo>
                    <a:lnTo>
                      <a:pt x="1459" y="1598"/>
                    </a:lnTo>
                    <a:lnTo>
                      <a:pt x="1464" y="1598"/>
                    </a:lnTo>
                    <a:lnTo>
                      <a:pt x="1468" y="1598"/>
                    </a:lnTo>
                    <a:lnTo>
                      <a:pt x="1473" y="1598"/>
                    </a:lnTo>
                    <a:lnTo>
                      <a:pt x="1478" y="1598"/>
                    </a:lnTo>
                    <a:lnTo>
                      <a:pt x="1483" y="1603"/>
                    </a:lnTo>
                    <a:lnTo>
                      <a:pt x="1488" y="1603"/>
                    </a:lnTo>
                    <a:lnTo>
                      <a:pt x="1492" y="1603"/>
                    </a:lnTo>
                    <a:lnTo>
                      <a:pt x="1497" y="1603"/>
                    </a:lnTo>
                    <a:lnTo>
                      <a:pt x="1502" y="1603"/>
                    </a:lnTo>
                    <a:lnTo>
                      <a:pt x="1507" y="1603"/>
                    </a:lnTo>
                    <a:lnTo>
                      <a:pt x="1512" y="1603"/>
                    </a:lnTo>
                    <a:lnTo>
                      <a:pt x="1516" y="1603"/>
                    </a:lnTo>
                    <a:lnTo>
                      <a:pt x="1521" y="1603"/>
                    </a:lnTo>
                    <a:lnTo>
                      <a:pt x="1526" y="1603"/>
                    </a:lnTo>
                    <a:lnTo>
                      <a:pt x="1531" y="1603"/>
                    </a:lnTo>
                    <a:lnTo>
                      <a:pt x="1536" y="1603"/>
                    </a:lnTo>
                    <a:lnTo>
                      <a:pt x="1540" y="1603"/>
                    </a:lnTo>
                    <a:lnTo>
                      <a:pt x="1545" y="1608"/>
                    </a:lnTo>
                    <a:lnTo>
                      <a:pt x="1550" y="1608"/>
                    </a:lnTo>
                    <a:lnTo>
                      <a:pt x="1555" y="1608"/>
                    </a:lnTo>
                    <a:lnTo>
                      <a:pt x="1560" y="1608"/>
                    </a:lnTo>
                    <a:lnTo>
                      <a:pt x="1564" y="1608"/>
                    </a:lnTo>
                    <a:lnTo>
                      <a:pt x="1569" y="1608"/>
                    </a:lnTo>
                    <a:lnTo>
                      <a:pt x="1574" y="1608"/>
                    </a:lnTo>
                    <a:lnTo>
                      <a:pt x="1579" y="1608"/>
                    </a:lnTo>
                    <a:lnTo>
                      <a:pt x="1584" y="1608"/>
                    </a:lnTo>
                    <a:lnTo>
                      <a:pt x="1588" y="1608"/>
                    </a:lnTo>
                    <a:lnTo>
                      <a:pt x="1593" y="1608"/>
                    </a:lnTo>
                    <a:lnTo>
                      <a:pt x="1598" y="1608"/>
                    </a:lnTo>
                    <a:lnTo>
                      <a:pt x="1603" y="1608"/>
                    </a:lnTo>
                    <a:lnTo>
                      <a:pt x="1608" y="1608"/>
                    </a:lnTo>
                    <a:lnTo>
                      <a:pt x="1612" y="1608"/>
                    </a:lnTo>
                    <a:lnTo>
                      <a:pt x="1617" y="1608"/>
                    </a:lnTo>
                    <a:lnTo>
                      <a:pt x="1622" y="1608"/>
                    </a:lnTo>
                    <a:lnTo>
                      <a:pt x="1627" y="1608"/>
                    </a:lnTo>
                    <a:lnTo>
                      <a:pt x="1632" y="1613"/>
                    </a:lnTo>
                    <a:lnTo>
                      <a:pt x="1636" y="1613"/>
                    </a:lnTo>
                    <a:lnTo>
                      <a:pt x="1641" y="1613"/>
                    </a:lnTo>
                    <a:lnTo>
                      <a:pt x="1646" y="1613"/>
                    </a:lnTo>
                    <a:lnTo>
                      <a:pt x="1651" y="1613"/>
                    </a:lnTo>
                    <a:lnTo>
                      <a:pt x="1656" y="1613"/>
                    </a:lnTo>
                    <a:lnTo>
                      <a:pt x="1660" y="1613"/>
                    </a:lnTo>
                    <a:lnTo>
                      <a:pt x="1665" y="1613"/>
                    </a:lnTo>
                    <a:lnTo>
                      <a:pt x="1670" y="1613"/>
                    </a:lnTo>
                    <a:lnTo>
                      <a:pt x="1675" y="1613"/>
                    </a:lnTo>
                    <a:lnTo>
                      <a:pt x="1680" y="1613"/>
                    </a:lnTo>
                    <a:lnTo>
                      <a:pt x="1684" y="1613"/>
                    </a:lnTo>
                    <a:lnTo>
                      <a:pt x="1689" y="1613"/>
                    </a:lnTo>
                    <a:lnTo>
                      <a:pt x="1694" y="1613"/>
                    </a:lnTo>
                    <a:lnTo>
                      <a:pt x="1699" y="1613"/>
                    </a:lnTo>
                    <a:lnTo>
                      <a:pt x="1704" y="1613"/>
                    </a:lnTo>
                    <a:lnTo>
                      <a:pt x="1708" y="1613"/>
                    </a:lnTo>
                    <a:lnTo>
                      <a:pt x="1713" y="1613"/>
                    </a:lnTo>
                    <a:lnTo>
                      <a:pt x="1718" y="1613"/>
                    </a:lnTo>
                    <a:lnTo>
                      <a:pt x="1723" y="1613"/>
                    </a:lnTo>
                    <a:lnTo>
                      <a:pt x="1728" y="1613"/>
                    </a:lnTo>
                    <a:lnTo>
                      <a:pt x="1732" y="1613"/>
                    </a:lnTo>
                    <a:lnTo>
                      <a:pt x="1737" y="1613"/>
                    </a:lnTo>
                    <a:lnTo>
                      <a:pt x="1742" y="1617"/>
                    </a:lnTo>
                    <a:lnTo>
                      <a:pt x="1747" y="1617"/>
                    </a:lnTo>
                    <a:lnTo>
                      <a:pt x="1752" y="1617"/>
                    </a:lnTo>
                    <a:lnTo>
                      <a:pt x="1756" y="1617"/>
                    </a:lnTo>
                    <a:lnTo>
                      <a:pt x="1761" y="1617"/>
                    </a:lnTo>
                    <a:lnTo>
                      <a:pt x="1766" y="1617"/>
                    </a:lnTo>
                    <a:lnTo>
                      <a:pt x="1771" y="1617"/>
                    </a:lnTo>
                    <a:lnTo>
                      <a:pt x="1776" y="1617"/>
                    </a:lnTo>
                    <a:lnTo>
                      <a:pt x="1780" y="1617"/>
                    </a:lnTo>
                    <a:lnTo>
                      <a:pt x="1785" y="1617"/>
                    </a:lnTo>
                    <a:lnTo>
                      <a:pt x="1790" y="1617"/>
                    </a:lnTo>
                    <a:lnTo>
                      <a:pt x="1795" y="1617"/>
                    </a:lnTo>
                    <a:lnTo>
                      <a:pt x="1800" y="1617"/>
                    </a:lnTo>
                    <a:lnTo>
                      <a:pt x="1804" y="1617"/>
                    </a:lnTo>
                    <a:lnTo>
                      <a:pt x="1809" y="1617"/>
                    </a:lnTo>
                    <a:lnTo>
                      <a:pt x="1814" y="1617"/>
                    </a:lnTo>
                    <a:lnTo>
                      <a:pt x="1819" y="1617"/>
                    </a:lnTo>
                    <a:lnTo>
                      <a:pt x="1824" y="1617"/>
                    </a:lnTo>
                    <a:lnTo>
                      <a:pt x="1828" y="1617"/>
                    </a:lnTo>
                    <a:lnTo>
                      <a:pt x="1833" y="1617"/>
                    </a:lnTo>
                    <a:lnTo>
                      <a:pt x="1838" y="1617"/>
                    </a:lnTo>
                    <a:lnTo>
                      <a:pt x="1843" y="1617"/>
                    </a:lnTo>
                    <a:lnTo>
                      <a:pt x="1848" y="1617"/>
                    </a:lnTo>
                    <a:lnTo>
                      <a:pt x="1852" y="1617"/>
                    </a:lnTo>
                    <a:lnTo>
                      <a:pt x="1857" y="1617"/>
                    </a:lnTo>
                    <a:lnTo>
                      <a:pt x="1862" y="1617"/>
                    </a:lnTo>
                    <a:lnTo>
                      <a:pt x="1867" y="1617"/>
                    </a:lnTo>
                    <a:lnTo>
                      <a:pt x="1872" y="1617"/>
                    </a:lnTo>
                    <a:lnTo>
                      <a:pt x="1876" y="1617"/>
                    </a:lnTo>
                    <a:lnTo>
                      <a:pt x="1881" y="1617"/>
                    </a:lnTo>
                    <a:lnTo>
                      <a:pt x="1886" y="1617"/>
                    </a:lnTo>
                    <a:lnTo>
                      <a:pt x="1891" y="1617"/>
                    </a:lnTo>
                    <a:lnTo>
                      <a:pt x="1896" y="1617"/>
                    </a:lnTo>
                    <a:lnTo>
                      <a:pt x="1900" y="1617"/>
                    </a:lnTo>
                    <a:lnTo>
                      <a:pt x="1905" y="1617"/>
                    </a:lnTo>
                    <a:lnTo>
                      <a:pt x="1910" y="1617"/>
                    </a:lnTo>
                    <a:lnTo>
                      <a:pt x="1915" y="1622"/>
                    </a:lnTo>
                    <a:lnTo>
                      <a:pt x="1920" y="1622"/>
                    </a:lnTo>
                    <a:lnTo>
                      <a:pt x="1924" y="1622"/>
                    </a:lnTo>
                    <a:lnTo>
                      <a:pt x="1929" y="1622"/>
                    </a:lnTo>
                    <a:lnTo>
                      <a:pt x="1934" y="1622"/>
                    </a:lnTo>
                    <a:lnTo>
                      <a:pt x="1939" y="1622"/>
                    </a:lnTo>
                    <a:lnTo>
                      <a:pt x="1944" y="1622"/>
                    </a:lnTo>
                    <a:lnTo>
                      <a:pt x="1948" y="1622"/>
                    </a:lnTo>
                    <a:lnTo>
                      <a:pt x="1953" y="1622"/>
                    </a:lnTo>
                    <a:lnTo>
                      <a:pt x="1958" y="1622"/>
                    </a:lnTo>
                    <a:lnTo>
                      <a:pt x="1963" y="1622"/>
                    </a:lnTo>
                    <a:lnTo>
                      <a:pt x="1968" y="1622"/>
                    </a:lnTo>
                    <a:lnTo>
                      <a:pt x="1972" y="1622"/>
                    </a:lnTo>
                    <a:lnTo>
                      <a:pt x="1977" y="1622"/>
                    </a:lnTo>
                    <a:lnTo>
                      <a:pt x="1982" y="1622"/>
                    </a:lnTo>
                    <a:lnTo>
                      <a:pt x="1987" y="1622"/>
                    </a:lnTo>
                    <a:lnTo>
                      <a:pt x="1992" y="1622"/>
                    </a:lnTo>
                    <a:lnTo>
                      <a:pt x="1996" y="1622"/>
                    </a:lnTo>
                    <a:lnTo>
                      <a:pt x="2001" y="1622"/>
                    </a:lnTo>
                    <a:lnTo>
                      <a:pt x="2006" y="1622"/>
                    </a:lnTo>
                    <a:lnTo>
                      <a:pt x="2011" y="1622"/>
                    </a:lnTo>
                    <a:lnTo>
                      <a:pt x="2016" y="1622"/>
                    </a:lnTo>
                    <a:lnTo>
                      <a:pt x="2020" y="1622"/>
                    </a:lnTo>
                    <a:lnTo>
                      <a:pt x="2025" y="1622"/>
                    </a:lnTo>
                    <a:lnTo>
                      <a:pt x="2030" y="1622"/>
                    </a:lnTo>
                    <a:lnTo>
                      <a:pt x="2035" y="1622"/>
                    </a:lnTo>
                    <a:lnTo>
                      <a:pt x="2040" y="1622"/>
                    </a:lnTo>
                    <a:lnTo>
                      <a:pt x="2044" y="1622"/>
                    </a:lnTo>
                    <a:lnTo>
                      <a:pt x="2049" y="1622"/>
                    </a:lnTo>
                    <a:lnTo>
                      <a:pt x="2054" y="1622"/>
                    </a:lnTo>
                    <a:lnTo>
                      <a:pt x="2059" y="1622"/>
                    </a:lnTo>
                    <a:lnTo>
                      <a:pt x="2064" y="1622"/>
                    </a:lnTo>
                    <a:lnTo>
                      <a:pt x="2068" y="1622"/>
                    </a:lnTo>
                    <a:lnTo>
                      <a:pt x="2073" y="1622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18680" y="61545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28760" y="35942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73840" y="63626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603960" y="6321600"/>
                <a:ext cx="325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843000" y="5975280"/>
                <a:ext cx="37692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80400" y="3263760"/>
                <a:ext cx="964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200" spc="-1" strike="noStrike">
                    <a:solidFill>
                      <a:srgbClr val="ffff00"/>
                    </a:solidFill>
                    <a:latin typeface="Times New Roman"/>
                  </a:rPr>
                  <a:t>|G(</a:t>
                </a:r>
                <a:r>
                  <a:rPr b="0" i="1" lang="hr-HR" sz="22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r>
                  <a:rPr b="0" lang="hr-HR" sz="2200" spc="-1" strike="noStrike" baseline="30000">
                    <a:solidFill>
                      <a:srgbClr val="ffff00"/>
                    </a:solidFill>
                    <a:latin typeface="Times New Roman"/>
                  </a:rPr>
                  <a:t>j</a:t>
                </a:r>
                <a:r>
                  <a:rPr b="0" lang="hr-HR" sz="2200" spc="-1" strike="noStrike" baseline="30000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2200" spc="-1" strike="noStrike">
                    <a:solidFill>
                      <a:srgbClr val="ffff00"/>
                    </a:solidFill>
                    <a:latin typeface="Times New Roman"/>
                  </a:rPr>
                  <a:t>)|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4870080" y="3179880"/>
              <a:ext cx="4132800" cy="3397680"/>
              <a:chOff x="4870080" y="3179880"/>
              <a:chExt cx="4132800" cy="3397680"/>
            </a:xfrm>
          </p:grpSpPr>
          <p:sp>
            <p:nvSpPr>
              <p:cNvPr id="860" name=""/>
              <p:cNvSpPr/>
              <p:nvPr/>
            </p:nvSpPr>
            <p:spPr>
              <a:xfrm flipV="1">
                <a:off x="5347800" y="378792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5959080" y="378792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6564240" y="378792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7176960" y="378792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7780680" y="378792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8393040" y="378792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347800" y="638640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347800" y="586728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347800" y="534996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347800" y="482436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347800" y="430524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347800" y="378792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347800" y="3787920"/>
                <a:ext cx="3046320" cy="2600280"/>
              </a:xfrm>
              <a:custGeom>
                <a:avLst/>
                <a:gdLst/>
                <a:ahLst/>
                <a:rect l="l" t="t" r="r" b="b"/>
                <a:pathLst>
                  <a:path w="2079" h="1638">
                    <a:moveTo>
                      <a:pt x="0" y="1637"/>
                    </a:moveTo>
                    <a:lnTo>
                      <a:pt x="0" y="0"/>
                    </a:lnTo>
                    <a:lnTo>
                      <a:pt x="207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347800" y="3787920"/>
                <a:ext cx="3046320" cy="2600280"/>
              </a:xfrm>
              <a:custGeom>
                <a:avLst/>
                <a:gdLst/>
                <a:ahLst/>
                <a:rect l="l" t="t" r="r" b="b"/>
                <a:pathLst>
                  <a:path w="2079" h="1638">
                    <a:moveTo>
                      <a:pt x="0" y="1637"/>
                    </a:moveTo>
                    <a:lnTo>
                      <a:pt x="0" y="0"/>
                    </a:lnTo>
                    <a:lnTo>
                      <a:pt x="207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347800" y="3787920"/>
                <a:ext cx="3046320" cy="2600280"/>
              </a:xfrm>
              <a:custGeom>
                <a:avLst/>
                <a:gdLst/>
                <a:ahLst/>
                <a:rect l="l" t="t" r="r" b="b"/>
                <a:pathLst>
                  <a:path w="2079" h="1638">
                    <a:moveTo>
                      <a:pt x="0" y="1637"/>
                    </a:moveTo>
                    <a:lnTo>
                      <a:pt x="0" y="0"/>
                    </a:lnTo>
                    <a:lnTo>
                      <a:pt x="207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347800" y="638640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347800" y="378792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5347800" y="378792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8393040" y="378792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47800" y="378792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347800" y="6386400"/>
                <a:ext cx="3045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5347800" y="378792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347800" y="638640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5347800" y="635472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347800" y="3787920"/>
                <a:ext cx="0" cy="29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5959080" y="635472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959080" y="3787920"/>
                <a:ext cx="0" cy="29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6564240" y="635472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564240" y="3787920"/>
                <a:ext cx="0" cy="29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7176960" y="635472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76960" y="3787920"/>
                <a:ext cx="0" cy="29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7780680" y="635472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780680" y="3787920"/>
                <a:ext cx="0" cy="29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8393040" y="635472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393040" y="3787920"/>
                <a:ext cx="0" cy="29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347800" y="638640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8364960" y="638640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347800" y="586728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8364960" y="586728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347800" y="534996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8364960" y="534996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347800" y="482436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8364960" y="482436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347800" y="430524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8364960" y="430524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347800" y="378792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8364960" y="3787920"/>
                <a:ext cx="27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5347800" y="6381360"/>
                <a:ext cx="3049560" cy="4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347800" y="3787920"/>
                <a:ext cx="33559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5347800" y="3487680"/>
                <a:ext cx="4320" cy="28987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8393040" y="3787920"/>
                <a:ext cx="0" cy="2598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7800" y="6386400"/>
                <a:ext cx="2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7800" y="3787920"/>
                <a:ext cx="3039120" cy="2592360"/>
              </a:xfrm>
              <a:custGeom>
                <a:avLst/>
                <a:gdLst/>
                <a:ahLst/>
                <a:rect l="l" t="t" r="r" b="b"/>
                <a:pathLst>
                  <a:path w="2074" h="1633">
                    <a:moveTo>
                      <a:pt x="0" y="0"/>
                    </a:moveTo>
                    <a:lnTo>
                      <a:pt x="4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4" y="24"/>
                    </a:lnTo>
                    <a:lnTo>
                      <a:pt x="19" y="29"/>
                    </a:lnTo>
                    <a:lnTo>
                      <a:pt x="24" y="33"/>
                    </a:lnTo>
                    <a:lnTo>
                      <a:pt x="28" y="38"/>
                    </a:lnTo>
                    <a:lnTo>
                      <a:pt x="33" y="43"/>
                    </a:lnTo>
                    <a:lnTo>
                      <a:pt x="38" y="48"/>
                    </a:lnTo>
                    <a:lnTo>
                      <a:pt x="38" y="53"/>
                    </a:lnTo>
                    <a:lnTo>
                      <a:pt x="43" y="62"/>
                    </a:lnTo>
                    <a:lnTo>
                      <a:pt x="48" y="67"/>
                    </a:lnTo>
                    <a:lnTo>
                      <a:pt x="52" y="72"/>
                    </a:lnTo>
                    <a:lnTo>
                      <a:pt x="57" y="77"/>
                    </a:lnTo>
                    <a:lnTo>
                      <a:pt x="62" y="81"/>
                    </a:lnTo>
                    <a:lnTo>
                      <a:pt x="67" y="86"/>
                    </a:lnTo>
                    <a:lnTo>
                      <a:pt x="67" y="96"/>
                    </a:lnTo>
                    <a:lnTo>
                      <a:pt x="72" y="101"/>
                    </a:lnTo>
                    <a:lnTo>
                      <a:pt x="76" y="105"/>
                    </a:lnTo>
                    <a:lnTo>
                      <a:pt x="81" y="110"/>
                    </a:lnTo>
                    <a:lnTo>
                      <a:pt x="86" y="115"/>
                    </a:lnTo>
                    <a:lnTo>
                      <a:pt x="91" y="120"/>
                    </a:lnTo>
                    <a:lnTo>
                      <a:pt x="91" y="129"/>
                    </a:lnTo>
                    <a:lnTo>
                      <a:pt x="96" y="134"/>
                    </a:lnTo>
                    <a:lnTo>
                      <a:pt x="100" y="139"/>
                    </a:lnTo>
                    <a:lnTo>
                      <a:pt x="105" y="144"/>
                    </a:lnTo>
                    <a:lnTo>
                      <a:pt x="110" y="149"/>
                    </a:lnTo>
                    <a:lnTo>
                      <a:pt x="115" y="153"/>
                    </a:lnTo>
                    <a:lnTo>
                      <a:pt x="120" y="163"/>
                    </a:lnTo>
                    <a:lnTo>
                      <a:pt x="120" y="168"/>
                    </a:lnTo>
                    <a:lnTo>
                      <a:pt x="124" y="173"/>
                    </a:lnTo>
                    <a:lnTo>
                      <a:pt x="129" y="177"/>
                    </a:lnTo>
                    <a:lnTo>
                      <a:pt x="134" y="182"/>
                    </a:lnTo>
                    <a:lnTo>
                      <a:pt x="139" y="192"/>
                    </a:lnTo>
                    <a:lnTo>
                      <a:pt x="144" y="197"/>
                    </a:lnTo>
                    <a:lnTo>
                      <a:pt x="144" y="201"/>
                    </a:lnTo>
                    <a:lnTo>
                      <a:pt x="148" y="206"/>
                    </a:lnTo>
                    <a:lnTo>
                      <a:pt x="153" y="216"/>
                    </a:lnTo>
                    <a:lnTo>
                      <a:pt x="158" y="221"/>
                    </a:lnTo>
                    <a:lnTo>
                      <a:pt x="163" y="225"/>
                    </a:lnTo>
                    <a:lnTo>
                      <a:pt x="168" y="230"/>
                    </a:lnTo>
                    <a:lnTo>
                      <a:pt x="172" y="240"/>
                    </a:lnTo>
                    <a:lnTo>
                      <a:pt x="172" y="245"/>
                    </a:lnTo>
                    <a:lnTo>
                      <a:pt x="177" y="249"/>
                    </a:lnTo>
                    <a:lnTo>
                      <a:pt x="182" y="254"/>
                    </a:lnTo>
                    <a:lnTo>
                      <a:pt x="187" y="264"/>
                    </a:lnTo>
                    <a:lnTo>
                      <a:pt x="192" y="269"/>
                    </a:lnTo>
                    <a:lnTo>
                      <a:pt x="196" y="273"/>
                    </a:lnTo>
                    <a:lnTo>
                      <a:pt x="196" y="283"/>
                    </a:lnTo>
                    <a:lnTo>
                      <a:pt x="201" y="288"/>
                    </a:lnTo>
                    <a:lnTo>
                      <a:pt x="206" y="293"/>
                    </a:lnTo>
                    <a:lnTo>
                      <a:pt x="211" y="302"/>
                    </a:lnTo>
                    <a:lnTo>
                      <a:pt x="216" y="307"/>
                    </a:lnTo>
                    <a:lnTo>
                      <a:pt x="220" y="312"/>
                    </a:lnTo>
                    <a:lnTo>
                      <a:pt x="225" y="321"/>
                    </a:lnTo>
                    <a:lnTo>
                      <a:pt x="225" y="326"/>
                    </a:lnTo>
                    <a:lnTo>
                      <a:pt x="230" y="331"/>
                    </a:lnTo>
                    <a:lnTo>
                      <a:pt x="235" y="341"/>
                    </a:lnTo>
                    <a:lnTo>
                      <a:pt x="240" y="345"/>
                    </a:lnTo>
                    <a:lnTo>
                      <a:pt x="244" y="350"/>
                    </a:lnTo>
                    <a:lnTo>
                      <a:pt x="249" y="360"/>
                    </a:lnTo>
                    <a:lnTo>
                      <a:pt x="249" y="365"/>
                    </a:lnTo>
                    <a:lnTo>
                      <a:pt x="254" y="374"/>
                    </a:lnTo>
                    <a:lnTo>
                      <a:pt x="259" y="379"/>
                    </a:lnTo>
                    <a:lnTo>
                      <a:pt x="264" y="389"/>
                    </a:lnTo>
                    <a:lnTo>
                      <a:pt x="268" y="393"/>
                    </a:lnTo>
                    <a:lnTo>
                      <a:pt x="273" y="398"/>
                    </a:lnTo>
                    <a:lnTo>
                      <a:pt x="278" y="408"/>
                    </a:lnTo>
                    <a:lnTo>
                      <a:pt x="278" y="413"/>
                    </a:lnTo>
                    <a:lnTo>
                      <a:pt x="283" y="422"/>
                    </a:lnTo>
                    <a:lnTo>
                      <a:pt x="288" y="427"/>
                    </a:lnTo>
                    <a:lnTo>
                      <a:pt x="292" y="437"/>
                    </a:lnTo>
                    <a:lnTo>
                      <a:pt x="297" y="441"/>
                    </a:lnTo>
                    <a:lnTo>
                      <a:pt x="302" y="451"/>
                    </a:lnTo>
                    <a:lnTo>
                      <a:pt x="302" y="456"/>
                    </a:lnTo>
                    <a:lnTo>
                      <a:pt x="307" y="465"/>
                    </a:lnTo>
                    <a:lnTo>
                      <a:pt x="312" y="470"/>
                    </a:lnTo>
                    <a:lnTo>
                      <a:pt x="316" y="480"/>
                    </a:lnTo>
                    <a:lnTo>
                      <a:pt x="321" y="485"/>
                    </a:lnTo>
                    <a:lnTo>
                      <a:pt x="326" y="494"/>
                    </a:lnTo>
                    <a:lnTo>
                      <a:pt x="331" y="504"/>
                    </a:lnTo>
                    <a:lnTo>
                      <a:pt x="331" y="509"/>
                    </a:lnTo>
                    <a:lnTo>
                      <a:pt x="336" y="518"/>
                    </a:lnTo>
                    <a:lnTo>
                      <a:pt x="340" y="523"/>
                    </a:lnTo>
                    <a:lnTo>
                      <a:pt x="345" y="533"/>
                    </a:lnTo>
                    <a:lnTo>
                      <a:pt x="350" y="537"/>
                    </a:lnTo>
                    <a:lnTo>
                      <a:pt x="355" y="547"/>
                    </a:lnTo>
                    <a:lnTo>
                      <a:pt x="355" y="552"/>
                    </a:lnTo>
                    <a:lnTo>
                      <a:pt x="360" y="561"/>
                    </a:lnTo>
                    <a:lnTo>
                      <a:pt x="364" y="566"/>
                    </a:lnTo>
                    <a:lnTo>
                      <a:pt x="369" y="576"/>
                    </a:lnTo>
                    <a:lnTo>
                      <a:pt x="374" y="581"/>
                    </a:lnTo>
                    <a:lnTo>
                      <a:pt x="379" y="590"/>
                    </a:lnTo>
                    <a:lnTo>
                      <a:pt x="379" y="595"/>
                    </a:lnTo>
                    <a:lnTo>
                      <a:pt x="384" y="605"/>
                    </a:lnTo>
                    <a:lnTo>
                      <a:pt x="388" y="609"/>
                    </a:lnTo>
                    <a:lnTo>
                      <a:pt x="393" y="619"/>
                    </a:lnTo>
                    <a:lnTo>
                      <a:pt x="398" y="624"/>
                    </a:lnTo>
                    <a:lnTo>
                      <a:pt x="403" y="633"/>
                    </a:lnTo>
                    <a:lnTo>
                      <a:pt x="408" y="638"/>
                    </a:lnTo>
                    <a:lnTo>
                      <a:pt x="408" y="648"/>
                    </a:lnTo>
                    <a:lnTo>
                      <a:pt x="412" y="653"/>
                    </a:lnTo>
                    <a:lnTo>
                      <a:pt x="417" y="662"/>
                    </a:lnTo>
                    <a:lnTo>
                      <a:pt x="422" y="667"/>
                    </a:lnTo>
                    <a:lnTo>
                      <a:pt x="427" y="672"/>
                    </a:lnTo>
                    <a:lnTo>
                      <a:pt x="432" y="681"/>
                    </a:lnTo>
                    <a:lnTo>
                      <a:pt x="432" y="686"/>
                    </a:lnTo>
                    <a:lnTo>
                      <a:pt x="436" y="691"/>
                    </a:lnTo>
                    <a:lnTo>
                      <a:pt x="441" y="701"/>
                    </a:lnTo>
                    <a:lnTo>
                      <a:pt x="446" y="705"/>
                    </a:lnTo>
                    <a:lnTo>
                      <a:pt x="451" y="710"/>
                    </a:lnTo>
                    <a:lnTo>
                      <a:pt x="456" y="720"/>
                    </a:lnTo>
                    <a:lnTo>
                      <a:pt x="460" y="725"/>
                    </a:lnTo>
                    <a:lnTo>
                      <a:pt x="460" y="729"/>
                    </a:lnTo>
                    <a:lnTo>
                      <a:pt x="465" y="734"/>
                    </a:lnTo>
                    <a:lnTo>
                      <a:pt x="470" y="744"/>
                    </a:lnTo>
                    <a:lnTo>
                      <a:pt x="475" y="749"/>
                    </a:lnTo>
                    <a:lnTo>
                      <a:pt x="480" y="753"/>
                    </a:lnTo>
                    <a:lnTo>
                      <a:pt x="484" y="758"/>
                    </a:lnTo>
                    <a:lnTo>
                      <a:pt x="484" y="763"/>
                    </a:lnTo>
                    <a:lnTo>
                      <a:pt x="489" y="773"/>
                    </a:lnTo>
                    <a:lnTo>
                      <a:pt x="494" y="777"/>
                    </a:lnTo>
                    <a:lnTo>
                      <a:pt x="499" y="782"/>
                    </a:lnTo>
                    <a:lnTo>
                      <a:pt x="504" y="787"/>
                    </a:lnTo>
                    <a:lnTo>
                      <a:pt x="508" y="792"/>
                    </a:lnTo>
                    <a:lnTo>
                      <a:pt x="513" y="797"/>
                    </a:lnTo>
                    <a:lnTo>
                      <a:pt x="513" y="801"/>
                    </a:lnTo>
                    <a:lnTo>
                      <a:pt x="518" y="806"/>
                    </a:lnTo>
                    <a:lnTo>
                      <a:pt x="523" y="811"/>
                    </a:lnTo>
                    <a:lnTo>
                      <a:pt x="528" y="816"/>
                    </a:lnTo>
                    <a:lnTo>
                      <a:pt x="532" y="821"/>
                    </a:lnTo>
                    <a:lnTo>
                      <a:pt x="537" y="825"/>
                    </a:lnTo>
                    <a:lnTo>
                      <a:pt x="537" y="830"/>
                    </a:lnTo>
                    <a:lnTo>
                      <a:pt x="542" y="835"/>
                    </a:lnTo>
                    <a:lnTo>
                      <a:pt x="547" y="840"/>
                    </a:lnTo>
                    <a:lnTo>
                      <a:pt x="552" y="845"/>
                    </a:lnTo>
                    <a:lnTo>
                      <a:pt x="556" y="849"/>
                    </a:lnTo>
                    <a:lnTo>
                      <a:pt x="561" y="854"/>
                    </a:lnTo>
                    <a:lnTo>
                      <a:pt x="566" y="854"/>
                    </a:lnTo>
                    <a:lnTo>
                      <a:pt x="566" y="859"/>
                    </a:lnTo>
                    <a:lnTo>
                      <a:pt x="571" y="864"/>
                    </a:lnTo>
                    <a:lnTo>
                      <a:pt x="576" y="869"/>
                    </a:lnTo>
                    <a:lnTo>
                      <a:pt x="580" y="873"/>
                    </a:lnTo>
                    <a:lnTo>
                      <a:pt x="585" y="878"/>
                    </a:lnTo>
                    <a:lnTo>
                      <a:pt x="590" y="883"/>
                    </a:lnTo>
                    <a:lnTo>
                      <a:pt x="595" y="888"/>
                    </a:lnTo>
                    <a:lnTo>
                      <a:pt x="600" y="893"/>
                    </a:lnTo>
                    <a:lnTo>
                      <a:pt x="604" y="897"/>
                    </a:lnTo>
                    <a:lnTo>
                      <a:pt x="609" y="897"/>
                    </a:lnTo>
                    <a:lnTo>
                      <a:pt x="614" y="902"/>
                    </a:lnTo>
                    <a:lnTo>
                      <a:pt x="619" y="907"/>
                    </a:lnTo>
                    <a:lnTo>
                      <a:pt x="619" y="912"/>
                    </a:lnTo>
                    <a:lnTo>
                      <a:pt x="624" y="912"/>
                    </a:lnTo>
                    <a:lnTo>
                      <a:pt x="628" y="917"/>
                    </a:lnTo>
                    <a:lnTo>
                      <a:pt x="633" y="921"/>
                    </a:lnTo>
                    <a:lnTo>
                      <a:pt x="638" y="921"/>
                    </a:lnTo>
                    <a:lnTo>
                      <a:pt x="643" y="926"/>
                    </a:lnTo>
                    <a:lnTo>
                      <a:pt x="643" y="931"/>
                    </a:lnTo>
                    <a:lnTo>
                      <a:pt x="648" y="931"/>
                    </a:lnTo>
                    <a:lnTo>
                      <a:pt x="652" y="936"/>
                    </a:lnTo>
                    <a:lnTo>
                      <a:pt x="657" y="941"/>
                    </a:lnTo>
                    <a:lnTo>
                      <a:pt x="662" y="941"/>
                    </a:lnTo>
                    <a:lnTo>
                      <a:pt x="667" y="945"/>
                    </a:lnTo>
                    <a:lnTo>
                      <a:pt x="672" y="950"/>
                    </a:lnTo>
                    <a:lnTo>
                      <a:pt x="676" y="955"/>
                    </a:lnTo>
                    <a:lnTo>
                      <a:pt x="681" y="955"/>
                    </a:lnTo>
                    <a:lnTo>
                      <a:pt x="686" y="960"/>
                    </a:lnTo>
                    <a:lnTo>
                      <a:pt x="691" y="965"/>
                    </a:lnTo>
                    <a:lnTo>
                      <a:pt x="696" y="965"/>
                    </a:lnTo>
                    <a:lnTo>
                      <a:pt x="696" y="969"/>
                    </a:lnTo>
                    <a:lnTo>
                      <a:pt x="700" y="969"/>
                    </a:lnTo>
                    <a:lnTo>
                      <a:pt x="705" y="974"/>
                    </a:lnTo>
                    <a:lnTo>
                      <a:pt x="710" y="974"/>
                    </a:lnTo>
                    <a:lnTo>
                      <a:pt x="715" y="979"/>
                    </a:lnTo>
                    <a:lnTo>
                      <a:pt x="720" y="984"/>
                    </a:lnTo>
                    <a:lnTo>
                      <a:pt x="724" y="984"/>
                    </a:lnTo>
                    <a:lnTo>
                      <a:pt x="724" y="989"/>
                    </a:lnTo>
                    <a:lnTo>
                      <a:pt x="729" y="989"/>
                    </a:lnTo>
                    <a:lnTo>
                      <a:pt x="734" y="993"/>
                    </a:lnTo>
                    <a:lnTo>
                      <a:pt x="739" y="993"/>
                    </a:lnTo>
                    <a:lnTo>
                      <a:pt x="744" y="998"/>
                    </a:lnTo>
                    <a:lnTo>
                      <a:pt x="748" y="998"/>
                    </a:lnTo>
                    <a:lnTo>
                      <a:pt x="748" y="1003"/>
                    </a:lnTo>
                    <a:lnTo>
                      <a:pt x="753" y="1003"/>
                    </a:lnTo>
                    <a:lnTo>
                      <a:pt x="758" y="1008"/>
                    </a:lnTo>
                    <a:lnTo>
                      <a:pt x="763" y="1008"/>
                    </a:lnTo>
                    <a:lnTo>
                      <a:pt x="768" y="1013"/>
                    </a:lnTo>
                    <a:lnTo>
                      <a:pt x="772" y="1013"/>
                    </a:lnTo>
                    <a:lnTo>
                      <a:pt x="777" y="1017"/>
                    </a:lnTo>
                    <a:lnTo>
                      <a:pt x="782" y="1022"/>
                    </a:lnTo>
                    <a:lnTo>
                      <a:pt x="787" y="1022"/>
                    </a:lnTo>
                    <a:lnTo>
                      <a:pt x="792" y="1022"/>
                    </a:lnTo>
                    <a:lnTo>
                      <a:pt x="796" y="1027"/>
                    </a:lnTo>
                    <a:lnTo>
                      <a:pt x="801" y="1027"/>
                    </a:lnTo>
                    <a:lnTo>
                      <a:pt x="801" y="1032"/>
                    </a:lnTo>
                    <a:lnTo>
                      <a:pt x="806" y="1032"/>
                    </a:lnTo>
                    <a:lnTo>
                      <a:pt x="811" y="1037"/>
                    </a:lnTo>
                    <a:lnTo>
                      <a:pt x="816" y="1037"/>
                    </a:lnTo>
                    <a:lnTo>
                      <a:pt x="820" y="1041"/>
                    </a:lnTo>
                    <a:lnTo>
                      <a:pt x="825" y="1041"/>
                    </a:lnTo>
                    <a:lnTo>
                      <a:pt x="830" y="1041"/>
                    </a:lnTo>
                    <a:lnTo>
                      <a:pt x="830" y="1046"/>
                    </a:lnTo>
                    <a:lnTo>
                      <a:pt x="835" y="1046"/>
                    </a:lnTo>
                    <a:lnTo>
                      <a:pt x="840" y="1051"/>
                    </a:lnTo>
                    <a:lnTo>
                      <a:pt x="844" y="1051"/>
                    </a:lnTo>
                    <a:lnTo>
                      <a:pt x="849" y="1051"/>
                    </a:lnTo>
                    <a:lnTo>
                      <a:pt x="854" y="1056"/>
                    </a:lnTo>
                    <a:lnTo>
                      <a:pt x="859" y="1061"/>
                    </a:lnTo>
                    <a:lnTo>
                      <a:pt x="864" y="1061"/>
                    </a:lnTo>
                    <a:lnTo>
                      <a:pt x="868" y="1061"/>
                    </a:lnTo>
                    <a:lnTo>
                      <a:pt x="873" y="1065"/>
                    </a:lnTo>
                    <a:lnTo>
                      <a:pt x="878" y="1065"/>
                    </a:lnTo>
                    <a:lnTo>
                      <a:pt x="883" y="1070"/>
                    </a:lnTo>
                    <a:lnTo>
                      <a:pt x="888" y="1070"/>
                    </a:lnTo>
                    <a:lnTo>
                      <a:pt x="892" y="1075"/>
                    </a:lnTo>
                    <a:lnTo>
                      <a:pt x="897" y="1075"/>
                    </a:lnTo>
                    <a:lnTo>
                      <a:pt x="902" y="1080"/>
                    </a:lnTo>
                    <a:lnTo>
                      <a:pt x="907" y="1080"/>
                    </a:lnTo>
                    <a:lnTo>
                      <a:pt x="912" y="1085"/>
                    </a:lnTo>
                    <a:lnTo>
                      <a:pt x="916" y="1085"/>
                    </a:lnTo>
                    <a:lnTo>
                      <a:pt x="921" y="1085"/>
                    </a:lnTo>
                    <a:lnTo>
                      <a:pt x="926" y="1089"/>
                    </a:lnTo>
                    <a:lnTo>
                      <a:pt x="931" y="1089"/>
                    </a:lnTo>
                    <a:lnTo>
                      <a:pt x="936" y="1089"/>
                    </a:lnTo>
                    <a:lnTo>
                      <a:pt x="936" y="1094"/>
                    </a:lnTo>
                    <a:lnTo>
                      <a:pt x="940" y="1094"/>
                    </a:lnTo>
                    <a:lnTo>
                      <a:pt x="945" y="1099"/>
                    </a:lnTo>
                    <a:lnTo>
                      <a:pt x="950" y="1099"/>
                    </a:lnTo>
                    <a:lnTo>
                      <a:pt x="955" y="1099"/>
                    </a:lnTo>
                    <a:lnTo>
                      <a:pt x="960" y="1104"/>
                    </a:lnTo>
                    <a:lnTo>
                      <a:pt x="964" y="1104"/>
                    </a:lnTo>
                    <a:lnTo>
                      <a:pt x="969" y="1109"/>
                    </a:lnTo>
                    <a:lnTo>
                      <a:pt x="974" y="1109"/>
                    </a:lnTo>
                    <a:lnTo>
                      <a:pt x="979" y="1109"/>
                    </a:lnTo>
                    <a:lnTo>
                      <a:pt x="984" y="1113"/>
                    </a:lnTo>
                    <a:lnTo>
                      <a:pt x="988" y="1113"/>
                    </a:lnTo>
                    <a:lnTo>
                      <a:pt x="993" y="1118"/>
                    </a:lnTo>
                    <a:lnTo>
                      <a:pt x="998" y="1118"/>
                    </a:lnTo>
                    <a:lnTo>
                      <a:pt x="1003" y="1118"/>
                    </a:lnTo>
                    <a:lnTo>
                      <a:pt x="1008" y="1123"/>
                    </a:lnTo>
                    <a:lnTo>
                      <a:pt x="1012" y="1123"/>
                    </a:lnTo>
                    <a:lnTo>
                      <a:pt x="1017" y="1128"/>
                    </a:lnTo>
                    <a:lnTo>
                      <a:pt x="1022" y="1128"/>
                    </a:lnTo>
                    <a:lnTo>
                      <a:pt x="1027" y="1128"/>
                    </a:lnTo>
                    <a:lnTo>
                      <a:pt x="1032" y="1133"/>
                    </a:lnTo>
                    <a:lnTo>
                      <a:pt x="1036" y="1133"/>
                    </a:lnTo>
                    <a:lnTo>
                      <a:pt x="1041" y="1133"/>
                    </a:lnTo>
                    <a:lnTo>
                      <a:pt x="1041" y="1137"/>
                    </a:lnTo>
                    <a:lnTo>
                      <a:pt x="1046" y="1137"/>
                    </a:lnTo>
                    <a:lnTo>
                      <a:pt x="1051" y="1137"/>
                    </a:lnTo>
                    <a:lnTo>
                      <a:pt x="1056" y="1137"/>
                    </a:lnTo>
                    <a:lnTo>
                      <a:pt x="1060" y="1142"/>
                    </a:lnTo>
                    <a:lnTo>
                      <a:pt x="1065" y="1142"/>
                    </a:lnTo>
                    <a:lnTo>
                      <a:pt x="1070" y="1147"/>
                    </a:lnTo>
                    <a:lnTo>
                      <a:pt x="1075" y="1147"/>
                    </a:lnTo>
                    <a:lnTo>
                      <a:pt x="1080" y="1147"/>
                    </a:lnTo>
                    <a:lnTo>
                      <a:pt x="1084" y="1152"/>
                    </a:lnTo>
                    <a:lnTo>
                      <a:pt x="1089" y="1152"/>
                    </a:lnTo>
                    <a:lnTo>
                      <a:pt x="1094" y="1157"/>
                    </a:lnTo>
                    <a:lnTo>
                      <a:pt x="1099" y="1157"/>
                    </a:lnTo>
                    <a:lnTo>
                      <a:pt x="1104" y="1157"/>
                    </a:lnTo>
                    <a:lnTo>
                      <a:pt x="1108" y="1157"/>
                    </a:lnTo>
                    <a:lnTo>
                      <a:pt x="1113" y="1161"/>
                    </a:lnTo>
                    <a:lnTo>
                      <a:pt x="1118" y="1161"/>
                    </a:lnTo>
                    <a:lnTo>
                      <a:pt x="1123" y="1166"/>
                    </a:lnTo>
                    <a:lnTo>
                      <a:pt x="1128" y="1166"/>
                    </a:lnTo>
                    <a:lnTo>
                      <a:pt x="1132" y="1166"/>
                    </a:lnTo>
                    <a:lnTo>
                      <a:pt x="1137" y="1171"/>
                    </a:lnTo>
                    <a:lnTo>
                      <a:pt x="1142" y="1171"/>
                    </a:lnTo>
                    <a:lnTo>
                      <a:pt x="1147" y="1171"/>
                    </a:lnTo>
                    <a:lnTo>
                      <a:pt x="1152" y="1176"/>
                    </a:lnTo>
                    <a:lnTo>
                      <a:pt x="1156" y="1176"/>
                    </a:lnTo>
                    <a:lnTo>
                      <a:pt x="1161" y="1176"/>
                    </a:lnTo>
                    <a:lnTo>
                      <a:pt x="1166" y="1181"/>
                    </a:lnTo>
                    <a:lnTo>
                      <a:pt x="1171" y="1181"/>
                    </a:lnTo>
                    <a:lnTo>
                      <a:pt x="1176" y="1185"/>
                    </a:lnTo>
                    <a:lnTo>
                      <a:pt x="1180" y="1185"/>
                    </a:lnTo>
                    <a:lnTo>
                      <a:pt x="1185" y="1185"/>
                    </a:lnTo>
                    <a:lnTo>
                      <a:pt x="1190" y="1185"/>
                    </a:lnTo>
                    <a:lnTo>
                      <a:pt x="1195" y="1190"/>
                    </a:lnTo>
                    <a:lnTo>
                      <a:pt x="1200" y="1190"/>
                    </a:lnTo>
                    <a:lnTo>
                      <a:pt x="1204" y="1195"/>
                    </a:lnTo>
                    <a:lnTo>
                      <a:pt x="1209" y="1195"/>
                    </a:lnTo>
                    <a:lnTo>
                      <a:pt x="1214" y="1195"/>
                    </a:lnTo>
                    <a:lnTo>
                      <a:pt x="1219" y="1195"/>
                    </a:lnTo>
                    <a:lnTo>
                      <a:pt x="1224" y="1200"/>
                    </a:lnTo>
                    <a:lnTo>
                      <a:pt x="1228" y="1200"/>
                    </a:lnTo>
                    <a:lnTo>
                      <a:pt x="1233" y="1205"/>
                    </a:lnTo>
                    <a:lnTo>
                      <a:pt x="1238" y="1205"/>
                    </a:lnTo>
                    <a:lnTo>
                      <a:pt x="1243" y="1205"/>
                    </a:lnTo>
                    <a:lnTo>
                      <a:pt x="1248" y="1209"/>
                    </a:lnTo>
                    <a:lnTo>
                      <a:pt x="1252" y="1209"/>
                    </a:lnTo>
                    <a:lnTo>
                      <a:pt x="1257" y="1209"/>
                    </a:lnTo>
                    <a:lnTo>
                      <a:pt x="1262" y="1214"/>
                    </a:lnTo>
                    <a:lnTo>
                      <a:pt x="1267" y="1214"/>
                    </a:lnTo>
                    <a:lnTo>
                      <a:pt x="1272" y="1214"/>
                    </a:lnTo>
                    <a:lnTo>
                      <a:pt x="1276" y="1219"/>
                    </a:lnTo>
                    <a:lnTo>
                      <a:pt x="1281" y="1219"/>
                    </a:lnTo>
                    <a:lnTo>
                      <a:pt x="1286" y="1219"/>
                    </a:lnTo>
                    <a:lnTo>
                      <a:pt x="1291" y="1224"/>
                    </a:lnTo>
                    <a:lnTo>
                      <a:pt x="1296" y="1224"/>
                    </a:lnTo>
                    <a:lnTo>
                      <a:pt x="1300" y="1224"/>
                    </a:lnTo>
                    <a:lnTo>
                      <a:pt x="1300" y="1229"/>
                    </a:lnTo>
                    <a:lnTo>
                      <a:pt x="1305" y="1229"/>
                    </a:lnTo>
                    <a:lnTo>
                      <a:pt x="1310" y="1229"/>
                    </a:lnTo>
                    <a:lnTo>
                      <a:pt x="1315" y="1233"/>
                    </a:lnTo>
                    <a:lnTo>
                      <a:pt x="1320" y="1233"/>
                    </a:lnTo>
                    <a:lnTo>
                      <a:pt x="1324" y="1233"/>
                    </a:lnTo>
                    <a:lnTo>
                      <a:pt x="1329" y="1233"/>
                    </a:lnTo>
                    <a:lnTo>
                      <a:pt x="1329" y="1238"/>
                    </a:lnTo>
                    <a:lnTo>
                      <a:pt x="1334" y="1238"/>
                    </a:lnTo>
                    <a:lnTo>
                      <a:pt x="1339" y="1238"/>
                    </a:lnTo>
                    <a:lnTo>
                      <a:pt x="1344" y="1243"/>
                    </a:lnTo>
                    <a:lnTo>
                      <a:pt x="1348" y="1243"/>
                    </a:lnTo>
                    <a:lnTo>
                      <a:pt x="1353" y="1243"/>
                    </a:lnTo>
                    <a:lnTo>
                      <a:pt x="1358" y="1248"/>
                    </a:lnTo>
                    <a:lnTo>
                      <a:pt x="1363" y="1248"/>
                    </a:lnTo>
                    <a:lnTo>
                      <a:pt x="1368" y="1248"/>
                    </a:lnTo>
                    <a:lnTo>
                      <a:pt x="1372" y="1253"/>
                    </a:lnTo>
                    <a:lnTo>
                      <a:pt x="1377" y="1253"/>
                    </a:lnTo>
                    <a:lnTo>
                      <a:pt x="1382" y="1253"/>
                    </a:lnTo>
                    <a:lnTo>
                      <a:pt x="1382" y="1257"/>
                    </a:lnTo>
                    <a:lnTo>
                      <a:pt x="1387" y="1257"/>
                    </a:lnTo>
                    <a:lnTo>
                      <a:pt x="1392" y="1257"/>
                    </a:lnTo>
                    <a:lnTo>
                      <a:pt x="1396" y="1257"/>
                    </a:lnTo>
                    <a:lnTo>
                      <a:pt x="1401" y="1262"/>
                    </a:lnTo>
                    <a:lnTo>
                      <a:pt x="1406" y="1262"/>
                    </a:lnTo>
                    <a:lnTo>
                      <a:pt x="1411" y="1267"/>
                    </a:lnTo>
                    <a:lnTo>
                      <a:pt x="1416" y="1267"/>
                    </a:lnTo>
                    <a:lnTo>
                      <a:pt x="1420" y="1267"/>
                    </a:lnTo>
                    <a:lnTo>
                      <a:pt x="1425" y="1272"/>
                    </a:lnTo>
                    <a:lnTo>
                      <a:pt x="1430" y="1272"/>
                    </a:lnTo>
                    <a:lnTo>
                      <a:pt x="1435" y="1272"/>
                    </a:lnTo>
                    <a:lnTo>
                      <a:pt x="1435" y="1277"/>
                    </a:lnTo>
                    <a:lnTo>
                      <a:pt x="1440" y="1277"/>
                    </a:lnTo>
                    <a:lnTo>
                      <a:pt x="1444" y="1277"/>
                    </a:lnTo>
                    <a:lnTo>
                      <a:pt x="1449" y="1281"/>
                    </a:lnTo>
                    <a:lnTo>
                      <a:pt x="1454" y="1281"/>
                    </a:lnTo>
                    <a:lnTo>
                      <a:pt x="1459" y="1281"/>
                    </a:lnTo>
                    <a:lnTo>
                      <a:pt x="1464" y="1286"/>
                    </a:lnTo>
                    <a:lnTo>
                      <a:pt x="1468" y="1286"/>
                    </a:lnTo>
                    <a:lnTo>
                      <a:pt x="1473" y="1286"/>
                    </a:lnTo>
                    <a:lnTo>
                      <a:pt x="1478" y="1291"/>
                    </a:lnTo>
                    <a:lnTo>
                      <a:pt x="1483" y="1291"/>
                    </a:lnTo>
                    <a:lnTo>
                      <a:pt x="1488" y="1291"/>
                    </a:lnTo>
                    <a:lnTo>
                      <a:pt x="1488" y="1296"/>
                    </a:lnTo>
                    <a:lnTo>
                      <a:pt x="1492" y="1296"/>
                    </a:lnTo>
                    <a:lnTo>
                      <a:pt x="1497" y="1296"/>
                    </a:lnTo>
                    <a:lnTo>
                      <a:pt x="1502" y="1301"/>
                    </a:lnTo>
                    <a:lnTo>
                      <a:pt x="1507" y="1301"/>
                    </a:lnTo>
                    <a:lnTo>
                      <a:pt x="1512" y="1301"/>
                    </a:lnTo>
                    <a:lnTo>
                      <a:pt x="1512" y="1305"/>
                    </a:lnTo>
                    <a:lnTo>
                      <a:pt x="1516" y="1305"/>
                    </a:lnTo>
                    <a:lnTo>
                      <a:pt x="1521" y="1305"/>
                    </a:lnTo>
                    <a:lnTo>
                      <a:pt x="1526" y="1310"/>
                    </a:lnTo>
                    <a:lnTo>
                      <a:pt x="1531" y="1310"/>
                    </a:lnTo>
                    <a:lnTo>
                      <a:pt x="1536" y="1310"/>
                    </a:lnTo>
                    <a:lnTo>
                      <a:pt x="1540" y="1315"/>
                    </a:lnTo>
                    <a:lnTo>
                      <a:pt x="1545" y="1315"/>
                    </a:lnTo>
                    <a:lnTo>
                      <a:pt x="1550" y="1320"/>
                    </a:lnTo>
                    <a:lnTo>
                      <a:pt x="1555" y="1320"/>
                    </a:lnTo>
                    <a:lnTo>
                      <a:pt x="1560" y="1320"/>
                    </a:lnTo>
                    <a:lnTo>
                      <a:pt x="1564" y="1325"/>
                    </a:lnTo>
                    <a:lnTo>
                      <a:pt x="1569" y="1329"/>
                    </a:lnTo>
                    <a:lnTo>
                      <a:pt x="1574" y="1329"/>
                    </a:lnTo>
                    <a:lnTo>
                      <a:pt x="1579" y="1329"/>
                    </a:lnTo>
                    <a:lnTo>
                      <a:pt x="1584" y="1334"/>
                    </a:lnTo>
                    <a:lnTo>
                      <a:pt x="1588" y="1334"/>
                    </a:lnTo>
                    <a:lnTo>
                      <a:pt x="1593" y="1334"/>
                    </a:lnTo>
                    <a:lnTo>
                      <a:pt x="1593" y="1339"/>
                    </a:lnTo>
                    <a:lnTo>
                      <a:pt x="1598" y="1339"/>
                    </a:lnTo>
                    <a:lnTo>
                      <a:pt x="1603" y="1339"/>
                    </a:lnTo>
                    <a:lnTo>
                      <a:pt x="1608" y="1344"/>
                    </a:lnTo>
                    <a:lnTo>
                      <a:pt x="1612" y="1344"/>
                    </a:lnTo>
                    <a:lnTo>
                      <a:pt x="1617" y="1349"/>
                    </a:lnTo>
                    <a:lnTo>
                      <a:pt x="1622" y="1349"/>
                    </a:lnTo>
                    <a:lnTo>
                      <a:pt x="1627" y="1353"/>
                    </a:lnTo>
                    <a:lnTo>
                      <a:pt x="1632" y="1353"/>
                    </a:lnTo>
                    <a:lnTo>
                      <a:pt x="1636" y="1353"/>
                    </a:lnTo>
                    <a:lnTo>
                      <a:pt x="1641" y="1358"/>
                    </a:lnTo>
                    <a:lnTo>
                      <a:pt x="1646" y="1358"/>
                    </a:lnTo>
                    <a:lnTo>
                      <a:pt x="1646" y="1363"/>
                    </a:lnTo>
                    <a:lnTo>
                      <a:pt x="1651" y="1363"/>
                    </a:lnTo>
                    <a:lnTo>
                      <a:pt x="1656" y="1363"/>
                    </a:lnTo>
                    <a:lnTo>
                      <a:pt x="1660" y="1368"/>
                    </a:lnTo>
                    <a:lnTo>
                      <a:pt x="1665" y="1368"/>
                    </a:lnTo>
                    <a:lnTo>
                      <a:pt x="1670" y="1373"/>
                    </a:lnTo>
                    <a:lnTo>
                      <a:pt x="1675" y="1373"/>
                    </a:lnTo>
                    <a:lnTo>
                      <a:pt x="1680" y="1377"/>
                    </a:lnTo>
                    <a:lnTo>
                      <a:pt x="1684" y="1377"/>
                    </a:lnTo>
                    <a:lnTo>
                      <a:pt x="1689" y="1382"/>
                    </a:lnTo>
                    <a:lnTo>
                      <a:pt x="1694" y="1382"/>
                    </a:lnTo>
                    <a:lnTo>
                      <a:pt x="1699" y="1382"/>
                    </a:lnTo>
                    <a:lnTo>
                      <a:pt x="1699" y="1387"/>
                    </a:lnTo>
                    <a:lnTo>
                      <a:pt x="1704" y="1387"/>
                    </a:lnTo>
                    <a:lnTo>
                      <a:pt x="1708" y="1392"/>
                    </a:lnTo>
                    <a:lnTo>
                      <a:pt x="1713" y="1392"/>
                    </a:lnTo>
                    <a:lnTo>
                      <a:pt x="1718" y="1397"/>
                    </a:lnTo>
                    <a:lnTo>
                      <a:pt x="1723" y="1397"/>
                    </a:lnTo>
                    <a:lnTo>
                      <a:pt x="1728" y="1401"/>
                    </a:lnTo>
                    <a:lnTo>
                      <a:pt x="1732" y="1401"/>
                    </a:lnTo>
                    <a:lnTo>
                      <a:pt x="1737" y="1406"/>
                    </a:lnTo>
                    <a:lnTo>
                      <a:pt x="1742" y="1406"/>
                    </a:lnTo>
                    <a:lnTo>
                      <a:pt x="1747" y="1411"/>
                    </a:lnTo>
                    <a:lnTo>
                      <a:pt x="1752" y="1416"/>
                    </a:lnTo>
                    <a:lnTo>
                      <a:pt x="1756" y="1416"/>
                    </a:lnTo>
                    <a:lnTo>
                      <a:pt x="1761" y="1421"/>
                    </a:lnTo>
                    <a:lnTo>
                      <a:pt x="1766" y="1421"/>
                    </a:lnTo>
                    <a:lnTo>
                      <a:pt x="1771" y="1425"/>
                    </a:lnTo>
                    <a:lnTo>
                      <a:pt x="1776" y="1425"/>
                    </a:lnTo>
                    <a:lnTo>
                      <a:pt x="1780" y="1430"/>
                    </a:lnTo>
                    <a:lnTo>
                      <a:pt x="1785" y="1430"/>
                    </a:lnTo>
                    <a:lnTo>
                      <a:pt x="1790" y="1435"/>
                    </a:lnTo>
                    <a:lnTo>
                      <a:pt x="1795" y="1435"/>
                    </a:lnTo>
                    <a:lnTo>
                      <a:pt x="1800" y="1440"/>
                    </a:lnTo>
                    <a:lnTo>
                      <a:pt x="1804" y="1445"/>
                    </a:lnTo>
                    <a:lnTo>
                      <a:pt x="1809" y="1445"/>
                    </a:lnTo>
                    <a:lnTo>
                      <a:pt x="1814" y="1449"/>
                    </a:lnTo>
                    <a:lnTo>
                      <a:pt x="1819" y="1449"/>
                    </a:lnTo>
                    <a:lnTo>
                      <a:pt x="1824" y="1454"/>
                    </a:lnTo>
                    <a:lnTo>
                      <a:pt x="1828" y="1454"/>
                    </a:lnTo>
                    <a:lnTo>
                      <a:pt x="1828" y="1459"/>
                    </a:lnTo>
                    <a:lnTo>
                      <a:pt x="1833" y="1459"/>
                    </a:lnTo>
                    <a:lnTo>
                      <a:pt x="1838" y="1464"/>
                    </a:lnTo>
                    <a:lnTo>
                      <a:pt x="1843" y="1469"/>
                    </a:lnTo>
                    <a:lnTo>
                      <a:pt x="1848" y="1469"/>
                    </a:lnTo>
                    <a:lnTo>
                      <a:pt x="1852" y="1473"/>
                    </a:lnTo>
                    <a:lnTo>
                      <a:pt x="1857" y="1478"/>
                    </a:lnTo>
                    <a:lnTo>
                      <a:pt x="1862" y="1478"/>
                    </a:lnTo>
                    <a:lnTo>
                      <a:pt x="1867" y="1483"/>
                    </a:lnTo>
                    <a:lnTo>
                      <a:pt x="1872" y="1483"/>
                    </a:lnTo>
                    <a:lnTo>
                      <a:pt x="1876" y="1488"/>
                    </a:lnTo>
                    <a:lnTo>
                      <a:pt x="1881" y="1488"/>
                    </a:lnTo>
                    <a:lnTo>
                      <a:pt x="1881" y="1493"/>
                    </a:lnTo>
                    <a:lnTo>
                      <a:pt x="1886" y="1497"/>
                    </a:lnTo>
                    <a:lnTo>
                      <a:pt x="1891" y="1497"/>
                    </a:lnTo>
                    <a:lnTo>
                      <a:pt x="1896" y="1502"/>
                    </a:lnTo>
                    <a:lnTo>
                      <a:pt x="1900" y="1502"/>
                    </a:lnTo>
                    <a:lnTo>
                      <a:pt x="1905" y="1507"/>
                    </a:lnTo>
                    <a:lnTo>
                      <a:pt x="1910" y="1512"/>
                    </a:lnTo>
                    <a:lnTo>
                      <a:pt x="1915" y="1517"/>
                    </a:lnTo>
                    <a:lnTo>
                      <a:pt x="1920" y="1517"/>
                    </a:lnTo>
                    <a:lnTo>
                      <a:pt x="1924" y="1521"/>
                    </a:lnTo>
                    <a:lnTo>
                      <a:pt x="1929" y="1521"/>
                    </a:lnTo>
                    <a:lnTo>
                      <a:pt x="1934" y="1526"/>
                    </a:lnTo>
                    <a:lnTo>
                      <a:pt x="1934" y="1531"/>
                    </a:lnTo>
                    <a:lnTo>
                      <a:pt x="1939" y="1531"/>
                    </a:lnTo>
                    <a:lnTo>
                      <a:pt x="1944" y="1536"/>
                    </a:lnTo>
                    <a:lnTo>
                      <a:pt x="1948" y="1536"/>
                    </a:lnTo>
                    <a:lnTo>
                      <a:pt x="1953" y="1541"/>
                    </a:lnTo>
                    <a:lnTo>
                      <a:pt x="1958" y="1545"/>
                    </a:lnTo>
                    <a:lnTo>
                      <a:pt x="1963" y="1550"/>
                    </a:lnTo>
                    <a:lnTo>
                      <a:pt x="1968" y="1555"/>
                    </a:lnTo>
                    <a:lnTo>
                      <a:pt x="1972" y="1555"/>
                    </a:lnTo>
                    <a:lnTo>
                      <a:pt x="1977" y="1560"/>
                    </a:lnTo>
                    <a:lnTo>
                      <a:pt x="1982" y="1560"/>
                    </a:lnTo>
                    <a:lnTo>
                      <a:pt x="1987" y="1565"/>
                    </a:lnTo>
                    <a:lnTo>
                      <a:pt x="1987" y="1569"/>
                    </a:lnTo>
                    <a:lnTo>
                      <a:pt x="1992" y="1569"/>
                    </a:lnTo>
                    <a:lnTo>
                      <a:pt x="1996" y="1574"/>
                    </a:lnTo>
                    <a:lnTo>
                      <a:pt x="2001" y="1579"/>
                    </a:lnTo>
                    <a:lnTo>
                      <a:pt x="2006" y="1579"/>
                    </a:lnTo>
                    <a:lnTo>
                      <a:pt x="2011" y="1584"/>
                    </a:lnTo>
                    <a:lnTo>
                      <a:pt x="2011" y="1589"/>
                    </a:lnTo>
                    <a:lnTo>
                      <a:pt x="2016" y="1589"/>
                    </a:lnTo>
                    <a:lnTo>
                      <a:pt x="2020" y="1593"/>
                    </a:lnTo>
                    <a:lnTo>
                      <a:pt x="2025" y="1593"/>
                    </a:lnTo>
                    <a:lnTo>
                      <a:pt x="2030" y="1598"/>
                    </a:lnTo>
                    <a:lnTo>
                      <a:pt x="2035" y="1603"/>
                    </a:lnTo>
                    <a:lnTo>
                      <a:pt x="2040" y="1603"/>
                    </a:lnTo>
                    <a:lnTo>
                      <a:pt x="2040" y="1608"/>
                    </a:lnTo>
                    <a:lnTo>
                      <a:pt x="2044" y="1613"/>
                    </a:lnTo>
                    <a:lnTo>
                      <a:pt x="2049" y="1613"/>
                    </a:lnTo>
                    <a:lnTo>
                      <a:pt x="2054" y="1617"/>
                    </a:lnTo>
                    <a:lnTo>
                      <a:pt x="2059" y="1622"/>
                    </a:lnTo>
                    <a:lnTo>
                      <a:pt x="2064" y="1622"/>
                    </a:lnTo>
                    <a:lnTo>
                      <a:pt x="2064" y="1627"/>
                    </a:lnTo>
                    <a:lnTo>
                      <a:pt x="2068" y="1632"/>
                    </a:lnTo>
                    <a:lnTo>
                      <a:pt x="2073" y="1632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211240" y="3379680"/>
                <a:ext cx="325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625960" y="3511440"/>
                <a:ext cx="37692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347800" y="5100480"/>
                <a:ext cx="262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90400" y="363060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964760" y="4881600"/>
                <a:ext cx="410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-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870080" y="61801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-2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54920" y="3179880"/>
                <a:ext cx="1221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</a:t>
                </a:r>
                <a:r>
                  <a:rPr b="0" lang="hr-HR" sz="2200" spc="-1" strike="noStrike">
                    <a:solidFill>
                      <a:srgbClr val="ffff00"/>
                    </a:solidFill>
                    <a:latin typeface="Times New Roman"/>
                  </a:rPr>
                  <a:t>(G(</a:t>
                </a:r>
                <a:r>
                  <a:rPr b="0" i="1" lang="hr-HR" sz="22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r>
                  <a:rPr b="0" lang="hr-HR" sz="2200" spc="-1" strike="noStrike" baseline="30000">
                    <a:solidFill>
                      <a:srgbClr val="ffff00"/>
                    </a:solidFill>
                    <a:latin typeface="Times New Roman"/>
                  </a:rPr>
                  <a:t>j</a:t>
                </a:r>
                <a:r>
                  <a:rPr b="0" lang="hr-HR" sz="2200" spc="-1" strike="noStrike" baseline="30000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2200" spc="-1" strike="noStrike">
                    <a:solidFill>
                      <a:srgbClr val="ffff00"/>
                    </a:solidFill>
                    <a:latin typeface="Times New Roman"/>
                  </a:rPr>
                  <a:t>))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13EE-3870-49B4-A5DD-ECD84466A9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2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90360" y="1798560"/>
            <a:ext cx="9009360" cy="1921320"/>
            <a:chOff x="90360" y="1798560"/>
            <a:chExt cx="9009360" cy="1921320"/>
          </a:xfrm>
        </p:grpSpPr>
        <p:sp>
          <p:nvSpPr>
            <p:cNvPr id="922" name=""/>
            <p:cNvSpPr/>
            <p:nvPr/>
          </p:nvSpPr>
          <p:spPr>
            <a:xfrm>
              <a:off x="90360" y="1798560"/>
              <a:ext cx="900936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Što bi se dogodilo da smo u prethodnom primjeru filtar projektirali kao kaskadu dva digitalna filtra projektirana metodom jednakog impulsnog odziv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z prototipne analogne filtre                          i                               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3" name=""/>
                <p:cNvSpPr txBox="1"/>
                <p:nvPr/>
              </p:nvSpPr>
              <p:spPr>
                <a:xfrm>
                  <a:off x="3553200" y="2738520"/>
                  <a:ext cx="14814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a</m:t>
                          </m:r>
                          <m:r>
                            <m:t xml:space="preserve">1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4" name=""/>
                <p:cNvSpPr txBox="1"/>
                <p:nvPr/>
              </p:nvSpPr>
              <p:spPr>
                <a:xfrm>
                  <a:off x="5370480" y="2738520"/>
                  <a:ext cx="19515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a</m:t>
                          </m:r>
                          <m:r>
                            <m:t xml:space="preserve">2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5" name=""/>
          <p:cNvGrpSpPr/>
          <p:nvPr/>
        </p:nvGrpSpPr>
        <p:grpSpPr>
          <a:xfrm>
            <a:off x="1069920" y="3886200"/>
            <a:ext cx="4559040" cy="2473200"/>
            <a:chOff x="1069920" y="3886200"/>
            <a:chExt cx="4559040" cy="2473200"/>
          </a:xfrm>
        </p:grpSpPr>
        <mc:AlternateContent>
          <mc:Choice xmlns:a14="http://schemas.microsoft.com/office/drawing/2010/main" Requires="a14">
            <p:sp>
              <p:nvSpPr>
                <p:cNvPr id="926" name=""/>
                <p:cNvSpPr txBox="1"/>
                <p:nvPr/>
              </p:nvSpPr>
              <p:spPr>
                <a:xfrm>
                  <a:off x="1069920" y="3886200"/>
                  <a:ext cx="223776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7" name=""/>
                <p:cNvSpPr txBox="1"/>
                <p:nvPr/>
              </p:nvSpPr>
              <p:spPr>
                <a:xfrm>
                  <a:off x="1072800" y="4665600"/>
                  <a:ext cx="4556160" cy="16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T</m:t>
                              </m:r>
                            </m:e>
                          </m:d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29E1-886F-4B22-A255-874D181580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371240" y="950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2 - nastavak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-284040" y="1285920"/>
            <a:ext cx="9426600" cy="2300400"/>
            <a:chOff x="-284040" y="1285920"/>
            <a:chExt cx="9426600" cy="2300400"/>
          </a:xfrm>
        </p:grpSpPr>
        <p:sp>
          <p:nvSpPr>
            <p:cNvPr id="930" name=""/>
            <p:cNvSpPr/>
            <p:nvPr/>
          </p:nvSpPr>
          <p:spPr>
            <a:xfrm>
              <a:off x="-284040" y="1285920"/>
              <a:ext cx="7081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Kaskada ova dva digitalna filtra ima prijenosnu funkcij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1" name=""/>
                <p:cNvSpPr txBox="1"/>
                <p:nvPr/>
              </p:nvSpPr>
              <p:spPr>
                <a:xfrm>
                  <a:off x="-7920" y="1784520"/>
                  <a:ext cx="9150480" cy="18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⋅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T</m:t>
                              </m:r>
                            </m:e>
                          </m:d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⋅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2" name=""/>
          <p:cNvGrpSpPr/>
          <p:nvPr/>
        </p:nvGrpSpPr>
        <p:grpSpPr>
          <a:xfrm>
            <a:off x="-282600" y="4108320"/>
            <a:ext cx="9425160" cy="2500560"/>
            <a:chOff x="-282600" y="4108320"/>
            <a:chExt cx="9425160" cy="2500560"/>
          </a:xfrm>
        </p:grpSpPr>
        <mc:AlternateContent>
          <mc:Choice xmlns:a14="http://schemas.microsoft.com/office/drawing/2010/main" Requires="a14">
            <p:sp>
              <p:nvSpPr>
                <p:cNvPr id="933" name=""/>
                <p:cNvSpPr txBox="1"/>
                <p:nvPr/>
              </p:nvSpPr>
              <p:spPr>
                <a:xfrm>
                  <a:off x="0" y="4705200"/>
                  <a:ext cx="9142560" cy="190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⋅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⋅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3</m:t>
                                              </m:r>
                                            </m:e>
                                          </m:rad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  <m:r>
                                        <m:t xml:space="preserve">T</m:t>
                                      </m:r>
                                    </m:e>
                                  </m:d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den>
                                  </m:f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3</m:t>
                                              </m:r>
                                            </m:e>
                                          </m:rad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  <m:r>
                                        <m:t xml:space="preserve">T</m:t>
                                      </m:r>
                                    </m:e>
                                  </m:d>
                                </m:e>
                              </m:d>
                            </m:e>
                          </m:d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⋅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⋅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34" name=""/>
            <p:cNvSpPr/>
            <p:nvPr/>
          </p:nvSpPr>
          <p:spPr>
            <a:xfrm>
              <a:off x="-282600" y="4108320"/>
              <a:ext cx="7041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jenosna funkcija filtra u prethodnom primjeru bila j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549360" y="1751040"/>
            <a:ext cx="8582040" cy="3903480"/>
            <a:chOff x="549360" y="1751040"/>
            <a:chExt cx="8582040" cy="3903480"/>
          </a:xfrm>
        </p:grpSpPr>
        <p:sp>
          <p:nvSpPr>
            <p:cNvPr id="936" name=""/>
            <p:cNvSpPr/>
            <p:nvPr/>
          </p:nvSpPr>
          <p:spPr>
            <a:xfrm>
              <a:off x="4374000" y="1751040"/>
              <a:ext cx="2538360" cy="855720"/>
            </a:xfrm>
            <a:prstGeom prst="roundRect">
              <a:avLst>
                <a:gd name="adj" fmla="val 42944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49360" y="4680000"/>
              <a:ext cx="8582040" cy="974520"/>
            </a:xfrm>
            <a:prstGeom prst="roundRect">
              <a:avLst>
                <a:gd name="adj" fmla="val 42944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283720" y="2130480"/>
              <a:ext cx="3280680" cy="30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0" y="0"/>
                  </a:moveTo>
                  <a:arcTo wR="10800" hR="10800" stAng="-5403070" swAng="52056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0" y="0"/>
                  </a:moveTo>
                  <a:arcTo wR="10800" hR="10800" stAng="-5403070" swAng="5205687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393680" y="3606840"/>
              <a:ext cx="1171440" cy="107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8" y="11855"/>
                  </a:moveTo>
                  <a:arcTo wR="10800" hR="10800" stAng="336248" swAng="506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8" y="11855"/>
                  </a:moveTo>
                  <a:arcTo wR="10800" hR="10800" stAng="336248" swAng="5063752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0" name=""/>
                <p:cNvSpPr txBox="1"/>
                <p:nvPr/>
              </p:nvSpPr>
              <p:spPr>
                <a:xfrm>
                  <a:off x="8305920" y="3502080"/>
                  <a:ext cx="61848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¹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49BA-E0A0-44A0-8253-D7C7339C7E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2 - nastavak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6006960"/>
            <a:ext cx="9142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Amplitudna i fazna karakteristika filtara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hr-HR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) i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) uz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177480" y="2189160"/>
            <a:ext cx="4045680" cy="3434400"/>
            <a:chOff x="177480" y="2189160"/>
            <a:chExt cx="4045680" cy="3434400"/>
          </a:xfrm>
        </p:grpSpPr>
        <p:grpSp>
          <p:nvGrpSpPr>
            <p:cNvPr id="944" name=""/>
            <p:cNvGrpSpPr/>
            <p:nvPr/>
          </p:nvGrpSpPr>
          <p:grpSpPr>
            <a:xfrm>
              <a:off x="2441160" y="2535120"/>
              <a:ext cx="1302840" cy="913680"/>
              <a:chOff x="2441160" y="2535120"/>
              <a:chExt cx="1302840" cy="913680"/>
            </a:xfrm>
          </p:grpSpPr>
          <p:sp>
            <p:nvSpPr>
              <p:cNvPr id="945" name=""/>
              <p:cNvSpPr/>
              <p:nvPr/>
            </p:nvSpPr>
            <p:spPr>
              <a:xfrm flipV="1">
                <a:off x="2441160" y="3188880"/>
                <a:ext cx="248760" cy="1800"/>
              </a:xfrm>
              <a:prstGeom prst="line">
                <a:avLst/>
              </a:prstGeom>
              <a:ln w="12600">
                <a:solidFill>
                  <a:srgbClr val="99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662920" y="2975040"/>
                <a:ext cx="108108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200" spc="-1" strike="noStrike">
                    <a:solidFill>
                      <a:srgbClr val="99ffff"/>
                    </a:solidFill>
                    <a:latin typeface="Times New Roman"/>
                  </a:rPr>
                  <a:t>|G</a:t>
                </a:r>
                <a:r>
                  <a:rPr b="0" lang="hr-HR" sz="2200" spc="-1" strike="noStrike" baseline="-25000">
                    <a:solidFill>
                      <a:srgbClr val="99ffff"/>
                    </a:solidFill>
                    <a:latin typeface="Times New Roman"/>
                  </a:rPr>
                  <a:t>K</a:t>
                </a:r>
                <a:r>
                  <a:rPr b="0" lang="hr-HR" sz="2200" spc="-1" strike="noStrike">
                    <a:solidFill>
                      <a:srgbClr val="99ffff"/>
                    </a:solidFill>
                    <a:latin typeface="Times New Roman"/>
                  </a:rPr>
                  <a:t>(</a:t>
                </a:r>
                <a:r>
                  <a:rPr b="0" i="1" lang="hr-HR" sz="2200" spc="-1" strike="noStrike">
                    <a:solidFill>
                      <a:srgbClr val="99ffff"/>
                    </a:solidFill>
                    <a:latin typeface="Times New Roman"/>
                  </a:rPr>
                  <a:t>e</a:t>
                </a:r>
                <a:r>
                  <a:rPr b="0" lang="hr-HR" sz="2200" spc="-1" strike="noStrike" baseline="30000">
                    <a:solidFill>
                      <a:srgbClr val="99ffff"/>
                    </a:solidFill>
                    <a:latin typeface="Times New Roman"/>
                  </a:rPr>
                  <a:t>j</a:t>
                </a:r>
                <a:r>
                  <a:rPr b="0" lang="hr-HR" sz="2200" spc="-1" strike="noStrike" baseline="30000">
                    <a:solidFill>
                      <a:srgbClr val="99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2200" spc="-1" strike="noStrike">
                    <a:solidFill>
                      <a:srgbClr val="99ffff"/>
                    </a:solidFill>
                    <a:latin typeface="Times New Roman"/>
                  </a:rPr>
                  <a:t>)|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658960" y="2535120"/>
                <a:ext cx="964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200" spc="-1" strike="noStrike">
                    <a:solidFill>
                      <a:srgbClr val="ff3300"/>
                    </a:solidFill>
                    <a:latin typeface="Times New Roman"/>
                  </a:rPr>
                  <a:t>|G(</a:t>
                </a:r>
                <a:r>
                  <a:rPr b="0" i="1" lang="hr-HR" sz="2200" spc="-1" strike="noStrike">
                    <a:solidFill>
                      <a:srgbClr val="ff3300"/>
                    </a:solidFill>
                    <a:latin typeface="Times New Roman"/>
                  </a:rPr>
                  <a:t>e</a:t>
                </a:r>
                <a:r>
                  <a:rPr b="0" lang="hr-HR" sz="2200" spc="-1" strike="noStrike" baseline="30000">
                    <a:solidFill>
                      <a:srgbClr val="ff3300"/>
                    </a:solidFill>
                    <a:latin typeface="Times New Roman"/>
                  </a:rPr>
                  <a:t>j</a:t>
                </a:r>
                <a:r>
                  <a:rPr b="0" lang="hr-HR" sz="2200" spc="-1" strike="noStrike" baseline="30000">
                    <a:solidFill>
                      <a:srgbClr val="ff3300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2200" spc="-1" strike="noStrike">
                    <a:solidFill>
                      <a:srgbClr val="ff3300"/>
                    </a:solidFill>
                    <a:latin typeface="Times New Roman"/>
                  </a:rPr>
                  <a:t>)|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2450880" y="2734920"/>
                <a:ext cx="249120" cy="32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 flipV="1">
              <a:off x="462600" y="2475000"/>
              <a:ext cx="0" cy="2760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1113480" y="2475000"/>
              <a:ext cx="0" cy="2760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1756800" y="2475000"/>
              <a:ext cx="0" cy="2760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2405880" y="2475000"/>
              <a:ext cx="0" cy="2760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3044520" y="3403080"/>
              <a:ext cx="4320" cy="1832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3699720" y="2475000"/>
              <a:ext cx="0" cy="2760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2600" y="5235480"/>
              <a:ext cx="3236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2600" y="4775040"/>
              <a:ext cx="3236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2600" y="4313160"/>
              <a:ext cx="3236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62600" y="3859200"/>
              <a:ext cx="3236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2600" y="3398760"/>
              <a:ext cx="3236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62600" y="2936880"/>
              <a:ext cx="3236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62600" y="2475000"/>
              <a:ext cx="3236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62600" y="2475000"/>
              <a:ext cx="3238200" cy="2762280"/>
            </a:xfrm>
            <a:custGeom>
              <a:avLst/>
              <a:gdLst/>
              <a:ahLst/>
              <a:rect l="l" t="t" r="r" b="b"/>
              <a:pathLst>
                <a:path w="2210" h="1740">
                  <a:moveTo>
                    <a:pt x="0" y="1739"/>
                  </a:moveTo>
                  <a:lnTo>
                    <a:pt x="0" y="0"/>
                  </a:lnTo>
                  <a:lnTo>
                    <a:pt x="220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62600" y="2475000"/>
              <a:ext cx="3238200" cy="2762280"/>
            </a:xfrm>
            <a:custGeom>
              <a:avLst/>
              <a:gdLst/>
              <a:ahLst/>
              <a:rect l="l" t="t" r="r" b="b"/>
              <a:pathLst>
                <a:path w="2210" h="1740">
                  <a:moveTo>
                    <a:pt x="0" y="1739"/>
                  </a:moveTo>
                  <a:lnTo>
                    <a:pt x="0" y="0"/>
                  </a:lnTo>
                  <a:lnTo>
                    <a:pt x="220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2600" y="2475000"/>
              <a:ext cx="3238200" cy="2762280"/>
            </a:xfrm>
            <a:custGeom>
              <a:avLst/>
              <a:gdLst/>
              <a:ahLst/>
              <a:rect l="l" t="t" r="r" b="b"/>
              <a:pathLst>
                <a:path w="2210" h="1740">
                  <a:moveTo>
                    <a:pt x="0" y="1739"/>
                  </a:moveTo>
                  <a:lnTo>
                    <a:pt x="0" y="0"/>
                  </a:lnTo>
                  <a:lnTo>
                    <a:pt x="220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2600" y="5235480"/>
              <a:ext cx="3236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62600" y="2475000"/>
              <a:ext cx="3236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62600" y="2475000"/>
              <a:ext cx="0" cy="2760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699720" y="2475000"/>
              <a:ext cx="0" cy="2760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2600" y="2475000"/>
              <a:ext cx="234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62600" y="5235480"/>
              <a:ext cx="3236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462600" y="2475000"/>
              <a:ext cx="0" cy="2760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62600" y="5235480"/>
              <a:ext cx="234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462600" y="5203800"/>
              <a:ext cx="0" cy="3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62600" y="2475000"/>
              <a:ext cx="0" cy="3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1113480" y="5203800"/>
              <a:ext cx="0" cy="3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113480" y="2475000"/>
              <a:ext cx="0" cy="3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1756800" y="5203800"/>
              <a:ext cx="0" cy="3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756800" y="2475000"/>
              <a:ext cx="0" cy="3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2405880" y="5203800"/>
              <a:ext cx="0" cy="3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05880" y="2475000"/>
              <a:ext cx="0" cy="3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3049200" y="5203800"/>
              <a:ext cx="0" cy="3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3699720" y="5203800"/>
              <a:ext cx="0" cy="3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99720" y="2475000"/>
              <a:ext cx="0" cy="3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2600" y="523548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3668760" y="523548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2600" y="477504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3668760" y="477504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62600" y="431316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3668760" y="431316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62600" y="385920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3668760" y="385920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62600" y="339876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3668760" y="339876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62600" y="293688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3668760" y="293688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62600" y="247500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3668760" y="247500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2600" y="5235480"/>
              <a:ext cx="3636720" cy="3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2600" y="2475000"/>
              <a:ext cx="3236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462600" y="2189160"/>
              <a:ext cx="0" cy="30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3699720" y="2475000"/>
              <a:ext cx="0" cy="2760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2600" y="5235480"/>
              <a:ext cx="234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62600" y="2936880"/>
              <a:ext cx="3229560" cy="2276640"/>
            </a:xfrm>
            <a:custGeom>
              <a:avLst/>
              <a:gdLst/>
              <a:ahLst/>
              <a:rect l="l" t="t" r="r" b="b"/>
              <a:pathLst>
                <a:path w="2204" h="1434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48" y="0"/>
                  </a:lnTo>
                  <a:lnTo>
                    <a:pt x="153" y="0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89" y="0"/>
                  </a:lnTo>
                  <a:lnTo>
                    <a:pt x="194" y="0"/>
                  </a:lnTo>
                  <a:lnTo>
                    <a:pt x="199" y="0"/>
                  </a:lnTo>
                  <a:lnTo>
                    <a:pt x="204" y="0"/>
                  </a:lnTo>
                  <a:lnTo>
                    <a:pt x="209" y="0"/>
                  </a:lnTo>
                  <a:lnTo>
                    <a:pt x="214" y="0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0" y="0"/>
                  </a:lnTo>
                  <a:lnTo>
                    <a:pt x="235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50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5" y="0"/>
                  </a:lnTo>
                  <a:lnTo>
                    <a:pt x="271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6" y="5"/>
                  </a:lnTo>
                  <a:lnTo>
                    <a:pt x="301" y="5"/>
                  </a:lnTo>
                  <a:lnTo>
                    <a:pt x="306" y="5"/>
                  </a:lnTo>
                  <a:lnTo>
                    <a:pt x="311" y="5"/>
                  </a:lnTo>
                  <a:lnTo>
                    <a:pt x="316" y="5"/>
                  </a:lnTo>
                  <a:lnTo>
                    <a:pt x="322" y="5"/>
                  </a:lnTo>
                  <a:lnTo>
                    <a:pt x="327" y="5"/>
                  </a:lnTo>
                  <a:lnTo>
                    <a:pt x="332" y="5"/>
                  </a:lnTo>
                  <a:lnTo>
                    <a:pt x="337" y="10"/>
                  </a:lnTo>
                  <a:lnTo>
                    <a:pt x="342" y="10"/>
                  </a:lnTo>
                  <a:lnTo>
                    <a:pt x="347" y="10"/>
                  </a:lnTo>
                  <a:lnTo>
                    <a:pt x="352" y="10"/>
                  </a:lnTo>
                  <a:lnTo>
                    <a:pt x="357" y="10"/>
                  </a:lnTo>
                  <a:lnTo>
                    <a:pt x="362" y="10"/>
                  </a:lnTo>
                  <a:lnTo>
                    <a:pt x="367" y="15"/>
                  </a:lnTo>
                  <a:lnTo>
                    <a:pt x="373" y="15"/>
                  </a:lnTo>
                  <a:lnTo>
                    <a:pt x="378" y="15"/>
                  </a:lnTo>
                  <a:lnTo>
                    <a:pt x="383" y="20"/>
                  </a:lnTo>
                  <a:lnTo>
                    <a:pt x="388" y="20"/>
                  </a:lnTo>
                  <a:lnTo>
                    <a:pt x="393" y="20"/>
                  </a:lnTo>
                  <a:lnTo>
                    <a:pt x="398" y="20"/>
                  </a:lnTo>
                  <a:lnTo>
                    <a:pt x="403" y="25"/>
                  </a:lnTo>
                  <a:lnTo>
                    <a:pt x="408" y="25"/>
                  </a:lnTo>
                  <a:lnTo>
                    <a:pt x="413" y="30"/>
                  </a:lnTo>
                  <a:lnTo>
                    <a:pt x="418" y="30"/>
                  </a:lnTo>
                  <a:lnTo>
                    <a:pt x="424" y="30"/>
                  </a:lnTo>
                  <a:lnTo>
                    <a:pt x="429" y="36"/>
                  </a:lnTo>
                  <a:lnTo>
                    <a:pt x="434" y="36"/>
                  </a:lnTo>
                  <a:lnTo>
                    <a:pt x="434" y="41"/>
                  </a:lnTo>
                  <a:lnTo>
                    <a:pt x="439" y="41"/>
                  </a:lnTo>
                  <a:lnTo>
                    <a:pt x="444" y="46"/>
                  </a:lnTo>
                  <a:lnTo>
                    <a:pt x="449" y="46"/>
                  </a:lnTo>
                  <a:lnTo>
                    <a:pt x="454" y="51"/>
                  </a:lnTo>
                  <a:lnTo>
                    <a:pt x="459" y="51"/>
                  </a:lnTo>
                  <a:lnTo>
                    <a:pt x="459" y="56"/>
                  </a:lnTo>
                  <a:lnTo>
                    <a:pt x="464" y="56"/>
                  </a:lnTo>
                  <a:lnTo>
                    <a:pt x="469" y="61"/>
                  </a:lnTo>
                  <a:lnTo>
                    <a:pt x="475" y="61"/>
                  </a:lnTo>
                  <a:lnTo>
                    <a:pt x="480" y="66"/>
                  </a:lnTo>
                  <a:lnTo>
                    <a:pt x="485" y="71"/>
                  </a:lnTo>
                  <a:lnTo>
                    <a:pt x="490" y="76"/>
                  </a:lnTo>
                  <a:lnTo>
                    <a:pt x="495" y="81"/>
                  </a:lnTo>
                  <a:lnTo>
                    <a:pt x="500" y="87"/>
                  </a:lnTo>
                  <a:lnTo>
                    <a:pt x="505" y="92"/>
                  </a:lnTo>
                  <a:lnTo>
                    <a:pt x="510" y="92"/>
                  </a:lnTo>
                  <a:lnTo>
                    <a:pt x="515" y="97"/>
                  </a:lnTo>
                  <a:lnTo>
                    <a:pt x="515" y="102"/>
                  </a:lnTo>
                  <a:lnTo>
                    <a:pt x="520" y="107"/>
                  </a:lnTo>
                  <a:lnTo>
                    <a:pt x="526" y="112"/>
                  </a:lnTo>
                  <a:lnTo>
                    <a:pt x="531" y="117"/>
                  </a:lnTo>
                  <a:lnTo>
                    <a:pt x="536" y="122"/>
                  </a:lnTo>
                  <a:lnTo>
                    <a:pt x="541" y="127"/>
                  </a:lnTo>
                  <a:lnTo>
                    <a:pt x="546" y="132"/>
                  </a:lnTo>
                  <a:lnTo>
                    <a:pt x="546" y="138"/>
                  </a:lnTo>
                  <a:lnTo>
                    <a:pt x="551" y="148"/>
                  </a:lnTo>
                  <a:lnTo>
                    <a:pt x="556" y="153"/>
                  </a:lnTo>
                  <a:lnTo>
                    <a:pt x="561" y="158"/>
                  </a:lnTo>
                  <a:lnTo>
                    <a:pt x="566" y="163"/>
                  </a:lnTo>
                  <a:lnTo>
                    <a:pt x="571" y="168"/>
                  </a:lnTo>
                  <a:lnTo>
                    <a:pt x="571" y="178"/>
                  </a:lnTo>
                  <a:lnTo>
                    <a:pt x="577" y="183"/>
                  </a:lnTo>
                  <a:lnTo>
                    <a:pt x="582" y="189"/>
                  </a:lnTo>
                  <a:lnTo>
                    <a:pt x="587" y="199"/>
                  </a:lnTo>
                  <a:lnTo>
                    <a:pt x="592" y="204"/>
                  </a:lnTo>
                  <a:lnTo>
                    <a:pt x="597" y="209"/>
                  </a:lnTo>
                  <a:lnTo>
                    <a:pt x="602" y="219"/>
                  </a:lnTo>
                  <a:lnTo>
                    <a:pt x="602" y="224"/>
                  </a:lnTo>
                  <a:lnTo>
                    <a:pt x="607" y="234"/>
                  </a:lnTo>
                  <a:lnTo>
                    <a:pt x="612" y="240"/>
                  </a:lnTo>
                  <a:lnTo>
                    <a:pt x="617" y="250"/>
                  </a:lnTo>
                  <a:lnTo>
                    <a:pt x="622" y="260"/>
                  </a:lnTo>
                  <a:lnTo>
                    <a:pt x="628" y="265"/>
                  </a:lnTo>
                  <a:lnTo>
                    <a:pt x="628" y="275"/>
                  </a:lnTo>
                  <a:lnTo>
                    <a:pt x="633" y="280"/>
                  </a:lnTo>
                  <a:lnTo>
                    <a:pt x="638" y="291"/>
                  </a:lnTo>
                  <a:lnTo>
                    <a:pt x="643" y="301"/>
                  </a:lnTo>
                  <a:lnTo>
                    <a:pt x="648" y="306"/>
                  </a:lnTo>
                  <a:lnTo>
                    <a:pt x="653" y="316"/>
                  </a:lnTo>
                  <a:lnTo>
                    <a:pt x="658" y="326"/>
                  </a:lnTo>
                  <a:lnTo>
                    <a:pt x="658" y="336"/>
                  </a:lnTo>
                  <a:lnTo>
                    <a:pt x="663" y="342"/>
                  </a:lnTo>
                  <a:lnTo>
                    <a:pt x="668" y="352"/>
                  </a:lnTo>
                  <a:lnTo>
                    <a:pt x="673" y="362"/>
                  </a:lnTo>
                  <a:lnTo>
                    <a:pt x="679" y="372"/>
                  </a:lnTo>
                  <a:lnTo>
                    <a:pt x="684" y="382"/>
                  </a:lnTo>
                  <a:lnTo>
                    <a:pt x="684" y="387"/>
                  </a:lnTo>
                  <a:lnTo>
                    <a:pt x="689" y="398"/>
                  </a:lnTo>
                  <a:lnTo>
                    <a:pt x="694" y="408"/>
                  </a:lnTo>
                  <a:lnTo>
                    <a:pt x="699" y="418"/>
                  </a:lnTo>
                  <a:lnTo>
                    <a:pt x="704" y="428"/>
                  </a:lnTo>
                  <a:lnTo>
                    <a:pt x="709" y="438"/>
                  </a:lnTo>
                  <a:lnTo>
                    <a:pt x="714" y="449"/>
                  </a:lnTo>
                  <a:lnTo>
                    <a:pt x="714" y="454"/>
                  </a:lnTo>
                  <a:lnTo>
                    <a:pt x="719" y="464"/>
                  </a:lnTo>
                  <a:lnTo>
                    <a:pt x="724" y="474"/>
                  </a:lnTo>
                  <a:lnTo>
                    <a:pt x="730" y="484"/>
                  </a:lnTo>
                  <a:lnTo>
                    <a:pt x="735" y="495"/>
                  </a:lnTo>
                  <a:lnTo>
                    <a:pt x="740" y="505"/>
                  </a:lnTo>
                  <a:lnTo>
                    <a:pt x="740" y="515"/>
                  </a:lnTo>
                  <a:lnTo>
                    <a:pt x="745" y="525"/>
                  </a:lnTo>
                  <a:lnTo>
                    <a:pt x="750" y="530"/>
                  </a:lnTo>
                  <a:lnTo>
                    <a:pt x="755" y="540"/>
                  </a:lnTo>
                  <a:lnTo>
                    <a:pt x="760" y="551"/>
                  </a:lnTo>
                  <a:lnTo>
                    <a:pt x="765" y="561"/>
                  </a:lnTo>
                  <a:lnTo>
                    <a:pt x="770" y="571"/>
                  </a:lnTo>
                  <a:lnTo>
                    <a:pt x="770" y="581"/>
                  </a:lnTo>
                  <a:lnTo>
                    <a:pt x="775" y="591"/>
                  </a:lnTo>
                  <a:lnTo>
                    <a:pt x="781" y="597"/>
                  </a:lnTo>
                  <a:lnTo>
                    <a:pt x="786" y="607"/>
                  </a:lnTo>
                  <a:lnTo>
                    <a:pt x="791" y="617"/>
                  </a:lnTo>
                  <a:lnTo>
                    <a:pt x="796" y="627"/>
                  </a:lnTo>
                  <a:lnTo>
                    <a:pt x="796" y="637"/>
                  </a:lnTo>
                  <a:lnTo>
                    <a:pt x="801" y="642"/>
                  </a:lnTo>
                  <a:lnTo>
                    <a:pt x="806" y="653"/>
                  </a:lnTo>
                  <a:lnTo>
                    <a:pt x="811" y="663"/>
                  </a:lnTo>
                  <a:lnTo>
                    <a:pt x="816" y="673"/>
                  </a:lnTo>
                  <a:lnTo>
                    <a:pt x="821" y="678"/>
                  </a:lnTo>
                  <a:lnTo>
                    <a:pt x="826" y="688"/>
                  </a:lnTo>
                  <a:lnTo>
                    <a:pt x="826" y="699"/>
                  </a:lnTo>
                  <a:lnTo>
                    <a:pt x="832" y="704"/>
                  </a:lnTo>
                  <a:lnTo>
                    <a:pt x="837" y="714"/>
                  </a:lnTo>
                  <a:lnTo>
                    <a:pt x="842" y="724"/>
                  </a:lnTo>
                  <a:lnTo>
                    <a:pt x="847" y="729"/>
                  </a:lnTo>
                  <a:lnTo>
                    <a:pt x="852" y="739"/>
                  </a:lnTo>
                  <a:lnTo>
                    <a:pt x="852" y="750"/>
                  </a:lnTo>
                  <a:lnTo>
                    <a:pt x="857" y="755"/>
                  </a:lnTo>
                  <a:lnTo>
                    <a:pt x="862" y="765"/>
                  </a:lnTo>
                  <a:lnTo>
                    <a:pt x="867" y="775"/>
                  </a:lnTo>
                  <a:lnTo>
                    <a:pt x="872" y="780"/>
                  </a:lnTo>
                  <a:lnTo>
                    <a:pt x="877" y="790"/>
                  </a:lnTo>
                  <a:lnTo>
                    <a:pt x="883" y="795"/>
                  </a:lnTo>
                  <a:lnTo>
                    <a:pt x="883" y="806"/>
                  </a:lnTo>
                  <a:lnTo>
                    <a:pt x="888" y="811"/>
                  </a:lnTo>
                  <a:lnTo>
                    <a:pt x="893" y="821"/>
                  </a:lnTo>
                  <a:lnTo>
                    <a:pt x="898" y="826"/>
                  </a:lnTo>
                  <a:lnTo>
                    <a:pt x="903" y="836"/>
                  </a:lnTo>
                  <a:lnTo>
                    <a:pt x="908" y="841"/>
                  </a:lnTo>
                  <a:lnTo>
                    <a:pt x="908" y="846"/>
                  </a:lnTo>
                  <a:lnTo>
                    <a:pt x="913" y="857"/>
                  </a:lnTo>
                  <a:lnTo>
                    <a:pt x="918" y="862"/>
                  </a:lnTo>
                  <a:lnTo>
                    <a:pt x="923" y="872"/>
                  </a:lnTo>
                  <a:lnTo>
                    <a:pt x="928" y="877"/>
                  </a:lnTo>
                  <a:lnTo>
                    <a:pt x="934" y="882"/>
                  </a:lnTo>
                  <a:lnTo>
                    <a:pt x="939" y="892"/>
                  </a:lnTo>
                  <a:lnTo>
                    <a:pt x="939" y="897"/>
                  </a:lnTo>
                  <a:lnTo>
                    <a:pt x="944" y="903"/>
                  </a:lnTo>
                  <a:lnTo>
                    <a:pt x="949" y="908"/>
                  </a:lnTo>
                  <a:lnTo>
                    <a:pt x="954" y="918"/>
                  </a:lnTo>
                  <a:lnTo>
                    <a:pt x="959" y="923"/>
                  </a:lnTo>
                  <a:lnTo>
                    <a:pt x="964" y="928"/>
                  </a:lnTo>
                  <a:lnTo>
                    <a:pt x="964" y="933"/>
                  </a:lnTo>
                  <a:lnTo>
                    <a:pt x="969" y="943"/>
                  </a:lnTo>
                  <a:lnTo>
                    <a:pt x="974" y="948"/>
                  </a:lnTo>
                  <a:lnTo>
                    <a:pt x="979" y="954"/>
                  </a:lnTo>
                  <a:lnTo>
                    <a:pt x="985" y="959"/>
                  </a:lnTo>
                  <a:lnTo>
                    <a:pt x="990" y="964"/>
                  </a:lnTo>
                  <a:lnTo>
                    <a:pt x="995" y="969"/>
                  </a:lnTo>
                  <a:lnTo>
                    <a:pt x="995" y="974"/>
                  </a:lnTo>
                  <a:lnTo>
                    <a:pt x="1000" y="984"/>
                  </a:lnTo>
                  <a:lnTo>
                    <a:pt x="1005" y="989"/>
                  </a:lnTo>
                  <a:lnTo>
                    <a:pt x="1010" y="994"/>
                  </a:lnTo>
                  <a:lnTo>
                    <a:pt x="1015" y="999"/>
                  </a:lnTo>
                  <a:lnTo>
                    <a:pt x="1020" y="1005"/>
                  </a:lnTo>
                  <a:lnTo>
                    <a:pt x="1020" y="1010"/>
                  </a:lnTo>
                  <a:lnTo>
                    <a:pt x="1025" y="1015"/>
                  </a:lnTo>
                  <a:lnTo>
                    <a:pt x="1030" y="1020"/>
                  </a:lnTo>
                  <a:lnTo>
                    <a:pt x="1036" y="1025"/>
                  </a:lnTo>
                  <a:lnTo>
                    <a:pt x="1041" y="1030"/>
                  </a:lnTo>
                  <a:lnTo>
                    <a:pt x="1046" y="1035"/>
                  </a:lnTo>
                  <a:lnTo>
                    <a:pt x="1051" y="1040"/>
                  </a:lnTo>
                  <a:lnTo>
                    <a:pt x="1051" y="1045"/>
                  </a:lnTo>
                  <a:lnTo>
                    <a:pt x="1056" y="1050"/>
                  </a:lnTo>
                  <a:lnTo>
                    <a:pt x="1061" y="1050"/>
                  </a:lnTo>
                  <a:lnTo>
                    <a:pt x="1066" y="1056"/>
                  </a:lnTo>
                  <a:lnTo>
                    <a:pt x="1071" y="1061"/>
                  </a:lnTo>
                  <a:lnTo>
                    <a:pt x="1076" y="1066"/>
                  </a:lnTo>
                  <a:lnTo>
                    <a:pt x="1076" y="1071"/>
                  </a:lnTo>
                  <a:lnTo>
                    <a:pt x="1081" y="1076"/>
                  </a:lnTo>
                  <a:lnTo>
                    <a:pt x="1087" y="1081"/>
                  </a:lnTo>
                  <a:lnTo>
                    <a:pt x="1092" y="1081"/>
                  </a:lnTo>
                  <a:lnTo>
                    <a:pt x="1097" y="1086"/>
                  </a:lnTo>
                  <a:lnTo>
                    <a:pt x="1102" y="1091"/>
                  </a:lnTo>
                  <a:lnTo>
                    <a:pt x="1107" y="1096"/>
                  </a:lnTo>
                  <a:lnTo>
                    <a:pt x="1107" y="1101"/>
                  </a:lnTo>
                  <a:lnTo>
                    <a:pt x="1112" y="1101"/>
                  </a:lnTo>
                  <a:lnTo>
                    <a:pt x="1117" y="1107"/>
                  </a:lnTo>
                  <a:lnTo>
                    <a:pt x="1122" y="1112"/>
                  </a:lnTo>
                  <a:lnTo>
                    <a:pt x="1127" y="1117"/>
                  </a:lnTo>
                  <a:lnTo>
                    <a:pt x="1132" y="1117"/>
                  </a:lnTo>
                  <a:lnTo>
                    <a:pt x="1132" y="1122"/>
                  </a:lnTo>
                  <a:lnTo>
                    <a:pt x="1138" y="1127"/>
                  </a:lnTo>
                  <a:lnTo>
                    <a:pt x="1143" y="1132"/>
                  </a:lnTo>
                  <a:lnTo>
                    <a:pt x="1148" y="1132"/>
                  </a:lnTo>
                  <a:lnTo>
                    <a:pt x="1153" y="1137"/>
                  </a:lnTo>
                  <a:lnTo>
                    <a:pt x="1158" y="1142"/>
                  </a:lnTo>
                  <a:lnTo>
                    <a:pt x="1163" y="1147"/>
                  </a:lnTo>
                  <a:lnTo>
                    <a:pt x="1168" y="1152"/>
                  </a:lnTo>
                  <a:lnTo>
                    <a:pt x="1173" y="1152"/>
                  </a:lnTo>
                  <a:lnTo>
                    <a:pt x="1178" y="1158"/>
                  </a:lnTo>
                  <a:lnTo>
                    <a:pt x="1183" y="1163"/>
                  </a:lnTo>
                  <a:lnTo>
                    <a:pt x="1189" y="1163"/>
                  </a:lnTo>
                  <a:lnTo>
                    <a:pt x="1189" y="1168"/>
                  </a:lnTo>
                  <a:lnTo>
                    <a:pt x="1194" y="1168"/>
                  </a:lnTo>
                  <a:lnTo>
                    <a:pt x="1199" y="1173"/>
                  </a:lnTo>
                  <a:lnTo>
                    <a:pt x="1204" y="1178"/>
                  </a:lnTo>
                  <a:lnTo>
                    <a:pt x="1209" y="1178"/>
                  </a:lnTo>
                  <a:lnTo>
                    <a:pt x="1214" y="1183"/>
                  </a:lnTo>
                  <a:lnTo>
                    <a:pt x="1219" y="1188"/>
                  </a:lnTo>
                  <a:lnTo>
                    <a:pt x="1224" y="1193"/>
                  </a:lnTo>
                  <a:lnTo>
                    <a:pt x="1229" y="1193"/>
                  </a:lnTo>
                  <a:lnTo>
                    <a:pt x="1234" y="1198"/>
                  </a:lnTo>
                  <a:lnTo>
                    <a:pt x="1240" y="1198"/>
                  </a:lnTo>
                  <a:lnTo>
                    <a:pt x="1245" y="1203"/>
                  </a:lnTo>
                  <a:lnTo>
                    <a:pt x="1250" y="1209"/>
                  </a:lnTo>
                  <a:lnTo>
                    <a:pt x="1255" y="1209"/>
                  </a:lnTo>
                  <a:lnTo>
                    <a:pt x="1260" y="1214"/>
                  </a:lnTo>
                  <a:lnTo>
                    <a:pt x="1265" y="1214"/>
                  </a:lnTo>
                  <a:lnTo>
                    <a:pt x="1270" y="1219"/>
                  </a:lnTo>
                  <a:lnTo>
                    <a:pt x="1275" y="1224"/>
                  </a:lnTo>
                  <a:lnTo>
                    <a:pt x="1280" y="1224"/>
                  </a:lnTo>
                  <a:lnTo>
                    <a:pt x="1285" y="1229"/>
                  </a:lnTo>
                  <a:lnTo>
                    <a:pt x="1291" y="1229"/>
                  </a:lnTo>
                  <a:lnTo>
                    <a:pt x="1296" y="1234"/>
                  </a:lnTo>
                  <a:lnTo>
                    <a:pt x="1301" y="1234"/>
                  </a:lnTo>
                  <a:lnTo>
                    <a:pt x="1306" y="1239"/>
                  </a:lnTo>
                  <a:lnTo>
                    <a:pt x="1311" y="1239"/>
                  </a:lnTo>
                  <a:lnTo>
                    <a:pt x="1316" y="1244"/>
                  </a:lnTo>
                  <a:lnTo>
                    <a:pt x="1321" y="1244"/>
                  </a:lnTo>
                  <a:lnTo>
                    <a:pt x="1326" y="1249"/>
                  </a:lnTo>
                  <a:lnTo>
                    <a:pt x="1331" y="1249"/>
                  </a:lnTo>
                  <a:lnTo>
                    <a:pt x="1336" y="1254"/>
                  </a:lnTo>
                  <a:lnTo>
                    <a:pt x="1342" y="1254"/>
                  </a:lnTo>
                  <a:lnTo>
                    <a:pt x="1347" y="1260"/>
                  </a:lnTo>
                  <a:lnTo>
                    <a:pt x="1352" y="1260"/>
                  </a:lnTo>
                  <a:lnTo>
                    <a:pt x="1357" y="1260"/>
                  </a:lnTo>
                  <a:lnTo>
                    <a:pt x="1357" y="1265"/>
                  </a:lnTo>
                  <a:lnTo>
                    <a:pt x="1362" y="1265"/>
                  </a:lnTo>
                  <a:lnTo>
                    <a:pt x="1367" y="1270"/>
                  </a:lnTo>
                  <a:lnTo>
                    <a:pt x="1372" y="1270"/>
                  </a:lnTo>
                  <a:lnTo>
                    <a:pt x="1377" y="1270"/>
                  </a:lnTo>
                  <a:lnTo>
                    <a:pt x="1382" y="1275"/>
                  </a:lnTo>
                  <a:lnTo>
                    <a:pt x="1387" y="1275"/>
                  </a:lnTo>
                  <a:lnTo>
                    <a:pt x="1393" y="1280"/>
                  </a:lnTo>
                  <a:lnTo>
                    <a:pt x="1398" y="1280"/>
                  </a:lnTo>
                  <a:lnTo>
                    <a:pt x="1403" y="1280"/>
                  </a:lnTo>
                  <a:lnTo>
                    <a:pt x="1408" y="1285"/>
                  </a:lnTo>
                  <a:lnTo>
                    <a:pt x="1413" y="1285"/>
                  </a:lnTo>
                  <a:lnTo>
                    <a:pt x="1418" y="1290"/>
                  </a:lnTo>
                  <a:lnTo>
                    <a:pt x="1423" y="1290"/>
                  </a:lnTo>
                  <a:lnTo>
                    <a:pt x="1428" y="1290"/>
                  </a:lnTo>
                  <a:lnTo>
                    <a:pt x="1433" y="1295"/>
                  </a:lnTo>
                  <a:lnTo>
                    <a:pt x="1438" y="1295"/>
                  </a:lnTo>
                  <a:lnTo>
                    <a:pt x="1444" y="1300"/>
                  </a:lnTo>
                  <a:lnTo>
                    <a:pt x="1449" y="1300"/>
                  </a:lnTo>
                  <a:lnTo>
                    <a:pt x="1454" y="1300"/>
                  </a:lnTo>
                  <a:lnTo>
                    <a:pt x="1459" y="1305"/>
                  </a:lnTo>
                  <a:lnTo>
                    <a:pt x="1464" y="1305"/>
                  </a:lnTo>
                  <a:lnTo>
                    <a:pt x="1469" y="1305"/>
                  </a:lnTo>
                  <a:lnTo>
                    <a:pt x="1474" y="1311"/>
                  </a:lnTo>
                  <a:lnTo>
                    <a:pt x="1479" y="1311"/>
                  </a:lnTo>
                  <a:lnTo>
                    <a:pt x="1484" y="1311"/>
                  </a:lnTo>
                  <a:lnTo>
                    <a:pt x="1489" y="1311"/>
                  </a:lnTo>
                  <a:lnTo>
                    <a:pt x="1495" y="1316"/>
                  </a:lnTo>
                  <a:lnTo>
                    <a:pt x="1500" y="1316"/>
                  </a:lnTo>
                  <a:lnTo>
                    <a:pt x="1505" y="1321"/>
                  </a:lnTo>
                  <a:lnTo>
                    <a:pt x="1510" y="1321"/>
                  </a:lnTo>
                  <a:lnTo>
                    <a:pt x="1515" y="1321"/>
                  </a:lnTo>
                  <a:lnTo>
                    <a:pt x="1520" y="1321"/>
                  </a:lnTo>
                  <a:lnTo>
                    <a:pt x="1525" y="1326"/>
                  </a:lnTo>
                  <a:lnTo>
                    <a:pt x="1530" y="1326"/>
                  </a:lnTo>
                  <a:lnTo>
                    <a:pt x="1535" y="1326"/>
                  </a:lnTo>
                  <a:lnTo>
                    <a:pt x="1540" y="1331"/>
                  </a:lnTo>
                  <a:lnTo>
                    <a:pt x="1546" y="1331"/>
                  </a:lnTo>
                  <a:lnTo>
                    <a:pt x="1551" y="1331"/>
                  </a:lnTo>
                  <a:lnTo>
                    <a:pt x="1556" y="1336"/>
                  </a:lnTo>
                  <a:lnTo>
                    <a:pt x="1561" y="1336"/>
                  </a:lnTo>
                  <a:lnTo>
                    <a:pt x="1566" y="1336"/>
                  </a:lnTo>
                  <a:lnTo>
                    <a:pt x="1571" y="1336"/>
                  </a:lnTo>
                  <a:lnTo>
                    <a:pt x="1576" y="1336"/>
                  </a:lnTo>
                  <a:lnTo>
                    <a:pt x="1581" y="1341"/>
                  </a:lnTo>
                  <a:lnTo>
                    <a:pt x="1586" y="1341"/>
                  </a:lnTo>
                  <a:lnTo>
                    <a:pt x="1591" y="1341"/>
                  </a:lnTo>
                  <a:lnTo>
                    <a:pt x="1597" y="1346"/>
                  </a:lnTo>
                  <a:lnTo>
                    <a:pt x="1602" y="1346"/>
                  </a:lnTo>
                  <a:lnTo>
                    <a:pt x="1607" y="1346"/>
                  </a:lnTo>
                  <a:lnTo>
                    <a:pt x="1612" y="1346"/>
                  </a:lnTo>
                  <a:lnTo>
                    <a:pt x="1617" y="1351"/>
                  </a:lnTo>
                  <a:lnTo>
                    <a:pt x="1622" y="1351"/>
                  </a:lnTo>
                  <a:lnTo>
                    <a:pt x="1627" y="1351"/>
                  </a:lnTo>
                  <a:lnTo>
                    <a:pt x="1632" y="1351"/>
                  </a:lnTo>
                  <a:lnTo>
                    <a:pt x="1637" y="1351"/>
                  </a:lnTo>
                  <a:lnTo>
                    <a:pt x="1637" y="1356"/>
                  </a:lnTo>
                  <a:lnTo>
                    <a:pt x="1642" y="1356"/>
                  </a:lnTo>
                  <a:lnTo>
                    <a:pt x="1648" y="1356"/>
                  </a:lnTo>
                  <a:lnTo>
                    <a:pt x="1653" y="1356"/>
                  </a:lnTo>
                  <a:lnTo>
                    <a:pt x="1658" y="1356"/>
                  </a:lnTo>
                  <a:lnTo>
                    <a:pt x="1663" y="1362"/>
                  </a:lnTo>
                  <a:lnTo>
                    <a:pt x="1668" y="1362"/>
                  </a:lnTo>
                  <a:lnTo>
                    <a:pt x="1673" y="1362"/>
                  </a:lnTo>
                  <a:lnTo>
                    <a:pt x="1678" y="1362"/>
                  </a:lnTo>
                  <a:lnTo>
                    <a:pt x="1683" y="1362"/>
                  </a:lnTo>
                  <a:lnTo>
                    <a:pt x="1688" y="1367"/>
                  </a:lnTo>
                  <a:lnTo>
                    <a:pt x="1693" y="1367"/>
                  </a:lnTo>
                  <a:lnTo>
                    <a:pt x="1699" y="1367"/>
                  </a:lnTo>
                  <a:lnTo>
                    <a:pt x="1704" y="1367"/>
                  </a:lnTo>
                  <a:lnTo>
                    <a:pt x="1709" y="1372"/>
                  </a:lnTo>
                  <a:lnTo>
                    <a:pt x="1714" y="1372"/>
                  </a:lnTo>
                  <a:lnTo>
                    <a:pt x="1719" y="1372"/>
                  </a:lnTo>
                  <a:lnTo>
                    <a:pt x="1724" y="1372"/>
                  </a:lnTo>
                  <a:lnTo>
                    <a:pt x="1729" y="1372"/>
                  </a:lnTo>
                  <a:lnTo>
                    <a:pt x="1734" y="1377"/>
                  </a:lnTo>
                  <a:lnTo>
                    <a:pt x="1739" y="1377"/>
                  </a:lnTo>
                  <a:lnTo>
                    <a:pt x="1744" y="1377"/>
                  </a:lnTo>
                  <a:lnTo>
                    <a:pt x="1750" y="1377"/>
                  </a:lnTo>
                  <a:lnTo>
                    <a:pt x="1755" y="1377"/>
                  </a:lnTo>
                  <a:lnTo>
                    <a:pt x="1760" y="1382"/>
                  </a:lnTo>
                  <a:lnTo>
                    <a:pt x="1765" y="1382"/>
                  </a:lnTo>
                  <a:lnTo>
                    <a:pt x="1770" y="1382"/>
                  </a:lnTo>
                  <a:lnTo>
                    <a:pt x="1775" y="1382"/>
                  </a:lnTo>
                  <a:lnTo>
                    <a:pt x="1780" y="1382"/>
                  </a:lnTo>
                  <a:lnTo>
                    <a:pt x="1785" y="1382"/>
                  </a:lnTo>
                  <a:lnTo>
                    <a:pt x="1790" y="1387"/>
                  </a:lnTo>
                  <a:lnTo>
                    <a:pt x="1795" y="1387"/>
                  </a:lnTo>
                  <a:lnTo>
                    <a:pt x="1801" y="1387"/>
                  </a:lnTo>
                  <a:lnTo>
                    <a:pt x="1806" y="1387"/>
                  </a:lnTo>
                  <a:lnTo>
                    <a:pt x="1811" y="1387"/>
                  </a:lnTo>
                  <a:lnTo>
                    <a:pt x="1816" y="1387"/>
                  </a:lnTo>
                  <a:lnTo>
                    <a:pt x="1821" y="1392"/>
                  </a:lnTo>
                  <a:lnTo>
                    <a:pt x="1826" y="1392"/>
                  </a:lnTo>
                  <a:lnTo>
                    <a:pt x="1831" y="1392"/>
                  </a:lnTo>
                  <a:lnTo>
                    <a:pt x="1836" y="1392"/>
                  </a:lnTo>
                  <a:lnTo>
                    <a:pt x="1841" y="1392"/>
                  </a:lnTo>
                  <a:lnTo>
                    <a:pt x="1846" y="1392"/>
                  </a:lnTo>
                  <a:lnTo>
                    <a:pt x="1852" y="1397"/>
                  </a:lnTo>
                  <a:lnTo>
                    <a:pt x="1857" y="1397"/>
                  </a:lnTo>
                  <a:lnTo>
                    <a:pt x="1862" y="1397"/>
                  </a:lnTo>
                  <a:lnTo>
                    <a:pt x="1867" y="1397"/>
                  </a:lnTo>
                  <a:lnTo>
                    <a:pt x="1872" y="1397"/>
                  </a:lnTo>
                  <a:lnTo>
                    <a:pt x="1877" y="1397"/>
                  </a:lnTo>
                  <a:lnTo>
                    <a:pt x="1882" y="1397"/>
                  </a:lnTo>
                  <a:lnTo>
                    <a:pt x="1887" y="1402"/>
                  </a:lnTo>
                  <a:lnTo>
                    <a:pt x="1892" y="1402"/>
                  </a:lnTo>
                  <a:lnTo>
                    <a:pt x="1897" y="1402"/>
                  </a:lnTo>
                  <a:lnTo>
                    <a:pt x="1903" y="1402"/>
                  </a:lnTo>
                  <a:lnTo>
                    <a:pt x="1908" y="1402"/>
                  </a:lnTo>
                  <a:lnTo>
                    <a:pt x="1913" y="1402"/>
                  </a:lnTo>
                  <a:lnTo>
                    <a:pt x="1918" y="1407"/>
                  </a:lnTo>
                  <a:lnTo>
                    <a:pt x="1923" y="1407"/>
                  </a:lnTo>
                  <a:lnTo>
                    <a:pt x="1928" y="1407"/>
                  </a:lnTo>
                  <a:lnTo>
                    <a:pt x="1933" y="1407"/>
                  </a:lnTo>
                  <a:lnTo>
                    <a:pt x="1938" y="1407"/>
                  </a:lnTo>
                  <a:lnTo>
                    <a:pt x="1943" y="1407"/>
                  </a:lnTo>
                  <a:lnTo>
                    <a:pt x="1948" y="1407"/>
                  </a:lnTo>
                  <a:lnTo>
                    <a:pt x="1954" y="1407"/>
                  </a:lnTo>
                  <a:lnTo>
                    <a:pt x="1959" y="1413"/>
                  </a:lnTo>
                  <a:lnTo>
                    <a:pt x="1964" y="1413"/>
                  </a:lnTo>
                  <a:lnTo>
                    <a:pt x="1969" y="1413"/>
                  </a:lnTo>
                  <a:lnTo>
                    <a:pt x="1974" y="1413"/>
                  </a:lnTo>
                  <a:lnTo>
                    <a:pt x="1979" y="1413"/>
                  </a:lnTo>
                  <a:lnTo>
                    <a:pt x="1984" y="1413"/>
                  </a:lnTo>
                  <a:lnTo>
                    <a:pt x="1989" y="1413"/>
                  </a:lnTo>
                  <a:lnTo>
                    <a:pt x="1994" y="1413"/>
                  </a:lnTo>
                  <a:lnTo>
                    <a:pt x="1999" y="1418"/>
                  </a:lnTo>
                  <a:lnTo>
                    <a:pt x="2005" y="1418"/>
                  </a:lnTo>
                  <a:lnTo>
                    <a:pt x="2010" y="1418"/>
                  </a:lnTo>
                  <a:lnTo>
                    <a:pt x="2015" y="1418"/>
                  </a:lnTo>
                  <a:lnTo>
                    <a:pt x="2020" y="1418"/>
                  </a:lnTo>
                  <a:lnTo>
                    <a:pt x="2025" y="1418"/>
                  </a:lnTo>
                  <a:lnTo>
                    <a:pt x="2030" y="1418"/>
                  </a:lnTo>
                  <a:lnTo>
                    <a:pt x="2035" y="1418"/>
                  </a:lnTo>
                  <a:lnTo>
                    <a:pt x="2040" y="1423"/>
                  </a:lnTo>
                  <a:lnTo>
                    <a:pt x="2045" y="1423"/>
                  </a:lnTo>
                  <a:lnTo>
                    <a:pt x="2050" y="1423"/>
                  </a:lnTo>
                  <a:lnTo>
                    <a:pt x="2056" y="1423"/>
                  </a:lnTo>
                  <a:lnTo>
                    <a:pt x="2061" y="1423"/>
                  </a:lnTo>
                  <a:lnTo>
                    <a:pt x="2066" y="1423"/>
                  </a:lnTo>
                  <a:lnTo>
                    <a:pt x="2071" y="1423"/>
                  </a:lnTo>
                  <a:lnTo>
                    <a:pt x="2076" y="1423"/>
                  </a:lnTo>
                  <a:lnTo>
                    <a:pt x="2081" y="1423"/>
                  </a:lnTo>
                  <a:lnTo>
                    <a:pt x="2086" y="1423"/>
                  </a:lnTo>
                  <a:lnTo>
                    <a:pt x="2091" y="1428"/>
                  </a:lnTo>
                  <a:lnTo>
                    <a:pt x="2096" y="1428"/>
                  </a:lnTo>
                  <a:lnTo>
                    <a:pt x="2101" y="1428"/>
                  </a:lnTo>
                  <a:lnTo>
                    <a:pt x="2107" y="1428"/>
                  </a:lnTo>
                  <a:lnTo>
                    <a:pt x="2112" y="1428"/>
                  </a:lnTo>
                  <a:lnTo>
                    <a:pt x="2117" y="1428"/>
                  </a:lnTo>
                  <a:lnTo>
                    <a:pt x="2122" y="1428"/>
                  </a:lnTo>
                  <a:lnTo>
                    <a:pt x="2127" y="1428"/>
                  </a:lnTo>
                  <a:lnTo>
                    <a:pt x="2132" y="1428"/>
                  </a:lnTo>
                  <a:lnTo>
                    <a:pt x="2137" y="1428"/>
                  </a:lnTo>
                  <a:lnTo>
                    <a:pt x="2142" y="1428"/>
                  </a:lnTo>
                  <a:lnTo>
                    <a:pt x="2147" y="1428"/>
                  </a:lnTo>
                  <a:lnTo>
                    <a:pt x="2152" y="1428"/>
                  </a:lnTo>
                  <a:lnTo>
                    <a:pt x="2158" y="1428"/>
                  </a:lnTo>
                  <a:lnTo>
                    <a:pt x="2163" y="1428"/>
                  </a:lnTo>
                  <a:lnTo>
                    <a:pt x="2168" y="1433"/>
                  </a:lnTo>
                  <a:lnTo>
                    <a:pt x="2173" y="1433"/>
                  </a:lnTo>
                  <a:lnTo>
                    <a:pt x="2178" y="1433"/>
                  </a:lnTo>
                  <a:lnTo>
                    <a:pt x="2183" y="1433"/>
                  </a:lnTo>
                  <a:lnTo>
                    <a:pt x="2188" y="1433"/>
                  </a:lnTo>
                  <a:lnTo>
                    <a:pt x="2193" y="1433"/>
                  </a:lnTo>
                  <a:lnTo>
                    <a:pt x="2198" y="1433"/>
                  </a:lnTo>
                  <a:lnTo>
                    <a:pt x="2203" y="1433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2600" y="2879640"/>
              <a:ext cx="3229560" cy="2075040"/>
            </a:xfrm>
            <a:custGeom>
              <a:avLst/>
              <a:gdLst/>
              <a:ahLst/>
              <a:rect l="l" t="t" r="r" b="b"/>
              <a:pathLst>
                <a:path w="2204" h="1307">
                  <a:moveTo>
                    <a:pt x="0" y="36"/>
                  </a:moveTo>
                  <a:lnTo>
                    <a:pt x="5" y="36"/>
                  </a:lnTo>
                  <a:lnTo>
                    <a:pt x="10" y="36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26" y="36"/>
                  </a:lnTo>
                  <a:lnTo>
                    <a:pt x="31" y="36"/>
                  </a:lnTo>
                  <a:lnTo>
                    <a:pt x="36" y="36"/>
                  </a:lnTo>
                  <a:lnTo>
                    <a:pt x="41" y="36"/>
                  </a:lnTo>
                  <a:lnTo>
                    <a:pt x="46" y="36"/>
                  </a:lnTo>
                  <a:lnTo>
                    <a:pt x="51" y="36"/>
                  </a:lnTo>
                  <a:lnTo>
                    <a:pt x="56" y="36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2" y="31"/>
                  </a:lnTo>
                  <a:lnTo>
                    <a:pt x="77" y="31"/>
                  </a:lnTo>
                  <a:lnTo>
                    <a:pt x="82" y="31"/>
                  </a:lnTo>
                  <a:lnTo>
                    <a:pt x="87" y="31"/>
                  </a:lnTo>
                  <a:lnTo>
                    <a:pt x="92" y="31"/>
                  </a:lnTo>
                  <a:lnTo>
                    <a:pt x="97" y="31"/>
                  </a:lnTo>
                  <a:lnTo>
                    <a:pt x="102" y="31"/>
                  </a:lnTo>
                  <a:lnTo>
                    <a:pt x="107" y="31"/>
                  </a:lnTo>
                  <a:lnTo>
                    <a:pt x="112" y="31"/>
                  </a:lnTo>
                  <a:lnTo>
                    <a:pt x="118" y="31"/>
                  </a:lnTo>
                  <a:lnTo>
                    <a:pt x="123" y="31"/>
                  </a:lnTo>
                  <a:lnTo>
                    <a:pt x="128" y="31"/>
                  </a:lnTo>
                  <a:lnTo>
                    <a:pt x="133" y="31"/>
                  </a:lnTo>
                  <a:lnTo>
                    <a:pt x="138" y="26"/>
                  </a:lnTo>
                  <a:lnTo>
                    <a:pt x="143" y="26"/>
                  </a:lnTo>
                  <a:lnTo>
                    <a:pt x="148" y="26"/>
                  </a:lnTo>
                  <a:lnTo>
                    <a:pt x="153" y="26"/>
                  </a:lnTo>
                  <a:lnTo>
                    <a:pt x="158" y="26"/>
                  </a:lnTo>
                  <a:lnTo>
                    <a:pt x="163" y="26"/>
                  </a:lnTo>
                  <a:lnTo>
                    <a:pt x="169" y="26"/>
                  </a:lnTo>
                  <a:lnTo>
                    <a:pt x="174" y="26"/>
                  </a:lnTo>
                  <a:lnTo>
                    <a:pt x="179" y="26"/>
                  </a:lnTo>
                  <a:lnTo>
                    <a:pt x="184" y="26"/>
                  </a:lnTo>
                  <a:lnTo>
                    <a:pt x="184" y="21"/>
                  </a:lnTo>
                  <a:lnTo>
                    <a:pt x="189" y="21"/>
                  </a:lnTo>
                  <a:lnTo>
                    <a:pt x="194" y="21"/>
                  </a:lnTo>
                  <a:lnTo>
                    <a:pt x="199" y="21"/>
                  </a:lnTo>
                  <a:lnTo>
                    <a:pt x="204" y="21"/>
                  </a:lnTo>
                  <a:lnTo>
                    <a:pt x="209" y="21"/>
                  </a:lnTo>
                  <a:lnTo>
                    <a:pt x="214" y="21"/>
                  </a:lnTo>
                  <a:lnTo>
                    <a:pt x="220" y="15"/>
                  </a:lnTo>
                  <a:lnTo>
                    <a:pt x="225" y="15"/>
                  </a:lnTo>
                  <a:lnTo>
                    <a:pt x="230" y="15"/>
                  </a:lnTo>
                  <a:lnTo>
                    <a:pt x="235" y="15"/>
                  </a:lnTo>
                  <a:lnTo>
                    <a:pt x="240" y="15"/>
                  </a:lnTo>
                  <a:lnTo>
                    <a:pt x="245" y="15"/>
                  </a:lnTo>
                  <a:lnTo>
                    <a:pt x="250" y="15"/>
                  </a:lnTo>
                  <a:lnTo>
                    <a:pt x="255" y="10"/>
                  </a:lnTo>
                  <a:lnTo>
                    <a:pt x="260" y="10"/>
                  </a:lnTo>
                  <a:lnTo>
                    <a:pt x="265" y="10"/>
                  </a:lnTo>
                  <a:lnTo>
                    <a:pt x="271" y="10"/>
                  </a:lnTo>
                  <a:lnTo>
                    <a:pt x="276" y="10"/>
                  </a:lnTo>
                  <a:lnTo>
                    <a:pt x="281" y="10"/>
                  </a:lnTo>
                  <a:lnTo>
                    <a:pt x="286" y="10"/>
                  </a:lnTo>
                  <a:lnTo>
                    <a:pt x="291" y="5"/>
                  </a:lnTo>
                  <a:lnTo>
                    <a:pt x="296" y="5"/>
                  </a:lnTo>
                  <a:lnTo>
                    <a:pt x="301" y="5"/>
                  </a:lnTo>
                  <a:lnTo>
                    <a:pt x="306" y="5"/>
                  </a:lnTo>
                  <a:lnTo>
                    <a:pt x="311" y="5"/>
                  </a:lnTo>
                  <a:lnTo>
                    <a:pt x="316" y="5"/>
                  </a:lnTo>
                  <a:lnTo>
                    <a:pt x="322" y="5"/>
                  </a:lnTo>
                  <a:lnTo>
                    <a:pt x="327" y="0"/>
                  </a:lnTo>
                  <a:lnTo>
                    <a:pt x="332" y="0"/>
                  </a:lnTo>
                  <a:lnTo>
                    <a:pt x="337" y="0"/>
                  </a:lnTo>
                  <a:lnTo>
                    <a:pt x="342" y="0"/>
                  </a:lnTo>
                  <a:lnTo>
                    <a:pt x="347" y="0"/>
                  </a:lnTo>
                  <a:lnTo>
                    <a:pt x="352" y="0"/>
                  </a:lnTo>
                  <a:lnTo>
                    <a:pt x="357" y="0"/>
                  </a:lnTo>
                  <a:lnTo>
                    <a:pt x="362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398" y="0"/>
                  </a:lnTo>
                  <a:lnTo>
                    <a:pt x="403" y="0"/>
                  </a:lnTo>
                  <a:lnTo>
                    <a:pt x="408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4" y="0"/>
                  </a:lnTo>
                  <a:lnTo>
                    <a:pt x="429" y="5"/>
                  </a:lnTo>
                  <a:lnTo>
                    <a:pt x="434" y="5"/>
                  </a:lnTo>
                  <a:lnTo>
                    <a:pt x="439" y="5"/>
                  </a:lnTo>
                  <a:lnTo>
                    <a:pt x="444" y="5"/>
                  </a:lnTo>
                  <a:lnTo>
                    <a:pt x="449" y="10"/>
                  </a:lnTo>
                  <a:lnTo>
                    <a:pt x="454" y="10"/>
                  </a:lnTo>
                  <a:lnTo>
                    <a:pt x="459" y="10"/>
                  </a:lnTo>
                  <a:lnTo>
                    <a:pt x="464" y="15"/>
                  </a:lnTo>
                  <a:lnTo>
                    <a:pt x="469" y="15"/>
                  </a:lnTo>
                  <a:lnTo>
                    <a:pt x="475" y="15"/>
                  </a:lnTo>
                  <a:lnTo>
                    <a:pt x="480" y="21"/>
                  </a:lnTo>
                  <a:lnTo>
                    <a:pt x="485" y="21"/>
                  </a:lnTo>
                  <a:lnTo>
                    <a:pt x="490" y="26"/>
                  </a:lnTo>
                  <a:lnTo>
                    <a:pt x="495" y="31"/>
                  </a:lnTo>
                  <a:lnTo>
                    <a:pt x="500" y="31"/>
                  </a:lnTo>
                  <a:lnTo>
                    <a:pt x="505" y="36"/>
                  </a:lnTo>
                  <a:lnTo>
                    <a:pt x="510" y="36"/>
                  </a:lnTo>
                  <a:lnTo>
                    <a:pt x="515" y="41"/>
                  </a:lnTo>
                  <a:lnTo>
                    <a:pt x="520" y="46"/>
                  </a:lnTo>
                  <a:lnTo>
                    <a:pt x="526" y="51"/>
                  </a:lnTo>
                  <a:lnTo>
                    <a:pt x="531" y="56"/>
                  </a:lnTo>
                  <a:lnTo>
                    <a:pt x="536" y="56"/>
                  </a:lnTo>
                  <a:lnTo>
                    <a:pt x="541" y="61"/>
                  </a:lnTo>
                  <a:lnTo>
                    <a:pt x="546" y="66"/>
                  </a:lnTo>
                  <a:lnTo>
                    <a:pt x="546" y="72"/>
                  </a:lnTo>
                  <a:lnTo>
                    <a:pt x="551" y="77"/>
                  </a:lnTo>
                  <a:lnTo>
                    <a:pt x="556" y="82"/>
                  </a:lnTo>
                  <a:lnTo>
                    <a:pt x="561" y="87"/>
                  </a:lnTo>
                  <a:lnTo>
                    <a:pt x="566" y="87"/>
                  </a:lnTo>
                  <a:lnTo>
                    <a:pt x="571" y="92"/>
                  </a:lnTo>
                  <a:lnTo>
                    <a:pt x="571" y="102"/>
                  </a:lnTo>
                  <a:lnTo>
                    <a:pt x="577" y="107"/>
                  </a:lnTo>
                  <a:lnTo>
                    <a:pt x="582" y="112"/>
                  </a:lnTo>
                  <a:lnTo>
                    <a:pt x="587" y="117"/>
                  </a:lnTo>
                  <a:lnTo>
                    <a:pt x="592" y="123"/>
                  </a:lnTo>
                  <a:lnTo>
                    <a:pt x="597" y="128"/>
                  </a:lnTo>
                  <a:lnTo>
                    <a:pt x="602" y="133"/>
                  </a:lnTo>
                  <a:lnTo>
                    <a:pt x="602" y="143"/>
                  </a:lnTo>
                  <a:lnTo>
                    <a:pt x="607" y="148"/>
                  </a:lnTo>
                  <a:lnTo>
                    <a:pt x="612" y="153"/>
                  </a:lnTo>
                  <a:lnTo>
                    <a:pt x="617" y="163"/>
                  </a:lnTo>
                  <a:lnTo>
                    <a:pt x="622" y="168"/>
                  </a:lnTo>
                  <a:lnTo>
                    <a:pt x="628" y="174"/>
                  </a:lnTo>
                  <a:lnTo>
                    <a:pt x="628" y="184"/>
                  </a:lnTo>
                  <a:lnTo>
                    <a:pt x="633" y="189"/>
                  </a:lnTo>
                  <a:lnTo>
                    <a:pt x="638" y="199"/>
                  </a:lnTo>
                  <a:lnTo>
                    <a:pt x="643" y="204"/>
                  </a:lnTo>
                  <a:lnTo>
                    <a:pt x="648" y="214"/>
                  </a:lnTo>
                  <a:lnTo>
                    <a:pt x="653" y="219"/>
                  </a:lnTo>
                  <a:lnTo>
                    <a:pt x="658" y="230"/>
                  </a:lnTo>
                  <a:lnTo>
                    <a:pt x="658" y="235"/>
                  </a:lnTo>
                  <a:lnTo>
                    <a:pt x="663" y="245"/>
                  </a:lnTo>
                  <a:lnTo>
                    <a:pt x="668" y="255"/>
                  </a:lnTo>
                  <a:lnTo>
                    <a:pt x="673" y="260"/>
                  </a:lnTo>
                  <a:lnTo>
                    <a:pt x="679" y="270"/>
                  </a:lnTo>
                  <a:lnTo>
                    <a:pt x="684" y="281"/>
                  </a:lnTo>
                  <a:lnTo>
                    <a:pt x="684" y="286"/>
                  </a:lnTo>
                  <a:lnTo>
                    <a:pt x="689" y="296"/>
                  </a:lnTo>
                  <a:lnTo>
                    <a:pt x="694" y="306"/>
                  </a:lnTo>
                  <a:lnTo>
                    <a:pt x="699" y="311"/>
                  </a:lnTo>
                  <a:lnTo>
                    <a:pt x="704" y="321"/>
                  </a:lnTo>
                  <a:lnTo>
                    <a:pt x="709" y="332"/>
                  </a:lnTo>
                  <a:lnTo>
                    <a:pt x="714" y="342"/>
                  </a:lnTo>
                  <a:lnTo>
                    <a:pt x="714" y="347"/>
                  </a:lnTo>
                  <a:lnTo>
                    <a:pt x="719" y="357"/>
                  </a:lnTo>
                  <a:lnTo>
                    <a:pt x="724" y="367"/>
                  </a:lnTo>
                  <a:lnTo>
                    <a:pt x="730" y="378"/>
                  </a:lnTo>
                  <a:lnTo>
                    <a:pt x="735" y="388"/>
                  </a:lnTo>
                  <a:lnTo>
                    <a:pt x="740" y="393"/>
                  </a:lnTo>
                  <a:lnTo>
                    <a:pt x="740" y="403"/>
                  </a:lnTo>
                  <a:lnTo>
                    <a:pt x="745" y="413"/>
                  </a:lnTo>
                  <a:lnTo>
                    <a:pt x="750" y="423"/>
                  </a:lnTo>
                  <a:lnTo>
                    <a:pt x="755" y="429"/>
                  </a:lnTo>
                  <a:lnTo>
                    <a:pt x="760" y="439"/>
                  </a:lnTo>
                  <a:lnTo>
                    <a:pt x="765" y="449"/>
                  </a:lnTo>
                  <a:lnTo>
                    <a:pt x="770" y="459"/>
                  </a:lnTo>
                  <a:lnTo>
                    <a:pt x="770" y="469"/>
                  </a:lnTo>
                  <a:lnTo>
                    <a:pt x="775" y="474"/>
                  </a:lnTo>
                  <a:lnTo>
                    <a:pt x="781" y="485"/>
                  </a:lnTo>
                  <a:lnTo>
                    <a:pt x="786" y="495"/>
                  </a:lnTo>
                  <a:lnTo>
                    <a:pt x="791" y="505"/>
                  </a:lnTo>
                  <a:lnTo>
                    <a:pt x="796" y="515"/>
                  </a:lnTo>
                  <a:lnTo>
                    <a:pt x="796" y="520"/>
                  </a:lnTo>
                  <a:lnTo>
                    <a:pt x="801" y="531"/>
                  </a:lnTo>
                  <a:lnTo>
                    <a:pt x="806" y="541"/>
                  </a:lnTo>
                  <a:lnTo>
                    <a:pt x="811" y="546"/>
                  </a:lnTo>
                  <a:lnTo>
                    <a:pt x="816" y="556"/>
                  </a:lnTo>
                  <a:lnTo>
                    <a:pt x="821" y="566"/>
                  </a:lnTo>
                  <a:lnTo>
                    <a:pt x="826" y="576"/>
                  </a:lnTo>
                  <a:lnTo>
                    <a:pt x="826" y="582"/>
                  </a:lnTo>
                  <a:lnTo>
                    <a:pt x="832" y="592"/>
                  </a:lnTo>
                  <a:lnTo>
                    <a:pt x="837" y="602"/>
                  </a:lnTo>
                  <a:lnTo>
                    <a:pt x="842" y="607"/>
                  </a:lnTo>
                  <a:lnTo>
                    <a:pt x="847" y="617"/>
                  </a:lnTo>
                  <a:lnTo>
                    <a:pt x="852" y="627"/>
                  </a:lnTo>
                  <a:lnTo>
                    <a:pt x="852" y="633"/>
                  </a:lnTo>
                  <a:lnTo>
                    <a:pt x="857" y="643"/>
                  </a:lnTo>
                  <a:lnTo>
                    <a:pt x="862" y="648"/>
                  </a:lnTo>
                  <a:lnTo>
                    <a:pt x="867" y="658"/>
                  </a:lnTo>
                  <a:lnTo>
                    <a:pt x="872" y="668"/>
                  </a:lnTo>
                  <a:lnTo>
                    <a:pt x="877" y="673"/>
                  </a:lnTo>
                  <a:lnTo>
                    <a:pt x="883" y="684"/>
                  </a:lnTo>
                  <a:lnTo>
                    <a:pt x="883" y="689"/>
                  </a:lnTo>
                  <a:lnTo>
                    <a:pt x="888" y="699"/>
                  </a:lnTo>
                  <a:lnTo>
                    <a:pt x="893" y="704"/>
                  </a:lnTo>
                  <a:lnTo>
                    <a:pt x="898" y="714"/>
                  </a:lnTo>
                  <a:lnTo>
                    <a:pt x="903" y="719"/>
                  </a:lnTo>
                  <a:lnTo>
                    <a:pt x="908" y="724"/>
                  </a:lnTo>
                  <a:lnTo>
                    <a:pt x="908" y="735"/>
                  </a:lnTo>
                  <a:lnTo>
                    <a:pt x="913" y="740"/>
                  </a:lnTo>
                  <a:lnTo>
                    <a:pt x="918" y="750"/>
                  </a:lnTo>
                  <a:lnTo>
                    <a:pt x="923" y="755"/>
                  </a:lnTo>
                  <a:lnTo>
                    <a:pt x="928" y="765"/>
                  </a:lnTo>
                  <a:lnTo>
                    <a:pt x="934" y="770"/>
                  </a:lnTo>
                  <a:lnTo>
                    <a:pt x="939" y="775"/>
                  </a:lnTo>
                  <a:lnTo>
                    <a:pt x="939" y="786"/>
                  </a:lnTo>
                  <a:lnTo>
                    <a:pt x="944" y="791"/>
                  </a:lnTo>
                  <a:lnTo>
                    <a:pt x="949" y="796"/>
                  </a:lnTo>
                  <a:lnTo>
                    <a:pt x="954" y="801"/>
                  </a:lnTo>
                  <a:lnTo>
                    <a:pt x="959" y="811"/>
                  </a:lnTo>
                  <a:lnTo>
                    <a:pt x="964" y="816"/>
                  </a:lnTo>
                  <a:lnTo>
                    <a:pt x="964" y="821"/>
                  </a:lnTo>
                  <a:lnTo>
                    <a:pt x="969" y="826"/>
                  </a:lnTo>
                  <a:lnTo>
                    <a:pt x="974" y="837"/>
                  </a:lnTo>
                  <a:lnTo>
                    <a:pt x="979" y="842"/>
                  </a:lnTo>
                  <a:lnTo>
                    <a:pt x="985" y="847"/>
                  </a:lnTo>
                  <a:lnTo>
                    <a:pt x="990" y="852"/>
                  </a:lnTo>
                  <a:lnTo>
                    <a:pt x="995" y="857"/>
                  </a:lnTo>
                  <a:lnTo>
                    <a:pt x="995" y="862"/>
                  </a:lnTo>
                  <a:lnTo>
                    <a:pt x="1000" y="872"/>
                  </a:lnTo>
                  <a:lnTo>
                    <a:pt x="1005" y="877"/>
                  </a:lnTo>
                  <a:lnTo>
                    <a:pt x="1010" y="882"/>
                  </a:lnTo>
                  <a:lnTo>
                    <a:pt x="1015" y="888"/>
                  </a:lnTo>
                  <a:lnTo>
                    <a:pt x="1020" y="893"/>
                  </a:lnTo>
                  <a:lnTo>
                    <a:pt x="1020" y="898"/>
                  </a:lnTo>
                  <a:lnTo>
                    <a:pt x="1025" y="903"/>
                  </a:lnTo>
                  <a:lnTo>
                    <a:pt x="1030" y="908"/>
                  </a:lnTo>
                  <a:lnTo>
                    <a:pt x="1036" y="913"/>
                  </a:lnTo>
                  <a:lnTo>
                    <a:pt x="1041" y="918"/>
                  </a:lnTo>
                  <a:lnTo>
                    <a:pt x="1046" y="923"/>
                  </a:lnTo>
                  <a:lnTo>
                    <a:pt x="1051" y="928"/>
                  </a:lnTo>
                  <a:lnTo>
                    <a:pt x="1051" y="933"/>
                  </a:lnTo>
                  <a:lnTo>
                    <a:pt x="1056" y="939"/>
                  </a:lnTo>
                  <a:lnTo>
                    <a:pt x="1061" y="944"/>
                  </a:lnTo>
                  <a:lnTo>
                    <a:pt x="1066" y="949"/>
                  </a:lnTo>
                  <a:lnTo>
                    <a:pt x="1071" y="954"/>
                  </a:lnTo>
                  <a:lnTo>
                    <a:pt x="1076" y="959"/>
                  </a:lnTo>
                  <a:lnTo>
                    <a:pt x="1076" y="964"/>
                  </a:lnTo>
                  <a:lnTo>
                    <a:pt x="1081" y="964"/>
                  </a:lnTo>
                  <a:lnTo>
                    <a:pt x="1087" y="969"/>
                  </a:lnTo>
                  <a:lnTo>
                    <a:pt x="1092" y="974"/>
                  </a:lnTo>
                  <a:lnTo>
                    <a:pt x="1097" y="979"/>
                  </a:lnTo>
                  <a:lnTo>
                    <a:pt x="1102" y="984"/>
                  </a:lnTo>
                  <a:lnTo>
                    <a:pt x="1107" y="990"/>
                  </a:lnTo>
                  <a:lnTo>
                    <a:pt x="1107" y="995"/>
                  </a:lnTo>
                  <a:lnTo>
                    <a:pt x="1112" y="995"/>
                  </a:lnTo>
                  <a:lnTo>
                    <a:pt x="1117" y="1000"/>
                  </a:lnTo>
                  <a:lnTo>
                    <a:pt x="1122" y="1005"/>
                  </a:lnTo>
                  <a:lnTo>
                    <a:pt x="1127" y="1010"/>
                  </a:lnTo>
                  <a:lnTo>
                    <a:pt x="1132" y="1010"/>
                  </a:lnTo>
                  <a:lnTo>
                    <a:pt x="1132" y="1015"/>
                  </a:lnTo>
                  <a:lnTo>
                    <a:pt x="1138" y="1020"/>
                  </a:lnTo>
                  <a:lnTo>
                    <a:pt x="1143" y="1025"/>
                  </a:lnTo>
                  <a:lnTo>
                    <a:pt x="1148" y="1025"/>
                  </a:lnTo>
                  <a:lnTo>
                    <a:pt x="1153" y="1030"/>
                  </a:lnTo>
                  <a:lnTo>
                    <a:pt x="1158" y="1035"/>
                  </a:lnTo>
                  <a:lnTo>
                    <a:pt x="1158" y="1041"/>
                  </a:lnTo>
                  <a:lnTo>
                    <a:pt x="1163" y="1041"/>
                  </a:lnTo>
                  <a:lnTo>
                    <a:pt x="1168" y="1046"/>
                  </a:lnTo>
                  <a:lnTo>
                    <a:pt x="1173" y="1051"/>
                  </a:lnTo>
                  <a:lnTo>
                    <a:pt x="1178" y="1051"/>
                  </a:lnTo>
                  <a:lnTo>
                    <a:pt x="1183" y="1056"/>
                  </a:lnTo>
                  <a:lnTo>
                    <a:pt x="1189" y="1061"/>
                  </a:lnTo>
                  <a:lnTo>
                    <a:pt x="1194" y="1066"/>
                  </a:lnTo>
                  <a:lnTo>
                    <a:pt x="1199" y="1071"/>
                  </a:lnTo>
                  <a:lnTo>
                    <a:pt x="1204" y="1071"/>
                  </a:lnTo>
                  <a:lnTo>
                    <a:pt x="1209" y="1076"/>
                  </a:lnTo>
                  <a:lnTo>
                    <a:pt x="1214" y="1076"/>
                  </a:lnTo>
                  <a:lnTo>
                    <a:pt x="1214" y="1081"/>
                  </a:lnTo>
                  <a:lnTo>
                    <a:pt x="1219" y="1086"/>
                  </a:lnTo>
                  <a:lnTo>
                    <a:pt x="1224" y="1086"/>
                  </a:lnTo>
                  <a:lnTo>
                    <a:pt x="1229" y="1092"/>
                  </a:lnTo>
                  <a:lnTo>
                    <a:pt x="1234" y="1092"/>
                  </a:lnTo>
                  <a:lnTo>
                    <a:pt x="1240" y="1097"/>
                  </a:lnTo>
                  <a:lnTo>
                    <a:pt x="1245" y="1097"/>
                  </a:lnTo>
                  <a:lnTo>
                    <a:pt x="1245" y="1102"/>
                  </a:lnTo>
                  <a:lnTo>
                    <a:pt x="1250" y="1102"/>
                  </a:lnTo>
                  <a:lnTo>
                    <a:pt x="1255" y="1107"/>
                  </a:lnTo>
                  <a:lnTo>
                    <a:pt x="1260" y="1107"/>
                  </a:lnTo>
                  <a:lnTo>
                    <a:pt x="1265" y="1112"/>
                  </a:lnTo>
                  <a:lnTo>
                    <a:pt x="1270" y="1112"/>
                  </a:lnTo>
                  <a:lnTo>
                    <a:pt x="1270" y="1117"/>
                  </a:lnTo>
                  <a:lnTo>
                    <a:pt x="1275" y="1117"/>
                  </a:lnTo>
                  <a:lnTo>
                    <a:pt x="1280" y="1122"/>
                  </a:lnTo>
                  <a:lnTo>
                    <a:pt x="1285" y="1122"/>
                  </a:lnTo>
                  <a:lnTo>
                    <a:pt x="1291" y="1127"/>
                  </a:lnTo>
                  <a:lnTo>
                    <a:pt x="1296" y="1127"/>
                  </a:lnTo>
                  <a:lnTo>
                    <a:pt x="1301" y="1132"/>
                  </a:lnTo>
                  <a:lnTo>
                    <a:pt x="1306" y="1137"/>
                  </a:lnTo>
                  <a:lnTo>
                    <a:pt x="1311" y="1137"/>
                  </a:lnTo>
                  <a:lnTo>
                    <a:pt x="1316" y="1143"/>
                  </a:lnTo>
                  <a:lnTo>
                    <a:pt x="1321" y="1143"/>
                  </a:lnTo>
                  <a:lnTo>
                    <a:pt x="1326" y="1148"/>
                  </a:lnTo>
                  <a:lnTo>
                    <a:pt x="1331" y="1148"/>
                  </a:lnTo>
                  <a:lnTo>
                    <a:pt x="1336" y="1153"/>
                  </a:lnTo>
                  <a:lnTo>
                    <a:pt x="1342" y="1153"/>
                  </a:lnTo>
                  <a:lnTo>
                    <a:pt x="1347" y="1158"/>
                  </a:lnTo>
                  <a:lnTo>
                    <a:pt x="1352" y="1158"/>
                  </a:lnTo>
                  <a:lnTo>
                    <a:pt x="1357" y="1158"/>
                  </a:lnTo>
                  <a:lnTo>
                    <a:pt x="1357" y="1163"/>
                  </a:lnTo>
                  <a:lnTo>
                    <a:pt x="1362" y="1163"/>
                  </a:lnTo>
                  <a:lnTo>
                    <a:pt x="1367" y="1168"/>
                  </a:lnTo>
                  <a:lnTo>
                    <a:pt x="1372" y="1168"/>
                  </a:lnTo>
                  <a:lnTo>
                    <a:pt x="1377" y="1168"/>
                  </a:lnTo>
                  <a:lnTo>
                    <a:pt x="1382" y="1173"/>
                  </a:lnTo>
                  <a:lnTo>
                    <a:pt x="1387" y="1173"/>
                  </a:lnTo>
                  <a:lnTo>
                    <a:pt x="1393" y="1178"/>
                  </a:lnTo>
                  <a:lnTo>
                    <a:pt x="1398" y="1178"/>
                  </a:lnTo>
                  <a:lnTo>
                    <a:pt x="1403" y="1183"/>
                  </a:lnTo>
                  <a:lnTo>
                    <a:pt x="1408" y="1183"/>
                  </a:lnTo>
                  <a:lnTo>
                    <a:pt x="1413" y="1183"/>
                  </a:lnTo>
                  <a:lnTo>
                    <a:pt x="1413" y="1188"/>
                  </a:lnTo>
                  <a:lnTo>
                    <a:pt x="1418" y="1188"/>
                  </a:lnTo>
                  <a:lnTo>
                    <a:pt x="1423" y="1188"/>
                  </a:lnTo>
                  <a:lnTo>
                    <a:pt x="1428" y="1194"/>
                  </a:lnTo>
                  <a:lnTo>
                    <a:pt x="1433" y="1194"/>
                  </a:lnTo>
                  <a:lnTo>
                    <a:pt x="1438" y="1194"/>
                  </a:lnTo>
                  <a:lnTo>
                    <a:pt x="1444" y="1199"/>
                  </a:lnTo>
                  <a:lnTo>
                    <a:pt x="1449" y="1199"/>
                  </a:lnTo>
                  <a:lnTo>
                    <a:pt x="1454" y="1199"/>
                  </a:lnTo>
                  <a:lnTo>
                    <a:pt x="1459" y="1204"/>
                  </a:lnTo>
                  <a:lnTo>
                    <a:pt x="1464" y="1204"/>
                  </a:lnTo>
                  <a:lnTo>
                    <a:pt x="1469" y="1204"/>
                  </a:lnTo>
                  <a:lnTo>
                    <a:pt x="1469" y="1209"/>
                  </a:lnTo>
                  <a:lnTo>
                    <a:pt x="1474" y="1209"/>
                  </a:lnTo>
                  <a:lnTo>
                    <a:pt x="1479" y="1209"/>
                  </a:lnTo>
                  <a:lnTo>
                    <a:pt x="1484" y="1209"/>
                  </a:lnTo>
                  <a:lnTo>
                    <a:pt x="1489" y="1214"/>
                  </a:lnTo>
                  <a:lnTo>
                    <a:pt x="1495" y="1214"/>
                  </a:lnTo>
                  <a:lnTo>
                    <a:pt x="1500" y="1214"/>
                  </a:lnTo>
                  <a:lnTo>
                    <a:pt x="1505" y="1219"/>
                  </a:lnTo>
                  <a:lnTo>
                    <a:pt x="1510" y="1219"/>
                  </a:lnTo>
                  <a:lnTo>
                    <a:pt x="1515" y="1219"/>
                  </a:lnTo>
                  <a:lnTo>
                    <a:pt x="1520" y="1219"/>
                  </a:lnTo>
                  <a:lnTo>
                    <a:pt x="1525" y="1224"/>
                  </a:lnTo>
                  <a:lnTo>
                    <a:pt x="1530" y="1224"/>
                  </a:lnTo>
                  <a:lnTo>
                    <a:pt x="1535" y="1224"/>
                  </a:lnTo>
                  <a:lnTo>
                    <a:pt x="1540" y="1229"/>
                  </a:lnTo>
                  <a:lnTo>
                    <a:pt x="1546" y="1229"/>
                  </a:lnTo>
                  <a:lnTo>
                    <a:pt x="1551" y="1229"/>
                  </a:lnTo>
                  <a:lnTo>
                    <a:pt x="1556" y="1234"/>
                  </a:lnTo>
                  <a:lnTo>
                    <a:pt x="1561" y="1234"/>
                  </a:lnTo>
                  <a:lnTo>
                    <a:pt x="1566" y="1234"/>
                  </a:lnTo>
                  <a:lnTo>
                    <a:pt x="1571" y="1234"/>
                  </a:lnTo>
                  <a:lnTo>
                    <a:pt x="1576" y="1234"/>
                  </a:lnTo>
                  <a:lnTo>
                    <a:pt x="1581" y="1239"/>
                  </a:lnTo>
                  <a:lnTo>
                    <a:pt x="1586" y="1239"/>
                  </a:lnTo>
                  <a:lnTo>
                    <a:pt x="1591" y="1239"/>
                  </a:lnTo>
                  <a:lnTo>
                    <a:pt x="1597" y="1245"/>
                  </a:lnTo>
                  <a:lnTo>
                    <a:pt x="1602" y="1245"/>
                  </a:lnTo>
                  <a:lnTo>
                    <a:pt x="1607" y="1245"/>
                  </a:lnTo>
                  <a:lnTo>
                    <a:pt x="1612" y="1245"/>
                  </a:lnTo>
                  <a:lnTo>
                    <a:pt x="1617" y="1245"/>
                  </a:lnTo>
                  <a:lnTo>
                    <a:pt x="1622" y="1250"/>
                  </a:lnTo>
                  <a:lnTo>
                    <a:pt x="1627" y="1250"/>
                  </a:lnTo>
                  <a:lnTo>
                    <a:pt x="1632" y="1250"/>
                  </a:lnTo>
                  <a:lnTo>
                    <a:pt x="1637" y="1250"/>
                  </a:lnTo>
                  <a:lnTo>
                    <a:pt x="1642" y="1255"/>
                  </a:lnTo>
                  <a:lnTo>
                    <a:pt x="1648" y="1255"/>
                  </a:lnTo>
                  <a:lnTo>
                    <a:pt x="1653" y="1255"/>
                  </a:lnTo>
                  <a:lnTo>
                    <a:pt x="1658" y="1255"/>
                  </a:lnTo>
                  <a:lnTo>
                    <a:pt x="1663" y="1255"/>
                  </a:lnTo>
                  <a:lnTo>
                    <a:pt x="1668" y="1260"/>
                  </a:lnTo>
                  <a:lnTo>
                    <a:pt x="1673" y="1260"/>
                  </a:lnTo>
                  <a:lnTo>
                    <a:pt x="1678" y="1260"/>
                  </a:lnTo>
                  <a:lnTo>
                    <a:pt x="1683" y="1260"/>
                  </a:lnTo>
                  <a:lnTo>
                    <a:pt x="1688" y="1260"/>
                  </a:lnTo>
                  <a:lnTo>
                    <a:pt x="1693" y="1260"/>
                  </a:lnTo>
                  <a:lnTo>
                    <a:pt x="1693" y="1265"/>
                  </a:lnTo>
                  <a:lnTo>
                    <a:pt x="1699" y="1265"/>
                  </a:lnTo>
                  <a:lnTo>
                    <a:pt x="1704" y="1265"/>
                  </a:lnTo>
                  <a:lnTo>
                    <a:pt x="1709" y="1265"/>
                  </a:lnTo>
                  <a:lnTo>
                    <a:pt x="1714" y="1265"/>
                  </a:lnTo>
                  <a:lnTo>
                    <a:pt x="1719" y="1265"/>
                  </a:lnTo>
                  <a:lnTo>
                    <a:pt x="1724" y="1270"/>
                  </a:lnTo>
                  <a:lnTo>
                    <a:pt x="1729" y="1270"/>
                  </a:lnTo>
                  <a:lnTo>
                    <a:pt x="1734" y="1270"/>
                  </a:lnTo>
                  <a:lnTo>
                    <a:pt x="1739" y="1270"/>
                  </a:lnTo>
                  <a:lnTo>
                    <a:pt x="1744" y="1270"/>
                  </a:lnTo>
                  <a:lnTo>
                    <a:pt x="1750" y="1270"/>
                  </a:lnTo>
                  <a:lnTo>
                    <a:pt x="1755" y="1270"/>
                  </a:lnTo>
                  <a:lnTo>
                    <a:pt x="1760" y="1275"/>
                  </a:lnTo>
                  <a:lnTo>
                    <a:pt x="1765" y="1275"/>
                  </a:lnTo>
                  <a:lnTo>
                    <a:pt x="1770" y="1275"/>
                  </a:lnTo>
                  <a:lnTo>
                    <a:pt x="1775" y="1275"/>
                  </a:lnTo>
                  <a:lnTo>
                    <a:pt x="1780" y="1275"/>
                  </a:lnTo>
                  <a:lnTo>
                    <a:pt x="1785" y="1275"/>
                  </a:lnTo>
                  <a:lnTo>
                    <a:pt x="1790" y="1275"/>
                  </a:lnTo>
                  <a:lnTo>
                    <a:pt x="1795" y="1280"/>
                  </a:lnTo>
                  <a:lnTo>
                    <a:pt x="1801" y="1280"/>
                  </a:lnTo>
                  <a:lnTo>
                    <a:pt x="1806" y="1280"/>
                  </a:lnTo>
                  <a:lnTo>
                    <a:pt x="1811" y="1280"/>
                  </a:lnTo>
                  <a:lnTo>
                    <a:pt x="1816" y="1280"/>
                  </a:lnTo>
                  <a:lnTo>
                    <a:pt x="1821" y="1280"/>
                  </a:lnTo>
                  <a:lnTo>
                    <a:pt x="1826" y="1280"/>
                  </a:lnTo>
                  <a:lnTo>
                    <a:pt x="1831" y="1280"/>
                  </a:lnTo>
                  <a:lnTo>
                    <a:pt x="1836" y="1285"/>
                  </a:lnTo>
                  <a:lnTo>
                    <a:pt x="1841" y="1285"/>
                  </a:lnTo>
                  <a:lnTo>
                    <a:pt x="1846" y="1285"/>
                  </a:lnTo>
                  <a:lnTo>
                    <a:pt x="1852" y="1285"/>
                  </a:lnTo>
                  <a:lnTo>
                    <a:pt x="1857" y="1285"/>
                  </a:lnTo>
                  <a:lnTo>
                    <a:pt x="1862" y="1285"/>
                  </a:lnTo>
                  <a:lnTo>
                    <a:pt x="1867" y="1285"/>
                  </a:lnTo>
                  <a:lnTo>
                    <a:pt x="1872" y="1285"/>
                  </a:lnTo>
                  <a:lnTo>
                    <a:pt x="1877" y="1285"/>
                  </a:lnTo>
                  <a:lnTo>
                    <a:pt x="1882" y="1285"/>
                  </a:lnTo>
                  <a:lnTo>
                    <a:pt x="1887" y="1290"/>
                  </a:lnTo>
                  <a:lnTo>
                    <a:pt x="1892" y="1290"/>
                  </a:lnTo>
                  <a:lnTo>
                    <a:pt x="1897" y="1290"/>
                  </a:lnTo>
                  <a:lnTo>
                    <a:pt x="1903" y="1290"/>
                  </a:lnTo>
                  <a:lnTo>
                    <a:pt x="1908" y="1290"/>
                  </a:lnTo>
                  <a:lnTo>
                    <a:pt x="1913" y="1290"/>
                  </a:lnTo>
                  <a:lnTo>
                    <a:pt x="1918" y="1290"/>
                  </a:lnTo>
                  <a:lnTo>
                    <a:pt x="1923" y="1290"/>
                  </a:lnTo>
                  <a:lnTo>
                    <a:pt x="1928" y="1290"/>
                  </a:lnTo>
                  <a:lnTo>
                    <a:pt x="1933" y="1290"/>
                  </a:lnTo>
                  <a:lnTo>
                    <a:pt x="1938" y="1290"/>
                  </a:lnTo>
                  <a:lnTo>
                    <a:pt x="1943" y="1296"/>
                  </a:lnTo>
                  <a:lnTo>
                    <a:pt x="1948" y="1296"/>
                  </a:lnTo>
                  <a:lnTo>
                    <a:pt x="1954" y="1296"/>
                  </a:lnTo>
                  <a:lnTo>
                    <a:pt x="1959" y="1296"/>
                  </a:lnTo>
                  <a:lnTo>
                    <a:pt x="1964" y="1296"/>
                  </a:lnTo>
                  <a:lnTo>
                    <a:pt x="1969" y="1296"/>
                  </a:lnTo>
                  <a:lnTo>
                    <a:pt x="1974" y="1296"/>
                  </a:lnTo>
                  <a:lnTo>
                    <a:pt x="1979" y="1296"/>
                  </a:lnTo>
                  <a:lnTo>
                    <a:pt x="1984" y="1296"/>
                  </a:lnTo>
                  <a:lnTo>
                    <a:pt x="1989" y="1296"/>
                  </a:lnTo>
                  <a:lnTo>
                    <a:pt x="1994" y="1296"/>
                  </a:lnTo>
                  <a:lnTo>
                    <a:pt x="1999" y="1296"/>
                  </a:lnTo>
                  <a:lnTo>
                    <a:pt x="2005" y="1296"/>
                  </a:lnTo>
                  <a:lnTo>
                    <a:pt x="2010" y="1296"/>
                  </a:lnTo>
                  <a:lnTo>
                    <a:pt x="2015" y="1296"/>
                  </a:lnTo>
                  <a:lnTo>
                    <a:pt x="2020" y="1301"/>
                  </a:lnTo>
                  <a:lnTo>
                    <a:pt x="2025" y="1301"/>
                  </a:lnTo>
                  <a:lnTo>
                    <a:pt x="2030" y="1301"/>
                  </a:lnTo>
                  <a:lnTo>
                    <a:pt x="2035" y="1301"/>
                  </a:lnTo>
                  <a:lnTo>
                    <a:pt x="2040" y="1301"/>
                  </a:lnTo>
                  <a:lnTo>
                    <a:pt x="2045" y="1301"/>
                  </a:lnTo>
                  <a:lnTo>
                    <a:pt x="2050" y="1301"/>
                  </a:lnTo>
                  <a:lnTo>
                    <a:pt x="2056" y="1301"/>
                  </a:lnTo>
                  <a:lnTo>
                    <a:pt x="2061" y="1301"/>
                  </a:lnTo>
                  <a:lnTo>
                    <a:pt x="2066" y="1301"/>
                  </a:lnTo>
                  <a:lnTo>
                    <a:pt x="2071" y="1301"/>
                  </a:lnTo>
                  <a:lnTo>
                    <a:pt x="2076" y="1301"/>
                  </a:lnTo>
                  <a:lnTo>
                    <a:pt x="2081" y="1301"/>
                  </a:lnTo>
                  <a:lnTo>
                    <a:pt x="2086" y="1301"/>
                  </a:lnTo>
                  <a:lnTo>
                    <a:pt x="2091" y="1301"/>
                  </a:lnTo>
                  <a:lnTo>
                    <a:pt x="2096" y="1301"/>
                  </a:lnTo>
                  <a:lnTo>
                    <a:pt x="2101" y="1301"/>
                  </a:lnTo>
                  <a:lnTo>
                    <a:pt x="2107" y="1301"/>
                  </a:lnTo>
                  <a:lnTo>
                    <a:pt x="2112" y="1301"/>
                  </a:lnTo>
                  <a:lnTo>
                    <a:pt x="2117" y="1301"/>
                  </a:lnTo>
                  <a:lnTo>
                    <a:pt x="2122" y="1301"/>
                  </a:lnTo>
                  <a:lnTo>
                    <a:pt x="2127" y="1301"/>
                  </a:lnTo>
                  <a:lnTo>
                    <a:pt x="2132" y="1301"/>
                  </a:lnTo>
                  <a:lnTo>
                    <a:pt x="2137" y="1301"/>
                  </a:lnTo>
                  <a:lnTo>
                    <a:pt x="2142" y="1301"/>
                  </a:lnTo>
                  <a:lnTo>
                    <a:pt x="2147" y="1301"/>
                  </a:lnTo>
                  <a:lnTo>
                    <a:pt x="2152" y="1301"/>
                  </a:lnTo>
                  <a:lnTo>
                    <a:pt x="2158" y="1301"/>
                  </a:lnTo>
                  <a:lnTo>
                    <a:pt x="2163" y="1301"/>
                  </a:lnTo>
                  <a:lnTo>
                    <a:pt x="2168" y="1301"/>
                  </a:lnTo>
                  <a:lnTo>
                    <a:pt x="2173" y="1301"/>
                  </a:lnTo>
                  <a:lnTo>
                    <a:pt x="2178" y="1301"/>
                  </a:lnTo>
                  <a:lnTo>
                    <a:pt x="2183" y="1301"/>
                  </a:lnTo>
                  <a:lnTo>
                    <a:pt x="2188" y="1306"/>
                  </a:lnTo>
                  <a:lnTo>
                    <a:pt x="2193" y="1306"/>
                  </a:lnTo>
                  <a:lnTo>
                    <a:pt x="2198" y="1306"/>
                  </a:lnTo>
                  <a:lnTo>
                    <a:pt x="2203" y="1306"/>
                  </a:lnTo>
                </a:path>
              </a:pathLst>
            </a:custGeom>
            <a:noFill/>
            <a:ln cap="rnd" w="25560">
              <a:solidFill>
                <a:srgbClr val="99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46240" y="4786200"/>
              <a:ext cx="3769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200" y="5226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77480" y="498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77480" y="27496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28360" y="522612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4636800" y="2036880"/>
            <a:ext cx="4433040" cy="3385080"/>
            <a:chOff x="4636800" y="2036880"/>
            <a:chExt cx="4433040" cy="3385080"/>
          </a:xfrm>
        </p:grpSpPr>
        <p:sp>
          <p:nvSpPr>
            <p:cNvPr id="1011" name=""/>
            <p:cNvSpPr/>
            <p:nvPr/>
          </p:nvSpPr>
          <p:spPr>
            <a:xfrm flipV="1">
              <a:off x="5167080" y="2461680"/>
              <a:ext cx="0" cy="276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5813280" y="2462040"/>
              <a:ext cx="4320" cy="16574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6460920" y="2462040"/>
              <a:ext cx="1440" cy="16574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7110360" y="2461680"/>
              <a:ext cx="0" cy="27608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7753680" y="2461680"/>
              <a:ext cx="0" cy="27608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404200" y="2461680"/>
              <a:ext cx="0" cy="276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167080" y="5222880"/>
              <a:ext cx="3237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167080" y="4672080"/>
              <a:ext cx="32371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167080" y="4122720"/>
              <a:ext cx="32371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167080" y="3564000"/>
              <a:ext cx="32371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67080" y="3013200"/>
              <a:ext cx="32371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67080" y="2462040"/>
              <a:ext cx="3237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167080" y="2462040"/>
              <a:ext cx="3238200" cy="2762280"/>
            </a:xfrm>
            <a:custGeom>
              <a:avLst/>
              <a:gdLst/>
              <a:ahLst/>
              <a:rect l="l" t="t" r="r" b="b"/>
              <a:pathLst>
                <a:path w="2210" h="1740">
                  <a:moveTo>
                    <a:pt x="0" y="1739"/>
                  </a:moveTo>
                  <a:lnTo>
                    <a:pt x="0" y="0"/>
                  </a:lnTo>
                  <a:lnTo>
                    <a:pt x="220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67080" y="2462040"/>
              <a:ext cx="3238200" cy="2762280"/>
            </a:xfrm>
            <a:custGeom>
              <a:avLst/>
              <a:gdLst/>
              <a:ahLst/>
              <a:rect l="l" t="t" r="r" b="b"/>
              <a:pathLst>
                <a:path w="2210" h="1740">
                  <a:moveTo>
                    <a:pt x="0" y="1739"/>
                  </a:moveTo>
                  <a:lnTo>
                    <a:pt x="0" y="0"/>
                  </a:lnTo>
                  <a:lnTo>
                    <a:pt x="220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167080" y="2462040"/>
              <a:ext cx="3238200" cy="2762280"/>
            </a:xfrm>
            <a:custGeom>
              <a:avLst/>
              <a:gdLst/>
              <a:ahLst/>
              <a:rect l="l" t="t" r="r" b="b"/>
              <a:pathLst>
                <a:path w="2210" h="1740">
                  <a:moveTo>
                    <a:pt x="0" y="1739"/>
                  </a:moveTo>
                  <a:lnTo>
                    <a:pt x="0" y="0"/>
                  </a:lnTo>
                  <a:lnTo>
                    <a:pt x="220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67080" y="5222880"/>
              <a:ext cx="3237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67080" y="2462040"/>
              <a:ext cx="3237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167080" y="2461680"/>
              <a:ext cx="0" cy="276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8404200" y="2461680"/>
              <a:ext cx="0" cy="276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67080" y="246204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67080" y="5222880"/>
              <a:ext cx="3237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5167080" y="2461680"/>
              <a:ext cx="0" cy="276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7080" y="522288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5167080" y="5191200"/>
              <a:ext cx="0" cy="3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67080" y="2462040"/>
              <a:ext cx="0" cy="33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5817960" y="5191200"/>
              <a:ext cx="0" cy="3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17960" y="2462040"/>
              <a:ext cx="0" cy="33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6460920" y="5191200"/>
              <a:ext cx="0" cy="3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460920" y="2462040"/>
              <a:ext cx="0" cy="33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7110360" y="5191200"/>
              <a:ext cx="0" cy="3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110360" y="2462040"/>
              <a:ext cx="0" cy="33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7753680" y="5191200"/>
              <a:ext cx="0" cy="3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753680" y="2462040"/>
              <a:ext cx="0" cy="33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8404200" y="5191200"/>
              <a:ext cx="0" cy="3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404200" y="2462040"/>
              <a:ext cx="0" cy="33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67080" y="522288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8372880" y="522288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67080" y="467208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8372880" y="467208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67080" y="412272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8372880" y="412272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167080" y="38466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8372880" y="384660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167080" y="35640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8372880" y="356400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67080" y="30132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8372880" y="301320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67080" y="246204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8372880" y="2462040"/>
              <a:ext cx="3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167080" y="5222880"/>
              <a:ext cx="3237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67080" y="2462040"/>
              <a:ext cx="3701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5167080" y="2178000"/>
              <a:ext cx="0" cy="3044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8404200" y="2461680"/>
              <a:ext cx="0" cy="276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67080" y="522288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167080" y="2462040"/>
              <a:ext cx="3229560" cy="2746440"/>
            </a:xfrm>
            <a:custGeom>
              <a:avLst/>
              <a:gdLst/>
              <a:ahLst/>
              <a:rect l="l" t="t" r="r" b="b"/>
              <a:pathLst>
                <a:path w="2204" h="1730">
                  <a:moveTo>
                    <a:pt x="0" y="0"/>
                  </a:moveTo>
                  <a:lnTo>
                    <a:pt x="5" y="5"/>
                  </a:lnTo>
                  <a:lnTo>
                    <a:pt x="10" y="5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21" y="21"/>
                  </a:lnTo>
                  <a:lnTo>
                    <a:pt x="26" y="21"/>
                  </a:lnTo>
                  <a:lnTo>
                    <a:pt x="31" y="26"/>
                  </a:lnTo>
                  <a:lnTo>
                    <a:pt x="36" y="31"/>
                  </a:lnTo>
                  <a:lnTo>
                    <a:pt x="41" y="36"/>
                  </a:lnTo>
                  <a:lnTo>
                    <a:pt x="46" y="41"/>
                  </a:lnTo>
                  <a:lnTo>
                    <a:pt x="51" y="46"/>
                  </a:lnTo>
                  <a:lnTo>
                    <a:pt x="56" y="51"/>
                  </a:lnTo>
                  <a:lnTo>
                    <a:pt x="61" y="51"/>
                  </a:lnTo>
                  <a:lnTo>
                    <a:pt x="67" y="56"/>
                  </a:lnTo>
                  <a:lnTo>
                    <a:pt x="72" y="61"/>
                  </a:lnTo>
                  <a:lnTo>
                    <a:pt x="72" y="66"/>
                  </a:lnTo>
                  <a:lnTo>
                    <a:pt x="77" y="66"/>
                  </a:lnTo>
                  <a:lnTo>
                    <a:pt x="82" y="72"/>
                  </a:lnTo>
                  <a:lnTo>
                    <a:pt x="87" y="77"/>
                  </a:lnTo>
                  <a:lnTo>
                    <a:pt x="92" y="82"/>
                  </a:lnTo>
                  <a:lnTo>
                    <a:pt x="97" y="82"/>
                  </a:lnTo>
                  <a:lnTo>
                    <a:pt x="97" y="87"/>
                  </a:lnTo>
                  <a:lnTo>
                    <a:pt x="102" y="92"/>
                  </a:lnTo>
                  <a:lnTo>
                    <a:pt x="107" y="97"/>
                  </a:lnTo>
                  <a:lnTo>
                    <a:pt x="112" y="97"/>
                  </a:lnTo>
                  <a:lnTo>
                    <a:pt x="118" y="102"/>
                  </a:lnTo>
                  <a:lnTo>
                    <a:pt x="123" y="107"/>
                  </a:lnTo>
                  <a:lnTo>
                    <a:pt x="128" y="107"/>
                  </a:lnTo>
                  <a:lnTo>
                    <a:pt x="128" y="112"/>
                  </a:lnTo>
                  <a:lnTo>
                    <a:pt x="133" y="117"/>
                  </a:lnTo>
                  <a:lnTo>
                    <a:pt x="138" y="123"/>
                  </a:lnTo>
                  <a:lnTo>
                    <a:pt x="143" y="123"/>
                  </a:lnTo>
                  <a:lnTo>
                    <a:pt x="148" y="128"/>
                  </a:lnTo>
                  <a:lnTo>
                    <a:pt x="153" y="133"/>
                  </a:lnTo>
                  <a:lnTo>
                    <a:pt x="153" y="138"/>
                  </a:lnTo>
                  <a:lnTo>
                    <a:pt x="158" y="143"/>
                  </a:lnTo>
                  <a:lnTo>
                    <a:pt x="163" y="143"/>
                  </a:lnTo>
                  <a:lnTo>
                    <a:pt x="169" y="148"/>
                  </a:lnTo>
                  <a:lnTo>
                    <a:pt x="174" y="153"/>
                  </a:lnTo>
                  <a:lnTo>
                    <a:pt x="179" y="158"/>
                  </a:lnTo>
                  <a:lnTo>
                    <a:pt x="184" y="158"/>
                  </a:lnTo>
                  <a:lnTo>
                    <a:pt x="184" y="163"/>
                  </a:lnTo>
                  <a:lnTo>
                    <a:pt x="189" y="168"/>
                  </a:lnTo>
                  <a:lnTo>
                    <a:pt x="194" y="174"/>
                  </a:lnTo>
                  <a:lnTo>
                    <a:pt x="199" y="174"/>
                  </a:lnTo>
                  <a:lnTo>
                    <a:pt x="204" y="179"/>
                  </a:lnTo>
                  <a:lnTo>
                    <a:pt x="209" y="184"/>
                  </a:lnTo>
                  <a:lnTo>
                    <a:pt x="209" y="189"/>
                  </a:lnTo>
                  <a:lnTo>
                    <a:pt x="214" y="189"/>
                  </a:lnTo>
                  <a:lnTo>
                    <a:pt x="220" y="194"/>
                  </a:lnTo>
                  <a:lnTo>
                    <a:pt x="225" y="199"/>
                  </a:lnTo>
                  <a:lnTo>
                    <a:pt x="230" y="204"/>
                  </a:lnTo>
                  <a:lnTo>
                    <a:pt x="235" y="209"/>
                  </a:lnTo>
                  <a:lnTo>
                    <a:pt x="240" y="209"/>
                  </a:lnTo>
                  <a:lnTo>
                    <a:pt x="240" y="214"/>
                  </a:lnTo>
                  <a:lnTo>
                    <a:pt x="245" y="219"/>
                  </a:lnTo>
                  <a:lnTo>
                    <a:pt x="250" y="225"/>
                  </a:lnTo>
                  <a:lnTo>
                    <a:pt x="255" y="230"/>
                  </a:lnTo>
                  <a:lnTo>
                    <a:pt x="260" y="230"/>
                  </a:lnTo>
                  <a:lnTo>
                    <a:pt x="265" y="235"/>
                  </a:lnTo>
                  <a:lnTo>
                    <a:pt x="265" y="240"/>
                  </a:lnTo>
                  <a:lnTo>
                    <a:pt x="271" y="245"/>
                  </a:lnTo>
                  <a:lnTo>
                    <a:pt x="276" y="245"/>
                  </a:lnTo>
                  <a:lnTo>
                    <a:pt x="281" y="250"/>
                  </a:lnTo>
                  <a:lnTo>
                    <a:pt x="286" y="255"/>
                  </a:lnTo>
                  <a:lnTo>
                    <a:pt x="291" y="260"/>
                  </a:lnTo>
                  <a:lnTo>
                    <a:pt x="296" y="265"/>
                  </a:lnTo>
                  <a:lnTo>
                    <a:pt x="296" y="270"/>
                  </a:lnTo>
                  <a:lnTo>
                    <a:pt x="301" y="270"/>
                  </a:lnTo>
                  <a:lnTo>
                    <a:pt x="306" y="276"/>
                  </a:lnTo>
                  <a:lnTo>
                    <a:pt x="311" y="281"/>
                  </a:lnTo>
                  <a:lnTo>
                    <a:pt x="316" y="286"/>
                  </a:lnTo>
                  <a:lnTo>
                    <a:pt x="322" y="291"/>
                  </a:lnTo>
                  <a:lnTo>
                    <a:pt x="327" y="296"/>
                  </a:lnTo>
                  <a:lnTo>
                    <a:pt x="332" y="301"/>
                  </a:lnTo>
                  <a:lnTo>
                    <a:pt x="337" y="306"/>
                  </a:lnTo>
                  <a:lnTo>
                    <a:pt x="342" y="311"/>
                  </a:lnTo>
                  <a:lnTo>
                    <a:pt x="347" y="316"/>
                  </a:lnTo>
                  <a:lnTo>
                    <a:pt x="352" y="321"/>
                  </a:lnTo>
                  <a:lnTo>
                    <a:pt x="357" y="327"/>
                  </a:lnTo>
                  <a:lnTo>
                    <a:pt x="362" y="332"/>
                  </a:lnTo>
                  <a:lnTo>
                    <a:pt x="367" y="337"/>
                  </a:lnTo>
                  <a:lnTo>
                    <a:pt x="373" y="342"/>
                  </a:lnTo>
                  <a:lnTo>
                    <a:pt x="378" y="347"/>
                  </a:lnTo>
                  <a:lnTo>
                    <a:pt x="378" y="352"/>
                  </a:lnTo>
                  <a:lnTo>
                    <a:pt x="383" y="352"/>
                  </a:lnTo>
                  <a:lnTo>
                    <a:pt x="388" y="357"/>
                  </a:lnTo>
                  <a:lnTo>
                    <a:pt x="393" y="362"/>
                  </a:lnTo>
                  <a:lnTo>
                    <a:pt x="398" y="367"/>
                  </a:lnTo>
                  <a:lnTo>
                    <a:pt x="403" y="372"/>
                  </a:lnTo>
                  <a:lnTo>
                    <a:pt x="403" y="378"/>
                  </a:lnTo>
                  <a:lnTo>
                    <a:pt x="408" y="383"/>
                  </a:lnTo>
                  <a:lnTo>
                    <a:pt x="413" y="388"/>
                  </a:lnTo>
                  <a:lnTo>
                    <a:pt x="418" y="393"/>
                  </a:lnTo>
                  <a:lnTo>
                    <a:pt x="424" y="393"/>
                  </a:lnTo>
                  <a:lnTo>
                    <a:pt x="429" y="398"/>
                  </a:lnTo>
                  <a:lnTo>
                    <a:pt x="434" y="403"/>
                  </a:lnTo>
                  <a:lnTo>
                    <a:pt x="434" y="408"/>
                  </a:lnTo>
                  <a:lnTo>
                    <a:pt x="439" y="413"/>
                  </a:lnTo>
                  <a:lnTo>
                    <a:pt x="444" y="418"/>
                  </a:lnTo>
                  <a:lnTo>
                    <a:pt x="449" y="423"/>
                  </a:lnTo>
                  <a:lnTo>
                    <a:pt x="454" y="429"/>
                  </a:lnTo>
                  <a:lnTo>
                    <a:pt x="459" y="434"/>
                  </a:lnTo>
                  <a:lnTo>
                    <a:pt x="459" y="439"/>
                  </a:lnTo>
                  <a:lnTo>
                    <a:pt x="464" y="444"/>
                  </a:lnTo>
                  <a:lnTo>
                    <a:pt x="469" y="449"/>
                  </a:lnTo>
                  <a:lnTo>
                    <a:pt x="475" y="454"/>
                  </a:lnTo>
                  <a:lnTo>
                    <a:pt x="480" y="459"/>
                  </a:lnTo>
                  <a:lnTo>
                    <a:pt x="485" y="464"/>
                  </a:lnTo>
                  <a:lnTo>
                    <a:pt x="490" y="464"/>
                  </a:lnTo>
                  <a:lnTo>
                    <a:pt x="490" y="469"/>
                  </a:lnTo>
                  <a:lnTo>
                    <a:pt x="495" y="474"/>
                  </a:lnTo>
                  <a:lnTo>
                    <a:pt x="500" y="480"/>
                  </a:lnTo>
                  <a:lnTo>
                    <a:pt x="505" y="485"/>
                  </a:lnTo>
                  <a:lnTo>
                    <a:pt x="510" y="490"/>
                  </a:lnTo>
                  <a:lnTo>
                    <a:pt x="515" y="495"/>
                  </a:lnTo>
                  <a:lnTo>
                    <a:pt x="515" y="500"/>
                  </a:lnTo>
                  <a:lnTo>
                    <a:pt x="520" y="505"/>
                  </a:lnTo>
                  <a:lnTo>
                    <a:pt x="526" y="510"/>
                  </a:lnTo>
                  <a:lnTo>
                    <a:pt x="531" y="515"/>
                  </a:lnTo>
                  <a:lnTo>
                    <a:pt x="536" y="520"/>
                  </a:lnTo>
                  <a:lnTo>
                    <a:pt x="541" y="525"/>
                  </a:lnTo>
                  <a:lnTo>
                    <a:pt x="546" y="531"/>
                  </a:lnTo>
                  <a:lnTo>
                    <a:pt x="546" y="536"/>
                  </a:lnTo>
                  <a:lnTo>
                    <a:pt x="551" y="541"/>
                  </a:lnTo>
                  <a:lnTo>
                    <a:pt x="556" y="546"/>
                  </a:lnTo>
                  <a:lnTo>
                    <a:pt x="561" y="551"/>
                  </a:lnTo>
                  <a:lnTo>
                    <a:pt x="566" y="556"/>
                  </a:lnTo>
                  <a:lnTo>
                    <a:pt x="571" y="561"/>
                  </a:lnTo>
                  <a:lnTo>
                    <a:pt x="571" y="566"/>
                  </a:lnTo>
                  <a:lnTo>
                    <a:pt x="577" y="571"/>
                  </a:lnTo>
                  <a:lnTo>
                    <a:pt x="582" y="576"/>
                  </a:lnTo>
                  <a:lnTo>
                    <a:pt x="587" y="582"/>
                  </a:lnTo>
                  <a:lnTo>
                    <a:pt x="592" y="587"/>
                  </a:lnTo>
                  <a:lnTo>
                    <a:pt x="597" y="592"/>
                  </a:lnTo>
                  <a:lnTo>
                    <a:pt x="602" y="597"/>
                  </a:lnTo>
                  <a:lnTo>
                    <a:pt x="602" y="602"/>
                  </a:lnTo>
                  <a:lnTo>
                    <a:pt x="607" y="607"/>
                  </a:lnTo>
                  <a:lnTo>
                    <a:pt x="612" y="612"/>
                  </a:lnTo>
                  <a:lnTo>
                    <a:pt x="617" y="617"/>
                  </a:lnTo>
                  <a:lnTo>
                    <a:pt x="622" y="622"/>
                  </a:lnTo>
                  <a:lnTo>
                    <a:pt x="628" y="627"/>
                  </a:lnTo>
                  <a:lnTo>
                    <a:pt x="628" y="633"/>
                  </a:lnTo>
                  <a:lnTo>
                    <a:pt x="633" y="638"/>
                  </a:lnTo>
                  <a:lnTo>
                    <a:pt x="638" y="643"/>
                  </a:lnTo>
                  <a:lnTo>
                    <a:pt x="643" y="648"/>
                  </a:lnTo>
                  <a:lnTo>
                    <a:pt x="648" y="653"/>
                  </a:lnTo>
                  <a:lnTo>
                    <a:pt x="653" y="658"/>
                  </a:lnTo>
                  <a:lnTo>
                    <a:pt x="658" y="663"/>
                  </a:lnTo>
                  <a:lnTo>
                    <a:pt x="658" y="668"/>
                  </a:lnTo>
                  <a:lnTo>
                    <a:pt x="663" y="673"/>
                  </a:lnTo>
                  <a:lnTo>
                    <a:pt x="668" y="673"/>
                  </a:lnTo>
                  <a:lnTo>
                    <a:pt x="673" y="678"/>
                  </a:lnTo>
                  <a:lnTo>
                    <a:pt x="679" y="684"/>
                  </a:lnTo>
                  <a:lnTo>
                    <a:pt x="684" y="689"/>
                  </a:lnTo>
                  <a:lnTo>
                    <a:pt x="684" y="694"/>
                  </a:lnTo>
                  <a:lnTo>
                    <a:pt x="689" y="699"/>
                  </a:lnTo>
                  <a:lnTo>
                    <a:pt x="694" y="704"/>
                  </a:lnTo>
                  <a:lnTo>
                    <a:pt x="699" y="709"/>
                  </a:lnTo>
                  <a:lnTo>
                    <a:pt x="704" y="714"/>
                  </a:lnTo>
                  <a:lnTo>
                    <a:pt x="709" y="719"/>
                  </a:lnTo>
                  <a:lnTo>
                    <a:pt x="714" y="724"/>
                  </a:lnTo>
                  <a:lnTo>
                    <a:pt x="714" y="729"/>
                  </a:lnTo>
                  <a:lnTo>
                    <a:pt x="719" y="735"/>
                  </a:lnTo>
                  <a:lnTo>
                    <a:pt x="724" y="735"/>
                  </a:lnTo>
                  <a:lnTo>
                    <a:pt x="730" y="740"/>
                  </a:lnTo>
                  <a:lnTo>
                    <a:pt x="735" y="745"/>
                  </a:lnTo>
                  <a:lnTo>
                    <a:pt x="740" y="750"/>
                  </a:lnTo>
                  <a:lnTo>
                    <a:pt x="740" y="755"/>
                  </a:lnTo>
                  <a:lnTo>
                    <a:pt x="745" y="760"/>
                  </a:lnTo>
                  <a:lnTo>
                    <a:pt x="750" y="765"/>
                  </a:lnTo>
                  <a:lnTo>
                    <a:pt x="755" y="765"/>
                  </a:lnTo>
                  <a:lnTo>
                    <a:pt x="760" y="770"/>
                  </a:lnTo>
                  <a:lnTo>
                    <a:pt x="765" y="775"/>
                  </a:lnTo>
                  <a:lnTo>
                    <a:pt x="770" y="780"/>
                  </a:lnTo>
                  <a:lnTo>
                    <a:pt x="770" y="786"/>
                  </a:lnTo>
                  <a:lnTo>
                    <a:pt x="775" y="791"/>
                  </a:lnTo>
                  <a:lnTo>
                    <a:pt x="781" y="791"/>
                  </a:lnTo>
                  <a:lnTo>
                    <a:pt x="786" y="796"/>
                  </a:lnTo>
                  <a:lnTo>
                    <a:pt x="791" y="801"/>
                  </a:lnTo>
                  <a:lnTo>
                    <a:pt x="796" y="806"/>
                  </a:lnTo>
                  <a:lnTo>
                    <a:pt x="796" y="811"/>
                  </a:lnTo>
                  <a:lnTo>
                    <a:pt x="801" y="811"/>
                  </a:lnTo>
                  <a:lnTo>
                    <a:pt x="806" y="816"/>
                  </a:lnTo>
                  <a:lnTo>
                    <a:pt x="811" y="821"/>
                  </a:lnTo>
                  <a:lnTo>
                    <a:pt x="816" y="826"/>
                  </a:lnTo>
                  <a:lnTo>
                    <a:pt x="821" y="826"/>
                  </a:lnTo>
                  <a:lnTo>
                    <a:pt x="826" y="831"/>
                  </a:lnTo>
                  <a:lnTo>
                    <a:pt x="826" y="837"/>
                  </a:lnTo>
                  <a:lnTo>
                    <a:pt x="832" y="842"/>
                  </a:lnTo>
                  <a:lnTo>
                    <a:pt x="837" y="842"/>
                  </a:lnTo>
                  <a:lnTo>
                    <a:pt x="842" y="847"/>
                  </a:lnTo>
                  <a:lnTo>
                    <a:pt x="847" y="852"/>
                  </a:lnTo>
                  <a:lnTo>
                    <a:pt x="852" y="857"/>
                  </a:lnTo>
                  <a:lnTo>
                    <a:pt x="857" y="862"/>
                  </a:lnTo>
                  <a:lnTo>
                    <a:pt x="862" y="867"/>
                  </a:lnTo>
                  <a:lnTo>
                    <a:pt x="867" y="867"/>
                  </a:lnTo>
                  <a:lnTo>
                    <a:pt x="872" y="872"/>
                  </a:lnTo>
                  <a:lnTo>
                    <a:pt x="877" y="877"/>
                  </a:lnTo>
                  <a:lnTo>
                    <a:pt x="883" y="877"/>
                  </a:lnTo>
                  <a:lnTo>
                    <a:pt x="883" y="882"/>
                  </a:lnTo>
                  <a:lnTo>
                    <a:pt x="888" y="888"/>
                  </a:lnTo>
                  <a:lnTo>
                    <a:pt x="893" y="888"/>
                  </a:lnTo>
                  <a:lnTo>
                    <a:pt x="898" y="893"/>
                  </a:lnTo>
                  <a:lnTo>
                    <a:pt x="903" y="898"/>
                  </a:lnTo>
                  <a:lnTo>
                    <a:pt x="908" y="898"/>
                  </a:lnTo>
                  <a:lnTo>
                    <a:pt x="908" y="903"/>
                  </a:lnTo>
                  <a:lnTo>
                    <a:pt x="913" y="908"/>
                  </a:lnTo>
                  <a:lnTo>
                    <a:pt x="918" y="908"/>
                  </a:lnTo>
                  <a:lnTo>
                    <a:pt x="923" y="913"/>
                  </a:lnTo>
                  <a:lnTo>
                    <a:pt x="928" y="913"/>
                  </a:lnTo>
                  <a:lnTo>
                    <a:pt x="934" y="918"/>
                  </a:lnTo>
                  <a:lnTo>
                    <a:pt x="939" y="923"/>
                  </a:lnTo>
                  <a:lnTo>
                    <a:pt x="944" y="928"/>
                  </a:lnTo>
                  <a:lnTo>
                    <a:pt x="949" y="928"/>
                  </a:lnTo>
                  <a:lnTo>
                    <a:pt x="954" y="933"/>
                  </a:lnTo>
                  <a:lnTo>
                    <a:pt x="959" y="933"/>
                  </a:lnTo>
                  <a:lnTo>
                    <a:pt x="964" y="939"/>
                  </a:lnTo>
                  <a:lnTo>
                    <a:pt x="964" y="944"/>
                  </a:lnTo>
                  <a:lnTo>
                    <a:pt x="969" y="944"/>
                  </a:lnTo>
                  <a:lnTo>
                    <a:pt x="974" y="949"/>
                  </a:lnTo>
                  <a:lnTo>
                    <a:pt x="979" y="949"/>
                  </a:lnTo>
                  <a:lnTo>
                    <a:pt x="985" y="954"/>
                  </a:lnTo>
                  <a:lnTo>
                    <a:pt x="990" y="954"/>
                  </a:lnTo>
                  <a:lnTo>
                    <a:pt x="995" y="959"/>
                  </a:lnTo>
                  <a:lnTo>
                    <a:pt x="1000" y="964"/>
                  </a:lnTo>
                  <a:lnTo>
                    <a:pt x="1005" y="964"/>
                  </a:lnTo>
                  <a:lnTo>
                    <a:pt x="1010" y="969"/>
                  </a:lnTo>
                  <a:lnTo>
                    <a:pt x="1015" y="974"/>
                  </a:lnTo>
                  <a:lnTo>
                    <a:pt x="1020" y="974"/>
                  </a:lnTo>
                  <a:lnTo>
                    <a:pt x="1020" y="979"/>
                  </a:lnTo>
                  <a:lnTo>
                    <a:pt x="1025" y="979"/>
                  </a:lnTo>
                  <a:lnTo>
                    <a:pt x="1030" y="984"/>
                  </a:lnTo>
                  <a:lnTo>
                    <a:pt x="1036" y="984"/>
                  </a:lnTo>
                  <a:lnTo>
                    <a:pt x="1041" y="990"/>
                  </a:lnTo>
                  <a:lnTo>
                    <a:pt x="1046" y="990"/>
                  </a:lnTo>
                  <a:lnTo>
                    <a:pt x="1051" y="995"/>
                  </a:lnTo>
                  <a:lnTo>
                    <a:pt x="1056" y="995"/>
                  </a:lnTo>
                  <a:lnTo>
                    <a:pt x="1061" y="1000"/>
                  </a:lnTo>
                  <a:lnTo>
                    <a:pt x="1066" y="1000"/>
                  </a:lnTo>
                  <a:lnTo>
                    <a:pt x="1071" y="1005"/>
                  </a:lnTo>
                  <a:lnTo>
                    <a:pt x="1076" y="1005"/>
                  </a:lnTo>
                  <a:lnTo>
                    <a:pt x="1076" y="1010"/>
                  </a:lnTo>
                  <a:lnTo>
                    <a:pt x="1081" y="1010"/>
                  </a:lnTo>
                  <a:lnTo>
                    <a:pt x="1087" y="1015"/>
                  </a:lnTo>
                  <a:lnTo>
                    <a:pt x="1092" y="1015"/>
                  </a:lnTo>
                  <a:lnTo>
                    <a:pt x="1097" y="1020"/>
                  </a:lnTo>
                  <a:lnTo>
                    <a:pt x="1102" y="1020"/>
                  </a:lnTo>
                  <a:lnTo>
                    <a:pt x="1107" y="1025"/>
                  </a:lnTo>
                  <a:lnTo>
                    <a:pt x="1112" y="1025"/>
                  </a:lnTo>
                  <a:lnTo>
                    <a:pt x="1117" y="1030"/>
                  </a:lnTo>
                  <a:lnTo>
                    <a:pt x="1122" y="1030"/>
                  </a:lnTo>
                  <a:lnTo>
                    <a:pt x="1127" y="1035"/>
                  </a:lnTo>
                  <a:lnTo>
                    <a:pt x="1132" y="1035"/>
                  </a:lnTo>
                  <a:lnTo>
                    <a:pt x="1132" y="1041"/>
                  </a:lnTo>
                  <a:lnTo>
                    <a:pt x="1138" y="1041"/>
                  </a:lnTo>
                  <a:lnTo>
                    <a:pt x="1143" y="1041"/>
                  </a:lnTo>
                  <a:lnTo>
                    <a:pt x="1148" y="1046"/>
                  </a:lnTo>
                  <a:lnTo>
                    <a:pt x="1153" y="1046"/>
                  </a:lnTo>
                  <a:lnTo>
                    <a:pt x="1158" y="1051"/>
                  </a:lnTo>
                  <a:lnTo>
                    <a:pt x="1163" y="1051"/>
                  </a:lnTo>
                  <a:lnTo>
                    <a:pt x="1168" y="1056"/>
                  </a:lnTo>
                  <a:lnTo>
                    <a:pt x="1173" y="1056"/>
                  </a:lnTo>
                  <a:lnTo>
                    <a:pt x="1178" y="1061"/>
                  </a:lnTo>
                  <a:lnTo>
                    <a:pt x="1183" y="1061"/>
                  </a:lnTo>
                  <a:lnTo>
                    <a:pt x="1189" y="1061"/>
                  </a:lnTo>
                  <a:lnTo>
                    <a:pt x="1189" y="1066"/>
                  </a:lnTo>
                  <a:lnTo>
                    <a:pt x="1194" y="1066"/>
                  </a:lnTo>
                  <a:lnTo>
                    <a:pt x="1199" y="1071"/>
                  </a:lnTo>
                  <a:lnTo>
                    <a:pt x="1204" y="1071"/>
                  </a:lnTo>
                  <a:lnTo>
                    <a:pt x="1209" y="1071"/>
                  </a:lnTo>
                  <a:lnTo>
                    <a:pt x="1214" y="1076"/>
                  </a:lnTo>
                  <a:lnTo>
                    <a:pt x="1219" y="1076"/>
                  </a:lnTo>
                  <a:lnTo>
                    <a:pt x="1224" y="1081"/>
                  </a:lnTo>
                  <a:lnTo>
                    <a:pt x="1229" y="1081"/>
                  </a:lnTo>
                  <a:lnTo>
                    <a:pt x="1234" y="1086"/>
                  </a:lnTo>
                  <a:lnTo>
                    <a:pt x="1240" y="1086"/>
                  </a:lnTo>
                  <a:lnTo>
                    <a:pt x="1245" y="1086"/>
                  </a:lnTo>
                  <a:lnTo>
                    <a:pt x="1245" y="1092"/>
                  </a:lnTo>
                  <a:lnTo>
                    <a:pt x="1250" y="1092"/>
                  </a:lnTo>
                  <a:lnTo>
                    <a:pt x="1255" y="1092"/>
                  </a:lnTo>
                  <a:lnTo>
                    <a:pt x="1260" y="1097"/>
                  </a:lnTo>
                  <a:lnTo>
                    <a:pt x="1265" y="1097"/>
                  </a:lnTo>
                  <a:lnTo>
                    <a:pt x="1270" y="1097"/>
                  </a:lnTo>
                  <a:lnTo>
                    <a:pt x="1270" y="1102"/>
                  </a:lnTo>
                  <a:lnTo>
                    <a:pt x="1275" y="1102"/>
                  </a:lnTo>
                  <a:lnTo>
                    <a:pt x="1280" y="1107"/>
                  </a:lnTo>
                  <a:lnTo>
                    <a:pt x="1285" y="1107"/>
                  </a:lnTo>
                  <a:lnTo>
                    <a:pt x="1291" y="1107"/>
                  </a:lnTo>
                  <a:lnTo>
                    <a:pt x="1296" y="1112"/>
                  </a:lnTo>
                  <a:lnTo>
                    <a:pt x="1301" y="1112"/>
                  </a:lnTo>
                  <a:lnTo>
                    <a:pt x="1306" y="1117"/>
                  </a:lnTo>
                  <a:lnTo>
                    <a:pt x="1311" y="1117"/>
                  </a:lnTo>
                  <a:lnTo>
                    <a:pt x="1316" y="1117"/>
                  </a:lnTo>
                  <a:lnTo>
                    <a:pt x="1321" y="1122"/>
                  </a:lnTo>
                  <a:lnTo>
                    <a:pt x="1326" y="1122"/>
                  </a:lnTo>
                  <a:lnTo>
                    <a:pt x="1331" y="1127"/>
                  </a:lnTo>
                  <a:lnTo>
                    <a:pt x="1336" y="1127"/>
                  </a:lnTo>
                  <a:lnTo>
                    <a:pt x="1342" y="1127"/>
                  </a:lnTo>
                  <a:lnTo>
                    <a:pt x="1347" y="1132"/>
                  </a:lnTo>
                  <a:lnTo>
                    <a:pt x="1352" y="1132"/>
                  </a:lnTo>
                  <a:lnTo>
                    <a:pt x="1357" y="1132"/>
                  </a:lnTo>
                  <a:lnTo>
                    <a:pt x="1357" y="1137"/>
                  </a:lnTo>
                  <a:lnTo>
                    <a:pt x="1362" y="1137"/>
                  </a:lnTo>
                  <a:lnTo>
                    <a:pt x="1367" y="1137"/>
                  </a:lnTo>
                  <a:lnTo>
                    <a:pt x="1372" y="1143"/>
                  </a:lnTo>
                  <a:lnTo>
                    <a:pt x="1377" y="1143"/>
                  </a:lnTo>
                  <a:lnTo>
                    <a:pt x="1382" y="1143"/>
                  </a:lnTo>
                  <a:lnTo>
                    <a:pt x="1382" y="1148"/>
                  </a:lnTo>
                  <a:lnTo>
                    <a:pt x="1387" y="1148"/>
                  </a:lnTo>
                  <a:lnTo>
                    <a:pt x="1393" y="1148"/>
                  </a:lnTo>
                  <a:lnTo>
                    <a:pt x="1398" y="1148"/>
                  </a:lnTo>
                  <a:lnTo>
                    <a:pt x="1403" y="1153"/>
                  </a:lnTo>
                  <a:lnTo>
                    <a:pt x="1408" y="1153"/>
                  </a:lnTo>
                  <a:lnTo>
                    <a:pt x="1413" y="1153"/>
                  </a:lnTo>
                  <a:lnTo>
                    <a:pt x="1413" y="1158"/>
                  </a:lnTo>
                  <a:lnTo>
                    <a:pt x="1418" y="1158"/>
                  </a:lnTo>
                  <a:lnTo>
                    <a:pt x="1423" y="1158"/>
                  </a:lnTo>
                  <a:lnTo>
                    <a:pt x="1428" y="1163"/>
                  </a:lnTo>
                  <a:lnTo>
                    <a:pt x="1433" y="1163"/>
                  </a:lnTo>
                  <a:lnTo>
                    <a:pt x="1438" y="1163"/>
                  </a:lnTo>
                  <a:lnTo>
                    <a:pt x="1438" y="1168"/>
                  </a:lnTo>
                  <a:lnTo>
                    <a:pt x="1444" y="1168"/>
                  </a:lnTo>
                  <a:lnTo>
                    <a:pt x="1449" y="1168"/>
                  </a:lnTo>
                  <a:lnTo>
                    <a:pt x="1454" y="1173"/>
                  </a:lnTo>
                  <a:lnTo>
                    <a:pt x="1459" y="1173"/>
                  </a:lnTo>
                  <a:lnTo>
                    <a:pt x="1464" y="1173"/>
                  </a:lnTo>
                  <a:lnTo>
                    <a:pt x="1469" y="1173"/>
                  </a:lnTo>
                  <a:lnTo>
                    <a:pt x="1469" y="1178"/>
                  </a:lnTo>
                  <a:lnTo>
                    <a:pt x="1474" y="1178"/>
                  </a:lnTo>
                  <a:lnTo>
                    <a:pt x="1479" y="1178"/>
                  </a:lnTo>
                  <a:lnTo>
                    <a:pt x="1484" y="1183"/>
                  </a:lnTo>
                  <a:lnTo>
                    <a:pt x="1489" y="1183"/>
                  </a:lnTo>
                  <a:lnTo>
                    <a:pt x="1495" y="1183"/>
                  </a:lnTo>
                  <a:lnTo>
                    <a:pt x="1495" y="1188"/>
                  </a:lnTo>
                  <a:lnTo>
                    <a:pt x="1500" y="1188"/>
                  </a:lnTo>
                  <a:lnTo>
                    <a:pt x="1505" y="1188"/>
                  </a:lnTo>
                  <a:lnTo>
                    <a:pt x="1510" y="1194"/>
                  </a:lnTo>
                  <a:lnTo>
                    <a:pt x="1515" y="1194"/>
                  </a:lnTo>
                  <a:lnTo>
                    <a:pt x="1520" y="1194"/>
                  </a:lnTo>
                  <a:lnTo>
                    <a:pt x="1525" y="1194"/>
                  </a:lnTo>
                  <a:lnTo>
                    <a:pt x="1525" y="1199"/>
                  </a:lnTo>
                  <a:lnTo>
                    <a:pt x="1530" y="1199"/>
                  </a:lnTo>
                  <a:lnTo>
                    <a:pt x="1535" y="1199"/>
                  </a:lnTo>
                  <a:lnTo>
                    <a:pt x="1540" y="1204"/>
                  </a:lnTo>
                  <a:lnTo>
                    <a:pt x="1546" y="1204"/>
                  </a:lnTo>
                  <a:lnTo>
                    <a:pt x="1551" y="1204"/>
                  </a:lnTo>
                  <a:lnTo>
                    <a:pt x="1551" y="1209"/>
                  </a:lnTo>
                  <a:lnTo>
                    <a:pt x="1556" y="1209"/>
                  </a:lnTo>
                  <a:lnTo>
                    <a:pt x="1561" y="1209"/>
                  </a:lnTo>
                  <a:lnTo>
                    <a:pt x="1566" y="1209"/>
                  </a:lnTo>
                  <a:lnTo>
                    <a:pt x="1571" y="1214"/>
                  </a:lnTo>
                  <a:lnTo>
                    <a:pt x="1576" y="1214"/>
                  </a:lnTo>
                  <a:lnTo>
                    <a:pt x="1581" y="1214"/>
                  </a:lnTo>
                  <a:lnTo>
                    <a:pt x="1581" y="1219"/>
                  </a:lnTo>
                  <a:lnTo>
                    <a:pt x="1586" y="1219"/>
                  </a:lnTo>
                  <a:lnTo>
                    <a:pt x="1591" y="1219"/>
                  </a:lnTo>
                  <a:lnTo>
                    <a:pt x="1597" y="1224"/>
                  </a:lnTo>
                  <a:lnTo>
                    <a:pt x="1602" y="1224"/>
                  </a:lnTo>
                  <a:lnTo>
                    <a:pt x="1607" y="1224"/>
                  </a:lnTo>
                  <a:lnTo>
                    <a:pt x="1607" y="1229"/>
                  </a:lnTo>
                  <a:lnTo>
                    <a:pt x="1612" y="1229"/>
                  </a:lnTo>
                  <a:lnTo>
                    <a:pt x="1617" y="1229"/>
                  </a:lnTo>
                  <a:lnTo>
                    <a:pt x="1622" y="1229"/>
                  </a:lnTo>
                  <a:lnTo>
                    <a:pt x="1627" y="1234"/>
                  </a:lnTo>
                  <a:lnTo>
                    <a:pt x="1632" y="1234"/>
                  </a:lnTo>
                  <a:lnTo>
                    <a:pt x="1637" y="1234"/>
                  </a:lnTo>
                  <a:lnTo>
                    <a:pt x="1637" y="1239"/>
                  </a:lnTo>
                  <a:lnTo>
                    <a:pt x="1642" y="1239"/>
                  </a:lnTo>
                  <a:lnTo>
                    <a:pt x="1648" y="1239"/>
                  </a:lnTo>
                  <a:lnTo>
                    <a:pt x="1653" y="1245"/>
                  </a:lnTo>
                  <a:lnTo>
                    <a:pt x="1658" y="1245"/>
                  </a:lnTo>
                  <a:lnTo>
                    <a:pt x="1663" y="1245"/>
                  </a:lnTo>
                  <a:lnTo>
                    <a:pt x="1663" y="1250"/>
                  </a:lnTo>
                  <a:lnTo>
                    <a:pt x="1668" y="1250"/>
                  </a:lnTo>
                  <a:lnTo>
                    <a:pt x="1673" y="1250"/>
                  </a:lnTo>
                  <a:lnTo>
                    <a:pt x="1678" y="1250"/>
                  </a:lnTo>
                  <a:lnTo>
                    <a:pt x="1683" y="1255"/>
                  </a:lnTo>
                  <a:lnTo>
                    <a:pt x="1688" y="1255"/>
                  </a:lnTo>
                  <a:lnTo>
                    <a:pt x="1693" y="1255"/>
                  </a:lnTo>
                  <a:lnTo>
                    <a:pt x="1693" y="1260"/>
                  </a:lnTo>
                  <a:lnTo>
                    <a:pt x="1699" y="1260"/>
                  </a:lnTo>
                  <a:lnTo>
                    <a:pt x="1704" y="1260"/>
                  </a:lnTo>
                  <a:lnTo>
                    <a:pt x="1709" y="1265"/>
                  </a:lnTo>
                  <a:lnTo>
                    <a:pt x="1714" y="1265"/>
                  </a:lnTo>
                  <a:lnTo>
                    <a:pt x="1719" y="1265"/>
                  </a:lnTo>
                  <a:lnTo>
                    <a:pt x="1719" y="1270"/>
                  </a:lnTo>
                  <a:lnTo>
                    <a:pt x="1724" y="1270"/>
                  </a:lnTo>
                  <a:lnTo>
                    <a:pt x="1729" y="1270"/>
                  </a:lnTo>
                  <a:lnTo>
                    <a:pt x="1734" y="1275"/>
                  </a:lnTo>
                  <a:lnTo>
                    <a:pt x="1739" y="1275"/>
                  </a:lnTo>
                  <a:lnTo>
                    <a:pt x="1744" y="1275"/>
                  </a:lnTo>
                  <a:lnTo>
                    <a:pt x="1750" y="1280"/>
                  </a:lnTo>
                  <a:lnTo>
                    <a:pt x="1755" y="1280"/>
                  </a:lnTo>
                  <a:lnTo>
                    <a:pt x="1760" y="1285"/>
                  </a:lnTo>
                  <a:lnTo>
                    <a:pt x="1765" y="1285"/>
                  </a:lnTo>
                  <a:lnTo>
                    <a:pt x="1770" y="1285"/>
                  </a:lnTo>
                  <a:lnTo>
                    <a:pt x="1775" y="1290"/>
                  </a:lnTo>
                  <a:lnTo>
                    <a:pt x="1780" y="1290"/>
                  </a:lnTo>
                  <a:lnTo>
                    <a:pt x="1785" y="1296"/>
                  </a:lnTo>
                  <a:lnTo>
                    <a:pt x="1790" y="1296"/>
                  </a:lnTo>
                  <a:lnTo>
                    <a:pt x="1795" y="1301"/>
                  </a:lnTo>
                  <a:lnTo>
                    <a:pt x="1801" y="1301"/>
                  </a:lnTo>
                  <a:lnTo>
                    <a:pt x="1806" y="1301"/>
                  </a:lnTo>
                  <a:lnTo>
                    <a:pt x="1806" y="1306"/>
                  </a:lnTo>
                  <a:lnTo>
                    <a:pt x="1811" y="1306"/>
                  </a:lnTo>
                  <a:lnTo>
                    <a:pt x="1816" y="1306"/>
                  </a:lnTo>
                  <a:lnTo>
                    <a:pt x="1821" y="1311"/>
                  </a:lnTo>
                  <a:lnTo>
                    <a:pt x="1826" y="1311"/>
                  </a:lnTo>
                  <a:lnTo>
                    <a:pt x="1831" y="1311"/>
                  </a:lnTo>
                  <a:lnTo>
                    <a:pt x="1831" y="1316"/>
                  </a:lnTo>
                  <a:lnTo>
                    <a:pt x="1836" y="1316"/>
                  </a:lnTo>
                  <a:lnTo>
                    <a:pt x="1841" y="1321"/>
                  </a:lnTo>
                  <a:lnTo>
                    <a:pt x="1846" y="1321"/>
                  </a:lnTo>
                  <a:lnTo>
                    <a:pt x="1852" y="1321"/>
                  </a:lnTo>
                  <a:lnTo>
                    <a:pt x="1857" y="1326"/>
                  </a:lnTo>
                  <a:lnTo>
                    <a:pt x="1862" y="1331"/>
                  </a:lnTo>
                  <a:lnTo>
                    <a:pt x="1867" y="1331"/>
                  </a:lnTo>
                  <a:lnTo>
                    <a:pt x="1872" y="1336"/>
                  </a:lnTo>
                  <a:lnTo>
                    <a:pt x="1877" y="1336"/>
                  </a:lnTo>
                  <a:lnTo>
                    <a:pt x="1882" y="1336"/>
                  </a:lnTo>
                  <a:lnTo>
                    <a:pt x="1887" y="1341"/>
                  </a:lnTo>
                  <a:lnTo>
                    <a:pt x="1892" y="1347"/>
                  </a:lnTo>
                  <a:lnTo>
                    <a:pt x="1897" y="1347"/>
                  </a:lnTo>
                  <a:lnTo>
                    <a:pt x="1903" y="1352"/>
                  </a:lnTo>
                  <a:lnTo>
                    <a:pt x="1908" y="1352"/>
                  </a:lnTo>
                  <a:lnTo>
                    <a:pt x="1913" y="1357"/>
                  </a:lnTo>
                  <a:lnTo>
                    <a:pt x="1918" y="1362"/>
                  </a:lnTo>
                  <a:lnTo>
                    <a:pt x="1923" y="1362"/>
                  </a:lnTo>
                  <a:lnTo>
                    <a:pt x="1928" y="1367"/>
                  </a:lnTo>
                  <a:lnTo>
                    <a:pt x="1933" y="1367"/>
                  </a:lnTo>
                  <a:lnTo>
                    <a:pt x="1938" y="1372"/>
                  </a:lnTo>
                  <a:lnTo>
                    <a:pt x="1943" y="1372"/>
                  </a:lnTo>
                  <a:lnTo>
                    <a:pt x="1943" y="1377"/>
                  </a:lnTo>
                  <a:lnTo>
                    <a:pt x="1948" y="1377"/>
                  </a:lnTo>
                  <a:lnTo>
                    <a:pt x="1954" y="1382"/>
                  </a:lnTo>
                  <a:lnTo>
                    <a:pt x="1959" y="1382"/>
                  </a:lnTo>
                  <a:lnTo>
                    <a:pt x="1964" y="1387"/>
                  </a:lnTo>
                  <a:lnTo>
                    <a:pt x="1969" y="1392"/>
                  </a:lnTo>
                  <a:lnTo>
                    <a:pt x="1974" y="1398"/>
                  </a:lnTo>
                  <a:lnTo>
                    <a:pt x="1979" y="1398"/>
                  </a:lnTo>
                  <a:lnTo>
                    <a:pt x="1984" y="1403"/>
                  </a:lnTo>
                  <a:lnTo>
                    <a:pt x="1989" y="1408"/>
                  </a:lnTo>
                  <a:lnTo>
                    <a:pt x="1994" y="1408"/>
                  </a:lnTo>
                  <a:lnTo>
                    <a:pt x="1999" y="1413"/>
                  </a:lnTo>
                  <a:lnTo>
                    <a:pt x="1999" y="1418"/>
                  </a:lnTo>
                  <a:lnTo>
                    <a:pt x="2005" y="1418"/>
                  </a:lnTo>
                  <a:lnTo>
                    <a:pt x="2010" y="1423"/>
                  </a:lnTo>
                  <a:lnTo>
                    <a:pt x="2015" y="1428"/>
                  </a:lnTo>
                  <a:lnTo>
                    <a:pt x="2020" y="1433"/>
                  </a:lnTo>
                  <a:lnTo>
                    <a:pt x="2025" y="1433"/>
                  </a:lnTo>
                  <a:lnTo>
                    <a:pt x="2025" y="1438"/>
                  </a:lnTo>
                  <a:lnTo>
                    <a:pt x="2030" y="1443"/>
                  </a:lnTo>
                  <a:lnTo>
                    <a:pt x="2035" y="1449"/>
                  </a:lnTo>
                  <a:lnTo>
                    <a:pt x="2040" y="1454"/>
                  </a:lnTo>
                  <a:lnTo>
                    <a:pt x="2045" y="1454"/>
                  </a:lnTo>
                  <a:lnTo>
                    <a:pt x="2050" y="1459"/>
                  </a:lnTo>
                  <a:lnTo>
                    <a:pt x="2056" y="1464"/>
                  </a:lnTo>
                  <a:lnTo>
                    <a:pt x="2056" y="1469"/>
                  </a:lnTo>
                  <a:lnTo>
                    <a:pt x="2061" y="1474"/>
                  </a:lnTo>
                  <a:lnTo>
                    <a:pt x="2066" y="1479"/>
                  </a:lnTo>
                  <a:lnTo>
                    <a:pt x="2071" y="1484"/>
                  </a:lnTo>
                  <a:lnTo>
                    <a:pt x="2076" y="1489"/>
                  </a:lnTo>
                  <a:lnTo>
                    <a:pt x="2081" y="1494"/>
                  </a:lnTo>
                  <a:lnTo>
                    <a:pt x="2081" y="1500"/>
                  </a:lnTo>
                  <a:lnTo>
                    <a:pt x="2086" y="1510"/>
                  </a:lnTo>
                  <a:lnTo>
                    <a:pt x="2091" y="1515"/>
                  </a:lnTo>
                  <a:lnTo>
                    <a:pt x="2096" y="1520"/>
                  </a:lnTo>
                  <a:lnTo>
                    <a:pt x="2101" y="1525"/>
                  </a:lnTo>
                  <a:lnTo>
                    <a:pt x="2107" y="1530"/>
                  </a:lnTo>
                  <a:lnTo>
                    <a:pt x="2112" y="1540"/>
                  </a:lnTo>
                  <a:lnTo>
                    <a:pt x="2112" y="1545"/>
                  </a:lnTo>
                  <a:lnTo>
                    <a:pt x="2117" y="1551"/>
                  </a:lnTo>
                  <a:lnTo>
                    <a:pt x="2122" y="1561"/>
                  </a:lnTo>
                  <a:lnTo>
                    <a:pt x="2127" y="1566"/>
                  </a:lnTo>
                  <a:lnTo>
                    <a:pt x="2132" y="1576"/>
                  </a:lnTo>
                  <a:lnTo>
                    <a:pt x="2137" y="1581"/>
                  </a:lnTo>
                  <a:lnTo>
                    <a:pt x="2137" y="1591"/>
                  </a:lnTo>
                  <a:lnTo>
                    <a:pt x="2142" y="1596"/>
                  </a:lnTo>
                  <a:lnTo>
                    <a:pt x="2147" y="1607"/>
                  </a:lnTo>
                  <a:lnTo>
                    <a:pt x="2152" y="1617"/>
                  </a:lnTo>
                  <a:lnTo>
                    <a:pt x="2158" y="1622"/>
                  </a:lnTo>
                  <a:lnTo>
                    <a:pt x="2163" y="1632"/>
                  </a:lnTo>
                  <a:lnTo>
                    <a:pt x="2168" y="1642"/>
                  </a:lnTo>
                  <a:lnTo>
                    <a:pt x="2168" y="1653"/>
                  </a:lnTo>
                  <a:lnTo>
                    <a:pt x="2173" y="1663"/>
                  </a:lnTo>
                  <a:lnTo>
                    <a:pt x="2178" y="1668"/>
                  </a:lnTo>
                  <a:lnTo>
                    <a:pt x="2183" y="1678"/>
                  </a:lnTo>
                  <a:lnTo>
                    <a:pt x="2188" y="1688"/>
                  </a:lnTo>
                  <a:lnTo>
                    <a:pt x="2193" y="1698"/>
                  </a:lnTo>
                  <a:lnTo>
                    <a:pt x="2193" y="1709"/>
                  </a:lnTo>
                  <a:lnTo>
                    <a:pt x="2198" y="1719"/>
                  </a:lnTo>
                  <a:lnTo>
                    <a:pt x="2203" y="1729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167080" y="2462040"/>
              <a:ext cx="3229560" cy="1378080"/>
            </a:xfrm>
            <a:custGeom>
              <a:avLst/>
              <a:gdLst/>
              <a:ahLst/>
              <a:rect l="l" t="t" r="r" b="b"/>
              <a:pathLst>
                <a:path w="2204" h="868">
                  <a:moveTo>
                    <a:pt x="0" y="0"/>
                  </a:moveTo>
                  <a:lnTo>
                    <a:pt x="5" y="5"/>
                  </a:lnTo>
                  <a:lnTo>
                    <a:pt x="10" y="5"/>
                  </a:lnTo>
                  <a:lnTo>
                    <a:pt x="16" y="10"/>
                  </a:lnTo>
                  <a:lnTo>
                    <a:pt x="21" y="15"/>
                  </a:lnTo>
                  <a:lnTo>
                    <a:pt x="26" y="15"/>
                  </a:lnTo>
                  <a:lnTo>
                    <a:pt x="31" y="21"/>
                  </a:lnTo>
                  <a:lnTo>
                    <a:pt x="36" y="21"/>
                  </a:lnTo>
                  <a:lnTo>
                    <a:pt x="41" y="26"/>
                  </a:lnTo>
                  <a:lnTo>
                    <a:pt x="41" y="31"/>
                  </a:lnTo>
                  <a:lnTo>
                    <a:pt x="46" y="31"/>
                  </a:lnTo>
                  <a:lnTo>
                    <a:pt x="51" y="36"/>
                  </a:lnTo>
                  <a:lnTo>
                    <a:pt x="56" y="36"/>
                  </a:lnTo>
                  <a:lnTo>
                    <a:pt x="61" y="41"/>
                  </a:lnTo>
                  <a:lnTo>
                    <a:pt x="67" y="41"/>
                  </a:lnTo>
                  <a:lnTo>
                    <a:pt x="72" y="46"/>
                  </a:lnTo>
                  <a:lnTo>
                    <a:pt x="77" y="51"/>
                  </a:lnTo>
                  <a:lnTo>
                    <a:pt x="82" y="56"/>
                  </a:lnTo>
                  <a:lnTo>
                    <a:pt x="87" y="56"/>
                  </a:lnTo>
                  <a:lnTo>
                    <a:pt x="92" y="61"/>
                  </a:lnTo>
                  <a:lnTo>
                    <a:pt x="97" y="61"/>
                  </a:lnTo>
                  <a:lnTo>
                    <a:pt x="97" y="66"/>
                  </a:lnTo>
                  <a:lnTo>
                    <a:pt x="102" y="66"/>
                  </a:lnTo>
                  <a:lnTo>
                    <a:pt x="107" y="72"/>
                  </a:lnTo>
                  <a:lnTo>
                    <a:pt x="112" y="77"/>
                  </a:lnTo>
                  <a:lnTo>
                    <a:pt x="118" y="77"/>
                  </a:lnTo>
                  <a:lnTo>
                    <a:pt x="123" y="82"/>
                  </a:lnTo>
                  <a:lnTo>
                    <a:pt x="128" y="82"/>
                  </a:lnTo>
                  <a:lnTo>
                    <a:pt x="128" y="87"/>
                  </a:lnTo>
                  <a:lnTo>
                    <a:pt x="133" y="87"/>
                  </a:lnTo>
                  <a:lnTo>
                    <a:pt x="138" y="92"/>
                  </a:lnTo>
                  <a:lnTo>
                    <a:pt x="143" y="92"/>
                  </a:lnTo>
                  <a:lnTo>
                    <a:pt x="148" y="97"/>
                  </a:lnTo>
                  <a:lnTo>
                    <a:pt x="153" y="102"/>
                  </a:lnTo>
                  <a:lnTo>
                    <a:pt x="158" y="107"/>
                  </a:lnTo>
                  <a:lnTo>
                    <a:pt x="163" y="107"/>
                  </a:lnTo>
                  <a:lnTo>
                    <a:pt x="169" y="112"/>
                  </a:lnTo>
                  <a:lnTo>
                    <a:pt x="174" y="117"/>
                  </a:lnTo>
                  <a:lnTo>
                    <a:pt x="179" y="117"/>
                  </a:lnTo>
                  <a:lnTo>
                    <a:pt x="184" y="123"/>
                  </a:lnTo>
                  <a:lnTo>
                    <a:pt x="189" y="128"/>
                  </a:lnTo>
                  <a:lnTo>
                    <a:pt x="194" y="128"/>
                  </a:lnTo>
                  <a:lnTo>
                    <a:pt x="199" y="133"/>
                  </a:lnTo>
                  <a:lnTo>
                    <a:pt x="204" y="138"/>
                  </a:lnTo>
                  <a:lnTo>
                    <a:pt x="209" y="138"/>
                  </a:lnTo>
                  <a:lnTo>
                    <a:pt x="209" y="143"/>
                  </a:lnTo>
                  <a:lnTo>
                    <a:pt x="214" y="143"/>
                  </a:lnTo>
                  <a:lnTo>
                    <a:pt x="220" y="148"/>
                  </a:lnTo>
                  <a:lnTo>
                    <a:pt x="225" y="153"/>
                  </a:lnTo>
                  <a:lnTo>
                    <a:pt x="230" y="153"/>
                  </a:lnTo>
                  <a:lnTo>
                    <a:pt x="235" y="158"/>
                  </a:lnTo>
                  <a:lnTo>
                    <a:pt x="240" y="158"/>
                  </a:lnTo>
                  <a:lnTo>
                    <a:pt x="240" y="163"/>
                  </a:lnTo>
                  <a:lnTo>
                    <a:pt x="245" y="168"/>
                  </a:lnTo>
                  <a:lnTo>
                    <a:pt x="250" y="168"/>
                  </a:lnTo>
                  <a:lnTo>
                    <a:pt x="255" y="174"/>
                  </a:lnTo>
                  <a:lnTo>
                    <a:pt x="260" y="174"/>
                  </a:lnTo>
                  <a:lnTo>
                    <a:pt x="265" y="179"/>
                  </a:lnTo>
                  <a:lnTo>
                    <a:pt x="265" y="184"/>
                  </a:lnTo>
                  <a:lnTo>
                    <a:pt x="271" y="184"/>
                  </a:lnTo>
                  <a:lnTo>
                    <a:pt x="276" y="189"/>
                  </a:lnTo>
                  <a:lnTo>
                    <a:pt x="281" y="189"/>
                  </a:lnTo>
                  <a:lnTo>
                    <a:pt x="286" y="194"/>
                  </a:lnTo>
                  <a:lnTo>
                    <a:pt x="291" y="199"/>
                  </a:lnTo>
                  <a:lnTo>
                    <a:pt x="296" y="199"/>
                  </a:lnTo>
                  <a:lnTo>
                    <a:pt x="296" y="204"/>
                  </a:lnTo>
                  <a:lnTo>
                    <a:pt x="301" y="209"/>
                  </a:lnTo>
                  <a:lnTo>
                    <a:pt x="306" y="209"/>
                  </a:lnTo>
                  <a:lnTo>
                    <a:pt x="311" y="214"/>
                  </a:lnTo>
                  <a:lnTo>
                    <a:pt x="316" y="219"/>
                  </a:lnTo>
                  <a:lnTo>
                    <a:pt x="322" y="219"/>
                  </a:lnTo>
                  <a:lnTo>
                    <a:pt x="322" y="225"/>
                  </a:lnTo>
                  <a:lnTo>
                    <a:pt x="327" y="225"/>
                  </a:lnTo>
                  <a:lnTo>
                    <a:pt x="332" y="230"/>
                  </a:lnTo>
                  <a:lnTo>
                    <a:pt x="337" y="235"/>
                  </a:lnTo>
                  <a:lnTo>
                    <a:pt x="342" y="235"/>
                  </a:lnTo>
                  <a:lnTo>
                    <a:pt x="347" y="240"/>
                  </a:lnTo>
                  <a:lnTo>
                    <a:pt x="352" y="245"/>
                  </a:lnTo>
                  <a:lnTo>
                    <a:pt x="357" y="250"/>
                  </a:lnTo>
                  <a:lnTo>
                    <a:pt x="362" y="255"/>
                  </a:lnTo>
                  <a:lnTo>
                    <a:pt x="367" y="255"/>
                  </a:lnTo>
                  <a:lnTo>
                    <a:pt x="373" y="260"/>
                  </a:lnTo>
                  <a:lnTo>
                    <a:pt x="378" y="265"/>
                  </a:lnTo>
                  <a:lnTo>
                    <a:pt x="378" y="270"/>
                  </a:lnTo>
                  <a:lnTo>
                    <a:pt x="383" y="270"/>
                  </a:lnTo>
                  <a:lnTo>
                    <a:pt x="388" y="276"/>
                  </a:lnTo>
                  <a:lnTo>
                    <a:pt x="393" y="281"/>
                  </a:lnTo>
                  <a:lnTo>
                    <a:pt x="398" y="281"/>
                  </a:lnTo>
                  <a:lnTo>
                    <a:pt x="403" y="286"/>
                  </a:lnTo>
                  <a:lnTo>
                    <a:pt x="403" y="291"/>
                  </a:lnTo>
                  <a:lnTo>
                    <a:pt x="408" y="291"/>
                  </a:lnTo>
                  <a:lnTo>
                    <a:pt x="413" y="296"/>
                  </a:lnTo>
                  <a:lnTo>
                    <a:pt x="418" y="301"/>
                  </a:lnTo>
                  <a:lnTo>
                    <a:pt x="424" y="306"/>
                  </a:lnTo>
                  <a:lnTo>
                    <a:pt x="429" y="306"/>
                  </a:lnTo>
                  <a:lnTo>
                    <a:pt x="434" y="311"/>
                  </a:lnTo>
                  <a:lnTo>
                    <a:pt x="434" y="316"/>
                  </a:lnTo>
                  <a:lnTo>
                    <a:pt x="439" y="321"/>
                  </a:lnTo>
                  <a:lnTo>
                    <a:pt x="444" y="321"/>
                  </a:lnTo>
                  <a:lnTo>
                    <a:pt x="449" y="327"/>
                  </a:lnTo>
                  <a:lnTo>
                    <a:pt x="454" y="332"/>
                  </a:lnTo>
                  <a:lnTo>
                    <a:pt x="459" y="332"/>
                  </a:lnTo>
                  <a:lnTo>
                    <a:pt x="459" y="337"/>
                  </a:lnTo>
                  <a:lnTo>
                    <a:pt x="464" y="342"/>
                  </a:lnTo>
                  <a:lnTo>
                    <a:pt x="469" y="347"/>
                  </a:lnTo>
                  <a:lnTo>
                    <a:pt x="475" y="352"/>
                  </a:lnTo>
                  <a:lnTo>
                    <a:pt x="480" y="352"/>
                  </a:lnTo>
                  <a:lnTo>
                    <a:pt x="485" y="357"/>
                  </a:lnTo>
                  <a:lnTo>
                    <a:pt x="490" y="362"/>
                  </a:lnTo>
                  <a:lnTo>
                    <a:pt x="490" y="367"/>
                  </a:lnTo>
                  <a:lnTo>
                    <a:pt x="495" y="367"/>
                  </a:lnTo>
                  <a:lnTo>
                    <a:pt x="500" y="372"/>
                  </a:lnTo>
                  <a:lnTo>
                    <a:pt x="505" y="378"/>
                  </a:lnTo>
                  <a:lnTo>
                    <a:pt x="510" y="383"/>
                  </a:lnTo>
                  <a:lnTo>
                    <a:pt x="515" y="388"/>
                  </a:lnTo>
                  <a:lnTo>
                    <a:pt x="520" y="393"/>
                  </a:lnTo>
                  <a:lnTo>
                    <a:pt x="526" y="398"/>
                  </a:lnTo>
                  <a:lnTo>
                    <a:pt x="531" y="403"/>
                  </a:lnTo>
                  <a:lnTo>
                    <a:pt x="536" y="403"/>
                  </a:lnTo>
                  <a:lnTo>
                    <a:pt x="541" y="408"/>
                  </a:lnTo>
                  <a:lnTo>
                    <a:pt x="546" y="413"/>
                  </a:lnTo>
                  <a:lnTo>
                    <a:pt x="546" y="418"/>
                  </a:lnTo>
                  <a:lnTo>
                    <a:pt x="551" y="423"/>
                  </a:lnTo>
                  <a:lnTo>
                    <a:pt x="556" y="423"/>
                  </a:lnTo>
                  <a:lnTo>
                    <a:pt x="561" y="429"/>
                  </a:lnTo>
                  <a:lnTo>
                    <a:pt x="566" y="434"/>
                  </a:lnTo>
                  <a:lnTo>
                    <a:pt x="571" y="439"/>
                  </a:lnTo>
                  <a:lnTo>
                    <a:pt x="571" y="444"/>
                  </a:lnTo>
                  <a:lnTo>
                    <a:pt x="577" y="449"/>
                  </a:lnTo>
                  <a:lnTo>
                    <a:pt x="582" y="449"/>
                  </a:lnTo>
                  <a:lnTo>
                    <a:pt x="587" y="454"/>
                  </a:lnTo>
                  <a:lnTo>
                    <a:pt x="592" y="459"/>
                  </a:lnTo>
                  <a:lnTo>
                    <a:pt x="597" y="464"/>
                  </a:lnTo>
                  <a:lnTo>
                    <a:pt x="602" y="469"/>
                  </a:lnTo>
                  <a:lnTo>
                    <a:pt x="607" y="474"/>
                  </a:lnTo>
                  <a:lnTo>
                    <a:pt x="612" y="480"/>
                  </a:lnTo>
                  <a:lnTo>
                    <a:pt x="617" y="485"/>
                  </a:lnTo>
                  <a:lnTo>
                    <a:pt x="622" y="490"/>
                  </a:lnTo>
                  <a:lnTo>
                    <a:pt x="628" y="490"/>
                  </a:lnTo>
                  <a:lnTo>
                    <a:pt x="628" y="495"/>
                  </a:lnTo>
                  <a:lnTo>
                    <a:pt x="633" y="500"/>
                  </a:lnTo>
                  <a:lnTo>
                    <a:pt x="638" y="505"/>
                  </a:lnTo>
                  <a:lnTo>
                    <a:pt x="643" y="505"/>
                  </a:lnTo>
                  <a:lnTo>
                    <a:pt x="648" y="510"/>
                  </a:lnTo>
                  <a:lnTo>
                    <a:pt x="653" y="515"/>
                  </a:lnTo>
                  <a:lnTo>
                    <a:pt x="658" y="520"/>
                  </a:lnTo>
                  <a:lnTo>
                    <a:pt x="658" y="525"/>
                  </a:lnTo>
                  <a:lnTo>
                    <a:pt x="663" y="525"/>
                  </a:lnTo>
                  <a:lnTo>
                    <a:pt x="668" y="531"/>
                  </a:lnTo>
                  <a:lnTo>
                    <a:pt x="673" y="536"/>
                  </a:lnTo>
                  <a:lnTo>
                    <a:pt x="679" y="541"/>
                  </a:lnTo>
                  <a:lnTo>
                    <a:pt x="684" y="541"/>
                  </a:lnTo>
                  <a:lnTo>
                    <a:pt x="684" y="546"/>
                  </a:lnTo>
                  <a:lnTo>
                    <a:pt x="689" y="551"/>
                  </a:lnTo>
                  <a:lnTo>
                    <a:pt x="694" y="556"/>
                  </a:lnTo>
                  <a:lnTo>
                    <a:pt x="699" y="556"/>
                  </a:lnTo>
                  <a:lnTo>
                    <a:pt x="704" y="561"/>
                  </a:lnTo>
                  <a:lnTo>
                    <a:pt x="709" y="566"/>
                  </a:lnTo>
                  <a:lnTo>
                    <a:pt x="714" y="566"/>
                  </a:lnTo>
                  <a:lnTo>
                    <a:pt x="714" y="571"/>
                  </a:lnTo>
                  <a:lnTo>
                    <a:pt x="719" y="576"/>
                  </a:lnTo>
                  <a:lnTo>
                    <a:pt x="724" y="582"/>
                  </a:lnTo>
                  <a:lnTo>
                    <a:pt x="730" y="582"/>
                  </a:lnTo>
                  <a:lnTo>
                    <a:pt x="735" y="587"/>
                  </a:lnTo>
                  <a:lnTo>
                    <a:pt x="740" y="592"/>
                  </a:lnTo>
                  <a:lnTo>
                    <a:pt x="745" y="597"/>
                  </a:lnTo>
                  <a:lnTo>
                    <a:pt x="750" y="602"/>
                  </a:lnTo>
                  <a:lnTo>
                    <a:pt x="755" y="602"/>
                  </a:lnTo>
                  <a:lnTo>
                    <a:pt x="760" y="607"/>
                  </a:lnTo>
                  <a:lnTo>
                    <a:pt x="765" y="612"/>
                  </a:lnTo>
                  <a:lnTo>
                    <a:pt x="770" y="612"/>
                  </a:lnTo>
                  <a:lnTo>
                    <a:pt x="770" y="617"/>
                  </a:lnTo>
                  <a:lnTo>
                    <a:pt x="775" y="622"/>
                  </a:lnTo>
                  <a:lnTo>
                    <a:pt x="781" y="622"/>
                  </a:lnTo>
                  <a:lnTo>
                    <a:pt x="786" y="627"/>
                  </a:lnTo>
                  <a:lnTo>
                    <a:pt x="791" y="627"/>
                  </a:lnTo>
                  <a:lnTo>
                    <a:pt x="796" y="633"/>
                  </a:lnTo>
                  <a:lnTo>
                    <a:pt x="796" y="638"/>
                  </a:lnTo>
                  <a:lnTo>
                    <a:pt x="801" y="638"/>
                  </a:lnTo>
                  <a:lnTo>
                    <a:pt x="806" y="643"/>
                  </a:lnTo>
                  <a:lnTo>
                    <a:pt x="811" y="643"/>
                  </a:lnTo>
                  <a:lnTo>
                    <a:pt x="816" y="648"/>
                  </a:lnTo>
                  <a:lnTo>
                    <a:pt x="821" y="653"/>
                  </a:lnTo>
                  <a:lnTo>
                    <a:pt x="826" y="653"/>
                  </a:lnTo>
                  <a:lnTo>
                    <a:pt x="826" y="658"/>
                  </a:lnTo>
                  <a:lnTo>
                    <a:pt x="832" y="658"/>
                  </a:lnTo>
                  <a:lnTo>
                    <a:pt x="837" y="663"/>
                  </a:lnTo>
                  <a:lnTo>
                    <a:pt x="842" y="663"/>
                  </a:lnTo>
                  <a:lnTo>
                    <a:pt x="847" y="668"/>
                  </a:lnTo>
                  <a:lnTo>
                    <a:pt x="852" y="668"/>
                  </a:lnTo>
                  <a:lnTo>
                    <a:pt x="852" y="673"/>
                  </a:lnTo>
                  <a:lnTo>
                    <a:pt x="857" y="673"/>
                  </a:lnTo>
                  <a:lnTo>
                    <a:pt x="862" y="678"/>
                  </a:lnTo>
                  <a:lnTo>
                    <a:pt x="867" y="678"/>
                  </a:lnTo>
                  <a:lnTo>
                    <a:pt x="872" y="684"/>
                  </a:lnTo>
                  <a:lnTo>
                    <a:pt x="877" y="684"/>
                  </a:lnTo>
                  <a:lnTo>
                    <a:pt x="883" y="689"/>
                  </a:lnTo>
                  <a:lnTo>
                    <a:pt x="888" y="694"/>
                  </a:lnTo>
                  <a:lnTo>
                    <a:pt x="893" y="694"/>
                  </a:lnTo>
                  <a:lnTo>
                    <a:pt x="898" y="699"/>
                  </a:lnTo>
                  <a:lnTo>
                    <a:pt x="903" y="699"/>
                  </a:lnTo>
                  <a:lnTo>
                    <a:pt x="908" y="704"/>
                  </a:lnTo>
                  <a:lnTo>
                    <a:pt x="913" y="704"/>
                  </a:lnTo>
                  <a:lnTo>
                    <a:pt x="918" y="709"/>
                  </a:lnTo>
                  <a:lnTo>
                    <a:pt x="923" y="709"/>
                  </a:lnTo>
                  <a:lnTo>
                    <a:pt x="928" y="714"/>
                  </a:lnTo>
                  <a:lnTo>
                    <a:pt x="934" y="714"/>
                  </a:lnTo>
                  <a:lnTo>
                    <a:pt x="939" y="714"/>
                  </a:lnTo>
                  <a:lnTo>
                    <a:pt x="939" y="719"/>
                  </a:lnTo>
                  <a:lnTo>
                    <a:pt x="944" y="719"/>
                  </a:lnTo>
                  <a:lnTo>
                    <a:pt x="949" y="724"/>
                  </a:lnTo>
                  <a:lnTo>
                    <a:pt x="954" y="724"/>
                  </a:lnTo>
                  <a:lnTo>
                    <a:pt x="959" y="724"/>
                  </a:lnTo>
                  <a:lnTo>
                    <a:pt x="964" y="729"/>
                  </a:lnTo>
                  <a:lnTo>
                    <a:pt x="969" y="735"/>
                  </a:lnTo>
                  <a:lnTo>
                    <a:pt x="974" y="735"/>
                  </a:lnTo>
                  <a:lnTo>
                    <a:pt x="979" y="735"/>
                  </a:lnTo>
                  <a:lnTo>
                    <a:pt x="985" y="740"/>
                  </a:lnTo>
                  <a:lnTo>
                    <a:pt x="990" y="740"/>
                  </a:lnTo>
                  <a:lnTo>
                    <a:pt x="995" y="740"/>
                  </a:lnTo>
                  <a:lnTo>
                    <a:pt x="995" y="745"/>
                  </a:lnTo>
                  <a:lnTo>
                    <a:pt x="1000" y="745"/>
                  </a:lnTo>
                  <a:lnTo>
                    <a:pt x="1005" y="745"/>
                  </a:lnTo>
                  <a:lnTo>
                    <a:pt x="1010" y="750"/>
                  </a:lnTo>
                  <a:lnTo>
                    <a:pt x="1015" y="750"/>
                  </a:lnTo>
                  <a:lnTo>
                    <a:pt x="1020" y="750"/>
                  </a:lnTo>
                  <a:lnTo>
                    <a:pt x="1020" y="755"/>
                  </a:lnTo>
                  <a:lnTo>
                    <a:pt x="1025" y="755"/>
                  </a:lnTo>
                  <a:lnTo>
                    <a:pt x="1030" y="755"/>
                  </a:lnTo>
                  <a:lnTo>
                    <a:pt x="1036" y="760"/>
                  </a:lnTo>
                  <a:lnTo>
                    <a:pt x="1041" y="760"/>
                  </a:lnTo>
                  <a:lnTo>
                    <a:pt x="1046" y="760"/>
                  </a:lnTo>
                  <a:lnTo>
                    <a:pt x="1051" y="760"/>
                  </a:lnTo>
                  <a:lnTo>
                    <a:pt x="1051" y="765"/>
                  </a:lnTo>
                  <a:lnTo>
                    <a:pt x="1056" y="765"/>
                  </a:lnTo>
                  <a:lnTo>
                    <a:pt x="1061" y="765"/>
                  </a:lnTo>
                  <a:lnTo>
                    <a:pt x="1066" y="770"/>
                  </a:lnTo>
                  <a:lnTo>
                    <a:pt x="1071" y="770"/>
                  </a:lnTo>
                  <a:lnTo>
                    <a:pt x="1076" y="770"/>
                  </a:lnTo>
                  <a:lnTo>
                    <a:pt x="1081" y="775"/>
                  </a:lnTo>
                  <a:lnTo>
                    <a:pt x="1087" y="775"/>
                  </a:lnTo>
                  <a:lnTo>
                    <a:pt x="1092" y="775"/>
                  </a:lnTo>
                  <a:lnTo>
                    <a:pt x="1097" y="775"/>
                  </a:lnTo>
                  <a:lnTo>
                    <a:pt x="1102" y="780"/>
                  </a:lnTo>
                  <a:lnTo>
                    <a:pt x="1107" y="780"/>
                  </a:lnTo>
                  <a:lnTo>
                    <a:pt x="1112" y="780"/>
                  </a:lnTo>
                  <a:lnTo>
                    <a:pt x="1117" y="786"/>
                  </a:lnTo>
                  <a:lnTo>
                    <a:pt x="1122" y="786"/>
                  </a:lnTo>
                  <a:lnTo>
                    <a:pt x="1127" y="786"/>
                  </a:lnTo>
                  <a:lnTo>
                    <a:pt x="1132" y="786"/>
                  </a:lnTo>
                  <a:lnTo>
                    <a:pt x="1138" y="791"/>
                  </a:lnTo>
                  <a:lnTo>
                    <a:pt x="1143" y="791"/>
                  </a:lnTo>
                  <a:lnTo>
                    <a:pt x="1148" y="791"/>
                  </a:lnTo>
                  <a:lnTo>
                    <a:pt x="1153" y="791"/>
                  </a:lnTo>
                  <a:lnTo>
                    <a:pt x="1158" y="796"/>
                  </a:lnTo>
                  <a:lnTo>
                    <a:pt x="1163" y="796"/>
                  </a:lnTo>
                  <a:lnTo>
                    <a:pt x="1168" y="796"/>
                  </a:lnTo>
                  <a:lnTo>
                    <a:pt x="1173" y="796"/>
                  </a:lnTo>
                  <a:lnTo>
                    <a:pt x="1178" y="801"/>
                  </a:lnTo>
                  <a:lnTo>
                    <a:pt x="1183" y="801"/>
                  </a:lnTo>
                  <a:lnTo>
                    <a:pt x="1189" y="801"/>
                  </a:lnTo>
                  <a:lnTo>
                    <a:pt x="1194" y="801"/>
                  </a:lnTo>
                  <a:lnTo>
                    <a:pt x="1199" y="806"/>
                  </a:lnTo>
                  <a:lnTo>
                    <a:pt x="1204" y="806"/>
                  </a:lnTo>
                  <a:lnTo>
                    <a:pt x="1209" y="806"/>
                  </a:lnTo>
                  <a:lnTo>
                    <a:pt x="1214" y="806"/>
                  </a:lnTo>
                  <a:lnTo>
                    <a:pt x="1219" y="806"/>
                  </a:lnTo>
                  <a:lnTo>
                    <a:pt x="1224" y="811"/>
                  </a:lnTo>
                  <a:lnTo>
                    <a:pt x="1229" y="811"/>
                  </a:lnTo>
                  <a:lnTo>
                    <a:pt x="1234" y="811"/>
                  </a:lnTo>
                  <a:lnTo>
                    <a:pt x="1240" y="811"/>
                  </a:lnTo>
                  <a:lnTo>
                    <a:pt x="1245" y="811"/>
                  </a:lnTo>
                  <a:lnTo>
                    <a:pt x="1250" y="816"/>
                  </a:lnTo>
                  <a:lnTo>
                    <a:pt x="1255" y="816"/>
                  </a:lnTo>
                  <a:lnTo>
                    <a:pt x="1260" y="816"/>
                  </a:lnTo>
                  <a:lnTo>
                    <a:pt x="1265" y="816"/>
                  </a:lnTo>
                  <a:lnTo>
                    <a:pt x="1270" y="816"/>
                  </a:lnTo>
                  <a:lnTo>
                    <a:pt x="1275" y="816"/>
                  </a:lnTo>
                  <a:lnTo>
                    <a:pt x="1280" y="821"/>
                  </a:lnTo>
                  <a:lnTo>
                    <a:pt x="1285" y="821"/>
                  </a:lnTo>
                  <a:lnTo>
                    <a:pt x="1291" y="821"/>
                  </a:lnTo>
                  <a:lnTo>
                    <a:pt x="1296" y="821"/>
                  </a:lnTo>
                  <a:lnTo>
                    <a:pt x="1301" y="821"/>
                  </a:lnTo>
                  <a:lnTo>
                    <a:pt x="1306" y="821"/>
                  </a:lnTo>
                  <a:lnTo>
                    <a:pt x="1311" y="826"/>
                  </a:lnTo>
                  <a:lnTo>
                    <a:pt x="1316" y="826"/>
                  </a:lnTo>
                  <a:lnTo>
                    <a:pt x="1321" y="826"/>
                  </a:lnTo>
                  <a:lnTo>
                    <a:pt x="1326" y="826"/>
                  </a:lnTo>
                  <a:lnTo>
                    <a:pt x="1331" y="826"/>
                  </a:lnTo>
                  <a:lnTo>
                    <a:pt x="1336" y="826"/>
                  </a:lnTo>
                  <a:lnTo>
                    <a:pt x="1342" y="826"/>
                  </a:lnTo>
                  <a:lnTo>
                    <a:pt x="1347" y="831"/>
                  </a:lnTo>
                  <a:lnTo>
                    <a:pt x="1352" y="831"/>
                  </a:lnTo>
                  <a:lnTo>
                    <a:pt x="1357" y="831"/>
                  </a:lnTo>
                  <a:lnTo>
                    <a:pt x="1362" y="831"/>
                  </a:lnTo>
                  <a:lnTo>
                    <a:pt x="1367" y="831"/>
                  </a:lnTo>
                  <a:lnTo>
                    <a:pt x="1372" y="831"/>
                  </a:lnTo>
                  <a:lnTo>
                    <a:pt x="1377" y="831"/>
                  </a:lnTo>
                  <a:lnTo>
                    <a:pt x="1382" y="831"/>
                  </a:lnTo>
                  <a:lnTo>
                    <a:pt x="1382" y="837"/>
                  </a:lnTo>
                  <a:lnTo>
                    <a:pt x="1387" y="837"/>
                  </a:lnTo>
                  <a:lnTo>
                    <a:pt x="1393" y="837"/>
                  </a:lnTo>
                  <a:lnTo>
                    <a:pt x="1398" y="837"/>
                  </a:lnTo>
                  <a:lnTo>
                    <a:pt x="1403" y="837"/>
                  </a:lnTo>
                  <a:lnTo>
                    <a:pt x="1408" y="837"/>
                  </a:lnTo>
                  <a:lnTo>
                    <a:pt x="1413" y="837"/>
                  </a:lnTo>
                  <a:lnTo>
                    <a:pt x="1418" y="837"/>
                  </a:lnTo>
                  <a:lnTo>
                    <a:pt x="1423" y="837"/>
                  </a:lnTo>
                  <a:lnTo>
                    <a:pt x="1428" y="842"/>
                  </a:lnTo>
                  <a:lnTo>
                    <a:pt x="1433" y="842"/>
                  </a:lnTo>
                  <a:lnTo>
                    <a:pt x="1438" y="842"/>
                  </a:lnTo>
                  <a:lnTo>
                    <a:pt x="1444" y="842"/>
                  </a:lnTo>
                  <a:lnTo>
                    <a:pt x="1449" y="842"/>
                  </a:lnTo>
                  <a:lnTo>
                    <a:pt x="1454" y="842"/>
                  </a:lnTo>
                  <a:lnTo>
                    <a:pt x="1459" y="842"/>
                  </a:lnTo>
                  <a:lnTo>
                    <a:pt x="1464" y="842"/>
                  </a:lnTo>
                  <a:lnTo>
                    <a:pt x="1469" y="842"/>
                  </a:lnTo>
                  <a:lnTo>
                    <a:pt x="1474" y="842"/>
                  </a:lnTo>
                  <a:lnTo>
                    <a:pt x="1479" y="847"/>
                  </a:lnTo>
                  <a:lnTo>
                    <a:pt x="1484" y="847"/>
                  </a:lnTo>
                  <a:lnTo>
                    <a:pt x="1489" y="847"/>
                  </a:lnTo>
                  <a:lnTo>
                    <a:pt x="1495" y="847"/>
                  </a:lnTo>
                  <a:lnTo>
                    <a:pt x="1500" y="847"/>
                  </a:lnTo>
                  <a:lnTo>
                    <a:pt x="1505" y="847"/>
                  </a:lnTo>
                  <a:lnTo>
                    <a:pt x="1510" y="847"/>
                  </a:lnTo>
                  <a:lnTo>
                    <a:pt x="1515" y="847"/>
                  </a:lnTo>
                  <a:lnTo>
                    <a:pt x="1520" y="847"/>
                  </a:lnTo>
                  <a:lnTo>
                    <a:pt x="1525" y="847"/>
                  </a:lnTo>
                  <a:lnTo>
                    <a:pt x="1530" y="847"/>
                  </a:lnTo>
                  <a:lnTo>
                    <a:pt x="1535" y="847"/>
                  </a:lnTo>
                  <a:lnTo>
                    <a:pt x="1540" y="852"/>
                  </a:lnTo>
                  <a:lnTo>
                    <a:pt x="1546" y="852"/>
                  </a:lnTo>
                  <a:lnTo>
                    <a:pt x="1551" y="852"/>
                  </a:lnTo>
                  <a:lnTo>
                    <a:pt x="1556" y="852"/>
                  </a:lnTo>
                  <a:lnTo>
                    <a:pt x="1561" y="852"/>
                  </a:lnTo>
                  <a:lnTo>
                    <a:pt x="1566" y="852"/>
                  </a:lnTo>
                  <a:lnTo>
                    <a:pt x="1571" y="852"/>
                  </a:lnTo>
                  <a:lnTo>
                    <a:pt x="1576" y="852"/>
                  </a:lnTo>
                  <a:lnTo>
                    <a:pt x="1581" y="852"/>
                  </a:lnTo>
                  <a:lnTo>
                    <a:pt x="1586" y="852"/>
                  </a:lnTo>
                  <a:lnTo>
                    <a:pt x="1591" y="852"/>
                  </a:lnTo>
                  <a:lnTo>
                    <a:pt x="1597" y="852"/>
                  </a:lnTo>
                  <a:lnTo>
                    <a:pt x="1602" y="852"/>
                  </a:lnTo>
                  <a:lnTo>
                    <a:pt x="1607" y="852"/>
                  </a:lnTo>
                  <a:lnTo>
                    <a:pt x="1612" y="857"/>
                  </a:lnTo>
                  <a:lnTo>
                    <a:pt x="1617" y="857"/>
                  </a:lnTo>
                  <a:lnTo>
                    <a:pt x="1622" y="857"/>
                  </a:lnTo>
                  <a:lnTo>
                    <a:pt x="1627" y="857"/>
                  </a:lnTo>
                  <a:lnTo>
                    <a:pt x="1632" y="857"/>
                  </a:lnTo>
                  <a:lnTo>
                    <a:pt x="1637" y="857"/>
                  </a:lnTo>
                  <a:lnTo>
                    <a:pt x="1642" y="857"/>
                  </a:lnTo>
                  <a:lnTo>
                    <a:pt x="1648" y="857"/>
                  </a:lnTo>
                  <a:lnTo>
                    <a:pt x="1653" y="857"/>
                  </a:lnTo>
                  <a:lnTo>
                    <a:pt x="1658" y="857"/>
                  </a:lnTo>
                  <a:lnTo>
                    <a:pt x="1663" y="857"/>
                  </a:lnTo>
                  <a:lnTo>
                    <a:pt x="1668" y="857"/>
                  </a:lnTo>
                  <a:lnTo>
                    <a:pt x="1673" y="857"/>
                  </a:lnTo>
                  <a:lnTo>
                    <a:pt x="1678" y="857"/>
                  </a:lnTo>
                  <a:lnTo>
                    <a:pt x="1683" y="857"/>
                  </a:lnTo>
                  <a:lnTo>
                    <a:pt x="1688" y="857"/>
                  </a:lnTo>
                  <a:lnTo>
                    <a:pt x="1693" y="857"/>
                  </a:lnTo>
                  <a:lnTo>
                    <a:pt x="1699" y="857"/>
                  </a:lnTo>
                  <a:lnTo>
                    <a:pt x="1704" y="857"/>
                  </a:lnTo>
                  <a:lnTo>
                    <a:pt x="1709" y="857"/>
                  </a:lnTo>
                  <a:lnTo>
                    <a:pt x="1714" y="862"/>
                  </a:lnTo>
                  <a:lnTo>
                    <a:pt x="1719" y="862"/>
                  </a:lnTo>
                  <a:lnTo>
                    <a:pt x="1724" y="862"/>
                  </a:lnTo>
                  <a:lnTo>
                    <a:pt x="1729" y="862"/>
                  </a:lnTo>
                  <a:lnTo>
                    <a:pt x="1734" y="862"/>
                  </a:lnTo>
                  <a:lnTo>
                    <a:pt x="1739" y="862"/>
                  </a:lnTo>
                  <a:lnTo>
                    <a:pt x="1744" y="862"/>
                  </a:lnTo>
                  <a:lnTo>
                    <a:pt x="1750" y="862"/>
                  </a:lnTo>
                  <a:lnTo>
                    <a:pt x="1755" y="862"/>
                  </a:lnTo>
                  <a:lnTo>
                    <a:pt x="1760" y="862"/>
                  </a:lnTo>
                  <a:lnTo>
                    <a:pt x="1765" y="862"/>
                  </a:lnTo>
                  <a:lnTo>
                    <a:pt x="1770" y="862"/>
                  </a:lnTo>
                  <a:lnTo>
                    <a:pt x="1775" y="862"/>
                  </a:lnTo>
                  <a:lnTo>
                    <a:pt x="1780" y="862"/>
                  </a:lnTo>
                  <a:lnTo>
                    <a:pt x="1785" y="862"/>
                  </a:lnTo>
                  <a:lnTo>
                    <a:pt x="1790" y="862"/>
                  </a:lnTo>
                  <a:lnTo>
                    <a:pt x="1795" y="862"/>
                  </a:lnTo>
                  <a:lnTo>
                    <a:pt x="1801" y="862"/>
                  </a:lnTo>
                  <a:lnTo>
                    <a:pt x="1806" y="862"/>
                  </a:lnTo>
                  <a:lnTo>
                    <a:pt x="1811" y="862"/>
                  </a:lnTo>
                  <a:lnTo>
                    <a:pt x="1816" y="862"/>
                  </a:lnTo>
                  <a:lnTo>
                    <a:pt x="1821" y="862"/>
                  </a:lnTo>
                  <a:lnTo>
                    <a:pt x="1826" y="862"/>
                  </a:lnTo>
                  <a:lnTo>
                    <a:pt x="1831" y="862"/>
                  </a:lnTo>
                  <a:lnTo>
                    <a:pt x="1836" y="862"/>
                  </a:lnTo>
                  <a:lnTo>
                    <a:pt x="1841" y="862"/>
                  </a:lnTo>
                  <a:lnTo>
                    <a:pt x="1846" y="862"/>
                  </a:lnTo>
                  <a:lnTo>
                    <a:pt x="1852" y="862"/>
                  </a:lnTo>
                  <a:lnTo>
                    <a:pt x="1857" y="862"/>
                  </a:lnTo>
                  <a:lnTo>
                    <a:pt x="1862" y="867"/>
                  </a:lnTo>
                  <a:lnTo>
                    <a:pt x="1867" y="867"/>
                  </a:lnTo>
                  <a:lnTo>
                    <a:pt x="1872" y="867"/>
                  </a:lnTo>
                  <a:lnTo>
                    <a:pt x="1877" y="867"/>
                  </a:lnTo>
                  <a:lnTo>
                    <a:pt x="1882" y="867"/>
                  </a:lnTo>
                  <a:lnTo>
                    <a:pt x="1887" y="867"/>
                  </a:lnTo>
                  <a:lnTo>
                    <a:pt x="1892" y="867"/>
                  </a:lnTo>
                  <a:lnTo>
                    <a:pt x="1897" y="867"/>
                  </a:lnTo>
                  <a:lnTo>
                    <a:pt x="1903" y="867"/>
                  </a:lnTo>
                  <a:lnTo>
                    <a:pt x="1908" y="867"/>
                  </a:lnTo>
                  <a:lnTo>
                    <a:pt x="1913" y="867"/>
                  </a:lnTo>
                  <a:lnTo>
                    <a:pt x="1918" y="867"/>
                  </a:lnTo>
                  <a:lnTo>
                    <a:pt x="1923" y="867"/>
                  </a:lnTo>
                  <a:lnTo>
                    <a:pt x="1928" y="867"/>
                  </a:lnTo>
                  <a:lnTo>
                    <a:pt x="1933" y="867"/>
                  </a:lnTo>
                  <a:lnTo>
                    <a:pt x="1938" y="867"/>
                  </a:lnTo>
                  <a:lnTo>
                    <a:pt x="1943" y="867"/>
                  </a:lnTo>
                  <a:lnTo>
                    <a:pt x="1948" y="867"/>
                  </a:lnTo>
                  <a:lnTo>
                    <a:pt x="1954" y="867"/>
                  </a:lnTo>
                  <a:lnTo>
                    <a:pt x="1959" y="867"/>
                  </a:lnTo>
                  <a:lnTo>
                    <a:pt x="1964" y="867"/>
                  </a:lnTo>
                  <a:lnTo>
                    <a:pt x="1969" y="867"/>
                  </a:lnTo>
                  <a:lnTo>
                    <a:pt x="1974" y="867"/>
                  </a:lnTo>
                  <a:lnTo>
                    <a:pt x="1979" y="867"/>
                  </a:lnTo>
                  <a:lnTo>
                    <a:pt x="1984" y="867"/>
                  </a:lnTo>
                  <a:lnTo>
                    <a:pt x="1989" y="867"/>
                  </a:lnTo>
                  <a:lnTo>
                    <a:pt x="1994" y="867"/>
                  </a:lnTo>
                  <a:lnTo>
                    <a:pt x="1999" y="867"/>
                  </a:lnTo>
                  <a:lnTo>
                    <a:pt x="2005" y="867"/>
                  </a:lnTo>
                  <a:lnTo>
                    <a:pt x="2010" y="867"/>
                  </a:lnTo>
                  <a:lnTo>
                    <a:pt x="2015" y="867"/>
                  </a:lnTo>
                  <a:lnTo>
                    <a:pt x="2020" y="867"/>
                  </a:lnTo>
                  <a:lnTo>
                    <a:pt x="2025" y="867"/>
                  </a:lnTo>
                  <a:lnTo>
                    <a:pt x="2030" y="867"/>
                  </a:lnTo>
                  <a:lnTo>
                    <a:pt x="2035" y="867"/>
                  </a:lnTo>
                  <a:lnTo>
                    <a:pt x="2040" y="867"/>
                  </a:lnTo>
                  <a:lnTo>
                    <a:pt x="2045" y="867"/>
                  </a:lnTo>
                  <a:lnTo>
                    <a:pt x="2050" y="867"/>
                  </a:lnTo>
                  <a:lnTo>
                    <a:pt x="2056" y="867"/>
                  </a:lnTo>
                  <a:lnTo>
                    <a:pt x="2061" y="867"/>
                  </a:lnTo>
                  <a:lnTo>
                    <a:pt x="2066" y="867"/>
                  </a:lnTo>
                  <a:lnTo>
                    <a:pt x="2071" y="867"/>
                  </a:lnTo>
                  <a:lnTo>
                    <a:pt x="2076" y="867"/>
                  </a:lnTo>
                  <a:lnTo>
                    <a:pt x="2081" y="867"/>
                  </a:lnTo>
                  <a:lnTo>
                    <a:pt x="2086" y="867"/>
                  </a:lnTo>
                  <a:lnTo>
                    <a:pt x="2091" y="867"/>
                  </a:lnTo>
                  <a:lnTo>
                    <a:pt x="2096" y="867"/>
                  </a:lnTo>
                  <a:lnTo>
                    <a:pt x="2101" y="867"/>
                  </a:lnTo>
                  <a:lnTo>
                    <a:pt x="2107" y="867"/>
                  </a:lnTo>
                  <a:lnTo>
                    <a:pt x="2112" y="867"/>
                  </a:lnTo>
                  <a:lnTo>
                    <a:pt x="2117" y="867"/>
                  </a:lnTo>
                  <a:lnTo>
                    <a:pt x="2122" y="867"/>
                  </a:lnTo>
                  <a:lnTo>
                    <a:pt x="2127" y="867"/>
                  </a:lnTo>
                  <a:lnTo>
                    <a:pt x="2132" y="867"/>
                  </a:lnTo>
                  <a:lnTo>
                    <a:pt x="2137" y="867"/>
                  </a:lnTo>
                  <a:lnTo>
                    <a:pt x="2142" y="867"/>
                  </a:lnTo>
                  <a:lnTo>
                    <a:pt x="2147" y="867"/>
                  </a:lnTo>
                  <a:lnTo>
                    <a:pt x="2152" y="867"/>
                  </a:lnTo>
                  <a:lnTo>
                    <a:pt x="2158" y="867"/>
                  </a:lnTo>
                  <a:lnTo>
                    <a:pt x="2163" y="867"/>
                  </a:lnTo>
                  <a:lnTo>
                    <a:pt x="2168" y="867"/>
                  </a:lnTo>
                  <a:lnTo>
                    <a:pt x="2173" y="867"/>
                  </a:lnTo>
                  <a:lnTo>
                    <a:pt x="2178" y="867"/>
                  </a:lnTo>
                  <a:lnTo>
                    <a:pt x="2183" y="867"/>
                  </a:lnTo>
                  <a:lnTo>
                    <a:pt x="2188" y="867"/>
                  </a:lnTo>
                  <a:lnTo>
                    <a:pt x="2193" y="867"/>
                  </a:lnTo>
                  <a:lnTo>
                    <a:pt x="2198" y="867"/>
                  </a:lnTo>
                  <a:lnTo>
                    <a:pt x="2203" y="867"/>
                  </a:lnTo>
                </a:path>
              </a:pathLst>
            </a:custGeom>
            <a:noFill/>
            <a:ln cap="rnd" w="25560">
              <a:solidFill>
                <a:srgbClr val="99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815360" y="2260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36800" y="502452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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92240" y="3645000"/>
              <a:ext cx="495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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692920" y="2036880"/>
              <a:ext cx="3769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210880" y="210672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5254920" y="4251240"/>
              <a:ext cx="1551240" cy="939240"/>
              <a:chOff x="5254920" y="4251240"/>
              <a:chExt cx="1551240" cy="939240"/>
            </a:xfrm>
          </p:grpSpPr>
          <p:sp>
            <p:nvSpPr>
              <p:cNvPr id="1073" name=""/>
              <p:cNvSpPr/>
              <p:nvPr/>
            </p:nvSpPr>
            <p:spPr>
              <a:xfrm flipV="1">
                <a:off x="5254920" y="4928760"/>
                <a:ext cx="249120" cy="1800"/>
              </a:xfrm>
              <a:prstGeom prst="line">
                <a:avLst/>
              </a:prstGeom>
              <a:ln w="12600">
                <a:solidFill>
                  <a:srgbClr val="99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67680" y="4691160"/>
                <a:ext cx="133848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99ffff"/>
                    </a:solidFill>
                    <a:latin typeface="Symbol"/>
                    <a:ea typeface="Symbol"/>
                  </a:rPr>
                  <a:t></a:t>
                </a:r>
                <a:r>
                  <a:rPr b="0" lang="hr-HR" sz="2200" spc="-1" strike="noStrike">
                    <a:solidFill>
                      <a:srgbClr val="99ffff"/>
                    </a:solidFill>
                    <a:latin typeface="Times New Roman"/>
                  </a:rPr>
                  <a:t>(G</a:t>
                </a:r>
                <a:r>
                  <a:rPr b="0" lang="hr-HR" sz="2200" spc="-1" strike="noStrike" baseline="-25000">
                    <a:solidFill>
                      <a:srgbClr val="99ffff"/>
                    </a:solidFill>
                    <a:latin typeface="Times New Roman"/>
                  </a:rPr>
                  <a:t>K</a:t>
                </a:r>
                <a:r>
                  <a:rPr b="0" lang="hr-HR" sz="2200" spc="-1" strike="noStrike">
                    <a:solidFill>
                      <a:srgbClr val="99ffff"/>
                    </a:solidFill>
                    <a:latin typeface="Times New Roman"/>
                  </a:rPr>
                  <a:t>(</a:t>
                </a:r>
                <a:r>
                  <a:rPr b="0" i="1" lang="hr-HR" sz="2200" spc="-1" strike="noStrike">
                    <a:solidFill>
                      <a:srgbClr val="99ffff"/>
                    </a:solidFill>
                    <a:latin typeface="Times New Roman"/>
                  </a:rPr>
                  <a:t>e</a:t>
                </a:r>
                <a:r>
                  <a:rPr b="0" lang="hr-HR" sz="2200" spc="-1" strike="noStrike" baseline="30000">
                    <a:solidFill>
                      <a:srgbClr val="99ffff"/>
                    </a:solidFill>
                    <a:latin typeface="Times New Roman"/>
                  </a:rPr>
                  <a:t>j</a:t>
                </a:r>
                <a:r>
                  <a:rPr b="0" lang="hr-HR" sz="2200" spc="-1" strike="noStrike" baseline="30000">
                    <a:solidFill>
                      <a:srgbClr val="99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2200" spc="-1" strike="noStrike">
                    <a:solidFill>
                      <a:srgbClr val="99ffff"/>
                    </a:solidFill>
                    <a:latin typeface="Times New Roman"/>
                  </a:rPr>
                  <a:t>))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63360" y="4251240"/>
                <a:ext cx="1221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</a:t>
                </a:r>
                <a:r>
                  <a:rPr b="0" lang="hr-HR" sz="2200" spc="-1" strike="noStrike">
                    <a:solidFill>
                      <a:srgbClr val="ff3300"/>
                    </a:solidFill>
                    <a:latin typeface="Times New Roman"/>
                  </a:rPr>
                  <a:t>(G(</a:t>
                </a:r>
                <a:r>
                  <a:rPr b="0" i="1" lang="hr-HR" sz="2200" spc="-1" strike="noStrike">
                    <a:solidFill>
                      <a:srgbClr val="ff3300"/>
                    </a:solidFill>
                    <a:latin typeface="Times New Roman"/>
                  </a:rPr>
                  <a:t>e</a:t>
                </a:r>
                <a:r>
                  <a:rPr b="0" lang="hr-HR" sz="2200" spc="-1" strike="noStrike" baseline="30000">
                    <a:solidFill>
                      <a:srgbClr val="ff3300"/>
                    </a:solidFill>
                    <a:latin typeface="Times New Roman"/>
                  </a:rPr>
                  <a:t>j</a:t>
                </a:r>
                <a:r>
                  <a:rPr b="0" lang="hr-HR" sz="2200" spc="-1" strike="noStrike" baseline="30000">
                    <a:solidFill>
                      <a:srgbClr val="ff3300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2200" spc="-1" strike="noStrike">
                    <a:solidFill>
                      <a:srgbClr val="ff3300"/>
                    </a:solidFill>
                    <a:latin typeface="Times New Roman"/>
                  </a:rPr>
                  <a:t>))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5265000" y="4474800"/>
                <a:ext cx="249120" cy="32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5ACC-A25E-4734-98D8-99AF8C5CEE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1078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1079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70048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6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1087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979640" y="1676520"/>
            <a:ext cx="685944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6000" spc="-1" strike="noStrike">
                <a:solidFill>
                  <a:srgbClr val="00fffe"/>
                </a:solidFill>
                <a:latin typeface="Times New Roman"/>
              </a:rPr>
              <a:t>Projektiranje rekurzivnog digitalnog filtra bilinearnom transformacijom</a:t>
            </a:r>
            <a:endParaRPr b="0" i="1" lang="en-US" sz="60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1979280" y="530064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gitalna obradba signal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702E-35A3-4A25-AF05-1F6BE554F42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Sadržaj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09480" y="1827000"/>
            <a:ext cx="8382240" cy="35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Bilinearna transform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vojstva bilinearne transformacij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imjer projektiranja digitalnog IIR fil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93F7-5ADE-419C-9B86-6F0CD182D5C1}" type="slidenum">
              <a:t>38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Bilinearna transformacij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09480" y="167652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ransformira vremenski kontinuirani sustav zadan prijenosnom funkcijom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u vremenski diskretni sustav,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ako riješiti problem aliasinga koji postoji kod transformacije jednakih impulsnih odziva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 transformacija mora preslikati svaku točku iz  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ravnine u jedinstvenu točku 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ravnini i obrat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ilinearnom transformacijom se cijel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s u           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ravnini (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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revodi u jedan obilazak jedinične kružnice 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ravnin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-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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805E-B7CB-4D7F-89C1-65CD87FF1B97}" type="slidenum">
              <a:t>39</a:t>
            </a:fld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3760" y="476280"/>
            <a:ext cx="76773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Book Antiqua"/>
              </a:rPr>
              <a:t>Metoda jednakog impulsnog odziv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1080" y="1844640"/>
            <a:ext cx="896292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stupak uzimanja uzoraka ili otipkavanja kontinuiranog signala možemo matematički modelirati kao pridruživanje funkciji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niza impulsa, čiji intenzitet je proporcionalan trenutnim vrijednostima kontinuiranog sign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as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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44560" y="5305320"/>
          <a:ext cx="790416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5305320"/>
                    <a:ext cx="790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79280" y="4511520"/>
            <a:ext cx="896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nos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3C34-EEEB-442B-A909-E0B4D22769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Bilinearna transformacij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 definirana algebarskom trasformacijom između varijabl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3228840" y="2363760"/>
                <a:ext cx="22021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09480" y="3475080"/>
            <a:ext cx="8382240" cy="17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Ako je vremenski kontinuiran sustav zadan prijenosnom funkcijom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32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(s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tada se supstitucijom varijable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sa gore navedenim izrazom dobiva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vremenski diskretnog sustav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2600280" y="5288040"/>
                <a:ext cx="36021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50A4-ED60-4C26-93DC-CE5527D27EB4}" type="slidenum">
              <a:t>40</a:t>
            </a:fld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Bilinearna transformacij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09480" y="167652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raz za bilinearnu transformaciju dobiven je iz trapezne formule za numeričku integracij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 pretpostavimo vrem. kont. sustav prvog re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966960" y="3152880"/>
                <a:ext cx="7146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,  odnosno      {</m:t>
                        </m:r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5" name=""/>
          <p:cNvSpPr/>
          <p:nvPr/>
        </p:nvSpPr>
        <p:spPr>
          <a:xfrm>
            <a:off x="611280" y="40384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rištenjem trapezne formule integral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(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2549520" y="4432320"/>
                <a:ext cx="35416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12720" y="54864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e može u točkam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=nT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(n-1)T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aproksimirati s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1049400" y="5950080"/>
                <a:ext cx="68374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7081-0A4A-430F-94AE-F924C6FF5E9D}" type="slidenum">
              <a:t>41</a:t>
            </a:fld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Bilinearna transformacij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evaluacijom diferencijalne jednadžbe z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=nT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slijed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489040" y="2216160"/>
                <a:ext cx="41007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>
            <a:off x="611280" y="2590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što uvrštenjem u izraz za trapeznu aproksimaciju integrala daje jednadžbu diferencij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395280" y="3687840"/>
          <a:ext cx="858060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687840"/>
                    <a:ext cx="858060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612720" y="48769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formacijom gornje jednadžbe dobiva 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6" name=""/>
          <p:cNvGraphicFramePr/>
          <p:nvPr/>
        </p:nvGraphicFramePr>
        <p:xfrm>
          <a:off x="903240" y="5526000"/>
          <a:ext cx="757872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240" y="5526000"/>
                    <a:ext cx="75787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D376-ADFE-48AA-BB93-AE5BEEB3D2A1}" type="slidenum">
              <a:t>42</a:t>
            </a:fld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2" dur="500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Bilinearna transformacij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lijedi prijenosna funkcija vrem. diskr. sustav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454040" y="2179800"/>
                <a:ext cx="60008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b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611280" y="31240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 odnos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905200" y="3305160"/>
                <a:ext cx="334152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>
            <a:off x="611280" y="4724280"/>
            <a:ext cx="411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poredbom s početno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5775480" y="4597560"/>
                <a:ext cx="19382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5" name=""/>
          <p:cNvSpPr/>
          <p:nvPr/>
        </p:nvSpPr>
        <p:spPr>
          <a:xfrm>
            <a:off x="611280" y="5486400"/>
            <a:ext cx="411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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jedi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3533760" y="5564160"/>
                <a:ext cx="22017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27" name=""/>
          <p:cNvGrpSpPr/>
          <p:nvPr/>
        </p:nvGrpSpPr>
        <p:grpSpPr>
          <a:xfrm>
            <a:off x="3832200" y="3632040"/>
            <a:ext cx="3395520" cy="1886040"/>
            <a:chOff x="3832200" y="3632040"/>
            <a:chExt cx="3395520" cy="1886040"/>
          </a:xfrm>
        </p:grpSpPr>
        <p:sp>
          <p:nvSpPr>
            <p:cNvPr id="1128" name=""/>
            <p:cNvSpPr/>
            <p:nvPr/>
          </p:nvSpPr>
          <p:spPr>
            <a:xfrm>
              <a:off x="3832200" y="3632040"/>
              <a:ext cx="1809720" cy="1168560"/>
            </a:xfrm>
            <a:custGeom>
              <a:avLst/>
              <a:gdLst/>
              <a:ahLst/>
              <a:rect l="l" t="t" r="r" b="b"/>
              <a:pathLst>
                <a:path w="1140" h="736">
                  <a:moveTo>
                    <a:pt x="274" y="64"/>
                  </a:moveTo>
                  <a:lnTo>
                    <a:pt x="243" y="74"/>
                  </a:lnTo>
                  <a:lnTo>
                    <a:pt x="229" y="74"/>
                  </a:lnTo>
                  <a:lnTo>
                    <a:pt x="175" y="81"/>
                  </a:lnTo>
                  <a:lnTo>
                    <a:pt x="148" y="88"/>
                  </a:lnTo>
                  <a:lnTo>
                    <a:pt x="128" y="95"/>
                  </a:lnTo>
                  <a:lnTo>
                    <a:pt x="108" y="101"/>
                  </a:lnTo>
                  <a:lnTo>
                    <a:pt x="94" y="115"/>
                  </a:lnTo>
                  <a:lnTo>
                    <a:pt x="81" y="135"/>
                  </a:lnTo>
                  <a:lnTo>
                    <a:pt x="67" y="142"/>
                  </a:lnTo>
                  <a:lnTo>
                    <a:pt x="54" y="162"/>
                  </a:lnTo>
                  <a:lnTo>
                    <a:pt x="40" y="175"/>
                  </a:lnTo>
                  <a:lnTo>
                    <a:pt x="34" y="189"/>
                  </a:lnTo>
                  <a:lnTo>
                    <a:pt x="20" y="209"/>
                  </a:lnTo>
                  <a:lnTo>
                    <a:pt x="13" y="229"/>
                  </a:lnTo>
                  <a:lnTo>
                    <a:pt x="7" y="250"/>
                  </a:lnTo>
                  <a:lnTo>
                    <a:pt x="0" y="270"/>
                  </a:lnTo>
                  <a:lnTo>
                    <a:pt x="0" y="290"/>
                  </a:lnTo>
                  <a:lnTo>
                    <a:pt x="0" y="331"/>
                  </a:lnTo>
                  <a:lnTo>
                    <a:pt x="0" y="351"/>
                  </a:lnTo>
                  <a:lnTo>
                    <a:pt x="0" y="378"/>
                  </a:lnTo>
                  <a:lnTo>
                    <a:pt x="0" y="398"/>
                  </a:lnTo>
                  <a:lnTo>
                    <a:pt x="0" y="418"/>
                  </a:lnTo>
                  <a:lnTo>
                    <a:pt x="0" y="432"/>
                  </a:lnTo>
                  <a:lnTo>
                    <a:pt x="7" y="452"/>
                  </a:lnTo>
                  <a:lnTo>
                    <a:pt x="27" y="472"/>
                  </a:lnTo>
                  <a:lnTo>
                    <a:pt x="40" y="486"/>
                  </a:lnTo>
                  <a:lnTo>
                    <a:pt x="54" y="492"/>
                  </a:lnTo>
                  <a:lnTo>
                    <a:pt x="61" y="506"/>
                  </a:lnTo>
                  <a:lnTo>
                    <a:pt x="81" y="526"/>
                  </a:lnTo>
                  <a:lnTo>
                    <a:pt x="94" y="540"/>
                  </a:lnTo>
                  <a:lnTo>
                    <a:pt x="108" y="553"/>
                  </a:lnTo>
                  <a:lnTo>
                    <a:pt x="115" y="567"/>
                  </a:lnTo>
                  <a:lnTo>
                    <a:pt x="128" y="587"/>
                  </a:lnTo>
                  <a:lnTo>
                    <a:pt x="169" y="600"/>
                  </a:lnTo>
                  <a:lnTo>
                    <a:pt x="175" y="614"/>
                  </a:lnTo>
                  <a:lnTo>
                    <a:pt x="189" y="627"/>
                  </a:lnTo>
                  <a:lnTo>
                    <a:pt x="229" y="641"/>
                  </a:lnTo>
                  <a:lnTo>
                    <a:pt x="243" y="654"/>
                  </a:lnTo>
                  <a:lnTo>
                    <a:pt x="270" y="674"/>
                  </a:lnTo>
                  <a:lnTo>
                    <a:pt x="310" y="681"/>
                  </a:lnTo>
                  <a:lnTo>
                    <a:pt x="324" y="695"/>
                  </a:lnTo>
                  <a:lnTo>
                    <a:pt x="344" y="701"/>
                  </a:lnTo>
                  <a:lnTo>
                    <a:pt x="371" y="715"/>
                  </a:lnTo>
                  <a:lnTo>
                    <a:pt x="391" y="715"/>
                  </a:lnTo>
                  <a:lnTo>
                    <a:pt x="405" y="722"/>
                  </a:lnTo>
                  <a:lnTo>
                    <a:pt x="445" y="728"/>
                  </a:lnTo>
                  <a:lnTo>
                    <a:pt x="485" y="728"/>
                  </a:lnTo>
                  <a:lnTo>
                    <a:pt x="526" y="735"/>
                  </a:lnTo>
                  <a:lnTo>
                    <a:pt x="573" y="735"/>
                  </a:lnTo>
                  <a:lnTo>
                    <a:pt x="587" y="735"/>
                  </a:lnTo>
                  <a:lnTo>
                    <a:pt x="614" y="735"/>
                  </a:lnTo>
                  <a:lnTo>
                    <a:pt x="654" y="735"/>
                  </a:lnTo>
                  <a:lnTo>
                    <a:pt x="708" y="735"/>
                  </a:lnTo>
                  <a:lnTo>
                    <a:pt x="748" y="735"/>
                  </a:lnTo>
                  <a:lnTo>
                    <a:pt x="789" y="735"/>
                  </a:lnTo>
                  <a:lnTo>
                    <a:pt x="816" y="735"/>
                  </a:lnTo>
                  <a:lnTo>
                    <a:pt x="856" y="735"/>
                  </a:lnTo>
                  <a:lnTo>
                    <a:pt x="870" y="735"/>
                  </a:lnTo>
                  <a:lnTo>
                    <a:pt x="910" y="735"/>
                  </a:lnTo>
                  <a:lnTo>
                    <a:pt x="951" y="735"/>
                  </a:lnTo>
                  <a:lnTo>
                    <a:pt x="971" y="735"/>
                  </a:lnTo>
                  <a:lnTo>
                    <a:pt x="998" y="735"/>
                  </a:lnTo>
                  <a:lnTo>
                    <a:pt x="1018" y="728"/>
                  </a:lnTo>
                  <a:lnTo>
                    <a:pt x="1032" y="722"/>
                  </a:lnTo>
                  <a:lnTo>
                    <a:pt x="1045" y="708"/>
                  </a:lnTo>
                  <a:lnTo>
                    <a:pt x="1065" y="695"/>
                  </a:lnTo>
                  <a:lnTo>
                    <a:pt x="1072" y="681"/>
                  </a:lnTo>
                  <a:lnTo>
                    <a:pt x="1092" y="668"/>
                  </a:lnTo>
                  <a:lnTo>
                    <a:pt x="1099" y="654"/>
                  </a:lnTo>
                  <a:lnTo>
                    <a:pt x="1112" y="634"/>
                  </a:lnTo>
                  <a:lnTo>
                    <a:pt x="1119" y="620"/>
                  </a:lnTo>
                  <a:lnTo>
                    <a:pt x="1126" y="600"/>
                  </a:lnTo>
                  <a:lnTo>
                    <a:pt x="1133" y="580"/>
                  </a:lnTo>
                  <a:lnTo>
                    <a:pt x="1139" y="560"/>
                  </a:lnTo>
                  <a:lnTo>
                    <a:pt x="1139" y="546"/>
                  </a:lnTo>
                  <a:lnTo>
                    <a:pt x="1139" y="526"/>
                  </a:lnTo>
                  <a:lnTo>
                    <a:pt x="1139" y="506"/>
                  </a:lnTo>
                  <a:lnTo>
                    <a:pt x="1139" y="486"/>
                  </a:lnTo>
                  <a:lnTo>
                    <a:pt x="1139" y="472"/>
                  </a:lnTo>
                  <a:lnTo>
                    <a:pt x="1139" y="452"/>
                  </a:lnTo>
                  <a:lnTo>
                    <a:pt x="1139" y="438"/>
                  </a:lnTo>
                  <a:lnTo>
                    <a:pt x="1139" y="418"/>
                  </a:lnTo>
                  <a:lnTo>
                    <a:pt x="1139" y="398"/>
                  </a:lnTo>
                  <a:lnTo>
                    <a:pt x="1139" y="384"/>
                  </a:lnTo>
                  <a:lnTo>
                    <a:pt x="1139" y="364"/>
                  </a:lnTo>
                  <a:lnTo>
                    <a:pt x="1139" y="344"/>
                  </a:lnTo>
                  <a:lnTo>
                    <a:pt x="1139" y="304"/>
                  </a:lnTo>
                  <a:lnTo>
                    <a:pt x="1139" y="290"/>
                  </a:lnTo>
                  <a:lnTo>
                    <a:pt x="1139" y="263"/>
                  </a:lnTo>
                  <a:lnTo>
                    <a:pt x="1139" y="236"/>
                  </a:lnTo>
                  <a:lnTo>
                    <a:pt x="1133" y="209"/>
                  </a:lnTo>
                  <a:lnTo>
                    <a:pt x="1133" y="189"/>
                  </a:lnTo>
                  <a:lnTo>
                    <a:pt x="1126" y="175"/>
                  </a:lnTo>
                  <a:lnTo>
                    <a:pt x="1112" y="148"/>
                  </a:lnTo>
                  <a:lnTo>
                    <a:pt x="1099" y="121"/>
                  </a:lnTo>
                  <a:lnTo>
                    <a:pt x="1092" y="101"/>
                  </a:lnTo>
                  <a:lnTo>
                    <a:pt x="1079" y="81"/>
                  </a:lnTo>
                  <a:lnTo>
                    <a:pt x="1072" y="61"/>
                  </a:lnTo>
                  <a:lnTo>
                    <a:pt x="1011" y="20"/>
                  </a:lnTo>
                  <a:lnTo>
                    <a:pt x="991" y="14"/>
                  </a:lnTo>
                  <a:lnTo>
                    <a:pt x="937" y="14"/>
                  </a:lnTo>
                  <a:lnTo>
                    <a:pt x="897" y="7"/>
                  </a:lnTo>
                  <a:lnTo>
                    <a:pt x="836" y="7"/>
                  </a:lnTo>
                  <a:lnTo>
                    <a:pt x="809" y="0"/>
                  </a:lnTo>
                  <a:lnTo>
                    <a:pt x="735" y="0"/>
                  </a:lnTo>
                  <a:lnTo>
                    <a:pt x="681" y="0"/>
                  </a:lnTo>
                  <a:lnTo>
                    <a:pt x="634" y="0"/>
                  </a:lnTo>
                  <a:lnTo>
                    <a:pt x="580" y="0"/>
                  </a:lnTo>
                  <a:lnTo>
                    <a:pt x="519" y="0"/>
                  </a:lnTo>
                  <a:lnTo>
                    <a:pt x="465" y="0"/>
                  </a:lnTo>
                  <a:lnTo>
                    <a:pt x="445" y="0"/>
                  </a:lnTo>
                  <a:lnTo>
                    <a:pt x="431" y="0"/>
                  </a:lnTo>
                  <a:lnTo>
                    <a:pt x="411" y="0"/>
                  </a:lnTo>
                  <a:lnTo>
                    <a:pt x="371" y="14"/>
                  </a:lnTo>
                  <a:lnTo>
                    <a:pt x="357" y="20"/>
                  </a:lnTo>
                  <a:lnTo>
                    <a:pt x="344" y="34"/>
                  </a:lnTo>
                  <a:lnTo>
                    <a:pt x="330" y="41"/>
                  </a:lnTo>
                  <a:lnTo>
                    <a:pt x="310" y="47"/>
                  </a:lnTo>
                  <a:lnTo>
                    <a:pt x="274" y="64"/>
                  </a:lnTo>
                  <a:lnTo>
                    <a:pt x="274" y="64"/>
                  </a:lnTo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980400" y="5105520"/>
              <a:ext cx="247320" cy="412560"/>
            </a:xfrm>
            <a:custGeom>
              <a:avLst/>
              <a:gdLst/>
              <a:ahLst/>
              <a:rect l="l" t="t" r="r" b="b"/>
              <a:pathLst>
                <a:path w="156" h="260">
                  <a:moveTo>
                    <a:pt x="115" y="0"/>
                  </a:moveTo>
                  <a:lnTo>
                    <a:pt x="88" y="3"/>
                  </a:lnTo>
                  <a:lnTo>
                    <a:pt x="74" y="3"/>
                  </a:lnTo>
                  <a:lnTo>
                    <a:pt x="54" y="9"/>
                  </a:lnTo>
                  <a:lnTo>
                    <a:pt x="40" y="23"/>
                  </a:lnTo>
                  <a:lnTo>
                    <a:pt x="20" y="43"/>
                  </a:lnTo>
                  <a:lnTo>
                    <a:pt x="13" y="57"/>
                  </a:lnTo>
                  <a:lnTo>
                    <a:pt x="0" y="77"/>
                  </a:lnTo>
                  <a:lnTo>
                    <a:pt x="0" y="97"/>
                  </a:lnTo>
                  <a:lnTo>
                    <a:pt x="0" y="117"/>
                  </a:lnTo>
                  <a:lnTo>
                    <a:pt x="0" y="131"/>
                  </a:lnTo>
                  <a:lnTo>
                    <a:pt x="0" y="158"/>
                  </a:lnTo>
                  <a:lnTo>
                    <a:pt x="0" y="178"/>
                  </a:lnTo>
                  <a:lnTo>
                    <a:pt x="0" y="198"/>
                  </a:lnTo>
                  <a:lnTo>
                    <a:pt x="7" y="212"/>
                  </a:lnTo>
                  <a:lnTo>
                    <a:pt x="27" y="225"/>
                  </a:lnTo>
                  <a:lnTo>
                    <a:pt x="47" y="232"/>
                  </a:lnTo>
                  <a:lnTo>
                    <a:pt x="61" y="245"/>
                  </a:lnTo>
                  <a:lnTo>
                    <a:pt x="74" y="259"/>
                  </a:lnTo>
                  <a:lnTo>
                    <a:pt x="88" y="259"/>
                  </a:lnTo>
                  <a:lnTo>
                    <a:pt x="108" y="259"/>
                  </a:lnTo>
                  <a:lnTo>
                    <a:pt x="128" y="259"/>
                  </a:lnTo>
                  <a:lnTo>
                    <a:pt x="135" y="245"/>
                  </a:lnTo>
                  <a:lnTo>
                    <a:pt x="142" y="225"/>
                  </a:lnTo>
                  <a:lnTo>
                    <a:pt x="142" y="205"/>
                  </a:lnTo>
                  <a:lnTo>
                    <a:pt x="142" y="191"/>
                  </a:lnTo>
                  <a:lnTo>
                    <a:pt x="142" y="171"/>
                  </a:lnTo>
                  <a:lnTo>
                    <a:pt x="142" y="151"/>
                  </a:lnTo>
                  <a:lnTo>
                    <a:pt x="142" y="131"/>
                  </a:lnTo>
                  <a:lnTo>
                    <a:pt x="148" y="117"/>
                  </a:lnTo>
                  <a:lnTo>
                    <a:pt x="155" y="97"/>
                  </a:lnTo>
                  <a:lnTo>
                    <a:pt x="155" y="77"/>
                  </a:lnTo>
                  <a:lnTo>
                    <a:pt x="155" y="63"/>
                  </a:lnTo>
                  <a:lnTo>
                    <a:pt x="148" y="43"/>
                  </a:lnTo>
                  <a:lnTo>
                    <a:pt x="128" y="30"/>
                  </a:lnTo>
                  <a:lnTo>
                    <a:pt x="115" y="0"/>
                  </a:lnTo>
                  <a:lnTo>
                    <a:pt x="115" y="0"/>
                  </a:lnTo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105520" y="4800600"/>
              <a:ext cx="1833480" cy="695160"/>
            </a:xfrm>
            <a:custGeom>
              <a:avLst/>
              <a:gdLst/>
              <a:ahLst/>
              <a:rect l="l" t="t" r="r" b="b"/>
              <a:pathLst>
                <a:path w="1155" h="438">
                  <a:moveTo>
                    <a:pt x="0" y="0"/>
                  </a:moveTo>
                  <a:lnTo>
                    <a:pt x="21" y="33"/>
                  </a:lnTo>
                  <a:lnTo>
                    <a:pt x="21" y="53"/>
                  </a:lnTo>
                  <a:lnTo>
                    <a:pt x="35" y="67"/>
                  </a:lnTo>
                  <a:lnTo>
                    <a:pt x="42" y="87"/>
                  </a:lnTo>
                  <a:lnTo>
                    <a:pt x="62" y="100"/>
                  </a:lnTo>
                  <a:lnTo>
                    <a:pt x="69" y="114"/>
                  </a:lnTo>
                  <a:lnTo>
                    <a:pt x="82" y="134"/>
                  </a:lnTo>
                  <a:lnTo>
                    <a:pt x="102" y="161"/>
                  </a:lnTo>
                  <a:lnTo>
                    <a:pt x="116" y="174"/>
                  </a:lnTo>
                  <a:lnTo>
                    <a:pt x="129" y="188"/>
                  </a:lnTo>
                  <a:lnTo>
                    <a:pt x="143" y="201"/>
                  </a:lnTo>
                  <a:lnTo>
                    <a:pt x="156" y="215"/>
                  </a:lnTo>
                  <a:lnTo>
                    <a:pt x="170" y="228"/>
                  </a:lnTo>
                  <a:lnTo>
                    <a:pt x="183" y="242"/>
                  </a:lnTo>
                  <a:lnTo>
                    <a:pt x="197" y="249"/>
                  </a:lnTo>
                  <a:lnTo>
                    <a:pt x="217" y="262"/>
                  </a:lnTo>
                  <a:lnTo>
                    <a:pt x="237" y="276"/>
                  </a:lnTo>
                  <a:lnTo>
                    <a:pt x="284" y="296"/>
                  </a:lnTo>
                  <a:lnTo>
                    <a:pt x="325" y="303"/>
                  </a:lnTo>
                  <a:lnTo>
                    <a:pt x="379" y="330"/>
                  </a:lnTo>
                  <a:lnTo>
                    <a:pt x="399" y="343"/>
                  </a:lnTo>
                  <a:lnTo>
                    <a:pt x="419" y="350"/>
                  </a:lnTo>
                  <a:lnTo>
                    <a:pt x="433" y="350"/>
                  </a:lnTo>
                  <a:lnTo>
                    <a:pt x="473" y="363"/>
                  </a:lnTo>
                  <a:lnTo>
                    <a:pt x="487" y="363"/>
                  </a:lnTo>
                  <a:lnTo>
                    <a:pt x="507" y="377"/>
                  </a:lnTo>
                  <a:lnTo>
                    <a:pt x="554" y="383"/>
                  </a:lnTo>
                  <a:lnTo>
                    <a:pt x="581" y="390"/>
                  </a:lnTo>
                  <a:lnTo>
                    <a:pt x="621" y="397"/>
                  </a:lnTo>
                  <a:lnTo>
                    <a:pt x="635" y="404"/>
                  </a:lnTo>
                  <a:lnTo>
                    <a:pt x="655" y="410"/>
                  </a:lnTo>
                  <a:lnTo>
                    <a:pt x="675" y="417"/>
                  </a:lnTo>
                  <a:lnTo>
                    <a:pt x="743" y="424"/>
                  </a:lnTo>
                  <a:lnTo>
                    <a:pt x="770" y="431"/>
                  </a:lnTo>
                  <a:lnTo>
                    <a:pt x="790" y="431"/>
                  </a:lnTo>
                  <a:lnTo>
                    <a:pt x="830" y="437"/>
                  </a:lnTo>
                  <a:lnTo>
                    <a:pt x="844" y="437"/>
                  </a:lnTo>
                  <a:lnTo>
                    <a:pt x="864" y="437"/>
                  </a:lnTo>
                  <a:lnTo>
                    <a:pt x="878" y="437"/>
                  </a:lnTo>
                  <a:lnTo>
                    <a:pt x="898" y="437"/>
                  </a:lnTo>
                  <a:lnTo>
                    <a:pt x="918" y="437"/>
                  </a:lnTo>
                  <a:lnTo>
                    <a:pt x="938" y="437"/>
                  </a:lnTo>
                  <a:lnTo>
                    <a:pt x="952" y="437"/>
                  </a:lnTo>
                  <a:lnTo>
                    <a:pt x="979" y="437"/>
                  </a:lnTo>
                  <a:lnTo>
                    <a:pt x="999" y="431"/>
                  </a:lnTo>
                  <a:lnTo>
                    <a:pt x="1019" y="431"/>
                  </a:lnTo>
                  <a:lnTo>
                    <a:pt x="1033" y="424"/>
                  </a:lnTo>
                  <a:lnTo>
                    <a:pt x="1053" y="417"/>
                  </a:lnTo>
                  <a:lnTo>
                    <a:pt x="1073" y="410"/>
                  </a:lnTo>
                  <a:lnTo>
                    <a:pt x="1087" y="404"/>
                  </a:lnTo>
                  <a:lnTo>
                    <a:pt x="1107" y="390"/>
                  </a:lnTo>
                  <a:lnTo>
                    <a:pt x="1127" y="377"/>
                  </a:lnTo>
                  <a:lnTo>
                    <a:pt x="1141" y="370"/>
                  </a:lnTo>
                  <a:lnTo>
                    <a:pt x="1154" y="356"/>
                  </a:lnTo>
                  <a:lnTo>
                    <a:pt x="1152" y="336"/>
                  </a:lnTo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80B4-C47F-4534-8547-1B3C7DD09D82}" type="slidenum">
              <a:t>43</a:t>
            </a:fld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2" dur="2000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 fill="hold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Bilinearna transformacij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09480" y="1676520"/>
            <a:ext cx="8382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stupak projektiranja digitalnog filtr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fe"/>
                </a:solidFill>
                <a:latin typeface="Times New Roman"/>
              </a:rPr>
              <a:t>1.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efiniranje zahtjeva na digitalni filter (specifikaci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fe"/>
                </a:solidFill>
                <a:latin typeface="Times New Roman"/>
              </a:rPr>
              <a:t>2.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nverznom bilinearnom transformacijom dobivaju se zahtjevi na pripadni analogni fil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fe"/>
                </a:solidFill>
                <a:latin typeface="Times New Roman"/>
              </a:rPr>
              <a:t>3.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rojektiranje analognog filtr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koji zadovoljava tražene specifikac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fe"/>
                </a:solidFill>
                <a:latin typeface="Times New Roman"/>
              </a:rPr>
              <a:t>4.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Bilinearnom transformacijom od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obiva se tražen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35F8-593D-457B-A195-A6ACE95B64B7}" type="slidenum">
              <a:t>44</a:t>
            </a:fld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1371600" y="1752480"/>
            <a:ext cx="670572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fe"/>
                </a:solidFill>
                <a:latin typeface="Times New Roman"/>
              </a:rPr>
              <a:t>Projektiranje rekurzivnog digitalnog filtra bilinearnom transformacij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447920" y="364464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ffff00"/>
                </a:solidFill>
                <a:latin typeface="Times New Roman"/>
              </a:rPr>
              <a:t>Svojstva bilinearne transformacije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FC4A-4E22-4F1E-AE0E-B90CA01195E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Svojstva bilinearne transformacije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ka su kompleksne varijabl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adane ka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630520" y="2168640"/>
                <a:ext cx="36320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jw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,      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611280" y="2590920"/>
            <a:ext cx="342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 transformacijo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1865160" y="3033720"/>
                <a:ext cx="640584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e>
                              <m:sup>
                                <m:r>
                                  <m:t xml:space="preserve">j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e>
                              <m:sup>
                                <m:r>
                                  <m:t xml:space="preserve">jw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0" name=""/>
          <p:cNvSpPr/>
          <p:nvPr/>
        </p:nvSpPr>
        <p:spPr>
          <a:xfrm>
            <a:off x="611280" y="5105520"/>
            <a:ext cx="411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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jedi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801720" y="5635800"/>
                <a:ext cx="77724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w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w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A20C-7353-45C7-BB85-C708A2DAA3BE}" type="slidenum">
              <a:t>46</a:t>
            </a:fld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77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77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77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Svojstva bilinearne transformacije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rimo realni dio varijabl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2327400" y="2206800"/>
                <a:ext cx="3738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w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5" name=""/>
          <p:cNvSpPr/>
          <p:nvPr/>
        </p:nvSpPr>
        <p:spPr>
          <a:xfrm>
            <a:off x="611280" y="3124080"/>
            <a:ext cx="8380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 pošto je nazivnik uvijek veći ili jednak od nule, predznak od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visi isključivo o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to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00fffe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r&lt;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...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&lt;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00fffe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r&gt;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...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00fffe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r=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...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0, s=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50920" y="3962520"/>
            <a:ext cx="6642360" cy="2661480"/>
            <a:chOff x="2050920" y="3962520"/>
            <a:chExt cx="6642360" cy="2661480"/>
          </a:xfrm>
        </p:grpSpPr>
        <p:grpSp>
          <p:nvGrpSpPr>
            <p:cNvPr id="1147" name=""/>
            <p:cNvGrpSpPr/>
            <p:nvPr/>
          </p:nvGrpSpPr>
          <p:grpSpPr>
            <a:xfrm>
              <a:off x="6089760" y="4114800"/>
              <a:ext cx="2603520" cy="2509200"/>
              <a:chOff x="6089760" y="4114800"/>
              <a:chExt cx="2603520" cy="2509200"/>
            </a:xfrm>
          </p:grpSpPr>
          <p:sp>
            <p:nvSpPr>
              <p:cNvPr id="1148" name=""/>
              <p:cNvSpPr/>
              <p:nvPr/>
            </p:nvSpPr>
            <p:spPr>
              <a:xfrm>
                <a:off x="7245360" y="5035680"/>
                <a:ext cx="749160" cy="7491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010280" y="5410080"/>
                <a:ext cx="1371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7620120" y="46483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010280" y="4114800"/>
                <a:ext cx="1371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z-ravni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162920" y="4495680"/>
                <a:ext cx="5331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Brush Script MT"/>
                  </a:rPr>
                  <a:t>I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077320" y="5410080"/>
                <a:ext cx="5331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Brush Script MT"/>
                  </a:rPr>
                  <a:t>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089760" y="6165720"/>
                <a:ext cx="2603520" cy="45828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jedinična kružnic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7315200" y="5791320"/>
                <a:ext cx="152280" cy="380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2050920" y="3962520"/>
              <a:ext cx="4349880" cy="2661480"/>
              <a:chOff x="2050920" y="3962520"/>
              <a:chExt cx="4349880" cy="2661480"/>
            </a:xfrm>
          </p:grpSpPr>
          <p:sp>
            <p:nvSpPr>
              <p:cNvPr id="1157" name=""/>
              <p:cNvSpPr/>
              <p:nvPr/>
            </p:nvSpPr>
            <p:spPr>
              <a:xfrm>
                <a:off x="4800600" y="4495680"/>
                <a:ext cx="838080" cy="1905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>
                <a:off x="5638680" y="4419360"/>
                <a:ext cx="0" cy="198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800600" y="5410080"/>
                <a:ext cx="1600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019920" y="5334120"/>
                <a:ext cx="3808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38680" y="441972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Times New Roman"/>
                  </a:rPr>
                  <a:t>j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876920" y="3962520"/>
                <a:ext cx="1371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s-ravni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050920" y="6165720"/>
                <a:ext cx="2438640" cy="45828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Times New Roman"/>
                  </a:rPr>
                  <a:t>lijeva poluravni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3352680" y="5638680"/>
                <a:ext cx="1600200" cy="533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5" name=""/>
          <p:cNvSpPr/>
          <p:nvPr/>
        </p:nvSpPr>
        <p:spPr>
          <a:xfrm>
            <a:off x="5257800" y="5140440"/>
            <a:ext cx="2222640" cy="652320"/>
          </a:xfrm>
          <a:custGeom>
            <a:avLst/>
            <a:gdLst/>
            <a:ahLst/>
            <a:rect l="l" t="t" r="r" b="b"/>
            <a:pathLst>
              <a:path w="1400" h="411">
                <a:moveTo>
                  <a:pt x="0" y="410"/>
                </a:moveTo>
                <a:lnTo>
                  <a:pt x="18" y="377"/>
                </a:lnTo>
                <a:lnTo>
                  <a:pt x="33" y="355"/>
                </a:lnTo>
                <a:lnTo>
                  <a:pt x="48" y="332"/>
                </a:lnTo>
                <a:lnTo>
                  <a:pt x="63" y="310"/>
                </a:lnTo>
                <a:lnTo>
                  <a:pt x="85" y="288"/>
                </a:lnTo>
                <a:lnTo>
                  <a:pt x="100" y="266"/>
                </a:lnTo>
                <a:lnTo>
                  <a:pt x="122" y="244"/>
                </a:lnTo>
                <a:lnTo>
                  <a:pt x="137" y="222"/>
                </a:lnTo>
                <a:lnTo>
                  <a:pt x="151" y="200"/>
                </a:lnTo>
                <a:lnTo>
                  <a:pt x="174" y="177"/>
                </a:lnTo>
                <a:lnTo>
                  <a:pt x="196" y="155"/>
                </a:lnTo>
                <a:lnTo>
                  <a:pt x="218" y="140"/>
                </a:lnTo>
                <a:lnTo>
                  <a:pt x="240" y="126"/>
                </a:lnTo>
                <a:lnTo>
                  <a:pt x="270" y="111"/>
                </a:lnTo>
                <a:lnTo>
                  <a:pt x="299" y="89"/>
                </a:lnTo>
                <a:lnTo>
                  <a:pt x="321" y="74"/>
                </a:lnTo>
                <a:lnTo>
                  <a:pt x="343" y="67"/>
                </a:lnTo>
                <a:lnTo>
                  <a:pt x="366" y="52"/>
                </a:lnTo>
                <a:lnTo>
                  <a:pt x="388" y="44"/>
                </a:lnTo>
                <a:lnTo>
                  <a:pt x="417" y="30"/>
                </a:lnTo>
                <a:lnTo>
                  <a:pt x="439" y="22"/>
                </a:lnTo>
                <a:lnTo>
                  <a:pt x="469" y="22"/>
                </a:lnTo>
                <a:lnTo>
                  <a:pt x="498" y="15"/>
                </a:lnTo>
                <a:lnTo>
                  <a:pt x="521" y="8"/>
                </a:lnTo>
                <a:lnTo>
                  <a:pt x="550" y="0"/>
                </a:lnTo>
                <a:lnTo>
                  <a:pt x="572" y="0"/>
                </a:lnTo>
                <a:lnTo>
                  <a:pt x="617" y="0"/>
                </a:lnTo>
                <a:lnTo>
                  <a:pt x="676" y="0"/>
                </a:lnTo>
                <a:lnTo>
                  <a:pt x="705" y="0"/>
                </a:lnTo>
                <a:lnTo>
                  <a:pt x="735" y="0"/>
                </a:lnTo>
                <a:lnTo>
                  <a:pt x="757" y="0"/>
                </a:lnTo>
                <a:lnTo>
                  <a:pt x="816" y="0"/>
                </a:lnTo>
                <a:lnTo>
                  <a:pt x="860" y="0"/>
                </a:lnTo>
                <a:lnTo>
                  <a:pt x="890" y="0"/>
                </a:lnTo>
                <a:lnTo>
                  <a:pt x="912" y="0"/>
                </a:lnTo>
                <a:lnTo>
                  <a:pt x="942" y="0"/>
                </a:lnTo>
                <a:lnTo>
                  <a:pt x="986" y="8"/>
                </a:lnTo>
                <a:lnTo>
                  <a:pt x="1008" y="15"/>
                </a:lnTo>
                <a:lnTo>
                  <a:pt x="1067" y="22"/>
                </a:lnTo>
                <a:lnTo>
                  <a:pt x="1089" y="30"/>
                </a:lnTo>
                <a:lnTo>
                  <a:pt x="1111" y="37"/>
                </a:lnTo>
                <a:lnTo>
                  <a:pt x="1134" y="44"/>
                </a:lnTo>
                <a:lnTo>
                  <a:pt x="1156" y="52"/>
                </a:lnTo>
                <a:lnTo>
                  <a:pt x="1178" y="67"/>
                </a:lnTo>
                <a:lnTo>
                  <a:pt x="1200" y="74"/>
                </a:lnTo>
                <a:lnTo>
                  <a:pt x="1222" y="89"/>
                </a:lnTo>
                <a:lnTo>
                  <a:pt x="1244" y="104"/>
                </a:lnTo>
                <a:lnTo>
                  <a:pt x="1266" y="126"/>
                </a:lnTo>
                <a:lnTo>
                  <a:pt x="1289" y="133"/>
                </a:lnTo>
                <a:lnTo>
                  <a:pt x="1303" y="155"/>
                </a:lnTo>
                <a:lnTo>
                  <a:pt x="1326" y="177"/>
                </a:lnTo>
                <a:lnTo>
                  <a:pt x="1370" y="192"/>
                </a:lnTo>
                <a:lnTo>
                  <a:pt x="1377" y="214"/>
                </a:lnTo>
                <a:lnTo>
                  <a:pt x="1399" y="229"/>
                </a:lnTo>
                <a:lnTo>
                  <a:pt x="1392" y="266"/>
                </a:lnTo>
              </a:path>
            </a:pathLst>
          </a:custGeom>
          <a:noFill/>
          <a:ln cap="rnd" w="50760">
            <a:solidFill>
              <a:srgbClr val="00fffe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71DC-5931-49DF-AB8F-3D14FC89DF88}" type="slidenum">
              <a:t>47</a:t>
            </a:fld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7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77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77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77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77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Svojstva bilinearne transformacije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učaj z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=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a jediničnoj kružnici)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1487520" y="2276640"/>
                <a:ext cx="540396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  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w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9" name=""/>
          <p:cNvGrpSpPr/>
          <p:nvPr/>
        </p:nvGrpSpPr>
        <p:grpSpPr>
          <a:xfrm>
            <a:off x="1309680" y="3197160"/>
            <a:ext cx="6018120" cy="3357360"/>
            <a:chOff x="1309680" y="3197160"/>
            <a:chExt cx="6018120" cy="3357360"/>
          </a:xfrm>
        </p:grpSpPr>
        <p:grpSp>
          <p:nvGrpSpPr>
            <p:cNvPr id="1170" name=""/>
            <p:cNvGrpSpPr/>
            <p:nvPr/>
          </p:nvGrpSpPr>
          <p:grpSpPr>
            <a:xfrm>
              <a:off x="1309680" y="3197160"/>
              <a:ext cx="4498560" cy="3357360"/>
              <a:chOff x="1309680" y="3197160"/>
              <a:chExt cx="4498560" cy="3357360"/>
            </a:xfrm>
          </p:grpSpPr>
          <p:sp>
            <p:nvSpPr>
              <p:cNvPr id="1171" name=""/>
              <p:cNvSpPr/>
              <p:nvPr/>
            </p:nvSpPr>
            <p:spPr>
              <a:xfrm>
                <a:off x="3579840" y="341316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5535360" y="4987800"/>
                <a:ext cx="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2243160" y="4952880"/>
                <a:ext cx="0" cy="381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V="1">
                <a:off x="2906640" y="4952880"/>
                <a:ext cx="0" cy="381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>
                <a:off x="3579840" y="4952880"/>
                <a:ext cx="0" cy="381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4243320" y="4952880"/>
                <a:ext cx="0" cy="381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V="1">
                <a:off x="4908600" y="4952880"/>
                <a:ext cx="0" cy="381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77880" y="4991040"/>
                <a:ext cx="39942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035880" y="4124160"/>
                <a:ext cx="60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/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239280" y="3459240"/>
                <a:ext cx="352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584880" y="6004080"/>
                <a:ext cx="45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-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05400" y="5380200"/>
                <a:ext cx="7095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-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/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581280" y="6240600"/>
                <a:ext cx="36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581280" y="5614920"/>
                <a:ext cx="36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581280" y="4987800"/>
                <a:ext cx="36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581280" y="4351320"/>
                <a:ext cx="36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581280" y="3724200"/>
                <a:ext cx="367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V="1">
                <a:off x="3581280" y="3412800"/>
                <a:ext cx="0" cy="31417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577880" y="3836880"/>
                <a:ext cx="3996000" cy="2295720"/>
              </a:xfrm>
              <a:custGeom>
                <a:avLst/>
                <a:gdLst/>
                <a:ahLst/>
                <a:rect l="l" t="t" r="r" b="b"/>
                <a:pathLst>
                  <a:path w="2517" h="1446">
                    <a:moveTo>
                      <a:pt x="0" y="1445"/>
                    </a:moveTo>
                    <a:lnTo>
                      <a:pt x="6" y="1445"/>
                    </a:lnTo>
                    <a:lnTo>
                      <a:pt x="18" y="1445"/>
                    </a:lnTo>
                    <a:lnTo>
                      <a:pt x="23" y="1445"/>
                    </a:lnTo>
                    <a:lnTo>
                      <a:pt x="35" y="1445"/>
                    </a:lnTo>
                    <a:lnTo>
                      <a:pt x="41" y="1445"/>
                    </a:lnTo>
                    <a:lnTo>
                      <a:pt x="52" y="1445"/>
                    </a:lnTo>
                    <a:lnTo>
                      <a:pt x="58" y="1445"/>
                    </a:lnTo>
                    <a:lnTo>
                      <a:pt x="70" y="1445"/>
                    </a:lnTo>
                    <a:lnTo>
                      <a:pt x="75" y="1445"/>
                    </a:lnTo>
                    <a:lnTo>
                      <a:pt x="81" y="1445"/>
                    </a:lnTo>
                    <a:lnTo>
                      <a:pt x="93" y="1438"/>
                    </a:lnTo>
                    <a:lnTo>
                      <a:pt x="99" y="1438"/>
                    </a:lnTo>
                    <a:lnTo>
                      <a:pt x="110" y="1438"/>
                    </a:lnTo>
                    <a:lnTo>
                      <a:pt x="116" y="1438"/>
                    </a:lnTo>
                    <a:lnTo>
                      <a:pt x="128" y="1438"/>
                    </a:lnTo>
                    <a:lnTo>
                      <a:pt x="133" y="1438"/>
                    </a:lnTo>
                    <a:lnTo>
                      <a:pt x="145" y="1438"/>
                    </a:lnTo>
                    <a:lnTo>
                      <a:pt x="151" y="1438"/>
                    </a:lnTo>
                    <a:lnTo>
                      <a:pt x="156" y="1438"/>
                    </a:lnTo>
                    <a:lnTo>
                      <a:pt x="168" y="1438"/>
                    </a:lnTo>
                    <a:lnTo>
                      <a:pt x="174" y="1438"/>
                    </a:lnTo>
                    <a:lnTo>
                      <a:pt x="185" y="1432"/>
                    </a:lnTo>
                    <a:lnTo>
                      <a:pt x="191" y="1432"/>
                    </a:lnTo>
                    <a:lnTo>
                      <a:pt x="204" y="1432"/>
                    </a:lnTo>
                    <a:lnTo>
                      <a:pt x="208" y="1432"/>
                    </a:lnTo>
                    <a:lnTo>
                      <a:pt x="221" y="1432"/>
                    </a:lnTo>
                    <a:lnTo>
                      <a:pt x="227" y="1432"/>
                    </a:lnTo>
                    <a:lnTo>
                      <a:pt x="233" y="1432"/>
                    </a:lnTo>
                    <a:lnTo>
                      <a:pt x="244" y="1432"/>
                    </a:lnTo>
                    <a:lnTo>
                      <a:pt x="250" y="1432"/>
                    </a:lnTo>
                    <a:lnTo>
                      <a:pt x="262" y="1427"/>
                    </a:lnTo>
                    <a:lnTo>
                      <a:pt x="267" y="1427"/>
                    </a:lnTo>
                    <a:lnTo>
                      <a:pt x="279" y="1427"/>
                    </a:lnTo>
                    <a:lnTo>
                      <a:pt x="285" y="1427"/>
                    </a:lnTo>
                    <a:lnTo>
                      <a:pt x="296" y="1427"/>
                    </a:lnTo>
                    <a:lnTo>
                      <a:pt x="302" y="1427"/>
                    </a:lnTo>
                    <a:lnTo>
                      <a:pt x="308" y="1427"/>
                    </a:lnTo>
                    <a:lnTo>
                      <a:pt x="319" y="1427"/>
                    </a:lnTo>
                    <a:lnTo>
                      <a:pt x="325" y="1421"/>
                    </a:lnTo>
                    <a:lnTo>
                      <a:pt x="337" y="1421"/>
                    </a:lnTo>
                    <a:lnTo>
                      <a:pt x="342" y="1421"/>
                    </a:lnTo>
                    <a:lnTo>
                      <a:pt x="354" y="1421"/>
                    </a:lnTo>
                    <a:lnTo>
                      <a:pt x="360" y="1421"/>
                    </a:lnTo>
                    <a:lnTo>
                      <a:pt x="371" y="1421"/>
                    </a:lnTo>
                    <a:lnTo>
                      <a:pt x="377" y="1421"/>
                    </a:lnTo>
                    <a:lnTo>
                      <a:pt x="383" y="1415"/>
                    </a:lnTo>
                    <a:lnTo>
                      <a:pt x="396" y="1415"/>
                    </a:lnTo>
                    <a:lnTo>
                      <a:pt x="400" y="1415"/>
                    </a:lnTo>
                    <a:lnTo>
                      <a:pt x="413" y="1415"/>
                    </a:lnTo>
                    <a:lnTo>
                      <a:pt x="419" y="1415"/>
                    </a:lnTo>
                    <a:lnTo>
                      <a:pt x="430" y="1415"/>
                    </a:lnTo>
                    <a:lnTo>
                      <a:pt x="436" y="1409"/>
                    </a:lnTo>
                    <a:lnTo>
                      <a:pt x="442" y="1409"/>
                    </a:lnTo>
                    <a:lnTo>
                      <a:pt x="453" y="1409"/>
                    </a:lnTo>
                    <a:lnTo>
                      <a:pt x="459" y="1409"/>
                    </a:lnTo>
                    <a:lnTo>
                      <a:pt x="471" y="1409"/>
                    </a:lnTo>
                    <a:lnTo>
                      <a:pt x="476" y="1409"/>
                    </a:lnTo>
                    <a:lnTo>
                      <a:pt x="488" y="1404"/>
                    </a:lnTo>
                    <a:lnTo>
                      <a:pt x="494" y="1404"/>
                    </a:lnTo>
                    <a:lnTo>
                      <a:pt x="505" y="1404"/>
                    </a:lnTo>
                    <a:lnTo>
                      <a:pt x="511" y="1404"/>
                    </a:lnTo>
                    <a:lnTo>
                      <a:pt x="517" y="1398"/>
                    </a:lnTo>
                    <a:lnTo>
                      <a:pt x="528" y="1398"/>
                    </a:lnTo>
                    <a:lnTo>
                      <a:pt x="534" y="1398"/>
                    </a:lnTo>
                    <a:lnTo>
                      <a:pt x="546" y="1398"/>
                    </a:lnTo>
                    <a:lnTo>
                      <a:pt x="552" y="1398"/>
                    </a:lnTo>
                    <a:lnTo>
                      <a:pt x="563" y="1392"/>
                    </a:lnTo>
                    <a:lnTo>
                      <a:pt x="569" y="1392"/>
                    </a:lnTo>
                    <a:lnTo>
                      <a:pt x="581" y="1392"/>
                    </a:lnTo>
                    <a:lnTo>
                      <a:pt x="586" y="1392"/>
                    </a:lnTo>
                    <a:lnTo>
                      <a:pt x="592" y="1386"/>
                    </a:lnTo>
                    <a:lnTo>
                      <a:pt x="605" y="1386"/>
                    </a:lnTo>
                    <a:lnTo>
                      <a:pt x="609" y="1386"/>
                    </a:lnTo>
                    <a:lnTo>
                      <a:pt x="622" y="1386"/>
                    </a:lnTo>
                    <a:lnTo>
                      <a:pt x="628" y="1381"/>
                    </a:lnTo>
                    <a:lnTo>
                      <a:pt x="639" y="1381"/>
                    </a:lnTo>
                    <a:lnTo>
                      <a:pt x="645" y="1381"/>
                    </a:lnTo>
                    <a:lnTo>
                      <a:pt x="657" y="1375"/>
                    </a:lnTo>
                    <a:lnTo>
                      <a:pt x="662" y="1375"/>
                    </a:lnTo>
                    <a:lnTo>
                      <a:pt x="668" y="1375"/>
                    </a:lnTo>
                    <a:lnTo>
                      <a:pt x="680" y="1369"/>
                    </a:lnTo>
                    <a:lnTo>
                      <a:pt x="686" y="1369"/>
                    </a:lnTo>
                    <a:lnTo>
                      <a:pt x="697" y="1369"/>
                    </a:lnTo>
                    <a:lnTo>
                      <a:pt x="703" y="1363"/>
                    </a:lnTo>
                    <a:lnTo>
                      <a:pt x="715" y="1363"/>
                    </a:lnTo>
                    <a:lnTo>
                      <a:pt x="720" y="1363"/>
                    </a:lnTo>
                    <a:lnTo>
                      <a:pt x="732" y="1357"/>
                    </a:lnTo>
                    <a:lnTo>
                      <a:pt x="738" y="1357"/>
                    </a:lnTo>
                    <a:lnTo>
                      <a:pt x="743" y="1352"/>
                    </a:lnTo>
                    <a:lnTo>
                      <a:pt x="755" y="1352"/>
                    </a:lnTo>
                    <a:lnTo>
                      <a:pt x="761" y="1352"/>
                    </a:lnTo>
                    <a:lnTo>
                      <a:pt x="772" y="1346"/>
                    </a:lnTo>
                    <a:lnTo>
                      <a:pt x="778" y="1346"/>
                    </a:lnTo>
                    <a:lnTo>
                      <a:pt x="790" y="1340"/>
                    </a:lnTo>
                    <a:lnTo>
                      <a:pt x="795" y="1340"/>
                    </a:lnTo>
                    <a:lnTo>
                      <a:pt x="807" y="1334"/>
                    </a:lnTo>
                    <a:lnTo>
                      <a:pt x="813" y="1334"/>
                    </a:lnTo>
                    <a:lnTo>
                      <a:pt x="820" y="1329"/>
                    </a:lnTo>
                    <a:lnTo>
                      <a:pt x="830" y="1323"/>
                    </a:lnTo>
                    <a:lnTo>
                      <a:pt x="837" y="1323"/>
                    </a:lnTo>
                    <a:lnTo>
                      <a:pt x="849" y="1317"/>
                    </a:lnTo>
                    <a:lnTo>
                      <a:pt x="854" y="1317"/>
                    </a:lnTo>
                    <a:lnTo>
                      <a:pt x="866" y="1311"/>
                    </a:lnTo>
                    <a:lnTo>
                      <a:pt x="872" y="1305"/>
                    </a:lnTo>
                    <a:lnTo>
                      <a:pt x="883" y="1305"/>
                    </a:lnTo>
                    <a:lnTo>
                      <a:pt x="889" y="1300"/>
                    </a:lnTo>
                    <a:lnTo>
                      <a:pt x="895" y="1294"/>
                    </a:lnTo>
                    <a:lnTo>
                      <a:pt x="906" y="1288"/>
                    </a:lnTo>
                    <a:lnTo>
                      <a:pt x="912" y="1282"/>
                    </a:lnTo>
                    <a:lnTo>
                      <a:pt x="924" y="1282"/>
                    </a:lnTo>
                    <a:lnTo>
                      <a:pt x="929" y="1277"/>
                    </a:lnTo>
                    <a:lnTo>
                      <a:pt x="941" y="1271"/>
                    </a:lnTo>
                    <a:lnTo>
                      <a:pt x="947" y="1265"/>
                    </a:lnTo>
                    <a:lnTo>
                      <a:pt x="958" y="1259"/>
                    </a:lnTo>
                    <a:lnTo>
                      <a:pt x="964" y="1252"/>
                    </a:lnTo>
                    <a:lnTo>
                      <a:pt x="970" y="1248"/>
                    </a:lnTo>
                    <a:lnTo>
                      <a:pt x="981" y="1242"/>
                    </a:lnTo>
                    <a:lnTo>
                      <a:pt x="987" y="1229"/>
                    </a:lnTo>
                    <a:lnTo>
                      <a:pt x="999" y="1225"/>
                    </a:lnTo>
                    <a:lnTo>
                      <a:pt x="1005" y="1218"/>
                    </a:lnTo>
                    <a:lnTo>
                      <a:pt x="1016" y="1206"/>
                    </a:lnTo>
                    <a:lnTo>
                      <a:pt x="1022" y="1200"/>
                    </a:lnTo>
                    <a:lnTo>
                      <a:pt x="1035" y="1195"/>
                    </a:lnTo>
                    <a:lnTo>
                      <a:pt x="1039" y="1183"/>
                    </a:lnTo>
                    <a:lnTo>
                      <a:pt x="1046" y="1172"/>
                    </a:lnTo>
                    <a:lnTo>
                      <a:pt x="1058" y="1166"/>
                    </a:lnTo>
                    <a:lnTo>
                      <a:pt x="1063" y="1154"/>
                    </a:lnTo>
                    <a:lnTo>
                      <a:pt x="1075" y="1143"/>
                    </a:lnTo>
                    <a:lnTo>
                      <a:pt x="1081" y="1131"/>
                    </a:lnTo>
                    <a:lnTo>
                      <a:pt x="1092" y="1120"/>
                    </a:lnTo>
                    <a:lnTo>
                      <a:pt x="1098" y="1102"/>
                    </a:lnTo>
                    <a:lnTo>
                      <a:pt x="1110" y="1091"/>
                    </a:lnTo>
                    <a:lnTo>
                      <a:pt x="1115" y="1079"/>
                    </a:lnTo>
                    <a:lnTo>
                      <a:pt x="1121" y="1062"/>
                    </a:lnTo>
                    <a:lnTo>
                      <a:pt x="1133" y="1043"/>
                    </a:lnTo>
                    <a:lnTo>
                      <a:pt x="1139" y="1033"/>
                    </a:lnTo>
                    <a:lnTo>
                      <a:pt x="1150" y="1015"/>
                    </a:lnTo>
                    <a:lnTo>
                      <a:pt x="1156" y="991"/>
                    </a:lnTo>
                    <a:lnTo>
                      <a:pt x="1168" y="974"/>
                    </a:lnTo>
                    <a:lnTo>
                      <a:pt x="1173" y="957"/>
                    </a:lnTo>
                    <a:lnTo>
                      <a:pt x="1185" y="934"/>
                    </a:lnTo>
                    <a:lnTo>
                      <a:pt x="1191" y="916"/>
                    </a:lnTo>
                    <a:lnTo>
                      <a:pt x="1196" y="893"/>
                    </a:lnTo>
                    <a:lnTo>
                      <a:pt x="1208" y="870"/>
                    </a:lnTo>
                    <a:lnTo>
                      <a:pt x="1214" y="847"/>
                    </a:lnTo>
                    <a:lnTo>
                      <a:pt x="1225" y="823"/>
                    </a:lnTo>
                    <a:lnTo>
                      <a:pt x="1231" y="794"/>
                    </a:lnTo>
                    <a:lnTo>
                      <a:pt x="1244" y="771"/>
                    </a:lnTo>
                    <a:lnTo>
                      <a:pt x="1248" y="748"/>
                    </a:lnTo>
                    <a:lnTo>
                      <a:pt x="1261" y="725"/>
                    </a:lnTo>
                    <a:lnTo>
                      <a:pt x="1267" y="696"/>
                    </a:lnTo>
                    <a:lnTo>
                      <a:pt x="1273" y="673"/>
                    </a:lnTo>
                    <a:lnTo>
                      <a:pt x="1284" y="650"/>
                    </a:lnTo>
                    <a:lnTo>
                      <a:pt x="1290" y="621"/>
                    </a:lnTo>
                    <a:lnTo>
                      <a:pt x="1302" y="597"/>
                    </a:lnTo>
                    <a:lnTo>
                      <a:pt x="1307" y="574"/>
                    </a:lnTo>
                    <a:lnTo>
                      <a:pt x="1319" y="551"/>
                    </a:lnTo>
                    <a:lnTo>
                      <a:pt x="1325" y="527"/>
                    </a:lnTo>
                    <a:lnTo>
                      <a:pt x="1330" y="510"/>
                    </a:lnTo>
                    <a:lnTo>
                      <a:pt x="1342" y="487"/>
                    </a:lnTo>
                    <a:lnTo>
                      <a:pt x="1348" y="470"/>
                    </a:lnTo>
                    <a:lnTo>
                      <a:pt x="1359" y="452"/>
                    </a:lnTo>
                    <a:lnTo>
                      <a:pt x="1365" y="429"/>
                    </a:lnTo>
                    <a:lnTo>
                      <a:pt x="1377" y="411"/>
                    </a:lnTo>
                    <a:lnTo>
                      <a:pt x="1382" y="399"/>
                    </a:lnTo>
                    <a:lnTo>
                      <a:pt x="1394" y="382"/>
                    </a:lnTo>
                    <a:lnTo>
                      <a:pt x="1400" y="365"/>
                    </a:lnTo>
                    <a:lnTo>
                      <a:pt x="1406" y="353"/>
                    </a:lnTo>
                    <a:lnTo>
                      <a:pt x="1417" y="342"/>
                    </a:lnTo>
                    <a:lnTo>
                      <a:pt x="1423" y="324"/>
                    </a:lnTo>
                    <a:lnTo>
                      <a:pt x="1435" y="313"/>
                    </a:lnTo>
                    <a:lnTo>
                      <a:pt x="1440" y="301"/>
                    </a:lnTo>
                    <a:lnTo>
                      <a:pt x="1452" y="290"/>
                    </a:lnTo>
                    <a:lnTo>
                      <a:pt x="1459" y="278"/>
                    </a:lnTo>
                    <a:lnTo>
                      <a:pt x="1469" y="272"/>
                    </a:lnTo>
                    <a:lnTo>
                      <a:pt x="1476" y="261"/>
                    </a:lnTo>
                    <a:lnTo>
                      <a:pt x="1482" y="249"/>
                    </a:lnTo>
                    <a:lnTo>
                      <a:pt x="1493" y="243"/>
                    </a:lnTo>
                    <a:lnTo>
                      <a:pt x="1499" y="238"/>
                    </a:lnTo>
                    <a:lnTo>
                      <a:pt x="1511" y="226"/>
                    </a:lnTo>
                    <a:lnTo>
                      <a:pt x="1516" y="219"/>
                    </a:lnTo>
                    <a:lnTo>
                      <a:pt x="1528" y="213"/>
                    </a:lnTo>
                    <a:lnTo>
                      <a:pt x="1534" y="202"/>
                    </a:lnTo>
                    <a:lnTo>
                      <a:pt x="1545" y="196"/>
                    </a:lnTo>
                    <a:lnTo>
                      <a:pt x="1551" y="190"/>
                    </a:lnTo>
                    <a:lnTo>
                      <a:pt x="1557" y="185"/>
                    </a:lnTo>
                    <a:lnTo>
                      <a:pt x="1568" y="179"/>
                    </a:lnTo>
                    <a:lnTo>
                      <a:pt x="1574" y="173"/>
                    </a:lnTo>
                    <a:lnTo>
                      <a:pt x="1586" y="167"/>
                    </a:lnTo>
                    <a:lnTo>
                      <a:pt x="1592" y="162"/>
                    </a:lnTo>
                    <a:lnTo>
                      <a:pt x="1603" y="162"/>
                    </a:lnTo>
                    <a:lnTo>
                      <a:pt x="1609" y="156"/>
                    </a:lnTo>
                    <a:lnTo>
                      <a:pt x="1621" y="150"/>
                    </a:lnTo>
                    <a:lnTo>
                      <a:pt x="1626" y="144"/>
                    </a:lnTo>
                    <a:lnTo>
                      <a:pt x="1632" y="138"/>
                    </a:lnTo>
                    <a:lnTo>
                      <a:pt x="1644" y="138"/>
                    </a:lnTo>
                    <a:lnTo>
                      <a:pt x="1649" y="133"/>
                    </a:lnTo>
                    <a:lnTo>
                      <a:pt x="1661" y="127"/>
                    </a:lnTo>
                    <a:lnTo>
                      <a:pt x="1668" y="127"/>
                    </a:lnTo>
                    <a:lnTo>
                      <a:pt x="1678" y="121"/>
                    </a:lnTo>
                    <a:lnTo>
                      <a:pt x="1685" y="121"/>
                    </a:lnTo>
                    <a:lnTo>
                      <a:pt x="1697" y="115"/>
                    </a:lnTo>
                    <a:lnTo>
                      <a:pt x="1702" y="110"/>
                    </a:lnTo>
                    <a:lnTo>
                      <a:pt x="1708" y="110"/>
                    </a:lnTo>
                    <a:lnTo>
                      <a:pt x="1720" y="104"/>
                    </a:lnTo>
                    <a:lnTo>
                      <a:pt x="1726" y="104"/>
                    </a:lnTo>
                    <a:lnTo>
                      <a:pt x="1737" y="98"/>
                    </a:lnTo>
                    <a:lnTo>
                      <a:pt x="1743" y="98"/>
                    </a:lnTo>
                    <a:lnTo>
                      <a:pt x="1755" y="92"/>
                    </a:lnTo>
                    <a:lnTo>
                      <a:pt x="1760" y="92"/>
                    </a:lnTo>
                    <a:lnTo>
                      <a:pt x="1772" y="92"/>
                    </a:lnTo>
                    <a:lnTo>
                      <a:pt x="1778" y="86"/>
                    </a:lnTo>
                    <a:lnTo>
                      <a:pt x="1783" y="86"/>
                    </a:lnTo>
                    <a:lnTo>
                      <a:pt x="1795" y="81"/>
                    </a:lnTo>
                    <a:lnTo>
                      <a:pt x="1801" y="81"/>
                    </a:lnTo>
                    <a:lnTo>
                      <a:pt x="1812" y="81"/>
                    </a:lnTo>
                    <a:lnTo>
                      <a:pt x="1818" y="75"/>
                    </a:lnTo>
                    <a:lnTo>
                      <a:pt x="1830" y="75"/>
                    </a:lnTo>
                    <a:lnTo>
                      <a:pt x="1835" y="75"/>
                    </a:lnTo>
                    <a:lnTo>
                      <a:pt x="1847" y="69"/>
                    </a:lnTo>
                    <a:lnTo>
                      <a:pt x="1853" y="69"/>
                    </a:lnTo>
                    <a:lnTo>
                      <a:pt x="1859" y="69"/>
                    </a:lnTo>
                    <a:lnTo>
                      <a:pt x="1870" y="63"/>
                    </a:lnTo>
                    <a:lnTo>
                      <a:pt x="1876" y="63"/>
                    </a:lnTo>
                    <a:lnTo>
                      <a:pt x="1889" y="63"/>
                    </a:lnTo>
                    <a:lnTo>
                      <a:pt x="1893" y="58"/>
                    </a:lnTo>
                    <a:lnTo>
                      <a:pt x="1906" y="58"/>
                    </a:lnTo>
                    <a:lnTo>
                      <a:pt x="1912" y="58"/>
                    </a:lnTo>
                    <a:lnTo>
                      <a:pt x="1923" y="58"/>
                    </a:lnTo>
                    <a:lnTo>
                      <a:pt x="1929" y="52"/>
                    </a:lnTo>
                    <a:lnTo>
                      <a:pt x="1935" y="52"/>
                    </a:lnTo>
                    <a:lnTo>
                      <a:pt x="1946" y="52"/>
                    </a:lnTo>
                    <a:lnTo>
                      <a:pt x="1952" y="52"/>
                    </a:lnTo>
                    <a:lnTo>
                      <a:pt x="1964" y="46"/>
                    </a:lnTo>
                    <a:lnTo>
                      <a:pt x="1969" y="46"/>
                    </a:lnTo>
                    <a:lnTo>
                      <a:pt x="1981" y="46"/>
                    </a:lnTo>
                    <a:lnTo>
                      <a:pt x="1987" y="46"/>
                    </a:lnTo>
                    <a:lnTo>
                      <a:pt x="1998" y="46"/>
                    </a:lnTo>
                    <a:lnTo>
                      <a:pt x="2004" y="40"/>
                    </a:lnTo>
                    <a:lnTo>
                      <a:pt x="2010" y="40"/>
                    </a:lnTo>
                    <a:lnTo>
                      <a:pt x="2022" y="40"/>
                    </a:lnTo>
                    <a:lnTo>
                      <a:pt x="2027" y="40"/>
                    </a:lnTo>
                    <a:lnTo>
                      <a:pt x="2039" y="34"/>
                    </a:lnTo>
                    <a:lnTo>
                      <a:pt x="2045" y="34"/>
                    </a:lnTo>
                    <a:lnTo>
                      <a:pt x="2056" y="34"/>
                    </a:lnTo>
                    <a:lnTo>
                      <a:pt x="2062" y="34"/>
                    </a:lnTo>
                    <a:lnTo>
                      <a:pt x="2075" y="34"/>
                    </a:lnTo>
                    <a:lnTo>
                      <a:pt x="2079" y="34"/>
                    </a:lnTo>
                    <a:lnTo>
                      <a:pt x="2085" y="29"/>
                    </a:lnTo>
                    <a:lnTo>
                      <a:pt x="2098" y="29"/>
                    </a:lnTo>
                    <a:lnTo>
                      <a:pt x="2102" y="29"/>
                    </a:lnTo>
                    <a:lnTo>
                      <a:pt x="2115" y="29"/>
                    </a:lnTo>
                    <a:lnTo>
                      <a:pt x="2121" y="29"/>
                    </a:lnTo>
                    <a:lnTo>
                      <a:pt x="2132" y="29"/>
                    </a:lnTo>
                    <a:lnTo>
                      <a:pt x="2138" y="23"/>
                    </a:lnTo>
                    <a:lnTo>
                      <a:pt x="2144" y="23"/>
                    </a:lnTo>
                    <a:lnTo>
                      <a:pt x="2155" y="23"/>
                    </a:lnTo>
                    <a:lnTo>
                      <a:pt x="2161" y="23"/>
                    </a:lnTo>
                    <a:lnTo>
                      <a:pt x="2173" y="23"/>
                    </a:lnTo>
                    <a:lnTo>
                      <a:pt x="2179" y="23"/>
                    </a:lnTo>
                    <a:lnTo>
                      <a:pt x="2190" y="23"/>
                    </a:lnTo>
                    <a:lnTo>
                      <a:pt x="2196" y="17"/>
                    </a:lnTo>
                    <a:lnTo>
                      <a:pt x="2208" y="17"/>
                    </a:lnTo>
                    <a:lnTo>
                      <a:pt x="2213" y="17"/>
                    </a:lnTo>
                    <a:lnTo>
                      <a:pt x="2219" y="17"/>
                    </a:lnTo>
                    <a:lnTo>
                      <a:pt x="2231" y="17"/>
                    </a:lnTo>
                    <a:lnTo>
                      <a:pt x="2236" y="17"/>
                    </a:lnTo>
                    <a:lnTo>
                      <a:pt x="2248" y="17"/>
                    </a:lnTo>
                    <a:lnTo>
                      <a:pt x="2254" y="17"/>
                    </a:lnTo>
                    <a:lnTo>
                      <a:pt x="2265" y="10"/>
                    </a:lnTo>
                    <a:lnTo>
                      <a:pt x="2271" y="10"/>
                    </a:lnTo>
                    <a:lnTo>
                      <a:pt x="2283" y="10"/>
                    </a:lnTo>
                    <a:lnTo>
                      <a:pt x="2288" y="10"/>
                    </a:lnTo>
                    <a:lnTo>
                      <a:pt x="2294" y="10"/>
                    </a:lnTo>
                    <a:lnTo>
                      <a:pt x="2307" y="10"/>
                    </a:lnTo>
                    <a:lnTo>
                      <a:pt x="2313" y="10"/>
                    </a:lnTo>
                    <a:lnTo>
                      <a:pt x="2324" y="10"/>
                    </a:lnTo>
                    <a:lnTo>
                      <a:pt x="2330" y="10"/>
                    </a:lnTo>
                    <a:lnTo>
                      <a:pt x="2342" y="6"/>
                    </a:lnTo>
                    <a:lnTo>
                      <a:pt x="2347" y="6"/>
                    </a:lnTo>
                    <a:lnTo>
                      <a:pt x="2359" y="6"/>
                    </a:lnTo>
                    <a:lnTo>
                      <a:pt x="2365" y="6"/>
                    </a:lnTo>
                    <a:lnTo>
                      <a:pt x="2370" y="6"/>
                    </a:lnTo>
                    <a:lnTo>
                      <a:pt x="2382" y="6"/>
                    </a:lnTo>
                    <a:lnTo>
                      <a:pt x="2388" y="6"/>
                    </a:lnTo>
                    <a:lnTo>
                      <a:pt x="2399" y="6"/>
                    </a:lnTo>
                    <a:lnTo>
                      <a:pt x="2405" y="6"/>
                    </a:lnTo>
                    <a:lnTo>
                      <a:pt x="2417" y="6"/>
                    </a:lnTo>
                    <a:lnTo>
                      <a:pt x="2422" y="6"/>
                    </a:lnTo>
                    <a:lnTo>
                      <a:pt x="2434" y="0"/>
                    </a:lnTo>
                    <a:lnTo>
                      <a:pt x="2440" y="0"/>
                    </a:lnTo>
                    <a:lnTo>
                      <a:pt x="2446" y="0"/>
                    </a:lnTo>
                    <a:lnTo>
                      <a:pt x="2457" y="0"/>
                    </a:lnTo>
                    <a:lnTo>
                      <a:pt x="2463" y="0"/>
                    </a:lnTo>
                    <a:lnTo>
                      <a:pt x="2475" y="0"/>
                    </a:lnTo>
                    <a:lnTo>
                      <a:pt x="2480" y="0"/>
                    </a:lnTo>
                    <a:lnTo>
                      <a:pt x="2492" y="0"/>
                    </a:lnTo>
                    <a:lnTo>
                      <a:pt x="2498" y="0"/>
                    </a:lnTo>
                    <a:lnTo>
                      <a:pt x="2509" y="0"/>
                    </a:lnTo>
                    <a:lnTo>
                      <a:pt x="2516" y="0"/>
                    </a:lnTo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573360" y="3197160"/>
                <a:ext cx="393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V="1">
                <a:off x="1587600" y="4951080"/>
                <a:ext cx="0" cy="36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309680" y="5006880"/>
                <a:ext cx="625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-1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973160" y="5006880"/>
                <a:ext cx="625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-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684160" y="5006880"/>
                <a:ext cx="456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527280" y="5006880"/>
                <a:ext cx="354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084560" y="5006880"/>
                <a:ext cx="354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694400" y="5006880"/>
                <a:ext cx="523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202720" y="5006880"/>
                <a:ext cx="605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9" name=""/>
                <p:cNvSpPr txBox="1"/>
                <p:nvPr/>
              </p:nvSpPr>
              <p:spPr>
                <a:xfrm>
                  <a:off x="4829040" y="3828960"/>
                  <a:ext cx="24987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arctan</m:t>
                      </m:r>
                      <m:f>
                        <m:num>
                          <m:r>
                            <m:t xml:space="preserve">Ω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687A-5C99-49C4-8BF1-75E7F358F88E}" type="slidenum">
              <a:t>48</a:t>
            </a:fld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0" fill="hold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0" fill="hold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"/>
          <p:cNvGrpSpPr/>
          <p:nvPr/>
        </p:nvGrpSpPr>
        <p:grpSpPr>
          <a:xfrm>
            <a:off x="934920" y="-1080"/>
            <a:ext cx="3599640" cy="3987720"/>
            <a:chOff x="934920" y="-1080"/>
            <a:chExt cx="3599640" cy="3987720"/>
          </a:xfrm>
        </p:grpSpPr>
        <p:sp>
          <p:nvSpPr>
            <p:cNvPr id="1201" name=""/>
            <p:cNvSpPr/>
            <p:nvPr/>
          </p:nvSpPr>
          <p:spPr>
            <a:xfrm rot="16200000">
              <a:off x="4019400" y="2815560"/>
              <a:ext cx="518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1485720" y="3483000"/>
              <a:ext cx="2585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1485720" y="195120"/>
              <a:ext cx="2585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4071960" y="194760"/>
              <a:ext cx="0" cy="3287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1917720" y="194760"/>
              <a:ext cx="0" cy="32878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3639960" y="194760"/>
              <a:ext cx="0" cy="32878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1486080" y="194760"/>
              <a:ext cx="0" cy="3287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2122560" y="194760"/>
              <a:ext cx="0" cy="32878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35160" y="2836800"/>
              <a:ext cx="290520" cy="631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486080" y="195120"/>
              <a:ext cx="2587320" cy="3289320"/>
            </a:xfrm>
            <a:custGeom>
              <a:avLst/>
              <a:gdLst/>
              <a:ahLst/>
              <a:rect l="l" t="t" r="r" b="b"/>
              <a:pathLst>
                <a:path w="1630" h="2072">
                  <a:moveTo>
                    <a:pt x="1629" y="2071"/>
                  </a:moveTo>
                  <a:lnTo>
                    <a:pt x="0" y="207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486080" y="195120"/>
              <a:ext cx="2587320" cy="3289320"/>
            </a:xfrm>
            <a:custGeom>
              <a:avLst/>
              <a:gdLst/>
              <a:ahLst/>
              <a:rect l="l" t="t" r="r" b="b"/>
              <a:pathLst>
                <a:path w="1630" h="2072">
                  <a:moveTo>
                    <a:pt x="1629" y="2071"/>
                  </a:moveTo>
                  <a:lnTo>
                    <a:pt x="0" y="207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486080" y="195120"/>
              <a:ext cx="2587320" cy="3289320"/>
            </a:xfrm>
            <a:custGeom>
              <a:avLst/>
              <a:gdLst/>
              <a:ahLst/>
              <a:rect l="l" t="t" r="r" b="b"/>
              <a:pathLst>
                <a:path w="1630" h="2072">
                  <a:moveTo>
                    <a:pt x="1629" y="2071"/>
                  </a:moveTo>
                  <a:lnTo>
                    <a:pt x="0" y="207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71960" y="194760"/>
              <a:ext cx="0" cy="3287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1486080" y="194760"/>
              <a:ext cx="0" cy="3287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1485720" y="3483000"/>
              <a:ext cx="2585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1485720" y="195120"/>
              <a:ext cx="2585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486080" y="3457080"/>
              <a:ext cx="0" cy="25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4071960" y="169920"/>
              <a:ext cx="0" cy="25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71960" y="194760"/>
              <a:ext cx="0" cy="3287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1485720" y="3483000"/>
              <a:ext cx="2585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4071960" y="3457080"/>
              <a:ext cx="0" cy="25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4041720" y="34830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486080" y="3483000"/>
              <a:ext cx="2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4041720" y="28224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486080" y="2822400"/>
              <a:ext cx="2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4041720" y="216864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86080" y="2168640"/>
              <a:ext cx="2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4041720" y="150804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6200000">
              <a:off x="4025880" y="1832400"/>
              <a:ext cx="508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486080" y="1508040"/>
              <a:ext cx="2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4041720" y="85572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486080" y="855720"/>
              <a:ext cx="2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4041720" y="19512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486080" y="195120"/>
              <a:ext cx="2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4071960" y="345276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071960" y="19512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3639960" y="345276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639960" y="19512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3206880" y="345276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06880" y="19512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2782800" y="345276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782800" y="19512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2351160" y="345276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351160" y="19512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1917720" y="345276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17720" y="19512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1486080" y="345276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486080" y="19512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6200000">
              <a:off x="3347640" y="35089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-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6200000">
              <a:off x="2976120" y="35089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-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6200000">
              <a:off x="2550960" y="35089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-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6200000">
              <a:off x="2120400" y="351036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6200000">
              <a:off x="1800720" y="34851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6200000">
              <a:off x="1297800" y="349956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4071960" y="31320"/>
              <a:ext cx="0" cy="3451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1486080" y="194760"/>
              <a:ext cx="0" cy="3287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934920" y="3483000"/>
              <a:ext cx="3137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1485720" y="195120"/>
              <a:ext cx="2585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4071960" y="3457080"/>
              <a:ext cx="0" cy="25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1486080" y="169920"/>
              <a:ext cx="0" cy="25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917720" y="2227320"/>
              <a:ext cx="2139840" cy="1257120"/>
            </a:xfrm>
            <a:custGeom>
              <a:avLst/>
              <a:gdLst/>
              <a:ahLst/>
              <a:rect l="l" t="t" r="r" b="b"/>
              <a:pathLst>
                <a:path w="1348" h="792">
                  <a:moveTo>
                    <a:pt x="0" y="791"/>
                  </a:moveTo>
                  <a:lnTo>
                    <a:pt x="0" y="786"/>
                  </a:lnTo>
                  <a:lnTo>
                    <a:pt x="0" y="781"/>
                  </a:lnTo>
                  <a:lnTo>
                    <a:pt x="0" y="776"/>
                  </a:lnTo>
                  <a:lnTo>
                    <a:pt x="5" y="772"/>
                  </a:lnTo>
                  <a:lnTo>
                    <a:pt x="5" y="767"/>
                  </a:lnTo>
                  <a:lnTo>
                    <a:pt x="10" y="762"/>
                  </a:lnTo>
                  <a:lnTo>
                    <a:pt x="10" y="757"/>
                  </a:lnTo>
                  <a:lnTo>
                    <a:pt x="15" y="752"/>
                  </a:lnTo>
                  <a:lnTo>
                    <a:pt x="15" y="748"/>
                  </a:lnTo>
                  <a:lnTo>
                    <a:pt x="19" y="743"/>
                  </a:lnTo>
                  <a:lnTo>
                    <a:pt x="24" y="743"/>
                  </a:lnTo>
                  <a:lnTo>
                    <a:pt x="29" y="738"/>
                  </a:lnTo>
                  <a:lnTo>
                    <a:pt x="29" y="733"/>
                  </a:lnTo>
                  <a:lnTo>
                    <a:pt x="34" y="729"/>
                  </a:lnTo>
                  <a:lnTo>
                    <a:pt x="39" y="724"/>
                  </a:lnTo>
                  <a:lnTo>
                    <a:pt x="43" y="719"/>
                  </a:lnTo>
                  <a:lnTo>
                    <a:pt x="48" y="714"/>
                  </a:lnTo>
                  <a:lnTo>
                    <a:pt x="53" y="709"/>
                  </a:lnTo>
                  <a:lnTo>
                    <a:pt x="58" y="705"/>
                  </a:lnTo>
                  <a:lnTo>
                    <a:pt x="62" y="700"/>
                  </a:lnTo>
                  <a:lnTo>
                    <a:pt x="67" y="695"/>
                  </a:lnTo>
                  <a:lnTo>
                    <a:pt x="72" y="690"/>
                  </a:lnTo>
                  <a:lnTo>
                    <a:pt x="72" y="685"/>
                  </a:lnTo>
                  <a:lnTo>
                    <a:pt x="77" y="681"/>
                  </a:lnTo>
                  <a:lnTo>
                    <a:pt x="82" y="681"/>
                  </a:lnTo>
                  <a:lnTo>
                    <a:pt x="86" y="676"/>
                  </a:lnTo>
                  <a:lnTo>
                    <a:pt x="86" y="671"/>
                  </a:lnTo>
                  <a:lnTo>
                    <a:pt x="91" y="666"/>
                  </a:lnTo>
                  <a:lnTo>
                    <a:pt x="96" y="662"/>
                  </a:lnTo>
                  <a:lnTo>
                    <a:pt x="101" y="657"/>
                  </a:lnTo>
                  <a:lnTo>
                    <a:pt x="101" y="652"/>
                  </a:lnTo>
                  <a:lnTo>
                    <a:pt x="105" y="652"/>
                  </a:lnTo>
                  <a:lnTo>
                    <a:pt x="105" y="647"/>
                  </a:lnTo>
                  <a:lnTo>
                    <a:pt x="110" y="642"/>
                  </a:lnTo>
                  <a:lnTo>
                    <a:pt x="115" y="638"/>
                  </a:lnTo>
                  <a:lnTo>
                    <a:pt x="115" y="633"/>
                  </a:lnTo>
                  <a:lnTo>
                    <a:pt x="120" y="628"/>
                  </a:lnTo>
                  <a:lnTo>
                    <a:pt x="120" y="623"/>
                  </a:lnTo>
                  <a:lnTo>
                    <a:pt x="120" y="619"/>
                  </a:lnTo>
                  <a:lnTo>
                    <a:pt x="124" y="619"/>
                  </a:lnTo>
                  <a:lnTo>
                    <a:pt x="124" y="614"/>
                  </a:lnTo>
                  <a:lnTo>
                    <a:pt x="129" y="609"/>
                  </a:lnTo>
                  <a:lnTo>
                    <a:pt x="129" y="604"/>
                  </a:lnTo>
                  <a:lnTo>
                    <a:pt x="129" y="599"/>
                  </a:lnTo>
                  <a:lnTo>
                    <a:pt x="129" y="595"/>
                  </a:lnTo>
                  <a:lnTo>
                    <a:pt x="134" y="590"/>
                  </a:lnTo>
                  <a:lnTo>
                    <a:pt x="134" y="585"/>
                  </a:lnTo>
                  <a:lnTo>
                    <a:pt x="134" y="580"/>
                  </a:lnTo>
                  <a:lnTo>
                    <a:pt x="134" y="575"/>
                  </a:lnTo>
                  <a:lnTo>
                    <a:pt x="134" y="571"/>
                  </a:lnTo>
                  <a:lnTo>
                    <a:pt x="134" y="566"/>
                  </a:lnTo>
                  <a:lnTo>
                    <a:pt x="134" y="561"/>
                  </a:lnTo>
                  <a:lnTo>
                    <a:pt x="134" y="556"/>
                  </a:lnTo>
                  <a:lnTo>
                    <a:pt x="134" y="552"/>
                  </a:lnTo>
                  <a:lnTo>
                    <a:pt x="134" y="547"/>
                  </a:lnTo>
                  <a:lnTo>
                    <a:pt x="129" y="542"/>
                  </a:lnTo>
                  <a:lnTo>
                    <a:pt x="129" y="537"/>
                  </a:lnTo>
                  <a:lnTo>
                    <a:pt x="129" y="532"/>
                  </a:lnTo>
                  <a:lnTo>
                    <a:pt x="124" y="528"/>
                  </a:lnTo>
                  <a:lnTo>
                    <a:pt x="120" y="523"/>
                  </a:lnTo>
                  <a:lnTo>
                    <a:pt x="120" y="518"/>
                  </a:lnTo>
                  <a:lnTo>
                    <a:pt x="115" y="513"/>
                  </a:lnTo>
                  <a:lnTo>
                    <a:pt x="110" y="509"/>
                  </a:lnTo>
                  <a:lnTo>
                    <a:pt x="110" y="504"/>
                  </a:lnTo>
                  <a:lnTo>
                    <a:pt x="105" y="499"/>
                  </a:lnTo>
                  <a:lnTo>
                    <a:pt x="101" y="499"/>
                  </a:lnTo>
                  <a:lnTo>
                    <a:pt x="96" y="494"/>
                  </a:lnTo>
                  <a:lnTo>
                    <a:pt x="91" y="489"/>
                  </a:lnTo>
                  <a:lnTo>
                    <a:pt x="86" y="485"/>
                  </a:lnTo>
                  <a:lnTo>
                    <a:pt x="82" y="480"/>
                  </a:lnTo>
                  <a:lnTo>
                    <a:pt x="72" y="475"/>
                  </a:lnTo>
                  <a:lnTo>
                    <a:pt x="67" y="470"/>
                  </a:lnTo>
                  <a:lnTo>
                    <a:pt x="62" y="465"/>
                  </a:lnTo>
                  <a:lnTo>
                    <a:pt x="53" y="465"/>
                  </a:lnTo>
                  <a:lnTo>
                    <a:pt x="48" y="461"/>
                  </a:lnTo>
                  <a:lnTo>
                    <a:pt x="39" y="456"/>
                  </a:lnTo>
                  <a:lnTo>
                    <a:pt x="34" y="451"/>
                  </a:lnTo>
                  <a:lnTo>
                    <a:pt x="24" y="446"/>
                  </a:lnTo>
                  <a:lnTo>
                    <a:pt x="19" y="442"/>
                  </a:lnTo>
                  <a:lnTo>
                    <a:pt x="10" y="437"/>
                  </a:lnTo>
                  <a:lnTo>
                    <a:pt x="5" y="437"/>
                  </a:lnTo>
                  <a:lnTo>
                    <a:pt x="0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8"/>
                  </a:lnTo>
                  <a:lnTo>
                    <a:pt x="5" y="413"/>
                  </a:lnTo>
                  <a:lnTo>
                    <a:pt x="15" y="408"/>
                  </a:lnTo>
                  <a:lnTo>
                    <a:pt x="24" y="403"/>
                  </a:lnTo>
                  <a:lnTo>
                    <a:pt x="39" y="403"/>
                  </a:lnTo>
                  <a:lnTo>
                    <a:pt x="53" y="399"/>
                  </a:lnTo>
                  <a:lnTo>
                    <a:pt x="67" y="394"/>
                  </a:lnTo>
                  <a:lnTo>
                    <a:pt x="82" y="389"/>
                  </a:lnTo>
                  <a:lnTo>
                    <a:pt x="101" y="384"/>
                  </a:lnTo>
                  <a:lnTo>
                    <a:pt x="120" y="379"/>
                  </a:lnTo>
                  <a:lnTo>
                    <a:pt x="134" y="375"/>
                  </a:lnTo>
                  <a:lnTo>
                    <a:pt x="153" y="375"/>
                  </a:lnTo>
                  <a:lnTo>
                    <a:pt x="172" y="370"/>
                  </a:lnTo>
                  <a:lnTo>
                    <a:pt x="187" y="365"/>
                  </a:lnTo>
                  <a:lnTo>
                    <a:pt x="206" y="360"/>
                  </a:lnTo>
                  <a:lnTo>
                    <a:pt x="220" y="356"/>
                  </a:lnTo>
                  <a:lnTo>
                    <a:pt x="239" y="351"/>
                  </a:lnTo>
                  <a:lnTo>
                    <a:pt x="253" y="346"/>
                  </a:lnTo>
                  <a:lnTo>
                    <a:pt x="268" y="341"/>
                  </a:lnTo>
                  <a:lnTo>
                    <a:pt x="287" y="341"/>
                  </a:lnTo>
                  <a:lnTo>
                    <a:pt x="301" y="336"/>
                  </a:lnTo>
                  <a:lnTo>
                    <a:pt x="316" y="332"/>
                  </a:lnTo>
                  <a:lnTo>
                    <a:pt x="330" y="327"/>
                  </a:lnTo>
                  <a:lnTo>
                    <a:pt x="344" y="322"/>
                  </a:lnTo>
                  <a:lnTo>
                    <a:pt x="359" y="317"/>
                  </a:lnTo>
                  <a:lnTo>
                    <a:pt x="373" y="312"/>
                  </a:lnTo>
                  <a:lnTo>
                    <a:pt x="382" y="312"/>
                  </a:lnTo>
                  <a:lnTo>
                    <a:pt x="397" y="308"/>
                  </a:lnTo>
                  <a:lnTo>
                    <a:pt x="411" y="303"/>
                  </a:lnTo>
                  <a:lnTo>
                    <a:pt x="425" y="298"/>
                  </a:lnTo>
                  <a:lnTo>
                    <a:pt x="435" y="293"/>
                  </a:lnTo>
                  <a:lnTo>
                    <a:pt x="449" y="289"/>
                  </a:lnTo>
                  <a:lnTo>
                    <a:pt x="459" y="284"/>
                  </a:lnTo>
                  <a:lnTo>
                    <a:pt x="473" y="279"/>
                  </a:lnTo>
                  <a:lnTo>
                    <a:pt x="483" y="279"/>
                  </a:lnTo>
                  <a:lnTo>
                    <a:pt x="497" y="274"/>
                  </a:lnTo>
                  <a:lnTo>
                    <a:pt x="507" y="269"/>
                  </a:lnTo>
                  <a:lnTo>
                    <a:pt x="521" y="265"/>
                  </a:lnTo>
                  <a:lnTo>
                    <a:pt x="530" y="260"/>
                  </a:lnTo>
                  <a:lnTo>
                    <a:pt x="540" y="255"/>
                  </a:lnTo>
                  <a:lnTo>
                    <a:pt x="554" y="250"/>
                  </a:lnTo>
                  <a:lnTo>
                    <a:pt x="564" y="250"/>
                  </a:lnTo>
                  <a:lnTo>
                    <a:pt x="573" y="246"/>
                  </a:lnTo>
                  <a:lnTo>
                    <a:pt x="588" y="241"/>
                  </a:lnTo>
                  <a:lnTo>
                    <a:pt x="597" y="236"/>
                  </a:lnTo>
                  <a:lnTo>
                    <a:pt x="607" y="231"/>
                  </a:lnTo>
                  <a:lnTo>
                    <a:pt x="616" y="226"/>
                  </a:lnTo>
                  <a:lnTo>
                    <a:pt x="631" y="222"/>
                  </a:lnTo>
                  <a:lnTo>
                    <a:pt x="640" y="217"/>
                  </a:lnTo>
                  <a:lnTo>
                    <a:pt x="650" y="217"/>
                  </a:lnTo>
                  <a:lnTo>
                    <a:pt x="659" y="212"/>
                  </a:lnTo>
                  <a:lnTo>
                    <a:pt x="669" y="207"/>
                  </a:lnTo>
                  <a:lnTo>
                    <a:pt x="683" y="202"/>
                  </a:lnTo>
                  <a:lnTo>
                    <a:pt x="693" y="198"/>
                  </a:lnTo>
                  <a:lnTo>
                    <a:pt x="702" y="193"/>
                  </a:lnTo>
                  <a:lnTo>
                    <a:pt x="712" y="188"/>
                  </a:lnTo>
                  <a:lnTo>
                    <a:pt x="722" y="188"/>
                  </a:lnTo>
                  <a:lnTo>
                    <a:pt x="731" y="183"/>
                  </a:lnTo>
                  <a:lnTo>
                    <a:pt x="745" y="179"/>
                  </a:lnTo>
                  <a:lnTo>
                    <a:pt x="755" y="174"/>
                  </a:lnTo>
                  <a:lnTo>
                    <a:pt x="764" y="169"/>
                  </a:lnTo>
                  <a:lnTo>
                    <a:pt x="774" y="164"/>
                  </a:lnTo>
                  <a:lnTo>
                    <a:pt x="784" y="159"/>
                  </a:lnTo>
                  <a:lnTo>
                    <a:pt x="793" y="159"/>
                  </a:lnTo>
                  <a:lnTo>
                    <a:pt x="807" y="155"/>
                  </a:lnTo>
                  <a:lnTo>
                    <a:pt x="817" y="150"/>
                  </a:lnTo>
                  <a:lnTo>
                    <a:pt x="827" y="145"/>
                  </a:lnTo>
                  <a:lnTo>
                    <a:pt x="836" y="140"/>
                  </a:lnTo>
                  <a:lnTo>
                    <a:pt x="850" y="136"/>
                  </a:lnTo>
                  <a:lnTo>
                    <a:pt x="860" y="131"/>
                  </a:lnTo>
                  <a:lnTo>
                    <a:pt x="870" y="126"/>
                  </a:lnTo>
                  <a:lnTo>
                    <a:pt x="879" y="126"/>
                  </a:lnTo>
                  <a:lnTo>
                    <a:pt x="893" y="121"/>
                  </a:lnTo>
                  <a:lnTo>
                    <a:pt x="903" y="116"/>
                  </a:lnTo>
                  <a:lnTo>
                    <a:pt x="913" y="112"/>
                  </a:lnTo>
                  <a:lnTo>
                    <a:pt x="927" y="107"/>
                  </a:lnTo>
                  <a:lnTo>
                    <a:pt x="936" y="102"/>
                  </a:lnTo>
                  <a:lnTo>
                    <a:pt x="951" y="97"/>
                  </a:lnTo>
                  <a:lnTo>
                    <a:pt x="960" y="97"/>
                  </a:lnTo>
                  <a:lnTo>
                    <a:pt x="975" y="92"/>
                  </a:lnTo>
                  <a:lnTo>
                    <a:pt x="984" y="88"/>
                  </a:lnTo>
                  <a:lnTo>
                    <a:pt x="999" y="83"/>
                  </a:lnTo>
                  <a:lnTo>
                    <a:pt x="1008" y="78"/>
                  </a:lnTo>
                  <a:lnTo>
                    <a:pt x="1022" y="73"/>
                  </a:lnTo>
                  <a:lnTo>
                    <a:pt x="1037" y="69"/>
                  </a:lnTo>
                  <a:lnTo>
                    <a:pt x="1051" y="64"/>
                  </a:lnTo>
                  <a:lnTo>
                    <a:pt x="1061" y="64"/>
                  </a:lnTo>
                  <a:lnTo>
                    <a:pt x="1075" y="59"/>
                  </a:lnTo>
                  <a:lnTo>
                    <a:pt x="1089" y="54"/>
                  </a:lnTo>
                  <a:lnTo>
                    <a:pt x="1108" y="49"/>
                  </a:lnTo>
                  <a:lnTo>
                    <a:pt x="1123" y="45"/>
                  </a:lnTo>
                  <a:lnTo>
                    <a:pt x="1137" y="40"/>
                  </a:lnTo>
                  <a:lnTo>
                    <a:pt x="1156" y="35"/>
                  </a:lnTo>
                  <a:lnTo>
                    <a:pt x="1170" y="35"/>
                  </a:lnTo>
                  <a:lnTo>
                    <a:pt x="1190" y="30"/>
                  </a:lnTo>
                  <a:lnTo>
                    <a:pt x="1209" y="26"/>
                  </a:lnTo>
                  <a:lnTo>
                    <a:pt x="1228" y="21"/>
                  </a:lnTo>
                  <a:lnTo>
                    <a:pt x="1247" y="16"/>
                  </a:lnTo>
                  <a:lnTo>
                    <a:pt x="1271" y="11"/>
                  </a:lnTo>
                  <a:lnTo>
                    <a:pt x="1295" y="6"/>
                  </a:lnTo>
                  <a:lnTo>
                    <a:pt x="1319" y="2"/>
                  </a:lnTo>
                  <a:lnTo>
                    <a:pt x="1347" y="2"/>
                  </a:lnTo>
                  <a:lnTo>
                    <a:pt x="1344" y="2"/>
                  </a:lnTo>
                  <a:lnTo>
                    <a:pt x="1346" y="0"/>
                  </a:lnTo>
                  <a:lnTo>
                    <a:pt x="1345" y="1"/>
                  </a:lnTo>
                  <a:lnTo>
                    <a:pt x="1344" y="0"/>
                  </a:lnTo>
                  <a:lnTo>
                    <a:pt x="1343" y="1"/>
                  </a:lnTo>
                  <a:lnTo>
                    <a:pt x="1344" y="2"/>
                  </a:lnTo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39960" y="195120"/>
              <a:ext cx="414360" cy="1886040"/>
            </a:xfrm>
            <a:custGeom>
              <a:avLst/>
              <a:gdLst/>
              <a:ahLst/>
              <a:rect l="l" t="t" r="r" b="b"/>
              <a:pathLst>
                <a:path w="261" h="1188">
                  <a:moveTo>
                    <a:pt x="258" y="1186"/>
                  </a:moveTo>
                  <a:lnTo>
                    <a:pt x="259" y="1186"/>
                  </a:lnTo>
                  <a:lnTo>
                    <a:pt x="258" y="1186"/>
                  </a:lnTo>
                  <a:lnTo>
                    <a:pt x="260" y="1186"/>
                  </a:lnTo>
                  <a:lnTo>
                    <a:pt x="260" y="1186"/>
                  </a:lnTo>
                  <a:lnTo>
                    <a:pt x="258" y="1185"/>
                  </a:lnTo>
                  <a:lnTo>
                    <a:pt x="258" y="1185"/>
                  </a:lnTo>
                  <a:lnTo>
                    <a:pt x="259" y="1186"/>
                  </a:lnTo>
                  <a:lnTo>
                    <a:pt x="259" y="1186"/>
                  </a:lnTo>
                  <a:lnTo>
                    <a:pt x="260" y="1187"/>
                  </a:lnTo>
                  <a:lnTo>
                    <a:pt x="257" y="1186"/>
                  </a:lnTo>
                  <a:lnTo>
                    <a:pt x="243" y="1181"/>
                  </a:lnTo>
                  <a:lnTo>
                    <a:pt x="234" y="1176"/>
                  </a:lnTo>
                  <a:lnTo>
                    <a:pt x="219" y="1172"/>
                  </a:lnTo>
                  <a:lnTo>
                    <a:pt x="210" y="1167"/>
                  </a:lnTo>
                  <a:lnTo>
                    <a:pt x="200" y="1162"/>
                  </a:lnTo>
                  <a:lnTo>
                    <a:pt x="191" y="1157"/>
                  </a:lnTo>
                  <a:lnTo>
                    <a:pt x="181" y="1157"/>
                  </a:lnTo>
                  <a:lnTo>
                    <a:pt x="171" y="1153"/>
                  </a:lnTo>
                  <a:lnTo>
                    <a:pt x="167" y="1148"/>
                  </a:lnTo>
                  <a:lnTo>
                    <a:pt x="157" y="1143"/>
                  </a:lnTo>
                  <a:lnTo>
                    <a:pt x="152" y="1138"/>
                  </a:lnTo>
                  <a:lnTo>
                    <a:pt x="148" y="1133"/>
                  </a:lnTo>
                  <a:lnTo>
                    <a:pt x="138" y="1129"/>
                  </a:lnTo>
                  <a:lnTo>
                    <a:pt x="133" y="1129"/>
                  </a:lnTo>
                  <a:lnTo>
                    <a:pt x="128" y="1124"/>
                  </a:lnTo>
                  <a:lnTo>
                    <a:pt x="124" y="1119"/>
                  </a:lnTo>
                  <a:lnTo>
                    <a:pt x="119" y="1114"/>
                  </a:lnTo>
                  <a:lnTo>
                    <a:pt x="114" y="1109"/>
                  </a:lnTo>
                  <a:lnTo>
                    <a:pt x="109" y="1105"/>
                  </a:lnTo>
                  <a:lnTo>
                    <a:pt x="105" y="1100"/>
                  </a:lnTo>
                  <a:lnTo>
                    <a:pt x="100" y="1095"/>
                  </a:lnTo>
                  <a:lnTo>
                    <a:pt x="95" y="1095"/>
                  </a:lnTo>
                  <a:lnTo>
                    <a:pt x="90" y="1090"/>
                  </a:lnTo>
                  <a:lnTo>
                    <a:pt x="90" y="1086"/>
                  </a:lnTo>
                  <a:lnTo>
                    <a:pt x="85" y="1081"/>
                  </a:lnTo>
                  <a:lnTo>
                    <a:pt x="81" y="1076"/>
                  </a:lnTo>
                  <a:lnTo>
                    <a:pt x="81" y="1071"/>
                  </a:lnTo>
                  <a:lnTo>
                    <a:pt x="76" y="1066"/>
                  </a:lnTo>
                  <a:lnTo>
                    <a:pt x="71" y="1066"/>
                  </a:lnTo>
                  <a:lnTo>
                    <a:pt x="71" y="1062"/>
                  </a:lnTo>
                  <a:lnTo>
                    <a:pt x="66" y="1057"/>
                  </a:lnTo>
                  <a:lnTo>
                    <a:pt x="66" y="1052"/>
                  </a:lnTo>
                  <a:lnTo>
                    <a:pt x="62" y="1047"/>
                  </a:lnTo>
                  <a:lnTo>
                    <a:pt x="62" y="1043"/>
                  </a:lnTo>
                  <a:lnTo>
                    <a:pt x="57" y="1038"/>
                  </a:lnTo>
                  <a:lnTo>
                    <a:pt x="57" y="1033"/>
                  </a:lnTo>
                  <a:lnTo>
                    <a:pt x="52" y="1033"/>
                  </a:lnTo>
                  <a:lnTo>
                    <a:pt x="52" y="1028"/>
                  </a:lnTo>
                  <a:lnTo>
                    <a:pt x="47" y="1023"/>
                  </a:lnTo>
                  <a:lnTo>
                    <a:pt x="47" y="1019"/>
                  </a:lnTo>
                  <a:lnTo>
                    <a:pt x="47" y="1014"/>
                  </a:lnTo>
                  <a:lnTo>
                    <a:pt x="42" y="1009"/>
                  </a:lnTo>
                  <a:lnTo>
                    <a:pt x="42" y="1004"/>
                  </a:lnTo>
                  <a:lnTo>
                    <a:pt x="38" y="999"/>
                  </a:lnTo>
                  <a:lnTo>
                    <a:pt x="38" y="995"/>
                  </a:lnTo>
                  <a:lnTo>
                    <a:pt x="38" y="990"/>
                  </a:lnTo>
                  <a:lnTo>
                    <a:pt x="33" y="985"/>
                  </a:lnTo>
                  <a:lnTo>
                    <a:pt x="33" y="980"/>
                  </a:lnTo>
                  <a:lnTo>
                    <a:pt x="33" y="976"/>
                  </a:lnTo>
                  <a:lnTo>
                    <a:pt x="28" y="976"/>
                  </a:lnTo>
                  <a:lnTo>
                    <a:pt x="28" y="971"/>
                  </a:lnTo>
                  <a:lnTo>
                    <a:pt x="28" y="966"/>
                  </a:lnTo>
                  <a:lnTo>
                    <a:pt x="28" y="961"/>
                  </a:lnTo>
                  <a:lnTo>
                    <a:pt x="23" y="956"/>
                  </a:lnTo>
                  <a:lnTo>
                    <a:pt x="23" y="952"/>
                  </a:lnTo>
                  <a:lnTo>
                    <a:pt x="23" y="947"/>
                  </a:lnTo>
                  <a:lnTo>
                    <a:pt x="23" y="942"/>
                  </a:lnTo>
                  <a:lnTo>
                    <a:pt x="19" y="937"/>
                  </a:lnTo>
                  <a:lnTo>
                    <a:pt x="19" y="933"/>
                  </a:lnTo>
                  <a:lnTo>
                    <a:pt x="19" y="928"/>
                  </a:lnTo>
                  <a:lnTo>
                    <a:pt x="19" y="923"/>
                  </a:lnTo>
                  <a:lnTo>
                    <a:pt x="19" y="918"/>
                  </a:lnTo>
                  <a:lnTo>
                    <a:pt x="14" y="913"/>
                  </a:lnTo>
                  <a:lnTo>
                    <a:pt x="14" y="909"/>
                  </a:lnTo>
                  <a:lnTo>
                    <a:pt x="14" y="904"/>
                  </a:lnTo>
                  <a:lnTo>
                    <a:pt x="14" y="899"/>
                  </a:lnTo>
                  <a:lnTo>
                    <a:pt x="14" y="894"/>
                  </a:lnTo>
                  <a:lnTo>
                    <a:pt x="14" y="889"/>
                  </a:lnTo>
                  <a:lnTo>
                    <a:pt x="9" y="885"/>
                  </a:lnTo>
                  <a:lnTo>
                    <a:pt x="9" y="880"/>
                  </a:lnTo>
                  <a:lnTo>
                    <a:pt x="9" y="875"/>
                  </a:lnTo>
                  <a:lnTo>
                    <a:pt x="9" y="870"/>
                  </a:lnTo>
                  <a:lnTo>
                    <a:pt x="9" y="866"/>
                  </a:lnTo>
                  <a:lnTo>
                    <a:pt x="9" y="861"/>
                  </a:lnTo>
                  <a:lnTo>
                    <a:pt x="9" y="856"/>
                  </a:lnTo>
                  <a:lnTo>
                    <a:pt x="9" y="851"/>
                  </a:lnTo>
                  <a:lnTo>
                    <a:pt x="4" y="846"/>
                  </a:lnTo>
                  <a:lnTo>
                    <a:pt x="4" y="842"/>
                  </a:lnTo>
                  <a:lnTo>
                    <a:pt x="4" y="837"/>
                  </a:lnTo>
                  <a:lnTo>
                    <a:pt x="4" y="832"/>
                  </a:lnTo>
                  <a:lnTo>
                    <a:pt x="4" y="827"/>
                  </a:lnTo>
                  <a:lnTo>
                    <a:pt x="4" y="823"/>
                  </a:lnTo>
                  <a:lnTo>
                    <a:pt x="4" y="818"/>
                  </a:lnTo>
                  <a:lnTo>
                    <a:pt x="4" y="813"/>
                  </a:lnTo>
                  <a:lnTo>
                    <a:pt x="4" y="808"/>
                  </a:lnTo>
                  <a:lnTo>
                    <a:pt x="4" y="803"/>
                  </a:lnTo>
                  <a:lnTo>
                    <a:pt x="4" y="799"/>
                  </a:lnTo>
                  <a:lnTo>
                    <a:pt x="4" y="794"/>
                  </a:lnTo>
                  <a:lnTo>
                    <a:pt x="4" y="789"/>
                  </a:lnTo>
                  <a:lnTo>
                    <a:pt x="4" y="784"/>
                  </a:lnTo>
                  <a:lnTo>
                    <a:pt x="4" y="780"/>
                  </a:lnTo>
                  <a:lnTo>
                    <a:pt x="0" y="775"/>
                  </a:lnTo>
                  <a:lnTo>
                    <a:pt x="0" y="770"/>
                  </a:lnTo>
                  <a:lnTo>
                    <a:pt x="0" y="765"/>
                  </a:lnTo>
                  <a:lnTo>
                    <a:pt x="0" y="760"/>
                  </a:lnTo>
                  <a:lnTo>
                    <a:pt x="0" y="756"/>
                  </a:lnTo>
                  <a:lnTo>
                    <a:pt x="0" y="751"/>
                  </a:lnTo>
                  <a:lnTo>
                    <a:pt x="0" y="746"/>
                  </a:lnTo>
                  <a:lnTo>
                    <a:pt x="0" y="741"/>
                  </a:lnTo>
                  <a:lnTo>
                    <a:pt x="0" y="736"/>
                  </a:lnTo>
                  <a:lnTo>
                    <a:pt x="0" y="732"/>
                  </a:lnTo>
                  <a:lnTo>
                    <a:pt x="0" y="727"/>
                  </a:lnTo>
                  <a:lnTo>
                    <a:pt x="0" y="722"/>
                  </a:lnTo>
                  <a:lnTo>
                    <a:pt x="0" y="717"/>
                  </a:lnTo>
                  <a:lnTo>
                    <a:pt x="0" y="713"/>
                  </a:lnTo>
                  <a:lnTo>
                    <a:pt x="0" y="708"/>
                  </a:lnTo>
                  <a:lnTo>
                    <a:pt x="0" y="703"/>
                  </a:lnTo>
                  <a:lnTo>
                    <a:pt x="0" y="698"/>
                  </a:lnTo>
                  <a:lnTo>
                    <a:pt x="0" y="693"/>
                  </a:lnTo>
                  <a:lnTo>
                    <a:pt x="0" y="689"/>
                  </a:lnTo>
                  <a:lnTo>
                    <a:pt x="0" y="684"/>
                  </a:lnTo>
                  <a:lnTo>
                    <a:pt x="0" y="679"/>
                  </a:lnTo>
                  <a:lnTo>
                    <a:pt x="0" y="674"/>
                  </a:lnTo>
                  <a:lnTo>
                    <a:pt x="0" y="670"/>
                  </a:lnTo>
                  <a:lnTo>
                    <a:pt x="0" y="665"/>
                  </a:lnTo>
                  <a:lnTo>
                    <a:pt x="0" y="660"/>
                  </a:lnTo>
                  <a:lnTo>
                    <a:pt x="0" y="655"/>
                  </a:lnTo>
                  <a:lnTo>
                    <a:pt x="0" y="650"/>
                  </a:lnTo>
                  <a:lnTo>
                    <a:pt x="0" y="646"/>
                  </a:lnTo>
                  <a:lnTo>
                    <a:pt x="0" y="641"/>
                  </a:lnTo>
                  <a:lnTo>
                    <a:pt x="0" y="636"/>
                  </a:lnTo>
                  <a:lnTo>
                    <a:pt x="0" y="631"/>
                  </a:lnTo>
                  <a:lnTo>
                    <a:pt x="0" y="626"/>
                  </a:lnTo>
                  <a:lnTo>
                    <a:pt x="0" y="622"/>
                  </a:lnTo>
                  <a:lnTo>
                    <a:pt x="0" y="617"/>
                  </a:lnTo>
                  <a:lnTo>
                    <a:pt x="0" y="612"/>
                  </a:lnTo>
                  <a:lnTo>
                    <a:pt x="0" y="607"/>
                  </a:lnTo>
                  <a:lnTo>
                    <a:pt x="0" y="603"/>
                  </a:lnTo>
                  <a:lnTo>
                    <a:pt x="4" y="603"/>
                  </a:lnTo>
                  <a:lnTo>
                    <a:pt x="4" y="598"/>
                  </a:lnTo>
                  <a:lnTo>
                    <a:pt x="4" y="593"/>
                  </a:lnTo>
                  <a:lnTo>
                    <a:pt x="4" y="588"/>
                  </a:lnTo>
                  <a:lnTo>
                    <a:pt x="4" y="583"/>
                  </a:lnTo>
                  <a:lnTo>
                    <a:pt x="4" y="579"/>
                  </a:lnTo>
                  <a:lnTo>
                    <a:pt x="4" y="574"/>
                  </a:lnTo>
                  <a:lnTo>
                    <a:pt x="4" y="569"/>
                  </a:lnTo>
                  <a:lnTo>
                    <a:pt x="4" y="564"/>
                  </a:lnTo>
                  <a:lnTo>
                    <a:pt x="4" y="560"/>
                  </a:lnTo>
                  <a:lnTo>
                    <a:pt x="4" y="555"/>
                  </a:lnTo>
                  <a:lnTo>
                    <a:pt x="4" y="550"/>
                  </a:lnTo>
                  <a:lnTo>
                    <a:pt x="4" y="545"/>
                  </a:lnTo>
                  <a:lnTo>
                    <a:pt x="4" y="540"/>
                  </a:lnTo>
                  <a:lnTo>
                    <a:pt x="4" y="536"/>
                  </a:lnTo>
                  <a:lnTo>
                    <a:pt x="4" y="531"/>
                  </a:lnTo>
                  <a:lnTo>
                    <a:pt x="4" y="526"/>
                  </a:lnTo>
                  <a:lnTo>
                    <a:pt x="4" y="521"/>
                  </a:lnTo>
                  <a:lnTo>
                    <a:pt x="4" y="516"/>
                  </a:lnTo>
                  <a:lnTo>
                    <a:pt x="4" y="512"/>
                  </a:lnTo>
                  <a:lnTo>
                    <a:pt x="4" y="507"/>
                  </a:lnTo>
                  <a:lnTo>
                    <a:pt x="4" y="502"/>
                  </a:lnTo>
                  <a:lnTo>
                    <a:pt x="4" y="497"/>
                  </a:lnTo>
                  <a:lnTo>
                    <a:pt x="4" y="493"/>
                  </a:lnTo>
                  <a:lnTo>
                    <a:pt x="9" y="488"/>
                  </a:lnTo>
                  <a:lnTo>
                    <a:pt x="9" y="483"/>
                  </a:lnTo>
                  <a:lnTo>
                    <a:pt x="9" y="478"/>
                  </a:lnTo>
                  <a:lnTo>
                    <a:pt x="9" y="473"/>
                  </a:lnTo>
                  <a:lnTo>
                    <a:pt x="9" y="469"/>
                  </a:lnTo>
                  <a:lnTo>
                    <a:pt x="9" y="464"/>
                  </a:lnTo>
                  <a:lnTo>
                    <a:pt x="9" y="459"/>
                  </a:lnTo>
                  <a:lnTo>
                    <a:pt x="9" y="454"/>
                  </a:lnTo>
                  <a:lnTo>
                    <a:pt x="9" y="450"/>
                  </a:lnTo>
                  <a:lnTo>
                    <a:pt x="9" y="445"/>
                  </a:lnTo>
                  <a:lnTo>
                    <a:pt x="9" y="440"/>
                  </a:lnTo>
                  <a:lnTo>
                    <a:pt x="9" y="435"/>
                  </a:lnTo>
                  <a:lnTo>
                    <a:pt x="9" y="430"/>
                  </a:lnTo>
                  <a:lnTo>
                    <a:pt x="9" y="426"/>
                  </a:lnTo>
                  <a:lnTo>
                    <a:pt x="9" y="421"/>
                  </a:lnTo>
                  <a:lnTo>
                    <a:pt x="9" y="416"/>
                  </a:lnTo>
                  <a:lnTo>
                    <a:pt x="9" y="411"/>
                  </a:lnTo>
                  <a:lnTo>
                    <a:pt x="14" y="406"/>
                  </a:lnTo>
                  <a:lnTo>
                    <a:pt x="14" y="402"/>
                  </a:lnTo>
                  <a:lnTo>
                    <a:pt x="14" y="397"/>
                  </a:lnTo>
                  <a:lnTo>
                    <a:pt x="14" y="392"/>
                  </a:lnTo>
                  <a:lnTo>
                    <a:pt x="14" y="387"/>
                  </a:lnTo>
                  <a:lnTo>
                    <a:pt x="14" y="383"/>
                  </a:lnTo>
                  <a:lnTo>
                    <a:pt x="14" y="378"/>
                  </a:lnTo>
                  <a:lnTo>
                    <a:pt x="14" y="373"/>
                  </a:lnTo>
                  <a:lnTo>
                    <a:pt x="14" y="368"/>
                  </a:lnTo>
                  <a:lnTo>
                    <a:pt x="14" y="363"/>
                  </a:lnTo>
                  <a:lnTo>
                    <a:pt x="14" y="359"/>
                  </a:lnTo>
                  <a:lnTo>
                    <a:pt x="14" y="354"/>
                  </a:lnTo>
                  <a:lnTo>
                    <a:pt x="14" y="349"/>
                  </a:lnTo>
                  <a:lnTo>
                    <a:pt x="14" y="344"/>
                  </a:lnTo>
                  <a:lnTo>
                    <a:pt x="14" y="340"/>
                  </a:lnTo>
                  <a:lnTo>
                    <a:pt x="14" y="335"/>
                  </a:lnTo>
                  <a:lnTo>
                    <a:pt x="19" y="330"/>
                  </a:lnTo>
                  <a:lnTo>
                    <a:pt x="19" y="325"/>
                  </a:lnTo>
                  <a:lnTo>
                    <a:pt x="19" y="320"/>
                  </a:lnTo>
                  <a:lnTo>
                    <a:pt x="19" y="316"/>
                  </a:lnTo>
                  <a:lnTo>
                    <a:pt x="19" y="311"/>
                  </a:lnTo>
                  <a:lnTo>
                    <a:pt x="19" y="306"/>
                  </a:lnTo>
                  <a:lnTo>
                    <a:pt x="19" y="301"/>
                  </a:lnTo>
                  <a:lnTo>
                    <a:pt x="19" y="297"/>
                  </a:lnTo>
                  <a:lnTo>
                    <a:pt x="19" y="292"/>
                  </a:lnTo>
                  <a:lnTo>
                    <a:pt x="19" y="287"/>
                  </a:lnTo>
                  <a:lnTo>
                    <a:pt x="19" y="282"/>
                  </a:lnTo>
                  <a:lnTo>
                    <a:pt x="19" y="277"/>
                  </a:lnTo>
                  <a:lnTo>
                    <a:pt x="19" y="273"/>
                  </a:lnTo>
                  <a:lnTo>
                    <a:pt x="19" y="268"/>
                  </a:lnTo>
                  <a:lnTo>
                    <a:pt x="23" y="263"/>
                  </a:lnTo>
                  <a:lnTo>
                    <a:pt x="23" y="258"/>
                  </a:lnTo>
                  <a:lnTo>
                    <a:pt x="23" y="253"/>
                  </a:lnTo>
                  <a:lnTo>
                    <a:pt x="23" y="249"/>
                  </a:lnTo>
                  <a:lnTo>
                    <a:pt x="23" y="244"/>
                  </a:lnTo>
                  <a:lnTo>
                    <a:pt x="23" y="239"/>
                  </a:lnTo>
                  <a:lnTo>
                    <a:pt x="23" y="234"/>
                  </a:lnTo>
                  <a:lnTo>
                    <a:pt x="23" y="230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5"/>
                  </a:lnTo>
                  <a:lnTo>
                    <a:pt x="23" y="210"/>
                  </a:lnTo>
                  <a:lnTo>
                    <a:pt x="23" y="206"/>
                  </a:lnTo>
                  <a:lnTo>
                    <a:pt x="23" y="201"/>
                  </a:lnTo>
                  <a:lnTo>
                    <a:pt x="28" y="201"/>
                  </a:lnTo>
                  <a:lnTo>
                    <a:pt x="28" y="196"/>
                  </a:lnTo>
                  <a:lnTo>
                    <a:pt x="28" y="191"/>
                  </a:lnTo>
                  <a:lnTo>
                    <a:pt x="28" y="187"/>
                  </a:lnTo>
                  <a:lnTo>
                    <a:pt x="28" y="182"/>
                  </a:lnTo>
                  <a:lnTo>
                    <a:pt x="28" y="177"/>
                  </a:lnTo>
                  <a:lnTo>
                    <a:pt x="28" y="172"/>
                  </a:lnTo>
                  <a:lnTo>
                    <a:pt x="28" y="167"/>
                  </a:lnTo>
                  <a:lnTo>
                    <a:pt x="28" y="163"/>
                  </a:lnTo>
                  <a:lnTo>
                    <a:pt x="28" y="158"/>
                  </a:lnTo>
                  <a:lnTo>
                    <a:pt x="28" y="153"/>
                  </a:lnTo>
                  <a:lnTo>
                    <a:pt x="28" y="148"/>
                  </a:lnTo>
                  <a:lnTo>
                    <a:pt x="28" y="143"/>
                  </a:lnTo>
                  <a:lnTo>
                    <a:pt x="28" y="139"/>
                  </a:lnTo>
                  <a:lnTo>
                    <a:pt x="33" y="139"/>
                  </a:lnTo>
                  <a:lnTo>
                    <a:pt x="33" y="134"/>
                  </a:lnTo>
                  <a:lnTo>
                    <a:pt x="33" y="129"/>
                  </a:lnTo>
                  <a:lnTo>
                    <a:pt x="33" y="124"/>
                  </a:lnTo>
                  <a:lnTo>
                    <a:pt x="33" y="120"/>
                  </a:lnTo>
                  <a:lnTo>
                    <a:pt x="33" y="115"/>
                  </a:lnTo>
                  <a:lnTo>
                    <a:pt x="33" y="110"/>
                  </a:lnTo>
                  <a:lnTo>
                    <a:pt x="33" y="105"/>
                  </a:lnTo>
                  <a:lnTo>
                    <a:pt x="33" y="100"/>
                  </a:lnTo>
                  <a:lnTo>
                    <a:pt x="33" y="96"/>
                  </a:lnTo>
                  <a:lnTo>
                    <a:pt x="33" y="91"/>
                  </a:lnTo>
                  <a:lnTo>
                    <a:pt x="33" y="86"/>
                  </a:lnTo>
                  <a:lnTo>
                    <a:pt x="33" y="81"/>
                  </a:lnTo>
                  <a:lnTo>
                    <a:pt x="33" y="77"/>
                  </a:lnTo>
                  <a:lnTo>
                    <a:pt x="38" y="77"/>
                  </a:lnTo>
                  <a:lnTo>
                    <a:pt x="38" y="72"/>
                  </a:lnTo>
                  <a:lnTo>
                    <a:pt x="38" y="67"/>
                  </a:lnTo>
                  <a:lnTo>
                    <a:pt x="38" y="62"/>
                  </a:lnTo>
                  <a:lnTo>
                    <a:pt x="38" y="57"/>
                  </a:lnTo>
                  <a:lnTo>
                    <a:pt x="38" y="53"/>
                  </a:lnTo>
                  <a:lnTo>
                    <a:pt x="38" y="48"/>
                  </a:lnTo>
                  <a:lnTo>
                    <a:pt x="38" y="43"/>
                  </a:lnTo>
                  <a:lnTo>
                    <a:pt x="38" y="38"/>
                  </a:lnTo>
                  <a:lnTo>
                    <a:pt x="38" y="33"/>
                  </a:lnTo>
                  <a:lnTo>
                    <a:pt x="38" y="29"/>
                  </a:lnTo>
                  <a:lnTo>
                    <a:pt x="38" y="24"/>
                  </a:lnTo>
                  <a:lnTo>
                    <a:pt x="38" y="19"/>
                  </a:lnTo>
                  <a:lnTo>
                    <a:pt x="38" y="14"/>
                  </a:lnTo>
                  <a:lnTo>
                    <a:pt x="42" y="14"/>
                  </a:lnTo>
                  <a:lnTo>
                    <a:pt x="42" y="10"/>
                  </a:lnTo>
                  <a:lnTo>
                    <a:pt x="42" y="5"/>
                  </a:lnTo>
                  <a:lnTo>
                    <a:pt x="42" y="0"/>
                  </a:lnTo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635120" y="2835360"/>
              <a:ext cx="270000" cy="633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76440" y="209520"/>
              <a:ext cx="247680" cy="2095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16200000">
              <a:off x="573840" y="2466720"/>
              <a:ext cx="13042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</a:t>
              </a:r>
              <a:r>
                <a:rPr b="0" lang="hr-HR" sz="24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Arial"/>
                </a:rPr>
                <a:t>c</a:t>
              </a:r>
              <a:r>
                <a:rPr b="0" lang="hr-HR" sz="2400" spc="-1" strike="noStrike">
                  <a:solidFill>
                    <a:srgbClr val="ffff00"/>
                  </a:solidFill>
                  <a:latin typeface="Arial"/>
                </a:rPr>
                <a:t>( j</a:t>
              </a: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hr-HR" sz="24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6200000">
              <a:off x="965160" y="3539880"/>
              <a:ext cx="496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00"/>
                  </a:solidFill>
                  <a:latin typeface="Arial"/>
                </a:rPr>
                <a:t>d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16200000">
              <a:off x="4046400" y="-20160"/>
              <a:ext cx="41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1483920" y="2320920"/>
              <a:ext cx="258444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1483920" y="2822400"/>
              <a:ext cx="258444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564440" y="-27000"/>
            <a:ext cx="4184280" cy="3941280"/>
            <a:chOff x="4564440" y="-27000"/>
            <a:chExt cx="4184280" cy="3941280"/>
          </a:xfrm>
        </p:grpSpPr>
        <p:sp>
          <p:nvSpPr>
            <p:cNvPr id="1271" name=""/>
            <p:cNvSpPr/>
            <p:nvPr/>
          </p:nvSpPr>
          <p:spPr>
            <a:xfrm flipV="1">
              <a:off x="4946760" y="189000"/>
              <a:ext cx="0" cy="329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8234280" y="189000"/>
              <a:ext cx="0" cy="329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46760" y="3481560"/>
              <a:ext cx="3287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946760" y="189000"/>
              <a:ext cx="3287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946760" y="189000"/>
              <a:ext cx="3289320" cy="3294000"/>
            </a:xfrm>
            <a:custGeom>
              <a:avLst/>
              <a:gdLst/>
              <a:ahLst/>
              <a:rect l="l" t="t" r="r" b="b"/>
              <a:pathLst>
                <a:path w="2072" h="2075">
                  <a:moveTo>
                    <a:pt x="0" y="2074"/>
                  </a:moveTo>
                  <a:lnTo>
                    <a:pt x="0" y="0"/>
                  </a:lnTo>
                  <a:lnTo>
                    <a:pt x="2071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6760" y="189000"/>
              <a:ext cx="3289320" cy="3294000"/>
            </a:xfrm>
            <a:custGeom>
              <a:avLst/>
              <a:gdLst/>
              <a:ahLst/>
              <a:rect l="l" t="t" r="r" b="b"/>
              <a:pathLst>
                <a:path w="2072" h="2075">
                  <a:moveTo>
                    <a:pt x="0" y="2074"/>
                  </a:moveTo>
                  <a:lnTo>
                    <a:pt x="0" y="0"/>
                  </a:lnTo>
                  <a:lnTo>
                    <a:pt x="2071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189000"/>
              <a:ext cx="3289320" cy="3294000"/>
            </a:xfrm>
            <a:custGeom>
              <a:avLst/>
              <a:gdLst/>
              <a:ahLst/>
              <a:rect l="l" t="t" r="r" b="b"/>
              <a:pathLst>
                <a:path w="2072" h="2075">
                  <a:moveTo>
                    <a:pt x="0" y="2074"/>
                  </a:moveTo>
                  <a:lnTo>
                    <a:pt x="0" y="0"/>
                  </a:lnTo>
                  <a:lnTo>
                    <a:pt x="2071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46760" y="3481560"/>
              <a:ext cx="3287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46760" y="189000"/>
              <a:ext cx="3287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4946760" y="189000"/>
              <a:ext cx="0" cy="329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8234280" y="189000"/>
              <a:ext cx="0" cy="329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46760" y="18900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34280" y="348156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46760" y="3481560"/>
              <a:ext cx="3287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4946760" y="189000"/>
              <a:ext cx="0" cy="329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6760" y="348156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4946760" y="3443400"/>
              <a:ext cx="0" cy="381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46760" y="18900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5607000" y="3443400"/>
              <a:ext cx="0" cy="381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607000" y="18900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6261120" y="3443400"/>
              <a:ext cx="0" cy="381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61120" y="18900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6921360" y="3443400"/>
              <a:ext cx="0" cy="381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921360" y="18900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7574040" y="3443400"/>
              <a:ext cx="0" cy="381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574040" y="18900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8234280" y="3443400"/>
              <a:ext cx="0" cy="381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234280" y="18900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46760" y="3481560"/>
              <a:ext cx="2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8204040" y="348156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46760" y="2825640"/>
              <a:ext cx="2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8204040" y="282564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46760" y="2168640"/>
              <a:ext cx="2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8204040" y="216864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46760" y="1503360"/>
              <a:ext cx="2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8204040" y="150336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946760" y="846000"/>
              <a:ext cx="2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8204040" y="8460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946760" y="189000"/>
              <a:ext cx="2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8204040" y="1890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49040" y="33084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49040" y="28065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649040" y="1996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649040" y="1330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649040" y="676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564440" y="-27000"/>
              <a:ext cx="41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946760" y="3481560"/>
              <a:ext cx="3770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46760" y="189000"/>
              <a:ext cx="3287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4946760" y="39240"/>
              <a:ext cx="0" cy="344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8234280" y="189000"/>
              <a:ext cx="0" cy="329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946760" y="348156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234280" y="18900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946760" y="189000"/>
              <a:ext cx="2879640" cy="3294000"/>
            </a:xfrm>
            <a:custGeom>
              <a:avLst/>
              <a:gdLst/>
              <a:ahLst/>
              <a:rect l="l" t="t" r="r" b="b"/>
              <a:pathLst>
                <a:path w="1814" h="2075">
                  <a:moveTo>
                    <a:pt x="0" y="2074"/>
                  </a:moveTo>
                  <a:lnTo>
                    <a:pt x="15" y="2067"/>
                  </a:lnTo>
                  <a:lnTo>
                    <a:pt x="29" y="2067"/>
                  </a:lnTo>
                  <a:lnTo>
                    <a:pt x="39" y="2061"/>
                  </a:lnTo>
                  <a:lnTo>
                    <a:pt x="53" y="2054"/>
                  </a:lnTo>
                  <a:lnTo>
                    <a:pt x="67" y="2054"/>
                  </a:lnTo>
                  <a:lnTo>
                    <a:pt x="82" y="2049"/>
                  </a:lnTo>
                  <a:lnTo>
                    <a:pt x="91" y="2043"/>
                  </a:lnTo>
                  <a:lnTo>
                    <a:pt x="106" y="2043"/>
                  </a:lnTo>
                  <a:lnTo>
                    <a:pt x="120" y="2037"/>
                  </a:lnTo>
                  <a:lnTo>
                    <a:pt x="129" y="2030"/>
                  </a:lnTo>
                  <a:lnTo>
                    <a:pt x="144" y="2025"/>
                  </a:lnTo>
                  <a:lnTo>
                    <a:pt x="158" y="2025"/>
                  </a:lnTo>
                  <a:lnTo>
                    <a:pt x="172" y="2019"/>
                  </a:lnTo>
                  <a:lnTo>
                    <a:pt x="182" y="2012"/>
                  </a:lnTo>
                  <a:lnTo>
                    <a:pt x="196" y="2012"/>
                  </a:lnTo>
                  <a:lnTo>
                    <a:pt x="211" y="2006"/>
                  </a:lnTo>
                  <a:lnTo>
                    <a:pt x="220" y="2000"/>
                  </a:lnTo>
                  <a:lnTo>
                    <a:pt x="235" y="2000"/>
                  </a:lnTo>
                  <a:lnTo>
                    <a:pt x="249" y="1995"/>
                  </a:lnTo>
                  <a:lnTo>
                    <a:pt x="259" y="1988"/>
                  </a:lnTo>
                  <a:lnTo>
                    <a:pt x="273" y="1988"/>
                  </a:lnTo>
                  <a:lnTo>
                    <a:pt x="287" y="1982"/>
                  </a:lnTo>
                  <a:lnTo>
                    <a:pt x="297" y="1975"/>
                  </a:lnTo>
                  <a:lnTo>
                    <a:pt x="311" y="1975"/>
                  </a:lnTo>
                  <a:lnTo>
                    <a:pt x="326" y="1970"/>
                  </a:lnTo>
                  <a:lnTo>
                    <a:pt x="335" y="1964"/>
                  </a:lnTo>
                  <a:lnTo>
                    <a:pt x="349" y="1964"/>
                  </a:lnTo>
                  <a:lnTo>
                    <a:pt x="359" y="1958"/>
                  </a:lnTo>
                  <a:lnTo>
                    <a:pt x="373" y="1951"/>
                  </a:lnTo>
                  <a:lnTo>
                    <a:pt x="383" y="1951"/>
                  </a:lnTo>
                  <a:lnTo>
                    <a:pt x="397" y="1945"/>
                  </a:lnTo>
                  <a:lnTo>
                    <a:pt x="407" y="1940"/>
                  </a:lnTo>
                  <a:lnTo>
                    <a:pt x="421" y="1933"/>
                  </a:lnTo>
                  <a:lnTo>
                    <a:pt x="431" y="1933"/>
                  </a:lnTo>
                  <a:lnTo>
                    <a:pt x="445" y="1927"/>
                  </a:lnTo>
                  <a:lnTo>
                    <a:pt x="455" y="1921"/>
                  </a:lnTo>
                  <a:lnTo>
                    <a:pt x="469" y="1921"/>
                  </a:lnTo>
                  <a:lnTo>
                    <a:pt x="479" y="1916"/>
                  </a:lnTo>
                  <a:lnTo>
                    <a:pt x="493" y="1909"/>
                  </a:lnTo>
                  <a:lnTo>
                    <a:pt x="502" y="1909"/>
                  </a:lnTo>
                  <a:lnTo>
                    <a:pt x="512" y="1903"/>
                  </a:lnTo>
                  <a:lnTo>
                    <a:pt x="526" y="1897"/>
                  </a:lnTo>
                  <a:lnTo>
                    <a:pt x="536" y="1897"/>
                  </a:lnTo>
                  <a:lnTo>
                    <a:pt x="545" y="1890"/>
                  </a:lnTo>
                  <a:lnTo>
                    <a:pt x="560" y="1885"/>
                  </a:lnTo>
                  <a:lnTo>
                    <a:pt x="569" y="1885"/>
                  </a:lnTo>
                  <a:lnTo>
                    <a:pt x="579" y="1879"/>
                  </a:lnTo>
                  <a:lnTo>
                    <a:pt x="589" y="1872"/>
                  </a:lnTo>
                  <a:lnTo>
                    <a:pt x="603" y="1872"/>
                  </a:lnTo>
                  <a:lnTo>
                    <a:pt x="612" y="1866"/>
                  </a:lnTo>
                  <a:lnTo>
                    <a:pt x="622" y="1861"/>
                  </a:lnTo>
                  <a:lnTo>
                    <a:pt x="632" y="1861"/>
                  </a:lnTo>
                  <a:lnTo>
                    <a:pt x="641" y="1855"/>
                  </a:lnTo>
                  <a:lnTo>
                    <a:pt x="651" y="1848"/>
                  </a:lnTo>
                  <a:lnTo>
                    <a:pt x="665" y="1842"/>
                  </a:lnTo>
                  <a:lnTo>
                    <a:pt x="675" y="1842"/>
                  </a:lnTo>
                  <a:lnTo>
                    <a:pt x="684" y="1835"/>
                  </a:lnTo>
                  <a:lnTo>
                    <a:pt x="694" y="1830"/>
                  </a:lnTo>
                  <a:lnTo>
                    <a:pt x="703" y="1830"/>
                  </a:lnTo>
                  <a:lnTo>
                    <a:pt x="713" y="1824"/>
                  </a:lnTo>
                  <a:lnTo>
                    <a:pt x="722" y="1818"/>
                  </a:lnTo>
                  <a:lnTo>
                    <a:pt x="732" y="1818"/>
                  </a:lnTo>
                  <a:lnTo>
                    <a:pt x="742" y="1811"/>
                  </a:lnTo>
                  <a:lnTo>
                    <a:pt x="751" y="1806"/>
                  </a:lnTo>
                  <a:lnTo>
                    <a:pt x="761" y="1806"/>
                  </a:lnTo>
                  <a:lnTo>
                    <a:pt x="770" y="1800"/>
                  </a:lnTo>
                  <a:lnTo>
                    <a:pt x="780" y="1793"/>
                  </a:lnTo>
                  <a:lnTo>
                    <a:pt x="789" y="1793"/>
                  </a:lnTo>
                  <a:lnTo>
                    <a:pt x="794" y="1787"/>
                  </a:lnTo>
                  <a:lnTo>
                    <a:pt x="804" y="1781"/>
                  </a:lnTo>
                  <a:lnTo>
                    <a:pt x="813" y="1781"/>
                  </a:lnTo>
                  <a:lnTo>
                    <a:pt x="823" y="1776"/>
                  </a:lnTo>
                  <a:lnTo>
                    <a:pt x="832" y="1769"/>
                  </a:lnTo>
                  <a:lnTo>
                    <a:pt x="842" y="1769"/>
                  </a:lnTo>
                  <a:lnTo>
                    <a:pt x="847" y="1763"/>
                  </a:lnTo>
                  <a:lnTo>
                    <a:pt x="856" y="1756"/>
                  </a:lnTo>
                  <a:lnTo>
                    <a:pt x="866" y="1751"/>
                  </a:lnTo>
                  <a:lnTo>
                    <a:pt x="875" y="1751"/>
                  </a:lnTo>
                  <a:lnTo>
                    <a:pt x="880" y="1745"/>
                  </a:lnTo>
                  <a:lnTo>
                    <a:pt x="890" y="1739"/>
                  </a:lnTo>
                  <a:lnTo>
                    <a:pt x="899" y="1739"/>
                  </a:lnTo>
                  <a:lnTo>
                    <a:pt x="904" y="1732"/>
                  </a:lnTo>
                  <a:lnTo>
                    <a:pt x="914" y="1727"/>
                  </a:lnTo>
                  <a:lnTo>
                    <a:pt x="923" y="1727"/>
                  </a:lnTo>
                  <a:lnTo>
                    <a:pt x="928" y="1721"/>
                  </a:lnTo>
                  <a:lnTo>
                    <a:pt x="938" y="1714"/>
                  </a:lnTo>
                  <a:lnTo>
                    <a:pt x="942" y="1714"/>
                  </a:lnTo>
                  <a:lnTo>
                    <a:pt x="952" y="1708"/>
                  </a:lnTo>
                  <a:lnTo>
                    <a:pt x="957" y="1702"/>
                  </a:lnTo>
                  <a:lnTo>
                    <a:pt x="966" y="1702"/>
                  </a:lnTo>
                  <a:lnTo>
                    <a:pt x="976" y="1697"/>
                  </a:lnTo>
                  <a:lnTo>
                    <a:pt x="981" y="1690"/>
                  </a:lnTo>
                  <a:lnTo>
                    <a:pt x="990" y="1690"/>
                  </a:lnTo>
                  <a:lnTo>
                    <a:pt x="995" y="1684"/>
                  </a:lnTo>
                  <a:lnTo>
                    <a:pt x="1000" y="1678"/>
                  </a:lnTo>
                  <a:lnTo>
                    <a:pt x="1009" y="1678"/>
                  </a:lnTo>
                  <a:lnTo>
                    <a:pt x="1014" y="1672"/>
                  </a:lnTo>
                  <a:lnTo>
                    <a:pt x="1024" y="1666"/>
                  </a:lnTo>
                  <a:lnTo>
                    <a:pt x="1028" y="1660"/>
                  </a:lnTo>
                  <a:lnTo>
                    <a:pt x="1038" y="1660"/>
                  </a:lnTo>
                  <a:lnTo>
                    <a:pt x="1043" y="1653"/>
                  </a:lnTo>
                  <a:lnTo>
                    <a:pt x="1048" y="1647"/>
                  </a:lnTo>
                  <a:lnTo>
                    <a:pt x="1057" y="1647"/>
                  </a:lnTo>
                  <a:lnTo>
                    <a:pt x="1062" y="1642"/>
                  </a:lnTo>
                  <a:lnTo>
                    <a:pt x="1067" y="1636"/>
                  </a:lnTo>
                  <a:lnTo>
                    <a:pt x="1076" y="1636"/>
                  </a:lnTo>
                  <a:lnTo>
                    <a:pt x="1081" y="1629"/>
                  </a:lnTo>
                  <a:lnTo>
                    <a:pt x="1086" y="1623"/>
                  </a:lnTo>
                  <a:lnTo>
                    <a:pt x="1091" y="1623"/>
                  </a:lnTo>
                  <a:lnTo>
                    <a:pt x="1100" y="1618"/>
                  </a:lnTo>
                  <a:lnTo>
                    <a:pt x="1105" y="1611"/>
                  </a:lnTo>
                  <a:lnTo>
                    <a:pt x="1110" y="1611"/>
                  </a:lnTo>
                  <a:lnTo>
                    <a:pt x="1115" y="1605"/>
                  </a:lnTo>
                  <a:lnTo>
                    <a:pt x="1124" y="1599"/>
                  </a:lnTo>
                  <a:lnTo>
                    <a:pt x="1129" y="1599"/>
                  </a:lnTo>
                  <a:lnTo>
                    <a:pt x="1134" y="1592"/>
                  </a:lnTo>
                  <a:lnTo>
                    <a:pt x="1138" y="1587"/>
                  </a:lnTo>
                  <a:lnTo>
                    <a:pt x="1143" y="1587"/>
                  </a:lnTo>
                  <a:lnTo>
                    <a:pt x="1148" y="1581"/>
                  </a:lnTo>
                  <a:lnTo>
                    <a:pt x="1153" y="1574"/>
                  </a:lnTo>
                  <a:lnTo>
                    <a:pt x="1162" y="1568"/>
                  </a:lnTo>
                  <a:lnTo>
                    <a:pt x="1167" y="1568"/>
                  </a:lnTo>
                  <a:lnTo>
                    <a:pt x="1172" y="1563"/>
                  </a:lnTo>
                  <a:lnTo>
                    <a:pt x="1177" y="1557"/>
                  </a:lnTo>
                  <a:lnTo>
                    <a:pt x="1182" y="1557"/>
                  </a:lnTo>
                  <a:lnTo>
                    <a:pt x="1186" y="1550"/>
                  </a:lnTo>
                  <a:lnTo>
                    <a:pt x="1191" y="1544"/>
                  </a:lnTo>
                  <a:lnTo>
                    <a:pt x="1196" y="1544"/>
                  </a:lnTo>
                  <a:lnTo>
                    <a:pt x="1201" y="1537"/>
                  </a:lnTo>
                  <a:lnTo>
                    <a:pt x="1205" y="1532"/>
                  </a:lnTo>
                  <a:lnTo>
                    <a:pt x="1210" y="1532"/>
                  </a:lnTo>
                  <a:lnTo>
                    <a:pt x="1215" y="1526"/>
                  </a:lnTo>
                  <a:lnTo>
                    <a:pt x="1220" y="1520"/>
                  </a:lnTo>
                  <a:lnTo>
                    <a:pt x="1225" y="1520"/>
                  </a:lnTo>
                  <a:lnTo>
                    <a:pt x="1229" y="1513"/>
                  </a:lnTo>
                  <a:lnTo>
                    <a:pt x="1234" y="1508"/>
                  </a:lnTo>
                  <a:lnTo>
                    <a:pt x="1239" y="1508"/>
                  </a:lnTo>
                  <a:lnTo>
                    <a:pt x="1244" y="1502"/>
                  </a:lnTo>
                  <a:lnTo>
                    <a:pt x="1248" y="1495"/>
                  </a:lnTo>
                  <a:lnTo>
                    <a:pt x="1253" y="1495"/>
                  </a:lnTo>
                  <a:lnTo>
                    <a:pt x="1258" y="1489"/>
                  </a:lnTo>
                  <a:lnTo>
                    <a:pt x="1263" y="1483"/>
                  </a:lnTo>
                  <a:lnTo>
                    <a:pt x="1268" y="1478"/>
                  </a:lnTo>
                  <a:lnTo>
                    <a:pt x="1272" y="1478"/>
                  </a:lnTo>
                  <a:lnTo>
                    <a:pt x="1277" y="1471"/>
                  </a:lnTo>
                  <a:lnTo>
                    <a:pt x="1277" y="1465"/>
                  </a:lnTo>
                  <a:lnTo>
                    <a:pt x="1282" y="1465"/>
                  </a:lnTo>
                  <a:lnTo>
                    <a:pt x="1287" y="1459"/>
                  </a:lnTo>
                  <a:lnTo>
                    <a:pt x="1291" y="1453"/>
                  </a:lnTo>
                  <a:lnTo>
                    <a:pt x="1296" y="1453"/>
                  </a:lnTo>
                  <a:lnTo>
                    <a:pt x="1301" y="1447"/>
                  </a:lnTo>
                  <a:lnTo>
                    <a:pt x="1306" y="1441"/>
                  </a:lnTo>
                  <a:lnTo>
                    <a:pt x="1311" y="1434"/>
                  </a:lnTo>
                  <a:lnTo>
                    <a:pt x="1315" y="1428"/>
                  </a:lnTo>
                  <a:lnTo>
                    <a:pt x="1320" y="1428"/>
                  </a:lnTo>
                  <a:lnTo>
                    <a:pt x="1325" y="1423"/>
                  </a:lnTo>
                  <a:lnTo>
                    <a:pt x="1325" y="1417"/>
                  </a:lnTo>
                  <a:lnTo>
                    <a:pt x="1330" y="1417"/>
                  </a:lnTo>
                  <a:lnTo>
                    <a:pt x="1335" y="1410"/>
                  </a:lnTo>
                  <a:lnTo>
                    <a:pt x="1339" y="1404"/>
                  </a:lnTo>
                  <a:lnTo>
                    <a:pt x="1344" y="1404"/>
                  </a:lnTo>
                  <a:lnTo>
                    <a:pt x="1344" y="1399"/>
                  </a:lnTo>
                  <a:lnTo>
                    <a:pt x="1349" y="1392"/>
                  </a:lnTo>
                  <a:lnTo>
                    <a:pt x="1354" y="1386"/>
                  </a:lnTo>
                  <a:lnTo>
                    <a:pt x="1358" y="1386"/>
                  </a:lnTo>
                  <a:lnTo>
                    <a:pt x="1358" y="1380"/>
                  </a:lnTo>
                  <a:lnTo>
                    <a:pt x="1363" y="1373"/>
                  </a:lnTo>
                  <a:lnTo>
                    <a:pt x="1368" y="1373"/>
                  </a:lnTo>
                  <a:lnTo>
                    <a:pt x="1368" y="1368"/>
                  </a:lnTo>
                  <a:lnTo>
                    <a:pt x="1373" y="1362"/>
                  </a:lnTo>
                  <a:lnTo>
                    <a:pt x="1378" y="1362"/>
                  </a:lnTo>
                  <a:lnTo>
                    <a:pt x="1382" y="1355"/>
                  </a:lnTo>
                  <a:lnTo>
                    <a:pt x="1382" y="1349"/>
                  </a:lnTo>
                  <a:lnTo>
                    <a:pt x="1387" y="1349"/>
                  </a:lnTo>
                  <a:lnTo>
                    <a:pt x="1392" y="1344"/>
                  </a:lnTo>
                  <a:lnTo>
                    <a:pt x="1392" y="1338"/>
                  </a:lnTo>
                  <a:lnTo>
                    <a:pt x="1397" y="1338"/>
                  </a:lnTo>
                  <a:lnTo>
                    <a:pt x="1401" y="1331"/>
                  </a:lnTo>
                  <a:lnTo>
                    <a:pt x="1401" y="1325"/>
                  </a:lnTo>
                  <a:lnTo>
                    <a:pt x="1406" y="1325"/>
                  </a:lnTo>
                  <a:lnTo>
                    <a:pt x="1411" y="1319"/>
                  </a:lnTo>
                  <a:lnTo>
                    <a:pt x="1411" y="1313"/>
                  </a:lnTo>
                  <a:lnTo>
                    <a:pt x="1416" y="1313"/>
                  </a:lnTo>
                  <a:lnTo>
                    <a:pt x="1416" y="1307"/>
                  </a:lnTo>
                  <a:lnTo>
                    <a:pt x="1421" y="1301"/>
                  </a:lnTo>
                  <a:lnTo>
                    <a:pt x="1425" y="1294"/>
                  </a:lnTo>
                  <a:lnTo>
                    <a:pt x="1430" y="1289"/>
                  </a:lnTo>
                  <a:lnTo>
                    <a:pt x="1430" y="1283"/>
                  </a:lnTo>
                  <a:lnTo>
                    <a:pt x="1435" y="1283"/>
                  </a:lnTo>
                  <a:lnTo>
                    <a:pt x="1440" y="1276"/>
                  </a:lnTo>
                  <a:lnTo>
                    <a:pt x="1440" y="1270"/>
                  </a:lnTo>
                  <a:lnTo>
                    <a:pt x="1445" y="1270"/>
                  </a:lnTo>
                  <a:lnTo>
                    <a:pt x="1445" y="1265"/>
                  </a:lnTo>
                  <a:lnTo>
                    <a:pt x="1449" y="1259"/>
                  </a:lnTo>
                  <a:lnTo>
                    <a:pt x="1454" y="1259"/>
                  </a:lnTo>
                  <a:lnTo>
                    <a:pt x="1454" y="1252"/>
                  </a:lnTo>
                  <a:lnTo>
                    <a:pt x="1459" y="1246"/>
                  </a:lnTo>
                  <a:lnTo>
                    <a:pt x="1464" y="1240"/>
                  </a:lnTo>
                  <a:lnTo>
                    <a:pt x="1464" y="1234"/>
                  </a:lnTo>
                  <a:lnTo>
                    <a:pt x="1468" y="1234"/>
                  </a:lnTo>
                  <a:lnTo>
                    <a:pt x="1468" y="1228"/>
                  </a:lnTo>
                  <a:lnTo>
                    <a:pt x="1473" y="1222"/>
                  </a:lnTo>
                  <a:lnTo>
                    <a:pt x="1478" y="1215"/>
                  </a:lnTo>
                  <a:lnTo>
                    <a:pt x="1478" y="1210"/>
                  </a:lnTo>
                  <a:lnTo>
                    <a:pt x="1483" y="1204"/>
                  </a:lnTo>
                  <a:lnTo>
                    <a:pt x="1488" y="1198"/>
                  </a:lnTo>
                  <a:lnTo>
                    <a:pt x="1492" y="1191"/>
                  </a:lnTo>
                  <a:lnTo>
                    <a:pt x="1492" y="1185"/>
                  </a:lnTo>
                  <a:lnTo>
                    <a:pt x="1497" y="1180"/>
                  </a:lnTo>
                  <a:lnTo>
                    <a:pt x="1502" y="1173"/>
                  </a:lnTo>
                  <a:lnTo>
                    <a:pt x="1502" y="1167"/>
                  </a:lnTo>
                  <a:lnTo>
                    <a:pt x="1507" y="1167"/>
                  </a:lnTo>
                  <a:lnTo>
                    <a:pt x="1507" y="1161"/>
                  </a:lnTo>
                  <a:lnTo>
                    <a:pt x="1511" y="1156"/>
                  </a:lnTo>
                  <a:lnTo>
                    <a:pt x="1516" y="1149"/>
                  </a:lnTo>
                  <a:lnTo>
                    <a:pt x="1516" y="1143"/>
                  </a:lnTo>
                  <a:lnTo>
                    <a:pt x="1521" y="1143"/>
                  </a:lnTo>
                  <a:lnTo>
                    <a:pt x="1521" y="1136"/>
                  </a:lnTo>
                  <a:lnTo>
                    <a:pt x="1526" y="1130"/>
                  </a:lnTo>
                  <a:lnTo>
                    <a:pt x="1531" y="1125"/>
                  </a:lnTo>
                  <a:lnTo>
                    <a:pt x="1531" y="1119"/>
                  </a:lnTo>
                  <a:lnTo>
                    <a:pt x="1531" y="1112"/>
                  </a:lnTo>
                  <a:lnTo>
                    <a:pt x="1535" y="1112"/>
                  </a:lnTo>
                  <a:lnTo>
                    <a:pt x="1535" y="1106"/>
                  </a:lnTo>
                  <a:lnTo>
                    <a:pt x="1540" y="1101"/>
                  </a:lnTo>
                  <a:lnTo>
                    <a:pt x="1545" y="1094"/>
                  </a:lnTo>
                  <a:lnTo>
                    <a:pt x="1545" y="1088"/>
                  </a:lnTo>
                  <a:lnTo>
                    <a:pt x="1550" y="1082"/>
                  </a:lnTo>
                  <a:lnTo>
                    <a:pt x="1550" y="1075"/>
                  </a:lnTo>
                  <a:lnTo>
                    <a:pt x="1555" y="1075"/>
                  </a:lnTo>
                  <a:lnTo>
                    <a:pt x="1555" y="1070"/>
                  </a:lnTo>
                  <a:lnTo>
                    <a:pt x="1555" y="1064"/>
                  </a:lnTo>
                  <a:lnTo>
                    <a:pt x="1559" y="1064"/>
                  </a:lnTo>
                  <a:lnTo>
                    <a:pt x="1559" y="1058"/>
                  </a:lnTo>
                  <a:lnTo>
                    <a:pt x="1564" y="1051"/>
                  </a:lnTo>
                  <a:lnTo>
                    <a:pt x="1564" y="1046"/>
                  </a:lnTo>
                  <a:lnTo>
                    <a:pt x="1569" y="1040"/>
                  </a:lnTo>
                  <a:lnTo>
                    <a:pt x="1569" y="1033"/>
                  </a:lnTo>
                  <a:lnTo>
                    <a:pt x="1574" y="1027"/>
                  </a:lnTo>
                  <a:lnTo>
                    <a:pt x="1574" y="1021"/>
                  </a:lnTo>
                  <a:lnTo>
                    <a:pt x="1578" y="1021"/>
                  </a:lnTo>
                  <a:lnTo>
                    <a:pt x="1578" y="1015"/>
                  </a:lnTo>
                  <a:lnTo>
                    <a:pt x="1578" y="1009"/>
                  </a:lnTo>
                  <a:lnTo>
                    <a:pt x="1583" y="1009"/>
                  </a:lnTo>
                  <a:lnTo>
                    <a:pt x="1583" y="1003"/>
                  </a:lnTo>
                  <a:lnTo>
                    <a:pt x="1583" y="996"/>
                  </a:lnTo>
                  <a:lnTo>
                    <a:pt x="1588" y="996"/>
                  </a:lnTo>
                  <a:lnTo>
                    <a:pt x="1588" y="991"/>
                  </a:lnTo>
                  <a:lnTo>
                    <a:pt x="1588" y="985"/>
                  </a:lnTo>
                  <a:lnTo>
                    <a:pt x="1593" y="985"/>
                  </a:lnTo>
                  <a:lnTo>
                    <a:pt x="1593" y="979"/>
                  </a:lnTo>
                  <a:lnTo>
                    <a:pt x="1598" y="972"/>
                  </a:lnTo>
                  <a:lnTo>
                    <a:pt x="1598" y="966"/>
                  </a:lnTo>
                  <a:lnTo>
                    <a:pt x="1602" y="961"/>
                  </a:lnTo>
                  <a:lnTo>
                    <a:pt x="1602" y="954"/>
                  </a:lnTo>
                  <a:lnTo>
                    <a:pt x="1607" y="948"/>
                  </a:lnTo>
                  <a:lnTo>
                    <a:pt x="1607" y="942"/>
                  </a:lnTo>
                  <a:lnTo>
                    <a:pt x="1612" y="937"/>
                  </a:lnTo>
                  <a:lnTo>
                    <a:pt x="1612" y="930"/>
                  </a:lnTo>
                  <a:lnTo>
                    <a:pt x="1612" y="924"/>
                  </a:lnTo>
                  <a:lnTo>
                    <a:pt x="1617" y="917"/>
                  </a:lnTo>
                  <a:lnTo>
                    <a:pt x="1617" y="911"/>
                  </a:lnTo>
                  <a:lnTo>
                    <a:pt x="1621" y="906"/>
                  </a:lnTo>
                  <a:lnTo>
                    <a:pt x="1621" y="900"/>
                  </a:lnTo>
                  <a:lnTo>
                    <a:pt x="1626" y="893"/>
                  </a:lnTo>
                  <a:lnTo>
                    <a:pt x="1626" y="887"/>
                  </a:lnTo>
                  <a:lnTo>
                    <a:pt x="1631" y="882"/>
                  </a:lnTo>
                  <a:lnTo>
                    <a:pt x="1631" y="875"/>
                  </a:lnTo>
                  <a:lnTo>
                    <a:pt x="1631" y="869"/>
                  </a:lnTo>
                  <a:lnTo>
                    <a:pt x="1636" y="869"/>
                  </a:lnTo>
                  <a:lnTo>
                    <a:pt x="1636" y="863"/>
                  </a:lnTo>
                  <a:lnTo>
                    <a:pt x="1636" y="858"/>
                  </a:lnTo>
                  <a:lnTo>
                    <a:pt x="1641" y="851"/>
                  </a:lnTo>
                  <a:lnTo>
                    <a:pt x="1641" y="845"/>
                  </a:lnTo>
                  <a:lnTo>
                    <a:pt x="1641" y="839"/>
                  </a:lnTo>
                  <a:lnTo>
                    <a:pt x="1645" y="839"/>
                  </a:lnTo>
                  <a:lnTo>
                    <a:pt x="1645" y="832"/>
                  </a:lnTo>
                  <a:lnTo>
                    <a:pt x="1645" y="827"/>
                  </a:lnTo>
                  <a:lnTo>
                    <a:pt x="1650" y="827"/>
                  </a:lnTo>
                  <a:lnTo>
                    <a:pt x="1650" y="821"/>
                  </a:lnTo>
                  <a:lnTo>
                    <a:pt x="1650" y="814"/>
                  </a:lnTo>
                  <a:lnTo>
                    <a:pt x="1655" y="808"/>
                  </a:lnTo>
                  <a:lnTo>
                    <a:pt x="1655" y="803"/>
                  </a:lnTo>
                  <a:lnTo>
                    <a:pt x="1655" y="797"/>
                  </a:lnTo>
                  <a:lnTo>
                    <a:pt x="1660" y="790"/>
                  </a:lnTo>
                  <a:lnTo>
                    <a:pt x="1660" y="784"/>
                  </a:lnTo>
                  <a:lnTo>
                    <a:pt x="1665" y="777"/>
                  </a:lnTo>
                  <a:lnTo>
                    <a:pt x="1665" y="772"/>
                  </a:lnTo>
                  <a:lnTo>
                    <a:pt x="1665" y="766"/>
                  </a:lnTo>
                  <a:lnTo>
                    <a:pt x="1669" y="760"/>
                  </a:lnTo>
                  <a:lnTo>
                    <a:pt x="1669" y="753"/>
                  </a:lnTo>
                  <a:lnTo>
                    <a:pt x="1669" y="748"/>
                  </a:lnTo>
                  <a:lnTo>
                    <a:pt x="1674" y="748"/>
                  </a:lnTo>
                  <a:lnTo>
                    <a:pt x="1674" y="742"/>
                  </a:lnTo>
                  <a:lnTo>
                    <a:pt x="1674" y="735"/>
                  </a:lnTo>
                  <a:lnTo>
                    <a:pt x="1674" y="729"/>
                  </a:lnTo>
                  <a:lnTo>
                    <a:pt x="1679" y="723"/>
                  </a:lnTo>
                  <a:lnTo>
                    <a:pt x="1679" y="718"/>
                  </a:lnTo>
                  <a:lnTo>
                    <a:pt x="1679" y="711"/>
                  </a:lnTo>
                  <a:lnTo>
                    <a:pt x="1684" y="711"/>
                  </a:lnTo>
                  <a:lnTo>
                    <a:pt x="1684" y="705"/>
                  </a:lnTo>
                  <a:lnTo>
                    <a:pt x="1684" y="698"/>
                  </a:lnTo>
                  <a:lnTo>
                    <a:pt x="1688" y="693"/>
                  </a:lnTo>
                  <a:lnTo>
                    <a:pt x="1688" y="687"/>
                  </a:lnTo>
                  <a:lnTo>
                    <a:pt x="1688" y="681"/>
                  </a:lnTo>
                  <a:lnTo>
                    <a:pt x="1688" y="674"/>
                  </a:lnTo>
                  <a:lnTo>
                    <a:pt x="1693" y="668"/>
                  </a:lnTo>
                  <a:lnTo>
                    <a:pt x="1693" y="663"/>
                  </a:lnTo>
                  <a:lnTo>
                    <a:pt x="1693" y="656"/>
                  </a:lnTo>
                  <a:lnTo>
                    <a:pt x="1698" y="656"/>
                  </a:lnTo>
                  <a:lnTo>
                    <a:pt x="1698" y="650"/>
                  </a:lnTo>
                  <a:lnTo>
                    <a:pt x="1698" y="644"/>
                  </a:lnTo>
                  <a:lnTo>
                    <a:pt x="1698" y="639"/>
                  </a:lnTo>
                  <a:lnTo>
                    <a:pt x="1703" y="632"/>
                  </a:lnTo>
                  <a:lnTo>
                    <a:pt x="1703" y="626"/>
                  </a:lnTo>
                  <a:lnTo>
                    <a:pt x="1703" y="620"/>
                  </a:lnTo>
                  <a:lnTo>
                    <a:pt x="1708" y="613"/>
                  </a:lnTo>
                  <a:lnTo>
                    <a:pt x="1708" y="608"/>
                  </a:lnTo>
                  <a:lnTo>
                    <a:pt x="1708" y="602"/>
                  </a:lnTo>
                  <a:lnTo>
                    <a:pt x="1712" y="595"/>
                  </a:lnTo>
                  <a:lnTo>
                    <a:pt x="1712" y="589"/>
                  </a:lnTo>
                  <a:lnTo>
                    <a:pt x="1712" y="584"/>
                  </a:lnTo>
                  <a:lnTo>
                    <a:pt x="1712" y="578"/>
                  </a:lnTo>
                  <a:lnTo>
                    <a:pt x="1717" y="578"/>
                  </a:lnTo>
                  <a:lnTo>
                    <a:pt x="1717" y="571"/>
                  </a:lnTo>
                  <a:lnTo>
                    <a:pt x="1717" y="565"/>
                  </a:lnTo>
                  <a:lnTo>
                    <a:pt x="1717" y="558"/>
                  </a:lnTo>
                  <a:lnTo>
                    <a:pt x="1717" y="553"/>
                  </a:lnTo>
                  <a:lnTo>
                    <a:pt x="1722" y="553"/>
                  </a:lnTo>
                  <a:lnTo>
                    <a:pt x="1722" y="547"/>
                  </a:lnTo>
                  <a:lnTo>
                    <a:pt x="1722" y="541"/>
                  </a:lnTo>
                  <a:lnTo>
                    <a:pt x="1722" y="534"/>
                  </a:lnTo>
                  <a:lnTo>
                    <a:pt x="1727" y="529"/>
                  </a:lnTo>
                  <a:lnTo>
                    <a:pt x="1727" y="523"/>
                  </a:lnTo>
                  <a:lnTo>
                    <a:pt x="1727" y="516"/>
                  </a:lnTo>
                  <a:lnTo>
                    <a:pt x="1731" y="510"/>
                  </a:lnTo>
                  <a:lnTo>
                    <a:pt x="1731" y="504"/>
                  </a:lnTo>
                  <a:lnTo>
                    <a:pt x="1731" y="499"/>
                  </a:lnTo>
                  <a:lnTo>
                    <a:pt x="1731" y="492"/>
                  </a:lnTo>
                  <a:lnTo>
                    <a:pt x="1731" y="486"/>
                  </a:lnTo>
                  <a:lnTo>
                    <a:pt x="1736" y="486"/>
                  </a:lnTo>
                  <a:lnTo>
                    <a:pt x="1736" y="479"/>
                  </a:lnTo>
                  <a:lnTo>
                    <a:pt x="1736" y="474"/>
                  </a:lnTo>
                  <a:lnTo>
                    <a:pt x="1736" y="468"/>
                  </a:lnTo>
                  <a:lnTo>
                    <a:pt x="1736" y="462"/>
                  </a:lnTo>
                  <a:lnTo>
                    <a:pt x="1741" y="462"/>
                  </a:lnTo>
                  <a:lnTo>
                    <a:pt x="1741" y="455"/>
                  </a:lnTo>
                  <a:lnTo>
                    <a:pt x="1741" y="450"/>
                  </a:lnTo>
                  <a:lnTo>
                    <a:pt x="1741" y="444"/>
                  </a:lnTo>
                  <a:lnTo>
                    <a:pt x="1741" y="437"/>
                  </a:lnTo>
                  <a:lnTo>
                    <a:pt x="1746" y="437"/>
                  </a:lnTo>
                  <a:lnTo>
                    <a:pt x="1746" y="431"/>
                  </a:lnTo>
                  <a:lnTo>
                    <a:pt x="1746" y="425"/>
                  </a:lnTo>
                  <a:lnTo>
                    <a:pt x="1746" y="420"/>
                  </a:lnTo>
                  <a:lnTo>
                    <a:pt x="1746" y="413"/>
                  </a:lnTo>
                  <a:lnTo>
                    <a:pt x="1751" y="413"/>
                  </a:lnTo>
                  <a:lnTo>
                    <a:pt x="1751" y="407"/>
                  </a:lnTo>
                  <a:lnTo>
                    <a:pt x="1751" y="401"/>
                  </a:lnTo>
                  <a:lnTo>
                    <a:pt x="1751" y="395"/>
                  </a:lnTo>
                  <a:lnTo>
                    <a:pt x="1751" y="389"/>
                  </a:lnTo>
                  <a:lnTo>
                    <a:pt x="1755" y="383"/>
                  </a:lnTo>
                  <a:lnTo>
                    <a:pt x="1755" y="376"/>
                  </a:lnTo>
                  <a:lnTo>
                    <a:pt x="1755" y="370"/>
                  </a:lnTo>
                  <a:lnTo>
                    <a:pt x="1755" y="365"/>
                  </a:lnTo>
                  <a:lnTo>
                    <a:pt x="1760" y="359"/>
                  </a:lnTo>
                  <a:lnTo>
                    <a:pt x="1760" y="352"/>
                  </a:lnTo>
                  <a:lnTo>
                    <a:pt x="1760" y="346"/>
                  </a:lnTo>
                  <a:lnTo>
                    <a:pt x="1760" y="341"/>
                  </a:lnTo>
                  <a:lnTo>
                    <a:pt x="1760" y="334"/>
                  </a:lnTo>
                  <a:lnTo>
                    <a:pt x="1765" y="334"/>
                  </a:lnTo>
                  <a:lnTo>
                    <a:pt x="1765" y="328"/>
                  </a:lnTo>
                  <a:lnTo>
                    <a:pt x="1765" y="322"/>
                  </a:lnTo>
                  <a:lnTo>
                    <a:pt x="1765" y="315"/>
                  </a:lnTo>
                  <a:lnTo>
                    <a:pt x="1765" y="310"/>
                  </a:lnTo>
                  <a:lnTo>
                    <a:pt x="1765" y="304"/>
                  </a:lnTo>
                  <a:lnTo>
                    <a:pt x="1770" y="304"/>
                  </a:lnTo>
                  <a:lnTo>
                    <a:pt x="1770" y="297"/>
                  </a:lnTo>
                  <a:lnTo>
                    <a:pt x="1770" y="291"/>
                  </a:lnTo>
                  <a:lnTo>
                    <a:pt x="1770" y="286"/>
                  </a:lnTo>
                  <a:lnTo>
                    <a:pt x="1770" y="280"/>
                  </a:lnTo>
                  <a:lnTo>
                    <a:pt x="1774" y="273"/>
                  </a:lnTo>
                  <a:lnTo>
                    <a:pt x="1774" y="267"/>
                  </a:lnTo>
                  <a:lnTo>
                    <a:pt x="1774" y="261"/>
                  </a:lnTo>
                  <a:lnTo>
                    <a:pt x="1774" y="255"/>
                  </a:lnTo>
                  <a:lnTo>
                    <a:pt x="1774" y="249"/>
                  </a:lnTo>
                  <a:lnTo>
                    <a:pt x="1779" y="243"/>
                  </a:lnTo>
                  <a:lnTo>
                    <a:pt x="1779" y="236"/>
                  </a:lnTo>
                  <a:lnTo>
                    <a:pt x="1779" y="231"/>
                  </a:lnTo>
                  <a:lnTo>
                    <a:pt x="1779" y="225"/>
                  </a:lnTo>
                  <a:lnTo>
                    <a:pt x="1779" y="218"/>
                  </a:lnTo>
                  <a:lnTo>
                    <a:pt x="1779" y="212"/>
                  </a:lnTo>
                  <a:lnTo>
                    <a:pt x="1784" y="212"/>
                  </a:lnTo>
                  <a:lnTo>
                    <a:pt x="1784" y="206"/>
                  </a:lnTo>
                  <a:lnTo>
                    <a:pt x="1784" y="201"/>
                  </a:lnTo>
                  <a:lnTo>
                    <a:pt x="1784" y="194"/>
                  </a:lnTo>
                  <a:lnTo>
                    <a:pt x="1784" y="188"/>
                  </a:lnTo>
                  <a:lnTo>
                    <a:pt x="1784" y="182"/>
                  </a:lnTo>
                  <a:lnTo>
                    <a:pt x="1789" y="176"/>
                  </a:lnTo>
                  <a:lnTo>
                    <a:pt x="1789" y="170"/>
                  </a:lnTo>
                  <a:lnTo>
                    <a:pt x="1789" y="164"/>
                  </a:lnTo>
                  <a:lnTo>
                    <a:pt x="1789" y="157"/>
                  </a:lnTo>
                  <a:lnTo>
                    <a:pt x="1789" y="151"/>
                  </a:lnTo>
                  <a:lnTo>
                    <a:pt x="1794" y="146"/>
                  </a:lnTo>
                  <a:lnTo>
                    <a:pt x="1794" y="140"/>
                  </a:lnTo>
                  <a:lnTo>
                    <a:pt x="1794" y="133"/>
                  </a:lnTo>
                  <a:lnTo>
                    <a:pt x="1794" y="127"/>
                  </a:lnTo>
                  <a:lnTo>
                    <a:pt x="1794" y="122"/>
                  </a:lnTo>
                  <a:lnTo>
                    <a:pt x="1794" y="115"/>
                  </a:lnTo>
                  <a:lnTo>
                    <a:pt x="1798" y="109"/>
                  </a:lnTo>
                  <a:lnTo>
                    <a:pt x="1798" y="103"/>
                  </a:lnTo>
                  <a:lnTo>
                    <a:pt x="1798" y="96"/>
                  </a:lnTo>
                  <a:lnTo>
                    <a:pt x="1798" y="91"/>
                  </a:lnTo>
                  <a:lnTo>
                    <a:pt x="1798" y="85"/>
                  </a:lnTo>
                  <a:lnTo>
                    <a:pt x="1798" y="78"/>
                  </a:lnTo>
                  <a:lnTo>
                    <a:pt x="1803" y="72"/>
                  </a:lnTo>
                  <a:lnTo>
                    <a:pt x="1803" y="67"/>
                  </a:lnTo>
                  <a:lnTo>
                    <a:pt x="1803" y="61"/>
                  </a:lnTo>
                  <a:lnTo>
                    <a:pt x="1803" y="54"/>
                  </a:lnTo>
                  <a:lnTo>
                    <a:pt x="1803" y="48"/>
                  </a:lnTo>
                  <a:lnTo>
                    <a:pt x="1808" y="42"/>
                  </a:lnTo>
                  <a:lnTo>
                    <a:pt x="1808" y="36"/>
                  </a:lnTo>
                  <a:lnTo>
                    <a:pt x="1808" y="30"/>
                  </a:lnTo>
                  <a:lnTo>
                    <a:pt x="1808" y="24"/>
                  </a:lnTo>
                  <a:lnTo>
                    <a:pt x="1808" y="17"/>
                  </a:lnTo>
                  <a:lnTo>
                    <a:pt x="1808" y="12"/>
                  </a:lnTo>
                  <a:lnTo>
                    <a:pt x="1808" y="6"/>
                  </a:lnTo>
                  <a:lnTo>
                    <a:pt x="1813" y="0"/>
                  </a:lnTo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946760" y="2573280"/>
              <a:ext cx="2879640" cy="909720"/>
            </a:xfrm>
            <a:custGeom>
              <a:avLst/>
              <a:gdLst/>
              <a:ahLst/>
              <a:rect l="l" t="t" r="r" b="b"/>
              <a:pathLst>
                <a:path w="1814" h="573">
                  <a:moveTo>
                    <a:pt x="0" y="572"/>
                  </a:moveTo>
                  <a:lnTo>
                    <a:pt x="15" y="565"/>
                  </a:lnTo>
                  <a:lnTo>
                    <a:pt x="29" y="565"/>
                  </a:lnTo>
                  <a:lnTo>
                    <a:pt x="39" y="559"/>
                  </a:lnTo>
                  <a:lnTo>
                    <a:pt x="53" y="552"/>
                  </a:lnTo>
                  <a:lnTo>
                    <a:pt x="67" y="552"/>
                  </a:lnTo>
                  <a:lnTo>
                    <a:pt x="82" y="547"/>
                  </a:lnTo>
                  <a:lnTo>
                    <a:pt x="91" y="541"/>
                  </a:lnTo>
                  <a:lnTo>
                    <a:pt x="106" y="541"/>
                  </a:lnTo>
                  <a:lnTo>
                    <a:pt x="120" y="535"/>
                  </a:lnTo>
                  <a:lnTo>
                    <a:pt x="129" y="528"/>
                  </a:lnTo>
                  <a:lnTo>
                    <a:pt x="144" y="528"/>
                  </a:lnTo>
                  <a:lnTo>
                    <a:pt x="158" y="523"/>
                  </a:lnTo>
                  <a:lnTo>
                    <a:pt x="172" y="517"/>
                  </a:lnTo>
                  <a:lnTo>
                    <a:pt x="182" y="517"/>
                  </a:lnTo>
                  <a:lnTo>
                    <a:pt x="196" y="510"/>
                  </a:lnTo>
                  <a:lnTo>
                    <a:pt x="211" y="504"/>
                  </a:lnTo>
                  <a:lnTo>
                    <a:pt x="220" y="504"/>
                  </a:lnTo>
                  <a:lnTo>
                    <a:pt x="235" y="498"/>
                  </a:lnTo>
                  <a:lnTo>
                    <a:pt x="249" y="493"/>
                  </a:lnTo>
                  <a:lnTo>
                    <a:pt x="259" y="493"/>
                  </a:lnTo>
                  <a:lnTo>
                    <a:pt x="273" y="486"/>
                  </a:lnTo>
                  <a:lnTo>
                    <a:pt x="287" y="480"/>
                  </a:lnTo>
                  <a:lnTo>
                    <a:pt x="297" y="480"/>
                  </a:lnTo>
                  <a:lnTo>
                    <a:pt x="311" y="473"/>
                  </a:lnTo>
                  <a:lnTo>
                    <a:pt x="326" y="468"/>
                  </a:lnTo>
                  <a:lnTo>
                    <a:pt x="335" y="468"/>
                  </a:lnTo>
                  <a:lnTo>
                    <a:pt x="349" y="462"/>
                  </a:lnTo>
                  <a:lnTo>
                    <a:pt x="359" y="456"/>
                  </a:lnTo>
                  <a:lnTo>
                    <a:pt x="373" y="456"/>
                  </a:lnTo>
                  <a:lnTo>
                    <a:pt x="383" y="449"/>
                  </a:lnTo>
                  <a:lnTo>
                    <a:pt x="397" y="443"/>
                  </a:lnTo>
                  <a:lnTo>
                    <a:pt x="407" y="443"/>
                  </a:lnTo>
                  <a:lnTo>
                    <a:pt x="421" y="438"/>
                  </a:lnTo>
                  <a:lnTo>
                    <a:pt x="431" y="438"/>
                  </a:lnTo>
                  <a:lnTo>
                    <a:pt x="445" y="431"/>
                  </a:lnTo>
                  <a:lnTo>
                    <a:pt x="455" y="425"/>
                  </a:lnTo>
                  <a:lnTo>
                    <a:pt x="469" y="425"/>
                  </a:lnTo>
                  <a:lnTo>
                    <a:pt x="479" y="419"/>
                  </a:lnTo>
                  <a:lnTo>
                    <a:pt x="493" y="419"/>
                  </a:lnTo>
                  <a:lnTo>
                    <a:pt x="502" y="414"/>
                  </a:lnTo>
                  <a:lnTo>
                    <a:pt x="512" y="407"/>
                  </a:lnTo>
                  <a:lnTo>
                    <a:pt x="526" y="407"/>
                  </a:lnTo>
                  <a:lnTo>
                    <a:pt x="536" y="401"/>
                  </a:lnTo>
                  <a:lnTo>
                    <a:pt x="545" y="401"/>
                  </a:lnTo>
                  <a:lnTo>
                    <a:pt x="560" y="394"/>
                  </a:lnTo>
                  <a:lnTo>
                    <a:pt x="569" y="394"/>
                  </a:lnTo>
                  <a:lnTo>
                    <a:pt x="579" y="388"/>
                  </a:lnTo>
                  <a:lnTo>
                    <a:pt x="589" y="383"/>
                  </a:lnTo>
                  <a:lnTo>
                    <a:pt x="603" y="383"/>
                  </a:lnTo>
                  <a:lnTo>
                    <a:pt x="612" y="377"/>
                  </a:lnTo>
                  <a:lnTo>
                    <a:pt x="622" y="377"/>
                  </a:lnTo>
                  <a:lnTo>
                    <a:pt x="632" y="370"/>
                  </a:lnTo>
                  <a:lnTo>
                    <a:pt x="641" y="370"/>
                  </a:lnTo>
                  <a:lnTo>
                    <a:pt x="651" y="364"/>
                  </a:lnTo>
                  <a:lnTo>
                    <a:pt x="665" y="364"/>
                  </a:lnTo>
                  <a:lnTo>
                    <a:pt x="675" y="359"/>
                  </a:lnTo>
                  <a:lnTo>
                    <a:pt x="684" y="359"/>
                  </a:lnTo>
                  <a:lnTo>
                    <a:pt x="694" y="352"/>
                  </a:lnTo>
                  <a:lnTo>
                    <a:pt x="703" y="352"/>
                  </a:lnTo>
                  <a:lnTo>
                    <a:pt x="713" y="346"/>
                  </a:lnTo>
                  <a:lnTo>
                    <a:pt x="722" y="346"/>
                  </a:lnTo>
                  <a:lnTo>
                    <a:pt x="732" y="340"/>
                  </a:lnTo>
                  <a:lnTo>
                    <a:pt x="742" y="340"/>
                  </a:lnTo>
                  <a:lnTo>
                    <a:pt x="751" y="333"/>
                  </a:lnTo>
                  <a:lnTo>
                    <a:pt x="761" y="333"/>
                  </a:lnTo>
                  <a:lnTo>
                    <a:pt x="770" y="328"/>
                  </a:lnTo>
                  <a:lnTo>
                    <a:pt x="780" y="328"/>
                  </a:lnTo>
                  <a:lnTo>
                    <a:pt x="789" y="322"/>
                  </a:lnTo>
                  <a:lnTo>
                    <a:pt x="794" y="322"/>
                  </a:lnTo>
                  <a:lnTo>
                    <a:pt x="804" y="315"/>
                  </a:lnTo>
                  <a:lnTo>
                    <a:pt x="813" y="315"/>
                  </a:lnTo>
                  <a:lnTo>
                    <a:pt x="823" y="309"/>
                  </a:lnTo>
                  <a:lnTo>
                    <a:pt x="832" y="309"/>
                  </a:lnTo>
                  <a:lnTo>
                    <a:pt x="842" y="309"/>
                  </a:lnTo>
                  <a:lnTo>
                    <a:pt x="847" y="304"/>
                  </a:lnTo>
                  <a:lnTo>
                    <a:pt x="856" y="304"/>
                  </a:lnTo>
                  <a:lnTo>
                    <a:pt x="866" y="298"/>
                  </a:lnTo>
                  <a:lnTo>
                    <a:pt x="875" y="298"/>
                  </a:lnTo>
                  <a:lnTo>
                    <a:pt x="880" y="291"/>
                  </a:lnTo>
                  <a:lnTo>
                    <a:pt x="890" y="291"/>
                  </a:lnTo>
                  <a:lnTo>
                    <a:pt x="899" y="291"/>
                  </a:lnTo>
                  <a:lnTo>
                    <a:pt x="904" y="285"/>
                  </a:lnTo>
                  <a:lnTo>
                    <a:pt x="914" y="285"/>
                  </a:lnTo>
                  <a:lnTo>
                    <a:pt x="923" y="278"/>
                  </a:lnTo>
                  <a:lnTo>
                    <a:pt x="928" y="278"/>
                  </a:lnTo>
                  <a:lnTo>
                    <a:pt x="938" y="278"/>
                  </a:lnTo>
                  <a:lnTo>
                    <a:pt x="942" y="273"/>
                  </a:lnTo>
                  <a:lnTo>
                    <a:pt x="952" y="273"/>
                  </a:lnTo>
                  <a:lnTo>
                    <a:pt x="957" y="267"/>
                  </a:lnTo>
                  <a:lnTo>
                    <a:pt x="966" y="267"/>
                  </a:lnTo>
                  <a:lnTo>
                    <a:pt x="976" y="267"/>
                  </a:lnTo>
                  <a:lnTo>
                    <a:pt x="981" y="261"/>
                  </a:lnTo>
                  <a:lnTo>
                    <a:pt x="990" y="261"/>
                  </a:lnTo>
                  <a:lnTo>
                    <a:pt x="995" y="261"/>
                  </a:lnTo>
                  <a:lnTo>
                    <a:pt x="1000" y="254"/>
                  </a:lnTo>
                  <a:lnTo>
                    <a:pt x="1009" y="254"/>
                  </a:lnTo>
                  <a:lnTo>
                    <a:pt x="1014" y="249"/>
                  </a:lnTo>
                  <a:lnTo>
                    <a:pt x="1024" y="249"/>
                  </a:lnTo>
                  <a:lnTo>
                    <a:pt x="1028" y="249"/>
                  </a:lnTo>
                  <a:lnTo>
                    <a:pt x="1038" y="243"/>
                  </a:lnTo>
                  <a:lnTo>
                    <a:pt x="1043" y="243"/>
                  </a:lnTo>
                  <a:lnTo>
                    <a:pt x="1048" y="243"/>
                  </a:lnTo>
                  <a:lnTo>
                    <a:pt x="1057" y="236"/>
                  </a:lnTo>
                  <a:lnTo>
                    <a:pt x="1062" y="236"/>
                  </a:lnTo>
                  <a:lnTo>
                    <a:pt x="1067" y="236"/>
                  </a:lnTo>
                  <a:lnTo>
                    <a:pt x="1076" y="230"/>
                  </a:lnTo>
                  <a:lnTo>
                    <a:pt x="1081" y="230"/>
                  </a:lnTo>
                  <a:lnTo>
                    <a:pt x="1086" y="230"/>
                  </a:lnTo>
                  <a:lnTo>
                    <a:pt x="1091" y="230"/>
                  </a:lnTo>
                  <a:lnTo>
                    <a:pt x="1100" y="225"/>
                  </a:lnTo>
                  <a:lnTo>
                    <a:pt x="1105" y="225"/>
                  </a:lnTo>
                  <a:lnTo>
                    <a:pt x="1110" y="225"/>
                  </a:lnTo>
                  <a:lnTo>
                    <a:pt x="1115" y="219"/>
                  </a:lnTo>
                  <a:lnTo>
                    <a:pt x="1124" y="219"/>
                  </a:lnTo>
                  <a:lnTo>
                    <a:pt x="1129" y="219"/>
                  </a:lnTo>
                  <a:lnTo>
                    <a:pt x="1134" y="212"/>
                  </a:lnTo>
                  <a:lnTo>
                    <a:pt x="1138" y="212"/>
                  </a:lnTo>
                  <a:lnTo>
                    <a:pt x="1143" y="212"/>
                  </a:lnTo>
                  <a:lnTo>
                    <a:pt x="1148" y="212"/>
                  </a:lnTo>
                  <a:lnTo>
                    <a:pt x="1153" y="206"/>
                  </a:lnTo>
                  <a:lnTo>
                    <a:pt x="1162" y="206"/>
                  </a:lnTo>
                  <a:lnTo>
                    <a:pt x="1167" y="206"/>
                  </a:lnTo>
                  <a:lnTo>
                    <a:pt x="1172" y="200"/>
                  </a:lnTo>
                  <a:lnTo>
                    <a:pt x="1177" y="200"/>
                  </a:lnTo>
                  <a:lnTo>
                    <a:pt x="1182" y="200"/>
                  </a:lnTo>
                  <a:lnTo>
                    <a:pt x="1186" y="200"/>
                  </a:lnTo>
                  <a:lnTo>
                    <a:pt x="1191" y="194"/>
                  </a:lnTo>
                  <a:lnTo>
                    <a:pt x="1196" y="194"/>
                  </a:lnTo>
                  <a:lnTo>
                    <a:pt x="1201" y="194"/>
                  </a:lnTo>
                  <a:lnTo>
                    <a:pt x="1205" y="194"/>
                  </a:lnTo>
                  <a:lnTo>
                    <a:pt x="1210" y="188"/>
                  </a:lnTo>
                  <a:lnTo>
                    <a:pt x="1215" y="188"/>
                  </a:lnTo>
                  <a:lnTo>
                    <a:pt x="1220" y="188"/>
                  </a:lnTo>
                  <a:lnTo>
                    <a:pt x="1225" y="188"/>
                  </a:lnTo>
                  <a:lnTo>
                    <a:pt x="1229" y="182"/>
                  </a:lnTo>
                  <a:lnTo>
                    <a:pt x="1234" y="182"/>
                  </a:lnTo>
                  <a:lnTo>
                    <a:pt x="1239" y="182"/>
                  </a:lnTo>
                  <a:lnTo>
                    <a:pt x="1244" y="182"/>
                  </a:lnTo>
                  <a:lnTo>
                    <a:pt x="1248" y="175"/>
                  </a:lnTo>
                  <a:lnTo>
                    <a:pt x="1253" y="175"/>
                  </a:lnTo>
                  <a:lnTo>
                    <a:pt x="1258" y="175"/>
                  </a:lnTo>
                  <a:lnTo>
                    <a:pt x="1263" y="175"/>
                  </a:lnTo>
                  <a:lnTo>
                    <a:pt x="1268" y="170"/>
                  </a:lnTo>
                  <a:lnTo>
                    <a:pt x="1272" y="170"/>
                  </a:lnTo>
                  <a:lnTo>
                    <a:pt x="1277" y="170"/>
                  </a:lnTo>
                  <a:lnTo>
                    <a:pt x="1282" y="170"/>
                  </a:lnTo>
                  <a:lnTo>
                    <a:pt x="1287" y="164"/>
                  </a:lnTo>
                  <a:lnTo>
                    <a:pt x="1291" y="164"/>
                  </a:lnTo>
                  <a:lnTo>
                    <a:pt x="1296" y="164"/>
                  </a:lnTo>
                  <a:lnTo>
                    <a:pt x="1301" y="164"/>
                  </a:lnTo>
                  <a:lnTo>
                    <a:pt x="1306" y="164"/>
                  </a:lnTo>
                  <a:lnTo>
                    <a:pt x="1306" y="157"/>
                  </a:lnTo>
                  <a:lnTo>
                    <a:pt x="1311" y="157"/>
                  </a:lnTo>
                  <a:lnTo>
                    <a:pt x="1315" y="157"/>
                  </a:lnTo>
                  <a:lnTo>
                    <a:pt x="1320" y="157"/>
                  </a:lnTo>
                  <a:lnTo>
                    <a:pt x="1325" y="157"/>
                  </a:lnTo>
                  <a:lnTo>
                    <a:pt x="1325" y="151"/>
                  </a:lnTo>
                  <a:lnTo>
                    <a:pt x="1330" y="151"/>
                  </a:lnTo>
                  <a:lnTo>
                    <a:pt x="1335" y="151"/>
                  </a:lnTo>
                  <a:lnTo>
                    <a:pt x="1339" y="151"/>
                  </a:lnTo>
                  <a:lnTo>
                    <a:pt x="1344" y="151"/>
                  </a:lnTo>
                  <a:lnTo>
                    <a:pt x="1344" y="145"/>
                  </a:lnTo>
                  <a:lnTo>
                    <a:pt x="1349" y="145"/>
                  </a:lnTo>
                  <a:lnTo>
                    <a:pt x="1354" y="145"/>
                  </a:lnTo>
                  <a:lnTo>
                    <a:pt x="1358" y="145"/>
                  </a:lnTo>
                  <a:lnTo>
                    <a:pt x="1363" y="140"/>
                  </a:lnTo>
                  <a:lnTo>
                    <a:pt x="1368" y="140"/>
                  </a:lnTo>
                  <a:lnTo>
                    <a:pt x="1373" y="140"/>
                  </a:lnTo>
                  <a:lnTo>
                    <a:pt x="1378" y="140"/>
                  </a:lnTo>
                  <a:lnTo>
                    <a:pt x="1382" y="140"/>
                  </a:lnTo>
                  <a:lnTo>
                    <a:pt x="1382" y="133"/>
                  </a:lnTo>
                  <a:lnTo>
                    <a:pt x="1387" y="133"/>
                  </a:lnTo>
                  <a:lnTo>
                    <a:pt x="1392" y="133"/>
                  </a:lnTo>
                  <a:lnTo>
                    <a:pt x="1397" y="133"/>
                  </a:lnTo>
                  <a:lnTo>
                    <a:pt x="1401" y="133"/>
                  </a:lnTo>
                  <a:lnTo>
                    <a:pt x="1401" y="127"/>
                  </a:lnTo>
                  <a:lnTo>
                    <a:pt x="1406" y="127"/>
                  </a:lnTo>
                  <a:lnTo>
                    <a:pt x="1411" y="127"/>
                  </a:lnTo>
                  <a:lnTo>
                    <a:pt x="1416" y="127"/>
                  </a:lnTo>
                  <a:lnTo>
                    <a:pt x="1421" y="127"/>
                  </a:lnTo>
                  <a:lnTo>
                    <a:pt x="1425" y="121"/>
                  </a:lnTo>
                  <a:lnTo>
                    <a:pt x="1430" y="121"/>
                  </a:lnTo>
                  <a:lnTo>
                    <a:pt x="1435" y="121"/>
                  </a:lnTo>
                  <a:lnTo>
                    <a:pt x="1440" y="121"/>
                  </a:lnTo>
                  <a:lnTo>
                    <a:pt x="1440" y="115"/>
                  </a:lnTo>
                  <a:lnTo>
                    <a:pt x="1445" y="115"/>
                  </a:lnTo>
                  <a:lnTo>
                    <a:pt x="1449" y="115"/>
                  </a:lnTo>
                  <a:lnTo>
                    <a:pt x="1454" y="115"/>
                  </a:lnTo>
                  <a:lnTo>
                    <a:pt x="1459" y="115"/>
                  </a:lnTo>
                  <a:lnTo>
                    <a:pt x="1459" y="109"/>
                  </a:lnTo>
                  <a:lnTo>
                    <a:pt x="1464" y="109"/>
                  </a:lnTo>
                  <a:lnTo>
                    <a:pt x="1468" y="109"/>
                  </a:lnTo>
                  <a:lnTo>
                    <a:pt x="1473" y="109"/>
                  </a:lnTo>
                  <a:lnTo>
                    <a:pt x="1478" y="109"/>
                  </a:lnTo>
                  <a:lnTo>
                    <a:pt x="1478" y="103"/>
                  </a:lnTo>
                  <a:lnTo>
                    <a:pt x="1483" y="103"/>
                  </a:lnTo>
                  <a:lnTo>
                    <a:pt x="1488" y="103"/>
                  </a:lnTo>
                  <a:lnTo>
                    <a:pt x="1492" y="103"/>
                  </a:lnTo>
                  <a:lnTo>
                    <a:pt x="1497" y="103"/>
                  </a:lnTo>
                  <a:lnTo>
                    <a:pt x="1497" y="96"/>
                  </a:lnTo>
                  <a:lnTo>
                    <a:pt x="1502" y="96"/>
                  </a:lnTo>
                  <a:lnTo>
                    <a:pt x="1507" y="96"/>
                  </a:lnTo>
                  <a:lnTo>
                    <a:pt x="1511" y="96"/>
                  </a:lnTo>
                  <a:lnTo>
                    <a:pt x="1516" y="96"/>
                  </a:lnTo>
                  <a:lnTo>
                    <a:pt x="1521" y="90"/>
                  </a:lnTo>
                  <a:lnTo>
                    <a:pt x="1526" y="90"/>
                  </a:lnTo>
                  <a:lnTo>
                    <a:pt x="1531" y="90"/>
                  </a:lnTo>
                  <a:lnTo>
                    <a:pt x="1535" y="90"/>
                  </a:lnTo>
                  <a:lnTo>
                    <a:pt x="1540" y="85"/>
                  </a:lnTo>
                  <a:lnTo>
                    <a:pt x="1545" y="85"/>
                  </a:lnTo>
                  <a:lnTo>
                    <a:pt x="1550" y="85"/>
                  </a:lnTo>
                  <a:lnTo>
                    <a:pt x="1555" y="85"/>
                  </a:lnTo>
                  <a:lnTo>
                    <a:pt x="1555" y="78"/>
                  </a:lnTo>
                  <a:lnTo>
                    <a:pt x="1559" y="78"/>
                  </a:lnTo>
                  <a:lnTo>
                    <a:pt x="1564" y="78"/>
                  </a:lnTo>
                  <a:lnTo>
                    <a:pt x="1569" y="78"/>
                  </a:lnTo>
                  <a:lnTo>
                    <a:pt x="1574" y="78"/>
                  </a:lnTo>
                  <a:lnTo>
                    <a:pt x="1578" y="72"/>
                  </a:lnTo>
                  <a:lnTo>
                    <a:pt x="1583" y="72"/>
                  </a:lnTo>
                  <a:lnTo>
                    <a:pt x="1588" y="72"/>
                  </a:lnTo>
                  <a:lnTo>
                    <a:pt x="1593" y="72"/>
                  </a:lnTo>
                  <a:lnTo>
                    <a:pt x="1598" y="66"/>
                  </a:lnTo>
                  <a:lnTo>
                    <a:pt x="1602" y="66"/>
                  </a:lnTo>
                  <a:lnTo>
                    <a:pt x="1607" y="66"/>
                  </a:lnTo>
                  <a:lnTo>
                    <a:pt x="1612" y="66"/>
                  </a:lnTo>
                  <a:lnTo>
                    <a:pt x="1612" y="61"/>
                  </a:lnTo>
                  <a:lnTo>
                    <a:pt x="1617" y="61"/>
                  </a:lnTo>
                  <a:lnTo>
                    <a:pt x="1621" y="61"/>
                  </a:lnTo>
                  <a:lnTo>
                    <a:pt x="1626" y="61"/>
                  </a:lnTo>
                  <a:lnTo>
                    <a:pt x="1631" y="61"/>
                  </a:lnTo>
                  <a:lnTo>
                    <a:pt x="1636" y="54"/>
                  </a:lnTo>
                  <a:lnTo>
                    <a:pt x="1641" y="54"/>
                  </a:lnTo>
                  <a:lnTo>
                    <a:pt x="1645" y="54"/>
                  </a:lnTo>
                  <a:lnTo>
                    <a:pt x="1650" y="54"/>
                  </a:lnTo>
                  <a:lnTo>
                    <a:pt x="1655" y="48"/>
                  </a:lnTo>
                  <a:lnTo>
                    <a:pt x="1660" y="48"/>
                  </a:lnTo>
                  <a:lnTo>
                    <a:pt x="1665" y="48"/>
                  </a:lnTo>
                  <a:lnTo>
                    <a:pt x="1669" y="48"/>
                  </a:lnTo>
                  <a:lnTo>
                    <a:pt x="1674" y="48"/>
                  </a:lnTo>
                  <a:lnTo>
                    <a:pt x="1674" y="42"/>
                  </a:lnTo>
                  <a:lnTo>
                    <a:pt x="1679" y="42"/>
                  </a:lnTo>
                  <a:lnTo>
                    <a:pt x="1684" y="42"/>
                  </a:lnTo>
                  <a:lnTo>
                    <a:pt x="1688" y="42"/>
                  </a:lnTo>
                  <a:lnTo>
                    <a:pt x="1693" y="35"/>
                  </a:lnTo>
                  <a:lnTo>
                    <a:pt x="1698" y="35"/>
                  </a:lnTo>
                  <a:lnTo>
                    <a:pt x="1703" y="35"/>
                  </a:lnTo>
                  <a:lnTo>
                    <a:pt x="1708" y="35"/>
                  </a:lnTo>
                  <a:lnTo>
                    <a:pt x="1712" y="35"/>
                  </a:lnTo>
                  <a:lnTo>
                    <a:pt x="1712" y="30"/>
                  </a:lnTo>
                  <a:lnTo>
                    <a:pt x="1717" y="30"/>
                  </a:lnTo>
                  <a:lnTo>
                    <a:pt x="1722" y="30"/>
                  </a:lnTo>
                  <a:lnTo>
                    <a:pt x="1727" y="30"/>
                  </a:lnTo>
                  <a:lnTo>
                    <a:pt x="1731" y="30"/>
                  </a:lnTo>
                  <a:lnTo>
                    <a:pt x="1731" y="24"/>
                  </a:lnTo>
                  <a:lnTo>
                    <a:pt x="1736" y="24"/>
                  </a:lnTo>
                  <a:lnTo>
                    <a:pt x="1741" y="24"/>
                  </a:lnTo>
                  <a:lnTo>
                    <a:pt x="1746" y="24"/>
                  </a:lnTo>
                  <a:lnTo>
                    <a:pt x="1751" y="24"/>
                  </a:lnTo>
                  <a:lnTo>
                    <a:pt x="1751" y="17"/>
                  </a:lnTo>
                  <a:lnTo>
                    <a:pt x="1755" y="17"/>
                  </a:lnTo>
                  <a:lnTo>
                    <a:pt x="1760" y="17"/>
                  </a:lnTo>
                  <a:lnTo>
                    <a:pt x="1765" y="17"/>
                  </a:lnTo>
                  <a:lnTo>
                    <a:pt x="1770" y="17"/>
                  </a:lnTo>
                  <a:lnTo>
                    <a:pt x="1770" y="11"/>
                  </a:lnTo>
                  <a:lnTo>
                    <a:pt x="1774" y="11"/>
                  </a:lnTo>
                  <a:lnTo>
                    <a:pt x="1779" y="11"/>
                  </a:lnTo>
                  <a:lnTo>
                    <a:pt x="1784" y="11"/>
                  </a:lnTo>
                  <a:lnTo>
                    <a:pt x="1789" y="11"/>
                  </a:lnTo>
                  <a:lnTo>
                    <a:pt x="1789" y="6"/>
                  </a:lnTo>
                  <a:lnTo>
                    <a:pt x="1794" y="6"/>
                  </a:lnTo>
                  <a:lnTo>
                    <a:pt x="1798" y="6"/>
                  </a:lnTo>
                  <a:lnTo>
                    <a:pt x="1803" y="6"/>
                  </a:lnTo>
                  <a:lnTo>
                    <a:pt x="1808" y="6"/>
                  </a:lnTo>
                  <a:lnTo>
                    <a:pt x="1808" y="0"/>
                  </a:lnTo>
                  <a:lnTo>
                    <a:pt x="1813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354880" y="3456000"/>
              <a:ext cx="39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62560" y="342108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7" name=""/>
                <p:cNvSpPr txBox="1"/>
                <p:nvPr/>
              </p:nvSpPr>
              <p:spPr>
                <a:xfrm>
                  <a:off x="5827680" y="541440"/>
                  <a:ext cx="144000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Ω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f>
                            <m:num>
                              <m:r>
                                <m:t xml:space="preserve">w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8" name=""/>
          <p:cNvGrpSpPr/>
          <p:nvPr/>
        </p:nvGrpSpPr>
        <p:grpSpPr>
          <a:xfrm>
            <a:off x="4074840" y="2317680"/>
            <a:ext cx="3087720" cy="504720"/>
            <a:chOff x="4074840" y="2317680"/>
            <a:chExt cx="3087720" cy="504720"/>
          </a:xfrm>
        </p:grpSpPr>
        <p:sp>
          <p:nvSpPr>
            <p:cNvPr id="1329" name=""/>
            <p:cNvSpPr/>
            <p:nvPr/>
          </p:nvSpPr>
          <p:spPr>
            <a:xfrm flipH="1">
              <a:off x="4074840" y="2320920"/>
              <a:ext cx="30877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4074840" y="2822400"/>
              <a:ext cx="2498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84880" y="2317680"/>
              <a:ext cx="3571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88120" y="2820960"/>
              <a:ext cx="3571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3707280" y="2311560"/>
            <a:ext cx="5052600" cy="4478760"/>
            <a:chOff x="3707280" y="2311560"/>
            <a:chExt cx="5052600" cy="4478760"/>
          </a:xfrm>
        </p:grpSpPr>
        <p:grpSp>
          <p:nvGrpSpPr>
            <p:cNvPr id="1334" name=""/>
            <p:cNvGrpSpPr/>
            <p:nvPr/>
          </p:nvGrpSpPr>
          <p:grpSpPr>
            <a:xfrm>
              <a:off x="3707280" y="3571560"/>
              <a:ext cx="5052600" cy="3218760"/>
              <a:chOff x="3707280" y="3571560"/>
              <a:chExt cx="5052600" cy="3218760"/>
            </a:xfrm>
          </p:grpSpPr>
          <p:sp>
            <p:nvSpPr>
              <p:cNvPr id="1335" name=""/>
              <p:cNvSpPr/>
              <p:nvPr/>
            </p:nvSpPr>
            <p:spPr>
              <a:xfrm>
                <a:off x="6372720" y="6281640"/>
                <a:ext cx="4928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2400" spc="-1" strike="noStrike" baseline="-25000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953400" y="6272280"/>
                <a:ext cx="4824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2400" spc="-1" strike="noStrike" baseline="-25000">
                    <a:solidFill>
                      <a:srgbClr val="ffff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V="1">
                <a:off x="4944960" y="3749400"/>
                <a:ext cx="0" cy="2585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8232840" y="3749400"/>
                <a:ext cx="0" cy="2585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944960" y="6335640"/>
                <a:ext cx="3287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944960" y="5904000"/>
                <a:ext cx="3287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944960" y="4394160"/>
                <a:ext cx="3287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944960" y="4181400"/>
                <a:ext cx="3287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944960" y="3749760"/>
                <a:ext cx="3287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44960" y="3749760"/>
                <a:ext cx="3289320" cy="2587680"/>
              </a:xfrm>
              <a:custGeom>
                <a:avLst/>
                <a:gdLst/>
                <a:ahLst/>
                <a:rect l="l" t="t" r="r" b="b"/>
                <a:pathLst>
                  <a:path w="2072" h="1630">
                    <a:moveTo>
                      <a:pt x="0" y="1629"/>
                    </a:moveTo>
                    <a:lnTo>
                      <a:pt x="0" y="0"/>
                    </a:lnTo>
                    <a:lnTo>
                      <a:pt x="2071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44960" y="3749760"/>
                <a:ext cx="3289320" cy="2587680"/>
              </a:xfrm>
              <a:custGeom>
                <a:avLst/>
                <a:gdLst/>
                <a:ahLst/>
                <a:rect l="l" t="t" r="r" b="b"/>
                <a:pathLst>
                  <a:path w="2072" h="1630">
                    <a:moveTo>
                      <a:pt x="0" y="1629"/>
                    </a:moveTo>
                    <a:lnTo>
                      <a:pt x="0" y="0"/>
                    </a:lnTo>
                    <a:lnTo>
                      <a:pt x="2071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44960" y="3749760"/>
                <a:ext cx="3289320" cy="2587680"/>
              </a:xfrm>
              <a:custGeom>
                <a:avLst/>
                <a:gdLst/>
                <a:ahLst/>
                <a:rect l="l" t="t" r="r" b="b"/>
                <a:pathLst>
                  <a:path w="2072" h="1630">
                    <a:moveTo>
                      <a:pt x="0" y="1629"/>
                    </a:moveTo>
                    <a:lnTo>
                      <a:pt x="0" y="0"/>
                    </a:lnTo>
                    <a:lnTo>
                      <a:pt x="2071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44960" y="6335640"/>
                <a:ext cx="3287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44960" y="3749760"/>
                <a:ext cx="3287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4944960" y="3749400"/>
                <a:ext cx="0" cy="2585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8232840" y="3749400"/>
                <a:ext cx="0" cy="2585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944960" y="3749760"/>
                <a:ext cx="255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232840" y="6335640"/>
                <a:ext cx="252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944960" y="6335640"/>
                <a:ext cx="3287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4944960" y="3749400"/>
                <a:ext cx="0" cy="2585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944960" y="6335640"/>
                <a:ext cx="255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4944960" y="630540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944960" y="374976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813920" y="63277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5605560" y="630540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605560" y="374976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6259680" y="630540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259680" y="374976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6919920" y="630540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919920" y="374976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7572240" y="630540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572240" y="374976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8232840" y="630540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8232840" y="3749760"/>
                <a:ext cx="0" cy="30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8062560" y="6296040"/>
                <a:ext cx="325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944960" y="633564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8202600" y="633564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944960" y="590400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8202600" y="590400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944960" y="547056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>
                <a:off x="8202600" y="547056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944960" y="504684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8202600" y="504684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944960" y="461484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8202600" y="461484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944960" y="418140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8202600" y="418140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944960" y="374976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8202600" y="374976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442040" y="61466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5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442040" y="571500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442040" y="528336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442040" y="48578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442040" y="44258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579200" y="39942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944960" y="6335640"/>
                <a:ext cx="37926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944960" y="3749760"/>
                <a:ext cx="3287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4944960" y="3571560"/>
                <a:ext cx="0" cy="27637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8232840" y="3749400"/>
                <a:ext cx="0" cy="2585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944960" y="6335640"/>
                <a:ext cx="255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8232840" y="3749760"/>
                <a:ext cx="252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944960" y="4181400"/>
                <a:ext cx="2279880" cy="2156040"/>
              </a:xfrm>
              <a:custGeom>
                <a:avLst/>
                <a:gdLst/>
                <a:ahLst/>
                <a:rect l="l" t="t" r="r" b="b"/>
                <a:pathLst>
                  <a:path w="1436" h="1358">
                    <a:moveTo>
                      <a:pt x="0" y="0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2" y="5"/>
                    </a:lnTo>
                    <a:lnTo>
                      <a:pt x="67" y="5"/>
                    </a:lnTo>
                    <a:lnTo>
                      <a:pt x="72" y="5"/>
                    </a:lnTo>
                    <a:lnTo>
                      <a:pt x="77" y="5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86" y="10"/>
                    </a:lnTo>
                    <a:lnTo>
                      <a:pt x="91" y="10"/>
                    </a:lnTo>
                    <a:lnTo>
                      <a:pt x="96" y="10"/>
                    </a:lnTo>
                    <a:lnTo>
                      <a:pt x="101" y="10"/>
                    </a:lnTo>
                    <a:lnTo>
                      <a:pt x="106" y="10"/>
                    </a:lnTo>
                    <a:lnTo>
                      <a:pt x="110" y="10"/>
                    </a:lnTo>
                    <a:lnTo>
                      <a:pt x="115" y="15"/>
                    </a:lnTo>
                    <a:lnTo>
                      <a:pt x="120" y="15"/>
                    </a:lnTo>
                    <a:lnTo>
                      <a:pt x="125" y="15"/>
                    </a:lnTo>
                    <a:lnTo>
                      <a:pt x="129" y="15"/>
                    </a:lnTo>
                    <a:lnTo>
                      <a:pt x="134" y="19"/>
                    </a:lnTo>
                    <a:lnTo>
                      <a:pt x="139" y="19"/>
                    </a:lnTo>
                    <a:lnTo>
                      <a:pt x="144" y="19"/>
                    </a:lnTo>
                    <a:lnTo>
                      <a:pt x="149" y="19"/>
                    </a:lnTo>
                    <a:lnTo>
                      <a:pt x="153" y="24"/>
                    </a:lnTo>
                    <a:lnTo>
                      <a:pt x="158" y="24"/>
                    </a:lnTo>
                    <a:lnTo>
                      <a:pt x="163" y="24"/>
                    </a:lnTo>
                    <a:lnTo>
                      <a:pt x="168" y="24"/>
                    </a:lnTo>
                    <a:lnTo>
                      <a:pt x="172" y="29"/>
                    </a:lnTo>
                    <a:lnTo>
                      <a:pt x="177" y="29"/>
                    </a:lnTo>
                    <a:lnTo>
                      <a:pt x="182" y="29"/>
                    </a:lnTo>
                    <a:lnTo>
                      <a:pt x="187" y="34"/>
                    </a:lnTo>
                    <a:lnTo>
                      <a:pt x="192" y="34"/>
                    </a:lnTo>
                    <a:lnTo>
                      <a:pt x="196" y="34"/>
                    </a:lnTo>
                    <a:lnTo>
                      <a:pt x="201" y="34"/>
                    </a:lnTo>
                    <a:lnTo>
                      <a:pt x="201" y="39"/>
                    </a:lnTo>
                    <a:lnTo>
                      <a:pt x="206" y="39"/>
                    </a:lnTo>
                    <a:lnTo>
                      <a:pt x="211" y="39"/>
                    </a:lnTo>
                    <a:lnTo>
                      <a:pt x="216" y="39"/>
                    </a:lnTo>
                    <a:lnTo>
                      <a:pt x="220" y="43"/>
                    </a:lnTo>
                    <a:lnTo>
                      <a:pt x="225" y="43"/>
                    </a:lnTo>
                    <a:lnTo>
                      <a:pt x="230" y="43"/>
                    </a:lnTo>
                    <a:lnTo>
                      <a:pt x="235" y="48"/>
                    </a:lnTo>
                    <a:lnTo>
                      <a:pt x="239" y="48"/>
                    </a:lnTo>
                    <a:lnTo>
                      <a:pt x="244" y="48"/>
                    </a:lnTo>
                    <a:lnTo>
                      <a:pt x="249" y="48"/>
                    </a:lnTo>
                    <a:lnTo>
                      <a:pt x="249" y="53"/>
                    </a:lnTo>
                    <a:lnTo>
                      <a:pt x="254" y="53"/>
                    </a:lnTo>
                    <a:lnTo>
                      <a:pt x="259" y="53"/>
                    </a:lnTo>
                    <a:lnTo>
                      <a:pt x="263" y="53"/>
                    </a:lnTo>
                    <a:lnTo>
                      <a:pt x="263" y="58"/>
                    </a:lnTo>
                    <a:lnTo>
                      <a:pt x="268" y="58"/>
                    </a:lnTo>
                    <a:lnTo>
                      <a:pt x="273" y="58"/>
                    </a:lnTo>
                    <a:lnTo>
                      <a:pt x="278" y="58"/>
                    </a:lnTo>
                    <a:lnTo>
                      <a:pt x="278" y="62"/>
                    </a:lnTo>
                    <a:lnTo>
                      <a:pt x="282" y="62"/>
                    </a:lnTo>
                    <a:lnTo>
                      <a:pt x="287" y="62"/>
                    </a:lnTo>
                    <a:lnTo>
                      <a:pt x="292" y="62"/>
                    </a:lnTo>
                    <a:lnTo>
                      <a:pt x="292" y="67"/>
                    </a:lnTo>
                    <a:lnTo>
                      <a:pt x="297" y="67"/>
                    </a:lnTo>
                    <a:lnTo>
                      <a:pt x="302" y="67"/>
                    </a:lnTo>
                    <a:lnTo>
                      <a:pt x="306" y="67"/>
                    </a:lnTo>
                    <a:lnTo>
                      <a:pt x="311" y="72"/>
                    </a:lnTo>
                    <a:lnTo>
                      <a:pt x="316" y="72"/>
                    </a:lnTo>
                    <a:lnTo>
                      <a:pt x="321" y="72"/>
                    </a:lnTo>
                    <a:lnTo>
                      <a:pt x="326" y="72"/>
                    </a:lnTo>
                    <a:lnTo>
                      <a:pt x="326" y="77"/>
                    </a:lnTo>
                    <a:lnTo>
                      <a:pt x="330" y="77"/>
                    </a:lnTo>
                    <a:lnTo>
                      <a:pt x="335" y="77"/>
                    </a:lnTo>
                    <a:lnTo>
                      <a:pt x="340" y="77"/>
                    </a:lnTo>
                    <a:lnTo>
                      <a:pt x="340" y="82"/>
                    </a:lnTo>
                    <a:lnTo>
                      <a:pt x="345" y="82"/>
                    </a:lnTo>
                    <a:lnTo>
                      <a:pt x="349" y="82"/>
                    </a:lnTo>
                    <a:lnTo>
                      <a:pt x="354" y="82"/>
                    </a:lnTo>
                    <a:lnTo>
                      <a:pt x="354" y="86"/>
                    </a:lnTo>
                    <a:lnTo>
                      <a:pt x="359" y="86"/>
                    </a:lnTo>
                    <a:lnTo>
                      <a:pt x="364" y="86"/>
                    </a:lnTo>
                    <a:lnTo>
                      <a:pt x="369" y="86"/>
                    </a:lnTo>
                    <a:lnTo>
                      <a:pt x="373" y="86"/>
                    </a:lnTo>
                    <a:lnTo>
                      <a:pt x="373" y="91"/>
                    </a:lnTo>
                    <a:lnTo>
                      <a:pt x="378" y="91"/>
                    </a:lnTo>
                    <a:lnTo>
                      <a:pt x="383" y="91"/>
                    </a:lnTo>
                    <a:lnTo>
                      <a:pt x="388" y="91"/>
                    </a:lnTo>
                    <a:lnTo>
                      <a:pt x="392" y="96"/>
                    </a:lnTo>
                    <a:lnTo>
                      <a:pt x="397" y="96"/>
                    </a:lnTo>
                    <a:lnTo>
                      <a:pt x="402" y="96"/>
                    </a:lnTo>
                    <a:lnTo>
                      <a:pt x="407" y="96"/>
                    </a:lnTo>
                    <a:lnTo>
                      <a:pt x="407" y="101"/>
                    </a:lnTo>
                    <a:lnTo>
                      <a:pt x="412" y="101"/>
                    </a:lnTo>
                    <a:lnTo>
                      <a:pt x="416" y="101"/>
                    </a:lnTo>
                    <a:lnTo>
                      <a:pt x="421" y="101"/>
                    </a:lnTo>
                    <a:lnTo>
                      <a:pt x="426" y="101"/>
                    </a:lnTo>
                    <a:lnTo>
                      <a:pt x="426" y="105"/>
                    </a:lnTo>
                    <a:lnTo>
                      <a:pt x="431" y="105"/>
                    </a:lnTo>
                    <a:lnTo>
                      <a:pt x="435" y="105"/>
                    </a:lnTo>
                    <a:lnTo>
                      <a:pt x="440" y="105"/>
                    </a:lnTo>
                    <a:lnTo>
                      <a:pt x="445" y="105"/>
                    </a:lnTo>
                    <a:lnTo>
                      <a:pt x="445" y="110"/>
                    </a:lnTo>
                    <a:lnTo>
                      <a:pt x="450" y="110"/>
                    </a:lnTo>
                    <a:lnTo>
                      <a:pt x="455" y="110"/>
                    </a:lnTo>
                    <a:lnTo>
                      <a:pt x="459" y="110"/>
                    </a:lnTo>
                    <a:lnTo>
                      <a:pt x="464" y="110"/>
                    </a:lnTo>
                    <a:lnTo>
                      <a:pt x="469" y="115"/>
                    </a:lnTo>
                    <a:lnTo>
                      <a:pt x="474" y="115"/>
                    </a:lnTo>
                    <a:lnTo>
                      <a:pt x="479" y="115"/>
                    </a:lnTo>
                    <a:lnTo>
                      <a:pt x="483" y="115"/>
                    </a:lnTo>
                    <a:lnTo>
                      <a:pt x="488" y="115"/>
                    </a:lnTo>
                    <a:lnTo>
                      <a:pt x="488" y="120"/>
                    </a:lnTo>
                    <a:lnTo>
                      <a:pt x="493" y="120"/>
                    </a:lnTo>
                    <a:lnTo>
                      <a:pt x="498" y="120"/>
                    </a:lnTo>
                    <a:lnTo>
                      <a:pt x="502" y="120"/>
                    </a:lnTo>
                    <a:lnTo>
                      <a:pt x="507" y="120"/>
                    </a:lnTo>
                    <a:lnTo>
                      <a:pt x="512" y="120"/>
                    </a:lnTo>
                    <a:lnTo>
                      <a:pt x="512" y="124"/>
                    </a:lnTo>
                    <a:lnTo>
                      <a:pt x="517" y="124"/>
                    </a:lnTo>
                    <a:lnTo>
                      <a:pt x="522" y="124"/>
                    </a:lnTo>
                    <a:lnTo>
                      <a:pt x="526" y="124"/>
                    </a:lnTo>
                    <a:lnTo>
                      <a:pt x="531" y="124"/>
                    </a:lnTo>
                    <a:lnTo>
                      <a:pt x="536" y="124"/>
                    </a:lnTo>
                    <a:lnTo>
                      <a:pt x="541" y="124"/>
                    </a:lnTo>
                    <a:lnTo>
                      <a:pt x="545" y="129"/>
                    </a:lnTo>
                    <a:lnTo>
                      <a:pt x="550" y="129"/>
                    </a:lnTo>
                    <a:lnTo>
                      <a:pt x="555" y="129"/>
                    </a:lnTo>
                    <a:lnTo>
                      <a:pt x="560" y="129"/>
                    </a:lnTo>
                    <a:lnTo>
                      <a:pt x="565" y="129"/>
                    </a:lnTo>
                    <a:lnTo>
                      <a:pt x="569" y="129"/>
                    </a:lnTo>
                    <a:lnTo>
                      <a:pt x="574" y="129"/>
                    </a:lnTo>
                    <a:lnTo>
                      <a:pt x="579" y="129"/>
                    </a:lnTo>
                    <a:lnTo>
                      <a:pt x="584" y="134"/>
                    </a:lnTo>
                    <a:lnTo>
                      <a:pt x="589" y="134"/>
                    </a:lnTo>
                    <a:lnTo>
                      <a:pt x="593" y="134"/>
                    </a:lnTo>
                    <a:lnTo>
                      <a:pt x="598" y="134"/>
                    </a:lnTo>
                    <a:lnTo>
                      <a:pt x="603" y="134"/>
                    </a:lnTo>
                    <a:lnTo>
                      <a:pt x="608" y="134"/>
                    </a:lnTo>
                    <a:lnTo>
                      <a:pt x="612" y="134"/>
                    </a:lnTo>
                    <a:lnTo>
                      <a:pt x="617" y="134"/>
                    </a:lnTo>
                    <a:lnTo>
                      <a:pt x="622" y="134"/>
                    </a:lnTo>
                    <a:lnTo>
                      <a:pt x="627" y="134"/>
                    </a:lnTo>
                    <a:lnTo>
                      <a:pt x="632" y="134"/>
                    </a:lnTo>
                    <a:lnTo>
                      <a:pt x="636" y="134"/>
                    </a:lnTo>
                    <a:lnTo>
                      <a:pt x="641" y="134"/>
                    </a:lnTo>
                    <a:lnTo>
                      <a:pt x="646" y="134"/>
                    </a:lnTo>
                    <a:lnTo>
                      <a:pt x="651" y="134"/>
                    </a:lnTo>
                    <a:lnTo>
                      <a:pt x="655" y="134"/>
                    </a:lnTo>
                    <a:lnTo>
                      <a:pt x="660" y="134"/>
                    </a:lnTo>
                    <a:lnTo>
                      <a:pt x="665" y="134"/>
                    </a:lnTo>
                    <a:lnTo>
                      <a:pt x="670" y="134"/>
                    </a:lnTo>
                    <a:lnTo>
                      <a:pt x="675" y="134"/>
                    </a:lnTo>
                    <a:lnTo>
                      <a:pt x="679" y="134"/>
                    </a:lnTo>
                    <a:lnTo>
                      <a:pt x="684" y="134"/>
                    </a:lnTo>
                    <a:lnTo>
                      <a:pt x="689" y="134"/>
                    </a:lnTo>
                    <a:lnTo>
                      <a:pt x="694" y="134"/>
                    </a:lnTo>
                    <a:lnTo>
                      <a:pt x="699" y="134"/>
                    </a:lnTo>
                    <a:lnTo>
                      <a:pt x="703" y="134"/>
                    </a:lnTo>
                    <a:lnTo>
                      <a:pt x="708" y="134"/>
                    </a:lnTo>
                    <a:lnTo>
                      <a:pt x="708" y="129"/>
                    </a:lnTo>
                    <a:lnTo>
                      <a:pt x="713" y="129"/>
                    </a:lnTo>
                    <a:lnTo>
                      <a:pt x="718" y="129"/>
                    </a:lnTo>
                    <a:lnTo>
                      <a:pt x="722" y="129"/>
                    </a:lnTo>
                    <a:lnTo>
                      <a:pt x="727" y="129"/>
                    </a:lnTo>
                    <a:lnTo>
                      <a:pt x="732" y="129"/>
                    </a:lnTo>
                    <a:lnTo>
                      <a:pt x="737" y="129"/>
                    </a:lnTo>
                    <a:lnTo>
                      <a:pt x="737" y="124"/>
                    </a:lnTo>
                    <a:lnTo>
                      <a:pt x="742" y="124"/>
                    </a:lnTo>
                    <a:lnTo>
                      <a:pt x="746" y="124"/>
                    </a:lnTo>
                    <a:lnTo>
                      <a:pt x="751" y="124"/>
                    </a:lnTo>
                    <a:lnTo>
                      <a:pt x="756" y="124"/>
                    </a:lnTo>
                    <a:lnTo>
                      <a:pt x="761" y="120"/>
                    </a:lnTo>
                    <a:lnTo>
                      <a:pt x="765" y="120"/>
                    </a:lnTo>
                    <a:lnTo>
                      <a:pt x="770" y="120"/>
                    </a:lnTo>
                    <a:lnTo>
                      <a:pt x="775" y="120"/>
                    </a:lnTo>
                    <a:lnTo>
                      <a:pt x="775" y="115"/>
                    </a:lnTo>
                    <a:lnTo>
                      <a:pt x="780" y="115"/>
                    </a:lnTo>
                    <a:lnTo>
                      <a:pt x="785" y="115"/>
                    </a:lnTo>
                    <a:lnTo>
                      <a:pt x="789" y="110"/>
                    </a:lnTo>
                    <a:lnTo>
                      <a:pt x="794" y="110"/>
                    </a:lnTo>
                    <a:lnTo>
                      <a:pt x="799" y="110"/>
                    </a:lnTo>
                    <a:lnTo>
                      <a:pt x="799" y="105"/>
                    </a:lnTo>
                    <a:lnTo>
                      <a:pt x="804" y="105"/>
                    </a:lnTo>
                    <a:lnTo>
                      <a:pt x="808" y="105"/>
                    </a:lnTo>
                    <a:lnTo>
                      <a:pt x="813" y="101"/>
                    </a:lnTo>
                    <a:lnTo>
                      <a:pt x="818" y="101"/>
                    </a:lnTo>
                    <a:lnTo>
                      <a:pt x="818" y="96"/>
                    </a:lnTo>
                    <a:lnTo>
                      <a:pt x="823" y="96"/>
                    </a:lnTo>
                    <a:lnTo>
                      <a:pt x="828" y="96"/>
                    </a:lnTo>
                    <a:lnTo>
                      <a:pt x="828" y="91"/>
                    </a:lnTo>
                    <a:lnTo>
                      <a:pt x="832" y="91"/>
                    </a:lnTo>
                    <a:lnTo>
                      <a:pt x="837" y="91"/>
                    </a:lnTo>
                    <a:lnTo>
                      <a:pt x="837" y="86"/>
                    </a:lnTo>
                    <a:lnTo>
                      <a:pt x="842" y="86"/>
                    </a:lnTo>
                    <a:lnTo>
                      <a:pt x="842" y="82"/>
                    </a:lnTo>
                    <a:lnTo>
                      <a:pt x="847" y="82"/>
                    </a:lnTo>
                    <a:lnTo>
                      <a:pt x="852" y="82"/>
                    </a:lnTo>
                    <a:lnTo>
                      <a:pt x="852" y="77"/>
                    </a:lnTo>
                    <a:lnTo>
                      <a:pt x="856" y="77"/>
                    </a:lnTo>
                    <a:lnTo>
                      <a:pt x="856" y="72"/>
                    </a:lnTo>
                    <a:lnTo>
                      <a:pt x="861" y="72"/>
                    </a:lnTo>
                    <a:lnTo>
                      <a:pt x="866" y="67"/>
                    </a:lnTo>
                    <a:lnTo>
                      <a:pt x="871" y="62"/>
                    </a:lnTo>
                    <a:lnTo>
                      <a:pt x="875" y="62"/>
                    </a:lnTo>
                    <a:lnTo>
                      <a:pt x="875" y="58"/>
                    </a:lnTo>
                    <a:lnTo>
                      <a:pt x="880" y="58"/>
                    </a:lnTo>
                    <a:lnTo>
                      <a:pt x="880" y="53"/>
                    </a:lnTo>
                    <a:lnTo>
                      <a:pt x="885" y="53"/>
                    </a:lnTo>
                    <a:lnTo>
                      <a:pt x="885" y="48"/>
                    </a:lnTo>
                    <a:lnTo>
                      <a:pt x="890" y="48"/>
                    </a:lnTo>
                    <a:lnTo>
                      <a:pt x="890" y="43"/>
                    </a:lnTo>
                    <a:lnTo>
                      <a:pt x="895" y="43"/>
                    </a:lnTo>
                    <a:lnTo>
                      <a:pt x="899" y="39"/>
                    </a:lnTo>
                    <a:lnTo>
                      <a:pt x="904" y="34"/>
                    </a:lnTo>
                    <a:lnTo>
                      <a:pt x="909" y="29"/>
                    </a:lnTo>
                    <a:lnTo>
                      <a:pt x="914" y="24"/>
                    </a:lnTo>
                    <a:lnTo>
                      <a:pt x="918" y="24"/>
                    </a:lnTo>
                    <a:lnTo>
                      <a:pt x="918" y="19"/>
                    </a:lnTo>
                    <a:lnTo>
                      <a:pt x="923" y="15"/>
                    </a:lnTo>
                    <a:lnTo>
                      <a:pt x="928" y="15"/>
                    </a:lnTo>
                    <a:lnTo>
                      <a:pt x="928" y="10"/>
                    </a:lnTo>
                    <a:lnTo>
                      <a:pt x="933" y="10"/>
                    </a:lnTo>
                    <a:lnTo>
                      <a:pt x="938" y="5"/>
                    </a:lnTo>
                    <a:lnTo>
                      <a:pt x="942" y="5"/>
                    </a:lnTo>
                    <a:lnTo>
                      <a:pt x="942" y="0"/>
                    </a:lnTo>
                    <a:lnTo>
                      <a:pt x="947" y="0"/>
                    </a:lnTo>
                    <a:lnTo>
                      <a:pt x="952" y="0"/>
                    </a:lnTo>
                    <a:lnTo>
                      <a:pt x="957" y="0"/>
                    </a:lnTo>
                    <a:lnTo>
                      <a:pt x="962" y="0"/>
                    </a:lnTo>
                    <a:lnTo>
                      <a:pt x="966" y="0"/>
                    </a:lnTo>
                    <a:lnTo>
                      <a:pt x="971" y="5"/>
                    </a:lnTo>
                    <a:lnTo>
                      <a:pt x="976" y="10"/>
                    </a:lnTo>
                    <a:lnTo>
                      <a:pt x="981" y="15"/>
                    </a:lnTo>
                    <a:lnTo>
                      <a:pt x="985" y="19"/>
                    </a:lnTo>
                    <a:lnTo>
                      <a:pt x="985" y="24"/>
                    </a:lnTo>
                    <a:lnTo>
                      <a:pt x="990" y="29"/>
                    </a:lnTo>
                    <a:lnTo>
                      <a:pt x="995" y="34"/>
                    </a:lnTo>
                    <a:lnTo>
                      <a:pt x="995" y="39"/>
                    </a:lnTo>
                    <a:lnTo>
                      <a:pt x="995" y="43"/>
                    </a:lnTo>
                    <a:lnTo>
                      <a:pt x="1000" y="43"/>
                    </a:lnTo>
                    <a:lnTo>
                      <a:pt x="1000" y="48"/>
                    </a:lnTo>
                    <a:lnTo>
                      <a:pt x="1005" y="53"/>
                    </a:lnTo>
                    <a:lnTo>
                      <a:pt x="1005" y="58"/>
                    </a:lnTo>
                    <a:lnTo>
                      <a:pt x="1009" y="62"/>
                    </a:lnTo>
                    <a:lnTo>
                      <a:pt x="1009" y="67"/>
                    </a:lnTo>
                    <a:lnTo>
                      <a:pt x="1009" y="72"/>
                    </a:lnTo>
                    <a:lnTo>
                      <a:pt x="1014" y="77"/>
                    </a:lnTo>
                    <a:lnTo>
                      <a:pt x="1014" y="82"/>
                    </a:lnTo>
                    <a:lnTo>
                      <a:pt x="1019" y="86"/>
                    </a:lnTo>
                    <a:lnTo>
                      <a:pt x="1019" y="91"/>
                    </a:lnTo>
                    <a:lnTo>
                      <a:pt x="1024" y="96"/>
                    </a:lnTo>
                    <a:lnTo>
                      <a:pt x="1024" y="105"/>
                    </a:lnTo>
                    <a:lnTo>
                      <a:pt x="1024" y="110"/>
                    </a:lnTo>
                    <a:lnTo>
                      <a:pt x="1028" y="115"/>
                    </a:lnTo>
                    <a:lnTo>
                      <a:pt x="1028" y="120"/>
                    </a:lnTo>
                    <a:lnTo>
                      <a:pt x="1033" y="124"/>
                    </a:lnTo>
                    <a:lnTo>
                      <a:pt x="1033" y="129"/>
                    </a:lnTo>
                    <a:lnTo>
                      <a:pt x="1038" y="134"/>
                    </a:lnTo>
                    <a:lnTo>
                      <a:pt x="1038" y="139"/>
                    </a:lnTo>
                    <a:lnTo>
                      <a:pt x="1038" y="148"/>
                    </a:lnTo>
                    <a:lnTo>
                      <a:pt x="1043" y="153"/>
                    </a:lnTo>
                    <a:lnTo>
                      <a:pt x="1043" y="158"/>
                    </a:lnTo>
                    <a:lnTo>
                      <a:pt x="1048" y="163"/>
                    </a:lnTo>
                    <a:lnTo>
                      <a:pt x="1048" y="167"/>
                    </a:lnTo>
                    <a:lnTo>
                      <a:pt x="1048" y="172"/>
                    </a:lnTo>
                    <a:lnTo>
                      <a:pt x="1052" y="177"/>
                    </a:lnTo>
                    <a:lnTo>
                      <a:pt x="1052" y="182"/>
                    </a:lnTo>
                    <a:lnTo>
                      <a:pt x="1057" y="191"/>
                    </a:lnTo>
                    <a:lnTo>
                      <a:pt x="1057" y="196"/>
                    </a:lnTo>
                    <a:lnTo>
                      <a:pt x="1062" y="201"/>
                    </a:lnTo>
                    <a:lnTo>
                      <a:pt x="1062" y="206"/>
                    </a:lnTo>
                    <a:lnTo>
                      <a:pt x="1062" y="210"/>
                    </a:lnTo>
                    <a:lnTo>
                      <a:pt x="1067" y="215"/>
                    </a:lnTo>
                    <a:lnTo>
                      <a:pt x="1067" y="220"/>
                    </a:lnTo>
                    <a:lnTo>
                      <a:pt x="1072" y="225"/>
                    </a:lnTo>
                    <a:lnTo>
                      <a:pt x="1072" y="234"/>
                    </a:lnTo>
                    <a:lnTo>
                      <a:pt x="1076" y="239"/>
                    </a:lnTo>
                    <a:lnTo>
                      <a:pt x="1076" y="244"/>
                    </a:lnTo>
                    <a:lnTo>
                      <a:pt x="1076" y="249"/>
                    </a:lnTo>
                    <a:lnTo>
                      <a:pt x="1081" y="253"/>
                    </a:lnTo>
                    <a:lnTo>
                      <a:pt x="1081" y="258"/>
                    </a:lnTo>
                    <a:lnTo>
                      <a:pt x="1086" y="263"/>
                    </a:lnTo>
                    <a:lnTo>
                      <a:pt x="1086" y="268"/>
                    </a:lnTo>
                    <a:lnTo>
                      <a:pt x="1086" y="273"/>
                    </a:lnTo>
                    <a:lnTo>
                      <a:pt x="1091" y="277"/>
                    </a:lnTo>
                    <a:lnTo>
                      <a:pt x="1091" y="287"/>
                    </a:lnTo>
                    <a:lnTo>
                      <a:pt x="1095" y="292"/>
                    </a:lnTo>
                    <a:lnTo>
                      <a:pt x="1095" y="296"/>
                    </a:lnTo>
                    <a:lnTo>
                      <a:pt x="1100" y="301"/>
                    </a:lnTo>
                    <a:lnTo>
                      <a:pt x="1100" y="306"/>
                    </a:lnTo>
                    <a:lnTo>
                      <a:pt x="1100" y="311"/>
                    </a:lnTo>
                    <a:lnTo>
                      <a:pt x="1105" y="316"/>
                    </a:lnTo>
                    <a:lnTo>
                      <a:pt x="1105" y="320"/>
                    </a:lnTo>
                    <a:lnTo>
                      <a:pt x="1110" y="325"/>
                    </a:lnTo>
                    <a:lnTo>
                      <a:pt x="1110" y="330"/>
                    </a:lnTo>
                    <a:lnTo>
                      <a:pt x="1115" y="335"/>
                    </a:lnTo>
                    <a:lnTo>
                      <a:pt x="1115" y="339"/>
                    </a:lnTo>
                    <a:lnTo>
                      <a:pt x="1115" y="344"/>
                    </a:lnTo>
                    <a:lnTo>
                      <a:pt x="1119" y="349"/>
                    </a:lnTo>
                    <a:lnTo>
                      <a:pt x="1119" y="354"/>
                    </a:lnTo>
                    <a:lnTo>
                      <a:pt x="1124" y="359"/>
                    </a:lnTo>
                    <a:lnTo>
                      <a:pt x="1124" y="363"/>
                    </a:lnTo>
                    <a:lnTo>
                      <a:pt x="1129" y="368"/>
                    </a:lnTo>
                    <a:lnTo>
                      <a:pt x="1129" y="373"/>
                    </a:lnTo>
                    <a:lnTo>
                      <a:pt x="1129" y="378"/>
                    </a:lnTo>
                    <a:lnTo>
                      <a:pt x="1134" y="382"/>
                    </a:lnTo>
                    <a:lnTo>
                      <a:pt x="1134" y="387"/>
                    </a:lnTo>
                    <a:lnTo>
                      <a:pt x="1138" y="392"/>
                    </a:lnTo>
                    <a:lnTo>
                      <a:pt x="1138" y="397"/>
                    </a:lnTo>
                    <a:lnTo>
                      <a:pt x="1138" y="402"/>
                    </a:lnTo>
                    <a:lnTo>
                      <a:pt x="1143" y="406"/>
                    </a:lnTo>
                    <a:lnTo>
                      <a:pt x="1143" y="411"/>
                    </a:lnTo>
                    <a:lnTo>
                      <a:pt x="1148" y="416"/>
                    </a:lnTo>
                    <a:lnTo>
                      <a:pt x="1148" y="421"/>
                    </a:lnTo>
                    <a:lnTo>
                      <a:pt x="1153" y="425"/>
                    </a:lnTo>
                    <a:lnTo>
                      <a:pt x="1153" y="430"/>
                    </a:lnTo>
                    <a:lnTo>
                      <a:pt x="1153" y="435"/>
                    </a:lnTo>
                    <a:lnTo>
                      <a:pt x="1158" y="440"/>
                    </a:lnTo>
                    <a:lnTo>
                      <a:pt x="1158" y="444"/>
                    </a:lnTo>
                    <a:lnTo>
                      <a:pt x="1162" y="449"/>
                    </a:lnTo>
                    <a:lnTo>
                      <a:pt x="1162" y="454"/>
                    </a:lnTo>
                    <a:lnTo>
                      <a:pt x="1167" y="459"/>
                    </a:lnTo>
                    <a:lnTo>
                      <a:pt x="1167" y="464"/>
                    </a:lnTo>
                    <a:lnTo>
                      <a:pt x="1167" y="468"/>
                    </a:lnTo>
                    <a:lnTo>
                      <a:pt x="1172" y="473"/>
                    </a:lnTo>
                    <a:lnTo>
                      <a:pt x="1172" y="478"/>
                    </a:lnTo>
                    <a:lnTo>
                      <a:pt x="1177" y="483"/>
                    </a:lnTo>
                    <a:lnTo>
                      <a:pt x="1177" y="487"/>
                    </a:lnTo>
                    <a:lnTo>
                      <a:pt x="1182" y="492"/>
                    </a:lnTo>
                    <a:lnTo>
                      <a:pt x="1182" y="497"/>
                    </a:lnTo>
                    <a:lnTo>
                      <a:pt x="1182" y="502"/>
                    </a:lnTo>
                    <a:lnTo>
                      <a:pt x="1186" y="507"/>
                    </a:lnTo>
                    <a:lnTo>
                      <a:pt x="1186" y="511"/>
                    </a:lnTo>
                    <a:lnTo>
                      <a:pt x="1191" y="511"/>
                    </a:lnTo>
                    <a:lnTo>
                      <a:pt x="1191" y="516"/>
                    </a:lnTo>
                    <a:lnTo>
                      <a:pt x="1191" y="521"/>
                    </a:lnTo>
                    <a:lnTo>
                      <a:pt x="1196" y="526"/>
                    </a:lnTo>
                    <a:lnTo>
                      <a:pt x="1196" y="530"/>
                    </a:lnTo>
                    <a:lnTo>
                      <a:pt x="1201" y="535"/>
                    </a:lnTo>
                    <a:lnTo>
                      <a:pt x="1201" y="540"/>
                    </a:lnTo>
                    <a:lnTo>
                      <a:pt x="1205" y="545"/>
                    </a:lnTo>
                    <a:lnTo>
                      <a:pt x="1205" y="550"/>
                    </a:lnTo>
                    <a:lnTo>
                      <a:pt x="1205" y="554"/>
                    </a:lnTo>
                    <a:lnTo>
                      <a:pt x="1210" y="559"/>
                    </a:lnTo>
                    <a:lnTo>
                      <a:pt x="1210" y="564"/>
                    </a:lnTo>
                    <a:lnTo>
                      <a:pt x="1215" y="569"/>
                    </a:lnTo>
                    <a:lnTo>
                      <a:pt x="1215" y="573"/>
                    </a:lnTo>
                    <a:lnTo>
                      <a:pt x="1220" y="578"/>
                    </a:lnTo>
                    <a:lnTo>
                      <a:pt x="1220" y="583"/>
                    </a:lnTo>
                    <a:lnTo>
                      <a:pt x="1220" y="588"/>
                    </a:lnTo>
                    <a:lnTo>
                      <a:pt x="1225" y="593"/>
                    </a:lnTo>
                    <a:lnTo>
                      <a:pt x="1225" y="597"/>
                    </a:lnTo>
                    <a:lnTo>
                      <a:pt x="1229" y="602"/>
                    </a:lnTo>
                    <a:lnTo>
                      <a:pt x="1229" y="607"/>
                    </a:lnTo>
                    <a:lnTo>
                      <a:pt x="1234" y="612"/>
                    </a:lnTo>
                    <a:lnTo>
                      <a:pt x="1234" y="616"/>
                    </a:lnTo>
                    <a:lnTo>
                      <a:pt x="1234" y="621"/>
                    </a:lnTo>
                    <a:lnTo>
                      <a:pt x="1239" y="626"/>
                    </a:lnTo>
                    <a:lnTo>
                      <a:pt x="1239" y="631"/>
                    </a:lnTo>
                    <a:lnTo>
                      <a:pt x="1244" y="636"/>
                    </a:lnTo>
                    <a:lnTo>
                      <a:pt x="1244" y="640"/>
                    </a:lnTo>
                    <a:lnTo>
                      <a:pt x="1244" y="645"/>
                    </a:lnTo>
                    <a:lnTo>
                      <a:pt x="1248" y="650"/>
                    </a:lnTo>
                    <a:lnTo>
                      <a:pt x="1248" y="655"/>
                    </a:lnTo>
                    <a:lnTo>
                      <a:pt x="1253" y="659"/>
                    </a:lnTo>
                    <a:lnTo>
                      <a:pt x="1253" y="664"/>
                    </a:lnTo>
                    <a:lnTo>
                      <a:pt x="1258" y="669"/>
                    </a:lnTo>
                    <a:lnTo>
                      <a:pt x="1258" y="674"/>
                    </a:lnTo>
                    <a:lnTo>
                      <a:pt x="1258" y="679"/>
                    </a:lnTo>
                    <a:lnTo>
                      <a:pt x="1263" y="683"/>
                    </a:lnTo>
                    <a:lnTo>
                      <a:pt x="1263" y="688"/>
                    </a:lnTo>
                    <a:lnTo>
                      <a:pt x="1268" y="693"/>
                    </a:lnTo>
                    <a:lnTo>
                      <a:pt x="1268" y="698"/>
                    </a:lnTo>
                    <a:lnTo>
                      <a:pt x="1272" y="702"/>
                    </a:lnTo>
                    <a:lnTo>
                      <a:pt x="1272" y="707"/>
                    </a:lnTo>
                    <a:lnTo>
                      <a:pt x="1272" y="712"/>
                    </a:lnTo>
                    <a:lnTo>
                      <a:pt x="1277" y="717"/>
                    </a:lnTo>
                    <a:lnTo>
                      <a:pt x="1277" y="722"/>
                    </a:lnTo>
                    <a:lnTo>
                      <a:pt x="1282" y="726"/>
                    </a:lnTo>
                    <a:lnTo>
                      <a:pt x="1282" y="731"/>
                    </a:lnTo>
                    <a:lnTo>
                      <a:pt x="1287" y="736"/>
                    </a:lnTo>
                    <a:lnTo>
                      <a:pt x="1287" y="741"/>
                    </a:lnTo>
                    <a:lnTo>
                      <a:pt x="1287" y="745"/>
                    </a:lnTo>
                    <a:lnTo>
                      <a:pt x="1291" y="750"/>
                    </a:lnTo>
                    <a:lnTo>
                      <a:pt x="1291" y="755"/>
                    </a:lnTo>
                    <a:lnTo>
                      <a:pt x="1296" y="760"/>
                    </a:lnTo>
                    <a:lnTo>
                      <a:pt x="1296" y="764"/>
                    </a:lnTo>
                    <a:lnTo>
                      <a:pt x="1296" y="769"/>
                    </a:lnTo>
                    <a:lnTo>
                      <a:pt x="1301" y="774"/>
                    </a:lnTo>
                    <a:lnTo>
                      <a:pt x="1301" y="784"/>
                    </a:lnTo>
                    <a:lnTo>
                      <a:pt x="1306" y="788"/>
                    </a:lnTo>
                    <a:lnTo>
                      <a:pt x="1306" y="793"/>
                    </a:lnTo>
                    <a:lnTo>
                      <a:pt x="1311" y="798"/>
                    </a:lnTo>
                    <a:lnTo>
                      <a:pt x="1311" y="803"/>
                    </a:lnTo>
                    <a:lnTo>
                      <a:pt x="1311" y="807"/>
                    </a:lnTo>
                    <a:lnTo>
                      <a:pt x="1315" y="812"/>
                    </a:lnTo>
                    <a:lnTo>
                      <a:pt x="1315" y="817"/>
                    </a:lnTo>
                    <a:lnTo>
                      <a:pt x="1320" y="827"/>
                    </a:lnTo>
                    <a:lnTo>
                      <a:pt x="1320" y="831"/>
                    </a:lnTo>
                    <a:lnTo>
                      <a:pt x="1325" y="836"/>
                    </a:lnTo>
                    <a:lnTo>
                      <a:pt x="1325" y="841"/>
                    </a:lnTo>
                    <a:lnTo>
                      <a:pt x="1325" y="846"/>
                    </a:lnTo>
                    <a:lnTo>
                      <a:pt x="1330" y="855"/>
                    </a:lnTo>
                    <a:lnTo>
                      <a:pt x="1330" y="860"/>
                    </a:lnTo>
                    <a:lnTo>
                      <a:pt x="1335" y="865"/>
                    </a:lnTo>
                    <a:lnTo>
                      <a:pt x="1335" y="870"/>
                    </a:lnTo>
                    <a:lnTo>
                      <a:pt x="1339" y="874"/>
                    </a:lnTo>
                    <a:lnTo>
                      <a:pt x="1339" y="884"/>
                    </a:lnTo>
                    <a:lnTo>
                      <a:pt x="1339" y="889"/>
                    </a:lnTo>
                    <a:lnTo>
                      <a:pt x="1344" y="893"/>
                    </a:lnTo>
                    <a:lnTo>
                      <a:pt x="1344" y="903"/>
                    </a:lnTo>
                    <a:lnTo>
                      <a:pt x="1349" y="908"/>
                    </a:lnTo>
                    <a:lnTo>
                      <a:pt x="1349" y="913"/>
                    </a:lnTo>
                    <a:lnTo>
                      <a:pt x="1349" y="922"/>
                    </a:lnTo>
                    <a:lnTo>
                      <a:pt x="1354" y="927"/>
                    </a:lnTo>
                    <a:lnTo>
                      <a:pt x="1354" y="932"/>
                    </a:lnTo>
                    <a:lnTo>
                      <a:pt x="1358" y="941"/>
                    </a:lnTo>
                    <a:lnTo>
                      <a:pt x="1358" y="946"/>
                    </a:lnTo>
                    <a:lnTo>
                      <a:pt x="1363" y="956"/>
                    </a:lnTo>
                    <a:lnTo>
                      <a:pt x="1363" y="960"/>
                    </a:lnTo>
                    <a:lnTo>
                      <a:pt x="1363" y="970"/>
                    </a:lnTo>
                    <a:lnTo>
                      <a:pt x="1368" y="975"/>
                    </a:lnTo>
                    <a:lnTo>
                      <a:pt x="1368" y="984"/>
                    </a:lnTo>
                    <a:lnTo>
                      <a:pt x="1373" y="989"/>
                    </a:lnTo>
                    <a:lnTo>
                      <a:pt x="1373" y="999"/>
                    </a:lnTo>
                    <a:lnTo>
                      <a:pt x="1378" y="1003"/>
                    </a:lnTo>
                    <a:lnTo>
                      <a:pt x="1378" y="1013"/>
                    </a:lnTo>
                    <a:lnTo>
                      <a:pt x="1378" y="1018"/>
                    </a:lnTo>
                    <a:lnTo>
                      <a:pt x="1382" y="1027"/>
                    </a:lnTo>
                    <a:lnTo>
                      <a:pt x="1382" y="1037"/>
                    </a:lnTo>
                    <a:lnTo>
                      <a:pt x="1387" y="1046"/>
                    </a:lnTo>
                    <a:lnTo>
                      <a:pt x="1387" y="1051"/>
                    </a:lnTo>
                    <a:lnTo>
                      <a:pt x="1387" y="1061"/>
                    </a:lnTo>
                    <a:lnTo>
                      <a:pt x="1392" y="1070"/>
                    </a:lnTo>
                    <a:lnTo>
                      <a:pt x="1392" y="1080"/>
                    </a:lnTo>
                    <a:lnTo>
                      <a:pt x="1397" y="1089"/>
                    </a:lnTo>
                    <a:lnTo>
                      <a:pt x="1397" y="1099"/>
                    </a:lnTo>
                    <a:lnTo>
                      <a:pt x="1401" y="1108"/>
                    </a:lnTo>
                    <a:lnTo>
                      <a:pt x="1401" y="1118"/>
                    </a:lnTo>
                    <a:lnTo>
                      <a:pt x="1401" y="1127"/>
                    </a:lnTo>
                    <a:lnTo>
                      <a:pt x="1406" y="1137"/>
                    </a:lnTo>
                    <a:lnTo>
                      <a:pt x="1406" y="1147"/>
                    </a:lnTo>
                    <a:lnTo>
                      <a:pt x="1411" y="1161"/>
                    </a:lnTo>
                    <a:lnTo>
                      <a:pt x="1411" y="1170"/>
                    </a:lnTo>
                    <a:lnTo>
                      <a:pt x="1416" y="1185"/>
                    </a:lnTo>
                    <a:lnTo>
                      <a:pt x="1416" y="1194"/>
                    </a:lnTo>
                    <a:lnTo>
                      <a:pt x="1416" y="1209"/>
                    </a:lnTo>
                    <a:lnTo>
                      <a:pt x="1421" y="1223"/>
                    </a:lnTo>
                    <a:lnTo>
                      <a:pt x="1421" y="1237"/>
                    </a:lnTo>
                    <a:lnTo>
                      <a:pt x="1425" y="1252"/>
                    </a:lnTo>
                    <a:lnTo>
                      <a:pt x="1425" y="1266"/>
                    </a:lnTo>
                    <a:lnTo>
                      <a:pt x="1430" y="1280"/>
                    </a:lnTo>
                    <a:lnTo>
                      <a:pt x="1430" y="1299"/>
                    </a:lnTo>
                    <a:lnTo>
                      <a:pt x="1430" y="1314"/>
                    </a:lnTo>
                    <a:lnTo>
                      <a:pt x="1435" y="1333"/>
                    </a:lnTo>
                    <a:lnTo>
                      <a:pt x="1435" y="1357"/>
                    </a:lnTo>
                    <a:lnTo>
                      <a:pt x="1435" y="1355"/>
                    </a:lnTo>
                    <a:lnTo>
                      <a:pt x="1434" y="1355"/>
                    </a:lnTo>
                    <a:lnTo>
                      <a:pt x="1432" y="1357"/>
                    </a:lnTo>
                    <a:lnTo>
                      <a:pt x="1434" y="1356"/>
                    </a:lnTo>
                    <a:lnTo>
                      <a:pt x="1434" y="1355"/>
                    </a:lnTo>
                    <a:lnTo>
                      <a:pt x="1434" y="1355"/>
                    </a:lnTo>
                    <a:lnTo>
                      <a:pt x="1434" y="1356"/>
                    </a:lnTo>
                    <a:lnTo>
                      <a:pt x="1434" y="1356"/>
                    </a:lnTo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311960" y="5904000"/>
                <a:ext cx="785880" cy="433440"/>
              </a:xfrm>
              <a:custGeom>
                <a:avLst/>
                <a:gdLst/>
                <a:ahLst/>
                <a:rect l="l" t="t" r="r" b="b"/>
                <a:pathLst>
                  <a:path w="495" h="273">
                    <a:moveTo>
                      <a:pt x="1" y="259"/>
                    </a:moveTo>
                    <a:lnTo>
                      <a:pt x="0" y="260"/>
                    </a:lnTo>
                    <a:lnTo>
                      <a:pt x="0" y="258"/>
                    </a:lnTo>
                    <a:lnTo>
                      <a:pt x="0" y="260"/>
                    </a:lnTo>
                    <a:lnTo>
                      <a:pt x="0" y="259"/>
                    </a:lnTo>
                    <a:lnTo>
                      <a:pt x="0" y="259"/>
                    </a:lnTo>
                    <a:lnTo>
                      <a:pt x="0" y="260"/>
                    </a:lnTo>
                    <a:lnTo>
                      <a:pt x="0" y="260"/>
                    </a:lnTo>
                    <a:lnTo>
                      <a:pt x="0" y="258"/>
                    </a:lnTo>
                    <a:lnTo>
                      <a:pt x="0" y="260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" y="257"/>
                    </a:lnTo>
                    <a:lnTo>
                      <a:pt x="6" y="248"/>
                    </a:lnTo>
                    <a:lnTo>
                      <a:pt x="6" y="238"/>
                    </a:lnTo>
                    <a:lnTo>
                      <a:pt x="11" y="224"/>
                    </a:lnTo>
                    <a:lnTo>
                      <a:pt x="11" y="214"/>
                    </a:lnTo>
                    <a:lnTo>
                      <a:pt x="16" y="205"/>
                    </a:lnTo>
                    <a:lnTo>
                      <a:pt x="16" y="200"/>
                    </a:lnTo>
                    <a:lnTo>
                      <a:pt x="16" y="191"/>
                    </a:lnTo>
                    <a:lnTo>
                      <a:pt x="20" y="181"/>
                    </a:lnTo>
                    <a:lnTo>
                      <a:pt x="20" y="176"/>
                    </a:lnTo>
                    <a:lnTo>
                      <a:pt x="25" y="167"/>
                    </a:lnTo>
                    <a:lnTo>
                      <a:pt x="25" y="162"/>
                    </a:lnTo>
                    <a:lnTo>
                      <a:pt x="30" y="152"/>
                    </a:lnTo>
                    <a:lnTo>
                      <a:pt x="30" y="148"/>
                    </a:lnTo>
                    <a:lnTo>
                      <a:pt x="30" y="143"/>
                    </a:lnTo>
                    <a:lnTo>
                      <a:pt x="35" y="138"/>
                    </a:lnTo>
                    <a:lnTo>
                      <a:pt x="35" y="133"/>
                    </a:lnTo>
                    <a:lnTo>
                      <a:pt x="40" y="124"/>
                    </a:lnTo>
                    <a:lnTo>
                      <a:pt x="40" y="119"/>
                    </a:lnTo>
                    <a:lnTo>
                      <a:pt x="44" y="114"/>
                    </a:lnTo>
                    <a:lnTo>
                      <a:pt x="44" y="109"/>
                    </a:lnTo>
                    <a:lnTo>
                      <a:pt x="49" y="105"/>
                    </a:lnTo>
                    <a:lnTo>
                      <a:pt x="49" y="100"/>
                    </a:lnTo>
                    <a:lnTo>
                      <a:pt x="54" y="95"/>
                    </a:lnTo>
                    <a:lnTo>
                      <a:pt x="54" y="90"/>
                    </a:lnTo>
                    <a:lnTo>
                      <a:pt x="54" y="85"/>
                    </a:lnTo>
                    <a:lnTo>
                      <a:pt x="59" y="85"/>
                    </a:lnTo>
                    <a:lnTo>
                      <a:pt x="59" y="81"/>
                    </a:lnTo>
                    <a:lnTo>
                      <a:pt x="64" y="76"/>
                    </a:lnTo>
                    <a:lnTo>
                      <a:pt x="68" y="71"/>
                    </a:lnTo>
                    <a:lnTo>
                      <a:pt x="68" y="66"/>
                    </a:lnTo>
                    <a:lnTo>
                      <a:pt x="73" y="62"/>
                    </a:lnTo>
                    <a:lnTo>
                      <a:pt x="78" y="57"/>
                    </a:lnTo>
                    <a:lnTo>
                      <a:pt x="83" y="52"/>
                    </a:lnTo>
                    <a:lnTo>
                      <a:pt x="83" y="47"/>
                    </a:lnTo>
                    <a:lnTo>
                      <a:pt x="87" y="47"/>
                    </a:lnTo>
                    <a:lnTo>
                      <a:pt x="87" y="42"/>
                    </a:lnTo>
                    <a:lnTo>
                      <a:pt x="92" y="42"/>
                    </a:lnTo>
                    <a:lnTo>
                      <a:pt x="92" y="38"/>
                    </a:lnTo>
                    <a:lnTo>
                      <a:pt x="97" y="38"/>
                    </a:lnTo>
                    <a:lnTo>
                      <a:pt x="97" y="33"/>
                    </a:lnTo>
                    <a:lnTo>
                      <a:pt x="102" y="33"/>
                    </a:lnTo>
                    <a:lnTo>
                      <a:pt x="107" y="28"/>
                    </a:lnTo>
                    <a:lnTo>
                      <a:pt x="111" y="23"/>
                    </a:lnTo>
                    <a:lnTo>
                      <a:pt x="116" y="23"/>
                    </a:lnTo>
                    <a:lnTo>
                      <a:pt x="121" y="19"/>
                    </a:lnTo>
                    <a:lnTo>
                      <a:pt x="126" y="19"/>
                    </a:lnTo>
                    <a:lnTo>
                      <a:pt x="126" y="14"/>
                    </a:lnTo>
                    <a:lnTo>
                      <a:pt x="130" y="14"/>
                    </a:lnTo>
                    <a:lnTo>
                      <a:pt x="135" y="14"/>
                    </a:lnTo>
                    <a:lnTo>
                      <a:pt x="135" y="9"/>
                    </a:lnTo>
                    <a:lnTo>
                      <a:pt x="140" y="9"/>
                    </a:lnTo>
                    <a:lnTo>
                      <a:pt x="145" y="9"/>
                    </a:lnTo>
                    <a:lnTo>
                      <a:pt x="150" y="9"/>
                    </a:lnTo>
                    <a:lnTo>
                      <a:pt x="150" y="4"/>
                    </a:lnTo>
                    <a:lnTo>
                      <a:pt x="154" y="4"/>
                    </a:lnTo>
                    <a:lnTo>
                      <a:pt x="159" y="4"/>
                    </a:lnTo>
                    <a:lnTo>
                      <a:pt x="164" y="4"/>
                    </a:lnTo>
                    <a:lnTo>
                      <a:pt x="169" y="4"/>
                    </a:lnTo>
                    <a:lnTo>
                      <a:pt x="174" y="0"/>
                    </a:lnTo>
                    <a:lnTo>
                      <a:pt x="178" y="0"/>
                    </a:lnTo>
                    <a:lnTo>
                      <a:pt x="183" y="0"/>
                    </a:lnTo>
                    <a:lnTo>
                      <a:pt x="188" y="0"/>
                    </a:lnTo>
                    <a:lnTo>
                      <a:pt x="193" y="0"/>
                    </a:lnTo>
                    <a:lnTo>
                      <a:pt x="197" y="0"/>
                    </a:lnTo>
                    <a:lnTo>
                      <a:pt x="202" y="0"/>
                    </a:lnTo>
                    <a:lnTo>
                      <a:pt x="207" y="0"/>
                    </a:lnTo>
                    <a:lnTo>
                      <a:pt x="212" y="0"/>
                    </a:lnTo>
                    <a:lnTo>
                      <a:pt x="217" y="0"/>
                    </a:lnTo>
                    <a:lnTo>
                      <a:pt x="217" y="4"/>
                    </a:lnTo>
                    <a:lnTo>
                      <a:pt x="221" y="4"/>
                    </a:lnTo>
                    <a:lnTo>
                      <a:pt x="226" y="4"/>
                    </a:lnTo>
                    <a:lnTo>
                      <a:pt x="231" y="4"/>
                    </a:lnTo>
                    <a:lnTo>
                      <a:pt x="236" y="4"/>
                    </a:lnTo>
                    <a:lnTo>
                      <a:pt x="240" y="4"/>
                    </a:lnTo>
                    <a:lnTo>
                      <a:pt x="240" y="9"/>
                    </a:lnTo>
                    <a:lnTo>
                      <a:pt x="245" y="9"/>
                    </a:lnTo>
                    <a:lnTo>
                      <a:pt x="250" y="9"/>
                    </a:lnTo>
                    <a:lnTo>
                      <a:pt x="255" y="9"/>
                    </a:lnTo>
                    <a:lnTo>
                      <a:pt x="260" y="14"/>
                    </a:lnTo>
                    <a:lnTo>
                      <a:pt x="264" y="14"/>
                    </a:lnTo>
                    <a:lnTo>
                      <a:pt x="269" y="14"/>
                    </a:lnTo>
                    <a:lnTo>
                      <a:pt x="274" y="19"/>
                    </a:lnTo>
                    <a:lnTo>
                      <a:pt x="279" y="19"/>
                    </a:lnTo>
                    <a:lnTo>
                      <a:pt x="283" y="23"/>
                    </a:lnTo>
                    <a:lnTo>
                      <a:pt x="288" y="23"/>
                    </a:lnTo>
                    <a:lnTo>
                      <a:pt x="293" y="23"/>
                    </a:lnTo>
                    <a:lnTo>
                      <a:pt x="293" y="28"/>
                    </a:lnTo>
                    <a:lnTo>
                      <a:pt x="298" y="28"/>
                    </a:lnTo>
                    <a:lnTo>
                      <a:pt x="303" y="28"/>
                    </a:lnTo>
                    <a:lnTo>
                      <a:pt x="303" y="33"/>
                    </a:lnTo>
                    <a:lnTo>
                      <a:pt x="307" y="33"/>
                    </a:lnTo>
                    <a:lnTo>
                      <a:pt x="312" y="38"/>
                    </a:lnTo>
                    <a:lnTo>
                      <a:pt x="317" y="38"/>
                    </a:lnTo>
                    <a:lnTo>
                      <a:pt x="317" y="42"/>
                    </a:lnTo>
                    <a:lnTo>
                      <a:pt x="322" y="42"/>
                    </a:lnTo>
                    <a:lnTo>
                      <a:pt x="327" y="42"/>
                    </a:lnTo>
                    <a:lnTo>
                      <a:pt x="327" y="47"/>
                    </a:lnTo>
                    <a:lnTo>
                      <a:pt x="331" y="47"/>
                    </a:lnTo>
                    <a:lnTo>
                      <a:pt x="331" y="52"/>
                    </a:lnTo>
                    <a:lnTo>
                      <a:pt x="336" y="52"/>
                    </a:lnTo>
                    <a:lnTo>
                      <a:pt x="341" y="57"/>
                    </a:lnTo>
                    <a:lnTo>
                      <a:pt x="346" y="57"/>
                    </a:lnTo>
                    <a:lnTo>
                      <a:pt x="346" y="62"/>
                    </a:lnTo>
                    <a:lnTo>
                      <a:pt x="350" y="62"/>
                    </a:lnTo>
                    <a:lnTo>
                      <a:pt x="355" y="66"/>
                    </a:lnTo>
                    <a:lnTo>
                      <a:pt x="355" y="71"/>
                    </a:lnTo>
                    <a:lnTo>
                      <a:pt x="360" y="71"/>
                    </a:lnTo>
                    <a:lnTo>
                      <a:pt x="365" y="76"/>
                    </a:lnTo>
                    <a:lnTo>
                      <a:pt x="370" y="76"/>
                    </a:lnTo>
                    <a:lnTo>
                      <a:pt x="370" y="81"/>
                    </a:lnTo>
                    <a:lnTo>
                      <a:pt x="374" y="85"/>
                    </a:lnTo>
                    <a:lnTo>
                      <a:pt x="379" y="85"/>
                    </a:lnTo>
                    <a:lnTo>
                      <a:pt x="379" y="90"/>
                    </a:lnTo>
                    <a:lnTo>
                      <a:pt x="384" y="90"/>
                    </a:lnTo>
                    <a:lnTo>
                      <a:pt x="384" y="95"/>
                    </a:lnTo>
                    <a:lnTo>
                      <a:pt x="389" y="100"/>
                    </a:lnTo>
                    <a:lnTo>
                      <a:pt x="393" y="100"/>
                    </a:lnTo>
                    <a:lnTo>
                      <a:pt x="393" y="105"/>
                    </a:lnTo>
                    <a:lnTo>
                      <a:pt x="398" y="105"/>
                    </a:lnTo>
                    <a:lnTo>
                      <a:pt x="398" y="109"/>
                    </a:lnTo>
                    <a:lnTo>
                      <a:pt x="403" y="114"/>
                    </a:lnTo>
                    <a:lnTo>
                      <a:pt x="408" y="119"/>
                    </a:lnTo>
                    <a:lnTo>
                      <a:pt x="408" y="124"/>
                    </a:lnTo>
                    <a:lnTo>
                      <a:pt x="413" y="124"/>
                    </a:lnTo>
                    <a:lnTo>
                      <a:pt x="413" y="128"/>
                    </a:lnTo>
                    <a:lnTo>
                      <a:pt x="417" y="128"/>
                    </a:lnTo>
                    <a:lnTo>
                      <a:pt x="417" y="133"/>
                    </a:lnTo>
                    <a:lnTo>
                      <a:pt x="422" y="138"/>
                    </a:lnTo>
                    <a:lnTo>
                      <a:pt x="422" y="143"/>
                    </a:lnTo>
                    <a:lnTo>
                      <a:pt x="427" y="143"/>
                    </a:lnTo>
                    <a:lnTo>
                      <a:pt x="427" y="148"/>
                    </a:lnTo>
                    <a:lnTo>
                      <a:pt x="432" y="152"/>
                    </a:lnTo>
                    <a:lnTo>
                      <a:pt x="437" y="157"/>
                    </a:lnTo>
                    <a:lnTo>
                      <a:pt x="437" y="162"/>
                    </a:lnTo>
                    <a:lnTo>
                      <a:pt x="441" y="167"/>
                    </a:lnTo>
                    <a:lnTo>
                      <a:pt x="446" y="171"/>
                    </a:lnTo>
                    <a:lnTo>
                      <a:pt x="446" y="176"/>
                    </a:lnTo>
                    <a:lnTo>
                      <a:pt x="451" y="176"/>
                    </a:lnTo>
                    <a:lnTo>
                      <a:pt x="451" y="181"/>
                    </a:lnTo>
                    <a:lnTo>
                      <a:pt x="451" y="186"/>
                    </a:lnTo>
                    <a:lnTo>
                      <a:pt x="456" y="191"/>
                    </a:lnTo>
                    <a:lnTo>
                      <a:pt x="460" y="195"/>
                    </a:lnTo>
                    <a:lnTo>
                      <a:pt x="460" y="200"/>
                    </a:lnTo>
                    <a:lnTo>
                      <a:pt x="460" y="205"/>
                    </a:lnTo>
                    <a:lnTo>
                      <a:pt x="465" y="210"/>
                    </a:lnTo>
                    <a:lnTo>
                      <a:pt x="470" y="214"/>
                    </a:lnTo>
                    <a:lnTo>
                      <a:pt x="470" y="219"/>
                    </a:lnTo>
                    <a:lnTo>
                      <a:pt x="475" y="224"/>
                    </a:lnTo>
                    <a:lnTo>
                      <a:pt x="475" y="229"/>
                    </a:lnTo>
                    <a:lnTo>
                      <a:pt x="475" y="234"/>
                    </a:lnTo>
                    <a:lnTo>
                      <a:pt x="480" y="238"/>
                    </a:lnTo>
                    <a:lnTo>
                      <a:pt x="480" y="243"/>
                    </a:lnTo>
                    <a:lnTo>
                      <a:pt x="484" y="248"/>
                    </a:lnTo>
                    <a:lnTo>
                      <a:pt x="484" y="253"/>
                    </a:lnTo>
                    <a:lnTo>
                      <a:pt x="489" y="257"/>
                    </a:lnTo>
                    <a:lnTo>
                      <a:pt x="489" y="262"/>
                    </a:lnTo>
                    <a:lnTo>
                      <a:pt x="489" y="267"/>
                    </a:lnTo>
                    <a:lnTo>
                      <a:pt x="494" y="272"/>
                    </a:lnTo>
                    <a:lnTo>
                      <a:pt x="490" y="269"/>
                    </a:lnTo>
                    <a:lnTo>
                      <a:pt x="492" y="267"/>
                    </a:lnTo>
                    <a:lnTo>
                      <a:pt x="492" y="269"/>
                    </a:lnTo>
                    <a:lnTo>
                      <a:pt x="493" y="271"/>
                    </a:lnTo>
                    <a:lnTo>
                      <a:pt x="492" y="267"/>
                    </a:lnTo>
                    <a:lnTo>
                      <a:pt x="492" y="270"/>
                    </a:lnTo>
                    <a:lnTo>
                      <a:pt x="492" y="267"/>
                    </a:lnTo>
                    <a:lnTo>
                      <a:pt x="492" y="270"/>
                    </a:lnTo>
                    <a:lnTo>
                      <a:pt x="492" y="272"/>
                    </a:lnTo>
                    <a:lnTo>
                      <a:pt x="492" y="270"/>
                    </a:lnTo>
                    <a:lnTo>
                      <a:pt x="490" y="270"/>
                    </a:lnTo>
                    <a:lnTo>
                      <a:pt x="489" y="267"/>
                    </a:lnTo>
                    <a:lnTo>
                      <a:pt x="490" y="269"/>
                    </a:lnTo>
                    <a:lnTo>
                      <a:pt x="490" y="271"/>
                    </a:lnTo>
                    <a:lnTo>
                      <a:pt x="492" y="271"/>
                    </a:lnTo>
                    <a:lnTo>
                      <a:pt x="489" y="266"/>
                    </a:lnTo>
                    <a:lnTo>
                      <a:pt x="490" y="270"/>
                    </a:lnTo>
                    <a:lnTo>
                      <a:pt x="492" y="267"/>
                    </a:lnTo>
                    <a:lnTo>
                      <a:pt x="492" y="270"/>
                    </a:lnTo>
                    <a:lnTo>
                      <a:pt x="492" y="271"/>
                    </a:lnTo>
                    <a:lnTo>
                      <a:pt x="492" y="270"/>
                    </a:lnTo>
                    <a:lnTo>
                      <a:pt x="490" y="269"/>
                    </a:lnTo>
                    <a:lnTo>
                      <a:pt x="492" y="270"/>
                    </a:lnTo>
                    <a:lnTo>
                      <a:pt x="492" y="270"/>
                    </a:lnTo>
                    <a:lnTo>
                      <a:pt x="489" y="269"/>
                    </a:lnTo>
                    <a:lnTo>
                      <a:pt x="490" y="270"/>
                    </a:lnTo>
                    <a:lnTo>
                      <a:pt x="490" y="269"/>
                    </a:lnTo>
                    <a:lnTo>
                      <a:pt x="492" y="271"/>
                    </a:lnTo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172280" y="5492880"/>
                <a:ext cx="1044720" cy="3934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950000" y="4403880"/>
                <a:ext cx="1626840" cy="3013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956120" y="3884760"/>
                <a:ext cx="1617840" cy="2808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366040" y="6311880"/>
                <a:ext cx="393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707280" y="3654360"/>
                <a:ext cx="1270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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Arial"/>
                  </a:rPr>
                  <a:t>H(e </a:t>
                </a:r>
                <a:r>
                  <a:rPr b="0" lang="hr-HR" sz="2800" spc="-1" strike="noStrike" baseline="30000">
                    <a:solidFill>
                      <a:srgbClr val="ffff00"/>
                    </a:solidFill>
                    <a:latin typeface="Arial"/>
                  </a:rPr>
                  <a:t>j</a:t>
                </a:r>
                <a:r>
                  <a:rPr b="0" lang="hr-HR" sz="2800" spc="-1" strike="noStrike" baseline="30000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Arial"/>
                  </a:rPr>
                  <a:t>)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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586560" y="2311560"/>
              <a:ext cx="571320" cy="4024080"/>
              <a:chOff x="6586560" y="2311560"/>
              <a:chExt cx="571320" cy="4024080"/>
            </a:xfrm>
          </p:grpSpPr>
          <p:sp>
            <p:nvSpPr>
              <p:cNvPr id="1404" name=""/>
              <p:cNvSpPr/>
              <p:nvPr/>
            </p:nvSpPr>
            <p:spPr>
              <a:xfrm flipV="1">
                <a:off x="6588000" y="2828520"/>
                <a:ext cx="0" cy="3506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7157880" y="2311560"/>
                <a:ext cx="0" cy="402408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586560" y="3178080"/>
                <a:ext cx="0" cy="136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157880" y="3171960"/>
                <a:ext cx="0" cy="136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8" name=""/>
          <p:cNvSpPr/>
          <p:nvPr/>
        </p:nvSpPr>
        <p:spPr>
          <a:xfrm>
            <a:off x="122400" y="4229280"/>
            <a:ext cx="400356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imjer transformacij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e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hr-HR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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0 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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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1 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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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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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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1BE2-FF35-4BD3-8C55-7AA8BA7D84B7}" type="slidenum">
              <a:t>49</a:t>
            </a:fld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5" dur="200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800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800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5800"/>
            <a:ext cx="916308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eriodičan niz </a:t>
            </a:r>
            <a:r>
              <a:rPr b="0" i="1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i="1" lang="hr-HR" sz="28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nastao ponavljanjem delta funkcije svakih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kao svaka periodična funkcija se dade predstaviti Fourierovim redom, gdje su Fourierovi koeficijenti dani 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5240" y="4721400"/>
            <a:ext cx="177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jed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3760" y="476280"/>
            <a:ext cx="76773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Book Antiqua"/>
              </a:rPr>
              <a:t>Metoda jednakog impulsnog odziv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600280" y="3344760"/>
          <a:ext cx="439092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3344760"/>
                    <a:ext cx="439092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979640" y="4513320"/>
          <a:ext cx="527040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513320"/>
                    <a:ext cx="52704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08000" y="5802480"/>
            <a:ext cx="177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 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644480" y="5589720"/>
          <a:ext cx="69598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44480" y="5589720"/>
                    <a:ext cx="69598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2EF4-025B-4102-8A0D-BC11FC1A7B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/>
          <p:nvPr/>
        </p:nvSpPr>
        <p:spPr>
          <a:xfrm>
            <a:off x="1371600" y="1752480"/>
            <a:ext cx="670572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fe"/>
                </a:solidFill>
                <a:latin typeface="Times New Roman"/>
              </a:rPr>
              <a:t>Projektiranje rekurzivnog digitalnog filtra bilinearnom transformacij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447920" y="320004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BD3E-F7F7-404F-9C1A-AAA9FB13482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pecifikacija niskopropusnog digitalnog fil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1628640" y="2252520"/>
                <a:ext cx="51040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r>
                            <m:t xml:space="preserve">≤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jw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d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za 0</m:t>
                          </m:r>
                          <m:r>
                            <m:t xml:space="preserve">≤</m:t>
                          </m:r>
                          <m:r>
                            <m:t xml:space="preserve">w</m:t>
                          </m:r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jw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d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za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p</m:t>
                          </m:r>
                          <m:r>
                            <m:t xml:space="preserve">≤</m:t>
                          </m:r>
                          <m:r>
                            <m:t xml:space="preserve">w</m:t>
                          </m:r>
                          <m:r>
                            <m:t xml:space="preserve">≤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414" name=""/>
          <p:cNvGrpSpPr/>
          <p:nvPr/>
        </p:nvGrpSpPr>
        <p:grpSpPr>
          <a:xfrm>
            <a:off x="1362240" y="3541320"/>
            <a:ext cx="5411880" cy="3289320"/>
            <a:chOff x="1362240" y="3541320"/>
            <a:chExt cx="5411880" cy="3289320"/>
          </a:xfrm>
        </p:grpSpPr>
        <p:grpSp>
          <p:nvGrpSpPr>
            <p:cNvPr id="1415" name=""/>
            <p:cNvGrpSpPr/>
            <p:nvPr/>
          </p:nvGrpSpPr>
          <p:grpSpPr>
            <a:xfrm>
              <a:off x="1362240" y="3541320"/>
              <a:ext cx="5411880" cy="3289320"/>
              <a:chOff x="1362240" y="3541320"/>
              <a:chExt cx="5411880" cy="3289320"/>
            </a:xfrm>
          </p:grpSpPr>
          <p:grpSp>
            <p:nvGrpSpPr>
              <p:cNvPr id="1416" name=""/>
              <p:cNvGrpSpPr/>
              <p:nvPr/>
            </p:nvGrpSpPr>
            <p:grpSpPr>
              <a:xfrm>
                <a:off x="2385000" y="3541320"/>
                <a:ext cx="4389120" cy="3289320"/>
                <a:chOff x="2385000" y="3541320"/>
                <a:chExt cx="4389120" cy="328932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2898720" y="3854520"/>
                  <a:ext cx="649440" cy="2808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2892600" y="4373640"/>
                  <a:ext cx="655560" cy="3016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3281760" y="6251400"/>
                  <a:ext cx="492840" cy="50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hr-HR" sz="2400" spc="-1" strike="noStrike" baseline="-25000">
                      <a:solidFill>
                        <a:srgbClr val="ffff00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673440" y="6242040"/>
                  <a:ext cx="482400" cy="50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hr-HR" sz="2400" spc="-1" strike="noStrike" baseline="-25000">
                      <a:solidFill>
                        <a:srgbClr val="ffff00"/>
                      </a:solidFill>
                      <a:latin typeface="Arial"/>
                    </a:rPr>
                    <a:t>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V="1">
                  <a:off x="2887560" y="3719160"/>
                  <a:ext cx="0" cy="25858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2887560" y="6305400"/>
                  <a:ext cx="3287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2887560" y="6091200"/>
                  <a:ext cx="3287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2887560" y="4363920"/>
                  <a:ext cx="3287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2887560" y="4151160"/>
                  <a:ext cx="3287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2887560" y="6305400"/>
                  <a:ext cx="3287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V="1">
                  <a:off x="2887560" y="3719160"/>
                  <a:ext cx="0" cy="25858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6175440" y="6305400"/>
                  <a:ext cx="252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2887560" y="6305400"/>
                  <a:ext cx="3287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V="1">
                  <a:off x="2887560" y="3719160"/>
                  <a:ext cx="0" cy="25858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2887560" y="6305400"/>
                  <a:ext cx="2556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flipV="1">
                  <a:off x="2887560" y="6275160"/>
                  <a:ext cx="0" cy="298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2887560" y="3719520"/>
                  <a:ext cx="0" cy="30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2756520" y="629748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V="1">
                  <a:off x="3548160" y="6275160"/>
                  <a:ext cx="0" cy="298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3548160" y="3719520"/>
                  <a:ext cx="0" cy="30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V="1">
                  <a:off x="4202280" y="6275160"/>
                  <a:ext cx="0" cy="298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flipV="1">
                  <a:off x="4862520" y="6275160"/>
                  <a:ext cx="0" cy="298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V="1">
                  <a:off x="5514840" y="6275160"/>
                  <a:ext cx="0" cy="298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V="1">
                  <a:off x="6175440" y="6275160"/>
                  <a:ext cx="0" cy="298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6004800" y="6219720"/>
                  <a:ext cx="35280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2887560" y="630540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H="1">
                  <a:off x="6145200" y="630540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2887560" y="587376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2887560" y="544032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2887560" y="501660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2887560" y="458460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2887560" y="415116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H="1">
                  <a:off x="6145200" y="415116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2548800" y="6116760"/>
                  <a:ext cx="326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2385000" y="5684760"/>
                  <a:ext cx="5385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0.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2385000" y="5253120"/>
                  <a:ext cx="5385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0.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2385000" y="4827600"/>
                  <a:ext cx="5385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0.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385000" y="4395960"/>
                  <a:ext cx="5385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0.8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2521800" y="3963960"/>
                  <a:ext cx="326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2887560" y="6305400"/>
                  <a:ext cx="37926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V="1">
                  <a:off x="2887560" y="3541320"/>
                  <a:ext cx="0" cy="2763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2887560" y="6305400"/>
                  <a:ext cx="2556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3890880" y="5753160"/>
                  <a:ext cx="2268720" cy="3207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flipV="1">
                  <a:off x="3548160" y="3716280"/>
                  <a:ext cx="0" cy="2586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flipV="1">
                  <a:off x="3890880" y="3711240"/>
                  <a:ext cx="0" cy="25858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380280" y="6372360"/>
                  <a:ext cx="3938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463" name=""/>
                  <p:cNvSpPr txBox="1"/>
                  <p:nvPr/>
                </p:nvSpPr>
                <p:spPr>
                  <a:xfrm>
                    <a:off x="1362240" y="3693960"/>
                    <a:ext cx="1096920" cy="54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w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64" name=""/>
                <p:cNvSpPr txBox="1"/>
                <p:nvPr/>
              </p:nvSpPr>
              <p:spPr>
                <a:xfrm>
                  <a:off x="5059440" y="4713120"/>
                  <a:ext cx="142560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22BA-EB31-4E30-BBAF-074C43EAC9E1}" type="slidenum">
              <a:t>51</a:t>
            </a:fld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09480" y="1676520"/>
            <a:ext cx="83822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nverznom bilinearnom transformacijom specifikacije digitalnog filtra dobivaju se zahtjevi na pripadni analogni filter (engl.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frequency prewarping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1604880" y="3044880"/>
                <a:ext cx="532152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p</m:t>
                          </m:r>
                        </m:e>
                        <m:e>
                          <m:r>
                            <m:t xml:space="preserve">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p</m:t>
                          </m:r>
                        </m:e>
                        <m:e>
                          <m:r>
                            <m:t xml:space="preserve">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611280" y="4648320"/>
            <a:ext cx="8381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 parameta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će se u postupku bilinearne transformacije funkci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okratiti, pa ga je moguće proizvoljno odabrati, np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241720" y="5987880"/>
                <a:ext cx="44733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5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rad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,  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rad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8E35-0E6E-4247-9C7B-0AC214870592}" type="slidenum">
              <a:t>52</a:t>
            </a:fld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" dur="500"/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6" dur="500"/>
                                        <p:tgtEl>
                                          <p:spTgt spid="1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pecifikacija pripadnog niskopropusnog analognog filtra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2268360" y="2387520"/>
                <a:ext cx="5169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r>
                            <m:t xml:space="preserve">≤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Ω</m:t>
                                  </m:r>
                                </m:e>
                              </m:d>
                            </m:e>
                          </m:d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za 0</m:t>
                          </m:r>
                          <m:r>
                            <m:t xml:space="preserve">≤</m:t>
                          </m:r>
                          <m:r>
                            <m:t xml:space="preserve">Ω</m:t>
                          </m:r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5</m:t>
                          </m:r>
                        </m:e>
                      </m:mr>
                      <m:m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Ω</m:t>
                                  </m:r>
                                </m:e>
                              </m:d>
                            </m:e>
                          </m:d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za 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  <m:r>
                            <m:t xml:space="preserve">≤</m:t>
                          </m:r>
                          <m:r>
                            <m:t xml:space="preserve">Ω</m:t>
                          </m:r>
                          <m:r>
                            <m:rPr>
                              <m:lit/>
                              <m:nor/>
                            </m:rPr>
                            <m:t xml:space="preserve">&lt;¥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473" name=""/>
          <p:cNvGrpSpPr/>
          <p:nvPr/>
        </p:nvGrpSpPr>
        <p:grpSpPr>
          <a:xfrm>
            <a:off x="1314360" y="3541320"/>
            <a:ext cx="6089040" cy="3218760"/>
            <a:chOff x="1314360" y="3541320"/>
            <a:chExt cx="6089040" cy="3218760"/>
          </a:xfrm>
        </p:grpSpPr>
        <p:sp>
          <p:nvSpPr>
            <p:cNvPr id="1474" name=""/>
            <p:cNvSpPr/>
            <p:nvPr/>
          </p:nvSpPr>
          <p:spPr>
            <a:xfrm>
              <a:off x="2898720" y="3854520"/>
              <a:ext cx="649440" cy="280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92600" y="4373640"/>
              <a:ext cx="655560" cy="301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80680" y="6251400"/>
              <a:ext cx="518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748680" y="6242040"/>
              <a:ext cx="508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2887560" y="3719160"/>
              <a:ext cx="0" cy="2585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887560" y="6305400"/>
              <a:ext cx="3287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887560" y="6091200"/>
              <a:ext cx="32878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887560" y="4363920"/>
              <a:ext cx="32878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887560" y="4151160"/>
              <a:ext cx="32878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887560" y="6305400"/>
              <a:ext cx="3287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2887560" y="3719160"/>
              <a:ext cx="0" cy="2585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175440" y="630540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887560" y="6305400"/>
              <a:ext cx="3287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2887560" y="3719160"/>
              <a:ext cx="0" cy="2585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887560" y="630540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2887560" y="6275160"/>
              <a:ext cx="0" cy="29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887560" y="371952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756520" y="62974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3548160" y="6275160"/>
              <a:ext cx="0" cy="29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548160" y="3719520"/>
              <a:ext cx="0" cy="30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887560" y="63054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6145200" y="63054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887560" y="587376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887560" y="544032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887560" y="50166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887560" y="45846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887560" y="415116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6145200" y="415116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548800" y="61167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385000" y="568476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385000" y="525312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385000" y="482760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85000" y="439596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.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521800" y="39639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887560" y="6305400"/>
              <a:ext cx="3792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2887560" y="3541320"/>
              <a:ext cx="0" cy="2763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887560" y="630540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890880" y="5753160"/>
              <a:ext cx="2268720" cy="320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3548160" y="3716280"/>
              <a:ext cx="0" cy="25862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3890880" y="3711240"/>
              <a:ext cx="0" cy="25858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893920" y="6296040"/>
              <a:ext cx="15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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[rad s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Times New Roman"/>
                </a:rPr>
                <a:t>-1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5" name=""/>
                <p:cNvSpPr txBox="1"/>
                <p:nvPr/>
              </p:nvSpPr>
              <p:spPr>
                <a:xfrm>
                  <a:off x="1314360" y="3760920"/>
                  <a:ext cx="11779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</m:t>
                              </m:r>
                              <m:r>
                                <m:t xml:space="preserve">Ω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6" name=""/>
                <p:cNvSpPr txBox="1"/>
                <p:nvPr/>
              </p:nvSpPr>
              <p:spPr>
                <a:xfrm>
                  <a:off x="5072040" y="4713120"/>
                  <a:ext cx="14176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2010-BED9-48B3-88E6-F0E62DBA9DC7}" type="slidenum">
              <a:t>53</a:t>
            </a:fld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09480" y="1676520"/>
            <a:ext cx="8382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daberemo npr. Butterworthovu aproksimaciju kod projektiranja analognog 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vadrat amplitudno-frekvencijske karakteristike takvog filtra dan je izrazom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543040" y="3514680"/>
                <a:ext cx="3429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0" name=""/>
          <p:cNvSpPr/>
          <p:nvPr/>
        </p:nvSpPr>
        <p:spPr>
          <a:xfrm>
            <a:off x="611280" y="4876920"/>
            <a:ext cx="8381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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 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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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je monotono padajuća funkcija od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tako da se na osnovu specifikacije n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obivaju dvije nejednadžb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564000" y="5808600"/>
                <a:ext cx="26049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65</m:t>
                                      </m:r>
                                      <m:r>
                                        <m:t xml:space="preserve">j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³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</m:e>
                      </m:mr>
                      <m:mr>
                        <m:e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2</m:t>
                                      </m:r>
                                      <m:r>
                                        <m:t xml:space="preserve">j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E481-C3F6-4F4F-8941-B4CD4F1B0166}" type="slidenum">
              <a:t>54</a:t>
            </a:fld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 nađimo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za slučaj jednakosti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1041480" y="2184480"/>
                <a:ext cx="64310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65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c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,      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2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c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25" name=""/>
          <p:cNvSpPr/>
          <p:nvPr/>
        </p:nvSpPr>
        <p:spPr>
          <a:xfrm>
            <a:off x="611280" y="31240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Eliminacijom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obivamo izraz z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1077840" y="3648240"/>
                <a:ext cx="63421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1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7" name=""/>
          <p:cNvSpPr/>
          <p:nvPr/>
        </p:nvSpPr>
        <p:spPr>
          <a:xfrm>
            <a:off x="611280" y="4876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 red filtra i mora biti cijeli broj pa odabiremo prvi veći cijeli broj ..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=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376200" y="2784600"/>
            <a:ext cx="6721560" cy="3998880"/>
            <a:chOff x="376200" y="2784600"/>
            <a:chExt cx="6721560" cy="3998880"/>
          </a:xfrm>
        </p:grpSpPr>
        <mc:AlternateContent>
          <mc:Choice xmlns:a14="http://schemas.microsoft.com/office/drawing/2010/main" Requires="a14">
            <p:sp>
              <p:nvSpPr>
                <p:cNvPr id="1529" name=""/>
                <p:cNvSpPr txBox="1"/>
                <p:nvPr/>
              </p:nvSpPr>
              <p:spPr>
                <a:xfrm>
                  <a:off x="2604960" y="5797440"/>
                  <a:ext cx="4492800" cy="9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5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1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den>
                          </m:f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1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530" name=""/>
            <p:cNvGrpSpPr/>
            <p:nvPr/>
          </p:nvGrpSpPr>
          <p:grpSpPr>
            <a:xfrm>
              <a:off x="376200" y="2784600"/>
              <a:ext cx="2063880" cy="3379680"/>
              <a:chOff x="376200" y="2784600"/>
              <a:chExt cx="2063880" cy="3379680"/>
            </a:xfrm>
          </p:grpSpPr>
          <p:sp>
            <p:nvSpPr>
              <p:cNvPr id="1531" name=""/>
              <p:cNvSpPr/>
              <p:nvPr/>
            </p:nvSpPr>
            <p:spPr>
              <a:xfrm>
                <a:off x="1676520" y="2784600"/>
                <a:ext cx="550800" cy="433440"/>
              </a:xfrm>
              <a:custGeom>
                <a:avLst/>
                <a:gdLst/>
                <a:ahLst/>
                <a:rect l="l" t="t" r="r" b="b"/>
                <a:pathLst>
                  <a:path w="347" h="273">
                    <a:moveTo>
                      <a:pt x="97" y="8"/>
                    </a:moveTo>
                    <a:lnTo>
                      <a:pt x="70" y="16"/>
                    </a:lnTo>
                    <a:lnTo>
                      <a:pt x="51" y="22"/>
                    </a:lnTo>
                    <a:lnTo>
                      <a:pt x="38" y="41"/>
                    </a:lnTo>
                    <a:lnTo>
                      <a:pt x="26" y="60"/>
                    </a:lnTo>
                    <a:lnTo>
                      <a:pt x="13" y="80"/>
                    </a:lnTo>
                    <a:lnTo>
                      <a:pt x="6" y="99"/>
                    </a:lnTo>
                    <a:lnTo>
                      <a:pt x="0" y="118"/>
                    </a:lnTo>
                    <a:lnTo>
                      <a:pt x="0" y="137"/>
                    </a:lnTo>
                    <a:lnTo>
                      <a:pt x="0" y="156"/>
                    </a:lnTo>
                    <a:lnTo>
                      <a:pt x="6" y="176"/>
                    </a:lnTo>
                    <a:lnTo>
                      <a:pt x="19" y="195"/>
                    </a:lnTo>
                    <a:lnTo>
                      <a:pt x="38" y="214"/>
                    </a:lnTo>
                    <a:lnTo>
                      <a:pt x="58" y="233"/>
                    </a:lnTo>
                    <a:lnTo>
                      <a:pt x="77" y="246"/>
                    </a:lnTo>
                    <a:lnTo>
                      <a:pt x="96" y="259"/>
                    </a:lnTo>
                    <a:lnTo>
                      <a:pt x="115" y="265"/>
                    </a:lnTo>
                    <a:lnTo>
                      <a:pt x="134" y="265"/>
                    </a:lnTo>
                    <a:lnTo>
                      <a:pt x="154" y="272"/>
                    </a:lnTo>
                    <a:lnTo>
                      <a:pt x="173" y="272"/>
                    </a:lnTo>
                    <a:lnTo>
                      <a:pt x="192" y="272"/>
                    </a:lnTo>
                    <a:lnTo>
                      <a:pt x="211" y="272"/>
                    </a:lnTo>
                    <a:lnTo>
                      <a:pt x="230" y="272"/>
                    </a:lnTo>
                    <a:lnTo>
                      <a:pt x="250" y="272"/>
                    </a:lnTo>
                    <a:lnTo>
                      <a:pt x="269" y="272"/>
                    </a:lnTo>
                    <a:lnTo>
                      <a:pt x="288" y="265"/>
                    </a:lnTo>
                    <a:lnTo>
                      <a:pt x="307" y="259"/>
                    </a:lnTo>
                    <a:lnTo>
                      <a:pt x="326" y="246"/>
                    </a:lnTo>
                    <a:lnTo>
                      <a:pt x="339" y="227"/>
                    </a:lnTo>
                    <a:lnTo>
                      <a:pt x="346" y="208"/>
                    </a:lnTo>
                    <a:lnTo>
                      <a:pt x="346" y="188"/>
                    </a:lnTo>
                    <a:lnTo>
                      <a:pt x="346" y="169"/>
                    </a:lnTo>
                    <a:lnTo>
                      <a:pt x="346" y="150"/>
                    </a:lnTo>
                    <a:lnTo>
                      <a:pt x="339" y="131"/>
                    </a:lnTo>
                    <a:lnTo>
                      <a:pt x="320" y="118"/>
                    </a:lnTo>
                    <a:lnTo>
                      <a:pt x="294" y="105"/>
                    </a:lnTo>
                    <a:lnTo>
                      <a:pt x="275" y="92"/>
                    </a:lnTo>
                    <a:lnTo>
                      <a:pt x="256" y="80"/>
                    </a:lnTo>
                    <a:lnTo>
                      <a:pt x="243" y="60"/>
                    </a:lnTo>
                    <a:lnTo>
                      <a:pt x="234" y="44"/>
                    </a:lnTo>
                    <a:lnTo>
                      <a:pt x="217" y="26"/>
                    </a:lnTo>
                    <a:lnTo>
                      <a:pt x="193" y="10"/>
                    </a:lnTo>
                    <a:lnTo>
                      <a:pt x="173" y="4"/>
                    </a:lnTo>
                    <a:lnTo>
                      <a:pt x="155" y="2"/>
                    </a:lnTo>
                    <a:lnTo>
                      <a:pt x="130" y="3"/>
                    </a:lnTo>
                    <a:lnTo>
                      <a:pt x="110" y="0"/>
                    </a:lnTo>
                    <a:lnTo>
                      <a:pt x="97" y="8"/>
                    </a:lnTo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76200" y="3063960"/>
                <a:ext cx="2063880" cy="3100320"/>
              </a:xfrm>
              <a:custGeom>
                <a:avLst/>
                <a:gdLst/>
                <a:ahLst/>
                <a:rect l="l" t="t" r="r" b="b"/>
                <a:pathLst>
                  <a:path w="1300" h="1953">
                    <a:moveTo>
                      <a:pt x="867" y="38"/>
                    </a:moveTo>
                    <a:lnTo>
                      <a:pt x="838" y="44"/>
                    </a:lnTo>
                    <a:lnTo>
                      <a:pt x="819" y="51"/>
                    </a:lnTo>
                    <a:lnTo>
                      <a:pt x="806" y="70"/>
                    </a:lnTo>
                    <a:lnTo>
                      <a:pt x="787" y="76"/>
                    </a:lnTo>
                    <a:lnTo>
                      <a:pt x="768" y="83"/>
                    </a:lnTo>
                    <a:lnTo>
                      <a:pt x="749" y="83"/>
                    </a:lnTo>
                    <a:lnTo>
                      <a:pt x="729" y="83"/>
                    </a:lnTo>
                    <a:lnTo>
                      <a:pt x="710" y="83"/>
                    </a:lnTo>
                    <a:lnTo>
                      <a:pt x="691" y="76"/>
                    </a:lnTo>
                    <a:lnTo>
                      <a:pt x="672" y="64"/>
                    </a:lnTo>
                    <a:lnTo>
                      <a:pt x="653" y="57"/>
                    </a:lnTo>
                    <a:lnTo>
                      <a:pt x="633" y="44"/>
                    </a:lnTo>
                    <a:lnTo>
                      <a:pt x="614" y="32"/>
                    </a:lnTo>
                    <a:lnTo>
                      <a:pt x="576" y="25"/>
                    </a:lnTo>
                    <a:lnTo>
                      <a:pt x="525" y="19"/>
                    </a:lnTo>
                    <a:lnTo>
                      <a:pt x="499" y="6"/>
                    </a:lnTo>
                    <a:lnTo>
                      <a:pt x="480" y="6"/>
                    </a:lnTo>
                    <a:lnTo>
                      <a:pt x="461" y="6"/>
                    </a:lnTo>
                    <a:lnTo>
                      <a:pt x="441" y="6"/>
                    </a:lnTo>
                    <a:lnTo>
                      <a:pt x="422" y="6"/>
                    </a:lnTo>
                    <a:lnTo>
                      <a:pt x="397" y="0"/>
                    </a:lnTo>
                    <a:lnTo>
                      <a:pt x="377" y="0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13" y="0"/>
                    </a:lnTo>
                    <a:lnTo>
                      <a:pt x="275" y="0"/>
                    </a:lnTo>
                    <a:lnTo>
                      <a:pt x="249" y="6"/>
                    </a:lnTo>
                    <a:lnTo>
                      <a:pt x="230" y="19"/>
                    </a:lnTo>
                    <a:lnTo>
                      <a:pt x="211" y="25"/>
                    </a:lnTo>
                    <a:lnTo>
                      <a:pt x="185" y="44"/>
                    </a:lnTo>
                    <a:lnTo>
                      <a:pt x="166" y="57"/>
                    </a:lnTo>
                    <a:lnTo>
                      <a:pt x="147" y="70"/>
                    </a:lnTo>
                    <a:lnTo>
                      <a:pt x="134" y="89"/>
                    </a:lnTo>
                    <a:lnTo>
                      <a:pt x="115" y="108"/>
                    </a:lnTo>
                    <a:lnTo>
                      <a:pt x="96" y="134"/>
                    </a:lnTo>
                    <a:lnTo>
                      <a:pt x="83" y="153"/>
                    </a:lnTo>
                    <a:lnTo>
                      <a:pt x="77" y="172"/>
                    </a:lnTo>
                    <a:lnTo>
                      <a:pt x="70" y="192"/>
                    </a:lnTo>
                    <a:lnTo>
                      <a:pt x="64" y="211"/>
                    </a:lnTo>
                    <a:lnTo>
                      <a:pt x="57" y="236"/>
                    </a:lnTo>
                    <a:lnTo>
                      <a:pt x="57" y="262"/>
                    </a:lnTo>
                    <a:lnTo>
                      <a:pt x="57" y="281"/>
                    </a:lnTo>
                    <a:lnTo>
                      <a:pt x="51" y="300"/>
                    </a:lnTo>
                    <a:lnTo>
                      <a:pt x="45" y="326"/>
                    </a:lnTo>
                    <a:lnTo>
                      <a:pt x="45" y="345"/>
                    </a:lnTo>
                    <a:lnTo>
                      <a:pt x="38" y="371"/>
                    </a:lnTo>
                    <a:lnTo>
                      <a:pt x="32" y="396"/>
                    </a:lnTo>
                    <a:lnTo>
                      <a:pt x="32" y="422"/>
                    </a:lnTo>
                    <a:lnTo>
                      <a:pt x="25" y="473"/>
                    </a:lnTo>
                    <a:lnTo>
                      <a:pt x="19" y="492"/>
                    </a:lnTo>
                    <a:lnTo>
                      <a:pt x="19" y="518"/>
                    </a:lnTo>
                    <a:lnTo>
                      <a:pt x="19" y="544"/>
                    </a:lnTo>
                    <a:lnTo>
                      <a:pt x="13" y="595"/>
                    </a:lnTo>
                    <a:lnTo>
                      <a:pt x="13" y="646"/>
                    </a:lnTo>
                    <a:lnTo>
                      <a:pt x="6" y="697"/>
                    </a:lnTo>
                    <a:lnTo>
                      <a:pt x="6" y="723"/>
                    </a:lnTo>
                    <a:lnTo>
                      <a:pt x="0" y="748"/>
                    </a:lnTo>
                    <a:lnTo>
                      <a:pt x="0" y="768"/>
                    </a:lnTo>
                    <a:lnTo>
                      <a:pt x="0" y="812"/>
                    </a:lnTo>
                    <a:lnTo>
                      <a:pt x="0" y="851"/>
                    </a:lnTo>
                    <a:lnTo>
                      <a:pt x="0" y="876"/>
                    </a:lnTo>
                    <a:lnTo>
                      <a:pt x="0" y="896"/>
                    </a:lnTo>
                    <a:lnTo>
                      <a:pt x="0" y="915"/>
                    </a:lnTo>
                    <a:lnTo>
                      <a:pt x="0" y="934"/>
                    </a:lnTo>
                    <a:lnTo>
                      <a:pt x="0" y="985"/>
                    </a:lnTo>
                    <a:lnTo>
                      <a:pt x="0" y="1011"/>
                    </a:lnTo>
                    <a:lnTo>
                      <a:pt x="0" y="1030"/>
                    </a:lnTo>
                    <a:lnTo>
                      <a:pt x="6" y="1081"/>
                    </a:lnTo>
                    <a:lnTo>
                      <a:pt x="13" y="1132"/>
                    </a:lnTo>
                    <a:lnTo>
                      <a:pt x="13" y="1158"/>
                    </a:lnTo>
                    <a:lnTo>
                      <a:pt x="19" y="1177"/>
                    </a:lnTo>
                    <a:lnTo>
                      <a:pt x="25" y="1196"/>
                    </a:lnTo>
                    <a:lnTo>
                      <a:pt x="32" y="1222"/>
                    </a:lnTo>
                    <a:lnTo>
                      <a:pt x="38" y="1241"/>
                    </a:lnTo>
                    <a:lnTo>
                      <a:pt x="51" y="1267"/>
                    </a:lnTo>
                    <a:lnTo>
                      <a:pt x="57" y="1292"/>
                    </a:lnTo>
                    <a:lnTo>
                      <a:pt x="64" y="1356"/>
                    </a:lnTo>
                    <a:lnTo>
                      <a:pt x="77" y="1382"/>
                    </a:lnTo>
                    <a:lnTo>
                      <a:pt x="83" y="1401"/>
                    </a:lnTo>
                    <a:lnTo>
                      <a:pt x="96" y="1427"/>
                    </a:lnTo>
                    <a:lnTo>
                      <a:pt x="102" y="1465"/>
                    </a:lnTo>
                    <a:lnTo>
                      <a:pt x="115" y="1491"/>
                    </a:lnTo>
                    <a:lnTo>
                      <a:pt x="134" y="1555"/>
                    </a:lnTo>
                    <a:lnTo>
                      <a:pt x="153" y="1580"/>
                    </a:lnTo>
                    <a:lnTo>
                      <a:pt x="166" y="1606"/>
                    </a:lnTo>
                    <a:lnTo>
                      <a:pt x="185" y="1651"/>
                    </a:lnTo>
                    <a:lnTo>
                      <a:pt x="224" y="1664"/>
                    </a:lnTo>
                    <a:lnTo>
                      <a:pt x="243" y="1689"/>
                    </a:lnTo>
                    <a:lnTo>
                      <a:pt x="294" y="1708"/>
                    </a:lnTo>
                    <a:lnTo>
                      <a:pt x="345" y="1728"/>
                    </a:lnTo>
                    <a:lnTo>
                      <a:pt x="384" y="1740"/>
                    </a:lnTo>
                    <a:lnTo>
                      <a:pt x="435" y="1753"/>
                    </a:lnTo>
                    <a:lnTo>
                      <a:pt x="486" y="1760"/>
                    </a:lnTo>
                    <a:lnTo>
                      <a:pt x="512" y="1772"/>
                    </a:lnTo>
                    <a:lnTo>
                      <a:pt x="563" y="1779"/>
                    </a:lnTo>
                    <a:lnTo>
                      <a:pt x="614" y="1792"/>
                    </a:lnTo>
                    <a:lnTo>
                      <a:pt x="665" y="1798"/>
                    </a:lnTo>
                    <a:lnTo>
                      <a:pt x="717" y="1804"/>
                    </a:lnTo>
                    <a:lnTo>
                      <a:pt x="768" y="1817"/>
                    </a:lnTo>
                    <a:lnTo>
                      <a:pt x="806" y="1824"/>
                    </a:lnTo>
                    <a:lnTo>
                      <a:pt x="870" y="1836"/>
                    </a:lnTo>
                    <a:lnTo>
                      <a:pt x="921" y="1843"/>
                    </a:lnTo>
                    <a:lnTo>
                      <a:pt x="985" y="1856"/>
                    </a:lnTo>
                    <a:lnTo>
                      <a:pt x="1024" y="1868"/>
                    </a:lnTo>
                    <a:lnTo>
                      <a:pt x="1062" y="1868"/>
                    </a:lnTo>
                    <a:lnTo>
                      <a:pt x="1107" y="1881"/>
                    </a:lnTo>
                    <a:lnTo>
                      <a:pt x="1126" y="1888"/>
                    </a:lnTo>
                    <a:lnTo>
                      <a:pt x="1203" y="1907"/>
                    </a:lnTo>
                    <a:lnTo>
                      <a:pt x="1222" y="1920"/>
                    </a:lnTo>
                    <a:lnTo>
                      <a:pt x="1241" y="1926"/>
                    </a:lnTo>
                    <a:lnTo>
                      <a:pt x="1261" y="1932"/>
                    </a:lnTo>
                    <a:lnTo>
                      <a:pt x="1280" y="1939"/>
                    </a:lnTo>
                    <a:lnTo>
                      <a:pt x="1299" y="1952"/>
                    </a:lnTo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3433680" y="5329080"/>
              <a:ext cx="1901880" cy="560520"/>
              <a:chOff x="3433680" y="5329080"/>
              <a:chExt cx="1901880" cy="560520"/>
            </a:xfrm>
          </p:grpSpPr>
          <p:sp>
            <p:nvSpPr>
              <p:cNvPr id="1534" name=""/>
              <p:cNvSpPr/>
              <p:nvPr/>
            </p:nvSpPr>
            <p:spPr>
              <a:xfrm>
                <a:off x="3433680" y="5329080"/>
                <a:ext cx="895320" cy="519120"/>
              </a:xfrm>
              <a:custGeom>
                <a:avLst/>
                <a:gdLst/>
                <a:ahLst/>
                <a:rect l="l" t="t" r="r" b="b"/>
                <a:pathLst>
                  <a:path w="564" h="327">
                    <a:moveTo>
                      <a:pt x="333" y="3"/>
                    </a:moveTo>
                    <a:lnTo>
                      <a:pt x="307" y="19"/>
                    </a:lnTo>
                    <a:lnTo>
                      <a:pt x="282" y="19"/>
                    </a:lnTo>
                    <a:lnTo>
                      <a:pt x="263" y="13"/>
                    </a:lnTo>
                    <a:lnTo>
                      <a:pt x="231" y="6"/>
                    </a:lnTo>
                    <a:lnTo>
                      <a:pt x="211" y="6"/>
                    </a:lnTo>
                    <a:lnTo>
                      <a:pt x="192" y="0"/>
                    </a:lnTo>
                    <a:lnTo>
                      <a:pt x="173" y="0"/>
                    </a:lnTo>
                    <a:lnTo>
                      <a:pt x="154" y="0"/>
                    </a:lnTo>
                    <a:lnTo>
                      <a:pt x="135" y="0"/>
                    </a:lnTo>
                    <a:lnTo>
                      <a:pt x="115" y="0"/>
                    </a:lnTo>
                    <a:lnTo>
                      <a:pt x="96" y="0"/>
                    </a:lnTo>
                    <a:lnTo>
                      <a:pt x="77" y="0"/>
                    </a:lnTo>
                    <a:lnTo>
                      <a:pt x="58" y="6"/>
                    </a:lnTo>
                    <a:lnTo>
                      <a:pt x="39" y="19"/>
                    </a:lnTo>
                    <a:lnTo>
                      <a:pt x="26" y="38"/>
                    </a:lnTo>
                    <a:lnTo>
                      <a:pt x="13" y="57"/>
                    </a:lnTo>
                    <a:lnTo>
                      <a:pt x="0" y="83"/>
                    </a:lnTo>
                    <a:lnTo>
                      <a:pt x="0" y="102"/>
                    </a:lnTo>
                    <a:lnTo>
                      <a:pt x="0" y="121"/>
                    </a:lnTo>
                    <a:lnTo>
                      <a:pt x="13" y="141"/>
                    </a:lnTo>
                    <a:lnTo>
                      <a:pt x="19" y="160"/>
                    </a:lnTo>
                    <a:lnTo>
                      <a:pt x="39" y="179"/>
                    </a:lnTo>
                    <a:lnTo>
                      <a:pt x="45" y="198"/>
                    </a:lnTo>
                    <a:lnTo>
                      <a:pt x="58" y="217"/>
                    </a:lnTo>
                    <a:lnTo>
                      <a:pt x="64" y="237"/>
                    </a:lnTo>
                    <a:lnTo>
                      <a:pt x="71" y="256"/>
                    </a:lnTo>
                    <a:lnTo>
                      <a:pt x="71" y="275"/>
                    </a:lnTo>
                    <a:lnTo>
                      <a:pt x="90" y="288"/>
                    </a:lnTo>
                    <a:lnTo>
                      <a:pt x="109" y="301"/>
                    </a:lnTo>
                    <a:lnTo>
                      <a:pt x="128" y="313"/>
                    </a:lnTo>
                    <a:lnTo>
                      <a:pt x="147" y="313"/>
                    </a:lnTo>
                    <a:lnTo>
                      <a:pt x="199" y="320"/>
                    </a:lnTo>
                    <a:lnTo>
                      <a:pt x="250" y="326"/>
                    </a:lnTo>
                    <a:lnTo>
                      <a:pt x="288" y="326"/>
                    </a:lnTo>
                    <a:lnTo>
                      <a:pt x="352" y="326"/>
                    </a:lnTo>
                    <a:lnTo>
                      <a:pt x="416" y="326"/>
                    </a:lnTo>
                    <a:lnTo>
                      <a:pt x="442" y="326"/>
                    </a:lnTo>
                    <a:lnTo>
                      <a:pt x="467" y="326"/>
                    </a:lnTo>
                    <a:lnTo>
                      <a:pt x="487" y="313"/>
                    </a:lnTo>
                    <a:lnTo>
                      <a:pt x="525" y="301"/>
                    </a:lnTo>
                    <a:lnTo>
                      <a:pt x="538" y="281"/>
                    </a:lnTo>
                    <a:lnTo>
                      <a:pt x="551" y="256"/>
                    </a:lnTo>
                    <a:lnTo>
                      <a:pt x="557" y="237"/>
                    </a:lnTo>
                    <a:lnTo>
                      <a:pt x="563" y="217"/>
                    </a:lnTo>
                    <a:lnTo>
                      <a:pt x="563" y="198"/>
                    </a:lnTo>
                    <a:lnTo>
                      <a:pt x="563" y="173"/>
                    </a:lnTo>
                    <a:lnTo>
                      <a:pt x="563" y="153"/>
                    </a:lnTo>
                    <a:lnTo>
                      <a:pt x="563" y="134"/>
                    </a:lnTo>
                    <a:lnTo>
                      <a:pt x="563" y="96"/>
                    </a:lnTo>
                    <a:lnTo>
                      <a:pt x="557" y="77"/>
                    </a:lnTo>
                    <a:lnTo>
                      <a:pt x="544" y="57"/>
                    </a:lnTo>
                    <a:lnTo>
                      <a:pt x="525" y="32"/>
                    </a:lnTo>
                    <a:lnTo>
                      <a:pt x="506" y="19"/>
                    </a:lnTo>
                    <a:lnTo>
                      <a:pt x="487" y="13"/>
                    </a:lnTo>
                    <a:lnTo>
                      <a:pt x="467" y="13"/>
                    </a:lnTo>
                    <a:lnTo>
                      <a:pt x="448" y="6"/>
                    </a:lnTo>
                    <a:lnTo>
                      <a:pt x="410" y="6"/>
                    </a:lnTo>
                    <a:lnTo>
                      <a:pt x="391" y="6"/>
                    </a:lnTo>
                    <a:lnTo>
                      <a:pt x="371" y="6"/>
                    </a:lnTo>
                    <a:lnTo>
                      <a:pt x="333" y="3"/>
                    </a:lnTo>
                    <a:lnTo>
                      <a:pt x="333" y="3"/>
                    </a:lnTo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343400" y="5562720"/>
                <a:ext cx="992160" cy="326880"/>
              </a:xfrm>
              <a:custGeom>
                <a:avLst/>
                <a:gdLst/>
                <a:ahLst/>
                <a:rect l="l" t="t" r="r" b="b"/>
                <a:pathLst>
                  <a:path w="625" h="206">
                    <a:moveTo>
                      <a:pt x="0" y="0"/>
                    </a:moveTo>
                    <a:lnTo>
                      <a:pt x="29" y="13"/>
                    </a:lnTo>
                    <a:lnTo>
                      <a:pt x="48" y="13"/>
                    </a:lnTo>
                    <a:lnTo>
                      <a:pt x="67" y="13"/>
                    </a:lnTo>
                    <a:lnTo>
                      <a:pt x="86" y="19"/>
                    </a:lnTo>
                    <a:lnTo>
                      <a:pt x="106" y="26"/>
                    </a:lnTo>
                    <a:lnTo>
                      <a:pt x="125" y="26"/>
                    </a:lnTo>
                    <a:lnTo>
                      <a:pt x="150" y="32"/>
                    </a:lnTo>
                    <a:lnTo>
                      <a:pt x="170" y="38"/>
                    </a:lnTo>
                    <a:lnTo>
                      <a:pt x="189" y="45"/>
                    </a:lnTo>
                    <a:lnTo>
                      <a:pt x="208" y="51"/>
                    </a:lnTo>
                    <a:lnTo>
                      <a:pt x="246" y="58"/>
                    </a:lnTo>
                    <a:lnTo>
                      <a:pt x="285" y="58"/>
                    </a:lnTo>
                    <a:lnTo>
                      <a:pt x="310" y="70"/>
                    </a:lnTo>
                    <a:lnTo>
                      <a:pt x="330" y="77"/>
                    </a:lnTo>
                    <a:lnTo>
                      <a:pt x="349" y="90"/>
                    </a:lnTo>
                    <a:lnTo>
                      <a:pt x="368" y="96"/>
                    </a:lnTo>
                    <a:lnTo>
                      <a:pt x="413" y="102"/>
                    </a:lnTo>
                    <a:lnTo>
                      <a:pt x="432" y="109"/>
                    </a:lnTo>
                    <a:lnTo>
                      <a:pt x="451" y="122"/>
                    </a:lnTo>
                    <a:lnTo>
                      <a:pt x="470" y="128"/>
                    </a:lnTo>
                    <a:lnTo>
                      <a:pt x="490" y="141"/>
                    </a:lnTo>
                    <a:lnTo>
                      <a:pt x="509" y="147"/>
                    </a:lnTo>
                    <a:lnTo>
                      <a:pt x="528" y="160"/>
                    </a:lnTo>
                    <a:lnTo>
                      <a:pt x="547" y="179"/>
                    </a:lnTo>
                    <a:lnTo>
                      <a:pt x="566" y="186"/>
                    </a:lnTo>
                    <a:lnTo>
                      <a:pt x="586" y="192"/>
                    </a:lnTo>
                    <a:lnTo>
                      <a:pt x="605" y="198"/>
                    </a:lnTo>
                    <a:lnTo>
                      <a:pt x="624" y="205"/>
                    </a:lnTo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8996-F021-4482-9A6C-A7F99EA5AC34}" type="slidenum">
              <a:t>55</a:t>
            </a:fld>
          </a:p>
        </p:txBody>
      </p:sp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a osnovu kvadrata amplitudno-frekvencijske karakteristike sada treba odredit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1011240" y="2523960"/>
                <a:ext cx="64753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r>
                          <m:t xml:space="preserve">Ω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9" name=""/>
          <p:cNvSpPr/>
          <p:nvPr/>
        </p:nvSpPr>
        <p:spPr>
          <a:xfrm>
            <a:off x="611280" y="38862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stitucijom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s/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lijed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1146240" y="4332240"/>
                <a:ext cx="63277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611280" y="57150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rijeni nazivnika dobivaju se rješavanj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162240" y="6157800"/>
                <a:ext cx="2737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-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A44E-D002-4261-8913-94F50CFC2E7B}" type="slidenum">
              <a:t>56</a:t>
            </a:fld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75" dur="500"/>
                                        <p:tgtEl>
                                          <p:spTgt spid="1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9480" y="16765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lovi funkci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s)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-s)</a:t>
            </a: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ravnini ... jednoliko raspoređeni po kružnici polumjera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3809880" y="2714760"/>
            <a:ext cx="4038840" cy="3457080"/>
            <a:chOff x="3809880" y="2714760"/>
            <a:chExt cx="4038840" cy="3457080"/>
          </a:xfrm>
        </p:grpSpPr>
        <p:sp>
          <p:nvSpPr>
            <p:cNvPr id="1546" name=""/>
            <p:cNvSpPr/>
            <p:nvPr/>
          </p:nvSpPr>
          <p:spPr>
            <a:xfrm flipV="1">
              <a:off x="5276880" y="2819160"/>
              <a:ext cx="0" cy="3352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09880" y="4754520"/>
              <a:ext cx="3237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003560" y="3483000"/>
              <a:ext cx="2548080" cy="2535120"/>
            </a:xfrm>
            <a:custGeom>
              <a:avLst/>
              <a:gdLst/>
              <a:ahLst/>
              <a:rect l="l" t="t" r="r" b="b"/>
              <a:pathLst>
                <a:path w="1605" h="1597">
                  <a:moveTo>
                    <a:pt x="1604" y="801"/>
                  </a:moveTo>
                  <a:lnTo>
                    <a:pt x="1604" y="749"/>
                  </a:lnTo>
                  <a:lnTo>
                    <a:pt x="1598" y="697"/>
                  </a:lnTo>
                  <a:lnTo>
                    <a:pt x="1591" y="645"/>
                  </a:lnTo>
                  <a:lnTo>
                    <a:pt x="1578" y="600"/>
                  </a:lnTo>
                  <a:lnTo>
                    <a:pt x="1565" y="554"/>
                  </a:lnTo>
                  <a:lnTo>
                    <a:pt x="1552" y="502"/>
                  </a:lnTo>
                  <a:lnTo>
                    <a:pt x="1532" y="456"/>
                  </a:lnTo>
                  <a:lnTo>
                    <a:pt x="1506" y="411"/>
                  </a:lnTo>
                  <a:lnTo>
                    <a:pt x="1480" y="372"/>
                  </a:lnTo>
                  <a:lnTo>
                    <a:pt x="1454" y="326"/>
                  </a:lnTo>
                  <a:lnTo>
                    <a:pt x="1422" y="287"/>
                  </a:lnTo>
                  <a:lnTo>
                    <a:pt x="1389" y="248"/>
                  </a:lnTo>
                  <a:lnTo>
                    <a:pt x="1350" y="215"/>
                  </a:lnTo>
                  <a:lnTo>
                    <a:pt x="1317" y="183"/>
                  </a:lnTo>
                  <a:lnTo>
                    <a:pt x="1272" y="150"/>
                  </a:lnTo>
                  <a:lnTo>
                    <a:pt x="1232" y="124"/>
                  </a:lnTo>
                  <a:lnTo>
                    <a:pt x="1187" y="98"/>
                  </a:lnTo>
                  <a:lnTo>
                    <a:pt x="1141" y="72"/>
                  </a:lnTo>
                  <a:lnTo>
                    <a:pt x="1096" y="53"/>
                  </a:lnTo>
                  <a:lnTo>
                    <a:pt x="1050" y="40"/>
                  </a:lnTo>
                  <a:lnTo>
                    <a:pt x="1004" y="20"/>
                  </a:lnTo>
                  <a:lnTo>
                    <a:pt x="952" y="13"/>
                  </a:lnTo>
                  <a:lnTo>
                    <a:pt x="900" y="7"/>
                  </a:lnTo>
                  <a:lnTo>
                    <a:pt x="854" y="0"/>
                  </a:lnTo>
                  <a:lnTo>
                    <a:pt x="802" y="0"/>
                  </a:lnTo>
                  <a:lnTo>
                    <a:pt x="750" y="0"/>
                  </a:lnTo>
                  <a:lnTo>
                    <a:pt x="704" y="7"/>
                  </a:lnTo>
                  <a:lnTo>
                    <a:pt x="652" y="13"/>
                  </a:lnTo>
                  <a:lnTo>
                    <a:pt x="600" y="20"/>
                  </a:lnTo>
                  <a:lnTo>
                    <a:pt x="554" y="40"/>
                  </a:lnTo>
                  <a:lnTo>
                    <a:pt x="509" y="53"/>
                  </a:lnTo>
                  <a:lnTo>
                    <a:pt x="463" y="72"/>
                  </a:lnTo>
                  <a:lnTo>
                    <a:pt x="418" y="98"/>
                  </a:lnTo>
                  <a:lnTo>
                    <a:pt x="372" y="124"/>
                  </a:lnTo>
                  <a:lnTo>
                    <a:pt x="333" y="150"/>
                  </a:lnTo>
                  <a:lnTo>
                    <a:pt x="287" y="183"/>
                  </a:lnTo>
                  <a:lnTo>
                    <a:pt x="255" y="215"/>
                  </a:lnTo>
                  <a:lnTo>
                    <a:pt x="215" y="248"/>
                  </a:lnTo>
                  <a:lnTo>
                    <a:pt x="183" y="287"/>
                  </a:lnTo>
                  <a:lnTo>
                    <a:pt x="150" y="326"/>
                  </a:lnTo>
                  <a:lnTo>
                    <a:pt x="124" y="372"/>
                  </a:lnTo>
                  <a:lnTo>
                    <a:pt x="98" y="411"/>
                  </a:lnTo>
                  <a:lnTo>
                    <a:pt x="72" y="456"/>
                  </a:lnTo>
                  <a:lnTo>
                    <a:pt x="52" y="502"/>
                  </a:lnTo>
                  <a:lnTo>
                    <a:pt x="39" y="554"/>
                  </a:lnTo>
                  <a:lnTo>
                    <a:pt x="26" y="600"/>
                  </a:lnTo>
                  <a:lnTo>
                    <a:pt x="13" y="645"/>
                  </a:lnTo>
                  <a:lnTo>
                    <a:pt x="7" y="697"/>
                  </a:lnTo>
                  <a:lnTo>
                    <a:pt x="0" y="749"/>
                  </a:lnTo>
                  <a:lnTo>
                    <a:pt x="0" y="801"/>
                  </a:lnTo>
                  <a:lnTo>
                    <a:pt x="0" y="847"/>
                  </a:lnTo>
                  <a:lnTo>
                    <a:pt x="7" y="899"/>
                  </a:lnTo>
                  <a:lnTo>
                    <a:pt x="13" y="951"/>
                  </a:lnTo>
                  <a:lnTo>
                    <a:pt x="26" y="997"/>
                  </a:lnTo>
                  <a:lnTo>
                    <a:pt x="39" y="1042"/>
                  </a:lnTo>
                  <a:lnTo>
                    <a:pt x="52" y="1094"/>
                  </a:lnTo>
                  <a:lnTo>
                    <a:pt x="72" y="1140"/>
                  </a:lnTo>
                  <a:lnTo>
                    <a:pt x="98" y="1186"/>
                  </a:lnTo>
                  <a:lnTo>
                    <a:pt x="124" y="1225"/>
                  </a:lnTo>
                  <a:lnTo>
                    <a:pt x="150" y="1270"/>
                  </a:lnTo>
                  <a:lnTo>
                    <a:pt x="183" y="1309"/>
                  </a:lnTo>
                  <a:lnTo>
                    <a:pt x="215" y="1348"/>
                  </a:lnTo>
                  <a:lnTo>
                    <a:pt x="255" y="1381"/>
                  </a:lnTo>
                  <a:lnTo>
                    <a:pt x="287" y="1414"/>
                  </a:lnTo>
                  <a:lnTo>
                    <a:pt x="333" y="1446"/>
                  </a:lnTo>
                  <a:lnTo>
                    <a:pt x="372" y="1472"/>
                  </a:lnTo>
                  <a:lnTo>
                    <a:pt x="418" y="1498"/>
                  </a:lnTo>
                  <a:lnTo>
                    <a:pt x="463" y="1524"/>
                  </a:lnTo>
                  <a:lnTo>
                    <a:pt x="509" y="1544"/>
                  </a:lnTo>
                  <a:lnTo>
                    <a:pt x="554" y="1557"/>
                  </a:lnTo>
                  <a:lnTo>
                    <a:pt x="600" y="1576"/>
                  </a:lnTo>
                  <a:lnTo>
                    <a:pt x="652" y="1583"/>
                  </a:lnTo>
                  <a:lnTo>
                    <a:pt x="704" y="1589"/>
                  </a:lnTo>
                  <a:lnTo>
                    <a:pt x="750" y="1596"/>
                  </a:lnTo>
                  <a:lnTo>
                    <a:pt x="802" y="1596"/>
                  </a:lnTo>
                  <a:lnTo>
                    <a:pt x="854" y="1596"/>
                  </a:lnTo>
                  <a:lnTo>
                    <a:pt x="900" y="1589"/>
                  </a:lnTo>
                  <a:lnTo>
                    <a:pt x="952" y="1583"/>
                  </a:lnTo>
                  <a:lnTo>
                    <a:pt x="1004" y="1576"/>
                  </a:lnTo>
                  <a:lnTo>
                    <a:pt x="1050" y="1557"/>
                  </a:lnTo>
                  <a:lnTo>
                    <a:pt x="1096" y="1544"/>
                  </a:lnTo>
                  <a:lnTo>
                    <a:pt x="1141" y="1524"/>
                  </a:lnTo>
                  <a:lnTo>
                    <a:pt x="1187" y="1498"/>
                  </a:lnTo>
                  <a:lnTo>
                    <a:pt x="1232" y="1472"/>
                  </a:lnTo>
                  <a:lnTo>
                    <a:pt x="1272" y="1446"/>
                  </a:lnTo>
                  <a:lnTo>
                    <a:pt x="1317" y="1414"/>
                  </a:lnTo>
                  <a:lnTo>
                    <a:pt x="1350" y="1381"/>
                  </a:lnTo>
                  <a:lnTo>
                    <a:pt x="1389" y="1348"/>
                  </a:lnTo>
                  <a:lnTo>
                    <a:pt x="1422" y="1309"/>
                  </a:lnTo>
                  <a:lnTo>
                    <a:pt x="1454" y="1270"/>
                  </a:lnTo>
                  <a:lnTo>
                    <a:pt x="1480" y="1225"/>
                  </a:lnTo>
                  <a:lnTo>
                    <a:pt x="1506" y="1186"/>
                  </a:lnTo>
                  <a:lnTo>
                    <a:pt x="1532" y="1140"/>
                  </a:lnTo>
                  <a:lnTo>
                    <a:pt x="1552" y="1094"/>
                  </a:lnTo>
                  <a:lnTo>
                    <a:pt x="1565" y="1042"/>
                  </a:lnTo>
                  <a:lnTo>
                    <a:pt x="1578" y="997"/>
                  </a:lnTo>
                  <a:lnTo>
                    <a:pt x="1591" y="951"/>
                  </a:lnTo>
                  <a:lnTo>
                    <a:pt x="1598" y="899"/>
                  </a:lnTo>
                  <a:lnTo>
                    <a:pt x="1604" y="847"/>
                  </a:lnTo>
                  <a:lnTo>
                    <a:pt x="1604" y="801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946760" y="3225960"/>
              <a:ext cx="672840" cy="42840"/>
            </a:xfrm>
            <a:custGeom>
              <a:avLst/>
              <a:gdLst/>
              <a:ahLst/>
              <a:rect l="l" t="t" r="r" b="b"/>
              <a:pathLst>
                <a:path w="424" h="27">
                  <a:moveTo>
                    <a:pt x="423" y="26"/>
                  </a:moveTo>
                  <a:lnTo>
                    <a:pt x="410" y="19"/>
                  </a:lnTo>
                  <a:lnTo>
                    <a:pt x="404" y="19"/>
                  </a:lnTo>
                  <a:lnTo>
                    <a:pt x="397" y="19"/>
                  </a:lnTo>
                  <a:lnTo>
                    <a:pt x="384" y="13"/>
                  </a:lnTo>
                  <a:lnTo>
                    <a:pt x="378" y="13"/>
                  </a:lnTo>
                  <a:lnTo>
                    <a:pt x="365" y="13"/>
                  </a:lnTo>
                  <a:lnTo>
                    <a:pt x="358" y="13"/>
                  </a:lnTo>
                  <a:lnTo>
                    <a:pt x="345" y="13"/>
                  </a:lnTo>
                  <a:lnTo>
                    <a:pt x="339" y="6"/>
                  </a:lnTo>
                  <a:lnTo>
                    <a:pt x="326" y="6"/>
                  </a:lnTo>
                  <a:lnTo>
                    <a:pt x="319" y="6"/>
                  </a:lnTo>
                  <a:lnTo>
                    <a:pt x="306" y="6"/>
                  </a:lnTo>
                  <a:lnTo>
                    <a:pt x="299" y="6"/>
                  </a:lnTo>
                  <a:lnTo>
                    <a:pt x="286" y="6"/>
                  </a:lnTo>
                  <a:lnTo>
                    <a:pt x="280" y="0"/>
                  </a:lnTo>
                  <a:lnTo>
                    <a:pt x="273" y="0"/>
                  </a:lnTo>
                  <a:lnTo>
                    <a:pt x="260" y="0"/>
                  </a:lnTo>
                  <a:lnTo>
                    <a:pt x="254" y="0"/>
                  </a:lnTo>
                  <a:lnTo>
                    <a:pt x="241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15" y="0"/>
                  </a:lnTo>
                  <a:lnTo>
                    <a:pt x="202" y="0"/>
                  </a:lnTo>
                  <a:lnTo>
                    <a:pt x="195" y="0"/>
                  </a:lnTo>
                  <a:lnTo>
                    <a:pt x="182" y="0"/>
                  </a:lnTo>
                  <a:lnTo>
                    <a:pt x="176" y="0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3" y="0"/>
                  </a:lnTo>
                  <a:lnTo>
                    <a:pt x="136" y="0"/>
                  </a:lnTo>
                  <a:lnTo>
                    <a:pt x="123" y="6"/>
                  </a:lnTo>
                  <a:lnTo>
                    <a:pt x="117" y="6"/>
                  </a:lnTo>
                  <a:lnTo>
                    <a:pt x="104" y="6"/>
                  </a:lnTo>
                  <a:lnTo>
                    <a:pt x="97" y="6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1" y="13"/>
                  </a:lnTo>
                  <a:lnTo>
                    <a:pt x="58" y="13"/>
                  </a:lnTo>
                  <a:lnTo>
                    <a:pt x="52" y="13"/>
                  </a:lnTo>
                  <a:lnTo>
                    <a:pt x="39" y="13"/>
                  </a:lnTo>
                  <a:lnTo>
                    <a:pt x="32" y="19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0" y="1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3952440" y="3462480"/>
              <a:ext cx="2649960" cy="2574720"/>
              <a:chOff x="3952440" y="3462480"/>
              <a:chExt cx="2649960" cy="2574720"/>
            </a:xfrm>
          </p:grpSpPr>
          <p:sp>
            <p:nvSpPr>
              <p:cNvPr id="1551" name=""/>
              <p:cNvSpPr/>
              <p:nvPr/>
            </p:nvSpPr>
            <p:spPr>
              <a:xfrm>
                <a:off x="4946760" y="3462480"/>
                <a:ext cx="102960" cy="1047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>
                <a:off x="4946760" y="3462480"/>
                <a:ext cx="102960" cy="1047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946760" y="5934240"/>
                <a:ext cx="102960" cy="102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H="1">
                <a:off x="4946760" y="5934240"/>
                <a:ext cx="102960" cy="102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429080" y="370044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4428720" y="370044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429080" y="569592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4428720" y="569592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952800" y="470376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3952440" y="470376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4076640" y="4145040"/>
                <a:ext cx="103320" cy="102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4076280" y="4145040"/>
                <a:ext cx="103320" cy="102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076640" y="525132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4076280" y="525132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505480" y="5934240"/>
                <a:ext cx="103320" cy="102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H="1">
                <a:off x="5505120" y="5934240"/>
                <a:ext cx="103320" cy="102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505480" y="3462480"/>
                <a:ext cx="103320" cy="1047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5505120" y="3462480"/>
                <a:ext cx="103320" cy="1047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022800" y="569592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>
                <a:off x="6022440" y="569592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022800" y="370044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6022440" y="370044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497640" y="4703760"/>
                <a:ext cx="10476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6497280" y="4703760"/>
                <a:ext cx="10476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373800" y="525132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6373440" y="5251320"/>
                <a:ext cx="103320" cy="1033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373800" y="4145040"/>
                <a:ext cx="103320" cy="102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6373440" y="4145040"/>
                <a:ext cx="103320" cy="1029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 flipH="1" flipV="1">
              <a:off x="4903920" y="3143160"/>
              <a:ext cx="372960" cy="1611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276880" y="3143160"/>
              <a:ext cx="372960" cy="1611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17440" y="3019320"/>
              <a:ext cx="59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456240" y="3400560"/>
              <a:ext cx="139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-ravnin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61160" y="4772160"/>
              <a:ext cx="40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856040" y="2714760"/>
              <a:ext cx="40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5273640" y="3978360"/>
              <a:ext cx="1020960" cy="774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756400" y="4210200"/>
              <a:ext cx="1474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=0.7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7" name=""/>
          <p:cNvSpPr/>
          <p:nvPr/>
        </p:nvSpPr>
        <p:spPr>
          <a:xfrm>
            <a:off x="611280" y="2819520"/>
            <a:ext cx="28177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lovi u lijevoj poluravnini pripadaju prijenosnoj funkciji filtr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 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2133720" y="3352680"/>
            <a:ext cx="3028680" cy="2841840"/>
            <a:chOff x="2133720" y="3352680"/>
            <a:chExt cx="3028680" cy="2841840"/>
          </a:xfrm>
        </p:grpSpPr>
        <p:sp>
          <p:nvSpPr>
            <p:cNvPr id="1589" name=""/>
            <p:cNvSpPr/>
            <p:nvPr/>
          </p:nvSpPr>
          <p:spPr>
            <a:xfrm>
              <a:off x="3708360" y="3352680"/>
              <a:ext cx="1454040" cy="2841840"/>
            </a:xfrm>
            <a:custGeom>
              <a:avLst/>
              <a:gdLst/>
              <a:ahLst/>
              <a:rect l="l" t="t" r="r" b="b"/>
              <a:pathLst>
                <a:path w="916" h="1790">
                  <a:moveTo>
                    <a:pt x="736" y="0"/>
                  </a:moveTo>
                  <a:lnTo>
                    <a:pt x="710" y="16"/>
                  </a:lnTo>
                  <a:lnTo>
                    <a:pt x="691" y="22"/>
                  </a:lnTo>
                  <a:lnTo>
                    <a:pt x="672" y="29"/>
                  </a:lnTo>
                  <a:lnTo>
                    <a:pt x="653" y="35"/>
                  </a:lnTo>
                  <a:lnTo>
                    <a:pt x="634" y="42"/>
                  </a:lnTo>
                  <a:lnTo>
                    <a:pt x="614" y="48"/>
                  </a:lnTo>
                  <a:lnTo>
                    <a:pt x="595" y="54"/>
                  </a:lnTo>
                  <a:lnTo>
                    <a:pt x="576" y="61"/>
                  </a:lnTo>
                  <a:lnTo>
                    <a:pt x="557" y="74"/>
                  </a:lnTo>
                  <a:lnTo>
                    <a:pt x="531" y="86"/>
                  </a:lnTo>
                  <a:lnTo>
                    <a:pt x="512" y="99"/>
                  </a:lnTo>
                  <a:lnTo>
                    <a:pt x="493" y="112"/>
                  </a:lnTo>
                  <a:lnTo>
                    <a:pt x="474" y="118"/>
                  </a:lnTo>
                  <a:lnTo>
                    <a:pt x="454" y="138"/>
                  </a:lnTo>
                  <a:lnTo>
                    <a:pt x="435" y="144"/>
                  </a:lnTo>
                  <a:lnTo>
                    <a:pt x="416" y="163"/>
                  </a:lnTo>
                  <a:lnTo>
                    <a:pt x="397" y="170"/>
                  </a:lnTo>
                  <a:lnTo>
                    <a:pt x="371" y="189"/>
                  </a:lnTo>
                  <a:lnTo>
                    <a:pt x="352" y="195"/>
                  </a:lnTo>
                  <a:lnTo>
                    <a:pt x="333" y="214"/>
                  </a:lnTo>
                  <a:lnTo>
                    <a:pt x="314" y="234"/>
                  </a:lnTo>
                  <a:lnTo>
                    <a:pt x="301" y="253"/>
                  </a:lnTo>
                  <a:lnTo>
                    <a:pt x="282" y="272"/>
                  </a:lnTo>
                  <a:lnTo>
                    <a:pt x="262" y="285"/>
                  </a:lnTo>
                  <a:lnTo>
                    <a:pt x="243" y="304"/>
                  </a:lnTo>
                  <a:lnTo>
                    <a:pt x="218" y="323"/>
                  </a:lnTo>
                  <a:lnTo>
                    <a:pt x="205" y="342"/>
                  </a:lnTo>
                  <a:lnTo>
                    <a:pt x="186" y="355"/>
                  </a:lnTo>
                  <a:lnTo>
                    <a:pt x="173" y="374"/>
                  </a:lnTo>
                  <a:lnTo>
                    <a:pt x="160" y="394"/>
                  </a:lnTo>
                  <a:lnTo>
                    <a:pt x="154" y="413"/>
                  </a:lnTo>
                  <a:lnTo>
                    <a:pt x="134" y="432"/>
                  </a:lnTo>
                  <a:lnTo>
                    <a:pt x="115" y="458"/>
                  </a:lnTo>
                  <a:lnTo>
                    <a:pt x="102" y="477"/>
                  </a:lnTo>
                  <a:lnTo>
                    <a:pt x="90" y="496"/>
                  </a:lnTo>
                  <a:lnTo>
                    <a:pt x="70" y="522"/>
                  </a:lnTo>
                  <a:lnTo>
                    <a:pt x="64" y="541"/>
                  </a:lnTo>
                  <a:lnTo>
                    <a:pt x="51" y="560"/>
                  </a:lnTo>
                  <a:lnTo>
                    <a:pt x="45" y="579"/>
                  </a:lnTo>
                  <a:lnTo>
                    <a:pt x="38" y="618"/>
                  </a:lnTo>
                  <a:lnTo>
                    <a:pt x="32" y="637"/>
                  </a:lnTo>
                  <a:lnTo>
                    <a:pt x="32" y="656"/>
                  </a:lnTo>
                  <a:lnTo>
                    <a:pt x="32" y="682"/>
                  </a:lnTo>
                  <a:lnTo>
                    <a:pt x="26" y="707"/>
                  </a:lnTo>
                  <a:lnTo>
                    <a:pt x="26" y="746"/>
                  </a:lnTo>
                  <a:lnTo>
                    <a:pt x="26" y="765"/>
                  </a:lnTo>
                  <a:lnTo>
                    <a:pt x="19" y="790"/>
                  </a:lnTo>
                  <a:lnTo>
                    <a:pt x="13" y="829"/>
                  </a:lnTo>
                  <a:lnTo>
                    <a:pt x="6" y="854"/>
                  </a:lnTo>
                  <a:lnTo>
                    <a:pt x="6" y="880"/>
                  </a:lnTo>
                  <a:lnTo>
                    <a:pt x="0" y="906"/>
                  </a:lnTo>
                  <a:lnTo>
                    <a:pt x="0" y="957"/>
                  </a:lnTo>
                  <a:lnTo>
                    <a:pt x="0" y="1002"/>
                  </a:lnTo>
                  <a:lnTo>
                    <a:pt x="0" y="1040"/>
                  </a:lnTo>
                  <a:lnTo>
                    <a:pt x="0" y="1066"/>
                  </a:lnTo>
                  <a:lnTo>
                    <a:pt x="0" y="1085"/>
                  </a:lnTo>
                  <a:lnTo>
                    <a:pt x="6" y="1104"/>
                  </a:lnTo>
                  <a:lnTo>
                    <a:pt x="26" y="1130"/>
                  </a:lnTo>
                  <a:lnTo>
                    <a:pt x="38" y="1149"/>
                  </a:lnTo>
                  <a:lnTo>
                    <a:pt x="45" y="1187"/>
                  </a:lnTo>
                  <a:lnTo>
                    <a:pt x="58" y="1206"/>
                  </a:lnTo>
                  <a:lnTo>
                    <a:pt x="70" y="1226"/>
                  </a:lnTo>
                  <a:lnTo>
                    <a:pt x="83" y="1251"/>
                  </a:lnTo>
                  <a:lnTo>
                    <a:pt x="96" y="1290"/>
                  </a:lnTo>
                  <a:lnTo>
                    <a:pt x="109" y="1341"/>
                  </a:lnTo>
                  <a:lnTo>
                    <a:pt x="122" y="1360"/>
                  </a:lnTo>
                  <a:lnTo>
                    <a:pt x="141" y="1379"/>
                  </a:lnTo>
                  <a:lnTo>
                    <a:pt x="160" y="1398"/>
                  </a:lnTo>
                  <a:lnTo>
                    <a:pt x="179" y="1418"/>
                  </a:lnTo>
                  <a:lnTo>
                    <a:pt x="205" y="1443"/>
                  </a:lnTo>
                  <a:lnTo>
                    <a:pt x="243" y="1482"/>
                  </a:lnTo>
                  <a:lnTo>
                    <a:pt x="262" y="1501"/>
                  </a:lnTo>
                  <a:lnTo>
                    <a:pt x="282" y="1520"/>
                  </a:lnTo>
                  <a:lnTo>
                    <a:pt x="307" y="1546"/>
                  </a:lnTo>
                  <a:lnTo>
                    <a:pt x="320" y="1565"/>
                  </a:lnTo>
                  <a:lnTo>
                    <a:pt x="339" y="1584"/>
                  </a:lnTo>
                  <a:lnTo>
                    <a:pt x="390" y="1603"/>
                  </a:lnTo>
                  <a:lnTo>
                    <a:pt x="416" y="1622"/>
                  </a:lnTo>
                  <a:lnTo>
                    <a:pt x="442" y="1635"/>
                  </a:lnTo>
                  <a:lnTo>
                    <a:pt x="493" y="1654"/>
                  </a:lnTo>
                  <a:lnTo>
                    <a:pt x="512" y="1667"/>
                  </a:lnTo>
                  <a:lnTo>
                    <a:pt x="563" y="1712"/>
                  </a:lnTo>
                  <a:lnTo>
                    <a:pt x="602" y="1718"/>
                  </a:lnTo>
                  <a:lnTo>
                    <a:pt x="653" y="1738"/>
                  </a:lnTo>
                  <a:lnTo>
                    <a:pt x="672" y="1750"/>
                  </a:lnTo>
                  <a:lnTo>
                    <a:pt x="691" y="1770"/>
                  </a:lnTo>
                  <a:lnTo>
                    <a:pt x="710" y="1776"/>
                  </a:lnTo>
                  <a:lnTo>
                    <a:pt x="749" y="1782"/>
                  </a:lnTo>
                  <a:lnTo>
                    <a:pt x="768" y="1782"/>
                  </a:lnTo>
                  <a:lnTo>
                    <a:pt x="787" y="1789"/>
                  </a:lnTo>
                  <a:lnTo>
                    <a:pt x="806" y="1789"/>
                  </a:lnTo>
                  <a:lnTo>
                    <a:pt x="826" y="1789"/>
                  </a:lnTo>
                  <a:lnTo>
                    <a:pt x="845" y="1789"/>
                  </a:lnTo>
                  <a:lnTo>
                    <a:pt x="864" y="1782"/>
                  </a:lnTo>
                  <a:lnTo>
                    <a:pt x="883" y="1770"/>
                  </a:lnTo>
                  <a:lnTo>
                    <a:pt x="890" y="1750"/>
                  </a:lnTo>
                  <a:lnTo>
                    <a:pt x="909" y="1725"/>
                  </a:lnTo>
                  <a:lnTo>
                    <a:pt x="915" y="1699"/>
                  </a:lnTo>
                  <a:lnTo>
                    <a:pt x="915" y="1680"/>
                  </a:lnTo>
                  <a:lnTo>
                    <a:pt x="915" y="1654"/>
                  </a:lnTo>
                  <a:lnTo>
                    <a:pt x="915" y="1635"/>
                  </a:lnTo>
                  <a:lnTo>
                    <a:pt x="915" y="1616"/>
                  </a:lnTo>
                  <a:lnTo>
                    <a:pt x="915" y="1597"/>
                  </a:lnTo>
                  <a:lnTo>
                    <a:pt x="909" y="1578"/>
                  </a:lnTo>
                  <a:lnTo>
                    <a:pt x="896" y="1558"/>
                  </a:lnTo>
                  <a:lnTo>
                    <a:pt x="877" y="1539"/>
                  </a:lnTo>
                  <a:lnTo>
                    <a:pt x="858" y="1526"/>
                  </a:lnTo>
                  <a:lnTo>
                    <a:pt x="813" y="1520"/>
                  </a:lnTo>
                  <a:lnTo>
                    <a:pt x="774" y="1514"/>
                  </a:lnTo>
                  <a:lnTo>
                    <a:pt x="755" y="1501"/>
                  </a:lnTo>
                  <a:lnTo>
                    <a:pt x="736" y="1494"/>
                  </a:lnTo>
                  <a:lnTo>
                    <a:pt x="685" y="1482"/>
                  </a:lnTo>
                  <a:lnTo>
                    <a:pt x="634" y="1469"/>
                  </a:lnTo>
                  <a:lnTo>
                    <a:pt x="614" y="1450"/>
                  </a:lnTo>
                  <a:lnTo>
                    <a:pt x="602" y="1430"/>
                  </a:lnTo>
                  <a:lnTo>
                    <a:pt x="595" y="1411"/>
                  </a:lnTo>
                  <a:lnTo>
                    <a:pt x="589" y="1392"/>
                  </a:lnTo>
                  <a:lnTo>
                    <a:pt x="570" y="1373"/>
                  </a:lnTo>
                  <a:lnTo>
                    <a:pt x="563" y="1354"/>
                  </a:lnTo>
                  <a:lnTo>
                    <a:pt x="550" y="1334"/>
                  </a:lnTo>
                  <a:lnTo>
                    <a:pt x="531" y="1322"/>
                  </a:lnTo>
                  <a:lnTo>
                    <a:pt x="518" y="1302"/>
                  </a:lnTo>
                  <a:lnTo>
                    <a:pt x="512" y="1283"/>
                  </a:lnTo>
                  <a:lnTo>
                    <a:pt x="506" y="1258"/>
                  </a:lnTo>
                  <a:lnTo>
                    <a:pt x="493" y="1232"/>
                  </a:lnTo>
                  <a:lnTo>
                    <a:pt x="486" y="1213"/>
                  </a:lnTo>
                  <a:lnTo>
                    <a:pt x="480" y="1194"/>
                  </a:lnTo>
                  <a:lnTo>
                    <a:pt x="467" y="1168"/>
                  </a:lnTo>
                  <a:lnTo>
                    <a:pt x="454" y="1142"/>
                  </a:lnTo>
                  <a:lnTo>
                    <a:pt x="448" y="1123"/>
                  </a:lnTo>
                  <a:lnTo>
                    <a:pt x="448" y="1104"/>
                  </a:lnTo>
                  <a:lnTo>
                    <a:pt x="442" y="1078"/>
                  </a:lnTo>
                  <a:lnTo>
                    <a:pt x="442" y="1053"/>
                  </a:lnTo>
                  <a:lnTo>
                    <a:pt x="442" y="1027"/>
                  </a:lnTo>
                  <a:lnTo>
                    <a:pt x="442" y="1008"/>
                  </a:lnTo>
                  <a:lnTo>
                    <a:pt x="442" y="989"/>
                  </a:lnTo>
                  <a:lnTo>
                    <a:pt x="442" y="970"/>
                  </a:lnTo>
                  <a:lnTo>
                    <a:pt x="442" y="918"/>
                  </a:lnTo>
                  <a:lnTo>
                    <a:pt x="442" y="893"/>
                  </a:lnTo>
                  <a:lnTo>
                    <a:pt x="442" y="874"/>
                  </a:lnTo>
                  <a:lnTo>
                    <a:pt x="442" y="854"/>
                  </a:lnTo>
                  <a:lnTo>
                    <a:pt x="448" y="835"/>
                  </a:lnTo>
                  <a:lnTo>
                    <a:pt x="454" y="816"/>
                  </a:lnTo>
                  <a:lnTo>
                    <a:pt x="461" y="790"/>
                  </a:lnTo>
                  <a:lnTo>
                    <a:pt x="474" y="765"/>
                  </a:lnTo>
                  <a:lnTo>
                    <a:pt x="480" y="746"/>
                  </a:lnTo>
                  <a:lnTo>
                    <a:pt x="486" y="726"/>
                  </a:lnTo>
                  <a:lnTo>
                    <a:pt x="493" y="707"/>
                  </a:lnTo>
                  <a:lnTo>
                    <a:pt x="506" y="682"/>
                  </a:lnTo>
                  <a:lnTo>
                    <a:pt x="512" y="662"/>
                  </a:lnTo>
                  <a:lnTo>
                    <a:pt x="525" y="643"/>
                  </a:lnTo>
                  <a:lnTo>
                    <a:pt x="538" y="624"/>
                  </a:lnTo>
                  <a:lnTo>
                    <a:pt x="544" y="605"/>
                  </a:lnTo>
                  <a:lnTo>
                    <a:pt x="557" y="586"/>
                  </a:lnTo>
                  <a:lnTo>
                    <a:pt x="570" y="560"/>
                  </a:lnTo>
                  <a:lnTo>
                    <a:pt x="589" y="534"/>
                  </a:lnTo>
                  <a:lnTo>
                    <a:pt x="595" y="515"/>
                  </a:lnTo>
                  <a:lnTo>
                    <a:pt x="608" y="496"/>
                  </a:lnTo>
                  <a:lnTo>
                    <a:pt x="614" y="477"/>
                  </a:lnTo>
                  <a:lnTo>
                    <a:pt x="627" y="458"/>
                  </a:lnTo>
                  <a:lnTo>
                    <a:pt x="646" y="432"/>
                  </a:lnTo>
                  <a:lnTo>
                    <a:pt x="659" y="413"/>
                  </a:lnTo>
                  <a:lnTo>
                    <a:pt x="672" y="394"/>
                  </a:lnTo>
                  <a:lnTo>
                    <a:pt x="691" y="374"/>
                  </a:lnTo>
                  <a:lnTo>
                    <a:pt x="710" y="355"/>
                  </a:lnTo>
                  <a:lnTo>
                    <a:pt x="730" y="342"/>
                  </a:lnTo>
                  <a:lnTo>
                    <a:pt x="742" y="323"/>
                  </a:lnTo>
                  <a:lnTo>
                    <a:pt x="762" y="310"/>
                  </a:lnTo>
                  <a:lnTo>
                    <a:pt x="781" y="298"/>
                  </a:lnTo>
                  <a:lnTo>
                    <a:pt x="800" y="278"/>
                  </a:lnTo>
                  <a:lnTo>
                    <a:pt x="819" y="266"/>
                  </a:lnTo>
                  <a:lnTo>
                    <a:pt x="838" y="246"/>
                  </a:lnTo>
                  <a:lnTo>
                    <a:pt x="851" y="227"/>
                  </a:lnTo>
                  <a:lnTo>
                    <a:pt x="870" y="208"/>
                  </a:lnTo>
                  <a:lnTo>
                    <a:pt x="877" y="189"/>
                  </a:lnTo>
                  <a:lnTo>
                    <a:pt x="890" y="163"/>
                  </a:lnTo>
                  <a:lnTo>
                    <a:pt x="896" y="144"/>
                  </a:lnTo>
                  <a:lnTo>
                    <a:pt x="909" y="125"/>
                  </a:lnTo>
                  <a:lnTo>
                    <a:pt x="915" y="106"/>
                  </a:lnTo>
                  <a:lnTo>
                    <a:pt x="915" y="86"/>
                  </a:lnTo>
                  <a:lnTo>
                    <a:pt x="915" y="67"/>
                  </a:lnTo>
                  <a:lnTo>
                    <a:pt x="909" y="48"/>
                  </a:lnTo>
                  <a:lnTo>
                    <a:pt x="890" y="35"/>
                  </a:lnTo>
                  <a:lnTo>
                    <a:pt x="864" y="16"/>
                  </a:lnTo>
                  <a:lnTo>
                    <a:pt x="838" y="10"/>
                  </a:lnTo>
                  <a:lnTo>
                    <a:pt x="819" y="3"/>
                  </a:lnTo>
                  <a:lnTo>
                    <a:pt x="800" y="3"/>
                  </a:lnTo>
                  <a:lnTo>
                    <a:pt x="781" y="3"/>
                  </a:lnTo>
                  <a:lnTo>
                    <a:pt x="762" y="3"/>
                  </a:lnTo>
                  <a:lnTo>
                    <a:pt x="736" y="0"/>
                  </a:lnTo>
                  <a:lnTo>
                    <a:pt x="736" y="0"/>
                  </a:lnTo>
                </a:path>
              </a:pathLst>
            </a:custGeom>
            <a:noFill/>
            <a:ln cap="rnd" w="25560">
              <a:solidFill>
                <a:srgbClr val="00ff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133720" y="5105520"/>
              <a:ext cx="1676160" cy="304560"/>
            </a:xfrm>
            <a:prstGeom prst="line">
              <a:avLst/>
            </a:prstGeom>
            <a:ln w="25560">
              <a:solidFill>
                <a:srgbClr val="00fff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B4C4-7329-4BF0-A019-F4F6A2E4E9AF}" type="slidenum">
              <a:t>57</a:t>
            </a:fld>
          </a:p>
        </p:txBody>
      </p: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5" dur="500"/>
                                        <p:tgtEl>
                                          <p:spTgt spid="1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parivanjem konjugirano-kompleksnih parova dobiva s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blik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1297080" y="2500200"/>
                <a:ext cx="692604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1</m:t>
                                </m:r>
                              </m:e>
                            </m:d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09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98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91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98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92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9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4" name=""/>
          <p:cNvSpPr/>
          <p:nvPr/>
        </p:nvSpPr>
        <p:spPr>
          <a:xfrm>
            <a:off x="611280" y="42670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ovjera za rubove prijelaznog područj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=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=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2779560" y="5018040"/>
                <a:ext cx="35020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  <m:r>
                                <m:t xml:space="preserve">j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</m:t>
                              </m:r>
                              <m:r>
                                <m:t xml:space="preserve">j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878</m:t>
                          </m:r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3DB8-81E5-4C0C-B141-CA10710BC3CD}" type="slidenum">
              <a:t>58</a:t>
            </a:fld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16" dur="500"/>
                                        <p:tgtEl>
                                          <p:spTgt spid="1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2000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mpl.-frekv. karakteristika projektiranog vremenski kontinuiranog Butterworthovog filtr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1168560" y="2892600"/>
            <a:ext cx="6234840" cy="3996360"/>
            <a:chOff x="1168560" y="2892600"/>
            <a:chExt cx="6234840" cy="3996360"/>
          </a:xfrm>
        </p:grpSpPr>
        <p:sp>
          <p:nvSpPr>
            <p:cNvPr id="1599" name=""/>
            <p:cNvSpPr/>
            <p:nvPr/>
          </p:nvSpPr>
          <p:spPr>
            <a:xfrm>
              <a:off x="2468520" y="6288120"/>
              <a:ext cx="4310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2468520" y="2898360"/>
              <a:ext cx="0" cy="3389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468520" y="6288120"/>
              <a:ext cx="4310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2468520" y="2898360"/>
              <a:ext cx="0" cy="3389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68520" y="62881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2468520" y="624852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468520" y="289872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27040" y="62866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3544920" y="624852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401640" y="62866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4629240" y="624852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87400" y="62866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5703840" y="624852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562360" y="62866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468520" y="6288120"/>
              <a:ext cx="39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217240" y="61167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468520" y="5722920"/>
              <a:ext cx="39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049480" y="554976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.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468520" y="5156280"/>
              <a:ext cx="39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049480" y="498312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468520" y="4589640"/>
              <a:ext cx="39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049480" y="441792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.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468520" y="4032360"/>
              <a:ext cx="39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049480" y="386064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468520" y="3465360"/>
              <a:ext cx="39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217240" y="32940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468520" y="6288120"/>
              <a:ext cx="48466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2468520" y="2898360"/>
              <a:ext cx="0" cy="3389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468520" y="62881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468520" y="6010200"/>
              <a:ext cx="43102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468520" y="3743280"/>
              <a:ext cx="195120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3165480" y="3465000"/>
              <a:ext cx="0" cy="28227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3564000" y="3465000"/>
              <a:ext cx="0" cy="28227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468520" y="3465360"/>
              <a:ext cx="195120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468520" y="3465360"/>
              <a:ext cx="4311720" cy="2824200"/>
            </a:xfrm>
            <a:custGeom>
              <a:avLst/>
              <a:gdLst/>
              <a:ahLst/>
              <a:rect l="l" t="t" r="r" b="b"/>
              <a:pathLst>
                <a:path w="2716" h="1779">
                  <a:moveTo>
                    <a:pt x="0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6" y="0"/>
                  </a:lnTo>
                  <a:lnTo>
                    <a:pt x="182" y="0"/>
                  </a:lnTo>
                  <a:lnTo>
                    <a:pt x="189" y="0"/>
                  </a:lnTo>
                  <a:lnTo>
                    <a:pt x="195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0" y="0"/>
                  </a:lnTo>
                  <a:lnTo>
                    <a:pt x="226" y="0"/>
                  </a:lnTo>
                  <a:lnTo>
                    <a:pt x="232" y="0"/>
                  </a:lnTo>
                  <a:lnTo>
                    <a:pt x="239" y="0"/>
                  </a:lnTo>
                  <a:lnTo>
                    <a:pt x="245" y="0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3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4" y="0"/>
                  </a:lnTo>
                  <a:lnTo>
                    <a:pt x="320" y="0"/>
                  </a:lnTo>
                  <a:lnTo>
                    <a:pt x="326" y="0"/>
                  </a:lnTo>
                  <a:lnTo>
                    <a:pt x="333" y="0"/>
                  </a:lnTo>
                  <a:lnTo>
                    <a:pt x="339" y="6"/>
                  </a:lnTo>
                  <a:lnTo>
                    <a:pt x="345" y="6"/>
                  </a:lnTo>
                  <a:lnTo>
                    <a:pt x="352" y="6"/>
                  </a:lnTo>
                  <a:lnTo>
                    <a:pt x="358" y="13"/>
                  </a:lnTo>
                  <a:lnTo>
                    <a:pt x="364" y="13"/>
                  </a:lnTo>
                  <a:lnTo>
                    <a:pt x="377" y="19"/>
                  </a:lnTo>
                  <a:lnTo>
                    <a:pt x="383" y="25"/>
                  </a:lnTo>
                  <a:lnTo>
                    <a:pt x="389" y="31"/>
                  </a:lnTo>
                  <a:lnTo>
                    <a:pt x="395" y="38"/>
                  </a:lnTo>
                  <a:lnTo>
                    <a:pt x="402" y="50"/>
                  </a:lnTo>
                  <a:lnTo>
                    <a:pt x="408" y="63"/>
                  </a:lnTo>
                  <a:lnTo>
                    <a:pt x="414" y="81"/>
                  </a:lnTo>
                  <a:lnTo>
                    <a:pt x="420" y="100"/>
                  </a:lnTo>
                  <a:lnTo>
                    <a:pt x="427" y="119"/>
                  </a:lnTo>
                  <a:lnTo>
                    <a:pt x="433" y="144"/>
                  </a:lnTo>
                  <a:lnTo>
                    <a:pt x="439" y="175"/>
                  </a:lnTo>
                  <a:lnTo>
                    <a:pt x="446" y="213"/>
                  </a:lnTo>
                  <a:lnTo>
                    <a:pt x="458" y="251"/>
                  </a:lnTo>
                  <a:lnTo>
                    <a:pt x="464" y="294"/>
                  </a:lnTo>
                  <a:lnTo>
                    <a:pt x="471" y="344"/>
                  </a:lnTo>
                  <a:lnTo>
                    <a:pt x="477" y="401"/>
                  </a:lnTo>
                  <a:lnTo>
                    <a:pt x="483" y="457"/>
                  </a:lnTo>
                  <a:lnTo>
                    <a:pt x="489" y="514"/>
                  </a:lnTo>
                  <a:lnTo>
                    <a:pt x="496" y="576"/>
                  </a:lnTo>
                  <a:lnTo>
                    <a:pt x="502" y="639"/>
                  </a:lnTo>
                  <a:lnTo>
                    <a:pt x="508" y="701"/>
                  </a:lnTo>
                  <a:lnTo>
                    <a:pt x="515" y="764"/>
                  </a:lnTo>
                  <a:lnTo>
                    <a:pt x="521" y="827"/>
                  </a:lnTo>
                  <a:lnTo>
                    <a:pt x="527" y="889"/>
                  </a:lnTo>
                  <a:lnTo>
                    <a:pt x="540" y="946"/>
                  </a:lnTo>
                  <a:lnTo>
                    <a:pt x="546" y="1002"/>
                  </a:lnTo>
                  <a:lnTo>
                    <a:pt x="552" y="1058"/>
                  </a:lnTo>
                  <a:lnTo>
                    <a:pt x="558" y="1108"/>
                  </a:lnTo>
                  <a:lnTo>
                    <a:pt x="565" y="1159"/>
                  </a:lnTo>
                  <a:lnTo>
                    <a:pt x="571" y="1202"/>
                  </a:lnTo>
                  <a:lnTo>
                    <a:pt x="577" y="1240"/>
                  </a:lnTo>
                  <a:lnTo>
                    <a:pt x="583" y="1284"/>
                  </a:lnTo>
                  <a:lnTo>
                    <a:pt x="590" y="1315"/>
                  </a:lnTo>
                  <a:lnTo>
                    <a:pt x="596" y="1353"/>
                  </a:lnTo>
                  <a:lnTo>
                    <a:pt x="602" y="1384"/>
                  </a:lnTo>
                  <a:lnTo>
                    <a:pt x="609" y="1409"/>
                  </a:lnTo>
                  <a:lnTo>
                    <a:pt x="621" y="1434"/>
                  </a:lnTo>
                  <a:lnTo>
                    <a:pt x="627" y="1459"/>
                  </a:lnTo>
                  <a:lnTo>
                    <a:pt x="634" y="1484"/>
                  </a:lnTo>
                  <a:lnTo>
                    <a:pt x="640" y="1503"/>
                  </a:lnTo>
                  <a:lnTo>
                    <a:pt x="646" y="1522"/>
                  </a:lnTo>
                  <a:lnTo>
                    <a:pt x="652" y="1540"/>
                  </a:lnTo>
                  <a:lnTo>
                    <a:pt x="659" y="1559"/>
                  </a:lnTo>
                  <a:lnTo>
                    <a:pt x="665" y="1572"/>
                  </a:lnTo>
                  <a:lnTo>
                    <a:pt x="671" y="1584"/>
                  </a:lnTo>
                  <a:lnTo>
                    <a:pt x="678" y="1597"/>
                  </a:lnTo>
                  <a:lnTo>
                    <a:pt x="684" y="1609"/>
                  </a:lnTo>
                  <a:lnTo>
                    <a:pt x="690" y="1622"/>
                  </a:lnTo>
                  <a:lnTo>
                    <a:pt x="696" y="1634"/>
                  </a:lnTo>
                  <a:lnTo>
                    <a:pt x="709" y="1641"/>
                  </a:lnTo>
                  <a:lnTo>
                    <a:pt x="715" y="1653"/>
                  </a:lnTo>
                  <a:lnTo>
                    <a:pt x="721" y="1659"/>
                  </a:lnTo>
                  <a:lnTo>
                    <a:pt x="728" y="1666"/>
                  </a:lnTo>
                  <a:lnTo>
                    <a:pt x="734" y="1672"/>
                  </a:lnTo>
                  <a:lnTo>
                    <a:pt x="740" y="1678"/>
                  </a:lnTo>
                  <a:lnTo>
                    <a:pt x="747" y="1685"/>
                  </a:lnTo>
                  <a:lnTo>
                    <a:pt x="753" y="1691"/>
                  </a:lnTo>
                  <a:lnTo>
                    <a:pt x="759" y="1697"/>
                  </a:lnTo>
                  <a:lnTo>
                    <a:pt x="765" y="1703"/>
                  </a:lnTo>
                  <a:lnTo>
                    <a:pt x="772" y="1710"/>
                  </a:lnTo>
                  <a:lnTo>
                    <a:pt x="778" y="1710"/>
                  </a:lnTo>
                  <a:lnTo>
                    <a:pt x="790" y="1716"/>
                  </a:lnTo>
                  <a:lnTo>
                    <a:pt x="797" y="1716"/>
                  </a:lnTo>
                  <a:lnTo>
                    <a:pt x="803" y="1722"/>
                  </a:lnTo>
                  <a:lnTo>
                    <a:pt x="809" y="1722"/>
                  </a:lnTo>
                  <a:lnTo>
                    <a:pt x="815" y="1728"/>
                  </a:lnTo>
                  <a:lnTo>
                    <a:pt x="822" y="1728"/>
                  </a:lnTo>
                  <a:lnTo>
                    <a:pt x="828" y="1735"/>
                  </a:lnTo>
                  <a:lnTo>
                    <a:pt x="834" y="1735"/>
                  </a:lnTo>
                  <a:lnTo>
                    <a:pt x="841" y="1741"/>
                  </a:lnTo>
                  <a:lnTo>
                    <a:pt x="847" y="1741"/>
                  </a:lnTo>
                  <a:lnTo>
                    <a:pt x="853" y="1741"/>
                  </a:lnTo>
                  <a:lnTo>
                    <a:pt x="859" y="1747"/>
                  </a:lnTo>
                  <a:lnTo>
                    <a:pt x="872" y="1747"/>
                  </a:lnTo>
                  <a:lnTo>
                    <a:pt x="878" y="1747"/>
                  </a:lnTo>
                  <a:lnTo>
                    <a:pt x="884" y="1747"/>
                  </a:lnTo>
                  <a:lnTo>
                    <a:pt x="891" y="1753"/>
                  </a:lnTo>
                  <a:lnTo>
                    <a:pt x="897" y="1753"/>
                  </a:lnTo>
                  <a:lnTo>
                    <a:pt x="903" y="1753"/>
                  </a:lnTo>
                  <a:lnTo>
                    <a:pt x="910" y="1753"/>
                  </a:lnTo>
                  <a:lnTo>
                    <a:pt x="916" y="1753"/>
                  </a:lnTo>
                  <a:lnTo>
                    <a:pt x="922" y="1760"/>
                  </a:lnTo>
                  <a:lnTo>
                    <a:pt x="928" y="1760"/>
                  </a:lnTo>
                  <a:lnTo>
                    <a:pt x="935" y="1760"/>
                  </a:lnTo>
                  <a:lnTo>
                    <a:pt x="941" y="1760"/>
                  </a:lnTo>
                  <a:lnTo>
                    <a:pt x="953" y="1760"/>
                  </a:lnTo>
                  <a:lnTo>
                    <a:pt x="960" y="1760"/>
                  </a:lnTo>
                  <a:lnTo>
                    <a:pt x="966" y="1766"/>
                  </a:lnTo>
                  <a:lnTo>
                    <a:pt x="972" y="1766"/>
                  </a:lnTo>
                  <a:lnTo>
                    <a:pt x="978" y="1766"/>
                  </a:lnTo>
                  <a:lnTo>
                    <a:pt x="985" y="1766"/>
                  </a:lnTo>
                  <a:lnTo>
                    <a:pt x="991" y="1766"/>
                  </a:lnTo>
                  <a:lnTo>
                    <a:pt x="997" y="1766"/>
                  </a:lnTo>
                  <a:lnTo>
                    <a:pt x="1004" y="1766"/>
                  </a:lnTo>
                  <a:lnTo>
                    <a:pt x="1010" y="1766"/>
                  </a:lnTo>
                  <a:lnTo>
                    <a:pt x="1016" y="1766"/>
                  </a:lnTo>
                  <a:lnTo>
                    <a:pt x="1022" y="1766"/>
                  </a:lnTo>
                  <a:lnTo>
                    <a:pt x="1035" y="1766"/>
                  </a:lnTo>
                  <a:lnTo>
                    <a:pt x="1041" y="1772"/>
                  </a:lnTo>
                  <a:lnTo>
                    <a:pt x="1047" y="1772"/>
                  </a:lnTo>
                  <a:lnTo>
                    <a:pt x="1054" y="1772"/>
                  </a:lnTo>
                  <a:lnTo>
                    <a:pt x="1060" y="1772"/>
                  </a:lnTo>
                  <a:lnTo>
                    <a:pt x="1066" y="1772"/>
                  </a:lnTo>
                  <a:lnTo>
                    <a:pt x="1073" y="1772"/>
                  </a:lnTo>
                  <a:lnTo>
                    <a:pt x="1079" y="1772"/>
                  </a:lnTo>
                  <a:lnTo>
                    <a:pt x="1085" y="1772"/>
                  </a:lnTo>
                  <a:lnTo>
                    <a:pt x="1091" y="1772"/>
                  </a:lnTo>
                  <a:lnTo>
                    <a:pt x="1098" y="1772"/>
                  </a:lnTo>
                  <a:lnTo>
                    <a:pt x="1104" y="1772"/>
                  </a:lnTo>
                  <a:lnTo>
                    <a:pt x="1116" y="1772"/>
                  </a:lnTo>
                  <a:lnTo>
                    <a:pt x="1123" y="1772"/>
                  </a:lnTo>
                  <a:lnTo>
                    <a:pt x="1129" y="1772"/>
                  </a:lnTo>
                  <a:lnTo>
                    <a:pt x="1135" y="1772"/>
                  </a:lnTo>
                  <a:lnTo>
                    <a:pt x="1141" y="1772"/>
                  </a:lnTo>
                  <a:lnTo>
                    <a:pt x="1148" y="1772"/>
                  </a:lnTo>
                  <a:lnTo>
                    <a:pt x="1154" y="1772"/>
                  </a:lnTo>
                  <a:lnTo>
                    <a:pt x="1160" y="1772"/>
                  </a:lnTo>
                  <a:lnTo>
                    <a:pt x="1167" y="1772"/>
                  </a:lnTo>
                  <a:lnTo>
                    <a:pt x="1173" y="1772"/>
                  </a:lnTo>
                  <a:lnTo>
                    <a:pt x="1179" y="1772"/>
                  </a:lnTo>
                  <a:lnTo>
                    <a:pt x="1185" y="1772"/>
                  </a:lnTo>
                  <a:lnTo>
                    <a:pt x="1198" y="1772"/>
                  </a:lnTo>
                  <a:lnTo>
                    <a:pt x="1204" y="1772"/>
                  </a:lnTo>
                  <a:lnTo>
                    <a:pt x="1210" y="1772"/>
                  </a:lnTo>
                  <a:lnTo>
                    <a:pt x="1217" y="1778"/>
                  </a:lnTo>
                  <a:lnTo>
                    <a:pt x="1223" y="1778"/>
                  </a:lnTo>
                  <a:lnTo>
                    <a:pt x="1229" y="1778"/>
                  </a:lnTo>
                  <a:lnTo>
                    <a:pt x="1236" y="1778"/>
                  </a:lnTo>
                  <a:lnTo>
                    <a:pt x="1242" y="1778"/>
                  </a:lnTo>
                  <a:lnTo>
                    <a:pt x="1248" y="1778"/>
                  </a:lnTo>
                  <a:lnTo>
                    <a:pt x="1254" y="1778"/>
                  </a:lnTo>
                  <a:lnTo>
                    <a:pt x="1261" y="1778"/>
                  </a:lnTo>
                  <a:lnTo>
                    <a:pt x="1267" y="1778"/>
                  </a:lnTo>
                  <a:lnTo>
                    <a:pt x="1279" y="1778"/>
                  </a:lnTo>
                  <a:lnTo>
                    <a:pt x="1286" y="1778"/>
                  </a:lnTo>
                  <a:lnTo>
                    <a:pt x="1292" y="1778"/>
                  </a:lnTo>
                  <a:lnTo>
                    <a:pt x="1298" y="1778"/>
                  </a:lnTo>
                  <a:lnTo>
                    <a:pt x="1305" y="1778"/>
                  </a:lnTo>
                  <a:lnTo>
                    <a:pt x="1311" y="1778"/>
                  </a:lnTo>
                  <a:lnTo>
                    <a:pt x="1317" y="1778"/>
                  </a:lnTo>
                  <a:lnTo>
                    <a:pt x="1323" y="1778"/>
                  </a:lnTo>
                  <a:lnTo>
                    <a:pt x="1330" y="1778"/>
                  </a:lnTo>
                  <a:lnTo>
                    <a:pt x="1336" y="1778"/>
                  </a:lnTo>
                  <a:lnTo>
                    <a:pt x="1342" y="1778"/>
                  </a:lnTo>
                  <a:lnTo>
                    <a:pt x="1348" y="1778"/>
                  </a:lnTo>
                  <a:lnTo>
                    <a:pt x="1361" y="1778"/>
                  </a:lnTo>
                  <a:lnTo>
                    <a:pt x="1367" y="1778"/>
                  </a:lnTo>
                  <a:lnTo>
                    <a:pt x="1373" y="1778"/>
                  </a:lnTo>
                  <a:lnTo>
                    <a:pt x="1380" y="1778"/>
                  </a:lnTo>
                  <a:lnTo>
                    <a:pt x="1386" y="1778"/>
                  </a:lnTo>
                  <a:lnTo>
                    <a:pt x="1392" y="1778"/>
                  </a:lnTo>
                  <a:lnTo>
                    <a:pt x="1399" y="1778"/>
                  </a:lnTo>
                  <a:lnTo>
                    <a:pt x="1405" y="1778"/>
                  </a:lnTo>
                  <a:lnTo>
                    <a:pt x="1411" y="1778"/>
                  </a:lnTo>
                  <a:lnTo>
                    <a:pt x="1417" y="1778"/>
                  </a:lnTo>
                  <a:lnTo>
                    <a:pt x="1424" y="1778"/>
                  </a:lnTo>
                  <a:lnTo>
                    <a:pt x="1430" y="1778"/>
                  </a:lnTo>
                  <a:lnTo>
                    <a:pt x="1436" y="1778"/>
                  </a:lnTo>
                  <a:lnTo>
                    <a:pt x="1449" y="1778"/>
                  </a:lnTo>
                  <a:lnTo>
                    <a:pt x="1455" y="1778"/>
                  </a:lnTo>
                  <a:lnTo>
                    <a:pt x="1461" y="1778"/>
                  </a:lnTo>
                  <a:lnTo>
                    <a:pt x="1468" y="1778"/>
                  </a:lnTo>
                  <a:lnTo>
                    <a:pt x="1474" y="1778"/>
                  </a:lnTo>
                  <a:lnTo>
                    <a:pt x="1480" y="1778"/>
                  </a:lnTo>
                  <a:lnTo>
                    <a:pt x="1486" y="1778"/>
                  </a:lnTo>
                  <a:lnTo>
                    <a:pt x="1493" y="1778"/>
                  </a:lnTo>
                  <a:lnTo>
                    <a:pt x="1499" y="1778"/>
                  </a:lnTo>
                  <a:lnTo>
                    <a:pt x="1505" y="1778"/>
                  </a:lnTo>
                  <a:lnTo>
                    <a:pt x="1511" y="1778"/>
                  </a:lnTo>
                  <a:lnTo>
                    <a:pt x="1518" y="1778"/>
                  </a:lnTo>
                  <a:lnTo>
                    <a:pt x="1530" y="1778"/>
                  </a:lnTo>
                  <a:lnTo>
                    <a:pt x="1536" y="1778"/>
                  </a:lnTo>
                  <a:lnTo>
                    <a:pt x="1543" y="1778"/>
                  </a:lnTo>
                  <a:lnTo>
                    <a:pt x="1549" y="1778"/>
                  </a:lnTo>
                  <a:lnTo>
                    <a:pt x="1555" y="1778"/>
                  </a:lnTo>
                  <a:lnTo>
                    <a:pt x="1562" y="1778"/>
                  </a:lnTo>
                  <a:lnTo>
                    <a:pt x="1568" y="1778"/>
                  </a:lnTo>
                  <a:lnTo>
                    <a:pt x="1574" y="1778"/>
                  </a:lnTo>
                  <a:lnTo>
                    <a:pt x="1580" y="1778"/>
                  </a:lnTo>
                  <a:lnTo>
                    <a:pt x="1587" y="1778"/>
                  </a:lnTo>
                  <a:lnTo>
                    <a:pt x="1593" y="1778"/>
                  </a:lnTo>
                  <a:lnTo>
                    <a:pt x="1599" y="1778"/>
                  </a:lnTo>
                  <a:lnTo>
                    <a:pt x="1612" y="1778"/>
                  </a:lnTo>
                  <a:lnTo>
                    <a:pt x="1618" y="1778"/>
                  </a:lnTo>
                  <a:lnTo>
                    <a:pt x="1624" y="1778"/>
                  </a:lnTo>
                  <a:lnTo>
                    <a:pt x="1631" y="1778"/>
                  </a:lnTo>
                  <a:lnTo>
                    <a:pt x="1637" y="1778"/>
                  </a:lnTo>
                  <a:lnTo>
                    <a:pt x="1643" y="1778"/>
                  </a:lnTo>
                  <a:lnTo>
                    <a:pt x="1649" y="1778"/>
                  </a:lnTo>
                  <a:lnTo>
                    <a:pt x="1656" y="1778"/>
                  </a:lnTo>
                  <a:lnTo>
                    <a:pt x="1662" y="1778"/>
                  </a:lnTo>
                  <a:lnTo>
                    <a:pt x="1668" y="1778"/>
                  </a:lnTo>
                  <a:lnTo>
                    <a:pt x="1674" y="1778"/>
                  </a:lnTo>
                  <a:lnTo>
                    <a:pt x="1681" y="1778"/>
                  </a:lnTo>
                  <a:lnTo>
                    <a:pt x="1693" y="1778"/>
                  </a:lnTo>
                  <a:lnTo>
                    <a:pt x="1699" y="1778"/>
                  </a:lnTo>
                  <a:lnTo>
                    <a:pt x="1706" y="1778"/>
                  </a:lnTo>
                  <a:lnTo>
                    <a:pt x="1712" y="1778"/>
                  </a:lnTo>
                  <a:lnTo>
                    <a:pt x="1718" y="1778"/>
                  </a:lnTo>
                  <a:lnTo>
                    <a:pt x="1725" y="1778"/>
                  </a:lnTo>
                  <a:lnTo>
                    <a:pt x="1731" y="1778"/>
                  </a:lnTo>
                  <a:lnTo>
                    <a:pt x="1737" y="1778"/>
                  </a:lnTo>
                  <a:lnTo>
                    <a:pt x="1743" y="1778"/>
                  </a:lnTo>
                  <a:lnTo>
                    <a:pt x="1750" y="1778"/>
                  </a:lnTo>
                  <a:lnTo>
                    <a:pt x="1756" y="1778"/>
                  </a:lnTo>
                  <a:lnTo>
                    <a:pt x="1762" y="1778"/>
                  </a:lnTo>
                  <a:lnTo>
                    <a:pt x="1775" y="1778"/>
                  </a:lnTo>
                  <a:lnTo>
                    <a:pt x="1781" y="1778"/>
                  </a:lnTo>
                  <a:lnTo>
                    <a:pt x="1787" y="1778"/>
                  </a:lnTo>
                  <a:lnTo>
                    <a:pt x="1794" y="1778"/>
                  </a:lnTo>
                  <a:lnTo>
                    <a:pt x="1800" y="1778"/>
                  </a:lnTo>
                  <a:lnTo>
                    <a:pt x="1806" y="1778"/>
                  </a:lnTo>
                  <a:lnTo>
                    <a:pt x="1812" y="1778"/>
                  </a:lnTo>
                  <a:lnTo>
                    <a:pt x="1819" y="1778"/>
                  </a:lnTo>
                  <a:lnTo>
                    <a:pt x="1825" y="1778"/>
                  </a:lnTo>
                  <a:lnTo>
                    <a:pt x="1831" y="1778"/>
                  </a:lnTo>
                  <a:lnTo>
                    <a:pt x="1837" y="1778"/>
                  </a:lnTo>
                  <a:lnTo>
                    <a:pt x="1844" y="1778"/>
                  </a:lnTo>
                  <a:lnTo>
                    <a:pt x="1856" y="1778"/>
                  </a:lnTo>
                  <a:lnTo>
                    <a:pt x="1862" y="1778"/>
                  </a:lnTo>
                  <a:lnTo>
                    <a:pt x="1869" y="1778"/>
                  </a:lnTo>
                  <a:lnTo>
                    <a:pt x="1875" y="1778"/>
                  </a:lnTo>
                  <a:lnTo>
                    <a:pt x="1881" y="1778"/>
                  </a:lnTo>
                  <a:lnTo>
                    <a:pt x="1888" y="1778"/>
                  </a:lnTo>
                  <a:lnTo>
                    <a:pt x="1894" y="1778"/>
                  </a:lnTo>
                  <a:lnTo>
                    <a:pt x="1900" y="1778"/>
                  </a:lnTo>
                  <a:lnTo>
                    <a:pt x="1906" y="1778"/>
                  </a:lnTo>
                  <a:lnTo>
                    <a:pt x="1913" y="1778"/>
                  </a:lnTo>
                  <a:lnTo>
                    <a:pt x="1919" y="1778"/>
                  </a:lnTo>
                  <a:lnTo>
                    <a:pt x="1925" y="1778"/>
                  </a:lnTo>
                  <a:lnTo>
                    <a:pt x="1938" y="1778"/>
                  </a:lnTo>
                  <a:lnTo>
                    <a:pt x="1944" y="1778"/>
                  </a:lnTo>
                  <a:lnTo>
                    <a:pt x="1950" y="1778"/>
                  </a:lnTo>
                  <a:lnTo>
                    <a:pt x="1957" y="1778"/>
                  </a:lnTo>
                  <a:lnTo>
                    <a:pt x="1963" y="1778"/>
                  </a:lnTo>
                  <a:lnTo>
                    <a:pt x="1969" y="1778"/>
                  </a:lnTo>
                  <a:lnTo>
                    <a:pt x="1975" y="1778"/>
                  </a:lnTo>
                  <a:lnTo>
                    <a:pt x="1982" y="1778"/>
                  </a:lnTo>
                  <a:lnTo>
                    <a:pt x="1988" y="1778"/>
                  </a:lnTo>
                  <a:lnTo>
                    <a:pt x="1994" y="1778"/>
                  </a:lnTo>
                  <a:lnTo>
                    <a:pt x="2000" y="1778"/>
                  </a:lnTo>
                  <a:lnTo>
                    <a:pt x="2007" y="1778"/>
                  </a:lnTo>
                  <a:lnTo>
                    <a:pt x="2019" y="1778"/>
                  </a:lnTo>
                  <a:lnTo>
                    <a:pt x="2026" y="1778"/>
                  </a:lnTo>
                  <a:lnTo>
                    <a:pt x="2032" y="1778"/>
                  </a:lnTo>
                  <a:lnTo>
                    <a:pt x="2038" y="1778"/>
                  </a:lnTo>
                  <a:lnTo>
                    <a:pt x="2044" y="1778"/>
                  </a:lnTo>
                  <a:lnTo>
                    <a:pt x="2051" y="1778"/>
                  </a:lnTo>
                  <a:lnTo>
                    <a:pt x="2057" y="1778"/>
                  </a:lnTo>
                  <a:lnTo>
                    <a:pt x="2063" y="1778"/>
                  </a:lnTo>
                  <a:lnTo>
                    <a:pt x="2069" y="1778"/>
                  </a:lnTo>
                  <a:lnTo>
                    <a:pt x="2076" y="1778"/>
                  </a:lnTo>
                  <a:lnTo>
                    <a:pt x="2082" y="1778"/>
                  </a:lnTo>
                  <a:lnTo>
                    <a:pt x="2088" y="1778"/>
                  </a:lnTo>
                  <a:lnTo>
                    <a:pt x="2094" y="1778"/>
                  </a:lnTo>
                  <a:lnTo>
                    <a:pt x="2107" y="1778"/>
                  </a:lnTo>
                  <a:lnTo>
                    <a:pt x="2113" y="1778"/>
                  </a:lnTo>
                  <a:lnTo>
                    <a:pt x="2120" y="1778"/>
                  </a:lnTo>
                  <a:lnTo>
                    <a:pt x="2126" y="1778"/>
                  </a:lnTo>
                  <a:lnTo>
                    <a:pt x="2132" y="1778"/>
                  </a:lnTo>
                  <a:lnTo>
                    <a:pt x="2138" y="1778"/>
                  </a:lnTo>
                  <a:lnTo>
                    <a:pt x="2145" y="1778"/>
                  </a:lnTo>
                  <a:lnTo>
                    <a:pt x="2151" y="1778"/>
                  </a:lnTo>
                  <a:lnTo>
                    <a:pt x="2157" y="1778"/>
                  </a:lnTo>
                  <a:lnTo>
                    <a:pt x="2163" y="1778"/>
                  </a:lnTo>
                  <a:lnTo>
                    <a:pt x="2170" y="1778"/>
                  </a:lnTo>
                  <a:lnTo>
                    <a:pt x="2176" y="1778"/>
                  </a:lnTo>
                  <a:lnTo>
                    <a:pt x="2189" y="1778"/>
                  </a:lnTo>
                  <a:lnTo>
                    <a:pt x="2195" y="1778"/>
                  </a:lnTo>
                  <a:lnTo>
                    <a:pt x="2201" y="1778"/>
                  </a:lnTo>
                  <a:lnTo>
                    <a:pt x="2207" y="1778"/>
                  </a:lnTo>
                  <a:lnTo>
                    <a:pt x="2214" y="1778"/>
                  </a:lnTo>
                  <a:lnTo>
                    <a:pt x="2220" y="1778"/>
                  </a:lnTo>
                  <a:lnTo>
                    <a:pt x="2226" y="1778"/>
                  </a:lnTo>
                  <a:lnTo>
                    <a:pt x="2232" y="1778"/>
                  </a:lnTo>
                  <a:lnTo>
                    <a:pt x="2239" y="1778"/>
                  </a:lnTo>
                  <a:lnTo>
                    <a:pt x="2245" y="1778"/>
                  </a:lnTo>
                  <a:lnTo>
                    <a:pt x="2251" y="1778"/>
                  </a:lnTo>
                  <a:lnTo>
                    <a:pt x="2257" y="1778"/>
                  </a:lnTo>
                  <a:lnTo>
                    <a:pt x="2270" y="1778"/>
                  </a:lnTo>
                  <a:lnTo>
                    <a:pt x="2276" y="1778"/>
                  </a:lnTo>
                  <a:lnTo>
                    <a:pt x="2283" y="1778"/>
                  </a:lnTo>
                  <a:lnTo>
                    <a:pt x="2289" y="1778"/>
                  </a:lnTo>
                  <a:lnTo>
                    <a:pt x="2295" y="1778"/>
                  </a:lnTo>
                  <a:lnTo>
                    <a:pt x="2301" y="1778"/>
                  </a:lnTo>
                  <a:lnTo>
                    <a:pt x="2308" y="1778"/>
                  </a:lnTo>
                  <a:lnTo>
                    <a:pt x="2314" y="1778"/>
                  </a:lnTo>
                  <a:lnTo>
                    <a:pt x="2320" y="1778"/>
                  </a:lnTo>
                  <a:lnTo>
                    <a:pt x="2326" y="1778"/>
                  </a:lnTo>
                  <a:lnTo>
                    <a:pt x="2333" y="1778"/>
                  </a:lnTo>
                  <a:lnTo>
                    <a:pt x="2339" y="1778"/>
                  </a:lnTo>
                  <a:lnTo>
                    <a:pt x="2352" y="1778"/>
                  </a:lnTo>
                  <a:lnTo>
                    <a:pt x="2358" y="1778"/>
                  </a:lnTo>
                  <a:lnTo>
                    <a:pt x="2364" y="1778"/>
                  </a:lnTo>
                  <a:lnTo>
                    <a:pt x="2370" y="1778"/>
                  </a:lnTo>
                  <a:lnTo>
                    <a:pt x="2377" y="1778"/>
                  </a:lnTo>
                  <a:lnTo>
                    <a:pt x="2383" y="1778"/>
                  </a:lnTo>
                  <a:lnTo>
                    <a:pt x="2389" y="1778"/>
                  </a:lnTo>
                  <a:lnTo>
                    <a:pt x="2395" y="1778"/>
                  </a:lnTo>
                  <a:lnTo>
                    <a:pt x="2402" y="1778"/>
                  </a:lnTo>
                  <a:lnTo>
                    <a:pt x="2408" y="1778"/>
                  </a:lnTo>
                  <a:lnTo>
                    <a:pt x="2414" y="1778"/>
                  </a:lnTo>
                  <a:lnTo>
                    <a:pt x="2420" y="1778"/>
                  </a:lnTo>
                  <a:lnTo>
                    <a:pt x="2433" y="1778"/>
                  </a:lnTo>
                  <a:lnTo>
                    <a:pt x="2439" y="1778"/>
                  </a:lnTo>
                  <a:lnTo>
                    <a:pt x="2446" y="1778"/>
                  </a:lnTo>
                  <a:lnTo>
                    <a:pt x="2452" y="1778"/>
                  </a:lnTo>
                  <a:lnTo>
                    <a:pt x="2458" y="1778"/>
                  </a:lnTo>
                  <a:lnTo>
                    <a:pt x="2464" y="1778"/>
                  </a:lnTo>
                  <a:lnTo>
                    <a:pt x="2471" y="1778"/>
                  </a:lnTo>
                  <a:lnTo>
                    <a:pt x="2477" y="1778"/>
                  </a:lnTo>
                  <a:lnTo>
                    <a:pt x="2483" y="1778"/>
                  </a:lnTo>
                  <a:lnTo>
                    <a:pt x="2489" y="1778"/>
                  </a:lnTo>
                  <a:lnTo>
                    <a:pt x="2496" y="1778"/>
                  </a:lnTo>
                  <a:lnTo>
                    <a:pt x="2502" y="1778"/>
                  </a:lnTo>
                  <a:lnTo>
                    <a:pt x="2515" y="1778"/>
                  </a:lnTo>
                  <a:lnTo>
                    <a:pt x="2521" y="1778"/>
                  </a:lnTo>
                  <a:lnTo>
                    <a:pt x="2527" y="1778"/>
                  </a:lnTo>
                  <a:lnTo>
                    <a:pt x="2533" y="1778"/>
                  </a:lnTo>
                  <a:lnTo>
                    <a:pt x="2540" y="1778"/>
                  </a:lnTo>
                  <a:lnTo>
                    <a:pt x="2546" y="1778"/>
                  </a:lnTo>
                  <a:lnTo>
                    <a:pt x="2552" y="1778"/>
                  </a:lnTo>
                  <a:lnTo>
                    <a:pt x="2558" y="1778"/>
                  </a:lnTo>
                  <a:lnTo>
                    <a:pt x="2565" y="1778"/>
                  </a:lnTo>
                  <a:lnTo>
                    <a:pt x="2571" y="1778"/>
                  </a:lnTo>
                  <a:lnTo>
                    <a:pt x="2577" y="1778"/>
                  </a:lnTo>
                  <a:lnTo>
                    <a:pt x="2584" y="1778"/>
                  </a:lnTo>
                  <a:lnTo>
                    <a:pt x="2596" y="1778"/>
                  </a:lnTo>
                  <a:lnTo>
                    <a:pt x="2602" y="1778"/>
                  </a:lnTo>
                  <a:lnTo>
                    <a:pt x="2609" y="1778"/>
                  </a:lnTo>
                  <a:lnTo>
                    <a:pt x="2615" y="1778"/>
                  </a:lnTo>
                  <a:lnTo>
                    <a:pt x="2621" y="1778"/>
                  </a:lnTo>
                  <a:lnTo>
                    <a:pt x="2627" y="1778"/>
                  </a:lnTo>
                  <a:lnTo>
                    <a:pt x="2634" y="1778"/>
                  </a:lnTo>
                  <a:lnTo>
                    <a:pt x="2640" y="1778"/>
                  </a:lnTo>
                  <a:lnTo>
                    <a:pt x="2646" y="1778"/>
                  </a:lnTo>
                  <a:lnTo>
                    <a:pt x="2652" y="1778"/>
                  </a:lnTo>
                  <a:lnTo>
                    <a:pt x="2659" y="1778"/>
                  </a:lnTo>
                  <a:lnTo>
                    <a:pt x="2665" y="1778"/>
                  </a:lnTo>
                  <a:lnTo>
                    <a:pt x="2678" y="1778"/>
                  </a:lnTo>
                  <a:lnTo>
                    <a:pt x="2684" y="1778"/>
                  </a:lnTo>
                  <a:lnTo>
                    <a:pt x="2690" y="1778"/>
                  </a:lnTo>
                  <a:lnTo>
                    <a:pt x="2696" y="1778"/>
                  </a:lnTo>
                  <a:lnTo>
                    <a:pt x="2703" y="1778"/>
                  </a:lnTo>
                  <a:lnTo>
                    <a:pt x="2709" y="1778"/>
                  </a:lnTo>
                  <a:lnTo>
                    <a:pt x="2715" y="1778"/>
                  </a:lnTo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893920" y="6296040"/>
              <a:ext cx="15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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[rad s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Times New Roman"/>
                </a:rPr>
                <a:t>-1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482920" y="3754440"/>
              <a:ext cx="676080" cy="264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481120" y="3181320"/>
              <a:ext cx="682920" cy="26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573360" y="5753160"/>
              <a:ext cx="3205440" cy="244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8" name=""/>
                <p:cNvSpPr txBox="1"/>
                <p:nvPr/>
              </p:nvSpPr>
              <p:spPr>
                <a:xfrm>
                  <a:off x="1168560" y="2892600"/>
                  <a:ext cx="11779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</m:t>
                              </m:r>
                              <m:r>
                                <m:t xml:space="preserve">Ω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39" name=""/>
            <p:cNvSpPr/>
            <p:nvPr/>
          </p:nvSpPr>
          <p:spPr>
            <a:xfrm>
              <a:off x="2944080" y="6243480"/>
              <a:ext cx="518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678840" y="6380280"/>
              <a:ext cx="508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 flipV="1">
              <a:off x="3619440" y="6332040"/>
              <a:ext cx="179280" cy="96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F368-6101-4714-9906-5BE0E6EC66DE}" type="slidenum">
              <a:t>59</a:t>
            </a:fld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1400" y="1673280"/>
            <a:ext cx="8580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Laplaceova transformacija signl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as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ana je 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38560"/>
            <a:ext cx="9163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mjenom redoslijeda sumacije i integracije dobivam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13280"/>
            <a:ext cx="9163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ač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23760" y="476280"/>
            <a:ext cx="76773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Book Antiqua"/>
              </a:rPr>
              <a:t>Metoda jednakog impulsnog odziv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2255760"/>
          <a:ext cx="8613720" cy="12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55760"/>
                    <a:ext cx="861372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908000" y="3762360"/>
          <a:ext cx="5438880" cy="17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3762360"/>
                    <a:ext cx="54388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258920" y="5450040"/>
          <a:ext cx="466236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5450040"/>
                    <a:ext cx="46623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5076-13ED-4B1E-B59E-50E619ED3D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ilinearna transformacija funkci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zamjenom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s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2(1-z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/(1+z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03360" y="2660760"/>
                <a:ext cx="825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1</m:t>
                                </m:r>
                              </m:e>
                            </m:d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75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37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85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13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83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17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0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05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7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99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5" name=""/>
          <p:cNvSpPr/>
          <p:nvPr/>
        </p:nvSpPr>
        <p:spPr>
          <a:xfrm>
            <a:off x="611280" y="49528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ovjera za rubove prijelaz. područj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z=e </a:t>
            </a:r>
            <a:r>
              <a:rPr b="0" lang="hr-HR" sz="3600" spc="-1" strike="noStrike" baseline="30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hr-HR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z=e </a:t>
            </a:r>
            <a:r>
              <a:rPr b="0" lang="hr-HR" sz="3600" spc="-1" strike="noStrike" baseline="30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hr-HR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2840040" y="5659560"/>
                <a:ext cx="336564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pj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pj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884</m:t>
                          </m:r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E10A-2111-4B72-AE14-D46CECC82C48}" type="slidenum">
              <a:t>60</a:t>
            </a:fld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mpl.-frekv. karakteristika vremenski diskretnog Butterworthovog filtr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1047960" y="2738160"/>
            <a:ext cx="6495840" cy="4136400"/>
            <a:chOff x="1047960" y="2738160"/>
            <a:chExt cx="6495840" cy="4136400"/>
          </a:xfrm>
        </p:grpSpPr>
        <p:sp>
          <p:nvSpPr>
            <p:cNvPr id="1650" name=""/>
            <p:cNvSpPr/>
            <p:nvPr/>
          </p:nvSpPr>
          <p:spPr>
            <a:xfrm>
              <a:off x="2563920" y="6215040"/>
              <a:ext cx="44179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2563920" y="2738160"/>
              <a:ext cx="0" cy="347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563920" y="6215040"/>
              <a:ext cx="44179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2563920" y="2738160"/>
              <a:ext cx="0" cy="347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563920" y="621504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2563920" y="6173280"/>
              <a:ext cx="0" cy="41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408040" y="62056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3451320" y="6173280"/>
              <a:ext cx="0" cy="41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203640" y="6205680"/>
              <a:ext cx="57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.2</a:t>
              </a:r>
              <a:r>
                <a:rPr b="0" lang="en-US" sz="1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4329000" y="6173280"/>
              <a:ext cx="0" cy="41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081320" y="6205680"/>
              <a:ext cx="57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.4</a:t>
              </a:r>
              <a:r>
                <a:rPr b="0" lang="en-US" sz="1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5216400" y="6173280"/>
              <a:ext cx="0" cy="41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68720" y="6205680"/>
              <a:ext cx="57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.6</a:t>
              </a:r>
              <a:r>
                <a:rPr b="0" lang="en-US" sz="1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6094440" y="6173280"/>
              <a:ext cx="0" cy="41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846760" y="6205680"/>
              <a:ext cx="57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.8</a:t>
              </a:r>
              <a:r>
                <a:rPr b="0" lang="en-US" sz="1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825960" y="620568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563920" y="6215040"/>
              <a:ext cx="41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295000" y="603252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563920" y="5634000"/>
              <a:ext cx="41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122560" y="545148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.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563920" y="5052960"/>
              <a:ext cx="41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122560" y="487044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563920" y="4471920"/>
              <a:ext cx="41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122560" y="428940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.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563920" y="3900600"/>
              <a:ext cx="41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22560" y="371808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563920" y="3319560"/>
              <a:ext cx="41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295000" y="31370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563920" y="6215040"/>
              <a:ext cx="497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2563920" y="2738160"/>
              <a:ext cx="0" cy="347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563920" y="621504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563920" y="5929200"/>
              <a:ext cx="44179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563920" y="3605040"/>
              <a:ext cx="22366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3451320" y="3319200"/>
              <a:ext cx="0" cy="2895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3890880" y="3319200"/>
              <a:ext cx="0" cy="2895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63920" y="3319560"/>
              <a:ext cx="22366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63920" y="3319560"/>
              <a:ext cx="4410000" cy="2896920"/>
            </a:xfrm>
            <a:custGeom>
              <a:avLst/>
              <a:gdLst/>
              <a:ahLst/>
              <a:rect l="l" t="t" r="r" b="b"/>
              <a:pathLst>
                <a:path w="2778" h="1825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2" y="0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3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3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5" y="0"/>
                  </a:lnTo>
                  <a:lnTo>
                    <a:pt x="321" y="0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1" y="0"/>
                  </a:lnTo>
                  <a:lnTo>
                    <a:pt x="347" y="0"/>
                  </a:lnTo>
                  <a:lnTo>
                    <a:pt x="353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3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2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1" y="0"/>
                  </a:lnTo>
                  <a:lnTo>
                    <a:pt x="418" y="0"/>
                  </a:lnTo>
                  <a:lnTo>
                    <a:pt x="424" y="0"/>
                  </a:lnTo>
                  <a:lnTo>
                    <a:pt x="431" y="7"/>
                  </a:lnTo>
                  <a:lnTo>
                    <a:pt x="437" y="7"/>
                  </a:lnTo>
                  <a:lnTo>
                    <a:pt x="443" y="7"/>
                  </a:lnTo>
                  <a:lnTo>
                    <a:pt x="450" y="7"/>
                  </a:lnTo>
                  <a:lnTo>
                    <a:pt x="456" y="13"/>
                  </a:lnTo>
                  <a:lnTo>
                    <a:pt x="463" y="13"/>
                  </a:lnTo>
                  <a:lnTo>
                    <a:pt x="469" y="13"/>
                  </a:lnTo>
                  <a:lnTo>
                    <a:pt x="476" y="19"/>
                  </a:lnTo>
                  <a:lnTo>
                    <a:pt x="482" y="26"/>
                  </a:lnTo>
                  <a:lnTo>
                    <a:pt x="488" y="32"/>
                  </a:lnTo>
                  <a:lnTo>
                    <a:pt x="495" y="32"/>
                  </a:lnTo>
                  <a:lnTo>
                    <a:pt x="501" y="39"/>
                  </a:lnTo>
                  <a:lnTo>
                    <a:pt x="508" y="45"/>
                  </a:lnTo>
                  <a:lnTo>
                    <a:pt x="508" y="58"/>
                  </a:lnTo>
                  <a:lnTo>
                    <a:pt x="514" y="64"/>
                  </a:lnTo>
                  <a:lnTo>
                    <a:pt x="521" y="77"/>
                  </a:lnTo>
                  <a:lnTo>
                    <a:pt x="527" y="90"/>
                  </a:lnTo>
                  <a:lnTo>
                    <a:pt x="533" y="103"/>
                  </a:lnTo>
                  <a:lnTo>
                    <a:pt x="540" y="116"/>
                  </a:lnTo>
                  <a:lnTo>
                    <a:pt x="546" y="135"/>
                  </a:lnTo>
                  <a:lnTo>
                    <a:pt x="546" y="154"/>
                  </a:lnTo>
                  <a:lnTo>
                    <a:pt x="553" y="173"/>
                  </a:lnTo>
                  <a:lnTo>
                    <a:pt x="559" y="193"/>
                  </a:lnTo>
                  <a:lnTo>
                    <a:pt x="566" y="218"/>
                  </a:lnTo>
                  <a:lnTo>
                    <a:pt x="572" y="251"/>
                  </a:lnTo>
                  <a:lnTo>
                    <a:pt x="578" y="276"/>
                  </a:lnTo>
                  <a:lnTo>
                    <a:pt x="578" y="308"/>
                  </a:lnTo>
                  <a:lnTo>
                    <a:pt x="585" y="340"/>
                  </a:lnTo>
                  <a:lnTo>
                    <a:pt x="591" y="379"/>
                  </a:lnTo>
                  <a:lnTo>
                    <a:pt x="598" y="417"/>
                  </a:lnTo>
                  <a:lnTo>
                    <a:pt x="604" y="456"/>
                  </a:lnTo>
                  <a:lnTo>
                    <a:pt x="611" y="501"/>
                  </a:lnTo>
                  <a:lnTo>
                    <a:pt x="617" y="546"/>
                  </a:lnTo>
                  <a:lnTo>
                    <a:pt x="617" y="584"/>
                  </a:lnTo>
                  <a:lnTo>
                    <a:pt x="623" y="629"/>
                  </a:lnTo>
                  <a:lnTo>
                    <a:pt x="630" y="681"/>
                  </a:lnTo>
                  <a:lnTo>
                    <a:pt x="636" y="726"/>
                  </a:lnTo>
                  <a:lnTo>
                    <a:pt x="643" y="771"/>
                  </a:lnTo>
                  <a:lnTo>
                    <a:pt x="649" y="816"/>
                  </a:lnTo>
                  <a:lnTo>
                    <a:pt x="649" y="861"/>
                  </a:lnTo>
                  <a:lnTo>
                    <a:pt x="656" y="906"/>
                  </a:lnTo>
                  <a:lnTo>
                    <a:pt x="662" y="944"/>
                  </a:lnTo>
                  <a:lnTo>
                    <a:pt x="668" y="989"/>
                  </a:lnTo>
                  <a:lnTo>
                    <a:pt x="675" y="1028"/>
                  </a:lnTo>
                  <a:lnTo>
                    <a:pt x="681" y="1066"/>
                  </a:lnTo>
                  <a:lnTo>
                    <a:pt x="688" y="1105"/>
                  </a:lnTo>
                  <a:lnTo>
                    <a:pt x="688" y="1143"/>
                  </a:lnTo>
                  <a:lnTo>
                    <a:pt x="694" y="1175"/>
                  </a:lnTo>
                  <a:lnTo>
                    <a:pt x="701" y="1214"/>
                  </a:lnTo>
                  <a:lnTo>
                    <a:pt x="707" y="1246"/>
                  </a:lnTo>
                  <a:lnTo>
                    <a:pt x="713" y="1272"/>
                  </a:lnTo>
                  <a:lnTo>
                    <a:pt x="720" y="1304"/>
                  </a:lnTo>
                  <a:lnTo>
                    <a:pt x="720" y="1329"/>
                  </a:lnTo>
                  <a:lnTo>
                    <a:pt x="726" y="1355"/>
                  </a:lnTo>
                  <a:lnTo>
                    <a:pt x="733" y="1381"/>
                  </a:lnTo>
                  <a:lnTo>
                    <a:pt x="739" y="1406"/>
                  </a:lnTo>
                  <a:lnTo>
                    <a:pt x="746" y="1426"/>
                  </a:lnTo>
                  <a:lnTo>
                    <a:pt x="752" y="1451"/>
                  </a:lnTo>
                  <a:lnTo>
                    <a:pt x="758" y="1471"/>
                  </a:lnTo>
                  <a:lnTo>
                    <a:pt x="758" y="1490"/>
                  </a:lnTo>
                  <a:lnTo>
                    <a:pt x="765" y="1509"/>
                  </a:lnTo>
                  <a:lnTo>
                    <a:pt x="771" y="1522"/>
                  </a:lnTo>
                  <a:lnTo>
                    <a:pt x="778" y="1541"/>
                  </a:lnTo>
                  <a:lnTo>
                    <a:pt x="784" y="1554"/>
                  </a:lnTo>
                  <a:lnTo>
                    <a:pt x="791" y="1567"/>
                  </a:lnTo>
                  <a:lnTo>
                    <a:pt x="791" y="1580"/>
                  </a:lnTo>
                  <a:lnTo>
                    <a:pt x="797" y="1593"/>
                  </a:lnTo>
                  <a:lnTo>
                    <a:pt x="803" y="1605"/>
                  </a:lnTo>
                  <a:lnTo>
                    <a:pt x="810" y="1618"/>
                  </a:lnTo>
                  <a:lnTo>
                    <a:pt x="816" y="1631"/>
                  </a:lnTo>
                  <a:lnTo>
                    <a:pt x="823" y="1638"/>
                  </a:lnTo>
                  <a:lnTo>
                    <a:pt x="829" y="1650"/>
                  </a:lnTo>
                  <a:lnTo>
                    <a:pt x="829" y="1657"/>
                  </a:lnTo>
                  <a:lnTo>
                    <a:pt x="836" y="1663"/>
                  </a:lnTo>
                  <a:lnTo>
                    <a:pt x="842" y="1676"/>
                  </a:lnTo>
                  <a:lnTo>
                    <a:pt x="848" y="1683"/>
                  </a:lnTo>
                  <a:lnTo>
                    <a:pt x="855" y="1689"/>
                  </a:lnTo>
                  <a:lnTo>
                    <a:pt x="861" y="1695"/>
                  </a:lnTo>
                  <a:lnTo>
                    <a:pt x="861" y="1702"/>
                  </a:lnTo>
                  <a:lnTo>
                    <a:pt x="868" y="1708"/>
                  </a:lnTo>
                  <a:lnTo>
                    <a:pt x="874" y="1715"/>
                  </a:lnTo>
                  <a:lnTo>
                    <a:pt x="881" y="1721"/>
                  </a:lnTo>
                  <a:lnTo>
                    <a:pt x="887" y="1727"/>
                  </a:lnTo>
                  <a:lnTo>
                    <a:pt x="893" y="1727"/>
                  </a:lnTo>
                  <a:lnTo>
                    <a:pt x="900" y="1734"/>
                  </a:lnTo>
                  <a:lnTo>
                    <a:pt x="900" y="1740"/>
                  </a:lnTo>
                  <a:lnTo>
                    <a:pt x="906" y="1740"/>
                  </a:lnTo>
                  <a:lnTo>
                    <a:pt x="913" y="1747"/>
                  </a:lnTo>
                  <a:lnTo>
                    <a:pt x="919" y="1753"/>
                  </a:lnTo>
                  <a:lnTo>
                    <a:pt x="926" y="1753"/>
                  </a:lnTo>
                  <a:lnTo>
                    <a:pt x="932" y="1760"/>
                  </a:lnTo>
                  <a:lnTo>
                    <a:pt x="938" y="1766"/>
                  </a:lnTo>
                  <a:lnTo>
                    <a:pt x="945" y="1766"/>
                  </a:lnTo>
                  <a:lnTo>
                    <a:pt x="951" y="1772"/>
                  </a:lnTo>
                  <a:lnTo>
                    <a:pt x="958" y="1772"/>
                  </a:lnTo>
                  <a:lnTo>
                    <a:pt x="964" y="1772"/>
                  </a:lnTo>
                  <a:lnTo>
                    <a:pt x="971" y="1779"/>
                  </a:lnTo>
                  <a:lnTo>
                    <a:pt x="977" y="1779"/>
                  </a:lnTo>
                  <a:lnTo>
                    <a:pt x="983" y="1785"/>
                  </a:lnTo>
                  <a:lnTo>
                    <a:pt x="990" y="1785"/>
                  </a:lnTo>
                  <a:lnTo>
                    <a:pt x="996" y="1785"/>
                  </a:lnTo>
                  <a:lnTo>
                    <a:pt x="1003" y="1785"/>
                  </a:lnTo>
                  <a:lnTo>
                    <a:pt x="1003" y="1792"/>
                  </a:lnTo>
                  <a:lnTo>
                    <a:pt x="1009" y="1792"/>
                  </a:lnTo>
                  <a:lnTo>
                    <a:pt x="1016" y="1792"/>
                  </a:lnTo>
                  <a:lnTo>
                    <a:pt x="1022" y="1792"/>
                  </a:lnTo>
                  <a:lnTo>
                    <a:pt x="1028" y="1798"/>
                  </a:lnTo>
                  <a:lnTo>
                    <a:pt x="1035" y="1798"/>
                  </a:lnTo>
                  <a:lnTo>
                    <a:pt x="1041" y="1798"/>
                  </a:lnTo>
                  <a:lnTo>
                    <a:pt x="1048" y="1798"/>
                  </a:lnTo>
                  <a:lnTo>
                    <a:pt x="1054" y="1805"/>
                  </a:lnTo>
                  <a:lnTo>
                    <a:pt x="1061" y="1805"/>
                  </a:lnTo>
                  <a:lnTo>
                    <a:pt x="1067" y="1805"/>
                  </a:lnTo>
                  <a:lnTo>
                    <a:pt x="1073" y="1805"/>
                  </a:lnTo>
                  <a:lnTo>
                    <a:pt x="1080" y="1805"/>
                  </a:lnTo>
                  <a:lnTo>
                    <a:pt x="1086" y="1805"/>
                  </a:lnTo>
                  <a:lnTo>
                    <a:pt x="1093" y="1811"/>
                  </a:lnTo>
                  <a:lnTo>
                    <a:pt x="1099" y="1811"/>
                  </a:lnTo>
                  <a:lnTo>
                    <a:pt x="1106" y="1811"/>
                  </a:lnTo>
                  <a:lnTo>
                    <a:pt x="1112" y="1811"/>
                  </a:lnTo>
                  <a:lnTo>
                    <a:pt x="1118" y="1811"/>
                  </a:lnTo>
                  <a:lnTo>
                    <a:pt x="1125" y="1811"/>
                  </a:lnTo>
                  <a:lnTo>
                    <a:pt x="1131" y="1811"/>
                  </a:lnTo>
                  <a:lnTo>
                    <a:pt x="1138" y="1811"/>
                  </a:lnTo>
                  <a:lnTo>
                    <a:pt x="1144" y="1811"/>
                  </a:lnTo>
                  <a:lnTo>
                    <a:pt x="1151" y="1811"/>
                  </a:lnTo>
                  <a:lnTo>
                    <a:pt x="1157" y="1817"/>
                  </a:lnTo>
                  <a:lnTo>
                    <a:pt x="1163" y="1817"/>
                  </a:lnTo>
                  <a:lnTo>
                    <a:pt x="1170" y="1817"/>
                  </a:lnTo>
                  <a:lnTo>
                    <a:pt x="1176" y="1817"/>
                  </a:lnTo>
                  <a:lnTo>
                    <a:pt x="1183" y="1817"/>
                  </a:lnTo>
                  <a:lnTo>
                    <a:pt x="1189" y="1817"/>
                  </a:lnTo>
                  <a:lnTo>
                    <a:pt x="1196" y="1817"/>
                  </a:lnTo>
                  <a:lnTo>
                    <a:pt x="1202" y="1817"/>
                  </a:lnTo>
                  <a:lnTo>
                    <a:pt x="1208" y="1817"/>
                  </a:lnTo>
                  <a:lnTo>
                    <a:pt x="1215" y="1817"/>
                  </a:lnTo>
                  <a:lnTo>
                    <a:pt x="1221" y="1817"/>
                  </a:lnTo>
                  <a:lnTo>
                    <a:pt x="1228" y="1817"/>
                  </a:lnTo>
                  <a:lnTo>
                    <a:pt x="1234" y="1817"/>
                  </a:lnTo>
                  <a:lnTo>
                    <a:pt x="1241" y="1817"/>
                  </a:lnTo>
                  <a:lnTo>
                    <a:pt x="1247" y="1817"/>
                  </a:lnTo>
                  <a:lnTo>
                    <a:pt x="1253" y="1817"/>
                  </a:lnTo>
                  <a:lnTo>
                    <a:pt x="1260" y="1817"/>
                  </a:lnTo>
                  <a:lnTo>
                    <a:pt x="1266" y="1817"/>
                  </a:lnTo>
                  <a:lnTo>
                    <a:pt x="1273" y="1817"/>
                  </a:lnTo>
                  <a:lnTo>
                    <a:pt x="1279" y="1817"/>
                  </a:lnTo>
                  <a:lnTo>
                    <a:pt x="1286" y="1817"/>
                  </a:lnTo>
                  <a:lnTo>
                    <a:pt x="1292" y="1824"/>
                  </a:lnTo>
                  <a:lnTo>
                    <a:pt x="1298" y="1824"/>
                  </a:lnTo>
                  <a:lnTo>
                    <a:pt x="1305" y="1824"/>
                  </a:lnTo>
                  <a:lnTo>
                    <a:pt x="1311" y="1824"/>
                  </a:lnTo>
                  <a:lnTo>
                    <a:pt x="1318" y="1824"/>
                  </a:lnTo>
                  <a:lnTo>
                    <a:pt x="1324" y="1824"/>
                  </a:lnTo>
                  <a:lnTo>
                    <a:pt x="1331" y="1824"/>
                  </a:lnTo>
                  <a:lnTo>
                    <a:pt x="1337" y="1824"/>
                  </a:lnTo>
                  <a:lnTo>
                    <a:pt x="1343" y="1824"/>
                  </a:lnTo>
                  <a:lnTo>
                    <a:pt x="1350" y="1824"/>
                  </a:lnTo>
                  <a:lnTo>
                    <a:pt x="1356" y="1824"/>
                  </a:lnTo>
                  <a:lnTo>
                    <a:pt x="1363" y="1824"/>
                  </a:lnTo>
                  <a:lnTo>
                    <a:pt x="1369" y="1824"/>
                  </a:lnTo>
                  <a:lnTo>
                    <a:pt x="1376" y="1824"/>
                  </a:lnTo>
                  <a:lnTo>
                    <a:pt x="1382" y="1824"/>
                  </a:lnTo>
                  <a:lnTo>
                    <a:pt x="1388" y="1824"/>
                  </a:lnTo>
                  <a:lnTo>
                    <a:pt x="1395" y="1824"/>
                  </a:lnTo>
                  <a:lnTo>
                    <a:pt x="1401" y="1824"/>
                  </a:lnTo>
                  <a:lnTo>
                    <a:pt x="1408" y="1824"/>
                  </a:lnTo>
                  <a:lnTo>
                    <a:pt x="1414" y="1824"/>
                  </a:lnTo>
                  <a:lnTo>
                    <a:pt x="1421" y="1824"/>
                  </a:lnTo>
                  <a:lnTo>
                    <a:pt x="1427" y="1824"/>
                  </a:lnTo>
                  <a:lnTo>
                    <a:pt x="1433" y="1824"/>
                  </a:lnTo>
                  <a:lnTo>
                    <a:pt x="1440" y="1824"/>
                  </a:lnTo>
                  <a:lnTo>
                    <a:pt x="1446" y="1824"/>
                  </a:lnTo>
                  <a:lnTo>
                    <a:pt x="1453" y="1824"/>
                  </a:lnTo>
                  <a:lnTo>
                    <a:pt x="1459" y="1824"/>
                  </a:lnTo>
                  <a:lnTo>
                    <a:pt x="1466" y="1824"/>
                  </a:lnTo>
                  <a:lnTo>
                    <a:pt x="1472" y="1824"/>
                  </a:lnTo>
                  <a:lnTo>
                    <a:pt x="1478" y="1824"/>
                  </a:lnTo>
                  <a:lnTo>
                    <a:pt x="1485" y="1824"/>
                  </a:lnTo>
                  <a:lnTo>
                    <a:pt x="1491" y="1824"/>
                  </a:lnTo>
                  <a:lnTo>
                    <a:pt x="1498" y="1824"/>
                  </a:lnTo>
                  <a:lnTo>
                    <a:pt x="1504" y="1824"/>
                  </a:lnTo>
                  <a:lnTo>
                    <a:pt x="1511" y="1824"/>
                  </a:lnTo>
                  <a:lnTo>
                    <a:pt x="1517" y="1824"/>
                  </a:lnTo>
                  <a:lnTo>
                    <a:pt x="1523" y="1824"/>
                  </a:lnTo>
                  <a:lnTo>
                    <a:pt x="1530" y="1824"/>
                  </a:lnTo>
                  <a:lnTo>
                    <a:pt x="1536" y="1824"/>
                  </a:lnTo>
                  <a:lnTo>
                    <a:pt x="1543" y="1824"/>
                  </a:lnTo>
                  <a:lnTo>
                    <a:pt x="1549" y="1824"/>
                  </a:lnTo>
                  <a:lnTo>
                    <a:pt x="1556" y="1824"/>
                  </a:lnTo>
                  <a:lnTo>
                    <a:pt x="1562" y="1824"/>
                  </a:lnTo>
                  <a:lnTo>
                    <a:pt x="1568" y="1824"/>
                  </a:lnTo>
                  <a:lnTo>
                    <a:pt x="1575" y="1824"/>
                  </a:lnTo>
                  <a:lnTo>
                    <a:pt x="1581" y="1824"/>
                  </a:lnTo>
                  <a:lnTo>
                    <a:pt x="1588" y="1824"/>
                  </a:lnTo>
                  <a:lnTo>
                    <a:pt x="1594" y="1824"/>
                  </a:lnTo>
                  <a:lnTo>
                    <a:pt x="1601" y="1824"/>
                  </a:lnTo>
                  <a:lnTo>
                    <a:pt x="1607" y="1824"/>
                  </a:lnTo>
                  <a:lnTo>
                    <a:pt x="1613" y="1824"/>
                  </a:lnTo>
                  <a:lnTo>
                    <a:pt x="1620" y="1824"/>
                  </a:lnTo>
                  <a:lnTo>
                    <a:pt x="1626" y="1824"/>
                  </a:lnTo>
                  <a:lnTo>
                    <a:pt x="1633" y="1824"/>
                  </a:lnTo>
                  <a:lnTo>
                    <a:pt x="1639" y="1824"/>
                  </a:lnTo>
                  <a:lnTo>
                    <a:pt x="1646" y="1824"/>
                  </a:lnTo>
                  <a:lnTo>
                    <a:pt x="1652" y="1824"/>
                  </a:lnTo>
                  <a:lnTo>
                    <a:pt x="1658" y="1824"/>
                  </a:lnTo>
                  <a:lnTo>
                    <a:pt x="1665" y="1824"/>
                  </a:lnTo>
                  <a:lnTo>
                    <a:pt x="1671" y="1824"/>
                  </a:lnTo>
                  <a:lnTo>
                    <a:pt x="1678" y="1824"/>
                  </a:lnTo>
                  <a:lnTo>
                    <a:pt x="1684" y="1824"/>
                  </a:lnTo>
                  <a:lnTo>
                    <a:pt x="1691" y="1824"/>
                  </a:lnTo>
                  <a:lnTo>
                    <a:pt x="1697" y="1824"/>
                  </a:lnTo>
                  <a:lnTo>
                    <a:pt x="1703" y="1824"/>
                  </a:lnTo>
                  <a:lnTo>
                    <a:pt x="1710" y="1824"/>
                  </a:lnTo>
                  <a:lnTo>
                    <a:pt x="1716" y="1824"/>
                  </a:lnTo>
                  <a:lnTo>
                    <a:pt x="1723" y="1824"/>
                  </a:lnTo>
                  <a:lnTo>
                    <a:pt x="1729" y="1824"/>
                  </a:lnTo>
                  <a:lnTo>
                    <a:pt x="1736" y="1824"/>
                  </a:lnTo>
                  <a:lnTo>
                    <a:pt x="1742" y="1824"/>
                  </a:lnTo>
                  <a:lnTo>
                    <a:pt x="1748" y="1824"/>
                  </a:lnTo>
                  <a:lnTo>
                    <a:pt x="1755" y="1824"/>
                  </a:lnTo>
                  <a:lnTo>
                    <a:pt x="1761" y="1824"/>
                  </a:lnTo>
                  <a:lnTo>
                    <a:pt x="1768" y="1824"/>
                  </a:lnTo>
                  <a:lnTo>
                    <a:pt x="1774" y="1824"/>
                  </a:lnTo>
                  <a:lnTo>
                    <a:pt x="1781" y="1824"/>
                  </a:lnTo>
                  <a:lnTo>
                    <a:pt x="1787" y="1824"/>
                  </a:lnTo>
                  <a:lnTo>
                    <a:pt x="1793" y="1824"/>
                  </a:lnTo>
                  <a:lnTo>
                    <a:pt x="1800" y="1824"/>
                  </a:lnTo>
                  <a:lnTo>
                    <a:pt x="1806" y="1824"/>
                  </a:lnTo>
                  <a:lnTo>
                    <a:pt x="1813" y="1824"/>
                  </a:lnTo>
                  <a:lnTo>
                    <a:pt x="1819" y="1824"/>
                  </a:lnTo>
                  <a:lnTo>
                    <a:pt x="1826" y="1824"/>
                  </a:lnTo>
                  <a:lnTo>
                    <a:pt x="1832" y="1824"/>
                  </a:lnTo>
                  <a:lnTo>
                    <a:pt x="1838" y="1824"/>
                  </a:lnTo>
                  <a:lnTo>
                    <a:pt x="1845" y="1824"/>
                  </a:lnTo>
                  <a:lnTo>
                    <a:pt x="1851" y="1824"/>
                  </a:lnTo>
                  <a:lnTo>
                    <a:pt x="1858" y="1824"/>
                  </a:lnTo>
                  <a:lnTo>
                    <a:pt x="1864" y="1824"/>
                  </a:lnTo>
                  <a:lnTo>
                    <a:pt x="1871" y="1824"/>
                  </a:lnTo>
                  <a:lnTo>
                    <a:pt x="1877" y="1824"/>
                  </a:lnTo>
                  <a:lnTo>
                    <a:pt x="1883" y="1824"/>
                  </a:lnTo>
                  <a:lnTo>
                    <a:pt x="1890" y="1824"/>
                  </a:lnTo>
                  <a:lnTo>
                    <a:pt x="1896" y="1824"/>
                  </a:lnTo>
                  <a:lnTo>
                    <a:pt x="1903" y="1824"/>
                  </a:lnTo>
                  <a:lnTo>
                    <a:pt x="1909" y="1824"/>
                  </a:lnTo>
                  <a:lnTo>
                    <a:pt x="1916" y="1824"/>
                  </a:lnTo>
                  <a:lnTo>
                    <a:pt x="1922" y="1824"/>
                  </a:lnTo>
                  <a:lnTo>
                    <a:pt x="1928" y="1824"/>
                  </a:lnTo>
                  <a:lnTo>
                    <a:pt x="1935" y="1824"/>
                  </a:lnTo>
                  <a:lnTo>
                    <a:pt x="1941" y="1824"/>
                  </a:lnTo>
                  <a:lnTo>
                    <a:pt x="1948" y="1824"/>
                  </a:lnTo>
                  <a:lnTo>
                    <a:pt x="1954" y="1824"/>
                  </a:lnTo>
                  <a:lnTo>
                    <a:pt x="1961" y="1824"/>
                  </a:lnTo>
                  <a:lnTo>
                    <a:pt x="1967" y="1824"/>
                  </a:lnTo>
                  <a:lnTo>
                    <a:pt x="1973" y="1824"/>
                  </a:lnTo>
                  <a:lnTo>
                    <a:pt x="1980" y="1824"/>
                  </a:lnTo>
                  <a:lnTo>
                    <a:pt x="1986" y="1824"/>
                  </a:lnTo>
                  <a:lnTo>
                    <a:pt x="1993" y="1824"/>
                  </a:lnTo>
                  <a:lnTo>
                    <a:pt x="1999" y="1824"/>
                  </a:lnTo>
                  <a:lnTo>
                    <a:pt x="2006" y="1824"/>
                  </a:lnTo>
                  <a:lnTo>
                    <a:pt x="2012" y="1824"/>
                  </a:lnTo>
                  <a:lnTo>
                    <a:pt x="2018" y="1824"/>
                  </a:lnTo>
                  <a:lnTo>
                    <a:pt x="2025" y="1824"/>
                  </a:lnTo>
                  <a:lnTo>
                    <a:pt x="2031" y="1824"/>
                  </a:lnTo>
                  <a:lnTo>
                    <a:pt x="2038" y="1824"/>
                  </a:lnTo>
                  <a:lnTo>
                    <a:pt x="2044" y="1824"/>
                  </a:lnTo>
                  <a:lnTo>
                    <a:pt x="2051" y="1824"/>
                  </a:lnTo>
                  <a:lnTo>
                    <a:pt x="2057" y="1824"/>
                  </a:lnTo>
                  <a:lnTo>
                    <a:pt x="2063" y="1824"/>
                  </a:lnTo>
                  <a:lnTo>
                    <a:pt x="2070" y="1824"/>
                  </a:lnTo>
                  <a:lnTo>
                    <a:pt x="2076" y="1824"/>
                  </a:lnTo>
                  <a:lnTo>
                    <a:pt x="2083" y="1824"/>
                  </a:lnTo>
                  <a:lnTo>
                    <a:pt x="2089" y="1824"/>
                  </a:lnTo>
                  <a:lnTo>
                    <a:pt x="2096" y="1824"/>
                  </a:lnTo>
                  <a:lnTo>
                    <a:pt x="2102" y="1824"/>
                  </a:lnTo>
                  <a:lnTo>
                    <a:pt x="2108" y="1824"/>
                  </a:lnTo>
                  <a:lnTo>
                    <a:pt x="2115" y="1824"/>
                  </a:lnTo>
                  <a:lnTo>
                    <a:pt x="2121" y="1824"/>
                  </a:lnTo>
                  <a:lnTo>
                    <a:pt x="2128" y="1824"/>
                  </a:lnTo>
                  <a:lnTo>
                    <a:pt x="2134" y="1824"/>
                  </a:lnTo>
                  <a:lnTo>
                    <a:pt x="2141" y="1824"/>
                  </a:lnTo>
                  <a:lnTo>
                    <a:pt x="2147" y="1824"/>
                  </a:lnTo>
                  <a:lnTo>
                    <a:pt x="2153" y="1824"/>
                  </a:lnTo>
                  <a:lnTo>
                    <a:pt x="2160" y="1824"/>
                  </a:lnTo>
                  <a:lnTo>
                    <a:pt x="2166" y="1824"/>
                  </a:lnTo>
                  <a:lnTo>
                    <a:pt x="2173" y="1824"/>
                  </a:lnTo>
                  <a:lnTo>
                    <a:pt x="2179" y="1824"/>
                  </a:lnTo>
                  <a:lnTo>
                    <a:pt x="2186" y="1824"/>
                  </a:lnTo>
                  <a:lnTo>
                    <a:pt x="2192" y="1824"/>
                  </a:lnTo>
                  <a:lnTo>
                    <a:pt x="2198" y="1824"/>
                  </a:lnTo>
                  <a:lnTo>
                    <a:pt x="2205" y="1824"/>
                  </a:lnTo>
                  <a:lnTo>
                    <a:pt x="2211" y="1824"/>
                  </a:lnTo>
                  <a:lnTo>
                    <a:pt x="2218" y="1824"/>
                  </a:lnTo>
                  <a:lnTo>
                    <a:pt x="2224" y="1824"/>
                  </a:lnTo>
                  <a:lnTo>
                    <a:pt x="2231" y="1824"/>
                  </a:lnTo>
                  <a:lnTo>
                    <a:pt x="2237" y="1824"/>
                  </a:lnTo>
                  <a:lnTo>
                    <a:pt x="2243" y="1824"/>
                  </a:lnTo>
                  <a:lnTo>
                    <a:pt x="2250" y="1824"/>
                  </a:lnTo>
                  <a:lnTo>
                    <a:pt x="2256" y="1824"/>
                  </a:lnTo>
                  <a:lnTo>
                    <a:pt x="2263" y="1824"/>
                  </a:lnTo>
                  <a:lnTo>
                    <a:pt x="2269" y="1824"/>
                  </a:lnTo>
                  <a:lnTo>
                    <a:pt x="2276" y="1824"/>
                  </a:lnTo>
                  <a:lnTo>
                    <a:pt x="2282" y="1824"/>
                  </a:lnTo>
                  <a:lnTo>
                    <a:pt x="2288" y="1824"/>
                  </a:lnTo>
                  <a:lnTo>
                    <a:pt x="2295" y="1824"/>
                  </a:lnTo>
                  <a:lnTo>
                    <a:pt x="2301" y="1824"/>
                  </a:lnTo>
                  <a:lnTo>
                    <a:pt x="2308" y="1824"/>
                  </a:lnTo>
                  <a:lnTo>
                    <a:pt x="2314" y="1824"/>
                  </a:lnTo>
                  <a:lnTo>
                    <a:pt x="2321" y="1824"/>
                  </a:lnTo>
                  <a:lnTo>
                    <a:pt x="2327" y="1824"/>
                  </a:lnTo>
                  <a:lnTo>
                    <a:pt x="2333" y="1824"/>
                  </a:lnTo>
                  <a:lnTo>
                    <a:pt x="2340" y="1824"/>
                  </a:lnTo>
                  <a:lnTo>
                    <a:pt x="2346" y="1824"/>
                  </a:lnTo>
                  <a:lnTo>
                    <a:pt x="2353" y="1824"/>
                  </a:lnTo>
                  <a:lnTo>
                    <a:pt x="2359" y="1824"/>
                  </a:lnTo>
                  <a:lnTo>
                    <a:pt x="2366" y="1824"/>
                  </a:lnTo>
                  <a:lnTo>
                    <a:pt x="2372" y="1824"/>
                  </a:lnTo>
                  <a:lnTo>
                    <a:pt x="2378" y="1824"/>
                  </a:lnTo>
                  <a:lnTo>
                    <a:pt x="2385" y="1824"/>
                  </a:lnTo>
                  <a:lnTo>
                    <a:pt x="2391" y="1824"/>
                  </a:lnTo>
                  <a:lnTo>
                    <a:pt x="2398" y="1824"/>
                  </a:lnTo>
                  <a:lnTo>
                    <a:pt x="2404" y="1824"/>
                  </a:lnTo>
                  <a:lnTo>
                    <a:pt x="2411" y="1824"/>
                  </a:lnTo>
                  <a:lnTo>
                    <a:pt x="2417" y="1824"/>
                  </a:lnTo>
                  <a:lnTo>
                    <a:pt x="2423" y="1824"/>
                  </a:lnTo>
                  <a:lnTo>
                    <a:pt x="2430" y="1824"/>
                  </a:lnTo>
                  <a:lnTo>
                    <a:pt x="2436" y="1824"/>
                  </a:lnTo>
                  <a:lnTo>
                    <a:pt x="2443" y="1824"/>
                  </a:lnTo>
                  <a:lnTo>
                    <a:pt x="2449" y="1824"/>
                  </a:lnTo>
                  <a:lnTo>
                    <a:pt x="2456" y="1824"/>
                  </a:lnTo>
                  <a:lnTo>
                    <a:pt x="2462" y="1824"/>
                  </a:lnTo>
                  <a:lnTo>
                    <a:pt x="2468" y="1824"/>
                  </a:lnTo>
                  <a:lnTo>
                    <a:pt x="2475" y="1824"/>
                  </a:lnTo>
                  <a:lnTo>
                    <a:pt x="2481" y="1824"/>
                  </a:lnTo>
                  <a:lnTo>
                    <a:pt x="2488" y="1824"/>
                  </a:lnTo>
                  <a:lnTo>
                    <a:pt x="2494" y="1824"/>
                  </a:lnTo>
                  <a:lnTo>
                    <a:pt x="2501" y="1824"/>
                  </a:lnTo>
                  <a:lnTo>
                    <a:pt x="2507" y="1824"/>
                  </a:lnTo>
                  <a:lnTo>
                    <a:pt x="2513" y="1824"/>
                  </a:lnTo>
                  <a:lnTo>
                    <a:pt x="2520" y="1824"/>
                  </a:lnTo>
                  <a:lnTo>
                    <a:pt x="2526" y="1824"/>
                  </a:lnTo>
                  <a:lnTo>
                    <a:pt x="2533" y="1824"/>
                  </a:lnTo>
                  <a:lnTo>
                    <a:pt x="2539" y="1824"/>
                  </a:lnTo>
                  <a:lnTo>
                    <a:pt x="2546" y="1824"/>
                  </a:lnTo>
                  <a:lnTo>
                    <a:pt x="2552" y="1824"/>
                  </a:lnTo>
                  <a:lnTo>
                    <a:pt x="2558" y="1824"/>
                  </a:lnTo>
                  <a:lnTo>
                    <a:pt x="2565" y="1824"/>
                  </a:lnTo>
                  <a:lnTo>
                    <a:pt x="2571" y="1824"/>
                  </a:lnTo>
                  <a:lnTo>
                    <a:pt x="2578" y="1824"/>
                  </a:lnTo>
                  <a:lnTo>
                    <a:pt x="2584" y="1824"/>
                  </a:lnTo>
                  <a:lnTo>
                    <a:pt x="2591" y="1824"/>
                  </a:lnTo>
                  <a:lnTo>
                    <a:pt x="2597" y="1824"/>
                  </a:lnTo>
                  <a:lnTo>
                    <a:pt x="2603" y="1824"/>
                  </a:lnTo>
                  <a:lnTo>
                    <a:pt x="2610" y="1824"/>
                  </a:lnTo>
                  <a:lnTo>
                    <a:pt x="2616" y="1824"/>
                  </a:lnTo>
                  <a:lnTo>
                    <a:pt x="2623" y="1824"/>
                  </a:lnTo>
                  <a:lnTo>
                    <a:pt x="2629" y="1824"/>
                  </a:lnTo>
                  <a:lnTo>
                    <a:pt x="2636" y="1824"/>
                  </a:lnTo>
                  <a:lnTo>
                    <a:pt x="2642" y="1824"/>
                  </a:lnTo>
                  <a:lnTo>
                    <a:pt x="2648" y="1824"/>
                  </a:lnTo>
                  <a:lnTo>
                    <a:pt x="2655" y="1824"/>
                  </a:lnTo>
                  <a:lnTo>
                    <a:pt x="2661" y="1824"/>
                  </a:lnTo>
                  <a:lnTo>
                    <a:pt x="2668" y="1824"/>
                  </a:lnTo>
                  <a:lnTo>
                    <a:pt x="2674" y="1824"/>
                  </a:lnTo>
                  <a:lnTo>
                    <a:pt x="2681" y="1824"/>
                  </a:lnTo>
                  <a:lnTo>
                    <a:pt x="2687" y="1824"/>
                  </a:lnTo>
                  <a:lnTo>
                    <a:pt x="2693" y="1824"/>
                  </a:lnTo>
                  <a:lnTo>
                    <a:pt x="2700" y="1824"/>
                  </a:lnTo>
                  <a:lnTo>
                    <a:pt x="2706" y="1824"/>
                  </a:lnTo>
                  <a:lnTo>
                    <a:pt x="2713" y="1824"/>
                  </a:lnTo>
                  <a:lnTo>
                    <a:pt x="2719" y="1824"/>
                  </a:lnTo>
                  <a:lnTo>
                    <a:pt x="2726" y="1824"/>
                  </a:lnTo>
                  <a:lnTo>
                    <a:pt x="2732" y="1824"/>
                  </a:lnTo>
                  <a:lnTo>
                    <a:pt x="2738" y="1824"/>
                  </a:lnTo>
                  <a:lnTo>
                    <a:pt x="2745" y="1824"/>
                  </a:lnTo>
                  <a:lnTo>
                    <a:pt x="2751" y="1824"/>
                  </a:lnTo>
                  <a:lnTo>
                    <a:pt x="2758" y="1824"/>
                  </a:lnTo>
                  <a:lnTo>
                    <a:pt x="2764" y="1824"/>
                  </a:lnTo>
                  <a:lnTo>
                    <a:pt x="2771" y="1824"/>
                  </a:lnTo>
                  <a:lnTo>
                    <a:pt x="2777" y="1824"/>
                  </a:lnTo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6981840" y="6173280"/>
              <a:ext cx="0" cy="41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142040" y="6219720"/>
              <a:ext cx="39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047960" y="2820960"/>
              <a:ext cx="1338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</a:t>
              </a:r>
              <a:r>
                <a:rPr b="0" lang="hr-HR" sz="28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r>
                <a:rPr b="0" lang="hr-HR" sz="2800" spc="-1" strike="noStrike" baseline="30000">
                  <a:solidFill>
                    <a:srgbClr val="ffff00"/>
                  </a:solidFill>
                  <a:latin typeface="Times New Roman"/>
                </a:rPr>
                <a:t>j</a:t>
              </a:r>
              <a:r>
                <a:rPr b="0" lang="hr-HR" sz="2800" spc="-1" strike="noStrike" baseline="30000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hr-HR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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575080" y="3618000"/>
              <a:ext cx="865080" cy="268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573280" y="3032280"/>
              <a:ext cx="871560" cy="268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902040" y="5661000"/>
              <a:ext cx="3081240" cy="255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251520" y="6365880"/>
              <a:ext cx="4928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670200" y="6359400"/>
              <a:ext cx="482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1842-4D59-4E42-97AE-4FFE2842D9C1}" type="slidenum">
              <a:t>61</a:t>
            </a:fld>
          </a:p>
        </p:txBody>
      </p:sp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2" dur="80"/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80"/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ložaj polova i nula vremenski diskretnog Butterworthovog filtr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7" name=""/>
          <p:cNvGrpSpPr/>
          <p:nvPr/>
        </p:nvGrpSpPr>
        <p:grpSpPr>
          <a:xfrm>
            <a:off x="1058760" y="2614680"/>
            <a:ext cx="3998880" cy="3816360"/>
            <a:chOff x="1058760" y="2614680"/>
            <a:chExt cx="3998880" cy="3816360"/>
          </a:xfrm>
        </p:grpSpPr>
        <p:sp>
          <p:nvSpPr>
            <p:cNvPr id="1698" name=""/>
            <p:cNvSpPr/>
            <p:nvPr/>
          </p:nvSpPr>
          <p:spPr>
            <a:xfrm>
              <a:off x="2795760" y="314316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4368600" y="4741920"/>
              <a:ext cx="270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195560" y="4741920"/>
              <a:ext cx="32004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195560" y="4741920"/>
              <a:ext cx="32004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395960" y="474192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195560" y="4741920"/>
              <a:ext cx="32004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161360" y="4727520"/>
              <a:ext cx="355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2000160" y="471456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706760" y="4727520"/>
              <a:ext cx="515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</a:rPr>
                <a:t>-0.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2795760" y="471456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742840" y="472752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3600360" y="471456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364560" y="4727520"/>
              <a:ext cx="451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</a:rPr>
                <a:t>0.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4395960" y="471456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146120" y="472752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4368600" y="4741920"/>
              <a:ext cx="270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58760" y="4741920"/>
              <a:ext cx="36734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2795760" y="3142800"/>
              <a:ext cx="0" cy="3187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2795760" y="3142800"/>
              <a:ext cx="0" cy="3187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795760" y="314316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2795760" y="3142800"/>
              <a:ext cx="0" cy="3187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795760" y="633096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2795760" y="630360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795760" y="3143160"/>
              <a:ext cx="0" cy="27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795760" y="6330960"/>
              <a:ext cx="26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474280" y="6035760"/>
              <a:ext cx="355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795760" y="5537160"/>
              <a:ext cx="26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314800" y="5362560"/>
              <a:ext cx="515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</a:rPr>
                <a:t>-0.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795760" y="4741920"/>
              <a:ext cx="23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539800" y="448308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795760" y="3936960"/>
              <a:ext cx="26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380320" y="3763800"/>
              <a:ext cx="451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</a:rPr>
                <a:t>0.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795760" y="3143160"/>
              <a:ext cx="26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539800" y="311292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V="1">
              <a:off x="2795760" y="2827440"/>
              <a:ext cx="0" cy="3603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795760" y="633096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195560" y="3143160"/>
              <a:ext cx="3201840" cy="3189240"/>
            </a:xfrm>
            <a:custGeom>
              <a:avLst/>
              <a:gdLst/>
              <a:ahLst/>
              <a:rect l="l" t="t" r="r" b="b"/>
              <a:pathLst>
                <a:path w="2017" h="2009">
                  <a:moveTo>
                    <a:pt x="2016" y="1007"/>
                  </a:moveTo>
                  <a:lnTo>
                    <a:pt x="2016" y="942"/>
                  </a:lnTo>
                  <a:lnTo>
                    <a:pt x="2010" y="877"/>
                  </a:lnTo>
                  <a:lnTo>
                    <a:pt x="1999" y="818"/>
                  </a:lnTo>
                  <a:lnTo>
                    <a:pt x="1987" y="754"/>
                  </a:lnTo>
                  <a:lnTo>
                    <a:pt x="1969" y="695"/>
                  </a:lnTo>
                  <a:lnTo>
                    <a:pt x="1946" y="636"/>
                  </a:lnTo>
                  <a:lnTo>
                    <a:pt x="1922" y="577"/>
                  </a:lnTo>
                  <a:lnTo>
                    <a:pt x="1893" y="518"/>
                  </a:lnTo>
                  <a:lnTo>
                    <a:pt x="1857" y="465"/>
                  </a:lnTo>
                  <a:lnTo>
                    <a:pt x="1822" y="412"/>
                  </a:lnTo>
                  <a:lnTo>
                    <a:pt x="1786" y="365"/>
                  </a:lnTo>
                  <a:lnTo>
                    <a:pt x="1745" y="318"/>
                  </a:lnTo>
                  <a:lnTo>
                    <a:pt x="1698" y="271"/>
                  </a:lnTo>
                  <a:lnTo>
                    <a:pt x="1651" y="229"/>
                  </a:lnTo>
                  <a:lnTo>
                    <a:pt x="1604" y="194"/>
                  </a:lnTo>
                  <a:lnTo>
                    <a:pt x="1551" y="159"/>
                  </a:lnTo>
                  <a:lnTo>
                    <a:pt x="1492" y="123"/>
                  </a:lnTo>
                  <a:lnTo>
                    <a:pt x="1439" y="94"/>
                  </a:lnTo>
                  <a:lnTo>
                    <a:pt x="1380" y="70"/>
                  </a:lnTo>
                  <a:lnTo>
                    <a:pt x="1321" y="47"/>
                  </a:lnTo>
                  <a:lnTo>
                    <a:pt x="1262" y="29"/>
                  </a:lnTo>
                  <a:lnTo>
                    <a:pt x="1197" y="17"/>
                  </a:lnTo>
                  <a:lnTo>
                    <a:pt x="1132" y="5"/>
                  </a:lnTo>
                  <a:lnTo>
                    <a:pt x="1073" y="0"/>
                  </a:lnTo>
                  <a:lnTo>
                    <a:pt x="1008" y="0"/>
                  </a:lnTo>
                  <a:lnTo>
                    <a:pt x="943" y="0"/>
                  </a:lnTo>
                  <a:lnTo>
                    <a:pt x="884" y="5"/>
                  </a:lnTo>
                  <a:lnTo>
                    <a:pt x="819" y="17"/>
                  </a:lnTo>
                  <a:lnTo>
                    <a:pt x="755" y="29"/>
                  </a:lnTo>
                  <a:lnTo>
                    <a:pt x="696" y="47"/>
                  </a:lnTo>
                  <a:lnTo>
                    <a:pt x="637" y="70"/>
                  </a:lnTo>
                  <a:lnTo>
                    <a:pt x="578" y="94"/>
                  </a:lnTo>
                  <a:lnTo>
                    <a:pt x="525" y="123"/>
                  </a:lnTo>
                  <a:lnTo>
                    <a:pt x="466" y="159"/>
                  </a:lnTo>
                  <a:lnTo>
                    <a:pt x="413" y="194"/>
                  </a:lnTo>
                  <a:lnTo>
                    <a:pt x="365" y="229"/>
                  </a:lnTo>
                  <a:lnTo>
                    <a:pt x="318" y="271"/>
                  </a:lnTo>
                  <a:lnTo>
                    <a:pt x="271" y="318"/>
                  </a:lnTo>
                  <a:lnTo>
                    <a:pt x="230" y="365"/>
                  </a:lnTo>
                  <a:lnTo>
                    <a:pt x="194" y="412"/>
                  </a:lnTo>
                  <a:lnTo>
                    <a:pt x="159" y="465"/>
                  </a:lnTo>
                  <a:lnTo>
                    <a:pt x="124" y="518"/>
                  </a:lnTo>
                  <a:lnTo>
                    <a:pt x="94" y="577"/>
                  </a:lnTo>
                  <a:lnTo>
                    <a:pt x="71" y="636"/>
                  </a:lnTo>
                  <a:lnTo>
                    <a:pt x="47" y="695"/>
                  </a:lnTo>
                  <a:lnTo>
                    <a:pt x="29" y="754"/>
                  </a:lnTo>
                  <a:lnTo>
                    <a:pt x="17" y="818"/>
                  </a:lnTo>
                  <a:lnTo>
                    <a:pt x="6" y="877"/>
                  </a:lnTo>
                  <a:lnTo>
                    <a:pt x="0" y="942"/>
                  </a:lnTo>
                  <a:lnTo>
                    <a:pt x="0" y="1001"/>
                  </a:lnTo>
                  <a:lnTo>
                    <a:pt x="0" y="1066"/>
                  </a:lnTo>
                  <a:lnTo>
                    <a:pt x="6" y="1131"/>
                  </a:lnTo>
                  <a:lnTo>
                    <a:pt x="17" y="1189"/>
                  </a:lnTo>
                  <a:lnTo>
                    <a:pt x="29" y="1254"/>
                  </a:lnTo>
                  <a:lnTo>
                    <a:pt x="47" y="1313"/>
                  </a:lnTo>
                  <a:lnTo>
                    <a:pt x="71" y="1372"/>
                  </a:lnTo>
                  <a:lnTo>
                    <a:pt x="94" y="1431"/>
                  </a:lnTo>
                  <a:lnTo>
                    <a:pt x="124" y="1490"/>
                  </a:lnTo>
                  <a:lnTo>
                    <a:pt x="159" y="1543"/>
                  </a:lnTo>
                  <a:lnTo>
                    <a:pt x="194" y="1596"/>
                  </a:lnTo>
                  <a:lnTo>
                    <a:pt x="230" y="1643"/>
                  </a:lnTo>
                  <a:lnTo>
                    <a:pt x="271" y="1690"/>
                  </a:lnTo>
                  <a:lnTo>
                    <a:pt x="318" y="1737"/>
                  </a:lnTo>
                  <a:lnTo>
                    <a:pt x="365" y="1779"/>
                  </a:lnTo>
                  <a:lnTo>
                    <a:pt x="413" y="1814"/>
                  </a:lnTo>
                  <a:lnTo>
                    <a:pt x="466" y="1849"/>
                  </a:lnTo>
                  <a:lnTo>
                    <a:pt x="525" y="1885"/>
                  </a:lnTo>
                  <a:lnTo>
                    <a:pt x="578" y="1914"/>
                  </a:lnTo>
                  <a:lnTo>
                    <a:pt x="637" y="1938"/>
                  </a:lnTo>
                  <a:lnTo>
                    <a:pt x="696" y="1961"/>
                  </a:lnTo>
                  <a:lnTo>
                    <a:pt x="755" y="1979"/>
                  </a:lnTo>
                  <a:lnTo>
                    <a:pt x="819" y="1991"/>
                  </a:lnTo>
                  <a:lnTo>
                    <a:pt x="884" y="2002"/>
                  </a:lnTo>
                  <a:lnTo>
                    <a:pt x="943" y="2008"/>
                  </a:lnTo>
                  <a:lnTo>
                    <a:pt x="1008" y="2008"/>
                  </a:lnTo>
                  <a:lnTo>
                    <a:pt x="1073" y="2008"/>
                  </a:lnTo>
                  <a:lnTo>
                    <a:pt x="1132" y="2002"/>
                  </a:lnTo>
                  <a:lnTo>
                    <a:pt x="1197" y="1991"/>
                  </a:lnTo>
                  <a:lnTo>
                    <a:pt x="1262" y="1979"/>
                  </a:lnTo>
                  <a:lnTo>
                    <a:pt x="1321" y="1961"/>
                  </a:lnTo>
                  <a:lnTo>
                    <a:pt x="1380" y="1938"/>
                  </a:lnTo>
                  <a:lnTo>
                    <a:pt x="1439" y="1914"/>
                  </a:lnTo>
                  <a:lnTo>
                    <a:pt x="1492" y="1885"/>
                  </a:lnTo>
                  <a:lnTo>
                    <a:pt x="1551" y="1849"/>
                  </a:lnTo>
                  <a:lnTo>
                    <a:pt x="1604" y="1814"/>
                  </a:lnTo>
                  <a:lnTo>
                    <a:pt x="1651" y="1779"/>
                  </a:lnTo>
                  <a:lnTo>
                    <a:pt x="1698" y="1737"/>
                  </a:lnTo>
                  <a:lnTo>
                    <a:pt x="1745" y="1690"/>
                  </a:lnTo>
                  <a:lnTo>
                    <a:pt x="1786" y="1643"/>
                  </a:lnTo>
                  <a:lnTo>
                    <a:pt x="1822" y="1596"/>
                  </a:lnTo>
                  <a:lnTo>
                    <a:pt x="1857" y="1543"/>
                  </a:lnTo>
                  <a:lnTo>
                    <a:pt x="1893" y="1490"/>
                  </a:lnTo>
                  <a:lnTo>
                    <a:pt x="1922" y="1431"/>
                  </a:lnTo>
                  <a:lnTo>
                    <a:pt x="1946" y="1372"/>
                  </a:lnTo>
                  <a:lnTo>
                    <a:pt x="1969" y="1313"/>
                  </a:lnTo>
                  <a:lnTo>
                    <a:pt x="1987" y="1254"/>
                  </a:lnTo>
                  <a:lnTo>
                    <a:pt x="1999" y="1189"/>
                  </a:lnTo>
                  <a:lnTo>
                    <a:pt x="2010" y="1131"/>
                  </a:lnTo>
                  <a:lnTo>
                    <a:pt x="2016" y="1066"/>
                  </a:lnTo>
                  <a:lnTo>
                    <a:pt x="2016" y="1007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825720" y="3825720"/>
              <a:ext cx="93960" cy="93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3825360" y="3825720"/>
              <a:ext cx="93960" cy="93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825720" y="5554800"/>
              <a:ext cx="93960" cy="936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3825360" y="5554800"/>
              <a:ext cx="93960" cy="936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629160" y="4124160"/>
              <a:ext cx="93600" cy="93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3629160" y="4124160"/>
              <a:ext cx="93600" cy="93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629160" y="5256360"/>
              <a:ext cx="93600" cy="936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3629160" y="5256360"/>
              <a:ext cx="93600" cy="936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535200" y="4414680"/>
              <a:ext cx="93960" cy="93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3534840" y="4414680"/>
              <a:ext cx="93960" cy="93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535200" y="4965840"/>
              <a:ext cx="93960" cy="936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3534840" y="4965840"/>
              <a:ext cx="93960" cy="936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497400" y="4694400"/>
              <a:ext cx="93600" cy="936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3497400" y="4694400"/>
              <a:ext cx="93600" cy="936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160640" y="4707000"/>
              <a:ext cx="68040" cy="68040"/>
            </a:xfrm>
            <a:prstGeom prst="ellipse">
              <a:avLst/>
            </a:prstGeom>
            <a:noFill/>
            <a:ln w="25560">
              <a:solidFill>
                <a:srgbClr val="00ff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665520" y="2895480"/>
              <a:ext cx="139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z-ravnin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301840" y="2614680"/>
              <a:ext cx="53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Brush Script MT"/>
                </a:rPr>
                <a:t>I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68680" y="4718160"/>
              <a:ext cx="540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Brush Script MT"/>
                </a:rPr>
                <a:t>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201600" y="2855880"/>
            <a:ext cx="2035080" cy="1720800"/>
            <a:chOff x="201600" y="2855880"/>
            <a:chExt cx="2035080" cy="1720800"/>
          </a:xfrm>
        </p:grpSpPr>
        <p:sp>
          <p:nvSpPr>
            <p:cNvPr id="1754" name=""/>
            <p:cNvSpPr/>
            <p:nvPr/>
          </p:nvSpPr>
          <p:spPr>
            <a:xfrm>
              <a:off x="201600" y="2855880"/>
              <a:ext cx="203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edmerostruka nu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923760" y="3348000"/>
              <a:ext cx="235080" cy="1228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5332320" y="2700360"/>
            <a:ext cx="3353040" cy="3457080"/>
            <a:chOff x="5332320" y="2700360"/>
            <a:chExt cx="3353040" cy="3457080"/>
          </a:xfrm>
        </p:grpSpPr>
        <p:sp>
          <p:nvSpPr>
            <p:cNvPr id="1757" name=""/>
            <p:cNvSpPr/>
            <p:nvPr/>
          </p:nvSpPr>
          <p:spPr>
            <a:xfrm flipV="1">
              <a:off x="6799320" y="2804760"/>
              <a:ext cx="0" cy="3352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332320" y="4740120"/>
              <a:ext cx="3237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526000" y="3468600"/>
              <a:ext cx="2548080" cy="2535480"/>
            </a:xfrm>
            <a:custGeom>
              <a:avLst/>
              <a:gdLst/>
              <a:ahLst/>
              <a:rect l="l" t="t" r="r" b="b"/>
              <a:pathLst>
                <a:path w="1605" h="1597">
                  <a:moveTo>
                    <a:pt x="1604" y="801"/>
                  </a:moveTo>
                  <a:lnTo>
                    <a:pt x="1604" y="749"/>
                  </a:lnTo>
                  <a:lnTo>
                    <a:pt x="1598" y="697"/>
                  </a:lnTo>
                  <a:lnTo>
                    <a:pt x="1591" y="645"/>
                  </a:lnTo>
                  <a:lnTo>
                    <a:pt x="1578" y="600"/>
                  </a:lnTo>
                  <a:lnTo>
                    <a:pt x="1565" y="554"/>
                  </a:lnTo>
                  <a:lnTo>
                    <a:pt x="1552" y="502"/>
                  </a:lnTo>
                  <a:lnTo>
                    <a:pt x="1532" y="456"/>
                  </a:lnTo>
                  <a:lnTo>
                    <a:pt x="1506" y="411"/>
                  </a:lnTo>
                  <a:lnTo>
                    <a:pt x="1480" y="372"/>
                  </a:lnTo>
                  <a:lnTo>
                    <a:pt x="1454" y="326"/>
                  </a:lnTo>
                  <a:lnTo>
                    <a:pt x="1422" y="287"/>
                  </a:lnTo>
                  <a:lnTo>
                    <a:pt x="1389" y="248"/>
                  </a:lnTo>
                  <a:lnTo>
                    <a:pt x="1350" y="215"/>
                  </a:lnTo>
                  <a:lnTo>
                    <a:pt x="1317" y="183"/>
                  </a:lnTo>
                  <a:lnTo>
                    <a:pt x="1272" y="150"/>
                  </a:lnTo>
                  <a:lnTo>
                    <a:pt x="1232" y="124"/>
                  </a:lnTo>
                  <a:lnTo>
                    <a:pt x="1187" y="98"/>
                  </a:lnTo>
                  <a:lnTo>
                    <a:pt x="1141" y="72"/>
                  </a:lnTo>
                  <a:lnTo>
                    <a:pt x="1096" y="53"/>
                  </a:lnTo>
                  <a:lnTo>
                    <a:pt x="1050" y="40"/>
                  </a:lnTo>
                  <a:lnTo>
                    <a:pt x="1004" y="20"/>
                  </a:lnTo>
                  <a:lnTo>
                    <a:pt x="952" y="13"/>
                  </a:lnTo>
                  <a:lnTo>
                    <a:pt x="900" y="7"/>
                  </a:lnTo>
                  <a:lnTo>
                    <a:pt x="854" y="0"/>
                  </a:lnTo>
                  <a:lnTo>
                    <a:pt x="802" y="0"/>
                  </a:lnTo>
                  <a:lnTo>
                    <a:pt x="750" y="0"/>
                  </a:lnTo>
                  <a:lnTo>
                    <a:pt x="704" y="7"/>
                  </a:lnTo>
                  <a:lnTo>
                    <a:pt x="652" y="13"/>
                  </a:lnTo>
                  <a:lnTo>
                    <a:pt x="600" y="20"/>
                  </a:lnTo>
                  <a:lnTo>
                    <a:pt x="554" y="40"/>
                  </a:lnTo>
                  <a:lnTo>
                    <a:pt x="509" y="53"/>
                  </a:lnTo>
                  <a:lnTo>
                    <a:pt x="463" y="72"/>
                  </a:lnTo>
                  <a:lnTo>
                    <a:pt x="418" y="98"/>
                  </a:lnTo>
                  <a:lnTo>
                    <a:pt x="372" y="124"/>
                  </a:lnTo>
                  <a:lnTo>
                    <a:pt x="333" y="150"/>
                  </a:lnTo>
                  <a:lnTo>
                    <a:pt x="287" y="183"/>
                  </a:lnTo>
                  <a:lnTo>
                    <a:pt x="255" y="215"/>
                  </a:lnTo>
                  <a:lnTo>
                    <a:pt x="215" y="248"/>
                  </a:lnTo>
                  <a:lnTo>
                    <a:pt x="183" y="287"/>
                  </a:lnTo>
                  <a:lnTo>
                    <a:pt x="150" y="326"/>
                  </a:lnTo>
                  <a:lnTo>
                    <a:pt x="124" y="372"/>
                  </a:lnTo>
                  <a:lnTo>
                    <a:pt x="98" y="411"/>
                  </a:lnTo>
                  <a:lnTo>
                    <a:pt x="72" y="456"/>
                  </a:lnTo>
                  <a:lnTo>
                    <a:pt x="52" y="502"/>
                  </a:lnTo>
                  <a:lnTo>
                    <a:pt x="39" y="554"/>
                  </a:lnTo>
                  <a:lnTo>
                    <a:pt x="26" y="600"/>
                  </a:lnTo>
                  <a:lnTo>
                    <a:pt x="13" y="645"/>
                  </a:lnTo>
                  <a:lnTo>
                    <a:pt x="7" y="697"/>
                  </a:lnTo>
                  <a:lnTo>
                    <a:pt x="0" y="749"/>
                  </a:lnTo>
                  <a:lnTo>
                    <a:pt x="0" y="801"/>
                  </a:lnTo>
                  <a:lnTo>
                    <a:pt x="0" y="847"/>
                  </a:lnTo>
                  <a:lnTo>
                    <a:pt x="7" y="899"/>
                  </a:lnTo>
                  <a:lnTo>
                    <a:pt x="13" y="951"/>
                  </a:lnTo>
                  <a:lnTo>
                    <a:pt x="26" y="997"/>
                  </a:lnTo>
                  <a:lnTo>
                    <a:pt x="39" y="1042"/>
                  </a:lnTo>
                  <a:lnTo>
                    <a:pt x="52" y="1094"/>
                  </a:lnTo>
                  <a:lnTo>
                    <a:pt x="72" y="1140"/>
                  </a:lnTo>
                  <a:lnTo>
                    <a:pt x="98" y="1186"/>
                  </a:lnTo>
                  <a:lnTo>
                    <a:pt x="124" y="1225"/>
                  </a:lnTo>
                  <a:lnTo>
                    <a:pt x="150" y="1270"/>
                  </a:lnTo>
                  <a:lnTo>
                    <a:pt x="183" y="1309"/>
                  </a:lnTo>
                  <a:lnTo>
                    <a:pt x="215" y="1348"/>
                  </a:lnTo>
                  <a:lnTo>
                    <a:pt x="255" y="1381"/>
                  </a:lnTo>
                  <a:lnTo>
                    <a:pt x="287" y="1414"/>
                  </a:lnTo>
                  <a:lnTo>
                    <a:pt x="333" y="1446"/>
                  </a:lnTo>
                  <a:lnTo>
                    <a:pt x="372" y="1472"/>
                  </a:lnTo>
                  <a:lnTo>
                    <a:pt x="418" y="1498"/>
                  </a:lnTo>
                  <a:lnTo>
                    <a:pt x="463" y="1524"/>
                  </a:lnTo>
                  <a:lnTo>
                    <a:pt x="509" y="1544"/>
                  </a:lnTo>
                  <a:lnTo>
                    <a:pt x="554" y="1557"/>
                  </a:lnTo>
                  <a:lnTo>
                    <a:pt x="600" y="1576"/>
                  </a:lnTo>
                  <a:lnTo>
                    <a:pt x="652" y="1583"/>
                  </a:lnTo>
                  <a:lnTo>
                    <a:pt x="704" y="1589"/>
                  </a:lnTo>
                  <a:lnTo>
                    <a:pt x="750" y="1596"/>
                  </a:lnTo>
                  <a:lnTo>
                    <a:pt x="802" y="1596"/>
                  </a:lnTo>
                  <a:lnTo>
                    <a:pt x="854" y="1596"/>
                  </a:lnTo>
                  <a:lnTo>
                    <a:pt x="900" y="1589"/>
                  </a:lnTo>
                  <a:lnTo>
                    <a:pt x="952" y="1583"/>
                  </a:lnTo>
                  <a:lnTo>
                    <a:pt x="1004" y="1576"/>
                  </a:lnTo>
                  <a:lnTo>
                    <a:pt x="1050" y="1557"/>
                  </a:lnTo>
                  <a:lnTo>
                    <a:pt x="1096" y="1544"/>
                  </a:lnTo>
                  <a:lnTo>
                    <a:pt x="1141" y="1524"/>
                  </a:lnTo>
                  <a:lnTo>
                    <a:pt x="1187" y="1498"/>
                  </a:lnTo>
                  <a:lnTo>
                    <a:pt x="1232" y="1472"/>
                  </a:lnTo>
                  <a:lnTo>
                    <a:pt x="1272" y="1446"/>
                  </a:lnTo>
                  <a:lnTo>
                    <a:pt x="1317" y="1414"/>
                  </a:lnTo>
                  <a:lnTo>
                    <a:pt x="1350" y="1381"/>
                  </a:lnTo>
                  <a:lnTo>
                    <a:pt x="1389" y="1348"/>
                  </a:lnTo>
                  <a:lnTo>
                    <a:pt x="1422" y="1309"/>
                  </a:lnTo>
                  <a:lnTo>
                    <a:pt x="1454" y="1270"/>
                  </a:lnTo>
                  <a:lnTo>
                    <a:pt x="1480" y="1225"/>
                  </a:lnTo>
                  <a:lnTo>
                    <a:pt x="1506" y="1186"/>
                  </a:lnTo>
                  <a:lnTo>
                    <a:pt x="1532" y="1140"/>
                  </a:lnTo>
                  <a:lnTo>
                    <a:pt x="1552" y="1094"/>
                  </a:lnTo>
                  <a:lnTo>
                    <a:pt x="1565" y="1042"/>
                  </a:lnTo>
                  <a:lnTo>
                    <a:pt x="1578" y="997"/>
                  </a:lnTo>
                  <a:lnTo>
                    <a:pt x="1591" y="951"/>
                  </a:lnTo>
                  <a:lnTo>
                    <a:pt x="1598" y="899"/>
                  </a:lnTo>
                  <a:lnTo>
                    <a:pt x="1604" y="847"/>
                  </a:lnTo>
                  <a:lnTo>
                    <a:pt x="1604" y="801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469200" y="3448080"/>
              <a:ext cx="102960" cy="1047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6469200" y="3448080"/>
              <a:ext cx="102960" cy="1047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469200" y="5919840"/>
              <a:ext cx="102960" cy="102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6469200" y="5919840"/>
              <a:ext cx="102960" cy="102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951520" y="3686040"/>
              <a:ext cx="103320" cy="103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5951160" y="3686040"/>
              <a:ext cx="103320" cy="103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951520" y="5681520"/>
              <a:ext cx="103320" cy="103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5951160" y="5681520"/>
              <a:ext cx="103320" cy="103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475240" y="4689360"/>
              <a:ext cx="103320" cy="103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5474880" y="4689360"/>
              <a:ext cx="103320" cy="103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599080" y="4130640"/>
              <a:ext cx="103320" cy="103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5598720" y="4130640"/>
              <a:ext cx="103320" cy="103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599080" y="5237280"/>
              <a:ext cx="103320" cy="102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598720" y="5237280"/>
              <a:ext cx="103320" cy="102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064280" y="3067200"/>
              <a:ext cx="139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-ravnin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283600" y="4757760"/>
              <a:ext cx="40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378480" y="2700360"/>
              <a:ext cx="40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4003200" y="3500280"/>
            <a:ext cx="2367360" cy="2455560"/>
            <a:chOff x="4003200" y="3500280"/>
            <a:chExt cx="2367360" cy="2455560"/>
          </a:xfrm>
        </p:grpSpPr>
        <p:sp>
          <p:nvSpPr>
            <p:cNvPr id="1778" name=""/>
            <p:cNvSpPr/>
            <p:nvPr/>
          </p:nvSpPr>
          <p:spPr>
            <a:xfrm flipH="1">
              <a:off x="4013280" y="3500280"/>
              <a:ext cx="2357280" cy="344520"/>
            </a:xfrm>
            <a:prstGeom prst="line">
              <a:avLst/>
            </a:prstGeom>
            <a:ln w="12600">
              <a:solidFill>
                <a:srgbClr val="00fff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 flipV="1">
              <a:off x="4003200" y="5611320"/>
              <a:ext cx="2357640" cy="344520"/>
            </a:xfrm>
            <a:prstGeom prst="line">
              <a:avLst/>
            </a:prstGeom>
            <a:ln w="12600">
              <a:solidFill>
                <a:srgbClr val="00fff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3769920" y="3743280"/>
            <a:ext cx="2122560" cy="1969920"/>
            <a:chOff x="3769920" y="3743280"/>
            <a:chExt cx="2122560" cy="1969920"/>
          </a:xfrm>
        </p:grpSpPr>
        <p:sp>
          <p:nvSpPr>
            <p:cNvPr id="1781" name=""/>
            <p:cNvSpPr/>
            <p:nvPr/>
          </p:nvSpPr>
          <p:spPr>
            <a:xfrm flipH="1">
              <a:off x="3779640" y="3743280"/>
              <a:ext cx="2112840" cy="406440"/>
            </a:xfrm>
            <a:prstGeom prst="line">
              <a:avLst/>
            </a:prstGeom>
            <a:ln w="12600">
              <a:solidFill>
                <a:srgbClr val="00fff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 flipV="1">
              <a:off x="3769920" y="5306760"/>
              <a:ext cx="2112840" cy="406440"/>
            </a:xfrm>
            <a:prstGeom prst="line">
              <a:avLst/>
            </a:prstGeom>
            <a:ln w="12600">
              <a:solidFill>
                <a:srgbClr val="00fff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3677760" y="4181400"/>
            <a:ext cx="1879920" cy="1093680"/>
            <a:chOff x="3677760" y="4181400"/>
            <a:chExt cx="1879920" cy="1093680"/>
          </a:xfrm>
        </p:grpSpPr>
        <p:sp>
          <p:nvSpPr>
            <p:cNvPr id="1784" name=""/>
            <p:cNvSpPr/>
            <p:nvPr/>
          </p:nvSpPr>
          <p:spPr>
            <a:xfrm flipH="1">
              <a:off x="3687840" y="4181400"/>
              <a:ext cx="1869840" cy="273240"/>
            </a:xfrm>
            <a:prstGeom prst="line">
              <a:avLst/>
            </a:prstGeom>
            <a:ln w="12600">
              <a:solidFill>
                <a:srgbClr val="00fff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 flipV="1">
              <a:off x="3677760" y="5001840"/>
              <a:ext cx="1870200" cy="273240"/>
            </a:xfrm>
            <a:prstGeom prst="line">
              <a:avLst/>
            </a:prstGeom>
            <a:ln w="12600">
              <a:solidFill>
                <a:srgbClr val="00fff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 rot="780000">
            <a:off x="3528720" y="4649040"/>
            <a:ext cx="3676680" cy="9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0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031"/>
              </a:path>
            </a:pathLst>
          </a:custGeom>
          <a:noFill/>
          <a:ln cap="rnd" w="12600">
            <a:solidFill>
              <a:srgbClr val="00fff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3C58-5AE9-4E72-8D5C-05D64AF2ABB1}" type="slidenum">
              <a:t>62</a:t>
            </a:fld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Primjer projektiranja digitalnog IIR filt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Grupno vrijeme kašnjenja filtr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208080" y="2405160"/>
            <a:ext cx="4457160" cy="4380480"/>
            <a:chOff x="208080" y="2405160"/>
            <a:chExt cx="4457160" cy="4380480"/>
          </a:xfrm>
        </p:grpSpPr>
        <p:grpSp>
          <p:nvGrpSpPr>
            <p:cNvPr id="1790" name=""/>
            <p:cNvGrpSpPr/>
            <p:nvPr/>
          </p:nvGrpSpPr>
          <p:grpSpPr>
            <a:xfrm>
              <a:off x="1056600" y="6273720"/>
              <a:ext cx="898560" cy="511920"/>
              <a:chOff x="1056600" y="6273720"/>
              <a:chExt cx="898560" cy="511920"/>
            </a:xfrm>
          </p:grpSpPr>
          <p:sp>
            <p:nvSpPr>
              <p:cNvPr id="1791" name=""/>
              <p:cNvSpPr/>
              <p:nvPr/>
            </p:nvSpPr>
            <p:spPr>
              <a:xfrm>
                <a:off x="1056600" y="6276960"/>
                <a:ext cx="51876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hr-HR" sz="2400" spc="-1" strike="noStrike" baseline="-25000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446840" y="6273720"/>
                <a:ext cx="5083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hr-HR" sz="2400" spc="-1" strike="noStrike" baseline="-25000">
                    <a:solidFill>
                      <a:srgbClr val="ffff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3" name=""/>
            <p:cNvGrpSpPr/>
            <p:nvPr/>
          </p:nvGrpSpPr>
          <p:grpSpPr>
            <a:xfrm>
              <a:off x="208080" y="2405160"/>
              <a:ext cx="4457160" cy="4003200"/>
              <a:chOff x="208080" y="2405160"/>
              <a:chExt cx="4457160" cy="4003200"/>
            </a:xfrm>
          </p:grpSpPr>
          <p:sp>
            <p:nvSpPr>
              <p:cNvPr id="1794" name=""/>
              <p:cNvSpPr/>
              <p:nvPr/>
            </p:nvSpPr>
            <p:spPr>
              <a:xfrm>
                <a:off x="774720" y="5951520"/>
                <a:ext cx="32875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774720" y="2869920"/>
                <a:ext cx="0" cy="3081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062240" y="5951520"/>
                <a:ext cx="255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74720" y="5951520"/>
                <a:ext cx="32875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774720" y="2869920"/>
                <a:ext cx="0" cy="3081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74720" y="5951520"/>
                <a:ext cx="255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774720" y="5914800"/>
                <a:ext cx="0" cy="36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1595520" y="5914800"/>
                <a:ext cx="0" cy="36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2422440" y="5914800"/>
                <a:ext cx="0" cy="36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3243240" y="5914800"/>
                <a:ext cx="0" cy="36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4062240" y="5914800"/>
                <a:ext cx="0" cy="36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5" name=""/>
              <p:cNvGrpSpPr/>
              <p:nvPr/>
            </p:nvGrpSpPr>
            <p:grpSpPr>
              <a:xfrm>
                <a:off x="631080" y="5948280"/>
                <a:ext cx="3614760" cy="397440"/>
                <a:chOff x="631080" y="5948280"/>
                <a:chExt cx="3614760" cy="39744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631080" y="5948280"/>
                  <a:ext cx="326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1451880" y="5948280"/>
                  <a:ext cx="326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2278800" y="5948280"/>
                  <a:ext cx="326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3099600" y="5948280"/>
                  <a:ext cx="326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3918960" y="5948280"/>
                  <a:ext cx="326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1" name=""/>
              <p:cNvSpPr/>
              <p:nvPr/>
            </p:nvSpPr>
            <p:spPr>
              <a:xfrm>
                <a:off x="774720" y="595152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>
                <a:off x="4032000" y="5951520"/>
                <a:ext cx="29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74720" y="550872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74720" y="507528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74720" y="463248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74720" y="418932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74720" y="374652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74720" y="3313080"/>
                <a:ext cx="302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19" name=""/>
              <p:cNvGrpSpPr/>
              <p:nvPr/>
            </p:nvGrpSpPr>
            <p:grpSpPr>
              <a:xfrm>
                <a:off x="324720" y="3094200"/>
                <a:ext cx="468360" cy="3035880"/>
                <a:chOff x="324720" y="3094200"/>
                <a:chExt cx="468360" cy="303588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408960" y="5732640"/>
                  <a:ext cx="326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408960" y="4856040"/>
                  <a:ext cx="326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408960" y="3970440"/>
                  <a:ext cx="326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8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324720" y="3094200"/>
                  <a:ext cx="4683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1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4" name=""/>
              <p:cNvSpPr/>
              <p:nvPr/>
            </p:nvSpPr>
            <p:spPr>
              <a:xfrm>
                <a:off x="774720" y="5951520"/>
                <a:ext cx="37972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774720" y="2869920"/>
                <a:ext cx="0" cy="3081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74720" y="5951520"/>
                <a:ext cx="255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27" name=""/>
              <p:cNvGrpSpPr/>
              <p:nvPr/>
            </p:nvGrpSpPr>
            <p:grpSpPr>
              <a:xfrm>
                <a:off x="1306440" y="3352320"/>
                <a:ext cx="303120" cy="2598840"/>
                <a:chOff x="1306440" y="3352320"/>
                <a:chExt cx="303120" cy="2598840"/>
              </a:xfrm>
            </p:grpSpPr>
            <p:sp>
              <p:nvSpPr>
                <p:cNvPr id="1828" name=""/>
                <p:cNvSpPr/>
                <p:nvPr/>
              </p:nvSpPr>
              <p:spPr>
                <a:xfrm flipV="1">
                  <a:off x="1306440" y="3352320"/>
                  <a:ext cx="0" cy="25988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V="1">
                  <a:off x="1609560" y="3352320"/>
                  <a:ext cx="0" cy="25988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0" name=""/>
              <p:cNvSpPr/>
              <p:nvPr/>
            </p:nvSpPr>
            <p:spPr>
              <a:xfrm>
                <a:off x="774720" y="3548160"/>
                <a:ext cx="3281400" cy="2359080"/>
              </a:xfrm>
              <a:custGeom>
                <a:avLst/>
                <a:gdLst/>
                <a:ahLst/>
                <a:rect l="l" t="t" r="r" b="b"/>
                <a:pathLst>
                  <a:path w="2067" h="1486">
                    <a:moveTo>
                      <a:pt x="0" y="649"/>
                    </a:moveTo>
                    <a:lnTo>
                      <a:pt x="5" y="649"/>
                    </a:lnTo>
                    <a:lnTo>
                      <a:pt x="10" y="649"/>
                    </a:lnTo>
                    <a:lnTo>
                      <a:pt x="15" y="649"/>
                    </a:lnTo>
                    <a:lnTo>
                      <a:pt x="19" y="649"/>
                    </a:lnTo>
                    <a:lnTo>
                      <a:pt x="24" y="649"/>
                    </a:lnTo>
                    <a:lnTo>
                      <a:pt x="29" y="649"/>
                    </a:lnTo>
                    <a:lnTo>
                      <a:pt x="39" y="649"/>
                    </a:lnTo>
                    <a:lnTo>
                      <a:pt x="43" y="643"/>
                    </a:lnTo>
                    <a:lnTo>
                      <a:pt x="48" y="643"/>
                    </a:lnTo>
                    <a:lnTo>
                      <a:pt x="53" y="643"/>
                    </a:lnTo>
                    <a:lnTo>
                      <a:pt x="58" y="643"/>
                    </a:lnTo>
                    <a:lnTo>
                      <a:pt x="62" y="643"/>
                    </a:lnTo>
                    <a:lnTo>
                      <a:pt x="67" y="638"/>
                    </a:lnTo>
                    <a:lnTo>
                      <a:pt x="72" y="638"/>
                    </a:lnTo>
                    <a:lnTo>
                      <a:pt x="77" y="638"/>
                    </a:lnTo>
                    <a:lnTo>
                      <a:pt x="82" y="632"/>
                    </a:lnTo>
                    <a:lnTo>
                      <a:pt x="86" y="632"/>
                    </a:lnTo>
                    <a:lnTo>
                      <a:pt x="91" y="626"/>
                    </a:lnTo>
                    <a:lnTo>
                      <a:pt x="101" y="626"/>
                    </a:lnTo>
                    <a:lnTo>
                      <a:pt x="106" y="626"/>
                    </a:lnTo>
                    <a:lnTo>
                      <a:pt x="110" y="620"/>
                    </a:lnTo>
                    <a:lnTo>
                      <a:pt x="115" y="620"/>
                    </a:lnTo>
                    <a:lnTo>
                      <a:pt x="120" y="615"/>
                    </a:lnTo>
                    <a:lnTo>
                      <a:pt x="125" y="609"/>
                    </a:lnTo>
                    <a:lnTo>
                      <a:pt x="129" y="609"/>
                    </a:lnTo>
                    <a:lnTo>
                      <a:pt x="134" y="603"/>
                    </a:lnTo>
                    <a:lnTo>
                      <a:pt x="139" y="598"/>
                    </a:lnTo>
                    <a:lnTo>
                      <a:pt x="144" y="598"/>
                    </a:lnTo>
                    <a:lnTo>
                      <a:pt x="149" y="592"/>
                    </a:lnTo>
                    <a:lnTo>
                      <a:pt x="153" y="586"/>
                    </a:lnTo>
                    <a:lnTo>
                      <a:pt x="163" y="581"/>
                    </a:lnTo>
                    <a:lnTo>
                      <a:pt x="168" y="575"/>
                    </a:lnTo>
                    <a:lnTo>
                      <a:pt x="172" y="569"/>
                    </a:lnTo>
                    <a:lnTo>
                      <a:pt x="177" y="564"/>
                    </a:lnTo>
                    <a:lnTo>
                      <a:pt x="182" y="558"/>
                    </a:lnTo>
                    <a:lnTo>
                      <a:pt x="187" y="552"/>
                    </a:lnTo>
                    <a:lnTo>
                      <a:pt x="192" y="546"/>
                    </a:lnTo>
                    <a:lnTo>
                      <a:pt x="196" y="535"/>
                    </a:lnTo>
                    <a:lnTo>
                      <a:pt x="201" y="529"/>
                    </a:lnTo>
                    <a:lnTo>
                      <a:pt x="206" y="524"/>
                    </a:lnTo>
                    <a:lnTo>
                      <a:pt x="211" y="512"/>
                    </a:lnTo>
                    <a:lnTo>
                      <a:pt x="216" y="501"/>
                    </a:lnTo>
                    <a:lnTo>
                      <a:pt x="225" y="495"/>
                    </a:lnTo>
                    <a:lnTo>
                      <a:pt x="230" y="484"/>
                    </a:lnTo>
                    <a:lnTo>
                      <a:pt x="235" y="473"/>
                    </a:lnTo>
                    <a:lnTo>
                      <a:pt x="239" y="461"/>
                    </a:lnTo>
                    <a:lnTo>
                      <a:pt x="244" y="444"/>
                    </a:lnTo>
                    <a:lnTo>
                      <a:pt x="249" y="433"/>
                    </a:lnTo>
                    <a:lnTo>
                      <a:pt x="254" y="416"/>
                    </a:lnTo>
                    <a:lnTo>
                      <a:pt x="259" y="399"/>
                    </a:lnTo>
                    <a:lnTo>
                      <a:pt x="263" y="381"/>
                    </a:lnTo>
                    <a:lnTo>
                      <a:pt x="268" y="364"/>
                    </a:lnTo>
                    <a:lnTo>
                      <a:pt x="273" y="342"/>
                    </a:lnTo>
                    <a:lnTo>
                      <a:pt x="278" y="319"/>
                    </a:lnTo>
                    <a:lnTo>
                      <a:pt x="287" y="296"/>
                    </a:lnTo>
                    <a:lnTo>
                      <a:pt x="292" y="273"/>
                    </a:lnTo>
                    <a:lnTo>
                      <a:pt x="297" y="245"/>
                    </a:lnTo>
                    <a:lnTo>
                      <a:pt x="302" y="222"/>
                    </a:lnTo>
                    <a:lnTo>
                      <a:pt x="306" y="194"/>
                    </a:lnTo>
                    <a:lnTo>
                      <a:pt x="311" y="165"/>
                    </a:lnTo>
                    <a:lnTo>
                      <a:pt x="316" y="137"/>
                    </a:lnTo>
                    <a:lnTo>
                      <a:pt x="321" y="108"/>
                    </a:lnTo>
                    <a:lnTo>
                      <a:pt x="326" y="80"/>
                    </a:lnTo>
                    <a:lnTo>
                      <a:pt x="330" y="57"/>
                    </a:lnTo>
                    <a:lnTo>
                      <a:pt x="335" y="40"/>
                    </a:lnTo>
                    <a:lnTo>
                      <a:pt x="340" y="23"/>
                    </a:lnTo>
                    <a:lnTo>
                      <a:pt x="349" y="6"/>
                    </a:lnTo>
                    <a:lnTo>
                      <a:pt x="354" y="0"/>
                    </a:lnTo>
                    <a:lnTo>
                      <a:pt x="359" y="0"/>
                    </a:lnTo>
                    <a:lnTo>
                      <a:pt x="364" y="6"/>
                    </a:lnTo>
                    <a:lnTo>
                      <a:pt x="369" y="23"/>
                    </a:lnTo>
                    <a:lnTo>
                      <a:pt x="373" y="40"/>
                    </a:lnTo>
                    <a:lnTo>
                      <a:pt x="378" y="68"/>
                    </a:lnTo>
                    <a:lnTo>
                      <a:pt x="383" y="97"/>
                    </a:lnTo>
                    <a:lnTo>
                      <a:pt x="388" y="131"/>
                    </a:lnTo>
                    <a:lnTo>
                      <a:pt x="392" y="171"/>
                    </a:lnTo>
                    <a:lnTo>
                      <a:pt x="397" y="216"/>
                    </a:lnTo>
                    <a:lnTo>
                      <a:pt x="402" y="256"/>
                    </a:lnTo>
                    <a:lnTo>
                      <a:pt x="412" y="302"/>
                    </a:lnTo>
                    <a:lnTo>
                      <a:pt x="416" y="347"/>
                    </a:lnTo>
                    <a:lnTo>
                      <a:pt x="421" y="387"/>
                    </a:lnTo>
                    <a:lnTo>
                      <a:pt x="426" y="433"/>
                    </a:lnTo>
                    <a:lnTo>
                      <a:pt x="431" y="473"/>
                    </a:lnTo>
                    <a:lnTo>
                      <a:pt x="435" y="512"/>
                    </a:lnTo>
                    <a:lnTo>
                      <a:pt x="440" y="546"/>
                    </a:lnTo>
                    <a:lnTo>
                      <a:pt x="445" y="586"/>
                    </a:lnTo>
                    <a:lnTo>
                      <a:pt x="450" y="620"/>
                    </a:lnTo>
                    <a:lnTo>
                      <a:pt x="455" y="649"/>
                    </a:lnTo>
                    <a:lnTo>
                      <a:pt x="459" y="683"/>
                    </a:lnTo>
                    <a:lnTo>
                      <a:pt x="464" y="712"/>
                    </a:lnTo>
                    <a:lnTo>
                      <a:pt x="474" y="740"/>
                    </a:lnTo>
                    <a:lnTo>
                      <a:pt x="479" y="763"/>
                    </a:lnTo>
                    <a:lnTo>
                      <a:pt x="483" y="791"/>
                    </a:lnTo>
                    <a:lnTo>
                      <a:pt x="488" y="814"/>
                    </a:lnTo>
                    <a:lnTo>
                      <a:pt x="493" y="837"/>
                    </a:lnTo>
                    <a:lnTo>
                      <a:pt x="498" y="854"/>
                    </a:lnTo>
                    <a:lnTo>
                      <a:pt x="502" y="877"/>
                    </a:lnTo>
                    <a:lnTo>
                      <a:pt x="507" y="894"/>
                    </a:lnTo>
                    <a:lnTo>
                      <a:pt x="512" y="911"/>
                    </a:lnTo>
                    <a:lnTo>
                      <a:pt x="517" y="928"/>
                    </a:lnTo>
                    <a:lnTo>
                      <a:pt x="522" y="945"/>
                    </a:lnTo>
                    <a:lnTo>
                      <a:pt x="526" y="962"/>
                    </a:lnTo>
                    <a:lnTo>
                      <a:pt x="531" y="973"/>
                    </a:lnTo>
                    <a:lnTo>
                      <a:pt x="541" y="990"/>
                    </a:lnTo>
                    <a:lnTo>
                      <a:pt x="545" y="1002"/>
                    </a:lnTo>
                    <a:lnTo>
                      <a:pt x="550" y="1013"/>
                    </a:lnTo>
                    <a:lnTo>
                      <a:pt x="555" y="1030"/>
                    </a:lnTo>
                    <a:lnTo>
                      <a:pt x="560" y="1042"/>
                    </a:lnTo>
                    <a:lnTo>
                      <a:pt x="565" y="1053"/>
                    </a:lnTo>
                    <a:lnTo>
                      <a:pt x="569" y="1064"/>
                    </a:lnTo>
                    <a:lnTo>
                      <a:pt x="574" y="1070"/>
                    </a:lnTo>
                    <a:lnTo>
                      <a:pt x="579" y="1081"/>
                    </a:lnTo>
                    <a:lnTo>
                      <a:pt x="584" y="1093"/>
                    </a:lnTo>
                    <a:lnTo>
                      <a:pt x="589" y="1098"/>
                    </a:lnTo>
                    <a:lnTo>
                      <a:pt x="593" y="1110"/>
                    </a:lnTo>
                    <a:lnTo>
                      <a:pt x="603" y="1116"/>
                    </a:lnTo>
                    <a:lnTo>
                      <a:pt x="608" y="1127"/>
                    </a:lnTo>
                    <a:lnTo>
                      <a:pt x="612" y="1133"/>
                    </a:lnTo>
                    <a:lnTo>
                      <a:pt x="617" y="1144"/>
                    </a:lnTo>
                    <a:lnTo>
                      <a:pt x="622" y="1150"/>
                    </a:lnTo>
                    <a:lnTo>
                      <a:pt x="627" y="1155"/>
                    </a:lnTo>
                    <a:lnTo>
                      <a:pt x="632" y="1167"/>
                    </a:lnTo>
                    <a:lnTo>
                      <a:pt x="636" y="1172"/>
                    </a:lnTo>
                    <a:lnTo>
                      <a:pt x="641" y="1178"/>
                    </a:lnTo>
                    <a:lnTo>
                      <a:pt x="646" y="1184"/>
                    </a:lnTo>
                    <a:lnTo>
                      <a:pt x="651" y="1190"/>
                    </a:lnTo>
                    <a:lnTo>
                      <a:pt x="655" y="1195"/>
                    </a:lnTo>
                    <a:lnTo>
                      <a:pt x="665" y="1201"/>
                    </a:lnTo>
                    <a:lnTo>
                      <a:pt x="670" y="1207"/>
                    </a:lnTo>
                    <a:lnTo>
                      <a:pt x="675" y="1212"/>
                    </a:lnTo>
                    <a:lnTo>
                      <a:pt x="679" y="1218"/>
                    </a:lnTo>
                    <a:lnTo>
                      <a:pt x="684" y="1224"/>
                    </a:lnTo>
                    <a:lnTo>
                      <a:pt x="689" y="1229"/>
                    </a:lnTo>
                    <a:lnTo>
                      <a:pt x="694" y="1235"/>
                    </a:lnTo>
                    <a:lnTo>
                      <a:pt x="699" y="1235"/>
                    </a:lnTo>
                    <a:lnTo>
                      <a:pt x="703" y="1241"/>
                    </a:lnTo>
                    <a:lnTo>
                      <a:pt x="708" y="1246"/>
                    </a:lnTo>
                    <a:lnTo>
                      <a:pt x="713" y="1252"/>
                    </a:lnTo>
                    <a:lnTo>
                      <a:pt x="718" y="1258"/>
                    </a:lnTo>
                    <a:lnTo>
                      <a:pt x="727" y="1258"/>
                    </a:lnTo>
                    <a:lnTo>
                      <a:pt x="732" y="1263"/>
                    </a:lnTo>
                    <a:lnTo>
                      <a:pt x="737" y="1269"/>
                    </a:lnTo>
                    <a:lnTo>
                      <a:pt x="742" y="1269"/>
                    </a:lnTo>
                    <a:lnTo>
                      <a:pt x="746" y="1275"/>
                    </a:lnTo>
                    <a:lnTo>
                      <a:pt x="751" y="1281"/>
                    </a:lnTo>
                    <a:lnTo>
                      <a:pt x="756" y="1281"/>
                    </a:lnTo>
                    <a:lnTo>
                      <a:pt x="761" y="1286"/>
                    </a:lnTo>
                    <a:lnTo>
                      <a:pt x="765" y="1292"/>
                    </a:lnTo>
                    <a:lnTo>
                      <a:pt x="770" y="1292"/>
                    </a:lnTo>
                    <a:lnTo>
                      <a:pt x="775" y="1298"/>
                    </a:lnTo>
                    <a:lnTo>
                      <a:pt x="780" y="1298"/>
                    </a:lnTo>
                    <a:lnTo>
                      <a:pt x="789" y="1303"/>
                    </a:lnTo>
                    <a:lnTo>
                      <a:pt x="794" y="1303"/>
                    </a:lnTo>
                    <a:lnTo>
                      <a:pt x="799" y="1309"/>
                    </a:lnTo>
                    <a:lnTo>
                      <a:pt x="804" y="1309"/>
                    </a:lnTo>
                    <a:lnTo>
                      <a:pt x="808" y="1315"/>
                    </a:lnTo>
                    <a:lnTo>
                      <a:pt x="813" y="1315"/>
                    </a:lnTo>
                    <a:lnTo>
                      <a:pt x="818" y="1320"/>
                    </a:lnTo>
                    <a:lnTo>
                      <a:pt x="823" y="1320"/>
                    </a:lnTo>
                    <a:lnTo>
                      <a:pt x="828" y="1326"/>
                    </a:lnTo>
                    <a:lnTo>
                      <a:pt x="832" y="1326"/>
                    </a:lnTo>
                    <a:lnTo>
                      <a:pt x="837" y="1332"/>
                    </a:lnTo>
                    <a:lnTo>
                      <a:pt x="842" y="1332"/>
                    </a:lnTo>
                    <a:lnTo>
                      <a:pt x="852" y="1337"/>
                    </a:lnTo>
                    <a:lnTo>
                      <a:pt x="856" y="1337"/>
                    </a:lnTo>
                    <a:lnTo>
                      <a:pt x="861" y="1337"/>
                    </a:lnTo>
                    <a:lnTo>
                      <a:pt x="866" y="1343"/>
                    </a:lnTo>
                    <a:lnTo>
                      <a:pt x="871" y="1343"/>
                    </a:lnTo>
                    <a:lnTo>
                      <a:pt x="875" y="1343"/>
                    </a:lnTo>
                    <a:lnTo>
                      <a:pt x="880" y="1349"/>
                    </a:lnTo>
                    <a:lnTo>
                      <a:pt x="885" y="1349"/>
                    </a:lnTo>
                    <a:lnTo>
                      <a:pt x="890" y="1355"/>
                    </a:lnTo>
                    <a:lnTo>
                      <a:pt x="895" y="1355"/>
                    </a:lnTo>
                    <a:lnTo>
                      <a:pt x="899" y="1355"/>
                    </a:lnTo>
                    <a:lnTo>
                      <a:pt x="904" y="1360"/>
                    </a:lnTo>
                    <a:lnTo>
                      <a:pt x="914" y="1360"/>
                    </a:lnTo>
                    <a:lnTo>
                      <a:pt x="918" y="1360"/>
                    </a:lnTo>
                    <a:lnTo>
                      <a:pt x="923" y="1366"/>
                    </a:lnTo>
                    <a:lnTo>
                      <a:pt x="928" y="1366"/>
                    </a:lnTo>
                    <a:lnTo>
                      <a:pt x="933" y="1366"/>
                    </a:lnTo>
                    <a:lnTo>
                      <a:pt x="938" y="1372"/>
                    </a:lnTo>
                    <a:lnTo>
                      <a:pt x="942" y="1372"/>
                    </a:lnTo>
                    <a:lnTo>
                      <a:pt x="947" y="1372"/>
                    </a:lnTo>
                    <a:lnTo>
                      <a:pt x="952" y="1372"/>
                    </a:lnTo>
                    <a:lnTo>
                      <a:pt x="957" y="1377"/>
                    </a:lnTo>
                    <a:lnTo>
                      <a:pt x="962" y="1377"/>
                    </a:lnTo>
                    <a:lnTo>
                      <a:pt x="966" y="1377"/>
                    </a:lnTo>
                    <a:lnTo>
                      <a:pt x="976" y="1377"/>
                    </a:lnTo>
                    <a:lnTo>
                      <a:pt x="981" y="1383"/>
                    </a:lnTo>
                    <a:lnTo>
                      <a:pt x="985" y="1383"/>
                    </a:lnTo>
                    <a:lnTo>
                      <a:pt x="990" y="1383"/>
                    </a:lnTo>
                    <a:lnTo>
                      <a:pt x="995" y="1389"/>
                    </a:lnTo>
                    <a:lnTo>
                      <a:pt x="1000" y="1389"/>
                    </a:lnTo>
                    <a:lnTo>
                      <a:pt x="1005" y="1389"/>
                    </a:lnTo>
                    <a:lnTo>
                      <a:pt x="1009" y="1389"/>
                    </a:lnTo>
                    <a:lnTo>
                      <a:pt x="1014" y="1389"/>
                    </a:lnTo>
                    <a:lnTo>
                      <a:pt x="1019" y="1394"/>
                    </a:lnTo>
                    <a:lnTo>
                      <a:pt x="1024" y="1394"/>
                    </a:lnTo>
                    <a:lnTo>
                      <a:pt x="1028" y="1394"/>
                    </a:lnTo>
                    <a:lnTo>
                      <a:pt x="1038" y="1394"/>
                    </a:lnTo>
                    <a:lnTo>
                      <a:pt x="1043" y="1400"/>
                    </a:lnTo>
                    <a:lnTo>
                      <a:pt x="1048" y="1400"/>
                    </a:lnTo>
                    <a:lnTo>
                      <a:pt x="1052" y="1400"/>
                    </a:lnTo>
                    <a:lnTo>
                      <a:pt x="1057" y="1400"/>
                    </a:lnTo>
                    <a:lnTo>
                      <a:pt x="1062" y="1400"/>
                    </a:lnTo>
                    <a:lnTo>
                      <a:pt x="1067" y="1406"/>
                    </a:lnTo>
                    <a:lnTo>
                      <a:pt x="1072" y="1406"/>
                    </a:lnTo>
                    <a:lnTo>
                      <a:pt x="1076" y="1406"/>
                    </a:lnTo>
                    <a:lnTo>
                      <a:pt x="1081" y="1406"/>
                    </a:lnTo>
                    <a:lnTo>
                      <a:pt x="1086" y="1406"/>
                    </a:lnTo>
                    <a:lnTo>
                      <a:pt x="1091" y="1411"/>
                    </a:lnTo>
                    <a:lnTo>
                      <a:pt x="1095" y="1411"/>
                    </a:lnTo>
                    <a:lnTo>
                      <a:pt x="1105" y="1411"/>
                    </a:lnTo>
                    <a:lnTo>
                      <a:pt x="1110" y="1411"/>
                    </a:lnTo>
                    <a:lnTo>
                      <a:pt x="1115" y="1411"/>
                    </a:lnTo>
                    <a:lnTo>
                      <a:pt x="1119" y="1411"/>
                    </a:lnTo>
                    <a:lnTo>
                      <a:pt x="1124" y="1417"/>
                    </a:lnTo>
                    <a:lnTo>
                      <a:pt x="1129" y="1417"/>
                    </a:lnTo>
                    <a:lnTo>
                      <a:pt x="1134" y="1417"/>
                    </a:lnTo>
                    <a:lnTo>
                      <a:pt x="1138" y="1417"/>
                    </a:lnTo>
                    <a:lnTo>
                      <a:pt x="1143" y="1417"/>
                    </a:lnTo>
                    <a:lnTo>
                      <a:pt x="1148" y="1417"/>
                    </a:lnTo>
                    <a:lnTo>
                      <a:pt x="1153" y="1423"/>
                    </a:lnTo>
                    <a:lnTo>
                      <a:pt x="1158" y="1423"/>
                    </a:lnTo>
                    <a:lnTo>
                      <a:pt x="1167" y="1423"/>
                    </a:lnTo>
                    <a:lnTo>
                      <a:pt x="1172" y="1423"/>
                    </a:lnTo>
                    <a:lnTo>
                      <a:pt x="1177" y="1423"/>
                    </a:lnTo>
                    <a:lnTo>
                      <a:pt x="1182" y="1423"/>
                    </a:lnTo>
                    <a:lnTo>
                      <a:pt x="1186" y="1423"/>
                    </a:lnTo>
                    <a:lnTo>
                      <a:pt x="1191" y="1429"/>
                    </a:lnTo>
                    <a:lnTo>
                      <a:pt x="1196" y="1429"/>
                    </a:lnTo>
                    <a:lnTo>
                      <a:pt x="1201" y="1429"/>
                    </a:lnTo>
                    <a:lnTo>
                      <a:pt x="1205" y="1429"/>
                    </a:lnTo>
                    <a:lnTo>
                      <a:pt x="1210" y="1429"/>
                    </a:lnTo>
                    <a:lnTo>
                      <a:pt x="1215" y="1429"/>
                    </a:lnTo>
                    <a:lnTo>
                      <a:pt x="1220" y="1429"/>
                    </a:lnTo>
                    <a:lnTo>
                      <a:pt x="1229" y="1434"/>
                    </a:lnTo>
                    <a:lnTo>
                      <a:pt x="1234" y="1434"/>
                    </a:lnTo>
                    <a:lnTo>
                      <a:pt x="1239" y="1434"/>
                    </a:lnTo>
                    <a:lnTo>
                      <a:pt x="1244" y="1434"/>
                    </a:lnTo>
                    <a:lnTo>
                      <a:pt x="1248" y="1434"/>
                    </a:lnTo>
                    <a:lnTo>
                      <a:pt x="1253" y="1434"/>
                    </a:lnTo>
                    <a:lnTo>
                      <a:pt x="1258" y="1434"/>
                    </a:lnTo>
                    <a:lnTo>
                      <a:pt x="1263" y="1434"/>
                    </a:lnTo>
                    <a:lnTo>
                      <a:pt x="1268" y="1434"/>
                    </a:lnTo>
                    <a:lnTo>
                      <a:pt x="1272" y="1440"/>
                    </a:lnTo>
                    <a:lnTo>
                      <a:pt x="1277" y="1440"/>
                    </a:lnTo>
                    <a:lnTo>
                      <a:pt x="1282" y="1440"/>
                    </a:lnTo>
                    <a:lnTo>
                      <a:pt x="1291" y="1440"/>
                    </a:lnTo>
                    <a:lnTo>
                      <a:pt x="1296" y="1440"/>
                    </a:lnTo>
                    <a:lnTo>
                      <a:pt x="1301" y="1440"/>
                    </a:lnTo>
                    <a:lnTo>
                      <a:pt x="1306" y="1440"/>
                    </a:lnTo>
                    <a:lnTo>
                      <a:pt x="1311" y="1440"/>
                    </a:lnTo>
                    <a:lnTo>
                      <a:pt x="1315" y="1440"/>
                    </a:lnTo>
                    <a:lnTo>
                      <a:pt x="1320" y="1446"/>
                    </a:lnTo>
                    <a:lnTo>
                      <a:pt x="1325" y="1446"/>
                    </a:lnTo>
                    <a:lnTo>
                      <a:pt x="1330" y="1446"/>
                    </a:lnTo>
                    <a:lnTo>
                      <a:pt x="1335" y="1446"/>
                    </a:lnTo>
                    <a:lnTo>
                      <a:pt x="1339" y="1446"/>
                    </a:lnTo>
                    <a:lnTo>
                      <a:pt x="1344" y="1446"/>
                    </a:lnTo>
                    <a:lnTo>
                      <a:pt x="1354" y="1446"/>
                    </a:lnTo>
                    <a:lnTo>
                      <a:pt x="1358" y="1446"/>
                    </a:lnTo>
                    <a:lnTo>
                      <a:pt x="1363" y="1446"/>
                    </a:lnTo>
                    <a:lnTo>
                      <a:pt x="1368" y="1446"/>
                    </a:lnTo>
                    <a:lnTo>
                      <a:pt x="1373" y="1446"/>
                    </a:lnTo>
                    <a:lnTo>
                      <a:pt x="1378" y="1451"/>
                    </a:lnTo>
                    <a:lnTo>
                      <a:pt x="1382" y="1451"/>
                    </a:lnTo>
                    <a:lnTo>
                      <a:pt x="1387" y="1451"/>
                    </a:lnTo>
                    <a:lnTo>
                      <a:pt x="1392" y="1451"/>
                    </a:lnTo>
                    <a:lnTo>
                      <a:pt x="1397" y="1451"/>
                    </a:lnTo>
                    <a:lnTo>
                      <a:pt x="1401" y="1451"/>
                    </a:lnTo>
                    <a:lnTo>
                      <a:pt x="1406" y="1451"/>
                    </a:lnTo>
                    <a:lnTo>
                      <a:pt x="1416" y="1451"/>
                    </a:lnTo>
                    <a:lnTo>
                      <a:pt x="1421" y="1451"/>
                    </a:lnTo>
                    <a:lnTo>
                      <a:pt x="1425" y="1451"/>
                    </a:lnTo>
                    <a:lnTo>
                      <a:pt x="1430" y="1451"/>
                    </a:lnTo>
                    <a:lnTo>
                      <a:pt x="1435" y="1451"/>
                    </a:lnTo>
                    <a:lnTo>
                      <a:pt x="1440" y="1457"/>
                    </a:lnTo>
                    <a:lnTo>
                      <a:pt x="1445" y="1457"/>
                    </a:lnTo>
                    <a:lnTo>
                      <a:pt x="1449" y="1457"/>
                    </a:lnTo>
                    <a:lnTo>
                      <a:pt x="1454" y="1457"/>
                    </a:lnTo>
                    <a:lnTo>
                      <a:pt x="1459" y="1457"/>
                    </a:lnTo>
                    <a:lnTo>
                      <a:pt x="1464" y="1457"/>
                    </a:lnTo>
                    <a:lnTo>
                      <a:pt x="1468" y="1457"/>
                    </a:lnTo>
                    <a:lnTo>
                      <a:pt x="1478" y="1457"/>
                    </a:lnTo>
                    <a:lnTo>
                      <a:pt x="1483" y="1457"/>
                    </a:lnTo>
                    <a:lnTo>
                      <a:pt x="1488" y="1457"/>
                    </a:lnTo>
                    <a:lnTo>
                      <a:pt x="1492" y="1457"/>
                    </a:lnTo>
                    <a:lnTo>
                      <a:pt x="1497" y="1457"/>
                    </a:lnTo>
                    <a:lnTo>
                      <a:pt x="1502" y="1457"/>
                    </a:lnTo>
                    <a:lnTo>
                      <a:pt x="1507" y="1463"/>
                    </a:lnTo>
                    <a:lnTo>
                      <a:pt x="1511" y="1463"/>
                    </a:lnTo>
                    <a:lnTo>
                      <a:pt x="1516" y="1463"/>
                    </a:lnTo>
                    <a:lnTo>
                      <a:pt x="1521" y="1463"/>
                    </a:lnTo>
                    <a:lnTo>
                      <a:pt x="1526" y="1463"/>
                    </a:lnTo>
                    <a:lnTo>
                      <a:pt x="1531" y="1463"/>
                    </a:lnTo>
                    <a:lnTo>
                      <a:pt x="1540" y="1463"/>
                    </a:lnTo>
                    <a:lnTo>
                      <a:pt x="1545" y="1463"/>
                    </a:lnTo>
                    <a:lnTo>
                      <a:pt x="1550" y="1463"/>
                    </a:lnTo>
                    <a:lnTo>
                      <a:pt x="1555" y="1463"/>
                    </a:lnTo>
                    <a:lnTo>
                      <a:pt x="1559" y="1463"/>
                    </a:lnTo>
                    <a:lnTo>
                      <a:pt x="1564" y="1463"/>
                    </a:lnTo>
                    <a:lnTo>
                      <a:pt x="1569" y="1463"/>
                    </a:lnTo>
                    <a:lnTo>
                      <a:pt x="1574" y="1463"/>
                    </a:lnTo>
                    <a:lnTo>
                      <a:pt x="1578" y="1463"/>
                    </a:lnTo>
                    <a:lnTo>
                      <a:pt x="1583" y="1463"/>
                    </a:lnTo>
                    <a:lnTo>
                      <a:pt x="1588" y="1463"/>
                    </a:lnTo>
                    <a:lnTo>
                      <a:pt x="1593" y="1468"/>
                    </a:lnTo>
                    <a:lnTo>
                      <a:pt x="1598" y="1468"/>
                    </a:lnTo>
                    <a:lnTo>
                      <a:pt x="1607" y="1468"/>
                    </a:lnTo>
                    <a:lnTo>
                      <a:pt x="1612" y="1468"/>
                    </a:lnTo>
                    <a:lnTo>
                      <a:pt x="1617" y="1468"/>
                    </a:lnTo>
                    <a:lnTo>
                      <a:pt x="1621" y="1468"/>
                    </a:lnTo>
                    <a:lnTo>
                      <a:pt x="1626" y="1468"/>
                    </a:lnTo>
                    <a:lnTo>
                      <a:pt x="1631" y="1468"/>
                    </a:lnTo>
                    <a:lnTo>
                      <a:pt x="1636" y="1468"/>
                    </a:lnTo>
                    <a:lnTo>
                      <a:pt x="1641" y="1468"/>
                    </a:lnTo>
                    <a:lnTo>
                      <a:pt x="1645" y="1468"/>
                    </a:lnTo>
                    <a:lnTo>
                      <a:pt x="1650" y="1468"/>
                    </a:lnTo>
                    <a:lnTo>
                      <a:pt x="1655" y="1468"/>
                    </a:lnTo>
                    <a:lnTo>
                      <a:pt x="1660" y="1468"/>
                    </a:lnTo>
                    <a:lnTo>
                      <a:pt x="1669" y="1468"/>
                    </a:lnTo>
                    <a:lnTo>
                      <a:pt x="1674" y="1468"/>
                    </a:lnTo>
                    <a:lnTo>
                      <a:pt x="1679" y="1468"/>
                    </a:lnTo>
                    <a:lnTo>
                      <a:pt x="1684" y="1468"/>
                    </a:lnTo>
                    <a:lnTo>
                      <a:pt x="1688" y="1468"/>
                    </a:lnTo>
                    <a:lnTo>
                      <a:pt x="1693" y="1474"/>
                    </a:lnTo>
                    <a:lnTo>
                      <a:pt x="1698" y="1474"/>
                    </a:lnTo>
                    <a:lnTo>
                      <a:pt x="1703" y="1474"/>
                    </a:lnTo>
                    <a:lnTo>
                      <a:pt x="1708" y="1474"/>
                    </a:lnTo>
                    <a:lnTo>
                      <a:pt x="1712" y="1474"/>
                    </a:lnTo>
                    <a:lnTo>
                      <a:pt x="1717" y="1474"/>
                    </a:lnTo>
                    <a:lnTo>
                      <a:pt x="1722" y="1474"/>
                    </a:lnTo>
                    <a:lnTo>
                      <a:pt x="1731" y="1474"/>
                    </a:lnTo>
                    <a:lnTo>
                      <a:pt x="1736" y="1474"/>
                    </a:lnTo>
                    <a:lnTo>
                      <a:pt x="1741" y="1474"/>
                    </a:lnTo>
                    <a:lnTo>
                      <a:pt x="1746" y="1474"/>
                    </a:lnTo>
                    <a:lnTo>
                      <a:pt x="1751" y="1474"/>
                    </a:lnTo>
                    <a:lnTo>
                      <a:pt x="1755" y="1474"/>
                    </a:lnTo>
                    <a:lnTo>
                      <a:pt x="1760" y="1474"/>
                    </a:lnTo>
                    <a:lnTo>
                      <a:pt x="1765" y="1474"/>
                    </a:lnTo>
                    <a:lnTo>
                      <a:pt x="1770" y="1474"/>
                    </a:lnTo>
                    <a:lnTo>
                      <a:pt x="1774" y="1474"/>
                    </a:lnTo>
                    <a:lnTo>
                      <a:pt x="1779" y="1474"/>
                    </a:lnTo>
                    <a:lnTo>
                      <a:pt x="1784" y="1474"/>
                    </a:lnTo>
                    <a:lnTo>
                      <a:pt x="1794" y="1474"/>
                    </a:lnTo>
                    <a:lnTo>
                      <a:pt x="1798" y="1474"/>
                    </a:lnTo>
                    <a:lnTo>
                      <a:pt x="1803" y="1474"/>
                    </a:lnTo>
                    <a:lnTo>
                      <a:pt x="1808" y="1474"/>
                    </a:lnTo>
                    <a:lnTo>
                      <a:pt x="1813" y="1474"/>
                    </a:lnTo>
                    <a:lnTo>
                      <a:pt x="1818" y="1480"/>
                    </a:lnTo>
                    <a:lnTo>
                      <a:pt x="1822" y="1480"/>
                    </a:lnTo>
                    <a:lnTo>
                      <a:pt x="1827" y="1480"/>
                    </a:lnTo>
                    <a:lnTo>
                      <a:pt x="1832" y="1480"/>
                    </a:lnTo>
                    <a:lnTo>
                      <a:pt x="1837" y="1480"/>
                    </a:lnTo>
                    <a:lnTo>
                      <a:pt x="1841" y="1480"/>
                    </a:lnTo>
                    <a:lnTo>
                      <a:pt x="1846" y="1480"/>
                    </a:lnTo>
                    <a:lnTo>
                      <a:pt x="1856" y="1480"/>
                    </a:lnTo>
                    <a:lnTo>
                      <a:pt x="1861" y="1480"/>
                    </a:lnTo>
                    <a:lnTo>
                      <a:pt x="1865" y="1480"/>
                    </a:lnTo>
                    <a:lnTo>
                      <a:pt x="1870" y="1480"/>
                    </a:lnTo>
                    <a:lnTo>
                      <a:pt x="1875" y="1480"/>
                    </a:lnTo>
                    <a:lnTo>
                      <a:pt x="1880" y="1480"/>
                    </a:lnTo>
                    <a:lnTo>
                      <a:pt x="1884" y="1480"/>
                    </a:lnTo>
                    <a:lnTo>
                      <a:pt x="1889" y="1480"/>
                    </a:lnTo>
                    <a:lnTo>
                      <a:pt x="1894" y="1480"/>
                    </a:lnTo>
                    <a:lnTo>
                      <a:pt x="1899" y="1480"/>
                    </a:lnTo>
                    <a:lnTo>
                      <a:pt x="1904" y="1480"/>
                    </a:lnTo>
                    <a:lnTo>
                      <a:pt x="1908" y="1480"/>
                    </a:lnTo>
                    <a:lnTo>
                      <a:pt x="1918" y="1480"/>
                    </a:lnTo>
                    <a:lnTo>
                      <a:pt x="1923" y="1480"/>
                    </a:lnTo>
                    <a:lnTo>
                      <a:pt x="1928" y="1480"/>
                    </a:lnTo>
                    <a:lnTo>
                      <a:pt x="1932" y="1480"/>
                    </a:lnTo>
                    <a:lnTo>
                      <a:pt x="1937" y="1480"/>
                    </a:lnTo>
                    <a:lnTo>
                      <a:pt x="1942" y="1480"/>
                    </a:lnTo>
                    <a:lnTo>
                      <a:pt x="1947" y="1480"/>
                    </a:lnTo>
                    <a:lnTo>
                      <a:pt x="1951" y="1480"/>
                    </a:lnTo>
                    <a:lnTo>
                      <a:pt x="1956" y="1480"/>
                    </a:lnTo>
                    <a:lnTo>
                      <a:pt x="1961" y="1480"/>
                    </a:lnTo>
                    <a:lnTo>
                      <a:pt x="1966" y="1480"/>
                    </a:lnTo>
                    <a:lnTo>
                      <a:pt x="1971" y="1485"/>
                    </a:lnTo>
                    <a:lnTo>
                      <a:pt x="1980" y="1485"/>
                    </a:lnTo>
                    <a:lnTo>
                      <a:pt x="1985" y="1485"/>
                    </a:lnTo>
                    <a:lnTo>
                      <a:pt x="1990" y="1485"/>
                    </a:lnTo>
                    <a:lnTo>
                      <a:pt x="1994" y="1485"/>
                    </a:lnTo>
                    <a:lnTo>
                      <a:pt x="1999" y="1485"/>
                    </a:lnTo>
                    <a:lnTo>
                      <a:pt x="2004" y="1485"/>
                    </a:lnTo>
                    <a:lnTo>
                      <a:pt x="2009" y="1485"/>
                    </a:lnTo>
                    <a:lnTo>
                      <a:pt x="2014" y="1485"/>
                    </a:lnTo>
                    <a:lnTo>
                      <a:pt x="2018" y="1485"/>
                    </a:lnTo>
                    <a:lnTo>
                      <a:pt x="2023" y="1485"/>
                    </a:lnTo>
                    <a:lnTo>
                      <a:pt x="2028" y="1485"/>
                    </a:lnTo>
                    <a:lnTo>
                      <a:pt x="2033" y="1485"/>
                    </a:lnTo>
                    <a:lnTo>
                      <a:pt x="2042" y="1485"/>
                    </a:lnTo>
                    <a:lnTo>
                      <a:pt x="2047" y="1485"/>
                    </a:lnTo>
                    <a:lnTo>
                      <a:pt x="2052" y="1485"/>
                    </a:lnTo>
                    <a:lnTo>
                      <a:pt x="2057" y="1485"/>
                    </a:lnTo>
                    <a:lnTo>
                      <a:pt x="2061" y="1485"/>
                    </a:lnTo>
                    <a:lnTo>
                      <a:pt x="2066" y="1485"/>
                    </a:lnTo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245480" y="5950080"/>
                <a:ext cx="419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32" name=""/>
                  <p:cNvSpPr txBox="1"/>
                  <p:nvPr/>
                </p:nvSpPr>
                <p:spPr>
                  <a:xfrm>
                    <a:off x="754200" y="2405160"/>
                    <a:ext cx="3497040" cy="63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Ω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33" name=""/>
              <p:cNvSpPr/>
              <p:nvPr/>
            </p:nvSpPr>
            <p:spPr>
              <a:xfrm>
                <a:off x="208080" y="3400560"/>
                <a:ext cx="554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[s]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4" name=""/>
          <p:cNvGrpSpPr/>
          <p:nvPr/>
        </p:nvGrpSpPr>
        <p:grpSpPr>
          <a:xfrm>
            <a:off x="3987720" y="2414520"/>
            <a:ext cx="5131080" cy="4460040"/>
            <a:chOff x="3987720" y="2414520"/>
            <a:chExt cx="5131080" cy="4460040"/>
          </a:xfrm>
        </p:grpSpPr>
        <p:sp>
          <p:nvSpPr>
            <p:cNvPr id="1835" name=""/>
            <p:cNvSpPr/>
            <p:nvPr/>
          </p:nvSpPr>
          <p:spPr>
            <a:xfrm>
              <a:off x="8724960" y="5991120"/>
              <a:ext cx="39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268960" y="5964120"/>
              <a:ext cx="33019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V="1">
              <a:off x="5268960" y="2871720"/>
              <a:ext cx="0" cy="3092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8570880" y="59641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268960" y="5964120"/>
              <a:ext cx="33019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5268960" y="2871720"/>
              <a:ext cx="0" cy="3092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268960" y="596412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V="1">
              <a:off x="5268960" y="5927400"/>
              <a:ext cx="0" cy="36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5932440" y="5927400"/>
              <a:ext cx="0" cy="36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6588000" y="5927400"/>
              <a:ext cx="0" cy="36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7251840" y="5927400"/>
              <a:ext cx="0" cy="36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V="1">
              <a:off x="7907400" y="5927400"/>
              <a:ext cx="0" cy="36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8570880" y="5927400"/>
              <a:ext cx="0" cy="36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8" name=""/>
            <p:cNvGrpSpPr/>
            <p:nvPr/>
          </p:nvGrpSpPr>
          <p:grpSpPr>
            <a:xfrm>
              <a:off x="5049000" y="5991120"/>
              <a:ext cx="3654720" cy="458280"/>
              <a:chOff x="5049000" y="5991120"/>
              <a:chExt cx="3654720" cy="458280"/>
            </a:xfrm>
          </p:grpSpPr>
          <p:sp>
            <p:nvSpPr>
              <p:cNvPr id="1849" name=""/>
              <p:cNvSpPr/>
              <p:nvPr/>
            </p:nvSpPr>
            <p:spPr>
              <a:xfrm>
                <a:off x="5049000" y="60372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643720" y="5991120"/>
                <a:ext cx="706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2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299280" y="5991120"/>
                <a:ext cx="706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4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962760" y="5991120"/>
                <a:ext cx="706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6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618680" y="5991120"/>
                <a:ext cx="706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8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350920" y="5991120"/>
                <a:ext cx="352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5" name=""/>
            <p:cNvSpPr/>
            <p:nvPr/>
          </p:nvSpPr>
          <p:spPr>
            <a:xfrm>
              <a:off x="5268960" y="596412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8540640" y="596412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268960" y="551988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268960" y="508464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268960" y="46404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268960" y="41958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268960" y="375120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268960" y="3316320"/>
              <a:ext cx="30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3" name=""/>
            <p:cNvGrpSpPr/>
            <p:nvPr/>
          </p:nvGrpSpPr>
          <p:grpSpPr>
            <a:xfrm>
              <a:off x="4817520" y="3095640"/>
              <a:ext cx="468360" cy="3045240"/>
              <a:chOff x="4817520" y="3095640"/>
              <a:chExt cx="468360" cy="3045240"/>
            </a:xfrm>
          </p:grpSpPr>
          <p:sp>
            <p:nvSpPr>
              <p:cNvPr id="1864" name=""/>
              <p:cNvSpPr/>
              <p:nvPr/>
            </p:nvSpPr>
            <p:spPr>
              <a:xfrm>
                <a:off x="4901400" y="57434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901400" y="48639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901400" y="39751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817520" y="309564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>
              <a:off x="5268960" y="5964120"/>
              <a:ext cx="36464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5268960" y="2871720"/>
              <a:ext cx="0" cy="3092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268960" y="596412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5932440" y="3123720"/>
              <a:ext cx="327240" cy="2840040"/>
              <a:chOff x="5932440" y="3123720"/>
              <a:chExt cx="327240" cy="2840040"/>
            </a:xfrm>
          </p:grpSpPr>
          <p:sp>
            <p:nvSpPr>
              <p:cNvPr id="1872" name=""/>
              <p:cNvSpPr/>
              <p:nvPr/>
            </p:nvSpPr>
            <p:spPr>
              <a:xfrm flipV="1">
                <a:off x="5932440" y="3123720"/>
                <a:ext cx="0" cy="2840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6259680" y="3123720"/>
                <a:ext cx="0" cy="2840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5268960" y="3262320"/>
              <a:ext cx="3189240" cy="2540160"/>
            </a:xfrm>
            <a:custGeom>
              <a:avLst/>
              <a:gdLst/>
              <a:ahLst/>
              <a:rect l="l" t="t" r="r" b="b"/>
              <a:pathLst>
                <a:path w="2009" h="1600">
                  <a:moveTo>
                    <a:pt x="0" y="834"/>
                  </a:moveTo>
                  <a:lnTo>
                    <a:pt x="5" y="834"/>
                  </a:lnTo>
                  <a:lnTo>
                    <a:pt x="9" y="834"/>
                  </a:lnTo>
                  <a:lnTo>
                    <a:pt x="14" y="834"/>
                  </a:lnTo>
                  <a:lnTo>
                    <a:pt x="19" y="834"/>
                  </a:lnTo>
                  <a:lnTo>
                    <a:pt x="24" y="834"/>
                  </a:lnTo>
                  <a:lnTo>
                    <a:pt x="29" y="834"/>
                  </a:lnTo>
                  <a:lnTo>
                    <a:pt x="33" y="834"/>
                  </a:lnTo>
                  <a:lnTo>
                    <a:pt x="38" y="834"/>
                  </a:lnTo>
                  <a:lnTo>
                    <a:pt x="43" y="828"/>
                  </a:lnTo>
                  <a:lnTo>
                    <a:pt x="48" y="828"/>
                  </a:lnTo>
                  <a:lnTo>
                    <a:pt x="53" y="828"/>
                  </a:lnTo>
                  <a:lnTo>
                    <a:pt x="58" y="828"/>
                  </a:lnTo>
                  <a:lnTo>
                    <a:pt x="62" y="828"/>
                  </a:lnTo>
                  <a:lnTo>
                    <a:pt x="67" y="828"/>
                  </a:lnTo>
                  <a:lnTo>
                    <a:pt x="72" y="822"/>
                  </a:lnTo>
                  <a:lnTo>
                    <a:pt x="77" y="822"/>
                  </a:lnTo>
                  <a:lnTo>
                    <a:pt x="82" y="822"/>
                  </a:lnTo>
                  <a:lnTo>
                    <a:pt x="86" y="822"/>
                  </a:lnTo>
                  <a:lnTo>
                    <a:pt x="91" y="816"/>
                  </a:lnTo>
                  <a:lnTo>
                    <a:pt x="96" y="816"/>
                  </a:lnTo>
                  <a:lnTo>
                    <a:pt x="101" y="816"/>
                  </a:lnTo>
                  <a:lnTo>
                    <a:pt x="106" y="811"/>
                  </a:lnTo>
                  <a:lnTo>
                    <a:pt x="110" y="811"/>
                  </a:lnTo>
                  <a:lnTo>
                    <a:pt x="115" y="811"/>
                  </a:lnTo>
                  <a:lnTo>
                    <a:pt x="120" y="805"/>
                  </a:lnTo>
                  <a:lnTo>
                    <a:pt x="125" y="805"/>
                  </a:lnTo>
                  <a:lnTo>
                    <a:pt x="130" y="799"/>
                  </a:lnTo>
                  <a:lnTo>
                    <a:pt x="134" y="799"/>
                  </a:lnTo>
                  <a:lnTo>
                    <a:pt x="139" y="794"/>
                  </a:lnTo>
                  <a:lnTo>
                    <a:pt x="144" y="794"/>
                  </a:lnTo>
                  <a:lnTo>
                    <a:pt x="149" y="788"/>
                  </a:lnTo>
                  <a:lnTo>
                    <a:pt x="154" y="788"/>
                  </a:lnTo>
                  <a:lnTo>
                    <a:pt x="158" y="782"/>
                  </a:lnTo>
                  <a:lnTo>
                    <a:pt x="163" y="782"/>
                  </a:lnTo>
                  <a:lnTo>
                    <a:pt x="168" y="777"/>
                  </a:lnTo>
                  <a:lnTo>
                    <a:pt x="173" y="777"/>
                  </a:lnTo>
                  <a:lnTo>
                    <a:pt x="173" y="771"/>
                  </a:lnTo>
                  <a:lnTo>
                    <a:pt x="178" y="765"/>
                  </a:lnTo>
                  <a:lnTo>
                    <a:pt x="182" y="765"/>
                  </a:lnTo>
                  <a:lnTo>
                    <a:pt x="187" y="759"/>
                  </a:lnTo>
                  <a:lnTo>
                    <a:pt x="192" y="754"/>
                  </a:lnTo>
                  <a:lnTo>
                    <a:pt x="197" y="754"/>
                  </a:lnTo>
                  <a:lnTo>
                    <a:pt x="197" y="748"/>
                  </a:lnTo>
                  <a:lnTo>
                    <a:pt x="202" y="742"/>
                  </a:lnTo>
                  <a:lnTo>
                    <a:pt x="206" y="742"/>
                  </a:lnTo>
                  <a:lnTo>
                    <a:pt x="211" y="737"/>
                  </a:lnTo>
                  <a:lnTo>
                    <a:pt x="216" y="731"/>
                  </a:lnTo>
                  <a:lnTo>
                    <a:pt x="221" y="725"/>
                  </a:lnTo>
                  <a:lnTo>
                    <a:pt x="226" y="719"/>
                  </a:lnTo>
                  <a:lnTo>
                    <a:pt x="230" y="714"/>
                  </a:lnTo>
                  <a:lnTo>
                    <a:pt x="235" y="708"/>
                  </a:lnTo>
                  <a:lnTo>
                    <a:pt x="240" y="702"/>
                  </a:lnTo>
                  <a:lnTo>
                    <a:pt x="245" y="697"/>
                  </a:lnTo>
                  <a:lnTo>
                    <a:pt x="250" y="691"/>
                  </a:lnTo>
                  <a:lnTo>
                    <a:pt x="250" y="685"/>
                  </a:lnTo>
                  <a:lnTo>
                    <a:pt x="254" y="674"/>
                  </a:lnTo>
                  <a:lnTo>
                    <a:pt x="259" y="668"/>
                  </a:lnTo>
                  <a:lnTo>
                    <a:pt x="264" y="662"/>
                  </a:lnTo>
                  <a:lnTo>
                    <a:pt x="269" y="657"/>
                  </a:lnTo>
                  <a:lnTo>
                    <a:pt x="274" y="645"/>
                  </a:lnTo>
                  <a:lnTo>
                    <a:pt x="278" y="639"/>
                  </a:lnTo>
                  <a:lnTo>
                    <a:pt x="278" y="634"/>
                  </a:lnTo>
                  <a:lnTo>
                    <a:pt x="283" y="622"/>
                  </a:lnTo>
                  <a:lnTo>
                    <a:pt x="288" y="617"/>
                  </a:lnTo>
                  <a:lnTo>
                    <a:pt x="293" y="605"/>
                  </a:lnTo>
                  <a:lnTo>
                    <a:pt x="298" y="594"/>
                  </a:lnTo>
                  <a:lnTo>
                    <a:pt x="302" y="582"/>
                  </a:lnTo>
                  <a:lnTo>
                    <a:pt x="302" y="577"/>
                  </a:lnTo>
                  <a:lnTo>
                    <a:pt x="307" y="565"/>
                  </a:lnTo>
                  <a:lnTo>
                    <a:pt x="312" y="554"/>
                  </a:lnTo>
                  <a:lnTo>
                    <a:pt x="317" y="537"/>
                  </a:lnTo>
                  <a:lnTo>
                    <a:pt x="322" y="525"/>
                  </a:lnTo>
                  <a:lnTo>
                    <a:pt x="327" y="514"/>
                  </a:lnTo>
                  <a:lnTo>
                    <a:pt x="331" y="497"/>
                  </a:lnTo>
                  <a:lnTo>
                    <a:pt x="331" y="485"/>
                  </a:lnTo>
                  <a:lnTo>
                    <a:pt x="336" y="468"/>
                  </a:lnTo>
                  <a:lnTo>
                    <a:pt x="341" y="451"/>
                  </a:lnTo>
                  <a:lnTo>
                    <a:pt x="346" y="434"/>
                  </a:lnTo>
                  <a:lnTo>
                    <a:pt x="351" y="417"/>
                  </a:lnTo>
                  <a:lnTo>
                    <a:pt x="355" y="400"/>
                  </a:lnTo>
                  <a:lnTo>
                    <a:pt x="355" y="382"/>
                  </a:lnTo>
                  <a:lnTo>
                    <a:pt x="360" y="360"/>
                  </a:lnTo>
                  <a:lnTo>
                    <a:pt x="365" y="342"/>
                  </a:lnTo>
                  <a:lnTo>
                    <a:pt x="370" y="320"/>
                  </a:lnTo>
                  <a:lnTo>
                    <a:pt x="375" y="297"/>
                  </a:lnTo>
                  <a:lnTo>
                    <a:pt x="379" y="274"/>
                  </a:lnTo>
                  <a:lnTo>
                    <a:pt x="379" y="251"/>
                  </a:lnTo>
                  <a:lnTo>
                    <a:pt x="384" y="228"/>
                  </a:lnTo>
                  <a:lnTo>
                    <a:pt x="389" y="205"/>
                  </a:lnTo>
                  <a:lnTo>
                    <a:pt x="394" y="182"/>
                  </a:lnTo>
                  <a:lnTo>
                    <a:pt x="399" y="160"/>
                  </a:lnTo>
                  <a:lnTo>
                    <a:pt x="403" y="137"/>
                  </a:lnTo>
                  <a:lnTo>
                    <a:pt x="408" y="114"/>
                  </a:lnTo>
                  <a:lnTo>
                    <a:pt x="408" y="91"/>
                  </a:lnTo>
                  <a:lnTo>
                    <a:pt x="413" y="74"/>
                  </a:lnTo>
                  <a:lnTo>
                    <a:pt x="418" y="57"/>
                  </a:lnTo>
                  <a:lnTo>
                    <a:pt x="423" y="40"/>
                  </a:lnTo>
                  <a:lnTo>
                    <a:pt x="427" y="23"/>
                  </a:lnTo>
                  <a:lnTo>
                    <a:pt x="432" y="11"/>
                  </a:lnTo>
                  <a:lnTo>
                    <a:pt x="432" y="5"/>
                  </a:lnTo>
                  <a:lnTo>
                    <a:pt x="437" y="0"/>
                  </a:lnTo>
                  <a:lnTo>
                    <a:pt x="442" y="0"/>
                  </a:lnTo>
                  <a:lnTo>
                    <a:pt x="447" y="0"/>
                  </a:lnTo>
                  <a:lnTo>
                    <a:pt x="451" y="11"/>
                  </a:lnTo>
                  <a:lnTo>
                    <a:pt x="456" y="17"/>
                  </a:lnTo>
                  <a:lnTo>
                    <a:pt x="461" y="34"/>
                  </a:lnTo>
                  <a:lnTo>
                    <a:pt x="461" y="45"/>
                  </a:lnTo>
                  <a:lnTo>
                    <a:pt x="466" y="68"/>
                  </a:lnTo>
                  <a:lnTo>
                    <a:pt x="471" y="91"/>
                  </a:lnTo>
                  <a:lnTo>
                    <a:pt x="475" y="114"/>
                  </a:lnTo>
                  <a:lnTo>
                    <a:pt x="480" y="142"/>
                  </a:lnTo>
                  <a:lnTo>
                    <a:pt x="485" y="171"/>
                  </a:lnTo>
                  <a:lnTo>
                    <a:pt x="485" y="200"/>
                  </a:lnTo>
                  <a:lnTo>
                    <a:pt x="490" y="234"/>
                  </a:lnTo>
                  <a:lnTo>
                    <a:pt x="495" y="262"/>
                  </a:lnTo>
                  <a:lnTo>
                    <a:pt x="499" y="297"/>
                  </a:lnTo>
                  <a:lnTo>
                    <a:pt x="504" y="331"/>
                  </a:lnTo>
                  <a:lnTo>
                    <a:pt x="509" y="365"/>
                  </a:lnTo>
                  <a:lnTo>
                    <a:pt x="514" y="394"/>
                  </a:lnTo>
                  <a:lnTo>
                    <a:pt x="514" y="428"/>
                  </a:lnTo>
                  <a:lnTo>
                    <a:pt x="519" y="462"/>
                  </a:lnTo>
                  <a:lnTo>
                    <a:pt x="523" y="491"/>
                  </a:lnTo>
                  <a:lnTo>
                    <a:pt x="528" y="519"/>
                  </a:lnTo>
                  <a:lnTo>
                    <a:pt x="533" y="548"/>
                  </a:lnTo>
                  <a:lnTo>
                    <a:pt x="538" y="577"/>
                  </a:lnTo>
                  <a:lnTo>
                    <a:pt x="538" y="605"/>
                  </a:lnTo>
                  <a:lnTo>
                    <a:pt x="543" y="634"/>
                  </a:lnTo>
                  <a:lnTo>
                    <a:pt x="547" y="657"/>
                  </a:lnTo>
                  <a:lnTo>
                    <a:pt x="552" y="685"/>
                  </a:lnTo>
                  <a:lnTo>
                    <a:pt x="557" y="708"/>
                  </a:lnTo>
                  <a:lnTo>
                    <a:pt x="562" y="731"/>
                  </a:lnTo>
                  <a:lnTo>
                    <a:pt x="567" y="754"/>
                  </a:lnTo>
                  <a:lnTo>
                    <a:pt x="567" y="777"/>
                  </a:lnTo>
                  <a:lnTo>
                    <a:pt x="571" y="794"/>
                  </a:lnTo>
                  <a:lnTo>
                    <a:pt x="576" y="816"/>
                  </a:lnTo>
                  <a:lnTo>
                    <a:pt x="581" y="834"/>
                  </a:lnTo>
                  <a:lnTo>
                    <a:pt x="586" y="851"/>
                  </a:lnTo>
                  <a:lnTo>
                    <a:pt x="591" y="868"/>
                  </a:lnTo>
                  <a:lnTo>
                    <a:pt x="591" y="885"/>
                  </a:lnTo>
                  <a:lnTo>
                    <a:pt x="596" y="902"/>
                  </a:lnTo>
                  <a:lnTo>
                    <a:pt x="600" y="919"/>
                  </a:lnTo>
                  <a:lnTo>
                    <a:pt x="605" y="936"/>
                  </a:lnTo>
                  <a:lnTo>
                    <a:pt x="610" y="948"/>
                  </a:lnTo>
                  <a:lnTo>
                    <a:pt x="615" y="965"/>
                  </a:lnTo>
                  <a:lnTo>
                    <a:pt x="620" y="976"/>
                  </a:lnTo>
                  <a:lnTo>
                    <a:pt x="620" y="988"/>
                  </a:lnTo>
                  <a:lnTo>
                    <a:pt x="624" y="999"/>
                  </a:lnTo>
                  <a:lnTo>
                    <a:pt x="629" y="1016"/>
                  </a:lnTo>
                  <a:lnTo>
                    <a:pt x="634" y="1028"/>
                  </a:lnTo>
                  <a:lnTo>
                    <a:pt x="639" y="1039"/>
                  </a:lnTo>
                  <a:lnTo>
                    <a:pt x="644" y="1051"/>
                  </a:lnTo>
                  <a:lnTo>
                    <a:pt x="644" y="1062"/>
                  </a:lnTo>
                  <a:lnTo>
                    <a:pt x="648" y="1068"/>
                  </a:lnTo>
                  <a:lnTo>
                    <a:pt x="653" y="1079"/>
                  </a:lnTo>
                  <a:lnTo>
                    <a:pt x="658" y="1091"/>
                  </a:lnTo>
                  <a:lnTo>
                    <a:pt x="663" y="1102"/>
                  </a:lnTo>
                  <a:lnTo>
                    <a:pt x="668" y="1108"/>
                  </a:lnTo>
                  <a:lnTo>
                    <a:pt x="672" y="1119"/>
                  </a:lnTo>
                  <a:lnTo>
                    <a:pt x="672" y="1125"/>
                  </a:lnTo>
                  <a:lnTo>
                    <a:pt x="677" y="1136"/>
                  </a:lnTo>
                  <a:lnTo>
                    <a:pt x="682" y="1142"/>
                  </a:lnTo>
                  <a:lnTo>
                    <a:pt x="687" y="1153"/>
                  </a:lnTo>
                  <a:lnTo>
                    <a:pt x="692" y="1159"/>
                  </a:lnTo>
                  <a:lnTo>
                    <a:pt x="696" y="1165"/>
                  </a:lnTo>
                  <a:lnTo>
                    <a:pt x="696" y="1176"/>
                  </a:lnTo>
                  <a:lnTo>
                    <a:pt x="701" y="1182"/>
                  </a:lnTo>
                  <a:lnTo>
                    <a:pt x="706" y="1188"/>
                  </a:lnTo>
                  <a:lnTo>
                    <a:pt x="711" y="1193"/>
                  </a:lnTo>
                  <a:lnTo>
                    <a:pt x="716" y="1205"/>
                  </a:lnTo>
                  <a:lnTo>
                    <a:pt x="720" y="1211"/>
                  </a:lnTo>
                  <a:lnTo>
                    <a:pt x="725" y="1216"/>
                  </a:lnTo>
                  <a:lnTo>
                    <a:pt x="725" y="1222"/>
                  </a:lnTo>
                  <a:lnTo>
                    <a:pt x="730" y="1228"/>
                  </a:lnTo>
                  <a:lnTo>
                    <a:pt x="735" y="1233"/>
                  </a:lnTo>
                  <a:lnTo>
                    <a:pt x="740" y="1239"/>
                  </a:lnTo>
                  <a:lnTo>
                    <a:pt x="744" y="1245"/>
                  </a:lnTo>
                  <a:lnTo>
                    <a:pt x="749" y="1251"/>
                  </a:lnTo>
                  <a:lnTo>
                    <a:pt x="749" y="1256"/>
                  </a:lnTo>
                  <a:lnTo>
                    <a:pt x="754" y="1262"/>
                  </a:lnTo>
                  <a:lnTo>
                    <a:pt x="759" y="1268"/>
                  </a:lnTo>
                  <a:lnTo>
                    <a:pt x="764" y="1273"/>
                  </a:lnTo>
                  <a:lnTo>
                    <a:pt x="768" y="1273"/>
                  </a:lnTo>
                  <a:lnTo>
                    <a:pt x="773" y="1279"/>
                  </a:lnTo>
                  <a:lnTo>
                    <a:pt x="778" y="1285"/>
                  </a:lnTo>
                  <a:lnTo>
                    <a:pt x="778" y="1291"/>
                  </a:lnTo>
                  <a:lnTo>
                    <a:pt x="783" y="1296"/>
                  </a:lnTo>
                  <a:lnTo>
                    <a:pt x="788" y="1302"/>
                  </a:lnTo>
                  <a:lnTo>
                    <a:pt x="792" y="1302"/>
                  </a:lnTo>
                  <a:lnTo>
                    <a:pt x="797" y="1308"/>
                  </a:lnTo>
                  <a:lnTo>
                    <a:pt x="802" y="1313"/>
                  </a:lnTo>
                  <a:lnTo>
                    <a:pt x="802" y="1319"/>
                  </a:lnTo>
                  <a:lnTo>
                    <a:pt x="807" y="1319"/>
                  </a:lnTo>
                  <a:lnTo>
                    <a:pt x="812" y="1325"/>
                  </a:lnTo>
                  <a:lnTo>
                    <a:pt x="816" y="1331"/>
                  </a:lnTo>
                  <a:lnTo>
                    <a:pt x="821" y="1331"/>
                  </a:lnTo>
                  <a:lnTo>
                    <a:pt x="826" y="1336"/>
                  </a:lnTo>
                  <a:lnTo>
                    <a:pt x="831" y="1342"/>
                  </a:lnTo>
                  <a:lnTo>
                    <a:pt x="836" y="1348"/>
                  </a:lnTo>
                  <a:lnTo>
                    <a:pt x="840" y="1348"/>
                  </a:lnTo>
                  <a:lnTo>
                    <a:pt x="845" y="1353"/>
                  </a:lnTo>
                  <a:lnTo>
                    <a:pt x="850" y="1359"/>
                  </a:lnTo>
                  <a:lnTo>
                    <a:pt x="855" y="1359"/>
                  </a:lnTo>
                  <a:lnTo>
                    <a:pt x="855" y="1365"/>
                  </a:lnTo>
                  <a:lnTo>
                    <a:pt x="860" y="1365"/>
                  </a:lnTo>
                  <a:lnTo>
                    <a:pt x="865" y="1371"/>
                  </a:lnTo>
                  <a:lnTo>
                    <a:pt x="869" y="1371"/>
                  </a:lnTo>
                  <a:lnTo>
                    <a:pt x="874" y="1376"/>
                  </a:lnTo>
                  <a:lnTo>
                    <a:pt x="879" y="1376"/>
                  </a:lnTo>
                  <a:lnTo>
                    <a:pt x="884" y="1382"/>
                  </a:lnTo>
                  <a:lnTo>
                    <a:pt x="889" y="1388"/>
                  </a:lnTo>
                  <a:lnTo>
                    <a:pt x="893" y="1388"/>
                  </a:lnTo>
                  <a:lnTo>
                    <a:pt x="898" y="1393"/>
                  </a:lnTo>
                  <a:lnTo>
                    <a:pt x="903" y="1393"/>
                  </a:lnTo>
                  <a:lnTo>
                    <a:pt x="908" y="1399"/>
                  </a:lnTo>
                  <a:lnTo>
                    <a:pt x="913" y="1405"/>
                  </a:lnTo>
                  <a:lnTo>
                    <a:pt x="917" y="1405"/>
                  </a:lnTo>
                  <a:lnTo>
                    <a:pt x="922" y="1411"/>
                  </a:lnTo>
                  <a:lnTo>
                    <a:pt x="927" y="1411"/>
                  </a:lnTo>
                  <a:lnTo>
                    <a:pt x="932" y="1411"/>
                  </a:lnTo>
                  <a:lnTo>
                    <a:pt x="937" y="1416"/>
                  </a:lnTo>
                  <a:lnTo>
                    <a:pt x="941" y="1422"/>
                  </a:lnTo>
                  <a:lnTo>
                    <a:pt x="946" y="1422"/>
                  </a:lnTo>
                  <a:lnTo>
                    <a:pt x="951" y="1422"/>
                  </a:lnTo>
                  <a:lnTo>
                    <a:pt x="956" y="1428"/>
                  </a:lnTo>
                  <a:lnTo>
                    <a:pt x="961" y="1428"/>
                  </a:lnTo>
                  <a:lnTo>
                    <a:pt x="961" y="1433"/>
                  </a:lnTo>
                  <a:lnTo>
                    <a:pt x="965" y="1433"/>
                  </a:lnTo>
                  <a:lnTo>
                    <a:pt x="970" y="1433"/>
                  </a:lnTo>
                  <a:lnTo>
                    <a:pt x="975" y="1439"/>
                  </a:lnTo>
                  <a:lnTo>
                    <a:pt x="980" y="1439"/>
                  </a:lnTo>
                  <a:lnTo>
                    <a:pt x="985" y="1439"/>
                  </a:lnTo>
                  <a:lnTo>
                    <a:pt x="989" y="1445"/>
                  </a:lnTo>
                  <a:lnTo>
                    <a:pt x="994" y="1445"/>
                  </a:lnTo>
                  <a:lnTo>
                    <a:pt x="999" y="1451"/>
                  </a:lnTo>
                  <a:lnTo>
                    <a:pt x="1004" y="1451"/>
                  </a:lnTo>
                  <a:lnTo>
                    <a:pt x="1009" y="1451"/>
                  </a:lnTo>
                  <a:lnTo>
                    <a:pt x="1013" y="1456"/>
                  </a:lnTo>
                  <a:lnTo>
                    <a:pt x="1018" y="1456"/>
                  </a:lnTo>
                  <a:lnTo>
                    <a:pt x="1023" y="1462"/>
                  </a:lnTo>
                  <a:lnTo>
                    <a:pt x="1028" y="1462"/>
                  </a:lnTo>
                  <a:lnTo>
                    <a:pt x="1033" y="1462"/>
                  </a:lnTo>
                  <a:lnTo>
                    <a:pt x="1037" y="1462"/>
                  </a:lnTo>
                  <a:lnTo>
                    <a:pt x="1042" y="1468"/>
                  </a:lnTo>
                  <a:lnTo>
                    <a:pt x="1047" y="1468"/>
                  </a:lnTo>
                  <a:lnTo>
                    <a:pt x="1052" y="1468"/>
                  </a:lnTo>
                  <a:lnTo>
                    <a:pt x="1057" y="1473"/>
                  </a:lnTo>
                  <a:lnTo>
                    <a:pt x="1061" y="1473"/>
                  </a:lnTo>
                  <a:lnTo>
                    <a:pt x="1066" y="1473"/>
                  </a:lnTo>
                  <a:lnTo>
                    <a:pt x="1066" y="1479"/>
                  </a:lnTo>
                  <a:lnTo>
                    <a:pt x="1071" y="1479"/>
                  </a:lnTo>
                  <a:lnTo>
                    <a:pt x="1076" y="1479"/>
                  </a:lnTo>
                  <a:lnTo>
                    <a:pt x="1081" y="1479"/>
                  </a:lnTo>
                  <a:lnTo>
                    <a:pt x="1085" y="1485"/>
                  </a:lnTo>
                  <a:lnTo>
                    <a:pt x="1090" y="1485"/>
                  </a:lnTo>
                  <a:lnTo>
                    <a:pt x="1095" y="1485"/>
                  </a:lnTo>
                  <a:lnTo>
                    <a:pt x="1100" y="1485"/>
                  </a:lnTo>
                  <a:lnTo>
                    <a:pt x="1105" y="1490"/>
                  </a:lnTo>
                  <a:lnTo>
                    <a:pt x="1109" y="1490"/>
                  </a:lnTo>
                  <a:lnTo>
                    <a:pt x="1114" y="1490"/>
                  </a:lnTo>
                  <a:lnTo>
                    <a:pt x="1119" y="1490"/>
                  </a:lnTo>
                  <a:lnTo>
                    <a:pt x="1119" y="1496"/>
                  </a:lnTo>
                  <a:lnTo>
                    <a:pt x="1124" y="1496"/>
                  </a:lnTo>
                  <a:lnTo>
                    <a:pt x="1129" y="1496"/>
                  </a:lnTo>
                  <a:lnTo>
                    <a:pt x="1134" y="1496"/>
                  </a:lnTo>
                  <a:lnTo>
                    <a:pt x="1138" y="1496"/>
                  </a:lnTo>
                  <a:lnTo>
                    <a:pt x="1143" y="1502"/>
                  </a:lnTo>
                  <a:lnTo>
                    <a:pt x="1148" y="1502"/>
                  </a:lnTo>
                  <a:lnTo>
                    <a:pt x="1153" y="1502"/>
                  </a:lnTo>
                  <a:lnTo>
                    <a:pt x="1158" y="1502"/>
                  </a:lnTo>
                  <a:lnTo>
                    <a:pt x="1162" y="1508"/>
                  </a:lnTo>
                  <a:lnTo>
                    <a:pt x="1167" y="1508"/>
                  </a:lnTo>
                  <a:lnTo>
                    <a:pt x="1172" y="1508"/>
                  </a:lnTo>
                  <a:lnTo>
                    <a:pt x="1177" y="1508"/>
                  </a:lnTo>
                  <a:lnTo>
                    <a:pt x="1182" y="1513"/>
                  </a:lnTo>
                  <a:lnTo>
                    <a:pt x="1186" y="1513"/>
                  </a:lnTo>
                  <a:lnTo>
                    <a:pt x="1191" y="1513"/>
                  </a:lnTo>
                  <a:lnTo>
                    <a:pt x="1196" y="1513"/>
                  </a:lnTo>
                  <a:lnTo>
                    <a:pt x="1201" y="1513"/>
                  </a:lnTo>
                  <a:lnTo>
                    <a:pt x="1206" y="1519"/>
                  </a:lnTo>
                  <a:lnTo>
                    <a:pt x="1210" y="1519"/>
                  </a:lnTo>
                  <a:lnTo>
                    <a:pt x="1215" y="1519"/>
                  </a:lnTo>
                  <a:lnTo>
                    <a:pt x="1220" y="1519"/>
                  </a:lnTo>
                  <a:lnTo>
                    <a:pt x="1225" y="1519"/>
                  </a:lnTo>
                  <a:lnTo>
                    <a:pt x="1230" y="1525"/>
                  </a:lnTo>
                  <a:lnTo>
                    <a:pt x="1234" y="1525"/>
                  </a:lnTo>
                  <a:lnTo>
                    <a:pt x="1239" y="1525"/>
                  </a:lnTo>
                  <a:lnTo>
                    <a:pt x="1244" y="1525"/>
                  </a:lnTo>
                  <a:lnTo>
                    <a:pt x="1249" y="1525"/>
                  </a:lnTo>
                  <a:lnTo>
                    <a:pt x="1254" y="1525"/>
                  </a:lnTo>
                  <a:lnTo>
                    <a:pt x="1258" y="1530"/>
                  </a:lnTo>
                  <a:lnTo>
                    <a:pt x="1263" y="1530"/>
                  </a:lnTo>
                  <a:lnTo>
                    <a:pt x="1268" y="1530"/>
                  </a:lnTo>
                  <a:lnTo>
                    <a:pt x="1273" y="1530"/>
                  </a:lnTo>
                  <a:lnTo>
                    <a:pt x="1278" y="1530"/>
                  </a:lnTo>
                  <a:lnTo>
                    <a:pt x="1282" y="1530"/>
                  </a:lnTo>
                  <a:lnTo>
                    <a:pt x="1287" y="1536"/>
                  </a:lnTo>
                  <a:lnTo>
                    <a:pt x="1292" y="1536"/>
                  </a:lnTo>
                  <a:lnTo>
                    <a:pt x="1297" y="1536"/>
                  </a:lnTo>
                  <a:lnTo>
                    <a:pt x="1302" y="1536"/>
                  </a:lnTo>
                  <a:lnTo>
                    <a:pt x="1306" y="1536"/>
                  </a:lnTo>
                  <a:lnTo>
                    <a:pt x="1311" y="1536"/>
                  </a:lnTo>
                  <a:lnTo>
                    <a:pt x="1316" y="1536"/>
                  </a:lnTo>
                  <a:lnTo>
                    <a:pt x="1321" y="1542"/>
                  </a:lnTo>
                  <a:lnTo>
                    <a:pt x="1326" y="1542"/>
                  </a:lnTo>
                  <a:lnTo>
                    <a:pt x="1330" y="1542"/>
                  </a:lnTo>
                  <a:lnTo>
                    <a:pt x="1335" y="1542"/>
                  </a:lnTo>
                  <a:lnTo>
                    <a:pt x="1340" y="1542"/>
                  </a:lnTo>
                  <a:lnTo>
                    <a:pt x="1345" y="1542"/>
                  </a:lnTo>
                  <a:lnTo>
                    <a:pt x="1350" y="1542"/>
                  </a:lnTo>
                  <a:lnTo>
                    <a:pt x="1354" y="1542"/>
                  </a:lnTo>
                  <a:lnTo>
                    <a:pt x="1354" y="1548"/>
                  </a:lnTo>
                  <a:lnTo>
                    <a:pt x="1359" y="1548"/>
                  </a:lnTo>
                  <a:lnTo>
                    <a:pt x="1364" y="1548"/>
                  </a:lnTo>
                  <a:lnTo>
                    <a:pt x="1369" y="1548"/>
                  </a:lnTo>
                  <a:lnTo>
                    <a:pt x="1374" y="1548"/>
                  </a:lnTo>
                  <a:lnTo>
                    <a:pt x="1378" y="1548"/>
                  </a:lnTo>
                  <a:lnTo>
                    <a:pt x="1383" y="1548"/>
                  </a:lnTo>
                  <a:lnTo>
                    <a:pt x="1388" y="1548"/>
                  </a:lnTo>
                  <a:lnTo>
                    <a:pt x="1393" y="1548"/>
                  </a:lnTo>
                  <a:lnTo>
                    <a:pt x="1398" y="1553"/>
                  </a:lnTo>
                  <a:lnTo>
                    <a:pt x="1403" y="1553"/>
                  </a:lnTo>
                  <a:lnTo>
                    <a:pt x="1407" y="1553"/>
                  </a:lnTo>
                  <a:lnTo>
                    <a:pt x="1412" y="1553"/>
                  </a:lnTo>
                  <a:lnTo>
                    <a:pt x="1417" y="1553"/>
                  </a:lnTo>
                  <a:lnTo>
                    <a:pt x="1422" y="1553"/>
                  </a:lnTo>
                  <a:lnTo>
                    <a:pt x="1427" y="1553"/>
                  </a:lnTo>
                  <a:lnTo>
                    <a:pt x="1431" y="1553"/>
                  </a:lnTo>
                  <a:lnTo>
                    <a:pt x="1436" y="1553"/>
                  </a:lnTo>
                  <a:lnTo>
                    <a:pt x="1436" y="1559"/>
                  </a:lnTo>
                  <a:lnTo>
                    <a:pt x="1441" y="1559"/>
                  </a:lnTo>
                  <a:lnTo>
                    <a:pt x="1446" y="1559"/>
                  </a:lnTo>
                  <a:lnTo>
                    <a:pt x="1451" y="1559"/>
                  </a:lnTo>
                  <a:lnTo>
                    <a:pt x="1455" y="1559"/>
                  </a:lnTo>
                  <a:lnTo>
                    <a:pt x="1460" y="1559"/>
                  </a:lnTo>
                  <a:lnTo>
                    <a:pt x="1465" y="1559"/>
                  </a:lnTo>
                  <a:lnTo>
                    <a:pt x="1470" y="1559"/>
                  </a:lnTo>
                  <a:lnTo>
                    <a:pt x="1475" y="1559"/>
                  </a:lnTo>
                  <a:lnTo>
                    <a:pt x="1479" y="1559"/>
                  </a:lnTo>
                  <a:lnTo>
                    <a:pt x="1484" y="1559"/>
                  </a:lnTo>
                  <a:lnTo>
                    <a:pt x="1489" y="1559"/>
                  </a:lnTo>
                  <a:lnTo>
                    <a:pt x="1489" y="1565"/>
                  </a:lnTo>
                  <a:lnTo>
                    <a:pt x="1494" y="1565"/>
                  </a:lnTo>
                  <a:lnTo>
                    <a:pt x="1499" y="1565"/>
                  </a:lnTo>
                  <a:lnTo>
                    <a:pt x="1503" y="1565"/>
                  </a:lnTo>
                  <a:lnTo>
                    <a:pt x="1508" y="1565"/>
                  </a:lnTo>
                  <a:lnTo>
                    <a:pt x="1513" y="1565"/>
                  </a:lnTo>
                  <a:lnTo>
                    <a:pt x="1518" y="1565"/>
                  </a:lnTo>
                  <a:lnTo>
                    <a:pt x="1523" y="1565"/>
                  </a:lnTo>
                  <a:lnTo>
                    <a:pt x="1527" y="1565"/>
                  </a:lnTo>
                  <a:lnTo>
                    <a:pt x="1532" y="1565"/>
                  </a:lnTo>
                  <a:lnTo>
                    <a:pt x="1537" y="1565"/>
                  </a:lnTo>
                  <a:lnTo>
                    <a:pt x="1542" y="1565"/>
                  </a:lnTo>
                  <a:lnTo>
                    <a:pt x="1547" y="1570"/>
                  </a:lnTo>
                  <a:lnTo>
                    <a:pt x="1551" y="1570"/>
                  </a:lnTo>
                  <a:lnTo>
                    <a:pt x="1556" y="1570"/>
                  </a:lnTo>
                  <a:lnTo>
                    <a:pt x="1561" y="1570"/>
                  </a:lnTo>
                  <a:lnTo>
                    <a:pt x="1566" y="1570"/>
                  </a:lnTo>
                  <a:lnTo>
                    <a:pt x="1571" y="1570"/>
                  </a:lnTo>
                  <a:lnTo>
                    <a:pt x="1575" y="1570"/>
                  </a:lnTo>
                  <a:lnTo>
                    <a:pt x="1580" y="1570"/>
                  </a:lnTo>
                  <a:lnTo>
                    <a:pt x="1585" y="1570"/>
                  </a:lnTo>
                  <a:lnTo>
                    <a:pt x="1590" y="1570"/>
                  </a:lnTo>
                  <a:lnTo>
                    <a:pt x="1595" y="1570"/>
                  </a:lnTo>
                  <a:lnTo>
                    <a:pt x="1599" y="1570"/>
                  </a:lnTo>
                  <a:lnTo>
                    <a:pt x="1604" y="1570"/>
                  </a:lnTo>
                  <a:lnTo>
                    <a:pt x="1609" y="1570"/>
                  </a:lnTo>
                  <a:lnTo>
                    <a:pt x="1614" y="1570"/>
                  </a:lnTo>
                  <a:lnTo>
                    <a:pt x="1619" y="1576"/>
                  </a:lnTo>
                  <a:lnTo>
                    <a:pt x="1623" y="1576"/>
                  </a:lnTo>
                  <a:lnTo>
                    <a:pt x="1628" y="1576"/>
                  </a:lnTo>
                  <a:lnTo>
                    <a:pt x="1633" y="1576"/>
                  </a:lnTo>
                  <a:lnTo>
                    <a:pt x="1638" y="1576"/>
                  </a:lnTo>
                  <a:lnTo>
                    <a:pt x="1643" y="1576"/>
                  </a:lnTo>
                  <a:lnTo>
                    <a:pt x="1647" y="1576"/>
                  </a:lnTo>
                  <a:lnTo>
                    <a:pt x="1652" y="1576"/>
                  </a:lnTo>
                  <a:lnTo>
                    <a:pt x="1657" y="1576"/>
                  </a:lnTo>
                  <a:lnTo>
                    <a:pt x="1662" y="1576"/>
                  </a:lnTo>
                  <a:lnTo>
                    <a:pt x="1667" y="1576"/>
                  </a:lnTo>
                  <a:lnTo>
                    <a:pt x="1672" y="1576"/>
                  </a:lnTo>
                  <a:lnTo>
                    <a:pt x="1676" y="1576"/>
                  </a:lnTo>
                  <a:lnTo>
                    <a:pt x="1681" y="1576"/>
                  </a:lnTo>
                  <a:lnTo>
                    <a:pt x="1686" y="1576"/>
                  </a:lnTo>
                  <a:lnTo>
                    <a:pt x="1691" y="1576"/>
                  </a:lnTo>
                  <a:lnTo>
                    <a:pt x="1696" y="1576"/>
                  </a:lnTo>
                  <a:lnTo>
                    <a:pt x="1700" y="1576"/>
                  </a:lnTo>
                  <a:lnTo>
                    <a:pt x="1700" y="1582"/>
                  </a:lnTo>
                  <a:lnTo>
                    <a:pt x="1705" y="1582"/>
                  </a:lnTo>
                  <a:lnTo>
                    <a:pt x="1710" y="1582"/>
                  </a:lnTo>
                  <a:lnTo>
                    <a:pt x="1715" y="1582"/>
                  </a:lnTo>
                  <a:lnTo>
                    <a:pt x="1720" y="1582"/>
                  </a:lnTo>
                  <a:lnTo>
                    <a:pt x="1724" y="1582"/>
                  </a:lnTo>
                  <a:lnTo>
                    <a:pt x="1729" y="1582"/>
                  </a:lnTo>
                  <a:lnTo>
                    <a:pt x="1734" y="1582"/>
                  </a:lnTo>
                  <a:lnTo>
                    <a:pt x="1739" y="1582"/>
                  </a:lnTo>
                  <a:lnTo>
                    <a:pt x="1744" y="1582"/>
                  </a:lnTo>
                  <a:lnTo>
                    <a:pt x="1748" y="1582"/>
                  </a:lnTo>
                  <a:lnTo>
                    <a:pt x="1753" y="1582"/>
                  </a:lnTo>
                  <a:lnTo>
                    <a:pt x="1758" y="1582"/>
                  </a:lnTo>
                  <a:lnTo>
                    <a:pt x="1763" y="1582"/>
                  </a:lnTo>
                  <a:lnTo>
                    <a:pt x="1768" y="1582"/>
                  </a:lnTo>
                  <a:lnTo>
                    <a:pt x="1772" y="1582"/>
                  </a:lnTo>
                  <a:lnTo>
                    <a:pt x="1777" y="1582"/>
                  </a:lnTo>
                  <a:lnTo>
                    <a:pt x="1782" y="1582"/>
                  </a:lnTo>
                  <a:lnTo>
                    <a:pt x="1787" y="1582"/>
                  </a:lnTo>
                  <a:lnTo>
                    <a:pt x="1792" y="1582"/>
                  </a:lnTo>
                  <a:lnTo>
                    <a:pt x="1796" y="1582"/>
                  </a:lnTo>
                  <a:lnTo>
                    <a:pt x="1801" y="1582"/>
                  </a:lnTo>
                  <a:lnTo>
                    <a:pt x="1806" y="1582"/>
                  </a:lnTo>
                  <a:lnTo>
                    <a:pt x="1811" y="1582"/>
                  </a:lnTo>
                  <a:lnTo>
                    <a:pt x="1816" y="1582"/>
                  </a:lnTo>
                  <a:lnTo>
                    <a:pt x="1820" y="1582"/>
                  </a:lnTo>
                  <a:lnTo>
                    <a:pt x="1825" y="1582"/>
                  </a:lnTo>
                  <a:lnTo>
                    <a:pt x="1830" y="1588"/>
                  </a:lnTo>
                  <a:lnTo>
                    <a:pt x="1835" y="1588"/>
                  </a:lnTo>
                  <a:lnTo>
                    <a:pt x="1840" y="1588"/>
                  </a:lnTo>
                  <a:lnTo>
                    <a:pt x="1844" y="1588"/>
                  </a:lnTo>
                  <a:lnTo>
                    <a:pt x="1849" y="1588"/>
                  </a:lnTo>
                  <a:lnTo>
                    <a:pt x="1854" y="1588"/>
                  </a:lnTo>
                  <a:lnTo>
                    <a:pt x="1859" y="1588"/>
                  </a:lnTo>
                  <a:lnTo>
                    <a:pt x="1864" y="1588"/>
                  </a:lnTo>
                  <a:lnTo>
                    <a:pt x="1868" y="1588"/>
                  </a:lnTo>
                  <a:lnTo>
                    <a:pt x="1873" y="1588"/>
                  </a:lnTo>
                  <a:lnTo>
                    <a:pt x="1878" y="1588"/>
                  </a:lnTo>
                  <a:lnTo>
                    <a:pt x="1883" y="1588"/>
                  </a:lnTo>
                  <a:lnTo>
                    <a:pt x="1888" y="1588"/>
                  </a:lnTo>
                  <a:lnTo>
                    <a:pt x="1892" y="1588"/>
                  </a:lnTo>
                  <a:lnTo>
                    <a:pt x="1897" y="1588"/>
                  </a:lnTo>
                  <a:lnTo>
                    <a:pt x="1902" y="1588"/>
                  </a:lnTo>
                  <a:lnTo>
                    <a:pt x="1907" y="1588"/>
                  </a:lnTo>
                  <a:lnTo>
                    <a:pt x="1912" y="1588"/>
                  </a:lnTo>
                  <a:lnTo>
                    <a:pt x="1916" y="1588"/>
                  </a:lnTo>
                  <a:lnTo>
                    <a:pt x="1921" y="1588"/>
                  </a:lnTo>
                  <a:lnTo>
                    <a:pt x="1926" y="1588"/>
                  </a:lnTo>
                  <a:lnTo>
                    <a:pt x="1931" y="1588"/>
                  </a:lnTo>
                  <a:lnTo>
                    <a:pt x="1936" y="1588"/>
                  </a:lnTo>
                  <a:lnTo>
                    <a:pt x="1941" y="1588"/>
                  </a:lnTo>
                  <a:lnTo>
                    <a:pt x="1945" y="1588"/>
                  </a:lnTo>
                  <a:lnTo>
                    <a:pt x="1950" y="1588"/>
                  </a:lnTo>
                  <a:lnTo>
                    <a:pt x="1955" y="1588"/>
                  </a:lnTo>
                  <a:lnTo>
                    <a:pt x="1960" y="1588"/>
                  </a:lnTo>
                  <a:lnTo>
                    <a:pt x="1965" y="1588"/>
                  </a:lnTo>
                  <a:lnTo>
                    <a:pt x="1969" y="1588"/>
                  </a:lnTo>
                  <a:lnTo>
                    <a:pt x="1974" y="1588"/>
                  </a:lnTo>
                  <a:lnTo>
                    <a:pt x="1979" y="1588"/>
                  </a:lnTo>
                  <a:lnTo>
                    <a:pt x="1984" y="1588"/>
                  </a:lnTo>
                  <a:lnTo>
                    <a:pt x="1989" y="1588"/>
                  </a:lnTo>
                  <a:lnTo>
                    <a:pt x="1989" y="1593"/>
                  </a:lnTo>
                  <a:lnTo>
                    <a:pt x="1993" y="1593"/>
                  </a:lnTo>
                  <a:lnTo>
                    <a:pt x="1998" y="1593"/>
                  </a:lnTo>
                  <a:lnTo>
                    <a:pt x="2003" y="1593"/>
                  </a:lnTo>
                  <a:lnTo>
                    <a:pt x="2008" y="1599"/>
                  </a:lnTo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690160" y="6365880"/>
              <a:ext cx="4928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108840" y="6359400"/>
              <a:ext cx="482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7" name=""/>
                <p:cNvSpPr txBox="1"/>
                <p:nvPr/>
              </p:nvSpPr>
              <p:spPr>
                <a:xfrm>
                  <a:off x="5383080" y="2414520"/>
                  <a:ext cx="324828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=-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dw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rg</m:t>
                          </m:r>
                          <m:r>
                            <m:t xml:space="preserve">(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w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78" name=""/>
            <p:cNvSpPr/>
            <p:nvPr/>
          </p:nvSpPr>
          <p:spPr>
            <a:xfrm>
              <a:off x="3987720" y="3476520"/>
              <a:ext cx="123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[uzorci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0477-3CB0-42DB-9257-E19FEC3AAA08}" type="slidenum">
              <a:t>63</a:t>
            </a:fld>
          </a:p>
        </p:txBody>
      </p:sp>
    </p:spTree>
  </p:cSld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6" dur="2000"/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400" y="1558800"/>
            <a:ext cx="858024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Laplaceovu transformaciju signla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as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možemo izraziti i ovak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289400"/>
            <a:ext cx="9163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mjenom redoslijeda sumacije i integracije dobivam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760" y="208080"/>
            <a:ext cx="76773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Book Antiqua"/>
              </a:rPr>
              <a:t>Metoda jednakog impulsnog odziv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2575080"/>
          <a:ext cx="891864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575080"/>
                    <a:ext cx="891864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79280" y="5238720"/>
          <a:ext cx="8920440" cy="121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238720"/>
                    <a:ext cx="892044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7D8E-F46F-4145-B601-028B23A195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54120"/>
            <a:ext cx="9163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je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3760" y="44280"/>
            <a:ext cx="76773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Book Antiqua"/>
              </a:rPr>
              <a:t>Metoda jednakog impulsnog odziv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8840" y="2060640"/>
          <a:ext cx="8885160" cy="14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2060640"/>
                    <a:ext cx="888516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-36360" y="3573360"/>
            <a:ext cx="9162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ač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06560" y="4149720"/>
          <a:ext cx="516888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6560" y="4149720"/>
                    <a:ext cx="51688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1D1E-69C6-4511-AD28-15FA010DEE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Metoda jednakog impulsnog odziv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1773360"/>
            <a:ext cx="3146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da vrije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2637000"/>
          <a:ext cx="783252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37000"/>
                    <a:ext cx="78325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826920" y="3933720"/>
            <a:ext cx="741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Frekvencijsku karakteristiku dobijemo uvrštavanjem 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i="1" lang="hr-HR" sz="3200" spc="-1" strike="noStrike" baseline="30000">
                <a:solidFill>
                  <a:srgbClr val="ffff00"/>
                </a:solidFill>
                <a:latin typeface="Times New Roman"/>
              </a:rPr>
              <a:t>j</a:t>
            </a:r>
            <a:r>
              <a:rPr b="0" i="1" lang="hr-HR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84520" y="5511960"/>
          <a:ext cx="4437000" cy="9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5511960"/>
                    <a:ext cx="44370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53A8-2451-4964-9BB0-FF12990BD0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5:27:48Z</dcterms:created>
  <dc:creator>ZESOI</dc:creator>
  <dc:description/>
  <dc:language>en-US</dc:language>
  <cp:lastModifiedBy>Tomislav Petkovic</cp:lastModifiedBy>
  <cp:lastPrinted>1997-10-31T14:33:10Z</cp:lastPrinted>
  <dcterms:modified xsi:type="dcterms:W3CDTF">2003-11-19T15:24:01Z</dcterms:modified>
  <cp:revision>204</cp:revision>
  <dc:subject>Digitalna obradba signala</dc:subject>
  <dc:title>Rekurzivni digitalni filtri</dc:title>
</cp:coreProperties>
</file>