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1.docx" ContentType="application/vnd.openxmlformats-officedocument.wordprocessingml.documen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1440" y="9360"/>
            <a:ext cx="3076560" cy="4795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i="1" lang="hr-H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4022640" y="9360"/>
            <a:ext cx="3076560" cy="4795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  <a:defRPr b="0" i="1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i="1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5"/>
          </p:nvPr>
        </p:nvSpPr>
        <p:spPr>
          <a:xfrm>
            <a:off x="-1440" y="9744120"/>
            <a:ext cx="3076560" cy="4795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indent="0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  <a:defRPr b="0" i="1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i="1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6"/>
          </p:nvPr>
        </p:nvSpPr>
        <p:spPr>
          <a:xfrm>
            <a:off x="4022640" y="9744120"/>
            <a:ext cx="3076560" cy="4795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  <a:defRPr b="0" i="1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fld id="{EB2F4338-36E7-4D56-A6CC-3C3BDAE18160}" type="slidenum">
              <a:rPr b="0" i="1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946080" y="4863960"/>
            <a:ext cx="5205600" cy="4308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Img"/>
          </p:nvPr>
        </p:nvSpPr>
        <p:spPr>
          <a:xfrm>
            <a:off x="1163160" y="896760"/>
            <a:ext cx="4768920" cy="357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0" name="PlaceHolder 1"/>
          <p:cNvSpPr>
            <a:spLocks noGrp="1"/>
          </p:cNvSpPr>
          <p:nvPr>
            <p:ph type="sldImg"/>
          </p:nvPr>
        </p:nvSpPr>
        <p:spPr>
          <a:xfrm>
            <a:off x="1163520" y="896760"/>
            <a:ext cx="4768920" cy="3576960"/>
          </a:xfrm>
          <a:prstGeom prst="rect">
            <a:avLst/>
          </a:prstGeom>
          <a:ln w="0">
            <a:noFill/>
          </a:ln>
        </p:spPr>
      </p:sp>
      <p:sp>
        <p:nvSpPr>
          <p:cNvPr id="4471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205600" cy="4308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atoteka fir_uv.m prikazuje sve slike u prezentaciji uz prethodni odabir reda filt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C558-86EF-41E0-8F4C-B13BB8B5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5331-5E47-4827-9B4C-EA8E587B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269D-41D0-41B1-9CF8-AB3BFEE1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EDCD-E818-4BC7-B674-C8B73FD5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255E-D24F-451B-BCF6-801A01CB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AA63-7589-49C2-98B7-633A7B0C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A402-0A29-43EE-94DE-BFD5923A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002A-3F9F-445F-8FF9-7CE4E40C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1AED-6FC8-44DB-AA38-FBC773E5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5F21-F9CE-470C-A328-DA72D103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85C1-479E-40F2-85B7-8B7901FD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9E4D-8CCD-48CD-A6D3-181B77D9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2D71934-616F-4764-A897-CE22F48EF457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03040" y="185760"/>
            <a:ext cx="1455840" cy="1692360"/>
            <a:chOff x="203040" y="185760"/>
            <a:chExt cx="1455840" cy="1692360"/>
          </a:xfrm>
        </p:grpSpPr>
        <p:grpSp>
          <p:nvGrpSpPr>
            <p:cNvPr id="4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5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17002b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c36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c36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600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600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" name=""/>
            <p:cNvGrpSpPr/>
            <p:nvPr/>
          </p:nvGrpSpPr>
          <p:grpSpPr>
            <a:xfrm>
              <a:off x="461880" y="185760"/>
              <a:ext cx="1197000" cy="1096920"/>
              <a:chOff x="461880" y="185760"/>
              <a:chExt cx="1197000" cy="1096920"/>
            </a:xfrm>
          </p:grpSpPr>
          <p:sp>
            <p:nvSpPr>
              <p:cNvPr id="13" name=""/>
              <p:cNvSpPr/>
              <p:nvPr/>
            </p:nvSpPr>
            <p:spPr>
              <a:xfrm>
                <a:off x="1068480" y="735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077840" y="735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87560" y="735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098720" y="7351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08080" y="735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17440" y="735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27160" y="735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38320" y="7351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70040" y="376200"/>
                <a:ext cx="581040" cy="714240"/>
              </a:xfrm>
              <a:custGeom>
                <a:avLst/>
                <a:gdLst/>
                <a:ahLst/>
                <a:rect l="l" t="t" r="r" b="b"/>
                <a:pathLst>
                  <a:path w="366" h="450">
                    <a:moveTo>
                      <a:pt x="0" y="114"/>
                    </a:moveTo>
                    <a:lnTo>
                      <a:pt x="170" y="201"/>
                    </a:lnTo>
                    <a:lnTo>
                      <a:pt x="183" y="0"/>
                    </a:lnTo>
                    <a:lnTo>
                      <a:pt x="195" y="201"/>
                    </a:lnTo>
                    <a:lnTo>
                      <a:pt x="364" y="112"/>
                    </a:lnTo>
                    <a:lnTo>
                      <a:pt x="207" y="225"/>
                    </a:lnTo>
                    <a:lnTo>
                      <a:pt x="365" y="337"/>
                    </a:lnTo>
                    <a:lnTo>
                      <a:pt x="195" y="248"/>
                    </a:lnTo>
                    <a:lnTo>
                      <a:pt x="183" y="449"/>
                    </a:lnTo>
                    <a:lnTo>
                      <a:pt x="170" y="248"/>
                    </a:lnTo>
                    <a:lnTo>
                      <a:pt x="0" y="337"/>
                    </a:lnTo>
                    <a:lnTo>
                      <a:pt x="158" y="225"/>
                    </a:lnTo>
                    <a:lnTo>
                      <a:pt x="0" y="114"/>
                    </a:lnTo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61880" y="185760"/>
                <a:ext cx="1197000" cy="1096920"/>
              </a:xfrm>
              <a:custGeom>
                <a:avLst/>
                <a:gdLst/>
                <a:ahLst/>
                <a:rect l="l" t="t" r="r" b="b"/>
                <a:pathLst>
                  <a:path w="754" h="691">
                    <a:moveTo>
                      <a:pt x="338" y="322"/>
                    </a:moveTo>
                    <a:lnTo>
                      <a:pt x="188" y="0"/>
                    </a:lnTo>
                    <a:lnTo>
                      <a:pt x="377" y="298"/>
                    </a:lnTo>
                    <a:lnTo>
                      <a:pt x="563" y="0"/>
                    </a:lnTo>
                    <a:lnTo>
                      <a:pt x="414" y="322"/>
                    </a:lnTo>
                    <a:lnTo>
                      <a:pt x="753" y="345"/>
                    </a:lnTo>
                    <a:lnTo>
                      <a:pt x="413" y="367"/>
                    </a:lnTo>
                    <a:lnTo>
                      <a:pt x="566" y="690"/>
                    </a:lnTo>
                    <a:lnTo>
                      <a:pt x="377" y="391"/>
                    </a:lnTo>
                    <a:lnTo>
                      <a:pt x="188" y="690"/>
                    </a:lnTo>
                    <a:lnTo>
                      <a:pt x="337" y="369"/>
                    </a:lnTo>
                    <a:lnTo>
                      <a:pt x="0" y="345"/>
                    </a:lnTo>
                    <a:lnTo>
                      <a:pt x="338" y="322"/>
                    </a:lnTo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79400" y="387360"/>
                <a:ext cx="560520" cy="692280"/>
              </a:xfrm>
              <a:custGeom>
                <a:avLst/>
                <a:gdLst/>
                <a:ahLst/>
                <a:rect l="l" t="t" r="r" b="b"/>
                <a:pathLst>
                  <a:path w="353" h="436">
                    <a:moveTo>
                      <a:pt x="0" y="110"/>
                    </a:moveTo>
                    <a:lnTo>
                      <a:pt x="164" y="194"/>
                    </a:lnTo>
                    <a:lnTo>
                      <a:pt x="177" y="0"/>
                    </a:lnTo>
                    <a:lnTo>
                      <a:pt x="189" y="194"/>
                    </a:lnTo>
                    <a:lnTo>
                      <a:pt x="352" y="110"/>
                    </a:lnTo>
                    <a:lnTo>
                      <a:pt x="201" y="218"/>
                    </a:lnTo>
                    <a:lnTo>
                      <a:pt x="352" y="325"/>
                    </a:lnTo>
                    <a:lnTo>
                      <a:pt x="189" y="242"/>
                    </a:lnTo>
                    <a:lnTo>
                      <a:pt x="177" y="435"/>
                    </a:lnTo>
                    <a:lnTo>
                      <a:pt x="164" y="242"/>
                    </a:lnTo>
                    <a:lnTo>
                      <a:pt x="0" y="327"/>
                    </a:lnTo>
                    <a:lnTo>
                      <a:pt x="152" y="218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0b2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84200" y="206280"/>
                <a:ext cx="1150920" cy="1055880"/>
              </a:xfrm>
              <a:custGeom>
                <a:avLst/>
                <a:gdLst/>
                <a:ahLst/>
                <a:rect l="l" t="t" r="r" b="b"/>
                <a:pathLst>
                  <a:path w="725" h="665">
                    <a:moveTo>
                      <a:pt x="324" y="309"/>
                    </a:moveTo>
                    <a:lnTo>
                      <a:pt x="182" y="0"/>
                    </a:lnTo>
                    <a:lnTo>
                      <a:pt x="363" y="285"/>
                    </a:lnTo>
                    <a:lnTo>
                      <a:pt x="543" y="0"/>
                    </a:lnTo>
                    <a:lnTo>
                      <a:pt x="400" y="309"/>
                    </a:lnTo>
                    <a:lnTo>
                      <a:pt x="724" y="332"/>
                    </a:lnTo>
                    <a:lnTo>
                      <a:pt x="399" y="354"/>
                    </a:lnTo>
                    <a:lnTo>
                      <a:pt x="543" y="663"/>
                    </a:lnTo>
                    <a:lnTo>
                      <a:pt x="363" y="378"/>
                    </a:lnTo>
                    <a:lnTo>
                      <a:pt x="182" y="664"/>
                    </a:lnTo>
                    <a:lnTo>
                      <a:pt x="323" y="356"/>
                    </a:lnTo>
                    <a:lnTo>
                      <a:pt x="0" y="332"/>
                    </a:lnTo>
                    <a:lnTo>
                      <a:pt x="324" y="309"/>
                    </a:lnTo>
                  </a:path>
                </a:pathLst>
              </a:custGeom>
              <a:solidFill>
                <a:srgbClr val="0b2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9120" y="399960"/>
                <a:ext cx="541080" cy="668520"/>
              </a:xfrm>
              <a:custGeom>
                <a:avLst/>
                <a:gdLst/>
                <a:ahLst/>
                <a:rect l="l" t="t" r="r" b="b"/>
                <a:pathLst>
                  <a:path w="341" h="421">
                    <a:moveTo>
                      <a:pt x="0" y="106"/>
                    </a:moveTo>
                    <a:lnTo>
                      <a:pt x="158" y="186"/>
                    </a:lnTo>
                    <a:lnTo>
                      <a:pt x="171" y="0"/>
                    </a:lnTo>
                    <a:lnTo>
                      <a:pt x="183" y="186"/>
                    </a:lnTo>
                    <a:lnTo>
                      <a:pt x="340" y="106"/>
                    </a:lnTo>
                    <a:lnTo>
                      <a:pt x="195" y="210"/>
                    </a:lnTo>
                    <a:lnTo>
                      <a:pt x="340" y="315"/>
                    </a:lnTo>
                    <a:lnTo>
                      <a:pt x="183" y="234"/>
                    </a:lnTo>
                    <a:lnTo>
                      <a:pt x="171" y="420"/>
                    </a:lnTo>
                    <a:lnTo>
                      <a:pt x="158" y="234"/>
                    </a:lnTo>
                    <a:lnTo>
                      <a:pt x="0" y="315"/>
                    </a:lnTo>
                    <a:lnTo>
                      <a:pt x="146" y="210"/>
                    </a:lnTo>
                    <a:lnTo>
                      <a:pt x="0" y="106"/>
                    </a:lnTo>
                  </a:path>
                </a:pathLst>
              </a:custGeom>
              <a:solidFill>
                <a:srgbClr val="102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506520" y="227160"/>
                <a:ext cx="1106280" cy="1012680"/>
              </a:xfrm>
              <a:custGeom>
                <a:avLst/>
                <a:gdLst/>
                <a:ahLst/>
                <a:rect l="l" t="t" r="r" b="b"/>
                <a:pathLst>
                  <a:path w="697" h="638">
                    <a:moveTo>
                      <a:pt x="310" y="296"/>
                    </a:moveTo>
                    <a:lnTo>
                      <a:pt x="176" y="0"/>
                    </a:lnTo>
                    <a:lnTo>
                      <a:pt x="349" y="272"/>
                    </a:lnTo>
                    <a:lnTo>
                      <a:pt x="522" y="0"/>
                    </a:lnTo>
                    <a:lnTo>
                      <a:pt x="386" y="296"/>
                    </a:lnTo>
                    <a:lnTo>
                      <a:pt x="696" y="319"/>
                    </a:lnTo>
                    <a:lnTo>
                      <a:pt x="385" y="341"/>
                    </a:lnTo>
                    <a:lnTo>
                      <a:pt x="522" y="637"/>
                    </a:lnTo>
                    <a:lnTo>
                      <a:pt x="349" y="365"/>
                    </a:lnTo>
                    <a:lnTo>
                      <a:pt x="176" y="637"/>
                    </a:lnTo>
                    <a:lnTo>
                      <a:pt x="310" y="342"/>
                    </a:lnTo>
                    <a:lnTo>
                      <a:pt x="0" y="319"/>
                    </a:lnTo>
                    <a:lnTo>
                      <a:pt x="310" y="296"/>
                    </a:lnTo>
                  </a:path>
                </a:pathLst>
              </a:custGeom>
              <a:solidFill>
                <a:srgbClr val="102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98480" y="411120"/>
                <a:ext cx="522360" cy="644400"/>
              </a:xfrm>
              <a:custGeom>
                <a:avLst/>
                <a:gdLst/>
                <a:ahLst/>
                <a:rect l="l" t="t" r="r" b="b"/>
                <a:pathLst>
                  <a:path w="329" h="406">
                    <a:moveTo>
                      <a:pt x="0" y="103"/>
                    </a:moveTo>
                    <a:lnTo>
                      <a:pt x="152" y="179"/>
                    </a:lnTo>
                    <a:lnTo>
                      <a:pt x="165" y="0"/>
                    </a:lnTo>
                    <a:lnTo>
                      <a:pt x="177" y="179"/>
                    </a:lnTo>
                    <a:lnTo>
                      <a:pt x="328" y="101"/>
                    </a:lnTo>
                    <a:lnTo>
                      <a:pt x="189" y="203"/>
                    </a:lnTo>
                    <a:lnTo>
                      <a:pt x="328" y="304"/>
                    </a:lnTo>
                    <a:lnTo>
                      <a:pt x="177" y="227"/>
                    </a:lnTo>
                    <a:lnTo>
                      <a:pt x="165" y="405"/>
                    </a:lnTo>
                    <a:lnTo>
                      <a:pt x="152" y="227"/>
                    </a:lnTo>
                    <a:lnTo>
                      <a:pt x="0" y="304"/>
                    </a:lnTo>
                    <a:lnTo>
                      <a:pt x="140" y="203"/>
                    </a:lnTo>
                    <a:lnTo>
                      <a:pt x="0" y="103"/>
                    </a:lnTo>
                  </a:path>
                </a:pathLst>
              </a:custGeom>
              <a:solidFill>
                <a:srgbClr val="1534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30280" y="247680"/>
                <a:ext cx="1060560" cy="971640"/>
              </a:xfrm>
              <a:custGeom>
                <a:avLst/>
                <a:gdLst/>
                <a:ahLst/>
                <a:rect l="l" t="t" r="r" b="b"/>
                <a:pathLst>
                  <a:path w="668" h="612">
                    <a:moveTo>
                      <a:pt x="295" y="283"/>
                    </a:moveTo>
                    <a:lnTo>
                      <a:pt x="168" y="0"/>
                    </a:lnTo>
                    <a:lnTo>
                      <a:pt x="334" y="259"/>
                    </a:lnTo>
                    <a:lnTo>
                      <a:pt x="499" y="0"/>
                    </a:lnTo>
                    <a:lnTo>
                      <a:pt x="371" y="283"/>
                    </a:lnTo>
                    <a:lnTo>
                      <a:pt x="667" y="306"/>
                    </a:lnTo>
                    <a:lnTo>
                      <a:pt x="370" y="328"/>
                    </a:lnTo>
                    <a:lnTo>
                      <a:pt x="499" y="611"/>
                    </a:lnTo>
                    <a:lnTo>
                      <a:pt x="334" y="352"/>
                    </a:lnTo>
                    <a:lnTo>
                      <a:pt x="168" y="611"/>
                    </a:lnTo>
                    <a:lnTo>
                      <a:pt x="294" y="330"/>
                    </a:lnTo>
                    <a:lnTo>
                      <a:pt x="0" y="306"/>
                    </a:lnTo>
                    <a:lnTo>
                      <a:pt x="295" y="283"/>
                    </a:lnTo>
                  </a:path>
                </a:pathLst>
              </a:custGeom>
              <a:solidFill>
                <a:srgbClr val="1534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08200" y="422280"/>
                <a:ext cx="504720" cy="622440"/>
              </a:xfrm>
              <a:custGeom>
                <a:avLst/>
                <a:gdLst/>
                <a:ahLst/>
                <a:rect l="l" t="t" r="r" b="b"/>
                <a:pathLst>
                  <a:path w="318" h="392">
                    <a:moveTo>
                      <a:pt x="0" y="99"/>
                    </a:moveTo>
                    <a:lnTo>
                      <a:pt x="146" y="172"/>
                    </a:lnTo>
                    <a:lnTo>
                      <a:pt x="159" y="0"/>
                    </a:lnTo>
                    <a:lnTo>
                      <a:pt x="171" y="172"/>
                    </a:lnTo>
                    <a:lnTo>
                      <a:pt x="317" y="99"/>
                    </a:lnTo>
                    <a:lnTo>
                      <a:pt x="183" y="196"/>
                    </a:lnTo>
                    <a:lnTo>
                      <a:pt x="317" y="292"/>
                    </a:lnTo>
                    <a:lnTo>
                      <a:pt x="171" y="220"/>
                    </a:lnTo>
                    <a:lnTo>
                      <a:pt x="159" y="391"/>
                    </a:lnTo>
                    <a:lnTo>
                      <a:pt x="146" y="220"/>
                    </a:lnTo>
                    <a:lnTo>
                      <a:pt x="0" y="292"/>
                    </a:lnTo>
                    <a:lnTo>
                      <a:pt x="134" y="196"/>
                    </a:lnTo>
                    <a:lnTo>
                      <a:pt x="0" y="99"/>
                    </a:lnTo>
                  </a:path>
                </a:pathLst>
              </a:custGeom>
              <a:solidFill>
                <a:srgbClr val="1a39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552600" y="268200"/>
                <a:ext cx="1014120" cy="930240"/>
              </a:xfrm>
              <a:custGeom>
                <a:avLst/>
                <a:gdLst/>
                <a:ahLst/>
                <a:rect l="l" t="t" r="r" b="b"/>
                <a:pathLst>
                  <a:path w="639" h="586">
                    <a:moveTo>
                      <a:pt x="281" y="270"/>
                    </a:moveTo>
                    <a:lnTo>
                      <a:pt x="161" y="0"/>
                    </a:lnTo>
                    <a:lnTo>
                      <a:pt x="320" y="246"/>
                    </a:lnTo>
                    <a:lnTo>
                      <a:pt x="479" y="0"/>
                    </a:lnTo>
                    <a:lnTo>
                      <a:pt x="357" y="270"/>
                    </a:lnTo>
                    <a:lnTo>
                      <a:pt x="638" y="293"/>
                    </a:lnTo>
                    <a:lnTo>
                      <a:pt x="356" y="315"/>
                    </a:lnTo>
                    <a:lnTo>
                      <a:pt x="479" y="585"/>
                    </a:lnTo>
                    <a:lnTo>
                      <a:pt x="320" y="339"/>
                    </a:lnTo>
                    <a:lnTo>
                      <a:pt x="161" y="585"/>
                    </a:lnTo>
                    <a:lnTo>
                      <a:pt x="281" y="316"/>
                    </a:lnTo>
                    <a:lnTo>
                      <a:pt x="0" y="293"/>
                    </a:lnTo>
                    <a:lnTo>
                      <a:pt x="281" y="270"/>
                    </a:lnTo>
                  </a:path>
                </a:pathLst>
              </a:custGeom>
              <a:solidFill>
                <a:srgbClr val="1a39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17560" y="433440"/>
                <a:ext cx="485640" cy="600120"/>
              </a:xfrm>
              <a:custGeom>
                <a:avLst/>
                <a:gdLst/>
                <a:ahLst/>
                <a:rect l="l" t="t" r="r" b="b"/>
                <a:pathLst>
                  <a:path w="306" h="378">
                    <a:moveTo>
                      <a:pt x="0" y="96"/>
                    </a:moveTo>
                    <a:lnTo>
                      <a:pt x="140" y="165"/>
                    </a:lnTo>
                    <a:lnTo>
                      <a:pt x="153" y="0"/>
                    </a:lnTo>
                    <a:lnTo>
                      <a:pt x="165" y="165"/>
                    </a:lnTo>
                    <a:lnTo>
                      <a:pt x="305" y="96"/>
                    </a:lnTo>
                    <a:lnTo>
                      <a:pt x="177" y="189"/>
                    </a:lnTo>
                    <a:lnTo>
                      <a:pt x="305" y="283"/>
                    </a:lnTo>
                    <a:lnTo>
                      <a:pt x="165" y="212"/>
                    </a:lnTo>
                    <a:lnTo>
                      <a:pt x="153" y="377"/>
                    </a:lnTo>
                    <a:lnTo>
                      <a:pt x="140" y="212"/>
                    </a:lnTo>
                    <a:lnTo>
                      <a:pt x="0" y="283"/>
                    </a:lnTo>
                    <a:lnTo>
                      <a:pt x="128" y="189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76360" y="289080"/>
                <a:ext cx="968400" cy="888840"/>
              </a:xfrm>
              <a:custGeom>
                <a:avLst/>
                <a:gdLst/>
                <a:ahLst/>
                <a:rect l="l" t="t" r="r" b="b"/>
                <a:pathLst>
                  <a:path w="610" h="560">
                    <a:moveTo>
                      <a:pt x="266" y="257"/>
                    </a:moveTo>
                    <a:lnTo>
                      <a:pt x="152" y="0"/>
                    </a:lnTo>
                    <a:lnTo>
                      <a:pt x="305" y="233"/>
                    </a:lnTo>
                    <a:lnTo>
                      <a:pt x="455" y="0"/>
                    </a:lnTo>
                    <a:lnTo>
                      <a:pt x="342" y="257"/>
                    </a:lnTo>
                    <a:lnTo>
                      <a:pt x="609" y="280"/>
                    </a:lnTo>
                    <a:lnTo>
                      <a:pt x="341" y="302"/>
                    </a:lnTo>
                    <a:lnTo>
                      <a:pt x="455" y="559"/>
                    </a:lnTo>
                    <a:lnTo>
                      <a:pt x="305" y="326"/>
                    </a:lnTo>
                    <a:lnTo>
                      <a:pt x="152" y="559"/>
                    </a:lnTo>
                    <a:lnTo>
                      <a:pt x="266" y="304"/>
                    </a:lnTo>
                    <a:lnTo>
                      <a:pt x="0" y="280"/>
                    </a:lnTo>
                    <a:lnTo>
                      <a:pt x="266" y="257"/>
                    </a:lnTo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26920" y="446040"/>
                <a:ext cx="466920" cy="576360"/>
              </a:xfrm>
              <a:custGeom>
                <a:avLst/>
                <a:gdLst/>
                <a:ahLst/>
                <a:rect l="l" t="t" r="r" b="b"/>
                <a:pathLst>
                  <a:path w="294" h="363">
                    <a:moveTo>
                      <a:pt x="0" y="90"/>
                    </a:moveTo>
                    <a:lnTo>
                      <a:pt x="134" y="158"/>
                    </a:lnTo>
                    <a:lnTo>
                      <a:pt x="147" y="0"/>
                    </a:lnTo>
                    <a:lnTo>
                      <a:pt x="159" y="158"/>
                    </a:lnTo>
                    <a:lnTo>
                      <a:pt x="293" y="90"/>
                    </a:lnTo>
                    <a:lnTo>
                      <a:pt x="171" y="181"/>
                    </a:lnTo>
                    <a:lnTo>
                      <a:pt x="293" y="270"/>
                    </a:lnTo>
                    <a:lnTo>
                      <a:pt x="159" y="204"/>
                    </a:lnTo>
                    <a:lnTo>
                      <a:pt x="147" y="362"/>
                    </a:lnTo>
                    <a:lnTo>
                      <a:pt x="134" y="204"/>
                    </a:lnTo>
                    <a:lnTo>
                      <a:pt x="0" y="270"/>
                    </a:lnTo>
                    <a:lnTo>
                      <a:pt x="122" y="181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264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598320" y="309600"/>
                <a:ext cx="924120" cy="847800"/>
              </a:xfrm>
              <a:custGeom>
                <a:avLst/>
                <a:gdLst/>
                <a:ahLst/>
                <a:rect l="l" t="t" r="r" b="b"/>
                <a:pathLst>
                  <a:path w="582" h="534">
                    <a:moveTo>
                      <a:pt x="253" y="244"/>
                    </a:moveTo>
                    <a:lnTo>
                      <a:pt x="145" y="0"/>
                    </a:lnTo>
                    <a:lnTo>
                      <a:pt x="291" y="220"/>
                    </a:lnTo>
                    <a:lnTo>
                      <a:pt x="436" y="0"/>
                    </a:lnTo>
                    <a:lnTo>
                      <a:pt x="327" y="244"/>
                    </a:lnTo>
                    <a:lnTo>
                      <a:pt x="581" y="267"/>
                    </a:lnTo>
                    <a:lnTo>
                      <a:pt x="327" y="289"/>
                    </a:lnTo>
                    <a:lnTo>
                      <a:pt x="436" y="533"/>
                    </a:lnTo>
                    <a:lnTo>
                      <a:pt x="291" y="313"/>
                    </a:lnTo>
                    <a:lnTo>
                      <a:pt x="145" y="533"/>
                    </a:lnTo>
                    <a:lnTo>
                      <a:pt x="252" y="290"/>
                    </a:lnTo>
                    <a:lnTo>
                      <a:pt x="0" y="267"/>
                    </a:lnTo>
                    <a:lnTo>
                      <a:pt x="253" y="244"/>
                    </a:lnTo>
                  </a:path>
                </a:pathLst>
              </a:custGeom>
              <a:solidFill>
                <a:srgbClr val="264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6640" y="457200"/>
                <a:ext cx="447480" cy="552600"/>
              </a:xfrm>
              <a:custGeom>
                <a:avLst/>
                <a:gdLst/>
                <a:ahLst/>
                <a:rect l="l" t="t" r="r" b="b"/>
                <a:pathLst>
                  <a:path w="282" h="348">
                    <a:moveTo>
                      <a:pt x="0" y="88"/>
                    </a:moveTo>
                    <a:lnTo>
                      <a:pt x="128" y="151"/>
                    </a:lnTo>
                    <a:lnTo>
                      <a:pt x="141" y="0"/>
                    </a:lnTo>
                    <a:lnTo>
                      <a:pt x="153" y="151"/>
                    </a:lnTo>
                    <a:lnTo>
                      <a:pt x="280" y="88"/>
                    </a:lnTo>
                    <a:lnTo>
                      <a:pt x="165" y="174"/>
                    </a:lnTo>
                    <a:lnTo>
                      <a:pt x="281" y="259"/>
                    </a:lnTo>
                    <a:lnTo>
                      <a:pt x="153" y="197"/>
                    </a:lnTo>
                    <a:lnTo>
                      <a:pt x="141" y="347"/>
                    </a:lnTo>
                    <a:lnTo>
                      <a:pt x="128" y="197"/>
                    </a:lnTo>
                    <a:lnTo>
                      <a:pt x="0" y="261"/>
                    </a:lnTo>
                    <a:lnTo>
                      <a:pt x="116" y="174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2c4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20640" y="331920"/>
                <a:ext cx="878040" cy="804600"/>
              </a:xfrm>
              <a:custGeom>
                <a:avLst/>
                <a:gdLst/>
                <a:ahLst/>
                <a:rect l="l" t="t" r="r" b="b"/>
                <a:pathLst>
                  <a:path w="553" h="507">
                    <a:moveTo>
                      <a:pt x="239" y="230"/>
                    </a:moveTo>
                    <a:lnTo>
                      <a:pt x="139" y="0"/>
                    </a:lnTo>
                    <a:lnTo>
                      <a:pt x="277" y="206"/>
                    </a:lnTo>
                    <a:lnTo>
                      <a:pt x="414" y="0"/>
                    </a:lnTo>
                    <a:lnTo>
                      <a:pt x="313" y="230"/>
                    </a:lnTo>
                    <a:lnTo>
                      <a:pt x="552" y="253"/>
                    </a:lnTo>
                    <a:lnTo>
                      <a:pt x="312" y="275"/>
                    </a:lnTo>
                    <a:lnTo>
                      <a:pt x="414" y="506"/>
                    </a:lnTo>
                    <a:lnTo>
                      <a:pt x="277" y="299"/>
                    </a:lnTo>
                    <a:lnTo>
                      <a:pt x="139" y="506"/>
                    </a:lnTo>
                    <a:lnTo>
                      <a:pt x="238" y="277"/>
                    </a:lnTo>
                    <a:lnTo>
                      <a:pt x="0" y="253"/>
                    </a:lnTo>
                    <a:lnTo>
                      <a:pt x="239" y="230"/>
                    </a:lnTo>
                  </a:path>
                </a:pathLst>
              </a:custGeom>
              <a:solidFill>
                <a:srgbClr val="2c4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6000" y="46980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642960" y="35244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53920" y="480960"/>
                <a:ext cx="411480" cy="504720"/>
              </a:xfrm>
              <a:custGeom>
                <a:avLst/>
                <a:gdLst/>
                <a:ahLst/>
                <a:rect l="l" t="t" r="r" b="b"/>
                <a:pathLst>
                  <a:path w="259" h="318">
                    <a:moveTo>
                      <a:pt x="0" y="80"/>
                    </a:moveTo>
                    <a:lnTo>
                      <a:pt x="117" y="136"/>
                    </a:lnTo>
                    <a:lnTo>
                      <a:pt x="129" y="0"/>
                    </a:lnTo>
                    <a:lnTo>
                      <a:pt x="142" y="136"/>
                    </a:lnTo>
                    <a:lnTo>
                      <a:pt x="258" y="80"/>
                    </a:lnTo>
                    <a:lnTo>
                      <a:pt x="154" y="159"/>
                    </a:lnTo>
                    <a:lnTo>
                      <a:pt x="258" y="239"/>
                    </a:lnTo>
                    <a:lnTo>
                      <a:pt x="142" y="182"/>
                    </a:lnTo>
                    <a:lnTo>
                      <a:pt x="130" y="317"/>
                    </a:lnTo>
                    <a:lnTo>
                      <a:pt x="117" y="182"/>
                    </a:lnTo>
                    <a:lnTo>
                      <a:pt x="0" y="239"/>
                    </a:lnTo>
                    <a:lnTo>
                      <a:pt x="105" y="159"/>
                    </a:lnTo>
                    <a:lnTo>
                      <a:pt x="0" y="80"/>
                    </a:lnTo>
                  </a:path>
                </a:pathLst>
              </a:custGeom>
              <a:solidFill>
                <a:srgbClr val="3b5b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666720" y="372960"/>
                <a:ext cx="787320" cy="720720"/>
              </a:xfrm>
              <a:custGeom>
                <a:avLst/>
                <a:gdLst/>
                <a:ahLst/>
                <a:rect l="l" t="t" r="r" b="b"/>
                <a:pathLst>
                  <a:path w="496" h="454">
                    <a:moveTo>
                      <a:pt x="210" y="204"/>
                    </a:moveTo>
                    <a:lnTo>
                      <a:pt x="125" y="1"/>
                    </a:lnTo>
                    <a:lnTo>
                      <a:pt x="248" y="180"/>
                    </a:lnTo>
                    <a:lnTo>
                      <a:pt x="369" y="0"/>
                    </a:lnTo>
                    <a:lnTo>
                      <a:pt x="284" y="204"/>
                    </a:lnTo>
                    <a:lnTo>
                      <a:pt x="495" y="227"/>
                    </a:lnTo>
                    <a:lnTo>
                      <a:pt x="283" y="249"/>
                    </a:lnTo>
                    <a:lnTo>
                      <a:pt x="370" y="453"/>
                    </a:lnTo>
                    <a:lnTo>
                      <a:pt x="248" y="273"/>
                    </a:lnTo>
                    <a:lnTo>
                      <a:pt x="125" y="453"/>
                    </a:lnTo>
                    <a:lnTo>
                      <a:pt x="209" y="251"/>
                    </a:lnTo>
                    <a:lnTo>
                      <a:pt x="0" y="227"/>
                    </a:lnTo>
                    <a:lnTo>
                      <a:pt x="210" y="204"/>
                    </a:lnTo>
                  </a:path>
                </a:pathLst>
              </a:custGeom>
              <a:solidFill>
                <a:srgbClr val="3b5b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63640" y="493560"/>
                <a:ext cx="392040" cy="481320"/>
              </a:xfrm>
              <a:custGeom>
                <a:avLst/>
                <a:gdLst/>
                <a:ahLst/>
                <a:rect l="l" t="t" r="r" b="b"/>
                <a:pathLst>
                  <a:path w="247" h="303">
                    <a:moveTo>
                      <a:pt x="0" y="76"/>
                    </a:moveTo>
                    <a:lnTo>
                      <a:pt x="111" y="128"/>
                    </a:lnTo>
                    <a:lnTo>
                      <a:pt x="124" y="0"/>
                    </a:lnTo>
                    <a:lnTo>
                      <a:pt x="136" y="128"/>
                    </a:lnTo>
                    <a:lnTo>
                      <a:pt x="246" y="76"/>
                    </a:lnTo>
                    <a:lnTo>
                      <a:pt x="148" y="151"/>
                    </a:lnTo>
                    <a:lnTo>
                      <a:pt x="246" y="227"/>
                    </a:lnTo>
                    <a:lnTo>
                      <a:pt x="136" y="173"/>
                    </a:lnTo>
                    <a:lnTo>
                      <a:pt x="124" y="302"/>
                    </a:lnTo>
                    <a:lnTo>
                      <a:pt x="111" y="173"/>
                    </a:lnTo>
                    <a:lnTo>
                      <a:pt x="0" y="227"/>
                    </a:lnTo>
                    <a:lnTo>
                      <a:pt x="99" y="151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4464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89040" y="393840"/>
                <a:ext cx="741240" cy="679320"/>
              </a:xfrm>
              <a:custGeom>
                <a:avLst/>
                <a:gdLst/>
                <a:ahLst/>
                <a:rect l="l" t="t" r="r" b="b"/>
                <a:pathLst>
                  <a:path w="467" h="428">
                    <a:moveTo>
                      <a:pt x="196" y="191"/>
                    </a:moveTo>
                    <a:lnTo>
                      <a:pt x="118" y="0"/>
                    </a:lnTo>
                    <a:lnTo>
                      <a:pt x="234" y="167"/>
                    </a:lnTo>
                    <a:lnTo>
                      <a:pt x="350" y="0"/>
                    </a:lnTo>
                    <a:lnTo>
                      <a:pt x="270" y="191"/>
                    </a:lnTo>
                    <a:lnTo>
                      <a:pt x="466" y="214"/>
                    </a:lnTo>
                    <a:lnTo>
                      <a:pt x="269" y="236"/>
                    </a:lnTo>
                    <a:lnTo>
                      <a:pt x="350" y="427"/>
                    </a:lnTo>
                    <a:lnTo>
                      <a:pt x="234" y="260"/>
                    </a:lnTo>
                    <a:lnTo>
                      <a:pt x="118" y="427"/>
                    </a:lnTo>
                    <a:lnTo>
                      <a:pt x="195" y="237"/>
                    </a:lnTo>
                    <a:lnTo>
                      <a:pt x="0" y="214"/>
                    </a:lnTo>
                    <a:lnTo>
                      <a:pt x="196" y="191"/>
                    </a:lnTo>
                  </a:path>
                </a:pathLst>
              </a:custGeom>
              <a:solidFill>
                <a:srgbClr val="4464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73000" y="504720"/>
                <a:ext cx="373320" cy="459000"/>
              </a:xfrm>
              <a:custGeom>
                <a:avLst/>
                <a:gdLst/>
                <a:ahLst/>
                <a:rect l="l" t="t" r="r" b="b"/>
                <a:pathLst>
                  <a:path w="235" h="289">
                    <a:moveTo>
                      <a:pt x="0" y="71"/>
                    </a:moveTo>
                    <a:lnTo>
                      <a:pt x="105" y="121"/>
                    </a:lnTo>
                    <a:lnTo>
                      <a:pt x="118" y="0"/>
                    </a:lnTo>
                    <a:lnTo>
                      <a:pt x="130" y="121"/>
                    </a:lnTo>
                    <a:lnTo>
                      <a:pt x="234" y="71"/>
                    </a:lnTo>
                    <a:lnTo>
                      <a:pt x="142" y="144"/>
                    </a:lnTo>
                    <a:lnTo>
                      <a:pt x="234" y="215"/>
                    </a:lnTo>
                    <a:lnTo>
                      <a:pt x="130" y="167"/>
                    </a:lnTo>
                    <a:lnTo>
                      <a:pt x="118" y="288"/>
                    </a:lnTo>
                    <a:lnTo>
                      <a:pt x="105" y="167"/>
                    </a:lnTo>
                    <a:lnTo>
                      <a:pt x="0" y="217"/>
                    </a:lnTo>
                    <a:lnTo>
                      <a:pt x="93" y="144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4e6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11360" y="415800"/>
                <a:ext cx="696600" cy="636840"/>
              </a:xfrm>
              <a:custGeom>
                <a:avLst/>
                <a:gdLst/>
                <a:ahLst/>
                <a:rect l="l" t="t" r="r" b="b"/>
                <a:pathLst>
                  <a:path w="439" h="401">
                    <a:moveTo>
                      <a:pt x="182" y="177"/>
                    </a:moveTo>
                    <a:lnTo>
                      <a:pt x="111" y="0"/>
                    </a:lnTo>
                    <a:lnTo>
                      <a:pt x="220" y="153"/>
                    </a:lnTo>
                    <a:lnTo>
                      <a:pt x="329" y="0"/>
                    </a:lnTo>
                    <a:lnTo>
                      <a:pt x="256" y="177"/>
                    </a:lnTo>
                    <a:lnTo>
                      <a:pt x="438" y="200"/>
                    </a:lnTo>
                    <a:lnTo>
                      <a:pt x="255" y="222"/>
                    </a:lnTo>
                    <a:lnTo>
                      <a:pt x="329" y="400"/>
                    </a:lnTo>
                    <a:lnTo>
                      <a:pt x="220" y="246"/>
                    </a:lnTo>
                    <a:lnTo>
                      <a:pt x="111" y="400"/>
                    </a:lnTo>
                    <a:lnTo>
                      <a:pt x="182" y="223"/>
                    </a:lnTo>
                    <a:lnTo>
                      <a:pt x="0" y="200"/>
                    </a:lnTo>
                    <a:lnTo>
                      <a:pt x="182" y="177"/>
                    </a:lnTo>
                  </a:path>
                </a:pathLst>
              </a:custGeom>
              <a:solidFill>
                <a:srgbClr val="4e6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82720" y="515880"/>
                <a:ext cx="353880" cy="434880"/>
              </a:xfrm>
              <a:custGeom>
                <a:avLst/>
                <a:gdLst/>
                <a:ahLst/>
                <a:rect l="l" t="t" r="r" b="b"/>
                <a:pathLst>
                  <a:path w="223" h="274">
                    <a:moveTo>
                      <a:pt x="0" y="69"/>
                    </a:moveTo>
                    <a:lnTo>
                      <a:pt x="99" y="114"/>
                    </a:lnTo>
                    <a:lnTo>
                      <a:pt x="112" y="0"/>
                    </a:lnTo>
                    <a:lnTo>
                      <a:pt x="124" y="114"/>
                    </a:lnTo>
                    <a:lnTo>
                      <a:pt x="222" y="69"/>
                    </a:lnTo>
                    <a:lnTo>
                      <a:pt x="136" y="137"/>
                    </a:lnTo>
                    <a:lnTo>
                      <a:pt x="222" y="206"/>
                    </a:lnTo>
                    <a:lnTo>
                      <a:pt x="124" y="159"/>
                    </a:lnTo>
                    <a:lnTo>
                      <a:pt x="112" y="273"/>
                    </a:lnTo>
                    <a:lnTo>
                      <a:pt x="99" y="159"/>
                    </a:lnTo>
                    <a:lnTo>
                      <a:pt x="0" y="206"/>
                    </a:lnTo>
                    <a:lnTo>
                      <a:pt x="87" y="137"/>
                    </a:lnTo>
                    <a:lnTo>
                      <a:pt x="0" y="69"/>
                    </a:lnTo>
                  </a:path>
                </a:pathLst>
              </a:custGeom>
              <a:solidFill>
                <a:srgbClr val="5a7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120" y="434880"/>
                <a:ext cx="650880" cy="596880"/>
              </a:xfrm>
              <a:custGeom>
                <a:avLst/>
                <a:gdLst/>
                <a:ahLst/>
                <a:rect l="l" t="t" r="r" b="b"/>
                <a:pathLst>
                  <a:path w="410" h="376">
                    <a:moveTo>
                      <a:pt x="167" y="165"/>
                    </a:moveTo>
                    <a:lnTo>
                      <a:pt x="102" y="0"/>
                    </a:lnTo>
                    <a:lnTo>
                      <a:pt x="205" y="141"/>
                    </a:lnTo>
                    <a:lnTo>
                      <a:pt x="305" y="0"/>
                    </a:lnTo>
                    <a:lnTo>
                      <a:pt x="241" y="165"/>
                    </a:lnTo>
                    <a:lnTo>
                      <a:pt x="409" y="188"/>
                    </a:lnTo>
                    <a:lnTo>
                      <a:pt x="240" y="210"/>
                    </a:lnTo>
                    <a:lnTo>
                      <a:pt x="305" y="375"/>
                    </a:lnTo>
                    <a:lnTo>
                      <a:pt x="205" y="234"/>
                    </a:lnTo>
                    <a:lnTo>
                      <a:pt x="102" y="375"/>
                    </a:lnTo>
                    <a:lnTo>
                      <a:pt x="166" y="211"/>
                    </a:lnTo>
                    <a:lnTo>
                      <a:pt x="0" y="188"/>
                    </a:lnTo>
                    <a:lnTo>
                      <a:pt x="167" y="165"/>
                    </a:lnTo>
                  </a:path>
                </a:pathLst>
              </a:custGeom>
              <a:solidFill>
                <a:srgbClr val="5a7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92080" y="527040"/>
                <a:ext cx="335160" cy="412920"/>
              </a:xfrm>
              <a:custGeom>
                <a:avLst/>
                <a:gdLst/>
                <a:ahLst/>
                <a:rect l="l" t="t" r="r" b="b"/>
                <a:pathLst>
                  <a:path w="211" h="260">
                    <a:moveTo>
                      <a:pt x="0" y="66"/>
                    </a:moveTo>
                    <a:lnTo>
                      <a:pt x="93" y="107"/>
                    </a:lnTo>
                    <a:lnTo>
                      <a:pt x="106" y="0"/>
                    </a:lnTo>
                    <a:lnTo>
                      <a:pt x="118" y="107"/>
                    </a:lnTo>
                    <a:lnTo>
                      <a:pt x="210" y="66"/>
                    </a:lnTo>
                    <a:lnTo>
                      <a:pt x="130" y="130"/>
                    </a:lnTo>
                    <a:lnTo>
                      <a:pt x="210" y="195"/>
                    </a:lnTo>
                    <a:lnTo>
                      <a:pt x="118" y="152"/>
                    </a:lnTo>
                    <a:lnTo>
                      <a:pt x="106" y="259"/>
                    </a:lnTo>
                    <a:lnTo>
                      <a:pt x="93" y="152"/>
                    </a:lnTo>
                    <a:lnTo>
                      <a:pt x="0" y="195"/>
                    </a:lnTo>
                    <a:lnTo>
                      <a:pt x="81" y="130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57080" y="45576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901800" y="539640"/>
                <a:ext cx="315720" cy="389160"/>
              </a:xfrm>
              <a:custGeom>
                <a:avLst/>
                <a:gdLst/>
                <a:ahLst/>
                <a:rect l="l" t="t" r="r" b="b"/>
                <a:pathLst>
                  <a:path w="199" h="245">
                    <a:moveTo>
                      <a:pt x="0" y="60"/>
                    </a:moveTo>
                    <a:lnTo>
                      <a:pt x="87" y="99"/>
                    </a:lnTo>
                    <a:lnTo>
                      <a:pt x="100" y="0"/>
                    </a:lnTo>
                    <a:lnTo>
                      <a:pt x="111" y="99"/>
                    </a:lnTo>
                    <a:lnTo>
                      <a:pt x="198" y="60"/>
                    </a:lnTo>
                    <a:lnTo>
                      <a:pt x="124" y="122"/>
                    </a:lnTo>
                    <a:lnTo>
                      <a:pt x="198" y="182"/>
                    </a:lnTo>
                    <a:lnTo>
                      <a:pt x="111" y="144"/>
                    </a:lnTo>
                    <a:lnTo>
                      <a:pt x="100" y="244"/>
                    </a:lnTo>
                    <a:lnTo>
                      <a:pt x="87" y="144"/>
                    </a:lnTo>
                    <a:lnTo>
                      <a:pt x="0" y="182"/>
                    </a:lnTo>
                    <a:lnTo>
                      <a:pt x="75" y="122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7992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1200" y="479520"/>
                <a:ext cx="556920" cy="509400"/>
              </a:xfrm>
              <a:custGeom>
                <a:avLst/>
                <a:gdLst/>
                <a:ahLst/>
                <a:rect l="l" t="t" r="r" b="b"/>
                <a:pathLst>
                  <a:path w="351" h="321">
                    <a:moveTo>
                      <a:pt x="138" y="138"/>
                    </a:moveTo>
                    <a:lnTo>
                      <a:pt x="89" y="0"/>
                    </a:lnTo>
                    <a:lnTo>
                      <a:pt x="176" y="113"/>
                    </a:lnTo>
                    <a:lnTo>
                      <a:pt x="263" y="0"/>
                    </a:lnTo>
                    <a:lnTo>
                      <a:pt x="212" y="138"/>
                    </a:lnTo>
                    <a:lnTo>
                      <a:pt x="350" y="160"/>
                    </a:lnTo>
                    <a:lnTo>
                      <a:pt x="211" y="181"/>
                    </a:lnTo>
                    <a:lnTo>
                      <a:pt x="263" y="319"/>
                    </a:lnTo>
                    <a:lnTo>
                      <a:pt x="176" y="206"/>
                    </a:lnTo>
                    <a:lnTo>
                      <a:pt x="89" y="320"/>
                    </a:lnTo>
                    <a:lnTo>
                      <a:pt x="138" y="182"/>
                    </a:lnTo>
                    <a:lnTo>
                      <a:pt x="0" y="160"/>
                    </a:lnTo>
                    <a:lnTo>
                      <a:pt x="138" y="138"/>
                    </a:lnTo>
                  </a:path>
                </a:pathLst>
              </a:custGeom>
              <a:solidFill>
                <a:srgbClr val="7992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11160" y="550800"/>
                <a:ext cx="297000" cy="366840"/>
              </a:xfrm>
              <a:custGeom>
                <a:avLst/>
                <a:gdLst/>
                <a:ahLst/>
                <a:rect l="l" t="t" r="r" b="b"/>
                <a:pathLst>
                  <a:path w="187" h="231">
                    <a:moveTo>
                      <a:pt x="0" y="58"/>
                    </a:moveTo>
                    <a:lnTo>
                      <a:pt x="81" y="92"/>
                    </a:lnTo>
                    <a:lnTo>
                      <a:pt x="94" y="0"/>
                    </a:lnTo>
                    <a:lnTo>
                      <a:pt x="105" y="92"/>
                    </a:lnTo>
                    <a:lnTo>
                      <a:pt x="186" y="58"/>
                    </a:lnTo>
                    <a:lnTo>
                      <a:pt x="118" y="115"/>
                    </a:lnTo>
                    <a:lnTo>
                      <a:pt x="186" y="173"/>
                    </a:lnTo>
                    <a:lnTo>
                      <a:pt x="105" y="137"/>
                    </a:lnTo>
                    <a:lnTo>
                      <a:pt x="94" y="230"/>
                    </a:lnTo>
                    <a:lnTo>
                      <a:pt x="81" y="137"/>
                    </a:lnTo>
                    <a:lnTo>
                      <a:pt x="0" y="173"/>
                    </a:lnTo>
                    <a:lnTo>
                      <a:pt x="69" y="115"/>
                    </a:lnTo>
                    <a:lnTo>
                      <a:pt x="0" y="58"/>
                    </a:lnTo>
                  </a:path>
                </a:pathLst>
              </a:custGeom>
              <a:solidFill>
                <a:srgbClr val="8ba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04960" y="500040"/>
                <a:ext cx="511200" cy="468360"/>
              </a:xfrm>
              <a:custGeom>
                <a:avLst/>
                <a:gdLst/>
                <a:ahLst/>
                <a:rect l="l" t="t" r="r" b="b"/>
                <a:pathLst>
                  <a:path w="322" h="295">
                    <a:moveTo>
                      <a:pt x="123" y="125"/>
                    </a:moveTo>
                    <a:lnTo>
                      <a:pt x="81" y="0"/>
                    </a:lnTo>
                    <a:lnTo>
                      <a:pt x="161" y="100"/>
                    </a:lnTo>
                    <a:lnTo>
                      <a:pt x="240" y="0"/>
                    </a:lnTo>
                    <a:lnTo>
                      <a:pt x="197" y="125"/>
                    </a:lnTo>
                    <a:lnTo>
                      <a:pt x="321" y="147"/>
                    </a:lnTo>
                    <a:lnTo>
                      <a:pt x="196" y="168"/>
                    </a:lnTo>
                    <a:lnTo>
                      <a:pt x="240" y="293"/>
                    </a:lnTo>
                    <a:lnTo>
                      <a:pt x="161" y="193"/>
                    </a:lnTo>
                    <a:lnTo>
                      <a:pt x="81" y="294"/>
                    </a:lnTo>
                    <a:lnTo>
                      <a:pt x="122" y="170"/>
                    </a:lnTo>
                    <a:lnTo>
                      <a:pt x="0" y="147"/>
                    </a:lnTo>
                    <a:lnTo>
                      <a:pt x="123" y="125"/>
                    </a:lnTo>
                  </a:path>
                </a:pathLst>
              </a:custGeom>
              <a:solidFill>
                <a:srgbClr val="8ba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20880" y="561960"/>
                <a:ext cx="279360" cy="344520"/>
              </a:xfrm>
              <a:custGeom>
                <a:avLst/>
                <a:gdLst/>
                <a:ahLst/>
                <a:rect l="l" t="t" r="r" b="b"/>
                <a:pathLst>
                  <a:path w="176" h="217">
                    <a:moveTo>
                      <a:pt x="0" y="55"/>
                    </a:moveTo>
                    <a:lnTo>
                      <a:pt x="76" y="85"/>
                    </a:lnTo>
                    <a:lnTo>
                      <a:pt x="88" y="0"/>
                    </a:lnTo>
                    <a:lnTo>
                      <a:pt x="99" y="85"/>
                    </a:lnTo>
                    <a:lnTo>
                      <a:pt x="174" y="53"/>
                    </a:lnTo>
                    <a:lnTo>
                      <a:pt x="112" y="108"/>
                    </a:lnTo>
                    <a:lnTo>
                      <a:pt x="175" y="161"/>
                    </a:lnTo>
                    <a:lnTo>
                      <a:pt x="99" y="130"/>
                    </a:lnTo>
                    <a:lnTo>
                      <a:pt x="88" y="216"/>
                    </a:lnTo>
                    <a:lnTo>
                      <a:pt x="76" y="130"/>
                    </a:lnTo>
                    <a:lnTo>
                      <a:pt x="0" y="161"/>
                    </a:lnTo>
                    <a:lnTo>
                      <a:pt x="63" y="108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26920" y="520560"/>
                <a:ext cx="466920" cy="427320"/>
              </a:xfrm>
              <a:custGeom>
                <a:avLst/>
                <a:gdLst/>
                <a:ahLst/>
                <a:rect l="l" t="t" r="r" b="b"/>
                <a:pathLst>
                  <a:path w="294" h="269">
                    <a:moveTo>
                      <a:pt x="109" y="112"/>
                    </a:moveTo>
                    <a:lnTo>
                      <a:pt x="74" y="0"/>
                    </a:lnTo>
                    <a:lnTo>
                      <a:pt x="147" y="87"/>
                    </a:lnTo>
                    <a:lnTo>
                      <a:pt x="219" y="0"/>
                    </a:lnTo>
                    <a:lnTo>
                      <a:pt x="183" y="112"/>
                    </a:lnTo>
                    <a:lnTo>
                      <a:pt x="293" y="134"/>
                    </a:lnTo>
                    <a:lnTo>
                      <a:pt x="182" y="155"/>
                    </a:lnTo>
                    <a:lnTo>
                      <a:pt x="219" y="267"/>
                    </a:lnTo>
                    <a:lnTo>
                      <a:pt x="147" y="180"/>
                    </a:lnTo>
                    <a:lnTo>
                      <a:pt x="74" y="268"/>
                    </a:lnTo>
                    <a:lnTo>
                      <a:pt x="108" y="157"/>
                    </a:lnTo>
                    <a:lnTo>
                      <a:pt x="0" y="134"/>
                    </a:lnTo>
                    <a:lnTo>
                      <a:pt x="109" y="112"/>
                    </a:lnTo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30240" y="573120"/>
                <a:ext cx="260280" cy="320760"/>
              </a:xfrm>
              <a:custGeom>
                <a:avLst/>
                <a:gdLst/>
                <a:ahLst/>
                <a:rect l="l" t="t" r="r" b="b"/>
                <a:pathLst>
                  <a:path w="164" h="202">
                    <a:moveTo>
                      <a:pt x="0" y="51"/>
                    </a:moveTo>
                    <a:lnTo>
                      <a:pt x="70" y="78"/>
                    </a:lnTo>
                    <a:lnTo>
                      <a:pt x="82" y="0"/>
                    </a:lnTo>
                    <a:lnTo>
                      <a:pt x="93" y="78"/>
                    </a:lnTo>
                    <a:lnTo>
                      <a:pt x="162" y="51"/>
                    </a:lnTo>
                    <a:lnTo>
                      <a:pt x="106" y="101"/>
                    </a:lnTo>
                    <a:lnTo>
                      <a:pt x="163" y="150"/>
                    </a:lnTo>
                    <a:lnTo>
                      <a:pt x="93" y="123"/>
                    </a:lnTo>
                    <a:lnTo>
                      <a:pt x="82" y="201"/>
                    </a:lnTo>
                    <a:lnTo>
                      <a:pt x="70" y="123"/>
                    </a:lnTo>
                    <a:lnTo>
                      <a:pt x="0" y="150"/>
                    </a:lnTo>
                    <a:lnTo>
                      <a:pt x="57" y="101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49240" y="541440"/>
                <a:ext cx="420840" cy="384120"/>
              </a:xfrm>
              <a:custGeom>
                <a:avLst/>
                <a:gdLst/>
                <a:ahLst/>
                <a:rect l="l" t="t" r="r" b="b"/>
                <a:pathLst>
                  <a:path w="265" h="242">
                    <a:moveTo>
                      <a:pt x="95" y="99"/>
                    </a:moveTo>
                    <a:lnTo>
                      <a:pt x="67" y="0"/>
                    </a:lnTo>
                    <a:lnTo>
                      <a:pt x="133" y="75"/>
                    </a:lnTo>
                    <a:lnTo>
                      <a:pt x="199" y="0"/>
                    </a:lnTo>
                    <a:lnTo>
                      <a:pt x="169" y="99"/>
                    </a:lnTo>
                    <a:lnTo>
                      <a:pt x="264" y="121"/>
                    </a:lnTo>
                    <a:lnTo>
                      <a:pt x="168" y="142"/>
                    </a:lnTo>
                    <a:lnTo>
                      <a:pt x="199" y="241"/>
                    </a:lnTo>
                    <a:lnTo>
                      <a:pt x="133" y="166"/>
                    </a:lnTo>
                    <a:lnTo>
                      <a:pt x="67" y="241"/>
                    </a:lnTo>
                    <a:lnTo>
                      <a:pt x="95" y="143"/>
                    </a:lnTo>
                    <a:lnTo>
                      <a:pt x="0" y="121"/>
                    </a:lnTo>
                    <a:lnTo>
                      <a:pt x="95" y="99"/>
                    </a:lnTo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39960" y="584280"/>
                <a:ext cx="241200" cy="298440"/>
              </a:xfrm>
              <a:custGeom>
                <a:avLst/>
                <a:gdLst/>
                <a:ahLst/>
                <a:rect l="l" t="t" r="r" b="b"/>
                <a:pathLst>
                  <a:path w="152" h="188">
                    <a:moveTo>
                      <a:pt x="0" y="48"/>
                    </a:moveTo>
                    <a:lnTo>
                      <a:pt x="64" y="71"/>
                    </a:lnTo>
                    <a:lnTo>
                      <a:pt x="76" y="0"/>
                    </a:lnTo>
                    <a:lnTo>
                      <a:pt x="87" y="71"/>
                    </a:lnTo>
                    <a:lnTo>
                      <a:pt x="151" y="48"/>
                    </a:lnTo>
                    <a:lnTo>
                      <a:pt x="100" y="94"/>
                    </a:lnTo>
                    <a:lnTo>
                      <a:pt x="151" y="141"/>
                    </a:lnTo>
                    <a:lnTo>
                      <a:pt x="87" y="116"/>
                    </a:lnTo>
                    <a:lnTo>
                      <a:pt x="76" y="187"/>
                    </a:lnTo>
                    <a:lnTo>
                      <a:pt x="64" y="116"/>
                    </a:lnTo>
                    <a:lnTo>
                      <a:pt x="0" y="141"/>
                    </a:lnTo>
                    <a:lnTo>
                      <a:pt x="51" y="94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3000" y="561960"/>
                <a:ext cx="374760" cy="343080"/>
              </a:xfrm>
              <a:custGeom>
                <a:avLst/>
                <a:gdLst/>
                <a:ahLst/>
                <a:rect l="l" t="t" r="r" b="b"/>
                <a:pathLst>
                  <a:path w="236" h="216">
                    <a:moveTo>
                      <a:pt x="80" y="86"/>
                    </a:moveTo>
                    <a:lnTo>
                      <a:pt x="58" y="0"/>
                    </a:lnTo>
                    <a:lnTo>
                      <a:pt x="118" y="62"/>
                    </a:lnTo>
                    <a:lnTo>
                      <a:pt x="175" y="0"/>
                    </a:lnTo>
                    <a:lnTo>
                      <a:pt x="154" y="86"/>
                    </a:lnTo>
                    <a:lnTo>
                      <a:pt x="235" y="108"/>
                    </a:lnTo>
                    <a:lnTo>
                      <a:pt x="153" y="129"/>
                    </a:lnTo>
                    <a:lnTo>
                      <a:pt x="175" y="215"/>
                    </a:lnTo>
                    <a:lnTo>
                      <a:pt x="118" y="153"/>
                    </a:lnTo>
                    <a:lnTo>
                      <a:pt x="58" y="215"/>
                    </a:lnTo>
                    <a:lnTo>
                      <a:pt x="80" y="130"/>
                    </a:lnTo>
                    <a:lnTo>
                      <a:pt x="0" y="108"/>
                    </a:lnTo>
                    <a:lnTo>
                      <a:pt x="80" y="86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49320" y="596880"/>
                <a:ext cx="222120" cy="274680"/>
              </a:xfrm>
              <a:custGeom>
                <a:avLst/>
                <a:gdLst/>
                <a:ahLst/>
                <a:rect l="l" t="t" r="r" b="b"/>
                <a:pathLst>
                  <a:path w="140" h="173">
                    <a:moveTo>
                      <a:pt x="0" y="42"/>
                    </a:moveTo>
                    <a:lnTo>
                      <a:pt x="58" y="63"/>
                    </a:lnTo>
                    <a:lnTo>
                      <a:pt x="70" y="0"/>
                    </a:lnTo>
                    <a:lnTo>
                      <a:pt x="81" y="63"/>
                    </a:lnTo>
                    <a:lnTo>
                      <a:pt x="139" y="42"/>
                    </a:lnTo>
                    <a:lnTo>
                      <a:pt x="94" y="86"/>
                    </a:lnTo>
                    <a:lnTo>
                      <a:pt x="139" y="128"/>
                    </a:lnTo>
                    <a:lnTo>
                      <a:pt x="81" y="108"/>
                    </a:lnTo>
                    <a:lnTo>
                      <a:pt x="70" y="172"/>
                    </a:lnTo>
                    <a:lnTo>
                      <a:pt x="58" y="108"/>
                    </a:lnTo>
                    <a:lnTo>
                      <a:pt x="0" y="128"/>
                    </a:lnTo>
                    <a:lnTo>
                      <a:pt x="45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dfc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dfc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dfca"/>
                </a:solidFill>
                <a:latin typeface="Times New Roman"/>
              </a:rPr>
              <a:t>Nerekurzivni digitalni filtri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Digitalna obradba signal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09800" y="6076440"/>
            <a:ext cx="1759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S&amp;S - 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FIR sustav za M=2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1440" y="2689200"/>
            <a:ext cx="4419000" cy="4091400"/>
            <a:chOff x="1440" y="2689200"/>
            <a:chExt cx="4419000" cy="4091400"/>
          </a:xfrm>
        </p:grpSpPr>
        <p:sp>
          <p:nvSpPr>
            <p:cNvPr id="670" name=""/>
            <p:cNvSpPr/>
            <p:nvPr/>
          </p:nvSpPr>
          <p:spPr>
            <a:xfrm flipV="1">
              <a:off x="804960" y="3152880"/>
              <a:ext cx="0" cy="27813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1504800" y="3152880"/>
              <a:ext cx="0" cy="278136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2205000" y="3152880"/>
              <a:ext cx="0" cy="278136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905200" y="3152880"/>
              <a:ext cx="0" cy="278136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3603600" y="3152880"/>
              <a:ext cx="0" cy="278136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4303800" y="3152880"/>
              <a:ext cx="0" cy="27813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04960" y="5934240"/>
              <a:ext cx="34988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4960" y="5375160"/>
              <a:ext cx="349884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04960" y="4818240"/>
              <a:ext cx="349884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4960" y="4268880"/>
              <a:ext cx="349884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04960" y="3710160"/>
              <a:ext cx="349884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04960" y="3152880"/>
              <a:ext cx="34988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4960" y="3152880"/>
              <a:ext cx="3500280" cy="2782800"/>
            </a:xfrm>
            <a:custGeom>
              <a:avLst/>
              <a:gdLst/>
              <a:ahLst/>
              <a:rect l="l" t="t" r="r" b="b"/>
              <a:pathLst>
                <a:path w="2205" h="1753">
                  <a:moveTo>
                    <a:pt x="0" y="1752"/>
                  </a:moveTo>
                  <a:lnTo>
                    <a:pt x="0" y="0"/>
                  </a:lnTo>
                  <a:lnTo>
                    <a:pt x="2204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04960" y="3152880"/>
              <a:ext cx="3500280" cy="2782800"/>
            </a:xfrm>
            <a:custGeom>
              <a:avLst/>
              <a:gdLst/>
              <a:ahLst/>
              <a:rect l="l" t="t" r="r" b="b"/>
              <a:pathLst>
                <a:path w="2205" h="1753">
                  <a:moveTo>
                    <a:pt x="0" y="1752"/>
                  </a:moveTo>
                  <a:lnTo>
                    <a:pt x="0" y="0"/>
                  </a:lnTo>
                  <a:lnTo>
                    <a:pt x="2204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04960" y="3152880"/>
              <a:ext cx="3500280" cy="2782800"/>
            </a:xfrm>
            <a:custGeom>
              <a:avLst/>
              <a:gdLst/>
              <a:ahLst/>
              <a:rect l="l" t="t" r="r" b="b"/>
              <a:pathLst>
                <a:path w="2205" h="1753">
                  <a:moveTo>
                    <a:pt x="0" y="1752"/>
                  </a:moveTo>
                  <a:lnTo>
                    <a:pt x="0" y="0"/>
                  </a:lnTo>
                  <a:lnTo>
                    <a:pt x="2204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04960" y="5934240"/>
              <a:ext cx="34988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04960" y="3152880"/>
              <a:ext cx="34988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804960" y="3152880"/>
              <a:ext cx="0" cy="27813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4303800" y="3152880"/>
              <a:ext cx="0" cy="27813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04960" y="315288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4960" y="5934240"/>
              <a:ext cx="34988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804960" y="3152880"/>
              <a:ext cx="0" cy="27813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04960" y="593424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804960" y="5897520"/>
              <a:ext cx="0" cy="36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04960" y="3152880"/>
              <a:ext cx="0" cy="34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1504800" y="5897520"/>
              <a:ext cx="0" cy="36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504800" y="3152880"/>
              <a:ext cx="0" cy="34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2205000" y="5897520"/>
              <a:ext cx="0" cy="36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05000" y="3152880"/>
              <a:ext cx="0" cy="34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2905200" y="5897520"/>
              <a:ext cx="0" cy="36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905200" y="3152880"/>
              <a:ext cx="0" cy="34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3603600" y="5897520"/>
              <a:ext cx="0" cy="36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603600" y="3152880"/>
              <a:ext cx="0" cy="34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4303800" y="5897520"/>
              <a:ext cx="0" cy="36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303800" y="3152880"/>
              <a:ext cx="0" cy="34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608760" y="5973840"/>
              <a:ext cx="3811680" cy="397440"/>
              <a:chOff x="608760" y="5973840"/>
              <a:chExt cx="3811680" cy="397440"/>
            </a:xfrm>
          </p:grpSpPr>
          <p:sp>
            <p:nvSpPr>
              <p:cNvPr id="706" name=""/>
              <p:cNvSpPr/>
              <p:nvPr/>
            </p:nvSpPr>
            <p:spPr>
              <a:xfrm>
                <a:off x="608760" y="597384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243440" y="5973840"/>
                <a:ext cx="67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2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940400" y="5973840"/>
                <a:ext cx="67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4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637360" y="5973840"/>
                <a:ext cx="67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6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334320" y="5973840"/>
                <a:ext cx="67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8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095360" y="5973840"/>
                <a:ext cx="325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2" name=""/>
            <p:cNvSpPr/>
            <p:nvPr/>
          </p:nvSpPr>
          <p:spPr>
            <a:xfrm>
              <a:off x="804960" y="593424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4268520" y="593424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04960" y="565956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4268520" y="565956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04960" y="537516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4268520" y="537516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04960" y="510048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4268520" y="510048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04960" y="481824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4268520" y="481824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04960" y="454356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4268520" y="454356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04960" y="426888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268520" y="426888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04960" y="398448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4268520" y="398448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04960" y="371016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4268520" y="371016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04960" y="342756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4268520" y="342756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04960" y="315288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4268520" y="315288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4" name=""/>
            <p:cNvGrpSpPr/>
            <p:nvPr/>
          </p:nvGrpSpPr>
          <p:grpSpPr>
            <a:xfrm>
              <a:off x="329400" y="2971800"/>
              <a:ext cx="538560" cy="3137400"/>
              <a:chOff x="329400" y="2971800"/>
              <a:chExt cx="538560" cy="3137400"/>
            </a:xfrm>
          </p:grpSpPr>
          <p:sp>
            <p:nvSpPr>
              <p:cNvPr id="735" name=""/>
              <p:cNvSpPr/>
              <p:nvPr/>
            </p:nvSpPr>
            <p:spPr>
              <a:xfrm>
                <a:off x="443880" y="571176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329400" y="516096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29400" y="461160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29400" y="407196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29400" y="352116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43880" y="29718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804960" y="5934240"/>
              <a:ext cx="34988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04960" y="3152880"/>
              <a:ext cx="34988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804960" y="3152880"/>
              <a:ext cx="0" cy="27813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303800" y="3152880"/>
              <a:ext cx="0" cy="27813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04960" y="593424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04960" y="3152880"/>
              <a:ext cx="3500280" cy="2782800"/>
            </a:xfrm>
            <a:custGeom>
              <a:avLst/>
              <a:gdLst/>
              <a:ahLst/>
              <a:rect l="l" t="t" r="r" b="b"/>
              <a:pathLst>
                <a:path w="2205" h="1753">
                  <a:moveTo>
                    <a:pt x="0" y="0"/>
                  </a:moveTo>
                  <a:lnTo>
                    <a:pt x="11" y="0"/>
                  </a:lnTo>
                  <a:lnTo>
                    <a:pt x="17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8" y="0"/>
                  </a:lnTo>
                  <a:lnTo>
                    <a:pt x="83" y="5"/>
                  </a:lnTo>
                  <a:lnTo>
                    <a:pt x="95" y="5"/>
                  </a:lnTo>
                  <a:lnTo>
                    <a:pt x="106" y="5"/>
                  </a:lnTo>
                  <a:lnTo>
                    <a:pt x="111" y="5"/>
                  </a:lnTo>
                  <a:lnTo>
                    <a:pt x="123" y="5"/>
                  </a:lnTo>
                  <a:lnTo>
                    <a:pt x="128" y="5"/>
                  </a:lnTo>
                  <a:lnTo>
                    <a:pt x="139" y="11"/>
                  </a:lnTo>
                  <a:lnTo>
                    <a:pt x="145" y="11"/>
                  </a:lnTo>
                  <a:lnTo>
                    <a:pt x="156" y="11"/>
                  </a:lnTo>
                  <a:lnTo>
                    <a:pt x="162" y="11"/>
                  </a:lnTo>
                  <a:lnTo>
                    <a:pt x="173" y="11"/>
                  </a:lnTo>
                  <a:lnTo>
                    <a:pt x="184" y="17"/>
                  </a:lnTo>
                  <a:lnTo>
                    <a:pt x="190" y="17"/>
                  </a:lnTo>
                  <a:lnTo>
                    <a:pt x="201" y="17"/>
                  </a:lnTo>
                  <a:lnTo>
                    <a:pt x="206" y="17"/>
                  </a:lnTo>
                  <a:lnTo>
                    <a:pt x="217" y="22"/>
                  </a:lnTo>
                  <a:lnTo>
                    <a:pt x="223" y="22"/>
                  </a:lnTo>
                  <a:lnTo>
                    <a:pt x="234" y="22"/>
                  </a:lnTo>
                  <a:lnTo>
                    <a:pt x="240" y="28"/>
                  </a:lnTo>
                  <a:lnTo>
                    <a:pt x="251" y="28"/>
                  </a:lnTo>
                  <a:lnTo>
                    <a:pt x="257" y="28"/>
                  </a:lnTo>
                  <a:lnTo>
                    <a:pt x="268" y="33"/>
                  </a:lnTo>
                  <a:lnTo>
                    <a:pt x="279" y="33"/>
                  </a:lnTo>
                  <a:lnTo>
                    <a:pt x="284" y="33"/>
                  </a:lnTo>
                  <a:lnTo>
                    <a:pt x="296" y="39"/>
                  </a:lnTo>
                  <a:lnTo>
                    <a:pt x="301" y="39"/>
                  </a:lnTo>
                  <a:lnTo>
                    <a:pt x="312" y="44"/>
                  </a:lnTo>
                  <a:lnTo>
                    <a:pt x="318" y="44"/>
                  </a:lnTo>
                  <a:lnTo>
                    <a:pt x="329" y="50"/>
                  </a:lnTo>
                  <a:lnTo>
                    <a:pt x="335" y="50"/>
                  </a:lnTo>
                  <a:lnTo>
                    <a:pt x="346" y="50"/>
                  </a:lnTo>
                  <a:lnTo>
                    <a:pt x="357" y="56"/>
                  </a:lnTo>
                  <a:lnTo>
                    <a:pt x="363" y="56"/>
                  </a:lnTo>
                  <a:lnTo>
                    <a:pt x="374" y="61"/>
                  </a:lnTo>
                  <a:lnTo>
                    <a:pt x="379" y="61"/>
                  </a:lnTo>
                  <a:lnTo>
                    <a:pt x="390" y="67"/>
                  </a:lnTo>
                  <a:lnTo>
                    <a:pt x="396" y="72"/>
                  </a:lnTo>
                  <a:lnTo>
                    <a:pt x="407" y="72"/>
                  </a:lnTo>
                  <a:lnTo>
                    <a:pt x="413" y="78"/>
                  </a:lnTo>
                  <a:lnTo>
                    <a:pt x="424" y="78"/>
                  </a:lnTo>
                  <a:lnTo>
                    <a:pt x="430" y="83"/>
                  </a:lnTo>
                  <a:lnTo>
                    <a:pt x="441" y="83"/>
                  </a:lnTo>
                  <a:lnTo>
                    <a:pt x="452" y="89"/>
                  </a:lnTo>
                  <a:lnTo>
                    <a:pt x="457" y="95"/>
                  </a:lnTo>
                  <a:lnTo>
                    <a:pt x="469" y="95"/>
                  </a:lnTo>
                  <a:lnTo>
                    <a:pt x="474" y="100"/>
                  </a:lnTo>
                  <a:lnTo>
                    <a:pt x="485" y="100"/>
                  </a:lnTo>
                  <a:lnTo>
                    <a:pt x="491" y="106"/>
                  </a:lnTo>
                  <a:lnTo>
                    <a:pt x="502" y="111"/>
                  </a:lnTo>
                  <a:lnTo>
                    <a:pt x="508" y="117"/>
                  </a:lnTo>
                  <a:lnTo>
                    <a:pt x="519" y="117"/>
                  </a:lnTo>
                  <a:lnTo>
                    <a:pt x="524" y="123"/>
                  </a:lnTo>
                  <a:lnTo>
                    <a:pt x="536" y="128"/>
                  </a:lnTo>
                  <a:lnTo>
                    <a:pt x="547" y="128"/>
                  </a:lnTo>
                  <a:lnTo>
                    <a:pt x="552" y="134"/>
                  </a:lnTo>
                  <a:lnTo>
                    <a:pt x="563" y="139"/>
                  </a:lnTo>
                  <a:lnTo>
                    <a:pt x="569" y="145"/>
                  </a:lnTo>
                  <a:lnTo>
                    <a:pt x="580" y="145"/>
                  </a:lnTo>
                  <a:lnTo>
                    <a:pt x="586" y="150"/>
                  </a:lnTo>
                  <a:lnTo>
                    <a:pt x="597" y="156"/>
                  </a:lnTo>
                  <a:lnTo>
                    <a:pt x="603" y="162"/>
                  </a:lnTo>
                  <a:lnTo>
                    <a:pt x="614" y="167"/>
                  </a:lnTo>
                  <a:lnTo>
                    <a:pt x="625" y="167"/>
                  </a:lnTo>
                  <a:lnTo>
                    <a:pt x="630" y="173"/>
                  </a:lnTo>
                  <a:lnTo>
                    <a:pt x="642" y="178"/>
                  </a:lnTo>
                  <a:lnTo>
                    <a:pt x="647" y="184"/>
                  </a:lnTo>
                  <a:lnTo>
                    <a:pt x="658" y="189"/>
                  </a:lnTo>
                  <a:lnTo>
                    <a:pt x="664" y="195"/>
                  </a:lnTo>
                  <a:lnTo>
                    <a:pt x="675" y="201"/>
                  </a:lnTo>
                  <a:lnTo>
                    <a:pt x="681" y="201"/>
                  </a:lnTo>
                  <a:lnTo>
                    <a:pt x="692" y="206"/>
                  </a:lnTo>
                  <a:lnTo>
                    <a:pt x="697" y="212"/>
                  </a:lnTo>
                  <a:lnTo>
                    <a:pt x="709" y="217"/>
                  </a:lnTo>
                  <a:lnTo>
                    <a:pt x="720" y="223"/>
                  </a:lnTo>
                  <a:lnTo>
                    <a:pt x="725" y="229"/>
                  </a:lnTo>
                  <a:lnTo>
                    <a:pt x="736" y="234"/>
                  </a:lnTo>
                  <a:lnTo>
                    <a:pt x="742" y="240"/>
                  </a:lnTo>
                  <a:lnTo>
                    <a:pt x="753" y="245"/>
                  </a:lnTo>
                  <a:lnTo>
                    <a:pt x="759" y="251"/>
                  </a:lnTo>
                  <a:lnTo>
                    <a:pt x="770" y="256"/>
                  </a:lnTo>
                  <a:lnTo>
                    <a:pt x="776" y="262"/>
                  </a:lnTo>
                  <a:lnTo>
                    <a:pt x="787" y="268"/>
                  </a:lnTo>
                  <a:lnTo>
                    <a:pt x="798" y="273"/>
                  </a:lnTo>
                  <a:lnTo>
                    <a:pt x="803" y="279"/>
                  </a:lnTo>
                  <a:lnTo>
                    <a:pt x="815" y="284"/>
                  </a:lnTo>
                  <a:lnTo>
                    <a:pt x="820" y="290"/>
                  </a:lnTo>
                  <a:lnTo>
                    <a:pt x="831" y="295"/>
                  </a:lnTo>
                  <a:lnTo>
                    <a:pt x="837" y="301"/>
                  </a:lnTo>
                  <a:lnTo>
                    <a:pt x="848" y="307"/>
                  </a:lnTo>
                  <a:lnTo>
                    <a:pt x="854" y="318"/>
                  </a:lnTo>
                  <a:lnTo>
                    <a:pt x="865" y="323"/>
                  </a:lnTo>
                  <a:lnTo>
                    <a:pt x="870" y="329"/>
                  </a:lnTo>
                  <a:lnTo>
                    <a:pt x="882" y="335"/>
                  </a:lnTo>
                  <a:lnTo>
                    <a:pt x="893" y="340"/>
                  </a:lnTo>
                  <a:lnTo>
                    <a:pt x="898" y="346"/>
                  </a:lnTo>
                  <a:lnTo>
                    <a:pt x="910" y="351"/>
                  </a:lnTo>
                  <a:lnTo>
                    <a:pt x="915" y="362"/>
                  </a:lnTo>
                  <a:lnTo>
                    <a:pt x="926" y="368"/>
                  </a:lnTo>
                  <a:lnTo>
                    <a:pt x="932" y="374"/>
                  </a:lnTo>
                  <a:lnTo>
                    <a:pt x="943" y="379"/>
                  </a:lnTo>
                  <a:lnTo>
                    <a:pt x="949" y="385"/>
                  </a:lnTo>
                  <a:lnTo>
                    <a:pt x="960" y="396"/>
                  </a:lnTo>
                  <a:lnTo>
                    <a:pt x="965" y="401"/>
                  </a:lnTo>
                  <a:lnTo>
                    <a:pt x="976" y="407"/>
                  </a:lnTo>
                  <a:lnTo>
                    <a:pt x="988" y="413"/>
                  </a:lnTo>
                  <a:lnTo>
                    <a:pt x="993" y="424"/>
                  </a:lnTo>
                  <a:lnTo>
                    <a:pt x="1004" y="429"/>
                  </a:lnTo>
                  <a:lnTo>
                    <a:pt x="1010" y="435"/>
                  </a:lnTo>
                  <a:lnTo>
                    <a:pt x="1021" y="441"/>
                  </a:lnTo>
                  <a:lnTo>
                    <a:pt x="1027" y="452"/>
                  </a:lnTo>
                  <a:lnTo>
                    <a:pt x="1038" y="457"/>
                  </a:lnTo>
                  <a:lnTo>
                    <a:pt x="1043" y="463"/>
                  </a:lnTo>
                  <a:lnTo>
                    <a:pt x="1055" y="474"/>
                  </a:lnTo>
                  <a:lnTo>
                    <a:pt x="1066" y="480"/>
                  </a:lnTo>
                  <a:lnTo>
                    <a:pt x="1071" y="485"/>
                  </a:lnTo>
                  <a:lnTo>
                    <a:pt x="1083" y="496"/>
                  </a:lnTo>
                  <a:lnTo>
                    <a:pt x="1088" y="502"/>
                  </a:lnTo>
                  <a:lnTo>
                    <a:pt x="1099" y="507"/>
                  </a:lnTo>
                  <a:lnTo>
                    <a:pt x="1105" y="519"/>
                  </a:lnTo>
                  <a:lnTo>
                    <a:pt x="1116" y="524"/>
                  </a:lnTo>
                  <a:lnTo>
                    <a:pt x="1122" y="530"/>
                  </a:lnTo>
                  <a:lnTo>
                    <a:pt x="1133" y="541"/>
                  </a:lnTo>
                  <a:lnTo>
                    <a:pt x="1138" y="547"/>
                  </a:lnTo>
                  <a:lnTo>
                    <a:pt x="1150" y="558"/>
                  </a:lnTo>
                  <a:lnTo>
                    <a:pt x="1161" y="563"/>
                  </a:lnTo>
                  <a:lnTo>
                    <a:pt x="1166" y="569"/>
                  </a:lnTo>
                  <a:lnTo>
                    <a:pt x="1177" y="580"/>
                  </a:lnTo>
                  <a:lnTo>
                    <a:pt x="1183" y="586"/>
                  </a:lnTo>
                  <a:lnTo>
                    <a:pt x="1194" y="597"/>
                  </a:lnTo>
                  <a:lnTo>
                    <a:pt x="1200" y="602"/>
                  </a:lnTo>
                  <a:lnTo>
                    <a:pt x="1211" y="613"/>
                  </a:lnTo>
                  <a:lnTo>
                    <a:pt x="1216" y="619"/>
                  </a:lnTo>
                  <a:lnTo>
                    <a:pt x="1228" y="630"/>
                  </a:lnTo>
                  <a:lnTo>
                    <a:pt x="1239" y="636"/>
                  </a:lnTo>
                  <a:lnTo>
                    <a:pt x="1244" y="647"/>
                  </a:lnTo>
                  <a:lnTo>
                    <a:pt x="1256" y="653"/>
                  </a:lnTo>
                  <a:lnTo>
                    <a:pt x="1261" y="664"/>
                  </a:lnTo>
                  <a:lnTo>
                    <a:pt x="1272" y="669"/>
                  </a:lnTo>
                  <a:lnTo>
                    <a:pt x="1278" y="680"/>
                  </a:lnTo>
                  <a:lnTo>
                    <a:pt x="1289" y="686"/>
                  </a:lnTo>
                  <a:lnTo>
                    <a:pt x="1295" y="697"/>
                  </a:lnTo>
                  <a:lnTo>
                    <a:pt x="1306" y="703"/>
                  </a:lnTo>
                  <a:lnTo>
                    <a:pt x="1311" y="714"/>
                  </a:lnTo>
                  <a:lnTo>
                    <a:pt x="1323" y="719"/>
                  </a:lnTo>
                  <a:lnTo>
                    <a:pt x="1334" y="731"/>
                  </a:lnTo>
                  <a:lnTo>
                    <a:pt x="1339" y="742"/>
                  </a:lnTo>
                  <a:lnTo>
                    <a:pt x="1350" y="747"/>
                  </a:lnTo>
                  <a:lnTo>
                    <a:pt x="1356" y="759"/>
                  </a:lnTo>
                  <a:lnTo>
                    <a:pt x="1367" y="764"/>
                  </a:lnTo>
                  <a:lnTo>
                    <a:pt x="1373" y="775"/>
                  </a:lnTo>
                  <a:lnTo>
                    <a:pt x="1384" y="786"/>
                  </a:lnTo>
                  <a:lnTo>
                    <a:pt x="1390" y="792"/>
                  </a:lnTo>
                  <a:lnTo>
                    <a:pt x="1401" y="803"/>
                  </a:lnTo>
                  <a:lnTo>
                    <a:pt x="1406" y="809"/>
                  </a:lnTo>
                  <a:lnTo>
                    <a:pt x="1417" y="820"/>
                  </a:lnTo>
                  <a:lnTo>
                    <a:pt x="1429" y="831"/>
                  </a:lnTo>
                  <a:lnTo>
                    <a:pt x="1434" y="837"/>
                  </a:lnTo>
                  <a:lnTo>
                    <a:pt x="1445" y="848"/>
                  </a:lnTo>
                  <a:lnTo>
                    <a:pt x="1451" y="859"/>
                  </a:lnTo>
                  <a:lnTo>
                    <a:pt x="1462" y="865"/>
                  </a:lnTo>
                  <a:lnTo>
                    <a:pt x="1468" y="876"/>
                  </a:lnTo>
                  <a:lnTo>
                    <a:pt x="1479" y="887"/>
                  </a:lnTo>
                  <a:lnTo>
                    <a:pt x="1484" y="892"/>
                  </a:lnTo>
                  <a:lnTo>
                    <a:pt x="1496" y="904"/>
                  </a:lnTo>
                  <a:lnTo>
                    <a:pt x="1507" y="915"/>
                  </a:lnTo>
                  <a:lnTo>
                    <a:pt x="1512" y="920"/>
                  </a:lnTo>
                  <a:lnTo>
                    <a:pt x="1523" y="931"/>
                  </a:lnTo>
                  <a:lnTo>
                    <a:pt x="1529" y="943"/>
                  </a:lnTo>
                  <a:lnTo>
                    <a:pt x="1540" y="954"/>
                  </a:lnTo>
                  <a:lnTo>
                    <a:pt x="1546" y="959"/>
                  </a:lnTo>
                  <a:lnTo>
                    <a:pt x="1557" y="970"/>
                  </a:lnTo>
                  <a:lnTo>
                    <a:pt x="1563" y="982"/>
                  </a:lnTo>
                  <a:lnTo>
                    <a:pt x="1574" y="993"/>
                  </a:lnTo>
                  <a:lnTo>
                    <a:pt x="1579" y="998"/>
                  </a:lnTo>
                  <a:lnTo>
                    <a:pt x="1590" y="1010"/>
                  </a:lnTo>
                  <a:lnTo>
                    <a:pt x="1602" y="1021"/>
                  </a:lnTo>
                  <a:lnTo>
                    <a:pt x="1607" y="1032"/>
                  </a:lnTo>
                  <a:lnTo>
                    <a:pt x="1618" y="1037"/>
                  </a:lnTo>
                  <a:lnTo>
                    <a:pt x="1624" y="1049"/>
                  </a:lnTo>
                  <a:lnTo>
                    <a:pt x="1635" y="1060"/>
                  </a:lnTo>
                  <a:lnTo>
                    <a:pt x="1641" y="1071"/>
                  </a:lnTo>
                  <a:lnTo>
                    <a:pt x="1652" y="1076"/>
                  </a:lnTo>
                  <a:lnTo>
                    <a:pt x="1657" y="1088"/>
                  </a:lnTo>
                  <a:lnTo>
                    <a:pt x="1669" y="1099"/>
                  </a:lnTo>
                  <a:lnTo>
                    <a:pt x="1680" y="1110"/>
                  </a:lnTo>
                  <a:lnTo>
                    <a:pt x="1685" y="1121"/>
                  </a:lnTo>
                  <a:lnTo>
                    <a:pt x="1696" y="1127"/>
                  </a:lnTo>
                  <a:lnTo>
                    <a:pt x="1702" y="1138"/>
                  </a:lnTo>
                  <a:lnTo>
                    <a:pt x="1713" y="1149"/>
                  </a:lnTo>
                  <a:lnTo>
                    <a:pt x="1719" y="1160"/>
                  </a:lnTo>
                  <a:lnTo>
                    <a:pt x="1730" y="1171"/>
                  </a:lnTo>
                  <a:lnTo>
                    <a:pt x="1736" y="1177"/>
                  </a:lnTo>
                  <a:lnTo>
                    <a:pt x="1747" y="1188"/>
                  </a:lnTo>
                  <a:lnTo>
                    <a:pt x="1752" y="1199"/>
                  </a:lnTo>
                  <a:lnTo>
                    <a:pt x="1763" y="1210"/>
                  </a:lnTo>
                  <a:lnTo>
                    <a:pt x="1775" y="1222"/>
                  </a:lnTo>
                  <a:lnTo>
                    <a:pt x="1780" y="1233"/>
                  </a:lnTo>
                  <a:lnTo>
                    <a:pt x="1791" y="1244"/>
                  </a:lnTo>
                  <a:lnTo>
                    <a:pt x="1797" y="1249"/>
                  </a:lnTo>
                  <a:lnTo>
                    <a:pt x="1808" y="1261"/>
                  </a:lnTo>
                  <a:lnTo>
                    <a:pt x="1814" y="1272"/>
                  </a:lnTo>
                  <a:lnTo>
                    <a:pt x="1825" y="1283"/>
                  </a:lnTo>
                  <a:lnTo>
                    <a:pt x="1830" y="1294"/>
                  </a:lnTo>
                  <a:lnTo>
                    <a:pt x="1842" y="1305"/>
                  </a:lnTo>
                  <a:lnTo>
                    <a:pt x="1847" y="1316"/>
                  </a:lnTo>
                  <a:lnTo>
                    <a:pt x="1858" y="1322"/>
                  </a:lnTo>
                  <a:lnTo>
                    <a:pt x="1869" y="1333"/>
                  </a:lnTo>
                  <a:lnTo>
                    <a:pt x="1875" y="1344"/>
                  </a:lnTo>
                  <a:lnTo>
                    <a:pt x="1886" y="1355"/>
                  </a:lnTo>
                  <a:lnTo>
                    <a:pt x="1892" y="1367"/>
                  </a:lnTo>
                  <a:lnTo>
                    <a:pt x="1903" y="1378"/>
                  </a:lnTo>
                  <a:lnTo>
                    <a:pt x="1909" y="1389"/>
                  </a:lnTo>
                  <a:lnTo>
                    <a:pt x="1920" y="1400"/>
                  </a:lnTo>
                  <a:lnTo>
                    <a:pt x="1925" y="1411"/>
                  </a:lnTo>
                  <a:lnTo>
                    <a:pt x="1936" y="1417"/>
                  </a:lnTo>
                  <a:lnTo>
                    <a:pt x="1948" y="1428"/>
                  </a:lnTo>
                  <a:lnTo>
                    <a:pt x="1953" y="1439"/>
                  </a:lnTo>
                  <a:lnTo>
                    <a:pt x="1964" y="1450"/>
                  </a:lnTo>
                  <a:lnTo>
                    <a:pt x="1970" y="1461"/>
                  </a:lnTo>
                  <a:lnTo>
                    <a:pt x="1981" y="1473"/>
                  </a:lnTo>
                  <a:lnTo>
                    <a:pt x="1987" y="1484"/>
                  </a:lnTo>
                  <a:lnTo>
                    <a:pt x="1998" y="1495"/>
                  </a:lnTo>
                  <a:lnTo>
                    <a:pt x="2003" y="1506"/>
                  </a:lnTo>
                  <a:lnTo>
                    <a:pt x="2015" y="1517"/>
                  </a:lnTo>
                  <a:lnTo>
                    <a:pt x="2020" y="1523"/>
                  </a:lnTo>
                  <a:lnTo>
                    <a:pt x="2031" y="1534"/>
                  </a:lnTo>
                  <a:lnTo>
                    <a:pt x="2043" y="1545"/>
                  </a:lnTo>
                  <a:lnTo>
                    <a:pt x="2048" y="1556"/>
                  </a:lnTo>
                  <a:lnTo>
                    <a:pt x="2059" y="1567"/>
                  </a:lnTo>
                  <a:lnTo>
                    <a:pt x="2065" y="1579"/>
                  </a:lnTo>
                  <a:lnTo>
                    <a:pt x="2076" y="1590"/>
                  </a:lnTo>
                  <a:lnTo>
                    <a:pt x="2082" y="1601"/>
                  </a:lnTo>
                  <a:lnTo>
                    <a:pt x="2093" y="1612"/>
                  </a:lnTo>
                  <a:lnTo>
                    <a:pt x="2098" y="1623"/>
                  </a:lnTo>
                  <a:lnTo>
                    <a:pt x="2109" y="1634"/>
                  </a:lnTo>
                  <a:lnTo>
                    <a:pt x="2121" y="1646"/>
                  </a:lnTo>
                  <a:lnTo>
                    <a:pt x="2126" y="1657"/>
                  </a:lnTo>
                  <a:lnTo>
                    <a:pt x="2137" y="1668"/>
                  </a:lnTo>
                  <a:lnTo>
                    <a:pt x="2143" y="1673"/>
                  </a:lnTo>
                  <a:lnTo>
                    <a:pt x="2154" y="1685"/>
                  </a:lnTo>
                  <a:lnTo>
                    <a:pt x="2160" y="1696"/>
                  </a:lnTo>
                  <a:lnTo>
                    <a:pt x="2171" y="1707"/>
                  </a:lnTo>
                  <a:lnTo>
                    <a:pt x="2176" y="1718"/>
                  </a:lnTo>
                  <a:lnTo>
                    <a:pt x="2188" y="1729"/>
                  </a:lnTo>
                  <a:lnTo>
                    <a:pt x="2193" y="1740"/>
                  </a:lnTo>
                  <a:lnTo>
                    <a:pt x="2204" y="1752"/>
                  </a:lnTo>
                </a:path>
              </a:pathLst>
            </a:custGeom>
            <a:noFill/>
            <a:ln cap="rnd" w="255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33680" y="6383160"/>
              <a:ext cx="1404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frekvencij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16200000">
              <a:off x="-457560" y="4216320"/>
              <a:ext cx="1315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41600" y="2689200"/>
              <a:ext cx="3673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afd00"/>
                  </a:solidFill>
                  <a:latin typeface="Arial"/>
                </a:rPr>
                <a:t>Amplitudna karakteristika, M=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2716200" y="1600200"/>
                <a:ext cx="369720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w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751" name=""/>
          <p:cNvGrpSpPr/>
          <p:nvPr/>
        </p:nvGrpSpPr>
        <p:grpSpPr>
          <a:xfrm>
            <a:off x="4795920" y="2689200"/>
            <a:ext cx="4353480" cy="4091400"/>
            <a:chOff x="4795920" y="2689200"/>
            <a:chExt cx="4353480" cy="4091400"/>
          </a:xfrm>
        </p:grpSpPr>
        <p:sp>
          <p:nvSpPr>
            <p:cNvPr id="752" name=""/>
            <p:cNvSpPr/>
            <p:nvPr/>
          </p:nvSpPr>
          <p:spPr>
            <a:xfrm flipV="1">
              <a:off x="5572080" y="3152880"/>
              <a:ext cx="0" cy="27813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6272280" y="3152880"/>
              <a:ext cx="0" cy="278136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6972480" y="3152880"/>
              <a:ext cx="0" cy="278136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7672320" y="3152880"/>
              <a:ext cx="0" cy="278136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8370720" y="3152880"/>
              <a:ext cx="0" cy="278136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9070920" y="3152880"/>
              <a:ext cx="0" cy="27813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572080" y="5934240"/>
              <a:ext cx="34988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572080" y="5622840"/>
              <a:ext cx="349884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572080" y="5003640"/>
              <a:ext cx="349884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572080" y="4392720"/>
              <a:ext cx="349884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572080" y="3772080"/>
              <a:ext cx="349884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572080" y="3152880"/>
              <a:ext cx="34988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72080" y="3152880"/>
              <a:ext cx="3500640" cy="2782800"/>
            </a:xfrm>
            <a:custGeom>
              <a:avLst/>
              <a:gdLst/>
              <a:ahLst/>
              <a:rect l="l" t="t" r="r" b="b"/>
              <a:pathLst>
                <a:path w="2205" h="1753">
                  <a:moveTo>
                    <a:pt x="0" y="1752"/>
                  </a:moveTo>
                  <a:lnTo>
                    <a:pt x="0" y="0"/>
                  </a:lnTo>
                  <a:lnTo>
                    <a:pt x="2204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572080" y="3152880"/>
              <a:ext cx="3500640" cy="2782800"/>
            </a:xfrm>
            <a:custGeom>
              <a:avLst/>
              <a:gdLst/>
              <a:ahLst/>
              <a:rect l="l" t="t" r="r" b="b"/>
              <a:pathLst>
                <a:path w="2205" h="1753">
                  <a:moveTo>
                    <a:pt x="0" y="1752"/>
                  </a:moveTo>
                  <a:lnTo>
                    <a:pt x="0" y="0"/>
                  </a:lnTo>
                  <a:lnTo>
                    <a:pt x="2204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572080" y="3152880"/>
              <a:ext cx="3500640" cy="2782800"/>
            </a:xfrm>
            <a:custGeom>
              <a:avLst/>
              <a:gdLst/>
              <a:ahLst/>
              <a:rect l="l" t="t" r="r" b="b"/>
              <a:pathLst>
                <a:path w="2205" h="1753">
                  <a:moveTo>
                    <a:pt x="0" y="1752"/>
                  </a:moveTo>
                  <a:lnTo>
                    <a:pt x="0" y="0"/>
                  </a:lnTo>
                  <a:lnTo>
                    <a:pt x="2204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72080" y="5934240"/>
              <a:ext cx="34988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572080" y="3152880"/>
              <a:ext cx="34988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5572080" y="3152880"/>
              <a:ext cx="0" cy="27813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9070920" y="3152880"/>
              <a:ext cx="0" cy="27813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572080" y="315288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572080" y="5934240"/>
              <a:ext cx="34988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5572080" y="3152880"/>
              <a:ext cx="0" cy="27813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572080" y="593424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5572080" y="5897520"/>
              <a:ext cx="0" cy="36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572080" y="3152880"/>
              <a:ext cx="0" cy="34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6272280" y="5897520"/>
              <a:ext cx="0" cy="36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272280" y="3152880"/>
              <a:ext cx="0" cy="34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6972480" y="5897520"/>
              <a:ext cx="0" cy="36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972480" y="3152880"/>
              <a:ext cx="0" cy="34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7672320" y="5897520"/>
              <a:ext cx="0" cy="36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672320" y="3152880"/>
              <a:ext cx="0" cy="34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8370720" y="5897520"/>
              <a:ext cx="0" cy="36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370720" y="3152880"/>
              <a:ext cx="0" cy="34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9070920" y="5897520"/>
              <a:ext cx="0" cy="36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070920" y="3152880"/>
              <a:ext cx="0" cy="34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572080" y="593424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9035640" y="593424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572080" y="562284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9035640" y="562284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572080" y="531324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9035640" y="531324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572080" y="500364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9035640" y="500364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572080" y="469260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9035640" y="469260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72080" y="439272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9035640" y="439272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572080" y="408312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9035640" y="408312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572080" y="377208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9035640" y="377208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572080" y="346248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9035640" y="346248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572080" y="315288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9035640" y="3152880"/>
              <a:ext cx="34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07" name=""/>
            <p:cNvGrpSpPr/>
            <p:nvPr/>
          </p:nvGrpSpPr>
          <p:grpSpPr>
            <a:xfrm>
              <a:off x="5086440" y="2925720"/>
              <a:ext cx="553680" cy="2867760"/>
              <a:chOff x="5086440" y="2925720"/>
              <a:chExt cx="553680" cy="2867760"/>
            </a:xfrm>
          </p:grpSpPr>
          <p:sp>
            <p:nvSpPr>
              <p:cNvPr id="808" name=""/>
              <p:cNvSpPr/>
              <p:nvPr/>
            </p:nvSpPr>
            <p:spPr>
              <a:xfrm>
                <a:off x="5086440" y="539604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8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086440" y="477684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6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086440" y="416556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4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086440" y="354492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2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211000" y="292572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3" name=""/>
            <p:cNvSpPr/>
            <p:nvPr/>
          </p:nvSpPr>
          <p:spPr>
            <a:xfrm>
              <a:off x="5572080" y="5934240"/>
              <a:ext cx="34988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572080" y="3152880"/>
              <a:ext cx="34988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5572080" y="3152880"/>
              <a:ext cx="0" cy="27813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9070920" y="3152880"/>
              <a:ext cx="0" cy="27813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2080" y="593424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572080" y="3152880"/>
              <a:ext cx="3500640" cy="2782800"/>
            </a:xfrm>
            <a:custGeom>
              <a:avLst/>
              <a:gdLst/>
              <a:ahLst/>
              <a:rect l="l" t="t" r="r" b="b"/>
              <a:pathLst>
                <a:path w="2205" h="1753">
                  <a:moveTo>
                    <a:pt x="0" y="0"/>
                  </a:moveTo>
                  <a:lnTo>
                    <a:pt x="11" y="5"/>
                  </a:lnTo>
                  <a:lnTo>
                    <a:pt x="17" y="11"/>
                  </a:lnTo>
                  <a:lnTo>
                    <a:pt x="28" y="22"/>
                  </a:lnTo>
                  <a:lnTo>
                    <a:pt x="33" y="28"/>
                  </a:lnTo>
                  <a:lnTo>
                    <a:pt x="44" y="33"/>
                  </a:lnTo>
                  <a:lnTo>
                    <a:pt x="50" y="39"/>
                  </a:lnTo>
                  <a:lnTo>
                    <a:pt x="61" y="50"/>
                  </a:lnTo>
                  <a:lnTo>
                    <a:pt x="67" y="56"/>
                  </a:lnTo>
                  <a:lnTo>
                    <a:pt x="78" y="61"/>
                  </a:lnTo>
                  <a:lnTo>
                    <a:pt x="83" y="67"/>
                  </a:lnTo>
                  <a:lnTo>
                    <a:pt x="95" y="78"/>
                  </a:lnTo>
                  <a:lnTo>
                    <a:pt x="106" y="83"/>
                  </a:lnTo>
                  <a:lnTo>
                    <a:pt x="111" y="89"/>
                  </a:lnTo>
                  <a:lnTo>
                    <a:pt x="123" y="95"/>
                  </a:lnTo>
                  <a:lnTo>
                    <a:pt x="128" y="100"/>
                  </a:lnTo>
                  <a:lnTo>
                    <a:pt x="139" y="111"/>
                  </a:lnTo>
                  <a:lnTo>
                    <a:pt x="145" y="117"/>
                  </a:lnTo>
                  <a:lnTo>
                    <a:pt x="156" y="123"/>
                  </a:lnTo>
                  <a:lnTo>
                    <a:pt x="162" y="128"/>
                  </a:lnTo>
                  <a:lnTo>
                    <a:pt x="173" y="139"/>
                  </a:lnTo>
                  <a:lnTo>
                    <a:pt x="184" y="145"/>
                  </a:lnTo>
                  <a:lnTo>
                    <a:pt x="190" y="150"/>
                  </a:lnTo>
                  <a:lnTo>
                    <a:pt x="201" y="156"/>
                  </a:lnTo>
                  <a:lnTo>
                    <a:pt x="206" y="167"/>
                  </a:lnTo>
                  <a:lnTo>
                    <a:pt x="217" y="173"/>
                  </a:lnTo>
                  <a:lnTo>
                    <a:pt x="223" y="178"/>
                  </a:lnTo>
                  <a:lnTo>
                    <a:pt x="234" y="184"/>
                  </a:lnTo>
                  <a:lnTo>
                    <a:pt x="240" y="189"/>
                  </a:lnTo>
                  <a:lnTo>
                    <a:pt x="251" y="201"/>
                  </a:lnTo>
                  <a:lnTo>
                    <a:pt x="257" y="206"/>
                  </a:lnTo>
                  <a:lnTo>
                    <a:pt x="268" y="212"/>
                  </a:lnTo>
                  <a:lnTo>
                    <a:pt x="279" y="217"/>
                  </a:lnTo>
                  <a:lnTo>
                    <a:pt x="284" y="229"/>
                  </a:lnTo>
                  <a:lnTo>
                    <a:pt x="296" y="234"/>
                  </a:lnTo>
                  <a:lnTo>
                    <a:pt x="301" y="240"/>
                  </a:lnTo>
                  <a:lnTo>
                    <a:pt x="312" y="245"/>
                  </a:lnTo>
                  <a:lnTo>
                    <a:pt x="318" y="256"/>
                  </a:lnTo>
                  <a:lnTo>
                    <a:pt x="329" y="262"/>
                  </a:lnTo>
                  <a:lnTo>
                    <a:pt x="335" y="268"/>
                  </a:lnTo>
                  <a:lnTo>
                    <a:pt x="346" y="273"/>
                  </a:lnTo>
                  <a:lnTo>
                    <a:pt x="357" y="279"/>
                  </a:lnTo>
                  <a:lnTo>
                    <a:pt x="363" y="290"/>
                  </a:lnTo>
                  <a:lnTo>
                    <a:pt x="374" y="295"/>
                  </a:lnTo>
                  <a:lnTo>
                    <a:pt x="379" y="301"/>
                  </a:lnTo>
                  <a:lnTo>
                    <a:pt x="390" y="307"/>
                  </a:lnTo>
                  <a:lnTo>
                    <a:pt x="396" y="318"/>
                  </a:lnTo>
                  <a:lnTo>
                    <a:pt x="407" y="323"/>
                  </a:lnTo>
                  <a:lnTo>
                    <a:pt x="413" y="329"/>
                  </a:lnTo>
                  <a:lnTo>
                    <a:pt x="424" y="335"/>
                  </a:lnTo>
                  <a:lnTo>
                    <a:pt x="430" y="346"/>
                  </a:lnTo>
                  <a:lnTo>
                    <a:pt x="441" y="351"/>
                  </a:lnTo>
                  <a:lnTo>
                    <a:pt x="452" y="357"/>
                  </a:lnTo>
                  <a:lnTo>
                    <a:pt x="457" y="362"/>
                  </a:lnTo>
                  <a:lnTo>
                    <a:pt x="469" y="368"/>
                  </a:lnTo>
                  <a:lnTo>
                    <a:pt x="474" y="379"/>
                  </a:lnTo>
                  <a:lnTo>
                    <a:pt x="485" y="385"/>
                  </a:lnTo>
                  <a:lnTo>
                    <a:pt x="491" y="390"/>
                  </a:lnTo>
                  <a:lnTo>
                    <a:pt x="502" y="396"/>
                  </a:lnTo>
                  <a:lnTo>
                    <a:pt x="508" y="407"/>
                  </a:lnTo>
                  <a:lnTo>
                    <a:pt x="519" y="413"/>
                  </a:lnTo>
                  <a:lnTo>
                    <a:pt x="524" y="418"/>
                  </a:lnTo>
                  <a:lnTo>
                    <a:pt x="536" y="424"/>
                  </a:lnTo>
                  <a:lnTo>
                    <a:pt x="547" y="435"/>
                  </a:lnTo>
                  <a:lnTo>
                    <a:pt x="552" y="441"/>
                  </a:lnTo>
                  <a:lnTo>
                    <a:pt x="563" y="446"/>
                  </a:lnTo>
                  <a:lnTo>
                    <a:pt x="569" y="452"/>
                  </a:lnTo>
                  <a:lnTo>
                    <a:pt x="580" y="463"/>
                  </a:lnTo>
                  <a:lnTo>
                    <a:pt x="586" y="468"/>
                  </a:lnTo>
                  <a:lnTo>
                    <a:pt x="597" y="474"/>
                  </a:lnTo>
                  <a:lnTo>
                    <a:pt x="603" y="480"/>
                  </a:lnTo>
                  <a:lnTo>
                    <a:pt x="614" y="485"/>
                  </a:lnTo>
                  <a:lnTo>
                    <a:pt x="625" y="496"/>
                  </a:lnTo>
                  <a:lnTo>
                    <a:pt x="630" y="502"/>
                  </a:lnTo>
                  <a:lnTo>
                    <a:pt x="642" y="507"/>
                  </a:lnTo>
                  <a:lnTo>
                    <a:pt x="647" y="513"/>
                  </a:lnTo>
                  <a:lnTo>
                    <a:pt x="658" y="524"/>
                  </a:lnTo>
                  <a:lnTo>
                    <a:pt x="664" y="530"/>
                  </a:lnTo>
                  <a:lnTo>
                    <a:pt x="675" y="535"/>
                  </a:lnTo>
                  <a:lnTo>
                    <a:pt x="681" y="541"/>
                  </a:lnTo>
                  <a:lnTo>
                    <a:pt x="692" y="552"/>
                  </a:lnTo>
                  <a:lnTo>
                    <a:pt x="697" y="558"/>
                  </a:lnTo>
                  <a:lnTo>
                    <a:pt x="709" y="563"/>
                  </a:lnTo>
                  <a:lnTo>
                    <a:pt x="720" y="569"/>
                  </a:lnTo>
                  <a:lnTo>
                    <a:pt x="725" y="574"/>
                  </a:lnTo>
                  <a:lnTo>
                    <a:pt x="736" y="586"/>
                  </a:lnTo>
                  <a:lnTo>
                    <a:pt x="742" y="591"/>
                  </a:lnTo>
                  <a:lnTo>
                    <a:pt x="753" y="597"/>
                  </a:lnTo>
                  <a:lnTo>
                    <a:pt x="759" y="602"/>
                  </a:lnTo>
                  <a:lnTo>
                    <a:pt x="770" y="613"/>
                  </a:lnTo>
                  <a:lnTo>
                    <a:pt x="776" y="619"/>
                  </a:lnTo>
                  <a:lnTo>
                    <a:pt x="787" y="625"/>
                  </a:lnTo>
                  <a:lnTo>
                    <a:pt x="798" y="630"/>
                  </a:lnTo>
                  <a:lnTo>
                    <a:pt x="803" y="641"/>
                  </a:lnTo>
                  <a:lnTo>
                    <a:pt x="815" y="647"/>
                  </a:lnTo>
                  <a:lnTo>
                    <a:pt x="820" y="653"/>
                  </a:lnTo>
                  <a:lnTo>
                    <a:pt x="831" y="658"/>
                  </a:lnTo>
                  <a:lnTo>
                    <a:pt x="837" y="664"/>
                  </a:lnTo>
                  <a:lnTo>
                    <a:pt x="848" y="675"/>
                  </a:lnTo>
                  <a:lnTo>
                    <a:pt x="854" y="680"/>
                  </a:lnTo>
                  <a:lnTo>
                    <a:pt x="865" y="686"/>
                  </a:lnTo>
                  <a:lnTo>
                    <a:pt x="870" y="692"/>
                  </a:lnTo>
                  <a:lnTo>
                    <a:pt x="882" y="703"/>
                  </a:lnTo>
                  <a:lnTo>
                    <a:pt x="893" y="708"/>
                  </a:lnTo>
                  <a:lnTo>
                    <a:pt x="898" y="714"/>
                  </a:lnTo>
                  <a:lnTo>
                    <a:pt x="910" y="719"/>
                  </a:lnTo>
                  <a:lnTo>
                    <a:pt x="915" y="731"/>
                  </a:lnTo>
                  <a:lnTo>
                    <a:pt x="926" y="736"/>
                  </a:lnTo>
                  <a:lnTo>
                    <a:pt x="932" y="742"/>
                  </a:lnTo>
                  <a:lnTo>
                    <a:pt x="943" y="747"/>
                  </a:lnTo>
                  <a:lnTo>
                    <a:pt x="949" y="753"/>
                  </a:lnTo>
                  <a:lnTo>
                    <a:pt x="960" y="764"/>
                  </a:lnTo>
                  <a:lnTo>
                    <a:pt x="965" y="770"/>
                  </a:lnTo>
                  <a:lnTo>
                    <a:pt x="976" y="775"/>
                  </a:lnTo>
                  <a:lnTo>
                    <a:pt x="988" y="781"/>
                  </a:lnTo>
                  <a:lnTo>
                    <a:pt x="993" y="792"/>
                  </a:lnTo>
                  <a:lnTo>
                    <a:pt x="1004" y="798"/>
                  </a:lnTo>
                  <a:lnTo>
                    <a:pt x="1010" y="803"/>
                  </a:lnTo>
                  <a:lnTo>
                    <a:pt x="1021" y="809"/>
                  </a:lnTo>
                  <a:lnTo>
                    <a:pt x="1027" y="820"/>
                  </a:lnTo>
                  <a:lnTo>
                    <a:pt x="1038" y="825"/>
                  </a:lnTo>
                  <a:lnTo>
                    <a:pt x="1043" y="831"/>
                  </a:lnTo>
                  <a:lnTo>
                    <a:pt x="1055" y="837"/>
                  </a:lnTo>
                  <a:lnTo>
                    <a:pt x="1066" y="842"/>
                  </a:lnTo>
                  <a:lnTo>
                    <a:pt x="1071" y="853"/>
                  </a:lnTo>
                  <a:lnTo>
                    <a:pt x="1083" y="859"/>
                  </a:lnTo>
                  <a:lnTo>
                    <a:pt x="1088" y="865"/>
                  </a:lnTo>
                  <a:lnTo>
                    <a:pt x="1099" y="870"/>
                  </a:lnTo>
                  <a:lnTo>
                    <a:pt x="1105" y="881"/>
                  </a:lnTo>
                  <a:lnTo>
                    <a:pt x="1116" y="887"/>
                  </a:lnTo>
                  <a:lnTo>
                    <a:pt x="1122" y="892"/>
                  </a:lnTo>
                  <a:lnTo>
                    <a:pt x="1133" y="898"/>
                  </a:lnTo>
                  <a:lnTo>
                    <a:pt x="1138" y="909"/>
                  </a:lnTo>
                  <a:lnTo>
                    <a:pt x="1150" y="915"/>
                  </a:lnTo>
                  <a:lnTo>
                    <a:pt x="1161" y="920"/>
                  </a:lnTo>
                  <a:lnTo>
                    <a:pt x="1166" y="926"/>
                  </a:lnTo>
                  <a:lnTo>
                    <a:pt x="1177" y="931"/>
                  </a:lnTo>
                  <a:lnTo>
                    <a:pt x="1183" y="943"/>
                  </a:lnTo>
                  <a:lnTo>
                    <a:pt x="1194" y="948"/>
                  </a:lnTo>
                  <a:lnTo>
                    <a:pt x="1200" y="954"/>
                  </a:lnTo>
                  <a:lnTo>
                    <a:pt x="1211" y="959"/>
                  </a:lnTo>
                  <a:lnTo>
                    <a:pt x="1216" y="970"/>
                  </a:lnTo>
                  <a:lnTo>
                    <a:pt x="1228" y="976"/>
                  </a:lnTo>
                  <a:lnTo>
                    <a:pt x="1239" y="982"/>
                  </a:lnTo>
                  <a:lnTo>
                    <a:pt x="1244" y="987"/>
                  </a:lnTo>
                  <a:lnTo>
                    <a:pt x="1256" y="998"/>
                  </a:lnTo>
                  <a:lnTo>
                    <a:pt x="1261" y="1004"/>
                  </a:lnTo>
                  <a:lnTo>
                    <a:pt x="1272" y="1010"/>
                  </a:lnTo>
                  <a:lnTo>
                    <a:pt x="1278" y="1015"/>
                  </a:lnTo>
                  <a:lnTo>
                    <a:pt x="1289" y="1021"/>
                  </a:lnTo>
                  <a:lnTo>
                    <a:pt x="1295" y="1032"/>
                  </a:lnTo>
                  <a:lnTo>
                    <a:pt x="1306" y="1037"/>
                  </a:lnTo>
                  <a:lnTo>
                    <a:pt x="1311" y="1043"/>
                  </a:lnTo>
                  <a:lnTo>
                    <a:pt x="1323" y="1049"/>
                  </a:lnTo>
                  <a:lnTo>
                    <a:pt x="1334" y="1060"/>
                  </a:lnTo>
                  <a:lnTo>
                    <a:pt x="1339" y="1065"/>
                  </a:lnTo>
                  <a:lnTo>
                    <a:pt x="1350" y="1071"/>
                  </a:lnTo>
                  <a:lnTo>
                    <a:pt x="1356" y="1076"/>
                  </a:lnTo>
                  <a:lnTo>
                    <a:pt x="1367" y="1088"/>
                  </a:lnTo>
                  <a:lnTo>
                    <a:pt x="1373" y="1093"/>
                  </a:lnTo>
                  <a:lnTo>
                    <a:pt x="1384" y="1099"/>
                  </a:lnTo>
                  <a:lnTo>
                    <a:pt x="1390" y="1104"/>
                  </a:lnTo>
                  <a:lnTo>
                    <a:pt x="1401" y="1110"/>
                  </a:lnTo>
                  <a:lnTo>
                    <a:pt x="1406" y="1121"/>
                  </a:lnTo>
                  <a:lnTo>
                    <a:pt x="1417" y="1127"/>
                  </a:lnTo>
                  <a:lnTo>
                    <a:pt x="1429" y="1132"/>
                  </a:lnTo>
                  <a:lnTo>
                    <a:pt x="1434" y="1138"/>
                  </a:lnTo>
                  <a:lnTo>
                    <a:pt x="1445" y="1149"/>
                  </a:lnTo>
                  <a:lnTo>
                    <a:pt x="1451" y="1155"/>
                  </a:lnTo>
                  <a:lnTo>
                    <a:pt x="1462" y="1160"/>
                  </a:lnTo>
                  <a:lnTo>
                    <a:pt x="1468" y="1166"/>
                  </a:lnTo>
                  <a:lnTo>
                    <a:pt x="1479" y="1177"/>
                  </a:lnTo>
                  <a:lnTo>
                    <a:pt x="1484" y="1182"/>
                  </a:lnTo>
                  <a:lnTo>
                    <a:pt x="1496" y="1188"/>
                  </a:lnTo>
                  <a:lnTo>
                    <a:pt x="1507" y="1194"/>
                  </a:lnTo>
                  <a:lnTo>
                    <a:pt x="1512" y="1199"/>
                  </a:lnTo>
                  <a:lnTo>
                    <a:pt x="1523" y="1210"/>
                  </a:lnTo>
                  <a:lnTo>
                    <a:pt x="1529" y="1216"/>
                  </a:lnTo>
                  <a:lnTo>
                    <a:pt x="1540" y="1222"/>
                  </a:lnTo>
                  <a:lnTo>
                    <a:pt x="1546" y="1227"/>
                  </a:lnTo>
                  <a:lnTo>
                    <a:pt x="1557" y="1238"/>
                  </a:lnTo>
                  <a:lnTo>
                    <a:pt x="1563" y="1244"/>
                  </a:lnTo>
                  <a:lnTo>
                    <a:pt x="1574" y="1249"/>
                  </a:lnTo>
                  <a:lnTo>
                    <a:pt x="1579" y="1255"/>
                  </a:lnTo>
                  <a:lnTo>
                    <a:pt x="1590" y="1266"/>
                  </a:lnTo>
                  <a:lnTo>
                    <a:pt x="1602" y="1272"/>
                  </a:lnTo>
                  <a:lnTo>
                    <a:pt x="1607" y="1277"/>
                  </a:lnTo>
                  <a:lnTo>
                    <a:pt x="1618" y="1283"/>
                  </a:lnTo>
                  <a:lnTo>
                    <a:pt x="1624" y="1288"/>
                  </a:lnTo>
                  <a:lnTo>
                    <a:pt x="1635" y="1300"/>
                  </a:lnTo>
                  <a:lnTo>
                    <a:pt x="1641" y="1305"/>
                  </a:lnTo>
                  <a:lnTo>
                    <a:pt x="1652" y="1311"/>
                  </a:lnTo>
                  <a:lnTo>
                    <a:pt x="1657" y="1316"/>
                  </a:lnTo>
                  <a:lnTo>
                    <a:pt x="1669" y="1328"/>
                  </a:lnTo>
                  <a:lnTo>
                    <a:pt x="1680" y="1333"/>
                  </a:lnTo>
                  <a:lnTo>
                    <a:pt x="1685" y="1339"/>
                  </a:lnTo>
                  <a:lnTo>
                    <a:pt x="1696" y="1344"/>
                  </a:lnTo>
                  <a:lnTo>
                    <a:pt x="1702" y="1355"/>
                  </a:lnTo>
                  <a:lnTo>
                    <a:pt x="1713" y="1361"/>
                  </a:lnTo>
                  <a:lnTo>
                    <a:pt x="1719" y="1367"/>
                  </a:lnTo>
                  <a:lnTo>
                    <a:pt x="1730" y="1372"/>
                  </a:lnTo>
                  <a:lnTo>
                    <a:pt x="1736" y="1383"/>
                  </a:lnTo>
                  <a:lnTo>
                    <a:pt x="1747" y="1389"/>
                  </a:lnTo>
                  <a:lnTo>
                    <a:pt x="1752" y="1394"/>
                  </a:lnTo>
                  <a:lnTo>
                    <a:pt x="1763" y="1400"/>
                  </a:lnTo>
                  <a:lnTo>
                    <a:pt x="1775" y="1406"/>
                  </a:lnTo>
                  <a:lnTo>
                    <a:pt x="1780" y="1417"/>
                  </a:lnTo>
                  <a:lnTo>
                    <a:pt x="1791" y="1422"/>
                  </a:lnTo>
                  <a:lnTo>
                    <a:pt x="1797" y="1428"/>
                  </a:lnTo>
                  <a:lnTo>
                    <a:pt x="1808" y="1434"/>
                  </a:lnTo>
                  <a:lnTo>
                    <a:pt x="1814" y="1445"/>
                  </a:lnTo>
                  <a:lnTo>
                    <a:pt x="1825" y="1450"/>
                  </a:lnTo>
                  <a:lnTo>
                    <a:pt x="1830" y="1456"/>
                  </a:lnTo>
                  <a:lnTo>
                    <a:pt x="1842" y="1461"/>
                  </a:lnTo>
                  <a:lnTo>
                    <a:pt x="1847" y="1473"/>
                  </a:lnTo>
                  <a:lnTo>
                    <a:pt x="1858" y="1478"/>
                  </a:lnTo>
                  <a:lnTo>
                    <a:pt x="1869" y="1484"/>
                  </a:lnTo>
                  <a:lnTo>
                    <a:pt x="1875" y="1489"/>
                  </a:lnTo>
                  <a:lnTo>
                    <a:pt x="1886" y="1495"/>
                  </a:lnTo>
                  <a:lnTo>
                    <a:pt x="1892" y="1506"/>
                  </a:lnTo>
                  <a:lnTo>
                    <a:pt x="1903" y="1512"/>
                  </a:lnTo>
                  <a:lnTo>
                    <a:pt x="1909" y="1517"/>
                  </a:lnTo>
                  <a:lnTo>
                    <a:pt x="1920" y="1523"/>
                  </a:lnTo>
                  <a:lnTo>
                    <a:pt x="1925" y="1534"/>
                  </a:lnTo>
                  <a:lnTo>
                    <a:pt x="1936" y="1540"/>
                  </a:lnTo>
                  <a:lnTo>
                    <a:pt x="1948" y="1545"/>
                  </a:lnTo>
                  <a:lnTo>
                    <a:pt x="1953" y="1551"/>
                  </a:lnTo>
                  <a:lnTo>
                    <a:pt x="1964" y="1562"/>
                  </a:lnTo>
                  <a:lnTo>
                    <a:pt x="1970" y="1567"/>
                  </a:lnTo>
                  <a:lnTo>
                    <a:pt x="1981" y="1573"/>
                  </a:lnTo>
                  <a:lnTo>
                    <a:pt x="1987" y="1579"/>
                  </a:lnTo>
                  <a:lnTo>
                    <a:pt x="1998" y="1584"/>
                  </a:lnTo>
                  <a:lnTo>
                    <a:pt x="2003" y="1595"/>
                  </a:lnTo>
                  <a:lnTo>
                    <a:pt x="2015" y="1601"/>
                  </a:lnTo>
                  <a:lnTo>
                    <a:pt x="2020" y="1606"/>
                  </a:lnTo>
                  <a:lnTo>
                    <a:pt x="2031" y="1612"/>
                  </a:lnTo>
                  <a:lnTo>
                    <a:pt x="2043" y="1623"/>
                  </a:lnTo>
                  <a:lnTo>
                    <a:pt x="2048" y="1629"/>
                  </a:lnTo>
                  <a:lnTo>
                    <a:pt x="2059" y="1634"/>
                  </a:lnTo>
                  <a:lnTo>
                    <a:pt x="2065" y="1640"/>
                  </a:lnTo>
                  <a:lnTo>
                    <a:pt x="2076" y="1651"/>
                  </a:lnTo>
                  <a:lnTo>
                    <a:pt x="2082" y="1657"/>
                  </a:lnTo>
                  <a:lnTo>
                    <a:pt x="2093" y="1662"/>
                  </a:lnTo>
                  <a:lnTo>
                    <a:pt x="2098" y="1668"/>
                  </a:lnTo>
                  <a:lnTo>
                    <a:pt x="2109" y="1673"/>
                  </a:lnTo>
                  <a:lnTo>
                    <a:pt x="2121" y="1685"/>
                  </a:lnTo>
                  <a:lnTo>
                    <a:pt x="2126" y="1690"/>
                  </a:lnTo>
                  <a:lnTo>
                    <a:pt x="2137" y="1696"/>
                  </a:lnTo>
                  <a:lnTo>
                    <a:pt x="2143" y="1701"/>
                  </a:lnTo>
                  <a:lnTo>
                    <a:pt x="2154" y="1712"/>
                  </a:lnTo>
                  <a:lnTo>
                    <a:pt x="2160" y="1718"/>
                  </a:lnTo>
                  <a:lnTo>
                    <a:pt x="2171" y="1724"/>
                  </a:lnTo>
                  <a:lnTo>
                    <a:pt x="2176" y="1729"/>
                  </a:lnTo>
                  <a:lnTo>
                    <a:pt x="2188" y="1740"/>
                  </a:lnTo>
                  <a:lnTo>
                    <a:pt x="2193" y="1746"/>
                  </a:lnTo>
                  <a:lnTo>
                    <a:pt x="2204" y="1752"/>
                  </a:lnTo>
                </a:path>
              </a:pathLst>
            </a:custGeom>
            <a:noFill/>
            <a:ln cap="rnd" w="255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16200000">
              <a:off x="3798000" y="4335840"/>
              <a:ext cx="239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Faza u stupnjevim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814360" y="2689200"/>
              <a:ext cx="310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Fazna karakteristika, M=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5409360" y="5973840"/>
              <a:ext cx="3740040" cy="397440"/>
              <a:chOff x="5409360" y="5973840"/>
              <a:chExt cx="3740040" cy="397440"/>
            </a:xfrm>
          </p:grpSpPr>
          <p:sp>
            <p:nvSpPr>
              <p:cNvPr id="822" name=""/>
              <p:cNvSpPr/>
              <p:nvPr/>
            </p:nvSpPr>
            <p:spPr>
              <a:xfrm>
                <a:off x="5409360" y="597384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031440" y="5973840"/>
                <a:ext cx="67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2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714000" y="5973840"/>
                <a:ext cx="67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4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396560" y="5973840"/>
                <a:ext cx="67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6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8079120" y="5973840"/>
                <a:ext cx="67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8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8824320" y="5973840"/>
                <a:ext cx="325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6661440" y="6383160"/>
              <a:ext cx="1404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frekvencij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FIR sustav za proizvoljni M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 proizvoljni </a:t>
            </a: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rijed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1" name=""/>
          <p:cNvGraphicFramePr/>
          <p:nvPr/>
        </p:nvGraphicFramePr>
        <p:xfrm>
          <a:off x="566640" y="2565360"/>
          <a:ext cx="378936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2565360"/>
                    <a:ext cx="37893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3" name=""/>
          <p:cNvGraphicFramePr/>
          <p:nvPr/>
        </p:nvGraphicFramePr>
        <p:xfrm>
          <a:off x="4394160" y="2435400"/>
          <a:ext cx="3645000" cy="12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4160" y="2435400"/>
                    <a:ext cx="364500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8172360" y="2955960"/>
                <a:ext cx="239760" cy="1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36" name=""/>
          <p:cNvGraphicFramePr/>
          <p:nvPr/>
        </p:nvGraphicFramePr>
        <p:xfrm>
          <a:off x="1403280" y="3978360"/>
          <a:ext cx="2014560" cy="76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3978360"/>
                    <a:ext cx="201456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8" name=""/>
          <p:cNvSpPr/>
          <p:nvPr/>
        </p:nvSpPr>
        <p:spPr>
          <a:xfrm>
            <a:off x="3461400" y="4076640"/>
            <a:ext cx="892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....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1814400" y="4995720"/>
                <a:ext cx="352764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⋅</m:t>
                            </m:r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426960" y="1795320"/>
                <a:ext cx="4597560" cy="142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w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⋅</m:t>
                            </m:r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FIR sustav za proizvoljni M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64680" y="3672000"/>
            <a:ext cx="21204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Amplitud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karakterist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2895480" y="3340080"/>
                <a:ext cx="3748320" cy="15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w</m:t>
                                </m:r>
                              </m:sup>
                            </m:sSup>
                          </m:e>
                        </m:d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M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4" name=""/>
          <p:cNvSpPr/>
          <p:nvPr/>
        </p:nvSpPr>
        <p:spPr>
          <a:xfrm>
            <a:off x="364680" y="5272200"/>
            <a:ext cx="21204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z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arakterist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2590920" y="4952880"/>
                <a:ext cx="591660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d>
                          <m:dPr>
                            <m:begChr m:val="⌊"/>
                            <m:endChr m:val="⌋"/>
                          </m:dPr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sup>
                      <m:e>
                        <m:r>
                          <m:t xml:space="preserve">μ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i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846" name=""/>
          <p:cNvGrpSpPr/>
          <p:nvPr/>
        </p:nvGrpSpPr>
        <p:grpSpPr>
          <a:xfrm>
            <a:off x="3961440" y="6172200"/>
            <a:ext cx="3347280" cy="519120"/>
            <a:chOff x="3961440" y="6172200"/>
            <a:chExt cx="3347280" cy="519120"/>
          </a:xfrm>
        </p:grpSpPr>
        <p:sp>
          <p:nvSpPr>
            <p:cNvPr id="847" name=""/>
            <p:cNvSpPr/>
            <p:nvPr/>
          </p:nvSpPr>
          <p:spPr>
            <a:xfrm>
              <a:off x="6019560" y="6172200"/>
              <a:ext cx="102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step u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961440" y="6172200"/>
              <a:ext cx="1142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gdje j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9" name=""/>
                <p:cNvSpPr txBox="1"/>
                <p:nvPr/>
              </p:nvSpPr>
              <p:spPr>
                <a:xfrm>
                  <a:off x="5292720" y="6256080"/>
                  <a:ext cx="728640" cy="36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w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0" name=""/>
                <p:cNvSpPr txBox="1"/>
                <p:nvPr/>
              </p:nvSpPr>
              <p:spPr>
                <a:xfrm>
                  <a:off x="7037280" y="6338880"/>
                  <a:ext cx="271440" cy="18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51" name=""/>
          <p:cNvSpPr/>
          <p:nvPr/>
        </p:nvSpPr>
        <p:spPr>
          <a:xfrm>
            <a:off x="5820480" y="1995480"/>
            <a:ext cx="2792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Amplitudno-faz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karakterist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FIR sustav za proizvoljni M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240" y="2004840"/>
            <a:ext cx="4487040" cy="4114080"/>
            <a:chOff x="3240" y="2004840"/>
            <a:chExt cx="4487040" cy="4114080"/>
          </a:xfrm>
        </p:grpSpPr>
        <p:sp>
          <p:nvSpPr>
            <p:cNvPr id="854" name=""/>
            <p:cNvSpPr/>
            <p:nvPr/>
          </p:nvSpPr>
          <p:spPr>
            <a:xfrm flipV="1">
              <a:off x="882720" y="2533680"/>
              <a:ext cx="0" cy="272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1581120" y="2533680"/>
              <a:ext cx="0" cy="2720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2271600" y="2533680"/>
              <a:ext cx="0" cy="2720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2970360" y="2533680"/>
              <a:ext cx="0" cy="2720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3660840" y="2533680"/>
              <a:ext cx="0" cy="2720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4359240" y="2533680"/>
              <a:ext cx="0" cy="272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82720" y="5254560"/>
              <a:ext cx="34765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82720" y="4711680"/>
              <a:ext cx="34765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82720" y="4168800"/>
              <a:ext cx="34765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82720" y="3618000"/>
              <a:ext cx="34765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82720" y="3076560"/>
              <a:ext cx="34765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82720" y="2533680"/>
              <a:ext cx="34765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82720" y="2533680"/>
              <a:ext cx="3478320" cy="2722680"/>
            </a:xfrm>
            <a:custGeom>
              <a:avLst/>
              <a:gdLst/>
              <a:ahLst/>
              <a:rect l="l" t="t" r="r" b="b"/>
              <a:pathLst>
                <a:path w="2191" h="1715">
                  <a:moveTo>
                    <a:pt x="0" y="1714"/>
                  </a:moveTo>
                  <a:lnTo>
                    <a:pt x="0" y="0"/>
                  </a:lnTo>
                  <a:lnTo>
                    <a:pt x="2190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82720" y="2533680"/>
              <a:ext cx="3478320" cy="2722680"/>
            </a:xfrm>
            <a:custGeom>
              <a:avLst/>
              <a:gdLst/>
              <a:ahLst/>
              <a:rect l="l" t="t" r="r" b="b"/>
              <a:pathLst>
                <a:path w="2191" h="1715">
                  <a:moveTo>
                    <a:pt x="0" y="1714"/>
                  </a:moveTo>
                  <a:lnTo>
                    <a:pt x="0" y="0"/>
                  </a:lnTo>
                  <a:lnTo>
                    <a:pt x="2190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82720" y="2533680"/>
              <a:ext cx="3478320" cy="2722680"/>
            </a:xfrm>
            <a:custGeom>
              <a:avLst/>
              <a:gdLst/>
              <a:ahLst/>
              <a:rect l="l" t="t" r="r" b="b"/>
              <a:pathLst>
                <a:path w="2191" h="1715">
                  <a:moveTo>
                    <a:pt x="0" y="1714"/>
                  </a:moveTo>
                  <a:lnTo>
                    <a:pt x="0" y="0"/>
                  </a:lnTo>
                  <a:lnTo>
                    <a:pt x="2190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82720" y="5254560"/>
              <a:ext cx="34765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82720" y="2533680"/>
              <a:ext cx="34765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882720" y="2533680"/>
              <a:ext cx="0" cy="272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4359240" y="2533680"/>
              <a:ext cx="0" cy="272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82720" y="253368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359240" y="525456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82720" y="5254560"/>
              <a:ext cx="34765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882720" y="2533680"/>
              <a:ext cx="0" cy="272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82720" y="525456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882720" y="52228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82720" y="25336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1581120" y="52228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81120" y="25336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2271600" y="52228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271600" y="25336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2970360" y="52228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970360" y="25336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3660840" y="52228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60840" y="25336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4359240" y="52228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359240" y="25336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0" name=""/>
            <p:cNvGrpSpPr/>
            <p:nvPr/>
          </p:nvGrpSpPr>
          <p:grpSpPr>
            <a:xfrm>
              <a:off x="681840" y="5278320"/>
              <a:ext cx="3808440" cy="397440"/>
              <a:chOff x="681840" y="5278320"/>
              <a:chExt cx="3808440" cy="397440"/>
            </a:xfrm>
          </p:grpSpPr>
          <p:sp>
            <p:nvSpPr>
              <p:cNvPr id="891" name=""/>
              <p:cNvSpPr/>
              <p:nvPr/>
            </p:nvSpPr>
            <p:spPr>
              <a:xfrm>
                <a:off x="681840" y="527832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324440" y="5278320"/>
                <a:ext cx="67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2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016720" y="5278320"/>
                <a:ext cx="67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4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716560" y="5278320"/>
                <a:ext cx="67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6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407400" y="5278320"/>
                <a:ext cx="67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8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165200" y="5278320"/>
                <a:ext cx="325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7" name=""/>
            <p:cNvSpPr/>
            <p:nvPr/>
          </p:nvSpPr>
          <p:spPr>
            <a:xfrm>
              <a:off x="882720" y="52545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4327560" y="52545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82720" y="498312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4327560" y="498312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82720" y="471168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4327560" y="471168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82720" y="444024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4327560" y="444024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82720" y="416880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4327560" y="416880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82720" y="38973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4327560" y="38973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82720" y="361800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4327560" y="361800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82720" y="33465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4327560" y="33465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82720" y="30765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327560" y="30765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82720" y="280512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4327560" y="280512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82720" y="253368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4327560" y="253368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19" name=""/>
            <p:cNvGrpSpPr/>
            <p:nvPr/>
          </p:nvGrpSpPr>
          <p:grpSpPr>
            <a:xfrm>
              <a:off x="353160" y="2301840"/>
              <a:ext cx="538560" cy="3118320"/>
              <a:chOff x="353160" y="2301840"/>
              <a:chExt cx="538560" cy="3118320"/>
            </a:xfrm>
          </p:grpSpPr>
          <p:sp>
            <p:nvSpPr>
              <p:cNvPr id="920" name=""/>
              <p:cNvSpPr/>
              <p:nvPr/>
            </p:nvSpPr>
            <p:spPr>
              <a:xfrm>
                <a:off x="456480" y="502272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53160" y="447984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53160" y="393696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53160" y="338616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53160" y="284328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56480" y="230184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26" name=""/>
            <p:cNvSpPr/>
            <p:nvPr/>
          </p:nvSpPr>
          <p:spPr>
            <a:xfrm>
              <a:off x="882720" y="5254560"/>
              <a:ext cx="34765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82720" y="2533680"/>
              <a:ext cx="34765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882720" y="2533680"/>
              <a:ext cx="0" cy="272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4359240" y="2533680"/>
              <a:ext cx="0" cy="272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82720" y="525456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82720" y="2533680"/>
              <a:ext cx="3478320" cy="2722680"/>
            </a:xfrm>
            <a:custGeom>
              <a:avLst/>
              <a:gdLst/>
              <a:ahLst/>
              <a:rect l="l" t="t" r="r" b="b"/>
              <a:pathLst>
                <a:path w="2191" h="1715">
                  <a:moveTo>
                    <a:pt x="0" y="0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6" y="5"/>
                  </a:lnTo>
                  <a:lnTo>
                    <a:pt x="41" y="5"/>
                  </a:lnTo>
                  <a:lnTo>
                    <a:pt x="51" y="10"/>
                  </a:lnTo>
                  <a:lnTo>
                    <a:pt x="61" y="15"/>
                  </a:lnTo>
                  <a:lnTo>
                    <a:pt x="71" y="15"/>
                  </a:lnTo>
                  <a:lnTo>
                    <a:pt x="76" y="20"/>
                  </a:lnTo>
                  <a:lnTo>
                    <a:pt x="86" y="25"/>
                  </a:lnTo>
                  <a:lnTo>
                    <a:pt x="96" y="30"/>
                  </a:lnTo>
                  <a:lnTo>
                    <a:pt x="101" y="35"/>
                  </a:lnTo>
                  <a:lnTo>
                    <a:pt x="111" y="45"/>
                  </a:lnTo>
                  <a:lnTo>
                    <a:pt x="121" y="50"/>
                  </a:lnTo>
                  <a:lnTo>
                    <a:pt x="127" y="60"/>
                  </a:lnTo>
                  <a:lnTo>
                    <a:pt x="137" y="65"/>
                  </a:lnTo>
                  <a:lnTo>
                    <a:pt x="147" y="75"/>
                  </a:lnTo>
                  <a:lnTo>
                    <a:pt x="157" y="85"/>
                  </a:lnTo>
                  <a:lnTo>
                    <a:pt x="162" y="90"/>
                  </a:lnTo>
                  <a:lnTo>
                    <a:pt x="172" y="100"/>
                  </a:lnTo>
                  <a:lnTo>
                    <a:pt x="182" y="110"/>
                  </a:lnTo>
                  <a:lnTo>
                    <a:pt x="187" y="125"/>
                  </a:lnTo>
                  <a:lnTo>
                    <a:pt x="197" y="136"/>
                  </a:lnTo>
                  <a:lnTo>
                    <a:pt x="207" y="146"/>
                  </a:lnTo>
                  <a:lnTo>
                    <a:pt x="213" y="156"/>
                  </a:lnTo>
                  <a:lnTo>
                    <a:pt x="223" y="171"/>
                  </a:lnTo>
                  <a:lnTo>
                    <a:pt x="233" y="186"/>
                  </a:lnTo>
                  <a:lnTo>
                    <a:pt x="243" y="196"/>
                  </a:lnTo>
                  <a:lnTo>
                    <a:pt x="248" y="211"/>
                  </a:lnTo>
                  <a:lnTo>
                    <a:pt x="258" y="226"/>
                  </a:lnTo>
                  <a:lnTo>
                    <a:pt x="268" y="241"/>
                  </a:lnTo>
                  <a:lnTo>
                    <a:pt x="273" y="256"/>
                  </a:lnTo>
                  <a:lnTo>
                    <a:pt x="283" y="271"/>
                  </a:lnTo>
                  <a:lnTo>
                    <a:pt x="293" y="286"/>
                  </a:lnTo>
                  <a:lnTo>
                    <a:pt x="298" y="301"/>
                  </a:lnTo>
                  <a:lnTo>
                    <a:pt x="309" y="316"/>
                  </a:lnTo>
                  <a:lnTo>
                    <a:pt x="319" y="337"/>
                  </a:lnTo>
                  <a:lnTo>
                    <a:pt x="329" y="352"/>
                  </a:lnTo>
                  <a:lnTo>
                    <a:pt x="334" y="372"/>
                  </a:lnTo>
                  <a:lnTo>
                    <a:pt x="344" y="387"/>
                  </a:lnTo>
                  <a:lnTo>
                    <a:pt x="354" y="407"/>
                  </a:lnTo>
                  <a:lnTo>
                    <a:pt x="359" y="427"/>
                  </a:lnTo>
                  <a:lnTo>
                    <a:pt x="369" y="442"/>
                  </a:lnTo>
                  <a:lnTo>
                    <a:pt x="379" y="462"/>
                  </a:lnTo>
                  <a:lnTo>
                    <a:pt x="384" y="482"/>
                  </a:lnTo>
                  <a:lnTo>
                    <a:pt x="395" y="502"/>
                  </a:lnTo>
                  <a:lnTo>
                    <a:pt x="405" y="523"/>
                  </a:lnTo>
                  <a:lnTo>
                    <a:pt x="415" y="543"/>
                  </a:lnTo>
                  <a:lnTo>
                    <a:pt x="420" y="563"/>
                  </a:lnTo>
                  <a:lnTo>
                    <a:pt x="430" y="583"/>
                  </a:lnTo>
                  <a:lnTo>
                    <a:pt x="440" y="603"/>
                  </a:lnTo>
                  <a:lnTo>
                    <a:pt x="445" y="628"/>
                  </a:lnTo>
                  <a:lnTo>
                    <a:pt x="455" y="648"/>
                  </a:lnTo>
                  <a:lnTo>
                    <a:pt x="465" y="668"/>
                  </a:lnTo>
                  <a:lnTo>
                    <a:pt x="470" y="688"/>
                  </a:lnTo>
                  <a:lnTo>
                    <a:pt x="481" y="714"/>
                  </a:lnTo>
                  <a:lnTo>
                    <a:pt x="491" y="734"/>
                  </a:lnTo>
                  <a:lnTo>
                    <a:pt x="496" y="759"/>
                  </a:lnTo>
                  <a:lnTo>
                    <a:pt x="506" y="779"/>
                  </a:lnTo>
                  <a:lnTo>
                    <a:pt x="516" y="799"/>
                  </a:lnTo>
                  <a:lnTo>
                    <a:pt x="526" y="824"/>
                  </a:lnTo>
                  <a:lnTo>
                    <a:pt x="531" y="844"/>
                  </a:lnTo>
                  <a:lnTo>
                    <a:pt x="541" y="869"/>
                  </a:lnTo>
                  <a:lnTo>
                    <a:pt x="551" y="889"/>
                  </a:lnTo>
                  <a:lnTo>
                    <a:pt x="556" y="915"/>
                  </a:lnTo>
                  <a:lnTo>
                    <a:pt x="567" y="940"/>
                  </a:lnTo>
                  <a:lnTo>
                    <a:pt x="577" y="960"/>
                  </a:lnTo>
                  <a:lnTo>
                    <a:pt x="582" y="985"/>
                  </a:lnTo>
                  <a:lnTo>
                    <a:pt x="592" y="1005"/>
                  </a:lnTo>
                  <a:lnTo>
                    <a:pt x="602" y="1030"/>
                  </a:lnTo>
                  <a:lnTo>
                    <a:pt x="612" y="1055"/>
                  </a:lnTo>
                  <a:lnTo>
                    <a:pt x="617" y="1075"/>
                  </a:lnTo>
                  <a:lnTo>
                    <a:pt x="627" y="1101"/>
                  </a:lnTo>
                  <a:lnTo>
                    <a:pt x="637" y="1121"/>
                  </a:lnTo>
                  <a:lnTo>
                    <a:pt x="642" y="1146"/>
                  </a:lnTo>
                  <a:lnTo>
                    <a:pt x="652" y="1166"/>
                  </a:lnTo>
                  <a:lnTo>
                    <a:pt x="663" y="1191"/>
                  </a:lnTo>
                  <a:lnTo>
                    <a:pt x="668" y="1216"/>
                  </a:lnTo>
                  <a:lnTo>
                    <a:pt x="678" y="1236"/>
                  </a:lnTo>
                  <a:lnTo>
                    <a:pt x="688" y="1261"/>
                  </a:lnTo>
                  <a:lnTo>
                    <a:pt x="698" y="1281"/>
                  </a:lnTo>
                  <a:lnTo>
                    <a:pt x="703" y="1307"/>
                  </a:lnTo>
                  <a:lnTo>
                    <a:pt x="713" y="1327"/>
                  </a:lnTo>
                  <a:lnTo>
                    <a:pt x="723" y="1347"/>
                  </a:lnTo>
                  <a:lnTo>
                    <a:pt x="728" y="1372"/>
                  </a:lnTo>
                  <a:lnTo>
                    <a:pt x="738" y="1392"/>
                  </a:lnTo>
                  <a:lnTo>
                    <a:pt x="749" y="1412"/>
                  </a:lnTo>
                  <a:lnTo>
                    <a:pt x="754" y="1437"/>
                  </a:lnTo>
                  <a:lnTo>
                    <a:pt x="764" y="1457"/>
                  </a:lnTo>
                  <a:lnTo>
                    <a:pt x="774" y="1478"/>
                  </a:lnTo>
                  <a:lnTo>
                    <a:pt x="784" y="1498"/>
                  </a:lnTo>
                  <a:lnTo>
                    <a:pt x="789" y="1518"/>
                  </a:lnTo>
                  <a:lnTo>
                    <a:pt x="799" y="1543"/>
                  </a:lnTo>
                  <a:lnTo>
                    <a:pt x="809" y="1563"/>
                  </a:lnTo>
                  <a:lnTo>
                    <a:pt x="814" y="1583"/>
                  </a:lnTo>
                  <a:lnTo>
                    <a:pt x="824" y="1603"/>
                  </a:lnTo>
                  <a:lnTo>
                    <a:pt x="835" y="1618"/>
                  </a:lnTo>
                  <a:lnTo>
                    <a:pt x="840" y="1638"/>
                  </a:lnTo>
                  <a:lnTo>
                    <a:pt x="850" y="1658"/>
                  </a:lnTo>
                  <a:lnTo>
                    <a:pt x="860" y="1679"/>
                  </a:lnTo>
                  <a:lnTo>
                    <a:pt x="870" y="1694"/>
                  </a:lnTo>
                  <a:lnTo>
                    <a:pt x="875" y="1714"/>
                  </a:lnTo>
                  <a:lnTo>
                    <a:pt x="885" y="1694"/>
                  </a:lnTo>
                  <a:lnTo>
                    <a:pt x="895" y="1679"/>
                  </a:lnTo>
                  <a:lnTo>
                    <a:pt x="900" y="1663"/>
                  </a:lnTo>
                  <a:lnTo>
                    <a:pt x="910" y="1643"/>
                  </a:lnTo>
                  <a:lnTo>
                    <a:pt x="921" y="1628"/>
                  </a:lnTo>
                  <a:lnTo>
                    <a:pt x="926" y="1613"/>
                  </a:lnTo>
                  <a:lnTo>
                    <a:pt x="936" y="1598"/>
                  </a:lnTo>
                  <a:lnTo>
                    <a:pt x="946" y="1578"/>
                  </a:lnTo>
                  <a:lnTo>
                    <a:pt x="951" y="1563"/>
                  </a:lnTo>
                  <a:lnTo>
                    <a:pt x="961" y="1553"/>
                  </a:lnTo>
                  <a:lnTo>
                    <a:pt x="971" y="1538"/>
                  </a:lnTo>
                  <a:lnTo>
                    <a:pt x="981" y="1523"/>
                  </a:lnTo>
                  <a:lnTo>
                    <a:pt x="986" y="1508"/>
                  </a:lnTo>
                  <a:lnTo>
                    <a:pt x="996" y="1493"/>
                  </a:lnTo>
                  <a:lnTo>
                    <a:pt x="1006" y="1483"/>
                  </a:lnTo>
                  <a:lnTo>
                    <a:pt x="1012" y="1467"/>
                  </a:lnTo>
                  <a:lnTo>
                    <a:pt x="1022" y="1457"/>
                  </a:lnTo>
                  <a:lnTo>
                    <a:pt x="1032" y="1447"/>
                  </a:lnTo>
                  <a:lnTo>
                    <a:pt x="1037" y="1432"/>
                  </a:lnTo>
                  <a:lnTo>
                    <a:pt x="1047" y="1422"/>
                  </a:lnTo>
                  <a:lnTo>
                    <a:pt x="1057" y="1412"/>
                  </a:lnTo>
                  <a:lnTo>
                    <a:pt x="1067" y="1402"/>
                  </a:lnTo>
                  <a:lnTo>
                    <a:pt x="1072" y="1392"/>
                  </a:lnTo>
                  <a:lnTo>
                    <a:pt x="1082" y="1382"/>
                  </a:lnTo>
                  <a:lnTo>
                    <a:pt x="1092" y="1377"/>
                  </a:lnTo>
                  <a:lnTo>
                    <a:pt x="1098" y="1367"/>
                  </a:lnTo>
                  <a:lnTo>
                    <a:pt x="1108" y="1357"/>
                  </a:lnTo>
                  <a:lnTo>
                    <a:pt x="1118" y="1352"/>
                  </a:lnTo>
                  <a:lnTo>
                    <a:pt x="1123" y="1342"/>
                  </a:lnTo>
                  <a:lnTo>
                    <a:pt x="1133" y="1337"/>
                  </a:lnTo>
                  <a:lnTo>
                    <a:pt x="1143" y="1332"/>
                  </a:lnTo>
                  <a:lnTo>
                    <a:pt x="1153" y="1327"/>
                  </a:lnTo>
                  <a:lnTo>
                    <a:pt x="1158" y="1322"/>
                  </a:lnTo>
                  <a:lnTo>
                    <a:pt x="1168" y="1317"/>
                  </a:lnTo>
                  <a:lnTo>
                    <a:pt x="1178" y="1312"/>
                  </a:lnTo>
                  <a:lnTo>
                    <a:pt x="1183" y="1307"/>
                  </a:lnTo>
                  <a:lnTo>
                    <a:pt x="1194" y="1302"/>
                  </a:lnTo>
                  <a:lnTo>
                    <a:pt x="1204" y="1297"/>
                  </a:lnTo>
                  <a:lnTo>
                    <a:pt x="1209" y="1297"/>
                  </a:lnTo>
                  <a:lnTo>
                    <a:pt x="1219" y="1292"/>
                  </a:lnTo>
                  <a:lnTo>
                    <a:pt x="1229" y="1292"/>
                  </a:lnTo>
                  <a:lnTo>
                    <a:pt x="1239" y="1287"/>
                  </a:lnTo>
                  <a:lnTo>
                    <a:pt x="1244" y="1287"/>
                  </a:lnTo>
                  <a:lnTo>
                    <a:pt x="1254" y="1287"/>
                  </a:lnTo>
                  <a:lnTo>
                    <a:pt x="1264" y="1287"/>
                  </a:lnTo>
                  <a:lnTo>
                    <a:pt x="1269" y="1287"/>
                  </a:lnTo>
                  <a:lnTo>
                    <a:pt x="1280" y="1287"/>
                  </a:lnTo>
                  <a:lnTo>
                    <a:pt x="1290" y="1287"/>
                  </a:lnTo>
                  <a:lnTo>
                    <a:pt x="1295" y="1287"/>
                  </a:lnTo>
                  <a:lnTo>
                    <a:pt x="1305" y="1287"/>
                  </a:lnTo>
                  <a:lnTo>
                    <a:pt x="1315" y="1292"/>
                  </a:lnTo>
                  <a:lnTo>
                    <a:pt x="1320" y="1292"/>
                  </a:lnTo>
                  <a:lnTo>
                    <a:pt x="1330" y="1297"/>
                  </a:lnTo>
                  <a:lnTo>
                    <a:pt x="1340" y="1297"/>
                  </a:lnTo>
                  <a:lnTo>
                    <a:pt x="1350" y="1302"/>
                  </a:lnTo>
                  <a:lnTo>
                    <a:pt x="1355" y="1302"/>
                  </a:lnTo>
                  <a:lnTo>
                    <a:pt x="1366" y="1307"/>
                  </a:lnTo>
                  <a:lnTo>
                    <a:pt x="1376" y="1312"/>
                  </a:lnTo>
                  <a:lnTo>
                    <a:pt x="1381" y="1317"/>
                  </a:lnTo>
                  <a:lnTo>
                    <a:pt x="1391" y="1322"/>
                  </a:lnTo>
                  <a:lnTo>
                    <a:pt x="1401" y="1327"/>
                  </a:lnTo>
                  <a:lnTo>
                    <a:pt x="1406" y="1332"/>
                  </a:lnTo>
                  <a:lnTo>
                    <a:pt x="1416" y="1337"/>
                  </a:lnTo>
                  <a:lnTo>
                    <a:pt x="1426" y="1342"/>
                  </a:lnTo>
                  <a:lnTo>
                    <a:pt x="1436" y="1352"/>
                  </a:lnTo>
                  <a:lnTo>
                    <a:pt x="1441" y="1357"/>
                  </a:lnTo>
                  <a:lnTo>
                    <a:pt x="1452" y="1362"/>
                  </a:lnTo>
                  <a:lnTo>
                    <a:pt x="1462" y="1372"/>
                  </a:lnTo>
                  <a:lnTo>
                    <a:pt x="1467" y="1377"/>
                  </a:lnTo>
                  <a:lnTo>
                    <a:pt x="1477" y="1387"/>
                  </a:lnTo>
                  <a:lnTo>
                    <a:pt x="1487" y="1392"/>
                  </a:lnTo>
                  <a:lnTo>
                    <a:pt x="1492" y="1402"/>
                  </a:lnTo>
                  <a:lnTo>
                    <a:pt x="1502" y="1412"/>
                  </a:lnTo>
                  <a:lnTo>
                    <a:pt x="1512" y="1417"/>
                  </a:lnTo>
                  <a:lnTo>
                    <a:pt x="1522" y="1427"/>
                  </a:lnTo>
                  <a:lnTo>
                    <a:pt x="1527" y="1437"/>
                  </a:lnTo>
                  <a:lnTo>
                    <a:pt x="1537" y="1447"/>
                  </a:lnTo>
                  <a:lnTo>
                    <a:pt x="1548" y="1457"/>
                  </a:lnTo>
                  <a:lnTo>
                    <a:pt x="1553" y="1467"/>
                  </a:lnTo>
                  <a:lnTo>
                    <a:pt x="1563" y="1478"/>
                  </a:lnTo>
                  <a:lnTo>
                    <a:pt x="1573" y="1483"/>
                  </a:lnTo>
                  <a:lnTo>
                    <a:pt x="1578" y="1498"/>
                  </a:lnTo>
                  <a:lnTo>
                    <a:pt x="1588" y="1508"/>
                  </a:lnTo>
                  <a:lnTo>
                    <a:pt x="1598" y="1518"/>
                  </a:lnTo>
                  <a:lnTo>
                    <a:pt x="1608" y="1528"/>
                  </a:lnTo>
                  <a:lnTo>
                    <a:pt x="1613" y="1538"/>
                  </a:lnTo>
                  <a:lnTo>
                    <a:pt x="1623" y="1548"/>
                  </a:lnTo>
                  <a:lnTo>
                    <a:pt x="1634" y="1558"/>
                  </a:lnTo>
                  <a:lnTo>
                    <a:pt x="1639" y="1568"/>
                  </a:lnTo>
                  <a:lnTo>
                    <a:pt x="1649" y="1578"/>
                  </a:lnTo>
                  <a:lnTo>
                    <a:pt x="1659" y="1593"/>
                  </a:lnTo>
                  <a:lnTo>
                    <a:pt x="1664" y="1603"/>
                  </a:lnTo>
                  <a:lnTo>
                    <a:pt x="1674" y="1613"/>
                  </a:lnTo>
                  <a:lnTo>
                    <a:pt x="1684" y="1623"/>
                  </a:lnTo>
                  <a:lnTo>
                    <a:pt x="1694" y="1633"/>
                  </a:lnTo>
                  <a:lnTo>
                    <a:pt x="1699" y="1648"/>
                  </a:lnTo>
                  <a:lnTo>
                    <a:pt x="1709" y="1658"/>
                  </a:lnTo>
                  <a:lnTo>
                    <a:pt x="1720" y="1669"/>
                  </a:lnTo>
                  <a:lnTo>
                    <a:pt x="1725" y="1679"/>
                  </a:lnTo>
                  <a:lnTo>
                    <a:pt x="1735" y="1694"/>
                  </a:lnTo>
                  <a:lnTo>
                    <a:pt x="1745" y="1704"/>
                  </a:lnTo>
                  <a:lnTo>
                    <a:pt x="1750" y="1714"/>
                  </a:lnTo>
                  <a:lnTo>
                    <a:pt x="1760" y="1704"/>
                  </a:lnTo>
                  <a:lnTo>
                    <a:pt x="1770" y="1694"/>
                  </a:lnTo>
                  <a:lnTo>
                    <a:pt x="1775" y="1679"/>
                  </a:lnTo>
                  <a:lnTo>
                    <a:pt x="1785" y="1669"/>
                  </a:lnTo>
                  <a:lnTo>
                    <a:pt x="1795" y="1658"/>
                  </a:lnTo>
                  <a:lnTo>
                    <a:pt x="1806" y="1648"/>
                  </a:lnTo>
                  <a:lnTo>
                    <a:pt x="1811" y="1638"/>
                  </a:lnTo>
                  <a:lnTo>
                    <a:pt x="1821" y="1628"/>
                  </a:lnTo>
                  <a:lnTo>
                    <a:pt x="1831" y="1618"/>
                  </a:lnTo>
                  <a:lnTo>
                    <a:pt x="1836" y="1608"/>
                  </a:lnTo>
                  <a:lnTo>
                    <a:pt x="1846" y="1598"/>
                  </a:lnTo>
                  <a:lnTo>
                    <a:pt x="1856" y="1588"/>
                  </a:lnTo>
                  <a:lnTo>
                    <a:pt x="1861" y="1578"/>
                  </a:lnTo>
                  <a:lnTo>
                    <a:pt x="1871" y="1568"/>
                  </a:lnTo>
                  <a:lnTo>
                    <a:pt x="1881" y="1558"/>
                  </a:lnTo>
                  <a:lnTo>
                    <a:pt x="1891" y="1548"/>
                  </a:lnTo>
                  <a:lnTo>
                    <a:pt x="1897" y="1538"/>
                  </a:lnTo>
                  <a:lnTo>
                    <a:pt x="1907" y="1528"/>
                  </a:lnTo>
                  <a:lnTo>
                    <a:pt x="1917" y="1523"/>
                  </a:lnTo>
                  <a:lnTo>
                    <a:pt x="1922" y="1513"/>
                  </a:lnTo>
                  <a:lnTo>
                    <a:pt x="1932" y="1503"/>
                  </a:lnTo>
                  <a:lnTo>
                    <a:pt x="1942" y="1498"/>
                  </a:lnTo>
                  <a:lnTo>
                    <a:pt x="1947" y="1488"/>
                  </a:lnTo>
                  <a:lnTo>
                    <a:pt x="1957" y="1478"/>
                  </a:lnTo>
                  <a:lnTo>
                    <a:pt x="1967" y="1472"/>
                  </a:lnTo>
                  <a:lnTo>
                    <a:pt x="1977" y="1462"/>
                  </a:lnTo>
                  <a:lnTo>
                    <a:pt x="1983" y="1457"/>
                  </a:lnTo>
                  <a:lnTo>
                    <a:pt x="1993" y="1452"/>
                  </a:lnTo>
                  <a:lnTo>
                    <a:pt x="2003" y="1442"/>
                  </a:lnTo>
                  <a:lnTo>
                    <a:pt x="2008" y="1437"/>
                  </a:lnTo>
                  <a:lnTo>
                    <a:pt x="2018" y="1432"/>
                  </a:lnTo>
                  <a:lnTo>
                    <a:pt x="2028" y="1427"/>
                  </a:lnTo>
                  <a:lnTo>
                    <a:pt x="2033" y="1422"/>
                  </a:lnTo>
                  <a:lnTo>
                    <a:pt x="2043" y="1417"/>
                  </a:lnTo>
                  <a:lnTo>
                    <a:pt x="2053" y="1412"/>
                  </a:lnTo>
                  <a:lnTo>
                    <a:pt x="2063" y="1407"/>
                  </a:lnTo>
                  <a:lnTo>
                    <a:pt x="2068" y="1402"/>
                  </a:lnTo>
                  <a:lnTo>
                    <a:pt x="2079" y="1397"/>
                  </a:lnTo>
                  <a:lnTo>
                    <a:pt x="2089" y="1392"/>
                  </a:lnTo>
                  <a:lnTo>
                    <a:pt x="2094" y="1392"/>
                  </a:lnTo>
                  <a:lnTo>
                    <a:pt x="2104" y="1387"/>
                  </a:lnTo>
                  <a:lnTo>
                    <a:pt x="2114" y="1382"/>
                  </a:lnTo>
                  <a:lnTo>
                    <a:pt x="2119" y="1382"/>
                  </a:lnTo>
                  <a:lnTo>
                    <a:pt x="2129" y="1377"/>
                  </a:lnTo>
                  <a:lnTo>
                    <a:pt x="2139" y="1377"/>
                  </a:lnTo>
                  <a:lnTo>
                    <a:pt x="2149" y="1377"/>
                  </a:lnTo>
                  <a:lnTo>
                    <a:pt x="2154" y="1372"/>
                  </a:lnTo>
                  <a:lnTo>
                    <a:pt x="2165" y="1372"/>
                  </a:lnTo>
                  <a:lnTo>
                    <a:pt x="2175" y="1372"/>
                  </a:lnTo>
                  <a:lnTo>
                    <a:pt x="2180" y="1372"/>
                  </a:lnTo>
                  <a:lnTo>
                    <a:pt x="2190" y="1372"/>
                  </a:lnTo>
                </a:path>
              </a:pathLst>
            </a:custGeom>
            <a:noFill/>
            <a:ln cap="rnd" w="255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82720" y="2533680"/>
              <a:ext cx="3478320" cy="2722680"/>
            </a:xfrm>
            <a:custGeom>
              <a:avLst/>
              <a:gdLst/>
              <a:ahLst/>
              <a:rect l="l" t="t" r="r" b="b"/>
              <a:pathLst>
                <a:path w="2191" h="1715">
                  <a:moveTo>
                    <a:pt x="0" y="0"/>
                  </a:moveTo>
                  <a:lnTo>
                    <a:pt x="10" y="0"/>
                  </a:lnTo>
                  <a:lnTo>
                    <a:pt x="15" y="10"/>
                  </a:lnTo>
                  <a:lnTo>
                    <a:pt x="25" y="20"/>
                  </a:lnTo>
                  <a:lnTo>
                    <a:pt x="36" y="35"/>
                  </a:lnTo>
                  <a:lnTo>
                    <a:pt x="41" y="50"/>
                  </a:lnTo>
                  <a:lnTo>
                    <a:pt x="51" y="75"/>
                  </a:lnTo>
                  <a:lnTo>
                    <a:pt x="61" y="100"/>
                  </a:lnTo>
                  <a:lnTo>
                    <a:pt x="71" y="130"/>
                  </a:lnTo>
                  <a:lnTo>
                    <a:pt x="76" y="166"/>
                  </a:lnTo>
                  <a:lnTo>
                    <a:pt x="86" y="206"/>
                  </a:lnTo>
                  <a:lnTo>
                    <a:pt x="96" y="246"/>
                  </a:lnTo>
                  <a:lnTo>
                    <a:pt x="101" y="286"/>
                  </a:lnTo>
                  <a:lnTo>
                    <a:pt x="111" y="337"/>
                  </a:lnTo>
                  <a:lnTo>
                    <a:pt x="121" y="387"/>
                  </a:lnTo>
                  <a:lnTo>
                    <a:pt x="127" y="437"/>
                  </a:lnTo>
                  <a:lnTo>
                    <a:pt x="137" y="492"/>
                  </a:lnTo>
                  <a:lnTo>
                    <a:pt x="147" y="548"/>
                  </a:lnTo>
                  <a:lnTo>
                    <a:pt x="157" y="608"/>
                  </a:lnTo>
                  <a:lnTo>
                    <a:pt x="162" y="668"/>
                  </a:lnTo>
                  <a:lnTo>
                    <a:pt x="172" y="729"/>
                  </a:lnTo>
                  <a:lnTo>
                    <a:pt x="182" y="794"/>
                  </a:lnTo>
                  <a:lnTo>
                    <a:pt x="187" y="854"/>
                  </a:lnTo>
                  <a:lnTo>
                    <a:pt x="197" y="920"/>
                  </a:lnTo>
                  <a:lnTo>
                    <a:pt x="207" y="985"/>
                  </a:lnTo>
                  <a:lnTo>
                    <a:pt x="213" y="1050"/>
                  </a:lnTo>
                  <a:lnTo>
                    <a:pt x="223" y="1111"/>
                  </a:lnTo>
                  <a:lnTo>
                    <a:pt x="233" y="1176"/>
                  </a:lnTo>
                  <a:lnTo>
                    <a:pt x="243" y="1241"/>
                  </a:lnTo>
                  <a:lnTo>
                    <a:pt x="248" y="1302"/>
                  </a:lnTo>
                  <a:lnTo>
                    <a:pt x="258" y="1362"/>
                  </a:lnTo>
                  <a:lnTo>
                    <a:pt x="268" y="1422"/>
                  </a:lnTo>
                  <a:lnTo>
                    <a:pt x="273" y="1483"/>
                  </a:lnTo>
                  <a:lnTo>
                    <a:pt x="283" y="1538"/>
                  </a:lnTo>
                  <a:lnTo>
                    <a:pt x="293" y="1593"/>
                  </a:lnTo>
                  <a:lnTo>
                    <a:pt x="298" y="1643"/>
                  </a:lnTo>
                  <a:lnTo>
                    <a:pt x="309" y="1694"/>
                  </a:lnTo>
                  <a:lnTo>
                    <a:pt x="319" y="1689"/>
                  </a:lnTo>
                  <a:lnTo>
                    <a:pt x="329" y="1643"/>
                  </a:lnTo>
                  <a:lnTo>
                    <a:pt x="334" y="1598"/>
                  </a:lnTo>
                  <a:lnTo>
                    <a:pt x="344" y="1563"/>
                  </a:lnTo>
                  <a:lnTo>
                    <a:pt x="354" y="1528"/>
                  </a:lnTo>
                  <a:lnTo>
                    <a:pt x="359" y="1493"/>
                  </a:lnTo>
                  <a:lnTo>
                    <a:pt x="369" y="1462"/>
                  </a:lnTo>
                  <a:lnTo>
                    <a:pt x="379" y="1437"/>
                  </a:lnTo>
                  <a:lnTo>
                    <a:pt x="384" y="1412"/>
                  </a:lnTo>
                  <a:lnTo>
                    <a:pt x="395" y="1392"/>
                  </a:lnTo>
                  <a:lnTo>
                    <a:pt x="405" y="1377"/>
                  </a:lnTo>
                  <a:lnTo>
                    <a:pt x="415" y="1362"/>
                  </a:lnTo>
                  <a:lnTo>
                    <a:pt x="420" y="1352"/>
                  </a:lnTo>
                  <a:lnTo>
                    <a:pt x="430" y="1342"/>
                  </a:lnTo>
                  <a:lnTo>
                    <a:pt x="440" y="1337"/>
                  </a:lnTo>
                  <a:lnTo>
                    <a:pt x="445" y="1337"/>
                  </a:lnTo>
                  <a:lnTo>
                    <a:pt x="455" y="1337"/>
                  </a:lnTo>
                  <a:lnTo>
                    <a:pt x="465" y="1342"/>
                  </a:lnTo>
                  <a:lnTo>
                    <a:pt x="470" y="1347"/>
                  </a:lnTo>
                  <a:lnTo>
                    <a:pt x="481" y="1352"/>
                  </a:lnTo>
                  <a:lnTo>
                    <a:pt x="491" y="1367"/>
                  </a:lnTo>
                  <a:lnTo>
                    <a:pt x="496" y="1377"/>
                  </a:lnTo>
                  <a:lnTo>
                    <a:pt x="506" y="1392"/>
                  </a:lnTo>
                  <a:lnTo>
                    <a:pt x="516" y="1412"/>
                  </a:lnTo>
                  <a:lnTo>
                    <a:pt x="526" y="1427"/>
                  </a:lnTo>
                  <a:lnTo>
                    <a:pt x="531" y="1447"/>
                  </a:lnTo>
                  <a:lnTo>
                    <a:pt x="541" y="1472"/>
                  </a:lnTo>
                  <a:lnTo>
                    <a:pt x="551" y="1493"/>
                  </a:lnTo>
                  <a:lnTo>
                    <a:pt x="556" y="1518"/>
                  </a:lnTo>
                  <a:lnTo>
                    <a:pt x="567" y="1543"/>
                  </a:lnTo>
                  <a:lnTo>
                    <a:pt x="577" y="1568"/>
                  </a:lnTo>
                  <a:lnTo>
                    <a:pt x="582" y="1593"/>
                  </a:lnTo>
                  <a:lnTo>
                    <a:pt x="592" y="1618"/>
                  </a:lnTo>
                  <a:lnTo>
                    <a:pt x="602" y="1643"/>
                  </a:lnTo>
                  <a:lnTo>
                    <a:pt x="612" y="1669"/>
                  </a:lnTo>
                  <a:lnTo>
                    <a:pt x="617" y="1694"/>
                  </a:lnTo>
                  <a:lnTo>
                    <a:pt x="627" y="1709"/>
                  </a:lnTo>
                  <a:lnTo>
                    <a:pt x="637" y="1689"/>
                  </a:lnTo>
                  <a:lnTo>
                    <a:pt x="642" y="1663"/>
                  </a:lnTo>
                  <a:lnTo>
                    <a:pt x="652" y="1643"/>
                  </a:lnTo>
                  <a:lnTo>
                    <a:pt x="663" y="1618"/>
                  </a:lnTo>
                  <a:lnTo>
                    <a:pt x="668" y="1598"/>
                  </a:lnTo>
                  <a:lnTo>
                    <a:pt x="678" y="1583"/>
                  </a:lnTo>
                  <a:lnTo>
                    <a:pt x="688" y="1563"/>
                  </a:lnTo>
                  <a:lnTo>
                    <a:pt x="698" y="1548"/>
                  </a:lnTo>
                  <a:lnTo>
                    <a:pt x="703" y="1533"/>
                  </a:lnTo>
                  <a:lnTo>
                    <a:pt x="713" y="1523"/>
                  </a:lnTo>
                  <a:lnTo>
                    <a:pt x="723" y="1513"/>
                  </a:lnTo>
                  <a:lnTo>
                    <a:pt x="728" y="1503"/>
                  </a:lnTo>
                  <a:lnTo>
                    <a:pt x="738" y="1493"/>
                  </a:lnTo>
                  <a:lnTo>
                    <a:pt x="749" y="1488"/>
                  </a:lnTo>
                  <a:lnTo>
                    <a:pt x="754" y="1483"/>
                  </a:lnTo>
                  <a:lnTo>
                    <a:pt x="764" y="1483"/>
                  </a:lnTo>
                  <a:lnTo>
                    <a:pt x="774" y="1483"/>
                  </a:lnTo>
                  <a:lnTo>
                    <a:pt x="784" y="1483"/>
                  </a:lnTo>
                  <a:lnTo>
                    <a:pt x="789" y="1488"/>
                  </a:lnTo>
                  <a:lnTo>
                    <a:pt x="799" y="1493"/>
                  </a:lnTo>
                  <a:lnTo>
                    <a:pt x="809" y="1498"/>
                  </a:lnTo>
                  <a:lnTo>
                    <a:pt x="814" y="1503"/>
                  </a:lnTo>
                  <a:lnTo>
                    <a:pt x="824" y="1513"/>
                  </a:lnTo>
                  <a:lnTo>
                    <a:pt x="835" y="1523"/>
                  </a:lnTo>
                  <a:lnTo>
                    <a:pt x="840" y="1538"/>
                  </a:lnTo>
                  <a:lnTo>
                    <a:pt x="850" y="1548"/>
                  </a:lnTo>
                  <a:lnTo>
                    <a:pt x="860" y="1563"/>
                  </a:lnTo>
                  <a:lnTo>
                    <a:pt x="870" y="1578"/>
                  </a:lnTo>
                  <a:lnTo>
                    <a:pt x="875" y="1593"/>
                  </a:lnTo>
                  <a:lnTo>
                    <a:pt x="885" y="1608"/>
                  </a:lnTo>
                  <a:lnTo>
                    <a:pt x="895" y="1623"/>
                  </a:lnTo>
                  <a:lnTo>
                    <a:pt x="900" y="1638"/>
                  </a:lnTo>
                  <a:lnTo>
                    <a:pt x="910" y="1658"/>
                  </a:lnTo>
                  <a:lnTo>
                    <a:pt x="921" y="1674"/>
                  </a:lnTo>
                  <a:lnTo>
                    <a:pt x="926" y="1694"/>
                  </a:lnTo>
                  <a:lnTo>
                    <a:pt x="936" y="1709"/>
                  </a:lnTo>
                  <a:lnTo>
                    <a:pt x="946" y="1704"/>
                  </a:lnTo>
                  <a:lnTo>
                    <a:pt x="951" y="1684"/>
                  </a:lnTo>
                  <a:lnTo>
                    <a:pt x="961" y="1669"/>
                  </a:lnTo>
                  <a:lnTo>
                    <a:pt x="971" y="1653"/>
                  </a:lnTo>
                  <a:lnTo>
                    <a:pt x="981" y="1638"/>
                  </a:lnTo>
                  <a:lnTo>
                    <a:pt x="986" y="1623"/>
                  </a:lnTo>
                  <a:lnTo>
                    <a:pt x="996" y="1613"/>
                  </a:lnTo>
                  <a:lnTo>
                    <a:pt x="1006" y="1598"/>
                  </a:lnTo>
                  <a:lnTo>
                    <a:pt x="1012" y="1588"/>
                  </a:lnTo>
                  <a:lnTo>
                    <a:pt x="1022" y="1578"/>
                  </a:lnTo>
                  <a:lnTo>
                    <a:pt x="1032" y="1568"/>
                  </a:lnTo>
                  <a:lnTo>
                    <a:pt x="1037" y="1563"/>
                  </a:lnTo>
                  <a:lnTo>
                    <a:pt x="1047" y="1553"/>
                  </a:lnTo>
                  <a:lnTo>
                    <a:pt x="1057" y="1548"/>
                  </a:lnTo>
                  <a:lnTo>
                    <a:pt x="1067" y="1543"/>
                  </a:lnTo>
                  <a:lnTo>
                    <a:pt x="1072" y="1543"/>
                  </a:lnTo>
                  <a:lnTo>
                    <a:pt x="1082" y="1543"/>
                  </a:lnTo>
                  <a:lnTo>
                    <a:pt x="1092" y="1538"/>
                  </a:lnTo>
                  <a:lnTo>
                    <a:pt x="1098" y="1543"/>
                  </a:lnTo>
                  <a:lnTo>
                    <a:pt x="1108" y="1543"/>
                  </a:lnTo>
                  <a:lnTo>
                    <a:pt x="1118" y="1548"/>
                  </a:lnTo>
                  <a:lnTo>
                    <a:pt x="1123" y="1553"/>
                  </a:lnTo>
                  <a:lnTo>
                    <a:pt x="1133" y="1558"/>
                  </a:lnTo>
                  <a:lnTo>
                    <a:pt x="1143" y="1563"/>
                  </a:lnTo>
                  <a:lnTo>
                    <a:pt x="1153" y="1573"/>
                  </a:lnTo>
                  <a:lnTo>
                    <a:pt x="1158" y="1583"/>
                  </a:lnTo>
                  <a:lnTo>
                    <a:pt x="1168" y="1593"/>
                  </a:lnTo>
                  <a:lnTo>
                    <a:pt x="1178" y="1603"/>
                  </a:lnTo>
                  <a:lnTo>
                    <a:pt x="1183" y="1613"/>
                  </a:lnTo>
                  <a:lnTo>
                    <a:pt x="1194" y="1623"/>
                  </a:lnTo>
                  <a:lnTo>
                    <a:pt x="1204" y="1638"/>
                  </a:lnTo>
                  <a:lnTo>
                    <a:pt x="1209" y="1648"/>
                  </a:lnTo>
                  <a:lnTo>
                    <a:pt x="1219" y="1663"/>
                  </a:lnTo>
                  <a:lnTo>
                    <a:pt x="1229" y="1679"/>
                  </a:lnTo>
                  <a:lnTo>
                    <a:pt x="1239" y="1689"/>
                  </a:lnTo>
                  <a:lnTo>
                    <a:pt x="1244" y="1704"/>
                  </a:lnTo>
                  <a:lnTo>
                    <a:pt x="1254" y="1709"/>
                  </a:lnTo>
                  <a:lnTo>
                    <a:pt x="1264" y="1699"/>
                  </a:lnTo>
                  <a:lnTo>
                    <a:pt x="1269" y="1684"/>
                  </a:lnTo>
                  <a:lnTo>
                    <a:pt x="1280" y="1669"/>
                  </a:lnTo>
                  <a:lnTo>
                    <a:pt x="1290" y="1658"/>
                  </a:lnTo>
                  <a:lnTo>
                    <a:pt x="1295" y="1648"/>
                  </a:lnTo>
                  <a:lnTo>
                    <a:pt x="1305" y="1633"/>
                  </a:lnTo>
                  <a:lnTo>
                    <a:pt x="1315" y="1623"/>
                  </a:lnTo>
                  <a:lnTo>
                    <a:pt x="1320" y="1613"/>
                  </a:lnTo>
                  <a:lnTo>
                    <a:pt x="1330" y="1608"/>
                  </a:lnTo>
                  <a:lnTo>
                    <a:pt x="1340" y="1598"/>
                  </a:lnTo>
                  <a:lnTo>
                    <a:pt x="1350" y="1593"/>
                  </a:lnTo>
                  <a:lnTo>
                    <a:pt x="1355" y="1583"/>
                  </a:lnTo>
                  <a:lnTo>
                    <a:pt x="1366" y="1578"/>
                  </a:lnTo>
                  <a:lnTo>
                    <a:pt x="1376" y="1573"/>
                  </a:lnTo>
                  <a:lnTo>
                    <a:pt x="1381" y="1573"/>
                  </a:lnTo>
                  <a:lnTo>
                    <a:pt x="1391" y="1568"/>
                  </a:lnTo>
                  <a:lnTo>
                    <a:pt x="1401" y="1568"/>
                  </a:lnTo>
                  <a:lnTo>
                    <a:pt x="1406" y="1568"/>
                  </a:lnTo>
                  <a:lnTo>
                    <a:pt x="1416" y="1568"/>
                  </a:lnTo>
                  <a:lnTo>
                    <a:pt x="1426" y="1573"/>
                  </a:lnTo>
                  <a:lnTo>
                    <a:pt x="1436" y="1578"/>
                  </a:lnTo>
                  <a:lnTo>
                    <a:pt x="1441" y="1578"/>
                  </a:lnTo>
                  <a:lnTo>
                    <a:pt x="1452" y="1583"/>
                  </a:lnTo>
                  <a:lnTo>
                    <a:pt x="1462" y="1593"/>
                  </a:lnTo>
                  <a:lnTo>
                    <a:pt x="1467" y="1598"/>
                  </a:lnTo>
                  <a:lnTo>
                    <a:pt x="1477" y="1608"/>
                  </a:lnTo>
                  <a:lnTo>
                    <a:pt x="1487" y="1613"/>
                  </a:lnTo>
                  <a:lnTo>
                    <a:pt x="1492" y="1623"/>
                  </a:lnTo>
                  <a:lnTo>
                    <a:pt x="1502" y="1633"/>
                  </a:lnTo>
                  <a:lnTo>
                    <a:pt x="1512" y="1643"/>
                  </a:lnTo>
                  <a:lnTo>
                    <a:pt x="1522" y="1653"/>
                  </a:lnTo>
                  <a:lnTo>
                    <a:pt x="1527" y="1663"/>
                  </a:lnTo>
                  <a:lnTo>
                    <a:pt x="1537" y="1679"/>
                  </a:lnTo>
                  <a:lnTo>
                    <a:pt x="1548" y="1689"/>
                  </a:lnTo>
                  <a:lnTo>
                    <a:pt x="1553" y="1699"/>
                  </a:lnTo>
                  <a:lnTo>
                    <a:pt x="1563" y="1714"/>
                  </a:lnTo>
                  <a:lnTo>
                    <a:pt x="1573" y="1704"/>
                  </a:lnTo>
                  <a:lnTo>
                    <a:pt x="1578" y="1694"/>
                  </a:lnTo>
                  <a:lnTo>
                    <a:pt x="1588" y="1679"/>
                  </a:lnTo>
                  <a:lnTo>
                    <a:pt x="1598" y="1669"/>
                  </a:lnTo>
                  <a:lnTo>
                    <a:pt x="1608" y="1658"/>
                  </a:lnTo>
                  <a:lnTo>
                    <a:pt x="1613" y="1648"/>
                  </a:lnTo>
                  <a:lnTo>
                    <a:pt x="1623" y="1638"/>
                  </a:lnTo>
                  <a:lnTo>
                    <a:pt x="1634" y="1628"/>
                  </a:lnTo>
                  <a:lnTo>
                    <a:pt x="1639" y="1623"/>
                  </a:lnTo>
                  <a:lnTo>
                    <a:pt x="1649" y="1613"/>
                  </a:lnTo>
                  <a:lnTo>
                    <a:pt x="1659" y="1608"/>
                  </a:lnTo>
                  <a:lnTo>
                    <a:pt x="1664" y="1603"/>
                  </a:lnTo>
                  <a:lnTo>
                    <a:pt x="1674" y="1598"/>
                  </a:lnTo>
                  <a:lnTo>
                    <a:pt x="1684" y="1593"/>
                  </a:lnTo>
                  <a:lnTo>
                    <a:pt x="1694" y="1588"/>
                  </a:lnTo>
                  <a:lnTo>
                    <a:pt x="1699" y="1588"/>
                  </a:lnTo>
                  <a:lnTo>
                    <a:pt x="1709" y="1583"/>
                  </a:lnTo>
                  <a:lnTo>
                    <a:pt x="1720" y="1583"/>
                  </a:lnTo>
                  <a:lnTo>
                    <a:pt x="1725" y="1583"/>
                  </a:lnTo>
                  <a:lnTo>
                    <a:pt x="1735" y="1588"/>
                  </a:lnTo>
                  <a:lnTo>
                    <a:pt x="1745" y="1588"/>
                  </a:lnTo>
                  <a:lnTo>
                    <a:pt x="1750" y="1593"/>
                  </a:lnTo>
                  <a:lnTo>
                    <a:pt x="1760" y="1593"/>
                  </a:lnTo>
                  <a:lnTo>
                    <a:pt x="1770" y="1598"/>
                  </a:lnTo>
                  <a:lnTo>
                    <a:pt x="1775" y="1608"/>
                  </a:lnTo>
                  <a:lnTo>
                    <a:pt x="1785" y="1613"/>
                  </a:lnTo>
                  <a:lnTo>
                    <a:pt x="1795" y="1618"/>
                  </a:lnTo>
                  <a:lnTo>
                    <a:pt x="1806" y="1628"/>
                  </a:lnTo>
                  <a:lnTo>
                    <a:pt x="1811" y="1638"/>
                  </a:lnTo>
                  <a:lnTo>
                    <a:pt x="1821" y="1643"/>
                  </a:lnTo>
                  <a:lnTo>
                    <a:pt x="1831" y="1653"/>
                  </a:lnTo>
                  <a:lnTo>
                    <a:pt x="1836" y="1663"/>
                  </a:lnTo>
                  <a:lnTo>
                    <a:pt x="1846" y="1674"/>
                  </a:lnTo>
                  <a:lnTo>
                    <a:pt x="1856" y="1684"/>
                  </a:lnTo>
                  <a:lnTo>
                    <a:pt x="1861" y="1699"/>
                  </a:lnTo>
                  <a:lnTo>
                    <a:pt x="1871" y="1709"/>
                  </a:lnTo>
                  <a:lnTo>
                    <a:pt x="1881" y="1709"/>
                  </a:lnTo>
                  <a:lnTo>
                    <a:pt x="1891" y="1699"/>
                  </a:lnTo>
                  <a:lnTo>
                    <a:pt x="1897" y="1689"/>
                  </a:lnTo>
                  <a:lnTo>
                    <a:pt x="1907" y="1679"/>
                  </a:lnTo>
                  <a:lnTo>
                    <a:pt x="1917" y="1669"/>
                  </a:lnTo>
                  <a:lnTo>
                    <a:pt x="1922" y="1658"/>
                  </a:lnTo>
                  <a:lnTo>
                    <a:pt x="1932" y="1648"/>
                  </a:lnTo>
                  <a:lnTo>
                    <a:pt x="1942" y="1638"/>
                  </a:lnTo>
                  <a:lnTo>
                    <a:pt x="1947" y="1633"/>
                  </a:lnTo>
                  <a:lnTo>
                    <a:pt x="1957" y="1623"/>
                  </a:lnTo>
                  <a:lnTo>
                    <a:pt x="1967" y="1618"/>
                  </a:lnTo>
                  <a:lnTo>
                    <a:pt x="1977" y="1608"/>
                  </a:lnTo>
                  <a:lnTo>
                    <a:pt x="1983" y="1603"/>
                  </a:lnTo>
                  <a:lnTo>
                    <a:pt x="1993" y="1598"/>
                  </a:lnTo>
                  <a:lnTo>
                    <a:pt x="2003" y="1598"/>
                  </a:lnTo>
                  <a:lnTo>
                    <a:pt x="2008" y="1593"/>
                  </a:lnTo>
                  <a:lnTo>
                    <a:pt x="2018" y="1593"/>
                  </a:lnTo>
                  <a:lnTo>
                    <a:pt x="2028" y="1593"/>
                  </a:lnTo>
                  <a:lnTo>
                    <a:pt x="2033" y="1588"/>
                  </a:lnTo>
                  <a:lnTo>
                    <a:pt x="2043" y="1593"/>
                  </a:lnTo>
                  <a:lnTo>
                    <a:pt x="2053" y="1593"/>
                  </a:lnTo>
                  <a:lnTo>
                    <a:pt x="2063" y="1593"/>
                  </a:lnTo>
                  <a:lnTo>
                    <a:pt x="2068" y="1598"/>
                  </a:lnTo>
                  <a:lnTo>
                    <a:pt x="2079" y="1603"/>
                  </a:lnTo>
                  <a:lnTo>
                    <a:pt x="2089" y="1608"/>
                  </a:lnTo>
                  <a:lnTo>
                    <a:pt x="2094" y="1613"/>
                  </a:lnTo>
                  <a:lnTo>
                    <a:pt x="2104" y="1618"/>
                  </a:lnTo>
                  <a:lnTo>
                    <a:pt x="2114" y="1628"/>
                  </a:lnTo>
                  <a:lnTo>
                    <a:pt x="2119" y="1633"/>
                  </a:lnTo>
                  <a:lnTo>
                    <a:pt x="2129" y="1643"/>
                  </a:lnTo>
                  <a:lnTo>
                    <a:pt x="2139" y="1653"/>
                  </a:lnTo>
                  <a:lnTo>
                    <a:pt x="2149" y="1663"/>
                  </a:lnTo>
                  <a:lnTo>
                    <a:pt x="2154" y="1674"/>
                  </a:lnTo>
                  <a:lnTo>
                    <a:pt x="2165" y="1684"/>
                  </a:lnTo>
                  <a:lnTo>
                    <a:pt x="2175" y="1694"/>
                  </a:lnTo>
                  <a:lnTo>
                    <a:pt x="2180" y="1704"/>
                  </a:lnTo>
                  <a:lnTo>
                    <a:pt x="2190" y="1714"/>
                  </a:lnTo>
                </a:path>
              </a:pathLst>
            </a:custGeom>
            <a:noFill/>
            <a:ln cap="rnd" w="25560">
              <a:solidFill>
                <a:srgbClr val="00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16200000">
              <a:off x="-455760" y="3679920"/>
              <a:ext cx="1315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87920" y="5721480"/>
              <a:ext cx="1404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frekvencij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095480" y="2004840"/>
              <a:ext cx="3030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afd00"/>
                  </a:solidFill>
                  <a:latin typeface="Arial"/>
                </a:rPr>
                <a:t>Amplitudna karakteristik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64360" y="2620800"/>
              <a:ext cx="687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Arial"/>
                </a:rPr>
                <a:t>M=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564360" y="315432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66"/>
                  </a:solidFill>
                  <a:latin typeface="Arial"/>
                </a:rPr>
                <a:t>M=1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560840" y="2068560"/>
            <a:ext cx="4588560" cy="4050360"/>
            <a:chOff x="4560840" y="2068560"/>
            <a:chExt cx="4588560" cy="4050360"/>
          </a:xfrm>
        </p:grpSpPr>
        <p:sp>
          <p:nvSpPr>
            <p:cNvPr id="939" name=""/>
            <p:cNvSpPr/>
            <p:nvPr/>
          </p:nvSpPr>
          <p:spPr>
            <a:xfrm flipV="1">
              <a:off x="5540400" y="2533680"/>
              <a:ext cx="0" cy="272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6249960" y="2533680"/>
              <a:ext cx="0" cy="2720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V="1">
              <a:off x="6953400" y="2533680"/>
              <a:ext cx="0" cy="2720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7662960" y="2533680"/>
              <a:ext cx="0" cy="2720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8364600" y="2533680"/>
              <a:ext cx="0" cy="2720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9074160" y="2533680"/>
              <a:ext cx="0" cy="272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540400" y="5254560"/>
              <a:ext cx="353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540400" y="4799160"/>
              <a:ext cx="35337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540400" y="4344840"/>
              <a:ext cx="35337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540400" y="3897360"/>
              <a:ext cx="35337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540400" y="3443400"/>
              <a:ext cx="35337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540400" y="2987640"/>
              <a:ext cx="35337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540400" y="2533680"/>
              <a:ext cx="353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540400" y="2533680"/>
              <a:ext cx="3535200" cy="2722680"/>
            </a:xfrm>
            <a:custGeom>
              <a:avLst/>
              <a:gdLst/>
              <a:ahLst/>
              <a:rect l="l" t="t" r="r" b="b"/>
              <a:pathLst>
                <a:path w="2227" h="1715">
                  <a:moveTo>
                    <a:pt x="0" y="1714"/>
                  </a:moveTo>
                  <a:lnTo>
                    <a:pt x="0" y="0"/>
                  </a:lnTo>
                  <a:lnTo>
                    <a:pt x="2226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540400" y="2533680"/>
              <a:ext cx="3535200" cy="2722680"/>
            </a:xfrm>
            <a:custGeom>
              <a:avLst/>
              <a:gdLst/>
              <a:ahLst/>
              <a:rect l="l" t="t" r="r" b="b"/>
              <a:pathLst>
                <a:path w="2227" h="1715">
                  <a:moveTo>
                    <a:pt x="0" y="1714"/>
                  </a:moveTo>
                  <a:lnTo>
                    <a:pt x="0" y="0"/>
                  </a:lnTo>
                  <a:lnTo>
                    <a:pt x="2226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540400" y="2533680"/>
              <a:ext cx="3535200" cy="2722680"/>
            </a:xfrm>
            <a:custGeom>
              <a:avLst/>
              <a:gdLst/>
              <a:ahLst/>
              <a:rect l="l" t="t" r="r" b="b"/>
              <a:pathLst>
                <a:path w="2227" h="1715">
                  <a:moveTo>
                    <a:pt x="0" y="1714"/>
                  </a:moveTo>
                  <a:lnTo>
                    <a:pt x="0" y="0"/>
                  </a:lnTo>
                  <a:lnTo>
                    <a:pt x="2226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540400" y="5254560"/>
              <a:ext cx="353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540400" y="2533680"/>
              <a:ext cx="353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5540400" y="2533680"/>
              <a:ext cx="0" cy="272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9074160" y="2533680"/>
              <a:ext cx="0" cy="272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540400" y="253368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40400" y="5254560"/>
              <a:ext cx="353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5540400" y="2533680"/>
              <a:ext cx="0" cy="272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540400" y="525456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5540400" y="52228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540400" y="25336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6249960" y="52228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249960" y="25336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6953400" y="52228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953400" y="25336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662960" y="52228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662960" y="25336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>
              <a:off x="8364600" y="52228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364600" y="25336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9074160" y="52228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9074160" y="25336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40400" y="525456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9042480" y="52545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540400" y="479916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9042480" y="47991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540400" y="434484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9042480" y="434484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540400" y="389736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9042480" y="38973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540400" y="344340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9042480" y="344340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540400" y="298764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9042480" y="298764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540400" y="253368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9042480" y="253368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835520" y="5086440"/>
              <a:ext cx="695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2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835520" y="4629240"/>
              <a:ext cx="695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15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35520" y="4175280"/>
              <a:ext cx="695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984920" y="372744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5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176080" y="32734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027040" y="281628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5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877280" y="2362320"/>
              <a:ext cx="610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540400" y="5254560"/>
              <a:ext cx="353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540400" y="2533680"/>
              <a:ext cx="353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5540400" y="2533680"/>
              <a:ext cx="0" cy="272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9074160" y="2533680"/>
              <a:ext cx="0" cy="272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540400" y="525456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540400" y="2797200"/>
              <a:ext cx="3535200" cy="1940040"/>
            </a:xfrm>
            <a:custGeom>
              <a:avLst/>
              <a:gdLst/>
              <a:ahLst/>
              <a:rect l="l" t="t" r="r" b="b"/>
              <a:pathLst>
                <a:path w="2227" h="1222">
                  <a:moveTo>
                    <a:pt x="0" y="407"/>
                  </a:moveTo>
                  <a:lnTo>
                    <a:pt x="10" y="412"/>
                  </a:lnTo>
                  <a:lnTo>
                    <a:pt x="16" y="422"/>
                  </a:lnTo>
                  <a:lnTo>
                    <a:pt x="26" y="427"/>
                  </a:lnTo>
                  <a:lnTo>
                    <a:pt x="36" y="437"/>
                  </a:lnTo>
                  <a:lnTo>
                    <a:pt x="41" y="447"/>
                  </a:lnTo>
                  <a:lnTo>
                    <a:pt x="52" y="452"/>
                  </a:lnTo>
                  <a:lnTo>
                    <a:pt x="62" y="462"/>
                  </a:lnTo>
                  <a:lnTo>
                    <a:pt x="72" y="472"/>
                  </a:lnTo>
                  <a:lnTo>
                    <a:pt x="77" y="477"/>
                  </a:lnTo>
                  <a:lnTo>
                    <a:pt x="88" y="487"/>
                  </a:lnTo>
                  <a:lnTo>
                    <a:pt x="98" y="492"/>
                  </a:lnTo>
                  <a:lnTo>
                    <a:pt x="103" y="502"/>
                  </a:lnTo>
                  <a:lnTo>
                    <a:pt x="113" y="512"/>
                  </a:lnTo>
                  <a:lnTo>
                    <a:pt x="124" y="517"/>
                  </a:lnTo>
                  <a:lnTo>
                    <a:pt x="129" y="527"/>
                  </a:lnTo>
                  <a:lnTo>
                    <a:pt x="139" y="532"/>
                  </a:lnTo>
                  <a:lnTo>
                    <a:pt x="149" y="543"/>
                  </a:lnTo>
                  <a:lnTo>
                    <a:pt x="160" y="553"/>
                  </a:lnTo>
                  <a:lnTo>
                    <a:pt x="165" y="558"/>
                  </a:lnTo>
                  <a:lnTo>
                    <a:pt x="175" y="568"/>
                  </a:lnTo>
                  <a:lnTo>
                    <a:pt x="185" y="573"/>
                  </a:lnTo>
                  <a:lnTo>
                    <a:pt x="190" y="583"/>
                  </a:lnTo>
                  <a:lnTo>
                    <a:pt x="201" y="593"/>
                  </a:lnTo>
                  <a:lnTo>
                    <a:pt x="211" y="598"/>
                  </a:lnTo>
                  <a:lnTo>
                    <a:pt x="216" y="608"/>
                  </a:lnTo>
                  <a:lnTo>
                    <a:pt x="226" y="613"/>
                  </a:lnTo>
                  <a:lnTo>
                    <a:pt x="237" y="623"/>
                  </a:lnTo>
                  <a:lnTo>
                    <a:pt x="247" y="633"/>
                  </a:lnTo>
                  <a:lnTo>
                    <a:pt x="252" y="638"/>
                  </a:lnTo>
                  <a:lnTo>
                    <a:pt x="262" y="648"/>
                  </a:lnTo>
                  <a:lnTo>
                    <a:pt x="273" y="653"/>
                  </a:lnTo>
                  <a:lnTo>
                    <a:pt x="278" y="663"/>
                  </a:lnTo>
                  <a:lnTo>
                    <a:pt x="288" y="673"/>
                  </a:lnTo>
                  <a:lnTo>
                    <a:pt x="298" y="678"/>
                  </a:lnTo>
                  <a:lnTo>
                    <a:pt x="303" y="688"/>
                  </a:lnTo>
                  <a:lnTo>
                    <a:pt x="314" y="693"/>
                  </a:lnTo>
                  <a:lnTo>
                    <a:pt x="324" y="703"/>
                  </a:lnTo>
                  <a:lnTo>
                    <a:pt x="334" y="713"/>
                  </a:lnTo>
                  <a:lnTo>
                    <a:pt x="339" y="718"/>
                  </a:lnTo>
                  <a:lnTo>
                    <a:pt x="350" y="728"/>
                  </a:lnTo>
                  <a:lnTo>
                    <a:pt x="360" y="734"/>
                  </a:lnTo>
                  <a:lnTo>
                    <a:pt x="365" y="744"/>
                  </a:lnTo>
                  <a:lnTo>
                    <a:pt x="375" y="754"/>
                  </a:lnTo>
                  <a:lnTo>
                    <a:pt x="386" y="759"/>
                  </a:lnTo>
                  <a:lnTo>
                    <a:pt x="391" y="769"/>
                  </a:lnTo>
                  <a:lnTo>
                    <a:pt x="401" y="774"/>
                  </a:lnTo>
                  <a:lnTo>
                    <a:pt x="411" y="784"/>
                  </a:lnTo>
                  <a:lnTo>
                    <a:pt x="422" y="794"/>
                  </a:lnTo>
                  <a:lnTo>
                    <a:pt x="427" y="799"/>
                  </a:lnTo>
                  <a:lnTo>
                    <a:pt x="437" y="809"/>
                  </a:lnTo>
                  <a:lnTo>
                    <a:pt x="447" y="819"/>
                  </a:lnTo>
                  <a:lnTo>
                    <a:pt x="453" y="824"/>
                  </a:lnTo>
                  <a:lnTo>
                    <a:pt x="463" y="834"/>
                  </a:lnTo>
                  <a:lnTo>
                    <a:pt x="473" y="839"/>
                  </a:lnTo>
                  <a:lnTo>
                    <a:pt x="478" y="849"/>
                  </a:lnTo>
                  <a:lnTo>
                    <a:pt x="489" y="859"/>
                  </a:lnTo>
                  <a:lnTo>
                    <a:pt x="499" y="864"/>
                  </a:lnTo>
                  <a:lnTo>
                    <a:pt x="504" y="874"/>
                  </a:lnTo>
                  <a:lnTo>
                    <a:pt x="514" y="879"/>
                  </a:lnTo>
                  <a:lnTo>
                    <a:pt x="525" y="889"/>
                  </a:lnTo>
                  <a:lnTo>
                    <a:pt x="535" y="899"/>
                  </a:lnTo>
                  <a:lnTo>
                    <a:pt x="540" y="904"/>
                  </a:lnTo>
                  <a:lnTo>
                    <a:pt x="550" y="914"/>
                  </a:lnTo>
                  <a:lnTo>
                    <a:pt x="561" y="919"/>
                  </a:lnTo>
                  <a:lnTo>
                    <a:pt x="566" y="930"/>
                  </a:lnTo>
                  <a:lnTo>
                    <a:pt x="576" y="940"/>
                  </a:lnTo>
                  <a:lnTo>
                    <a:pt x="586" y="945"/>
                  </a:lnTo>
                  <a:lnTo>
                    <a:pt x="591" y="955"/>
                  </a:lnTo>
                  <a:lnTo>
                    <a:pt x="602" y="960"/>
                  </a:lnTo>
                  <a:lnTo>
                    <a:pt x="612" y="970"/>
                  </a:lnTo>
                  <a:lnTo>
                    <a:pt x="622" y="980"/>
                  </a:lnTo>
                  <a:lnTo>
                    <a:pt x="627" y="985"/>
                  </a:lnTo>
                  <a:lnTo>
                    <a:pt x="638" y="995"/>
                  </a:lnTo>
                  <a:lnTo>
                    <a:pt x="648" y="1000"/>
                  </a:lnTo>
                  <a:lnTo>
                    <a:pt x="653" y="1010"/>
                  </a:lnTo>
                  <a:lnTo>
                    <a:pt x="663" y="1020"/>
                  </a:lnTo>
                  <a:lnTo>
                    <a:pt x="674" y="1025"/>
                  </a:lnTo>
                  <a:lnTo>
                    <a:pt x="679" y="1035"/>
                  </a:lnTo>
                  <a:lnTo>
                    <a:pt x="689" y="1040"/>
                  </a:lnTo>
                  <a:lnTo>
                    <a:pt x="699" y="1050"/>
                  </a:lnTo>
                  <a:lnTo>
                    <a:pt x="710" y="1060"/>
                  </a:lnTo>
                  <a:lnTo>
                    <a:pt x="715" y="1065"/>
                  </a:lnTo>
                  <a:lnTo>
                    <a:pt x="725" y="1075"/>
                  </a:lnTo>
                  <a:lnTo>
                    <a:pt x="735" y="1080"/>
                  </a:lnTo>
                  <a:lnTo>
                    <a:pt x="740" y="1090"/>
                  </a:lnTo>
                  <a:lnTo>
                    <a:pt x="751" y="1100"/>
                  </a:lnTo>
                  <a:lnTo>
                    <a:pt x="761" y="1105"/>
                  </a:lnTo>
                  <a:lnTo>
                    <a:pt x="766" y="1115"/>
                  </a:lnTo>
                  <a:lnTo>
                    <a:pt x="776" y="1121"/>
                  </a:lnTo>
                  <a:lnTo>
                    <a:pt x="787" y="1131"/>
                  </a:lnTo>
                  <a:lnTo>
                    <a:pt x="797" y="1141"/>
                  </a:lnTo>
                  <a:lnTo>
                    <a:pt x="802" y="1146"/>
                  </a:lnTo>
                  <a:lnTo>
                    <a:pt x="812" y="1156"/>
                  </a:lnTo>
                  <a:lnTo>
                    <a:pt x="823" y="1166"/>
                  </a:lnTo>
                  <a:lnTo>
                    <a:pt x="828" y="1171"/>
                  </a:lnTo>
                  <a:lnTo>
                    <a:pt x="838" y="1181"/>
                  </a:lnTo>
                  <a:lnTo>
                    <a:pt x="848" y="1186"/>
                  </a:lnTo>
                  <a:lnTo>
                    <a:pt x="854" y="1196"/>
                  </a:lnTo>
                  <a:lnTo>
                    <a:pt x="864" y="1206"/>
                  </a:lnTo>
                  <a:lnTo>
                    <a:pt x="874" y="1211"/>
                  </a:lnTo>
                  <a:lnTo>
                    <a:pt x="884" y="1221"/>
                  </a:lnTo>
                  <a:lnTo>
                    <a:pt x="890" y="206"/>
                  </a:lnTo>
                  <a:lnTo>
                    <a:pt x="900" y="206"/>
                  </a:lnTo>
                  <a:lnTo>
                    <a:pt x="910" y="216"/>
                  </a:lnTo>
                  <a:lnTo>
                    <a:pt x="915" y="226"/>
                  </a:lnTo>
                  <a:lnTo>
                    <a:pt x="926" y="231"/>
                  </a:lnTo>
                  <a:lnTo>
                    <a:pt x="936" y="241"/>
                  </a:lnTo>
                  <a:lnTo>
                    <a:pt x="941" y="246"/>
                  </a:lnTo>
                  <a:lnTo>
                    <a:pt x="951" y="256"/>
                  </a:lnTo>
                  <a:lnTo>
                    <a:pt x="962" y="266"/>
                  </a:lnTo>
                  <a:lnTo>
                    <a:pt x="967" y="271"/>
                  </a:lnTo>
                  <a:lnTo>
                    <a:pt x="977" y="281"/>
                  </a:lnTo>
                  <a:lnTo>
                    <a:pt x="987" y="286"/>
                  </a:lnTo>
                  <a:lnTo>
                    <a:pt x="998" y="296"/>
                  </a:lnTo>
                  <a:lnTo>
                    <a:pt x="1003" y="306"/>
                  </a:lnTo>
                  <a:lnTo>
                    <a:pt x="1013" y="311"/>
                  </a:lnTo>
                  <a:lnTo>
                    <a:pt x="1023" y="321"/>
                  </a:lnTo>
                  <a:lnTo>
                    <a:pt x="1028" y="326"/>
                  </a:lnTo>
                  <a:lnTo>
                    <a:pt x="1039" y="336"/>
                  </a:lnTo>
                  <a:lnTo>
                    <a:pt x="1049" y="346"/>
                  </a:lnTo>
                  <a:lnTo>
                    <a:pt x="1054" y="352"/>
                  </a:lnTo>
                  <a:lnTo>
                    <a:pt x="1064" y="362"/>
                  </a:lnTo>
                  <a:lnTo>
                    <a:pt x="1075" y="367"/>
                  </a:lnTo>
                  <a:lnTo>
                    <a:pt x="1085" y="377"/>
                  </a:lnTo>
                  <a:lnTo>
                    <a:pt x="1090" y="387"/>
                  </a:lnTo>
                  <a:lnTo>
                    <a:pt x="1100" y="392"/>
                  </a:lnTo>
                  <a:lnTo>
                    <a:pt x="1111" y="402"/>
                  </a:lnTo>
                  <a:lnTo>
                    <a:pt x="1116" y="407"/>
                  </a:lnTo>
                  <a:lnTo>
                    <a:pt x="1126" y="417"/>
                  </a:lnTo>
                  <a:lnTo>
                    <a:pt x="1136" y="427"/>
                  </a:lnTo>
                  <a:lnTo>
                    <a:pt x="1141" y="432"/>
                  </a:lnTo>
                  <a:lnTo>
                    <a:pt x="1152" y="442"/>
                  </a:lnTo>
                  <a:lnTo>
                    <a:pt x="1162" y="447"/>
                  </a:lnTo>
                  <a:lnTo>
                    <a:pt x="1172" y="457"/>
                  </a:lnTo>
                  <a:lnTo>
                    <a:pt x="1177" y="467"/>
                  </a:lnTo>
                  <a:lnTo>
                    <a:pt x="1188" y="472"/>
                  </a:lnTo>
                  <a:lnTo>
                    <a:pt x="1198" y="482"/>
                  </a:lnTo>
                  <a:lnTo>
                    <a:pt x="1203" y="492"/>
                  </a:lnTo>
                  <a:lnTo>
                    <a:pt x="1213" y="497"/>
                  </a:lnTo>
                  <a:lnTo>
                    <a:pt x="1224" y="507"/>
                  </a:lnTo>
                  <a:lnTo>
                    <a:pt x="1229" y="512"/>
                  </a:lnTo>
                  <a:lnTo>
                    <a:pt x="1239" y="522"/>
                  </a:lnTo>
                  <a:lnTo>
                    <a:pt x="1249" y="532"/>
                  </a:lnTo>
                  <a:lnTo>
                    <a:pt x="1260" y="537"/>
                  </a:lnTo>
                  <a:lnTo>
                    <a:pt x="1265" y="548"/>
                  </a:lnTo>
                  <a:lnTo>
                    <a:pt x="1275" y="553"/>
                  </a:lnTo>
                  <a:lnTo>
                    <a:pt x="1285" y="563"/>
                  </a:lnTo>
                  <a:lnTo>
                    <a:pt x="1291" y="573"/>
                  </a:lnTo>
                  <a:lnTo>
                    <a:pt x="1301" y="578"/>
                  </a:lnTo>
                  <a:lnTo>
                    <a:pt x="1311" y="588"/>
                  </a:lnTo>
                  <a:lnTo>
                    <a:pt x="1316" y="593"/>
                  </a:lnTo>
                  <a:lnTo>
                    <a:pt x="1327" y="603"/>
                  </a:lnTo>
                  <a:lnTo>
                    <a:pt x="1337" y="613"/>
                  </a:lnTo>
                  <a:lnTo>
                    <a:pt x="1342" y="618"/>
                  </a:lnTo>
                  <a:lnTo>
                    <a:pt x="1352" y="628"/>
                  </a:lnTo>
                  <a:lnTo>
                    <a:pt x="1363" y="633"/>
                  </a:lnTo>
                  <a:lnTo>
                    <a:pt x="1373" y="643"/>
                  </a:lnTo>
                  <a:lnTo>
                    <a:pt x="1378" y="653"/>
                  </a:lnTo>
                  <a:lnTo>
                    <a:pt x="1388" y="658"/>
                  </a:lnTo>
                  <a:lnTo>
                    <a:pt x="1399" y="668"/>
                  </a:lnTo>
                  <a:lnTo>
                    <a:pt x="1404" y="673"/>
                  </a:lnTo>
                  <a:lnTo>
                    <a:pt x="1414" y="683"/>
                  </a:lnTo>
                  <a:lnTo>
                    <a:pt x="1424" y="693"/>
                  </a:lnTo>
                  <a:lnTo>
                    <a:pt x="1429" y="698"/>
                  </a:lnTo>
                  <a:lnTo>
                    <a:pt x="1440" y="708"/>
                  </a:lnTo>
                  <a:lnTo>
                    <a:pt x="1450" y="713"/>
                  </a:lnTo>
                  <a:lnTo>
                    <a:pt x="1460" y="723"/>
                  </a:lnTo>
                  <a:lnTo>
                    <a:pt x="1465" y="734"/>
                  </a:lnTo>
                  <a:lnTo>
                    <a:pt x="1476" y="739"/>
                  </a:lnTo>
                  <a:lnTo>
                    <a:pt x="1486" y="749"/>
                  </a:lnTo>
                  <a:lnTo>
                    <a:pt x="1491" y="754"/>
                  </a:lnTo>
                  <a:lnTo>
                    <a:pt x="1501" y="764"/>
                  </a:lnTo>
                  <a:lnTo>
                    <a:pt x="1512" y="774"/>
                  </a:lnTo>
                  <a:lnTo>
                    <a:pt x="1517" y="779"/>
                  </a:lnTo>
                  <a:lnTo>
                    <a:pt x="1527" y="789"/>
                  </a:lnTo>
                  <a:lnTo>
                    <a:pt x="1537" y="794"/>
                  </a:lnTo>
                  <a:lnTo>
                    <a:pt x="1548" y="804"/>
                  </a:lnTo>
                  <a:lnTo>
                    <a:pt x="1553" y="814"/>
                  </a:lnTo>
                  <a:lnTo>
                    <a:pt x="1563" y="819"/>
                  </a:lnTo>
                  <a:lnTo>
                    <a:pt x="1573" y="829"/>
                  </a:lnTo>
                  <a:lnTo>
                    <a:pt x="1578" y="839"/>
                  </a:lnTo>
                  <a:lnTo>
                    <a:pt x="1589" y="844"/>
                  </a:lnTo>
                  <a:lnTo>
                    <a:pt x="1599" y="854"/>
                  </a:lnTo>
                  <a:lnTo>
                    <a:pt x="1604" y="859"/>
                  </a:lnTo>
                  <a:lnTo>
                    <a:pt x="1614" y="869"/>
                  </a:lnTo>
                  <a:lnTo>
                    <a:pt x="1625" y="879"/>
                  </a:lnTo>
                  <a:lnTo>
                    <a:pt x="1635" y="884"/>
                  </a:lnTo>
                  <a:lnTo>
                    <a:pt x="1640" y="894"/>
                  </a:lnTo>
                  <a:lnTo>
                    <a:pt x="1650" y="899"/>
                  </a:lnTo>
                  <a:lnTo>
                    <a:pt x="1661" y="909"/>
                  </a:lnTo>
                  <a:lnTo>
                    <a:pt x="1666" y="919"/>
                  </a:lnTo>
                  <a:lnTo>
                    <a:pt x="1676" y="924"/>
                  </a:lnTo>
                  <a:lnTo>
                    <a:pt x="1686" y="935"/>
                  </a:lnTo>
                  <a:lnTo>
                    <a:pt x="1692" y="940"/>
                  </a:lnTo>
                  <a:lnTo>
                    <a:pt x="1702" y="950"/>
                  </a:lnTo>
                  <a:lnTo>
                    <a:pt x="1712" y="960"/>
                  </a:lnTo>
                  <a:lnTo>
                    <a:pt x="1722" y="965"/>
                  </a:lnTo>
                  <a:lnTo>
                    <a:pt x="1728" y="975"/>
                  </a:lnTo>
                  <a:lnTo>
                    <a:pt x="1738" y="980"/>
                  </a:lnTo>
                  <a:lnTo>
                    <a:pt x="1748" y="990"/>
                  </a:lnTo>
                  <a:lnTo>
                    <a:pt x="1753" y="1000"/>
                  </a:lnTo>
                  <a:lnTo>
                    <a:pt x="1764" y="1005"/>
                  </a:lnTo>
                  <a:lnTo>
                    <a:pt x="1774" y="1015"/>
                  </a:lnTo>
                  <a:lnTo>
                    <a:pt x="1779" y="985"/>
                  </a:lnTo>
                  <a:lnTo>
                    <a:pt x="1789" y="0"/>
                  </a:lnTo>
                  <a:lnTo>
                    <a:pt x="1800" y="10"/>
                  </a:lnTo>
                  <a:lnTo>
                    <a:pt x="1805" y="20"/>
                  </a:lnTo>
                  <a:lnTo>
                    <a:pt x="1815" y="25"/>
                  </a:lnTo>
                  <a:lnTo>
                    <a:pt x="1825" y="35"/>
                  </a:lnTo>
                  <a:lnTo>
                    <a:pt x="1836" y="40"/>
                  </a:lnTo>
                  <a:lnTo>
                    <a:pt x="1841" y="50"/>
                  </a:lnTo>
                  <a:lnTo>
                    <a:pt x="1851" y="60"/>
                  </a:lnTo>
                  <a:lnTo>
                    <a:pt x="1861" y="65"/>
                  </a:lnTo>
                  <a:lnTo>
                    <a:pt x="1866" y="75"/>
                  </a:lnTo>
                  <a:lnTo>
                    <a:pt x="1877" y="80"/>
                  </a:lnTo>
                  <a:lnTo>
                    <a:pt x="1887" y="90"/>
                  </a:lnTo>
                  <a:lnTo>
                    <a:pt x="1892" y="100"/>
                  </a:lnTo>
                  <a:lnTo>
                    <a:pt x="1902" y="105"/>
                  </a:lnTo>
                  <a:lnTo>
                    <a:pt x="1913" y="115"/>
                  </a:lnTo>
                  <a:lnTo>
                    <a:pt x="1923" y="125"/>
                  </a:lnTo>
                  <a:lnTo>
                    <a:pt x="1928" y="130"/>
                  </a:lnTo>
                  <a:lnTo>
                    <a:pt x="1938" y="140"/>
                  </a:lnTo>
                  <a:lnTo>
                    <a:pt x="1949" y="145"/>
                  </a:lnTo>
                  <a:lnTo>
                    <a:pt x="1954" y="155"/>
                  </a:lnTo>
                  <a:lnTo>
                    <a:pt x="1964" y="166"/>
                  </a:lnTo>
                  <a:lnTo>
                    <a:pt x="1974" y="171"/>
                  </a:lnTo>
                  <a:lnTo>
                    <a:pt x="1979" y="181"/>
                  </a:lnTo>
                  <a:lnTo>
                    <a:pt x="1990" y="186"/>
                  </a:lnTo>
                  <a:lnTo>
                    <a:pt x="2000" y="196"/>
                  </a:lnTo>
                  <a:lnTo>
                    <a:pt x="2010" y="206"/>
                  </a:lnTo>
                  <a:lnTo>
                    <a:pt x="2015" y="211"/>
                  </a:lnTo>
                  <a:lnTo>
                    <a:pt x="2026" y="221"/>
                  </a:lnTo>
                  <a:lnTo>
                    <a:pt x="2036" y="226"/>
                  </a:lnTo>
                  <a:lnTo>
                    <a:pt x="2041" y="236"/>
                  </a:lnTo>
                  <a:lnTo>
                    <a:pt x="2051" y="246"/>
                  </a:lnTo>
                  <a:lnTo>
                    <a:pt x="2062" y="251"/>
                  </a:lnTo>
                  <a:lnTo>
                    <a:pt x="2067" y="261"/>
                  </a:lnTo>
                  <a:lnTo>
                    <a:pt x="2077" y="266"/>
                  </a:lnTo>
                  <a:lnTo>
                    <a:pt x="2087" y="276"/>
                  </a:lnTo>
                  <a:lnTo>
                    <a:pt x="2098" y="286"/>
                  </a:lnTo>
                  <a:lnTo>
                    <a:pt x="2103" y="291"/>
                  </a:lnTo>
                  <a:lnTo>
                    <a:pt x="2113" y="301"/>
                  </a:lnTo>
                  <a:lnTo>
                    <a:pt x="2123" y="306"/>
                  </a:lnTo>
                  <a:lnTo>
                    <a:pt x="2129" y="316"/>
                  </a:lnTo>
                  <a:lnTo>
                    <a:pt x="2139" y="326"/>
                  </a:lnTo>
                  <a:lnTo>
                    <a:pt x="2149" y="331"/>
                  </a:lnTo>
                  <a:lnTo>
                    <a:pt x="2154" y="341"/>
                  </a:lnTo>
                  <a:lnTo>
                    <a:pt x="2165" y="346"/>
                  </a:lnTo>
                  <a:lnTo>
                    <a:pt x="2175" y="357"/>
                  </a:lnTo>
                  <a:lnTo>
                    <a:pt x="2185" y="367"/>
                  </a:lnTo>
                  <a:lnTo>
                    <a:pt x="2190" y="372"/>
                  </a:lnTo>
                  <a:lnTo>
                    <a:pt x="2201" y="382"/>
                  </a:lnTo>
                  <a:lnTo>
                    <a:pt x="2211" y="387"/>
                  </a:lnTo>
                  <a:lnTo>
                    <a:pt x="2216" y="397"/>
                  </a:lnTo>
                  <a:lnTo>
                    <a:pt x="2226" y="407"/>
                  </a:lnTo>
                </a:path>
              </a:pathLst>
            </a:custGeom>
            <a:noFill/>
            <a:ln cap="rnd" w="255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540400" y="2757600"/>
              <a:ext cx="3535200" cy="2179440"/>
            </a:xfrm>
            <a:custGeom>
              <a:avLst/>
              <a:gdLst/>
              <a:ahLst/>
              <a:rect l="l" t="t" r="r" b="b"/>
              <a:pathLst>
                <a:path w="2227" h="1373">
                  <a:moveTo>
                    <a:pt x="0" y="432"/>
                  </a:moveTo>
                  <a:lnTo>
                    <a:pt x="10" y="457"/>
                  </a:lnTo>
                  <a:lnTo>
                    <a:pt x="16" y="482"/>
                  </a:lnTo>
                  <a:lnTo>
                    <a:pt x="26" y="507"/>
                  </a:lnTo>
                  <a:lnTo>
                    <a:pt x="36" y="537"/>
                  </a:lnTo>
                  <a:lnTo>
                    <a:pt x="41" y="562"/>
                  </a:lnTo>
                  <a:lnTo>
                    <a:pt x="52" y="588"/>
                  </a:lnTo>
                  <a:lnTo>
                    <a:pt x="62" y="613"/>
                  </a:lnTo>
                  <a:lnTo>
                    <a:pt x="72" y="638"/>
                  </a:lnTo>
                  <a:lnTo>
                    <a:pt x="77" y="668"/>
                  </a:lnTo>
                  <a:lnTo>
                    <a:pt x="88" y="693"/>
                  </a:lnTo>
                  <a:lnTo>
                    <a:pt x="98" y="718"/>
                  </a:lnTo>
                  <a:lnTo>
                    <a:pt x="103" y="743"/>
                  </a:lnTo>
                  <a:lnTo>
                    <a:pt x="113" y="769"/>
                  </a:lnTo>
                  <a:lnTo>
                    <a:pt x="124" y="799"/>
                  </a:lnTo>
                  <a:lnTo>
                    <a:pt x="129" y="824"/>
                  </a:lnTo>
                  <a:lnTo>
                    <a:pt x="139" y="849"/>
                  </a:lnTo>
                  <a:lnTo>
                    <a:pt x="149" y="874"/>
                  </a:lnTo>
                  <a:lnTo>
                    <a:pt x="160" y="904"/>
                  </a:lnTo>
                  <a:lnTo>
                    <a:pt x="165" y="929"/>
                  </a:lnTo>
                  <a:lnTo>
                    <a:pt x="175" y="955"/>
                  </a:lnTo>
                  <a:lnTo>
                    <a:pt x="185" y="980"/>
                  </a:lnTo>
                  <a:lnTo>
                    <a:pt x="190" y="1005"/>
                  </a:lnTo>
                  <a:lnTo>
                    <a:pt x="201" y="1035"/>
                  </a:lnTo>
                  <a:lnTo>
                    <a:pt x="211" y="1060"/>
                  </a:lnTo>
                  <a:lnTo>
                    <a:pt x="216" y="1085"/>
                  </a:lnTo>
                  <a:lnTo>
                    <a:pt x="226" y="1110"/>
                  </a:lnTo>
                  <a:lnTo>
                    <a:pt x="237" y="1135"/>
                  </a:lnTo>
                  <a:lnTo>
                    <a:pt x="247" y="1166"/>
                  </a:lnTo>
                  <a:lnTo>
                    <a:pt x="252" y="1191"/>
                  </a:lnTo>
                  <a:lnTo>
                    <a:pt x="262" y="1216"/>
                  </a:lnTo>
                  <a:lnTo>
                    <a:pt x="273" y="1241"/>
                  </a:lnTo>
                  <a:lnTo>
                    <a:pt x="278" y="1271"/>
                  </a:lnTo>
                  <a:lnTo>
                    <a:pt x="288" y="1296"/>
                  </a:lnTo>
                  <a:lnTo>
                    <a:pt x="298" y="1321"/>
                  </a:lnTo>
                  <a:lnTo>
                    <a:pt x="303" y="1347"/>
                  </a:lnTo>
                  <a:lnTo>
                    <a:pt x="314" y="1372"/>
                  </a:lnTo>
                  <a:lnTo>
                    <a:pt x="324" y="371"/>
                  </a:lnTo>
                  <a:lnTo>
                    <a:pt x="334" y="397"/>
                  </a:lnTo>
                  <a:lnTo>
                    <a:pt x="339" y="422"/>
                  </a:lnTo>
                  <a:lnTo>
                    <a:pt x="350" y="452"/>
                  </a:lnTo>
                  <a:lnTo>
                    <a:pt x="360" y="477"/>
                  </a:lnTo>
                  <a:lnTo>
                    <a:pt x="365" y="502"/>
                  </a:lnTo>
                  <a:lnTo>
                    <a:pt x="375" y="527"/>
                  </a:lnTo>
                  <a:lnTo>
                    <a:pt x="386" y="557"/>
                  </a:lnTo>
                  <a:lnTo>
                    <a:pt x="391" y="583"/>
                  </a:lnTo>
                  <a:lnTo>
                    <a:pt x="401" y="608"/>
                  </a:lnTo>
                  <a:lnTo>
                    <a:pt x="411" y="633"/>
                  </a:lnTo>
                  <a:lnTo>
                    <a:pt x="422" y="658"/>
                  </a:lnTo>
                  <a:lnTo>
                    <a:pt x="427" y="688"/>
                  </a:lnTo>
                  <a:lnTo>
                    <a:pt x="437" y="713"/>
                  </a:lnTo>
                  <a:lnTo>
                    <a:pt x="447" y="738"/>
                  </a:lnTo>
                  <a:lnTo>
                    <a:pt x="453" y="764"/>
                  </a:lnTo>
                  <a:lnTo>
                    <a:pt x="463" y="789"/>
                  </a:lnTo>
                  <a:lnTo>
                    <a:pt x="473" y="819"/>
                  </a:lnTo>
                  <a:lnTo>
                    <a:pt x="478" y="844"/>
                  </a:lnTo>
                  <a:lnTo>
                    <a:pt x="489" y="869"/>
                  </a:lnTo>
                  <a:lnTo>
                    <a:pt x="499" y="894"/>
                  </a:lnTo>
                  <a:lnTo>
                    <a:pt x="504" y="924"/>
                  </a:lnTo>
                  <a:lnTo>
                    <a:pt x="514" y="949"/>
                  </a:lnTo>
                  <a:lnTo>
                    <a:pt x="525" y="975"/>
                  </a:lnTo>
                  <a:lnTo>
                    <a:pt x="535" y="1000"/>
                  </a:lnTo>
                  <a:lnTo>
                    <a:pt x="540" y="1025"/>
                  </a:lnTo>
                  <a:lnTo>
                    <a:pt x="550" y="1055"/>
                  </a:lnTo>
                  <a:lnTo>
                    <a:pt x="561" y="1080"/>
                  </a:lnTo>
                  <a:lnTo>
                    <a:pt x="566" y="1105"/>
                  </a:lnTo>
                  <a:lnTo>
                    <a:pt x="576" y="1130"/>
                  </a:lnTo>
                  <a:lnTo>
                    <a:pt x="586" y="1156"/>
                  </a:lnTo>
                  <a:lnTo>
                    <a:pt x="591" y="1186"/>
                  </a:lnTo>
                  <a:lnTo>
                    <a:pt x="602" y="1211"/>
                  </a:lnTo>
                  <a:lnTo>
                    <a:pt x="612" y="1236"/>
                  </a:lnTo>
                  <a:lnTo>
                    <a:pt x="622" y="1261"/>
                  </a:lnTo>
                  <a:lnTo>
                    <a:pt x="627" y="1291"/>
                  </a:lnTo>
                  <a:lnTo>
                    <a:pt x="638" y="286"/>
                  </a:lnTo>
                  <a:lnTo>
                    <a:pt x="648" y="311"/>
                  </a:lnTo>
                  <a:lnTo>
                    <a:pt x="653" y="341"/>
                  </a:lnTo>
                  <a:lnTo>
                    <a:pt x="663" y="366"/>
                  </a:lnTo>
                  <a:lnTo>
                    <a:pt x="674" y="392"/>
                  </a:lnTo>
                  <a:lnTo>
                    <a:pt x="679" y="417"/>
                  </a:lnTo>
                  <a:lnTo>
                    <a:pt x="689" y="442"/>
                  </a:lnTo>
                  <a:lnTo>
                    <a:pt x="699" y="472"/>
                  </a:lnTo>
                  <a:lnTo>
                    <a:pt x="710" y="497"/>
                  </a:lnTo>
                  <a:lnTo>
                    <a:pt x="715" y="522"/>
                  </a:lnTo>
                  <a:lnTo>
                    <a:pt x="725" y="547"/>
                  </a:lnTo>
                  <a:lnTo>
                    <a:pt x="735" y="578"/>
                  </a:lnTo>
                  <a:lnTo>
                    <a:pt x="740" y="603"/>
                  </a:lnTo>
                  <a:lnTo>
                    <a:pt x="751" y="628"/>
                  </a:lnTo>
                  <a:lnTo>
                    <a:pt x="761" y="653"/>
                  </a:lnTo>
                  <a:lnTo>
                    <a:pt x="766" y="678"/>
                  </a:lnTo>
                  <a:lnTo>
                    <a:pt x="776" y="708"/>
                  </a:lnTo>
                  <a:lnTo>
                    <a:pt x="787" y="733"/>
                  </a:lnTo>
                  <a:lnTo>
                    <a:pt x="797" y="759"/>
                  </a:lnTo>
                  <a:lnTo>
                    <a:pt x="802" y="784"/>
                  </a:lnTo>
                  <a:lnTo>
                    <a:pt x="812" y="809"/>
                  </a:lnTo>
                  <a:lnTo>
                    <a:pt x="823" y="839"/>
                  </a:lnTo>
                  <a:lnTo>
                    <a:pt x="828" y="864"/>
                  </a:lnTo>
                  <a:lnTo>
                    <a:pt x="838" y="889"/>
                  </a:lnTo>
                  <a:lnTo>
                    <a:pt x="848" y="914"/>
                  </a:lnTo>
                  <a:lnTo>
                    <a:pt x="854" y="944"/>
                  </a:lnTo>
                  <a:lnTo>
                    <a:pt x="864" y="970"/>
                  </a:lnTo>
                  <a:lnTo>
                    <a:pt x="874" y="995"/>
                  </a:lnTo>
                  <a:lnTo>
                    <a:pt x="884" y="1020"/>
                  </a:lnTo>
                  <a:lnTo>
                    <a:pt x="890" y="1045"/>
                  </a:lnTo>
                  <a:lnTo>
                    <a:pt x="900" y="1075"/>
                  </a:lnTo>
                  <a:lnTo>
                    <a:pt x="910" y="1100"/>
                  </a:lnTo>
                  <a:lnTo>
                    <a:pt x="915" y="1125"/>
                  </a:lnTo>
                  <a:lnTo>
                    <a:pt x="926" y="1151"/>
                  </a:lnTo>
                  <a:lnTo>
                    <a:pt x="936" y="1181"/>
                  </a:lnTo>
                  <a:lnTo>
                    <a:pt x="941" y="1206"/>
                  </a:lnTo>
                  <a:lnTo>
                    <a:pt x="951" y="1231"/>
                  </a:lnTo>
                  <a:lnTo>
                    <a:pt x="962" y="231"/>
                  </a:lnTo>
                  <a:lnTo>
                    <a:pt x="967" y="256"/>
                  </a:lnTo>
                  <a:lnTo>
                    <a:pt x="977" y="281"/>
                  </a:lnTo>
                  <a:lnTo>
                    <a:pt x="987" y="306"/>
                  </a:lnTo>
                  <a:lnTo>
                    <a:pt x="998" y="331"/>
                  </a:lnTo>
                  <a:lnTo>
                    <a:pt x="1003" y="361"/>
                  </a:lnTo>
                  <a:lnTo>
                    <a:pt x="1013" y="387"/>
                  </a:lnTo>
                  <a:lnTo>
                    <a:pt x="1023" y="412"/>
                  </a:lnTo>
                  <a:lnTo>
                    <a:pt x="1028" y="437"/>
                  </a:lnTo>
                  <a:lnTo>
                    <a:pt x="1039" y="462"/>
                  </a:lnTo>
                  <a:lnTo>
                    <a:pt x="1049" y="492"/>
                  </a:lnTo>
                  <a:lnTo>
                    <a:pt x="1054" y="517"/>
                  </a:lnTo>
                  <a:lnTo>
                    <a:pt x="1064" y="542"/>
                  </a:lnTo>
                  <a:lnTo>
                    <a:pt x="1075" y="568"/>
                  </a:lnTo>
                  <a:lnTo>
                    <a:pt x="1085" y="598"/>
                  </a:lnTo>
                  <a:lnTo>
                    <a:pt x="1090" y="623"/>
                  </a:lnTo>
                  <a:lnTo>
                    <a:pt x="1100" y="648"/>
                  </a:lnTo>
                  <a:lnTo>
                    <a:pt x="1111" y="673"/>
                  </a:lnTo>
                  <a:lnTo>
                    <a:pt x="1116" y="698"/>
                  </a:lnTo>
                  <a:lnTo>
                    <a:pt x="1126" y="728"/>
                  </a:lnTo>
                  <a:lnTo>
                    <a:pt x="1136" y="753"/>
                  </a:lnTo>
                  <a:lnTo>
                    <a:pt x="1141" y="779"/>
                  </a:lnTo>
                  <a:lnTo>
                    <a:pt x="1152" y="804"/>
                  </a:lnTo>
                  <a:lnTo>
                    <a:pt x="1162" y="834"/>
                  </a:lnTo>
                  <a:lnTo>
                    <a:pt x="1172" y="859"/>
                  </a:lnTo>
                  <a:lnTo>
                    <a:pt x="1177" y="884"/>
                  </a:lnTo>
                  <a:lnTo>
                    <a:pt x="1188" y="909"/>
                  </a:lnTo>
                  <a:lnTo>
                    <a:pt x="1198" y="934"/>
                  </a:lnTo>
                  <a:lnTo>
                    <a:pt x="1203" y="965"/>
                  </a:lnTo>
                  <a:lnTo>
                    <a:pt x="1213" y="990"/>
                  </a:lnTo>
                  <a:lnTo>
                    <a:pt x="1224" y="1015"/>
                  </a:lnTo>
                  <a:lnTo>
                    <a:pt x="1229" y="1040"/>
                  </a:lnTo>
                  <a:lnTo>
                    <a:pt x="1239" y="1065"/>
                  </a:lnTo>
                  <a:lnTo>
                    <a:pt x="1249" y="1095"/>
                  </a:lnTo>
                  <a:lnTo>
                    <a:pt x="1260" y="1120"/>
                  </a:lnTo>
                  <a:lnTo>
                    <a:pt x="1265" y="1146"/>
                  </a:lnTo>
                  <a:lnTo>
                    <a:pt x="1275" y="145"/>
                  </a:lnTo>
                  <a:lnTo>
                    <a:pt x="1285" y="170"/>
                  </a:lnTo>
                  <a:lnTo>
                    <a:pt x="1291" y="196"/>
                  </a:lnTo>
                  <a:lnTo>
                    <a:pt x="1301" y="221"/>
                  </a:lnTo>
                  <a:lnTo>
                    <a:pt x="1311" y="251"/>
                  </a:lnTo>
                  <a:lnTo>
                    <a:pt x="1316" y="276"/>
                  </a:lnTo>
                  <a:lnTo>
                    <a:pt x="1327" y="301"/>
                  </a:lnTo>
                  <a:lnTo>
                    <a:pt x="1337" y="326"/>
                  </a:lnTo>
                  <a:lnTo>
                    <a:pt x="1342" y="351"/>
                  </a:lnTo>
                  <a:lnTo>
                    <a:pt x="1352" y="382"/>
                  </a:lnTo>
                  <a:lnTo>
                    <a:pt x="1363" y="407"/>
                  </a:lnTo>
                  <a:lnTo>
                    <a:pt x="1373" y="432"/>
                  </a:lnTo>
                  <a:lnTo>
                    <a:pt x="1378" y="457"/>
                  </a:lnTo>
                  <a:lnTo>
                    <a:pt x="1388" y="482"/>
                  </a:lnTo>
                  <a:lnTo>
                    <a:pt x="1399" y="512"/>
                  </a:lnTo>
                  <a:lnTo>
                    <a:pt x="1404" y="537"/>
                  </a:lnTo>
                  <a:lnTo>
                    <a:pt x="1414" y="562"/>
                  </a:lnTo>
                  <a:lnTo>
                    <a:pt x="1424" y="588"/>
                  </a:lnTo>
                  <a:lnTo>
                    <a:pt x="1429" y="618"/>
                  </a:lnTo>
                  <a:lnTo>
                    <a:pt x="1440" y="643"/>
                  </a:lnTo>
                  <a:lnTo>
                    <a:pt x="1450" y="668"/>
                  </a:lnTo>
                  <a:lnTo>
                    <a:pt x="1460" y="693"/>
                  </a:lnTo>
                  <a:lnTo>
                    <a:pt x="1465" y="718"/>
                  </a:lnTo>
                  <a:lnTo>
                    <a:pt x="1476" y="748"/>
                  </a:lnTo>
                  <a:lnTo>
                    <a:pt x="1486" y="774"/>
                  </a:lnTo>
                  <a:lnTo>
                    <a:pt x="1491" y="799"/>
                  </a:lnTo>
                  <a:lnTo>
                    <a:pt x="1501" y="824"/>
                  </a:lnTo>
                  <a:lnTo>
                    <a:pt x="1512" y="854"/>
                  </a:lnTo>
                  <a:lnTo>
                    <a:pt x="1517" y="879"/>
                  </a:lnTo>
                  <a:lnTo>
                    <a:pt x="1527" y="904"/>
                  </a:lnTo>
                  <a:lnTo>
                    <a:pt x="1537" y="929"/>
                  </a:lnTo>
                  <a:lnTo>
                    <a:pt x="1548" y="955"/>
                  </a:lnTo>
                  <a:lnTo>
                    <a:pt x="1553" y="985"/>
                  </a:lnTo>
                  <a:lnTo>
                    <a:pt x="1563" y="1010"/>
                  </a:lnTo>
                  <a:lnTo>
                    <a:pt x="1573" y="1035"/>
                  </a:lnTo>
                  <a:lnTo>
                    <a:pt x="1578" y="1060"/>
                  </a:lnTo>
                  <a:lnTo>
                    <a:pt x="1589" y="1085"/>
                  </a:lnTo>
                  <a:lnTo>
                    <a:pt x="1599" y="85"/>
                  </a:lnTo>
                  <a:lnTo>
                    <a:pt x="1604" y="110"/>
                  </a:lnTo>
                  <a:lnTo>
                    <a:pt x="1614" y="135"/>
                  </a:lnTo>
                  <a:lnTo>
                    <a:pt x="1625" y="165"/>
                  </a:lnTo>
                  <a:lnTo>
                    <a:pt x="1635" y="191"/>
                  </a:lnTo>
                  <a:lnTo>
                    <a:pt x="1640" y="216"/>
                  </a:lnTo>
                  <a:lnTo>
                    <a:pt x="1650" y="241"/>
                  </a:lnTo>
                  <a:lnTo>
                    <a:pt x="1661" y="271"/>
                  </a:lnTo>
                  <a:lnTo>
                    <a:pt x="1666" y="296"/>
                  </a:lnTo>
                  <a:lnTo>
                    <a:pt x="1676" y="321"/>
                  </a:lnTo>
                  <a:lnTo>
                    <a:pt x="1686" y="346"/>
                  </a:lnTo>
                  <a:lnTo>
                    <a:pt x="1692" y="371"/>
                  </a:lnTo>
                  <a:lnTo>
                    <a:pt x="1702" y="402"/>
                  </a:lnTo>
                  <a:lnTo>
                    <a:pt x="1712" y="427"/>
                  </a:lnTo>
                  <a:lnTo>
                    <a:pt x="1722" y="452"/>
                  </a:lnTo>
                  <a:lnTo>
                    <a:pt x="1728" y="477"/>
                  </a:lnTo>
                  <a:lnTo>
                    <a:pt x="1738" y="507"/>
                  </a:lnTo>
                  <a:lnTo>
                    <a:pt x="1748" y="532"/>
                  </a:lnTo>
                  <a:lnTo>
                    <a:pt x="1753" y="557"/>
                  </a:lnTo>
                  <a:lnTo>
                    <a:pt x="1764" y="583"/>
                  </a:lnTo>
                  <a:lnTo>
                    <a:pt x="1774" y="608"/>
                  </a:lnTo>
                  <a:lnTo>
                    <a:pt x="1779" y="638"/>
                  </a:lnTo>
                  <a:lnTo>
                    <a:pt x="1789" y="663"/>
                  </a:lnTo>
                  <a:lnTo>
                    <a:pt x="1800" y="688"/>
                  </a:lnTo>
                  <a:lnTo>
                    <a:pt x="1805" y="713"/>
                  </a:lnTo>
                  <a:lnTo>
                    <a:pt x="1815" y="738"/>
                  </a:lnTo>
                  <a:lnTo>
                    <a:pt x="1825" y="769"/>
                  </a:lnTo>
                  <a:lnTo>
                    <a:pt x="1836" y="794"/>
                  </a:lnTo>
                  <a:lnTo>
                    <a:pt x="1841" y="819"/>
                  </a:lnTo>
                  <a:lnTo>
                    <a:pt x="1851" y="844"/>
                  </a:lnTo>
                  <a:lnTo>
                    <a:pt x="1861" y="874"/>
                  </a:lnTo>
                  <a:lnTo>
                    <a:pt x="1866" y="899"/>
                  </a:lnTo>
                  <a:lnTo>
                    <a:pt x="1877" y="924"/>
                  </a:lnTo>
                  <a:lnTo>
                    <a:pt x="1887" y="949"/>
                  </a:lnTo>
                  <a:lnTo>
                    <a:pt x="1892" y="975"/>
                  </a:lnTo>
                  <a:lnTo>
                    <a:pt x="1902" y="1005"/>
                  </a:lnTo>
                  <a:lnTo>
                    <a:pt x="1913" y="0"/>
                  </a:lnTo>
                  <a:lnTo>
                    <a:pt x="1923" y="25"/>
                  </a:lnTo>
                  <a:lnTo>
                    <a:pt x="1928" y="55"/>
                  </a:lnTo>
                  <a:lnTo>
                    <a:pt x="1938" y="80"/>
                  </a:lnTo>
                  <a:lnTo>
                    <a:pt x="1949" y="105"/>
                  </a:lnTo>
                  <a:lnTo>
                    <a:pt x="1954" y="130"/>
                  </a:lnTo>
                  <a:lnTo>
                    <a:pt x="1964" y="160"/>
                  </a:lnTo>
                  <a:lnTo>
                    <a:pt x="1974" y="186"/>
                  </a:lnTo>
                  <a:lnTo>
                    <a:pt x="1979" y="211"/>
                  </a:lnTo>
                  <a:lnTo>
                    <a:pt x="1990" y="236"/>
                  </a:lnTo>
                  <a:lnTo>
                    <a:pt x="2000" y="261"/>
                  </a:lnTo>
                  <a:lnTo>
                    <a:pt x="2010" y="291"/>
                  </a:lnTo>
                  <a:lnTo>
                    <a:pt x="2015" y="316"/>
                  </a:lnTo>
                  <a:lnTo>
                    <a:pt x="2026" y="341"/>
                  </a:lnTo>
                  <a:lnTo>
                    <a:pt x="2036" y="366"/>
                  </a:lnTo>
                  <a:lnTo>
                    <a:pt x="2041" y="392"/>
                  </a:lnTo>
                  <a:lnTo>
                    <a:pt x="2051" y="422"/>
                  </a:lnTo>
                  <a:lnTo>
                    <a:pt x="2062" y="447"/>
                  </a:lnTo>
                  <a:lnTo>
                    <a:pt x="2067" y="472"/>
                  </a:lnTo>
                  <a:lnTo>
                    <a:pt x="2077" y="497"/>
                  </a:lnTo>
                  <a:lnTo>
                    <a:pt x="2087" y="527"/>
                  </a:lnTo>
                  <a:lnTo>
                    <a:pt x="2098" y="552"/>
                  </a:lnTo>
                  <a:lnTo>
                    <a:pt x="2103" y="578"/>
                  </a:lnTo>
                  <a:lnTo>
                    <a:pt x="2113" y="603"/>
                  </a:lnTo>
                  <a:lnTo>
                    <a:pt x="2123" y="628"/>
                  </a:lnTo>
                  <a:lnTo>
                    <a:pt x="2129" y="658"/>
                  </a:lnTo>
                  <a:lnTo>
                    <a:pt x="2139" y="683"/>
                  </a:lnTo>
                  <a:lnTo>
                    <a:pt x="2149" y="708"/>
                  </a:lnTo>
                  <a:lnTo>
                    <a:pt x="2154" y="733"/>
                  </a:lnTo>
                  <a:lnTo>
                    <a:pt x="2165" y="759"/>
                  </a:lnTo>
                  <a:lnTo>
                    <a:pt x="2175" y="789"/>
                  </a:lnTo>
                  <a:lnTo>
                    <a:pt x="2185" y="814"/>
                  </a:lnTo>
                  <a:lnTo>
                    <a:pt x="2190" y="839"/>
                  </a:lnTo>
                  <a:lnTo>
                    <a:pt x="2201" y="864"/>
                  </a:lnTo>
                  <a:lnTo>
                    <a:pt x="2211" y="894"/>
                  </a:lnTo>
                  <a:lnTo>
                    <a:pt x="2216" y="919"/>
                  </a:lnTo>
                  <a:lnTo>
                    <a:pt x="2226" y="944"/>
                  </a:lnTo>
                </a:path>
              </a:pathLst>
            </a:custGeom>
            <a:noFill/>
            <a:ln cap="rnd" w="25560">
              <a:solidFill>
                <a:srgbClr val="00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16200000">
              <a:off x="3562920" y="3632760"/>
              <a:ext cx="239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Faza u stupnjevim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120360" y="2068560"/>
              <a:ext cx="2466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Fazna karakteristik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289000" y="4373640"/>
              <a:ext cx="687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Arial"/>
                </a:rPr>
                <a:t>M=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288640" y="483084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66"/>
                  </a:solidFill>
                  <a:latin typeface="Arial"/>
                </a:rPr>
                <a:t>M=1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5409360" y="5278320"/>
              <a:ext cx="3740040" cy="397440"/>
              <a:chOff x="5409360" y="5278320"/>
              <a:chExt cx="3740040" cy="397440"/>
            </a:xfrm>
          </p:grpSpPr>
          <p:sp>
            <p:nvSpPr>
              <p:cNvPr id="1008" name=""/>
              <p:cNvSpPr/>
              <p:nvPr/>
            </p:nvSpPr>
            <p:spPr>
              <a:xfrm>
                <a:off x="5409360" y="527832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039360" y="5278320"/>
                <a:ext cx="67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2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718680" y="5278320"/>
                <a:ext cx="67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4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04480" y="5278320"/>
                <a:ext cx="67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6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8080920" y="5278320"/>
                <a:ext cx="67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8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8824320" y="5278320"/>
                <a:ext cx="325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6640920" y="5721480"/>
              <a:ext cx="1404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frekvencij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Grupno kašnjenje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ljnji parametar za karakterizaciju filtara je </a:t>
            </a:r>
            <a:r>
              <a:rPr b="0" lang="en-US" sz="3200" spc="-1" strike="noStrike">
                <a:solidFill>
                  <a:srgbClr val="00ff66"/>
                </a:solidFill>
                <a:latin typeface="Times New Roman"/>
              </a:rPr>
              <a:t>grupno kašnjenj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758960" y="3054240"/>
            <a:ext cx="596880" cy="444600"/>
            <a:chOff x="1758960" y="3054240"/>
            <a:chExt cx="596880" cy="444600"/>
          </a:xfrm>
        </p:grpSpPr>
        <p:sp>
          <p:nvSpPr>
            <p:cNvPr id="1018" name=""/>
            <p:cNvSpPr/>
            <p:nvPr/>
          </p:nvSpPr>
          <p:spPr>
            <a:xfrm>
              <a:off x="1758960" y="3054240"/>
              <a:ext cx="139680" cy="368280"/>
            </a:xfrm>
            <a:prstGeom prst="rect">
              <a:avLst/>
            </a:prstGeom>
            <a:solidFill>
              <a:srgbClr val="00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758960" y="3282840"/>
              <a:ext cx="596880" cy="216000"/>
            </a:xfrm>
            <a:prstGeom prst="rightArrow">
              <a:avLst>
                <a:gd name="adj1" fmla="val 50000"/>
                <a:gd name="adj2" fmla="val 138179"/>
              </a:avLst>
            </a:prstGeom>
            <a:solidFill>
              <a:srgbClr val="00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514600" y="3124080"/>
            <a:ext cx="6399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jera linearnosti fazne funk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647800" y="3741840"/>
            <a:ext cx="6191280" cy="830160"/>
            <a:chOff x="2647800" y="3741840"/>
            <a:chExt cx="6191280" cy="830160"/>
          </a:xfrm>
        </p:grpSpPr>
        <mc:AlternateContent>
          <mc:Choice xmlns:a14="http://schemas.microsoft.com/office/drawing/2010/main" Requires="a14">
            <p:sp>
              <p:nvSpPr>
                <p:cNvPr id="1022" name=""/>
                <p:cNvSpPr txBox="1"/>
                <p:nvPr/>
              </p:nvSpPr>
              <p:spPr>
                <a:xfrm>
                  <a:off x="2647800" y="3741840"/>
                  <a:ext cx="2409840" cy="83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w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=-</m:t>
                      </m:r>
                      <m:f>
                        <m:num>
                          <m:sSub>
                            <m:e>
                              <m:r>
                                <m:t xml:space="preserve">dq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w</m:t>
                              </m:r>
                            </m:e>
                          </m:d>
                        </m:num>
                        <m:den>
                          <m:r>
                            <m:t xml:space="preserve">d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23" name=""/>
            <p:cNvSpPr/>
            <p:nvPr/>
          </p:nvSpPr>
          <p:spPr>
            <a:xfrm>
              <a:off x="5105520" y="3809880"/>
              <a:ext cx="1523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, gdje j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4" name=""/>
                <p:cNvSpPr txBox="1"/>
                <p:nvPr/>
              </p:nvSpPr>
              <p:spPr>
                <a:xfrm>
                  <a:off x="6661080" y="3940200"/>
                  <a:ext cx="86688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w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25" name=""/>
            <p:cNvSpPr/>
            <p:nvPr/>
          </p:nvSpPr>
          <p:spPr>
            <a:xfrm>
              <a:off x="7543800" y="3809880"/>
              <a:ext cx="1295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az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685800" y="48769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 prije navedeni primj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2711520" y="5662440"/>
                <a:ext cx="19666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7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Projektiranje FIR filtra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28600" y="190512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retpostavimo signal koji je suma kosinusnih signa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0" name=""/>
          <p:cNvGraphicFramePr/>
          <p:nvPr/>
        </p:nvGraphicFramePr>
        <p:xfrm>
          <a:off x="539640" y="2492280"/>
          <a:ext cx="8151840" cy="4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492280"/>
                    <a:ext cx="815184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28240" y="2971440"/>
            <a:ext cx="8915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retpostavimo da želimo sustav (filtar) koji ć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 gušiti signal </a:t>
            </a:r>
            <a:r>
              <a:rPr b="0" i="1" lang="hr-HR" sz="2800" spc="-1" strike="noStrike">
                <a:solidFill>
                  <a:srgbClr val="fafd00"/>
                </a:solidFill>
                <a:latin typeface="Times New Roman"/>
              </a:rPr>
              <a:t>u</a:t>
            </a:r>
            <a:r>
              <a:rPr b="0" lang="hr-HR" sz="28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afd00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]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(kosinus kutne frekv.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0,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rad/se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 propuštati signal </a:t>
            </a:r>
            <a:r>
              <a:rPr b="0" i="1" lang="hr-HR" sz="2800" spc="-1" strike="noStrike">
                <a:solidFill>
                  <a:srgbClr val="fafd00"/>
                </a:solidFill>
                <a:latin typeface="Times New Roman"/>
              </a:rPr>
              <a:t>u</a:t>
            </a:r>
            <a:r>
              <a:rPr b="0" lang="hr-HR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afd00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]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(kosinus kutne frekv.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0,4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rad/se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Radi jednostavnosti uzmim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 red filtra </a:t>
            </a:r>
            <a:r>
              <a:rPr b="0" i="1" lang="hr-HR" sz="2800" spc="-1" strike="noStrike">
                <a:solidFill>
                  <a:srgbClr val="fafd00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=2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tri uzorka impulsnog odziv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 impulsni odziv filt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4192560" y="5638680"/>
                <a:ext cx="221292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</m:e>
                      <m:e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Projektiranje FIR filtra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8390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dnadžba diferencija ovog sustava j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6" name=""/>
          <p:cNvGraphicFramePr/>
          <p:nvPr/>
        </p:nvGraphicFramePr>
        <p:xfrm>
          <a:off x="755640" y="2349360"/>
          <a:ext cx="7535880" cy="5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349360"/>
                    <a:ext cx="753588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8" name=""/>
          <p:cNvGraphicFramePr/>
          <p:nvPr/>
        </p:nvGraphicFramePr>
        <p:xfrm>
          <a:off x="1547640" y="3033720"/>
          <a:ext cx="532944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3033720"/>
                    <a:ext cx="53294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0" name=""/>
          <p:cNvSpPr/>
          <p:nvPr/>
        </p:nvSpPr>
        <p:spPr>
          <a:xfrm>
            <a:off x="228600" y="3581280"/>
            <a:ext cx="8839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ripadna frekvencijska k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1" name=""/>
              <p:cNvSpPr txBox="1"/>
              <p:nvPr/>
            </p:nvSpPr>
            <p:spPr>
              <a:xfrm>
                <a:off x="593640" y="4259160"/>
                <a:ext cx="59104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w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+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w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w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2" name=""/>
              <p:cNvSpPr txBox="1"/>
              <p:nvPr/>
            </p:nvSpPr>
            <p:spPr>
              <a:xfrm>
                <a:off x="1697040" y="4869000"/>
                <a:ext cx="38466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w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w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1719360" y="5419800"/>
                <a:ext cx="51562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α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w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w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w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w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1730520" y="6338880"/>
                <a:ext cx="34639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β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w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Projektiranje FIR filtra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Amplitudna i fazna karakteristika filtra s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2023920" y="2343240"/>
            <a:ext cx="3640320" cy="1135080"/>
            <a:chOff x="2023920" y="2343240"/>
            <a:chExt cx="3640320" cy="1135080"/>
          </a:xfrm>
        </p:grpSpPr>
        <mc:AlternateContent>
          <mc:Choice xmlns:a14="http://schemas.microsoft.com/office/drawing/2010/main" Requires="a14">
            <p:sp>
              <p:nvSpPr>
                <p:cNvPr id="1048" name=""/>
                <p:cNvSpPr txBox="1"/>
                <p:nvPr/>
              </p:nvSpPr>
              <p:spPr>
                <a:xfrm>
                  <a:off x="2023920" y="2343240"/>
                  <a:ext cx="364032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jw</m:t>
                                  </m:r>
                                </m:sup>
                              </m:sSup>
                            </m:e>
                          </m:d>
                        </m:e>
                      </m:d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w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9" name=""/>
                <p:cNvSpPr txBox="1"/>
                <p:nvPr/>
              </p:nvSpPr>
              <p:spPr>
                <a:xfrm>
                  <a:off x="2438280" y="3083040"/>
                  <a:ext cx="158292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w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=-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50" name=""/>
          <p:cNvSpPr/>
          <p:nvPr/>
        </p:nvSpPr>
        <p:spPr>
          <a:xfrm>
            <a:off x="303120" y="3581280"/>
            <a:ext cx="693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z zahtjeva na filtar određujemo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533520" y="4172040"/>
                <a:ext cx="4470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0,1</m:t>
                                </m:r>
                              </m:sup>
                            </m:sSup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1</m:t>
                        </m:r>
                      </m:e>
                    </m:d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533520" y="4933800"/>
                <a:ext cx="4510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0,4</m:t>
                                </m:r>
                              </m:sup>
                            </m:sSup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4</m:t>
                        </m:r>
                      </m:e>
                    </m:d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3" name=""/>
          <p:cNvSpPr/>
          <p:nvPr/>
        </p:nvSpPr>
        <p:spPr>
          <a:xfrm>
            <a:off x="5089320" y="3960720"/>
            <a:ext cx="7704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66"/>
                </a:solidFill>
                <a:latin typeface="Times New Roman"/>
              </a:rPr>
              <a:t>}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5896080" y="4421160"/>
                <a:ext cx="20113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1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5935680" y="4853160"/>
                <a:ext cx="2074680" cy="34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63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6" name=""/>
          <p:cNvSpPr/>
          <p:nvPr/>
        </p:nvSpPr>
        <p:spPr>
          <a:xfrm>
            <a:off x="304920" y="5486400"/>
            <a:ext cx="4419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što d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7" name=""/>
          <p:cNvGraphicFramePr/>
          <p:nvPr/>
        </p:nvGraphicFramePr>
        <p:xfrm>
          <a:off x="539640" y="6093000"/>
          <a:ext cx="8425080" cy="57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093000"/>
                    <a:ext cx="842508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371240" y="18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Projektiranje FIR filtra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2590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z pobud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1" name=""/>
          <p:cNvGraphicFramePr/>
          <p:nvPr/>
        </p:nvGraphicFramePr>
        <p:xfrm>
          <a:off x="2790720" y="1185840"/>
          <a:ext cx="588492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1185840"/>
                    <a:ext cx="588492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3" name=""/>
          <p:cNvGrpSpPr/>
          <p:nvPr/>
        </p:nvGrpSpPr>
        <p:grpSpPr>
          <a:xfrm>
            <a:off x="1440" y="1892160"/>
            <a:ext cx="4468320" cy="5006520"/>
            <a:chOff x="1440" y="1892160"/>
            <a:chExt cx="4468320" cy="5006520"/>
          </a:xfrm>
        </p:grpSpPr>
        <p:sp>
          <p:nvSpPr>
            <p:cNvPr id="1064" name=""/>
            <p:cNvSpPr/>
            <p:nvPr/>
          </p:nvSpPr>
          <p:spPr>
            <a:xfrm flipV="1">
              <a:off x="662040" y="2343240"/>
              <a:ext cx="0" cy="2730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1360440" y="2343240"/>
              <a:ext cx="0" cy="2730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2049480" y="2343240"/>
              <a:ext cx="0" cy="2730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2746440" y="2343240"/>
              <a:ext cx="0" cy="2730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3435480" y="2343240"/>
              <a:ext cx="0" cy="2730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4132440" y="2343240"/>
              <a:ext cx="0" cy="2730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62040" y="5073480"/>
              <a:ext cx="34704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62040" y="4618080"/>
              <a:ext cx="347040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62040" y="4160880"/>
              <a:ext cx="347040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62040" y="3713040"/>
              <a:ext cx="347040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62040" y="3255840"/>
              <a:ext cx="347040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62040" y="2800440"/>
              <a:ext cx="347040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62040" y="2343240"/>
              <a:ext cx="34704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62040" y="2343240"/>
              <a:ext cx="3471840" cy="2732040"/>
            </a:xfrm>
            <a:custGeom>
              <a:avLst/>
              <a:gdLst/>
              <a:ahLst/>
              <a:rect l="l" t="t" r="r" b="b"/>
              <a:pathLst>
                <a:path w="2187" h="1721">
                  <a:moveTo>
                    <a:pt x="0" y="1720"/>
                  </a:moveTo>
                  <a:lnTo>
                    <a:pt x="0" y="0"/>
                  </a:lnTo>
                  <a:lnTo>
                    <a:pt x="2186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62040" y="2343240"/>
              <a:ext cx="3471840" cy="2732040"/>
            </a:xfrm>
            <a:custGeom>
              <a:avLst/>
              <a:gdLst/>
              <a:ahLst/>
              <a:rect l="l" t="t" r="r" b="b"/>
              <a:pathLst>
                <a:path w="2187" h="1721">
                  <a:moveTo>
                    <a:pt x="0" y="1720"/>
                  </a:moveTo>
                  <a:lnTo>
                    <a:pt x="0" y="0"/>
                  </a:lnTo>
                  <a:lnTo>
                    <a:pt x="2186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62040" y="2343240"/>
              <a:ext cx="3471840" cy="2732040"/>
            </a:xfrm>
            <a:custGeom>
              <a:avLst/>
              <a:gdLst/>
              <a:ahLst/>
              <a:rect l="l" t="t" r="r" b="b"/>
              <a:pathLst>
                <a:path w="2187" h="1721">
                  <a:moveTo>
                    <a:pt x="0" y="1720"/>
                  </a:moveTo>
                  <a:lnTo>
                    <a:pt x="0" y="0"/>
                  </a:lnTo>
                  <a:lnTo>
                    <a:pt x="2186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62040" y="5073480"/>
              <a:ext cx="34704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62040" y="2343240"/>
              <a:ext cx="34704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662040" y="2343240"/>
              <a:ext cx="0" cy="2730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4132440" y="2343240"/>
              <a:ext cx="0" cy="2730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62040" y="234324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62040" y="5073480"/>
              <a:ext cx="34704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662040" y="2343240"/>
              <a:ext cx="0" cy="2730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62040" y="507348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662040" y="504180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62040" y="2343240"/>
              <a:ext cx="0" cy="33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1360440" y="504180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360440" y="2343240"/>
              <a:ext cx="0" cy="33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2049480" y="504180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049480" y="2343240"/>
              <a:ext cx="0" cy="33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2746440" y="504180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746440" y="2343240"/>
              <a:ext cx="0" cy="33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435480" y="504180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35480" y="2343240"/>
              <a:ext cx="0" cy="33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4132440" y="504180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132440" y="2343240"/>
              <a:ext cx="0" cy="33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0" name=""/>
            <p:cNvGrpSpPr/>
            <p:nvPr/>
          </p:nvGrpSpPr>
          <p:grpSpPr>
            <a:xfrm>
              <a:off x="461160" y="5099040"/>
              <a:ext cx="4008600" cy="397440"/>
              <a:chOff x="461160" y="5099040"/>
              <a:chExt cx="4008600" cy="397440"/>
            </a:xfrm>
          </p:grpSpPr>
          <p:sp>
            <p:nvSpPr>
              <p:cNvPr id="1101" name=""/>
              <p:cNvSpPr/>
              <p:nvPr/>
            </p:nvSpPr>
            <p:spPr>
              <a:xfrm>
                <a:off x="461160" y="509904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118520" y="509904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2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807560" y="509904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4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505960" y="509904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6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195000" y="509904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8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859560" y="5099040"/>
                <a:ext cx="610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10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7" name=""/>
            <p:cNvSpPr/>
            <p:nvPr/>
          </p:nvSpPr>
          <p:spPr>
            <a:xfrm>
              <a:off x="662040" y="5073480"/>
              <a:ext cx="33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4100040" y="5073480"/>
              <a:ext cx="32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62040" y="4618080"/>
              <a:ext cx="33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>
              <a:off x="4100040" y="4618080"/>
              <a:ext cx="32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62040" y="4160880"/>
              <a:ext cx="33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4100040" y="4160880"/>
              <a:ext cx="32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62040" y="3713040"/>
              <a:ext cx="33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4100040" y="3713040"/>
              <a:ext cx="32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62040" y="3255840"/>
              <a:ext cx="33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4100040" y="3255840"/>
              <a:ext cx="32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62040" y="2800440"/>
              <a:ext cx="33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>
              <a:off x="4100040" y="2800440"/>
              <a:ext cx="32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62040" y="2343240"/>
              <a:ext cx="33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4100040" y="2343240"/>
              <a:ext cx="32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273600" y="2112840"/>
              <a:ext cx="412200" cy="3128040"/>
              <a:chOff x="273600" y="2112840"/>
              <a:chExt cx="412200" cy="3128040"/>
            </a:xfrm>
          </p:grpSpPr>
          <p:sp>
            <p:nvSpPr>
              <p:cNvPr id="1122" name=""/>
              <p:cNvSpPr/>
              <p:nvPr/>
            </p:nvSpPr>
            <p:spPr>
              <a:xfrm>
                <a:off x="273600" y="4843440"/>
                <a:ext cx="412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73600" y="4386240"/>
                <a:ext cx="412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13560" y="39304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313560" y="348156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313560" y="30258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13560" y="25686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13560" y="211284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662040" y="5073480"/>
              <a:ext cx="34704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62040" y="2343240"/>
              <a:ext cx="34704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62040" y="2343240"/>
              <a:ext cx="0" cy="2730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4132440" y="2343240"/>
              <a:ext cx="0" cy="2730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62040" y="507348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62040" y="3713040"/>
              <a:ext cx="3440160" cy="906480"/>
            </a:xfrm>
            <a:custGeom>
              <a:avLst/>
              <a:gdLst/>
              <a:ahLst/>
              <a:rect l="l" t="t" r="r" b="b"/>
              <a:pathLst>
                <a:path w="2167" h="571">
                  <a:moveTo>
                    <a:pt x="0" y="0"/>
                  </a:moveTo>
                  <a:lnTo>
                    <a:pt x="21" y="0"/>
                  </a:lnTo>
                  <a:lnTo>
                    <a:pt x="46" y="5"/>
                  </a:lnTo>
                  <a:lnTo>
                    <a:pt x="66" y="10"/>
                  </a:lnTo>
                  <a:lnTo>
                    <a:pt x="86" y="20"/>
                  </a:lnTo>
                  <a:lnTo>
                    <a:pt x="112" y="30"/>
                  </a:lnTo>
                  <a:lnTo>
                    <a:pt x="132" y="45"/>
                  </a:lnTo>
                  <a:lnTo>
                    <a:pt x="152" y="65"/>
                  </a:lnTo>
                  <a:lnTo>
                    <a:pt x="177" y="85"/>
                  </a:lnTo>
                  <a:lnTo>
                    <a:pt x="197" y="106"/>
                  </a:lnTo>
                  <a:lnTo>
                    <a:pt x="218" y="131"/>
                  </a:lnTo>
                  <a:lnTo>
                    <a:pt x="243" y="156"/>
                  </a:lnTo>
                  <a:lnTo>
                    <a:pt x="263" y="181"/>
                  </a:lnTo>
                  <a:lnTo>
                    <a:pt x="283" y="206"/>
                  </a:lnTo>
                  <a:lnTo>
                    <a:pt x="308" y="237"/>
                  </a:lnTo>
                  <a:lnTo>
                    <a:pt x="329" y="262"/>
                  </a:lnTo>
                  <a:lnTo>
                    <a:pt x="349" y="292"/>
                  </a:lnTo>
                  <a:lnTo>
                    <a:pt x="374" y="322"/>
                  </a:lnTo>
                  <a:lnTo>
                    <a:pt x="394" y="348"/>
                  </a:lnTo>
                  <a:lnTo>
                    <a:pt x="414" y="378"/>
                  </a:lnTo>
                  <a:lnTo>
                    <a:pt x="440" y="403"/>
                  </a:lnTo>
                  <a:lnTo>
                    <a:pt x="460" y="428"/>
                  </a:lnTo>
                  <a:lnTo>
                    <a:pt x="480" y="454"/>
                  </a:lnTo>
                  <a:lnTo>
                    <a:pt x="505" y="474"/>
                  </a:lnTo>
                  <a:lnTo>
                    <a:pt x="525" y="494"/>
                  </a:lnTo>
                  <a:lnTo>
                    <a:pt x="546" y="514"/>
                  </a:lnTo>
                  <a:lnTo>
                    <a:pt x="571" y="529"/>
                  </a:lnTo>
                  <a:lnTo>
                    <a:pt x="591" y="544"/>
                  </a:lnTo>
                  <a:lnTo>
                    <a:pt x="611" y="554"/>
                  </a:lnTo>
                  <a:lnTo>
                    <a:pt x="637" y="564"/>
                  </a:lnTo>
                  <a:lnTo>
                    <a:pt x="657" y="570"/>
                  </a:lnTo>
                  <a:lnTo>
                    <a:pt x="677" y="570"/>
                  </a:lnTo>
                  <a:lnTo>
                    <a:pt x="702" y="570"/>
                  </a:lnTo>
                  <a:lnTo>
                    <a:pt x="722" y="564"/>
                  </a:lnTo>
                  <a:lnTo>
                    <a:pt x="743" y="559"/>
                  </a:lnTo>
                  <a:lnTo>
                    <a:pt x="768" y="554"/>
                  </a:lnTo>
                  <a:lnTo>
                    <a:pt x="788" y="539"/>
                  </a:lnTo>
                  <a:lnTo>
                    <a:pt x="808" y="529"/>
                  </a:lnTo>
                  <a:lnTo>
                    <a:pt x="833" y="509"/>
                  </a:lnTo>
                  <a:lnTo>
                    <a:pt x="854" y="494"/>
                  </a:lnTo>
                  <a:lnTo>
                    <a:pt x="874" y="469"/>
                  </a:lnTo>
                  <a:lnTo>
                    <a:pt x="899" y="448"/>
                  </a:lnTo>
                  <a:lnTo>
                    <a:pt x="919" y="423"/>
                  </a:lnTo>
                  <a:lnTo>
                    <a:pt x="939" y="398"/>
                  </a:lnTo>
                  <a:lnTo>
                    <a:pt x="965" y="373"/>
                  </a:lnTo>
                  <a:lnTo>
                    <a:pt x="985" y="343"/>
                  </a:lnTo>
                  <a:lnTo>
                    <a:pt x="1005" y="317"/>
                  </a:lnTo>
                  <a:lnTo>
                    <a:pt x="1030" y="287"/>
                  </a:lnTo>
                  <a:lnTo>
                    <a:pt x="1051" y="257"/>
                  </a:lnTo>
                  <a:lnTo>
                    <a:pt x="1071" y="232"/>
                  </a:lnTo>
                  <a:lnTo>
                    <a:pt x="1096" y="201"/>
                  </a:lnTo>
                  <a:lnTo>
                    <a:pt x="1116" y="176"/>
                  </a:lnTo>
                  <a:lnTo>
                    <a:pt x="1136" y="151"/>
                  </a:lnTo>
                  <a:lnTo>
                    <a:pt x="1157" y="126"/>
                  </a:lnTo>
                  <a:lnTo>
                    <a:pt x="1182" y="101"/>
                  </a:lnTo>
                  <a:lnTo>
                    <a:pt x="1202" y="80"/>
                  </a:lnTo>
                  <a:lnTo>
                    <a:pt x="1222" y="60"/>
                  </a:lnTo>
                  <a:lnTo>
                    <a:pt x="1247" y="45"/>
                  </a:lnTo>
                  <a:lnTo>
                    <a:pt x="1268" y="30"/>
                  </a:lnTo>
                  <a:lnTo>
                    <a:pt x="1288" y="20"/>
                  </a:lnTo>
                  <a:lnTo>
                    <a:pt x="1313" y="10"/>
                  </a:lnTo>
                  <a:lnTo>
                    <a:pt x="1333" y="0"/>
                  </a:lnTo>
                  <a:lnTo>
                    <a:pt x="1353" y="0"/>
                  </a:lnTo>
                  <a:lnTo>
                    <a:pt x="1379" y="0"/>
                  </a:lnTo>
                  <a:lnTo>
                    <a:pt x="1399" y="0"/>
                  </a:lnTo>
                  <a:lnTo>
                    <a:pt x="1419" y="5"/>
                  </a:lnTo>
                  <a:lnTo>
                    <a:pt x="1444" y="10"/>
                  </a:lnTo>
                  <a:lnTo>
                    <a:pt x="1464" y="20"/>
                  </a:lnTo>
                  <a:lnTo>
                    <a:pt x="1485" y="35"/>
                  </a:lnTo>
                  <a:lnTo>
                    <a:pt x="1510" y="50"/>
                  </a:lnTo>
                  <a:lnTo>
                    <a:pt x="1530" y="65"/>
                  </a:lnTo>
                  <a:lnTo>
                    <a:pt x="1550" y="85"/>
                  </a:lnTo>
                  <a:lnTo>
                    <a:pt x="1576" y="111"/>
                  </a:lnTo>
                  <a:lnTo>
                    <a:pt x="1596" y="131"/>
                  </a:lnTo>
                  <a:lnTo>
                    <a:pt x="1616" y="156"/>
                  </a:lnTo>
                  <a:lnTo>
                    <a:pt x="1641" y="186"/>
                  </a:lnTo>
                  <a:lnTo>
                    <a:pt x="1661" y="211"/>
                  </a:lnTo>
                  <a:lnTo>
                    <a:pt x="1682" y="242"/>
                  </a:lnTo>
                  <a:lnTo>
                    <a:pt x="1707" y="267"/>
                  </a:lnTo>
                  <a:lnTo>
                    <a:pt x="1727" y="297"/>
                  </a:lnTo>
                  <a:lnTo>
                    <a:pt x="1747" y="327"/>
                  </a:lnTo>
                  <a:lnTo>
                    <a:pt x="1772" y="353"/>
                  </a:lnTo>
                  <a:lnTo>
                    <a:pt x="1793" y="383"/>
                  </a:lnTo>
                  <a:lnTo>
                    <a:pt x="1813" y="408"/>
                  </a:lnTo>
                  <a:lnTo>
                    <a:pt x="1838" y="433"/>
                  </a:lnTo>
                  <a:lnTo>
                    <a:pt x="1858" y="459"/>
                  </a:lnTo>
                  <a:lnTo>
                    <a:pt x="1878" y="479"/>
                  </a:lnTo>
                  <a:lnTo>
                    <a:pt x="1904" y="499"/>
                  </a:lnTo>
                  <a:lnTo>
                    <a:pt x="1924" y="514"/>
                  </a:lnTo>
                  <a:lnTo>
                    <a:pt x="1944" y="534"/>
                  </a:lnTo>
                  <a:lnTo>
                    <a:pt x="1969" y="544"/>
                  </a:lnTo>
                  <a:lnTo>
                    <a:pt x="1989" y="554"/>
                  </a:lnTo>
                  <a:lnTo>
                    <a:pt x="2010" y="564"/>
                  </a:lnTo>
                  <a:lnTo>
                    <a:pt x="2035" y="570"/>
                  </a:lnTo>
                  <a:lnTo>
                    <a:pt x="2055" y="570"/>
                  </a:lnTo>
                  <a:lnTo>
                    <a:pt x="2075" y="570"/>
                  </a:lnTo>
                  <a:lnTo>
                    <a:pt x="2101" y="564"/>
                  </a:lnTo>
                  <a:lnTo>
                    <a:pt x="2121" y="559"/>
                  </a:lnTo>
                  <a:lnTo>
                    <a:pt x="2141" y="549"/>
                  </a:lnTo>
                  <a:lnTo>
                    <a:pt x="2166" y="539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62040" y="3713040"/>
              <a:ext cx="3440160" cy="906480"/>
            </a:xfrm>
            <a:custGeom>
              <a:avLst/>
              <a:gdLst/>
              <a:ahLst/>
              <a:rect l="l" t="t" r="r" b="b"/>
              <a:pathLst>
                <a:path w="2167" h="571">
                  <a:moveTo>
                    <a:pt x="0" y="0"/>
                  </a:moveTo>
                  <a:lnTo>
                    <a:pt x="21" y="20"/>
                  </a:lnTo>
                  <a:lnTo>
                    <a:pt x="46" y="85"/>
                  </a:lnTo>
                  <a:lnTo>
                    <a:pt x="66" y="181"/>
                  </a:lnTo>
                  <a:lnTo>
                    <a:pt x="86" y="292"/>
                  </a:lnTo>
                  <a:lnTo>
                    <a:pt x="112" y="403"/>
                  </a:lnTo>
                  <a:lnTo>
                    <a:pt x="132" y="494"/>
                  </a:lnTo>
                  <a:lnTo>
                    <a:pt x="152" y="554"/>
                  </a:lnTo>
                  <a:lnTo>
                    <a:pt x="177" y="570"/>
                  </a:lnTo>
                  <a:lnTo>
                    <a:pt x="197" y="539"/>
                  </a:lnTo>
                  <a:lnTo>
                    <a:pt x="218" y="469"/>
                  </a:lnTo>
                  <a:lnTo>
                    <a:pt x="243" y="373"/>
                  </a:lnTo>
                  <a:lnTo>
                    <a:pt x="263" y="257"/>
                  </a:lnTo>
                  <a:lnTo>
                    <a:pt x="283" y="151"/>
                  </a:lnTo>
                  <a:lnTo>
                    <a:pt x="308" y="60"/>
                  </a:lnTo>
                  <a:lnTo>
                    <a:pt x="329" y="10"/>
                  </a:lnTo>
                  <a:lnTo>
                    <a:pt x="349" y="0"/>
                  </a:lnTo>
                  <a:lnTo>
                    <a:pt x="374" y="35"/>
                  </a:lnTo>
                  <a:lnTo>
                    <a:pt x="394" y="111"/>
                  </a:lnTo>
                  <a:lnTo>
                    <a:pt x="414" y="211"/>
                  </a:lnTo>
                  <a:lnTo>
                    <a:pt x="440" y="327"/>
                  </a:lnTo>
                  <a:lnTo>
                    <a:pt x="460" y="433"/>
                  </a:lnTo>
                  <a:lnTo>
                    <a:pt x="480" y="514"/>
                  </a:lnTo>
                  <a:lnTo>
                    <a:pt x="505" y="564"/>
                  </a:lnTo>
                  <a:lnTo>
                    <a:pt x="525" y="564"/>
                  </a:lnTo>
                  <a:lnTo>
                    <a:pt x="546" y="524"/>
                  </a:lnTo>
                  <a:lnTo>
                    <a:pt x="571" y="443"/>
                  </a:lnTo>
                  <a:lnTo>
                    <a:pt x="591" y="338"/>
                  </a:lnTo>
                  <a:lnTo>
                    <a:pt x="611" y="227"/>
                  </a:lnTo>
                  <a:lnTo>
                    <a:pt x="637" y="121"/>
                  </a:lnTo>
                  <a:lnTo>
                    <a:pt x="657" y="40"/>
                  </a:lnTo>
                  <a:lnTo>
                    <a:pt x="677" y="0"/>
                  </a:lnTo>
                  <a:lnTo>
                    <a:pt x="702" y="5"/>
                  </a:lnTo>
                  <a:lnTo>
                    <a:pt x="722" y="55"/>
                  </a:lnTo>
                  <a:lnTo>
                    <a:pt x="743" y="136"/>
                  </a:lnTo>
                  <a:lnTo>
                    <a:pt x="768" y="247"/>
                  </a:lnTo>
                  <a:lnTo>
                    <a:pt x="788" y="358"/>
                  </a:lnTo>
                  <a:lnTo>
                    <a:pt x="808" y="459"/>
                  </a:lnTo>
                  <a:lnTo>
                    <a:pt x="833" y="534"/>
                  </a:lnTo>
                  <a:lnTo>
                    <a:pt x="854" y="570"/>
                  </a:lnTo>
                  <a:lnTo>
                    <a:pt x="874" y="559"/>
                  </a:lnTo>
                  <a:lnTo>
                    <a:pt x="899" y="504"/>
                  </a:lnTo>
                  <a:lnTo>
                    <a:pt x="919" y="418"/>
                  </a:lnTo>
                  <a:lnTo>
                    <a:pt x="939" y="307"/>
                  </a:lnTo>
                  <a:lnTo>
                    <a:pt x="965" y="191"/>
                  </a:lnTo>
                  <a:lnTo>
                    <a:pt x="985" y="95"/>
                  </a:lnTo>
                  <a:lnTo>
                    <a:pt x="1005" y="25"/>
                  </a:lnTo>
                  <a:lnTo>
                    <a:pt x="1030" y="0"/>
                  </a:lnTo>
                  <a:lnTo>
                    <a:pt x="1051" y="15"/>
                  </a:lnTo>
                  <a:lnTo>
                    <a:pt x="1071" y="75"/>
                  </a:lnTo>
                  <a:lnTo>
                    <a:pt x="1096" y="166"/>
                  </a:lnTo>
                  <a:lnTo>
                    <a:pt x="1116" y="277"/>
                  </a:lnTo>
                  <a:lnTo>
                    <a:pt x="1136" y="388"/>
                  </a:lnTo>
                  <a:lnTo>
                    <a:pt x="1157" y="484"/>
                  </a:lnTo>
                  <a:lnTo>
                    <a:pt x="1182" y="549"/>
                  </a:lnTo>
                  <a:lnTo>
                    <a:pt x="1202" y="570"/>
                  </a:lnTo>
                  <a:lnTo>
                    <a:pt x="1222" y="544"/>
                  </a:lnTo>
                  <a:lnTo>
                    <a:pt x="1247" y="484"/>
                  </a:lnTo>
                  <a:lnTo>
                    <a:pt x="1268" y="383"/>
                  </a:lnTo>
                  <a:lnTo>
                    <a:pt x="1288" y="272"/>
                  </a:lnTo>
                  <a:lnTo>
                    <a:pt x="1313" y="161"/>
                  </a:lnTo>
                  <a:lnTo>
                    <a:pt x="1333" y="70"/>
                  </a:lnTo>
                  <a:lnTo>
                    <a:pt x="1353" y="15"/>
                  </a:lnTo>
                  <a:lnTo>
                    <a:pt x="1379" y="0"/>
                  </a:lnTo>
                  <a:lnTo>
                    <a:pt x="1399" y="30"/>
                  </a:lnTo>
                  <a:lnTo>
                    <a:pt x="1419" y="101"/>
                  </a:lnTo>
                  <a:lnTo>
                    <a:pt x="1444" y="196"/>
                  </a:lnTo>
                  <a:lnTo>
                    <a:pt x="1464" y="312"/>
                  </a:lnTo>
                  <a:lnTo>
                    <a:pt x="1485" y="418"/>
                  </a:lnTo>
                  <a:lnTo>
                    <a:pt x="1510" y="509"/>
                  </a:lnTo>
                  <a:lnTo>
                    <a:pt x="1530" y="559"/>
                  </a:lnTo>
                  <a:lnTo>
                    <a:pt x="1550" y="570"/>
                  </a:lnTo>
                  <a:lnTo>
                    <a:pt x="1576" y="529"/>
                  </a:lnTo>
                  <a:lnTo>
                    <a:pt x="1596" y="459"/>
                  </a:lnTo>
                  <a:lnTo>
                    <a:pt x="1616" y="353"/>
                  </a:lnTo>
                  <a:lnTo>
                    <a:pt x="1641" y="242"/>
                  </a:lnTo>
                  <a:lnTo>
                    <a:pt x="1661" y="131"/>
                  </a:lnTo>
                  <a:lnTo>
                    <a:pt x="1682" y="50"/>
                  </a:lnTo>
                  <a:lnTo>
                    <a:pt x="1707" y="5"/>
                  </a:lnTo>
                  <a:lnTo>
                    <a:pt x="1727" y="0"/>
                  </a:lnTo>
                  <a:lnTo>
                    <a:pt x="1747" y="45"/>
                  </a:lnTo>
                  <a:lnTo>
                    <a:pt x="1772" y="126"/>
                  </a:lnTo>
                  <a:lnTo>
                    <a:pt x="1793" y="232"/>
                  </a:lnTo>
                  <a:lnTo>
                    <a:pt x="1813" y="343"/>
                  </a:lnTo>
                  <a:lnTo>
                    <a:pt x="1838" y="448"/>
                  </a:lnTo>
                  <a:lnTo>
                    <a:pt x="1858" y="529"/>
                  </a:lnTo>
                  <a:lnTo>
                    <a:pt x="1878" y="564"/>
                  </a:lnTo>
                  <a:lnTo>
                    <a:pt x="1904" y="564"/>
                  </a:lnTo>
                  <a:lnTo>
                    <a:pt x="1924" y="514"/>
                  </a:lnTo>
                  <a:lnTo>
                    <a:pt x="1944" y="428"/>
                  </a:lnTo>
                  <a:lnTo>
                    <a:pt x="1969" y="322"/>
                  </a:lnTo>
                  <a:lnTo>
                    <a:pt x="1989" y="206"/>
                  </a:lnTo>
                  <a:lnTo>
                    <a:pt x="2010" y="106"/>
                  </a:lnTo>
                  <a:lnTo>
                    <a:pt x="2035" y="30"/>
                  </a:lnTo>
                  <a:lnTo>
                    <a:pt x="2055" y="0"/>
                  </a:lnTo>
                  <a:lnTo>
                    <a:pt x="2075" y="10"/>
                  </a:lnTo>
                  <a:lnTo>
                    <a:pt x="2101" y="65"/>
                  </a:lnTo>
                  <a:lnTo>
                    <a:pt x="2121" y="156"/>
                  </a:lnTo>
                  <a:lnTo>
                    <a:pt x="2141" y="262"/>
                  </a:lnTo>
                  <a:lnTo>
                    <a:pt x="2166" y="378"/>
                  </a:lnTo>
                </a:path>
              </a:pathLst>
            </a:custGeom>
            <a:noFill/>
            <a:ln cap="rnd" w="255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62040" y="3255840"/>
              <a:ext cx="3440160" cy="1690920"/>
            </a:xfrm>
            <a:custGeom>
              <a:avLst/>
              <a:gdLst/>
              <a:ahLst/>
              <a:rect l="l" t="t" r="r" b="b"/>
              <a:pathLst>
                <a:path w="2167" h="1065">
                  <a:moveTo>
                    <a:pt x="0" y="0"/>
                  </a:moveTo>
                  <a:lnTo>
                    <a:pt x="21" y="20"/>
                  </a:lnTo>
                  <a:lnTo>
                    <a:pt x="46" y="91"/>
                  </a:lnTo>
                  <a:lnTo>
                    <a:pt x="66" y="192"/>
                  </a:lnTo>
                  <a:lnTo>
                    <a:pt x="86" y="318"/>
                  </a:lnTo>
                  <a:lnTo>
                    <a:pt x="112" y="439"/>
                  </a:lnTo>
                  <a:lnTo>
                    <a:pt x="132" y="545"/>
                  </a:lnTo>
                  <a:lnTo>
                    <a:pt x="152" y="620"/>
                  </a:lnTo>
                  <a:lnTo>
                    <a:pt x="177" y="656"/>
                  </a:lnTo>
                  <a:lnTo>
                    <a:pt x="197" y="651"/>
                  </a:lnTo>
                  <a:lnTo>
                    <a:pt x="218" y="605"/>
                  </a:lnTo>
                  <a:lnTo>
                    <a:pt x="243" y="530"/>
                  </a:lnTo>
                  <a:lnTo>
                    <a:pt x="263" y="444"/>
                  </a:lnTo>
                  <a:lnTo>
                    <a:pt x="283" y="363"/>
                  </a:lnTo>
                  <a:lnTo>
                    <a:pt x="308" y="303"/>
                  </a:lnTo>
                  <a:lnTo>
                    <a:pt x="329" y="278"/>
                  </a:lnTo>
                  <a:lnTo>
                    <a:pt x="349" y="298"/>
                  </a:lnTo>
                  <a:lnTo>
                    <a:pt x="374" y="358"/>
                  </a:lnTo>
                  <a:lnTo>
                    <a:pt x="394" y="464"/>
                  </a:lnTo>
                  <a:lnTo>
                    <a:pt x="414" y="590"/>
                  </a:lnTo>
                  <a:lnTo>
                    <a:pt x="440" y="731"/>
                  </a:lnTo>
                  <a:lnTo>
                    <a:pt x="460" y="868"/>
                  </a:lnTo>
                  <a:lnTo>
                    <a:pt x="480" y="973"/>
                  </a:lnTo>
                  <a:lnTo>
                    <a:pt x="505" y="1044"/>
                  </a:lnTo>
                  <a:lnTo>
                    <a:pt x="525" y="1064"/>
                  </a:lnTo>
                  <a:lnTo>
                    <a:pt x="546" y="1044"/>
                  </a:lnTo>
                  <a:lnTo>
                    <a:pt x="571" y="979"/>
                  </a:lnTo>
                  <a:lnTo>
                    <a:pt x="591" y="888"/>
                  </a:lnTo>
                  <a:lnTo>
                    <a:pt x="611" y="782"/>
                  </a:lnTo>
                  <a:lnTo>
                    <a:pt x="637" y="686"/>
                  </a:lnTo>
                  <a:lnTo>
                    <a:pt x="657" y="615"/>
                  </a:lnTo>
                  <a:lnTo>
                    <a:pt x="677" y="575"/>
                  </a:lnTo>
                  <a:lnTo>
                    <a:pt x="702" y="580"/>
                  </a:lnTo>
                  <a:lnTo>
                    <a:pt x="722" y="626"/>
                  </a:lnTo>
                  <a:lnTo>
                    <a:pt x="743" y="701"/>
                  </a:lnTo>
                  <a:lnTo>
                    <a:pt x="768" y="802"/>
                  </a:lnTo>
                  <a:lnTo>
                    <a:pt x="788" y="903"/>
                  </a:lnTo>
                  <a:lnTo>
                    <a:pt x="808" y="994"/>
                  </a:lnTo>
                  <a:lnTo>
                    <a:pt x="833" y="1049"/>
                  </a:lnTo>
                  <a:lnTo>
                    <a:pt x="854" y="1064"/>
                  </a:lnTo>
                  <a:lnTo>
                    <a:pt x="874" y="1034"/>
                  </a:lnTo>
                  <a:lnTo>
                    <a:pt x="899" y="958"/>
                  </a:lnTo>
                  <a:lnTo>
                    <a:pt x="919" y="842"/>
                  </a:lnTo>
                  <a:lnTo>
                    <a:pt x="939" y="711"/>
                  </a:lnTo>
                  <a:lnTo>
                    <a:pt x="965" y="570"/>
                  </a:lnTo>
                  <a:lnTo>
                    <a:pt x="985" y="444"/>
                  </a:lnTo>
                  <a:lnTo>
                    <a:pt x="1005" y="348"/>
                  </a:lnTo>
                  <a:lnTo>
                    <a:pt x="1030" y="288"/>
                  </a:lnTo>
                  <a:lnTo>
                    <a:pt x="1051" y="278"/>
                  </a:lnTo>
                  <a:lnTo>
                    <a:pt x="1071" y="308"/>
                  </a:lnTo>
                  <a:lnTo>
                    <a:pt x="1096" y="373"/>
                  </a:lnTo>
                  <a:lnTo>
                    <a:pt x="1116" y="459"/>
                  </a:lnTo>
                  <a:lnTo>
                    <a:pt x="1136" y="545"/>
                  </a:lnTo>
                  <a:lnTo>
                    <a:pt x="1157" y="615"/>
                  </a:lnTo>
                  <a:lnTo>
                    <a:pt x="1182" y="656"/>
                  </a:lnTo>
                  <a:lnTo>
                    <a:pt x="1202" y="656"/>
                  </a:lnTo>
                  <a:lnTo>
                    <a:pt x="1222" y="610"/>
                  </a:lnTo>
                  <a:lnTo>
                    <a:pt x="1247" y="530"/>
                  </a:lnTo>
                  <a:lnTo>
                    <a:pt x="1268" y="419"/>
                  </a:lnTo>
                  <a:lnTo>
                    <a:pt x="1288" y="293"/>
                  </a:lnTo>
                  <a:lnTo>
                    <a:pt x="1313" y="177"/>
                  </a:lnTo>
                  <a:lnTo>
                    <a:pt x="1333" y="76"/>
                  </a:lnTo>
                  <a:lnTo>
                    <a:pt x="1353" y="15"/>
                  </a:lnTo>
                  <a:lnTo>
                    <a:pt x="1379" y="0"/>
                  </a:lnTo>
                  <a:lnTo>
                    <a:pt x="1399" y="30"/>
                  </a:lnTo>
                  <a:lnTo>
                    <a:pt x="1419" y="106"/>
                  </a:lnTo>
                  <a:lnTo>
                    <a:pt x="1444" y="212"/>
                  </a:lnTo>
                  <a:lnTo>
                    <a:pt x="1464" y="338"/>
                  </a:lnTo>
                  <a:lnTo>
                    <a:pt x="1485" y="459"/>
                  </a:lnTo>
                  <a:lnTo>
                    <a:pt x="1510" y="560"/>
                  </a:lnTo>
                  <a:lnTo>
                    <a:pt x="1530" y="631"/>
                  </a:lnTo>
                  <a:lnTo>
                    <a:pt x="1550" y="661"/>
                  </a:lnTo>
                  <a:lnTo>
                    <a:pt x="1576" y="646"/>
                  </a:lnTo>
                  <a:lnTo>
                    <a:pt x="1596" y="595"/>
                  </a:lnTo>
                  <a:lnTo>
                    <a:pt x="1616" y="515"/>
                  </a:lnTo>
                  <a:lnTo>
                    <a:pt x="1641" y="429"/>
                  </a:lnTo>
                  <a:lnTo>
                    <a:pt x="1661" y="348"/>
                  </a:lnTo>
                  <a:lnTo>
                    <a:pt x="1682" y="293"/>
                  </a:lnTo>
                  <a:lnTo>
                    <a:pt x="1707" y="278"/>
                  </a:lnTo>
                  <a:lnTo>
                    <a:pt x="1727" y="303"/>
                  </a:lnTo>
                  <a:lnTo>
                    <a:pt x="1747" y="373"/>
                  </a:lnTo>
                  <a:lnTo>
                    <a:pt x="1772" y="484"/>
                  </a:lnTo>
                  <a:lnTo>
                    <a:pt x="1793" y="615"/>
                  </a:lnTo>
                  <a:lnTo>
                    <a:pt x="1813" y="757"/>
                  </a:lnTo>
                  <a:lnTo>
                    <a:pt x="1838" y="888"/>
                  </a:lnTo>
                  <a:lnTo>
                    <a:pt x="1858" y="989"/>
                  </a:lnTo>
                  <a:lnTo>
                    <a:pt x="1878" y="1049"/>
                  </a:lnTo>
                  <a:lnTo>
                    <a:pt x="1904" y="1064"/>
                  </a:lnTo>
                  <a:lnTo>
                    <a:pt x="1924" y="1034"/>
                  </a:lnTo>
                  <a:lnTo>
                    <a:pt x="1944" y="963"/>
                  </a:lnTo>
                  <a:lnTo>
                    <a:pt x="1969" y="868"/>
                  </a:lnTo>
                  <a:lnTo>
                    <a:pt x="1989" y="767"/>
                  </a:lnTo>
                  <a:lnTo>
                    <a:pt x="2010" y="671"/>
                  </a:lnTo>
                  <a:lnTo>
                    <a:pt x="2035" y="605"/>
                  </a:lnTo>
                  <a:lnTo>
                    <a:pt x="2055" y="575"/>
                  </a:lnTo>
                  <a:lnTo>
                    <a:pt x="2075" y="585"/>
                  </a:lnTo>
                  <a:lnTo>
                    <a:pt x="2101" y="636"/>
                  </a:lnTo>
                  <a:lnTo>
                    <a:pt x="2121" y="716"/>
                  </a:lnTo>
                  <a:lnTo>
                    <a:pt x="2141" y="817"/>
                  </a:lnTo>
                  <a:lnTo>
                    <a:pt x="2166" y="918"/>
                  </a:lnTo>
                </a:path>
              </a:pathLst>
            </a:custGeom>
            <a:noFill/>
            <a:ln cap="rnd" w="255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rot="16200000">
              <a:off x="-457560" y="3421080"/>
              <a:ext cx="1315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151640" y="5403960"/>
              <a:ext cx="240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Vremenski indeks 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634040" y="1892160"/>
              <a:ext cx="1686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Ulazni signal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98240" y="5794200"/>
              <a:ext cx="12718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Ulaz u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[n]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98240" y="6122880"/>
              <a:ext cx="12718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ff"/>
                  </a:solidFill>
                  <a:latin typeface="Arial"/>
                </a:rPr>
                <a:t>Ulaz u</a:t>
              </a:r>
              <a:r>
                <a:rPr b="0" lang="en-US" sz="2000" spc="-1" strike="noStrike" baseline="-25000">
                  <a:solidFill>
                    <a:srgbClr val="66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66ffff"/>
                  </a:solidFill>
                  <a:latin typeface="Arial"/>
                </a:rPr>
                <a:t>[n]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00040" y="6459480"/>
              <a:ext cx="25002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Arial"/>
                </a:rPr>
                <a:t>Ulaz u[n]=u</a:t>
              </a:r>
              <a:r>
                <a:rPr b="0" lang="en-US" sz="2000" spc="-1" strike="noStrike" baseline="-25000">
                  <a:solidFill>
                    <a:srgbClr val="ff0033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ff0033"/>
                  </a:solidFill>
                  <a:latin typeface="Arial"/>
                </a:rPr>
                <a:t>[n]+u</a:t>
              </a:r>
              <a:r>
                <a:rPr b="0" lang="en-US" sz="2000" spc="-1" strike="noStrike" baseline="-25000">
                  <a:solidFill>
                    <a:srgbClr val="ff0033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ff0033"/>
                  </a:solidFill>
                  <a:latin typeface="Arial"/>
                </a:rPr>
                <a:t>[n]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4519440" y="1854360"/>
            <a:ext cx="4624200" cy="4793040"/>
            <a:chOff x="4519440" y="1854360"/>
            <a:chExt cx="4624200" cy="4793040"/>
          </a:xfrm>
        </p:grpSpPr>
        <p:sp>
          <p:nvSpPr>
            <p:cNvPr id="1144" name=""/>
            <p:cNvSpPr/>
            <p:nvPr/>
          </p:nvSpPr>
          <p:spPr>
            <a:xfrm flipV="1">
              <a:off x="5332320" y="2304720"/>
              <a:ext cx="0" cy="2730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6031080" y="2304720"/>
              <a:ext cx="0" cy="2730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6719760" y="2304720"/>
              <a:ext cx="0" cy="2730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7416720" y="2304720"/>
              <a:ext cx="0" cy="2730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8105760" y="2304720"/>
              <a:ext cx="0" cy="2730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8802720" y="2304720"/>
              <a:ext cx="0" cy="2730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332320" y="5035680"/>
              <a:ext cx="34704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332320" y="4579920"/>
              <a:ext cx="34704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332320" y="4122720"/>
              <a:ext cx="34704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332320" y="3675240"/>
              <a:ext cx="34704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332320" y="3218040"/>
              <a:ext cx="34704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332320" y="2762280"/>
              <a:ext cx="34704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332320" y="2305080"/>
              <a:ext cx="34704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32320" y="2305080"/>
              <a:ext cx="3471840" cy="2732040"/>
            </a:xfrm>
            <a:custGeom>
              <a:avLst/>
              <a:gdLst/>
              <a:ahLst/>
              <a:rect l="l" t="t" r="r" b="b"/>
              <a:pathLst>
                <a:path w="2187" h="1721">
                  <a:moveTo>
                    <a:pt x="0" y="1720"/>
                  </a:moveTo>
                  <a:lnTo>
                    <a:pt x="0" y="0"/>
                  </a:lnTo>
                  <a:lnTo>
                    <a:pt x="2186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332320" y="2305080"/>
              <a:ext cx="3471840" cy="2732040"/>
            </a:xfrm>
            <a:custGeom>
              <a:avLst/>
              <a:gdLst/>
              <a:ahLst/>
              <a:rect l="l" t="t" r="r" b="b"/>
              <a:pathLst>
                <a:path w="2187" h="1721">
                  <a:moveTo>
                    <a:pt x="0" y="1720"/>
                  </a:moveTo>
                  <a:lnTo>
                    <a:pt x="0" y="0"/>
                  </a:lnTo>
                  <a:lnTo>
                    <a:pt x="2186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332320" y="2305080"/>
              <a:ext cx="3471840" cy="2732040"/>
            </a:xfrm>
            <a:custGeom>
              <a:avLst/>
              <a:gdLst/>
              <a:ahLst/>
              <a:rect l="l" t="t" r="r" b="b"/>
              <a:pathLst>
                <a:path w="2187" h="1721">
                  <a:moveTo>
                    <a:pt x="0" y="1720"/>
                  </a:moveTo>
                  <a:lnTo>
                    <a:pt x="0" y="0"/>
                  </a:lnTo>
                  <a:lnTo>
                    <a:pt x="2186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332320" y="5035680"/>
              <a:ext cx="34704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332320" y="2305080"/>
              <a:ext cx="34704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5332320" y="2304720"/>
              <a:ext cx="0" cy="2730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8802720" y="2304720"/>
              <a:ext cx="0" cy="2730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332320" y="230508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332320" y="5035680"/>
              <a:ext cx="34704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5332320" y="2304720"/>
              <a:ext cx="0" cy="2730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332320" y="503568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5332320" y="5003280"/>
              <a:ext cx="0" cy="3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332320" y="2305080"/>
              <a:ext cx="0" cy="33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6031080" y="5003280"/>
              <a:ext cx="0" cy="3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031080" y="2305080"/>
              <a:ext cx="0" cy="33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6719760" y="5003280"/>
              <a:ext cx="0" cy="3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719760" y="2305080"/>
              <a:ext cx="0" cy="33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7416720" y="5003280"/>
              <a:ext cx="0" cy="3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416720" y="2305080"/>
              <a:ext cx="0" cy="33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8105760" y="5003280"/>
              <a:ext cx="0" cy="3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105760" y="2305080"/>
              <a:ext cx="0" cy="33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8802720" y="5003280"/>
              <a:ext cx="0" cy="3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802720" y="2305080"/>
              <a:ext cx="0" cy="33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332320" y="503568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>
              <a:off x="8771040" y="503568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332320" y="457992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>
              <a:off x="8771040" y="457992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332320" y="412272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>
              <a:off x="8771040" y="412272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332320" y="367524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8771040" y="367524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332320" y="321804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8771040" y="321804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332320" y="276228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8771040" y="276228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332320" y="230508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8771040" y="230508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4867560" y="2075040"/>
              <a:ext cx="412200" cy="3127680"/>
              <a:chOff x="4867560" y="2075040"/>
              <a:chExt cx="412200" cy="3127680"/>
            </a:xfrm>
          </p:grpSpPr>
          <p:sp>
            <p:nvSpPr>
              <p:cNvPr id="1195" name=""/>
              <p:cNvSpPr/>
              <p:nvPr/>
            </p:nvSpPr>
            <p:spPr>
              <a:xfrm>
                <a:off x="4867560" y="4805280"/>
                <a:ext cx="412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867560" y="4348080"/>
                <a:ext cx="412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907880" y="38926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907880" y="34434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907880" y="298764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907880" y="253044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907880" y="207504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2" name=""/>
            <p:cNvSpPr/>
            <p:nvPr/>
          </p:nvSpPr>
          <p:spPr>
            <a:xfrm>
              <a:off x="5332320" y="5035680"/>
              <a:ext cx="34704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332320" y="2305080"/>
              <a:ext cx="34704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5332320" y="2304720"/>
              <a:ext cx="0" cy="2730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8802720" y="2304720"/>
              <a:ext cx="0" cy="2730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332320" y="503568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332320" y="3218040"/>
              <a:ext cx="3440160" cy="1690560"/>
            </a:xfrm>
            <a:custGeom>
              <a:avLst/>
              <a:gdLst/>
              <a:ahLst/>
              <a:rect l="l" t="t" r="r" b="b"/>
              <a:pathLst>
                <a:path w="2167" h="1065">
                  <a:moveTo>
                    <a:pt x="0" y="0"/>
                  </a:moveTo>
                  <a:lnTo>
                    <a:pt x="21" y="20"/>
                  </a:lnTo>
                  <a:lnTo>
                    <a:pt x="46" y="91"/>
                  </a:lnTo>
                  <a:lnTo>
                    <a:pt x="66" y="192"/>
                  </a:lnTo>
                  <a:lnTo>
                    <a:pt x="86" y="318"/>
                  </a:lnTo>
                  <a:lnTo>
                    <a:pt x="112" y="439"/>
                  </a:lnTo>
                  <a:lnTo>
                    <a:pt x="132" y="545"/>
                  </a:lnTo>
                  <a:lnTo>
                    <a:pt x="152" y="620"/>
                  </a:lnTo>
                  <a:lnTo>
                    <a:pt x="177" y="656"/>
                  </a:lnTo>
                  <a:lnTo>
                    <a:pt x="197" y="651"/>
                  </a:lnTo>
                  <a:lnTo>
                    <a:pt x="218" y="605"/>
                  </a:lnTo>
                  <a:lnTo>
                    <a:pt x="243" y="530"/>
                  </a:lnTo>
                  <a:lnTo>
                    <a:pt x="263" y="444"/>
                  </a:lnTo>
                  <a:lnTo>
                    <a:pt x="283" y="363"/>
                  </a:lnTo>
                  <a:lnTo>
                    <a:pt x="308" y="303"/>
                  </a:lnTo>
                  <a:lnTo>
                    <a:pt x="329" y="278"/>
                  </a:lnTo>
                  <a:lnTo>
                    <a:pt x="349" y="298"/>
                  </a:lnTo>
                  <a:lnTo>
                    <a:pt x="374" y="358"/>
                  </a:lnTo>
                  <a:lnTo>
                    <a:pt x="394" y="464"/>
                  </a:lnTo>
                  <a:lnTo>
                    <a:pt x="414" y="590"/>
                  </a:lnTo>
                  <a:lnTo>
                    <a:pt x="440" y="731"/>
                  </a:lnTo>
                  <a:lnTo>
                    <a:pt x="460" y="868"/>
                  </a:lnTo>
                  <a:lnTo>
                    <a:pt x="480" y="973"/>
                  </a:lnTo>
                  <a:lnTo>
                    <a:pt x="505" y="1044"/>
                  </a:lnTo>
                  <a:lnTo>
                    <a:pt x="525" y="1064"/>
                  </a:lnTo>
                  <a:lnTo>
                    <a:pt x="546" y="1044"/>
                  </a:lnTo>
                  <a:lnTo>
                    <a:pt x="571" y="979"/>
                  </a:lnTo>
                  <a:lnTo>
                    <a:pt x="591" y="888"/>
                  </a:lnTo>
                  <a:lnTo>
                    <a:pt x="611" y="782"/>
                  </a:lnTo>
                  <a:lnTo>
                    <a:pt x="637" y="686"/>
                  </a:lnTo>
                  <a:lnTo>
                    <a:pt x="657" y="615"/>
                  </a:lnTo>
                  <a:lnTo>
                    <a:pt x="677" y="575"/>
                  </a:lnTo>
                  <a:lnTo>
                    <a:pt x="702" y="580"/>
                  </a:lnTo>
                  <a:lnTo>
                    <a:pt x="722" y="626"/>
                  </a:lnTo>
                  <a:lnTo>
                    <a:pt x="743" y="701"/>
                  </a:lnTo>
                  <a:lnTo>
                    <a:pt x="768" y="802"/>
                  </a:lnTo>
                  <a:lnTo>
                    <a:pt x="788" y="903"/>
                  </a:lnTo>
                  <a:lnTo>
                    <a:pt x="808" y="994"/>
                  </a:lnTo>
                  <a:lnTo>
                    <a:pt x="833" y="1049"/>
                  </a:lnTo>
                  <a:lnTo>
                    <a:pt x="854" y="1064"/>
                  </a:lnTo>
                  <a:lnTo>
                    <a:pt x="874" y="1034"/>
                  </a:lnTo>
                  <a:lnTo>
                    <a:pt x="899" y="958"/>
                  </a:lnTo>
                  <a:lnTo>
                    <a:pt x="919" y="842"/>
                  </a:lnTo>
                  <a:lnTo>
                    <a:pt x="939" y="711"/>
                  </a:lnTo>
                  <a:lnTo>
                    <a:pt x="965" y="570"/>
                  </a:lnTo>
                  <a:lnTo>
                    <a:pt x="985" y="444"/>
                  </a:lnTo>
                  <a:lnTo>
                    <a:pt x="1005" y="348"/>
                  </a:lnTo>
                  <a:lnTo>
                    <a:pt x="1030" y="288"/>
                  </a:lnTo>
                  <a:lnTo>
                    <a:pt x="1051" y="278"/>
                  </a:lnTo>
                  <a:lnTo>
                    <a:pt x="1071" y="308"/>
                  </a:lnTo>
                  <a:lnTo>
                    <a:pt x="1096" y="373"/>
                  </a:lnTo>
                  <a:lnTo>
                    <a:pt x="1116" y="459"/>
                  </a:lnTo>
                  <a:lnTo>
                    <a:pt x="1136" y="545"/>
                  </a:lnTo>
                  <a:lnTo>
                    <a:pt x="1157" y="615"/>
                  </a:lnTo>
                  <a:lnTo>
                    <a:pt x="1182" y="656"/>
                  </a:lnTo>
                  <a:lnTo>
                    <a:pt x="1202" y="656"/>
                  </a:lnTo>
                  <a:lnTo>
                    <a:pt x="1222" y="610"/>
                  </a:lnTo>
                  <a:lnTo>
                    <a:pt x="1247" y="530"/>
                  </a:lnTo>
                  <a:lnTo>
                    <a:pt x="1268" y="419"/>
                  </a:lnTo>
                  <a:lnTo>
                    <a:pt x="1288" y="293"/>
                  </a:lnTo>
                  <a:lnTo>
                    <a:pt x="1313" y="177"/>
                  </a:lnTo>
                  <a:lnTo>
                    <a:pt x="1333" y="76"/>
                  </a:lnTo>
                  <a:lnTo>
                    <a:pt x="1353" y="15"/>
                  </a:lnTo>
                  <a:lnTo>
                    <a:pt x="1379" y="0"/>
                  </a:lnTo>
                  <a:lnTo>
                    <a:pt x="1399" y="30"/>
                  </a:lnTo>
                  <a:lnTo>
                    <a:pt x="1419" y="106"/>
                  </a:lnTo>
                  <a:lnTo>
                    <a:pt x="1444" y="212"/>
                  </a:lnTo>
                  <a:lnTo>
                    <a:pt x="1464" y="338"/>
                  </a:lnTo>
                  <a:lnTo>
                    <a:pt x="1485" y="459"/>
                  </a:lnTo>
                  <a:lnTo>
                    <a:pt x="1510" y="560"/>
                  </a:lnTo>
                  <a:lnTo>
                    <a:pt x="1530" y="631"/>
                  </a:lnTo>
                  <a:lnTo>
                    <a:pt x="1550" y="661"/>
                  </a:lnTo>
                  <a:lnTo>
                    <a:pt x="1576" y="646"/>
                  </a:lnTo>
                  <a:lnTo>
                    <a:pt x="1596" y="595"/>
                  </a:lnTo>
                  <a:lnTo>
                    <a:pt x="1616" y="515"/>
                  </a:lnTo>
                  <a:lnTo>
                    <a:pt x="1641" y="429"/>
                  </a:lnTo>
                  <a:lnTo>
                    <a:pt x="1661" y="348"/>
                  </a:lnTo>
                  <a:lnTo>
                    <a:pt x="1682" y="293"/>
                  </a:lnTo>
                  <a:lnTo>
                    <a:pt x="1707" y="278"/>
                  </a:lnTo>
                  <a:lnTo>
                    <a:pt x="1727" y="303"/>
                  </a:lnTo>
                  <a:lnTo>
                    <a:pt x="1747" y="373"/>
                  </a:lnTo>
                  <a:lnTo>
                    <a:pt x="1772" y="484"/>
                  </a:lnTo>
                  <a:lnTo>
                    <a:pt x="1793" y="615"/>
                  </a:lnTo>
                  <a:lnTo>
                    <a:pt x="1813" y="757"/>
                  </a:lnTo>
                  <a:lnTo>
                    <a:pt x="1838" y="888"/>
                  </a:lnTo>
                  <a:lnTo>
                    <a:pt x="1858" y="989"/>
                  </a:lnTo>
                  <a:lnTo>
                    <a:pt x="1878" y="1049"/>
                  </a:lnTo>
                  <a:lnTo>
                    <a:pt x="1904" y="1064"/>
                  </a:lnTo>
                  <a:lnTo>
                    <a:pt x="1924" y="1034"/>
                  </a:lnTo>
                  <a:lnTo>
                    <a:pt x="1944" y="963"/>
                  </a:lnTo>
                  <a:lnTo>
                    <a:pt x="1969" y="868"/>
                  </a:lnTo>
                  <a:lnTo>
                    <a:pt x="1989" y="767"/>
                  </a:lnTo>
                  <a:lnTo>
                    <a:pt x="2010" y="671"/>
                  </a:lnTo>
                  <a:lnTo>
                    <a:pt x="2035" y="605"/>
                  </a:lnTo>
                  <a:lnTo>
                    <a:pt x="2055" y="575"/>
                  </a:lnTo>
                  <a:lnTo>
                    <a:pt x="2075" y="585"/>
                  </a:lnTo>
                  <a:lnTo>
                    <a:pt x="2101" y="636"/>
                  </a:lnTo>
                  <a:lnTo>
                    <a:pt x="2121" y="716"/>
                  </a:lnTo>
                  <a:lnTo>
                    <a:pt x="2141" y="817"/>
                  </a:lnTo>
                  <a:lnTo>
                    <a:pt x="2166" y="918"/>
                  </a:lnTo>
                </a:path>
              </a:pathLst>
            </a:custGeom>
            <a:noFill/>
            <a:ln cap="rnd" w="255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389560" y="2057400"/>
              <a:ext cx="3382920" cy="2523960"/>
            </a:xfrm>
            <a:custGeom>
              <a:avLst/>
              <a:gdLst/>
              <a:ahLst/>
              <a:rect l="l" t="t" r="r" b="b"/>
              <a:pathLst>
                <a:path w="2131" h="1590">
                  <a:moveTo>
                    <a:pt x="0" y="0"/>
                  </a:moveTo>
                  <a:lnTo>
                    <a:pt x="10" y="1039"/>
                  </a:lnTo>
                  <a:lnTo>
                    <a:pt x="30" y="1104"/>
                  </a:lnTo>
                  <a:lnTo>
                    <a:pt x="50" y="1200"/>
                  </a:lnTo>
                  <a:lnTo>
                    <a:pt x="76" y="1311"/>
                  </a:lnTo>
                  <a:lnTo>
                    <a:pt x="96" y="1422"/>
                  </a:lnTo>
                  <a:lnTo>
                    <a:pt x="116" y="1513"/>
                  </a:lnTo>
                  <a:lnTo>
                    <a:pt x="141" y="1573"/>
                  </a:lnTo>
                  <a:lnTo>
                    <a:pt x="161" y="1589"/>
                  </a:lnTo>
                  <a:lnTo>
                    <a:pt x="182" y="1558"/>
                  </a:lnTo>
                  <a:lnTo>
                    <a:pt x="207" y="1488"/>
                  </a:lnTo>
                  <a:lnTo>
                    <a:pt x="227" y="1392"/>
                  </a:lnTo>
                  <a:lnTo>
                    <a:pt x="247" y="1276"/>
                  </a:lnTo>
                  <a:lnTo>
                    <a:pt x="272" y="1170"/>
                  </a:lnTo>
                  <a:lnTo>
                    <a:pt x="293" y="1079"/>
                  </a:lnTo>
                  <a:lnTo>
                    <a:pt x="313" y="1029"/>
                  </a:lnTo>
                  <a:lnTo>
                    <a:pt x="338" y="1019"/>
                  </a:lnTo>
                  <a:lnTo>
                    <a:pt x="358" y="1054"/>
                  </a:lnTo>
                  <a:lnTo>
                    <a:pt x="378" y="1130"/>
                  </a:lnTo>
                  <a:lnTo>
                    <a:pt x="404" y="1230"/>
                  </a:lnTo>
                  <a:lnTo>
                    <a:pt x="424" y="1346"/>
                  </a:lnTo>
                  <a:lnTo>
                    <a:pt x="444" y="1452"/>
                  </a:lnTo>
                  <a:lnTo>
                    <a:pt x="469" y="1533"/>
                  </a:lnTo>
                  <a:lnTo>
                    <a:pt x="489" y="1583"/>
                  </a:lnTo>
                  <a:lnTo>
                    <a:pt x="510" y="1583"/>
                  </a:lnTo>
                  <a:lnTo>
                    <a:pt x="535" y="1543"/>
                  </a:lnTo>
                  <a:lnTo>
                    <a:pt x="555" y="1462"/>
                  </a:lnTo>
                  <a:lnTo>
                    <a:pt x="575" y="1357"/>
                  </a:lnTo>
                  <a:lnTo>
                    <a:pt x="601" y="1246"/>
                  </a:lnTo>
                  <a:lnTo>
                    <a:pt x="621" y="1140"/>
                  </a:lnTo>
                  <a:lnTo>
                    <a:pt x="641" y="1059"/>
                  </a:lnTo>
                  <a:lnTo>
                    <a:pt x="666" y="1019"/>
                  </a:lnTo>
                  <a:lnTo>
                    <a:pt x="686" y="1024"/>
                  </a:lnTo>
                  <a:lnTo>
                    <a:pt x="707" y="1074"/>
                  </a:lnTo>
                  <a:lnTo>
                    <a:pt x="732" y="1155"/>
                  </a:lnTo>
                  <a:lnTo>
                    <a:pt x="752" y="1266"/>
                  </a:lnTo>
                  <a:lnTo>
                    <a:pt x="772" y="1377"/>
                  </a:lnTo>
                  <a:lnTo>
                    <a:pt x="797" y="1478"/>
                  </a:lnTo>
                  <a:lnTo>
                    <a:pt x="818" y="1553"/>
                  </a:lnTo>
                  <a:lnTo>
                    <a:pt x="838" y="1589"/>
                  </a:lnTo>
                  <a:lnTo>
                    <a:pt x="863" y="1578"/>
                  </a:lnTo>
                  <a:lnTo>
                    <a:pt x="883" y="1523"/>
                  </a:lnTo>
                  <a:lnTo>
                    <a:pt x="903" y="1437"/>
                  </a:lnTo>
                  <a:lnTo>
                    <a:pt x="929" y="1326"/>
                  </a:lnTo>
                  <a:lnTo>
                    <a:pt x="949" y="1210"/>
                  </a:lnTo>
                  <a:lnTo>
                    <a:pt x="969" y="1114"/>
                  </a:lnTo>
                  <a:lnTo>
                    <a:pt x="994" y="1044"/>
                  </a:lnTo>
                  <a:lnTo>
                    <a:pt x="1015" y="1019"/>
                  </a:lnTo>
                  <a:lnTo>
                    <a:pt x="1035" y="1034"/>
                  </a:lnTo>
                  <a:lnTo>
                    <a:pt x="1060" y="1094"/>
                  </a:lnTo>
                  <a:lnTo>
                    <a:pt x="1080" y="1185"/>
                  </a:lnTo>
                  <a:lnTo>
                    <a:pt x="1100" y="1296"/>
                  </a:lnTo>
                  <a:lnTo>
                    <a:pt x="1121" y="1407"/>
                  </a:lnTo>
                  <a:lnTo>
                    <a:pt x="1146" y="1503"/>
                  </a:lnTo>
                  <a:lnTo>
                    <a:pt x="1166" y="1568"/>
                  </a:lnTo>
                  <a:lnTo>
                    <a:pt x="1186" y="1589"/>
                  </a:lnTo>
                  <a:lnTo>
                    <a:pt x="1211" y="1563"/>
                  </a:lnTo>
                  <a:lnTo>
                    <a:pt x="1232" y="1503"/>
                  </a:lnTo>
                  <a:lnTo>
                    <a:pt x="1252" y="1402"/>
                  </a:lnTo>
                  <a:lnTo>
                    <a:pt x="1277" y="1291"/>
                  </a:lnTo>
                  <a:lnTo>
                    <a:pt x="1297" y="1180"/>
                  </a:lnTo>
                  <a:lnTo>
                    <a:pt x="1317" y="1089"/>
                  </a:lnTo>
                  <a:lnTo>
                    <a:pt x="1343" y="1034"/>
                  </a:lnTo>
                  <a:lnTo>
                    <a:pt x="1363" y="1019"/>
                  </a:lnTo>
                  <a:lnTo>
                    <a:pt x="1383" y="1049"/>
                  </a:lnTo>
                  <a:lnTo>
                    <a:pt x="1408" y="1120"/>
                  </a:lnTo>
                  <a:lnTo>
                    <a:pt x="1428" y="1215"/>
                  </a:lnTo>
                  <a:lnTo>
                    <a:pt x="1449" y="1331"/>
                  </a:lnTo>
                  <a:lnTo>
                    <a:pt x="1474" y="1437"/>
                  </a:lnTo>
                  <a:lnTo>
                    <a:pt x="1494" y="1528"/>
                  </a:lnTo>
                  <a:lnTo>
                    <a:pt x="1514" y="1578"/>
                  </a:lnTo>
                  <a:lnTo>
                    <a:pt x="1540" y="1589"/>
                  </a:lnTo>
                  <a:lnTo>
                    <a:pt x="1560" y="1548"/>
                  </a:lnTo>
                  <a:lnTo>
                    <a:pt x="1580" y="1478"/>
                  </a:lnTo>
                  <a:lnTo>
                    <a:pt x="1605" y="1372"/>
                  </a:lnTo>
                  <a:lnTo>
                    <a:pt x="1625" y="1261"/>
                  </a:lnTo>
                  <a:lnTo>
                    <a:pt x="1646" y="1150"/>
                  </a:lnTo>
                  <a:lnTo>
                    <a:pt x="1671" y="1069"/>
                  </a:lnTo>
                  <a:lnTo>
                    <a:pt x="1691" y="1024"/>
                  </a:lnTo>
                  <a:lnTo>
                    <a:pt x="1711" y="1019"/>
                  </a:lnTo>
                  <a:lnTo>
                    <a:pt x="1736" y="1064"/>
                  </a:lnTo>
                  <a:lnTo>
                    <a:pt x="1757" y="1145"/>
                  </a:lnTo>
                  <a:lnTo>
                    <a:pt x="1777" y="1251"/>
                  </a:lnTo>
                  <a:lnTo>
                    <a:pt x="1802" y="1362"/>
                  </a:lnTo>
                  <a:lnTo>
                    <a:pt x="1822" y="1467"/>
                  </a:lnTo>
                  <a:lnTo>
                    <a:pt x="1842" y="1548"/>
                  </a:lnTo>
                  <a:lnTo>
                    <a:pt x="1868" y="1583"/>
                  </a:lnTo>
                  <a:lnTo>
                    <a:pt x="1888" y="1583"/>
                  </a:lnTo>
                  <a:lnTo>
                    <a:pt x="1908" y="1533"/>
                  </a:lnTo>
                  <a:lnTo>
                    <a:pt x="1933" y="1447"/>
                  </a:lnTo>
                  <a:lnTo>
                    <a:pt x="1953" y="1341"/>
                  </a:lnTo>
                  <a:lnTo>
                    <a:pt x="1974" y="1225"/>
                  </a:lnTo>
                  <a:lnTo>
                    <a:pt x="1999" y="1125"/>
                  </a:lnTo>
                  <a:lnTo>
                    <a:pt x="2019" y="1049"/>
                  </a:lnTo>
                  <a:lnTo>
                    <a:pt x="2039" y="1019"/>
                  </a:lnTo>
                  <a:lnTo>
                    <a:pt x="2065" y="1029"/>
                  </a:lnTo>
                  <a:lnTo>
                    <a:pt x="2085" y="1084"/>
                  </a:lnTo>
                  <a:lnTo>
                    <a:pt x="2105" y="1175"/>
                  </a:lnTo>
                  <a:lnTo>
                    <a:pt x="2130" y="1281"/>
                  </a:lnTo>
                </a:path>
              </a:pathLst>
            </a:custGeom>
            <a:noFill/>
            <a:ln cap="rnd" w="25560">
              <a:solidFill>
                <a:srgbClr val="00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rot="16200000">
              <a:off x="4060080" y="3459240"/>
              <a:ext cx="1315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430600" y="1854360"/>
              <a:ext cx="3396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Ulazni signal / filtrirani sign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259240" y="5769000"/>
              <a:ext cx="25002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Arial"/>
                </a:rPr>
                <a:t>Ulaz u[n]=u</a:t>
              </a:r>
              <a:r>
                <a:rPr b="0" lang="en-US" sz="2000" spc="-1" strike="noStrike" baseline="-25000">
                  <a:solidFill>
                    <a:srgbClr val="ff0033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ff0033"/>
                  </a:solidFill>
                  <a:latin typeface="Arial"/>
                </a:rPr>
                <a:t>[n]+u</a:t>
              </a:r>
              <a:r>
                <a:rPr b="0" lang="en-US" sz="2000" spc="-1" strike="noStrike" baseline="-25000">
                  <a:solidFill>
                    <a:srgbClr val="ff0033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ff0033"/>
                  </a:solidFill>
                  <a:latin typeface="Arial"/>
                </a:rPr>
                <a:t>[n]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252040" y="624996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66"/>
                  </a:solidFill>
                  <a:latin typeface="Arial"/>
                </a:rPr>
                <a:t>Izlaz y[n]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3" name=""/>
            <p:cNvGrpSpPr/>
            <p:nvPr/>
          </p:nvGrpSpPr>
          <p:grpSpPr>
            <a:xfrm>
              <a:off x="5134680" y="5099040"/>
              <a:ext cx="4008960" cy="397440"/>
              <a:chOff x="5134680" y="5099040"/>
              <a:chExt cx="4008960" cy="397440"/>
            </a:xfrm>
          </p:grpSpPr>
          <p:sp>
            <p:nvSpPr>
              <p:cNvPr id="1214" name=""/>
              <p:cNvSpPr/>
              <p:nvPr/>
            </p:nvSpPr>
            <p:spPr>
              <a:xfrm>
                <a:off x="5134680" y="509904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792040" y="509904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2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481080" y="509904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4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179480" y="509904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6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868520" y="509904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8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533440" y="5099040"/>
                <a:ext cx="610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10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>
              <a:off x="5825520" y="5403960"/>
              <a:ext cx="240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Vremenski indeks 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76320" y="228564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dfca"/>
                </a:solidFill>
                <a:latin typeface="Times New Roman"/>
              </a:rPr>
              <a:t>Nerekurzivni digitalni filtri</a:t>
            </a:r>
            <a:br>
              <a:rPr sz="4400"/>
            </a:br>
            <a:r>
              <a:rPr b="0" i="1" lang="hr-HR" sz="4400" spc="-1" strike="noStrike">
                <a:solidFill>
                  <a:srgbClr val="00dfca"/>
                </a:solidFill>
                <a:latin typeface="Times New Roman"/>
              </a:rPr>
              <a:t>(Projektiranje vremenskim otvorima)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Digitalna obradba signal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709800" y="6076440"/>
            <a:ext cx="1759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S&amp;S - 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261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Primjer - aritmetička sredina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022560" y="1809720"/>
                <a:ext cx="26971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2362320" y="3333600"/>
            <a:ext cx="3902040" cy="790560"/>
            <a:chOff x="2362320" y="3333600"/>
            <a:chExt cx="3902040" cy="790560"/>
          </a:xfrm>
        </p:grpSpPr>
        <p:grpSp>
          <p:nvGrpSpPr>
            <p:cNvPr id="111" name=""/>
            <p:cNvGrpSpPr/>
            <p:nvPr/>
          </p:nvGrpSpPr>
          <p:grpSpPr>
            <a:xfrm>
              <a:off x="2378160" y="3479760"/>
              <a:ext cx="504720" cy="411120"/>
              <a:chOff x="2378160" y="3479760"/>
              <a:chExt cx="504720" cy="411120"/>
            </a:xfrm>
          </p:grpSpPr>
          <p:sp>
            <p:nvSpPr>
              <p:cNvPr id="112" name=""/>
              <p:cNvSpPr/>
              <p:nvPr/>
            </p:nvSpPr>
            <p:spPr>
              <a:xfrm>
                <a:off x="2378160" y="3565440"/>
                <a:ext cx="57240" cy="63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492280" y="3479760"/>
                <a:ext cx="57240" cy="63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06760" y="3565440"/>
                <a:ext cx="57240" cy="63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711520" y="3651120"/>
                <a:ext cx="57240" cy="619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825640" y="3565440"/>
                <a:ext cx="57240" cy="63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406600" y="3597120"/>
                <a:ext cx="0" cy="293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2521080" y="3511440"/>
                <a:ext cx="0" cy="37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2635200" y="3597120"/>
                <a:ext cx="0" cy="293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2739960" y="3682800"/>
                <a:ext cx="0" cy="207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2854440" y="3597120"/>
                <a:ext cx="0" cy="293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2362320" y="3892680"/>
              <a:ext cx="8906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97360" y="3375000"/>
              <a:ext cx="1458720" cy="749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62560" y="3760920"/>
              <a:ext cx="439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63760" y="3749760"/>
              <a:ext cx="627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22600" y="3535200"/>
              <a:ext cx="35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65280" y="33336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840" y="3500280"/>
              <a:ext cx="3895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i="1" lang="hr-HR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FIR-filtri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dfca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tri s linearnom faz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dfca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etrija impulsnog odziva je nužan preduvjet za linearnu faz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dfca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isno o tipu simetrije impulsnog odziva definiramo četiri tipa FIR filtra sa realnim impulsnim odzivom duljine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N+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Tipovi FIR-filtara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527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ff66"/>
                </a:solidFill>
                <a:latin typeface="Symbol"/>
                <a:ea typeface="Symbol"/>
              </a:rPr>
              <a:t>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Tip 1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 simetričan impulsni odziv</a:t>
            </a:r>
            <a:br>
              <a:rPr sz="2800"/>
            </a:b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 neparan broj uzoraka impulsnog odz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527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ff66"/>
                </a:solidFill>
                <a:latin typeface="Symbol"/>
                <a:ea typeface="Symbol"/>
              </a:rPr>
              <a:t>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Tip 2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 simetričan impulsni odziv</a:t>
            </a:r>
            <a:br>
              <a:rPr sz="2800"/>
            </a:b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 paran broj uzoraka impulsnog odz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527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ff66"/>
                </a:solidFill>
                <a:latin typeface="Symbol"/>
                <a:ea typeface="Symbol"/>
              </a:rPr>
              <a:t>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Tip 3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 antisimetričan impulsni odziv</a:t>
            </a:r>
            <a:br>
              <a:rPr sz="2800"/>
            </a:b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 neparan broj uzoraka impulsnog odz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527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ff66"/>
                </a:solidFill>
                <a:latin typeface="Symbol"/>
                <a:ea typeface="Symbol"/>
              </a:rPr>
              <a:t>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Tip 4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 antisimetričan impulsni odziv</a:t>
            </a:r>
            <a:br>
              <a:rPr sz="2800"/>
            </a:b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 paran broj uzoraka impulsnog odz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Tip 1 FIR filtra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ulsni odziv zadovoljava slijedeći uvj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0" name=""/>
          <p:cNvGraphicFramePr/>
          <p:nvPr/>
        </p:nvGraphicFramePr>
        <p:xfrm>
          <a:off x="2124000" y="2817720"/>
          <a:ext cx="4865760" cy="5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817720"/>
                    <a:ext cx="48657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2" name=""/>
          <p:cNvSpPr/>
          <p:nvPr/>
        </p:nvSpPr>
        <p:spPr>
          <a:xfrm>
            <a:off x="685800" y="33526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 daljnje razmatranje pretpostavimo </a:t>
            </a: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=8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U tom slučaju prijenosna funkcija filtra 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566640" y="4619520"/>
                <a:ext cx="822024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7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8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8580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Tip 1 FIR filtra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ma definiciji tipa 1 FIR filtra za </a:t>
            </a: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=8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rije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990720" y="2057400"/>
                <a:ext cx="71816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8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7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6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5</m:t>
                    </m:r>
                    <m:r>
                      <m:t xml:space="preserve">]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762120" y="2590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 se prethodni izraz može pojednostavi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181080" y="3200400"/>
                <a:ext cx="812484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]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8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7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+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1038240" y="4422600"/>
                <a:ext cx="8105760" cy="10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]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rPr>
                            <m:lit/>
                            <m:nor/>
                          </m:rPr>
                          <m:t xml:space="preserve">+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1038240" y="5611680"/>
                <a:ext cx="680400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[</m:t>
                            </m:r>
                            <m:r>
                              <m:t xml:space="preserve">0</m:t>
                            </m:r>
                            <m:r>
                              <m:t xml:space="preserve">]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+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4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Tip 1 FIR filtra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padna frekvencijska k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403200" y="2529000"/>
                <a:ext cx="825984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w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  <m:r>
                              <m:t xml:space="preserve">[</m:t>
                            </m:r>
                            <m:r>
                              <m:t xml:space="preserve">0</m:t>
                            </m:r>
                            <m:r>
                              <m:t xml:space="preserve">]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w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w</m:t>
                                </m:r>
                              </m:e>
                            </m:d>
                            <m:r>
                              <m:t xml:space="preserve">+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w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w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4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44" name=""/>
          <p:cNvSpPr/>
          <p:nvPr/>
        </p:nvSpPr>
        <p:spPr>
          <a:xfrm>
            <a:off x="762120" y="3657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li u općem slučaj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1573200" y="4351320"/>
                <a:ext cx="56023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w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a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w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1054080" y="5611680"/>
                <a:ext cx="69292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Tipovi FIR-filtara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graphicFrame>
        <p:nvGraphicFramePr>
          <p:cNvPr id="1248" name=""/>
          <p:cNvGraphicFramePr/>
          <p:nvPr/>
        </p:nvGraphicFramePr>
        <p:xfrm>
          <a:off x="5272200" y="1752480"/>
          <a:ext cx="34290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2200" y="1752480"/>
                    <a:ext cx="3429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0" name=""/>
          <p:cNvSpPr/>
          <p:nvPr/>
        </p:nvSpPr>
        <p:spPr>
          <a:xfrm>
            <a:off x="8136000" y="2362320"/>
            <a:ext cx="85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N=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17680" y="1843200"/>
            <a:ext cx="44352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66"/>
                </a:solidFill>
                <a:latin typeface="Times New Roman"/>
              </a:rPr>
              <a:t>Tip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imetričan impulsni odz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eparan broj uzora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1573200" y="3970440"/>
                <a:ext cx="56023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w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a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w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968400" y="5002200"/>
                <a:ext cx="70912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3660840" y="5918040"/>
                <a:ext cx="14288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Tipovi FIR-filtara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17680" y="1843200"/>
            <a:ext cx="44352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66"/>
                </a:solidFill>
                <a:latin typeface="Times New Roman"/>
              </a:rPr>
              <a:t>Tip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imetričan impulsni odz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aran broj uzora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7" name=""/>
          <p:cNvGraphicFramePr/>
          <p:nvPr/>
        </p:nvGraphicFramePr>
        <p:xfrm>
          <a:off x="5283360" y="1752480"/>
          <a:ext cx="34290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3360" y="1752480"/>
                    <a:ext cx="3429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9" name=""/>
          <p:cNvSpPr/>
          <p:nvPr/>
        </p:nvSpPr>
        <p:spPr>
          <a:xfrm>
            <a:off x="8136000" y="2362320"/>
            <a:ext cx="85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N=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838080" y="3962520"/>
                <a:ext cx="74217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b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m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1663560" y="5078520"/>
                <a:ext cx="56930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3660840" y="5918040"/>
                <a:ext cx="14288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Tipovi FIR-filtara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5259240" y="1752480"/>
          <a:ext cx="3451320" cy="23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9240" y="1752480"/>
                    <a:ext cx="3451320" cy="23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6" name=""/>
          <p:cNvSpPr/>
          <p:nvPr/>
        </p:nvSpPr>
        <p:spPr>
          <a:xfrm>
            <a:off x="517680" y="1843200"/>
            <a:ext cx="47401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ff66"/>
                </a:solidFill>
                <a:latin typeface="Times New Roman"/>
              </a:rPr>
              <a:t>Tip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 antisimetričan impulsni odz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 neparan broj uzora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8136000" y="2362320"/>
            <a:ext cx="85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N=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1219320" y="4114800"/>
                <a:ext cx="678816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c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2133720" y="5105520"/>
                <a:ext cx="473688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962520" y="5943600"/>
                <a:ext cx="14284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271" name=""/>
          <p:cNvGraphicFramePr/>
          <p:nvPr/>
        </p:nvGraphicFramePr>
        <p:xfrm>
          <a:off x="903240" y="3368520"/>
          <a:ext cx="459108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240" y="3368520"/>
                    <a:ext cx="45910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Tipovi FIR-filtara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17680" y="1843200"/>
            <a:ext cx="48164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ff66"/>
                </a:solidFill>
                <a:latin typeface="Times New Roman"/>
              </a:rPr>
              <a:t>Tip 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 antisimetričan impulsni odz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 paran broj uzora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5" name=""/>
          <p:cNvGraphicFramePr/>
          <p:nvPr/>
        </p:nvGraphicFramePr>
        <p:xfrm>
          <a:off x="5281560" y="1752480"/>
          <a:ext cx="34322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1560" y="1752480"/>
                    <a:ext cx="34322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7" name=""/>
          <p:cNvSpPr/>
          <p:nvPr/>
        </p:nvSpPr>
        <p:spPr>
          <a:xfrm>
            <a:off x="8136000" y="2362320"/>
            <a:ext cx="85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N=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457200" y="3886200"/>
                <a:ext cx="833112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d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m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1646280" y="5078520"/>
                <a:ext cx="57196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3660840" y="5918040"/>
                <a:ext cx="14288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Tipovi FIR-filtara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graphicFrame>
        <p:nvGraphicFramePr>
          <p:cNvPr id="1282" name=""/>
          <p:cNvGraphicFramePr/>
          <p:nvPr/>
        </p:nvGraphicFramePr>
        <p:xfrm>
          <a:off x="1106640" y="1981080"/>
          <a:ext cx="295740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6640" y="1981080"/>
                    <a:ext cx="29574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4" name=""/>
          <p:cNvGraphicFramePr/>
          <p:nvPr/>
        </p:nvGraphicFramePr>
        <p:xfrm>
          <a:off x="5068800" y="1981080"/>
          <a:ext cx="295776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8800" y="1981080"/>
                    <a:ext cx="295776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6" name=""/>
          <p:cNvGraphicFramePr/>
          <p:nvPr/>
        </p:nvGraphicFramePr>
        <p:xfrm>
          <a:off x="1106640" y="4114800"/>
          <a:ext cx="2957400" cy="197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6640" y="4114800"/>
                    <a:ext cx="29574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8" name=""/>
          <p:cNvGraphicFramePr/>
          <p:nvPr/>
        </p:nvGraphicFramePr>
        <p:xfrm>
          <a:off x="5068800" y="4114800"/>
          <a:ext cx="2957760" cy="197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68800" y="4114800"/>
                    <a:ext cx="295776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0" name=""/>
          <p:cNvSpPr/>
          <p:nvPr/>
        </p:nvSpPr>
        <p:spPr>
          <a:xfrm>
            <a:off x="135000" y="2452680"/>
            <a:ext cx="100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66"/>
                </a:solidFill>
                <a:latin typeface="Times New Roman"/>
              </a:rPr>
              <a:t>Tip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097160" y="2452680"/>
            <a:ext cx="100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66"/>
                </a:solidFill>
                <a:latin typeface="Times New Roman"/>
              </a:rPr>
              <a:t>Tip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35000" y="4586400"/>
            <a:ext cx="100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66"/>
                </a:solidFill>
                <a:latin typeface="Times New Roman"/>
              </a:rPr>
              <a:t>Tip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097160" y="4586400"/>
            <a:ext cx="100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66"/>
                </a:solidFill>
                <a:latin typeface="Times New Roman"/>
              </a:rPr>
              <a:t>Tip 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32080" y="476280"/>
            <a:ext cx="731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Interesantan je sustav koji služi za “glačanje” (usrednjavanje) slučajnih varijacija u signal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357200" y="1646280"/>
            <a:ext cx="7029360" cy="2603520"/>
            <a:chOff x="1357200" y="1646280"/>
            <a:chExt cx="7029360" cy="2603520"/>
          </a:xfrm>
        </p:grpSpPr>
        <p:sp>
          <p:nvSpPr>
            <p:cNvPr id="131" name=""/>
            <p:cNvSpPr/>
            <p:nvPr/>
          </p:nvSpPr>
          <p:spPr>
            <a:xfrm>
              <a:off x="1416600" y="1646280"/>
              <a:ext cx="4796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99ffff"/>
                  </a:solidFill>
                  <a:latin typeface="Times New Roman"/>
                </a:rPr>
                <a:t>M-point moving average syste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1357200" y="2309760"/>
              <a:ext cx="7029360" cy="820800"/>
              <a:chOff x="1357200" y="2309760"/>
              <a:chExt cx="7029360" cy="820800"/>
            </a:xfrm>
          </p:grpSpPr>
          <p:graphicFrame>
            <p:nvGraphicFramePr>
              <p:cNvPr id="133" name=""/>
              <p:cNvGraphicFramePr/>
              <p:nvPr/>
            </p:nvGraphicFramePr>
            <p:xfrm>
              <a:off x="1357200" y="2309760"/>
              <a:ext cx="5794560" cy="820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3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57200" y="2309760"/>
                        <a:ext cx="5794560" cy="820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5" name=""/>
              <p:cNvSpPr/>
              <p:nvPr/>
            </p:nvSpPr>
            <p:spPr>
              <a:xfrm>
                <a:off x="7945560" y="2548080"/>
                <a:ext cx="4410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il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36" name=""/>
            <p:cNvGraphicFramePr/>
            <p:nvPr/>
          </p:nvGraphicFramePr>
          <p:xfrm>
            <a:off x="1441440" y="3395520"/>
            <a:ext cx="2567160" cy="85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1440" y="3395520"/>
                      <a:ext cx="2567160" cy="85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8" name=""/>
          <p:cNvGraphicFramePr/>
          <p:nvPr/>
        </p:nvGraphicFramePr>
        <p:xfrm>
          <a:off x="1411200" y="4411800"/>
          <a:ext cx="4837320" cy="157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1200" y="4411800"/>
                    <a:ext cx="483732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324440" y="6180120"/>
            <a:ext cx="6095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stav ima konačan impulsni odziv - FIR susta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372680" y="4647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dfca"/>
                </a:solidFill>
                <a:latin typeface="Times New Roman"/>
              </a:rPr>
              <a:t>Gibbsov fenomen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grpSp>
        <p:nvGrpSpPr>
          <p:cNvPr id="1295" name=""/>
          <p:cNvGrpSpPr/>
          <p:nvPr/>
        </p:nvGrpSpPr>
        <p:grpSpPr>
          <a:xfrm>
            <a:off x="54000" y="1836720"/>
            <a:ext cx="9088560" cy="3255840"/>
            <a:chOff x="54000" y="1836720"/>
            <a:chExt cx="9088560" cy="3255840"/>
          </a:xfrm>
        </p:grpSpPr>
        <p:graphicFrame>
          <p:nvGraphicFramePr>
            <p:cNvPr id="1296" name=""/>
            <p:cNvGraphicFramePr/>
            <p:nvPr/>
          </p:nvGraphicFramePr>
          <p:xfrm>
            <a:off x="2513160" y="3998880"/>
            <a:ext cx="4127400" cy="1093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3160" y="3998880"/>
                      <a:ext cx="4127400" cy="109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8" name=""/>
            <p:cNvSpPr/>
            <p:nvPr/>
          </p:nvSpPr>
          <p:spPr>
            <a:xfrm>
              <a:off x="54000" y="1836720"/>
              <a:ext cx="9088560" cy="23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Najizravniji pristup projektiranju FIR filtara je uzimanje konačnog broja uzoraka iz beskonačnog impulsnog odziva idealnog filtra. Neka je </a:t>
              </a:r>
              <a:r>
                <a:rPr b="0" i="1" lang="hr-HR" sz="28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hr-HR" sz="28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hr-HR" sz="28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i="1" lang="hr-HR" sz="2800" spc="-1" strike="noStrike" baseline="30000">
                  <a:solidFill>
                    <a:srgbClr val="ffffff"/>
                  </a:solidFill>
                  <a:latin typeface="Times New Roman"/>
                </a:rPr>
                <a:t>j</a:t>
              </a:r>
              <a:r>
                <a:rPr b="0" lang="hr-HR" sz="28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) željena idealna prijenosna karakteristika filtra, a </a:t>
              </a:r>
              <a:r>
                <a:rPr b="0" i="1" lang="hr-HR" sz="28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hr-HR" sz="28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hr-HR" sz="28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] odgovarajući impulsni odziv beskonačnog trajanj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18000" y="5132520"/>
            <a:ext cx="9216360" cy="1627200"/>
            <a:chOff x="18000" y="5132520"/>
            <a:chExt cx="9216360" cy="1627200"/>
          </a:xfrm>
        </p:grpSpPr>
        <p:sp>
          <p:nvSpPr>
            <p:cNvPr id="1300" name=""/>
            <p:cNvSpPr/>
            <p:nvPr/>
          </p:nvSpPr>
          <p:spPr>
            <a:xfrm>
              <a:off x="18000" y="5132520"/>
              <a:ext cx="9216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Kauzalni impulsni odziv konačnog trajanja možemo dobiti ka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301" name=""/>
            <p:cNvGraphicFramePr/>
            <p:nvPr/>
          </p:nvGraphicFramePr>
          <p:xfrm>
            <a:off x="2417760" y="5680080"/>
            <a:ext cx="3514680" cy="107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17760" y="5680080"/>
                      <a:ext cx="3514680" cy="10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371240" y="40464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dfca"/>
                </a:solidFill>
                <a:latin typeface="Times New Roman"/>
              </a:rPr>
              <a:t>Gibbsov fenomen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grpSp>
        <p:nvGrpSpPr>
          <p:cNvPr id="1304" name=""/>
          <p:cNvGrpSpPr/>
          <p:nvPr/>
        </p:nvGrpSpPr>
        <p:grpSpPr>
          <a:xfrm>
            <a:off x="114480" y="1525680"/>
            <a:ext cx="8910360" cy="2403360"/>
            <a:chOff x="114480" y="1525680"/>
            <a:chExt cx="8910360" cy="2403360"/>
          </a:xfrm>
        </p:grpSpPr>
        <p:sp>
          <p:nvSpPr>
            <p:cNvPr id="1305" name=""/>
            <p:cNvSpPr/>
            <p:nvPr/>
          </p:nvSpPr>
          <p:spPr>
            <a:xfrm>
              <a:off x="114480" y="1525680"/>
              <a:ext cx="89103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) se može prikazati kao produkt željenog impulsnog odziva i “otvora” konačnog trajanj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306" name=""/>
            <p:cNvGraphicFramePr/>
            <p:nvPr/>
          </p:nvGraphicFramePr>
          <p:xfrm>
            <a:off x="3078000" y="2462040"/>
            <a:ext cx="2146320" cy="481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78000" y="2462040"/>
                      <a:ext cx="2146320" cy="48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8" name=""/>
            <p:cNvSpPr/>
            <p:nvPr/>
          </p:nvSpPr>
          <p:spPr>
            <a:xfrm>
              <a:off x="276120" y="2846520"/>
              <a:ext cx="1230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gdje j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309" name=""/>
            <p:cNvGraphicFramePr/>
            <p:nvPr/>
          </p:nvGraphicFramePr>
          <p:xfrm>
            <a:off x="3021120" y="3021120"/>
            <a:ext cx="2666880" cy="907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1120" y="3021120"/>
                      <a:ext cx="2666880" cy="90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11" name=""/>
          <p:cNvGrpSpPr/>
          <p:nvPr/>
        </p:nvGrpSpPr>
        <p:grpSpPr>
          <a:xfrm>
            <a:off x="12600" y="4013280"/>
            <a:ext cx="9064800" cy="2901240"/>
            <a:chOff x="12600" y="4013280"/>
            <a:chExt cx="9064800" cy="2901240"/>
          </a:xfrm>
        </p:grpSpPr>
        <p:sp>
          <p:nvSpPr>
            <p:cNvPr id="1312" name=""/>
            <p:cNvSpPr/>
            <p:nvPr/>
          </p:nvSpPr>
          <p:spPr>
            <a:xfrm>
              <a:off x="33480" y="4013280"/>
              <a:ext cx="4738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U frekvencijskoj domeni vrijed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3" name=""/>
                <p:cNvSpPr txBox="1"/>
                <p:nvPr/>
              </p:nvSpPr>
              <p:spPr>
                <a:xfrm>
                  <a:off x="2214720" y="4551480"/>
                  <a:ext cx="4203720" cy="94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w</m:t>
                              </m:r>
                            </m:sup>
                          </m:sSup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p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p</m:t>
                          </m:r>
                        </m:sup>
                        <m:e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jj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⋅</m:t>
                          </m:r>
                          <m:r>
                            <m:t xml:space="preserve">W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j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w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j</m:t>
                                      </m:r>
                                    </m:e>
                                  </m:d>
                                </m:sup>
                              </m:sSup>
                            </m:e>
                          </m:d>
                          <m:r>
                            <m:t xml:space="preserve">dj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314" name=""/>
            <p:cNvSpPr/>
            <p:nvPr/>
          </p:nvSpPr>
          <p:spPr>
            <a:xfrm>
              <a:off x="12600" y="5483160"/>
              <a:ext cx="9064800" cy="14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odnosno </a:t>
              </a:r>
              <a:r>
                <a:rPr b="0" i="1" lang="hr-HR" sz="28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hr-HR" sz="28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i="1" lang="hr-HR" sz="2800" spc="-1" strike="noStrike" baseline="30000">
                  <a:solidFill>
                    <a:srgbClr val="ffffff"/>
                  </a:solidFill>
                  <a:latin typeface="Times New Roman"/>
                </a:rPr>
                <a:t>j</a:t>
              </a:r>
              <a:r>
                <a:rPr b="0" lang="hr-HR" sz="28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) je periodička kontinuirana konvolucija željene prijenosne karakteristike </a:t>
              </a:r>
              <a:r>
                <a:rPr b="0" i="1" lang="hr-HR" sz="28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hr-HR" sz="28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hr-HR" sz="28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i="1" lang="hr-HR" sz="2800" spc="-1" strike="noStrike" baseline="30000">
                  <a:solidFill>
                    <a:srgbClr val="ffffff"/>
                  </a:solidFill>
                  <a:latin typeface="Times New Roman"/>
                </a:rPr>
                <a:t>j</a:t>
              </a:r>
              <a:r>
                <a:rPr b="0" lang="hr-HR" sz="28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) i Fourierove transformacije vremenskog otvora </a:t>
              </a:r>
              <a:r>
                <a:rPr b="0" i="1" lang="hr-HR" sz="28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hr-HR" sz="28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i="1" lang="hr-HR" sz="2800" spc="-1" strike="noStrike" baseline="30000">
                  <a:solidFill>
                    <a:srgbClr val="ffffff"/>
                  </a:solidFill>
                  <a:latin typeface="Times New Roman"/>
                </a:rPr>
                <a:t>j</a:t>
              </a:r>
              <a:r>
                <a:rPr b="0" lang="hr-HR" sz="28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41552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dfca"/>
                </a:solidFill>
                <a:latin typeface="Times New Roman"/>
              </a:rPr>
              <a:t>Gibbsov fenomen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120960" y="1157400"/>
            <a:ext cx="7798680" cy="1393560"/>
            <a:chOff x="120960" y="1157400"/>
            <a:chExt cx="7798680" cy="1393560"/>
          </a:xfrm>
        </p:grpSpPr>
        <p:sp>
          <p:nvSpPr>
            <p:cNvPr id="1317" name=""/>
            <p:cNvSpPr/>
            <p:nvPr/>
          </p:nvSpPr>
          <p:spPr>
            <a:xfrm>
              <a:off x="120960" y="1157400"/>
              <a:ext cx="7798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Fourierova transformacija vremenskog otvora </a:t>
              </a:r>
              <a:r>
                <a:rPr b="0" i="1" lang="hr-HR" sz="28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hr-HR" sz="28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] j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318" name=""/>
            <p:cNvGraphicFramePr/>
            <p:nvPr/>
          </p:nvGraphicFramePr>
          <p:xfrm>
            <a:off x="2106720" y="1668600"/>
            <a:ext cx="5021280" cy="88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06720" y="1668600"/>
                      <a:ext cx="5021280" cy="88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20" name=""/>
          <p:cNvGrpSpPr/>
          <p:nvPr/>
        </p:nvGrpSpPr>
        <p:grpSpPr>
          <a:xfrm>
            <a:off x="0" y="2798640"/>
            <a:ext cx="9170280" cy="4057920"/>
            <a:chOff x="0" y="2798640"/>
            <a:chExt cx="9170280" cy="4057920"/>
          </a:xfrm>
        </p:grpSpPr>
        <p:sp>
          <p:nvSpPr>
            <p:cNvPr id="1321" name=""/>
            <p:cNvSpPr/>
            <p:nvPr/>
          </p:nvSpPr>
          <p:spPr>
            <a:xfrm>
              <a:off x="8157600" y="3938760"/>
              <a:ext cx="71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0" y="6031080"/>
              <a:ext cx="9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V="1">
              <a:off x="2257560" y="2939760"/>
              <a:ext cx="0" cy="329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4" name=""/>
                <p:cNvSpPr txBox="1"/>
                <p:nvPr/>
              </p:nvSpPr>
              <p:spPr>
                <a:xfrm>
                  <a:off x="2301840" y="6045120"/>
                  <a:ext cx="733320" cy="69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25" name=""/>
            <p:cNvSpPr/>
            <p:nvPr/>
          </p:nvSpPr>
          <p:spPr>
            <a:xfrm>
              <a:off x="4296960" y="6014880"/>
              <a:ext cx="325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467400" y="6033960"/>
              <a:ext cx="895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673680" y="5978520"/>
              <a:ext cx="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287440" y="2798640"/>
              <a:ext cx="1072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|</a:t>
              </a: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i="1" lang="hr-HR" sz="2400" spc="-1" strike="noStrike" baseline="30000">
                  <a:solidFill>
                    <a:srgbClr val="ffffff"/>
                  </a:solidFill>
                  <a:latin typeface="Times New Roman"/>
                </a:rPr>
                <a:t>j</a:t>
              </a:r>
              <a:r>
                <a:rPr b="0" i="1" lang="hr-HR" sz="24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)|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730600" y="5946840"/>
              <a:ext cx="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965320" y="5956200"/>
              <a:ext cx="0" cy="15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017880" y="6097680"/>
              <a:ext cx="288720" cy="23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2" name=""/>
                <p:cNvSpPr txBox="1"/>
                <p:nvPr/>
              </p:nvSpPr>
              <p:spPr>
                <a:xfrm>
                  <a:off x="3191040" y="6168960"/>
                  <a:ext cx="734760" cy="68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33" name=""/>
            <p:cNvSpPr/>
            <p:nvPr/>
          </p:nvSpPr>
          <p:spPr>
            <a:xfrm>
              <a:off x="2193840" y="3559320"/>
              <a:ext cx="12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353320" y="33750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6360" y="3570120"/>
              <a:ext cx="8804520" cy="2462400"/>
            </a:xfrm>
            <a:custGeom>
              <a:avLst/>
              <a:gdLst/>
              <a:ahLst/>
              <a:rect l="l" t="t" r="r" b="b"/>
              <a:pathLst>
                <a:path w="5546" h="1551">
                  <a:moveTo>
                    <a:pt x="0" y="1380"/>
                  </a:moveTo>
                  <a:lnTo>
                    <a:pt x="15" y="1380"/>
                  </a:lnTo>
                  <a:lnTo>
                    <a:pt x="15" y="1385"/>
                  </a:lnTo>
                  <a:lnTo>
                    <a:pt x="30" y="1390"/>
                  </a:lnTo>
                  <a:lnTo>
                    <a:pt x="45" y="1394"/>
                  </a:lnTo>
                  <a:lnTo>
                    <a:pt x="45" y="1399"/>
                  </a:lnTo>
                  <a:lnTo>
                    <a:pt x="45" y="1403"/>
                  </a:lnTo>
                  <a:lnTo>
                    <a:pt x="60" y="1408"/>
                  </a:lnTo>
                  <a:lnTo>
                    <a:pt x="60" y="1412"/>
                  </a:lnTo>
                  <a:lnTo>
                    <a:pt x="60" y="1417"/>
                  </a:lnTo>
                  <a:lnTo>
                    <a:pt x="75" y="1422"/>
                  </a:lnTo>
                  <a:lnTo>
                    <a:pt x="75" y="1431"/>
                  </a:lnTo>
                  <a:lnTo>
                    <a:pt x="75" y="1435"/>
                  </a:lnTo>
                  <a:lnTo>
                    <a:pt x="90" y="1444"/>
                  </a:lnTo>
                  <a:lnTo>
                    <a:pt x="90" y="1449"/>
                  </a:lnTo>
                  <a:lnTo>
                    <a:pt x="90" y="1458"/>
                  </a:lnTo>
                  <a:lnTo>
                    <a:pt x="105" y="1467"/>
                  </a:lnTo>
                  <a:lnTo>
                    <a:pt x="105" y="1476"/>
                  </a:lnTo>
                  <a:lnTo>
                    <a:pt x="120" y="1486"/>
                  </a:lnTo>
                  <a:lnTo>
                    <a:pt x="120" y="1495"/>
                  </a:lnTo>
                  <a:lnTo>
                    <a:pt x="120" y="1504"/>
                  </a:lnTo>
                  <a:lnTo>
                    <a:pt x="135" y="1513"/>
                  </a:lnTo>
                  <a:lnTo>
                    <a:pt x="135" y="1522"/>
                  </a:lnTo>
                  <a:lnTo>
                    <a:pt x="135" y="1531"/>
                  </a:lnTo>
                  <a:lnTo>
                    <a:pt x="150" y="1540"/>
                  </a:lnTo>
                  <a:lnTo>
                    <a:pt x="150" y="1550"/>
                  </a:lnTo>
                  <a:lnTo>
                    <a:pt x="165" y="1540"/>
                  </a:lnTo>
                  <a:lnTo>
                    <a:pt x="165" y="1531"/>
                  </a:lnTo>
                  <a:lnTo>
                    <a:pt x="180" y="1518"/>
                  </a:lnTo>
                  <a:lnTo>
                    <a:pt x="180" y="1508"/>
                  </a:lnTo>
                  <a:lnTo>
                    <a:pt x="180" y="1499"/>
                  </a:lnTo>
                  <a:lnTo>
                    <a:pt x="195" y="1490"/>
                  </a:lnTo>
                  <a:lnTo>
                    <a:pt x="195" y="1481"/>
                  </a:lnTo>
                  <a:lnTo>
                    <a:pt x="195" y="1472"/>
                  </a:lnTo>
                  <a:lnTo>
                    <a:pt x="210" y="1463"/>
                  </a:lnTo>
                  <a:lnTo>
                    <a:pt x="210" y="1458"/>
                  </a:lnTo>
                  <a:lnTo>
                    <a:pt x="210" y="1449"/>
                  </a:lnTo>
                  <a:lnTo>
                    <a:pt x="225" y="1440"/>
                  </a:lnTo>
                  <a:lnTo>
                    <a:pt x="225" y="1431"/>
                  </a:lnTo>
                  <a:lnTo>
                    <a:pt x="240" y="1426"/>
                  </a:lnTo>
                  <a:lnTo>
                    <a:pt x="240" y="1417"/>
                  </a:lnTo>
                  <a:lnTo>
                    <a:pt x="240" y="1412"/>
                  </a:lnTo>
                  <a:lnTo>
                    <a:pt x="255" y="1403"/>
                  </a:lnTo>
                  <a:lnTo>
                    <a:pt x="255" y="1399"/>
                  </a:lnTo>
                  <a:lnTo>
                    <a:pt x="255" y="1394"/>
                  </a:lnTo>
                  <a:lnTo>
                    <a:pt x="270" y="1390"/>
                  </a:lnTo>
                  <a:lnTo>
                    <a:pt x="270" y="1385"/>
                  </a:lnTo>
                  <a:lnTo>
                    <a:pt x="270" y="1380"/>
                  </a:lnTo>
                  <a:lnTo>
                    <a:pt x="286" y="1380"/>
                  </a:lnTo>
                  <a:lnTo>
                    <a:pt x="286" y="1376"/>
                  </a:lnTo>
                  <a:lnTo>
                    <a:pt x="286" y="1371"/>
                  </a:lnTo>
                  <a:lnTo>
                    <a:pt x="301" y="1371"/>
                  </a:lnTo>
                  <a:lnTo>
                    <a:pt x="316" y="1371"/>
                  </a:lnTo>
                  <a:lnTo>
                    <a:pt x="331" y="1371"/>
                  </a:lnTo>
                  <a:lnTo>
                    <a:pt x="331" y="1376"/>
                  </a:lnTo>
                  <a:lnTo>
                    <a:pt x="346" y="1376"/>
                  </a:lnTo>
                  <a:lnTo>
                    <a:pt x="346" y="1380"/>
                  </a:lnTo>
                  <a:lnTo>
                    <a:pt x="346" y="1385"/>
                  </a:lnTo>
                  <a:lnTo>
                    <a:pt x="361" y="1390"/>
                  </a:lnTo>
                  <a:lnTo>
                    <a:pt x="361" y="1394"/>
                  </a:lnTo>
                  <a:lnTo>
                    <a:pt x="376" y="1399"/>
                  </a:lnTo>
                  <a:lnTo>
                    <a:pt x="376" y="1403"/>
                  </a:lnTo>
                  <a:lnTo>
                    <a:pt x="376" y="1412"/>
                  </a:lnTo>
                  <a:lnTo>
                    <a:pt x="391" y="1417"/>
                  </a:lnTo>
                  <a:lnTo>
                    <a:pt x="391" y="1426"/>
                  </a:lnTo>
                  <a:lnTo>
                    <a:pt x="391" y="1435"/>
                  </a:lnTo>
                  <a:lnTo>
                    <a:pt x="406" y="1440"/>
                  </a:lnTo>
                  <a:lnTo>
                    <a:pt x="406" y="1449"/>
                  </a:lnTo>
                  <a:lnTo>
                    <a:pt x="406" y="1458"/>
                  </a:lnTo>
                  <a:lnTo>
                    <a:pt x="421" y="1467"/>
                  </a:lnTo>
                  <a:lnTo>
                    <a:pt x="421" y="1476"/>
                  </a:lnTo>
                  <a:lnTo>
                    <a:pt x="436" y="1486"/>
                  </a:lnTo>
                  <a:lnTo>
                    <a:pt x="436" y="1499"/>
                  </a:lnTo>
                  <a:lnTo>
                    <a:pt x="436" y="1508"/>
                  </a:lnTo>
                  <a:lnTo>
                    <a:pt x="451" y="1518"/>
                  </a:lnTo>
                  <a:lnTo>
                    <a:pt x="451" y="1527"/>
                  </a:lnTo>
                  <a:lnTo>
                    <a:pt x="451" y="1540"/>
                  </a:lnTo>
                  <a:lnTo>
                    <a:pt x="466" y="1550"/>
                  </a:lnTo>
                  <a:lnTo>
                    <a:pt x="466" y="1545"/>
                  </a:lnTo>
                  <a:lnTo>
                    <a:pt x="466" y="1536"/>
                  </a:lnTo>
                  <a:lnTo>
                    <a:pt x="481" y="1527"/>
                  </a:lnTo>
                  <a:lnTo>
                    <a:pt x="481" y="1513"/>
                  </a:lnTo>
                  <a:lnTo>
                    <a:pt x="481" y="1504"/>
                  </a:lnTo>
                  <a:lnTo>
                    <a:pt x="496" y="1490"/>
                  </a:lnTo>
                  <a:lnTo>
                    <a:pt x="496" y="1481"/>
                  </a:lnTo>
                  <a:lnTo>
                    <a:pt x="511" y="1472"/>
                  </a:lnTo>
                  <a:lnTo>
                    <a:pt x="511" y="1458"/>
                  </a:lnTo>
                  <a:lnTo>
                    <a:pt x="511" y="1449"/>
                  </a:lnTo>
                  <a:lnTo>
                    <a:pt x="526" y="1440"/>
                  </a:lnTo>
                  <a:lnTo>
                    <a:pt x="526" y="1431"/>
                  </a:lnTo>
                  <a:lnTo>
                    <a:pt x="526" y="1417"/>
                  </a:lnTo>
                  <a:lnTo>
                    <a:pt x="541" y="1408"/>
                  </a:lnTo>
                  <a:lnTo>
                    <a:pt x="541" y="1399"/>
                  </a:lnTo>
                  <a:lnTo>
                    <a:pt x="541" y="1394"/>
                  </a:lnTo>
                  <a:lnTo>
                    <a:pt x="557" y="1385"/>
                  </a:lnTo>
                  <a:lnTo>
                    <a:pt x="557" y="1376"/>
                  </a:lnTo>
                  <a:lnTo>
                    <a:pt x="572" y="1371"/>
                  </a:lnTo>
                  <a:lnTo>
                    <a:pt x="572" y="1362"/>
                  </a:lnTo>
                  <a:lnTo>
                    <a:pt x="572" y="1358"/>
                  </a:lnTo>
                  <a:lnTo>
                    <a:pt x="587" y="1348"/>
                  </a:lnTo>
                  <a:lnTo>
                    <a:pt x="587" y="1344"/>
                  </a:lnTo>
                  <a:lnTo>
                    <a:pt x="587" y="1339"/>
                  </a:lnTo>
                  <a:lnTo>
                    <a:pt x="602" y="1339"/>
                  </a:lnTo>
                  <a:lnTo>
                    <a:pt x="602" y="1335"/>
                  </a:lnTo>
                  <a:lnTo>
                    <a:pt x="602" y="1330"/>
                  </a:lnTo>
                  <a:lnTo>
                    <a:pt x="617" y="1330"/>
                  </a:lnTo>
                  <a:lnTo>
                    <a:pt x="617" y="1326"/>
                  </a:lnTo>
                  <a:lnTo>
                    <a:pt x="632" y="1326"/>
                  </a:lnTo>
                  <a:lnTo>
                    <a:pt x="647" y="1330"/>
                  </a:lnTo>
                  <a:lnTo>
                    <a:pt x="647" y="1335"/>
                  </a:lnTo>
                  <a:lnTo>
                    <a:pt x="662" y="1339"/>
                  </a:lnTo>
                  <a:lnTo>
                    <a:pt x="662" y="1344"/>
                  </a:lnTo>
                  <a:lnTo>
                    <a:pt x="662" y="1348"/>
                  </a:lnTo>
                  <a:lnTo>
                    <a:pt x="677" y="1353"/>
                  </a:lnTo>
                  <a:lnTo>
                    <a:pt x="677" y="1358"/>
                  </a:lnTo>
                  <a:lnTo>
                    <a:pt x="677" y="1367"/>
                  </a:lnTo>
                  <a:lnTo>
                    <a:pt x="692" y="1371"/>
                  </a:lnTo>
                  <a:lnTo>
                    <a:pt x="692" y="1380"/>
                  </a:lnTo>
                  <a:lnTo>
                    <a:pt x="707" y="1390"/>
                  </a:lnTo>
                  <a:lnTo>
                    <a:pt x="707" y="1399"/>
                  </a:lnTo>
                  <a:lnTo>
                    <a:pt x="707" y="1408"/>
                  </a:lnTo>
                  <a:lnTo>
                    <a:pt x="722" y="1422"/>
                  </a:lnTo>
                  <a:lnTo>
                    <a:pt x="722" y="1431"/>
                  </a:lnTo>
                  <a:lnTo>
                    <a:pt x="722" y="1444"/>
                  </a:lnTo>
                  <a:lnTo>
                    <a:pt x="737" y="1454"/>
                  </a:lnTo>
                  <a:lnTo>
                    <a:pt x="737" y="1467"/>
                  </a:lnTo>
                  <a:lnTo>
                    <a:pt x="737" y="1481"/>
                  </a:lnTo>
                  <a:lnTo>
                    <a:pt x="752" y="1495"/>
                  </a:lnTo>
                  <a:lnTo>
                    <a:pt x="752" y="1508"/>
                  </a:lnTo>
                  <a:lnTo>
                    <a:pt x="767" y="1522"/>
                  </a:lnTo>
                  <a:lnTo>
                    <a:pt x="767" y="1536"/>
                  </a:lnTo>
                  <a:lnTo>
                    <a:pt x="767" y="1550"/>
                  </a:lnTo>
                  <a:lnTo>
                    <a:pt x="782" y="1540"/>
                  </a:lnTo>
                  <a:lnTo>
                    <a:pt x="782" y="1527"/>
                  </a:lnTo>
                  <a:lnTo>
                    <a:pt x="782" y="1513"/>
                  </a:lnTo>
                  <a:lnTo>
                    <a:pt x="797" y="1495"/>
                  </a:lnTo>
                  <a:lnTo>
                    <a:pt x="797" y="1481"/>
                  </a:lnTo>
                  <a:lnTo>
                    <a:pt x="797" y="1467"/>
                  </a:lnTo>
                  <a:lnTo>
                    <a:pt x="812" y="1449"/>
                  </a:lnTo>
                  <a:lnTo>
                    <a:pt x="812" y="1435"/>
                  </a:lnTo>
                  <a:lnTo>
                    <a:pt x="812" y="1422"/>
                  </a:lnTo>
                  <a:lnTo>
                    <a:pt x="827" y="1403"/>
                  </a:lnTo>
                  <a:lnTo>
                    <a:pt x="827" y="1390"/>
                  </a:lnTo>
                  <a:lnTo>
                    <a:pt x="843" y="1376"/>
                  </a:lnTo>
                  <a:lnTo>
                    <a:pt x="843" y="1362"/>
                  </a:lnTo>
                  <a:lnTo>
                    <a:pt x="843" y="1348"/>
                  </a:lnTo>
                  <a:lnTo>
                    <a:pt x="858" y="1335"/>
                  </a:lnTo>
                  <a:lnTo>
                    <a:pt x="858" y="1321"/>
                  </a:lnTo>
                  <a:lnTo>
                    <a:pt x="858" y="1307"/>
                  </a:lnTo>
                  <a:lnTo>
                    <a:pt x="873" y="1294"/>
                  </a:lnTo>
                  <a:lnTo>
                    <a:pt x="873" y="1285"/>
                  </a:lnTo>
                  <a:lnTo>
                    <a:pt x="873" y="1271"/>
                  </a:lnTo>
                  <a:lnTo>
                    <a:pt x="888" y="1262"/>
                  </a:lnTo>
                  <a:lnTo>
                    <a:pt x="888" y="1253"/>
                  </a:lnTo>
                  <a:lnTo>
                    <a:pt x="903" y="1244"/>
                  </a:lnTo>
                  <a:lnTo>
                    <a:pt x="903" y="1235"/>
                  </a:lnTo>
                  <a:lnTo>
                    <a:pt x="903" y="1230"/>
                  </a:lnTo>
                  <a:lnTo>
                    <a:pt x="918" y="1221"/>
                  </a:lnTo>
                  <a:lnTo>
                    <a:pt x="918" y="1217"/>
                  </a:lnTo>
                  <a:lnTo>
                    <a:pt x="918" y="1212"/>
                  </a:lnTo>
                  <a:lnTo>
                    <a:pt x="933" y="1208"/>
                  </a:lnTo>
                  <a:lnTo>
                    <a:pt x="933" y="1203"/>
                  </a:lnTo>
                  <a:lnTo>
                    <a:pt x="948" y="1203"/>
                  </a:lnTo>
                  <a:lnTo>
                    <a:pt x="963" y="1203"/>
                  </a:lnTo>
                  <a:lnTo>
                    <a:pt x="963" y="1208"/>
                  </a:lnTo>
                  <a:lnTo>
                    <a:pt x="978" y="1212"/>
                  </a:lnTo>
                  <a:lnTo>
                    <a:pt x="978" y="1221"/>
                  </a:lnTo>
                  <a:lnTo>
                    <a:pt x="978" y="1226"/>
                  </a:lnTo>
                  <a:lnTo>
                    <a:pt x="993" y="1235"/>
                  </a:lnTo>
                  <a:lnTo>
                    <a:pt x="993" y="1244"/>
                  </a:lnTo>
                  <a:lnTo>
                    <a:pt x="993" y="1253"/>
                  </a:lnTo>
                  <a:lnTo>
                    <a:pt x="1008" y="1267"/>
                  </a:lnTo>
                  <a:lnTo>
                    <a:pt x="1008" y="1281"/>
                  </a:lnTo>
                  <a:lnTo>
                    <a:pt x="1008" y="1294"/>
                  </a:lnTo>
                  <a:lnTo>
                    <a:pt x="1023" y="1307"/>
                  </a:lnTo>
                  <a:lnTo>
                    <a:pt x="1023" y="1326"/>
                  </a:lnTo>
                  <a:lnTo>
                    <a:pt x="1036" y="1344"/>
                  </a:lnTo>
                  <a:lnTo>
                    <a:pt x="1036" y="1362"/>
                  </a:lnTo>
                  <a:lnTo>
                    <a:pt x="1036" y="1380"/>
                  </a:lnTo>
                  <a:lnTo>
                    <a:pt x="1051" y="1403"/>
                  </a:lnTo>
                  <a:lnTo>
                    <a:pt x="1051" y="1426"/>
                  </a:lnTo>
                  <a:lnTo>
                    <a:pt x="1051" y="1449"/>
                  </a:lnTo>
                  <a:lnTo>
                    <a:pt x="1066" y="1472"/>
                  </a:lnTo>
                  <a:lnTo>
                    <a:pt x="1066" y="1499"/>
                  </a:lnTo>
                  <a:lnTo>
                    <a:pt x="1066" y="1522"/>
                  </a:lnTo>
                  <a:lnTo>
                    <a:pt x="1081" y="1550"/>
                  </a:lnTo>
                  <a:lnTo>
                    <a:pt x="1081" y="1527"/>
                  </a:lnTo>
                  <a:lnTo>
                    <a:pt x="1096" y="1499"/>
                  </a:lnTo>
                  <a:lnTo>
                    <a:pt x="1096" y="1467"/>
                  </a:lnTo>
                  <a:lnTo>
                    <a:pt x="1096" y="1440"/>
                  </a:lnTo>
                  <a:lnTo>
                    <a:pt x="1111" y="1408"/>
                  </a:lnTo>
                  <a:lnTo>
                    <a:pt x="1111" y="1376"/>
                  </a:lnTo>
                  <a:lnTo>
                    <a:pt x="1111" y="1339"/>
                  </a:lnTo>
                  <a:lnTo>
                    <a:pt x="1126" y="1307"/>
                  </a:lnTo>
                  <a:lnTo>
                    <a:pt x="1126" y="1271"/>
                  </a:lnTo>
                  <a:lnTo>
                    <a:pt x="1126" y="1240"/>
                  </a:lnTo>
                  <a:lnTo>
                    <a:pt x="1141" y="1203"/>
                  </a:lnTo>
                  <a:lnTo>
                    <a:pt x="1141" y="1166"/>
                  </a:lnTo>
                  <a:lnTo>
                    <a:pt x="1141" y="1130"/>
                  </a:lnTo>
                  <a:lnTo>
                    <a:pt x="1156" y="1093"/>
                  </a:lnTo>
                  <a:lnTo>
                    <a:pt x="1156" y="1057"/>
                  </a:lnTo>
                  <a:lnTo>
                    <a:pt x="1171" y="1020"/>
                  </a:lnTo>
                  <a:lnTo>
                    <a:pt x="1171" y="984"/>
                  </a:lnTo>
                  <a:lnTo>
                    <a:pt x="1171" y="948"/>
                  </a:lnTo>
                  <a:lnTo>
                    <a:pt x="1186" y="907"/>
                  </a:lnTo>
                  <a:lnTo>
                    <a:pt x="1186" y="870"/>
                  </a:lnTo>
                  <a:lnTo>
                    <a:pt x="1186" y="834"/>
                  </a:lnTo>
                  <a:lnTo>
                    <a:pt x="1201" y="797"/>
                  </a:lnTo>
                  <a:lnTo>
                    <a:pt x="1201" y="760"/>
                  </a:lnTo>
                  <a:lnTo>
                    <a:pt x="1201" y="724"/>
                  </a:lnTo>
                  <a:lnTo>
                    <a:pt x="1216" y="687"/>
                  </a:lnTo>
                  <a:lnTo>
                    <a:pt x="1216" y="651"/>
                  </a:lnTo>
                  <a:lnTo>
                    <a:pt x="1231" y="615"/>
                  </a:lnTo>
                  <a:lnTo>
                    <a:pt x="1231" y="578"/>
                  </a:lnTo>
                  <a:lnTo>
                    <a:pt x="1231" y="542"/>
                  </a:lnTo>
                  <a:lnTo>
                    <a:pt x="1246" y="510"/>
                  </a:lnTo>
                  <a:lnTo>
                    <a:pt x="1246" y="478"/>
                  </a:lnTo>
                  <a:lnTo>
                    <a:pt x="1246" y="446"/>
                  </a:lnTo>
                  <a:lnTo>
                    <a:pt x="1262" y="414"/>
                  </a:lnTo>
                  <a:lnTo>
                    <a:pt x="1262" y="382"/>
                  </a:lnTo>
                  <a:lnTo>
                    <a:pt x="1262" y="350"/>
                  </a:lnTo>
                  <a:lnTo>
                    <a:pt x="1277" y="323"/>
                  </a:lnTo>
                  <a:lnTo>
                    <a:pt x="1277" y="296"/>
                  </a:lnTo>
                  <a:lnTo>
                    <a:pt x="1292" y="268"/>
                  </a:lnTo>
                  <a:lnTo>
                    <a:pt x="1292" y="241"/>
                  </a:lnTo>
                  <a:lnTo>
                    <a:pt x="1292" y="214"/>
                  </a:lnTo>
                  <a:lnTo>
                    <a:pt x="1307" y="191"/>
                  </a:lnTo>
                  <a:lnTo>
                    <a:pt x="1307" y="168"/>
                  </a:lnTo>
                  <a:lnTo>
                    <a:pt x="1307" y="150"/>
                  </a:lnTo>
                  <a:lnTo>
                    <a:pt x="1322" y="127"/>
                  </a:lnTo>
                  <a:lnTo>
                    <a:pt x="1322" y="108"/>
                  </a:lnTo>
                  <a:lnTo>
                    <a:pt x="1322" y="90"/>
                  </a:lnTo>
                  <a:lnTo>
                    <a:pt x="1337" y="76"/>
                  </a:lnTo>
                  <a:lnTo>
                    <a:pt x="1337" y="63"/>
                  </a:lnTo>
                  <a:lnTo>
                    <a:pt x="1337" y="49"/>
                  </a:lnTo>
                  <a:lnTo>
                    <a:pt x="1352" y="35"/>
                  </a:lnTo>
                  <a:lnTo>
                    <a:pt x="1352" y="26"/>
                  </a:lnTo>
                  <a:lnTo>
                    <a:pt x="1367" y="18"/>
                  </a:lnTo>
                  <a:lnTo>
                    <a:pt x="1367" y="13"/>
                  </a:lnTo>
                  <a:lnTo>
                    <a:pt x="1367" y="9"/>
                  </a:lnTo>
                  <a:lnTo>
                    <a:pt x="1382" y="4"/>
                  </a:lnTo>
                  <a:lnTo>
                    <a:pt x="1382" y="0"/>
                  </a:lnTo>
                  <a:lnTo>
                    <a:pt x="1397" y="0"/>
                  </a:lnTo>
                  <a:lnTo>
                    <a:pt x="1397" y="4"/>
                  </a:lnTo>
                  <a:lnTo>
                    <a:pt x="1397" y="9"/>
                  </a:lnTo>
                  <a:lnTo>
                    <a:pt x="1412" y="13"/>
                  </a:lnTo>
                  <a:lnTo>
                    <a:pt x="1412" y="18"/>
                  </a:lnTo>
                  <a:lnTo>
                    <a:pt x="1427" y="26"/>
                  </a:lnTo>
                  <a:lnTo>
                    <a:pt x="1427" y="35"/>
                  </a:lnTo>
                  <a:lnTo>
                    <a:pt x="1427" y="49"/>
                  </a:lnTo>
                  <a:lnTo>
                    <a:pt x="1442" y="63"/>
                  </a:lnTo>
                  <a:lnTo>
                    <a:pt x="1442" y="76"/>
                  </a:lnTo>
                  <a:lnTo>
                    <a:pt x="1442" y="90"/>
                  </a:lnTo>
                  <a:lnTo>
                    <a:pt x="1457" y="108"/>
                  </a:lnTo>
                  <a:lnTo>
                    <a:pt x="1457" y="127"/>
                  </a:lnTo>
                  <a:lnTo>
                    <a:pt x="1457" y="150"/>
                  </a:lnTo>
                  <a:lnTo>
                    <a:pt x="1472" y="168"/>
                  </a:lnTo>
                  <a:lnTo>
                    <a:pt x="1472" y="191"/>
                  </a:lnTo>
                  <a:lnTo>
                    <a:pt x="1487" y="214"/>
                  </a:lnTo>
                  <a:lnTo>
                    <a:pt x="1487" y="241"/>
                  </a:lnTo>
                  <a:lnTo>
                    <a:pt x="1487" y="268"/>
                  </a:lnTo>
                  <a:lnTo>
                    <a:pt x="1502" y="296"/>
                  </a:lnTo>
                  <a:lnTo>
                    <a:pt x="1502" y="323"/>
                  </a:lnTo>
                  <a:lnTo>
                    <a:pt x="1502" y="350"/>
                  </a:lnTo>
                  <a:lnTo>
                    <a:pt x="1517" y="382"/>
                  </a:lnTo>
                  <a:lnTo>
                    <a:pt x="1517" y="414"/>
                  </a:lnTo>
                  <a:lnTo>
                    <a:pt x="1517" y="446"/>
                  </a:lnTo>
                  <a:lnTo>
                    <a:pt x="1533" y="478"/>
                  </a:lnTo>
                  <a:lnTo>
                    <a:pt x="1533" y="510"/>
                  </a:lnTo>
                  <a:lnTo>
                    <a:pt x="1533" y="542"/>
                  </a:lnTo>
                  <a:lnTo>
                    <a:pt x="1548" y="578"/>
                  </a:lnTo>
                  <a:lnTo>
                    <a:pt x="1548" y="615"/>
                  </a:lnTo>
                  <a:lnTo>
                    <a:pt x="1563" y="651"/>
                  </a:lnTo>
                  <a:lnTo>
                    <a:pt x="1563" y="687"/>
                  </a:lnTo>
                  <a:lnTo>
                    <a:pt x="1563" y="724"/>
                  </a:lnTo>
                  <a:lnTo>
                    <a:pt x="1578" y="760"/>
                  </a:lnTo>
                  <a:lnTo>
                    <a:pt x="1578" y="797"/>
                  </a:lnTo>
                  <a:lnTo>
                    <a:pt x="1578" y="834"/>
                  </a:lnTo>
                  <a:lnTo>
                    <a:pt x="1593" y="870"/>
                  </a:lnTo>
                  <a:lnTo>
                    <a:pt x="1593" y="907"/>
                  </a:lnTo>
                  <a:lnTo>
                    <a:pt x="1593" y="948"/>
                  </a:lnTo>
                  <a:lnTo>
                    <a:pt x="1608" y="984"/>
                  </a:lnTo>
                  <a:lnTo>
                    <a:pt x="1608" y="1020"/>
                  </a:lnTo>
                  <a:lnTo>
                    <a:pt x="1623" y="1057"/>
                  </a:lnTo>
                  <a:lnTo>
                    <a:pt x="1623" y="1093"/>
                  </a:lnTo>
                  <a:lnTo>
                    <a:pt x="1623" y="1130"/>
                  </a:lnTo>
                  <a:lnTo>
                    <a:pt x="1638" y="1166"/>
                  </a:lnTo>
                  <a:lnTo>
                    <a:pt x="1638" y="1203"/>
                  </a:lnTo>
                  <a:lnTo>
                    <a:pt x="1638" y="1240"/>
                  </a:lnTo>
                  <a:lnTo>
                    <a:pt x="1653" y="1271"/>
                  </a:lnTo>
                  <a:lnTo>
                    <a:pt x="1653" y="1307"/>
                  </a:lnTo>
                  <a:lnTo>
                    <a:pt x="1653" y="1339"/>
                  </a:lnTo>
                  <a:lnTo>
                    <a:pt x="1668" y="1376"/>
                  </a:lnTo>
                  <a:lnTo>
                    <a:pt x="1668" y="1408"/>
                  </a:lnTo>
                  <a:lnTo>
                    <a:pt x="1668" y="1440"/>
                  </a:lnTo>
                  <a:lnTo>
                    <a:pt x="1683" y="1467"/>
                  </a:lnTo>
                  <a:lnTo>
                    <a:pt x="1683" y="1499"/>
                  </a:lnTo>
                  <a:lnTo>
                    <a:pt x="1698" y="1527"/>
                  </a:lnTo>
                  <a:lnTo>
                    <a:pt x="1698" y="1550"/>
                  </a:lnTo>
                  <a:lnTo>
                    <a:pt x="1698" y="1522"/>
                  </a:lnTo>
                  <a:lnTo>
                    <a:pt x="1713" y="1499"/>
                  </a:lnTo>
                  <a:lnTo>
                    <a:pt x="1713" y="1472"/>
                  </a:lnTo>
                  <a:lnTo>
                    <a:pt x="1713" y="1449"/>
                  </a:lnTo>
                  <a:lnTo>
                    <a:pt x="1728" y="1426"/>
                  </a:lnTo>
                  <a:lnTo>
                    <a:pt x="1728" y="1403"/>
                  </a:lnTo>
                  <a:lnTo>
                    <a:pt x="1728" y="1380"/>
                  </a:lnTo>
                  <a:lnTo>
                    <a:pt x="1743" y="1362"/>
                  </a:lnTo>
                  <a:lnTo>
                    <a:pt x="1743" y="1344"/>
                  </a:lnTo>
                  <a:lnTo>
                    <a:pt x="1758" y="1326"/>
                  </a:lnTo>
                  <a:lnTo>
                    <a:pt x="1758" y="1307"/>
                  </a:lnTo>
                  <a:lnTo>
                    <a:pt x="1758" y="1294"/>
                  </a:lnTo>
                  <a:lnTo>
                    <a:pt x="1773" y="1281"/>
                  </a:lnTo>
                  <a:lnTo>
                    <a:pt x="1773" y="1267"/>
                  </a:lnTo>
                  <a:lnTo>
                    <a:pt x="1773" y="1253"/>
                  </a:lnTo>
                  <a:lnTo>
                    <a:pt x="1788" y="1244"/>
                  </a:lnTo>
                  <a:lnTo>
                    <a:pt x="1788" y="1235"/>
                  </a:lnTo>
                  <a:lnTo>
                    <a:pt x="1788" y="1226"/>
                  </a:lnTo>
                  <a:lnTo>
                    <a:pt x="1804" y="1221"/>
                  </a:lnTo>
                  <a:lnTo>
                    <a:pt x="1804" y="1212"/>
                  </a:lnTo>
                  <a:lnTo>
                    <a:pt x="1819" y="1208"/>
                  </a:lnTo>
                  <a:lnTo>
                    <a:pt x="1819" y="1203"/>
                  </a:lnTo>
                  <a:lnTo>
                    <a:pt x="1834" y="1203"/>
                  </a:lnTo>
                  <a:lnTo>
                    <a:pt x="1849" y="1203"/>
                  </a:lnTo>
                  <a:lnTo>
                    <a:pt x="1849" y="1208"/>
                  </a:lnTo>
                  <a:lnTo>
                    <a:pt x="1849" y="1212"/>
                  </a:lnTo>
                  <a:lnTo>
                    <a:pt x="1864" y="1217"/>
                  </a:lnTo>
                  <a:lnTo>
                    <a:pt x="1864" y="1221"/>
                  </a:lnTo>
                  <a:lnTo>
                    <a:pt x="1864" y="1230"/>
                  </a:lnTo>
                  <a:lnTo>
                    <a:pt x="1879" y="1235"/>
                  </a:lnTo>
                  <a:lnTo>
                    <a:pt x="1879" y="1244"/>
                  </a:lnTo>
                  <a:lnTo>
                    <a:pt x="1894" y="1253"/>
                  </a:lnTo>
                  <a:lnTo>
                    <a:pt x="1894" y="1262"/>
                  </a:lnTo>
                  <a:lnTo>
                    <a:pt x="1894" y="1271"/>
                  </a:lnTo>
                  <a:lnTo>
                    <a:pt x="1909" y="1285"/>
                  </a:lnTo>
                  <a:lnTo>
                    <a:pt x="1909" y="1294"/>
                  </a:lnTo>
                  <a:lnTo>
                    <a:pt x="1909" y="1307"/>
                  </a:lnTo>
                  <a:lnTo>
                    <a:pt x="1924" y="1321"/>
                  </a:lnTo>
                  <a:lnTo>
                    <a:pt x="1924" y="1335"/>
                  </a:lnTo>
                  <a:lnTo>
                    <a:pt x="1924" y="1348"/>
                  </a:lnTo>
                  <a:lnTo>
                    <a:pt x="1939" y="1362"/>
                  </a:lnTo>
                  <a:lnTo>
                    <a:pt x="1939" y="1376"/>
                  </a:lnTo>
                  <a:lnTo>
                    <a:pt x="1954" y="1390"/>
                  </a:lnTo>
                  <a:lnTo>
                    <a:pt x="1954" y="1403"/>
                  </a:lnTo>
                  <a:lnTo>
                    <a:pt x="1954" y="1422"/>
                  </a:lnTo>
                  <a:lnTo>
                    <a:pt x="1969" y="1435"/>
                  </a:lnTo>
                  <a:lnTo>
                    <a:pt x="1969" y="1449"/>
                  </a:lnTo>
                  <a:lnTo>
                    <a:pt x="1969" y="1467"/>
                  </a:lnTo>
                  <a:lnTo>
                    <a:pt x="1984" y="1481"/>
                  </a:lnTo>
                  <a:lnTo>
                    <a:pt x="1984" y="1495"/>
                  </a:lnTo>
                  <a:lnTo>
                    <a:pt x="1984" y="1513"/>
                  </a:lnTo>
                  <a:lnTo>
                    <a:pt x="1999" y="1527"/>
                  </a:lnTo>
                  <a:lnTo>
                    <a:pt x="1999" y="1540"/>
                  </a:lnTo>
                  <a:lnTo>
                    <a:pt x="2014" y="1550"/>
                  </a:lnTo>
                  <a:lnTo>
                    <a:pt x="2014" y="1536"/>
                  </a:lnTo>
                  <a:lnTo>
                    <a:pt x="2014" y="1522"/>
                  </a:lnTo>
                  <a:lnTo>
                    <a:pt x="2029" y="1508"/>
                  </a:lnTo>
                  <a:lnTo>
                    <a:pt x="2029" y="1495"/>
                  </a:lnTo>
                  <a:lnTo>
                    <a:pt x="2029" y="1481"/>
                  </a:lnTo>
                  <a:lnTo>
                    <a:pt x="2044" y="1467"/>
                  </a:lnTo>
                  <a:lnTo>
                    <a:pt x="2044" y="1454"/>
                  </a:lnTo>
                  <a:lnTo>
                    <a:pt x="2044" y="1444"/>
                  </a:lnTo>
                  <a:lnTo>
                    <a:pt x="2059" y="1431"/>
                  </a:lnTo>
                  <a:lnTo>
                    <a:pt x="2059" y="1422"/>
                  </a:lnTo>
                  <a:lnTo>
                    <a:pt x="2059" y="1408"/>
                  </a:lnTo>
                  <a:lnTo>
                    <a:pt x="2074" y="1399"/>
                  </a:lnTo>
                  <a:lnTo>
                    <a:pt x="2074" y="1390"/>
                  </a:lnTo>
                  <a:lnTo>
                    <a:pt x="2090" y="1380"/>
                  </a:lnTo>
                  <a:lnTo>
                    <a:pt x="2090" y="1371"/>
                  </a:lnTo>
                  <a:lnTo>
                    <a:pt x="2090" y="1367"/>
                  </a:lnTo>
                  <a:lnTo>
                    <a:pt x="2105" y="1358"/>
                  </a:lnTo>
                  <a:lnTo>
                    <a:pt x="2105" y="1353"/>
                  </a:lnTo>
                  <a:lnTo>
                    <a:pt x="2105" y="1348"/>
                  </a:lnTo>
                  <a:lnTo>
                    <a:pt x="2120" y="1344"/>
                  </a:lnTo>
                  <a:lnTo>
                    <a:pt x="2120" y="1339"/>
                  </a:lnTo>
                  <a:lnTo>
                    <a:pt x="2120" y="1335"/>
                  </a:lnTo>
                  <a:lnTo>
                    <a:pt x="2135" y="1330"/>
                  </a:lnTo>
                  <a:lnTo>
                    <a:pt x="2150" y="1326"/>
                  </a:lnTo>
                  <a:lnTo>
                    <a:pt x="2165" y="1326"/>
                  </a:lnTo>
                  <a:lnTo>
                    <a:pt x="2165" y="1330"/>
                  </a:lnTo>
                  <a:lnTo>
                    <a:pt x="2180" y="1335"/>
                  </a:lnTo>
                  <a:lnTo>
                    <a:pt x="2180" y="1339"/>
                  </a:lnTo>
                  <a:lnTo>
                    <a:pt x="2195" y="1344"/>
                  </a:lnTo>
                  <a:lnTo>
                    <a:pt x="2195" y="1348"/>
                  </a:lnTo>
                  <a:lnTo>
                    <a:pt x="2195" y="1358"/>
                  </a:lnTo>
                  <a:lnTo>
                    <a:pt x="2210" y="1362"/>
                  </a:lnTo>
                  <a:lnTo>
                    <a:pt x="2210" y="1371"/>
                  </a:lnTo>
                  <a:lnTo>
                    <a:pt x="2225" y="1376"/>
                  </a:lnTo>
                  <a:lnTo>
                    <a:pt x="2225" y="1385"/>
                  </a:lnTo>
                  <a:lnTo>
                    <a:pt x="2225" y="1394"/>
                  </a:lnTo>
                  <a:lnTo>
                    <a:pt x="2240" y="1399"/>
                  </a:lnTo>
                  <a:lnTo>
                    <a:pt x="2240" y="1408"/>
                  </a:lnTo>
                  <a:lnTo>
                    <a:pt x="2240" y="1417"/>
                  </a:lnTo>
                  <a:lnTo>
                    <a:pt x="2255" y="1431"/>
                  </a:lnTo>
                  <a:lnTo>
                    <a:pt x="2255" y="1440"/>
                  </a:lnTo>
                  <a:lnTo>
                    <a:pt x="2255" y="1449"/>
                  </a:lnTo>
                  <a:lnTo>
                    <a:pt x="2270" y="1458"/>
                  </a:lnTo>
                  <a:lnTo>
                    <a:pt x="2270" y="1472"/>
                  </a:lnTo>
                  <a:lnTo>
                    <a:pt x="2285" y="1481"/>
                  </a:lnTo>
                  <a:lnTo>
                    <a:pt x="2285" y="1490"/>
                  </a:lnTo>
                  <a:lnTo>
                    <a:pt x="2285" y="1504"/>
                  </a:lnTo>
                  <a:lnTo>
                    <a:pt x="2300" y="1513"/>
                  </a:lnTo>
                  <a:lnTo>
                    <a:pt x="2300" y="1527"/>
                  </a:lnTo>
                  <a:lnTo>
                    <a:pt x="2300" y="1536"/>
                  </a:lnTo>
                  <a:lnTo>
                    <a:pt x="2315" y="1545"/>
                  </a:lnTo>
                  <a:lnTo>
                    <a:pt x="2315" y="1550"/>
                  </a:lnTo>
                  <a:lnTo>
                    <a:pt x="2315" y="1540"/>
                  </a:lnTo>
                  <a:lnTo>
                    <a:pt x="2330" y="1527"/>
                  </a:lnTo>
                  <a:lnTo>
                    <a:pt x="2330" y="1518"/>
                  </a:lnTo>
                  <a:lnTo>
                    <a:pt x="2345" y="1508"/>
                  </a:lnTo>
                  <a:lnTo>
                    <a:pt x="2345" y="1499"/>
                  </a:lnTo>
                  <a:lnTo>
                    <a:pt x="2345" y="1486"/>
                  </a:lnTo>
                  <a:lnTo>
                    <a:pt x="2361" y="1476"/>
                  </a:lnTo>
                  <a:lnTo>
                    <a:pt x="2361" y="1467"/>
                  </a:lnTo>
                  <a:lnTo>
                    <a:pt x="2361" y="1458"/>
                  </a:lnTo>
                  <a:lnTo>
                    <a:pt x="2376" y="1449"/>
                  </a:lnTo>
                  <a:lnTo>
                    <a:pt x="2376" y="1440"/>
                  </a:lnTo>
                  <a:lnTo>
                    <a:pt x="2376" y="1435"/>
                  </a:lnTo>
                  <a:lnTo>
                    <a:pt x="2391" y="1426"/>
                  </a:lnTo>
                  <a:lnTo>
                    <a:pt x="2391" y="1417"/>
                  </a:lnTo>
                  <a:lnTo>
                    <a:pt x="2391" y="1412"/>
                  </a:lnTo>
                  <a:lnTo>
                    <a:pt x="2406" y="1403"/>
                  </a:lnTo>
                  <a:lnTo>
                    <a:pt x="2406" y="1399"/>
                  </a:lnTo>
                  <a:lnTo>
                    <a:pt x="2421" y="1394"/>
                  </a:lnTo>
                  <a:lnTo>
                    <a:pt x="2421" y="1390"/>
                  </a:lnTo>
                  <a:lnTo>
                    <a:pt x="2421" y="1385"/>
                  </a:lnTo>
                  <a:lnTo>
                    <a:pt x="2433" y="1380"/>
                  </a:lnTo>
                  <a:lnTo>
                    <a:pt x="2433" y="1376"/>
                  </a:lnTo>
                  <a:lnTo>
                    <a:pt x="2448" y="1371"/>
                  </a:lnTo>
                  <a:lnTo>
                    <a:pt x="2463" y="1371"/>
                  </a:lnTo>
                  <a:lnTo>
                    <a:pt x="2478" y="1371"/>
                  </a:lnTo>
                  <a:lnTo>
                    <a:pt x="2493" y="1376"/>
                  </a:lnTo>
                  <a:lnTo>
                    <a:pt x="2493" y="1380"/>
                  </a:lnTo>
                  <a:lnTo>
                    <a:pt x="2509" y="1385"/>
                  </a:lnTo>
                  <a:lnTo>
                    <a:pt x="2509" y="1390"/>
                  </a:lnTo>
                  <a:lnTo>
                    <a:pt x="2509" y="1394"/>
                  </a:lnTo>
                  <a:lnTo>
                    <a:pt x="2524" y="1399"/>
                  </a:lnTo>
                  <a:lnTo>
                    <a:pt x="2524" y="1403"/>
                  </a:lnTo>
                  <a:lnTo>
                    <a:pt x="2539" y="1412"/>
                  </a:lnTo>
                  <a:lnTo>
                    <a:pt x="2539" y="1417"/>
                  </a:lnTo>
                  <a:lnTo>
                    <a:pt x="2539" y="1426"/>
                  </a:lnTo>
                  <a:lnTo>
                    <a:pt x="2554" y="1431"/>
                  </a:lnTo>
                  <a:lnTo>
                    <a:pt x="2554" y="1440"/>
                  </a:lnTo>
                  <a:lnTo>
                    <a:pt x="2554" y="1449"/>
                  </a:lnTo>
                  <a:lnTo>
                    <a:pt x="2569" y="1458"/>
                  </a:lnTo>
                  <a:lnTo>
                    <a:pt x="2569" y="1463"/>
                  </a:lnTo>
                  <a:lnTo>
                    <a:pt x="2569" y="1472"/>
                  </a:lnTo>
                  <a:lnTo>
                    <a:pt x="2584" y="1481"/>
                  </a:lnTo>
                  <a:lnTo>
                    <a:pt x="2584" y="1490"/>
                  </a:lnTo>
                  <a:lnTo>
                    <a:pt x="2584" y="1499"/>
                  </a:lnTo>
                  <a:lnTo>
                    <a:pt x="2599" y="1508"/>
                  </a:lnTo>
                  <a:lnTo>
                    <a:pt x="2599" y="1518"/>
                  </a:lnTo>
                  <a:lnTo>
                    <a:pt x="2614" y="1531"/>
                  </a:lnTo>
                  <a:lnTo>
                    <a:pt x="2614" y="1540"/>
                  </a:lnTo>
                  <a:lnTo>
                    <a:pt x="2614" y="1550"/>
                  </a:lnTo>
                  <a:lnTo>
                    <a:pt x="2629" y="1550"/>
                  </a:lnTo>
                  <a:lnTo>
                    <a:pt x="2629" y="1540"/>
                  </a:lnTo>
                  <a:lnTo>
                    <a:pt x="2629" y="1531"/>
                  </a:lnTo>
                  <a:lnTo>
                    <a:pt x="2644" y="1522"/>
                  </a:lnTo>
                  <a:lnTo>
                    <a:pt x="2644" y="1513"/>
                  </a:lnTo>
                  <a:lnTo>
                    <a:pt x="2644" y="1504"/>
                  </a:lnTo>
                  <a:lnTo>
                    <a:pt x="2659" y="1495"/>
                  </a:lnTo>
                  <a:lnTo>
                    <a:pt x="2659" y="1486"/>
                  </a:lnTo>
                  <a:lnTo>
                    <a:pt x="2674" y="1476"/>
                  </a:lnTo>
                  <a:lnTo>
                    <a:pt x="2674" y="1467"/>
                  </a:lnTo>
                  <a:lnTo>
                    <a:pt x="2674" y="1458"/>
                  </a:lnTo>
                  <a:lnTo>
                    <a:pt x="2689" y="1449"/>
                  </a:lnTo>
                  <a:lnTo>
                    <a:pt x="2689" y="1444"/>
                  </a:lnTo>
                  <a:lnTo>
                    <a:pt x="2689" y="1435"/>
                  </a:lnTo>
                  <a:lnTo>
                    <a:pt x="2704" y="1431"/>
                  </a:lnTo>
                  <a:lnTo>
                    <a:pt x="2704" y="1422"/>
                  </a:lnTo>
                  <a:lnTo>
                    <a:pt x="2704" y="1417"/>
                  </a:lnTo>
                  <a:lnTo>
                    <a:pt x="2719" y="1412"/>
                  </a:lnTo>
                  <a:lnTo>
                    <a:pt x="2719" y="1408"/>
                  </a:lnTo>
                  <a:lnTo>
                    <a:pt x="2719" y="1403"/>
                  </a:lnTo>
                  <a:lnTo>
                    <a:pt x="2734" y="1399"/>
                  </a:lnTo>
                  <a:lnTo>
                    <a:pt x="2734" y="1394"/>
                  </a:lnTo>
                  <a:lnTo>
                    <a:pt x="2749" y="1390"/>
                  </a:lnTo>
                  <a:lnTo>
                    <a:pt x="2749" y="1385"/>
                  </a:lnTo>
                  <a:lnTo>
                    <a:pt x="2764" y="1385"/>
                  </a:lnTo>
                  <a:lnTo>
                    <a:pt x="2764" y="1380"/>
                  </a:lnTo>
                  <a:lnTo>
                    <a:pt x="2780" y="1380"/>
                  </a:lnTo>
                  <a:lnTo>
                    <a:pt x="2795" y="1385"/>
                  </a:lnTo>
                  <a:lnTo>
                    <a:pt x="2810" y="1390"/>
                  </a:lnTo>
                  <a:lnTo>
                    <a:pt x="2810" y="1394"/>
                  </a:lnTo>
                  <a:lnTo>
                    <a:pt x="2825" y="1399"/>
                  </a:lnTo>
                  <a:lnTo>
                    <a:pt x="2825" y="1403"/>
                  </a:lnTo>
                  <a:lnTo>
                    <a:pt x="2825" y="1408"/>
                  </a:lnTo>
                  <a:lnTo>
                    <a:pt x="2840" y="1412"/>
                  </a:lnTo>
                  <a:lnTo>
                    <a:pt x="2840" y="1417"/>
                  </a:lnTo>
                  <a:lnTo>
                    <a:pt x="2840" y="1422"/>
                  </a:lnTo>
                  <a:lnTo>
                    <a:pt x="2855" y="1431"/>
                  </a:lnTo>
                  <a:lnTo>
                    <a:pt x="2855" y="1435"/>
                  </a:lnTo>
                  <a:lnTo>
                    <a:pt x="2870" y="1444"/>
                  </a:lnTo>
                  <a:lnTo>
                    <a:pt x="2870" y="1449"/>
                  </a:lnTo>
                  <a:lnTo>
                    <a:pt x="2870" y="1458"/>
                  </a:lnTo>
                  <a:lnTo>
                    <a:pt x="2885" y="1467"/>
                  </a:lnTo>
                  <a:lnTo>
                    <a:pt x="2885" y="1476"/>
                  </a:lnTo>
                  <a:lnTo>
                    <a:pt x="2885" y="1486"/>
                  </a:lnTo>
                  <a:lnTo>
                    <a:pt x="2900" y="1495"/>
                  </a:lnTo>
                  <a:lnTo>
                    <a:pt x="2900" y="1504"/>
                  </a:lnTo>
                  <a:lnTo>
                    <a:pt x="2900" y="1513"/>
                  </a:lnTo>
                  <a:lnTo>
                    <a:pt x="2915" y="1522"/>
                  </a:lnTo>
                  <a:lnTo>
                    <a:pt x="2915" y="1531"/>
                  </a:lnTo>
                  <a:lnTo>
                    <a:pt x="2915" y="1540"/>
                  </a:lnTo>
                  <a:lnTo>
                    <a:pt x="2930" y="1550"/>
                  </a:lnTo>
                  <a:lnTo>
                    <a:pt x="2945" y="1540"/>
                  </a:lnTo>
                  <a:lnTo>
                    <a:pt x="2945" y="1531"/>
                  </a:lnTo>
                  <a:lnTo>
                    <a:pt x="2945" y="1518"/>
                  </a:lnTo>
                  <a:lnTo>
                    <a:pt x="2960" y="1508"/>
                  </a:lnTo>
                  <a:lnTo>
                    <a:pt x="2960" y="1499"/>
                  </a:lnTo>
                  <a:lnTo>
                    <a:pt x="2960" y="1490"/>
                  </a:lnTo>
                  <a:lnTo>
                    <a:pt x="2975" y="1481"/>
                  </a:lnTo>
                  <a:lnTo>
                    <a:pt x="2975" y="1472"/>
                  </a:lnTo>
                  <a:lnTo>
                    <a:pt x="2975" y="1463"/>
                  </a:lnTo>
                  <a:lnTo>
                    <a:pt x="2990" y="1458"/>
                  </a:lnTo>
                  <a:lnTo>
                    <a:pt x="2990" y="1449"/>
                  </a:lnTo>
                  <a:lnTo>
                    <a:pt x="3005" y="1440"/>
                  </a:lnTo>
                  <a:lnTo>
                    <a:pt x="3005" y="1431"/>
                  </a:lnTo>
                  <a:lnTo>
                    <a:pt x="3005" y="1426"/>
                  </a:lnTo>
                  <a:lnTo>
                    <a:pt x="3020" y="1417"/>
                  </a:lnTo>
                  <a:lnTo>
                    <a:pt x="3020" y="1412"/>
                  </a:lnTo>
                  <a:lnTo>
                    <a:pt x="3020" y="1403"/>
                  </a:lnTo>
                  <a:lnTo>
                    <a:pt x="3035" y="1399"/>
                  </a:lnTo>
                  <a:lnTo>
                    <a:pt x="3035" y="1394"/>
                  </a:lnTo>
                  <a:lnTo>
                    <a:pt x="3035" y="1390"/>
                  </a:lnTo>
                  <a:lnTo>
                    <a:pt x="3051" y="1385"/>
                  </a:lnTo>
                  <a:lnTo>
                    <a:pt x="3051" y="1380"/>
                  </a:lnTo>
                  <a:lnTo>
                    <a:pt x="3066" y="1380"/>
                  </a:lnTo>
                  <a:lnTo>
                    <a:pt x="3066" y="1376"/>
                  </a:lnTo>
                  <a:lnTo>
                    <a:pt x="3066" y="1371"/>
                  </a:lnTo>
                  <a:lnTo>
                    <a:pt x="3081" y="1371"/>
                  </a:lnTo>
                  <a:lnTo>
                    <a:pt x="3096" y="1371"/>
                  </a:lnTo>
                  <a:lnTo>
                    <a:pt x="3111" y="1371"/>
                  </a:lnTo>
                  <a:lnTo>
                    <a:pt x="3111" y="1376"/>
                  </a:lnTo>
                  <a:lnTo>
                    <a:pt x="3126" y="1380"/>
                  </a:lnTo>
                  <a:lnTo>
                    <a:pt x="3126" y="1385"/>
                  </a:lnTo>
                  <a:lnTo>
                    <a:pt x="3141" y="1390"/>
                  </a:lnTo>
                  <a:lnTo>
                    <a:pt x="3141" y="1394"/>
                  </a:lnTo>
                  <a:lnTo>
                    <a:pt x="3141" y="1399"/>
                  </a:lnTo>
                  <a:lnTo>
                    <a:pt x="3156" y="1403"/>
                  </a:lnTo>
                  <a:lnTo>
                    <a:pt x="3156" y="1412"/>
                  </a:lnTo>
                  <a:lnTo>
                    <a:pt x="3156" y="1417"/>
                  </a:lnTo>
                  <a:lnTo>
                    <a:pt x="3171" y="1426"/>
                  </a:lnTo>
                  <a:lnTo>
                    <a:pt x="3171" y="1435"/>
                  </a:lnTo>
                  <a:lnTo>
                    <a:pt x="3171" y="1440"/>
                  </a:lnTo>
                  <a:lnTo>
                    <a:pt x="3186" y="1449"/>
                  </a:lnTo>
                  <a:lnTo>
                    <a:pt x="3186" y="1458"/>
                  </a:lnTo>
                  <a:lnTo>
                    <a:pt x="3201" y="1467"/>
                  </a:lnTo>
                  <a:lnTo>
                    <a:pt x="3201" y="1476"/>
                  </a:lnTo>
                  <a:lnTo>
                    <a:pt x="3201" y="1486"/>
                  </a:lnTo>
                  <a:lnTo>
                    <a:pt x="3216" y="1499"/>
                  </a:lnTo>
                  <a:lnTo>
                    <a:pt x="3216" y="1508"/>
                  </a:lnTo>
                  <a:lnTo>
                    <a:pt x="3216" y="1518"/>
                  </a:lnTo>
                  <a:lnTo>
                    <a:pt x="3231" y="1527"/>
                  </a:lnTo>
                  <a:lnTo>
                    <a:pt x="3231" y="1540"/>
                  </a:lnTo>
                  <a:lnTo>
                    <a:pt x="3231" y="1550"/>
                  </a:lnTo>
                  <a:lnTo>
                    <a:pt x="3246" y="1545"/>
                  </a:lnTo>
                  <a:lnTo>
                    <a:pt x="3246" y="1536"/>
                  </a:lnTo>
                  <a:lnTo>
                    <a:pt x="3261" y="1527"/>
                  </a:lnTo>
                  <a:lnTo>
                    <a:pt x="3261" y="1513"/>
                  </a:lnTo>
                  <a:lnTo>
                    <a:pt x="3261" y="1504"/>
                  </a:lnTo>
                  <a:lnTo>
                    <a:pt x="3276" y="1490"/>
                  </a:lnTo>
                  <a:lnTo>
                    <a:pt x="3276" y="1481"/>
                  </a:lnTo>
                  <a:lnTo>
                    <a:pt x="3276" y="1472"/>
                  </a:lnTo>
                  <a:lnTo>
                    <a:pt x="3291" y="1458"/>
                  </a:lnTo>
                  <a:lnTo>
                    <a:pt x="3291" y="1449"/>
                  </a:lnTo>
                  <a:lnTo>
                    <a:pt x="3291" y="1440"/>
                  </a:lnTo>
                  <a:lnTo>
                    <a:pt x="3306" y="1431"/>
                  </a:lnTo>
                  <a:lnTo>
                    <a:pt x="3306" y="1417"/>
                  </a:lnTo>
                  <a:lnTo>
                    <a:pt x="3306" y="1408"/>
                  </a:lnTo>
                  <a:lnTo>
                    <a:pt x="3321" y="1399"/>
                  </a:lnTo>
                  <a:lnTo>
                    <a:pt x="3321" y="1394"/>
                  </a:lnTo>
                  <a:lnTo>
                    <a:pt x="3337" y="1385"/>
                  </a:lnTo>
                  <a:lnTo>
                    <a:pt x="3337" y="1376"/>
                  </a:lnTo>
                  <a:lnTo>
                    <a:pt x="3337" y="1371"/>
                  </a:lnTo>
                  <a:lnTo>
                    <a:pt x="3352" y="1362"/>
                  </a:lnTo>
                  <a:lnTo>
                    <a:pt x="3352" y="1358"/>
                  </a:lnTo>
                  <a:lnTo>
                    <a:pt x="3352" y="1348"/>
                  </a:lnTo>
                  <a:lnTo>
                    <a:pt x="3367" y="1344"/>
                  </a:lnTo>
                  <a:lnTo>
                    <a:pt x="3367" y="1339"/>
                  </a:lnTo>
                  <a:lnTo>
                    <a:pt x="3382" y="1335"/>
                  </a:lnTo>
                  <a:lnTo>
                    <a:pt x="3382" y="1330"/>
                  </a:lnTo>
                  <a:lnTo>
                    <a:pt x="3397" y="1330"/>
                  </a:lnTo>
                  <a:lnTo>
                    <a:pt x="3397" y="1326"/>
                  </a:lnTo>
                  <a:lnTo>
                    <a:pt x="3412" y="1326"/>
                  </a:lnTo>
                  <a:lnTo>
                    <a:pt x="3412" y="1330"/>
                  </a:lnTo>
                  <a:lnTo>
                    <a:pt x="3427" y="1330"/>
                  </a:lnTo>
                  <a:lnTo>
                    <a:pt x="3427" y="1335"/>
                  </a:lnTo>
                  <a:lnTo>
                    <a:pt x="3427" y="1339"/>
                  </a:lnTo>
                  <a:lnTo>
                    <a:pt x="3442" y="1344"/>
                  </a:lnTo>
                  <a:lnTo>
                    <a:pt x="3442" y="1348"/>
                  </a:lnTo>
                  <a:lnTo>
                    <a:pt x="3442" y="1353"/>
                  </a:lnTo>
                  <a:lnTo>
                    <a:pt x="3457" y="1358"/>
                  </a:lnTo>
                  <a:lnTo>
                    <a:pt x="3457" y="1367"/>
                  </a:lnTo>
                  <a:lnTo>
                    <a:pt x="3472" y="1371"/>
                  </a:lnTo>
                  <a:lnTo>
                    <a:pt x="3472" y="1380"/>
                  </a:lnTo>
                  <a:lnTo>
                    <a:pt x="3472" y="1390"/>
                  </a:lnTo>
                  <a:lnTo>
                    <a:pt x="3487" y="1399"/>
                  </a:lnTo>
                  <a:lnTo>
                    <a:pt x="3487" y="1408"/>
                  </a:lnTo>
                  <a:lnTo>
                    <a:pt x="3487" y="1422"/>
                  </a:lnTo>
                  <a:lnTo>
                    <a:pt x="3502" y="1431"/>
                  </a:lnTo>
                  <a:lnTo>
                    <a:pt x="3502" y="1444"/>
                  </a:lnTo>
                  <a:lnTo>
                    <a:pt x="3502" y="1454"/>
                  </a:lnTo>
                  <a:lnTo>
                    <a:pt x="3517" y="1467"/>
                  </a:lnTo>
                  <a:lnTo>
                    <a:pt x="3517" y="1481"/>
                  </a:lnTo>
                  <a:lnTo>
                    <a:pt x="3532" y="1495"/>
                  </a:lnTo>
                  <a:lnTo>
                    <a:pt x="3532" y="1508"/>
                  </a:lnTo>
                  <a:lnTo>
                    <a:pt x="3532" y="1522"/>
                  </a:lnTo>
                  <a:lnTo>
                    <a:pt x="3547" y="1536"/>
                  </a:lnTo>
                  <a:lnTo>
                    <a:pt x="3547" y="1550"/>
                  </a:lnTo>
                  <a:lnTo>
                    <a:pt x="3547" y="1540"/>
                  </a:lnTo>
                  <a:lnTo>
                    <a:pt x="3562" y="1527"/>
                  </a:lnTo>
                  <a:lnTo>
                    <a:pt x="3562" y="1513"/>
                  </a:lnTo>
                  <a:lnTo>
                    <a:pt x="3562" y="1495"/>
                  </a:lnTo>
                  <a:lnTo>
                    <a:pt x="3577" y="1481"/>
                  </a:lnTo>
                  <a:lnTo>
                    <a:pt x="3577" y="1467"/>
                  </a:lnTo>
                  <a:lnTo>
                    <a:pt x="3592" y="1449"/>
                  </a:lnTo>
                  <a:lnTo>
                    <a:pt x="3592" y="1435"/>
                  </a:lnTo>
                  <a:lnTo>
                    <a:pt x="3592" y="1422"/>
                  </a:lnTo>
                  <a:lnTo>
                    <a:pt x="3608" y="1403"/>
                  </a:lnTo>
                  <a:lnTo>
                    <a:pt x="3608" y="1390"/>
                  </a:lnTo>
                  <a:lnTo>
                    <a:pt x="3608" y="1376"/>
                  </a:lnTo>
                  <a:lnTo>
                    <a:pt x="3623" y="1362"/>
                  </a:lnTo>
                  <a:lnTo>
                    <a:pt x="3623" y="1348"/>
                  </a:lnTo>
                  <a:lnTo>
                    <a:pt x="3623" y="1335"/>
                  </a:lnTo>
                  <a:lnTo>
                    <a:pt x="3638" y="1321"/>
                  </a:lnTo>
                  <a:lnTo>
                    <a:pt x="3638" y="1307"/>
                  </a:lnTo>
                  <a:lnTo>
                    <a:pt x="3638" y="1294"/>
                  </a:lnTo>
                  <a:lnTo>
                    <a:pt x="3653" y="1285"/>
                  </a:lnTo>
                  <a:lnTo>
                    <a:pt x="3653" y="1271"/>
                  </a:lnTo>
                  <a:lnTo>
                    <a:pt x="3668" y="1262"/>
                  </a:lnTo>
                  <a:lnTo>
                    <a:pt x="3668" y="1253"/>
                  </a:lnTo>
                  <a:lnTo>
                    <a:pt x="3668" y="1244"/>
                  </a:lnTo>
                  <a:lnTo>
                    <a:pt x="3683" y="1235"/>
                  </a:lnTo>
                  <a:lnTo>
                    <a:pt x="3683" y="1230"/>
                  </a:lnTo>
                  <a:lnTo>
                    <a:pt x="3683" y="1221"/>
                  </a:lnTo>
                  <a:lnTo>
                    <a:pt x="3698" y="1217"/>
                  </a:lnTo>
                  <a:lnTo>
                    <a:pt x="3698" y="1212"/>
                  </a:lnTo>
                  <a:lnTo>
                    <a:pt x="3698" y="1208"/>
                  </a:lnTo>
                  <a:lnTo>
                    <a:pt x="3713" y="1203"/>
                  </a:lnTo>
                  <a:lnTo>
                    <a:pt x="3728" y="1203"/>
                  </a:lnTo>
                  <a:lnTo>
                    <a:pt x="3743" y="1208"/>
                  </a:lnTo>
                  <a:lnTo>
                    <a:pt x="3743" y="1212"/>
                  </a:lnTo>
                  <a:lnTo>
                    <a:pt x="3758" y="1221"/>
                  </a:lnTo>
                  <a:lnTo>
                    <a:pt x="3758" y="1226"/>
                  </a:lnTo>
                  <a:lnTo>
                    <a:pt x="3758" y="1235"/>
                  </a:lnTo>
                  <a:lnTo>
                    <a:pt x="3773" y="1244"/>
                  </a:lnTo>
                  <a:lnTo>
                    <a:pt x="3773" y="1253"/>
                  </a:lnTo>
                  <a:lnTo>
                    <a:pt x="3788" y="1267"/>
                  </a:lnTo>
                  <a:lnTo>
                    <a:pt x="3788" y="1281"/>
                  </a:lnTo>
                  <a:lnTo>
                    <a:pt x="3788" y="1294"/>
                  </a:lnTo>
                  <a:lnTo>
                    <a:pt x="3803" y="1307"/>
                  </a:lnTo>
                  <a:lnTo>
                    <a:pt x="3803" y="1326"/>
                  </a:lnTo>
                  <a:lnTo>
                    <a:pt x="3803" y="1344"/>
                  </a:lnTo>
                  <a:lnTo>
                    <a:pt x="3818" y="1362"/>
                  </a:lnTo>
                  <a:lnTo>
                    <a:pt x="3818" y="1380"/>
                  </a:lnTo>
                  <a:lnTo>
                    <a:pt x="3818" y="1403"/>
                  </a:lnTo>
                  <a:lnTo>
                    <a:pt x="3831" y="1426"/>
                  </a:lnTo>
                  <a:lnTo>
                    <a:pt x="3831" y="1449"/>
                  </a:lnTo>
                  <a:lnTo>
                    <a:pt x="3831" y="1472"/>
                  </a:lnTo>
                  <a:lnTo>
                    <a:pt x="3846" y="1499"/>
                  </a:lnTo>
                  <a:lnTo>
                    <a:pt x="3846" y="1522"/>
                  </a:lnTo>
                  <a:lnTo>
                    <a:pt x="3861" y="1550"/>
                  </a:lnTo>
                  <a:lnTo>
                    <a:pt x="3861" y="1527"/>
                  </a:lnTo>
                  <a:lnTo>
                    <a:pt x="3861" y="1499"/>
                  </a:lnTo>
                  <a:lnTo>
                    <a:pt x="3876" y="1467"/>
                  </a:lnTo>
                  <a:lnTo>
                    <a:pt x="3876" y="1440"/>
                  </a:lnTo>
                  <a:lnTo>
                    <a:pt x="3876" y="1408"/>
                  </a:lnTo>
                  <a:lnTo>
                    <a:pt x="3891" y="1376"/>
                  </a:lnTo>
                  <a:lnTo>
                    <a:pt x="3891" y="1339"/>
                  </a:lnTo>
                  <a:lnTo>
                    <a:pt x="3891" y="1307"/>
                  </a:lnTo>
                  <a:lnTo>
                    <a:pt x="3906" y="1271"/>
                  </a:lnTo>
                  <a:lnTo>
                    <a:pt x="3906" y="1240"/>
                  </a:lnTo>
                  <a:lnTo>
                    <a:pt x="3921" y="1203"/>
                  </a:lnTo>
                  <a:lnTo>
                    <a:pt x="3921" y="1166"/>
                  </a:lnTo>
                  <a:lnTo>
                    <a:pt x="3921" y="1130"/>
                  </a:lnTo>
                  <a:lnTo>
                    <a:pt x="3936" y="1093"/>
                  </a:lnTo>
                  <a:lnTo>
                    <a:pt x="3936" y="1057"/>
                  </a:lnTo>
                  <a:lnTo>
                    <a:pt x="3936" y="1020"/>
                  </a:lnTo>
                  <a:lnTo>
                    <a:pt x="3951" y="984"/>
                  </a:lnTo>
                  <a:lnTo>
                    <a:pt x="3951" y="948"/>
                  </a:lnTo>
                  <a:lnTo>
                    <a:pt x="3951" y="907"/>
                  </a:lnTo>
                  <a:lnTo>
                    <a:pt x="3966" y="870"/>
                  </a:lnTo>
                  <a:lnTo>
                    <a:pt x="3966" y="834"/>
                  </a:lnTo>
                  <a:lnTo>
                    <a:pt x="3966" y="797"/>
                  </a:lnTo>
                  <a:lnTo>
                    <a:pt x="3981" y="760"/>
                  </a:lnTo>
                  <a:lnTo>
                    <a:pt x="3981" y="724"/>
                  </a:lnTo>
                  <a:lnTo>
                    <a:pt x="3996" y="687"/>
                  </a:lnTo>
                  <a:lnTo>
                    <a:pt x="3996" y="651"/>
                  </a:lnTo>
                  <a:lnTo>
                    <a:pt x="3996" y="615"/>
                  </a:lnTo>
                  <a:lnTo>
                    <a:pt x="4011" y="578"/>
                  </a:lnTo>
                  <a:lnTo>
                    <a:pt x="4011" y="542"/>
                  </a:lnTo>
                  <a:lnTo>
                    <a:pt x="4011" y="510"/>
                  </a:lnTo>
                  <a:lnTo>
                    <a:pt x="4027" y="478"/>
                  </a:lnTo>
                  <a:lnTo>
                    <a:pt x="4027" y="446"/>
                  </a:lnTo>
                  <a:lnTo>
                    <a:pt x="4027" y="414"/>
                  </a:lnTo>
                  <a:lnTo>
                    <a:pt x="4042" y="382"/>
                  </a:lnTo>
                  <a:lnTo>
                    <a:pt x="4042" y="350"/>
                  </a:lnTo>
                  <a:lnTo>
                    <a:pt x="4057" y="323"/>
                  </a:lnTo>
                  <a:lnTo>
                    <a:pt x="4057" y="296"/>
                  </a:lnTo>
                  <a:lnTo>
                    <a:pt x="4057" y="268"/>
                  </a:lnTo>
                  <a:lnTo>
                    <a:pt x="4072" y="241"/>
                  </a:lnTo>
                  <a:lnTo>
                    <a:pt x="4072" y="214"/>
                  </a:lnTo>
                  <a:lnTo>
                    <a:pt x="4072" y="191"/>
                  </a:lnTo>
                  <a:lnTo>
                    <a:pt x="4087" y="168"/>
                  </a:lnTo>
                  <a:lnTo>
                    <a:pt x="4087" y="150"/>
                  </a:lnTo>
                  <a:lnTo>
                    <a:pt x="4087" y="127"/>
                  </a:lnTo>
                  <a:lnTo>
                    <a:pt x="4102" y="108"/>
                  </a:lnTo>
                  <a:lnTo>
                    <a:pt x="4102" y="90"/>
                  </a:lnTo>
                  <a:lnTo>
                    <a:pt x="4117" y="76"/>
                  </a:lnTo>
                  <a:lnTo>
                    <a:pt x="4117" y="63"/>
                  </a:lnTo>
                  <a:lnTo>
                    <a:pt x="4117" y="49"/>
                  </a:lnTo>
                  <a:lnTo>
                    <a:pt x="4132" y="35"/>
                  </a:lnTo>
                  <a:lnTo>
                    <a:pt x="4132" y="26"/>
                  </a:lnTo>
                  <a:lnTo>
                    <a:pt x="4132" y="18"/>
                  </a:lnTo>
                  <a:lnTo>
                    <a:pt x="4147" y="13"/>
                  </a:lnTo>
                  <a:lnTo>
                    <a:pt x="4147" y="9"/>
                  </a:lnTo>
                  <a:lnTo>
                    <a:pt x="4147" y="4"/>
                  </a:lnTo>
                  <a:lnTo>
                    <a:pt x="4162" y="0"/>
                  </a:lnTo>
                  <a:lnTo>
                    <a:pt x="4177" y="4"/>
                  </a:lnTo>
                  <a:lnTo>
                    <a:pt x="4177" y="9"/>
                  </a:lnTo>
                  <a:lnTo>
                    <a:pt x="4192" y="13"/>
                  </a:lnTo>
                  <a:lnTo>
                    <a:pt x="4192" y="18"/>
                  </a:lnTo>
                  <a:lnTo>
                    <a:pt x="4192" y="26"/>
                  </a:lnTo>
                  <a:lnTo>
                    <a:pt x="4207" y="35"/>
                  </a:lnTo>
                  <a:lnTo>
                    <a:pt x="4207" y="49"/>
                  </a:lnTo>
                  <a:lnTo>
                    <a:pt x="4207" y="63"/>
                  </a:lnTo>
                  <a:lnTo>
                    <a:pt x="4222" y="76"/>
                  </a:lnTo>
                  <a:lnTo>
                    <a:pt x="4222" y="90"/>
                  </a:lnTo>
                  <a:lnTo>
                    <a:pt x="4222" y="108"/>
                  </a:lnTo>
                  <a:lnTo>
                    <a:pt x="4237" y="127"/>
                  </a:lnTo>
                  <a:lnTo>
                    <a:pt x="4237" y="150"/>
                  </a:lnTo>
                  <a:lnTo>
                    <a:pt x="4252" y="168"/>
                  </a:lnTo>
                  <a:lnTo>
                    <a:pt x="4252" y="191"/>
                  </a:lnTo>
                  <a:lnTo>
                    <a:pt x="4252" y="214"/>
                  </a:lnTo>
                  <a:lnTo>
                    <a:pt x="4267" y="241"/>
                  </a:lnTo>
                  <a:lnTo>
                    <a:pt x="4267" y="268"/>
                  </a:lnTo>
                  <a:lnTo>
                    <a:pt x="4267" y="296"/>
                  </a:lnTo>
                  <a:lnTo>
                    <a:pt x="4282" y="323"/>
                  </a:lnTo>
                  <a:lnTo>
                    <a:pt x="4282" y="350"/>
                  </a:lnTo>
                  <a:lnTo>
                    <a:pt x="4282" y="382"/>
                  </a:lnTo>
                  <a:lnTo>
                    <a:pt x="4298" y="414"/>
                  </a:lnTo>
                  <a:lnTo>
                    <a:pt x="4298" y="446"/>
                  </a:lnTo>
                  <a:lnTo>
                    <a:pt x="4313" y="478"/>
                  </a:lnTo>
                  <a:lnTo>
                    <a:pt x="4313" y="510"/>
                  </a:lnTo>
                  <a:lnTo>
                    <a:pt x="4313" y="542"/>
                  </a:lnTo>
                  <a:lnTo>
                    <a:pt x="4328" y="578"/>
                  </a:lnTo>
                  <a:lnTo>
                    <a:pt x="4328" y="615"/>
                  </a:lnTo>
                  <a:lnTo>
                    <a:pt x="4328" y="651"/>
                  </a:lnTo>
                  <a:lnTo>
                    <a:pt x="4343" y="687"/>
                  </a:lnTo>
                  <a:lnTo>
                    <a:pt x="4343" y="724"/>
                  </a:lnTo>
                  <a:lnTo>
                    <a:pt x="4343" y="760"/>
                  </a:lnTo>
                  <a:lnTo>
                    <a:pt x="4358" y="797"/>
                  </a:lnTo>
                  <a:lnTo>
                    <a:pt x="4358" y="834"/>
                  </a:lnTo>
                  <a:lnTo>
                    <a:pt x="4358" y="870"/>
                  </a:lnTo>
                  <a:lnTo>
                    <a:pt x="4373" y="907"/>
                  </a:lnTo>
                  <a:lnTo>
                    <a:pt x="4373" y="948"/>
                  </a:lnTo>
                  <a:lnTo>
                    <a:pt x="4388" y="984"/>
                  </a:lnTo>
                  <a:lnTo>
                    <a:pt x="4388" y="1020"/>
                  </a:lnTo>
                  <a:lnTo>
                    <a:pt x="4388" y="1057"/>
                  </a:lnTo>
                  <a:lnTo>
                    <a:pt x="4403" y="1093"/>
                  </a:lnTo>
                  <a:lnTo>
                    <a:pt x="4403" y="1130"/>
                  </a:lnTo>
                  <a:lnTo>
                    <a:pt x="4403" y="1166"/>
                  </a:lnTo>
                  <a:lnTo>
                    <a:pt x="4418" y="1203"/>
                  </a:lnTo>
                  <a:lnTo>
                    <a:pt x="4418" y="1240"/>
                  </a:lnTo>
                  <a:lnTo>
                    <a:pt x="4418" y="1271"/>
                  </a:lnTo>
                  <a:lnTo>
                    <a:pt x="4433" y="1307"/>
                  </a:lnTo>
                  <a:lnTo>
                    <a:pt x="4433" y="1339"/>
                  </a:lnTo>
                  <a:lnTo>
                    <a:pt x="4448" y="1376"/>
                  </a:lnTo>
                  <a:lnTo>
                    <a:pt x="4448" y="1408"/>
                  </a:lnTo>
                  <a:lnTo>
                    <a:pt x="4448" y="1440"/>
                  </a:lnTo>
                  <a:lnTo>
                    <a:pt x="4463" y="1467"/>
                  </a:lnTo>
                  <a:lnTo>
                    <a:pt x="4463" y="1499"/>
                  </a:lnTo>
                  <a:lnTo>
                    <a:pt x="4463" y="1527"/>
                  </a:lnTo>
                  <a:lnTo>
                    <a:pt x="4478" y="1550"/>
                  </a:lnTo>
                  <a:lnTo>
                    <a:pt x="4478" y="1522"/>
                  </a:lnTo>
                  <a:lnTo>
                    <a:pt x="4478" y="1499"/>
                  </a:lnTo>
                  <a:lnTo>
                    <a:pt x="4493" y="1472"/>
                  </a:lnTo>
                  <a:lnTo>
                    <a:pt x="4493" y="1449"/>
                  </a:lnTo>
                  <a:lnTo>
                    <a:pt x="4493" y="1426"/>
                  </a:lnTo>
                  <a:lnTo>
                    <a:pt x="4508" y="1403"/>
                  </a:lnTo>
                  <a:lnTo>
                    <a:pt x="4508" y="1380"/>
                  </a:lnTo>
                  <a:lnTo>
                    <a:pt x="4523" y="1362"/>
                  </a:lnTo>
                  <a:lnTo>
                    <a:pt x="4523" y="1344"/>
                  </a:lnTo>
                  <a:lnTo>
                    <a:pt x="4523" y="1326"/>
                  </a:lnTo>
                  <a:lnTo>
                    <a:pt x="4538" y="1307"/>
                  </a:lnTo>
                  <a:lnTo>
                    <a:pt x="4538" y="1294"/>
                  </a:lnTo>
                  <a:lnTo>
                    <a:pt x="4538" y="1281"/>
                  </a:lnTo>
                  <a:lnTo>
                    <a:pt x="4553" y="1267"/>
                  </a:lnTo>
                  <a:lnTo>
                    <a:pt x="4553" y="1253"/>
                  </a:lnTo>
                  <a:lnTo>
                    <a:pt x="4553" y="1244"/>
                  </a:lnTo>
                  <a:lnTo>
                    <a:pt x="4568" y="1235"/>
                  </a:lnTo>
                  <a:lnTo>
                    <a:pt x="4568" y="1226"/>
                  </a:lnTo>
                  <a:lnTo>
                    <a:pt x="4584" y="1221"/>
                  </a:lnTo>
                  <a:lnTo>
                    <a:pt x="4584" y="1212"/>
                  </a:lnTo>
                  <a:lnTo>
                    <a:pt x="4584" y="1208"/>
                  </a:lnTo>
                  <a:lnTo>
                    <a:pt x="4599" y="1208"/>
                  </a:lnTo>
                  <a:lnTo>
                    <a:pt x="4599" y="1203"/>
                  </a:lnTo>
                  <a:lnTo>
                    <a:pt x="4614" y="1203"/>
                  </a:lnTo>
                  <a:lnTo>
                    <a:pt x="4629" y="1208"/>
                  </a:lnTo>
                  <a:lnTo>
                    <a:pt x="4629" y="1212"/>
                  </a:lnTo>
                  <a:lnTo>
                    <a:pt x="4644" y="1217"/>
                  </a:lnTo>
                  <a:lnTo>
                    <a:pt x="4644" y="1221"/>
                  </a:lnTo>
                  <a:lnTo>
                    <a:pt x="4644" y="1230"/>
                  </a:lnTo>
                  <a:lnTo>
                    <a:pt x="4659" y="1235"/>
                  </a:lnTo>
                  <a:lnTo>
                    <a:pt x="4659" y="1244"/>
                  </a:lnTo>
                  <a:lnTo>
                    <a:pt x="4659" y="1253"/>
                  </a:lnTo>
                  <a:lnTo>
                    <a:pt x="4674" y="1262"/>
                  </a:lnTo>
                  <a:lnTo>
                    <a:pt x="4674" y="1271"/>
                  </a:lnTo>
                  <a:lnTo>
                    <a:pt x="4674" y="1285"/>
                  </a:lnTo>
                  <a:lnTo>
                    <a:pt x="4689" y="1294"/>
                  </a:lnTo>
                  <a:lnTo>
                    <a:pt x="4689" y="1307"/>
                  </a:lnTo>
                  <a:lnTo>
                    <a:pt x="4689" y="1321"/>
                  </a:lnTo>
                  <a:lnTo>
                    <a:pt x="4704" y="1335"/>
                  </a:lnTo>
                  <a:lnTo>
                    <a:pt x="4704" y="1348"/>
                  </a:lnTo>
                  <a:lnTo>
                    <a:pt x="4719" y="1362"/>
                  </a:lnTo>
                  <a:lnTo>
                    <a:pt x="4719" y="1376"/>
                  </a:lnTo>
                  <a:lnTo>
                    <a:pt x="4719" y="1390"/>
                  </a:lnTo>
                  <a:lnTo>
                    <a:pt x="4734" y="1403"/>
                  </a:lnTo>
                  <a:lnTo>
                    <a:pt x="4734" y="1422"/>
                  </a:lnTo>
                  <a:lnTo>
                    <a:pt x="4734" y="1435"/>
                  </a:lnTo>
                  <a:lnTo>
                    <a:pt x="4749" y="1449"/>
                  </a:lnTo>
                  <a:lnTo>
                    <a:pt x="4749" y="1467"/>
                  </a:lnTo>
                  <a:lnTo>
                    <a:pt x="4749" y="1481"/>
                  </a:lnTo>
                  <a:lnTo>
                    <a:pt x="4764" y="1495"/>
                  </a:lnTo>
                  <a:lnTo>
                    <a:pt x="4764" y="1513"/>
                  </a:lnTo>
                  <a:lnTo>
                    <a:pt x="4779" y="1527"/>
                  </a:lnTo>
                  <a:lnTo>
                    <a:pt x="4779" y="1540"/>
                  </a:lnTo>
                  <a:lnTo>
                    <a:pt x="4779" y="1550"/>
                  </a:lnTo>
                  <a:lnTo>
                    <a:pt x="4794" y="1536"/>
                  </a:lnTo>
                  <a:lnTo>
                    <a:pt x="4794" y="1522"/>
                  </a:lnTo>
                  <a:lnTo>
                    <a:pt x="4794" y="1508"/>
                  </a:lnTo>
                  <a:lnTo>
                    <a:pt x="4809" y="1495"/>
                  </a:lnTo>
                  <a:lnTo>
                    <a:pt x="4809" y="1481"/>
                  </a:lnTo>
                  <a:lnTo>
                    <a:pt x="4809" y="1467"/>
                  </a:lnTo>
                  <a:lnTo>
                    <a:pt x="4824" y="1454"/>
                  </a:lnTo>
                  <a:lnTo>
                    <a:pt x="4824" y="1444"/>
                  </a:lnTo>
                  <a:lnTo>
                    <a:pt x="4839" y="1431"/>
                  </a:lnTo>
                  <a:lnTo>
                    <a:pt x="4839" y="1422"/>
                  </a:lnTo>
                  <a:lnTo>
                    <a:pt x="4839" y="1408"/>
                  </a:lnTo>
                  <a:lnTo>
                    <a:pt x="4855" y="1399"/>
                  </a:lnTo>
                  <a:lnTo>
                    <a:pt x="4855" y="1390"/>
                  </a:lnTo>
                  <a:lnTo>
                    <a:pt x="4855" y="1380"/>
                  </a:lnTo>
                  <a:lnTo>
                    <a:pt x="4870" y="1371"/>
                  </a:lnTo>
                  <a:lnTo>
                    <a:pt x="4870" y="1367"/>
                  </a:lnTo>
                  <a:lnTo>
                    <a:pt x="4870" y="1358"/>
                  </a:lnTo>
                  <a:lnTo>
                    <a:pt x="4885" y="1353"/>
                  </a:lnTo>
                  <a:lnTo>
                    <a:pt x="4885" y="1348"/>
                  </a:lnTo>
                  <a:lnTo>
                    <a:pt x="4885" y="1344"/>
                  </a:lnTo>
                  <a:lnTo>
                    <a:pt x="4900" y="1339"/>
                  </a:lnTo>
                  <a:lnTo>
                    <a:pt x="4900" y="1335"/>
                  </a:lnTo>
                  <a:lnTo>
                    <a:pt x="4915" y="1330"/>
                  </a:lnTo>
                  <a:lnTo>
                    <a:pt x="4915" y="1326"/>
                  </a:lnTo>
                  <a:lnTo>
                    <a:pt x="4930" y="1326"/>
                  </a:lnTo>
                  <a:lnTo>
                    <a:pt x="4945" y="1330"/>
                  </a:lnTo>
                  <a:lnTo>
                    <a:pt x="4945" y="1335"/>
                  </a:lnTo>
                  <a:lnTo>
                    <a:pt x="4960" y="1339"/>
                  </a:lnTo>
                  <a:lnTo>
                    <a:pt x="4975" y="1344"/>
                  </a:lnTo>
                  <a:lnTo>
                    <a:pt x="4975" y="1348"/>
                  </a:lnTo>
                  <a:lnTo>
                    <a:pt x="4975" y="1358"/>
                  </a:lnTo>
                  <a:lnTo>
                    <a:pt x="4990" y="1362"/>
                  </a:lnTo>
                  <a:lnTo>
                    <a:pt x="4990" y="1371"/>
                  </a:lnTo>
                  <a:lnTo>
                    <a:pt x="4990" y="1376"/>
                  </a:lnTo>
                  <a:lnTo>
                    <a:pt x="5005" y="1385"/>
                  </a:lnTo>
                  <a:lnTo>
                    <a:pt x="5005" y="1394"/>
                  </a:lnTo>
                  <a:lnTo>
                    <a:pt x="5005" y="1399"/>
                  </a:lnTo>
                  <a:lnTo>
                    <a:pt x="5020" y="1408"/>
                  </a:lnTo>
                  <a:lnTo>
                    <a:pt x="5020" y="1417"/>
                  </a:lnTo>
                  <a:lnTo>
                    <a:pt x="5020" y="1431"/>
                  </a:lnTo>
                  <a:lnTo>
                    <a:pt x="5035" y="1440"/>
                  </a:lnTo>
                  <a:lnTo>
                    <a:pt x="5035" y="1449"/>
                  </a:lnTo>
                  <a:lnTo>
                    <a:pt x="5050" y="1458"/>
                  </a:lnTo>
                  <a:lnTo>
                    <a:pt x="5050" y="1472"/>
                  </a:lnTo>
                  <a:lnTo>
                    <a:pt x="5050" y="1481"/>
                  </a:lnTo>
                  <a:lnTo>
                    <a:pt x="5065" y="1490"/>
                  </a:lnTo>
                  <a:lnTo>
                    <a:pt x="5065" y="1504"/>
                  </a:lnTo>
                  <a:lnTo>
                    <a:pt x="5065" y="1513"/>
                  </a:lnTo>
                  <a:lnTo>
                    <a:pt x="5080" y="1527"/>
                  </a:lnTo>
                  <a:lnTo>
                    <a:pt x="5080" y="1536"/>
                  </a:lnTo>
                  <a:lnTo>
                    <a:pt x="5080" y="1545"/>
                  </a:lnTo>
                  <a:lnTo>
                    <a:pt x="5095" y="1550"/>
                  </a:lnTo>
                  <a:lnTo>
                    <a:pt x="5095" y="1540"/>
                  </a:lnTo>
                  <a:lnTo>
                    <a:pt x="5110" y="1527"/>
                  </a:lnTo>
                  <a:lnTo>
                    <a:pt x="5110" y="1518"/>
                  </a:lnTo>
                  <a:lnTo>
                    <a:pt x="5110" y="1508"/>
                  </a:lnTo>
                  <a:lnTo>
                    <a:pt x="5125" y="1499"/>
                  </a:lnTo>
                  <a:lnTo>
                    <a:pt x="5125" y="1486"/>
                  </a:lnTo>
                  <a:lnTo>
                    <a:pt x="5125" y="1476"/>
                  </a:lnTo>
                  <a:lnTo>
                    <a:pt x="5141" y="1467"/>
                  </a:lnTo>
                  <a:lnTo>
                    <a:pt x="5141" y="1458"/>
                  </a:lnTo>
                  <a:lnTo>
                    <a:pt x="5141" y="1449"/>
                  </a:lnTo>
                  <a:lnTo>
                    <a:pt x="5156" y="1440"/>
                  </a:lnTo>
                  <a:lnTo>
                    <a:pt x="5156" y="1435"/>
                  </a:lnTo>
                  <a:lnTo>
                    <a:pt x="5171" y="1426"/>
                  </a:lnTo>
                  <a:lnTo>
                    <a:pt x="5171" y="1417"/>
                  </a:lnTo>
                  <a:lnTo>
                    <a:pt x="5171" y="1412"/>
                  </a:lnTo>
                  <a:lnTo>
                    <a:pt x="5186" y="1403"/>
                  </a:lnTo>
                  <a:lnTo>
                    <a:pt x="5186" y="1399"/>
                  </a:lnTo>
                  <a:lnTo>
                    <a:pt x="5186" y="1394"/>
                  </a:lnTo>
                  <a:lnTo>
                    <a:pt x="5201" y="1390"/>
                  </a:lnTo>
                  <a:lnTo>
                    <a:pt x="5201" y="1385"/>
                  </a:lnTo>
                  <a:lnTo>
                    <a:pt x="5201" y="1380"/>
                  </a:lnTo>
                  <a:lnTo>
                    <a:pt x="5216" y="1376"/>
                  </a:lnTo>
                  <a:lnTo>
                    <a:pt x="5216" y="1371"/>
                  </a:lnTo>
                  <a:lnTo>
                    <a:pt x="5231" y="1371"/>
                  </a:lnTo>
                  <a:lnTo>
                    <a:pt x="5243" y="1371"/>
                  </a:lnTo>
                  <a:lnTo>
                    <a:pt x="5258" y="1371"/>
                  </a:lnTo>
                  <a:lnTo>
                    <a:pt x="5258" y="1376"/>
                  </a:lnTo>
                  <a:lnTo>
                    <a:pt x="5274" y="1380"/>
                  </a:lnTo>
                  <a:lnTo>
                    <a:pt x="5274" y="1385"/>
                  </a:lnTo>
                  <a:lnTo>
                    <a:pt x="5289" y="1390"/>
                  </a:lnTo>
                  <a:lnTo>
                    <a:pt x="5289" y="1394"/>
                  </a:lnTo>
                  <a:lnTo>
                    <a:pt x="5304" y="1399"/>
                  </a:lnTo>
                  <a:lnTo>
                    <a:pt x="5304" y="1403"/>
                  </a:lnTo>
                  <a:lnTo>
                    <a:pt x="5304" y="1412"/>
                  </a:lnTo>
                  <a:lnTo>
                    <a:pt x="5319" y="1417"/>
                  </a:lnTo>
                  <a:lnTo>
                    <a:pt x="5319" y="1426"/>
                  </a:lnTo>
                  <a:lnTo>
                    <a:pt x="5319" y="1431"/>
                  </a:lnTo>
                  <a:lnTo>
                    <a:pt x="5334" y="1440"/>
                  </a:lnTo>
                  <a:lnTo>
                    <a:pt x="5334" y="1449"/>
                  </a:lnTo>
                  <a:lnTo>
                    <a:pt x="5334" y="1458"/>
                  </a:lnTo>
                  <a:lnTo>
                    <a:pt x="5349" y="1463"/>
                  </a:lnTo>
                  <a:lnTo>
                    <a:pt x="5349" y="1472"/>
                  </a:lnTo>
                  <a:lnTo>
                    <a:pt x="5364" y="1481"/>
                  </a:lnTo>
                  <a:lnTo>
                    <a:pt x="5364" y="1490"/>
                  </a:lnTo>
                  <a:lnTo>
                    <a:pt x="5364" y="1499"/>
                  </a:lnTo>
                  <a:lnTo>
                    <a:pt x="5379" y="1508"/>
                  </a:lnTo>
                  <a:lnTo>
                    <a:pt x="5379" y="1518"/>
                  </a:lnTo>
                  <a:lnTo>
                    <a:pt x="5379" y="1531"/>
                  </a:lnTo>
                  <a:lnTo>
                    <a:pt x="5394" y="1540"/>
                  </a:lnTo>
                  <a:lnTo>
                    <a:pt x="5394" y="1550"/>
                  </a:lnTo>
                  <a:lnTo>
                    <a:pt x="5409" y="1540"/>
                  </a:lnTo>
                  <a:lnTo>
                    <a:pt x="5409" y="1531"/>
                  </a:lnTo>
                  <a:lnTo>
                    <a:pt x="5409" y="1522"/>
                  </a:lnTo>
                  <a:lnTo>
                    <a:pt x="5424" y="1513"/>
                  </a:lnTo>
                  <a:lnTo>
                    <a:pt x="5424" y="1504"/>
                  </a:lnTo>
                  <a:lnTo>
                    <a:pt x="5439" y="1495"/>
                  </a:lnTo>
                  <a:lnTo>
                    <a:pt x="5439" y="1486"/>
                  </a:lnTo>
                  <a:lnTo>
                    <a:pt x="5439" y="1476"/>
                  </a:lnTo>
                  <a:lnTo>
                    <a:pt x="5454" y="1467"/>
                  </a:lnTo>
                  <a:lnTo>
                    <a:pt x="5454" y="1458"/>
                  </a:lnTo>
                  <a:lnTo>
                    <a:pt x="5454" y="1449"/>
                  </a:lnTo>
                  <a:lnTo>
                    <a:pt x="5469" y="1444"/>
                  </a:lnTo>
                  <a:lnTo>
                    <a:pt x="5469" y="1435"/>
                  </a:lnTo>
                  <a:lnTo>
                    <a:pt x="5469" y="1431"/>
                  </a:lnTo>
                  <a:lnTo>
                    <a:pt x="5484" y="1422"/>
                  </a:lnTo>
                  <a:lnTo>
                    <a:pt x="5484" y="1417"/>
                  </a:lnTo>
                  <a:lnTo>
                    <a:pt x="5499" y="1412"/>
                  </a:lnTo>
                  <a:lnTo>
                    <a:pt x="5499" y="1408"/>
                  </a:lnTo>
                  <a:lnTo>
                    <a:pt x="5499" y="1403"/>
                  </a:lnTo>
                  <a:lnTo>
                    <a:pt x="5514" y="1399"/>
                  </a:lnTo>
                  <a:lnTo>
                    <a:pt x="5514" y="1394"/>
                  </a:lnTo>
                  <a:lnTo>
                    <a:pt x="5514" y="1390"/>
                  </a:lnTo>
                  <a:lnTo>
                    <a:pt x="5529" y="1390"/>
                  </a:lnTo>
                  <a:lnTo>
                    <a:pt x="5529" y="1385"/>
                  </a:lnTo>
                  <a:lnTo>
                    <a:pt x="5545" y="1380"/>
                  </a:lnTo>
                </a:path>
              </a:pathLst>
            </a:custGeom>
            <a:noFill/>
            <a:ln cap="rnd"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446720" y="5978520"/>
              <a:ext cx="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809920" y="6048360"/>
              <a:ext cx="36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8" name=""/>
                <p:cNvSpPr txBox="1"/>
                <p:nvPr/>
              </p:nvSpPr>
              <p:spPr>
                <a:xfrm>
                  <a:off x="1228680" y="6068880"/>
                  <a:ext cx="93672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39" name=""/>
            <p:cNvSpPr/>
            <p:nvPr/>
          </p:nvSpPr>
          <p:spPr>
            <a:xfrm>
              <a:off x="1749600" y="5951520"/>
              <a:ext cx="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382400" y="1663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dfca"/>
                </a:solidFill>
                <a:latin typeface="Times New Roman"/>
              </a:rPr>
              <a:t>Gibbsov fenomen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grpSp>
        <p:nvGrpSpPr>
          <p:cNvPr id="1341" name=""/>
          <p:cNvGrpSpPr/>
          <p:nvPr/>
        </p:nvGrpSpPr>
        <p:grpSpPr>
          <a:xfrm>
            <a:off x="222120" y="1011240"/>
            <a:ext cx="4895280" cy="2563920"/>
            <a:chOff x="222120" y="1011240"/>
            <a:chExt cx="4895280" cy="2563920"/>
          </a:xfrm>
        </p:grpSpPr>
        <p:sp>
          <p:nvSpPr>
            <p:cNvPr id="1342" name=""/>
            <p:cNvSpPr/>
            <p:nvPr/>
          </p:nvSpPr>
          <p:spPr>
            <a:xfrm>
              <a:off x="4404960" y="1731960"/>
              <a:ext cx="71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2120" y="3111480"/>
              <a:ext cx="468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V="1">
              <a:off x="1380960" y="1073160"/>
              <a:ext cx="0" cy="217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5" name=""/>
                <p:cNvSpPr txBox="1"/>
                <p:nvPr/>
              </p:nvSpPr>
              <p:spPr>
                <a:xfrm>
                  <a:off x="1403280" y="3119400"/>
                  <a:ext cx="37476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46" name=""/>
            <p:cNvSpPr/>
            <p:nvPr/>
          </p:nvSpPr>
          <p:spPr>
            <a:xfrm>
              <a:off x="2379240" y="3090960"/>
              <a:ext cx="296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481560" y="3105000"/>
              <a:ext cx="458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645000" y="3076560"/>
              <a:ext cx="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396800" y="1011240"/>
              <a:ext cx="924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Times New Roman"/>
                </a:rPr>
                <a:t>|</a:t>
              </a:r>
              <a:r>
                <a:rPr b="0" i="1" lang="hr-HR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hr-HR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hr-HR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i="1" lang="hr-HR" sz="2000" spc="-1" strike="noStrike" baseline="30000">
                  <a:solidFill>
                    <a:srgbClr val="ffffff"/>
                  </a:solidFill>
                  <a:latin typeface="Times New Roman"/>
                </a:rPr>
                <a:t>j</a:t>
              </a:r>
              <a:r>
                <a:rPr b="0" i="1" lang="hr-HR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hr-HR" sz="2000" spc="-1" strike="noStrike">
                  <a:solidFill>
                    <a:srgbClr val="ffffff"/>
                  </a:solidFill>
                  <a:latin typeface="Times New Roman"/>
                </a:rPr>
                <a:t>)|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623960" y="3054240"/>
              <a:ext cx="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743120" y="3062160"/>
              <a:ext cx="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346040" y="1482840"/>
              <a:ext cx="6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41200" y="1488960"/>
              <a:ext cx="4515120" cy="1623960"/>
            </a:xfrm>
            <a:custGeom>
              <a:avLst/>
              <a:gdLst/>
              <a:ahLst/>
              <a:rect l="l" t="t" r="r" b="b"/>
              <a:pathLst>
                <a:path w="2844" h="1023">
                  <a:moveTo>
                    <a:pt x="0" y="910"/>
                  </a:moveTo>
                  <a:lnTo>
                    <a:pt x="7" y="910"/>
                  </a:lnTo>
                  <a:lnTo>
                    <a:pt x="7" y="913"/>
                  </a:lnTo>
                  <a:lnTo>
                    <a:pt x="15" y="916"/>
                  </a:lnTo>
                  <a:lnTo>
                    <a:pt x="23" y="919"/>
                  </a:lnTo>
                  <a:lnTo>
                    <a:pt x="23" y="922"/>
                  </a:lnTo>
                  <a:lnTo>
                    <a:pt x="23" y="925"/>
                  </a:lnTo>
                  <a:lnTo>
                    <a:pt x="30" y="928"/>
                  </a:lnTo>
                  <a:lnTo>
                    <a:pt x="30" y="931"/>
                  </a:lnTo>
                  <a:lnTo>
                    <a:pt x="30" y="934"/>
                  </a:lnTo>
                  <a:lnTo>
                    <a:pt x="38" y="937"/>
                  </a:lnTo>
                  <a:lnTo>
                    <a:pt x="38" y="943"/>
                  </a:lnTo>
                  <a:lnTo>
                    <a:pt x="38" y="946"/>
                  </a:lnTo>
                  <a:lnTo>
                    <a:pt x="46" y="952"/>
                  </a:lnTo>
                  <a:lnTo>
                    <a:pt x="46" y="955"/>
                  </a:lnTo>
                  <a:lnTo>
                    <a:pt x="46" y="961"/>
                  </a:lnTo>
                  <a:lnTo>
                    <a:pt x="54" y="967"/>
                  </a:lnTo>
                  <a:lnTo>
                    <a:pt x="54" y="973"/>
                  </a:lnTo>
                  <a:lnTo>
                    <a:pt x="61" y="979"/>
                  </a:lnTo>
                  <a:lnTo>
                    <a:pt x="61" y="985"/>
                  </a:lnTo>
                  <a:lnTo>
                    <a:pt x="61" y="991"/>
                  </a:lnTo>
                  <a:lnTo>
                    <a:pt x="69" y="997"/>
                  </a:lnTo>
                  <a:lnTo>
                    <a:pt x="69" y="1003"/>
                  </a:lnTo>
                  <a:lnTo>
                    <a:pt x="69" y="1009"/>
                  </a:lnTo>
                  <a:lnTo>
                    <a:pt x="77" y="1015"/>
                  </a:lnTo>
                  <a:lnTo>
                    <a:pt x="77" y="1022"/>
                  </a:lnTo>
                  <a:lnTo>
                    <a:pt x="84" y="1015"/>
                  </a:lnTo>
                  <a:lnTo>
                    <a:pt x="84" y="1009"/>
                  </a:lnTo>
                  <a:lnTo>
                    <a:pt x="92" y="1000"/>
                  </a:lnTo>
                  <a:lnTo>
                    <a:pt x="92" y="994"/>
                  </a:lnTo>
                  <a:lnTo>
                    <a:pt x="92" y="988"/>
                  </a:lnTo>
                  <a:lnTo>
                    <a:pt x="100" y="982"/>
                  </a:lnTo>
                  <a:lnTo>
                    <a:pt x="100" y="976"/>
                  </a:lnTo>
                  <a:lnTo>
                    <a:pt x="100" y="970"/>
                  </a:lnTo>
                  <a:lnTo>
                    <a:pt x="108" y="964"/>
                  </a:lnTo>
                  <a:lnTo>
                    <a:pt x="108" y="961"/>
                  </a:lnTo>
                  <a:lnTo>
                    <a:pt x="108" y="955"/>
                  </a:lnTo>
                  <a:lnTo>
                    <a:pt x="115" y="949"/>
                  </a:lnTo>
                  <a:lnTo>
                    <a:pt x="115" y="943"/>
                  </a:lnTo>
                  <a:lnTo>
                    <a:pt x="123" y="940"/>
                  </a:lnTo>
                  <a:lnTo>
                    <a:pt x="123" y="934"/>
                  </a:lnTo>
                  <a:lnTo>
                    <a:pt x="123" y="931"/>
                  </a:lnTo>
                  <a:lnTo>
                    <a:pt x="131" y="925"/>
                  </a:lnTo>
                  <a:lnTo>
                    <a:pt x="131" y="922"/>
                  </a:lnTo>
                  <a:lnTo>
                    <a:pt x="131" y="919"/>
                  </a:lnTo>
                  <a:lnTo>
                    <a:pt x="138" y="916"/>
                  </a:lnTo>
                  <a:lnTo>
                    <a:pt x="138" y="913"/>
                  </a:lnTo>
                  <a:lnTo>
                    <a:pt x="138" y="910"/>
                  </a:lnTo>
                  <a:lnTo>
                    <a:pt x="146" y="910"/>
                  </a:lnTo>
                  <a:lnTo>
                    <a:pt x="146" y="907"/>
                  </a:lnTo>
                  <a:lnTo>
                    <a:pt x="146" y="904"/>
                  </a:lnTo>
                  <a:lnTo>
                    <a:pt x="154" y="904"/>
                  </a:lnTo>
                  <a:lnTo>
                    <a:pt x="162" y="904"/>
                  </a:lnTo>
                  <a:lnTo>
                    <a:pt x="169" y="904"/>
                  </a:lnTo>
                  <a:lnTo>
                    <a:pt x="169" y="907"/>
                  </a:lnTo>
                  <a:lnTo>
                    <a:pt x="177" y="907"/>
                  </a:lnTo>
                  <a:lnTo>
                    <a:pt x="177" y="910"/>
                  </a:lnTo>
                  <a:lnTo>
                    <a:pt x="177" y="913"/>
                  </a:lnTo>
                  <a:lnTo>
                    <a:pt x="185" y="916"/>
                  </a:lnTo>
                  <a:lnTo>
                    <a:pt x="185" y="919"/>
                  </a:lnTo>
                  <a:lnTo>
                    <a:pt x="192" y="922"/>
                  </a:lnTo>
                  <a:lnTo>
                    <a:pt x="192" y="925"/>
                  </a:lnTo>
                  <a:lnTo>
                    <a:pt x="192" y="931"/>
                  </a:lnTo>
                  <a:lnTo>
                    <a:pt x="200" y="934"/>
                  </a:lnTo>
                  <a:lnTo>
                    <a:pt x="200" y="940"/>
                  </a:lnTo>
                  <a:lnTo>
                    <a:pt x="200" y="946"/>
                  </a:lnTo>
                  <a:lnTo>
                    <a:pt x="208" y="949"/>
                  </a:lnTo>
                  <a:lnTo>
                    <a:pt x="208" y="955"/>
                  </a:lnTo>
                  <a:lnTo>
                    <a:pt x="208" y="961"/>
                  </a:lnTo>
                  <a:lnTo>
                    <a:pt x="216" y="967"/>
                  </a:lnTo>
                  <a:lnTo>
                    <a:pt x="216" y="973"/>
                  </a:lnTo>
                  <a:lnTo>
                    <a:pt x="223" y="979"/>
                  </a:lnTo>
                  <a:lnTo>
                    <a:pt x="223" y="988"/>
                  </a:lnTo>
                  <a:lnTo>
                    <a:pt x="223" y="994"/>
                  </a:lnTo>
                  <a:lnTo>
                    <a:pt x="231" y="1000"/>
                  </a:lnTo>
                  <a:lnTo>
                    <a:pt x="231" y="1006"/>
                  </a:lnTo>
                  <a:lnTo>
                    <a:pt x="231" y="1015"/>
                  </a:lnTo>
                  <a:lnTo>
                    <a:pt x="239" y="1022"/>
                  </a:lnTo>
                  <a:lnTo>
                    <a:pt x="239" y="1018"/>
                  </a:lnTo>
                  <a:lnTo>
                    <a:pt x="239" y="1012"/>
                  </a:lnTo>
                  <a:lnTo>
                    <a:pt x="246" y="1006"/>
                  </a:lnTo>
                  <a:lnTo>
                    <a:pt x="246" y="997"/>
                  </a:lnTo>
                  <a:lnTo>
                    <a:pt x="246" y="991"/>
                  </a:lnTo>
                  <a:lnTo>
                    <a:pt x="254" y="982"/>
                  </a:lnTo>
                  <a:lnTo>
                    <a:pt x="254" y="976"/>
                  </a:lnTo>
                  <a:lnTo>
                    <a:pt x="262" y="970"/>
                  </a:lnTo>
                  <a:lnTo>
                    <a:pt x="262" y="961"/>
                  </a:lnTo>
                  <a:lnTo>
                    <a:pt x="262" y="955"/>
                  </a:lnTo>
                  <a:lnTo>
                    <a:pt x="270" y="949"/>
                  </a:lnTo>
                  <a:lnTo>
                    <a:pt x="270" y="943"/>
                  </a:lnTo>
                  <a:lnTo>
                    <a:pt x="270" y="934"/>
                  </a:lnTo>
                  <a:lnTo>
                    <a:pt x="277" y="928"/>
                  </a:lnTo>
                  <a:lnTo>
                    <a:pt x="277" y="922"/>
                  </a:lnTo>
                  <a:lnTo>
                    <a:pt x="277" y="919"/>
                  </a:lnTo>
                  <a:lnTo>
                    <a:pt x="285" y="913"/>
                  </a:lnTo>
                  <a:lnTo>
                    <a:pt x="285" y="907"/>
                  </a:lnTo>
                  <a:lnTo>
                    <a:pt x="293" y="904"/>
                  </a:lnTo>
                  <a:lnTo>
                    <a:pt x="293" y="898"/>
                  </a:lnTo>
                  <a:lnTo>
                    <a:pt x="293" y="895"/>
                  </a:lnTo>
                  <a:lnTo>
                    <a:pt x="301" y="889"/>
                  </a:lnTo>
                  <a:lnTo>
                    <a:pt x="301" y="886"/>
                  </a:lnTo>
                  <a:lnTo>
                    <a:pt x="301" y="883"/>
                  </a:lnTo>
                  <a:lnTo>
                    <a:pt x="308" y="883"/>
                  </a:lnTo>
                  <a:lnTo>
                    <a:pt x="308" y="880"/>
                  </a:lnTo>
                  <a:lnTo>
                    <a:pt x="308" y="877"/>
                  </a:lnTo>
                  <a:lnTo>
                    <a:pt x="316" y="877"/>
                  </a:lnTo>
                  <a:lnTo>
                    <a:pt x="316" y="874"/>
                  </a:lnTo>
                  <a:lnTo>
                    <a:pt x="324" y="874"/>
                  </a:lnTo>
                  <a:lnTo>
                    <a:pt x="331" y="877"/>
                  </a:lnTo>
                  <a:lnTo>
                    <a:pt x="331" y="880"/>
                  </a:lnTo>
                  <a:lnTo>
                    <a:pt x="339" y="883"/>
                  </a:lnTo>
                  <a:lnTo>
                    <a:pt x="339" y="886"/>
                  </a:lnTo>
                  <a:lnTo>
                    <a:pt x="339" y="889"/>
                  </a:lnTo>
                  <a:lnTo>
                    <a:pt x="347" y="892"/>
                  </a:lnTo>
                  <a:lnTo>
                    <a:pt x="347" y="895"/>
                  </a:lnTo>
                  <a:lnTo>
                    <a:pt x="347" y="901"/>
                  </a:lnTo>
                  <a:lnTo>
                    <a:pt x="355" y="904"/>
                  </a:lnTo>
                  <a:lnTo>
                    <a:pt x="355" y="910"/>
                  </a:lnTo>
                  <a:lnTo>
                    <a:pt x="362" y="916"/>
                  </a:lnTo>
                  <a:lnTo>
                    <a:pt x="362" y="922"/>
                  </a:lnTo>
                  <a:lnTo>
                    <a:pt x="362" y="928"/>
                  </a:lnTo>
                  <a:lnTo>
                    <a:pt x="370" y="937"/>
                  </a:lnTo>
                  <a:lnTo>
                    <a:pt x="370" y="943"/>
                  </a:lnTo>
                  <a:lnTo>
                    <a:pt x="370" y="952"/>
                  </a:lnTo>
                  <a:lnTo>
                    <a:pt x="378" y="958"/>
                  </a:lnTo>
                  <a:lnTo>
                    <a:pt x="378" y="967"/>
                  </a:lnTo>
                  <a:lnTo>
                    <a:pt x="378" y="976"/>
                  </a:lnTo>
                  <a:lnTo>
                    <a:pt x="385" y="985"/>
                  </a:lnTo>
                  <a:lnTo>
                    <a:pt x="385" y="994"/>
                  </a:lnTo>
                  <a:lnTo>
                    <a:pt x="393" y="1003"/>
                  </a:lnTo>
                  <a:lnTo>
                    <a:pt x="393" y="1012"/>
                  </a:lnTo>
                  <a:lnTo>
                    <a:pt x="393" y="1022"/>
                  </a:lnTo>
                  <a:lnTo>
                    <a:pt x="401" y="1015"/>
                  </a:lnTo>
                  <a:lnTo>
                    <a:pt x="401" y="1006"/>
                  </a:lnTo>
                  <a:lnTo>
                    <a:pt x="401" y="997"/>
                  </a:lnTo>
                  <a:lnTo>
                    <a:pt x="409" y="985"/>
                  </a:lnTo>
                  <a:lnTo>
                    <a:pt x="409" y="976"/>
                  </a:lnTo>
                  <a:lnTo>
                    <a:pt x="409" y="967"/>
                  </a:lnTo>
                  <a:lnTo>
                    <a:pt x="416" y="955"/>
                  </a:lnTo>
                  <a:lnTo>
                    <a:pt x="416" y="946"/>
                  </a:lnTo>
                  <a:lnTo>
                    <a:pt x="416" y="937"/>
                  </a:lnTo>
                  <a:lnTo>
                    <a:pt x="424" y="925"/>
                  </a:lnTo>
                  <a:lnTo>
                    <a:pt x="424" y="916"/>
                  </a:lnTo>
                  <a:lnTo>
                    <a:pt x="432" y="907"/>
                  </a:lnTo>
                  <a:lnTo>
                    <a:pt x="432" y="898"/>
                  </a:lnTo>
                  <a:lnTo>
                    <a:pt x="432" y="889"/>
                  </a:lnTo>
                  <a:lnTo>
                    <a:pt x="439" y="880"/>
                  </a:lnTo>
                  <a:lnTo>
                    <a:pt x="439" y="871"/>
                  </a:lnTo>
                  <a:lnTo>
                    <a:pt x="439" y="862"/>
                  </a:lnTo>
                  <a:lnTo>
                    <a:pt x="447" y="853"/>
                  </a:lnTo>
                  <a:lnTo>
                    <a:pt x="447" y="847"/>
                  </a:lnTo>
                  <a:lnTo>
                    <a:pt x="447" y="838"/>
                  </a:lnTo>
                  <a:lnTo>
                    <a:pt x="455" y="832"/>
                  </a:lnTo>
                  <a:lnTo>
                    <a:pt x="455" y="826"/>
                  </a:lnTo>
                  <a:lnTo>
                    <a:pt x="463" y="820"/>
                  </a:lnTo>
                  <a:lnTo>
                    <a:pt x="463" y="814"/>
                  </a:lnTo>
                  <a:lnTo>
                    <a:pt x="463" y="811"/>
                  </a:lnTo>
                  <a:lnTo>
                    <a:pt x="470" y="805"/>
                  </a:lnTo>
                  <a:lnTo>
                    <a:pt x="470" y="802"/>
                  </a:lnTo>
                  <a:lnTo>
                    <a:pt x="470" y="799"/>
                  </a:lnTo>
                  <a:lnTo>
                    <a:pt x="478" y="796"/>
                  </a:lnTo>
                  <a:lnTo>
                    <a:pt x="478" y="793"/>
                  </a:lnTo>
                  <a:lnTo>
                    <a:pt x="486" y="793"/>
                  </a:lnTo>
                  <a:lnTo>
                    <a:pt x="493" y="793"/>
                  </a:lnTo>
                  <a:lnTo>
                    <a:pt x="493" y="796"/>
                  </a:lnTo>
                  <a:lnTo>
                    <a:pt x="501" y="799"/>
                  </a:lnTo>
                  <a:lnTo>
                    <a:pt x="501" y="805"/>
                  </a:lnTo>
                  <a:lnTo>
                    <a:pt x="501" y="808"/>
                  </a:lnTo>
                  <a:lnTo>
                    <a:pt x="509" y="814"/>
                  </a:lnTo>
                  <a:lnTo>
                    <a:pt x="509" y="820"/>
                  </a:lnTo>
                  <a:lnTo>
                    <a:pt x="509" y="826"/>
                  </a:lnTo>
                  <a:lnTo>
                    <a:pt x="517" y="835"/>
                  </a:lnTo>
                  <a:lnTo>
                    <a:pt x="517" y="844"/>
                  </a:lnTo>
                  <a:lnTo>
                    <a:pt x="517" y="853"/>
                  </a:lnTo>
                  <a:lnTo>
                    <a:pt x="524" y="862"/>
                  </a:lnTo>
                  <a:lnTo>
                    <a:pt x="524" y="874"/>
                  </a:lnTo>
                  <a:lnTo>
                    <a:pt x="531" y="886"/>
                  </a:lnTo>
                  <a:lnTo>
                    <a:pt x="531" y="898"/>
                  </a:lnTo>
                  <a:lnTo>
                    <a:pt x="531" y="910"/>
                  </a:lnTo>
                  <a:lnTo>
                    <a:pt x="539" y="925"/>
                  </a:lnTo>
                  <a:lnTo>
                    <a:pt x="539" y="940"/>
                  </a:lnTo>
                  <a:lnTo>
                    <a:pt x="539" y="955"/>
                  </a:lnTo>
                  <a:lnTo>
                    <a:pt x="546" y="970"/>
                  </a:lnTo>
                  <a:lnTo>
                    <a:pt x="546" y="988"/>
                  </a:lnTo>
                  <a:lnTo>
                    <a:pt x="546" y="1003"/>
                  </a:lnTo>
                  <a:lnTo>
                    <a:pt x="554" y="1022"/>
                  </a:lnTo>
                  <a:lnTo>
                    <a:pt x="554" y="1006"/>
                  </a:lnTo>
                  <a:lnTo>
                    <a:pt x="562" y="988"/>
                  </a:lnTo>
                  <a:lnTo>
                    <a:pt x="562" y="967"/>
                  </a:lnTo>
                  <a:lnTo>
                    <a:pt x="562" y="949"/>
                  </a:lnTo>
                  <a:lnTo>
                    <a:pt x="569" y="928"/>
                  </a:lnTo>
                  <a:lnTo>
                    <a:pt x="569" y="907"/>
                  </a:lnTo>
                  <a:lnTo>
                    <a:pt x="569" y="883"/>
                  </a:lnTo>
                  <a:lnTo>
                    <a:pt x="577" y="862"/>
                  </a:lnTo>
                  <a:lnTo>
                    <a:pt x="577" y="838"/>
                  </a:lnTo>
                  <a:lnTo>
                    <a:pt x="577" y="817"/>
                  </a:lnTo>
                  <a:lnTo>
                    <a:pt x="585" y="793"/>
                  </a:lnTo>
                  <a:lnTo>
                    <a:pt x="585" y="769"/>
                  </a:lnTo>
                  <a:lnTo>
                    <a:pt x="585" y="745"/>
                  </a:lnTo>
                  <a:lnTo>
                    <a:pt x="593" y="721"/>
                  </a:lnTo>
                  <a:lnTo>
                    <a:pt x="593" y="697"/>
                  </a:lnTo>
                  <a:lnTo>
                    <a:pt x="600" y="672"/>
                  </a:lnTo>
                  <a:lnTo>
                    <a:pt x="600" y="648"/>
                  </a:lnTo>
                  <a:lnTo>
                    <a:pt x="600" y="625"/>
                  </a:lnTo>
                  <a:lnTo>
                    <a:pt x="608" y="598"/>
                  </a:lnTo>
                  <a:lnTo>
                    <a:pt x="608" y="574"/>
                  </a:lnTo>
                  <a:lnTo>
                    <a:pt x="608" y="549"/>
                  </a:lnTo>
                  <a:lnTo>
                    <a:pt x="616" y="525"/>
                  </a:lnTo>
                  <a:lnTo>
                    <a:pt x="616" y="501"/>
                  </a:lnTo>
                  <a:lnTo>
                    <a:pt x="616" y="477"/>
                  </a:lnTo>
                  <a:lnTo>
                    <a:pt x="623" y="453"/>
                  </a:lnTo>
                  <a:lnTo>
                    <a:pt x="623" y="429"/>
                  </a:lnTo>
                  <a:lnTo>
                    <a:pt x="631" y="405"/>
                  </a:lnTo>
                  <a:lnTo>
                    <a:pt x="631" y="381"/>
                  </a:lnTo>
                  <a:lnTo>
                    <a:pt x="631" y="357"/>
                  </a:lnTo>
                  <a:lnTo>
                    <a:pt x="639" y="336"/>
                  </a:lnTo>
                  <a:lnTo>
                    <a:pt x="639" y="315"/>
                  </a:lnTo>
                  <a:lnTo>
                    <a:pt x="639" y="294"/>
                  </a:lnTo>
                  <a:lnTo>
                    <a:pt x="647" y="273"/>
                  </a:lnTo>
                  <a:lnTo>
                    <a:pt x="647" y="252"/>
                  </a:lnTo>
                  <a:lnTo>
                    <a:pt x="647" y="231"/>
                  </a:lnTo>
                  <a:lnTo>
                    <a:pt x="654" y="213"/>
                  </a:lnTo>
                  <a:lnTo>
                    <a:pt x="654" y="195"/>
                  </a:lnTo>
                  <a:lnTo>
                    <a:pt x="662" y="177"/>
                  </a:lnTo>
                  <a:lnTo>
                    <a:pt x="662" y="159"/>
                  </a:lnTo>
                  <a:lnTo>
                    <a:pt x="662" y="141"/>
                  </a:lnTo>
                  <a:lnTo>
                    <a:pt x="670" y="126"/>
                  </a:lnTo>
                  <a:lnTo>
                    <a:pt x="670" y="110"/>
                  </a:lnTo>
                  <a:lnTo>
                    <a:pt x="670" y="98"/>
                  </a:lnTo>
                  <a:lnTo>
                    <a:pt x="677" y="83"/>
                  </a:lnTo>
                  <a:lnTo>
                    <a:pt x="677" y="71"/>
                  </a:lnTo>
                  <a:lnTo>
                    <a:pt x="677" y="59"/>
                  </a:lnTo>
                  <a:lnTo>
                    <a:pt x="685" y="50"/>
                  </a:lnTo>
                  <a:lnTo>
                    <a:pt x="685" y="41"/>
                  </a:lnTo>
                  <a:lnTo>
                    <a:pt x="685" y="32"/>
                  </a:lnTo>
                  <a:lnTo>
                    <a:pt x="693" y="23"/>
                  </a:lnTo>
                  <a:lnTo>
                    <a:pt x="693" y="17"/>
                  </a:lnTo>
                  <a:lnTo>
                    <a:pt x="701" y="12"/>
                  </a:lnTo>
                  <a:lnTo>
                    <a:pt x="701" y="9"/>
                  </a:lnTo>
                  <a:lnTo>
                    <a:pt x="701" y="6"/>
                  </a:lnTo>
                  <a:lnTo>
                    <a:pt x="708" y="3"/>
                  </a:lnTo>
                  <a:lnTo>
                    <a:pt x="708" y="0"/>
                  </a:lnTo>
                  <a:lnTo>
                    <a:pt x="716" y="0"/>
                  </a:lnTo>
                  <a:lnTo>
                    <a:pt x="716" y="3"/>
                  </a:lnTo>
                  <a:lnTo>
                    <a:pt x="716" y="6"/>
                  </a:lnTo>
                  <a:lnTo>
                    <a:pt x="724" y="9"/>
                  </a:lnTo>
                  <a:lnTo>
                    <a:pt x="724" y="12"/>
                  </a:lnTo>
                  <a:lnTo>
                    <a:pt x="731" y="17"/>
                  </a:lnTo>
                  <a:lnTo>
                    <a:pt x="731" y="23"/>
                  </a:lnTo>
                  <a:lnTo>
                    <a:pt x="731" y="32"/>
                  </a:lnTo>
                  <a:lnTo>
                    <a:pt x="739" y="41"/>
                  </a:lnTo>
                  <a:lnTo>
                    <a:pt x="739" y="50"/>
                  </a:lnTo>
                  <a:lnTo>
                    <a:pt x="739" y="59"/>
                  </a:lnTo>
                  <a:lnTo>
                    <a:pt x="747" y="71"/>
                  </a:lnTo>
                  <a:lnTo>
                    <a:pt x="747" y="83"/>
                  </a:lnTo>
                  <a:lnTo>
                    <a:pt x="747" y="98"/>
                  </a:lnTo>
                  <a:lnTo>
                    <a:pt x="755" y="110"/>
                  </a:lnTo>
                  <a:lnTo>
                    <a:pt x="755" y="126"/>
                  </a:lnTo>
                  <a:lnTo>
                    <a:pt x="762" y="141"/>
                  </a:lnTo>
                  <a:lnTo>
                    <a:pt x="762" y="159"/>
                  </a:lnTo>
                  <a:lnTo>
                    <a:pt x="762" y="177"/>
                  </a:lnTo>
                  <a:lnTo>
                    <a:pt x="770" y="195"/>
                  </a:lnTo>
                  <a:lnTo>
                    <a:pt x="770" y="213"/>
                  </a:lnTo>
                  <a:lnTo>
                    <a:pt x="770" y="231"/>
                  </a:lnTo>
                  <a:lnTo>
                    <a:pt x="778" y="252"/>
                  </a:lnTo>
                  <a:lnTo>
                    <a:pt x="778" y="273"/>
                  </a:lnTo>
                  <a:lnTo>
                    <a:pt x="778" y="294"/>
                  </a:lnTo>
                  <a:lnTo>
                    <a:pt x="786" y="315"/>
                  </a:lnTo>
                  <a:lnTo>
                    <a:pt x="786" y="336"/>
                  </a:lnTo>
                  <a:lnTo>
                    <a:pt x="786" y="357"/>
                  </a:lnTo>
                  <a:lnTo>
                    <a:pt x="793" y="381"/>
                  </a:lnTo>
                  <a:lnTo>
                    <a:pt x="793" y="405"/>
                  </a:lnTo>
                  <a:lnTo>
                    <a:pt x="801" y="429"/>
                  </a:lnTo>
                  <a:lnTo>
                    <a:pt x="801" y="453"/>
                  </a:lnTo>
                  <a:lnTo>
                    <a:pt x="801" y="477"/>
                  </a:lnTo>
                  <a:lnTo>
                    <a:pt x="809" y="501"/>
                  </a:lnTo>
                  <a:lnTo>
                    <a:pt x="809" y="525"/>
                  </a:lnTo>
                  <a:lnTo>
                    <a:pt x="809" y="549"/>
                  </a:lnTo>
                  <a:lnTo>
                    <a:pt x="816" y="574"/>
                  </a:lnTo>
                  <a:lnTo>
                    <a:pt x="816" y="598"/>
                  </a:lnTo>
                  <a:lnTo>
                    <a:pt x="816" y="625"/>
                  </a:lnTo>
                  <a:lnTo>
                    <a:pt x="824" y="648"/>
                  </a:lnTo>
                  <a:lnTo>
                    <a:pt x="824" y="672"/>
                  </a:lnTo>
                  <a:lnTo>
                    <a:pt x="832" y="697"/>
                  </a:lnTo>
                  <a:lnTo>
                    <a:pt x="832" y="721"/>
                  </a:lnTo>
                  <a:lnTo>
                    <a:pt x="832" y="745"/>
                  </a:lnTo>
                  <a:lnTo>
                    <a:pt x="840" y="769"/>
                  </a:lnTo>
                  <a:lnTo>
                    <a:pt x="840" y="793"/>
                  </a:lnTo>
                  <a:lnTo>
                    <a:pt x="840" y="817"/>
                  </a:lnTo>
                  <a:lnTo>
                    <a:pt x="847" y="838"/>
                  </a:lnTo>
                  <a:lnTo>
                    <a:pt x="847" y="862"/>
                  </a:lnTo>
                  <a:lnTo>
                    <a:pt x="847" y="883"/>
                  </a:lnTo>
                  <a:lnTo>
                    <a:pt x="855" y="907"/>
                  </a:lnTo>
                  <a:lnTo>
                    <a:pt x="855" y="928"/>
                  </a:lnTo>
                  <a:lnTo>
                    <a:pt x="855" y="949"/>
                  </a:lnTo>
                  <a:lnTo>
                    <a:pt x="863" y="967"/>
                  </a:lnTo>
                  <a:lnTo>
                    <a:pt x="863" y="988"/>
                  </a:lnTo>
                  <a:lnTo>
                    <a:pt x="870" y="1006"/>
                  </a:lnTo>
                  <a:lnTo>
                    <a:pt x="870" y="1022"/>
                  </a:lnTo>
                  <a:lnTo>
                    <a:pt x="870" y="1003"/>
                  </a:lnTo>
                  <a:lnTo>
                    <a:pt x="878" y="988"/>
                  </a:lnTo>
                  <a:lnTo>
                    <a:pt x="878" y="970"/>
                  </a:lnTo>
                  <a:lnTo>
                    <a:pt x="878" y="955"/>
                  </a:lnTo>
                  <a:lnTo>
                    <a:pt x="886" y="940"/>
                  </a:lnTo>
                  <a:lnTo>
                    <a:pt x="886" y="925"/>
                  </a:lnTo>
                  <a:lnTo>
                    <a:pt x="886" y="910"/>
                  </a:lnTo>
                  <a:lnTo>
                    <a:pt x="894" y="898"/>
                  </a:lnTo>
                  <a:lnTo>
                    <a:pt x="894" y="886"/>
                  </a:lnTo>
                  <a:lnTo>
                    <a:pt x="901" y="874"/>
                  </a:lnTo>
                  <a:lnTo>
                    <a:pt x="901" y="862"/>
                  </a:lnTo>
                  <a:lnTo>
                    <a:pt x="901" y="853"/>
                  </a:lnTo>
                  <a:lnTo>
                    <a:pt x="909" y="844"/>
                  </a:lnTo>
                  <a:lnTo>
                    <a:pt x="909" y="835"/>
                  </a:lnTo>
                  <a:lnTo>
                    <a:pt x="909" y="826"/>
                  </a:lnTo>
                  <a:lnTo>
                    <a:pt x="917" y="820"/>
                  </a:lnTo>
                  <a:lnTo>
                    <a:pt x="917" y="814"/>
                  </a:lnTo>
                  <a:lnTo>
                    <a:pt x="917" y="808"/>
                  </a:lnTo>
                  <a:lnTo>
                    <a:pt x="924" y="805"/>
                  </a:lnTo>
                  <a:lnTo>
                    <a:pt x="924" y="799"/>
                  </a:lnTo>
                  <a:lnTo>
                    <a:pt x="932" y="796"/>
                  </a:lnTo>
                  <a:lnTo>
                    <a:pt x="932" y="793"/>
                  </a:lnTo>
                  <a:lnTo>
                    <a:pt x="940" y="793"/>
                  </a:lnTo>
                  <a:lnTo>
                    <a:pt x="948" y="793"/>
                  </a:lnTo>
                  <a:lnTo>
                    <a:pt x="948" y="796"/>
                  </a:lnTo>
                  <a:lnTo>
                    <a:pt x="948" y="799"/>
                  </a:lnTo>
                  <a:lnTo>
                    <a:pt x="955" y="802"/>
                  </a:lnTo>
                  <a:lnTo>
                    <a:pt x="955" y="805"/>
                  </a:lnTo>
                  <a:lnTo>
                    <a:pt x="955" y="811"/>
                  </a:lnTo>
                  <a:lnTo>
                    <a:pt x="963" y="814"/>
                  </a:lnTo>
                  <a:lnTo>
                    <a:pt x="963" y="820"/>
                  </a:lnTo>
                  <a:lnTo>
                    <a:pt x="971" y="826"/>
                  </a:lnTo>
                  <a:lnTo>
                    <a:pt x="971" y="832"/>
                  </a:lnTo>
                  <a:lnTo>
                    <a:pt x="971" y="838"/>
                  </a:lnTo>
                  <a:lnTo>
                    <a:pt x="978" y="847"/>
                  </a:lnTo>
                  <a:lnTo>
                    <a:pt x="978" y="853"/>
                  </a:lnTo>
                  <a:lnTo>
                    <a:pt x="978" y="862"/>
                  </a:lnTo>
                  <a:lnTo>
                    <a:pt x="986" y="871"/>
                  </a:lnTo>
                  <a:lnTo>
                    <a:pt x="986" y="880"/>
                  </a:lnTo>
                  <a:lnTo>
                    <a:pt x="986" y="889"/>
                  </a:lnTo>
                  <a:lnTo>
                    <a:pt x="994" y="898"/>
                  </a:lnTo>
                  <a:lnTo>
                    <a:pt x="994" y="907"/>
                  </a:lnTo>
                  <a:lnTo>
                    <a:pt x="1002" y="916"/>
                  </a:lnTo>
                  <a:lnTo>
                    <a:pt x="1002" y="925"/>
                  </a:lnTo>
                  <a:lnTo>
                    <a:pt x="1002" y="937"/>
                  </a:lnTo>
                  <a:lnTo>
                    <a:pt x="1009" y="946"/>
                  </a:lnTo>
                  <a:lnTo>
                    <a:pt x="1009" y="955"/>
                  </a:lnTo>
                  <a:lnTo>
                    <a:pt x="1009" y="967"/>
                  </a:lnTo>
                  <a:lnTo>
                    <a:pt x="1017" y="976"/>
                  </a:lnTo>
                  <a:lnTo>
                    <a:pt x="1017" y="985"/>
                  </a:lnTo>
                  <a:lnTo>
                    <a:pt x="1017" y="997"/>
                  </a:lnTo>
                  <a:lnTo>
                    <a:pt x="1025" y="1006"/>
                  </a:lnTo>
                  <a:lnTo>
                    <a:pt x="1025" y="1015"/>
                  </a:lnTo>
                  <a:lnTo>
                    <a:pt x="1032" y="1022"/>
                  </a:lnTo>
                  <a:lnTo>
                    <a:pt x="1032" y="1012"/>
                  </a:lnTo>
                  <a:lnTo>
                    <a:pt x="1032" y="1003"/>
                  </a:lnTo>
                  <a:lnTo>
                    <a:pt x="1040" y="994"/>
                  </a:lnTo>
                  <a:lnTo>
                    <a:pt x="1040" y="985"/>
                  </a:lnTo>
                  <a:lnTo>
                    <a:pt x="1040" y="976"/>
                  </a:lnTo>
                  <a:lnTo>
                    <a:pt x="1048" y="967"/>
                  </a:lnTo>
                  <a:lnTo>
                    <a:pt x="1048" y="958"/>
                  </a:lnTo>
                  <a:lnTo>
                    <a:pt x="1048" y="952"/>
                  </a:lnTo>
                  <a:lnTo>
                    <a:pt x="1056" y="943"/>
                  </a:lnTo>
                  <a:lnTo>
                    <a:pt x="1056" y="937"/>
                  </a:lnTo>
                  <a:lnTo>
                    <a:pt x="1056" y="928"/>
                  </a:lnTo>
                  <a:lnTo>
                    <a:pt x="1063" y="922"/>
                  </a:lnTo>
                  <a:lnTo>
                    <a:pt x="1063" y="916"/>
                  </a:lnTo>
                  <a:lnTo>
                    <a:pt x="1071" y="910"/>
                  </a:lnTo>
                  <a:lnTo>
                    <a:pt x="1071" y="904"/>
                  </a:lnTo>
                  <a:lnTo>
                    <a:pt x="1071" y="901"/>
                  </a:lnTo>
                  <a:lnTo>
                    <a:pt x="1079" y="895"/>
                  </a:lnTo>
                  <a:lnTo>
                    <a:pt x="1079" y="892"/>
                  </a:lnTo>
                  <a:lnTo>
                    <a:pt x="1079" y="889"/>
                  </a:lnTo>
                  <a:lnTo>
                    <a:pt x="1087" y="886"/>
                  </a:lnTo>
                  <a:lnTo>
                    <a:pt x="1087" y="883"/>
                  </a:lnTo>
                  <a:lnTo>
                    <a:pt x="1087" y="880"/>
                  </a:lnTo>
                  <a:lnTo>
                    <a:pt x="1094" y="877"/>
                  </a:lnTo>
                  <a:lnTo>
                    <a:pt x="1102" y="874"/>
                  </a:lnTo>
                  <a:lnTo>
                    <a:pt x="1110" y="874"/>
                  </a:lnTo>
                  <a:lnTo>
                    <a:pt x="1110" y="877"/>
                  </a:lnTo>
                  <a:lnTo>
                    <a:pt x="1117" y="880"/>
                  </a:lnTo>
                  <a:lnTo>
                    <a:pt x="1117" y="883"/>
                  </a:lnTo>
                  <a:lnTo>
                    <a:pt x="1125" y="886"/>
                  </a:lnTo>
                  <a:lnTo>
                    <a:pt x="1125" y="889"/>
                  </a:lnTo>
                  <a:lnTo>
                    <a:pt x="1125" y="895"/>
                  </a:lnTo>
                  <a:lnTo>
                    <a:pt x="1133" y="898"/>
                  </a:lnTo>
                  <a:lnTo>
                    <a:pt x="1133" y="904"/>
                  </a:lnTo>
                  <a:lnTo>
                    <a:pt x="1141" y="907"/>
                  </a:lnTo>
                  <a:lnTo>
                    <a:pt x="1141" y="913"/>
                  </a:lnTo>
                  <a:lnTo>
                    <a:pt x="1141" y="919"/>
                  </a:lnTo>
                  <a:lnTo>
                    <a:pt x="1148" y="922"/>
                  </a:lnTo>
                  <a:lnTo>
                    <a:pt x="1148" y="928"/>
                  </a:lnTo>
                  <a:lnTo>
                    <a:pt x="1148" y="934"/>
                  </a:lnTo>
                  <a:lnTo>
                    <a:pt x="1156" y="943"/>
                  </a:lnTo>
                  <a:lnTo>
                    <a:pt x="1156" y="949"/>
                  </a:lnTo>
                  <a:lnTo>
                    <a:pt x="1156" y="955"/>
                  </a:lnTo>
                  <a:lnTo>
                    <a:pt x="1164" y="961"/>
                  </a:lnTo>
                  <a:lnTo>
                    <a:pt x="1164" y="970"/>
                  </a:lnTo>
                  <a:lnTo>
                    <a:pt x="1171" y="976"/>
                  </a:lnTo>
                  <a:lnTo>
                    <a:pt x="1171" y="982"/>
                  </a:lnTo>
                  <a:lnTo>
                    <a:pt x="1171" y="991"/>
                  </a:lnTo>
                  <a:lnTo>
                    <a:pt x="1179" y="997"/>
                  </a:lnTo>
                  <a:lnTo>
                    <a:pt x="1179" y="1006"/>
                  </a:lnTo>
                  <a:lnTo>
                    <a:pt x="1179" y="1012"/>
                  </a:lnTo>
                  <a:lnTo>
                    <a:pt x="1187" y="1018"/>
                  </a:lnTo>
                  <a:lnTo>
                    <a:pt x="1187" y="1022"/>
                  </a:lnTo>
                  <a:lnTo>
                    <a:pt x="1187" y="1015"/>
                  </a:lnTo>
                  <a:lnTo>
                    <a:pt x="1195" y="1006"/>
                  </a:lnTo>
                  <a:lnTo>
                    <a:pt x="1195" y="1000"/>
                  </a:lnTo>
                  <a:lnTo>
                    <a:pt x="1202" y="994"/>
                  </a:lnTo>
                  <a:lnTo>
                    <a:pt x="1202" y="988"/>
                  </a:lnTo>
                  <a:lnTo>
                    <a:pt x="1202" y="979"/>
                  </a:lnTo>
                  <a:lnTo>
                    <a:pt x="1210" y="973"/>
                  </a:lnTo>
                  <a:lnTo>
                    <a:pt x="1210" y="967"/>
                  </a:lnTo>
                  <a:lnTo>
                    <a:pt x="1210" y="961"/>
                  </a:lnTo>
                  <a:lnTo>
                    <a:pt x="1218" y="955"/>
                  </a:lnTo>
                  <a:lnTo>
                    <a:pt x="1218" y="949"/>
                  </a:lnTo>
                  <a:lnTo>
                    <a:pt x="1218" y="946"/>
                  </a:lnTo>
                  <a:lnTo>
                    <a:pt x="1225" y="940"/>
                  </a:lnTo>
                  <a:lnTo>
                    <a:pt x="1225" y="934"/>
                  </a:lnTo>
                  <a:lnTo>
                    <a:pt x="1225" y="931"/>
                  </a:lnTo>
                  <a:lnTo>
                    <a:pt x="1233" y="925"/>
                  </a:lnTo>
                  <a:lnTo>
                    <a:pt x="1233" y="922"/>
                  </a:lnTo>
                  <a:lnTo>
                    <a:pt x="1241" y="919"/>
                  </a:lnTo>
                  <a:lnTo>
                    <a:pt x="1241" y="916"/>
                  </a:lnTo>
                  <a:lnTo>
                    <a:pt x="1241" y="913"/>
                  </a:lnTo>
                  <a:lnTo>
                    <a:pt x="1247" y="910"/>
                  </a:lnTo>
                  <a:lnTo>
                    <a:pt x="1247" y="907"/>
                  </a:lnTo>
                  <a:lnTo>
                    <a:pt x="1255" y="904"/>
                  </a:lnTo>
                  <a:lnTo>
                    <a:pt x="1263" y="904"/>
                  </a:lnTo>
                  <a:lnTo>
                    <a:pt x="1270" y="904"/>
                  </a:lnTo>
                  <a:lnTo>
                    <a:pt x="1278" y="907"/>
                  </a:lnTo>
                  <a:lnTo>
                    <a:pt x="1278" y="910"/>
                  </a:lnTo>
                  <a:lnTo>
                    <a:pt x="1286" y="913"/>
                  </a:lnTo>
                  <a:lnTo>
                    <a:pt x="1286" y="916"/>
                  </a:lnTo>
                  <a:lnTo>
                    <a:pt x="1286" y="919"/>
                  </a:lnTo>
                  <a:lnTo>
                    <a:pt x="1294" y="922"/>
                  </a:lnTo>
                  <a:lnTo>
                    <a:pt x="1294" y="925"/>
                  </a:lnTo>
                  <a:lnTo>
                    <a:pt x="1301" y="931"/>
                  </a:lnTo>
                  <a:lnTo>
                    <a:pt x="1301" y="934"/>
                  </a:lnTo>
                  <a:lnTo>
                    <a:pt x="1301" y="940"/>
                  </a:lnTo>
                  <a:lnTo>
                    <a:pt x="1309" y="943"/>
                  </a:lnTo>
                  <a:lnTo>
                    <a:pt x="1309" y="949"/>
                  </a:lnTo>
                  <a:lnTo>
                    <a:pt x="1309" y="955"/>
                  </a:lnTo>
                  <a:lnTo>
                    <a:pt x="1317" y="961"/>
                  </a:lnTo>
                  <a:lnTo>
                    <a:pt x="1317" y="964"/>
                  </a:lnTo>
                  <a:lnTo>
                    <a:pt x="1317" y="970"/>
                  </a:lnTo>
                  <a:lnTo>
                    <a:pt x="1325" y="976"/>
                  </a:lnTo>
                  <a:lnTo>
                    <a:pt x="1325" y="982"/>
                  </a:lnTo>
                  <a:lnTo>
                    <a:pt x="1325" y="988"/>
                  </a:lnTo>
                  <a:lnTo>
                    <a:pt x="1332" y="994"/>
                  </a:lnTo>
                  <a:lnTo>
                    <a:pt x="1332" y="1000"/>
                  </a:lnTo>
                  <a:lnTo>
                    <a:pt x="1340" y="1009"/>
                  </a:lnTo>
                  <a:lnTo>
                    <a:pt x="1340" y="1015"/>
                  </a:lnTo>
                  <a:lnTo>
                    <a:pt x="1340" y="1022"/>
                  </a:lnTo>
                  <a:lnTo>
                    <a:pt x="1348" y="1022"/>
                  </a:lnTo>
                  <a:lnTo>
                    <a:pt x="1348" y="1015"/>
                  </a:lnTo>
                  <a:lnTo>
                    <a:pt x="1348" y="1009"/>
                  </a:lnTo>
                  <a:lnTo>
                    <a:pt x="1355" y="1003"/>
                  </a:lnTo>
                  <a:lnTo>
                    <a:pt x="1355" y="997"/>
                  </a:lnTo>
                  <a:lnTo>
                    <a:pt x="1355" y="991"/>
                  </a:lnTo>
                  <a:lnTo>
                    <a:pt x="1363" y="985"/>
                  </a:lnTo>
                  <a:lnTo>
                    <a:pt x="1363" y="979"/>
                  </a:lnTo>
                  <a:lnTo>
                    <a:pt x="1371" y="973"/>
                  </a:lnTo>
                  <a:lnTo>
                    <a:pt x="1371" y="967"/>
                  </a:lnTo>
                  <a:lnTo>
                    <a:pt x="1371" y="961"/>
                  </a:lnTo>
                  <a:lnTo>
                    <a:pt x="1379" y="955"/>
                  </a:lnTo>
                  <a:lnTo>
                    <a:pt x="1379" y="952"/>
                  </a:lnTo>
                  <a:lnTo>
                    <a:pt x="1379" y="946"/>
                  </a:lnTo>
                  <a:lnTo>
                    <a:pt x="1386" y="943"/>
                  </a:lnTo>
                  <a:lnTo>
                    <a:pt x="1386" y="937"/>
                  </a:lnTo>
                  <a:lnTo>
                    <a:pt x="1386" y="934"/>
                  </a:lnTo>
                  <a:lnTo>
                    <a:pt x="1394" y="931"/>
                  </a:lnTo>
                  <a:lnTo>
                    <a:pt x="1394" y="928"/>
                  </a:lnTo>
                  <a:lnTo>
                    <a:pt x="1394" y="925"/>
                  </a:lnTo>
                  <a:lnTo>
                    <a:pt x="1402" y="922"/>
                  </a:lnTo>
                  <a:lnTo>
                    <a:pt x="1402" y="919"/>
                  </a:lnTo>
                  <a:lnTo>
                    <a:pt x="1409" y="916"/>
                  </a:lnTo>
                  <a:lnTo>
                    <a:pt x="1409" y="913"/>
                  </a:lnTo>
                  <a:lnTo>
                    <a:pt x="1417" y="913"/>
                  </a:lnTo>
                  <a:lnTo>
                    <a:pt x="1417" y="910"/>
                  </a:lnTo>
                  <a:lnTo>
                    <a:pt x="1425" y="910"/>
                  </a:lnTo>
                  <a:lnTo>
                    <a:pt x="1433" y="913"/>
                  </a:lnTo>
                  <a:lnTo>
                    <a:pt x="1440" y="916"/>
                  </a:lnTo>
                  <a:lnTo>
                    <a:pt x="1440" y="919"/>
                  </a:lnTo>
                  <a:lnTo>
                    <a:pt x="1448" y="922"/>
                  </a:lnTo>
                  <a:lnTo>
                    <a:pt x="1448" y="925"/>
                  </a:lnTo>
                  <a:lnTo>
                    <a:pt x="1448" y="928"/>
                  </a:lnTo>
                  <a:lnTo>
                    <a:pt x="1456" y="931"/>
                  </a:lnTo>
                  <a:lnTo>
                    <a:pt x="1456" y="934"/>
                  </a:lnTo>
                  <a:lnTo>
                    <a:pt x="1456" y="937"/>
                  </a:lnTo>
                  <a:lnTo>
                    <a:pt x="1463" y="943"/>
                  </a:lnTo>
                  <a:lnTo>
                    <a:pt x="1463" y="946"/>
                  </a:lnTo>
                  <a:lnTo>
                    <a:pt x="1471" y="952"/>
                  </a:lnTo>
                  <a:lnTo>
                    <a:pt x="1471" y="955"/>
                  </a:lnTo>
                  <a:lnTo>
                    <a:pt x="1471" y="961"/>
                  </a:lnTo>
                  <a:lnTo>
                    <a:pt x="1479" y="967"/>
                  </a:lnTo>
                  <a:lnTo>
                    <a:pt x="1479" y="973"/>
                  </a:lnTo>
                  <a:lnTo>
                    <a:pt x="1479" y="979"/>
                  </a:lnTo>
                  <a:lnTo>
                    <a:pt x="1487" y="985"/>
                  </a:lnTo>
                  <a:lnTo>
                    <a:pt x="1487" y="991"/>
                  </a:lnTo>
                  <a:lnTo>
                    <a:pt x="1487" y="997"/>
                  </a:lnTo>
                  <a:lnTo>
                    <a:pt x="1494" y="1003"/>
                  </a:lnTo>
                  <a:lnTo>
                    <a:pt x="1494" y="1009"/>
                  </a:lnTo>
                  <a:lnTo>
                    <a:pt x="1494" y="1015"/>
                  </a:lnTo>
                  <a:lnTo>
                    <a:pt x="1502" y="1022"/>
                  </a:lnTo>
                  <a:lnTo>
                    <a:pt x="1510" y="1015"/>
                  </a:lnTo>
                  <a:lnTo>
                    <a:pt x="1510" y="1009"/>
                  </a:lnTo>
                  <a:lnTo>
                    <a:pt x="1510" y="1000"/>
                  </a:lnTo>
                  <a:lnTo>
                    <a:pt x="1517" y="994"/>
                  </a:lnTo>
                  <a:lnTo>
                    <a:pt x="1517" y="988"/>
                  </a:lnTo>
                  <a:lnTo>
                    <a:pt x="1517" y="982"/>
                  </a:lnTo>
                  <a:lnTo>
                    <a:pt x="1525" y="976"/>
                  </a:lnTo>
                  <a:lnTo>
                    <a:pt x="1525" y="970"/>
                  </a:lnTo>
                  <a:lnTo>
                    <a:pt x="1525" y="964"/>
                  </a:lnTo>
                  <a:lnTo>
                    <a:pt x="1533" y="961"/>
                  </a:lnTo>
                  <a:lnTo>
                    <a:pt x="1533" y="955"/>
                  </a:lnTo>
                  <a:lnTo>
                    <a:pt x="1541" y="949"/>
                  </a:lnTo>
                  <a:lnTo>
                    <a:pt x="1541" y="943"/>
                  </a:lnTo>
                  <a:lnTo>
                    <a:pt x="1541" y="940"/>
                  </a:lnTo>
                  <a:lnTo>
                    <a:pt x="1548" y="934"/>
                  </a:lnTo>
                  <a:lnTo>
                    <a:pt x="1548" y="931"/>
                  </a:lnTo>
                  <a:lnTo>
                    <a:pt x="1548" y="925"/>
                  </a:lnTo>
                  <a:lnTo>
                    <a:pt x="1556" y="922"/>
                  </a:lnTo>
                  <a:lnTo>
                    <a:pt x="1556" y="919"/>
                  </a:lnTo>
                  <a:lnTo>
                    <a:pt x="1556" y="916"/>
                  </a:lnTo>
                  <a:lnTo>
                    <a:pt x="1564" y="913"/>
                  </a:lnTo>
                  <a:lnTo>
                    <a:pt x="1564" y="910"/>
                  </a:lnTo>
                  <a:lnTo>
                    <a:pt x="1572" y="910"/>
                  </a:lnTo>
                  <a:lnTo>
                    <a:pt x="1572" y="907"/>
                  </a:lnTo>
                  <a:lnTo>
                    <a:pt x="1572" y="904"/>
                  </a:lnTo>
                  <a:lnTo>
                    <a:pt x="1579" y="904"/>
                  </a:lnTo>
                  <a:lnTo>
                    <a:pt x="1587" y="904"/>
                  </a:lnTo>
                  <a:lnTo>
                    <a:pt x="1595" y="904"/>
                  </a:lnTo>
                  <a:lnTo>
                    <a:pt x="1595" y="907"/>
                  </a:lnTo>
                  <a:lnTo>
                    <a:pt x="1602" y="910"/>
                  </a:lnTo>
                  <a:lnTo>
                    <a:pt x="1602" y="913"/>
                  </a:lnTo>
                  <a:lnTo>
                    <a:pt x="1610" y="916"/>
                  </a:lnTo>
                  <a:lnTo>
                    <a:pt x="1610" y="919"/>
                  </a:lnTo>
                  <a:lnTo>
                    <a:pt x="1610" y="922"/>
                  </a:lnTo>
                  <a:lnTo>
                    <a:pt x="1618" y="925"/>
                  </a:lnTo>
                  <a:lnTo>
                    <a:pt x="1618" y="931"/>
                  </a:lnTo>
                  <a:lnTo>
                    <a:pt x="1618" y="934"/>
                  </a:lnTo>
                  <a:lnTo>
                    <a:pt x="1626" y="940"/>
                  </a:lnTo>
                  <a:lnTo>
                    <a:pt x="1626" y="946"/>
                  </a:lnTo>
                  <a:lnTo>
                    <a:pt x="1626" y="949"/>
                  </a:lnTo>
                  <a:lnTo>
                    <a:pt x="1633" y="955"/>
                  </a:lnTo>
                  <a:lnTo>
                    <a:pt x="1633" y="961"/>
                  </a:lnTo>
                  <a:lnTo>
                    <a:pt x="1641" y="967"/>
                  </a:lnTo>
                  <a:lnTo>
                    <a:pt x="1641" y="973"/>
                  </a:lnTo>
                  <a:lnTo>
                    <a:pt x="1641" y="979"/>
                  </a:lnTo>
                  <a:lnTo>
                    <a:pt x="1649" y="988"/>
                  </a:lnTo>
                  <a:lnTo>
                    <a:pt x="1649" y="994"/>
                  </a:lnTo>
                  <a:lnTo>
                    <a:pt x="1649" y="1000"/>
                  </a:lnTo>
                  <a:lnTo>
                    <a:pt x="1656" y="1006"/>
                  </a:lnTo>
                  <a:lnTo>
                    <a:pt x="1656" y="1015"/>
                  </a:lnTo>
                  <a:lnTo>
                    <a:pt x="1656" y="1022"/>
                  </a:lnTo>
                  <a:lnTo>
                    <a:pt x="1664" y="1018"/>
                  </a:lnTo>
                  <a:lnTo>
                    <a:pt x="1664" y="1012"/>
                  </a:lnTo>
                  <a:lnTo>
                    <a:pt x="1672" y="1006"/>
                  </a:lnTo>
                  <a:lnTo>
                    <a:pt x="1672" y="997"/>
                  </a:lnTo>
                  <a:lnTo>
                    <a:pt x="1672" y="991"/>
                  </a:lnTo>
                  <a:lnTo>
                    <a:pt x="1680" y="982"/>
                  </a:lnTo>
                  <a:lnTo>
                    <a:pt x="1680" y="976"/>
                  </a:lnTo>
                  <a:lnTo>
                    <a:pt x="1680" y="970"/>
                  </a:lnTo>
                  <a:lnTo>
                    <a:pt x="1687" y="961"/>
                  </a:lnTo>
                  <a:lnTo>
                    <a:pt x="1687" y="955"/>
                  </a:lnTo>
                  <a:lnTo>
                    <a:pt x="1687" y="949"/>
                  </a:lnTo>
                  <a:lnTo>
                    <a:pt x="1695" y="943"/>
                  </a:lnTo>
                  <a:lnTo>
                    <a:pt x="1695" y="934"/>
                  </a:lnTo>
                  <a:lnTo>
                    <a:pt x="1695" y="928"/>
                  </a:lnTo>
                  <a:lnTo>
                    <a:pt x="1703" y="922"/>
                  </a:lnTo>
                  <a:lnTo>
                    <a:pt x="1703" y="919"/>
                  </a:lnTo>
                  <a:lnTo>
                    <a:pt x="1710" y="913"/>
                  </a:lnTo>
                  <a:lnTo>
                    <a:pt x="1710" y="907"/>
                  </a:lnTo>
                  <a:lnTo>
                    <a:pt x="1710" y="904"/>
                  </a:lnTo>
                  <a:lnTo>
                    <a:pt x="1718" y="898"/>
                  </a:lnTo>
                  <a:lnTo>
                    <a:pt x="1718" y="895"/>
                  </a:lnTo>
                  <a:lnTo>
                    <a:pt x="1718" y="889"/>
                  </a:lnTo>
                  <a:lnTo>
                    <a:pt x="1726" y="886"/>
                  </a:lnTo>
                  <a:lnTo>
                    <a:pt x="1726" y="883"/>
                  </a:lnTo>
                  <a:lnTo>
                    <a:pt x="1734" y="880"/>
                  </a:lnTo>
                  <a:lnTo>
                    <a:pt x="1734" y="877"/>
                  </a:lnTo>
                  <a:lnTo>
                    <a:pt x="1741" y="877"/>
                  </a:lnTo>
                  <a:lnTo>
                    <a:pt x="1741" y="874"/>
                  </a:lnTo>
                  <a:lnTo>
                    <a:pt x="1749" y="874"/>
                  </a:lnTo>
                  <a:lnTo>
                    <a:pt x="1749" y="877"/>
                  </a:lnTo>
                  <a:lnTo>
                    <a:pt x="1757" y="877"/>
                  </a:lnTo>
                  <a:lnTo>
                    <a:pt x="1757" y="880"/>
                  </a:lnTo>
                  <a:lnTo>
                    <a:pt x="1757" y="883"/>
                  </a:lnTo>
                  <a:lnTo>
                    <a:pt x="1764" y="886"/>
                  </a:lnTo>
                  <a:lnTo>
                    <a:pt x="1764" y="889"/>
                  </a:lnTo>
                  <a:lnTo>
                    <a:pt x="1764" y="892"/>
                  </a:lnTo>
                  <a:lnTo>
                    <a:pt x="1772" y="895"/>
                  </a:lnTo>
                  <a:lnTo>
                    <a:pt x="1772" y="901"/>
                  </a:lnTo>
                  <a:lnTo>
                    <a:pt x="1780" y="904"/>
                  </a:lnTo>
                  <a:lnTo>
                    <a:pt x="1780" y="910"/>
                  </a:lnTo>
                  <a:lnTo>
                    <a:pt x="1780" y="916"/>
                  </a:lnTo>
                  <a:lnTo>
                    <a:pt x="1788" y="922"/>
                  </a:lnTo>
                  <a:lnTo>
                    <a:pt x="1788" y="928"/>
                  </a:lnTo>
                  <a:lnTo>
                    <a:pt x="1788" y="937"/>
                  </a:lnTo>
                  <a:lnTo>
                    <a:pt x="1795" y="943"/>
                  </a:lnTo>
                  <a:lnTo>
                    <a:pt x="1795" y="952"/>
                  </a:lnTo>
                  <a:lnTo>
                    <a:pt x="1795" y="958"/>
                  </a:lnTo>
                  <a:lnTo>
                    <a:pt x="1803" y="967"/>
                  </a:lnTo>
                  <a:lnTo>
                    <a:pt x="1803" y="976"/>
                  </a:lnTo>
                  <a:lnTo>
                    <a:pt x="1811" y="985"/>
                  </a:lnTo>
                  <a:lnTo>
                    <a:pt x="1811" y="994"/>
                  </a:lnTo>
                  <a:lnTo>
                    <a:pt x="1811" y="1003"/>
                  </a:lnTo>
                  <a:lnTo>
                    <a:pt x="1819" y="1012"/>
                  </a:lnTo>
                  <a:lnTo>
                    <a:pt x="1819" y="1022"/>
                  </a:lnTo>
                  <a:lnTo>
                    <a:pt x="1819" y="1015"/>
                  </a:lnTo>
                  <a:lnTo>
                    <a:pt x="1826" y="1006"/>
                  </a:lnTo>
                  <a:lnTo>
                    <a:pt x="1826" y="997"/>
                  </a:lnTo>
                  <a:lnTo>
                    <a:pt x="1826" y="985"/>
                  </a:lnTo>
                  <a:lnTo>
                    <a:pt x="1834" y="976"/>
                  </a:lnTo>
                  <a:lnTo>
                    <a:pt x="1834" y="967"/>
                  </a:lnTo>
                  <a:lnTo>
                    <a:pt x="1842" y="955"/>
                  </a:lnTo>
                  <a:lnTo>
                    <a:pt x="1842" y="946"/>
                  </a:lnTo>
                  <a:lnTo>
                    <a:pt x="1842" y="937"/>
                  </a:lnTo>
                  <a:lnTo>
                    <a:pt x="1849" y="925"/>
                  </a:lnTo>
                  <a:lnTo>
                    <a:pt x="1849" y="916"/>
                  </a:lnTo>
                  <a:lnTo>
                    <a:pt x="1849" y="907"/>
                  </a:lnTo>
                  <a:lnTo>
                    <a:pt x="1857" y="898"/>
                  </a:lnTo>
                  <a:lnTo>
                    <a:pt x="1857" y="889"/>
                  </a:lnTo>
                  <a:lnTo>
                    <a:pt x="1857" y="880"/>
                  </a:lnTo>
                  <a:lnTo>
                    <a:pt x="1865" y="871"/>
                  </a:lnTo>
                  <a:lnTo>
                    <a:pt x="1865" y="862"/>
                  </a:lnTo>
                  <a:lnTo>
                    <a:pt x="1865" y="853"/>
                  </a:lnTo>
                  <a:lnTo>
                    <a:pt x="1873" y="847"/>
                  </a:lnTo>
                  <a:lnTo>
                    <a:pt x="1873" y="838"/>
                  </a:lnTo>
                  <a:lnTo>
                    <a:pt x="1880" y="832"/>
                  </a:lnTo>
                  <a:lnTo>
                    <a:pt x="1880" y="826"/>
                  </a:lnTo>
                  <a:lnTo>
                    <a:pt x="1880" y="820"/>
                  </a:lnTo>
                  <a:lnTo>
                    <a:pt x="1888" y="814"/>
                  </a:lnTo>
                  <a:lnTo>
                    <a:pt x="1888" y="811"/>
                  </a:lnTo>
                  <a:lnTo>
                    <a:pt x="1888" y="805"/>
                  </a:lnTo>
                  <a:lnTo>
                    <a:pt x="1896" y="802"/>
                  </a:lnTo>
                  <a:lnTo>
                    <a:pt x="1896" y="799"/>
                  </a:lnTo>
                  <a:lnTo>
                    <a:pt x="1896" y="796"/>
                  </a:lnTo>
                  <a:lnTo>
                    <a:pt x="1903" y="793"/>
                  </a:lnTo>
                  <a:lnTo>
                    <a:pt x="1911" y="793"/>
                  </a:lnTo>
                  <a:lnTo>
                    <a:pt x="1919" y="796"/>
                  </a:lnTo>
                  <a:lnTo>
                    <a:pt x="1919" y="799"/>
                  </a:lnTo>
                  <a:lnTo>
                    <a:pt x="1927" y="805"/>
                  </a:lnTo>
                  <a:lnTo>
                    <a:pt x="1927" y="808"/>
                  </a:lnTo>
                  <a:lnTo>
                    <a:pt x="1927" y="814"/>
                  </a:lnTo>
                  <a:lnTo>
                    <a:pt x="1934" y="820"/>
                  </a:lnTo>
                  <a:lnTo>
                    <a:pt x="1934" y="826"/>
                  </a:lnTo>
                  <a:lnTo>
                    <a:pt x="1942" y="835"/>
                  </a:lnTo>
                  <a:lnTo>
                    <a:pt x="1942" y="844"/>
                  </a:lnTo>
                  <a:lnTo>
                    <a:pt x="1942" y="853"/>
                  </a:lnTo>
                  <a:lnTo>
                    <a:pt x="1950" y="862"/>
                  </a:lnTo>
                  <a:lnTo>
                    <a:pt x="1950" y="874"/>
                  </a:lnTo>
                  <a:lnTo>
                    <a:pt x="1950" y="886"/>
                  </a:lnTo>
                  <a:lnTo>
                    <a:pt x="1957" y="898"/>
                  </a:lnTo>
                  <a:lnTo>
                    <a:pt x="1957" y="910"/>
                  </a:lnTo>
                  <a:lnTo>
                    <a:pt x="1957" y="925"/>
                  </a:lnTo>
                  <a:lnTo>
                    <a:pt x="1964" y="940"/>
                  </a:lnTo>
                  <a:lnTo>
                    <a:pt x="1964" y="955"/>
                  </a:lnTo>
                  <a:lnTo>
                    <a:pt x="1964" y="970"/>
                  </a:lnTo>
                  <a:lnTo>
                    <a:pt x="1972" y="988"/>
                  </a:lnTo>
                  <a:lnTo>
                    <a:pt x="1972" y="1003"/>
                  </a:lnTo>
                  <a:lnTo>
                    <a:pt x="1979" y="1022"/>
                  </a:lnTo>
                  <a:lnTo>
                    <a:pt x="1979" y="1006"/>
                  </a:lnTo>
                  <a:lnTo>
                    <a:pt x="1979" y="988"/>
                  </a:lnTo>
                  <a:lnTo>
                    <a:pt x="1987" y="967"/>
                  </a:lnTo>
                  <a:lnTo>
                    <a:pt x="1987" y="949"/>
                  </a:lnTo>
                  <a:lnTo>
                    <a:pt x="1987" y="928"/>
                  </a:lnTo>
                  <a:lnTo>
                    <a:pt x="1995" y="907"/>
                  </a:lnTo>
                  <a:lnTo>
                    <a:pt x="1995" y="883"/>
                  </a:lnTo>
                  <a:lnTo>
                    <a:pt x="1995" y="862"/>
                  </a:lnTo>
                  <a:lnTo>
                    <a:pt x="2002" y="838"/>
                  </a:lnTo>
                  <a:lnTo>
                    <a:pt x="2002" y="817"/>
                  </a:lnTo>
                  <a:lnTo>
                    <a:pt x="2010" y="793"/>
                  </a:lnTo>
                  <a:lnTo>
                    <a:pt x="2010" y="769"/>
                  </a:lnTo>
                  <a:lnTo>
                    <a:pt x="2010" y="745"/>
                  </a:lnTo>
                  <a:lnTo>
                    <a:pt x="2018" y="721"/>
                  </a:lnTo>
                  <a:lnTo>
                    <a:pt x="2018" y="697"/>
                  </a:lnTo>
                  <a:lnTo>
                    <a:pt x="2018" y="672"/>
                  </a:lnTo>
                  <a:lnTo>
                    <a:pt x="2026" y="648"/>
                  </a:lnTo>
                  <a:lnTo>
                    <a:pt x="2026" y="625"/>
                  </a:lnTo>
                  <a:lnTo>
                    <a:pt x="2026" y="598"/>
                  </a:lnTo>
                  <a:lnTo>
                    <a:pt x="2033" y="574"/>
                  </a:lnTo>
                  <a:lnTo>
                    <a:pt x="2033" y="549"/>
                  </a:lnTo>
                  <a:lnTo>
                    <a:pt x="2033" y="525"/>
                  </a:lnTo>
                  <a:lnTo>
                    <a:pt x="2041" y="501"/>
                  </a:lnTo>
                  <a:lnTo>
                    <a:pt x="2041" y="477"/>
                  </a:lnTo>
                  <a:lnTo>
                    <a:pt x="2049" y="453"/>
                  </a:lnTo>
                  <a:lnTo>
                    <a:pt x="2049" y="429"/>
                  </a:lnTo>
                  <a:lnTo>
                    <a:pt x="2049" y="405"/>
                  </a:lnTo>
                  <a:lnTo>
                    <a:pt x="2056" y="381"/>
                  </a:lnTo>
                  <a:lnTo>
                    <a:pt x="2056" y="357"/>
                  </a:lnTo>
                  <a:lnTo>
                    <a:pt x="2056" y="336"/>
                  </a:lnTo>
                  <a:lnTo>
                    <a:pt x="2064" y="315"/>
                  </a:lnTo>
                  <a:lnTo>
                    <a:pt x="2064" y="294"/>
                  </a:lnTo>
                  <a:lnTo>
                    <a:pt x="2064" y="273"/>
                  </a:lnTo>
                  <a:lnTo>
                    <a:pt x="2072" y="252"/>
                  </a:lnTo>
                  <a:lnTo>
                    <a:pt x="2072" y="231"/>
                  </a:lnTo>
                  <a:lnTo>
                    <a:pt x="2080" y="213"/>
                  </a:lnTo>
                  <a:lnTo>
                    <a:pt x="2080" y="195"/>
                  </a:lnTo>
                  <a:lnTo>
                    <a:pt x="2080" y="177"/>
                  </a:lnTo>
                  <a:lnTo>
                    <a:pt x="2087" y="159"/>
                  </a:lnTo>
                  <a:lnTo>
                    <a:pt x="2087" y="141"/>
                  </a:lnTo>
                  <a:lnTo>
                    <a:pt x="2087" y="126"/>
                  </a:lnTo>
                  <a:lnTo>
                    <a:pt x="2095" y="110"/>
                  </a:lnTo>
                  <a:lnTo>
                    <a:pt x="2095" y="98"/>
                  </a:lnTo>
                  <a:lnTo>
                    <a:pt x="2095" y="83"/>
                  </a:lnTo>
                  <a:lnTo>
                    <a:pt x="2103" y="71"/>
                  </a:lnTo>
                  <a:lnTo>
                    <a:pt x="2103" y="59"/>
                  </a:lnTo>
                  <a:lnTo>
                    <a:pt x="2111" y="50"/>
                  </a:lnTo>
                  <a:lnTo>
                    <a:pt x="2111" y="41"/>
                  </a:lnTo>
                  <a:lnTo>
                    <a:pt x="2111" y="32"/>
                  </a:lnTo>
                  <a:lnTo>
                    <a:pt x="2118" y="23"/>
                  </a:lnTo>
                  <a:lnTo>
                    <a:pt x="2118" y="17"/>
                  </a:lnTo>
                  <a:lnTo>
                    <a:pt x="2118" y="12"/>
                  </a:lnTo>
                  <a:lnTo>
                    <a:pt x="2126" y="9"/>
                  </a:lnTo>
                  <a:lnTo>
                    <a:pt x="2126" y="6"/>
                  </a:lnTo>
                  <a:lnTo>
                    <a:pt x="2126" y="3"/>
                  </a:lnTo>
                  <a:lnTo>
                    <a:pt x="2134" y="0"/>
                  </a:lnTo>
                  <a:lnTo>
                    <a:pt x="2141" y="3"/>
                  </a:lnTo>
                  <a:lnTo>
                    <a:pt x="2141" y="6"/>
                  </a:lnTo>
                  <a:lnTo>
                    <a:pt x="2149" y="9"/>
                  </a:lnTo>
                  <a:lnTo>
                    <a:pt x="2149" y="12"/>
                  </a:lnTo>
                  <a:lnTo>
                    <a:pt x="2149" y="17"/>
                  </a:lnTo>
                  <a:lnTo>
                    <a:pt x="2157" y="23"/>
                  </a:lnTo>
                  <a:lnTo>
                    <a:pt x="2157" y="32"/>
                  </a:lnTo>
                  <a:lnTo>
                    <a:pt x="2157" y="41"/>
                  </a:lnTo>
                  <a:lnTo>
                    <a:pt x="2165" y="50"/>
                  </a:lnTo>
                  <a:lnTo>
                    <a:pt x="2165" y="59"/>
                  </a:lnTo>
                  <a:lnTo>
                    <a:pt x="2165" y="71"/>
                  </a:lnTo>
                  <a:lnTo>
                    <a:pt x="2172" y="83"/>
                  </a:lnTo>
                  <a:lnTo>
                    <a:pt x="2172" y="98"/>
                  </a:lnTo>
                  <a:lnTo>
                    <a:pt x="2180" y="110"/>
                  </a:lnTo>
                  <a:lnTo>
                    <a:pt x="2180" y="126"/>
                  </a:lnTo>
                  <a:lnTo>
                    <a:pt x="2180" y="141"/>
                  </a:lnTo>
                  <a:lnTo>
                    <a:pt x="2188" y="159"/>
                  </a:lnTo>
                  <a:lnTo>
                    <a:pt x="2188" y="177"/>
                  </a:lnTo>
                  <a:lnTo>
                    <a:pt x="2188" y="195"/>
                  </a:lnTo>
                  <a:lnTo>
                    <a:pt x="2195" y="213"/>
                  </a:lnTo>
                  <a:lnTo>
                    <a:pt x="2195" y="231"/>
                  </a:lnTo>
                  <a:lnTo>
                    <a:pt x="2195" y="252"/>
                  </a:lnTo>
                  <a:lnTo>
                    <a:pt x="2203" y="273"/>
                  </a:lnTo>
                  <a:lnTo>
                    <a:pt x="2203" y="294"/>
                  </a:lnTo>
                  <a:lnTo>
                    <a:pt x="2211" y="315"/>
                  </a:lnTo>
                  <a:lnTo>
                    <a:pt x="2211" y="336"/>
                  </a:lnTo>
                  <a:lnTo>
                    <a:pt x="2211" y="357"/>
                  </a:lnTo>
                  <a:lnTo>
                    <a:pt x="2219" y="381"/>
                  </a:lnTo>
                  <a:lnTo>
                    <a:pt x="2219" y="405"/>
                  </a:lnTo>
                  <a:lnTo>
                    <a:pt x="2219" y="429"/>
                  </a:lnTo>
                  <a:lnTo>
                    <a:pt x="2226" y="453"/>
                  </a:lnTo>
                  <a:lnTo>
                    <a:pt x="2226" y="477"/>
                  </a:lnTo>
                  <a:lnTo>
                    <a:pt x="2226" y="501"/>
                  </a:lnTo>
                  <a:lnTo>
                    <a:pt x="2234" y="525"/>
                  </a:lnTo>
                  <a:lnTo>
                    <a:pt x="2234" y="549"/>
                  </a:lnTo>
                  <a:lnTo>
                    <a:pt x="2234" y="574"/>
                  </a:lnTo>
                  <a:lnTo>
                    <a:pt x="2242" y="598"/>
                  </a:lnTo>
                  <a:lnTo>
                    <a:pt x="2242" y="625"/>
                  </a:lnTo>
                  <a:lnTo>
                    <a:pt x="2249" y="648"/>
                  </a:lnTo>
                  <a:lnTo>
                    <a:pt x="2249" y="672"/>
                  </a:lnTo>
                  <a:lnTo>
                    <a:pt x="2249" y="697"/>
                  </a:lnTo>
                  <a:lnTo>
                    <a:pt x="2257" y="721"/>
                  </a:lnTo>
                  <a:lnTo>
                    <a:pt x="2257" y="745"/>
                  </a:lnTo>
                  <a:lnTo>
                    <a:pt x="2257" y="769"/>
                  </a:lnTo>
                  <a:lnTo>
                    <a:pt x="2265" y="793"/>
                  </a:lnTo>
                  <a:lnTo>
                    <a:pt x="2265" y="817"/>
                  </a:lnTo>
                  <a:lnTo>
                    <a:pt x="2265" y="838"/>
                  </a:lnTo>
                  <a:lnTo>
                    <a:pt x="2273" y="862"/>
                  </a:lnTo>
                  <a:lnTo>
                    <a:pt x="2273" y="883"/>
                  </a:lnTo>
                  <a:lnTo>
                    <a:pt x="2280" y="907"/>
                  </a:lnTo>
                  <a:lnTo>
                    <a:pt x="2280" y="928"/>
                  </a:lnTo>
                  <a:lnTo>
                    <a:pt x="2280" y="949"/>
                  </a:lnTo>
                  <a:lnTo>
                    <a:pt x="2288" y="967"/>
                  </a:lnTo>
                  <a:lnTo>
                    <a:pt x="2288" y="988"/>
                  </a:lnTo>
                  <a:lnTo>
                    <a:pt x="2288" y="1006"/>
                  </a:lnTo>
                  <a:lnTo>
                    <a:pt x="2296" y="1022"/>
                  </a:lnTo>
                  <a:lnTo>
                    <a:pt x="2296" y="1003"/>
                  </a:lnTo>
                  <a:lnTo>
                    <a:pt x="2296" y="988"/>
                  </a:lnTo>
                  <a:lnTo>
                    <a:pt x="2303" y="970"/>
                  </a:lnTo>
                  <a:lnTo>
                    <a:pt x="2303" y="955"/>
                  </a:lnTo>
                  <a:lnTo>
                    <a:pt x="2303" y="940"/>
                  </a:lnTo>
                  <a:lnTo>
                    <a:pt x="2311" y="925"/>
                  </a:lnTo>
                  <a:lnTo>
                    <a:pt x="2311" y="910"/>
                  </a:lnTo>
                  <a:lnTo>
                    <a:pt x="2319" y="898"/>
                  </a:lnTo>
                  <a:lnTo>
                    <a:pt x="2319" y="886"/>
                  </a:lnTo>
                  <a:lnTo>
                    <a:pt x="2319" y="874"/>
                  </a:lnTo>
                  <a:lnTo>
                    <a:pt x="2327" y="862"/>
                  </a:lnTo>
                  <a:lnTo>
                    <a:pt x="2327" y="853"/>
                  </a:lnTo>
                  <a:lnTo>
                    <a:pt x="2327" y="844"/>
                  </a:lnTo>
                  <a:lnTo>
                    <a:pt x="2334" y="835"/>
                  </a:lnTo>
                  <a:lnTo>
                    <a:pt x="2334" y="826"/>
                  </a:lnTo>
                  <a:lnTo>
                    <a:pt x="2334" y="820"/>
                  </a:lnTo>
                  <a:lnTo>
                    <a:pt x="2342" y="814"/>
                  </a:lnTo>
                  <a:lnTo>
                    <a:pt x="2342" y="808"/>
                  </a:lnTo>
                  <a:lnTo>
                    <a:pt x="2350" y="805"/>
                  </a:lnTo>
                  <a:lnTo>
                    <a:pt x="2350" y="799"/>
                  </a:lnTo>
                  <a:lnTo>
                    <a:pt x="2350" y="796"/>
                  </a:lnTo>
                  <a:lnTo>
                    <a:pt x="2358" y="796"/>
                  </a:lnTo>
                  <a:lnTo>
                    <a:pt x="2358" y="793"/>
                  </a:lnTo>
                  <a:lnTo>
                    <a:pt x="2365" y="793"/>
                  </a:lnTo>
                  <a:lnTo>
                    <a:pt x="2373" y="796"/>
                  </a:lnTo>
                  <a:lnTo>
                    <a:pt x="2373" y="799"/>
                  </a:lnTo>
                  <a:lnTo>
                    <a:pt x="2381" y="802"/>
                  </a:lnTo>
                  <a:lnTo>
                    <a:pt x="2381" y="805"/>
                  </a:lnTo>
                  <a:lnTo>
                    <a:pt x="2381" y="811"/>
                  </a:lnTo>
                  <a:lnTo>
                    <a:pt x="2388" y="814"/>
                  </a:lnTo>
                  <a:lnTo>
                    <a:pt x="2388" y="820"/>
                  </a:lnTo>
                  <a:lnTo>
                    <a:pt x="2388" y="826"/>
                  </a:lnTo>
                  <a:lnTo>
                    <a:pt x="2396" y="832"/>
                  </a:lnTo>
                  <a:lnTo>
                    <a:pt x="2396" y="838"/>
                  </a:lnTo>
                  <a:lnTo>
                    <a:pt x="2396" y="847"/>
                  </a:lnTo>
                  <a:lnTo>
                    <a:pt x="2404" y="853"/>
                  </a:lnTo>
                  <a:lnTo>
                    <a:pt x="2404" y="862"/>
                  </a:lnTo>
                  <a:lnTo>
                    <a:pt x="2404" y="871"/>
                  </a:lnTo>
                  <a:lnTo>
                    <a:pt x="2412" y="880"/>
                  </a:lnTo>
                  <a:lnTo>
                    <a:pt x="2412" y="889"/>
                  </a:lnTo>
                  <a:lnTo>
                    <a:pt x="2419" y="898"/>
                  </a:lnTo>
                  <a:lnTo>
                    <a:pt x="2419" y="907"/>
                  </a:lnTo>
                  <a:lnTo>
                    <a:pt x="2419" y="916"/>
                  </a:lnTo>
                  <a:lnTo>
                    <a:pt x="2427" y="925"/>
                  </a:lnTo>
                  <a:lnTo>
                    <a:pt x="2427" y="937"/>
                  </a:lnTo>
                  <a:lnTo>
                    <a:pt x="2427" y="946"/>
                  </a:lnTo>
                  <a:lnTo>
                    <a:pt x="2435" y="955"/>
                  </a:lnTo>
                  <a:lnTo>
                    <a:pt x="2435" y="967"/>
                  </a:lnTo>
                  <a:lnTo>
                    <a:pt x="2435" y="976"/>
                  </a:lnTo>
                  <a:lnTo>
                    <a:pt x="2442" y="985"/>
                  </a:lnTo>
                  <a:lnTo>
                    <a:pt x="2442" y="997"/>
                  </a:lnTo>
                  <a:lnTo>
                    <a:pt x="2450" y="1006"/>
                  </a:lnTo>
                  <a:lnTo>
                    <a:pt x="2450" y="1015"/>
                  </a:lnTo>
                  <a:lnTo>
                    <a:pt x="2450" y="1022"/>
                  </a:lnTo>
                  <a:lnTo>
                    <a:pt x="2458" y="1012"/>
                  </a:lnTo>
                  <a:lnTo>
                    <a:pt x="2458" y="1003"/>
                  </a:lnTo>
                  <a:lnTo>
                    <a:pt x="2458" y="994"/>
                  </a:lnTo>
                  <a:lnTo>
                    <a:pt x="2466" y="985"/>
                  </a:lnTo>
                  <a:lnTo>
                    <a:pt x="2466" y="976"/>
                  </a:lnTo>
                  <a:lnTo>
                    <a:pt x="2466" y="967"/>
                  </a:lnTo>
                  <a:lnTo>
                    <a:pt x="2473" y="958"/>
                  </a:lnTo>
                  <a:lnTo>
                    <a:pt x="2473" y="952"/>
                  </a:lnTo>
                  <a:lnTo>
                    <a:pt x="2481" y="943"/>
                  </a:lnTo>
                  <a:lnTo>
                    <a:pt x="2481" y="937"/>
                  </a:lnTo>
                  <a:lnTo>
                    <a:pt x="2481" y="928"/>
                  </a:lnTo>
                  <a:lnTo>
                    <a:pt x="2489" y="922"/>
                  </a:lnTo>
                  <a:lnTo>
                    <a:pt x="2489" y="916"/>
                  </a:lnTo>
                  <a:lnTo>
                    <a:pt x="2489" y="910"/>
                  </a:lnTo>
                  <a:lnTo>
                    <a:pt x="2496" y="904"/>
                  </a:lnTo>
                  <a:lnTo>
                    <a:pt x="2496" y="901"/>
                  </a:lnTo>
                  <a:lnTo>
                    <a:pt x="2496" y="895"/>
                  </a:lnTo>
                  <a:lnTo>
                    <a:pt x="2504" y="892"/>
                  </a:lnTo>
                  <a:lnTo>
                    <a:pt x="2504" y="889"/>
                  </a:lnTo>
                  <a:lnTo>
                    <a:pt x="2504" y="886"/>
                  </a:lnTo>
                  <a:lnTo>
                    <a:pt x="2512" y="883"/>
                  </a:lnTo>
                  <a:lnTo>
                    <a:pt x="2512" y="880"/>
                  </a:lnTo>
                  <a:lnTo>
                    <a:pt x="2520" y="877"/>
                  </a:lnTo>
                  <a:lnTo>
                    <a:pt x="2520" y="874"/>
                  </a:lnTo>
                  <a:lnTo>
                    <a:pt x="2527" y="874"/>
                  </a:lnTo>
                  <a:lnTo>
                    <a:pt x="2535" y="877"/>
                  </a:lnTo>
                  <a:lnTo>
                    <a:pt x="2535" y="880"/>
                  </a:lnTo>
                  <a:lnTo>
                    <a:pt x="2543" y="883"/>
                  </a:lnTo>
                  <a:lnTo>
                    <a:pt x="2550" y="886"/>
                  </a:lnTo>
                  <a:lnTo>
                    <a:pt x="2550" y="889"/>
                  </a:lnTo>
                  <a:lnTo>
                    <a:pt x="2550" y="895"/>
                  </a:lnTo>
                  <a:lnTo>
                    <a:pt x="2558" y="898"/>
                  </a:lnTo>
                  <a:lnTo>
                    <a:pt x="2558" y="904"/>
                  </a:lnTo>
                  <a:lnTo>
                    <a:pt x="2558" y="907"/>
                  </a:lnTo>
                  <a:lnTo>
                    <a:pt x="2566" y="913"/>
                  </a:lnTo>
                  <a:lnTo>
                    <a:pt x="2566" y="919"/>
                  </a:lnTo>
                  <a:lnTo>
                    <a:pt x="2566" y="922"/>
                  </a:lnTo>
                  <a:lnTo>
                    <a:pt x="2574" y="928"/>
                  </a:lnTo>
                  <a:lnTo>
                    <a:pt x="2574" y="934"/>
                  </a:lnTo>
                  <a:lnTo>
                    <a:pt x="2574" y="943"/>
                  </a:lnTo>
                  <a:lnTo>
                    <a:pt x="2581" y="949"/>
                  </a:lnTo>
                  <a:lnTo>
                    <a:pt x="2581" y="955"/>
                  </a:lnTo>
                  <a:lnTo>
                    <a:pt x="2589" y="961"/>
                  </a:lnTo>
                  <a:lnTo>
                    <a:pt x="2589" y="970"/>
                  </a:lnTo>
                  <a:lnTo>
                    <a:pt x="2589" y="976"/>
                  </a:lnTo>
                  <a:lnTo>
                    <a:pt x="2597" y="982"/>
                  </a:lnTo>
                  <a:lnTo>
                    <a:pt x="2597" y="991"/>
                  </a:lnTo>
                  <a:lnTo>
                    <a:pt x="2597" y="997"/>
                  </a:lnTo>
                  <a:lnTo>
                    <a:pt x="2605" y="1006"/>
                  </a:lnTo>
                  <a:lnTo>
                    <a:pt x="2605" y="1012"/>
                  </a:lnTo>
                  <a:lnTo>
                    <a:pt x="2605" y="1018"/>
                  </a:lnTo>
                  <a:lnTo>
                    <a:pt x="2612" y="1022"/>
                  </a:lnTo>
                  <a:lnTo>
                    <a:pt x="2612" y="1015"/>
                  </a:lnTo>
                  <a:lnTo>
                    <a:pt x="2620" y="1006"/>
                  </a:lnTo>
                  <a:lnTo>
                    <a:pt x="2620" y="1000"/>
                  </a:lnTo>
                  <a:lnTo>
                    <a:pt x="2620" y="994"/>
                  </a:lnTo>
                  <a:lnTo>
                    <a:pt x="2628" y="988"/>
                  </a:lnTo>
                  <a:lnTo>
                    <a:pt x="2628" y="979"/>
                  </a:lnTo>
                  <a:lnTo>
                    <a:pt x="2628" y="973"/>
                  </a:lnTo>
                  <a:lnTo>
                    <a:pt x="2635" y="967"/>
                  </a:lnTo>
                  <a:lnTo>
                    <a:pt x="2635" y="961"/>
                  </a:lnTo>
                  <a:lnTo>
                    <a:pt x="2635" y="955"/>
                  </a:lnTo>
                  <a:lnTo>
                    <a:pt x="2643" y="949"/>
                  </a:lnTo>
                  <a:lnTo>
                    <a:pt x="2643" y="946"/>
                  </a:lnTo>
                  <a:lnTo>
                    <a:pt x="2651" y="940"/>
                  </a:lnTo>
                  <a:lnTo>
                    <a:pt x="2651" y="934"/>
                  </a:lnTo>
                  <a:lnTo>
                    <a:pt x="2651" y="931"/>
                  </a:lnTo>
                  <a:lnTo>
                    <a:pt x="2659" y="925"/>
                  </a:lnTo>
                  <a:lnTo>
                    <a:pt x="2659" y="922"/>
                  </a:lnTo>
                  <a:lnTo>
                    <a:pt x="2659" y="919"/>
                  </a:lnTo>
                  <a:lnTo>
                    <a:pt x="2666" y="916"/>
                  </a:lnTo>
                  <a:lnTo>
                    <a:pt x="2666" y="913"/>
                  </a:lnTo>
                  <a:lnTo>
                    <a:pt x="2666" y="910"/>
                  </a:lnTo>
                  <a:lnTo>
                    <a:pt x="2674" y="907"/>
                  </a:lnTo>
                  <a:lnTo>
                    <a:pt x="2674" y="904"/>
                  </a:lnTo>
                  <a:lnTo>
                    <a:pt x="2682" y="904"/>
                  </a:lnTo>
                  <a:lnTo>
                    <a:pt x="2688" y="904"/>
                  </a:lnTo>
                  <a:lnTo>
                    <a:pt x="2696" y="904"/>
                  </a:lnTo>
                  <a:lnTo>
                    <a:pt x="2696" y="907"/>
                  </a:lnTo>
                  <a:lnTo>
                    <a:pt x="2704" y="910"/>
                  </a:lnTo>
                  <a:lnTo>
                    <a:pt x="2704" y="913"/>
                  </a:lnTo>
                  <a:lnTo>
                    <a:pt x="2711" y="916"/>
                  </a:lnTo>
                  <a:lnTo>
                    <a:pt x="2711" y="919"/>
                  </a:lnTo>
                  <a:lnTo>
                    <a:pt x="2719" y="922"/>
                  </a:lnTo>
                  <a:lnTo>
                    <a:pt x="2719" y="925"/>
                  </a:lnTo>
                  <a:lnTo>
                    <a:pt x="2719" y="931"/>
                  </a:lnTo>
                  <a:lnTo>
                    <a:pt x="2727" y="934"/>
                  </a:lnTo>
                  <a:lnTo>
                    <a:pt x="2727" y="940"/>
                  </a:lnTo>
                  <a:lnTo>
                    <a:pt x="2727" y="943"/>
                  </a:lnTo>
                  <a:lnTo>
                    <a:pt x="2734" y="949"/>
                  </a:lnTo>
                  <a:lnTo>
                    <a:pt x="2734" y="955"/>
                  </a:lnTo>
                  <a:lnTo>
                    <a:pt x="2734" y="961"/>
                  </a:lnTo>
                  <a:lnTo>
                    <a:pt x="2742" y="964"/>
                  </a:lnTo>
                  <a:lnTo>
                    <a:pt x="2742" y="970"/>
                  </a:lnTo>
                  <a:lnTo>
                    <a:pt x="2750" y="976"/>
                  </a:lnTo>
                  <a:lnTo>
                    <a:pt x="2750" y="982"/>
                  </a:lnTo>
                  <a:lnTo>
                    <a:pt x="2750" y="988"/>
                  </a:lnTo>
                  <a:lnTo>
                    <a:pt x="2758" y="994"/>
                  </a:lnTo>
                  <a:lnTo>
                    <a:pt x="2758" y="1000"/>
                  </a:lnTo>
                  <a:lnTo>
                    <a:pt x="2758" y="1009"/>
                  </a:lnTo>
                  <a:lnTo>
                    <a:pt x="2765" y="1015"/>
                  </a:lnTo>
                  <a:lnTo>
                    <a:pt x="2765" y="1022"/>
                  </a:lnTo>
                  <a:lnTo>
                    <a:pt x="2773" y="1015"/>
                  </a:lnTo>
                  <a:lnTo>
                    <a:pt x="2773" y="1009"/>
                  </a:lnTo>
                  <a:lnTo>
                    <a:pt x="2773" y="1003"/>
                  </a:lnTo>
                  <a:lnTo>
                    <a:pt x="2781" y="997"/>
                  </a:lnTo>
                  <a:lnTo>
                    <a:pt x="2781" y="991"/>
                  </a:lnTo>
                  <a:lnTo>
                    <a:pt x="2788" y="985"/>
                  </a:lnTo>
                  <a:lnTo>
                    <a:pt x="2788" y="979"/>
                  </a:lnTo>
                  <a:lnTo>
                    <a:pt x="2788" y="973"/>
                  </a:lnTo>
                  <a:lnTo>
                    <a:pt x="2796" y="967"/>
                  </a:lnTo>
                  <a:lnTo>
                    <a:pt x="2796" y="961"/>
                  </a:lnTo>
                  <a:lnTo>
                    <a:pt x="2796" y="955"/>
                  </a:lnTo>
                  <a:lnTo>
                    <a:pt x="2804" y="952"/>
                  </a:lnTo>
                  <a:lnTo>
                    <a:pt x="2804" y="946"/>
                  </a:lnTo>
                  <a:lnTo>
                    <a:pt x="2804" y="943"/>
                  </a:lnTo>
                  <a:lnTo>
                    <a:pt x="2812" y="937"/>
                  </a:lnTo>
                  <a:lnTo>
                    <a:pt x="2812" y="934"/>
                  </a:lnTo>
                  <a:lnTo>
                    <a:pt x="2819" y="931"/>
                  </a:lnTo>
                  <a:lnTo>
                    <a:pt x="2819" y="928"/>
                  </a:lnTo>
                  <a:lnTo>
                    <a:pt x="2819" y="925"/>
                  </a:lnTo>
                  <a:lnTo>
                    <a:pt x="2827" y="922"/>
                  </a:lnTo>
                  <a:lnTo>
                    <a:pt x="2827" y="919"/>
                  </a:lnTo>
                  <a:lnTo>
                    <a:pt x="2827" y="916"/>
                  </a:lnTo>
                  <a:lnTo>
                    <a:pt x="2835" y="916"/>
                  </a:lnTo>
                  <a:lnTo>
                    <a:pt x="2835" y="913"/>
                  </a:lnTo>
                  <a:lnTo>
                    <a:pt x="2843" y="91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502000" y="3076560"/>
              <a:ext cx="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664880" y="3094200"/>
              <a:ext cx="36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378800" y="131616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7" name=""/>
          <p:cNvGrpSpPr/>
          <p:nvPr/>
        </p:nvGrpSpPr>
        <p:grpSpPr>
          <a:xfrm>
            <a:off x="1440" y="5124600"/>
            <a:ext cx="4637160" cy="1732320"/>
            <a:chOff x="1440" y="5124600"/>
            <a:chExt cx="4637160" cy="1732320"/>
          </a:xfrm>
        </p:grpSpPr>
        <p:sp>
          <p:nvSpPr>
            <p:cNvPr id="1358" name=""/>
            <p:cNvSpPr/>
            <p:nvPr/>
          </p:nvSpPr>
          <p:spPr>
            <a:xfrm>
              <a:off x="4090320" y="6459480"/>
              <a:ext cx="36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098440" y="6516720"/>
              <a:ext cx="296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201840" y="6519960"/>
              <a:ext cx="443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98280" y="6507000"/>
              <a:ext cx="4540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V="1">
              <a:off x="1133640" y="5243400"/>
              <a:ext cx="0" cy="141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210680" y="5124600"/>
              <a:ext cx="9712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Times New Roman"/>
                </a:rPr>
                <a:t>|</a:t>
              </a:r>
              <a:r>
                <a:rPr b="0" i="1" lang="hr-HR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hr-HR" sz="20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hr-HR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hr-HR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i="1" lang="hr-HR" sz="2000" spc="-1" strike="noStrike" baseline="30000">
                  <a:solidFill>
                    <a:srgbClr val="ffffff"/>
                  </a:solidFill>
                  <a:latin typeface="Times New Roman"/>
                </a:rPr>
                <a:t>j</a:t>
              </a:r>
              <a:r>
                <a:rPr b="0" i="1" lang="hr-HR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hr-HR" sz="2000" spc="-1" strike="noStrike">
                  <a:solidFill>
                    <a:srgbClr val="ffffff"/>
                  </a:solidFill>
                  <a:latin typeface="Times New Roman"/>
                </a:rPr>
                <a:t>)|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278080" y="6459480"/>
              <a:ext cx="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421080" y="6461280"/>
              <a:ext cx="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6" name=""/>
            <p:cNvGrpSpPr/>
            <p:nvPr/>
          </p:nvGrpSpPr>
          <p:grpSpPr>
            <a:xfrm>
              <a:off x="1440" y="5703480"/>
              <a:ext cx="4546800" cy="809640"/>
              <a:chOff x="1440" y="5703480"/>
              <a:chExt cx="4546800" cy="809640"/>
            </a:xfrm>
          </p:grpSpPr>
          <p:grpSp>
            <p:nvGrpSpPr>
              <p:cNvPr id="1367" name=""/>
              <p:cNvGrpSpPr/>
              <p:nvPr/>
            </p:nvGrpSpPr>
            <p:grpSpPr>
              <a:xfrm>
                <a:off x="1440" y="5703480"/>
                <a:ext cx="2273400" cy="809640"/>
                <a:chOff x="1440" y="5703480"/>
                <a:chExt cx="2273400" cy="809640"/>
              </a:xfrm>
            </p:grpSpPr>
            <p:sp>
              <p:nvSpPr>
                <p:cNvPr id="1368" name=""/>
                <p:cNvSpPr/>
                <p:nvPr/>
              </p:nvSpPr>
              <p:spPr>
                <a:xfrm flipV="1">
                  <a:off x="568440" y="5705280"/>
                  <a:ext cx="0" cy="804600"/>
                </a:xfrm>
                <a:prstGeom prst="line">
                  <a:avLst/>
                </a:prstGeom>
                <a:ln w="12600">
                  <a:solidFill>
                    <a:srgbClr val="99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 flipV="1">
                  <a:off x="1706400" y="5703480"/>
                  <a:ext cx="0" cy="809640"/>
                </a:xfrm>
                <a:prstGeom prst="line">
                  <a:avLst/>
                </a:prstGeom>
                <a:ln w="12600">
                  <a:solidFill>
                    <a:srgbClr val="99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565200" y="5703840"/>
                  <a:ext cx="1143000" cy="0"/>
                </a:xfrm>
                <a:prstGeom prst="line">
                  <a:avLst/>
                </a:prstGeom>
                <a:ln w="12600">
                  <a:solidFill>
                    <a:srgbClr val="99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1440" y="6508800"/>
                  <a:ext cx="568440" cy="0"/>
                </a:xfrm>
                <a:prstGeom prst="line">
                  <a:avLst/>
                </a:prstGeom>
                <a:ln w="12600">
                  <a:solidFill>
                    <a:srgbClr val="99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1704960" y="6508800"/>
                  <a:ext cx="569880" cy="0"/>
                </a:xfrm>
                <a:prstGeom prst="line">
                  <a:avLst/>
                </a:prstGeom>
                <a:ln w="12600">
                  <a:solidFill>
                    <a:srgbClr val="99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3" name=""/>
              <p:cNvGrpSpPr/>
              <p:nvPr/>
            </p:nvGrpSpPr>
            <p:grpSpPr>
              <a:xfrm>
                <a:off x="2276640" y="5703480"/>
                <a:ext cx="2271600" cy="809640"/>
                <a:chOff x="2276640" y="5703480"/>
                <a:chExt cx="2271600" cy="809640"/>
              </a:xfrm>
            </p:grpSpPr>
            <p:sp>
              <p:nvSpPr>
                <p:cNvPr id="1374" name=""/>
                <p:cNvSpPr/>
                <p:nvPr/>
              </p:nvSpPr>
              <p:spPr>
                <a:xfrm flipV="1">
                  <a:off x="2843280" y="5705280"/>
                  <a:ext cx="0" cy="804600"/>
                </a:xfrm>
                <a:prstGeom prst="line">
                  <a:avLst/>
                </a:prstGeom>
                <a:ln w="12600">
                  <a:solidFill>
                    <a:srgbClr val="99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 flipV="1">
                  <a:off x="3981600" y="5703480"/>
                  <a:ext cx="0" cy="809640"/>
                </a:xfrm>
                <a:prstGeom prst="line">
                  <a:avLst/>
                </a:prstGeom>
                <a:ln w="12600">
                  <a:solidFill>
                    <a:srgbClr val="99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2840040" y="5703840"/>
                  <a:ext cx="1143000" cy="0"/>
                </a:xfrm>
                <a:prstGeom prst="line">
                  <a:avLst/>
                </a:prstGeom>
                <a:ln w="12600">
                  <a:solidFill>
                    <a:srgbClr val="99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2276640" y="6508800"/>
                  <a:ext cx="568080" cy="0"/>
                </a:xfrm>
                <a:prstGeom prst="line">
                  <a:avLst/>
                </a:prstGeom>
                <a:ln w="12600">
                  <a:solidFill>
                    <a:srgbClr val="99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979800" y="6508800"/>
                  <a:ext cx="568440" cy="0"/>
                </a:xfrm>
                <a:prstGeom prst="line">
                  <a:avLst/>
                </a:prstGeom>
                <a:ln w="12600">
                  <a:solidFill>
                    <a:srgbClr val="99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79" name=""/>
          <p:cNvGrpSpPr/>
          <p:nvPr/>
        </p:nvGrpSpPr>
        <p:grpSpPr>
          <a:xfrm>
            <a:off x="2098800" y="3260880"/>
            <a:ext cx="7071480" cy="1939680"/>
            <a:chOff x="2098800" y="3260880"/>
            <a:chExt cx="7071480" cy="1939680"/>
          </a:xfrm>
        </p:grpSpPr>
        <p:grpSp>
          <p:nvGrpSpPr>
            <p:cNvPr id="1380" name=""/>
            <p:cNvGrpSpPr/>
            <p:nvPr/>
          </p:nvGrpSpPr>
          <p:grpSpPr>
            <a:xfrm>
              <a:off x="2098800" y="3733920"/>
              <a:ext cx="2197080" cy="1466640"/>
              <a:chOff x="2098800" y="3733920"/>
              <a:chExt cx="2197080" cy="1466640"/>
            </a:xfrm>
          </p:grpSpPr>
          <p:sp>
            <p:nvSpPr>
              <p:cNvPr id="1381" name=""/>
              <p:cNvSpPr/>
              <p:nvPr/>
            </p:nvSpPr>
            <p:spPr>
              <a:xfrm>
                <a:off x="3149640" y="4292640"/>
                <a:ext cx="833400" cy="5475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3409560" y="440532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3989520" y="4572000"/>
                <a:ext cx="306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098800" y="4678200"/>
                <a:ext cx="1044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2098800" y="4440240"/>
                <a:ext cx="1044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flipH="1">
                <a:off x="2098800" y="4680000"/>
                <a:ext cx="1440" cy="520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2098800" y="3733920"/>
                <a:ext cx="1440" cy="707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88" name=""/>
            <p:cNvGrpSpPr/>
            <p:nvPr/>
          </p:nvGrpSpPr>
          <p:grpSpPr>
            <a:xfrm>
              <a:off x="4264200" y="3260880"/>
              <a:ext cx="4906080" cy="1933920"/>
              <a:chOff x="4264200" y="3260880"/>
              <a:chExt cx="4906080" cy="1933920"/>
            </a:xfrm>
          </p:grpSpPr>
          <p:sp>
            <p:nvSpPr>
              <p:cNvPr id="1389" name=""/>
              <p:cNvSpPr/>
              <p:nvPr/>
            </p:nvSpPr>
            <p:spPr>
              <a:xfrm>
                <a:off x="4264200" y="4799160"/>
                <a:ext cx="4878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8809920" y="4797360"/>
                <a:ext cx="360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684920" y="4803840"/>
                <a:ext cx="4413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</a:t>
                </a:r>
                <a:r>
                  <a:rPr b="0" i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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724720" y="3260880"/>
                <a:ext cx="896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000" spc="-1" strike="noStrike">
                    <a:solidFill>
                      <a:srgbClr val="ffffff"/>
                    </a:solidFill>
                    <a:latin typeface="Times New Roman"/>
                  </a:rPr>
                  <a:t>|</a:t>
                </a:r>
                <a:r>
                  <a:rPr b="0" i="1" lang="hr-HR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hr-HR" sz="2000" spc="-1" strike="noStrike">
                    <a:solidFill>
                      <a:srgbClr val="ffffff"/>
                    </a:solidFill>
                    <a:latin typeface="Times New Roman"/>
                  </a:rPr>
                  <a:t>(</a:t>
                </a:r>
                <a:r>
                  <a:rPr b="0" i="1" lang="hr-HR" sz="20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r>
                  <a:rPr b="0" i="1" lang="hr-HR" sz="2000" spc="-1" strike="noStrike" baseline="30000">
                    <a:solidFill>
                      <a:srgbClr val="ffffff"/>
                    </a:solidFill>
                    <a:latin typeface="Times New Roman"/>
                  </a:rPr>
                  <a:t>j</a:t>
                </a:r>
                <a:r>
                  <a:rPr b="0" i="1" lang="hr-HR" sz="2000" spc="-1" strike="noStrike" baseline="30000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hr-HR" sz="2000" spc="-1" strike="noStrike">
                    <a:solidFill>
                      <a:srgbClr val="ffffff"/>
                    </a:solidFill>
                    <a:latin typeface="Times New Roman"/>
                  </a:rPr>
                  <a:t>)|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904160" y="4748040"/>
                <a:ext cx="0" cy="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5635800" y="3654360"/>
                <a:ext cx="0" cy="1316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95" name=""/>
              <p:cNvGrpSpPr/>
              <p:nvPr/>
            </p:nvGrpSpPr>
            <p:grpSpPr>
              <a:xfrm>
                <a:off x="4497480" y="3911760"/>
                <a:ext cx="4546440" cy="888480"/>
                <a:chOff x="4497480" y="3911760"/>
                <a:chExt cx="4546440" cy="888480"/>
              </a:xfrm>
            </p:grpSpPr>
            <p:grpSp>
              <p:nvGrpSpPr>
                <p:cNvPr id="1396" name=""/>
                <p:cNvGrpSpPr/>
                <p:nvPr/>
              </p:nvGrpSpPr>
              <p:grpSpPr>
                <a:xfrm>
                  <a:off x="4497480" y="3911760"/>
                  <a:ext cx="2273040" cy="888480"/>
                  <a:chOff x="4497480" y="3911760"/>
                  <a:chExt cx="2273040" cy="888480"/>
                </a:xfrm>
              </p:grpSpPr>
              <p:sp>
                <p:nvSpPr>
                  <p:cNvPr id="1397" name=""/>
                  <p:cNvSpPr/>
                  <p:nvPr/>
                </p:nvSpPr>
                <p:spPr>
                  <a:xfrm>
                    <a:off x="4502160" y="3911760"/>
                    <a:ext cx="2266920" cy="87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28" h="553">
                        <a:moveTo>
                          <a:pt x="0" y="514"/>
                        </a:moveTo>
                        <a:lnTo>
                          <a:pt x="3" y="514"/>
                        </a:lnTo>
                        <a:lnTo>
                          <a:pt x="6" y="514"/>
                        </a:lnTo>
                        <a:lnTo>
                          <a:pt x="9" y="514"/>
                        </a:lnTo>
                        <a:lnTo>
                          <a:pt x="13" y="514"/>
                        </a:lnTo>
                        <a:lnTo>
                          <a:pt x="16" y="514"/>
                        </a:lnTo>
                        <a:lnTo>
                          <a:pt x="16" y="516"/>
                        </a:lnTo>
                        <a:lnTo>
                          <a:pt x="19" y="516"/>
                        </a:lnTo>
                        <a:lnTo>
                          <a:pt x="23" y="516"/>
                        </a:lnTo>
                        <a:lnTo>
                          <a:pt x="26" y="518"/>
                        </a:lnTo>
                        <a:lnTo>
                          <a:pt x="29" y="518"/>
                        </a:lnTo>
                        <a:lnTo>
                          <a:pt x="29" y="520"/>
                        </a:lnTo>
                        <a:lnTo>
                          <a:pt x="33" y="520"/>
                        </a:lnTo>
                        <a:lnTo>
                          <a:pt x="36" y="521"/>
                        </a:lnTo>
                        <a:lnTo>
                          <a:pt x="39" y="523"/>
                        </a:lnTo>
                        <a:lnTo>
                          <a:pt x="42" y="523"/>
                        </a:lnTo>
                        <a:lnTo>
                          <a:pt x="42" y="525"/>
                        </a:lnTo>
                        <a:lnTo>
                          <a:pt x="46" y="525"/>
                        </a:lnTo>
                        <a:lnTo>
                          <a:pt x="46" y="527"/>
                        </a:lnTo>
                        <a:lnTo>
                          <a:pt x="49" y="527"/>
                        </a:lnTo>
                        <a:lnTo>
                          <a:pt x="49" y="529"/>
                        </a:lnTo>
                        <a:lnTo>
                          <a:pt x="52" y="529"/>
                        </a:lnTo>
                        <a:lnTo>
                          <a:pt x="52" y="530"/>
                        </a:lnTo>
                        <a:lnTo>
                          <a:pt x="56" y="532"/>
                        </a:lnTo>
                        <a:lnTo>
                          <a:pt x="59" y="534"/>
                        </a:lnTo>
                        <a:lnTo>
                          <a:pt x="62" y="536"/>
                        </a:lnTo>
                        <a:lnTo>
                          <a:pt x="62" y="537"/>
                        </a:lnTo>
                        <a:lnTo>
                          <a:pt x="66" y="537"/>
                        </a:lnTo>
                        <a:lnTo>
                          <a:pt x="66" y="539"/>
                        </a:lnTo>
                        <a:lnTo>
                          <a:pt x="69" y="539"/>
                        </a:lnTo>
                        <a:lnTo>
                          <a:pt x="69" y="541"/>
                        </a:lnTo>
                        <a:lnTo>
                          <a:pt x="72" y="541"/>
                        </a:lnTo>
                        <a:lnTo>
                          <a:pt x="72" y="543"/>
                        </a:lnTo>
                        <a:lnTo>
                          <a:pt x="72" y="544"/>
                        </a:lnTo>
                        <a:lnTo>
                          <a:pt x="75" y="544"/>
                        </a:lnTo>
                        <a:lnTo>
                          <a:pt x="75" y="546"/>
                        </a:lnTo>
                        <a:lnTo>
                          <a:pt x="79" y="546"/>
                        </a:lnTo>
                        <a:lnTo>
                          <a:pt x="79" y="548"/>
                        </a:lnTo>
                        <a:lnTo>
                          <a:pt x="82" y="548"/>
                        </a:lnTo>
                        <a:lnTo>
                          <a:pt x="82" y="550"/>
                        </a:lnTo>
                        <a:lnTo>
                          <a:pt x="82" y="552"/>
                        </a:lnTo>
                        <a:lnTo>
                          <a:pt x="85" y="552"/>
                        </a:lnTo>
                        <a:lnTo>
                          <a:pt x="85" y="550"/>
                        </a:lnTo>
                        <a:lnTo>
                          <a:pt x="89" y="550"/>
                        </a:lnTo>
                        <a:lnTo>
                          <a:pt x="89" y="548"/>
                        </a:lnTo>
                        <a:lnTo>
                          <a:pt x="89" y="546"/>
                        </a:lnTo>
                        <a:lnTo>
                          <a:pt x="92" y="546"/>
                        </a:lnTo>
                        <a:lnTo>
                          <a:pt x="92" y="544"/>
                        </a:lnTo>
                        <a:lnTo>
                          <a:pt x="95" y="544"/>
                        </a:lnTo>
                        <a:lnTo>
                          <a:pt x="95" y="543"/>
                        </a:lnTo>
                        <a:lnTo>
                          <a:pt x="99" y="541"/>
                        </a:lnTo>
                        <a:lnTo>
                          <a:pt x="99" y="539"/>
                        </a:lnTo>
                        <a:lnTo>
                          <a:pt x="102" y="539"/>
                        </a:lnTo>
                        <a:lnTo>
                          <a:pt x="102" y="537"/>
                        </a:lnTo>
                        <a:lnTo>
                          <a:pt x="105" y="536"/>
                        </a:lnTo>
                        <a:lnTo>
                          <a:pt x="108" y="534"/>
                        </a:lnTo>
                        <a:lnTo>
                          <a:pt x="108" y="532"/>
                        </a:lnTo>
                        <a:lnTo>
                          <a:pt x="112" y="530"/>
                        </a:lnTo>
                        <a:lnTo>
                          <a:pt x="115" y="529"/>
                        </a:lnTo>
                        <a:lnTo>
                          <a:pt x="118" y="527"/>
                        </a:lnTo>
                        <a:lnTo>
                          <a:pt x="118" y="525"/>
                        </a:lnTo>
                        <a:lnTo>
                          <a:pt x="122" y="523"/>
                        </a:lnTo>
                        <a:lnTo>
                          <a:pt x="125" y="521"/>
                        </a:lnTo>
                        <a:lnTo>
                          <a:pt x="125" y="520"/>
                        </a:lnTo>
                        <a:lnTo>
                          <a:pt x="128" y="520"/>
                        </a:lnTo>
                        <a:lnTo>
                          <a:pt x="128" y="518"/>
                        </a:lnTo>
                        <a:lnTo>
                          <a:pt x="132" y="518"/>
                        </a:lnTo>
                        <a:lnTo>
                          <a:pt x="132" y="516"/>
                        </a:lnTo>
                        <a:lnTo>
                          <a:pt x="135" y="516"/>
                        </a:lnTo>
                        <a:lnTo>
                          <a:pt x="135" y="514"/>
                        </a:lnTo>
                        <a:lnTo>
                          <a:pt x="138" y="514"/>
                        </a:lnTo>
                        <a:lnTo>
                          <a:pt x="138" y="513"/>
                        </a:lnTo>
                        <a:lnTo>
                          <a:pt x="141" y="513"/>
                        </a:lnTo>
                        <a:lnTo>
                          <a:pt x="141" y="511"/>
                        </a:lnTo>
                        <a:lnTo>
                          <a:pt x="145" y="511"/>
                        </a:lnTo>
                        <a:lnTo>
                          <a:pt x="145" y="509"/>
                        </a:lnTo>
                        <a:lnTo>
                          <a:pt x="148" y="509"/>
                        </a:lnTo>
                        <a:lnTo>
                          <a:pt x="148" y="507"/>
                        </a:lnTo>
                        <a:lnTo>
                          <a:pt x="151" y="507"/>
                        </a:lnTo>
                        <a:lnTo>
                          <a:pt x="155" y="506"/>
                        </a:lnTo>
                        <a:lnTo>
                          <a:pt x="158" y="506"/>
                        </a:lnTo>
                        <a:lnTo>
                          <a:pt x="158" y="504"/>
                        </a:lnTo>
                        <a:lnTo>
                          <a:pt x="161" y="504"/>
                        </a:lnTo>
                        <a:lnTo>
                          <a:pt x="165" y="502"/>
                        </a:lnTo>
                        <a:lnTo>
                          <a:pt x="168" y="502"/>
                        </a:lnTo>
                        <a:lnTo>
                          <a:pt x="171" y="502"/>
                        </a:lnTo>
                        <a:lnTo>
                          <a:pt x="174" y="502"/>
                        </a:lnTo>
                        <a:lnTo>
                          <a:pt x="178" y="502"/>
                        </a:lnTo>
                        <a:lnTo>
                          <a:pt x="181" y="502"/>
                        </a:lnTo>
                        <a:lnTo>
                          <a:pt x="184" y="502"/>
                        </a:lnTo>
                        <a:lnTo>
                          <a:pt x="188" y="502"/>
                        </a:lnTo>
                        <a:lnTo>
                          <a:pt x="191" y="502"/>
                        </a:lnTo>
                        <a:lnTo>
                          <a:pt x="191" y="504"/>
                        </a:lnTo>
                        <a:lnTo>
                          <a:pt x="194" y="504"/>
                        </a:lnTo>
                        <a:lnTo>
                          <a:pt x="198" y="504"/>
                        </a:lnTo>
                        <a:lnTo>
                          <a:pt x="198" y="506"/>
                        </a:lnTo>
                        <a:lnTo>
                          <a:pt x="201" y="506"/>
                        </a:lnTo>
                        <a:lnTo>
                          <a:pt x="204" y="507"/>
                        </a:lnTo>
                        <a:lnTo>
                          <a:pt x="207" y="509"/>
                        </a:lnTo>
                        <a:lnTo>
                          <a:pt x="207" y="511"/>
                        </a:lnTo>
                        <a:lnTo>
                          <a:pt x="211" y="511"/>
                        </a:lnTo>
                        <a:lnTo>
                          <a:pt x="211" y="513"/>
                        </a:lnTo>
                        <a:lnTo>
                          <a:pt x="214" y="513"/>
                        </a:lnTo>
                        <a:lnTo>
                          <a:pt x="214" y="514"/>
                        </a:lnTo>
                        <a:lnTo>
                          <a:pt x="217" y="514"/>
                        </a:lnTo>
                        <a:lnTo>
                          <a:pt x="217" y="516"/>
                        </a:lnTo>
                        <a:lnTo>
                          <a:pt x="221" y="518"/>
                        </a:lnTo>
                        <a:lnTo>
                          <a:pt x="221" y="520"/>
                        </a:lnTo>
                        <a:lnTo>
                          <a:pt x="224" y="520"/>
                        </a:lnTo>
                        <a:lnTo>
                          <a:pt x="224" y="521"/>
                        </a:lnTo>
                        <a:lnTo>
                          <a:pt x="227" y="523"/>
                        </a:lnTo>
                        <a:lnTo>
                          <a:pt x="227" y="525"/>
                        </a:lnTo>
                        <a:lnTo>
                          <a:pt x="230" y="527"/>
                        </a:lnTo>
                        <a:lnTo>
                          <a:pt x="230" y="529"/>
                        </a:lnTo>
                        <a:lnTo>
                          <a:pt x="233" y="530"/>
                        </a:lnTo>
                        <a:lnTo>
                          <a:pt x="233" y="532"/>
                        </a:lnTo>
                        <a:lnTo>
                          <a:pt x="233" y="534"/>
                        </a:lnTo>
                        <a:lnTo>
                          <a:pt x="237" y="536"/>
                        </a:lnTo>
                        <a:lnTo>
                          <a:pt x="237" y="537"/>
                        </a:lnTo>
                        <a:lnTo>
                          <a:pt x="240" y="539"/>
                        </a:lnTo>
                        <a:lnTo>
                          <a:pt x="240" y="541"/>
                        </a:lnTo>
                        <a:lnTo>
                          <a:pt x="243" y="543"/>
                        </a:lnTo>
                        <a:lnTo>
                          <a:pt x="243" y="544"/>
                        </a:lnTo>
                        <a:lnTo>
                          <a:pt x="243" y="546"/>
                        </a:lnTo>
                        <a:lnTo>
                          <a:pt x="247" y="548"/>
                        </a:lnTo>
                        <a:lnTo>
                          <a:pt x="247" y="550"/>
                        </a:lnTo>
                        <a:lnTo>
                          <a:pt x="250" y="552"/>
                        </a:lnTo>
                        <a:lnTo>
                          <a:pt x="250" y="550"/>
                        </a:lnTo>
                        <a:lnTo>
                          <a:pt x="253" y="546"/>
                        </a:lnTo>
                        <a:lnTo>
                          <a:pt x="253" y="544"/>
                        </a:lnTo>
                        <a:lnTo>
                          <a:pt x="253" y="543"/>
                        </a:lnTo>
                        <a:lnTo>
                          <a:pt x="256" y="541"/>
                        </a:lnTo>
                        <a:lnTo>
                          <a:pt x="256" y="537"/>
                        </a:lnTo>
                        <a:lnTo>
                          <a:pt x="260" y="536"/>
                        </a:lnTo>
                        <a:lnTo>
                          <a:pt x="260" y="534"/>
                        </a:lnTo>
                        <a:lnTo>
                          <a:pt x="260" y="530"/>
                        </a:lnTo>
                        <a:lnTo>
                          <a:pt x="263" y="529"/>
                        </a:lnTo>
                        <a:lnTo>
                          <a:pt x="263" y="527"/>
                        </a:lnTo>
                        <a:lnTo>
                          <a:pt x="266" y="523"/>
                        </a:lnTo>
                        <a:lnTo>
                          <a:pt x="266" y="521"/>
                        </a:lnTo>
                        <a:lnTo>
                          <a:pt x="270" y="518"/>
                        </a:lnTo>
                        <a:lnTo>
                          <a:pt x="270" y="516"/>
                        </a:lnTo>
                        <a:lnTo>
                          <a:pt x="270" y="513"/>
                        </a:lnTo>
                        <a:lnTo>
                          <a:pt x="273" y="511"/>
                        </a:lnTo>
                        <a:lnTo>
                          <a:pt x="273" y="507"/>
                        </a:lnTo>
                        <a:lnTo>
                          <a:pt x="276" y="506"/>
                        </a:lnTo>
                        <a:lnTo>
                          <a:pt x="276" y="502"/>
                        </a:lnTo>
                        <a:lnTo>
                          <a:pt x="280" y="500"/>
                        </a:lnTo>
                        <a:lnTo>
                          <a:pt x="280" y="497"/>
                        </a:lnTo>
                        <a:lnTo>
                          <a:pt x="280" y="493"/>
                        </a:lnTo>
                        <a:lnTo>
                          <a:pt x="283" y="491"/>
                        </a:lnTo>
                        <a:lnTo>
                          <a:pt x="283" y="488"/>
                        </a:lnTo>
                        <a:lnTo>
                          <a:pt x="286" y="484"/>
                        </a:lnTo>
                        <a:lnTo>
                          <a:pt x="286" y="483"/>
                        </a:lnTo>
                        <a:lnTo>
                          <a:pt x="289" y="479"/>
                        </a:lnTo>
                        <a:lnTo>
                          <a:pt x="289" y="476"/>
                        </a:lnTo>
                        <a:lnTo>
                          <a:pt x="289" y="472"/>
                        </a:lnTo>
                        <a:lnTo>
                          <a:pt x="293" y="468"/>
                        </a:lnTo>
                        <a:lnTo>
                          <a:pt x="293" y="467"/>
                        </a:lnTo>
                        <a:lnTo>
                          <a:pt x="296" y="463"/>
                        </a:lnTo>
                        <a:lnTo>
                          <a:pt x="296" y="460"/>
                        </a:lnTo>
                        <a:lnTo>
                          <a:pt x="296" y="456"/>
                        </a:lnTo>
                        <a:lnTo>
                          <a:pt x="299" y="453"/>
                        </a:lnTo>
                        <a:lnTo>
                          <a:pt x="299" y="449"/>
                        </a:lnTo>
                        <a:lnTo>
                          <a:pt x="303" y="446"/>
                        </a:lnTo>
                        <a:lnTo>
                          <a:pt x="303" y="444"/>
                        </a:lnTo>
                        <a:lnTo>
                          <a:pt x="306" y="440"/>
                        </a:lnTo>
                        <a:lnTo>
                          <a:pt x="306" y="437"/>
                        </a:lnTo>
                        <a:lnTo>
                          <a:pt x="306" y="433"/>
                        </a:lnTo>
                        <a:lnTo>
                          <a:pt x="309" y="430"/>
                        </a:lnTo>
                        <a:lnTo>
                          <a:pt x="309" y="426"/>
                        </a:lnTo>
                        <a:lnTo>
                          <a:pt x="313" y="423"/>
                        </a:lnTo>
                        <a:lnTo>
                          <a:pt x="313" y="419"/>
                        </a:lnTo>
                        <a:lnTo>
                          <a:pt x="316" y="416"/>
                        </a:lnTo>
                        <a:lnTo>
                          <a:pt x="316" y="412"/>
                        </a:lnTo>
                        <a:lnTo>
                          <a:pt x="316" y="409"/>
                        </a:lnTo>
                        <a:lnTo>
                          <a:pt x="319" y="405"/>
                        </a:lnTo>
                        <a:lnTo>
                          <a:pt x="319" y="400"/>
                        </a:lnTo>
                        <a:lnTo>
                          <a:pt x="322" y="396"/>
                        </a:lnTo>
                        <a:lnTo>
                          <a:pt x="322" y="393"/>
                        </a:lnTo>
                        <a:lnTo>
                          <a:pt x="326" y="389"/>
                        </a:lnTo>
                        <a:lnTo>
                          <a:pt x="326" y="386"/>
                        </a:lnTo>
                        <a:lnTo>
                          <a:pt x="326" y="382"/>
                        </a:lnTo>
                        <a:lnTo>
                          <a:pt x="329" y="379"/>
                        </a:lnTo>
                        <a:lnTo>
                          <a:pt x="329" y="375"/>
                        </a:lnTo>
                        <a:lnTo>
                          <a:pt x="332" y="370"/>
                        </a:lnTo>
                        <a:lnTo>
                          <a:pt x="332" y="366"/>
                        </a:lnTo>
                        <a:lnTo>
                          <a:pt x="332" y="363"/>
                        </a:lnTo>
                        <a:lnTo>
                          <a:pt x="336" y="359"/>
                        </a:lnTo>
                        <a:lnTo>
                          <a:pt x="336" y="356"/>
                        </a:lnTo>
                        <a:lnTo>
                          <a:pt x="339" y="352"/>
                        </a:lnTo>
                        <a:lnTo>
                          <a:pt x="339" y="347"/>
                        </a:lnTo>
                        <a:lnTo>
                          <a:pt x="342" y="343"/>
                        </a:lnTo>
                        <a:lnTo>
                          <a:pt x="342" y="340"/>
                        </a:lnTo>
                        <a:lnTo>
                          <a:pt x="342" y="336"/>
                        </a:lnTo>
                        <a:lnTo>
                          <a:pt x="346" y="333"/>
                        </a:lnTo>
                        <a:lnTo>
                          <a:pt x="346" y="328"/>
                        </a:lnTo>
                        <a:lnTo>
                          <a:pt x="349" y="324"/>
                        </a:lnTo>
                        <a:lnTo>
                          <a:pt x="349" y="321"/>
                        </a:lnTo>
                        <a:lnTo>
                          <a:pt x="352" y="317"/>
                        </a:lnTo>
                        <a:lnTo>
                          <a:pt x="352" y="313"/>
                        </a:lnTo>
                        <a:lnTo>
                          <a:pt x="352" y="308"/>
                        </a:lnTo>
                        <a:lnTo>
                          <a:pt x="355" y="305"/>
                        </a:lnTo>
                        <a:lnTo>
                          <a:pt x="355" y="301"/>
                        </a:lnTo>
                        <a:lnTo>
                          <a:pt x="359" y="298"/>
                        </a:lnTo>
                        <a:lnTo>
                          <a:pt x="359" y="292"/>
                        </a:lnTo>
                        <a:lnTo>
                          <a:pt x="362" y="289"/>
                        </a:lnTo>
                        <a:lnTo>
                          <a:pt x="362" y="285"/>
                        </a:lnTo>
                        <a:lnTo>
                          <a:pt x="362" y="282"/>
                        </a:lnTo>
                        <a:lnTo>
                          <a:pt x="365" y="278"/>
                        </a:lnTo>
                        <a:lnTo>
                          <a:pt x="365" y="273"/>
                        </a:lnTo>
                        <a:lnTo>
                          <a:pt x="369" y="269"/>
                        </a:lnTo>
                        <a:lnTo>
                          <a:pt x="369" y="266"/>
                        </a:lnTo>
                        <a:lnTo>
                          <a:pt x="369" y="262"/>
                        </a:lnTo>
                        <a:lnTo>
                          <a:pt x="372" y="259"/>
                        </a:lnTo>
                        <a:lnTo>
                          <a:pt x="372" y="253"/>
                        </a:lnTo>
                        <a:lnTo>
                          <a:pt x="375" y="250"/>
                        </a:lnTo>
                        <a:lnTo>
                          <a:pt x="375" y="246"/>
                        </a:lnTo>
                        <a:lnTo>
                          <a:pt x="379" y="243"/>
                        </a:lnTo>
                        <a:lnTo>
                          <a:pt x="379" y="239"/>
                        </a:lnTo>
                        <a:lnTo>
                          <a:pt x="379" y="236"/>
                        </a:lnTo>
                        <a:lnTo>
                          <a:pt x="382" y="230"/>
                        </a:lnTo>
                        <a:lnTo>
                          <a:pt x="382" y="227"/>
                        </a:lnTo>
                        <a:lnTo>
                          <a:pt x="385" y="223"/>
                        </a:lnTo>
                        <a:lnTo>
                          <a:pt x="385" y="220"/>
                        </a:lnTo>
                        <a:lnTo>
                          <a:pt x="388" y="216"/>
                        </a:lnTo>
                        <a:lnTo>
                          <a:pt x="388" y="213"/>
                        </a:lnTo>
                        <a:lnTo>
                          <a:pt x="388" y="209"/>
                        </a:lnTo>
                        <a:lnTo>
                          <a:pt x="392" y="204"/>
                        </a:lnTo>
                        <a:lnTo>
                          <a:pt x="392" y="201"/>
                        </a:lnTo>
                        <a:lnTo>
                          <a:pt x="395" y="197"/>
                        </a:lnTo>
                        <a:lnTo>
                          <a:pt x="395" y="194"/>
                        </a:lnTo>
                        <a:lnTo>
                          <a:pt x="398" y="190"/>
                        </a:lnTo>
                        <a:lnTo>
                          <a:pt x="398" y="187"/>
                        </a:lnTo>
                        <a:lnTo>
                          <a:pt x="398" y="183"/>
                        </a:lnTo>
                        <a:lnTo>
                          <a:pt x="402" y="179"/>
                        </a:lnTo>
                        <a:lnTo>
                          <a:pt x="402" y="176"/>
                        </a:lnTo>
                        <a:lnTo>
                          <a:pt x="405" y="172"/>
                        </a:lnTo>
                        <a:lnTo>
                          <a:pt x="405" y="169"/>
                        </a:lnTo>
                        <a:lnTo>
                          <a:pt x="405" y="165"/>
                        </a:lnTo>
                        <a:lnTo>
                          <a:pt x="408" y="162"/>
                        </a:lnTo>
                        <a:lnTo>
                          <a:pt x="408" y="158"/>
                        </a:lnTo>
                        <a:lnTo>
                          <a:pt x="412" y="155"/>
                        </a:lnTo>
                        <a:lnTo>
                          <a:pt x="412" y="151"/>
                        </a:lnTo>
                        <a:lnTo>
                          <a:pt x="415" y="149"/>
                        </a:lnTo>
                        <a:lnTo>
                          <a:pt x="415" y="146"/>
                        </a:lnTo>
                        <a:lnTo>
                          <a:pt x="415" y="142"/>
                        </a:lnTo>
                        <a:lnTo>
                          <a:pt x="418" y="139"/>
                        </a:lnTo>
                        <a:lnTo>
                          <a:pt x="418" y="135"/>
                        </a:lnTo>
                        <a:lnTo>
                          <a:pt x="421" y="132"/>
                        </a:lnTo>
                        <a:lnTo>
                          <a:pt x="421" y="130"/>
                        </a:lnTo>
                        <a:lnTo>
                          <a:pt x="425" y="126"/>
                        </a:lnTo>
                        <a:lnTo>
                          <a:pt x="425" y="123"/>
                        </a:lnTo>
                        <a:lnTo>
                          <a:pt x="425" y="119"/>
                        </a:lnTo>
                        <a:lnTo>
                          <a:pt x="428" y="118"/>
                        </a:lnTo>
                        <a:lnTo>
                          <a:pt x="428" y="114"/>
                        </a:lnTo>
                        <a:lnTo>
                          <a:pt x="431" y="111"/>
                        </a:lnTo>
                        <a:lnTo>
                          <a:pt x="431" y="109"/>
                        </a:lnTo>
                        <a:lnTo>
                          <a:pt x="435" y="105"/>
                        </a:lnTo>
                        <a:lnTo>
                          <a:pt x="435" y="102"/>
                        </a:lnTo>
                        <a:lnTo>
                          <a:pt x="435" y="100"/>
                        </a:lnTo>
                        <a:lnTo>
                          <a:pt x="438" y="96"/>
                        </a:lnTo>
                        <a:lnTo>
                          <a:pt x="438" y="93"/>
                        </a:lnTo>
                        <a:lnTo>
                          <a:pt x="441" y="91"/>
                        </a:lnTo>
                        <a:lnTo>
                          <a:pt x="441" y="88"/>
                        </a:lnTo>
                        <a:lnTo>
                          <a:pt x="441" y="86"/>
                        </a:lnTo>
                        <a:lnTo>
                          <a:pt x="445" y="82"/>
                        </a:lnTo>
                        <a:lnTo>
                          <a:pt x="445" y="81"/>
                        </a:lnTo>
                        <a:lnTo>
                          <a:pt x="448" y="79"/>
                        </a:lnTo>
                        <a:lnTo>
                          <a:pt x="448" y="75"/>
                        </a:lnTo>
                        <a:lnTo>
                          <a:pt x="451" y="74"/>
                        </a:lnTo>
                        <a:lnTo>
                          <a:pt x="451" y="70"/>
                        </a:lnTo>
                        <a:lnTo>
                          <a:pt x="451" y="68"/>
                        </a:lnTo>
                        <a:lnTo>
                          <a:pt x="454" y="67"/>
                        </a:lnTo>
                        <a:lnTo>
                          <a:pt x="454" y="63"/>
                        </a:lnTo>
                        <a:lnTo>
                          <a:pt x="458" y="61"/>
                        </a:lnTo>
                        <a:lnTo>
                          <a:pt x="458" y="60"/>
                        </a:lnTo>
                        <a:lnTo>
                          <a:pt x="461" y="58"/>
                        </a:lnTo>
                        <a:lnTo>
                          <a:pt x="461" y="54"/>
                        </a:lnTo>
                        <a:lnTo>
                          <a:pt x="461" y="53"/>
                        </a:lnTo>
                        <a:lnTo>
                          <a:pt x="464" y="51"/>
                        </a:lnTo>
                        <a:lnTo>
                          <a:pt x="464" y="49"/>
                        </a:lnTo>
                        <a:lnTo>
                          <a:pt x="468" y="47"/>
                        </a:lnTo>
                        <a:lnTo>
                          <a:pt x="468" y="45"/>
                        </a:lnTo>
                        <a:lnTo>
                          <a:pt x="471" y="44"/>
                        </a:lnTo>
                        <a:lnTo>
                          <a:pt x="471" y="40"/>
                        </a:lnTo>
                        <a:lnTo>
                          <a:pt x="471" y="38"/>
                        </a:lnTo>
                        <a:lnTo>
                          <a:pt x="474" y="37"/>
                        </a:lnTo>
                        <a:lnTo>
                          <a:pt x="474" y="35"/>
                        </a:lnTo>
                        <a:lnTo>
                          <a:pt x="478" y="35"/>
                        </a:lnTo>
                        <a:lnTo>
                          <a:pt x="478" y="33"/>
                        </a:lnTo>
                        <a:lnTo>
                          <a:pt x="478" y="31"/>
                        </a:lnTo>
                        <a:lnTo>
                          <a:pt x="481" y="30"/>
                        </a:lnTo>
                        <a:lnTo>
                          <a:pt x="481" y="28"/>
                        </a:lnTo>
                        <a:lnTo>
                          <a:pt x="484" y="26"/>
                        </a:lnTo>
                        <a:lnTo>
                          <a:pt x="484" y="24"/>
                        </a:lnTo>
                        <a:lnTo>
                          <a:pt x="487" y="22"/>
                        </a:lnTo>
                        <a:lnTo>
                          <a:pt x="487" y="21"/>
                        </a:lnTo>
                        <a:lnTo>
                          <a:pt x="491" y="19"/>
                        </a:lnTo>
                        <a:lnTo>
                          <a:pt x="494" y="17"/>
                        </a:lnTo>
                        <a:lnTo>
                          <a:pt x="494" y="15"/>
                        </a:lnTo>
                        <a:lnTo>
                          <a:pt x="497" y="15"/>
                        </a:lnTo>
                        <a:lnTo>
                          <a:pt x="497" y="14"/>
                        </a:lnTo>
                        <a:lnTo>
                          <a:pt x="497" y="12"/>
                        </a:lnTo>
                        <a:lnTo>
                          <a:pt x="501" y="12"/>
                        </a:lnTo>
                        <a:lnTo>
                          <a:pt x="501" y="10"/>
                        </a:lnTo>
                        <a:lnTo>
                          <a:pt x="504" y="10"/>
                        </a:lnTo>
                        <a:lnTo>
                          <a:pt x="504" y="8"/>
                        </a:lnTo>
                        <a:lnTo>
                          <a:pt x="507" y="7"/>
                        </a:lnTo>
                        <a:lnTo>
                          <a:pt x="511" y="7"/>
                        </a:lnTo>
                        <a:lnTo>
                          <a:pt x="511" y="5"/>
                        </a:lnTo>
                        <a:lnTo>
                          <a:pt x="514" y="5"/>
                        </a:lnTo>
                        <a:lnTo>
                          <a:pt x="514" y="3"/>
                        </a:lnTo>
                        <a:lnTo>
                          <a:pt x="517" y="3"/>
                        </a:lnTo>
                        <a:lnTo>
                          <a:pt x="520" y="3"/>
                        </a:lnTo>
                        <a:lnTo>
                          <a:pt x="520" y="1"/>
                        </a:lnTo>
                        <a:lnTo>
                          <a:pt x="524" y="1"/>
                        </a:lnTo>
                        <a:lnTo>
                          <a:pt x="527" y="1"/>
                        </a:lnTo>
                        <a:lnTo>
                          <a:pt x="530" y="1"/>
                        </a:lnTo>
                        <a:lnTo>
                          <a:pt x="530" y="0"/>
                        </a:lnTo>
                        <a:lnTo>
                          <a:pt x="533" y="0"/>
                        </a:lnTo>
                        <a:lnTo>
                          <a:pt x="536" y="0"/>
                        </a:lnTo>
                        <a:lnTo>
                          <a:pt x="540" y="0"/>
                        </a:lnTo>
                        <a:lnTo>
                          <a:pt x="540" y="1"/>
                        </a:lnTo>
                        <a:lnTo>
                          <a:pt x="543" y="1"/>
                        </a:lnTo>
                        <a:lnTo>
                          <a:pt x="546" y="1"/>
                        </a:lnTo>
                        <a:lnTo>
                          <a:pt x="550" y="1"/>
                        </a:lnTo>
                        <a:lnTo>
                          <a:pt x="550" y="3"/>
                        </a:lnTo>
                        <a:lnTo>
                          <a:pt x="553" y="3"/>
                        </a:lnTo>
                        <a:lnTo>
                          <a:pt x="556" y="3"/>
                        </a:lnTo>
                        <a:lnTo>
                          <a:pt x="556" y="5"/>
                        </a:lnTo>
                        <a:lnTo>
                          <a:pt x="560" y="5"/>
                        </a:lnTo>
                        <a:lnTo>
                          <a:pt x="560" y="7"/>
                        </a:lnTo>
                        <a:lnTo>
                          <a:pt x="563" y="7"/>
                        </a:lnTo>
                        <a:lnTo>
                          <a:pt x="566" y="8"/>
                        </a:lnTo>
                        <a:lnTo>
                          <a:pt x="569" y="8"/>
                        </a:lnTo>
                        <a:lnTo>
                          <a:pt x="569" y="10"/>
                        </a:lnTo>
                        <a:lnTo>
                          <a:pt x="573" y="12"/>
                        </a:lnTo>
                        <a:lnTo>
                          <a:pt x="576" y="12"/>
                        </a:lnTo>
                        <a:lnTo>
                          <a:pt x="576" y="14"/>
                        </a:lnTo>
                        <a:lnTo>
                          <a:pt x="579" y="15"/>
                        </a:lnTo>
                        <a:lnTo>
                          <a:pt x="583" y="17"/>
                        </a:lnTo>
                        <a:lnTo>
                          <a:pt x="586" y="19"/>
                        </a:lnTo>
                        <a:lnTo>
                          <a:pt x="586" y="21"/>
                        </a:lnTo>
                        <a:lnTo>
                          <a:pt x="589" y="21"/>
                        </a:lnTo>
                        <a:lnTo>
                          <a:pt x="589" y="22"/>
                        </a:lnTo>
                        <a:lnTo>
                          <a:pt x="593" y="22"/>
                        </a:lnTo>
                        <a:lnTo>
                          <a:pt x="593" y="24"/>
                        </a:lnTo>
                        <a:lnTo>
                          <a:pt x="596" y="24"/>
                        </a:lnTo>
                        <a:lnTo>
                          <a:pt x="596" y="26"/>
                        </a:lnTo>
                        <a:lnTo>
                          <a:pt x="596" y="28"/>
                        </a:lnTo>
                        <a:lnTo>
                          <a:pt x="599" y="28"/>
                        </a:lnTo>
                        <a:lnTo>
                          <a:pt x="599" y="30"/>
                        </a:lnTo>
                        <a:lnTo>
                          <a:pt x="602" y="30"/>
                        </a:lnTo>
                        <a:lnTo>
                          <a:pt x="602" y="31"/>
                        </a:lnTo>
                        <a:lnTo>
                          <a:pt x="606" y="31"/>
                        </a:lnTo>
                        <a:lnTo>
                          <a:pt x="606" y="33"/>
                        </a:lnTo>
                        <a:lnTo>
                          <a:pt x="606" y="35"/>
                        </a:lnTo>
                        <a:lnTo>
                          <a:pt x="609" y="35"/>
                        </a:lnTo>
                        <a:lnTo>
                          <a:pt x="609" y="37"/>
                        </a:lnTo>
                        <a:lnTo>
                          <a:pt x="612" y="37"/>
                        </a:lnTo>
                        <a:lnTo>
                          <a:pt x="612" y="38"/>
                        </a:lnTo>
                        <a:lnTo>
                          <a:pt x="612" y="40"/>
                        </a:lnTo>
                        <a:lnTo>
                          <a:pt x="616" y="40"/>
                        </a:lnTo>
                        <a:lnTo>
                          <a:pt x="616" y="42"/>
                        </a:lnTo>
                        <a:lnTo>
                          <a:pt x="619" y="42"/>
                        </a:lnTo>
                        <a:lnTo>
                          <a:pt x="619" y="44"/>
                        </a:lnTo>
                        <a:lnTo>
                          <a:pt x="622" y="45"/>
                        </a:lnTo>
                        <a:lnTo>
                          <a:pt x="622" y="47"/>
                        </a:lnTo>
                        <a:lnTo>
                          <a:pt x="626" y="47"/>
                        </a:lnTo>
                        <a:lnTo>
                          <a:pt x="626" y="49"/>
                        </a:lnTo>
                        <a:lnTo>
                          <a:pt x="629" y="51"/>
                        </a:lnTo>
                        <a:lnTo>
                          <a:pt x="632" y="53"/>
                        </a:lnTo>
                        <a:lnTo>
                          <a:pt x="632" y="54"/>
                        </a:lnTo>
                        <a:lnTo>
                          <a:pt x="635" y="56"/>
                        </a:lnTo>
                        <a:lnTo>
                          <a:pt x="639" y="58"/>
                        </a:lnTo>
                        <a:lnTo>
                          <a:pt x="642" y="60"/>
                        </a:lnTo>
                        <a:lnTo>
                          <a:pt x="642" y="61"/>
                        </a:lnTo>
                        <a:lnTo>
                          <a:pt x="645" y="63"/>
                        </a:lnTo>
                        <a:lnTo>
                          <a:pt x="649" y="65"/>
                        </a:lnTo>
                        <a:lnTo>
                          <a:pt x="649" y="67"/>
                        </a:lnTo>
                        <a:lnTo>
                          <a:pt x="652" y="67"/>
                        </a:lnTo>
                        <a:lnTo>
                          <a:pt x="652" y="68"/>
                        </a:lnTo>
                        <a:lnTo>
                          <a:pt x="655" y="68"/>
                        </a:lnTo>
                        <a:lnTo>
                          <a:pt x="655" y="70"/>
                        </a:lnTo>
                        <a:lnTo>
                          <a:pt x="659" y="70"/>
                        </a:lnTo>
                        <a:lnTo>
                          <a:pt x="659" y="72"/>
                        </a:lnTo>
                        <a:lnTo>
                          <a:pt x="662" y="74"/>
                        </a:lnTo>
                        <a:lnTo>
                          <a:pt x="665" y="74"/>
                        </a:lnTo>
                        <a:lnTo>
                          <a:pt x="665" y="75"/>
                        </a:lnTo>
                        <a:lnTo>
                          <a:pt x="668" y="75"/>
                        </a:lnTo>
                        <a:lnTo>
                          <a:pt x="668" y="77"/>
                        </a:lnTo>
                        <a:lnTo>
                          <a:pt x="672" y="77"/>
                        </a:lnTo>
                        <a:lnTo>
                          <a:pt x="672" y="79"/>
                        </a:lnTo>
                        <a:lnTo>
                          <a:pt x="675" y="79"/>
                        </a:lnTo>
                        <a:lnTo>
                          <a:pt x="678" y="81"/>
                        </a:lnTo>
                        <a:lnTo>
                          <a:pt x="682" y="82"/>
                        </a:lnTo>
                        <a:lnTo>
                          <a:pt x="685" y="82"/>
                        </a:lnTo>
                        <a:lnTo>
                          <a:pt x="685" y="84"/>
                        </a:lnTo>
                        <a:lnTo>
                          <a:pt x="688" y="84"/>
                        </a:lnTo>
                        <a:lnTo>
                          <a:pt x="692" y="86"/>
                        </a:lnTo>
                        <a:lnTo>
                          <a:pt x="695" y="86"/>
                        </a:lnTo>
                        <a:lnTo>
                          <a:pt x="698" y="86"/>
                        </a:lnTo>
                        <a:lnTo>
                          <a:pt x="698" y="88"/>
                        </a:lnTo>
                        <a:lnTo>
                          <a:pt x="701" y="88"/>
                        </a:lnTo>
                        <a:lnTo>
                          <a:pt x="705" y="88"/>
                        </a:lnTo>
                        <a:lnTo>
                          <a:pt x="708" y="88"/>
                        </a:lnTo>
                        <a:lnTo>
                          <a:pt x="711" y="88"/>
                        </a:lnTo>
                        <a:lnTo>
                          <a:pt x="715" y="88"/>
                        </a:lnTo>
                        <a:lnTo>
                          <a:pt x="718" y="88"/>
                        </a:lnTo>
                        <a:lnTo>
                          <a:pt x="721" y="88"/>
                        </a:lnTo>
                        <a:lnTo>
                          <a:pt x="725" y="88"/>
                        </a:lnTo>
                        <a:lnTo>
                          <a:pt x="728" y="88"/>
                        </a:lnTo>
                        <a:lnTo>
                          <a:pt x="728" y="86"/>
                        </a:lnTo>
                        <a:lnTo>
                          <a:pt x="731" y="86"/>
                        </a:lnTo>
                        <a:lnTo>
                          <a:pt x="734" y="86"/>
                        </a:lnTo>
                        <a:lnTo>
                          <a:pt x="738" y="84"/>
                        </a:lnTo>
                        <a:lnTo>
                          <a:pt x="741" y="84"/>
                        </a:lnTo>
                        <a:lnTo>
                          <a:pt x="741" y="82"/>
                        </a:lnTo>
                        <a:lnTo>
                          <a:pt x="744" y="82"/>
                        </a:lnTo>
                        <a:lnTo>
                          <a:pt x="748" y="81"/>
                        </a:lnTo>
                        <a:lnTo>
                          <a:pt x="751" y="79"/>
                        </a:lnTo>
                        <a:lnTo>
                          <a:pt x="754" y="79"/>
                        </a:lnTo>
                        <a:lnTo>
                          <a:pt x="754" y="77"/>
                        </a:lnTo>
                        <a:lnTo>
                          <a:pt x="758" y="77"/>
                        </a:lnTo>
                        <a:lnTo>
                          <a:pt x="758" y="75"/>
                        </a:lnTo>
                        <a:lnTo>
                          <a:pt x="761" y="75"/>
                        </a:lnTo>
                        <a:lnTo>
                          <a:pt x="761" y="74"/>
                        </a:lnTo>
                        <a:lnTo>
                          <a:pt x="764" y="74"/>
                        </a:lnTo>
                        <a:lnTo>
                          <a:pt x="767" y="72"/>
                        </a:lnTo>
                        <a:lnTo>
                          <a:pt x="767" y="70"/>
                        </a:lnTo>
                        <a:lnTo>
                          <a:pt x="771" y="70"/>
                        </a:lnTo>
                        <a:lnTo>
                          <a:pt x="771" y="68"/>
                        </a:lnTo>
                        <a:lnTo>
                          <a:pt x="774" y="68"/>
                        </a:lnTo>
                        <a:lnTo>
                          <a:pt x="774" y="67"/>
                        </a:lnTo>
                        <a:lnTo>
                          <a:pt x="777" y="67"/>
                        </a:lnTo>
                        <a:lnTo>
                          <a:pt x="777" y="65"/>
                        </a:lnTo>
                        <a:lnTo>
                          <a:pt x="781" y="63"/>
                        </a:lnTo>
                        <a:lnTo>
                          <a:pt x="784" y="61"/>
                        </a:lnTo>
                        <a:lnTo>
                          <a:pt x="784" y="60"/>
                        </a:lnTo>
                        <a:lnTo>
                          <a:pt x="787" y="58"/>
                        </a:lnTo>
                        <a:lnTo>
                          <a:pt x="791" y="56"/>
                        </a:lnTo>
                        <a:lnTo>
                          <a:pt x="794" y="54"/>
                        </a:lnTo>
                        <a:lnTo>
                          <a:pt x="794" y="53"/>
                        </a:lnTo>
                        <a:lnTo>
                          <a:pt x="797" y="51"/>
                        </a:lnTo>
                        <a:lnTo>
                          <a:pt x="800" y="49"/>
                        </a:lnTo>
                        <a:lnTo>
                          <a:pt x="800" y="47"/>
                        </a:lnTo>
                        <a:lnTo>
                          <a:pt x="804" y="47"/>
                        </a:lnTo>
                        <a:lnTo>
                          <a:pt x="804" y="45"/>
                        </a:lnTo>
                        <a:lnTo>
                          <a:pt x="807" y="44"/>
                        </a:lnTo>
                        <a:lnTo>
                          <a:pt x="807" y="42"/>
                        </a:lnTo>
                        <a:lnTo>
                          <a:pt x="810" y="42"/>
                        </a:lnTo>
                        <a:lnTo>
                          <a:pt x="810" y="40"/>
                        </a:lnTo>
                        <a:lnTo>
                          <a:pt x="814" y="40"/>
                        </a:lnTo>
                        <a:lnTo>
                          <a:pt x="814" y="38"/>
                        </a:lnTo>
                        <a:lnTo>
                          <a:pt x="814" y="37"/>
                        </a:lnTo>
                        <a:lnTo>
                          <a:pt x="817" y="37"/>
                        </a:lnTo>
                        <a:lnTo>
                          <a:pt x="817" y="35"/>
                        </a:lnTo>
                        <a:lnTo>
                          <a:pt x="820" y="35"/>
                        </a:lnTo>
                        <a:lnTo>
                          <a:pt x="820" y="33"/>
                        </a:lnTo>
                        <a:lnTo>
                          <a:pt x="820" y="31"/>
                        </a:lnTo>
                        <a:lnTo>
                          <a:pt x="824" y="31"/>
                        </a:lnTo>
                        <a:lnTo>
                          <a:pt x="824" y="30"/>
                        </a:lnTo>
                        <a:lnTo>
                          <a:pt x="827" y="30"/>
                        </a:lnTo>
                        <a:lnTo>
                          <a:pt x="827" y="28"/>
                        </a:lnTo>
                        <a:lnTo>
                          <a:pt x="830" y="28"/>
                        </a:lnTo>
                        <a:lnTo>
                          <a:pt x="830" y="26"/>
                        </a:lnTo>
                        <a:lnTo>
                          <a:pt x="830" y="24"/>
                        </a:lnTo>
                        <a:lnTo>
                          <a:pt x="833" y="24"/>
                        </a:lnTo>
                        <a:lnTo>
                          <a:pt x="833" y="22"/>
                        </a:lnTo>
                        <a:lnTo>
                          <a:pt x="837" y="22"/>
                        </a:lnTo>
                        <a:lnTo>
                          <a:pt x="837" y="21"/>
                        </a:lnTo>
                        <a:lnTo>
                          <a:pt x="840" y="21"/>
                        </a:lnTo>
                        <a:lnTo>
                          <a:pt x="840" y="19"/>
                        </a:lnTo>
                        <a:lnTo>
                          <a:pt x="843" y="17"/>
                        </a:lnTo>
                        <a:lnTo>
                          <a:pt x="846" y="15"/>
                        </a:lnTo>
                        <a:lnTo>
                          <a:pt x="849" y="14"/>
                        </a:lnTo>
                        <a:lnTo>
                          <a:pt x="849" y="12"/>
                        </a:lnTo>
                        <a:lnTo>
                          <a:pt x="853" y="12"/>
                        </a:lnTo>
                        <a:lnTo>
                          <a:pt x="856" y="10"/>
                        </a:lnTo>
                        <a:lnTo>
                          <a:pt x="856" y="8"/>
                        </a:lnTo>
                        <a:lnTo>
                          <a:pt x="859" y="8"/>
                        </a:lnTo>
                        <a:lnTo>
                          <a:pt x="863" y="7"/>
                        </a:lnTo>
                        <a:lnTo>
                          <a:pt x="866" y="7"/>
                        </a:lnTo>
                        <a:lnTo>
                          <a:pt x="866" y="5"/>
                        </a:lnTo>
                        <a:lnTo>
                          <a:pt x="869" y="5"/>
                        </a:lnTo>
                        <a:lnTo>
                          <a:pt x="869" y="3"/>
                        </a:lnTo>
                        <a:lnTo>
                          <a:pt x="873" y="3"/>
                        </a:lnTo>
                        <a:lnTo>
                          <a:pt x="876" y="3"/>
                        </a:lnTo>
                        <a:lnTo>
                          <a:pt x="876" y="1"/>
                        </a:lnTo>
                        <a:lnTo>
                          <a:pt x="879" y="1"/>
                        </a:lnTo>
                        <a:lnTo>
                          <a:pt x="882" y="1"/>
                        </a:lnTo>
                        <a:lnTo>
                          <a:pt x="886" y="1"/>
                        </a:lnTo>
                        <a:lnTo>
                          <a:pt x="886" y="0"/>
                        </a:lnTo>
                        <a:lnTo>
                          <a:pt x="889" y="0"/>
                        </a:lnTo>
                        <a:lnTo>
                          <a:pt x="892" y="0"/>
                        </a:lnTo>
                        <a:lnTo>
                          <a:pt x="896" y="0"/>
                        </a:lnTo>
                        <a:lnTo>
                          <a:pt x="896" y="1"/>
                        </a:lnTo>
                        <a:lnTo>
                          <a:pt x="899" y="1"/>
                        </a:lnTo>
                        <a:lnTo>
                          <a:pt x="902" y="1"/>
                        </a:lnTo>
                        <a:lnTo>
                          <a:pt x="906" y="1"/>
                        </a:lnTo>
                        <a:lnTo>
                          <a:pt x="906" y="3"/>
                        </a:lnTo>
                        <a:lnTo>
                          <a:pt x="909" y="3"/>
                        </a:lnTo>
                        <a:lnTo>
                          <a:pt x="912" y="3"/>
                        </a:lnTo>
                        <a:lnTo>
                          <a:pt x="912" y="5"/>
                        </a:lnTo>
                        <a:lnTo>
                          <a:pt x="915" y="5"/>
                        </a:lnTo>
                        <a:lnTo>
                          <a:pt x="915" y="7"/>
                        </a:lnTo>
                        <a:lnTo>
                          <a:pt x="919" y="7"/>
                        </a:lnTo>
                        <a:lnTo>
                          <a:pt x="922" y="8"/>
                        </a:lnTo>
                        <a:lnTo>
                          <a:pt x="922" y="10"/>
                        </a:lnTo>
                        <a:lnTo>
                          <a:pt x="925" y="10"/>
                        </a:lnTo>
                        <a:lnTo>
                          <a:pt x="925" y="12"/>
                        </a:lnTo>
                        <a:lnTo>
                          <a:pt x="929" y="12"/>
                        </a:lnTo>
                        <a:lnTo>
                          <a:pt x="929" y="14"/>
                        </a:lnTo>
                        <a:lnTo>
                          <a:pt x="929" y="15"/>
                        </a:lnTo>
                        <a:lnTo>
                          <a:pt x="932" y="15"/>
                        </a:lnTo>
                        <a:lnTo>
                          <a:pt x="932" y="17"/>
                        </a:lnTo>
                        <a:lnTo>
                          <a:pt x="935" y="19"/>
                        </a:lnTo>
                        <a:lnTo>
                          <a:pt x="939" y="21"/>
                        </a:lnTo>
                        <a:lnTo>
                          <a:pt x="939" y="22"/>
                        </a:lnTo>
                        <a:lnTo>
                          <a:pt x="942" y="24"/>
                        </a:lnTo>
                        <a:lnTo>
                          <a:pt x="942" y="26"/>
                        </a:lnTo>
                        <a:lnTo>
                          <a:pt x="945" y="28"/>
                        </a:lnTo>
                        <a:lnTo>
                          <a:pt x="945" y="30"/>
                        </a:lnTo>
                        <a:lnTo>
                          <a:pt x="948" y="31"/>
                        </a:lnTo>
                        <a:lnTo>
                          <a:pt x="948" y="33"/>
                        </a:lnTo>
                        <a:lnTo>
                          <a:pt x="948" y="35"/>
                        </a:lnTo>
                        <a:lnTo>
                          <a:pt x="952" y="35"/>
                        </a:lnTo>
                        <a:lnTo>
                          <a:pt x="952" y="37"/>
                        </a:lnTo>
                        <a:lnTo>
                          <a:pt x="955" y="38"/>
                        </a:lnTo>
                        <a:lnTo>
                          <a:pt x="955" y="40"/>
                        </a:lnTo>
                        <a:lnTo>
                          <a:pt x="955" y="44"/>
                        </a:lnTo>
                        <a:lnTo>
                          <a:pt x="958" y="45"/>
                        </a:lnTo>
                        <a:lnTo>
                          <a:pt x="958" y="47"/>
                        </a:lnTo>
                        <a:lnTo>
                          <a:pt x="962" y="49"/>
                        </a:lnTo>
                        <a:lnTo>
                          <a:pt x="962" y="51"/>
                        </a:lnTo>
                        <a:lnTo>
                          <a:pt x="965" y="53"/>
                        </a:lnTo>
                        <a:lnTo>
                          <a:pt x="965" y="54"/>
                        </a:lnTo>
                        <a:lnTo>
                          <a:pt x="965" y="58"/>
                        </a:lnTo>
                        <a:lnTo>
                          <a:pt x="968" y="60"/>
                        </a:lnTo>
                        <a:lnTo>
                          <a:pt x="968" y="61"/>
                        </a:lnTo>
                        <a:lnTo>
                          <a:pt x="972" y="63"/>
                        </a:lnTo>
                        <a:lnTo>
                          <a:pt x="972" y="67"/>
                        </a:lnTo>
                        <a:lnTo>
                          <a:pt x="975" y="68"/>
                        </a:lnTo>
                        <a:lnTo>
                          <a:pt x="975" y="70"/>
                        </a:lnTo>
                        <a:lnTo>
                          <a:pt x="975" y="74"/>
                        </a:lnTo>
                        <a:lnTo>
                          <a:pt x="978" y="75"/>
                        </a:lnTo>
                        <a:lnTo>
                          <a:pt x="978" y="79"/>
                        </a:lnTo>
                        <a:lnTo>
                          <a:pt x="981" y="81"/>
                        </a:lnTo>
                        <a:lnTo>
                          <a:pt x="981" y="82"/>
                        </a:lnTo>
                        <a:lnTo>
                          <a:pt x="985" y="86"/>
                        </a:lnTo>
                        <a:lnTo>
                          <a:pt x="985" y="88"/>
                        </a:lnTo>
                        <a:lnTo>
                          <a:pt x="985" y="91"/>
                        </a:lnTo>
                        <a:lnTo>
                          <a:pt x="988" y="93"/>
                        </a:lnTo>
                        <a:lnTo>
                          <a:pt x="988" y="96"/>
                        </a:lnTo>
                        <a:lnTo>
                          <a:pt x="991" y="100"/>
                        </a:lnTo>
                        <a:lnTo>
                          <a:pt x="991" y="102"/>
                        </a:lnTo>
                        <a:lnTo>
                          <a:pt x="991" y="105"/>
                        </a:lnTo>
                        <a:lnTo>
                          <a:pt x="995" y="109"/>
                        </a:lnTo>
                        <a:lnTo>
                          <a:pt x="995" y="111"/>
                        </a:lnTo>
                        <a:lnTo>
                          <a:pt x="998" y="114"/>
                        </a:lnTo>
                        <a:lnTo>
                          <a:pt x="998" y="118"/>
                        </a:lnTo>
                        <a:lnTo>
                          <a:pt x="1001" y="119"/>
                        </a:lnTo>
                        <a:lnTo>
                          <a:pt x="1001" y="123"/>
                        </a:lnTo>
                        <a:lnTo>
                          <a:pt x="1001" y="126"/>
                        </a:lnTo>
                        <a:lnTo>
                          <a:pt x="1005" y="130"/>
                        </a:lnTo>
                        <a:lnTo>
                          <a:pt x="1005" y="132"/>
                        </a:lnTo>
                        <a:lnTo>
                          <a:pt x="1008" y="135"/>
                        </a:lnTo>
                        <a:lnTo>
                          <a:pt x="1008" y="139"/>
                        </a:lnTo>
                        <a:lnTo>
                          <a:pt x="1011" y="142"/>
                        </a:lnTo>
                        <a:lnTo>
                          <a:pt x="1011" y="146"/>
                        </a:lnTo>
                        <a:lnTo>
                          <a:pt x="1011" y="149"/>
                        </a:lnTo>
                        <a:lnTo>
                          <a:pt x="1014" y="151"/>
                        </a:lnTo>
                        <a:lnTo>
                          <a:pt x="1014" y="155"/>
                        </a:lnTo>
                        <a:lnTo>
                          <a:pt x="1018" y="158"/>
                        </a:lnTo>
                        <a:lnTo>
                          <a:pt x="1018" y="162"/>
                        </a:lnTo>
                        <a:lnTo>
                          <a:pt x="1021" y="165"/>
                        </a:lnTo>
                        <a:lnTo>
                          <a:pt x="1021" y="169"/>
                        </a:lnTo>
                        <a:lnTo>
                          <a:pt x="1021" y="172"/>
                        </a:lnTo>
                        <a:lnTo>
                          <a:pt x="1024" y="176"/>
                        </a:lnTo>
                        <a:lnTo>
                          <a:pt x="1024" y="179"/>
                        </a:lnTo>
                        <a:lnTo>
                          <a:pt x="1028" y="183"/>
                        </a:lnTo>
                        <a:lnTo>
                          <a:pt x="1028" y="187"/>
                        </a:lnTo>
                        <a:lnTo>
                          <a:pt x="1028" y="190"/>
                        </a:lnTo>
                        <a:lnTo>
                          <a:pt x="1031" y="194"/>
                        </a:lnTo>
                        <a:lnTo>
                          <a:pt x="1031" y="197"/>
                        </a:lnTo>
                        <a:lnTo>
                          <a:pt x="1034" y="201"/>
                        </a:lnTo>
                        <a:lnTo>
                          <a:pt x="1034" y="204"/>
                        </a:lnTo>
                        <a:lnTo>
                          <a:pt x="1038" y="209"/>
                        </a:lnTo>
                        <a:lnTo>
                          <a:pt x="1038" y="213"/>
                        </a:lnTo>
                        <a:lnTo>
                          <a:pt x="1038" y="216"/>
                        </a:lnTo>
                        <a:lnTo>
                          <a:pt x="1041" y="220"/>
                        </a:lnTo>
                        <a:lnTo>
                          <a:pt x="1041" y="223"/>
                        </a:lnTo>
                        <a:lnTo>
                          <a:pt x="1044" y="227"/>
                        </a:lnTo>
                        <a:lnTo>
                          <a:pt x="1044" y="230"/>
                        </a:lnTo>
                        <a:lnTo>
                          <a:pt x="1047" y="236"/>
                        </a:lnTo>
                        <a:lnTo>
                          <a:pt x="1047" y="239"/>
                        </a:lnTo>
                        <a:lnTo>
                          <a:pt x="1047" y="243"/>
                        </a:lnTo>
                        <a:lnTo>
                          <a:pt x="1051" y="246"/>
                        </a:lnTo>
                        <a:lnTo>
                          <a:pt x="1051" y="250"/>
                        </a:lnTo>
                        <a:lnTo>
                          <a:pt x="1054" y="253"/>
                        </a:lnTo>
                        <a:lnTo>
                          <a:pt x="1054" y="259"/>
                        </a:lnTo>
                        <a:lnTo>
                          <a:pt x="1057" y="262"/>
                        </a:lnTo>
                        <a:lnTo>
                          <a:pt x="1057" y="266"/>
                        </a:lnTo>
                        <a:lnTo>
                          <a:pt x="1057" y="269"/>
                        </a:lnTo>
                        <a:lnTo>
                          <a:pt x="1061" y="273"/>
                        </a:lnTo>
                        <a:lnTo>
                          <a:pt x="1061" y="278"/>
                        </a:lnTo>
                        <a:lnTo>
                          <a:pt x="1064" y="282"/>
                        </a:lnTo>
                        <a:lnTo>
                          <a:pt x="1064" y="285"/>
                        </a:lnTo>
                        <a:lnTo>
                          <a:pt x="1064" y="289"/>
                        </a:lnTo>
                        <a:lnTo>
                          <a:pt x="1067" y="292"/>
                        </a:lnTo>
                        <a:lnTo>
                          <a:pt x="1067" y="298"/>
                        </a:lnTo>
                        <a:lnTo>
                          <a:pt x="1071" y="301"/>
                        </a:lnTo>
                        <a:lnTo>
                          <a:pt x="1071" y="305"/>
                        </a:lnTo>
                        <a:lnTo>
                          <a:pt x="1074" y="308"/>
                        </a:lnTo>
                        <a:lnTo>
                          <a:pt x="1074" y="313"/>
                        </a:lnTo>
                        <a:lnTo>
                          <a:pt x="1074" y="317"/>
                        </a:lnTo>
                        <a:lnTo>
                          <a:pt x="1077" y="321"/>
                        </a:lnTo>
                        <a:lnTo>
                          <a:pt x="1077" y="324"/>
                        </a:lnTo>
                        <a:lnTo>
                          <a:pt x="1080" y="328"/>
                        </a:lnTo>
                        <a:lnTo>
                          <a:pt x="1080" y="333"/>
                        </a:lnTo>
                        <a:lnTo>
                          <a:pt x="1084" y="336"/>
                        </a:lnTo>
                        <a:lnTo>
                          <a:pt x="1084" y="340"/>
                        </a:lnTo>
                        <a:lnTo>
                          <a:pt x="1084" y="343"/>
                        </a:lnTo>
                        <a:lnTo>
                          <a:pt x="1087" y="347"/>
                        </a:lnTo>
                        <a:lnTo>
                          <a:pt x="1087" y="352"/>
                        </a:lnTo>
                        <a:lnTo>
                          <a:pt x="1090" y="356"/>
                        </a:lnTo>
                        <a:lnTo>
                          <a:pt x="1090" y="359"/>
                        </a:lnTo>
                        <a:lnTo>
                          <a:pt x="1094" y="363"/>
                        </a:lnTo>
                        <a:lnTo>
                          <a:pt x="1094" y="366"/>
                        </a:lnTo>
                        <a:lnTo>
                          <a:pt x="1094" y="370"/>
                        </a:lnTo>
                        <a:lnTo>
                          <a:pt x="1097" y="375"/>
                        </a:lnTo>
                        <a:lnTo>
                          <a:pt x="1097" y="379"/>
                        </a:lnTo>
                        <a:lnTo>
                          <a:pt x="1100" y="382"/>
                        </a:lnTo>
                        <a:lnTo>
                          <a:pt x="1100" y="386"/>
                        </a:lnTo>
                        <a:lnTo>
                          <a:pt x="1100" y="389"/>
                        </a:lnTo>
                        <a:lnTo>
                          <a:pt x="1104" y="393"/>
                        </a:lnTo>
                        <a:lnTo>
                          <a:pt x="1104" y="396"/>
                        </a:lnTo>
                        <a:lnTo>
                          <a:pt x="1107" y="400"/>
                        </a:lnTo>
                        <a:lnTo>
                          <a:pt x="1107" y="405"/>
                        </a:lnTo>
                        <a:lnTo>
                          <a:pt x="1110" y="409"/>
                        </a:lnTo>
                        <a:lnTo>
                          <a:pt x="1110" y="412"/>
                        </a:lnTo>
                        <a:lnTo>
                          <a:pt x="1110" y="416"/>
                        </a:lnTo>
                        <a:lnTo>
                          <a:pt x="1113" y="419"/>
                        </a:lnTo>
                        <a:lnTo>
                          <a:pt x="1113" y="423"/>
                        </a:lnTo>
                        <a:lnTo>
                          <a:pt x="1117" y="426"/>
                        </a:lnTo>
                        <a:lnTo>
                          <a:pt x="1117" y="430"/>
                        </a:lnTo>
                        <a:lnTo>
                          <a:pt x="1120" y="433"/>
                        </a:lnTo>
                        <a:lnTo>
                          <a:pt x="1120" y="437"/>
                        </a:lnTo>
                        <a:lnTo>
                          <a:pt x="1120" y="440"/>
                        </a:lnTo>
                        <a:lnTo>
                          <a:pt x="1123" y="444"/>
                        </a:lnTo>
                        <a:lnTo>
                          <a:pt x="1123" y="446"/>
                        </a:lnTo>
                        <a:lnTo>
                          <a:pt x="1127" y="449"/>
                        </a:lnTo>
                        <a:lnTo>
                          <a:pt x="1127" y="453"/>
                        </a:lnTo>
                        <a:lnTo>
                          <a:pt x="1130" y="456"/>
                        </a:lnTo>
                        <a:lnTo>
                          <a:pt x="1130" y="460"/>
                        </a:lnTo>
                        <a:lnTo>
                          <a:pt x="1130" y="463"/>
                        </a:lnTo>
                        <a:lnTo>
                          <a:pt x="1133" y="467"/>
                        </a:lnTo>
                        <a:lnTo>
                          <a:pt x="1133" y="468"/>
                        </a:lnTo>
                        <a:lnTo>
                          <a:pt x="1137" y="472"/>
                        </a:lnTo>
                        <a:lnTo>
                          <a:pt x="1137" y="476"/>
                        </a:lnTo>
                        <a:lnTo>
                          <a:pt x="1137" y="479"/>
                        </a:lnTo>
                        <a:lnTo>
                          <a:pt x="1140" y="483"/>
                        </a:lnTo>
                        <a:lnTo>
                          <a:pt x="1140" y="484"/>
                        </a:lnTo>
                        <a:lnTo>
                          <a:pt x="1143" y="488"/>
                        </a:lnTo>
                        <a:lnTo>
                          <a:pt x="1143" y="491"/>
                        </a:lnTo>
                        <a:lnTo>
                          <a:pt x="1146" y="493"/>
                        </a:lnTo>
                        <a:lnTo>
                          <a:pt x="1146" y="497"/>
                        </a:lnTo>
                        <a:lnTo>
                          <a:pt x="1146" y="500"/>
                        </a:lnTo>
                        <a:lnTo>
                          <a:pt x="1149" y="502"/>
                        </a:lnTo>
                        <a:lnTo>
                          <a:pt x="1149" y="506"/>
                        </a:lnTo>
                        <a:lnTo>
                          <a:pt x="1153" y="507"/>
                        </a:lnTo>
                        <a:lnTo>
                          <a:pt x="1153" y="511"/>
                        </a:lnTo>
                        <a:lnTo>
                          <a:pt x="1156" y="513"/>
                        </a:lnTo>
                        <a:lnTo>
                          <a:pt x="1156" y="516"/>
                        </a:lnTo>
                        <a:lnTo>
                          <a:pt x="1156" y="518"/>
                        </a:lnTo>
                        <a:lnTo>
                          <a:pt x="1159" y="521"/>
                        </a:lnTo>
                        <a:lnTo>
                          <a:pt x="1159" y="523"/>
                        </a:lnTo>
                        <a:lnTo>
                          <a:pt x="1162" y="527"/>
                        </a:lnTo>
                        <a:lnTo>
                          <a:pt x="1162" y="529"/>
                        </a:lnTo>
                        <a:lnTo>
                          <a:pt x="1166" y="530"/>
                        </a:lnTo>
                        <a:lnTo>
                          <a:pt x="1166" y="534"/>
                        </a:lnTo>
                        <a:lnTo>
                          <a:pt x="1166" y="536"/>
                        </a:lnTo>
                        <a:lnTo>
                          <a:pt x="1169" y="537"/>
                        </a:lnTo>
                        <a:lnTo>
                          <a:pt x="1169" y="541"/>
                        </a:lnTo>
                        <a:lnTo>
                          <a:pt x="1172" y="543"/>
                        </a:lnTo>
                        <a:lnTo>
                          <a:pt x="1172" y="544"/>
                        </a:lnTo>
                        <a:lnTo>
                          <a:pt x="1172" y="546"/>
                        </a:lnTo>
                        <a:lnTo>
                          <a:pt x="1176" y="550"/>
                        </a:lnTo>
                        <a:lnTo>
                          <a:pt x="1176" y="552"/>
                        </a:lnTo>
                        <a:lnTo>
                          <a:pt x="1179" y="550"/>
                        </a:lnTo>
                        <a:lnTo>
                          <a:pt x="1179" y="548"/>
                        </a:lnTo>
                        <a:lnTo>
                          <a:pt x="1182" y="546"/>
                        </a:lnTo>
                        <a:lnTo>
                          <a:pt x="1182" y="544"/>
                        </a:lnTo>
                        <a:lnTo>
                          <a:pt x="1182" y="543"/>
                        </a:lnTo>
                        <a:lnTo>
                          <a:pt x="1186" y="541"/>
                        </a:lnTo>
                        <a:lnTo>
                          <a:pt x="1186" y="539"/>
                        </a:lnTo>
                        <a:lnTo>
                          <a:pt x="1189" y="537"/>
                        </a:lnTo>
                        <a:lnTo>
                          <a:pt x="1189" y="536"/>
                        </a:lnTo>
                        <a:lnTo>
                          <a:pt x="1192" y="534"/>
                        </a:lnTo>
                        <a:lnTo>
                          <a:pt x="1192" y="532"/>
                        </a:lnTo>
                        <a:lnTo>
                          <a:pt x="1192" y="530"/>
                        </a:lnTo>
                        <a:lnTo>
                          <a:pt x="1195" y="529"/>
                        </a:lnTo>
                        <a:lnTo>
                          <a:pt x="1195" y="527"/>
                        </a:lnTo>
                        <a:lnTo>
                          <a:pt x="1199" y="525"/>
                        </a:lnTo>
                        <a:lnTo>
                          <a:pt x="1199" y="523"/>
                        </a:lnTo>
                        <a:lnTo>
                          <a:pt x="1202" y="521"/>
                        </a:lnTo>
                        <a:lnTo>
                          <a:pt x="1202" y="520"/>
                        </a:lnTo>
                        <a:lnTo>
                          <a:pt x="1205" y="520"/>
                        </a:lnTo>
                        <a:lnTo>
                          <a:pt x="1205" y="518"/>
                        </a:lnTo>
                        <a:lnTo>
                          <a:pt x="1209" y="516"/>
                        </a:lnTo>
                        <a:lnTo>
                          <a:pt x="1209" y="514"/>
                        </a:lnTo>
                        <a:lnTo>
                          <a:pt x="1212" y="514"/>
                        </a:lnTo>
                        <a:lnTo>
                          <a:pt x="1212" y="513"/>
                        </a:lnTo>
                        <a:lnTo>
                          <a:pt x="1215" y="513"/>
                        </a:lnTo>
                        <a:lnTo>
                          <a:pt x="1215" y="511"/>
                        </a:lnTo>
                        <a:lnTo>
                          <a:pt x="1219" y="511"/>
                        </a:lnTo>
                        <a:lnTo>
                          <a:pt x="1219" y="509"/>
                        </a:lnTo>
                        <a:lnTo>
                          <a:pt x="1222" y="507"/>
                        </a:lnTo>
                        <a:lnTo>
                          <a:pt x="1225" y="506"/>
                        </a:lnTo>
                        <a:lnTo>
                          <a:pt x="1228" y="506"/>
                        </a:lnTo>
                        <a:lnTo>
                          <a:pt x="1228" y="504"/>
                        </a:lnTo>
                        <a:lnTo>
                          <a:pt x="1232" y="504"/>
                        </a:lnTo>
                        <a:lnTo>
                          <a:pt x="1235" y="504"/>
                        </a:lnTo>
                        <a:lnTo>
                          <a:pt x="1235" y="502"/>
                        </a:lnTo>
                        <a:lnTo>
                          <a:pt x="1238" y="502"/>
                        </a:lnTo>
                        <a:lnTo>
                          <a:pt x="1242" y="502"/>
                        </a:lnTo>
                        <a:lnTo>
                          <a:pt x="1245" y="502"/>
                        </a:lnTo>
                        <a:lnTo>
                          <a:pt x="1248" y="502"/>
                        </a:lnTo>
                        <a:lnTo>
                          <a:pt x="1252" y="502"/>
                        </a:lnTo>
                        <a:lnTo>
                          <a:pt x="1255" y="502"/>
                        </a:lnTo>
                        <a:lnTo>
                          <a:pt x="1258" y="502"/>
                        </a:lnTo>
                        <a:lnTo>
                          <a:pt x="1261" y="502"/>
                        </a:lnTo>
                        <a:lnTo>
                          <a:pt x="1265" y="504"/>
                        </a:lnTo>
                        <a:lnTo>
                          <a:pt x="1268" y="504"/>
                        </a:lnTo>
                        <a:lnTo>
                          <a:pt x="1268" y="506"/>
                        </a:lnTo>
                        <a:lnTo>
                          <a:pt x="1271" y="506"/>
                        </a:lnTo>
                        <a:lnTo>
                          <a:pt x="1275" y="507"/>
                        </a:lnTo>
                        <a:lnTo>
                          <a:pt x="1278" y="507"/>
                        </a:lnTo>
                        <a:lnTo>
                          <a:pt x="1278" y="509"/>
                        </a:lnTo>
                        <a:lnTo>
                          <a:pt x="1281" y="509"/>
                        </a:lnTo>
                        <a:lnTo>
                          <a:pt x="1281" y="511"/>
                        </a:lnTo>
                        <a:lnTo>
                          <a:pt x="1285" y="511"/>
                        </a:lnTo>
                        <a:lnTo>
                          <a:pt x="1285" y="513"/>
                        </a:lnTo>
                        <a:lnTo>
                          <a:pt x="1288" y="513"/>
                        </a:lnTo>
                        <a:lnTo>
                          <a:pt x="1288" y="514"/>
                        </a:lnTo>
                        <a:lnTo>
                          <a:pt x="1291" y="514"/>
                        </a:lnTo>
                        <a:lnTo>
                          <a:pt x="1291" y="516"/>
                        </a:lnTo>
                        <a:lnTo>
                          <a:pt x="1294" y="516"/>
                        </a:lnTo>
                        <a:lnTo>
                          <a:pt x="1294" y="518"/>
                        </a:lnTo>
                        <a:lnTo>
                          <a:pt x="1298" y="518"/>
                        </a:lnTo>
                        <a:lnTo>
                          <a:pt x="1298" y="520"/>
                        </a:lnTo>
                        <a:lnTo>
                          <a:pt x="1301" y="520"/>
                        </a:lnTo>
                        <a:lnTo>
                          <a:pt x="1301" y="521"/>
                        </a:lnTo>
                        <a:lnTo>
                          <a:pt x="1304" y="523"/>
                        </a:lnTo>
                        <a:lnTo>
                          <a:pt x="1308" y="525"/>
                        </a:lnTo>
                        <a:lnTo>
                          <a:pt x="1308" y="527"/>
                        </a:lnTo>
                        <a:lnTo>
                          <a:pt x="1311" y="529"/>
                        </a:lnTo>
                        <a:lnTo>
                          <a:pt x="1314" y="530"/>
                        </a:lnTo>
                        <a:lnTo>
                          <a:pt x="1318" y="532"/>
                        </a:lnTo>
                        <a:lnTo>
                          <a:pt x="1318" y="534"/>
                        </a:lnTo>
                        <a:lnTo>
                          <a:pt x="1321" y="536"/>
                        </a:lnTo>
                        <a:lnTo>
                          <a:pt x="1324" y="537"/>
                        </a:lnTo>
                        <a:lnTo>
                          <a:pt x="1324" y="539"/>
                        </a:lnTo>
                        <a:lnTo>
                          <a:pt x="1327" y="539"/>
                        </a:lnTo>
                        <a:lnTo>
                          <a:pt x="1327" y="541"/>
                        </a:lnTo>
                        <a:lnTo>
                          <a:pt x="1331" y="543"/>
                        </a:lnTo>
                        <a:lnTo>
                          <a:pt x="1331" y="544"/>
                        </a:lnTo>
                        <a:lnTo>
                          <a:pt x="1334" y="544"/>
                        </a:lnTo>
                        <a:lnTo>
                          <a:pt x="1334" y="546"/>
                        </a:lnTo>
                        <a:lnTo>
                          <a:pt x="1337" y="546"/>
                        </a:lnTo>
                        <a:lnTo>
                          <a:pt x="1337" y="548"/>
                        </a:lnTo>
                        <a:lnTo>
                          <a:pt x="1337" y="550"/>
                        </a:lnTo>
                        <a:lnTo>
                          <a:pt x="1341" y="550"/>
                        </a:lnTo>
                        <a:lnTo>
                          <a:pt x="1341" y="552"/>
                        </a:lnTo>
                        <a:lnTo>
                          <a:pt x="1344" y="552"/>
                        </a:lnTo>
                        <a:lnTo>
                          <a:pt x="1344" y="550"/>
                        </a:lnTo>
                        <a:lnTo>
                          <a:pt x="1344" y="548"/>
                        </a:lnTo>
                        <a:lnTo>
                          <a:pt x="1347" y="548"/>
                        </a:lnTo>
                        <a:lnTo>
                          <a:pt x="1347" y="546"/>
                        </a:lnTo>
                        <a:lnTo>
                          <a:pt x="1351" y="546"/>
                        </a:lnTo>
                        <a:lnTo>
                          <a:pt x="1351" y="544"/>
                        </a:lnTo>
                        <a:lnTo>
                          <a:pt x="1354" y="544"/>
                        </a:lnTo>
                        <a:lnTo>
                          <a:pt x="1354" y="543"/>
                        </a:lnTo>
                        <a:lnTo>
                          <a:pt x="1354" y="541"/>
                        </a:lnTo>
                        <a:lnTo>
                          <a:pt x="1357" y="541"/>
                        </a:lnTo>
                        <a:lnTo>
                          <a:pt x="1357" y="539"/>
                        </a:lnTo>
                        <a:lnTo>
                          <a:pt x="1360" y="539"/>
                        </a:lnTo>
                        <a:lnTo>
                          <a:pt x="1360" y="537"/>
                        </a:lnTo>
                        <a:lnTo>
                          <a:pt x="1364" y="537"/>
                        </a:lnTo>
                        <a:lnTo>
                          <a:pt x="1364" y="536"/>
                        </a:lnTo>
                        <a:lnTo>
                          <a:pt x="1367" y="534"/>
                        </a:lnTo>
                        <a:lnTo>
                          <a:pt x="1370" y="532"/>
                        </a:lnTo>
                        <a:lnTo>
                          <a:pt x="1374" y="530"/>
                        </a:lnTo>
                        <a:lnTo>
                          <a:pt x="1374" y="529"/>
                        </a:lnTo>
                        <a:lnTo>
                          <a:pt x="1377" y="529"/>
                        </a:lnTo>
                        <a:lnTo>
                          <a:pt x="1377" y="527"/>
                        </a:lnTo>
                        <a:lnTo>
                          <a:pt x="1380" y="527"/>
                        </a:lnTo>
                        <a:lnTo>
                          <a:pt x="1380" y="525"/>
                        </a:lnTo>
                        <a:lnTo>
                          <a:pt x="1384" y="525"/>
                        </a:lnTo>
                        <a:lnTo>
                          <a:pt x="1384" y="523"/>
                        </a:lnTo>
                        <a:lnTo>
                          <a:pt x="1387" y="523"/>
                        </a:lnTo>
                        <a:lnTo>
                          <a:pt x="1390" y="521"/>
                        </a:lnTo>
                        <a:lnTo>
                          <a:pt x="1393" y="520"/>
                        </a:lnTo>
                        <a:lnTo>
                          <a:pt x="1397" y="520"/>
                        </a:lnTo>
                        <a:lnTo>
                          <a:pt x="1397" y="518"/>
                        </a:lnTo>
                        <a:lnTo>
                          <a:pt x="1400" y="518"/>
                        </a:lnTo>
                        <a:lnTo>
                          <a:pt x="1403" y="516"/>
                        </a:lnTo>
                        <a:lnTo>
                          <a:pt x="1407" y="516"/>
                        </a:lnTo>
                        <a:lnTo>
                          <a:pt x="1410" y="516"/>
                        </a:lnTo>
                        <a:lnTo>
                          <a:pt x="1410" y="514"/>
                        </a:lnTo>
                        <a:lnTo>
                          <a:pt x="1413" y="514"/>
                        </a:lnTo>
                        <a:lnTo>
                          <a:pt x="1417" y="514"/>
                        </a:lnTo>
                        <a:lnTo>
                          <a:pt x="1420" y="514"/>
                        </a:lnTo>
                        <a:lnTo>
                          <a:pt x="1423" y="514"/>
                        </a:lnTo>
                        <a:lnTo>
                          <a:pt x="1427" y="5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98" name=""/>
                  <p:cNvGrpSpPr/>
                  <p:nvPr/>
                </p:nvGrpSpPr>
                <p:grpSpPr>
                  <a:xfrm>
                    <a:off x="4497480" y="3990600"/>
                    <a:ext cx="2273040" cy="809640"/>
                    <a:chOff x="4497480" y="3990600"/>
                    <a:chExt cx="2273040" cy="809640"/>
                  </a:xfrm>
                </p:grpSpPr>
                <p:sp>
                  <p:nvSpPr>
                    <p:cNvPr id="1399" name=""/>
                    <p:cNvSpPr/>
                    <p:nvPr/>
                  </p:nvSpPr>
                  <p:spPr>
                    <a:xfrm flipV="1">
                      <a:off x="5064120" y="3992400"/>
                      <a:ext cx="0" cy="804960"/>
                    </a:xfrm>
                    <a:prstGeom prst="line">
                      <a:avLst/>
                    </a:prstGeom>
                    <a:ln w="12600">
                      <a:solidFill>
                        <a:srgbClr val="99ff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0" name=""/>
                    <p:cNvSpPr/>
                    <p:nvPr/>
                  </p:nvSpPr>
                  <p:spPr>
                    <a:xfrm flipV="1">
                      <a:off x="6202440" y="3990600"/>
                      <a:ext cx="0" cy="809640"/>
                    </a:xfrm>
                    <a:prstGeom prst="line">
                      <a:avLst/>
                    </a:prstGeom>
                    <a:ln w="12600">
                      <a:solidFill>
                        <a:srgbClr val="99ff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1" name=""/>
                    <p:cNvSpPr/>
                    <p:nvPr/>
                  </p:nvSpPr>
                  <p:spPr>
                    <a:xfrm>
                      <a:off x="5060880" y="3990960"/>
                      <a:ext cx="1143000" cy="0"/>
                    </a:xfrm>
                    <a:prstGeom prst="line">
                      <a:avLst/>
                    </a:prstGeom>
                    <a:ln w="12600">
                      <a:solidFill>
                        <a:srgbClr val="99ff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2" name=""/>
                    <p:cNvSpPr/>
                    <p:nvPr/>
                  </p:nvSpPr>
                  <p:spPr>
                    <a:xfrm>
                      <a:off x="4497480" y="4795920"/>
                      <a:ext cx="568080" cy="0"/>
                    </a:xfrm>
                    <a:prstGeom prst="line">
                      <a:avLst/>
                    </a:prstGeom>
                    <a:ln w="12600">
                      <a:solidFill>
                        <a:srgbClr val="99ff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3" name=""/>
                    <p:cNvSpPr/>
                    <p:nvPr/>
                  </p:nvSpPr>
                  <p:spPr>
                    <a:xfrm>
                      <a:off x="6200640" y="4795920"/>
                      <a:ext cx="569880" cy="0"/>
                    </a:xfrm>
                    <a:prstGeom prst="line">
                      <a:avLst/>
                    </a:prstGeom>
                    <a:ln w="12600">
                      <a:solidFill>
                        <a:srgbClr val="99ff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04" name=""/>
                <p:cNvGrpSpPr/>
                <p:nvPr/>
              </p:nvGrpSpPr>
              <p:grpSpPr>
                <a:xfrm>
                  <a:off x="6772320" y="3911760"/>
                  <a:ext cx="2271600" cy="888480"/>
                  <a:chOff x="6772320" y="3911760"/>
                  <a:chExt cx="2271600" cy="888480"/>
                </a:xfrm>
              </p:grpSpPr>
              <p:sp>
                <p:nvSpPr>
                  <p:cNvPr id="1405" name=""/>
                  <p:cNvSpPr/>
                  <p:nvPr/>
                </p:nvSpPr>
                <p:spPr>
                  <a:xfrm>
                    <a:off x="6775560" y="3911760"/>
                    <a:ext cx="2266920" cy="87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28" h="553">
                        <a:moveTo>
                          <a:pt x="0" y="514"/>
                        </a:moveTo>
                        <a:lnTo>
                          <a:pt x="3" y="514"/>
                        </a:lnTo>
                        <a:lnTo>
                          <a:pt x="6" y="514"/>
                        </a:lnTo>
                        <a:lnTo>
                          <a:pt x="9" y="514"/>
                        </a:lnTo>
                        <a:lnTo>
                          <a:pt x="13" y="514"/>
                        </a:lnTo>
                        <a:lnTo>
                          <a:pt x="16" y="514"/>
                        </a:lnTo>
                        <a:lnTo>
                          <a:pt x="16" y="516"/>
                        </a:lnTo>
                        <a:lnTo>
                          <a:pt x="19" y="516"/>
                        </a:lnTo>
                        <a:lnTo>
                          <a:pt x="23" y="516"/>
                        </a:lnTo>
                        <a:lnTo>
                          <a:pt x="26" y="518"/>
                        </a:lnTo>
                        <a:lnTo>
                          <a:pt x="29" y="518"/>
                        </a:lnTo>
                        <a:lnTo>
                          <a:pt x="29" y="520"/>
                        </a:lnTo>
                        <a:lnTo>
                          <a:pt x="33" y="520"/>
                        </a:lnTo>
                        <a:lnTo>
                          <a:pt x="36" y="521"/>
                        </a:lnTo>
                        <a:lnTo>
                          <a:pt x="39" y="523"/>
                        </a:lnTo>
                        <a:lnTo>
                          <a:pt x="42" y="523"/>
                        </a:lnTo>
                        <a:lnTo>
                          <a:pt x="42" y="525"/>
                        </a:lnTo>
                        <a:lnTo>
                          <a:pt x="46" y="525"/>
                        </a:lnTo>
                        <a:lnTo>
                          <a:pt x="46" y="527"/>
                        </a:lnTo>
                        <a:lnTo>
                          <a:pt x="49" y="527"/>
                        </a:lnTo>
                        <a:lnTo>
                          <a:pt x="49" y="529"/>
                        </a:lnTo>
                        <a:lnTo>
                          <a:pt x="52" y="529"/>
                        </a:lnTo>
                        <a:lnTo>
                          <a:pt x="52" y="530"/>
                        </a:lnTo>
                        <a:lnTo>
                          <a:pt x="56" y="532"/>
                        </a:lnTo>
                        <a:lnTo>
                          <a:pt x="59" y="534"/>
                        </a:lnTo>
                        <a:lnTo>
                          <a:pt x="62" y="536"/>
                        </a:lnTo>
                        <a:lnTo>
                          <a:pt x="62" y="537"/>
                        </a:lnTo>
                        <a:lnTo>
                          <a:pt x="66" y="537"/>
                        </a:lnTo>
                        <a:lnTo>
                          <a:pt x="66" y="539"/>
                        </a:lnTo>
                        <a:lnTo>
                          <a:pt x="69" y="539"/>
                        </a:lnTo>
                        <a:lnTo>
                          <a:pt x="69" y="541"/>
                        </a:lnTo>
                        <a:lnTo>
                          <a:pt x="72" y="541"/>
                        </a:lnTo>
                        <a:lnTo>
                          <a:pt x="72" y="543"/>
                        </a:lnTo>
                        <a:lnTo>
                          <a:pt x="72" y="544"/>
                        </a:lnTo>
                        <a:lnTo>
                          <a:pt x="75" y="544"/>
                        </a:lnTo>
                        <a:lnTo>
                          <a:pt x="75" y="546"/>
                        </a:lnTo>
                        <a:lnTo>
                          <a:pt x="79" y="546"/>
                        </a:lnTo>
                        <a:lnTo>
                          <a:pt x="79" y="548"/>
                        </a:lnTo>
                        <a:lnTo>
                          <a:pt x="82" y="548"/>
                        </a:lnTo>
                        <a:lnTo>
                          <a:pt x="82" y="550"/>
                        </a:lnTo>
                        <a:lnTo>
                          <a:pt x="82" y="552"/>
                        </a:lnTo>
                        <a:lnTo>
                          <a:pt x="85" y="552"/>
                        </a:lnTo>
                        <a:lnTo>
                          <a:pt x="85" y="550"/>
                        </a:lnTo>
                        <a:lnTo>
                          <a:pt x="89" y="550"/>
                        </a:lnTo>
                        <a:lnTo>
                          <a:pt x="89" y="548"/>
                        </a:lnTo>
                        <a:lnTo>
                          <a:pt x="89" y="546"/>
                        </a:lnTo>
                        <a:lnTo>
                          <a:pt x="92" y="546"/>
                        </a:lnTo>
                        <a:lnTo>
                          <a:pt x="92" y="544"/>
                        </a:lnTo>
                        <a:lnTo>
                          <a:pt x="95" y="544"/>
                        </a:lnTo>
                        <a:lnTo>
                          <a:pt x="95" y="543"/>
                        </a:lnTo>
                        <a:lnTo>
                          <a:pt x="99" y="541"/>
                        </a:lnTo>
                        <a:lnTo>
                          <a:pt x="99" y="539"/>
                        </a:lnTo>
                        <a:lnTo>
                          <a:pt x="102" y="539"/>
                        </a:lnTo>
                        <a:lnTo>
                          <a:pt x="102" y="537"/>
                        </a:lnTo>
                        <a:lnTo>
                          <a:pt x="105" y="536"/>
                        </a:lnTo>
                        <a:lnTo>
                          <a:pt x="108" y="534"/>
                        </a:lnTo>
                        <a:lnTo>
                          <a:pt x="108" y="532"/>
                        </a:lnTo>
                        <a:lnTo>
                          <a:pt x="112" y="530"/>
                        </a:lnTo>
                        <a:lnTo>
                          <a:pt x="115" y="529"/>
                        </a:lnTo>
                        <a:lnTo>
                          <a:pt x="118" y="527"/>
                        </a:lnTo>
                        <a:lnTo>
                          <a:pt x="118" y="525"/>
                        </a:lnTo>
                        <a:lnTo>
                          <a:pt x="122" y="523"/>
                        </a:lnTo>
                        <a:lnTo>
                          <a:pt x="125" y="521"/>
                        </a:lnTo>
                        <a:lnTo>
                          <a:pt x="125" y="520"/>
                        </a:lnTo>
                        <a:lnTo>
                          <a:pt x="128" y="520"/>
                        </a:lnTo>
                        <a:lnTo>
                          <a:pt x="128" y="518"/>
                        </a:lnTo>
                        <a:lnTo>
                          <a:pt x="132" y="518"/>
                        </a:lnTo>
                        <a:lnTo>
                          <a:pt x="132" y="516"/>
                        </a:lnTo>
                        <a:lnTo>
                          <a:pt x="135" y="516"/>
                        </a:lnTo>
                        <a:lnTo>
                          <a:pt x="135" y="514"/>
                        </a:lnTo>
                        <a:lnTo>
                          <a:pt x="138" y="514"/>
                        </a:lnTo>
                        <a:lnTo>
                          <a:pt x="138" y="513"/>
                        </a:lnTo>
                        <a:lnTo>
                          <a:pt x="141" y="513"/>
                        </a:lnTo>
                        <a:lnTo>
                          <a:pt x="141" y="511"/>
                        </a:lnTo>
                        <a:lnTo>
                          <a:pt x="145" y="511"/>
                        </a:lnTo>
                        <a:lnTo>
                          <a:pt x="145" y="509"/>
                        </a:lnTo>
                        <a:lnTo>
                          <a:pt x="148" y="509"/>
                        </a:lnTo>
                        <a:lnTo>
                          <a:pt x="148" y="507"/>
                        </a:lnTo>
                        <a:lnTo>
                          <a:pt x="151" y="507"/>
                        </a:lnTo>
                        <a:lnTo>
                          <a:pt x="155" y="506"/>
                        </a:lnTo>
                        <a:lnTo>
                          <a:pt x="158" y="506"/>
                        </a:lnTo>
                        <a:lnTo>
                          <a:pt x="158" y="504"/>
                        </a:lnTo>
                        <a:lnTo>
                          <a:pt x="161" y="504"/>
                        </a:lnTo>
                        <a:lnTo>
                          <a:pt x="165" y="502"/>
                        </a:lnTo>
                        <a:lnTo>
                          <a:pt x="168" y="502"/>
                        </a:lnTo>
                        <a:lnTo>
                          <a:pt x="171" y="502"/>
                        </a:lnTo>
                        <a:lnTo>
                          <a:pt x="174" y="502"/>
                        </a:lnTo>
                        <a:lnTo>
                          <a:pt x="178" y="502"/>
                        </a:lnTo>
                        <a:lnTo>
                          <a:pt x="181" y="502"/>
                        </a:lnTo>
                        <a:lnTo>
                          <a:pt x="184" y="502"/>
                        </a:lnTo>
                        <a:lnTo>
                          <a:pt x="188" y="502"/>
                        </a:lnTo>
                        <a:lnTo>
                          <a:pt x="191" y="502"/>
                        </a:lnTo>
                        <a:lnTo>
                          <a:pt x="191" y="504"/>
                        </a:lnTo>
                        <a:lnTo>
                          <a:pt x="194" y="504"/>
                        </a:lnTo>
                        <a:lnTo>
                          <a:pt x="198" y="504"/>
                        </a:lnTo>
                        <a:lnTo>
                          <a:pt x="198" y="506"/>
                        </a:lnTo>
                        <a:lnTo>
                          <a:pt x="201" y="506"/>
                        </a:lnTo>
                        <a:lnTo>
                          <a:pt x="204" y="507"/>
                        </a:lnTo>
                        <a:lnTo>
                          <a:pt x="207" y="509"/>
                        </a:lnTo>
                        <a:lnTo>
                          <a:pt x="207" y="511"/>
                        </a:lnTo>
                        <a:lnTo>
                          <a:pt x="211" y="511"/>
                        </a:lnTo>
                        <a:lnTo>
                          <a:pt x="211" y="513"/>
                        </a:lnTo>
                        <a:lnTo>
                          <a:pt x="214" y="513"/>
                        </a:lnTo>
                        <a:lnTo>
                          <a:pt x="214" y="514"/>
                        </a:lnTo>
                        <a:lnTo>
                          <a:pt x="217" y="514"/>
                        </a:lnTo>
                        <a:lnTo>
                          <a:pt x="217" y="516"/>
                        </a:lnTo>
                        <a:lnTo>
                          <a:pt x="221" y="518"/>
                        </a:lnTo>
                        <a:lnTo>
                          <a:pt x="221" y="520"/>
                        </a:lnTo>
                        <a:lnTo>
                          <a:pt x="224" y="520"/>
                        </a:lnTo>
                        <a:lnTo>
                          <a:pt x="224" y="521"/>
                        </a:lnTo>
                        <a:lnTo>
                          <a:pt x="227" y="523"/>
                        </a:lnTo>
                        <a:lnTo>
                          <a:pt x="227" y="525"/>
                        </a:lnTo>
                        <a:lnTo>
                          <a:pt x="230" y="527"/>
                        </a:lnTo>
                        <a:lnTo>
                          <a:pt x="230" y="529"/>
                        </a:lnTo>
                        <a:lnTo>
                          <a:pt x="233" y="530"/>
                        </a:lnTo>
                        <a:lnTo>
                          <a:pt x="233" y="532"/>
                        </a:lnTo>
                        <a:lnTo>
                          <a:pt x="233" y="534"/>
                        </a:lnTo>
                        <a:lnTo>
                          <a:pt x="237" y="536"/>
                        </a:lnTo>
                        <a:lnTo>
                          <a:pt x="237" y="537"/>
                        </a:lnTo>
                        <a:lnTo>
                          <a:pt x="240" y="539"/>
                        </a:lnTo>
                        <a:lnTo>
                          <a:pt x="240" y="541"/>
                        </a:lnTo>
                        <a:lnTo>
                          <a:pt x="243" y="543"/>
                        </a:lnTo>
                        <a:lnTo>
                          <a:pt x="243" y="544"/>
                        </a:lnTo>
                        <a:lnTo>
                          <a:pt x="243" y="546"/>
                        </a:lnTo>
                        <a:lnTo>
                          <a:pt x="247" y="548"/>
                        </a:lnTo>
                        <a:lnTo>
                          <a:pt x="247" y="550"/>
                        </a:lnTo>
                        <a:lnTo>
                          <a:pt x="250" y="552"/>
                        </a:lnTo>
                        <a:lnTo>
                          <a:pt x="250" y="550"/>
                        </a:lnTo>
                        <a:lnTo>
                          <a:pt x="253" y="546"/>
                        </a:lnTo>
                        <a:lnTo>
                          <a:pt x="253" y="544"/>
                        </a:lnTo>
                        <a:lnTo>
                          <a:pt x="253" y="543"/>
                        </a:lnTo>
                        <a:lnTo>
                          <a:pt x="256" y="541"/>
                        </a:lnTo>
                        <a:lnTo>
                          <a:pt x="256" y="537"/>
                        </a:lnTo>
                        <a:lnTo>
                          <a:pt x="260" y="536"/>
                        </a:lnTo>
                        <a:lnTo>
                          <a:pt x="260" y="534"/>
                        </a:lnTo>
                        <a:lnTo>
                          <a:pt x="260" y="530"/>
                        </a:lnTo>
                        <a:lnTo>
                          <a:pt x="263" y="529"/>
                        </a:lnTo>
                        <a:lnTo>
                          <a:pt x="263" y="527"/>
                        </a:lnTo>
                        <a:lnTo>
                          <a:pt x="266" y="523"/>
                        </a:lnTo>
                        <a:lnTo>
                          <a:pt x="266" y="521"/>
                        </a:lnTo>
                        <a:lnTo>
                          <a:pt x="270" y="518"/>
                        </a:lnTo>
                        <a:lnTo>
                          <a:pt x="270" y="516"/>
                        </a:lnTo>
                        <a:lnTo>
                          <a:pt x="270" y="513"/>
                        </a:lnTo>
                        <a:lnTo>
                          <a:pt x="273" y="511"/>
                        </a:lnTo>
                        <a:lnTo>
                          <a:pt x="273" y="507"/>
                        </a:lnTo>
                        <a:lnTo>
                          <a:pt x="276" y="506"/>
                        </a:lnTo>
                        <a:lnTo>
                          <a:pt x="276" y="502"/>
                        </a:lnTo>
                        <a:lnTo>
                          <a:pt x="280" y="500"/>
                        </a:lnTo>
                        <a:lnTo>
                          <a:pt x="280" y="497"/>
                        </a:lnTo>
                        <a:lnTo>
                          <a:pt x="280" y="493"/>
                        </a:lnTo>
                        <a:lnTo>
                          <a:pt x="283" y="491"/>
                        </a:lnTo>
                        <a:lnTo>
                          <a:pt x="283" y="488"/>
                        </a:lnTo>
                        <a:lnTo>
                          <a:pt x="286" y="484"/>
                        </a:lnTo>
                        <a:lnTo>
                          <a:pt x="286" y="483"/>
                        </a:lnTo>
                        <a:lnTo>
                          <a:pt x="289" y="479"/>
                        </a:lnTo>
                        <a:lnTo>
                          <a:pt x="289" y="476"/>
                        </a:lnTo>
                        <a:lnTo>
                          <a:pt x="289" y="472"/>
                        </a:lnTo>
                        <a:lnTo>
                          <a:pt x="293" y="468"/>
                        </a:lnTo>
                        <a:lnTo>
                          <a:pt x="293" y="467"/>
                        </a:lnTo>
                        <a:lnTo>
                          <a:pt x="296" y="463"/>
                        </a:lnTo>
                        <a:lnTo>
                          <a:pt x="296" y="460"/>
                        </a:lnTo>
                        <a:lnTo>
                          <a:pt x="296" y="456"/>
                        </a:lnTo>
                        <a:lnTo>
                          <a:pt x="299" y="453"/>
                        </a:lnTo>
                        <a:lnTo>
                          <a:pt x="299" y="449"/>
                        </a:lnTo>
                        <a:lnTo>
                          <a:pt x="303" y="446"/>
                        </a:lnTo>
                        <a:lnTo>
                          <a:pt x="303" y="444"/>
                        </a:lnTo>
                        <a:lnTo>
                          <a:pt x="306" y="440"/>
                        </a:lnTo>
                        <a:lnTo>
                          <a:pt x="306" y="437"/>
                        </a:lnTo>
                        <a:lnTo>
                          <a:pt x="306" y="433"/>
                        </a:lnTo>
                        <a:lnTo>
                          <a:pt x="309" y="430"/>
                        </a:lnTo>
                        <a:lnTo>
                          <a:pt x="309" y="426"/>
                        </a:lnTo>
                        <a:lnTo>
                          <a:pt x="313" y="423"/>
                        </a:lnTo>
                        <a:lnTo>
                          <a:pt x="313" y="419"/>
                        </a:lnTo>
                        <a:lnTo>
                          <a:pt x="316" y="416"/>
                        </a:lnTo>
                        <a:lnTo>
                          <a:pt x="316" y="412"/>
                        </a:lnTo>
                        <a:lnTo>
                          <a:pt x="316" y="409"/>
                        </a:lnTo>
                        <a:lnTo>
                          <a:pt x="319" y="405"/>
                        </a:lnTo>
                        <a:lnTo>
                          <a:pt x="319" y="400"/>
                        </a:lnTo>
                        <a:lnTo>
                          <a:pt x="322" y="396"/>
                        </a:lnTo>
                        <a:lnTo>
                          <a:pt x="322" y="393"/>
                        </a:lnTo>
                        <a:lnTo>
                          <a:pt x="326" y="389"/>
                        </a:lnTo>
                        <a:lnTo>
                          <a:pt x="326" y="386"/>
                        </a:lnTo>
                        <a:lnTo>
                          <a:pt x="326" y="382"/>
                        </a:lnTo>
                        <a:lnTo>
                          <a:pt x="329" y="379"/>
                        </a:lnTo>
                        <a:lnTo>
                          <a:pt x="329" y="375"/>
                        </a:lnTo>
                        <a:lnTo>
                          <a:pt x="332" y="370"/>
                        </a:lnTo>
                        <a:lnTo>
                          <a:pt x="332" y="366"/>
                        </a:lnTo>
                        <a:lnTo>
                          <a:pt x="332" y="363"/>
                        </a:lnTo>
                        <a:lnTo>
                          <a:pt x="336" y="359"/>
                        </a:lnTo>
                        <a:lnTo>
                          <a:pt x="336" y="356"/>
                        </a:lnTo>
                        <a:lnTo>
                          <a:pt x="339" y="352"/>
                        </a:lnTo>
                        <a:lnTo>
                          <a:pt x="339" y="347"/>
                        </a:lnTo>
                        <a:lnTo>
                          <a:pt x="342" y="343"/>
                        </a:lnTo>
                        <a:lnTo>
                          <a:pt x="342" y="340"/>
                        </a:lnTo>
                        <a:lnTo>
                          <a:pt x="342" y="336"/>
                        </a:lnTo>
                        <a:lnTo>
                          <a:pt x="346" y="333"/>
                        </a:lnTo>
                        <a:lnTo>
                          <a:pt x="346" y="328"/>
                        </a:lnTo>
                        <a:lnTo>
                          <a:pt x="349" y="324"/>
                        </a:lnTo>
                        <a:lnTo>
                          <a:pt x="349" y="321"/>
                        </a:lnTo>
                        <a:lnTo>
                          <a:pt x="352" y="317"/>
                        </a:lnTo>
                        <a:lnTo>
                          <a:pt x="352" y="313"/>
                        </a:lnTo>
                        <a:lnTo>
                          <a:pt x="352" y="308"/>
                        </a:lnTo>
                        <a:lnTo>
                          <a:pt x="355" y="305"/>
                        </a:lnTo>
                        <a:lnTo>
                          <a:pt x="355" y="301"/>
                        </a:lnTo>
                        <a:lnTo>
                          <a:pt x="359" y="298"/>
                        </a:lnTo>
                        <a:lnTo>
                          <a:pt x="359" y="292"/>
                        </a:lnTo>
                        <a:lnTo>
                          <a:pt x="362" y="289"/>
                        </a:lnTo>
                        <a:lnTo>
                          <a:pt x="362" y="285"/>
                        </a:lnTo>
                        <a:lnTo>
                          <a:pt x="362" y="282"/>
                        </a:lnTo>
                        <a:lnTo>
                          <a:pt x="365" y="278"/>
                        </a:lnTo>
                        <a:lnTo>
                          <a:pt x="365" y="273"/>
                        </a:lnTo>
                        <a:lnTo>
                          <a:pt x="369" y="269"/>
                        </a:lnTo>
                        <a:lnTo>
                          <a:pt x="369" y="266"/>
                        </a:lnTo>
                        <a:lnTo>
                          <a:pt x="369" y="262"/>
                        </a:lnTo>
                        <a:lnTo>
                          <a:pt x="372" y="259"/>
                        </a:lnTo>
                        <a:lnTo>
                          <a:pt x="372" y="253"/>
                        </a:lnTo>
                        <a:lnTo>
                          <a:pt x="375" y="250"/>
                        </a:lnTo>
                        <a:lnTo>
                          <a:pt x="375" y="246"/>
                        </a:lnTo>
                        <a:lnTo>
                          <a:pt x="379" y="243"/>
                        </a:lnTo>
                        <a:lnTo>
                          <a:pt x="379" y="239"/>
                        </a:lnTo>
                        <a:lnTo>
                          <a:pt x="379" y="236"/>
                        </a:lnTo>
                        <a:lnTo>
                          <a:pt x="382" y="230"/>
                        </a:lnTo>
                        <a:lnTo>
                          <a:pt x="382" y="227"/>
                        </a:lnTo>
                        <a:lnTo>
                          <a:pt x="385" y="223"/>
                        </a:lnTo>
                        <a:lnTo>
                          <a:pt x="385" y="220"/>
                        </a:lnTo>
                        <a:lnTo>
                          <a:pt x="388" y="216"/>
                        </a:lnTo>
                        <a:lnTo>
                          <a:pt x="388" y="213"/>
                        </a:lnTo>
                        <a:lnTo>
                          <a:pt x="388" y="209"/>
                        </a:lnTo>
                        <a:lnTo>
                          <a:pt x="392" y="204"/>
                        </a:lnTo>
                        <a:lnTo>
                          <a:pt x="392" y="201"/>
                        </a:lnTo>
                        <a:lnTo>
                          <a:pt x="395" y="197"/>
                        </a:lnTo>
                        <a:lnTo>
                          <a:pt x="395" y="194"/>
                        </a:lnTo>
                        <a:lnTo>
                          <a:pt x="398" y="190"/>
                        </a:lnTo>
                        <a:lnTo>
                          <a:pt x="398" y="187"/>
                        </a:lnTo>
                        <a:lnTo>
                          <a:pt x="398" y="183"/>
                        </a:lnTo>
                        <a:lnTo>
                          <a:pt x="402" y="179"/>
                        </a:lnTo>
                        <a:lnTo>
                          <a:pt x="402" y="176"/>
                        </a:lnTo>
                        <a:lnTo>
                          <a:pt x="405" y="172"/>
                        </a:lnTo>
                        <a:lnTo>
                          <a:pt x="405" y="169"/>
                        </a:lnTo>
                        <a:lnTo>
                          <a:pt x="405" y="165"/>
                        </a:lnTo>
                        <a:lnTo>
                          <a:pt x="408" y="162"/>
                        </a:lnTo>
                        <a:lnTo>
                          <a:pt x="408" y="158"/>
                        </a:lnTo>
                        <a:lnTo>
                          <a:pt x="412" y="155"/>
                        </a:lnTo>
                        <a:lnTo>
                          <a:pt x="412" y="151"/>
                        </a:lnTo>
                        <a:lnTo>
                          <a:pt x="415" y="149"/>
                        </a:lnTo>
                        <a:lnTo>
                          <a:pt x="415" y="146"/>
                        </a:lnTo>
                        <a:lnTo>
                          <a:pt x="415" y="142"/>
                        </a:lnTo>
                        <a:lnTo>
                          <a:pt x="418" y="139"/>
                        </a:lnTo>
                        <a:lnTo>
                          <a:pt x="418" y="135"/>
                        </a:lnTo>
                        <a:lnTo>
                          <a:pt x="421" y="132"/>
                        </a:lnTo>
                        <a:lnTo>
                          <a:pt x="421" y="130"/>
                        </a:lnTo>
                        <a:lnTo>
                          <a:pt x="425" y="126"/>
                        </a:lnTo>
                        <a:lnTo>
                          <a:pt x="425" y="123"/>
                        </a:lnTo>
                        <a:lnTo>
                          <a:pt x="425" y="119"/>
                        </a:lnTo>
                        <a:lnTo>
                          <a:pt x="428" y="118"/>
                        </a:lnTo>
                        <a:lnTo>
                          <a:pt x="428" y="114"/>
                        </a:lnTo>
                        <a:lnTo>
                          <a:pt x="431" y="111"/>
                        </a:lnTo>
                        <a:lnTo>
                          <a:pt x="431" y="109"/>
                        </a:lnTo>
                        <a:lnTo>
                          <a:pt x="435" y="105"/>
                        </a:lnTo>
                        <a:lnTo>
                          <a:pt x="435" y="102"/>
                        </a:lnTo>
                        <a:lnTo>
                          <a:pt x="435" y="100"/>
                        </a:lnTo>
                        <a:lnTo>
                          <a:pt x="438" y="96"/>
                        </a:lnTo>
                        <a:lnTo>
                          <a:pt x="438" y="93"/>
                        </a:lnTo>
                        <a:lnTo>
                          <a:pt x="441" y="91"/>
                        </a:lnTo>
                        <a:lnTo>
                          <a:pt x="441" y="88"/>
                        </a:lnTo>
                        <a:lnTo>
                          <a:pt x="441" y="86"/>
                        </a:lnTo>
                        <a:lnTo>
                          <a:pt x="445" y="82"/>
                        </a:lnTo>
                        <a:lnTo>
                          <a:pt x="445" y="81"/>
                        </a:lnTo>
                        <a:lnTo>
                          <a:pt x="448" y="79"/>
                        </a:lnTo>
                        <a:lnTo>
                          <a:pt x="448" y="75"/>
                        </a:lnTo>
                        <a:lnTo>
                          <a:pt x="451" y="74"/>
                        </a:lnTo>
                        <a:lnTo>
                          <a:pt x="451" y="70"/>
                        </a:lnTo>
                        <a:lnTo>
                          <a:pt x="451" y="68"/>
                        </a:lnTo>
                        <a:lnTo>
                          <a:pt x="454" y="67"/>
                        </a:lnTo>
                        <a:lnTo>
                          <a:pt x="454" y="63"/>
                        </a:lnTo>
                        <a:lnTo>
                          <a:pt x="458" y="61"/>
                        </a:lnTo>
                        <a:lnTo>
                          <a:pt x="458" y="60"/>
                        </a:lnTo>
                        <a:lnTo>
                          <a:pt x="461" y="58"/>
                        </a:lnTo>
                        <a:lnTo>
                          <a:pt x="461" y="54"/>
                        </a:lnTo>
                        <a:lnTo>
                          <a:pt x="461" y="53"/>
                        </a:lnTo>
                        <a:lnTo>
                          <a:pt x="464" y="51"/>
                        </a:lnTo>
                        <a:lnTo>
                          <a:pt x="464" y="49"/>
                        </a:lnTo>
                        <a:lnTo>
                          <a:pt x="468" y="47"/>
                        </a:lnTo>
                        <a:lnTo>
                          <a:pt x="468" y="45"/>
                        </a:lnTo>
                        <a:lnTo>
                          <a:pt x="471" y="44"/>
                        </a:lnTo>
                        <a:lnTo>
                          <a:pt x="471" y="40"/>
                        </a:lnTo>
                        <a:lnTo>
                          <a:pt x="471" y="38"/>
                        </a:lnTo>
                        <a:lnTo>
                          <a:pt x="474" y="37"/>
                        </a:lnTo>
                        <a:lnTo>
                          <a:pt x="474" y="35"/>
                        </a:lnTo>
                        <a:lnTo>
                          <a:pt x="478" y="35"/>
                        </a:lnTo>
                        <a:lnTo>
                          <a:pt x="478" y="33"/>
                        </a:lnTo>
                        <a:lnTo>
                          <a:pt x="478" y="31"/>
                        </a:lnTo>
                        <a:lnTo>
                          <a:pt x="481" y="30"/>
                        </a:lnTo>
                        <a:lnTo>
                          <a:pt x="481" y="28"/>
                        </a:lnTo>
                        <a:lnTo>
                          <a:pt x="484" y="26"/>
                        </a:lnTo>
                        <a:lnTo>
                          <a:pt x="484" y="24"/>
                        </a:lnTo>
                        <a:lnTo>
                          <a:pt x="487" y="22"/>
                        </a:lnTo>
                        <a:lnTo>
                          <a:pt x="487" y="21"/>
                        </a:lnTo>
                        <a:lnTo>
                          <a:pt x="491" y="19"/>
                        </a:lnTo>
                        <a:lnTo>
                          <a:pt x="494" y="17"/>
                        </a:lnTo>
                        <a:lnTo>
                          <a:pt x="494" y="15"/>
                        </a:lnTo>
                        <a:lnTo>
                          <a:pt x="497" y="15"/>
                        </a:lnTo>
                        <a:lnTo>
                          <a:pt x="497" y="14"/>
                        </a:lnTo>
                        <a:lnTo>
                          <a:pt x="497" y="12"/>
                        </a:lnTo>
                        <a:lnTo>
                          <a:pt x="501" y="12"/>
                        </a:lnTo>
                        <a:lnTo>
                          <a:pt x="501" y="10"/>
                        </a:lnTo>
                        <a:lnTo>
                          <a:pt x="504" y="10"/>
                        </a:lnTo>
                        <a:lnTo>
                          <a:pt x="504" y="8"/>
                        </a:lnTo>
                        <a:lnTo>
                          <a:pt x="507" y="7"/>
                        </a:lnTo>
                        <a:lnTo>
                          <a:pt x="511" y="7"/>
                        </a:lnTo>
                        <a:lnTo>
                          <a:pt x="511" y="5"/>
                        </a:lnTo>
                        <a:lnTo>
                          <a:pt x="514" y="5"/>
                        </a:lnTo>
                        <a:lnTo>
                          <a:pt x="514" y="3"/>
                        </a:lnTo>
                        <a:lnTo>
                          <a:pt x="517" y="3"/>
                        </a:lnTo>
                        <a:lnTo>
                          <a:pt x="520" y="3"/>
                        </a:lnTo>
                        <a:lnTo>
                          <a:pt x="520" y="1"/>
                        </a:lnTo>
                        <a:lnTo>
                          <a:pt x="524" y="1"/>
                        </a:lnTo>
                        <a:lnTo>
                          <a:pt x="527" y="1"/>
                        </a:lnTo>
                        <a:lnTo>
                          <a:pt x="530" y="1"/>
                        </a:lnTo>
                        <a:lnTo>
                          <a:pt x="530" y="0"/>
                        </a:lnTo>
                        <a:lnTo>
                          <a:pt x="533" y="0"/>
                        </a:lnTo>
                        <a:lnTo>
                          <a:pt x="536" y="0"/>
                        </a:lnTo>
                        <a:lnTo>
                          <a:pt x="540" y="0"/>
                        </a:lnTo>
                        <a:lnTo>
                          <a:pt x="540" y="1"/>
                        </a:lnTo>
                        <a:lnTo>
                          <a:pt x="543" y="1"/>
                        </a:lnTo>
                        <a:lnTo>
                          <a:pt x="546" y="1"/>
                        </a:lnTo>
                        <a:lnTo>
                          <a:pt x="550" y="1"/>
                        </a:lnTo>
                        <a:lnTo>
                          <a:pt x="550" y="3"/>
                        </a:lnTo>
                        <a:lnTo>
                          <a:pt x="553" y="3"/>
                        </a:lnTo>
                        <a:lnTo>
                          <a:pt x="556" y="3"/>
                        </a:lnTo>
                        <a:lnTo>
                          <a:pt x="556" y="5"/>
                        </a:lnTo>
                        <a:lnTo>
                          <a:pt x="560" y="5"/>
                        </a:lnTo>
                        <a:lnTo>
                          <a:pt x="560" y="7"/>
                        </a:lnTo>
                        <a:lnTo>
                          <a:pt x="563" y="7"/>
                        </a:lnTo>
                        <a:lnTo>
                          <a:pt x="566" y="8"/>
                        </a:lnTo>
                        <a:lnTo>
                          <a:pt x="569" y="8"/>
                        </a:lnTo>
                        <a:lnTo>
                          <a:pt x="569" y="10"/>
                        </a:lnTo>
                        <a:lnTo>
                          <a:pt x="573" y="12"/>
                        </a:lnTo>
                        <a:lnTo>
                          <a:pt x="576" y="12"/>
                        </a:lnTo>
                        <a:lnTo>
                          <a:pt x="576" y="14"/>
                        </a:lnTo>
                        <a:lnTo>
                          <a:pt x="579" y="15"/>
                        </a:lnTo>
                        <a:lnTo>
                          <a:pt x="583" y="17"/>
                        </a:lnTo>
                        <a:lnTo>
                          <a:pt x="586" y="19"/>
                        </a:lnTo>
                        <a:lnTo>
                          <a:pt x="586" y="21"/>
                        </a:lnTo>
                        <a:lnTo>
                          <a:pt x="589" y="21"/>
                        </a:lnTo>
                        <a:lnTo>
                          <a:pt x="589" y="22"/>
                        </a:lnTo>
                        <a:lnTo>
                          <a:pt x="593" y="22"/>
                        </a:lnTo>
                        <a:lnTo>
                          <a:pt x="593" y="24"/>
                        </a:lnTo>
                        <a:lnTo>
                          <a:pt x="596" y="24"/>
                        </a:lnTo>
                        <a:lnTo>
                          <a:pt x="596" y="26"/>
                        </a:lnTo>
                        <a:lnTo>
                          <a:pt x="596" y="28"/>
                        </a:lnTo>
                        <a:lnTo>
                          <a:pt x="599" y="28"/>
                        </a:lnTo>
                        <a:lnTo>
                          <a:pt x="599" y="30"/>
                        </a:lnTo>
                        <a:lnTo>
                          <a:pt x="602" y="30"/>
                        </a:lnTo>
                        <a:lnTo>
                          <a:pt x="602" y="31"/>
                        </a:lnTo>
                        <a:lnTo>
                          <a:pt x="606" y="31"/>
                        </a:lnTo>
                        <a:lnTo>
                          <a:pt x="606" y="33"/>
                        </a:lnTo>
                        <a:lnTo>
                          <a:pt x="606" y="35"/>
                        </a:lnTo>
                        <a:lnTo>
                          <a:pt x="609" y="35"/>
                        </a:lnTo>
                        <a:lnTo>
                          <a:pt x="609" y="37"/>
                        </a:lnTo>
                        <a:lnTo>
                          <a:pt x="612" y="37"/>
                        </a:lnTo>
                        <a:lnTo>
                          <a:pt x="612" y="38"/>
                        </a:lnTo>
                        <a:lnTo>
                          <a:pt x="612" y="40"/>
                        </a:lnTo>
                        <a:lnTo>
                          <a:pt x="616" y="40"/>
                        </a:lnTo>
                        <a:lnTo>
                          <a:pt x="616" y="42"/>
                        </a:lnTo>
                        <a:lnTo>
                          <a:pt x="619" y="42"/>
                        </a:lnTo>
                        <a:lnTo>
                          <a:pt x="619" y="44"/>
                        </a:lnTo>
                        <a:lnTo>
                          <a:pt x="622" y="45"/>
                        </a:lnTo>
                        <a:lnTo>
                          <a:pt x="622" y="47"/>
                        </a:lnTo>
                        <a:lnTo>
                          <a:pt x="626" y="47"/>
                        </a:lnTo>
                        <a:lnTo>
                          <a:pt x="626" y="49"/>
                        </a:lnTo>
                        <a:lnTo>
                          <a:pt x="629" y="51"/>
                        </a:lnTo>
                        <a:lnTo>
                          <a:pt x="632" y="53"/>
                        </a:lnTo>
                        <a:lnTo>
                          <a:pt x="632" y="54"/>
                        </a:lnTo>
                        <a:lnTo>
                          <a:pt x="635" y="56"/>
                        </a:lnTo>
                        <a:lnTo>
                          <a:pt x="639" y="58"/>
                        </a:lnTo>
                        <a:lnTo>
                          <a:pt x="642" y="60"/>
                        </a:lnTo>
                        <a:lnTo>
                          <a:pt x="642" y="61"/>
                        </a:lnTo>
                        <a:lnTo>
                          <a:pt x="645" y="63"/>
                        </a:lnTo>
                        <a:lnTo>
                          <a:pt x="649" y="65"/>
                        </a:lnTo>
                        <a:lnTo>
                          <a:pt x="649" y="67"/>
                        </a:lnTo>
                        <a:lnTo>
                          <a:pt x="652" y="67"/>
                        </a:lnTo>
                        <a:lnTo>
                          <a:pt x="652" y="68"/>
                        </a:lnTo>
                        <a:lnTo>
                          <a:pt x="655" y="68"/>
                        </a:lnTo>
                        <a:lnTo>
                          <a:pt x="655" y="70"/>
                        </a:lnTo>
                        <a:lnTo>
                          <a:pt x="659" y="70"/>
                        </a:lnTo>
                        <a:lnTo>
                          <a:pt x="659" y="72"/>
                        </a:lnTo>
                        <a:lnTo>
                          <a:pt x="662" y="74"/>
                        </a:lnTo>
                        <a:lnTo>
                          <a:pt x="665" y="74"/>
                        </a:lnTo>
                        <a:lnTo>
                          <a:pt x="665" y="75"/>
                        </a:lnTo>
                        <a:lnTo>
                          <a:pt x="668" y="75"/>
                        </a:lnTo>
                        <a:lnTo>
                          <a:pt x="668" y="77"/>
                        </a:lnTo>
                        <a:lnTo>
                          <a:pt x="672" y="77"/>
                        </a:lnTo>
                        <a:lnTo>
                          <a:pt x="672" y="79"/>
                        </a:lnTo>
                        <a:lnTo>
                          <a:pt x="675" y="79"/>
                        </a:lnTo>
                        <a:lnTo>
                          <a:pt x="678" y="81"/>
                        </a:lnTo>
                        <a:lnTo>
                          <a:pt x="682" y="82"/>
                        </a:lnTo>
                        <a:lnTo>
                          <a:pt x="685" y="82"/>
                        </a:lnTo>
                        <a:lnTo>
                          <a:pt x="685" y="84"/>
                        </a:lnTo>
                        <a:lnTo>
                          <a:pt x="688" y="84"/>
                        </a:lnTo>
                        <a:lnTo>
                          <a:pt x="692" y="86"/>
                        </a:lnTo>
                        <a:lnTo>
                          <a:pt x="695" y="86"/>
                        </a:lnTo>
                        <a:lnTo>
                          <a:pt x="698" y="86"/>
                        </a:lnTo>
                        <a:lnTo>
                          <a:pt x="698" y="88"/>
                        </a:lnTo>
                        <a:lnTo>
                          <a:pt x="701" y="88"/>
                        </a:lnTo>
                        <a:lnTo>
                          <a:pt x="705" y="88"/>
                        </a:lnTo>
                        <a:lnTo>
                          <a:pt x="708" y="88"/>
                        </a:lnTo>
                        <a:lnTo>
                          <a:pt x="711" y="88"/>
                        </a:lnTo>
                        <a:lnTo>
                          <a:pt x="715" y="88"/>
                        </a:lnTo>
                        <a:lnTo>
                          <a:pt x="718" y="88"/>
                        </a:lnTo>
                        <a:lnTo>
                          <a:pt x="721" y="88"/>
                        </a:lnTo>
                        <a:lnTo>
                          <a:pt x="725" y="88"/>
                        </a:lnTo>
                        <a:lnTo>
                          <a:pt x="728" y="88"/>
                        </a:lnTo>
                        <a:lnTo>
                          <a:pt x="728" y="86"/>
                        </a:lnTo>
                        <a:lnTo>
                          <a:pt x="731" y="86"/>
                        </a:lnTo>
                        <a:lnTo>
                          <a:pt x="734" y="86"/>
                        </a:lnTo>
                        <a:lnTo>
                          <a:pt x="738" y="84"/>
                        </a:lnTo>
                        <a:lnTo>
                          <a:pt x="741" y="84"/>
                        </a:lnTo>
                        <a:lnTo>
                          <a:pt x="741" y="82"/>
                        </a:lnTo>
                        <a:lnTo>
                          <a:pt x="744" y="82"/>
                        </a:lnTo>
                        <a:lnTo>
                          <a:pt x="748" y="81"/>
                        </a:lnTo>
                        <a:lnTo>
                          <a:pt x="751" y="79"/>
                        </a:lnTo>
                        <a:lnTo>
                          <a:pt x="754" y="79"/>
                        </a:lnTo>
                        <a:lnTo>
                          <a:pt x="754" y="77"/>
                        </a:lnTo>
                        <a:lnTo>
                          <a:pt x="758" y="77"/>
                        </a:lnTo>
                        <a:lnTo>
                          <a:pt x="758" y="75"/>
                        </a:lnTo>
                        <a:lnTo>
                          <a:pt x="761" y="75"/>
                        </a:lnTo>
                        <a:lnTo>
                          <a:pt x="761" y="74"/>
                        </a:lnTo>
                        <a:lnTo>
                          <a:pt x="764" y="74"/>
                        </a:lnTo>
                        <a:lnTo>
                          <a:pt x="767" y="72"/>
                        </a:lnTo>
                        <a:lnTo>
                          <a:pt x="767" y="70"/>
                        </a:lnTo>
                        <a:lnTo>
                          <a:pt x="771" y="70"/>
                        </a:lnTo>
                        <a:lnTo>
                          <a:pt x="771" y="68"/>
                        </a:lnTo>
                        <a:lnTo>
                          <a:pt x="774" y="68"/>
                        </a:lnTo>
                        <a:lnTo>
                          <a:pt x="774" y="67"/>
                        </a:lnTo>
                        <a:lnTo>
                          <a:pt x="777" y="67"/>
                        </a:lnTo>
                        <a:lnTo>
                          <a:pt x="777" y="65"/>
                        </a:lnTo>
                        <a:lnTo>
                          <a:pt x="781" y="63"/>
                        </a:lnTo>
                        <a:lnTo>
                          <a:pt x="784" y="61"/>
                        </a:lnTo>
                        <a:lnTo>
                          <a:pt x="784" y="60"/>
                        </a:lnTo>
                        <a:lnTo>
                          <a:pt x="787" y="58"/>
                        </a:lnTo>
                        <a:lnTo>
                          <a:pt x="791" y="56"/>
                        </a:lnTo>
                        <a:lnTo>
                          <a:pt x="794" y="54"/>
                        </a:lnTo>
                        <a:lnTo>
                          <a:pt x="794" y="53"/>
                        </a:lnTo>
                        <a:lnTo>
                          <a:pt x="797" y="51"/>
                        </a:lnTo>
                        <a:lnTo>
                          <a:pt x="800" y="49"/>
                        </a:lnTo>
                        <a:lnTo>
                          <a:pt x="800" y="47"/>
                        </a:lnTo>
                        <a:lnTo>
                          <a:pt x="804" y="47"/>
                        </a:lnTo>
                        <a:lnTo>
                          <a:pt x="804" y="45"/>
                        </a:lnTo>
                        <a:lnTo>
                          <a:pt x="807" y="44"/>
                        </a:lnTo>
                        <a:lnTo>
                          <a:pt x="807" y="42"/>
                        </a:lnTo>
                        <a:lnTo>
                          <a:pt x="810" y="42"/>
                        </a:lnTo>
                        <a:lnTo>
                          <a:pt x="810" y="40"/>
                        </a:lnTo>
                        <a:lnTo>
                          <a:pt x="814" y="40"/>
                        </a:lnTo>
                        <a:lnTo>
                          <a:pt x="814" y="38"/>
                        </a:lnTo>
                        <a:lnTo>
                          <a:pt x="814" y="37"/>
                        </a:lnTo>
                        <a:lnTo>
                          <a:pt x="817" y="37"/>
                        </a:lnTo>
                        <a:lnTo>
                          <a:pt x="817" y="35"/>
                        </a:lnTo>
                        <a:lnTo>
                          <a:pt x="820" y="35"/>
                        </a:lnTo>
                        <a:lnTo>
                          <a:pt x="820" y="33"/>
                        </a:lnTo>
                        <a:lnTo>
                          <a:pt x="820" y="31"/>
                        </a:lnTo>
                        <a:lnTo>
                          <a:pt x="824" y="31"/>
                        </a:lnTo>
                        <a:lnTo>
                          <a:pt x="824" y="30"/>
                        </a:lnTo>
                        <a:lnTo>
                          <a:pt x="827" y="30"/>
                        </a:lnTo>
                        <a:lnTo>
                          <a:pt x="827" y="28"/>
                        </a:lnTo>
                        <a:lnTo>
                          <a:pt x="830" y="28"/>
                        </a:lnTo>
                        <a:lnTo>
                          <a:pt x="830" y="26"/>
                        </a:lnTo>
                        <a:lnTo>
                          <a:pt x="830" y="24"/>
                        </a:lnTo>
                        <a:lnTo>
                          <a:pt x="833" y="24"/>
                        </a:lnTo>
                        <a:lnTo>
                          <a:pt x="833" y="22"/>
                        </a:lnTo>
                        <a:lnTo>
                          <a:pt x="837" y="22"/>
                        </a:lnTo>
                        <a:lnTo>
                          <a:pt x="837" y="21"/>
                        </a:lnTo>
                        <a:lnTo>
                          <a:pt x="840" y="21"/>
                        </a:lnTo>
                        <a:lnTo>
                          <a:pt x="840" y="19"/>
                        </a:lnTo>
                        <a:lnTo>
                          <a:pt x="843" y="17"/>
                        </a:lnTo>
                        <a:lnTo>
                          <a:pt x="846" y="15"/>
                        </a:lnTo>
                        <a:lnTo>
                          <a:pt x="849" y="14"/>
                        </a:lnTo>
                        <a:lnTo>
                          <a:pt x="849" y="12"/>
                        </a:lnTo>
                        <a:lnTo>
                          <a:pt x="853" y="12"/>
                        </a:lnTo>
                        <a:lnTo>
                          <a:pt x="856" y="10"/>
                        </a:lnTo>
                        <a:lnTo>
                          <a:pt x="856" y="8"/>
                        </a:lnTo>
                        <a:lnTo>
                          <a:pt x="859" y="8"/>
                        </a:lnTo>
                        <a:lnTo>
                          <a:pt x="863" y="7"/>
                        </a:lnTo>
                        <a:lnTo>
                          <a:pt x="866" y="7"/>
                        </a:lnTo>
                        <a:lnTo>
                          <a:pt x="866" y="5"/>
                        </a:lnTo>
                        <a:lnTo>
                          <a:pt x="869" y="5"/>
                        </a:lnTo>
                        <a:lnTo>
                          <a:pt x="869" y="3"/>
                        </a:lnTo>
                        <a:lnTo>
                          <a:pt x="873" y="3"/>
                        </a:lnTo>
                        <a:lnTo>
                          <a:pt x="876" y="3"/>
                        </a:lnTo>
                        <a:lnTo>
                          <a:pt x="876" y="1"/>
                        </a:lnTo>
                        <a:lnTo>
                          <a:pt x="879" y="1"/>
                        </a:lnTo>
                        <a:lnTo>
                          <a:pt x="882" y="1"/>
                        </a:lnTo>
                        <a:lnTo>
                          <a:pt x="886" y="1"/>
                        </a:lnTo>
                        <a:lnTo>
                          <a:pt x="886" y="0"/>
                        </a:lnTo>
                        <a:lnTo>
                          <a:pt x="889" y="0"/>
                        </a:lnTo>
                        <a:lnTo>
                          <a:pt x="892" y="0"/>
                        </a:lnTo>
                        <a:lnTo>
                          <a:pt x="896" y="0"/>
                        </a:lnTo>
                        <a:lnTo>
                          <a:pt x="896" y="1"/>
                        </a:lnTo>
                        <a:lnTo>
                          <a:pt x="899" y="1"/>
                        </a:lnTo>
                        <a:lnTo>
                          <a:pt x="902" y="1"/>
                        </a:lnTo>
                        <a:lnTo>
                          <a:pt x="906" y="1"/>
                        </a:lnTo>
                        <a:lnTo>
                          <a:pt x="906" y="3"/>
                        </a:lnTo>
                        <a:lnTo>
                          <a:pt x="909" y="3"/>
                        </a:lnTo>
                        <a:lnTo>
                          <a:pt x="912" y="3"/>
                        </a:lnTo>
                        <a:lnTo>
                          <a:pt x="912" y="5"/>
                        </a:lnTo>
                        <a:lnTo>
                          <a:pt x="915" y="5"/>
                        </a:lnTo>
                        <a:lnTo>
                          <a:pt x="915" y="7"/>
                        </a:lnTo>
                        <a:lnTo>
                          <a:pt x="919" y="7"/>
                        </a:lnTo>
                        <a:lnTo>
                          <a:pt x="922" y="8"/>
                        </a:lnTo>
                        <a:lnTo>
                          <a:pt x="922" y="10"/>
                        </a:lnTo>
                        <a:lnTo>
                          <a:pt x="925" y="10"/>
                        </a:lnTo>
                        <a:lnTo>
                          <a:pt x="925" y="12"/>
                        </a:lnTo>
                        <a:lnTo>
                          <a:pt x="929" y="12"/>
                        </a:lnTo>
                        <a:lnTo>
                          <a:pt x="929" y="14"/>
                        </a:lnTo>
                        <a:lnTo>
                          <a:pt x="929" y="15"/>
                        </a:lnTo>
                        <a:lnTo>
                          <a:pt x="932" y="15"/>
                        </a:lnTo>
                        <a:lnTo>
                          <a:pt x="932" y="17"/>
                        </a:lnTo>
                        <a:lnTo>
                          <a:pt x="935" y="19"/>
                        </a:lnTo>
                        <a:lnTo>
                          <a:pt x="939" y="21"/>
                        </a:lnTo>
                        <a:lnTo>
                          <a:pt x="939" y="22"/>
                        </a:lnTo>
                        <a:lnTo>
                          <a:pt x="942" y="24"/>
                        </a:lnTo>
                        <a:lnTo>
                          <a:pt x="942" y="26"/>
                        </a:lnTo>
                        <a:lnTo>
                          <a:pt x="945" y="28"/>
                        </a:lnTo>
                        <a:lnTo>
                          <a:pt x="945" y="30"/>
                        </a:lnTo>
                        <a:lnTo>
                          <a:pt x="948" y="31"/>
                        </a:lnTo>
                        <a:lnTo>
                          <a:pt x="948" y="33"/>
                        </a:lnTo>
                        <a:lnTo>
                          <a:pt x="948" y="35"/>
                        </a:lnTo>
                        <a:lnTo>
                          <a:pt x="952" y="35"/>
                        </a:lnTo>
                        <a:lnTo>
                          <a:pt x="952" y="37"/>
                        </a:lnTo>
                        <a:lnTo>
                          <a:pt x="955" y="38"/>
                        </a:lnTo>
                        <a:lnTo>
                          <a:pt x="955" y="40"/>
                        </a:lnTo>
                        <a:lnTo>
                          <a:pt x="955" y="44"/>
                        </a:lnTo>
                        <a:lnTo>
                          <a:pt x="958" y="45"/>
                        </a:lnTo>
                        <a:lnTo>
                          <a:pt x="958" y="47"/>
                        </a:lnTo>
                        <a:lnTo>
                          <a:pt x="962" y="49"/>
                        </a:lnTo>
                        <a:lnTo>
                          <a:pt x="962" y="51"/>
                        </a:lnTo>
                        <a:lnTo>
                          <a:pt x="965" y="53"/>
                        </a:lnTo>
                        <a:lnTo>
                          <a:pt x="965" y="54"/>
                        </a:lnTo>
                        <a:lnTo>
                          <a:pt x="965" y="58"/>
                        </a:lnTo>
                        <a:lnTo>
                          <a:pt x="968" y="60"/>
                        </a:lnTo>
                        <a:lnTo>
                          <a:pt x="968" y="61"/>
                        </a:lnTo>
                        <a:lnTo>
                          <a:pt x="972" y="63"/>
                        </a:lnTo>
                        <a:lnTo>
                          <a:pt x="972" y="67"/>
                        </a:lnTo>
                        <a:lnTo>
                          <a:pt x="975" y="68"/>
                        </a:lnTo>
                        <a:lnTo>
                          <a:pt x="975" y="70"/>
                        </a:lnTo>
                        <a:lnTo>
                          <a:pt x="975" y="74"/>
                        </a:lnTo>
                        <a:lnTo>
                          <a:pt x="978" y="75"/>
                        </a:lnTo>
                        <a:lnTo>
                          <a:pt x="978" y="79"/>
                        </a:lnTo>
                        <a:lnTo>
                          <a:pt x="981" y="81"/>
                        </a:lnTo>
                        <a:lnTo>
                          <a:pt x="981" y="82"/>
                        </a:lnTo>
                        <a:lnTo>
                          <a:pt x="985" y="86"/>
                        </a:lnTo>
                        <a:lnTo>
                          <a:pt x="985" y="88"/>
                        </a:lnTo>
                        <a:lnTo>
                          <a:pt x="985" y="91"/>
                        </a:lnTo>
                        <a:lnTo>
                          <a:pt x="988" y="93"/>
                        </a:lnTo>
                        <a:lnTo>
                          <a:pt x="988" y="96"/>
                        </a:lnTo>
                        <a:lnTo>
                          <a:pt x="991" y="100"/>
                        </a:lnTo>
                        <a:lnTo>
                          <a:pt x="991" y="102"/>
                        </a:lnTo>
                        <a:lnTo>
                          <a:pt x="991" y="105"/>
                        </a:lnTo>
                        <a:lnTo>
                          <a:pt x="995" y="109"/>
                        </a:lnTo>
                        <a:lnTo>
                          <a:pt x="995" y="111"/>
                        </a:lnTo>
                        <a:lnTo>
                          <a:pt x="998" y="114"/>
                        </a:lnTo>
                        <a:lnTo>
                          <a:pt x="998" y="118"/>
                        </a:lnTo>
                        <a:lnTo>
                          <a:pt x="1001" y="119"/>
                        </a:lnTo>
                        <a:lnTo>
                          <a:pt x="1001" y="123"/>
                        </a:lnTo>
                        <a:lnTo>
                          <a:pt x="1001" y="126"/>
                        </a:lnTo>
                        <a:lnTo>
                          <a:pt x="1005" y="130"/>
                        </a:lnTo>
                        <a:lnTo>
                          <a:pt x="1005" y="132"/>
                        </a:lnTo>
                        <a:lnTo>
                          <a:pt x="1008" y="135"/>
                        </a:lnTo>
                        <a:lnTo>
                          <a:pt x="1008" y="139"/>
                        </a:lnTo>
                        <a:lnTo>
                          <a:pt x="1011" y="142"/>
                        </a:lnTo>
                        <a:lnTo>
                          <a:pt x="1011" y="146"/>
                        </a:lnTo>
                        <a:lnTo>
                          <a:pt x="1011" y="149"/>
                        </a:lnTo>
                        <a:lnTo>
                          <a:pt x="1014" y="151"/>
                        </a:lnTo>
                        <a:lnTo>
                          <a:pt x="1014" y="155"/>
                        </a:lnTo>
                        <a:lnTo>
                          <a:pt x="1018" y="158"/>
                        </a:lnTo>
                        <a:lnTo>
                          <a:pt x="1018" y="162"/>
                        </a:lnTo>
                        <a:lnTo>
                          <a:pt x="1021" y="165"/>
                        </a:lnTo>
                        <a:lnTo>
                          <a:pt x="1021" y="169"/>
                        </a:lnTo>
                        <a:lnTo>
                          <a:pt x="1021" y="172"/>
                        </a:lnTo>
                        <a:lnTo>
                          <a:pt x="1024" y="176"/>
                        </a:lnTo>
                        <a:lnTo>
                          <a:pt x="1024" y="179"/>
                        </a:lnTo>
                        <a:lnTo>
                          <a:pt x="1028" y="183"/>
                        </a:lnTo>
                        <a:lnTo>
                          <a:pt x="1028" y="187"/>
                        </a:lnTo>
                        <a:lnTo>
                          <a:pt x="1028" y="190"/>
                        </a:lnTo>
                        <a:lnTo>
                          <a:pt x="1031" y="194"/>
                        </a:lnTo>
                        <a:lnTo>
                          <a:pt x="1031" y="197"/>
                        </a:lnTo>
                        <a:lnTo>
                          <a:pt x="1034" y="201"/>
                        </a:lnTo>
                        <a:lnTo>
                          <a:pt x="1034" y="204"/>
                        </a:lnTo>
                        <a:lnTo>
                          <a:pt x="1038" y="209"/>
                        </a:lnTo>
                        <a:lnTo>
                          <a:pt x="1038" y="213"/>
                        </a:lnTo>
                        <a:lnTo>
                          <a:pt x="1038" y="216"/>
                        </a:lnTo>
                        <a:lnTo>
                          <a:pt x="1041" y="220"/>
                        </a:lnTo>
                        <a:lnTo>
                          <a:pt x="1041" y="223"/>
                        </a:lnTo>
                        <a:lnTo>
                          <a:pt x="1044" y="227"/>
                        </a:lnTo>
                        <a:lnTo>
                          <a:pt x="1044" y="230"/>
                        </a:lnTo>
                        <a:lnTo>
                          <a:pt x="1047" y="236"/>
                        </a:lnTo>
                        <a:lnTo>
                          <a:pt x="1047" y="239"/>
                        </a:lnTo>
                        <a:lnTo>
                          <a:pt x="1047" y="243"/>
                        </a:lnTo>
                        <a:lnTo>
                          <a:pt x="1051" y="246"/>
                        </a:lnTo>
                        <a:lnTo>
                          <a:pt x="1051" y="250"/>
                        </a:lnTo>
                        <a:lnTo>
                          <a:pt x="1054" y="253"/>
                        </a:lnTo>
                        <a:lnTo>
                          <a:pt x="1054" y="259"/>
                        </a:lnTo>
                        <a:lnTo>
                          <a:pt x="1057" y="262"/>
                        </a:lnTo>
                        <a:lnTo>
                          <a:pt x="1057" y="266"/>
                        </a:lnTo>
                        <a:lnTo>
                          <a:pt x="1057" y="269"/>
                        </a:lnTo>
                        <a:lnTo>
                          <a:pt x="1061" y="273"/>
                        </a:lnTo>
                        <a:lnTo>
                          <a:pt x="1061" y="278"/>
                        </a:lnTo>
                        <a:lnTo>
                          <a:pt x="1064" y="282"/>
                        </a:lnTo>
                        <a:lnTo>
                          <a:pt x="1064" y="285"/>
                        </a:lnTo>
                        <a:lnTo>
                          <a:pt x="1064" y="289"/>
                        </a:lnTo>
                        <a:lnTo>
                          <a:pt x="1067" y="292"/>
                        </a:lnTo>
                        <a:lnTo>
                          <a:pt x="1067" y="298"/>
                        </a:lnTo>
                        <a:lnTo>
                          <a:pt x="1071" y="301"/>
                        </a:lnTo>
                        <a:lnTo>
                          <a:pt x="1071" y="305"/>
                        </a:lnTo>
                        <a:lnTo>
                          <a:pt x="1074" y="308"/>
                        </a:lnTo>
                        <a:lnTo>
                          <a:pt x="1074" y="313"/>
                        </a:lnTo>
                        <a:lnTo>
                          <a:pt x="1074" y="317"/>
                        </a:lnTo>
                        <a:lnTo>
                          <a:pt x="1077" y="321"/>
                        </a:lnTo>
                        <a:lnTo>
                          <a:pt x="1077" y="324"/>
                        </a:lnTo>
                        <a:lnTo>
                          <a:pt x="1080" y="328"/>
                        </a:lnTo>
                        <a:lnTo>
                          <a:pt x="1080" y="333"/>
                        </a:lnTo>
                        <a:lnTo>
                          <a:pt x="1084" y="336"/>
                        </a:lnTo>
                        <a:lnTo>
                          <a:pt x="1084" y="340"/>
                        </a:lnTo>
                        <a:lnTo>
                          <a:pt x="1084" y="343"/>
                        </a:lnTo>
                        <a:lnTo>
                          <a:pt x="1087" y="347"/>
                        </a:lnTo>
                        <a:lnTo>
                          <a:pt x="1087" y="352"/>
                        </a:lnTo>
                        <a:lnTo>
                          <a:pt x="1090" y="356"/>
                        </a:lnTo>
                        <a:lnTo>
                          <a:pt x="1090" y="359"/>
                        </a:lnTo>
                        <a:lnTo>
                          <a:pt x="1094" y="363"/>
                        </a:lnTo>
                        <a:lnTo>
                          <a:pt x="1094" y="366"/>
                        </a:lnTo>
                        <a:lnTo>
                          <a:pt x="1094" y="370"/>
                        </a:lnTo>
                        <a:lnTo>
                          <a:pt x="1097" y="375"/>
                        </a:lnTo>
                        <a:lnTo>
                          <a:pt x="1097" y="379"/>
                        </a:lnTo>
                        <a:lnTo>
                          <a:pt x="1100" y="382"/>
                        </a:lnTo>
                        <a:lnTo>
                          <a:pt x="1100" y="386"/>
                        </a:lnTo>
                        <a:lnTo>
                          <a:pt x="1100" y="389"/>
                        </a:lnTo>
                        <a:lnTo>
                          <a:pt x="1104" y="393"/>
                        </a:lnTo>
                        <a:lnTo>
                          <a:pt x="1104" y="396"/>
                        </a:lnTo>
                        <a:lnTo>
                          <a:pt x="1107" y="400"/>
                        </a:lnTo>
                        <a:lnTo>
                          <a:pt x="1107" y="405"/>
                        </a:lnTo>
                        <a:lnTo>
                          <a:pt x="1110" y="409"/>
                        </a:lnTo>
                        <a:lnTo>
                          <a:pt x="1110" y="412"/>
                        </a:lnTo>
                        <a:lnTo>
                          <a:pt x="1110" y="416"/>
                        </a:lnTo>
                        <a:lnTo>
                          <a:pt x="1113" y="419"/>
                        </a:lnTo>
                        <a:lnTo>
                          <a:pt x="1113" y="423"/>
                        </a:lnTo>
                        <a:lnTo>
                          <a:pt x="1117" y="426"/>
                        </a:lnTo>
                        <a:lnTo>
                          <a:pt x="1117" y="430"/>
                        </a:lnTo>
                        <a:lnTo>
                          <a:pt x="1120" y="433"/>
                        </a:lnTo>
                        <a:lnTo>
                          <a:pt x="1120" y="437"/>
                        </a:lnTo>
                        <a:lnTo>
                          <a:pt x="1120" y="440"/>
                        </a:lnTo>
                        <a:lnTo>
                          <a:pt x="1123" y="444"/>
                        </a:lnTo>
                        <a:lnTo>
                          <a:pt x="1123" y="446"/>
                        </a:lnTo>
                        <a:lnTo>
                          <a:pt x="1127" y="449"/>
                        </a:lnTo>
                        <a:lnTo>
                          <a:pt x="1127" y="453"/>
                        </a:lnTo>
                        <a:lnTo>
                          <a:pt x="1130" y="456"/>
                        </a:lnTo>
                        <a:lnTo>
                          <a:pt x="1130" y="460"/>
                        </a:lnTo>
                        <a:lnTo>
                          <a:pt x="1130" y="463"/>
                        </a:lnTo>
                        <a:lnTo>
                          <a:pt x="1133" y="467"/>
                        </a:lnTo>
                        <a:lnTo>
                          <a:pt x="1133" y="468"/>
                        </a:lnTo>
                        <a:lnTo>
                          <a:pt x="1137" y="472"/>
                        </a:lnTo>
                        <a:lnTo>
                          <a:pt x="1137" y="476"/>
                        </a:lnTo>
                        <a:lnTo>
                          <a:pt x="1137" y="479"/>
                        </a:lnTo>
                        <a:lnTo>
                          <a:pt x="1140" y="483"/>
                        </a:lnTo>
                        <a:lnTo>
                          <a:pt x="1140" y="484"/>
                        </a:lnTo>
                        <a:lnTo>
                          <a:pt x="1143" y="488"/>
                        </a:lnTo>
                        <a:lnTo>
                          <a:pt x="1143" y="491"/>
                        </a:lnTo>
                        <a:lnTo>
                          <a:pt x="1146" y="493"/>
                        </a:lnTo>
                        <a:lnTo>
                          <a:pt x="1146" y="497"/>
                        </a:lnTo>
                        <a:lnTo>
                          <a:pt x="1146" y="500"/>
                        </a:lnTo>
                        <a:lnTo>
                          <a:pt x="1149" y="502"/>
                        </a:lnTo>
                        <a:lnTo>
                          <a:pt x="1149" y="506"/>
                        </a:lnTo>
                        <a:lnTo>
                          <a:pt x="1153" y="507"/>
                        </a:lnTo>
                        <a:lnTo>
                          <a:pt x="1153" y="511"/>
                        </a:lnTo>
                        <a:lnTo>
                          <a:pt x="1156" y="513"/>
                        </a:lnTo>
                        <a:lnTo>
                          <a:pt x="1156" y="516"/>
                        </a:lnTo>
                        <a:lnTo>
                          <a:pt x="1156" y="518"/>
                        </a:lnTo>
                        <a:lnTo>
                          <a:pt x="1159" y="521"/>
                        </a:lnTo>
                        <a:lnTo>
                          <a:pt x="1159" y="523"/>
                        </a:lnTo>
                        <a:lnTo>
                          <a:pt x="1162" y="527"/>
                        </a:lnTo>
                        <a:lnTo>
                          <a:pt x="1162" y="529"/>
                        </a:lnTo>
                        <a:lnTo>
                          <a:pt x="1166" y="530"/>
                        </a:lnTo>
                        <a:lnTo>
                          <a:pt x="1166" y="534"/>
                        </a:lnTo>
                        <a:lnTo>
                          <a:pt x="1166" y="536"/>
                        </a:lnTo>
                        <a:lnTo>
                          <a:pt x="1169" y="537"/>
                        </a:lnTo>
                        <a:lnTo>
                          <a:pt x="1169" y="541"/>
                        </a:lnTo>
                        <a:lnTo>
                          <a:pt x="1172" y="543"/>
                        </a:lnTo>
                        <a:lnTo>
                          <a:pt x="1172" y="544"/>
                        </a:lnTo>
                        <a:lnTo>
                          <a:pt x="1172" y="546"/>
                        </a:lnTo>
                        <a:lnTo>
                          <a:pt x="1176" y="550"/>
                        </a:lnTo>
                        <a:lnTo>
                          <a:pt x="1176" y="552"/>
                        </a:lnTo>
                        <a:lnTo>
                          <a:pt x="1179" y="550"/>
                        </a:lnTo>
                        <a:lnTo>
                          <a:pt x="1179" y="548"/>
                        </a:lnTo>
                        <a:lnTo>
                          <a:pt x="1182" y="546"/>
                        </a:lnTo>
                        <a:lnTo>
                          <a:pt x="1182" y="544"/>
                        </a:lnTo>
                        <a:lnTo>
                          <a:pt x="1182" y="543"/>
                        </a:lnTo>
                        <a:lnTo>
                          <a:pt x="1186" y="541"/>
                        </a:lnTo>
                        <a:lnTo>
                          <a:pt x="1186" y="539"/>
                        </a:lnTo>
                        <a:lnTo>
                          <a:pt x="1189" y="537"/>
                        </a:lnTo>
                        <a:lnTo>
                          <a:pt x="1189" y="536"/>
                        </a:lnTo>
                        <a:lnTo>
                          <a:pt x="1192" y="534"/>
                        </a:lnTo>
                        <a:lnTo>
                          <a:pt x="1192" y="532"/>
                        </a:lnTo>
                        <a:lnTo>
                          <a:pt x="1192" y="530"/>
                        </a:lnTo>
                        <a:lnTo>
                          <a:pt x="1195" y="529"/>
                        </a:lnTo>
                        <a:lnTo>
                          <a:pt x="1195" y="527"/>
                        </a:lnTo>
                        <a:lnTo>
                          <a:pt x="1199" y="525"/>
                        </a:lnTo>
                        <a:lnTo>
                          <a:pt x="1199" y="523"/>
                        </a:lnTo>
                        <a:lnTo>
                          <a:pt x="1202" y="521"/>
                        </a:lnTo>
                        <a:lnTo>
                          <a:pt x="1202" y="520"/>
                        </a:lnTo>
                        <a:lnTo>
                          <a:pt x="1205" y="520"/>
                        </a:lnTo>
                        <a:lnTo>
                          <a:pt x="1205" y="518"/>
                        </a:lnTo>
                        <a:lnTo>
                          <a:pt x="1209" y="516"/>
                        </a:lnTo>
                        <a:lnTo>
                          <a:pt x="1209" y="514"/>
                        </a:lnTo>
                        <a:lnTo>
                          <a:pt x="1212" y="514"/>
                        </a:lnTo>
                        <a:lnTo>
                          <a:pt x="1212" y="513"/>
                        </a:lnTo>
                        <a:lnTo>
                          <a:pt x="1215" y="513"/>
                        </a:lnTo>
                        <a:lnTo>
                          <a:pt x="1215" y="511"/>
                        </a:lnTo>
                        <a:lnTo>
                          <a:pt x="1219" y="511"/>
                        </a:lnTo>
                        <a:lnTo>
                          <a:pt x="1219" y="509"/>
                        </a:lnTo>
                        <a:lnTo>
                          <a:pt x="1222" y="507"/>
                        </a:lnTo>
                        <a:lnTo>
                          <a:pt x="1225" y="506"/>
                        </a:lnTo>
                        <a:lnTo>
                          <a:pt x="1228" y="506"/>
                        </a:lnTo>
                        <a:lnTo>
                          <a:pt x="1228" y="504"/>
                        </a:lnTo>
                        <a:lnTo>
                          <a:pt x="1232" y="504"/>
                        </a:lnTo>
                        <a:lnTo>
                          <a:pt x="1235" y="504"/>
                        </a:lnTo>
                        <a:lnTo>
                          <a:pt x="1235" y="502"/>
                        </a:lnTo>
                        <a:lnTo>
                          <a:pt x="1238" y="502"/>
                        </a:lnTo>
                        <a:lnTo>
                          <a:pt x="1242" y="502"/>
                        </a:lnTo>
                        <a:lnTo>
                          <a:pt x="1245" y="502"/>
                        </a:lnTo>
                        <a:lnTo>
                          <a:pt x="1248" y="502"/>
                        </a:lnTo>
                        <a:lnTo>
                          <a:pt x="1252" y="502"/>
                        </a:lnTo>
                        <a:lnTo>
                          <a:pt x="1255" y="502"/>
                        </a:lnTo>
                        <a:lnTo>
                          <a:pt x="1258" y="502"/>
                        </a:lnTo>
                        <a:lnTo>
                          <a:pt x="1261" y="502"/>
                        </a:lnTo>
                        <a:lnTo>
                          <a:pt x="1265" y="504"/>
                        </a:lnTo>
                        <a:lnTo>
                          <a:pt x="1268" y="504"/>
                        </a:lnTo>
                        <a:lnTo>
                          <a:pt x="1268" y="506"/>
                        </a:lnTo>
                        <a:lnTo>
                          <a:pt x="1271" y="506"/>
                        </a:lnTo>
                        <a:lnTo>
                          <a:pt x="1275" y="507"/>
                        </a:lnTo>
                        <a:lnTo>
                          <a:pt x="1278" y="507"/>
                        </a:lnTo>
                        <a:lnTo>
                          <a:pt x="1278" y="509"/>
                        </a:lnTo>
                        <a:lnTo>
                          <a:pt x="1281" y="509"/>
                        </a:lnTo>
                        <a:lnTo>
                          <a:pt x="1281" y="511"/>
                        </a:lnTo>
                        <a:lnTo>
                          <a:pt x="1285" y="511"/>
                        </a:lnTo>
                        <a:lnTo>
                          <a:pt x="1285" y="513"/>
                        </a:lnTo>
                        <a:lnTo>
                          <a:pt x="1288" y="513"/>
                        </a:lnTo>
                        <a:lnTo>
                          <a:pt x="1288" y="514"/>
                        </a:lnTo>
                        <a:lnTo>
                          <a:pt x="1291" y="514"/>
                        </a:lnTo>
                        <a:lnTo>
                          <a:pt x="1291" y="516"/>
                        </a:lnTo>
                        <a:lnTo>
                          <a:pt x="1294" y="516"/>
                        </a:lnTo>
                        <a:lnTo>
                          <a:pt x="1294" y="518"/>
                        </a:lnTo>
                        <a:lnTo>
                          <a:pt x="1298" y="518"/>
                        </a:lnTo>
                        <a:lnTo>
                          <a:pt x="1298" y="520"/>
                        </a:lnTo>
                        <a:lnTo>
                          <a:pt x="1301" y="520"/>
                        </a:lnTo>
                        <a:lnTo>
                          <a:pt x="1301" y="521"/>
                        </a:lnTo>
                        <a:lnTo>
                          <a:pt x="1304" y="523"/>
                        </a:lnTo>
                        <a:lnTo>
                          <a:pt x="1308" y="525"/>
                        </a:lnTo>
                        <a:lnTo>
                          <a:pt x="1308" y="527"/>
                        </a:lnTo>
                        <a:lnTo>
                          <a:pt x="1311" y="529"/>
                        </a:lnTo>
                        <a:lnTo>
                          <a:pt x="1314" y="530"/>
                        </a:lnTo>
                        <a:lnTo>
                          <a:pt x="1318" y="532"/>
                        </a:lnTo>
                        <a:lnTo>
                          <a:pt x="1318" y="534"/>
                        </a:lnTo>
                        <a:lnTo>
                          <a:pt x="1321" y="536"/>
                        </a:lnTo>
                        <a:lnTo>
                          <a:pt x="1324" y="537"/>
                        </a:lnTo>
                        <a:lnTo>
                          <a:pt x="1324" y="539"/>
                        </a:lnTo>
                        <a:lnTo>
                          <a:pt x="1327" y="539"/>
                        </a:lnTo>
                        <a:lnTo>
                          <a:pt x="1327" y="541"/>
                        </a:lnTo>
                        <a:lnTo>
                          <a:pt x="1331" y="543"/>
                        </a:lnTo>
                        <a:lnTo>
                          <a:pt x="1331" y="544"/>
                        </a:lnTo>
                        <a:lnTo>
                          <a:pt x="1334" y="544"/>
                        </a:lnTo>
                        <a:lnTo>
                          <a:pt x="1334" y="546"/>
                        </a:lnTo>
                        <a:lnTo>
                          <a:pt x="1337" y="546"/>
                        </a:lnTo>
                        <a:lnTo>
                          <a:pt x="1337" y="548"/>
                        </a:lnTo>
                        <a:lnTo>
                          <a:pt x="1337" y="550"/>
                        </a:lnTo>
                        <a:lnTo>
                          <a:pt x="1341" y="550"/>
                        </a:lnTo>
                        <a:lnTo>
                          <a:pt x="1341" y="552"/>
                        </a:lnTo>
                        <a:lnTo>
                          <a:pt x="1344" y="552"/>
                        </a:lnTo>
                        <a:lnTo>
                          <a:pt x="1344" y="550"/>
                        </a:lnTo>
                        <a:lnTo>
                          <a:pt x="1344" y="548"/>
                        </a:lnTo>
                        <a:lnTo>
                          <a:pt x="1347" y="548"/>
                        </a:lnTo>
                        <a:lnTo>
                          <a:pt x="1347" y="546"/>
                        </a:lnTo>
                        <a:lnTo>
                          <a:pt x="1351" y="546"/>
                        </a:lnTo>
                        <a:lnTo>
                          <a:pt x="1351" y="544"/>
                        </a:lnTo>
                        <a:lnTo>
                          <a:pt x="1354" y="544"/>
                        </a:lnTo>
                        <a:lnTo>
                          <a:pt x="1354" y="543"/>
                        </a:lnTo>
                        <a:lnTo>
                          <a:pt x="1354" y="541"/>
                        </a:lnTo>
                        <a:lnTo>
                          <a:pt x="1357" y="541"/>
                        </a:lnTo>
                        <a:lnTo>
                          <a:pt x="1357" y="539"/>
                        </a:lnTo>
                        <a:lnTo>
                          <a:pt x="1360" y="539"/>
                        </a:lnTo>
                        <a:lnTo>
                          <a:pt x="1360" y="537"/>
                        </a:lnTo>
                        <a:lnTo>
                          <a:pt x="1364" y="537"/>
                        </a:lnTo>
                        <a:lnTo>
                          <a:pt x="1364" y="536"/>
                        </a:lnTo>
                        <a:lnTo>
                          <a:pt x="1367" y="534"/>
                        </a:lnTo>
                        <a:lnTo>
                          <a:pt x="1370" y="532"/>
                        </a:lnTo>
                        <a:lnTo>
                          <a:pt x="1374" y="530"/>
                        </a:lnTo>
                        <a:lnTo>
                          <a:pt x="1374" y="529"/>
                        </a:lnTo>
                        <a:lnTo>
                          <a:pt x="1377" y="529"/>
                        </a:lnTo>
                        <a:lnTo>
                          <a:pt x="1377" y="527"/>
                        </a:lnTo>
                        <a:lnTo>
                          <a:pt x="1380" y="527"/>
                        </a:lnTo>
                        <a:lnTo>
                          <a:pt x="1380" y="525"/>
                        </a:lnTo>
                        <a:lnTo>
                          <a:pt x="1384" y="525"/>
                        </a:lnTo>
                        <a:lnTo>
                          <a:pt x="1384" y="523"/>
                        </a:lnTo>
                        <a:lnTo>
                          <a:pt x="1387" y="523"/>
                        </a:lnTo>
                        <a:lnTo>
                          <a:pt x="1390" y="521"/>
                        </a:lnTo>
                        <a:lnTo>
                          <a:pt x="1393" y="520"/>
                        </a:lnTo>
                        <a:lnTo>
                          <a:pt x="1397" y="520"/>
                        </a:lnTo>
                        <a:lnTo>
                          <a:pt x="1397" y="518"/>
                        </a:lnTo>
                        <a:lnTo>
                          <a:pt x="1400" y="518"/>
                        </a:lnTo>
                        <a:lnTo>
                          <a:pt x="1403" y="516"/>
                        </a:lnTo>
                        <a:lnTo>
                          <a:pt x="1407" y="516"/>
                        </a:lnTo>
                        <a:lnTo>
                          <a:pt x="1410" y="516"/>
                        </a:lnTo>
                        <a:lnTo>
                          <a:pt x="1410" y="514"/>
                        </a:lnTo>
                        <a:lnTo>
                          <a:pt x="1413" y="514"/>
                        </a:lnTo>
                        <a:lnTo>
                          <a:pt x="1417" y="514"/>
                        </a:lnTo>
                        <a:lnTo>
                          <a:pt x="1420" y="514"/>
                        </a:lnTo>
                        <a:lnTo>
                          <a:pt x="1423" y="514"/>
                        </a:lnTo>
                        <a:lnTo>
                          <a:pt x="1427" y="5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06" name=""/>
                  <p:cNvGrpSpPr/>
                  <p:nvPr/>
                </p:nvGrpSpPr>
                <p:grpSpPr>
                  <a:xfrm>
                    <a:off x="6772320" y="3990600"/>
                    <a:ext cx="2271600" cy="809640"/>
                    <a:chOff x="6772320" y="3990600"/>
                    <a:chExt cx="2271600" cy="809640"/>
                  </a:xfrm>
                </p:grpSpPr>
                <p:sp>
                  <p:nvSpPr>
                    <p:cNvPr id="1407" name=""/>
                    <p:cNvSpPr/>
                    <p:nvPr/>
                  </p:nvSpPr>
                  <p:spPr>
                    <a:xfrm flipV="1">
                      <a:off x="7338960" y="3992400"/>
                      <a:ext cx="0" cy="804960"/>
                    </a:xfrm>
                    <a:prstGeom prst="line">
                      <a:avLst/>
                    </a:prstGeom>
                    <a:ln w="12600">
                      <a:solidFill>
                        <a:srgbClr val="99ff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8" name=""/>
                    <p:cNvSpPr/>
                    <p:nvPr/>
                  </p:nvSpPr>
                  <p:spPr>
                    <a:xfrm flipV="1">
                      <a:off x="8477280" y="3990600"/>
                      <a:ext cx="0" cy="809640"/>
                    </a:xfrm>
                    <a:prstGeom prst="line">
                      <a:avLst/>
                    </a:prstGeom>
                    <a:ln w="12600">
                      <a:solidFill>
                        <a:srgbClr val="99ff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9" name=""/>
                    <p:cNvSpPr/>
                    <p:nvPr/>
                  </p:nvSpPr>
                  <p:spPr>
                    <a:xfrm>
                      <a:off x="7335720" y="3990960"/>
                      <a:ext cx="1143000" cy="0"/>
                    </a:xfrm>
                    <a:prstGeom prst="line">
                      <a:avLst/>
                    </a:prstGeom>
                    <a:ln w="12600">
                      <a:solidFill>
                        <a:srgbClr val="99ff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0" name=""/>
                    <p:cNvSpPr/>
                    <p:nvPr/>
                  </p:nvSpPr>
                  <p:spPr>
                    <a:xfrm>
                      <a:off x="6772320" y="4795920"/>
                      <a:ext cx="568440" cy="0"/>
                    </a:xfrm>
                    <a:prstGeom prst="line">
                      <a:avLst/>
                    </a:prstGeom>
                    <a:ln w="12600">
                      <a:solidFill>
                        <a:srgbClr val="99ff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1" name=""/>
                    <p:cNvSpPr/>
                    <p:nvPr/>
                  </p:nvSpPr>
                  <p:spPr>
                    <a:xfrm>
                      <a:off x="8475840" y="4795920"/>
                      <a:ext cx="568080" cy="0"/>
                    </a:xfrm>
                    <a:prstGeom prst="line">
                      <a:avLst/>
                    </a:prstGeom>
                    <a:ln w="12600">
                      <a:solidFill>
                        <a:srgbClr val="99ff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412" name=""/>
              <p:cNvSpPr/>
              <p:nvPr/>
            </p:nvSpPr>
            <p:spPr>
              <a:xfrm>
                <a:off x="6767640" y="4748040"/>
                <a:ext cx="0" cy="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618240" y="4803840"/>
                <a:ext cx="4413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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dfca"/>
                </a:solidFill>
                <a:latin typeface="Times New Roman"/>
              </a:rPr>
              <a:t>Gibbsov fenomen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6160" y="5621400"/>
            <a:ext cx="88232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Za dovoljno velik </a:t>
            </a:r>
            <a:r>
              <a:rPr b="0" i="1" lang="hr-HR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minimalno gušenje u pojasu gušenja je konstantno i iznosi oko 8,9% razlike između amplitudne karakteristike idealnog filtra u pojasu propuštanja i u pojasu gušenj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6" name=""/>
          <p:cNvGrpSpPr/>
          <p:nvPr/>
        </p:nvGrpSpPr>
        <p:grpSpPr>
          <a:xfrm>
            <a:off x="230040" y="1719360"/>
            <a:ext cx="3817080" cy="3589920"/>
            <a:chOff x="230040" y="1719360"/>
            <a:chExt cx="3817080" cy="3589920"/>
          </a:xfrm>
        </p:grpSpPr>
        <p:sp>
          <p:nvSpPr>
            <p:cNvPr id="1417" name=""/>
            <p:cNvSpPr/>
            <p:nvPr/>
          </p:nvSpPr>
          <p:spPr>
            <a:xfrm flipV="1">
              <a:off x="1108080" y="2323800"/>
              <a:ext cx="0" cy="2235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V="1">
              <a:off x="1816200" y="2323800"/>
              <a:ext cx="0" cy="2235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2530440" y="2323800"/>
              <a:ext cx="0" cy="2235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V="1">
              <a:off x="3238560" y="2323800"/>
              <a:ext cx="0" cy="2235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V="1">
              <a:off x="3946680" y="2323800"/>
              <a:ext cx="0" cy="2235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108080" y="4559400"/>
              <a:ext cx="2838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108080" y="4186080"/>
              <a:ext cx="283860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08080" y="3811680"/>
              <a:ext cx="283860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108080" y="3444840"/>
              <a:ext cx="283860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108080" y="3071880"/>
              <a:ext cx="283860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108080" y="2697120"/>
              <a:ext cx="283860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108080" y="2324160"/>
              <a:ext cx="2838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108080" y="2324160"/>
              <a:ext cx="2840040" cy="2236680"/>
            </a:xfrm>
            <a:custGeom>
              <a:avLst/>
              <a:gdLst/>
              <a:ahLst/>
              <a:rect l="l" t="t" r="r" b="b"/>
              <a:pathLst>
                <a:path w="1789" h="1409">
                  <a:moveTo>
                    <a:pt x="0" y="1408"/>
                  </a:moveTo>
                  <a:lnTo>
                    <a:pt x="0" y="0"/>
                  </a:lnTo>
                  <a:lnTo>
                    <a:pt x="1788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108080" y="2324160"/>
              <a:ext cx="2840040" cy="2236680"/>
            </a:xfrm>
            <a:custGeom>
              <a:avLst/>
              <a:gdLst/>
              <a:ahLst/>
              <a:rect l="l" t="t" r="r" b="b"/>
              <a:pathLst>
                <a:path w="1789" h="1409">
                  <a:moveTo>
                    <a:pt x="0" y="1408"/>
                  </a:moveTo>
                  <a:lnTo>
                    <a:pt x="0" y="0"/>
                  </a:lnTo>
                  <a:lnTo>
                    <a:pt x="1788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108080" y="2324160"/>
              <a:ext cx="2840040" cy="2236680"/>
            </a:xfrm>
            <a:custGeom>
              <a:avLst/>
              <a:gdLst/>
              <a:ahLst/>
              <a:rect l="l" t="t" r="r" b="b"/>
              <a:pathLst>
                <a:path w="1789" h="1409">
                  <a:moveTo>
                    <a:pt x="0" y="1408"/>
                  </a:moveTo>
                  <a:lnTo>
                    <a:pt x="0" y="0"/>
                  </a:lnTo>
                  <a:lnTo>
                    <a:pt x="1788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108080" y="4559400"/>
              <a:ext cx="2838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108080" y="2324160"/>
              <a:ext cx="2838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V="1">
              <a:off x="1108080" y="2323800"/>
              <a:ext cx="0" cy="2235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3946680" y="2323800"/>
              <a:ext cx="0" cy="2235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108080" y="232416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108080" y="4559400"/>
              <a:ext cx="2838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1108080" y="2323800"/>
              <a:ext cx="0" cy="2235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108080" y="455940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1108080" y="4532040"/>
              <a:ext cx="0" cy="270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108080" y="2324160"/>
              <a:ext cx="0" cy="270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V="1">
              <a:off x="1816200" y="4532040"/>
              <a:ext cx="0" cy="270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816200" y="2324160"/>
              <a:ext cx="0" cy="270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V="1">
              <a:off x="2530440" y="4532040"/>
              <a:ext cx="0" cy="270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530440" y="2324160"/>
              <a:ext cx="0" cy="270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V="1">
              <a:off x="3238560" y="4532040"/>
              <a:ext cx="0" cy="270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238560" y="2324160"/>
              <a:ext cx="0" cy="270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V="1">
              <a:off x="3946680" y="4532040"/>
              <a:ext cx="0" cy="270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946680" y="2324160"/>
              <a:ext cx="0" cy="270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50" name=""/>
            <p:cNvGrpSpPr/>
            <p:nvPr/>
          </p:nvGrpSpPr>
          <p:grpSpPr>
            <a:xfrm>
              <a:off x="956160" y="4557600"/>
              <a:ext cx="3090960" cy="397440"/>
              <a:chOff x="956160" y="4557600"/>
              <a:chExt cx="3090960" cy="397440"/>
            </a:xfrm>
          </p:grpSpPr>
          <p:sp>
            <p:nvSpPr>
              <p:cNvPr id="1451" name=""/>
              <p:cNvSpPr/>
              <p:nvPr/>
            </p:nvSpPr>
            <p:spPr>
              <a:xfrm>
                <a:off x="956160" y="4557600"/>
                <a:ext cx="4104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600920" y="4557600"/>
                <a:ext cx="7639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0.5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359800" y="45576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997720" y="4557600"/>
                <a:ext cx="67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5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722040" y="4557600"/>
                <a:ext cx="325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6" name=""/>
            <p:cNvSpPr/>
            <p:nvPr/>
          </p:nvSpPr>
          <p:spPr>
            <a:xfrm>
              <a:off x="1108080" y="4559400"/>
              <a:ext cx="270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3919320" y="4559400"/>
              <a:ext cx="270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108080" y="4186080"/>
              <a:ext cx="270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3919320" y="4186080"/>
              <a:ext cx="270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108080" y="3811680"/>
              <a:ext cx="270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3919320" y="3811680"/>
              <a:ext cx="270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108080" y="3444840"/>
              <a:ext cx="270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3919320" y="3444840"/>
              <a:ext cx="270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108080" y="3071880"/>
              <a:ext cx="270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3919320" y="3071880"/>
              <a:ext cx="270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108080" y="2697120"/>
              <a:ext cx="270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3919320" y="2697120"/>
              <a:ext cx="270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108080" y="2324160"/>
              <a:ext cx="270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>
              <a:off x="3919320" y="2324160"/>
              <a:ext cx="270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70" name=""/>
            <p:cNvGrpSpPr/>
            <p:nvPr/>
          </p:nvGrpSpPr>
          <p:grpSpPr>
            <a:xfrm>
              <a:off x="616680" y="2057400"/>
              <a:ext cx="538560" cy="2656440"/>
              <a:chOff x="616680" y="2057400"/>
              <a:chExt cx="538560" cy="2656440"/>
            </a:xfrm>
          </p:grpSpPr>
          <p:sp>
            <p:nvSpPr>
              <p:cNvPr id="1471" name=""/>
              <p:cNvSpPr/>
              <p:nvPr/>
            </p:nvSpPr>
            <p:spPr>
              <a:xfrm>
                <a:off x="702720" y="43164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616680" y="393876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616680" y="356076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16680" y="319104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616680" y="281160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702720" y="24354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16680" y="205740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1.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8" name=""/>
            <p:cNvSpPr/>
            <p:nvPr/>
          </p:nvSpPr>
          <p:spPr>
            <a:xfrm>
              <a:off x="1108080" y="4559400"/>
              <a:ext cx="2838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108080" y="2324160"/>
              <a:ext cx="2838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V="1">
              <a:off x="1108080" y="2323800"/>
              <a:ext cx="0" cy="2235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V="1">
              <a:off x="3946680" y="2323800"/>
              <a:ext cx="0" cy="2235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108080" y="455940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108080" y="2527200"/>
              <a:ext cx="2840040" cy="2033640"/>
            </a:xfrm>
            <a:custGeom>
              <a:avLst/>
              <a:gdLst/>
              <a:ahLst/>
              <a:rect l="l" t="t" r="r" b="b"/>
              <a:pathLst>
                <a:path w="1789" h="1281">
                  <a:moveTo>
                    <a:pt x="0" y="1243"/>
                  </a:moveTo>
                  <a:lnTo>
                    <a:pt x="4" y="1243"/>
                  </a:lnTo>
                  <a:lnTo>
                    <a:pt x="9" y="1243"/>
                  </a:lnTo>
                  <a:lnTo>
                    <a:pt x="13" y="1247"/>
                  </a:lnTo>
                  <a:lnTo>
                    <a:pt x="17" y="1247"/>
                  </a:lnTo>
                  <a:lnTo>
                    <a:pt x="17" y="1251"/>
                  </a:lnTo>
                  <a:lnTo>
                    <a:pt x="21" y="1251"/>
                  </a:lnTo>
                  <a:lnTo>
                    <a:pt x="21" y="1255"/>
                  </a:lnTo>
                  <a:lnTo>
                    <a:pt x="25" y="1255"/>
                  </a:lnTo>
                  <a:lnTo>
                    <a:pt x="25" y="1259"/>
                  </a:lnTo>
                  <a:lnTo>
                    <a:pt x="29" y="1259"/>
                  </a:lnTo>
                  <a:lnTo>
                    <a:pt x="29" y="1263"/>
                  </a:lnTo>
                  <a:lnTo>
                    <a:pt x="33" y="1263"/>
                  </a:lnTo>
                  <a:lnTo>
                    <a:pt x="33" y="1267"/>
                  </a:lnTo>
                  <a:lnTo>
                    <a:pt x="37" y="1272"/>
                  </a:lnTo>
                  <a:lnTo>
                    <a:pt x="42" y="1276"/>
                  </a:lnTo>
                  <a:lnTo>
                    <a:pt x="46" y="1280"/>
                  </a:lnTo>
                  <a:lnTo>
                    <a:pt x="46" y="1276"/>
                  </a:lnTo>
                  <a:lnTo>
                    <a:pt x="50" y="1276"/>
                  </a:lnTo>
                  <a:lnTo>
                    <a:pt x="50" y="1272"/>
                  </a:lnTo>
                  <a:lnTo>
                    <a:pt x="54" y="1267"/>
                  </a:lnTo>
                  <a:lnTo>
                    <a:pt x="58" y="1263"/>
                  </a:lnTo>
                  <a:lnTo>
                    <a:pt x="58" y="1259"/>
                  </a:lnTo>
                  <a:lnTo>
                    <a:pt x="62" y="1259"/>
                  </a:lnTo>
                  <a:lnTo>
                    <a:pt x="62" y="1255"/>
                  </a:lnTo>
                  <a:lnTo>
                    <a:pt x="66" y="1255"/>
                  </a:lnTo>
                  <a:lnTo>
                    <a:pt x="66" y="1251"/>
                  </a:lnTo>
                  <a:lnTo>
                    <a:pt x="70" y="1251"/>
                  </a:lnTo>
                  <a:lnTo>
                    <a:pt x="70" y="1247"/>
                  </a:lnTo>
                  <a:lnTo>
                    <a:pt x="75" y="1247"/>
                  </a:lnTo>
                  <a:lnTo>
                    <a:pt x="79" y="1247"/>
                  </a:lnTo>
                  <a:lnTo>
                    <a:pt x="79" y="1243"/>
                  </a:lnTo>
                  <a:lnTo>
                    <a:pt x="83" y="1243"/>
                  </a:lnTo>
                  <a:lnTo>
                    <a:pt x="87" y="1243"/>
                  </a:lnTo>
                  <a:lnTo>
                    <a:pt x="91" y="1243"/>
                  </a:lnTo>
                  <a:lnTo>
                    <a:pt x="95" y="1243"/>
                  </a:lnTo>
                  <a:lnTo>
                    <a:pt x="99" y="1243"/>
                  </a:lnTo>
                  <a:lnTo>
                    <a:pt x="103" y="1243"/>
                  </a:lnTo>
                  <a:lnTo>
                    <a:pt x="103" y="1247"/>
                  </a:lnTo>
                  <a:lnTo>
                    <a:pt x="108" y="1247"/>
                  </a:lnTo>
                  <a:lnTo>
                    <a:pt x="108" y="1251"/>
                  </a:lnTo>
                  <a:lnTo>
                    <a:pt x="112" y="1251"/>
                  </a:lnTo>
                  <a:lnTo>
                    <a:pt x="112" y="1255"/>
                  </a:lnTo>
                  <a:lnTo>
                    <a:pt x="116" y="1255"/>
                  </a:lnTo>
                  <a:lnTo>
                    <a:pt x="116" y="1259"/>
                  </a:lnTo>
                  <a:lnTo>
                    <a:pt x="120" y="1259"/>
                  </a:lnTo>
                  <a:lnTo>
                    <a:pt x="120" y="1263"/>
                  </a:lnTo>
                  <a:lnTo>
                    <a:pt x="124" y="1263"/>
                  </a:lnTo>
                  <a:lnTo>
                    <a:pt x="124" y="1267"/>
                  </a:lnTo>
                  <a:lnTo>
                    <a:pt x="124" y="1272"/>
                  </a:lnTo>
                  <a:lnTo>
                    <a:pt x="128" y="1272"/>
                  </a:lnTo>
                  <a:lnTo>
                    <a:pt x="128" y="1276"/>
                  </a:lnTo>
                  <a:lnTo>
                    <a:pt x="132" y="1276"/>
                  </a:lnTo>
                  <a:lnTo>
                    <a:pt x="132" y="1280"/>
                  </a:lnTo>
                  <a:lnTo>
                    <a:pt x="137" y="1276"/>
                  </a:lnTo>
                  <a:lnTo>
                    <a:pt x="137" y="1272"/>
                  </a:lnTo>
                  <a:lnTo>
                    <a:pt x="141" y="1272"/>
                  </a:lnTo>
                  <a:lnTo>
                    <a:pt x="141" y="1267"/>
                  </a:lnTo>
                  <a:lnTo>
                    <a:pt x="145" y="1263"/>
                  </a:lnTo>
                  <a:lnTo>
                    <a:pt x="149" y="1259"/>
                  </a:lnTo>
                  <a:lnTo>
                    <a:pt x="149" y="1255"/>
                  </a:lnTo>
                  <a:lnTo>
                    <a:pt x="153" y="1251"/>
                  </a:lnTo>
                  <a:lnTo>
                    <a:pt x="157" y="1247"/>
                  </a:lnTo>
                  <a:lnTo>
                    <a:pt x="161" y="1243"/>
                  </a:lnTo>
                  <a:lnTo>
                    <a:pt x="165" y="1239"/>
                  </a:lnTo>
                  <a:lnTo>
                    <a:pt x="170" y="1239"/>
                  </a:lnTo>
                  <a:lnTo>
                    <a:pt x="170" y="1234"/>
                  </a:lnTo>
                  <a:lnTo>
                    <a:pt x="174" y="1234"/>
                  </a:lnTo>
                  <a:lnTo>
                    <a:pt x="178" y="1234"/>
                  </a:lnTo>
                  <a:lnTo>
                    <a:pt x="182" y="1234"/>
                  </a:lnTo>
                  <a:lnTo>
                    <a:pt x="186" y="1234"/>
                  </a:lnTo>
                  <a:lnTo>
                    <a:pt x="190" y="1239"/>
                  </a:lnTo>
                  <a:lnTo>
                    <a:pt x="194" y="1239"/>
                  </a:lnTo>
                  <a:lnTo>
                    <a:pt x="194" y="1243"/>
                  </a:lnTo>
                  <a:lnTo>
                    <a:pt x="198" y="1243"/>
                  </a:lnTo>
                  <a:lnTo>
                    <a:pt x="198" y="1247"/>
                  </a:lnTo>
                  <a:lnTo>
                    <a:pt x="203" y="1247"/>
                  </a:lnTo>
                  <a:lnTo>
                    <a:pt x="203" y="1251"/>
                  </a:lnTo>
                  <a:lnTo>
                    <a:pt x="207" y="1255"/>
                  </a:lnTo>
                  <a:lnTo>
                    <a:pt x="207" y="1259"/>
                  </a:lnTo>
                  <a:lnTo>
                    <a:pt x="211" y="1259"/>
                  </a:lnTo>
                  <a:lnTo>
                    <a:pt x="211" y="1263"/>
                  </a:lnTo>
                  <a:lnTo>
                    <a:pt x="215" y="1267"/>
                  </a:lnTo>
                  <a:lnTo>
                    <a:pt x="215" y="1272"/>
                  </a:lnTo>
                  <a:lnTo>
                    <a:pt x="219" y="1276"/>
                  </a:lnTo>
                  <a:lnTo>
                    <a:pt x="219" y="1280"/>
                  </a:lnTo>
                  <a:lnTo>
                    <a:pt x="223" y="1280"/>
                  </a:lnTo>
                  <a:lnTo>
                    <a:pt x="223" y="1276"/>
                  </a:lnTo>
                  <a:lnTo>
                    <a:pt x="227" y="1272"/>
                  </a:lnTo>
                  <a:lnTo>
                    <a:pt x="227" y="1267"/>
                  </a:lnTo>
                  <a:lnTo>
                    <a:pt x="227" y="1263"/>
                  </a:lnTo>
                  <a:lnTo>
                    <a:pt x="231" y="1263"/>
                  </a:lnTo>
                  <a:lnTo>
                    <a:pt x="231" y="1259"/>
                  </a:lnTo>
                  <a:lnTo>
                    <a:pt x="236" y="1255"/>
                  </a:lnTo>
                  <a:lnTo>
                    <a:pt x="236" y="1251"/>
                  </a:lnTo>
                  <a:lnTo>
                    <a:pt x="240" y="1251"/>
                  </a:lnTo>
                  <a:lnTo>
                    <a:pt x="240" y="1247"/>
                  </a:lnTo>
                  <a:lnTo>
                    <a:pt x="240" y="1243"/>
                  </a:lnTo>
                  <a:lnTo>
                    <a:pt x="244" y="1243"/>
                  </a:lnTo>
                  <a:lnTo>
                    <a:pt x="244" y="1239"/>
                  </a:lnTo>
                  <a:lnTo>
                    <a:pt x="248" y="1234"/>
                  </a:lnTo>
                  <a:lnTo>
                    <a:pt x="248" y="1230"/>
                  </a:lnTo>
                  <a:lnTo>
                    <a:pt x="252" y="1230"/>
                  </a:lnTo>
                  <a:lnTo>
                    <a:pt x="252" y="1226"/>
                  </a:lnTo>
                  <a:lnTo>
                    <a:pt x="256" y="1226"/>
                  </a:lnTo>
                  <a:lnTo>
                    <a:pt x="256" y="1222"/>
                  </a:lnTo>
                  <a:lnTo>
                    <a:pt x="260" y="1222"/>
                  </a:lnTo>
                  <a:lnTo>
                    <a:pt x="264" y="1218"/>
                  </a:lnTo>
                  <a:lnTo>
                    <a:pt x="269" y="1218"/>
                  </a:lnTo>
                  <a:lnTo>
                    <a:pt x="273" y="1218"/>
                  </a:lnTo>
                  <a:lnTo>
                    <a:pt x="273" y="1222"/>
                  </a:lnTo>
                  <a:lnTo>
                    <a:pt x="277" y="1222"/>
                  </a:lnTo>
                  <a:lnTo>
                    <a:pt x="281" y="1222"/>
                  </a:lnTo>
                  <a:lnTo>
                    <a:pt x="281" y="1226"/>
                  </a:lnTo>
                  <a:lnTo>
                    <a:pt x="285" y="1226"/>
                  </a:lnTo>
                  <a:lnTo>
                    <a:pt x="285" y="1230"/>
                  </a:lnTo>
                  <a:lnTo>
                    <a:pt x="289" y="1234"/>
                  </a:lnTo>
                  <a:lnTo>
                    <a:pt x="289" y="1239"/>
                  </a:lnTo>
                  <a:lnTo>
                    <a:pt x="293" y="1243"/>
                  </a:lnTo>
                  <a:lnTo>
                    <a:pt x="293" y="1247"/>
                  </a:lnTo>
                  <a:lnTo>
                    <a:pt x="298" y="1251"/>
                  </a:lnTo>
                  <a:lnTo>
                    <a:pt x="298" y="1255"/>
                  </a:lnTo>
                  <a:lnTo>
                    <a:pt x="302" y="1259"/>
                  </a:lnTo>
                  <a:lnTo>
                    <a:pt x="302" y="1263"/>
                  </a:lnTo>
                  <a:lnTo>
                    <a:pt x="306" y="1267"/>
                  </a:lnTo>
                  <a:lnTo>
                    <a:pt x="306" y="1272"/>
                  </a:lnTo>
                  <a:lnTo>
                    <a:pt x="306" y="1276"/>
                  </a:lnTo>
                  <a:lnTo>
                    <a:pt x="310" y="1276"/>
                  </a:lnTo>
                  <a:lnTo>
                    <a:pt x="310" y="1272"/>
                  </a:lnTo>
                  <a:lnTo>
                    <a:pt x="314" y="1267"/>
                  </a:lnTo>
                  <a:lnTo>
                    <a:pt x="314" y="1263"/>
                  </a:lnTo>
                  <a:lnTo>
                    <a:pt x="318" y="1259"/>
                  </a:lnTo>
                  <a:lnTo>
                    <a:pt x="318" y="1251"/>
                  </a:lnTo>
                  <a:lnTo>
                    <a:pt x="318" y="1247"/>
                  </a:lnTo>
                  <a:lnTo>
                    <a:pt x="322" y="1243"/>
                  </a:lnTo>
                  <a:lnTo>
                    <a:pt x="322" y="1239"/>
                  </a:lnTo>
                  <a:lnTo>
                    <a:pt x="326" y="1230"/>
                  </a:lnTo>
                  <a:lnTo>
                    <a:pt x="326" y="1226"/>
                  </a:lnTo>
                  <a:lnTo>
                    <a:pt x="326" y="1222"/>
                  </a:lnTo>
                  <a:lnTo>
                    <a:pt x="331" y="1218"/>
                  </a:lnTo>
                  <a:lnTo>
                    <a:pt x="331" y="1214"/>
                  </a:lnTo>
                  <a:lnTo>
                    <a:pt x="335" y="1210"/>
                  </a:lnTo>
                  <a:lnTo>
                    <a:pt x="335" y="1206"/>
                  </a:lnTo>
                  <a:lnTo>
                    <a:pt x="339" y="1201"/>
                  </a:lnTo>
                  <a:lnTo>
                    <a:pt x="339" y="1197"/>
                  </a:lnTo>
                  <a:lnTo>
                    <a:pt x="339" y="1193"/>
                  </a:lnTo>
                  <a:lnTo>
                    <a:pt x="343" y="1189"/>
                  </a:lnTo>
                  <a:lnTo>
                    <a:pt x="343" y="1185"/>
                  </a:lnTo>
                  <a:lnTo>
                    <a:pt x="347" y="1181"/>
                  </a:lnTo>
                  <a:lnTo>
                    <a:pt x="351" y="1177"/>
                  </a:lnTo>
                  <a:lnTo>
                    <a:pt x="355" y="1172"/>
                  </a:lnTo>
                  <a:lnTo>
                    <a:pt x="359" y="1172"/>
                  </a:lnTo>
                  <a:lnTo>
                    <a:pt x="364" y="1172"/>
                  </a:lnTo>
                  <a:lnTo>
                    <a:pt x="364" y="1177"/>
                  </a:lnTo>
                  <a:lnTo>
                    <a:pt x="368" y="1181"/>
                  </a:lnTo>
                  <a:lnTo>
                    <a:pt x="372" y="1185"/>
                  </a:lnTo>
                  <a:lnTo>
                    <a:pt x="372" y="1189"/>
                  </a:lnTo>
                  <a:lnTo>
                    <a:pt x="372" y="1193"/>
                  </a:lnTo>
                  <a:lnTo>
                    <a:pt x="376" y="1197"/>
                  </a:lnTo>
                  <a:lnTo>
                    <a:pt x="376" y="1206"/>
                  </a:lnTo>
                  <a:lnTo>
                    <a:pt x="380" y="1210"/>
                  </a:lnTo>
                  <a:lnTo>
                    <a:pt x="380" y="1218"/>
                  </a:lnTo>
                  <a:lnTo>
                    <a:pt x="384" y="1226"/>
                  </a:lnTo>
                  <a:lnTo>
                    <a:pt x="384" y="1234"/>
                  </a:lnTo>
                  <a:lnTo>
                    <a:pt x="384" y="1243"/>
                  </a:lnTo>
                  <a:lnTo>
                    <a:pt x="388" y="1251"/>
                  </a:lnTo>
                  <a:lnTo>
                    <a:pt x="388" y="1263"/>
                  </a:lnTo>
                  <a:lnTo>
                    <a:pt x="392" y="1272"/>
                  </a:lnTo>
                  <a:lnTo>
                    <a:pt x="392" y="1276"/>
                  </a:lnTo>
                  <a:lnTo>
                    <a:pt x="397" y="1263"/>
                  </a:lnTo>
                  <a:lnTo>
                    <a:pt x="397" y="1251"/>
                  </a:lnTo>
                  <a:lnTo>
                    <a:pt x="397" y="1239"/>
                  </a:lnTo>
                  <a:lnTo>
                    <a:pt x="401" y="1226"/>
                  </a:lnTo>
                  <a:lnTo>
                    <a:pt x="401" y="1210"/>
                  </a:lnTo>
                  <a:lnTo>
                    <a:pt x="405" y="1197"/>
                  </a:lnTo>
                  <a:lnTo>
                    <a:pt x="405" y="1181"/>
                  </a:lnTo>
                  <a:lnTo>
                    <a:pt x="409" y="1164"/>
                  </a:lnTo>
                  <a:lnTo>
                    <a:pt x="409" y="1148"/>
                  </a:lnTo>
                  <a:lnTo>
                    <a:pt x="409" y="1131"/>
                  </a:lnTo>
                  <a:lnTo>
                    <a:pt x="413" y="1115"/>
                  </a:lnTo>
                  <a:lnTo>
                    <a:pt x="413" y="1098"/>
                  </a:lnTo>
                  <a:lnTo>
                    <a:pt x="417" y="1078"/>
                  </a:lnTo>
                  <a:lnTo>
                    <a:pt x="417" y="1061"/>
                  </a:lnTo>
                  <a:lnTo>
                    <a:pt x="417" y="1040"/>
                  </a:lnTo>
                  <a:lnTo>
                    <a:pt x="421" y="1020"/>
                  </a:lnTo>
                  <a:lnTo>
                    <a:pt x="421" y="1003"/>
                  </a:lnTo>
                  <a:lnTo>
                    <a:pt x="426" y="983"/>
                  </a:lnTo>
                  <a:lnTo>
                    <a:pt x="426" y="962"/>
                  </a:lnTo>
                  <a:lnTo>
                    <a:pt x="430" y="937"/>
                  </a:lnTo>
                  <a:lnTo>
                    <a:pt x="430" y="917"/>
                  </a:lnTo>
                  <a:lnTo>
                    <a:pt x="430" y="896"/>
                  </a:lnTo>
                  <a:lnTo>
                    <a:pt x="434" y="875"/>
                  </a:lnTo>
                  <a:lnTo>
                    <a:pt x="434" y="850"/>
                  </a:lnTo>
                  <a:lnTo>
                    <a:pt x="438" y="830"/>
                  </a:lnTo>
                  <a:lnTo>
                    <a:pt x="438" y="809"/>
                  </a:lnTo>
                  <a:lnTo>
                    <a:pt x="442" y="784"/>
                  </a:lnTo>
                  <a:lnTo>
                    <a:pt x="442" y="764"/>
                  </a:lnTo>
                  <a:lnTo>
                    <a:pt x="442" y="739"/>
                  </a:lnTo>
                  <a:lnTo>
                    <a:pt x="446" y="714"/>
                  </a:lnTo>
                  <a:lnTo>
                    <a:pt x="446" y="694"/>
                  </a:lnTo>
                  <a:lnTo>
                    <a:pt x="450" y="669"/>
                  </a:lnTo>
                  <a:lnTo>
                    <a:pt x="450" y="648"/>
                  </a:lnTo>
                  <a:lnTo>
                    <a:pt x="454" y="623"/>
                  </a:lnTo>
                  <a:lnTo>
                    <a:pt x="454" y="603"/>
                  </a:lnTo>
                  <a:lnTo>
                    <a:pt x="454" y="578"/>
                  </a:lnTo>
                  <a:lnTo>
                    <a:pt x="459" y="557"/>
                  </a:lnTo>
                  <a:lnTo>
                    <a:pt x="459" y="533"/>
                  </a:lnTo>
                  <a:lnTo>
                    <a:pt x="463" y="512"/>
                  </a:lnTo>
                  <a:lnTo>
                    <a:pt x="463" y="491"/>
                  </a:lnTo>
                  <a:lnTo>
                    <a:pt x="463" y="471"/>
                  </a:lnTo>
                  <a:lnTo>
                    <a:pt x="467" y="446"/>
                  </a:lnTo>
                  <a:lnTo>
                    <a:pt x="467" y="425"/>
                  </a:lnTo>
                  <a:lnTo>
                    <a:pt x="471" y="405"/>
                  </a:lnTo>
                  <a:lnTo>
                    <a:pt x="471" y="384"/>
                  </a:lnTo>
                  <a:lnTo>
                    <a:pt x="475" y="363"/>
                  </a:lnTo>
                  <a:lnTo>
                    <a:pt x="475" y="347"/>
                  </a:lnTo>
                  <a:lnTo>
                    <a:pt x="475" y="326"/>
                  </a:lnTo>
                  <a:lnTo>
                    <a:pt x="479" y="305"/>
                  </a:lnTo>
                  <a:lnTo>
                    <a:pt x="479" y="289"/>
                  </a:lnTo>
                  <a:lnTo>
                    <a:pt x="483" y="272"/>
                  </a:lnTo>
                  <a:lnTo>
                    <a:pt x="483" y="256"/>
                  </a:lnTo>
                  <a:lnTo>
                    <a:pt x="487" y="235"/>
                  </a:lnTo>
                  <a:lnTo>
                    <a:pt x="487" y="219"/>
                  </a:lnTo>
                  <a:lnTo>
                    <a:pt x="487" y="206"/>
                  </a:lnTo>
                  <a:lnTo>
                    <a:pt x="492" y="190"/>
                  </a:lnTo>
                  <a:lnTo>
                    <a:pt x="492" y="173"/>
                  </a:lnTo>
                  <a:lnTo>
                    <a:pt x="496" y="161"/>
                  </a:lnTo>
                  <a:lnTo>
                    <a:pt x="496" y="149"/>
                  </a:lnTo>
                  <a:lnTo>
                    <a:pt x="500" y="136"/>
                  </a:lnTo>
                  <a:lnTo>
                    <a:pt x="500" y="124"/>
                  </a:lnTo>
                  <a:lnTo>
                    <a:pt x="500" y="111"/>
                  </a:lnTo>
                  <a:lnTo>
                    <a:pt x="504" y="99"/>
                  </a:lnTo>
                  <a:lnTo>
                    <a:pt x="504" y="87"/>
                  </a:lnTo>
                  <a:lnTo>
                    <a:pt x="508" y="78"/>
                  </a:lnTo>
                  <a:lnTo>
                    <a:pt x="508" y="70"/>
                  </a:lnTo>
                  <a:lnTo>
                    <a:pt x="508" y="62"/>
                  </a:lnTo>
                  <a:lnTo>
                    <a:pt x="512" y="54"/>
                  </a:lnTo>
                  <a:lnTo>
                    <a:pt x="512" y="45"/>
                  </a:lnTo>
                  <a:lnTo>
                    <a:pt x="516" y="37"/>
                  </a:lnTo>
                  <a:lnTo>
                    <a:pt x="516" y="33"/>
                  </a:lnTo>
                  <a:lnTo>
                    <a:pt x="520" y="25"/>
                  </a:lnTo>
                  <a:lnTo>
                    <a:pt x="520" y="21"/>
                  </a:lnTo>
                  <a:lnTo>
                    <a:pt x="520" y="16"/>
                  </a:lnTo>
                  <a:lnTo>
                    <a:pt x="525" y="12"/>
                  </a:lnTo>
                  <a:lnTo>
                    <a:pt x="525" y="8"/>
                  </a:lnTo>
                  <a:lnTo>
                    <a:pt x="529" y="8"/>
                  </a:lnTo>
                  <a:lnTo>
                    <a:pt x="529" y="4"/>
                  </a:lnTo>
                  <a:lnTo>
                    <a:pt x="533" y="4"/>
                  </a:lnTo>
                  <a:lnTo>
                    <a:pt x="533" y="0"/>
                  </a:lnTo>
                  <a:lnTo>
                    <a:pt x="537" y="0"/>
                  </a:lnTo>
                  <a:lnTo>
                    <a:pt x="541" y="0"/>
                  </a:lnTo>
                  <a:lnTo>
                    <a:pt x="545" y="4"/>
                  </a:lnTo>
                  <a:lnTo>
                    <a:pt x="545" y="8"/>
                  </a:lnTo>
                  <a:lnTo>
                    <a:pt x="549" y="8"/>
                  </a:lnTo>
                  <a:lnTo>
                    <a:pt x="549" y="12"/>
                  </a:lnTo>
                  <a:lnTo>
                    <a:pt x="553" y="16"/>
                  </a:lnTo>
                  <a:lnTo>
                    <a:pt x="553" y="21"/>
                  </a:lnTo>
                  <a:lnTo>
                    <a:pt x="558" y="25"/>
                  </a:lnTo>
                  <a:lnTo>
                    <a:pt x="558" y="29"/>
                  </a:lnTo>
                  <a:lnTo>
                    <a:pt x="562" y="33"/>
                  </a:lnTo>
                  <a:lnTo>
                    <a:pt x="562" y="37"/>
                  </a:lnTo>
                  <a:lnTo>
                    <a:pt x="566" y="45"/>
                  </a:lnTo>
                  <a:lnTo>
                    <a:pt x="566" y="50"/>
                  </a:lnTo>
                  <a:lnTo>
                    <a:pt x="566" y="54"/>
                  </a:lnTo>
                  <a:lnTo>
                    <a:pt x="570" y="58"/>
                  </a:lnTo>
                  <a:lnTo>
                    <a:pt x="570" y="62"/>
                  </a:lnTo>
                  <a:lnTo>
                    <a:pt x="574" y="70"/>
                  </a:lnTo>
                  <a:lnTo>
                    <a:pt x="574" y="74"/>
                  </a:lnTo>
                  <a:lnTo>
                    <a:pt x="578" y="78"/>
                  </a:lnTo>
                  <a:lnTo>
                    <a:pt x="578" y="83"/>
                  </a:lnTo>
                  <a:lnTo>
                    <a:pt x="578" y="91"/>
                  </a:lnTo>
                  <a:lnTo>
                    <a:pt x="582" y="95"/>
                  </a:lnTo>
                  <a:lnTo>
                    <a:pt x="582" y="99"/>
                  </a:lnTo>
                  <a:lnTo>
                    <a:pt x="587" y="103"/>
                  </a:lnTo>
                  <a:lnTo>
                    <a:pt x="587" y="107"/>
                  </a:lnTo>
                  <a:lnTo>
                    <a:pt x="591" y="116"/>
                  </a:lnTo>
                  <a:lnTo>
                    <a:pt x="591" y="120"/>
                  </a:lnTo>
                  <a:lnTo>
                    <a:pt x="591" y="124"/>
                  </a:lnTo>
                  <a:lnTo>
                    <a:pt x="595" y="128"/>
                  </a:lnTo>
                  <a:lnTo>
                    <a:pt x="595" y="132"/>
                  </a:lnTo>
                  <a:lnTo>
                    <a:pt x="599" y="136"/>
                  </a:lnTo>
                  <a:lnTo>
                    <a:pt x="599" y="140"/>
                  </a:lnTo>
                  <a:lnTo>
                    <a:pt x="603" y="144"/>
                  </a:lnTo>
                  <a:lnTo>
                    <a:pt x="603" y="149"/>
                  </a:lnTo>
                  <a:lnTo>
                    <a:pt x="607" y="153"/>
                  </a:lnTo>
                  <a:lnTo>
                    <a:pt x="611" y="157"/>
                  </a:lnTo>
                  <a:lnTo>
                    <a:pt x="611" y="161"/>
                  </a:lnTo>
                  <a:lnTo>
                    <a:pt x="615" y="161"/>
                  </a:lnTo>
                  <a:lnTo>
                    <a:pt x="615" y="165"/>
                  </a:lnTo>
                  <a:lnTo>
                    <a:pt x="620" y="165"/>
                  </a:lnTo>
                  <a:lnTo>
                    <a:pt x="624" y="165"/>
                  </a:lnTo>
                  <a:lnTo>
                    <a:pt x="624" y="169"/>
                  </a:lnTo>
                  <a:lnTo>
                    <a:pt x="628" y="169"/>
                  </a:lnTo>
                  <a:lnTo>
                    <a:pt x="632" y="165"/>
                  </a:lnTo>
                  <a:lnTo>
                    <a:pt x="636" y="165"/>
                  </a:lnTo>
                  <a:lnTo>
                    <a:pt x="636" y="161"/>
                  </a:lnTo>
                  <a:lnTo>
                    <a:pt x="640" y="161"/>
                  </a:lnTo>
                  <a:lnTo>
                    <a:pt x="644" y="157"/>
                  </a:lnTo>
                  <a:lnTo>
                    <a:pt x="644" y="153"/>
                  </a:lnTo>
                  <a:lnTo>
                    <a:pt x="648" y="153"/>
                  </a:lnTo>
                  <a:lnTo>
                    <a:pt x="648" y="149"/>
                  </a:lnTo>
                  <a:lnTo>
                    <a:pt x="653" y="144"/>
                  </a:lnTo>
                  <a:lnTo>
                    <a:pt x="657" y="140"/>
                  </a:lnTo>
                  <a:lnTo>
                    <a:pt x="657" y="136"/>
                  </a:lnTo>
                  <a:lnTo>
                    <a:pt x="657" y="132"/>
                  </a:lnTo>
                  <a:lnTo>
                    <a:pt x="661" y="132"/>
                  </a:lnTo>
                  <a:lnTo>
                    <a:pt x="661" y="128"/>
                  </a:lnTo>
                  <a:lnTo>
                    <a:pt x="665" y="124"/>
                  </a:lnTo>
                  <a:lnTo>
                    <a:pt x="665" y="120"/>
                  </a:lnTo>
                  <a:lnTo>
                    <a:pt x="669" y="120"/>
                  </a:lnTo>
                  <a:lnTo>
                    <a:pt x="669" y="116"/>
                  </a:lnTo>
                  <a:lnTo>
                    <a:pt x="669" y="111"/>
                  </a:lnTo>
                  <a:lnTo>
                    <a:pt x="673" y="107"/>
                  </a:lnTo>
                  <a:lnTo>
                    <a:pt x="673" y="103"/>
                  </a:lnTo>
                  <a:lnTo>
                    <a:pt x="677" y="103"/>
                  </a:lnTo>
                  <a:lnTo>
                    <a:pt x="677" y="99"/>
                  </a:lnTo>
                  <a:lnTo>
                    <a:pt x="677" y="95"/>
                  </a:lnTo>
                  <a:lnTo>
                    <a:pt x="681" y="91"/>
                  </a:lnTo>
                  <a:lnTo>
                    <a:pt x="686" y="87"/>
                  </a:lnTo>
                  <a:lnTo>
                    <a:pt x="686" y="83"/>
                  </a:lnTo>
                  <a:lnTo>
                    <a:pt x="690" y="83"/>
                  </a:lnTo>
                  <a:lnTo>
                    <a:pt x="690" y="78"/>
                  </a:lnTo>
                  <a:lnTo>
                    <a:pt x="694" y="74"/>
                  </a:lnTo>
                  <a:lnTo>
                    <a:pt x="698" y="70"/>
                  </a:lnTo>
                  <a:lnTo>
                    <a:pt x="702" y="66"/>
                  </a:lnTo>
                  <a:lnTo>
                    <a:pt x="706" y="66"/>
                  </a:lnTo>
                  <a:lnTo>
                    <a:pt x="706" y="62"/>
                  </a:lnTo>
                  <a:lnTo>
                    <a:pt x="710" y="62"/>
                  </a:lnTo>
                  <a:lnTo>
                    <a:pt x="715" y="62"/>
                  </a:lnTo>
                  <a:lnTo>
                    <a:pt x="719" y="62"/>
                  </a:lnTo>
                  <a:lnTo>
                    <a:pt x="723" y="62"/>
                  </a:lnTo>
                  <a:lnTo>
                    <a:pt x="727" y="66"/>
                  </a:lnTo>
                  <a:lnTo>
                    <a:pt x="731" y="66"/>
                  </a:lnTo>
                  <a:lnTo>
                    <a:pt x="731" y="70"/>
                  </a:lnTo>
                  <a:lnTo>
                    <a:pt x="735" y="70"/>
                  </a:lnTo>
                  <a:lnTo>
                    <a:pt x="735" y="74"/>
                  </a:lnTo>
                  <a:lnTo>
                    <a:pt x="739" y="74"/>
                  </a:lnTo>
                  <a:lnTo>
                    <a:pt x="739" y="78"/>
                  </a:lnTo>
                  <a:lnTo>
                    <a:pt x="743" y="78"/>
                  </a:lnTo>
                  <a:lnTo>
                    <a:pt x="743" y="83"/>
                  </a:lnTo>
                  <a:lnTo>
                    <a:pt x="748" y="83"/>
                  </a:lnTo>
                  <a:lnTo>
                    <a:pt x="748" y="87"/>
                  </a:lnTo>
                  <a:lnTo>
                    <a:pt x="748" y="91"/>
                  </a:lnTo>
                  <a:lnTo>
                    <a:pt x="752" y="91"/>
                  </a:lnTo>
                  <a:lnTo>
                    <a:pt x="752" y="95"/>
                  </a:lnTo>
                  <a:lnTo>
                    <a:pt x="756" y="95"/>
                  </a:lnTo>
                  <a:lnTo>
                    <a:pt x="756" y="99"/>
                  </a:lnTo>
                  <a:lnTo>
                    <a:pt x="760" y="103"/>
                  </a:lnTo>
                  <a:lnTo>
                    <a:pt x="760" y="107"/>
                  </a:lnTo>
                  <a:lnTo>
                    <a:pt x="764" y="107"/>
                  </a:lnTo>
                  <a:lnTo>
                    <a:pt x="764" y="111"/>
                  </a:lnTo>
                  <a:lnTo>
                    <a:pt x="768" y="116"/>
                  </a:lnTo>
                  <a:lnTo>
                    <a:pt x="768" y="120"/>
                  </a:lnTo>
                  <a:lnTo>
                    <a:pt x="772" y="120"/>
                  </a:lnTo>
                  <a:lnTo>
                    <a:pt x="772" y="124"/>
                  </a:lnTo>
                  <a:lnTo>
                    <a:pt x="776" y="124"/>
                  </a:lnTo>
                  <a:lnTo>
                    <a:pt x="776" y="128"/>
                  </a:lnTo>
                  <a:lnTo>
                    <a:pt x="781" y="128"/>
                  </a:lnTo>
                  <a:lnTo>
                    <a:pt x="781" y="132"/>
                  </a:lnTo>
                  <a:lnTo>
                    <a:pt x="785" y="136"/>
                  </a:lnTo>
                  <a:lnTo>
                    <a:pt x="789" y="140"/>
                  </a:lnTo>
                  <a:lnTo>
                    <a:pt x="793" y="140"/>
                  </a:lnTo>
                  <a:lnTo>
                    <a:pt x="793" y="144"/>
                  </a:lnTo>
                  <a:lnTo>
                    <a:pt x="797" y="144"/>
                  </a:lnTo>
                  <a:lnTo>
                    <a:pt x="801" y="144"/>
                  </a:lnTo>
                  <a:lnTo>
                    <a:pt x="805" y="144"/>
                  </a:lnTo>
                  <a:lnTo>
                    <a:pt x="809" y="144"/>
                  </a:lnTo>
                  <a:lnTo>
                    <a:pt x="814" y="144"/>
                  </a:lnTo>
                  <a:lnTo>
                    <a:pt x="818" y="140"/>
                  </a:lnTo>
                  <a:lnTo>
                    <a:pt x="822" y="140"/>
                  </a:lnTo>
                  <a:lnTo>
                    <a:pt x="822" y="136"/>
                  </a:lnTo>
                  <a:lnTo>
                    <a:pt x="826" y="136"/>
                  </a:lnTo>
                  <a:lnTo>
                    <a:pt x="826" y="132"/>
                  </a:lnTo>
                  <a:lnTo>
                    <a:pt x="830" y="132"/>
                  </a:lnTo>
                  <a:lnTo>
                    <a:pt x="830" y="128"/>
                  </a:lnTo>
                  <a:lnTo>
                    <a:pt x="834" y="128"/>
                  </a:lnTo>
                  <a:lnTo>
                    <a:pt x="838" y="124"/>
                  </a:lnTo>
                  <a:lnTo>
                    <a:pt x="838" y="120"/>
                  </a:lnTo>
                  <a:lnTo>
                    <a:pt x="842" y="116"/>
                  </a:lnTo>
                  <a:lnTo>
                    <a:pt x="847" y="111"/>
                  </a:lnTo>
                  <a:lnTo>
                    <a:pt x="851" y="107"/>
                  </a:lnTo>
                  <a:lnTo>
                    <a:pt x="851" y="103"/>
                  </a:lnTo>
                  <a:lnTo>
                    <a:pt x="855" y="103"/>
                  </a:lnTo>
                  <a:lnTo>
                    <a:pt x="855" y="99"/>
                  </a:lnTo>
                  <a:lnTo>
                    <a:pt x="859" y="95"/>
                  </a:lnTo>
                  <a:lnTo>
                    <a:pt x="859" y="91"/>
                  </a:lnTo>
                  <a:lnTo>
                    <a:pt x="863" y="91"/>
                  </a:lnTo>
                  <a:lnTo>
                    <a:pt x="863" y="87"/>
                  </a:lnTo>
                  <a:lnTo>
                    <a:pt x="867" y="87"/>
                  </a:lnTo>
                  <a:lnTo>
                    <a:pt x="867" y="83"/>
                  </a:lnTo>
                  <a:lnTo>
                    <a:pt x="871" y="83"/>
                  </a:lnTo>
                  <a:lnTo>
                    <a:pt x="871" y="78"/>
                  </a:lnTo>
                  <a:lnTo>
                    <a:pt x="876" y="78"/>
                  </a:lnTo>
                  <a:lnTo>
                    <a:pt x="880" y="74"/>
                  </a:lnTo>
                  <a:lnTo>
                    <a:pt x="884" y="74"/>
                  </a:lnTo>
                  <a:lnTo>
                    <a:pt x="884" y="70"/>
                  </a:lnTo>
                  <a:lnTo>
                    <a:pt x="888" y="70"/>
                  </a:lnTo>
                  <a:lnTo>
                    <a:pt x="892" y="70"/>
                  </a:lnTo>
                  <a:lnTo>
                    <a:pt x="896" y="70"/>
                  </a:lnTo>
                  <a:lnTo>
                    <a:pt x="900" y="70"/>
                  </a:lnTo>
                  <a:lnTo>
                    <a:pt x="904" y="70"/>
                  </a:lnTo>
                  <a:lnTo>
                    <a:pt x="904" y="74"/>
                  </a:lnTo>
                  <a:lnTo>
                    <a:pt x="909" y="74"/>
                  </a:lnTo>
                  <a:lnTo>
                    <a:pt x="913" y="78"/>
                  </a:lnTo>
                  <a:lnTo>
                    <a:pt x="917" y="78"/>
                  </a:lnTo>
                  <a:lnTo>
                    <a:pt x="917" y="83"/>
                  </a:lnTo>
                  <a:lnTo>
                    <a:pt x="921" y="83"/>
                  </a:lnTo>
                  <a:lnTo>
                    <a:pt x="921" y="87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9" y="91"/>
                  </a:lnTo>
                  <a:lnTo>
                    <a:pt x="929" y="95"/>
                  </a:lnTo>
                  <a:lnTo>
                    <a:pt x="933" y="99"/>
                  </a:lnTo>
                  <a:lnTo>
                    <a:pt x="933" y="103"/>
                  </a:lnTo>
                  <a:lnTo>
                    <a:pt x="937" y="103"/>
                  </a:lnTo>
                  <a:lnTo>
                    <a:pt x="937" y="107"/>
                  </a:lnTo>
                  <a:lnTo>
                    <a:pt x="942" y="111"/>
                  </a:lnTo>
                  <a:lnTo>
                    <a:pt x="946" y="116"/>
                  </a:lnTo>
                  <a:lnTo>
                    <a:pt x="950" y="120"/>
                  </a:lnTo>
                  <a:lnTo>
                    <a:pt x="950" y="124"/>
                  </a:lnTo>
                  <a:lnTo>
                    <a:pt x="954" y="128"/>
                  </a:lnTo>
                  <a:lnTo>
                    <a:pt x="958" y="128"/>
                  </a:lnTo>
                  <a:lnTo>
                    <a:pt x="958" y="132"/>
                  </a:lnTo>
                  <a:lnTo>
                    <a:pt x="962" y="132"/>
                  </a:lnTo>
                  <a:lnTo>
                    <a:pt x="962" y="136"/>
                  </a:lnTo>
                  <a:lnTo>
                    <a:pt x="966" y="136"/>
                  </a:lnTo>
                  <a:lnTo>
                    <a:pt x="966" y="140"/>
                  </a:lnTo>
                  <a:lnTo>
                    <a:pt x="970" y="140"/>
                  </a:lnTo>
                  <a:lnTo>
                    <a:pt x="975" y="144"/>
                  </a:lnTo>
                  <a:lnTo>
                    <a:pt x="979" y="144"/>
                  </a:lnTo>
                  <a:lnTo>
                    <a:pt x="983" y="144"/>
                  </a:lnTo>
                  <a:lnTo>
                    <a:pt x="987" y="144"/>
                  </a:lnTo>
                  <a:lnTo>
                    <a:pt x="991" y="144"/>
                  </a:lnTo>
                  <a:lnTo>
                    <a:pt x="995" y="144"/>
                  </a:lnTo>
                  <a:lnTo>
                    <a:pt x="995" y="140"/>
                  </a:lnTo>
                  <a:lnTo>
                    <a:pt x="999" y="140"/>
                  </a:lnTo>
                  <a:lnTo>
                    <a:pt x="1004" y="136"/>
                  </a:lnTo>
                  <a:lnTo>
                    <a:pt x="1008" y="132"/>
                  </a:lnTo>
                  <a:lnTo>
                    <a:pt x="1008" y="128"/>
                  </a:lnTo>
                  <a:lnTo>
                    <a:pt x="1012" y="128"/>
                  </a:lnTo>
                  <a:lnTo>
                    <a:pt x="1012" y="124"/>
                  </a:lnTo>
                  <a:lnTo>
                    <a:pt x="1016" y="124"/>
                  </a:lnTo>
                  <a:lnTo>
                    <a:pt x="1016" y="120"/>
                  </a:lnTo>
                  <a:lnTo>
                    <a:pt x="1020" y="120"/>
                  </a:lnTo>
                  <a:lnTo>
                    <a:pt x="1020" y="116"/>
                  </a:lnTo>
                  <a:lnTo>
                    <a:pt x="1024" y="111"/>
                  </a:lnTo>
                  <a:lnTo>
                    <a:pt x="1024" y="107"/>
                  </a:lnTo>
                  <a:lnTo>
                    <a:pt x="1028" y="107"/>
                  </a:lnTo>
                  <a:lnTo>
                    <a:pt x="1028" y="103"/>
                  </a:lnTo>
                  <a:lnTo>
                    <a:pt x="1032" y="99"/>
                  </a:lnTo>
                  <a:lnTo>
                    <a:pt x="1032" y="95"/>
                  </a:lnTo>
                  <a:lnTo>
                    <a:pt x="1037" y="95"/>
                  </a:lnTo>
                  <a:lnTo>
                    <a:pt x="1037" y="91"/>
                  </a:lnTo>
                  <a:lnTo>
                    <a:pt x="1041" y="91"/>
                  </a:lnTo>
                  <a:lnTo>
                    <a:pt x="1041" y="87"/>
                  </a:lnTo>
                  <a:lnTo>
                    <a:pt x="1041" y="83"/>
                  </a:lnTo>
                  <a:lnTo>
                    <a:pt x="1045" y="83"/>
                  </a:lnTo>
                  <a:lnTo>
                    <a:pt x="1045" y="78"/>
                  </a:lnTo>
                  <a:lnTo>
                    <a:pt x="1049" y="78"/>
                  </a:lnTo>
                  <a:lnTo>
                    <a:pt x="1049" y="74"/>
                  </a:lnTo>
                  <a:lnTo>
                    <a:pt x="1053" y="74"/>
                  </a:lnTo>
                  <a:lnTo>
                    <a:pt x="1053" y="70"/>
                  </a:lnTo>
                  <a:lnTo>
                    <a:pt x="1057" y="70"/>
                  </a:lnTo>
                  <a:lnTo>
                    <a:pt x="1057" y="66"/>
                  </a:lnTo>
                  <a:lnTo>
                    <a:pt x="1061" y="66"/>
                  </a:lnTo>
                  <a:lnTo>
                    <a:pt x="1065" y="62"/>
                  </a:lnTo>
                  <a:lnTo>
                    <a:pt x="1070" y="62"/>
                  </a:lnTo>
                  <a:lnTo>
                    <a:pt x="1074" y="62"/>
                  </a:lnTo>
                  <a:lnTo>
                    <a:pt x="1078" y="62"/>
                  </a:lnTo>
                  <a:lnTo>
                    <a:pt x="1082" y="62"/>
                  </a:lnTo>
                  <a:lnTo>
                    <a:pt x="1082" y="66"/>
                  </a:lnTo>
                  <a:lnTo>
                    <a:pt x="1086" y="66"/>
                  </a:lnTo>
                  <a:lnTo>
                    <a:pt x="1090" y="70"/>
                  </a:lnTo>
                  <a:lnTo>
                    <a:pt x="1094" y="74"/>
                  </a:lnTo>
                  <a:lnTo>
                    <a:pt x="1098" y="78"/>
                  </a:lnTo>
                  <a:lnTo>
                    <a:pt x="1098" y="83"/>
                  </a:lnTo>
                  <a:lnTo>
                    <a:pt x="1103" y="83"/>
                  </a:lnTo>
                  <a:lnTo>
                    <a:pt x="1103" y="87"/>
                  </a:lnTo>
                  <a:lnTo>
                    <a:pt x="1107" y="91"/>
                  </a:lnTo>
                  <a:lnTo>
                    <a:pt x="1111" y="95"/>
                  </a:lnTo>
                  <a:lnTo>
                    <a:pt x="1111" y="99"/>
                  </a:lnTo>
                  <a:lnTo>
                    <a:pt x="1111" y="103"/>
                  </a:lnTo>
                  <a:lnTo>
                    <a:pt x="1115" y="103"/>
                  </a:lnTo>
                  <a:lnTo>
                    <a:pt x="1115" y="107"/>
                  </a:lnTo>
                  <a:lnTo>
                    <a:pt x="1119" y="111"/>
                  </a:lnTo>
                  <a:lnTo>
                    <a:pt x="1119" y="116"/>
                  </a:lnTo>
                  <a:lnTo>
                    <a:pt x="1119" y="120"/>
                  </a:lnTo>
                  <a:lnTo>
                    <a:pt x="1123" y="120"/>
                  </a:lnTo>
                  <a:lnTo>
                    <a:pt x="1123" y="124"/>
                  </a:lnTo>
                  <a:lnTo>
                    <a:pt x="1127" y="128"/>
                  </a:lnTo>
                  <a:lnTo>
                    <a:pt x="1127" y="132"/>
                  </a:lnTo>
                  <a:lnTo>
                    <a:pt x="1131" y="132"/>
                  </a:lnTo>
                  <a:lnTo>
                    <a:pt x="1131" y="136"/>
                  </a:lnTo>
                  <a:lnTo>
                    <a:pt x="1131" y="140"/>
                  </a:lnTo>
                  <a:lnTo>
                    <a:pt x="1136" y="144"/>
                  </a:lnTo>
                  <a:lnTo>
                    <a:pt x="1140" y="149"/>
                  </a:lnTo>
                  <a:lnTo>
                    <a:pt x="1140" y="153"/>
                  </a:lnTo>
                  <a:lnTo>
                    <a:pt x="1144" y="153"/>
                  </a:lnTo>
                  <a:lnTo>
                    <a:pt x="1144" y="157"/>
                  </a:lnTo>
                  <a:lnTo>
                    <a:pt x="1148" y="161"/>
                  </a:lnTo>
                  <a:lnTo>
                    <a:pt x="1152" y="161"/>
                  </a:lnTo>
                  <a:lnTo>
                    <a:pt x="1152" y="165"/>
                  </a:lnTo>
                  <a:lnTo>
                    <a:pt x="1156" y="165"/>
                  </a:lnTo>
                  <a:lnTo>
                    <a:pt x="1160" y="169"/>
                  </a:lnTo>
                  <a:lnTo>
                    <a:pt x="1165" y="169"/>
                  </a:lnTo>
                  <a:lnTo>
                    <a:pt x="1165" y="165"/>
                  </a:lnTo>
                  <a:lnTo>
                    <a:pt x="1169" y="165"/>
                  </a:lnTo>
                  <a:lnTo>
                    <a:pt x="1173" y="165"/>
                  </a:lnTo>
                  <a:lnTo>
                    <a:pt x="1173" y="161"/>
                  </a:lnTo>
                  <a:lnTo>
                    <a:pt x="1177" y="161"/>
                  </a:lnTo>
                  <a:lnTo>
                    <a:pt x="1177" y="157"/>
                  </a:lnTo>
                  <a:lnTo>
                    <a:pt x="1181" y="153"/>
                  </a:lnTo>
                  <a:lnTo>
                    <a:pt x="1185" y="149"/>
                  </a:lnTo>
                  <a:lnTo>
                    <a:pt x="1185" y="144"/>
                  </a:lnTo>
                  <a:lnTo>
                    <a:pt x="1189" y="140"/>
                  </a:lnTo>
                  <a:lnTo>
                    <a:pt x="1189" y="136"/>
                  </a:lnTo>
                  <a:lnTo>
                    <a:pt x="1193" y="132"/>
                  </a:lnTo>
                  <a:lnTo>
                    <a:pt x="1193" y="128"/>
                  </a:lnTo>
                  <a:lnTo>
                    <a:pt x="1198" y="124"/>
                  </a:lnTo>
                  <a:lnTo>
                    <a:pt x="1198" y="120"/>
                  </a:lnTo>
                  <a:lnTo>
                    <a:pt x="1198" y="116"/>
                  </a:lnTo>
                  <a:lnTo>
                    <a:pt x="1202" y="107"/>
                  </a:lnTo>
                  <a:lnTo>
                    <a:pt x="1202" y="103"/>
                  </a:lnTo>
                  <a:lnTo>
                    <a:pt x="1206" y="99"/>
                  </a:lnTo>
                  <a:lnTo>
                    <a:pt x="1206" y="95"/>
                  </a:lnTo>
                  <a:lnTo>
                    <a:pt x="1210" y="91"/>
                  </a:lnTo>
                  <a:lnTo>
                    <a:pt x="1210" y="83"/>
                  </a:lnTo>
                  <a:lnTo>
                    <a:pt x="1210" y="78"/>
                  </a:lnTo>
                  <a:lnTo>
                    <a:pt x="1214" y="74"/>
                  </a:lnTo>
                  <a:lnTo>
                    <a:pt x="1214" y="70"/>
                  </a:lnTo>
                  <a:lnTo>
                    <a:pt x="1218" y="62"/>
                  </a:lnTo>
                  <a:lnTo>
                    <a:pt x="1218" y="58"/>
                  </a:lnTo>
                  <a:lnTo>
                    <a:pt x="1222" y="54"/>
                  </a:lnTo>
                  <a:lnTo>
                    <a:pt x="1222" y="50"/>
                  </a:lnTo>
                  <a:lnTo>
                    <a:pt x="1222" y="45"/>
                  </a:lnTo>
                  <a:lnTo>
                    <a:pt x="1226" y="37"/>
                  </a:lnTo>
                  <a:lnTo>
                    <a:pt x="1226" y="33"/>
                  </a:lnTo>
                  <a:lnTo>
                    <a:pt x="1231" y="29"/>
                  </a:lnTo>
                  <a:lnTo>
                    <a:pt x="1231" y="25"/>
                  </a:lnTo>
                  <a:lnTo>
                    <a:pt x="1235" y="21"/>
                  </a:lnTo>
                  <a:lnTo>
                    <a:pt x="1235" y="16"/>
                  </a:lnTo>
                  <a:lnTo>
                    <a:pt x="1239" y="12"/>
                  </a:lnTo>
                  <a:lnTo>
                    <a:pt x="1239" y="8"/>
                  </a:lnTo>
                  <a:lnTo>
                    <a:pt x="1243" y="8"/>
                  </a:lnTo>
                  <a:lnTo>
                    <a:pt x="1243" y="4"/>
                  </a:lnTo>
                  <a:lnTo>
                    <a:pt x="1247" y="0"/>
                  </a:lnTo>
                  <a:lnTo>
                    <a:pt x="1251" y="0"/>
                  </a:lnTo>
                  <a:lnTo>
                    <a:pt x="1255" y="0"/>
                  </a:lnTo>
                  <a:lnTo>
                    <a:pt x="1255" y="4"/>
                  </a:lnTo>
                  <a:lnTo>
                    <a:pt x="1259" y="4"/>
                  </a:lnTo>
                  <a:lnTo>
                    <a:pt x="1259" y="8"/>
                  </a:lnTo>
                  <a:lnTo>
                    <a:pt x="1264" y="8"/>
                  </a:lnTo>
                  <a:lnTo>
                    <a:pt x="1264" y="12"/>
                  </a:lnTo>
                  <a:lnTo>
                    <a:pt x="1268" y="16"/>
                  </a:lnTo>
                  <a:lnTo>
                    <a:pt x="1268" y="21"/>
                  </a:lnTo>
                  <a:lnTo>
                    <a:pt x="1268" y="25"/>
                  </a:lnTo>
                  <a:lnTo>
                    <a:pt x="1272" y="33"/>
                  </a:lnTo>
                  <a:lnTo>
                    <a:pt x="1272" y="37"/>
                  </a:lnTo>
                  <a:lnTo>
                    <a:pt x="1276" y="45"/>
                  </a:lnTo>
                  <a:lnTo>
                    <a:pt x="1276" y="54"/>
                  </a:lnTo>
                  <a:lnTo>
                    <a:pt x="1280" y="62"/>
                  </a:lnTo>
                  <a:lnTo>
                    <a:pt x="1280" y="70"/>
                  </a:lnTo>
                  <a:lnTo>
                    <a:pt x="1280" y="78"/>
                  </a:lnTo>
                  <a:lnTo>
                    <a:pt x="1284" y="87"/>
                  </a:lnTo>
                  <a:lnTo>
                    <a:pt x="1284" y="99"/>
                  </a:lnTo>
                  <a:lnTo>
                    <a:pt x="1288" y="111"/>
                  </a:lnTo>
                  <a:lnTo>
                    <a:pt x="1288" y="124"/>
                  </a:lnTo>
                  <a:lnTo>
                    <a:pt x="1288" y="136"/>
                  </a:lnTo>
                  <a:lnTo>
                    <a:pt x="1293" y="149"/>
                  </a:lnTo>
                  <a:lnTo>
                    <a:pt x="1293" y="161"/>
                  </a:lnTo>
                  <a:lnTo>
                    <a:pt x="1297" y="173"/>
                  </a:lnTo>
                  <a:lnTo>
                    <a:pt x="1297" y="190"/>
                  </a:lnTo>
                  <a:lnTo>
                    <a:pt x="1301" y="206"/>
                  </a:lnTo>
                  <a:lnTo>
                    <a:pt x="1301" y="219"/>
                  </a:lnTo>
                  <a:lnTo>
                    <a:pt x="1301" y="235"/>
                  </a:lnTo>
                  <a:lnTo>
                    <a:pt x="1305" y="256"/>
                  </a:lnTo>
                  <a:lnTo>
                    <a:pt x="1305" y="272"/>
                  </a:lnTo>
                  <a:lnTo>
                    <a:pt x="1309" y="289"/>
                  </a:lnTo>
                  <a:lnTo>
                    <a:pt x="1309" y="305"/>
                  </a:lnTo>
                  <a:lnTo>
                    <a:pt x="1313" y="326"/>
                  </a:lnTo>
                  <a:lnTo>
                    <a:pt x="1313" y="347"/>
                  </a:lnTo>
                  <a:lnTo>
                    <a:pt x="1313" y="363"/>
                  </a:lnTo>
                  <a:lnTo>
                    <a:pt x="1317" y="384"/>
                  </a:lnTo>
                  <a:lnTo>
                    <a:pt x="1317" y="405"/>
                  </a:lnTo>
                  <a:lnTo>
                    <a:pt x="1321" y="425"/>
                  </a:lnTo>
                  <a:lnTo>
                    <a:pt x="1321" y="446"/>
                  </a:lnTo>
                  <a:lnTo>
                    <a:pt x="1326" y="471"/>
                  </a:lnTo>
                  <a:lnTo>
                    <a:pt x="1326" y="491"/>
                  </a:lnTo>
                  <a:lnTo>
                    <a:pt x="1326" y="512"/>
                  </a:lnTo>
                  <a:lnTo>
                    <a:pt x="1330" y="533"/>
                  </a:lnTo>
                  <a:lnTo>
                    <a:pt x="1330" y="557"/>
                  </a:lnTo>
                  <a:lnTo>
                    <a:pt x="1334" y="578"/>
                  </a:lnTo>
                  <a:lnTo>
                    <a:pt x="1334" y="603"/>
                  </a:lnTo>
                  <a:lnTo>
                    <a:pt x="1334" y="623"/>
                  </a:lnTo>
                  <a:lnTo>
                    <a:pt x="1338" y="648"/>
                  </a:lnTo>
                  <a:lnTo>
                    <a:pt x="1338" y="669"/>
                  </a:lnTo>
                  <a:lnTo>
                    <a:pt x="1342" y="694"/>
                  </a:lnTo>
                  <a:lnTo>
                    <a:pt x="1342" y="714"/>
                  </a:lnTo>
                  <a:lnTo>
                    <a:pt x="1346" y="739"/>
                  </a:lnTo>
                  <a:lnTo>
                    <a:pt x="1346" y="764"/>
                  </a:lnTo>
                  <a:lnTo>
                    <a:pt x="1346" y="784"/>
                  </a:lnTo>
                  <a:lnTo>
                    <a:pt x="1350" y="809"/>
                  </a:lnTo>
                  <a:lnTo>
                    <a:pt x="1350" y="830"/>
                  </a:lnTo>
                  <a:lnTo>
                    <a:pt x="1354" y="850"/>
                  </a:lnTo>
                  <a:lnTo>
                    <a:pt x="1354" y="875"/>
                  </a:lnTo>
                  <a:lnTo>
                    <a:pt x="1359" y="896"/>
                  </a:lnTo>
                  <a:lnTo>
                    <a:pt x="1359" y="917"/>
                  </a:lnTo>
                  <a:lnTo>
                    <a:pt x="1359" y="937"/>
                  </a:lnTo>
                  <a:lnTo>
                    <a:pt x="1363" y="962"/>
                  </a:lnTo>
                  <a:lnTo>
                    <a:pt x="1363" y="983"/>
                  </a:lnTo>
                  <a:lnTo>
                    <a:pt x="1367" y="1003"/>
                  </a:lnTo>
                  <a:lnTo>
                    <a:pt x="1367" y="1020"/>
                  </a:lnTo>
                  <a:lnTo>
                    <a:pt x="1371" y="1040"/>
                  </a:lnTo>
                  <a:lnTo>
                    <a:pt x="1371" y="1061"/>
                  </a:lnTo>
                  <a:lnTo>
                    <a:pt x="1371" y="1078"/>
                  </a:lnTo>
                  <a:lnTo>
                    <a:pt x="1375" y="1098"/>
                  </a:lnTo>
                  <a:lnTo>
                    <a:pt x="1375" y="1115"/>
                  </a:lnTo>
                  <a:lnTo>
                    <a:pt x="1379" y="1131"/>
                  </a:lnTo>
                  <a:lnTo>
                    <a:pt x="1379" y="1148"/>
                  </a:lnTo>
                  <a:lnTo>
                    <a:pt x="1379" y="1164"/>
                  </a:lnTo>
                  <a:lnTo>
                    <a:pt x="1383" y="1181"/>
                  </a:lnTo>
                  <a:lnTo>
                    <a:pt x="1383" y="1197"/>
                  </a:lnTo>
                  <a:lnTo>
                    <a:pt x="1387" y="1210"/>
                  </a:lnTo>
                  <a:lnTo>
                    <a:pt x="1387" y="1226"/>
                  </a:lnTo>
                  <a:lnTo>
                    <a:pt x="1392" y="1239"/>
                  </a:lnTo>
                  <a:lnTo>
                    <a:pt x="1392" y="1251"/>
                  </a:lnTo>
                  <a:lnTo>
                    <a:pt x="1392" y="1263"/>
                  </a:lnTo>
                  <a:lnTo>
                    <a:pt x="1396" y="1276"/>
                  </a:lnTo>
                  <a:lnTo>
                    <a:pt x="1396" y="1272"/>
                  </a:lnTo>
                  <a:lnTo>
                    <a:pt x="1400" y="1263"/>
                  </a:lnTo>
                  <a:lnTo>
                    <a:pt x="1400" y="1251"/>
                  </a:lnTo>
                  <a:lnTo>
                    <a:pt x="1404" y="1243"/>
                  </a:lnTo>
                  <a:lnTo>
                    <a:pt x="1404" y="1234"/>
                  </a:lnTo>
                  <a:lnTo>
                    <a:pt x="1404" y="1226"/>
                  </a:lnTo>
                  <a:lnTo>
                    <a:pt x="1408" y="1218"/>
                  </a:lnTo>
                  <a:lnTo>
                    <a:pt x="1408" y="1210"/>
                  </a:lnTo>
                  <a:lnTo>
                    <a:pt x="1412" y="1206"/>
                  </a:lnTo>
                  <a:lnTo>
                    <a:pt x="1412" y="1197"/>
                  </a:lnTo>
                  <a:lnTo>
                    <a:pt x="1416" y="1193"/>
                  </a:lnTo>
                  <a:lnTo>
                    <a:pt x="1416" y="1189"/>
                  </a:lnTo>
                  <a:lnTo>
                    <a:pt x="1416" y="1185"/>
                  </a:lnTo>
                  <a:lnTo>
                    <a:pt x="1420" y="1181"/>
                  </a:lnTo>
                  <a:lnTo>
                    <a:pt x="1425" y="1177"/>
                  </a:lnTo>
                  <a:lnTo>
                    <a:pt x="1425" y="1172"/>
                  </a:lnTo>
                  <a:lnTo>
                    <a:pt x="1429" y="1172"/>
                  </a:lnTo>
                  <a:lnTo>
                    <a:pt x="1433" y="1172"/>
                  </a:lnTo>
                  <a:lnTo>
                    <a:pt x="1437" y="1177"/>
                  </a:lnTo>
                  <a:lnTo>
                    <a:pt x="1441" y="1181"/>
                  </a:lnTo>
                  <a:lnTo>
                    <a:pt x="1445" y="1185"/>
                  </a:lnTo>
                  <a:lnTo>
                    <a:pt x="1445" y="1189"/>
                  </a:lnTo>
                  <a:lnTo>
                    <a:pt x="1449" y="1193"/>
                  </a:lnTo>
                  <a:lnTo>
                    <a:pt x="1449" y="1197"/>
                  </a:lnTo>
                  <a:lnTo>
                    <a:pt x="1449" y="1201"/>
                  </a:lnTo>
                  <a:lnTo>
                    <a:pt x="1454" y="1206"/>
                  </a:lnTo>
                  <a:lnTo>
                    <a:pt x="1454" y="1210"/>
                  </a:lnTo>
                  <a:lnTo>
                    <a:pt x="1458" y="1214"/>
                  </a:lnTo>
                  <a:lnTo>
                    <a:pt x="1458" y="1218"/>
                  </a:lnTo>
                  <a:lnTo>
                    <a:pt x="1462" y="1222"/>
                  </a:lnTo>
                  <a:lnTo>
                    <a:pt x="1462" y="1226"/>
                  </a:lnTo>
                  <a:lnTo>
                    <a:pt x="1462" y="1230"/>
                  </a:lnTo>
                  <a:lnTo>
                    <a:pt x="1466" y="1239"/>
                  </a:lnTo>
                  <a:lnTo>
                    <a:pt x="1466" y="1243"/>
                  </a:lnTo>
                  <a:lnTo>
                    <a:pt x="1470" y="1247"/>
                  </a:lnTo>
                  <a:lnTo>
                    <a:pt x="1470" y="1251"/>
                  </a:lnTo>
                  <a:lnTo>
                    <a:pt x="1470" y="1259"/>
                  </a:lnTo>
                  <a:lnTo>
                    <a:pt x="1474" y="1263"/>
                  </a:lnTo>
                  <a:lnTo>
                    <a:pt x="1474" y="1267"/>
                  </a:lnTo>
                  <a:lnTo>
                    <a:pt x="1478" y="1272"/>
                  </a:lnTo>
                  <a:lnTo>
                    <a:pt x="1478" y="1276"/>
                  </a:lnTo>
                  <a:lnTo>
                    <a:pt x="1482" y="1276"/>
                  </a:lnTo>
                  <a:lnTo>
                    <a:pt x="1482" y="1272"/>
                  </a:lnTo>
                  <a:lnTo>
                    <a:pt x="1482" y="1267"/>
                  </a:lnTo>
                  <a:lnTo>
                    <a:pt x="1487" y="1263"/>
                  </a:lnTo>
                  <a:lnTo>
                    <a:pt x="1487" y="1259"/>
                  </a:lnTo>
                  <a:lnTo>
                    <a:pt x="1491" y="1255"/>
                  </a:lnTo>
                  <a:lnTo>
                    <a:pt x="1491" y="1251"/>
                  </a:lnTo>
                  <a:lnTo>
                    <a:pt x="1495" y="1247"/>
                  </a:lnTo>
                  <a:lnTo>
                    <a:pt x="1495" y="1243"/>
                  </a:lnTo>
                  <a:lnTo>
                    <a:pt x="1499" y="1239"/>
                  </a:lnTo>
                  <a:lnTo>
                    <a:pt x="1499" y="1234"/>
                  </a:lnTo>
                  <a:lnTo>
                    <a:pt x="1503" y="1230"/>
                  </a:lnTo>
                  <a:lnTo>
                    <a:pt x="1503" y="1226"/>
                  </a:lnTo>
                  <a:lnTo>
                    <a:pt x="1507" y="1226"/>
                  </a:lnTo>
                  <a:lnTo>
                    <a:pt x="1507" y="1222"/>
                  </a:lnTo>
                  <a:lnTo>
                    <a:pt x="1511" y="1222"/>
                  </a:lnTo>
                  <a:lnTo>
                    <a:pt x="1515" y="1222"/>
                  </a:lnTo>
                  <a:lnTo>
                    <a:pt x="1515" y="1218"/>
                  </a:lnTo>
                  <a:lnTo>
                    <a:pt x="1520" y="1218"/>
                  </a:lnTo>
                  <a:lnTo>
                    <a:pt x="1524" y="1218"/>
                  </a:lnTo>
                  <a:lnTo>
                    <a:pt x="1528" y="1222"/>
                  </a:lnTo>
                  <a:lnTo>
                    <a:pt x="1532" y="1222"/>
                  </a:lnTo>
                  <a:lnTo>
                    <a:pt x="1532" y="1226"/>
                  </a:lnTo>
                  <a:lnTo>
                    <a:pt x="1536" y="1226"/>
                  </a:lnTo>
                  <a:lnTo>
                    <a:pt x="1536" y="1230"/>
                  </a:lnTo>
                  <a:lnTo>
                    <a:pt x="1540" y="1230"/>
                  </a:lnTo>
                  <a:lnTo>
                    <a:pt x="1540" y="1234"/>
                  </a:lnTo>
                  <a:lnTo>
                    <a:pt x="1544" y="1239"/>
                  </a:lnTo>
                  <a:lnTo>
                    <a:pt x="1544" y="1243"/>
                  </a:lnTo>
                  <a:lnTo>
                    <a:pt x="1548" y="1243"/>
                  </a:lnTo>
                  <a:lnTo>
                    <a:pt x="1548" y="1247"/>
                  </a:lnTo>
                  <a:lnTo>
                    <a:pt x="1548" y="1251"/>
                  </a:lnTo>
                  <a:lnTo>
                    <a:pt x="1553" y="1251"/>
                  </a:lnTo>
                  <a:lnTo>
                    <a:pt x="1553" y="1255"/>
                  </a:lnTo>
                  <a:lnTo>
                    <a:pt x="1557" y="1259"/>
                  </a:lnTo>
                  <a:lnTo>
                    <a:pt x="1557" y="1263"/>
                  </a:lnTo>
                  <a:lnTo>
                    <a:pt x="1561" y="1263"/>
                  </a:lnTo>
                  <a:lnTo>
                    <a:pt x="1561" y="1267"/>
                  </a:lnTo>
                  <a:lnTo>
                    <a:pt x="1561" y="1272"/>
                  </a:lnTo>
                  <a:lnTo>
                    <a:pt x="1565" y="1276"/>
                  </a:lnTo>
                  <a:lnTo>
                    <a:pt x="1565" y="1280"/>
                  </a:lnTo>
                  <a:lnTo>
                    <a:pt x="1569" y="1280"/>
                  </a:lnTo>
                  <a:lnTo>
                    <a:pt x="1569" y="1276"/>
                  </a:lnTo>
                  <a:lnTo>
                    <a:pt x="1573" y="1272"/>
                  </a:lnTo>
                  <a:lnTo>
                    <a:pt x="1573" y="1267"/>
                  </a:lnTo>
                  <a:lnTo>
                    <a:pt x="1577" y="1263"/>
                  </a:lnTo>
                  <a:lnTo>
                    <a:pt x="1577" y="1259"/>
                  </a:lnTo>
                  <a:lnTo>
                    <a:pt x="1582" y="1259"/>
                  </a:lnTo>
                  <a:lnTo>
                    <a:pt x="1582" y="1255"/>
                  </a:lnTo>
                  <a:lnTo>
                    <a:pt x="1586" y="1251"/>
                  </a:lnTo>
                  <a:lnTo>
                    <a:pt x="1586" y="1247"/>
                  </a:lnTo>
                  <a:lnTo>
                    <a:pt x="1590" y="1247"/>
                  </a:lnTo>
                  <a:lnTo>
                    <a:pt x="1590" y="1243"/>
                  </a:lnTo>
                  <a:lnTo>
                    <a:pt x="1594" y="1243"/>
                  </a:lnTo>
                  <a:lnTo>
                    <a:pt x="1594" y="1239"/>
                  </a:lnTo>
                  <a:lnTo>
                    <a:pt x="1598" y="1239"/>
                  </a:lnTo>
                  <a:lnTo>
                    <a:pt x="1602" y="1234"/>
                  </a:lnTo>
                  <a:lnTo>
                    <a:pt x="1606" y="1234"/>
                  </a:lnTo>
                  <a:lnTo>
                    <a:pt x="1610" y="1234"/>
                  </a:lnTo>
                  <a:lnTo>
                    <a:pt x="1615" y="1234"/>
                  </a:lnTo>
                  <a:lnTo>
                    <a:pt x="1619" y="1234"/>
                  </a:lnTo>
                  <a:lnTo>
                    <a:pt x="1619" y="1239"/>
                  </a:lnTo>
                  <a:lnTo>
                    <a:pt x="1623" y="1239"/>
                  </a:lnTo>
                  <a:lnTo>
                    <a:pt x="1627" y="1243"/>
                  </a:lnTo>
                  <a:lnTo>
                    <a:pt x="1631" y="1247"/>
                  </a:lnTo>
                  <a:lnTo>
                    <a:pt x="1635" y="1251"/>
                  </a:lnTo>
                  <a:lnTo>
                    <a:pt x="1639" y="1255"/>
                  </a:lnTo>
                  <a:lnTo>
                    <a:pt x="1639" y="1259"/>
                  </a:lnTo>
                  <a:lnTo>
                    <a:pt x="1643" y="1263"/>
                  </a:lnTo>
                  <a:lnTo>
                    <a:pt x="1648" y="1267"/>
                  </a:lnTo>
                  <a:lnTo>
                    <a:pt x="1648" y="1272"/>
                  </a:lnTo>
                  <a:lnTo>
                    <a:pt x="1652" y="1272"/>
                  </a:lnTo>
                  <a:lnTo>
                    <a:pt x="1652" y="1276"/>
                  </a:lnTo>
                  <a:lnTo>
                    <a:pt x="1656" y="1280"/>
                  </a:lnTo>
                  <a:lnTo>
                    <a:pt x="1656" y="1276"/>
                  </a:lnTo>
                  <a:lnTo>
                    <a:pt x="1660" y="1276"/>
                  </a:lnTo>
                  <a:lnTo>
                    <a:pt x="1660" y="1272"/>
                  </a:lnTo>
                  <a:lnTo>
                    <a:pt x="1664" y="1272"/>
                  </a:lnTo>
                  <a:lnTo>
                    <a:pt x="1664" y="1267"/>
                  </a:lnTo>
                  <a:lnTo>
                    <a:pt x="1664" y="1263"/>
                  </a:lnTo>
                  <a:lnTo>
                    <a:pt x="1668" y="1263"/>
                  </a:lnTo>
                  <a:lnTo>
                    <a:pt x="1668" y="1259"/>
                  </a:lnTo>
                  <a:lnTo>
                    <a:pt x="1672" y="1259"/>
                  </a:lnTo>
                  <a:lnTo>
                    <a:pt x="1672" y="1255"/>
                  </a:lnTo>
                  <a:lnTo>
                    <a:pt x="1676" y="1255"/>
                  </a:lnTo>
                  <a:lnTo>
                    <a:pt x="1676" y="1251"/>
                  </a:lnTo>
                  <a:lnTo>
                    <a:pt x="1681" y="1251"/>
                  </a:lnTo>
                  <a:lnTo>
                    <a:pt x="1681" y="1247"/>
                  </a:lnTo>
                  <a:lnTo>
                    <a:pt x="1685" y="1247"/>
                  </a:lnTo>
                  <a:lnTo>
                    <a:pt x="1685" y="1243"/>
                  </a:lnTo>
                  <a:lnTo>
                    <a:pt x="1689" y="1243"/>
                  </a:lnTo>
                  <a:lnTo>
                    <a:pt x="1693" y="1243"/>
                  </a:lnTo>
                  <a:lnTo>
                    <a:pt x="1697" y="1243"/>
                  </a:lnTo>
                  <a:lnTo>
                    <a:pt x="1701" y="1243"/>
                  </a:lnTo>
                  <a:lnTo>
                    <a:pt x="1705" y="1243"/>
                  </a:lnTo>
                  <a:lnTo>
                    <a:pt x="1709" y="1243"/>
                  </a:lnTo>
                  <a:lnTo>
                    <a:pt x="1709" y="1247"/>
                  </a:lnTo>
                  <a:lnTo>
                    <a:pt x="1714" y="1247"/>
                  </a:lnTo>
                  <a:lnTo>
                    <a:pt x="1718" y="1247"/>
                  </a:lnTo>
                  <a:lnTo>
                    <a:pt x="1718" y="1251"/>
                  </a:lnTo>
                  <a:lnTo>
                    <a:pt x="1722" y="1251"/>
                  </a:lnTo>
                  <a:lnTo>
                    <a:pt x="1722" y="1255"/>
                  </a:lnTo>
                  <a:lnTo>
                    <a:pt x="1726" y="1255"/>
                  </a:lnTo>
                  <a:lnTo>
                    <a:pt x="1726" y="1259"/>
                  </a:lnTo>
                  <a:lnTo>
                    <a:pt x="1730" y="1259"/>
                  </a:lnTo>
                  <a:lnTo>
                    <a:pt x="1730" y="1263"/>
                  </a:lnTo>
                  <a:lnTo>
                    <a:pt x="1734" y="1267"/>
                  </a:lnTo>
                  <a:lnTo>
                    <a:pt x="1738" y="1272"/>
                  </a:lnTo>
                  <a:lnTo>
                    <a:pt x="1738" y="1276"/>
                  </a:lnTo>
                  <a:lnTo>
                    <a:pt x="1743" y="1276"/>
                  </a:lnTo>
                  <a:lnTo>
                    <a:pt x="1743" y="1280"/>
                  </a:lnTo>
                  <a:lnTo>
                    <a:pt x="1747" y="1276"/>
                  </a:lnTo>
                  <a:lnTo>
                    <a:pt x="1751" y="1272"/>
                  </a:lnTo>
                  <a:lnTo>
                    <a:pt x="1755" y="1267"/>
                  </a:lnTo>
                  <a:lnTo>
                    <a:pt x="1755" y="1263"/>
                  </a:lnTo>
                  <a:lnTo>
                    <a:pt x="1759" y="1263"/>
                  </a:lnTo>
                  <a:lnTo>
                    <a:pt x="1759" y="1259"/>
                  </a:lnTo>
                  <a:lnTo>
                    <a:pt x="1763" y="1259"/>
                  </a:lnTo>
                  <a:lnTo>
                    <a:pt x="1763" y="1255"/>
                  </a:lnTo>
                  <a:lnTo>
                    <a:pt x="1767" y="1255"/>
                  </a:lnTo>
                  <a:lnTo>
                    <a:pt x="1767" y="1251"/>
                  </a:lnTo>
                  <a:lnTo>
                    <a:pt x="1771" y="1251"/>
                  </a:lnTo>
                  <a:lnTo>
                    <a:pt x="1771" y="1247"/>
                  </a:lnTo>
                  <a:lnTo>
                    <a:pt x="1776" y="1247"/>
                  </a:lnTo>
                  <a:lnTo>
                    <a:pt x="1780" y="1243"/>
                  </a:lnTo>
                  <a:lnTo>
                    <a:pt x="1784" y="1243"/>
                  </a:lnTo>
                  <a:lnTo>
                    <a:pt x="1788" y="1243"/>
                  </a:lnTo>
                </a:path>
              </a:pathLst>
            </a:custGeom>
            <a:noFill/>
            <a:ln cap="rnd" w="255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797120" y="4911840"/>
              <a:ext cx="1649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frekvencija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rot="16200000">
              <a:off x="-228960" y="3079800"/>
              <a:ext cx="1315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980720" y="1719360"/>
              <a:ext cx="97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=2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7" name=""/>
          <p:cNvGrpSpPr/>
          <p:nvPr/>
        </p:nvGrpSpPr>
        <p:grpSpPr>
          <a:xfrm>
            <a:off x="4802040" y="1693800"/>
            <a:ext cx="3817080" cy="3615480"/>
            <a:chOff x="4802040" y="1693800"/>
            <a:chExt cx="3817080" cy="3615480"/>
          </a:xfrm>
        </p:grpSpPr>
        <p:sp>
          <p:nvSpPr>
            <p:cNvPr id="1488" name=""/>
            <p:cNvSpPr/>
            <p:nvPr/>
          </p:nvSpPr>
          <p:spPr>
            <a:xfrm flipV="1">
              <a:off x="5719680" y="2324160"/>
              <a:ext cx="0" cy="22320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V="1">
              <a:off x="6426360" y="2324160"/>
              <a:ext cx="0" cy="223200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V="1">
              <a:off x="7140600" y="2324160"/>
              <a:ext cx="0" cy="223200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V="1">
              <a:off x="7846920" y="2324160"/>
              <a:ext cx="0" cy="223200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8553600" y="2324160"/>
              <a:ext cx="0" cy="22320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719680" y="4556160"/>
              <a:ext cx="2833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719680" y="4183200"/>
              <a:ext cx="28339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719680" y="3809880"/>
              <a:ext cx="28339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719680" y="3443400"/>
              <a:ext cx="28339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719680" y="3070080"/>
              <a:ext cx="28339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719680" y="2697120"/>
              <a:ext cx="28339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719680" y="2324160"/>
              <a:ext cx="2833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719680" y="2324160"/>
              <a:ext cx="2835360" cy="2233440"/>
            </a:xfrm>
            <a:custGeom>
              <a:avLst/>
              <a:gdLst/>
              <a:ahLst/>
              <a:rect l="l" t="t" r="r" b="b"/>
              <a:pathLst>
                <a:path w="1786" h="1407">
                  <a:moveTo>
                    <a:pt x="0" y="1406"/>
                  </a:moveTo>
                  <a:lnTo>
                    <a:pt x="0" y="0"/>
                  </a:lnTo>
                  <a:lnTo>
                    <a:pt x="1785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719680" y="2324160"/>
              <a:ext cx="2835360" cy="2233440"/>
            </a:xfrm>
            <a:custGeom>
              <a:avLst/>
              <a:gdLst/>
              <a:ahLst/>
              <a:rect l="l" t="t" r="r" b="b"/>
              <a:pathLst>
                <a:path w="1786" h="1407">
                  <a:moveTo>
                    <a:pt x="0" y="1406"/>
                  </a:moveTo>
                  <a:lnTo>
                    <a:pt x="0" y="0"/>
                  </a:lnTo>
                  <a:lnTo>
                    <a:pt x="1785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719680" y="2324160"/>
              <a:ext cx="2835360" cy="2233440"/>
            </a:xfrm>
            <a:custGeom>
              <a:avLst/>
              <a:gdLst/>
              <a:ahLst/>
              <a:rect l="l" t="t" r="r" b="b"/>
              <a:pathLst>
                <a:path w="1786" h="1407">
                  <a:moveTo>
                    <a:pt x="0" y="1406"/>
                  </a:moveTo>
                  <a:lnTo>
                    <a:pt x="0" y="0"/>
                  </a:lnTo>
                  <a:lnTo>
                    <a:pt x="1785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719680" y="4556160"/>
              <a:ext cx="2833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719680" y="2324160"/>
              <a:ext cx="2833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V="1">
              <a:off x="5719680" y="2324160"/>
              <a:ext cx="0" cy="22320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V="1">
              <a:off x="8553600" y="2324160"/>
              <a:ext cx="0" cy="22320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719680" y="232416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719680" y="4556160"/>
              <a:ext cx="2833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V="1">
              <a:off x="5719680" y="2324160"/>
              <a:ext cx="0" cy="22320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719680" y="455616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5719680" y="4530240"/>
              <a:ext cx="0" cy="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719680" y="2324160"/>
              <a:ext cx="0" cy="2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V="1">
              <a:off x="6426360" y="4530240"/>
              <a:ext cx="0" cy="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426360" y="2324160"/>
              <a:ext cx="0" cy="2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V="1">
              <a:off x="7140600" y="4530240"/>
              <a:ext cx="0" cy="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140600" y="2324160"/>
              <a:ext cx="0" cy="2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V="1">
              <a:off x="7846920" y="4530240"/>
              <a:ext cx="0" cy="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846920" y="2324160"/>
              <a:ext cx="0" cy="2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8553600" y="4530240"/>
              <a:ext cx="0" cy="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8553600" y="2324160"/>
              <a:ext cx="0" cy="2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719680" y="455616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8527680" y="455616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719680" y="418320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8527680" y="418320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719680" y="380988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8527680" y="380988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719680" y="344340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8527680" y="344340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719680" y="307008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8527680" y="307008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719680" y="269712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8527680" y="269712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719680" y="232416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8527680" y="232416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719680" y="4556160"/>
              <a:ext cx="2833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719680" y="2324160"/>
              <a:ext cx="2833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V="1">
              <a:off x="5719680" y="2324160"/>
              <a:ext cx="0" cy="22320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V="1">
              <a:off x="8553600" y="2324160"/>
              <a:ext cx="0" cy="22320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719680" y="455616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719680" y="2527200"/>
              <a:ext cx="2835360" cy="2030400"/>
            </a:xfrm>
            <a:custGeom>
              <a:avLst/>
              <a:gdLst/>
              <a:ahLst/>
              <a:rect l="l" t="t" r="r" b="b"/>
              <a:pathLst>
                <a:path w="1786" h="1279">
                  <a:moveTo>
                    <a:pt x="0" y="1262"/>
                  </a:moveTo>
                  <a:lnTo>
                    <a:pt x="4" y="1262"/>
                  </a:lnTo>
                  <a:lnTo>
                    <a:pt x="8" y="1262"/>
                  </a:lnTo>
                  <a:lnTo>
                    <a:pt x="12" y="1266"/>
                  </a:lnTo>
                  <a:lnTo>
                    <a:pt x="16" y="1270"/>
                  </a:lnTo>
                  <a:lnTo>
                    <a:pt x="20" y="1274"/>
                  </a:lnTo>
                  <a:lnTo>
                    <a:pt x="20" y="1278"/>
                  </a:lnTo>
                  <a:lnTo>
                    <a:pt x="25" y="1274"/>
                  </a:lnTo>
                  <a:lnTo>
                    <a:pt x="29" y="1270"/>
                  </a:lnTo>
                  <a:lnTo>
                    <a:pt x="33" y="1266"/>
                  </a:lnTo>
                  <a:lnTo>
                    <a:pt x="33" y="1262"/>
                  </a:lnTo>
                  <a:lnTo>
                    <a:pt x="37" y="1262"/>
                  </a:lnTo>
                  <a:lnTo>
                    <a:pt x="41" y="1262"/>
                  </a:lnTo>
                  <a:lnTo>
                    <a:pt x="45" y="1257"/>
                  </a:lnTo>
                  <a:lnTo>
                    <a:pt x="45" y="1262"/>
                  </a:lnTo>
                  <a:lnTo>
                    <a:pt x="49" y="1262"/>
                  </a:lnTo>
                  <a:lnTo>
                    <a:pt x="53" y="1262"/>
                  </a:lnTo>
                  <a:lnTo>
                    <a:pt x="58" y="1266"/>
                  </a:lnTo>
                  <a:lnTo>
                    <a:pt x="58" y="1270"/>
                  </a:lnTo>
                  <a:lnTo>
                    <a:pt x="62" y="1270"/>
                  </a:lnTo>
                  <a:lnTo>
                    <a:pt x="62" y="1274"/>
                  </a:lnTo>
                  <a:lnTo>
                    <a:pt x="66" y="1274"/>
                  </a:lnTo>
                  <a:lnTo>
                    <a:pt x="66" y="1278"/>
                  </a:lnTo>
                  <a:lnTo>
                    <a:pt x="70" y="1274"/>
                  </a:lnTo>
                  <a:lnTo>
                    <a:pt x="70" y="1270"/>
                  </a:lnTo>
                  <a:lnTo>
                    <a:pt x="74" y="1270"/>
                  </a:lnTo>
                  <a:lnTo>
                    <a:pt x="74" y="1266"/>
                  </a:lnTo>
                  <a:lnTo>
                    <a:pt x="78" y="1266"/>
                  </a:lnTo>
                  <a:lnTo>
                    <a:pt x="78" y="1262"/>
                  </a:lnTo>
                  <a:lnTo>
                    <a:pt x="82" y="1262"/>
                  </a:lnTo>
                  <a:lnTo>
                    <a:pt x="86" y="1257"/>
                  </a:lnTo>
                  <a:lnTo>
                    <a:pt x="91" y="1257"/>
                  </a:lnTo>
                  <a:lnTo>
                    <a:pt x="95" y="1262"/>
                  </a:lnTo>
                  <a:lnTo>
                    <a:pt x="99" y="1262"/>
                  </a:lnTo>
                  <a:lnTo>
                    <a:pt x="103" y="1266"/>
                  </a:lnTo>
                  <a:lnTo>
                    <a:pt x="103" y="1270"/>
                  </a:lnTo>
                  <a:lnTo>
                    <a:pt x="107" y="1270"/>
                  </a:lnTo>
                  <a:lnTo>
                    <a:pt x="107" y="1274"/>
                  </a:lnTo>
                  <a:lnTo>
                    <a:pt x="111" y="1278"/>
                  </a:lnTo>
                  <a:lnTo>
                    <a:pt x="111" y="1274"/>
                  </a:lnTo>
                  <a:lnTo>
                    <a:pt x="115" y="1274"/>
                  </a:lnTo>
                  <a:lnTo>
                    <a:pt x="115" y="1270"/>
                  </a:lnTo>
                  <a:lnTo>
                    <a:pt x="119" y="1270"/>
                  </a:lnTo>
                  <a:lnTo>
                    <a:pt x="119" y="1266"/>
                  </a:lnTo>
                  <a:lnTo>
                    <a:pt x="124" y="1266"/>
                  </a:lnTo>
                  <a:lnTo>
                    <a:pt x="124" y="1262"/>
                  </a:lnTo>
                  <a:lnTo>
                    <a:pt x="128" y="1257"/>
                  </a:lnTo>
                  <a:lnTo>
                    <a:pt x="132" y="1257"/>
                  </a:lnTo>
                  <a:lnTo>
                    <a:pt x="136" y="1257"/>
                  </a:lnTo>
                  <a:lnTo>
                    <a:pt x="140" y="1257"/>
                  </a:lnTo>
                  <a:lnTo>
                    <a:pt x="140" y="1262"/>
                  </a:lnTo>
                  <a:lnTo>
                    <a:pt x="144" y="1262"/>
                  </a:lnTo>
                  <a:lnTo>
                    <a:pt x="148" y="1266"/>
                  </a:lnTo>
                  <a:lnTo>
                    <a:pt x="148" y="1270"/>
                  </a:lnTo>
                  <a:lnTo>
                    <a:pt x="152" y="1274"/>
                  </a:lnTo>
                  <a:lnTo>
                    <a:pt x="157" y="1278"/>
                  </a:lnTo>
                  <a:lnTo>
                    <a:pt x="157" y="1274"/>
                  </a:lnTo>
                  <a:lnTo>
                    <a:pt x="161" y="1270"/>
                  </a:lnTo>
                  <a:lnTo>
                    <a:pt x="165" y="1266"/>
                  </a:lnTo>
                  <a:lnTo>
                    <a:pt x="169" y="1262"/>
                  </a:lnTo>
                  <a:lnTo>
                    <a:pt x="169" y="1257"/>
                  </a:lnTo>
                  <a:lnTo>
                    <a:pt x="173" y="1257"/>
                  </a:lnTo>
                  <a:lnTo>
                    <a:pt x="177" y="1257"/>
                  </a:lnTo>
                  <a:lnTo>
                    <a:pt x="177" y="1253"/>
                  </a:lnTo>
                  <a:lnTo>
                    <a:pt x="181" y="1253"/>
                  </a:lnTo>
                  <a:lnTo>
                    <a:pt x="181" y="1257"/>
                  </a:lnTo>
                  <a:lnTo>
                    <a:pt x="185" y="1257"/>
                  </a:lnTo>
                  <a:lnTo>
                    <a:pt x="190" y="1262"/>
                  </a:lnTo>
                  <a:lnTo>
                    <a:pt x="194" y="1266"/>
                  </a:lnTo>
                  <a:lnTo>
                    <a:pt x="194" y="1270"/>
                  </a:lnTo>
                  <a:lnTo>
                    <a:pt x="198" y="1274"/>
                  </a:lnTo>
                  <a:lnTo>
                    <a:pt x="202" y="1278"/>
                  </a:lnTo>
                  <a:lnTo>
                    <a:pt x="202" y="1274"/>
                  </a:lnTo>
                  <a:lnTo>
                    <a:pt x="202" y="1270"/>
                  </a:lnTo>
                  <a:lnTo>
                    <a:pt x="206" y="1270"/>
                  </a:lnTo>
                  <a:lnTo>
                    <a:pt x="206" y="1266"/>
                  </a:lnTo>
                  <a:lnTo>
                    <a:pt x="210" y="1262"/>
                  </a:lnTo>
                  <a:lnTo>
                    <a:pt x="214" y="1257"/>
                  </a:lnTo>
                  <a:lnTo>
                    <a:pt x="214" y="1253"/>
                  </a:lnTo>
                  <a:lnTo>
                    <a:pt x="218" y="1253"/>
                  </a:lnTo>
                  <a:lnTo>
                    <a:pt x="223" y="1253"/>
                  </a:lnTo>
                  <a:lnTo>
                    <a:pt x="227" y="1253"/>
                  </a:lnTo>
                  <a:lnTo>
                    <a:pt x="231" y="1253"/>
                  </a:lnTo>
                  <a:lnTo>
                    <a:pt x="231" y="1257"/>
                  </a:lnTo>
                  <a:lnTo>
                    <a:pt x="235" y="1257"/>
                  </a:lnTo>
                  <a:lnTo>
                    <a:pt x="235" y="1262"/>
                  </a:lnTo>
                  <a:lnTo>
                    <a:pt x="239" y="1266"/>
                  </a:lnTo>
                  <a:lnTo>
                    <a:pt x="239" y="1270"/>
                  </a:lnTo>
                  <a:lnTo>
                    <a:pt x="243" y="1274"/>
                  </a:lnTo>
                  <a:lnTo>
                    <a:pt x="243" y="1278"/>
                  </a:lnTo>
                  <a:lnTo>
                    <a:pt x="247" y="1274"/>
                  </a:lnTo>
                  <a:lnTo>
                    <a:pt x="247" y="1270"/>
                  </a:lnTo>
                  <a:lnTo>
                    <a:pt x="251" y="1266"/>
                  </a:lnTo>
                  <a:lnTo>
                    <a:pt x="251" y="1262"/>
                  </a:lnTo>
                  <a:lnTo>
                    <a:pt x="256" y="1257"/>
                  </a:lnTo>
                  <a:lnTo>
                    <a:pt x="260" y="1253"/>
                  </a:lnTo>
                  <a:lnTo>
                    <a:pt x="260" y="1249"/>
                  </a:lnTo>
                  <a:lnTo>
                    <a:pt x="264" y="1249"/>
                  </a:lnTo>
                  <a:lnTo>
                    <a:pt x="268" y="1245"/>
                  </a:lnTo>
                  <a:lnTo>
                    <a:pt x="272" y="1249"/>
                  </a:lnTo>
                  <a:lnTo>
                    <a:pt x="276" y="1253"/>
                  </a:lnTo>
                  <a:lnTo>
                    <a:pt x="280" y="1257"/>
                  </a:lnTo>
                  <a:lnTo>
                    <a:pt x="284" y="1262"/>
                  </a:lnTo>
                  <a:lnTo>
                    <a:pt x="284" y="1266"/>
                  </a:lnTo>
                  <a:lnTo>
                    <a:pt x="284" y="1270"/>
                  </a:lnTo>
                  <a:lnTo>
                    <a:pt x="288" y="1274"/>
                  </a:lnTo>
                  <a:lnTo>
                    <a:pt x="288" y="1278"/>
                  </a:lnTo>
                  <a:lnTo>
                    <a:pt x="293" y="1274"/>
                  </a:lnTo>
                  <a:lnTo>
                    <a:pt x="293" y="1270"/>
                  </a:lnTo>
                  <a:lnTo>
                    <a:pt x="293" y="1266"/>
                  </a:lnTo>
                  <a:lnTo>
                    <a:pt x="297" y="1262"/>
                  </a:lnTo>
                  <a:lnTo>
                    <a:pt x="297" y="1257"/>
                  </a:lnTo>
                  <a:lnTo>
                    <a:pt x="301" y="1253"/>
                  </a:lnTo>
                  <a:lnTo>
                    <a:pt x="301" y="1249"/>
                  </a:lnTo>
                  <a:lnTo>
                    <a:pt x="305" y="1245"/>
                  </a:lnTo>
                  <a:lnTo>
                    <a:pt x="305" y="1241"/>
                  </a:lnTo>
                  <a:lnTo>
                    <a:pt x="309" y="1241"/>
                  </a:lnTo>
                  <a:lnTo>
                    <a:pt x="309" y="1237"/>
                  </a:lnTo>
                  <a:lnTo>
                    <a:pt x="313" y="1237"/>
                  </a:lnTo>
                  <a:lnTo>
                    <a:pt x="317" y="1237"/>
                  </a:lnTo>
                  <a:lnTo>
                    <a:pt x="317" y="1241"/>
                  </a:lnTo>
                  <a:lnTo>
                    <a:pt x="321" y="1245"/>
                  </a:lnTo>
                  <a:lnTo>
                    <a:pt x="321" y="1249"/>
                  </a:lnTo>
                  <a:lnTo>
                    <a:pt x="326" y="1253"/>
                  </a:lnTo>
                  <a:lnTo>
                    <a:pt x="326" y="1257"/>
                  </a:lnTo>
                  <a:lnTo>
                    <a:pt x="326" y="1262"/>
                  </a:lnTo>
                  <a:lnTo>
                    <a:pt x="330" y="1266"/>
                  </a:lnTo>
                  <a:lnTo>
                    <a:pt x="330" y="1270"/>
                  </a:lnTo>
                  <a:lnTo>
                    <a:pt x="334" y="1278"/>
                  </a:lnTo>
                  <a:lnTo>
                    <a:pt x="334" y="1274"/>
                  </a:lnTo>
                  <a:lnTo>
                    <a:pt x="338" y="1266"/>
                  </a:lnTo>
                  <a:lnTo>
                    <a:pt x="338" y="1262"/>
                  </a:lnTo>
                  <a:lnTo>
                    <a:pt x="338" y="1253"/>
                  </a:lnTo>
                  <a:lnTo>
                    <a:pt x="342" y="1249"/>
                  </a:lnTo>
                  <a:lnTo>
                    <a:pt x="342" y="1245"/>
                  </a:lnTo>
                  <a:lnTo>
                    <a:pt x="346" y="1237"/>
                  </a:lnTo>
                  <a:lnTo>
                    <a:pt x="346" y="1233"/>
                  </a:lnTo>
                  <a:lnTo>
                    <a:pt x="350" y="1229"/>
                  </a:lnTo>
                  <a:lnTo>
                    <a:pt x="350" y="1224"/>
                  </a:lnTo>
                  <a:lnTo>
                    <a:pt x="354" y="1220"/>
                  </a:lnTo>
                  <a:lnTo>
                    <a:pt x="359" y="1220"/>
                  </a:lnTo>
                  <a:lnTo>
                    <a:pt x="363" y="1220"/>
                  </a:lnTo>
                  <a:lnTo>
                    <a:pt x="363" y="1224"/>
                  </a:lnTo>
                  <a:lnTo>
                    <a:pt x="363" y="1229"/>
                  </a:lnTo>
                  <a:lnTo>
                    <a:pt x="367" y="1233"/>
                  </a:lnTo>
                  <a:lnTo>
                    <a:pt x="367" y="1237"/>
                  </a:lnTo>
                  <a:lnTo>
                    <a:pt x="371" y="1245"/>
                  </a:lnTo>
                  <a:lnTo>
                    <a:pt x="371" y="1253"/>
                  </a:lnTo>
                  <a:lnTo>
                    <a:pt x="371" y="1257"/>
                  </a:lnTo>
                  <a:lnTo>
                    <a:pt x="375" y="1266"/>
                  </a:lnTo>
                  <a:lnTo>
                    <a:pt x="375" y="1278"/>
                  </a:lnTo>
                  <a:lnTo>
                    <a:pt x="379" y="1270"/>
                  </a:lnTo>
                  <a:lnTo>
                    <a:pt x="379" y="1262"/>
                  </a:lnTo>
                  <a:lnTo>
                    <a:pt x="383" y="1249"/>
                  </a:lnTo>
                  <a:lnTo>
                    <a:pt x="383" y="1241"/>
                  </a:lnTo>
                  <a:lnTo>
                    <a:pt x="383" y="1229"/>
                  </a:lnTo>
                  <a:lnTo>
                    <a:pt x="387" y="1220"/>
                  </a:lnTo>
                  <a:lnTo>
                    <a:pt x="387" y="1212"/>
                  </a:lnTo>
                  <a:lnTo>
                    <a:pt x="392" y="1204"/>
                  </a:lnTo>
                  <a:lnTo>
                    <a:pt x="392" y="1196"/>
                  </a:lnTo>
                  <a:lnTo>
                    <a:pt x="396" y="1187"/>
                  </a:lnTo>
                  <a:lnTo>
                    <a:pt x="396" y="1183"/>
                  </a:lnTo>
                  <a:lnTo>
                    <a:pt x="396" y="1179"/>
                  </a:lnTo>
                  <a:lnTo>
                    <a:pt x="400" y="1175"/>
                  </a:lnTo>
                  <a:lnTo>
                    <a:pt x="400" y="1171"/>
                  </a:lnTo>
                  <a:lnTo>
                    <a:pt x="404" y="1175"/>
                  </a:lnTo>
                  <a:lnTo>
                    <a:pt x="408" y="1179"/>
                  </a:lnTo>
                  <a:lnTo>
                    <a:pt x="408" y="1187"/>
                  </a:lnTo>
                  <a:lnTo>
                    <a:pt x="408" y="1196"/>
                  </a:lnTo>
                  <a:lnTo>
                    <a:pt x="412" y="1204"/>
                  </a:lnTo>
                  <a:lnTo>
                    <a:pt x="412" y="1216"/>
                  </a:lnTo>
                  <a:lnTo>
                    <a:pt x="416" y="1233"/>
                  </a:lnTo>
                  <a:lnTo>
                    <a:pt x="416" y="1249"/>
                  </a:lnTo>
                  <a:lnTo>
                    <a:pt x="416" y="1270"/>
                  </a:lnTo>
                  <a:lnTo>
                    <a:pt x="420" y="1262"/>
                  </a:lnTo>
                  <a:lnTo>
                    <a:pt x="420" y="1237"/>
                  </a:lnTo>
                  <a:lnTo>
                    <a:pt x="425" y="1208"/>
                  </a:lnTo>
                  <a:lnTo>
                    <a:pt x="425" y="1179"/>
                  </a:lnTo>
                  <a:lnTo>
                    <a:pt x="429" y="1146"/>
                  </a:lnTo>
                  <a:lnTo>
                    <a:pt x="429" y="1113"/>
                  </a:lnTo>
                  <a:lnTo>
                    <a:pt x="429" y="1076"/>
                  </a:lnTo>
                  <a:lnTo>
                    <a:pt x="433" y="1039"/>
                  </a:lnTo>
                  <a:lnTo>
                    <a:pt x="433" y="1002"/>
                  </a:lnTo>
                  <a:lnTo>
                    <a:pt x="437" y="961"/>
                  </a:lnTo>
                  <a:lnTo>
                    <a:pt x="437" y="915"/>
                  </a:lnTo>
                  <a:lnTo>
                    <a:pt x="441" y="874"/>
                  </a:lnTo>
                  <a:lnTo>
                    <a:pt x="441" y="829"/>
                  </a:lnTo>
                  <a:lnTo>
                    <a:pt x="441" y="783"/>
                  </a:lnTo>
                  <a:lnTo>
                    <a:pt x="445" y="738"/>
                  </a:lnTo>
                  <a:lnTo>
                    <a:pt x="445" y="692"/>
                  </a:lnTo>
                  <a:lnTo>
                    <a:pt x="449" y="647"/>
                  </a:lnTo>
                  <a:lnTo>
                    <a:pt x="449" y="602"/>
                  </a:lnTo>
                  <a:lnTo>
                    <a:pt x="453" y="556"/>
                  </a:lnTo>
                  <a:lnTo>
                    <a:pt x="453" y="511"/>
                  </a:lnTo>
                  <a:lnTo>
                    <a:pt x="453" y="470"/>
                  </a:lnTo>
                  <a:lnTo>
                    <a:pt x="458" y="424"/>
                  </a:lnTo>
                  <a:lnTo>
                    <a:pt x="458" y="383"/>
                  </a:lnTo>
                  <a:lnTo>
                    <a:pt x="462" y="346"/>
                  </a:lnTo>
                  <a:lnTo>
                    <a:pt x="462" y="309"/>
                  </a:lnTo>
                  <a:lnTo>
                    <a:pt x="462" y="272"/>
                  </a:lnTo>
                  <a:lnTo>
                    <a:pt x="466" y="235"/>
                  </a:lnTo>
                  <a:lnTo>
                    <a:pt x="466" y="206"/>
                  </a:lnTo>
                  <a:lnTo>
                    <a:pt x="470" y="173"/>
                  </a:lnTo>
                  <a:lnTo>
                    <a:pt x="470" y="148"/>
                  </a:lnTo>
                  <a:lnTo>
                    <a:pt x="474" y="123"/>
                  </a:lnTo>
                  <a:lnTo>
                    <a:pt x="474" y="99"/>
                  </a:lnTo>
                  <a:lnTo>
                    <a:pt x="474" y="78"/>
                  </a:lnTo>
                  <a:lnTo>
                    <a:pt x="478" y="62"/>
                  </a:lnTo>
                  <a:lnTo>
                    <a:pt x="478" y="45"/>
                  </a:lnTo>
                  <a:lnTo>
                    <a:pt x="482" y="33"/>
                  </a:lnTo>
                  <a:lnTo>
                    <a:pt x="482" y="20"/>
                  </a:lnTo>
                  <a:lnTo>
                    <a:pt x="486" y="12"/>
                  </a:lnTo>
                  <a:lnTo>
                    <a:pt x="486" y="8"/>
                  </a:lnTo>
                  <a:lnTo>
                    <a:pt x="486" y="4"/>
                  </a:lnTo>
                  <a:lnTo>
                    <a:pt x="491" y="0"/>
                  </a:lnTo>
                  <a:lnTo>
                    <a:pt x="495" y="4"/>
                  </a:lnTo>
                  <a:lnTo>
                    <a:pt x="499" y="12"/>
                  </a:lnTo>
                  <a:lnTo>
                    <a:pt x="499" y="16"/>
                  </a:lnTo>
                  <a:lnTo>
                    <a:pt x="499" y="24"/>
                  </a:lnTo>
                  <a:lnTo>
                    <a:pt x="503" y="33"/>
                  </a:lnTo>
                  <a:lnTo>
                    <a:pt x="503" y="41"/>
                  </a:lnTo>
                  <a:lnTo>
                    <a:pt x="507" y="49"/>
                  </a:lnTo>
                  <a:lnTo>
                    <a:pt x="507" y="57"/>
                  </a:lnTo>
                  <a:lnTo>
                    <a:pt x="507" y="70"/>
                  </a:lnTo>
                  <a:lnTo>
                    <a:pt x="511" y="78"/>
                  </a:lnTo>
                  <a:lnTo>
                    <a:pt x="511" y="90"/>
                  </a:lnTo>
                  <a:lnTo>
                    <a:pt x="515" y="99"/>
                  </a:lnTo>
                  <a:lnTo>
                    <a:pt x="515" y="107"/>
                  </a:lnTo>
                  <a:lnTo>
                    <a:pt x="519" y="115"/>
                  </a:lnTo>
                  <a:lnTo>
                    <a:pt x="519" y="123"/>
                  </a:lnTo>
                  <a:lnTo>
                    <a:pt x="519" y="132"/>
                  </a:lnTo>
                  <a:lnTo>
                    <a:pt x="524" y="140"/>
                  </a:lnTo>
                  <a:lnTo>
                    <a:pt x="524" y="148"/>
                  </a:lnTo>
                  <a:lnTo>
                    <a:pt x="528" y="152"/>
                  </a:lnTo>
                  <a:lnTo>
                    <a:pt x="528" y="156"/>
                  </a:lnTo>
                  <a:lnTo>
                    <a:pt x="532" y="161"/>
                  </a:lnTo>
                  <a:lnTo>
                    <a:pt x="532" y="165"/>
                  </a:lnTo>
                  <a:lnTo>
                    <a:pt x="536" y="165"/>
                  </a:lnTo>
                  <a:lnTo>
                    <a:pt x="540" y="165"/>
                  </a:lnTo>
                  <a:lnTo>
                    <a:pt x="540" y="161"/>
                  </a:lnTo>
                  <a:lnTo>
                    <a:pt x="544" y="156"/>
                  </a:lnTo>
                  <a:lnTo>
                    <a:pt x="544" y="152"/>
                  </a:lnTo>
                  <a:lnTo>
                    <a:pt x="548" y="144"/>
                  </a:lnTo>
                  <a:lnTo>
                    <a:pt x="548" y="140"/>
                  </a:lnTo>
                  <a:lnTo>
                    <a:pt x="552" y="136"/>
                  </a:lnTo>
                  <a:lnTo>
                    <a:pt x="552" y="128"/>
                  </a:lnTo>
                  <a:lnTo>
                    <a:pt x="552" y="123"/>
                  </a:lnTo>
                  <a:lnTo>
                    <a:pt x="557" y="119"/>
                  </a:lnTo>
                  <a:lnTo>
                    <a:pt x="557" y="111"/>
                  </a:lnTo>
                  <a:lnTo>
                    <a:pt x="561" y="107"/>
                  </a:lnTo>
                  <a:lnTo>
                    <a:pt x="561" y="99"/>
                  </a:lnTo>
                  <a:lnTo>
                    <a:pt x="565" y="95"/>
                  </a:lnTo>
                  <a:lnTo>
                    <a:pt x="565" y="90"/>
                  </a:lnTo>
                  <a:lnTo>
                    <a:pt x="565" y="86"/>
                  </a:lnTo>
                  <a:lnTo>
                    <a:pt x="569" y="82"/>
                  </a:lnTo>
                  <a:lnTo>
                    <a:pt x="569" y="78"/>
                  </a:lnTo>
                  <a:lnTo>
                    <a:pt x="573" y="74"/>
                  </a:lnTo>
                  <a:lnTo>
                    <a:pt x="573" y="70"/>
                  </a:lnTo>
                  <a:lnTo>
                    <a:pt x="577" y="70"/>
                  </a:lnTo>
                  <a:lnTo>
                    <a:pt x="577" y="66"/>
                  </a:lnTo>
                  <a:lnTo>
                    <a:pt x="581" y="66"/>
                  </a:lnTo>
                  <a:lnTo>
                    <a:pt x="585" y="66"/>
                  </a:lnTo>
                  <a:lnTo>
                    <a:pt x="585" y="70"/>
                  </a:lnTo>
                  <a:lnTo>
                    <a:pt x="589" y="70"/>
                  </a:lnTo>
                  <a:lnTo>
                    <a:pt x="589" y="74"/>
                  </a:lnTo>
                  <a:lnTo>
                    <a:pt x="589" y="78"/>
                  </a:lnTo>
                  <a:lnTo>
                    <a:pt x="594" y="82"/>
                  </a:lnTo>
                  <a:lnTo>
                    <a:pt x="598" y="86"/>
                  </a:lnTo>
                  <a:lnTo>
                    <a:pt x="598" y="90"/>
                  </a:lnTo>
                  <a:lnTo>
                    <a:pt x="598" y="95"/>
                  </a:lnTo>
                  <a:lnTo>
                    <a:pt x="602" y="103"/>
                  </a:lnTo>
                  <a:lnTo>
                    <a:pt x="602" y="107"/>
                  </a:lnTo>
                  <a:lnTo>
                    <a:pt x="606" y="111"/>
                  </a:lnTo>
                  <a:lnTo>
                    <a:pt x="606" y="115"/>
                  </a:lnTo>
                  <a:lnTo>
                    <a:pt x="610" y="119"/>
                  </a:lnTo>
                  <a:lnTo>
                    <a:pt x="610" y="123"/>
                  </a:lnTo>
                  <a:lnTo>
                    <a:pt x="614" y="128"/>
                  </a:lnTo>
                  <a:lnTo>
                    <a:pt x="614" y="132"/>
                  </a:lnTo>
                  <a:lnTo>
                    <a:pt x="618" y="132"/>
                  </a:lnTo>
                  <a:lnTo>
                    <a:pt x="618" y="136"/>
                  </a:lnTo>
                  <a:lnTo>
                    <a:pt x="622" y="136"/>
                  </a:lnTo>
                  <a:lnTo>
                    <a:pt x="627" y="136"/>
                  </a:lnTo>
                  <a:lnTo>
                    <a:pt x="631" y="136"/>
                  </a:lnTo>
                  <a:lnTo>
                    <a:pt x="631" y="132"/>
                  </a:lnTo>
                  <a:lnTo>
                    <a:pt x="635" y="132"/>
                  </a:lnTo>
                  <a:lnTo>
                    <a:pt x="635" y="128"/>
                  </a:lnTo>
                  <a:lnTo>
                    <a:pt x="639" y="123"/>
                  </a:lnTo>
                  <a:lnTo>
                    <a:pt x="643" y="119"/>
                  </a:lnTo>
                  <a:lnTo>
                    <a:pt x="643" y="115"/>
                  </a:lnTo>
                  <a:lnTo>
                    <a:pt x="643" y="111"/>
                  </a:lnTo>
                  <a:lnTo>
                    <a:pt x="647" y="107"/>
                  </a:lnTo>
                  <a:lnTo>
                    <a:pt x="651" y="103"/>
                  </a:lnTo>
                  <a:lnTo>
                    <a:pt x="651" y="99"/>
                  </a:lnTo>
                  <a:lnTo>
                    <a:pt x="655" y="95"/>
                  </a:lnTo>
                  <a:lnTo>
                    <a:pt x="655" y="90"/>
                  </a:lnTo>
                  <a:lnTo>
                    <a:pt x="660" y="86"/>
                  </a:lnTo>
                  <a:lnTo>
                    <a:pt x="664" y="82"/>
                  </a:lnTo>
                  <a:lnTo>
                    <a:pt x="668" y="82"/>
                  </a:lnTo>
                  <a:lnTo>
                    <a:pt x="668" y="78"/>
                  </a:lnTo>
                  <a:lnTo>
                    <a:pt x="672" y="82"/>
                  </a:lnTo>
                  <a:lnTo>
                    <a:pt x="676" y="82"/>
                  </a:lnTo>
                  <a:lnTo>
                    <a:pt x="676" y="86"/>
                  </a:lnTo>
                  <a:lnTo>
                    <a:pt x="680" y="86"/>
                  </a:lnTo>
                  <a:lnTo>
                    <a:pt x="680" y="90"/>
                  </a:lnTo>
                  <a:lnTo>
                    <a:pt x="684" y="90"/>
                  </a:lnTo>
                  <a:lnTo>
                    <a:pt x="684" y="95"/>
                  </a:lnTo>
                  <a:lnTo>
                    <a:pt x="688" y="99"/>
                  </a:lnTo>
                  <a:lnTo>
                    <a:pt x="688" y="103"/>
                  </a:lnTo>
                  <a:lnTo>
                    <a:pt x="693" y="107"/>
                  </a:lnTo>
                  <a:lnTo>
                    <a:pt x="697" y="111"/>
                  </a:lnTo>
                  <a:lnTo>
                    <a:pt x="697" y="115"/>
                  </a:lnTo>
                  <a:lnTo>
                    <a:pt x="701" y="115"/>
                  </a:lnTo>
                  <a:lnTo>
                    <a:pt x="701" y="119"/>
                  </a:lnTo>
                  <a:lnTo>
                    <a:pt x="701" y="123"/>
                  </a:lnTo>
                  <a:lnTo>
                    <a:pt x="705" y="123"/>
                  </a:lnTo>
                  <a:lnTo>
                    <a:pt x="705" y="128"/>
                  </a:lnTo>
                  <a:lnTo>
                    <a:pt x="709" y="128"/>
                  </a:lnTo>
                  <a:lnTo>
                    <a:pt x="713" y="128"/>
                  </a:lnTo>
                  <a:lnTo>
                    <a:pt x="717" y="128"/>
                  </a:lnTo>
                  <a:lnTo>
                    <a:pt x="721" y="128"/>
                  </a:lnTo>
                  <a:lnTo>
                    <a:pt x="721" y="123"/>
                  </a:lnTo>
                  <a:lnTo>
                    <a:pt x="726" y="123"/>
                  </a:lnTo>
                  <a:lnTo>
                    <a:pt x="726" y="119"/>
                  </a:lnTo>
                  <a:lnTo>
                    <a:pt x="730" y="119"/>
                  </a:lnTo>
                  <a:lnTo>
                    <a:pt x="730" y="115"/>
                  </a:lnTo>
                  <a:lnTo>
                    <a:pt x="734" y="115"/>
                  </a:lnTo>
                  <a:lnTo>
                    <a:pt x="734" y="111"/>
                  </a:lnTo>
                  <a:lnTo>
                    <a:pt x="734" y="107"/>
                  </a:lnTo>
                  <a:lnTo>
                    <a:pt x="738" y="107"/>
                  </a:lnTo>
                  <a:lnTo>
                    <a:pt x="738" y="103"/>
                  </a:lnTo>
                  <a:lnTo>
                    <a:pt x="742" y="99"/>
                  </a:lnTo>
                  <a:lnTo>
                    <a:pt x="746" y="95"/>
                  </a:lnTo>
                  <a:lnTo>
                    <a:pt x="746" y="90"/>
                  </a:lnTo>
                  <a:lnTo>
                    <a:pt x="750" y="90"/>
                  </a:lnTo>
                  <a:lnTo>
                    <a:pt x="750" y="86"/>
                  </a:lnTo>
                  <a:lnTo>
                    <a:pt x="754" y="86"/>
                  </a:lnTo>
                  <a:lnTo>
                    <a:pt x="759" y="86"/>
                  </a:lnTo>
                  <a:lnTo>
                    <a:pt x="763" y="86"/>
                  </a:lnTo>
                  <a:lnTo>
                    <a:pt x="767" y="86"/>
                  </a:lnTo>
                  <a:lnTo>
                    <a:pt x="767" y="90"/>
                  </a:lnTo>
                  <a:lnTo>
                    <a:pt x="771" y="90"/>
                  </a:lnTo>
                  <a:lnTo>
                    <a:pt x="771" y="95"/>
                  </a:lnTo>
                  <a:lnTo>
                    <a:pt x="775" y="95"/>
                  </a:lnTo>
                  <a:lnTo>
                    <a:pt x="775" y="99"/>
                  </a:lnTo>
                  <a:lnTo>
                    <a:pt x="779" y="103"/>
                  </a:lnTo>
                  <a:lnTo>
                    <a:pt x="779" y="107"/>
                  </a:lnTo>
                  <a:lnTo>
                    <a:pt x="783" y="107"/>
                  </a:lnTo>
                  <a:lnTo>
                    <a:pt x="783" y="111"/>
                  </a:lnTo>
                  <a:lnTo>
                    <a:pt x="787" y="111"/>
                  </a:lnTo>
                  <a:lnTo>
                    <a:pt x="787" y="115"/>
                  </a:lnTo>
                  <a:lnTo>
                    <a:pt x="792" y="119"/>
                  </a:lnTo>
                  <a:lnTo>
                    <a:pt x="796" y="123"/>
                  </a:lnTo>
                  <a:lnTo>
                    <a:pt x="800" y="123"/>
                  </a:lnTo>
                  <a:lnTo>
                    <a:pt x="804" y="128"/>
                  </a:lnTo>
                  <a:lnTo>
                    <a:pt x="808" y="123"/>
                  </a:lnTo>
                  <a:lnTo>
                    <a:pt x="812" y="123"/>
                  </a:lnTo>
                  <a:lnTo>
                    <a:pt x="812" y="119"/>
                  </a:lnTo>
                  <a:lnTo>
                    <a:pt x="816" y="119"/>
                  </a:lnTo>
                  <a:lnTo>
                    <a:pt x="816" y="115"/>
                  </a:lnTo>
                  <a:lnTo>
                    <a:pt x="820" y="115"/>
                  </a:lnTo>
                  <a:lnTo>
                    <a:pt x="820" y="111"/>
                  </a:lnTo>
                  <a:lnTo>
                    <a:pt x="825" y="111"/>
                  </a:lnTo>
                  <a:lnTo>
                    <a:pt x="825" y="107"/>
                  </a:lnTo>
                  <a:lnTo>
                    <a:pt x="829" y="103"/>
                  </a:lnTo>
                  <a:lnTo>
                    <a:pt x="833" y="99"/>
                  </a:lnTo>
                  <a:lnTo>
                    <a:pt x="837" y="95"/>
                  </a:lnTo>
                  <a:lnTo>
                    <a:pt x="837" y="90"/>
                  </a:lnTo>
                  <a:lnTo>
                    <a:pt x="841" y="90"/>
                  </a:lnTo>
                  <a:lnTo>
                    <a:pt x="845" y="86"/>
                  </a:lnTo>
                  <a:lnTo>
                    <a:pt x="849" y="86"/>
                  </a:lnTo>
                  <a:lnTo>
                    <a:pt x="853" y="86"/>
                  </a:lnTo>
                  <a:lnTo>
                    <a:pt x="853" y="90"/>
                  </a:lnTo>
                  <a:lnTo>
                    <a:pt x="858" y="90"/>
                  </a:lnTo>
                  <a:lnTo>
                    <a:pt x="858" y="95"/>
                  </a:lnTo>
                  <a:lnTo>
                    <a:pt x="862" y="95"/>
                  </a:lnTo>
                  <a:lnTo>
                    <a:pt x="862" y="99"/>
                  </a:lnTo>
                  <a:lnTo>
                    <a:pt x="866" y="99"/>
                  </a:lnTo>
                  <a:lnTo>
                    <a:pt x="866" y="103"/>
                  </a:lnTo>
                  <a:lnTo>
                    <a:pt x="870" y="103"/>
                  </a:lnTo>
                  <a:lnTo>
                    <a:pt x="870" y="107"/>
                  </a:lnTo>
                  <a:lnTo>
                    <a:pt x="874" y="111"/>
                  </a:lnTo>
                  <a:lnTo>
                    <a:pt x="878" y="115"/>
                  </a:lnTo>
                  <a:lnTo>
                    <a:pt x="882" y="119"/>
                  </a:lnTo>
                  <a:lnTo>
                    <a:pt x="882" y="123"/>
                  </a:lnTo>
                  <a:lnTo>
                    <a:pt x="886" y="123"/>
                  </a:lnTo>
                  <a:lnTo>
                    <a:pt x="890" y="123"/>
                  </a:lnTo>
                  <a:lnTo>
                    <a:pt x="895" y="123"/>
                  </a:lnTo>
                  <a:lnTo>
                    <a:pt x="899" y="123"/>
                  </a:lnTo>
                  <a:lnTo>
                    <a:pt x="903" y="123"/>
                  </a:lnTo>
                  <a:lnTo>
                    <a:pt x="903" y="119"/>
                  </a:lnTo>
                  <a:lnTo>
                    <a:pt x="907" y="115"/>
                  </a:lnTo>
                  <a:lnTo>
                    <a:pt x="911" y="111"/>
                  </a:lnTo>
                  <a:lnTo>
                    <a:pt x="915" y="107"/>
                  </a:lnTo>
                  <a:lnTo>
                    <a:pt x="915" y="103"/>
                  </a:lnTo>
                  <a:lnTo>
                    <a:pt x="919" y="103"/>
                  </a:lnTo>
                  <a:lnTo>
                    <a:pt x="919" y="99"/>
                  </a:lnTo>
                  <a:lnTo>
                    <a:pt x="923" y="99"/>
                  </a:lnTo>
                  <a:lnTo>
                    <a:pt x="923" y="95"/>
                  </a:lnTo>
                  <a:lnTo>
                    <a:pt x="928" y="95"/>
                  </a:lnTo>
                  <a:lnTo>
                    <a:pt x="928" y="90"/>
                  </a:lnTo>
                  <a:lnTo>
                    <a:pt x="932" y="90"/>
                  </a:lnTo>
                  <a:lnTo>
                    <a:pt x="932" y="86"/>
                  </a:lnTo>
                  <a:lnTo>
                    <a:pt x="936" y="86"/>
                  </a:lnTo>
                  <a:lnTo>
                    <a:pt x="940" y="86"/>
                  </a:lnTo>
                  <a:lnTo>
                    <a:pt x="944" y="90"/>
                  </a:lnTo>
                  <a:lnTo>
                    <a:pt x="948" y="90"/>
                  </a:lnTo>
                  <a:lnTo>
                    <a:pt x="948" y="95"/>
                  </a:lnTo>
                  <a:lnTo>
                    <a:pt x="952" y="99"/>
                  </a:lnTo>
                  <a:lnTo>
                    <a:pt x="956" y="103"/>
                  </a:lnTo>
                  <a:lnTo>
                    <a:pt x="961" y="107"/>
                  </a:lnTo>
                  <a:lnTo>
                    <a:pt x="961" y="111"/>
                  </a:lnTo>
                  <a:lnTo>
                    <a:pt x="965" y="111"/>
                  </a:lnTo>
                  <a:lnTo>
                    <a:pt x="965" y="115"/>
                  </a:lnTo>
                  <a:lnTo>
                    <a:pt x="969" y="115"/>
                  </a:lnTo>
                  <a:lnTo>
                    <a:pt x="969" y="119"/>
                  </a:lnTo>
                  <a:lnTo>
                    <a:pt x="973" y="119"/>
                  </a:lnTo>
                  <a:lnTo>
                    <a:pt x="973" y="123"/>
                  </a:lnTo>
                  <a:lnTo>
                    <a:pt x="977" y="123"/>
                  </a:lnTo>
                  <a:lnTo>
                    <a:pt x="981" y="128"/>
                  </a:lnTo>
                  <a:lnTo>
                    <a:pt x="985" y="123"/>
                  </a:lnTo>
                  <a:lnTo>
                    <a:pt x="989" y="123"/>
                  </a:lnTo>
                  <a:lnTo>
                    <a:pt x="994" y="119"/>
                  </a:lnTo>
                  <a:lnTo>
                    <a:pt x="998" y="115"/>
                  </a:lnTo>
                  <a:lnTo>
                    <a:pt x="998" y="111"/>
                  </a:lnTo>
                  <a:lnTo>
                    <a:pt x="1002" y="111"/>
                  </a:lnTo>
                  <a:lnTo>
                    <a:pt x="1002" y="107"/>
                  </a:lnTo>
                  <a:lnTo>
                    <a:pt x="1006" y="107"/>
                  </a:lnTo>
                  <a:lnTo>
                    <a:pt x="1006" y="103"/>
                  </a:lnTo>
                  <a:lnTo>
                    <a:pt x="1010" y="99"/>
                  </a:lnTo>
                  <a:lnTo>
                    <a:pt x="1010" y="95"/>
                  </a:lnTo>
                  <a:lnTo>
                    <a:pt x="1014" y="95"/>
                  </a:lnTo>
                  <a:lnTo>
                    <a:pt x="1014" y="90"/>
                  </a:lnTo>
                  <a:lnTo>
                    <a:pt x="1018" y="90"/>
                  </a:lnTo>
                  <a:lnTo>
                    <a:pt x="1018" y="86"/>
                  </a:lnTo>
                  <a:lnTo>
                    <a:pt x="1022" y="86"/>
                  </a:lnTo>
                  <a:lnTo>
                    <a:pt x="1027" y="86"/>
                  </a:lnTo>
                  <a:lnTo>
                    <a:pt x="1031" y="86"/>
                  </a:lnTo>
                  <a:lnTo>
                    <a:pt x="1035" y="86"/>
                  </a:lnTo>
                  <a:lnTo>
                    <a:pt x="1035" y="90"/>
                  </a:lnTo>
                  <a:lnTo>
                    <a:pt x="1039" y="90"/>
                  </a:lnTo>
                  <a:lnTo>
                    <a:pt x="1039" y="95"/>
                  </a:lnTo>
                  <a:lnTo>
                    <a:pt x="1043" y="99"/>
                  </a:lnTo>
                  <a:lnTo>
                    <a:pt x="1047" y="103"/>
                  </a:lnTo>
                  <a:lnTo>
                    <a:pt x="1047" y="107"/>
                  </a:lnTo>
                  <a:lnTo>
                    <a:pt x="1051" y="107"/>
                  </a:lnTo>
                  <a:lnTo>
                    <a:pt x="1051" y="111"/>
                  </a:lnTo>
                  <a:lnTo>
                    <a:pt x="1051" y="115"/>
                  </a:lnTo>
                  <a:lnTo>
                    <a:pt x="1055" y="115"/>
                  </a:lnTo>
                  <a:lnTo>
                    <a:pt x="1055" y="119"/>
                  </a:lnTo>
                  <a:lnTo>
                    <a:pt x="1060" y="119"/>
                  </a:lnTo>
                  <a:lnTo>
                    <a:pt x="1060" y="123"/>
                  </a:lnTo>
                  <a:lnTo>
                    <a:pt x="1064" y="123"/>
                  </a:lnTo>
                  <a:lnTo>
                    <a:pt x="1064" y="128"/>
                  </a:lnTo>
                  <a:lnTo>
                    <a:pt x="1068" y="128"/>
                  </a:lnTo>
                  <a:lnTo>
                    <a:pt x="1072" y="128"/>
                  </a:lnTo>
                  <a:lnTo>
                    <a:pt x="1076" y="128"/>
                  </a:lnTo>
                  <a:lnTo>
                    <a:pt x="1080" y="128"/>
                  </a:lnTo>
                  <a:lnTo>
                    <a:pt x="1080" y="123"/>
                  </a:lnTo>
                  <a:lnTo>
                    <a:pt x="1084" y="123"/>
                  </a:lnTo>
                  <a:lnTo>
                    <a:pt x="1084" y="119"/>
                  </a:lnTo>
                  <a:lnTo>
                    <a:pt x="1084" y="115"/>
                  </a:lnTo>
                  <a:lnTo>
                    <a:pt x="1088" y="115"/>
                  </a:lnTo>
                  <a:lnTo>
                    <a:pt x="1088" y="111"/>
                  </a:lnTo>
                  <a:lnTo>
                    <a:pt x="1093" y="107"/>
                  </a:lnTo>
                  <a:lnTo>
                    <a:pt x="1097" y="103"/>
                  </a:lnTo>
                  <a:lnTo>
                    <a:pt x="1097" y="99"/>
                  </a:lnTo>
                  <a:lnTo>
                    <a:pt x="1101" y="95"/>
                  </a:lnTo>
                  <a:lnTo>
                    <a:pt x="1101" y="90"/>
                  </a:lnTo>
                  <a:lnTo>
                    <a:pt x="1105" y="90"/>
                  </a:lnTo>
                  <a:lnTo>
                    <a:pt x="1105" y="86"/>
                  </a:lnTo>
                  <a:lnTo>
                    <a:pt x="1109" y="86"/>
                  </a:lnTo>
                  <a:lnTo>
                    <a:pt x="1109" y="82"/>
                  </a:lnTo>
                  <a:lnTo>
                    <a:pt x="1113" y="82"/>
                  </a:lnTo>
                  <a:lnTo>
                    <a:pt x="1117" y="78"/>
                  </a:lnTo>
                  <a:lnTo>
                    <a:pt x="1117" y="82"/>
                  </a:lnTo>
                  <a:lnTo>
                    <a:pt x="1121" y="82"/>
                  </a:lnTo>
                  <a:lnTo>
                    <a:pt x="1126" y="86"/>
                  </a:lnTo>
                  <a:lnTo>
                    <a:pt x="1130" y="90"/>
                  </a:lnTo>
                  <a:lnTo>
                    <a:pt x="1130" y="95"/>
                  </a:lnTo>
                  <a:lnTo>
                    <a:pt x="1134" y="99"/>
                  </a:lnTo>
                  <a:lnTo>
                    <a:pt x="1134" y="103"/>
                  </a:lnTo>
                  <a:lnTo>
                    <a:pt x="1138" y="107"/>
                  </a:lnTo>
                  <a:lnTo>
                    <a:pt x="1142" y="111"/>
                  </a:lnTo>
                  <a:lnTo>
                    <a:pt x="1142" y="115"/>
                  </a:lnTo>
                  <a:lnTo>
                    <a:pt x="1142" y="119"/>
                  </a:lnTo>
                  <a:lnTo>
                    <a:pt x="1146" y="123"/>
                  </a:lnTo>
                  <a:lnTo>
                    <a:pt x="1150" y="128"/>
                  </a:lnTo>
                  <a:lnTo>
                    <a:pt x="1150" y="132"/>
                  </a:lnTo>
                  <a:lnTo>
                    <a:pt x="1154" y="132"/>
                  </a:lnTo>
                  <a:lnTo>
                    <a:pt x="1154" y="136"/>
                  </a:lnTo>
                  <a:lnTo>
                    <a:pt x="1158" y="136"/>
                  </a:lnTo>
                  <a:lnTo>
                    <a:pt x="1163" y="136"/>
                  </a:lnTo>
                  <a:lnTo>
                    <a:pt x="1167" y="136"/>
                  </a:lnTo>
                  <a:lnTo>
                    <a:pt x="1167" y="132"/>
                  </a:lnTo>
                  <a:lnTo>
                    <a:pt x="1171" y="132"/>
                  </a:lnTo>
                  <a:lnTo>
                    <a:pt x="1171" y="128"/>
                  </a:lnTo>
                  <a:lnTo>
                    <a:pt x="1175" y="123"/>
                  </a:lnTo>
                  <a:lnTo>
                    <a:pt x="1175" y="119"/>
                  </a:lnTo>
                  <a:lnTo>
                    <a:pt x="1179" y="115"/>
                  </a:lnTo>
                  <a:lnTo>
                    <a:pt x="1179" y="111"/>
                  </a:lnTo>
                  <a:lnTo>
                    <a:pt x="1183" y="107"/>
                  </a:lnTo>
                  <a:lnTo>
                    <a:pt x="1183" y="103"/>
                  </a:lnTo>
                  <a:lnTo>
                    <a:pt x="1187" y="95"/>
                  </a:lnTo>
                  <a:lnTo>
                    <a:pt x="1187" y="90"/>
                  </a:lnTo>
                  <a:lnTo>
                    <a:pt x="1187" y="86"/>
                  </a:lnTo>
                  <a:lnTo>
                    <a:pt x="1191" y="82"/>
                  </a:lnTo>
                  <a:lnTo>
                    <a:pt x="1196" y="78"/>
                  </a:lnTo>
                  <a:lnTo>
                    <a:pt x="1196" y="74"/>
                  </a:lnTo>
                  <a:lnTo>
                    <a:pt x="1196" y="70"/>
                  </a:lnTo>
                  <a:lnTo>
                    <a:pt x="1200" y="70"/>
                  </a:lnTo>
                  <a:lnTo>
                    <a:pt x="1200" y="66"/>
                  </a:lnTo>
                  <a:lnTo>
                    <a:pt x="1204" y="66"/>
                  </a:lnTo>
                  <a:lnTo>
                    <a:pt x="1208" y="66"/>
                  </a:lnTo>
                  <a:lnTo>
                    <a:pt x="1208" y="70"/>
                  </a:lnTo>
                  <a:lnTo>
                    <a:pt x="1212" y="70"/>
                  </a:lnTo>
                  <a:lnTo>
                    <a:pt x="1212" y="74"/>
                  </a:lnTo>
                  <a:lnTo>
                    <a:pt x="1216" y="78"/>
                  </a:lnTo>
                  <a:lnTo>
                    <a:pt x="1216" y="82"/>
                  </a:lnTo>
                  <a:lnTo>
                    <a:pt x="1220" y="86"/>
                  </a:lnTo>
                  <a:lnTo>
                    <a:pt x="1220" y="90"/>
                  </a:lnTo>
                  <a:lnTo>
                    <a:pt x="1220" y="95"/>
                  </a:lnTo>
                  <a:lnTo>
                    <a:pt x="1224" y="99"/>
                  </a:lnTo>
                  <a:lnTo>
                    <a:pt x="1224" y="107"/>
                  </a:lnTo>
                  <a:lnTo>
                    <a:pt x="1229" y="111"/>
                  </a:lnTo>
                  <a:lnTo>
                    <a:pt x="1229" y="119"/>
                  </a:lnTo>
                  <a:lnTo>
                    <a:pt x="1233" y="123"/>
                  </a:lnTo>
                  <a:lnTo>
                    <a:pt x="1233" y="128"/>
                  </a:lnTo>
                  <a:lnTo>
                    <a:pt x="1233" y="136"/>
                  </a:lnTo>
                  <a:lnTo>
                    <a:pt x="1237" y="140"/>
                  </a:lnTo>
                  <a:lnTo>
                    <a:pt x="1237" y="144"/>
                  </a:lnTo>
                  <a:lnTo>
                    <a:pt x="1241" y="152"/>
                  </a:lnTo>
                  <a:lnTo>
                    <a:pt x="1241" y="156"/>
                  </a:lnTo>
                  <a:lnTo>
                    <a:pt x="1245" y="161"/>
                  </a:lnTo>
                  <a:lnTo>
                    <a:pt x="1245" y="165"/>
                  </a:lnTo>
                  <a:lnTo>
                    <a:pt x="1249" y="165"/>
                  </a:lnTo>
                  <a:lnTo>
                    <a:pt x="1253" y="165"/>
                  </a:lnTo>
                  <a:lnTo>
                    <a:pt x="1253" y="161"/>
                  </a:lnTo>
                  <a:lnTo>
                    <a:pt x="1257" y="156"/>
                  </a:lnTo>
                  <a:lnTo>
                    <a:pt x="1257" y="152"/>
                  </a:lnTo>
                  <a:lnTo>
                    <a:pt x="1262" y="148"/>
                  </a:lnTo>
                  <a:lnTo>
                    <a:pt x="1262" y="140"/>
                  </a:lnTo>
                  <a:lnTo>
                    <a:pt x="1266" y="132"/>
                  </a:lnTo>
                  <a:lnTo>
                    <a:pt x="1266" y="123"/>
                  </a:lnTo>
                  <a:lnTo>
                    <a:pt x="1266" y="115"/>
                  </a:lnTo>
                  <a:lnTo>
                    <a:pt x="1270" y="107"/>
                  </a:lnTo>
                  <a:lnTo>
                    <a:pt x="1270" y="99"/>
                  </a:lnTo>
                  <a:lnTo>
                    <a:pt x="1274" y="90"/>
                  </a:lnTo>
                  <a:lnTo>
                    <a:pt x="1274" y="78"/>
                  </a:lnTo>
                  <a:lnTo>
                    <a:pt x="1278" y="70"/>
                  </a:lnTo>
                  <a:lnTo>
                    <a:pt x="1278" y="57"/>
                  </a:lnTo>
                  <a:lnTo>
                    <a:pt x="1278" y="49"/>
                  </a:lnTo>
                  <a:lnTo>
                    <a:pt x="1282" y="41"/>
                  </a:lnTo>
                  <a:lnTo>
                    <a:pt x="1282" y="33"/>
                  </a:lnTo>
                  <a:lnTo>
                    <a:pt x="1286" y="24"/>
                  </a:lnTo>
                  <a:lnTo>
                    <a:pt x="1286" y="16"/>
                  </a:lnTo>
                  <a:lnTo>
                    <a:pt x="1286" y="12"/>
                  </a:lnTo>
                  <a:lnTo>
                    <a:pt x="1290" y="4"/>
                  </a:lnTo>
                  <a:lnTo>
                    <a:pt x="1295" y="0"/>
                  </a:lnTo>
                  <a:lnTo>
                    <a:pt x="1299" y="4"/>
                  </a:lnTo>
                  <a:lnTo>
                    <a:pt x="1299" y="8"/>
                  </a:lnTo>
                  <a:lnTo>
                    <a:pt x="1299" y="12"/>
                  </a:lnTo>
                  <a:lnTo>
                    <a:pt x="1303" y="20"/>
                  </a:lnTo>
                  <a:lnTo>
                    <a:pt x="1303" y="33"/>
                  </a:lnTo>
                  <a:lnTo>
                    <a:pt x="1307" y="45"/>
                  </a:lnTo>
                  <a:lnTo>
                    <a:pt x="1307" y="62"/>
                  </a:lnTo>
                  <a:lnTo>
                    <a:pt x="1311" y="78"/>
                  </a:lnTo>
                  <a:lnTo>
                    <a:pt x="1311" y="99"/>
                  </a:lnTo>
                  <a:lnTo>
                    <a:pt x="1311" y="123"/>
                  </a:lnTo>
                  <a:lnTo>
                    <a:pt x="1315" y="148"/>
                  </a:lnTo>
                  <a:lnTo>
                    <a:pt x="1315" y="173"/>
                  </a:lnTo>
                  <a:lnTo>
                    <a:pt x="1319" y="206"/>
                  </a:lnTo>
                  <a:lnTo>
                    <a:pt x="1319" y="235"/>
                  </a:lnTo>
                  <a:lnTo>
                    <a:pt x="1323" y="272"/>
                  </a:lnTo>
                  <a:lnTo>
                    <a:pt x="1323" y="309"/>
                  </a:lnTo>
                  <a:lnTo>
                    <a:pt x="1323" y="346"/>
                  </a:lnTo>
                  <a:lnTo>
                    <a:pt x="1328" y="383"/>
                  </a:lnTo>
                  <a:lnTo>
                    <a:pt x="1328" y="424"/>
                  </a:lnTo>
                  <a:lnTo>
                    <a:pt x="1332" y="470"/>
                  </a:lnTo>
                  <a:lnTo>
                    <a:pt x="1332" y="511"/>
                  </a:lnTo>
                  <a:lnTo>
                    <a:pt x="1332" y="556"/>
                  </a:lnTo>
                  <a:lnTo>
                    <a:pt x="1336" y="602"/>
                  </a:lnTo>
                  <a:lnTo>
                    <a:pt x="1336" y="647"/>
                  </a:lnTo>
                  <a:lnTo>
                    <a:pt x="1340" y="692"/>
                  </a:lnTo>
                  <a:lnTo>
                    <a:pt x="1340" y="738"/>
                  </a:lnTo>
                  <a:lnTo>
                    <a:pt x="1344" y="783"/>
                  </a:lnTo>
                  <a:lnTo>
                    <a:pt x="1344" y="829"/>
                  </a:lnTo>
                  <a:lnTo>
                    <a:pt x="1344" y="874"/>
                  </a:lnTo>
                  <a:lnTo>
                    <a:pt x="1348" y="915"/>
                  </a:lnTo>
                  <a:lnTo>
                    <a:pt x="1348" y="961"/>
                  </a:lnTo>
                  <a:lnTo>
                    <a:pt x="1352" y="1002"/>
                  </a:lnTo>
                  <a:lnTo>
                    <a:pt x="1352" y="1039"/>
                  </a:lnTo>
                  <a:lnTo>
                    <a:pt x="1356" y="1076"/>
                  </a:lnTo>
                  <a:lnTo>
                    <a:pt x="1356" y="1113"/>
                  </a:lnTo>
                  <a:lnTo>
                    <a:pt x="1356" y="1146"/>
                  </a:lnTo>
                  <a:lnTo>
                    <a:pt x="1361" y="1179"/>
                  </a:lnTo>
                  <a:lnTo>
                    <a:pt x="1361" y="1208"/>
                  </a:lnTo>
                  <a:lnTo>
                    <a:pt x="1365" y="1237"/>
                  </a:lnTo>
                  <a:lnTo>
                    <a:pt x="1365" y="1262"/>
                  </a:lnTo>
                  <a:lnTo>
                    <a:pt x="1369" y="1270"/>
                  </a:lnTo>
                  <a:lnTo>
                    <a:pt x="1369" y="1249"/>
                  </a:lnTo>
                  <a:lnTo>
                    <a:pt x="1369" y="1233"/>
                  </a:lnTo>
                  <a:lnTo>
                    <a:pt x="1373" y="1216"/>
                  </a:lnTo>
                  <a:lnTo>
                    <a:pt x="1373" y="1204"/>
                  </a:lnTo>
                  <a:lnTo>
                    <a:pt x="1377" y="1196"/>
                  </a:lnTo>
                  <a:lnTo>
                    <a:pt x="1377" y="1187"/>
                  </a:lnTo>
                  <a:lnTo>
                    <a:pt x="1377" y="1179"/>
                  </a:lnTo>
                  <a:lnTo>
                    <a:pt x="1381" y="1175"/>
                  </a:lnTo>
                  <a:lnTo>
                    <a:pt x="1385" y="1171"/>
                  </a:lnTo>
                  <a:lnTo>
                    <a:pt x="1385" y="1175"/>
                  </a:lnTo>
                  <a:lnTo>
                    <a:pt x="1389" y="1179"/>
                  </a:lnTo>
                  <a:lnTo>
                    <a:pt x="1389" y="1183"/>
                  </a:lnTo>
                  <a:lnTo>
                    <a:pt x="1389" y="1187"/>
                  </a:lnTo>
                  <a:lnTo>
                    <a:pt x="1394" y="1196"/>
                  </a:lnTo>
                  <a:lnTo>
                    <a:pt x="1394" y="1204"/>
                  </a:lnTo>
                  <a:lnTo>
                    <a:pt x="1398" y="1212"/>
                  </a:lnTo>
                  <a:lnTo>
                    <a:pt x="1398" y="1220"/>
                  </a:lnTo>
                  <a:lnTo>
                    <a:pt x="1402" y="1229"/>
                  </a:lnTo>
                  <a:lnTo>
                    <a:pt x="1402" y="1241"/>
                  </a:lnTo>
                  <a:lnTo>
                    <a:pt x="1402" y="1249"/>
                  </a:lnTo>
                  <a:lnTo>
                    <a:pt x="1406" y="1262"/>
                  </a:lnTo>
                  <a:lnTo>
                    <a:pt x="1406" y="1270"/>
                  </a:lnTo>
                  <a:lnTo>
                    <a:pt x="1410" y="1278"/>
                  </a:lnTo>
                  <a:lnTo>
                    <a:pt x="1410" y="1266"/>
                  </a:lnTo>
                  <a:lnTo>
                    <a:pt x="1414" y="1257"/>
                  </a:lnTo>
                  <a:lnTo>
                    <a:pt x="1414" y="1253"/>
                  </a:lnTo>
                  <a:lnTo>
                    <a:pt x="1414" y="1245"/>
                  </a:lnTo>
                  <a:lnTo>
                    <a:pt x="1418" y="1237"/>
                  </a:lnTo>
                  <a:lnTo>
                    <a:pt x="1418" y="1233"/>
                  </a:lnTo>
                  <a:lnTo>
                    <a:pt x="1422" y="1229"/>
                  </a:lnTo>
                  <a:lnTo>
                    <a:pt x="1422" y="1224"/>
                  </a:lnTo>
                  <a:lnTo>
                    <a:pt x="1422" y="1220"/>
                  </a:lnTo>
                  <a:lnTo>
                    <a:pt x="1427" y="1220"/>
                  </a:lnTo>
                  <a:lnTo>
                    <a:pt x="1431" y="1220"/>
                  </a:lnTo>
                  <a:lnTo>
                    <a:pt x="1435" y="1224"/>
                  </a:lnTo>
                  <a:lnTo>
                    <a:pt x="1435" y="1229"/>
                  </a:lnTo>
                  <a:lnTo>
                    <a:pt x="1439" y="1233"/>
                  </a:lnTo>
                  <a:lnTo>
                    <a:pt x="1439" y="1237"/>
                  </a:lnTo>
                  <a:lnTo>
                    <a:pt x="1443" y="1245"/>
                  </a:lnTo>
                  <a:lnTo>
                    <a:pt x="1443" y="1249"/>
                  </a:lnTo>
                  <a:lnTo>
                    <a:pt x="1447" y="1253"/>
                  </a:lnTo>
                  <a:lnTo>
                    <a:pt x="1447" y="1262"/>
                  </a:lnTo>
                  <a:lnTo>
                    <a:pt x="1447" y="1266"/>
                  </a:lnTo>
                  <a:lnTo>
                    <a:pt x="1451" y="1274"/>
                  </a:lnTo>
                  <a:lnTo>
                    <a:pt x="1451" y="1278"/>
                  </a:lnTo>
                  <a:lnTo>
                    <a:pt x="1455" y="1270"/>
                  </a:lnTo>
                  <a:lnTo>
                    <a:pt x="1455" y="1266"/>
                  </a:lnTo>
                  <a:lnTo>
                    <a:pt x="1459" y="1262"/>
                  </a:lnTo>
                  <a:lnTo>
                    <a:pt x="1459" y="1257"/>
                  </a:lnTo>
                  <a:lnTo>
                    <a:pt x="1459" y="1253"/>
                  </a:lnTo>
                  <a:lnTo>
                    <a:pt x="1464" y="1249"/>
                  </a:lnTo>
                  <a:lnTo>
                    <a:pt x="1464" y="1245"/>
                  </a:lnTo>
                  <a:lnTo>
                    <a:pt x="1468" y="1241"/>
                  </a:lnTo>
                  <a:lnTo>
                    <a:pt x="1468" y="1237"/>
                  </a:lnTo>
                  <a:lnTo>
                    <a:pt x="1472" y="1237"/>
                  </a:lnTo>
                  <a:lnTo>
                    <a:pt x="1476" y="1237"/>
                  </a:lnTo>
                  <a:lnTo>
                    <a:pt x="1476" y="1241"/>
                  </a:lnTo>
                  <a:lnTo>
                    <a:pt x="1480" y="1241"/>
                  </a:lnTo>
                  <a:lnTo>
                    <a:pt x="1480" y="1245"/>
                  </a:lnTo>
                  <a:lnTo>
                    <a:pt x="1484" y="1249"/>
                  </a:lnTo>
                  <a:lnTo>
                    <a:pt x="1484" y="1253"/>
                  </a:lnTo>
                  <a:lnTo>
                    <a:pt x="1488" y="1257"/>
                  </a:lnTo>
                  <a:lnTo>
                    <a:pt x="1488" y="1262"/>
                  </a:lnTo>
                  <a:lnTo>
                    <a:pt x="1492" y="1266"/>
                  </a:lnTo>
                  <a:lnTo>
                    <a:pt x="1492" y="1270"/>
                  </a:lnTo>
                  <a:lnTo>
                    <a:pt x="1492" y="1274"/>
                  </a:lnTo>
                  <a:lnTo>
                    <a:pt x="1497" y="1278"/>
                  </a:lnTo>
                  <a:lnTo>
                    <a:pt x="1497" y="1274"/>
                  </a:lnTo>
                  <a:lnTo>
                    <a:pt x="1501" y="1270"/>
                  </a:lnTo>
                  <a:lnTo>
                    <a:pt x="1501" y="1266"/>
                  </a:lnTo>
                  <a:lnTo>
                    <a:pt x="1501" y="1262"/>
                  </a:lnTo>
                  <a:lnTo>
                    <a:pt x="1505" y="1257"/>
                  </a:lnTo>
                  <a:lnTo>
                    <a:pt x="1509" y="1253"/>
                  </a:lnTo>
                  <a:lnTo>
                    <a:pt x="1513" y="1249"/>
                  </a:lnTo>
                  <a:lnTo>
                    <a:pt x="1517" y="1245"/>
                  </a:lnTo>
                  <a:lnTo>
                    <a:pt x="1521" y="1249"/>
                  </a:lnTo>
                  <a:lnTo>
                    <a:pt x="1525" y="1249"/>
                  </a:lnTo>
                  <a:lnTo>
                    <a:pt x="1525" y="1253"/>
                  </a:lnTo>
                  <a:lnTo>
                    <a:pt x="1530" y="1257"/>
                  </a:lnTo>
                  <a:lnTo>
                    <a:pt x="1534" y="1262"/>
                  </a:lnTo>
                  <a:lnTo>
                    <a:pt x="1534" y="1266"/>
                  </a:lnTo>
                  <a:lnTo>
                    <a:pt x="1538" y="1270"/>
                  </a:lnTo>
                  <a:lnTo>
                    <a:pt x="1538" y="1274"/>
                  </a:lnTo>
                  <a:lnTo>
                    <a:pt x="1542" y="1278"/>
                  </a:lnTo>
                  <a:lnTo>
                    <a:pt x="1542" y="1274"/>
                  </a:lnTo>
                  <a:lnTo>
                    <a:pt x="1546" y="1270"/>
                  </a:lnTo>
                  <a:lnTo>
                    <a:pt x="1546" y="1266"/>
                  </a:lnTo>
                  <a:lnTo>
                    <a:pt x="1550" y="1262"/>
                  </a:lnTo>
                  <a:lnTo>
                    <a:pt x="1550" y="1257"/>
                  </a:lnTo>
                  <a:lnTo>
                    <a:pt x="1554" y="1257"/>
                  </a:lnTo>
                  <a:lnTo>
                    <a:pt x="1554" y="1253"/>
                  </a:lnTo>
                  <a:lnTo>
                    <a:pt x="1558" y="1253"/>
                  </a:lnTo>
                  <a:lnTo>
                    <a:pt x="1563" y="1253"/>
                  </a:lnTo>
                  <a:lnTo>
                    <a:pt x="1567" y="1253"/>
                  </a:lnTo>
                  <a:lnTo>
                    <a:pt x="1571" y="1253"/>
                  </a:lnTo>
                  <a:lnTo>
                    <a:pt x="1571" y="1257"/>
                  </a:lnTo>
                  <a:lnTo>
                    <a:pt x="1575" y="1262"/>
                  </a:lnTo>
                  <a:lnTo>
                    <a:pt x="1579" y="1266"/>
                  </a:lnTo>
                  <a:lnTo>
                    <a:pt x="1579" y="1270"/>
                  </a:lnTo>
                  <a:lnTo>
                    <a:pt x="1583" y="1270"/>
                  </a:lnTo>
                  <a:lnTo>
                    <a:pt x="1583" y="1274"/>
                  </a:lnTo>
                  <a:lnTo>
                    <a:pt x="1583" y="1278"/>
                  </a:lnTo>
                  <a:lnTo>
                    <a:pt x="1587" y="1274"/>
                  </a:lnTo>
                  <a:lnTo>
                    <a:pt x="1591" y="1270"/>
                  </a:lnTo>
                  <a:lnTo>
                    <a:pt x="1591" y="1266"/>
                  </a:lnTo>
                  <a:lnTo>
                    <a:pt x="1596" y="1262"/>
                  </a:lnTo>
                  <a:lnTo>
                    <a:pt x="1600" y="1257"/>
                  </a:lnTo>
                  <a:lnTo>
                    <a:pt x="1604" y="1257"/>
                  </a:lnTo>
                  <a:lnTo>
                    <a:pt x="1604" y="1253"/>
                  </a:lnTo>
                  <a:lnTo>
                    <a:pt x="1608" y="1253"/>
                  </a:lnTo>
                  <a:lnTo>
                    <a:pt x="1608" y="1257"/>
                  </a:lnTo>
                  <a:lnTo>
                    <a:pt x="1612" y="1257"/>
                  </a:lnTo>
                  <a:lnTo>
                    <a:pt x="1616" y="1257"/>
                  </a:lnTo>
                  <a:lnTo>
                    <a:pt x="1616" y="1262"/>
                  </a:lnTo>
                  <a:lnTo>
                    <a:pt x="1620" y="1266"/>
                  </a:lnTo>
                  <a:lnTo>
                    <a:pt x="1624" y="1270"/>
                  </a:lnTo>
                  <a:lnTo>
                    <a:pt x="1629" y="1274"/>
                  </a:lnTo>
                  <a:lnTo>
                    <a:pt x="1629" y="1278"/>
                  </a:lnTo>
                  <a:lnTo>
                    <a:pt x="1633" y="1274"/>
                  </a:lnTo>
                  <a:lnTo>
                    <a:pt x="1637" y="1270"/>
                  </a:lnTo>
                  <a:lnTo>
                    <a:pt x="1637" y="1266"/>
                  </a:lnTo>
                  <a:lnTo>
                    <a:pt x="1641" y="1262"/>
                  </a:lnTo>
                  <a:lnTo>
                    <a:pt x="1645" y="1262"/>
                  </a:lnTo>
                  <a:lnTo>
                    <a:pt x="1645" y="1257"/>
                  </a:lnTo>
                  <a:lnTo>
                    <a:pt x="1649" y="1257"/>
                  </a:lnTo>
                  <a:lnTo>
                    <a:pt x="1653" y="1257"/>
                  </a:lnTo>
                  <a:lnTo>
                    <a:pt x="1657" y="1257"/>
                  </a:lnTo>
                  <a:lnTo>
                    <a:pt x="1662" y="1262"/>
                  </a:lnTo>
                  <a:lnTo>
                    <a:pt x="1662" y="1266"/>
                  </a:lnTo>
                  <a:lnTo>
                    <a:pt x="1666" y="1266"/>
                  </a:lnTo>
                  <a:lnTo>
                    <a:pt x="1666" y="1270"/>
                  </a:lnTo>
                  <a:lnTo>
                    <a:pt x="1670" y="1270"/>
                  </a:lnTo>
                  <a:lnTo>
                    <a:pt x="1670" y="1274"/>
                  </a:lnTo>
                  <a:lnTo>
                    <a:pt x="1674" y="1274"/>
                  </a:lnTo>
                  <a:lnTo>
                    <a:pt x="1674" y="1278"/>
                  </a:lnTo>
                  <a:lnTo>
                    <a:pt x="1678" y="1274"/>
                  </a:lnTo>
                  <a:lnTo>
                    <a:pt x="1678" y="1270"/>
                  </a:lnTo>
                  <a:lnTo>
                    <a:pt x="1682" y="1270"/>
                  </a:lnTo>
                  <a:lnTo>
                    <a:pt x="1682" y="1266"/>
                  </a:lnTo>
                  <a:lnTo>
                    <a:pt x="1686" y="1262"/>
                  </a:lnTo>
                  <a:lnTo>
                    <a:pt x="1690" y="1262"/>
                  </a:lnTo>
                  <a:lnTo>
                    <a:pt x="1695" y="1257"/>
                  </a:lnTo>
                  <a:lnTo>
                    <a:pt x="1699" y="1257"/>
                  </a:lnTo>
                  <a:lnTo>
                    <a:pt x="1703" y="1262"/>
                  </a:lnTo>
                  <a:lnTo>
                    <a:pt x="1707" y="1262"/>
                  </a:lnTo>
                  <a:lnTo>
                    <a:pt x="1707" y="1266"/>
                  </a:lnTo>
                  <a:lnTo>
                    <a:pt x="1711" y="1266"/>
                  </a:lnTo>
                  <a:lnTo>
                    <a:pt x="1711" y="1270"/>
                  </a:lnTo>
                  <a:lnTo>
                    <a:pt x="1715" y="1270"/>
                  </a:lnTo>
                  <a:lnTo>
                    <a:pt x="1715" y="1274"/>
                  </a:lnTo>
                  <a:lnTo>
                    <a:pt x="1719" y="1278"/>
                  </a:lnTo>
                  <a:lnTo>
                    <a:pt x="1719" y="1274"/>
                  </a:lnTo>
                  <a:lnTo>
                    <a:pt x="1723" y="1274"/>
                  </a:lnTo>
                  <a:lnTo>
                    <a:pt x="1723" y="1270"/>
                  </a:lnTo>
                  <a:lnTo>
                    <a:pt x="1727" y="1270"/>
                  </a:lnTo>
                  <a:lnTo>
                    <a:pt x="1727" y="1266"/>
                  </a:lnTo>
                  <a:lnTo>
                    <a:pt x="1732" y="1262"/>
                  </a:lnTo>
                  <a:lnTo>
                    <a:pt x="1736" y="1262"/>
                  </a:lnTo>
                  <a:lnTo>
                    <a:pt x="1740" y="1262"/>
                  </a:lnTo>
                  <a:lnTo>
                    <a:pt x="1740" y="1257"/>
                  </a:lnTo>
                  <a:lnTo>
                    <a:pt x="1744" y="1262"/>
                  </a:lnTo>
                  <a:lnTo>
                    <a:pt x="1748" y="1262"/>
                  </a:lnTo>
                  <a:lnTo>
                    <a:pt x="1752" y="1262"/>
                  </a:lnTo>
                  <a:lnTo>
                    <a:pt x="1752" y="1266"/>
                  </a:lnTo>
                  <a:lnTo>
                    <a:pt x="1756" y="1270"/>
                  </a:lnTo>
                  <a:lnTo>
                    <a:pt x="1760" y="1274"/>
                  </a:lnTo>
                  <a:lnTo>
                    <a:pt x="1765" y="1278"/>
                  </a:lnTo>
                  <a:lnTo>
                    <a:pt x="1765" y="1274"/>
                  </a:lnTo>
                  <a:lnTo>
                    <a:pt x="1769" y="1270"/>
                  </a:lnTo>
                  <a:lnTo>
                    <a:pt x="1773" y="1266"/>
                  </a:lnTo>
                  <a:lnTo>
                    <a:pt x="1777" y="1262"/>
                  </a:lnTo>
                  <a:lnTo>
                    <a:pt x="1781" y="1262"/>
                  </a:lnTo>
                  <a:lnTo>
                    <a:pt x="1785" y="1262"/>
                  </a:lnTo>
                </a:path>
              </a:pathLst>
            </a:custGeom>
            <a:noFill/>
            <a:ln cap="rnd" w="255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638400" y="1693800"/>
              <a:ext cx="97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=4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2" name=""/>
            <p:cNvGrpSpPr/>
            <p:nvPr/>
          </p:nvGrpSpPr>
          <p:grpSpPr>
            <a:xfrm>
              <a:off x="5528160" y="4557600"/>
              <a:ext cx="3090960" cy="397440"/>
              <a:chOff x="5528160" y="4557600"/>
              <a:chExt cx="3090960" cy="397440"/>
            </a:xfrm>
          </p:grpSpPr>
          <p:sp>
            <p:nvSpPr>
              <p:cNvPr id="1543" name=""/>
              <p:cNvSpPr/>
              <p:nvPr/>
            </p:nvSpPr>
            <p:spPr>
              <a:xfrm>
                <a:off x="5528160" y="4557600"/>
                <a:ext cx="4104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6172920" y="4557600"/>
                <a:ext cx="7639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0.5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931800" y="45576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569720" y="4557600"/>
                <a:ext cx="67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5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294040" y="4557600"/>
                <a:ext cx="325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5188680" y="2057400"/>
              <a:ext cx="538560" cy="2656440"/>
              <a:chOff x="5188680" y="2057400"/>
              <a:chExt cx="538560" cy="2656440"/>
            </a:xfrm>
          </p:grpSpPr>
          <p:sp>
            <p:nvSpPr>
              <p:cNvPr id="1549" name=""/>
              <p:cNvSpPr/>
              <p:nvPr/>
            </p:nvSpPr>
            <p:spPr>
              <a:xfrm>
                <a:off x="5274720" y="43164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188680" y="393876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188680" y="356076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188680" y="319104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188680" y="281160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274720" y="24354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188680" y="205740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1.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56" name=""/>
            <p:cNvSpPr/>
            <p:nvPr/>
          </p:nvSpPr>
          <p:spPr>
            <a:xfrm>
              <a:off x="6369120" y="4911840"/>
              <a:ext cx="1649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frekvencija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rot="16200000">
              <a:off x="4342680" y="3079800"/>
              <a:ext cx="1315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dfca"/>
                </a:solidFill>
                <a:latin typeface="Times New Roman"/>
              </a:rPr>
              <a:t>Gibbsov fenomen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600200" y="6072120"/>
            <a:ext cx="594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isnost gušenja bočne latice o broju uzora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2752560" y="2193480"/>
            <a:ext cx="0" cy="29941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V="1">
            <a:off x="3516480" y="2193480"/>
            <a:ext cx="0" cy="299412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4272120" y="2193480"/>
            <a:ext cx="0" cy="299412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 flipV="1">
            <a:off x="5033880" y="2193480"/>
            <a:ext cx="0" cy="299412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V="1">
            <a:off x="5789520" y="2193480"/>
            <a:ext cx="0" cy="299412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6553080" y="2193480"/>
            <a:ext cx="0" cy="29941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2752560" y="5187960"/>
            <a:ext cx="38005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752560" y="4687920"/>
            <a:ext cx="3800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2752560" y="4186080"/>
            <a:ext cx="3800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752560" y="3695760"/>
            <a:ext cx="3800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2752560" y="3195720"/>
            <a:ext cx="3800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752560" y="2695680"/>
            <a:ext cx="3800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752560" y="2193840"/>
            <a:ext cx="38005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752560" y="2193840"/>
            <a:ext cx="3802320" cy="2995560"/>
          </a:xfrm>
          <a:custGeom>
            <a:avLst/>
            <a:gdLst/>
            <a:ahLst/>
            <a:rect l="l" t="t" r="r" b="b"/>
            <a:pathLst>
              <a:path w="2395" h="1887">
                <a:moveTo>
                  <a:pt x="0" y="1886"/>
                </a:moveTo>
                <a:lnTo>
                  <a:pt x="0" y="0"/>
                </a:lnTo>
                <a:lnTo>
                  <a:pt x="2394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752560" y="2193840"/>
            <a:ext cx="3802320" cy="2995560"/>
          </a:xfrm>
          <a:custGeom>
            <a:avLst/>
            <a:gdLst/>
            <a:ahLst/>
            <a:rect l="l" t="t" r="r" b="b"/>
            <a:pathLst>
              <a:path w="2395" h="1887">
                <a:moveTo>
                  <a:pt x="0" y="1886"/>
                </a:moveTo>
                <a:lnTo>
                  <a:pt x="0" y="0"/>
                </a:lnTo>
                <a:lnTo>
                  <a:pt x="2394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752560" y="2193840"/>
            <a:ext cx="3802320" cy="2995560"/>
          </a:xfrm>
          <a:custGeom>
            <a:avLst/>
            <a:gdLst/>
            <a:ahLst/>
            <a:rect l="l" t="t" r="r" b="b"/>
            <a:pathLst>
              <a:path w="2395" h="1887">
                <a:moveTo>
                  <a:pt x="0" y="1886"/>
                </a:moveTo>
                <a:lnTo>
                  <a:pt x="0" y="0"/>
                </a:lnTo>
                <a:lnTo>
                  <a:pt x="2394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752560" y="5187960"/>
            <a:ext cx="38005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752560" y="2193840"/>
            <a:ext cx="38005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 flipV="1">
            <a:off x="2752560" y="2193480"/>
            <a:ext cx="0" cy="29941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V="1">
            <a:off x="6553080" y="2193480"/>
            <a:ext cx="0" cy="29941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752560" y="2193840"/>
            <a:ext cx="255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752560" y="5187960"/>
            <a:ext cx="38005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V="1">
            <a:off x="2752560" y="2193480"/>
            <a:ext cx="0" cy="29941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752560" y="5187960"/>
            <a:ext cx="255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V="1">
            <a:off x="2752560" y="5152680"/>
            <a:ext cx="0" cy="349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2752560" y="2193840"/>
            <a:ext cx="0" cy="36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V="1">
            <a:off x="3516480" y="5152680"/>
            <a:ext cx="0" cy="349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516480" y="2193840"/>
            <a:ext cx="0" cy="36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4272120" y="5152680"/>
            <a:ext cx="0" cy="349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272120" y="2193840"/>
            <a:ext cx="0" cy="36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5033880" y="5152680"/>
            <a:ext cx="0" cy="349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033880" y="2193840"/>
            <a:ext cx="0" cy="36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flipV="1">
            <a:off x="5789520" y="5152680"/>
            <a:ext cx="0" cy="349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5789520" y="2193840"/>
            <a:ext cx="0" cy="36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6553080" y="5152680"/>
            <a:ext cx="0" cy="349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553080" y="2193840"/>
            <a:ext cx="0" cy="36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6" name=""/>
          <p:cNvGrpSpPr/>
          <p:nvPr/>
        </p:nvGrpSpPr>
        <p:grpSpPr>
          <a:xfrm>
            <a:off x="2548800" y="5226120"/>
            <a:ext cx="4330800" cy="397440"/>
            <a:chOff x="2548800" y="5226120"/>
            <a:chExt cx="4330800" cy="397440"/>
          </a:xfrm>
        </p:grpSpPr>
        <p:sp>
          <p:nvSpPr>
            <p:cNvPr id="1597" name=""/>
            <p:cNvSpPr/>
            <p:nvPr/>
          </p:nvSpPr>
          <p:spPr>
            <a:xfrm>
              <a:off x="2548800" y="52261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268080" y="522612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023720" y="522612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787280" y="522612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541120" y="522612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269400" y="5226120"/>
              <a:ext cx="610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3" name=""/>
          <p:cNvSpPr/>
          <p:nvPr/>
        </p:nvSpPr>
        <p:spPr>
          <a:xfrm>
            <a:off x="2752560" y="5187960"/>
            <a:ext cx="349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H="1">
            <a:off x="6517800" y="5187960"/>
            <a:ext cx="349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2752560" y="4687920"/>
            <a:ext cx="349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H="1">
            <a:off x="6517800" y="4687920"/>
            <a:ext cx="349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752560" y="4186080"/>
            <a:ext cx="349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6517800" y="4186080"/>
            <a:ext cx="349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752560" y="3695760"/>
            <a:ext cx="349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6517800" y="3695760"/>
            <a:ext cx="349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752560" y="3195720"/>
            <a:ext cx="349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H="1">
            <a:off x="6517800" y="3195720"/>
            <a:ext cx="349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2752560" y="2695680"/>
            <a:ext cx="349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>
            <a:off x="6517800" y="2695680"/>
            <a:ext cx="349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752560" y="2193840"/>
            <a:ext cx="349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>
            <a:off x="6517800" y="2193840"/>
            <a:ext cx="349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2194200" y="1967040"/>
            <a:ext cx="553680" cy="3389760"/>
            <a:chOff x="2194200" y="1967040"/>
            <a:chExt cx="553680" cy="3389760"/>
          </a:xfrm>
        </p:grpSpPr>
        <p:sp>
          <p:nvSpPr>
            <p:cNvPr id="1618" name=""/>
            <p:cNvSpPr/>
            <p:nvPr/>
          </p:nvSpPr>
          <p:spPr>
            <a:xfrm>
              <a:off x="2194200" y="495936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1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194200" y="445932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194200" y="395928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273760" y="3467160"/>
              <a:ext cx="412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273760" y="2967120"/>
              <a:ext cx="412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273760" y="2467080"/>
              <a:ext cx="412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273760" y="1967040"/>
              <a:ext cx="412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5" name=""/>
          <p:cNvSpPr/>
          <p:nvPr/>
        </p:nvSpPr>
        <p:spPr>
          <a:xfrm>
            <a:off x="2752560" y="5187960"/>
            <a:ext cx="4808880" cy="3240"/>
          </a:xfrm>
          <a:prstGeom prst="line">
            <a:avLst/>
          </a:prstGeom>
          <a:ln w="1260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752560" y="2193840"/>
            <a:ext cx="38005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flipH="1" flipV="1">
            <a:off x="2749680" y="1654200"/>
            <a:ext cx="2880" cy="3533760"/>
          </a:xfrm>
          <a:prstGeom prst="line">
            <a:avLst/>
          </a:prstGeom>
          <a:ln w="1260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V="1">
            <a:off x="6553080" y="2193480"/>
            <a:ext cx="0" cy="29941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752560" y="5187960"/>
            <a:ext cx="255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87480" y="2449440"/>
            <a:ext cx="3767400" cy="2608200"/>
          </a:xfrm>
          <a:custGeom>
            <a:avLst/>
            <a:gdLst/>
            <a:ahLst/>
            <a:rect l="l" t="t" r="r" b="b"/>
            <a:pathLst>
              <a:path w="2373" h="1643">
                <a:moveTo>
                  <a:pt x="0" y="0"/>
                </a:moveTo>
                <a:lnTo>
                  <a:pt x="28" y="1023"/>
                </a:lnTo>
                <a:lnTo>
                  <a:pt x="50" y="1310"/>
                </a:lnTo>
                <a:lnTo>
                  <a:pt x="72" y="1432"/>
                </a:lnTo>
                <a:lnTo>
                  <a:pt x="100" y="1498"/>
                </a:lnTo>
                <a:lnTo>
                  <a:pt x="122" y="1537"/>
                </a:lnTo>
                <a:lnTo>
                  <a:pt x="144" y="1559"/>
                </a:lnTo>
                <a:lnTo>
                  <a:pt x="172" y="1575"/>
                </a:lnTo>
                <a:lnTo>
                  <a:pt x="194" y="1592"/>
                </a:lnTo>
                <a:lnTo>
                  <a:pt x="216" y="1597"/>
                </a:lnTo>
                <a:lnTo>
                  <a:pt x="243" y="1603"/>
                </a:lnTo>
                <a:lnTo>
                  <a:pt x="266" y="1609"/>
                </a:lnTo>
                <a:lnTo>
                  <a:pt x="288" y="1614"/>
                </a:lnTo>
                <a:lnTo>
                  <a:pt x="315" y="1620"/>
                </a:lnTo>
                <a:lnTo>
                  <a:pt x="337" y="1620"/>
                </a:lnTo>
                <a:lnTo>
                  <a:pt x="360" y="1625"/>
                </a:lnTo>
                <a:lnTo>
                  <a:pt x="387" y="1625"/>
                </a:lnTo>
                <a:lnTo>
                  <a:pt x="409" y="1625"/>
                </a:lnTo>
                <a:lnTo>
                  <a:pt x="431" y="1631"/>
                </a:lnTo>
                <a:lnTo>
                  <a:pt x="459" y="1631"/>
                </a:lnTo>
                <a:lnTo>
                  <a:pt x="481" y="1631"/>
                </a:lnTo>
                <a:lnTo>
                  <a:pt x="503" y="1631"/>
                </a:lnTo>
                <a:lnTo>
                  <a:pt x="531" y="1631"/>
                </a:lnTo>
                <a:lnTo>
                  <a:pt x="553" y="1631"/>
                </a:lnTo>
                <a:lnTo>
                  <a:pt x="575" y="1631"/>
                </a:lnTo>
                <a:lnTo>
                  <a:pt x="603" y="1636"/>
                </a:lnTo>
                <a:lnTo>
                  <a:pt x="625" y="1636"/>
                </a:lnTo>
                <a:lnTo>
                  <a:pt x="647" y="1636"/>
                </a:lnTo>
                <a:lnTo>
                  <a:pt x="675" y="1636"/>
                </a:lnTo>
                <a:lnTo>
                  <a:pt x="697" y="1636"/>
                </a:lnTo>
                <a:lnTo>
                  <a:pt x="719" y="1636"/>
                </a:lnTo>
                <a:lnTo>
                  <a:pt x="747" y="1636"/>
                </a:lnTo>
                <a:lnTo>
                  <a:pt x="769" y="1636"/>
                </a:lnTo>
                <a:lnTo>
                  <a:pt x="791" y="1636"/>
                </a:lnTo>
                <a:lnTo>
                  <a:pt x="818" y="1636"/>
                </a:lnTo>
                <a:lnTo>
                  <a:pt x="841" y="1636"/>
                </a:lnTo>
                <a:lnTo>
                  <a:pt x="863" y="1636"/>
                </a:lnTo>
                <a:lnTo>
                  <a:pt x="890" y="1636"/>
                </a:lnTo>
                <a:lnTo>
                  <a:pt x="912" y="1636"/>
                </a:lnTo>
                <a:lnTo>
                  <a:pt x="935" y="1636"/>
                </a:lnTo>
                <a:lnTo>
                  <a:pt x="962" y="1636"/>
                </a:lnTo>
                <a:lnTo>
                  <a:pt x="984" y="1636"/>
                </a:lnTo>
                <a:lnTo>
                  <a:pt x="1006" y="1636"/>
                </a:lnTo>
                <a:lnTo>
                  <a:pt x="1034" y="1636"/>
                </a:lnTo>
                <a:lnTo>
                  <a:pt x="1056" y="1636"/>
                </a:lnTo>
                <a:lnTo>
                  <a:pt x="1078" y="1636"/>
                </a:lnTo>
                <a:lnTo>
                  <a:pt x="1106" y="1636"/>
                </a:lnTo>
                <a:lnTo>
                  <a:pt x="1128" y="1636"/>
                </a:lnTo>
                <a:lnTo>
                  <a:pt x="1150" y="1636"/>
                </a:lnTo>
                <a:lnTo>
                  <a:pt x="1178" y="1636"/>
                </a:lnTo>
                <a:lnTo>
                  <a:pt x="1200" y="1636"/>
                </a:lnTo>
                <a:lnTo>
                  <a:pt x="1222" y="1636"/>
                </a:lnTo>
                <a:lnTo>
                  <a:pt x="1244" y="1636"/>
                </a:lnTo>
                <a:lnTo>
                  <a:pt x="1272" y="1636"/>
                </a:lnTo>
                <a:lnTo>
                  <a:pt x="1294" y="1642"/>
                </a:lnTo>
                <a:lnTo>
                  <a:pt x="1316" y="1642"/>
                </a:lnTo>
                <a:lnTo>
                  <a:pt x="1344" y="1642"/>
                </a:lnTo>
                <a:lnTo>
                  <a:pt x="1366" y="1642"/>
                </a:lnTo>
                <a:lnTo>
                  <a:pt x="1388" y="1642"/>
                </a:lnTo>
                <a:lnTo>
                  <a:pt x="1415" y="1642"/>
                </a:lnTo>
                <a:lnTo>
                  <a:pt x="1438" y="1642"/>
                </a:lnTo>
                <a:lnTo>
                  <a:pt x="1460" y="1642"/>
                </a:lnTo>
                <a:lnTo>
                  <a:pt x="1487" y="1642"/>
                </a:lnTo>
                <a:lnTo>
                  <a:pt x="1509" y="1642"/>
                </a:lnTo>
                <a:lnTo>
                  <a:pt x="1532" y="1642"/>
                </a:lnTo>
                <a:lnTo>
                  <a:pt x="1559" y="1642"/>
                </a:lnTo>
                <a:lnTo>
                  <a:pt x="1581" y="1642"/>
                </a:lnTo>
                <a:lnTo>
                  <a:pt x="1603" y="1642"/>
                </a:lnTo>
                <a:lnTo>
                  <a:pt x="1631" y="1642"/>
                </a:lnTo>
                <a:lnTo>
                  <a:pt x="1653" y="1642"/>
                </a:lnTo>
                <a:lnTo>
                  <a:pt x="1675" y="1642"/>
                </a:lnTo>
                <a:lnTo>
                  <a:pt x="1703" y="1642"/>
                </a:lnTo>
                <a:lnTo>
                  <a:pt x="1725" y="1642"/>
                </a:lnTo>
                <a:lnTo>
                  <a:pt x="1747" y="1642"/>
                </a:lnTo>
                <a:lnTo>
                  <a:pt x="1775" y="1642"/>
                </a:lnTo>
                <a:lnTo>
                  <a:pt x="1797" y="1642"/>
                </a:lnTo>
                <a:lnTo>
                  <a:pt x="1819" y="1642"/>
                </a:lnTo>
                <a:lnTo>
                  <a:pt x="1847" y="1642"/>
                </a:lnTo>
                <a:lnTo>
                  <a:pt x="1869" y="1642"/>
                </a:lnTo>
                <a:lnTo>
                  <a:pt x="1891" y="1642"/>
                </a:lnTo>
                <a:lnTo>
                  <a:pt x="1919" y="1642"/>
                </a:lnTo>
                <a:lnTo>
                  <a:pt x="1941" y="1642"/>
                </a:lnTo>
                <a:lnTo>
                  <a:pt x="1963" y="1642"/>
                </a:lnTo>
                <a:lnTo>
                  <a:pt x="1990" y="1642"/>
                </a:lnTo>
                <a:lnTo>
                  <a:pt x="2013" y="1642"/>
                </a:lnTo>
                <a:lnTo>
                  <a:pt x="2035" y="1642"/>
                </a:lnTo>
                <a:lnTo>
                  <a:pt x="2062" y="1642"/>
                </a:lnTo>
                <a:lnTo>
                  <a:pt x="2084" y="1642"/>
                </a:lnTo>
                <a:lnTo>
                  <a:pt x="2107" y="1642"/>
                </a:lnTo>
                <a:lnTo>
                  <a:pt x="2134" y="1642"/>
                </a:lnTo>
                <a:lnTo>
                  <a:pt x="2156" y="1642"/>
                </a:lnTo>
                <a:lnTo>
                  <a:pt x="2178" y="1642"/>
                </a:lnTo>
                <a:lnTo>
                  <a:pt x="2206" y="1642"/>
                </a:lnTo>
                <a:lnTo>
                  <a:pt x="2228" y="1642"/>
                </a:lnTo>
                <a:lnTo>
                  <a:pt x="2250" y="1642"/>
                </a:lnTo>
                <a:lnTo>
                  <a:pt x="2278" y="1642"/>
                </a:lnTo>
                <a:lnTo>
                  <a:pt x="2300" y="1642"/>
                </a:lnTo>
                <a:lnTo>
                  <a:pt x="2322" y="1642"/>
                </a:lnTo>
                <a:lnTo>
                  <a:pt x="2350" y="1642"/>
                </a:lnTo>
                <a:lnTo>
                  <a:pt x="2372" y="1642"/>
                </a:lnTo>
              </a:path>
            </a:pathLst>
          </a:custGeom>
          <a:noFill/>
          <a:ln cap="rnd" w="255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089960" y="5545080"/>
            <a:ext cx="1104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d filt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rot="16200000">
            <a:off x="436680" y="3425040"/>
            <a:ext cx="3028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afd00"/>
                </a:solidFill>
                <a:latin typeface="Arial"/>
              </a:rPr>
              <a:t>gušenje bočne latice [dB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dfca"/>
                </a:solidFill>
                <a:latin typeface="Times New Roman"/>
              </a:rPr>
              <a:t>Gibbsov fenomen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533520" y="607212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isnost maksimalne valovitosti u području gušenja o redu filt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 flipV="1">
            <a:off x="2752560" y="2204640"/>
            <a:ext cx="0" cy="29941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V="1">
            <a:off x="3516480" y="2204640"/>
            <a:ext cx="0" cy="299412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4272120" y="2204640"/>
            <a:ext cx="0" cy="299412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flipV="1">
            <a:off x="5033880" y="2204640"/>
            <a:ext cx="0" cy="299412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V="1">
            <a:off x="5789520" y="2204640"/>
            <a:ext cx="0" cy="299412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V="1">
            <a:off x="6553080" y="2204640"/>
            <a:ext cx="0" cy="29941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2752560" y="5199120"/>
            <a:ext cx="38005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752560" y="4821120"/>
            <a:ext cx="3800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2752560" y="4452840"/>
            <a:ext cx="3800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2752560" y="4075200"/>
            <a:ext cx="3800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2752560" y="3706920"/>
            <a:ext cx="3800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752560" y="3328920"/>
            <a:ext cx="3800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2752560" y="2951280"/>
            <a:ext cx="3800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752560" y="2583000"/>
            <a:ext cx="3800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752560" y="2205000"/>
            <a:ext cx="38005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752560" y="2205000"/>
            <a:ext cx="3802320" cy="2995560"/>
          </a:xfrm>
          <a:custGeom>
            <a:avLst/>
            <a:gdLst/>
            <a:ahLst/>
            <a:rect l="l" t="t" r="r" b="b"/>
            <a:pathLst>
              <a:path w="2395" h="1887">
                <a:moveTo>
                  <a:pt x="0" y="1886"/>
                </a:moveTo>
                <a:lnTo>
                  <a:pt x="0" y="0"/>
                </a:lnTo>
                <a:lnTo>
                  <a:pt x="2394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752560" y="2205000"/>
            <a:ext cx="3802320" cy="2995560"/>
          </a:xfrm>
          <a:custGeom>
            <a:avLst/>
            <a:gdLst/>
            <a:ahLst/>
            <a:rect l="l" t="t" r="r" b="b"/>
            <a:pathLst>
              <a:path w="2395" h="1887">
                <a:moveTo>
                  <a:pt x="0" y="1886"/>
                </a:moveTo>
                <a:lnTo>
                  <a:pt x="0" y="0"/>
                </a:lnTo>
                <a:lnTo>
                  <a:pt x="2394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752560" y="2205000"/>
            <a:ext cx="3802320" cy="2995560"/>
          </a:xfrm>
          <a:custGeom>
            <a:avLst/>
            <a:gdLst/>
            <a:ahLst/>
            <a:rect l="l" t="t" r="r" b="b"/>
            <a:pathLst>
              <a:path w="2395" h="1887">
                <a:moveTo>
                  <a:pt x="0" y="1886"/>
                </a:moveTo>
                <a:lnTo>
                  <a:pt x="0" y="0"/>
                </a:lnTo>
                <a:lnTo>
                  <a:pt x="2394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2752560" y="5199120"/>
            <a:ext cx="38005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2752560" y="2205000"/>
            <a:ext cx="38005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V="1">
            <a:off x="2752560" y="2204640"/>
            <a:ext cx="0" cy="29941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flipV="1">
            <a:off x="6553080" y="2204640"/>
            <a:ext cx="0" cy="29941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2752560" y="2205000"/>
            <a:ext cx="255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752560" y="5199120"/>
            <a:ext cx="38005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V="1">
            <a:off x="2752560" y="2204640"/>
            <a:ext cx="0" cy="29941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752560" y="5199120"/>
            <a:ext cx="255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2752560" y="5163840"/>
            <a:ext cx="0" cy="349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2752560" y="2205000"/>
            <a:ext cx="0" cy="36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3516480" y="5163840"/>
            <a:ext cx="0" cy="349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516480" y="2205000"/>
            <a:ext cx="0" cy="36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V="1">
            <a:off x="4272120" y="5163840"/>
            <a:ext cx="0" cy="349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272120" y="2205000"/>
            <a:ext cx="0" cy="36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V="1">
            <a:off x="5033880" y="5163840"/>
            <a:ext cx="0" cy="349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033880" y="2205000"/>
            <a:ext cx="0" cy="36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V="1">
            <a:off x="5789520" y="5163840"/>
            <a:ext cx="0" cy="349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789520" y="2205000"/>
            <a:ext cx="0" cy="36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flipV="1">
            <a:off x="6553080" y="5163840"/>
            <a:ext cx="0" cy="349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553080" y="2205000"/>
            <a:ext cx="0" cy="36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3" name=""/>
          <p:cNvGrpSpPr/>
          <p:nvPr/>
        </p:nvGrpSpPr>
        <p:grpSpPr>
          <a:xfrm>
            <a:off x="2548800" y="5237280"/>
            <a:ext cx="4330800" cy="397440"/>
            <a:chOff x="2548800" y="5237280"/>
            <a:chExt cx="4330800" cy="397440"/>
          </a:xfrm>
        </p:grpSpPr>
        <p:sp>
          <p:nvSpPr>
            <p:cNvPr id="1674" name=""/>
            <p:cNvSpPr/>
            <p:nvPr/>
          </p:nvSpPr>
          <p:spPr>
            <a:xfrm>
              <a:off x="2548800" y="52372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268080" y="523728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023720" y="523728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787280" y="523728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541120" y="523728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269400" y="5237280"/>
              <a:ext cx="610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0" name=""/>
          <p:cNvSpPr/>
          <p:nvPr/>
        </p:nvSpPr>
        <p:spPr>
          <a:xfrm>
            <a:off x="2752560" y="5199120"/>
            <a:ext cx="349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>
            <a:off x="6517800" y="5199120"/>
            <a:ext cx="349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2752560" y="4821120"/>
            <a:ext cx="349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H="1">
            <a:off x="6517800" y="4821120"/>
            <a:ext cx="349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752560" y="4452840"/>
            <a:ext cx="349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H="1">
            <a:off x="6517800" y="4452840"/>
            <a:ext cx="349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752560" y="4075200"/>
            <a:ext cx="349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6517800" y="4075200"/>
            <a:ext cx="349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2752560" y="3706920"/>
            <a:ext cx="349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H="1">
            <a:off x="6517800" y="3706920"/>
            <a:ext cx="349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2752560" y="3328920"/>
            <a:ext cx="349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6517800" y="3328920"/>
            <a:ext cx="349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2752560" y="2951280"/>
            <a:ext cx="349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H="1">
            <a:off x="6517800" y="2951280"/>
            <a:ext cx="349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752560" y="2583000"/>
            <a:ext cx="349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 flipH="1">
            <a:off x="6517800" y="2583000"/>
            <a:ext cx="349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752560" y="2205000"/>
            <a:ext cx="349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 flipH="1">
            <a:off x="6517800" y="2205000"/>
            <a:ext cx="349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8" name=""/>
          <p:cNvGrpSpPr/>
          <p:nvPr/>
        </p:nvGrpSpPr>
        <p:grpSpPr>
          <a:xfrm>
            <a:off x="2194200" y="1978200"/>
            <a:ext cx="553680" cy="3389760"/>
            <a:chOff x="2194200" y="1978200"/>
            <a:chExt cx="553680" cy="3389760"/>
          </a:xfrm>
        </p:grpSpPr>
        <p:sp>
          <p:nvSpPr>
            <p:cNvPr id="1699" name=""/>
            <p:cNvSpPr/>
            <p:nvPr/>
          </p:nvSpPr>
          <p:spPr>
            <a:xfrm>
              <a:off x="2194200" y="497052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2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194200" y="422424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194200" y="347832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1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194200" y="272412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1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194200" y="197820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4" name=""/>
          <p:cNvSpPr/>
          <p:nvPr/>
        </p:nvSpPr>
        <p:spPr>
          <a:xfrm>
            <a:off x="2752560" y="5199120"/>
            <a:ext cx="4557960" cy="4680"/>
          </a:xfrm>
          <a:prstGeom prst="line">
            <a:avLst/>
          </a:prstGeom>
          <a:ln w="1260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2752560" y="2205000"/>
            <a:ext cx="38005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H="1" flipV="1">
            <a:off x="2749680" y="1619280"/>
            <a:ext cx="2880" cy="3579840"/>
          </a:xfrm>
          <a:prstGeom prst="line">
            <a:avLst/>
          </a:prstGeom>
          <a:ln w="1260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 flipV="1">
            <a:off x="6553080" y="2204640"/>
            <a:ext cx="0" cy="29941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2752560" y="5199120"/>
            <a:ext cx="255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2832120" y="2425680"/>
            <a:ext cx="3722760" cy="2747880"/>
          </a:xfrm>
          <a:custGeom>
            <a:avLst/>
            <a:gdLst/>
            <a:ahLst/>
            <a:rect l="l" t="t" r="r" b="b"/>
            <a:pathLst>
              <a:path w="2345" h="1731">
                <a:moveTo>
                  <a:pt x="0" y="0"/>
                </a:moveTo>
                <a:lnTo>
                  <a:pt x="44" y="1266"/>
                </a:lnTo>
                <a:lnTo>
                  <a:pt x="94" y="1520"/>
                </a:lnTo>
                <a:lnTo>
                  <a:pt x="144" y="1614"/>
                </a:lnTo>
                <a:lnTo>
                  <a:pt x="188" y="1653"/>
                </a:lnTo>
                <a:lnTo>
                  <a:pt x="238" y="1675"/>
                </a:lnTo>
                <a:lnTo>
                  <a:pt x="287" y="1691"/>
                </a:lnTo>
                <a:lnTo>
                  <a:pt x="332" y="1702"/>
                </a:lnTo>
                <a:lnTo>
                  <a:pt x="381" y="1708"/>
                </a:lnTo>
                <a:lnTo>
                  <a:pt x="431" y="1713"/>
                </a:lnTo>
                <a:lnTo>
                  <a:pt x="475" y="1713"/>
                </a:lnTo>
                <a:lnTo>
                  <a:pt x="525" y="1719"/>
                </a:lnTo>
                <a:lnTo>
                  <a:pt x="575" y="1719"/>
                </a:lnTo>
                <a:lnTo>
                  <a:pt x="619" y="1719"/>
                </a:lnTo>
                <a:lnTo>
                  <a:pt x="669" y="1719"/>
                </a:lnTo>
                <a:lnTo>
                  <a:pt x="719" y="1725"/>
                </a:lnTo>
                <a:lnTo>
                  <a:pt x="763" y="1725"/>
                </a:lnTo>
                <a:lnTo>
                  <a:pt x="813" y="1725"/>
                </a:lnTo>
                <a:lnTo>
                  <a:pt x="862" y="1725"/>
                </a:lnTo>
                <a:lnTo>
                  <a:pt x="907" y="1725"/>
                </a:lnTo>
                <a:lnTo>
                  <a:pt x="956" y="1725"/>
                </a:lnTo>
                <a:lnTo>
                  <a:pt x="1006" y="1725"/>
                </a:lnTo>
                <a:lnTo>
                  <a:pt x="1050" y="1725"/>
                </a:lnTo>
                <a:lnTo>
                  <a:pt x="1100" y="1725"/>
                </a:lnTo>
                <a:lnTo>
                  <a:pt x="1150" y="1725"/>
                </a:lnTo>
                <a:lnTo>
                  <a:pt x="1194" y="1725"/>
                </a:lnTo>
                <a:lnTo>
                  <a:pt x="1244" y="1730"/>
                </a:lnTo>
                <a:lnTo>
                  <a:pt x="1288" y="1730"/>
                </a:lnTo>
                <a:lnTo>
                  <a:pt x="1338" y="1730"/>
                </a:lnTo>
                <a:lnTo>
                  <a:pt x="1387" y="1730"/>
                </a:lnTo>
                <a:lnTo>
                  <a:pt x="1432" y="1730"/>
                </a:lnTo>
                <a:lnTo>
                  <a:pt x="1481" y="1730"/>
                </a:lnTo>
                <a:lnTo>
                  <a:pt x="1531" y="1730"/>
                </a:lnTo>
                <a:lnTo>
                  <a:pt x="1575" y="1730"/>
                </a:lnTo>
                <a:lnTo>
                  <a:pt x="1625" y="1730"/>
                </a:lnTo>
                <a:lnTo>
                  <a:pt x="1675" y="1730"/>
                </a:lnTo>
                <a:lnTo>
                  <a:pt x="1719" y="1730"/>
                </a:lnTo>
                <a:lnTo>
                  <a:pt x="1769" y="1730"/>
                </a:lnTo>
                <a:lnTo>
                  <a:pt x="1819" y="1730"/>
                </a:lnTo>
                <a:lnTo>
                  <a:pt x="1863" y="1730"/>
                </a:lnTo>
                <a:lnTo>
                  <a:pt x="1913" y="1730"/>
                </a:lnTo>
                <a:lnTo>
                  <a:pt x="1962" y="1730"/>
                </a:lnTo>
                <a:lnTo>
                  <a:pt x="2007" y="1730"/>
                </a:lnTo>
                <a:lnTo>
                  <a:pt x="2056" y="1730"/>
                </a:lnTo>
                <a:lnTo>
                  <a:pt x="2106" y="1730"/>
                </a:lnTo>
                <a:lnTo>
                  <a:pt x="2150" y="1730"/>
                </a:lnTo>
                <a:lnTo>
                  <a:pt x="2200" y="1730"/>
                </a:lnTo>
                <a:lnTo>
                  <a:pt x="2250" y="1730"/>
                </a:lnTo>
                <a:lnTo>
                  <a:pt x="2294" y="1730"/>
                </a:lnTo>
                <a:lnTo>
                  <a:pt x="2344" y="1730"/>
                </a:lnTo>
              </a:path>
            </a:pathLst>
          </a:custGeom>
          <a:noFill/>
          <a:ln cap="rnd" w="255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089960" y="5556240"/>
            <a:ext cx="1104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d filt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 rot="16200000">
            <a:off x="388800" y="3310200"/>
            <a:ext cx="2746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afd00"/>
                </a:solidFill>
                <a:latin typeface="Arial"/>
              </a:rPr>
              <a:t>maksimalna valovitos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afd00"/>
                </a:solidFill>
                <a:latin typeface="Arial"/>
              </a:rPr>
              <a:t>u pojasu gušenja [dB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Projektiranje FIR filtara metodom vremenskih otvora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191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dfca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tupak projektiranja je slijedeć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152280" y="2895480"/>
            <a:ext cx="3810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zeti idealnu karakteristika filt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5" name=""/>
          <p:cNvGrpSpPr/>
          <p:nvPr/>
        </p:nvGrpSpPr>
        <p:grpSpPr>
          <a:xfrm>
            <a:off x="4762440" y="1762200"/>
            <a:ext cx="4241160" cy="2580120"/>
            <a:chOff x="4762440" y="1762200"/>
            <a:chExt cx="4241160" cy="2580120"/>
          </a:xfrm>
        </p:grpSpPr>
        <p:sp>
          <p:nvSpPr>
            <p:cNvPr id="1716" name=""/>
            <p:cNvSpPr/>
            <p:nvPr/>
          </p:nvSpPr>
          <p:spPr>
            <a:xfrm flipV="1">
              <a:off x="5616720" y="1940040"/>
              <a:ext cx="0" cy="205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V="1">
              <a:off x="6267600" y="1940040"/>
              <a:ext cx="0" cy="205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>
              <a:off x="6924600" y="1940040"/>
              <a:ext cx="0" cy="205416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V="1">
              <a:off x="7577280" y="1940040"/>
              <a:ext cx="0" cy="205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V="1">
              <a:off x="8228160" y="1940040"/>
              <a:ext cx="0" cy="205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616720" y="3994200"/>
              <a:ext cx="26114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616720" y="3584520"/>
              <a:ext cx="261144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616720" y="3174840"/>
              <a:ext cx="261144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616720" y="2759040"/>
              <a:ext cx="261144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616720" y="2349360"/>
              <a:ext cx="261144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616720" y="1940040"/>
              <a:ext cx="26114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616720" y="1940040"/>
              <a:ext cx="2612880" cy="2055600"/>
            </a:xfrm>
            <a:custGeom>
              <a:avLst/>
              <a:gdLst/>
              <a:ahLst/>
              <a:rect l="l" t="t" r="r" b="b"/>
              <a:pathLst>
                <a:path w="1646" h="1295">
                  <a:moveTo>
                    <a:pt x="0" y="1294"/>
                  </a:moveTo>
                  <a:lnTo>
                    <a:pt x="0" y="0"/>
                  </a:lnTo>
                  <a:lnTo>
                    <a:pt x="1645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616720" y="1940040"/>
              <a:ext cx="2612880" cy="2055600"/>
            </a:xfrm>
            <a:custGeom>
              <a:avLst/>
              <a:gdLst/>
              <a:ahLst/>
              <a:rect l="l" t="t" r="r" b="b"/>
              <a:pathLst>
                <a:path w="1646" h="1295">
                  <a:moveTo>
                    <a:pt x="0" y="1294"/>
                  </a:moveTo>
                  <a:lnTo>
                    <a:pt x="0" y="0"/>
                  </a:lnTo>
                  <a:lnTo>
                    <a:pt x="1645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616720" y="1940040"/>
              <a:ext cx="2612880" cy="2055600"/>
            </a:xfrm>
            <a:custGeom>
              <a:avLst/>
              <a:gdLst/>
              <a:ahLst/>
              <a:rect l="l" t="t" r="r" b="b"/>
              <a:pathLst>
                <a:path w="1646" h="1295">
                  <a:moveTo>
                    <a:pt x="0" y="1294"/>
                  </a:moveTo>
                  <a:lnTo>
                    <a:pt x="0" y="0"/>
                  </a:lnTo>
                  <a:lnTo>
                    <a:pt x="1645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616720" y="3994200"/>
              <a:ext cx="26114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616720" y="1940040"/>
              <a:ext cx="26114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V="1">
              <a:off x="5616720" y="1940040"/>
              <a:ext cx="0" cy="205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8228160" y="1940040"/>
              <a:ext cx="0" cy="205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616720" y="194004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616720" y="3994200"/>
              <a:ext cx="26114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V="1">
              <a:off x="5616720" y="1940040"/>
              <a:ext cx="0" cy="205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616720" y="399420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V="1">
              <a:off x="5616720" y="397044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5616720" y="194004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V="1">
              <a:off x="6267600" y="397044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267600" y="194004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V="1">
              <a:off x="6924600" y="397044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924600" y="194004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V="1">
              <a:off x="7577280" y="397044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577280" y="194004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V="1">
              <a:off x="8228160" y="397044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8228160" y="194004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434560" y="3940200"/>
              <a:ext cx="410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907960" y="3944880"/>
              <a:ext cx="76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0.5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774840" y="394020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241040" y="3940200"/>
              <a:ext cx="67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.5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8078400" y="3940200"/>
              <a:ext cx="325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616720" y="39942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>
              <a:off x="8203680" y="399420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616720" y="37893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>
              <a:off x="8203680" y="378936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616720" y="358452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8203680" y="358452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616720" y="33796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8203680" y="337968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616720" y="31748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8203680" y="317484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616720" y="29703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8203680" y="297036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616720" y="27590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8203680" y="275904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616720" y="25542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8203680" y="255420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616720" y="23493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8203680" y="234936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616720" y="21448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8203680" y="214488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616720" y="19400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H="1">
              <a:off x="8203680" y="194004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75" name=""/>
            <p:cNvGrpSpPr/>
            <p:nvPr/>
          </p:nvGrpSpPr>
          <p:grpSpPr>
            <a:xfrm>
              <a:off x="5137920" y="1762200"/>
              <a:ext cx="538560" cy="2418120"/>
              <a:chOff x="5137920" y="1762200"/>
              <a:chExt cx="538560" cy="2418120"/>
            </a:xfrm>
          </p:grpSpPr>
          <p:sp>
            <p:nvSpPr>
              <p:cNvPr id="1776" name=""/>
              <p:cNvSpPr/>
              <p:nvPr/>
            </p:nvSpPr>
            <p:spPr>
              <a:xfrm>
                <a:off x="5215680" y="37828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5137920" y="338148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5137920" y="297828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5137920" y="256860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5137920" y="216684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5215680" y="17622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82" name=""/>
            <p:cNvSpPr/>
            <p:nvPr/>
          </p:nvSpPr>
          <p:spPr>
            <a:xfrm>
              <a:off x="5616720" y="3994200"/>
              <a:ext cx="3346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616720" y="1940040"/>
              <a:ext cx="26114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5616720" y="1928520"/>
              <a:ext cx="2880" cy="2065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8228160" y="1940040"/>
              <a:ext cx="0" cy="205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616720" y="399420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616720" y="1940040"/>
              <a:ext cx="2612880" cy="2055600"/>
            </a:xfrm>
            <a:custGeom>
              <a:avLst/>
              <a:gdLst/>
              <a:ahLst/>
              <a:rect l="l" t="t" r="r" b="b"/>
              <a:pathLst>
                <a:path w="1646" h="1295">
                  <a:moveTo>
                    <a:pt x="0" y="1294"/>
                  </a:moveTo>
                  <a:lnTo>
                    <a:pt x="410" y="1294"/>
                  </a:lnTo>
                  <a:lnTo>
                    <a:pt x="410" y="0"/>
                  </a:lnTo>
                  <a:lnTo>
                    <a:pt x="1235" y="0"/>
                  </a:lnTo>
                  <a:lnTo>
                    <a:pt x="1235" y="1294"/>
                  </a:lnTo>
                  <a:lnTo>
                    <a:pt x="1645" y="1294"/>
                  </a:lnTo>
                </a:path>
              </a:pathLst>
            </a:custGeom>
            <a:noFill/>
            <a:ln cap="rnd" w="255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rot="16200000">
              <a:off x="4303080" y="2649600"/>
              <a:ext cx="1315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8643240" y="3560760"/>
              <a:ext cx="36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0" name=""/>
          <p:cNvSpPr/>
          <p:nvPr/>
        </p:nvSpPr>
        <p:spPr>
          <a:xfrm>
            <a:off x="152280" y="4343400"/>
            <a:ext cx="426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Izračunati Fourierovu transformaciju idealne karakteristike filt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2292480" y="5568840"/>
            <a:ext cx="291960" cy="596880"/>
          </a:xfrm>
          <a:prstGeom prst="downArrow">
            <a:avLst>
              <a:gd name="adj1" fmla="val 50000"/>
              <a:gd name="adj2" fmla="val 102228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92920" y="6186600"/>
            <a:ext cx="405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66"/>
                </a:solidFill>
                <a:latin typeface="Times New Roman"/>
              </a:rPr>
              <a:t>beskonačan impulsni odz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3" name=""/>
          <p:cNvGrpSpPr/>
          <p:nvPr/>
        </p:nvGrpSpPr>
        <p:grpSpPr>
          <a:xfrm>
            <a:off x="5054760" y="4467240"/>
            <a:ext cx="4087800" cy="2389680"/>
            <a:chOff x="5054760" y="4467240"/>
            <a:chExt cx="4087800" cy="2389680"/>
          </a:xfrm>
        </p:grpSpPr>
        <p:sp>
          <p:nvSpPr>
            <p:cNvPr id="1794" name=""/>
            <p:cNvSpPr/>
            <p:nvPr/>
          </p:nvSpPr>
          <p:spPr>
            <a:xfrm flipV="1">
              <a:off x="5613480" y="4478400"/>
              <a:ext cx="0" cy="2038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V="1">
              <a:off x="6259680" y="4478400"/>
              <a:ext cx="0" cy="20383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V="1">
              <a:off x="6912000" y="4478400"/>
              <a:ext cx="0" cy="20383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V="1">
              <a:off x="7558200" y="4478400"/>
              <a:ext cx="0" cy="20383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V="1">
              <a:off x="8205840" y="4478400"/>
              <a:ext cx="0" cy="2038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613480" y="651672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613480" y="5937120"/>
              <a:ext cx="25923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613480" y="535140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613480" y="477036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613480" y="447840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613480" y="4478400"/>
              <a:ext cx="2593800" cy="2039760"/>
            </a:xfrm>
            <a:custGeom>
              <a:avLst/>
              <a:gdLst/>
              <a:ahLst/>
              <a:rect l="l" t="t" r="r" b="b"/>
              <a:pathLst>
                <a:path w="1634" h="1285">
                  <a:moveTo>
                    <a:pt x="0" y="1284"/>
                  </a:moveTo>
                  <a:lnTo>
                    <a:pt x="0" y="0"/>
                  </a:lnTo>
                  <a:lnTo>
                    <a:pt x="1633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613480" y="651672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V="1">
              <a:off x="5613480" y="4478400"/>
              <a:ext cx="0" cy="2038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V="1">
              <a:off x="8205840" y="4478400"/>
              <a:ext cx="0" cy="2038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613480" y="447840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8205840" y="651672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613480" y="651672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V="1">
              <a:off x="5613480" y="4478400"/>
              <a:ext cx="0" cy="2038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613480" y="651672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V="1">
              <a:off x="5613480" y="649296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613480" y="447840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V="1">
              <a:off x="5935680" y="649296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935680" y="447840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V="1">
              <a:off x="6259680" y="649296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259680" y="447840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V="1">
              <a:off x="6583320" y="649296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583320" y="447840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V="1">
              <a:off x="6912000" y="649296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912000" y="447840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V="1">
              <a:off x="7236000" y="649296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236000" y="447840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V="1">
              <a:off x="7558200" y="649296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558200" y="447840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V="1">
              <a:off x="7881840" y="649296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881840" y="447840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V="1">
              <a:off x="8205840" y="649296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8205840" y="447840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370840" y="645948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997960" y="645948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747840" y="64594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7344720" y="645948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973280" y="645948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613480" y="651672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H="1">
              <a:off x="8179920" y="651672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613480" y="62247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 flipH="1">
              <a:off x="8179920" y="622476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613480" y="5937120"/>
              <a:ext cx="237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8179920" y="593712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613480" y="564372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H="1">
              <a:off x="8179920" y="564372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613480" y="53514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8179920" y="535140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613480" y="50576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H="1">
              <a:off x="8179920" y="505764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613480" y="47703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H="1">
              <a:off x="8179920" y="477036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50" name=""/>
            <p:cNvGrpSpPr/>
            <p:nvPr/>
          </p:nvGrpSpPr>
          <p:grpSpPr>
            <a:xfrm>
              <a:off x="5054760" y="4575240"/>
              <a:ext cx="565920" cy="2143080"/>
              <a:chOff x="5054760" y="4575240"/>
              <a:chExt cx="565920" cy="2143080"/>
            </a:xfrm>
          </p:grpSpPr>
          <p:sp>
            <p:nvSpPr>
              <p:cNvPr id="1851" name=""/>
              <p:cNvSpPr/>
              <p:nvPr/>
            </p:nvSpPr>
            <p:spPr>
              <a:xfrm>
                <a:off x="5054760" y="632160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5161680" y="57420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5082120" y="515628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5082120" y="457524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5" name=""/>
            <p:cNvSpPr/>
            <p:nvPr/>
          </p:nvSpPr>
          <p:spPr>
            <a:xfrm>
              <a:off x="5613480" y="44784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>
              <a:off x="8179920" y="447840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613480" y="651672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V="1">
              <a:off x="5613480" y="4484160"/>
              <a:ext cx="0" cy="2032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V="1">
              <a:off x="8205840" y="4478400"/>
              <a:ext cx="0" cy="2038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613480" y="651672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600880" y="592596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667480" y="597384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732640" y="592596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5792760" y="586584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859360" y="592596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924520" y="5985000"/>
              <a:ext cx="2232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991120" y="592596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056280" y="585468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122880" y="592596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181560" y="601020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248520" y="592596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313320" y="5818320"/>
              <a:ext cx="22320" cy="219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380280" y="592596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445080" y="6058080"/>
              <a:ext cx="22320" cy="219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512040" y="592596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570720" y="5740560"/>
              <a:ext cx="23760" cy="219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637320" y="592596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6702480" y="623088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6769080" y="592596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834240" y="499896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900840" y="446724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6961320" y="499896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7026120" y="592596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093080" y="623088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7157880" y="592596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7224840" y="5740560"/>
              <a:ext cx="21960" cy="219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283520" y="592596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7350120" y="6058080"/>
              <a:ext cx="22320" cy="219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415280" y="592596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481880" y="5818320"/>
              <a:ext cx="22320" cy="219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547040" y="592596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613640" y="601020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672320" y="592596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7738920" y="585468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804080" y="592596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870680" y="5985000"/>
              <a:ext cx="2232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7935840" y="592596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002440" y="586584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8062920" y="592596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8128080" y="597384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8193240" y="592596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613480" y="593712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678640" y="5937120"/>
              <a:ext cx="0" cy="478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745240" y="593712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V="1">
              <a:off x="5803920" y="5876640"/>
              <a:ext cx="0" cy="601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870520" y="593712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935680" y="5937120"/>
              <a:ext cx="0" cy="604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002280" y="593712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V="1">
              <a:off x="6067440" y="5865840"/>
              <a:ext cx="0" cy="712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134040" y="593712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192720" y="5937120"/>
              <a:ext cx="0" cy="842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259680" y="593712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>
              <a:off x="6324480" y="5829120"/>
              <a:ext cx="0" cy="1076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391440" y="593712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456240" y="5937120"/>
              <a:ext cx="0" cy="1317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523200" y="593712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V="1">
              <a:off x="6583320" y="5751360"/>
              <a:ext cx="0" cy="1857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648480" y="593712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713640" y="5937120"/>
              <a:ext cx="0" cy="3049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780240" y="593712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V="1">
              <a:off x="6845400" y="5009760"/>
              <a:ext cx="0" cy="92700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V="1">
              <a:off x="6912000" y="4478400"/>
              <a:ext cx="0" cy="14587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V="1">
              <a:off x="6972480" y="5009760"/>
              <a:ext cx="0" cy="92700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7037280" y="593712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104240" y="5937120"/>
              <a:ext cx="0" cy="3049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169040" y="593712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V="1">
              <a:off x="7236000" y="5751360"/>
              <a:ext cx="0" cy="1857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294680" y="593712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361280" y="5937120"/>
              <a:ext cx="0" cy="1317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7426440" y="593712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V="1">
              <a:off x="7493040" y="5829120"/>
              <a:ext cx="0" cy="1076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7558200" y="593712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624800" y="5937120"/>
              <a:ext cx="0" cy="842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683480" y="593712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V="1">
              <a:off x="7750080" y="5865840"/>
              <a:ext cx="0" cy="712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815240" y="593712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881840" y="5937120"/>
              <a:ext cx="0" cy="604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947000" y="593712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V="1">
              <a:off x="8013600" y="5876640"/>
              <a:ext cx="0" cy="601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074080" y="593712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8139240" y="5937120"/>
              <a:ext cx="0" cy="478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8205840" y="593712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8229960" y="5510160"/>
              <a:ext cx="909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Uzorc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613480" y="5937120"/>
              <a:ext cx="3529080" cy="5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5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0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5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1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Projektiranje FIR filtara metodom vremenskih otvora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dabrati vremenski otvor (npr. pravokutni vremenski otv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7" name=""/>
          <p:cNvGrpSpPr/>
          <p:nvPr/>
        </p:nvGrpSpPr>
        <p:grpSpPr>
          <a:xfrm>
            <a:off x="5077440" y="1695600"/>
            <a:ext cx="4068000" cy="2638800"/>
            <a:chOff x="5077440" y="1695600"/>
            <a:chExt cx="4068000" cy="2638800"/>
          </a:xfrm>
        </p:grpSpPr>
        <p:sp>
          <p:nvSpPr>
            <p:cNvPr id="1948" name=""/>
            <p:cNvSpPr/>
            <p:nvPr/>
          </p:nvSpPr>
          <p:spPr>
            <a:xfrm flipV="1">
              <a:off x="5587920" y="1937880"/>
              <a:ext cx="0" cy="2040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V="1">
              <a:off x="6234120" y="1937880"/>
              <a:ext cx="0" cy="2040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V="1">
              <a:off x="6558120" y="1937880"/>
              <a:ext cx="0" cy="2040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6886440" y="1937880"/>
              <a:ext cx="0" cy="2040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V="1">
              <a:off x="7210440" y="1937880"/>
              <a:ext cx="0" cy="2040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7534440" y="1937880"/>
              <a:ext cx="0" cy="2040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8180280" y="1937880"/>
              <a:ext cx="0" cy="2040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587920" y="397836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587920" y="357192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587920" y="316404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587920" y="275112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587920" y="234468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587920" y="193824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587920" y="1938240"/>
              <a:ext cx="2594160" cy="2041560"/>
            </a:xfrm>
            <a:custGeom>
              <a:avLst/>
              <a:gdLst/>
              <a:ahLst/>
              <a:rect l="l" t="t" r="r" b="b"/>
              <a:pathLst>
                <a:path w="1634" h="1286">
                  <a:moveTo>
                    <a:pt x="0" y="1285"/>
                  </a:moveTo>
                  <a:lnTo>
                    <a:pt x="0" y="0"/>
                  </a:lnTo>
                  <a:lnTo>
                    <a:pt x="1633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587920" y="1938240"/>
              <a:ext cx="2594160" cy="2041560"/>
            </a:xfrm>
            <a:custGeom>
              <a:avLst/>
              <a:gdLst/>
              <a:ahLst/>
              <a:rect l="l" t="t" r="r" b="b"/>
              <a:pathLst>
                <a:path w="1634" h="1286">
                  <a:moveTo>
                    <a:pt x="0" y="1285"/>
                  </a:moveTo>
                  <a:lnTo>
                    <a:pt x="0" y="0"/>
                  </a:lnTo>
                  <a:lnTo>
                    <a:pt x="1633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587920" y="1938240"/>
              <a:ext cx="2594160" cy="2041560"/>
            </a:xfrm>
            <a:custGeom>
              <a:avLst/>
              <a:gdLst/>
              <a:ahLst/>
              <a:rect l="l" t="t" r="r" b="b"/>
              <a:pathLst>
                <a:path w="1634" h="1286">
                  <a:moveTo>
                    <a:pt x="0" y="1285"/>
                  </a:moveTo>
                  <a:lnTo>
                    <a:pt x="0" y="0"/>
                  </a:lnTo>
                  <a:lnTo>
                    <a:pt x="1633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587920" y="397836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587920" y="193824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V="1">
              <a:off x="5587920" y="1937880"/>
              <a:ext cx="0" cy="2040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8180280" y="1937880"/>
              <a:ext cx="0" cy="2040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587920" y="193824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180280" y="39783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587920" y="397836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5587920" y="1937880"/>
              <a:ext cx="0" cy="2040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587920" y="39783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5587920" y="3954600"/>
              <a:ext cx="0" cy="237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587920" y="193824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 flipV="1">
              <a:off x="5910120" y="3954600"/>
              <a:ext cx="0" cy="237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910120" y="193824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V="1">
              <a:off x="6234120" y="3954600"/>
              <a:ext cx="0" cy="237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6234120" y="1938240"/>
              <a:ext cx="0" cy="237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V="1">
              <a:off x="6558120" y="395460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558120" y="1938240"/>
              <a:ext cx="0" cy="237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6886440" y="395460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886440" y="1938240"/>
              <a:ext cx="0" cy="237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V="1">
              <a:off x="7210440" y="395460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7210440" y="1938240"/>
              <a:ext cx="0" cy="237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V="1">
              <a:off x="7534440" y="3954600"/>
              <a:ext cx="0" cy="237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7534440" y="1938240"/>
              <a:ext cx="0" cy="237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7858080" y="3954600"/>
              <a:ext cx="0" cy="237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858080" y="193824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8180280" y="3954600"/>
              <a:ext cx="0" cy="237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8180280" y="193824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91" name=""/>
            <p:cNvGrpSpPr/>
            <p:nvPr/>
          </p:nvGrpSpPr>
          <p:grpSpPr>
            <a:xfrm>
              <a:off x="5378760" y="3936960"/>
              <a:ext cx="3086640" cy="397440"/>
              <a:chOff x="5378760" y="3936960"/>
              <a:chExt cx="3086640" cy="397440"/>
            </a:xfrm>
          </p:grpSpPr>
          <p:sp>
            <p:nvSpPr>
              <p:cNvPr id="1992" name=""/>
              <p:cNvSpPr/>
              <p:nvPr/>
            </p:nvSpPr>
            <p:spPr>
              <a:xfrm>
                <a:off x="5378760" y="393696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2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6024600" y="393696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6732000" y="393696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349400" y="393696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997040" y="393696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2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97" name=""/>
            <p:cNvSpPr/>
            <p:nvPr/>
          </p:nvSpPr>
          <p:spPr>
            <a:xfrm>
              <a:off x="5587920" y="3978360"/>
              <a:ext cx="237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H="1">
              <a:off x="8156520" y="3978360"/>
              <a:ext cx="237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587920" y="37749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H="1">
              <a:off x="8156520" y="37749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587920" y="357192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H="1">
              <a:off x="8156520" y="357192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587920" y="336852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8156520" y="336852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587920" y="31640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H="1">
              <a:off x="8156520" y="31640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587920" y="29606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H="1">
              <a:off x="8156520" y="29606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587920" y="275112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>
              <a:off x="8156520" y="275112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587920" y="25480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H="1">
              <a:off x="8156520" y="25480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587920" y="23446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H="1">
              <a:off x="8156520" y="23446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587920" y="21416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 flipH="1">
              <a:off x="8156520" y="21416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587920" y="19382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H="1">
              <a:off x="8156520" y="19382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19" name=""/>
            <p:cNvGrpSpPr/>
            <p:nvPr/>
          </p:nvGrpSpPr>
          <p:grpSpPr>
            <a:xfrm>
              <a:off x="5077440" y="1695600"/>
              <a:ext cx="538560" cy="2437200"/>
              <a:chOff x="5077440" y="1695600"/>
              <a:chExt cx="538560" cy="2437200"/>
            </a:xfrm>
          </p:grpSpPr>
          <p:sp>
            <p:nvSpPr>
              <p:cNvPr id="2020" name=""/>
              <p:cNvSpPr/>
              <p:nvPr/>
            </p:nvSpPr>
            <p:spPr>
              <a:xfrm>
                <a:off x="5155560" y="373536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5077440" y="332892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5077440" y="292248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5077440" y="250992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5077440" y="210168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5155560" y="16956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6" name=""/>
            <p:cNvSpPr/>
            <p:nvPr/>
          </p:nvSpPr>
          <p:spPr>
            <a:xfrm>
              <a:off x="5587920" y="397836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587920" y="193824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5587920" y="1937880"/>
              <a:ext cx="0" cy="2040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8180280" y="1937880"/>
              <a:ext cx="0" cy="2040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587920" y="39783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8180280" y="193824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576760" y="396720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641920" y="396720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708520" y="396720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767560" y="396720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834160" y="396720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899320" y="396720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965920" y="396720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031080" y="396720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097680" y="396720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157800" y="396720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222960" y="192708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289560" y="192708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6354720" y="192708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421320" y="192708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486480" y="192708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546960" y="192708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6611760" y="1927080"/>
              <a:ext cx="241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678720" y="192708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743880" y="192708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810480" y="192708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875640" y="192708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935760" y="192708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002360" y="192708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067520" y="192708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134120" y="192708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7199280" y="192708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7259760" y="192708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324560" y="1927080"/>
              <a:ext cx="241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391520" y="192708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456320" y="1927080"/>
              <a:ext cx="241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523280" y="192708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7588080" y="3967200"/>
              <a:ext cx="241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648560" y="396720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7715160" y="396720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7780320" y="396720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846920" y="396720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912080" y="396720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978680" y="396720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8037360" y="3967200"/>
              <a:ext cx="241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8104320" y="396720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8169120" y="3967200"/>
              <a:ext cx="241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587920" y="39783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653080" y="39783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719680" y="39783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778360" y="39783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845320" y="397836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910120" y="39783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977080" y="397836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041880" y="39783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108840" y="397836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168960" y="39783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flipV="1">
              <a:off x="6234120" y="1937880"/>
              <a:ext cx="0" cy="20401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V="1">
              <a:off x="6300720" y="1937880"/>
              <a:ext cx="0" cy="20401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V="1">
              <a:off x="6365880" y="1937880"/>
              <a:ext cx="0" cy="20401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flipV="1">
              <a:off x="6432480" y="1937880"/>
              <a:ext cx="0" cy="20401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V="1">
              <a:off x="6497640" y="1937880"/>
              <a:ext cx="0" cy="20401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V="1">
              <a:off x="6558120" y="1937880"/>
              <a:ext cx="0" cy="20401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V="1">
              <a:off x="6622920" y="1937880"/>
              <a:ext cx="0" cy="20401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V="1">
              <a:off x="6689880" y="1937880"/>
              <a:ext cx="0" cy="20401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6754680" y="1937880"/>
              <a:ext cx="0" cy="20401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V="1">
              <a:off x="6821640" y="1937880"/>
              <a:ext cx="0" cy="20401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V="1">
              <a:off x="6886440" y="1937880"/>
              <a:ext cx="0" cy="20401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V="1">
              <a:off x="6946920" y="1937880"/>
              <a:ext cx="0" cy="20401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V="1">
              <a:off x="7013520" y="1937880"/>
              <a:ext cx="0" cy="20401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V="1">
              <a:off x="7078680" y="1937880"/>
              <a:ext cx="0" cy="20401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V="1">
              <a:off x="7145280" y="1937880"/>
              <a:ext cx="0" cy="20401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V="1">
              <a:off x="7210440" y="1937880"/>
              <a:ext cx="0" cy="20401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V="1">
              <a:off x="7270920" y="1937880"/>
              <a:ext cx="0" cy="20401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V="1">
              <a:off x="7335720" y="1937880"/>
              <a:ext cx="0" cy="20401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V="1">
              <a:off x="7402680" y="1937880"/>
              <a:ext cx="0" cy="20401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V="1">
              <a:off x="7467480" y="1937880"/>
              <a:ext cx="0" cy="20401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V="1">
              <a:off x="7534440" y="1937880"/>
              <a:ext cx="0" cy="20401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599240" y="39783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7659720" y="397836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7726320" y="39783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7791480" y="397836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7858080" y="39783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7923240" y="397836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7989840" y="39783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8048520" y="39783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8115480" y="397836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8180280" y="39783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8236440" y="3537000"/>
              <a:ext cx="909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Uzorc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587920" y="3978360"/>
              <a:ext cx="35370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6" name=""/>
          <p:cNvSpPr/>
          <p:nvPr/>
        </p:nvSpPr>
        <p:spPr>
          <a:xfrm>
            <a:off x="152280" y="4267080"/>
            <a:ext cx="4343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množiti beskonačni impulsni odziv s uzorcima vremenskog otv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292480" y="5568840"/>
            <a:ext cx="291960" cy="596880"/>
          </a:xfrm>
          <a:prstGeom prst="downArrow">
            <a:avLst>
              <a:gd name="adj1" fmla="val 50000"/>
              <a:gd name="adj2" fmla="val 102228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821520" y="6186600"/>
            <a:ext cx="358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66"/>
                </a:solidFill>
                <a:latin typeface="Times New Roman"/>
              </a:rPr>
              <a:t>konačan impulsni odz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9" name=""/>
          <p:cNvGrpSpPr/>
          <p:nvPr/>
        </p:nvGrpSpPr>
        <p:grpSpPr>
          <a:xfrm>
            <a:off x="5068080" y="4405320"/>
            <a:ext cx="4077360" cy="2451600"/>
            <a:chOff x="5068080" y="4405320"/>
            <a:chExt cx="4077360" cy="2451600"/>
          </a:xfrm>
        </p:grpSpPr>
        <p:sp>
          <p:nvSpPr>
            <p:cNvPr id="2120" name=""/>
            <p:cNvSpPr/>
            <p:nvPr/>
          </p:nvSpPr>
          <p:spPr>
            <a:xfrm>
              <a:off x="5347080" y="645948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999400" y="645948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746040" y="64594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319160" y="645948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8006760" y="645948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V="1">
              <a:off x="5591160" y="4417920"/>
              <a:ext cx="0" cy="205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flipV="1">
              <a:off x="6242040" y="4417920"/>
              <a:ext cx="0" cy="205416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 flipV="1">
              <a:off x="6899400" y="4417920"/>
              <a:ext cx="0" cy="205416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V="1">
              <a:off x="7551720" y="4417920"/>
              <a:ext cx="0" cy="205416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V="1">
              <a:off x="8202600" y="4417920"/>
              <a:ext cx="0" cy="205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591160" y="6472080"/>
              <a:ext cx="26114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591160" y="5888160"/>
              <a:ext cx="26114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591160" y="5297400"/>
              <a:ext cx="261144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591160" y="4713120"/>
              <a:ext cx="261144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591160" y="4417920"/>
              <a:ext cx="26114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591160" y="4417920"/>
              <a:ext cx="2612880" cy="2055960"/>
            </a:xfrm>
            <a:custGeom>
              <a:avLst/>
              <a:gdLst/>
              <a:ahLst/>
              <a:rect l="l" t="t" r="r" b="b"/>
              <a:pathLst>
                <a:path w="1646" h="1295">
                  <a:moveTo>
                    <a:pt x="0" y="1294"/>
                  </a:moveTo>
                  <a:lnTo>
                    <a:pt x="0" y="0"/>
                  </a:lnTo>
                  <a:lnTo>
                    <a:pt x="1645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591160" y="4417920"/>
              <a:ext cx="2612880" cy="2055960"/>
            </a:xfrm>
            <a:custGeom>
              <a:avLst/>
              <a:gdLst/>
              <a:ahLst/>
              <a:rect l="l" t="t" r="r" b="b"/>
              <a:pathLst>
                <a:path w="1646" h="1295">
                  <a:moveTo>
                    <a:pt x="0" y="1294"/>
                  </a:moveTo>
                  <a:lnTo>
                    <a:pt x="0" y="0"/>
                  </a:lnTo>
                  <a:lnTo>
                    <a:pt x="1645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591160" y="4417920"/>
              <a:ext cx="2612880" cy="2055960"/>
            </a:xfrm>
            <a:custGeom>
              <a:avLst/>
              <a:gdLst/>
              <a:ahLst/>
              <a:rect l="l" t="t" r="r" b="b"/>
              <a:pathLst>
                <a:path w="1646" h="1295">
                  <a:moveTo>
                    <a:pt x="0" y="1294"/>
                  </a:moveTo>
                  <a:lnTo>
                    <a:pt x="0" y="0"/>
                  </a:lnTo>
                  <a:lnTo>
                    <a:pt x="1645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591160" y="6472080"/>
              <a:ext cx="26114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591160" y="4417920"/>
              <a:ext cx="26114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V="1">
              <a:off x="5591160" y="4417920"/>
              <a:ext cx="0" cy="205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V="1">
              <a:off x="8202600" y="4417920"/>
              <a:ext cx="0" cy="205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591160" y="441792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8202600" y="647208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591160" y="6472080"/>
              <a:ext cx="26114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V="1">
              <a:off x="5591160" y="4417920"/>
              <a:ext cx="0" cy="205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591160" y="647208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V="1">
              <a:off x="5591160" y="64483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591160" y="44179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V="1">
              <a:off x="5916600" y="64483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916600" y="44179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V="1">
              <a:off x="6242040" y="64483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242040" y="44179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V="1">
              <a:off x="6567480" y="64483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567480" y="44179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V="1">
              <a:off x="6899400" y="64483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899400" y="4417920"/>
              <a:ext cx="0" cy="237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V="1">
              <a:off x="7224840" y="64483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224840" y="44179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V="1">
              <a:off x="7551720" y="64483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7551720" y="44179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V="1">
              <a:off x="7877160" y="64483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7877160" y="44179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V="1">
              <a:off x="8202600" y="64483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8202600" y="44179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591160" y="64720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H="1">
              <a:off x="8178840" y="64720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591160" y="61768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H="1">
              <a:off x="8178840" y="61768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91160" y="5888160"/>
              <a:ext cx="237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H="1">
              <a:off x="8178840" y="5888160"/>
              <a:ext cx="237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591160" y="55926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H="1">
              <a:off x="8178840" y="55926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591160" y="52974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H="1">
              <a:off x="8178840" y="52974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91160" y="50022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H="1">
              <a:off x="8178840" y="50022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591160" y="471312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H="1">
              <a:off x="8178840" y="471312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79" name=""/>
            <p:cNvGrpSpPr/>
            <p:nvPr/>
          </p:nvGrpSpPr>
          <p:grpSpPr>
            <a:xfrm>
              <a:off x="5068080" y="4505400"/>
              <a:ext cx="538560" cy="1573560"/>
              <a:chOff x="5068080" y="4505400"/>
              <a:chExt cx="538560" cy="1573560"/>
            </a:xfrm>
          </p:grpSpPr>
          <p:sp>
            <p:nvSpPr>
              <p:cNvPr id="2180" name=""/>
              <p:cNvSpPr/>
              <p:nvPr/>
            </p:nvSpPr>
            <p:spPr>
              <a:xfrm>
                <a:off x="5145840" y="568152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5068080" y="509112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5068080" y="450540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83" name=""/>
            <p:cNvSpPr/>
            <p:nvPr/>
          </p:nvSpPr>
          <p:spPr>
            <a:xfrm>
              <a:off x="5591160" y="441792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H="1">
              <a:off x="8178840" y="441792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591160" y="6472080"/>
              <a:ext cx="26114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591160" y="4417920"/>
              <a:ext cx="26114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 flipV="1">
              <a:off x="5591160" y="4417920"/>
              <a:ext cx="0" cy="205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 flipV="1">
              <a:off x="8202600" y="4417920"/>
              <a:ext cx="0" cy="205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591160" y="647208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578560" y="587700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645160" y="587700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711760" y="587700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772240" y="587700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838840" y="587700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905440" y="587700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970600" y="587700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037200" y="587700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103800" y="587700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164280" y="587700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230880" y="587700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297480" y="5767560"/>
              <a:ext cx="2232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362640" y="587700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429240" y="6008760"/>
              <a:ext cx="241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6496200" y="587700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556320" y="568944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6622920" y="587700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6689880" y="618336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6754680" y="5877000"/>
              <a:ext cx="241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6821640" y="4941720"/>
              <a:ext cx="23760" cy="241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888240" y="4405320"/>
              <a:ext cx="2232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948360" y="4941720"/>
              <a:ext cx="22320" cy="241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7015320" y="587700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081920" y="618336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147080" y="587700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7213680" y="568944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7273800" y="587700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340760" y="600876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7407360" y="587700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473960" y="5767560"/>
              <a:ext cx="2232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539120" y="587700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7605720" y="587700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7666200" y="587700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7732800" y="587700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7799400" y="587700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866000" y="587700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7931160" y="587700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997760" y="587700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8058240" y="587700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8124840" y="587700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8191440" y="587700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5591160" y="58881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656320" y="588816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722920" y="58881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783400" y="588816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850000" y="588816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916600" y="58881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983200" y="58881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048360" y="58881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114960" y="58881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175440" y="588816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242040" y="58881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V="1">
              <a:off x="6308640" y="5778000"/>
              <a:ext cx="0" cy="10980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375240" y="58881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440400" y="5888160"/>
              <a:ext cx="0" cy="1317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507000" y="58881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6567480" y="5700240"/>
              <a:ext cx="0" cy="1875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6634080" y="58881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700680" y="5888160"/>
              <a:ext cx="0" cy="3063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767640" y="588816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V="1">
              <a:off x="6832440" y="4952880"/>
              <a:ext cx="0" cy="9352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V="1">
              <a:off x="6899400" y="4417920"/>
              <a:ext cx="0" cy="14702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V="1">
              <a:off x="6959520" y="4952880"/>
              <a:ext cx="0" cy="9352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026120" y="58881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093080" y="5888160"/>
              <a:ext cx="0" cy="3063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7159680" y="588816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V="1">
              <a:off x="7224840" y="5700240"/>
              <a:ext cx="0" cy="1875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7284960" y="58881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7351560" y="5888160"/>
              <a:ext cx="0" cy="1317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7418520" y="588816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 flipV="1">
              <a:off x="7485120" y="5778000"/>
              <a:ext cx="0" cy="10980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7551720" y="58881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616880" y="588816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7677000" y="58881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743960" y="588816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7810560" y="588816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7877160" y="58881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7943760" y="58881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8008920" y="58881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8069400" y="588816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8136000" y="588816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8202600" y="58881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8236440" y="5448240"/>
              <a:ext cx="909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Uzorc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591160" y="5888160"/>
              <a:ext cx="3457440" cy="6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8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3" dur="5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8" dur="500"/>
                                        <p:tgtEl>
                                          <p:spTgt spid="2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4" dur="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Projektiranje FIR filtara metodom vremenskih otvora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Amplitudno frekvencijska karakteristika idealnog i dobivenog filt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6" name=""/>
          <p:cNvGrpSpPr/>
          <p:nvPr/>
        </p:nvGrpSpPr>
        <p:grpSpPr>
          <a:xfrm>
            <a:off x="4746600" y="1731960"/>
            <a:ext cx="3963240" cy="2608920"/>
            <a:chOff x="4746600" y="1731960"/>
            <a:chExt cx="3963240" cy="2608920"/>
          </a:xfrm>
        </p:grpSpPr>
        <p:sp>
          <p:nvSpPr>
            <p:cNvPr id="2277" name=""/>
            <p:cNvSpPr/>
            <p:nvPr/>
          </p:nvSpPr>
          <p:spPr>
            <a:xfrm flipV="1">
              <a:off x="5613480" y="1937880"/>
              <a:ext cx="0" cy="2040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 flipV="1">
              <a:off x="6259680" y="1937880"/>
              <a:ext cx="0" cy="204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 flipV="1">
              <a:off x="6912000" y="1937880"/>
              <a:ext cx="0" cy="204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 flipV="1">
              <a:off x="7559640" y="1937880"/>
              <a:ext cx="0" cy="204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V="1">
              <a:off x="8205840" y="1937880"/>
              <a:ext cx="0" cy="2040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613480" y="397836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5613480" y="363708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613480" y="329580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613480" y="296064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5613480" y="262080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613480" y="227952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5613480" y="193824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613480" y="1938240"/>
              <a:ext cx="2593800" cy="2041560"/>
            </a:xfrm>
            <a:custGeom>
              <a:avLst/>
              <a:gdLst/>
              <a:ahLst/>
              <a:rect l="l" t="t" r="r" b="b"/>
              <a:pathLst>
                <a:path w="1634" h="1286">
                  <a:moveTo>
                    <a:pt x="0" y="1285"/>
                  </a:moveTo>
                  <a:lnTo>
                    <a:pt x="0" y="0"/>
                  </a:lnTo>
                  <a:lnTo>
                    <a:pt x="1633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613480" y="1938240"/>
              <a:ext cx="2593800" cy="2041560"/>
            </a:xfrm>
            <a:custGeom>
              <a:avLst/>
              <a:gdLst/>
              <a:ahLst/>
              <a:rect l="l" t="t" r="r" b="b"/>
              <a:pathLst>
                <a:path w="1634" h="1286">
                  <a:moveTo>
                    <a:pt x="0" y="1285"/>
                  </a:moveTo>
                  <a:lnTo>
                    <a:pt x="0" y="0"/>
                  </a:lnTo>
                  <a:lnTo>
                    <a:pt x="1633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613480" y="1938240"/>
              <a:ext cx="2593800" cy="2041560"/>
            </a:xfrm>
            <a:custGeom>
              <a:avLst/>
              <a:gdLst/>
              <a:ahLst/>
              <a:rect l="l" t="t" r="r" b="b"/>
              <a:pathLst>
                <a:path w="1634" h="1286">
                  <a:moveTo>
                    <a:pt x="0" y="1285"/>
                  </a:moveTo>
                  <a:lnTo>
                    <a:pt x="0" y="0"/>
                  </a:lnTo>
                  <a:lnTo>
                    <a:pt x="1633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613480" y="397836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613480" y="193824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 flipV="1">
              <a:off x="5613480" y="1937880"/>
              <a:ext cx="0" cy="2040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V="1">
              <a:off x="8205840" y="1937880"/>
              <a:ext cx="0" cy="2040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613480" y="193824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8205840" y="397836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613480" y="397836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5613480" y="1937880"/>
              <a:ext cx="0" cy="2040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613480" y="397836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 flipV="1">
              <a:off x="5613480" y="395460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613480" y="193824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394960" y="3908520"/>
              <a:ext cx="410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V="1">
              <a:off x="6259680" y="395460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259680" y="193824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958720" y="3919680"/>
              <a:ext cx="76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0.5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V="1">
              <a:off x="6912000" y="395460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912000" y="193824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771600" y="39322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 flipV="1">
              <a:off x="7559640" y="395460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559640" y="193824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7233120" y="3943440"/>
              <a:ext cx="67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.5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V="1">
              <a:off x="8205840" y="395460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8205840" y="193824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8065440" y="3919680"/>
              <a:ext cx="325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613480" y="39783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 flipH="1">
              <a:off x="8182080" y="39783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613480" y="36370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flipH="1">
              <a:off x="8182080" y="36370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613480" y="32958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H="1">
              <a:off x="8182080" y="32958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613480" y="29606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8182080" y="29606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613480" y="26208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 flipH="1">
              <a:off x="8182080" y="26208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613480" y="227952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H="1">
              <a:off x="8182080" y="227952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613480" y="19382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H="1">
              <a:off x="8182080" y="19382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30" name=""/>
            <p:cNvGrpSpPr/>
            <p:nvPr/>
          </p:nvGrpSpPr>
          <p:grpSpPr>
            <a:xfrm>
              <a:off x="5091840" y="1731960"/>
              <a:ext cx="538560" cy="2437560"/>
              <a:chOff x="5091840" y="1731960"/>
              <a:chExt cx="538560" cy="2437560"/>
            </a:xfrm>
          </p:grpSpPr>
          <p:sp>
            <p:nvSpPr>
              <p:cNvPr id="2331" name=""/>
              <p:cNvSpPr/>
              <p:nvPr/>
            </p:nvSpPr>
            <p:spPr>
              <a:xfrm>
                <a:off x="5169600" y="37720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5091840" y="343044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5091840" y="308916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5091840" y="275436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5091840" y="241452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5169600" y="207324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5091840" y="173196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1.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38" name=""/>
            <p:cNvSpPr/>
            <p:nvPr/>
          </p:nvSpPr>
          <p:spPr>
            <a:xfrm>
              <a:off x="5613480" y="3978360"/>
              <a:ext cx="3030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5613480" y="193824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V="1">
              <a:off x="5613480" y="1937880"/>
              <a:ext cx="0" cy="2040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V="1">
              <a:off x="8205840" y="1937880"/>
              <a:ext cx="0" cy="2040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613480" y="397836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613480" y="2124000"/>
              <a:ext cx="2593800" cy="1855800"/>
            </a:xfrm>
            <a:custGeom>
              <a:avLst/>
              <a:gdLst/>
              <a:ahLst/>
              <a:rect l="l" t="t" r="r" b="b"/>
              <a:pathLst>
                <a:path w="1634" h="1169">
                  <a:moveTo>
                    <a:pt x="0" y="1134"/>
                  </a:moveTo>
                  <a:lnTo>
                    <a:pt x="3" y="1134"/>
                  </a:lnTo>
                  <a:lnTo>
                    <a:pt x="7" y="1134"/>
                  </a:lnTo>
                  <a:lnTo>
                    <a:pt x="11" y="1138"/>
                  </a:lnTo>
                  <a:lnTo>
                    <a:pt x="15" y="1138"/>
                  </a:lnTo>
                  <a:lnTo>
                    <a:pt x="15" y="1142"/>
                  </a:lnTo>
                  <a:lnTo>
                    <a:pt x="19" y="1142"/>
                  </a:lnTo>
                  <a:lnTo>
                    <a:pt x="19" y="1145"/>
                  </a:lnTo>
                  <a:lnTo>
                    <a:pt x="22" y="1145"/>
                  </a:lnTo>
                  <a:lnTo>
                    <a:pt x="22" y="1149"/>
                  </a:lnTo>
                  <a:lnTo>
                    <a:pt x="26" y="1149"/>
                  </a:lnTo>
                  <a:lnTo>
                    <a:pt x="26" y="1153"/>
                  </a:lnTo>
                  <a:lnTo>
                    <a:pt x="30" y="1153"/>
                  </a:lnTo>
                  <a:lnTo>
                    <a:pt x="30" y="1157"/>
                  </a:lnTo>
                  <a:lnTo>
                    <a:pt x="34" y="1161"/>
                  </a:lnTo>
                  <a:lnTo>
                    <a:pt x="37" y="1164"/>
                  </a:lnTo>
                  <a:lnTo>
                    <a:pt x="41" y="1168"/>
                  </a:lnTo>
                  <a:lnTo>
                    <a:pt x="41" y="1164"/>
                  </a:lnTo>
                  <a:lnTo>
                    <a:pt x="45" y="1164"/>
                  </a:lnTo>
                  <a:lnTo>
                    <a:pt x="45" y="1161"/>
                  </a:lnTo>
                  <a:lnTo>
                    <a:pt x="49" y="1157"/>
                  </a:lnTo>
                  <a:lnTo>
                    <a:pt x="52" y="1153"/>
                  </a:lnTo>
                  <a:lnTo>
                    <a:pt x="52" y="1149"/>
                  </a:lnTo>
                  <a:lnTo>
                    <a:pt x="56" y="1149"/>
                  </a:lnTo>
                  <a:lnTo>
                    <a:pt x="56" y="1145"/>
                  </a:lnTo>
                  <a:lnTo>
                    <a:pt x="60" y="1145"/>
                  </a:lnTo>
                  <a:lnTo>
                    <a:pt x="60" y="1142"/>
                  </a:lnTo>
                  <a:lnTo>
                    <a:pt x="64" y="1142"/>
                  </a:lnTo>
                  <a:lnTo>
                    <a:pt x="64" y="1138"/>
                  </a:lnTo>
                  <a:lnTo>
                    <a:pt x="68" y="1138"/>
                  </a:lnTo>
                  <a:lnTo>
                    <a:pt x="71" y="1138"/>
                  </a:lnTo>
                  <a:lnTo>
                    <a:pt x="71" y="1134"/>
                  </a:lnTo>
                  <a:lnTo>
                    <a:pt x="75" y="1134"/>
                  </a:lnTo>
                  <a:lnTo>
                    <a:pt x="79" y="1134"/>
                  </a:lnTo>
                  <a:lnTo>
                    <a:pt x="83" y="1134"/>
                  </a:lnTo>
                  <a:lnTo>
                    <a:pt x="86" y="1134"/>
                  </a:lnTo>
                  <a:lnTo>
                    <a:pt x="90" y="1134"/>
                  </a:lnTo>
                  <a:lnTo>
                    <a:pt x="94" y="1134"/>
                  </a:lnTo>
                  <a:lnTo>
                    <a:pt x="94" y="1138"/>
                  </a:lnTo>
                  <a:lnTo>
                    <a:pt x="98" y="1138"/>
                  </a:lnTo>
                  <a:lnTo>
                    <a:pt x="98" y="1142"/>
                  </a:lnTo>
                  <a:lnTo>
                    <a:pt x="102" y="1142"/>
                  </a:lnTo>
                  <a:lnTo>
                    <a:pt x="102" y="1145"/>
                  </a:lnTo>
                  <a:lnTo>
                    <a:pt x="105" y="1145"/>
                  </a:lnTo>
                  <a:lnTo>
                    <a:pt x="105" y="1149"/>
                  </a:lnTo>
                  <a:lnTo>
                    <a:pt x="109" y="1149"/>
                  </a:lnTo>
                  <a:lnTo>
                    <a:pt x="109" y="1153"/>
                  </a:lnTo>
                  <a:lnTo>
                    <a:pt x="113" y="1153"/>
                  </a:lnTo>
                  <a:lnTo>
                    <a:pt x="113" y="1157"/>
                  </a:lnTo>
                  <a:lnTo>
                    <a:pt x="113" y="1161"/>
                  </a:lnTo>
                  <a:lnTo>
                    <a:pt x="117" y="1161"/>
                  </a:lnTo>
                  <a:lnTo>
                    <a:pt x="117" y="1164"/>
                  </a:lnTo>
                  <a:lnTo>
                    <a:pt x="120" y="1164"/>
                  </a:lnTo>
                  <a:lnTo>
                    <a:pt x="120" y="1168"/>
                  </a:lnTo>
                  <a:lnTo>
                    <a:pt x="124" y="1164"/>
                  </a:lnTo>
                  <a:lnTo>
                    <a:pt x="124" y="1161"/>
                  </a:lnTo>
                  <a:lnTo>
                    <a:pt x="128" y="1161"/>
                  </a:lnTo>
                  <a:lnTo>
                    <a:pt x="128" y="1157"/>
                  </a:lnTo>
                  <a:lnTo>
                    <a:pt x="132" y="1153"/>
                  </a:lnTo>
                  <a:lnTo>
                    <a:pt x="136" y="1149"/>
                  </a:lnTo>
                  <a:lnTo>
                    <a:pt x="136" y="1145"/>
                  </a:lnTo>
                  <a:lnTo>
                    <a:pt x="139" y="1142"/>
                  </a:lnTo>
                  <a:lnTo>
                    <a:pt x="143" y="1138"/>
                  </a:lnTo>
                  <a:lnTo>
                    <a:pt x="147" y="1134"/>
                  </a:lnTo>
                  <a:lnTo>
                    <a:pt x="151" y="1130"/>
                  </a:lnTo>
                  <a:lnTo>
                    <a:pt x="154" y="1130"/>
                  </a:lnTo>
                  <a:lnTo>
                    <a:pt x="154" y="1127"/>
                  </a:lnTo>
                  <a:lnTo>
                    <a:pt x="158" y="1127"/>
                  </a:lnTo>
                  <a:lnTo>
                    <a:pt x="162" y="1127"/>
                  </a:lnTo>
                  <a:lnTo>
                    <a:pt x="166" y="1127"/>
                  </a:lnTo>
                  <a:lnTo>
                    <a:pt x="169" y="1127"/>
                  </a:lnTo>
                  <a:lnTo>
                    <a:pt x="173" y="1130"/>
                  </a:lnTo>
                  <a:lnTo>
                    <a:pt x="177" y="1130"/>
                  </a:lnTo>
                  <a:lnTo>
                    <a:pt x="177" y="1134"/>
                  </a:lnTo>
                  <a:lnTo>
                    <a:pt x="181" y="1134"/>
                  </a:lnTo>
                  <a:lnTo>
                    <a:pt x="181" y="1138"/>
                  </a:lnTo>
                  <a:lnTo>
                    <a:pt x="185" y="1138"/>
                  </a:lnTo>
                  <a:lnTo>
                    <a:pt x="185" y="1142"/>
                  </a:lnTo>
                  <a:lnTo>
                    <a:pt x="188" y="1145"/>
                  </a:lnTo>
                  <a:lnTo>
                    <a:pt x="188" y="1149"/>
                  </a:lnTo>
                  <a:lnTo>
                    <a:pt x="192" y="1149"/>
                  </a:lnTo>
                  <a:lnTo>
                    <a:pt x="192" y="1153"/>
                  </a:lnTo>
                  <a:lnTo>
                    <a:pt x="196" y="1157"/>
                  </a:lnTo>
                  <a:lnTo>
                    <a:pt x="196" y="1161"/>
                  </a:lnTo>
                  <a:lnTo>
                    <a:pt x="200" y="1164"/>
                  </a:lnTo>
                  <a:lnTo>
                    <a:pt x="200" y="1168"/>
                  </a:lnTo>
                  <a:lnTo>
                    <a:pt x="203" y="1168"/>
                  </a:lnTo>
                  <a:lnTo>
                    <a:pt x="203" y="1164"/>
                  </a:lnTo>
                  <a:lnTo>
                    <a:pt x="207" y="1161"/>
                  </a:lnTo>
                  <a:lnTo>
                    <a:pt x="207" y="1157"/>
                  </a:lnTo>
                  <a:lnTo>
                    <a:pt x="207" y="1153"/>
                  </a:lnTo>
                  <a:lnTo>
                    <a:pt x="211" y="1153"/>
                  </a:lnTo>
                  <a:lnTo>
                    <a:pt x="211" y="1149"/>
                  </a:lnTo>
                  <a:lnTo>
                    <a:pt x="215" y="1145"/>
                  </a:lnTo>
                  <a:lnTo>
                    <a:pt x="215" y="1142"/>
                  </a:lnTo>
                  <a:lnTo>
                    <a:pt x="219" y="1142"/>
                  </a:lnTo>
                  <a:lnTo>
                    <a:pt x="219" y="1138"/>
                  </a:lnTo>
                  <a:lnTo>
                    <a:pt x="219" y="1134"/>
                  </a:lnTo>
                  <a:lnTo>
                    <a:pt x="222" y="1134"/>
                  </a:lnTo>
                  <a:lnTo>
                    <a:pt x="222" y="1130"/>
                  </a:lnTo>
                  <a:lnTo>
                    <a:pt x="226" y="1127"/>
                  </a:lnTo>
                  <a:lnTo>
                    <a:pt x="226" y="1123"/>
                  </a:lnTo>
                  <a:lnTo>
                    <a:pt x="230" y="1123"/>
                  </a:lnTo>
                  <a:lnTo>
                    <a:pt x="230" y="1119"/>
                  </a:lnTo>
                  <a:lnTo>
                    <a:pt x="234" y="1119"/>
                  </a:lnTo>
                  <a:lnTo>
                    <a:pt x="234" y="1115"/>
                  </a:lnTo>
                  <a:lnTo>
                    <a:pt x="237" y="1115"/>
                  </a:lnTo>
                  <a:lnTo>
                    <a:pt x="241" y="1112"/>
                  </a:lnTo>
                  <a:lnTo>
                    <a:pt x="245" y="1112"/>
                  </a:lnTo>
                  <a:lnTo>
                    <a:pt x="249" y="1112"/>
                  </a:lnTo>
                  <a:lnTo>
                    <a:pt x="249" y="1115"/>
                  </a:lnTo>
                  <a:lnTo>
                    <a:pt x="252" y="1115"/>
                  </a:lnTo>
                  <a:lnTo>
                    <a:pt x="256" y="1115"/>
                  </a:lnTo>
                  <a:lnTo>
                    <a:pt x="256" y="1119"/>
                  </a:lnTo>
                  <a:lnTo>
                    <a:pt x="260" y="1119"/>
                  </a:lnTo>
                  <a:lnTo>
                    <a:pt x="260" y="1123"/>
                  </a:lnTo>
                  <a:lnTo>
                    <a:pt x="264" y="1127"/>
                  </a:lnTo>
                  <a:lnTo>
                    <a:pt x="264" y="1130"/>
                  </a:lnTo>
                  <a:lnTo>
                    <a:pt x="268" y="1134"/>
                  </a:lnTo>
                  <a:lnTo>
                    <a:pt x="268" y="1138"/>
                  </a:lnTo>
                  <a:lnTo>
                    <a:pt x="271" y="1142"/>
                  </a:lnTo>
                  <a:lnTo>
                    <a:pt x="271" y="1145"/>
                  </a:lnTo>
                  <a:lnTo>
                    <a:pt x="275" y="1149"/>
                  </a:lnTo>
                  <a:lnTo>
                    <a:pt x="275" y="1153"/>
                  </a:lnTo>
                  <a:lnTo>
                    <a:pt x="279" y="1157"/>
                  </a:lnTo>
                  <a:lnTo>
                    <a:pt x="279" y="1161"/>
                  </a:lnTo>
                  <a:lnTo>
                    <a:pt x="279" y="1164"/>
                  </a:lnTo>
                  <a:lnTo>
                    <a:pt x="283" y="1164"/>
                  </a:lnTo>
                  <a:lnTo>
                    <a:pt x="283" y="1161"/>
                  </a:lnTo>
                  <a:lnTo>
                    <a:pt x="286" y="1157"/>
                  </a:lnTo>
                  <a:lnTo>
                    <a:pt x="286" y="1153"/>
                  </a:lnTo>
                  <a:lnTo>
                    <a:pt x="290" y="1149"/>
                  </a:lnTo>
                  <a:lnTo>
                    <a:pt x="290" y="1142"/>
                  </a:lnTo>
                  <a:lnTo>
                    <a:pt x="290" y="1138"/>
                  </a:lnTo>
                  <a:lnTo>
                    <a:pt x="294" y="1134"/>
                  </a:lnTo>
                  <a:lnTo>
                    <a:pt x="294" y="1130"/>
                  </a:lnTo>
                  <a:lnTo>
                    <a:pt x="298" y="1123"/>
                  </a:lnTo>
                  <a:lnTo>
                    <a:pt x="298" y="1119"/>
                  </a:lnTo>
                  <a:lnTo>
                    <a:pt x="298" y="1115"/>
                  </a:lnTo>
                  <a:lnTo>
                    <a:pt x="302" y="1112"/>
                  </a:lnTo>
                  <a:lnTo>
                    <a:pt x="302" y="1108"/>
                  </a:lnTo>
                  <a:lnTo>
                    <a:pt x="305" y="1104"/>
                  </a:lnTo>
                  <a:lnTo>
                    <a:pt x="305" y="1100"/>
                  </a:lnTo>
                  <a:lnTo>
                    <a:pt x="309" y="1096"/>
                  </a:lnTo>
                  <a:lnTo>
                    <a:pt x="309" y="1093"/>
                  </a:lnTo>
                  <a:lnTo>
                    <a:pt x="309" y="1089"/>
                  </a:lnTo>
                  <a:lnTo>
                    <a:pt x="313" y="1085"/>
                  </a:lnTo>
                  <a:lnTo>
                    <a:pt x="313" y="1081"/>
                  </a:lnTo>
                  <a:lnTo>
                    <a:pt x="317" y="1078"/>
                  </a:lnTo>
                  <a:lnTo>
                    <a:pt x="320" y="1074"/>
                  </a:lnTo>
                  <a:lnTo>
                    <a:pt x="324" y="1070"/>
                  </a:lnTo>
                  <a:lnTo>
                    <a:pt x="328" y="1070"/>
                  </a:lnTo>
                  <a:lnTo>
                    <a:pt x="332" y="1070"/>
                  </a:lnTo>
                  <a:lnTo>
                    <a:pt x="332" y="1074"/>
                  </a:lnTo>
                  <a:lnTo>
                    <a:pt x="335" y="1078"/>
                  </a:lnTo>
                  <a:lnTo>
                    <a:pt x="339" y="1081"/>
                  </a:lnTo>
                  <a:lnTo>
                    <a:pt x="339" y="1085"/>
                  </a:lnTo>
                  <a:lnTo>
                    <a:pt x="339" y="1089"/>
                  </a:lnTo>
                  <a:lnTo>
                    <a:pt x="343" y="1093"/>
                  </a:lnTo>
                  <a:lnTo>
                    <a:pt x="343" y="1100"/>
                  </a:lnTo>
                  <a:lnTo>
                    <a:pt x="347" y="1104"/>
                  </a:lnTo>
                  <a:lnTo>
                    <a:pt x="347" y="1112"/>
                  </a:lnTo>
                  <a:lnTo>
                    <a:pt x="351" y="1119"/>
                  </a:lnTo>
                  <a:lnTo>
                    <a:pt x="351" y="1127"/>
                  </a:lnTo>
                  <a:lnTo>
                    <a:pt x="351" y="1134"/>
                  </a:lnTo>
                  <a:lnTo>
                    <a:pt x="354" y="1142"/>
                  </a:lnTo>
                  <a:lnTo>
                    <a:pt x="354" y="1153"/>
                  </a:lnTo>
                  <a:lnTo>
                    <a:pt x="358" y="1161"/>
                  </a:lnTo>
                  <a:lnTo>
                    <a:pt x="358" y="1164"/>
                  </a:lnTo>
                  <a:lnTo>
                    <a:pt x="362" y="1153"/>
                  </a:lnTo>
                  <a:lnTo>
                    <a:pt x="362" y="1142"/>
                  </a:lnTo>
                  <a:lnTo>
                    <a:pt x="362" y="1130"/>
                  </a:lnTo>
                  <a:lnTo>
                    <a:pt x="366" y="1119"/>
                  </a:lnTo>
                  <a:lnTo>
                    <a:pt x="366" y="1104"/>
                  </a:lnTo>
                  <a:lnTo>
                    <a:pt x="369" y="1093"/>
                  </a:lnTo>
                  <a:lnTo>
                    <a:pt x="369" y="1078"/>
                  </a:lnTo>
                  <a:lnTo>
                    <a:pt x="373" y="1063"/>
                  </a:lnTo>
                  <a:lnTo>
                    <a:pt x="373" y="1047"/>
                  </a:lnTo>
                  <a:lnTo>
                    <a:pt x="373" y="1032"/>
                  </a:lnTo>
                  <a:lnTo>
                    <a:pt x="377" y="1017"/>
                  </a:lnTo>
                  <a:lnTo>
                    <a:pt x="377" y="1002"/>
                  </a:lnTo>
                  <a:lnTo>
                    <a:pt x="381" y="983"/>
                  </a:lnTo>
                  <a:lnTo>
                    <a:pt x="381" y="968"/>
                  </a:lnTo>
                  <a:lnTo>
                    <a:pt x="381" y="949"/>
                  </a:lnTo>
                  <a:lnTo>
                    <a:pt x="385" y="931"/>
                  </a:lnTo>
                  <a:lnTo>
                    <a:pt x="385" y="916"/>
                  </a:lnTo>
                  <a:lnTo>
                    <a:pt x="388" y="897"/>
                  </a:lnTo>
                  <a:lnTo>
                    <a:pt x="388" y="878"/>
                  </a:lnTo>
                  <a:lnTo>
                    <a:pt x="392" y="855"/>
                  </a:lnTo>
                  <a:lnTo>
                    <a:pt x="392" y="836"/>
                  </a:lnTo>
                  <a:lnTo>
                    <a:pt x="392" y="818"/>
                  </a:lnTo>
                  <a:lnTo>
                    <a:pt x="396" y="799"/>
                  </a:lnTo>
                  <a:lnTo>
                    <a:pt x="396" y="776"/>
                  </a:lnTo>
                  <a:lnTo>
                    <a:pt x="400" y="757"/>
                  </a:lnTo>
                  <a:lnTo>
                    <a:pt x="400" y="738"/>
                  </a:lnTo>
                  <a:lnTo>
                    <a:pt x="403" y="716"/>
                  </a:lnTo>
                  <a:lnTo>
                    <a:pt x="403" y="697"/>
                  </a:lnTo>
                  <a:lnTo>
                    <a:pt x="403" y="674"/>
                  </a:lnTo>
                  <a:lnTo>
                    <a:pt x="407" y="652"/>
                  </a:lnTo>
                  <a:lnTo>
                    <a:pt x="407" y="633"/>
                  </a:lnTo>
                  <a:lnTo>
                    <a:pt x="411" y="610"/>
                  </a:lnTo>
                  <a:lnTo>
                    <a:pt x="411" y="591"/>
                  </a:lnTo>
                  <a:lnTo>
                    <a:pt x="415" y="569"/>
                  </a:lnTo>
                  <a:lnTo>
                    <a:pt x="415" y="550"/>
                  </a:lnTo>
                  <a:lnTo>
                    <a:pt x="415" y="527"/>
                  </a:lnTo>
                  <a:lnTo>
                    <a:pt x="418" y="509"/>
                  </a:lnTo>
                  <a:lnTo>
                    <a:pt x="418" y="486"/>
                  </a:lnTo>
                  <a:lnTo>
                    <a:pt x="422" y="467"/>
                  </a:lnTo>
                  <a:lnTo>
                    <a:pt x="422" y="448"/>
                  </a:lnTo>
                  <a:lnTo>
                    <a:pt x="422" y="429"/>
                  </a:lnTo>
                  <a:lnTo>
                    <a:pt x="426" y="407"/>
                  </a:lnTo>
                  <a:lnTo>
                    <a:pt x="426" y="388"/>
                  </a:lnTo>
                  <a:lnTo>
                    <a:pt x="430" y="369"/>
                  </a:lnTo>
                  <a:lnTo>
                    <a:pt x="430" y="350"/>
                  </a:lnTo>
                  <a:lnTo>
                    <a:pt x="434" y="331"/>
                  </a:lnTo>
                  <a:lnTo>
                    <a:pt x="434" y="316"/>
                  </a:lnTo>
                  <a:lnTo>
                    <a:pt x="434" y="297"/>
                  </a:lnTo>
                  <a:lnTo>
                    <a:pt x="437" y="279"/>
                  </a:lnTo>
                  <a:lnTo>
                    <a:pt x="437" y="264"/>
                  </a:lnTo>
                  <a:lnTo>
                    <a:pt x="441" y="248"/>
                  </a:lnTo>
                  <a:lnTo>
                    <a:pt x="441" y="233"/>
                  </a:lnTo>
                  <a:lnTo>
                    <a:pt x="445" y="215"/>
                  </a:lnTo>
                  <a:lnTo>
                    <a:pt x="445" y="199"/>
                  </a:lnTo>
                  <a:lnTo>
                    <a:pt x="445" y="188"/>
                  </a:lnTo>
                  <a:lnTo>
                    <a:pt x="449" y="173"/>
                  </a:lnTo>
                  <a:lnTo>
                    <a:pt x="449" y="158"/>
                  </a:lnTo>
                  <a:lnTo>
                    <a:pt x="452" y="147"/>
                  </a:lnTo>
                  <a:lnTo>
                    <a:pt x="452" y="135"/>
                  </a:lnTo>
                  <a:lnTo>
                    <a:pt x="456" y="124"/>
                  </a:lnTo>
                  <a:lnTo>
                    <a:pt x="456" y="113"/>
                  </a:lnTo>
                  <a:lnTo>
                    <a:pt x="456" y="101"/>
                  </a:lnTo>
                  <a:lnTo>
                    <a:pt x="460" y="90"/>
                  </a:lnTo>
                  <a:lnTo>
                    <a:pt x="460" y="79"/>
                  </a:lnTo>
                  <a:lnTo>
                    <a:pt x="464" y="71"/>
                  </a:lnTo>
                  <a:lnTo>
                    <a:pt x="464" y="64"/>
                  </a:lnTo>
                  <a:lnTo>
                    <a:pt x="464" y="56"/>
                  </a:lnTo>
                  <a:lnTo>
                    <a:pt x="468" y="49"/>
                  </a:lnTo>
                  <a:lnTo>
                    <a:pt x="468" y="41"/>
                  </a:lnTo>
                  <a:lnTo>
                    <a:pt x="471" y="34"/>
                  </a:lnTo>
                  <a:lnTo>
                    <a:pt x="471" y="30"/>
                  </a:lnTo>
                  <a:lnTo>
                    <a:pt x="475" y="22"/>
                  </a:lnTo>
                  <a:lnTo>
                    <a:pt x="475" y="19"/>
                  </a:lnTo>
                  <a:lnTo>
                    <a:pt x="475" y="15"/>
                  </a:lnTo>
                  <a:lnTo>
                    <a:pt x="479" y="11"/>
                  </a:lnTo>
                  <a:lnTo>
                    <a:pt x="479" y="7"/>
                  </a:lnTo>
                  <a:lnTo>
                    <a:pt x="483" y="7"/>
                  </a:lnTo>
                  <a:lnTo>
                    <a:pt x="483" y="3"/>
                  </a:lnTo>
                  <a:lnTo>
                    <a:pt x="486" y="3"/>
                  </a:lnTo>
                  <a:lnTo>
                    <a:pt x="486" y="0"/>
                  </a:lnTo>
                  <a:lnTo>
                    <a:pt x="490" y="0"/>
                  </a:lnTo>
                  <a:lnTo>
                    <a:pt x="494" y="0"/>
                  </a:lnTo>
                  <a:lnTo>
                    <a:pt x="498" y="3"/>
                  </a:lnTo>
                  <a:lnTo>
                    <a:pt x="498" y="7"/>
                  </a:lnTo>
                  <a:lnTo>
                    <a:pt x="502" y="7"/>
                  </a:lnTo>
                  <a:lnTo>
                    <a:pt x="502" y="11"/>
                  </a:lnTo>
                  <a:lnTo>
                    <a:pt x="505" y="15"/>
                  </a:lnTo>
                  <a:lnTo>
                    <a:pt x="505" y="19"/>
                  </a:lnTo>
                  <a:lnTo>
                    <a:pt x="509" y="22"/>
                  </a:lnTo>
                  <a:lnTo>
                    <a:pt x="509" y="26"/>
                  </a:lnTo>
                  <a:lnTo>
                    <a:pt x="513" y="30"/>
                  </a:lnTo>
                  <a:lnTo>
                    <a:pt x="513" y="34"/>
                  </a:lnTo>
                  <a:lnTo>
                    <a:pt x="517" y="41"/>
                  </a:lnTo>
                  <a:lnTo>
                    <a:pt x="517" y="45"/>
                  </a:lnTo>
                  <a:lnTo>
                    <a:pt x="517" y="49"/>
                  </a:lnTo>
                  <a:lnTo>
                    <a:pt x="520" y="52"/>
                  </a:lnTo>
                  <a:lnTo>
                    <a:pt x="520" y="56"/>
                  </a:lnTo>
                  <a:lnTo>
                    <a:pt x="524" y="64"/>
                  </a:lnTo>
                  <a:lnTo>
                    <a:pt x="524" y="68"/>
                  </a:lnTo>
                  <a:lnTo>
                    <a:pt x="528" y="71"/>
                  </a:lnTo>
                  <a:lnTo>
                    <a:pt x="528" y="75"/>
                  </a:lnTo>
                  <a:lnTo>
                    <a:pt x="528" y="83"/>
                  </a:lnTo>
                  <a:lnTo>
                    <a:pt x="532" y="86"/>
                  </a:lnTo>
                  <a:lnTo>
                    <a:pt x="532" y="90"/>
                  </a:lnTo>
                  <a:lnTo>
                    <a:pt x="535" y="94"/>
                  </a:lnTo>
                  <a:lnTo>
                    <a:pt x="535" y="98"/>
                  </a:lnTo>
                  <a:lnTo>
                    <a:pt x="539" y="105"/>
                  </a:lnTo>
                  <a:lnTo>
                    <a:pt x="539" y="109"/>
                  </a:lnTo>
                  <a:lnTo>
                    <a:pt x="539" y="113"/>
                  </a:lnTo>
                  <a:lnTo>
                    <a:pt x="543" y="117"/>
                  </a:lnTo>
                  <a:lnTo>
                    <a:pt x="543" y="120"/>
                  </a:lnTo>
                  <a:lnTo>
                    <a:pt x="547" y="124"/>
                  </a:lnTo>
                  <a:lnTo>
                    <a:pt x="547" y="128"/>
                  </a:lnTo>
                  <a:lnTo>
                    <a:pt x="551" y="132"/>
                  </a:lnTo>
                  <a:lnTo>
                    <a:pt x="551" y="135"/>
                  </a:lnTo>
                  <a:lnTo>
                    <a:pt x="554" y="139"/>
                  </a:lnTo>
                  <a:lnTo>
                    <a:pt x="558" y="143"/>
                  </a:lnTo>
                  <a:lnTo>
                    <a:pt x="558" y="147"/>
                  </a:lnTo>
                  <a:lnTo>
                    <a:pt x="562" y="147"/>
                  </a:lnTo>
                  <a:lnTo>
                    <a:pt x="562" y="150"/>
                  </a:lnTo>
                  <a:lnTo>
                    <a:pt x="566" y="150"/>
                  </a:lnTo>
                  <a:lnTo>
                    <a:pt x="569" y="150"/>
                  </a:lnTo>
                  <a:lnTo>
                    <a:pt x="569" y="154"/>
                  </a:lnTo>
                  <a:lnTo>
                    <a:pt x="573" y="154"/>
                  </a:lnTo>
                  <a:lnTo>
                    <a:pt x="577" y="150"/>
                  </a:lnTo>
                  <a:lnTo>
                    <a:pt x="581" y="150"/>
                  </a:lnTo>
                  <a:lnTo>
                    <a:pt x="581" y="147"/>
                  </a:lnTo>
                  <a:lnTo>
                    <a:pt x="585" y="147"/>
                  </a:lnTo>
                  <a:lnTo>
                    <a:pt x="588" y="143"/>
                  </a:lnTo>
                  <a:lnTo>
                    <a:pt x="588" y="139"/>
                  </a:lnTo>
                  <a:lnTo>
                    <a:pt x="592" y="139"/>
                  </a:lnTo>
                  <a:lnTo>
                    <a:pt x="592" y="135"/>
                  </a:lnTo>
                  <a:lnTo>
                    <a:pt x="596" y="132"/>
                  </a:lnTo>
                  <a:lnTo>
                    <a:pt x="600" y="128"/>
                  </a:lnTo>
                  <a:lnTo>
                    <a:pt x="600" y="124"/>
                  </a:lnTo>
                  <a:lnTo>
                    <a:pt x="600" y="120"/>
                  </a:lnTo>
                  <a:lnTo>
                    <a:pt x="603" y="120"/>
                  </a:lnTo>
                  <a:lnTo>
                    <a:pt x="603" y="117"/>
                  </a:lnTo>
                  <a:lnTo>
                    <a:pt x="607" y="113"/>
                  </a:lnTo>
                  <a:lnTo>
                    <a:pt x="607" y="109"/>
                  </a:lnTo>
                  <a:lnTo>
                    <a:pt x="611" y="109"/>
                  </a:lnTo>
                  <a:lnTo>
                    <a:pt x="611" y="105"/>
                  </a:lnTo>
                  <a:lnTo>
                    <a:pt x="611" y="101"/>
                  </a:lnTo>
                  <a:lnTo>
                    <a:pt x="615" y="98"/>
                  </a:lnTo>
                  <a:lnTo>
                    <a:pt x="615" y="94"/>
                  </a:lnTo>
                  <a:lnTo>
                    <a:pt x="618" y="94"/>
                  </a:lnTo>
                  <a:lnTo>
                    <a:pt x="618" y="90"/>
                  </a:lnTo>
                  <a:lnTo>
                    <a:pt x="618" y="86"/>
                  </a:lnTo>
                  <a:lnTo>
                    <a:pt x="622" y="83"/>
                  </a:lnTo>
                  <a:lnTo>
                    <a:pt x="626" y="79"/>
                  </a:lnTo>
                  <a:lnTo>
                    <a:pt x="626" y="75"/>
                  </a:lnTo>
                  <a:lnTo>
                    <a:pt x="630" y="75"/>
                  </a:lnTo>
                  <a:lnTo>
                    <a:pt x="630" y="71"/>
                  </a:lnTo>
                  <a:lnTo>
                    <a:pt x="634" y="68"/>
                  </a:lnTo>
                  <a:lnTo>
                    <a:pt x="637" y="64"/>
                  </a:lnTo>
                  <a:lnTo>
                    <a:pt x="641" y="60"/>
                  </a:lnTo>
                  <a:lnTo>
                    <a:pt x="645" y="60"/>
                  </a:lnTo>
                  <a:lnTo>
                    <a:pt x="645" y="56"/>
                  </a:lnTo>
                  <a:lnTo>
                    <a:pt x="649" y="56"/>
                  </a:lnTo>
                  <a:lnTo>
                    <a:pt x="652" y="56"/>
                  </a:lnTo>
                  <a:lnTo>
                    <a:pt x="656" y="56"/>
                  </a:lnTo>
                  <a:lnTo>
                    <a:pt x="660" y="56"/>
                  </a:lnTo>
                  <a:lnTo>
                    <a:pt x="664" y="60"/>
                  </a:lnTo>
                  <a:lnTo>
                    <a:pt x="668" y="60"/>
                  </a:lnTo>
                  <a:lnTo>
                    <a:pt x="668" y="64"/>
                  </a:lnTo>
                  <a:lnTo>
                    <a:pt x="671" y="64"/>
                  </a:lnTo>
                  <a:lnTo>
                    <a:pt x="671" y="68"/>
                  </a:lnTo>
                  <a:lnTo>
                    <a:pt x="675" y="68"/>
                  </a:lnTo>
                  <a:lnTo>
                    <a:pt x="675" y="71"/>
                  </a:lnTo>
                  <a:lnTo>
                    <a:pt x="679" y="71"/>
                  </a:lnTo>
                  <a:lnTo>
                    <a:pt x="679" y="75"/>
                  </a:lnTo>
                  <a:lnTo>
                    <a:pt x="683" y="75"/>
                  </a:lnTo>
                  <a:lnTo>
                    <a:pt x="683" y="79"/>
                  </a:lnTo>
                  <a:lnTo>
                    <a:pt x="683" y="83"/>
                  </a:lnTo>
                  <a:lnTo>
                    <a:pt x="686" y="83"/>
                  </a:lnTo>
                  <a:lnTo>
                    <a:pt x="686" y="86"/>
                  </a:lnTo>
                  <a:lnTo>
                    <a:pt x="690" y="86"/>
                  </a:lnTo>
                  <a:lnTo>
                    <a:pt x="690" y="90"/>
                  </a:lnTo>
                  <a:lnTo>
                    <a:pt x="694" y="94"/>
                  </a:lnTo>
                  <a:lnTo>
                    <a:pt x="694" y="98"/>
                  </a:lnTo>
                  <a:lnTo>
                    <a:pt x="698" y="98"/>
                  </a:lnTo>
                  <a:lnTo>
                    <a:pt x="698" y="101"/>
                  </a:lnTo>
                  <a:lnTo>
                    <a:pt x="701" y="105"/>
                  </a:lnTo>
                  <a:lnTo>
                    <a:pt x="701" y="109"/>
                  </a:lnTo>
                  <a:lnTo>
                    <a:pt x="705" y="109"/>
                  </a:lnTo>
                  <a:lnTo>
                    <a:pt x="705" y="113"/>
                  </a:lnTo>
                  <a:lnTo>
                    <a:pt x="709" y="113"/>
                  </a:lnTo>
                  <a:lnTo>
                    <a:pt x="709" y="117"/>
                  </a:lnTo>
                  <a:lnTo>
                    <a:pt x="713" y="117"/>
                  </a:lnTo>
                  <a:lnTo>
                    <a:pt x="713" y="120"/>
                  </a:lnTo>
                  <a:lnTo>
                    <a:pt x="717" y="124"/>
                  </a:lnTo>
                  <a:lnTo>
                    <a:pt x="720" y="128"/>
                  </a:lnTo>
                  <a:lnTo>
                    <a:pt x="724" y="128"/>
                  </a:lnTo>
                  <a:lnTo>
                    <a:pt x="724" y="132"/>
                  </a:lnTo>
                  <a:lnTo>
                    <a:pt x="728" y="132"/>
                  </a:lnTo>
                  <a:lnTo>
                    <a:pt x="732" y="132"/>
                  </a:lnTo>
                  <a:lnTo>
                    <a:pt x="735" y="132"/>
                  </a:lnTo>
                  <a:lnTo>
                    <a:pt x="739" y="132"/>
                  </a:lnTo>
                  <a:lnTo>
                    <a:pt x="743" y="132"/>
                  </a:lnTo>
                  <a:lnTo>
                    <a:pt x="747" y="128"/>
                  </a:lnTo>
                  <a:lnTo>
                    <a:pt x="751" y="128"/>
                  </a:lnTo>
                  <a:lnTo>
                    <a:pt x="751" y="124"/>
                  </a:lnTo>
                  <a:lnTo>
                    <a:pt x="754" y="124"/>
                  </a:lnTo>
                  <a:lnTo>
                    <a:pt x="754" y="120"/>
                  </a:lnTo>
                  <a:lnTo>
                    <a:pt x="758" y="120"/>
                  </a:lnTo>
                  <a:lnTo>
                    <a:pt x="758" y="117"/>
                  </a:lnTo>
                  <a:lnTo>
                    <a:pt x="762" y="117"/>
                  </a:lnTo>
                  <a:lnTo>
                    <a:pt x="766" y="113"/>
                  </a:lnTo>
                  <a:lnTo>
                    <a:pt x="766" y="109"/>
                  </a:lnTo>
                  <a:lnTo>
                    <a:pt x="769" y="105"/>
                  </a:lnTo>
                  <a:lnTo>
                    <a:pt x="773" y="101"/>
                  </a:lnTo>
                  <a:lnTo>
                    <a:pt x="777" y="98"/>
                  </a:lnTo>
                  <a:lnTo>
                    <a:pt x="777" y="94"/>
                  </a:lnTo>
                  <a:lnTo>
                    <a:pt x="781" y="94"/>
                  </a:lnTo>
                  <a:lnTo>
                    <a:pt x="781" y="90"/>
                  </a:lnTo>
                  <a:lnTo>
                    <a:pt x="785" y="86"/>
                  </a:lnTo>
                  <a:lnTo>
                    <a:pt x="785" y="83"/>
                  </a:lnTo>
                  <a:lnTo>
                    <a:pt x="788" y="83"/>
                  </a:lnTo>
                  <a:lnTo>
                    <a:pt x="788" y="79"/>
                  </a:lnTo>
                  <a:lnTo>
                    <a:pt x="792" y="79"/>
                  </a:lnTo>
                  <a:lnTo>
                    <a:pt x="792" y="75"/>
                  </a:lnTo>
                  <a:lnTo>
                    <a:pt x="796" y="75"/>
                  </a:lnTo>
                  <a:lnTo>
                    <a:pt x="796" y="71"/>
                  </a:lnTo>
                  <a:lnTo>
                    <a:pt x="800" y="71"/>
                  </a:lnTo>
                  <a:lnTo>
                    <a:pt x="803" y="68"/>
                  </a:lnTo>
                  <a:lnTo>
                    <a:pt x="807" y="68"/>
                  </a:lnTo>
                  <a:lnTo>
                    <a:pt x="807" y="64"/>
                  </a:lnTo>
                  <a:lnTo>
                    <a:pt x="811" y="64"/>
                  </a:lnTo>
                  <a:lnTo>
                    <a:pt x="815" y="64"/>
                  </a:lnTo>
                  <a:lnTo>
                    <a:pt x="818" y="64"/>
                  </a:lnTo>
                  <a:lnTo>
                    <a:pt x="822" y="64"/>
                  </a:lnTo>
                  <a:lnTo>
                    <a:pt x="826" y="64"/>
                  </a:lnTo>
                  <a:lnTo>
                    <a:pt x="826" y="68"/>
                  </a:lnTo>
                  <a:lnTo>
                    <a:pt x="830" y="68"/>
                  </a:lnTo>
                  <a:lnTo>
                    <a:pt x="834" y="71"/>
                  </a:lnTo>
                  <a:lnTo>
                    <a:pt x="837" y="71"/>
                  </a:lnTo>
                  <a:lnTo>
                    <a:pt x="837" y="75"/>
                  </a:lnTo>
                  <a:lnTo>
                    <a:pt x="841" y="75"/>
                  </a:lnTo>
                  <a:lnTo>
                    <a:pt x="841" y="79"/>
                  </a:lnTo>
                  <a:lnTo>
                    <a:pt x="845" y="79"/>
                  </a:lnTo>
                  <a:lnTo>
                    <a:pt x="845" y="83"/>
                  </a:lnTo>
                  <a:lnTo>
                    <a:pt x="849" y="83"/>
                  </a:lnTo>
                  <a:lnTo>
                    <a:pt x="849" y="86"/>
                  </a:lnTo>
                  <a:lnTo>
                    <a:pt x="852" y="90"/>
                  </a:lnTo>
                  <a:lnTo>
                    <a:pt x="852" y="94"/>
                  </a:lnTo>
                  <a:lnTo>
                    <a:pt x="856" y="94"/>
                  </a:lnTo>
                  <a:lnTo>
                    <a:pt x="856" y="98"/>
                  </a:lnTo>
                  <a:lnTo>
                    <a:pt x="860" y="101"/>
                  </a:lnTo>
                  <a:lnTo>
                    <a:pt x="864" y="105"/>
                  </a:lnTo>
                  <a:lnTo>
                    <a:pt x="868" y="109"/>
                  </a:lnTo>
                  <a:lnTo>
                    <a:pt x="868" y="113"/>
                  </a:lnTo>
                  <a:lnTo>
                    <a:pt x="871" y="117"/>
                  </a:lnTo>
                  <a:lnTo>
                    <a:pt x="875" y="117"/>
                  </a:lnTo>
                  <a:lnTo>
                    <a:pt x="875" y="120"/>
                  </a:lnTo>
                  <a:lnTo>
                    <a:pt x="879" y="120"/>
                  </a:lnTo>
                  <a:lnTo>
                    <a:pt x="879" y="124"/>
                  </a:lnTo>
                  <a:lnTo>
                    <a:pt x="883" y="124"/>
                  </a:lnTo>
                  <a:lnTo>
                    <a:pt x="883" y="128"/>
                  </a:lnTo>
                  <a:lnTo>
                    <a:pt x="886" y="128"/>
                  </a:lnTo>
                  <a:lnTo>
                    <a:pt x="890" y="132"/>
                  </a:lnTo>
                  <a:lnTo>
                    <a:pt x="894" y="132"/>
                  </a:lnTo>
                  <a:lnTo>
                    <a:pt x="898" y="132"/>
                  </a:lnTo>
                  <a:lnTo>
                    <a:pt x="901" y="132"/>
                  </a:lnTo>
                  <a:lnTo>
                    <a:pt x="905" y="132"/>
                  </a:lnTo>
                  <a:lnTo>
                    <a:pt x="909" y="132"/>
                  </a:lnTo>
                  <a:lnTo>
                    <a:pt x="909" y="128"/>
                  </a:lnTo>
                  <a:lnTo>
                    <a:pt x="913" y="128"/>
                  </a:lnTo>
                  <a:lnTo>
                    <a:pt x="917" y="124"/>
                  </a:lnTo>
                  <a:lnTo>
                    <a:pt x="920" y="120"/>
                  </a:lnTo>
                  <a:lnTo>
                    <a:pt x="920" y="117"/>
                  </a:lnTo>
                  <a:lnTo>
                    <a:pt x="924" y="117"/>
                  </a:lnTo>
                  <a:lnTo>
                    <a:pt x="924" y="113"/>
                  </a:lnTo>
                  <a:lnTo>
                    <a:pt x="928" y="113"/>
                  </a:lnTo>
                  <a:lnTo>
                    <a:pt x="928" y="109"/>
                  </a:lnTo>
                  <a:lnTo>
                    <a:pt x="932" y="109"/>
                  </a:lnTo>
                  <a:lnTo>
                    <a:pt x="932" y="105"/>
                  </a:lnTo>
                  <a:lnTo>
                    <a:pt x="935" y="101"/>
                  </a:lnTo>
                  <a:lnTo>
                    <a:pt x="935" y="98"/>
                  </a:lnTo>
                  <a:lnTo>
                    <a:pt x="939" y="98"/>
                  </a:lnTo>
                  <a:lnTo>
                    <a:pt x="939" y="94"/>
                  </a:lnTo>
                  <a:lnTo>
                    <a:pt x="943" y="90"/>
                  </a:lnTo>
                  <a:lnTo>
                    <a:pt x="943" y="86"/>
                  </a:lnTo>
                  <a:lnTo>
                    <a:pt x="947" y="86"/>
                  </a:lnTo>
                  <a:lnTo>
                    <a:pt x="947" y="83"/>
                  </a:lnTo>
                  <a:lnTo>
                    <a:pt x="951" y="83"/>
                  </a:lnTo>
                  <a:lnTo>
                    <a:pt x="951" y="79"/>
                  </a:lnTo>
                  <a:lnTo>
                    <a:pt x="951" y="75"/>
                  </a:lnTo>
                  <a:lnTo>
                    <a:pt x="954" y="75"/>
                  </a:lnTo>
                  <a:lnTo>
                    <a:pt x="954" y="71"/>
                  </a:lnTo>
                  <a:lnTo>
                    <a:pt x="958" y="71"/>
                  </a:lnTo>
                  <a:lnTo>
                    <a:pt x="958" y="68"/>
                  </a:lnTo>
                  <a:lnTo>
                    <a:pt x="962" y="68"/>
                  </a:lnTo>
                  <a:lnTo>
                    <a:pt x="962" y="64"/>
                  </a:lnTo>
                  <a:lnTo>
                    <a:pt x="966" y="64"/>
                  </a:lnTo>
                  <a:lnTo>
                    <a:pt x="966" y="60"/>
                  </a:lnTo>
                  <a:lnTo>
                    <a:pt x="969" y="60"/>
                  </a:lnTo>
                  <a:lnTo>
                    <a:pt x="973" y="56"/>
                  </a:lnTo>
                  <a:lnTo>
                    <a:pt x="977" y="56"/>
                  </a:lnTo>
                  <a:lnTo>
                    <a:pt x="981" y="56"/>
                  </a:lnTo>
                  <a:lnTo>
                    <a:pt x="984" y="56"/>
                  </a:lnTo>
                  <a:lnTo>
                    <a:pt x="988" y="56"/>
                  </a:lnTo>
                  <a:lnTo>
                    <a:pt x="988" y="60"/>
                  </a:lnTo>
                  <a:lnTo>
                    <a:pt x="992" y="60"/>
                  </a:lnTo>
                  <a:lnTo>
                    <a:pt x="996" y="64"/>
                  </a:lnTo>
                  <a:lnTo>
                    <a:pt x="1000" y="68"/>
                  </a:lnTo>
                  <a:lnTo>
                    <a:pt x="1003" y="71"/>
                  </a:lnTo>
                  <a:lnTo>
                    <a:pt x="1003" y="75"/>
                  </a:lnTo>
                  <a:lnTo>
                    <a:pt x="1007" y="75"/>
                  </a:lnTo>
                  <a:lnTo>
                    <a:pt x="1007" y="79"/>
                  </a:lnTo>
                  <a:lnTo>
                    <a:pt x="1011" y="83"/>
                  </a:lnTo>
                  <a:lnTo>
                    <a:pt x="1015" y="86"/>
                  </a:lnTo>
                  <a:lnTo>
                    <a:pt x="1015" y="90"/>
                  </a:lnTo>
                  <a:lnTo>
                    <a:pt x="1015" y="94"/>
                  </a:lnTo>
                  <a:lnTo>
                    <a:pt x="1018" y="94"/>
                  </a:lnTo>
                  <a:lnTo>
                    <a:pt x="1018" y="98"/>
                  </a:lnTo>
                  <a:lnTo>
                    <a:pt x="1022" y="101"/>
                  </a:lnTo>
                  <a:lnTo>
                    <a:pt x="1022" y="105"/>
                  </a:lnTo>
                  <a:lnTo>
                    <a:pt x="1022" y="109"/>
                  </a:lnTo>
                  <a:lnTo>
                    <a:pt x="1026" y="109"/>
                  </a:lnTo>
                  <a:lnTo>
                    <a:pt x="1026" y="113"/>
                  </a:lnTo>
                  <a:lnTo>
                    <a:pt x="1030" y="117"/>
                  </a:lnTo>
                  <a:lnTo>
                    <a:pt x="1030" y="120"/>
                  </a:lnTo>
                  <a:lnTo>
                    <a:pt x="1034" y="120"/>
                  </a:lnTo>
                  <a:lnTo>
                    <a:pt x="1034" y="124"/>
                  </a:lnTo>
                  <a:lnTo>
                    <a:pt x="1034" y="128"/>
                  </a:lnTo>
                  <a:lnTo>
                    <a:pt x="1037" y="132"/>
                  </a:lnTo>
                  <a:lnTo>
                    <a:pt x="1041" y="135"/>
                  </a:lnTo>
                  <a:lnTo>
                    <a:pt x="1041" y="139"/>
                  </a:lnTo>
                  <a:lnTo>
                    <a:pt x="1045" y="139"/>
                  </a:lnTo>
                  <a:lnTo>
                    <a:pt x="1045" y="143"/>
                  </a:lnTo>
                  <a:lnTo>
                    <a:pt x="1049" y="147"/>
                  </a:lnTo>
                  <a:lnTo>
                    <a:pt x="1052" y="147"/>
                  </a:lnTo>
                  <a:lnTo>
                    <a:pt x="1052" y="150"/>
                  </a:lnTo>
                  <a:lnTo>
                    <a:pt x="1056" y="150"/>
                  </a:lnTo>
                  <a:lnTo>
                    <a:pt x="1060" y="154"/>
                  </a:lnTo>
                  <a:lnTo>
                    <a:pt x="1064" y="154"/>
                  </a:lnTo>
                  <a:lnTo>
                    <a:pt x="1064" y="150"/>
                  </a:lnTo>
                  <a:lnTo>
                    <a:pt x="1067" y="150"/>
                  </a:lnTo>
                  <a:lnTo>
                    <a:pt x="1071" y="150"/>
                  </a:lnTo>
                  <a:lnTo>
                    <a:pt x="1071" y="147"/>
                  </a:lnTo>
                  <a:lnTo>
                    <a:pt x="1075" y="147"/>
                  </a:lnTo>
                  <a:lnTo>
                    <a:pt x="1075" y="143"/>
                  </a:lnTo>
                  <a:lnTo>
                    <a:pt x="1079" y="139"/>
                  </a:lnTo>
                  <a:lnTo>
                    <a:pt x="1083" y="135"/>
                  </a:lnTo>
                  <a:lnTo>
                    <a:pt x="1083" y="132"/>
                  </a:lnTo>
                  <a:lnTo>
                    <a:pt x="1086" y="128"/>
                  </a:lnTo>
                  <a:lnTo>
                    <a:pt x="1086" y="124"/>
                  </a:lnTo>
                  <a:lnTo>
                    <a:pt x="1090" y="120"/>
                  </a:lnTo>
                  <a:lnTo>
                    <a:pt x="1090" y="117"/>
                  </a:lnTo>
                  <a:lnTo>
                    <a:pt x="1094" y="113"/>
                  </a:lnTo>
                  <a:lnTo>
                    <a:pt x="1094" y="109"/>
                  </a:lnTo>
                  <a:lnTo>
                    <a:pt x="1094" y="105"/>
                  </a:lnTo>
                  <a:lnTo>
                    <a:pt x="1098" y="98"/>
                  </a:lnTo>
                  <a:lnTo>
                    <a:pt x="1098" y="94"/>
                  </a:lnTo>
                  <a:lnTo>
                    <a:pt x="1101" y="90"/>
                  </a:lnTo>
                  <a:lnTo>
                    <a:pt x="1101" y="86"/>
                  </a:lnTo>
                  <a:lnTo>
                    <a:pt x="1105" y="83"/>
                  </a:lnTo>
                  <a:lnTo>
                    <a:pt x="1105" y="75"/>
                  </a:lnTo>
                  <a:lnTo>
                    <a:pt x="1105" y="71"/>
                  </a:lnTo>
                  <a:lnTo>
                    <a:pt x="1109" y="68"/>
                  </a:lnTo>
                  <a:lnTo>
                    <a:pt x="1109" y="64"/>
                  </a:lnTo>
                  <a:lnTo>
                    <a:pt x="1113" y="56"/>
                  </a:lnTo>
                  <a:lnTo>
                    <a:pt x="1113" y="52"/>
                  </a:lnTo>
                  <a:lnTo>
                    <a:pt x="1117" y="49"/>
                  </a:lnTo>
                  <a:lnTo>
                    <a:pt x="1117" y="45"/>
                  </a:lnTo>
                  <a:lnTo>
                    <a:pt x="1117" y="41"/>
                  </a:lnTo>
                  <a:lnTo>
                    <a:pt x="1120" y="34"/>
                  </a:lnTo>
                  <a:lnTo>
                    <a:pt x="1120" y="30"/>
                  </a:lnTo>
                  <a:lnTo>
                    <a:pt x="1124" y="26"/>
                  </a:lnTo>
                  <a:lnTo>
                    <a:pt x="1124" y="22"/>
                  </a:lnTo>
                  <a:lnTo>
                    <a:pt x="1128" y="19"/>
                  </a:lnTo>
                  <a:lnTo>
                    <a:pt x="1128" y="15"/>
                  </a:lnTo>
                  <a:lnTo>
                    <a:pt x="1132" y="11"/>
                  </a:lnTo>
                  <a:lnTo>
                    <a:pt x="1132" y="7"/>
                  </a:lnTo>
                  <a:lnTo>
                    <a:pt x="1135" y="7"/>
                  </a:lnTo>
                  <a:lnTo>
                    <a:pt x="1135" y="3"/>
                  </a:lnTo>
                  <a:lnTo>
                    <a:pt x="1139" y="0"/>
                  </a:lnTo>
                  <a:lnTo>
                    <a:pt x="1143" y="0"/>
                  </a:lnTo>
                  <a:lnTo>
                    <a:pt x="1147" y="0"/>
                  </a:lnTo>
                  <a:lnTo>
                    <a:pt x="1147" y="3"/>
                  </a:lnTo>
                  <a:lnTo>
                    <a:pt x="1151" y="3"/>
                  </a:lnTo>
                  <a:lnTo>
                    <a:pt x="1151" y="7"/>
                  </a:lnTo>
                  <a:lnTo>
                    <a:pt x="1154" y="7"/>
                  </a:lnTo>
                  <a:lnTo>
                    <a:pt x="1154" y="11"/>
                  </a:lnTo>
                  <a:lnTo>
                    <a:pt x="1158" y="15"/>
                  </a:lnTo>
                  <a:lnTo>
                    <a:pt x="1158" y="19"/>
                  </a:lnTo>
                  <a:lnTo>
                    <a:pt x="1158" y="22"/>
                  </a:lnTo>
                  <a:lnTo>
                    <a:pt x="1162" y="30"/>
                  </a:lnTo>
                  <a:lnTo>
                    <a:pt x="1162" y="34"/>
                  </a:lnTo>
                  <a:lnTo>
                    <a:pt x="1166" y="41"/>
                  </a:lnTo>
                  <a:lnTo>
                    <a:pt x="1166" y="49"/>
                  </a:lnTo>
                  <a:lnTo>
                    <a:pt x="1169" y="56"/>
                  </a:lnTo>
                  <a:lnTo>
                    <a:pt x="1169" y="64"/>
                  </a:lnTo>
                  <a:lnTo>
                    <a:pt x="1169" y="71"/>
                  </a:lnTo>
                  <a:lnTo>
                    <a:pt x="1173" y="79"/>
                  </a:lnTo>
                  <a:lnTo>
                    <a:pt x="1173" y="90"/>
                  </a:lnTo>
                  <a:lnTo>
                    <a:pt x="1177" y="101"/>
                  </a:lnTo>
                  <a:lnTo>
                    <a:pt x="1177" y="113"/>
                  </a:lnTo>
                  <a:lnTo>
                    <a:pt x="1177" y="124"/>
                  </a:lnTo>
                  <a:lnTo>
                    <a:pt x="1181" y="135"/>
                  </a:lnTo>
                  <a:lnTo>
                    <a:pt x="1181" y="147"/>
                  </a:lnTo>
                  <a:lnTo>
                    <a:pt x="1184" y="158"/>
                  </a:lnTo>
                  <a:lnTo>
                    <a:pt x="1184" y="173"/>
                  </a:lnTo>
                  <a:lnTo>
                    <a:pt x="1188" y="188"/>
                  </a:lnTo>
                  <a:lnTo>
                    <a:pt x="1188" y="199"/>
                  </a:lnTo>
                  <a:lnTo>
                    <a:pt x="1188" y="215"/>
                  </a:lnTo>
                  <a:lnTo>
                    <a:pt x="1192" y="233"/>
                  </a:lnTo>
                  <a:lnTo>
                    <a:pt x="1192" y="248"/>
                  </a:lnTo>
                  <a:lnTo>
                    <a:pt x="1196" y="264"/>
                  </a:lnTo>
                  <a:lnTo>
                    <a:pt x="1196" y="279"/>
                  </a:lnTo>
                  <a:lnTo>
                    <a:pt x="1200" y="297"/>
                  </a:lnTo>
                  <a:lnTo>
                    <a:pt x="1200" y="316"/>
                  </a:lnTo>
                  <a:lnTo>
                    <a:pt x="1200" y="331"/>
                  </a:lnTo>
                  <a:lnTo>
                    <a:pt x="1203" y="350"/>
                  </a:lnTo>
                  <a:lnTo>
                    <a:pt x="1203" y="369"/>
                  </a:lnTo>
                  <a:lnTo>
                    <a:pt x="1207" y="388"/>
                  </a:lnTo>
                  <a:lnTo>
                    <a:pt x="1207" y="407"/>
                  </a:lnTo>
                  <a:lnTo>
                    <a:pt x="1211" y="429"/>
                  </a:lnTo>
                  <a:lnTo>
                    <a:pt x="1211" y="448"/>
                  </a:lnTo>
                  <a:lnTo>
                    <a:pt x="1211" y="467"/>
                  </a:lnTo>
                  <a:lnTo>
                    <a:pt x="1215" y="486"/>
                  </a:lnTo>
                  <a:lnTo>
                    <a:pt x="1215" y="509"/>
                  </a:lnTo>
                  <a:lnTo>
                    <a:pt x="1218" y="527"/>
                  </a:lnTo>
                  <a:lnTo>
                    <a:pt x="1218" y="550"/>
                  </a:lnTo>
                  <a:lnTo>
                    <a:pt x="1218" y="569"/>
                  </a:lnTo>
                  <a:lnTo>
                    <a:pt x="1222" y="591"/>
                  </a:lnTo>
                  <a:lnTo>
                    <a:pt x="1222" y="610"/>
                  </a:lnTo>
                  <a:lnTo>
                    <a:pt x="1226" y="633"/>
                  </a:lnTo>
                  <a:lnTo>
                    <a:pt x="1226" y="652"/>
                  </a:lnTo>
                  <a:lnTo>
                    <a:pt x="1230" y="674"/>
                  </a:lnTo>
                  <a:lnTo>
                    <a:pt x="1230" y="697"/>
                  </a:lnTo>
                  <a:lnTo>
                    <a:pt x="1230" y="716"/>
                  </a:lnTo>
                  <a:lnTo>
                    <a:pt x="1234" y="738"/>
                  </a:lnTo>
                  <a:lnTo>
                    <a:pt x="1234" y="757"/>
                  </a:lnTo>
                  <a:lnTo>
                    <a:pt x="1237" y="776"/>
                  </a:lnTo>
                  <a:lnTo>
                    <a:pt x="1237" y="799"/>
                  </a:lnTo>
                  <a:lnTo>
                    <a:pt x="1241" y="818"/>
                  </a:lnTo>
                  <a:lnTo>
                    <a:pt x="1241" y="836"/>
                  </a:lnTo>
                  <a:lnTo>
                    <a:pt x="1241" y="855"/>
                  </a:lnTo>
                  <a:lnTo>
                    <a:pt x="1245" y="878"/>
                  </a:lnTo>
                  <a:lnTo>
                    <a:pt x="1245" y="897"/>
                  </a:lnTo>
                  <a:lnTo>
                    <a:pt x="1249" y="916"/>
                  </a:lnTo>
                  <a:lnTo>
                    <a:pt x="1249" y="931"/>
                  </a:lnTo>
                  <a:lnTo>
                    <a:pt x="1252" y="949"/>
                  </a:lnTo>
                  <a:lnTo>
                    <a:pt x="1252" y="968"/>
                  </a:lnTo>
                  <a:lnTo>
                    <a:pt x="1252" y="983"/>
                  </a:lnTo>
                  <a:lnTo>
                    <a:pt x="1256" y="1002"/>
                  </a:lnTo>
                  <a:lnTo>
                    <a:pt x="1256" y="1017"/>
                  </a:lnTo>
                  <a:lnTo>
                    <a:pt x="1260" y="1032"/>
                  </a:lnTo>
                  <a:lnTo>
                    <a:pt x="1260" y="1047"/>
                  </a:lnTo>
                  <a:lnTo>
                    <a:pt x="1260" y="1063"/>
                  </a:lnTo>
                  <a:lnTo>
                    <a:pt x="1264" y="1078"/>
                  </a:lnTo>
                  <a:lnTo>
                    <a:pt x="1264" y="1093"/>
                  </a:lnTo>
                  <a:lnTo>
                    <a:pt x="1267" y="1104"/>
                  </a:lnTo>
                  <a:lnTo>
                    <a:pt x="1267" y="1119"/>
                  </a:lnTo>
                  <a:lnTo>
                    <a:pt x="1271" y="1130"/>
                  </a:lnTo>
                  <a:lnTo>
                    <a:pt x="1271" y="1142"/>
                  </a:lnTo>
                  <a:lnTo>
                    <a:pt x="1271" y="1153"/>
                  </a:lnTo>
                  <a:lnTo>
                    <a:pt x="1275" y="1164"/>
                  </a:lnTo>
                  <a:lnTo>
                    <a:pt x="1275" y="1161"/>
                  </a:lnTo>
                  <a:lnTo>
                    <a:pt x="1279" y="1153"/>
                  </a:lnTo>
                  <a:lnTo>
                    <a:pt x="1279" y="1142"/>
                  </a:lnTo>
                  <a:lnTo>
                    <a:pt x="1283" y="1134"/>
                  </a:lnTo>
                  <a:lnTo>
                    <a:pt x="1283" y="1127"/>
                  </a:lnTo>
                  <a:lnTo>
                    <a:pt x="1283" y="1119"/>
                  </a:lnTo>
                  <a:lnTo>
                    <a:pt x="1286" y="1112"/>
                  </a:lnTo>
                  <a:lnTo>
                    <a:pt x="1286" y="1104"/>
                  </a:lnTo>
                  <a:lnTo>
                    <a:pt x="1290" y="1100"/>
                  </a:lnTo>
                  <a:lnTo>
                    <a:pt x="1290" y="1093"/>
                  </a:lnTo>
                  <a:lnTo>
                    <a:pt x="1294" y="1089"/>
                  </a:lnTo>
                  <a:lnTo>
                    <a:pt x="1294" y="1085"/>
                  </a:lnTo>
                  <a:lnTo>
                    <a:pt x="1294" y="1081"/>
                  </a:lnTo>
                  <a:lnTo>
                    <a:pt x="1298" y="1078"/>
                  </a:lnTo>
                  <a:lnTo>
                    <a:pt x="1301" y="1074"/>
                  </a:lnTo>
                  <a:lnTo>
                    <a:pt x="1301" y="1070"/>
                  </a:lnTo>
                  <a:lnTo>
                    <a:pt x="1305" y="1070"/>
                  </a:lnTo>
                  <a:lnTo>
                    <a:pt x="1309" y="1070"/>
                  </a:lnTo>
                  <a:lnTo>
                    <a:pt x="1313" y="1074"/>
                  </a:lnTo>
                  <a:lnTo>
                    <a:pt x="1317" y="1078"/>
                  </a:lnTo>
                  <a:lnTo>
                    <a:pt x="1320" y="1081"/>
                  </a:lnTo>
                  <a:lnTo>
                    <a:pt x="1320" y="1085"/>
                  </a:lnTo>
                  <a:lnTo>
                    <a:pt x="1324" y="1089"/>
                  </a:lnTo>
                  <a:lnTo>
                    <a:pt x="1324" y="1093"/>
                  </a:lnTo>
                  <a:lnTo>
                    <a:pt x="1324" y="1096"/>
                  </a:lnTo>
                  <a:lnTo>
                    <a:pt x="1328" y="1100"/>
                  </a:lnTo>
                  <a:lnTo>
                    <a:pt x="1328" y="1104"/>
                  </a:lnTo>
                  <a:lnTo>
                    <a:pt x="1332" y="1108"/>
                  </a:lnTo>
                  <a:lnTo>
                    <a:pt x="1332" y="1112"/>
                  </a:lnTo>
                  <a:lnTo>
                    <a:pt x="1335" y="1115"/>
                  </a:lnTo>
                  <a:lnTo>
                    <a:pt x="1335" y="1119"/>
                  </a:lnTo>
                  <a:lnTo>
                    <a:pt x="1335" y="1123"/>
                  </a:lnTo>
                  <a:lnTo>
                    <a:pt x="1339" y="1130"/>
                  </a:lnTo>
                  <a:lnTo>
                    <a:pt x="1339" y="1134"/>
                  </a:lnTo>
                  <a:lnTo>
                    <a:pt x="1343" y="1138"/>
                  </a:lnTo>
                  <a:lnTo>
                    <a:pt x="1343" y="1142"/>
                  </a:lnTo>
                  <a:lnTo>
                    <a:pt x="1343" y="1149"/>
                  </a:lnTo>
                  <a:lnTo>
                    <a:pt x="1347" y="1153"/>
                  </a:lnTo>
                  <a:lnTo>
                    <a:pt x="1347" y="1157"/>
                  </a:lnTo>
                  <a:lnTo>
                    <a:pt x="1350" y="1161"/>
                  </a:lnTo>
                  <a:lnTo>
                    <a:pt x="1350" y="1164"/>
                  </a:lnTo>
                  <a:lnTo>
                    <a:pt x="1354" y="1164"/>
                  </a:lnTo>
                  <a:lnTo>
                    <a:pt x="1354" y="1161"/>
                  </a:lnTo>
                  <a:lnTo>
                    <a:pt x="1354" y="1157"/>
                  </a:lnTo>
                  <a:lnTo>
                    <a:pt x="1358" y="1153"/>
                  </a:lnTo>
                  <a:lnTo>
                    <a:pt x="1358" y="1149"/>
                  </a:lnTo>
                  <a:lnTo>
                    <a:pt x="1362" y="1145"/>
                  </a:lnTo>
                  <a:lnTo>
                    <a:pt x="1362" y="1142"/>
                  </a:lnTo>
                  <a:lnTo>
                    <a:pt x="1366" y="1138"/>
                  </a:lnTo>
                  <a:lnTo>
                    <a:pt x="1366" y="1134"/>
                  </a:lnTo>
                  <a:lnTo>
                    <a:pt x="1369" y="1130"/>
                  </a:lnTo>
                  <a:lnTo>
                    <a:pt x="1369" y="1127"/>
                  </a:lnTo>
                  <a:lnTo>
                    <a:pt x="1373" y="1123"/>
                  </a:lnTo>
                  <a:lnTo>
                    <a:pt x="1373" y="1119"/>
                  </a:lnTo>
                  <a:lnTo>
                    <a:pt x="1377" y="1119"/>
                  </a:lnTo>
                  <a:lnTo>
                    <a:pt x="1377" y="1115"/>
                  </a:lnTo>
                  <a:lnTo>
                    <a:pt x="1381" y="1115"/>
                  </a:lnTo>
                  <a:lnTo>
                    <a:pt x="1384" y="1115"/>
                  </a:lnTo>
                  <a:lnTo>
                    <a:pt x="1384" y="1112"/>
                  </a:lnTo>
                  <a:lnTo>
                    <a:pt x="1388" y="1112"/>
                  </a:lnTo>
                  <a:lnTo>
                    <a:pt x="1392" y="1112"/>
                  </a:lnTo>
                  <a:lnTo>
                    <a:pt x="1396" y="1115"/>
                  </a:lnTo>
                  <a:lnTo>
                    <a:pt x="1400" y="1115"/>
                  </a:lnTo>
                  <a:lnTo>
                    <a:pt x="1400" y="1119"/>
                  </a:lnTo>
                  <a:lnTo>
                    <a:pt x="1403" y="1119"/>
                  </a:lnTo>
                  <a:lnTo>
                    <a:pt x="1403" y="1123"/>
                  </a:lnTo>
                  <a:lnTo>
                    <a:pt x="1407" y="1123"/>
                  </a:lnTo>
                  <a:lnTo>
                    <a:pt x="1407" y="1127"/>
                  </a:lnTo>
                  <a:lnTo>
                    <a:pt x="1411" y="1130"/>
                  </a:lnTo>
                  <a:lnTo>
                    <a:pt x="1411" y="1134"/>
                  </a:lnTo>
                  <a:lnTo>
                    <a:pt x="1415" y="1134"/>
                  </a:lnTo>
                  <a:lnTo>
                    <a:pt x="1415" y="1138"/>
                  </a:lnTo>
                  <a:lnTo>
                    <a:pt x="1415" y="1142"/>
                  </a:lnTo>
                  <a:lnTo>
                    <a:pt x="1418" y="1142"/>
                  </a:lnTo>
                  <a:lnTo>
                    <a:pt x="1418" y="1145"/>
                  </a:lnTo>
                  <a:lnTo>
                    <a:pt x="1422" y="1149"/>
                  </a:lnTo>
                  <a:lnTo>
                    <a:pt x="1422" y="1153"/>
                  </a:lnTo>
                  <a:lnTo>
                    <a:pt x="1426" y="1153"/>
                  </a:lnTo>
                  <a:lnTo>
                    <a:pt x="1426" y="1157"/>
                  </a:lnTo>
                  <a:lnTo>
                    <a:pt x="1426" y="1161"/>
                  </a:lnTo>
                  <a:lnTo>
                    <a:pt x="1430" y="1164"/>
                  </a:lnTo>
                  <a:lnTo>
                    <a:pt x="1430" y="1168"/>
                  </a:lnTo>
                  <a:lnTo>
                    <a:pt x="1433" y="1168"/>
                  </a:lnTo>
                  <a:lnTo>
                    <a:pt x="1433" y="1164"/>
                  </a:lnTo>
                  <a:lnTo>
                    <a:pt x="1437" y="1161"/>
                  </a:lnTo>
                  <a:lnTo>
                    <a:pt x="1437" y="1157"/>
                  </a:lnTo>
                  <a:lnTo>
                    <a:pt x="1441" y="1153"/>
                  </a:lnTo>
                  <a:lnTo>
                    <a:pt x="1441" y="1149"/>
                  </a:lnTo>
                  <a:lnTo>
                    <a:pt x="1445" y="1149"/>
                  </a:lnTo>
                  <a:lnTo>
                    <a:pt x="1445" y="1145"/>
                  </a:lnTo>
                  <a:lnTo>
                    <a:pt x="1449" y="1142"/>
                  </a:lnTo>
                  <a:lnTo>
                    <a:pt x="1449" y="1138"/>
                  </a:lnTo>
                  <a:lnTo>
                    <a:pt x="1452" y="1138"/>
                  </a:lnTo>
                  <a:lnTo>
                    <a:pt x="1452" y="1134"/>
                  </a:lnTo>
                  <a:lnTo>
                    <a:pt x="1456" y="1134"/>
                  </a:lnTo>
                  <a:lnTo>
                    <a:pt x="1456" y="1130"/>
                  </a:lnTo>
                  <a:lnTo>
                    <a:pt x="1460" y="1130"/>
                  </a:lnTo>
                  <a:lnTo>
                    <a:pt x="1464" y="1127"/>
                  </a:lnTo>
                  <a:lnTo>
                    <a:pt x="1467" y="1127"/>
                  </a:lnTo>
                  <a:lnTo>
                    <a:pt x="1471" y="1127"/>
                  </a:lnTo>
                  <a:lnTo>
                    <a:pt x="1475" y="1127"/>
                  </a:lnTo>
                  <a:lnTo>
                    <a:pt x="1479" y="1127"/>
                  </a:lnTo>
                  <a:lnTo>
                    <a:pt x="1479" y="1130"/>
                  </a:lnTo>
                  <a:lnTo>
                    <a:pt x="1483" y="1130"/>
                  </a:lnTo>
                  <a:lnTo>
                    <a:pt x="1486" y="1134"/>
                  </a:lnTo>
                  <a:lnTo>
                    <a:pt x="1490" y="1138"/>
                  </a:lnTo>
                  <a:lnTo>
                    <a:pt x="1494" y="1142"/>
                  </a:lnTo>
                  <a:lnTo>
                    <a:pt x="1498" y="1145"/>
                  </a:lnTo>
                  <a:lnTo>
                    <a:pt x="1498" y="1149"/>
                  </a:lnTo>
                  <a:lnTo>
                    <a:pt x="1501" y="1153"/>
                  </a:lnTo>
                  <a:lnTo>
                    <a:pt x="1505" y="1157"/>
                  </a:lnTo>
                  <a:lnTo>
                    <a:pt x="1505" y="1161"/>
                  </a:lnTo>
                  <a:lnTo>
                    <a:pt x="1509" y="1161"/>
                  </a:lnTo>
                  <a:lnTo>
                    <a:pt x="1509" y="1164"/>
                  </a:lnTo>
                  <a:lnTo>
                    <a:pt x="1513" y="1168"/>
                  </a:lnTo>
                  <a:lnTo>
                    <a:pt x="1513" y="1164"/>
                  </a:lnTo>
                  <a:lnTo>
                    <a:pt x="1517" y="1164"/>
                  </a:lnTo>
                  <a:lnTo>
                    <a:pt x="1517" y="1161"/>
                  </a:lnTo>
                  <a:lnTo>
                    <a:pt x="1520" y="1161"/>
                  </a:lnTo>
                  <a:lnTo>
                    <a:pt x="1520" y="1157"/>
                  </a:lnTo>
                  <a:lnTo>
                    <a:pt x="1520" y="1153"/>
                  </a:lnTo>
                  <a:lnTo>
                    <a:pt x="1524" y="1153"/>
                  </a:lnTo>
                  <a:lnTo>
                    <a:pt x="1524" y="1149"/>
                  </a:lnTo>
                  <a:lnTo>
                    <a:pt x="1528" y="1149"/>
                  </a:lnTo>
                  <a:lnTo>
                    <a:pt x="1528" y="1145"/>
                  </a:lnTo>
                  <a:lnTo>
                    <a:pt x="1532" y="1145"/>
                  </a:lnTo>
                  <a:lnTo>
                    <a:pt x="1532" y="1142"/>
                  </a:lnTo>
                  <a:lnTo>
                    <a:pt x="1535" y="1142"/>
                  </a:lnTo>
                  <a:lnTo>
                    <a:pt x="1535" y="1138"/>
                  </a:lnTo>
                  <a:lnTo>
                    <a:pt x="1539" y="1138"/>
                  </a:lnTo>
                  <a:lnTo>
                    <a:pt x="1539" y="1134"/>
                  </a:lnTo>
                  <a:lnTo>
                    <a:pt x="1543" y="1134"/>
                  </a:lnTo>
                  <a:lnTo>
                    <a:pt x="1547" y="1134"/>
                  </a:lnTo>
                  <a:lnTo>
                    <a:pt x="1550" y="1134"/>
                  </a:lnTo>
                  <a:lnTo>
                    <a:pt x="1554" y="1134"/>
                  </a:lnTo>
                  <a:lnTo>
                    <a:pt x="1558" y="1134"/>
                  </a:lnTo>
                  <a:lnTo>
                    <a:pt x="1562" y="1134"/>
                  </a:lnTo>
                  <a:lnTo>
                    <a:pt x="1562" y="1138"/>
                  </a:lnTo>
                  <a:lnTo>
                    <a:pt x="1566" y="1138"/>
                  </a:lnTo>
                  <a:lnTo>
                    <a:pt x="1569" y="1138"/>
                  </a:lnTo>
                  <a:lnTo>
                    <a:pt x="1569" y="1142"/>
                  </a:lnTo>
                  <a:lnTo>
                    <a:pt x="1573" y="1142"/>
                  </a:lnTo>
                  <a:lnTo>
                    <a:pt x="1573" y="1145"/>
                  </a:lnTo>
                  <a:lnTo>
                    <a:pt x="1577" y="1145"/>
                  </a:lnTo>
                  <a:lnTo>
                    <a:pt x="1577" y="1149"/>
                  </a:lnTo>
                  <a:lnTo>
                    <a:pt x="1581" y="1149"/>
                  </a:lnTo>
                  <a:lnTo>
                    <a:pt x="1581" y="1153"/>
                  </a:lnTo>
                  <a:lnTo>
                    <a:pt x="1584" y="1157"/>
                  </a:lnTo>
                  <a:lnTo>
                    <a:pt x="1588" y="1161"/>
                  </a:lnTo>
                  <a:lnTo>
                    <a:pt x="1588" y="1164"/>
                  </a:lnTo>
                  <a:lnTo>
                    <a:pt x="1592" y="1164"/>
                  </a:lnTo>
                  <a:lnTo>
                    <a:pt x="1592" y="1168"/>
                  </a:lnTo>
                  <a:lnTo>
                    <a:pt x="1596" y="1164"/>
                  </a:lnTo>
                  <a:lnTo>
                    <a:pt x="1600" y="1161"/>
                  </a:lnTo>
                  <a:lnTo>
                    <a:pt x="1603" y="1157"/>
                  </a:lnTo>
                  <a:lnTo>
                    <a:pt x="1603" y="1153"/>
                  </a:lnTo>
                  <a:lnTo>
                    <a:pt x="1607" y="1153"/>
                  </a:lnTo>
                  <a:lnTo>
                    <a:pt x="1607" y="1149"/>
                  </a:lnTo>
                  <a:lnTo>
                    <a:pt x="1611" y="1149"/>
                  </a:lnTo>
                  <a:lnTo>
                    <a:pt x="1611" y="1145"/>
                  </a:lnTo>
                  <a:lnTo>
                    <a:pt x="1615" y="1145"/>
                  </a:lnTo>
                  <a:lnTo>
                    <a:pt x="1615" y="1142"/>
                  </a:lnTo>
                  <a:lnTo>
                    <a:pt x="1618" y="1142"/>
                  </a:lnTo>
                  <a:lnTo>
                    <a:pt x="1618" y="1138"/>
                  </a:lnTo>
                  <a:lnTo>
                    <a:pt x="1622" y="1138"/>
                  </a:lnTo>
                  <a:lnTo>
                    <a:pt x="1626" y="1134"/>
                  </a:lnTo>
                  <a:lnTo>
                    <a:pt x="1630" y="1134"/>
                  </a:lnTo>
                  <a:lnTo>
                    <a:pt x="1633" y="1134"/>
                  </a:lnTo>
                </a:path>
              </a:pathLst>
            </a:custGeom>
            <a:noFill/>
            <a:ln cap="rnd" w="255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rot="16200000">
              <a:off x="4287240" y="2728800"/>
              <a:ext cx="1315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349480" y="3595680"/>
              <a:ext cx="36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6" name=""/>
          <p:cNvSpPr/>
          <p:nvPr/>
        </p:nvSpPr>
        <p:spPr>
          <a:xfrm>
            <a:off x="152280" y="4114800"/>
            <a:ext cx="4343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eška dobivenog filt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7" name=""/>
          <p:cNvGrpSpPr/>
          <p:nvPr/>
        </p:nvGrpSpPr>
        <p:grpSpPr>
          <a:xfrm>
            <a:off x="4614840" y="4252320"/>
            <a:ext cx="4158720" cy="2604600"/>
            <a:chOff x="4614840" y="4252320"/>
            <a:chExt cx="4158720" cy="2604600"/>
          </a:xfrm>
        </p:grpSpPr>
        <p:sp>
          <p:nvSpPr>
            <p:cNvPr id="2348" name=""/>
            <p:cNvSpPr/>
            <p:nvPr/>
          </p:nvSpPr>
          <p:spPr>
            <a:xfrm>
              <a:off x="5404320" y="6459480"/>
              <a:ext cx="410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896800" y="6459480"/>
              <a:ext cx="76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0.5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6757200" y="64594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237800" y="6459480"/>
              <a:ext cx="67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.5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8070480" y="6459480"/>
              <a:ext cx="325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V="1">
              <a:off x="5618160" y="4405320"/>
              <a:ext cx="0" cy="203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V="1">
              <a:off x="6264360" y="4405320"/>
              <a:ext cx="0" cy="203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 flipV="1">
              <a:off x="6916680" y="4405320"/>
              <a:ext cx="0" cy="203976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V="1">
              <a:off x="7564320" y="4405320"/>
              <a:ext cx="0" cy="203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V="1">
              <a:off x="8210520" y="4405320"/>
              <a:ext cx="0" cy="203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618160" y="644508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618160" y="624204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618160" y="583560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618160" y="5427720"/>
              <a:ext cx="31161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618160" y="501480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618160" y="460836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618160" y="440532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5618160" y="4405320"/>
              <a:ext cx="2593800" cy="2041560"/>
            </a:xfrm>
            <a:custGeom>
              <a:avLst/>
              <a:gdLst/>
              <a:ahLst/>
              <a:rect l="l" t="t" r="r" b="b"/>
              <a:pathLst>
                <a:path w="1634" h="1286">
                  <a:moveTo>
                    <a:pt x="0" y="1285"/>
                  </a:moveTo>
                  <a:lnTo>
                    <a:pt x="0" y="0"/>
                  </a:lnTo>
                  <a:lnTo>
                    <a:pt x="1633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618160" y="4405320"/>
              <a:ext cx="2593800" cy="2041560"/>
            </a:xfrm>
            <a:custGeom>
              <a:avLst/>
              <a:gdLst/>
              <a:ahLst/>
              <a:rect l="l" t="t" r="r" b="b"/>
              <a:pathLst>
                <a:path w="1634" h="1286">
                  <a:moveTo>
                    <a:pt x="0" y="1285"/>
                  </a:moveTo>
                  <a:lnTo>
                    <a:pt x="0" y="0"/>
                  </a:lnTo>
                  <a:lnTo>
                    <a:pt x="1633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618160" y="4405320"/>
              <a:ext cx="2593800" cy="2041560"/>
            </a:xfrm>
            <a:custGeom>
              <a:avLst/>
              <a:gdLst/>
              <a:ahLst/>
              <a:rect l="l" t="t" r="r" b="b"/>
              <a:pathLst>
                <a:path w="1634" h="1286">
                  <a:moveTo>
                    <a:pt x="0" y="1285"/>
                  </a:moveTo>
                  <a:lnTo>
                    <a:pt x="0" y="0"/>
                  </a:lnTo>
                  <a:lnTo>
                    <a:pt x="1633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618160" y="644508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618160" y="440532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 flipV="1">
              <a:off x="5618160" y="4405320"/>
              <a:ext cx="0" cy="203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V="1">
              <a:off x="8210520" y="4405320"/>
              <a:ext cx="0" cy="203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618160" y="440532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618160" y="644508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 flipV="1">
              <a:off x="5618160" y="4405320"/>
              <a:ext cx="0" cy="203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618160" y="644508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V="1">
              <a:off x="5618160" y="64213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618160" y="44053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V="1">
              <a:off x="6264360" y="64213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264360" y="44053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V="1">
              <a:off x="6916680" y="64213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916680" y="44053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 flipV="1">
              <a:off x="7564320" y="64213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7564320" y="44053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V="1">
              <a:off x="8210520" y="64213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8210520" y="44053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618160" y="64450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 flipH="1">
              <a:off x="8186760" y="64450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618160" y="62420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H="1">
              <a:off x="8186760" y="62420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618160" y="60390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 flipH="1">
              <a:off x="8186760" y="60390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5618160" y="58356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H="1">
              <a:off x="8186760" y="58356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618160" y="56307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8186760" y="56307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618160" y="542772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8186760" y="542772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5618160" y="52182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>
              <a:off x="8186760" y="52182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618160" y="50148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 flipH="1">
              <a:off x="8186760" y="50148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618160" y="48117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 flipH="1">
              <a:off x="8186760" y="48117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618160" y="46083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H="1">
              <a:off x="8186760" y="46083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06" name=""/>
            <p:cNvGrpSpPr/>
            <p:nvPr/>
          </p:nvGrpSpPr>
          <p:grpSpPr>
            <a:xfrm>
              <a:off x="5039640" y="4379760"/>
              <a:ext cx="623880" cy="2031120"/>
              <a:chOff x="5039640" y="4379760"/>
              <a:chExt cx="623880" cy="2031120"/>
            </a:xfrm>
          </p:grpSpPr>
          <p:sp>
            <p:nvSpPr>
              <p:cNvPr id="2407" name=""/>
              <p:cNvSpPr/>
              <p:nvPr/>
            </p:nvSpPr>
            <p:spPr>
              <a:xfrm>
                <a:off x="5039640" y="6013440"/>
                <a:ext cx="623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0.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039640" y="5607000"/>
                <a:ext cx="623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0.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147640" y="519912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069520" y="478620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069520" y="437976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12" name=""/>
            <p:cNvSpPr/>
            <p:nvPr/>
          </p:nvSpPr>
          <p:spPr>
            <a:xfrm>
              <a:off x="5618160" y="440532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 flipH="1">
              <a:off x="8186760" y="440532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618160" y="644508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618160" y="440532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 flipV="1">
              <a:off x="5618160" y="4405320"/>
              <a:ext cx="0" cy="203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 flipV="1">
              <a:off x="8210520" y="4405320"/>
              <a:ext cx="0" cy="203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618160" y="644508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618160" y="4405320"/>
              <a:ext cx="2593800" cy="2000160"/>
            </a:xfrm>
            <a:custGeom>
              <a:avLst/>
              <a:gdLst/>
              <a:ahLst/>
              <a:rect l="l" t="t" r="r" b="b"/>
              <a:pathLst>
                <a:path w="1634" h="1260">
                  <a:moveTo>
                    <a:pt x="0" y="603"/>
                  </a:moveTo>
                  <a:lnTo>
                    <a:pt x="3" y="603"/>
                  </a:lnTo>
                  <a:lnTo>
                    <a:pt x="7" y="603"/>
                  </a:lnTo>
                  <a:lnTo>
                    <a:pt x="11" y="603"/>
                  </a:lnTo>
                  <a:lnTo>
                    <a:pt x="11" y="607"/>
                  </a:lnTo>
                  <a:lnTo>
                    <a:pt x="15" y="607"/>
                  </a:lnTo>
                  <a:lnTo>
                    <a:pt x="15" y="610"/>
                  </a:lnTo>
                  <a:lnTo>
                    <a:pt x="19" y="610"/>
                  </a:lnTo>
                  <a:lnTo>
                    <a:pt x="19" y="614"/>
                  </a:lnTo>
                  <a:lnTo>
                    <a:pt x="22" y="618"/>
                  </a:lnTo>
                  <a:lnTo>
                    <a:pt x="26" y="622"/>
                  </a:lnTo>
                  <a:lnTo>
                    <a:pt x="30" y="626"/>
                  </a:lnTo>
                  <a:lnTo>
                    <a:pt x="30" y="629"/>
                  </a:lnTo>
                  <a:lnTo>
                    <a:pt x="34" y="633"/>
                  </a:lnTo>
                  <a:lnTo>
                    <a:pt x="37" y="637"/>
                  </a:lnTo>
                  <a:lnTo>
                    <a:pt x="37" y="641"/>
                  </a:lnTo>
                  <a:lnTo>
                    <a:pt x="41" y="641"/>
                  </a:lnTo>
                  <a:lnTo>
                    <a:pt x="41" y="637"/>
                  </a:lnTo>
                  <a:lnTo>
                    <a:pt x="45" y="637"/>
                  </a:lnTo>
                  <a:lnTo>
                    <a:pt x="45" y="633"/>
                  </a:lnTo>
                  <a:lnTo>
                    <a:pt x="49" y="629"/>
                  </a:lnTo>
                  <a:lnTo>
                    <a:pt x="52" y="626"/>
                  </a:lnTo>
                  <a:lnTo>
                    <a:pt x="52" y="622"/>
                  </a:lnTo>
                  <a:lnTo>
                    <a:pt x="56" y="618"/>
                  </a:lnTo>
                  <a:lnTo>
                    <a:pt x="60" y="614"/>
                  </a:lnTo>
                  <a:lnTo>
                    <a:pt x="60" y="610"/>
                  </a:lnTo>
                  <a:lnTo>
                    <a:pt x="64" y="610"/>
                  </a:lnTo>
                  <a:lnTo>
                    <a:pt x="64" y="607"/>
                  </a:lnTo>
                  <a:lnTo>
                    <a:pt x="68" y="607"/>
                  </a:lnTo>
                  <a:lnTo>
                    <a:pt x="71" y="603"/>
                  </a:lnTo>
                  <a:lnTo>
                    <a:pt x="75" y="603"/>
                  </a:lnTo>
                  <a:lnTo>
                    <a:pt x="75" y="599"/>
                  </a:lnTo>
                  <a:lnTo>
                    <a:pt x="79" y="599"/>
                  </a:lnTo>
                  <a:lnTo>
                    <a:pt x="83" y="599"/>
                  </a:lnTo>
                  <a:lnTo>
                    <a:pt x="86" y="599"/>
                  </a:lnTo>
                  <a:lnTo>
                    <a:pt x="86" y="603"/>
                  </a:lnTo>
                  <a:lnTo>
                    <a:pt x="90" y="603"/>
                  </a:lnTo>
                  <a:lnTo>
                    <a:pt x="94" y="603"/>
                  </a:lnTo>
                  <a:lnTo>
                    <a:pt x="94" y="607"/>
                  </a:lnTo>
                  <a:lnTo>
                    <a:pt x="98" y="607"/>
                  </a:lnTo>
                  <a:lnTo>
                    <a:pt x="98" y="610"/>
                  </a:lnTo>
                  <a:lnTo>
                    <a:pt x="102" y="610"/>
                  </a:lnTo>
                  <a:lnTo>
                    <a:pt x="102" y="614"/>
                  </a:lnTo>
                  <a:lnTo>
                    <a:pt x="105" y="618"/>
                  </a:lnTo>
                  <a:lnTo>
                    <a:pt x="109" y="622"/>
                  </a:lnTo>
                  <a:lnTo>
                    <a:pt x="109" y="626"/>
                  </a:lnTo>
                  <a:lnTo>
                    <a:pt x="113" y="626"/>
                  </a:lnTo>
                  <a:lnTo>
                    <a:pt x="113" y="629"/>
                  </a:lnTo>
                  <a:lnTo>
                    <a:pt x="113" y="633"/>
                  </a:lnTo>
                  <a:lnTo>
                    <a:pt x="117" y="633"/>
                  </a:lnTo>
                  <a:lnTo>
                    <a:pt x="117" y="637"/>
                  </a:lnTo>
                  <a:lnTo>
                    <a:pt x="120" y="641"/>
                  </a:lnTo>
                  <a:lnTo>
                    <a:pt x="124" y="641"/>
                  </a:lnTo>
                  <a:lnTo>
                    <a:pt x="124" y="637"/>
                  </a:lnTo>
                  <a:lnTo>
                    <a:pt x="124" y="633"/>
                  </a:lnTo>
                  <a:lnTo>
                    <a:pt x="128" y="633"/>
                  </a:lnTo>
                  <a:lnTo>
                    <a:pt x="128" y="629"/>
                  </a:lnTo>
                  <a:lnTo>
                    <a:pt x="132" y="626"/>
                  </a:lnTo>
                  <a:lnTo>
                    <a:pt x="132" y="622"/>
                  </a:lnTo>
                  <a:lnTo>
                    <a:pt x="136" y="622"/>
                  </a:lnTo>
                  <a:lnTo>
                    <a:pt x="136" y="618"/>
                  </a:lnTo>
                  <a:lnTo>
                    <a:pt x="136" y="614"/>
                  </a:lnTo>
                  <a:lnTo>
                    <a:pt x="139" y="614"/>
                  </a:lnTo>
                  <a:lnTo>
                    <a:pt x="139" y="610"/>
                  </a:lnTo>
                  <a:lnTo>
                    <a:pt x="143" y="607"/>
                  </a:lnTo>
                  <a:lnTo>
                    <a:pt x="143" y="603"/>
                  </a:lnTo>
                  <a:lnTo>
                    <a:pt x="147" y="603"/>
                  </a:lnTo>
                  <a:lnTo>
                    <a:pt x="147" y="599"/>
                  </a:lnTo>
                  <a:lnTo>
                    <a:pt x="151" y="599"/>
                  </a:lnTo>
                  <a:lnTo>
                    <a:pt x="154" y="595"/>
                  </a:lnTo>
                  <a:lnTo>
                    <a:pt x="158" y="595"/>
                  </a:lnTo>
                  <a:lnTo>
                    <a:pt x="158" y="592"/>
                  </a:lnTo>
                  <a:lnTo>
                    <a:pt x="162" y="592"/>
                  </a:lnTo>
                  <a:lnTo>
                    <a:pt x="166" y="592"/>
                  </a:lnTo>
                  <a:lnTo>
                    <a:pt x="166" y="595"/>
                  </a:lnTo>
                  <a:lnTo>
                    <a:pt x="169" y="595"/>
                  </a:lnTo>
                  <a:lnTo>
                    <a:pt x="173" y="595"/>
                  </a:lnTo>
                  <a:lnTo>
                    <a:pt x="177" y="599"/>
                  </a:lnTo>
                  <a:lnTo>
                    <a:pt x="177" y="603"/>
                  </a:lnTo>
                  <a:lnTo>
                    <a:pt x="181" y="603"/>
                  </a:lnTo>
                  <a:lnTo>
                    <a:pt x="181" y="607"/>
                  </a:lnTo>
                  <a:lnTo>
                    <a:pt x="185" y="607"/>
                  </a:lnTo>
                  <a:lnTo>
                    <a:pt x="185" y="610"/>
                  </a:lnTo>
                  <a:lnTo>
                    <a:pt x="185" y="614"/>
                  </a:lnTo>
                  <a:lnTo>
                    <a:pt x="188" y="614"/>
                  </a:lnTo>
                  <a:lnTo>
                    <a:pt x="188" y="618"/>
                  </a:lnTo>
                  <a:lnTo>
                    <a:pt x="192" y="622"/>
                  </a:lnTo>
                  <a:lnTo>
                    <a:pt x="192" y="626"/>
                  </a:lnTo>
                  <a:lnTo>
                    <a:pt x="196" y="626"/>
                  </a:lnTo>
                  <a:lnTo>
                    <a:pt x="196" y="629"/>
                  </a:lnTo>
                  <a:lnTo>
                    <a:pt x="196" y="633"/>
                  </a:lnTo>
                  <a:lnTo>
                    <a:pt x="200" y="637"/>
                  </a:lnTo>
                  <a:lnTo>
                    <a:pt x="200" y="641"/>
                  </a:lnTo>
                  <a:lnTo>
                    <a:pt x="203" y="641"/>
                  </a:lnTo>
                  <a:lnTo>
                    <a:pt x="203" y="637"/>
                  </a:lnTo>
                  <a:lnTo>
                    <a:pt x="207" y="633"/>
                  </a:lnTo>
                  <a:lnTo>
                    <a:pt x="207" y="629"/>
                  </a:lnTo>
                  <a:lnTo>
                    <a:pt x="207" y="626"/>
                  </a:lnTo>
                  <a:lnTo>
                    <a:pt x="211" y="622"/>
                  </a:lnTo>
                  <a:lnTo>
                    <a:pt x="211" y="618"/>
                  </a:lnTo>
                  <a:lnTo>
                    <a:pt x="215" y="614"/>
                  </a:lnTo>
                  <a:lnTo>
                    <a:pt x="219" y="610"/>
                  </a:lnTo>
                  <a:lnTo>
                    <a:pt x="219" y="607"/>
                  </a:lnTo>
                  <a:lnTo>
                    <a:pt x="219" y="603"/>
                  </a:lnTo>
                  <a:lnTo>
                    <a:pt x="222" y="599"/>
                  </a:lnTo>
                  <a:lnTo>
                    <a:pt x="222" y="595"/>
                  </a:lnTo>
                  <a:lnTo>
                    <a:pt x="226" y="595"/>
                  </a:lnTo>
                  <a:lnTo>
                    <a:pt x="226" y="592"/>
                  </a:lnTo>
                  <a:lnTo>
                    <a:pt x="226" y="588"/>
                  </a:lnTo>
                  <a:lnTo>
                    <a:pt x="230" y="588"/>
                  </a:lnTo>
                  <a:lnTo>
                    <a:pt x="230" y="584"/>
                  </a:lnTo>
                  <a:lnTo>
                    <a:pt x="234" y="584"/>
                  </a:lnTo>
                  <a:lnTo>
                    <a:pt x="234" y="580"/>
                  </a:lnTo>
                  <a:lnTo>
                    <a:pt x="237" y="580"/>
                  </a:lnTo>
                  <a:lnTo>
                    <a:pt x="237" y="577"/>
                  </a:lnTo>
                  <a:lnTo>
                    <a:pt x="241" y="577"/>
                  </a:lnTo>
                  <a:lnTo>
                    <a:pt x="245" y="577"/>
                  </a:lnTo>
                  <a:lnTo>
                    <a:pt x="249" y="577"/>
                  </a:lnTo>
                  <a:lnTo>
                    <a:pt x="252" y="577"/>
                  </a:lnTo>
                  <a:lnTo>
                    <a:pt x="252" y="580"/>
                  </a:lnTo>
                  <a:lnTo>
                    <a:pt x="256" y="580"/>
                  </a:lnTo>
                  <a:lnTo>
                    <a:pt x="256" y="584"/>
                  </a:lnTo>
                  <a:lnTo>
                    <a:pt x="260" y="584"/>
                  </a:lnTo>
                  <a:lnTo>
                    <a:pt x="260" y="588"/>
                  </a:lnTo>
                  <a:lnTo>
                    <a:pt x="260" y="592"/>
                  </a:lnTo>
                  <a:lnTo>
                    <a:pt x="264" y="592"/>
                  </a:lnTo>
                  <a:lnTo>
                    <a:pt x="264" y="595"/>
                  </a:lnTo>
                  <a:lnTo>
                    <a:pt x="268" y="599"/>
                  </a:lnTo>
                  <a:lnTo>
                    <a:pt x="268" y="603"/>
                  </a:lnTo>
                  <a:lnTo>
                    <a:pt x="268" y="607"/>
                  </a:lnTo>
                  <a:lnTo>
                    <a:pt x="271" y="610"/>
                  </a:lnTo>
                  <a:lnTo>
                    <a:pt x="271" y="614"/>
                  </a:lnTo>
                  <a:lnTo>
                    <a:pt x="275" y="622"/>
                  </a:lnTo>
                  <a:lnTo>
                    <a:pt x="275" y="626"/>
                  </a:lnTo>
                  <a:lnTo>
                    <a:pt x="279" y="629"/>
                  </a:lnTo>
                  <a:lnTo>
                    <a:pt x="279" y="633"/>
                  </a:lnTo>
                  <a:lnTo>
                    <a:pt x="279" y="641"/>
                  </a:lnTo>
                  <a:lnTo>
                    <a:pt x="283" y="641"/>
                  </a:lnTo>
                  <a:lnTo>
                    <a:pt x="283" y="633"/>
                  </a:lnTo>
                  <a:lnTo>
                    <a:pt x="286" y="629"/>
                  </a:lnTo>
                  <a:lnTo>
                    <a:pt x="286" y="622"/>
                  </a:lnTo>
                  <a:lnTo>
                    <a:pt x="290" y="618"/>
                  </a:lnTo>
                  <a:lnTo>
                    <a:pt x="290" y="610"/>
                  </a:lnTo>
                  <a:lnTo>
                    <a:pt x="290" y="607"/>
                  </a:lnTo>
                  <a:lnTo>
                    <a:pt x="294" y="599"/>
                  </a:lnTo>
                  <a:lnTo>
                    <a:pt x="294" y="595"/>
                  </a:lnTo>
                  <a:lnTo>
                    <a:pt x="298" y="592"/>
                  </a:lnTo>
                  <a:lnTo>
                    <a:pt x="298" y="584"/>
                  </a:lnTo>
                  <a:lnTo>
                    <a:pt x="298" y="580"/>
                  </a:lnTo>
                  <a:lnTo>
                    <a:pt x="302" y="573"/>
                  </a:lnTo>
                  <a:lnTo>
                    <a:pt x="302" y="569"/>
                  </a:lnTo>
                  <a:lnTo>
                    <a:pt x="305" y="565"/>
                  </a:lnTo>
                  <a:lnTo>
                    <a:pt x="305" y="558"/>
                  </a:lnTo>
                  <a:lnTo>
                    <a:pt x="309" y="554"/>
                  </a:lnTo>
                  <a:lnTo>
                    <a:pt x="309" y="550"/>
                  </a:lnTo>
                  <a:lnTo>
                    <a:pt x="309" y="546"/>
                  </a:lnTo>
                  <a:lnTo>
                    <a:pt x="313" y="543"/>
                  </a:lnTo>
                  <a:lnTo>
                    <a:pt x="313" y="539"/>
                  </a:lnTo>
                  <a:lnTo>
                    <a:pt x="317" y="535"/>
                  </a:lnTo>
                  <a:lnTo>
                    <a:pt x="317" y="531"/>
                  </a:lnTo>
                  <a:lnTo>
                    <a:pt x="320" y="531"/>
                  </a:lnTo>
                  <a:lnTo>
                    <a:pt x="320" y="528"/>
                  </a:lnTo>
                  <a:lnTo>
                    <a:pt x="324" y="528"/>
                  </a:lnTo>
                  <a:lnTo>
                    <a:pt x="324" y="524"/>
                  </a:lnTo>
                  <a:lnTo>
                    <a:pt x="328" y="524"/>
                  </a:lnTo>
                  <a:lnTo>
                    <a:pt x="328" y="528"/>
                  </a:lnTo>
                  <a:lnTo>
                    <a:pt x="332" y="528"/>
                  </a:lnTo>
                  <a:lnTo>
                    <a:pt x="332" y="531"/>
                  </a:lnTo>
                  <a:lnTo>
                    <a:pt x="335" y="531"/>
                  </a:lnTo>
                  <a:lnTo>
                    <a:pt x="335" y="535"/>
                  </a:lnTo>
                  <a:lnTo>
                    <a:pt x="339" y="539"/>
                  </a:lnTo>
                  <a:lnTo>
                    <a:pt x="339" y="543"/>
                  </a:lnTo>
                  <a:lnTo>
                    <a:pt x="339" y="550"/>
                  </a:lnTo>
                  <a:lnTo>
                    <a:pt x="343" y="554"/>
                  </a:lnTo>
                  <a:lnTo>
                    <a:pt x="343" y="561"/>
                  </a:lnTo>
                  <a:lnTo>
                    <a:pt x="347" y="569"/>
                  </a:lnTo>
                  <a:lnTo>
                    <a:pt x="347" y="577"/>
                  </a:lnTo>
                  <a:lnTo>
                    <a:pt x="351" y="584"/>
                  </a:lnTo>
                  <a:lnTo>
                    <a:pt x="351" y="592"/>
                  </a:lnTo>
                  <a:lnTo>
                    <a:pt x="351" y="603"/>
                  </a:lnTo>
                  <a:lnTo>
                    <a:pt x="354" y="610"/>
                  </a:lnTo>
                  <a:lnTo>
                    <a:pt x="354" y="622"/>
                  </a:lnTo>
                  <a:lnTo>
                    <a:pt x="358" y="633"/>
                  </a:lnTo>
                  <a:lnTo>
                    <a:pt x="358" y="637"/>
                  </a:lnTo>
                  <a:lnTo>
                    <a:pt x="362" y="626"/>
                  </a:lnTo>
                  <a:lnTo>
                    <a:pt x="362" y="610"/>
                  </a:lnTo>
                  <a:lnTo>
                    <a:pt x="362" y="599"/>
                  </a:lnTo>
                  <a:lnTo>
                    <a:pt x="366" y="584"/>
                  </a:lnTo>
                  <a:lnTo>
                    <a:pt x="366" y="569"/>
                  </a:lnTo>
                  <a:lnTo>
                    <a:pt x="369" y="550"/>
                  </a:lnTo>
                  <a:lnTo>
                    <a:pt x="369" y="535"/>
                  </a:lnTo>
                  <a:lnTo>
                    <a:pt x="373" y="516"/>
                  </a:lnTo>
                  <a:lnTo>
                    <a:pt x="373" y="501"/>
                  </a:lnTo>
                  <a:lnTo>
                    <a:pt x="373" y="482"/>
                  </a:lnTo>
                  <a:lnTo>
                    <a:pt x="377" y="463"/>
                  </a:lnTo>
                  <a:lnTo>
                    <a:pt x="377" y="441"/>
                  </a:lnTo>
                  <a:lnTo>
                    <a:pt x="381" y="422"/>
                  </a:lnTo>
                  <a:lnTo>
                    <a:pt x="381" y="403"/>
                  </a:lnTo>
                  <a:lnTo>
                    <a:pt x="381" y="381"/>
                  </a:lnTo>
                  <a:lnTo>
                    <a:pt x="385" y="358"/>
                  </a:lnTo>
                  <a:lnTo>
                    <a:pt x="385" y="339"/>
                  </a:lnTo>
                  <a:lnTo>
                    <a:pt x="388" y="316"/>
                  </a:lnTo>
                  <a:lnTo>
                    <a:pt x="388" y="294"/>
                  </a:lnTo>
                  <a:lnTo>
                    <a:pt x="392" y="267"/>
                  </a:lnTo>
                  <a:lnTo>
                    <a:pt x="392" y="245"/>
                  </a:lnTo>
                  <a:lnTo>
                    <a:pt x="392" y="222"/>
                  </a:lnTo>
                  <a:lnTo>
                    <a:pt x="396" y="200"/>
                  </a:lnTo>
                  <a:lnTo>
                    <a:pt x="396" y="173"/>
                  </a:lnTo>
                  <a:lnTo>
                    <a:pt x="400" y="151"/>
                  </a:lnTo>
                  <a:lnTo>
                    <a:pt x="400" y="124"/>
                  </a:lnTo>
                  <a:lnTo>
                    <a:pt x="403" y="102"/>
                  </a:lnTo>
                  <a:lnTo>
                    <a:pt x="403" y="75"/>
                  </a:lnTo>
                  <a:lnTo>
                    <a:pt x="403" y="49"/>
                  </a:lnTo>
                  <a:lnTo>
                    <a:pt x="407" y="26"/>
                  </a:lnTo>
                  <a:lnTo>
                    <a:pt x="407" y="0"/>
                  </a:lnTo>
                  <a:lnTo>
                    <a:pt x="411" y="1259"/>
                  </a:lnTo>
                  <a:lnTo>
                    <a:pt x="411" y="1236"/>
                  </a:lnTo>
                  <a:lnTo>
                    <a:pt x="415" y="1210"/>
                  </a:lnTo>
                  <a:lnTo>
                    <a:pt x="415" y="1183"/>
                  </a:lnTo>
                  <a:lnTo>
                    <a:pt x="415" y="1161"/>
                  </a:lnTo>
                  <a:lnTo>
                    <a:pt x="418" y="1134"/>
                  </a:lnTo>
                  <a:lnTo>
                    <a:pt x="418" y="1112"/>
                  </a:lnTo>
                  <a:lnTo>
                    <a:pt x="422" y="1085"/>
                  </a:lnTo>
                  <a:lnTo>
                    <a:pt x="422" y="1063"/>
                  </a:lnTo>
                  <a:lnTo>
                    <a:pt x="422" y="1040"/>
                  </a:lnTo>
                  <a:lnTo>
                    <a:pt x="426" y="1017"/>
                  </a:lnTo>
                  <a:lnTo>
                    <a:pt x="426" y="991"/>
                  </a:lnTo>
                  <a:lnTo>
                    <a:pt x="430" y="968"/>
                  </a:lnTo>
                  <a:lnTo>
                    <a:pt x="430" y="946"/>
                  </a:lnTo>
                  <a:lnTo>
                    <a:pt x="434" y="927"/>
                  </a:lnTo>
                  <a:lnTo>
                    <a:pt x="434" y="904"/>
                  </a:lnTo>
                  <a:lnTo>
                    <a:pt x="434" y="882"/>
                  </a:lnTo>
                  <a:lnTo>
                    <a:pt x="437" y="863"/>
                  </a:lnTo>
                  <a:lnTo>
                    <a:pt x="437" y="844"/>
                  </a:lnTo>
                  <a:lnTo>
                    <a:pt x="441" y="821"/>
                  </a:lnTo>
                  <a:lnTo>
                    <a:pt x="441" y="803"/>
                  </a:lnTo>
                  <a:lnTo>
                    <a:pt x="445" y="784"/>
                  </a:lnTo>
                  <a:lnTo>
                    <a:pt x="445" y="769"/>
                  </a:lnTo>
                  <a:lnTo>
                    <a:pt x="445" y="750"/>
                  </a:lnTo>
                  <a:lnTo>
                    <a:pt x="449" y="735"/>
                  </a:lnTo>
                  <a:lnTo>
                    <a:pt x="449" y="716"/>
                  </a:lnTo>
                  <a:lnTo>
                    <a:pt x="452" y="701"/>
                  </a:lnTo>
                  <a:lnTo>
                    <a:pt x="452" y="686"/>
                  </a:lnTo>
                  <a:lnTo>
                    <a:pt x="456" y="675"/>
                  </a:lnTo>
                  <a:lnTo>
                    <a:pt x="456" y="659"/>
                  </a:lnTo>
                  <a:lnTo>
                    <a:pt x="456" y="648"/>
                  </a:lnTo>
                  <a:lnTo>
                    <a:pt x="460" y="633"/>
                  </a:lnTo>
                  <a:lnTo>
                    <a:pt x="460" y="622"/>
                  </a:lnTo>
                  <a:lnTo>
                    <a:pt x="464" y="610"/>
                  </a:lnTo>
                  <a:lnTo>
                    <a:pt x="464" y="603"/>
                  </a:lnTo>
                  <a:lnTo>
                    <a:pt x="464" y="592"/>
                  </a:lnTo>
                  <a:lnTo>
                    <a:pt x="468" y="584"/>
                  </a:lnTo>
                  <a:lnTo>
                    <a:pt x="468" y="577"/>
                  </a:lnTo>
                  <a:lnTo>
                    <a:pt x="471" y="569"/>
                  </a:lnTo>
                  <a:lnTo>
                    <a:pt x="471" y="561"/>
                  </a:lnTo>
                  <a:lnTo>
                    <a:pt x="475" y="554"/>
                  </a:lnTo>
                  <a:lnTo>
                    <a:pt x="475" y="550"/>
                  </a:lnTo>
                  <a:lnTo>
                    <a:pt x="475" y="543"/>
                  </a:lnTo>
                  <a:lnTo>
                    <a:pt x="479" y="539"/>
                  </a:lnTo>
                  <a:lnTo>
                    <a:pt x="479" y="535"/>
                  </a:lnTo>
                  <a:lnTo>
                    <a:pt x="483" y="531"/>
                  </a:lnTo>
                  <a:lnTo>
                    <a:pt x="486" y="528"/>
                  </a:lnTo>
                  <a:lnTo>
                    <a:pt x="490" y="524"/>
                  </a:lnTo>
                  <a:lnTo>
                    <a:pt x="494" y="528"/>
                  </a:lnTo>
                  <a:lnTo>
                    <a:pt x="498" y="528"/>
                  </a:lnTo>
                  <a:lnTo>
                    <a:pt x="498" y="531"/>
                  </a:lnTo>
                  <a:lnTo>
                    <a:pt x="502" y="535"/>
                  </a:lnTo>
                  <a:lnTo>
                    <a:pt x="502" y="539"/>
                  </a:lnTo>
                  <a:lnTo>
                    <a:pt x="505" y="543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9" y="554"/>
                  </a:lnTo>
                  <a:lnTo>
                    <a:pt x="509" y="558"/>
                  </a:lnTo>
                  <a:lnTo>
                    <a:pt x="513" y="565"/>
                  </a:lnTo>
                  <a:lnTo>
                    <a:pt x="513" y="569"/>
                  </a:lnTo>
                  <a:lnTo>
                    <a:pt x="517" y="573"/>
                  </a:lnTo>
                  <a:lnTo>
                    <a:pt x="517" y="580"/>
                  </a:lnTo>
                  <a:lnTo>
                    <a:pt x="517" y="584"/>
                  </a:lnTo>
                  <a:lnTo>
                    <a:pt x="520" y="592"/>
                  </a:lnTo>
                  <a:lnTo>
                    <a:pt x="520" y="595"/>
                  </a:lnTo>
                  <a:lnTo>
                    <a:pt x="524" y="599"/>
                  </a:lnTo>
                  <a:lnTo>
                    <a:pt x="524" y="607"/>
                  </a:lnTo>
                  <a:lnTo>
                    <a:pt x="528" y="610"/>
                  </a:lnTo>
                  <a:lnTo>
                    <a:pt x="528" y="618"/>
                  </a:lnTo>
                  <a:lnTo>
                    <a:pt x="528" y="622"/>
                  </a:lnTo>
                  <a:lnTo>
                    <a:pt x="532" y="629"/>
                  </a:lnTo>
                  <a:lnTo>
                    <a:pt x="532" y="633"/>
                  </a:lnTo>
                  <a:lnTo>
                    <a:pt x="535" y="641"/>
                  </a:lnTo>
                  <a:lnTo>
                    <a:pt x="535" y="644"/>
                  </a:lnTo>
                  <a:lnTo>
                    <a:pt x="539" y="652"/>
                  </a:lnTo>
                  <a:lnTo>
                    <a:pt x="539" y="656"/>
                  </a:lnTo>
                  <a:lnTo>
                    <a:pt x="539" y="659"/>
                  </a:lnTo>
                  <a:lnTo>
                    <a:pt x="543" y="663"/>
                  </a:lnTo>
                  <a:lnTo>
                    <a:pt x="543" y="671"/>
                  </a:lnTo>
                  <a:lnTo>
                    <a:pt x="547" y="675"/>
                  </a:lnTo>
                  <a:lnTo>
                    <a:pt x="547" y="678"/>
                  </a:lnTo>
                  <a:lnTo>
                    <a:pt x="547" y="682"/>
                  </a:lnTo>
                  <a:lnTo>
                    <a:pt x="551" y="686"/>
                  </a:lnTo>
                  <a:lnTo>
                    <a:pt x="551" y="690"/>
                  </a:lnTo>
                  <a:lnTo>
                    <a:pt x="554" y="693"/>
                  </a:lnTo>
                  <a:lnTo>
                    <a:pt x="558" y="697"/>
                  </a:lnTo>
                  <a:lnTo>
                    <a:pt x="558" y="701"/>
                  </a:lnTo>
                  <a:lnTo>
                    <a:pt x="562" y="705"/>
                  </a:lnTo>
                  <a:lnTo>
                    <a:pt x="566" y="708"/>
                  </a:lnTo>
                  <a:lnTo>
                    <a:pt x="569" y="708"/>
                  </a:lnTo>
                  <a:lnTo>
                    <a:pt x="573" y="708"/>
                  </a:lnTo>
                  <a:lnTo>
                    <a:pt x="577" y="708"/>
                  </a:lnTo>
                  <a:lnTo>
                    <a:pt x="581" y="705"/>
                  </a:lnTo>
                  <a:lnTo>
                    <a:pt x="585" y="701"/>
                  </a:lnTo>
                  <a:lnTo>
                    <a:pt x="588" y="697"/>
                  </a:lnTo>
                  <a:lnTo>
                    <a:pt x="588" y="693"/>
                  </a:lnTo>
                  <a:lnTo>
                    <a:pt x="592" y="690"/>
                  </a:lnTo>
                  <a:lnTo>
                    <a:pt x="596" y="686"/>
                  </a:lnTo>
                  <a:lnTo>
                    <a:pt x="596" y="682"/>
                  </a:lnTo>
                  <a:lnTo>
                    <a:pt x="600" y="678"/>
                  </a:lnTo>
                  <a:lnTo>
                    <a:pt x="600" y="675"/>
                  </a:lnTo>
                  <a:lnTo>
                    <a:pt x="600" y="671"/>
                  </a:lnTo>
                  <a:lnTo>
                    <a:pt x="603" y="671"/>
                  </a:lnTo>
                  <a:lnTo>
                    <a:pt x="603" y="667"/>
                  </a:lnTo>
                  <a:lnTo>
                    <a:pt x="607" y="663"/>
                  </a:lnTo>
                  <a:lnTo>
                    <a:pt x="607" y="659"/>
                  </a:lnTo>
                  <a:lnTo>
                    <a:pt x="611" y="656"/>
                  </a:lnTo>
                  <a:lnTo>
                    <a:pt x="611" y="652"/>
                  </a:lnTo>
                  <a:lnTo>
                    <a:pt x="611" y="648"/>
                  </a:lnTo>
                  <a:lnTo>
                    <a:pt x="615" y="644"/>
                  </a:lnTo>
                  <a:lnTo>
                    <a:pt x="615" y="641"/>
                  </a:lnTo>
                  <a:lnTo>
                    <a:pt x="618" y="637"/>
                  </a:lnTo>
                  <a:lnTo>
                    <a:pt x="618" y="633"/>
                  </a:lnTo>
                  <a:lnTo>
                    <a:pt x="618" y="629"/>
                  </a:lnTo>
                  <a:lnTo>
                    <a:pt x="622" y="626"/>
                  </a:lnTo>
                  <a:lnTo>
                    <a:pt x="626" y="622"/>
                  </a:lnTo>
                  <a:lnTo>
                    <a:pt x="626" y="618"/>
                  </a:lnTo>
                  <a:lnTo>
                    <a:pt x="630" y="614"/>
                  </a:lnTo>
                  <a:lnTo>
                    <a:pt x="630" y="610"/>
                  </a:lnTo>
                  <a:lnTo>
                    <a:pt x="634" y="607"/>
                  </a:lnTo>
                  <a:lnTo>
                    <a:pt x="637" y="603"/>
                  </a:lnTo>
                  <a:lnTo>
                    <a:pt x="641" y="599"/>
                  </a:lnTo>
                  <a:lnTo>
                    <a:pt x="641" y="595"/>
                  </a:lnTo>
                  <a:lnTo>
                    <a:pt x="645" y="595"/>
                  </a:lnTo>
                  <a:lnTo>
                    <a:pt x="649" y="595"/>
                  </a:lnTo>
                  <a:lnTo>
                    <a:pt x="652" y="592"/>
                  </a:lnTo>
                  <a:lnTo>
                    <a:pt x="656" y="592"/>
                  </a:lnTo>
                  <a:lnTo>
                    <a:pt x="660" y="595"/>
                  </a:lnTo>
                  <a:lnTo>
                    <a:pt x="664" y="595"/>
                  </a:lnTo>
                  <a:lnTo>
                    <a:pt x="664" y="599"/>
                  </a:lnTo>
                  <a:lnTo>
                    <a:pt x="668" y="599"/>
                  </a:lnTo>
                  <a:lnTo>
                    <a:pt x="671" y="603"/>
                  </a:lnTo>
                  <a:lnTo>
                    <a:pt x="671" y="607"/>
                  </a:lnTo>
                  <a:lnTo>
                    <a:pt x="675" y="607"/>
                  </a:lnTo>
                  <a:lnTo>
                    <a:pt x="675" y="610"/>
                  </a:lnTo>
                  <a:lnTo>
                    <a:pt x="679" y="614"/>
                  </a:lnTo>
                  <a:lnTo>
                    <a:pt x="683" y="618"/>
                  </a:lnTo>
                  <a:lnTo>
                    <a:pt x="683" y="622"/>
                  </a:lnTo>
                  <a:lnTo>
                    <a:pt x="686" y="626"/>
                  </a:lnTo>
                  <a:lnTo>
                    <a:pt x="686" y="629"/>
                  </a:lnTo>
                  <a:lnTo>
                    <a:pt x="690" y="633"/>
                  </a:lnTo>
                  <a:lnTo>
                    <a:pt x="694" y="637"/>
                  </a:lnTo>
                  <a:lnTo>
                    <a:pt x="694" y="641"/>
                  </a:lnTo>
                  <a:lnTo>
                    <a:pt x="694" y="644"/>
                  </a:lnTo>
                  <a:lnTo>
                    <a:pt x="698" y="644"/>
                  </a:lnTo>
                  <a:lnTo>
                    <a:pt x="698" y="648"/>
                  </a:lnTo>
                  <a:lnTo>
                    <a:pt x="701" y="652"/>
                  </a:lnTo>
                  <a:lnTo>
                    <a:pt x="701" y="656"/>
                  </a:lnTo>
                  <a:lnTo>
                    <a:pt x="705" y="659"/>
                  </a:lnTo>
                  <a:lnTo>
                    <a:pt x="709" y="663"/>
                  </a:lnTo>
                  <a:lnTo>
                    <a:pt x="709" y="667"/>
                  </a:lnTo>
                  <a:lnTo>
                    <a:pt x="713" y="667"/>
                  </a:lnTo>
                  <a:lnTo>
                    <a:pt x="713" y="671"/>
                  </a:lnTo>
                  <a:lnTo>
                    <a:pt x="717" y="675"/>
                  </a:lnTo>
                  <a:lnTo>
                    <a:pt x="720" y="678"/>
                  </a:lnTo>
                  <a:lnTo>
                    <a:pt x="724" y="678"/>
                  </a:lnTo>
                  <a:lnTo>
                    <a:pt x="724" y="682"/>
                  </a:lnTo>
                  <a:lnTo>
                    <a:pt x="728" y="682"/>
                  </a:lnTo>
                  <a:lnTo>
                    <a:pt x="732" y="686"/>
                  </a:lnTo>
                  <a:lnTo>
                    <a:pt x="735" y="686"/>
                  </a:lnTo>
                  <a:lnTo>
                    <a:pt x="739" y="686"/>
                  </a:lnTo>
                  <a:lnTo>
                    <a:pt x="743" y="682"/>
                  </a:lnTo>
                  <a:lnTo>
                    <a:pt x="747" y="682"/>
                  </a:lnTo>
                  <a:lnTo>
                    <a:pt x="747" y="678"/>
                  </a:lnTo>
                  <a:lnTo>
                    <a:pt x="751" y="678"/>
                  </a:lnTo>
                  <a:lnTo>
                    <a:pt x="754" y="675"/>
                  </a:lnTo>
                  <a:lnTo>
                    <a:pt x="754" y="671"/>
                  </a:lnTo>
                  <a:lnTo>
                    <a:pt x="758" y="671"/>
                  </a:lnTo>
                  <a:lnTo>
                    <a:pt x="758" y="667"/>
                  </a:lnTo>
                  <a:lnTo>
                    <a:pt x="762" y="667"/>
                  </a:lnTo>
                  <a:lnTo>
                    <a:pt x="762" y="663"/>
                  </a:lnTo>
                  <a:lnTo>
                    <a:pt x="766" y="663"/>
                  </a:lnTo>
                  <a:lnTo>
                    <a:pt x="766" y="659"/>
                  </a:lnTo>
                  <a:lnTo>
                    <a:pt x="766" y="656"/>
                  </a:lnTo>
                  <a:lnTo>
                    <a:pt x="769" y="656"/>
                  </a:lnTo>
                  <a:lnTo>
                    <a:pt x="769" y="652"/>
                  </a:lnTo>
                  <a:lnTo>
                    <a:pt x="773" y="648"/>
                  </a:lnTo>
                  <a:lnTo>
                    <a:pt x="777" y="644"/>
                  </a:lnTo>
                  <a:lnTo>
                    <a:pt x="777" y="641"/>
                  </a:lnTo>
                  <a:lnTo>
                    <a:pt x="781" y="637"/>
                  </a:lnTo>
                  <a:lnTo>
                    <a:pt x="781" y="633"/>
                  </a:lnTo>
                  <a:lnTo>
                    <a:pt x="785" y="633"/>
                  </a:lnTo>
                  <a:lnTo>
                    <a:pt x="785" y="629"/>
                  </a:lnTo>
                  <a:lnTo>
                    <a:pt x="785" y="626"/>
                  </a:lnTo>
                  <a:lnTo>
                    <a:pt x="788" y="626"/>
                  </a:lnTo>
                  <a:lnTo>
                    <a:pt x="788" y="622"/>
                  </a:lnTo>
                  <a:lnTo>
                    <a:pt x="792" y="622"/>
                  </a:lnTo>
                  <a:lnTo>
                    <a:pt x="792" y="618"/>
                  </a:lnTo>
                  <a:lnTo>
                    <a:pt x="796" y="618"/>
                  </a:lnTo>
                  <a:lnTo>
                    <a:pt x="796" y="614"/>
                  </a:lnTo>
                  <a:lnTo>
                    <a:pt x="800" y="610"/>
                  </a:lnTo>
                  <a:lnTo>
                    <a:pt x="803" y="607"/>
                  </a:lnTo>
                  <a:lnTo>
                    <a:pt x="807" y="607"/>
                  </a:lnTo>
                  <a:lnTo>
                    <a:pt x="807" y="603"/>
                  </a:lnTo>
                  <a:lnTo>
                    <a:pt x="811" y="603"/>
                  </a:lnTo>
                  <a:lnTo>
                    <a:pt x="815" y="603"/>
                  </a:lnTo>
                  <a:lnTo>
                    <a:pt x="818" y="603"/>
                  </a:lnTo>
                  <a:lnTo>
                    <a:pt x="822" y="603"/>
                  </a:lnTo>
                  <a:lnTo>
                    <a:pt x="826" y="603"/>
                  </a:lnTo>
                  <a:lnTo>
                    <a:pt x="826" y="607"/>
                  </a:lnTo>
                  <a:lnTo>
                    <a:pt x="830" y="607"/>
                  </a:lnTo>
                  <a:lnTo>
                    <a:pt x="834" y="610"/>
                  </a:lnTo>
                  <a:lnTo>
                    <a:pt x="837" y="614"/>
                  </a:lnTo>
                  <a:lnTo>
                    <a:pt x="837" y="618"/>
                  </a:lnTo>
                  <a:lnTo>
                    <a:pt x="841" y="618"/>
                  </a:lnTo>
                  <a:lnTo>
                    <a:pt x="841" y="622"/>
                  </a:lnTo>
                  <a:lnTo>
                    <a:pt x="845" y="622"/>
                  </a:lnTo>
                  <a:lnTo>
                    <a:pt x="845" y="626"/>
                  </a:lnTo>
                  <a:lnTo>
                    <a:pt x="849" y="626"/>
                  </a:lnTo>
                  <a:lnTo>
                    <a:pt x="849" y="629"/>
                  </a:lnTo>
                  <a:lnTo>
                    <a:pt x="849" y="633"/>
                  </a:lnTo>
                  <a:lnTo>
                    <a:pt x="852" y="633"/>
                  </a:lnTo>
                  <a:lnTo>
                    <a:pt x="852" y="637"/>
                  </a:lnTo>
                  <a:lnTo>
                    <a:pt x="856" y="641"/>
                  </a:lnTo>
                  <a:lnTo>
                    <a:pt x="856" y="644"/>
                  </a:lnTo>
                  <a:lnTo>
                    <a:pt x="860" y="648"/>
                  </a:lnTo>
                  <a:lnTo>
                    <a:pt x="864" y="652"/>
                  </a:lnTo>
                  <a:lnTo>
                    <a:pt x="864" y="656"/>
                  </a:lnTo>
                  <a:lnTo>
                    <a:pt x="868" y="656"/>
                  </a:lnTo>
                  <a:lnTo>
                    <a:pt x="868" y="659"/>
                  </a:lnTo>
                  <a:lnTo>
                    <a:pt x="868" y="663"/>
                  </a:lnTo>
                  <a:lnTo>
                    <a:pt x="871" y="663"/>
                  </a:lnTo>
                  <a:lnTo>
                    <a:pt x="871" y="667"/>
                  </a:lnTo>
                  <a:lnTo>
                    <a:pt x="875" y="667"/>
                  </a:lnTo>
                  <a:lnTo>
                    <a:pt x="875" y="671"/>
                  </a:lnTo>
                  <a:lnTo>
                    <a:pt x="879" y="671"/>
                  </a:lnTo>
                  <a:lnTo>
                    <a:pt x="879" y="675"/>
                  </a:lnTo>
                  <a:lnTo>
                    <a:pt x="883" y="678"/>
                  </a:lnTo>
                  <a:lnTo>
                    <a:pt x="886" y="678"/>
                  </a:lnTo>
                  <a:lnTo>
                    <a:pt x="886" y="682"/>
                  </a:lnTo>
                  <a:lnTo>
                    <a:pt x="890" y="682"/>
                  </a:lnTo>
                  <a:lnTo>
                    <a:pt x="894" y="686"/>
                  </a:lnTo>
                  <a:lnTo>
                    <a:pt x="898" y="686"/>
                  </a:lnTo>
                  <a:lnTo>
                    <a:pt x="901" y="686"/>
                  </a:lnTo>
                  <a:lnTo>
                    <a:pt x="905" y="682"/>
                  </a:lnTo>
                  <a:lnTo>
                    <a:pt x="909" y="682"/>
                  </a:lnTo>
                  <a:lnTo>
                    <a:pt x="909" y="678"/>
                  </a:lnTo>
                  <a:lnTo>
                    <a:pt x="913" y="678"/>
                  </a:lnTo>
                  <a:lnTo>
                    <a:pt x="917" y="675"/>
                  </a:lnTo>
                  <a:lnTo>
                    <a:pt x="920" y="671"/>
                  </a:lnTo>
                  <a:lnTo>
                    <a:pt x="920" y="667"/>
                  </a:lnTo>
                  <a:lnTo>
                    <a:pt x="924" y="667"/>
                  </a:lnTo>
                  <a:lnTo>
                    <a:pt x="924" y="663"/>
                  </a:lnTo>
                  <a:lnTo>
                    <a:pt x="928" y="659"/>
                  </a:lnTo>
                  <a:lnTo>
                    <a:pt x="932" y="656"/>
                  </a:lnTo>
                  <a:lnTo>
                    <a:pt x="932" y="652"/>
                  </a:lnTo>
                  <a:lnTo>
                    <a:pt x="935" y="648"/>
                  </a:lnTo>
                  <a:lnTo>
                    <a:pt x="935" y="644"/>
                  </a:lnTo>
                  <a:lnTo>
                    <a:pt x="939" y="644"/>
                  </a:lnTo>
                  <a:lnTo>
                    <a:pt x="939" y="641"/>
                  </a:lnTo>
                  <a:lnTo>
                    <a:pt x="939" y="637"/>
                  </a:lnTo>
                  <a:lnTo>
                    <a:pt x="943" y="633"/>
                  </a:lnTo>
                  <a:lnTo>
                    <a:pt x="947" y="629"/>
                  </a:lnTo>
                  <a:lnTo>
                    <a:pt x="947" y="626"/>
                  </a:lnTo>
                  <a:lnTo>
                    <a:pt x="951" y="622"/>
                  </a:lnTo>
                  <a:lnTo>
                    <a:pt x="951" y="618"/>
                  </a:lnTo>
                  <a:lnTo>
                    <a:pt x="954" y="614"/>
                  </a:lnTo>
                  <a:lnTo>
                    <a:pt x="958" y="610"/>
                  </a:lnTo>
                  <a:lnTo>
                    <a:pt x="958" y="607"/>
                  </a:lnTo>
                  <a:lnTo>
                    <a:pt x="962" y="607"/>
                  </a:lnTo>
                  <a:lnTo>
                    <a:pt x="962" y="603"/>
                  </a:lnTo>
                  <a:lnTo>
                    <a:pt x="966" y="599"/>
                  </a:lnTo>
                  <a:lnTo>
                    <a:pt x="969" y="599"/>
                  </a:lnTo>
                  <a:lnTo>
                    <a:pt x="969" y="595"/>
                  </a:lnTo>
                  <a:lnTo>
                    <a:pt x="973" y="595"/>
                  </a:lnTo>
                  <a:lnTo>
                    <a:pt x="977" y="592"/>
                  </a:lnTo>
                  <a:lnTo>
                    <a:pt x="981" y="592"/>
                  </a:lnTo>
                  <a:lnTo>
                    <a:pt x="984" y="595"/>
                  </a:lnTo>
                  <a:lnTo>
                    <a:pt x="988" y="595"/>
                  </a:lnTo>
                  <a:lnTo>
                    <a:pt x="992" y="595"/>
                  </a:lnTo>
                  <a:lnTo>
                    <a:pt x="992" y="599"/>
                  </a:lnTo>
                  <a:lnTo>
                    <a:pt x="996" y="603"/>
                  </a:lnTo>
                  <a:lnTo>
                    <a:pt x="1000" y="607"/>
                  </a:lnTo>
                  <a:lnTo>
                    <a:pt x="1003" y="610"/>
                  </a:lnTo>
                  <a:lnTo>
                    <a:pt x="1003" y="614"/>
                  </a:lnTo>
                  <a:lnTo>
                    <a:pt x="1007" y="618"/>
                  </a:lnTo>
                  <a:lnTo>
                    <a:pt x="1007" y="622"/>
                  </a:lnTo>
                  <a:lnTo>
                    <a:pt x="1011" y="626"/>
                  </a:lnTo>
                  <a:lnTo>
                    <a:pt x="1015" y="629"/>
                  </a:lnTo>
                  <a:lnTo>
                    <a:pt x="1015" y="633"/>
                  </a:lnTo>
                  <a:lnTo>
                    <a:pt x="1015" y="637"/>
                  </a:lnTo>
                  <a:lnTo>
                    <a:pt x="1018" y="641"/>
                  </a:lnTo>
                  <a:lnTo>
                    <a:pt x="1018" y="644"/>
                  </a:lnTo>
                  <a:lnTo>
                    <a:pt x="1022" y="648"/>
                  </a:lnTo>
                  <a:lnTo>
                    <a:pt x="1022" y="652"/>
                  </a:lnTo>
                  <a:lnTo>
                    <a:pt x="1022" y="656"/>
                  </a:lnTo>
                  <a:lnTo>
                    <a:pt x="1026" y="659"/>
                  </a:lnTo>
                  <a:lnTo>
                    <a:pt x="1026" y="663"/>
                  </a:lnTo>
                  <a:lnTo>
                    <a:pt x="1030" y="667"/>
                  </a:lnTo>
                  <a:lnTo>
                    <a:pt x="1030" y="671"/>
                  </a:lnTo>
                  <a:lnTo>
                    <a:pt x="1034" y="671"/>
                  </a:lnTo>
                  <a:lnTo>
                    <a:pt x="1034" y="675"/>
                  </a:lnTo>
                  <a:lnTo>
                    <a:pt x="1034" y="678"/>
                  </a:lnTo>
                  <a:lnTo>
                    <a:pt x="1037" y="682"/>
                  </a:lnTo>
                  <a:lnTo>
                    <a:pt x="1037" y="686"/>
                  </a:lnTo>
                  <a:lnTo>
                    <a:pt x="1041" y="690"/>
                  </a:lnTo>
                  <a:lnTo>
                    <a:pt x="1045" y="693"/>
                  </a:lnTo>
                  <a:lnTo>
                    <a:pt x="1045" y="697"/>
                  </a:lnTo>
                  <a:lnTo>
                    <a:pt x="1049" y="701"/>
                  </a:lnTo>
                  <a:lnTo>
                    <a:pt x="1052" y="705"/>
                  </a:lnTo>
                  <a:lnTo>
                    <a:pt x="1056" y="708"/>
                  </a:lnTo>
                  <a:lnTo>
                    <a:pt x="1060" y="708"/>
                  </a:lnTo>
                  <a:lnTo>
                    <a:pt x="1064" y="708"/>
                  </a:lnTo>
                  <a:lnTo>
                    <a:pt x="1067" y="708"/>
                  </a:lnTo>
                  <a:lnTo>
                    <a:pt x="1071" y="705"/>
                  </a:lnTo>
                  <a:lnTo>
                    <a:pt x="1075" y="701"/>
                  </a:lnTo>
                  <a:lnTo>
                    <a:pt x="1075" y="697"/>
                  </a:lnTo>
                  <a:lnTo>
                    <a:pt x="1079" y="693"/>
                  </a:lnTo>
                  <a:lnTo>
                    <a:pt x="1083" y="690"/>
                  </a:lnTo>
                  <a:lnTo>
                    <a:pt x="1083" y="686"/>
                  </a:lnTo>
                  <a:lnTo>
                    <a:pt x="1086" y="682"/>
                  </a:lnTo>
                  <a:lnTo>
                    <a:pt x="1086" y="678"/>
                  </a:lnTo>
                  <a:lnTo>
                    <a:pt x="1086" y="675"/>
                  </a:lnTo>
                  <a:lnTo>
                    <a:pt x="1090" y="671"/>
                  </a:lnTo>
                  <a:lnTo>
                    <a:pt x="1090" y="663"/>
                  </a:lnTo>
                  <a:lnTo>
                    <a:pt x="1094" y="659"/>
                  </a:lnTo>
                  <a:lnTo>
                    <a:pt x="1094" y="656"/>
                  </a:lnTo>
                  <a:lnTo>
                    <a:pt x="1094" y="652"/>
                  </a:lnTo>
                  <a:lnTo>
                    <a:pt x="1098" y="644"/>
                  </a:lnTo>
                  <a:lnTo>
                    <a:pt x="1098" y="641"/>
                  </a:lnTo>
                  <a:lnTo>
                    <a:pt x="1101" y="633"/>
                  </a:lnTo>
                  <a:lnTo>
                    <a:pt x="1101" y="629"/>
                  </a:lnTo>
                  <a:lnTo>
                    <a:pt x="1105" y="622"/>
                  </a:lnTo>
                  <a:lnTo>
                    <a:pt x="1105" y="618"/>
                  </a:lnTo>
                  <a:lnTo>
                    <a:pt x="1105" y="610"/>
                  </a:lnTo>
                  <a:lnTo>
                    <a:pt x="1109" y="607"/>
                  </a:lnTo>
                  <a:lnTo>
                    <a:pt x="1109" y="599"/>
                  </a:lnTo>
                  <a:lnTo>
                    <a:pt x="1113" y="595"/>
                  </a:lnTo>
                  <a:lnTo>
                    <a:pt x="1113" y="592"/>
                  </a:lnTo>
                  <a:lnTo>
                    <a:pt x="1117" y="584"/>
                  </a:lnTo>
                  <a:lnTo>
                    <a:pt x="1117" y="580"/>
                  </a:lnTo>
                  <a:lnTo>
                    <a:pt x="1117" y="573"/>
                  </a:lnTo>
                  <a:lnTo>
                    <a:pt x="1120" y="569"/>
                  </a:lnTo>
                  <a:lnTo>
                    <a:pt x="1120" y="565"/>
                  </a:lnTo>
                  <a:lnTo>
                    <a:pt x="1124" y="558"/>
                  </a:lnTo>
                  <a:lnTo>
                    <a:pt x="1124" y="554"/>
                  </a:lnTo>
                  <a:lnTo>
                    <a:pt x="1128" y="550"/>
                  </a:lnTo>
                  <a:lnTo>
                    <a:pt x="1128" y="546"/>
                  </a:lnTo>
                  <a:lnTo>
                    <a:pt x="1128" y="543"/>
                  </a:lnTo>
                  <a:lnTo>
                    <a:pt x="1132" y="539"/>
                  </a:lnTo>
                  <a:lnTo>
                    <a:pt x="1132" y="535"/>
                  </a:lnTo>
                  <a:lnTo>
                    <a:pt x="1135" y="531"/>
                  </a:lnTo>
                  <a:lnTo>
                    <a:pt x="1135" y="528"/>
                  </a:lnTo>
                  <a:lnTo>
                    <a:pt x="1139" y="528"/>
                  </a:lnTo>
                  <a:lnTo>
                    <a:pt x="1143" y="524"/>
                  </a:lnTo>
                  <a:lnTo>
                    <a:pt x="1147" y="528"/>
                  </a:lnTo>
                  <a:lnTo>
                    <a:pt x="1151" y="531"/>
                  </a:lnTo>
                  <a:lnTo>
                    <a:pt x="1154" y="535"/>
                  </a:lnTo>
                  <a:lnTo>
                    <a:pt x="1154" y="539"/>
                  </a:lnTo>
                  <a:lnTo>
                    <a:pt x="1158" y="543"/>
                  </a:lnTo>
                  <a:lnTo>
                    <a:pt x="1158" y="550"/>
                  </a:lnTo>
                  <a:lnTo>
                    <a:pt x="1158" y="554"/>
                  </a:lnTo>
                  <a:lnTo>
                    <a:pt x="1162" y="561"/>
                  </a:lnTo>
                  <a:lnTo>
                    <a:pt x="1162" y="569"/>
                  </a:lnTo>
                  <a:lnTo>
                    <a:pt x="1166" y="577"/>
                  </a:lnTo>
                  <a:lnTo>
                    <a:pt x="1166" y="584"/>
                  </a:lnTo>
                  <a:lnTo>
                    <a:pt x="1169" y="592"/>
                  </a:lnTo>
                  <a:lnTo>
                    <a:pt x="1169" y="603"/>
                  </a:lnTo>
                  <a:lnTo>
                    <a:pt x="1169" y="610"/>
                  </a:lnTo>
                  <a:lnTo>
                    <a:pt x="1173" y="622"/>
                  </a:lnTo>
                  <a:lnTo>
                    <a:pt x="1173" y="633"/>
                  </a:lnTo>
                  <a:lnTo>
                    <a:pt x="1177" y="648"/>
                  </a:lnTo>
                  <a:lnTo>
                    <a:pt x="1177" y="659"/>
                  </a:lnTo>
                  <a:lnTo>
                    <a:pt x="1177" y="675"/>
                  </a:lnTo>
                  <a:lnTo>
                    <a:pt x="1181" y="686"/>
                  </a:lnTo>
                  <a:lnTo>
                    <a:pt x="1181" y="701"/>
                  </a:lnTo>
                  <a:lnTo>
                    <a:pt x="1184" y="716"/>
                  </a:lnTo>
                  <a:lnTo>
                    <a:pt x="1184" y="735"/>
                  </a:lnTo>
                  <a:lnTo>
                    <a:pt x="1188" y="750"/>
                  </a:lnTo>
                  <a:lnTo>
                    <a:pt x="1188" y="769"/>
                  </a:lnTo>
                  <a:lnTo>
                    <a:pt x="1188" y="784"/>
                  </a:lnTo>
                  <a:lnTo>
                    <a:pt x="1192" y="803"/>
                  </a:lnTo>
                  <a:lnTo>
                    <a:pt x="1192" y="821"/>
                  </a:lnTo>
                  <a:lnTo>
                    <a:pt x="1196" y="844"/>
                  </a:lnTo>
                  <a:lnTo>
                    <a:pt x="1196" y="863"/>
                  </a:lnTo>
                  <a:lnTo>
                    <a:pt x="1200" y="882"/>
                  </a:lnTo>
                  <a:lnTo>
                    <a:pt x="1200" y="904"/>
                  </a:lnTo>
                  <a:lnTo>
                    <a:pt x="1200" y="927"/>
                  </a:lnTo>
                  <a:lnTo>
                    <a:pt x="1203" y="946"/>
                  </a:lnTo>
                  <a:lnTo>
                    <a:pt x="1203" y="968"/>
                  </a:lnTo>
                  <a:lnTo>
                    <a:pt x="1207" y="991"/>
                  </a:lnTo>
                  <a:lnTo>
                    <a:pt x="1207" y="1017"/>
                  </a:lnTo>
                  <a:lnTo>
                    <a:pt x="1211" y="1040"/>
                  </a:lnTo>
                  <a:lnTo>
                    <a:pt x="1211" y="1063"/>
                  </a:lnTo>
                  <a:lnTo>
                    <a:pt x="1211" y="1085"/>
                  </a:lnTo>
                  <a:lnTo>
                    <a:pt x="1215" y="1112"/>
                  </a:lnTo>
                  <a:lnTo>
                    <a:pt x="1215" y="1134"/>
                  </a:lnTo>
                  <a:lnTo>
                    <a:pt x="1218" y="1161"/>
                  </a:lnTo>
                  <a:lnTo>
                    <a:pt x="1218" y="1183"/>
                  </a:lnTo>
                  <a:lnTo>
                    <a:pt x="1218" y="1210"/>
                  </a:lnTo>
                  <a:lnTo>
                    <a:pt x="1222" y="1236"/>
                  </a:lnTo>
                  <a:lnTo>
                    <a:pt x="1222" y="1259"/>
                  </a:lnTo>
                  <a:lnTo>
                    <a:pt x="1226" y="0"/>
                  </a:lnTo>
                  <a:lnTo>
                    <a:pt x="1226" y="26"/>
                  </a:lnTo>
                  <a:lnTo>
                    <a:pt x="1230" y="49"/>
                  </a:lnTo>
                  <a:lnTo>
                    <a:pt x="1230" y="75"/>
                  </a:lnTo>
                  <a:lnTo>
                    <a:pt x="1230" y="102"/>
                  </a:lnTo>
                  <a:lnTo>
                    <a:pt x="1234" y="124"/>
                  </a:lnTo>
                  <a:lnTo>
                    <a:pt x="1234" y="151"/>
                  </a:lnTo>
                  <a:lnTo>
                    <a:pt x="1237" y="173"/>
                  </a:lnTo>
                  <a:lnTo>
                    <a:pt x="1237" y="200"/>
                  </a:lnTo>
                  <a:lnTo>
                    <a:pt x="1241" y="222"/>
                  </a:lnTo>
                  <a:lnTo>
                    <a:pt x="1241" y="245"/>
                  </a:lnTo>
                  <a:lnTo>
                    <a:pt x="1241" y="267"/>
                  </a:lnTo>
                  <a:lnTo>
                    <a:pt x="1245" y="294"/>
                  </a:lnTo>
                  <a:lnTo>
                    <a:pt x="1245" y="316"/>
                  </a:lnTo>
                  <a:lnTo>
                    <a:pt x="1249" y="339"/>
                  </a:lnTo>
                  <a:lnTo>
                    <a:pt x="1249" y="358"/>
                  </a:lnTo>
                  <a:lnTo>
                    <a:pt x="1252" y="381"/>
                  </a:lnTo>
                  <a:lnTo>
                    <a:pt x="1252" y="403"/>
                  </a:lnTo>
                  <a:lnTo>
                    <a:pt x="1252" y="422"/>
                  </a:lnTo>
                  <a:lnTo>
                    <a:pt x="1256" y="441"/>
                  </a:lnTo>
                  <a:lnTo>
                    <a:pt x="1256" y="463"/>
                  </a:lnTo>
                  <a:lnTo>
                    <a:pt x="1260" y="482"/>
                  </a:lnTo>
                  <a:lnTo>
                    <a:pt x="1260" y="501"/>
                  </a:lnTo>
                  <a:lnTo>
                    <a:pt x="1260" y="516"/>
                  </a:lnTo>
                  <a:lnTo>
                    <a:pt x="1264" y="535"/>
                  </a:lnTo>
                  <a:lnTo>
                    <a:pt x="1264" y="550"/>
                  </a:lnTo>
                  <a:lnTo>
                    <a:pt x="1267" y="569"/>
                  </a:lnTo>
                  <a:lnTo>
                    <a:pt x="1267" y="584"/>
                  </a:lnTo>
                  <a:lnTo>
                    <a:pt x="1271" y="599"/>
                  </a:lnTo>
                  <a:lnTo>
                    <a:pt x="1271" y="610"/>
                  </a:lnTo>
                  <a:lnTo>
                    <a:pt x="1271" y="626"/>
                  </a:lnTo>
                  <a:lnTo>
                    <a:pt x="1275" y="637"/>
                  </a:lnTo>
                  <a:lnTo>
                    <a:pt x="1275" y="633"/>
                  </a:lnTo>
                  <a:lnTo>
                    <a:pt x="1279" y="622"/>
                  </a:lnTo>
                  <a:lnTo>
                    <a:pt x="1279" y="610"/>
                  </a:lnTo>
                  <a:lnTo>
                    <a:pt x="1283" y="603"/>
                  </a:lnTo>
                  <a:lnTo>
                    <a:pt x="1283" y="592"/>
                  </a:lnTo>
                  <a:lnTo>
                    <a:pt x="1283" y="584"/>
                  </a:lnTo>
                  <a:lnTo>
                    <a:pt x="1286" y="577"/>
                  </a:lnTo>
                  <a:lnTo>
                    <a:pt x="1286" y="569"/>
                  </a:lnTo>
                  <a:lnTo>
                    <a:pt x="1290" y="561"/>
                  </a:lnTo>
                  <a:lnTo>
                    <a:pt x="1290" y="554"/>
                  </a:lnTo>
                  <a:lnTo>
                    <a:pt x="1294" y="550"/>
                  </a:lnTo>
                  <a:lnTo>
                    <a:pt x="1294" y="543"/>
                  </a:lnTo>
                  <a:lnTo>
                    <a:pt x="1294" y="539"/>
                  </a:lnTo>
                  <a:lnTo>
                    <a:pt x="1298" y="535"/>
                  </a:lnTo>
                  <a:lnTo>
                    <a:pt x="1298" y="531"/>
                  </a:lnTo>
                  <a:lnTo>
                    <a:pt x="1301" y="531"/>
                  </a:lnTo>
                  <a:lnTo>
                    <a:pt x="1301" y="528"/>
                  </a:lnTo>
                  <a:lnTo>
                    <a:pt x="1305" y="528"/>
                  </a:lnTo>
                  <a:lnTo>
                    <a:pt x="1305" y="524"/>
                  </a:lnTo>
                  <a:lnTo>
                    <a:pt x="1309" y="524"/>
                  </a:lnTo>
                  <a:lnTo>
                    <a:pt x="1309" y="528"/>
                  </a:lnTo>
                  <a:lnTo>
                    <a:pt x="1313" y="528"/>
                  </a:lnTo>
                  <a:lnTo>
                    <a:pt x="1313" y="531"/>
                  </a:lnTo>
                  <a:lnTo>
                    <a:pt x="1317" y="531"/>
                  </a:lnTo>
                  <a:lnTo>
                    <a:pt x="1317" y="535"/>
                  </a:lnTo>
                  <a:lnTo>
                    <a:pt x="1320" y="539"/>
                  </a:lnTo>
                  <a:lnTo>
                    <a:pt x="1320" y="543"/>
                  </a:lnTo>
                  <a:lnTo>
                    <a:pt x="1324" y="546"/>
                  </a:lnTo>
                  <a:lnTo>
                    <a:pt x="1324" y="550"/>
                  </a:lnTo>
                  <a:lnTo>
                    <a:pt x="1324" y="554"/>
                  </a:lnTo>
                  <a:lnTo>
                    <a:pt x="1328" y="558"/>
                  </a:lnTo>
                  <a:lnTo>
                    <a:pt x="1328" y="565"/>
                  </a:lnTo>
                  <a:lnTo>
                    <a:pt x="1332" y="569"/>
                  </a:lnTo>
                  <a:lnTo>
                    <a:pt x="1332" y="573"/>
                  </a:lnTo>
                  <a:lnTo>
                    <a:pt x="1335" y="580"/>
                  </a:lnTo>
                  <a:lnTo>
                    <a:pt x="1335" y="584"/>
                  </a:lnTo>
                  <a:lnTo>
                    <a:pt x="1335" y="592"/>
                  </a:lnTo>
                  <a:lnTo>
                    <a:pt x="1339" y="595"/>
                  </a:lnTo>
                  <a:lnTo>
                    <a:pt x="1339" y="599"/>
                  </a:lnTo>
                  <a:lnTo>
                    <a:pt x="1343" y="607"/>
                  </a:lnTo>
                  <a:lnTo>
                    <a:pt x="1343" y="610"/>
                  </a:lnTo>
                  <a:lnTo>
                    <a:pt x="1343" y="618"/>
                  </a:lnTo>
                  <a:lnTo>
                    <a:pt x="1347" y="622"/>
                  </a:lnTo>
                  <a:lnTo>
                    <a:pt x="1347" y="629"/>
                  </a:lnTo>
                  <a:lnTo>
                    <a:pt x="1350" y="633"/>
                  </a:lnTo>
                  <a:lnTo>
                    <a:pt x="1350" y="641"/>
                  </a:lnTo>
                  <a:lnTo>
                    <a:pt x="1354" y="641"/>
                  </a:lnTo>
                  <a:lnTo>
                    <a:pt x="1354" y="633"/>
                  </a:lnTo>
                  <a:lnTo>
                    <a:pt x="1354" y="629"/>
                  </a:lnTo>
                  <a:lnTo>
                    <a:pt x="1358" y="626"/>
                  </a:lnTo>
                  <a:lnTo>
                    <a:pt x="1358" y="622"/>
                  </a:lnTo>
                  <a:lnTo>
                    <a:pt x="1362" y="614"/>
                  </a:lnTo>
                  <a:lnTo>
                    <a:pt x="1362" y="610"/>
                  </a:lnTo>
                  <a:lnTo>
                    <a:pt x="1366" y="607"/>
                  </a:lnTo>
                  <a:lnTo>
                    <a:pt x="1366" y="603"/>
                  </a:lnTo>
                  <a:lnTo>
                    <a:pt x="1366" y="599"/>
                  </a:lnTo>
                  <a:lnTo>
                    <a:pt x="1369" y="595"/>
                  </a:lnTo>
                  <a:lnTo>
                    <a:pt x="1369" y="592"/>
                  </a:lnTo>
                  <a:lnTo>
                    <a:pt x="1373" y="592"/>
                  </a:lnTo>
                  <a:lnTo>
                    <a:pt x="1373" y="588"/>
                  </a:lnTo>
                  <a:lnTo>
                    <a:pt x="1373" y="584"/>
                  </a:lnTo>
                  <a:lnTo>
                    <a:pt x="1377" y="584"/>
                  </a:lnTo>
                  <a:lnTo>
                    <a:pt x="1377" y="580"/>
                  </a:lnTo>
                  <a:lnTo>
                    <a:pt x="1381" y="580"/>
                  </a:lnTo>
                  <a:lnTo>
                    <a:pt x="1381" y="577"/>
                  </a:lnTo>
                  <a:lnTo>
                    <a:pt x="1384" y="577"/>
                  </a:lnTo>
                  <a:lnTo>
                    <a:pt x="1388" y="577"/>
                  </a:lnTo>
                  <a:lnTo>
                    <a:pt x="1392" y="577"/>
                  </a:lnTo>
                  <a:lnTo>
                    <a:pt x="1396" y="577"/>
                  </a:lnTo>
                  <a:lnTo>
                    <a:pt x="1396" y="580"/>
                  </a:lnTo>
                  <a:lnTo>
                    <a:pt x="1400" y="580"/>
                  </a:lnTo>
                  <a:lnTo>
                    <a:pt x="1400" y="584"/>
                  </a:lnTo>
                  <a:lnTo>
                    <a:pt x="1403" y="584"/>
                  </a:lnTo>
                  <a:lnTo>
                    <a:pt x="1403" y="588"/>
                  </a:lnTo>
                  <a:lnTo>
                    <a:pt x="1407" y="588"/>
                  </a:lnTo>
                  <a:lnTo>
                    <a:pt x="1407" y="592"/>
                  </a:lnTo>
                  <a:lnTo>
                    <a:pt x="1407" y="595"/>
                  </a:lnTo>
                  <a:lnTo>
                    <a:pt x="1411" y="595"/>
                  </a:lnTo>
                  <a:lnTo>
                    <a:pt x="1411" y="599"/>
                  </a:lnTo>
                  <a:lnTo>
                    <a:pt x="1415" y="603"/>
                  </a:lnTo>
                  <a:lnTo>
                    <a:pt x="1415" y="607"/>
                  </a:lnTo>
                  <a:lnTo>
                    <a:pt x="1415" y="610"/>
                  </a:lnTo>
                  <a:lnTo>
                    <a:pt x="1418" y="614"/>
                  </a:lnTo>
                  <a:lnTo>
                    <a:pt x="1422" y="618"/>
                  </a:lnTo>
                  <a:lnTo>
                    <a:pt x="1422" y="622"/>
                  </a:lnTo>
                  <a:lnTo>
                    <a:pt x="1426" y="626"/>
                  </a:lnTo>
                  <a:lnTo>
                    <a:pt x="1426" y="629"/>
                  </a:lnTo>
                  <a:lnTo>
                    <a:pt x="1426" y="633"/>
                  </a:lnTo>
                  <a:lnTo>
                    <a:pt x="1430" y="637"/>
                  </a:lnTo>
                  <a:lnTo>
                    <a:pt x="1430" y="641"/>
                  </a:lnTo>
                  <a:lnTo>
                    <a:pt x="1433" y="641"/>
                  </a:lnTo>
                  <a:lnTo>
                    <a:pt x="1433" y="637"/>
                  </a:lnTo>
                  <a:lnTo>
                    <a:pt x="1437" y="633"/>
                  </a:lnTo>
                  <a:lnTo>
                    <a:pt x="1437" y="629"/>
                  </a:lnTo>
                  <a:lnTo>
                    <a:pt x="1437" y="626"/>
                  </a:lnTo>
                  <a:lnTo>
                    <a:pt x="1441" y="626"/>
                  </a:lnTo>
                  <a:lnTo>
                    <a:pt x="1441" y="622"/>
                  </a:lnTo>
                  <a:lnTo>
                    <a:pt x="1445" y="618"/>
                  </a:lnTo>
                  <a:lnTo>
                    <a:pt x="1445" y="614"/>
                  </a:lnTo>
                  <a:lnTo>
                    <a:pt x="1449" y="614"/>
                  </a:lnTo>
                  <a:lnTo>
                    <a:pt x="1449" y="610"/>
                  </a:lnTo>
                  <a:lnTo>
                    <a:pt x="1449" y="607"/>
                  </a:lnTo>
                  <a:lnTo>
                    <a:pt x="1452" y="607"/>
                  </a:lnTo>
                  <a:lnTo>
                    <a:pt x="1452" y="603"/>
                  </a:lnTo>
                  <a:lnTo>
                    <a:pt x="1456" y="603"/>
                  </a:lnTo>
                  <a:lnTo>
                    <a:pt x="1456" y="599"/>
                  </a:lnTo>
                  <a:lnTo>
                    <a:pt x="1460" y="595"/>
                  </a:lnTo>
                  <a:lnTo>
                    <a:pt x="1464" y="595"/>
                  </a:lnTo>
                  <a:lnTo>
                    <a:pt x="1467" y="595"/>
                  </a:lnTo>
                  <a:lnTo>
                    <a:pt x="1467" y="592"/>
                  </a:lnTo>
                  <a:lnTo>
                    <a:pt x="1471" y="592"/>
                  </a:lnTo>
                  <a:lnTo>
                    <a:pt x="1475" y="592"/>
                  </a:lnTo>
                  <a:lnTo>
                    <a:pt x="1475" y="595"/>
                  </a:lnTo>
                  <a:lnTo>
                    <a:pt x="1479" y="595"/>
                  </a:lnTo>
                  <a:lnTo>
                    <a:pt x="1483" y="599"/>
                  </a:lnTo>
                  <a:lnTo>
                    <a:pt x="1486" y="599"/>
                  </a:lnTo>
                  <a:lnTo>
                    <a:pt x="1486" y="603"/>
                  </a:lnTo>
                  <a:lnTo>
                    <a:pt x="1490" y="603"/>
                  </a:lnTo>
                  <a:lnTo>
                    <a:pt x="1490" y="607"/>
                  </a:lnTo>
                  <a:lnTo>
                    <a:pt x="1494" y="610"/>
                  </a:lnTo>
                  <a:lnTo>
                    <a:pt x="1494" y="614"/>
                  </a:lnTo>
                  <a:lnTo>
                    <a:pt x="1498" y="614"/>
                  </a:lnTo>
                  <a:lnTo>
                    <a:pt x="1498" y="618"/>
                  </a:lnTo>
                  <a:lnTo>
                    <a:pt x="1498" y="622"/>
                  </a:lnTo>
                  <a:lnTo>
                    <a:pt x="1501" y="622"/>
                  </a:lnTo>
                  <a:lnTo>
                    <a:pt x="1501" y="626"/>
                  </a:lnTo>
                  <a:lnTo>
                    <a:pt x="1505" y="629"/>
                  </a:lnTo>
                  <a:lnTo>
                    <a:pt x="1505" y="633"/>
                  </a:lnTo>
                  <a:lnTo>
                    <a:pt x="1509" y="633"/>
                  </a:lnTo>
                  <a:lnTo>
                    <a:pt x="1509" y="637"/>
                  </a:lnTo>
                  <a:lnTo>
                    <a:pt x="1509" y="641"/>
                  </a:lnTo>
                  <a:lnTo>
                    <a:pt x="1513" y="641"/>
                  </a:lnTo>
                  <a:lnTo>
                    <a:pt x="1517" y="637"/>
                  </a:lnTo>
                  <a:lnTo>
                    <a:pt x="1517" y="633"/>
                  </a:lnTo>
                  <a:lnTo>
                    <a:pt x="1520" y="633"/>
                  </a:lnTo>
                  <a:lnTo>
                    <a:pt x="1520" y="629"/>
                  </a:lnTo>
                  <a:lnTo>
                    <a:pt x="1520" y="626"/>
                  </a:lnTo>
                  <a:lnTo>
                    <a:pt x="1524" y="626"/>
                  </a:lnTo>
                  <a:lnTo>
                    <a:pt x="1524" y="622"/>
                  </a:lnTo>
                  <a:lnTo>
                    <a:pt x="1528" y="618"/>
                  </a:lnTo>
                  <a:lnTo>
                    <a:pt x="1532" y="614"/>
                  </a:lnTo>
                  <a:lnTo>
                    <a:pt x="1532" y="610"/>
                  </a:lnTo>
                  <a:lnTo>
                    <a:pt x="1535" y="610"/>
                  </a:lnTo>
                  <a:lnTo>
                    <a:pt x="1535" y="607"/>
                  </a:lnTo>
                  <a:lnTo>
                    <a:pt x="1539" y="607"/>
                  </a:lnTo>
                  <a:lnTo>
                    <a:pt x="1539" y="603"/>
                  </a:lnTo>
                  <a:lnTo>
                    <a:pt x="1543" y="603"/>
                  </a:lnTo>
                  <a:lnTo>
                    <a:pt x="1547" y="603"/>
                  </a:lnTo>
                  <a:lnTo>
                    <a:pt x="1547" y="599"/>
                  </a:lnTo>
                  <a:lnTo>
                    <a:pt x="1550" y="599"/>
                  </a:lnTo>
                  <a:lnTo>
                    <a:pt x="1554" y="599"/>
                  </a:lnTo>
                  <a:lnTo>
                    <a:pt x="1558" y="599"/>
                  </a:lnTo>
                  <a:lnTo>
                    <a:pt x="1558" y="603"/>
                  </a:lnTo>
                  <a:lnTo>
                    <a:pt x="1562" y="603"/>
                  </a:lnTo>
                  <a:lnTo>
                    <a:pt x="1566" y="607"/>
                  </a:lnTo>
                  <a:lnTo>
                    <a:pt x="1569" y="607"/>
                  </a:lnTo>
                  <a:lnTo>
                    <a:pt x="1569" y="610"/>
                  </a:lnTo>
                  <a:lnTo>
                    <a:pt x="1573" y="610"/>
                  </a:lnTo>
                  <a:lnTo>
                    <a:pt x="1573" y="614"/>
                  </a:lnTo>
                  <a:lnTo>
                    <a:pt x="1577" y="618"/>
                  </a:lnTo>
                  <a:lnTo>
                    <a:pt x="1581" y="622"/>
                  </a:lnTo>
                  <a:lnTo>
                    <a:pt x="1581" y="626"/>
                  </a:lnTo>
                  <a:lnTo>
                    <a:pt x="1584" y="629"/>
                  </a:lnTo>
                  <a:lnTo>
                    <a:pt x="1588" y="633"/>
                  </a:lnTo>
                  <a:lnTo>
                    <a:pt x="1588" y="637"/>
                  </a:lnTo>
                  <a:lnTo>
                    <a:pt x="1592" y="637"/>
                  </a:lnTo>
                  <a:lnTo>
                    <a:pt x="1592" y="641"/>
                  </a:lnTo>
                  <a:lnTo>
                    <a:pt x="1596" y="641"/>
                  </a:lnTo>
                  <a:lnTo>
                    <a:pt x="1596" y="637"/>
                  </a:lnTo>
                  <a:lnTo>
                    <a:pt x="1600" y="633"/>
                  </a:lnTo>
                  <a:lnTo>
                    <a:pt x="1603" y="629"/>
                  </a:lnTo>
                  <a:lnTo>
                    <a:pt x="1603" y="626"/>
                  </a:lnTo>
                  <a:lnTo>
                    <a:pt x="1607" y="622"/>
                  </a:lnTo>
                  <a:lnTo>
                    <a:pt x="1611" y="618"/>
                  </a:lnTo>
                  <a:lnTo>
                    <a:pt x="1615" y="614"/>
                  </a:lnTo>
                  <a:lnTo>
                    <a:pt x="1615" y="610"/>
                  </a:lnTo>
                  <a:lnTo>
                    <a:pt x="1618" y="610"/>
                  </a:lnTo>
                  <a:lnTo>
                    <a:pt x="1618" y="607"/>
                  </a:lnTo>
                  <a:lnTo>
                    <a:pt x="1622" y="607"/>
                  </a:lnTo>
                  <a:lnTo>
                    <a:pt x="1622" y="603"/>
                  </a:lnTo>
                  <a:lnTo>
                    <a:pt x="1626" y="603"/>
                  </a:lnTo>
                  <a:lnTo>
                    <a:pt x="1630" y="603"/>
                  </a:lnTo>
                  <a:lnTo>
                    <a:pt x="1633" y="603"/>
                  </a:lnTo>
                </a:path>
              </a:pathLst>
            </a:custGeom>
            <a:noFill/>
            <a:ln cap="rnd" w="255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rot="16200000">
              <a:off x="3715920" y="5151240"/>
              <a:ext cx="2195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azlika amplitud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8413200" y="5011560"/>
              <a:ext cx="36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61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66" dur="5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1" dur="5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76" dur="500"/>
                                        <p:tgtEl>
                                          <p:spTgt spid="2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82400" y="457200"/>
            <a:ext cx="7086600" cy="12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Primjer - </a:t>
            </a:r>
            <a:r>
              <a:rPr b="0" lang="en-US" sz="4400" spc="-1" strike="noStrike">
                <a:solidFill>
                  <a:srgbClr val="00dfca"/>
                </a:solidFill>
                <a:latin typeface="Times New Roman"/>
              </a:rPr>
              <a:t>MATLAB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44400" y="2179800"/>
            <a:ext cx="3469680" cy="3137400"/>
            <a:chOff x="644400" y="2179800"/>
            <a:chExt cx="3469680" cy="3137400"/>
          </a:xfrm>
        </p:grpSpPr>
        <p:sp>
          <p:nvSpPr>
            <p:cNvPr id="143" name=""/>
            <p:cNvSpPr/>
            <p:nvPr/>
          </p:nvSpPr>
          <p:spPr>
            <a:xfrm>
              <a:off x="1279440" y="4664160"/>
              <a:ext cx="2651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79440" y="2606760"/>
              <a:ext cx="2651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279440" y="2606400"/>
              <a:ext cx="0" cy="20574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930480" y="2606400"/>
              <a:ext cx="0" cy="20574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79440" y="260676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79440" y="4664160"/>
              <a:ext cx="2651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279440" y="2606400"/>
              <a:ext cx="0" cy="20574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79440" y="4664160"/>
              <a:ext cx="2556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1279440" y="4638240"/>
              <a:ext cx="0" cy="255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79440" y="260676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11160" y="2606760"/>
              <a:ext cx="0" cy="237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38560" y="260676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71720" y="260676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97320" y="260676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30480" y="260676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79440" y="4664160"/>
              <a:ext cx="2376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085040" y="4653000"/>
              <a:ext cx="3029040" cy="397440"/>
              <a:chOff x="1085040" y="4653000"/>
              <a:chExt cx="3029040" cy="397440"/>
            </a:xfrm>
          </p:grpSpPr>
          <p:sp>
            <p:nvSpPr>
              <p:cNvPr id="160" name=""/>
              <p:cNvSpPr/>
              <p:nvPr/>
            </p:nvSpPr>
            <p:spPr>
              <a:xfrm>
                <a:off x="1085040" y="46530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720800" y="4791240"/>
                <a:ext cx="0" cy="2520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575720" y="465300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2235240" y="4791240"/>
                <a:ext cx="0" cy="2520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090160" y="465300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2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2754360" y="4791240"/>
                <a:ext cx="0" cy="2520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610720" y="465300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3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268800" y="4791240"/>
                <a:ext cx="0" cy="2520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125160" y="465300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4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3789360" y="4791240"/>
                <a:ext cx="0" cy="25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645720" y="465300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5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3765600" y="4816440"/>
                <a:ext cx="237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279440" y="43671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905280" y="436716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79440" y="40784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905280" y="407844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79440" y="37828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905280" y="378288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79440" y="34876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905280" y="348768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79440" y="31910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905280" y="319104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79440" y="29019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905280" y="290196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79440" y="26067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905280" y="260676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955080" y="2438280"/>
              <a:ext cx="326880" cy="2391480"/>
              <a:chOff x="955080" y="2438280"/>
              <a:chExt cx="326880" cy="2391480"/>
            </a:xfrm>
          </p:grpSpPr>
          <p:sp>
            <p:nvSpPr>
              <p:cNvPr id="187" name=""/>
              <p:cNvSpPr/>
              <p:nvPr/>
            </p:nvSpPr>
            <p:spPr>
              <a:xfrm>
                <a:off x="955080" y="443232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955080" y="41464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955080" y="38656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55080" y="357984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955080" y="329256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955080" y="30052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955080" y="272412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955080" y="24382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279440" y="4664160"/>
              <a:ext cx="2651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79440" y="2606760"/>
              <a:ext cx="2651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1279440" y="2606400"/>
              <a:ext cx="0" cy="20574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930480" y="2606400"/>
              <a:ext cx="0" cy="20574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79440" y="4664160"/>
              <a:ext cx="2556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60360" y="4645080"/>
              <a:ext cx="36720" cy="3636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16160" y="4114800"/>
              <a:ext cx="3636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65120" y="3692520"/>
              <a:ext cx="367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20920" y="3360600"/>
              <a:ext cx="349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74920" y="3102120"/>
              <a:ext cx="3636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23880" y="2908440"/>
              <a:ext cx="367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79680" y="2770200"/>
              <a:ext cx="3636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35120" y="2679840"/>
              <a:ext cx="349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82640" y="2619360"/>
              <a:ext cx="367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38440" y="2593800"/>
              <a:ext cx="36360" cy="367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93880" y="2593800"/>
              <a:ext cx="36360" cy="367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43200" y="2619360"/>
              <a:ext cx="3636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97200" y="2654280"/>
              <a:ext cx="36360" cy="3636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52640" y="2703600"/>
              <a:ext cx="3636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01960" y="2763720"/>
              <a:ext cx="3636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57400" y="2830680"/>
              <a:ext cx="3636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11400" y="2901960"/>
              <a:ext cx="36360" cy="3636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60720" y="2981160"/>
              <a:ext cx="3636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16160" y="3059280"/>
              <a:ext cx="3636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71600" y="3137040"/>
              <a:ext cx="36720" cy="3636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20920" y="3216240"/>
              <a:ext cx="349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74920" y="3294000"/>
              <a:ext cx="36360" cy="367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430360" y="3373560"/>
              <a:ext cx="367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79680" y="3444840"/>
              <a:ext cx="36360" cy="367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35120" y="3517920"/>
              <a:ext cx="349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89120" y="3589200"/>
              <a:ext cx="36720" cy="367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38440" y="3656160"/>
              <a:ext cx="36360" cy="3636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93880" y="3722760"/>
              <a:ext cx="367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43200" y="3782880"/>
              <a:ext cx="3636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97200" y="3843360"/>
              <a:ext cx="3636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52640" y="3897360"/>
              <a:ext cx="36720" cy="3636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01960" y="3951360"/>
              <a:ext cx="36360" cy="3636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57400" y="4000680"/>
              <a:ext cx="367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11400" y="4048200"/>
              <a:ext cx="36720" cy="3636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60720" y="4091040"/>
              <a:ext cx="3636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16160" y="4132440"/>
              <a:ext cx="36720" cy="3636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71960" y="4168800"/>
              <a:ext cx="36360" cy="3636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20920" y="4205160"/>
              <a:ext cx="349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74920" y="4235400"/>
              <a:ext cx="367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30720" y="4272120"/>
              <a:ext cx="3636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79680" y="4295880"/>
              <a:ext cx="367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35480" y="4325760"/>
              <a:ext cx="34920" cy="3528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89480" y="4349880"/>
              <a:ext cx="36360" cy="3636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38440" y="4373640"/>
              <a:ext cx="36720" cy="3636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94240" y="4392720"/>
              <a:ext cx="3636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49680" y="4416480"/>
              <a:ext cx="349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97200" y="4433760"/>
              <a:ext cx="36720" cy="367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53000" y="4452840"/>
              <a:ext cx="3636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8440" y="4464000"/>
              <a:ext cx="36360" cy="367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57760" y="4483080"/>
              <a:ext cx="3636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79440" y="4664160"/>
              <a:ext cx="2556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1333440" y="4132080"/>
              <a:ext cx="0" cy="5317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1382760" y="3710160"/>
              <a:ext cx="0" cy="9540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1438200" y="3378240"/>
              <a:ext cx="0" cy="12859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1494000" y="3119040"/>
              <a:ext cx="0" cy="15447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1542960" y="2925360"/>
              <a:ext cx="0" cy="173844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1596960" y="2787120"/>
              <a:ext cx="0" cy="18766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1652760" y="2697120"/>
              <a:ext cx="0" cy="196704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1701720" y="2636640"/>
              <a:ext cx="0" cy="20271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1757520" y="2612880"/>
              <a:ext cx="0" cy="20512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1811160" y="2612880"/>
              <a:ext cx="0" cy="20512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860480" y="2636640"/>
              <a:ext cx="0" cy="20271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1916280" y="2673360"/>
              <a:ext cx="0" cy="19908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1971720" y="2720880"/>
              <a:ext cx="0" cy="19432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019240" y="2781360"/>
              <a:ext cx="0" cy="18828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2075040" y="2847600"/>
              <a:ext cx="0" cy="18162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2130480" y="2918880"/>
              <a:ext cx="0" cy="17449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2179800" y="2998800"/>
              <a:ext cx="0" cy="16653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2233440" y="3076560"/>
              <a:ext cx="0" cy="15876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2289240" y="3155760"/>
              <a:ext cx="0" cy="150804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2338560" y="3233520"/>
              <a:ext cx="0" cy="14302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394000" y="3311280"/>
              <a:ext cx="0" cy="1352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48000" y="3390480"/>
              <a:ext cx="0" cy="1273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2496960" y="3462480"/>
              <a:ext cx="0" cy="12016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2552760" y="3535200"/>
              <a:ext cx="0" cy="11289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2608200" y="3607920"/>
              <a:ext cx="0" cy="10558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657520" y="3673440"/>
              <a:ext cx="0" cy="9907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2711520" y="3739680"/>
              <a:ext cx="0" cy="9241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2760840" y="3800160"/>
              <a:ext cx="0" cy="86364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816280" y="3860640"/>
              <a:ext cx="0" cy="803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2871720" y="3914640"/>
              <a:ext cx="0" cy="74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2919240" y="3970080"/>
              <a:ext cx="0" cy="6937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2975040" y="4017600"/>
              <a:ext cx="0" cy="6462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3030480" y="4065120"/>
              <a:ext cx="0" cy="5986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079800" y="4108320"/>
              <a:ext cx="0" cy="55584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133800" y="4150800"/>
              <a:ext cx="0" cy="5130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3189240" y="4186080"/>
              <a:ext cx="0" cy="4780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3238560" y="4222800"/>
              <a:ext cx="0" cy="4413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294000" y="4253040"/>
              <a:ext cx="0" cy="4111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348000" y="4289040"/>
              <a:ext cx="0" cy="3747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397320" y="4312800"/>
              <a:ext cx="0" cy="3510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3452760" y="4343040"/>
              <a:ext cx="0" cy="3207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3508200" y="4366800"/>
              <a:ext cx="0" cy="2970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557520" y="4392720"/>
              <a:ext cx="0" cy="27144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3611520" y="4410000"/>
              <a:ext cx="0" cy="2541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3666960" y="4433760"/>
              <a:ext cx="0" cy="2304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3716280" y="4452480"/>
              <a:ext cx="0" cy="211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772080" y="4470480"/>
              <a:ext cx="0" cy="1936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3825720" y="4482720"/>
              <a:ext cx="0" cy="1810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3875040" y="4500720"/>
              <a:ext cx="0" cy="16344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20560" y="4919760"/>
              <a:ext cx="2367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vremenski indeks 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6200000">
              <a:off x="198720" y="340920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79680" y="2179800"/>
              <a:ext cx="188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afd00"/>
                  </a:solidFill>
                  <a:latin typeface="Arial"/>
                </a:rPr>
                <a:t>orginalni sign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79440" y="4664160"/>
              <a:ext cx="2651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951440" y="2163600"/>
            <a:ext cx="3735360" cy="3153600"/>
            <a:chOff x="4951440" y="2163600"/>
            <a:chExt cx="3735360" cy="3153600"/>
          </a:xfrm>
        </p:grpSpPr>
        <p:sp>
          <p:nvSpPr>
            <p:cNvPr id="305" name=""/>
            <p:cNvSpPr/>
            <p:nvPr/>
          </p:nvSpPr>
          <p:spPr>
            <a:xfrm>
              <a:off x="5769000" y="4664160"/>
              <a:ext cx="261288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769000" y="2606760"/>
              <a:ext cx="261288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5769000" y="2606400"/>
              <a:ext cx="0" cy="20574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8381880" y="2606400"/>
              <a:ext cx="0" cy="20574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69000" y="2606760"/>
              <a:ext cx="2520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769000" y="4664160"/>
              <a:ext cx="261288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5769000" y="2606400"/>
              <a:ext cx="0" cy="20574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69000" y="4664160"/>
              <a:ext cx="2520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5769000" y="4638240"/>
              <a:ext cx="0" cy="255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69000" y="2606760"/>
              <a:ext cx="0" cy="237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576760" y="4653000"/>
              <a:ext cx="370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292800" y="4638240"/>
              <a:ext cx="0" cy="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92800" y="260676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70680" y="4653000"/>
              <a:ext cx="527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6811920" y="4638240"/>
              <a:ext cx="0" cy="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11920" y="260676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589800" y="4653000"/>
              <a:ext cx="527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7337520" y="4638240"/>
              <a:ext cx="0" cy="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37520" y="260676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15040" y="4653000"/>
              <a:ext cx="527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7856640" y="4638240"/>
              <a:ext cx="0" cy="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856640" y="260676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34160" y="4653000"/>
              <a:ext cx="527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8381880" y="4638240"/>
              <a:ext cx="0" cy="255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381880" y="2606760"/>
              <a:ext cx="0" cy="237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159760" y="4653000"/>
              <a:ext cx="527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5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69000" y="4664160"/>
              <a:ext cx="2376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358120" y="4664160"/>
              <a:ext cx="2376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69000" y="44578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8358120" y="44578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84000" y="4292640"/>
              <a:ext cx="623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0.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69000" y="42530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8358120" y="42530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769000" y="40482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358120" y="40482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81480" y="3867120"/>
              <a:ext cx="666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0.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69000" y="38433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8358120" y="38433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69000" y="3638520"/>
              <a:ext cx="2376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8358120" y="3638520"/>
              <a:ext cx="2376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45000" y="3456000"/>
              <a:ext cx="241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69000" y="34275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8358120" y="34275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69000" y="322092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8358120" y="322092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57800" y="3040200"/>
              <a:ext cx="587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.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69000" y="30160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8358120" y="30160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69000" y="2811600"/>
              <a:ext cx="2376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8358120" y="28116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57800" y="2630520"/>
              <a:ext cx="587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.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69000" y="2606760"/>
              <a:ext cx="2376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8358120" y="2606760"/>
              <a:ext cx="2376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69000" y="4664160"/>
              <a:ext cx="26128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69000" y="2606760"/>
              <a:ext cx="26128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5769000" y="2606400"/>
              <a:ext cx="0" cy="20574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8381880" y="2606400"/>
              <a:ext cx="0" cy="20574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769000" y="466416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51360" y="2787480"/>
              <a:ext cx="349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05360" y="3608280"/>
              <a:ext cx="349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53240" y="3584520"/>
              <a:ext cx="3636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907240" y="3987720"/>
              <a:ext cx="36360" cy="367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962680" y="2619360"/>
              <a:ext cx="349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10200" y="3632040"/>
              <a:ext cx="349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64200" y="4097160"/>
              <a:ext cx="36720" cy="3528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18200" y="4459320"/>
              <a:ext cx="3636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167520" y="2697120"/>
              <a:ext cx="349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221520" y="4494240"/>
              <a:ext cx="34920" cy="3636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275520" y="3614760"/>
              <a:ext cx="3636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24480" y="3855960"/>
              <a:ext cx="349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78480" y="4078440"/>
              <a:ext cx="34920" cy="3636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32480" y="2763720"/>
              <a:ext cx="367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81800" y="3554280"/>
              <a:ext cx="349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535800" y="3692520"/>
              <a:ext cx="349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89800" y="2709720"/>
              <a:ext cx="349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37320" y="4543560"/>
              <a:ext cx="3636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92760" y="3076560"/>
              <a:ext cx="34920" cy="3636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746760" y="3059280"/>
              <a:ext cx="349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794640" y="2944800"/>
              <a:ext cx="3636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48640" y="4386240"/>
              <a:ext cx="3636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904080" y="4614840"/>
              <a:ext cx="34920" cy="3636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951600" y="3227400"/>
              <a:ext cx="34920" cy="3636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005600" y="2860560"/>
              <a:ext cx="367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061040" y="3348000"/>
              <a:ext cx="34920" cy="367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108920" y="3132000"/>
              <a:ext cx="349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162920" y="3156120"/>
              <a:ext cx="3636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11880" y="2589120"/>
              <a:ext cx="349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65880" y="2817720"/>
              <a:ext cx="349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319880" y="4162320"/>
              <a:ext cx="34920" cy="367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67760" y="4017960"/>
              <a:ext cx="36360" cy="3636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423200" y="3921120"/>
              <a:ext cx="34920" cy="3636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477200" y="3589200"/>
              <a:ext cx="34920" cy="367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720" y="3427560"/>
              <a:ext cx="367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78720" y="2908440"/>
              <a:ext cx="3636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634160" y="3795840"/>
              <a:ext cx="349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82040" y="2914560"/>
              <a:ext cx="3636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736040" y="4091040"/>
              <a:ext cx="3636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791480" y="3789360"/>
              <a:ext cx="349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839000" y="3541680"/>
              <a:ext cx="349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893000" y="3679920"/>
              <a:ext cx="36720" cy="3636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947000" y="4054320"/>
              <a:ext cx="3636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996320" y="4278240"/>
              <a:ext cx="349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050320" y="4332240"/>
              <a:ext cx="349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04320" y="3468600"/>
              <a:ext cx="36360" cy="367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153280" y="2992320"/>
              <a:ext cx="34920" cy="367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207280" y="4579920"/>
              <a:ext cx="349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261280" y="3548160"/>
              <a:ext cx="34920" cy="349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308800" y="3619440"/>
              <a:ext cx="36720" cy="36720"/>
            </a:xfrm>
            <a:prstGeom prst="ellipse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5769000" y="2804760"/>
              <a:ext cx="0" cy="8334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5823000" y="3625560"/>
              <a:ext cx="0" cy="126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870520" y="3601800"/>
              <a:ext cx="0" cy="363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25960" y="3638520"/>
              <a:ext cx="0" cy="36684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979960" y="2637000"/>
              <a:ext cx="0" cy="1001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27840" y="3638520"/>
              <a:ext cx="0" cy="111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81840" y="3638520"/>
              <a:ext cx="0" cy="4762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137280" y="3638520"/>
              <a:ext cx="0" cy="8380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6184800" y="2714760"/>
              <a:ext cx="0" cy="9237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238800" y="3638520"/>
              <a:ext cx="0" cy="8748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6292800" y="3632040"/>
              <a:ext cx="0" cy="64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342120" y="3638520"/>
              <a:ext cx="0" cy="2350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96120" y="3638520"/>
              <a:ext cx="0" cy="4572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6450120" y="2781000"/>
              <a:ext cx="0" cy="8571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6499080" y="3571560"/>
              <a:ext cx="0" cy="666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53080" y="3638520"/>
              <a:ext cx="0" cy="7164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607080" y="2727000"/>
              <a:ext cx="0" cy="9111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656400" y="3638520"/>
              <a:ext cx="0" cy="922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6710400" y="3095640"/>
              <a:ext cx="0" cy="5428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6764400" y="3076200"/>
              <a:ext cx="0" cy="5619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6811920" y="2962440"/>
              <a:ext cx="0" cy="6760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867360" y="3638520"/>
              <a:ext cx="0" cy="7653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21360" y="3638520"/>
              <a:ext cx="0" cy="9954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969240" y="3246120"/>
              <a:ext cx="0" cy="39204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7024680" y="2878200"/>
              <a:ext cx="0" cy="760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7078680" y="3367080"/>
              <a:ext cx="0" cy="27144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126200" y="3149640"/>
              <a:ext cx="0" cy="4888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7180200" y="3173400"/>
              <a:ext cx="0" cy="4651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7229520" y="2606760"/>
              <a:ext cx="0" cy="10317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7283520" y="2835000"/>
              <a:ext cx="0" cy="8031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37520" y="3638520"/>
              <a:ext cx="0" cy="5428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86480" y="3638520"/>
              <a:ext cx="0" cy="3970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440480" y="3638520"/>
              <a:ext cx="0" cy="3016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7494480" y="3608280"/>
              <a:ext cx="0" cy="3024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7542360" y="3444840"/>
              <a:ext cx="0" cy="1936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7597800" y="2925720"/>
              <a:ext cx="0" cy="7128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51800" y="3638520"/>
              <a:ext cx="0" cy="1746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7699320" y="2932200"/>
              <a:ext cx="0" cy="706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54760" y="3638520"/>
              <a:ext cx="0" cy="4698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08760" y="3638520"/>
              <a:ext cx="0" cy="1684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856640" y="3559320"/>
              <a:ext cx="0" cy="792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910640" y="3638520"/>
              <a:ext cx="0" cy="604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966080" y="3638520"/>
              <a:ext cx="0" cy="43344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013600" y="3638520"/>
              <a:ext cx="0" cy="6573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67600" y="3638520"/>
              <a:ext cx="0" cy="7113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8121600" y="3487320"/>
              <a:ext cx="0" cy="15084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8170920" y="3009960"/>
              <a:ext cx="0" cy="6285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224920" y="3638520"/>
              <a:ext cx="0" cy="95904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8278920" y="3565080"/>
              <a:ext cx="0" cy="730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327880" y="3638520"/>
              <a:ext cx="2556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97520" y="4919760"/>
              <a:ext cx="2367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vremenski indeks 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4505760" y="340920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43880" y="2163600"/>
              <a:ext cx="723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šu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769000" y="3638520"/>
              <a:ext cx="26128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Tipovi vremenskih otvora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dfca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ravokut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dfca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Bartlettov (trokutn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dfca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Hann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dfca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Hammin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dfca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Blackman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4" name=""/>
          <p:cNvGrpSpPr/>
          <p:nvPr/>
        </p:nvGrpSpPr>
        <p:grpSpPr>
          <a:xfrm>
            <a:off x="4724280" y="2057400"/>
            <a:ext cx="381240" cy="2743200"/>
            <a:chOff x="4724280" y="2057400"/>
            <a:chExt cx="381240" cy="2743200"/>
          </a:xfrm>
        </p:grpSpPr>
        <p:sp>
          <p:nvSpPr>
            <p:cNvPr id="2425" name=""/>
            <p:cNvSpPr/>
            <p:nvPr/>
          </p:nvSpPr>
          <p:spPr>
            <a:xfrm>
              <a:off x="4724280" y="2057400"/>
              <a:ext cx="381240" cy="0"/>
            </a:xfrm>
            <a:prstGeom prst="line">
              <a:avLst/>
            </a:prstGeom>
            <a:ln w="50760">
              <a:solidFill>
                <a:srgbClr val="00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4724280" y="4800600"/>
              <a:ext cx="381240" cy="0"/>
            </a:xfrm>
            <a:prstGeom prst="line">
              <a:avLst/>
            </a:prstGeom>
            <a:ln w="50760">
              <a:solidFill>
                <a:srgbClr val="00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105520" y="2057400"/>
              <a:ext cx="0" cy="2743200"/>
            </a:xfrm>
            <a:prstGeom prst="line">
              <a:avLst/>
            </a:prstGeom>
            <a:ln w="50760">
              <a:solidFill>
                <a:srgbClr val="00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8" name=""/>
          <p:cNvSpPr/>
          <p:nvPr/>
        </p:nvSpPr>
        <p:spPr>
          <a:xfrm>
            <a:off x="5774040" y="2909880"/>
            <a:ext cx="2646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66"/>
                </a:solidFill>
                <a:latin typeface="Times New Roman"/>
              </a:rPr>
              <a:t>Fiksni vremens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66"/>
                </a:solidFill>
                <a:latin typeface="Times New Roman"/>
              </a:rPr>
              <a:t>otvo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685800" y="487512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dfca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Dolph-Chebyshevlje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dfca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Kaiser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0" name=""/>
          <p:cNvGrpSpPr/>
          <p:nvPr/>
        </p:nvGrpSpPr>
        <p:grpSpPr>
          <a:xfrm>
            <a:off x="4724280" y="4876920"/>
            <a:ext cx="381240" cy="1066680"/>
            <a:chOff x="4724280" y="4876920"/>
            <a:chExt cx="381240" cy="1066680"/>
          </a:xfrm>
        </p:grpSpPr>
        <p:sp>
          <p:nvSpPr>
            <p:cNvPr id="2431" name=""/>
            <p:cNvSpPr/>
            <p:nvPr/>
          </p:nvSpPr>
          <p:spPr>
            <a:xfrm>
              <a:off x="4724280" y="4876920"/>
              <a:ext cx="381240" cy="0"/>
            </a:xfrm>
            <a:prstGeom prst="line">
              <a:avLst/>
            </a:prstGeom>
            <a:ln w="50760">
              <a:solidFill>
                <a:srgbClr val="00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4724280" y="5943600"/>
              <a:ext cx="381240" cy="0"/>
            </a:xfrm>
            <a:prstGeom prst="line">
              <a:avLst/>
            </a:prstGeom>
            <a:ln w="50760">
              <a:solidFill>
                <a:srgbClr val="00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105520" y="4876920"/>
              <a:ext cx="0" cy="1066680"/>
            </a:xfrm>
            <a:prstGeom prst="line">
              <a:avLst/>
            </a:prstGeom>
            <a:ln w="50760">
              <a:solidFill>
                <a:srgbClr val="00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4" name=""/>
          <p:cNvSpPr/>
          <p:nvPr/>
        </p:nvSpPr>
        <p:spPr>
          <a:xfrm>
            <a:off x="5385240" y="4967280"/>
            <a:ext cx="3435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66"/>
                </a:solidFill>
                <a:latin typeface="Times New Roman"/>
              </a:rPr>
              <a:t>Promjenjivi vremens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66"/>
                </a:solidFill>
                <a:latin typeface="Times New Roman"/>
              </a:rPr>
              <a:t>otvo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7" dur="500"/>
                                        <p:tgtEl>
                                          <p:spTgt spid="2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Fiksni vremenski otvori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grpSp>
        <p:nvGrpSpPr>
          <p:cNvPr id="2436" name=""/>
          <p:cNvGrpSpPr/>
          <p:nvPr/>
        </p:nvGrpSpPr>
        <p:grpSpPr>
          <a:xfrm>
            <a:off x="133920" y="1919160"/>
            <a:ext cx="4725360" cy="1581120"/>
            <a:chOff x="133920" y="1919160"/>
            <a:chExt cx="4725360" cy="1581120"/>
          </a:xfrm>
        </p:grpSpPr>
        <p:graphicFrame>
          <p:nvGraphicFramePr>
            <p:cNvPr id="2437" name=""/>
            <p:cNvGraphicFramePr/>
            <p:nvPr/>
          </p:nvGraphicFramePr>
          <p:xfrm>
            <a:off x="668160" y="2846520"/>
            <a:ext cx="4191120" cy="653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8160" y="2846520"/>
                      <a:ext cx="4191120" cy="65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39" name=""/>
            <p:cNvSpPr/>
            <p:nvPr/>
          </p:nvSpPr>
          <p:spPr>
            <a:xfrm>
              <a:off x="133920" y="1919160"/>
              <a:ext cx="4159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Pravokutni vremenski otvo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0" name=""/>
          <p:cNvGrpSpPr/>
          <p:nvPr/>
        </p:nvGrpSpPr>
        <p:grpSpPr>
          <a:xfrm>
            <a:off x="5099760" y="1766880"/>
            <a:ext cx="4124880" cy="2569320"/>
            <a:chOff x="5099760" y="1766880"/>
            <a:chExt cx="4124880" cy="2569320"/>
          </a:xfrm>
        </p:grpSpPr>
        <p:sp>
          <p:nvSpPr>
            <p:cNvPr id="2441" name=""/>
            <p:cNvSpPr/>
            <p:nvPr/>
          </p:nvSpPr>
          <p:spPr>
            <a:xfrm flipV="1">
              <a:off x="5611680" y="1936440"/>
              <a:ext cx="0" cy="2035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V="1">
              <a:off x="6256440" y="1936440"/>
              <a:ext cx="0" cy="2035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V="1">
              <a:off x="6907320" y="1936440"/>
              <a:ext cx="0" cy="2035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V="1">
              <a:off x="7553160" y="1936440"/>
              <a:ext cx="0" cy="2035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V="1">
              <a:off x="8197920" y="1936440"/>
              <a:ext cx="0" cy="2035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611680" y="397188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611680" y="356544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611680" y="316080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611680" y="274788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611680" y="234324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611680" y="193680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611680" y="1936800"/>
              <a:ext cx="2587680" cy="2036880"/>
            </a:xfrm>
            <a:custGeom>
              <a:avLst/>
              <a:gdLst/>
              <a:ahLst/>
              <a:rect l="l" t="t" r="r" b="b"/>
              <a:pathLst>
                <a:path w="1630" h="1283">
                  <a:moveTo>
                    <a:pt x="0" y="1282"/>
                  </a:moveTo>
                  <a:lnTo>
                    <a:pt x="0" y="0"/>
                  </a:lnTo>
                  <a:lnTo>
                    <a:pt x="162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611680" y="1936800"/>
              <a:ext cx="2587680" cy="2036880"/>
            </a:xfrm>
            <a:custGeom>
              <a:avLst/>
              <a:gdLst/>
              <a:ahLst/>
              <a:rect l="l" t="t" r="r" b="b"/>
              <a:pathLst>
                <a:path w="1630" h="1283">
                  <a:moveTo>
                    <a:pt x="0" y="1282"/>
                  </a:moveTo>
                  <a:lnTo>
                    <a:pt x="0" y="0"/>
                  </a:lnTo>
                  <a:lnTo>
                    <a:pt x="162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611680" y="1936800"/>
              <a:ext cx="2587680" cy="2036880"/>
            </a:xfrm>
            <a:custGeom>
              <a:avLst/>
              <a:gdLst/>
              <a:ahLst/>
              <a:rect l="l" t="t" r="r" b="b"/>
              <a:pathLst>
                <a:path w="1630" h="1283">
                  <a:moveTo>
                    <a:pt x="0" y="1282"/>
                  </a:moveTo>
                  <a:lnTo>
                    <a:pt x="0" y="0"/>
                  </a:lnTo>
                  <a:lnTo>
                    <a:pt x="162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611680" y="397188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611680" y="193680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V="1">
              <a:off x="5611680" y="1936440"/>
              <a:ext cx="0" cy="2035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V="1">
              <a:off x="8197920" y="1936440"/>
              <a:ext cx="0" cy="2035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611680" y="193680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8197920" y="397188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611680" y="397188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 flipV="1">
              <a:off x="5611680" y="1936440"/>
              <a:ext cx="0" cy="2035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611680" y="397188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V="1">
              <a:off x="5611680" y="39481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611680" y="1936800"/>
              <a:ext cx="0" cy="2520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V="1">
              <a:off x="6256440" y="39481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256440" y="1936800"/>
              <a:ext cx="0" cy="2520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 flipV="1">
              <a:off x="6907320" y="39481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907320" y="1936800"/>
              <a:ext cx="0" cy="2520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V="1">
              <a:off x="7553160" y="39481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7553160" y="1936800"/>
              <a:ext cx="0" cy="2520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V="1">
              <a:off x="8197920" y="39481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8197920" y="1936800"/>
              <a:ext cx="0" cy="2520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5357880" y="393876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050520" y="3938760"/>
              <a:ext cx="412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755760" y="39387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7401960" y="39387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7992360" y="393876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5611680" y="397188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 flipH="1">
              <a:off x="8174160" y="39718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611680" y="376884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 flipH="1">
              <a:off x="8174160" y="37688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611680" y="356544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 flipH="1">
              <a:off x="8174160" y="35654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611680" y="336240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 flipH="1">
              <a:off x="8174160" y="33624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5611680" y="316080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flipH="1">
              <a:off x="8174160" y="31608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5611680" y="295740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flipH="1">
              <a:off x="8174160" y="29574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611680" y="274788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 flipH="1">
              <a:off x="8174160" y="27478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5611680" y="254628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 flipH="1">
              <a:off x="8174160" y="25462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5611680" y="234324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 flipH="1">
              <a:off x="8174160" y="23432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5611680" y="213984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 flipH="1">
              <a:off x="8174160" y="21398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611680" y="1936800"/>
              <a:ext cx="2412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 flipH="1">
              <a:off x="8174160" y="1936800"/>
              <a:ext cx="237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1" name=""/>
            <p:cNvGrpSpPr/>
            <p:nvPr/>
          </p:nvGrpSpPr>
          <p:grpSpPr>
            <a:xfrm>
              <a:off x="5099760" y="1766880"/>
              <a:ext cx="538560" cy="2431080"/>
              <a:chOff x="5099760" y="1766880"/>
              <a:chExt cx="538560" cy="2431080"/>
            </a:xfrm>
          </p:grpSpPr>
          <p:sp>
            <p:nvSpPr>
              <p:cNvPr id="2502" name=""/>
              <p:cNvSpPr/>
              <p:nvPr/>
            </p:nvSpPr>
            <p:spPr>
              <a:xfrm>
                <a:off x="5177880" y="380052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5099760" y="339408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5099760" y="298944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5099760" y="257796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5099760" y="217188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5177880" y="17668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08" name=""/>
            <p:cNvSpPr/>
            <p:nvPr/>
          </p:nvSpPr>
          <p:spPr>
            <a:xfrm>
              <a:off x="5611680" y="397188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5611680" y="193680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 flipV="1">
              <a:off x="5611680" y="1936440"/>
              <a:ext cx="0" cy="2035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V="1">
              <a:off x="8197920" y="1936440"/>
              <a:ext cx="0" cy="2035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611680" y="397188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8197920" y="193680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600880" y="1925640"/>
              <a:ext cx="2196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732640" y="1925640"/>
              <a:ext cx="2196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857920" y="1925640"/>
              <a:ext cx="2232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987880" y="1925640"/>
              <a:ext cx="2412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6119640" y="1925640"/>
              <a:ext cx="2232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245280" y="1925640"/>
              <a:ext cx="2232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377040" y="1925640"/>
              <a:ext cx="2232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508800" y="1925640"/>
              <a:ext cx="2232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6634080" y="1925640"/>
              <a:ext cx="2232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765840" y="1925640"/>
              <a:ext cx="2232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896160" y="1925640"/>
              <a:ext cx="2232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7021440" y="1925640"/>
              <a:ext cx="2232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7153200" y="1925640"/>
              <a:ext cx="2232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7278840" y="1925640"/>
              <a:ext cx="2196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7410600" y="1925640"/>
              <a:ext cx="2196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7542360" y="1925640"/>
              <a:ext cx="2196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667640" y="1925640"/>
              <a:ext cx="2232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7797960" y="1925640"/>
              <a:ext cx="2376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929720" y="1925640"/>
              <a:ext cx="2196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8055000" y="1925640"/>
              <a:ext cx="2232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8186760" y="1925640"/>
              <a:ext cx="2232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 flipV="1">
              <a:off x="5611680" y="1936440"/>
              <a:ext cx="0" cy="20350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 flipV="1">
              <a:off x="5743440" y="1936440"/>
              <a:ext cx="0" cy="20350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 flipV="1">
              <a:off x="5869080" y="1936440"/>
              <a:ext cx="0" cy="20350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V="1">
              <a:off x="5999040" y="1936440"/>
              <a:ext cx="0" cy="20350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 flipV="1">
              <a:off x="6130800" y="1936440"/>
              <a:ext cx="0" cy="20350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V="1">
              <a:off x="6256440" y="1936440"/>
              <a:ext cx="0" cy="20350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 flipV="1">
              <a:off x="6388200" y="1936440"/>
              <a:ext cx="0" cy="20350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V="1">
              <a:off x="6519960" y="1936440"/>
              <a:ext cx="0" cy="20350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 flipV="1">
              <a:off x="6645240" y="1936440"/>
              <a:ext cx="0" cy="20350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 flipV="1">
              <a:off x="6777000" y="1936440"/>
              <a:ext cx="0" cy="20350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V="1">
              <a:off x="6907320" y="1936440"/>
              <a:ext cx="0" cy="20350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 flipV="1">
              <a:off x="7032600" y="1936440"/>
              <a:ext cx="0" cy="20350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V="1">
              <a:off x="7164360" y="1936440"/>
              <a:ext cx="0" cy="20350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 flipV="1">
              <a:off x="7289640" y="1936440"/>
              <a:ext cx="0" cy="20350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 flipV="1">
              <a:off x="7421400" y="1936440"/>
              <a:ext cx="0" cy="20350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 flipV="1">
              <a:off x="7553160" y="1936440"/>
              <a:ext cx="0" cy="20350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 flipV="1">
              <a:off x="7678800" y="1936440"/>
              <a:ext cx="0" cy="20350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7810560" y="1936440"/>
              <a:ext cx="0" cy="20350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V="1">
              <a:off x="7940520" y="1936440"/>
              <a:ext cx="0" cy="20350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 flipV="1">
              <a:off x="8066160" y="1936440"/>
              <a:ext cx="0" cy="20350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 flipV="1">
              <a:off x="8197920" y="1936440"/>
              <a:ext cx="0" cy="20350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8315640" y="3502080"/>
              <a:ext cx="909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Uzorc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611680" y="3971880"/>
              <a:ext cx="3449880" cy="4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8" name=""/>
          <p:cNvGrpSpPr/>
          <p:nvPr/>
        </p:nvGrpSpPr>
        <p:grpSpPr>
          <a:xfrm>
            <a:off x="133560" y="4129200"/>
            <a:ext cx="4017960" cy="2284200"/>
            <a:chOff x="133560" y="4129200"/>
            <a:chExt cx="4017960" cy="2284200"/>
          </a:xfrm>
        </p:grpSpPr>
        <p:graphicFrame>
          <p:nvGraphicFramePr>
            <p:cNvPr id="2559" name=""/>
            <p:cNvGraphicFramePr/>
            <p:nvPr/>
          </p:nvGraphicFramePr>
          <p:xfrm>
            <a:off x="1017720" y="4876920"/>
            <a:ext cx="2860560" cy="1536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17720" y="4876920"/>
                      <a:ext cx="2860560" cy="153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61" name=""/>
            <p:cNvSpPr/>
            <p:nvPr/>
          </p:nvSpPr>
          <p:spPr>
            <a:xfrm>
              <a:off x="133560" y="4129200"/>
              <a:ext cx="4017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Bartlettov vremenski otvo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2" name=""/>
          <p:cNvGrpSpPr/>
          <p:nvPr/>
        </p:nvGrpSpPr>
        <p:grpSpPr>
          <a:xfrm>
            <a:off x="5077440" y="4254480"/>
            <a:ext cx="4113720" cy="2602440"/>
            <a:chOff x="5077440" y="4254480"/>
            <a:chExt cx="4113720" cy="2602440"/>
          </a:xfrm>
        </p:grpSpPr>
        <p:sp>
          <p:nvSpPr>
            <p:cNvPr id="2563" name=""/>
            <p:cNvSpPr/>
            <p:nvPr/>
          </p:nvSpPr>
          <p:spPr>
            <a:xfrm>
              <a:off x="5370840" y="645948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6053400" y="6459480"/>
              <a:ext cx="412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6747840" y="64594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7393680" y="64594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7974720" y="645948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V="1">
              <a:off x="5613480" y="4437000"/>
              <a:ext cx="0" cy="2038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 flipV="1">
              <a:off x="6259680" y="4437000"/>
              <a:ext cx="0" cy="20383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V="1">
              <a:off x="6912000" y="4437000"/>
              <a:ext cx="0" cy="2038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V="1">
              <a:off x="7558200" y="4437000"/>
              <a:ext cx="0" cy="20383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 flipV="1">
              <a:off x="8205840" y="4437000"/>
              <a:ext cx="0" cy="2038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5613480" y="647532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613480" y="606888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5613480" y="566244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5613480" y="524988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5613480" y="484344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5613480" y="443700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5613480" y="4437000"/>
              <a:ext cx="2593800" cy="2040120"/>
            </a:xfrm>
            <a:custGeom>
              <a:avLst/>
              <a:gdLst/>
              <a:ahLst/>
              <a:rect l="l" t="t" r="r" b="b"/>
              <a:pathLst>
                <a:path w="1634" h="1285">
                  <a:moveTo>
                    <a:pt x="0" y="1284"/>
                  </a:moveTo>
                  <a:lnTo>
                    <a:pt x="0" y="0"/>
                  </a:lnTo>
                  <a:lnTo>
                    <a:pt x="1633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613480" y="4437000"/>
              <a:ext cx="2593800" cy="2040120"/>
            </a:xfrm>
            <a:custGeom>
              <a:avLst/>
              <a:gdLst/>
              <a:ahLst/>
              <a:rect l="l" t="t" r="r" b="b"/>
              <a:pathLst>
                <a:path w="1634" h="1285">
                  <a:moveTo>
                    <a:pt x="0" y="1284"/>
                  </a:moveTo>
                  <a:lnTo>
                    <a:pt x="0" y="0"/>
                  </a:lnTo>
                  <a:lnTo>
                    <a:pt x="1633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613480" y="4437000"/>
              <a:ext cx="2593800" cy="2040120"/>
            </a:xfrm>
            <a:custGeom>
              <a:avLst/>
              <a:gdLst/>
              <a:ahLst/>
              <a:rect l="l" t="t" r="r" b="b"/>
              <a:pathLst>
                <a:path w="1634" h="1285">
                  <a:moveTo>
                    <a:pt x="0" y="1284"/>
                  </a:moveTo>
                  <a:lnTo>
                    <a:pt x="0" y="0"/>
                  </a:lnTo>
                  <a:lnTo>
                    <a:pt x="1633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5613480" y="647532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5613480" y="443700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 flipV="1">
              <a:off x="5613480" y="4437000"/>
              <a:ext cx="0" cy="2038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 flipV="1">
              <a:off x="8205840" y="4437000"/>
              <a:ext cx="0" cy="2038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5613480" y="443700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8205840" y="646272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5613480" y="647532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V="1">
              <a:off x="5613480" y="4437000"/>
              <a:ext cx="0" cy="2038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613480" y="647532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 flipV="1">
              <a:off x="5613480" y="6451560"/>
              <a:ext cx="0" cy="237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613480" y="443700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 flipV="1">
              <a:off x="6259680" y="645156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6259680" y="443700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 flipV="1">
              <a:off x="6912000" y="645156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912000" y="4448160"/>
              <a:ext cx="0" cy="237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 flipV="1">
              <a:off x="7558200" y="645156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558200" y="443700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 flipV="1">
              <a:off x="8205840" y="6438960"/>
              <a:ext cx="0" cy="237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8205840" y="443700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613480" y="6475320"/>
              <a:ext cx="237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 flipH="1">
              <a:off x="8179920" y="646272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5613480" y="62722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 flipH="1">
              <a:off x="8179920" y="627228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5613480" y="60688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 flipH="1">
              <a:off x="8179920" y="606888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5613480" y="58658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 flipH="1">
              <a:off x="8179920" y="586584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5613480" y="56624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 flipH="1">
              <a:off x="8179920" y="566244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613480" y="54594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 flipH="1">
              <a:off x="8179920" y="545940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613480" y="52498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 flipH="1">
              <a:off x="8179920" y="524988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613480" y="50468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 flipH="1">
              <a:off x="8179920" y="504684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613480" y="48434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 flipH="1">
              <a:off x="8179920" y="484344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5613480" y="46404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 flipH="1">
              <a:off x="8179920" y="464040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5613480" y="44370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 flipH="1">
              <a:off x="8179920" y="443700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5613480" y="647532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5613480" y="443700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 flipV="1">
              <a:off x="5613480" y="4437000"/>
              <a:ext cx="0" cy="2038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 flipV="1">
              <a:off x="8205840" y="4460760"/>
              <a:ext cx="0" cy="2038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613480" y="647532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5600880" y="646416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5732640" y="6248520"/>
              <a:ext cx="23760" cy="219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5859360" y="604512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5991120" y="584208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6122880" y="563868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6248520" y="543564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6380280" y="522612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6512040" y="502272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6637320" y="481968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6769080" y="461628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6900840" y="443700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7026120" y="4640400"/>
              <a:ext cx="22320" cy="219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157880" y="484344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7283520" y="5046840"/>
              <a:ext cx="22320" cy="219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7415280" y="524988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7547040" y="545940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7672320" y="566244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7804080" y="586584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935840" y="606888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8062920" y="627228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8193240" y="645156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5613480" y="647532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 flipV="1">
              <a:off x="5745240" y="6272280"/>
              <a:ext cx="0" cy="2030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 flipV="1">
              <a:off x="5870520" y="6068520"/>
              <a:ext cx="0" cy="4064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 flipV="1">
              <a:off x="6002280" y="5865480"/>
              <a:ext cx="0" cy="6094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 flipV="1">
              <a:off x="6134040" y="5662440"/>
              <a:ext cx="0" cy="8128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 flipV="1">
              <a:off x="6259680" y="5459400"/>
              <a:ext cx="0" cy="10159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 flipV="1">
              <a:off x="6391440" y="5249880"/>
              <a:ext cx="0" cy="12254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 flipV="1">
              <a:off x="6523200" y="5046840"/>
              <a:ext cx="0" cy="14284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 flipV="1">
              <a:off x="6648480" y="4843080"/>
              <a:ext cx="0" cy="16318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 flipV="1">
              <a:off x="6780240" y="4640040"/>
              <a:ext cx="0" cy="18349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 flipV="1">
              <a:off x="6912000" y="4437000"/>
              <a:ext cx="0" cy="20383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 flipV="1">
              <a:off x="7037280" y="4640040"/>
              <a:ext cx="0" cy="18349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 flipV="1">
              <a:off x="7169040" y="4843080"/>
              <a:ext cx="0" cy="16318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 flipV="1">
              <a:off x="7294680" y="5046840"/>
              <a:ext cx="0" cy="14284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 flipV="1">
              <a:off x="7426440" y="5249880"/>
              <a:ext cx="0" cy="12254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 flipV="1">
              <a:off x="7558200" y="5459400"/>
              <a:ext cx="0" cy="10159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 flipV="1">
              <a:off x="7683480" y="5662440"/>
              <a:ext cx="0" cy="8128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 flipV="1">
              <a:off x="7815240" y="5865480"/>
              <a:ext cx="0" cy="6094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 flipV="1">
              <a:off x="7947000" y="6068520"/>
              <a:ext cx="0" cy="4064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 flipV="1">
              <a:off x="8074080" y="6272280"/>
              <a:ext cx="0" cy="2030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8205840" y="646272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8282160" y="6032520"/>
              <a:ext cx="909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Uzorc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5613480" y="6475320"/>
              <a:ext cx="3495600" cy="3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72" name=""/>
            <p:cNvGrpSpPr/>
            <p:nvPr/>
          </p:nvGrpSpPr>
          <p:grpSpPr>
            <a:xfrm>
              <a:off x="5077440" y="4254480"/>
              <a:ext cx="538560" cy="2423160"/>
              <a:chOff x="5077440" y="4254480"/>
              <a:chExt cx="538560" cy="2423160"/>
            </a:xfrm>
          </p:grpSpPr>
          <p:sp>
            <p:nvSpPr>
              <p:cNvPr id="2673" name=""/>
              <p:cNvSpPr/>
              <p:nvPr/>
            </p:nvSpPr>
            <p:spPr>
              <a:xfrm>
                <a:off x="5157000" y="62802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5077440" y="588636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5077440" y="506736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5077440" y="466092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5157000" y="42544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5077440" y="547200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Fiksni vremenski otvori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grpSp>
        <p:nvGrpSpPr>
          <p:cNvPr id="2680" name=""/>
          <p:cNvGrpSpPr/>
          <p:nvPr/>
        </p:nvGrpSpPr>
        <p:grpSpPr>
          <a:xfrm>
            <a:off x="11160" y="1919160"/>
            <a:ext cx="4867200" cy="2000520"/>
            <a:chOff x="11160" y="1919160"/>
            <a:chExt cx="4867200" cy="2000520"/>
          </a:xfrm>
        </p:grpSpPr>
        <p:graphicFrame>
          <p:nvGraphicFramePr>
            <p:cNvPr id="2681" name=""/>
            <p:cNvGraphicFramePr/>
            <p:nvPr/>
          </p:nvGraphicFramePr>
          <p:xfrm>
            <a:off x="11160" y="2438280"/>
            <a:ext cx="4867200" cy="1481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8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160" y="2438280"/>
                      <a:ext cx="4867200" cy="148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83" name=""/>
            <p:cNvSpPr/>
            <p:nvPr/>
          </p:nvSpPr>
          <p:spPr>
            <a:xfrm>
              <a:off x="134280" y="1919160"/>
              <a:ext cx="372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Hannov vremenski otvo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4" name=""/>
          <p:cNvGrpSpPr/>
          <p:nvPr/>
        </p:nvGrpSpPr>
        <p:grpSpPr>
          <a:xfrm>
            <a:off x="5077440" y="1552680"/>
            <a:ext cx="4074120" cy="2640600"/>
            <a:chOff x="5077440" y="1552680"/>
            <a:chExt cx="4074120" cy="2640600"/>
          </a:xfrm>
        </p:grpSpPr>
        <p:sp>
          <p:nvSpPr>
            <p:cNvPr id="2685" name=""/>
            <p:cNvSpPr/>
            <p:nvPr/>
          </p:nvSpPr>
          <p:spPr>
            <a:xfrm flipV="1">
              <a:off x="5611680" y="1758600"/>
              <a:ext cx="0" cy="2035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V="1">
              <a:off x="6256440" y="1758600"/>
              <a:ext cx="0" cy="2035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V="1">
              <a:off x="6907320" y="1758600"/>
              <a:ext cx="0" cy="2035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 flipV="1">
              <a:off x="7553160" y="1758600"/>
              <a:ext cx="0" cy="2035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V="1">
              <a:off x="8197920" y="1758600"/>
              <a:ext cx="0" cy="2035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5611680" y="379404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5611680" y="338760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5611680" y="298296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5611680" y="257004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5611680" y="216540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5611680" y="175896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5611680" y="1758960"/>
              <a:ext cx="2587680" cy="2036880"/>
            </a:xfrm>
            <a:custGeom>
              <a:avLst/>
              <a:gdLst/>
              <a:ahLst/>
              <a:rect l="l" t="t" r="r" b="b"/>
              <a:pathLst>
                <a:path w="1630" h="1283">
                  <a:moveTo>
                    <a:pt x="0" y="1282"/>
                  </a:moveTo>
                  <a:lnTo>
                    <a:pt x="0" y="0"/>
                  </a:lnTo>
                  <a:lnTo>
                    <a:pt x="162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5611680" y="1758960"/>
              <a:ext cx="2587680" cy="2036880"/>
            </a:xfrm>
            <a:custGeom>
              <a:avLst/>
              <a:gdLst/>
              <a:ahLst/>
              <a:rect l="l" t="t" r="r" b="b"/>
              <a:pathLst>
                <a:path w="1630" h="1283">
                  <a:moveTo>
                    <a:pt x="0" y="1282"/>
                  </a:moveTo>
                  <a:lnTo>
                    <a:pt x="0" y="0"/>
                  </a:lnTo>
                  <a:lnTo>
                    <a:pt x="162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5611680" y="1758960"/>
              <a:ext cx="2587680" cy="2036880"/>
            </a:xfrm>
            <a:custGeom>
              <a:avLst/>
              <a:gdLst/>
              <a:ahLst/>
              <a:rect l="l" t="t" r="r" b="b"/>
              <a:pathLst>
                <a:path w="1630" h="1283">
                  <a:moveTo>
                    <a:pt x="0" y="1282"/>
                  </a:moveTo>
                  <a:lnTo>
                    <a:pt x="0" y="0"/>
                  </a:lnTo>
                  <a:lnTo>
                    <a:pt x="162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5611680" y="379404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611680" y="175896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 flipV="1">
              <a:off x="5611680" y="1758600"/>
              <a:ext cx="0" cy="2035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 flipV="1">
              <a:off x="8197920" y="1758600"/>
              <a:ext cx="0" cy="2035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5611680" y="175896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8197920" y="379404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5611680" y="379404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 flipV="1">
              <a:off x="5611680" y="1758600"/>
              <a:ext cx="0" cy="2035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5611680" y="379404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 flipV="1">
              <a:off x="5611680" y="3770280"/>
              <a:ext cx="0" cy="237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611680" y="1758960"/>
              <a:ext cx="0" cy="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5334120" y="378468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 flipV="1">
              <a:off x="6256440" y="377028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256440" y="1758960"/>
              <a:ext cx="0" cy="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6048720" y="3772080"/>
              <a:ext cx="412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 flipV="1">
              <a:off x="6907320" y="377028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907320" y="1758960"/>
              <a:ext cx="0" cy="255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6755760" y="37958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7553160" y="377028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7553160" y="1758960"/>
              <a:ext cx="0" cy="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7389000" y="37958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 flipV="1">
              <a:off x="8197920" y="3770280"/>
              <a:ext cx="0" cy="237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8197920" y="1758960"/>
              <a:ext cx="0" cy="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7979760" y="377208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5611680" y="3794040"/>
              <a:ext cx="2412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>
              <a:off x="8174160" y="3794040"/>
              <a:ext cx="237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611680" y="359100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 flipH="1">
              <a:off x="8174160" y="35910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611680" y="338760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 flipH="1">
              <a:off x="8174160" y="33876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611680" y="318456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 flipH="1">
              <a:off x="8174160" y="31845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5611680" y="298296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 flipH="1">
              <a:off x="8174160" y="29829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611680" y="277956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 flipH="1">
              <a:off x="8174160" y="27795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611680" y="257004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 flipH="1">
              <a:off x="8174160" y="25700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611680" y="236844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 flipH="1">
              <a:off x="8174160" y="23684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611680" y="216540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 flipH="1">
              <a:off x="8174160" y="21654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5611680" y="196200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 flipH="1">
              <a:off x="8174160" y="19620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611680" y="175896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 flipH="1">
              <a:off x="8174160" y="17589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45" name=""/>
            <p:cNvGrpSpPr/>
            <p:nvPr/>
          </p:nvGrpSpPr>
          <p:grpSpPr>
            <a:xfrm>
              <a:off x="5077440" y="1552680"/>
              <a:ext cx="538560" cy="2431080"/>
              <a:chOff x="5077440" y="1552680"/>
              <a:chExt cx="538560" cy="2431080"/>
            </a:xfrm>
          </p:grpSpPr>
          <p:sp>
            <p:nvSpPr>
              <p:cNvPr id="2746" name=""/>
              <p:cNvSpPr/>
              <p:nvPr/>
            </p:nvSpPr>
            <p:spPr>
              <a:xfrm>
                <a:off x="5155560" y="358632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5077440" y="317988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5077440" y="277488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5077440" y="236376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077440" y="195732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5155560" y="15526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52" name=""/>
            <p:cNvSpPr/>
            <p:nvPr/>
          </p:nvSpPr>
          <p:spPr>
            <a:xfrm>
              <a:off x="5611680" y="379404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611680" y="175896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 flipV="1">
              <a:off x="5611680" y="1758600"/>
              <a:ext cx="0" cy="2035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 flipV="1">
              <a:off x="8197920" y="1758600"/>
              <a:ext cx="0" cy="2035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5611680" y="379404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5600880" y="374004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732640" y="3621240"/>
              <a:ext cx="21960" cy="219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857920" y="343044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987880" y="3186000"/>
              <a:ext cx="241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6119640" y="291132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6245280" y="261936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6377040" y="234468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508800" y="210024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6634080" y="190980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765840" y="179064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6896160" y="1747800"/>
              <a:ext cx="2232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7021440" y="179064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7153200" y="190980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7278840" y="210024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7410600" y="234468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542360" y="261936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7667640" y="291132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7797960" y="318600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7929720" y="343044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8055000" y="3621240"/>
              <a:ext cx="22320" cy="219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8186760" y="374004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 flipV="1">
              <a:off x="5611680" y="3750840"/>
              <a:ext cx="0" cy="428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 flipV="1">
              <a:off x="5743440" y="3632040"/>
              <a:ext cx="0" cy="16200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 flipV="1">
              <a:off x="5869080" y="3441240"/>
              <a:ext cx="0" cy="3524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 flipV="1">
              <a:off x="5999040" y="3197160"/>
              <a:ext cx="0" cy="5968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6130800" y="2922120"/>
              <a:ext cx="0" cy="8715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 flipV="1">
              <a:off x="6256440" y="2630520"/>
              <a:ext cx="0" cy="11635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 flipV="1">
              <a:off x="6388200" y="2355480"/>
              <a:ext cx="0" cy="143820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 flipV="1">
              <a:off x="6519960" y="2111400"/>
              <a:ext cx="0" cy="16826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V="1">
              <a:off x="6645240" y="1920600"/>
              <a:ext cx="0" cy="18730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 flipV="1">
              <a:off x="6777000" y="1801800"/>
              <a:ext cx="0" cy="19922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V="1">
              <a:off x="6907320" y="1758600"/>
              <a:ext cx="0" cy="20350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 flipV="1">
              <a:off x="7032600" y="1801800"/>
              <a:ext cx="0" cy="19922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V="1">
              <a:off x="7164360" y="1920600"/>
              <a:ext cx="0" cy="18730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V="1">
              <a:off x="7289640" y="2111400"/>
              <a:ext cx="0" cy="16826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 flipV="1">
              <a:off x="7421400" y="2355480"/>
              <a:ext cx="0" cy="143820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 flipV="1">
              <a:off x="7553160" y="2630520"/>
              <a:ext cx="0" cy="11635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 flipV="1">
              <a:off x="7678800" y="2922120"/>
              <a:ext cx="0" cy="8715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 flipV="1">
              <a:off x="7810560" y="3197160"/>
              <a:ext cx="0" cy="5968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 flipV="1">
              <a:off x="7940520" y="3441240"/>
              <a:ext cx="0" cy="3524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V="1">
              <a:off x="8066160" y="3632040"/>
              <a:ext cx="0" cy="16200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V="1">
              <a:off x="8197920" y="3750840"/>
              <a:ext cx="0" cy="428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8242560" y="3360600"/>
              <a:ext cx="909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Uzorc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5611680" y="3794040"/>
              <a:ext cx="3426120" cy="4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01" name=""/>
          <p:cNvGrpSpPr/>
          <p:nvPr/>
        </p:nvGrpSpPr>
        <p:grpSpPr>
          <a:xfrm>
            <a:off x="12600" y="4129200"/>
            <a:ext cx="5195880" cy="2149200"/>
            <a:chOff x="12600" y="4129200"/>
            <a:chExt cx="5195880" cy="2149200"/>
          </a:xfrm>
        </p:grpSpPr>
        <p:graphicFrame>
          <p:nvGraphicFramePr>
            <p:cNvPr id="2802" name=""/>
            <p:cNvGraphicFramePr/>
            <p:nvPr/>
          </p:nvGraphicFramePr>
          <p:xfrm>
            <a:off x="12600" y="4800600"/>
            <a:ext cx="5195880" cy="1477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600" y="4800600"/>
                      <a:ext cx="5195880" cy="14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04" name=""/>
            <p:cNvSpPr/>
            <p:nvPr/>
          </p:nvSpPr>
          <p:spPr>
            <a:xfrm>
              <a:off x="134640" y="4129200"/>
              <a:ext cx="4372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fffff"/>
                  </a:solidFill>
                  <a:latin typeface="Times New Roman"/>
                </a:rPr>
                <a:t>Hammingov vremenski otvo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05" name=""/>
          <p:cNvGrpSpPr/>
          <p:nvPr/>
        </p:nvGrpSpPr>
        <p:grpSpPr>
          <a:xfrm>
            <a:off x="5114160" y="4226040"/>
            <a:ext cx="4131000" cy="2630880"/>
            <a:chOff x="5114160" y="4226040"/>
            <a:chExt cx="4131000" cy="2630880"/>
          </a:xfrm>
        </p:grpSpPr>
        <p:sp>
          <p:nvSpPr>
            <p:cNvPr id="2806" name=""/>
            <p:cNvSpPr/>
            <p:nvPr/>
          </p:nvSpPr>
          <p:spPr>
            <a:xfrm>
              <a:off x="5369040" y="645804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6013800" y="6459480"/>
              <a:ext cx="412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6753960" y="64594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7401960" y="64594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8016120" y="645804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 flipV="1">
              <a:off x="5611680" y="4408200"/>
              <a:ext cx="0" cy="2035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 flipV="1">
              <a:off x="6256440" y="4408200"/>
              <a:ext cx="0" cy="2035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 flipV="1">
              <a:off x="6907320" y="4408200"/>
              <a:ext cx="0" cy="2035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 flipV="1">
              <a:off x="7553160" y="4408200"/>
              <a:ext cx="0" cy="2035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V="1">
              <a:off x="8197920" y="4408200"/>
              <a:ext cx="0" cy="2035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5611680" y="644364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5611680" y="603720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5611680" y="563256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5611680" y="521964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5611680" y="481500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5611680" y="440856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5611680" y="4408560"/>
              <a:ext cx="2587680" cy="2036520"/>
            </a:xfrm>
            <a:custGeom>
              <a:avLst/>
              <a:gdLst/>
              <a:ahLst/>
              <a:rect l="l" t="t" r="r" b="b"/>
              <a:pathLst>
                <a:path w="1630" h="1283">
                  <a:moveTo>
                    <a:pt x="0" y="1282"/>
                  </a:moveTo>
                  <a:lnTo>
                    <a:pt x="0" y="0"/>
                  </a:lnTo>
                  <a:lnTo>
                    <a:pt x="162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5611680" y="4408560"/>
              <a:ext cx="2587680" cy="2036520"/>
            </a:xfrm>
            <a:custGeom>
              <a:avLst/>
              <a:gdLst/>
              <a:ahLst/>
              <a:rect l="l" t="t" r="r" b="b"/>
              <a:pathLst>
                <a:path w="1630" h="1283">
                  <a:moveTo>
                    <a:pt x="0" y="1282"/>
                  </a:moveTo>
                  <a:lnTo>
                    <a:pt x="0" y="0"/>
                  </a:lnTo>
                  <a:lnTo>
                    <a:pt x="162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5611680" y="4408560"/>
              <a:ext cx="2587680" cy="2036520"/>
            </a:xfrm>
            <a:custGeom>
              <a:avLst/>
              <a:gdLst/>
              <a:ahLst/>
              <a:rect l="l" t="t" r="r" b="b"/>
              <a:pathLst>
                <a:path w="1630" h="1283">
                  <a:moveTo>
                    <a:pt x="0" y="1282"/>
                  </a:moveTo>
                  <a:lnTo>
                    <a:pt x="0" y="0"/>
                  </a:lnTo>
                  <a:lnTo>
                    <a:pt x="162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5611680" y="644364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611680" y="440856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 flipV="1">
              <a:off x="5611680" y="4408200"/>
              <a:ext cx="0" cy="2035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 flipV="1">
              <a:off x="8197920" y="4408200"/>
              <a:ext cx="0" cy="2035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5611680" y="440856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8197920" y="644364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5611680" y="644364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 flipV="1">
              <a:off x="5611680" y="4408200"/>
              <a:ext cx="0" cy="2035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5611680" y="644364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 flipV="1">
              <a:off x="5611680" y="641988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5611680" y="4408560"/>
              <a:ext cx="0" cy="2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 flipV="1">
              <a:off x="6256440" y="641988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6256440" y="4408560"/>
              <a:ext cx="0" cy="2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 flipV="1">
              <a:off x="6907320" y="641988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6907320" y="4408560"/>
              <a:ext cx="0" cy="2520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 flipV="1">
              <a:off x="7553160" y="641988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7553160" y="4408560"/>
              <a:ext cx="0" cy="2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 flipV="1">
              <a:off x="8197920" y="641988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8197920" y="4408560"/>
              <a:ext cx="0" cy="2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5611680" y="644364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 flipH="1">
              <a:off x="8174160" y="64436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5611680" y="624060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 flipH="1">
              <a:off x="8174160" y="62406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5611680" y="603720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 flipH="1">
              <a:off x="8174160" y="60372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5611680" y="583416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 flipH="1">
              <a:off x="8174160" y="58341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611680" y="563256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 flipH="1">
              <a:off x="8174160" y="56325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5611680" y="542916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 flipH="1">
              <a:off x="8174160" y="54291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5611680" y="521964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H="1">
              <a:off x="8174160" y="52196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5611680" y="501804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H="1">
              <a:off x="8174160" y="50180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5611680" y="481500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 flipH="1">
              <a:off x="8174160" y="48150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611680" y="461160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 flipH="1">
              <a:off x="8174160" y="46116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5611680" y="4408560"/>
              <a:ext cx="24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 flipH="1">
              <a:off x="8174160" y="44085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6" name=""/>
            <p:cNvGrpSpPr/>
            <p:nvPr/>
          </p:nvGrpSpPr>
          <p:grpSpPr>
            <a:xfrm>
              <a:off x="5114160" y="4226040"/>
              <a:ext cx="538560" cy="2431080"/>
              <a:chOff x="5114160" y="4226040"/>
              <a:chExt cx="538560" cy="2431080"/>
            </a:xfrm>
          </p:grpSpPr>
          <p:sp>
            <p:nvSpPr>
              <p:cNvPr id="2867" name=""/>
              <p:cNvSpPr/>
              <p:nvPr/>
            </p:nvSpPr>
            <p:spPr>
              <a:xfrm>
                <a:off x="5191920" y="62596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5114160" y="585324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5114160" y="544824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5114160" y="503712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5114160" y="463068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5191920" y="422604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73" name=""/>
            <p:cNvSpPr/>
            <p:nvPr/>
          </p:nvSpPr>
          <p:spPr>
            <a:xfrm>
              <a:off x="5611680" y="644364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5611680" y="4408560"/>
              <a:ext cx="25862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 flipV="1">
              <a:off x="5611680" y="4408200"/>
              <a:ext cx="0" cy="2035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 flipV="1">
              <a:off x="8197920" y="4408200"/>
              <a:ext cx="0" cy="2035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5611680" y="644364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5600880" y="627048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5732640" y="622296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5857920" y="6091200"/>
              <a:ext cx="2232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5987880" y="5883120"/>
              <a:ext cx="241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6119640" y="562140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6245280" y="5334120"/>
              <a:ext cx="22320" cy="219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6377040" y="504180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6508800" y="478620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6634080" y="457668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6765840" y="4446720"/>
              <a:ext cx="22320" cy="219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6896160" y="4397400"/>
              <a:ext cx="2232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7021440" y="4446720"/>
              <a:ext cx="22320" cy="219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7153200" y="457668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7278840" y="478620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7410600" y="504180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7542360" y="5334120"/>
              <a:ext cx="21960" cy="219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7667640" y="562140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7797960" y="588312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7929720" y="6091200"/>
              <a:ext cx="2196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8055000" y="622296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8186760" y="627048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 flipV="1">
              <a:off x="5611680" y="6281640"/>
              <a:ext cx="0" cy="16200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 flipV="1">
              <a:off x="5743440" y="6234120"/>
              <a:ext cx="0" cy="2095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V="1">
              <a:off x="5869080" y="6103800"/>
              <a:ext cx="0" cy="3398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 flipV="1">
              <a:off x="5999040" y="5894280"/>
              <a:ext cx="0" cy="5493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 flipV="1">
              <a:off x="6130800" y="5632200"/>
              <a:ext cx="0" cy="8110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 flipV="1">
              <a:off x="6256440" y="5344920"/>
              <a:ext cx="0" cy="10983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 flipV="1">
              <a:off x="6388200" y="5052600"/>
              <a:ext cx="0" cy="13906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 flipV="1">
              <a:off x="6519960" y="4797000"/>
              <a:ext cx="0" cy="16462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V="1">
              <a:off x="6645240" y="4587480"/>
              <a:ext cx="0" cy="185580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 flipV="1">
              <a:off x="6777000" y="4457880"/>
              <a:ext cx="0" cy="19857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 flipV="1">
              <a:off x="6907320" y="4408200"/>
              <a:ext cx="0" cy="20350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 flipV="1">
              <a:off x="7032600" y="4457880"/>
              <a:ext cx="0" cy="19857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 flipV="1">
              <a:off x="7164360" y="4587480"/>
              <a:ext cx="0" cy="185580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 flipV="1">
              <a:off x="7289640" y="4797000"/>
              <a:ext cx="0" cy="16462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V="1">
              <a:off x="7421400" y="5052600"/>
              <a:ext cx="0" cy="13906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 flipV="1">
              <a:off x="7553160" y="5344920"/>
              <a:ext cx="0" cy="10983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 flipV="1">
              <a:off x="7678800" y="5632200"/>
              <a:ext cx="0" cy="8110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 flipV="1">
              <a:off x="7810560" y="5894280"/>
              <a:ext cx="0" cy="5493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 flipV="1">
              <a:off x="7940520" y="6103800"/>
              <a:ext cx="0" cy="3398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V="1">
              <a:off x="8066160" y="6234120"/>
              <a:ext cx="0" cy="2095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 flipV="1">
              <a:off x="8197920" y="6281640"/>
              <a:ext cx="0" cy="16200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8336160" y="6000840"/>
              <a:ext cx="909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Uzorc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5611680" y="6443640"/>
              <a:ext cx="35308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Fiksni vremenski otvori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graphicFrame>
        <p:nvGraphicFramePr>
          <p:cNvPr id="2923" name=""/>
          <p:cNvGraphicFramePr/>
          <p:nvPr/>
        </p:nvGraphicFramePr>
        <p:xfrm>
          <a:off x="965160" y="4876920"/>
          <a:ext cx="7783560" cy="13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4876920"/>
                    <a:ext cx="778356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5" name=""/>
          <p:cNvSpPr/>
          <p:nvPr/>
        </p:nvSpPr>
        <p:spPr>
          <a:xfrm>
            <a:off x="133920" y="1919160"/>
            <a:ext cx="439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Blackmanov vremenski otv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6" name=""/>
          <p:cNvGrpSpPr/>
          <p:nvPr/>
        </p:nvGrpSpPr>
        <p:grpSpPr>
          <a:xfrm>
            <a:off x="5090040" y="1720800"/>
            <a:ext cx="4114080" cy="2691360"/>
            <a:chOff x="5090040" y="1720800"/>
            <a:chExt cx="4114080" cy="2691360"/>
          </a:xfrm>
        </p:grpSpPr>
        <p:sp>
          <p:nvSpPr>
            <p:cNvPr id="2927" name=""/>
            <p:cNvSpPr/>
            <p:nvPr/>
          </p:nvSpPr>
          <p:spPr>
            <a:xfrm flipV="1">
              <a:off x="5613480" y="1940040"/>
              <a:ext cx="0" cy="2038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 flipV="1">
              <a:off x="6259680" y="1940040"/>
              <a:ext cx="0" cy="20383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 flipV="1">
              <a:off x="6912000" y="1940040"/>
              <a:ext cx="0" cy="2038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 flipV="1">
              <a:off x="7558200" y="1940040"/>
              <a:ext cx="0" cy="20383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V="1">
              <a:off x="8205840" y="1940040"/>
              <a:ext cx="0" cy="2038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5613480" y="397836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5613480" y="357192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5613480" y="316548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5613480" y="275256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5613480" y="234648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5613480" y="194004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5613480" y="1940040"/>
              <a:ext cx="2593800" cy="2039760"/>
            </a:xfrm>
            <a:custGeom>
              <a:avLst/>
              <a:gdLst/>
              <a:ahLst/>
              <a:rect l="l" t="t" r="r" b="b"/>
              <a:pathLst>
                <a:path w="1634" h="1285">
                  <a:moveTo>
                    <a:pt x="0" y="1284"/>
                  </a:moveTo>
                  <a:lnTo>
                    <a:pt x="0" y="0"/>
                  </a:lnTo>
                  <a:lnTo>
                    <a:pt x="1633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5613480" y="1940040"/>
              <a:ext cx="2593800" cy="2039760"/>
            </a:xfrm>
            <a:custGeom>
              <a:avLst/>
              <a:gdLst/>
              <a:ahLst/>
              <a:rect l="l" t="t" r="r" b="b"/>
              <a:pathLst>
                <a:path w="1634" h="1285">
                  <a:moveTo>
                    <a:pt x="0" y="1284"/>
                  </a:moveTo>
                  <a:lnTo>
                    <a:pt x="0" y="0"/>
                  </a:lnTo>
                  <a:lnTo>
                    <a:pt x="1633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5613480" y="1940040"/>
              <a:ext cx="2593800" cy="2039760"/>
            </a:xfrm>
            <a:custGeom>
              <a:avLst/>
              <a:gdLst/>
              <a:ahLst/>
              <a:rect l="l" t="t" r="r" b="b"/>
              <a:pathLst>
                <a:path w="1634" h="1285">
                  <a:moveTo>
                    <a:pt x="0" y="1284"/>
                  </a:moveTo>
                  <a:lnTo>
                    <a:pt x="0" y="0"/>
                  </a:lnTo>
                  <a:lnTo>
                    <a:pt x="1633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5613480" y="397836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5613480" y="194004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 flipV="1">
              <a:off x="5613480" y="1940040"/>
              <a:ext cx="0" cy="2038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 flipV="1">
              <a:off x="8205840" y="1940040"/>
              <a:ext cx="0" cy="2038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5613480" y="194004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8205840" y="397836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5613480" y="397836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 flipV="1">
              <a:off x="5613480" y="1940040"/>
              <a:ext cx="0" cy="2038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5613480" y="397836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V="1">
              <a:off x="5613480" y="3954600"/>
              <a:ext cx="0" cy="237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5613480" y="194004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5347080" y="401472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 flipV="1">
              <a:off x="6259680" y="395460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6259680" y="194004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6077520" y="3992400"/>
              <a:ext cx="412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 flipV="1">
              <a:off x="6912000" y="395460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6912000" y="1940040"/>
              <a:ext cx="0" cy="237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6747840" y="39686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 flipV="1">
              <a:off x="7558200" y="395460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7558200" y="194004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417800" y="396720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 flipV="1">
              <a:off x="8205840" y="3954600"/>
              <a:ext cx="0" cy="237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8205840" y="194004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7976520" y="399096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5613480" y="3978360"/>
              <a:ext cx="237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 flipH="1">
              <a:off x="8179920" y="3978360"/>
              <a:ext cx="255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5613480" y="37749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 flipH="1">
              <a:off x="8179920" y="377496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5613480" y="357192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 flipH="1">
              <a:off x="8179920" y="357192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5613480" y="336852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 flipH="1">
              <a:off x="8179920" y="336852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5613480" y="31654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 flipH="1">
              <a:off x="8179920" y="316548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5613480" y="29624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 flipH="1">
              <a:off x="8179920" y="296244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5613480" y="27525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 flipH="1">
              <a:off x="8179920" y="275256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5613480" y="254952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 flipH="1">
              <a:off x="8179920" y="254952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5613480" y="23464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 flipH="1">
              <a:off x="8179920" y="234648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5613480" y="21430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 flipH="1">
              <a:off x="8179920" y="214308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5613480" y="19400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 flipH="1">
              <a:off x="8179920" y="194004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87" name=""/>
            <p:cNvGrpSpPr/>
            <p:nvPr/>
          </p:nvGrpSpPr>
          <p:grpSpPr>
            <a:xfrm>
              <a:off x="5090040" y="1720800"/>
              <a:ext cx="538560" cy="2435760"/>
              <a:chOff x="5090040" y="1720800"/>
              <a:chExt cx="538560" cy="2435760"/>
            </a:xfrm>
          </p:grpSpPr>
          <p:sp>
            <p:nvSpPr>
              <p:cNvPr id="2988" name=""/>
              <p:cNvSpPr/>
              <p:nvPr/>
            </p:nvSpPr>
            <p:spPr>
              <a:xfrm>
                <a:off x="5169600" y="375912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5090040" y="335268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5090040" y="294624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090040" y="253368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090040" y="212724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.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169600" y="17208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94" name=""/>
            <p:cNvSpPr/>
            <p:nvPr/>
          </p:nvSpPr>
          <p:spPr>
            <a:xfrm>
              <a:off x="5613480" y="397836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5613480" y="1940040"/>
              <a:ext cx="2592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 flipV="1">
              <a:off x="5613480" y="1940040"/>
              <a:ext cx="0" cy="2038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 flipV="1">
              <a:off x="8205840" y="1940040"/>
              <a:ext cx="0" cy="2038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5613480" y="397836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5600880" y="396720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5732640" y="394956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5859360" y="3882960"/>
              <a:ext cx="2232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5991120" y="375768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6122880" y="356076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248520" y="327348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6380280" y="2927520"/>
              <a:ext cx="21960" cy="219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6512040" y="2562120"/>
              <a:ext cx="219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6637320" y="223344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6769080" y="2011320"/>
              <a:ext cx="2232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6900840" y="192888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7026120" y="2011320"/>
              <a:ext cx="2232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7157880" y="223344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7283520" y="256212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7415280" y="2927520"/>
              <a:ext cx="22320" cy="219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7547040" y="327348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7672320" y="356076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804080" y="375768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7935840" y="3882960"/>
              <a:ext cx="22320" cy="2376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062920" y="3949560"/>
              <a:ext cx="2232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193240" y="3967200"/>
              <a:ext cx="23760" cy="2232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5613480" y="397836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 flipV="1">
              <a:off x="5745240" y="3960360"/>
              <a:ext cx="0" cy="176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 flipV="1">
              <a:off x="5870520" y="3894120"/>
              <a:ext cx="0" cy="842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 flipV="1">
              <a:off x="6002280" y="3768840"/>
              <a:ext cx="0" cy="2095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 flipV="1">
              <a:off x="6134040" y="3571560"/>
              <a:ext cx="0" cy="4064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 flipV="1">
              <a:off x="6259680" y="3284280"/>
              <a:ext cx="0" cy="6937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 flipV="1">
              <a:off x="6391440" y="2937960"/>
              <a:ext cx="0" cy="10400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 flipV="1">
              <a:off x="6523200" y="2572920"/>
              <a:ext cx="0" cy="14050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 flipV="1">
              <a:off x="6648480" y="2244600"/>
              <a:ext cx="0" cy="17337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 flipV="1">
              <a:off x="6780240" y="2023560"/>
              <a:ext cx="0" cy="19544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V="1">
              <a:off x="6912000" y="1940040"/>
              <a:ext cx="0" cy="20383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 flipV="1">
              <a:off x="7037280" y="2023560"/>
              <a:ext cx="0" cy="19544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 flipV="1">
              <a:off x="7169040" y="2244600"/>
              <a:ext cx="0" cy="17337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 flipV="1">
              <a:off x="7294680" y="2572920"/>
              <a:ext cx="0" cy="14050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V="1">
              <a:off x="7426440" y="2937960"/>
              <a:ext cx="0" cy="10400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 flipV="1">
              <a:off x="7558200" y="3284280"/>
              <a:ext cx="0" cy="6937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 flipV="1">
              <a:off x="7683480" y="3571560"/>
              <a:ext cx="0" cy="4064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V="1">
              <a:off x="7815240" y="3768840"/>
              <a:ext cx="0" cy="2095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 flipV="1">
              <a:off x="7947000" y="3894120"/>
              <a:ext cx="0" cy="842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 flipV="1">
              <a:off x="8074080" y="3960360"/>
              <a:ext cx="0" cy="176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8205840" y="3978360"/>
              <a:ext cx="252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8295120" y="3510000"/>
              <a:ext cx="909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Uzorc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5613480" y="3978360"/>
              <a:ext cx="3529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Fiksni vremenski otvori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 flipV="1">
            <a:off x="1379520" y="2131920"/>
            <a:ext cx="0" cy="4214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 flipV="1">
            <a:off x="2714760" y="2131920"/>
            <a:ext cx="0" cy="421488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 flipV="1">
            <a:off x="4062240" y="2131920"/>
            <a:ext cx="0" cy="421488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 flipV="1">
            <a:off x="5397480" y="2131920"/>
            <a:ext cx="0" cy="421488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 flipV="1">
            <a:off x="6732720" y="2131920"/>
            <a:ext cx="0" cy="4214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1379520" y="6346800"/>
            <a:ext cx="5353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1379520" y="5506920"/>
            <a:ext cx="53532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1379520" y="4665600"/>
            <a:ext cx="53532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1379520" y="3813120"/>
            <a:ext cx="53532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1379520" y="2973240"/>
            <a:ext cx="53532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1379520" y="2131920"/>
            <a:ext cx="5353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1379520" y="2131920"/>
            <a:ext cx="5354640" cy="4216320"/>
          </a:xfrm>
          <a:custGeom>
            <a:avLst/>
            <a:gdLst/>
            <a:ahLst/>
            <a:rect l="l" t="t" r="r" b="b"/>
            <a:pathLst>
              <a:path w="3373" h="2656">
                <a:moveTo>
                  <a:pt x="0" y="2655"/>
                </a:moveTo>
                <a:lnTo>
                  <a:pt x="0" y="0"/>
                </a:lnTo>
                <a:lnTo>
                  <a:pt x="3372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1379520" y="2131920"/>
            <a:ext cx="5354640" cy="4216320"/>
          </a:xfrm>
          <a:custGeom>
            <a:avLst/>
            <a:gdLst/>
            <a:ahLst/>
            <a:rect l="l" t="t" r="r" b="b"/>
            <a:pathLst>
              <a:path w="3373" h="2656">
                <a:moveTo>
                  <a:pt x="0" y="2655"/>
                </a:moveTo>
                <a:lnTo>
                  <a:pt x="0" y="0"/>
                </a:lnTo>
                <a:lnTo>
                  <a:pt x="3372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1379520" y="2131920"/>
            <a:ext cx="5354640" cy="4216320"/>
          </a:xfrm>
          <a:custGeom>
            <a:avLst/>
            <a:gdLst/>
            <a:ahLst/>
            <a:rect l="l" t="t" r="r" b="b"/>
            <a:pathLst>
              <a:path w="3373" h="2656">
                <a:moveTo>
                  <a:pt x="0" y="2655"/>
                </a:moveTo>
                <a:lnTo>
                  <a:pt x="0" y="0"/>
                </a:lnTo>
                <a:lnTo>
                  <a:pt x="3372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1379520" y="6346800"/>
            <a:ext cx="5353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1379520" y="2131920"/>
            <a:ext cx="5353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 flipV="1">
            <a:off x="1379520" y="2131920"/>
            <a:ext cx="0" cy="4214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 flipV="1">
            <a:off x="6732720" y="2131920"/>
            <a:ext cx="0" cy="4214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1379520" y="2131920"/>
            <a:ext cx="255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6732720" y="6346800"/>
            <a:ext cx="25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1379520" y="6346800"/>
            <a:ext cx="5353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 flipV="1">
            <a:off x="1379520" y="2131920"/>
            <a:ext cx="0" cy="4214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1379520" y="6346800"/>
            <a:ext cx="255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 flipV="1">
            <a:off x="1379520" y="6297120"/>
            <a:ext cx="0" cy="49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1379520" y="2131920"/>
            <a:ext cx="0" cy="507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1124280" y="6405480"/>
            <a:ext cx="553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 flipV="1">
            <a:off x="2714760" y="6297120"/>
            <a:ext cx="0" cy="49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2714760" y="2131920"/>
            <a:ext cx="0" cy="507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2510280" y="6383160"/>
            <a:ext cx="412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 flipV="1">
            <a:off x="4062240" y="6297120"/>
            <a:ext cx="0" cy="49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4062240" y="2131920"/>
            <a:ext cx="0" cy="507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3918960" y="64184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 flipV="1">
            <a:off x="5397480" y="6297120"/>
            <a:ext cx="0" cy="49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5397480" y="2131920"/>
            <a:ext cx="0" cy="507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5253840" y="63943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 flipV="1">
            <a:off x="6732720" y="6297120"/>
            <a:ext cx="0" cy="49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6732720" y="2131920"/>
            <a:ext cx="0" cy="507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6528600" y="6357960"/>
            <a:ext cx="46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1379520" y="634680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 flipH="1">
            <a:off x="6683040" y="634680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>
            <a:off x="1379520" y="592776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 flipH="1">
            <a:off x="6683040" y="592776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1379520" y="550692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 flipH="1">
            <a:off x="6683040" y="550692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1379520" y="508644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 flipH="1">
            <a:off x="6683040" y="508644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1379520" y="466560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 flipH="1">
            <a:off x="6683040" y="466560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1379520" y="424656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 flipH="1">
            <a:off x="6683040" y="424656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1379520" y="381312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 flipH="1">
            <a:off x="6683040" y="381312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1379520" y="339408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 flipH="1">
            <a:off x="6683040" y="339408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1379520" y="297324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 flipH="1">
            <a:off x="6683040" y="297324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1379520" y="255276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 flipH="1">
            <a:off x="6683040" y="255276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1379520" y="213192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 flipH="1">
            <a:off x="6683040" y="213192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04" name=""/>
          <p:cNvGrpSpPr/>
          <p:nvPr/>
        </p:nvGrpSpPr>
        <p:grpSpPr>
          <a:xfrm>
            <a:off x="856440" y="1924200"/>
            <a:ext cx="538560" cy="4611960"/>
            <a:chOff x="856440" y="1924200"/>
            <a:chExt cx="538560" cy="4611960"/>
          </a:xfrm>
        </p:grpSpPr>
        <p:sp>
          <p:nvSpPr>
            <p:cNvPr id="3105" name=""/>
            <p:cNvSpPr/>
            <p:nvPr/>
          </p:nvSpPr>
          <p:spPr>
            <a:xfrm>
              <a:off x="1017000" y="61387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856440" y="5299200"/>
              <a:ext cx="538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.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856440" y="4457880"/>
              <a:ext cx="538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.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856440" y="3605040"/>
              <a:ext cx="538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.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856440" y="2765520"/>
              <a:ext cx="538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.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1017000" y="192420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1" name=""/>
          <p:cNvSpPr/>
          <p:nvPr/>
        </p:nvSpPr>
        <p:spPr>
          <a:xfrm>
            <a:off x="1379520" y="6346800"/>
            <a:ext cx="672948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1379520" y="2131920"/>
            <a:ext cx="5353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 flipV="1">
            <a:off x="1379520" y="2131920"/>
            <a:ext cx="0" cy="4214880"/>
          </a:xfrm>
          <a:prstGeom prst="line">
            <a:avLst/>
          </a:prstGeom>
          <a:ln w="25560">
            <a:solidFill>
              <a:srgbClr val="ea99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 flipV="1">
            <a:off x="6732720" y="2131920"/>
            <a:ext cx="0" cy="4214880"/>
          </a:xfrm>
          <a:prstGeom prst="line">
            <a:avLst/>
          </a:prstGeom>
          <a:ln w="25560">
            <a:solidFill>
              <a:srgbClr val="ea99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1379520" y="6346800"/>
            <a:ext cx="255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1379520" y="2131920"/>
            <a:ext cx="5354640" cy="1800"/>
          </a:xfrm>
          <a:custGeom>
            <a:avLst/>
            <a:gdLst/>
            <a:ahLst/>
            <a:rect l="l" t="t" r="r" b="b"/>
            <a:pathLst>
              <a:path w="3373" h="1">
                <a:moveTo>
                  <a:pt x="0" y="0"/>
                </a:moveTo>
                <a:lnTo>
                  <a:pt x="85" y="0"/>
                </a:lnTo>
                <a:lnTo>
                  <a:pt x="171" y="0"/>
                </a:lnTo>
                <a:lnTo>
                  <a:pt x="249" y="0"/>
                </a:lnTo>
                <a:lnTo>
                  <a:pt x="335" y="0"/>
                </a:lnTo>
                <a:lnTo>
                  <a:pt x="420" y="0"/>
                </a:lnTo>
                <a:lnTo>
                  <a:pt x="506" y="0"/>
                </a:lnTo>
                <a:lnTo>
                  <a:pt x="592" y="0"/>
                </a:lnTo>
                <a:lnTo>
                  <a:pt x="677" y="0"/>
                </a:lnTo>
                <a:lnTo>
                  <a:pt x="755" y="0"/>
                </a:lnTo>
                <a:lnTo>
                  <a:pt x="841" y="0"/>
                </a:lnTo>
                <a:lnTo>
                  <a:pt x="926" y="0"/>
                </a:lnTo>
                <a:lnTo>
                  <a:pt x="1012" y="0"/>
                </a:lnTo>
                <a:lnTo>
                  <a:pt x="1098" y="0"/>
                </a:lnTo>
                <a:lnTo>
                  <a:pt x="1183" y="0"/>
                </a:lnTo>
                <a:lnTo>
                  <a:pt x="1261" y="0"/>
                </a:lnTo>
                <a:lnTo>
                  <a:pt x="1347" y="0"/>
                </a:lnTo>
                <a:lnTo>
                  <a:pt x="1433" y="0"/>
                </a:lnTo>
                <a:lnTo>
                  <a:pt x="1518" y="0"/>
                </a:lnTo>
                <a:lnTo>
                  <a:pt x="1604" y="0"/>
                </a:lnTo>
                <a:lnTo>
                  <a:pt x="1690" y="0"/>
                </a:lnTo>
                <a:lnTo>
                  <a:pt x="1767" y="0"/>
                </a:lnTo>
                <a:lnTo>
                  <a:pt x="1853" y="0"/>
                </a:lnTo>
                <a:lnTo>
                  <a:pt x="1939" y="0"/>
                </a:lnTo>
                <a:lnTo>
                  <a:pt x="2024" y="0"/>
                </a:lnTo>
                <a:lnTo>
                  <a:pt x="2110" y="0"/>
                </a:lnTo>
                <a:lnTo>
                  <a:pt x="2188" y="0"/>
                </a:lnTo>
                <a:lnTo>
                  <a:pt x="2274" y="0"/>
                </a:lnTo>
                <a:lnTo>
                  <a:pt x="2359" y="0"/>
                </a:lnTo>
                <a:lnTo>
                  <a:pt x="2445" y="0"/>
                </a:lnTo>
                <a:lnTo>
                  <a:pt x="2531" y="0"/>
                </a:lnTo>
                <a:lnTo>
                  <a:pt x="2616" y="0"/>
                </a:lnTo>
                <a:lnTo>
                  <a:pt x="2694" y="0"/>
                </a:lnTo>
                <a:lnTo>
                  <a:pt x="2780" y="0"/>
                </a:lnTo>
                <a:lnTo>
                  <a:pt x="2866" y="0"/>
                </a:lnTo>
                <a:lnTo>
                  <a:pt x="2951" y="0"/>
                </a:lnTo>
                <a:lnTo>
                  <a:pt x="3037" y="0"/>
                </a:lnTo>
                <a:lnTo>
                  <a:pt x="3122" y="0"/>
                </a:lnTo>
                <a:lnTo>
                  <a:pt x="3200" y="0"/>
                </a:lnTo>
                <a:lnTo>
                  <a:pt x="3286" y="0"/>
                </a:lnTo>
                <a:lnTo>
                  <a:pt x="3372" y="0"/>
                </a:lnTo>
              </a:path>
            </a:pathLst>
          </a:custGeom>
          <a:noFill/>
          <a:ln cap="rnd" w="25560">
            <a:solidFill>
              <a:srgbClr val="ea99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1379520" y="2131920"/>
            <a:ext cx="5354640" cy="4216320"/>
          </a:xfrm>
          <a:custGeom>
            <a:avLst/>
            <a:gdLst/>
            <a:ahLst/>
            <a:rect l="l" t="t" r="r" b="b"/>
            <a:pathLst>
              <a:path w="3373" h="2656">
                <a:moveTo>
                  <a:pt x="0" y="2655"/>
                </a:moveTo>
                <a:lnTo>
                  <a:pt x="85" y="2523"/>
                </a:lnTo>
                <a:lnTo>
                  <a:pt x="171" y="2391"/>
                </a:lnTo>
                <a:lnTo>
                  <a:pt x="249" y="2258"/>
                </a:lnTo>
                <a:lnTo>
                  <a:pt x="335" y="2126"/>
                </a:lnTo>
                <a:lnTo>
                  <a:pt x="420" y="1994"/>
                </a:lnTo>
                <a:lnTo>
                  <a:pt x="506" y="1861"/>
                </a:lnTo>
                <a:lnTo>
                  <a:pt x="592" y="1729"/>
                </a:lnTo>
                <a:lnTo>
                  <a:pt x="677" y="1596"/>
                </a:lnTo>
                <a:lnTo>
                  <a:pt x="755" y="1464"/>
                </a:lnTo>
                <a:lnTo>
                  <a:pt x="841" y="1332"/>
                </a:lnTo>
                <a:lnTo>
                  <a:pt x="926" y="1192"/>
                </a:lnTo>
                <a:lnTo>
                  <a:pt x="1012" y="1059"/>
                </a:lnTo>
                <a:lnTo>
                  <a:pt x="1098" y="927"/>
                </a:lnTo>
                <a:lnTo>
                  <a:pt x="1183" y="795"/>
                </a:lnTo>
                <a:lnTo>
                  <a:pt x="1261" y="662"/>
                </a:lnTo>
                <a:lnTo>
                  <a:pt x="1347" y="530"/>
                </a:lnTo>
                <a:lnTo>
                  <a:pt x="1433" y="397"/>
                </a:lnTo>
                <a:lnTo>
                  <a:pt x="1518" y="265"/>
                </a:lnTo>
                <a:lnTo>
                  <a:pt x="1604" y="133"/>
                </a:lnTo>
                <a:lnTo>
                  <a:pt x="1690" y="0"/>
                </a:lnTo>
                <a:lnTo>
                  <a:pt x="1767" y="133"/>
                </a:lnTo>
                <a:lnTo>
                  <a:pt x="1853" y="265"/>
                </a:lnTo>
                <a:lnTo>
                  <a:pt x="1939" y="397"/>
                </a:lnTo>
                <a:lnTo>
                  <a:pt x="2024" y="530"/>
                </a:lnTo>
                <a:lnTo>
                  <a:pt x="2110" y="662"/>
                </a:lnTo>
                <a:lnTo>
                  <a:pt x="2188" y="795"/>
                </a:lnTo>
                <a:lnTo>
                  <a:pt x="2274" y="927"/>
                </a:lnTo>
                <a:lnTo>
                  <a:pt x="2359" y="1059"/>
                </a:lnTo>
                <a:lnTo>
                  <a:pt x="2445" y="1192"/>
                </a:lnTo>
                <a:lnTo>
                  <a:pt x="2531" y="1332"/>
                </a:lnTo>
                <a:lnTo>
                  <a:pt x="2616" y="1464"/>
                </a:lnTo>
                <a:lnTo>
                  <a:pt x="2694" y="1596"/>
                </a:lnTo>
                <a:lnTo>
                  <a:pt x="2780" y="1729"/>
                </a:lnTo>
                <a:lnTo>
                  <a:pt x="2866" y="1861"/>
                </a:lnTo>
                <a:lnTo>
                  <a:pt x="2951" y="1994"/>
                </a:lnTo>
                <a:lnTo>
                  <a:pt x="3037" y="2126"/>
                </a:lnTo>
                <a:lnTo>
                  <a:pt x="3122" y="2258"/>
                </a:lnTo>
                <a:lnTo>
                  <a:pt x="3200" y="2391"/>
                </a:lnTo>
                <a:lnTo>
                  <a:pt x="3286" y="2523"/>
                </a:lnTo>
                <a:lnTo>
                  <a:pt x="3372" y="2655"/>
                </a:lnTo>
              </a:path>
            </a:pathLst>
          </a:custGeom>
          <a:noFill/>
          <a:ln cap="rnd" w="25560">
            <a:solidFill>
              <a:srgbClr val="abff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1379520" y="2131920"/>
            <a:ext cx="5354640" cy="4192560"/>
          </a:xfrm>
          <a:custGeom>
            <a:avLst/>
            <a:gdLst/>
            <a:ahLst/>
            <a:rect l="l" t="t" r="r" b="b"/>
            <a:pathLst>
              <a:path w="3373" h="2641">
                <a:moveTo>
                  <a:pt x="0" y="2640"/>
                </a:moveTo>
                <a:lnTo>
                  <a:pt x="85" y="2593"/>
                </a:lnTo>
                <a:lnTo>
                  <a:pt x="171" y="2523"/>
                </a:lnTo>
                <a:lnTo>
                  <a:pt x="249" y="2422"/>
                </a:lnTo>
                <a:lnTo>
                  <a:pt x="335" y="2297"/>
                </a:lnTo>
                <a:lnTo>
                  <a:pt x="420" y="2157"/>
                </a:lnTo>
                <a:lnTo>
                  <a:pt x="506" y="1994"/>
                </a:lnTo>
                <a:lnTo>
                  <a:pt x="592" y="1814"/>
                </a:lnTo>
                <a:lnTo>
                  <a:pt x="677" y="1620"/>
                </a:lnTo>
                <a:lnTo>
                  <a:pt x="755" y="1425"/>
                </a:lnTo>
                <a:lnTo>
                  <a:pt x="841" y="1231"/>
                </a:lnTo>
                <a:lnTo>
                  <a:pt x="926" y="1036"/>
                </a:lnTo>
                <a:lnTo>
                  <a:pt x="1012" y="841"/>
                </a:lnTo>
                <a:lnTo>
                  <a:pt x="1098" y="662"/>
                </a:lnTo>
                <a:lnTo>
                  <a:pt x="1183" y="499"/>
                </a:lnTo>
                <a:lnTo>
                  <a:pt x="1261" y="359"/>
                </a:lnTo>
                <a:lnTo>
                  <a:pt x="1347" y="234"/>
                </a:lnTo>
                <a:lnTo>
                  <a:pt x="1433" y="133"/>
                </a:lnTo>
                <a:lnTo>
                  <a:pt x="1518" y="63"/>
                </a:lnTo>
                <a:lnTo>
                  <a:pt x="1604" y="16"/>
                </a:lnTo>
                <a:lnTo>
                  <a:pt x="1690" y="0"/>
                </a:lnTo>
                <a:lnTo>
                  <a:pt x="1767" y="16"/>
                </a:lnTo>
                <a:lnTo>
                  <a:pt x="1853" y="63"/>
                </a:lnTo>
                <a:lnTo>
                  <a:pt x="1939" y="133"/>
                </a:lnTo>
                <a:lnTo>
                  <a:pt x="2024" y="234"/>
                </a:lnTo>
                <a:lnTo>
                  <a:pt x="2110" y="359"/>
                </a:lnTo>
                <a:lnTo>
                  <a:pt x="2188" y="499"/>
                </a:lnTo>
                <a:lnTo>
                  <a:pt x="2274" y="662"/>
                </a:lnTo>
                <a:lnTo>
                  <a:pt x="2359" y="841"/>
                </a:lnTo>
                <a:lnTo>
                  <a:pt x="2445" y="1036"/>
                </a:lnTo>
                <a:lnTo>
                  <a:pt x="2531" y="1231"/>
                </a:lnTo>
                <a:lnTo>
                  <a:pt x="2616" y="1425"/>
                </a:lnTo>
                <a:lnTo>
                  <a:pt x="2694" y="1620"/>
                </a:lnTo>
                <a:lnTo>
                  <a:pt x="2780" y="1814"/>
                </a:lnTo>
                <a:lnTo>
                  <a:pt x="2866" y="1994"/>
                </a:lnTo>
                <a:lnTo>
                  <a:pt x="2951" y="2157"/>
                </a:lnTo>
                <a:lnTo>
                  <a:pt x="3037" y="2297"/>
                </a:lnTo>
                <a:lnTo>
                  <a:pt x="3122" y="2422"/>
                </a:lnTo>
                <a:lnTo>
                  <a:pt x="3200" y="2523"/>
                </a:lnTo>
                <a:lnTo>
                  <a:pt x="3286" y="2593"/>
                </a:lnTo>
                <a:lnTo>
                  <a:pt x="3372" y="2640"/>
                </a:lnTo>
              </a:path>
            </a:pathLst>
          </a:custGeom>
          <a:noFill/>
          <a:ln cap="rnd" w="25560">
            <a:solidFill>
              <a:srgbClr val="00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1379520" y="2131920"/>
            <a:ext cx="5354640" cy="3882960"/>
          </a:xfrm>
          <a:custGeom>
            <a:avLst/>
            <a:gdLst/>
            <a:ahLst/>
            <a:rect l="l" t="t" r="r" b="b"/>
            <a:pathLst>
              <a:path w="3373" h="2446">
                <a:moveTo>
                  <a:pt x="0" y="2445"/>
                </a:moveTo>
                <a:lnTo>
                  <a:pt x="85" y="2430"/>
                </a:lnTo>
                <a:lnTo>
                  <a:pt x="171" y="2383"/>
                </a:lnTo>
                <a:lnTo>
                  <a:pt x="249" y="2313"/>
                </a:lnTo>
                <a:lnTo>
                  <a:pt x="335" y="2212"/>
                </a:lnTo>
                <a:lnTo>
                  <a:pt x="420" y="2087"/>
                </a:lnTo>
                <a:lnTo>
                  <a:pt x="506" y="1939"/>
                </a:lnTo>
                <a:lnTo>
                  <a:pt x="592" y="1776"/>
                </a:lnTo>
                <a:lnTo>
                  <a:pt x="677" y="1596"/>
                </a:lnTo>
                <a:lnTo>
                  <a:pt x="755" y="1410"/>
                </a:lnTo>
                <a:lnTo>
                  <a:pt x="841" y="1223"/>
                </a:lnTo>
                <a:lnTo>
                  <a:pt x="926" y="1028"/>
                </a:lnTo>
                <a:lnTo>
                  <a:pt x="1012" y="841"/>
                </a:lnTo>
                <a:lnTo>
                  <a:pt x="1098" y="670"/>
                </a:lnTo>
                <a:lnTo>
                  <a:pt x="1183" y="506"/>
                </a:lnTo>
                <a:lnTo>
                  <a:pt x="1261" y="359"/>
                </a:lnTo>
                <a:lnTo>
                  <a:pt x="1347" y="234"/>
                </a:lnTo>
                <a:lnTo>
                  <a:pt x="1433" y="133"/>
                </a:lnTo>
                <a:lnTo>
                  <a:pt x="1518" y="63"/>
                </a:lnTo>
                <a:lnTo>
                  <a:pt x="1604" y="16"/>
                </a:lnTo>
                <a:lnTo>
                  <a:pt x="1690" y="0"/>
                </a:lnTo>
                <a:lnTo>
                  <a:pt x="1767" y="16"/>
                </a:lnTo>
                <a:lnTo>
                  <a:pt x="1853" y="63"/>
                </a:lnTo>
                <a:lnTo>
                  <a:pt x="1939" y="133"/>
                </a:lnTo>
                <a:lnTo>
                  <a:pt x="2024" y="234"/>
                </a:lnTo>
                <a:lnTo>
                  <a:pt x="2110" y="359"/>
                </a:lnTo>
                <a:lnTo>
                  <a:pt x="2188" y="506"/>
                </a:lnTo>
                <a:lnTo>
                  <a:pt x="2274" y="670"/>
                </a:lnTo>
                <a:lnTo>
                  <a:pt x="2359" y="841"/>
                </a:lnTo>
                <a:lnTo>
                  <a:pt x="2445" y="1028"/>
                </a:lnTo>
                <a:lnTo>
                  <a:pt x="2531" y="1223"/>
                </a:lnTo>
                <a:lnTo>
                  <a:pt x="2616" y="1410"/>
                </a:lnTo>
                <a:lnTo>
                  <a:pt x="2694" y="1596"/>
                </a:lnTo>
                <a:lnTo>
                  <a:pt x="2780" y="1776"/>
                </a:lnTo>
                <a:lnTo>
                  <a:pt x="2866" y="1939"/>
                </a:lnTo>
                <a:lnTo>
                  <a:pt x="2951" y="2087"/>
                </a:lnTo>
                <a:lnTo>
                  <a:pt x="3037" y="2212"/>
                </a:lnTo>
                <a:lnTo>
                  <a:pt x="3122" y="2313"/>
                </a:lnTo>
                <a:lnTo>
                  <a:pt x="3200" y="2383"/>
                </a:lnTo>
                <a:lnTo>
                  <a:pt x="3286" y="2430"/>
                </a:lnTo>
                <a:lnTo>
                  <a:pt x="3372" y="2445"/>
                </a:lnTo>
              </a:path>
            </a:pathLst>
          </a:custGeom>
          <a:noFill/>
          <a:ln cap="rnd" w="25560">
            <a:solidFill>
              <a:srgbClr val="8a88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1379520" y="2131920"/>
            <a:ext cx="5354640" cy="4216320"/>
          </a:xfrm>
          <a:custGeom>
            <a:avLst/>
            <a:gdLst/>
            <a:ahLst/>
            <a:rect l="l" t="t" r="r" b="b"/>
            <a:pathLst>
              <a:path w="3373" h="2656">
                <a:moveTo>
                  <a:pt x="0" y="2655"/>
                </a:moveTo>
                <a:lnTo>
                  <a:pt x="85" y="2648"/>
                </a:lnTo>
                <a:lnTo>
                  <a:pt x="171" y="2632"/>
                </a:lnTo>
                <a:lnTo>
                  <a:pt x="249" y="2601"/>
                </a:lnTo>
                <a:lnTo>
                  <a:pt x="335" y="2546"/>
                </a:lnTo>
                <a:lnTo>
                  <a:pt x="420" y="2476"/>
                </a:lnTo>
                <a:lnTo>
                  <a:pt x="506" y="2383"/>
                </a:lnTo>
                <a:lnTo>
                  <a:pt x="592" y="2266"/>
                </a:lnTo>
                <a:lnTo>
                  <a:pt x="677" y="2126"/>
                </a:lnTo>
                <a:lnTo>
                  <a:pt x="755" y="1947"/>
                </a:lnTo>
                <a:lnTo>
                  <a:pt x="841" y="1752"/>
                </a:lnTo>
                <a:lnTo>
                  <a:pt x="926" y="1534"/>
                </a:lnTo>
                <a:lnTo>
                  <a:pt x="1012" y="1301"/>
                </a:lnTo>
                <a:lnTo>
                  <a:pt x="1098" y="1059"/>
                </a:lnTo>
                <a:lnTo>
                  <a:pt x="1183" y="826"/>
                </a:lnTo>
                <a:lnTo>
                  <a:pt x="1261" y="600"/>
                </a:lnTo>
                <a:lnTo>
                  <a:pt x="1347" y="397"/>
                </a:lnTo>
                <a:lnTo>
                  <a:pt x="1433" y="234"/>
                </a:lnTo>
                <a:lnTo>
                  <a:pt x="1518" y="109"/>
                </a:lnTo>
                <a:lnTo>
                  <a:pt x="1604" y="24"/>
                </a:lnTo>
                <a:lnTo>
                  <a:pt x="1690" y="0"/>
                </a:lnTo>
                <a:lnTo>
                  <a:pt x="1767" y="24"/>
                </a:lnTo>
                <a:lnTo>
                  <a:pt x="1853" y="109"/>
                </a:lnTo>
                <a:lnTo>
                  <a:pt x="1939" y="234"/>
                </a:lnTo>
                <a:lnTo>
                  <a:pt x="2024" y="397"/>
                </a:lnTo>
                <a:lnTo>
                  <a:pt x="2110" y="600"/>
                </a:lnTo>
                <a:lnTo>
                  <a:pt x="2188" y="826"/>
                </a:lnTo>
                <a:lnTo>
                  <a:pt x="2274" y="1059"/>
                </a:lnTo>
                <a:lnTo>
                  <a:pt x="2359" y="1301"/>
                </a:lnTo>
                <a:lnTo>
                  <a:pt x="2445" y="1534"/>
                </a:lnTo>
                <a:lnTo>
                  <a:pt x="2531" y="1752"/>
                </a:lnTo>
                <a:lnTo>
                  <a:pt x="2616" y="1947"/>
                </a:lnTo>
                <a:lnTo>
                  <a:pt x="2694" y="2126"/>
                </a:lnTo>
                <a:lnTo>
                  <a:pt x="2780" y="2266"/>
                </a:lnTo>
                <a:lnTo>
                  <a:pt x="2866" y="2383"/>
                </a:lnTo>
                <a:lnTo>
                  <a:pt x="2951" y="2476"/>
                </a:lnTo>
                <a:lnTo>
                  <a:pt x="3037" y="2546"/>
                </a:lnTo>
                <a:lnTo>
                  <a:pt x="3122" y="2601"/>
                </a:lnTo>
                <a:lnTo>
                  <a:pt x="3200" y="2632"/>
                </a:lnTo>
                <a:lnTo>
                  <a:pt x="3286" y="2648"/>
                </a:lnTo>
                <a:lnTo>
                  <a:pt x="3372" y="2655"/>
                </a:lnTo>
              </a:path>
            </a:pathLst>
          </a:custGeom>
          <a:noFill/>
          <a:ln cap="rnd" w="255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2444760" y="1655640"/>
            <a:ext cx="3283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iksni vremenski otvo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7134480" y="5902200"/>
            <a:ext cx="909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zorc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7054920" y="2001960"/>
            <a:ext cx="162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9913"/>
                </a:solidFill>
                <a:latin typeface="Arial"/>
              </a:rPr>
              <a:t>Pravokut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7054560" y="2422440"/>
            <a:ext cx="1472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abfff7"/>
                </a:solidFill>
                <a:latin typeface="Arial"/>
              </a:rPr>
              <a:t>Bartlett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7056360" y="2817720"/>
            <a:ext cx="123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ff66"/>
                </a:solidFill>
                <a:latin typeface="Arial"/>
              </a:rPr>
              <a:t>Hann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7056360" y="3214800"/>
            <a:ext cx="180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a8891"/>
                </a:solidFill>
                <a:latin typeface="Arial"/>
              </a:rPr>
              <a:t>Hamming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7056360" y="3635280"/>
            <a:ext cx="1843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66"/>
                </a:solidFill>
                <a:latin typeface="Arial"/>
              </a:rPr>
              <a:t>Blackman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"/>
          <p:cNvSpPr/>
          <p:nvPr/>
        </p:nvSpPr>
        <p:spPr>
          <a:xfrm flipV="1">
            <a:off x="860400" y="2840040"/>
            <a:ext cx="0" cy="27352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 flipV="1">
            <a:off x="1558800" y="2840040"/>
            <a:ext cx="0" cy="273528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 flipV="1">
            <a:off x="2257560" y="2840040"/>
            <a:ext cx="0" cy="273528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 flipV="1">
            <a:off x="2949480" y="2840040"/>
            <a:ext cx="0" cy="273528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 flipV="1">
            <a:off x="3648240" y="2840040"/>
            <a:ext cx="0" cy="273528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860400" y="5575320"/>
            <a:ext cx="3479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860400" y="5030640"/>
            <a:ext cx="347976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860400" y="4484520"/>
            <a:ext cx="347976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860400" y="3930480"/>
            <a:ext cx="347976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860400" y="3384720"/>
            <a:ext cx="347976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860400" y="2840040"/>
            <a:ext cx="3479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860400" y="2840040"/>
            <a:ext cx="3481560" cy="2736720"/>
          </a:xfrm>
          <a:custGeom>
            <a:avLst/>
            <a:gdLst/>
            <a:ahLst/>
            <a:rect l="l" t="t" r="r" b="b"/>
            <a:pathLst>
              <a:path w="2193" h="1724">
                <a:moveTo>
                  <a:pt x="0" y="1723"/>
                </a:moveTo>
                <a:lnTo>
                  <a:pt x="0" y="0"/>
                </a:lnTo>
                <a:lnTo>
                  <a:pt x="2192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860400" y="2840040"/>
            <a:ext cx="3481560" cy="2736720"/>
          </a:xfrm>
          <a:custGeom>
            <a:avLst/>
            <a:gdLst/>
            <a:ahLst/>
            <a:rect l="l" t="t" r="r" b="b"/>
            <a:pathLst>
              <a:path w="2193" h="1724">
                <a:moveTo>
                  <a:pt x="0" y="1723"/>
                </a:moveTo>
                <a:lnTo>
                  <a:pt x="0" y="0"/>
                </a:lnTo>
                <a:lnTo>
                  <a:pt x="2192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860400" y="2840040"/>
            <a:ext cx="3481560" cy="2736720"/>
          </a:xfrm>
          <a:custGeom>
            <a:avLst/>
            <a:gdLst/>
            <a:ahLst/>
            <a:rect l="l" t="t" r="r" b="b"/>
            <a:pathLst>
              <a:path w="2193" h="1724">
                <a:moveTo>
                  <a:pt x="0" y="1723"/>
                </a:moveTo>
                <a:lnTo>
                  <a:pt x="0" y="0"/>
                </a:lnTo>
                <a:lnTo>
                  <a:pt x="2192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860400" y="5575320"/>
            <a:ext cx="3479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860400" y="2840040"/>
            <a:ext cx="3479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 flipV="1">
            <a:off x="860400" y="2840040"/>
            <a:ext cx="0" cy="27352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860400" y="2840040"/>
            <a:ext cx="255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860400" y="5575320"/>
            <a:ext cx="3479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 flipV="1">
            <a:off x="860400" y="2840040"/>
            <a:ext cx="0" cy="27352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860400" y="5575320"/>
            <a:ext cx="255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 flipV="1">
            <a:off x="860400" y="554364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860400" y="284004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697680" y="55818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 flipV="1">
            <a:off x="1558800" y="554364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1558800" y="284004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1222920" y="5618160"/>
            <a:ext cx="67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,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 flipV="1">
            <a:off x="2257560" y="554364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2257560" y="284004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1981800" y="5603760"/>
            <a:ext cx="67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,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 flipV="1">
            <a:off x="2949480" y="554364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2949480" y="284004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2708640" y="5627520"/>
            <a:ext cx="67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,6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 flipV="1">
            <a:off x="3648240" y="554364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3648240" y="284004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3408840" y="5629320"/>
            <a:ext cx="67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860400" y="557532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 flipH="1">
            <a:off x="4307040" y="5575320"/>
            <a:ext cx="33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860400" y="530388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 flipH="1">
            <a:off x="4307040" y="5303880"/>
            <a:ext cx="33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860400" y="503064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 flipH="1">
            <a:off x="4307040" y="5030640"/>
            <a:ext cx="33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860400" y="475776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 flipH="1">
            <a:off x="4307040" y="4757760"/>
            <a:ext cx="33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860400" y="448452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 flipH="1">
            <a:off x="4307040" y="4484520"/>
            <a:ext cx="33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860400" y="421164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 flipH="1">
            <a:off x="4307040" y="4211640"/>
            <a:ext cx="33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860400" y="393048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 flipH="1">
            <a:off x="4307040" y="3930480"/>
            <a:ext cx="33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860400" y="365760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 flipH="1">
            <a:off x="4307040" y="3657600"/>
            <a:ext cx="33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860400" y="338472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 flipH="1">
            <a:off x="4307040" y="3384720"/>
            <a:ext cx="33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860400" y="311292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 flipH="1">
            <a:off x="4307040" y="3112920"/>
            <a:ext cx="33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860400" y="284004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 flipH="1">
            <a:off x="4307040" y="2840040"/>
            <a:ext cx="33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6" name=""/>
          <p:cNvGrpSpPr/>
          <p:nvPr/>
        </p:nvGrpSpPr>
        <p:grpSpPr>
          <a:xfrm>
            <a:off x="225360" y="2608200"/>
            <a:ext cx="695520" cy="3134520"/>
            <a:chOff x="225360" y="2608200"/>
            <a:chExt cx="695520" cy="3134520"/>
          </a:xfrm>
        </p:grpSpPr>
        <p:sp>
          <p:nvSpPr>
            <p:cNvPr id="3187" name=""/>
            <p:cNvSpPr/>
            <p:nvPr/>
          </p:nvSpPr>
          <p:spPr>
            <a:xfrm>
              <a:off x="225360" y="5345280"/>
              <a:ext cx="695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98800" y="479916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298800" y="425304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298800" y="370044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298800" y="315432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412200" y="260820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3" name=""/>
          <p:cNvSpPr/>
          <p:nvPr/>
        </p:nvSpPr>
        <p:spPr>
          <a:xfrm>
            <a:off x="860400" y="5575320"/>
            <a:ext cx="3479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860400" y="2840040"/>
            <a:ext cx="3479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 flipV="1">
            <a:off x="860400" y="2840040"/>
            <a:ext cx="0" cy="27352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 flipV="1">
            <a:off x="4371840" y="2840040"/>
            <a:ext cx="0" cy="27352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860400" y="5575320"/>
            <a:ext cx="255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860400" y="2840040"/>
            <a:ext cx="3481560" cy="1646280"/>
          </a:xfrm>
          <a:custGeom>
            <a:avLst/>
            <a:gdLst/>
            <a:ahLst/>
            <a:rect l="l" t="t" r="r" b="b"/>
            <a:pathLst>
              <a:path w="2193" h="1037">
                <a:moveTo>
                  <a:pt x="0" y="0"/>
                </a:moveTo>
                <a:lnTo>
                  <a:pt x="5" y="0"/>
                </a:lnTo>
                <a:lnTo>
                  <a:pt x="10" y="0"/>
                </a:lnTo>
                <a:lnTo>
                  <a:pt x="15" y="5"/>
                </a:lnTo>
                <a:lnTo>
                  <a:pt x="20" y="10"/>
                </a:lnTo>
                <a:lnTo>
                  <a:pt x="25" y="15"/>
                </a:lnTo>
                <a:lnTo>
                  <a:pt x="30" y="20"/>
                </a:lnTo>
                <a:lnTo>
                  <a:pt x="35" y="25"/>
                </a:lnTo>
                <a:lnTo>
                  <a:pt x="40" y="35"/>
                </a:lnTo>
                <a:lnTo>
                  <a:pt x="40" y="40"/>
                </a:lnTo>
                <a:lnTo>
                  <a:pt x="45" y="50"/>
                </a:lnTo>
                <a:lnTo>
                  <a:pt x="50" y="60"/>
                </a:lnTo>
                <a:lnTo>
                  <a:pt x="55" y="76"/>
                </a:lnTo>
                <a:lnTo>
                  <a:pt x="60" y="86"/>
                </a:lnTo>
                <a:lnTo>
                  <a:pt x="65" y="101"/>
                </a:lnTo>
                <a:lnTo>
                  <a:pt x="70" y="121"/>
                </a:lnTo>
                <a:lnTo>
                  <a:pt x="70" y="141"/>
                </a:lnTo>
                <a:lnTo>
                  <a:pt x="75" y="161"/>
                </a:lnTo>
                <a:lnTo>
                  <a:pt x="81" y="187"/>
                </a:lnTo>
                <a:lnTo>
                  <a:pt x="86" y="217"/>
                </a:lnTo>
                <a:lnTo>
                  <a:pt x="91" y="257"/>
                </a:lnTo>
                <a:lnTo>
                  <a:pt x="96" y="303"/>
                </a:lnTo>
                <a:lnTo>
                  <a:pt x="96" y="369"/>
                </a:lnTo>
                <a:lnTo>
                  <a:pt x="101" y="480"/>
                </a:lnTo>
                <a:lnTo>
                  <a:pt x="106" y="1036"/>
                </a:lnTo>
                <a:lnTo>
                  <a:pt x="111" y="485"/>
                </a:lnTo>
                <a:lnTo>
                  <a:pt x="116" y="389"/>
                </a:lnTo>
                <a:lnTo>
                  <a:pt x="121" y="338"/>
                </a:lnTo>
                <a:lnTo>
                  <a:pt x="126" y="303"/>
                </a:lnTo>
                <a:lnTo>
                  <a:pt x="126" y="278"/>
                </a:lnTo>
                <a:lnTo>
                  <a:pt x="131" y="257"/>
                </a:lnTo>
                <a:lnTo>
                  <a:pt x="136" y="247"/>
                </a:lnTo>
                <a:lnTo>
                  <a:pt x="141" y="237"/>
                </a:lnTo>
                <a:lnTo>
                  <a:pt x="146" y="232"/>
                </a:lnTo>
                <a:lnTo>
                  <a:pt x="151" y="227"/>
                </a:lnTo>
                <a:lnTo>
                  <a:pt x="156" y="227"/>
                </a:lnTo>
                <a:lnTo>
                  <a:pt x="156" y="232"/>
                </a:lnTo>
                <a:lnTo>
                  <a:pt x="162" y="232"/>
                </a:lnTo>
                <a:lnTo>
                  <a:pt x="167" y="242"/>
                </a:lnTo>
                <a:lnTo>
                  <a:pt x="172" y="247"/>
                </a:lnTo>
                <a:lnTo>
                  <a:pt x="177" y="263"/>
                </a:lnTo>
                <a:lnTo>
                  <a:pt x="182" y="273"/>
                </a:lnTo>
                <a:lnTo>
                  <a:pt x="182" y="293"/>
                </a:lnTo>
                <a:lnTo>
                  <a:pt x="187" y="313"/>
                </a:lnTo>
                <a:lnTo>
                  <a:pt x="192" y="338"/>
                </a:lnTo>
                <a:lnTo>
                  <a:pt x="197" y="374"/>
                </a:lnTo>
                <a:lnTo>
                  <a:pt x="202" y="419"/>
                </a:lnTo>
                <a:lnTo>
                  <a:pt x="207" y="480"/>
                </a:lnTo>
                <a:lnTo>
                  <a:pt x="212" y="591"/>
                </a:lnTo>
                <a:lnTo>
                  <a:pt x="212" y="1036"/>
                </a:lnTo>
                <a:lnTo>
                  <a:pt x="217" y="581"/>
                </a:lnTo>
                <a:lnTo>
                  <a:pt x="222" y="485"/>
                </a:lnTo>
                <a:lnTo>
                  <a:pt x="227" y="429"/>
                </a:lnTo>
                <a:lnTo>
                  <a:pt x="232" y="394"/>
                </a:lnTo>
                <a:lnTo>
                  <a:pt x="237" y="369"/>
                </a:lnTo>
                <a:lnTo>
                  <a:pt x="237" y="348"/>
                </a:lnTo>
                <a:lnTo>
                  <a:pt x="243" y="333"/>
                </a:lnTo>
                <a:lnTo>
                  <a:pt x="248" y="323"/>
                </a:lnTo>
                <a:lnTo>
                  <a:pt x="253" y="313"/>
                </a:lnTo>
                <a:lnTo>
                  <a:pt x="258" y="308"/>
                </a:lnTo>
                <a:lnTo>
                  <a:pt x="263" y="308"/>
                </a:lnTo>
                <a:lnTo>
                  <a:pt x="268" y="308"/>
                </a:lnTo>
                <a:lnTo>
                  <a:pt x="273" y="313"/>
                </a:lnTo>
                <a:lnTo>
                  <a:pt x="278" y="323"/>
                </a:lnTo>
                <a:lnTo>
                  <a:pt x="283" y="333"/>
                </a:lnTo>
                <a:lnTo>
                  <a:pt x="288" y="343"/>
                </a:lnTo>
                <a:lnTo>
                  <a:pt x="293" y="359"/>
                </a:lnTo>
                <a:lnTo>
                  <a:pt x="293" y="379"/>
                </a:lnTo>
                <a:lnTo>
                  <a:pt x="298" y="404"/>
                </a:lnTo>
                <a:lnTo>
                  <a:pt x="303" y="439"/>
                </a:lnTo>
                <a:lnTo>
                  <a:pt x="308" y="480"/>
                </a:lnTo>
                <a:lnTo>
                  <a:pt x="313" y="546"/>
                </a:lnTo>
                <a:lnTo>
                  <a:pt x="318" y="657"/>
                </a:lnTo>
                <a:lnTo>
                  <a:pt x="324" y="1036"/>
                </a:lnTo>
                <a:lnTo>
                  <a:pt x="324" y="637"/>
                </a:lnTo>
                <a:lnTo>
                  <a:pt x="329" y="541"/>
                </a:lnTo>
                <a:lnTo>
                  <a:pt x="334" y="485"/>
                </a:lnTo>
                <a:lnTo>
                  <a:pt x="339" y="450"/>
                </a:lnTo>
                <a:lnTo>
                  <a:pt x="344" y="419"/>
                </a:lnTo>
                <a:lnTo>
                  <a:pt x="349" y="399"/>
                </a:lnTo>
                <a:lnTo>
                  <a:pt x="349" y="384"/>
                </a:lnTo>
                <a:lnTo>
                  <a:pt x="354" y="374"/>
                </a:lnTo>
                <a:lnTo>
                  <a:pt x="359" y="364"/>
                </a:lnTo>
                <a:lnTo>
                  <a:pt x="364" y="359"/>
                </a:lnTo>
                <a:lnTo>
                  <a:pt x="369" y="359"/>
                </a:lnTo>
                <a:lnTo>
                  <a:pt x="374" y="359"/>
                </a:lnTo>
                <a:lnTo>
                  <a:pt x="379" y="359"/>
                </a:lnTo>
                <a:lnTo>
                  <a:pt x="379" y="364"/>
                </a:lnTo>
                <a:lnTo>
                  <a:pt x="384" y="369"/>
                </a:lnTo>
                <a:lnTo>
                  <a:pt x="389" y="379"/>
                </a:lnTo>
                <a:lnTo>
                  <a:pt x="394" y="389"/>
                </a:lnTo>
                <a:lnTo>
                  <a:pt x="399" y="404"/>
                </a:lnTo>
                <a:lnTo>
                  <a:pt x="405" y="424"/>
                </a:lnTo>
                <a:lnTo>
                  <a:pt x="405" y="450"/>
                </a:lnTo>
                <a:lnTo>
                  <a:pt x="410" y="485"/>
                </a:lnTo>
                <a:lnTo>
                  <a:pt x="415" y="525"/>
                </a:lnTo>
                <a:lnTo>
                  <a:pt x="420" y="591"/>
                </a:lnTo>
                <a:lnTo>
                  <a:pt x="425" y="702"/>
                </a:lnTo>
                <a:lnTo>
                  <a:pt x="430" y="1036"/>
                </a:lnTo>
                <a:lnTo>
                  <a:pt x="435" y="677"/>
                </a:lnTo>
                <a:lnTo>
                  <a:pt x="435" y="581"/>
                </a:lnTo>
                <a:lnTo>
                  <a:pt x="440" y="525"/>
                </a:lnTo>
                <a:lnTo>
                  <a:pt x="445" y="490"/>
                </a:lnTo>
                <a:lnTo>
                  <a:pt x="450" y="460"/>
                </a:lnTo>
                <a:lnTo>
                  <a:pt x="455" y="439"/>
                </a:lnTo>
                <a:lnTo>
                  <a:pt x="460" y="424"/>
                </a:lnTo>
                <a:lnTo>
                  <a:pt x="465" y="409"/>
                </a:lnTo>
                <a:lnTo>
                  <a:pt x="465" y="404"/>
                </a:lnTo>
                <a:lnTo>
                  <a:pt x="470" y="399"/>
                </a:lnTo>
                <a:lnTo>
                  <a:pt x="475" y="394"/>
                </a:lnTo>
                <a:lnTo>
                  <a:pt x="480" y="394"/>
                </a:lnTo>
                <a:lnTo>
                  <a:pt x="486" y="394"/>
                </a:lnTo>
                <a:lnTo>
                  <a:pt x="491" y="399"/>
                </a:lnTo>
                <a:lnTo>
                  <a:pt x="491" y="404"/>
                </a:lnTo>
                <a:lnTo>
                  <a:pt x="496" y="414"/>
                </a:lnTo>
                <a:lnTo>
                  <a:pt x="501" y="424"/>
                </a:lnTo>
                <a:lnTo>
                  <a:pt x="506" y="439"/>
                </a:lnTo>
                <a:lnTo>
                  <a:pt x="511" y="460"/>
                </a:lnTo>
                <a:lnTo>
                  <a:pt x="516" y="485"/>
                </a:lnTo>
                <a:lnTo>
                  <a:pt x="521" y="515"/>
                </a:lnTo>
                <a:lnTo>
                  <a:pt x="521" y="561"/>
                </a:lnTo>
                <a:lnTo>
                  <a:pt x="526" y="621"/>
                </a:lnTo>
                <a:lnTo>
                  <a:pt x="531" y="738"/>
                </a:lnTo>
                <a:lnTo>
                  <a:pt x="536" y="1036"/>
                </a:lnTo>
                <a:lnTo>
                  <a:pt x="541" y="702"/>
                </a:lnTo>
                <a:lnTo>
                  <a:pt x="546" y="611"/>
                </a:lnTo>
                <a:lnTo>
                  <a:pt x="546" y="556"/>
                </a:lnTo>
                <a:lnTo>
                  <a:pt x="551" y="520"/>
                </a:lnTo>
                <a:lnTo>
                  <a:pt x="556" y="490"/>
                </a:lnTo>
                <a:lnTo>
                  <a:pt x="561" y="470"/>
                </a:lnTo>
                <a:lnTo>
                  <a:pt x="567" y="455"/>
                </a:lnTo>
                <a:lnTo>
                  <a:pt x="572" y="439"/>
                </a:lnTo>
                <a:lnTo>
                  <a:pt x="577" y="434"/>
                </a:lnTo>
                <a:lnTo>
                  <a:pt x="577" y="424"/>
                </a:lnTo>
                <a:lnTo>
                  <a:pt x="582" y="424"/>
                </a:lnTo>
                <a:lnTo>
                  <a:pt x="587" y="419"/>
                </a:lnTo>
                <a:lnTo>
                  <a:pt x="592" y="424"/>
                </a:lnTo>
                <a:lnTo>
                  <a:pt x="597" y="424"/>
                </a:lnTo>
                <a:lnTo>
                  <a:pt x="602" y="434"/>
                </a:lnTo>
                <a:lnTo>
                  <a:pt x="602" y="439"/>
                </a:lnTo>
                <a:lnTo>
                  <a:pt x="607" y="455"/>
                </a:lnTo>
                <a:lnTo>
                  <a:pt x="612" y="470"/>
                </a:lnTo>
                <a:lnTo>
                  <a:pt x="617" y="490"/>
                </a:lnTo>
                <a:lnTo>
                  <a:pt x="622" y="510"/>
                </a:lnTo>
                <a:lnTo>
                  <a:pt x="627" y="546"/>
                </a:lnTo>
                <a:lnTo>
                  <a:pt x="632" y="586"/>
                </a:lnTo>
                <a:lnTo>
                  <a:pt x="632" y="652"/>
                </a:lnTo>
                <a:lnTo>
                  <a:pt x="637" y="768"/>
                </a:lnTo>
                <a:lnTo>
                  <a:pt x="642" y="1031"/>
                </a:lnTo>
                <a:lnTo>
                  <a:pt x="648" y="728"/>
                </a:lnTo>
                <a:lnTo>
                  <a:pt x="653" y="632"/>
                </a:lnTo>
                <a:lnTo>
                  <a:pt x="658" y="581"/>
                </a:lnTo>
                <a:lnTo>
                  <a:pt x="658" y="541"/>
                </a:lnTo>
                <a:lnTo>
                  <a:pt x="663" y="515"/>
                </a:lnTo>
                <a:lnTo>
                  <a:pt x="668" y="495"/>
                </a:lnTo>
                <a:lnTo>
                  <a:pt x="673" y="475"/>
                </a:lnTo>
                <a:lnTo>
                  <a:pt x="678" y="465"/>
                </a:lnTo>
                <a:lnTo>
                  <a:pt x="683" y="455"/>
                </a:lnTo>
                <a:lnTo>
                  <a:pt x="688" y="450"/>
                </a:lnTo>
                <a:lnTo>
                  <a:pt x="688" y="445"/>
                </a:lnTo>
                <a:lnTo>
                  <a:pt x="693" y="445"/>
                </a:lnTo>
                <a:lnTo>
                  <a:pt x="698" y="445"/>
                </a:lnTo>
                <a:lnTo>
                  <a:pt x="703" y="450"/>
                </a:lnTo>
                <a:lnTo>
                  <a:pt x="708" y="455"/>
                </a:lnTo>
                <a:lnTo>
                  <a:pt x="713" y="465"/>
                </a:lnTo>
                <a:lnTo>
                  <a:pt x="718" y="475"/>
                </a:lnTo>
                <a:lnTo>
                  <a:pt x="718" y="490"/>
                </a:lnTo>
                <a:lnTo>
                  <a:pt x="723" y="510"/>
                </a:lnTo>
                <a:lnTo>
                  <a:pt x="729" y="536"/>
                </a:lnTo>
                <a:lnTo>
                  <a:pt x="734" y="566"/>
                </a:lnTo>
                <a:lnTo>
                  <a:pt x="739" y="611"/>
                </a:lnTo>
                <a:lnTo>
                  <a:pt x="744" y="677"/>
                </a:lnTo>
                <a:lnTo>
                  <a:pt x="744" y="793"/>
                </a:lnTo>
                <a:lnTo>
                  <a:pt x="749" y="1031"/>
                </a:lnTo>
                <a:lnTo>
                  <a:pt x="754" y="743"/>
                </a:lnTo>
                <a:lnTo>
                  <a:pt x="759" y="652"/>
                </a:lnTo>
                <a:lnTo>
                  <a:pt x="764" y="601"/>
                </a:lnTo>
                <a:lnTo>
                  <a:pt x="769" y="561"/>
                </a:lnTo>
                <a:lnTo>
                  <a:pt x="774" y="536"/>
                </a:lnTo>
                <a:lnTo>
                  <a:pt x="774" y="515"/>
                </a:lnTo>
                <a:lnTo>
                  <a:pt x="779" y="495"/>
                </a:lnTo>
                <a:lnTo>
                  <a:pt x="784" y="485"/>
                </a:lnTo>
                <a:lnTo>
                  <a:pt x="789" y="475"/>
                </a:lnTo>
                <a:lnTo>
                  <a:pt x="794" y="470"/>
                </a:lnTo>
                <a:lnTo>
                  <a:pt x="799" y="465"/>
                </a:lnTo>
                <a:lnTo>
                  <a:pt x="804" y="465"/>
                </a:lnTo>
                <a:lnTo>
                  <a:pt x="810" y="470"/>
                </a:lnTo>
                <a:lnTo>
                  <a:pt x="815" y="475"/>
                </a:lnTo>
                <a:lnTo>
                  <a:pt x="820" y="485"/>
                </a:lnTo>
                <a:lnTo>
                  <a:pt x="825" y="495"/>
                </a:lnTo>
                <a:lnTo>
                  <a:pt x="830" y="510"/>
                </a:lnTo>
                <a:lnTo>
                  <a:pt x="830" y="530"/>
                </a:lnTo>
                <a:lnTo>
                  <a:pt x="835" y="556"/>
                </a:lnTo>
                <a:lnTo>
                  <a:pt x="840" y="586"/>
                </a:lnTo>
                <a:lnTo>
                  <a:pt x="845" y="632"/>
                </a:lnTo>
                <a:lnTo>
                  <a:pt x="850" y="697"/>
                </a:lnTo>
                <a:lnTo>
                  <a:pt x="855" y="814"/>
                </a:lnTo>
                <a:lnTo>
                  <a:pt x="855" y="1026"/>
                </a:lnTo>
                <a:lnTo>
                  <a:pt x="860" y="758"/>
                </a:lnTo>
                <a:lnTo>
                  <a:pt x="865" y="667"/>
                </a:lnTo>
                <a:lnTo>
                  <a:pt x="870" y="616"/>
                </a:lnTo>
                <a:lnTo>
                  <a:pt x="875" y="576"/>
                </a:lnTo>
                <a:lnTo>
                  <a:pt x="880" y="551"/>
                </a:lnTo>
                <a:lnTo>
                  <a:pt x="885" y="530"/>
                </a:lnTo>
                <a:lnTo>
                  <a:pt x="885" y="515"/>
                </a:lnTo>
                <a:lnTo>
                  <a:pt x="891" y="500"/>
                </a:lnTo>
                <a:lnTo>
                  <a:pt x="896" y="490"/>
                </a:lnTo>
                <a:lnTo>
                  <a:pt x="901" y="485"/>
                </a:lnTo>
                <a:lnTo>
                  <a:pt x="906" y="480"/>
                </a:lnTo>
                <a:lnTo>
                  <a:pt x="911" y="480"/>
                </a:lnTo>
                <a:lnTo>
                  <a:pt x="916" y="485"/>
                </a:lnTo>
                <a:lnTo>
                  <a:pt x="921" y="490"/>
                </a:lnTo>
                <a:lnTo>
                  <a:pt x="926" y="500"/>
                </a:lnTo>
                <a:lnTo>
                  <a:pt x="931" y="510"/>
                </a:lnTo>
                <a:lnTo>
                  <a:pt x="936" y="525"/>
                </a:lnTo>
                <a:lnTo>
                  <a:pt x="941" y="546"/>
                </a:lnTo>
                <a:lnTo>
                  <a:pt x="941" y="571"/>
                </a:lnTo>
                <a:lnTo>
                  <a:pt x="946" y="601"/>
                </a:lnTo>
                <a:lnTo>
                  <a:pt x="951" y="647"/>
                </a:lnTo>
                <a:lnTo>
                  <a:pt x="956" y="712"/>
                </a:lnTo>
                <a:lnTo>
                  <a:pt x="961" y="834"/>
                </a:lnTo>
                <a:lnTo>
                  <a:pt x="966" y="1026"/>
                </a:lnTo>
                <a:lnTo>
                  <a:pt x="972" y="768"/>
                </a:lnTo>
                <a:lnTo>
                  <a:pt x="972" y="682"/>
                </a:lnTo>
                <a:lnTo>
                  <a:pt x="977" y="632"/>
                </a:lnTo>
                <a:lnTo>
                  <a:pt x="982" y="591"/>
                </a:lnTo>
                <a:lnTo>
                  <a:pt x="987" y="566"/>
                </a:lnTo>
                <a:lnTo>
                  <a:pt x="992" y="546"/>
                </a:lnTo>
                <a:lnTo>
                  <a:pt x="997" y="525"/>
                </a:lnTo>
                <a:lnTo>
                  <a:pt x="997" y="515"/>
                </a:lnTo>
                <a:lnTo>
                  <a:pt x="1002" y="505"/>
                </a:lnTo>
                <a:lnTo>
                  <a:pt x="1007" y="500"/>
                </a:lnTo>
                <a:lnTo>
                  <a:pt x="1012" y="495"/>
                </a:lnTo>
                <a:lnTo>
                  <a:pt x="1017" y="495"/>
                </a:lnTo>
                <a:lnTo>
                  <a:pt x="1022" y="495"/>
                </a:lnTo>
                <a:lnTo>
                  <a:pt x="1027" y="500"/>
                </a:lnTo>
                <a:lnTo>
                  <a:pt x="1027" y="505"/>
                </a:lnTo>
                <a:lnTo>
                  <a:pt x="1032" y="515"/>
                </a:lnTo>
                <a:lnTo>
                  <a:pt x="1037" y="525"/>
                </a:lnTo>
                <a:lnTo>
                  <a:pt x="1042" y="541"/>
                </a:lnTo>
                <a:lnTo>
                  <a:pt x="1047" y="561"/>
                </a:lnTo>
                <a:lnTo>
                  <a:pt x="1053" y="586"/>
                </a:lnTo>
                <a:lnTo>
                  <a:pt x="1053" y="616"/>
                </a:lnTo>
                <a:lnTo>
                  <a:pt x="1058" y="662"/>
                </a:lnTo>
                <a:lnTo>
                  <a:pt x="1063" y="728"/>
                </a:lnTo>
                <a:lnTo>
                  <a:pt x="1068" y="854"/>
                </a:lnTo>
                <a:lnTo>
                  <a:pt x="1073" y="1021"/>
                </a:lnTo>
                <a:lnTo>
                  <a:pt x="1078" y="778"/>
                </a:lnTo>
                <a:lnTo>
                  <a:pt x="1083" y="692"/>
                </a:lnTo>
                <a:lnTo>
                  <a:pt x="1083" y="642"/>
                </a:lnTo>
                <a:lnTo>
                  <a:pt x="1088" y="606"/>
                </a:lnTo>
                <a:lnTo>
                  <a:pt x="1093" y="576"/>
                </a:lnTo>
                <a:lnTo>
                  <a:pt x="1098" y="556"/>
                </a:lnTo>
                <a:lnTo>
                  <a:pt x="1103" y="541"/>
                </a:lnTo>
                <a:lnTo>
                  <a:pt x="1108" y="525"/>
                </a:lnTo>
                <a:lnTo>
                  <a:pt x="1108" y="520"/>
                </a:lnTo>
                <a:lnTo>
                  <a:pt x="1113" y="510"/>
                </a:lnTo>
                <a:lnTo>
                  <a:pt x="1118" y="510"/>
                </a:lnTo>
                <a:lnTo>
                  <a:pt x="1123" y="505"/>
                </a:lnTo>
                <a:lnTo>
                  <a:pt x="1128" y="505"/>
                </a:lnTo>
                <a:lnTo>
                  <a:pt x="1134" y="510"/>
                </a:lnTo>
                <a:lnTo>
                  <a:pt x="1139" y="515"/>
                </a:lnTo>
                <a:lnTo>
                  <a:pt x="1139" y="525"/>
                </a:lnTo>
                <a:lnTo>
                  <a:pt x="1144" y="536"/>
                </a:lnTo>
                <a:lnTo>
                  <a:pt x="1149" y="551"/>
                </a:lnTo>
                <a:lnTo>
                  <a:pt x="1154" y="571"/>
                </a:lnTo>
                <a:lnTo>
                  <a:pt x="1159" y="596"/>
                </a:lnTo>
                <a:lnTo>
                  <a:pt x="1164" y="632"/>
                </a:lnTo>
                <a:lnTo>
                  <a:pt x="1164" y="672"/>
                </a:lnTo>
                <a:lnTo>
                  <a:pt x="1169" y="743"/>
                </a:lnTo>
                <a:lnTo>
                  <a:pt x="1174" y="869"/>
                </a:lnTo>
                <a:lnTo>
                  <a:pt x="1179" y="1021"/>
                </a:lnTo>
                <a:lnTo>
                  <a:pt x="1184" y="788"/>
                </a:lnTo>
                <a:lnTo>
                  <a:pt x="1189" y="702"/>
                </a:lnTo>
                <a:lnTo>
                  <a:pt x="1194" y="652"/>
                </a:lnTo>
                <a:lnTo>
                  <a:pt x="1194" y="616"/>
                </a:lnTo>
                <a:lnTo>
                  <a:pt x="1199" y="586"/>
                </a:lnTo>
                <a:lnTo>
                  <a:pt x="1204" y="566"/>
                </a:lnTo>
                <a:lnTo>
                  <a:pt x="1209" y="551"/>
                </a:lnTo>
                <a:lnTo>
                  <a:pt x="1215" y="536"/>
                </a:lnTo>
                <a:lnTo>
                  <a:pt x="1220" y="530"/>
                </a:lnTo>
                <a:lnTo>
                  <a:pt x="1220" y="520"/>
                </a:lnTo>
                <a:lnTo>
                  <a:pt x="1225" y="520"/>
                </a:lnTo>
                <a:lnTo>
                  <a:pt x="1230" y="515"/>
                </a:lnTo>
                <a:lnTo>
                  <a:pt x="1235" y="520"/>
                </a:lnTo>
                <a:lnTo>
                  <a:pt x="1240" y="520"/>
                </a:lnTo>
                <a:lnTo>
                  <a:pt x="1245" y="525"/>
                </a:lnTo>
                <a:lnTo>
                  <a:pt x="1250" y="536"/>
                </a:lnTo>
                <a:lnTo>
                  <a:pt x="1250" y="546"/>
                </a:lnTo>
                <a:lnTo>
                  <a:pt x="1255" y="561"/>
                </a:lnTo>
                <a:lnTo>
                  <a:pt x="1260" y="581"/>
                </a:lnTo>
                <a:lnTo>
                  <a:pt x="1265" y="606"/>
                </a:lnTo>
                <a:lnTo>
                  <a:pt x="1270" y="642"/>
                </a:lnTo>
                <a:lnTo>
                  <a:pt x="1275" y="682"/>
                </a:lnTo>
                <a:lnTo>
                  <a:pt x="1280" y="753"/>
                </a:lnTo>
                <a:lnTo>
                  <a:pt x="1280" y="884"/>
                </a:lnTo>
                <a:lnTo>
                  <a:pt x="1285" y="1016"/>
                </a:lnTo>
                <a:lnTo>
                  <a:pt x="1290" y="793"/>
                </a:lnTo>
                <a:lnTo>
                  <a:pt x="1296" y="712"/>
                </a:lnTo>
                <a:lnTo>
                  <a:pt x="1301" y="657"/>
                </a:lnTo>
                <a:lnTo>
                  <a:pt x="1306" y="621"/>
                </a:lnTo>
                <a:lnTo>
                  <a:pt x="1306" y="596"/>
                </a:lnTo>
                <a:lnTo>
                  <a:pt x="1311" y="576"/>
                </a:lnTo>
                <a:lnTo>
                  <a:pt x="1316" y="561"/>
                </a:lnTo>
                <a:lnTo>
                  <a:pt x="1321" y="546"/>
                </a:lnTo>
                <a:lnTo>
                  <a:pt x="1326" y="536"/>
                </a:lnTo>
                <a:lnTo>
                  <a:pt x="1331" y="530"/>
                </a:lnTo>
                <a:lnTo>
                  <a:pt x="1336" y="525"/>
                </a:lnTo>
                <a:lnTo>
                  <a:pt x="1341" y="525"/>
                </a:lnTo>
                <a:lnTo>
                  <a:pt x="1346" y="530"/>
                </a:lnTo>
                <a:lnTo>
                  <a:pt x="1351" y="536"/>
                </a:lnTo>
                <a:lnTo>
                  <a:pt x="1356" y="546"/>
                </a:lnTo>
                <a:lnTo>
                  <a:pt x="1361" y="556"/>
                </a:lnTo>
                <a:lnTo>
                  <a:pt x="1361" y="571"/>
                </a:lnTo>
                <a:lnTo>
                  <a:pt x="1366" y="591"/>
                </a:lnTo>
                <a:lnTo>
                  <a:pt x="1371" y="616"/>
                </a:lnTo>
                <a:lnTo>
                  <a:pt x="1377" y="647"/>
                </a:lnTo>
                <a:lnTo>
                  <a:pt x="1382" y="692"/>
                </a:lnTo>
                <a:lnTo>
                  <a:pt x="1387" y="763"/>
                </a:lnTo>
                <a:lnTo>
                  <a:pt x="1392" y="899"/>
                </a:lnTo>
                <a:lnTo>
                  <a:pt x="1392" y="1011"/>
                </a:lnTo>
                <a:lnTo>
                  <a:pt x="1397" y="798"/>
                </a:lnTo>
                <a:lnTo>
                  <a:pt x="1402" y="717"/>
                </a:lnTo>
                <a:lnTo>
                  <a:pt x="1407" y="667"/>
                </a:lnTo>
                <a:lnTo>
                  <a:pt x="1412" y="632"/>
                </a:lnTo>
                <a:lnTo>
                  <a:pt x="1417" y="601"/>
                </a:lnTo>
                <a:lnTo>
                  <a:pt x="1417" y="581"/>
                </a:lnTo>
                <a:lnTo>
                  <a:pt x="1422" y="566"/>
                </a:lnTo>
                <a:lnTo>
                  <a:pt x="1427" y="556"/>
                </a:lnTo>
                <a:lnTo>
                  <a:pt x="1432" y="546"/>
                </a:lnTo>
                <a:lnTo>
                  <a:pt x="1437" y="541"/>
                </a:lnTo>
                <a:lnTo>
                  <a:pt x="1442" y="536"/>
                </a:lnTo>
                <a:lnTo>
                  <a:pt x="1447" y="536"/>
                </a:lnTo>
                <a:lnTo>
                  <a:pt x="1452" y="536"/>
                </a:lnTo>
                <a:lnTo>
                  <a:pt x="1458" y="546"/>
                </a:lnTo>
                <a:lnTo>
                  <a:pt x="1463" y="551"/>
                </a:lnTo>
                <a:lnTo>
                  <a:pt x="1468" y="566"/>
                </a:lnTo>
                <a:lnTo>
                  <a:pt x="1473" y="581"/>
                </a:lnTo>
                <a:lnTo>
                  <a:pt x="1473" y="596"/>
                </a:lnTo>
                <a:lnTo>
                  <a:pt x="1478" y="621"/>
                </a:lnTo>
                <a:lnTo>
                  <a:pt x="1483" y="657"/>
                </a:lnTo>
                <a:lnTo>
                  <a:pt x="1488" y="702"/>
                </a:lnTo>
                <a:lnTo>
                  <a:pt x="1493" y="773"/>
                </a:lnTo>
                <a:lnTo>
                  <a:pt x="1498" y="910"/>
                </a:lnTo>
                <a:lnTo>
                  <a:pt x="1503" y="1006"/>
                </a:lnTo>
                <a:lnTo>
                  <a:pt x="1503" y="803"/>
                </a:lnTo>
                <a:lnTo>
                  <a:pt x="1508" y="723"/>
                </a:lnTo>
                <a:lnTo>
                  <a:pt x="1513" y="672"/>
                </a:lnTo>
                <a:lnTo>
                  <a:pt x="1518" y="637"/>
                </a:lnTo>
                <a:lnTo>
                  <a:pt x="1523" y="606"/>
                </a:lnTo>
                <a:lnTo>
                  <a:pt x="1528" y="586"/>
                </a:lnTo>
                <a:lnTo>
                  <a:pt x="1533" y="571"/>
                </a:lnTo>
                <a:lnTo>
                  <a:pt x="1533" y="561"/>
                </a:lnTo>
                <a:lnTo>
                  <a:pt x="1539" y="551"/>
                </a:lnTo>
                <a:lnTo>
                  <a:pt x="1544" y="546"/>
                </a:lnTo>
                <a:lnTo>
                  <a:pt x="1549" y="541"/>
                </a:lnTo>
                <a:lnTo>
                  <a:pt x="1554" y="541"/>
                </a:lnTo>
                <a:lnTo>
                  <a:pt x="1559" y="541"/>
                </a:lnTo>
                <a:lnTo>
                  <a:pt x="1559" y="546"/>
                </a:lnTo>
                <a:lnTo>
                  <a:pt x="1564" y="551"/>
                </a:lnTo>
                <a:lnTo>
                  <a:pt x="1569" y="561"/>
                </a:lnTo>
                <a:lnTo>
                  <a:pt x="1574" y="571"/>
                </a:lnTo>
                <a:lnTo>
                  <a:pt x="1579" y="586"/>
                </a:lnTo>
                <a:lnTo>
                  <a:pt x="1584" y="606"/>
                </a:lnTo>
                <a:lnTo>
                  <a:pt x="1589" y="632"/>
                </a:lnTo>
                <a:lnTo>
                  <a:pt x="1589" y="662"/>
                </a:lnTo>
                <a:lnTo>
                  <a:pt x="1594" y="707"/>
                </a:lnTo>
                <a:lnTo>
                  <a:pt x="1599" y="778"/>
                </a:lnTo>
                <a:lnTo>
                  <a:pt x="1604" y="920"/>
                </a:lnTo>
                <a:lnTo>
                  <a:pt x="1609" y="1001"/>
                </a:lnTo>
                <a:lnTo>
                  <a:pt x="1614" y="808"/>
                </a:lnTo>
                <a:lnTo>
                  <a:pt x="1614" y="728"/>
                </a:lnTo>
                <a:lnTo>
                  <a:pt x="1620" y="677"/>
                </a:lnTo>
                <a:lnTo>
                  <a:pt x="1625" y="642"/>
                </a:lnTo>
                <a:lnTo>
                  <a:pt x="1630" y="611"/>
                </a:lnTo>
                <a:lnTo>
                  <a:pt x="1635" y="591"/>
                </a:lnTo>
                <a:lnTo>
                  <a:pt x="1640" y="576"/>
                </a:lnTo>
                <a:lnTo>
                  <a:pt x="1645" y="566"/>
                </a:lnTo>
                <a:lnTo>
                  <a:pt x="1645" y="556"/>
                </a:lnTo>
                <a:lnTo>
                  <a:pt x="1650" y="551"/>
                </a:lnTo>
                <a:lnTo>
                  <a:pt x="1655" y="546"/>
                </a:lnTo>
                <a:lnTo>
                  <a:pt x="1660" y="546"/>
                </a:lnTo>
                <a:lnTo>
                  <a:pt x="1665" y="546"/>
                </a:lnTo>
                <a:lnTo>
                  <a:pt x="1670" y="551"/>
                </a:lnTo>
                <a:lnTo>
                  <a:pt x="1670" y="556"/>
                </a:lnTo>
                <a:lnTo>
                  <a:pt x="1675" y="566"/>
                </a:lnTo>
                <a:lnTo>
                  <a:pt x="1680" y="576"/>
                </a:lnTo>
                <a:lnTo>
                  <a:pt x="1685" y="591"/>
                </a:lnTo>
                <a:lnTo>
                  <a:pt x="1690" y="611"/>
                </a:lnTo>
                <a:lnTo>
                  <a:pt x="1695" y="637"/>
                </a:lnTo>
                <a:lnTo>
                  <a:pt x="1701" y="667"/>
                </a:lnTo>
                <a:lnTo>
                  <a:pt x="1701" y="717"/>
                </a:lnTo>
                <a:lnTo>
                  <a:pt x="1706" y="788"/>
                </a:lnTo>
                <a:lnTo>
                  <a:pt x="1711" y="930"/>
                </a:lnTo>
                <a:lnTo>
                  <a:pt x="1716" y="995"/>
                </a:lnTo>
                <a:lnTo>
                  <a:pt x="1721" y="808"/>
                </a:lnTo>
                <a:lnTo>
                  <a:pt x="1726" y="728"/>
                </a:lnTo>
                <a:lnTo>
                  <a:pt x="1726" y="677"/>
                </a:lnTo>
                <a:lnTo>
                  <a:pt x="1731" y="642"/>
                </a:lnTo>
                <a:lnTo>
                  <a:pt x="1736" y="616"/>
                </a:lnTo>
                <a:lnTo>
                  <a:pt x="1741" y="596"/>
                </a:lnTo>
                <a:lnTo>
                  <a:pt x="1746" y="581"/>
                </a:lnTo>
                <a:lnTo>
                  <a:pt x="1751" y="571"/>
                </a:lnTo>
                <a:lnTo>
                  <a:pt x="1756" y="561"/>
                </a:lnTo>
                <a:lnTo>
                  <a:pt x="1756" y="556"/>
                </a:lnTo>
                <a:lnTo>
                  <a:pt x="1761" y="551"/>
                </a:lnTo>
                <a:lnTo>
                  <a:pt x="1766" y="551"/>
                </a:lnTo>
                <a:lnTo>
                  <a:pt x="1771" y="551"/>
                </a:lnTo>
                <a:lnTo>
                  <a:pt x="1776" y="551"/>
                </a:lnTo>
                <a:lnTo>
                  <a:pt x="1782" y="561"/>
                </a:lnTo>
                <a:lnTo>
                  <a:pt x="1787" y="566"/>
                </a:lnTo>
                <a:lnTo>
                  <a:pt x="1787" y="581"/>
                </a:lnTo>
                <a:lnTo>
                  <a:pt x="1792" y="596"/>
                </a:lnTo>
                <a:lnTo>
                  <a:pt x="1797" y="616"/>
                </a:lnTo>
                <a:lnTo>
                  <a:pt x="1802" y="642"/>
                </a:lnTo>
                <a:lnTo>
                  <a:pt x="1807" y="672"/>
                </a:lnTo>
                <a:lnTo>
                  <a:pt x="1812" y="723"/>
                </a:lnTo>
                <a:lnTo>
                  <a:pt x="1812" y="793"/>
                </a:lnTo>
                <a:lnTo>
                  <a:pt x="1817" y="940"/>
                </a:lnTo>
                <a:lnTo>
                  <a:pt x="1822" y="990"/>
                </a:lnTo>
                <a:lnTo>
                  <a:pt x="1827" y="808"/>
                </a:lnTo>
                <a:lnTo>
                  <a:pt x="1832" y="733"/>
                </a:lnTo>
                <a:lnTo>
                  <a:pt x="1837" y="682"/>
                </a:lnTo>
                <a:lnTo>
                  <a:pt x="1842" y="647"/>
                </a:lnTo>
                <a:lnTo>
                  <a:pt x="1842" y="621"/>
                </a:lnTo>
                <a:lnTo>
                  <a:pt x="1847" y="601"/>
                </a:lnTo>
                <a:lnTo>
                  <a:pt x="1852" y="586"/>
                </a:lnTo>
                <a:lnTo>
                  <a:pt x="1857" y="571"/>
                </a:lnTo>
                <a:lnTo>
                  <a:pt x="1863" y="561"/>
                </a:lnTo>
                <a:lnTo>
                  <a:pt x="1868" y="556"/>
                </a:lnTo>
                <a:lnTo>
                  <a:pt x="1868" y="551"/>
                </a:lnTo>
                <a:lnTo>
                  <a:pt x="1873" y="551"/>
                </a:lnTo>
                <a:lnTo>
                  <a:pt x="1878" y="551"/>
                </a:lnTo>
                <a:lnTo>
                  <a:pt x="1883" y="556"/>
                </a:lnTo>
                <a:lnTo>
                  <a:pt x="1888" y="561"/>
                </a:lnTo>
                <a:lnTo>
                  <a:pt x="1893" y="571"/>
                </a:lnTo>
                <a:lnTo>
                  <a:pt x="1898" y="581"/>
                </a:lnTo>
                <a:lnTo>
                  <a:pt x="1898" y="596"/>
                </a:lnTo>
                <a:lnTo>
                  <a:pt x="1903" y="616"/>
                </a:lnTo>
                <a:lnTo>
                  <a:pt x="1908" y="642"/>
                </a:lnTo>
                <a:lnTo>
                  <a:pt x="1913" y="677"/>
                </a:lnTo>
                <a:lnTo>
                  <a:pt x="1918" y="723"/>
                </a:lnTo>
                <a:lnTo>
                  <a:pt x="1923" y="798"/>
                </a:lnTo>
                <a:lnTo>
                  <a:pt x="1923" y="950"/>
                </a:lnTo>
                <a:lnTo>
                  <a:pt x="1928" y="985"/>
                </a:lnTo>
                <a:lnTo>
                  <a:pt x="1933" y="808"/>
                </a:lnTo>
                <a:lnTo>
                  <a:pt x="1938" y="733"/>
                </a:lnTo>
                <a:lnTo>
                  <a:pt x="1944" y="682"/>
                </a:lnTo>
                <a:lnTo>
                  <a:pt x="1949" y="647"/>
                </a:lnTo>
                <a:lnTo>
                  <a:pt x="1954" y="621"/>
                </a:lnTo>
                <a:lnTo>
                  <a:pt x="1954" y="601"/>
                </a:lnTo>
                <a:lnTo>
                  <a:pt x="1959" y="586"/>
                </a:lnTo>
                <a:lnTo>
                  <a:pt x="1964" y="576"/>
                </a:lnTo>
                <a:lnTo>
                  <a:pt x="1969" y="566"/>
                </a:lnTo>
                <a:lnTo>
                  <a:pt x="1974" y="561"/>
                </a:lnTo>
                <a:lnTo>
                  <a:pt x="1979" y="556"/>
                </a:lnTo>
                <a:lnTo>
                  <a:pt x="1984" y="556"/>
                </a:lnTo>
                <a:lnTo>
                  <a:pt x="1989" y="561"/>
                </a:lnTo>
                <a:lnTo>
                  <a:pt x="1994" y="566"/>
                </a:lnTo>
                <a:lnTo>
                  <a:pt x="1999" y="576"/>
                </a:lnTo>
                <a:lnTo>
                  <a:pt x="2004" y="586"/>
                </a:lnTo>
                <a:lnTo>
                  <a:pt x="2009" y="601"/>
                </a:lnTo>
                <a:lnTo>
                  <a:pt x="2009" y="621"/>
                </a:lnTo>
                <a:lnTo>
                  <a:pt x="2014" y="647"/>
                </a:lnTo>
                <a:lnTo>
                  <a:pt x="2019" y="682"/>
                </a:lnTo>
                <a:lnTo>
                  <a:pt x="2025" y="728"/>
                </a:lnTo>
                <a:lnTo>
                  <a:pt x="2030" y="803"/>
                </a:lnTo>
                <a:lnTo>
                  <a:pt x="2035" y="960"/>
                </a:lnTo>
                <a:lnTo>
                  <a:pt x="2035" y="980"/>
                </a:lnTo>
                <a:lnTo>
                  <a:pt x="2040" y="808"/>
                </a:lnTo>
                <a:lnTo>
                  <a:pt x="2045" y="733"/>
                </a:lnTo>
                <a:lnTo>
                  <a:pt x="2050" y="682"/>
                </a:lnTo>
                <a:lnTo>
                  <a:pt x="2055" y="652"/>
                </a:lnTo>
                <a:lnTo>
                  <a:pt x="2060" y="621"/>
                </a:lnTo>
                <a:lnTo>
                  <a:pt x="2065" y="601"/>
                </a:lnTo>
                <a:lnTo>
                  <a:pt x="2065" y="586"/>
                </a:lnTo>
                <a:lnTo>
                  <a:pt x="2070" y="576"/>
                </a:lnTo>
                <a:lnTo>
                  <a:pt x="2075" y="566"/>
                </a:lnTo>
                <a:lnTo>
                  <a:pt x="2080" y="561"/>
                </a:lnTo>
                <a:lnTo>
                  <a:pt x="2085" y="556"/>
                </a:lnTo>
                <a:lnTo>
                  <a:pt x="2090" y="556"/>
                </a:lnTo>
                <a:lnTo>
                  <a:pt x="2095" y="556"/>
                </a:lnTo>
                <a:lnTo>
                  <a:pt x="2095" y="561"/>
                </a:lnTo>
                <a:lnTo>
                  <a:pt x="2100" y="566"/>
                </a:lnTo>
                <a:lnTo>
                  <a:pt x="2106" y="576"/>
                </a:lnTo>
                <a:lnTo>
                  <a:pt x="2111" y="586"/>
                </a:lnTo>
                <a:lnTo>
                  <a:pt x="2116" y="601"/>
                </a:lnTo>
                <a:lnTo>
                  <a:pt x="2121" y="621"/>
                </a:lnTo>
                <a:lnTo>
                  <a:pt x="2121" y="647"/>
                </a:lnTo>
                <a:lnTo>
                  <a:pt x="2126" y="682"/>
                </a:lnTo>
                <a:lnTo>
                  <a:pt x="2131" y="733"/>
                </a:lnTo>
                <a:lnTo>
                  <a:pt x="2136" y="803"/>
                </a:lnTo>
                <a:lnTo>
                  <a:pt x="2141" y="965"/>
                </a:lnTo>
                <a:lnTo>
                  <a:pt x="2146" y="975"/>
                </a:lnTo>
                <a:lnTo>
                  <a:pt x="2151" y="808"/>
                </a:lnTo>
                <a:lnTo>
                  <a:pt x="2151" y="733"/>
                </a:lnTo>
                <a:lnTo>
                  <a:pt x="2156" y="682"/>
                </a:lnTo>
                <a:lnTo>
                  <a:pt x="2161" y="652"/>
                </a:lnTo>
                <a:lnTo>
                  <a:pt x="2166" y="621"/>
                </a:lnTo>
                <a:lnTo>
                  <a:pt x="2171" y="601"/>
                </a:lnTo>
                <a:lnTo>
                  <a:pt x="2176" y="586"/>
                </a:lnTo>
                <a:lnTo>
                  <a:pt x="2176" y="576"/>
                </a:lnTo>
                <a:lnTo>
                  <a:pt x="2181" y="566"/>
                </a:lnTo>
                <a:lnTo>
                  <a:pt x="2187" y="561"/>
                </a:lnTo>
                <a:lnTo>
                  <a:pt x="2192" y="556"/>
                </a:lnTo>
              </a:path>
            </a:pathLst>
          </a:custGeom>
          <a:noFill/>
          <a:ln cap="rnd" w="25560">
            <a:solidFill>
              <a:srgbClr val="f814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860400" y="3200400"/>
            <a:ext cx="3479760" cy="0"/>
          </a:xfrm>
          <a:prstGeom prst="line">
            <a:avLst/>
          </a:prstGeom>
          <a:ln w="25560">
            <a:solidFill>
              <a:srgbClr val="ab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565200" y="2190600"/>
            <a:ext cx="386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Pravokutni vremenski otv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 rot="16200000">
            <a:off x="-704520" y="3823560"/>
            <a:ext cx="1809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afd00"/>
                </a:solidFill>
                <a:latin typeface="Arial"/>
              </a:rPr>
              <a:t>amplituda [dB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2895480" y="2817720"/>
            <a:ext cx="1076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bfff7"/>
                </a:solidFill>
                <a:latin typeface="Arial"/>
              </a:rPr>
              <a:t>-13,3d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 flipV="1">
            <a:off x="5635800" y="2840040"/>
            <a:ext cx="0" cy="2733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 flipV="1">
            <a:off x="6334200" y="2840040"/>
            <a:ext cx="0" cy="27338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 flipV="1">
            <a:off x="7032600" y="2840040"/>
            <a:ext cx="0" cy="27338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 flipV="1">
            <a:off x="7723080" y="2840040"/>
            <a:ext cx="0" cy="27338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 flipV="1">
            <a:off x="8421840" y="2840040"/>
            <a:ext cx="0" cy="27338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5635800" y="5573880"/>
            <a:ext cx="34765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5635800" y="5029200"/>
            <a:ext cx="3476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5635800" y="4483080"/>
            <a:ext cx="3476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5635800" y="3930480"/>
            <a:ext cx="3476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5635800" y="3384720"/>
            <a:ext cx="3476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5635800" y="2840040"/>
            <a:ext cx="34765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5635800" y="2840040"/>
            <a:ext cx="3477960" cy="2735280"/>
          </a:xfrm>
          <a:custGeom>
            <a:avLst/>
            <a:gdLst/>
            <a:ahLst/>
            <a:rect l="l" t="t" r="r" b="b"/>
            <a:pathLst>
              <a:path w="2191" h="1723">
                <a:moveTo>
                  <a:pt x="0" y="1722"/>
                </a:moveTo>
                <a:lnTo>
                  <a:pt x="0" y="0"/>
                </a:lnTo>
                <a:lnTo>
                  <a:pt x="2190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5635800" y="2840040"/>
            <a:ext cx="3477960" cy="2735280"/>
          </a:xfrm>
          <a:custGeom>
            <a:avLst/>
            <a:gdLst/>
            <a:ahLst/>
            <a:rect l="l" t="t" r="r" b="b"/>
            <a:pathLst>
              <a:path w="2191" h="1723">
                <a:moveTo>
                  <a:pt x="0" y="1722"/>
                </a:moveTo>
                <a:lnTo>
                  <a:pt x="0" y="0"/>
                </a:lnTo>
                <a:lnTo>
                  <a:pt x="2190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5635800" y="2840040"/>
            <a:ext cx="3477960" cy="2735280"/>
          </a:xfrm>
          <a:custGeom>
            <a:avLst/>
            <a:gdLst/>
            <a:ahLst/>
            <a:rect l="l" t="t" r="r" b="b"/>
            <a:pathLst>
              <a:path w="2191" h="1723">
                <a:moveTo>
                  <a:pt x="0" y="1722"/>
                </a:moveTo>
                <a:lnTo>
                  <a:pt x="0" y="0"/>
                </a:lnTo>
                <a:lnTo>
                  <a:pt x="2190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5635800" y="5573880"/>
            <a:ext cx="34765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5635800" y="2840040"/>
            <a:ext cx="34765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 flipV="1">
            <a:off x="5635800" y="2840040"/>
            <a:ext cx="0" cy="2733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 flipV="1">
            <a:off x="9112320" y="2840040"/>
            <a:ext cx="0" cy="2733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5635800" y="2840040"/>
            <a:ext cx="25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9112320" y="5573880"/>
            <a:ext cx="25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5635800" y="5573880"/>
            <a:ext cx="34765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 flipV="1">
            <a:off x="5635800" y="2840040"/>
            <a:ext cx="0" cy="2733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5635800" y="5573880"/>
            <a:ext cx="25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 flipV="1">
            <a:off x="5635800" y="5541480"/>
            <a:ext cx="0" cy="320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5635800" y="284004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 flipV="1">
            <a:off x="6334200" y="5541480"/>
            <a:ext cx="0" cy="320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6334200" y="284004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 flipV="1">
            <a:off x="7032600" y="5541480"/>
            <a:ext cx="0" cy="320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7032600" y="284004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 flipV="1">
            <a:off x="7723080" y="5541480"/>
            <a:ext cx="0" cy="320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7723080" y="284004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 flipV="1">
            <a:off x="8421840" y="5541480"/>
            <a:ext cx="0" cy="320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8421840" y="284004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5635800" y="557388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 flipH="1">
            <a:off x="9080640" y="557388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5635800" y="530208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 flipH="1">
            <a:off x="9080640" y="530208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5635800" y="502920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 flipH="1">
            <a:off x="9080640" y="502920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5635800" y="475632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 flipH="1">
            <a:off x="9080640" y="475632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5635800" y="448308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 flipH="1">
            <a:off x="9080640" y="448308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5635800" y="421164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 flipH="1">
            <a:off x="9080640" y="421164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5635800" y="393048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 flipH="1">
            <a:off x="9080640" y="393048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5635800" y="365760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 flipH="1">
            <a:off x="9080640" y="365760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5635800" y="338472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 flipH="1">
            <a:off x="9080640" y="338472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5635800" y="311148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 flipH="1">
            <a:off x="9080640" y="311148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5635800" y="284004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 flipH="1">
            <a:off x="9080640" y="284004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5635800" y="5573880"/>
            <a:ext cx="34765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5635800" y="2840040"/>
            <a:ext cx="34765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 flipV="1">
            <a:off x="5635800" y="2840040"/>
            <a:ext cx="0" cy="2733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 flipV="1">
            <a:off x="9112320" y="2840040"/>
            <a:ext cx="0" cy="2733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5635800" y="5573880"/>
            <a:ext cx="25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3" name=""/>
          <p:cNvGrpSpPr/>
          <p:nvPr/>
        </p:nvGrpSpPr>
        <p:grpSpPr>
          <a:xfrm>
            <a:off x="5635800" y="2840040"/>
            <a:ext cx="3477960" cy="3121200"/>
            <a:chOff x="5635800" y="2840040"/>
            <a:chExt cx="3477960" cy="3121200"/>
          </a:xfrm>
        </p:grpSpPr>
        <p:sp>
          <p:nvSpPr>
            <p:cNvPr id="3264" name=""/>
            <p:cNvSpPr/>
            <p:nvPr/>
          </p:nvSpPr>
          <p:spPr>
            <a:xfrm>
              <a:off x="5635800" y="2840040"/>
              <a:ext cx="1390320" cy="3121200"/>
            </a:xfrm>
            <a:custGeom>
              <a:avLst/>
              <a:gdLst/>
              <a:ahLst/>
              <a:rect l="l" t="t" r="r" b="b"/>
              <a:pathLst>
                <a:path w="876" h="1966">
                  <a:moveTo>
                    <a:pt x="0" y="0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30" y="10"/>
                  </a:lnTo>
                  <a:lnTo>
                    <a:pt x="36" y="10"/>
                  </a:lnTo>
                  <a:lnTo>
                    <a:pt x="41" y="15"/>
                  </a:lnTo>
                  <a:lnTo>
                    <a:pt x="41" y="20"/>
                  </a:lnTo>
                  <a:lnTo>
                    <a:pt x="46" y="25"/>
                  </a:lnTo>
                  <a:lnTo>
                    <a:pt x="51" y="25"/>
                  </a:lnTo>
                  <a:lnTo>
                    <a:pt x="56" y="30"/>
                  </a:lnTo>
                  <a:lnTo>
                    <a:pt x="61" y="35"/>
                  </a:lnTo>
                  <a:lnTo>
                    <a:pt x="66" y="45"/>
                  </a:lnTo>
                  <a:lnTo>
                    <a:pt x="71" y="50"/>
                  </a:lnTo>
                  <a:lnTo>
                    <a:pt x="71" y="55"/>
                  </a:lnTo>
                  <a:lnTo>
                    <a:pt x="76" y="65"/>
                  </a:lnTo>
                  <a:lnTo>
                    <a:pt x="81" y="70"/>
                  </a:lnTo>
                  <a:lnTo>
                    <a:pt x="86" y="80"/>
                  </a:lnTo>
                  <a:lnTo>
                    <a:pt x="91" y="86"/>
                  </a:lnTo>
                  <a:lnTo>
                    <a:pt x="96" y="96"/>
                  </a:lnTo>
                  <a:lnTo>
                    <a:pt x="96" y="106"/>
                  </a:lnTo>
                  <a:lnTo>
                    <a:pt x="101" y="116"/>
                  </a:lnTo>
                  <a:lnTo>
                    <a:pt x="106" y="126"/>
                  </a:lnTo>
                  <a:lnTo>
                    <a:pt x="111" y="141"/>
                  </a:lnTo>
                  <a:lnTo>
                    <a:pt x="116" y="151"/>
                  </a:lnTo>
                  <a:lnTo>
                    <a:pt x="121" y="166"/>
                  </a:lnTo>
                  <a:lnTo>
                    <a:pt x="127" y="176"/>
                  </a:lnTo>
                  <a:lnTo>
                    <a:pt x="127" y="192"/>
                  </a:lnTo>
                  <a:lnTo>
                    <a:pt x="132" y="207"/>
                  </a:lnTo>
                  <a:lnTo>
                    <a:pt x="137" y="227"/>
                  </a:lnTo>
                  <a:lnTo>
                    <a:pt x="142" y="242"/>
                  </a:lnTo>
                  <a:lnTo>
                    <a:pt x="147" y="262"/>
                  </a:lnTo>
                  <a:lnTo>
                    <a:pt x="152" y="283"/>
                  </a:lnTo>
                  <a:lnTo>
                    <a:pt x="157" y="303"/>
                  </a:lnTo>
                  <a:lnTo>
                    <a:pt x="157" y="323"/>
                  </a:lnTo>
                  <a:lnTo>
                    <a:pt x="162" y="348"/>
                  </a:lnTo>
                  <a:lnTo>
                    <a:pt x="167" y="374"/>
                  </a:lnTo>
                  <a:lnTo>
                    <a:pt x="172" y="404"/>
                  </a:lnTo>
                  <a:lnTo>
                    <a:pt x="177" y="434"/>
                  </a:lnTo>
                  <a:lnTo>
                    <a:pt x="182" y="469"/>
                  </a:lnTo>
                  <a:lnTo>
                    <a:pt x="182" y="510"/>
                  </a:lnTo>
                  <a:lnTo>
                    <a:pt x="187" y="550"/>
                  </a:lnTo>
                  <a:lnTo>
                    <a:pt x="192" y="601"/>
                  </a:lnTo>
                  <a:lnTo>
                    <a:pt x="197" y="656"/>
                  </a:lnTo>
                  <a:lnTo>
                    <a:pt x="202" y="727"/>
                  </a:lnTo>
                  <a:lnTo>
                    <a:pt x="207" y="813"/>
                  </a:lnTo>
                  <a:lnTo>
                    <a:pt x="213" y="929"/>
                  </a:lnTo>
                  <a:lnTo>
                    <a:pt x="213" y="1116"/>
                  </a:lnTo>
                  <a:lnTo>
                    <a:pt x="218" y="1657"/>
                  </a:lnTo>
                  <a:lnTo>
                    <a:pt x="223" y="1248"/>
                  </a:lnTo>
                  <a:lnTo>
                    <a:pt x="228" y="1010"/>
                  </a:lnTo>
                  <a:lnTo>
                    <a:pt x="233" y="884"/>
                  </a:lnTo>
                  <a:lnTo>
                    <a:pt x="238" y="803"/>
                  </a:lnTo>
                  <a:lnTo>
                    <a:pt x="238" y="737"/>
                  </a:lnTo>
                  <a:lnTo>
                    <a:pt x="243" y="687"/>
                  </a:lnTo>
                  <a:lnTo>
                    <a:pt x="248" y="646"/>
                  </a:lnTo>
                  <a:lnTo>
                    <a:pt x="253" y="616"/>
                  </a:lnTo>
                  <a:lnTo>
                    <a:pt x="258" y="586"/>
                  </a:lnTo>
                  <a:lnTo>
                    <a:pt x="263" y="565"/>
                  </a:lnTo>
                  <a:lnTo>
                    <a:pt x="268" y="545"/>
                  </a:lnTo>
                  <a:lnTo>
                    <a:pt x="268" y="525"/>
                  </a:lnTo>
                  <a:lnTo>
                    <a:pt x="273" y="510"/>
                  </a:lnTo>
                  <a:lnTo>
                    <a:pt x="278" y="500"/>
                  </a:lnTo>
                  <a:lnTo>
                    <a:pt x="283" y="490"/>
                  </a:lnTo>
                  <a:lnTo>
                    <a:pt x="288" y="480"/>
                  </a:lnTo>
                  <a:lnTo>
                    <a:pt x="293" y="469"/>
                  </a:lnTo>
                  <a:lnTo>
                    <a:pt x="293" y="464"/>
                  </a:lnTo>
                  <a:lnTo>
                    <a:pt x="298" y="459"/>
                  </a:lnTo>
                  <a:lnTo>
                    <a:pt x="304" y="459"/>
                  </a:lnTo>
                  <a:lnTo>
                    <a:pt x="309" y="454"/>
                  </a:lnTo>
                  <a:lnTo>
                    <a:pt x="314" y="454"/>
                  </a:lnTo>
                  <a:lnTo>
                    <a:pt x="319" y="454"/>
                  </a:lnTo>
                  <a:lnTo>
                    <a:pt x="324" y="454"/>
                  </a:lnTo>
                  <a:lnTo>
                    <a:pt x="324" y="459"/>
                  </a:lnTo>
                  <a:lnTo>
                    <a:pt x="329" y="459"/>
                  </a:lnTo>
                  <a:lnTo>
                    <a:pt x="334" y="464"/>
                  </a:lnTo>
                  <a:lnTo>
                    <a:pt x="339" y="469"/>
                  </a:lnTo>
                  <a:lnTo>
                    <a:pt x="344" y="480"/>
                  </a:lnTo>
                  <a:lnTo>
                    <a:pt x="349" y="485"/>
                  </a:lnTo>
                  <a:lnTo>
                    <a:pt x="349" y="495"/>
                  </a:lnTo>
                  <a:lnTo>
                    <a:pt x="354" y="505"/>
                  </a:lnTo>
                  <a:lnTo>
                    <a:pt x="359" y="515"/>
                  </a:lnTo>
                  <a:lnTo>
                    <a:pt x="364" y="530"/>
                  </a:lnTo>
                  <a:lnTo>
                    <a:pt x="369" y="545"/>
                  </a:lnTo>
                  <a:lnTo>
                    <a:pt x="374" y="560"/>
                  </a:lnTo>
                  <a:lnTo>
                    <a:pt x="379" y="576"/>
                  </a:lnTo>
                  <a:lnTo>
                    <a:pt x="379" y="596"/>
                  </a:lnTo>
                  <a:lnTo>
                    <a:pt x="384" y="616"/>
                  </a:lnTo>
                  <a:lnTo>
                    <a:pt x="390" y="641"/>
                  </a:lnTo>
                  <a:lnTo>
                    <a:pt x="395" y="667"/>
                  </a:lnTo>
                  <a:lnTo>
                    <a:pt x="400" y="697"/>
                  </a:lnTo>
                  <a:lnTo>
                    <a:pt x="405" y="732"/>
                  </a:lnTo>
                  <a:lnTo>
                    <a:pt x="405" y="768"/>
                  </a:lnTo>
                  <a:lnTo>
                    <a:pt x="410" y="813"/>
                  </a:lnTo>
                  <a:lnTo>
                    <a:pt x="415" y="864"/>
                  </a:lnTo>
                  <a:lnTo>
                    <a:pt x="420" y="929"/>
                  </a:lnTo>
                  <a:lnTo>
                    <a:pt x="425" y="1005"/>
                  </a:lnTo>
                  <a:lnTo>
                    <a:pt x="430" y="1111"/>
                  </a:lnTo>
                  <a:lnTo>
                    <a:pt x="435" y="1278"/>
                  </a:lnTo>
                  <a:lnTo>
                    <a:pt x="435" y="1652"/>
                  </a:lnTo>
                  <a:lnTo>
                    <a:pt x="440" y="1536"/>
                  </a:lnTo>
                  <a:lnTo>
                    <a:pt x="445" y="1243"/>
                  </a:lnTo>
                  <a:lnTo>
                    <a:pt x="450" y="1101"/>
                  </a:lnTo>
                  <a:lnTo>
                    <a:pt x="455" y="1010"/>
                  </a:lnTo>
                  <a:lnTo>
                    <a:pt x="460" y="939"/>
                  </a:lnTo>
                  <a:lnTo>
                    <a:pt x="465" y="884"/>
                  </a:lnTo>
                  <a:lnTo>
                    <a:pt x="465" y="843"/>
                  </a:lnTo>
                  <a:lnTo>
                    <a:pt x="470" y="803"/>
                  </a:lnTo>
                  <a:lnTo>
                    <a:pt x="475" y="773"/>
                  </a:lnTo>
                  <a:lnTo>
                    <a:pt x="481" y="747"/>
                  </a:lnTo>
                  <a:lnTo>
                    <a:pt x="486" y="722"/>
                  </a:lnTo>
                  <a:lnTo>
                    <a:pt x="491" y="702"/>
                  </a:lnTo>
                  <a:lnTo>
                    <a:pt x="491" y="687"/>
                  </a:lnTo>
                  <a:lnTo>
                    <a:pt x="496" y="672"/>
                  </a:lnTo>
                  <a:lnTo>
                    <a:pt x="501" y="656"/>
                  </a:lnTo>
                  <a:lnTo>
                    <a:pt x="506" y="646"/>
                  </a:lnTo>
                  <a:lnTo>
                    <a:pt x="511" y="636"/>
                  </a:lnTo>
                  <a:lnTo>
                    <a:pt x="516" y="626"/>
                  </a:lnTo>
                  <a:lnTo>
                    <a:pt x="521" y="621"/>
                  </a:lnTo>
                  <a:lnTo>
                    <a:pt x="521" y="616"/>
                  </a:lnTo>
                  <a:lnTo>
                    <a:pt x="526" y="611"/>
                  </a:lnTo>
                  <a:lnTo>
                    <a:pt x="531" y="611"/>
                  </a:lnTo>
                  <a:lnTo>
                    <a:pt x="536" y="606"/>
                  </a:lnTo>
                  <a:lnTo>
                    <a:pt x="541" y="606"/>
                  </a:lnTo>
                  <a:lnTo>
                    <a:pt x="546" y="606"/>
                  </a:lnTo>
                  <a:lnTo>
                    <a:pt x="546" y="611"/>
                  </a:lnTo>
                  <a:lnTo>
                    <a:pt x="551" y="611"/>
                  </a:lnTo>
                  <a:lnTo>
                    <a:pt x="556" y="616"/>
                  </a:lnTo>
                  <a:lnTo>
                    <a:pt x="561" y="621"/>
                  </a:lnTo>
                  <a:lnTo>
                    <a:pt x="567" y="626"/>
                  </a:lnTo>
                  <a:lnTo>
                    <a:pt x="572" y="636"/>
                  </a:lnTo>
                  <a:lnTo>
                    <a:pt x="577" y="641"/>
                  </a:lnTo>
                  <a:lnTo>
                    <a:pt x="577" y="651"/>
                  </a:lnTo>
                  <a:lnTo>
                    <a:pt x="582" y="661"/>
                  </a:lnTo>
                  <a:lnTo>
                    <a:pt x="587" y="677"/>
                  </a:lnTo>
                  <a:lnTo>
                    <a:pt x="592" y="692"/>
                  </a:lnTo>
                  <a:lnTo>
                    <a:pt x="597" y="707"/>
                  </a:lnTo>
                  <a:lnTo>
                    <a:pt x="602" y="722"/>
                  </a:lnTo>
                  <a:lnTo>
                    <a:pt x="602" y="742"/>
                  </a:lnTo>
                  <a:lnTo>
                    <a:pt x="607" y="768"/>
                  </a:lnTo>
                  <a:lnTo>
                    <a:pt x="612" y="788"/>
                  </a:lnTo>
                  <a:lnTo>
                    <a:pt x="617" y="818"/>
                  </a:lnTo>
                  <a:lnTo>
                    <a:pt x="622" y="848"/>
                  </a:lnTo>
                  <a:lnTo>
                    <a:pt x="627" y="884"/>
                  </a:lnTo>
                  <a:lnTo>
                    <a:pt x="632" y="924"/>
                  </a:lnTo>
                  <a:lnTo>
                    <a:pt x="632" y="975"/>
                  </a:lnTo>
                  <a:lnTo>
                    <a:pt x="637" y="1035"/>
                  </a:lnTo>
                  <a:lnTo>
                    <a:pt x="642" y="1106"/>
                  </a:lnTo>
                  <a:lnTo>
                    <a:pt x="647" y="1207"/>
                  </a:lnTo>
                  <a:lnTo>
                    <a:pt x="652" y="1354"/>
                  </a:lnTo>
                  <a:lnTo>
                    <a:pt x="658" y="1647"/>
                  </a:lnTo>
                  <a:lnTo>
                    <a:pt x="658" y="1768"/>
                  </a:lnTo>
                  <a:lnTo>
                    <a:pt x="663" y="1399"/>
                  </a:lnTo>
                  <a:lnTo>
                    <a:pt x="668" y="1237"/>
                  </a:lnTo>
                  <a:lnTo>
                    <a:pt x="673" y="1136"/>
                  </a:lnTo>
                  <a:lnTo>
                    <a:pt x="678" y="1066"/>
                  </a:lnTo>
                  <a:lnTo>
                    <a:pt x="683" y="1005"/>
                  </a:lnTo>
                  <a:lnTo>
                    <a:pt x="688" y="960"/>
                  </a:lnTo>
                  <a:lnTo>
                    <a:pt x="688" y="919"/>
                  </a:lnTo>
                  <a:lnTo>
                    <a:pt x="693" y="884"/>
                  </a:lnTo>
                  <a:lnTo>
                    <a:pt x="698" y="859"/>
                  </a:lnTo>
                  <a:lnTo>
                    <a:pt x="703" y="833"/>
                  </a:lnTo>
                  <a:lnTo>
                    <a:pt x="708" y="813"/>
                  </a:lnTo>
                  <a:lnTo>
                    <a:pt x="713" y="793"/>
                  </a:lnTo>
                  <a:lnTo>
                    <a:pt x="718" y="778"/>
                  </a:lnTo>
                  <a:lnTo>
                    <a:pt x="718" y="763"/>
                  </a:lnTo>
                  <a:lnTo>
                    <a:pt x="723" y="747"/>
                  </a:lnTo>
                  <a:lnTo>
                    <a:pt x="728" y="737"/>
                  </a:lnTo>
                  <a:lnTo>
                    <a:pt x="733" y="727"/>
                  </a:lnTo>
                  <a:lnTo>
                    <a:pt x="738" y="722"/>
                  </a:lnTo>
                  <a:lnTo>
                    <a:pt x="744" y="717"/>
                  </a:lnTo>
                  <a:lnTo>
                    <a:pt x="744" y="712"/>
                  </a:lnTo>
                  <a:lnTo>
                    <a:pt x="749" y="707"/>
                  </a:lnTo>
                  <a:lnTo>
                    <a:pt x="754" y="702"/>
                  </a:lnTo>
                  <a:lnTo>
                    <a:pt x="759" y="702"/>
                  </a:lnTo>
                  <a:lnTo>
                    <a:pt x="764" y="702"/>
                  </a:lnTo>
                  <a:lnTo>
                    <a:pt x="769" y="702"/>
                  </a:lnTo>
                  <a:lnTo>
                    <a:pt x="774" y="702"/>
                  </a:lnTo>
                  <a:lnTo>
                    <a:pt x="774" y="707"/>
                  </a:lnTo>
                  <a:lnTo>
                    <a:pt x="779" y="712"/>
                  </a:lnTo>
                  <a:lnTo>
                    <a:pt x="784" y="717"/>
                  </a:lnTo>
                  <a:lnTo>
                    <a:pt x="789" y="722"/>
                  </a:lnTo>
                  <a:lnTo>
                    <a:pt x="794" y="732"/>
                  </a:lnTo>
                  <a:lnTo>
                    <a:pt x="799" y="737"/>
                  </a:lnTo>
                  <a:lnTo>
                    <a:pt x="799" y="747"/>
                  </a:lnTo>
                  <a:lnTo>
                    <a:pt x="804" y="763"/>
                  </a:lnTo>
                  <a:lnTo>
                    <a:pt x="809" y="773"/>
                  </a:lnTo>
                  <a:lnTo>
                    <a:pt x="814" y="788"/>
                  </a:lnTo>
                  <a:lnTo>
                    <a:pt x="819" y="803"/>
                  </a:lnTo>
                  <a:lnTo>
                    <a:pt x="824" y="823"/>
                  </a:lnTo>
                  <a:lnTo>
                    <a:pt x="829" y="843"/>
                  </a:lnTo>
                  <a:lnTo>
                    <a:pt x="829" y="869"/>
                  </a:lnTo>
                  <a:lnTo>
                    <a:pt x="835" y="894"/>
                  </a:lnTo>
                  <a:lnTo>
                    <a:pt x="840" y="924"/>
                  </a:lnTo>
                  <a:lnTo>
                    <a:pt x="845" y="960"/>
                  </a:lnTo>
                  <a:lnTo>
                    <a:pt x="850" y="1000"/>
                  </a:lnTo>
                  <a:lnTo>
                    <a:pt x="855" y="1045"/>
                  </a:lnTo>
                  <a:lnTo>
                    <a:pt x="855" y="1101"/>
                  </a:lnTo>
                  <a:lnTo>
                    <a:pt x="860" y="1172"/>
                  </a:lnTo>
                  <a:lnTo>
                    <a:pt x="865" y="1263"/>
                  </a:lnTo>
                  <a:lnTo>
                    <a:pt x="870" y="1394"/>
                  </a:lnTo>
                  <a:lnTo>
                    <a:pt x="875" y="1637"/>
                  </a:lnTo>
                  <a:lnTo>
                    <a:pt x="875" y="1965"/>
                  </a:lnTo>
                </a:path>
              </a:pathLst>
            </a:custGeom>
            <a:noFill/>
            <a:ln cap="rnd" w="25560">
              <a:solidFill>
                <a:srgbClr val="f81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7032600" y="4059360"/>
              <a:ext cx="338040" cy="1901880"/>
            </a:xfrm>
            <a:custGeom>
              <a:avLst/>
              <a:gdLst/>
              <a:ahLst/>
              <a:rect l="l" t="t" r="r" b="b"/>
              <a:pathLst>
                <a:path w="213" h="1198">
                  <a:moveTo>
                    <a:pt x="0" y="1197"/>
                  </a:moveTo>
                  <a:lnTo>
                    <a:pt x="5" y="752"/>
                  </a:lnTo>
                  <a:lnTo>
                    <a:pt x="5" y="571"/>
                  </a:lnTo>
                  <a:lnTo>
                    <a:pt x="10" y="464"/>
                  </a:lnTo>
                  <a:lnTo>
                    <a:pt x="15" y="384"/>
                  </a:lnTo>
                  <a:lnTo>
                    <a:pt x="20" y="323"/>
                  </a:lnTo>
                  <a:lnTo>
                    <a:pt x="25" y="272"/>
                  </a:lnTo>
                  <a:lnTo>
                    <a:pt x="30" y="232"/>
                  </a:lnTo>
                  <a:lnTo>
                    <a:pt x="30" y="197"/>
                  </a:lnTo>
                  <a:lnTo>
                    <a:pt x="35" y="166"/>
                  </a:lnTo>
                  <a:lnTo>
                    <a:pt x="41" y="141"/>
                  </a:lnTo>
                  <a:lnTo>
                    <a:pt x="46" y="121"/>
                  </a:lnTo>
                  <a:lnTo>
                    <a:pt x="51" y="101"/>
                  </a:lnTo>
                  <a:lnTo>
                    <a:pt x="56" y="80"/>
                  </a:lnTo>
                  <a:lnTo>
                    <a:pt x="61" y="65"/>
                  </a:lnTo>
                  <a:lnTo>
                    <a:pt x="61" y="55"/>
                  </a:lnTo>
                  <a:lnTo>
                    <a:pt x="66" y="40"/>
                  </a:lnTo>
                  <a:lnTo>
                    <a:pt x="71" y="30"/>
                  </a:lnTo>
                  <a:lnTo>
                    <a:pt x="76" y="25"/>
                  </a:lnTo>
                  <a:lnTo>
                    <a:pt x="81" y="15"/>
                  </a:lnTo>
                  <a:lnTo>
                    <a:pt x="86" y="10"/>
                  </a:lnTo>
                  <a:lnTo>
                    <a:pt x="91" y="5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6" y="5"/>
                  </a:lnTo>
                  <a:lnTo>
                    <a:pt x="121" y="10"/>
                  </a:lnTo>
                  <a:lnTo>
                    <a:pt x="126" y="15"/>
                  </a:lnTo>
                  <a:lnTo>
                    <a:pt x="132" y="25"/>
                  </a:lnTo>
                  <a:lnTo>
                    <a:pt x="137" y="30"/>
                  </a:lnTo>
                  <a:lnTo>
                    <a:pt x="142" y="40"/>
                  </a:lnTo>
                  <a:lnTo>
                    <a:pt x="147" y="50"/>
                  </a:lnTo>
                  <a:lnTo>
                    <a:pt x="147" y="65"/>
                  </a:lnTo>
                  <a:lnTo>
                    <a:pt x="152" y="80"/>
                  </a:lnTo>
                  <a:lnTo>
                    <a:pt x="157" y="96"/>
                  </a:lnTo>
                  <a:lnTo>
                    <a:pt x="162" y="111"/>
                  </a:lnTo>
                  <a:lnTo>
                    <a:pt x="167" y="131"/>
                  </a:lnTo>
                  <a:lnTo>
                    <a:pt x="172" y="156"/>
                  </a:lnTo>
                  <a:lnTo>
                    <a:pt x="172" y="181"/>
                  </a:lnTo>
                  <a:lnTo>
                    <a:pt x="177" y="207"/>
                  </a:lnTo>
                  <a:lnTo>
                    <a:pt x="182" y="242"/>
                  </a:lnTo>
                  <a:lnTo>
                    <a:pt x="187" y="283"/>
                  </a:lnTo>
                  <a:lnTo>
                    <a:pt x="192" y="323"/>
                  </a:lnTo>
                  <a:lnTo>
                    <a:pt x="197" y="379"/>
                  </a:lnTo>
                  <a:lnTo>
                    <a:pt x="202" y="444"/>
                  </a:lnTo>
                  <a:lnTo>
                    <a:pt x="202" y="530"/>
                  </a:lnTo>
                  <a:lnTo>
                    <a:pt x="207" y="651"/>
                  </a:lnTo>
                  <a:lnTo>
                    <a:pt x="212" y="858"/>
                  </a:lnTo>
                </a:path>
              </a:pathLst>
            </a:custGeom>
            <a:noFill/>
            <a:ln cap="rnd" w="25560">
              <a:solidFill>
                <a:srgbClr val="f81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386480" y="4130640"/>
              <a:ext cx="330480" cy="1830600"/>
            </a:xfrm>
            <a:custGeom>
              <a:avLst/>
              <a:gdLst/>
              <a:ahLst/>
              <a:rect l="l" t="t" r="r" b="b"/>
              <a:pathLst>
                <a:path w="208" h="1153">
                  <a:moveTo>
                    <a:pt x="0" y="813"/>
                  </a:moveTo>
                  <a:lnTo>
                    <a:pt x="5" y="611"/>
                  </a:lnTo>
                  <a:lnTo>
                    <a:pt x="5" y="490"/>
                  </a:lnTo>
                  <a:lnTo>
                    <a:pt x="10" y="404"/>
                  </a:lnTo>
                  <a:lnTo>
                    <a:pt x="15" y="344"/>
                  </a:lnTo>
                  <a:lnTo>
                    <a:pt x="20" y="293"/>
                  </a:lnTo>
                  <a:lnTo>
                    <a:pt x="25" y="248"/>
                  </a:lnTo>
                  <a:lnTo>
                    <a:pt x="30" y="212"/>
                  </a:lnTo>
                  <a:lnTo>
                    <a:pt x="35" y="182"/>
                  </a:lnTo>
                  <a:lnTo>
                    <a:pt x="35" y="152"/>
                  </a:lnTo>
                  <a:lnTo>
                    <a:pt x="40" y="131"/>
                  </a:lnTo>
                  <a:lnTo>
                    <a:pt x="45" y="111"/>
                  </a:lnTo>
                  <a:lnTo>
                    <a:pt x="50" y="91"/>
                  </a:lnTo>
                  <a:lnTo>
                    <a:pt x="55" y="76"/>
                  </a:lnTo>
                  <a:lnTo>
                    <a:pt x="60" y="61"/>
                  </a:lnTo>
                  <a:lnTo>
                    <a:pt x="60" y="51"/>
                  </a:lnTo>
                  <a:lnTo>
                    <a:pt x="65" y="40"/>
                  </a:lnTo>
                  <a:lnTo>
                    <a:pt x="70" y="30"/>
                  </a:lnTo>
                  <a:lnTo>
                    <a:pt x="75" y="20"/>
                  </a:lnTo>
                  <a:lnTo>
                    <a:pt x="80" y="15"/>
                  </a:lnTo>
                  <a:lnTo>
                    <a:pt x="86" y="10"/>
                  </a:lnTo>
                  <a:lnTo>
                    <a:pt x="91" y="5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5"/>
                  </a:lnTo>
                  <a:lnTo>
                    <a:pt x="116" y="5"/>
                  </a:lnTo>
                  <a:lnTo>
                    <a:pt x="116" y="10"/>
                  </a:lnTo>
                  <a:lnTo>
                    <a:pt x="121" y="15"/>
                  </a:lnTo>
                  <a:lnTo>
                    <a:pt x="126" y="20"/>
                  </a:lnTo>
                  <a:lnTo>
                    <a:pt x="131" y="30"/>
                  </a:lnTo>
                  <a:lnTo>
                    <a:pt x="136" y="40"/>
                  </a:lnTo>
                  <a:lnTo>
                    <a:pt x="141" y="51"/>
                  </a:lnTo>
                  <a:lnTo>
                    <a:pt x="146" y="61"/>
                  </a:lnTo>
                  <a:lnTo>
                    <a:pt x="146" y="76"/>
                  </a:lnTo>
                  <a:lnTo>
                    <a:pt x="151" y="91"/>
                  </a:lnTo>
                  <a:lnTo>
                    <a:pt x="156" y="106"/>
                  </a:lnTo>
                  <a:lnTo>
                    <a:pt x="161" y="126"/>
                  </a:lnTo>
                  <a:lnTo>
                    <a:pt x="166" y="147"/>
                  </a:lnTo>
                  <a:lnTo>
                    <a:pt x="172" y="172"/>
                  </a:lnTo>
                  <a:lnTo>
                    <a:pt x="177" y="202"/>
                  </a:lnTo>
                  <a:lnTo>
                    <a:pt x="177" y="232"/>
                  </a:lnTo>
                  <a:lnTo>
                    <a:pt x="182" y="268"/>
                  </a:lnTo>
                  <a:lnTo>
                    <a:pt x="187" y="313"/>
                  </a:lnTo>
                  <a:lnTo>
                    <a:pt x="192" y="364"/>
                  </a:lnTo>
                  <a:lnTo>
                    <a:pt x="197" y="424"/>
                  </a:lnTo>
                  <a:lnTo>
                    <a:pt x="202" y="505"/>
                  </a:lnTo>
                  <a:lnTo>
                    <a:pt x="202" y="616"/>
                  </a:lnTo>
                  <a:lnTo>
                    <a:pt x="207" y="798"/>
                  </a:lnTo>
                  <a:lnTo>
                    <a:pt x="207" y="1152"/>
                  </a:lnTo>
                </a:path>
              </a:pathLst>
            </a:custGeom>
            <a:noFill/>
            <a:ln cap="rnd" w="25560">
              <a:solidFill>
                <a:srgbClr val="f81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7723080" y="4186080"/>
              <a:ext cx="346320" cy="1775160"/>
            </a:xfrm>
            <a:custGeom>
              <a:avLst/>
              <a:gdLst/>
              <a:ahLst/>
              <a:rect l="l" t="t" r="r" b="b"/>
              <a:pathLst>
                <a:path w="218" h="1118">
                  <a:moveTo>
                    <a:pt x="0" y="1117"/>
                  </a:moveTo>
                  <a:lnTo>
                    <a:pt x="5" y="890"/>
                  </a:lnTo>
                  <a:lnTo>
                    <a:pt x="10" y="647"/>
                  </a:lnTo>
                  <a:lnTo>
                    <a:pt x="15" y="516"/>
                  </a:lnTo>
                  <a:lnTo>
                    <a:pt x="20" y="425"/>
                  </a:lnTo>
                  <a:lnTo>
                    <a:pt x="20" y="359"/>
                  </a:lnTo>
                  <a:lnTo>
                    <a:pt x="25" y="304"/>
                  </a:lnTo>
                  <a:lnTo>
                    <a:pt x="30" y="258"/>
                  </a:lnTo>
                  <a:lnTo>
                    <a:pt x="35" y="223"/>
                  </a:lnTo>
                  <a:lnTo>
                    <a:pt x="40" y="187"/>
                  </a:lnTo>
                  <a:lnTo>
                    <a:pt x="45" y="162"/>
                  </a:lnTo>
                  <a:lnTo>
                    <a:pt x="45" y="137"/>
                  </a:lnTo>
                  <a:lnTo>
                    <a:pt x="51" y="117"/>
                  </a:lnTo>
                  <a:lnTo>
                    <a:pt x="56" y="96"/>
                  </a:lnTo>
                  <a:lnTo>
                    <a:pt x="61" y="81"/>
                  </a:lnTo>
                  <a:lnTo>
                    <a:pt x="66" y="66"/>
                  </a:lnTo>
                  <a:lnTo>
                    <a:pt x="71" y="51"/>
                  </a:lnTo>
                  <a:lnTo>
                    <a:pt x="76" y="41"/>
                  </a:lnTo>
                  <a:lnTo>
                    <a:pt x="76" y="31"/>
                  </a:lnTo>
                  <a:lnTo>
                    <a:pt x="81" y="26"/>
                  </a:lnTo>
                  <a:lnTo>
                    <a:pt x="86" y="16"/>
                  </a:lnTo>
                  <a:lnTo>
                    <a:pt x="91" y="11"/>
                  </a:lnTo>
                  <a:lnTo>
                    <a:pt x="96" y="5"/>
                  </a:lnTo>
                  <a:lnTo>
                    <a:pt x="101" y="5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6" y="0"/>
                  </a:lnTo>
                  <a:lnTo>
                    <a:pt x="121" y="5"/>
                  </a:lnTo>
                  <a:lnTo>
                    <a:pt x="126" y="11"/>
                  </a:lnTo>
                  <a:lnTo>
                    <a:pt x="131" y="11"/>
                  </a:lnTo>
                  <a:lnTo>
                    <a:pt x="131" y="21"/>
                  </a:lnTo>
                  <a:lnTo>
                    <a:pt x="137" y="26"/>
                  </a:lnTo>
                  <a:lnTo>
                    <a:pt x="142" y="36"/>
                  </a:lnTo>
                  <a:lnTo>
                    <a:pt x="147" y="46"/>
                  </a:lnTo>
                  <a:lnTo>
                    <a:pt x="152" y="56"/>
                  </a:lnTo>
                  <a:lnTo>
                    <a:pt x="157" y="71"/>
                  </a:lnTo>
                  <a:lnTo>
                    <a:pt x="157" y="81"/>
                  </a:lnTo>
                  <a:lnTo>
                    <a:pt x="162" y="101"/>
                  </a:lnTo>
                  <a:lnTo>
                    <a:pt x="167" y="117"/>
                  </a:lnTo>
                  <a:lnTo>
                    <a:pt x="172" y="142"/>
                  </a:lnTo>
                  <a:lnTo>
                    <a:pt x="177" y="162"/>
                  </a:lnTo>
                  <a:lnTo>
                    <a:pt x="182" y="192"/>
                  </a:lnTo>
                  <a:lnTo>
                    <a:pt x="187" y="223"/>
                  </a:lnTo>
                  <a:lnTo>
                    <a:pt x="187" y="258"/>
                  </a:lnTo>
                  <a:lnTo>
                    <a:pt x="192" y="299"/>
                  </a:lnTo>
                  <a:lnTo>
                    <a:pt x="197" y="349"/>
                  </a:lnTo>
                  <a:lnTo>
                    <a:pt x="202" y="405"/>
                  </a:lnTo>
                  <a:lnTo>
                    <a:pt x="207" y="485"/>
                  </a:lnTo>
                  <a:lnTo>
                    <a:pt x="212" y="587"/>
                  </a:lnTo>
                  <a:lnTo>
                    <a:pt x="217" y="748"/>
                  </a:lnTo>
                  <a:lnTo>
                    <a:pt x="217" y="1117"/>
                  </a:lnTo>
                </a:path>
              </a:pathLst>
            </a:custGeom>
            <a:noFill/>
            <a:ln cap="rnd" w="25560">
              <a:solidFill>
                <a:srgbClr val="f81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8067600" y="4227480"/>
              <a:ext cx="355680" cy="1733760"/>
            </a:xfrm>
            <a:custGeom>
              <a:avLst/>
              <a:gdLst/>
              <a:ahLst/>
              <a:rect l="l" t="t" r="r" b="b"/>
              <a:pathLst>
                <a:path w="224" h="1092">
                  <a:moveTo>
                    <a:pt x="0" y="1091"/>
                  </a:moveTo>
                  <a:lnTo>
                    <a:pt x="5" y="975"/>
                  </a:lnTo>
                  <a:lnTo>
                    <a:pt x="11" y="682"/>
                  </a:lnTo>
                  <a:lnTo>
                    <a:pt x="16" y="540"/>
                  </a:lnTo>
                  <a:lnTo>
                    <a:pt x="21" y="444"/>
                  </a:lnTo>
                  <a:lnTo>
                    <a:pt x="26" y="374"/>
                  </a:lnTo>
                  <a:lnTo>
                    <a:pt x="26" y="318"/>
                  </a:lnTo>
                  <a:lnTo>
                    <a:pt x="31" y="267"/>
                  </a:lnTo>
                  <a:lnTo>
                    <a:pt x="36" y="232"/>
                  </a:lnTo>
                  <a:lnTo>
                    <a:pt x="41" y="197"/>
                  </a:lnTo>
                  <a:lnTo>
                    <a:pt x="46" y="166"/>
                  </a:lnTo>
                  <a:lnTo>
                    <a:pt x="51" y="141"/>
                  </a:lnTo>
                  <a:lnTo>
                    <a:pt x="56" y="121"/>
                  </a:lnTo>
                  <a:lnTo>
                    <a:pt x="56" y="101"/>
                  </a:lnTo>
                  <a:lnTo>
                    <a:pt x="61" y="86"/>
                  </a:lnTo>
                  <a:lnTo>
                    <a:pt x="66" y="70"/>
                  </a:lnTo>
                  <a:lnTo>
                    <a:pt x="71" y="55"/>
                  </a:lnTo>
                  <a:lnTo>
                    <a:pt x="76" y="45"/>
                  </a:lnTo>
                  <a:lnTo>
                    <a:pt x="81" y="35"/>
                  </a:lnTo>
                  <a:lnTo>
                    <a:pt x="81" y="25"/>
                  </a:lnTo>
                  <a:lnTo>
                    <a:pt x="86" y="15"/>
                  </a:lnTo>
                  <a:lnTo>
                    <a:pt x="91" y="10"/>
                  </a:lnTo>
                  <a:lnTo>
                    <a:pt x="97" y="5"/>
                  </a:lnTo>
                  <a:lnTo>
                    <a:pt x="102" y="5"/>
                  </a:lnTo>
                  <a:lnTo>
                    <a:pt x="107" y="0"/>
                  </a:lnTo>
                  <a:lnTo>
                    <a:pt x="112" y="0"/>
                  </a:lnTo>
                  <a:lnTo>
                    <a:pt x="117" y="0"/>
                  </a:lnTo>
                  <a:lnTo>
                    <a:pt x="122" y="0"/>
                  </a:lnTo>
                  <a:lnTo>
                    <a:pt x="127" y="5"/>
                  </a:lnTo>
                  <a:lnTo>
                    <a:pt x="132" y="10"/>
                  </a:lnTo>
                  <a:lnTo>
                    <a:pt x="137" y="15"/>
                  </a:lnTo>
                  <a:lnTo>
                    <a:pt x="137" y="20"/>
                  </a:lnTo>
                  <a:lnTo>
                    <a:pt x="142" y="30"/>
                  </a:lnTo>
                  <a:lnTo>
                    <a:pt x="147" y="40"/>
                  </a:lnTo>
                  <a:lnTo>
                    <a:pt x="152" y="50"/>
                  </a:lnTo>
                  <a:lnTo>
                    <a:pt x="157" y="60"/>
                  </a:lnTo>
                  <a:lnTo>
                    <a:pt x="162" y="75"/>
                  </a:lnTo>
                  <a:lnTo>
                    <a:pt x="167" y="91"/>
                  </a:lnTo>
                  <a:lnTo>
                    <a:pt x="167" y="111"/>
                  </a:lnTo>
                  <a:lnTo>
                    <a:pt x="172" y="131"/>
                  </a:lnTo>
                  <a:lnTo>
                    <a:pt x="177" y="156"/>
                  </a:lnTo>
                  <a:lnTo>
                    <a:pt x="182" y="182"/>
                  </a:lnTo>
                  <a:lnTo>
                    <a:pt x="188" y="212"/>
                  </a:lnTo>
                  <a:lnTo>
                    <a:pt x="193" y="242"/>
                  </a:lnTo>
                  <a:lnTo>
                    <a:pt x="193" y="283"/>
                  </a:lnTo>
                  <a:lnTo>
                    <a:pt x="198" y="333"/>
                  </a:lnTo>
                  <a:lnTo>
                    <a:pt x="203" y="389"/>
                  </a:lnTo>
                  <a:lnTo>
                    <a:pt x="208" y="459"/>
                  </a:lnTo>
                  <a:lnTo>
                    <a:pt x="213" y="555"/>
                  </a:lnTo>
                  <a:lnTo>
                    <a:pt x="218" y="702"/>
                  </a:lnTo>
                  <a:lnTo>
                    <a:pt x="223" y="995"/>
                  </a:lnTo>
                  <a:lnTo>
                    <a:pt x="223" y="1091"/>
                  </a:lnTo>
                </a:path>
              </a:pathLst>
            </a:custGeom>
            <a:noFill/>
            <a:ln cap="rnd" w="25560">
              <a:solidFill>
                <a:srgbClr val="f81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8421840" y="4251240"/>
              <a:ext cx="345960" cy="1710000"/>
            </a:xfrm>
            <a:custGeom>
              <a:avLst/>
              <a:gdLst/>
              <a:ahLst/>
              <a:rect l="l" t="t" r="r" b="b"/>
              <a:pathLst>
                <a:path w="218" h="1077">
                  <a:moveTo>
                    <a:pt x="0" y="1076"/>
                  </a:moveTo>
                  <a:lnTo>
                    <a:pt x="5" y="727"/>
                  </a:lnTo>
                  <a:lnTo>
                    <a:pt x="10" y="566"/>
                  </a:lnTo>
                  <a:lnTo>
                    <a:pt x="15" y="465"/>
                  </a:lnTo>
                  <a:lnTo>
                    <a:pt x="20" y="389"/>
                  </a:lnTo>
                  <a:lnTo>
                    <a:pt x="25" y="328"/>
                  </a:lnTo>
                  <a:lnTo>
                    <a:pt x="30" y="283"/>
                  </a:lnTo>
                  <a:lnTo>
                    <a:pt x="30" y="242"/>
                  </a:lnTo>
                  <a:lnTo>
                    <a:pt x="35" y="207"/>
                  </a:lnTo>
                  <a:lnTo>
                    <a:pt x="40" y="177"/>
                  </a:lnTo>
                  <a:lnTo>
                    <a:pt x="45" y="151"/>
                  </a:lnTo>
                  <a:lnTo>
                    <a:pt x="51" y="126"/>
                  </a:lnTo>
                  <a:lnTo>
                    <a:pt x="56" y="106"/>
                  </a:lnTo>
                  <a:lnTo>
                    <a:pt x="56" y="91"/>
                  </a:lnTo>
                  <a:lnTo>
                    <a:pt x="61" y="76"/>
                  </a:lnTo>
                  <a:lnTo>
                    <a:pt x="66" y="60"/>
                  </a:lnTo>
                  <a:lnTo>
                    <a:pt x="71" y="45"/>
                  </a:lnTo>
                  <a:lnTo>
                    <a:pt x="76" y="35"/>
                  </a:lnTo>
                  <a:lnTo>
                    <a:pt x="81" y="25"/>
                  </a:lnTo>
                  <a:lnTo>
                    <a:pt x="86" y="20"/>
                  </a:lnTo>
                  <a:lnTo>
                    <a:pt x="86" y="15"/>
                  </a:lnTo>
                  <a:lnTo>
                    <a:pt x="91" y="10"/>
                  </a:lnTo>
                  <a:lnTo>
                    <a:pt x="96" y="5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6" y="0"/>
                  </a:lnTo>
                  <a:lnTo>
                    <a:pt x="121" y="5"/>
                  </a:lnTo>
                  <a:lnTo>
                    <a:pt x="126" y="10"/>
                  </a:lnTo>
                  <a:lnTo>
                    <a:pt x="131" y="15"/>
                  </a:lnTo>
                  <a:lnTo>
                    <a:pt x="136" y="20"/>
                  </a:lnTo>
                  <a:lnTo>
                    <a:pt x="142" y="25"/>
                  </a:lnTo>
                  <a:lnTo>
                    <a:pt x="142" y="35"/>
                  </a:lnTo>
                  <a:lnTo>
                    <a:pt x="147" y="45"/>
                  </a:lnTo>
                  <a:lnTo>
                    <a:pt x="152" y="60"/>
                  </a:lnTo>
                  <a:lnTo>
                    <a:pt x="157" y="71"/>
                  </a:lnTo>
                  <a:lnTo>
                    <a:pt x="162" y="86"/>
                  </a:lnTo>
                  <a:lnTo>
                    <a:pt x="167" y="106"/>
                  </a:lnTo>
                  <a:lnTo>
                    <a:pt x="167" y="126"/>
                  </a:lnTo>
                  <a:lnTo>
                    <a:pt x="172" y="146"/>
                  </a:lnTo>
                  <a:lnTo>
                    <a:pt x="177" y="172"/>
                  </a:lnTo>
                  <a:lnTo>
                    <a:pt x="182" y="202"/>
                  </a:lnTo>
                  <a:lnTo>
                    <a:pt x="187" y="232"/>
                  </a:lnTo>
                  <a:lnTo>
                    <a:pt x="192" y="273"/>
                  </a:lnTo>
                  <a:lnTo>
                    <a:pt x="197" y="318"/>
                  </a:lnTo>
                  <a:lnTo>
                    <a:pt x="197" y="374"/>
                  </a:lnTo>
                  <a:lnTo>
                    <a:pt x="202" y="439"/>
                  </a:lnTo>
                  <a:lnTo>
                    <a:pt x="207" y="530"/>
                  </a:lnTo>
                  <a:lnTo>
                    <a:pt x="212" y="662"/>
                  </a:lnTo>
                  <a:lnTo>
                    <a:pt x="217" y="904"/>
                  </a:lnTo>
                  <a:lnTo>
                    <a:pt x="217" y="1076"/>
                  </a:lnTo>
                </a:path>
              </a:pathLst>
            </a:custGeom>
            <a:noFill/>
            <a:ln cap="rnd" w="25560">
              <a:solidFill>
                <a:srgbClr val="f81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8774280" y="4259160"/>
              <a:ext cx="339480" cy="1702080"/>
            </a:xfrm>
            <a:custGeom>
              <a:avLst/>
              <a:gdLst/>
              <a:ahLst/>
              <a:rect l="l" t="t" r="r" b="b"/>
              <a:pathLst>
                <a:path w="214" h="1072">
                  <a:moveTo>
                    <a:pt x="0" y="1071"/>
                  </a:moveTo>
                  <a:lnTo>
                    <a:pt x="0" y="778"/>
                  </a:lnTo>
                  <a:lnTo>
                    <a:pt x="6" y="601"/>
                  </a:lnTo>
                  <a:lnTo>
                    <a:pt x="11" y="490"/>
                  </a:lnTo>
                  <a:lnTo>
                    <a:pt x="16" y="409"/>
                  </a:lnTo>
                  <a:lnTo>
                    <a:pt x="21" y="349"/>
                  </a:lnTo>
                  <a:lnTo>
                    <a:pt x="26" y="298"/>
                  </a:lnTo>
                  <a:lnTo>
                    <a:pt x="31" y="253"/>
                  </a:lnTo>
                  <a:lnTo>
                    <a:pt x="31" y="217"/>
                  </a:lnTo>
                  <a:lnTo>
                    <a:pt x="36" y="187"/>
                  </a:lnTo>
                  <a:lnTo>
                    <a:pt x="41" y="162"/>
                  </a:lnTo>
                  <a:lnTo>
                    <a:pt x="46" y="136"/>
                  </a:lnTo>
                  <a:lnTo>
                    <a:pt x="51" y="116"/>
                  </a:lnTo>
                  <a:lnTo>
                    <a:pt x="56" y="96"/>
                  </a:lnTo>
                  <a:lnTo>
                    <a:pt x="56" y="81"/>
                  </a:lnTo>
                  <a:lnTo>
                    <a:pt x="61" y="66"/>
                  </a:lnTo>
                  <a:lnTo>
                    <a:pt x="66" y="55"/>
                  </a:lnTo>
                  <a:lnTo>
                    <a:pt x="71" y="40"/>
                  </a:lnTo>
                  <a:lnTo>
                    <a:pt x="76" y="30"/>
                  </a:lnTo>
                  <a:lnTo>
                    <a:pt x="81" y="25"/>
                  </a:lnTo>
                  <a:lnTo>
                    <a:pt x="86" y="20"/>
                  </a:lnTo>
                  <a:lnTo>
                    <a:pt x="86" y="10"/>
                  </a:lnTo>
                  <a:lnTo>
                    <a:pt x="91" y="10"/>
                  </a:lnTo>
                  <a:lnTo>
                    <a:pt x="97" y="5"/>
                  </a:lnTo>
                  <a:lnTo>
                    <a:pt x="102" y="0"/>
                  </a:lnTo>
                  <a:lnTo>
                    <a:pt x="107" y="0"/>
                  </a:lnTo>
                  <a:lnTo>
                    <a:pt x="112" y="0"/>
                  </a:lnTo>
                  <a:lnTo>
                    <a:pt x="117" y="5"/>
                  </a:lnTo>
                  <a:lnTo>
                    <a:pt x="122" y="10"/>
                  </a:lnTo>
                  <a:lnTo>
                    <a:pt x="127" y="15"/>
                  </a:lnTo>
                  <a:lnTo>
                    <a:pt x="132" y="20"/>
                  </a:lnTo>
                  <a:lnTo>
                    <a:pt x="137" y="25"/>
                  </a:lnTo>
                  <a:lnTo>
                    <a:pt x="142" y="35"/>
                  </a:lnTo>
                  <a:lnTo>
                    <a:pt x="142" y="45"/>
                  </a:lnTo>
                  <a:lnTo>
                    <a:pt x="147" y="55"/>
                  </a:lnTo>
                  <a:lnTo>
                    <a:pt x="152" y="71"/>
                  </a:lnTo>
                  <a:lnTo>
                    <a:pt x="157" y="86"/>
                  </a:lnTo>
                  <a:lnTo>
                    <a:pt x="162" y="101"/>
                  </a:lnTo>
                  <a:lnTo>
                    <a:pt x="167" y="121"/>
                  </a:lnTo>
                  <a:lnTo>
                    <a:pt x="172" y="141"/>
                  </a:lnTo>
                  <a:lnTo>
                    <a:pt x="172" y="167"/>
                  </a:lnTo>
                  <a:lnTo>
                    <a:pt x="177" y="197"/>
                  </a:lnTo>
                  <a:lnTo>
                    <a:pt x="183" y="227"/>
                  </a:lnTo>
                  <a:lnTo>
                    <a:pt x="188" y="263"/>
                  </a:lnTo>
                  <a:lnTo>
                    <a:pt x="193" y="308"/>
                  </a:lnTo>
                  <a:lnTo>
                    <a:pt x="198" y="359"/>
                  </a:lnTo>
                  <a:lnTo>
                    <a:pt x="198" y="424"/>
                  </a:lnTo>
                  <a:lnTo>
                    <a:pt x="203" y="510"/>
                  </a:lnTo>
                  <a:lnTo>
                    <a:pt x="208" y="631"/>
                  </a:lnTo>
                  <a:lnTo>
                    <a:pt x="213" y="839"/>
                  </a:lnTo>
                </a:path>
              </a:pathLst>
            </a:custGeom>
            <a:noFill/>
            <a:ln cap="rnd" w="25560">
              <a:solidFill>
                <a:srgbClr val="f81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1" name=""/>
          <p:cNvSpPr/>
          <p:nvPr/>
        </p:nvSpPr>
        <p:spPr>
          <a:xfrm>
            <a:off x="5635800" y="3552840"/>
            <a:ext cx="3476520" cy="0"/>
          </a:xfrm>
          <a:prstGeom prst="line">
            <a:avLst/>
          </a:prstGeom>
          <a:ln w="25560">
            <a:solidFill>
              <a:srgbClr val="ab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5333400" y="2144880"/>
            <a:ext cx="3710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afd00"/>
                </a:solidFill>
                <a:latin typeface="Arial"/>
              </a:rPr>
              <a:t>Bartlettov vremenski otv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7669080" y="3149640"/>
            <a:ext cx="1076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bfff7"/>
                </a:solidFill>
                <a:latin typeface="Arial"/>
              </a:rPr>
              <a:t>-26,5d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4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7709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dfca"/>
                </a:solidFill>
                <a:latin typeface="Times New Roman"/>
              </a:rPr>
              <a:t>Fiksni vremenski otvori </a:t>
            </a:r>
            <a:r>
              <a:rPr b="0" lang="hr-HR" sz="3600" spc="-1" strike="noStrike">
                <a:solidFill>
                  <a:srgbClr val="00dfca"/>
                </a:solidFill>
                <a:latin typeface="Times New Roman"/>
              </a:rPr>
              <a:t>(</a:t>
            </a:r>
            <a:r>
              <a:rPr b="0" i="1" lang="hr-HR" sz="3600" spc="-1" strike="noStrike">
                <a:solidFill>
                  <a:srgbClr val="00dfca"/>
                </a:solidFill>
                <a:latin typeface="Times New Roman"/>
              </a:rPr>
              <a:t>amplitudno-frekvencijske karakteristike</a:t>
            </a:r>
            <a:r>
              <a:rPr b="0" lang="hr-HR" sz="3600" spc="-1" strike="noStrike">
                <a:solidFill>
                  <a:srgbClr val="00dfca"/>
                </a:solidFill>
                <a:latin typeface="Times New Roman"/>
              </a:rPr>
              <a:t>)</a:t>
            </a:r>
            <a:endParaRPr b="0" i="1" lang="en-US" sz="36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2442600" y="6059520"/>
            <a:ext cx="36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5444280" y="55818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5969520" y="5618160"/>
            <a:ext cx="67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,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6728400" y="5603760"/>
            <a:ext cx="67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,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7455240" y="5627520"/>
            <a:ext cx="67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,6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8155440" y="5629320"/>
            <a:ext cx="67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1" name=""/>
          <p:cNvGrpSpPr/>
          <p:nvPr/>
        </p:nvGrpSpPr>
        <p:grpSpPr>
          <a:xfrm>
            <a:off x="4971960" y="2608200"/>
            <a:ext cx="695520" cy="3134520"/>
            <a:chOff x="4971960" y="2608200"/>
            <a:chExt cx="695520" cy="3134520"/>
          </a:xfrm>
        </p:grpSpPr>
        <p:sp>
          <p:nvSpPr>
            <p:cNvPr id="3282" name=""/>
            <p:cNvSpPr/>
            <p:nvPr/>
          </p:nvSpPr>
          <p:spPr>
            <a:xfrm>
              <a:off x="4971960" y="5345280"/>
              <a:ext cx="695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5045400" y="479916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5045400" y="425304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5045400" y="370044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5045400" y="315432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5158800" y="260820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8" name=""/>
          <p:cNvSpPr/>
          <p:nvPr/>
        </p:nvSpPr>
        <p:spPr>
          <a:xfrm rot="16200000">
            <a:off x="4041720" y="3822840"/>
            <a:ext cx="1809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afd00"/>
                </a:solidFill>
                <a:latin typeface="Arial"/>
              </a:rPr>
              <a:t>amplituda [dB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7189200" y="6059520"/>
            <a:ext cx="36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7709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dfca"/>
                </a:solidFill>
                <a:latin typeface="Times New Roman"/>
              </a:rPr>
              <a:t>Fiksni vremenski otvori </a:t>
            </a:r>
            <a:r>
              <a:rPr b="0" lang="hr-HR" sz="3600" spc="-1" strike="noStrike">
                <a:solidFill>
                  <a:srgbClr val="00dfca"/>
                </a:solidFill>
                <a:latin typeface="Times New Roman"/>
              </a:rPr>
              <a:t>(</a:t>
            </a:r>
            <a:r>
              <a:rPr b="0" i="1" lang="hr-HR" sz="3600" spc="-1" strike="noStrike">
                <a:solidFill>
                  <a:srgbClr val="00dfca"/>
                </a:solidFill>
                <a:latin typeface="Times New Roman"/>
              </a:rPr>
              <a:t>amplitudno-frekvencijske karakteristike</a:t>
            </a:r>
            <a:r>
              <a:rPr b="0" lang="hr-HR" sz="3600" spc="-1" strike="noStrike">
                <a:solidFill>
                  <a:srgbClr val="00dfca"/>
                </a:solidFill>
                <a:latin typeface="Times New Roman"/>
              </a:rPr>
              <a:t>)</a:t>
            </a:r>
            <a:endParaRPr b="0" i="1" lang="en-US" sz="3600" spc="-1" strike="noStrike">
              <a:solidFill>
                <a:srgbClr val="00dfca"/>
              </a:solidFill>
              <a:latin typeface="Times New Roman"/>
            </a:endParaRPr>
          </a:p>
        </p:txBody>
      </p:sp>
      <p:grpSp>
        <p:nvGrpSpPr>
          <p:cNvPr id="3291" name=""/>
          <p:cNvGrpSpPr/>
          <p:nvPr/>
        </p:nvGrpSpPr>
        <p:grpSpPr>
          <a:xfrm>
            <a:off x="857160" y="2851200"/>
            <a:ext cx="3422880" cy="3105000"/>
            <a:chOff x="857160" y="2851200"/>
            <a:chExt cx="3422880" cy="3105000"/>
          </a:xfrm>
        </p:grpSpPr>
        <p:sp>
          <p:nvSpPr>
            <p:cNvPr id="3292" name=""/>
            <p:cNvSpPr/>
            <p:nvPr/>
          </p:nvSpPr>
          <p:spPr>
            <a:xfrm>
              <a:off x="857160" y="2851200"/>
              <a:ext cx="2144880" cy="3105000"/>
            </a:xfrm>
            <a:custGeom>
              <a:avLst/>
              <a:gdLst/>
              <a:ahLst/>
              <a:rect l="l" t="t" r="r" b="b"/>
              <a:pathLst>
                <a:path w="1351" h="1956">
                  <a:moveTo>
                    <a:pt x="0" y="0"/>
                  </a:moveTo>
                  <a:lnTo>
                    <a:pt x="5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21" y="5"/>
                  </a:lnTo>
                  <a:lnTo>
                    <a:pt x="26" y="5"/>
                  </a:lnTo>
                  <a:lnTo>
                    <a:pt x="31" y="10"/>
                  </a:lnTo>
                  <a:lnTo>
                    <a:pt x="36" y="10"/>
                  </a:lnTo>
                  <a:lnTo>
                    <a:pt x="41" y="15"/>
                  </a:lnTo>
                  <a:lnTo>
                    <a:pt x="46" y="20"/>
                  </a:lnTo>
                  <a:lnTo>
                    <a:pt x="51" y="25"/>
                  </a:lnTo>
                  <a:lnTo>
                    <a:pt x="56" y="30"/>
                  </a:lnTo>
                  <a:lnTo>
                    <a:pt x="61" y="30"/>
                  </a:lnTo>
                  <a:lnTo>
                    <a:pt x="66" y="35"/>
                  </a:lnTo>
                  <a:lnTo>
                    <a:pt x="71" y="40"/>
                  </a:lnTo>
                  <a:lnTo>
                    <a:pt x="71" y="50"/>
                  </a:lnTo>
                  <a:lnTo>
                    <a:pt x="76" y="55"/>
                  </a:lnTo>
                  <a:lnTo>
                    <a:pt x="81" y="60"/>
                  </a:lnTo>
                  <a:lnTo>
                    <a:pt x="86" y="65"/>
                  </a:lnTo>
                  <a:lnTo>
                    <a:pt x="91" y="75"/>
                  </a:lnTo>
                  <a:lnTo>
                    <a:pt x="96" y="80"/>
                  </a:lnTo>
                  <a:lnTo>
                    <a:pt x="96" y="90"/>
                  </a:lnTo>
                  <a:lnTo>
                    <a:pt x="101" y="100"/>
                  </a:lnTo>
                  <a:lnTo>
                    <a:pt x="106" y="110"/>
                  </a:lnTo>
                  <a:lnTo>
                    <a:pt x="111" y="120"/>
                  </a:lnTo>
                  <a:lnTo>
                    <a:pt x="116" y="130"/>
                  </a:lnTo>
                  <a:lnTo>
                    <a:pt x="121" y="141"/>
                  </a:lnTo>
                  <a:lnTo>
                    <a:pt x="126" y="151"/>
                  </a:lnTo>
                  <a:lnTo>
                    <a:pt x="126" y="166"/>
                  </a:lnTo>
                  <a:lnTo>
                    <a:pt x="131" y="176"/>
                  </a:lnTo>
                  <a:lnTo>
                    <a:pt x="136" y="191"/>
                  </a:lnTo>
                  <a:lnTo>
                    <a:pt x="141" y="206"/>
                  </a:lnTo>
                  <a:lnTo>
                    <a:pt x="146" y="221"/>
                  </a:lnTo>
                  <a:lnTo>
                    <a:pt x="151" y="236"/>
                  </a:lnTo>
                  <a:lnTo>
                    <a:pt x="156" y="251"/>
                  </a:lnTo>
                  <a:lnTo>
                    <a:pt x="156" y="271"/>
                  </a:lnTo>
                  <a:lnTo>
                    <a:pt x="162" y="291"/>
                  </a:lnTo>
                  <a:lnTo>
                    <a:pt x="167" y="311"/>
                  </a:lnTo>
                  <a:lnTo>
                    <a:pt x="172" y="337"/>
                  </a:lnTo>
                  <a:lnTo>
                    <a:pt x="177" y="362"/>
                  </a:lnTo>
                  <a:lnTo>
                    <a:pt x="182" y="392"/>
                  </a:lnTo>
                  <a:lnTo>
                    <a:pt x="182" y="422"/>
                  </a:lnTo>
                  <a:lnTo>
                    <a:pt x="187" y="462"/>
                  </a:lnTo>
                  <a:lnTo>
                    <a:pt x="192" y="507"/>
                  </a:lnTo>
                  <a:lnTo>
                    <a:pt x="197" y="563"/>
                  </a:lnTo>
                  <a:lnTo>
                    <a:pt x="202" y="638"/>
                  </a:lnTo>
                  <a:lnTo>
                    <a:pt x="207" y="774"/>
                  </a:lnTo>
                  <a:lnTo>
                    <a:pt x="212" y="960"/>
                  </a:lnTo>
                  <a:lnTo>
                    <a:pt x="212" y="724"/>
                  </a:lnTo>
                  <a:lnTo>
                    <a:pt x="217" y="648"/>
                  </a:lnTo>
                  <a:lnTo>
                    <a:pt x="222" y="608"/>
                  </a:lnTo>
                  <a:lnTo>
                    <a:pt x="227" y="578"/>
                  </a:lnTo>
                  <a:lnTo>
                    <a:pt x="232" y="563"/>
                  </a:lnTo>
                  <a:lnTo>
                    <a:pt x="237" y="548"/>
                  </a:lnTo>
                  <a:lnTo>
                    <a:pt x="237" y="543"/>
                  </a:lnTo>
                  <a:lnTo>
                    <a:pt x="242" y="538"/>
                  </a:lnTo>
                  <a:lnTo>
                    <a:pt x="247" y="538"/>
                  </a:lnTo>
                  <a:lnTo>
                    <a:pt x="252" y="543"/>
                  </a:lnTo>
                  <a:lnTo>
                    <a:pt x="257" y="548"/>
                  </a:lnTo>
                  <a:lnTo>
                    <a:pt x="262" y="553"/>
                  </a:lnTo>
                  <a:lnTo>
                    <a:pt x="267" y="563"/>
                  </a:lnTo>
                  <a:lnTo>
                    <a:pt x="267" y="578"/>
                  </a:lnTo>
                  <a:lnTo>
                    <a:pt x="272" y="588"/>
                  </a:lnTo>
                  <a:lnTo>
                    <a:pt x="277" y="608"/>
                  </a:lnTo>
                  <a:lnTo>
                    <a:pt x="282" y="628"/>
                  </a:lnTo>
                  <a:lnTo>
                    <a:pt x="287" y="653"/>
                  </a:lnTo>
                  <a:lnTo>
                    <a:pt x="292" y="678"/>
                  </a:lnTo>
                  <a:lnTo>
                    <a:pt x="292" y="714"/>
                  </a:lnTo>
                  <a:lnTo>
                    <a:pt x="297" y="759"/>
                  </a:lnTo>
                  <a:lnTo>
                    <a:pt x="302" y="824"/>
                  </a:lnTo>
                  <a:lnTo>
                    <a:pt x="308" y="920"/>
                  </a:lnTo>
                  <a:lnTo>
                    <a:pt x="313" y="1236"/>
                  </a:lnTo>
                  <a:lnTo>
                    <a:pt x="318" y="975"/>
                  </a:lnTo>
                  <a:lnTo>
                    <a:pt x="323" y="869"/>
                  </a:lnTo>
                  <a:lnTo>
                    <a:pt x="323" y="814"/>
                  </a:lnTo>
                  <a:lnTo>
                    <a:pt x="328" y="779"/>
                  </a:lnTo>
                  <a:lnTo>
                    <a:pt x="333" y="754"/>
                  </a:lnTo>
                  <a:lnTo>
                    <a:pt x="338" y="739"/>
                  </a:lnTo>
                  <a:lnTo>
                    <a:pt x="343" y="724"/>
                  </a:lnTo>
                  <a:lnTo>
                    <a:pt x="348" y="719"/>
                  </a:lnTo>
                  <a:lnTo>
                    <a:pt x="348" y="714"/>
                  </a:lnTo>
                  <a:lnTo>
                    <a:pt x="353" y="709"/>
                  </a:lnTo>
                  <a:lnTo>
                    <a:pt x="358" y="714"/>
                  </a:lnTo>
                  <a:lnTo>
                    <a:pt x="363" y="714"/>
                  </a:lnTo>
                  <a:lnTo>
                    <a:pt x="368" y="724"/>
                  </a:lnTo>
                  <a:lnTo>
                    <a:pt x="373" y="729"/>
                  </a:lnTo>
                  <a:lnTo>
                    <a:pt x="378" y="739"/>
                  </a:lnTo>
                  <a:lnTo>
                    <a:pt x="378" y="754"/>
                  </a:lnTo>
                  <a:lnTo>
                    <a:pt x="383" y="769"/>
                  </a:lnTo>
                  <a:lnTo>
                    <a:pt x="388" y="789"/>
                  </a:lnTo>
                  <a:lnTo>
                    <a:pt x="393" y="814"/>
                  </a:lnTo>
                  <a:lnTo>
                    <a:pt x="398" y="844"/>
                  </a:lnTo>
                  <a:lnTo>
                    <a:pt x="403" y="884"/>
                  </a:lnTo>
                  <a:lnTo>
                    <a:pt x="403" y="940"/>
                  </a:lnTo>
                  <a:lnTo>
                    <a:pt x="408" y="1015"/>
                  </a:lnTo>
                  <a:lnTo>
                    <a:pt x="413" y="1181"/>
                  </a:lnTo>
                  <a:lnTo>
                    <a:pt x="418" y="1196"/>
                  </a:lnTo>
                  <a:lnTo>
                    <a:pt x="423" y="1035"/>
                  </a:lnTo>
                  <a:lnTo>
                    <a:pt x="428" y="965"/>
                  </a:lnTo>
                  <a:lnTo>
                    <a:pt x="433" y="920"/>
                  </a:lnTo>
                  <a:lnTo>
                    <a:pt x="433" y="889"/>
                  </a:lnTo>
                  <a:lnTo>
                    <a:pt x="438" y="869"/>
                  </a:lnTo>
                  <a:lnTo>
                    <a:pt x="443" y="854"/>
                  </a:lnTo>
                  <a:lnTo>
                    <a:pt x="448" y="844"/>
                  </a:lnTo>
                  <a:lnTo>
                    <a:pt x="453" y="834"/>
                  </a:lnTo>
                  <a:lnTo>
                    <a:pt x="459" y="834"/>
                  </a:lnTo>
                  <a:lnTo>
                    <a:pt x="464" y="829"/>
                  </a:lnTo>
                  <a:lnTo>
                    <a:pt x="464" y="834"/>
                  </a:lnTo>
                  <a:lnTo>
                    <a:pt x="469" y="834"/>
                  </a:lnTo>
                  <a:lnTo>
                    <a:pt x="474" y="844"/>
                  </a:lnTo>
                  <a:lnTo>
                    <a:pt x="479" y="849"/>
                  </a:lnTo>
                  <a:lnTo>
                    <a:pt x="484" y="864"/>
                  </a:lnTo>
                  <a:lnTo>
                    <a:pt x="489" y="874"/>
                  </a:lnTo>
                  <a:lnTo>
                    <a:pt x="489" y="894"/>
                  </a:lnTo>
                  <a:lnTo>
                    <a:pt x="494" y="915"/>
                  </a:lnTo>
                  <a:lnTo>
                    <a:pt x="499" y="945"/>
                  </a:lnTo>
                  <a:lnTo>
                    <a:pt x="504" y="975"/>
                  </a:lnTo>
                  <a:lnTo>
                    <a:pt x="509" y="1020"/>
                  </a:lnTo>
                  <a:lnTo>
                    <a:pt x="514" y="1085"/>
                  </a:lnTo>
                  <a:lnTo>
                    <a:pt x="519" y="1201"/>
                  </a:lnTo>
                  <a:lnTo>
                    <a:pt x="519" y="1538"/>
                  </a:lnTo>
                  <a:lnTo>
                    <a:pt x="524" y="1181"/>
                  </a:lnTo>
                  <a:lnTo>
                    <a:pt x="529" y="1085"/>
                  </a:lnTo>
                  <a:lnTo>
                    <a:pt x="534" y="1035"/>
                  </a:lnTo>
                  <a:lnTo>
                    <a:pt x="539" y="1000"/>
                  </a:lnTo>
                  <a:lnTo>
                    <a:pt x="544" y="975"/>
                  </a:lnTo>
                  <a:lnTo>
                    <a:pt x="544" y="955"/>
                  </a:lnTo>
                  <a:lnTo>
                    <a:pt x="549" y="945"/>
                  </a:lnTo>
                  <a:lnTo>
                    <a:pt x="554" y="935"/>
                  </a:lnTo>
                  <a:lnTo>
                    <a:pt x="559" y="930"/>
                  </a:lnTo>
                  <a:lnTo>
                    <a:pt x="564" y="925"/>
                  </a:lnTo>
                  <a:lnTo>
                    <a:pt x="569" y="925"/>
                  </a:lnTo>
                  <a:lnTo>
                    <a:pt x="574" y="925"/>
                  </a:lnTo>
                  <a:lnTo>
                    <a:pt x="574" y="930"/>
                  </a:lnTo>
                  <a:lnTo>
                    <a:pt x="579" y="940"/>
                  </a:lnTo>
                  <a:lnTo>
                    <a:pt x="584" y="950"/>
                  </a:lnTo>
                  <a:lnTo>
                    <a:pt x="589" y="960"/>
                  </a:lnTo>
                  <a:lnTo>
                    <a:pt x="594" y="975"/>
                  </a:lnTo>
                  <a:lnTo>
                    <a:pt x="599" y="995"/>
                  </a:lnTo>
                  <a:lnTo>
                    <a:pt x="599" y="1020"/>
                  </a:lnTo>
                  <a:lnTo>
                    <a:pt x="605" y="1050"/>
                  </a:lnTo>
                  <a:lnTo>
                    <a:pt x="610" y="1090"/>
                  </a:lnTo>
                  <a:lnTo>
                    <a:pt x="615" y="1146"/>
                  </a:lnTo>
                  <a:lnTo>
                    <a:pt x="620" y="1231"/>
                  </a:lnTo>
                  <a:lnTo>
                    <a:pt x="625" y="1457"/>
                  </a:lnTo>
                  <a:lnTo>
                    <a:pt x="630" y="1327"/>
                  </a:lnTo>
                  <a:lnTo>
                    <a:pt x="630" y="1196"/>
                  </a:lnTo>
                  <a:lnTo>
                    <a:pt x="635" y="1136"/>
                  </a:lnTo>
                  <a:lnTo>
                    <a:pt x="640" y="1096"/>
                  </a:lnTo>
                  <a:lnTo>
                    <a:pt x="645" y="1065"/>
                  </a:lnTo>
                  <a:lnTo>
                    <a:pt x="650" y="1045"/>
                  </a:lnTo>
                  <a:lnTo>
                    <a:pt x="655" y="1030"/>
                  </a:lnTo>
                  <a:lnTo>
                    <a:pt x="655" y="1015"/>
                  </a:lnTo>
                  <a:lnTo>
                    <a:pt x="660" y="1010"/>
                  </a:lnTo>
                  <a:lnTo>
                    <a:pt x="665" y="1005"/>
                  </a:lnTo>
                  <a:lnTo>
                    <a:pt x="670" y="1000"/>
                  </a:lnTo>
                  <a:lnTo>
                    <a:pt x="675" y="1000"/>
                  </a:lnTo>
                  <a:lnTo>
                    <a:pt x="680" y="1005"/>
                  </a:lnTo>
                  <a:lnTo>
                    <a:pt x="685" y="1010"/>
                  </a:lnTo>
                  <a:lnTo>
                    <a:pt x="685" y="1020"/>
                  </a:lnTo>
                  <a:lnTo>
                    <a:pt x="690" y="1030"/>
                  </a:lnTo>
                  <a:lnTo>
                    <a:pt x="695" y="1045"/>
                  </a:lnTo>
                  <a:lnTo>
                    <a:pt x="700" y="1060"/>
                  </a:lnTo>
                  <a:lnTo>
                    <a:pt x="705" y="1080"/>
                  </a:lnTo>
                  <a:lnTo>
                    <a:pt x="710" y="1111"/>
                  </a:lnTo>
                  <a:lnTo>
                    <a:pt x="715" y="1146"/>
                  </a:lnTo>
                  <a:lnTo>
                    <a:pt x="715" y="1191"/>
                  </a:lnTo>
                  <a:lnTo>
                    <a:pt x="720" y="1261"/>
                  </a:lnTo>
                  <a:lnTo>
                    <a:pt x="725" y="1402"/>
                  </a:lnTo>
                  <a:lnTo>
                    <a:pt x="730" y="1508"/>
                  </a:lnTo>
                  <a:lnTo>
                    <a:pt x="735" y="1302"/>
                  </a:lnTo>
                  <a:lnTo>
                    <a:pt x="740" y="1226"/>
                  </a:lnTo>
                  <a:lnTo>
                    <a:pt x="740" y="1176"/>
                  </a:lnTo>
                  <a:lnTo>
                    <a:pt x="745" y="1141"/>
                  </a:lnTo>
                  <a:lnTo>
                    <a:pt x="750" y="1121"/>
                  </a:lnTo>
                  <a:lnTo>
                    <a:pt x="756" y="1101"/>
                  </a:lnTo>
                  <a:lnTo>
                    <a:pt x="761" y="1085"/>
                  </a:lnTo>
                  <a:lnTo>
                    <a:pt x="766" y="1080"/>
                  </a:lnTo>
                  <a:lnTo>
                    <a:pt x="771" y="1070"/>
                  </a:lnTo>
                  <a:lnTo>
                    <a:pt x="776" y="1065"/>
                  </a:lnTo>
                  <a:lnTo>
                    <a:pt x="781" y="1070"/>
                  </a:lnTo>
                  <a:lnTo>
                    <a:pt x="786" y="1075"/>
                  </a:lnTo>
                  <a:lnTo>
                    <a:pt x="791" y="1080"/>
                  </a:lnTo>
                  <a:lnTo>
                    <a:pt x="796" y="1090"/>
                  </a:lnTo>
                  <a:lnTo>
                    <a:pt x="796" y="1101"/>
                  </a:lnTo>
                  <a:lnTo>
                    <a:pt x="801" y="1116"/>
                  </a:lnTo>
                  <a:lnTo>
                    <a:pt x="806" y="1136"/>
                  </a:lnTo>
                  <a:lnTo>
                    <a:pt x="811" y="1161"/>
                  </a:lnTo>
                  <a:lnTo>
                    <a:pt x="816" y="1191"/>
                  </a:lnTo>
                  <a:lnTo>
                    <a:pt x="821" y="1236"/>
                  </a:lnTo>
                  <a:lnTo>
                    <a:pt x="826" y="1292"/>
                  </a:lnTo>
                  <a:lnTo>
                    <a:pt x="826" y="1392"/>
                  </a:lnTo>
                  <a:lnTo>
                    <a:pt x="831" y="1854"/>
                  </a:lnTo>
                  <a:lnTo>
                    <a:pt x="836" y="1412"/>
                  </a:lnTo>
                  <a:lnTo>
                    <a:pt x="841" y="1312"/>
                  </a:lnTo>
                  <a:lnTo>
                    <a:pt x="846" y="1251"/>
                  </a:lnTo>
                  <a:lnTo>
                    <a:pt x="851" y="1216"/>
                  </a:lnTo>
                  <a:lnTo>
                    <a:pt x="851" y="1186"/>
                  </a:lnTo>
                  <a:lnTo>
                    <a:pt x="856" y="1166"/>
                  </a:lnTo>
                  <a:lnTo>
                    <a:pt x="861" y="1151"/>
                  </a:lnTo>
                  <a:lnTo>
                    <a:pt x="866" y="1141"/>
                  </a:lnTo>
                  <a:lnTo>
                    <a:pt x="871" y="1131"/>
                  </a:lnTo>
                  <a:lnTo>
                    <a:pt x="876" y="1126"/>
                  </a:lnTo>
                  <a:lnTo>
                    <a:pt x="881" y="1126"/>
                  </a:lnTo>
                  <a:lnTo>
                    <a:pt x="886" y="1126"/>
                  </a:lnTo>
                  <a:lnTo>
                    <a:pt x="891" y="1136"/>
                  </a:lnTo>
                  <a:lnTo>
                    <a:pt x="896" y="1141"/>
                  </a:lnTo>
                  <a:lnTo>
                    <a:pt x="902" y="1151"/>
                  </a:lnTo>
                  <a:lnTo>
                    <a:pt x="907" y="1166"/>
                  </a:lnTo>
                  <a:lnTo>
                    <a:pt x="907" y="1186"/>
                  </a:lnTo>
                  <a:lnTo>
                    <a:pt x="912" y="1206"/>
                  </a:lnTo>
                  <a:lnTo>
                    <a:pt x="917" y="1236"/>
                  </a:lnTo>
                  <a:lnTo>
                    <a:pt x="922" y="1271"/>
                  </a:lnTo>
                  <a:lnTo>
                    <a:pt x="927" y="1322"/>
                  </a:lnTo>
                  <a:lnTo>
                    <a:pt x="932" y="1402"/>
                  </a:lnTo>
                  <a:lnTo>
                    <a:pt x="937" y="1583"/>
                  </a:lnTo>
                  <a:lnTo>
                    <a:pt x="937" y="1543"/>
                  </a:lnTo>
                  <a:lnTo>
                    <a:pt x="942" y="1392"/>
                  </a:lnTo>
                  <a:lnTo>
                    <a:pt x="947" y="1327"/>
                  </a:lnTo>
                  <a:lnTo>
                    <a:pt x="952" y="1281"/>
                  </a:lnTo>
                  <a:lnTo>
                    <a:pt x="957" y="1251"/>
                  </a:lnTo>
                  <a:lnTo>
                    <a:pt x="962" y="1226"/>
                  </a:lnTo>
                  <a:lnTo>
                    <a:pt x="967" y="1211"/>
                  </a:lnTo>
                  <a:lnTo>
                    <a:pt x="967" y="1196"/>
                  </a:lnTo>
                  <a:lnTo>
                    <a:pt x="972" y="1186"/>
                  </a:lnTo>
                  <a:lnTo>
                    <a:pt x="977" y="1181"/>
                  </a:lnTo>
                  <a:lnTo>
                    <a:pt x="982" y="1176"/>
                  </a:lnTo>
                  <a:lnTo>
                    <a:pt x="987" y="1176"/>
                  </a:lnTo>
                  <a:lnTo>
                    <a:pt x="992" y="1176"/>
                  </a:lnTo>
                  <a:lnTo>
                    <a:pt x="992" y="1181"/>
                  </a:lnTo>
                  <a:lnTo>
                    <a:pt x="997" y="1191"/>
                  </a:lnTo>
                  <a:lnTo>
                    <a:pt x="1002" y="1196"/>
                  </a:lnTo>
                  <a:lnTo>
                    <a:pt x="1007" y="1211"/>
                  </a:lnTo>
                  <a:lnTo>
                    <a:pt x="1012" y="1226"/>
                  </a:lnTo>
                  <a:lnTo>
                    <a:pt x="1017" y="1246"/>
                  </a:lnTo>
                  <a:lnTo>
                    <a:pt x="1022" y="1271"/>
                  </a:lnTo>
                  <a:lnTo>
                    <a:pt x="1022" y="1307"/>
                  </a:lnTo>
                  <a:lnTo>
                    <a:pt x="1027" y="1352"/>
                  </a:lnTo>
                  <a:lnTo>
                    <a:pt x="1032" y="1417"/>
                  </a:lnTo>
                  <a:lnTo>
                    <a:pt x="1037" y="1538"/>
                  </a:lnTo>
                  <a:lnTo>
                    <a:pt x="1042" y="1754"/>
                  </a:lnTo>
                  <a:lnTo>
                    <a:pt x="1048" y="1483"/>
                  </a:lnTo>
                  <a:lnTo>
                    <a:pt x="1048" y="1397"/>
                  </a:lnTo>
                  <a:lnTo>
                    <a:pt x="1053" y="1342"/>
                  </a:lnTo>
                  <a:lnTo>
                    <a:pt x="1058" y="1307"/>
                  </a:lnTo>
                  <a:lnTo>
                    <a:pt x="1063" y="1281"/>
                  </a:lnTo>
                  <a:lnTo>
                    <a:pt x="1068" y="1261"/>
                  </a:lnTo>
                  <a:lnTo>
                    <a:pt x="1073" y="1246"/>
                  </a:lnTo>
                  <a:lnTo>
                    <a:pt x="1078" y="1236"/>
                  </a:lnTo>
                  <a:lnTo>
                    <a:pt x="1078" y="1231"/>
                  </a:lnTo>
                  <a:lnTo>
                    <a:pt x="1083" y="1226"/>
                  </a:lnTo>
                  <a:lnTo>
                    <a:pt x="1088" y="1221"/>
                  </a:lnTo>
                  <a:lnTo>
                    <a:pt x="1093" y="1221"/>
                  </a:lnTo>
                  <a:lnTo>
                    <a:pt x="1098" y="1226"/>
                  </a:lnTo>
                  <a:lnTo>
                    <a:pt x="1103" y="1231"/>
                  </a:lnTo>
                  <a:lnTo>
                    <a:pt x="1103" y="1241"/>
                  </a:lnTo>
                  <a:lnTo>
                    <a:pt x="1108" y="1251"/>
                  </a:lnTo>
                  <a:lnTo>
                    <a:pt x="1113" y="1266"/>
                  </a:lnTo>
                  <a:lnTo>
                    <a:pt x="1118" y="1287"/>
                  </a:lnTo>
                  <a:lnTo>
                    <a:pt x="1123" y="1307"/>
                  </a:lnTo>
                  <a:lnTo>
                    <a:pt x="1128" y="1337"/>
                  </a:lnTo>
                  <a:lnTo>
                    <a:pt x="1133" y="1377"/>
                  </a:lnTo>
                  <a:lnTo>
                    <a:pt x="1133" y="1432"/>
                  </a:lnTo>
                  <a:lnTo>
                    <a:pt x="1138" y="1523"/>
                  </a:lnTo>
                  <a:lnTo>
                    <a:pt x="1143" y="1799"/>
                  </a:lnTo>
                  <a:lnTo>
                    <a:pt x="1148" y="1583"/>
                  </a:lnTo>
                  <a:lnTo>
                    <a:pt x="1153" y="1467"/>
                  </a:lnTo>
                  <a:lnTo>
                    <a:pt x="1158" y="1407"/>
                  </a:lnTo>
                  <a:lnTo>
                    <a:pt x="1158" y="1362"/>
                  </a:lnTo>
                  <a:lnTo>
                    <a:pt x="1163" y="1337"/>
                  </a:lnTo>
                  <a:lnTo>
                    <a:pt x="1168" y="1312"/>
                  </a:lnTo>
                  <a:lnTo>
                    <a:pt x="1173" y="1297"/>
                  </a:lnTo>
                  <a:lnTo>
                    <a:pt x="1178" y="1287"/>
                  </a:lnTo>
                  <a:lnTo>
                    <a:pt x="1183" y="1276"/>
                  </a:lnTo>
                  <a:lnTo>
                    <a:pt x="1188" y="1271"/>
                  </a:lnTo>
                  <a:lnTo>
                    <a:pt x="1188" y="1266"/>
                  </a:lnTo>
                  <a:lnTo>
                    <a:pt x="1193" y="1266"/>
                  </a:lnTo>
                  <a:lnTo>
                    <a:pt x="1199" y="1266"/>
                  </a:lnTo>
                  <a:lnTo>
                    <a:pt x="1204" y="1271"/>
                  </a:lnTo>
                  <a:lnTo>
                    <a:pt x="1209" y="1281"/>
                  </a:lnTo>
                  <a:lnTo>
                    <a:pt x="1214" y="1292"/>
                  </a:lnTo>
                  <a:lnTo>
                    <a:pt x="1214" y="1302"/>
                  </a:lnTo>
                  <a:lnTo>
                    <a:pt x="1219" y="1322"/>
                  </a:lnTo>
                  <a:lnTo>
                    <a:pt x="1224" y="1342"/>
                  </a:lnTo>
                  <a:lnTo>
                    <a:pt x="1229" y="1367"/>
                  </a:lnTo>
                  <a:lnTo>
                    <a:pt x="1234" y="1402"/>
                  </a:lnTo>
                  <a:lnTo>
                    <a:pt x="1239" y="1452"/>
                  </a:lnTo>
                  <a:lnTo>
                    <a:pt x="1244" y="1523"/>
                  </a:lnTo>
                  <a:lnTo>
                    <a:pt x="1244" y="1674"/>
                  </a:lnTo>
                  <a:lnTo>
                    <a:pt x="1249" y="1719"/>
                  </a:lnTo>
                  <a:lnTo>
                    <a:pt x="1254" y="1543"/>
                  </a:lnTo>
                  <a:lnTo>
                    <a:pt x="1259" y="1467"/>
                  </a:lnTo>
                  <a:lnTo>
                    <a:pt x="1264" y="1422"/>
                  </a:lnTo>
                  <a:lnTo>
                    <a:pt x="1269" y="1387"/>
                  </a:lnTo>
                  <a:lnTo>
                    <a:pt x="1274" y="1362"/>
                  </a:lnTo>
                  <a:lnTo>
                    <a:pt x="1274" y="1342"/>
                  </a:lnTo>
                  <a:lnTo>
                    <a:pt x="1279" y="1332"/>
                  </a:lnTo>
                  <a:lnTo>
                    <a:pt x="1284" y="1322"/>
                  </a:lnTo>
                  <a:lnTo>
                    <a:pt x="1289" y="1312"/>
                  </a:lnTo>
                  <a:lnTo>
                    <a:pt x="1294" y="1307"/>
                  </a:lnTo>
                  <a:lnTo>
                    <a:pt x="1299" y="1307"/>
                  </a:lnTo>
                  <a:lnTo>
                    <a:pt x="1304" y="1312"/>
                  </a:lnTo>
                  <a:lnTo>
                    <a:pt x="1309" y="1317"/>
                  </a:lnTo>
                  <a:lnTo>
                    <a:pt x="1314" y="1327"/>
                  </a:lnTo>
                  <a:lnTo>
                    <a:pt x="1319" y="1337"/>
                  </a:lnTo>
                  <a:lnTo>
                    <a:pt x="1324" y="1352"/>
                  </a:lnTo>
                  <a:lnTo>
                    <a:pt x="1329" y="1372"/>
                  </a:lnTo>
                  <a:lnTo>
                    <a:pt x="1329" y="1397"/>
                  </a:lnTo>
                  <a:lnTo>
                    <a:pt x="1334" y="1427"/>
                  </a:lnTo>
                  <a:lnTo>
                    <a:pt x="1339" y="1472"/>
                  </a:lnTo>
                  <a:lnTo>
                    <a:pt x="1345" y="1533"/>
                  </a:lnTo>
                  <a:lnTo>
                    <a:pt x="1350" y="1638"/>
                  </a:lnTo>
                  <a:lnTo>
                    <a:pt x="1350" y="1955"/>
                  </a:lnTo>
                </a:path>
              </a:pathLst>
            </a:custGeom>
            <a:noFill/>
            <a:ln cap="rnd" w="25560">
              <a:solidFill>
                <a:srgbClr val="f81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3008160" y="4989600"/>
              <a:ext cx="489240" cy="966600"/>
            </a:xfrm>
            <a:custGeom>
              <a:avLst/>
              <a:gdLst/>
              <a:ahLst/>
              <a:rect l="l" t="t" r="r" b="b"/>
              <a:pathLst>
                <a:path w="308" h="609">
                  <a:moveTo>
                    <a:pt x="0" y="608"/>
                  </a:moveTo>
                  <a:lnTo>
                    <a:pt x="0" y="281"/>
                  </a:lnTo>
                  <a:lnTo>
                    <a:pt x="5" y="186"/>
                  </a:lnTo>
                  <a:lnTo>
                    <a:pt x="10" y="131"/>
                  </a:lnTo>
                  <a:lnTo>
                    <a:pt x="15" y="90"/>
                  </a:lnTo>
                  <a:lnTo>
                    <a:pt x="20" y="65"/>
                  </a:lnTo>
                  <a:lnTo>
                    <a:pt x="25" y="45"/>
                  </a:lnTo>
                  <a:lnTo>
                    <a:pt x="30" y="25"/>
                  </a:lnTo>
                  <a:lnTo>
                    <a:pt x="30" y="15"/>
                  </a:lnTo>
                  <a:lnTo>
                    <a:pt x="35" y="10"/>
                  </a:lnTo>
                  <a:lnTo>
                    <a:pt x="40" y="5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5" y="5"/>
                  </a:lnTo>
                  <a:lnTo>
                    <a:pt x="60" y="15"/>
                  </a:lnTo>
                  <a:lnTo>
                    <a:pt x="65" y="25"/>
                  </a:lnTo>
                  <a:lnTo>
                    <a:pt x="70" y="40"/>
                  </a:lnTo>
                  <a:lnTo>
                    <a:pt x="75" y="55"/>
                  </a:lnTo>
                  <a:lnTo>
                    <a:pt x="80" y="80"/>
                  </a:lnTo>
                  <a:lnTo>
                    <a:pt x="85" y="105"/>
                  </a:lnTo>
                  <a:lnTo>
                    <a:pt x="85" y="146"/>
                  </a:lnTo>
                  <a:lnTo>
                    <a:pt x="90" y="196"/>
                  </a:lnTo>
                  <a:lnTo>
                    <a:pt x="95" y="281"/>
                  </a:lnTo>
                  <a:lnTo>
                    <a:pt x="100" y="487"/>
                  </a:lnTo>
                  <a:lnTo>
                    <a:pt x="105" y="387"/>
                  </a:lnTo>
                  <a:lnTo>
                    <a:pt x="110" y="251"/>
                  </a:lnTo>
                  <a:lnTo>
                    <a:pt x="110" y="186"/>
                  </a:lnTo>
                  <a:lnTo>
                    <a:pt x="115" y="141"/>
                  </a:lnTo>
                  <a:lnTo>
                    <a:pt x="120" y="110"/>
                  </a:lnTo>
                  <a:lnTo>
                    <a:pt x="125" y="90"/>
                  </a:lnTo>
                  <a:lnTo>
                    <a:pt x="130" y="70"/>
                  </a:lnTo>
                  <a:lnTo>
                    <a:pt x="135" y="60"/>
                  </a:lnTo>
                  <a:lnTo>
                    <a:pt x="141" y="50"/>
                  </a:lnTo>
                  <a:lnTo>
                    <a:pt x="141" y="45"/>
                  </a:lnTo>
                  <a:lnTo>
                    <a:pt x="146" y="40"/>
                  </a:lnTo>
                  <a:lnTo>
                    <a:pt x="151" y="40"/>
                  </a:lnTo>
                  <a:lnTo>
                    <a:pt x="156" y="40"/>
                  </a:lnTo>
                  <a:lnTo>
                    <a:pt x="161" y="45"/>
                  </a:lnTo>
                  <a:lnTo>
                    <a:pt x="166" y="50"/>
                  </a:lnTo>
                  <a:lnTo>
                    <a:pt x="171" y="60"/>
                  </a:lnTo>
                  <a:lnTo>
                    <a:pt x="171" y="70"/>
                  </a:lnTo>
                  <a:lnTo>
                    <a:pt x="176" y="90"/>
                  </a:lnTo>
                  <a:lnTo>
                    <a:pt x="181" y="110"/>
                  </a:lnTo>
                  <a:lnTo>
                    <a:pt x="186" y="136"/>
                  </a:lnTo>
                  <a:lnTo>
                    <a:pt x="191" y="166"/>
                  </a:lnTo>
                  <a:lnTo>
                    <a:pt x="196" y="211"/>
                  </a:lnTo>
                  <a:lnTo>
                    <a:pt x="196" y="281"/>
                  </a:lnTo>
                  <a:lnTo>
                    <a:pt x="201" y="412"/>
                  </a:lnTo>
                  <a:lnTo>
                    <a:pt x="206" y="553"/>
                  </a:lnTo>
                  <a:lnTo>
                    <a:pt x="211" y="327"/>
                  </a:lnTo>
                  <a:lnTo>
                    <a:pt x="216" y="246"/>
                  </a:lnTo>
                  <a:lnTo>
                    <a:pt x="221" y="196"/>
                  </a:lnTo>
                  <a:lnTo>
                    <a:pt x="226" y="161"/>
                  </a:lnTo>
                  <a:lnTo>
                    <a:pt x="226" y="136"/>
                  </a:lnTo>
                  <a:lnTo>
                    <a:pt x="231" y="115"/>
                  </a:lnTo>
                  <a:lnTo>
                    <a:pt x="236" y="100"/>
                  </a:lnTo>
                  <a:lnTo>
                    <a:pt x="241" y="90"/>
                  </a:lnTo>
                  <a:lnTo>
                    <a:pt x="246" y="85"/>
                  </a:lnTo>
                  <a:lnTo>
                    <a:pt x="251" y="80"/>
                  </a:lnTo>
                  <a:lnTo>
                    <a:pt x="251" y="75"/>
                  </a:lnTo>
                  <a:lnTo>
                    <a:pt x="256" y="80"/>
                  </a:lnTo>
                  <a:lnTo>
                    <a:pt x="261" y="80"/>
                  </a:lnTo>
                  <a:lnTo>
                    <a:pt x="266" y="85"/>
                  </a:lnTo>
                  <a:lnTo>
                    <a:pt x="271" y="95"/>
                  </a:lnTo>
                  <a:lnTo>
                    <a:pt x="276" y="105"/>
                  </a:lnTo>
                  <a:lnTo>
                    <a:pt x="281" y="120"/>
                  </a:lnTo>
                  <a:lnTo>
                    <a:pt x="281" y="141"/>
                  </a:lnTo>
                  <a:lnTo>
                    <a:pt x="287" y="166"/>
                  </a:lnTo>
                  <a:lnTo>
                    <a:pt x="292" y="196"/>
                  </a:lnTo>
                  <a:lnTo>
                    <a:pt x="297" y="236"/>
                  </a:lnTo>
                  <a:lnTo>
                    <a:pt x="302" y="291"/>
                  </a:lnTo>
                  <a:lnTo>
                    <a:pt x="307" y="387"/>
                  </a:lnTo>
                  <a:lnTo>
                    <a:pt x="307" y="608"/>
                  </a:lnTo>
                </a:path>
              </a:pathLst>
            </a:custGeom>
            <a:noFill/>
            <a:ln cap="rnd" w="25560">
              <a:solidFill>
                <a:srgbClr val="f81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3495600" y="5180040"/>
              <a:ext cx="328680" cy="776160"/>
            </a:xfrm>
            <a:custGeom>
              <a:avLst/>
              <a:gdLst/>
              <a:ahLst/>
              <a:rect l="l" t="t" r="r" b="b"/>
              <a:pathLst>
                <a:path w="207" h="489">
                  <a:moveTo>
                    <a:pt x="0" y="488"/>
                  </a:moveTo>
                  <a:lnTo>
                    <a:pt x="5" y="302"/>
                  </a:lnTo>
                  <a:lnTo>
                    <a:pt x="10" y="191"/>
                  </a:lnTo>
                  <a:lnTo>
                    <a:pt x="15" y="131"/>
                  </a:lnTo>
                  <a:lnTo>
                    <a:pt x="20" y="96"/>
                  </a:lnTo>
                  <a:lnTo>
                    <a:pt x="25" y="66"/>
                  </a:lnTo>
                  <a:lnTo>
                    <a:pt x="30" y="46"/>
                  </a:lnTo>
                  <a:lnTo>
                    <a:pt x="30" y="26"/>
                  </a:lnTo>
                  <a:lnTo>
                    <a:pt x="35" y="16"/>
                  </a:lnTo>
                  <a:lnTo>
                    <a:pt x="40" y="5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0" y="5"/>
                  </a:lnTo>
                  <a:lnTo>
                    <a:pt x="65" y="16"/>
                  </a:lnTo>
                  <a:lnTo>
                    <a:pt x="70" y="26"/>
                  </a:lnTo>
                  <a:lnTo>
                    <a:pt x="75" y="36"/>
                  </a:lnTo>
                  <a:lnTo>
                    <a:pt x="80" y="56"/>
                  </a:lnTo>
                  <a:lnTo>
                    <a:pt x="85" y="76"/>
                  </a:lnTo>
                  <a:lnTo>
                    <a:pt x="85" y="106"/>
                  </a:lnTo>
                  <a:lnTo>
                    <a:pt x="90" y="141"/>
                  </a:lnTo>
                  <a:lnTo>
                    <a:pt x="95" y="191"/>
                  </a:lnTo>
                  <a:lnTo>
                    <a:pt x="100" y="267"/>
                  </a:lnTo>
                  <a:lnTo>
                    <a:pt x="105" y="438"/>
                  </a:lnTo>
                  <a:lnTo>
                    <a:pt x="110" y="423"/>
                  </a:lnTo>
                  <a:lnTo>
                    <a:pt x="115" y="267"/>
                  </a:lnTo>
                  <a:lnTo>
                    <a:pt x="115" y="196"/>
                  </a:lnTo>
                  <a:lnTo>
                    <a:pt x="120" y="151"/>
                  </a:lnTo>
                  <a:lnTo>
                    <a:pt x="125" y="121"/>
                  </a:lnTo>
                  <a:lnTo>
                    <a:pt x="131" y="96"/>
                  </a:lnTo>
                  <a:lnTo>
                    <a:pt x="136" y="81"/>
                  </a:lnTo>
                  <a:lnTo>
                    <a:pt x="141" y="66"/>
                  </a:lnTo>
                  <a:lnTo>
                    <a:pt x="141" y="56"/>
                  </a:lnTo>
                  <a:lnTo>
                    <a:pt x="146" y="51"/>
                  </a:lnTo>
                  <a:lnTo>
                    <a:pt x="151" y="46"/>
                  </a:lnTo>
                  <a:lnTo>
                    <a:pt x="156" y="46"/>
                  </a:lnTo>
                  <a:lnTo>
                    <a:pt x="161" y="46"/>
                  </a:lnTo>
                  <a:lnTo>
                    <a:pt x="166" y="51"/>
                  </a:lnTo>
                  <a:lnTo>
                    <a:pt x="171" y="56"/>
                  </a:lnTo>
                  <a:lnTo>
                    <a:pt x="171" y="66"/>
                  </a:lnTo>
                  <a:lnTo>
                    <a:pt x="176" y="81"/>
                  </a:lnTo>
                  <a:lnTo>
                    <a:pt x="181" y="96"/>
                  </a:lnTo>
                  <a:lnTo>
                    <a:pt x="186" y="116"/>
                  </a:lnTo>
                  <a:lnTo>
                    <a:pt x="191" y="141"/>
                  </a:lnTo>
                  <a:lnTo>
                    <a:pt x="196" y="176"/>
                  </a:lnTo>
                  <a:lnTo>
                    <a:pt x="196" y="217"/>
                  </a:lnTo>
                  <a:lnTo>
                    <a:pt x="201" y="282"/>
                  </a:lnTo>
                  <a:lnTo>
                    <a:pt x="206" y="398"/>
                  </a:lnTo>
                  <a:lnTo>
                    <a:pt x="206" y="488"/>
                  </a:lnTo>
                </a:path>
              </a:pathLst>
            </a:custGeom>
            <a:noFill/>
            <a:ln cap="rnd" w="25560">
              <a:solidFill>
                <a:srgbClr val="f81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3830760" y="5340240"/>
              <a:ext cx="153720" cy="615960"/>
            </a:xfrm>
            <a:custGeom>
              <a:avLst/>
              <a:gdLst/>
              <a:ahLst/>
              <a:rect l="l" t="t" r="r" b="b"/>
              <a:pathLst>
                <a:path w="97" h="388">
                  <a:moveTo>
                    <a:pt x="0" y="387"/>
                  </a:moveTo>
                  <a:lnTo>
                    <a:pt x="5" y="261"/>
                  </a:lnTo>
                  <a:lnTo>
                    <a:pt x="10" y="171"/>
                  </a:lnTo>
                  <a:lnTo>
                    <a:pt x="15" y="116"/>
                  </a:lnTo>
                  <a:lnTo>
                    <a:pt x="15" y="80"/>
                  </a:lnTo>
                  <a:lnTo>
                    <a:pt x="20" y="55"/>
                  </a:lnTo>
                  <a:lnTo>
                    <a:pt x="25" y="35"/>
                  </a:lnTo>
                  <a:lnTo>
                    <a:pt x="30" y="25"/>
                  </a:lnTo>
                  <a:lnTo>
                    <a:pt x="35" y="15"/>
                  </a:lnTo>
                  <a:lnTo>
                    <a:pt x="40" y="5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5" y="5"/>
                  </a:lnTo>
                  <a:lnTo>
                    <a:pt x="60" y="10"/>
                  </a:lnTo>
                  <a:lnTo>
                    <a:pt x="66" y="20"/>
                  </a:lnTo>
                  <a:lnTo>
                    <a:pt x="71" y="35"/>
                  </a:lnTo>
                  <a:lnTo>
                    <a:pt x="71" y="50"/>
                  </a:lnTo>
                  <a:lnTo>
                    <a:pt x="76" y="65"/>
                  </a:lnTo>
                  <a:lnTo>
                    <a:pt x="81" y="90"/>
                  </a:lnTo>
                  <a:lnTo>
                    <a:pt x="86" y="121"/>
                  </a:lnTo>
                  <a:lnTo>
                    <a:pt x="91" y="161"/>
                  </a:lnTo>
                  <a:lnTo>
                    <a:pt x="96" y="216"/>
                  </a:lnTo>
                  <a:lnTo>
                    <a:pt x="96" y="307"/>
                  </a:lnTo>
                  <a:lnTo>
                    <a:pt x="96" y="387"/>
                  </a:lnTo>
                </a:path>
              </a:pathLst>
            </a:custGeom>
            <a:noFill/>
            <a:ln cap="rnd" w="25560">
              <a:solidFill>
                <a:srgbClr val="f81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3998880" y="5467320"/>
              <a:ext cx="152280" cy="488880"/>
            </a:xfrm>
            <a:custGeom>
              <a:avLst/>
              <a:gdLst/>
              <a:ahLst/>
              <a:rect l="l" t="t" r="r" b="b"/>
              <a:pathLst>
                <a:path w="96" h="308">
                  <a:moveTo>
                    <a:pt x="0" y="307"/>
                  </a:moveTo>
                  <a:lnTo>
                    <a:pt x="0" y="307"/>
                  </a:lnTo>
                  <a:lnTo>
                    <a:pt x="5" y="186"/>
                  </a:lnTo>
                  <a:lnTo>
                    <a:pt x="10" y="126"/>
                  </a:lnTo>
                  <a:lnTo>
                    <a:pt x="15" y="86"/>
                  </a:lnTo>
                  <a:lnTo>
                    <a:pt x="20" y="56"/>
                  </a:lnTo>
                  <a:lnTo>
                    <a:pt x="20" y="36"/>
                  </a:lnTo>
                  <a:lnTo>
                    <a:pt x="25" y="21"/>
                  </a:lnTo>
                  <a:lnTo>
                    <a:pt x="30" y="10"/>
                  </a:lnTo>
                  <a:lnTo>
                    <a:pt x="35" y="5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5"/>
                  </a:lnTo>
                  <a:lnTo>
                    <a:pt x="55" y="10"/>
                  </a:lnTo>
                  <a:lnTo>
                    <a:pt x="60" y="21"/>
                  </a:lnTo>
                  <a:lnTo>
                    <a:pt x="65" y="36"/>
                  </a:lnTo>
                  <a:lnTo>
                    <a:pt x="70" y="51"/>
                  </a:lnTo>
                  <a:lnTo>
                    <a:pt x="75" y="71"/>
                  </a:lnTo>
                  <a:lnTo>
                    <a:pt x="75" y="96"/>
                  </a:lnTo>
                  <a:lnTo>
                    <a:pt x="80" y="126"/>
                  </a:lnTo>
                  <a:lnTo>
                    <a:pt x="85" y="161"/>
                  </a:lnTo>
                  <a:lnTo>
                    <a:pt x="90" y="212"/>
                  </a:lnTo>
                  <a:lnTo>
                    <a:pt x="95" y="287"/>
                  </a:lnTo>
                  <a:lnTo>
                    <a:pt x="95" y="307"/>
                  </a:lnTo>
                </a:path>
              </a:pathLst>
            </a:custGeom>
            <a:noFill/>
            <a:ln cap="rnd" w="25560">
              <a:solidFill>
                <a:srgbClr val="f81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4165560" y="5699160"/>
              <a:ext cx="114480" cy="257040"/>
            </a:xfrm>
            <a:custGeom>
              <a:avLst/>
              <a:gdLst/>
              <a:ahLst/>
              <a:rect l="l" t="t" r="r" b="b"/>
              <a:pathLst>
                <a:path w="72" h="162">
                  <a:moveTo>
                    <a:pt x="0" y="161"/>
                  </a:moveTo>
                  <a:lnTo>
                    <a:pt x="6" y="111"/>
                  </a:lnTo>
                  <a:lnTo>
                    <a:pt x="11" y="71"/>
                  </a:lnTo>
                  <a:lnTo>
                    <a:pt x="16" y="40"/>
                  </a:lnTo>
                  <a:lnTo>
                    <a:pt x="21" y="25"/>
                  </a:lnTo>
                  <a:lnTo>
                    <a:pt x="26" y="10"/>
                  </a:lnTo>
                  <a:lnTo>
                    <a:pt x="26" y="5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1" y="5"/>
                  </a:lnTo>
                  <a:lnTo>
                    <a:pt x="46" y="15"/>
                  </a:lnTo>
                  <a:lnTo>
                    <a:pt x="51" y="25"/>
                  </a:lnTo>
                  <a:lnTo>
                    <a:pt x="56" y="40"/>
                  </a:lnTo>
                  <a:lnTo>
                    <a:pt x="56" y="60"/>
                  </a:lnTo>
                  <a:lnTo>
                    <a:pt x="61" y="81"/>
                  </a:lnTo>
                  <a:lnTo>
                    <a:pt x="66" y="111"/>
                  </a:lnTo>
                  <a:lnTo>
                    <a:pt x="71" y="141"/>
                  </a:lnTo>
                  <a:lnTo>
                    <a:pt x="71" y="161"/>
                  </a:lnTo>
                </a:path>
              </a:pathLst>
            </a:custGeom>
            <a:noFill/>
            <a:ln cap="rnd" w="25560">
              <a:solidFill>
                <a:srgbClr val="f81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98" name=""/>
          <p:cNvSpPr/>
          <p:nvPr/>
        </p:nvSpPr>
        <p:spPr>
          <a:xfrm>
            <a:off x="857160" y="3705120"/>
            <a:ext cx="3460680" cy="0"/>
          </a:xfrm>
          <a:prstGeom prst="line">
            <a:avLst/>
          </a:prstGeom>
          <a:ln w="25560">
            <a:solidFill>
              <a:srgbClr val="ab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2881080" y="3357720"/>
            <a:ext cx="1076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bfff7"/>
                </a:solidFill>
                <a:latin typeface="Arial"/>
              </a:rPr>
              <a:t>-31,5d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5637240" y="2849400"/>
            <a:ext cx="3462480" cy="2252880"/>
          </a:xfrm>
          <a:custGeom>
            <a:avLst/>
            <a:gdLst/>
            <a:ahLst/>
            <a:rect l="l" t="t" r="r" b="b"/>
            <a:pathLst>
              <a:path w="2181" h="1419">
                <a:moveTo>
                  <a:pt x="0" y="0"/>
                </a:moveTo>
                <a:lnTo>
                  <a:pt x="5" y="0"/>
                </a:lnTo>
                <a:lnTo>
                  <a:pt x="11" y="0"/>
                </a:lnTo>
                <a:lnTo>
                  <a:pt x="16" y="0"/>
                </a:lnTo>
                <a:lnTo>
                  <a:pt x="16" y="5"/>
                </a:lnTo>
                <a:lnTo>
                  <a:pt x="21" y="5"/>
                </a:lnTo>
                <a:lnTo>
                  <a:pt x="26" y="5"/>
                </a:lnTo>
                <a:lnTo>
                  <a:pt x="31" y="10"/>
                </a:lnTo>
                <a:lnTo>
                  <a:pt x="36" y="10"/>
                </a:lnTo>
                <a:lnTo>
                  <a:pt x="41" y="15"/>
                </a:lnTo>
                <a:lnTo>
                  <a:pt x="41" y="20"/>
                </a:lnTo>
                <a:lnTo>
                  <a:pt x="46" y="20"/>
                </a:lnTo>
                <a:lnTo>
                  <a:pt x="51" y="25"/>
                </a:lnTo>
                <a:lnTo>
                  <a:pt x="56" y="30"/>
                </a:lnTo>
                <a:lnTo>
                  <a:pt x="61" y="35"/>
                </a:lnTo>
                <a:lnTo>
                  <a:pt x="66" y="40"/>
                </a:lnTo>
                <a:lnTo>
                  <a:pt x="71" y="50"/>
                </a:lnTo>
                <a:lnTo>
                  <a:pt x="71" y="55"/>
                </a:lnTo>
                <a:lnTo>
                  <a:pt x="76" y="60"/>
                </a:lnTo>
                <a:lnTo>
                  <a:pt x="81" y="70"/>
                </a:lnTo>
                <a:lnTo>
                  <a:pt x="86" y="75"/>
                </a:lnTo>
                <a:lnTo>
                  <a:pt x="91" y="85"/>
                </a:lnTo>
                <a:lnTo>
                  <a:pt x="96" y="95"/>
                </a:lnTo>
                <a:lnTo>
                  <a:pt x="96" y="100"/>
                </a:lnTo>
                <a:lnTo>
                  <a:pt x="101" y="111"/>
                </a:lnTo>
                <a:lnTo>
                  <a:pt x="106" y="121"/>
                </a:lnTo>
                <a:lnTo>
                  <a:pt x="111" y="136"/>
                </a:lnTo>
                <a:lnTo>
                  <a:pt x="116" y="146"/>
                </a:lnTo>
                <a:lnTo>
                  <a:pt x="121" y="156"/>
                </a:lnTo>
                <a:lnTo>
                  <a:pt x="126" y="171"/>
                </a:lnTo>
                <a:lnTo>
                  <a:pt x="126" y="181"/>
                </a:lnTo>
                <a:lnTo>
                  <a:pt x="131" y="196"/>
                </a:lnTo>
                <a:lnTo>
                  <a:pt x="136" y="211"/>
                </a:lnTo>
                <a:lnTo>
                  <a:pt x="141" y="226"/>
                </a:lnTo>
                <a:lnTo>
                  <a:pt x="146" y="241"/>
                </a:lnTo>
                <a:lnTo>
                  <a:pt x="151" y="261"/>
                </a:lnTo>
                <a:lnTo>
                  <a:pt x="156" y="276"/>
                </a:lnTo>
                <a:lnTo>
                  <a:pt x="156" y="297"/>
                </a:lnTo>
                <a:lnTo>
                  <a:pt x="162" y="317"/>
                </a:lnTo>
                <a:lnTo>
                  <a:pt x="167" y="337"/>
                </a:lnTo>
                <a:lnTo>
                  <a:pt x="172" y="362"/>
                </a:lnTo>
                <a:lnTo>
                  <a:pt x="177" y="382"/>
                </a:lnTo>
                <a:lnTo>
                  <a:pt x="182" y="407"/>
                </a:lnTo>
                <a:lnTo>
                  <a:pt x="182" y="437"/>
                </a:lnTo>
                <a:lnTo>
                  <a:pt x="187" y="468"/>
                </a:lnTo>
                <a:lnTo>
                  <a:pt x="192" y="498"/>
                </a:lnTo>
                <a:lnTo>
                  <a:pt x="197" y="533"/>
                </a:lnTo>
                <a:lnTo>
                  <a:pt x="202" y="573"/>
                </a:lnTo>
                <a:lnTo>
                  <a:pt x="207" y="618"/>
                </a:lnTo>
                <a:lnTo>
                  <a:pt x="212" y="669"/>
                </a:lnTo>
                <a:lnTo>
                  <a:pt x="212" y="729"/>
                </a:lnTo>
                <a:lnTo>
                  <a:pt x="217" y="815"/>
                </a:lnTo>
                <a:lnTo>
                  <a:pt x="222" y="945"/>
                </a:lnTo>
                <a:lnTo>
                  <a:pt x="227" y="1292"/>
                </a:lnTo>
                <a:lnTo>
                  <a:pt x="232" y="960"/>
                </a:lnTo>
                <a:lnTo>
                  <a:pt x="237" y="885"/>
                </a:lnTo>
                <a:lnTo>
                  <a:pt x="237" y="855"/>
                </a:lnTo>
                <a:lnTo>
                  <a:pt x="242" y="840"/>
                </a:lnTo>
                <a:lnTo>
                  <a:pt x="247" y="835"/>
                </a:lnTo>
                <a:lnTo>
                  <a:pt x="252" y="840"/>
                </a:lnTo>
                <a:lnTo>
                  <a:pt x="257" y="845"/>
                </a:lnTo>
                <a:lnTo>
                  <a:pt x="262" y="860"/>
                </a:lnTo>
                <a:lnTo>
                  <a:pt x="267" y="880"/>
                </a:lnTo>
                <a:lnTo>
                  <a:pt x="267" y="900"/>
                </a:lnTo>
                <a:lnTo>
                  <a:pt x="272" y="925"/>
                </a:lnTo>
                <a:lnTo>
                  <a:pt x="277" y="950"/>
                </a:lnTo>
                <a:lnTo>
                  <a:pt x="282" y="970"/>
                </a:lnTo>
                <a:lnTo>
                  <a:pt x="287" y="991"/>
                </a:lnTo>
                <a:lnTo>
                  <a:pt x="292" y="1006"/>
                </a:lnTo>
                <a:lnTo>
                  <a:pt x="297" y="996"/>
                </a:lnTo>
                <a:lnTo>
                  <a:pt x="302" y="975"/>
                </a:lnTo>
                <a:lnTo>
                  <a:pt x="308" y="955"/>
                </a:lnTo>
                <a:lnTo>
                  <a:pt x="313" y="925"/>
                </a:lnTo>
                <a:lnTo>
                  <a:pt x="318" y="900"/>
                </a:lnTo>
                <a:lnTo>
                  <a:pt x="323" y="875"/>
                </a:lnTo>
                <a:lnTo>
                  <a:pt x="323" y="850"/>
                </a:lnTo>
                <a:lnTo>
                  <a:pt x="328" y="830"/>
                </a:lnTo>
                <a:lnTo>
                  <a:pt x="333" y="809"/>
                </a:lnTo>
                <a:lnTo>
                  <a:pt x="338" y="794"/>
                </a:lnTo>
                <a:lnTo>
                  <a:pt x="343" y="779"/>
                </a:lnTo>
                <a:lnTo>
                  <a:pt x="348" y="769"/>
                </a:lnTo>
                <a:lnTo>
                  <a:pt x="348" y="759"/>
                </a:lnTo>
                <a:lnTo>
                  <a:pt x="353" y="754"/>
                </a:lnTo>
                <a:lnTo>
                  <a:pt x="358" y="744"/>
                </a:lnTo>
                <a:lnTo>
                  <a:pt x="363" y="744"/>
                </a:lnTo>
                <a:lnTo>
                  <a:pt x="368" y="744"/>
                </a:lnTo>
                <a:lnTo>
                  <a:pt x="373" y="744"/>
                </a:lnTo>
                <a:lnTo>
                  <a:pt x="378" y="744"/>
                </a:lnTo>
                <a:lnTo>
                  <a:pt x="378" y="754"/>
                </a:lnTo>
                <a:lnTo>
                  <a:pt x="383" y="759"/>
                </a:lnTo>
                <a:lnTo>
                  <a:pt x="388" y="769"/>
                </a:lnTo>
                <a:lnTo>
                  <a:pt x="393" y="789"/>
                </a:lnTo>
                <a:lnTo>
                  <a:pt x="398" y="804"/>
                </a:lnTo>
                <a:lnTo>
                  <a:pt x="403" y="835"/>
                </a:lnTo>
                <a:lnTo>
                  <a:pt x="403" y="870"/>
                </a:lnTo>
                <a:lnTo>
                  <a:pt x="408" y="920"/>
                </a:lnTo>
                <a:lnTo>
                  <a:pt x="413" y="1001"/>
                </a:lnTo>
                <a:lnTo>
                  <a:pt x="418" y="1207"/>
                </a:lnTo>
                <a:lnTo>
                  <a:pt x="423" y="1096"/>
                </a:lnTo>
                <a:lnTo>
                  <a:pt x="428" y="960"/>
                </a:lnTo>
                <a:lnTo>
                  <a:pt x="433" y="895"/>
                </a:lnTo>
                <a:lnTo>
                  <a:pt x="433" y="850"/>
                </a:lnTo>
                <a:lnTo>
                  <a:pt x="438" y="815"/>
                </a:lnTo>
                <a:lnTo>
                  <a:pt x="443" y="789"/>
                </a:lnTo>
                <a:lnTo>
                  <a:pt x="448" y="769"/>
                </a:lnTo>
                <a:lnTo>
                  <a:pt x="453" y="754"/>
                </a:lnTo>
                <a:lnTo>
                  <a:pt x="459" y="744"/>
                </a:lnTo>
                <a:lnTo>
                  <a:pt x="464" y="734"/>
                </a:lnTo>
                <a:lnTo>
                  <a:pt x="464" y="729"/>
                </a:lnTo>
                <a:lnTo>
                  <a:pt x="469" y="724"/>
                </a:lnTo>
                <a:lnTo>
                  <a:pt x="474" y="724"/>
                </a:lnTo>
                <a:lnTo>
                  <a:pt x="479" y="724"/>
                </a:lnTo>
                <a:lnTo>
                  <a:pt x="484" y="724"/>
                </a:lnTo>
                <a:lnTo>
                  <a:pt x="489" y="729"/>
                </a:lnTo>
                <a:lnTo>
                  <a:pt x="489" y="739"/>
                </a:lnTo>
                <a:lnTo>
                  <a:pt x="494" y="749"/>
                </a:lnTo>
                <a:lnTo>
                  <a:pt x="499" y="764"/>
                </a:lnTo>
                <a:lnTo>
                  <a:pt x="504" y="784"/>
                </a:lnTo>
                <a:lnTo>
                  <a:pt x="509" y="804"/>
                </a:lnTo>
                <a:lnTo>
                  <a:pt x="514" y="835"/>
                </a:lnTo>
                <a:lnTo>
                  <a:pt x="519" y="880"/>
                </a:lnTo>
                <a:lnTo>
                  <a:pt x="519" y="940"/>
                </a:lnTo>
                <a:lnTo>
                  <a:pt x="524" y="1046"/>
                </a:lnTo>
                <a:lnTo>
                  <a:pt x="529" y="1418"/>
                </a:lnTo>
                <a:lnTo>
                  <a:pt x="534" y="1026"/>
                </a:lnTo>
                <a:lnTo>
                  <a:pt x="539" y="930"/>
                </a:lnTo>
                <a:lnTo>
                  <a:pt x="544" y="875"/>
                </a:lnTo>
                <a:lnTo>
                  <a:pt x="544" y="835"/>
                </a:lnTo>
                <a:lnTo>
                  <a:pt x="549" y="804"/>
                </a:lnTo>
                <a:lnTo>
                  <a:pt x="554" y="784"/>
                </a:lnTo>
                <a:lnTo>
                  <a:pt x="559" y="764"/>
                </a:lnTo>
                <a:lnTo>
                  <a:pt x="564" y="754"/>
                </a:lnTo>
                <a:lnTo>
                  <a:pt x="569" y="744"/>
                </a:lnTo>
                <a:lnTo>
                  <a:pt x="574" y="739"/>
                </a:lnTo>
                <a:lnTo>
                  <a:pt x="574" y="734"/>
                </a:lnTo>
                <a:lnTo>
                  <a:pt x="579" y="729"/>
                </a:lnTo>
                <a:lnTo>
                  <a:pt x="584" y="729"/>
                </a:lnTo>
                <a:lnTo>
                  <a:pt x="589" y="734"/>
                </a:lnTo>
                <a:lnTo>
                  <a:pt x="594" y="739"/>
                </a:lnTo>
                <a:lnTo>
                  <a:pt x="599" y="744"/>
                </a:lnTo>
                <a:lnTo>
                  <a:pt x="599" y="754"/>
                </a:lnTo>
                <a:lnTo>
                  <a:pt x="605" y="769"/>
                </a:lnTo>
                <a:lnTo>
                  <a:pt x="610" y="789"/>
                </a:lnTo>
                <a:lnTo>
                  <a:pt x="615" y="809"/>
                </a:lnTo>
                <a:lnTo>
                  <a:pt x="620" y="840"/>
                </a:lnTo>
                <a:lnTo>
                  <a:pt x="625" y="875"/>
                </a:lnTo>
                <a:lnTo>
                  <a:pt x="630" y="930"/>
                </a:lnTo>
                <a:lnTo>
                  <a:pt x="630" y="1026"/>
                </a:lnTo>
                <a:lnTo>
                  <a:pt x="635" y="1317"/>
                </a:lnTo>
                <a:lnTo>
                  <a:pt x="640" y="1071"/>
                </a:lnTo>
                <a:lnTo>
                  <a:pt x="645" y="955"/>
                </a:lnTo>
                <a:lnTo>
                  <a:pt x="650" y="895"/>
                </a:lnTo>
                <a:lnTo>
                  <a:pt x="655" y="855"/>
                </a:lnTo>
                <a:lnTo>
                  <a:pt x="655" y="825"/>
                </a:lnTo>
                <a:lnTo>
                  <a:pt x="660" y="799"/>
                </a:lnTo>
                <a:lnTo>
                  <a:pt x="665" y="784"/>
                </a:lnTo>
                <a:lnTo>
                  <a:pt x="670" y="769"/>
                </a:lnTo>
                <a:lnTo>
                  <a:pt x="675" y="759"/>
                </a:lnTo>
                <a:lnTo>
                  <a:pt x="680" y="749"/>
                </a:lnTo>
                <a:lnTo>
                  <a:pt x="685" y="744"/>
                </a:lnTo>
                <a:lnTo>
                  <a:pt x="690" y="744"/>
                </a:lnTo>
                <a:lnTo>
                  <a:pt x="695" y="744"/>
                </a:lnTo>
                <a:lnTo>
                  <a:pt x="700" y="749"/>
                </a:lnTo>
                <a:lnTo>
                  <a:pt x="705" y="759"/>
                </a:lnTo>
                <a:lnTo>
                  <a:pt x="710" y="769"/>
                </a:lnTo>
                <a:lnTo>
                  <a:pt x="715" y="779"/>
                </a:lnTo>
                <a:lnTo>
                  <a:pt x="715" y="799"/>
                </a:lnTo>
                <a:lnTo>
                  <a:pt x="720" y="820"/>
                </a:lnTo>
                <a:lnTo>
                  <a:pt x="725" y="850"/>
                </a:lnTo>
                <a:lnTo>
                  <a:pt x="730" y="885"/>
                </a:lnTo>
                <a:lnTo>
                  <a:pt x="735" y="935"/>
                </a:lnTo>
                <a:lnTo>
                  <a:pt x="740" y="1021"/>
                </a:lnTo>
                <a:lnTo>
                  <a:pt x="740" y="1247"/>
                </a:lnTo>
                <a:lnTo>
                  <a:pt x="745" y="1111"/>
                </a:lnTo>
                <a:lnTo>
                  <a:pt x="750" y="980"/>
                </a:lnTo>
                <a:lnTo>
                  <a:pt x="756" y="915"/>
                </a:lnTo>
                <a:lnTo>
                  <a:pt x="761" y="870"/>
                </a:lnTo>
                <a:lnTo>
                  <a:pt x="766" y="840"/>
                </a:lnTo>
                <a:lnTo>
                  <a:pt x="771" y="815"/>
                </a:lnTo>
                <a:lnTo>
                  <a:pt x="771" y="799"/>
                </a:lnTo>
                <a:lnTo>
                  <a:pt x="776" y="784"/>
                </a:lnTo>
                <a:lnTo>
                  <a:pt x="781" y="774"/>
                </a:lnTo>
                <a:lnTo>
                  <a:pt x="786" y="764"/>
                </a:lnTo>
                <a:lnTo>
                  <a:pt x="791" y="759"/>
                </a:lnTo>
                <a:lnTo>
                  <a:pt x="796" y="759"/>
                </a:lnTo>
                <a:lnTo>
                  <a:pt x="796" y="754"/>
                </a:lnTo>
                <a:lnTo>
                  <a:pt x="801" y="759"/>
                </a:lnTo>
                <a:lnTo>
                  <a:pt x="806" y="764"/>
                </a:lnTo>
                <a:lnTo>
                  <a:pt x="811" y="769"/>
                </a:lnTo>
                <a:lnTo>
                  <a:pt x="816" y="779"/>
                </a:lnTo>
                <a:lnTo>
                  <a:pt x="821" y="794"/>
                </a:lnTo>
                <a:lnTo>
                  <a:pt x="826" y="809"/>
                </a:lnTo>
                <a:lnTo>
                  <a:pt x="826" y="830"/>
                </a:lnTo>
                <a:lnTo>
                  <a:pt x="831" y="860"/>
                </a:lnTo>
                <a:lnTo>
                  <a:pt x="836" y="895"/>
                </a:lnTo>
                <a:lnTo>
                  <a:pt x="841" y="945"/>
                </a:lnTo>
                <a:lnTo>
                  <a:pt x="846" y="1026"/>
                </a:lnTo>
                <a:lnTo>
                  <a:pt x="851" y="1222"/>
                </a:lnTo>
                <a:lnTo>
                  <a:pt x="851" y="1141"/>
                </a:lnTo>
                <a:lnTo>
                  <a:pt x="856" y="1001"/>
                </a:lnTo>
                <a:lnTo>
                  <a:pt x="861" y="930"/>
                </a:lnTo>
                <a:lnTo>
                  <a:pt x="866" y="885"/>
                </a:lnTo>
                <a:lnTo>
                  <a:pt x="871" y="855"/>
                </a:lnTo>
                <a:lnTo>
                  <a:pt x="876" y="830"/>
                </a:lnTo>
                <a:lnTo>
                  <a:pt x="881" y="809"/>
                </a:lnTo>
                <a:lnTo>
                  <a:pt x="881" y="794"/>
                </a:lnTo>
                <a:lnTo>
                  <a:pt x="886" y="784"/>
                </a:lnTo>
                <a:lnTo>
                  <a:pt x="891" y="779"/>
                </a:lnTo>
                <a:lnTo>
                  <a:pt x="896" y="774"/>
                </a:lnTo>
                <a:lnTo>
                  <a:pt x="902" y="769"/>
                </a:lnTo>
                <a:lnTo>
                  <a:pt x="907" y="769"/>
                </a:lnTo>
                <a:lnTo>
                  <a:pt x="912" y="774"/>
                </a:lnTo>
                <a:lnTo>
                  <a:pt x="917" y="784"/>
                </a:lnTo>
                <a:lnTo>
                  <a:pt x="922" y="789"/>
                </a:lnTo>
                <a:lnTo>
                  <a:pt x="927" y="804"/>
                </a:lnTo>
                <a:lnTo>
                  <a:pt x="932" y="820"/>
                </a:lnTo>
                <a:lnTo>
                  <a:pt x="937" y="840"/>
                </a:lnTo>
                <a:lnTo>
                  <a:pt x="937" y="870"/>
                </a:lnTo>
                <a:lnTo>
                  <a:pt x="942" y="905"/>
                </a:lnTo>
                <a:lnTo>
                  <a:pt x="947" y="955"/>
                </a:lnTo>
                <a:lnTo>
                  <a:pt x="952" y="1031"/>
                </a:lnTo>
                <a:lnTo>
                  <a:pt x="957" y="1217"/>
                </a:lnTo>
                <a:lnTo>
                  <a:pt x="962" y="1161"/>
                </a:lnTo>
                <a:lnTo>
                  <a:pt x="967" y="1016"/>
                </a:lnTo>
                <a:lnTo>
                  <a:pt x="967" y="945"/>
                </a:lnTo>
                <a:lnTo>
                  <a:pt x="972" y="900"/>
                </a:lnTo>
                <a:lnTo>
                  <a:pt x="977" y="870"/>
                </a:lnTo>
                <a:lnTo>
                  <a:pt x="982" y="845"/>
                </a:lnTo>
                <a:lnTo>
                  <a:pt x="987" y="825"/>
                </a:lnTo>
                <a:lnTo>
                  <a:pt x="992" y="809"/>
                </a:lnTo>
                <a:lnTo>
                  <a:pt x="992" y="799"/>
                </a:lnTo>
                <a:lnTo>
                  <a:pt x="997" y="789"/>
                </a:lnTo>
                <a:lnTo>
                  <a:pt x="1002" y="784"/>
                </a:lnTo>
                <a:lnTo>
                  <a:pt x="1007" y="779"/>
                </a:lnTo>
                <a:lnTo>
                  <a:pt x="1012" y="779"/>
                </a:lnTo>
                <a:lnTo>
                  <a:pt x="1017" y="784"/>
                </a:lnTo>
                <a:lnTo>
                  <a:pt x="1022" y="784"/>
                </a:lnTo>
                <a:lnTo>
                  <a:pt x="1022" y="794"/>
                </a:lnTo>
                <a:lnTo>
                  <a:pt x="1027" y="804"/>
                </a:lnTo>
                <a:lnTo>
                  <a:pt x="1032" y="815"/>
                </a:lnTo>
                <a:lnTo>
                  <a:pt x="1037" y="830"/>
                </a:lnTo>
                <a:lnTo>
                  <a:pt x="1042" y="850"/>
                </a:lnTo>
                <a:lnTo>
                  <a:pt x="1048" y="880"/>
                </a:lnTo>
                <a:lnTo>
                  <a:pt x="1048" y="915"/>
                </a:lnTo>
                <a:lnTo>
                  <a:pt x="1053" y="960"/>
                </a:lnTo>
                <a:lnTo>
                  <a:pt x="1058" y="1041"/>
                </a:lnTo>
                <a:lnTo>
                  <a:pt x="1063" y="1212"/>
                </a:lnTo>
                <a:lnTo>
                  <a:pt x="1068" y="1182"/>
                </a:lnTo>
                <a:lnTo>
                  <a:pt x="1073" y="1031"/>
                </a:lnTo>
                <a:lnTo>
                  <a:pt x="1078" y="960"/>
                </a:lnTo>
                <a:lnTo>
                  <a:pt x="1078" y="910"/>
                </a:lnTo>
                <a:lnTo>
                  <a:pt x="1083" y="880"/>
                </a:lnTo>
                <a:lnTo>
                  <a:pt x="1088" y="855"/>
                </a:lnTo>
                <a:lnTo>
                  <a:pt x="1093" y="835"/>
                </a:lnTo>
                <a:lnTo>
                  <a:pt x="1098" y="820"/>
                </a:lnTo>
                <a:lnTo>
                  <a:pt x="1103" y="809"/>
                </a:lnTo>
                <a:lnTo>
                  <a:pt x="1103" y="799"/>
                </a:lnTo>
                <a:lnTo>
                  <a:pt x="1108" y="794"/>
                </a:lnTo>
                <a:lnTo>
                  <a:pt x="1113" y="789"/>
                </a:lnTo>
                <a:lnTo>
                  <a:pt x="1118" y="789"/>
                </a:lnTo>
                <a:lnTo>
                  <a:pt x="1123" y="794"/>
                </a:lnTo>
                <a:lnTo>
                  <a:pt x="1128" y="794"/>
                </a:lnTo>
                <a:lnTo>
                  <a:pt x="1133" y="804"/>
                </a:lnTo>
                <a:lnTo>
                  <a:pt x="1133" y="809"/>
                </a:lnTo>
                <a:lnTo>
                  <a:pt x="1138" y="825"/>
                </a:lnTo>
                <a:lnTo>
                  <a:pt x="1143" y="840"/>
                </a:lnTo>
                <a:lnTo>
                  <a:pt x="1148" y="860"/>
                </a:lnTo>
                <a:lnTo>
                  <a:pt x="1153" y="885"/>
                </a:lnTo>
                <a:lnTo>
                  <a:pt x="1158" y="920"/>
                </a:lnTo>
                <a:lnTo>
                  <a:pt x="1158" y="970"/>
                </a:lnTo>
                <a:lnTo>
                  <a:pt x="1163" y="1046"/>
                </a:lnTo>
                <a:lnTo>
                  <a:pt x="1168" y="1217"/>
                </a:lnTo>
                <a:lnTo>
                  <a:pt x="1173" y="1197"/>
                </a:lnTo>
                <a:lnTo>
                  <a:pt x="1178" y="1041"/>
                </a:lnTo>
                <a:lnTo>
                  <a:pt x="1183" y="970"/>
                </a:lnTo>
                <a:lnTo>
                  <a:pt x="1188" y="920"/>
                </a:lnTo>
                <a:lnTo>
                  <a:pt x="1188" y="890"/>
                </a:lnTo>
                <a:lnTo>
                  <a:pt x="1193" y="865"/>
                </a:lnTo>
                <a:lnTo>
                  <a:pt x="1199" y="845"/>
                </a:lnTo>
                <a:lnTo>
                  <a:pt x="1204" y="830"/>
                </a:lnTo>
                <a:lnTo>
                  <a:pt x="1209" y="820"/>
                </a:lnTo>
                <a:lnTo>
                  <a:pt x="1214" y="809"/>
                </a:lnTo>
                <a:lnTo>
                  <a:pt x="1214" y="804"/>
                </a:lnTo>
                <a:lnTo>
                  <a:pt x="1219" y="799"/>
                </a:lnTo>
                <a:lnTo>
                  <a:pt x="1224" y="799"/>
                </a:lnTo>
                <a:lnTo>
                  <a:pt x="1229" y="799"/>
                </a:lnTo>
                <a:lnTo>
                  <a:pt x="1234" y="804"/>
                </a:lnTo>
                <a:lnTo>
                  <a:pt x="1239" y="809"/>
                </a:lnTo>
                <a:lnTo>
                  <a:pt x="1244" y="820"/>
                </a:lnTo>
                <a:lnTo>
                  <a:pt x="1244" y="835"/>
                </a:lnTo>
                <a:lnTo>
                  <a:pt x="1249" y="850"/>
                </a:lnTo>
                <a:lnTo>
                  <a:pt x="1254" y="870"/>
                </a:lnTo>
                <a:lnTo>
                  <a:pt x="1259" y="895"/>
                </a:lnTo>
                <a:lnTo>
                  <a:pt x="1264" y="930"/>
                </a:lnTo>
                <a:lnTo>
                  <a:pt x="1269" y="980"/>
                </a:lnTo>
                <a:lnTo>
                  <a:pt x="1274" y="1056"/>
                </a:lnTo>
                <a:lnTo>
                  <a:pt x="1274" y="1222"/>
                </a:lnTo>
                <a:lnTo>
                  <a:pt x="1279" y="1212"/>
                </a:lnTo>
                <a:lnTo>
                  <a:pt x="1284" y="1051"/>
                </a:lnTo>
                <a:lnTo>
                  <a:pt x="1289" y="980"/>
                </a:lnTo>
                <a:lnTo>
                  <a:pt x="1294" y="930"/>
                </a:lnTo>
                <a:lnTo>
                  <a:pt x="1299" y="895"/>
                </a:lnTo>
                <a:lnTo>
                  <a:pt x="1299" y="870"/>
                </a:lnTo>
                <a:lnTo>
                  <a:pt x="1304" y="850"/>
                </a:lnTo>
                <a:lnTo>
                  <a:pt x="1309" y="835"/>
                </a:lnTo>
                <a:lnTo>
                  <a:pt x="1314" y="825"/>
                </a:lnTo>
                <a:lnTo>
                  <a:pt x="1319" y="815"/>
                </a:lnTo>
                <a:lnTo>
                  <a:pt x="1324" y="809"/>
                </a:lnTo>
                <a:lnTo>
                  <a:pt x="1329" y="809"/>
                </a:lnTo>
                <a:lnTo>
                  <a:pt x="1329" y="804"/>
                </a:lnTo>
                <a:lnTo>
                  <a:pt x="1334" y="809"/>
                </a:lnTo>
                <a:lnTo>
                  <a:pt x="1339" y="815"/>
                </a:lnTo>
                <a:lnTo>
                  <a:pt x="1345" y="820"/>
                </a:lnTo>
                <a:lnTo>
                  <a:pt x="1350" y="830"/>
                </a:lnTo>
                <a:lnTo>
                  <a:pt x="1355" y="840"/>
                </a:lnTo>
                <a:lnTo>
                  <a:pt x="1355" y="855"/>
                </a:lnTo>
                <a:lnTo>
                  <a:pt x="1360" y="875"/>
                </a:lnTo>
                <a:lnTo>
                  <a:pt x="1365" y="900"/>
                </a:lnTo>
                <a:lnTo>
                  <a:pt x="1370" y="935"/>
                </a:lnTo>
                <a:lnTo>
                  <a:pt x="1375" y="985"/>
                </a:lnTo>
                <a:lnTo>
                  <a:pt x="1380" y="1061"/>
                </a:lnTo>
                <a:lnTo>
                  <a:pt x="1385" y="1222"/>
                </a:lnTo>
                <a:lnTo>
                  <a:pt x="1390" y="1061"/>
                </a:lnTo>
                <a:lnTo>
                  <a:pt x="1395" y="985"/>
                </a:lnTo>
                <a:lnTo>
                  <a:pt x="1400" y="940"/>
                </a:lnTo>
                <a:lnTo>
                  <a:pt x="1405" y="905"/>
                </a:lnTo>
                <a:lnTo>
                  <a:pt x="1410" y="880"/>
                </a:lnTo>
                <a:lnTo>
                  <a:pt x="1410" y="860"/>
                </a:lnTo>
                <a:lnTo>
                  <a:pt x="1415" y="845"/>
                </a:lnTo>
                <a:lnTo>
                  <a:pt x="1420" y="835"/>
                </a:lnTo>
                <a:lnTo>
                  <a:pt x="1425" y="825"/>
                </a:lnTo>
                <a:lnTo>
                  <a:pt x="1430" y="820"/>
                </a:lnTo>
                <a:lnTo>
                  <a:pt x="1435" y="815"/>
                </a:lnTo>
                <a:lnTo>
                  <a:pt x="1440" y="815"/>
                </a:lnTo>
                <a:lnTo>
                  <a:pt x="1445" y="820"/>
                </a:lnTo>
                <a:lnTo>
                  <a:pt x="1450" y="825"/>
                </a:lnTo>
                <a:lnTo>
                  <a:pt x="1455" y="835"/>
                </a:lnTo>
                <a:lnTo>
                  <a:pt x="1460" y="845"/>
                </a:lnTo>
                <a:lnTo>
                  <a:pt x="1465" y="860"/>
                </a:lnTo>
                <a:lnTo>
                  <a:pt x="1465" y="880"/>
                </a:lnTo>
                <a:lnTo>
                  <a:pt x="1470" y="910"/>
                </a:lnTo>
                <a:lnTo>
                  <a:pt x="1475" y="945"/>
                </a:lnTo>
                <a:lnTo>
                  <a:pt x="1480" y="991"/>
                </a:lnTo>
                <a:lnTo>
                  <a:pt x="1485" y="1066"/>
                </a:lnTo>
                <a:lnTo>
                  <a:pt x="1490" y="1227"/>
                </a:lnTo>
                <a:lnTo>
                  <a:pt x="1496" y="1232"/>
                </a:lnTo>
                <a:lnTo>
                  <a:pt x="1496" y="1066"/>
                </a:lnTo>
                <a:lnTo>
                  <a:pt x="1501" y="991"/>
                </a:lnTo>
                <a:lnTo>
                  <a:pt x="1506" y="945"/>
                </a:lnTo>
                <a:lnTo>
                  <a:pt x="1511" y="910"/>
                </a:lnTo>
                <a:lnTo>
                  <a:pt x="1516" y="885"/>
                </a:lnTo>
                <a:lnTo>
                  <a:pt x="1521" y="865"/>
                </a:lnTo>
                <a:lnTo>
                  <a:pt x="1526" y="850"/>
                </a:lnTo>
                <a:lnTo>
                  <a:pt x="1526" y="840"/>
                </a:lnTo>
                <a:lnTo>
                  <a:pt x="1531" y="830"/>
                </a:lnTo>
                <a:lnTo>
                  <a:pt x="1536" y="825"/>
                </a:lnTo>
                <a:lnTo>
                  <a:pt x="1541" y="820"/>
                </a:lnTo>
                <a:lnTo>
                  <a:pt x="1546" y="820"/>
                </a:lnTo>
                <a:lnTo>
                  <a:pt x="1551" y="820"/>
                </a:lnTo>
                <a:lnTo>
                  <a:pt x="1551" y="825"/>
                </a:lnTo>
                <a:lnTo>
                  <a:pt x="1556" y="830"/>
                </a:lnTo>
                <a:lnTo>
                  <a:pt x="1561" y="840"/>
                </a:lnTo>
                <a:lnTo>
                  <a:pt x="1566" y="850"/>
                </a:lnTo>
                <a:lnTo>
                  <a:pt x="1571" y="870"/>
                </a:lnTo>
                <a:lnTo>
                  <a:pt x="1576" y="890"/>
                </a:lnTo>
                <a:lnTo>
                  <a:pt x="1581" y="915"/>
                </a:lnTo>
                <a:lnTo>
                  <a:pt x="1581" y="950"/>
                </a:lnTo>
                <a:lnTo>
                  <a:pt x="1586" y="996"/>
                </a:lnTo>
                <a:lnTo>
                  <a:pt x="1591" y="1071"/>
                </a:lnTo>
                <a:lnTo>
                  <a:pt x="1596" y="1232"/>
                </a:lnTo>
                <a:lnTo>
                  <a:pt x="1601" y="1237"/>
                </a:lnTo>
                <a:lnTo>
                  <a:pt x="1606" y="1071"/>
                </a:lnTo>
                <a:lnTo>
                  <a:pt x="1606" y="996"/>
                </a:lnTo>
                <a:lnTo>
                  <a:pt x="1611" y="950"/>
                </a:lnTo>
                <a:lnTo>
                  <a:pt x="1616" y="915"/>
                </a:lnTo>
                <a:lnTo>
                  <a:pt x="1621" y="890"/>
                </a:lnTo>
                <a:lnTo>
                  <a:pt x="1626" y="870"/>
                </a:lnTo>
                <a:lnTo>
                  <a:pt x="1631" y="855"/>
                </a:lnTo>
                <a:lnTo>
                  <a:pt x="1636" y="845"/>
                </a:lnTo>
                <a:lnTo>
                  <a:pt x="1636" y="835"/>
                </a:lnTo>
                <a:lnTo>
                  <a:pt x="1642" y="830"/>
                </a:lnTo>
                <a:lnTo>
                  <a:pt x="1647" y="825"/>
                </a:lnTo>
                <a:lnTo>
                  <a:pt x="1652" y="825"/>
                </a:lnTo>
                <a:lnTo>
                  <a:pt x="1657" y="825"/>
                </a:lnTo>
                <a:lnTo>
                  <a:pt x="1662" y="830"/>
                </a:lnTo>
                <a:lnTo>
                  <a:pt x="1662" y="835"/>
                </a:lnTo>
                <a:lnTo>
                  <a:pt x="1667" y="845"/>
                </a:lnTo>
                <a:lnTo>
                  <a:pt x="1672" y="855"/>
                </a:lnTo>
                <a:lnTo>
                  <a:pt x="1677" y="870"/>
                </a:lnTo>
                <a:lnTo>
                  <a:pt x="1682" y="890"/>
                </a:lnTo>
                <a:lnTo>
                  <a:pt x="1687" y="920"/>
                </a:lnTo>
                <a:lnTo>
                  <a:pt x="1692" y="950"/>
                </a:lnTo>
                <a:lnTo>
                  <a:pt x="1692" y="1001"/>
                </a:lnTo>
                <a:lnTo>
                  <a:pt x="1697" y="1076"/>
                </a:lnTo>
                <a:lnTo>
                  <a:pt x="1702" y="1237"/>
                </a:lnTo>
                <a:lnTo>
                  <a:pt x="1707" y="1242"/>
                </a:lnTo>
                <a:lnTo>
                  <a:pt x="1712" y="1076"/>
                </a:lnTo>
                <a:lnTo>
                  <a:pt x="1717" y="1001"/>
                </a:lnTo>
                <a:lnTo>
                  <a:pt x="1717" y="955"/>
                </a:lnTo>
                <a:lnTo>
                  <a:pt x="1722" y="920"/>
                </a:lnTo>
                <a:lnTo>
                  <a:pt x="1727" y="895"/>
                </a:lnTo>
                <a:lnTo>
                  <a:pt x="1732" y="875"/>
                </a:lnTo>
                <a:lnTo>
                  <a:pt x="1737" y="860"/>
                </a:lnTo>
                <a:lnTo>
                  <a:pt x="1742" y="845"/>
                </a:lnTo>
                <a:lnTo>
                  <a:pt x="1747" y="840"/>
                </a:lnTo>
                <a:lnTo>
                  <a:pt x="1747" y="835"/>
                </a:lnTo>
                <a:lnTo>
                  <a:pt x="1752" y="830"/>
                </a:lnTo>
                <a:lnTo>
                  <a:pt x="1757" y="830"/>
                </a:lnTo>
                <a:lnTo>
                  <a:pt x="1762" y="830"/>
                </a:lnTo>
                <a:lnTo>
                  <a:pt x="1767" y="835"/>
                </a:lnTo>
                <a:lnTo>
                  <a:pt x="1772" y="840"/>
                </a:lnTo>
                <a:lnTo>
                  <a:pt x="1777" y="850"/>
                </a:lnTo>
                <a:lnTo>
                  <a:pt x="1777" y="860"/>
                </a:lnTo>
                <a:lnTo>
                  <a:pt x="1782" y="875"/>
                </a:lnTo>
                <a:lnTo>
                  <a:pt x="1787" y="895"/>
                </a:lnTo>
                <a:lnTo>
                  <a:pt x="1793" y="920"/>
                </a:lnTo>
                <a:lnTo>
                  <a:pt x="1798" y="955"/>
                </a:lnTo>
                <a:lnTo>
                  <a:pt x="1803" y="1006"/>
                </a:lnTo>
                <a:lnTo>
                  <a:pt x="1803" y="1076"/>
                </a:lnTo>
                <a:lnTo>
                  <a:pt x="1808" y="1237"/>
                </a:lnTo>
                <a:lnTo>
                  <a:pt x="1813" y="1242"/>
                </a:lnTo>
                <a:lnTo>
                  <a:pt x="1818" y="1081"/>
                </a:lnTo>
                <a:lnTo>
                  <a:pt x="1823" y="1006"/>
                </a:lnTo>
                <a:lnTo>
                  <a:pt x="1828" y="955"/>
                </a:lnTo>
                <a:lnTo>
                  <a:pt x="1833" y="925"/>
                </a:lnTo>
                <a:lnTo>
                  <a:pt x="1833" y="895"/>
                </a:lnTo>
                <a:lnTo>
                  <a:pt x="1838" y="875"/>
                </a:lnTo>
                <a:lnTo>
                  <a:pt x="1843" y="860"/>
                </a:lnTo>
                <a:lnTo>
                  <a:pt x="1848" y="850"/>
                </a:lnTo>
                <a:lnTo>
                  <a:pt x="1853" y="840"/>
                </a:lnTo>
                <a:lnTo>
                  <a:pt x="1858" y="835"/>
                </a:lnTo>
                <a:lnTo>
                  <a:pt x="1858" y="830"/>
                </a:lnTo>
                <a:lnTo>
                  <a:pt x="1863" y="830"/>
                </a:lnTo>
                <a:lnTo>
                  <a:pt x="1868" y="830"/>
                </a:lnTo>
                <a:lnTo>
                  <a:pt x="1873" y="835"/>
                </a:lnTo>
                <a:lnTo>
                  <a:pt x="1878" y="840"/>
                </a:lnTo>
                <a:lnTo>
                  <a:pt x="1883" y="850"/>
                </a:lnTo>
                <a:lnTo>
                  <a:pt x="1888" y="865"/>
                </a:lnTo>
                <a:lnTo>
                  <a:pt x="1888" y="880"/>
                </a:lnTo>
                <a:lnTo>
                  <a:pt x="1893" y="900"/>
                </a:lnTo>
                <a:lnTo>
                  <a:pt x="1898" y="925"/>
                </a:lnTo>
                <a:lnTo>
                  <a:pt x="1903" y="960"/>
                </a:lnTo>
                <a:lnTo>
                  <a:pt x="1908" y="1006"/>
                </a:lnTo>
                <a:lnTo>
                  <a:pt x="1913" y="1081"/>
                </a:lnTo>
                <a:lnTo>
                  <a:pt x="1913" y="1242"/>
                </a:lnTo>
                <a:lnTo>
                  <a:pt x="1918" y="1247"/>
                </a:lnTo>
                <a:lnTo>
                  <a:pt x="1923" y="1081"/>
                </a:lnTo>
                <a:lnTo>
                  <a:pt x="1928" y="1006"/>
                </a:lnTo>
                <a:lnTo>
                  <a:pt x="1933" y="960"/>
                </a:lnTo>
                <a:lnTo>
                  <a:pt x="1939" y="925"/>
                </a:lnTo>
                <a:lnTo>
                  <a:pt x="1944" y="900"/>
                </a:lnTo>
                <a:lnTo>
                  <a:pt x="1944" y="880"/>
                </a:lnTo>
                <a:lnTo>
                  <a:pt x="1949" y="865"/>
                </a:lnTo>
                <a:lnTo>
                  <a:pt x="1954" y="850"/>
                </a:lnTo>
                <a:lnTo>
                  <a:pt x="1959" y="845"/>
                </a:lnTo>
                <a:lnTo>
                  <a:pt x="1964" y="840"/>
                </a:lnTo>
                <a:lnTo>
                  <a:pt x="1969" y="835"/>
                </a:lnTo>
                <a:lnTo>
                  <a:pt x="1974" y="835"/>
                </a:lnTo>
                <a:lnTo>
                  <a:pt x="1979" y="840"/>
                </a:lnTo>
                <a:lnTo>
                  <a:pt x="1984" y="845"/>
                </a:lnTo>
                <a:lnTo>
                  <a:pt x="1989" y="855"/>
                </a:lnTo>
                <a:lnTo>
                  <a:pt x="1994" y="865"/>
                </a:lnTo>
                <a:lnTo>
                  <a:pt x="1999" y="880"/>
                </a:lnTo>
                <a:lnTo>
                  <a:pt x="1999" y="900"/>
                </a:lnTo>
                <a:lnTo>
                  <a:pt x="2004" y="925"/>
                </a:lnTo>
                <a:lnTo>
                  <a:pt x="2009" y="960"/>
                </a:lnTo>
                <a:lnTo>
                  <a:pt x="2014" y="1006"/>
                </a:lnTo>
                <a:lnTo>
                  <a:pt x="2019" y="1081"/>
                </a:lnTo>
                <a:lnTo>
                  <a:pt x="2024" y="1242"/>
                </a:lnTo>
                <a:lnTo>
                  <a:pt x="2024" y="1247"/>
                </a:lnTo>
                <a:lnTo>
                  <a:pt x="2029" y="1081"/>
                </a:lnTo>
                <a:lnTo>
                  <a:pt x="2034" y="1011"/>
                </a:lnTo>
                <a:lnTo>
                  <a:pt x="2039" y="960"/>
                </a:lnTo>
                <a:lnTo>
                  <a:pt x="2044" y="925"/>
                </a:lnTo>
                <a:lnTo>
                  <a:pt x="2049" y="900"/>
                </a:lnTo>
                <a:lnTo>
                  <a:pt x="2054" y="880"/>
                </a:lnTo>
                <a:lnTo>
                  <a:pt x="2054" y="865"/>
                </a:lnTo>
                <a:lnTo>
                  <a:pt x="2059" y="855"/>
                </a:lnTo>
                <a:lnTo>
                  <a:pt x="2064" y="845"/>
                </a:lnTo>
                <a:lnTo>
                  <a:pt x="2069" y="840"/>
                </a:lnTo>
                <a:lnTo>
                  <a:pt x="2074" y="835"/>
                </a:lnTo>
                <a:lnTo>
                  <a:pt x="2079" y="835"/>
                </a:lnTo>
                <a:lnTo>
                  <a:pt x="2084" y="835"/>
                </a:lnTo>
                <a:lnTo>
                  <a:pt x="2084" y="840"/>
                </a:lnTo>
                <a:lnTo>
                  <a:pt x="2090" y="845"/>
                </a:lnTo>
                <a:lnTo>
                  <a:pt x="2095" y="855"/>
                </a:lnTo>
                <a:lnTo>
                  <a:pt x="2100" y="865"/>
                </a:lnTo>
                <a:lnTo>
                  <a:pt x="2105" y="880"/>
                </a:lnTo>
                <a:lnTo>
                  <a:pt x="2110" y="900"/>
                </a:lnTo>
                <a:lnTo>
                  <a:pt x="2110" y="925"/>
                </a:lnTo>
                <a:lnTo>
                  <a:pt x="2115" y="960"/>
                </a:lnTo>
                <a:lnTo>
                  <a:pt x="2120" y="1011"/>
                </a:lnTo>
                <a:lnTo>
                  <a:pt x="2125" y="1081"/>
                </a:lnTo>
                <a:lnTo>
                  <a:pt x="2130" y="1247"/>
                </a:lnTo>
                <a:lnTo>
                  <a:pt x="2135" y="1247"/>
                </a:lnTo>
                <a:lnTo>
                  <a:pt x="2140" y="1086"/>
                </a:lnTo>
                <a:lnTo>
                  <a:pt x="2140" y="1011"/>
                </a:lnTo>
                <a:lnTo>
                  <a:pt x="2145" y="960"/>
                </a:lnTo>
                <a:lnTo>
                  <a:pt x="2150" y="925"/>
                </a:lnTo>
                <a:lnTo>
                  <a:pt x="2155" y="900"/>
                </a:lnTo>
                <a:lnTo>
                  <a:pt x="2160" y="880"/>
                </a:lnTo>
                <a:lnTo>
                  <a:pt x="2165" y="865"/>
                </a:lnTo>
                <a:lnTo>
                  <a:pt x="2165" y="855"/>
                </a:lnTo>
                <a:lnTo>
                  <a:pt x="2170" y="845"/>
                </a:lnTo>
                <a:lnTo>
                  <a:pt x="2175" y="840"/>
                </a:lnTo>
                <a:lnTo>
                  <a:pt x="2180" y="835"/>
                </a:lnTo>
              </a:path>
            </a:pathLst>
          </a:custGeom>
          <a:noFill/>
          <a:ln cap="rnd" w="25560">
            <a:solidFill>
              <a:srgbClr val="f814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5637240" y="4014720"/>
            <a:ext cx="3460680" cy="0"/>
          </a:xfrm>
          <a:prstGeom prst="line">
            <a:avLst/>
          </a:prstGeom>
          <a:ln w="25560">
            <a:solidFill>
              <a:srgbClr val="ab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7661160" y="3629160"/>
            <a:ext cx="1076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bfff7"/>
                </a:solidFill>
                <a:latin typeface="Arial"/>
              </a:rPr>
              <a:t>-42,7d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 flipV="1">
            <a:off x="860400" y="2840040"/>
            <a:ext cx="0" cy="27352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 flipV="1">
            <a:off x="1558800" y="2840040"/>
            <a:ext cx="0" cy="273528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 flipV="1">
            <a:off x="2257560" y="2840040"/>
            <a:ext cx="0" cy="273528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 flipV="1">
            <a:off x="2949480" y="2840040"/>
            <a:ext cx="0" cy="273528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 flipV="1">
            <a:off x="3648240" y="2840040"/>
            <a:ext cx="0" cy="273528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860400" y="5575320"/>
            <a:ext cx="3479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860400" y="5030640"/>
            <a:ext cx="347976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860400" y="4484520"/>
            <a:ext cx="347976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860400" y="3930480"/>
            <a:ext cx="347976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860400" y="3384720"/>
            <a:ext cx="347976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860400" y="2840040"/>
            <a:ext cx="3479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860400" y="2840040"/>
            <a:ext cx="3481560" cy="2736720"/>
          </a:xfrm>
          <a:custGeom>
            <a:avLst/>
            <a:gdLst/>
            <a:ahLst/>
            <a:rect l="l" t="t" r="r" b="b"/>
            <a:pathLst>
              <a:path w="2193" h="1724">
                <a:moveTo>
                  <a:pt x="0" y="1723"/>
                </a:moveTo>
                <a:lnTo>
                  <a:pt x="0" y="0"/>
                </a:lnTo>
                <a:lnTo>
                  <a:pt x="2192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860400" y="2840040"/>
            <a:ext cx="3481560" cy="2736720"/>
          </a:xfrm>
          <a:custGeom>
            <a:avLst/>
            <a:gdLst/>
            <a:ahLst/>
            <a:rect l="l" t="t" r="r" b="b"/>
            <a:pathLst>
              <a:path w="2193" h="1724">
                <a:moveTo>
                  <a:pt x="0" y="1723"/>
                </a:moveTo>
                <a:lnTo>
                  <a:pt x="0" y="0"/>
                </a:lnTo>
                <a:lnTo>
                  <a:pt x="2192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860400" y="2840040"/>
            <a:ext cx="3481560" cy="2736720"/>
          </a:xfrm>
          <a:custGeom>
            <a:avLst/>
            <a:gdLst/>
            <a:ahLst/>
            <a:rect l="l" t="t" r="r" b="b"/>
            <a:pathLst>
              <a:path w="2193" h="1724">
                <a:moveTo>
                  <a:pt x="0" y="1723"/>
                </a:moveTo>
                <a:lnTo>
                  <a:pt x="0" y="0"/>
                </a:lnTo>
                <a:lnTo>
                  <a:pt x="2192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860400" y="5575320"/>
            <a:ext cx="3479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860400" y="2840040"/>
            <a:ext cx="3479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 flipV="1">
            <a:off x="860400" y="2840040"/>
            <a:ext cx="0" cy="27352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860400" y="2840040"/>
            <a:ext cx="255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860400" y="5575320"/>
            <a:ext cx="3479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 flipV="1">
            <a:off x="860400" y="2840040"/>
            <a:ext cx="0" cy="27352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860400" y="5575320"/>
            <a:ext cx="255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 flipV="1">
            <a:off x="860400" y="554364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860400" y="284004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697680" y="55818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 flipV="1">
            <a:off x="1558800" y="554364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1558800" y="284004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1222920" y="5618160"/>
            <a:ext cx="67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,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 flipV="1">
            <a:off x="2257560" y="554364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2257560" y="284004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1981800" y="5603760"/>
            <a:ext cx="67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,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 flipV="1">
            <a:off x="2949480" y="554364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2949480" y="284004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2708640" y="5627520"/>
            <a:ext cx="67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,6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 flipV="1">
            <a:off x="3648240" y="554364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3648240" y="284004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3408840" y="5629320"/>
            <a:ext cx="67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860400" y="557532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 flipH="1">
            <a:off x="4307040" y="5575320"/>
            <a:ext cx="33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860400" y="530388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 flipH="1">
            <a:off x="4307040" y="5303880"/>
            <a:ext cx="33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860400" y="503064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 flipH="1">
            <a:off x="4307040" y="5030640"/>
            <a:ext cx="33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860400" y="475776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 flipH="1">
            <a:off x="4307040" y="4757760"/>
            <a:ext cx="33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860400" y="448452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 flipH="1">
            <a:off x="4307040" y="4484520"/>
            <a:ext cx="33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860400" y="421164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 flipH="1">
            <a:off x="4307040" y="4211640"/>
            <a:ext cx="33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860400" y="393048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 flipH="1">
            <a:off x="4307040" y="3930480"/>
            <a:ext cx="33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860400" y="365760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 flipH="1">
            <a:off x="4307040" y="3657600"/>
            <a:ext cx="33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860400" y="338472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 flipH="1">
            <a:off x="4307040" y="3384720"/>
            <a:ext cx="33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860400" y="311292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 flipH="1">
            <a:off x="4307040" y="3112920"/>
            <a:ext cx="33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860400" y="284004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 flipH="1">
            <a:off x="4307040" y="2840040"/>
            <a:ext cx="33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61" name=""/>
          <p:cNvGrpSpPr/>
          <p:nvPr/>
        </p:nvGrpSpPr>
        <p:grpSpPr>
          <a:xfrm>
            <a:off x="225360" y="2608200"/>
            <a:ext cx="695520" cy="3134520"/>
            <a:chOff x="225360" y="2608200"/>
            <a:chExt cx="695520" cy="3134520"/>
          </a:xfrm>
        </p:grpSpPr>
        <p:sp>
          <p:nvSpPr>
            <p:cNvPr id="3362" name=""/>
            <p:cNvSpPr/>
            <p:nvPr/>
          </p:nvSpPr>
          <p:spPr>
            <a:xfrm>
              <a:off x="225360" y="5345280"/>
              <a:ext cx="695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298800" y="479916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298800" y="425304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298800" y="370044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298800" y="315432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412200" y="260820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68" name=""/>
          <p:cNvSpPr/>
          <p:nvPr/>
        </p:nvSpPr>
        <p:spPr>
          <a:xfrm>
            <a:off x="860400" y="5575320"/>
            <a:ext cx="3479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860400" y="2840040"/>
            <a:ext cx="3479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 flipV="1">
            <a:off x="860400" y="2840040"/>
            <a:ext cx="0" cy="27352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 flipV="1">
            <a:off x="4371840" y="2840040"/>
            <a:ext cx="0" cy="27352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860400" y="5575320"/>
            <a:ext cx="255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732960" y="2214720"/>
            <a:ext cx="347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afd00"/>
                </a:solidFill>
                <a:latin typeface="Arial"/>
              </a:rPr>
              <a:t>Hannov vremenski otv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 rot="16200000">
            <a:off x="-704520" y="3823560"/>
            <a:ext cx="1809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afd00"/>
                </a:solidFill>
                <a:latin typeface="Arial"/>
              </a:rPr>
              <a:t>amplituda [dB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2442600" y="6059520"/>
            <a:ext cx="36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 flipV="1">
            <a:off x="5635800" y="2840040"/>
            <a:ext cx="0" cy="2733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 flipV="1">
            <a:off x="6334200" y="2840040"/>
            <a:ext cx="0" cy="27338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 flipV="1">
            <a:off x="7032600" y="2840040"/>
            <a:ext cx="0" cy="27338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 flipV="1">
            <a:off x="7723080" y="2840040"/>
            <a:ext cx="0" cy="27338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 flipV="1">
            <a:off x="8421840" y="2840040"/>
            <a:ext cx="0" cy="27338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>
            <a:off x="5635800" y="5573880"/>
            <a:ext cx="34765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5635800" y="5029200"/>
            <a:ext cx="3476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5635800" y="4483080"/>
            <a:ext cx="3476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5635800" y="3930480"/>
            <a:ext cx="3476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5635800" y="3384720"/>
            <a:ext cx="3476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5635800" y="2840040"/>
            <a:ext cx="34765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5635800" y="2840040"/>
            <a:ext cx="3477960" cy="2735280"/>
          </a:xfrm>
          <a:custGeom>
            <a:avLst/>
            <a:gdLst/>
            <a:ahLst/>
            <a:rect l="l" t="t" r="r" b="b"/>
            <a:pathLst>
              <a:path w="2191" h="1723">
                <a:moveTo>
                  <a:pt x="0" y="1722"/>
                </a:moveTo>
                <a:lnTo>
                  <a:pt x="0" y="0"/>
                </a:lnTo>
                <a:lnTo>
                  <a:pt x="2190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5635800" y="2840040"/>
            <a:ext cx="3477960" cy="2735280"/>
          </a:xfrm>
          <a:custGeom>
            <a:avLst/>
            <a:gdLst/>
            <a:ahLst/>
            <a:rect l="l" t="t" r="r" b="b"/>
            <a:pathLst>
              <a:path w="2191" h="1723">
                <a:moveTo>
                  <a:pt x="0" y="1722"/>
                </a:moveTo>
                <a:lnTo>
                  <a:pt x="0" y="0"/>
                </a:lnTo>
                <a:lnTo>
                  <a:pt x="2190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5635800" y="2840040"/>
            <a:ext cx="3477960" cy="2735280"/>
          </a:xfrm>
          <a:custGeom>
            <a:avLst/>
            <a:gdLst/>
            <a:ahLst/>
            <a:rect l="l" t="t" r="r" b="b"/>
            <a:pathLst>
              <a:path w="2191" h="1723">
                <a:moveTo>
                  <a:pt x="0" y="1722"/>
                </a:moveTo>
                <a:lnTo>
                  <a:pt x="0" y="0"/>
                </a:lnTo>
                <a:lnTo>
                  <a:pt x="2190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5635800" y="5573880"/>
            <a:ext cx="34765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5635800" y="2840040"/>
            <a:ext cx="34765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 flipV="1">
            <a:off x="5635800" y="2840040"/>
            <a:ext cx="0" cy="2733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 flipV="1">
            <a:off x="9112320" y="2840040"/>
            <a:ext cx="0" cy="2733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5635800" y="2840040"/>
            <a:ext cx="25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9112320" y="5573880"/>
            <a:ext cx="25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5635800" y="5573880"/>
            <a:ext cx="34765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 flipV="1">
            <a:off x="5635800" y="2840040"/>
            <a:ext cx="0" cy="2733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5635800" y="5573880"/>
            <a:ext cx="25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 flipV="1">
            <a:off x="5635800" y="5541480"/>
            <a:ext cx="0" cy="320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5635800" y="284004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 flipV="1">
            <a:off x="6334200" y="5541480"/>
            <a:ext cx="0" cy="320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6334200" y="284004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 flipV="1">
            <a:off x="7032600" y="5541480"/>
            <a:ext cx="0" cy="320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7032600" y="284004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 flipV="1">
            <a:off x="7723080" y="5541480"/>
            <a:ext cx="0" cy="320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7723080" y="284004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 flipV="1">
            <a:off x="8421840" y="5541480"/>
            <a:ext cx="0" cy="320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8421840" y="284004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5635800" y="557388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 flipH="1">
            <a:off x="9080640" y="557388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5635800" y="530208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 flipH="1">
            <a:off x="9080640" y="530208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5635800" y="502920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 flipH="1">
            <a:off x="9080640" y="502920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5635800" y="475632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 flipH="1">
            <a:off x="9080640" y="475632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5635800" y="448308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 flipH="1">
            <a:off x="9080640" y="448308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5635800" y="421164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 flipH="1">
            <a:off x="9080640" y="421164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5635800" y="393048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 flipH="1">
            <a:off x="9080640" y="393048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5635800" y="365760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 flipH="1">
            <a:off x="9080640" y="365760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5635800" y="338472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 flipH="1">
            <a:off x="9080640" y="338472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5635800" y="311148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 flipH="1">
            <a:off x="9080640" y="311148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5635800" y="284004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 flipH="1">
            <a:off x="9080640" y="284004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5635800" y="5573880"/>
            <a:ext cx="34765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5635800" y="2840040"/>
            <a:ext cx="34765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 flipV="1">
            <a:off x="5635800" y="2840040"/>
            <a:ext cx="0" cy="2733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 flipV="1">
            <a:off x="9112320" y="2840040"/>
            <a:ext cx="0" cy="2733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5635800" y="5573880"/>
            <a:ext cx="25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>
            <a:off x="5014800" y="2131920"/>
            <a:ext cx="4046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afd00"/>
                </a:solidFill>
                <a:latin typeface="Arial"/>
              </a:rPr>
              <a:t>Hammingov vremenski otv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5444280" y="55818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8" name=""/>
          <p:cNvSpPr/>
          <p:nvPr/>
        </p:nvSpPr>
        <p:spPr>
          <a:xfrm>
            <a:off x="5969520" y="5618160"/>
            <a:ext cx="67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,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9" name=""/>
          <p:cNvSpPr/>
          <p:nvPr/>
        </p:nvSpPr>
        <p:spPr>
          <a:xfrm>
            <a:off x="6728400" y="5603760"/>
            <a:ext cx="67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,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0" name=""/>
          <p:cNvSpPr/>
          <p:nvPr/>
        </p:nvSpPr>
        <p:spPr>
          <a:xfrm>
            <a:off x="7455240" y="5627520"/>
            <a:ext cx="67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,6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>
            <a:off x="8155440" y="5629320"/>
            <a:ext cx="67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42" name=""/>
          <p:cNvGrpSpPr/>
          <p:nvPr/>
        </p:nvGrpSpPr>
        <p:grpSpPr>
          <a:xfrm>
            <a:off x="4971960" y="2608200"/>
            <a:ext cx="695520" cy="3134520"/>
            <a:chOff x="4971960" y="2608200"/>
            <a:chExt cx="695520" cy="3134520"/>
          </a:xfrm>
        </p:grpSpPr>
        <p:sp>
          <p:nvSpPr>
            <p:cNvPr id="3443" name=""/>
            <p:cNvSpPr/>
            <p:nvPr/>
          </p:nvSpPr>
          <p:spPr>
            <a:xfrm>
              <a:off x="4971960" y="5345280"/>
              <a:ext cx="695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5045400" y="479916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5045400" y="425304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5045400" y="370044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5045400" y="315432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5158800" y="260820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49" name=""/>
          <p:cNvSpPr/>
          <p:nvPr/>
        </p:nvSpPr>
        <p:spPr>
          <a:xfrm rot="16200000">
            <a:off x="4041720" y="3822840"/>
            <a:ext cx="1809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afd00"/>
                </a:solidFill>
                <a:latin typeface="Arial"/>
              </a:rPr>
              <a:t>amplituda [dB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7189200" y="6059520"/>
            <a:ext cx="36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1" name=""/>
          <p:cNvGrpSpPr/>
          <p:nvPr/>
        </p:nvGrpSpPr>
        <p:grpSpPr>
          <a:xfrm>
            <a:off x="3197160" y="2716200"/>
            <a:ext cx="3398760" cy="3106800"/>
            <a:chOff x="3197160" y="2716200"/>
            <a:chExt cx="3398760" cy="3106800"/>
          </a:xfrm>
        </p:grpSpPr>
        <p:sp>
          <p:nvSpPr>
            <p:cNvPr id="3452" name=""/>
            <p:cNvSpPr/>
            <p:nvPr/>
          </p:nvSpPr>
          <p:spPr>
            <a:xfrm>
              <a:off x="3197160" y="2716200"/>
              <a:ext cx="865080" cy="3106800"/>
            </a:xfrm>
            <a:custGeom>
              <a:avLst/>
              <a:gdLst/>
              <a:ahLst/>
              <a:rect l="l" t="t" r="r" b="b"/>
              <a:pathLst>
                <a:path w="545" h="1957">
                  <a:moveTo>
                    <a:pt x="0" y="0"/>
                  </a:moveTo>
                  <a:lnTo>
                    <a:pt x="5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1" y="5"/>
                  </a:lnTo>
                  <a:lnTo>
                    <a:pt x="26" y="5"/>
                  </a:lnTo>
                  <a:lnTo>
                    <a:pt x="31" y="5"/>
                  </a:lnTo>
                  <a:lnTo>
                    <a:pt x="36" y="5"/>
                  </a:lnTo>
                  <a:lnTo>
                    <a:pt x="41" y="10"/>
                  </a:lnTo>
                  <a:lnTo>
                    <a:pt x="46" y="15"/>
                  </a:lnTo>
                  <a:lnTo>
                    <a:pt x="51" y="15"/>
                  </a:lnTo>
                  <a:lnTo>
                    <a:pt x="56" y="20"/>
                  </a:lnTo>
                  <a:lnTo>
                    <a:pt x="61" y="20"/>
                  </a:lnTo>
                  <a:lnTo>
                    <a:pt x="66" y="25"/>
                  </a:lnTo>
                  <a:lnTo>
                    <a:pt x="71" y="30"/>
                  </a:lnTo>
                  <a:lnTo>
                    <a:pt x="71" y="35"/>
                  </a:lnTo>
                  <a:lnTo>
                    <a:pt x="76" y="35"/>
                  </a:lnTo>
                  <a:lnTo>
                    <a:pt x="81" y="40"/>
                  </a:lnTo>
                  <a:lnTo>
                    <a:pt x="86" y="45"/>
                  </a:lnTo>
                  <a:lnTo>
                    <a:pt x="91" y="50"/>
                  </a:lnTo>
                  <a:lnTo>
                    <a:pt x="96" y="55"/>
                  </a:lnTo>
                  <a:lnTo>
                    <a:pt x="96" y="60"/>
                  </a:lnTo>
                  <a:lnTo>
                    <a:pt x="101" y="65"/>
                  </a:lnTo>
                  <a:lnTo>
                    <a:pt x="106" y="75"/>
                  </a:lnTo>
                  <a:lnTo>
                    <a:pt x="111" y="80"/>
                  </a:lnTo>
                  <a:lnTo>
                    <a:pt x="116" y="85"/>
                  </a:lnTo>
                  <a:lnTo>
                    <a:pt x="121" y="95"/>
                  </a:lnTo>
                  <a:lnTo>
                    <a:pt x="126" y="100"/>
                  </a:lnTo>
                  <a:lnTo>
                    <a:pt x="126" y="105"/>
                  </a:lnTo>
                  <a:lnTo>
                    <a:pt x="131" y="116"/>
                  </a:lnTo>
                  <a:lnTo>
                    <a:pt x="136" y="121"/>
                  </a:lnTo>
                  <a:lnTo>
                    <a:pt x="141" y="131"/>
                  </a:lnTo>
                  <a:lnTo>
                    <a:pt x="146" y="141"/>
                  </a:lnTo>
                  <a:lnTo>
                    <a:pt x="151" y="151"/>
                  </a:lnTo>
                  <a:lnTo>
                    <a:pt x="156" y="156"/>
                  </a:lnTo>
                  <a:lnTo>
                    <a:pt x="156" y="166"/>
                  </a:lnTo>
                  <a:lnTo>
                    <a:pt x="162" y="176"/>
                  </a:lnTo>
                  <a:lnTo>
                    <a:pt x="167" y="186"/>
                  </a:lnTo>
                  <a:lnTo>
                    <a:pt x="172" y="201"/>
                  </a:lnTo>
                  <a:lnTo>
                    <a:pt x="177" y="211"/>
                  </a:lnTo>
                  <a:lnTo>
                    <a:pt x="182" y="221"/>
                  </a:lnTo>
                  <a:lnTo>
                    <a:pt x="182" y="231"/>
                  </a:lnTo>
                  <a:lnTo>
                    <a:pt x="187" y="246"/>
                  </a:lnTo>
                  <a:lnTo>
                    <a:pt x="192" y="261"/>
                  </a:lnTo>
                  <a:lnTo>
                    <a:pt x="197" y="271"/>
                  </a:lnTo>
                  <a:lnTo>
                    <a:pt x="202" y="287"/>
                  </a:lnTo>
                  <a:lnTo>
                    <a:pt x="207" y="302"/>
                  </a:lnTo>
                  <a:lnTo>
                    <a:pt x="212" y="317"/>
                  </a:lnTo>
                  <a:lnTo>
                    <a:pt x="212" y="332"/>
                  </a:lnTo>
                  <a:lnTo>
                    <a:pt x="217" y="347"/>
                  </a:lnTo>
                  <a:lnTo>
                    <a:pt x="222" y="362"/>
                  </a:lnTo>
                  <a:lnTo>
                    <a:pt x="227" y="382"/>
                  </a:lnTo>
                  <a:lnTo>
                    <a:pt x="232" y="397"/>
                  </a:lnTo>
                  <a:lnTo>
                    <a:pt x="237" y="417"/>
                  </a:lnTo>
                  <a:lnTo>
                    <a:pt x="237" y="437"/>
                  </a:lnTo>
                  <a:lnTo>
                    <a:pt x="242" y="457"/>
                  </a:lnTo>
                  <a:lnTo>
                    <a:pt x="247" y="478"/>
                  </a:lnTo>
                  <a:lnTo>
                    <a:pt x="252" y="503"/>
                  </a:lnTo>
                  <a:lnTo>
                    <a:pt x="257" y="523"/>
                  </a:lnTo>
                  <a:lnTo>
                    <a:pt x="262" y="548"/>
                  </a:lnTo>
                  <a:lnTo>
                    <a:pt x="267" y="578"/>
                  </a:lnTo>
                  <a:lnTo>
                    <a:pt x="267" y="603"/>
                  </a:lnTo>
                  <a:lnTo>
                    <a:pt x="272" y="633"/>
                  </a:lnTo>
                  <a:lnTo>
                    <a:pt x="277" y="664"/>
                  </a:lnTo>
                  <a:lnTo>
                    <a:pt x="282" y="699"/>
                  </a:lnTo>
                  <a:lnTo>
                    <a:pt x="287" y="734"/>
                  </a:lnTo>
                  <a:lnTo>
                    <a:pt x="292" y="774"/>
                  </a:lnTo>
                  <a:lnTo>
                    <a:pt x="292" y="815"/>
                  </a:lnTo>
                  <a:lnTo>
                    <a:pt x="297" y="865"/>
                  </a:lnTo>
                  <a:lnTo>
                    <a:pt x="302" y="915"/>
                  </a:lnTo>
                  <a:lnTo>
                    <a:pt x="308" y="975"/>
                  </a:lnTo>
                  <a:lnTo>
                    <a:pt x="313" y="1046"/>
                  </a:lnTo>
                  <a:lnTo>
                    <a:pt x="318" y="1136"/>
                  </a:lnTo>
                  <a:lnTo>
                    <a:pt x="323" y="1252"/>
                  </a:lnTo>
                  <a:lnTo>
                    <a:pt x="323" y="1443"/>
                  </a:lnTo>
                  <a:lnTo>
                    <a:pt x="328" y="1750"/>
                  </a:lnTo>
                  <a:lnTo>
                    <a:pt x="333" y="1755"/>
                  </a:lnTo>
                  <a:lnTo>
                    <a:pt x="338" y="1483"/>
                  </a:lnTo>
                  <a:lnTo>
                    <a:pt x="343" y="1317"/>
                  </a:lnTo>
                  <a:lnTo>
                    <a:pt x="348" y="1227"/>
                  </a:lnTo>
                  <a:lnTo>
                    <a:pt x="348" y="1161"/>
                  </a:lnTo>
                  <a:lnTo>
                    <a:pt x="353" y="1116"/>
                  </a:lnTo>
                  <a:lnTo>
                    <a:pt x="358" y="1081"/>
                  </a:lnTo>
                  <a:lnTo>
                    <a:pt x="363" y="1056"/>
                  </a:lnTo>
                  <a:lnTo>
                    <a:pt x="368" y="1036"/>
                  </a:lnTo>
                  <a:lnTo>
                    <a:pt x="373" y="1021"/>
                  </a:lnTo>
                  <a:lnTo>
                    <a:pt x="378" y="1011"/>
                  </a:lnTo>
                  <a:lnTo>
                    <a:pt x="378" y="1001"/>
                  </a:lnTo>
                  <a:lnTo>
                    <a:pt x="383" y="996"/>
                  </a:lnTo>
                  <a:lnTo>
                    <a:pt x="388" y="996"/>
                  </a:lnTo>
                  <a:lnTo>
                    <a:pt x="393" y="1001"/>
                  </a:lnTo>
                  <a:lnTo>
                    <a:pt x="398" y="1006"/>
                  </a:lnTo>
                  <a:lnTo>
                    <a:pt x="403" y="1011"/>
                  </a:lnTo>
                  <a:lnTo>
                    <a:pt x="403" y="1026"/>
                  </a:lnTo>
                  <a:lnTo>
                    <a:pt x="408" y="1041"/>
                  </a:lnTo>
                  <a:lnTo>
                    <a:pt x="413" y="1061"/>
                  </a:lnTo>
                  <a:lnTo>
                    <a:pt x="418" y="1086"/>
                  </a:lnTo>
                  <a:lnTo>
                    <a:pt x="423" y="1126"/>
                  </a:lnTo>
                  <a:lnTo>
                    <a:pt x="428" y="1177"/>
                  </a:lnTo>
                  <a:lnTo>
                    <a:pt x="433" y="1257"/>
                  </a:lnTo>
                  <a:lnTo>
                    <a:pt x="433" y="1443"/>
                  </a:lnTo>
                  <a:lnTo>
                    <a:pt x="438" y="1383"/>
                  </a:lnTo>
                  <a:lnTo>
                    <a:pt x="443" y="1242"/>
                  </a:lnTo>
                  <a:lnTo>
                    <a:pt x="448" y="1172"/>
                  </a:lnTo>
                  <a:lnTo>
                    <a:pt x="453" y="1126"/>
                  </a:lnTo>
                  <a:lnTo>
                    <a:pt x="459" y="1096"/>
                  </a:lnTo>
                  <a:lnTo>
                    <a:pt x="464" y="1071"/>
                  </a:lnTo>
                  <a:lnTo>
                    <a:pt x="464" y="1056"/>
                  </a:lnTo>
                  <a:lnTo>
                    <a:pt x="469" y="1041"/>
                  </a:lnTo>
                  <a:lnTo>
                    <a:pt x="474" y="1031"/>
                  </a:lnTo>
                  <a:lnTo>
                    <a:pt x="479" y="1026"/>
                  </a:lnTo>
                  <a:lnTo>
                    <a:pt x="484" y="1021"/>
                  </a:lnTo>
                  <a:lnTo>
                    <a:pt x="489" y="1021"/>
                  </a:lnTo>
                  <a:lnTo>
                    <a:pt x="494" y="1026"/>
                  </a:lnTo>
                  <a:lnTo>
                    <a:pt x="499" y="1031"/>
                  </a:lnTo>
                  <a:lnTo>
                    <a:pt x="504" y="1036"/>
                  </a:lnTo>
                  <a:lnTo>
                    <a:pt x="509" y="1046"/>
                  </a:lnTo>
                  <a:lnTo>
                    <a:pt x="514" y="1061"/>
                  </a:lnTo>
                  <a:lnTo>
                    <a:pt x="519" y="1076"/>
                  </a:lnTo>
                  <a:lnTo>
                    <a:pt x="519" y="1096"/>
                  </a:lnTo>
                  <a:lnTo>
                    <a:pt x="524" y="1121"/>
                  </a:lnTo>
                  <a:lnTo>
                    <a:pt x="529" y="1156"/>
                  </a:lnTo>
                  <a:lnTo>
                    <a:pt x="534" y="1197"/>
                  </a:lnTo>
                  <a:lnTo>
                    <a:pt x="539" y="1257"/>
                  </a:lnTo>
                  <a:lnTo>
                    <a:pt x="544" y="1363"/>
                  </a:lnTo>
                  <a:lnTo>
                    <a:pt x="544" y="1956"/>
                  </a:lnTo>
                </a:path>
              </a:pathLst>
            </a:custGeom>
            <a:noFill/>
            <a:ln cap="rnd" w="25560">
              <a:solidFill>
                <a:srgbClr val="f81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4060800" y="4440240"/>
              <a:ext cx="865080" cy="1382760"/>
            </a:xfrm>
            <a:custGeom>
              <a:avLst/>
              <a:gdLst/>
              <a:ahLst/>
              <a:rect l="l" t="t" r="r" b="b"/>
              <a:pathLst>
                <a:path w="545" h="871">
                  <a:moveTo>
                    <a:pt x="0" y="870"/>
                  </a:moveTo>
                  <a:lnTo>
                    <a:pt x="5" y="282"/>
                  </a:lnTo>
                  <a:lnTo>
                    <a:pt x="10" y="186"/>
                  </a:lnTo>
                  <a:lnTo>
                    <a:pt x="15" y="126"/>
                  </a:lnTo>
                  <a:lnTo>
                    <a:pt x="20" y="91"/>
                  </a:lnTo>
                  <a:lnTo>
                    <a:pt x="25" y="65"/>
                  </a:lnTo>
                  <a:lnTo>
                    <a:pt x="30" y="45"/>
                  </a:lnTo>
                  <a:lnTo>
                    <a:pt x="30" y="25"/>
                  </a:lnTo>
                  <a:lnTo>
                    <a:pt x="35" y="15"/>
                  </a:lnTo>
                  <a:lnTo>
                    <a:pt x="40" y="10"/>
                  </a:lnTo>
                  <a:lnTo>
                    <a:pt x="45" y="5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1" y="5"/>
                  </a:lnTo>
                  <a:lnTo>
                    <a:pt x="66" y="15"/>
                  </a:lnTo>
                  <a:lnTo>
                    <a:pt x="71" y="20"/>
                  </a:lnTo>
                  <a:lnTo>
                    <a:pt x="76" y="35"/>
                  </a:lnTo>
                  <a:lnTo>
                    <a:pt x="81" y="45"/>
                  </a:lnTo>
                  <a:lnTo>
                    <a:pt x="86" y="65"/>
                  </a:lnTo>
                  <a:lnTo>
                    <a:pt x="86" y="91"/>
                  </a:lnTo>
                  <a:lnTo>
                    <a:pt x="91" y="116"/>
                  </a:lnTo>
                  <a:lnTo>
                    <a:pt x="96" y="151"/>
                  </a:lnTo>
                  <a:lnTo>
                    <a:pt x="101" y="201"/>
                  </a:lnTo>
                  <a:lnTo>
                    <a:pt x="106" y="272"/>
                  </a:lnTo>
                  <a:lnTo>
                    <a:pt x="111" y="422"/>
                  </a:lnTo>
                  <a:lnTo>
                    <a:pt x="111" y="483"/>
                  </a:lnTo>
                  <a:lnTo>
                    <a:pt x="116" y="302"/>
                  </a:lnTo>
                  <a:lnTo>
                    <a:pt x="121" y="226"/>
                  </a:lnTo>
                  <a:lnTo>
                    <a:pt x="126" y="176"/>
                  </a:lnTo>
                  <a:lnTo>
                    <a:pt x="131" y="146"/>
                  </a:lnTo>
                  <a:lnTo>
                    <a:pt x="136" y="121"/>
                  </a:lnTo>
                  <a:lnTo>
                    <a:pt x="141" y="101"/>
                  </a:lnTo>
                  <a:lnTo>
                    <a:pt x="141" y="91"/>
                  </a:lnTo>
                  <a:lnTo>
                    <a:pt x="146" y="81"/>
                  </a:lnTo>
                  <a:lnTo>
                    <a:pt x="151" y="70"/>
                  </a:lnTo>
                  <a:lnTo>
                    <a:pt x="156" y="65"/>
                  </a:lnTo>
                  <a:lnTo>
                    <a:pt x="161" y="65"/>
                  </a:lnTo>
                  <a:lnTo>
                    <a:pt x="166" y="65"/>
                  </a:lnTo>
                  <a:lnTo>
                    <a:pt x="171" y="70"/>
                  </a:lnTo>
                  <a:lnTo>
                    <a:pt x="171" y="75"/>
                  </a:lnTo>
                  <a:lnTo>
                    <a:pt x="176" y="81"/>
                  </a:lnTo>
                  <a:lnTo>
                    <a:pt x="181" y="91"/>
                  </a:lnTo>
                  <a:lnTo>
                    <a:pt x="186" y="101"/>
                  </a:lnTo>
                  <a:lnTo>
                    <a:pt x="191" y="121"/>
                  </a:lnTo>
                  <a:lnTo>
                    <a:pt x="196" y="136"/>
                  </a:lnTo>
                  <a:lnTo>
                    <a:pt x="196" y="161"/>
                  </a:lnTo>
                  <a:lnTo>
                    <a:pt x="201" y="191"/>
                  </a:lnTo>
                  <a:lnTo>
                    <a:pt x="206" y="231"/>
                  </a:lnTo>
                  <a:lnTo>
                    <a:pt x="212" y="287"/>
                  </a:lnTo>
                  <a:lnTo>
                    <a:pt x="217" y="382"/>
                  </a:lnTo>
                  <a:lnTo>
                    <a:pt x="222" y="649"/>
                  </a:lnTo>
                  <a:lnTo>
                    <a:pt x="227" y="443"/>
                  </a:lnTo>
                  <a:lnTo>
                    <a:pt x="227" y="327"/>
                  </a:lnTo>
                  <a:lnTo>
                    <a:pt x="232" y="267"/>
                  </a:lnTo>
                  <a:lnTo>
                    <a:pt x="237" y="226"/>
                  </a:lnTo>
                  <a:lnTo>
                    <a:pt x="242" y="196"/>
                  </a:lnTo>
                  <a:lnTo>
                    <a:pt x="247" y="176"/>
                  </a:lnTo>
                  <a:lnTo>
                    <a:pt x="252" y="156"/>
                  </a:lnTo>
                  <a:lnTo>
                    <a:pt x="252" y="146"/>
                  </a:lnTo>
                  <a:lnTo>
                    <a:pt x="257" y="136"/>
                  </a:lnTo>
                  <a:lnTo>
                    <a:pt x="262" y="131"/>
                  </a:lnTo>
                  <a:lnTo>
                    <a:pt x="267" y="126"/>
                  </a:lnTo>
                  <a:lnTo>
                    <a:pt x="272" y="126"/>
                  </a:lnTo>
                  <a:lnTo>
                    <a:pt x="277" y="126"/>
                  </a:lnTo>
                  <a:lnTo>
                    <a:pt x="282" y="131"/>
                  </a:lnTo>
                  <a:lnTo>
                    <a:pt x="282" y="136"/>
                  </a:lnTo>
                  <a:lnTo>
                    <a:pt x="287" y="141"/>
                  </a:lnTo>
                  <a:lnTo>
                    <a:pt x="292" y="151"/>
                  </a:lnTo>
                  <a:lnTo>
                    <a:pt x="297" y="166"/>
                  </a:lnTo>
                  <a:lnTo>
                    <a:pt x="302" y="181"/>
                  </a:lnTo>
                  <a:lnTo>
                    <a:pt x="307" y="206"/>
                  </a:lnTo>
                  <a:lnTo>
                    <a:pt x="307" y="231"/>
                  </a:lnTo>
                  <a:lnTo>
                    <a:pt x="312" y="267"/>
                  </a:lnTo>
                  <a:lnTo>
                    <a:pt x="317" y="307"/>
                  </a:lnTo>
                  <a:lnTo>
                    <a:pt x="322" y="377"/>
                  </a:lnTo>
                  <a:lnTo>
                    <a:pt x="327" y="498"/>
                  </a:lnTo>
                  <a:lnTo>
                    <a:pt x="332" y="704"/>
                  </a:lnTo>
                  <a:lnTo>
                    <a:pt x="337" y="443"/>
                  </a:lnTo>
                  <a:lnTo>
                    <a:pt x="337" y="352"/>
                  </a:lnTo>
                  <a:lnTo>
                    <a:pt x="342" y="302"/>
                  </a:lnTo>
                  <a:lnTo>
                    <a:pt x="347" y="267"/>
                  </a:lnTo>
                  <a:lnTo>
                    <a:pt x="352" y="241"/>
                  </a:lnTo>
                  <a:lnTo>
                    <a:pt x="358" y="221"/>
                  </a:lnTo>
                  <a:lnTo>
                    <a:pt x="363" y="206"/>
                  </a:lnTo>
                  <a:lnTo>
                    <a:pt x="363" y="196"/>
                  </a:lnTo>
                  <a:lnTo>
                    <a:pt x="368" y="186"/>
                  </a:lnTo>
                  <a:lnTo>
                    <a:pt x="373" y="181"/>
                  </a:lnTo>
                  <a:lnTo>
                    <a:pt x="378" y="181"/>
                  </a:lnTo>
                  <a:lnTo>
                    <a:pt x="383" y="176"/>
                  </a:lnTo>
                  <a:lnTo>
                    <a:pt x="388" y="181"/>
                  </a:lnTo>
                  <a:lnTo>
                    <a:pt x="393" y="186"/>
                  </a:lnTo>
                  <a:lnTo>
                    <a:pt x="393" y="191"/>
                  </a:lnTo>
                  <a:lnTo>
                    <a:pt x="398" y="201"/>
                  </a:lnTo>
                  <a:lnTo>
                    <a:pt x="403" y="211"/>
                  </a:lnTo>
                  <a:lnTo>
                    <a:pt x="408" y="226"/>
                  </a:lnTo>
                  <a:lnTo>
                    <a:pt x="413" y="241"/>
                  </a:lnTo>
                  <a:lnTo>
                    <a:pt x="418" y="267"/>
                  </a:lnTo>
                  <a:lnTo>
                    <a:pt x="423" y="297"/>
                  </a:lnTo>
                  <a:lnTo>
                    <a:pt x="423" y="332"/>
                  </a:lnTo>
                  <a:lnTo>
                    <a:pt x="428" y="382"/>
                  </a:lnTo>
                  <a:lnTo>
                    <a:pt x="433" y="463"/>
                  </a:lnTo>
                  <a:lnTo>
                    <a:pt x="438" y="654"/>
                  </a:lnTo>
                  <a:lnTo>
                    <a:pt x="443" y="593"/>
                  </a:lnTo>
                  <a:lnTo>
                    <a:pt x="448" y="453"/>
                  </a:lnTo>
                  <a:lnTo>
                    <a:pt x="448" y="382"/>
                  </a:lnTo>
                  <a:lnTo>
                    <a:pt x="453" y="337"/>
                  </a:lnTo>
                  <a:lnTo>
                    <a:pt x="458" y="307"/>
                  </a:lnTo>
                  <a:lnTo>
                    <a:pt x="463" y="282"/>
                  </a:lnTo>
                  <a:lnTo>
                    <a:pt x="468" y="267"/>
                  </a:lnTo>
                  <a:lnTo>
                    <a:pt x="473" y="251"/>
                  </a:lnTo>
                  <a:lnTo>
                    <a:pt x="478" y="241"/>
                  </a:lnTo>
                  <a:lnTo>
                    <a:pt x="478" y="236"/>
                  </a:lnTo>
                  <a:lnTo>
                    <a:pt x="483" y="231"/>
                  </a:lnTo>
                  <a:lnTo>
                    <a:pt x="488" y="226"/>
                  </a:lnTo>
                  <a:lnTo>
                    <a:pt x="493" y="226"/>
                  </a:lnTo>
                  <a:lnTo>
                    <a:pt x="498" y="231"/>
                  </a:lnTo>
                  <a:lnTo>
                    <a:pt x="504" y="236"/>
                  </a:lnTo>
                  <a:lnTo>
                    <a:pt x="504" y="241"/>
                  </a:lnTo>
                  <a:lnTo>
                    <a:pt x="509" y="251"/>
                  </a:lnTo>
                  <a:lnTo>
                    <a:pt x="514" y="267"/>
                  </a:lnTo>
                  <a:lnTo>
                    <a:pt x="519" y="282"/>
                  </a:lnTo>
                  <a:lnTo>
                    <a:pt x="524" y="302"/>
                  </a:lnTo>
                  <a:lnTo>
                    <a:pt x="529" y="327"/>
                  </a:lnTo>
                  <a:lnTo>
                    <a:pt x="534" y="357"/>
                  </a:lnTo>
                  <a:lnTo>
                    <a:pt x="534" y="397"/>
                  </a:lnTo>
                  <a:lnTo>
                    <a:pt x="539" y="458"/>
                  </a:lnTo>
                  <a:lnTo>
                    <a:pt x="544" y="563"/>
                  </a:lnTo>
                  <a:lnTo>
                    <a:pt x="544" y="870"/>
                  </a:lnTo>
                </a:path>
              </a:pathLst>
            </a:custGeom>
            <a:noFill/>
            <a:ln cap="rnd" w="25560">
              <a:solidFill>
                <a:srgbClr val="f81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4932360" y="4871880"/>
              <a:ext cx="336600" cy="951120"/>
            </a:xfrm>
            <a:custGeom>
              <a:avLst/>
              <a:gdLst/>
              <a:ahLst/>
              <a:rect l="l" t="t" r="r" b="b"/>
              <a:pathLst>
                <a:path w="212" h="599">
                  <a:moveTo>
                    <a:pt x="0" y="598"/>
                  </a:moveTo>
                  <a:lnTo>
                    <a:pt x="5" y="296"/>
                  </a:lnTo>
                  <a:lnTo>
                    <a:pt x="10" y="196"/>
                  </a:lnTo>
                  <a:lnTo>
                    <a:pt x="10" y="135"/>
                  </a:lnTo>
                  <a:lnTo>
                    <a:pt x="15" y="100"/>
                  </a:lnTo>
                  <a:lnTo>
                    <a:pt x="20" y="70"/>
                  </a:lnTo>
                  <a:lnTo>
                    <a:pt x="25" y="50"/>
                  </a:lnTo>
                  <a:lnTo>
                    <a:pt x="30" y="35"/>
                  </a:lnTo>
                  <a:lnTo>
                    <a:pt x="35" y="20"/>
                  </a:lnTo>
                  <a:lnTo>
                    <a:pt x="40" y="10"/>
                  </a:lnTo>
                  <a:lnTo>
                    <a:pt x="40" y="5"/>
                  </a:lnTo>
                  <a:lnTo>
                    <a:pt x="45" y="5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0" y="5"/>
                  </a:lnTo>
                  <a:lnTo>
                    <a:pt x="65" y="10"/>
                  </a:lnTo>
                  <a:lnTo>
                    <a:pt x="65" y="20"/>
                  </a:lnTo>
                  <a:lnTo>
                    <a:pt x="70" y="30"/>
                  </a:lnTo>
                  <a:lnTo>
                    <a:pt x="75" y="45"/>
                  </a:lnTo>
                  <a:lnTo>
                    <a:pt x="80" y="60"/>
                  </a:lnTo>
                  <a:lnTo>
                    <a:pt x="85" y="80"/>
                  </a:lnTo>
                  <a:lnTo>
                    <a:pt x="90" y="110"/>
                  </a:lnTo>
                  <a:lnTo>
                    <a:pt x="95" y="145"/>
                  </a:lnTo>
                  <a:lnTo>
                    <a:pt x="95" y="191"/>
                  </a:lnTo>
                  <a:lnTo>
                    <a:pt x="100" y="266"/>
                  </a:lnTo>
                  <a:lnTo>
                    <a:pt x="106" y="412"/>
                  </a:lnTo>
                  <a:lnTo>
                    <a:pt x="111" y="472"/>
                  </a:lnTo>
                  <a:lnTo>
                    <a:pt x="116" y="286"/>
                  </a:lnTo>
                  <a:lnTo>
                    <a:pt x="121" y="211"/>
                  </a:lnTo>
                  <a:lnTo>
                    <a:pt x="121" y="166"/>
                  </a:lnTo>
                  <a:lnTo>
                    <a:pt x="126" y="130"/>
                  </a:lnTo>
                  <a:lnTo>
                    <a:pt x="131" y="105"/>
                  </a:lnTo>
                  <a:lnTo>
                    <a:pt x="136" y="85"/>
                  </a:lnTo>
                  <a:lnTo>
                    <a:pt x="141" y="70"/>
                  </a:lnTo>
                  <a:lnTo>
                    <a:pt x="146" y="60"/>
                  </a:lnTo>
                  <a:lnTo>
                    <a:pt x="151" y="50"/>
                  </a:lnTo>
                  <a:lnTo>
                    <a:pt x="151" y="45"/>
                  </a:lnTo>
                  <a:lnTo>
                    <a:pt x="156" y="45"/>
                  </a:lnTo>
                  <a:lnTo>
                    <a:pt x="161" y="45"/>
                  </a:lnTo>
                  <a:lnTo>
                    <a:pt x="166" y="45"/>
                  </a:lnTo>
                  <a:lnTo>
                    <a:pt x="171" y="50"/>
                  </a:lnTo>
                  <a:lnTo>
                    <a:pt x="176" y="55"/>
                  </a:lnTo>
                  <a:lnTo>
                    <a:pt x="181" y="65"/>
                  </a:lnTo>
                  <a:lnTo>
                    <a:pt x="181" y="75"/>
                  </a:lnTo>
                  <a:lnTo>
                    <a:pt x="186" y="90"/>
                  </a:lnTo>
                  <a:lnTo>
                    <a:pt x="191" y="110"/>
                  </a:lnTo>
                  <a:lnTo>
                    <a:pt x="196" y="135"/>
                  </a:lnTo>
                  <a:lnTo>
                    <a:pt x="201" y="166"/>
                  </a:lnTo>
                  <a:lnTo>
                    <a:pt x="206" y="201"/>
                  </a:lnTo>
                  <a:lnTo>
                    <a:pt x="206" y="256"/>
                  </a:lnTo>
                  <a:lnTo>
                    <a:pt x="211" y="347"/>
                  </a:lnTo>
                  <a:lnTo>
                    <a:pt x="211" y="598"/>
                  </a:lnTo>
                </a:path>
              </a:pathLst>
            </a:custGeom>
            <a:noFill/>
            <a:ln cap="rnd" w="25560">
              <a:solidFill>
                <a:srgbClr val="f81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5275440" y="5006880"/>
              <a:ext cx="169560" cy="816120"/>
            </a:xfrm>
            <a:custGeom>
              <a:avLst/>
              <a:gdLst/>
              <a:ahLst/>
              <a:rect l="l" t="t" r="r" b="b"/>
              <a:pathLst>
                <a:path w="107" h="514">
                  <a:moveTo>
                    <a:pt x="0" y="513"/>
                  </a:moveTo>
                  <a:lnTo>
                    <a:pt x="5" y="327"/>
                  </a:lnTo>
                  <a:lnTo>
                    <a:pt x="10" y="211"/>
                  </a:lnTo>
                  <a:lnTo>
                    <a:pt x="15" y="146"/>
                  </a:lnTo>
                  <a:lnTo>
                    <a:pt x="20" y="106"/>
                  </a:lnTo>
                  <a:lnTo>
                    <a:pt x="20" y="76"/>
                  </a:lnTo>
                  <a:lnTo>
                    <a:pt x="25" y="50"/>
                  </a:lnTo>
                  <a:lnTo>
                    <a:pt x="30" y="35"/>
                  </a:lnTo>
                  <a:lnTo>
                    <a:pt x="36" y="20"/>
                  </a:lnTo>
                  <a:lnTo>
                    <a:pt x="41" y="10"/>
                  </a:lnTo>
                  <a:lnTo>
                    <a:pt x="46" y="5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1" y="5"/>
                  </a:lnTo>
                  <a:lnTo>
                    <a:pt x="66" y="10"/>
                  </a:lnTo>
                  <a:lnTo>
                    <a:pt x="71" y="15"/>
                  </a:lnTo>
                  <a:lnTo>
                    <a:pt x="76" y="25"/>
                  </a:lnTo>
                  <a:lnTo>
                    <a:pt x="76" y="40"/>
                  </a:lnTo>
                  <a:lnTo>
                    <a:pt x="81" y="55"/>
                  </a:lnTo>
                  <a:lnTo>
                    <a:pt x="86" y="76"/>
                  </a:lnTo>
                  <a:lnTo>
                    <a:pt x="91" y="101"/>
                  </a:lnTo>
                  <a:lnTo>
                    <a:pt x="96" y="131"/>
                  </a:lnTo>
                  <a:lnTo>
                    <a:pt x="101" y="176"/>
                  </a:lnTo>
                  <a:lnTo>
                    <a:pt x="101" y="241"/>
                  </a:lnTo>
                  <a:lnTo>
                    <a:pt x="106" y="367"/>
                  </a:lnTo>
                  <a:lnTo>
                    <a:pt x="106" y="513"/>
                  </a:lnTo>
                </a:path>
              </a:pathLst>
            </a:custGeom>
            <a:noFill/>
            <a:ln cap="rnd" w="25560">
              <a:solidFill>
                <a:srgbClr val="f81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5451480" y="5070600"/>
              <a:ext cx="344520" cy="752400"/>
            </a:xfrm>
            <a:custGeom>
              <a:avLst/>
              <a:gdLst/>
              <a:ahLst/>
              <a:rect l="l" t="t" r="r" b="b"/>
              <a:pathLst>
                <a:path w="217" h="474">
                  <a:moveTo>
                    <a:pt x="0" y="473"/>
                  </a:moveTo>
                  <a:lnTo>
                    <a:pt x="5" y="267"/>
                  </a:lnTo>
                  <a:lnTo>
                    <a:pt x="10" y="181"/>
                  </a:lnTo>
                  <a:lnTo>
                    <a:pt x="15" y="126"/>
                  </a:lnTo>
                  <a:lnTo>
                    <a:pt x="20" y="91"/>
                  </a:lnTo>
                  <a:lnTo>
                    <a:pt x="20" y="66"/>
                  </a:lnTo>
                  <a:lnTo>
                    <a:pt x="25" y="46"/>
                  </a:lnTo>
                  <a:lnTo>
                    <a:pt x="30" y="30"/>
                  </a:lnTo>
                  <a:lnTo>
                    <a:pt x="35" y="20"/>
                  </a:lnTo>
                  <a:lnTo>
                    <a:pt x="40" y="10"/>
                  </a:lnTo>
                  <a:lnTo>
                    <a:pt x="45" y="5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0" y="5"/>
                  </a:lnTo>
                  <a:lnTo>
                    <a:pt x="65" y="10"/>
                  </a:lnTo>
                  <a:lnTo>
                    <a:pt x="70" y="20"/>
                  </a:lnTo>
                  <a:lnTo>
                    <a:pt x="76" y="30"/>
                  </a:lnTo>
                  <a:lnTo>
                    <a:pt x="76" y="46"/>
                  </a:lnTo>
                  <a:lnTo>
                    <a:pt x="81" y="61"/>
                  </a:lnTo>
                  <a:lnTo>
                    <a:pt x="86" y="86"/>
                  </a:lnTo>
                  <a:lnTo>
                    <a:pt x="91" y="111"/>
                  </a:lnTo>
                  <a:lnTo>
                    <a:pt x="96" y="151"/>
                  </a:lnTo>
                  <a:lnTo>
                    <a:pt x="101" y="201"/>
                  </a:lnTo>
                  <a:lnTo>
                    <a:pt x="106" y="282"/>
                  </a:lnTo>
                  <a:lnTo>
                    <a:pt x="106" y="468"/>
                  </a:lnTo>
                  <a:lnTo>
                    <a:pt x="111" y="408"/>
                  </a:lnTo>
                  <a:lnTo>
                    <a:pt x="116" y="267"/>
                  </a:lnTo>
                  <a:lnTo>
                    <a:pt x="121" y="196"/>
                  </a:lnTo>
                  <a:lnTo>
                    <a:pt x="126" y="151"/>
                  </a:lnTo>
                  <a:lnTo>
                    <a:pt x="131" y="121"/>
                  </a:lnTo>
                  <a:lnTo>
                    <a:pt x="131" y="96"/>
                  </a:lnTo>
                  <a:lnTo>
                    <a:pt x="136" y="81"/>
                  </a:lnTo>
                  <a:lnTo>
                    <a:pt x="141" y="66"/>
                  </a:lnTo>
                  <a:lnTo>
                    <a:pt x="146" y="56"/>
                  </a:lnTo>
                  <a:lnTo>
                    <a:pt x="151" y="46"/>
                  </a:lnTo>
                  <a:lnTo>
                    <a:pt x="156" y="41"/>
                  </a:lnTo>
                  <a:lnTo>
                    <a:pt x="161" y="41"/>
                  </a:lnTo>
                  <a:lnTo>
                    <a:pt x="166" y="41"/>
                  </a:lnTo>
                  <a:lnTo>
                    <a:pt x="171" y="46"/>
                  </a:lnTo>
                  <a:lnTo>
                    <a:pt x="176" y="56"/>
                  </a:lnTo>
                  <a:lnTo>
                    <a:pt x="181" y="66"/>
                  </a:lnTo>
                  <a:lnTo>
                    <a:pt x="186" y="76"/>
                  </a:lnTo>
                  <a:lnTo>
                    <a:pt x="186" y="91"/>
                  </a:lnTo>
                  <a:lnTo>
                    <a:pt x="191" y="111"/>
                  </a:lnTo>
                  <a:lnTo>
                    <a:pt x="196" y="136"/>
                  </a:lnTo>
                  <a:lnTo>
                    <a:pt x="201" y="166"/>
                  </a:lnTo>
                  <a:lnTo>
                    <a:pt x="206" y="206"/>
                  </a:lnTo>
                  <a:lnTo>
                    <a:pt x="211" y="267"/>
                  </a:lnTo>
                  <a:lnTo>
                    <a:pt x="216" y="372"/>
                  </a:lnTo>
                  <a:lnTo>
                    <a:pt x="216" y="473"/>
                  </a:lnTo>
                </a:path>
              </a:pathLst>
            </a:custGeom>
            <a:noFill/>
            <a:ln cap="rnd" w="25560">
              <a:solidFill>
                <a:srgbClr val="f81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5794200" y="5199120"/>
              <a:ext cx="169920" cy="623880"/>
            </a:xfrm>
            <a:custGeom>
              <a:avLst/>
              <a:gdLst/>
              <a:ahLst/>
              <a:rect l="l" t="t" r="r" b="b"/>
              <a:pathLst>
                <a:path w="107" h="393">
                  <a:moveTo>
                    <a:pt x="0" y="392"/>
                  </a:moveTo>
                  <a:lnTo>
                    <a:pt x="6" y="296"/>
                  </a:lnTo>
                  <a:lnTo>
                    <a:pt x="11" y="196"/>
                  </a:lnTo>
                  <a:lnTo>
                    <a:pt x="16" y="136"/>
                  </a:lnTo>
                  <a:lnTo>
                    <a:pt x="21" y="100"/>
                  </a:lnTo>
                  <a:lnTo>
                    <a:pt x="26" y="70"/>
                  </a:lnTo>
                  <a:lnTo>
                    <a:pt x="26" y="50"/>
                  </a:lnTo>
                  <a:lnTo>
                    <a:pt x="31" y="35"/>
                  </a:lnTo>
                  <a:lnTo>
                    <a:pt x="36" y="20"/>
                  </a:lnTo>
                  <a:lnTo>
                    <a:pt x="41" y="15"/>
                  </a:lnTo>
                  <a:lnTo>
                    <a:pt x="46" y="5"/>
                  </a:lnTo>
                  <a:lnTo>
                    <a:pt x="51" y="5"/>
                  </a:lnTo>
                  <a:lnTo>
                    <a:pt x="56" y="0"/>
                  </a:lnTo>
                  <a:lnTo>
                    <a:pt x="56" y="5"/>
                  </a:lnTo>
                  <a:lnTo>
                    <a:pt x="61" y="5"/>
                  </a:lnTo>
                  <a:lnTo>
                    <a:pt x="66" y="10"/>
                  </a:lnTo>
                  <a:lnTo>
                    <a:pt x="71" y="20"/>
                  </a:lnTo>
                  <a:lnTo>
                    <a:pt x="76" y="30"/>
                  </a:lnTo>
                  <a:lnTo>
                    <a:pt x="81" y="45"/>
                  </a:lnTo>
                  <a:lnTo>
                    <a:pt x="81" y="60"/>
                  </a:lnTo>
                  <a:lnTo>
                    <a:pt x="86" y="80"/>
                  </a:lnTo>
                  <a:lnTo>
                    <a:pt x="91" y="110"/>
                  </a:lnTo>
                  <a:lnTo>
                    <a:pt x="96" y="146"/>
                  </a:lnTo>
                  <a:lnTo>
                    <a:pt x="101" y="191"/>
                  </a:lnTo>
                  <a:lnTo>
                    <a:pt x="106" y="266"/>
                  </a:lnTo>
                  <a:lnTo>
                    <a:pt x="106" y="392"/>
                  </a:lnTo>
                </a:path>
              </a:pathLst>
            </a:custGeom>
            <a:noFill/>
            <a:ln cap="rnd" w="25560">
              <a:solidFill>
                <a:srgbClr val="f81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5970600" y="5278320"/>
              <a:ext cx="169920" cy="544680"/>
            </a:xfrm>
            <a:custGeom>
              <a:avLst/>
              <a:gdLst/>
              <a:ahLst/>
              <a:rect l="l" t="t" r="r" b="b"/>
              <a:pathLst>
                <a:path w="107" h="343">
                  <a:moveTo>
                    <a:pt x="0" y="342"/>
                  </a:moveTo>
                  <a:lnTo>
                    <a:pt x="5" y="241"/>
                  </a:lnTo>
                  <a:lnTo>
                    <a:pt x="10" y="166"/>
                  </a:lnTo>
                  <a:lnTo>
                    <a:pt x="15" y="116"/>
                  </a:lnTo>
                  <a:lnTo>
                    <a:pt x="20" y="81"/>
                  </a:lnTo>
                  <a:lnTo>
                    <a:pt x="25" y="55"/>
                  </a:lnTo>
                  <a:lnTo>
                    <a:pt x="30" y="40"/>
                  </a:lnTo>
                  <a:lnTo>
                    <a:pt x="30" y="25"/>
                  </a:lnTo>
                  <a:lnTo>
                    <a:pt x="35" y="15"/>
                  </a:lnTo>
                  <a:lnTo>
                    <a:pt x="40" y="5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1" y="5"/>
                  </a:lnTo>
                  <a:lnTo>
                    <a:pt x="66" y="10"/>
                  </a:lnTo>
                  <a:lnTo>
                    <a:pt x="71" y="20"/>
                  </a:lnTo>
                  <a:lnTo>
                    <a:pt x="76" y="35"/>
                  </a:lnTo>
                  <a:lnTo>
                    <a:pt x="81" y="50"/>
                  </a:lnTo>
                  <a:lnTo>
                    <a:pt x="86" y="70"/>
                  </a:lnTo>
                  <a:lnTo>
                    <a:pt x="86" y="91"/>
                  </a:lnTo>
                  <a:lnTo>
                    <a:pt x="91" y="121"/>
                  </a:lnTo>
                  <a:lnTo>
                    <a:pt x="96" y="161"/>
                  </a:lnTo>
                  <a:lnTo>
                    <a:pt x="101" y="216"/>
                  </a:lnTo>
                  <a:lnTo>
                    <a:pt x="106" y="312"/>
                  </a:lnTo>
                  <a:lnTo>
                    <a:pt x="106" y="342"/>
                  </a:lnTo>
                </a:path>
              </a:pathLst>
            </a:custGeom>
            <a:noFill/>
            <a:ln cap="rnd" w="25560">
              <a:solidFill>
                <a:srgbClr val="f81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6146640" y="5365800"/>
              <a:ext cx="162000" cy="457200"/>
            </a:xfrm>
            <a:custGeom>
              <a:avLst/>
              <a:gdLst/>
              <a:ahLst/>
              <a:rect l="l" t="t" r="r" b="b"/>
              <a:pathLst>
                <a:path w="102" h="288">
                  <a:moveTo>
                    <a:pt x="0" y="287"/>
                  </a:moveTo>
                  <a:lnTo>
                    <a:pt x="5" y="202"/>
                  </a:lnTo>
                  <a:lnTo>
                    <a:pt x="10" y="141"/>
                  </a:lnTo>
                  <a:lnTo>
                    <a:pt x="15" y="101"/>
                  </a:lnTo>
                  <a:lnTo>
                    <a:pt x="20" y="71"/>
                  </a:lnTo>
                  <a:lnTo>
                    <a:pt x="25" y="51"/>
                  </a:lnTo>
                  <a:lnTo>
                    <a:pt x="30" y="31"/>
                  </a:lnTo>
                  <a:lnTo>
                    <a:pt x="30" y="20"/>
                  </a:lnTo>
                  <a:lnTo>
                    <a:pt x="35" y="10"/>
                  </a:lnTo>
                  <a:lnTo>
                    <a:pt x="40" y="5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5" y="5"/>
                  </a:lnTo>
                  <a:lnTo>
                    <a:pt x="60" y="10"/>
                  </a:lnTo>
                  <a:lnTo>
                    <a:pt x="65" y="20"/>
                  </a:lnTo>
                  <a:lnTo>
                    <a:pt x="70" y="31"/>
                  </a:lnTo>
                  <a:lnTo>
                    <a:pt x="75" y="46"/>
                  </a:lnTo>
                  <a:lnTo>
                    <a:pt x="81" y="61"/>
                  </a:lnTo>
                  <a:lnTo>
                    <a:pt x="86" y="86"/>
                  </a:lnTo>
                  <a:lnTo>
                    <a:pt x="86" y="111"/>
                  </a:lnTo>
                  <a:lnTo>
                    <a:pt x="91" y="146"/>
                  </a:lnTo>
                  <a:lnTo>
                    <a:pt x="96" y="191"/>
                  </a:lnTo>
                  <a:lnTo>
                    <a:pt x="101" y="257"/>
                  </a:lnTo>
                  <a:lnTo>
                    <a:pt x="101" y="287"/>
                  </a:lnTo>
                </a:path>
              </a:pathLst>
            </a:custGeom>
            <a:noFill/>
            <a:ln cap="rnd" w="25560">
              <a:solidFill>
                <a:srgbClr val="f81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6323040" y="5494320"/>
              <a:ext cx="144360" cy="328680"/>
            </a:xfrm>
            <a:custGeom>
              <a:avLst/>
              <a:gdLst/>
              <a:ahLst/>
              <a:rect l="l" t="t" r="r" b="b"/>
              <a:pathLst>
                <a:path w="91" h="207">
                  <a:moveTo>
                    <a:pt x="0" y="206"/>
                  </a:moveTo>
                  <a:lnTo>
                    <a:pt x="5" y="161"/>
                  </a:lnTo>
                  <a:lnTo>
                    <a:pt x="10" y="110"/>
                  </a:lnTo>
                  <a:lnTo>
                    <a:pt x="15" y="75"/>
                  </a:lnTo>
                  <a:lnTo>
                    <a:pt x="20" y="50"/>
                  </a:lnTo>
                  <a:lnTo>
                    <a:pt x="25" y="35"/>
                  </a:lnTo>
                  <a:lnTo>
                    <a:pt x="30" y="20"/>
                  </a:lnTo>
                  <a:lnTo>
                    <a:pt x="30" y="10"/>
                  </a:lnTo>
                  <a:lnTo>
                    <a:pt x="35" y="5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5" y="5"/>
                  </a:lnTo>
                  <a:lnTo>
                    <a:pt x="55" y="10"/>
                  </a:lnTo>
                  <a:lnTo>
                    <a:pt x="60" y="20"/>
                  </a:lnTo>
                  <a:lnTo>
                    <a:pt x="65" y="30"/>
                  </a:lnTo>
                  <a:lnTo>
                    <a:pt x="70" y="45"/>
                  </a:lnTo>
                  <a:lnTo>
                    <a:pt x="75" y="60"/>
                  </a:lnTo>
                  <a:lnTo>
                    <a:pt x="80" y="80"/>
                  </a:lnTo>
                  <a:lnTo>
                    <a:pt x="85" y="105"/>
                  </a:lnTo>
                  <a:lnTo>
                    <a:pt x="85" y="141"/>
                  </a:lnTo>
                  <a:lnTo>
                    <a:pt x="90" y="181"/>
                  </a:lnTo>
                  <a:lnTo>
                    <a:pt x="90" y="206"/>
                  </a:lnTo>
                </a:path>
              </a:pathLst>
            </a:custGeom>
            <a:noFill/>
            <a:ln cap="rnd" w="25560">
              <a:solidFill>
                <a:srgbClr val="f81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6515280" y="5726160"/>
              <a:ext cx="80640" cy="96840"/>
            </a:xfrm>
            <a:custGeom>
              <a:avLst/>
              <a:gdLst/>
              <a:ahLst/>
              <a:rect l="l" t="t" r="r" b="b"/>
              <a:pathLst>
                <a:path w="51" h="61">
                  <a:moveTo>
                    <a:pt x="0" y="60"/>
                  </a:moveTo>
                  <a:lnTo>
                    <a:pt x="5" y="40"/>
                  </a:lnTo>
                  <a:lnTo>
                    <a:pt x="10" y="25"/>
                  </a:lnTo>
                  <a:lnTo>
                    <a:pt x="15" y="10"/>
                  </a:lnTo>
                  <a:lnTo>
                    <a:pt x="20" y="5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5"/>
                  </a:lnTo>
                  <a:lnTo>
                    <a:pt x="35" y="10"/>
                  </a:lnTo>
                  <a:lnTo>
                    <a:pt x="40" y="20"/>
                  </a:lnTo>
                  <a:lnTo>
                    <a:pt x="45" y="30"/>
                  </a:lnTo>
                  <a:lnTo>
                    <a:pt x="50" y="50"/>
                  </a:lnTo>
                  <a:lnTo>
                    <a:pt x="50" y="60"/>
                  </a:lnTo>
                </a:path>
              </a:pathLst>
            </a:custGeom>
            <a:noFill/>
            <a:ln cap="rnd" w="25560">
              <a:solidFill>
                <a:srgbClr val="f81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62" name=""/>
          <p:cNvSpPr/>
          <p:nvPr/>
        </p:nvSpPr>
        <p:spPr>
          <a:xfrm>
            <a:off x="3197160" y="4297320"/>
            <a:ext cx="3460680" cy="0"/>
          </a:xfrm>
          <a:prstGeom prst="line">
            <a:avLst/>
          </a:prstGeom>
          <a:ln w="25560">
            <a:solidFill>
              <a:srgbClr val="ab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5208480" y="3898800"/>
            <a:ext cx="1076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bfff7"/>
                </a:solidFill>
                <a:latin typeface="Arial"/>
              </a:rPr>
              <a:t>-58,1d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7709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dfca"/>
                </a:solidFill>
                <a:latin typeface="Times New Roman"/>
              </a:rPr>
              <a:t>Fiksni vremenski otvori </a:t>
            </a:r>
            <a:r>
              <a:rPr b="0" lang="hr-HR" sz="3600" spc="-1" strike="noStrike">
                <a:solidFill>
                  <a:srgbClr val="00dfca"/>
                </a:solidFill>
                <a:latin typeface="Times New Roman"/>
              </a:rPr>
              <a:t>(</a:t>
            </a:r>
            <a:r>
              <a:rPr b="0" i="1" lang="hr-HR" sz="3600" spc="-1" strike="noStrike">
                <a:solidFill>
                  <a:srgbClr val="00dfca"/>
                </a:solidFill>
                <a:latin typeface="Times New Roman"/>
              </a:rPr>
              <a:t>amplitudno-frekvencijske karakteristike</a:t>
            </a:r>
            <a:r>
              <a:rPr b="0" lang="hr-HR" sz="3600" spc="-1" strike="noStrike">
                <a:solidFill>
                  <a:srgbClr val="00dfca"/>
                </a:solidFill>
                <a:latin typeface="Times New Roman"/>
              </a:rPr>
              <a:t>)</a:t>
            </a:r>
            <a:endParaRPr b="0" i="1" lang="en-US" sz="36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 flipV="1">
            <a:off x="3205080" y="2709720"/>
            <a:ext cx="0" cy="2733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 flipV="1">
            <a:off x="3903840" y="2709720"/>
            <a:ext cx="0" cy="27338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 flipV="1">
            <a:off x="4602240" y="2709720"/>
            <a:ext cx="0" cy="27338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 flipV="1">
            <a:off x="5292720" y="2709720"/>
            <a:ext cx="0" cy="27338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 flipV="1">
            <a:off x="5991120" y="2709720"/>
            <a:ext cx="0" cy="27338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3205080" y="5443560"/>
            <a:ext cx="3476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3205080" y="4898880"/>
            <a:ext cx="347688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3205080" y="4352760"/>
            <a:ext cx="347688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3205080" y="3800520"/>
            <a:ext cx="347688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3205080" y="3254400"/>
            <a:ext cx="347688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3205080" y="2709720"/>
            <a:ext cx="3476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3205080" y="2709720"/>
            <a:ext cx="3478320" cy="2735280"/>
          </a:xfrm>
          <a:custGeom>
            <a:avLst/>
            <a:gdLst/>
            <a:ahLst/>
            <a:rect l="l" t="t" r="r" b="b"/>
            <a:pathLst>
              <a:path w="2191" h="1723">
                <a:moveTo>
                  <a:pt x="0" y="1722"/>
                </a:moveTo>
                <a:lnTo>
                  <a:pt x="0" y="0"/>
                </a:lnTo>
                <a:lnTo>
                  <a:pt x="2190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3205080" y="2709720"/>
            <a:ext cx="3478320" cy="2735280"/>
          </a:xfrm>
          <a:custGeom>
            <a:avLst/>
            <a:gdLst/>
            <a:ahLst/>
            <a:rect l="l" t="t" r="r" b="b"/>
            <a:pathLst>
              <a:path w="2191" h="1723">
                <a:moveTo>
                  <a:pt x="0" y="1722"/>
                </a:moveTo>
                <a:lnTo>
                  <a:pt x="0" y="0"/>
                </a:lnTo>
                <a:lnTo>
                  <a:pt x="2190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3205080" y="2709720"/>
            <a:ext cx="3478320" cy="2735280"/>
          </a:xfrm>
          <a:custGeom>
            <a:avLst/>
            <a:gdLst/>
            <a:ahLst/>
            <a:rect l="l" t="t" r="r" b="b"/>
            <a:pathLst>
              <a:path w="2191" h="1723">
                <a:moveTo>
                  <a:pt x="0" y="1722"/>
                </a:moveTo>
                <a:lnTo>
                  <a:pt x="0" y="0"/>
                </a:lnTo>
                <a:lnTo>
                  <a:pt x="2190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3205080" y="5443560"/>
            <a:ext cx="3476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3205080" y="2709720"/>
            <a:ext cx="3476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 flipV="1">
            <a:off x="3205080" y="2709720"/>
            <a:ext cx="0" cy="2733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 flipV="1">
            <a:off x="6681960" y="2709720"/>
            <a:ext cx="0" cy="2733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3205080" y="2709720"/>
            <a:ext cx="255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6681960" y="5443560"/>
            <a:ext cx="25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3205080" y="5443560"/>
            <a:ext cx="3476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 flipV="1">
            <a:off x="3205080" y="2709720"/>
            <a:ext cx="0" cy="2733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3205080" y="5443560"/>
            <a:ext cx="255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 flipV="1">
            <a:off x="3205080" y="541188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3205080" y="2709720"/>
            <a:ext cx="0" cy="320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 flipV="1">
            <a:off x="3903840" y="541188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3903840" y="2709720"/>
            <a:ext cx="0" cy="320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 flipV="1">
            <a:off x="4602240" y="541188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4602240" y="2709720"/>
            <a:ext cx="0" cy="320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 flipV="1">
            <a:off x="5292720" y="541188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5292720" y="2709720"/>
            <a:ext cx="0" cy="320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 flipV="1">
            <a:off x="5991120" y="541188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5991120" y="2709720"/>
            <a:ext cx="0" cy="320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3205080" y="544356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 flipH="1">
            <a:off x="6649560" y="5443560"/>
            <a:ext cx="320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3205080" y="517212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 flipH="1">
            <a:off x="6649560" y="5172120"/>
            <a:ext cx="320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3205080" y="489888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 flipH="1">
            <a:off x="6649560" y="4898880"/>
            <a:ext cx="320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3205080" y="462600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 flipH="1">
            <a:off x="6649560" y="4626000"/>
            <a:ext cx="320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3205080" y="435276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 flipH="1">
            <a:off x="6649560" y="4352760"/>
            <a:ext cx="320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3205080" y="408132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 flipH="1">
            <a:off x="6649560" y="4081320"/>
            <a:ext cx="320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3205080" y="380052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 flipH="1">
            <a:off x="6649560" y="3800520"/>
            <a:ext cx="320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3205080" y="352728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 flipH="1">
            <a:off x="6649560" y="3527280"/>
            <a:ext cx="320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3205080" y="325440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 flipH="1">
            <a:off x="6649560" y="3254400"/>
            <a:ext cx="320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3205080" y="298116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 flipH="1">
            <a:off x="6649560" y="2981160"/>
            <a:ext cx="320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3205080" y="270972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 flipH="1">
            <a:off x="6649560" y="2709720"/>
            <a:ext cx="320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3205080" y="5443560"/>
            <a:ext cx="3476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3205080" y="2709720"/>
            <a:ext cx="3476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 flipV="1">
            <a:off x="3205080" y="2709720"/>
            <a:ext cx="0" cy="2733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 flipV="1">
            <a:off x="6681960" y="2709720"/>
            <a:ext cx="0" cy="2733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3205080" y="5443560"/>
            <a:ext cx="255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2904840" y="2014560"/>
            <a:ext cx="408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afd00"/>
                </a:solidFill>
                <a:latin typeface="Arial"/>
              </a:rPr>
              <a:t>Blackmanov vremenski otv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3013920" y="54514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3539160" y="5487840"/>
            <a:ext cx="67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,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4298040" y="5473800"/>
            <a:ext cx="67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,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5024880" y="5497560"/>
            <a:ext cx="67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,6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>
            <a:off x="5725080" y="5499000"/>
            <a:ext cx="67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1" name=""/>
          <p:cNvGrpSpPr/>
          <p:nvPr/>
        </p:nvGrpSpPr>
        <p:grpSpPr>
          <a:xfrm>
            <a:off x="2541600" y="2478240"/>
            <a:ext cx="695520" cy="3134160"/>
            <a:chOff x="2541600" y="2478240"/>
            <a:chExt cx="695520" cy="3134160"/>
          </a:xfrm>
        </p:grpSpPr>
        <p:sp>
          <p:nvSpPr>
            <p:cNvPr id="3532" name=""/>
            <p:cNvSpPr/>
            <p:nvPr/>
          </p:nvSpPr>
          <p:spPr>
            <a:xfrm>
              <a:off x="2541600" y="5214960"/>
              <a:ext cx="695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2614680" y="466884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2614680" y="412272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2614680" y="357012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2614680" y="302436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2728080" y="24782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38" name=""/>
          <p:cNvSpPr/>
          <p:nvPr/>
        </p:nvSpPr>
        <p:spPr>
          <a:xfrm rot="16200000">
            <a:off x="1611360" y="3692520"/>
            <a:ext cx="1809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afd00"/>
                </a:solidFill>
                <a:latin typeface="Arial"/>
              </a:rPr>
              <a:t>amplituda [dB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>
            <a:off x="4758480" y="5929200"/>
            <a:ext cx="36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"/>
          <p:cNvSpPr/>
          <p:nvPr/>
        </p:nvSpPr>
        <p:spPr>
          <a:xfrm flipV="1">
            <a:off x="1576440" y="2044800"/>
            <a:ext cx="0" cy="42177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 flipV="1">
            <a:off x="2652840" y="2044800"/>
            <a:ext cx="0" cy="42177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 flipV="1">
            <a:off x="3730680" y="2044800"/>
            <a:ext cx="0" cy="42177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 flipV="1">
            <a:off x="4795920" y="2044800"/>
            <a:ext cx="0" cy="42177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 flipV="1">
            <a:off x="5872320" y="2044800"/>
            <a:ext cx="0" cy="42177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1576440" y="6262560"/>
            <a:ext cx="5360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1576440" y="5421240"/>
            <a:ext cx="536076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1576440" y="4579920"/>
            <a:ext cx="536076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1576440" y="3726000"/>
            <a:ext cx="536076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>
            <a:off x="1576440" y="2884320"/>
            <a:ext cx="536076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1576440" y="2044800"/>
            <a:ext cx="5360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1576440" y="2044800"/>
            <a:ext cx="5362560" cy="4219560"/>
          </a:xfrm>
          <a:custGeom>
            <a:avLst/>
            <a:gdLst/>
            <a:ahLst/>
            <a:rect l="l" t="t" r="r" b="b"/>
            <a:pathLst>
              <a:path w="3378" h="2658">
                <a:moveTo>
                  <a:pt x="0" y="2657"/>
                </a:moveTo>
                <a:lnTo>
                  <a:pt x="0" y="0"/>
                </a:lnTo>
                <a:lnTo>
                  <a:pt x="3377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1576440" y="2044800"/>
            <a:ext cx="5362560" cy="4219560"/>
          </a:xfrm>
          <a:custGeom>
            <a:avLst/>
            <a:gdLst/>
            <a:ahLst/>
            <a:rect l="l" t="t" r="r" b="b"/>
            <a:pathLst>
              <a:path w="3378" h="2658">
                <a:moveTo>
                  <a:pt x="0" y="2657"/>
                </a:moveTo>
                <a:lnTo>
                  <a:pt x="0" y="0"/>
                </a:lnTo>
                <a:lnTo>
                  <a:pt x="3377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1576440" y="2044800"/>
            <a:ext cx="5362560" cy="4219560"/>
          </a:xfrm>
          <a:custGeom>
            <a:avLst/>
            <a:gdLst/>
            <a:ahLst/>
            <a:rect l="l" t="t" r="r" b="b"/>
            <a:pathLst>
              <a:path w="3378" h="2658">
                <a:moveTo>
                  <a:pt x="0" y="2657"/>
                </a:moveTo>
                <a:lnTo>
                  <a:pt x="0" y="0"/>
                </a:lnTo>
                <a:lnTo>
                  <a:pt x="3377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1576440" y="6262560"/>
            <a:ext cx="5360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1576440" y="2044800"/>
            <a:ext cx="5360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 flipV="1">
            <a:off x="1576440" y="2044800"/>
            <a:ext cx="0" cy="42177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 flipV="1">
            <a:off x="6937200" y="2044800"/>
            <a:ext cx="0" cy="42177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1576440" y="2044800"/>
            <a:ext cx="25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6937200" y="6262560"/>
            <a:ext cx="255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1576440" y="6262560"/>
            <a:ext cx="5360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 flipV="1">
            <a:off x="1576440" y="2044800"/>
            <a:ext cx="0" cy="42177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1576440" y="6262560"/>
            <a:ext cx="25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 flipV="1">
            <a:off x="1576440" y="6213600"/>
            <a:ext cx="0" cy="489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1576440" y="2044800"/>
            <a:ext cx="0" cy="489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1432800" y="62755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 flipV="1">
            <a:off x="2652840" y="6213600"/>
            <a:ext cx="0" cy="489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2652840" y="2044800"/>
            <a:ext cx="0" cy="489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2423160" y="6262560"/>
            <a:ext cx="67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,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 flipV="1">
            <a:off x="3730680" y="6213600"/>
            <a:ext cx="0" cy="489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3730680" y="2044800"/>
            <a:ext cx="0" cy="489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3464280" y="6262560"/>
            <a:ext cx="67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,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 flipV="1">
            <a:off x="4795920" y="6213600"/>
            <a:ext cx="0" cy="489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4795920" y="2044800"/>
            <a:ext cx="0" cy="489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 flipV="1">
            <a:off x="5872320" y="6213600"/>
            <a:ext cx="0" cy="489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5872320" y="2044800"/>
            <a:ext cx="0" cy="489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1576440" y="626256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 flipH="1">
            <a:off x="6888240" y="6262560"/>
            <a:ext cx="489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1576440" y="584208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 flipH="1">
            <a:off x="6888240" y="5842080"/>
            <a:ext cx="489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1576440" y="542124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 flipH="1">
            <a:off x="6888240" y="5421240"/>
            <a:ext cx="489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>
            <a:off x="1576440" y="500076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 flipH="1">
            <a:off x="6888240" y="5000760"/>
            <a:ext cx="489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1576440" y="457992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 flipH="1">
            <a:off x="6888240" y="4579920"/>
            <a:ext cx="489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1576440" y="415908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 flipH="1">
            <a:off x="6888240" y="4159080"/>
            <a:ext cx="489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1576440" y="372600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 flipH="1">
            <a:off x="6888240" y="3726000"/>
            <a:ext cx="489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1576440" y="330516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 flipH="1">
            <a:off x="6888240" y="3305160"/>
            <a:ext cx="489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1576440" y="288432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 flipH="1">
            <a:off x="6888240" y="2884320"/>
            <a:ext cx="489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1576440" y="246528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 flipH="1">
            <a:off x="6888240" y="2465280"/>
            <a:ext cx="489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>
            <a:off x="1576440" y="2044800"/>
            <a:ext cx="49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 flipH="1">
            <a:off x="6888240" y="2044800"/>
            <a:ext cx="489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98" name=""/>
          <p:cNvGrpSpPr/>
          <p:nvPr/>
        </p:nvGrpSpPr>
        <p:grpSpPr>
          <a:xfrm>
            <a:off x="880920" y="1835280"/>
            <a:ext cx="695520" cy="4617000"/>
            <a:chOff x="880920" y="1835280"/>
            <a:chExt cx="695520" cy="4617000"/>
          </a:xfrm>
        </p:grpSpPr>
        <p:sp>
          <p:nvSpPr>
            <p:cNvPr id="3599" name=""/>
            <p:cNvSpPr/>
            <p:nvPr/>
          </p:nvSpPr>
          <p:spPr>
            <a:xfrm>
              <a:off x="880920" y="6054840"/>
              <a:ext cx="695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992520" y="521352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992520" y="437184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992520" y="351792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992520" y="267660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1166040" y="18352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5" name=""/>
          <p:cNvSpPr/>
          <p:nvPr/>
        </p:nvSpPr>
        <p:spPr>
          <a:xfrm>
            <a:off x="1576440" y="6262560"/>
            <a:ext cx="5360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 flipV="1">
            <a:off x="1576440" y="2039760"/>
            <a:ext cx="6329160" cy="5040"/>
          </a:xfrm>
          <a:prstGeom prst="line">
            <a:avLst/>
          </a:prstGeom>
          <a:ln w="1260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 flipV="1">
            <a:off x="1576440" y="2044800"/>
            <a:ext cx="0" cy="42177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 flipV="1">
            <a:off x="6937200" y="2044800"/>
            <a:ext cx="0" cy="42177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>
            <a:off x="1576440" y="6262560"/>
            <a:ext cx="25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6937200" y="2044800"/>
            <a:ext cx="255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1576440" y="2044800"/>
            <a:ext cx="5362560" cy="2536560"/>
          </a:xfrm>
          <a:custGeom>
            <a:avLst/>
            <a:gdLst/>
            <a:ahLst/>
            <a:rect l="l" t="t" r="r" b="b"/>
            <a:pathLst>
              <a:path w="3378" h="1598">
                <a:moveTo>
                  <a:pt x="0" y="0"/>
                </a:moveTo>
                <a:lnTo>
                  <a:pt x="7" y="0"/>
                </a:lnTo>
                <a:lnTo>
                  <a:pt x="15" y="0"/>
                </a:lnTo>
                <a:lnTo>
                  <a:pt x="23" y="7"/>
                </a:lnTo>
                <a:lnTo>
                  <a:pt x="31" y="15"/>
                </a:lnTo>
                <a:lnTo>
                  <a:pt x="39" y="23"/>
                </a:lnTo>
                <a:lnTo>
                  <a:pt x="46" y="31"/>
                </a:lnTo>
                <a:lnTo>
                  <a:pt x="54" y="39"/>
                </a:lnTo>
                <a:lnTo>
                  <a:pt x="62" y="54"/>
                </a:lnTo>
                <a:lnTo>
                  <a:pt x="62" y="62"/>
                </a:lnTo>
                <a:lnTo>
                  <a:pt x="70" y="78"/>
                </a:lnTo>
                <a:lnTo>
                  <a:pt x="78" y="93"/>
                </a:lnTo>
                <a:lnTo>
                  <a:pt x="85" y="116"/>
                </a:lnTo>
                <a:lnTo>
                  <a:pt x="93" y="132"/>
                </a:lnTo>
                <a:lnTo>
                  <a:pt x="101" y="155"/>
                </a:lnTo>
                <a:lnTo>
                  <a:pt x="109" y="187"/>
                </a:lnTo>
                <a:lnTo>
                  <a:pt x="109" y="218"/>
                </a:lnTo>
                <a:lnTo>
                  <a:pt x="117" y="249"/>
                </a:lnTo>
                <a:lnTo>
                  <a:pt x="124" y="288"/>
                </a:lnTo>
                <a:lnTo>
                  <a:pt x="132" y="335"/>
                </a:lnTo>
                <a:lnTo>
                  <a:pt x="140" y="397"/>
                </a:lnTo>
                <a:lnTo>
                  <a:pt x="148" y="467"/>
                </a:lnTo>
                <a:lnTo>
                  <a:pt x="148" y="568"/>
                </a:lnTo>
                <a:lnTo>
                  <a:pt x="156" y="740"/>
                </a:lnTo>
                <a:lnTo>
                  <a:pt x="163" y="1597"/>
                </a:lnTo>
                <a:lnTo>
                  <a:pt x="171" y="748"/>
                </a:lnTo>
                <a:lnTo>
                  <a:pt x="179" y="600"/>
                </a:lnTo>
                <a:lnTo>
                  <a:pt x="187" y="522"/>
                </a:lnTo>
                <a:lnTo>
                  <a:pt x="195" y="467"/>
                </a:lnTo>
                <a:lnTo>
                  <a:pt x="195" y="428"/>
                </a:lnTo>
                <a:lnTo>
                  <a:pt x="202" y="397"/>
                </a:lnTo>
                <a:lnTo>
                  <a:pt x="210" y="381"/>
                </a:lnTo>
                <a:lnTo>
                  <a:pt x="218" y="366"/>
                </a:lnTo>
                <a:lnTo>
                  <a:pt x="226" y="358"/>
                </a:lnTo>
                <a:lnTo>
                  <a:pt x="234" y="350"/>
                </a:lnTo>
                <a:lnTo>
                  <a:pt x="241" y="350"/>
                </a:lnTo>
                <a:lnTo>
                  <a:pt x="241" y="358"/>
                </a:lnTo>
                <a:lnTo>
                  <a:pt x="249" y="358"/>
                </a:lnTo>
                <a:lnTo>
                  <a:pt x="257" y="374"/>
                </a:lnTo>
                <a:lnTo>
                  <a:pt x="265" y="381"/>
                </a:lnTo>
                <a:lnTo>
                  <a:pt x="273" y="405"/>
                </a:lnTo>
                <a:lnTo>
                  <a:pt x="280" y="420"/>
                </a:lnTo>
                <a:lnTo>
                  <a:pt x="280" y="452"/>
                </a:lnTo>
                <a:lnTo>
                  <a:pt x="288" y="483"/>
                </a:lnTo>
                <a:lnTo>
                  <a:pt x="296" y="522"/>
                </a:lnTo>
                <a:lnTo>
                  <a:pt x="304" y="576"/>
                </a:lnTo>
                <a:lnTo>
                  <a:pt x="312" y="646"/>
                </a:lnTo>
                <a:lnTo>
                  <a:pt x="319" y="740"/>
                </a:lnTo>
                <a:lnTo>
                  <a:pt x="327" y="911"/>
                </a:lnTo>
                <a:lnTo>
                  <a:pt x="327" y="1597"/>
                </a:lnTo>
                <a:lnTo>
                  <a:pt x="335" y="896"/>
                </a:lnTo>
                <a:lnTo>
                  <a:pt x="343" y="748"/>
                </a:lnTo>
                <a:lnTo>
                  <a:pt x="351" y="662"/>
                </a:lnTo>
                <a:lnTo>
                  <a:pt x="358" y="607"/>
                </a:lnTo>
                <a:lnTo>
                  <a:pt x="366" y="568"/>
                </a:lnTo>
                <a:lnTo>
                  <a:pt x="366" y="537"/>
                </a:lnTo>
                <a:lnTo>
                  <a:pt x="374" y="514"/>
                </a:lnTo>
                <a:lnTo>
                  <a:pt x="382" y="498"/>
                </a:lnTo>
                <a:lnTo>
                  <a:pt x="390" y="483"/>
                </a:lnTo>
                <a:lnTo>
                  <a:pt x="397" y="475"/>
                </a:lnTo>
                <a:lnTo>
                  <a:pt x="405" y="475"/>
                </a:lnTo>
                <a:lnTo>
                  <a:pt x="413" y="475"/>
                </a:lnTo>
                <a:lnTo>
                  <a:pt x="421" y="483"/>
                </a:lnTo>
                <a:lnTo>
                  <a:pt x="429" y="498"/>
                </a:lnTo>
                <a:lnTo>
                  <a:pt x="436" y="514"/>
                </a:lnTo>
                <a:lnTo>
                  <a:pt x="444" y="529"/>
                </a:lnTo>
                <a:lnTo>
                  <a:pt x="452" y="553"/>
                </a:lnTo>
                <a:lnTo>
                  <a:pt x="452" y="584"/>
                </a:lnTo>
                <a:lnTo>
                  <a:pt x="460" y="623"/>
                </a:lnTo>
                <a:lnTo>
                  <a:pt x="468" y="678"/>
                </a:lnTo>
                <a:lnTo>
                  <a:pt x="475" y="740"/>
                </a:lnTo>
                <a:lnTo>
                  <a:pt x="483" y="841"/>
                </a:lnTo>
                <a:lnTo>
                  <a:pt x="491" y="1013"/>
                </a:lnTo>
                <a:lnTo>
                  <a:pt x="499" y="1597"/>
                </a:lnTo>
                <a:lnTo>
                  <a:pt x="499" y="981"/>
                </a:lnTo>
                <a:lnTo>
                  <a:pt x="507" y="833"/>
                </a:lnTo>
                <a:lnTo>
                  <a:pt x="514" y="748"/>
                </a:lnTo>
                <a:lnTo>
                  <a:pt x="522" y="693"/>
                </a:lnTo>
                <a:lnTo>
                  <a:pt x="530" y="646"/>
                </a:lnTo>
                <a:lnTo>
                  <a:pt x="538" y="615"/>
                </a:lnTo>
                <a:lnTo>
                  <a:pt x="538" y="592"/>
                </a:lnTo>
                <a:lnTo>
                  <a:pt x="546" y="576"/>
                </a:lnTo>
                <a:lnTo>
                  <a:pt x="553" y="561"/>
                </a:lnTo>
                <a:lnTo>
                  <a:pt x="561" y="553"/>
                </a:lnTo>
                <a:lnTo>
                  <a:pt x="569" y="553"/>
                </a:lnTo>
                <a:lnTo>
                  <a:pt x="577" y="553"/>
                </a:lnTo>
                <a:lnTo>
                  <a:pt x="585" y="553"/>
                </a:lnTo>
                <a:lnTo>
                  <a:pt x="585" y="561"/>
                </a:lnTo>
                <a:lnTo>
                  <a:pt x="592" y="568"/>
                </a:lnTo>
                <a:lnTo>
                  <a:pt x="600" y="584"/>
                </a:lnTo>
                <a:lnTo>
                  <a:pt x="608" y="600"/>
                </a:lnTo>
                <a:lnTo>
                  <a:pt x="616" y="623"/>
                </a:lnTo>
                <a:lnTo>
                  <a:pt x="624" y="654"/>
                </a:lnTo>
                <a:lnTo>
                  <a:pt x="624" y="693"/>
                </a:lnTo>
                <a:lnTo>
                  <a:pt x="631" y="748"/>
                </a:lnTo>
                <a:lnTo>
                  <a:pt x="639" y="810"/>
                </a:lnTo>
                <a:lnTo>
                  <a:pt x="647" y="911"/>
                </a:lnTo>
                <a:lnTo>
                  <a:pt x="655" y="1083"/>
                </a:lnTo>
                <a:lnTo>
                  <a:pt x="663" y="1597"/>
                </a:lnTo>
                <a:lnTo>
                  <a:pt x="670" y="1044"/>
                </a:lnTo>
                <a:lnTo>
                  <a:pt x="670" y="896"/>
                </a:lnTo>
                <a:lnTo>
                  <a:pt x="678" y="810"/>
                </a:lnTo>
                <a:lnTo>
                  <a:pt x="686" y="755"/>
                </a:lnTo>
                <a:lnTo>
                  <a:pt x="694" y="709"/>
                </a:lnTo>
                <a:lnTo>
                  <a:pt x="702" y="678"/>
                </a:lnTo>
                <a:lnTo>
                  <a:pt x="709" y="654"/>
                </a:lnTo>
                <a:lnTo>
                  <a:pt x="717" y="631"/>
                </a:lnTo>
                <a:lnTo>
                  <a:pt x="717" y="623"/>
                </a:lnTo>
                <a:lnTo>
                  <a:pt x="725" y="615"/>
                </a:lnTo>
                <a:lnTo>
                  <a:pt x="733" y="607"/>
                </a:lnTo>
                <a:lnTo>
                  <a:pt x="741" y="607"/>
                </a:lnTo>
                <a:lnTo>
                  <a:pt x="748" y="607"/>
                </a:lnTo>
                <a:lnTo>
                  <a:pt x="756" y="615"/>
                </a:lnTo>
                <a:lnTo>
                  <a:pt x="756" y="623"/>
                </a:lnTo>
                <a:lnTo>
                  <a:pt x="764" y="639"/>
                </a:lnTo>
                <a:lnTo>
                  <a:pt x="772" y="654"/>
                </a:lnTo>
                <a:lnTo>
                  <a:pt x="780" y="678"/>
                </a:lnTo>
                <a:lnTo>
                  <a:pt x="787" y="709"/>
                </a:lnTo>
                <a:lnTo>
                  <a:pt x="795" y="748"/>
                </a:lnTo>
                <a:lnTo>
                  <a:pt x="803" y="794"/>
                </a:lnTo>
                <a:lnTo>
                  <a:pt x="803" y="865"/>
                </a:lnTo>
                <a:lnTo>
                  <a:pt x="811" y="958"/>
                </a:lnTo>
                <a:lnTo>
                  <a:pt x="819" y="1137"/>
                </a:lnTo>
                <a:lnTo>
                  <a:pt x="826" y="1597"/>
                </a:lnTo>
                <a:lnTo>
                  <a:pt x="834" y="1083"/>
                </a:lnTo>
                <a:lnTo>
                  <a:pt x="842" y="943"/>
                </a:lnTo>
                <a:lnTo>
                  <a:pt x="842" y="857"/>
                </a:lnTo>
                <a:lnTo>
                  <a:pt x="850" y="802"/>
                </a:lnTo>
                <a:lnTo>
                  <a:pt x="858" y="755"/>
                </a:lnTo>
                <a:lnTo>
                  <a:pt x="865" y="724"/>
                </a:lnTo>
                <a:lnTo>
                  <a:pt x="873" y="701"/>
                </a:lnTo>
                <a:lnTo>
                  <a:pt x="881" y="678"/>
                </a:lnTo>
                <a:lnTo>
                  <a:pt x="889" y="670"/>
                </a:lnTo>
                <a:lnTo>
                  <a:pt x="889" y="654"/>
                </a:lnTo>
                <a:lnTo>
                  <a:pt x="897" y="654"/>
                </a:lnTo>
                <a:lnTo>
                  <a:pt x="904" y="646"/>
                </a:lnTo>
                <a:lnTo>
                  <a:pt x="912" y="654"/>
                </a:lnTo>
                <a:lnTo>
                  <a:pt x="920" y="654"/>
                </a:lnTo>
                <a:lnTo>
                  <a:pt x="928" y="670"/>
                </a:lnTo>
                <a:lnTo>
                  <a:pt x="928" y="678"/>
                </a:lnTo>
                <a:lnTo>
                  <a:pt x="936" y="701"/>
                </a:lnTo>
                <a:lnTo>
                  <a:pt x="943" y="724"/>
                </a:lnTo>
                <a:lnTo>
                  <a:pt x="951" y="755"/>
                </a:lnTo>
                <a:lnTo>
                  <a:pt x="959" y="787"/>
                </a:lnTo>
                <a:lnTo>
                  <a:pt x="967" y="841"/>
                </a:lnTo>
                <a:lnTo>
                  <a:pt x="975" y="904"/>
                </a:lnTo>
                <a:lnTo>
                  <a:pt x="975" y="1005"/>
                </a:lnTo>
                <a:lnTo>
                  <a:pt x="982" y="1184"/>
                </a:lnTo>
                <a:lnTo>
                  <a:pt x="990" y="1589"/>
                </a:lnTo>
                <a:lnTo>
                  <a:pt x="998" y="1122"/>
                </a:lnTo>
                <a:lnTo>
                  <a:pt x="1006" y="974"/>
                </a:lnTo>
                <a:lnTo>
                  <a:pt x="1014" y="896"/>
                </a:lnTo>
                <a:lnTo>
                  <a:pt x="1014" y="833"/>
                </a:lnTo>
                <a:lnTo>
                  <a:pt x="1021" y="794"/>
                </a:lnTo>
                <a:lnTo>
                  <a:pt x="1029" y="763"/>
                </a:lnTo>
                <a:lnTo>
                  <a:pt x="1037" y="732"/>
                </a:lnTo>
                <a:lnTo>
                  <a:pt x="1045" y="717"/>
                </a:lnTo>
                <a:lnTo>
                  <a:pt x="1053" y="701"/>
                </a:lnTo>
                <a:lnTo>
                  <a:pt x="1060" y="693"/>
                </a:lnTo>
                <a:lnTo>
                  <a:pt x="1060" y="685"/>
                </a:lnTo>
                <a:lnTo>
                  <a:pt x="1068" y="685"/>
                </a:lnTo>
                <a:lnTo>
                  <a:pt x="1076" y="685"/>
                </a:lnTo>
                <a:lnTo>
                  <a:pt x="1084" y="693"/>
                </a:lnTo>
                <a:lnTo>
                  <a:pt x="1092" y="701"/>
                </a:lnTo>
                <a:lnTo>
                  <a:pt x="1099" y="717"/>
                </a:lnTo>
                <a:lnTo>
                  <a:pt x="1107" y="732"/>
                </a:lnTo>
                <a:lnTo>
                  <a:pt x="1107" y="755"/>
                </a:lnTo>
                <a:lnTo>
                  <a:pt x="1115" y="787"/>
                </a:lnTo>
                <a:lnTo>
                  <a:pt x="1123" y="826"/>
                </a:lnTo>
                <a:lnTo>
                  <a:pt x="1131" y="872"/>
                </a:lnTo>
                <a:lnTo>
                  <a:pt x="1138" y="943"/>
                </a:lnTo>
                <a:lnTo>
                  <a:pt x="1146" y="1044"/>
                </a:lnTo>
                <a:lnTo>
                  <a:pt x="1146" y="1223"/>
                </a:lnTo>
                <a:lnTo>
                  <a:pt x="1154" y="1589"/>
                </a:lnTo>
                <a:lnTo>
                  <a:pt x="1162" y="1145"/>
                </a:lnTo>
                <a:lnTo>
                  <a:pt x="1170" y="1005"/>
                </a:lnTo>
                <a:lnTo>
                  <a:pt x="1177" y="927"/>
                </a:lnTo>
                <a:lnTo>
                  <a:pt x="1185" y="865"/>
                </a:lnTo>
                <a:lnTo>
                  <a:pt x="1193" y="826"/>
                </a:lnTo>
                <a:lnTo>
                  <a:pt x="1193" y="794"/>
                </a:lnTo>
                <a:lnTo>
                  <a:pt x="1201" y="763"/>
                </a:lnTo>
                <a:lnTo>
                  <a:pt x="1209" y="748"/>
                </a:lnTo>
                <a:lnTo>
                  <a:pt x="1216" y="732"/>
                </a:lnTo>
                <a:lnTo>
                  <a:pt x="1224" y="724"/>
                </a:lnTo>
                <a:lnTo>
                  <a:pt x="1232" y="717"/>
                </a:lnTo>
                <a:lnTo>
                  <a:pt x="1240" y="717"/>
                </a:lnTo>
                <a:lnTo>
                  <a:pt x="1248" y="724"/>
                </a:lnTo>
                <a:lnTo>
                  <a:pt x="1255" y="732"/>
                </a:lnTo>
                <a:lnTo>
                  <a:pt x="1263" y="748"/>
                </a:lnTo>
                <a:lnTo>
                  <a:pt x="1271" y="763"/>
                </a:lnTo>
                <a:lnTo>
                  <a:pt x="1279" y="787"/>
                </a:lnTo>
                <a:lnTo>
                  <a:pt x="1279" y="818"/>
                </a:lnTo>
                <a:lnTo>
                  <a:pt x="1287" y="857"/>
                </a:lnTo>
                <a:lnTo>
                  <a:pt x="1294" y="904"/>
                </a:lnTo>
                <a:lnTo>
                  <a:pt x="1302" y="974"/>
                </a:lnTo>
                <a:lnTo>
                  <a:pt x="1310" y="1075"/>
                </a:lnTo>
                <a:lnTo>
                  <a:pt x="1318" y="1254"/>
                </a:lnTo>
                <a:lnTo>
                  <a:pt x="1318" y="1582"/>
                </a:lnTo>
                <a:lnTo>
                  <a:pt x="1326" y="1169"/>
                </a:lnTo>
                <a:lnTo>
                  <a:pt x="1333" y="1028"/>
                </a:lnTo>
                <a:lnTo>
                  <a:pt x="1341" y="950"/>
                </a:lnTo>
                <a:lnTo>
                  <a:pt x="1349" y="888"/>
                </a:lnTo>
                <a:lnTo>
                  <a:pt x="1357" y="849"/>
                </a:lnTo>
                <a:lnTo>
                  <a:pt x="1365" y="818"/>
                </a:lnTo>
                <a:lnTo>
                  <a:pt x="1365" y="794"/>
                </a:lnTo>
                <a:lnTo>
                  <a:pt x="1372" y="771"/>
                </a:lnTo>
                <a:lnTo>
                  <a:pt x="1380" y="755"/>
                </a:lnTo>
                <a:lnTo>
                  <a:pt x="1388" y="748"/>
                </a:lnTo>
                <a:lnTo>
                  <a:pt x="1396" y="740"/>
                </a:lnTo>
                <a:lnTo>
                  <a:pt x="1404" y="740"/>
                </a:lnTo>
                <a:lnTo>
                  <a:pt x="1411" y="748"/>
                </a:lnTo>
                <a:lnTo>
                  <a:pt x="1419" y="755"/>
                </a:lnTo>
                <a:lnTo>
                  <a:pt x="1427" y="771"/>
                </a:lnTo>
                <a:lnTo>
                  <a:pt x="1435" y="787"/>
                </a:lnTo>
                <a:lnTo>
                  <a:pt x="1443" y="810"/>
                </a:lnTo>
                <a:lnTo>
                  <a:pt x="1450" y="841"/>
                </a:lnTo>
                <a:lnTo>
                  <a:pt x="1450" y="880"/>
                </a:lnTo>
                <a:lnTo>
                  <a:pt x="1458" y="927"/>
                </a:lnTo>
                <a:lnTo>
                  <a:pt x="1466" y="997"/>
                </a:lnTo>
                <a:lnTo>
                  <a:pt x="1474" y="1098"/>
                </a:lnTo>
                <a:lnTo>
                  <a:pt x="1482" y="1285"/>
                </a:lnTo>
                <a:lnTo>
                  <a:pt x="1489" y="1582"/>
                </a:lnTo>
                <a:lnTo>
                  <a:pt x="1497" y="1184"/>
                </a:lnTo>
                <a:lnTo>
                  <a:pt x="1497" y="1052"/>
                </a:lnTo>
                <a:lnTo>
                  <a:pt x="1505" y="974"/>
                </a:lnTo>
                <a:lnTo>
                  <a:pt x="1513" y="911"/>
                </a:lnTo>
                <a:lnTo>
                  <a:pt x="1521" y="872"/>
                </a:lnTo>
                <a:lnTo>
                  <a:pt x="1528" y="841"/>
                </a:lnTo>
                <a:lnTo>
                  <a:pt x="1536" y="810"/>
                </a:lnTo>
                <a:lnTo>
                  <a:pt x="1536" y="794"/>
                </a:lnTo>
                <a:lnTo>
                  <a:pt x="1544" y="779"/>
                </a:lnTo>
                <a:lnTo>
                  <a:pt x="1552" y="771"/>
                </a:lnTo>
                <a:lnTo>
                  <a:pt x="1560" y="763"/>
                </a:lnTo>
                <a:lnTo>
                  <a:pt x="1567" y="763"/>
                </a:lnTo>
                <a:lnTo>
                  <a:pt x="1575" y="763"/>
                </a:lnTo>
                <a:lnTo>
                  <a:pt x="1583" y="771"/>
                </a:lnTo>
                <a:lnTo>
                  <a:pt x="1583" y="779"/>
                </a:lnTo>
                <a:lnTo>
                  <a:pt x="1591" y="794"/>
                </a:lnTo>
                <a:lnTo>
                  <a:pt x="1599" y="810"/>
                </a:lnTo>
                <a:lnTo>
                  <a:pt x="1606" y="833"/>
                </a:lnTo>
                <a:lnTo>
                  <a:pt x="1614" y="865"/>
                </a:lnTo>
                <a:lnTo>
                  <a:pt x="1622" y="904"/>
                </a:lnTo>
                <a:lnTo>
                  <a:pt x="1622" y="950"/>
                </a:lnTo>
                <a:lnTo>
                  <a:pt x="1630" y="1020"/>
                </a:lnTo>
                <a:lnTo>
                  <a:pt x="1638" y="1122"/>
                </a:lnTo>
                <a:lnTo>
                  <a:pt x="1645" y="1317"/>
                </a:lnTo>
                <a:lnTo>
                  <a:pt x="1653" y="1574"/>
                </a:lnTo>
                <a:lnTo>
                  <a:pt x="1661" y="1200"/>
                </a:lnTo>
                <a:lnTo>
                  <a:pt x="1669" y="1067"/>
                </a:lnTo>
                <a:lnTo>
                  <a:pt x="1669" y="989"/>
                </a:lnTo>
                <a:lnTo>
                  <a:pt x="1677" y="935"/>
                </a:lnTo>
                <a:lnTo>
                  <a:pt x="1684" y="888"/>
                </a:lnTo>
                <a:lnTo>
                  <a:pt x="1692" y="857"/>
                </a:lnTo>
                <a:lnTo>
                  <a:pt x="1700" y="833"/>
                </a:lnTo>
                <a:lnTo>
                  <a:pt x="1708" y="810"/>
                </a:lnTo>
                <a:lnTo>
                  <a:pt x="1708" y="802"/>
                </a:lnTo>
                <a:lnTo>
                  <a:pt x="1716" y="787"/>
                </a:lnTo>
                <a:lnTo>
                  <a:pt x="1723" y="787"/>
                </a:lnTo>
                <a:lnTo>
                  <a:pt x="1731" y="779"/>
                </a:lnTo>
                <a:lnTo>
                  <a:pt x="1739" y="779"/>
                </a:lnTo>
                <a:lnTo>
                  <a:pt x="1747" y="787"/>
                </a:lnTo>
                <a:lnTo>
                  <a:pt x="1755" y="794"/>
                </a:lnTo>
                <a:lnTo>
                  <a:pt x="1755" y="810"/>
                </a:lnTo>
                <a:lnTo>
                  <a:pt x="1762" y="826"/>
                </a:lnTo>
                <a:lnTo>
                  <a:pt x="1770" y="849"/>
                </a:lnTo>
                <a:lnTo>
                  <a:pt x="1778" y="880"/>
                </a:lnTo>
                <a:lnTo>
                  <a:pt x="1786" y="919"/>
                </a:lnTo>
                <a:lnTo>
                  <a:pt x="1794" y="974"/>
                </a:lnTo>
                <a:lnTo>
                  <a:pt x="1794" y="1036"/>
                </a:lnTo>
                <a:lnTo>
                  <a:pt x="1801" y="1145"/>
                </a:lnTo>
                <a:lnTo>
                  <a:pt x="1809" y="1340"/>
                </a:lnTo>
                <a:lnTo>
                  <a:pt x="1817" y="1574"/>
                </a:lnTo>
                <a:lnTo>
                  <a:pt x="1825" y="1215"/>
                </a:lnTo>
                <a:lnTo>
                  <a:pt x="1833" y="1083"/>
                </a:lnTo>
                <a:lnTo>
                  <a:pt x="1840" y="1005"/>
                </a:lnTo>
                <a:lnTo>
                  <a:pt x="1840" y="950"/>
                </a:lnTo>
                <a:lnTo>
                  <a:pt x="1848" y="904"/>
                </a:lnTo>
                <a:lnTo>
                  <a:pt x="1856" y="872"/>
                </a:lnTo>
                <a:lnTo>
                  <a:pt x="1864" y="849"/>
                </a:lnTo>
                <a:lnTo>
                  <a:pt x="1872" y="826"/>
                </a:lnTo>
                <a:lnTo>
                  <a:pt x="1879" y="818"/>
                </a:lnTo>
                <a:lnTo>
                  <a:pt x="1879" y="802"/>
                </a:lnTo>
                <a:lnTo>
                  <a:pt x="1887" y="802"/>
                </a:lnTo>
                <a:lnTo>
                  <a:pt x="1895" y="794"/>
                </a:lnTo>
                <a:lnTo>
                  <a:pt x="1903" y="802"/>
                </a:lnTo>
                <a:lnTo>
                  <a:pt x="1911" y="802"/>
                </a:lnTo>
                <a:lnTo>
                  <a:pt x="1918" y="810"/>
                </a:lnTo>
                <a:lnTo>
                  <a:pt x="1926" y="826"/>
                </a:lnTo>
                <a:lnTo>
                  <a:pt x="1926" y="841"/>
                </a:lnTo>
                <a:lnTo>
                  <a:pt x="1934" y="865"/>
                </a:lnTo>
                <a:lnTo>
                  <a:pt x="1942" y="896"/>
                </a:lnTo>
                <a:lnTo>
                  <a:pt x="1950" y="935"/>
                </a:lnTo>
                <a:lnTo>
                  <a:pt x="1957" y="989"/>
                </a:lnTo>
                <a:lnTo>
                  <a:pt x="1965" y="1052"/>
                </a:lnTo>
                <a:lnTo>
                  <a:pt x="1973" y="1161"/>
                </a:lnTo>
                <a:lnTo>
                  <a:pt x="1973" y="1363"/>
                </a:lnTo>
                <a:lnTo>
                  <a:pt x="1981" y="1566"/>
                </a:lnTo>
                <a:lnTo>
                  <a:pt x="1989" y="1223"/>
                </a:lnTo>
                <a:lnTo>
                  <a:pt x="1996" y="1098"/>
                </a:lnTo>
                <a:lnTo>
                  <a:pt x="2004" y="1013"/>
                </a:lnTo>
                <a:lnTo>
                  <a:pt x="2012" y="958"/>
                </a:lnTo>
                <a:lnTo>
                  <a:pt x="2012" y="919"/>
                </a:lnTo>
                <a:lnTo>
                  <a:pt x="2020" y="888"/>
                </a:lnTo>
                <a:lnTo>
                  <a:pt x="2028" y="865"/>
                </a:lnTo>
                <a:lnTo>
                  <a:pt x="2035" y="841"/>
                </a:lnTo>
                <a:lnTo>
                  <a:pt x="2043" y="826"/>
                </a:lnTo>
                <a:lnTo>
                  <a:pt x="2051" y="818"/>
                </a:lnTo>
                <a:lnTo>
                  <a:pt x="2059" y="810"/>
                </a:lnTo>
                <a:lnTo>
                  <a:pt x="2067" y="810"/>
                </a:lnTo>
                <a:lnTo>
                  <a:pt x="2074" y="818"/>
                </a:lnTo>
                <a:lnTo>
                  <a:pt x="2082" y="826"/>
                </a:lnTo>
                <a:lnTo>
                  <a:pt x="2090" y="841"/>
                </a:lnTo>
                <a:lnTo>
                  <a:pt x="2098" y="857"/>
                </a:lnTo>
                <a:lnTo>
                  <a:pt x="2098" y="880"/>
                </a:lnTo>
                <a:lnTo>
                  <a:pt x="2106" y="911"/>
                </a:lnTo>
                <a:lnTo>
                  <a:pt x="2113" y="950"/>
                </a:lnTo>
                <a:lnTo>
                  <a:pt x="2121" y="997"/>
                </a:lnTo>
                <a:lnTo>
                  <a:pt x="2129" y="1067"/>
                </a:lnTo>
                <a:lnTo>
                  <a:pt x="2137" y="1176"/>
                </a:lnTo>
                <a:lnTo>
                  <a:pt x="2145" y="1387"/>
                </a:lnTo>
                <a:lnTo>
                  <a:pt x="2145" y="1558"/>
                </a:lnTo>
                <a:lnTo>
                  <a:pt x="2152" y="1231"/>
                </a:lnTo>
                <a:lnTo>
                  <a:pt x="2160" y="1106"/>
                </a:lnTo>
                <a:lnTo>
                  <a:pt x="2168" y="1028"/>
                </a:lnTo>
                <a:lnTo>
                  <a:pt x="2176" y="974"/>
                </a:lnTo>
                <a:lnTo>
                  <a:pt x="2184" y="927"/>
                </a:lnTo>
                <a:lnTo>
                  <a:pt x="2184" y="896"/>
                </a:lnTo>
                <a:lnTo>
                  <a:pt x="2191" y="872"/>
                </a:lnTo>
                <a:lnTo>
                  <a:pt x="2199" y="857"/>
                </a:lnTo>
                <a:lnTo>
                  <a:pt x="2207" y="841"/>
                </a:lnTo>
                <a:lnTo>
                  <a:pt x="2215" y="833"/>
                </a:lnTo>
                <a:lnTo>
                  <a:pt x="2223" y="826"/>
                </a:lnTo>
                <a:lnTo>
                  <a:pt x="2230" y="826"/>
                </a:lnTo>
                <a:lnTo>
                  <a:pt x="2238" y="826"/>
                </a:lnTo>
                <a:lnTo>
                  <a:pt x="2246" y="841"/>
                </a:lnTo>
                <a:lnTo>
                  <a:pt x="2254" y="849"/>
                </a:lnTo>
                <a:lnTo>
                  <a:pt x="2262" y="872"/>
                </a:lnTo>
                <a:lnTo>
                  <a:pt x="2269" y="896"/>
                </a:lnTo>
                <a:lnTo>
                  <a:pt x="2269" y="919"/>
                </a:lnTo>
                <a:lnTo>
                  <a:pt x="2277" y="958"/>
                </a:lnTo>
                <a:lnTo>
                  <a:pt x="2285" y="1013"/>
                </a:lnTo>
                <a:lnTo>
                  <a:pt x="2293" y="1083"/>
                </a:lnTo>
                <a:lnTo>
                  <a:pt x="2301" y="1192"/>
                </a:lnTo>
                <a:lnTo>
                  <a:pt x="2308" y="1402"/>
                </a:lnTo>
                <a:lnTo>
                  <a:pt x="2316" y="1550"/>
                </a:lnTo>
                <a:lnTo>
                  <a:pt x="2316" y="1239"/>
                </a:lnTo>
                <a:lnTo>
                  <a:pt x="2324" y="1114"/>
                </a:lnTo>
                <a:lnTo>
                  <a:pt x="2332" y="1036"/>
                </a:lnTo>
                <a:lnTo>
                  <a:pt x="2340" y="981"/>
                </a:lnTo>
                <a:lnTo>
                  <a:pt x="2347" y="935"/>
                </a:lnTo>
                <a:lnTo>
                  <a:pt x="2355" y="904"/>
                </a:lnTo>
                <a:lnTo>
                  <a:pt x="2363" y="880"/>
                </a:lnTo>
                <a:lnTo>
                  <a:pt x="2363" y="865"/>
                </a:lnTo>
                <a:lnTo>
                  <a:pt x="2371" y="849"/>
                </a:lnTo>
                <a:lnTo>
                  <a:pt x="2379" y="841"/>
                </a:lnTo>
                <a:lnTo>
                  <a:pt x="2386" y="833"/>
                </a:lnTo>
                <a:lnTo>
                  <a:pt x="2394" y="833"/>
                </a:lnTo>
                <a:lnTo>
                  <a:pt x="2402" y="833"/>
                </a:lnTo>
                <a:lnTo>
                  <a:pt x="2402" y="841"/>
                </a:lnTo>
                <a:lnTo>
                  <a:pt x="2410" y="849"/>
                </a:lnTo>
                <a:lnTo>
                  <a:pt x="2418" y="865"/>
                </a:lnTo>
                <a:lnTo>
                  <a:pt x="2425" y="880"/>
                </a:lnTo>
                <a:lnTo>
                  <a:pt x="2433" y="904"/>
                </a:lnTo>
                <a:lnTo>
                  <a:pt x="2441" y="935"/>
                </a:lnTo>
                <a:lnTo>
                  <a:pt x="2449" y="974"/>
                </a:lnTo>
                <a:lnTo>
                  <a:pt x="2449" y="1020"/>
                </a:lnTo>
                <a:lnTo>
                  <a:pt x="2457" y="1091"/>
                </a:lnTo>
                <a:lnTo>
                  <a:pt x="2464" y="1200"/>
                </a:lnTo>
                <a:lnTo>
                  <a:pt x="2472" y="1418"/>
                </a:lnTo>
                <a:lnTo>
                  <a:pt x="2480" y="1543"/>
                </a:lnTo>
                <a:lnTo>
                  <a:pt x="2488" y="1246"/>
                </a:lnTo>
                <a:lnTo>
                  <a:pt x="2488" y="1122"/>
                </a:lnTo>
                <a:lnTo>
                  <a:pt x="2496" y="1044"/>
                </a:lnTo>
                <a:lnTo>
                  <a:pt x="2503" y="989"/>
                </a:lnTo>
                <a:lnTo>
                  <a:pt x="2511" y="943"/>
                </a:lnTo>
                <a:lnTo>
                  <a:pt x="2519" y="911"/>
                </a:lnTo>
                <a:lnTo>
                  <a:pt x="2527" y="888"/>
                </a:lnTo>
                <a:lnTo>
                  <a:pt x="2535" y="872"/>
                </a:lnTo>
                <a:lnTo>
                  <a:pt x="2535" y="857"/>
                </a:lnTo>
                <a:lnTo>
                  <a:pt x="2542" y="849"/>
                </a:lnTo>
                <a:lnTo>
                  <a:pt x="2550" y="841"/>
                </a:lnTo>
                <a:lnTo>
                  <a:pt x="2558" y="841"/>
                </a:lnTo>
                <a:lnTo>
                  <a:pt x="2566" y="841"/>
                </a:lnTo>
                <a:lnTo>
                  <a:pt x="2574" y="849"/>
                </a:lnTo>
                <a:lnTo>
                  <a:pt x="2574" y="857"/>
                </a:lnTo>
                <a:lnTo>
                  <a:pt x="2581" y="872"/>
                </a:lnTo>
                <a:lnTo>
                  <a:pt x="2589" y="888"/>
                </a:lnTo>
                <a:lnTo>
                  <a:pt x="2597" y="911"/>
                </a:lnTo>
                <a:lnTo>
                  <a:pt x="2605" y="943"/>
                </a:lnTo>
                <a:lnTo>
                  <a:pt x="2613" y="981"/>
                </a:lnTo>
                <a:lnTo>
                  <a:pt x="2620" y="1028"/>
                </a:lnTo>
                <a:lnTo>
                  <a:pt x="2620" y="1106"/>
                </a:lnTo>
                <a:lnTo>
                  <a:pt x="2628" y="1215"/>
                </a:lnTo>
                <a:lnTo>
                  <a:pt x="2636" y="1433"/>
                </a:lnTo>
                <a:lnTo>
                  <a:pt x="2644" y="1535"/>
                </a:lnTo>
                <a:lnTo>
                  <a:pt x="2652" y="1246"/>
                </a:lnTo>
                <a:lnTo>
                  <a:pt x="2659" y="1122"/>
                </a:lnTo>
                <a:lnTo>
                  <a:pt x="2659" y="1044"/>
                </a:lnTo>
                <a:lnTo>
                  <a:pt x="2667" y="989"/>
                </a:lnTo>
                <a:lnTo>
                  <a:pt x="2675" y="950"/>
                </a:lnTo>
                <a:lnTo>
                  <a:pt x="2683" y="919"/>
                </a:lnTo>
                <a:lnTo>
                  <a:pt x="2691" y="896"/>
                </a:lnTo>
                <a:lnTo>
                  <a:pt x="2698" y="880"/>
                </a:lnTo>
                <a:lnTo>
                  <a:pt x="2706" y="865"/>
                </a:lnTo>
                <a:lnTo>
                  <a:pt x="2706" y="857"/>
                </a:lnTo>
                <a:lnTo>
                  <a:pt x="2714" y="849"/>
                </a:lnTo>
                <a:lnTo>
                  <a:pt x="2722" y="849"/>
                </a:lnTo>
                <a:lnTo>
                  <a:pt x="2730" y="849"/>
                </a:lnTo>
                <a:lnTo>
                  <a:pt x="2737" y="849"/>
                </a:lnTo>
                <a:lnTo>
                  <a:pt x="2745" y="865"/>
                </a:lnTo>
                <a:lnTo>
                  <a:pt x="2753" y="872"/>
                </a:lnTo>
                <a:lnTo>
                  <a:pt x="2753" y="896"/>
                </a:lnTo>
                <a:lnTo>
                  <a:pt x="2761" y="919"/>
                </a:lnTo>
                <a:lnTo>
                  <a:pt x="2769" y="950"/>
                </a:lnTo>
                <a:lnTo>
                  <a:pt x="2776" y="989"/>
                </a:lnTo>
                <a:lnTo>
                  <a:pt x="2784" y="1036"/>
                </a:lnTo>
                <a:lnTo>
                  <a:pt x="2792" y="1114"/>
                </a:lnTo>
                <a:lnTo>
                  <a:pt x="2792" y="1223"/>
                </a:lnTo>
                <a:lnTo>
                  <a:pt x="2800" y="1449"/>
                </a:lnTo>
                <a:lnTo>
                  <a:pt x="2808" y="1527"/>
                </a:lnTo>
                <a:lnTo>
                  <a:pt x="2815" y="1246"/>
                </a:lnTo>
                <a:lnTo>
                  <a:pt x="2823" y="1130"/>
                </a:lnTo>
                <a:lnTo>
                  <a:pt x="2831" y="1052"/>
                </a:lnTo>
                <a:lnTo>
                  <a:pt x="2839" y="997"/>
                </a:lnTo>
                <a:lnTo>
                  <a:pt x="2839" y="958"/>
                </a:lnTo>
                <a:lnTo>
                  <a:pt x="2847" y="927"/>
                </a:lnTo>
                <a:lnTo>
                  <a:pt x="2854" y="904"/>
                </a:lnTo>
                <a:lnTo>
                  <a:pt x="2862" y="880"/>
                </a:lnTo>
                <a:lnTo>
                  <a:pt x="2870" y="865"/>
                </a:lnTo>
                <a:lnTo>
                  <a:pt x="2878" y="857"/>
                </a:lnTo>
                <a:lnTo>
                  <a:pt x="2878" y="849"/>
                </a:lnTo>
                <a:lnTo>
                  <a:pt x="2886" y="849"/>
                </a:lnTo>
                <a:lnTo>
                  <a:pt x="2893" y="849"/>
                </a:lnTo>
                <a:lnTo>
                  <a:pt x="2901" y="857"/>
                </a:lnTo>
                <a:lnTo>
                  <a:pt x="2909" y="865"/>
                </a:lnTo>
                <a:lnTo>
                  <a:pt x="2917" y="880"/>
                </a:lnTo>
                <a:lnTo>
                  <a:pt x="2925" y="896"/>
                </a:lnTo>
                <a:lnTo>
                  <a:pt x="2925" y="919"/>
                </a:lnTo>
                <a:lnTo>
                  <a:pt x="2932" y="950"/>
                </a:lnTo>
                <a:lnTo>
                  <a:pt x="2940" y="989"/>
                </a:lnTo>
                <a:lnTo>
                  <a:pt x="2948" y="1044"/>
                </a:lnTo>
                <a:lnTo>
                  <a:pt x="2956" y="1114"/>
                </a:lnTo>
                <a:lnTo>
                  <a:pt x="2964" y="1231"/>
                </a:lnTo>
                <a:lnTo>
                  <a:pt x="2964" y="1465"/>
                </a:lnTo>
                <a:lnTo>
                  <a:pt x="2971" y="1519"/>
                </a:lnTo>
                <a:lnTo>
                  <a:pt x="2979" y="1246"/>
                </a:lnTo>
                <a:lnTo>
                  <a:pt x="2987" y="1130"/>
                </a:lnTo>
                <a:lnTo>
                  <a:pt x="2995" y="1052"/>
                </a:lnTo>
                <a:lnTo>
                  <a:pt x="3003" y="997"/>
                </a:lnTo>
                <a:lnTo>
                  <a:pt x="3010" y="958"/>
                </a:lnTo>
                <a:lnTo>
                  <a:pt x="3010" y="927"/>
                </a:lnTo>
                <a:lnTo>
                  <a:pt x="3018" y="904"/>
                </a:lnTo>
                <a:lnTo>
                  <a:pt x="3026" y="888"/>
                </a:lnTo>
                <a:lnTo>
                  <a:pt x="3034" y="872"/>
                </a:lnTo>
                <a:lnTo>
                  <a:pt x="3042" y="865"/>
                </a:lnTo>
                <a:lnTo>
                  <a:pt x="3049" y="857"/>
                </a:lnTo>
                <a:lnTo>
                  <a:pt x="3057" y="857"/>
                </a:lnTo>
                <a:lnTo>
                  <a:pt x="3065" y="865"/>
                </a:lnTo>
                <a:lnTo>
                  <a:pt x="3073" y="872"/>
                </a:lnTo>
                <a:lnTo>
                  <a:pt x="3081" y="888"/>
                </a:lnTo>
                <a:lnTo>
                  <a:pt x="3088" y="904"/>
                </a:lnTo>
                <a:lnTo>
                  <a:pt x="3096" y="927"/>
                </a:lnTo>
                <a:lnTo>
                  <a:pt x="3096" y="958"/>
                </a:lnTo>
                <a:lnTo>
                  <a:pt x="3104" y="997"/>
                </a:lnTo>
                <a:lnTo>
                  <a:pt x="3112" y="1052"/>
                </a:lnTo>
                <a:lnTo>
                  <a:pt x="3120" y="1122"/>
                </a:lnTo>
                <a:lnTo>
                  <a:pt x="3127" y="1239"/>
                </a:lnTo>
                <a:lnTo>
                  <a:pt x="3135" y="1480"/>
                </a:lnTo>
                <a:lnTo>
                  <a:pt x="3135" y="1511"/>
                </a:lnTo>
                <a:lnTo>
                  <a:pt x="3143" y="1246"/>
                </a:lnTo>
                <a:lnTo>
                  <a:pt x="3151" y="1130"/>
                </a:lnTo>
                <a:lnTo>
                  <a:pt x="3159" y="1052"/>
                </a:lnTo>
                <a:lnTo>
                  <a:pt x="3166" y="1005"/>
                </a:lnTo>
                <a:lnTo>
                  <a:pt x="3174" y="958"/>
                </a:lnTo>
                <a:lnTo>
                  <a:pt x="3182" y="927"/>
                </a:lnTo>
                <a:lnTo>
                  <a:pt x="3182" y="904"/>
                </a:lnTo>
                <a:lnTo>
                  <a:pt x="3190" y="888"/>
                </a:lnTo>
                <a:lnTo>
                  <a:pt x="3198" y="872"/>
                </a:lnTo>
                <a:lnTo>
                  <a:pt x="3205" y="865"/>
                </a:lnTo>
                <a:lnTo>
                  <a:pt x="3213" y="857"/>
                </a:lnTo>
                <a:lnTo>
                  <a:pt x="3221" y="857"/>
                </a:lnTo>
                <a:lnTo>
                  <a:pt x="3229" y="857"/>
                </a:lnTo>
                <a:lnTo>
                  <a:pt x="3229" y="865"/>
                </a:lnTo>
                <a:lnTo>
                  <a:pt x="3237" y="872"/>
                </a:lnTo>
                <a:lnTo>
                  <a:pt x="3244" y="888"/>
                </a:lnTo>
                <a:lnTo>
                  <a:pt x="3252" y="904"/>
                </a:lnTo>
                <a:lnTo>
                  <a:pt x="3260" y="927"/>
                </a:lnTo>
                <a:lnTo>
                  <a:pt x="3268" y="958"/>
                </a:lnTo>
                <a:lnTo>
                  <a:pt x="3268" y="997"/>
                </a:lnTo>
                <a:lnTo>
                  <a:pt x="3276" y="1052"/>
                </a:lnTo>
                <a:lnTo>
                  <a:pt x="3283" y="1130"/>
                </a:lnTo>
                <a:lnTo>
                  <a:pt x="3291" y="1239"/>
                </a:lnTo>
                <a:lnTo>
                  <a:pt x="3299" y="1488"/>
                </a:lnTo>
                <a:lnTo>
                  <a:pt x="3307" y="1504"/>
                </a:lnTo>
                <a:lnTo>
                  <a:pt x="3315" y="1246"/>
                </a:lnTo>
                <a:lnTo>
                  <a:pt x="3315" y="1130"/>
                </a:lnTo>
                <a:lnTo>
                  <a:pt x="3322" y="1052"/>
                </a:lnTo>
                <a:lnTo>
                  <a:pt x="3330" y="1005"/>
                </a:lnTo>
                <a:lnTo>
                  <a:pt x="3338" y="958"/>
                </a:lnTo>
                <a:lnTo>
                  <a:pt x="3346" y="927"/>
                </a:lnTo>
                <a:lnTo>
                  <a:pt x="3354" y="904"/>
                </a:lnTo>
                <a:lnTo>
                  <a:pt x="3354" y="888"/>
                </a:lnTo>
                <a:lnTo>
                  <a:pt x="3361" y="872"/>
                </a:lnTo>
                <a:lnTo>
                  <a:pt x="3369" y="865"/>
                </a:lnTo>
                <a:lnTo>
                  <a:pt x="3377" y="857"/>
                </a:lnTo>
              </a:path>
            </a:pathLst>
          </a:custGeom>
          <a:noFill/>
          <a:ln cap="rnd" w="25560">
            <a:solidFill>
              <a:srgbClr val="ea99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2" name=""/>
          <p:cNvGrpSpPr/>
          <p:nvPr/>
        </p:nvGrpSpPr>
        <p:grpSpPr>
          <a:xfrm>
            <a:off x="1576440" y="2044800"/>
            <a:ext cx="5362560" cy="4813200"/>
            <a:chOff x="1576440" y="2044800"/>
            <a:chExt cx="5362560" cy="4813200"/>
          </a:xfrm>
        </p:grpSpPr>
        <p:sp>
          <p:nvSpPr>
            <p:cNvPr id="3613" name=""/>
            <p:cNvSpPr/>
            <p:nvPr/>
          </p:nvSpPr>
          <p:spPr>
            <a:xfrm>
              <a:off x="1576440" y="2044800"/>
              <a:ext cx="2143080" cy="4813200"/>
            </a:xfrm>
            <a:custGeom>
              <a:avLst/>
              <a:gdLst/>
              <a:ahLst/>
              <a:rect l="l" t="t" r="r" b="b"/>
              <a:pathLst>
                <a:path w="1350" h="3032">
                  <a:moveTo>
                    <a:pt x="0" y="0"/>
                  </a:moveTo>
                  <a:lnTo>
                    <a:pt x="7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7"/>
                  </a:lnTo>
                  <a:lnTo>
                    <a:pt x="31" y="7"/>
                  </a:lnTo>
                  <a:lnTo>
                    <a:pt x="39" y="7"/>
                  </a:lnTo>
                  <a:lnTo>
                    <a:pt x="46" y="15"/>
                  </a:lnTo>
                  <a:lnTo>
                    <a:pt x="54" y="15"/>
                  </a:lnTo>
                  <a:lnTo>
                    <a:pt x="62" y="23"/>
                  </a:lnTo>
                  <a:lnTo>
                    <a:pt x="62" y="31"/>
                  </a:lnTo>
                  <a:lnTo>
                    <a:pt x="70" y="39"/>
                  </a:lnTo>
                  <a:lnTo>
                    <a:pt x="78" y="39"/>
                  </a:lnTo>
                  <a:lnTo>
                    <a:pt x="85" y="46"/>
                  </a:lnTo>
                  <a:lnTo>
                    <a:pt x="93" y="54"/>
                  </a:lnTo>
                  <a:lnTo>
                    <a:pt x="101" y="70"/>
                  </a:lnTo>
                  <a:lnTo>
                    <a:pt x="109" y="78"/>
                  </a:lnTo>
                  <a:lnTo>
                    <a:pt x="109" y="85"/>
                  </a:lnTo>
                  <a:lnTo>
                    <a:pt x="117" y="101"/>
                  </a:lnTo>
                  <a:lnTo>
                    <a:pt x="124" y="109"/>
                  </a:lnTo>
                  <a:lnTo>
                    <a:pt x="132" y="124"/>
                  </a:lnTo>
                  <a:lnTo>
                    <a:pt x="140" y="132"/>
                  </a:lnTo>
                  <a:lnTo>
                    <a:pt x="148" y="148"/>
                  </a:lnTo>
                  <a:lnTo>
                    <a:pt x="148" y="163"/>
                  </a:lnTo>
                  <a:lnTo>
                    <a:pt x="156" y="179"/>
                  </a:lnTo>
                  <a:lnTo>
                    <a:pt x="163" y="194"/>
                  </a:lnTo>
                  <a:lnTo>
                    <a:pt x="171" y="218"/>
                  </a:lnTo>
                  <a:lnTo>
                    <a:pt x="179" y="233"/>
                  </a:lnTo>
                  <a:lnTo>
                    <a:pt x="187" y="257"/>
                  </a:lnTo>
                  <a:lnTo>
                    <a:pt x="195" y="272"/>
                  </a:lnTo>
                  <a:lnTo>
                    <a:pt x="195" y="296"/>
                  </a:lnTo>
                  <a:lnTo>
                    <a:pt x="202" y="319"/>
                  </a:lnTo>
                  <a:lnTo>
                    <a:pt x="210" y="350"/>
                  </a:lnTo>
                  <a:lnTo>
                    <a:pt x="218" y="374"/>
                  </a:lnTo>
                  <a:lnTo>
                    <a:pt x="226" y="405"/>
                  </a:lnTo>
                  <a:lnTo>
                    <a:pt x="234" y="436"/>
                  </a:lnTo>
                  <a:lnTo>
                    <a:pt x="241" y="467"/>
                  </a:lnTo>
                  <a:lnTo>
                    <a:pt x="241" y="498"/>
                  </a:lnTo>
                  <a:lnTo>
                    <a:pt x="249" y="537"/>
                  </a:lnTo>
                  <a:lnTo>
                    <a:pt x="257" y="576"/>
                  </a:lnTo>
                  <a:lnTo>
                    <a:pt x="265" y="623"/>
                  </a:lnTo>
                  <a:lnTo>
                    <a:pt x="273" y="670"/>
                  </a:lnTo>
                  <a:lnTo>
                    <a:pt x="280" y="724"/>
                  </a:lnTo>
                  <a:lnTo>
                    <a:pt x="280" y="787"/>
                  </a:lnTo>
                  <a:lnTo>
                    <a:pt x="288" y="849"/>
                  </a:lnTo>
                  <a:lnTo>
                    <a:pt x="296" y="927"/>
                  </a:lnTo>
                  <a:lnTo>
                    <a:pt x="304" y="1013"/>
                  </a:lnTo>
                  <a:lnTo>
                    <a:pt x="312" y="1122"/>
                  </a:lnTo>
                  <a:lnTo>
                    <a:pt x="319" y="1254"/>
                  </a:lnTo>
                  <a:lnTo>
                    <a:pt x="327" y="1433"/>
                  </a:lnTo>
                  <a:lnTo>
                    <a:pt x="327" y="1722"/>
                  </a:lnTo>
                  <a:lnTo>
                    <a:pt x="335" y="2556"/>
                  </a:lnTo>
                  <a:lnTo>
                    <a:pt x="343" y="1924"/>
                  </a:lnTo>
                  <a:lnTo>
                    <a:pt x="351" y="1558"/>
                  </a:lnTo>
                  <a:lnTo>
                    <a:pt x="358" y="1363"/>
                  </a:lnTo>
                  <a:lnTo>
                    <a:pt x="366" y="1239"/>
                  </a:lnTo>
                  <a:lnTo>
                    <a:pt x="366" y="1137"/>
                  </a:lnTo>
                  <a:lnTo>
                    <a:pt x="374" y="1059"/>
                  </a:lnTo>
                  <a:lnTo>
                    <a:pt x="382" y="997"/>
                  </a:lnTo>
                  <a:lnTo>
                    <a:pt x="390" y="950"/>
                  </a:lnTo>
                  <a:lnTo>
                    <a:pt x="397" y="904"/>
                  </a:lnTo>
                  <a:lnTo>
                    <a:pt x="405" y="872"/>
                  </a:lnTo>
                  <a:lnTo>
                    <a:pt x="413" y="841"/>
                  </a:lnTo>
                  <a:lnTo>
                    <a:pt x="413" y="810"/>
                  </a:lnTo>
                  <a:lnTo>
                    <a:pt x="421" y="787"/>
                  </a:lnTo>
                  <a:lnTo>
                    <a:pt x="429" y="771"/>
                  </a:lnTo>
                  <a:lnTo>
                    <a:pt x="436" y="755"/>
                  </a:lnTo>
                  <a:lnTo>
                    <a:pt x="444" y="740"/>
                  </a:lnTo>
                  <a:lnTo>
                    <a:pt x="452" y="724"/>
                  </a:lnTo>
                  <a:lnTo>
                    <a:pt x="452" y="717"/>
                  </a:lnTo>
                  <a:lnTo>
                    <a:pt x="460" y="709"/>
                  </a:lnTo>
                  <a:lnTo>
                    <a:pt x="468" y="709"/>
                  </a:lnTo>
                  <a:lnTo>
                    <a:pt x="475" y="701"/>
                  </a:lnTo>
                  <a:lnTo>
                    <a:pt x="483" y="701"/>
                  </a:lnTo>
                  <a:lnTo>
                    <a:pt x="491" y="701"/>
                  </a:lnTo>
                  <a:lnTo>
                    <a:pt x="499" y="701"/>
                  </a:lnTo>
                  <a:lnTo>
                    <a:pt x="499" y="709"/>
                  </a:lnTo>
                  <a:lnTo>
                    <a:pt x="507" y="709"/>
                  </a:lnTo>
                  <a:lnTo>
                    <a:pt x="514" y="717"/>
                  </a:lnTo>
                  <a:lnTo>
                    <a:pt x="522" y="724"/>
                  </a:lnTo>
                  <a:lnTo>
                    <a:pt x="530" y="740"/>
                  </a:lnTo>
                  <a:lnTo>
                    <a:pt x="538" y="748"/>
                  </a:lnTo>
                  <a:lnTo>
                    <a:pt x="538" y="763"/>
                  </a:lnTo>
                  <a:lnTo>
                    <a:pt x="546" y="779"/>
                  </a:lnTo>
                  <a:lnTo>
                    <a:pt x="553" y="794"/>
                  </a:lnTo>
                  <a:lnTo>
                    <a:pt x="561" y="818"/>
                  </a:lnTo>
                  <a:lnTo>
                    <a:pt x="569" y="841"/>
                  </a:lnTo>
                  <a:lnTo>
                    <a:pt x="577" y="865"/>
                  </a:lnTo>
                  <a:lnTo>
                    <a:pt x="585" y="888"/>
                  </a:lnTo>
                  <a:lnTo>
                    <a:pt x="585" y="919"/>
                  </a:lnTo>
                  <a:lnTo>
                    <a:pt x="592" y="950"/>
                  </a:lnTo>
                  <a:lnTo>
                    <a:pt x="600" y="989"/>
                  </a:lnTo>
                  <a:lnTo>
                    <a:pt x="608" y="1028"/>
                  </a:lnTo>
                  <a:lnTo>
                    <a:pt x="616" y="1075"/>
                  </a:lnTo>
                  <a:lnTo>
                    <a:pt x="624" y="1130"/>
                  </a:lnTo>
                  <a:lnTo>
                    <a:pt x="624" y="1184"/>
                  </a:lnTo>
                  <a:lnTo>
                    <a:pt x="631" y="1254"/>
                  </a:lnTo>
                  <a:lnTo>
                    <a:pt x="639" y="1332"/>
                  </a:lnTo>
                  <a:lnTo>
                    <a:pt x="647" y="1433"/>
                  </a:lnTo>
                  <a:lnTo>
                    <a:pt x="655" y="1550"/>
                  </a:lnTo>
                  <a:lnTo>
                    <a:pt x="663" y="1714"/>
                  </a:lnTo>
                  <a:lnTo>
                    <a:pt x="670" y="1971"/>
                  </a:lnTo>
                  <a:lnTo>
                    <a:pt x="670" y="2548"/>
                  </a:lnTo>
                  <a:lnTo>
                    <a:pt x="678" y="2369"/>
                  </a:lnTo>
                  <a:lnTo>
                    <a:pt x="686" y="1917"/>
                  </a:lnTo>
                  <a:lnTo>
                    <a:pt x="694" y="1698"/>
                  </a:lnTo>
                  <a:lnTo>
                    <a:pt x="702" y="1558"/>
                  </a:lnTo>
                  <a:lnTo>
                    <a:pt x="709" y="1449"/>
                  </a:lnTo>
                  <a:lnTo>
                    <a:pt x="717" y="1363"/>
                  </a:lnTo>
                  <a:lnTo>
                    <a:pt x="717" y="1301"/>
                  </a:lnTo>
                  <a:lnTo>
                    <a:pt x="725" y="1239"/>
                  </a:lnTo>
                  <a:lnTo>
                    <a:pt x="733" y="1192"/>
                  </a:lnTo>
                  <a:lnTo>
                    <a:pt x="741" y="1153"/>
                  </a:lnTo>
                  <a:lnTo>
                    <a:pt x="748" y="1114"/>
                  </a:lnTo>
                  <a:lnTo>
                    <a:pt x="756" y="1083"/>
                  </a:lnTo>
                  <a:lnTo>
                    <a:pt x="756" y="1059"/>
                  </a:lnTo>
                  <a:lnTo>
                    <a:pt x="764" y="1036"/>
                  </a:lnTo>
                  <a:lnTo>
                    <a:pt x="772" y="1013"/>
                  </a:lnTo>
                  <a:lnTo>
                    <a:pt x="780" y="997"/>
                  </a:lnTo>
                  <a:lnTo>
                    <a:pt x="787" y="981"/>
                  </a:lnTo>
                  <a:lnTo>
                    <a:pt x="795" y="966"/>
                  </a:lnTo>
                  <a:lnTo>
                    <a:pt x="803" y="958"/>
                  </a:lnTo>
                  <a:lnTo>
                    <a:pt x="803" y="950"/>
                  </a:lnTo>
                  <a:lnTo>
                    <a:pt x="811" y="943"/>
                  </a:lnTo>
                  <a:lnTo>
                    <a:pt x="819" y="943"/>
                  </a:lnTo>
                  <a:lnTo>
                    <a:pt x="826" y="935"/>
                  </a:lnTo>
                  <a:lnTo>
                    <a:pt x="834" y="935"/>
                  </a:lnTo>
                  <a:lnTo>
                    <a:pt x="842" y="935"/>
                  </a:lnTo>
                  <a:lnTo>
                    <a:pt x="842" y="943"/>
                  </a:lnTo>
                  <a:lnTo>
                    <a:pt x="850" y="943"/>
                  </a:lnTo>
                  <a:lnTo>
                    <a:pt x="858" y="950"/>
                  </a:lnTo>
                  <a:lnTo>
                    <a:pt x="865" y="958"/>
                  </a:lnTo>
                  <a:lnTo>
                    <a:pt x="873" y="966"/>
                  </a:lnTo>
                  <a:lnTo>
                    <a:pt x="881" y="981"/>
                  </a:lnTo>
                  <a:lnTo>
                    <a:pt x="889" y="989"/>
                  </a:lnTo>
                  <a:lnTo>
                    <a:pt x="889" y="1005"/>
                  </a:lnTo>
                  <a:lnTo>
                    <a:pt x="897" y="1020"/>
                  </a:lnTo>
                  <a:lnTo>
                    <a:pt x="904" y="1044"/>
                  </a:lnTo>
                  <a:lnTo>
                    <a:pt x="912" y="1067"/>
                  </a:lnTo>
                  <a:lnTo>
                    <a:pt x="920" y="1091"/>
                  </a:lnTo>
                  <a:lnTo>
                    <a:pt x="928" y="1114"/>
                  </a:lnTo>
                  <a:lnTo>
                    <a:pt x="928" y="1145"/>
                  </a:lnTo>
                  <a:lnTo>
                    <a:pt x="936" y="1184"/>
                  </a:lnTo>
                  <a:lnTo>
                    <a:pt x="943" y="1215"/>
                  </a:lnTo>
                  <a:lnTo>
                    <a:pt x="951" y="1262"/>
                  </a:lnTo>
                  <a:lnTo>
                    <a:pt x="959" y="1309"/>
                  </a:lnTo>
                  <a:lnTo>
                    <a:pt x="967" y="1363"/>
                  </a:lnTo>
                  <a:lnTo>
                    <a:pt x="975" y="1426"/>
                  </a:lnTo>
                  <a:lnTo>
                    <a:pt x="975" y="1504"/>
                  </a:lnTo>
                  <a:lnTo>
                    <a:pt x="982" y="1597"/>
                  </a:lnTo>
                  <a:lnTo>
                    <a:pt x="990" y="1706"/>
                  </a:lnTo>
                  <a:lnTo>
                    <a:pt x="998" y="1862"/>
                  </a:lnTo>
                  <a:lnTo>
                    <a:pt x="1006" y="2088"/>
                  </a:lnTo>
                  <a:lnTo>
                    <a:pt x="1014" y="2540"/>
                  </a:lnTo>
                  <a:lnTo>
                    <a:pt x="1014" y="2727"/>
                  </a:lnTo>
                  <a:lnTo>
                    <a:pt x="1021" y="2158"/>
                  </a:lnTo>
                  <a:lnTo>
                    <a:pt x="1029" y="1909"/>
                  </a:lnTo>
                  <a:lnTo>
                    <a:pt x="1037" y="1753"/>
                  </a:lnTo>
                  <a:lnTo>
                    <a:pt x="1045" y="1644"/>
                  </a:lnTo>
                  <a:lnTo>
                    <a:pt x="1053" y="1550"/>
                  </a:lnTo>
                  <a:lnTo>
                    <a:pt x="1060" y="1480"/>
                  </a:lnTo>
                  <a:lnTo>
                    <a:pt x="1060" y="1418"/>
                  </a:lnTo>
                  <a:lnTo>
                    <a:pt x="1068" y="1363"/>
                  </a:lnTo>
                  <a:lnTo>
                    <a:pt x="1076" y="1324"/>
                  </a:lnTo>
                  <a:lnTo>
                    <a:pt x="1084" y="1285"/>
                  </a:lnTo>
                  <a:lnTo>
                    <a:pt x="1092" y="1254"/>
                  </a:lnTo>
                  <a:lnTo>
                    <a:pt x="1099" y="1223"/>
                  </a:lnTo>
                  <a:lnTo>
                    <a:pt x="1107" y="1200"/>
                  </a:lnTo>
                  <a:lnTo>
                    <a:pt x="1107" y="1176"/>
                  </a:lnTo>
                  <a:lnTo>
                    <a:pt x="1115" y="1153"/>
                  </a:lnTo>
                  <a:lnTo>
                    <a:pt x="1123" y="1137"/>
                  </a:lnTo>
                  <a:lnTo>
                    <a:pt x="1131" y="1122"/>
                  </a:lnTo>
                  <a:lnTo>
                    <a:pt x="1138" y="1114"/>
                  </a:lnTo>
                  <a:lnTo>
                    <a:pt x="1146" y="1106"/>
                  </a:lnTo>
                  <a:lnTo>
                    <a:pt x="1146" y="1098"/>
                  </a:lnTo>
                  <a:lnTo>
                    <a:pt x="1154" y="1091"/>
                  </a:lnTo>
                  <a:lnTo>
                    <a:pt x="1162" y="1083"/>
                  </a:lnTo>
                  <a:lnTo>
                    <a:pt x="1170" y="1083"/>
                  </a:lnTo>
                  <a:lnTo>
                    <a:pt x="1177" y="1083"/>
                  </a:lnTo>
                  <a:lnTo>
                    <a:pt x="1185" y="1083"/>
                  </a:lnTo>
                  <a:lnTo>
                    <a:pt x="1193" y="1083"/>
                  </a:lnTo>
                  <a:lnTo>
                    <a:pt x="1193" y="1091"/>
                  </a:lnTo>
                  <a:lnTo>
                    <a:pt x="1201" y="1098"/>
                  </a:lnTo>
                  <a:lnTo>
                    <a:pt x="1209" y="1106"/>
                  </a:lnTo>
                  <a:lnTo>
                    <a:pt x="1216" y="1114"/>
                  </a:lnTo>
                  <a:lnTo>
                    <a:pt x="1224" y="1130"/>
                  </a:lnTo>
                  <a:lnTo>
                    <a:pt x="1232" y="1137"/>
                  </a:lnTo>
                  <a:lnTo>
                    <a:pt x="1232" y="1153"/>
                  </a:lnTo>
                  <a:lnTo>
                    <a:pt x="1240" y="1176"/>
                  </a:lnTo>
                  <a:lnTo>
                    <a:pt x="1248" y="1192"/>
                  </a:lnTo>
                  <a:lnTo>
                    <a:pt x="1255" y="1215"/>
                  </a:lnTo>
                  <a:lnTo>
                    <a:pt x="1263" y="1239"/>
                  </a:lnTo>
                  <a:lnTo>
                    <a:pt x="1271" y="1270"/>
                  </a:lnTo>
                  <a:lnTo>
                    <a:pt x="1279" y="1301"/>
                  </a:lnTo>
                  <a:lnTo>
                    <a:pt x="1279" y="1340"/>
                  </a:lnTo>
                  <a:lnTo>
                    <a:pt x="1287" y="1379"/>
                  </a:lnTo>
                  <a:lnTo>
                    <a:pt x="1294" y="1426"/>
                  </a:lnTo>
                  <a:lnTo>
                    <a:pt x="1302" y="1480"/>
                  </a:lnTo>
                  <a:lnTo>
                    <a:pt x="1310" y="1543"/>
                  </a:lnTo>
                  <a:lnTo>
                    <a:pt x="1318" y="1613"/>
                  </a:lnTo>
                  <a:lnTo>
                    <a:pt x="1318" y="1698"/>
                  </a:lnTo>
                  <a:lnTo>
                    <a:pt x="1326" y="1808"/>
                  </a:lnTo>
                  <a:lnTo>
                    <a:pt x="1333" y="1948"/>
                  </a:lnTo>
                  <a:lnTo>
                    <a:pt x="1341" y="2150"/>
                  </a:lnTo>
                  <a:lnTo>
                    <a:pt x="1349" y="2524"/>
                  </a:lnTo>
                  <a:lnTo>
                    <a:pt x="1349" y="3031"/>
                  </a:lnTo>
                </a:path>
              </a:pathLst>
            </a:custGeom>
            <a:noFill/>
            <a:ln cap="rnd" w="25560">
              <a:solidFill>
                <a:srgbClr val="abff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3730680" y="3924360"/>
              <a:ext cx="520560" cy="2933640"/>
            </a:xfrm>
            <a:custGeom>
              <a:avLst/>
              <a:gdLst/>
              <a:ahLst/>
              <a:rect l="l" t="t" r="r" b="b"/>
              <a:pathLst>
                <a:path w="328" h="1848">
                  <a:moveTo>
                    <a:pt x="0" y="1847"/>
                  </a:moveTo>
                  <a:lnTo>
                    <a:pt x="8" y="1161"/>
                  </a:lnTo>
                  <a:lnTo>
                    <a:pt x="8" y="881"/>
                  </a:lnTo>
                  <a:lnTo>
                    <a:pt x="15" y="717"/>
                  </a:lnTo>
                  <a:lnTo>
                    <a:pt x="23" y="592"/>
                  </a:lnTo>
                  <a:lnTo>
                    <a:pt x="31" y="499"/>
                  </a:lnTo>
                  <a:lnTo>
                    <a:pt x="39" y="421"/>
                  </a:lnTo>
                  <a:lnTo>
                    <a:pt x="47" y="359"/>
                  </a:lnTo>
                  <a:lnTo>
                    <a:pt x="47" y="304"/>
                  </a:lnTo>
                  <a:lnTo>
                    <a:pt x="54" y="257"/>
                  </a:lnTo>
                  <a:lnTo>
                    <a:pt x="62" y="218"/>
                  </a:lnTo>
                  <a:lnTo>
                    <a:pt x="70" y="187"/>
                  </a:lnTo>
                  <a:lnTo>
                    <a:pt x="78" y="156"/>
                  </a:lnTo>
                  <a:lnTo>
                    <a:pt x="86" y="125"/>
                  </a:lnTo>
                  <a:lnTo>
                    <a:pt x="93" y="101"/>
                  </a:lnTo>
                  <a:lnTo>
                    <a:pt x="93" y="86"/>
                  </a:lnTo>
                  <a:lnTo>
                    <a:pt x="101" y="62"/>
                  </a:lnTo>
                  <a:lnTo>
                    <a:pt x="109" y="47"/>
                  </a:lnTo>
                  <a:lnTo>
                    <a:pt x="117" y="39"/>
                  </a:lnTo>
                  <a:lnTo>
                    <a:pt x="125" y="23"/>
                  </a:lnTo>
                  <a:lnTo>
                    <a:pt x="132" y="16"/>
                  </a:lnTo>
                  <a:lnTo>
                    <a:pt x="140" y="8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1" y="0"/>
                  </a:lnTo>
                  <a:lnTo>
                    <a:pt x="179" y="8"/>
                  </a:lnTo>
                  <a:lnTo>
                    <a:pt x="187" y="16"/>
                  </a:lnTo>
                  <a:lnTo>
                    <a:pt x="195" y="23"/>
                  </a:lnTo>
                  <a:lnTo>
                    <a:pt x="203" y="39"/>
                  </a:lnTo>
                  <a:lnTo>
                    <a:pt x="210" y="47"/>
                  </a:lnTo>
                  <a:lnTo>
                    <a:pt x="218" y="62"/>
                  </a:lnTo>
                  <a:lnTo>
                    <a:pt x="226" y="78"/>
                  </a:lnTo>
                  <a:lnTo>
                    <a:pt x="226" y="101"/>
                  </a:lnTo>
                  <a:lnTo>
                    <a:pt x="234" y="125"/>
                  </a:lnTo>
                  <a:lnTo>
                    <a:pt x="242" y="148"/>
                  </a:lnTo>
                  <a:lnTo>
                    <a:pt x="249" y="172"/>
                  </a:lnTo>
                  <a:lnTo>
                    <a:pt x="257" y="203"/>
                  </a:lnTo>
                  <a:lnTo>
                    <a:pt x="265" y="242"/>
                  </a:lnTo>
                  <a:lnTo>
                    <a:pt x="265" y="281"/>
                  </a:lnTo>
                  <a:lnTo>
                    <a:pt x="273" y="320"/>
                  </a:lnTo>
                  <a:lnTo>
                    <a:pt x="281" y="374"/>
                  </a:lnTo>
                  <a:lnTo>
                    <a:pt x="288" y="436"/>
                  </a:lnTo>
                  <a:lnTo>
                    <a:pt x="296" y="499"/>
                  </a:lnTo>
                  <a:lnTo>
                    <a:pt x="304" y="585"/>
                  </a:lnTo>
                  <a:lnTo>
                    <a:pt x="312" y="686"/>
                  </a:lnTo>
                  <a:lnTo>
                    <a:pt x="312" y="818"/>
                  </a:lnTo>
                  <a:lnTo>
                    <a:pt x="320" y="1005"/>
                  </a:lnTo>
                  <a:lnTo>
                    <a:pt x="327" y="1325"/>
                  </a:lnTo>
                </a:path>
              </a:pathLst>
            </a:custGeom>
            <a:noFill/>
            <a:ln cap="rnd" w="25560">
              <a:solidFill>
                <a:srgbClr val="abff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4275000" y="4035600"/>
              <a:ext cx="509760" cy="2822400"/>
            </a:xfrm>
            <a:custGeom>
              <a:avLst/>
              <a:gdLst/>
              <a:ahLst/>
              <a:rect l="l" t="t" r="r" b="b"/>
              <a:pathLst>
                <a:path w="321" h="1778">
                  <a:moveTo>
                    <a:pt x="0" y="1255"/>
                  </a:moveTo>
                  <a:lnTo>
                    <a:pt x="8" y="943"/>
                  </a:lnTo>
                  <a:lnTo>
                    <a:pt x="8" y="756"/>
                  </a:lnTo>
                  <a:lnTo>
                    <a:pt x="16" y="624"/>
                  </a:lnTo>
                  <a:lnTo>
                    <a:pt x="23" y="530"/>
                  </a:lnTo>
                  <a:lnTo>
                    <a:pt x="31" y="452"/>
                  </a:lnTo>
                  <a:lnTo>
                    <a:pt x="39" y="382"/>
                  </a:lnTo>
                  <a:lnTo>
                    <a:pt x="47" y="328"/>
                  </a:lnTo>
                  <a:lnTo>
                    <a:pt x="55" y="281"/>
                  </a:lnTo>
                  <a:lnTo>
                    <a:pt x="55" y="234"/>
                  </a:lnTo>
                  <a:lnTo>
                    <a:pt x="62" y="203"/>
                  </a:lnTo>
                  <a:lnTo>
                    <a:pt x="70" y="172"/>
                  </a:lnTo>
                  <a:lnTo>
                    <a:pt x="78" y="141"/>
                  </a:lnTo>
                  <a:lnTo>
                    <a:pt x="86" y="117"/>
                  </a:lnTo>
                  <a:lnTo>
                    <a:pt x="94" y="94"/>
                  </a:lnTo>
                  <a:lnTo>
                    <a:pt x="94" y="78"/>
                  </a:lnTo>
                  <a:lnTo>
                    <a:pt x="101" y="63"/>
                  </a:lnTo>
                  <a:lnTo>
                    <a:pt x="109" y="47"/>
                  </a:lnTo>
                  <a:lnTo>
                    <a:pt x="117" y="31"/>
                  </a:lnTo>
                  <a:lnTo>
                    <a:pt x="125" y="24"/>
                  </a:lnTo>
                  <a:lnTo>
                    <a:pt x="133" y="16"/>
                  </a:lnTo>
                  <a:lnTo>
                    <a:pt x="140" y="8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2" y="8"/>
                  </a:lnTo>
                  <a:lnTo>
                    <a:pt x="179" y="8"/>
                  </a:lnTo>
                  <a:lnTo>
                    <a:pt x="179" y="16"/>
                  </a:lnTo>
                  <a:lnTo>
                    <a:pt x="187" y="24"/>
                  </a:lnTo>
                  <a:lnTo>
                    <a:pt x="195" y="31"/>
                  </a:lnTo>
                  <a:lnTo>
                    <a:pt x="203" y="47"/>
                  </a:lnTo>
                  <a:lnTo>
                    <a:pt x="211" y="63"/>
                  </a:lnTo>
                  <a:lnTo>
                    <a:pt x="218" y="78"/>
                  </a:lnTo>
                  <a:lnTo>
                    <a:pt x="226" y="94"/>
                  </a:lnTo>
                  <a:lnTo>
                    <a:pt x="226" y="117"/>
                  </a:lnTo>
                  <a:lnTo>
                    <a:pt x="234" y="141"/>
                  </a:lnTo>
                  <a:lnTo>
                    <a:pt x="242" y="164"/>
                  </a:lnTo>
                  <a:lnTo>
                    <a:pt x="250" y="195"/>
                  </a:lnTo>
                  <a:lnTo>
                    <a:pt x="257" y="226"/>
                  </a:lnTo>
                  <a:lnTo>
                    <a:pt x="265" y="265"/>
                  </a:lnTo>
                  <a:lnTo>
                    <a:pt x="273" y="312"/>
                  </a:lnTo>
                  <a:lnTo>
                    <a:pt x="273" y="359"/>
                  </a:lnTo>
                  <a:lnTo>
                    <a:pt x="281" y="413"/>
                  </a:lnTo>
                  <a:lnTo>
                    <a:pt x="289" y="483"/>
                  </a:lnTo>
                  <a:lnTo>
                    <a:pt x="296" y="561"/>
                  </a:lnTo>
                  <a:lnTo>
                    <a:pt x="304" y="655"/>
                  </a:lnTo>
                  <a:lnTo>
                    <a:pt x="312" y="780"/>
                  </a:lnTo>
                  <a:lnTo>
                    <a:pt x="312" y="951"/>
                  </a:lnTo>
                  <a:lnTo>
                    <a:pt x="320" y="1232"/>
                  </a:lnTo>
                  <a:lnTo>
                    <a:pt x="320" y="1777"/>
                  </a:lnTo>
                </a:path>
              </a:pathLst>
            </a:custGeom>
            <a:noFill/>
            <a:ln cap="rnd" w="25560">
              <a:solidFill>
                <a:srgbClr val="abff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4795920" y="4122720"/>
              <a:ext cx="533160" cy="2735280"/>
            </a:xfrm>
            <a:custGeom>
              <a:avLst/>
              <a:gdLst/>
              <a:ahLst/>
              <a:rect l="l" t="t" r="r" b="b"/>
              <a:pathLst>
                <a:path w="336" h="1723">
                  <a:moveTo>
                    <a:pt x="0" y="1722"/>
                  </a:moveTo>
                  <a:lnTo>
                    <a:pt x="7" y="1371"/>
                  </a:lnTo>
                  <a:lnTo>
                    <a:pt x="15" y="997"/>
                  </a:lnTo>
                  <a:lnTo>
                    <a:pt x="23" y="795"/>
                  </a:lnTo>
                  <a:lnTo>
                    <a:pt x="31" y="654"/>
                  </a:lnTo>
                  <a:lnTo>
                    <a:pt x="31" y="553"/>
                  </a:lnTo>
                  <a:lnTo>
                    <a:pt x="39" y="467"/>
                  </a:lnTo>
                  <a:lnTo>
                    <a:pt x="46" y="397"/>
                  </a:lnTo>
                  <a:lnTo>
                    <a:pt x="54" y="343"/>
                  </a:lnTo>
                  <a:lnTo>
                    <a:pt x="62" y="288"/>
                  </a:lnTo>
                  <a:lnTo>
                    <a:pt x="70" y="249"/>
                  </a:lnTo>
                  <a:lnTo>
                    <a:pt x="70" y="210"/>
                  </a:lnTo>
                  <a:lnTo>
                    <a:pt x="78" y="179"/>
                  </a:lnTo>
                  <a:lnTo>
                    <a:pt x="85" y="148"/>
                  </a:lnTo>
                  <a:lnTo>
                    <a:pt x="93" y="124"/>
                  </a:lnTo>
                  <a:lnTo>
                    <a:pt x="101" y="101"/>
                  </a:lnTo>
                  <a:lnTo>
                    <a:pt x="109" y="78"/>
                  </a:lnTo>
                  <a:lnTo>
                    <a:pt x="117" y="62"/>
                  </a:lnTo>
                  <a:lnTo>
                    <a:pt x="117" y="47"/>
                  </a:lnTo>
                  <a:lnTo>
                    <a:pt x="124" y="39"/>
                  </a:lnTo>
                  <a:lnTo>
                    <a:pt x="132" y="23"/>
                  </a:lnTo>
                  <a:lnTo>
                    <a:pt x="140" y="15"/>
                  </a:lnTo>
                  <a:lnTo>
                    <a:pt x="148" y="8"/>
                  </a:lnTo>
                  <a:lnTo>
                    <a:pt x="156" y="8"/>
                  </a:lnTo>
                  <a:lnTo>
                    <a:pt x="156" y="0"/>
                  </a:lnTo>
                  <a:lnTo>
                    <a:pt x="163" y="0"/>
                  </a:lnTo>
                  <a:lnTo>
                    <a:pt x="171" y="0"/>
                  </a:lnTo>
                  <a:lnTo>
                    <a:pt x="179" y="0"/>
                  </a:lnTo>
                  <a:lnTo>
                    <a:pt x="187" y="8"/>
                  </a:lnTo>
                  <a:lnTo>
                    <a:pt x="195" y="15"/>
                  </a:lnTo>
                  <a:lnTo>
                    <a:pt x="202" y="15"/>
                  </a:lnTo>
                  <a:lnTo>
                    <a:pt x="202" y="31"/>
                  </a:lnTo>
                  <a:lnTo>
                    <a:pt x="210" y="39"/>
                  </a:lnTo>
                  <a:lnTo>
                    <a:pt x="218" y="54"/>
                  </a:lnTo>
                  <a:lnTo>
                    <a:pt x="226" y="70"/>
                  </a:lnTo>
                  <a:lnTo>
                    <a:pt x="234" y="86"/>
                  </a:lnTo>
                  <a:lnTo>
                    <a:pt x="241" y="109"/>
                  </a:lnTo>
                  <a:lnTo>
                    <a:pt x="241" y="124"/>
                  </a:lnTo>
                  <a:lnTo>
                    <a:pt x="249" y="156"/>
                  </a:lnTo>
                  <a:lnTo>
                    <a:pt x="257" y="179"/>
                  </a:lnTo>
                  <a:lnTo>
                    <a:pt x="265" y="218"/>
                  </a:lnTo>
                  <a:lnTo>
                    <a:pt x="273" y="249"/>
                  </a:lnTo>
                  <a:lnTo>
                    <a:pt x="280" y="296"/>
                  </a:lnTo>
                  <a:lnTo>
                    <a:pt x="288" y="343"/>
                  </a:lnTo>
                  <a:lnTo>
                    <a:pt x="288" y="397"/>
                  </a:lnTo>
                  <a:lnTo>
                    <a:pt x="296" y="460"/>
                  </a:lnTo>
                  <a:lnTo>
                    <a:pt x="304" y="537"/>
                  </a:lnTo>
                  <a:lnTo>
                    <a:pt x="312" y="623"/>
                  </a:lnTo>
                  <a:lnTo>
                    <a:pt x="319" y="748"/>
                  </a:lnTo>
                  <a:lnTo>
                    <a:pt x="327" y="904"/>
                  </a:lnTo>
                  <a:lnTo>
                    <a:pt x="335" y="1153"/>
                  </a:lnTo>
                  <a:lnTo>
                    <a:pt x="335" y="1722"/>
                  </a:lnTo>
                </a:path>
              </a:pathLst>
            </a:custGeom>
            <a:noFill/>
            <a:ln cap="rnd" w="25560">
              <a:solidFill>
                <a:srgbClr val="abff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5327640" y="4184640"/>
              <a:ext cx="546120" cy="2673360"/>
            </a:xfrm>
            <a:custGeom>
              <a:avLst/>
              <a:gdLst/>
              <a:ahLst/>
              <a:rect l="l" t="t" r="r" b="b"/>
              <a:pathLst>
                <a:path w="344" h="1684">
                  <a:moveTo>
                    <a:pt x="0" y="1683"/>
                  </a:moveTo>
                  <a:lnTo>
                    <a:pt x="8" y="1504"/>
                  </a:lnTo>
                  <a:lnTo>
                    <a:pt x="16" y="1052"/>
                  </a:lnTo>
                  <a:lnTo>
                    <a:pt x="23" y="834"/>
                  </a:lnTo>
                  <a:lnTo>
                    <a:pt x="31" y="686"/>
                  </a:lnTo>
                  <a:lnTo>
                    <a:pt x="39" y="576"/>
                  </a:lnTo>
                  <a:lnTo>
                    <a:pt x="39" y="491"/>
                  </a:lnTo>
                  <a:lnTo>
                    <a:pt x="47" y="413"/>
                  </a:lnTo>
                  <a:lnTo>
                    <a:pt x="55" y="358"/>
                  </a:lnTo>
                  <a:lnTo>
                    <a:pt x="62" y="304"/>
                  </a:lnTo>
                  <a:lnTo>
                    <a:pt x="70" y="257"/>
                  </a:lnTo>
                  <a:lnTo>
                    <a:pt x="78" y="218"/>
                  </a:lnTo>
                  <a:lnTo>
                    <a:pt x="86" y="187"/>
                  </a:lnTo>
                  <a:lnTo>
                    <a:pt x="86" y="156"/>
                  </a:lnTo>
                  <a:lnTo>
                    <a:pt x="94" y="132"/>
                  </a:lnTo>
                  <a:lnTo>
                    <a:pt x="101" y="109"/>
                  </a:lnTo>
                  <a:lnTo>
                    <a:pt x="109" y="85"/>
                  </a:lnTo>
                  <a:lnTo>
                    <a:pt x="117" y="70"/>
                  </a:lnTo>
                  <a:lnTo>
                    <a:pt x="125" y="54"/>
                  </a:lnTo>
                  <a:lnTo>
                    <a:pt x="125" y="39"/>
                  </a:lnTo>
                  <a:lnTo>
                    <a:pt x="133" y="23"/>
                  </a:lnTo>
                  <a:lnTo>
                    <a:pt x="140" y="15"/>
                  </a:lnTo>
                  <a:lnTo>
                    <a:pt x="148" y="8"/>
                  </a:lnTo>
                  <a:lnTo>
                    <a:pt x="156" y="8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79" y="0"/>
                  </a:lnTo>
                  <a:lnTo>
                    <a:pt x="187" y="0"/>
                  </a:lnTo>
                  <a:lnTo>
                    <a:pt x="195" y="8"/>
                  </a:lnTo>
                  <a:lnTo>
                    <a:pt x="203" y="15"/>
                  </a:lnTo>
                  <a:lnTo>
                    <a:pt x="211" y="23"/>
                  </a:lnTo>
                  <a:lnTo>
                    <a:pt x="211" y="31"/>
                  </a:lnTo>
                  <a:lnTo>
                    <a:pt x="218" y="47"/>
                  </a:lnTo>
                  <a:lnTo>
                    <a:pt x="226" y="62"/>
                  </a:lnTo>
                  <a:lnTo>
                    <a:pt x="234" y="78"/>
                  </a:lnTo>
                  <a:lnTo>
                    <a:pt x="242" y="93"/>
                  </a:lnTo>
                  <a:lnTo>
                    <a:pt x="250" y="117"/>
                  </a:lnTo>
                  <a:lnTo>
                    <a:pt x="257" y="140"/>
                  </a:lnTo>
                  <a:lnTo>
                    <a:pt x="257" y="171"/>
                  </a:lnTo>
                  <a:lnTo>
                    <a:pt x="265" y="202"/>
                  </a:lnTo>
                  <a:lnTo>
                    <a:pt x="273" y="241"/>
                  </a:lnTo>
                  <a:lnTo>
                    <a:pt x="281" y="280"/>
                  </a:lnTo>
                  <a:lnTo>
                    <a:pt x="289" y="327"/>
                  </a:lnTo>
                  <a:lnTo>
                    <a:pt x="296" y="374"/>
                  </a:lnTo>
                  <a:lnTo>
                    <a:pt x="296" y="436"/>
                  </a:lnTo>
                  <a:lnTo>
                    <a:pt x="304" y="514"/>
                  </a:lnTo>
                  <a:lnTo>
                    <a:pt x="312" y="600"/>
                  </a:lnTo>
                  <a:lnTo>
                    <a:pt x="320" y="709"/>
                  </a:lnTo>
                  <a:lnTo>
                    <a:pt x="328" y="857"/>
                  </a:lnTo>
                  <a:lnTo>
                    <a:pt x="335" y="1083"/>
                  </a:lnTo>
                  <a:lnTo>
                    <a:pt x="343" y="1535"/>
                  </a:lnTo>
                  <a:lnTo>
                    <a:pt x="343" y="1683"/>
                  </a:lnTo>
                </a:path>
              </a:pathLst>
            </a:custGeom>
            <a:noFill/>
            <a:ln cap="rnd" w="25560">
              <a:solidFill>
                <a:srgbClr val="abff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5872320" y="4221000"/>
              <a:ext cx="534960" cy="2637000"/>
            </a:xfrm>
            <a:custGeom>
              <a:avLst/>
              <a:gdLst/>
              <a:ahLst/>
              <a:rect l="l" t="t" r="r" b="b"/>
              <a:pathLst>
                <a:path w="337" h="1661">
                  <a:moveTo>
                    <a:pt x="0" y="1660"/>
                  </a:moveTo>
                  <a:lnTo>
                    <a:pt x="8" y="1122"/>
                  </a:lnTo>
                  <a:lnTo>
                    <a:pt x="16" y="873"/>
                  </a:lnTo>
                  <a:lnTo>
                    <a:pt x="24" y="717"/>
                  </a:lnTo>
                  <a:lnTo>
                    <a:pt x="31" y="600"/>
                  </a:lnTo>
                  <a:lnTo>
                    <a:pt x="39" y="507"/>
                  </a:lnTo>
                  <a:lnTo>
                    <a:pt x="47" y="437"/>
                  </a:lnTo>
                  <a:lnTo>
                    <a:pt x="47" y="374"/>
                  </a:lnTo>
                  <a:lnTo>
                    <a:pt x="55" y="320"/>
                  </a:lnTo>
                  <a:lnTo>
                    <a:pt x="63" y="273"/>
                  </a:lnTo>
                  <a:lnTo>
                    <a:pt x="70" y="234"/>
                  </a:lnTo>
                  <a:lnTo>
                    <a:pt x="78" y="195"/>
                  </a:lnTo>
                  <a:lnTo>
                    <a:pt x="86" y="164"/>
                  </a:lnTo>
                  <a:lnTo>
                    <a:pt x="86" y="140"/>
                  </a:lnTo>
                  <a:lnTo>
                    <a:pt x="94" y="117"/>
                  </a:lnTo>
                  <a:lnTo>
                    <a:pt x="102" y="94"/>
                  </a:lnTo>
                  <a:lnTo>
                    <a:pt x="109" y="70"/>
                  </a:lnTo>
                  <a:lnTo>
                    <a:pt x="117" y="55"/>
                  </a:lnTo>
                  <a:lnTo>
                    <a:pt x="125" y="39"/>
                  </a:lnTo>
                  <a:lnTo>
                    <a:pt x="133" y="31"/>
                  </a:lnTo>
                  <a:lnTo>
                    <a:pt x="133" y="24"/>
                  </a:lnTo>
                  <a:lnTo>
                    <a:pt x="141" y="16"/>
                  </a:lnTo>
                  <a:lnTo>
                    <a:pt x="148" y="8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80" y="0"/>
                  </a:lnTo>
                  <a:lnTo>
                    <a:pt x="187" y="8"/>
                  </a:lnTo>
                  <a:lnTo>
                    <a:pt x="195" y="16"/>
                  </a:lnTo>
                  <a:lnTo>
                    <a:pt x="203" y="24"/>
                  </a:lnTo>
                  <a:lnTo>
                    <a:pt x="211" y="31"/>
                  </a:lnTo>
                  <a:lnTo>
                    <a:pt x="219" y="39"/>
                  </a:lnTo>
                  <a:lnTo>
                    <a:pt x="219" y="55"/>
                  </a:lnTo>
                  <a:lnTo>
                    <a:pt x="226" y="70"/>
                  </a:lnTo>
                  <a:lnTo>
                    <a:pt x="234" y="94"/>
                  </a:lnTo>
                  <a:lnTo>
                    <a:pt x="242" y="109"/>
                  </a:lnTo>
                  <a:lnTo>
                    <a:pt x="250" y="133"/>
                  </a:lnTo>
                  <a:lnTo>
                    <a:pt x="258" y="164"/>
                  </a:lnTo>
                  <a:lnTo>
                    <a:pt x="258" y="195"/>
                  </a:lnTo>
                  <a:lnTo>
                    <a:pt x="265" y="226"/>
                  </a:lnTo>
                  <a:lnTo>
                    <a:pt x="273" y="265"/>
                  </a:lnTo>
                  <a:lnTo>
                    <a:pt x="281" y="312"/>
                  </a:lnTo>
                  <a:lnTo>
                    <a:pt x="289" y="359"/>
                  </a:lnTo>
                  <a:lnTo>
                    <a:pt x="297" y="421"/>
                  </a:lnTo>
                  <a:lnTo>
                    <a:pt x="304" y="491"/>
                  </a:lnTo>
                  <a:lnTo>
                    <a:pt x="304" y="577"/>
                  </a:lnTo>
                  <a:lnTo>
                    <a:pt x="312" y="678"/>
                  </a:lnTo>
                  <a:lnTo>
                    <a:pt x="320" y="818"/>
                  </a:lnTo>
                  <a:lnTo>
                    <a:pt x="328" y="1021"/>
                  </a:lnTo>
                  <a:lnTo>
                    <a:pt x="336" y="1395"/>
                  </a:lnTo>
                  <a:lnTo>
                    <a:pt x="336" y="1660"/>
                  </a:lnTo>
                </a:path>
              </a:pathLst>
            </a:custGeom>
            <a:noFill/>
            <a:ln cap="rnd" w="25560">
              <a:solidFill>
                <a:srgbClr val="abff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416640" y="4233960"/>
              <a:ext cx="522360" cy="2624040"/>
            </a:xfrm>
            <a:custGeom>
              <a:avLst/>
              <a:gdLst/>
              <a:ahLst/>
              <a:rect l="l" t="t" r="r" b="b"/>
              <a:pathLst>
                <a:path w="329" h="1653">
                  <a:moveTo>
                    <a:pt x="0" y="1652"/>
                  </a:moveTo>
                  <a:lnTo>
                    <a:pt x="0" y="1200"/>
                  </a:lnTo>
                  <a:lnTo>
                    <a:pt x="8" y="927"/>
                  </a:lnTo>
                  <a:lnTo>
                    <a:pt x="16" y="756"/>
                  </a:lnTo>
                  <a:lnTo>
                    <a:pt x="24" y="631"/>
                  </a:lnTo>
                  <a:lnTo>
                    <a:pt x="32" y="538"/>
                  </a:lnTo>
                  <a:lnTo>
                    <a:pt x="39" y="460"/>
                  </a:lnTo>
                  <a:lnTo>
                    <a:pt x="47" y="390"/>
                  </a:lnTo>
                  <a:lnTo>
                    <a:pt x="47" y="335"/>
                  </a:lnTo>
                  <a:lnTo>
                    <a:pt x="55" y="288"/>
                  </a:lnTo>
                  <a:lnTo>
                    <a:pt x="63" y="249"/>
                  </a:lnTo>
                  <a:lnTo>
                    <a:pt x="71" y="210"/>
                  </a:lnTo>
                  <a:lnTo>
                    <a:pt x="78" y="179"/>
                  </a:lnTo>
                  <a:lnTo>
                    <a:pt x="86" y="148"/>
                  </a:lnTo>
                  <a:lnTo>
                    <a:pt x="86" y="125"/>
                  </a:lnTo>
                  <a:lnTo>
                    <a:pt x="94" y="101"/>
                  </a:lnTo>
                  <a:lnTo>
                    <a:pt x="102" y="86"/>
                  </a:lnTo>
                  <a:lnTo>
                    <a:pt x="110" y="62"/>
                  </a:lnTo>
                  <a:lnTo>
                    <a:pt x="117" y="47"/>
                  </a:lnTo>
                  <a:lnTo>
                    <a:pt x="125" y="39"/>
                  </a:lnTo>
                  <a:lnTo>
                    <a:pt x="133" y="31"/>
                  </a:lnTo>
                  <a:lnTo>
                    <a:pt x="133" y="16"/>
                  </a:lnTo>
                  <a:lnTo>
                    <a:pt x="141" y="16"/>
                  </a:lnTo>
                  <a:lnTo>
                    <a:pt x="149" y="8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80" y="8"/>
                  </a:lnTo>
                  <a:lnTo>
                    <a:pt x="188" y="16"/>
                  </a:lnTo>
                  <a:lnTo>
                    <a:pt x="195" y="23"/>
                  </a:lnTo>
                  <a:lnTo>
                    <a:pt x="203" y="31"/>
                  </a:lnTo>
                  <a:lnTo>
                    <a:pt x="211" y="39"/>
                  </a:lnTo>
                  <a:lnTo>
                    <a:pt x="219" y="54"/>
                  </a:lnTo>
                  <a:lnTo>
                    <a:pt x="219" y="70"/>
                  </a:lnTo>
                  <a:lnTo>
                    <a:pt x="227" y="86"/>
                  </a:lnTo>
                  <a:lnTo>
                    <a:pt x="234" y="109"/>
                  </a:lnTo>
                  <a:lnTo>
                    <a:pt x="242" y="132"/>
                  </a:lnTo>
                  <a:lnTo>
                    <a:pt x="250" y="156"/>
                  </a:lnTo>
                  <a:lnTo>
                    <a:pt x="258" y="187"/>
                  </a:lnTo>
                  <a:lnTo>
                    <a:pt x="266" y="218"/>
                  </a:lnTo>
                  <a:lnTo>
                    <a:pt x="266" y="257"/>
                  </a:lnTo>
                  <a:lnTo>
                    <a:pt x="273" y="304"/>
                  </a:lnTo>
                  <a:lnTo>
                    <a:pt x="281" y="351"/>
                  </a:lnTo>
                  <a:lnTo>
                    <a:pt x="289" y="405"/>
                  </a:lnTo>
                  <a:lnTo>
                    <a:pt x="297" y="475"/>
                  </a:lnTo>
                  <a:lnTo>
                    <a:pt x="305" y="553"/>
                  </a:lnTo>
                  <a:lnTo>
                    <a:pt x="305" y="655"/>
                  </a:lnTo>
                  <a:lnTo>
                    <a:pt x="312" y="787"/>
                  </a:lnTo>
                  <a:lnTo>
                    <a:pt x="320" y="974"/>
                  </a:lnTo>
                  <a:lnTo>
                    <a:pt x="328" y="1294"/>
                  </a:lnTo>
                </a:path>
              </a:pathLst>
            </a:custGeom>
            <a:noFill/>
            <a:ln cap="rnd" w="25560">
              <a:solidFill>
                <a:srgbClr val="abff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20" name=""/>
          <p:cNvGrpSpPr/>
          <p:nvPr/>
        </p:nvGrpSpPr>
        <p:grpSpPr>
          <a:xfrm>
            <a:off x="1576440" y="2044800"/>
            <a:ext cx="5300640" cy="4813200"/>
            <a:chOff x="1576440" y="2044800"/>
            <a:chExt cx="5300640" cy="4813200"/>
          </a:xfrm>
        </p:grpSpPr>
        <p:sp>
          <p:nvSpPr>
            <p:cNvPr id="3621" name=""/>
            <p:cNvSpPr/>
            <p:nvPr/>
          </p:nvSpPr>
          <p:spPr>
            <a:xfrm>
              <a:off x="1576440" y="2044800"/>
              <a:ext cx="3319560" cy="4813200"/>
            </a:xfrm>
            <a:custGeom>
              <a:avLst/>
              <a:gdLst/>
              <a:ahLst/>
              <a:rect l="l" t="t" r="r" b="b"/>
              <a:pathLst>
                <a:path w="2091" h="3032">
                  <a:moveTo>
                    <a:pt x="0" y="0"/>
                  </a:moveTo>
                  <a:lnTo>
                    <a:pt x="7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7"/>
                  </a:lnTo>
                  <a:lnTo>
                    <a:pt x="31" y="7"/>
                  </a:lnTo>
                  <a:lnTo>
                    <a:pt x="39" y="7"/>
                  </a:lnTo>
                  <a:lnTo>
                    <a:pt x="46" y="15"/>
                  </a:lnTo>
                  <a:lnTo>
                    <a:pt x="54" y="15"/>
                  </a:lnTo>
                  <a:lnTo>
                    <a:pt x="62" y="23"/>
                  </a:lnTo>
                  <a:lnTo>
                    <a:pt x="70" y="31"/>
                  </a:lnTo>
                  <a:lnTo>
                    <a:pt x="78" y="39"/>
                  </a:lnTo>
                  <a:lnTo>
                    <a:pt x="85" y="46"/>
                  </a:lnTo>
                  <a:lnTo>
                    <a:pt x="93" y="46"/>
                  </a:lnTo>
                  <a:lnTo>
                    <a:pt x="101" y="54"/>
                  </a:lnTo>
                  <a:lnTo>
                    <a:pt x="109" y="62"/>
                  </a:lnTo>
                  <a:lnTo>
                    <a:pt x="109" y="78"/>
                  </a:lnTo>
                  <a:lnTo>
                    <a:pt x="117" y="85"/>
                  </a:lnTo>
                  <a:lnTo>
                    <a:pt x="124" y="93"/>
                  </a:lnTo>
                  <a:lnTo>
                    <a:pt x="132" y="101"/>
                  </a:lnTo>
                  <a:lnTo>
                    <a:pt x="140" y="116"/>
                  </a:lnTo>
                  <a:lnTo>
                    <a:pt x="148" y="124"/>
                  </a:lnTo>
                  <a:lnTo>
                    <a:pt x="148" y="140"/>
                  </a:lnTo>
                  <a:lnTo>
                    <a:pt x="156" y="155"/>
                  </a:lnTo>
                  <a:lnTo>
                    <a:pt x="163" y="171"/>
                  </a:lnTo>
                  <a:lnTo>
                    <a:pt x="171" y="187"/>
                  </a:lnTo>
                  <a:lnTo>
                    <a:pt x="179" y="202"/>
                  </a:lnTo>
                  <a:lnTo>
                    <a:pt x="187" y="218"/>
                  </a:lnTo>
                  <a:lnTo>
                    <a:pt x="195" y="233"/>
                  </a:lnTo>
                  <a:lnTo>
                    <a:pt x="195" y="257"/>
                  </a:lnTo>
                  <a:lnTo>
                    <a:pt x="202" y="272"/>
                  </a:lnTo>
                  <a:lnTo>
                    <a:pt x="210" y="296"/>
                  </a:lnTo>
                  <a:lnTo>
                    <a:pt x="218" y="319"/>
                  </a:lnTo>
                  <a:lnTo>
                    <a:pt x="226" y="342"/>
                  </a:lnTo>
                  <a:lnTo>
                    <a:pt x="234" y="366"/>
                  </a:lnTo>
                  <a:lnTo>
                    <a:pt x="241" y="389"/>
                  </a:lnTo>
                  <a:lnTo>
                    <a:pt x="241" y="420"/>
                  </a:lnTo>
                  <a:lnTo>
                    <a:pt x="249" y="452"/>
                  </a:lnTo>
                  <a:lnTo>
                    <a:pt x="257" y="483"/>
                  </a:lnTo>
                  <a:lnTo>
                    <a:pt x="265" y="522"/>
                  </a:lnTo>
                  <a:lnTo>
                    <a:pt x="273" y="561"/>
                  </a:lnTo>
                  <a:lnTo>
                    <a:pt x="280" y="607"/>
                  </a:lnTo>
                  <a:lnTo>
                    <a:pt x="280" y="654"/>
                  </a:lnTo>
                  <a:lnTo>
                    <a:pt x="288" y="717"/>
                  </a:lnTo>
                  <a:lnTo>
                    <a:pt x="296" y="787"/>
                  </a:lnTo>
                  <a:lnTo>
                    <a:pt x="304" y="872"/>
                  </a:lnTo>
                  <a:lnTo>
                    <a:pt x="312" y="989"/>
                  </a:lnTo>
                  <a:lnTo>
                    <a:pt x="319" y="1200"/>
                  </a:lnTo>
                  <a:lnTo>
                    <a:pt x="327" y="1488"/>
                  </a:lnTo>
                  <a:lnTo>
                    <a:pt x="327" y="1122"/>
                  </a:lnTo>
                  <a:lnTo>
                    <a:pt x="335" y="1005"/>
                  </a:lnTo>
                  <a:lnTo>
                    <a:pt x="343" y="943"/>
                  </a:lnTo>
                  <a:lnTo>
                    <a:pt x="351" y="896"/>
                  </a:lnTo>
                  <a:lnTo>
                    <a:pt x="358" y="872"/>
                  </a:lnTo>
                  <a:lnTo>
                    <a:pt x="366" y="849"/>
                  </a:lnTo>
                  <a:lnTo>
                    <a:pt x="366" y="841"/>
                  </a:lnTo>
                  <a:lnTo>
                    <a:pt x="374" y="833"/>
                  </a:lnTo>
                  <a:lnTo>
                    <a:pt x="382" y="833"/>
                  </a:lnTo>
                  <a:lnTo>
                    <a:pt x="390" y="841"/>
                  </a:lnTo>
                  <a:lnTo>
                    <a:pt x="397" y="849"/>
                  </a:lnTo>
                  <a:lnTo>
                    <a:pt x="405" y="857"/>
                  </a:lnTo>
                  <a:lnTo>
                    <a:pt x="413" y="872"/>
                  </a:lnTo>
                  <a:lnTo>
                    <a:pt x="413" y="896"/>
                  </a:lnTo>
                  <a:lnTo>
                    <a:pt x="421" y="911"/>
                  </a:lnTo>
                  <a:lnTo>
                    <a:pt x="429" y="943"/>
                  </a:lnTo>
                  <a:lnTo>
                    <a:pt x="436" y="974"/>
                  </a:lnTo>
                  <a:lnTo>
                    <a:pt x="444" y="1013"/>
                  </a:lnTo>
                  <a:lnTo>
                    <a:pt x="452" y="1052"/>
                  </a:lnTo>
                  <a:lnTo>
                    <a:pt x="452" y="1106"/>
                  </a:lnTo>
                  <a:lnTo>
                    <a:pt x="460" y="1176"/>
                  </a:lnTo>
                  <a:lnTo>
                    <a:pt x="468" y="1278"/>
                  </a:lnTo>
                  <a:lnTo>
                    <a:pt x="475" y="1426"/>
                  </a:lnTo>
                  <a:lnTo>
                    <a:pt x="483" y="1917"/>
                  </a:lnTo>
                  <a:lnTo>
                    <a:pt x="491" y="1511"/>
                  </a:lnTo>
                  <a:lnTo>
                    <a:pt x="499" y="1348"/>
                  </a:lnTo>
                  <a:lnTo>
                    <a:pt x="499" y="1262"/>
                  </a:lnTo>
                  <a:lnTo>
                    <a:pt x="507" y="1207"/>
                  </a:lnTo>
                  <a:lnTo>
                    <a:pt x="514" y="1169"/>
                  </a:lnTo>
                  <a:lnTo>
                    <a:pt x="522" y="1145"/>
                  </a:lnTo>
                  <a:lnTo>
                    <a:pt x="530" y="1122"/>
                  </a:lnTo>
                  <a:lnTo>
                    <a:pt x="538" y="1114"/>
                  </a:lnTo>
                  <a:lnTo>
                    <a:pt x="538" y="1106"/>
                  </a:lnTo>
                  <a:lnTo>
                    <a:pt x="546" y="1098"/>
                  </a:lnTo>
                  <a:lnTo>
                    <a:pt x="553" y="1106"/>
                  </a:lnTo>
                  <a:lnTo>
                    <a:pt x="561" y="1106"/>
                  </a:lnTo>
                  <a:lnTo>
                    <a:pt x="569" y="1122"/>
                  </a:lnTo>
                  <a:lnTo>
                    <a:pt x="577" y="1130"/>
                  </a:lnTo>
                  <a:lnTo>
                    <a:pt x="585" y="1145"/>
                  </a:lnTo>
                  <a:lnTo>
                    <a:pt x="585" y="1169"/>
                  </a:lnTo>
                  <a:lnTo>
                    <a:pt x="592" y="1192"/>
                  </a:lnTo>
                  <a:lnTo>
                    <a:pt x="600" y="1223"/>
                  </a:lnTo>
                  <a:lnTo>
                    <a:pt x="608" y="1262"/>
                  </a:lnTo>
                  <a:lnTo>
                    <a:pt x="616" y="1309"/>
                  </a:lnTo>
                  <a:lnTo>
                    <a:pt x="624" y="1371"/>
                  </a:lnTo>
                  <a:lnTo>
                    <a:pt x="624" y="1457"/>
                  </a:lnTo>
                  <a:lnTo>
                    <a:pt x="631" y="1574"/>
                  </a:lnTo>
                  <a:lnTo>
                    <a:pt x="639" y="1831"/>
                  </a:lnTo>
                  <a:lnTo>
                    <a:pt x="647" y="1854"/>
                  </a:lnTo>
                  <a:lnTo>
                    <a:pt x="655" y="1605"/>
                  </a:lnTo>
                  <a:lnTo>
                    <a:pt x="663" y="1496"/>
                  </a:lnTo>
                  <a:lnTo>
                    <a:pt x="670" y="1426"/>
                  </a:lnTo>
                  <a:lnTo>
                    <a:pt x="670" y="1379"/>
                  </a:lnTo>
                  <a:lnTo>
                    <a:pt x="678" y="1348"/>
                  </a:lnTo>
                  <a:lnTo>
                    <a:pt x="686" y="1324"/>
                  </a:lnTo>
                  <a:lnTo>
                    <a:pt x="694" y="1309"/>
                  </a:lnTo>
                  <a:lnTo>
                    <a:pt x="702" y="1293"/>
                  </a:lnTo>
                  <a:lnTo>
                    <a:pt x="709" y="1293"/>
                  </a:lnTo>
                  <a:lnTo>
                    <a:pt x="717" y="1285"/>
                  </a:lnTo>
                  <a:lnTo>
                    <a:pt x="717" y="1293"/>
                  </a:lnTo>
                  <a:lnTo>
                    <a:pt x="725" y="1293"/>
                  </a:lnTo>
                  <a:lnTo>
                    <a:pt x="733" y="1309"/>
                  </a:lnTo>
                  <a:lnTo>
                    <a:pt x="741" y="1317"/>
                  </a:lnTo>
                  <a:lnTo>
                    <a:pt x="748" y="1340"/>
                  </a:lnTo>
                  <a:lnTo>
                    <a:pt x="756" y="1356"/>
                  </a:lnTo>
                  <a:lnTo>
                    <a:pt x="756" y="1387"/>
                  </a:lnTo>
                  <a:lnTo>
                    <a:pt x="764" y="1418"/>
                  </a:lnTo>
                  <a:lnTo>
                    <a:pt x="772" y="1465"/>
                  </a:lnTo>
                  <a:lnTo>
                    <a:pt x="780" y="1511"/>
                  </a:lnTo>
                  <a:lnTo>
                    <a:pt x="787" y="1582"/>
                  </a:lnTo>
                  <a:lnTo>
                    <a:pt x="795" y="1683"/>
                  </a:lnTo>
                  <a:lnTo>
                    <a:pt x="803" y="1862"/>
                  </a:lnTo>
                  <a:lnTo>
                    <a:pt x="803" y="2384"/>
                  </a:lnTo>
                  <a:lnTo>
                    <a:pt x="811" y="1831"/>
                  </a:lnTo>
                  <a:lnTo>
                    <a:pt x="819" y="1683"/>
                  </a:lnTo>
                  <a:lnTo>
                    <a:pt x="826" y="1605"/>
                  </a:lnTo>
                  <a:lnTo>
                    <a:pt x="834" y="1550"/>
                  </a:lnTo>
                  <a:lnTo>
                    <a:pt x="842" y="1511"/>
                  </a:lnTo>
                  <a:lnTo>
                    <a:pt x="842" y="1480"/>
                  </a:lnTo>
                  <a:lnTo>
                    <a:pt x="850" y="1465"/>
                  </a:lnTo>
                  <a:lnTo>
                    <a:pt x="858" y="1449"/>
                  </a:lnTo>
                  <a:lnTo>
                    <a:pt x="865" y="1441"/>
                  </a:lnTo>
                  <a:lnTo>
                    <a:pt x="873" y="1433"/>
                  </a:lnTo>
                  <a:lnTo>
                    <a:pt x="881" y="1433"/>
                  </a:lnTo>
                  <a:lnTo>
                    <a:pt x="889" y="1433"/>
                  </a:lnTo>
                  <a:lnTo>
                    <a:pt x="889" y="1441"/>
                  </a:lnTo>
                  <a:lnTo>
                    <a:pt x="897" y="1457"/>
                  </a:lnTo>
                  <a:lnTo>
                    <a:pt x="904" y="1472"/>
                  </a:lnTo>
                  <a:lnTo>
                    <a:pt x="912" y="1488"/>
                  </a:lnTo>
                  <a:lnTo>
                    <a:pt x="920" y="1511"/>
                  </a:lnTo>
                  <a:lnTo>
                    <a:pt x="928" y="1543"/>
                  </a:lnTo>
                  <a:lnTo>
                    <a:pt x="928" y="1582"/>
                  </a:lnTo>
                  <a:lnTo>
                    <a:pt x="936" y="1628"/>
                  </a:lnTo>
                  <a:lnTo>
                    <a:pt x="943" y="1691"/>
                  </a:lnTo>
                  <a:lnTo>
                    <a:pt x="951" y="1776"/>
                  </a:lnTo>
                  <a:lnTo>
                    <a:pt x="959" y="1909"/>
                  </a:lnTo>
                  <a:lnTo>
                    <a:pt x="967" y="2260"/>
                  </a:lnTo>
                  <a:lnTo>
                    <a:pt x="975" y="2057"/>
                  </a:lnTo>
                  <a:lnTo>
                    <a:pt x="975" y="1854"/>
                  </a:lnTo>
                  <a:lnTo>
                    <a:pt x="982" y="1761"/>
                  </a:lnTo>
                  <a:lnTo>
                    <a:pt x="990" y="1698"/>
                  </a:lnTo>
                  <a:lnTo>
                    <a:pt x="998" y="1652"/>
                  </a:lnTo>
                  <a:lnTo>
                    <a:pt x="1006" y="1620"/>
                  </a:lnTo>
                  <a:lnTo>
                    <a:pt x="1014" y="1597"/>
                  </a:lnTo>
                  <a:lnTo>
                    <a:pt x="1014" y="1574"/>
                  </a:lnTo>
                  <a:lnTo>
                    <a:pt x="1021" y="1566"/>
                  </a:lnTo>
                  <a:lnTo>
                    <a:pt x="1029" y="1558"/>
                  </a:lnTo>
                  <a:lnTo>
                    <a:pt x="1037" y="1550"/>
                  </a:lnTo>
                  <a:lnTo>
                    <a:pt x="1045" y="1550"/>
                  </a:lnTo>
                  <a:lnTo>
                    <a:pt x="1053" y="1558"/>
                  </a:lnTo>
                  <a:lnTo>
                    <a:pt x="1060" y="1566"/>
                  </a:lnTo>
                  <a:lnTo>
                    <a:pt x="1060" y="1582"/>
                  </a:lnTo>
                  <a:lnTo>
                    <a:pt x="1068" y="1597"/>
                  </a:lnTo>
                  <a:lnTo>
                    <a:pt x="1076" y="1620"/>
                  </a:lnTo>
                  <a:lnTo>
                    <a:pt x="1084" y="1644"/>
                  </a:lnTo>
                  <a:lnTo>
                    <a:pt x="1092" y="1675"/>
                  </a:lnTo>
                  <a:lnTo>
                    <a:pt x="1099" y="1722"/>
                  </a:lnTo>
                  <a:lnTo>
                    <a:pt x="1107" y="1776"/>
                  </a:lnTo>
                  <a:lnTo>
                    <a:pt x="1107" y="1846"/>
                  </a:lnTo>
                  <a:lnTo>
                    <a:pt x="1115" y="1956"/>
                  </a:lnTo>
                  <a:lnTo>
                    <a:pt x="1123" y="2174"/>
                  </a:lnTo>
                  <a:lnTo>
                    <a:pt x="1131" y="2337"/>
                  </a:lnTo>
                  <a:lnTo>
                    <a:pt x="1138" y="2018"/>
                  </a:lnTo>
                  <a:lnTo>
                    <a:pt x="1146" y="1901"/>
                  </a:lnTo>
                  <a:lnTo>
                    <a:pt x="1146" y="1823"/>
                  </a:lnTo>
                  <a:lnTo>
                    <a:pt x="1154" y="1769"/>
                  </a:lnTo>
                  <a:lnTo>
                    <a:pt x="1162" y="1737"/>
                  </a:lnTo>
                  <a:lnTo>
                    <a:pt x="1170" y="1706"/>
                  </a:lnTo>
                  <a:lnTo>
                    <a:pt x="1177" y="1683"/>
                  </a:lnTo>
                  <a:lnTo>
                    <a:pt x="1185" y="1675"/>
                  </a:lnTo>
                  <a:lnTo>
                    <a:pt x="1193" y="1659"/>
                  </a:lnTo>
                  <a:lnTo>
                    <a:pt x="1201" y="1652"/>
                  </a:lnTo>
                  <a:lnTo>
                    <a:pt x="1209" y="1659"/>
                  </a:lnTo>
                  <a:lnTo>
                    <a:pt x="1216" y="1667"/>
                  </a:lnTo>
                  <a:lnTo>
                    <a:pt x="1224" y="1675"/>
                  </a:lnTo>
                  <a:lnTo>
                    <a:pt x="1232" y="1691"/>
                  </a:lnTo>
                  <a:lnTo>
                    <a:pt x="1232" y="1706"/>
                  </a:lnTo>
                  <a:lnTo>
                    <a:pt x="1240" y="1730"/>
                  </a:lnTo>
                  <a:lnTo>
                    <a:pt x="1248" y="1761"/>
                  </a:lnTo>
                  <a:lnTo>
                    <a:pt x="1255" y="1800"/>
                  </a:lnTo>
                  <a:lnTo>
                    <a:pt x="1263" y="1846"/>
                  </a:lnTo>
                  <a:lnTo>
                    <a:pt x="1271" y="1917"/>
                  </a:lnTo>
                  <a:lnTo>
                    <a:pt x="1279" y="2002"/>
                  </a:lnTo>
                  <a:lnTo>
                    <a:pt x="1279" y="2158"/>
                  </a:lnTo>
                  <a:lnTo>
                    <a:pt x="1287" y="2875"/>
                  </a:lnTo>
                  <a:lnTo>
                    <a:pt x="1294" y="2189"/>
                  </a:lnTo>
                  <a:lnTo>
                    <a:pt x="1302" y="2034"/>
                  </a:lnTo>
                  <a:lnTo>
                    <a:pt x="1310" y="1940"/>
                  </a:lnTo>
                  <a:lnTo>
                    <a:pt x="1318" y="1885"/>
                  </a:lnTo>
                  <a:lnTo>
                    <a:pt x="1318" y="1839"/>
                  </a:lnTo>
                  <a:lnTo>
                    <a:pt x="1326" y="1808"/>
                  </a:lnTo>
                  <a:lnTo>
                    <a:pt x="1333" y="1784"/>
                  </a:lnTo>
                  <a:lnTo>
                    <a:pt x="1341" y="1769"/>
                  </a:lnTo>
                  <a:lnTo>
                    <a:pt x="1349" y="1753"/>
                  </a:lnTo>
                  <a:lnTo>
                    <a:pt x="1357" y="1745"/>
                  </a:lnTo>
                  <a:lnTo>
                    <a:pt x="1365" y="1745"/>
                  </a:lnTo>
                  <a:lnTo>
                    <a:pt x="1372" y="1745"/>
                  </a:lnTo>
                  <a:lnTo>
                    <a:pt x="1380" y="1761"/>
                  </a:lnTo>
                  <a:lnTo>
                    <a:pt x="1388" y="1769"/>
                  </a:lnTo>
                  <a:lnTo>
                    <a:pt x="1396" y="1784"/>
                  </a:lnTo>
                  <a:lnTo>
                    <a:pt x="1404" y="1808"/>
                  </a:lnTo>
                  <a:lnTo>
                    <a:pt x="1404" y="1839"/>
                  </a:lnTo>
                  <a:lnTo>
                    <a:pt x="1411" y="1870"/>
                  </a:lnTo>
                  <a:lnTo>
                    <a:pt x="1419" y="1917"/>
                  </a:lnTo>
                  <a:lnTo>
                    <a:pt x="1427" y="1971"/>
                  </a:lnTo>
                  <a:lnTo>
                    <a:pt x="1435" y="2049"/>
                  </a:lnTo>
                  <a:lnTo>
                    <a:pt x="1443" y="2174"/>
                  </a:lnTo>
                  <a:lnTo>
                    <a:pt x="1450" y="2454"/>
                  </a:lnTo>
                  <a:lnTo>
                    <a:pt x="1450" y="2392"/>
                  </a:lnTo>
                  <a:lnTo>
                    <a:pt x="1458" y="2158"/>
                  </a:lnTo>
                  <a:lnTo>
                    <a:pt x="1466" y="2057"/>
                  </a:lnTo>
                  <a:lnTo>
                    <a:pt x="1474" y="1987"/>
                  </a:lnTo>
                  <a:lnTo>
                    <a:pt x="1482" y="1940"/>
                  </a:lnTo>
                  <a:lnTo>
                    <a:pt x="1489" y="1901"/>
                  </a:lnTo>
                  <a:lnTo>
                    <a:pt x="1497" y="1878"/>
                  </a:lnTo>
                  <a:lnTo>
                    <a:pt x="1497" y="1854"/>
                  </a:lnTo>
                  <a:lnTo>
                    <a:pt x="1505" y="1839"/>
                  </a:lnTo>
                  <a:lnTo>
                    <a:pt x="1513" y="1831"/>
                  </a:lnTo>
                  <a:lnTo>
                    <a:pt x="1521" y="1823"/>
                  </a:lnTo>
                  <a:lnTo>
                    <a:pt x="1528" y="1823"/>
                  </a:lnTo>
                  <a:lnTo>
                    <a:pt x="1536" y="1823"/>
                  </a:lnTo>
                  <a:lnTo>
                    <a:pt x="1536" y="1831"/>
                  </a:lnTo>
                  <a:lnTo>
                    <a:pt x="1544" y="1846"/>
                  </a:lnTo>
                  <a:lnTo>
                    <a:pt x="1552" y="1854"/>
                  </a:lnTo>
                  <a:lnTo>
                    <a:pt x="1560" y="1878"/>
                  </a:lnTo>
                  <a:lnTo>
                    <a:pt x="1567" y="1901"/>
                  </a:lnTo>
                  <a:lnTo>
                    <a:pt x="1575" y="1932"/>
                  </a:lnTo>
                  <a:lnTo>
                    <a:pt x="1583" y="1971"/>
                  </a:lnTo>
                  <a:lnTo>
                    <a:pt x="1583" y="2026"/>
                  </a:lnTo>
                  <a:lnTo>
                    <a:pt x="1591" y="2096"/>
                  </a:lnTo>
                  <a:lnTo>
                    <a:pt x="1599" y="2197"/>
                  </a:lnTo>
                  <a:lnTo>
                    <a:pt x="1606" y="2384"/>
                  </a:lnTo>
                  <a:lnTo>
                    <a:pt x="1614" y="2719"/>
                  </a:lnTo>
                  <a:lnTo>
                    <a:pt x="1622" y="2298"/>
                  </a:lnTo>
                  <a:lnTo>
                    <a:pt x="1622" y="2166"/>
                  </a:lnTo>
                  <a:lnTo>
                    <a:pt x="1630" y="2080"/>
                  </a:lnTo>
                  <a:lnTo>
                    <a:pt x="1638" y="2026"/>
                  </a:lnTo>
                  <a:lnTo>
                    <a:pt x="1645" y="1987"/>
                  </a:lnTo>
                  <a:lnTo>
                    <a:pt x="1653" y="1956"/>
                  </a:lnTo>
                  <a:lnTo>
                    <a:pt x="1661" y="1932"/>
                  </a:lnTo>
                  <a:lnTo>
                    <a:pt x="1669" y="1917"/>
                  </a:lnTo>
                  <a:lnTo>
                    <a:pt x="1669" y="1909"/>
                  </a:lnTo>
                  <a:lnTo>
                    <a:pt x="1677" y="1901"/>
                  </a:lnTo>
                  <a:lnTo>
                    <a:pt x="1684" y="1893"/>
                  </a:lnTo>
                  <a:lnTo>
                    <a:pt x="1692" y="1893"/>
                  </a:lnTo>
                  <a:lnTo>
                    <a:pt x="1700" y="1901"/>
                  </a:lnTo>
                  <a:lnTo>
                    <a:pt x="1708" y="1909"/>
                  </a:lnTo>
                  <a:lnTo>
                    <a:pt x="1708" y="1924"/>
                  </a:lnTo>
                  <a:lnTo>
                    <a:pt x="1716" y="1940"/>
                  </a:lnTo>
                  <a:lnTo>
                    <a:pt x="1723" y="1963"/>
                  </a:lnTo>
                  <a:lnTo>
                    <a:pt x="1731" y="1995"/>
                  </a:lnTo>
                  <a:lnTo>
                    <a:pt x="1739" y="2026"/>
                  </a:lnTo>
                  <a:lnTo>
                    <a:pt x="1747" y="2072"/>
                  </a:lnTo>
                  <a:lnTo>
                    <a:pt x="1755" y="2135"/>
                  </a:lnTo>
                  <a:lnTo>
                    <a:pt x="1755" y="2221"/>
                  </a:lnTo>
                  <a:lnTo>
                    <a:pt x="1762" y="2361"/>
                  </a:lnTo>
                  <a:lnTo>
                    <a:pt x="1770" y="2789"/>
                  </a:lnTo>
                  <a:lnTo>
                    <a:pt x="1778" y="2454"/>
                  </a:lnTo>
                  <a:lnTo>
                    <a:pt x="1786" y="2275"/>
                  </a:lnTo>
                  <a:lnTo>
                    <a:pt x="1794" y="2182"/>
                  </a:lnTo>
                  <a:lnTo>
                    <a:pt x="1794" y="2111"/>
                  </a:lnTo>
                  <a:lnTo>
                    <a:pt x="1801" y="2072"/>
                  </a:lnTo>
                  <a:lnTo>
                    <a:pt x="1809" y="2034"/>
                  </a:lnTo>
                  <a:lnTo>
                    <a:pt x="1817" y="2010"/>
                  </a:lnTo>
                  <a:lnTo>
                    <a:pt x="1825" y="1995"/>
                  </a:lnTo>
                  <a:lnTo>
                    <a:pt x="1833" y="1979"/>
                  </a:lnTo>
                  <a:lnTo>
                    <a:pt x="1840" y="1971"/>
                  </a:lnTo>
                  <a:lnTo>
                    <a:pt x="1840" y="1963"/>
                  </a:lnTo>
                  <a:lnTo>
                    <a:pt x="1848" y="1963"/>
                  </a:lnTo>
                  <a:lnTo>
                    <a:pt x="1856" y="1963"/>
                  </a:lnTo>
                  <a:lnTo>
                    <a:pt x="1864" y="1971"/>
                  </a:lnTo>
                  <a:lnTo>
                    <a:pt x="1872" y="1987"/>
                  </a:lnTo>
                  <a:lnTo>
                    <a:pt x="1879" y="2002"/>
                  </a:lnTo>
                  <a:lnTo>
                    <a:pt x="1879" y="2018"/>
                  </a:lnTo>
                  <a:lnTo>
                    <a:pt x="1887" y="2049"/>
                  </a:lnTo>
                  <a:lnTo>
                    <a:pt x="1895" y="2080"/>
                  </a:lnTo>
                  <a:lnTo>
                    <a:pt x="1903" y="2119"/>
                  </a:lnTo>
                  <a:lnTo>
                    <a:pt x="1911" y="2174"/>
                  </a:lnTo>
                  <a:lnTo>
                    <a:pt x="1918" y="2252"/>
                  </a:lnTo>
                  <a:lnTo>
                    <a:pt x="1926" y="2361"/>
                  </a:lnTo>
                  <a:lnTo>
                    <a:pt x="1926" y="2595"/>
                  </a:lnTo>
                  <a:lnTo>
                    <a:pt x="1934" y="2665"/>
                  </a:lnTo>
                  <a:lnTo>
                    <a:pt x="1942" y="2392"/>
                  </a:lnTo>
                  <a:lnTo>
                    <a:pt x="1950" y="2275"/>
                  </a:lnTo>
                  <a:lnTo>
                    <a:pt x="1957" y="2205"/>
                  </a:lnTo>
                  <a:lnTo>
                    <a:pt x="1965" y="2150"/>
                  </a:lnTo>
                  <a:lnTo>
                    <a:pt x="1973" y="2111"/>
                  </a:lnTo>
                  <a:lnTo>
                    <a:pt x="1973" y="2080"/>
                  </a:lnTo>
                  <a:lnTo>
                    <a:pt x="1981" y="2065"/>
                  </a:lnTo>
                  <a:lnTo>
                    <a:pt x="1989" y="2049"/>
                  </a:lnTo>
                  <a:lnTo>
                    <a:pt x="1996" y="2034"/>
                  </a:lnTo>
                  <a:lnTo>
                    <a:pt x="2004" y="2026"/>
                  </a:lnTo>
                  <a:lnTo>
                    <a:pt x="2012" y="2026"/>
                  </a:lnTo>
                  <a:lnTo>
                    <a:pt x="2020" y="2034"/>
                  </a:lnTo>
                  <a:lnTo>
                    <a:pt x="2028" y="2041"/>
                  </a:lnTo>
                  <a:lnTo>
                    <a:pt x="2035" y="2057"/>
                  </a:lnTo>
                  <a:lnTo>
                    <a:pt x="2043" y="2072"/>
                  </a:lnTo>
                  <a:lnTo>
                    <a:pt x="2051" y="2096"/>
                  </a:lnTo>
                  <a:lnTo>
                    <a:pt x="2059" y="2127"/>
                  </a:lnTo>
                  <a:lnTo>
                    <a:pt x="2059" y="2166"/>
                  </a:lnTo>
                  <a:lnTo>
                    <a:pt x="2067" y="2213"/>
                  </a:lnTo>
                  <a:lnTo>
                    <a:pt x="2074" y="2283"/>
                  </a:lnTo>
                  <a:lnTo>
                    <a:pt x="2082" y="2376"/>
                  </a:lnTo>
                  <a:lnTo>
                    <a:pt x="2090" y="2540"/>
                  </a:lnTo>
                  <a:lnTo>
                    <a:pt x="2090" y="3031"/>
                  </a:lnTo>
                </a:path>
              </a:pathLst>
            </a:custGeom>
            <a:noFill/>
            <a:ln cap="rnd" w="25560">
              <a:solidFill>
                <a:srgbClr val="00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4906800" y="5359320"/>
              <a:ext cx="757440" cy="1498680"/>
            </a:xfrm>
            <a:custGeom>
              <a:avLst/>
              <a:gdLst/>
              <a:ahLst/>
              <a:rect l="l" t="t" r="r" b="b"/>
              <a:pathLst>
                <a:path w="477" h="944">
                  <a:moveTo>
                    <a:pt x="0" y="943"/>
                  </a:moveTo>
                  <a:lnTo>
                    <a:pt x="0" y="436"/>
                  </a:lnTo>
                  <a:lnTo>
                    <a:pt x="8" y="288"/>
                  </a:lnTo>
                  <a:lnTo>
                    <a:pt x="15" y="203"/>
                  </a:lnTo>
                  <a:lnTo>
                    <a:pt x="23" y="140"/>
                  </a:lnTo>
                  <a:lnTo>
                    <a:pt x="31" y="101"/>
                  </a:lnTo>
                  <a:lnTo>
                    <a:pt x="39" y="70"/>
                  </a:lnTo>
                  <a:lnTo>
                    <a:pt x="47" y="39"/>
                  </a:lnTo>
                  <a:lnTo>
                    <a:pt x="47" y="23"/>
                  </a:lnTo>
                  <a:lnTo>
                    <a:pt x="54" y="16"/>
                  </a:lnTo>
                  <a:lnTo>
                    <a:pt x="62" y="8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86" y="8"/>
                  </a:lnTo>
                  <a:lnTo>
                    <a:pt x="93" y="23"/>
                  </a:lnTo>
                  <a:lnTo>
                    <a:pt x="101" y="39"/>
                  </a:lnTo>
                  <a:lnTo>
                    <a:pt x="109" y="62"/>
                  </a:lnTo>
                  <a:lnTo>
                    <a:pt x="117" y="86"/>
                  </a:lnTo>
                  <a:lnTo>
                    <a:pt x="125" y="125"/>
                  </a:lnTo>
                  <a:lnTo>
                    <a:pt x="132" y="164"/>
                  </a:lnTo>
                  <a:lnTo>
                    <a:pt x="132" y="226"/>
                  </a:lnTo>
                  <a:lnTo>
                    <a:pt x="140" y="304"/>
                  </a:lnTo>
                  <a:lnTo>
                    <a:pt x="148" y="436"/>
                  </a:lnTo>
                  <a:lnTo>
                    <a:pt x="156" y="756"/>
                  </a:lnTo>
                  <a:lnTo>
                    <a:pt x="164" y="600"/>
                  </a:lnTo>
                  <a:lnTo>
                    <a:pt x="171" y="390"/>
                  </a:lnTo>
                  <a:lnTo>
                    <a:pt x="171" y="288"/>
                  </a:lnTo>
                  <a:lnTo>
                    <a:pt x="179" y="218"/>
                  </a:lnTo>
                  <a:lnTo>
                    <a:pt x="187" y="172"/>
                  </a:lnTo>
                  <a:lnTo>
                    <a:pt x="195" y="140"/>
                  </a:lnTo>
                  <a:lnTo>
                    <a:pt x="203" y="109"/>
                  </a:lnTo>
                  <a:lnTo>
                    <a:pt x="210" y="94"/>
                  </a:lnTo>
                  <a:lnTo>
                    <a:pt x="218" y="78"/>
                  </a:lnTo>
                  <a:lnTo>
                    <a:pt x="218" y="70"/>
                  </a:lnTo>
                  <a:lnTo>
                    <a:pt x="226" y="62"/>
                  </a:lnTo>
                  <a:lnTo>
                    <a:pt x="234" y="62"/>
                  </a:lnTo>
                  <a:lnTo>
                    <a:pt x="242" y="62"/>
                  </a:lnTo>
                  <a:lnTo>
                    <a:pt x="249" y="70"/>
                  </a:lnTo>
                  <a:lnTo>
                    <a:pt x="257" y="78"/>
                  </a:lnTo>
                  <a:lnTo>
                    <a:pt x="265" y="94"/>
                  </a:lnTo>
                  <a:lnTo>
                    <a:pt x="265" y="109"/>
                  </a:lnTo>
                  <a:lnTo>
                    <a:pt x="273" y="140"/>
                  </a:lnTo>
                  <a:lnTo>
                    <a:pt x="281" y="172"/>
                  </a:lnTo>
                  <a:lnTo>
                    <a:pt x="288" y="210"/>
                  </a:lnTo>
                  <a:lnTo>
                    <a:pt x="296" y="257"/>
                  </a:lnTo>
                  <a:lnTo>
                    <a:pt x="304" y="327"/>
                  </a:lnTo>
                  <a:lnTo>
                    <a:pt x="304" y="436"/>
                  </a:lnTo>
                  <a:lnTo>
                    <a:pt x="312" y="639"/>
                  </a:lnTo>
                  <a:lnTo>
                    <a:pt x="320" y="857"/>
                  </a:lnTo>
                  <a:lnTo>
                    <a:pt x="327" y="507"/>
                  </a:lnTo>
                  <a:lnTo>
                    <a:pt x="335" y="382"/>
                  </a:lnTo>
                  <a:lnTo>
                    <a:pt x="343" y="304"/>
                  </a:lnTo>
                  <a:lnTo>
                    <a:pt x="351" y="249"/>
                  </a:lnTo>
                  <a:lnTo>
                    <a:pt x="351" y="210"/>
                  </a:lnTo>
                  <a:lnTo>
                    <a:pt x="359" y="179"/>
                  </a:lnTo>
                  <a:lnTo>
                    <a:pt x="366" y="156"/>
                  </a:lnTo>
                  <a:lnTo>
                    <a:pt x="374" y="140"/>
                  </a:lnTo>
                  <a:lnTo>
                    <a:pt x="382" y="133"/>
                  </a:lnTo>
                  <a:lnTo>
                    <a:pt x="390" y="125"/>
                  </a:lnTo>
                  <a:lnTo>
                    <a:pt x="390" y="117"/>
                  </a:lnTo>
                  <a:lnTo>
                    <a:pt x="398" y="125"/>
                  </a:lnTo>
                  <a:lnTo>
                    <a:pt x="405" y="125"/>
                  </a:lnTo>
                  <a:lnTo>
                    <a:pt x="413" y="133"/>
                  </a:lnTo>
                  <a:lnTo>
                    <a:pt x="421" y="148"/>
                  </a:lnTo>
                  <a:lnTo>
                    <a:pt x="429" y="164"/>
                  </a:lnTo>
                  <a:lnTo>
                    <a:pt x="437" y="187"/>
                  </a:lnTo>
                  <a:lnTo>
                    <a:pt x="437" y="218"/>
                  </a:lnTo>
                  <a:lnTo>
                    <a:pt x="444" y="257"/>
                  </a:lnTo>
                  <a:lnTo>
                    <a:pt x="452" y="304"/>
                  </a:lnTo>
                  <a:lnTo>
                    <a:pt x="460" y="366"/>
                  </a:lnTo>
                  <a:lnTo>
                    <a:pt x="468" y="452"/>
                  </a:lnTo>
                  <a:lnTo>
                    <a:pt x="476" y="600"/>
                  </a:lnTo>
                  <a:lnTo>
                    <a:pt x="476" y="943"/>
                  </a:lnTo>
                </a:path>
              </a:pathLst>
            </a:custGeom>
            <a:noFill/>
            <a:ln cap="rnd" w="25560">
              <a:solidFill>
                <a:srgbClr val="00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5662440" y="5656320"/>
              <a:ext cx="508320" cy="1201680"/>
            </a:xfrm>
            <a:custGeom>
              <a:avLst/>
              <a:gdLst/>
              <a:ahLst/>
              <a:rect l="l" t="t" r="r" b="b"/>
              <a:pathLst>
                <a:path w="320" h="757">
                  <a:moveTo>
                    <a:pt x="0" y="756"/>
                  </a:moveTo>
                  <a:lnTo>
                    <a:pt x="7" y="468"/>
                  </a:lnTo>
                  <a:lnTo>
                    <a:pt x="15" y="296"/>
                  </a:lnTo>
                  <a:lnTo>
                    <a:pt x="23" y="203"/>
                  </a:lnTo>
                  <a:lnTo>
                    <a:pt x="31" y="148"/>
                  </a:lnTo>
                  <a:lnTo>
                    <a:pt x="39" y="101"/>
                  </a:lnTo>
                  <a:lnTo>
                    <a:pt x="46" y="70"/>
                  </a:lnTo>
                  <a:lnTo>
                    <a:pt x="46" y="39"/>
                  </a:lnTo>
                  <a:lnTo>
                    <a:pt x="54" y="23"/>
                  </a:lnTo>
                  <a:lnTo>
                    <a:pt x="62" y="8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3" y="8"/>
                  </a:lnTo>
                  <a:lnTo>
                    <a:pt x="101" y="23"/>
                  </a:lnTo>
                  <a:lnTo>
                    <a:pt x="109" y="39"/>
                  </a:lnTo>
                  <a:lnTo>
                    <a:pt x="117" y="55"/>
                  </a:lnTo>
                  <a:lnTo>
                    <a:pt x="124" y="86"/>
                  </a:lnTo>
                  <a:lnTo>
                    <a:pt x="132" y="117"/>
                  </a:lnTo>
                  <a:lnTo>
                    <a:pt x="132" y="164"/>
                  </a:lnTo>
                  <a:lnTo>
                    <a:pt x="140" y="218"/>
                  </a:lnTo>
                  <a:lnTo>
                    <a:pt x="148" y="296"/>
                  </a:lnTo>
                  <a:lnTo>
                    <a:pt x="156" y="413"/>
                  </a:lnTo>
                  <a:lnTo>
                    <a:pt x="163" y="678"/>
                  </a:lnTo>
                  <a:lnTo>
                    <a:pt x="171" y="655"/>
                  </a:lnTo>
                  <a:lnTo>
                    <a:pt x="179" y="413"/>
                  </a:lnTo>
                  <a:lnTo>
                    <a:pt x="179" y="304"/>
                  </a:lnTo>
                  <a:lnTo>
                    <a:pt x="187" y="234"/>
                  </a:lnTo>
                  <a:lnTo>
                    <a:pt x="195" y="187"/>
                  </a:lnTo>
                  <a:lnTo>
                    <a:pt x="202" y="148"/>
                  </a:lnTo>
                  <a:lnTo>
                    <a:pt x="210" y="125"/>
                  </a:lnTo>
                  <a:lnTo>
                    <a:pt x="218" y="101"/>
                  </a:lnTo>
                  <a:lnTo>
                    <a:pt x="218" y="86"/>
                  </a:lnTo>
                  <a:lnTo>
                    <a:pt x="226" y="78"/>
                  </a:lnTo>
                  <a:lnTo>
                    <a:pt x="234" y="70"/>
                  </a:lnTo>
                  <a:lnTo>
                    <a:pt x="241" y="70"/>
                  </a:lnTo>
                  <a:lnTo>
                    <a:pt x="249" y="70"/>
                  </a:lnTo>
                  <a:lnTo>
                    <a:pt x="257" y="78"/>
                  </a:lnTo>
                  <a:lnTo>
                    <a:pt x="265" y="86"/>
                  </a:lnTo>
                  <a:lnTo>
                    <a:pt x="265" y="101"/>
                  </a:lnTo>
                  <a:lnTo>
                    <a:pt x="273" y="125"/>
                  </a:lnTo>
                  <a:lnTo>
                    <a:pt x="280" y="148"/>
                  </a:lnTo>
                  <a:lnTo>
                    <a:pt x="288" y="179"/>
                  </a:lnTo>
                  <a:lnTo>
                    <a:pt x="296" y="218"/>
                  </a:lnTo>
                  <a:lnTo>
                    <a:pt x="304" y="273"/>
                  </a:lnTo>
                  <a:lnTo>
                    <a:pt x="304" y="335"/>
                  </a:lnTo>
                  <a:lnTo>
                    <a:pt x="312" y="436"/>
                  </a:lnTo>
                  <a:lnTo>
                    <a:pt x="319" y="616"/>
                  </a:lnTo>
                  <a:lnTo>
                    <a:pt x="319" y="756"/>
                  </a:lnTo>
                </a:path>
              </a:pathLst>
            </a:custGeom>
            <a:noFill/>
            <a:ln cap="rnd" w="25560">
              <a:solidFill>
                <a:srgbClr val="00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181560" y="5904000"/>
              <a:ext cx="236880" cy="954000"/>
            </a:xfrm>
            <a:custGeom>
              <a:avLst/>
              <a:gdLst/>
              <a:ahLst/>
              <a:rect l="l" t="t" r="r" b="b"/>
              <a:pathLst>
                <a:path w="149" h="601">
                  <a:moveTo>
                    <a:pt x="0" y="600"/>
                  </a:moveTo>
                  <a:lnTo>
                    <a:pt x="8" y="405"/>
                  </a:lnTo>
                  <a:lnTo>
                    <a:pt x="16" y="265"/>
                  </a:lnTo>
                  <a:lnTo>
                    <a:pt x="24" y="179"/>
                  </a:lnTo>
                  <a:lnTo>
                    <a:pt x="24" y="125"/>
                  </a:lnTo>
                  <a:lnTo>
                    <a:pt x="31" y="86"/>
                  </a:lnTo>
                  <a:lnTo>
                    <a:pt x="39" y="55"/>
                  </a:lnTo>
                  <a:lnTo>
                    <a:pt x="47" y="39"/>
                  </a:lnTo>
                  <a:lnTo>
                    <a:pt x="55" y="23"/>
                  </a:lnTo>
                  <a:lnTo>
                    <a:pt x="63" y="8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8"/>
                  </a:lnTo>
                  <a:lnTo>
                    <a:pt x="94" y="16"/>
                  </a:lnTo>
                  <a:lnTo>
                    <a:pt x="102" y="31"/>
                  </a:lnTo>
                  <a:lnTo>
                    <a:pt x="109" y="55"/>
                  </a:lnTo>
                  <a:lnTo>
                    <a:pt x="109" y="78"/>
                  </a:lnTo>
                  <a:lnTo>
                    <a:pt x="117" y="101"/>
                  </a:lnTo>
                  <a:lnTo>
                    <a:pt x="125" y="140"/>
                  </a:lnTo>
                  <a:lnTo>
                    <a:pt x="133" y="187"/>
                  </a:lnTo>
                  <a:lnTo>
                    <a:pt x="141" y="249"/>
                  </a:lnTo>
                  <a:lnTo>
                    <a:pt x="148" y="335"/>
                  </a:lnTo>
                  <a:lnTo>
                    <a:pt x="148" y="475"/>
                  </a:lnTo>
                  <a:lnTo>
                    <a:pt x="148" y="600"/>
                  </a:lnTo>
                </a:path>
              </a:pathLst>
            </a:custGeom>
            <a:noFill/>
            <a:ln cap="rnd" w="25560">
              <a:solidFill>
                <a:srgbClr val="00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6442200" y="6102360"/>
              <a:ext cx="236520" cy="755640"/>
            </a:xfrm>
            <a:custGeom>
              <a:avLst/>
              <a:gdLst/>
              <a:ahLst/>
              <a:rect l="l" t="t" r="r" b="b"/>
              <a:pathLst>
                <a:path w="149" h="476">
                  <a:moveTo>
                    <a:pt x="0" y="475"/>
                  </a:moveTo>
                  <a:lnTo>
                    <a:pt x="0" y="475"/>
                  </a:lnTo>
                  <a:lnTo>
                    <a:pt x="8" y="288"/>
                  </a:lnTo>
                  <a:lnTo>
                    <a:pt x="16" y="194"/>
                  </a:lnTo>
                  <a:lnTo>
                    <a:pt x="23" y="132"/>
                  </a:lnTo>
                  <a:lnTo>
                    <a:pt x="31" y="85"/>
                  </a:lnTo>
                  <a:lnTo>
                    <a:pt x="31" y="54"/>
                  </a:lnTo>
                  <a:lnTo>
                    <a:pt x="39" y="31"/>
                  </a:lnTo>
                  <a:lnTo>
                    <a:pt x="47" y="15"/>
                  </a:lnTo>
                  <a:lnTo>
                    <a:pt x="55" y="7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7"/>
                  </a:lnTo>
                  <a:lnTo>
                    <a:pt x="86" y="15"/>
                  </a:lnTo>
                  <a:lnTo>
                    <a:pt x="94" y="31"/>
                  </a:lnTo>
                  <a:lnTo>
                    <a:pt x="101" y="54"/>
                  </a:lnTo>
                  <a:lnTo>
                    <a:pt x="109" y="78"/>
                  </a:lnTo>
                  <a:lnTo>
                    <a:pt x="117" y="109"/>
                  </a:lnTo>
                  <a:lnTo>
                    <a:pt x="117" y="148"/>
                  </a:lnTo>
                  <a:lnTo>
                    <a:pt x="125" y="194"/>
                  </a:lnTo>
                  <a:lnTo>
                    <a:pt x="133" y="249"/>
                  </a:lnTo>
                  <a:lnTo>
                    <a:pt x="140" y="327"/>
                  </a:lnTo>
                  <a:lnTo>
                    <a:pt x="148" y="444"/>
                  </a:lnTo>
                  <a:lnTo>
                    <a:pt x="148" y="475"/>
                  </a:lnTo>
                </a:path>
              </a:pathLst>
            </a:custGeom>
            <a:noFill/>
            <a:ln cap="rnd" w="25560">
              <a:solidFill>
                <a:srgbClr val="00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702480" y="6461280"/>
              <a:ext cx="174600" cy="396720"/>
            </a:xfrm>
            <a:custGeom>
              <a:avLst/>
              <a:gdLst/>
              <a:ahLst/>
              <a:rect l="l" t="t" r="r" b="b"/>
              <a:pathLst>
                <a:path w="110" h="250">
                  <a:moveTo>
                    <a:pt x="0" y="249"/>
                  </a:moveTo>
                  <a:lnTo>
                    <a:pt x="8" y="171"/>
                  </a:lnTo>
                  <a:lnTo>
                    <a:pt x="15" y="109"/>
                  </a:lnTo>
                  <a:lnTo>
                    <a:pt x="23" y="62"/>
                  </a:lnTo>
                  <a:lnTo>
                    <a:pt x="31" y="39"/>
                  </a:lnTo>
                  <a:lnTo>
                    <a:pt x="39" y="15"/>
                  </a:lnTo>
                  <a:lnTo>
                    <a:pt x="39" y="7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7"/>
                  </a:lnTo>
                  <a:lnTo>
                    <a:pt x="70" y="23"/>
                  </a:lnTo>
                  <a:lnTo>
                    <a:pt x="78" y="39"/>
                  </a:lnTo>
                  <a:lnTo>
                    <a:pt x="86" y="62"/>
                  </a:lnTo>
                  <a:lnTo>
                    <a:pt x="86" y="93"/>
                  </a:lnTo>
                  <a:lnTo>
                    <a:pt x="93" y="124"/>
                  </a:lnTo>
                  <a:lnTo>
                    <a:pt x="101" y="171"/>
                  </a:lnTo>
                  <a:lnTo>
                    <a:pt x="109" y="218"/>
                  </a:lnTo>
                  <a:lnTo>
                    <a:pt x="109" y="249"/>
                  </a:lnTo>
                </a:path>
              </a:pathLst>
            </a:custGeom>
            <a:noFill/>
            <a:ln cap="rnd" w="25560">
              <a:solidFill>
                <a:srgbClr val="00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27" name=""/>
          <p:cNvSpPr/>
          <p:nvPr/>
        </p:nvSpPr>
        <p:spPr>
          <a:xfrm>
            <a:off x="1576440" y="2044800"/>
            <a:ext cx="5362560" cy="3489120"/>
          </a:xfrm>
          <a:custGeom>
            <a:avLst/>
            <a:gdLst/>
            <a:ahLst/>
            <a:rect l="l" t="t" r="r" b="b"/>
            <a:pathLst>
              <a:path w="3378" h="2198">
                <a:moveTo>
                  <a:pt x="0" y="0"/>
                </a:moveTo>
                <a:lnTo>
                  <a:pt x="7" y="0"/>
                </a:lnTo>
                <a:lnTo>
                  <a:pt x="15" y="0"/>
                </a:lnTo>
                <a:lnTo>
                  <a:pt x="23" y="0"/>
                </a:lnTo>
                <a:lnTo>
                  <a:pt x="23" y="7"/>
                </a:lnTo>
                <a:lnTo>
                  <a:pt x="31" y="7"/>
                </a:lnTo>
                <a:lnTo>
                  <a:pt x="39" y="7"/>
                </a:lnTo>
                <a:lnTo>
                  <a:pt x="46" y="15"/>
                </a:lnTo>
                <a:lnTo>
                  <a:pt x="54" y="15"/>
                </a:lnTo>
                <a:lnTo>
                  <a:pt x="62" y="23"/>
                </a:lnTo>
                <a:lnTo>
                  <a:pt x="62" y="31"/>
                </a:lnTo>
                <a:lnTo>
                  <a:pt x="70" y="31"/>
                </a:lnTo>
                <a:lnTo>
                  <a:pt x="78" y="39"/>
                </a:lnTo>
                <a:lnTo>
                  <a:pt x="85" y="46"/>
                </a:lnTo>
                <a:lnTo>
                  <a:pt x="93" y="54"/>
                </a:lnTo>
                <a:lnTo>
                  <a:pt x="101" y="62"/>
                </a:lnTo>
                <a:lnTo>
                  <a:pt x="109" y="78"/>
                </a:lnTo>
                <a:lnTo>
                  <a:pt x="109" y="85"/>
                </a:lnTo>
                <a:lnTo>
                  <a:pt x="117" y="93"/>
                </a:lnTo>
                <a:lnTo>
                  <a:pt x="124" y="109"/>
                </a:lnTo>
                <a:lnTo>
                  <a:pt x="132" y="116"/>
                </a:lnTo>
                <a:lnTo>
                  <a:pt x="140" y="132"/>
                </a:lnTo>
                <a:lnTo>
                  <a:pt x="148" y="148"/>
                </a:lnTo>
                <a:lnTo>
                  <a:pt x="148" y="155"/>
                </a:lnTo>
                <a:lnTo>
                  <a:pt x="156" y="171"/>
                </a:lnTo>
                <a:lnTo>
                  <a:pt x="163" y="187"/>
                </a:lnTo>
                <a:lnTo>
                  <a:pt x="171" y="210"/>
                </a:lnTo>
                <a:lnTo>
                  <a:pt x="179" y="226"/>
                </a:lnTo>
                <a:lnTo>
                  <a:pt x="187" y="241"/>
                </a:lnTo>
                <a:lnTo>
                  <a:pt x="195" y="265"/>
                </a:lnTo>
                <a:lnTo>
                  <a:pt x="195" y="280"/>
                </a:lnTo>
                <a:lnTo>
                  <a:pt x="202" y="304"/>
                </a:lnTo>
                <a:lnTo>
                  <a:pt x="210" y="327"/>
                </a:lnTo>
                <a:lnTo>
                  <a:pt x="218" y="350"/>
                </a:lnTo>
                <a:lnTo>
                  <a:pt x="226" y="374"/>
                </a:lnTo>
                <a:lnTo>
                  <a:pt x="234" y="405"/>
                </a:lnTo>
                <a:lnTo>
                  <a:pt x="241" y="428"/>
                </a:lnTo>
                <a:lnTo>
                  <a:pt x="241" y="459"/>
                </a:lnTo>
                <a:lnTo>
                  <a:pt x="249" y="491"/>
                </a:lnTo>
                <a:lnTo>
                  <a:pt x="257" y="522"/>
                </a:lnTo>
                <a:lnTo>
                  <a:pt x="265" y="561"/>
                </a:lnTo>
                <a:lnTo>
                  <a:pt x="273" y="592"/>
                </a:lnTo>
                <a:lnTo>
                  <a:pt x="280" y="631"/>
                </a:lnTo>
                <a:lnTo>
                  <a:pt x="280" y="678"/>
                </a:lnTo>
                <a:lnTo>
                  <a:pt x="288" y="724"/>
                </a:lnTo>
                <a:lnTo>
                  <a:pt x="296" y="771"/>
                </a:lnTo>
                <a:lnTo>
                  <a:pt x="304" y="826"/>
                </a:lnTo>
                <a:lnTo>
                  <a:pt x="312" y="888"/>
                </a:lnTo>
                <a:lnTo>
                  <a:pt x="319" y="958"/>
                </a:lnTo>
                <a:lnTo>
                  <a:pt x="327" y="1036"/>
                </a:lnTo>
                <a:lnTo>
                  <a:pt x="327" y="1130"/>
                </a:lnTo>
                <a:lnTo>
                  <a:pt x="335" y="1262"/>
                </a:lnTo>
                <a:lnTo>
                  <a:pt x="343" y="1465"/>
                </a:lnTo>
                <a:lnTo>
                  <a:pt x="351" y="2002"/>
                </a:lnTo>
                <a:lnTo>
                  <a:pt x="358" y="1488"/>
                </a:lnTo>
                <a:lnTo>
                  <a:pt x="366" y="1371"/>
                </a:lnTo>
                <a:lnTo>
                  <a:pt x="366" y="1324"/>
                </a:lnTo>
                <a:lnTo>
                  <a:pt x="374" y="1301"/>
                </a:lnTo>
                <a:lnTo>
                  <a:pt x="382" y="1293"/>
                </a:lnTo>
                <a:lnTo>
                  <a:pt x="390" y="1301"/>
                </a:lnTo>
                <a:lnTo>
                  <a:pt x="397" y="1309"/>
                </a:lnTo>
                <a:lnTo>
                  <a:pt x="405" y="1332"/>
                </a:lnTo>
                <a:lnTo>
                  <a:pt x="413" y="1363"/>
                </a:lnTo>
                <a:lnTo>
                  <a:pt x="413" y="1395"/>
                </a:lnTo>
                <a:lnTo>
                  <a:pt x="421" y="1433"/>
                </a:lnTo>
                <a:lnTo>
                  <a:pt x="429" y="1472"/>
                </a:lnTo>
                <a:lnTo>
                  <a:pt x="436" y="1504"/>
                </a:lnTo>
                <a:lnTo>
                  <a:pt x="444" y="1535"/>
                </a:lnTo>
                <a:lnTo>
                  <a:pt x="452" y="1558"/>
                </a:lnTo>
                <a:lnTo>
                  <a:pt x="460" y="1543"/>
                </a:lnTo>
                <a:lnTo>
                  <a:pt x="468" y="1511"/>
                </a:lnTo>
                <a:lnTo>
                  <a:pt x="475" y="1480"/>
                </a:lnTo>
                <a:lnTo>
                  <a:pt x="483" y="1433"/>
                </a:lnTo>
                <a:lnTo>
                  <a:pt x="491" y="1395"/>
                </a:lnTo>
                <a:lnTo>
                  <a:pt x="499" y="1356"/>
                </a:lnTo>
                <a:lnTo>
                  <a:pt x="499" y="1317"/>
                </a:lnTo>
                <a:lnTo>
                  <a:pt x="507" y="1285"/>
                </a:lnTo>
                <a:lnTo>
                  <a:pt x="514" y="1254"/>
                </a:lnTo>
                <a:lnTo>
                  <a:pt x="522" y="1231"/>
                </a:lnTo>
                <a:lnTo>
                  <a:pt x="530" y="1207"/>
                </a:lnTo>
                <a:lnTo>
                  <a:pt x="538" y="1192"/>
                </a:lnTo>
                <a:lnTo>
                  <a:pt x="538" y="1176"/>
                </a:lnTo>
                <a:lnTo>
                  <a:pt x="546" y="1169"/>
                </a:lnTo>
                <a:lnTo>
                  <a:pt x="553" y="1153"/>
                </a:lnTo>
                <a:lnTo>
                  <a:pt x="561" y="1153"/>
                </a:lnTo>
                <a:lnTo>
                  <a:pt x="569" y="1153"/>
                </a:lnTo>
                <a:lnTo>
                  <a:pt x="577" y="1153"/>
                </a:lnTo>
                <a:lnTo>
                  <a:pt x="585" y="1153"/>
                </a:lnTo>
                <a:lnTo>
                  <a:pt x="585" y="1169"/>
                </a:lnTo>
                <a:lnTo>
                  <a:pt x="592" y="1176"/>
                </a:lnTo>
                <a:lnTo>
                  <a:pt x="600" y="1192"/>
                </a:lnTo>
                <a:lnTo>
                  <a:pt x="608" y="1223"/>
                </a:lnTo>
                <a:lnTo>
                  <a:pt x="616" y="1246"/>
                </a:lnTo>
                <a:lnTo>
                  <a:pt x="624" y="1293"/>
                </a:lnTo>
                <a:lnTo>
                  <a:pt x="624" y="1348"/>
                </a:lnTo>
                <a:lnTo>
                  <a:pt x="631" y="1426"/>
                </a:lnTo>
                <a:lnTo>
                  <a:pt x="639" y="1550"/>
                </a:lnTo>
                <a:lnTo>
                  <a:pt x="647" y="1870"/>
                </a:lnTo>
                <a:lnTo>
                  <a:pt x="655" y="1698"/>
                </a:lnTo>
                <a:lnTo>
                  <a:pt x="663" y="1488"/>
                </a:lnTo>
                <a:lnTo>
                  <a:pt x="670" y="1387"/>
                </a:lnTo>
                <a:lnTo>
                  <a:pt x="670" y="1317"/>
                </a:lnTo>
                <a:lnTo>
                  <a:pt x="678" y="1262"/>
                </a:lnTo>
                <a:lnTo>
                  <a:pt x="686" y="1223"/>
                </a:lnTo>
                <a:lnTo>
                  <a:pt x="694" y="1192"/>
                </a:lnTo>
                <a:lnTo>
                  <a:pt x="702" y="1169"/>
                </a:lnTo>
                <a:lnTo>
                  <a:pt x="709" y="1153"/>
                </a:lnTo>
                <a:lnTo>
                  <a:pt x="717" y="1137"/>
                </a:lnTo>
                <a:lnTo>
                  <a:pt x="717" y="1130"/>
                </a:lnTo>
                <a:lnTo>
                  <a:pt x="725" y="1122"/>
                </a:lnTo>
                <a:lnTo>
                  <a:pt x="733" y="1122"/>
                </a:lnTo>
                <a:lnTo>
                  <a:pt x="741" y="1122"/>
                </a:lnTo>
                <a:lnTo>
                  <a:pt x="748" y="1122"/>
                </a:lnTo>
                <a:lnTo>
                  <a:pt x="756" y="1130"/>
                </a:lnTo>
                <a:lnTo>
                  <a:pt x="756" y="1145"/>
                </a:lnTo>
                <a:lnTo>
                  <a:pt x="764" y="1161"/>
                </a:lnTo>
                <a:lnTo>
                  <a:pt x="772" y="1184"/>
                </a:lnTo>
                <a:lnTo>
                  <a:pt x="780" y="1215"/>
                </a:lnTo>
                <a:lnTo>
                  <a:pt x="787" y="1246"/>
                </a:lnTo>
                <a:lnTo>
                  <a:pt x="795" y="1293"/>
                </a:lnTo>
                <a:lnTo>
                  <a:pt x="803" y="1363"/>
                </a:lnTo>
                <a:lnTo>
                  <a:pt x="803" y="1457"/>
                </a:lnTo>
                <a:lnTo>
                  <a:pt x="811" y="1620"/>
                </a:lnTo>
                <a:lnTo>
                  <a:pt x="819" y="2197"/>
                </a:lnTo>
                <a:lnTo>
                  <a:pt x="826" y="1589"/>
                </a:lnTo>
                <a:lnTo>
                  <a:pt x="834" y="1441"/>
                </a:lnTo>
                <a:lnTo>
                  <a:pt x="842" y="1356"/>
                </a:lnTo>
                <a:lnTo>
                  <a:pt x="842" y="1293"/>
                </a:lnTo>
                <a:lnTo>
                  <a:pt x="850" y="1246"/>
                </a:lnTo>
                <a:lnTo>
                  <a:pt x="858" y="1215"/>
                </a:lnTo>
                <a:lnTo>
                  <a:pt x="865" y="1184"/>
                </a:lnTo>
                <a:lnTo>
                  <a:pt x="873" y="1169"/>
                </a:lnTo>
                <a:lnTo>
                  <a:pt x="881" y="1153"/>
                </a:lnTo>
                <a:lnTo>
                  <a:pt x="889" y="1145"/>
                </a:lnTo>
                <a:lnTo>
                  <a:pt x="889" y="1137"/>
                </a:lnTo>
                <a:lnTo>
                  <a:pt x="897" y="1130"/>
                </a:lnTo>
                <a:lnTo>
                  <a:pt x="904" y="1130"/>
                </a:lnTo>
                <a:lnTo>
                  <a:pt x="912" y="1137"/>
                </a:lnTo>
                <a:lnTo>
                  <a:pt x="920" y="1145"/>
                </a:lnTo>
                <a:lnTo>
                  <a:pt x="928" y="1153"/>
                </a:lnTo>
                <a:lnTo>
                  <a:pt x="928" y="1169"/>
                </a:lnTo>
                <a:lnTo>
                  <a:pt x="936" y="1192"/>
                </a:lnTo>
                <a:lnTo>
                  <a:pt x="943" y="1223"/>
                </a:lnTo>
                <a:lnTo>
                  <a:pt x="951" y="1254"/>
                </a:lnTo>
                <a:lnTo>
                  <a:pt x="959" y="1301"/>
                </a:lnTo>
                <a:lnTo>
                  <a:pt x="967" y="1356"/>
                </a:lnTo>
                <a:lnTo>
                  <a:pt x="975" y="1441"/>
                </a:lnTo>
                <a:lnTo>
                  <a:pt x="975" y="1589"/>
                </a:lnTo>
                <a:lnTo>
                  <a:pt x="982" y="2041"/>
                </a:lnTo>
                <a:lnTo>
                  <a:pt x="990" y="1659"/>
                </a:lnTo>
                <a:lnTo>
                  <a:pt x="998" y="1480"/>
                </a:lnTo>
                <a:lnTo>
                  <a:pt x="1006" y="1387"/>
                </a:lnTo>
                <a:lnTo>
                  <a:pt x="1014" y="1324"/>
                </a:lnTo>
                <a:lnTo>
                  <a:pt x="1014" y="1278"/>
                </a:lnTo>
                <a:lnTo>
                  <a:pt x="1021" y="1239"/>
                </a:lnTo>
                <a:lnTo>
                  <a:pt x="1029" y="1215"/>
                </a:lnTo>
                <a:lnTo>
                  <a:pt x="1037" y="1192"/>
                </a:lnTo>
                <a:lnTo>
                  <a:pt x="1045" y="1176"/>
                </a:lnTo>
                <a:lnTo>
                  <a:pt x="1053" y="1161"/>
                </a:lnTo>
                <a:lnTo>
                  <a:pt x="1060" y="1153"/>
                </a:lnTo>
                <a:lnTo>
                  <a:pt x="1068" y="1153"/>
                </a:lnTo>
                <a:lnTo>
                  <a:pt x="1076" y="1153"/>
                </a:lnTo>
                <a:lnTo>
                  <a:pt x="1084" y="1161"/>
                </a:lnTo>
                <a:lnTo>
                  <a:pt x="1092" y="1176"/>
                </a:lnTo>
                <a:lnTo>
                  <a:pt x="1099" y="1192"/>
                </a:lnTo>
                <a:lnTo>
                  <a:pt x="1107" y="1207"/>
                </a:lnTo>
                <a:lnTo>
                  <a:pt x="1107" y="1239"/>
                </a:lnTo>
                <a:lnTo>
                  <a:pt x="1115" y="1270"/>
                </a:lnTo>
                <a:lnTo>
                  <a:pt x="1123" y="1317"/>
                </a:lnTo>
                <a:lnTo>
                  <a:pt x="1131" y="1371"/>
                </a:lnTo>
                <a:lnTo>
                  <a:pt x="1138" y="1449"/>
                </a:lnTo>
                <a:lnTo>
                  <a:pt x="1146" y="1582"/>
                </a:lnTo>
                <a:lnTo>
                  <a:pt x="1146" y="1932"/>
                </a:lnTo>
                <a:lnTo>
                  <a:pt x="1154" y="1722"/>
                </a:lnTo>
                <a:lnTo>
                  <a:pt x="1162" y="1519"/>
                </a:lnTo>
                <a:lnTo>
                  <a:pt x="1170" y="1418"/>
                </a:lnTo>
                <a:lnTo>
                  <a:pt x="1177" y="1348"/>
                </a:lnTo>
                <a:lnTo>
                  <a:pt x="1185" y="1301"/>
                </a:lnTo>
                <a:lnTo>
                  <a:pt x="1193" y="1262"/>
                </a:lnTo>
                <a:lnTo>
                  <a:pt x="1193" y="1239"/>
                </a:lnTo>
                <a:lnTo>
                  <a:pt x="1201" y="1215"/>
                </a:lnTo>
                <a:lnTo>
                  <a:pt x="1209" y="1200"/>
                </a:lnTo>
                <a:lnTo>
                  <a:pt x="1216" y="1184"/>
                </a:lnTo>
                <a:lnTo>
                  <a:pt x="1224" y="1176"/>
                </a:lnTo>
                <a:lnTo>
                  <a:pt x="1232" y="1176"/>
                </a:lnTo>
                <a:lnTo>
                  <a:pt x="1232" y="1169"/>
                </a:lnTo>
                <a:lnTo>
                  <a:pt x="1240" y="1176"/>
                </a:lnTo>
                <a:lnTo>
                  <a:pt x="1248" y="1184"/>
                </a:lnTo>
                <a:lnTo>
                  <a:pt x="1255" y="1192"/>
                </a:lnTo>
                <a:lnTo>
                  <a:pt x="1263" y="1207"/>
                </a:lnTo>
                <a:lnTo>
                  <a:pt x="1271" y="1231"/>
                </a:lnTo>
                <a:lnTo>
                  <a:pt x="1279" y="1254"/>
                </a:lnTo>
                <a:lnTo>
                  <a:pt x="1279" y="1285"/>
                </a:lnTo>
                <a:lnTo>
                  <a:pt x="1287" y="1332"/>
                </a:lnTo>
                <a:lnTo>
                  <a:pt x="1294" y="1387"/>
                </a:lnTo>
                <a:lnTo>
                  <a:pt x="1302" y="1465"/>
                </a:lnTo>
                <a:lnTo>
                  <a:pt x="1310" y="1589"/>
                </a:lnTo>
                <a:lnTo>
                  <a:pt x="1318" y="1893"/>
                </a:lnTo>
                <a:lnTo>
                  <a:pt x="1318" y="1769"/>
                </a:lnTo>
                <a:lnTo>
                  <a:pt x="1326" y="1550"/>
                </a:lnTo>
                <a:lnTo>
                  <a:pt x="1333" y="1441"/>
                </a:lnTo>
                <a:lnTo>
                  <a:pt x="1341" y="1371"/>
                </a:lnTo>
                <a:lnTo>
                  <a:pt x="1349" y="1324"/>
                </a:lnTo>
                <a:lnTo>
                  <a:pt x="1357" y="1285"/>
                </a:lnTo>
                <a:lnTo>
                  <a:pt x="1365" y="1254"/>
                </a:lnTo>
                <a:lnTo>
                  <a:pt x="1365" y="1231"/>
                </a:lnTo>
                <a:lnTo>
                  <a:pt x="1372" y="1215"/>
                </a:lnTo>
                <a:lnTo>
                  <a:pt x="1380" y="1207"/>
                </a:lnTo>
                <a:lnTo>
                  <a:pt x="1388" y="1200"/>
                </a:lnTo>
                <a:lnTo>
                  <a:pt x="1396" y="1192"/>
                </a:lnTo>
                <a:lnTo>
                  <a:pt x="1404" y="1192"/>
                </a:lnTo>
                <a:lnTo>
                  <a:pt x="1411" y="1200"/>
                </a:lnTo>
                <a:lnTo>
                  <a:pt x="1419" y="1215"/>
                </a:lnTo>
                <a:lnTo>
                  <a:pt x="1427" y="1223"/>
                </a:lnTo>
                <a:lnTo>
                  <a:pt x="1435" y="1246"/>
                </a:lnTo>
                <a:lnTo>
                  <a:pt x="1443" y="1270"/>
                </a:lnTo>
                <a:lnTo>
                  <a:pt x="1450" y="1301"/>
                </a:lnTo>
                <a:lnTo>
                  <a:pt x="1450" y="1348"/>
                </a:lnTo>
                <a:lnTo>
                  <a:pt x="1458" y="1402"/>
                </a:lnTo>
                <a:lnTo>
                  <a:pt x="1466" y="1480"/>
                </a:lnTo>
                <a:lnTo>
                  <a:pt x="1474" y="1597"/>
                </a:lnTo>
                <a:lnTo>
                  <a:pt x="1482" y="1885"/>
                </a:lnTo>
                <a:lnTo>
                  <a:pt x="1489" y="1800"/>
                </a:lnTo>
                <a:lnTo>
                  <a:pt x="1497" y="1574"/>
                </a:lnTo>
                <a:lnTo>
                  <a:pt x="1497" y="1465"/>
                </a:lnTo>
                <a:lnTo>
                  <a:pt x="1505" y="1395"/>
                </a:lnTo>
                <a:lnTo>
                  <a:pt x="1513" y="1348"/>
                </a:lnTo>
                <a:lnTo>
                  <a:pt x="1521" y="1309"/>
                </a:lnTo>
                <a:lnTo>
                  <a:pt x="1528" y="1278"/>
                </a:lnTo>
                <a:lnTo>
                  <a:pt x="1536" y="1254"/>
                </a:lnTo>
                <a:lnTo>
                  <a:pt x="1536" y="1239"/>
                </a:lnTo>
                <a:lnTo>
                  <a:pt x="1544" y="1223"/>
                </a:lnTo>
                <a:lnTo>
                  <a:pt x="1552" y="1215"/>
                </a:lnTo>
                <a:lnTo>
                  <a:pt x="1560" y="1207"/>
                </a:lnTo>
                <a:lnTo>
                  <a:pt x="1567" y="1207"/>
                </a:lnTo>
                <a:lnTo>
                  <a:pt x="1575" y="1215"/>
                </a:lnTo>
                <a:lnTo>
                  <a:pt x="1583" y="1215"/>
                </a:lnTo>
                <a:lnTo>
                  <a:pt x="1583" y="1231"/>
                </a:lnTo>
                <a:lnTo>
                  <a:pt x="1591" y="1246"/>
                </a:lnTo>
                <a:lnTo>
                  <a:pt x="1599" y="1262"/>
                </a:lnTo>
                <a:lnTo>
                  <a:pt x="1606" y="1285"/>
                </a:lnTo>
                <a:lnTo>
                  <a:pt x="1614" y="1317"/>
                </a:lnTo>
                <a:lnTo>
                  <a:pt x="1622" y="1363"/>
                </a:lnTo>
                <a:lnTo>
                  <a:pt x="1622" y="1418"/>
                </a:lnTo>
                <a:lnTo>
                  <a:pt x="1630" y="1488"/>
                </a:lnTo>
                <a:lnTo>
                  <a:pt x="1638" y="1613"/>
                </a:lnTo>
                <a:lnTo>
                  <a:pt x="1645" y="1878"/>
                </a:lnTo>
                <a:lnTo>
                  <a:pt x="1653" y="1831"/>
                </a:lnTo>
                <a:lnTo>
                  <a:pt x="1661" y="1597"/>
                </a:lnTo>
                <a:lnTo>
                  <a:pt x="1669" y="1488"/>
                </a:lnTo>
                <a:lnTo>
                  <a:pt x="1669" y="1410"/>
                </a:lnTo>
                <a:lnTo>
                  <a:pt x="1677" y="1363"/>
                </a:lnTo>
                <a:lnTo>
                  <a:pt x="1684" y="1324"/>
                </a:lnTo>
                <a:lnTo>
                  <a:pt x="1692" y="1293"/>
                </a:lnTo>
                <a:lnTo>
                  <a:pt x="1700" y="1270"/>
                </a:lnTo>
                <a:lnTo>
                  <a:pt x="1708" y="1254"/>
                </a:lnTo>
                <a:lnTo>
                  <a:pt x="1708" y="1239"/>
                </a:lnTo>
                <a:lnTo>
                  <a:pt x="1716" y="1231"/>
                </a:lnTo>
                <a:lnTo>
                  <a:pt x="1723" y="1223"/>
                </a:lnTo>
                <a:lnTo>
                  <a:pt x="1731" y="1223"/>
                </a:lnTo>
                <a:lnTo>
                  <a:pt x="1739" y="1231"/>
                </a:lnTo>
                <a:lnTo>
                  <a:pt x="1747" y="1231"/>
                </a:lnTo>
                <a:lnTo>
                  <a:pt x="1755" y="1246"/>
                </a:lnTo>
                <a:lnTo>
                  <a:pt x="1755" y="1254"/>
                </a:lnTo>
                <a:lnTo>
                  <a:pt x="1762" y="1278"/>
                </a:lnTo>
                <a:lnTo>
                  <a:pt x="1770" y="1301"/>
                </a:lnTo>
                <a:lnTo>
                  <a:pt x="1778" y="1332"/>
                </a:lnTo>
                <a:lnTo>
                  <a:pt x="1786" y="1371"/>
                </a:lnTo>
                <a:lnTo>
                  <a:pt x="1794" y="1426"/>
                </a:lnTo>
                <a:lnTo>
                  <a:pt x="1794" y="1504"/>
                </a:lnTo>
                <a:lnTo>
                  <a:pt x="1801" y="1620"/>
                </a:lnTo>
                <a:lnTo>
                  <a:pt x="1809" y="1885"/>
                </a:lnTo>
                <a:lnTo>
                  <a:pt x="1817" y="1854"/>
                </a:lnTo>
                <a:lnTo>
                  <a:pt x="1825" y="1613"/>
                </a:lnTo>
                <a:lnTo>
                  <a:pt x="1833" y="1504"/>
                </a:lnTo>
                <a:lnTo>
                  <a:pt x="1840" y="1426"/>
                </a:lnTo>
                <a:lnTo>
                  <a:pt x="1840" y="1379"/>
                </a:lnTo>
                <a:lnTo>
                  <a:pt x="1848" y="1340"/>
                </a:lnTo>
                <a:lnTo>
                  <a:pt x="1856" y="1309"/>
                </a:lnTo>
                <a:lnTo>
                  <a:pt x="1864" y="1285"/>
                </a:lnTo>
                <a:lnTo>
                  <a:pt x="1872" y="1270"/>
                </a:lnTo>
                <a:lnTo>
                  <a:pt x="1879" y="1254"/>
                </a:lnTo>
                <a:lnTo>
                  <a:pt x="1879" y="1246"/>
                </a:lnTo>
                <a:lnTo>
                  <a:pt x="1887" y="1239"/>
                </a:lnTo>
                <a:lnTo>
                  <a:pt x="1895" y="1239"/>
                </a:lnTo>
                <a:lnTo>
                  <a:pt x="1903" y="1239"/>
                </a:lnTo>
                <a:lnTo>
                  <a:pt x="1911" y="1246"/>
                </a:lnTo>
                <a:lnTo>
                  <a:pt x="1918" y="1254"/>
                </a:lnTo>
                <a:lnTo>
                  <a:pt x="1926" y="1270"/>
                </a:lnTo>
                <a:lnTo>
                  <a:pt x="1926" y="1293"/>
                </a:lnTo>
                <a:lnTo>
                  <a:pt x="1934" y="1317"/>
                </a:lnTo>
                <a:lnTo>
                  <a:pt x="1942" y="1348"/>
                </a:lnTo>
                <a:lnTo>
                  <a:pt x="1950" y="1387"/>
                </a:lnTo>
                <a:lnTo>
                  <a:pt x="1957" y="1441"/>
                </a:lnTo>
                <a:lnTo>
                  <a:pt x="1965" y="1519"/>
                </a:lnTo>
                <a:lnTo>
                  <a:pt x="1973" y="1636"/>
                </a:lnTo>
                <a:lnTo>
                  <a:pt x="1973" y="1893"/>
                </a:lnTo>
                <a:lnTo>
                  <a:pt x="1981" y="1878"/>
                </a:lnTo>
                <a:lnTo>
                  <a:pt x="1989" y="1628"/>
                </a:lnTo>
                <a:lnTo>
                  <a:pt x="1996" y="1519"/>
                </a:lnTo>
                <a:lnTo>
                  <a:pt x="2004" y="1441"/>
                </a:lnTo>
                <a:lnTo>
                  <a:pt x="2012" y="1387"/>
                </a:lnTo>
                <a:lnTo>
                  <a:pt x="2012" y="1348"/>
                </a:lnTo>
                <a:lnTo>
                  <a:pt x="2020" y="1317"/>
                </a:lnTo>
                <a:lnTo>
                  <a:pt x="2028" y="1293"/>
                </a:lnTo>
                <a:lnTo>
                  <a:pt x="2035" y="1278"/>
                </a:lnTo>
                <a:lnTo>
                  <a:pt x="2043" y="1262"/>
                </a:lnTo>
                <a:lnTo>
                  <a:pt x="2051" y="1254"/>
                </a:lnTo>
                <a:lnTo>
                  <a:pt x="2059" y="1254"/>
                </a:lnTo>
                <a:lnTo>
                  <a:pt x="2059" y="1246"/>
                </a:lnTo>
                <a:lnTo>
                  <a:pt x="2067" y="1254"/>
                </a:lnTo>
                <a:lnTo>
                  <a:pt x="2074" y="1262"/>
                </a:lnTo>
                <a:lnTo>
                  <a:pt x="2082" y="1270"/>
                </a:lnTo>
                <a:lnTo>
                  <a:pt x="2090" y="1285"/>
                </a:lnTo>
                <a:lnTo>
                  <a:pt x="2098" y="1301"/>
                </a:lnTo>
                <a:lnTo>
                  <a:pt x="2098" y="1324"/>
                </a:lnTo>
                <a:lnTo>
                  <a:pt x="2106" y="1356"/>
                </a:lnTo>
                <a:lnTo>
                  <a:pt x="2113" y="1395"/>
                </a:lnTo>
                <a:lnTo>
                  <a:pt x="2121" y="1449"/>
                </a:lnTo>
                <a:lnTo>
                  <a:pt x="2129" y="1527"/>
                </a:lnTo>
                <a:lnTo>
                  <a:pt x="2137" y="1644"/>
                </a:lnTo>
                <a:lnTo>
                  <a:pt x="2145" y="1893"/>
                </a:lnTo>
                <a:lnTo>
                  <a:pt x="2152" y="1644"/>
                </a:lnTo>
                <a:lnTo>
                  <a:pt x="2160" y="1527"/>
                </a:lnTo>
                <a:lnTo>
                  <a:pt x="2168" y="1457"/>
                </a:lnTo>
                <a:lnTo>
                  <a:pt x="2176" y="1402"/>
                </a:lnTo>
                <a:lnTo>
                  <a:pt x="2184" y="1363"/>
                </a:lnTo>
                <a:lnTo>
                  <a:pt x="2184" y="1332"/>
                </a:lnTo>
                <a:lnTo>
                  <a:pt x="2191" y="1309"/>
                </a:lnTo>
                <a:lnTo>
                  <a:pt x="2199" y="1293"/>
                </a:lnTo>
                <a:lnTo>
                  <a:pt x="2207" y="1278"/>
                </a:lnTo>
                <a:lnTo>
                  <a:pt x="2215" y="1270"/>
                </a:lnTo>
                <a:lnTo>
                  <a:pt x="2223" y="1262"/>
                </a:lnTo>
                <a:lnTo>
                  <a:pt x="2230" y="1262"/>
                </a:lnTo>
                <a:lnTo>
                  <a:pt x="2238" y="1270"/>
                </a:lnTo>
                <a:lnTo>
                  <a:pt x="2246" y="1278"/>
                </a:lnTo>
                <a:lnTo>
                  <a:pt x="2254" y="1293"/>
                </a:lnTo>
                <a:lnTo>
                  <a:pt x="2262" y="1309"/>
                </a:lnTo>
                <a:lnTo>
                  <a:pt x="2269" y="1332"/>
                </a:lnTo>
                <a:lnTo>
                  <a:pt x="2269" y="1363"/>
                </a:lnTo>
                <a:lnTo>
                  <a:pt x="2277" y="1410"/>
                </a:lnTo>
                <a:lnTo>
                  <a:pt x="2285" y="1465"/>
                </a:lnTo>
                <a:lnTo>
                  <a:pt x="2293" y="1535"/>
                </a:lnTo>
                <a:lnTo>
                  <a:pt x="2301" y="1652"/>
                </a:lnTo>
                <a:lnTo>
                  <a:pt x="2308" y="1901"/>
                </a:lnTo>
                <a:lnTo>
                  <a:pt x="2316" y="1909"/>
                </a:lnTo>
                <a:lnTo>
                  <a:pt x="2316" y="1652"/>
                </a:lnTo>
                <a:lnTo>
                  <a:pt x="2324" y="1535"/>
                </a:lnTo>
                <a:lnTo>
                  <a:pt x="2332" y="1465"/>
                </a:lnTo>
                <a:lnTo>
                  <a:pt x="2340" y="1410"/>
                </a:lnTo>
                <a:lnTo>
                  <a:pt x="2347" y="1371"/>
                </a:lnTo>
                <a:lnTo>
                  <a:pt x="2355" y="1340"/>
                </a:lnTo>
                <a:lnTo>
                  <a:pt x="2363" y="1317"/>
                </a:lnTo>
                <a:lnTo>
                  <a:pt x="2363" y="1301"/>
                </a:lnTo>
                <a:lnTo>
                  <a:pt x="2371" y="1285"/>
                </a:lnTo>
                <a:lnTo>
                  <a:pt x="2379" y="1278"/>
                </a:lnTo>
                <a:lnTo>
                  <a:pt x="2386" y="1270"/>
                </a:lnTo>
                <a:lnTo>
                  <a:pt x="2394" y="1270"/>
                </a:lnTo>
                <a:lnTo>
                  <a:pt x="2402" y="1270"/>
                </a:lnTo>
                <a:lnTo>
                  <a:pt x="2402" y="1278"/>
                </a:lnTo>
                <a:lnTo>
                  <a:pt x="2410" y="1285"/>
                </a:lnTo>
                <a:lnTo>
                  <a:pt x="2418" y="1301"/>
                </a:lnTo>
                <a:lnTo>
                  <a:pt x="2425" y="1317"/>
                </a:lnTo>
                <a:lnTo>
                  <a:pt x="2433" y="1348"/>
                </a:lnTo>
                <a:lnTo>
                  <a:pt x="2441" y="1379"/>
                </a:lnTo>
                <a:lnTo>
                  <a:pt x="2449" y="1418"/>
                </a:lnTo>
                <a:lnTo>
                  <a:pt x="2449" y="1472"/>
                </a:lnTo>
                <a:lnTo>
                  <a:pt x="2457" y="1543"/>
                </a:lnTo>
                <a:lnTo>
                  <a:pt x="2464" y="1659"/>
                </a:lnTo>
                <a:lnTo>
                  <a:pt x="2472" y="1909"/>
                </a:lnTo>
                <a:lnTo>
                  <a:pt x="2480" y="1917"/>
                </a:lnTo>
                <a:lnTo>
                  <a:pt x="2488" y="1659"/>
                </a:lnTo>
                <a:lnTo>
                  <a:pt x="2488" y="1543"/>
                </a:lnTo>
                <a:lnTo>
                  <a:pt x="2496" y="1472"/>
                </a:lnTo>
                <a:lnTo>
                  <a:pt x="2503" y="1418"/>
                </a:lnTo>
                <a:lnTo>
                  <a:pt x="2511" y="1379"/>
                </a:lnTo>
                <a:lnTo>
                  <a:pt x="2519" y="1348"/>
                </a:lnTo>
                <a:lnTo>
                  <a:pt x="2527" y="1324"/>
                </a:lnTo>
                <a:lnTo>
                  <a:pt x="2535" y="1309"/>
                </a:lnTo>
                <a:lnTo>
                  <a:pt x="2535" y="1293"/>
                </a:lnTo>
                <a:lnTo>
                  <a:pt x="2542" y="1285"/>
                </a:lnTo>
                <a:lnTo>
                  <a:pt x="2550" y="1278"/>
                </a:lnTo>
                <a:lnTo>
                  <a:pt x="2558" y="1278"/>
                </a:lnTo>
                <a:lnTo>
                  <a:pt x="2566" y="1278"/>
                </a:lnTo>
                <a:lnTo>
                  <a:pt x="2574" y="1285"/>
                </a:lnTo>
                <a:lnTo>
                  <a:pt x="2574" y="1293"/>
                </a:lnTo>
                <a:lnTo>
                  <a:pt x="2581" y="1309"/>
                </a:lnTo>
                <a:lnTo>
                  <a:pt x="2589" y="1324"/>
                </a:lnTo>
                <a:lnTo>
                  <a:pt x="2597" y="1348"/>
                </a:lnTo>
                <a:lnTo>
                  <a:pt x="2605" y="1379"/>
                </a:lnTo>
                <a:lnTo>
                  <a:pt x="2613" y="1426"/>
                </a:lnTo>
                <a:lnTo>
                  <a:pt x="2620" y="1472"/>
                </a:lnTo>
                <a:lnTo>
                  <a:pt x="2620" y="1550"/>
                </a:lnTo>
                <a:lnTo>
                  <a:pt x="2628" y="1667"/>
                </a:lnTo>
                <a:lnTo>
                  <a:pt x="2636" y="1917"/>
                </a:lnTo>
                <a:lnTo>
                  <a:pt x="2644" y="1924"/>
                </a:lnTo>
                <a:lnTo>
                  <a:pt x="2652" y="1667"/>
                </a:lnTo>
                <a:lnTo>
                  <a:pt x="2659" y="1550"/>
                </a:lnTo>
                <a:lnTo>
                  <a:pt x="2659" y="1480"/>
                </a:lnTo>
                <a:lnTo>
                  <a:pt x="2667" y="1426"/>
                </a:lnTo>
                <a:lnTo>
                  <a:pt x="2675" y="1387"/>
                </a:lnTo>
                <a:lnTo>
                  <a:pt x="2683" y="1356"/>
                </a:lnTo>
                <a:lnTo>
                  <a:pt x="2691" y="1332"/>
                </a:lnTo>
                <a:lnTo>
                  <a:pt x="2698" y="1309"/>
                </a:lnTo>
                <a:lnTo>
                  <a:pt x="2706" y="1301"/>
                </a:lnTo>
                <a:lnTo>
                  <a:pt x="2706" y="1293"/>
                </a:lnTo>
                <a:lnTo>
                  <a:pt x="2714" y="1285"/>
                </a:lnTo>
                <a:lnTo>
                  <a:pt x="2722" y="1285"/>
                </a:lnTo>
                <a:lnTo>
                  <a:pt x="2730" y="1285"/>
                </a:lnTo>
                <a:lnTo>
                  <a:pt x="2737" y="1293"/>
                </a:lnTo>
                <a:lnTo>
                  <a:pt x="2745" y="1301"/>
                </a:lnTo>
                <a:lnTo>
                  <a:pt x="2753" y="1317"/>
                </a:lnTo>
                <a:lnTo>
                  <a:pt x="2753" y="1332"/>
                </a:lnTo>
                <a:lnTo>
                  <a:pt x="2761" y="1356"/>
                </a:lnTo>
                <a:lnTo>
                  <a:pt x="2769" y="1387"/>
                </a:lnTo>
                <a:lnTo>
                  <a:pt x="2776" y="1426"/>
                </a:lnTo>
                <a:lnTo>
                  <a:pt x="2784" y="1480"/>
                </a:lnTo>
                <a:lnTo>
                  <a:pt x="2792" y="1558"/>
                </a:lnTo>
                <a:lnTo>
                  <a:pt x="2792" y="1667"/>
                </a:lnTo>
                <a:lnTo>
                  <a:pt x="2800" y="1917"/>
                </a:lnTo>
                <a:lnTo>
                  <a:pt x="2808" y="1924"/>
                </a:lnTo>
                <a:lnTo>
                  <a:pt x="2815" y="1675"/>
                </a:lnTo>
                <a:lnTo>
                  <a:pt x="2823" y="1558"/>
                </a:lnTo>
                <a:lnTo>
                  <a:pt x="2831" y="1480"/>
                </a:lnTo>
                <a:lnTo>
                  <a:pt x="2839" y="1433"/>
                </a:lnTo>
                <a:lnTo>
                  <a:pt x="2839" y="1387"/>
                </a:lnTo>
                <a:lnTo>
                  <a:pt x="2847" y="1356"/>
                </a:lnTo>
                <a:lnTo>
                  <a:pt x="2854" y="1332"/>
                </a:lnTo>
                <a:lnTo>
                  <a:pt x="2862" y="1317"/>
                </a:lnTo>
                <a:lnTo>
                  <a:pt x="2870" y="1301"/>
                </a:lnTo>
                <a:lnTo>
                  <a:pt x="2878" y="1293"/>
                </a:lnTo>
                <a:lnTo>
                  <a:pt x="2878" y="1285"/>
                </a:lnTo>
                <a:lnTo>
                  <a:pt x="2886" y="1285"/>
                </a:lnTo>
                <a:lnTo>
                  <a:pt x="2893" y="1285"/>
                </a:lnTo>
                <a:lnTo>
                  <a:pt x="2901" y="1293"/>
                </a:lnTo>
                <a:lnTo>
                  <a:pt x="2909" y="1301"/>
                </a:lnTo>
                <a:lnTo>
                  <a:pt x="2917" y="1317"/>
                </a:lnTo>
                <a:lnTo>
                  <a:pt x="2925" y="1340"/>
                </a:lnTo>
                <a:lnTo>
                  <a:pt x="2925" y="1363"/>
                </a:lnTo>
                <a:lnTo>
                  <a:pt x="2932" y="1395"/>
                </a:lnTo>
                <a:lnTo>
                  <a:pt x="2940" y="1433"/>
                </a:lnTo>
                <a:lnTo>
                  <a:pt x="2948" y="1488"/>
                </a:lnTo>
                <a:lnTo>
                  <a:pt x="2956" y="1558"/>
                </a:lnTo>
                <a:lnTo>
                  <a:pt x="2964" y="1675"/>
                </a:lnTo>
                <a:lnTo>
                  <a:pt x="2964" y="1924"/>
                </a:lnTo>
                <a:lnTo>
                  <a:pt x="2971" y="1932"/>
                </a:lnTo>
                <a:lnTo>
                  <a:pt x="2979" y="1675"/>
                </a:lnTo>
                <a:lnTo>
                  <a:pt x="2987" y="1558"/>
                </a:lnTo>
                <a:lnTo>
                  <a:pt x="2995" y="1488"/>
                </a:lnTo>
                <a:lnTo>
                  <a:pt x="3003" y="1433"/>
                </a:lnTo>
                <a:lnTo>
                  <a:pt x="3010" y="1395"/>
                </a:lnTo>
                <a:lnTo>
                  <a:pt x="3010" y="1363"/>
                </a:lnTo>
                <a:lnTo>
                  <a:pt x="3018" y="1340"/>
                </a:lnTo>
                <a:lnTo>
                  <a:pt x="3026" y="1317"/>
                </a:lnTo>
                <a:lnTo>
                  <a:pt x="3034" y="1309"/>
                </a:lnTo>
                <a:lnTo>
                  <a:pt x="3042" y="1301"/>
                </a:lnTo>
                <a:lnTo>
                  <a:pt x="3049" y="1293"/>
                </a:lnTo>
                <a:lnTo>
                  <a:pt x="3057" y="1293"/>
                </a:lnTo>
                <a:lnTo>
                  <a:pt x="3065" y="1301"/>
                </a:lnTo>
                <a:lnTo>
                  <a:pt x="3073" y="1309"/>
                </a:lnTo>
                <a:lnTo>
                  <a:pt x="3081" y="1324"/>
                </a:lnTo>
                <a:lnTo>
                  <a:pt x="3088" y="1340"/>
                </a:lnTo>
                <a:lnTo>
                  <a:pt x="3096" y="1363"/>
                </a:lnTo>
                <a:lnTo>
                  <a:pt x="3096" y="1395"/>
                </a:lnTo>
                <a:lnTo>
                  <a:pt x="3104" y="1433"/>
                </a:lnTo>
                <a:lnTo>
                  <a:pt x="3112" y="1488"/>
                </a:lnTo>
                <a:lnTo>
                  <a:pt x="3120" y="1558"/>
                </a:lnTo>
                <a:lnTo>
                  <a:pt x="3127" y="1675"/>
                </a:lnTo>
                <a:lnTo>
                  <a:pt x="3135" y="1924"/>
                </a:lnTo>
                <a:lnTo>
                  <a:pt x="3135" y="1932"/>
                </a:lnTo>
                <a:lnTo>
                  <a:pt x="3143" y="1675"/>
                </a:lnTo>
                <a:lnTo>
                  <a:pt x="3151" y="1566"/>
                </a:lnTo>
                <a:lnTo>
                  <a:pt x="3159" y="1488"/>
                </a:lnTo>
                <a:lnTo>
                  <a:pt x="3166" y="1433"/>
                </a:lnTo>
                <a:lnTo>
                  <a:pt x="3174" y="1395"/>
                </a:lnTo>
                <a:lnTo>
                  <a:pt x="3182" y="1363"/>
                </a:lnTo>
                <a:lnTo>
                  <a:pt x="3182" y="1340"/>
                </a:lnTo>
                <a:lnTo>
                  <a:pt x="3190" y="1324"/>
                </a:lnTo>
                <a:lnTo>
                  <a:pt x="3198" y="1309"/>
                </a:lnTo>
                <a:lnTo>
                  <a:pt x="3205" y="1301"/>
                </a:lnTo>
                <a:lnTo>
                  <a:pt x="3213" y="1293"/>
                </a:lnTo>
                <a:lnTo>
                  <a:pt x="3221" y="1293"/>
                </a:lnTo>
                <a:lnTo>
                  <a:pt x="3229" y="1293"/>
                </a:lnTo>
                <a:lnTo>
                  <a:pt x="3229" y="1301"/>
                </a:lnTo>
                <a:lnTo>
                  <a:pt x="3237" y="1309"/>
                </a:lnTo>
                <a:lnTo>
                  <a:pt x="3244" y="1324"/>
                </a:lnTo>
                <a:lnTo>
                  <a:pt x="3252" y="1340"/>
                </a:lnTo>
                <a:lnTo>
                  <a:pt x="3260" y="1363"/>
                </a:lnTo>
                <a:lnTo>
                  <a:pt x="3268" y="1395"/>
                </a:lnTo>
                <a:lnTo>
                  <a:pt x="3268" y="1433"/>
                </a:lnTo>
                <a:lnTo>
                  <a:pt x="3276" y="1488"/>
                </a:lnTo>
                <a:lnTo>
                  <a:pt x="3283" y="1566"/>
                </a:lnTo>
                <a:lnTo>
                  <a:pt x="3291" y="1675"/>
                </a:lnTo>
                <a:lnTo>
                  <a:pt x="3299" y="1932"/>
                </a:lnTo>
                <a:lnTo>
                  <a:pt x="3307" y="1932"/>
                </a:lnTo>
                <a:lnTo>
                  <a:pt x="3315" y="1683"/>
                </a:lnTo>
                <a:lnTo>
                  <a:pt x="3315" y="1566"/>
                </a:lnTo>
                <a:lnTo>
                  <a:pt x="3322" y="1488"/>
                </a:lnTo>
                <a:lnTo>
                  <a:pt x="3330" y="1433"/>
                </a:lnTo>
                <a:lnTo>
                  <a:pt x="3338" y="1395"/>
                </a:lnTo>
                <a:lnTo>
                  <a:pt x="3346" y="1363"/>
                </a:lnTo>
                <a:lnTo>
                  <a:pt x="3354" y="1340"/>
                </a:lnTo>
                <a:lnTo>
                  <a:pt x="3354" y="1324"/>
                </a:lnTo>
                <a:lnTo>
                  <a:pt x="3361" y="1309"/>
                </a:lnTo>
                <a:lnTo>
                  <a:pt x="3369" y="1301"/>
                </a:lnTo>
                <a:lnTo>
                  <a:pt x="3377" y="1293"/>
                </a:lnTo>
              </a:path>
            </a:pathLst>
          </a:custGeom>
          <a:noFill/>
          <a:ln cap="rnd" w="25560">
            <a:solidFill>
              <a:srgbClr val="8a88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28" name=""/>
          <p:cNvGrpSpPr/>
          <p:nvPr/>
        </p:nvGrpSpPr>
        <p:grpSpPr>
          <a:xfrm>
            <a:off x="1576440" y="2044800"/>
            <a:ext cx="5263920" cy="4813200"/>
            <a:chOff x="1576440" y="2044800"/>
            <a:chExt cx="5263920" cy="4813200"/>
          </a:xfrm>
        </p:grpSpPr>
        <p:sp>
          <p:nvSpPr>
            <p:cNvPr id="3629" name=""/>
            <p:cNvSpPr/>
            <p:nvPr/>
          </p:nvSpPr>
          <p:spPr>
            <a:xfrm>
              <a:off x="1576440" y="2044800"/>
              <a:ext cx="1338120" cy="4813200"/>
            </a:xfrm>
            <a:custGeom>
              <a:avLst/>
              <a:gdLst/>
              <a:ahLst/>
              <a:rect l="l" t="t" r="r" b="b"/>
              <a:pathLst>
                <a:path w="843" h="3032">
                  <a:moveTo>
                    <a:pt x="0" y="0"/>
                  </a:moveTo>
                  <a:lnTo>
                    <a:pt x="7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7"/>
                  </a:lnTo>
                  <a:lnTo>
                    <a:pt x="39" y="7"/>
                  </a:lnTo>
                  <a:lnTo>
                    <a:pt x="46" y="7"/>
                  </a:lnTo>
                  <a:lnTo>
                    <a:pt x="54" y="7"/>
                  </a:lnTo>
                  <a:lnTo>
                    <a:pt x="62" y="15"/>
                  </a:lnTo>
                  <a:lnTo>
                    <a:pt x="70" y="23"/>
                  </a:lnTo>
                  <a:lnTo>
                    <a:pt x="78" y="23"/>
                  </a:lnTo>
                  <a:lnTo>
                    <a:pt x="85" y="31"/>
                  </a:lnTo>
                  <a:lnTo>
                    <a:pt x="93" y="31"/>
                  </a:lnTo>
                  <a:lnTo>
                    <a:pt x="101" y="39"/>
                  </a:lnTo>
                  <a:lnTo>
                    <a:pt x="109" y="46"/>
                  </a:lnTo>
                  <a:lnTo>
                    <a:pt x="109" y="54"/>
                  </a:lnTo>
                  <a:lnTo>
                    <a:pt x="117" y="54"/>
                  </a:lnTo>
                  <a:lnTo>
                    <a:pt x="124" y="62"/>
                  </a:lnTo>
                  <a:lnTo>
                    <a:pt x="132" y="70"/>
                  </a:lnTo>
                  <a:lnTo>
                    <a:pt x="140" y="78"/>
                  </a:lnTo>
                  <a:lnTo>
                    <a:pt x="148" y="85"/>
                  </a:lnTo>
                  <a:lnTo>
                    <a:pt x="148" y="93"/>
                  </a:lnTo>
                  <a:lnTo>
                    <a:pt x="156" y="101"/>
                  </a:lnTo>
                  <a:lnTo>
                    <a:pt x="163" y="116"/>
                  </a:lnTo>
                  <a:lnTo>
                    <a:pt x="171" y="124"/>
                  </a:lnTo>
                  <a:lnTo>
                    <a:pt x="179" y="132"/>
                  </a:lnTo>
                  <a:lnTo>
                    <a:pt x="187" y="148"/>
                  </a:lnTo>
                  <a:lnTo>
                    <a:pt x="195" y="155"/>
                  </a:lnTo>
                  <a:lnTo>
                    <a:pt x="195" y="163"/>
                  </a:lnTo>
                  <a:lnTo>
                    <a:pt x="202" y="179"/>
                  </a:lnTo>
                  <a:lnTo>
                    <a:pt x="210" y="187"/>
                  </a:lnTo>
                  <a:lnTo>
                    <a:pt x="218" y="202"/>
                  </a:lnTo>
                  <a:lnTo>
                    <a:pt x="226" y="218"/>
                  </a:lnTo>
                  <a:lnTo>
                    <a:pt x="234" y="233"/>
                  </a:lnTo>
                  <a:lnTo>
                    <a:pt x="241" y="241"/>
                  </a:lnTo>
                  <a:lnTo>
                    <a:pt x="241" y="257"/>
                  </a:lnTo>
                  <a:lnTo>
                    <a:pt x="249" y="272"/>
                  </a:lnTo>
                  <a:lnTo>
                    <a:pt x="257" y="288"/>
                  </a:lnTo>
                  <a:lnTo>
                    <a:pt x="265" y="311"/>
                  </a:lnTo>
                  <a:lnTo>
                    <a:pt x="273" y="327"/>
                  </a:lnTo>
                  <a:lnTo>
                    <a:pt x="280" y="342"/>
                  </a:lnTo>
                  <a:lnTo>
                    <a:pt x="280" y="358"/>
                  </a:lnTo>
                  <a:lnTo>
                    <a:pt x="288" y="381"/>
                  </a:lnTo>
                  <a:lnTo>
                    <a:pt x="296" y="405"/>
                  </a:lnTo>
                  <a:lnTo>
                    <a:pt x="304" y="420"/>
                  </a:lnTo>
                  <a:lnTo>
                    <a:pt x="312" y="444"/>
                  </a:lnTo>
                  <a:lnTo>
                    <a:pt x="319" y="467"/>
                  </a:lnTo>
                  <a:lnTo>
                    <a:pt x="327" y="491"/>
                  </a:lnTo>
                  <a:lnTo>
                    <a:pt x="327" y="514"/>
                  </a:lnTo>
                  <a:lnTo>
                    <a:pt x="335" y="537"/>
                  </a:lnTo>
                  <a:lnTo>
                    <a:pt x="343" y="561"/>
                  </a:lnTo>
                  <a:lnTo>
                    <a:pt x="351" y="592"/>
                  </a:lnTo>
                  <a:lnTo>
                    <a:pt x="358" y="615"/>
                  </a:lnTo>
                  <a:lnTo>
                    <a:pt x="366" y="646"/>
                  </a:lnTo>
                  <a:lnTo>
                    <a:pt x="366" y="678"/>
                  </a:lnTo>
                  <a:lnTo>
                    <a:pt x="374" y="709"/>
                  </a:lnTo>
                  <a:lnTo>
                    <a:pt x="382" y="740"/>
                  </a:lnTo>
                  <a:lnTo>
                    <a:pt x="390" y="779"/>
                  </a:lnTo>
                  <a:lnTo>
                    <a:pt x="397" y="810"/>
                  </a:lnTo>
                  <a:lnTo>
                    <a:pt x="405" y="849"/>
                  </a:lnTo>
                  <a:lnTo>
                    <a:pt x="413" y="896"/>
                  </a:lnTo>
                  <a:lnTo>
                    <a:pt x="413" y="935"/>
                  </a:lnTo>
                  <a:lnTo>
                    <a:pt x="421" y="981"/>
                  </a:lnTo>
                  <a:lnTo>
                    <a:pt x="429" y="1028"/>
                  </a:lnTo>
                  <a:lnTo>
                    <a:pt x="436" y="1083"/>
                  </a:lnTo>
                  <a:lnTo>
                    <a:pt x="444" y="1137"/>
                  </a:lnTo>
                  <a:lnTo>
                    <a:pt x="452" y="1200"/>
                  </a:lnTo>
                  <a:lnTo>
                    <a:pt x="452" y="1262"/>
                  </a:lnTo>
                  <a:lnTo>
                    <a:pt x="460" y="1340"/>
                  </a:lnTo>
                  <a:lnTo>
                    <a:pt x="468" y="1418"/>
                  </a:lnTo>
                  <a:lnTo>
                    <a:pt x="475" y="1511"/>
                  </a:lnTo>
                  <a:lnTo>
                    <a:pt x="483" y="1620"/>
                  </a:lnTo>
                  <a:lnTo>
                    <a:pt x="491" y="1761"/>
                  </a:lnTo>
                  <a:lnTo>
                    <a:pt x="499" y="1940"/>
                  </a:lnTo>
                  <a:lnTo>
                    <a:pt x="499" y="2236"/>
                  </a:lnTo>
                  <a:lnTo>
                    <a:pt x="507" y="2711"/>
                  </a:lnTo>
                  <a:lnTo>
                    <a:pt x="514" y="2719"/>
                  </a:lnTo>
                  <a:lnTo>
                    <a:pt x="522" y="2298"/>
                  </a:lnTo>
                  <a:lnTo>
                    <a:pt x="530" y="2041"/>
                  </a:lnTo>
                  <a:lnTo>
                    <a:pt x="538" y="1901"/>
                  </a:lnTo>
                  <a:lnTo>
                    <a:pt x="538" y="1800"/>
                  </a:lnTo>
                  <a:lnTo>
                    <a:pt x="546" y="1730"/>
                  </a:lnTo>
                  <a:lnTo>
                    <a:pt x="553" y="1675"/>
                  </a:lnTo>
                  <a:lnTo>
                    <a:pt x="561" y="1636"/>
                  </a:lnTo>
                  <a:lnTo>
                    <a:pt x="569" y="1605"/>
                  </a:lnTo>
                  <a:lnTo>
                    <a:pt x="577" y="1582"/>
                  </a:lnTo>
                  <a:lnTo>
                    <a:pt x="585" y="1566"/>
                  </a:lnTo>
                  <a:lnTo>
                    <a:pt x="585" y="1550"/>
                  </a:lnTo>
                  <a:lnTo>
                    <a:pt x="592" y="1543"/>
                  </a:lnTo>
                  <a:lnTo>
                    <a:pt x="600" y="1543"/>
                  </a:lnTo>
                  <a:lnTo>
                    <a:pt x="608" y="1550"/>
                  </a:lnTo>
                  <a:lnTo>
                    <a:pt x="616" y="1558"/>
                  </a:lnTo>
                  <a:lnTo>
                    <a:pt x="624" y="1566"/>
                  </a:lnTo>
                  <a:lnTo>
                    <a:pt x="624" y="1589"/>
                  </a:lnTo>
                  <a:lnTo>
                    <a:pt x="631" y="1613"/>
                  </a:lnTo>
                  <a:lnTo>
                    <a:pt x="639" y="1644"/>
                  </a:lnTo>
                  <a:lnTo>
                    <a:pt x="647" y="1683"/>
                  </a:lnTo>
                  <a:lnTo>
                    <a:pt x="655" y="1745"/>
                  </a:lnTo>
                  <a:lnTo>
                    <a:pt x="663" y="1823"/>
                  </a:lnTo>
                  <a:lnTo>
                    <a:pt x="670" y="1948"/>
                  </a:lnTo>
                  <a:lnTo>
                    <a:pt x="670" y="2236"/>
                  </a:lnTo>
                  <a:lnTo>
                    <a:pt x="678" y="2143"/>
                  </a:lnTo>
                  <a:lnTo>
                    <a:pt x="686" y="1924"/>
                  </a:lnTo>
                  <a:lnTo>
                    <a:pt x="694" y="1815"/>
                  </a:lnTo>
                  <a:lnTo>
                    <a:pt x="702" y="1745"/>
                  </a:lnTo>
                  <a:lnTo>
                    <a:pt x="709" y="1698"/>
                  </a:lnTo>
                  <a:lnTo>
                    <a:pt x="717" y="1659"/>
                  </a:lnTo>
                  <a:lnTo>
                    <a:pt x="717" y="1636"/>
                  </a:lnTo>
                  <a:lnTo>
                    <a:pt x="725" y="1613"/>
                  </a:lnTo>
                  <a:lnTo>
                    <a:pt x="733" y="1597"/>
                  </a:lnTo>
                  <a:lnTo>
                    <a:pt x="741" y="1589"/>
                  </a:lnTo>
                  <a:lnTo>
                    <a:pt x="748" y="1582"/>
                  </a:lnTo>
                  <a:lnTo>
                    <a:pt x="756" y="1582"/>
                  </a:lnTo>
                  <a:lnTo>
                    <a:pt x="764" y="1589"/>
                  </a:lnTo>
                  <a:lnTo>
                    <a:pt x="772" y="1597"/>
                  </a:lnTo>
                  <a:lnTo>
                    <a:pt x="780" y="1605"/>
                  </a:lnTo>
                  <a:lnTo>
                    <a:pt x="787" y="1620"/>
                  </a:lnTo>
                  <a:lnTo>
                    <a:pt x="795" y="1644"/>
                  </a:lnTo>
                  <a:lnTo>
                    <a:pt x="803" y="1667"/>
                  </a:lnTo>
                  <a:lnTo>
                    <a:pt x="803" y="1698"/>
                  </a:lnTo>
                  <a:lnTo>
                    <a:pt x="811" y="1737"/>
                  </a:lnTo>
                  <a:lnTo>
                    <a:pt x="819" y="1792"/>
                  </a:lnTo>
                  <a:lnTo>
                    <a:pt x="826" y="1854"/>
                  </a:lnTo>
                  <a:lnTo>
                    <a:pt x="834" y="1948"/>
                  </a:lnTo>
                  <a:lnTo>
                    <a:pt x="842" y="2111"/>
                  </a:lnTo>
                  <a:lnTo>
                    <a:pt x="842" y="3031"/>
                  </a:lnTo>
                </a:path>
              </a:pathLst>
            </a:custGeom>
            <a:noFill/>
            <a:ln cap="rnd" w="255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2913120" y="4716360"/>
              <a:ext cx="1338120" cy="2141640"/>
            </a:xfrm>
            <a:custGeom>
              <a:avLst/>
              <a:gdLst/>
              <a:ahLst/>
              <a:rect l="l" t="t" r="r" b="b"/>
              <a:pathLst>
                <a:path w="843" h="1349">
                  <a:moveTo>
                    <a:pt x="0" y="1348"/>
                  </a:moveTo>
                  <a:lnTo>
                    <a:pt x="8" y="436"/>
                  </a:lnTo>
                  <a:lnTo>
                    <a:pt x="16" y="288"/>
                  </a:lnTo>
                  <a:lnTo>
                    <a:pt x="23" y="195"/>
                  </a:lnTo>
                  <a:lnTo>
                    <a:pt x="31" y="140"/>
                  </a:lnTo>
                  <a:lnTo>
                    <a:pt x="39" y="101"/>
                  </a:lnTo>
                  <a:lnTo>
                    <a:pt x="47" y="70"/>
                  </a:lnTo>
                  <a:lnTo>
                    <a:pt x="47" y="39"/>
                  </a:lnTo>
                  <a:lnTo>
                    <a:pt x="55" y="23"/>
                  </a:lnTo>
                  <a:lnTo>
                    <a:pt x="62" y="15"/>
                  </a:lnTo>
                  <a:lnTo>
                    <a:pt x="70" y="8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4" y="8"/>
                  </a:lnTo>
                  <a:lnTo>
                    <a:pt x="101" y="23"/>
                  </a:lnTo>
                  <a:lnTo>
                    <a:pt x="109" y="31"/>
                  </a:lnTo>
                  <a:lnTo>
                    <a:pt x="117" y="54"/>
                  </a:lnTo>
                  <a:lnTo>
                    <a:pt x="125" y="70"/>
                  </a:lnTo>
                  <a:lnTo>
                    <a:pt x="133" y="101"/>
                  </a:lnTo>
                  <a:lnTo>
                    <a:pt x="133" y="140"/>
                  </a:lnTo>
                  <a:lnTo>
                    <a:pt x="140" y="179"/>
                  </a:lnTo>
                  <a:lnTo>
                    <a:pt x="148" y="234"/>
                  </a:lnTo>
                  <a:lnTo>
                    <a:pt x="156" y="312"/>
                  </a:lnTo>
                  <a:lnTo>
                    <a:pt x="164" y="421"/>
                  </a:lnTo>
                  <a:lnTo>
                    <a:pt x="172" y="654"/>
                  </a:lnTo>
                  <a:lnTo>
                    <a:pt x="172" y="748"/>
                  </a:lnTo>
                  <a:lnTo>
                    <a:pt x="179" y="467"/>
                  </a:lnTo>
                  <a:lnTo>
                    <a:pt x="187" y="351"/>
                  </a:lnTo>
                  <a:lnTo>
                    <a:pt x="195" y="273"/>
                  </a:lnTo>
                  <a:lnTo>
                    <a:pt x="203" y="226"/>
                  </a:lnTo>
                  <a:lnTo>
                    <a:pt x="211" y="187"/>
                  </a:lnTo>
                  <a:lnTo>
                    <a:pt x="218" y="156"/>
                  </a:lnTo>
                  <a:lnTo>
                    <a:pt x="218" y="140"/>
                  </a:lnTo>
                  <a:lnTo>
                    <a:pt x="226" y="125"/>
                  </a:lnTo>
                  <a:lnTo>
                    <a:pt x="234" y="109"/>
                  </a:lnTo>
                  <a:lnTo>
                    <a:pt x="242" y="101"/>
                  </a:lnTo>
                  <a:lnTo>
                    <a:pt x="250" y="101"/>
                  </a:lnTo>
                  <a:lnTo>
                    <a:pt x="257" y="101"/>
                  </a:lnTo>
                  <a:lnTo>
                    <a:pt x="265" y="109"/>
                  </a:lnTo>
                  <a:lnTo>
                    <a:pt x="265" y="117"/>
                  </a:lnTo>
                  <a:lnTo>
                    <a:pt x="273" y="125"/>
                  </a:lnTo>
                  <a:lnTo>
                    <a:pt x="281" y="140"/>
                  </a:lnTo>
                  <a:lnTo>
                    <a:pt x="289" y="156"/>
                  </a:lnTo>
                  <a:lnTo>
                    <a:pt x="296" y="187"/>
                  </a:lnTo>
                  <a:lnTo>
                    <a:pt x="304" y="210"/>
                  </a:lnTo>
                  <a:lnTo>
                    <a:pt x="304" y="249"/>
                  </a:lnTo>
                  <a:lnTo>
                    <a:pt x="312" y="296"/>
                  </a:lnTo>
                  <a:lnTo>
                    <a:pt x="320" y="358"/>
                  </a:lnTo>
                  <a:lnTo>
                    <a:pt x="328" y="444"/>
                  </a:lnTo>
                  <a:lnTo>
                    <a:pt x="335" y="592"/>
                  </a:lnTo>
                  <a:lnTo>
                    <a:pt x="343" y="1005"/>
                  </a:lnTo>
                  <a:lnTo>
                    <a:pt x="351" y="686"/>
                  </a:lnTo>
                  <a:lnTo>
                    <a:pt x="351" y="506"/>
                  </a:lnTo>
                  <a:lnTo>
                    <a:pt x="359" y="413"/>
                  </a:lnTo>
                  <a:lnTo>
                    <a:pt x="367" y="351"/>
                  </a:lnTo>
                  <a:lnTo>
                    <a:pt x="374" y="304"/>
                  </a:lnTo>
                  <a:lnTo>
                    <a:pt x="382" y="273"/>
                  </a:lnTo>
                  <a:lnTo>
                    <a:pt x="390" y="241"/>
                  </a:lnTo>
                  <a:lnTo>
                    <a:pt x="390" y="226"/>
                  </a:lnTo>
                  <a:lnTo>
                    <a:pt x="398" y="210"/>
                  </a:lnTo>
                  <a:lnTo>
                    <a:pt x="406" y="202"/>
                  </a:lnTo>
                  <a:lnTo>
                    <a:pt x="413" y="195"/>
                  </a:lnTo>
                  <a:lnTo>
                    <a:pt x="421" y="195"/>
                  </a:lnTo>
                  <a:lnTo>
                    <a:pt x="429" y="195"/>
                  </a:lnTo>
                  <a:lnTo>
                    <a:pt x="437" y="202"/>
                  </a:lnTo>
                  <a:lnTo>
                    <a:pt x="437" y="210"/>
                  </a:lnTo>
                  <a:lnTo>
                    <a:pt x="445" y="218"/>
                  </a:lnTo>
                  <a:lnTo>
                    <a:pt x="452" y="234"/>
                  </a:lnTo>
                  <a:lnTo>
                    <a:pt x="460" y="257"/>
                  </a:lnTo>
                  <a:lnTo>
                    <a:pt x="468" y="280"/>
                  </a:lnTo>
                  <a:lnTo>
                    <a:pt x="476" y="319"/>
                  </a:lnTo>
                  <a:lnTo>
                    <a:pt x="476" y="358"/>
                  </a:lnTo>
                  <a:lnTo>
                    <a:pt x="484" y="413"/>
                  </a:lnTo>
                  <a:lnTo>
                    <a:pt x="491" y="475"/>
                  </a:lnTo>
                  <a:lnTo>
                    <a:pt x="499" y="584"/>
                  </a:lnTo>
                  <a:lnTo>
                    <a:pt x="507" y="771"/>
                  </a:lnTo>
                  <a:lnTo>
                    <a:pt x="515" y="1091"/>
                  </a:lnTo>
                  <a:lnTo>
                    <a:pt x="523" y="686"/>
                  </a:lnTo>
                  <a:lnTo>
                    <a:pt x="523" y="545"/>
                  </a:lnTo>
                  <a:lnTo>
                    <a:pt x="530" y="467"/>
                  </a:lnTo>
                  <a:lnTo>
                    <a:pt x="538" y="413"/>
                  </a:lnTo>
                  <a:lnTo>
                    <a:pt x="546" y="374"/>
                  </a:lnTo>
                  <a:lnTo>
                    <a:pt x="554" y="343"/>
                  </a:lnTo>
                  <a:lnTo>
                    <a:pt x="562" y="319"/>
                  </a:lnTo>
                  <a:lnTo>
                    <a:pt x="562" y="304"/>
                  </a:lnTo>
                  <a:lnTo>
                    <a:pt x="569" y="288"/>
                  </a:lnTo>
                  <a:lnTo>
                    <a:pt x="577" y="280"/>
                  </a:lnTo>
                  <a:lnTo>
                    <a:pt x="585" y="280"/>
                  </a:lnTo>
                  <a:lnTo>
                    <a:pt x="593" y="273"/>
                  </a:lnTo>
                  <a:lnTo>
                    <a:pt x="601" y="280"/>
                  </a:lnTo>
                  <a:lnTo>
                    <a:pt x="608" y="288"/>
                  </a:lnTo>
                  <a:lnTo>
                    <a:pt x="608" y="296"/>
                  </a:lnTo>
                  <a:lnTo>
                    <a:pt x="616" y="312"/>
                  </a:lnTo>
                  <a:lnTo>
                    <a:pt x="624" y="327"/>
                  </a:lnTo>
                  <a:lnTo>
                    <a:pt x="632" y="351"/>
                  </a:lnTo>
                  <a:lnTo>
                    <a:pt x="640" y="374"/>
                  </a:lnTo>
                  <a:lnTo>
                    <a:pt x="647" y="413"/>
                  </a:lnTo>
                  <a:lnTo>
                    <a:pt x="655" y="460"/>
                  </a:lnTo>
                  <a:lnTo>
                    <a:pt x="655" y="514"/>
                  </a:lnTo>
                  <a:lnTo>
                    <a:pt x="663" y="592"/>
                  </a:lnTo>
                  <a:lnTo>
                    <a:pt x="671" y="717"/>
                  </a:lnTo>
                  <a:lnTo>
                    <a:pt x="679" y="1013"/>
                  </a:lnTo>
                  <a:lnTo>
                    <a:pt x="686" y="919"/>
                  </a:lnTo>
                  <a:lnTo>
                    <a:pt x="694" y="701"/>
                  </a:lnTo>
                  <a:lnTo>
                    <a:pt x="694" y="592"/>
                  </a:lnTo>
                  <a:lnTo>
                    <a:pt x="702" y="522"/>
                  </a:lnTo>
                  <a:lnTo>
                    <a:pt x="710" y="475"/>
                  </a:lnTo>
                  <a:lnTo>
                    <a:pt x="718" y="436"/>
                  </a:lnTo>
                  <a:lnTo>
                    <a:pt x="725" y="413"/>
                  </a:lnTo>
                  <a:lnTo>
                    <a:pt x="733" y="389"/>
                  </a:lnTo>
                  <a:lnTo>
                    <a:pt x="741" y="374"/>
                  </a:lnTo>
                  <a:lnTo>
                    <a:pt x="741" y="366"/>
                  </a:lnTo>
                  <a:lnTo>
                    <a:pt x="749" y="358"/>
                  </a:lnTo>
                  <a:lnTo>
                    <a:pt x="757" y="351"/>
                  </a:lnTo>
                  <a:lnTo>
                    <a:pt x="764" y="351"/>
                  </a:lnTo>
                  <a:lnTo>
                    <a:pt x="772" y="358"/>
                  </a:lnTo>
                  <a:lnTo>
                    <a:pt x="780" y="366"/>
                  </a:lnTo>
                  <a:lnTo>
                    <a:pt x="780" y="374"/>
                  </a:lnTo>
                  <a:lnTo>
                    <a:pt x="788" y="389"/>
                  </a:lnTo>
                  <a:lnTo>
                    <a:pt x="796" y="413"/>
                  </a:lnTo>
                  <a:lnTo>
                    <a:pt x="803" y="436"/>
                  </a:lnTo>
                  <a:lnTo>
                    <a:pt x="811" y="467"/>
                  </a:lnTo>
                  <a:lnTo>
                    <a:pt x="819" y="506"/>
                  </a:lnTo>
                  <a:lnTo>
                    <a:pt x="827" y="553"/>
                  </a:lnTo>
                  <a:lnTo>
                    <a:pt x="827" y="615"/>
                  </a:lnTo>
                  <a:lnTo>
                    <a:pt x="835" y="709"/>
                  </a:lnTo>
                  <a:lnTo>
                    <a:pt x="842" y="873"/>
                  </a:lnTo>
                  <a:lnTo>
                    <a:pt x="842" y="1348"/>
                  </a:lnTo>
                </a:path>
              </a:pathLst>
            </a:custGeom>
            <a:noFill/>
            <a:ln cap="rnd" w="255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4262400" y="5384880"/>
              <a:ext cx="522360" cy="1473120"/>
            </a:xfrm>
            <a:custGeom>
              <a:avLst/>
              <a:gdLst/>
              <a:ahLst/>
              <a:rect l="l" t="t" r="r" b="b"/>
              <a:pathLst>
                <a:path w="329" h="928">
                  <a:moveTo>
                    <a:pt x="0" y="927"/>
                  </a:moveTo>
                  <a:lnTo>
                    <a:pt x="8" y="459"/>
                  </a:lnTo>
                  <a:lnTo>
                    <a:pt x="16" y="304"/>
                  </a:lnTo>
                  <a:lnTo>
                    <a:pt x="16" y="210"/>
                  </a:lnTo>
                  <a:lnTo>
                    <a:pt x="24" y="156"/>
                  </a:lnTo>
                  <a:lnTo>
                    <a:pt x="31" y="109"/>
                  </a:lnTo>
                  <a:lnTo>
                    <a:pt x="39" y="78"/>
                  </a:lnTo>
                  <a:lnTo>
                    <a:pt x="47" y="54"/>
                  </a:lnTo>
                  <a:lnTo>
                    <a:pt x="55" y="31"/>
                  </a:lnTo>
                  <a:lnTo>
                    <a:pt x="63" y="15"/>
                  </a:lnTo>
                  <a:lnTo>
                    <a:pt x="63" y="7"/>
                  </a:lnTo>
                  <a:lnTo>
                    <a:pt x="70" y="7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4" y="7"/>
                  </a:lnTo>
                  <a:lnTo>
                    <a:pt x="102" y="15"/>
                  </a:lnTo>
                  <a:lnTo>
                    <a:pt x="102" y="31"/>
                  </a:lnTo>
                  <a:lnTo>
                    <a:pt x="109" y="46"/>
                  </a:lnTo>
                  <a:lnTo>
                    <a:pt x="117" y="70"/>
                  </a:lnTo>
                  <a:lnTo>
                    <a:pt x="125" y="93"/>
                  </a:lnTo>
                  <a:lnTo>
                    <a:pt x="133" y="124"/>
                  </a:lnTo>
                  <a:lnTo>
                    <a:pt x="141" y="171"/>
                  </a:lnTo>
                  <a:lnTo>
                    <a:pt x="148" y="226"/>
                  </a:lnTo>
                  <a:lnTo>
                    <a:pt x="148" y="296"/>
                  </a:lnTo>
                  <a:lnTo>
                    <a:pt x="156" y="413"/>
                  </a:lnTo>
                  <a:lnTo>
                    <a:pt x="164" y="639"/>
                  </a:lnTo>
                  <a:lnTo>
                    <a:pt x="172" y="732"/>
                  </a:lnTo>
                  <a:lnTo>
                    <a:pt x="180" y="444"/>
                  </a:lnTo>
                  <a:lnTo>
                    <a:pt x="187" y="327"/>
                  </a:lnTo>
                  <a:lnTo>
                    <a:pt x="187" y="257"/>
                  </a:lnTo>
                  <a:lnTo>
                    <a:pt x="195" y="202"/>
                  </a:lnTo>
                  <a:lnTo>
                    <a:pt x="203" y="163"/>
                  </a:lnTo>
                  <a:lnTo>
                    <a:pt x="211" y="132"/>
                  </a:lnTo>
                  <a:lnTo>
                    <a:pt x="219" y="109"/>
                  </a:lnTo>
                  <a:lnTo>
                    <a:pt x="226" y="93"/>
                  </a:lnTo>
                  <a:lnTo>
                    <a:pt x="234" y="78"/>
                  </a:lnTo>
                  <a:lnTo>
                    <a:pt x="234" y="70"/>
                  </a:lnTo>
                  <a:lnTo>
                    <a:pt x="242" y="70"/>
                  </a:lnTo>
                  <a:lnTo>
                    <a:pt x="250" y="70"/>
                  </a:lnTo>
                  <a:lnTo>
                    <a:pt x="258" y="70"/>
                  </a:lnTo>
                  <a:lnTo>
                    <a:pt x="265" y="78"/>
                  </a:lnTo>
                  <a:lnTo>
                    <a:pt x="273" y="85"/>
                  </a:lnTo>
                  <a:lnTo>
                    <a:pt x="281" y="101"/>
                  </a:lnTo>
                  <a:lnTo>
                    <a:pt x="281" y="117"/>
                  </a:lnTo>
                  <a:lnTo>
                    <a:pt x="289" y="140"/>
                  </a:lnTo>
                  <a:lnTo>
                    <a:pt x="297" y="171"/>
                  </a:lnTo>
                  <a:lnTo>
                    <a:pt x="304" y="210"/>
                  </a:lnTo>
                  <a:lnTo>
                    <a:pt x="312" y="257"/>
                  </a:lnTo>
                  <a:lnTo>
                    <a:pt x="320" y="311"/>
                  </a:lnTo>
                  <a:lnTo>
                    <a:pt x="320" y="397"/>
                  </a:lnTo>
                  <a:lnTo>
                    <a:pt x="328" y="537"/>
                  </a:lnTo>
                  <a:lnTo>
                    <a:pt x="328" y="927"/>
                  </a:lnTo>
                </a:path>
              </a:pathLst>
            </a:custGeom>
            <a:noFill/>
            <a:ln cap="rnd" w="255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4795920" y="5594400"/>
              <a:ext cx="260280" cy="1263600"/>
            </a:xfrm>
            <a:custGeom>
              <a:avLst/>
              <a:gdLst/>
              <a:ahLst/>
              <a:rect l="l" t="t" r="r" b="b"/>
              <a:pathLst>
                <a:path w="164" h="796">
                  <a:moveTo>
                    <a:pt x="0" y="795"/>
                  </a:moveTo>
                  <a:lnTo>
                    <a:pt x="7" y="507"/>
                  </a:lnTo>
                  <a:lnTo>
                    <a:pt x="15" y="327"/>
                  </a:lnTo>
                  <a:lnTo>
                    <a:pt x="23" y="226"/>
                  </a:lnTo>
                  <a:lnTo>
                    <a:pt x="31" y="164"/>
                  </a:lnTo>
                  <a:lnTo>
                    <a:pt x="31" y="117"/>
                  </a:lnTo>
                  <a:lnTo>
                    <a:pt x="39" y="78"/>
                  </a:lnTo>
                  <a:lnTo>
                    <a:pt x="46" y="55"/>
                  </a:lnTo>
                  <a:lnTo>
                    <a:pt x="54" y="31"/>
                  </a:lnTo>
                  <a:lnTo>
                    <a:pt x="62" y="16"/>
                  </a:lnTo>
                  <a:lnTo>
                    <a:pt x="70" y="8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3" y="8"/>
                  </a:lnTo>
                  <a:lnTo>
                    <a:pt x="101" y="16"/>
                  </a:lnTo>
                  <a:lnTo>
                    <a:pt x="109" y="24"/>
                  </a:lnTo>
                  <a:lnTo>
                    <a:pt x="117" y="39"/>
                  </a:lnTo>
                  <a:lnTo>
                    <a:pt x="117" y="62"/>
                  </a:lnTo>
                  <a:lnTo>
                    <a:pt x="124" y="86"/>
                  </a:lnTo>
                  <a:lnTo>
                    <a:pt x="132" y="117"/>
                  </a:lnTo>
                  <a:lnTo>
                    <a:pt x="140" y="156"/>
                  </a:lnTo>
                  <a:lnTo>
                    <a:pt x="148" y="203"/>
                  </a:lnTo>
                  <a:lnTo>
                    <a:pt x="156" y="273"/>
                  </a:lnTo>
                  <a:lnTo>
                    <a:pt x="156" y="374"/>
                  </a:lnTo>
                  <a:lnTo>
                    <a:pt x="163" y="569"/>
                  </a:lnTo>
                  <a:lnTo>
                    <a:pt x="163" y="795"/>
                  </a:lnTo>
                </a:path>
              </a:pathLst>
            </a:custGeom>
            <a:noFill/>
            <a:ln cap="rnd" w="255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5067360" y="5692680"/>
              <a:ext cx="534960" cy="1165320"/>
            </a:xfrm>
            <a:custGeom>
              <a:avLst/>
              <a:gdLst/>
              <a:ahLst/>
              <a:rect l="l" t="t" r="r" b="b"/>
              <a:pathLst>
                <a:path w="337" h="734">
                  <a:moveTo>
                    <a:pt x="0" y="733"/>
                  </a:moveTo>
                  <a:lnTo>
                    <a:pt x="8" y="413"/>
                  </a:lnTo>
                  <a:lnTo>
                    <a:pt x="16" y="281"/>
                  </a:lnTo>
                  <a:lnTo>
                    <a:pt x="24" y="195"/>
                  </a:lnTo>
                  <a:lnTo>
                    <a:pt x="31" y="141"/>
                  </a:lnTo>
                  <a:lnTo>
                    <a:pt x="31" y="102"/>
                  </a:lnTo>
                  <a:lnTo>
                    <a:pt x="39" y="71"/>
                  </a:lnTo>
                  <a:lnTo>
                    <a:pt x="47" y="47"/>
                  </a:lnTo>
                  <a:lnTo>
                    <a:pt x="55" y="32"/>
                  </a:lnTo>
                  <a:lnTo>
                    <a:pt x="63" y="16"/>
                  </a:lnTo>
                  <a:lnTo>
                    <a:pt x="70" y="8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4" y="8"/>
                  </a:lnTo>
                  <a:lnTo>
                    <a:pt x="102" y="16"/>
                  </a:lnTo>
                  <a:lnTo>
                    <a:pt x="109" y="32"/>
                  </a:lnTo>
                  <a:lnTo>
                    <a:pt x="117" y="47"/>
                  </a:lnTo>
                  <a:lnTo>
                    <a:pt x="117" y="71"/>
                  </a:lnTo>
                  <a:lnTo>
                    <a:pt x="125" y="94"/>
                  </a:lnTo>
                  <a:lnTo>
                    <a:pt x="133" y="133"/>
                  </a:lnTo>
                  <a:lnTo>
                    <a:pt x="141" y="172"/>
                  </a:lnTo>
                  <a:lnTo>
                    <a:pt x="148" y="234"/>
                  </a:lnTo>
                  <a:lnTo>
                    <a:pt x="156" y="312"/>
                  </a:lnTo>
                  <a:lnTo>
                    <a:pt x="164" y="437"/>
                  </a:lnTo>
                  <a:lnTo>
                    <a:pt x="164" y="725"/>
                  </a:lnTo>
                  <a:lnTo>
                    <a:pt x="172" y="632"/>
                  </a:lnTo>
                  <a:lnTo>
                    <a:pt x="180" y="413"/>
                  </a:lnTo>
                  <a:lnTo>
                    <a:pt x="187" y="304"/>
                  </a:lnTo>
                  <a:lnTo>
                    <a:pt x="195" y="234"/>
                  </a:lnTo>
                  <a:lnTo>
                    <a:pt x="203" y="188"/>
                  </a:lnTo>
                  <a:lnTo>
                    <a:pt x="203" y="149"/>
                  </a:lnTo>
                  <a:lnTo>
                    <a:pt x="211" y="125"/>
                  </a:lnTo>
                  <a:lnTo>
                    <a:pt x="219" y="102"/>
                  </a:lnTo>
                  <a:lnTo>
                    <a:pt x="226" y="86"/>
                  </a:lnTo>
                  <a:lnTo>
                    <a:pt x="234" y="71"/>
                  </a:lnTo>
                  <a:lnTo>
                    <a:pt x="242" y="63"/>
                  </a:lnTo>
                  <a:lnTo>
                    <a:pt x="250" y="63"/>
                  </a:lnTo>
                  <a:lnTo>
                    <a:pt x="258" y="63"/>
                  </a:lnTo>
                  <a:lnTo>
                    <a:pt x="265" y="71"/>
                  </a:lnTo>
                  <a:lnTo>
                    <a:pt x="273" y="86"/>
                  </a:lnTo>
                  <a:lnTo>
                    <a:pt x="281" y="102"/>
                  </a:lnTo>
                  <a:lnTo>
                    <a:pt x="289" y="117"/>
                  </a:lnTo>
                  <a:lnTo>
                    <a:pt x="289" y="141"/>
                  </a:lnTo>
                  <a:lnTo>
                    <a:pt x="297" y="172"/>
                  </a:lnTo>
                  <a:lnTo>
                    <a:pt x="304" y="211"/>
                  </a:lnTo>
                  <a:lnTo>
                    <a:pt x="312" y="258"/>
                  </a:lnTo>
                  <a:lnTo>
                    <a:pt x="320" y="320"/>
                  </a:lnTo>
                  <a:lnTo>
                    <a:pt x="328" y="413"/>
                  </a:lnTo>
                  <a:lnTo>
                    <a:pt x="336" y="577"/>
                  </a:lnTo>
                  <a:lnTo>
                    <a:pt x="336" y="733"/>
                  </a:lnTo>
                </a:path>
              </a:pathLst>
            </a:custGeom>
            <a:noFill/>
            <a:ln cap="rnd" w="255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5600880" y="5891040"/>
              <a:ext cx="260280" cy="966960"/>
            </a:xfrm>
            <a:custGeom>
              <a:avLst/>
              <a:gdLst/>
              <a:ahLst/>
              <a:rect l="l" t="t" r="r" b="b"/>
              <a:pathLst>
                <a:path w="164" h="609">
                  <a:moveTo>
                    <a:pt x="0" y="608"/>
                  </a:moveTo>
                  <a:lnTo>
                    <a:pt x="7" y="460"/>
                  </a:lnTo>
                  <a:lnTo>
                    <a:pt x="15" y="304"/>
                  </a:lnTo>
                  <a:lnTo>
                    <a:pt x="23" y="211"/>
                  </a:lnTo>
                  <a:lnTo>
                    <a:pt x="31" y="156"/>
                  </a:lnTo>
                  <a:lnTo>
                    <a:pt x="39" y="109"/>
                  </a:lnTo>
                  <a:lnTo>
                    <a:pt x="39" y="78"/>
                  </a:lnTo>
                  <a:lnTo>
                    <a:pt x="46" y="55"/>
                  </a:lnTo>
                  <a:lnTo>
                    <a:pt x="54" y="31"/>
                  </a:lnTo>
                  <a:lnTo>
                    <a:pt x="62" y="24"/>
                  </a:lnTo>
                  <a:lnTo>
                    <a:pt x="70" y="8"/>
                  </a:lnTo>
                  <a:lnTo>
                    <a:pt x="78" y="8"/>
                  </a:lnTo>
                  <a:lnTo>
                    <a:pt x="85" y="0"/>
                  </a:lnTo>
                  <a:lnTo>
                    <a:pt x="85" y="8"/>
                  </a:lnTo>
                  <a:lnTo>
                    <a:pt x="93" y="8"/>
                  </a:lnTo>
                  <a:lnTo>
                    <a:pt x="101" y="16"/>
                  </a:lnTo>
                  <a:lnTo>
                    <a:pt x="109" y="31"/>
                  </a:lnTo>
                  <a:lnTo>
                    <a:pt x="117" y="47"/>
                  </a:lnTo>
                  <a:lnTo>
                    <a:pt x="124" y="70"/>
                  </a:lnTo>
                  <a:lnTo>
                    <a:pt x="124" y="94"/>
                  </a:lnTo>
                  <a:lnTo>
                    <a:pt x="132" y="125"/>
                  </a:lnTo>
                  <a:lnTo>
                    <a:pt x="140" y="172"/>
                  </a:lnTo>
                  <a:lnTo>
                    <a:pt x="148" y="226"/>
                  </a:lnTo>
                  <a:lnTo>
                    <a:pt x="156" y="296"/>
                  </a:lnTo>
                  <a:lnTo>
                    <a:pt x="163" y="413"/>
                  </a:lnTo>
                  <a:lnTo>
                    <a:pt x="163" y="608"/>
                  </a:lnTo>
                </a:path>
              </a:pathLst>
            </a:custGeom>
            <a:noFill/>
            <a:ln cap="rnd" w="255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5872320" y="6014880"/>
              <a:ext cx="261720" cy="843120"/>
            </a:xfrm>
            <a:custGeom>
              <a:avLst/>
              <a:gdLst/>
              <a:ahLst/>
              <a:rect l="l" t="t" r="r" b="b"/>
              <a:pathLst>
                <a:path w="165" h="531">
                  <a:moveTo>
                    <a:pt x="0" y="530"/>
                  </a:moveTo>
                  <a:lnTo>
                    <a:pt x="8" y="374"/>
                  </a:lnTo>
                  <a:lnTo>
                    <a:pt x="16" y="257"/>
                  </a:lnTo>
                  <a:lnTo>
                    <a:pt x="24" y="179"/>
                  </a:lnTo>
                  <a:lnTo>
                    <a:pt x="31" y="125"/>
                  </a:lnTo>
                  <a:lnTo>
                    <a:pt x="39" y="86"/>
                  </a:lnTo>
                  <a:lnTo>
                    <a:pt x="47" y="62"/>
                  </a:lnTo>
                  <a:lnTo>
                    <a:pt x="47" y="39"/>
                  </a:lnTo>
                  <a:lnTo>
                    <a:pt x="55" y="23"/>
                  </a:lnTo>
                  <a:lnTo>
                    <a:pt x="63" y="8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4" y="8"/>
                  </a:lnTo>
                  <a:lnTo>
                    <a:pt x="102" y="16"/>
                  </a:lnTo>
                  <a:lnTo>
                    <a:pt x="109" y="31"/>
                  </a:lnTo>
                  <a:lnTo>
                    <a:pt x="117" y="55"/>
                  </a:lnTo>
                  <a:lnTo>
                    <a:pt x="125" y="78"/>
                  </a:lnTo>
                  <a:lnTo>
                    <a:pt x="133" y="109"/>
                  </a:lnTo>
                  <a:lnTo>
                    <a:pt x="133" y="140"/>
                  </a:lnTo>
                  <a:lnTo>
                    <a:pt x="141" y="187"/>
                  </a:lnTo>
                  <a:lnTo>
                    <a:pt x="148" y="249"/>
                  </a:lnTo>
                  <a:lnTo>
                    <a:pt x="156" y="335"/>
                  </a:lnTo>
                  <a:lnTo>
                    <a:pt x="164" y="483"/>
                  </a:lnTo>
                  <a:lnTo>
                    <a:pt x="164" y="530"/>
                  </a:lnTo>
                </a:path>
              </a:pathLst>
            </a:custGeom>
            <a:noFill/>
            <a:ln cap="rnd" w="255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145200" y="6151680"/>
              <a:ext cx="249120" cy="706320"/>
            </a:xfrm>
            <a:custGeom>
              <a:avLst/>
              <a:gdLst/>
              <a:ahLst/>
              <a:rect l="l" t="t" r="r" b="b"/>
              <a:pathLst>
                <a:path w="157" h="445">
                  <a:moveTo>
                    <a:pt x="0" y="444"/>
                  </a:moveTo>
                  <a:lnTo>
                    <a:pt x="8" y="312"/>
                  </a:lnTo>
                  <a:lnTo>
                    <a:pt x="15" y="218"/>
                  </a:lnTo>
                  <a:lnTo>
                    <a:pt x="23" y="156"/>
                  </a:lnTo>
                  <a:lnTo>
                    <a:pt x="31" y="109"/>
                  </a:lnTo>
                  <a:lnTo>
                    <a:pt x="39" y="78"/>
                  </a:lnTo>
                  <a:lnTo>
                    <a:pt x="47" y="47"/>
                  </a:lnTo>
                  <a:lnTo>
                    <a:pt x="47" y="31"/>
                  </a:lnTo>
                  <a:lnTo>
                    <a:pt x="54" y="15"/>
                  </a:lnTo>
                  <a:lnTo>
                    <a:pt x="62" y="8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86" y="8"/>
                  </a:lnTo>
                  <a:lnTo>
                    <a:pt x="93" y="15"/>
                  </a:lnTo>
                  <a:lnTo>
                    <a:pt x="101" y="31"/>
                  </a:lnTo>
                  <a:lnTo>
                    <a:pt x="109" y="47"/>
                  </a:lnTo>
                  <a:lnTo>
                    <a:pt x="117" y="70"/>
                  </a:lnTo>
                  <a:lnTo>
                    <a:pt x="125" y="93"/>
                  </a:lnTo>
                  <a:lnTo>
                    <a:pt x="132" y="132"/>
                  </a:lnTo>
                  <a:lnTo>
                    <a:pt x="132" y="171"/>
                  </a:lnTo>
                  <a:lnTo>
                    <a:pt x="140" y="226"/>
                  </a:lnTo>
                  <a:lnTo>
                    <a:pt x="148" y="296"/>
                  </a:lnTo>
                  <a:lnTo>
                    <a:pt x="156" y="397"/>
                  </a:lnTo>
                  <a:lnTo>
                    <a:pt x="156" y="444"/>
                  </a:lnTo>
                </a:path>
              </a:pathLst>
            </a:custGeom>
            <a:noFill/>
            <a:ln cap="rnd" w="255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416640" y="6348240"/>
              <a:ext cx="225360" cy="509760"/>
            </a:xfrm>
            <a:custGeom>
              <a:avLst/>
              <a:gdLst/>
              <a:ahLst/>
              <a:rect l="l" t="t" r="r" b="b"/>
              <a:pathLst>
                <a:path w="142" h="321">
                  <a:moveTo>
                    <a:pt x="0" y="320"/>
                  </a:moveTo>
                  <a:lnTo>
                    <a:pt x="8" y="250"/>
                  </a:lnTo>
                  <a:lnTo>
                    <a:pt x="16" y="172"/>
                  </a:lnTo>
                  <a:lnTo>
                    <a:pt x="24" y="117"/>
                  </a:lnTo>
                  <a:lnTo>
                    <a:pt x="32" y="78"/>
                  </a:lnTo>
                  <a:lnTo>
                    <a:pt x="39" y="55"/>
                  </a:lnTo>
                  <a:lnTo>
                    <a:pt x="47" y="32"/>
                  </a:lnTo>
                  <a:lnTo>
                    <a:pt x="47" y="16"/>
                  </a:lnTo>
                  <a:lnTo>
                    <a:pt x="55" y="8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6" y="8"/>
                  </a:lnTo>
                  <a:lnTo>
                    <a:pt x="86" y="16"/>
                  </a:lnTo>
                  <a:lnTo>
                    <a:pt x="94" y="32"/>
                  </a:lnTo>
                  <a:lnTo>
                    <a:pt x="102" y="47"/>
                  </a:lnTo>
                  <a:lnTo>
                    <a:pt x="110" y="71"/>
                  </a:lnTo>
                  <a:lnTo>
                    <a:pt x="117" y="94"/>
                  </a:lnTo>
                  <a:lnTo>
                    <a:pt x="125" y="125"/>
                  </a:lnTo>
                  <a:lnTo>
                    <a:pt x="133" y="164"/>
                  </a:lnTo>
                  <a:lnTo>
                    <a:pt x="133" y="219"/>
                  </a:lnTo>
                  <a:lnTo>
                    <a:pt x="141" y="281"/>
                  </a:lnTo>
                  <a:lnTo>
                    <a:pt x="141" y="320"/>
                  </a:lnTo>
                </a:path>
              </a:pathLst>
            </a:custGeom>
            <a:noFill/>
            <a:ln cap="rnd" w="255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715080" y="6707160"/>
              <a:ext cx="125280" cy="150840"/>
            </a:xfrm>
            <a:custGeom>
              <a:avLst/>
              <a:gdLst/>
              <a:ahLst/>
              <a:rect l="l" t="t" r="r" b="b"/>
              <a:pathLst>
                <a:path w="79" h="95">
                  <a:moveTo>
                    <a:pt x="0" y="94"/>
                  </a:moveTo>
                  <a:lnTo>
                    <a:pt x="7" y="63"/>
                  </a:lnTo>
                  <a:lnTo>
                    <a:pt x="15" y="39"/>
                  </a:lnTo>
                  <a:lnTo>
                    <a:pt x="23" y="16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8"/>
                  </a:lnTo>
                  <a:lnTo>
                    <a:pt x="54" y="16"/>
                  </a:lnTo>
                  <a:lnTo>
                    <a:pt x="62" y="32"/>
                  </a:lnTo>
                  <a:lnTo>
                    <a:pt x="70" y="47"/>
                  </a:lnTo>
                  <a:lnTo>
                    <a:pt x="78" y="78"/>
                  </a:lnTo>
                  <a:lnTo>
                    <a:pt x="78" y="94"/>
                  </a:lnTo>
                </a:path>
              </a:pathLst>
            </a:custGeom>
            <a:noFill/>
            <a:ln cap="rnd" w="255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9" name=""/>
          <p:cNvSpPr/>
          <p:nvPr/>
        </p:nvSpPr>
        <p:spPr>
          <a:xfrm>
            <a:off x="1360800" y="1411200"/>
            <a:ext cx="5976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afd00"/>
                </a:solidFill>
                <a:latin typeface="Arial"/>
              </a:rPr>
              <a:t>Amplitudne karakteristike fiksnih vremenskih otv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 rot="16200000">
            <a:off x="-109080" y="3946680"/>
            <a:ext cx="1809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afd00"/>
                </a:solidFill>
                <a:latin typeface="Arial"/>
              </a:rPr>
              <a:t>amplituda [dB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1371600" y="19080"/>
            <a:ext cx="777096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dfca"/>
                </a:solidFill>
                <a:latin typeface="Times New Roman"/>
              </a:rPr>
              <a:t>Fiksni vremenski otvori </a:t>
            </a:r>
            <a:r>
              <a:rPr b="0" lang="hr-HR" sz="3600" spc="-1" strike="noStrike">
                <a:solidFill>
                  <a:srgbClr val="00dfca"/>
                </a:solidFill>
                <a:latin typeface="Times New Roman"/>
              </a:rPr>
              <a:t>(</a:t>
            </a:r>
            <a:r>
              <a:rPr b="0" i="1" lang="hr-HR" sz="3600" spc="-1" strike="noStrike">
                <a:solidFill>
                  <a:srgbClr val="00dfca"/>
                </a:solidFill>
                <a:latin typeface="Times New Roman"/>
              </a:rPr>
              <a:t>amplitudno-frekvencijske karakteristike</a:t>
            </a:r>
            <a:r>
              <a:rPr b="0" lang="hr-HR" sz="3600" spc="-1" strike="noStrike">
                <a:solidFill>
                  <a:srgbClr val="00dfca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>
            <a:off x="7196040" y="2506680"/>
            <a:ext cx="162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9913"/>
                </a:solidFill>
                <a:latin typeface="Arial"/>
              </a:rPr>
              <a:t>Pravokut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7195680" y="2927520"/>
            <a:ext cx="1472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abfff7"/>
                </a:solidFill>
                <a:latin typeface="Arial"/>
              </a:rPr>
              <a:t>Bartlett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7197480" y="3322800"/>
            <a:ext cx="123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ff66"/>
                </a:solidFill>
                <a:latin typeface="Arial"/>
              </a:rPr>
              <a:t>Hann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7197480" y="3719520"/>
            <a:ext cx="180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a8891"/>
                </a:solidFill>
                <a:latin typeface="Arial"/>
              </a:rPr>
              <a:t>Hamming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7197480" y="4140360"/>
            <a:ext cx="1843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66"/>
                </a:solidFill>
                <a:latin typeface="Arial"/>
              </a:rPr>
              <a:t>Blackman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6778080" y="6230880"/>
            <a:ext cx="325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7765200" y="1682640"/>
            <a:ext cx="36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9" name=""/>
          <p:cNvGraphicFramePr/>
          <p:nvPr/>
        </p:nvGraphicFramePr>
        <p:xfrm>
          <a:off x="149400" y="4205160"/>
          <a:ext cx="8750160" cy="281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" y="4205160"/>
                    <a:ext cx="875016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1" name=""/>
          <p:cNvSpPr/>
          <p:nvPr/>
        </p:nvSpPr>
        <p:spPr>
          <a:xfrm>
            <a:off x="2119320" y="2492280"/>
            <a:ext cx="5942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 flipV="1">
            <a:off x="2120760" y="135000"/>
            <a:ext cx="0" cy="2357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>
            <a:off x="6848280" y="2482920"/>
            <a:ext cx="296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7839000" y="2498760"/>
            <a:ext cx="32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>
            <a:off x="6991200" y="2457360"/>
            <a:ext cx="0" cy="71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56" name=""/>
          <p:cNvGrpSpPr/>
          <p:nvPr/>
        </p:nvGrpSpPr>
        <p:grpSpPr>
          <a:xfrm>
            <a:off x="2116080" y="727200"/>
            <a:ext cx="2098800" cy="79200"/>
            <a:chOff x="2116080" y="727200"/>
            <a:chExt cx="2098800" cy="79200"/>
          </a:xfrm>
        </p:grpSpPr>
        <p:sp>
          <p:nvSpPr>
            <p:cNvPr id="3657" name=""/>
            <p:cNvSpPr/>
            <p:nvPr/>
          </p:nvSpPr>
          <p:spPr>
            <a:xfrm>
              <a:off x="2116080" y="803160"/>
              <a:ext cx="2098800" cy="3240"/>
            </a:xfrm>
            <a:prstGeom prst="line">
              <a:avLst/>
            </a:prstGeom>
            <a:ln w="255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2125800" y="727200"/>
              <a:ext cx="2085840" cy="63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59" name=""/>
          <p:cNvGrpSpPr/>
          <p:nvPr/>
        </p:nvGrpSpPr>
        <p:grpSpPr>
          <a:xfrm>
            <a:off x="2122560" y="1270080"/>
            <a:ext cx="2125440" cy="82440"/>
            <a:chOff x="2122560" y="1270080"/>
            <a:chExt cx="2125440" cy="82440"/>
          </a:xfrm>
        </p:grpSpPr>
        <p:sp>
          <p:nvSpPr>
            <p:cNvPr id="3660" name=""/>
            <p:cNvSpPr/>
            <p:nvPr/>
          </p:nvSpPr>
          <p:spPr>
            <a:xfrm>
              <a:off x="2122560" y="1270080"/>
              <a:ext cx="2124000" cy="3240"/>
            </a:xfrm>
            <a:prstGeom prst="line">
              <a:avLst/>
            </a:prstGeom>
            <a:ln w="255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2130480" y="1285920"/>
              <a:ext cx="2117520" cy="66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62" name=""/>
          <p:cNvGrpSpPr/>
          <p:nvPr/>
        </p:nvGrpSpPr>
        <p:grpSpPr>
          <a:xfrm>
            <a:off x="4797360" y="2178000"/>
            <a:ext cx="2212920" cy="79200"/>
            <a:chOff x="4797360" y="2178000"/>
            <a:chExt cx="2212920" cy="79200"/>
          </a:xfrm>
        </p:grpSpPr>
        <p:sp>
          <p:nvSpPr>
            <p:cNvPr id="3663" name=""/>
            <p:cNvSpPr/>
            <p:nvPr/>
          </p:nvSpPr>
          <p:spPr>
            <a:xfrm flipV="1">
              <a:off x="4797360" y="2253960"/>
              <a:ext cx="2212920" cy="3240"/>
            </a:xfrm>
            <a:prstGeom prst="line">
              <a:avLst/>
            </a:prstGeom>
            <a:ln w="255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4797360" y="2178000"/>
              <a:ext cx="2212920" cy="349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65" name=""/>
          <p:cNvSpPr/>
          <p:nvPr/>
        </p:nvSpPr>
        <p:spPr>
          <a:xfrm flipH="1">
            <a:off x="4257720" y="1284120"/>
            <a:ext cx="1440" cy="1214640"/>
          </a:xfrm>
          <a:prstGeom prst="line">
            <a:avLst/>
          </a:prstGeom>
          <a:ln w="12600">
            <a:solidFill>
              <a:srgbClr val="99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 flipH="1">
            <a:off x="4791240" y="1278000"/>
            <a:ext cx="1440" cy="1214280"/>
          </a:xfrm>
          <a:prstGeom prst="line">
            <a:avLst/>
          </a:prstGeom>
          <a:ln w="12600">
            <a:solidFill>
              <a:srgbClr val="99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4631760" y="2508120"/>
            <a:ext cx="3693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hr-HR" sz="16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4043880" y="2498760"/>
            <a:ext cx="3830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hr-HR" sz="16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 flipH="1">
            <a:off x="2079720" y="2238480"/>
            <a:ext cx="79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1763280" y="2090880"/>
            <a:ext cx="28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 flipH="1">
            <a:off x="2079720" y="1041480"/>
            <a:ext cx="79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1528200" y="642960"/>
            <a:ext cx="50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+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1545840" y="1104840"/>
            <a:ext cx="486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-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2145240" y="0"/>
            <a:ext cx="7912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i="1" lang="hr-HR" sz="1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hr-HR" sz="16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16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hr-HR" sz="1600" spc="-1" strike="noStrike" baseline="30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hr-HR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|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5" name=""/>
          <p:cNvGrpSpPr/>
          <p:nvPr/>
        </p:nvGrpSpPr>
        <p:grpSpPr>
          <a:xfrm>
            <a:off x="2127240" y="1041480"/>
            <a:ext cx="2394000" cy="1447560"/>
            <a:chOff x="2127240" y="1041480"/>
            <a:chExt cx="2394000" cy="1447560"/>
          </a:xfrm>
        </p:grpSpPr>
        <p:sp>
          <p:nvSpPr>
            <p:cNvPr id="3676" name=""/>
            <p:cNvSpPr/>
            <p:nvPr/>
          </p:nvSpPr>
          <p:spPr>
            <a:xfrm>
              <a:off x="2127240" y="1041480"/>
              <a:ext cx="2387520" cy="0"/>
            </a:xfrm>
            <a:prstGeom prst="line">
              <a:avLst/>
            </a:prstGeom>
            <a:ln w="12600">
              <a:solidFill>
                <a:srgbClr val="00dfc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 flipH="1" flipV="1">
              <a:off x="4514760" y="1047600"/>
              <a:ext cx="6480" cy="1441440"/>
            </a:xfrm>
            <a:prstGeom prst="line">
              <a:avLst/>
            </a:prstGeom>
            <a:ln w="12600">
              <a:solidFill>
                <a:srgbClr val="00dfc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8" name=""/>
          <p:cNvSpPr/>
          <p:nvPr/>
        </p:nvSpPr>
        <p:spPr>
          <a:xfrm>
            <a:off x="4781880" y="417600"/>
            <a:ext cx="870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i="1" lang="hr-HR" sz="2000" spc="-1" strike="noStrike" baseline="-25000">
                <a:solidFill>
                  <a:srgbClr val="fafd00"/>
                </a:solidFill>
                <a:latin typeface="Times New Roman"/>
              </a:rPr>
              <a:t>d</a:t>
            </a:r>
            <a:r>
              <a:rPr b="0" lang="hr-HR" sz="2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i="1" lang="hr-HR" sz="2000" spc="-1" strike="noStrike">
                <a:solidFill>
                  <a:srgbClr val="fafd00"/>
                </a:solidFill>
                <a:latin typeface="Times New Roman"/>
              </a:rPr>
              <a:t>e</a:t>
            </a:r>
            <a:r>
              <a:rPr b="0" lang="hr-HR" sz="2000" spc="-1" strike="noStrike" baseline="30000">
                <a:solidFill>
                  <a:srgbClr val="fafd00"/>
                </a:solidFill>
                <a:latin typeface="Times New Roman"/>
              </a:rPr>
              <a:t>j</a:t>
            </a:r>
            <a:r>
              <a:rPr b="0" lang="hr-HR" sz="2000" spc="-1" strike="noStrike" baseline="30000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hr-HR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 flipH="1">
            <a:off x="4571640" y="762120"/>
            <a:ext cx="304920" cy="304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3797280" y="17524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 flipH="1">
            <a:off x="4800600" y="17524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4923720" y="1332000"/>
            <a:ext cx="51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afd00"/>
                </a:solidFill>
                <a:latin typeface="Symbol"/>
                <a:ea typeface="Symbol"/>
              </a:rPr>
              <a:t>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>
            <a:off x="4332600" y="2131920"/>
            <a:ext cx="3754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hr-HR" sz="16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 flipH="1">
            <a:off x="5238360" y="2244600"/>
            <a:ext cx="3240" cy="1641600"/>
          </a:xfrm>
          <a:prstGeom prst="line">
            <a:avLst/>
          </a:prstGeom>
          <a:ln w="12600">
            <a:solidFill>
              <a:srgbClr val="abfff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 flipH="1">
            <a:off x="3895560" y="816120"/>
            <a:ext cx="6480" cy="3079440"/>
          </a:xfrm>
          <a:prstGeom prst="line">
            <a:avLst/>
          </a:prstGeom>
          <a:ln w="12600">
            <a:solidFill>
              <a:srgbClr val="abfff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3914640" y="3416400"/>
            <a:ext cx="1314720" cy="3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4327560" y="3008160"/>
            <a:ext cx="5616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Times New Roman"/>
              </a:rPr>
              <a:t>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2133720" y="3809880"/>
            <a:ext cx="5943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7926480" y="3833640"/>
            <a:ext cx="290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4356000" y="3836880"/>
            <a:ext cx="3859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hr-HR" sz="16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 flipV="1">
            <a:off x="4533840" y="37429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2057400" y="1752480"/>
            <a:ext cx="13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1660320" y="1646280"/>
            <a:ext cx="375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,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2133720" y="825480"/>
            <a:ext cx="4878360" cy="1665360"/>
          </a:xfrm>
          <a:custGeom>
            <a:avLst/>
            <a:gdLst/>
            <a:ahLst/>
            <a:rect l="l" t="t" r="r" b="b"/>
            <a:pathLst>
              <a:path w="3073" h="1049">
                <a:moveTo>
                  <a:pt x="0" y="0"/>
                </a:moveTo>
                <a:lnTo>
                  <a:pt x="8" y="0"/>
                </a:lnTo>
                <a:lnTo>
                  <a:pt x="16" y="0"/>
                </a:lnTo>
                <a:lnTo>
                  <a:pt x="24" y="3"/>
                </a:lnTo>
                <a:lnTo>
                  <a:pt x="32" y="3"/>
                </a:lnTo>
                <a:lnTo>
                  <a:pt x="41" y="3"/>
                </a:lnTo>
                <a:lnTo>
                  <a:pt x="41" y="6"/>
                </a:lnTo>
                <a:lnTo>
                  <a:pt x="49" y="6"/>
                </a:lnTo>
                <a:lnTo>
                  <a:pt x="57" y="6"/>
                </a:lnTo>
                <a:lnTo>
                  <a:pt x="65" y="9"/>
                </a:lnTo>
                <a:lnTo>
                  <a:pt x="74" y="12"/>
                </a:lnTo>
                <a:lnTo>
                  <a:pt x="82" y="16"/>
                </a:lnTo>
                <a:lnTo>
                  <a:pt x="90" y="16"/>
                </a:lnTo>
                <a:lnTo>
                  <a:pt x="90" y="19"/>
                </a:lnTo>
                <a:lnTo>
                  <a:pt x="98" y="22"/>
                </a:lnTo>
                <a:lnTo>
                  <a:pt x="107" y="22"/>
                </a:lnTo>
                <a:lnTo>
                  <a:pt x="107" y="25"/>
                </a:lnTo>
                <a:lnTo>
                  <a:pt x="115" y="28"/>
                </a:lnTo>
                <a:lnTo>
                  <a:pt x="123" y="32"/>
                </a:lnTo>
                <a:lnTo>
                  <a:pt x="131" y="35"/>
                </a:lnTo>
                <a:lnTo>
                  <a:pt x="131" y="38"/>
                </a:lnTo>
                <a:lnTo>
                  <a:pt x="139" y="41"/>
                </a:lnTo>
                <a:lnTo>
                  <a:pt x="148" y="44"/>
                </a:lnTo>
                <a:lnTo>
                  <a:pt x="148" y="48"/>
                </a:lnTo>
                <a:lnTo>
                  <a:pt x="156" y="51"/>
                </a:lnTo>
                <a:lnTo>
                  <a:pt x="164" y="54"/>
                </a:lnTo>
                <a:lnTo>
                  <a:pt x="172" y="57"/>
                </a:lnTo>
                <a:lnTo>
                  <a:pt x="172" y="61"/>
                </a:lnTo>
                <a:lnTo>
                  <a:pt x="181" y="67"/>
                </a:lnTo>
                <a:lnTo>
                  <a:pt x="189" y="70"/>
                </a:lnTo>
                <a:lnTo>
                  <a:pt x="197" y="73"/>
                </a:lnTo>
                <a:lnTo>
                  <a:pt x="197" y="77"/>
                </a:lnTo>
                <a:lnTo>
                  <a:pt x="205" y="83"/>
                </a:lnTo>
                <a:lnTo>
                  <a:pt x="214" y="86"/>
                </a:lnTo>
                <a:lnTo>
                  <a:pt x="214" y="89"/>
                </a:lnTo>
                <a:lnTo>
                  <a:pt x="222" y="96"/>
                </a:lnTo>
                <a:lnTo>
                  <a:pt x="230" y="99"/>
                </a:lnTo>
                <a:lnTo>
                  <a:pt x="238" y="102"/>
                </a:lnTo>
                <a:lnTo>
                  <a:pt x="238" y="109"/>
                </a:lnTo>
                <a:lnTo>
                  <a:pt x="246" y="112"/>
                </a:lnTo>
                <a:lnTo>
                  <a:pt x="255" y="115"/>
                </a:lnTo>
                <a:lnTo>
                  <a:pt x="255" y="122"/>
                </a:lnTo>
                <a:lnTo>
                  <a:pt x="263" y="125"/>
                </a:lnTo>
                <a:lnTo>
                  <a:pt x="271" y="131"/>
                </a:lnTo>
                <a:lnTo>
                  <a:pt x="279" y="134"/>
                </a:lnTo>
                <a:lnTo>
                  <a:pt x="279" y="138"/>
                </a:lnTo>
                <a:lnTo>
                  <a:pt x="288" y="144"/>
                </a:lnTo>
                <a:lnTo>
                  <a:pt x="296" y="147"/>
                </a:lnTo>
                <a:lnTo>
                  <a:pt x="304" y="154"/>
                </a:lnTo>
                <a:lnTo>
                  <a:pt x="304" y="157"/>
                </a:lnTo>
                <a:lnTo>
                  <a:pt x="312" y="160"/>
                </a:lnTo>
                <a:lnTo>
                  <a:pt x="321" y="166"/>
                </a:lnTo>
                <a:lnTo>
                  <a:pt x="321" y="170"/>
                </a:lnTo>
                <a:lnTo>
                  <a:pt x="329" y="176"/>
                </a:lnTo>
                <a:lnTo>
                  <a:pt x="337" y="179"/>
                </a:lnTo>
                <a:lnTo>
                  <a:pt x="345" y="183"/>
                </a:lnTo>
                <a:lnTo>
                  <a:pt x="345" y="189"/>
                </a:lnTo>
                <a:lnTo>
                  <a:pt x="353" y="192"/>
                </a:lnTo>
                <a:lnTo>
                  <a:pt x="362" y="195"/>
                </a:lnTo>
                <a:lnTo>
                  <a:pt x="362" y="198"/>
                </a:lnTo>
                <a:lnTo>
                  <a:pt x="370" y="204"/>
                </a:lnTo>
                <a:lnTo>
                  <a:pt x="378" y="208"/>
                </a:lnTo>
                <a:lnTo>
                  <a:pt x="386" y="211"/>
                </a:lnTo>
                <a:lnTo>
                  <a:pt x="386" y="214"/>
                </a:lnTo>
                <a:lnTo>
                  <a:pt x="395" y="217"/>
                </a:lnTo>
                <a:lnTo>
                  <a:pt x="403" y="224"/>
                </a:lnTo>
                <a:lnTo>
                  <a:pt x="411" y="227"/>
                </a:lnTo>
                <a:lnTo>
                  <a:pt x="411" y="230"/>
                </a:lnTo>
                <a:lnTo>
                  <a:pt x="419" y="233"/>
                </a:lnTo>
                <a:lnTo>
                  <a:pt x="428" y="237"/>
                </a:lnTo>
                <a:lnTo>
                  <a:pt x="428" y="240"/>
                </a:lnTo>
                <a:lnTo>
                  <a:pt x="436" y="243"/>
                </a:lnTo>
                <a:lnTo>
                  <a:pt x="444" y="246"/>
                </a:lnTo>
                <a:lnTo>
                  <a:pt x="452" y="246"/>
                </a:lnTo>
                <a:lnTo>
                  <a:pt x="452" y="249"/>
                </a:lnTo>
                <a:lnTo>
                  <a:pt x="461" y="253"/>
                </a:lnTo>
                <a:lnTo>
                  <a:pt x="469" y="256"/>
                </a:lnTo>
                <a:lnTo>
                  <a:pt x="477" y="259"/>
                </a:lnTo>
                <a:lnTo>
                  <a:pt x="485" y="262"/>
                </a:lnTo>
                <a:lnTo>
                  <a:pt x="493" y="262"/>
                </a:lnTo>
                <a:lnTo>
                  <a:pt x="493" y="266"/>
                </a:lnTo>
                <a:lnTo>
                  <a:pt x="502" y="266"/>
                </a:lnTo>
                <a:lnTo>
                  <a:pt x="510" y="269"/>
                </a:lnTo>
                <a:lnTo>
                  <a:pt x="518" y="269"/>
                </a:lnTo>
                <a:lnTo>
                  <a:pt x="526" y="272"/>
                </a:lnTo>
                <a:lnTo>
                  <a:pt x="535" y="272"/>
                </a:lnTo>
                <a:lnTo>
                  <a:pt x="543" y="272"/>
                </a:lnTo>
                <a:lnTo>
                  <a:pt x="551" y="272"/>
                </a:lnTo>
                <a:lnTo>
                  <a:pt x="558" y="275"/>
                </a:lnTo>
                <a:lnTo>
                  <a:pt x="566" y="272"/>
                </a:lnTo>
                <a:lnTo>
                  <a:pt x="574" y="272"/>
                </a:lnTo>
                <a:lnTo>
                  <a:pt x="583" y="272"/>
                </a:lnTo>
                <a:lnTo>
                  <a:pt x="591" y="272"/>
                </a:lnTo>
                <a:lnTo>
                  <a:pt x="599" y="272"/>
                </a:lnTo>
                <a:lnTo>
                  <a:pt x="599" y="269"/>
                </a:lnTo>
                <a:lnTo>
                  <a:pt x="607" y="269"/>
                </a:lnTo>
                <a:lnTo>
                  <a:pt x="616" y="266"/>
                </a:lnTo>
                <a:lnTo>
                  <a:pt x="624" y="262"/>
                </a:lnTo>
                <a:lnTo>
                  <a:pt x="632" y="262"/>
                </a:lnTo>
                <a:lnTo>
                  <a:pt x="640" y="259"/>
                </a:lnTo>
                <a:lnTo>
                  <a:pt x="648" y="256"/>
                </a:lnTo>
                <a:lnTo>
                  <a:pt x="657" y="253"/>
                </a:lnTo>
                <a:lnTo>
                  <a:pt x="665" y="249"/>
                </a:lnTo>
                <a:lnTo>
                  <a:pt x="665" y="246"/>
                </a:lnTo>
                <a:lnTo>
                  <a:pt x="673" y="246"/>
                </a:lnTo>
                <a:lnTo>
                  <a:pt x="681" y="243"/>
                </a:lnTo>
                <a:lnTo>
                  <a:pt x="681" y="240"/>
                </a:lnTo>
                <a:lnTo>
                  <a:pt x="690" y="237"/>
                </a:lnTo>
                <a:lnTo>
                  <a:pt x="698" y="233"/>
                </a:lnTo>
                <a:lnTo>
                  <a:pt x="706" y="230"/>
                </a:lnTo>
                <a:lnTo>
                  <a:pt x="706" y="227"/>
                </a:lnTo>
                <a:lnTo>
                  <a:pt x="714" y="221"/>
                </a:lnTo>
                <a:lnTo>
                  <a:pt x="723" y="217"/>
                </a:lnTo>
                <a:lnTo>
                  <a:pt x="723" y="214"/>
                </a:lnTo>
                <a:lnTo>
                  <a:pt x="731" y="211"/>
                </a:lnTo>
                <a:lnTo>
                  <a:pt x="739" y="208"/>
                </a:lnTo>
                <a:lnTo>
                  <a:pt x="747" y="201"/>
                </a:lnTo>
                <a:lnTo>
                  <a:pt x="747" y="198"/>
                </a:lnTo>
                <a:lnTo>
                  <a:pt x="755" y="195"/>
                </a:lnTo>
                <a:lnTo>
                  <a:pt x="764" y="189"/>
                </a:lnTo>
                <a:lnTo>
                  <a:pt x="772" y="186"/>
                </a:lnTo>
                <a:lnTo>
                  <a:pt x="772" y="179"/>
                </a:lnTo>
                <a:lnTo>
                  <a:pt x="780" y="176"/>
                </a:lnTo>
                <a:lnTo>
                  <a:pt x="788" y="173"/>
                </a:lnTo>
                <a:lnTo>
                  <a:pt x="788" y="166"/>
                </a:lnTo>
                <a:lnTo>
                  <a:pt x="797" y="163"/>
                </a:lnTo>
                <a:lnTo>
                  <a:pt x="805" y="157"/>
                </a:lnTo>
                <a:lnTo>
                  <a:pt x="813" y="154"/>
                </a:lnTo>
                <a:lnTo>
                  <a:pt x="813" y="147"/>
                </a:lnTo>
                <a:lnTo>
                  <a:pt x="821" y="144"/>
                </a:lnTo>
                <a:lnTo>
                  <a:pt x="830" y="138"/>
                </a:lnTo>
                <a:lnTo>
                  <a:pt x="830" y="134"/>
                </a:lnTo>
                <a:lnTo>
                  <a:pt x="838" y="128"/>
                </a:lnTo>
                <a:lnTo>
                  <a:pt x="846" y="125"/>
                </a:lnTo>
                <a:lnTo>
                  <a:pt x="854" y="118"/>
                </a:lnTo>
                <a:lnTo>
                  <a:pt x="854" y="115"/>
                </a:lnTo>
                <a:lnTo>
                  <a:pt x="863" y="109"/>
                </a:lnTo>
                <a:lnTo>
                  <a:pt x="871" y="105"/>
                </a:lnTo>
                <a:lnTo>
                  <a:pt x="879" y="99"/>
                </a:lnTo>
                <a:lnTo>
                  <a:pt x="879" y="96"/>
                </a:lnTo>
                <a:lnTo>
                  <a:pt x="887" y="89"/>
                </a:lnTo>
                <a:lnTo>
                  <a:pt x="895" y="86"/>
                </a:lnTo>
                <a:lnTo>
                  <a:pt x="895" y="80"/>
                </a:lnTo>
                <a:lnTo>
                  <a:pt x="904" y="77"/>
                </a:lnTo>
                <a:lnTo>
                  <a:pt x="912" y="73"/>
                </a:lnTo>
                <a:lnTo>
                  <a:pt x="920" y="67"/>
                </a:lnTo>
                <a:lnTo>
                  <a:pt x="920" y="64"/>
                </a:lnTo>
                <a:lnTo>
                  <a:pt x="928" y="61"/>
                </a:lnTo>
                <a:lnTo>
                  <a:pt x="937" y="54"/>
                </a:lnTo>
                <a:lnTo>
                  <a:pt x="937" y="51"/>
                </a:lnTo>
                <a:lnTo>
                  <a:pt x="945" y="48"/>
                </a:lnTo>
                <a:lnTo>
                  <a:pt x="953" y="44"/>
                </a:lnTo>
                <a:lnTo>
                  <a:pt x="961" y="41"/>
                </a:lnTo>
                <a:lnTo>
                  <a:pt x="961" y="38"/>
                </a:lnTo>
                <a:lnTo>
                  <a:pt x="970" y="32"/>
                </a:lnTo>
                <a:lnTo>
                  <a:pt x="978" y="28"/>
                </a:lnTo>
                <a:lnTo>
                  <a:pt x="986" y="25"/>
                </a:lnTo>
                <a:lnTo>
                  <a:pt x="994" y="22"/>
                </a:lnTo>
                <a:lnTo>
                  <a:pt x="1002" y="19"/>
                </a:lnTo>
                <a:lnTo>
                  <a:pt x="1002" y="16"/>
                </a:lnTo>
                <a:lnTo>
                  <a:pt x="1011" y="12"/>
                </a:lnTo>
                <a:lnTo>
                  <a:pt x="1019" y="12"/>
                </a:lnTo>
                <a:lnTo>
                  <a:pt x="1027" y="9"/>
                </a:lnTo>
                <a:lnTo>
                  <a:pt x="1027" y="6"/>
                </a:lnTo>
                <a:lnTo>
                  <a:pt x="1035" y="6"/>
                </a:lnTo>
                <a:lnTo>
                  <a:pt x="1044" y="6"/>
                </a:lnTo>
                <a:lnTo>
                  <a:pt x="1044" y="3"/>
                </a:lnTo>
                <a:lnTo>
                  <a:pt x="1052" y="3"/>
                </a:lnTo>
                <a:lnTo>
                  <a:pt x="1060" y="3"/>
                </a:lnTo>
                <a:lnTo>
                  <a:pt x="1068" y="0"/>
                </a:lnTo>
                <a:lnTo>
                  <a:pt x="1077" y="0"/>
                </a:lnTo>
                <a:lnTo>
                  <a:pt x="1085" y="0"/>
                </a:lnTo>
                <a:lnTo>
                  <a:pt x="1093" y="0"/>
                </a:lnTo>
                <a:lnTo>
                  <a:pt x="1101" y="3"/>
                </a:lnTo>
                <a:lnTo>
                  <a:pt x="1109" y="3"/>
                </a:lnTo>
                <a:lnTo>
                  <a:pt x="1118" y="6"/>
                </a:lnTo>
                <a:lnTo>
                  <a:pt x="1126" y="6"/>
                </a:lnTo>
                <a:lnTo>
                  <a:pt x="1134" y="9"/>
                </a:lnTo>
                <a:lnTo>
                  <a:pt x="1142" y="12"/>
                </a:lnTo>
                <a:lnTo>
                  <a:pt x="1151" y="16"/>
                </a:lnTo>
                <a:lnTo>
                  <a:pt x="1151" y="19"/>
                </a:lnTo>
                <a:lnTo>
                  <a:pt x="1159" y="22"/>
                </a:lnTo>
                <a:lnTo>
                  <a:pt x="1167" y="25"/>
                </a:lnTo>
                <a:lnTo>
                  <a:pt x="1175" y="28"/>
                </a:lnTo>
                <a:lnTo>
                  <a:pt x="1175" y="32"/>
                </a:lnTo>
                <a:lnTo>
                  <a:pt x="1184" y="35"/>
                </a:lnTo>
                <a:lnTo>
                  <a:pt x="1192" y="41"/>
                </a:lnTo>
                <a:lnTo>
                  <a:pt x="1192" y="44"/>
                </a:lnTo>
                <a:lnTo>
                  <a:pt x="1200" y="51"/>
                </a:lnTo>
                <a:lnTo>
                  <a:pt x="1208" y="54"/>
                </a:lnTo>
                <a:lnTo>
                  <a:pt x="1217" y="61"/>
                </a:lnTo>
                <a:lnTo>
                  <a:pt x="1217" y="67"/>
                </a:lnTo>
                <a:lnTo>
                  <a:pt x="1225" y="73"/>
                </a:lnTo>
                <a:lnTo>
                  <a:pt x="1233" y="77"/>
                </a:lnTo>
                <a:lnTo>
                  <a:pt x="1241" y="83"/>
                </a:lnTo>
                <a:lnTo>
                  <a:pt x="1241" y="89"/>
                </a:lnTo>
                <a:lnTo>
                  <a:pt x="1249" y="99"/>
                </a:lnTo>
                <a:lnTo>
                  <a:pt x="1258" y="105"/>
                </a:lnTo>
                <a:lnTo>
                  <a:pt x="1258" y="112"/>
                </a:lnTo>
                <a:lnTo>
                  <a:pt x="1266" y="118"/>
                </a:lnTo>
                <a:lnTo>
                  <a:pt x="1274" y="128"/>
                </a:lnTo>
                <a:lnTo>
                  <a:pt x="1282" y="134"/>
                </a:lnTo>
                <a:lnTo>
                  <a:pt x="1282" y="144"/>
                </a:lnTo>
                <a:lnTo>
                  <a:pt x="1291" y="150"/>
                </a:lnTo>
                <a:lnTo>
                  <a:pt x="1299" y="160"/>
                </a:lnTo>
                <a:lnTo>
                  <a:pt x="1299" y="170"/>
                </a:lnTo>
                <a:lnTo>
                  <a:pt x="1307" y="179"/>
                </a:lnTo>
                <a:lnTo>
                  <a:pt x="1315" y="189"/>
                </a:lnTo>
                <a:lnTo>
                  <a:pt x="1322" y="198"/>
                </a:lnTo>
                <a:lnTo>
                  <a:pt x="1322" y="208"/>
                </a:lnTo>
                <a:lnTo>
                  <a:pt x="1330" y="217"/>
                </a:lnTo>
                <a:lnTo>
                  <a:pt x="1339" y="227"/>
                </a:lnTo>
                <a:lnTo>
                  <a:pt x="1347" y="237"/>
                </a:lnTo>
                <a:lnTo>
                  <a:pt x="1347" y="246"/>
                </a:lnTo>
                <a:lnTo>
                  <a:pt x="1355" y="259"/>
                </a:lnTo>
                <a:lnTo>
                  <a:pt x="1363" y="269"/>
                </a:lnTo>
                <a:lnTo>
                  <a:pt x="1363" y="282"/>
                </a:lnTo>
                <a:lnTo>
                  <a:pt x="1372" y="291"/>
                </a:lnTo>
                <a:lnTo>
                  <a:pt x="1380" y="304"/>
                </a:lnTo>
                <a:lnTo>
                  <a:pt x="1388" y="314"/>
                </a:lnTo>
                <a:lnTo>
                  <a:pt x="1388" y="327"/>
                </a:lnTo>
                <a:lnTo>
                  <a:pt x="1396" y="336"/>
                </a:lnTo>
                <a:lnTo>
                  <a:pt x="1404" y="349"/>
                </a:lnTo>
                <a:lnTo>
                  <a:pt x="1404" y="362"/>
                </a:lnTo>
                <a:lnTo>
                  <a:pt x="1413" y="375"/>
                </a:lnTo>
                <a:lnTo>
                  <a:pt x="1421" y="384"/>
                </a:lnTo>
                <a:lnTo>
                  <a:pt x="1429" y="397"/>
                </a:lnTo>
                <a:lnTo>
                  <a:pt x="1429" y="410"/>
                </a:lnTo>
                <a:lnTo>
                  <a:pt x="1437" y="422"/>
                </a:lnTo>
                <a:lnTo>
                  <a:pt x="1446" y="435"/>
                </a:lnTo>
                <a:lnTo>
                  <a:pt x="1454" y="448"/>
                </a:lnTo>
                <a:lnTo>
                  <a:pt x="1454" y="461"/>
                </a:lnTo>
                <a:lnTo>
                  <a:pt x="1462" y="474"/>
                </a:lnTo>
                <a:lnTo>
                  <a:pt x="1470" y="487"/>
                </a:lnTo>
                <a:lnTo>
                  <a:pt x="1470" y="499"/>
                </a:lnTo>
                <a:lnTo>
                  <a:pt x="1479" y="512"/>
                </a:lnTo>
                <a:lnTo>
                  <a:pt x="1487" y="525"/>
                </a:lnTo>
                <a:lnTo>
                  <a:pt x="1495" y="538"/>
                </a:lnTo>
                <a:lnTo>
                  <a:pt x="1495" y="554"/>
                </a:lnTo>
                <a:lnTo>
                  <a:pt x="1503" y="567"/>
                </a:lnTo>
                <a:lnTo>
                  <a:pt x="1511" y="580"/>
                </a:lnTo>
                <a:lnTo>
                  <a:pt x="1511" y="593"/>
                </a:lnTo>
                <a:lnTo>
                  <a:pt x="1520" y="605"/>
                </a:lnTo>
                <a:lnTo>
                  <a:pt x="1528" y="618"/>
                </a:lnTo>
                <a:lnTo>
                  <a:pt x="1536" y="631"/>
                </a:lnTo>
                <a:lnTo>
                  <a:pt x="1536" y="643"/>
                </a:lnTo>
                <a:lnTo>
                  <a:pt x="1544" y="656"/>
                </a:lnTo>
                <a:lnTo>
                  <a:pt x="1553" y="672"/>
                </a:lnTo>
                <a:lnTo>
                  <a:pt x="1561" y="685"/>
                </a:lnTo>
                <a:lnTo>
                  <a:pt x="1561" y="698"/>
                </a:lnTo>
                <a:lnTo>
                  <a:pt x="1569" y="711"/>
                </a:lnTo>
                <a:lnTo>
                  <a:pt x="1577" y="724"/>
                </a:lnTo>
                <a:lnTo>
                  <a:pt x="1577" y="737"/>
                </a:lnTo>
                <a:lnTo>
                  <a:pt x="1586" y="749"/>
                </a:lnTo>
                <a:lnTo>
                  <a:pt x="1594" y="762"/>
                </a:lnTo>
                <a:lnTo>
                  <a:pt x="1602" y="775"/>
                </a:lnTo>
                <a:lnTo>
                  <a:pt x="1602" y="788"/>
                </a:lnTo>
                <a:lnTo>
                  <a:pt x="1610" y="798"/>
                </a:lnTo>
                <a:lnTo>
                  <a:pt x="1619" y="810"/>
                </a:lnTo>
                <a:lnTo>
                  <a:pt x="1619" y="823"/>
                </a:lnTo>
                <a:lnTo>
                  <a:pt x="1627" y="836"/>
                </a:lnTo>
                <a:lnTo>
                  <a:pt x="1635" y="846"/>
                </a:lnTo>
                <a:lnTo>
                  <a:pt x="1643" y="859"/>
                </a:lnTo>
                <a:lnTo>
                  <a:pt x="1643" y="871"/>
                </a:lnTo>
                <a:lnTo>
                  <a:pt x="1651" y="881"/>
                </a:lnTo>
                <a:lnTo>
                  <a:pt x="1660" y="893"/>
                </a:lnTo>
                <a:lnTo>
                  <a:pt x="1668" y="903"/>
                </a:lnTo>
                <a:lnTo>
                  <a:pt x="1668" y="916"/>
                </a:lnTo>
                <a:lnTo>
                  <a:pt x="1676" y="925"/>
                </a:lnTo>
                <a:lnTo>
                  <a:pt x="1684" y="935"/>
                </a:lnTo>
                <a:lnTo>
                  <a:pt x="1684" y="948"/>
                </a:lnTo>
                <a:lnTo>
                  <a:pt x="1693" y="958"/>
                </a:lnTo>
                <a:lnTo>
                  <a:pt x="1701" y="967"/>
                </a:lnTo>
                <a:lnTo>
                  <a:pt x="1709" y="977"/>
                </a:lnTo>
                <a:lnTo>
                  <a:pt x="1709" y="986"/>
                </a:lnTo>
                <a:lnTo>
                  <a:pt x="1717" y="996"/>
                </a:lnTo>
                <a:lnTo>
                  <a:pt x="1726" y="1006"/>
                </a:lnTo>
                <a:lnTo>
                  <a:pt x="1726" y="1015"/>
                </a:lnTo>
                <a:lnTo>
                  <a:pt x="1734" y="1025"/>
                </a:lnTo>
                <a:lnTo>
                  <a:pt x="1742" y="1031"/>
                </a:lnTo>
                <a:lnTo>
                  <a:pt x="1750" y="1041"/>
                </a:lnTo>
                <a:lnTo>
                  <a:pt x="1750" y="1044"/>
                </a:lnTo>
                <a:lnTo>
                  <a:pt x="1758" y="1038"/>
                </a:lnTo>
                <a:lnTo>
                  <a:pt x="1767" y="1031"/>
                </a:lnTo>
                <a:lnTo>
                  <a:pt x="1775" y="1022"/>
                </a:lnTo>
                <a:lnTo>
                  <a:pt x="1775" y="1015"/>
                </a:lnTo>
                <a:lnTo>
                  <a:pt x="1783" y="1009"/>
                </a:lnTo>
                <a:lnTo>
                  <a:pt x="1791" y="1003"/>
                </a:lnTo>
                <a:lnTo>
                  <a:pt x="1791" y="996"/>
                </a:lnTo>
                <a:lnTo>
                  <a:pt x="1800" y="990"/>
                </a:lnTo>
                <a:lnTo>
                  <a:pt x="1808" y="983"/>
                </a:lnTo>
                <a:lnTo>
                  <a:pt x="1816" y="977"/>
                </a:lnTo>
                <a:lnTo>
                  <a:pt x="1816" y="970"/>
                </a:lnTo>
                <a:lnTo>
                  <a:pt x="1824" y="967"/>
                </a:lnTo>
                <a:lnTo>
                  <a:pt x="1833" y="961"/>
                </a:lnTo>
                <a:lnTo>
                  <a:pt x="1833" y="954"/>
                </a:lnTo>
                <a:lnTo>
                  <a:pt x="1841" y="951"/>
                </a:lnTo>
                <a:lnTo>
                  <a:pt x="1849" y="948"/>
                </a:lnTo>
                <a:lnTo>
                  <a:pt x="1857" y="942"/>
                </a:lnTo>
                <a:lnTo>
                  <a:pt x="1857" y="938"/>
                </a:lnTo>
                <a:lnTo>
                  <a:pt x="1865" y="935"/>
                </a:lnTo>
                <a:lnTo>
                  <a:pt x="1874" y="932"/>
                </a:lnTo>
                <a:lnTo>
                  <a:pt x="1874" y="929"/>
                </a:lnTo>
                <a:lnTo>
                  <a:pt x="1882" y="925"/>
                </a:lnTo>
                <a:lnTo>
                  <a:pt x="1890" y="922"/>
                </a:lnTo>
                <a:lnTo>
                  <a:pt x="1898" y="922"/>
                </a:lnTo>
                <a:lnTo>
                  <a:pt x="1898" y="919"/>
                </a:lnTo>
                <a:lnTo>
                  <a:pt x="1907" y="916"/>
                </a:lnTo>
                <a:lnTo>
                  <a:pt x="1915" y="916"/>
                </a:lnTo>
                <a:lnTo>
                  <a:pt x="1923" y="913"/>
                </a:lnTo>
                <a:lnTo>
                  <a:pt x="1931" y="913"/>
                </a:lnTo>
                <a:lnTo>
                  <a:pt x="1940" y="913"/>
                </a:lnTo>
                <a:lnTo>
                  <a:pt x="1940" y="909"/>
                </a:lnTo>
                <a:lnTo>
                  <a:pt x="1948" y="909"/>
                </a:lnTo>
                <a:lnTo>
                  <a:pt x="1956" y="909"/>
                </a:lnTo>
                <a:lnTo>
                  <a:pt x="1964" y="909"/>
                </a:lnTo>
                <a:lnTo>
                  <a:pt x="1964" y="913"/>
                </a:lnTo>
                <a:lnTo>
                  <a:pt x="1972" y="913"/>
                </a:lnTo>
                <a:lnTo>
                  <a:pt x="1981" y="913"/>
                </a:lnTo>
                <a:lnTo>
                  <a:pt x="1989" y="916"/>
                </a:lnTo>
                <a:lnTo>
                  <a:pt x="1997" y="916"/>
                </a:lnTo>
                <a:lnTo>
                  <a:pt x="2005" y="919"/>
                </a:lnTo>
                <a:lnTo>
                  <a:pt x="2014" y="922"/>
                </a:lnTo>
                <a:lnTo>
                  <a:pt x="2022" y="925"/>
                </a:lnTo>
                <a:lnTo>
                  <a:pt x="2030" y="925"/>
                </a:lnTo>
                <a:lnTo>
                  <a:pt x="2030" y="929"/>
                </a:lnTo>
                <a:lnTo>
                  <a:pt x="2038" y="932"/>
                </a:lnTo>
                <a:lnTo>
                  <a:pt x="2047" y="935"/>
                </a:lnTo>
                <a:lnTo>
                  <a:pt x="2047" y="938"/>
                </a:lnTo>
                <a:lnTo>
                  <a:pt x="2055" y="942"/>
                </a:lnTo>
                <a:lnTo>
                  <a:pt x="2063" y="945"/>
                </a:lnTo>
                <a:lnTo>
                  <a:pt x="2071" y="948"/>
                </a:lnTo>
                <a:lnTo>
                  <a:pt x="2071" y="951"/>
                </a:lnTo>
                <a:lnTo>
                  <a:pt x="2080" y="954"/>
                </a:lnTo>
                <a:lnTo>
                  <a:pt x="2086" y="958"/>
                </a:lnTo>
                <a:lnTo>
                  <a:pt x="2086" y="961"/>
                </a:lnTo>
                <a:lnTo>
                  <a:pt x="2095" y="967"/>
                </a:lnTo>
                <a:lnTo>
                  <a:pt x="2103" y="970"/>
                </a:lnTo>
                <a:lnTo>
                  <a:pt x="2111" y="974"/>
                </a:lnTo>
                <a:lnTo>
                  <a:pt x="2111" y="977"/>
                </a:lnTo>
                <a:lnTo>
                  <a:pt x="2119" y="983"/>
                </a:lnTo>
                <a:lnTo>
                  <a:pt x="2128" y="986"/>
                </a:lnTo>
                <a:lnTo>
                  <a:pt x="2136" y="993"/>
                </a:lnTo>
                <a:lnTo>
                  <a:pt x="2136" y="996"/>
                </a:lnTo>
                <a:lnTo>
                  <a:pt x="2144" y="999"/>
                </a:lnTo>
                <a:lnTo>
                  <a:pt x="2152" y="1006"/>
                </a:lnTo>
                <a:lnTo>
                  <a:pt x="2152" y="1009"/>
                </a:lnTo>
                <a:lnTo>
                  <a:pt x="2160" y="1015"/>
                </a:lnTo>
                <a:lnTo>
                  <a:pt x="2169" y="1019"/>
                </a:lnTo>
                <a:lnTo>
                  <a:pt x="2177" y="1025"/>
                </a:lnTo>
                <a:lnTo>
                  <a:pt x="2177" y="1028"/>
                </a:lnTo>
                <a:lnTo>
                  <a:pt x="2185" y="1035"/>
                </a:lnTo>
                <a:lnTo>
                  <a:pt x="2193" y="1038"/>
                </a:lnTo>
                <a:lnTo>
                  <a:pt x="2193" y="1044"/>
                </a:lnTo>
                <a:lnTo>
                  <a:pt x="2202" y="1048"/>
                </a:lnTo>
                <a:lnTo>
                  <a:pt x="2210" y="1041"/>
                </a:lnTo>
                <a:lnTo>
                  <a:pt x="2218" y="1038"/>
                </a:lnTo>
                <a:lnTo>
                  <a:pt x="2218" y="1031"/>
                </a:lnTo>
                <a:lnTo>
                  <a:pt x="2226" y="1028"/>
                </a:lnTo>
                <a:lnTo>
                  <a:pt x="2235" y="1022"/>
                </a:lnTo>
                <a:lnTo>
                  <a:pt x="2243" y="1019"/>
                </a:lnTo>
                <a:lnTo>
                  <a:pt x="2243" y="1012"/>
                </a:lnTo>
                <a:lnTo>
                  <a:pt x="2251" y="1009"/>
                </a:lnTo>
                <a:lnTo>
                  <a:pt x="2259" y="1003"/>
                </a:lnTo>
                <a:lnTo>
                  <a:pt x="2259" y="999"/>
                </a:lnTo>
                <a:lnTo>
                  <a:pt x="2267" y="996"/>
                </a:lnTo>
                <a:lnTo>
                  <a:pt x="2276" y="990"/>
                </a:lnTo>
                <a:lnTo>
                  <a:pt x="2284" y="986"/>
                </a:lnTo>
                <a:lnTo>
                  <a:pt x="2284" y="983"/>
                </a:lnTo>
                <a:lnTo>
                  <a:pt x="2292" y="977"/>
                </a:lnTo>
                <a:lnTo>
                  <a:pt x="2300" y="974"/>
                </a:lnTo>
                <a:lnTo>
                  <a:pt x="2300" y="970"/>
                </a:lnTo>
                <a:lnTo>
                  <a:pt x="2309" y="967"/>
                </a:lnTo>
                <a:lnTo>
                  <a:pt x="2317" y="961"/>
                </a:lnTo>
                <a:lnTo>
                  <a:pt x="2325" y="958"/>
                </a:lnTo>
                <a:lnTo>
                  <a:pt x="2325" y="954"/>
                </a:lnTo>
                <a:lnTo>
                  <a:pt x="2333" y="951"/>
                </a:lnTo>
                <a:lnTo>
                  <a:pt x="2342" y="948"/>
                </a:lnTo>
                <a:lnTo>
                  <a:pt x="2350" y="945"/>
                </a:lnTo>
                <a:lnTo>
                  <a:pt x="2350" y="942"/>
                </a:lnTo>
                <a:lnTo>
                  <a:pt x="2358" y="938"/>
                </a:lnTo>
                <a:lnTo>
                  <a:pt x="2366" y="935"/>
                </a:lnTo>
                <a:lnTo>
                  <a:pt x="2366" y="932"/>
                </a:lnTo>
                <a:lnTo>
                  <a:pt x="2375" y="932"/>
                </a:lnTo>
                <a:lnTo>
                  <a:pt x="2383" y="929"/>
                </a:lnTo>
                <a:lnTo>
                  <a:pt x="2391" y="925"/>
                </a:lnTo>
                <a:lnTo>
                  <a:pt x="2399" y="922"/>
                </a:lnTo>
                <a:lnTo>
                  <a:pt x="2407" y="919"/>
                </a:lnTo>
                <a:lnTo>
                  <a:pt x="2416" y="916"/>
                </a:lnTo>
                <a:lnTo>
                  <a:pt x="2424" y="916"/>
                </a:lnTo>
                <a:lnTo>
                  <a:pt x="2432" y="916"/>
                </a:lnTo>
                <a:lnTo>
                  <a:pt x="2432" y="913"/>
                </a:lnTo>
                <a:lnTo>
                  <a:pt x="2440" y="913"/>
                </a:lnTo>
                <a:lnTo>
                  <a:pt x="2449" y="913"/>
                </a:lnTo>
                <a:lnTo>
                  <a:pt x="2449" y="909"/>
                </a:lnTo>
                <a:lnTo>
                  <a:pt x="2457" y="909"/>
                </a:lnTo>
                <a:lnTo>
                  <a:pt x="2465" y="909"/>
                </a:lnTo>
                <a:lnTo>
                  <a:pt x="2473" y="909"/>
                </a:lnTo>
                <a:lnTo>
                  <a:pt x="2482" y="909"/>
                </a:lnTo>
                <a:lnTo>
                  <a:pt x="2490" y="909"/>
                </a:lnTo>
                <a:lnTo>
                  <a:pt x="2498" y="913"/>
                </a:lnTo>
                <a:lnTo>
                  <a:pt x="2506" y="913"/>
                </a:lnTo>
                <a:lnTo>
                  <a:pt x="2514" y="913"/>
                </a:lnTo>
                <a:lnTo>
                  <a:pt x="2514" y="916"/>
                </a:lnTo>
                <a:lnTo>
                  <a:pt x="2523" y="916"/>
                </a:lnTo>
                <a:lnTo>
                  <a:pt x="2531" y="916"/>
                </a:lnTo>
                <a:lnTo>
                  <a:pt x="2539" y="919"/>
                </a:lnTo>
                <a:lnTo>
                  <a:pt x="2547" y="922"/>
                </a:lnTo>
                <a:lnTo>
                  <a:pt x="2556" y="925"/>
                </a:lnTo>
                <a:lnTo>
                  <a:pt x="2564" y="929"/>
                </a:lnTo>
                <a:lnTo>
                  <a:pt x="2572" y="932"/>
                </a:lnTo>
                <a:lnTo>
                  <a:pt x="2580" y="932"/>
                </a:lnTo>
                <a:lnTo>
                  <a:pt x="2580" y="935"/>
                </a:lnTo>
                <a:lnTo>
                  <a:pt x="2589" y="938"/>
                </a:lnTo>
                <a:lnTo>
                  <a:pt x="2597" y="942"/>
                </a:lnTo>
                <a:lnTo>
                  <a:pt x="2605" y="945"/>
                </a:lnTo>
                <a:lnTo>
                  <a:pt x="2605" y="948"/>
                </a:lnTo>
                <a:lnTo>
                  <a:pt x="2613" y="951"/>
                </a:lnTo>
                <a:lnTo>
                  <a:pt x="2621" y="954"/>
                </a:lnTo>
                <a:lnTo>
                  <a:pt x="2621" y="958"/>
                </a:lnTo>
                <a:lnTo>
                  <a:pt x="2630" y="961"/>
                </a:lnTo>
                <a:lnTo>
                  <a:pt x="2638" y="964"/>
                </a:lnTo>
                <a:lnTo>
                  <a:pt x="2646" y="967"/>
                </a:lnTo>
                <a:lnTo>
                  <a:pt x="2646" y="974"/>
                </a:lnTo>
                <a:lnTo>
                  <a:pt x="2654" y="977"/>
                </a:lnTo>
                <a:lnTo>
                  <a:pt x="2663" y="980"/>
                </a:lnTo>
                <a:lnTo>
                  <a:pt x="2663" y="983"/>
                </a:lnTo>
                <a:lnTo>
                  <a:pt x="2671" y="990"/>
                </a:lnTo>
                <a:lnTo>
                  <a:pt x="2679" y="993"/>
                </a:lnTo>
                <a:lnTo>
                  <a:pt x="2687" y="996"/>
                </a:lnTo>
                <a:lnTo>
                  <a:pt x="2687" y="999"/>
                </a:lnTo>
                <a:lnTo>
                  <a:pt x="2696" y="1006"/>
                </a:lnTo>
                <a:lnTo>
                  <a:pt x="2704" y="1009"/>
                </a:lnTo>
                <a:lnTo>
                  <a:pt x="2712" y="1015"/>
                </a:lnTo>
                <a:lnTo>
                  <a:pt x="2712" y="1019"/>
                </a:lnTo>
                <a:lnTo>
                  <a:pt x="2720" y="1022"/>
                </a:lnTo>
                <a:lnTo>
                  <a:pt x="2728" y="1028"/>
                </a:lnTo>
                <a:lnTo>
                  <a:pt x="2728" y="1031"/>
                </a:lnTo>
                <a:lnTo>
                  <a:pt x="2737" y="1035"/>
                </a:lnTo>
                <a:lnTo>
                  <a:pt x="2745" y="1041"/>
                </a:lnTo>
                <a:lnTo>
                  <a:pt x="2753" y="1044"/>
                </a:lnTo>
                <a:lnTo>
                  <a:pt x="2761" y="1041"/>
                </a:lnTo>
                <a:lnTo>
                  <a:pt x="2770" y="1035"/>
                </a:lnTo>
                <a:lnTo>
                  <a:pt x="2770" y="1031"/>
                </a:lnTo>
                <a:lnTo>
                  <a:pt x="2778" y="1028"/>
                </a:lnTo>
                <a:lnTo>
                  <a:pt x="2786" y="1022"/>
                </a:lnTo>
                <a:lnTo>
                  <a:pt x="2794" y="1019"/>
                </a:lnTo>
                <a:lnTo>
                  <a:pt x="2794" y="1015"/>
                </a:lnTo>
                <a:lnTo>
                  <a:pt x="2803" y="1009"/>
                </a:lnTo>
                <a:lnTo>
                  <a:pt x="2811" y="1006"/>
                </a:lnTo>
                <a:lnTo>
                  <a:pt x="2819" y="999"/>
                </a:lnTo>
                <a:lnTo>
                  <a:pt x="2819" y="996"/>
                </a:lnTo>
                <a:lnTo>
                  <a:pt x="2827" y="993"/>
                </a:lnTo>
                <a:lnTo>
                  <a:pt x="2836" y="990"/>
                </a:lnTo>
                <a:lnTo>
                  <a:pt x="2836" y="983"/>
                </a:lnTo>
                <a:lnTo>
                  <a:pt x="2844" y="980"/>
                </a:lnTo>
                <a:lnTo>
                  <a:pt x="2852" y="977"/>
                </a:lnTo>
                <a:lnTo>
                  <a:pt x="2859" y="974"/>
                </a:lnTo>
                <a:lnTo>
                  <a:pt x="2859" y="970"/>
                </a:lnTo>
                <a:lnTo>
                  <a:pt x="2867" y="964"/>
                </a:lnTo>
                <a:lnTo>
                  <a:pt x="2875" y="961"/>
                </a:lnTo>
                <a:lnTo>
                  <a:pt x="2875" y="958"/>
                </a:lnTo>
                <a:lnTo>
                  <a:pt x="2884" y="954"/>
                </a:lnTo>
                <a:lnTo>
                  <a:pt x="2892" y="951"/>
                </a:lnTo>
                <a:lnTo>
                  <a:pt x="2900" y="948"/>
                </a:lnTo>
                <a:lnTo>
                  <a:pt x="2900" y="945"/>
                </a:lnTo>
                <a:lnTo>
                  <a:pt x="2908" y="942"/>
                </a:lnTo>
                <a:lnTo>
                  <a:pt x="2916" y="938"/>
                </a:lnTo>
                <a:lnTo>
                  <a:pt x="2925" y="938"/>
                </a:lnTo>
                <a:lnTo>
                  <a:pt x="2925" y="935"/>
                </a:lnTo>
                <a:lnTo>
                  <a:pt x="2933" y="932"/>
                </a:lnTo>
                <a:lnTo>
                  <a:pt x="2941" y="929"/>
                </a:lnTo>
                <a:lnTo>
                  <a:pt x="2949" y="925"/>
                </a:lnTo>
                <a:lnTo>
                  <a:pt x="2958" y="922"/>
                </a:lnTo>
                <a:lnTo>
                  <a:pt x="2966" y="922"/>
                </a:lnTo>
                <a:lnTo>
                  <a:pt x="2966" y="919"/>
                </a:lnTo>
                <a:lnTo>
                  <a:pt x="2974" y="919"/>
                </a:lnTo>
                <a:lnTo>
                  <a:pt x="2982" y="916"/>
                </a:lnTo>
                <a:lnTo>
                  <a:pt x="2991" y="916"/>
                </a:lnTo>
                <a:lnTo>
                  <a:pt x="2999" y="913"/>
                </a:lnTo>
                <a:lnTo>
                  <a:pt x="3007" y="913"/>
                </a:lnTo>
                <a:lnTo>
                  <a:pt x="3015" y="913"/>
                </a:lnTo>
                <a:lnTo>
                  <a:pt x="3072" y="909"/>
                </a:lnTo>
                <a:lnTo>
                  <a:pt x="3023" y="909"/>
                </a:lnTo>
              </a:path>
            </a:pathLst>
          </a:custGeom>
          <a:noFill/>
          <a:ln cap="rnd"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2073240" y="2614680"/>
            <a:ext cx="5013360" cy="1403280"/>
          </a:xfrm>
          <a:custGeom>
            <a:avLst/>
            <a:gdLst/>
            <a:ahLst/>
            <a:rect l="l" t="t" r="r" b="b"/>
            <a:pathLst>
              <a:path w="3158" h="884">
                <a:moveTo>
                  <a:pt x="36" y="753"/>
                </a:moveTo>
                <a:lnTo>
                  <a:pt x="36" y="753"/>
                </a:lnTo>
                <a:lnTo>
                  <a:pt x="36" y="753"/>
                </a:lnTo>
                <a:lnTo>
                  <a:pt x="36" y="753"/>
                </a:lnTo>
                <a:lnTo>
                  <a:pt x="38" y="753"/>
                </a:lnTo>
                <a:lnTo>
                  <a:pt x="36" y="753"/>
                </a:lnTo>
                <a:lnTo>
                  <a:pt x="36" y="753"/>
                </a:lnTo>
                <a:lnTo>
                  <a:pt x="38" y="753"/>
                </a:lnTo>
                <a:lnTo>
                  <a:pt x="38" y="753"/>
                </a:lnTo>
                <a:lnTo>
                  <a:pt x="38" y="753"/>
                </a:lnTo>
                <a:lnTo>
                  <a:pt x="38" y="753"/>
                </a:lnTo>
                <a:lnTo>
                  <a:pt x="38" y="753"/>
                </a:lnTo>
                <a:lnTo>
                  <a:pt x="38" y="753"/>
                </a:lnTo>
                <a:lnTo>
                  <a:pt x="38" y="753"/>
                </a:lnTo>
                <a:lnTo>
                  <a:pt x="38" y="753"/>
                </a:lnTo>
                <a:lnTo>
                  <a:pt x="0" y="763"/>
                </a:lnTo>
                <a:lnTo>
                  <a:pt x="41" y="766"/>
                </a:lnTo>
                <a:lnTo>
                  <a:pt x="72" y="766"/>
                </a:lnTo>
                <a:lnTo>
                  <a:pt x="104" y="769"/>
                </a:lnTo>
                <a:lnTo>
                  <a:pt x="135" y="769"/>
                </a:lnTo>
                <a:lnTo>
                  <a:pt x="166" y="769"/>
                </a:lnTo>
                <a:lnTo>
                  <a:pt x="197" y="766"/>
                </a:lnTo>
                <a:lnTo>
                  <a:pt x="227" y="760"/>
                </a:lnTo>
                <a:lnTo>
                  <a:pt x="258" y="754"/>
                </a:lnTo>
                <a:lnTo>
                  <a:pt x="289" y="748"/>
                </a:lnTo>
                <a:lnTo>
                  <a:pt x="320" y="739"/>
                </a:lnTo>
                <a:lnTo>
                  <a:pt x="362" y="731"/>
                </a:lnTo>
                <a:lnTo>
                  <a:pt x="393" y="722"/>
                </a:lnTo>
                <a:lnTo>
                  <a:pt x="424" y="713"/>
                </a:lnTo>
                <a:lnTo>
                  <a:pt x="456" y="704"/>
                </a:lnTo>
                <a:lnTo>
                  <a:pt x="487" y="698"/>
                </a:lnTo>
                <a:lnTo>
                  <a:pt x="518" y="693"/>
                </a:lnTo>
                <a:lnTo>
                  <a:pt x="549" y="693"/>
                </a:lnTo>
                <a:lnTo>
                  <a:pt x="581" y="695"/>
                </a:lnTo>
                <a:lnTo>
                  <a:pt x="612" y="701"/>
                </a:lnTo>
                <a:lnTo>
                  <a:pt x="643" y="710"/>
                </a:lnTo>
                <a:lnTo>
                  <a:pt x="674" y="725"/>
                </a:lnTo>
                <a:lnTo>
                  <a:pt x="716" y="742"/>
                </a:lnTo>
                <a:lnTo>
                  <a:pt x="747" y="763"/>
                </a:lnTo>
                <a:lnTo>
                  <a:pt x="778" y="783"/>
                </a:lnTo>
                <a:lnTo>
                  <a:pt x="810" y="806"/>
                </a:lnTo>
                <a:lnTo>
                  <a:pt x="841" y="827"/>
                </a:lnTo>
                <a:lnTo>
                  <a:pt x="872" y="847"/>
                </a:lnTo>
                <a:lnTo>
                  <a:pt x="903" y="865"/>
                </a:lnTo>
                <a:lnTo>
                  <a:pt x="934" y="877"/>
                </a:lnTo>
                <a:lnTo>
                  <a:pt x="966" y="883"/>
                </a:lnTo>
                <a:lnTo>
                  <a:pt x="997" y="880"/>
                </a:lnTo>
                <a:lnTo>
                  <a:pt x="1028" y="871"/>
                </a:lnTo>
                <a:lnTo>
                  <a:pt x="1070" y="850"/>
                </a:lnTo>
                <a:lnTo>
                  <a:pt x="1101" y="818"/>
                </a:lnTo>
                <a:lnTo>
                  <a:pt x="1132" y="780"/>
                </a:lnTo>
                <a:lnTo>
                  <a:pt x="1163" y="731"/>
                </a:lnTo>
                <a:lnTo>
                  <a:pt x="1193" y="672"/>
                </a:lnTo>
                <a:lnTo>
                  <a:pt x="1224" y="605"/>
                </a:lnTo>
                <a:lnTo>
                  <a:pt x="1255" y="535"/>
                </a:lnTo>
                <a:lnTo>
                  <a:pt x="1287" y="459"/>
                </a:lnTo>
                <a:lnTo>
                  <a:pt x="1318" y="382"/>
                </a:lnTo>
                <a:lnTo>
                  <a:pt x="1349" y="307"/>
                </a:lnTo>
                <a:lnTo>
                  <a:pt x="1380" y="233"/>
                </a:lnTo>
                <a:lnTo>
                  <a:pt x="1422" y="169"/>
                </a:lnTo>
                <a:lnTo>
                  <a:pt x="1453" y="111"/>
                </a:lnTo>
                <a:lnTo>
                  <a:pt x="1484" y="64"/>
                </a:lnTo>
                <a:lnTo>
                  <a:pt x="1516" y="29"/>
                </a:lnTo>
                <a:lnTo>
                  <a:pt x="1547" y="8"/>
                </a:lnTo>
                <a:lnTo>
                  <a:pt x="1578" y="0"/>
                </a:lnTo>
                <a:lnTo>
                  <a:pt x="1609" y="8"/>
                </a:lnTo>
                <a:lnTo>
                  <a:pt x="1640" y="29"/>
                </a:lnTo>
                <a:lnTo>
                  <a:pt x="1672" y="64"/>
                </a:lnTo>
                <a:lnTo>
                  <a:pt x="1703" y="111"/>
                </a:lnTo>
                <a:lnTo>
                  <a:pt x="1745" y="169"/>
                </a:lnTo>
                <a:lnTo>
                  <a:pt x="1776" y="233"/>
                </a:lnTo>
                <a:lnTo>
                  <a:pt x="1807" y="307"/>
                </a:lnTo>
                <a:lnTo>
                  <a:pt x="1838" y="382"/>
                </a:lnTo>
                <a:lnTo>
                  <a:pt x="1869" y="459"/>
                </a:lnTo>
                <a:lnTo>
                  <a:pt x="1901" y="535"/>
                </a:lnTo>
                <a:lnTo>
                  <a:pt x="1932" y="605"/>
                </a:lnTo>
                <a:lnTo>
                  <a:pt x="1963" y="672"/>
                </a:lnTo>
                <a:lnTo>
                  <a:pt x="1994" y="731"/>
                </a:lnTo>
                <a:lnTo>
                  <a:pt x="2026" y="780"/>
                </a:lnTo>
                <a:lnTo>
                  <a:pt x="2057" y="818"/>
                </a:lnTo>
                <a:lnTo>
                  <a:pt x="2098" y="850"/>
                </a:lnTo>
                <a:lnTo>
                  <a:pt x="2130" y="871"/>
                </a:lnTo>
                <a:lnTo>
                  <a:pt x="2159" y="880"/>
                </a:lnTo>
                <a:lnTo>
                  <a:pt x="2190" y="883"/>
                </a:lnTo>
                <a:lnTo>
                  <a:pt x="2222" y="877"/>
                </a:lnTo>
                <a:lnTo>
                  <a:pt x="2253" y="865"/>
                </a:lnTo>
                <a:lnTo>
                  <a:pt x="2284" y="847"/>
                </a:lnTo>
                <a:lnTo>
                  <a:pt x="2315" y="827"/>
                </a:lnTo>
                <a:lnTo>
                  <a:pt x="2346" y="806"/>
                </a:lnTo>
                <a:lnTo>
                  <a:pt x="2378" y="783"/>
                </a:lnTo>
                <a:lnTo>
                  <a:pt x="2409" y="763"/>
                </a:lnTo>
                <a:lnTo>
                  <a:pt x="2451" y="742"/>
                </a:lnTo>
                <a:lnTo>
                  <a:pt x="2482" y="725"/>
                </a:lnTo>
                <a:lnTo>
                  <a:pt x="2513" y="710"/>
                </a:lnTo>
                <a:lnTo>
                  <a:pt x="2544" y="701"/>
                </a:lnTo>
                <a:lnTo>
                  <a:pt x="2575" y="695"/>
                </a:lnTo>
                <a:lnTo>
                  <a:pt x="2607" y="693"/>
                </a:lnTo>
                <a:lnTo>
                  <a:pt x="2638" y="693"/>
                </a:lnTo>
                <a:lnTo>
                  <a:pt x="2669" y="698"/>
                </a:lnTo>
                <a:lnTo>
                  <a:pt x="2700" y="704"/>
                </a:lnTo>
                <a:lnTo>
                  <a:pt x="2732" y="713"/>
                </a:lnTo>
                <a:lnTo>
                  <a:pt x="2763" y="722"/>
                </a:lnTo>
                <a:lnTo>
                  <a:pt x="2804" y="731"/>
                </a:lnTo>
                <a:lnTo>
                  <a:pt x="2836" y="739"/>
                </a:lnTo>
                <a:lnTo>
                  <a:pt x="2867" y="748"/>
                </a:lnTo>
                <a:lnTo>
                  <a:pt x="2898" y="754"/>
                </a:lnTo>
                <a:lnTo>
                  <a:pt x="2929" y="760"/>
                </a:lnTo>
                <a:lnTo>
                  <a:pt x="2960" y="766"/>
                </a:lnTo>
                <a:lnTo>
                  <a:pt x="2992" y="769"/>
                </a:lnTo>
                <a:lnTo>
                  <a:pt x="3023" y="769"/>
                </a:lnTo>
                <a:lnTo>
                  <a:pt x="3054" y="769"/>
                </a:lnTo>
                <a:lnTo>
                  <a:pt x="3085" y="766"/>
                </a:lnTo>
                <a:lnTo>
                  <a:pt x="3115" y="766"/>
                </a:lnTo>
                <a:lnTo>
                  <a:pt x="3157" y="763"/>
                </a:lnTo>
                <a:lnTo>
                  <a:pt x="3110" y="753"/>
                </a:lnTo>
                <a:lnTo>
                  <a:pt x="3110" y="753"/>
                </a:lnTo>
                <a:lnTo>
                  <a:pt x="3110" y="753"/>
                </a:lnTo>
                <a:lnTo>
                  <a:pt x="3110" y="753"/>
                </a:lnTo>
                <a:lnTo>
                  <a:pt x="3110" y="753"/>
                </a:lnTo>
                <a:lnTo>
                  <a:pt x="3110" y="753"/>
                </a:lnTo>
                <a:lnTo>
                  <a:pt x="3110" y="753"/>
                </a:lnTo>
                <a:lnTo>
                  <a:pt x="3110" y="753"/>
                </a:lnTo>
                <a:lnTo>
                  <a:pt x="3110" y="753"/>
                </a:lnTo>
                <a:lnTo>
                  <a:pt x="3110" y="753"/>
                </a:lnTo>
                <a:lnTo>
                  <a:pt x="3110" y="753"/>
                </a:lnTo>
                <a:lnTo>
                  <a:pt x="3110" y="753"/>
                </a:lnTo>
                <a:lnTo>
                  <a:pt x="3111" y="753"/>
                </a:lnTo>
                <a:lnTo>
                  <a:pt x="3111" y="753"/>
                </a:lnTo>
                <a:lnTo>
                  <a:pt x="3111" y="753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Primjer - nastavak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307800" y="1752480"/>
            <a:ext cx="3638160" cy="4382640"/>
            <a:chOff x="307800" y="1752480"/>
            <a:chExt cx="3638160" cy="4382640"/>
          </a:xfrm>
        </p:grpSpPr>
        <p:grpSp>
          <p:nvGrpSpPr>
            <p:cNvPr id="469" name=""/>
            <p:cNvGrpSpPr/>
            <p:nvPr/>
          </p:nvGrpSpPr>
          <p:grpSpPr>
            <a:xfrm>
              <a:off x="958680" y="4754520"/>
              <a:ext cx="2235240" cy="458280"/>
              <a:chOff x="958680" y="4754520"/>
              <a:chExt cx="2235240" cy="458280"/>
            </a:xfrm>
          </p:grpSpPr>
          <p:sp>
            <p:nvSpPr>
              <p:cNvPr id="470" name=""/>
              <p:cNvSpPr/>
              <p:nvPr/>
            </p:nvSpPr>
            <p:spPr>
              <a:xfrm>
                <a:off x="1099080" y="4754520"/>
                <a:ext cx="2094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ff"/>
                    </a:solidFill>
                    <a:latin typeface="Times New Roman"/>
                  </a:rPr>
                  <a:t>orginalni</a:t>
                </a:r>
                <a:r>
                  <a:rPr b="0" lang="hr-HR" sz="2400" spc="-1" strike="noStrike">
                    <a:solidFill>
                      <a:srgbClr val="114ffb"/>
                    </a:solidFill>
                    <a:latin typeface="Times New Roman"/>
                  </a:rPr>
                  <a:t> </a:t>
                </a:r>
                <a:r>
                  <a:rPr b="0" lang="hr-HR" sz="2400" spc="-1" strike="noStrike">
                    <a:solidFill>
                      <a:srgbClr val="ffffff"/>
                    </a:solidFill>
                    <a:latin typeface="Times New Roman"/>
                  </a:rPr>
                  <a:t>sign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958680" y="5027760"/>
                <a:ext cx="185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961920" y="5219640"/>
              <a:ext cx="863280" cy="458280"/>
              <a:chOff x="961920" y="5219640"/>
              <a:chExt cx="863280" cy="458280"/>
            </a:xfrm>
          </p:grpSpPr>
          <p:sp>
            <p:nvSpPr>
              <p:cNvPr id="473" name=""/>
              <p:cNvSpPr/>
              <p:nvPr/>
            </p:nvSpPr>
            <p:spPr>
              <a:xfrm>
                <a:off x="1131120" y="5219640"/>
                <a:ext cx="694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66"/>
                    </a:solidFill>
                    <a:latin typeface="Times New Roman"/>
                  </a:rPr>
                  <a:t>šu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961920" y="5484960"/>
                <a:ext cx="185760" cy="0"/>
              </a:xfrm>
              <a:prstGeom prst="line">
                <a:avLst/>
              </a:prstGeom>
              <a:ln w="12600">
                <a:solidFill>
                  <a:srgbClr val="00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966960" y="5676840"/>
              <a:ext cx="1916280" cy="458280"/>
              <a:chOff x="966960" y="5676840"/>
              <a:chExt cx="1916280" cy="458280"/>
            </a:xfrm>
          </p:grpSpPr>
          <p:sp>
            <p:nvSpPr>
              <p:cNvPr id="476" name=""/>
              <p:cNvSpPr/>
              <p:nvPr/>
            </p:nvSpPr>
            <p:spPr>
              <a:xfrm>
                <a:off x="1134720" y="5676840"/>
                <a:ext cx="1748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signal + šu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966960" y="5942160"/>
                <a:ext cx="185400" cy="0"/>
              </a:xfrm>
              <a:prstGeom prst="line">
                <a:avLst/>
              </a:prstGeom>
              <a:ln w="1260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1050840" y="4002120"/>
              <a:ext cx="2651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050840" y="1914480"/>
              <a:ext cx="2651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1050840" y="1914120"/>
              <a:ext cx="0" cy="2087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3701880" y="1914120"/>
              <a:ext cx="0" cy="2087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050840" y="191448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050840" y="4002120"/>
              <a:ext cx="2651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1050840" y="1914120"/>
              <a:ext cx="0" cy="2087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050840" y="400212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1050840" y="397836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50840" y="1914480"/>
              <a:ext cx="0" cy="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1582560" y="397836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582560" y="1914480"/>
              <a:ext cx="0" cy="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2109960" y="397836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109960" y="1914480"/>
              <a:ext cx="0" cy="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2643120" y="397836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643120" y="1914480"/>
              <a:ext cx="0" cy="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168720" y="397836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168720" y="1914480"/>
              <a:ext cx="0" cy="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3701880" y="397836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701880" y="1914480"/>
              <a:ext cx="0" cy="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856440" y="3992400"/>
              <a:ext cx="3089520" cy="397440"/>
              <a:chOff x="856440" y="3992400"/>
              <a:chExt cx="3089520" cy="397440"/>
            </a:xfrm>
          </p:grpSpPr>
          <p:sp>
            <p:nvSpPr>
              <p:cNvPr id="499" name=""/>
              <p:cNvSpPr/>
              <p:nvPr/>
            </p:nvSpPr>
            <p:spPr>
              <a:xfrm>
                <a:off x="856440" y="39924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59720" y="399240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85320" y="399240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2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418480" y="399240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3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945520" y="399240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4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477600" y="399240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5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1050840" y="400212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3676680" y="400212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050840" y="37688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3676680" y="376884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050840" y="35370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3676680" y="353700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050840" y="33051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3676680" y="330516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050840" y="30718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3676680" y="307188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050840" y="284472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3676680" y="284472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50840" y="26128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3676680" y="261288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050840" y="237960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3676680" y="237960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50840" y="21477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3676680" y="214776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50840" y="19144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3676680" y="191448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726480" y="1752480"/>
              <a:ext cx="326880" cy="2188440"/>
              <a:chOff x="726480" y="1752480"/>
              <a:chExt cx="326880" cy="2188440"/>
            </a:xfrm>
          </p:grpSpPr>
          <p:sp>
            <p:nvSpPr>
              <p:cNvPr id="526" name=""/>
              <p:cNvSpPr/>
              <p:nvPr/>
            </p:nvSpPr>
            <p:spPr>
              <a:xfrm>
                <a:off x="726480" y="35434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26480" y="30942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26480" y="265104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26480" y="220176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26480" y="17524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1050840" y="4002120"/>
              <a:ext cx="2651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50840" y="1914480"/>
              <a:ext cx="2651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1050840" y="1914120"/>
              <a:ext cx="0" cy="2087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701880" y="1914120"/>
              <a:ext cx="0" cy="2087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050840" y="400212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050840" y="3652920"/>
              <a:ext cx="2597400" cy="228600"/>
            </a:xfrm>
            <a:custGeom>
              <a:avLst/>
              <a:gdLst/>
              <a:ahLst/>
              <a:rect l="l" t="t" r="r" b="b"/>
              <a:pathLst>
                <a:path w="1636" h="144">
                  <a:moveTo>
                    <a:pt x="0" y="16"/>
                  </a:moveTo>
                  <a:lnTo>
                    <a:pt x="34" y="73"/>
                  </a:lnTo>
                  <a:lnTo>
                    <a:pt x="65" y="70"/>
                  </a:lnTo>
                  <a:lnTo>
                    <a:pt x="100" y="100"/>
                  </a:lnTo>
                  <a:lnTo>
                    <a:pt x="135" y="4"/>
                  </a:lnTo>
                  <a:lnTo>
                    <a:pt x="166" y="73"/>
                  </a:lnTo>
                  <a:lnTo>
                    <a:pt x="200" y="108"/>
                  </a:lnTo>
                  <a:lnTo>
                    <a:pt x="235" y="135"/>
                  </a:lnTo>
                  <a:lnTo>
                    <a:pt x="266" y="8"/>
                  </a:lnTo>
                  <a:lnTo>
                    <a:pt x="301" y="135"/>
                  </a:lnTo>
                  <a:lnTo>
                    <a:pt x="335" y="73"/>
                  </a:lnTo>
                  <a:lnTo>
                    <a:pt x="366" y="93"/>
                  </a:lnTo>
                  <a:lnTo>
                    <a:pt x="401" y="108"/>
                  </a:lnTo>
                  <a:lnTo>
                    <a:pt x="436" y="12"/>
                  </a:lnTo>
                  <a:lnTo>
                    <a:pt x="466" y="70"/>
                  </a:lnTo>
                  <a:lnTo>
                    <a:pt x="501" y="77"/>
                  </a:lnTo>
                  <a:lnTo>
                    <a:pt x="536" y="8"/>
                  </a:lnTo>
                  <a:lnTo>
                    <a:pt x="567" y="139"/>
                  </a:lnTo>
                  <a:lnTo>
                    <a:pt x="601" y="35"/>
                  </a:lnTo>
                  <a:lnTo>
                    <a:pt x="636" y="35"/>
                  </a:lnTo>
                  <a:lnTo>
                    <a:pt x="667" y="27"/>
                  </a:lnTo>
                  <a:lnTo>
                    <a:pt x="702" y="127"/>
                  </a:lnTo>
                  <a:lnTo>
                    <a:pt x="736" y="143"/>
                  </a:lnTo>
                  <a:lnTo>
                    <a:pt x="767" y="47"/>
                  </a:lnTo>
                  <a:lnTo>
                    <a:pt x="802" y="20"/>
                  </a:lnTo>
                  <a:lnTo>
                    <a:pt x="837" y="54"/>
                  </a:lnTo>
                  <a:lnTo>
                    <a:pt x="868" y="39"/>
                  </a:lnTo>
                  <a:lnTo>
                    <a:pt x="902" y="43"/>
                  </a:lnTo>
                  <a:lnTo>
                    <a:pt x="933" y="0"/>
                  </a:lnTo>
                  <a:lnTo>
                    <a:pt x="968" y="16"/>
                  </a:lnTo>
                  <a:lnTo>
                    <a:pt x="1003" y="112"/>
                  </a:lnTo>
                  <a:lnTo>
                    <a:pt x="1033" y="100"/>
                  </a:lnTo>
                  <a:lnTo>
                    <a:pt x="1068" y="97"/>
                  </a:lnTo>
                  <a:lnTo>
                    <a:pt x="1103" y="73"/>
                  </a:lnTo>
                  <a:lnTo>
                    <a:pt x="1134" y="62"/>
                  </a:lnTo>
                  <a:lnTo>
                    <a:pt x="1168" y="23"/>
                  </a:lnTo>
                  <a:lnTo>
                    <a:pt x="1203" y="85"/>
                  </a:lnTo>
                  <a:lnTo>
                    <a:pt x="1234" y="23"/>
                  </a:lnTo>
                  <a:lnTo>
                    <a:pt x="1269" y="108"/>
                  </a:lnTo>
                  <a:lnTo>
                    <a:pt x="1303" y="85"/>
                  </a:lnTo>
                  <a:lnTo>
                    <a:pt x="1334" y="70"/>
                  </a:lnTo>
                  <a:lnTo>
                    <a:pt x="1369" y="77"/>
                  </a:lnTo>
                  <a:lnTo>
                    <a:pt x="1404" y="104"/>
                  </a:lnTo>
                  <a:lnTo>
                    <a:pt x="1435" y="120"/>
                  </a:lnTo>
                  <a:lnTo>
                    <a:pt x="1469" y="124"/>
                  </a:lnTo>
                  <a:lnTo>
                    <a:pt x="1504" y="62"/>
                  </a:lnTo>
                  <a:lnTo>
                    <a:pt x="1535" y="31"/>
                  </a:lnTo>
                  <a:lnTo>
                    <a:pt x="1570" y="143"/>
                  </a:lnTo>
                  <a:lnTo>
                    <a:pt x="1604" y="70"/>
                  </a:lnTo>
                  <a:lnTo>
                    <a:pt x="1635" y="73"/>
                  </a:lnTo>
                </a:path>
              </a:pathLst>
            </a:custGeom>
            <a:noFill/>
            <a:ln cap="rnd" w="25560">
              <a:solidFill>
                <a:srgbClr val="00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050840" y="2154240"/>
              <a:ext cx="2597400" cy="1616040"/>
            </a:xfrm>
            <a:custGeom>
              <a:avLst/>
              <a:gdLst/>
              <a:ahLst/>
              <a:rect l="l" t="t" r="r" b="b"/>
              <a:pathLst>
                <a:path w="1636" h="1018">
                  <a:moveTo>
                    <a:pt x="0" y="1017"/>
                  </a:moveTo>
                  <a:lnTo>
                    <a:pt x="34" y="755"/>
                  </a:lnTo>
                  <a:lnTo>
                    <a:pt x="65" y="543"/>
                  </a:lnTo>
                  <a:lnTo>
                    <a:pt x="100" y="378"/>
                  </a:lnTo>
                  <a:lnTo>
                    <a:pt x="135" y="250"/>
                  </a:lnTo>
                  <a:lnTo>
                    <a:pt x="166" y="154"/>
                  </a:lnTo>
                  <a:lnTo>
                    <a:pt x="200" y="85"/>
                  </a:lnTo>
                  <a:lnTo>
                    <a:pt x="235" y="38"/>
                  </a:lnTo>
                  <a:lnTo>
                    <a:pt x="266" y="11"/>
                  </a:lnTo>
                  <a:lnTo>
                    <a:pt x="301" y="0"/>
                  </a:lnTo>
                  <a:lnTo>
                    <a:pt x="335" y="0"/>
                  </a:lnTo>
                  <a:lnTo>
                    <a:pt x="366" y="11"/>
                  </a:lnTo>
                  <a:lnTo>
                    <a:pt x="401" y="27"/>
                  </a:lnTo>
                  <a:lnTo>
                    <a:pt x="436" y="54"/>
                  </a:lnTo>
                  <a:lnTo>
                    <a:pt x="466" y="81"/>
                  </a:lnTo>
                  <a:lnTo>
                    <a:pt x="501" y="115"/>
                  </a:lnTo>
                  <a:lnTo>
                    <a:pt x="536" y="150"/>
                  </a:lnTo>
                  <a:lnTo>
                    <a:pt x="567" y="189"/>
                  </a:lnTo>
                  <a:lnTo>
                    <a:pt x="601" y="227"/>
                  </a:lnTo>
                  <a:lnTo>
                    <a:pt x="636" y="270"/>
                  </a:lnTo>
                  <a:lnTo>
                    <a:pt x="667" y="308"/>
                  </a:lnTo>
                  <a:lnTo>
                    <a:pt x="702" y="347"/>
                  </a:lnTo>
                  <a:lnTo>
                    <a:pt x="736" y="385"/>
                  </a:lnTo>
                  <a:lnTo>
                    <a:pt x="767" y="424"/>
                  </a:lnTo>
                  <a:lnTo>
                    <a:pt x="802" y="459"/>
                  </a:lnTo>
                  <a:lnTo>
                    <a:pt x="837" y="493"/>
                  </a:lnTo>
                  <a:lnTo>
                    <a:pt x="868" y="528"/>
                  </a:lnTo>
                  <a:lnTo>
                    <a:pt x="902" y="559"/>
                  </a:lnTo>
                  <a:lnTo>
                    <a:pt x="933" y="590"/>
                  </a:lnTo>
                  <a:lnTo>
                    <a:pt x="968" y="620"/>
                  </a:lnTo>
                  <a:lnTo>
                    <a:pt x="1003" y="647"/>
                  </a:lnTo>
                  <a:lnTo>
                    <a:pt x="1033" y="671"/>
                  </a:lnTo>
                  <a:lnTo>
                    <a:pt x="1068" y="698"/>
                  </a:lnTo>
                  <a:lnTo>
                    <a:pt x="1103" y="721"/>
                  </a:lnTo>
                  <a:lnTo>
                    <a:pt x="1134" y="740"/>
                  </a:lnTo>
                  <a:lnTo>
                    <a:pt x="1168" y="763"/>
                  </a:lnTo>
                  <a:lnTo>
                    <a:pt x="1203" y="782"/>
                  </a:lnTo>
                  <a:lnTo>
                    <a:pt x="1234" y="798"/>
                  </a:lnTo>
                  <a:lnTo>
                    <a:pt x="1269" y="817"/>
                  </a:lnTo>
                  <a:lnTo>
                    <a:pt x="1303" y="832"/>
                  </a:lnTo>
                  <a:lnTo>
                    <a:pt x="1334" y="844"/>
                  </a:lnTo>
                  <a:lnTo>
                    <a:pt x="1369" y="859"/>
                  </a:lnTo>
                  <a:lnTo>
                    <a:pt x="1404" y="871"/>
                  </a:lnTo>
                  <a:lnTo>
                    <a:pt x="1435" y="883"/>
                  </a:lnTo>
                  <a:lnTo>
                    <a:pt x="1469" y="894"/>
                  </a:lnTo>
                  <a:lnTo>
                    <a:pt x="1504" y="902"/>
                  </a:lnTo>
                  <a:lnTo>
                    <a:pt x="1535" y="913"/>
                  </a:lnTo>
                  <a:lnTo>
                    <a:pt x="1570" y="921"/>
                  </a:lnTo>
                  <a:lnTo>
                    <a:pt x="1604" y="929"/>
                  </a:lnTo>
                  <a:lnTo>
                    <a:pt x="1635" y="937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050840" y="2068560"/>
              <a:ext cx="2597400" cy="1660320"/>
            </a:xfrm>
            <a:custGeom>
              <a:avLst/>
              <a:gdLst/>
              <a:ahLst/>
              <a:rect l="l" t="t" r="r" b="b"/>
              <a:pathLst>
                <a:path w="1636" h="1046">
                  <a:moveTo>
                    <a:pt x="0" y="1014"/>
                  </a:moveTo>
                  <a:lnTo>
                    <a:pt x="34" y="809"/>
                  </a:lnTo>
                  <a:lnTo>
                    <a:pt x="65" y="597"/>
                  </a:lnTo>
                  <a:lnTo>
                    <a:pt x="100" y="459"/>
                  </a:lnTo>
                  <a:lnTo>
                    <a:pt x="135" y="235"/>
                  </a:lnTo>
                  <a:lnTo>
                    <a:pt x="166" y="212"/>
                  </a:lnTo>
                  <a:lnTo>
                    <a:pt x="200" y="173"/>
                  </a:lnTo>
                  <a:lnTo>
                    <a:pt x="235" y="154"/>
                  </a:lnTo>
                  <a:lnTo>
                    <a:pt x="266" y="0"/>
                  </a:lnTo>
                  <a:lnTo>
                    <a:pt x="301" y="116"/>
                  </a:lnTo>
                  <a:lnTo>
                    <a:pt x="335" y="54"/>
                  </a:lnTo>
                  <a:lnTo>
                    <a:pt x="366" y="81"/>
                  </a:lnTo>
                  <a:lnTo>
                    <a:pt x="401" y="116"/>
                  </a:lnTo>
                  <a:lnTo>
                    <a:pt x="436" y="46"/>
                  </a:lnTo>
                  <a:lnTo>
                    <a:pt x="466" y="131"/>
                  </a:lnTo>
                  <a:lnTo>
                    <a:pt x="501" y="173"/>
                  </a:lnTo>
                  <a:lnTo>
                    <a:pt x="536" y="142"/>
                  </a:lnTo>
                  <a:lnTo>
                    <a:pt x="567" y="308"/>
                  </a:lnTo>
                  <a:lnTo>
                    <a:pt x="601" y="243"/>
                  </a:lnTo>
                  <a:lnTo>
                    <a:pt x="636" y="281"/>
                  </a:lnTo>
                  <a:lnTo>
                    <a:pt x="667" y="312"/>
                  </a:lnTo>
                  <a:lnTo>
                    <a:pt x="702" y="455"/>
                  </a:lnTo>
                  <a:lnTo>
                    <a:pt x="736" y="509"/>
                  </a:lnTo>
                  <a:lnTo>
                    <a:pt x="767" y="447"/>
                  </a:lnTo>
                  <a:lnTo>
                    <a:pt x="802" y="459"/>
                  </a:lnTo>
                  <a:lnTo>
                    <a:pt x="837" y="528"/>
                  </a:lnTo>
                  <a:lnTo>
                    <a:pt x="868" y="547"/>
                  </a:lnTo>
                  <a:lnTo>
                    <a:pt x="902" y="582"/>
                  </a:lnTo>
                  <a:lnTo>
                    <a:pt x="933" y="570"/>
                  </a:lnTo>
                  <a:lnTo>
                    <a:pt x="968" y="617"/>
                  </a:lnTo>
                  <a:lnTo>
                    <a:pt x="1003" y="740"/>
                  </a:lnTo>
                  <a:lnTo>
                    <a:pt x="1033" y="755"/>
                  </a:lnTo>
                  <a:lnTo>
                    <a:pt x="1068" y="771"/>
                  </a:lnTo>
                  <a:lnTo>
                    <a:pt x="1103" y="771"/>
                  </a:lnTo>
                  <a:lnTo>
                    <a:pt x="1134" y="782"/>
                  </a:lnTo>
                  <a:lnTo>
                    <a:pt x="1168" y="767"/>
                  </a:lnTo>
                  <a:lnTo>
                    <a:pt x="1203" y="848"/>
                  </a:lnTo>
                  <a:lnTo>
                    <a:pt x="1234" y="802"/>
                  </a:lnTo>
                  <a:lnTo>
                    <a:pt x="1269" y="902"/>
                  </a:lnTo>
                  <a:lnTo>
                    <a:pt x="1303" y="898"/>
                  </a:lnTo>
                  <a:lnTo>
                    <a:pt x="1334" y="894"/>
                  </a:lnTo>
                  <a:lnTo>
                    <a:pt x="1369" y="917"/>
                  </a:lnTo>
                  <a:lnTo>
                    <a:pt x="1404" y="956"/>
                  </a:lnTo>
                  <a:lnTo>
                    <a:pt x="1435" y="983"/>
                  </a:lnTo>
                  <a:lnTo>
                    <a:pt x="1469" y="998"/>
                  </a:lnTo>
                  <a:lnTo>
                    <a:pt x="1504" y="948"/>
                  </a:lnTo>
                  <a:lnTo>
                    <a:pt x="1535" y="921"/>
                  </a:lnTo>
                  <a:lnTo>
                    <a:pt x="1570" y="1045"/>
                  </a:lnTo>
                  <a:lnTo>
                    <a:pt x="1604" y="979"/>
                  </a:lnTo>
                  <a:lnTo>
                    <a:pt x="1635" y="991"/>
                  </a:lnTo>
                </a:path>
              </a:pathLst>
            </a:custGeom>
            <a:noFill/>
            <a:ln cap="rnd" w="255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191960" y="4262400"/>
              <a:ext cx="2367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vremenski indeks 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6200000">
              <a:off x="-137520" y="266148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5140440" y="1752480"/>
            <a:ext cx="3774960" cy="4359600"/>
            <a:chOff x="5140440" y="1752480"/>
            <a:chExt cx="3774960" cy="4359600"/>
          </a:xfrm>
        </p:grpSpPr>
        <p:grpSp>
          <p:nvGrpSpPr>
            <p:cNvPr id="542" name=""/>
            <p:cNvGrpSpPr/>
            <p:nvPr/>
          </p:nvGrpSpPr>
          <p:grpSpPr>
            <a:xfrm>
              <a:off x="5710320" y="5288040"/>
              <a:ext cx="3205080" cy="824040"/>
              <a:chOff x="5710320" y="5288040"/>
              <a:chExt cx="3205080" cy="824040"/>
            </a:xfrm>
          </p:grpSpPr>
          <p:sp>
            <p:nvSpPr>
              <p:cNvPr id="543" name=""/>
              <p:cNvSpPr/>
              <p:nvPr/>
            </p:nvSpPr>
            <p:spPr>
              <a:xfrm>
                <a:off x="5835600" y="5288040"/>
                <a:ext cx="30798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0066"/>
                    </a:solidFill>
                    <a:latin typeface="Times New Roman"/>
                  </a:rPr>
                  <a:t>y[n] - izlaz iz </a:t>
                </a:r>
                <a:r>
                  <a:rPr b="0" i="1" lang="hr-HR" sz="2400" spc="-1" strike="noStrike">
                    <a:solidFill>
                      <a:srgbClr val="ff0066"/>
                    </a:solidFill>
                    <a:latin typeface="Times New Roman"/>
                  </a:rPr>
                  <a:t>moving average</a:t>
                </a:r>
                <a:r>
                  <a:rPr b="0" lang="hr-HR" sz="2400" spc="-1" strike="noStrike">
                    <a:solidFill>
                      <a:srgbClr val="ff0066"/>
                    </a:solidFill>
                    <a:latin typeface="Times New Roman"/>
                  </a:rPr>
                  <a:t> filtr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710320" y="5560920"/>
                <a:ext cx="158760" cy="0"/>
              </a:xfrm>
              <a:prstGeom prst="line">
                <a:avLst/>
              </a:prstGeom>
              <a:ln w="1260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5711760" y="4762440"/>
              <a:ext cx="2260080" cy="458280"/>
              <a:chOff x="5711760" y="4762440"/>
              <a:chExt cx="2260080" cy="458280"/>
            </a:xfrm>
          </p:grpSpPr>
          <p:sp>
            <p:nvSpPr>
              <p:cNvPr id="546" name=""/>
              <p:cNvSpPr/>
              <p:nvPr/>
            </p:nvSpPr>
            <p:spPr>
              <a:xfrm>
                <a:off x="5877360" y="4762440"/>
                <a:ext cx="2094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ff"/>
                    </a:solidFill>
                    <a:latin typeface="Times New Roman"/>
                  </a:rPr>
                  <a:t>orginalni sign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711760" y="5027760"/>
                <a:ext cx="185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5927760" y="3959280"/>
              <a:ext cx="2651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7760" y="1919160"/>
              <a:ext cx="2651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5927760" y="1918800"/>
              <a:ext cx="0" cy="2040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8578800" y="1918800"/>
              <a:ext cx="0" cy="2040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27760" y="191916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927760" y="3959280"/>
              <a:ext cx="2651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5927760" y="1918800"/>
              <a:ext cx="0" cy="2040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27760" y="395928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927760" y="39355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27760" y="1919160"/>
              <a:ext cx="0" cy="24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6459480" y="39355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59480" y="1919160"/>
              <a:ext cx="0" cy="24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986520" y="39355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986520" y="1919160"/>
              <a:ext cx="0" cy="24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7520040" y="39355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520040" y="1919160"/>
              <a:ext cx="0" cy="24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8045280" y="39355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045280" y="1919160"/>
              <a:ext cx="0" cy="24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8578800" y="3935520"/>
              <a:ext cx="0" cy="2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578800" y="1919160"/>
              <a:ext cx="0" cy="24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5733360" y="3946680"/>
              <a:ext cx="3089160" cy="397440"/>
              <a:chOff x="5733360" y="3946680"/>
              <a:chExt cx="3089160" cy="397440"/>
            </a:xfrm>
          </p:grpSpPr>
          <p:sp>
            <p:nvSpPr>
              <p:cNvPr id="569" name=""/>
              <p:cNvSpPr/>
              <p:nvPr/>
            </p:nvSpPr>
            <p:spPr>
              <a:xfrm>
                <a:off x="5733360" y="39466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236640" y="394668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761880" y="394668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2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295400" y="394668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3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822440" y="394668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4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354160" y="394668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5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5927760" y="39592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8553600" y="395928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27760" y="366552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8553600" y="366552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27760" y="337824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8553600" y="337824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927760" y="308628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8553600" y="308628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27760" y="279252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8553600" y="279252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927760" y="24987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8553600" y="249876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927760" y="221292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8553600" y="221292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27760" y="1919160"/>
              <a:ext cx="23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8553600" y="191916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603040" y="1752480"/>
              <a:ext cx="326880" cy="2437560"/>
              <a:chOff x="5603040" y="1752480"/>
              <a:chExt cx="326880" cy="2437560"/>
            </a:xfrm>
          </p:grpSpPr>
          <p:sp>
            <p:nvSpPr>
              <p:cNvPr id="592" name=""/>
              <p:cNvSpPr/>
              <p:nvPr/>
            </p:nvSpPr>
            <p:spPr>
              <a:xfrm>
                <a:off x="5603040" y="37926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603040" y="349884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603040" y="32130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603040" y="291924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03040" y="262584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603040" y="233352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603040" y="204624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603040" y="17524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5927760" y="3959280"/>
              <a:ext cx="2651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927760" y="1919160"/>
              <a:ext cx="2651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927760" y="1918800"/>
              <a:ext cx="0" cy="2040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578800" y="1918800"/>
              <a:ext cx="0" cy="2040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927760" y="395928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927760" y="1925640"/>
              <a:ext cx="2597040" cy="2035080"/>
            </a:xfrm>
            <a:custGeom>
              <a:avLst/>
              <a:gdLst/>
              <a:ahLst/>
              <a:rect l="l" t="t" r="r" b="b"/>
              <a:pathLst>
                <a:path w="1636" h="1282">
                  <a:moveTo>
                    <a:pt x="0" y="1281"/>
                  </a:moveTo>
                  <a:lnTo>
                    <a:pt x="34" y="949"/>
                  </a:lnTo>
                  <a:lnTo>
                    <a:pt x="65" y="686"/>
                  </a:lnTo>
                  <a:lnTo>
                    <a:pt x="100" y="478"/>
                  </a:lnTo>
                  <a:lnTo>
                    <a:pt x="135" y="316"/>
                  </a:lnTo>
                  <a:lnTo>
                    <a:pt x="166" y="196"/>
                  </a:lnTo>
                  <a:lnTo>
                    <a:pt x="200" y="109"/>
                  </a:lnTo>
                  <a:lnTo>
                    <a:pt x="235" y="52"/>
                  </a:lnTo>
                  <a:lnTo>
                    <a:pt x="266" y="15"/>
                  </a:lnTo>
                  <a:lnTo>
                    <a:pt x="301" y="0"/>
                  </a:lnTo>
                  <a:lnTo>
                    <a:pt x="335" y="0"/>
                  </a:lnTo>
                  <a:lnTo>
                    <a:pt x="366" y="15"/>
                  </a:lnTo>
                  <a:lnTo>
                    <a:pt x="401" y="37"/>
                  </a:lnTo>
                  <a:lnTo>
                    <a:pt x="436" y="67"/>
                  </a:lnTo>
                  <a:lnTo>
                    <a:pt x="466" y="105"/>
                  </a:lnTo>
                  <a:lnTo>
                    <a:pt x="501" y="147"/>
                  </a:lnTo>
                  <a:lnTo>
                    <a:pt x="536" y="192"/>
                  </a:lnTo>
                  <a:lnTo>
                    <a:pt x="567" y="241"/>
                  </a:lnTo>
                  <a:lnTo>
                    <a:pt x="601" y="290"/>
                  </a:lnTo>
                  <a:lnTo>
                    <a:pt x="636" y="339"/>
                  </a:lnTo>
                  <a:lnTo>
                    <a:pt x="667" y="388"/>
                  </a:lnTo>
                  <a:lnTo>
                    <a:pt x="702" y="437"/>
                  </a:lnTo>
                  <a:lnTo>
                    <a:pt x="736" y="486"/>
                  </a:lnTo>
                  <a:lnTo>
                    <a:pt x="767" y="531"/>
                  </a:lnTo>
                  <a:lnTo>
                    <a:pt x="802" y="576"/>
                  </a:lnTo>
                  <a:lnTo>
                    <a:pt x="837" y="622"/>
                  </a:lnTo>
                  <a:lnTo>
                    <a:pt x="868" y="663"/>
                  </a:lnTo>
                  <a:lnTo>
                    <a:pt x="902" y="704"/>
                  </a:lnTo>
                  <a:lnTo>
                    <a:pt x="933" y="742"/>
                  </a:lnTo>
                  <a:lnTo>
                    <a:pt x="968" y="780"/>
                  </a:lnTo>
                  <a:lnTo>
                    <a:pt x="1003" y="814"/>
                  </a:lnTo>
                  <a:lnTo>
                    <a:pt x="1033" y="848"/>
                  </a:lnTo>
                  <a:lnTo>
                    <a:pt x="1068" y="878"/>
                  </a:lnTo>
                  <a:lnTo>
                    <a:pt x="1103" y="908"/>
                  </a:lnTo>
                  <a:lnTo>
                    <a:pt x="1134" y="934"/>
                  </a:lnTo>
                  <a:lnTo>
                    <a:pt x="1168" y="961"/>
                  </a:lnTo>
                  <a:lnTo>
                    <a:pt x="1203" y="983"/>
                  </a:lnTo>
                  <a:lnTo>
                    <a:pt x="1234" y="1006"/>
                  </a:lnTo>
                  <a:lnTo>
                    <a:pt x="1269" y="1025"/>
                  </a:lnTo>
                  <a:lnTo>
                    <a:pt x="1303" y="1047"/>
                  </a:lnTo>
                  <a:lnTo>
                    <a:pt x="1334" y="1062"/>
                  </a:lnTo>
                  <a:lnTo>
                    <a:pt x="1369" y="1081"/>
                  </a:lnTo>
                  <a:lnTo>
                    <a:pt x="1404" y="1096"/>
                  </a:lnTo>
                  <a:lnTo>
                    <a:pt x="1435" y="1111"/>
                  </a:lnTo>
                  <a:lnTo>
                    <a:pt x="1469" y="1123"/>
                  </a:lnTo>
                  <a:lnTo>
                    <a:pt x="1504" y="1138"/>
                  </a:lnTo>
                  <a:lnTo>
                    <a:pt x="1535" y="1149"/>
                  </a:lnTo>
                  <a:lnTo>
                    <a:pt x="1570" y="1160"/>
                  </a:lnTo>
                  <a:lnTo>
                    <a:pt x="1604" y="1168"/>
                  </a:lnTo>
                  <a:lnTo>
                    <a:pt x="1635" y="1179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927760" y="1967040"/>
              <a:ext cx="2597040" cy="1969920"/>
            </a:xfrm>
            <a:custGeom>
              <a:avLst/>
              <a:gdLst/>
              <a:ahLst/>
              <a:rect l="l" t="t" r="r" b="b"/>
              <a:pathLst>
                <a:path w="1636" h="1241">
                  <a:moveTo>
                    <a:pt x="0" y="1240"/>
                  </a:moveTo>
                  <a:lnTo>
                    <a:pt x="34" y="1172"/>
                  </a:lnTo>
                  <a:lnTo>
                    <a:pt x="65" y="1055"/>
                  </a:lnTo>
                  <a:lnTo>
                    <a:pt x="100" y="901"/>
                  </a:lnTo>
                  <a:lnTo>
                    <a:pt x="135" y="690"/>
                  </a:lnTo>
                  <a:lnTo>
                    <a:pt x="166" y="486"/>
                  </a:lnTo>
                  <a:lnTo>
                    <a:pt x="200" y="328"/>
                  </a:lnTo>
                  <a:lnTo>
                    <a:pt x="235" y="219"/>
                  </a:lnTo>
                  <a:lnTo>
                    <a:pt x="266" y="102"/>
                  </a:lnTo>
                  <a:lnTo>
                    <a:pt x="301" y="72"/>
                  </a:lnTo>
                  <a:lnTo>
                    <a:pt x="335" y="34"/>
                  </a:lnTo>
                  <a:lnTo>
                    <a:pt x="366" y="8"/>
                  </a:lnTo>
                  <a:lnTo>
                    <a:pt x="401" y="0"/>
                  </a:lnTo>
                  <a:lnTo>
                    <a:pt x="436" y="11"/>
                  </a:lnTo>
                  <a:lnTo>
                    <a:pt x="466" y="15"/>
                  </a:lnTo>
                  <a:lnTo>
                    <a:pt x="501" y="45"/>
                  </a:lnTo>
                  <a:lnTo>
                    <a:pt x="536" y="60"/>
                  </a:lnTo>
                  <a:lnTo>
                    <a:pt x="567" y="109"/>
                  </a:lnTo>
                  <a:lnTo>
                    <a:pt x="601" y="158"/>
                  </a:lnTo>
                  <a:lnTo>
                    <a:pt x="636" y="196"/>
                  </a:lnTo>
                  <a:lnTo>
                    <a:pt x="667" y="234"/>
                  </a:lnTo>
                  <a:lnTo>
                    <a:pt x="702" y="313"/>
                  </a:lnTo>
                  <a:lnTo>
                    <a:pt x="736" y="362"/>
                  </a:lnTo>
                  <a:lnTo>
                    <a:pt x="767" y="415"/>
                  </a:lnTo>
                  <a:lnTo>
                    <a:pt x="802" y="456"/>
                  </a:lnTo>
                  <a:lnTo>
                    <a:pt x="837" y="513"/>
                  </a:lnTo>
                  <a:lnTo>
                    <a:pt x="868" y="535"/>
                  </a:lnTo>
                  <a:lnTo>
                    <a:pt x="902" y="550"/>
                  </a:lnTo>
                  <a:lnTo>
                    <a:pt x="933" y="584"/>
                  </a:lnTo>
                  <a:lnTo>
                    <a:pt x="968" y="622"/>
                  </a:lnTo>
                  <a:lnTo>
                    <a:pt x="1003" y="675"/>
                  </a:lnTo>
                  <a:lnTo>
                    <a:pt x="1033" y="727"/>
                  </a:lnTo>
                  <a:lnTo>
                    <a:pt x="1068" y="776"/>
                  </a:lnTo>
                  <a:lnTo>
                    <a:pt x="1103" y="825"/>
                  </a:lnTo>
                  <a:lnTo>
                    <a:pt x="1134" y="867"/>
                  </a:lnTo>
                  <a:lnTo>
                    <a:pt x="1168" y="874"/>
                  </a:lnTo>
                  <a:lnTo>
                    <a:pt x="1203" y="897"/>
                  </a:lnTo>
                  <a:lnTo>
                    <a:pt x="1234" y="905"/>
                  </a:lnTo>
                  <a:lnTo>
                    <a:pt x="1269" y="938"/>
                  </a:lnTo>
                  <a:lnTo>
                    <a:pt x="1303" y="969"/>
                  </a:lnTo>
                  <a:lnTo>
                    <a:pt x="1334" y="999"/>
                  </a:lnTo>
                  <a:lnTo>
                    <a:pt x="1369" y="1018"/>
                  </a:lnTo>
                  <a:lnTo>
                    <a:pt x="1404" y="1055"/>
                  </a:lnTo>
                  <a:lnTo>
                    <a:pt x="1435" y="1078"/>
                  </a:lnTo>
                  <a:lnTo>
                    <a:pt x="1469" y="1101"/>
                  </a:lnTo>
                  <a:lnTo>
                    <a:pt x="1504" y="1116"/>
                  </a:lnTo>
                  <a:lnTo>
                    <a:pt x="1535" y="1116"/>
                  </a:lnTo>
                  <a:lnTo>
                    <a:pt x="1570" y="1138"/>
                  </a:lnTo>
                  <a:lnTo>
                    <a:pt x="1604" y="1138"/>
                  </a:lnTo>
                  <a:lnTo>
                    <a:pt x="1635" y="1134"/>
                  </a:lnTo>
                </a:path>
              </a:pathLst>
            </a:custGeom>
            <a:noFill/>
            <a:ln cap="rnd" w="255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132240" y="4276800"/>
              <a:ext cx="2367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vremenski indeks 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6200000">
              <a:off x="4694760" y="270936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Fiksni vremenski otvori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36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dfca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rimjer: </a:t>
            </a:r>
            <a:r>
              <a:rPr b="0" lang="hr-HR" sz="3200" spc="-1" strike="noStrike">
                <a:solidFill>
                  <a:srgbClr val="fafd00"/>
                </a:solidFill>
                <a:latin typeface="Times New Roman"/>
              </a:rPr>
              <a:t>2</a:t>
            </a:r>
            <a:r>
              <a:rPr b="0" i="1" lang="hr-HR" sz="3200" spc="-1" strike="noStrike">
                <a:solidFill>
                  <a:srgbClr val="fafd00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fafd00"/>
                </a:solidFill>
                <a:latin typeface="Times New Roman"/>
              </a:rPr>
              <a:t> = </a:t>
            </a:r>
            <a:r>
              <a:rPr b="0" i="1" lang="hr-HR" sz="3200" spc="-1" strike="noStrike">
                <a:solidFill>
                  <a:srgbClr val="fafd00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afd00"/>
                </a:solidFill>
                <a:latin typeface="Times New Roman"/>
              </a:rPr>
              <a:t> = 20, </a:t>
            </a:r>
            <a:r>
              <a:rPr b="0" lang="hr-HR" sz="32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hr-HR" sz="3200" spc="-1" strike="noStrike" baseline="-25000">
                <a:solidFill>
                  <a:srgbClr val="fafd00"/>
                </a:solidFill>
                <a:latin typeface="Times New Roman"/>
              </a:rPr>
              <a:t>c </a:t>
            </a:r>
            <a:r>
              <a:rPr b="0" lang="hr-HR" sz="3200" spc="-1" strike="noStrike">
                <a:solidFill>
                  <a:srgbClr val="fafd00"/>
                </a:solidFill>
                <a:latin typeface="Times New Roman"/>
              </a:rPr>
              <a:t>= 0,5</a:t>
            </a:r>
            <a:r>
              <a:rPr b="0" lang="hr-HR" sz="32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98" name=""/>
          <p:cNvGrpSpPr/>
          <p:nvPr/>
        </p:nvGrpSpPr>
        <p:grpSpPr>
          <a:xfrm>
            <a:off x="0" y="2635200"/>
            <a:ext cx="4299840" cy="3913920"/>
            <a:chOff x="0" y="2635200"/>
            <a:chExt cx="4299840" cy="3913920"/>
          </a:xfrm>
        </p:grpSpPr>
        <p:sp>
          <p:nvSpPr>
            <p:cNvPr id="3699" name=""/>
            <p:cNvSpPr/>
            <p:nvPr/>
          </p:nvSpPr>
          <p:spPr>
            <a:xfrm flipV="1">
              <a:off x="576360" y="3066840"/>
              <a:ext cx="0" cy="271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 flipV="1">
              <a:off x="1440000" y="3066840"/>
              <a:ext cx="0" cy="2719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 flipV="1">
              <a:off x="2313000" y="3066840"/>
              <a:ext cx="0" cy="2719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 flipV="1">
              <a:off x="3176640" y="3066840"/>
              <a:ext cx="0" cy="2719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 flipV="1">
              <a:off x="4041720" y="3066840"/>
              <a:ext cx="0" cy="271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576360" y="5786280"/>
              <a:ext cx="3465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576360" y="5106960"/>
              <a:ext cx="3465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76360" y="4427640"/>
              <a:ext cx="3465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576360" y="3746520"/>
              <a:ext cx="3465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576360" y="3067200"/>
              <a:ext cx="3465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576360" y="3067200"/>
              <a:ext cx="3467160" cy="2720880"/>
            </a:xfrm>
            <a:custGeom>
              <a:avLst/>
              <a:gdLst/>
              <a:ahLst/>
              <a:rect l="l" t="t" r="r" b="b"/>
              <a:pathLst>
                <a:path w="2184" h="1714">
                  <a:moveTo>
                    <a:pt x="0" y="1713"/>
                  </a:moveTo>
                  <a:lnTo>
                    <a:pt x="0" y="0"/>
                  </a:lnTo>
                  <a:lnTo>
                    <a:pt x="2183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576360" y="3067200"/>
              <a:ext cx="3467160" cy="2720880"/>
            </a:xfrm>
            <a:custGeom>
              <a:avLst/>
              <a:gdLst/>
              <a:ahLst/>
              <a:rect l="l" t="t" r="r" b="b"/>
              <a:pathLst>
                <a:path w="2184" h="1714">
                  <a:moveTo>
                    <a:pt x="0" y="1713"/>
                  </a:moveTo>
                  <a:lnTo>
                    <a:pt x="0" y="0"/>
                  </a:lnTo>
                  <a:lnTo>
                    <a:pt x="2183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576360" y="3067200"/>
              <a:ext cx="3467160" cy="2720880"/>
            </a:xfrm>
            <a:custGeom>
              <a:avLst/>
              <a:gdLst/>
              <a:ahLst/>
              <a:rect l="l" t="t" r="r" b="b"/>
              <a:pathLst>
                <a:path w="2184" h="1714">
                  <a:moveTo>
                    <a:pt x="0" y="1713"/>
                  </a:moveTo>
                  <a:lnTo>
                    <a:pt x="0" y="0"/>
                  </a:lnTo>
                  <a:lnTo>
                    <a:pt x="2183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576360" y="5786280"/>
              <a:ext cx="3465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576360" y="3067200"/>
              <a:ext cx="3465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 flipV="1">
              <a:off x="576360" y="3066840"/>
              <a:ext cx="0" cy="271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 flipV="1">
              <a:off x="4041720" y="3066840"/>
              <a:ext cx="0" cy="271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576360" y="306720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576360" y="5786280"/>
              <a:ext cx="3465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 flipV="1">
              <a:off x="576360" y="3066840"/>
              <a:ext cx="0" cy="271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576360" y="578628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 flipV="1">
              <a:off x="576360" y="575460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576360" y="306720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 flipV="1">
              <a:off x="1440000" y="575460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1440000" y="306720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 flipV="1">
              <a:off x="2313000" y="575460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2313000" y="306720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 flipV="1">
              <a:off x="3176640" y="575460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3176640" y="306720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 flipV="1">
              <a:off x="4041720" y="575460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4041720" y="306720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30" name=""/>
            <p:cNvGrpSpPr/>
            <p:nvPr/>
          </p:nvGrpSpPr>
          <p:grpSpPr>
            <a:xfrm>
              <a:off x="333720" y="5786280"/>
              <a:ext cx="3966120" cy="397440"/>
              <a:chOff x="333720" y="5786280"/>
              <a:chExt cx="3966120" cy="397440"/>
            </a:xfrm>
          </p:grpSpPr>
          <p:sp>
            <p:nvSpPr>
              <p:cNvPr id="3731" name=""/>
              <p:cNvSpPr/>
              <p:nvPr/>
            </p:nvSpPr>
            <p:spPr>
              <a:xfrm>
                <a:off x="333720" y="578628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1230840" y="5786280"/>
                <a:ext cx="412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2144160" y="57862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3007440" y="57862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3831480" y="578628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36" name=""/>
            <p:cNvSpPr/>
            <p:nvPr/>
          </p:nvSpPr>
          <p:spPr>
            <a:xfrm>
              <a:off x="576360" y="578628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 flipH="1">
              <a:off x="4010040" y="578628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576360" y="545148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 flipH="1">
              <a:off x="4010040" y="545148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576360" y="51069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 flipH="1">
              <a:off x="4010040" y="51069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576360" y="47703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H="1">
              <a:off x="4010040" y="47703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576360" y="442764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 flipH="1">
              <a:off x="4010040" y="442764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576360" y="409104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 flipH="1">
              <a:off x="4010040" y="409104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576360" y="374652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H="1">
              <a:off x="4010040" y="374652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576360" y="34113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 flipH="1">
              <a:off x="4010040" y="34113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576360" y="306720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 flipH="1">
              <a:off x="4010040" y="306720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54" name=""/>
            <p:cNvGrpSpPr/>
            <p:nvPr/>
          </p:nvGrpSpPr>
          <p:grpSpPr>
            <a:xfrm>
              <a:off x="0" y="2878200"/>
              <a:ext cx="578160" cy="3086280"/>
              <a:chOff x="0" y="2878200"/>
              <a:chExt cx="578160" cy="3086280"/>
            </a:xfrm>
          </p:grpSpPr>
          <p:sp>
            <p:nvSpPr>
              <p:cNvPr id="3755" name=""/>
              <p:cNvSpPr/>
              <p:nvPr/>
            </p:nvSpPr>
            <p:spPr>
              <a:xfrm>
                <a:off x="0" y="5597640"/>
                <a:ext cx="5781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-0,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142920" y="4917960"/>
                <a:ext cx="3114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39600" y="4237200"/>
                <a:ext cx="50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0,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39600" y="3557520"/>
                <a:ext cx="50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0,4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39600" y="2878200"/>
                <a:ext cx="50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0,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60" name=""/>
            <p:cNvSpPr/>
            <p:nvPr/>
          </p:nvSpPr>
          <p:spPr>
            <a:xfrm>
              <a:off x="576360" y="5786280"/>
              <a:ext cx="3465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576360" y="3067200"/>
              <a:ext cx="3465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 flipV="1">
              <a:off x="576360" y="3066840"/>
              <a:ext cx="0" cy="271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 flipV="1">
              <a:off x="4041720" y="3066840"/>
              <a:ext cx="0" cy="271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576360" y="578628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576360" y="3451320"/>
              <a:ext cx="3467160" cy="2001600"/>
            </a:xfrm>
            <a:custGeom>
              <a:avLst/>
              <a:gdLst/>
              <a:ahLst/>
              <a:rect l="l" t="t" r="r" b="b"/>
              <a:pathLst>
                <a:path w="2184" h="1261">
                  <a:moveTo>
                    <a:pt x="0" y="1038"/>
                  </a:moveTo>
                  <a:lnTo>
                    <a:pt x="111" y="962"/>
                  </a:lnTo>
                  <a:lnTo>
                    <a:pt x="217" y="1038"/>
                  </a:lnTo>
                  <a:lnTo>
                    <a:pt x="328" y="1134"/>
                  </a:lnTo>
                  <a:lnTo>
                    <a:pt x="439" y="1038"/>
                  </a:lnTo>
                  <a:lnTo>
                    <a:pt x="544" y="907"/>
                  </a:lnTo>
                  <a:lnTo>
                    <a:pt x="655" y="1038"/>
                  </a:lnTo>
                  <a:lnTo>
                    <a:pt x="766" y="1260"/>
                  </a:lnTo>
                  <a:lnTo>
                    <a:pt x="872" y="1038"/>
                  </a:lnTo>
                  <a:lnTo>
                    <a:pt x="983" y="378"/>
                  </a:lnTo>
                  <a:lnTo>
                    <a:pt x="1094" y="0"/>
                  </a:lnTo>
                  <a:lnTo>
                    <a:pt x="1200" y="378"/>
                  </a:lnTo>
                  <a:lnTo>
                    <a:pt x="1311" y="1038"/>
                  </a:lnTo>
                  <a:lnTo>
                    <a:pt x="1416" y="1260"/>
                  </a:lnTo>
                  <a:lnTo>
                    <a:pt x="1527" y="1038"/>
                  </a:lnTo>
                  <a:lnTo>
                    <a:pt x="1638" y="907"/>
                  </a:lnTo>
                  <a:lnTo>
                    <a:pt x="1744" y="1038"/>
                  </a:lnTo>
                  <a:lnTo>
                    <a:pt x="1855" y="1134"/>
                  </a:lnTo>
                  <a:lnTo>
                    <a:pt x="1966" y="1038"/>
                  </a:lnTo>
                  <a:lnTo>
                    <a:pt x="2072" y="962"/>
                  </a:lnTo>
                  <a:lnTo>
                    <a:pt x="2183" y="1038"/>
                  </a:lnTo>
                </a:path>
              </a:pathLst>
            </a:custGeom>
            <a:noFill/>
            <a:ln cap="rnd" w="12600">
              <a:solidFill>
                <a:srgbClr val="ea991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576360" y="3348000"/>
              <a:ext cx="3467160" cy="2024280"/>
            </a:xfrm>
            <a:custGeom>
              <a:avLst/>
              <a:gdLst/>
              <a:ahLst/>
              <a:rect l="l" t="t" r="r" b="b"/>
              <a:pathLst>
                <a:path w="2184" h="1275">
                  <a:moveTo>
                    <a:pt x="0" y="1108"/>
                  </a:moveTo>
                  <a:lnTo>
                    <a:pt x="111" y="1098"/>
                  </a:lnTo>
                  <a:lnTo>
                    <a:pt x="217" y="1108"/>
                  </a:lnTo>
                  <a:lnTo>
                    <a:pt x="328" y="1138"/>
                  </a:lnTo>
                  <a:lnTo>
                    <a:pt x="439" y="1108"/>
                  </a:lnTo>
                  <a:lnTo>
                    <a:pt x="544" y="1037"/>
                  </a:lnTo>
                  <a:lnTo>
                    <a:pt x="655" y="1108"/>
                  </a:lnTo>
                  <a:lnTo>
                    <a:pt x="766" y="1274"/>
                  </a:lnTo>
                  <a:lnTo>
                    <a:pt x="872" y="1108"/>
                  </a:lnTo>
                  <a:lnTo>
                    <a:pt x="983" y="473"/>
                  </a:lnTo>
                  <a:lnTo>
                    <a:pt x="1094" y="0"/>
                  </a:lnTo>
                  <a:lnTo>
                    <a:pt x="1200" y="473"/>
                  </a:lnTo>
                  <a:lnTo>
                    <a:pt x="1311" y="1108"/>
                  </a:lnTo>
                  <a:lnTo>
                    <a:pt x="1416" y="1274"/>
                  </a:lnTo>
                  <a:lnTo>
                    <a:pt x="1527" y="1108"/>
                  </a:lnTo>
                  <a:lnTo>
                    <a:pt x="1638" y="1037"/>
                  </a:lnTo>
                  <a:lnTo>
                    <a:pt x="1744" y="1108"/>
                  </a:lnTo>
                  <a:lnTo>
                    <a:pt x="1855" y="1138"/>
                  </a:lnTo>
                  <a:lnTo>
                    <a:pt x="1966" y="1108"/>
                  </a:lnTo>
                  <a:lnTo>
                    <a:pt x="2072" y="1098"/>
                  </a:lnTo>
                  <a:lnTo>
                    <a:pt x="2183" y="1108"/>
                  </a:lnTo>
                </a:path>
              </a:pathLst>
            </a:custGeom>
            <a:noFill/>
            <a:ln cap="rnd" w="12600">
              <a:solidFill>
                <a:srgbClr val="8a88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576360" y="3411360"/>
              <a:ext cx="3467160" cy="1984680"/>
            </a:xfrm>
            <a:custGeom>
              <a:avLst/>
              <a:gdLst/>
              <a:ahLst/>
              <a:rect l="l" t="t" r="r" b="b"/>
              <a:pathLst>
                <a:path w="2184" h="1250">
                  <a:moveTo>
                    <a:pt x="0" y="1068"/>
                  </a:moveTo>
                  <a:lnTo>
                    <a:pt x="111" y="1058"/>
                  </a:lnTo>
                  <a:lnTo>
                    <a:pt x="217" y="1068"/>
                  </a:lnTo>
                  <a:lnTo>
                    <a:pt x="328" y="1093"/>
                  </a:lnTo>
                  <a:lnTo>
                    <a:pt x="439" y="1068"/>
                  </a:lnTo>
                  <a:lnTo>
                    <a:pt x="544" y="992"/>
                  </a:lnTo>
                  <a:lnTo>
                    <a:pt x="655" y="1068"/>
                  </a:lnTo>
                  <a:lnTo>
                    <a:pt x="766" y="1249"/>
                  </a:lnTo>
                  <a:lnTo>
                    <a:pt x="872" y="1068"/>
                  </a:lnTo>
                  <a:lnTo>
                    <a:pt x="983" y="403"/>
                  </a:lnTo>
                  <a:lnTo>
                    <a:pt x="1094" y="0"/>
                  </a:lnTo>
                  <a:lnTo>
                    <a:pt x="1200" y="403"/>
                  </a:lnTo>
                  <a:lnTo>
                    <a:pt x="1311" y="1068"/>
                  </a:lnTo>
                  <a:lnTo>
                    <a:pt x="1416" y="1249"/>
                  </a:lnTo>
                  <a:lnTo>
                    <a:pt x="1527" y="1068"/>
                  </a:lnTo>
                  <a:lnTo>
                    <a:pt x="1638" y="992"/>
                  </a:lnTo>
                  <a:lnTo>
                    <a:pt x="1744" y="1068"/>
                  </a:lnTo>
                  <a:lnTo>
                    <a:pt x="1855" y="1093"/>
                  </a:lnTo>
                  <a:lnTo>
                    <a:pt x="1966" y="1068"/>
                  </a:lnTo>
                  <a:lnTo>
                    <a:pt x="2072" y="1058"/>
                  </a:lnTo>
                  <a:lnTo>
                    <a:pt x="2183" y="1068"/>
                  </a:lnTo>
                </a:path>
              </a:pathLst>
            </a:custGeom>
            <a:noFill/>
            <a:ln cap="rnd" w="12600">
              <a:solidFill>
                <a:srgbClr val="00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581040" y="3394080"/>
              <a:ext cx="3467160" cy="2000160"/>
            </a:xfrm>
            <a:custGeom>
              <a:avLst/>
              <a:gdLst/>
              <a:ahLst/>
              <a:rect l="l" t="t" r="r" b="b"/>
              <a:pathLst>
                <a:path w="2184" h="1260">
                  <a:moveTo>
                    <a:pt x="0" y="1073"/>
                  </a:moveTo>
                  <a:lnTo>
                    <a:pt x="111" y="1068"/>
                  </a:lnTo>
                  <a:lnTo>
                    <a:pt x="217" y="1073"/>
                  </a:lnTo>
                  <a:lnTo>
                    <a:pt x="328" y="1103"/>
                  </a:lnTo>
                  <a:lnTo>
                    <a:pt x="439" y="1073"/>
                  </a:lnTo>
                  <a:lnTo>
                    <a:pt x="544" y="997"/>
                  </a:lnTo>
                  <a:lnTo>
                    <a:pt x="655" y="1073"/>
                  </a:lnTo>
                  <a:lnTo>
                    <a:pt x="766" y="1259"/>
                  </a:lnTo>
                  <a:lnTo>
                    <a:pt x="872" y="1073"/>
                  </a:lnTo>
                  <a:lnTo>
                    <a:pt x="983" y="403"/>
                  </a:lnTo>
                  <a:lnTo>
                    <a:pt x="1094" y="0"/>
                  </a:lnTo>
                  <a:lnTo>
                    <a:pt x="1200" y="403"/>
                  </a:lnTo>
                  <a:lnTo>
                    <a:pt x="1311" y="1073"/>
                  </a:lnTo>
                  <a:lnTo>
                    <a:pt x="1416" y="1259"/>
                  </a:lnTo>
                  <a:lnTo>
                    <a:pt x="1527" y="1073"/>
                  </a:lnTo>
                  <a:lnTo>
                    <a:pt x="1638" y="997"/>
                  </a:lnTo>
                  <a:lnTo>
                    <a:pt x="1744" y="1073"/>
                  </a:lnTo>
                  <a:lnTo>
                    <a:pt x="1855" y="1103"/>
                  </a:lnTo>
                  <a:lnTo>
                    <a:pt x="1966" y="1073"/>
                  </a:lnTo>
                  <a:lnTo>
                    <a:pt x="2072" y="1068"/>
                  </a:lnTo>
                  <a:lnTo>
                    <a:pt x="2183" y="1073"/>
                  </a:lnTo>
                </a:path>
              </a:pathLst>
            </a:custGeom>
            <a:noFill/>
            <a:ln cap="rnd" w="12600">
              <a:solidFill>
                <a:srgbClr val="abff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576360" y="3403440"/>
              <a:ext cx="3467160" cy="1952640"/>
            </a:xfrm>
            <a:custGeom>
              <a:avLst/>
              <a:gdLst/>
              <a:ahLst/>
              <a:rect l="l" t="t" r="r" b="b"/>
              <a:pathLst>
                <a:path w="2184" h="1230">
                  <a:moveTo>
                    <a:pt x="0" y="1073"/>
                  </a:moveTo>
                  <a:lnTo>
                    <a:pt x="111" y="1073"/>
                  </a:lnTo>
                  <a:lnTo>
                    <a:pt x="217" y="1073"/>
                  </a:lnTo>
                  <a:lnTo>
                    <a:pt x="328" y="1083"/>
                  </a:lnTo>
                  <a:lnTo>
                    <a:pt x="439" y="1073"/>
                  </a:lnTo>
                  <a:lnTo>
                    <a:pt x="544" y="1028"/>
                  </a:lnTo>
                  <a:lnTo>
                    <a:pt x="655" y="1073"/>
                  </a:lnTo>
                  <a:lnTo>
                    <a:pt x="766" y="1229"/>
                  </a:lnTo>
                  <a:lnTo>
                    <a:pt x="872" y="1073"/>
                  </a:lnTo>
                  <a:lnTo>
                    <a:pt x="983" y="418"/>
                  </a:lnTo>
                  <a:lnTo>
                    <a:pt x="1094" y="0"/>
                  </a:lnTo>
                  <a:lnTo>
                    <a:pt x="1200" y="418"/>
                  </a:lnTo>
                  <a:lnTo>
                    <a:pt x="1311" y="1073"/>
                  </a:lnTo>
                  <a:lnTo>
                    <a:pt x="1416" y="1229"/>
                  </a:lnTo>
                  <a:lnTo>
                    <a:pt x="1527" y="1073"/>
                  </a:lnTo>
                  <a:lnTo>
                    <a:pt x="1638" y="1028"/>
                  </a:lnTo>
                  <a:lnTo>
                    <a:pt x="1744" y="1073"/>
                  </a:lnTo>
                  <a:lnTo>
                    <a:pt x="1855" y="1083"/>
                  </a:lnTo>
                  <a:lnTo>
                    <a:pt x="1966" y="1073"/>
                  </a:lnTo>
                  <a:lnTo>
                    <a:pt x="2072" y="1073"/>
                  </a:lnTo>
                  <a:lnTo>
                    <a:pt x="2183" y="1073"/>
                  </a:lnTo>
                </a:path>
              </a:pathLst>
            </a:custGeom>
            <a:noFill/>
            <a:ln cap="rnd" w="1260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1870560" y="6151680"/>
              <a:ext cx="909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Uzorc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1394640" y="2635200"/>
              <a:ext cx="1798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Impulsni odzi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2691720" y="3029040"/>
              <a:ext cx="1388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9913"/>
                  </a:solidFill>
                  <a:latin typeface="Arial"/>
                </a:rPr>
                <a:t>Pravokutn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2692080" y="3333600"/>
              <a:ext cx="1259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abfff7"/>
                  </a:solidFill>
                  <a:latin typeface="Arial"/>
                </a:rPr>
                <a:t>Bartletto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2704680" y="3664080"/>
              <a:ext cx="1064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ff66"/>
                  </a:solidFill>
                  <a:latin typeface="Arial"/>
                </a:rPr>
                <a:t>Hanno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2688480" y="4032360"/>
              <a:ext cx="1544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8a8891"/>
                  </a:solidFill>
                  <a:latin typeface="Arial"/>
                </a:rPr>
                <a:t>Hammingo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2697840" y="4416480"/>
              <a:ext cx="157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0066"/>
                  </a:solidFill>
                  <a:latin typeface="Arial"/>
                </a:rPr>
                <a:t>Blackmano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77" name=""/>
          <p:cNvGrpSpPr/>
          <p:nvPr/>
        </p:nvGrpSpPr>
        <p:grpSpPr>
          <a:xfrm>
            <a:off x="4483080" y="2489040"/>
            <a:ext cx="4714200" cy="3732840"/>
            <a:chOff x="4483080" y="2489040"/>
            <a:chExt cx="4714200" cy="3732840"/>
          </a:xfrm>
        </p:grpSpPr>
        <p:sp>
          <p:nvSpPr>
            <p:cNvPr id="3778" name=""/>
            <p:cNvSpPr/>
            <p:nvPr/>
          </p:nvSpPr>
          <p:spPr>
            <a:xfrm flipV="1">
              <a:off x="5416560" y="3066840"/>
              <a:ext cx="0" cy="271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 flipV="1">
              <a:off x="6113520" y="3066840"/>
              <a:ext cx="0" cy="2719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 flipV="1">
              <a:off x="6808680" y="3066840"/>
              <a:ext cx="0" cy="2719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 flipV="1">
              <a:off x="7497720" y="3066840"/>
              <a:ext cx="0" cy="2719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 flipV="1">
              <a:off x="8193240" y="3066840"/>
              <a:ext cx="0" cy="2719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5416560" y="5786280"/>
              <a:ext cx="3465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5416560" y="5243400"/>
              <a:ext cx="3465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5416560" y="4699080"/>
              <a:ext cx="3465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5416560" y="4154400"/>
              <a:ext cx="3465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5416560" y="3611520"/>
              <a:ext cx="3465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5416560" y="3067200"/>
              <a:ext cx="3465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5416560" y="3067200"/>
              <a:ext cx="3467160" cy="2720880"/>
            </a:xfrm>
            <a:custGeom>
              <a:avLst/>
              <a:gdLst/>
              <a:ahLst/>
              <a:rect l="l" t="t" r="r" b="b"/>
              <a:pathLst>
                <a:path w="2184" h="1714">
                  <a:moveTo>
                    <a:pt x="0" y="1713"/>
                  </a:moveTo>
                  <a:lnTo>
                    <a:pt x="0" y="0"/>
                  </a:lnTo>
                  <a:lnTo>
                    <a:pt x="2183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5416560" y="3067200"/>
              <a:ext cx="3467160" cy="2720880"/>
            </a:xfrm>
            <a:custGeom>
              <a:avLst/>
              <a:gdLst/>
              <a:ahLst/>
              <a:rect l="l" t="t" r="r" b="b"/>
              <a:pathLst>
                <a:path w="2184" h="1714">
                  <a:moveTo>
                    <a:pt x="0" y="1713"/>
                  </a:moveTo>
                  <a:lnTo>
                    <a:pt x="0" y="0"/>
                  </a:lnTo>
                  <a:lnTo>
                    <a:pt x="2183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5416560" y="3067200"/>
              <a:ext cx="3467160" cy="2720880"/>
            </a:xfrm>
            <a:custGeom>
              <a:avLst/>
              <a:gdLst/>
              <a:ahLst/>
              <a:rect l="l" t="t" r="r" b="b"/>
              <a:pathLst>
                <a:path w="2184" h="1714">
                  <a:moveTo>
                    <a:pt x="0" y="1713"/>
                  </a:moveTo>
                  <a:lnTo>
                    <a:pt x="0" y="0"/>
                  </a:lnTo>
                  <a:lnTo>
                    <a:pt x="2183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5416560" y="5786280"/>
              <a:ext cx="3465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416560" y="3067200"/>
              <a:ext cx="3465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 flipV="1">
              <a:off x="5416560" y="3066840"/>
              <a:ext cx="0" cy="271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 flipV="1">
              <a:off x="8881920" y="3066840"/>
              <a:ext cx="0" cy="271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5416560" y="306720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5416560" y="5786280"/>
              <a:ext cx="3465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 flipV="1">
              <a:off x="5416560" y="3066840"/>
              <a:ext cx="0" cy="271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5416560" y="578628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 flipV="1">
              <a:off x="5416560" y="575460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5416560" y="306720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 flipV="1">
              <a:off x="6113520" y="575460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6113520" y="306720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 flipV="1">
              <a:off x="6808680" y="575460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6808680" y="306720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 flipV="1">
              <a:off x="7497720" y="575460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7497720" y="306720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 flipV="1">
              <a:off x="8193240" y="575460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8193240" y="306720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5280840" y="58132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5801400" y="5813280"/>
              <a:ext cx="67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,2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6509160" y="5813280"/>
              <a:ext cx="67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,4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7161840" y="5824440"/>
              <a:ext cx="67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,6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7880760" y="5813280"/>
              <a:ext cx="67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,8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5416560" y="578628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 flipH="1">
              <a:off x="8850240" y="578628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5416560" y="551484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 flipH="1">
              <a:off x="8850240" y="551484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5416560" y="524340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 flipH="1">
              <a:off x="8850240" y="524340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5416560" y="497052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 flipH="1">
              <a:off x="8850240" y="497052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5416560" y="469908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 flipH="1">
              <a:off x="8850240" y="469908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5416560" y="442764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 flipH="1">
              <a:off x="8850240" y="442764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5416560" y="415440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 flipH="1">
              <a:off x="8850240" y="415440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5416560" y="38829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 flipH="1">
              <a:off x="8850240" y="38829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5416560" y="361152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 flipH="1">
              <a:off x="8850240" y="361152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5416560" y="333864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 flipH="1">
              <a:off x="8850240" y="333864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5416560" y="306720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 flipH="1">
              <a:off x="8850240" y="306720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37" name=""/>
            <p:cNvGrpSpPr/>
            <p:nvPr/>
          </p:nvGrpSpPr>
          <p:grpSpPr>
            <a:xfrm>
              <a:off x="4737240" y="2884320"/>
              <a:ext cx="695520" cy="3116880"/>
              <a:chOff x="4737240" y="2884320"/>
              <a:chExt cx="695520" cy="3116880"/>
            </a:xfrm>
          </p:grpSpPr>
          <p:sp>
            <p:nvSpPr>
              <p:cNvPr id="3838" name=""/>
              <p:cNvSpPr/>
              <p:nvPr/>
            </p:nvSpPr>
            <p:spPr>
              <a:xfrm>
                <a:off x="4737240" y="5603760"/>
                <a:ext cx="695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10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4810320" y="505944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8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4810320" y="451656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6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4810320" y="397188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4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4810320" y="342756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2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4922280" y="288432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44" name=""/>
            <p:cNvSpPr/>
            <p:nvPr/>
          </p:nvSpPr>
          <p:spPr>
            <a:xfrm>
              <a:off x="5416560" y="5786280"/>
              <a:ext cx="3465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5416560" y="3067200"/>
              <a:ext cx="3726000" cy="6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 flipV="1">
              <a:off x="5416560" y="3066840"/>
              <a:ext cx="0" cy="271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 flipV="1">
              <a:off x="8881920" y="3066840"/>
              <a:ext cx="0" cy="271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5416560" y="578628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8881920" y="306720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5416560" y="3067200"/>
              <a:ext cx="3467160" cy="2457360"/>
            </a:xfrm>
            <a:custGeom>
              <a:avLst/>
              <a:gdLst/>
              <a:ahLst/>
              <a:rect l="l" t="t" r="r" b="b"/>
              <a:pathLst>
                <a:path w="2184" h="1548">
                  <a:moveTo>
                    <a:pt x="0" y="10"/>
                  </a:moveTo>
                  <a:lnTo>
                    <a:pt x="5" y="10"/>
                  </a:lnTo>
                  <a:lnTo>
                    <a:pt x="10" y="10"/>
                  </a:lnTo>
                  <a:lnTo>
                    <a:pt x="15" y="10"/>
                  </a:lnTo>
                  <a:lnTo>
                    <a:pt x="20" y="10"/>
                  </a:lnTo>
                  <a:lnTo>
                    <a:pt x="25" y="10"/>
                  </a:lnTo>
                  <a:lnTo>
                    <a:pt x="30" y="10"/>
                  </a:lnTo>
                  <a:lnTo>
                    <a:pt x="35" y="10"/>
                  </a:lnTo>
                  <a:lnTo>
                    <a:pt x="40" y="10"/>
                  </a:lnTo>
                  <a:lnTo>
                    <a:pt x="45" y="10"/>
                  </a:lnTo>
                  <a:lnTo>
                    <a:pt x="50" y="10"/>
                  </a:lnTo>
                  <a:lnTo>
                    <a:pt x="55" y="10"/>
                  </a:lnTo>
                  <a:lnTo>
                    <a:pt x="60" y="10"/>
                  </a:lnTo>
                  <a:lnTo>
                    <a:pt x="65" y="10"/>
                  </a:lnTo>
                  <a:lnTo>
                    <a:pt x="71" y="10"/>
                  </a:lnTo>
                  <a:lnTo>
                    <a:pt x="76" y="10"/>
                  </a:lnTo>
                  <a:lnTo>
                    <a:pt x="81" y="10"/>
                  </a:lnTo>
                  <a:lnTo>
                    <a:pt x="86" y="10"/>
                  </a:lnTo>
                  <a:lnTo>
                    <a:pt x="91" y="10"/>
                  </a:lnTo>
                  <a:lnTo>
                    <a:pt x="96" y="10"/>
                  </a:lnTo>
                  <a:lnTo>
                    <a:pt x="101" y="10"/>
                  </a:lnTo>
                  <a:lnTo>
                    <a:pt x="106" y="15"/>
                  </a:lnTo>
                  <a:lnTo>
                    <a:pt x="111" y="15"/>
                  </a:lnTo>
                  <a:lnTo>
                    <a:pt x="116" y="15"/>
                  </a:lnTo>
                  <a:lnTo>
                    <a:pt x="121" y="15"/>
                  </a:lnTo>
                  <a:lnTo>
                    <a:pt x="126" y="15"/>
                  </a:lnTo>
                  <a:lnTo>
                    <a:pt x="131" y="15"/>
                  </a:lnTo>
                  <a:lnTo>
                    <a:pt x="136" y="15"/>
                  </a:lnTo>
                  <a:lnTo>
                    <a:pt x="141" y="15"/>
                  </a:lnTo>
                  <a:lnTo>
                    <a:pt x="146" y="15"/>
                  </a:lnTo>
                  <a:lnTo>
                    <a:pt x="151" y="15"/>
                  </a:lnTo>
                  <a:lnTo>
                    <a:pt x="156" y="15"/>
                  </a:lnTo>
                  <a:lnTo>
                    <a:pt x="161" y="15"/>
                  </a:lnTo>
                  <a:lnTo>
                    <a:pt x="166" y="15"/>
                  </a:lnTo>
                  <a:lnTo>
                    <a:pt x="171" y="15"/>
                  </a:lnTo>
                  <a:lnTo>
                    <a:pt x="176" y="15"/>
                  </a:lnTo>
                  <a:lnTo>
                    <a:pt x="181" y="15"/>
                  </a:lnTo>
                  <a:lnTo>
                    <a:pt x="186" y="15"/>
                  </a:lnTo>
                  <a:lnTo>
                    <a:pt x="192" y="15"/>
                  </a:lnTo>
                  <a:lnTo>
                    <a:pt x="197" y="20"/>
                  </a:lnTo>
                  <a:lnTo>
                    <a:pt x="202" y="20"/>
                  </a:lnTo>
                  <a:lnTo>
                    <a:pt x="207" y="20"/>
                  </a:lnTo>
                  <a:lnTo>
                    <a:pt x="212" y="20"/>
                  </a:lnTo>
                  <a:lnTo>
                    <a:pt x="217" y="20"/>
                  </a:lnTo>
                  <a:lnTo>
                    <a:pt x="222" y="20"/>
                  </a:lnTo>
                  <a:lnTo>
                    <a:pt x="227" y="20"/>
                  </a:lnTo>
                  <a:lnTo>
                    <a:pt x="232" y="20"/>
                  </a:lnTo>
                  <a:lnTo>
                    <a:pt x="237" y="20"/>
                  </a:lnTo>
                  <a:lnTo>
                    <a:pt x="242" y="20"/>
                  </a:lnTo>
                  <a:lnTo>
                    <a:pt x="247" y="15"/>
                  </a:lnTo>
                  <a:lnTo>
                    <a:pt x="252" y="15"/>
                  </a:lnTo>
                  <a:lnTo>
                    <a:pt x="257" y="15"/>
                  </a:lnTo>
                  <a:lnTo>
                    <a:pt x="262" y="15"/>
                  </a:lnTo>
                  <a:lnTo>
                    <a:pt x="267" y="15"/>
                  </a:lnTo>
                  <a:lnTo>
                    <a:pt x="272" y="15"/>
                  </a:lnTo>
                  <a:lnTo>
                    <a:pt x="277" y="15"/>
                  </a:lnTo>
                  <a:lnTo>
                    <a:pt x="282" y="15"/>
                  </a:lnTo>
                  <a:lnTo>
                    <a:pt x="287" y="15"/>
                  </a:lnTo>
                  <a:lnTo>
                    <a:pt x="292" y="15"/>
                  </a:lnTo>
                  <a:lnTo>
                    <a:pt x="297" y="15"/>
                  </a:lnTo>
                  <a:lnTo>
                    <a:pt x="302" y="15"/>
                  </a:lnTo>
                  <a:lnTo>
                    <a:pt x="307" y="15"/>
                  </a:lnTo>
                  <a:lnTo>
                    <a:pt x="313" y="15"/>
                  </a:lnTo>
                  <a:lnTo>
                    <a:pt x="318" y="15"/>
                  </a:lnTo>
                  <a:lnTo>
                    <a:pt x="323" y="15"/>
                  </a:lnTo>
                  <a:lnTo>
                    <a:pt x="328" y="15"/>
                  </a:lnTo>
                  <a:lnTo>
                    <a:pt x="333" y="10"/>
                  </a:lnTo>
                  <a:lnTo>
                    <a:pt x="338" y="10"/>
                  </a:lnTo>
                  <a:lnTo>
                    <a:pt x="343" y="10"/>
                  </a:lnTo>
                  <a:lnTo>
                    <a:pt x="348" y="10"/>
                  </a:lnTo>
                  <a:lnTo>
                    <a:pt x="353" y="10"/>
                  </a:lnTo>
                  <a:lnTo>
                    <a:pt x="358" y="10"/>
                  </a:lnTo>
                  <a:lnTo>
                    <a:pt x="363" y="10"/>
                  </a:lnTo>
                  <a:lnTo>
                    <a:pt x="368" y="10"/>
                  </a:lnTo>
                  <a:lnTo>
                    <a:pt x="373" y="10"/>
                  </a:lnTo>
                  <a:lnTo>
                    <a:pt x="378" y="10"/>
                  </a:lnTo>
                  <a:lnTo>
                    <a:pt x="383" y="10"/>
                  </a:lnTo>
                  <a:lnTo>
                    <a:pt x="388" y="10"/>
                  </a:lnTo>
                  <a:lnTo>
                    <a:pt x="393" y="10"/>
                  </a:lnTo>
                  <a:lnTo>
                    <a:pt x="398" y="10"/>
                  </a:lnTo>
                  <a:lnTo>
                    <a:pt x="403" y="10"/>
                  </a:lnTo>
                  <a:lnTo>
                    <a:pt x="408" y="10"/>
                  </a:lnTo>
                  <a:lnTo>
                    <a:pt x="413" y="10"/>
                  </a:lnTo>
                  <a:lnTo>
                    <a:pt x="418" y="5"/>
                  </a:lnTo>
                  <a:lnTo>
                    <a:pt x="423" y="5"/>
                  </a:lnTo>
                  <a:lnTo>
                    <a:pt x="428" y="5"/>
                  </a:lnTo>
                  <a:lnTo>
                    <a:pt x="433" y="5"/>
                  </a:lnTo>
                  <a:lnTo>
                    <a:pt x="439" y="5"/>
                  </a:lnTo>
                  <a:lnTo>
                    <a:pt x="444" y="5"/>
                  </a:lnTo>
                  <a:lnTo>
                    <a:pt x="449" y="5"/>
                  </a:lnTo>
                  <a:lnTo>
                    <a:pt x="454" y="5"/>
                  </a:lnTo>
                  <a:lnTo>
                    <a:pt x="459" y="10"/>
                  </a:lnTo>
                  <a:lnTo>
                    <a:pt x="464" y="10"/>
                  </a:lnTo>
                  <a:lnTo>
                    <a:pt x="469" y="10"/>
                  </a:lnTo>
                  <a:lnTo>
                    <a:pt x="474" y="10"/>
                  </a:lnTo>
                  <a:lnTo>
                    <a:pt x="479" y="10"/>
                  </a:lnTo>
                  <a:lnTo>
                    <a:pt x="484" y="10"/>
                  </a:lnTo>
                  <a:lnTo>
                    <a:pt x="489" y="10"/>
                  </a:lnTo>
                  <a:lnTo>
                    <a:pt x="494" y="10"/>
                  </a:lnTo>
                  <a:lnTo>
                    <a:pt x="499" y="10"/>
                  </a:lnTo>
                  <a:lnTo>
                    <a:pt x="504" y="10"/>
                  </a:lnTo>
                  <a:lnTo>
                    <a:pt x="509" y="10"/>
                  </a:lnTo>
                  <a:lnTo>
                    <a:pt x="514" y="10"/>
                  </a:lnTo>
                  <a:lnTo>
                    <a:pt x="519" y="10"/>
                  </a:lnTo>
                  <a:lnTo>
                    <a:pt x="524" y="10"/>
                  </a:lnTo>
                  <a:lnTo>
                    <a:pt x="529" y="10"/>
                  </a:lnTo>
                  <a:lnTo>
                    <a:pt x="534" y="10"/>
                  </a:lnTo>
                  <a:lnTo>
                    <a:pt x="539" y="15"/>
                  </a:lnTo>
                  <a:lnTo>
                    <a:pt x="544" y="15"/>
                  </a:lnTo>
                  <a:lnTo>
                    <a:pt x="549" y="15"/>
                  </a:lnTo>
                  <a:lnTo>
                    <a:pt x="554" y="15"/>
                  </a:lnTo>
                  <a:lnTo>
                    <a:pt x="560" y="15"/>
                  </a:lnTo>
                  <a:lnTo>
                    <a:pt x="565" y="15"/>
                  </a:lnTo>
                  <a:lnTo>
                    <a:pt x="570" y="15"/>
                  </a:lnTo>
                  <a:lnTo>
                    <a:pt x="575" y="15"/>
                  </a:lnTo>
                  <a:lnTo>
                    <a:pt x="580" y="15"/>
                  </a:lnTo>
                  <a:lnTo>
                    <a:pt x="585" y="15"/>
                  </a:lnTo>
                  <a:lnTo>
                    <a:pt x="590" y="20"/>
                  </a:lnTo>
                  <a:lnTo>
                    <a:pt x="595" y="20"/>
                  </a:lnTo>
                  <a:lnTo>
                    <a:pt x="600" y="20"/>
                  </a:lnTo>
                  <a:lnTo>
                    <a:pt x="605" y="20"/>
                  </a:lnTo>
                  <a:lnTo>
                    <a:pt x="610" y="20"/>
                  </a:lnTo>
                  <a:lnTo>
                    <a:pt x="615" y="20"/>
                  </a:lnTo>
                  <a:lnTo>
                    <a:pt x="620" y="20"/>
                  </a:lnTo>
                  <a:lnTo>
                    <a:pt x="625" y="20"/>
                  </a:lnTo>
                  <a:lnTo>
                    <a:pt x="630" y="20"/>
                  </a:lnTo>
                  <a:lnTo>
                    <a:pt x="635" y="20"/>
                  </a:lnTo>
                  <a:lnTo>
                    <a:pt x="640" y="20"/>
                  </a:lnTo>
                  <a:lnTo>
                    <a:pt x="645" y="20"/>
                  </a:lnTo>
                  <a:lnTo>
                    <a:pt x="650" y="20"/>
                  </a:lnTo>
                  <a:lnTo>
                    <a:pt x="655" y="20"/>
                  </a:lnTo>
                  <a:lnTo>
                    <a:pt x="660" y="20"/>
                  </a:lnTo>
                  <a:lnTo>
                    <a:pt x="665" y="20"/>
                  </a:lnTo>
                  <a:lnTo>
                    <a:pt x="670" y="20"/>
                  </a:lnTo>
                  <a:lnTo>
                    <a:pt x="675" y="20"/>
                  </a:lnTo>
                  <a:lnTo>
                    <a:pt x="681" y="20"/>
                  </a:lnTo>
                  <a:lnTo>
                    <a:pt x="686" y="20"/>
                  </a:lnTo>
                  <a:lnTo>
                    <a:pt x="691" y="20"/>
                  </a:lnTo>
                  <a:lnTo>
                    <a:pt x="696" y="20"/>
                  </a:lnTo>
                  <a:lnTo>
                    <a:pt x="701" y="20"/>
                  </a:lnTo>
                  <a:lnTo>
                    <a:pt x="706" y="20"/>
                  </a:lnTo>
                  <a:lnTo>
                    <a:pt x="711" y="20"/>
                  </a:lnTo>
                  <a:lnTo>
                    <a:pt x="716" y="20"/>
                  </a:lnTo>
                  <a:lnTo>
                    <a:pt x="716" y="15"/>
                  </a:lnTo>
                  <a:lnTo>
                    <a:pt x="721" y="15"/>
                  </a:lnTo>
                  <a:lnTo>
                    <a:pt x="726" y="15"/>
                  </a:lnTo>
                  <a:lnTo>
                    <a:pt x="731" y="15"/>
                  </a:lnTo>
                  <a:lnTo>
                    <a:pt x="736" y="15"/>
                  </a:lnTo>
                  <a:lnTo>
                    <a:pt x="741" y="15"/>
                  </a:lnTo>
                  <a:lnTo>
                    <a:pt x="746" y="15"/>
                  </a:lnTo>
                  <a:lnTo>
                    <a:pt x="751" y="15"/>
                  </a:lnTo>
                  <a:lnTo>
                    <a:pt x="756" y="15"/>
                  </a:lnTo>
                  <a:lnTo>
                    <a:pt x="761" y="10"/>
                  </a:lnTo>
                  <a:lnTo>
                    <a:pt x="766" y="10"/>
                  </a:lnTo>
                  <a:lnTo>
                    <a:pt x="771" y="10"/>
                  </a:lnTo>
                  <a:lnTo>
                    <a:pt x="776" y="10"/>
                  </a:lnTo>
                  <a:lnTo>
                    <a:pt x="781" y="10"/>
                  </a:lnTo>
                  <a:lnTo>
                    <a:pt x="786" y="10"/>
                  </a:lnTo>
                  <a:lnTo>
                    <a:pt x="791" y="10"/>
                  </a:lnTo>
                  <a:lnTo>
                    <a:pt x="796" y="5"/>
                  </a:lnTo>
                  <a:lnTo>
                    <a:pt x="801" y="5"/>
                  </a:lnTo>
                  <a:lnTo>
                    <a:pt x="807" y="5"/>
                  </a:lnTo>
                  <a:lnTo>
                    <a:pt x="812" y="5"/>
                  </a:lnTo>
                  <a:lnTo>
                    <a:pt x="817" y="5"/>
                  </a:lnTo>
                  <a:lnTo>
                    <a:pt x="822" y="5"/>
                  </a:lnTo>
                  <a:lnTo>
                    <a:pt x="827" y="5"/>
                  </a:lnTo>
                  <a:lnTo>
                    <a:pt x="832" y="0"/>
                  </a:lnTo>
                  <a:lnTo>
                    <a:pt x="837" y="0"/>
                  </a:lnTo>
                  <a:lnTo>
                    <a:pt x="842" y="0"/>
                  </a:lnTo>
                  <a:lnTo>
                    <a:pt x="847" y="0"/>
                  </a:lnTo>
                  <a:lnTo>
                    <a:pt x="852" y="0"/>
                  </a:lnTo>
                  <a:lnTo>
                    <a:pt x="857" y="0"/>
                  </a:lnTo>
                  <a:lnTo>
                    <a:pt x="862" y="0"/>
                  </a:lnTo>
                  <a:lnTo>
                    <a:pt x="867" y="0"/>
                  </a:lnTo>
                  <a:lnTo>
                    <a:pt x="872" y="0"/>
                  </a:lnTo>
                  <a:lnTo>
                    <a:pt x="877" y="0"/>
                  </a:lnTo>
                  <a:lnTo>
                    <a:pt x="882" y="0"/>
                  </a:lnTo>
                  <a:lnTo>
                    <a:pt x="887" y="0"/>
                  </a:lnTo>
                  <a:lnTo>
                    <a:pt x="892" y="0"/>
                  </a:lnTo>
                  <a:lnTo>
                    <a:pt x="897" y="0"/>
                  </a:lnTo>
                  <a:lnTo>
                    <a:pt x="902" y="0"/>
                  </a:lnTo>
                  <a:lnTo>
                    <a:pt x="907" y="0"/>
                  </a:lnTo>
                  <a:lnTo>
                    <a:pt x="912" y="0"/>
                  </a:lnTo>
                  <a:lnTo>
                    <a:pt x="917" y="5"/>
                  </a:lnTo>
                  <a:lnTo>
                    <a:pt x="922" y="5"/>
                  </a:lnTo>
                  <a:lnTo>
                    <a:pt x="928" y="5"/>
                  </a:lnTo>
                  <a:lnTo>
                    <a:pt x="933" y="5"/>
                  </a:lnTo>
                  <a:lnTo>
                    <a:pt x="938" y="5"/>
                  </a:lnTo>
                  <a:lnTo>
                    <a:pt x="943" y="10"/>
                  </a:lnTo>
                  <a:lnTo>
                    <a:pt x="948" y="10"/>
                  </a:lnTo>
                  <a:lnTo>
                    <a:pt x="953" y="10"/>
                  </a:lnTo>
                  <a:lnTo>
                    <a:pt x="958" y="10"/>
                  </a:lnTo>
                  <a:lnTo>
                    <a:pt x="963" y="15"/>
                  </a:lnTo>
                  <a:lnTo>
                    <a:pt x="968" y="15"/>
                  </a:lnTo>
                  <a:lnTo>
                    <a:pt x="973" y="20"/>
                  </a:lnTo>
                  <a:lnTo>
                    <a:pt x="978" y="20"/>
                  </a:lnTo>
                  <a:lnTo>
                    <a:pt x="983" y="20"/>
                  </a:lnTo>
                  <a:lnTo>
                    <a:pt x="988" y="25"/>
                  </a:lnTo>
                  <a:lnTo>
                    <a:pt x="993" y="25"/>
                  </a:lnTo>
                  <a:lnTo>
                    <a:pt x="993" y="30"/>
                  </a:lnTo>
                  <a:lnTo>
                    <a:pt x="998" y="30"/>
                  </a:lnTo>
                  <a:lnTo>
                    <a:pt x="1003" y="35"/>
                  </a:lnTo>
                  <a:lnTo>
                    <a:pt x="1008" y="35"/>
                  </a:lnTo>
                  <a:lnTo>
                    <a:pt x="1013" y="40"/>
                  </a:lnTo>
                  <a:lnTo>
                    <a:pt x="1018" y="40"/>
                  </a:lnTo>
                  <a:lnTo>
                    <a:pt x="1023" y="46"/>
                  </a:lnTo>
                  <a:lnTo>
                    <a:pt x="1028" y="51"/>
                  </a:lnTo>
                  <a:lnTo>
                    <a:pt x="1033" y="56"/>
                  </a:lnTo>
                  <a:lnTo>
                    <a:pt x="1038" y="56"/>
                  </a:lnTo>
                  <a:lnTo>
                    <a:pt x="1043" y="61"/>
                  </a:lnTo>
                  <a:lnTo>
                    <a:pt x="1049" y="66"/>
                  </a:lnTo>
                  <a:lnTo>
                    <a:pt x="1054" y="71"/>
                  </a:lnTo>
                  <a:lnTo>
                    <a:pt x="1059" y="76"/>
                  </a:lnTo>
                  <a:lnTo>
                    <a:pt x="1064" y="81"/>
                  </a:lnTo>
                  <a:lnTo>
                    <a:pt x="1069" y="86"/>
                  </a:lnTo>
                  <a:lnTo>
                    <a:pt x="1074" y="91"/>
                  </a:lnTo>
                  <a:lnTo>
                    <a:pt x="1079" y="96"/>
                  </a:lnTo>
                  <a:lnTo>
                    <a:pt x="1079" y="101"/>
                  </a:lnTo>
                  <a:lnTo>
                    <a:pt x="1084" y="106"/>
                  </a:lnTo>
                  <a:lnTo>
                    <a:pt x="1089" y="111"/>
                  </a:lnTo>
                  <a:lnTo>
                    <a:pt x="1094" y="116"/>
                  </a:lnTo>
                  <a:lnTo>
                    <a:pt x="1099" y="121"/>
                  </a:lnTo>
                  <a:lnTo>
                    <a:pt x="1104" y="126"/>
                  </a:lnTo>
                  <a:lnTo>
                    <a:pt x="1104" y="136"/>
                  </a:lnTo>
                  <a:lnTo>
                    <a:pt x="1109" y="141"/>
                  </a:lnTo>
                  <a:lnTo>
                    <a:pt x="1114" y="146"/>
                  </a:lnTo>
                  <a:lnTo>
                    <a:pt x="1119" y="156"/>
                  </a:lnTo>
                  <a:lnTo>
                    <a:pt x="1124" y="161"/>
                  </a:lnTo>
                  <a:lnTo>
                    <a:pt x="1129" y="171"/>
                  </a:lnTo>
                  <a:lnTo>
                    <a:pt x="1134" y="182"/>
                  </a:lnTo>
                  <a:lnTo>
                    <a:pt x="1134" y="187"/>
                  </a:lnTo>
                  <a:lnTo>
                    <a:pt x="1139" y="197"/>
                  </a:lnTo>
                  <a:lnTo>
                    <a:pt x="1144" y="207"/>
                  </a:lnTo>
                  <a:lnTo>
                    <a:pt x="1149" y="217"/>
                  </a:lnTo>
                  <a:lnTo>
                    <a:pt x="1154" y="227"/>
                  </a:lnTo>
                  <a:lnTo>
                    <a:pt x="1159" y="237"/>
                  </a:lnTo>
                  <a:lnTo>
                    <a:pt x="1159" y="252"/>
                  </a:lnTo>
                  <a:lnTo>
                    <a:pt x="1164" y="262"/>
                  </a:lnTo>
                  <a:lnTo>
                    <a:pt x="1169" y="277"/>
                  </a:lnTo>
                  <a:lnTo>
                    <a:pt x="1175" y="292"/>
                  </a:lnTo>
                  <a:lnTo>
                    <a:pt x="1180" y="308"/>
                  </a:lnTo>
                  <a:lnTo>
                    <a:pt x="1185" y="323"/>
                  </a:lnTo>
                  <a:lnTo>
                    <a:pt x="1190" y="338"/>
                  </a:lnTo>
                  <a:lnTo>
                    <a:pt x="1190" y="358"/>
                  </a:lnTo>
                  <a:lnTo>
                    <a:pt x="1195" y="383"/>
                  </a:lnTo>
                  <a:lnTo>
                    <a:pt x="1200" y="408"/>
                  </a:lnTo>
                  <a:lnTo>
                    <a:pt x="1205" y="439"/>
                  </a:lnTo>
                  <a:lnTo>
                    <a:pt x="1210" y="469"/>
                  </a:lnTo>
                  <a:lnTo>
                    <a:pt x="1215" y="514"/>
                  </a:lnTo>
                  <a:lnTo>
                    <a:pt x="1215" y="569"/>
                  </a:lnTo>
                  <a:lnTo>
                    <a:pt x="1220" y="660"/>
                  </a:lnTo>
                  <a:lnTo>
                    <a:pt x="1225" y="877"/>
                  </a:lnTo>
                  <a:lnTo>
                    <a:pt x="1230" y="761"/>
                  </a:lnTo>
                  <a:lnTo>
                    <a:pt x="1235" y="635"/>
                  </a:lnTo>
                  <a:lnTo>
                    <a:pt x="1240" y="569"/>
                  </a:lnTo>
                  <a:lnTo>
                    <a:pt x="1245" y="524"/>
                  </a:lnTo>
                  <a:lnTo>
                    <a:pt x="1245" y="494"/>
                  </a:lnTo>
                  <a:lnTo>
                    <a:pt x="1250" y="469"/>
                  </a:lnTo>
                  <a:lnTo>
                    <a:pt x="1255" y="454"/>
                  </a:lnTo>
                  <a:lnTo>
                    <a:pt x="1260" y="433"/>
                  </a:lnTo>
                  <a:lnTo>
                    <a:pt x="1265" y="423"/>
                  </a:lnTo>
                  <a:lnTo>
                    <a:pt x="1270" y="413"/>
                  </a:lnTo>
                  <a:lnTo>
                    <a:pt x="1275" y="403"/>
                  </a:lnTo>
                  <a:lnTo>
                    <a:pt x="1275" y="393"/>
                  </a:lnTo>
                  <a:lnTo>
                    <a:pt x="1280" y="388"/>
                  </a:lnTo>
                  <a:lnTo>
                    <a:pt x="1285" y="383"/>
                  </a:lnTo>
                  <a:lnTo>
                    <a:pt x="1290" y="378"/>
                  </a:lnTo>
                  <a:lnTo>
                    <a:pt x="1296" y="373"/>
                  </a:lnTo>
                  <a:lnTo>
                    <a:pt x="1301" y="373"/>
                  </a:lnTo>
                  <a:lnTo>
                    <a:pt x="1306" y="368"/>
                  </a:lnTo>
                  <a:lnTo>
                    <a:pt x="1311" y="368"/>
                  </a:lnTo>
                  <a:lnTo>
                    <a:pt x="1316" y="368"/>
                  </a:lnTo>
                  <a:lnTo>
                    <a:pt x="1321" y="373"/>
                  </a:lnTo>
                  <a:lnTo>
                    <a:pt x="1326" y="373"/>
                  </a:lnTo>
                  <a:lnTo>
                    <a:pt x="1331" y="373"/>
                  </a:lnTo>
                  <a:lnTo>
                    <a:pt x="1331" y="378"/>
                  </a:lnTo>
                  <a:lnTo>
                    <a:pt x="1336" y="378"/>
                  </a:lnTo>
                  <a:lnTo>
                    <a:pt x="1341" y="383"/>
                  </a:lnTo>
                  <a:lnTo>
                    <a:pt x="1346" y="388"/>
                  </a:lnTo>
                  <a:lnTo>
                    <a:pt x="1351" y="393"/>
                  </a:lnTo>
                  <a:lnTo>
                    <a:pt x="1356" y="398"/>
                  </a:lnTo>
                  <a:lnTo>
                    <a:pt x="1356" y="403"/>
                  </a:lnTo>
                  <a:lnTo>
                    <a:pt x="1361" y="413"/>
                  </a:lnTo>
                  <a:lnTo>
                    <a:pt x="1366" y="418"/>
                  </a:lnTo>
                  <a:lnTo>
                    <a:pt x="1371" y="428"/>
                  </a:lnTo>
                  <a:lnTo>
                    <a:pt x="1376" y="439"/>
                  </a:lnTo>
                  <a:lnTo>
                    <a:pt x="1381" y="449"/>
                  </a:lnTo>
                  <a:lnTo>
                    <a:pt x="1386" y="459"/>
                  </a:lnTo>
                  <a:lnTo>
                    <a:pt x="1386" y="474"/>
                  </a:lnTo>
                  <a:lnTo>
                    <a:pt x="1391" y="489"/>
                  </a:lnTo>
                  <a:lnTo>
                    <a:pt x="1396" y="504"/>
                  </a:lnTo>
                  <a:lnTo>
                    <a:pt x="1401" y="524"/>
                  </a:lnTo>
                  <a:lnTo>
                    <a:pt x="1406" y="544"/>
                  </a:lnTo>
                  <a:lnTo>
                    <a:pt x="1411" y="569"/>
                  </a:lnTo>
                  <a:lnTo>
                    <a:pt x="1411" y="600"/>
                  </a:lnTo>
                  <a:lnTo>
                    <a:pt x="1416" y="640"/>
                  </a:lnTo>
                  <a:lnTo>
                    <a:pt x="1422" y="690"/>
                  </a:lnTo>
                  <a:lnTo>
                    <a:pt x="1427" y="766"/>
                  </a:lnTo>
                  <a:lnTo>
                    <a:pt x="1432" y="932"/>
                  </a:lnTo>
                  <a:lnTo>
                    <a:pt x="1437" y="937"/>
                  </a:lnTo>
                  <a:lnTo>
                    <a:pt x="1442" y="771"/>
                  </a:lnTo>
                  <a:lnTo>
                    <a:pt x="1442" y="700"/>
                  </a:lnTo>
                  <a:lnTo>
                    <a:pt x="1447" y="650"/>
                  </a:lnTo>
                  <a:lnTo>
                    <a:pt x="1452" y="615"/>
                  </a:lnTo>
                  <a:lnTo>
                    <a:pt x="1457" y="590"/>
                  </a:lnTo>
                  <a:lnTo>
                    <a:pt x="1462" y="564"/>
                  </a:lnTo>
                  <a:lnTo>
                    <a:pt x="1467" y="549"/>
                  </a:lnTo>
                  <a:lnTo>
                    <a:pt x="1467" y="534"/>
                  </a:lnTo>
                  <a:lnTo>
                    <a:pt x="1472" y="519"/>
                  </a:lnTo>
                  <a:lnTo>
                    <a:pt x="1477" y="509"/>
                  </a:lnTo>
                  <a:lnTo>
                    <a:pt x="1482" y="499"/>
                  </a:lnTo>
                  <a:lnTo>
                    <a:pt x="1487" y="489"/>
                  </a:lnTo>
                  <a:lnTo>
                    <a:pt x="1492" y="484"/>
                  </a:lnTo>
                  <a:lnTo>
                    <a:pt x="1497" y="474"/>
                  </a:lnTo>
                  <a:lnTo>
                    <a:pt x="1497" y="469"/>
                  </a:lnTo>
                  <a:lnTo>
                    <a:pt x="1502" y="464"/>
                  </a:lnTo>
                  <a:lnTo>
                    <a:pt x="1507" y="464"/>
                  </a:lnTo>
                  <a:lnTo>
                    <a:pt x="1512" y="459"/>
                  </a:lnTo>
                  <a:lnTo>
                    <a:pt x="1517" y="459"/>
                  </a:lnTo>
                  <a:lnTo>
                    <a:pt x="1522" y="454"/>
                  </a:lnTo>
                  <a:lnTo>
                    <a:pt x="1527" y="454"/>
                  </a:lnTo>
                  <a:lnTo>
                    <a:pt x="1532" y="454"/>
                  </a:lnTo>
                  <a:lnTo>
                    <a:pt x="1537" y="454"/>
                  </a:lnTo>
                  <a:lnTo>
                    <a:pt x="1543" y="454"/>
                  </a:lnTo>
                  <a:lnTo>
                    <a:pt x="1548" y="459"/>
                  </a:lnTo>
                  <a:lnTo>
                    <a:pt x="1553" y="459"/>
                  </a:lnTo>
                  <a:lnTo>
                    <a:pt x="1553" y="464"/>
                  </a:lnTo>
                  <a:lnTo>
                    <a:pt x="1558" y="464"/>
                  </a:lnTo>
                  <a:lnTo>
                    <a:pt x="1563" y="469"/>
                  </a:lnTo>
                  <a:lnTo>
                    <a:pt x="1568" y="474"/>
                  </a:lnTo>
                  <a:lnTo>
                    <a:pt x="1573" y="479"/>
                  </a:lnTo>
                  <a:lnTo>
                    <a:pt x="1578" y="484"/>
                  </a:lnTo>
                  <a:lnTo>
                    <a:pt x="1583" y="494"/>
                  </a:lnTo>
                  <a:lnTo>
                    <a:pt x="1583" y="499"/>
                  </a:lnTo>
                  <a:lnTo>
                    <a:pt x="1588" y="509"/>
                  </a:lnTo>
                  <a:lnTo>
                    <a:pt x="1593" y="519"/>
                  </a:lnTo>
                  <a:lnTo>
                    <a:pt x="1598" y="529"/>
                  </a:lnTo>
                  <a:lnTo>
                    <a:pt x="1603" y="544"/>
                  </a:lnTo>
                  <a:lnTo>
                    <a:pt x="1608" y="559"/>
                  </a:lnTo>
                  <a:lnTo>
                    <a:pt x="1608" y="575"/>
                  </a:lnTo>
                  <a:lnTo>
                    <a:pt x="1613" y="590"/>
                  </a:lnTo>
                  <a:lnTo>
                    <a:pt x="1618" y="610"/>
                  </a:lnTo>
                  <a:lnTo>
                    <a:pt x="1623" y="635"/>
                  </a:lnTo>
                  <a:lnTo>
                    <a:pt x="1628" y="665"/>
                  </a:lnTo>
                  <a:lnTo>
                    <a:pt x="1633" y="706"/>
                  </a:lnTo>
                  <a:lnTo>
                    <a:pt x="1638" y="756"/>
                  </a:lnTo>
                  <a:lnTo>
                    <a:pt x="1638" y="831"/>
                  </a:lnTo>
                  <a:lnTo>
                    <a:pt x="1643" y="998"/>
                  </a:lnTo>
                  <a:lnTo>
                    <a:pt x="1648" y="993"/>
                  </a:lnTo>
                  <a:lnTo>
                    <a:pt x="1653" y="831"/>
                  </a:lnTo>
                  <a:lnTo>
                    <a:pt x="1658" y="756"/>
                  </a:lnTo>
                  <a:lnTo>
                    <a:pt x="1664" y="711"/>
                  </a:lnTo>
                  <a:lnTo>
                    <a:pt x="1664" y="675"/>
                  </a:lnTo>
                  <a:lnTo>
                    <a:pt x="1669" y="645"/>
                  </a:lnTo>
                  <a:lnTo>
                    <a:pt x="1674" y="625"/>
                  </a:lnTo>
                  <a:lnTo>
                    <a:pt x="1679" y="605"/>
                  </a:lnTo>
                  <a:lnTo>
                    <a:pt x="1684" y="590"/>
                  </a:lnTo>
                  <a:lnTo>
                    <a:pt x="1689" y="575"/>
                  </a:lnTo>
                  <a:lnTo>
                    <a:pt x="1694" y="559"/>
                  </a:lnTo>
                  <a:lnTo>
                    <a:pt x="1694" y="549"/>
                  </a:lnTo>
                  <a:lnTo>
                    <a:pt x="1699" y="539"/>
                  </a:lnTo>
                  <a:lnTo>
                    <a:pt x="1704" y="534"/>
                  </a:lnTo>
                  <a:lnTo>
                    <a:pt x="1709" y="524"/>
                  </a:lnTo>
                  <a:lnTo>
                    <a:pt x="1714" y="519"/>
                  </a:lnTo>
                  <a:lnTo>
                    <a:pt x="1719" y="514"/>
                  </a:lnTo>
                  <a:lnTo>
                    <a:pt x="1719" y="509"/>
                  </a:lnTo>
                  <a:lnTo>
                    <a:pt x="1724" y="509"/>
                  </a:lnTo>
                  <a:lnTo>
                    <a:pt x="1729" y="504"/>
                  </a:lnTo>
                  <a:lnTo>
                    <a:pt x="1734" y="499"/>
                  </a:lnTo>
                  <a:lnTo>
                    <a:pt x="1739" y="499"/>
                  </a:lnTo>
                  <a:lnTo>
                    <a:pt x="1744" y="499"/>
                  </a:lnTo>
                  <a:lnTo>
                    <a:pt x="1749" y="499"/>
                  </a:lnTo>
                  <a:lnTo>
                    <a:pt x="1754" y="499"/>
                  </a:lnTo>
                  <a:lnTo>
                    <a:pt x="1759" y="499"/>
                  </a:lnTo>
                  <a:lnTo>
                    <a:pt x="1764" y="499"/>
                  </a:lnTo>
                  <a:lnTo>
                    <a:pt x="1769" y="504"/>
                  </a:lnTo>
                  <a:lnTo>
                    <a:pt x="1774" y="504"/>
                  </a:lnTo>
                  <a:lnTo>
                    <a:pt x="1779" y="509"/>
                  </a:lnTo>
                  <a:lnTo>
                    <a:pt x="1779" y="514"/>
                  </a:lnTo>
                  <a:lnTo>
                    <a:pt x="1784" y="519"/>
                  </a:lnTo>
                  <a:lnTo>
                    <a:pt x="1790" y="524"/>
                  </a:lnTo>
                  <a:lnTo>
                    <a:pt x="1795" y="529"/>
                  </a:lnTo>
                  <a:lnTo>
                    <a:pt x="1800" y="534"/>
                  </a:lnTo>
                  <a:lnTo>
                    <a:pt x="1805" y="544"/>
                  </a:lnTo>
                  <a:lnTo>
                    <a:pt x="1805" y="554"/>
                  </a:lnTo>
                  <a:lnTo>
                    <a:pt x="1810" y="564"/>
                  </a:lnTo>
                  <a:lnTo>
                    <a:pt x="1815" y="575"/>
                  </a:lnTo>
                  <a:lnTo>
                    <a:pt x="1820" y="590"/>
                  </a:lnTo>
                  <a:lnTo>
                    <a:pt x="1825" y="600"/>
                  </a:lnTo>
                  <a:lnTo>
                    <a:pt x="1830" y="620"/>
                  </a:lnTo>
                  <a:lnTo>
                    <a:pt x="1835" y="635"/>
                  </a:lnTo>
                  <a:lnTo>
                    <a:pt x="1835" y="660"/>
                  </a:lnTo>
                  <a:lnTo>
                    <a:pt x="1840" y="685"/>
                  </a:lnTo>
                  <a:lnTo>
                    <a:pt x="1845" y="721"/>
                  </a:lnTo>
                  <a:lnTo>
                    <a:pt x="1850" y="761"/>
                  </a:lnTo>
                  <a:lnTo>
                    <a:pt x="1855" y="821"/>
                  </a:lnTo>
                  <a:lnTo>
                    <a:pt x="1860" y="927"/>
                  </a:lnTo>
                  <a:lnTo>
                    <a:pt x="1860" y="1547"/>
                  </a:lnTo>
                  <a:lnTo>
                    <a:pt x="1865" y="922"/>
                  </a:lnTo>
                  <a:lnTo>
                    <a:pt x="1870" y="821"/>
                  </a:lnTo>
                  <a:lnTo>
                    <a:pt x="1875" y="761"/>
                  </a:lnTo>
                  <a:lnTo>
                    <a:pt x="1880" y="721"/>
                  </a:lnTo>
                  <a:lnTo>
                    <a:pt x="1885" y="690"/>
                  </a:lnTo>
                  <a:lnTo>
                    <a:pt x="1890" y="665"/>
                  </a:lnTo>
                  <a:lnTo>
                    <a:pt x="1890" y="645"/>
                  </a:lnTo>
                  <a:lnTo>
                    <a:pt x="1895" y="625"/>
                  </a:lnTo>
                  <a:lnTo>
                    <a:pt x="1900" y="610"/>
                  </a:lnTo>
                  <a:lnTo>
                    <a:pt x="1905" y="595"/>
                  </a:lnTo>
                  <a:lnTo>
                    <a:pt x="1911" y="585"/>
                  </a:lnTo>
                  <a:lnTo>
                    <a:pt x="1916" y="575"/>
                  </a:lnTo>
                  <a:lnTo>
                    <a:pt x="1916" y="564"/>
                  </a:lnTo>
                  <a:lnTo>
                    <a:pt x="1921" y="554"/>
                  </a:lnTo>
                  <a:lnTo>
                    <a:pt x="1926" y="549"/>
                  </a:lnTo>
                  <a:lnTo>
                    <a:pt x="1931" y="544"/>
                  </a:lnTo>
                  <a:lnTo>
                    <a:pt x="1936" y="539"/>
                  </a:lnTo>
                  <a:lnTo>
                    <a:pt x="1941" y="534"/>
                  </a:lnTo>
                  <a:lnTo>
                    <a:pt x="1946" y="529"/>
                  </a:lnTo>
                  <a:lnTo>
                    <a:pt x="1951" y="524"/>
                  </a:lnTo>
                  <a:lnTo>
                    <a:pt x="1956" y="524"/>
                  </a:lnTo>
                  <a:lnTo>
                    <a:pt x="1961" y="519"/>
                  </a:lnTo>
                  <a:lnTo>
                    <a:pt x="1966" y="519"/>
                  </a:lnTo>
                  <a:lnTo>
                    <a:pt x="1971" y="519"/>
                  </a:lnTo>
                  <a:lnTo>
                    <a:pt x="1976" y="524"/>
                  </a:lnTo>
                  <a:lnTo>
                    <a:pt x="1981" y="524"/>
                  </a:lnTo>
                  <a:lnTo>
                    <a:pt x="1986" y="524"/>
                  </a:lnTo>
                  <a:lnTo>
                    <a:pt x="1991" y="529"/>
                  </a:lnTo>
                  <a:lnTo>
                    <a:pt x="1996" y="529"/>
                  </a:lnTo>
                  <a:lnTo>
                    <a:pt x="2001" y="534"/>
                  </a:lnTo>
                  <a:lnTo>
                    <a:pt x="2001" y="539"/>
                  </a:lnTo>
                  <a:lnTo>
                    <a:pt x="2006" y="544"/>
                  </a:lnTo>
                  <a:lnTo>
                    <a:pt x="2011" y="549"/>
                  </a:lnTo>
                  <a:lnTo>
                    <a:pt x="2016" y="559"/>
                  </a:lnTo>
                  <a:lnTo>
                    <a:pt x="2021" y="564"/>
                  </a:lnTo>
                  <a:lnTo>
                    <a:pt x="2026" y="575"/>
                  </a:lnTo>
                  <a:lnTo>
                    <a:pt x="2026" y="585"/>
                  </a:lnTo>
                  <a:lnTo>
                    <a:pt x="2032" y="595"/>
                  </a:lnTo>
                  <a:lnTo>
                    <a:pt x="2037" y="610"/>
                  </a:lnTo>
                  <a:lnTo>
                    <a:pt x="2042" y="625"/>
                  </a:lnTo>
                  <a:lnTo>
                    <a:pt x="2047" y="640"/>
                  </a:lnTo>
                  <a:lnTo>
                    <a:pt x="2052" y="660"/>
                  </a:lnTo>
                  <a:lnTo>
                    <a:pt x="2057" y="685"/>
                  </a:lnTo>
                  <a:lnTo>
                    <a:pt x="2057" y="711"/>
                  </a:lnTo>
                  <a:lnTo>
                    <a:pt x="2062" y="746"/>
                  </a:lnTo>
                  <a:lnTo>
                    <a:pt x="2067" y="796"/>
                  </a:lnTo>
                  <a:lnTo>
                    <a:pt x="2072" y="867"/>
                  </a:lnTo>
                  <a:lnTo>
                    <a:pt x="2077" y="1003"/>
                  </a:lnTo>
                  <a:lnTo>
                    <a:pt x="2082" y="1093"/>
                  </a:lnTo>
                  <a:lnTo>
                    <a:pt x="2087" y="897"/>
                  </a:lnTo>
                  <a:lnTo>
                    <a:pt x="2087" y="811"/>
                  </a:lnTo>
                  <a:lnTo>
                    <a:pt x="2092" y="761"/>
                  </a:lnTo>
                  <a:lnTo>
                    <a:pt x="2097" y="721"/>
                  </a:lnTo>
                  <a:lnTo>
                    <a:pt x="2102" y="695"/>
                  </a:lnTo>
                  <a:lnTo>
                    <a:pt x="2107" y="670"/>
                  </a:lnTo>
                  <a:lnTo>
                    <a:pt x="2112" y="650"/>
                  </a:lnTo>
                  <a:lnTo>
                    <a:pt x="2112" y="630"/>
                  </a:lnTo>
                  <a:lnTo>
                    <a:pt x="2117" y="615"/>
                  </a:lnTo>
                  <a:lnTo>
                    <a:pt x="2122" y="605"/>
                  </a:lnTo>
                  <a:lnTo>
                    <a:pt x="2127" y="590"/>
                  </a:lnTo>
                  <a:lnTo>
                    <a:pt x="2132" y="580"/>
                  </a:lnTo>
                  <a:lnTo>
                    <a:pt x="2137" y="575"/>
                  </a:lnTo>
                  <a:lnTo>
                    <a:pt x="2142" y="564"/>
                  </a:lnTo>
                  <a:lnTo>
                    <a:pt x="2142" y="559"/>
                  </a:lnTo>
                  <a:lnTo>
                    <a:pt x="2147" y="549"/>
                  </a:lnTo>
                  <a:lnTo>
                    <a:pt x="2152" y="544"/>
                  </a:lnTo>
                  <a:lnTo>
                    <a:pt x="2158" y="544"/>
                  </a:lnTo>
                  <a:lnTo>
                    <a:pt x="2163" y="539"/>
                  </a:lnTo>
                  <a:lnTo>
                    <a:pt x="2168" y="534"/>
                  </a:lnTo>
                  <a:lnTo>
                    <a:pt x="2173" y="529"/>
                  </a:lnTo>
                  <a:lnTo>
                    <a:pt x="2178" y="529"/>
                  </a:lnTo>
                  <a:lnTo>
                    <a:pt x="2183" y="529"/>
                  </a:lnTo>
                </a:path>
              </a:pathLst>
            </a:custGeom>
            <a:noFill/>
            <a:ln cap="rnd" w="25560">
              <a:solidFill>
                <a:srgbClr val="ea991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5416560" y="3067200"/>
              <a:ext cx="3467160" cy="809640"/>
            </a:xfrm>
            <a:custGeom>
              <a:avLst/>
              <a:gdLst/>
              <a:ahLst/>
              <a:rect l="l" t="t" r="r" b="b"/>
              <a:pathLst>
                <a:path w="2184" h="510">
                  <a:moveTo>
                    <a:pt x="0" y="0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76" y="0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6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6" y="0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61" y="0"/>
                  </a:lnTo>
                  <a:lnTo>
                    <a:pt x="166" y="0"/>
                  </a:lnTo>
                  <a:lnTo>
                    <a:pt x="171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7" y="0"/>
                  </a:lnTo>
                  <a:lnTo>
                    <a:pt x="202" y="0"/>
                  </a:lnTo>
                  <a:lnTo>
                    <a:pt x="207" y="0"/>
                  </a:lnTo>
                  <a:lnTo>
                    <a:pt x="212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lnTo>
                    <a:pt x="232" y="0"/>
                  </a:lnTo>
                  <a:lnTo>
                    <a:pt x="237" y="0"/>
                  </a:lnTo>
                  <a:lnTo>
                    <a:pt x="242" y="0"/>
                  </a:lnTo>
                  <a:lnTo>
                    <a:pt x="247" y="0"/>
                  </a:lnTo>
                  <a:lnTo>
                    <a:pt x="252" y="0"/>
                  </a:lnTo>
                  <a:lnTo>
                    <a:pt x="257" y="0"/>
                  </a:lnTo>
                  <a:lnTo>
                    <a:pt x="262" y="0"/>
                  </a:lnTo>
                  <a:lnTo>
                    <a:pt x="267" y="0"/>
                  </a:lnTo>
                  <a:lnTo>
                    <a:pt x="272" y="0"/>
                  </a:lnTo>
                  <a:lnTo>
                    <a:pt x="277" y="0"/>
                  </a:lnTo>
                  <a:lnTo>
                    <a:pt x="282" y="0"/>
                  </a:lnTo>
                  <a:lnTo>
                    <a:pt x="287" y="0"/>
                  </a:lnTo>
                  <a:lnTo>
                    <a:pt x="292" y="0"/>
                  </a:lnTo>
                  <a:lnTo>
                    <a:pt x="297" y="0"/>
                  </a:lnTo>
                  <a:lnTo>
                    <a:pt x="302" y="0"/>
                  </a:lnTo>
                  <a:lnTo>
                    <a:pt x="307" y="0"/>
                  </a:lnTo>
                  <a:lnTo>
                    <a:pt x="313" y="0"/>
                  </a:lnTo>
                  <a:lnTo>
                    <a:pt x="318" y="0"/>
                  </a:lnTo>
                  <a:lnTo>
                    <a:pt x="323" y="0"/>
                  </a:lnTo>
                  <a:lnTo>
                    <a:pt x="328" y="0"/>
                  </a:lnTo>
                  <a:lnTo>
                    <a:pt x="333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8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3" y="0"/>
                  </a:lnTo>
                  <a:lnTo>
                    <a:pt x="378" y="0"/>
                  </a:lnTo>
                  <a:lnTo>
                    <a:pt x="383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398" y="0"/>
                  </a:lnTo>
                  <a:lnTo>
                    <a:pt x="403" y="0"/>
                  </a:lnTo>
                  <a:lnTo>
                    <a:pt x="408" y="0"/>
                  </a:lnTo>
                  <a:lnTo>
                    <a:pt x="413" y="0"/>
                  </a:lnTo>
                  <a:lnTo>
                    <a:pt x="418" y="0"/>
                  </a:lnTo>
                  <a:lnTo>
                    <a:pt x="423" y="0"/>
                  </a:lnTo>
                  <a:lnTo>
                    <a:pt x="428" y="0"/>
                  </a:lnTo>
                  <a:lnTo>
                    <a:pt x="433" y="0"/>
                  </a:lnTo>
                  <a:lnTo>
                    <a:pt x="439" y="0"/>
                  </a:lnTo>
                  <a:lnTo>
                    <a:pt x="444" y="0"/>
                  </a:lnTo>
                  <a:lnTo>
                    <a:pt x="449" y="0"/>
                  </a:lnTo>
                  <a:lnTo>
                    <a:pt x="454" y="0"/>
                  </a:lnTo>
                  <a:lnTo>
                    <a:pt x="459" y="0"/>
                  </a:lnTo>
                  <a:lnTo>
                    <a:pt x="464" y="0"/>
                  </a:lnTo>
                  <a:lnTo>
                    <a:pt x="469" y="0"/>
                  </a:lnTo>
                  <a:lnTo>
                    <a:pt x="474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9" y="0"/>
                  </a:lnTo>
                  <a:lnTo>
                    <a:pt x="494" y="0"/>
                  </a:lnTo>
                  <a:lnTo>
                    <a:pt x="499" y="0"/>
                  </a:lnTo>
                  <a:lnTo>
                    <a:pt x="504" y="0"/>
                  </a:lnTo>
                  <a:lnTo>
                    <a:pt x="509" y="0"/>
                  </a:lnTo>
                  <a:lnTo>
                    <a:pt x="514" y="0"/>
                  </a:lnTo>
                  <a:lnTo>
                    <a:pt x="519" y="0"/>
                  </a:lnTo>
                  <a:lnTo>
                    <a:pt x="524" y="0"/>
                  </a:lnTo>
                  <a:lnTo>
                    <a:pt x="529" y="0"/>
                  </a:lnTo>
                  <a:lnTo>
                    <a:pt x="534" y="0"/>
                  </a:lnTo>
                  <a:lnTo>
                    <a:pt x="539" y="5"/>
                  </a:lnTo>
                  <a:lnTo>
                    <a:pt x="544" y="5"/>
                  </a:lnTo>
                  <a:lnTo>
                    <a:pt x="549" y="5"/>
                  </a:lnTo>
                  <a:lnTo>
                    <a:pt x="554" y="5"/>
                  </a:lnTo>
                  <a:lnTo>
                    <a:pt x="560" y="5"/>
                  </a:lnTo>
                  <a:lnTo>
                    <a:pt x="565" y="5"/>
                  </a:lnTo>
                  <a:lnTo>
                    <a:pt x="570" y="5"/>
                  </a:lnTo>
                  <a:lnTo>
                    <a:pt x="575" y="5"/>
                  </a:lnTo>
                  <a:lnTo>
                    <a:pt x="580" y="5"/>
                  </a:lnTo>
                  <a:lnTo>
                    <a:pt x="585" y="5"/>
                  </a:lnTo>
                  <a:lnTo>
                    <a:pt x="590" y="5"/>
                  </a:lnTo>
                  <a:lnTo>
                    <a:pt x="595" y="5"/>
                  </a:lnTo>
                  <a:lnTo>
                    <a:pt x="600" y="5"/>
                  </a:lnTo>
                  <a:lnTo>
                    <a:pt x="605" y="5"/>
                  </a:lnTo>
                  <a:lnTo>
                    <a:pt x="610" y="5"/>
                  </a:lnTo>
                  <a:lnTo>
                    <a:pt x="615" y="5"/>
                  </a:lnTo>
                  <a:lnTo>
                    <a:pt x="620" y="5"/>
                  </a:lnTo>
                  <a:lnTo>
                    <a:pt x="625" y="5"/>
                  </a:lnTo>
                  <a:lnTo>
                    <a:pt x="630" y="5"/>
                  </a:lnTo>
                  <a:lnTo>
                    <a:pt x="635" y="5"/>
                  </a:lnTo>
                  <a:lnTo>
                    <a:pt x="640" y="5"/>
                  </a:lnTo>
                  <a:lnTo>
                    <a:pt x="645" y="5"/>
                  </a:lnTo>
                  <a:lnTo>
                    <a:pt x="650" y="5"/>
                  </a:lnTo>
                  <a:lnTo>
                    <a:pt x="655" y="5"/>
                  </a:lnTo>
                  <a:lnTo>
                    <a:pt x="660" y="5"/>
                  </a:lnTo>
                  <a:lnTo>
                    <a:pt x="665" y="5"/>
                  </a:lnTo>
                  <a:lnTo>
                    <a:pt x="670" y="5"/>
                  </a:lnTo>
                  <a:lnTo>
                    <a:pt x="675" y="5"/>
                  </a:lnTo>
                  <a:lnTo>
                    <a:pt x="681" y="5"/>
                  </a:lnTo>
                  <a:lnTo>
                    <a:pt x="686" y="5"/>
                  </a:lnTo>
                  <a:lnTo>
                    <a:pt x="691" y="5"/>
                  </a:lnTo>
                  <a:lnTo>
                    <a:pt x="696" y="5"/>
                  </a:lnTo>
                  <a:lnTo>
                    <a:pt x="701" y="5"/>
                  </a:lnTo>
                  <a:lnTo>
                    <a:pt x="706" y="5"/>
                  </a:lnTo>
                  <a:lnTo>
                    <a:pt x="711" y="5"/>
                  </a:lnTo>
                  <a:lnTo>
                    <a:pt x="716" y="5"/>
                  </a:lnTo>
                  <a:lnTo>
                    <a:pt x="721" y="5"/>
                  </a:lnTo>
                  <a:lnTo>
                    <a:pt x="726" y="5"/>
                  </a:lnTo>
                  <a:lnTo>
                    <a:pt x="731" y="5"/>
                  </a:lnTo>
                  <a:lnTo>
                    <a:pt x="736" y="5"/>
                  </a:lnTo>
                  <a:lnTo>
                    <a:pt x="741" y="5"/>
                  </a:lnTo>
                  <a:lnTo>
                    <a:pt x="746" y="5"/>
                  </a:lnTo>
                  <a:lnTo>
                    <a:pt x="751" y="5"/>
                  </a:lnTo>
                  <a:lnTo>
                    <a:pt x="756" y="5"/>
                  </a:lnTo>
                  <a:lnTo>
                    <a:pt x="761" y="5"/>
                  </a:lnTo>
                  <a:lnTo>
                    <a:pt x="766" y="5"/>
                  </a:lnTo>
                  <a:lnTo>
                    <a:pt x="771" y="5"/>
                  </a:lnTo>
                  <a:lnTo>
                    <a:pt x="776" y="5"/>
                  </a:lnTo>
                  <a:lnTo>
                    <a:pt x="781" y="5"/>
                  </a:lnTo>
                  <a:lnTo>
                    <a:pt x="786" y="5"/>
                  </a:lnTo>
                  <a:lnTo>
                    <a:pt x="791" y="5"/>
                  </a:lnTo>
                  <a:lnTo>
                    <a:pt x="796" y="5"/>
                  </a:lnTo>
                  <a:lnTo>
                    <a:pt x="801" y="5"/>
                  </a:lnTo>
                  <a:lnTo>
                    <a:pt x="807" y="5"/>
                  </a:lnTo>
                  <a:lnTo>
                    <a:pt x="812" y="5"/>
                  </a:lnTo>
                  <a:lnTo>
                    <a:pt x="817" y="5"/>
                  </a:lnTo>
                  <a:lnTo>
                    <a:pt x="822" y="5"/>
                  </a:lnTo>
                  <a:lnTo>
                    <a:pt x="827" y="5"/>
                  </a:lnTo>
                  <a:lnTo>
                    <a:pt x="827" y="10"/>
                  </a:lnTo>
                  <a:lnTo>
                    <a:pt x="832" y="10"/>
                  </a:lnTo>
                  <a:lnTo>
                    <a:pt x="837" y="10"/>
                  </a:lnTo>
                  <a:lnTo>
                    <a:pt x="842" y="10"/>
                  </a:lnTo>
                  <a:lnTo>
                    <a:pt x="847" y="10"/>
                  </a:lnTo>
                  <a:lnTo>
                    <a:pt x="852" y="10"/>
                  </a:lnTo>
                  <a:lnTo>
                    <a:pt x="857" y="10"/>
                  </a:lnTo>
                  <a:lnTo>
                    <a:pt x="862" y="10"/>
                  </a:lnTo>
                  <a:lnTo>
                    <a:pt x="867" y="10"/>
                  </a:lnTo>
                  <a:lnTo>
                    <a:pt x="872" y="15"/>
                  </a:lnTo>
                  <a:lnTo>
                    <a:pt x="877" y="15"/>
                  </a:lnTo>
                  <a:lnTo>
                    <a:pt x="882" y="15"/>
                  </a:lnTo>
                  <a:lnTo>
                    <a:pt x="887" y="15"/>
                  </a:lnTo>
                  <a:lnTo>
                    <a:pt x="892" y="15"/>
                  </a:lnTo>
                  <a:lnTo>
                    <a:pt x="897" y="15"/>
                  </a:lnTo>
                  <a:lnTo>
                    <a:pt x="902" y="20"/>
                  </a:lnTo>
                  <a:lnTo>
                    <a:pt x="907" y="20"/>
                  </a:lnTo>
                  <a:lnTo>
                    <a:pt x="912" y="20"/>
                  </a:lnTo>
                  <a:lnTo>
                    <a:pt x="917" y="20"/>
                  </a:lnTo>
                  <a:lnTo>
                    <a:pt x="922" y="20"/>
                  </a:lnTo>
                  <a:lnTo>
                    <a:pt x="928" y="25"/>
                  </a:lnTo>
                  <a:lnTo>
                    <a:pt x="933" y="25"/>
                  </a:lnTo>
                  <a:lnTo>
                    <a:pt x="938" y="25"/>
                  </a:lnTo>
                  <a:lnTo>
                    <a:pt x="943" y="30"/>
                  </a:lnTo>
                  <a:lnTo>
                    <a:pt x="948" y="30"/>
                  </a:lnTo>
                  <a:lnTo>
                    <a:pt x="953" y="30"/>
                  </a:lnTo>
                  <a:lnTo>
                    <a:pt x="958" y="30"/>
                  </a:lnTo>
                  <a:lnTo>
                    <a:pt x="963" y="35"/>
                  </a:lnTo>
                  <a:lnTo>
                    <a:pt x="968" y="35"/>
                  </a:lnTo>
                  <a:lnTo>
                    <a:pt x="973" y="35"/>
                  </a:lnTo>
                  <a:lnTo>
                    <a:pt x="978" y="40"/>
                  </a:lnTo>
                  <a:lnTo>
                    <a:pt x="983" y="40"/>
                  </a:lnTo>
                  <a:lnTo>
                    <a:pt x="988" y="40"/>
                  </a:lnTo>
                  <a:lnTo>
                    <a:pt x="993" y="46"/>
                  </a:lnTo>
                  <a:lnTo>
                    <a:pt x="998" y="46"/>
                  </a:lnTo>
                  <a:lnTo>
                    <a:pt x="1003" y="51"/>
                  </a:lnTo>
                  <a:lnTo>
                    <a:pt x="1008" y="51"/>
                  </a:lnTo>
                  <a:lnTo>
                    <a:pt x="1013" y="51"/>
                  </a:lnTo>
                  <a:lnTo>
                    <a:pt x="1018" y="56"/>
                  </a:lnTo>
                  <a:lnTo>
                    <a:pt x="1023" y="56"/>
                  </a:lnTo>
                  <a:lnTo>
                    <a:pt x="1023" y="61"/>
                  </a:lnTo>
                  <a:lnTo>
                    <a:pt x="1028" y="61"/>
                  </a:lnTo>
                  <a:lnTo>
                    <a:pt x="1033" y="61"/>
                  </a:lnTo>
                  <a:lnTo>
                    <a:pt x="1038" y="66"/>
                  </a:lnTo>
                  <a:lnTo>
                    <a:pt x="1043" y="66"/>
                  </a:lnTo>
                  <a:lnTo>
                    <a:pt x="1049" y="71"/>
                  </a:lnTo>
                  <a:lnTo>
                    <a:pt x="1054" y="76"/>
                  </a:lnTo>
                  <a:lnTo>
                    <a:pt x="1059" y="76"/>
                  </a:lnTo>
                  <a:lnTo>
                    <a:pt x="1064" y="81"/>
                  </a:lnTo>
                  <a:lnTo>
                    <a:pt x="1069" y="81"/>
                  </a:lnTo>
                  <a:lnTo>
                    <a:pt x="1074" y="86"/>
                  </a:lnTo>
                  <a:lnTo>
                    <a:pt x="1079" y="86"/>
                  </a:lnTo>
                  <a:lnTo>
                    <a:pt x="1079" y="91"/>
                  </a:lnTo>
                  <a:lnTo>
                    <a:pt x="1084" y="91"/>
                  </a:lnTo>
                  <a:lnTo>
                    <a:pt x="1089" y="96"/>
                  </a:lnTo>
                  <a:lnTo>
                    <a:pt x="1094" y="101"/>
                  </a:lnTo>
                  <a:lnTo>
                    <a:pt x="1099" y="101"/>
                  </a:lnTo>
                  <a:lnTo>
                    <a:pt x="1104" y="106"/>
                  </a:lnTo>
                  <a:lnTo>
                    <a:pt x="1109" y="111"/>
                  </a:lnTo>
                  <a:lnTo>
                    <a:pt x="1114" y="116"/>
                  </a:lnTo>
                  <a:lnTo>
                    <a:pt x="1119" y="116"/>
                  </a:lnTo>
                  <a:lnTo>
                    <a:pt x="1124" y="121"/>
                  </a:lnTo>
                  <a:lnTo>
                    <a:pt x="1129" y="121"/>
                  </a:lnTo>
                  <a:lnTo>
                    <a:pt x="1134" y="126"/>
                  </a:lnTo>
                  <a:lnTo>
                    <a:pt x="1134" y="131"/>
                  </a:lnTo>
                  <a:lnTo>
                    <a:pt x="1139" y="136"/>
                  </a:lnTo>
                  <a:lnTo>
                    <a:pt x="1144" y="136"/>
                  </a:lnTo>
                  <a:lnTo>
                    <a:pt x="1149" y="141"/>
                  </a:lnTo>
                  <a:lnTo>
                    <a:pt x="1154" y="146"/>
                  </a:lnTo>
                  <a:lnTo>
                    <a:pt x="1159" y="146"/>
                  </a:lnTo>
                  <a:lnTo>
                    <a:pt x="1159" y="151"/>
                  </a:lnTo>
                  <a:lnTo>
                    <a:pt x="1164" y="156"/>
                  </a:lnTo>
                  <a:lnTo>
                    <a:pt x="1169" y="161"/>
                  </a:lnTo>
                  <a:lnTo>
                    <a:pt x="1175" y="166"/>
                  </a:lnTo>
                  <a:lnTo>
                    <a:pt x="1180" y="166"/>
                  </a:lnTo>
                  <a:lnTo>
                    <a:pt x="1185" y="171"/>
                  </a:lnTo>
                  <a:lnTo>
                    <a:pt x="1190" y="177"/>
                  </a:lnTo>
                  <a:lnTo>
                    <a:pt x="1190" y="182"/>
                  </a:lnTo>
                  <a:lnTo>
                    <a:pt x="1195" y="187"/>
                  </a:lnTo>
                  <a:lnTo>
                    <a:pt x="1200" y="192"/>
                  </a:lnTo>
                  <a:lnTo>
                    <a:pt x="1205" y="192"/>
                  </a:lnTo>
                  <a:lnTo>
                    <a:pt x="1210" y="197"/>
                  </a:lnTo>
                  <a:lnTo>
                    <a:pt x="1215" y="202"/>
                  </a:lnTo>
                  <a:lnTo>
                    <a:pt x="1215" y="207"/>
                  </a:lnTo>
                  <a:lnTo>
                    <a:pt x="1220" y="212"/>
                  </a:lnTo>
                  <a:lnTo>
                    <a:pt x="1225" y="217"/>
                  </a:lnTo>
                  <a:lnTo>
                    <a:pt x="1230" y="222"/>
                  </a:lnTo>
                  <a:lnTo>
                    <a:pt x="1235" y="227"/>
                  </a:lnTo>
                  <a:lnTo>
                    <a:pt x="1240" y="232"/>
                  </a:lnTo>
                  <a:lnTo>
                    <a:pt x="1245" y="237"/>
                  </a:lnTo>
                  <a:lnTo>
                    <a:pt x="1245" y="242"/>
                  </a:lnTo>
                  <a:lnTo>
                    <a:pt x="1250" y="247"/>
                  </a:lnTo>
                  <a:lnTo>
                    <a:pt x="1255" y="252"/>
                  </a:lnTo>
                  <a:lnTo>
                    <a:pt x="1260" y="257"/>
                  </a:lnTo>
                  <a:lnTo>
                    <a:pt x="1265" y="262"/>
                  </a:lnTo>
                  <a:lnTo>
                    <a:pt x="1270" y="267"/>
                  </a:lnTo>
                  <a:lnTo>
                    <a:pt x="1275" y="272"/>
                  </a:lnTo>
                  <a:lnTo>
                    <a:pt x="1275" y="277"/>
                  </a:lnTo>
                  <a:lnTo>
                    <a:pt x="1280" y="282"/>
                  </a:lnTo>
                  <a:lnTo>
                    <a:pt x="1285" y="287"/>
                  </a:lnTo>
                  <a:lnTo>
                    <a:pt x="1290" y="292"/>
                  </a:lnTo>
                  <a:lnTo>
                    <a:pt x="1296" y="297"/>
                  </a:lnTo>
                  <a:lnTo>
                    <a:pt x="1301" y="302"/>
                  </a:lnTo>
                  <a:lnTo>
                    <a:pt x="1301" y="308"/>
                  </a:lnTo>
                  <a:lnTo>
                    <a:pt x="1306" y="313"/>
                  </a:lnTo>
                  <a:lnTo>
                    <a:pt x="1311" y="318"/>
                  </a:lnTo>
                  <a:lnTo>
                    <a:pt x="1316" y="323"/>
                  </a:lnTo>
                  <a:lnTo>
                    <a:pt x="1321" y="328"/>
                  </a:lnTo>
                  <a:lnTo>
                    <a:pt x="1326" y="333"/>
                  </a:lnTo>
                  <a:lnTo>
                    <a:pt x="1331" y="338"/>
                  </a:lnTo>
                  <a:lnTo>
                    <a:pt x="1331" y="343"/>
                  </a:lnTo>
                  <a:lnTo>
                    <a:pt x="1336" y="348"/>
                  </a:lnTo>
                  <a:lnTo>
                    <a:pt x="1341" y="353"/>
                  </a:lnTo>
                  <a:lnTo>
                    <a:pt x="1346" y="353"/>
                  </a:lnTo>
                  <a:lnTo>
                    <a:pt x="1351" y="358"/>
                  </a:lnTo>
                  <a:lnTo>
                    <a:pt x="1356" y="363"/>
                  </a:lnTo>
                  <a:lnTo>
                    <a:pt x="1356" y="368"/>
                  </a:lnTo>
                  <a:lnTo>
                    <a:pt x="1361" y="373"/>
                  </a:lnTo>
                  <a:lnTo>
                    <a:pt x="1366" y="378"/>
                  </a:lnTo>
                  <a:lnTo>
                    <a:pt x="1371" y="383"/>
                  </a:lnTo>
                  <a:lnTo>
                    <a:pt x="1376" y="383"/>
                  </a:lnTo>
                  <a:lnTo>
                    <a:pt x="1381" y="388"/>
                  </a:lnTo>
                  <a:lnTo>
                    <a:pt x="1386" y="393"/>
                  </a:lnTo>
                  <a:lnTo>
                    <a:pt x="1391" y="398"/>
                  </a:lnTo>
                  <a:lnTo>
                    <a:pt x="1396" y="403"/>
                  </a:lnTo>
                  <a:lnTo>
                    <a:pt x="1401" y="403"/>
                  </a:lnTo>
                  <a:lnTo>
                    <a:pt x="1406" y="408"/>
                  </a:lnTo>
                  <a:lnTo>
                    <a:pt x="1411" y="408"/>
                  </a:lnTo>
                  <a:lnTo>
                    <a:pt x="1411" y="413"/>
                  </a:lnTo>
                  <a:lnTo>
                    <a:pt x="1416" y="413"/>
                  </a:lnTo>
                  <a:lnTo>
                    <a:pt x="1422" y="418"/>
                  </a:lnTo>
                  <a:lnTo>
                    <a:pt x="1427" y="418"/>
                  </a:lnTo>
                  <a:lnTo>
                    <a:pt x="1432" y="423"/>
                  </a:lnTo>
                  <a:lnTo>
                    <a:pt x="1437" y="423"/>
                  </a:lnTo>
                  <a:lnTo>
                    <a:pt x="1442" y="423"/>
                  </a:lnTo>
                  <a:lnTo>
                    <a:pt x="1442" y="428"/>
                  </a:lnTo>
                  <a:lnTo>
                    <a:pt x="1447" y="428"/>
                  </a:lnTo>
                  <a:lnTo>
                    <a:pt x="1452" y="428"/>
                  </a:lnTo>
                  <a:lnTo>
                    <a:pt x="1457" y="428"/>
                  </a:lnTo>
                  <a:lnTo>
                    <a:pt x="1462" y="428"/>
                  </a:lnTo>
                  <a:lnTo>
                    <a:pt x="1467" y="433"/>
                  </a:lnTo>
                  <a:lnTo>
                    <a:pt x="1472" y="433"/>
                  </a:lnTo>
                  <a:lnTo>
                    <a:pt x="1477" y="433"/>
                  </a:lnTo>
                  <a:lnTo>
                    <a:pt x="1482" y="433"/>
                  </a:lnTo>
                  <a:lnTo>
                    <a:pt x="1487" y="433"/>
                  </a:lnTo>
                  <a:lnTo>
                    <a:pt x="1492" y="433"/>
                  </a:lnTo>
                  <a:lnTo>
                    <a:pt x="1497" y="433"/>
                  </a:lnTo>
                  <a:lnTo>
                    <a:pt x="1502" y="433"/>
                  </a:lnTo>
                  <a:lnTo>
                    <a:pt x="1507" y="433"/>
                  </a:lnTo>
                  <a:lnTo>
                    <a:pt x="1512" y="433"/>
                  </a:lnTo>
                  <a:lnTo>
                    <a:pt x="1517" y="433"/>
                  </a:lnTo>
                  <a:lnTo>
                    <a:pt x="1522" y="433"/>
                  </a:lnTo>
                  <a:lnTo>
                    <a:pt x="1527" y="433"/>
                  </a:lnTo>
                  <a:lnTo>
                    <a:pt x="1532" y="433"/>
                  </a:lnTo>
                  <a:lnTo>
                    <a:pt x="1537" y="433"/>
                  </a:lnTo>
                  <a:lnTo>
                    <a:pt x="1543" y="433"/>
                  </a:lnTo>
                  <a:lnTo>
                    <a:pt x="1548" y="433"/>
                  </a:lnTo>
                  <a:lnTo>
                    <a:pt x="1553" y="433"/>
                  </a:lnTo>
                  <a:lnTo>
                    <a:pt x="1558" y="433"/>
                  </a:lnTo>
                  <a:lnTo>
                    <a:pt x="1563" y="433"/>
                  </a:lnTo>
                  <a:lnTo>
                    <a:pt x="1568" y="433"/>
                  </a:lnTo>
                  <a:lnTo>
                    <a:pt x="1573" y="433"/>
                  </a:lnTo>
                  <a:lnTo>
                    <a:pt x="1578" y="433"/>
                  </a:lnTo>
                  <a:lnTo>
                    <a:pt x="1583" y="439"/>
                  </a:lnTo>
                  <a:lnTo>
                    <a:pt x="1588" y="439"/>
                  </a:lnTo>
                  <a:lnTo>
                    <a:pt x="1593" y="439"/>
                  </a:lnTo>
                  <a:lnTo>
                    <a:pt x="1598" y="439"/>
                  </a:lnTo>
                  <a:lnTo>
                    <a:pt x="1603" y="439"/>
                  </a:lnTo>
                  <a:lnTo>
                    <a:pt x="1608" y="439"/>
                  </a:lnTo>
                  <a:lnTo>
                    <a:pt x="1613" y="439"/>
                  </a:lnTo>
                  <a:lnTo>
                    <a:pt x="1618" y="439"/>
                  </a:lnTo>
                  <a:lnTo>
                    <a:pt x="1623" y="439"/>
                  </a:lnTo>
                  <a:lnTo>
                    <a:pt x="1628" y="444"/>
                  </a:lnTo>
                  <a:lnTo>
                    <a:pt x="1633" y="444"/>
                  </a:lnTo>
                  <a:lnTo>
                    <a:pt x="1638" y="444"/>
                  </a:lnTo>
                  <a:lnTo>
                    <a:pt x="1643" y="444"/>
                  </a:lnTo>
                  <a:lnTo>
                    <a:pt x="1648" y="444"/>
                  </a:lnTo>
                  <a:lnTo>
                    <a:pt x="1653" y="449"/>
                  </a:lnTo>
                  <a:lnTo>
                    <a:pt x="1658" y="449"/>
                  </a:lnTo>
                  <a:lnTo>
                    <a:pt x="1664" y="449"/>
                  </a:lnTo>
                  <a:lnTo>
                    <a:pt x="1669" y="449"/>
                  </a:lnTo>
                  <a:lnTo>
                    <a:pt x="1674" y="454"/>
                  </a:lnTo>
                  <a:lnTo>
                    <a:pt x="1679" y="454"/>
                  </a:lnTo>
                  <a:lnTo>
                    <a:pt x="1684" y="454"/>
                  </a:lnTo>
                  <a:lnTo>
                    <a:pt x="1689" y="454"/>
                  </a:lnTo>
                  <a:lnTo>
                    <a:pt x="1694" y="459"/>
                  </a:lnTo>
                  <a:lnTo>
                    <a:pt x="1699" y="459"/>
                  </a:lnTo>
                  <a:lnTo>
                    <a:pt x="1704" y="459"/>
                  </a:lnTo>
                  <a:lnTo>
                    <a:pt x="1709" y="464"/>
                  </a:lnTo>
                  <a:lnTo>
                    <a:pt x="1714" y="464"/>
                  </a:lnTo>
                  <a:lnTo>
                    <a:pt x="1719" y="464"/>
                  </a:lnTo>
                  <a:lnTo>
                    <a:pt x="1724" y="469"/>
                  </a:lnTo>
                  <a:lnTo>
                    <a:pt x="1729" y="469"/>
                  </a:lnTo>
                  <a:lnTo>
                    <a:pt x="1734" y="469"/>
                  </a:lnTo>
                  <a:lnTo>
                    <a:pt x="1739" y="469"/>
                  </a:lnTo>
                  <a:lnTo>
                    <a:pt x="1744" y="474"/>
                  </a:lnTo>
                  <a:lnTo>
                    <a:pt x="1749" y="474"/>
                  </a:lnTo>
                  <a:lnTo>
                    <a:pt x="1754" y="474"/>
                  </a:lnTo>
                  <a:lnTo>
                    <a:pt x="1759" y="479"/>
                  </a:lnTo>
                  <a:lnTo>
                    <a:pt x="1764" y="479"/>
                  </a:lnTo>
                  <a:lnTo>
                    <a:pt x="1769" y="479"/>
                  </a:lnTo>
                  <a:lnTo>
                    <a:pt x="1774" y="479"/>
                  </a:lnTo>
                  <a:lnTo>
                    <a:pt x="1779" y="484"/>
                  </a:lnTo>
                  <a:lnTo>
                    <a:pt x="1784" y="484"/>
                  </a:lnTo>
                  <a:lnTo>
                    <a:pt x="1790" y="484"/>
                  </a:lnTo>
                  <a:lnTo>
                    <a:pt x="1795" y="489"/>
                  </a:lnTo>
                  <a:lnTo>
                    <a:pt x="1800" y="489"/>
                  </a:lnTo>
                  <a:lnTo>
                    <a:pt x="1805" y="489"/>
                  </a:lnTo>
                  <a:lnTo>
                    <a:pt x="1810" y="489"/>
                  </a:lnTo>
                  <a:lnTo>
                    <a:pt x="1815" y="489"/>
                  </a:lnTo>
                  <a:lnTo>
                    <a:pt x="1820" y="494"/>
                  </a:lnTo>
                  <a:lnTo>
                    <a:pt x="1825" y="494"/>
                  </a:lnTo>
                  <a:lnTo>
                    <a:pt x="1830" y="494"/>
                  </a:lnTo>
                  <a:lnTo>
                    <a:pt x="1835" y="494"/>
                  </a:lnTo>
                  <a:lnTo>
                    <a:pt x="1840" y="494"/>
                  </a:lnTo>
                  <a:lnTo>
                    <a:pt x="1845" y="499"/>
                  </a:lnTo>
                  <a:lnTo>
                    <a:pt x="1850" y="499"/>
                  </a:lnTo>
                  <a:lnTo>
                    <a:pt x="1855" y="499"/>
                  </a:lnTo>
                  <a:lnTo>
                    <a:pt x="1860" y="499"/>
                  </a:lnTo>
                  <a:lnTo>
                    <a:pt x="1865" y="499"/>
                  </a:lnTo>
                  <a:lnTo>
                    <a:pt x="1870" y="499"/>
                  </a:lnTo>
                  <a:lnTo>
                    <a:pt x="1875" y="499"/>
                  </a:lnTo>
                  <a:lnTo>
                    <a:pt x="1880" y="499"/>
                  </a:lnTo>
                  <a:lnTo>
                    <a:pt x="1885" y="499"/>
                  </a:lnTo>
                  <a:lnTo>
                    <a:pt x="1890" y="499"/>
                  </a:lnTo>
                  <a:lnTo>
                    <a:pt x="1895" y="499"/>
                  </a:lnTo>
                  <a:lnTo>
                    <a:pt x="1900" y="504"/>
                  </a:lnTo>
                  <a:lnTo>
                    <a:pt x="1905" y="504"/>
                  </a:lnTo>
                  <a:lnTo>
                    <a:pt x="1911" y="504"/>
                  </a:lnTo>
                  <a:lnTo>
                    <a:pt x="1916" y="504"/>
                  </a:lnTo>
                  <a:lnTo>
                    <a:pt x="1921" y="504"/>
                  </a:lnTo>
                  <a:lnTo>
                    <a:pt x="1926" y="504"/>
                  </a:lnTo>
                  <a:lnTo>
                    <a:pt x="1931" y="504"/>
                  </a:lnTo>
                  <a:lnTo>
                    <a:pt x="1936" y="504"/>
                  </a:lnTo>
                  <a:lnTo>
                    <a:pt x="1941" y="504"/>
                  </a:lnTo>
                  <a:lnTo>
                    <a:pt x="1946" y="504"/>
                  </a:lnTo>
                  <a:lnTo>
                    <a:pt x="1951" y="504"/>
                  </a:lnTo>
                  <a:lnTo>
                    <a:pt x="1956" y="504"/>
                  </a:lnTo>
                  <a:lnTo>
                    <a:pt x="1961" y="504"/>
                  </a:lnTo>
                  <a:lnTo>
                    <a:pt x="1966" y="504"/>
                  </a:lnTo>
                  <a:lnTo>
                    <a:pt x="1971" y="504"/>
                  </a:lnTo>
                  <a:lnTo>
                    <a:pt x="1976" y="504"/>
                  </a:lnTo>
                  <a:lnTo>
                    <a:pt x="1981" y="504"/>
                  </a:lnTo>
                  <a:lnTo>
                    <a:pt x="1986" y="504"/>
                  </a:lnTo>
                  <a:lnTo>
                    <a:pt x="1991" y="504"/>
                  </a:lnTo>
                  <a:lnTo>
                    <a:pt x="1996" y="504"/>
                  </a:lnTo>
                  <a:lnTo>
                    <a:pt x="2001" y="504"/>
                  </a:lnTo>
                  <a:lnTo>
                    <a:pt x="2006" y="504"/>
                  </a:lnTo>
                  <a:lnTo>
                    <a:pt x="2011" y="504"/>
                  </a:lnTo>
                  <a:lnTo>
                    <a:pt x="2016" y="504"/>
                  </a:lnTo>
                  <a:lnTo>
                    <a:pt x="2021" y="504"/>
                  </a:lnTo>
                  <a:lnTo>
                    <a:pt x="2026" y="504"/>
                  </a:lnTo>
                  <a:lnTo>
                    <a:pt x="2032" y="504"/>
                  </a:lnTo>
                  <a:lnTo>
                    <a:pt x="2037" y="504"/>
                  </a:lnTo>
                  <a:lnTo>
                    <a:pt x="2042" y="504"/>
                  </a:lnTo>
                  <a:lnTo>
                    <a:pt x="2047" y="504"/>
                  </a:lnTo>
                  <a:lnTo>
                    <a:pt x="2052" y="504"/>
                  </a:lnTo>
                  <a:lnTo>
                    <a:pt x="2057" y="504"/>
                  </a:lnTo>
                  <a:lnTo>
                    <a:pt x="2062" y="504"/>
                  </a:lnTo>
                  <a:lnTo>
                    <a:pt x="2067" y="504"/>
                  </a:lnTo>
                  <a:lnTo>
                    <a:pt x="2072" y="504"/>
                  </a:lnTo>
                  <a:lnTo>
                    <a:pt x="2077" y="504"/>
                  </a:lnTo>
                  <a:lnTo>
                    <a:pt x="2082" y="504"/>
                  </a:lnTo>
                  <a:lnTo>
                    <a:pt x="2087" y="504"/>
                  </a:lnTo>
                  <a:lnTo>
                    <a:pt x="2092" y="504"/>
                  </a:lnTo>
                  <a:lnTo>
                    <a:pt x="2097" y="504"/>
                  </a:lnTo>
                  <a:lnTo>
                    <a:pt x="2102" y="504"/>
                  </a:lnTo>
                  <a:lnTo>
                    <a:pt x="2107" y="504"/>
                  </a:lnTo>
                  <a:lnTo>
                    <a:pt x="2112" y="504"/>
                  </a:lnTo>
                  <a:lnTo>
                    <a:pt x="2117" y="504"/>
                  </a:lnTo>
                  <a:lnTo>
                    <a:pt x="2122" y="504"/>
                  </a:lnTo>
                  <a:lnTo>
                    <a:pt x="2127" y="504"/>
                  </a:lnTo>
                  <a:lnTo>
                    <a:pt x="2132" y="504"/>
                  </a:lnTo>
                  <a:lnTo>
                    <a:pt x="2137" y="504"/>
                  </a:lnTo>
                  <a:lnTo>
                    <a:pt x="2142" y="504"/>
                  </a:lnTo>
                  <a:lnTo>
                    <a:pt x="2147" y="504"/>
                  </a:lnTo>
                  <a:lnTo>
                    <a:pt x="2152" y="504"/>
                  </a:lnTo>
                  <a:lnTo>
                    <a:pt x="2158" y="509"/>
                  </a:lnTo>
                  <a:lnTo>
                    <a:pt x="2163" y="509"/>
                  </a:lnTo>
                  <a:lnTo>
                    <a:pt x="2168" y="509"/>
                  </a:lnTo>
                  <a:lnTo>
                    <a:pt x="2173" y="509"/>
                  </a:lnTo>
                  <a:lnTo>
                    <a:pt x="2178" y="509"/>
                  </a:lnTo>
                  <a:lnTo>
                    <a:pt x="2183" y="509"/>
                  </a:lnTo>
                </a:path>
              </a:pathLst>
            </a:custGeom>
            <a:noFill/>
            <a:ln cap="rnd" w="25560">
              <a:solidFill>
                <a:srgbClr val="abff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5416560" y="3067200"/>
              <a:ext cx="3467160" cy="2576520"/>
            </a:xfrm>
            <a:custGeom>
              <a:avLst/>
              <a:gdLst/>
              <a:ahLst/>
              <a:rect l="l" t="t" r="r" b="b"/>
              <a:pathLst>
                <a:path w="2184" h="1623">
                  <a:moveTo>
                    <a:pt x="0" y="0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76" y="0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6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6" y="0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61" y="0"/>
                  </a:lnTo>
                  <a:lnTo>
                    <a:pt x="166" y="0"/>
                  </a:lnTo>
                  <a:lnTo>
                    <a:pt x="171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7" y="0"/>
                  </a:lnTo>
                  <a:lnTo>
                    <a:pt x="202" y="0"/>
                  </a:lnTo>
                  <a:lnTo>
                    <a:pt x="207" y="0"/>
                  </a:lnTo>
                  <a:lnTo>
                    <a:pt x="212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lnTo>
                    <a:pt x="232" y="0"/>
                  </a:lnTo>
                  <a:lnTo>
                    <a:pt x="237" y="0"/>
                  </a:lnTo>
                  <a:lnTo>
                    <a:pt x="242" y="0"/>
                  </a:lnTo>
                  <a:lnTo>
                    <a:pt x="247" y="0"/>
                  </a:lnTo>
                  <a:lnTo>
                    <a:pt x="252" y="0"/>
                  </a:lnTo>
                  <a:lnTo>
                    <a:pt x="257" y="0"/>
                  </a:lnTo>
                  <a:lnTo>
                    <a:pt x="262" y="0"/>
                  </a:lnTo>
                  <a:lnTo>
                    <a:pt x="267" y="0"/>
                  </a:lnTo>
                  <a:lnTo>
                    <a:pt x="272" y="0"/>
                  </a:lnTo>
                  <a:lnTo>
                    <a:pt x="277" y="0"/>
                  </a:lnTo>
                  <a:lnTo>
                    <a:pt x="282" y="0"/>
                  </a:lnTo>
                  <a:lnTo>
                    <a:pt x="287" y="0"/>
                  </a:lnTo>
                  <a:lnTo>
                    <a:pt x="292" y="0"/>
                  </a:lnTo>
                  <a:lnTo>
                    <a:pt x="297" y="0"/>
                  </a:lnTo>
                  <a:lnTo>
                    <a:pt x="302" y="0"/>
                  </a:lnTo>
                  <a:lnTo>
                    <a:pt x="307" y="0"/>
                  </a:lnTo>
                  <a:lnTo>
                    <a:pt x="313" y="0"/>
                  </a:lnTo>
                  <a:lnTo>
                    <a:pt x="318" y="0"/>
                  </a:lnTo>
                  <a:lnTo>
                    <a:pt x="323" y="0"/>
                  </a:lnTo>
                  <a:lnTo>
                    <a:pt x="328" y="0"/>
                  </a:lnTo>
                  <a:lnTo>
                    <a:pt x="333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8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3" y="0"/>
                  </a:lnTo>
                  <a:lnTo>
                    <a:pt x="378" y="0"/>
                  </a:lnTo>
                  <a:lnTo>
                    <a:pt x="383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398" y="0"/>
                  </a:lnTo>
                  <a:lnTo>
                    <a:pt x="403" y="0"/>
                  </a:lnTo>
                  <a:lnTo>
                    <a:pt x="408" y="0"/>
                  </a:lnTo>
                  <a:lnTo>
                    <a:pt x="413" y="0"/>
                  </a:lnTo>
                  <a:lnTo>
                    <a:pt x="418" y="0"/>
                  </a:lnTo>
                  <a:lnTo>
                    <a:pt x="423" y="0"/>
                  </a:lnTo>
                  <a:lnTo>
                    <a:pt x="428" y="0"/>
                  </a:lnTo>
                  <a:lnTo>
                    <a:pt x="433" y="0"/>
                  </a:lnTo>
                  <a:lnTo>
                    <a:pt x="439" y="0"/>
                  </a:lnTo>
                  <a:lnTo>
                    <a:pt x="444" y="0"/>
                  </a:lnTo>
                  <a:lnTo>
                    <a:pt x="449" y="0"/>
                  </a:lnTo>
                  <a:lnTo>
                    <a:pt x="454" y="0"/>
                  </a:lnTo>
                  <a:lnTo>
                    <a:pt x="459" y="0"/>
                  </a:lnTo>
                  <a:lnTo>
                    <a:pt x="464" y="0"/>
                  </a:lnTo>
                  <a:lnTo>
                    <a:pt x="469" y="0"/>
                  </a:lnTo>
                  <a:lnTo>
                    <a:pt x="474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9" y="0"/>
                  </a:lnTo>
                  <a:lnTo>
                    <a:pt x="494" y="0"/>
                  </a:lnTo>
                  <a:lnTo>
                    <a:pt x="499" y="0"/>
                  </a:lnTo>
                  <a:lnTo>
                    <a:pt x="504" y="0"/>
                  </a:lnTo>
                  <a:lnTo>
                    <a:pt x="509" y="0"/>
                  </a:lnTo>
                  <a:lnTo>
                    <a:pt x="514" y="0"/>
                  </a:lnTo>
                  <a:lnTo>
                    <a:pt x="519" y="0"/>
                  </a:lnTo>
                  <a:lnTo>
                    <a:pt x="524" y="0"/>
                  </a:lnTo>
                  <a:lnTo>
                    <a:pt x="529" y="0"/>
                  </a:lnTo>
                  <a:lnTo>
                    <a:pt x="534" y="0"/>
                  </a:lnTo>
                  <a:lnTo>
                    <a:pt x="539" y="0"/>
                  </a:lnTo>
                  <a:lnTo>
                    <a:pt x="544" y="0"/>
                  </a:lnTo>
                  <a:lnTo>
                    <a:pt x="549" y="0"/>
                  </a:lnTo>
                  <a:lnTo>
                    <a:pt x="554" y="0"/>
                  </a:lnTo>
                  <a:lnTo>
                    <a:pt x="560" y="0"/>
                  </a:lnTo>
                  <a:lnTo>
                    <a:pt x="565" y="0"/>
                  </a:lnTo>
                  <a:lnTo>
                    <a:pt x="570" y="0"/>
                  </a:lnTo>
                  <a:lnTo>
                    <a:pt x="575" y="0"/>
                  </a:lnTo>
                  <a:lnTo>
                    <a:pt x="580" y="0"/>
                  </a:lnTo>
                  <a:lnTo>
                    <a:pt x="585" y="0"/>
                  </a:lnTo>
                  <a:lnTo>
                    <a:pt x="590" y="0"/>
                  </a:lnTo>
                  <a:lnTo>
                    <a:pt x="595" y="0"/>
                  </a:lnTo>
                  <a:lnTo>
                    <a:pt x="600" y="0"/>
                  </a:lnTo>
                  <a:lnTo>
                    <a:pt x="605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0" y="0"/>
                  </a:lnTo>
                  <a:lnTo>
                    <a:pt x="625" y="0"/>
                  </a:lnTo>
                  <a:lnTo>
                    <a:pt x="630" y="0"/>
                  </a:lnTo>
                  <a:lnTo>
                    <a:pt x="635" y="0"/>
                  </a:lnTo>
                  <a:lnTo>
                    <a:pt x="640" y="0"/>
                  </a:lnTo>
                  <a:lnTo>
                    <a:pt x="645" y="0"/>
                  </a:lnTo>
                  <a:lnTo>
                    <a:pt x="650" y="0"/>
                  </a:lnTo>
                  <a:lnTo>
                    <a:pt x="655" y="0"/>
                  </a:lnTo>
                  <a:lnTo>
                    <a:pt x="660" y="0"/>
                  </a:lnTo>
                  <a:lnTo>
                    <a:pt x="665" y="0"/>
                  </a:lnTo>
                  <a:lnTo>
                    <a:pt x="670" y="0"/>
                  </a:lnTo>
                  <a:lnTo>
                    <a:pt x="675" y="0"/>
                  </a:lnTo>
                  <a:lnTo>
                    <a:pt x="681" y="0"/>
                  </a:lnTo>
                  <a:lnTo>
                    <a:pt x="686" y="0"/>
                  </a:lnTo>
                  <a:lnTo>
                    <a:pt x="691" y="0"/>
                  </a:lnTo>
                  <a:lnTo>
                    <a:pt x="696" y="0"/>
                  </a:lnTo>
                  <a:lnTo>
                    <a:pt x="701" y="0"/>
                  </a:lnTo>
                  <a:lnTo>
                    <a:pt x="706" y="0"/>
                  </a:lnTo>
                  <a:lnTo>
                    <a:pt x="711" y="0"/>
                  </a:lnTo>
                  <a:lnTo>
                    <a:pt x="716" y="0"/>
                  </a:lnTo>
                  <a:lnTo>
                    <a:pt x="721" y="0"/>
                  </a:lnTo>
                  <a:lnTo>
                    <a:pt x="726" y="0"/>
                  </a:lnTo>
                  <a:lnTo>
                    <a:pt x="731" y="0"/>
                  </a:lnTo>
                  <a:lnTo>
                    <a:pt x="736" y="0"/>
                  </a:lnTo>
                  <a:lnTo>
                    <a:pt x="741" y="0"/>
                  </a:lnTo>
                  <a:lnTo>
                    <a:pt x="746" y="0"/>
                  </a:lnTo>
                  <a:lnTo>
                    <a:pt x="751" y="0"/>
                  </a:lnTo>
                  <a:lnTo>
                    <a:pt x="756" y="0"/>
                  </a:lnTo>
                  <a:lnTo>
                    <a:pt x="761" y="0"/>
                  </a:lnTo>
                  <a:lnTo>
                    <a:pt x="766" y="0"/>
                  </a:lnTo>
                  <a:lnTo>
                    <a:pt x="771" y="0"/>
                  </a:lnTo>
                  <a:lnTo>
                    <a:pt x="776" y="0"/>
                  </a:lnTo>
                  <a:lnTo>
                    <a:pt x="781" y="0"/>
                  </a:lnTo>
                  <a:lnTo>
                    <a:pt x="786" y="5"/>
                  </a:lnTo>
                  <a:lnTo>
                    <a:pt x="791" y="5"/>
                  </a:lnTo>
                  <a:lnTo>
                    <a:pt x="796" y="5"/>
                  </a:lnTo>
                  <a:lnTo>
                    <a:pt x="801" y="5"/>
                  </a:lnTo>
                  <a:lnTo>
                    <a:pt x="807" y="5"/>
                  </a:lnTo>
                  <a:lnTo>
                    <a:pt x="812" y="5"/>
                  </a:lnTo>
                  <a:lnTo>
                    <a:pt x="817" y="5"/>
                  </a:lnTo>
                  <a:lnTo>
                    <a:pt x="822" y="5"/>
                  </a:lnTo>
                  <a:lnTo>
                    <a:pt x="827" y="5"/>
                  </a:lnTo>
                  <a:lnTo>
                    <a:pt x="832" y="5"/>
                  </a:lnTo>
                  <a:lnTo>
                    <a:pt x="837" y="5"/>
                  </a:lnTo>
                  <a:lnTo>
                    <a:pt x="842" y="5"/>
                  </a:lnTo>
                  <a:lnTo>
                    <a:pt x="847" y="10"/>
                  </a:lnTo>
                  <a:lnTo>
                    <a:pt x="852" y="10"/>
                  </a:lnTo>
                  <a:lnTo>
                    <a:pt x="857" y="10"/>
                  </a:lnTo>
                  <a:lnTo>
                    <a:pt x="862" y="10"/>
                  </a:lnTo>
                  <a:lnTo>
                    <a:pt x="867" y="10"/>
                  </a:lnTo>
                  <a:lnTo>
                    <a:pt x="872" y="10"/>
                  </a:lnTo>
                  <a:lnTo>
                    <a:pt x="877" y="10"/>
                  </a:lnTo>
                  <a:lnTo>
                    <a:pt x="882" y="15"/>
                  </a:lnTo>
                  <a:lnTo>
                    <a:pt x="887" y="15"/>
                  </a:lnTo>
                  <a:lnTo>
                    <a:pt x="892" y="15"/>
                  </a:lnTo>
                  <a:lnTo>
                    <a:pt x="897" y="15"/>
                  </a:lnTo>
                  <a:lnTo>
                    <a:pt x="902" y="15"/>
                  </a:lnTo>
                  <a:lnTo>
                    <a:pt x="907" y="20"/>
                  </a:lnTo>
                  <a:lnTo>
                    <a:pt x="912" y="20"/>
                  </a:lnTo>
                  <a:lnTo>
                    <a:pt x="917" y="20"/>
                  </a:lnTo>
                  <a:lnTo>
                    <a:pt x="922" y="20"/>
                  </a:lnTo>
                  <a:lnTo>
                    <a:pt x="928" y="25"/>
                  </a:lnTo>
                  <a:lnTo>
                    <a:pt x="933" y="25"/>
                  </a:lnTo>
                  <a:lnTo>
                    <a:pt x="938" y="25"/>
                  </a:lnTo>
                  <a:lnTo>
                    <a:pt x="943" y="30"/>
                  </a:lnTo>
                  <a:lnTo>
                    <a:pt x="948" y="30"/>
                  </a:lnTo>
                  <a:lnTo>
                    <a:pt x="953" y="30"/>
                  </a:lnTo>
                  <a:lnTo>
                    <a:pt x="958" y="30"/>
                  </a:lnTo>
                  <a:lnTo>
                    <a:pt x="963" y="35"/>
                  </a:lnTo>
                  <a:lnTo>
                    <a:pt x="968" y="35"/>
                  </a:lnTo>
                  <a:lnTo>
                    <a:pt x="973" y="40"/>
                  </a:lnTo>
                  <a:lnTo>
                    <a:pt x="978" y="40"/>
                  </a:lnTo>
                  <a:lnTo>
                    <a:pt x="983" y="40"/>
                  </a:lnTo>
                  <a:lnTo>
                    <a:pt x="988" y="46"/>
                  </a:lnTo>
                  <a:lnTo>
                    <a:pt x="993" y="46"/>
                  </a:lnTo>
                  <a:lnTo>
                    <a:pt x="998" y="51"/>
                  </a:lnTo>
                  <a:lnTo>
                    <a:pt x="1003" y="51"/>
                  </a:lnTo>
                  <a:lnTo>
                    <a:pt x="1008" y="51"/>
                  </a:lnTo>
                  <a:lnTo>
                    <a:pt x="1013" y="56"/>
                  </a:lnTo>
                  <a:lnTo>
                    <a:pt x="1018" y="56"/>
                  </a:lnTo>
                  <a:lnTo>
                    <a:pt x="1023" y="61"/>
                  </a:lnTo>
                  <a:lnTo>
                    <a:pt x="1028" y="66"/>
                  </a:lnTo>
                  <a:lnTo>
                    <a:pt x="1033" y="66"/>
                  </a:lnTo>
                  <a:lnTo>
                    <a:pt x="1038" y="66"/>
                  </a:lnTo>
                  <a:lnTo>
                    <a:pt x="1043" y="71"/>
                  </a:lnTo>
                  <a:lnTo>
                    <a:pt x="1049" y="71"/>
                  </a:lnTo>
                  <a:lnTo>
                    <a:pt x="1049" y="76"/>
                  </a:lnTo>
                  <a:lnTo>
                    <a:pt x="1054" y="76"/>
                  </a:lnTo>
                  <a:lnTo>
                    <a:pt x="1059" y="81"/>
                  </a:lnTo>
                  <a:lnTo>
                    <a:pt x="1064" y="81"/>
                  </a:lnTo>
                  <a:lnTo>
                    <a:pt x="1069" y="86"/>
                  </a:lnTo>
                  <a:lnTo>
                    <a:pt x="1074" y="91"/>
                  </a:lnTo>
                  <a:lnTo>
                    <a:pt x="1079" y="91"/>
                  </a:lnTo>
                  <a:lnTo>
                    <a:pt x="1079" y="96"/>
                  </a:lnTo>
                  <a:lnTo>
                    <a:pt x="1084" y="96"/>
                  </a:lnTo>
                  <a:lnTo>
                    <a:pt x="1089" y="101"/>
                  </a:lnTo>
                  <a:lnTo>
                    <a:pt x="1094" y="106"/>
                  </a:lnTo>
                  <a:lnTo>
                    <a:pt x="1099" y="106"/>
                  </a:lnTo>
                  <a:lnTo>
                    <a:pt x="1104" y="111"/>
                  </a:lnTo>
                  <a:lnTo>
                    <a:pt x="1109" y="116"/>
                  </a:lnTo>
                  <a:lnTo>
                    <a:pt x="1114" y="121"/>
                  </a:lnTo>
                  <a:lnTo>
                    <a:pt x="1119" y="126"/>
                  </a:lnTo>
                  <a:lnTo>
                    <a:pt x="1124" y="126"/>
                  </a:lnTo>
                  <a:lnTo>
                    <a:pt x="1129" y="131"/>
                  </a:lnTo>
                  <a:lnTo>
                    <a:pt x="1134" y="136"/>
                  </a:lnTo>
                  <a:lnTo>
                    <a:pt x="1139" y="141"/>
                  </a:lnTo>
                  <a:lnTo>
                    <a:pt x="1144" y="146"/>
                  </a:lnTo>
                  <a:lnTo>
                    <a:pt x="1149" y="151"/>
                  </a:lnTo>
                  <a:lnTo>
                    <a:pt x="1154" y="156"/>
                  </a:lnTo>
                  <a:lnTo>
                    <a:pt x="1159" y="156"/>
                  </a:lnTo>
                  <a:lnTo>
                    <a:pt x="1159" y="161"/>
                  </a:lnTo>
                  <a:lnTo>
                    <a:pt x="1164" y="166"/>
                  </a:lnTo>
                  <a:lnTo>
                    <a:pt x="1169" y="171"/>
                  </a:lnTo>
                  <a:lnTo>
                    <a:pt x="1175" y="177"/>
                  </a:lnTo>
                  <a:lnTo>
                    <a:pt x="1180" y="182"/>
                  </a:lnTo>
                  <a:lnTo>
                    <a:pt x="1185" y="187"/>
                  </a:lnTo>
                  <a:lnTo>
                    <a:pt x="1190" y="192"/>
                  </a:lnTo>
                  <a:lnTo>
                    <a:pt x="1190" y="197"/>
                  </a:lnTo>
                  <a:lnTo>
                    <a:pt x="1195" y="202"/>
                  </a:lnTo>
                  <a:lnTo>
                    <a:pt x="1200" y="207"/>
                  </a:lnTo>
                  <a:lnTo>
                    <a:pt x="1205" y="212"/>
                  </a:lnTo>
                  <a:lnTo>
                    <a:pt x="1210" y="217"/>
                  </a:lnTo>
                  <a:lnTo>
                    <a:pt x="1215" y="222"/>
                  </a:lnTo>
                  <a:lnTo>
                    <a:pt x="1215" y="227"/>
                  </a:lnTo>
                  <a:lnTo>
                    <a:pt x="1220" y="232"/>
                  </a:lnTo>
                  <a:lnTo>
                    <a:pt x="1225" y="237"/>
                  </a:lnTo>
                  <a:lnTo>
                    <a:pt x="1230" y="242"/>
                  </a:lnTo>
                  <a:lnTo>
                    <a:pt x="1235" y="252"/>
                  </a:lnTo>
                  <a:lnTo>
                    <a:pt x="1240" y="257"/>
                  </a:lnTo>
                  <a:lnTo>
                    <a:pt x="1245" y="262"/>
                  </a:lnTo>
                  <a:lnTo>
                    <a:pt x="1245" y="267"/>
                  </a:lnTo>
                  <a:lnTo>
                    <a:pt x="1250" y="272"/>
                  </a:lnTo>
                  <a:lnTo>
                    <a:pt x="1255" y="282"/>
                  </a:lnTo>
                  <a:lnTo>
                    <a:pt x="1260" y="287"/>
                  </a:lnTo>
                  <a:lnTo>
                    <a:pt x="1265" y="292"/>
                  </a:lnTo>
                  <a:lnTo>
                    <a:pt x="1270" y="302"/>
                  </a:lnTo>
                  <a:lnTo>
                    <a:pt x="1275" y="308"/>
                  </a:lnTo>
                  <a:lnTo>
                    <a:pt x="1275" y="318"/>
                  </a:lnTo>
                  <a:lnTo>
                    <a:pt x="1280" y="323"/>
                  </a:lnTo>
                  <a:lnTo>
                    <a:pt x="1285" y="333"/>
                  </a:lnTo>
                  <a:lnTo>
                    <a:pt x="1290" y="338"/>
                  </a:lnTo>
                  <a:lnTo>
                    <a:pt x="1296" y="348"/>
                  </a:lnTo>
                  <a:lnTo>
                    <a:pt x="1301" y="353"/>
                  </a:lnTo>
                  <a:lnTo>
                    <a:pt x="1301" y="363"/>
                  </a:lnTo>
                  <a:lnTo>
                    <a:pt x="1306" y="368"/>
                  </a:lnTo>
                  <a:lnTo>
                    <a:pt x="1311" y="378"/>
                  </a:lnTo>
                  <a:lnTo>
                    <a:pt x="1316" y="388"/>
                  </a:lnTo>
                  <a:lnTo>
                    <a:pt x="1321" y="398"/>
                  </a:lnTo>
                  <a:lnTo>
                    <a:pt x="1326" y="403"/>
                  </a:lnTo>
                  <a:lnTo>
                    <a:pt x="1331" y="413"/>
                  </a:lnTo>
                  <a:lnTo>
                    <a:pt x="1331" y="423"/>
                  </a:lnTo>
                  <a:lnTo>
                    <a:pt x="1336" y="433"/>
                  </a:lnTo>
                  <a:lnTo>
                    <a:pt x="1341" y="444"/>
                  </a:lnTo>
                  <a:lnTo>
                    <a:pt x="1346" y="454"/>
                  </a:lnTo>
                  <a:lnTo>
                    <a:pt x="1351" y="464"/>
                  </a:lnTo>
                  <a:lnTo>
                    <a:pt x="1356" y="474"/>
                  </a:lnTo>
                  <a:lnTo>
                    <a:pt x="1356" y="484"/>
                  </a:lnTo>
                  <a:lnTo>
                    <a:pt x="1361" y="499"/>
                  </a:lnTo>
                  <a:lnTo>
                    <a:pt x="1366" y="509"/>
                  </a:lnTo>
                  <a:lnTo>
                    <a:pt x="1371" y="519"/>
                  </a:lnTo>
                  <a:lnTo>
                    <a:pt x="1376" y="534"/>
                  </a:lnTo>
                  <a:lnTo>
                    <a:pt x="1381" y="544"/>
                  </a:lnTo>
                  <a:lnTo>
                    <a:pt x="1386" y="559"/>
                  </a:lnTo>
                  <a:lnTo>
                    <a:pt x="1386" y="569"/>
                  </a:lnTo>
                  <a:lnTo>
                    <a:pt x="1391" y="585"/>
                  </a:lnTo>
                  <a:lnTo>
                    <a:pt x="1396" y="600"/>
                  </a:lnTo>
                  <a:lnTo>
                    <a:pt x="1401" y="615"/>
                  </a:lnTo>
                  <a:lnTo>
                    <a:pt x="1406" y="630"/>
                  </a:lnTo>
                  <a:lnTo>
                    <a:pt x="1411" y="645"/>
                  </a:lnTo>
                  <a:lnTo>
                    <a:pt x="1411" y="665"/>
                  </a:lnTo>
                  <a:lnTo>
                    <a:pt x="1416" y="680"/>
                  </a:lnTo>
                  <a:lnTo>
                    <a:pt x="1422" y="700"/>
                  </a:lnTo>
                  <a:lnTo>
                    <a:pt x="1427" y="721"/>
                  </a:lnTo>
                  <a:lnTo>
                    <a:pt x="1432" y="741"/>
                  </a:lnTo>
                  <a:lnTo>
                    <a:pt x="1437" y="761"/>
                  </a:lnTo>
                  <a:lnTo>
                    <a:pt x="1442" y="786"/>
                  </a:lnTo>
                  <a:lnTo>
                    <a:pt x="1442" y="811"/>
                  </a:lnTo>
                  <a:lnTo>
                    <a:pt x="1447" y="842"/>
                  </a:lnTo>
                  <a:lnTo>
                    <a:pt x="1452" y="872"/>
                  </a:lnTo>
                  <a:lnTo>
                    <a:pt x="1457" y="912"/>
                  </a:lnTo>
                  <a:lnTo>
                    <a:pt x="1462" y="952"/>
                  </a:lnTo>
                  <a:lnTo>
                    <a:pt x="1467" y="1008"/>
                  </a:lnTo>
                  <a:lnTo>
                    <a:pt x="1467" y="1078"/>
                  </a:lnTo>
                  <a:lnTo>
                    <a:pt x="1472" y="1204"/>
                  </a:lnTo>
                  <a:lnTo>
                    <a:pt x="1477" y="1461"/>
                  </a:lnTo>
                  <a:lnTo>
                    <a:pt x="1482" y="1179"/>
                  </a:lnTo>
                  <a:lnTo>
                    <a:pt x="1487" y="1093"/>
                  </a:lnTo>
                  <a:lnTo>
                    <a:pt x="1492" y="1048"/>
                  </a:lnTo>
                  <a:lnTo>
                    <a:pt x="1497" y="1018"/>
                  </a:lnTo>
                  <a:lnTo>
                    <a:pt x="1497" y="998"/>
                  </a:lnTo>
                  <a:lnTo>
                    <a:pt x="1502" y="978"/>
                  </a:lnTo>
                  <a:lnTo>
                    <a:pt x="1507" y="968"/>
                  </a:lnTo>
                  <a:lnTo>
                    <a:pt x="1512" y="957"/>
                  </a:lnTo>
                  <a:lnTo>
                    <a:pt x="1517" y="952"/>
                  </a:lnTo>
                  <a:lnTo>
                    <a:pt x="1522" y="947"/>
                  </a:lnTo>
                  <a:lnTo>
                    <a:pt x="1527" y="947"/>
                  </a:lnTo>
                  <a:lnTo>
                    <a:pt x="1532" y="947"/>
                  </a:lnTo>
                  <a:lnTo>
                    <a:pt x="1537" y="947"/>
                  </a:lnTo>
                  <a:lnTo>
                    <a:pt x="1543" y="947"/>
                  </a:lnTo>
                  <a:lnTo>
                    <a:pt x="1548" y="952"/>
                  </a:lnTo>
                  <a:lnTo>
                    <a:pt x="1553" y="957"/>
                  </a:lnTo>
                  <a:lnTo>
                    <a:pt x="1553" y="962"/>
                  </a:lnTo>
                  <a:lnTo>
                    <a:pt x="1558" y="962"/>
                  </a:lnTo>
                  <a:lnTo>
                    <a:pt x="1563" y="973"/>
                  </a:lnTo>
                  <a:lnTo>
                    <a:pt x="1568" y="978"/>
                  </a:lnTo>
                  <a:lnTo>
                    <a:pt x="1573" y="983"/>
                  </a:lnTo>
                  <a:lnTo>
                    <a:pt x="1578" y="988"/>
                  </a:lnTo>
                  <a:lnTo>
                    <a:pt x="1583" y="993"/>
                  </a:lnTo>
                  <a:lnTo>
                    <a:pt x="1583" y="1003"/>
                  </a:lnTo>
                  <a:lnTo>
                    <a:pt x="1588" y="1008"/>
                  </a:lnTo>
                  <a:lnTo>
                    <a:pt x="1593" y="1013"/>
                  </a:lnTo>
                  <a:lnTo>
                    <a:pt x="1598" y="1023"/>
                  </a:lnTo>
                  <a:lnTo>
                    <a:pt x="1603" y="1028"/>
                  </a:lnTo>
                  <a:lnTo>
                    <a:pt x="1608" y="1033"/>
                  </a:lnTo>
                  <a:lnTo>
                    <a:pt x="1608" y="1038"/>
                  </a:lnTo>
                  <a:lnTo>
                    <a:pt x="1613" y="1048"/>
                  </a:lnTo>
                  <a:lnTo>
                    <a:pt x="1618" y="1048"/>
                  </a:lnTo>
                  <a:lnTo>
                    <a:pt x="1623" y="1053"/>
                  </a:lnTo>
                  <a:lnTo>
                    <a:pt x="1628" y="1058"/>
                  </a:lnTo>
                  <a:lnTo>
                    <a:pt x="1633" y="1058"/>
                  </a:lnTo>
                  <a:lnTo>
                    <a:pt x="1638" y="1063"/>
                  </a:lnTo>
                  <a:lnTo>
                    <a:pt x="1643" y="1063"/>
                  </a:lnTo>
                  <a:lnTo>
                    <a:pt x="1648" y="1063"/>
                  </a:lnTo>
                  <a:lnTo>
                    <a:pt x="1653" y="1058"/>
                  </a:lnTo>
                  <a:lnTo>
                    <a:pt x="1658" y="1058"/>
                  </a:lnTo>
                  <a:lnTo>
                    <a:pt x="1664" y="1053"/>
                  </a:lnTo>
                  <a:lnTo>
                    <a:pt x="1669" y="1048"/>
                  </a:lnTo>
                  <a:lnTo>
                    <a:pt x="1674" y="1043"/>
                  </a:lnTo>
                  <a:lnTo>
                    <a:pt x="1679" y="1038"/>
                  </a:lnTo>
                  <a:lnTo>
                    <a:pt x="1684" y="1038"/>
                  </a:lnTo>
                  <a:lnTo>
                    <a:pt x="1689" y="1033"/>
                  </a:lnTo>
                  <a:lnTo>
                    <a:pt x="1694" y="1028"/>
                  </a:lnTo>
                  <a:lnTo>
                    <a:pt x="1694" y="1023"/>
                  </a:lnTo>
                  <a:lnTo>
                    <a:pt x="1699" y="1018"/>
                  </a:lnTo>
                  <a:lnTo>
                    <a:pt x="1704" y="1013"/>
                  </a:lnTo>
                  <a:lnTo>
                    <a:pt x="1709" y="1013"/>
                  </a:lnTo>
                  <a:lnTo>
                    <a:pt x="1714" y="1008"/>
                  </a:lnTo>
                  <a:lnTo>
                    <a:pt x="1719" y="1003"/>
                  </a:lnTo>
                  <a:lnTo>
                    <a:pt x="1724" y="998"/>
                  </a:lnTo>
                  <a:lnTo>
                    <a:pt x="1729" y="998"/>
                  </a:lnTo>
                  <a:lnTo>
                    <a:pt x="1734" y="998"/>
                  </a:lnTo>
                  <a:lnTo>
                    <a:pt x="1739" y="993"/>
                  </a:lnTo>
                  <a:lnTo>
                    <a:pt x="1744" y="993"/>
                  </a:lnTo>
                  <a:lnTo>
                    <a:pt x="1749" y="993"/>
                  </a:lnTo>
                  <a:lnTo>
                    <a:pt x="1754" y="993"/>
                  </a:lnTo>
                  <a:lnTo>
                    <a:pt x="1759" y="993"/>
                  </a:lnTo>
                  <a:lnTo>
                    <a:pt x="1764" y="998"/>
                  </a:lnTo>
                  <a:lnTo>
                    <a:pt x="1769" y="998"/>
                  </a:lnTo>
                  <a:lnTo>
                    <a:pt x="1774" y="1003"/>
                  </a:lnTo>
                  <a:lnTo>
                    <a:pt x="1779" y="1003"/>
                  </a:lnTo>
                  <a:lnTo>
                    <a:pt x="1779" y="1008"/>
                  </a:lnTo>
                  <a:lnTo>
                    <a:pt x="1784" y="1013"/>
                  </a:lnTo>
                  <a:lnTo>
                    <a:pt x="1790" y="1018"/>
                  </a:lnTo>
                  <a:lnTo>
                    <a:pt x="1795" y="1023"/>
                  </a:lnTo>
                  <a:lnTo>
                    <a:pt x="1800" y="1033"/>
                  </a:lnTo>
                  <a:lnTo>
                    <a:pt x="1805" y="1043"/>
                  </a:lnTo>
                  <a:lnTo>
                    <a:pt x="1805" y="1048"/>
                  </a:lnTo>
                  <a:lnTo>
                    <a:pt x="1810" y="1063"/>
                  </a:lnTo>
                  <a:lnTo>
                    <a:pt x="1815" y="1073"/>
                  </a:lnTo>
                  <a:lnTo>
                    <a:pt x="1820" y="1088"/>
                  </a:lnTo>
                  <a:lnTo>
                    <a:pt x="1825" y="1109"/>
                  </a:lnTo>
                  <a:lnTo>
                    <a:pt x="1830" y="1129"/>
                  </a:lnTo>
                  <a:lnTo>
                    <a:pt x="1835" y="1154"/>
                  </a:lnTo>
                  <a:lnTo>
                    <a:pt x="1835" y="1189"/>
                  </a:lnTo>
                  <a:lnTo>
                    <a:pt x="1840" y="1235"/>
                  </a:lnTo>
                  <a:lnTo>
                    <a:pt x="1845" y="1295"/>
                  </a:lnTo>
                  <a:lnTo>
                    <a:pt x="1850" y="1416"/>
                  </a:lnTo>
                  <a:lnTo>
                    <a:pt x="1855" y="1622"/>
                  </a:lnTo>
                  <a:lnTo>
                    <a:pt x="1860" y="1355"/>
                  </a:lnTo>
                  <a:lnTo>
                    <a:pt x="1860" y="1265"/>
                  </a:lnTo>
                  <a:lnTo>
                    <a:pt x="1865" y="1209"/>
                  </a:lnTo>
                  <a:lnTo>
                    <a:pt x="1870" y="1169"/>
                  </a:lnTo>
                  <a:lnTo>
                    <a:pt x="1875" y="1134"/>
                  </a:lnTo>
                  <a:lnTo>
                    <a:pt x="1880" y="1109"/>
                  </a:lnTo>
                  <a:lnTo>
                    <a:pt x="1885" y="1088"/>
                  </a:lnTo>
                  <a:lnTo>
                    <a:pt x="1890" y="1068"/>
                  </a:lnTo>
                  <a:lnTo>
                    <a:pt x="1890" y="1053"/>
                  </a:lnTo>
                  <a:lnTo>
                    <a:pt x="1895" y="1038"/>
                  </a:lnTo>
                  <a:lnTo>
                    <a:pt x="1900" y="1028"/>
                  </a:lnTo>
                  <a:lnTo>
                    <a:pt x="1905" y="1013"/>
                  </a:lnTo>
                  <a:lnTo>
                    <a:pt x="1911" y="1003"/>
                  </a:lnTo>
                  <a:lnTo>
                    <a:pt x="1916" y="998"/>
                  </a:lnTo>
                  <a:lnTo>
                    <a:pt x="1916" y="988"/>
                  </a:lnTo>
                  <a:lnTo>
                    <a:pt x="1921" y="983"/>
                  </a:lnTo>
                  <a:lnTo>
                    <a:pt x="1926" y="973"/>
                  </a:lnTo>
                  <a:lnTo>
                    <a:pt x="1931" y="968"/>
                  </a:lnTo>
                  <a:lnTo>
                    <a:pt x="1936" y="962"/>
                  </a:lnTo>
                  <a:lnTo>
                    <a:pt x="1941" y="957"/>
                  </a:lnTo>
                  <a:lnTo>
                    <a:pt x="1946" y="957"/>
                  </a:lnTo>
                  <a:lnTo>
                    <a:pt x="1946" y="952"/>
                  </a:lnTo>
                  <a:lnTo>
                    <a:pt x="1951" y="952"/>
                  </a:lnTo>
                  <a:lnTo>
                    <a:pt x="1956" y="947"/>
                  </a:lnTo>
                  <a:lnTo>
                    <a:pt x="1961" y="947"/>
                  </a:lnTo>
                  <a:lnTo>
                    <a:pt x="1966" y="947"/>
                  </a:lnTo>
                  <a:lnTo>
                    <a:pt x="1971" y="947"/>
                  </a:lnTo>
                  <a:lnTo>
                    <a:pt x="1976" y="947"/>
                  </a:lnTo>
                  <a:lnTo>
                    <a:pt x="1981" y="947"/>
                  </a:lnTo>
                  <a:lnTo>
                    <a:pt x="1986" y="952"/>
                  </a:lnTo>
                  <a:lnTo>
                    <a:pt x="1991" y="952"/>
                  </a:lnTo>
                  <a:lnTo>
                    <a:pt x="1996" y="957"/>
                  </a:lnTo>
                  <a:lnTo>
                    <a:pt x="2001" y="962"/>
                  </a:lnTo>
                  <a:lnTo>
                    <a:pt x="2001" y="968"/>
                  </a:lnTo>
                  <a:lnTo>
                    <a:pt x="2006" y="973"/>
                  </a:lnTo>
                  <a:lnTo>
                    <a:pt x="2011" y="978"/>
                  </a:lnTo>
                  <a:lnTo>
                    <a:pt x="2016" y="983"/>
                  </a:lnTo>
                  <a:lnTo>
                    <a:pt x="2021" y="993"/>
                  </a:lnTo>
                  <a:lnTo>
                    <a:pt x="2026" y="1003"/>
                  </a:lnTo>
                  <a:lnTo>
                    <a:pt x="2026" y="1013"/>
                  </a:lnTo>
                  <a:lnTo>
                    <a:pt x="2032" y="1023"/>
                  </a:lnTo>
                  <a:lnTo>
                    <a:pt x="2037" y="1038"/>
                  </a:lnTo>
                  <a:lnTo>
                    <a:pt x="2042" y="1053"/>
                  </a:lnTo>
                  <a:lnTo>
                    <a:pt x="2047" y="1068"/>
                  </a:lnTo>
                  <a:lnTo>
                    <a:pt x="2052" y="1088"/>
                  </a:lnTo>
                  <a:lnTo>
                    <a:pt x="2057" y="1114"/>
                  </a:lnTo>
                  <a:lnTo>
                    <a:pt x="2057" y="1144"/>
                  </a:lnTo>
                  <a:lnTo>
                    <a:pt x="2062" y="1184"/>
                  </a:lnTo>
                  <a:lnTo>
                    <a:pt x="2067" y="1240"/>
                  </a:lnTo>
                  <a:lnTo>
                    <a:pt x="2072" y="1330"/>
                  </a:lnTo>
                  <a:lnTo>
                    <a:pt x="2077" y="1587"/>
                  </a:lnTo>
                  <a:lnTo>
                    <a:pt x="2082" y="1396"/>
                  </a:lnTo>
                  <a:lnTo>
                    <a:pt x="2087" y="1270"/>
                  </a:lnTo>
                  <a:lnTo>
                    <a:pt x="2087" y="1204"/>
                  </a:lnTo>
                  <a:lnTo>
                    <a:pt x="2092" y="1159"/>
                  </a:lnTo>
                  <a:lnTo>
                    <a:pt x="2097" y="1129"/>
                  </a:lnTo>
                  <a:lnTo>
                    <a:pt x="2102" y="1099"/>
                  </a:lnTo>
                  <a:lnTo>
                    <a:pt x="2107" y="1078"/>
                  </a:lnTo>
                  <a:lnTo>
                    <a:pt x="2112" y="1058"/>
                  </a:lnTo>
                  <a:lnTo>
                    <a:pt x="2112" y="1043"/>
                  </a:lnTo>
                  <a:lnTo>
                    <a:pt x="2117" y="1028"/>
                  </a:lnTo>
                  <a:lnTo>
                    <a:pt x="2122" y="1013"/>
                  </a:lnTo>
                  <a:lnTo>
                    <a:pt x="2127" y="1003"/>
                  </a:lnTo>
                  <a:lnTo>
                    <a:pt x="2132" y="993"/>
                  </a:lnTo>
                  <a:lnTo>
                    <a:pt x="2137" y="983"/>
                  </a:lnTo>
                  <a:lnTo>
                    <a:pt x="2142" y="978"/>
                  </a:lnTo>
                  <a:lnTo>
                    <a:pt x="2142" y="973"/>
                  </a:lnTo>
                  <a:lnTo>
                    <a:pt x="2147" y="962"/>
                  </a:lnTo>
                  <a:lnTo>
                    <a:pt x="2152" y="957"/>
                  </a:lnTo>
                  <a:lnTo>
                    <a:pt x="2158" y="952"/>
                  </a:lnTo>
                  <a:lnTo>
                    <a:pt x="2163" y="952"/>
                  </a:lnTo>
                  <a:lnTo>
                    <a:pt x="2168" y="947"/>
                  </a:lnTo>
                  <a:lnTo>
                    <a:pt x="2173" y="942"/>
                  </a:lnTo>
                  <a:lnTo>
                    <a:pt x="2178" y="942"/>
                  </a:lnTo>
                  <a:lnTo>
                    <a:pt x="2183" y="942"/>
                  </a:lnTo>
                </a:path>
              </a:pathLst>
            </a:custGeom>
            <a:noFill/>
            <a:ln cap="rnd" w="25560">
              <a:solidFill>
                <a:srgbClr val="00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5416560" y="3067200"/>
              <a:ext cx="3467160" cy="2744640"/>
            </a:xfrm>
            <a:custGeom>
              <a:avLst/>
              <a:gdLst/>
              <a:ahLst/>
              <a:rect l="l" t="t" r="r" b="b"/>
              <a:pathLst>
                <a:path w="2184" h="1729">
                  <a:moveTo>
                    <a:pt x="0" y="0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76" y="0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6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6" y="0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61" y="0"/>
                  </a:lnTo>
                  <a:lnTo>
                    <a:pt x="166" y="0"/>
                  </a:lnTo>
                  <a:lnTo>
                    <a:pt x="171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7" y="0"/>
                  </a:lnTo>
                  <a:lnTo>
                    <a:pt x="202" y="0"/>
                  </a:lnTo>
                  <a:lnTo>
                    <a:pt x="207" y="0"/>
                  </a:lnTo>
                  <a:lnTo>
                    <a:pt x="212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lnTo>
                    <a:pt x="232" y="0"/>
                  </a:lnTo>
                  <a:lnTo>
                    <a:pt x="237" y="0"/>
                  </a:lnTo>
                  <a:lnTo>
                    <a:pt x="242" y="0"/>
                  </a:lnTo>
                  <a:lnTo>
                    <a:pt x="247" y="0"/>
                  </a:lnTo>
                  <a:lnTo>
                    <a:pt x="252" y="0"/>
                  </a:lnTo>
                  <a:lnTo>
                    <a:pt x="257" y="0"/>
                  </a:lnTo>
                  <a:lnTo>
                    <a:pt x="262" y="0"/>
                  </a:lnTo>
                  <a:lnTo>
                    <a:pt x="267" y="0"/>
                  </a:lnTo>
                  <a:lnTo>
                    <a:pt x="272" y="0"/>
                  </a:lnTo>
                  <a:lnTo>
                    <a:pt x="277" y="0"/>
                  </a:lnTo>
                  <a:lnTo>
                    <a:pt x="282" y="0"/>
                  </a:lnTo>
                  <a:lnTo>
                    <a:pt x="287" y="0"/>
                  </a:lnTo>
                  <a:lnTo>
                    <a:pt x="292" y="0"/>
                  </a:lnTo>
                  <a:lnTo>
                    <a:pt x="297" y="0"/>
                  </a:lnTo>
                  <a:lnTo>
                    <a:pt x="302" y="0"/>
                  </a:lnTo>
                  <a:lnTo>
                    <a:pt x="307" y="0"/>
                  </a:lnTo>
                  <a:lnTo>
                    <a:pt x="313" y="0"/>
                  </a:lnTo>
                  <a:lnTo>
                    <a:pt x="318" y="0"/>
                  </a:lnTo>
                  <a:lnTo>
                    <a:pt x="323" y="0"/>
                  </a:lnTo>
                  <a:lnTo>
                    <a:pt x="328" y="0"/>
                  </a:lnTo>
                  <a:lnTo>
                    <a:pt x="333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8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3" y="0"/>
                  </a:lnTo>
                  <a:lnTo>
                    <a:pt x="378" y="0"/>
                  </a:lnTo>
                  <a:lnTo>
                    <a:pt x="383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398" y="0"/>
                  </a:lnTo>
                  <a:lnTo>
                    <a:pt x="403" y="0"/>
                  </a:lnTo>
                  <a:lnTo>
                    <a:pt x="408" y="0"/>
                  </a:lnTo>
                  <a:lnTo>
                    <a:pt x="413" y="0"/>
                  </a:lnTo>
                  <a:lnTo>
                    <a:pt x="418" y="0"/>
                  </a:lnTo>
                  <a:lnTo>
                    <a:pt x="423" y="0"/>
                  </a:lnTo>
                  <a:lnTo>
                    <a:pt x="428" y="0"/>
                  </a:lnTo>
                  <a:lnTo>
                    <a:pt x="433" y="0"/>
                  </a:lnTo>
                  <a:lnTo>
                    <a:pt x="439" y="0"/>
                  </a:lnTo>
                  <a:lnTo>
                    <a:pt x="444" y="0"/>
                  </a:lnTo>
                  <a:lnTo>
                    <a:pt x="449" y="0"/>
                  </a:lnTo>
                  <a:lnTo>
                    <a:pt x="454" y="0"/>
                  </a:lnTo>
                  <a:lnTo>
                    <a:pt x="459" y="0"/>
                  </a:lnTo>
                  <a:lnTo>
                    <a:pt x="464" y="0"/>
                  </a:lnTo>
                  <a:lnTo>
                    <a:pt x="469" y="0"/>
                  </a:lnTo>
                  <a:lnTo>
                    <a:pt x="474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9" y="0"/>
                  </a:lnTo>
                  <a:lnTo>
                    <a:pt x="494" y="0"/>
                  </a:lnTo>
                  <a:lnTo>
                    <a:pt x="499" y="0"/>
                  </a:lnTo>
                  <a:lnTo>
                    <a:pt x="504" y="0"/>
                  </a:lnTo>
                  <a:lnTo>
                    <a:pt x="509" y="0"/>
                  </a:lnTo>
                  <a:lnTo>
                    <a:pt x="514" y="0"/>
                  </a:lnTo>
                  <a:lnTo>
                    <a:pt x="519" y="0"/>
                  </a:lnTo>
                  <a:lnTo>
                    <a:pt x="524" y="0"/>
                  </a:lnTo>
                  <a:lnTo>
                    <a:pt x="529" y="0"/>
                  </a:lnTo>
                  <a:lnTo>
                    <a:pt x="534" y="0"/>
                  </a:lnTo>
                  <a:lnTo>
                    <a:pt x="539" y="0"/>
                  </a:lnTo>
                  <a:lnTo>
                    <a:pt x="544" y="0"/>
                  </a:lnTo>
                  <a:lnTo>
                    <a:pt x="549" y="0"/>
                  </a:lnTo>
                  <a:lnTo>
                    <a:pt x="554" y="0"/>
                  </a:lnTo>
                  <a:lnTo>
                    <a:pt x="560" y="0"/>
                  </a:lnTo>
                  <a:lnTo>
                    <a:pt x="565" y="0"/>
                  </a:lnTo>
                  <a:lnTo>
                    <a:pt x="570" y="0"/>
                  </a:lnTo>
                  <a:lnTo>
                    <a:pt x="575" y="0"/>
                  </a:lnTo>
                  <a:lnTo>
                    <a:pt x="580" y="0"/>
                  </a:lnTo>
                  <a:lnTo>
                    <a:pt x="585" y="0"/>
                  </a:lnTo>
                  <a:lnTo>
                    <a:pt x="590" y="0"/>
                  </a:lnTo>
                  <a:lnTo>
                    <a:pt x="595" y="0"/>
                  </a:lnTo>
                  <a:lnTo>
                    <a:pt x="600" y="0"/>
                  </a:lnTo>
                  <a:lnTo>
                    <a:pt x="605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0" y="0"/>
                  </a:lnTo>
                  <a:lnTo>
                    <a:pt x="625" y="0"/>
                  </a:lnTo>
                  <a:lnTo>
                    <a:pt x="630" y="0"/>
                  </a:lnTo>
                  <a:lnTo>
                    <a:pt x="635" y="0"/>
                  </a:lnTo>
                  <a:lnTo>
                    <a:pt x="640" y="0"/>
                  </a:lnTo>
                  <a:lnTo>
                    <a:pt x="645" y="0"/>
                  </a:lnTo>
                  <a:lnTo>
                    <a:pt x="650" y="0"/>
                  </a:lnTo>
                  <a:lnTo>
                    <a:pt x="655" y="0"/>
                  </a:lnTo>
                  <a:lnTo>
                    <a:pt x="660" y="0"/>
                  </a:lnTo>
                  <a:lnTo>
                    <a:pt x="665" y="0"/>
                  </a:lnTo>
                  <a:lnTo>
                    <a:pt x="670" y="0"/>
                  </a:lnTo>
                  <a:lnTo>
                    <a:pt x="675" y="0"/>
                  </a:lnTo>
                  <a:lnTo>
                    <a:pt x="681" y="0"/>
                  </a:lnTo>
                  <a:lnTo>
                    <a:pt x="686" y="0"/>
                  </a:lnTo>
                  <a:lnTo>
                    <a:pt x="691" y="0"/>
                  </a:lnTo>
                  <a:lnTo>
                    <a:pt x="696" y="0"/>
                  </a:lnTo>
                  <a:lnTo>
                    <a:pt x="701" y="0"/>
                  </a:lnTo>
                  <a:lnTo>
                    <a:pt x="706" y="0"/>
                  </a:lnTo>
                  <a:lnTo>
                    <a:pt x="711" y="0"/>
                  </a:lnTo>
                  <a:lnTo>
                    <a:pt x="716" y="0"/>
                  </a:lnTo>
                  <a:lnTo>
                    <a:pt x="721" y="0"/>
                  </a:lnTo>
                  <a:lnTo>
                    <a:pt x="726" y="0"/>
                  </a:lnTo>
                  <a:lnTo>
                    <a:pt x="731" y="0"/>
                  </a:lnTo>
                  <a:lnTo>
                    <a:pt x="736" y="0"/>
                  </a:lnTo>
                  <a:lnTo>
                    <a:pt x="741" y="0"/>
                  </a:lnTo>
                  <a:lnTo>
                    <a:pt x="746" y="0"/>
                  </a:lnTo>
                  <a:lnTo>
                    <a:pt x="751" y="0"/>
                  </a:lnTo>
                  <a:lnTo>
                    <a:pt x="756" y="0"/>
                  </a:lnTo>
                  <a:lnTo>
                    <a:pt x="761" y="0"/>
                  </a:lnTo>
                  <a:lnTo>
                    <a:pt x="766" y="0"/>
                  </a:lnTo>
                  <a:lnTo>
                    <a:pt x="771" y="0"/>
                  </a:lnTo>
                  <a:lnTo>
                    <a:pt x="776" y="0"/>
                  </a:lnTo>
                  <a:lnTo>
                    <a:pt x="781" y="0"/>
                  </a:lnTo>
                  <a:lnTo>
                    <a:pt x="786" y="0"/>
                  </a:lnTo>
                  <a:lnTo>
                    <a:pt x="791" y="0"/>
                  </a:lnTo>
                  <a:lnTo>
                    <a:pt x="796" y="5"/>
                  </a:lnTo>
                  <a:lnTo>
                    <a:pt x="801" y="5"/>
                  </a:lnTo>
                  <a:lnTo>
                    <a:pt x="807" y="5"/>
                  </a:lnTo>
                  <a:lnTo>
                    <a:pt x="812" y="5"/>
                  </a:lnTo>
                  <a:lnTo>
                    <a:pt x="817" y="5"/>
                  </a:lnTo>
                  <a:lnTo>
                    <a:pt x="822" y="5"/>
                  </a:lnTo>
                  <a:lnTo>
                    <a:pt x="827" y="5"/>
                  </a:lnTo>
                  <a:lnTo>
                    <a:pt x="832" y="5"/>
                  </a:lnTo>
                  <a:lnTo>
                    <a:pt x="837" y="5"/>
                  </a:lnTo>
                  <a:lnTo>
                    <a:pt x="842" y="5"/>
                  </a:lnTo>
                  <a:lnTo>
                    <a:pt x="847" y="5"/>
                  </a:lnTo>
                  <a:lnTo>
                    <a:pt x="852" y="10"/>
                  </a:lnTo>
                  <a:lnTo>
                    <a:pt x="857" y="10"/>
                  </a:lnTo>
                  <a:lnTo>
                    <a:pt x="862" y="10"/>
                  </a:lnTo>
                  <a:lnTo>
                    <a:pt x="867" y="10"/>
                  </a:lnTo>
                  <a:lnTo>
                    <a:pt x="872" y="10"/>
                  </a:lnTo>
                  <a:lnTo>
                    <a:pt x="877" y="10"/>
                  </a:lnTo>
                  <a:lnTo>
                    <a:pt x="882" y="10"/>
                  </a:lnTo>
                  <a:lnTo>
                    <a:pt x="882" y="15"/>
                  </a:lnTo>
                  <a:lnTo>
                    <a:pt x="887" y="15"/>
                  </a:lnTo>
                  <a:lnTo>
                    <a:pt x="892" y="15"/>
                  </a:lnTo>
                  <a:lnTo>
                    <a:pt x="897" y="15"/>
                  </a:lnTo>
                  <a:lnTo>
                    <a:pt x="902" y="15"/>
                  </a:lnTo>
                  <a:lnTo>
                    <a:pt x="907" y="20"/>
                  </a:lnTo>
                  <a:lnTo>
                    <a:pt x="912" y="20"/>
                  </a:lnTo>
                  <a:lnTo>
                    <a:pt x="917" y="20"/>
                  </a:lnTo>
                  <a:lnTo>
                    <a:pt x="922" y="20"/>
                  </a:lnTo>
                  <a:lnTo>
                    <a:pt x="928" y="25"/>
                  </a:lnTo>
                  <a:lnTo>
                    <a:pt x="933" y="25"/>
                  </a:lnTo>
                  <a:lnTo>
                    <a:pt x="938" y="25"/>
                  </a:lnTo>
                  <a:lnTo>
                    <a:pt x="943" y="30"/>
                  </a:lnTo>
                  <a:lnTo>
                    <a:pt x="948" y="30"/>
                  </a:lnTo>
                  <a:lnTo>
                    <a:pt x="953" y="30"/>
                  </a:lnTo>
                  <a:lnTo>
                    <a:pt x="958" y="30"/>
                  </a:lnTo>
                  <a:lnTo>
                    <a:pt x="963" y="35"/>
                  </a:lnTo>
                  <a:lnTo>
                    <a:pt x="968" y="35"/>
                  </a:lnTo>
                  <a:lnTo>
                    <a:pt x="973" y="40"/>
                  </a:lnTo>
                  <a:lnTo>
                    <a:pt x="978" y="40"/>
                  </a:lnTo>
                  <a:lnTo>
                    <a:pt x="983" y="40"/>
                  </a:lnTo>
                  <a:lnTo>
                    <a:pt x="988" y="46"/>
                  </a:lnTo>
                  <a:lnTo>
                    <a:pt x="993" y="46"/>
                  </a:lnTo>
                  <a:lnTo>
                    <a:pt x="998" y="51"/>
                  </a:lnTo>
                  <a:lnTo>
                    <a:pt x="1003" y="51"/>
                  </a:lnTo>
                  <a:lnTo>
                    <a:pt x="1008" y="51"/>
                  </a:lnTo>
                  <a:lnTo>
                    <a:pt x="1013" y="56"/>
                  </a:lnTo>
                  <a:lnTo>
                    <a:pt x="1018" y="56"/>
                  </a:lnTo>
                  <a:lnTo>
                    <a:pt x="1023" y="61"/>
                  </a:lnTo>
                  <a:lnTo>
                    <a:pt x="1028" y="66"/>
                  </a:lnTo>
                  <a:lnTo>
                    <a:pt x="1033" y="66"/>
                  </a:lnTo>
                  <a:lnTo>
                    <a:pt x="1038" y="66"/>
                  </a:lnTo>
                  <a:lnTo>
                    <a:pt x="1043" y="71"/>
                  </a:lnTo>
                  <a:lnTo>
                    <a:pt x="1049" y="71"/>
                  </a:lnTo>
                  <a:lnTo>
                    <a:pt x="1049" y="76"/>
                  </a:lnTo>
                  <a:lnTo>
                    <a:pt x="1054" y="76"/>
                  </a:lnTo>
                  <a:lnTo>
                    <a:pt x="1059" y="81"/>
                  </a:lnTo>
                  <a:lnTo>
                    <a:pt x="1064" y="86"/>
                  </a:lnTo>
                  <a:lnTo>
                    <a:pt x="1069" y="86"/>
                  </a:lnTo>
                  <a:lnTo>
                    <a:pt x="1074" y="91"/>
                  </a:lnTo>
                  <a:lnTo>
                    <a:pt x="1079" y="91"/>
                  </a:lnTo>
                  <a:lnTo>
                    <a:pt x="1079" y="96"/>
                  </a:lnTo>
                  <a:lnTo>
                    <a:pt x="1084" y="96"/>
                  </a:lnTo>
                  <a:lnTo>
                    <a:pt x="1089" y="101"/>
                  </a:lnTo>
                  <a:lnTo>
                    <a:pt x="1094" y="106"/>
                  </a:lnTo>
                  <a:lnTo>
                    <a:pt x="1099" y="106"/>
                  </a:lnTo>
                  <a:lnTo>
                    <a:pt x="1104" y="111"/>
                  </a:lnTo>
                  <a:lnTo>
                    <a:pt x="1104" y="116"/>
                  </a:lnTo>
                  <a:lnTo>
                    <a:pt x="1109" y="116"/>
                  </a:lnTo>
                  <a:lnTo>
                    <a:pt x="1114" y="121"/>
                  </a:lnTo>
                  <a:lnTo>
                    <a:pt x="1119" y="126"/>
                  </a:lnTo>
                  <a:lnTo>
                    <a:pt x="1124" y="126"/>
                  </a:lnTo>
                  <a:lnTo>
                    <a:pt x="1129" y="131"/>
                  </a:lnTo>
                  <a:lnTo>
                    <a:pt x="1134" y="136"/>
                  </a:lnTo>
                  <a:lnTo>
                    <a:pt x="1134" y="141"/>
                  </a:lnTo>
                  <a:lnTo>
                    <a:pt x="1139" y="146"/>
                  </a:lnTo>
                  <a:lnTo>
                    <a:pt x="1144" y="146"/>
                  </a:lnTo>
                  <a:lnTo>
                    <a:pt x="1149" y="151"/>
                  </a:lnTo>
                  <a:lnTo>
                    <a:pt x="1154" y="156"/>
                  </a:lnTo>
                  <a:lnTo>
                    <a:pt x="1159" y="161"/>
                  </a:lnTo>
                  <a:lnTo>
                    <a:pt x="1159" y="166"/>
                  </a:lnTo>
                  <a:lnTo>
                    <a:pt x="1164" y="171"/>
                  </a:lnTo>
                  <a:lnTo>
                    <a:pt x="1169" y="177"/>
                  </a:lnTo>
                  <a:lnTo>
                    <a:pt x="1175" y="177"/>
                  </a:lnTo>
                  <a:lnTo>
                    <a:pt x="1180" y="182"/>
                  </a:lnTo>
                  <a:lnTo>
                    <a:pt x="1185" y="187"/>
                  </a:lnTo>
                  <a:lnTo>
                    <a:pt x="1190" y="192"/>
                  </a:lnTo>
                  <a:lnTo>
                    <a:pt x="1190" y="197"/>
                  </a:lnTo>
                  <a:lnTo>
                    <a:pt x="1195" y="202"/>
                  </a:lnTo>
                  <a:lnTo>
                    <a:pt x="1200" y="207"/>
                  </a:lnTo>
                  <a:lnTo>
                    <a:pt x="1205" y="217"/>
                  </a:lnTo>
                  <a:lnTo>
                    <a:pt x="1210" y="222"/>
                  </a:lnTo>
                  <a:lnTo>
                    <a:pt x="1215" y="227"/>
                  </a:lnTo>
                  <a:lnTo>
                    <a:pt x="1215" y="232"/>
                  </a:lnTo>
                  <a:lnTo>
                    <a:pt x="1220" y="237"/>
                  </a:lnTo>
                  <a:lnTo>
                    <a:pt x="1225" y="242"/>
                  </a:lnTo>
                  <a:lnTo>
                    <a:pt x="1230" y="247"/>
                  </a:lnTo>
                  <a:lnTo>
                    <a:pt x="1235" y="257"/>
                  </a:lnTo>
                  <a:lnTo>
                    <a:pt x="1240" y="262"/>
                  </a:lnTo>
                  <a:lnTo>
                    <a:pt x="1245" y="267"/>
                  </a:lnTo>
                  <a:lnTo>
                    <a:pt x="1245" y="277"/>
                  </a:lnTo>
                  <a:lnTo>
                    <a:pt x="1250" y="282"/>
                  </a:lnTo>
                  <a:lnTo>
                    <a:pt x="1255" y="287"/>
                  </a:lnTo>
                  <a:lnTo>
                    <a:pt x="1260" y="297"/>
                  </a:lnTo>
                  <a:lnTo>
                    <a:pt x="1265" y="302"/>
                  </a:lnTo>
                  <a:lnTo>
                    <a:pt x="1270" y="313"/>
                  </a:lnTo>
                  <a:lnTo>
                    <a:pt x="1275" y="318"/>
                  </a:lnTo>
                  <a:lnTo>
                    <a:pt x="1275" y="328"/>
                  </a:lnTo>
                  <a:lnTo>
                    <a:pt x="1280" y="333"/>
                  </a:lnTo>
                  <a:lnTo>
                    <a:pt x="1285" y="343"/>
                  </a:lnTo>
                  <a:lnTo>
                    <a:pt x="1290" y="353"/>
                  </a:lnTo>
                  <a:lnTo>
                    <a:pt x="1296" y="358"/>
                  </a:lnTo>
                  <a:lnTo>
                    <a:pt x="1301" y="368"/>
                  </a:lnTo>
                  <a:lnTo>
                    <a:pt x="1301" y="378"/>
                  </a:lnTo>
                  <a:lnTo>
                    <a:pt x="1306" y="388"/>
                  </a:lnTo>
                  <a:lnTo>
                    <a:pt x="1311" y="398"/>
                  </a:lnTo>
                  <a:lnTo>
                    <a:pt x="1316" y="408"/>
                  </a:lnTo>
                  <a:lnTo>
                    <a:pt x="1321" y="418"/>
                  </a:lnTo>
                  <a:lnTo>
                    <a:pt x="1326" y="428"/>
                  </a:lnTo>
                  <a:lnTo>
                    <a:pt x="1331" y="439"/>
                  </a:lnTo>
                  <a:lnTo>
                    <a:pt x="1331" y="449"/>
                  </a:lnTo>
                  <a:lnTo>
                    <a:pt x="1336" y="459"/>
                  </a:lnTo>
                  <a:lnTo>
                    <a:pt x="1341" y="474"/>
                  </a:lnTo>
                  <a:lnTo>
                    <a:pt x="1346" y="484"/>
                  </a:lnTo>
                  <a:lnTo>
                    <a:pt x="1351" y="499"/>
                  </a:lnTo>
                  <a:lnTo>
                    <a:pt x="1356" y="514"/>
                  </a:lnTo>
                  <a:lnTo>
                    <a:pt x="1356" y="524"/>
                  </a:lnTo>
                  <a:lnTo>
                    <a:pt x="1361" y="539"/>
                  </a:lnTo>
                  <a:lnTo>
                    <a:pt x="1366" y="554"/>
                  </a:lnTo>
                  <a:lnTo>
                    <a:pt x="1371" y="575"/>
                  </a:lnTo>
                  <a:lnTo>
                    <a:pt x="1376" y="590"/>
                  </a:lnTo>
                  <a:lnTo>
                    <a:pt x="1381" y="610"/>
                  </a:lnTo>
                  <a:lnTo>
                    <a:pt x="1386" y="630"/>
                  </a:lnTo>
                  <a:lnTo>
                    <a:pt x="1386" y="650"/>
                  </a:lnTo>
                  <a:lnTo>
                    <a:pt x="1391" y="675"/>
                  </a:lnTo>
                  <a:lnTo>
                    <a:pt x="1396" y="700"/>
                  </a:lnTo>
                  <a:lnTo>
                    <a:pt x="1401" y="731"/>
                  </a:lnTo>
                  <a:lnTo>
                    <a:pt x="1406" y="766"/>
                  </a:lnTo>
                  <a:lnTo>
                    <a:pt x="1411" y="806"/>
                  </a:lnTo>
                  <a:lnTo>
                    <a:pt x="1411" y="857"/>
                  </a:lnTo>
                  <a:lnTo>
                    <a:pt x="1416" y="922"/>
                  </a:lnTo>
                  <a:lnTo>
                    <a:pt x="1422" y="1038"/>
                  </a:lnTo>
                  <a:lnTo>
                    <a:pt x="1427" y="1431"/>
                  </a:lnTo>
                  <a:lnTo>
                    <a:pt x="1432" y="1033"/>
                  </a:lnTo>
                  <a:lnTo>
                    <a:pt x="1437" y="942"/>
                  </a:lnTo>
                  <a:lnTo>
                    <a:pt x="1442" y="892"/>
                  </a:lnTo>
                  <a:lnTo>
                    <a:pt x="1442" y="857"/>
                  </a:lnTo>
                  <a:lnTo>
                    <a:pt x="1447" y="831"/>
                  </a:lnTo>
                  <a:lnTo>
                    <a:pt x="1452" y="811"/>
                  </a:lnTo>
                  <a:lnTo>
                    <a:pt x="1457" y="796"/>
                  </a:lnTo>
                  <a:lnTo>
                    <a:pt x="1462" y="786"/>
                  </a:lnTo>
                  <a:lnTo>
                    <a:pt x="1467" y="776"/>
                  </a:lnTo>
                  <a:lnTo>
                    <a:pt x="1467" y="771"/>
                  </a:lnTo>
                  <a:lnTo>
                    <a:pt x="1472" y="766"/>
                  </a:lnTo>
                  <a:lnTo>
                    <a:pt x="1477" y="761"/>
                  </a:lnTo>
                  <a:lnTo>
                    <a:pt x="1482" y="756"/>
                  </a:lnTo>
                  <a:lnTo>
                    <a:pt x="1487" y="756"/>
                  </a:lnTo>
                  <a:lnTo>
                    <a:pt x="1492" y="756"/>
                  </a:lnTo>
                  <a:lnTo>
                    <a:pt x="1497" y="756"/>
                  </a:lnTo>
                  <a:lnTo>
                    <a:pt x="1502" y="761"/>
                  </a:lnTo>
                  <a:lnTo>
                    <a:pt x="1507" y="761"/>
                  </a:lnTo>
                  <a:lnTo>
                    <a:pt x="1512" y="766"/>
                  </a:lnTo>
                  <a:lnTo>
                    <a:pt x="1517" y="771"/>
                  </a:lnTo>
                  <a:lnTo>
                    <a:pt x="1522" y="776"/>
                  </a:lnTo>
                  <a:lnTo>
                    <a:pt x="1527" y="781"/>
                  </a:lnTo>
                  <a:lnTo>
                    <a:pt x="1527" y="786"/>
                  </a:lnTo>
                  <a:lnTo>
                    <a:pt x="1532" y="791"/>
                  </a:lnTo>
                  <a:lnTo>
                    <a:pt x="1537" y="801"/>
                  </a:lnTo>
                  <a:lnTo>
                    <a:pt x="1543" y="811"/>
                  </a:lnTo>
                  <a:lnTo>
                    <a:pt x="1548" y="816"/>
                  </a:lnTo>
                  <a:lnTo>
                    <a:pt x="1553" y="831"/>
                  </a:lnTo>
                  <a:lnTo>
                    <a:pt x="1553" y="842"/>
                  </a:lnTo>
                  <a:lnTo>
                    <a:pt x="1558" y="852"/>
                  </a:lnTo>
                  <a:lnTo>
                    <a:pt x="1563" y="867"/>
                  </a:lnTo>
                  <a:lnTo>
                    <a:pt x="1568" y="882"/>
                  </a:lnTo>
                  <a:lnTo>
                    <a:pt x="1573" y="897"/>
                  </a:lnTo>
                  <a:lnTo>
                    <a:pt x="1578" y="917"/>
                  </a:lnTo>
                  <a:lnTo>
                    <a:pt x="1583" y="937"/>
                  </a:lnTo>
                  <a:lnTo>
                    <a:pt x="1583" y="957"/>
                  </a:lnTo>
                  <a:lnTo>
                    <a:pt x="1588" y="983"/>
                  </a:lnTo>
                  <a:lnTo>
                    <a:pt x="1593" y="1018"/>
                  </a:lnTo>
                  <a:lnTo>
                    <a:pt x="1598" y="1053"/>
                  </a:lnTo>
                  <a:lnTo>
                    <a:pt x="1603" y="1104"/>
                  </a:lnTo>
                  <a:lnTo>
                    <a:pt x="1608" y="1174"/>
                  </a:lnTo>
                  <a:lnTo>
                    <a:pt x="1608" y="1305"/>
                  </a:lnTo>
                  <a:lnTo>
                    <a:pt x="1613" y="1476"/>
                  </a:lnTo>
                  <a:lnTo>
                    <a:pt x="1618" y="1240"/>
                  </a:lnTo>
                  <a:lnTo>
                    <a:pt x="1623" y="1154"/>
                  </a:lnTo>
                  <a:lnTo>
                    <a:pt x="1628" y="1104"/>
                  </a:lnTo>
                  <a:lnTo>
                    <a:pt x="1633" y="1068"/>
                  </a:lnTo>
                  <a:lnTo>
                    <a:pt x="1638" y="1043"/>
                  </a:lnTo>
                  <a:lnTo>
                    <a:pt x="1638" y="1023"/>
                  </a:lnTo>
                  <a:lnTo>
                    <a:pt x="1643" y="1003"/>
                  </a:lnTo>
                  <a:lnTo>
                    <a:pt x="1648" y="993"/>
                  </a:lnTo>
                  <a:lnTo>
                    <a:pt x="1653" y="983"/>
                  </a:lnTo>
                  <a:lnTo>
                    <a:pt x="1658" y="973"/>
                  </a:lnTo>
                  <a:lnTo>
                    <a:pt x="1664" y="962"/>
                  </a:lnTo>
                  <a:lnTo>
                    <a:pt x="1664" y="957"/>
                  </a:lnTo>
                  <a:lnTo>
                    <a:pt x="1669" y="952"/>
                  </a:lnTo>
                  <a:lnTo>
                    <a:pt x="1674" y="947"/>
                  </a:lnTo>
                  <a:lnTo>
                    <a:pt x="1679" y="947"/>
                  </a:lnTo>
                  <a:lnTo>
                    <a:pt x="1684" y="942"/>
                  </a:lnTo>
                  <a:lnTo>
                    <a:pt x="1689" y="942"/>
                  </a:lnTo>
                  <a:lnTo>
                    <a:pt x="1694" y="942"/>
                  </a:lnTo>
                  <a:lnTo>
                    <a:pt x="1699" y="947"/>
                  </a:lnTo>
                  <a:lnTo>
                    <a:pt x="1704" y="947"/>
                  </a:lnTo>
                  <a:lnTo>
                    <a:pt x="1709" y="952"/>
                  </a:lnTo>
                  <a:lnTo>
                    <a:pt x="1714" y="952"/>
                  </a:lnTo>
                  <a:lnTo>
                    <a:pt x="1719" y="957"/>
                  </a:lnTo>
                  <a:lnTo>
                    <a:pt x="1719" y="962"/>
                  </a:lnTo>
                  <a:lnTo>
                    <a:pt x="1724" y="968"/>
                  </a:lnTo>
                  <a:lnTo>
                    <a:pt x="1729" y="978"/>
                  </a:lnTo>
                  <a:lnTo>
                    <a:pt x="1734" y="983"/>
                  </a:lnTo>
                  <a:lnTo>
                    <a:pt x="1739" y="988"/>
                  </a:lnTo>
                  <a:lnTo>
                    <a:pt x="1744" y="998"/>
                  </a:lnTo>
                  <a:lnTo>
                    <a:pt x="1749" y="1008"/>
                  </a:lnTo>
                  <a:lnTo>
                    <a:pt x="1749" y="1018"/>
                  </a:lnTo>
                  <a:lnTo>
                    <a:pt x="1754" y="1033"/>
                  </a:lnTo>
                  <a:lnTo>
                    <a:pt x="1759" y="1043"/>
                  </a:lnTo>
                  <a:lnTo>
                    <a:pt x="1764" y="1058"/>
                  </a:lnTo>
                  <a:lnTo>
                    <a:pt x="1769" y="1073"/>
                  </a:lnTo>
                  <a:lnTo>
                    <a:pt x="1774" y="1093"/>
                  </a:lnTo>
                  <a:lnTo>
                    <a:pt x="1779" y="1114"/>
                  </a:lnTo>
                  <a:lnTo>
                    <a:pt x="1779" y="1134"/>
                  </a:lnTo>
                  <a:lnTo>
                    <a:pt x="1784" y="1164"/>
                  </a:lnTo>
                  <a:lnTo>
                    <a:pt x="1790" y="1194"/>
                  </a:lnTo>
                  <a:lnTo>
                    <a:pt x="1795" y="1235"/>
                  </a:lnTo>
                  <a:lnTo>
                    <a:pt x="1800" y="1290"/>
                  </a:lnTo>
                  <a:lnTo>
                    <a:pt x="1805" y="1371"/>
                  </a:lnTo>
                  <a:lnTo>
                    <a:pt x="1805" y="1552"/>
                  </a:lnTo>
                  <a:lnTo>
                    <a:pt x="1810" y="1512"/>
                  </a:lnTo>
                  <a:lnTo>
                    <a:pt x="1815" y="1366"/>
                  </a:lnTo>
                  <a:lnTo>
                    <a:pt x="1820" y="1295"/>
                  </a:lnTo>
                  <a:lnTo>
                    <a:pt x="1825" y="1250"/>
                  </a:lnTo>
                  <a:lnTo>
                    <a:pt x="1830" y="1219"/>
                  </a:lnTo>
                  <a:lnTo>
                    <a:pt x="1835" y="1194"/>
                  </a:lnTo>
                  <a:lnTo>
                    <a:pt x="1835" y="1174"/>
                  </a:lnTo>
                  <a:lnTo>
                    <a:pt x="1840" y="1159"/>
                  </a:lnTo>
                  <a:lnTo>
                    <a:pt x="1845" y="1144"/>
                  </a:lnTo>
                  <a:lnTo>
                    <a:pt x="1850" y="1134"/>
                  </a:lnTo>
                  <a:lnTo>
                    <a:pt x="1855" y="1124"/>
                  </a:lnTo>
                  <a:lnTo>
                    <a:pt x="1860" y="1119"/>
                  </a:lnTo>
                  <a:lnTo>
                    <a:pt x="1860" y="1109"/>
                  </a:lnTo>
                  <a:lnTo>
                    <a:pt x="1865" y="1104"/>
                  </a:lnTo>
                  <a:lnTo>
                    <a:pt x="1870" y="1104"/>
                  </a:lnTo>
                  <a:lnTo>
                    <a:pt x="1875" y="1099"/>
                  </a:lnTo>
                  <a:lnTo>
                    <a:pt x="1880" y="1093"/>
                  </a:lnTo>
                  <a:lnTo>
                    <a:pt x="1885" y="1093"/>
                  </a:lnTo>
                  <a:lnTo>
                    <a:pt x="1890" y="1093"/>
                  </a:lnTo>
                  <a:lnTo>
                    <a:pt x="1895" y="1093"/>
                  </a:lnTo>
                  <a:lnTo>
                    <a:pt x="1900" y="1099"/>
                  </a:lnTo>
                  <a:lnTo>
                    <a:pt x="1905" y="1099"/>
                  </a:lnTo>
                  <a:lnTo>
                    <a:pt x="1911" y="1104"/>
                  </a:lnTo>
                  <a:lnTo>
                    <a:pt x="1916" y="1104"/>
                  </a:lnTo>
                  <a:lnTo>
                    <a:pt x="1916" y="1109"/>
                  </a:lnTo>
                  <a:lnTo>
                    <a:pt x="1921" y="1114"/>
                  </a:lnTo>
                  <a:lnTo>
                    <a:pt x="1926" y="1119"/>
                  </a:lnTo>
                  <a:lnTo>
                    <a:pt x="1931" y="1129"/>
                  </a:lnTo>
                  <a:lnTo>
                    <a:pt x="1936" y="1134"/>
                  </a:lnTo>
                  <a:lnTo>
                    <a:pt x="1941" y="1144"/>
                  </a:lnTo>
                  <a:lnTo>
                    <a:pt x="1946" y="1149"/>
                  </a:lnTo>
                  <a:lnTo>
                    <a:pt x="1946" y="1159"/>
                  </a:lnTo>
                  <a:lnTo>
                    <a:pt x="1951" y="1169"/>
                  </a:lnTo>
                  <a:lnTo>
                    <a:pt x="1956" y="1184"/>
                  </a:lnTo>
                  <a:lnTo>
                    <a:pt x="1961" y="1194"/>
                  </a:lnTo>
                  <a:lnTo>
                    <a:pt x="1966" y="1209"/>
                  </a:lnTo>
                  <a:lnTo>
                    <a:pt x="1971" y="1224"/>
                  </a:lnTo>
                  <a:lnTo>
                    <a:pt x="1971" y="1240"/>
                  </a:lnTo>
                  <a:lnTo>
                    <a:pt x="1976" y="1260"/>
                  </a:lnTo>
                  <a:lnTo>
                    <a:pt x="1981" y="1280"/>
                  </a:lnTo>
                  <a:lnTo>
                    <a:pt x="1986" y="1305"/>
                  </a:lnTo>
                  <a:lnTo>
                    <a:pt x="1991" y="1330"/>
                  </a:lnTo>
                  <a:lnTo>
                    <a:pt x="1996" y="1366"/>
                  </a:lnTo>
                  <a:lnTo>
                    <a:pt x="2001" y="1406"/>
                  </a:lnTo>
                  <a:lnTo>
                    <a:pt x="2001" y="1461"/>
                  </a:lnTo>
                  <a:lnTo>
                    <a:pt x="2006" y="1542"/>
                  </a:lnTo>
                  <a:lnTo>
                    <a:pt x="2011" y="1728"/>
                  </a:lnTo>
                  <a:lnTo>
                    <a:pt x="2016" y="1688"/>
                  </a:lnTo>
                  <a:lnTo>
                    <a:pt x="2021" y="1542"/>
                  </a:lnTo>
                  <a:lnTo>
                    <a:pt x="2026" y="1476"/>
                  </a:lnTo>
                  <a:lnTo>
                    <a:pt x="2026" y="1431"/>
                  </a:lnTo>
                  <a:lnTo>
                    <a:pt x="2032" y="1401"/>
                  </a:lnTo>
                  <a:lnTo>
                    <a:pt x="2037" y="1376"/>
                  </a:lnTo>
                  <a:lnTo>
                    <a:pt x="2042" y="1355"/>
                  </a:lnTo>
                  <a:lnTo>
                    <a:pt x="2047" y="1340"/>
                  </a:lnTo>
                  <a:lnTo>
                    <a:pt x="2052" y="1330"/>
                  </a:lnTo>
                  <a:lnTo>
                    <a:pt x="2057" y="1320"/>
                  </a:lnTo>
                  <a:lnTo>
                    <a:pt x="2057" y="1310"/>
                  </a:lnTo>
                  <a:lnTo>
                    <a:pt x="2062" y="1305"/>
                  </a:lnTo>
                  <a:lnTo>
                    <a:pt x="2067" y="1300"/>
                  </a:lnTo>
                  <a:lnTo>
                    <a:pt x="2072" y="1295"/>
                  </a:lnTo>
                  <a:lnTo>
                    <a:pt x="2077" y="1295"/>
                  </a:lnTo>
                  <a:lnTo>
                    <a:pt x="2082" y="1290"/>
                  </a:lnTo>
                  <a:lnTo>
                    <a:pt x="2087" y="1290"/>
                  </a:lnTo>
                  <a:lnTo>
                    <a:pt x="2092" y="1290"/>
                  </a:lnTo>
                  <a:lnTo>
                    <a:pt x="2097" y="1295"/>
                  </a:lnTo>
                  <a:lnTo>
                    <a:pt x="2102" y="1295"/>
                  </a:lnTo>
                  <a:lnTo>
                    <a:pt x="2107" y="1295"/>
                  </a:lnTo>
                  <a:lnTo>
                    <a:pt x="2112" y="1300"/>
                  </a:lnTo>
                  <a:lnTo>
                    <a:pt x="2112" y="1305"/>
                  </a:lnTo>
                  <a:lnTo>
                    <a:pt x="2117" y="1305"/>
                  </a:lnTo>
                  <a:lnTo>
                    <a:pt x="2122" y="1310"/>
                  </a:lnTo>
                  <a:lnTo>
                    <a:pt x="2127" y="1315"/>
                  </a:lnTo>
                  <a:lnTo>
                    <a:pt x="2132" y="1320"/>
                  </a:lnTo>
                  <a:lnTo>
                    <a:pt x="2137" y="1325"/>
                  </a:lnTo>
                  <a:lnTo>
                    <a:pt x="2142" y="1330"/>
                  </a:lnTo>
                  <a:lnTo>
                    <a:pt x="2142" y="1335"/>
                  </a:lnTo>
                  <a:lnTo>
                    <a:pt x="2147" y="1335"/>
                  </a:lnTo>
                  <a:lnTo>
                    <a:pt x="2152" y="1340"/>
                  </a:lnTo>
                  <a:lnTo>
                    <a:pt x="2158" y="1345"/>
                  </a:lnTo>
                  <a:lnTo>
                    <a:pt x="2163" y="1350"/>
                  </a:lnTo>
                  <a:lnTo>
                    <a:pt x="2168" y="1355"/>
                  </a:lnTo>
                  <a:lnTo>
                    <a:pt x="2173" y="1360"/>
                  </a:lnTo>
                  <a:lnTo>
                    <a:pt x="2178" y="1360"/>
                  </a:lnTo>
                  <a:lnTo>
                    <a:pt x="2183" y="1360"/>
                  </a:lnTo>
                </a:path>
              </a:pathLst>
            </a:custGeom>
            <a:noFill/>
            <a:ln cap="rnd" w="25560">
              <a:solidFill>
                <a:srgbClr val="8a88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 rot="16200000">
              <a:off x="3776760" y="4098960"/>
              <a:ext cx="1809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afd00"/>
                  </a:solidFill>
                  <a:latin typeface="Arial"/>
                </a:rPr>
                <a:t>amplituda [dB]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4606200" y="2489040"/>
              <a:ext cx="4591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afd00"/>
                  </a:solidFill>
                  <a:latin typeface="Arial"/>
                </a:rPr>
                <a:t>Amplitudno-frekvencijske karakteristik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56" name=""/>
            <p:cNvGrpSpPr/>
            <p:nvPr/>
          </p:nvGrpSpPr>
          <p:grpSpPr>
            <a:xfrm>
              <a:off x="5416560" y="3067200"/>
              <a:ext cx="3467160" cy="3105000"/>
              <a:chOff x="5416560" y="3067200"/>
              <a:chExt cx="3467160" cy="3105000"/>
            </a:xfrm>
          </p:grpSpPr>
          <p:sp>
            <p:nvSpPr>
              <p:cNvPr id="3857" name=""/>
              <p:cNvSpPr/>
              <p:nvPr/>
            </p:nvSpPr>
            <p:spPr>
              <a:xfrm>
                <a:off x="5416560" y="3067200"/>
                <a:ext cx="3298680" cy="3105000"/>
              </a:xfrm>
              <a:custGeom>
                <a:avLst/>
                <a:gdLst/>
                <a:ahLst/>
                <a:rect l="l" t="t" r="r" b="b"/>
                <a:pathLst>
                  <a:path w="2078" h="1956">
                    <a:moveTo>
                      <a:pt x="0" y="0"/>
                    </a:moveTo>
                    <a:lnTo>
                      <a:pt x="5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5" y="0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71" y="0"/>
                    </a:lnTo>
                    <a:lnTo>
                      <a:pt x="76" y="0"/>
                    </a:lnTo>
                    <a:lnTo>
                      <a:pt x="81" y="0"/>
                    </a:lnTo>
                    <a:lnTo>
                      <a:pt x="86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6" y="0"/>
                    </a:lnTo>
                    <a:lnTo>
                      <a:pt x="111" y="0"/>
                    </a:lnTo>
                    <a:lnTo>
                      <a:pt x="116" y="0"/>
                    </a:lnTo>
                    <a:lnTo>
                      <a:pt x="121" y="0"/>
                    </a:lnTo>
                    <a:lnTo>
                      <a:pt x="126" y="0"/>
                    </a:lnTo>
                    <a:lnTo>
                      <a:pt x="131" y="0"/>
                    </a:lnTo>
                    <a:lnTo>
                      <a:pt x="136" y="0"/>
                    </a:lnTo>
                    <a:lnTo>
                      <a:pt x="141" y="0"/>
                    </a:lnTo>
                    <a:lnTo>
                      <a:pt x="146" y="0"/>
                    </a:lnTo>
                    <a:lnTo>
                      <a:pt x="151" y="0"/>
                    </a:lnTo>
                    <a:lnTo>
                      <a:pt x="156" y="0"/>
                    </a:lnTo>
                    <a:lnTo>
                      <a:pt x="161" y="0"/>
                    </a:lnTo>
                    <a:lnTo>
                      <a:pt x="166" y="0"/>
                    </a:lnTo>
                    <a:lnTo>
                      <a:pt x="171" y="0"/>
                    </a:lnTo>
                    <a:lnTo>
                      <a:pt x="176" y="0"/>
                    </a:lnTo>
                    <a:lnTo>
                      <a:pt x="181" y="0"/>
                    </a:lnTo>
                    <a:lnTo>
                      <a:pt x="186" y="0"/>
                    </a:lnTo>
                    <a:lnTo>
                      <a:pt x="192" y="0"/>
                    </a:lnTo>
                    <a:lnTo>
                      <a:pt x="197" y="0"/>
                    </a:lnTo>
                    <a:lnTo>
                      <a:pt x="202" y="0"/>
                    </a:lnTo>
                    <a:lnTo>
                      <a:pt x="207" y="0"/>
                    </a:lnTo>
                    <a:lnTo>
                      <a:pt x="212" y="0"/>
                    </a:lnTo>
                    <a:lnTo>
                      <a:pt x="217" y="0"/>
                    </a:lnTo>
                    <a:lnTo>
                      <a:pt x="222" y="0"/>
                    </a:lnTo>
                    <a:lnTo>
                      <a:pt x="227" y="0"/>
                    </a:lnTo>
                    <a:lnTo>
                      <a:pt x="232" y="0"/>
                    </a:lnTo>
                    <a:lnTo>
                      <a:pt x="237" y="0"/>
                    </a:lnTo>
                    <a:lnTo>
                      <a:pt x="242" y="0"/>
                    </a:lnTo>
                    <a:lnTo>
                      <a:pt x="247" y="0"/>
                    </a:lnTo>
                    <a:lnTo>
                      <a:pt x="252" y="0"/>
                    </a:lnTo>
                    <a:lnTo>
                      <a:pt x="257" y="0"/>
                    </a:lnTo>
                    <a:lnTo>
                      <a:pt x="262" y="0"/>
                    </a:lnTo>
                    <a:lnTo>
                      <a:pt x="267" y="0"/>
                    </a:lnTo>
                    <a:lnTo>
                      <a:pt x="272" y="0"/>
                    </a:lnTo>
                    <a:lnTo>
                      <a:pt x="277" y="0"/>
                    </a:lnTo>
                    <a:lnTo>
                      <a:pt x="282" y="0"/>
                    </a:lnTo>
                    <a:lnTo>
                      <a:pt x="287" y="0"/>
                    </a:lnTo>
                    <a:lnTo>
                      <a:pt x="292" y="0"/>
                    </a:lnTo>
                    <a:lnTo>
                      <a:pt x="297" y="0"/>
                    </a:lnTo>
                    <a:lnTo>
                      <a:pt x="302" y="0"/>
                    </a:lnTo>
                    <a:lnTo>
                      <a:pt x="307" y="0"/>
                    </a:lnTo>
                    <a:lnTo>
                      <a:pt x="313" y="0"/>
                    </a:lnTo>
                    <a:lnTo>
                      <a:pt x="318" y="0"/>
                    </a:lnTo>
                    <a:lnTo>
                      <a:pt x="323" y="0"/>
                    </a:lnTo>
                    <a:lnTo>
                      <a:pt x="328" y="0"/>
                    </a:lnTo>
                    <a:lnTo>
                      <a:pt x="333" y="0"/>
                    </a:lnTo>
                    <a:lnTo>
                      <a:pt x="338" y="0"/>
                    </a:lnTo>
                    <a:lnTo>
                      <a:pt x="343" y="0"/>
                    </a:lnTo>
                    <a:lnTo>
                      <a:pt x="348" y="0"/>
                    </a:lnTo>
                    <a:lnTo>
                      <a:pt x="353" y="0"/>
                    </a:lnTo>
                    <a:lnTo>
                      <a:pt x="358" y="0"/>
                    </a:lnTo>
                    <a:lnTo>
                      <a:pt x="363" y="0"/>
                    </a:lnTo>
                    <a:lnTo>
                      <a:pt x="368" y="0"/>
                    </a:lnTo>
                    <a:lnTo>
                      <a:pt x="373" y="0"/>
                    </a:lnTo>
                    <a:lnTo>
                      <a:pt x="378" y="0"/>
                    </a:lnTo>
                    <a:lnTo>
                      <a:pt x="383" y="0"/>
                    </a:lnTo>
                    <a:lnTo>
                      <a:pt x="388" y="0"/>
                    </a:lnTo>
                    <a:lnTo>
                      <a:pt x="393" y="0"/>
                    </a:lnTo>
                    <a:lnTo>
                      <a:pt x="398" y="0"/>
                    </a:lnTo>
                    <a:lnTo>
                      <a:pt x="403" y="0"/>
                    </a:lnTo>
                    <a:lnTo>
                      <a:pt x="408" y="0"/>
                    </a:lnTo>
                    <a:lnTo>
                      <a:pt x="413" y="0"/>
                    </a:lnTo>
                    <a:lnTo>
                      <a:pt x="418" y="0"/>
                    </a:lnTo>
                    <a:lnTo>
                      <a:pt x="423" y="0"/>
                    </a:lnTo>
                    <a:lnTo>
                      <a:pt x="428" y="0"/>
                    </a:lnTo>
                    <a:lnTo>
                      <a:pt x="433" y="0"/>
                    </a:lnTo>
                    <a:lnTo>
                      <a:pt x="439" y="0"/>
                    </a:lnTo>
                    <a:lnTo>
                      <a:pt x="444" y="0"/>
                    </a:lnTo>
                    <a:lnTo>
                      <a:pt x="449" y="0"/>
                    </a:lnTo>
                    <a:lnTo>
                      <a:pt x="454" y="0"/>
                    </a:lnTo>
                    <a:lnTo>
                      <a:pt x="459" y="0"/>
                    </a:lnTo>
                    <a:lnTo>
                      <a:pt x="464" y="0"/>
                    </a:lnTo>
                    <a:lnTo>
                      <a:pt x="469" y="0"/>
                    </a:lnTo>
                    <a:lnTo>
                      <a:pt x="474" y="0"/>
                    </a:lnTo>
                    <a:lnTo>
                      <a:pt x="479" y="0"/>
                    </a:lnTo>
                    <a:lnTo>
                      <a:pt x="484" y="0"/>
                    </a:lnTo>
                    <a:lnTo>
                      <a:pt x="489" y="0"/>
                    </a:lnTo>
                    <a:lnTo>
                      <a:pt x="494" y="0"/>
                    </a:lnTo>
                    <a:lnTo>
                      <a:pt x="499" y="0"/>
                    </a:lnTo>
                    <a:lnTo>
                      <a:pt x="504" y="0"/>
                    </a:lnTo>
                    <a:lnTo>
                      <a:pt x="509" y="0"/>
                    </a:lnTo>
                    <a:lnTo>
                      <a:pt x="514" y="0"/>
                    </a:lnTo>
                    <a:lnTo>
                      <a:pt x="519" y="0"/>
                    </a:lnTo>
                    <a:lnTo>
                      <a:pt x="524" y="0"/>
                    </a:lnTo>
                    <a:lnTo>
                      <a:pt x="529" y="0"/>
                    </a:lnTo>
                    <a:lnTo>
                      <a:pt x="534" y="0"/>
                    </a:lnTo>
                    <a:lnTo>
                      <a:pt x="539" y="0"/>
                    </a:lnTo>
                    <a:lnTo>
                      <a:pt x="544" y="0"/>
                    </a:lnTo>
                    <a:lnTo>
                      <a:pt x="549" y="0"/>
                    </a:lnTo>
                    <a:lnTo>
                      <a:pt x="554" y="0"/>
                    </a:lnTo>
                    <a:lnTo>
                      <a:pt x="560" y="0"/>
                    </a:lnTo>
                    <a:lnTo>
                      <a:pt x="565" y="0"/>
                    </a:lnTo>
                    <a:lnTo>
                      <a:pt x="570" y="0"/>
                    </a:lnTo>
                    <a:lnTo>
                      <a:pt x="575" y="0"/>
                    </a:lnTo>
                    <a:lnTo>
                      <a:pt x="580" y="0"/>
                    </a:lnTo>
                    <a:lnTo>
                      <a:pt x="585" y="0"/>
                    </a:lnTo>
                    <a:lnTo>
                      <a:pt x="590" y="0"/>
                    </a:lnTo>
                    <a:lnTo>
                      <a:pt x="595" y="0"/>
                    </a:lnTo>
                    <a:lnTo>
                      <a:pt x="600" y="0"/>
                    </a:lnTo>
                    <a:lnTo>
                      <a:pt x="605" y="0"/>
                    </a:lnTo>
                    <a:lnTo>
                      <a:pt x="610" y="0"/>
                    </a:lnTo>
                    <a:lnTo>
                      <a:pt x="615" y="0"/>
                    </a:lnTo>
                    <a:lnTo>
                      <a:pt x="620" y="0"/>
                    </a:lnTo>
                    <a:lnTo>
                      <a:pt x="625" y="0"/>
                    </a:lnTo>
                    <a:lnTo>
                      <a:pt x="630" y="0"/>
                    </a:lnTo>
                    <a:lnTo>
                      <a:pt x="635" y="0"/>
                    </a:lnTo>
                    <a:lnTo>
                      <a:pt x="640" y="0"/>
                    </a:lnTo>
                    <a:lnTo>
                      <a:pt x="645" y="0"/>
                    </a:lnTo>
                    <a:lnTo>
                      <a:pt x="650" y="0"/>
                    </a:lnTo>
                    <a:lnTo>
                      <a:pt x="655" y="0"/>
                    </a:lnTo>
                    <a:lnTo>
                      <a:pt x="660" y="0"/>
                    </a:lnTo>
                    <a:lnTo>
                      <a:pt x="665" y="0"/>
                    </a:lnTo>
                    <a:lnTo>
                      <a:pt x="670" y="0"/>
                    </a:lnTo>
                    <a:lnTo>
                      <a:pt x="675" y="0"/>
                    </a:lnTo>
                    <a:lnTo>
                      <a:pt x="681" y="0"/>
                    </a:lnTo>
                    <a:lnTo>
                      <a:pt x="686" y="5"/>
                    </a:lnTo>
                    <a:lnTo>
                      <a:pt x="691" y="5"/>
                    </a:lnTo>
                    <a:lnTo>
                      <a:pt x="696" y="5"/>
                    </a:lnTo>
                    <a:lnTo>
                      <a:pt x="701" y="5"/>
                    </a:lnTo>
                    <a:lnTo>
                      <a:pt x="706" y="5"/>
                    </a:lnTo>
                    <a:lnTo>
                      <a:pt x="711" y="5"/>
                    </a:lnTo>
                    <a:lnTo>
                      <a:pt x="716" y="5"/>
                    </a:lnTo>
                    <a:lnTo>
                      <a:pt x="721" y="5"/>
                    </a:lnTo>
                    <a:lnTo>
                      <a:pt x="726" y="5"/>
                    </a:lnTo>
                    <a:lnTo>
                      <a:pt x="731" y="5"/>
                    </a:lnTo>
                    <a:lnTo>
                      <a:pt x="736" y="5"/>
                    </a:lnTo>
                    <a:lnTo>
                      <a:pt x="741" y="5"/>
                    </a:lnTo>
                    <a:lnTo>
                      <a:pt x="746" y="5"/>
                    </a:lnTo>
                    <a:lnTo>
                      <a:pt x="751" y="5"/>
                    </a:lnTo>
                    <a:lnTo>
                      <a:pt x="756" y="5"/>
                    </a:lnTo>
                    <a:lnTo>
                      <a:pt x="761" y="5"/>
                    </a:lnTo>
                    <a:lnTo>
                      <a:pt x="766" y="5"/>
                    </a:lnTo>
                    <a:lnTo>
                      <a:pt x="771" y="10"/>
                    </a:lnTo>
                    <a:lnTo>
                      <a:pt x="776" y="10"/>
                    </a:lnTo>
                    <a:lnTo>
                      <a:pt x="781" y="10"/>
                    </a:lnTo>
                    <a:lnTo>
                      <a:pt x="786" y="10"/>
                    </a:lnTo>
                    <a:lnTo>
                      <a:pt x="791" y="10"/>
                    </a:lnTo>
                    <a:lnTo>
                      <a:pt x="796" y="10"/>
                    </a:lnTo>
                    <a:lnTo>
                      <a:pt x="801" y="10"/>
                    </a:lnTo>
                    <a:lnTo>
                      <a:pt x="807" y="10"/>
                    </a:lnTo>
                    <a:lnTo>
                      <a:pt x="812" y="10"/>
                    </a:lnTo>
                    <a:lnTo>
                      <a:pt x="817" y="15"/>
                    </a:lnTo>
                    <a:lnTo>
                      <a:pt x="822" y="15"/>
                    </a:lnTo>
                    <a:lnTo>
                      <a:pt x="827" y="15"/>
                    </a:lnTo>
                    <a:lnTo>
                      <a:pt x="832" y="15"/>
                    </a:lnTo>
                    <a:lnTo>
                      <a:pt x="837" y="15"/>
                    </a:lnTo>
                    <a:lnTo>
                      <a:pt x="842" y="15"/>
                    </a:lnTo>
                    <a:lnTo>
                      <a:pt x="847" y="15"/>
                    </a:lnTo>
                    <a:lnTo>
                      <a:pt x="852" y="20"/>
                    </a:lnTo>
                    <a:lnTo>
                      <a:pt x="857" y="20"/>
                    </a:lnTo>
                    <a:lnTo>
                      <a:pt x="862" y="20"/>
                    </a:lnTo>
                    <a:lnTo>
                      <a:pt x="867" y="20"/>
                    </a:lnTo>
                    <a:lnTo>
                      <a:pt x="872" y="20"/>
                    </a:lnTo>
                    <a:lnTo>
                      <a:pt x="877" y="25"/>
                    </a:lnTo>
                    <a:lnTo>
                      <a:pt x="882" y="25"/>
                    </a:lnTo>
                    <a:lnTo>
                      <a:pt x="887" y="25"/>
                    </a:lnTo>
                    <a:lnTo>
                      <a:pt x="892" y="25"/>
                    </a:lnTo>
                    <a:lnTo>
                      <a:pt x="897" y="25"/>
                    </a:lnTo>
                    <a:lnTo>
                      <a:pt x="902" y="30"/>
                    </a:lnTo>
                    <a:lnTo>
                      <a:pt x="907" y="30"/>
                    </a:lnTo>
                    <a:lnTo>
                      <a:pt x="912" y="30"/>
                    </a:lnTo>
                    <a:lnTo>
                      <a:pt x="917" y="30"/>
                    </a:lnTo>
                    <a:lnTo>
                      <a:pt x="922" y="35"/>
                    </a:lnTo>
                    <a:lnTo>
                      <a:pt x="928" y="35"/>
                    </a:lnTo>
                    <a:lnTo>
                      <a:pt x="933" y="35"/>
                    </a:lnTo>
                    <a:lnTo>
                      <a:pt x="938" y="35"/>
                    </a:lnTo>
                    <a:lnTo>
                      <a:pt x="938" y="40"/>
                    </a:lnTo>
                    <a:lnTo>
                      <a:pt x="943" y="40"/>
                    </a:lnTo>
                    <a:lnTo>
                      <a:pt x="948" y="40"/>
                    </a:lnTo>
                    <a:lnTo>
                      <a:pt x="953" y="40"/>
                    </a:lnTo>
                    <a:lnTo>
                      <a:pt x="958" y="46"/>
                    </a:lnTo>
                    <a:lnTo>
                      <a:pt x="963" y="46"/>
                    </a:lnTo>
                    <a:lnTo>
                      <a:pt x="968" y="46"/>
                    </a:lnTo>
                    <a:lnTo>
                      <a:pt x="973" y="51"/>
                    </a:lnTo>
                    <a:lnTo>
                      <a:pt x="978" y="51"/>
                    </a:lnTo>
                    <a:lnTo>
                      <a:pt x="983" y="51"/>
                    </a:lnTo>
                    <a:lnTo>
                      <a:pt x="988" y="56"/>
                    </a:lnTo>
                    <a:lnTo>
                      <a:pt x="993" y="56"/>
                    </a:lnTo>
                    <a:lnTo>
                      <a:pt x="998" y="61"/>
                    </a:lnTo>
                    <a:lnTo>
                      <a:pt x="1003" y="61"/>
                    </a:lnTo>
                    <a:lnTo>
                      <a:pt x="1008" y="61"/>
                    </a:lnTo>
                    <a:lnTo>
                      <a:pt x="1013" y="66"/>
                    </a:lnTo>
                    <a:lnTo>
                      <a:pt x="1018" y="66"/>
                    </a:lnTo>
                    <a:lnTo>
                      <a:pt x="1023" y="66"/>
                    </a:lnTo>
                    <a:lnTo>
                      <a:pt x="1023" y="71"/>
                    </a:lnTo>
                    <a:lnTo>
                      <a:pt x="1028" y="71"/>
                    </a:lnTo>
                    <a:lnTo>
                      <a:pt x="1033" y="71"/>
                    </a:lnTo>
                    <a:lnTo>
                      <a:pt x="1038" y="76"/>
                    </a:lnTo>
                    <a:lnTo>
                      <a:pt x="1043" y="76"/>
                    </a:lnTo>
                    <a:lnTo>
                      <a:pt x="1049" y="81"/>
                    </a:lnTo>
                    <a:lnTo>
                      <a:pt x="1054" y="81"/>
                    </a:lnTo>
                    <a:lnTo>
                      <a:pt x="1059" y="86"/>
                    </a:lnTo>
                    <a:lnTo>
                      <a:pt x="1064" y="86"/>
                    </a:lnTo>
                    <a:lnTo>
                      <a:pt x="1069" y="91"/>
                    </a:lnTo>
                    <a:lnTo>
                      <a:pt x="1074" y="91"/>
                    </a:lnTo>
                    <a:lnTo>
                      <a:pt x="1079" y="96"/>
                    </a:lnTo>
                    <a:lnTo>
                      <a:pt x="1084" y="101"/>
                    </a:lnTo>
                    <a:lnTo>
                      <a:pt x="1089" y="101"/>
                    </a:lnTo>
                    <a:lnTo>
                      <a:pt x="1094" y="101"/>
                    </a:lnTo>
                    <a:lnTo>
                      <a:pt x="1099" y="106"/>
                    </a:lnTo>
                    <a:lnTo>
                      <a:pt x="1104" y="106"/>
                    </a:lnTo>
                    <a:lnTo>
                      <a:pt x="1104" y="111"/>
                    </a:lnTo>
                    <a:lnTo>
                      <a:pt x="1109" y="111"/>
                    </a:lnTo>
                    <a:lnTo>
                      <a:pt x="1114" y="116"/>
                    </a:lnTo>
                    <a:lnTo>
                      <a:pt x="1119" y="121"/>
                    </a:lnTo>
                    <a:lnTo>
                      <a:pt x="1124" y="121"/>
                    </a:lnTo>
                    <a:lnTo>
                      <a:pt x="1129" y="126"/>
                    </a:lnTo>
                    <a:lnTo>
                      <a:pt x="1134" y="126"/>
                    </a:lnTo>
                    <a:lnTo>
                      <a:pt x="1134" y="131"/>
                    </a:lnTo>
                    <a:lnTo>
                      <a:pt x="1139" y="131"/>
                    </a:lnTo>
                    <a:lnTo>
                      <a:pt x="1144" y="136"/>
                    </a:lnTo>
                    <a:lnTo>
                      <a:pt x="1149" y="136"/>
                    </a:lnTo>
                    <a:lnTo>
                      <a:pt x="1154" y="141"/>
                    </a:lnTo>
                    <a:lnTo>
                      <a:pt x="1159" y="146"/>
                    </a:lnTo>
                    <a:lnTo>
                      <a:pt x="1164" y="151"/>
                    </a:lnTo>
                    <a:lnTo>
                      <a:pt x="1169" y="156"/>
                    </a:lnTo>
                    <a:lnTo>
                      <a:pt x="1175" y="156"/>
                    </a:lnTo>
                    <a:lnTo>
                      <a:pt x="1180" y="161"/>
                    </a:lnTo>
                    <a:lnTo>
                      <a:pt x="1185" y="166"/>
                    </a:lnTo>
                    <a:lnTo>
                      <a:pt x="1190" y="166"/>
                    </a:lnTo>
                    <a:lnTo>
                      <a:pt x="1190" y="171"/>
                    </a:lnTo>
                    <a:lnTo>
                      <a:pt x="1195" y="177"/>
                    </a:lnTo>
                    <a:lnTo>
                      <a:pt x="1200" y="177"/>
                    </a:lnTo>
                    <a:lnTo>
                      <a:pt x="1205" y="182"/>
                    </a:lnTo>
                    <a:lnTo>
                      <a:pt x="1210" y="187"/>
                    </a:lnTo>
                    <a:lnTo>
                      <a:pt x="1215" y="187"/>
                    </a:lnTo>
                    <a:lnTo>
                      <a:pt x="1215" y="192"/>
                    </a:lnTo>
                    <a:lnTo>
                      <a:pt x="1220" y="197"/>
                    </a:lnTo>
                    <a:lnTo>
                      <a:pt x="1225" y="202"/>
                    </a:lnTo>
                    <a:lnTo>
                      <a:pt x="1230" y="207"/>
                    </a:lnTo>
                    <a:lnTo>
                      <a:pt x="1235" y="207"/>
                    </a:lnTo>
                    <a:lnTo>
                      <a:pt x="1240" y="212"/>
                    </a:lnTo>
                    <a:lnTo>
                      <a:pt x="1245" y="217"/>
                    </a:lnTo>
                    <a:lnTo>
                      <a:pt x="1245" y="222"/>
                    </a:lnTo>
                    <a:lnTo>
                      <a:pt x="1250" y="227"/>
                    </a:lnTo>
                    <a:lnTo>
                      <a:pt x="1255" y="227"/>
                    </a:lnTo>
                    <a:lnTo>
                      <a:pt x="1260" y="232"/>
                    </a:lnTo>
                    <a:lnTo>
                      <a:pt x="1265" y="237"/>
                    </a:lnTo>
                    <a:lnTo>
                      <a:pt x="1270" y="242"/>
                    </a:lnTo>
                    <a:lnTo>
                      <a:pt x="1275" y="247"/>
                    </a:lnTo>
                    <a:lnTo>
                      <a:pt x="1275" y="252"/>
                    </a:lnTo>
                    <a:lnTo>
                      <a:pt x="1280" y="257"/>
                    </a:lnTo>
                    <a:lnTo>
                      <a:pt x="1285" y="262"/>
                    </a:lnTo>
                    <a:lnTo>
                      <a:pt x="1290" y="267"/>
                    </a:lnTo>
                    <a:lnTo>
                      <a:pt x="1296" y="272"/>
                    </a:lnTo>
                    <a:lnTo>
                      <a:pt x="1301" y="277"/>
                    </a:lnTo>
                    <a:lnTo>
                      <a:pt x="1306" y="282"/>
                    </a:lnTo>
                    <a:lnTo>
                      <a:pt x="1311" y="287"/>
                    </a:lnTo>
                    <a:lnTo>
                      <a:pt x="1316" y="297"/>
                    </a:lnTo>
                    <a:lnTo>
                      <a:pt x="1321" y="302"/>
                    </a:lnTo>
                    <a:lnTo>
                      <a:pt x="1326" y="308"/>
                    </a:lnTo>
                    <a:lnTo>
                      <a:pt x="1331" y="313"/>
                    </a:lnTo>
                    <a:lnTo>
                      <a:pt x="1331" y="318"/>
                    </a:lnTo>
                    <a:lnTo>
                      <a:pt x="1336" y="323"/>
                    </a:lnTo>
                    <a:lnTo>
                      <a:pt x="1341" y="328"/>
                    </a:lnTo>
                    <a:lnTo>
                      <a:pt x="1346" y="333"/>
                    </a:lnTo>
                    <a:lnTo>
                      <a:pt x="1351" y="338"/>
                    </a:lnTo>
                    <a:lnTo>
                      <a:pt x="1356" y="343"/>
                    </a:lnTo>
                    <a:lnTo>
                      <a:pt x="1356" y="353"/>
                    </a:lnTo>
                    <a:lnTo>
                      <a:pt x="1361" y="358"/>
                    </a:lnTo>
                    <a:lnTo>
                      <a:pt x="1366" y="363"/>
                    </a:lnTo>
                    <a:lnTo>
                      <a:pt x="1371" y="368"/>
                    </a:lnTo>
                    <a:lnTo>
                      <a:pt x="1376" y="373"/>
                    </a:lnTo>
                    <a:lnTo>
                      <a:pt x="1381" y="383"/>
                    </a:lnTo>
                    <a:lnTo>
                      <a:pt x="1386" y="388"/>
                    </a:lnTo>
                    <a:lnTo>
                      <a:pt x="1386" y="393"/>
                    </a:lnTo>
                    <a:lnTo>
                      <a:pt x="1391" y="398"/>
                    </a:lnTo>
                    <a:lnTo>
                      <a:pt x="1396" y="408"/>
                    </a:lnTo>
                    <a:lnTo>
                      <a:pt x="1401" y="413"/>
                    </a:lnTo>
                    <a:lnTo>
                      <a:pt x="1406" y="418"/>
                    </a:lnTo>
                    <a:lnTo>
                      <a:pt x="1411" y="428"/>
                    </a:lnTo>
                    <a:lnTo>
                      <a:pt x="1411" y="433"/>
                    </a:lnTo>
                    <a:lnTo>
                      <a:pt x="1416" y="444"/>
                    </a:lnTo>
                    <a:lnTo>
                      <a:pt x="1422" y="449"/>
                    </a:lnTo>
                    <a:lnTo>
                      <a:pt x="1427" y="459"/>
                    </a:lnTo>
                    <a:lnTo>
                      <a:pt x="1432" y="464"/>
                    </a:lnTo>
                    <a:lnTo>
                      <a:pt x="1437" y="474"/>
                    </a:lnTo>
                    <a:lnTo>
                      <a:pt x="1442" y="479"/>
                    </a:lnTo>
                    <a:lnTo>
                      <a:pt x="1442" y="489"/>
                    </a:lnTo>
                    <a:lnTo>
                      <a:pt x="1447" y="494"/>
                    </a:lnTo>
                    <a:lnTo>
                      <a:pt x="1452" y="504"/>
                    </a:lnTo>
                    <a:lnTo>
                      <a:pt x="1457" y="509"/>
                    </a:lnTo>
                    <a:lnTo>
                      <a:pt x="1462" y="519"/>
                    </a:lnTo>
                    <a:lnTo>
                      <a:pt x="1467" y="529"/>
                    </a:lnTo>
                    <a:lnTo>
                      <a:pt x="1467" y="534"/>
                    </a:lnTo>
                    <a:lnTo>
                      <a:pt x="1472" y="544"/>
                    </a:lnTo>
                    <a:lnTo>
                      <a:pt x="1477" y="554"/>
                    </a:lnTo>
                    <a:lnTo>
                      <a:pt x="1482" y="564"/>
                    </a:lnTo>
                    <a:lnTo>
                      <a:pt x="1487" y="569"/>
                    </a:lnTo>
                    <a:lnTo>
                      <a:pt x="1492" y="580"/>
                    </a:lnTo>
                    <a:lnTo>
                      <a:pt x="1497" y="590"/>
                    </a:lnTo>
                    <a:lnTo>
                      <a:pt x="1497" y="600"/>
                    </a:lnTo>
                    <a:lnTo>
                      <a:pt x="1502" y="610"/>
                    </a:lnTo>
                    <a:lnTo>
                      <a:pt x="1507" y="620"/>
                    </a:lnTo>
                    <a:lnTo>
                      <a:pt x="1512" y="630"/>
                    </a:lnTo>
                    <a:lnTo>
                      <a:pt x="1517" y="640"/>
                    </a:lnTo>
                    <a:lnTo>
                      <a:pt x="1522" y="650"/>
                    </a:lnTo>
                    <a:lnTo>
                      <a:pt x="1527" y="660"/>
                    </a:lnTo>
                    <a:lnTo>
                      <a:pt x="1527" y="670"/>
                    </a:lnTo>
                    <a:lnTo>
                      <a:pt x="1532" y="680"/>
                    </a:lnTo>
                    <a:lnTo>
                      <a:pt x="1537" y="690"/>
                    </a:lnTo>
                    <a:lnTo>
                      <a:pt x="1543" y="706"/>
                    </a:lnTo>
                    <a:lnTo>
                      <a:pt x="1548" y="716"/>
                    </a:lnTo>
                    <a:lnTo>
                      <a:pt x="1553" y="726"/>
                    </a:lnTo>
                    <a:lnTo>
                      <a:pt x="1553" y="741"/>
                    </a:lnTo>
                    <a:lnTo>
                      <a:pt x="1558" y="751"/>
                    </a:lnTo>
                    <a:lnTo>
                      <a:pt x="1563" y="761"/>
                    </a:lnTo>
                    <a:lnTo>
                      <a:pt x="1568" y="776"/>
                    </a:lnTo>
                    <a:lnTo>
                      <a:pt x="1573" y="786"/>
                    </a:lnTo>
                    <a:lnTo>
                      <a:pt x="1578" y="801"/>
                    </a:lnTo>
                    <a:lnTo>
                      <a:pt x="1583" y="816"/>
                    </a:lnTo>
                    <a:lnTo>
                      <a:pt x="1583" y="826"/>
                    </a:lnTo>
                    <a:lnTo>
                      <a:pt x="1588" y="842"/>
                    </a:lnTo>
                    <a:lnTo>
                      <a:pt x="1593" y="857"/>
                    </a:lnTo>
                    <a:lnTo>
                      <a:pt x="1598" y="872"/>
                    </a:lnTo>
                    <a:lnTo>
                      <a:pt x="1603" y="887"/>
                    </a:lnTo>
                    <a:lnTo>
                      <a:pt x="1608" y="897"/>
                    </a:lnTo>
                    <a:lnTo>
                      <a:pt x="1608" y="917"/>
                    </a:lnTo>
                    <a:lnTo>
                      <a:pt x="1613" y="932"/>
                    </a:lnTo>
                    <a:lnTo>
                      <a:pt x="1618" y="947"/>
                    </a:lnTo>
                    <a:lnTo>
                      <a:pt x="1623" y="962"/>
                    </a:lnTo>
                    <a:lnTo>
                      <a:pt x="1628" y="978"/>
                    </a:lnTo>
                    <a:lnTo>
                      <a:pt x="1633" y="993"/>
                    </a:lnTo>
                    <a:lnTo>
                      <a:pt x="1638" y="1013"/>
                    </a:lnTo>
                    <a:lnTo>
                      <a:pt x="1638" y="1028"/>
                    </a:lnTo>
                    <a:lnTo>
                      <a:pt x="1643" y="1048"/>
                    </a:lnTo>
                    <a:lnTo>
                      <a:pt x="1648" y="1063"/>
                    </a:lnTo>
                    <a:lnTo>
                      <a:pt x="1653" y="1083"/>
                    </a:lnTo>
                    <a:lnTo>
                      <a:pt x="1658" y="1099"/>
                    </a:lnTo>
                    <a:lnTo>
                      <a:pt x="1664" y="1119"/>
                    </a:lnTo>
                    <a:lnTo>
                      <a:pt x="1664" y="1134"/>
                    </a:lnTo>
                    <a:lnTo>
                      <a:pt x="1669" y="1154"/>
                    </a:lnTo>
                    <a:lnTo>
                      <a:pt x="1674" y="1169"/>
                    </a:lnTo>
                    <a:lnTo>
                      <a:pt x="1679" y="1184"/>
                    </a:lnTo>
                    <a:lnTo>
                      <a:pt x="1684" y="1199"/>
                    </a:lnTo>
                    <a:lnTo>
                      <a:pt x="1689" y="1214"/>
                    </a:lnTo>
                    <a:lnTo>
                      <a:pt x="1694" y="1230"/>
                    </a:lnTo>
                    <a:lnTo>
                      <a:pt x="1694" y="1245"/>
                    </a:lnTo>
                    <a:lnTo>
                      <a:pt x="1699" y="1255"/>
                    </a:lnTo>
                    <a:lnTo>
                      <a:pt x="1704" y="1265"/>
                    </a:lnTo>
                    <a:lnTo>
                      <a:pt x="1709" y="1275"/>
                    </a:lnTo>
                    <a:lnTo>
                      <a:pt x="1714" y="1280"/>
                    </a:lnTo>
                    <a:lnTo>
                      <a:pt x="1719" y="1290"/>
                    </a:lnTo>
                    <a:lnTo>
                      <a:pt x="1719" y="1295"/>
                    </a:lnTo>
                    <a:lnTo>
                      <a:pt x="1724" y="1295"/>
                    </a:lnTo>
                    <a:lnTo>
                      <a:pt x="1729" y="1300"/>
                    </a:lnTo>
                    <a:lnTo>
                      <a:pt x="1734" y="1300"/>
                    </a:lnTo>
                    <a:lnTo>
                      <a:pt x="1739" y="1300"/>
                    </a:lnTo>
                    <a:lnTo>
                      <a:pt x="1744" y="1300"/>
                    </a:lnTo>
                    <a:lnTo>
                      <a:pt x="1749" y="1300"/>
                    </a:lnTo>
                    <a:lnTo>
                      <a:pt x="1754" y="1300"/>
                    </a:lnTo>
                    <a:lnTo>
                      <a:pt x="1759" y="1300"/>
                    </a:lnTo>
                    <a:lnTo>
                      <a:pt x="1764" y="1300"/>
                    </a:lnTo>
                    <a:lnTo>
                      <a:pt x="1769" y="1305"/>
                    </a:lnTo>
                    <a:lnTo>
                      <a:pt x="1774" y="1305"/>
                    </a:lnTo>
                    <a:lnTo>
                      <a:pt x="1779" y="1305"/>
                    </a:lnTo>
                    <a:lnTo>
                      <a:pt x="1779" y="1310"/>
                    </a:lnTo>
                    <a:lnTo>
                      <a:pt x="1784" y="1310"/>
                    </a:lnTo>
                    <a:lnTo>
                      <a:pt x="1790" y="1315"/>
                    </a:lnTo>
                    <a:lnTo>
                      <a:pt x="1795" y="1320"/>
                    </a:lnTo>
                    <a:lnTo>
                      <a:pt x="1800" y="1325"/>
                    </a:lnTo>
                    <a:lnTo>
                      <a:pt x="1805" y="1330"/>
                    </a:lnTo>
                    <a:lnTo>
                      <a:pt x="1805" y="1340"/>
                    </a:lnTo>
                    <a:lnTo>
                      <a:pt x="1810" y="1350"/>
                    </a:lnTo>
                    <a:lnTo>
                      <a:pt x="1815" y="1360"/>
                    </a:lnTo>
                    <a:lnTo>
                      <a:pt x="1820" y="1376"/>
                    </a:lnTo>
                    <a:lnTo>
                      <a:pt x="1825" y="1391"/>
                    </a:lnTo>
                    <a:lnTo>
                      <a:pt x="1830" y="1406"/>
                    </a:lnTo>
                    <a:lnTo>
                      <a:pt x="1835" y="1431"/>
                    </a:lnTo>
                    <a:lnTo>
                      <a:pt x="1835" y="1456"/>
                    </a:lnTo>
                    <a:lnTo>
                      <a:pt x="1840" y="1491"/>
                    </a:lnTo>
                    <a:lnTo>
                      <a:pt x="1845" y="1537"/>
                    </a:lnTo>
                    <a:lnTo>
                      <a:pt x="1850" y="1607"/>
                    </a:lnTo>
                    <a:lnTo>
                      <a:pt x="1855" y="1748"/>
                    </a:lnTo>
                    <a:lnTo>
                      <a:pt x="1860" y="1814"/>
                    </a:lnTo>
                    <a:lnTo>
                      <a:pt x="1860" y="1622"/>
                    </a:lnTo>
                    <a:lnTo>
                      <a:pt x="1865" y="1542"/>
                    </a:lnTo>
                    <a:lnTo>
                      <a:pt x="1870" y="1491"/>
                    </a:lnTo>
                    <a:lnTo>
                      <a:pt x="1875" y="1451"/>
                    </a:lnTo>
                    <a:lnTo>
                      <a:pt x="1880" y="1421"/>
                    </a:lnTo>
                    <a:lnTo>
                      <a:pt x="1885" y="1396"/>
                    </a:lnTo>
                    <a:lnTo>
                      <a:pt x="1890" y="1376"/>
                    </a:lnTo>
                    <a:lnTo>
                      <a:pt x="1890" y="1355"/>
                    </a:lnTo>
                    <a:lnTo>
                      <a:pt x="1895" y="1340"/>
                    </a:lnTo>
                    <a:lnTo>
                      <a:pt x="1900" y="1330"/>
                    </a:lnTo>
                    <a:lnTo>
                      <a:pt x="1905" y="1315"/>
                    </a:lnTo>
                    <a:lnTo>
                      <a:pt x="1911" y="1305"/>
                    </a:lnTo>
                    <a:lnTo>
                      <a:pt x="1916" y="1295"/>
                    </a:lnTo>
                    <a:lnTo>
                      <a:pt x="1916" y="1285"/>
                    </a:lnTo>
                    <a:lnTo>
                      <a:pt x="1921" y="1280"/>
                    </a:lnTo>
                    <a:lnTo>
                      <a:pt x="1926" y="1275"/>
                    </a:lnTo>
                    <a:lnTo>
                      <a:pt x="1931" y="1265"/>
                    </a:lnTo>
                    <a:lnTo>
                      <a:pt x="1936" y="1260"/>
                    </a:lnTo>
                    <a:lnTo>
                      <a:pt x="1941" y="1260"/>
                    </a:lnTo>
                    <a:lnTo>
                      <a:pt x="1946" y="1255"/>
                    </a:lnTo>
                    <a:lnTo>
                      <a:pt x="1946" y="1250"/>
                    </a:lnTo>
                    <a:lnTo>
                      <a:pt x="1951" y="1250"/>
                    </a:lnTo>
                    <a:lnTo>
                      <a:pt x="1956" y="1245"/>
                    </a:lnTo>
                    <a:lnTo>
                      <a:pt x="1961" y="1245"/>
                    </a:lnTo>
                    <a:lnTo>
                      <a:pt x="1966" y="1245"/>
                    </a:lnTo>
                    <a:lnTo>
                      <a:pt x="1971" y="1245"/>
                    </a:lnTo>
                    <a:lnTo>
                      <a:pt x="1976" y="1245"/>
                    </a:lnTo>
                    <a:lnTo>
                      <a:pt x="1981" y="1250"/>
                    </a:lnTo>
                    <a:lnTo>
                      <a:pt x="1986" y="1250"/>
                    </a:lnTo>
                    <a:lnTo>
                      <a:pt x="1991" y="1250"/>
                    </a:lnTo>
                    <a:lnTo>
                      <a:pt x="1996" y="1255"/>
                    </a:lnTo>
                    <a:lnTo>
                      <a:pt x="2001" y="1260"/>
                    </a:lnTo>
                    <a:lnTo>
                      <a:pt x="2001" y="1265"/>
                    </a:lnTo>
                    <a:lnTo>
                      <a:pt x="2006" y="1270"/>
                    </a:lnTo>
                    <a:lnTo>
                      <a:pt x="2011" y="1275"/>
                    </a:lnTo>
                    <a:lnTo>
                      <a:pt x="2016" y="1280"/>
                    </a:lnTo>
                    <a:lnTo>
                      <a:pt x="2021" y="1290"/>
                    </a:lnTo>
                    <a:lnTo>
                      <a:pt x="2026" y="1300"/>
                    </a:lnTo>
                    <a:lnTo>
                      <a:pt x="2026" y="1310"/>
                    </a:lnTo>
                    <a:lnTo>
                      <a:pt x="2032" y="1320"/>
                    </a:lnTo>
                    <a:lnTo>
                      <a:pt x="2037" y="1330"/>
                    </a:lnTo>
                    <a:lnTo>
                      <a:pt x="2042" y="1345"/>
                    </a:lnTo>
                    <a:lnTo>
                      <a:pt x="2047" y="1360"/>
                    </a:lnTo>
                    <a:lnTo>
                      <a:pt x="2052" y="1381"/>
                    </a:lnTo>
                    <a:lnTo>
                      <a:pt x="2057" y="1406"/>
                    </a:lnTo>
                    <a:lnTo>
                      <a:pt x="2057" y="1431"/>
                    </a:lnTo>
                    <a:lnTo>
                      <a:pt x="2062" y="1461"/>
                    </a:lnTo>
                    <a:lnTo>
                      <a:pt x="2067" y="1507"/>
                    </a:lnTo>
                    <a:lnTo>
                      <a:pt x="2072" y="1567"/>
                    </a:lnTo>
                    <a:lnTo>
                      <a:pt x="2077" y="1678"/>
                    </a:lnTo>
                    <a:lnTo>
                      <a:pt x="2077" y="1955"/>
                    </a:lnTo>
                  </a:path>
                </a:pathLst>
              </a:custGeom>
              <a:noFill/>
              <a:ln cap="rnd" w="255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8721720" y="5067360"/>
                <a:ext cx="162000" cy="1104840"/>
              </a:xfrm>
              <a:custGeom>
                <a:avLst/>
                <a:gdLst/>
                <a:ahLst/>
                <a:rect l="l" t="t" r="r" b="b"/>
                <a:pathLst>
                  <a:path w="102" h="696">
                    <a:moveTo>
                      <a:pt x="0" y="695"/>
                    </a:moveTo>
                    <a:lnTo>
                      <a:pt x="5" y="398"/>
                    </a:lnTo>
                    <a:lnTo>
                      <a:pt x="5" y="302"/>
                    </a:lnTo>
                    <a:lnTo>
                      <a:pt x="10" y="242"/>
                    </a:lnTo>
                    <a:lnTo>
                      <a:pt x="15" y="201"/>
                    </a:lnTo>
                    <a:lnTo>
                      <a:pt x="20" y="171"/>
                    </a:lnTo>
                    <a:lnTo>
                      <a:pt x="25" y="146"/>
                    </a:lnTo>
                    <a:lnTo>
                      <a:pt x="30" y="121"/>
                    </a:lnTo>
                    <a:lnTo>
                      <a:pt x="30" y="106"/>
                    </a:lnTo>
                    <a:lnTo>
                      <a:pt x="35" y="90"/>
                    </a:lnTo>
                    <a:lnTo>
                      <a:pt x="40" y="75"/>
                    </a:lnTo>
                    <a:lnTo>
                      <a:pt x="45" y="65"/>
                    </a:lnTo>
                    <a:lnTo>
                      <a:pt x="50" y="55"/>
                    </a:lnTo>
                    <a:lnTo>
                      <a:pt x="55" y="45"/>
                    </a:lnTo>
                    <a:lnTo>
                      <a:pt x="60" y="35"/>
                    </a:lnTo>
                    <a:lnTo>
                      <a:pt x="60" y="30"/>
                    </a:lnTo>
                    <a:lnTo>
                      <a:pt x="65" y="25"/>
                    </a:lnTo>
                    <a:lnTo>
                      <a:pt x="70" y="15"/>
                    </a:lnTo>
                    <a:lnTo>
                      <a:pt x="76" y="15"/>
                    </a:lnTo>
                    <a:lnTo>
                      <a:pt x="81" y="10"/>
                    </a:lnTo>
                    <a:lnTo>
                      <a:pt x="86" y="5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1" y="0"/>
                    </a:lnTo>
                  </a:path>
                </a:pathLst>
              </a:custGeom>
              <a:noFill/>
              <a:ln cap="rnd" w="255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59" name=""/>
            <p:cNvSpPr/>
            <p:nvPr/>
          </p:nvSpPr>
          <p:spPr>
            <a:xfrm>
              <a:off x="5431680" y="3851280"/>
              <a:ext cx="1388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9913"/>
                  </a:solidFill>
                  <a:latin typeface="Arial"/>
                </a:rPr>
                <a:t>Pravokutn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5432040" y="4156200"/>
              <a:ext cx="1259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abfff7"/>
                  </a:solidFill>
                  <a:latin typeface="Arial"/>
                </a:rPr>
                <a:t>Bartletto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5444640" y="4486320"/>
              <a:ext cx="1064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ff66"/>
                  </a:solidFill>
                  <a:latin typeface="Arial"/>
                </a:rPr>
                <a:t>Hanno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5428800" y="4854600"/>
              <a:ext cx="1544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8a8891"/>
                  </a:solidFill>
                  <a:latin typeface="Arial"/>
                </a:rPr>
                <a:t>Hammingo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5437800" y="5238720"/>
              <a:ext cx="157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0066"/>
                  </a:solidFill>
                  <a:latin typeface="Arial"/>
                </a:rPr>
                <a:t>Blackmano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8836920" y="3024360"/>
              <a:ext cx="36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8683200" y="5810400"/>
              <a:ext cx="325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4" dur="500"/>
                                        <p:tgtEl>
                                          <p:spTgt spid="3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3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Promjenjivi vremenski otvori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38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dfca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mogućuju kontrolu minimalnog guše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dfca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Kod njih se promjenom određenih parametara projektiranju može utjecati na karakteristiku fil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dfca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Razmotrit ćemo slijedeća dva tipa otv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Dolph-Chebyshevljev otv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Kaiserov otv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dfca"/>
                </a:solidFill>
                <a:latin typeface="Times New Roman"/>
              </a:rPr>
              <a:t>Dolph-Chebyshevljev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4400" spc="-1" strike="noStrike">
                <a:solidFill>
                  <a:srgbClr val="00dfca"/>
                </a:solidFill>
                <a:latin typeface="Times New Roman"/>
              </a:rPr>
              <a:t>otvor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graphicFrame>
        <p:nvGraphicFramePr>
          <p:cNvPr id="3869" name=""/>
          <p:cNvGraphicFramePr/>
          <p:nvPr/>
        </p:nvGraphicFramePr>
        <p:xfrm>
          <a:off x="98280" y="1523880"/>
          <a:ext cx="8948880" cy="15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" y="1523880"/>
                    <a:ext cx="894888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1" name="PlaceHolder 2"/>
          <p:cNvSpPr>
            <a:spLocks noGrp="1"/>
          </p:cNvSpPr>
          <p:nvPr>
            <p:ph/>
          </p:nvPr>
        </p:nvSpPr>
        <p:spPr>
          <a:xfrm>
            <a:off x="-360" y="2819160"/>
            <a:ext cx="15238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dje 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2" name=""/>
              <p:cNvSpPr txBox="1"/>
              <p:nvPr/>
            </p:nvSpPr>
            <p:spPr>
              <a:xfrm>
                <a:off x="617400" y="3328920"/>
                <a:ext cx="484200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mplituda prve bone latic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mplituda glavne latic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3" name=""/>
              <p:cNvSpPr txBox="1"/>
              <p:nvPr/>
            </p:nvSpPr>
            <p:spPr>
              <a:xfrm>
                <a:off x="609480" y="4343400"/>
                <a:ext cx="379728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h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4" name=""/>
              <p:cNvSpPr txBox="1"/>
              <p:nvPr/>
            </p:nvSpPr>
            <p:spPr>
              <a:xfrm>
                <a:off x="189000" y="5578560"/>
                <a:ext cx="537660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l</m:t>
                                  </m:r>
                                  <m:r>
                                    <m:t xml:space="preserve">⋅</m:t>
                                  </m:r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h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l</m:t>
                                  </m:r>
                                  <m:r>
                                    <m:t xml:space="preserve">⋅</m:t>
                                  </m:r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h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  <m:m>
                      <m:mr>
                        <m:e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 za 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≤</m:t>
                          </m:r>
                          <m:r>
                            <m:t xml:space="preserve">1</m:t>
                          </m:r>
                        </m:e>
                      </m:mr>
                      <m:mr>
                        <m:e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 za 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&gt;</m:t>
                          </m:r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5" name=""/>
              <p:cNvSpPr txBox="1"/>
              <p:nvPr/>
            </p:nvSpPr>
            <p:spPr>
              <a:xfrm>
                <a:off x="5504040" y="5653080"/>
                <a:ext cx="382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76" name=""/>
          <p:cNvSpPr/>
          <p:nvPr/>
        </p:nvSpPr>
        <p:spPr>
          <a:xfrm>
            <a:off x="5865840" y="556272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Chebyshevljev polinom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-tog re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3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2" dur="500"/>
                                        <p:tgtEl>
                                          <p:spTgt spid="3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3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3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3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dfca"/>
                </a:solidFill>
                <a:latin typeface="Times New Roman"/>
              </a:rPr>
              <a:t>Dolph-Chebyshevljev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4400" spc="-1" strike="noStrike">
                <a:solidFill>
                  <a:srgbClr val="00dfca"/>
                </a:solidFill>
                <a:latin typeface="Times New Roman"/>
              </a:rPr>
              <a:t>otvor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3878" name=""/>
          <p:cNvSpPr/>
          <p:nvPr/>
        </p:nvSpPr>
        <p:spPr>
          <a:xfrm>
            <a:off x="152280" y="1752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j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9" name=""/>
          <p:cNvGrpSpPr/>
          <p:nvPr/>
        </p:nvGrpSpPr>
        <p:grpSpPr>
          <a:xfrm>
            <a:off x="0" y="2362320"/>
            <a:ext cx="4511520" cy="4520160"/>
            <a:chOff x="0" y="2362320"/>
            <a:chExt cx="4511520" cy="4520160"/>
          </a:xfrm>
        </p:grpSpPr>
        <p:sp>
          <p:nvSpPr>
            <p:cNvPr id="3880" name=""/>
            <p:cNvSpPr/>
            <p:nvPr/>
          </p:nvSpPr>
          <p:spPr>
            <a:xfrm flipV="1">
              <a:off x="577800" y="3476520"/>
              <a:ext cx="0" cy="27338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 flipV="1">
              <a:off x="1444680" y="3476520"/>
              <a:ext cx="0" cy="27338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 flipV="1">
              <a:off x="2320920" y="3476520"/>
              <a:ext cx="0" cy="27338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 flipV="1">
              <a:off x="3187800" y="3476520"/>
              <a:ext cx="0" cy="27338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 flipV="1">
              <a:off x="4054320" y="3476520"/>
              <a:ext cx="0" cy="27338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577800" y="6210360"/>
              <a:ext cx="34765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577800" y="5665680"/>
              <a:ext cx="34765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577800" y="5119560"/>
              <a:ext cx="34765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577800" y="4567320"/>
              <a:ext cx="34765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577800" y="4021200"/>
              <a:ext cx="34765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577800" y="3476520"/>
              <a:ext cx="34765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577800" y="3476520"/>
              <a:ext cx="3478320" cy="2735280"/>
            </a:xfrm>
            <a:custGeom>
              <a:avLst/>
              <a:gdLst/>
              <a:ahLst/>
              <a:rect l="l" t="t" r="r" b="b"/>
              <a:pathLst>
                <a:path w="2191" h="1723">
                  <a:moveTo>
                    <a:pt x="0" y="1722"/>
                  </a:moveTo>
                  <a:lnTo>
                    <a:pt x="0" y="0"/>
                  </a:lnTo>
                  <a:lnTo>
                    <a:pt x="2190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577800" y="3476520"/>
              <a:ext cx="3478320" cy="2735280"/>
            </a:xfrm>
            <a:custGeom>
              <a:avLst/>
              <a:gdLst/>
              <a:ahLst/>
              <a:rect l="l" t="t" r="r" b="b"/>
              <a:pathLst>
                <a:path w="2191" h="1723">
                  <a:moveTo>
                    <a:pt x="0" y="1722"/>
                  </a:moveTo>
                  <a:lnTo>
                    <a:pt x="0" y="0"/>
                  </a:lnTo>
                  <a:lnTo>
                    <a:pt x="2190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577800" y="3476520"/>
              <a:ext cx="3478320" cy="2735280"/>
            </a:xfrm>
            <a:custGeom>
              <a:avLst/>
              <a:gdLst/>
              <a:ahLst/>
              <a:rect l="l" t="t" r="r" b="b"/>
              <a:pathLst>
                <a:path w="2191" h="1723">
                  <a:moveTo>
                    <a:pt x="0" y="1722"/>
                  </a:moveTo>
                  <a:lnTo>
                    <a:pt x="0" y="0"/>
                  </a:lnTo>
                  <a:lnTo>
                    <a:pt x="2190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577800" y="6210360"/>
              <a:ext cx="34765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577800" y="3476520"/>
              <a:ext cx="34765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 flipV="1">
              <a:off x="577800" y="3476520"/>
              <a:ext cx="0" cy="27338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 flipV="1">
              <a:off x="4054320" y="3476520"/>
              <a:ext cx="0" cy="27338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577800" y="347652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4054320" y="621036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577800" y="6210360"/>
              <a:ext cx="34765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 flipV="1">
              <a:off x="577800" y="3476520"/>
              <a:ext cx="0" cy="27338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577800" y="621036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 flipV="1">
              <a:off x="577800" y="61786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577800" y="347652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319320" y="622620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 flipV="1">
              <a:off x="1444680" y="61786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1444680" y="347652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1268640" y="6227640"/>
              <a:ext cx="412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 flipV="1">
              <a:off x="2320920" y="61786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2320920" y="347652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2160000" y="624060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 flipV="1">
              <a:off x="3187800" y="61786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3187800" y="347652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3037680" y="62276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 flipV="1">
              <a:off x="4054320" y="61786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4054320" y="347652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3841200" y="621648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577800" y="62103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 flipH="1">
              <a:off x="4022640" y="62103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577800" y="593892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 flipH="1">
              <a:off x="4022640" y="593892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577800" y="566568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 flipH="1">
              <a:off x="4022640" y="566568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577800" y="539280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 flipH="1">
              <a:off x="4022640" y="539280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577800" y="51195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 flipH="1">
              <a:off x="4022640" y="51195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577800" y="484812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 flipH="1">
              <a:off x="4022640" y="484812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577800" y="456732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 flipH="1">
              <a:off x="4022640" y="456732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577800" y="429408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 flipH="1">
              <a:off x="4022640" y="429408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577800" y="402120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 flipH="1">
              <a:off x="4022640" y="402120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577800" y="37479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 flipH="1">
              <a:off x="4022640" y="37479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577800" y="347652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 flipH="1">
              <a:off x="4022640" y="347652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40" name=""/>
            <p:cNvGrpSpPr/>
            <p:nvPr/>
          </p:nvGrpSpPr>
          <p:grpSpPr>
            <a:xfrm>
              <a:off x="50040" y="3292560"/>
              <a:ext cx="538560" cy="3132720"/>
              <a:chOff x="50040" y="3292560"/>
              <a:chExt cx="538560" cy="3132720"/>
            </a:xfrm>
          </p:grpSpPr>
          <p:sp>
            <p:nvSpPr>
              <p:cNvPr id="3941" name=""/>
              <p:cNvSpPr/>
              <p:nvPr/>
            </p:nvSpPr>
            <p:spPr>
              <a:xfrm>
                <a:off x="153360" y="602784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50040" y="548172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50040" y="493704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,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50040" y="438300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,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50040" y="383868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,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153360" y="329256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47" name=""/>
            <p:cNvSpPr/>
            <p:nvPr/>
          </p:nvSpPr>
          <p:spPr>
            <a:xfrm>
              <a:off x="577800" y="6210360"/>
              <a:ext cx="3933720" cy="4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577800" y="3476520"/>
              <a:ext cx="34765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 flipV="1">
              <a:off x="577800" y="3476520"/>
              <a:ext cx="0" cy="27338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 flipV="1">
              <a:off x="4054320" y="3476520"/>
              <a:ext cx="0" cy="27338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577800" y="621036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577800" y="3476520"/>
              <a:ext cx="3478320" cy="2608200"/>
            </a:xfrm>
            <a:custGeom>
              <a:avLst/>
              <a:gdLst/>
              <a:ahLst/>
              <a:rect l="l" t="t" r="r" b="b"/>
              <a:pathLst>
                <a:path w="2191" h="1643">
                  <a:moveTo>
                    <a:pt x="0" y="1642"/>
                  </a:moveTo>
                  <a:lnTo>
                    <a:pt x="111" y="1566"/>
                  </a:lnTo>
                  <a:lnTo>
                    <a:pt x="218" y="1435"/>
                  </a:lnTo>
                  <a:lnTo>
                    <a:pt x="329" y="1263"/>
                  </a:lnTo>
                  <a:lnTo>
                    <a:pt x="440" y="1051"/>
                  </a:lnTo>
                  <a:lnTo>
                    <a:pt x="546" y="813"/>
                  </a:lnTo>
                  <a:lnTo>
                    <a:pt x="658" y="565"/>
                  </a:lnTo>
                  <a:lnTo>
                    <a:pt x="769" y="343"/>
                  </a:lnTo>
                  <a:lnTo>
                    <a:pt x="875" y="161"/>
                  </a:lnTo>
                  <a:lnTo>
                    <a:pt x="986" y="40"/>
                  </a:lnTo>
                  <a:lnTo>
                    <a:pt x="1098" y="0"/>
                  </a:lnTo>
                  <a:lnTo>
                    <a:pt x="1204" y="40"/>
                  </a:lnTo>
                  <a:lnTo>
                    <a:pt x="1315" y="161"/>
                  </a:lnTo>
                  <a:lnTo>
                    <a:pt x="1421" y="343"/>
                  </a:lnTo>
                  <a:lnTo>
                    <a:pt x="1532" y="565"/>
                  </a:lnTo>
                  <a:lnTo>
                    <a:pt x="1644" y="813"/>
                  </a:lnTo>
                  <a:lnTo>
                    <a:pt x="1750" y="1051"/>
                  </a:lnTo>
                  <a:lnTo>
                    <a:pt x="1861" y="1263"/>
                  </a:lnTo>
                  <a:lnTo>
                    <a:pt x="1972" y="1435"/>
                  </a:lnTo>
                  <a:lnTo>
                    <a:pt x="2079" y="1566"/>
                  </a:lnTo>
                  <a:lnTo>
                    <a:pt x="2190" y="1642"/>
                  </a:lnTo>
                </a:path>
              </a:pathLst>
            </a:custGeom>
            <a:noFill/>
            <a:ln cap="rnd" w="25560">
              <a:solidFill>
                <a:srgbClr val="f81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577800" y="3476520"/>
              <a:ext cx="3478320" cy="2719440"/>
            </a:xfrm>
            <a:custGeom>
              <a:avLst/>
              <a:gdLst/>
              <a:ahLst/>
              <a:rect l="l" t="t" r="r" b="b"/>
              <a:pathLst>
                <a:path w="2191" h="1713">
                  <a:moveTo>
                    <a:pt x="0" y="1712"/>
                  </a:moveTo>
                  <a:lnTo>
                    <a:pt x="111" y="1687"/>
                  </a:lnTo>
                  <a:lnTo>
                    <a:pt x="218" y="1632"/>
                  </a:lnTo>
                  <a:lnTo>
                    <a:pt x="329" y="1520"/>
                  </a:lnTo>
                  <a:lnTo>
                    <a:pt x="440" y="1349"/>
                  </a:lnTo>
                  <a:lnTo>
                    <a:pt x="546" y="1106"/>
                  </a:lnTo>
                  <a:lnTo>
                    <a:pt x="658" y="818"/>
                  </a:lnTo>
                  <a:lnTo>
                    <a:pt x="769" y="520"/>
                  </a:lnTo>
                  <a:lnTo>
                    <a:pt x="875" y="252"/>
                  </a:lnTo>
                  <a:lnTo>
                    <a:pt x="986" y="65"/>
                  </a:lnTo>
                  <a:lnTo>
                    <a:pt x="1098" y="0"/>
                  </a:lnTo>
                  <a:lnTo>
                    <a:pt x="1204" y="65"/>
                  </a:lnTo>
                  <a:lnTo>
                    <a:pt x="1315" y="252"/>
                  </a:lnTo>
                  <a:lnTo>
                    <a:pt x="1421" y="520"/>
                  </a:lnTo>
                  <a:lnTo>
                    <a:pt x="1532" y="818"/>
                  </a:lnTo>
                  <a:lnTo>
                    <a:pt x="1644" y="1106"/>
                  </a:lnTo>
                  <a:lnTo>
                    <a:pt x="1750" y="1349"/>
                  </a:lnTo>
                  <a:lnTo>
                    <a:pt x="1861" y="1520"/>
                  </a:lnTo>
                  <a:lnTo>
                    <a:pt x="1972" y="1632"/>
                  </a:lnTo>
                  <a:lnTo>
                    <a:pt x="2079" y="1687"/>
                  </a:lnTo>
                  <a:lnTo>
                    <a:pt x="2190" y="1712"/>
                  </a:lnTo>
                </a:path>
              </a:pathLst>
            </a:custGeom>
            <a:noFill/>
            <a:ln cap="rnd" w="25560">
              <a:solidFill>
                <a:srgbClr val="abff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416160" y="2981160"/>
              <a:ext cx="3990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afd00"/>
                  </a:solidFill>
                  <a:latin typeface="Arial"/>
                </a:rPr>
                <a:t>Dolph-Chebyshevljev otvor, N=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1892520" y="6485040"/>
              <a:ext cx="909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Uzorc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804040" y="3494160"/>
              <a:ext cx="1323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81406"/>
                  </a:solidFill>
                  <a:latin typeface="Arial"/>
                </a:rPr>
                <a:t>atten.= 5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2816640" y="3767040"/>
              <a:ext cx="1323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abfff7"/>
                  </a:solidFill>
                  <a:latin typeface="Arial"/>
                </a:rPr>
                <a:t>atten.= 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0" y="2362320"/>
              <a:ext cx="4495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N = 2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59" name=""/>
          <p:cNvGrpSpPr/>
          <p:nvPr/>
        </p:nvGrpSpPr>
        <p:grpSpPr>
          <a:xfrm>
            <a:off x="4648320" y="2362320"/>
            <a:ext cx="4508280" cy="4520160"/>
            <a:chOff x="4648320" y="2362320"/>
            <a:chExt cx="4508280" cy="4520160"/>
          </a:xfrm>
        </p:grpSpPr>
        <p:sp>
          <p:nvSpPr>
            <p:cNvPr id="3960" name=""/>
            <p:cNvSpPr/>
            <p:nvPr/>
          </p:nvSpPr>
          <p:spPr>
            <a:xfrm flipV="1">
              <a:off x="5234040" y="3493800"/>
              <a:ext cx="0" cy="2730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 flipV="1">
              <a:off x="6099120" y="3493800"/>
              <a:ext cx="0" cy="273060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 flipV="1">
              <a:off x="6972480" y="3493800"/>
              <a:ext cx="0" cy="273060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 flipV="1">
              <a:off x="7837560" y="3493800"/>
              <a:ext cx="0" cy="273060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 flipV="1">
              <a:off x="8702640" y="3493800"/>
              <a:ext cx="0" cy="2730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5234040" y="6224760"/>
              <a:ext cx="3468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5234040" y="5680080"/>
              <a:ext cx="346860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5234040" y="5135400"/>
              <a:ext cx="346860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5234040" y="4583160"/>
              <a:ext cx="346860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5234040" y="4038480"/>
              <a:ext cx="346860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5234040" y="3494160"/>
              <a:ext cx="3468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5234040" y="3494160"/>
              <a:ext cx="3470400" cy="2732040"/>
            </a:xfrm>
            <a:custGeom>
              <a:avLst/>
              <a:gdLst/>
              <a:ahLst/>
              <a:rect l="l" t="t" r="r" b="b"/>
              <a:pathLst>
                <a:path w="2186" h="1721">
                  <a:moveTo>
                    <a:pt x="0" y="1720"/>
                  </a:moveTo>
                  <a:lnTo>
                    <a:pt x="0" y="0"/>
                  </a:lnTo>
                  <a:lnTo>
                    <a:pt x="2185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5234040" y="3494160"/>
              <a:ext cx="3470400" cy="2732040"/>
            </a:xfrm>
            <a:custGeom>
              <a:avLst/>
              <a:gdLst/>
              <a:ahLst/>
              <a:rect l="l" t="t" r="r" b="b"/>
              <a:pathLst>
                <a:path w="2186" h="1721">
                  <a:moveTo>
                    <a:pt x="0" y="1720"/>
                  </a:moveTo>
                  <a:lnTo>
                    <a:pt x="0" y="0"/>
                  </a:lnTo>
                  <a:lnTo>
                    <a:pt x="2185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5234040" y="3494160"/>
              <a:ext cx="3470400" cy="2732040"/>
            </a:xfrm>
            <a:custGeom>
              <a:avLst/>
              <a:gdLst/>
              <a:ahLst/>
              <a:rect l="l" t="t" r="r" b="b"/>
              <a:pathLst>
                <a:path w="2186" h="1721">
                  <a:moveTo>
                    <a:pt x="0" y="1720"/>
                  </a:moveTo>
                  <a:lnTo>
                    <a:pt x="0" y="0"/>
                  </a:lnTo>
                  <a:lnTo>
                    <a:pt x="2185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5234040" y="6224760"/>
              <a:ext cx="3468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5234040" y="3494160"/>
              <a:ext cx="3468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 flipV="1">
              <a:off x="5234040" y="3493800"/>
              <a:ext cx="0" cy="2730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 flipV="1">
              <a:off x="8702640" y="3493800"/>
              <a:ext cx="0" cy="2730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5234040" y="349416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8702640" y="622476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5234040" y="6224760"/>
              <a:ext cx="3468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 flipV="1">
              <a:off x="5234040" y="3493800"/>
              <a:ext cx="0" cy="2730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5234040" y="622476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 flipV="1">
              <a:off x="5234040" y="6192360"/>
              <a:ext cx="0" cy="3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5234040" y="3494160"/>
              <a:ext cx="0" cy="33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4965840" y="623880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 flipV="1">
              <a:off x="5667480" y="6192360"/>
              <a:ext cx="0" cy="3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5667480" y="3494160"/>
              <a:ext cx="0" cy="33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 flipV="1">
              <a:off x="6099120" y="6192360"/>
              <a:ext cx="0" cy="3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6099120" y="3494160"/>
              <a:ext cx="0" cy="33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5816880" y="621648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 flipV="1">
              <a:off x="6531120" y="6192360"/>
              <a:ext cx="0" cy="3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6531120" y="3494160"/>
              <a:ext cx="0" cy="33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 flipV="1">
              <a:off x="6972480" y="6192360"/>
              <a:ext cx="0" cy="3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6972480" y="3494160"/>
              <a:ext cx="0" cy="33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6798600" y="624060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 flipV="1">
              <a:off x="7404120" y="6192360"/>
              <a:ext cx="0" cy="3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7404120" y="3494160"/>
              <a:ext cx="0" cy="33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 flipV="1">
              <a:off x="7837560" y="6192360"/>
              <a:ext cx="0" cy="3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7837560" y="3494160"/>
              <a:ext cx="0" cy="33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7635240" y="622764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 flipV="1">
              <a:off x="8269200" y="6192360"/>
              <a:ext cx="0" cy="3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8269200" y="3494160"/>
              <a:ext cx="0" cy="33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 flipV="1">
              <a:off x="8702640" y="6192360"/>
              <a:ext cx="0" cy="3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8702640" y="3494160"/>
              <a:ext cx="0" cy="33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8465400" y="625140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5234040" y="62247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 flipH="1">
              <a:off x="8668800" y="622476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5234040" y="595152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 flipH="1">
              <a:off x="8668800" y="595152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5234040" y="568008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 flipH="1">
              <a:off x="8668800" y="568008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5234040" y="540864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 flipH="1">
              <a:off x="8668800" y="540864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5234040" y="513540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 flipH="1">
              <a:off x="8668800" y="513540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5234040" y="48639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 flipH="1">
              <a:off x="8668800" y="486396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5234040" y="45831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 flipH="1">
              <a:off x="8668800" y="458316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5234040" y="431172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 flipH="1">
              <a:off x="8668800" y="431172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5234040" y="403848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 flipH="1">
              <a:off x="8668800" y="403848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5234040" y="376704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 flipH="1">
              <a:off x="8668800" y="376704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5234040" y="34941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 flipH="1">
              <a:off x="8668800" y="349416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28" name=""/>
            <p:cNvGrpSpPr/>
            <p:nvPr/>
          </p:nvGrpSpPr>
          <p:grpSpPr>
            <a:xfrm>
              <a:off x="4729680" y="3286080"/>
              <a:ext cx="538560" cy="3128040"/>
              <a:chOff x="4729680" y="3286080"/>
              <a:chExt cx="538560" cy="3128040"/>
            </a:xfrm>
          </p:grpSpPr>
          <p:sp>
            <p:nvSpPr>
              <p:cNvPr id="4029" name=""/>
              <p:cNvSpPr/>
              <p:nvPr/>
            </p:nvSpPr>
            <p:spPr>
              <a:xfrm>
                <a:off x="4834800" y="60166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4729680" y="547200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4729680" y="492768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,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4729680" y="437508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,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4729680" y="383076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,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4834800" y="32860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35" name=""/>
            <p:cNvSpPr/>
            <p:nvPr/>
          </p:nvSpPr>
          <p:spPr>
            <a:xfrm>
              <a:off x="5234040" y="6224760"/>
              <a:ext cx="3898800" cy="2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5234040" y="3494160"/>
              <a:ext cx="3468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 flipV="1">
              <a:off x="5234040" y="3493800"/>
              <a:ext cx="0" cy="2730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 flipV="1">
              <a:off x="8702640" y="3493800"/>
              <a:ext cx="0" cy="2730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5234040" y="622476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5234040" y="3494160"/>
              <a:ext cx="3470400" cy="2579760"/>
            </a:xfrm>
            <a:custGeom>
              <a:avLst/>
              <a:gdLst/>
              <a:ahLst/>
              <a:rect l="l" t="t" r="r" b="b"/>
              <a:pathLst>
                <a:path w="2186" h="1625">
                  <a:moveTo>
                    <a:pt x="0" y="1624"/>
                  </a:moveTo>
                  <a:lnTo>
                    <a:pt x="56" y="1624"/>
                  </a:lnTo>
                  <a:lnTo>
                    <a:pt x="111" y="1574"/>
                  </a:lnTo>
                  <a:lnTo>
                    <a:pt x="162" y="1518"/>
                  </a:lnTo>
                  <a:lnTo>
                    <a:pt x="217" y="1448"/>
                  </a:lnTo>
                  <a:lnTo>
                    <a:pt x="273" y="1367"/>
                  </a:lnTo>
                  <a:lnTo>
                    <a:pt x="328" y="1276"/>
                  </a:lnTo>
                  <a:lnTo>
                    <a:pt x="384" y="1175"/>
                  </a:lnTo>
                  <a:lnTo>
                    <a:pt x="439" y="1064"/>
                  </a:lnTo>
                  <a:lnTo>
                    <a:pt x="490" y="948"/>
                  </a:lnTo>
                  <a:lnTo>
                    <a:pt x="545" y="827"/>
                  </a:lnTo>
                  <a:lnTo>
                    <a:pt x="601" y="701"/>
                  </a:lnTo>
                  <a:lnTo>
                    <a:pt x="656" y="580"/>
                  </a:lnTo>
                  <a:lnTo>
                    <a:pt x="712" y="459"/>
                  </a:lnTo>
                  <a:lnTo>
                    <a:pt x="767" y="348"/>
                  </a:lnTo>
                  <a:lnTo>
                    <a:pt x="817" y="252"/>
                  </a:lnTo>
                  <a:lnTo>
                    <a:pt x="873" y="167"/>
                  </a:lnTo>
                  <a:lnTo>
                    <a:pt x="928" y="96"/>
                  </a:lnTo>
                  <a:lnTo>
                    <a:pt x="984" y="41"/>
                  </a:lnTo>
                  <a:lnTo>
                    <a:pt x="1039" y="10"/>
                  </a:lnTo>
                  <a:lnTo>
                    <a:pt x="1095" y="0"/>
                  </a:lnTo>
                  <a:lnTo>
                    <a:pt x="1145" y="10"/>
                  </a:lnTo>
                  <a:lnTo>
                    <a:pt x="1201" y="41"/>
                  </a:lnTo>
                  <a:lnTo>
                    <a:pt x="1256" y="96"/>
                  </a:lnTo>
                  <a:lnTo>
                    <a:pt x="1312" y="167"/>
                  </a:lnTo>
                  <a:lnTo>
                    <a:pt x="1367" y="252"/>
                  </a:lnTo>
                  <a:lnTo>
                    <a:pt x="1418" y="348"/>
                  </a:lnTo>
                  <a:lnTo>
                    <a:pt x="1473" y="459"/>
                  </a:lnTo>
                  <a:lnTo>
                    <a:pt x="1529" y="580"/>
                  </a:lnTo>
                  <a:lnTo>
                    <a:pt x="1584" y="701"/>
                  </a:lnTo>
                  <a:lnTo>
                    <a:pt x="1640" y="827"/>
                  </a:lnTo>
                  <a:lnTo>
                    <a:pt x="1695" y="948"/>
                  </a:lnTo>
                  <a:lnTo>
                    <a:pt x="1746" y="1064"/>
                  </a:lnTo>
                  <a:lnTo>
                    <a:pt x="1801" y="1175"/>
                  </a:lnTo>
                  <a:lnTo>
                    <a:pt x="1857" y="1276"/>
                  </a:lnTo>
                  <a:lnTo>
                    <a:pt x="1912" y="1367"/>
                  </a:lnTo>
                  <a:lnTo>
                    <a:pt x="1968" y="1448"/>
                  </a:lnTo>
                  <a:lnTo>
                    <a:pt x="2023" y="1518"/>
                  </a:lnTo>
                  <a:lnTo>
                    <a:pt x="2074" y="1574"/>
                  </a:lnTo>
                  <a:lnTo>
                    <a:pt x="2129" y="1624"/>
                  </a:lnTo>
                  <a:lnTo>
                    <a:pt x="2185" y="1624"/>
                  </a:lnTo>
                </a:path>
              </a:pathLst>
            </a:custGeom>
            <a:noFill/>
            <a:ln cap="rnd" w="25560">
              <a:solidFill>
                <a:srgbClr val="f81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5234040" y="3494160"/>
              <a:ext cx="3470400" cy="2724120"/>
            </a:xfrm>
            <a:custGeom>
              <a:avLst/>
              <a:gdLst/>
              <a:ahLst/>
              <a:rect l="l" t="t" r="r" b="b"/>
              <a:pathLst>
                <a:path w="2186" h="1716">
                  <a:moveTo>
                    <a:pt x="0" y="1715"/>
                  </a:moveTo>
                  <a:lnTo>
                    <a:pt x="56" y="1710"/>
                  </a:lnTo>
                  <a:lnTo>
                    <a:pt x="111" y="1695"/>
                  </a:lnTo>
                  <a:lnTo>
                    <a:pt x="162" y="1675"/>
                  </a:lnTo>
                  <a:lnTo>
                    <a:pt x="217" y="1644"/>
                  </a:lnTo>
                  <a:lnTo>
                    <a:pt x="273" y="1604"/>
                  </a:lnTo>
                  <a:lnTo>
                    <a:pt x="328" y="1543"/>
                  </a:lnTo>
                  <a:lnTo>
                    <a:pt x="384" y="1473"/>
                  </a:lnTo>
                  <a:lnTo>
                    <a:pt x="439" y="1382"/>
                  </a:lnTo>
                  <a:lnTo>
                    <a:pt x="490" y="1271"/>
                  </a:lnTo>
                  <a:lnTo>
                    <a:pt x="545" y="1145"/>
                  </a:lnTo>
                  <a:lnTo>
                    <a:pt x="601" y="1004"/>
                  </a:lnTo>
                  <a:lnTo>
                    <a:pt x="656" y="853"/>
                  </a:lnTo>
                  <a:lnTo>
                    <a:pt x="712" y="696"/>
                  </a:lnTo>
                  <a:lnTo>
                    <a:pt x="767" y="545"/>
                  </a:lnTo>
                  <a:lnTo>
                    <a:pt x="817" y="399"/>
                  </a:lnTo>
                  <a:lnTo>
                    <a:pt x="873" y="263"/>
                  </a:lnTo>
                  <a:lnTo>
                    <a:pt x="928" y="152"/>
                  </a:lnTo>
                  <a:lnTo>
                    <a:pt x="984" y="71"/>
                  </a:lnTo>
                  <a:lnTo>
                    <a:pt x="1039" y="21"/>
                  </a:lnTo>
                  <a:lnTo>
                    <a:pt x="1095" y="0"/>
                  </a:lnTo>
                  <a:lnTo>
                    <a:pt x="1145" y="21"/>
                  </a:lnTo>
                  <a:lnTo>
                    <a:pt x="1201" y="71"/>
                  </a:lnTo>
                  <a:lnTo>
                    <a:pt x="1256" y="152"/>
                  </a:lnTo>
                  <a:lnTo>
                    <a:pt x="1312" y="263"/>
                  </a:lnTo>
                  <a:lnTo>
                    <a:pt x="1367" y="399"/>
                  </a:lnTo>
                  <a:lnTo>
                    <a:pt x="1418" y="545"/>
                  </a:lnTo>
                  <a:lnTo>
                    <a:pt x="1473" y="696"/>
                  </a:lnTo>
                  <a:lnTo>
                    <a:pt x="1529" y="853"/>
                  </a:lnTo>
                  <a:lnTo>
                    <a:pt x="1584" y="1004"/>
                  </a:lnTo>
                  <a:lnTo>
                    <a:pt x="1640" y="1145"/>
                  </a:lnTo>
                  <a:lnTo>
                    <a:pt x="1695" y="1271"/>
                  </a:lnTo>
                  <a:lnTo>
                    <a:pt x="1746" y="1382"/>
                  </a:lnTo>
                  <a:lnTo>
                    <a:pt x="1801" y="1473"/>
                  </a:lnTo>
                  <a:lnTo>
                    <a:pt x="1857" y="1543"/>
                  </a:lnTo>
                  <a:lnTo>
                    <a:pt x="1912" y="1604"/>
                  </a:lnTo>
                  <a:lnTo>
                    <a:pt x="1968" y="1644"/>
                  </a:lnTo>
                  <a:lnTo>
                    <a:pt x="2023" y="1675"/>
                  </a:lnTo>
                  <a:lnTo>
                    <a:pt x="2074" y="1695"/>
                  </a:lnTo>
                  <a:lnTo>
                    <a:pt x="2129" y="1710"/>
                  </a:lnTo>
                  <a:lnTo>
                    <a:pt x="2185" y="1715"/>
                  </a:lnTo>
                </a:path>
              </a:pathLst>
            </a:custGeom>
            <a:noFill/>
            <a:ln cap="rnd" w="25560">
              <a:solidFill>
                <a:srgbClr val="abff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5166000" y="2940120"/>
              <a:ext cx="3990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afd00"/>
                  </a:solidFill>
                  <a:latin typeface="Arial"/>
                </a:rPr>
                <a:t>Dolph-Chebyshevljev otvor, N=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6558480" y="6485040"/>
              <a:ext cx="909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Uzorc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4648320" y="2362320"/>
              <a:ext cx="449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N = 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7447320" y="3505320"/>
              <a:ext cx="1323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81406"/>
                  </a:solidFill>
                  <a:latin typeface="Arial"/>
                </a:rPr>
                <a:t>atten.= 5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7460280" y="3778200"/>
              <a:ext cx="1323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abfff7"/>
                  </a:solidFill>
                  <a:latin typeface="Arial"/>
                </a:rPr>
                <a:t>atten.= 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dfca"/>
                </a:solidFill>
                <a:latin typeface="Times New Roman"/>
              </a:rPr>
              <a:t>Dolph-Chebyshevljev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4400" spc="-1" strike="noStrike">
                <a:solidFill>
                  <a:srgbClr val="00dfca"/>
                </a:solidFill>
                <a:latin typeface="Times New Roman"/>
              </a:rPr>
              <a:t>otvor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>
            <a:off x="304920" y="5637240"/>
            <a:ext cx="8610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00dfca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će gušenj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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šira glavna la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dfca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ći red otvora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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ža glavna la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0" y="140976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N = 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4648320" y="1398600"/>
            <a:ext cx="4494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N = 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1" name=""/>
          <p:cNvSpPr/>
          <p:nvPr/>
        </p:nvSpPr>
        <p:spPr>
          <a:xfrm flipV="1">
            <a:off x="5438880" y="2457000"/>
            <a:ext cx="0" cy="27306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2" name=""/>
          <p:cNvSpPr/>
          <p:nvPr/>
        </p:nvSpPr>
        <p:spPr>
          <a:xfrm flipV="1">
            <a:off x="6135840" y="2457000"/>
            <a:ext cx="0" cy="273060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3" name=""/>
          <p:cNvSpPr/>
          <p:nvPr/>
        </p:nvSpPr>
        <p:spPr>
          <a:xfrm flipV="1">
            <a:off x="6832440" y="2457000"/>
            <a:ext cx="0" cy="273060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4" name=""/>
          <p:cNvSpPr/>
          <p:nvPr/>
        </p:nvSpPr>
        <p:spPr>
          <a:xfrm flipV="1">
            <a:off x="7521480" y="2457000"/>
            <a:ext cx="0" cy="273060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 flipV="1">
            <a:off x="8218440" y="2457000"/>
            <a:ext cx="0" cy="273060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6" name=""/>
          <p:cNvSpPr/>
          <p:nvPr/>
        </p:nvSpPr>
        <p:spPr>
          <a:xfrm>
            <a:off x="5438880" y="5187960"/>
            <a:ext cx="34686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7" name=""/>
          <p:cNvSpPr/>
          <p:nvPr/>
        </p:nvSpPr>
        <p:spPr>
          <a:xfrm>
            <a:off x="5438880" y="4643280"/>
            <a:ext cx="34686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8" name=""/>
          <p:cNvSpPr/>
          <p:nvPr/>
        </p:nvSpPr>
        <p:spPr>
          <a:xfrm>
            <a:off x="5438880" y="4098960"/>
            <a:ext cx="34686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9" name=""/>
          <p:cNvSpPr/>
          <p:nvPr/>
        </p:nvSpPr>
        <p:spPr>
          <a:xfrm>
            <a:off x="5438880" y="3827520"/>
            <a:ext cx="3468600" cy="0"/>
          </a:xfrm>
          <a:prstGeom prst="line">
            <a:avLst/>
          </a:prstGeom>
          <a:ln w="25560">
            <a:solidFill>
              <a:srgbClr val="ab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0" name=""/>
          <p:cNvSpPr/>
          <p:nvPr/>
        </p:nvSpPr>
        <p:spPr>
          <a:xfrm>
            <a:off x="5438880" y="3546360"/>
            <a:ext cx="34686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1" name=""/>
          <p:cNvSpPr/>
          <p:nvPr/>
        </p:nvSpPr>
        <p:spPr>
          <a:xfrm>
            <a:off x="5438880" y="3002040"/>
            <a:ext cx="34686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2" name=""/>
          <p:cNvSpPr/>
          <p:nvPr/>
        </p:nvSpPr>
        <p:spPr>
          <a:xfrm>
            <a:off x="5438880" y="2457360"/>
            <a:ext cx="34686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3" name=""/>
          <p:cNvSpPr/>
          <p:nvPr/>
        </p:nvSpPr>
        <p:spPr>
          <a:xfrm>
            <a:off x="5438880" y="2457360"/>
            <a:ext cx="3470040" cy="2732040"/>
          </a:xfrm>
          <a:custGeom>
            <a:avLst/>
            <a:gdLst/>
            <a:ahLst/>
            <a:rect l="l" t="t" r="r" b="b"/>
            <a:pathLst>
              <a:path w="2186" h="1721">
                <a:moveTo>
                  <a:pt x="0" y="1720"/>
                </a:moveTo>
                <a:lnTo>
                  <a:pt x="0" y="0"/>
                </a:lnTo>
                <a:lnTo>
                  <a:pt x="2185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4" name=""/>
          <p:cNvSpPr/>
          <p:nvPr/>
        </p:nvSpPr>
        <p:spPr>
          <a:xfrm>
            <a:off x="5438880" y="2457360"/>
            <a:ext cx="3470040" cy="2732040"/>
          </a:xfrm>
          <a:custGeom>
            <a:avLst/>
            <a:gdLst/>
            <a:ahLst/>
            <a:rect l="l" t="t" r="r" b="b"/>
            <a:pathLst>
              <a:path w="2186" h="1721">
                <a:moveTo>
                  <a:pt x="0" y="1720"/>
                </a:moveTo>
                <a:lnTo>
                  <a:pt x="0" y="0"/>
                </a:lnTo>
                <a:lnTo>
                  <a:pt x="2185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5" name=""/>
          <p:cNvSpPr/>
          <p:nvPr/>
        </p:nvSpPr>
        <p:spPr>
          <a:xfrm>
            <a:off x="5438880" y="2457360"/>
            <a:ext cx="3470040" cy="2732040"/>
          </a:xfrm>
          <a:custGeom>
            <a:avLst/>
            <a:gdLst/>
            <a:ahLst/>
            <a:rect l="l" t="t" r="r" b="b"/>
            <a:pathLst>
              <a:path w="2186" h="1721">
                <a:moveTo>
                  <a:pt x="0" y="1720"/>
                </a:moveTo>
                <a:lnTo>
                  <a:pt x="0" y="0"/>
                </a:lnTo>
                <a:lnTo>
                  <a:pt x="2185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6" name=""/>
          <p:cNvSpPr/>
          <p:nvPr/>
        </p:nvSpPr>
        <p:spPr>
          <a:xfrm>
            <a:off x="5438880" y="5187960"/>
            <a:ext cx="34686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7" name=""/>
          <p:cNvSpPr/>
          <p:nvPr/>
        </p:nvSpPr>
        <p:spPr>
          <a:xfrm>
            <a:off x="5438880" y="2457360"/>
            <a:ext cx="34686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8" name=""/>
          <p:cNvSpPr/>
          <p:nvPr/>
        </p:nvSpPr>
        <p:spPr>
          <a:xfrm flipV="1">
            <a:off x="5438880" y="2457000"/>
            <a:ext cx="0" cy="27306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9" name=""/>
          <p:cNvSpPr/>
          <p:nvPr/>
        </p:nvSpPr>
        <p:spPr>
          <a:xfrm flipV="1">
            <a:off x="8907480" y="2457000"/>
            <a:ext cx="0" cy="27306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0" name=""/>
          <p:cNvSpPr/>
          <p:nvPr/>
        </p:nvSpPr>
        <p:spPr>
          <a:xfrm>
            <a:off x="5438880" y="2457360"/>
            <a:ext cx="25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1" name=""/>
          <p:cNvSpPr/>
          <p:nvPr/>
        </p:nvSpPr>
        <p:spPr>
          <a:xfrm>
            <a:off x="5438880" y="5187960"/>
            <a:ext cx="34686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2" name=""/>
          <p:cNvSpPr/>
          <p:nvPr/>
        </p:nvSpPr>
        <p:spPr>
          <a:xfrm flipV="1">
            <a:off x="5438880" y="2457000"/>
            <a:ext cx="0" cy="27306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3" name=""/>
          <p:cNvSpPr/>
          <p:nvPr/>
        </p:nvSpPr>
        <p:spPr>
          <a:xfrm>
            <a:off x="5438880" y="5187960"/>
            <a:ext cx="25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4" name=""/>
          <p:cNvSpPr/>
          <p:nvPr/>
        </p:nvSpPr>
        <p:spPr>
          <a:xfrm flipV="1">
            <a:off x="5438880" y="515628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5" name=""/>
          <p:cNvSpPr/>
          <p:nvPr/>
        </p:nvSpPr>
        <p:spPr>
          <a:xfrm>
            <a:off x="5438880" y="2457360"/>
            <a:ext cx="0" cy="33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>
            <a:off x="5301360" y="51912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 flipV="1">
            <a:off x="6135840" y="515628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8" name=""/>
          <p:cNvSpPr/>
          <p:nvPr/>
        </p:nvSpPr>
        <p:spPr>
          <a:xfrm>
            <a:off x="6135840" y="2457360"/>
            <a:ext cx="0" cy="33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 flipV="1">
            <a:off x="6832440" y="515628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>
            <a:off x="6832440" y="2457360"/>
            <a:ext cx="0" cy="33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 flipV="1">
            <a:off x="7521480" y="515628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>
            <a:off x="7521480" y="2457360"/>
            <a:ext cx="0" cy="33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3" name=""/>
          <p:cNvSpPr/>
          <p:nvPr/>
        </p:nvSpPr>
        <p:spPr>
          <a:xfrm flipV="1">
            <a:off x="8218440" y="5156280"/>
            <a:ext cx="0" cy="31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4" name=""/>
          <p:cNvSpPr/>
          <p:nvPr/>
        </p:nvSpPr>
        <p:spPr>
          <a:xfrm>
            <a:off x="8218440" y="2457360"/>
            <a:ext cx="0" cy="33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5" name=""/>
          <p:cNvSpPr/>
          <p:nvPr/>
        </p:nvSpPr>
        <p:spPr>
          <a:xfrm>
            <a:off x="5438880" y="518796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6" name=""/>
          <p:cNvSpPr/>
          <p:nvPr/>
        </p:nvSpPr>
        <p:spPr>
          <a:xfrm flipH="1">
            <a:off x="8873640" y="5187960"/>
            <a:ext cx="33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7" name=""/>
          <p:cNvSpPr/>
          <p:nvPr/>
        </p:nvSpPr>
        <p:spPr>
          <a:xfrm>
            <a:off x="5438880" y="491508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8" name=""/>
          <p:cNvSpPr/>
          <p:nvPr/>
        </p:nvSpPr>
        <p:spPr>
          <a:xfrm flipH="1">
            <a:off x="8873640" y="4915080"/>
            <a:ext cx="33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9" name=""/>
          <p:cNvSpPr/>
          <p:nvPr/>
        </p:nvSpPr>
        <p:spPr>
          <a:xfrm>
            <a:off x="5438880" y="464328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0" name=""/>
          <p:cNvSpPr/>
          <p:nvPr/>
        </p:nvSpPr>
        <p:spPr>
          <a:xfrm flipH="1">
            <a:off x="8873640" y="4643280"/>
            <a:ext cx="33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5438880" y="437184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 flipH="1">
            <a:off x="8873640" y="4371840"/>
            <a:ext cx="33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5438880" y="409896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 flipH="1">
            <a:off x="8873640" y="4098960"/>
            <a:ext cx="33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5438880" y="382752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 flipH="1">
            <a:off x="8873640" y="3827520"/>
            <a:ext cx="33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>
            <a:off x="5438880" y="354636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 flipH="1">
            <a:off x="8873640" y="3546360"/>
            <a:ext cx="33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>
            <a:off x="5438880" y="327492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 flipH="1">
            <a:off x="8873640" y="3274920"/>
            <a:ext cx="33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1" name=""/>
          <p:cNvSpPr/>
          <p:nvPr/>
        </p:nvSpPr>
        <p:spPr>
          <a:xfrm>
            <a:off x="5438880" y="300204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2" name=""/>
          <p:cNvSpPr/>
          <p:nvPr/>
        </p:nvSpPr>
        <p:spPr>
          <a:xfrm flipH="1">
            <a:off x="8873640" y="3002040"/>
            <a:ext cx="33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03" name=""/>
          <p:cNvGrpSpPr/>
          <p:nvPr/>
        </p:nvGrpSpPr>
        <p:grpSpPr>
          <a:xfrm>
            <a:off x="4807080" y="2793960"/>
            <a:ext cx="695520" cy="2583360"/>
            <a:chOff x="4807080" y="2793960"/>
            <a:chExt cx="695520" cy="2583360"/>
          </a:xfrm>
        </p:grpSpPr>
        <p:sp>
          <p:nvSpPr>
            <p:cNvPr id="4104" name=""/>
            <p:cNvSpPr/>
            <p:nvPr/>
          </p:nvSpPr>
          <p:spPr>
            <a:xfrm>
              <a:off x="4807080" y="4979880"/>
              <a:ext cx="695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4878720" y="443556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4878720" y="389088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4878720" y="333864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4878720" y="2793960"/>
              <a:ext cx="55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09" name=""/>
          <p:cNvSpPr/>
          <p:nvPr/>
        </p:nvSpPr>
        <p:spPr>
          <a:xfrm>
            <a:off x="5438880" y="273060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0" name=""/>
          <p:cNvSpPr/>
          <p:nvPr/>
        </p:nvSpPr>
        <p:spPr>
          <a:xfrm flipH="1">
            <a:off x="8873640" y="2730600"/>
            <a:ext cx="33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1" name=""/>
          <p:cNvSpPr/>
          <p:nvPr/>
        </p:nvSpPr>
        <p:spPr>
          <a:xfrm>
            <a:off x="5438880" y="2457360"/>
            <a:ext cx="3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2" name=""/>
          <p:cNvSpPr/>
          <p:nvPr/>
        </p:nvSpPr>
        <p:spPr>
          <a:xfrm flipH="1">
            <a:off x="8873640" y="2457360"/>
            <a:ext cx="33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3" name=""/>
          <p:cNvSpPr/>
          <p:nvPr/>
        </p:nvSpPr>
        <p:spPr>
          <a:xfrm>
            <a:off x="5039640" y="22748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4" name=""/>
          <p:cNvSpPr/>
          <p:nvPr/>
        </p:nvSpPr>
        <p:spPr>
          <a:xfrm>
            <a:off x="5438880" y="5187960"/>
            <a:ext cx="34686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5" name=""/>
          <p:cNvSpPr/>
          <p:nvPr/>
        </p:nvSpPr>
        <p:spPr>
          <a:xfrm flipV="1">
            <a:off x="5438880" y="2452320"/>
            <a:ext cx="3703680" cy="4680"/>
          </a:xfrm>
          <a:prstGeom prst="line">
            <a:avLst/>
          </a:prstGeom>
          <a:ln w="1260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6" name=""/>
          <p:cNvSpPr/>
          <p:nvPr/>
        </p:nvSpPr>
        <p:spPr>
          <a:xfrm flipV="1">
            <a:off x="5438880" y="2153880"/>
            <a:ext cx="3240" cy="3033720"/>
          </a:xfrm>
          <a:prstGeom prst="line">
            <a:avLst/>
          </a:prstGeom>
          <a:ln w="1260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7" name=""/>
          <p:cNvSpPr/>
          <p:nvPr/>
        </p:nvSpPr>
        <p:spPr>
          <a:xfrm flipV="1">
            <a:off x="8907480" y="2457000"/>
            <a:ext cx="0" cy="27306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8" name=""/>
          <p:cNvSpPr/>
          <p:nvPr/>
        </p:nvSpPr>
        <p:spPr>
          <a:xfrm>
            <a:off x="5438880" y="5187960"/>
            <a:ext cx="252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9" name=""/>
          <p:cNvSpPr/>
          <p:nvPr/>
        </p:nvSpPr>
        <p:spPr>
          <a:xfrm>
            <a:off x="8907480" y="2457360"/>
            <a:ext cx="255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0" name=""/>
          <p:cNvSpPr/>
          <p:nvPr/>
        </p:nvSpPr>
        <p:spPr>
          <a:xfrm>
            <a:off x="5438880" y="2457360"/>
            <a:ext cx="3470040" cy="2548080"/>
          </a:xfrm>
          <a:custGeom>
            <a:avLst/>
            <a:gdLst/>
            <a:ahLst/>
            <a:rect l="l" t="t" r="r" b="b"/>
            <a:pathLst>
              <a:path w="2186" h="1605">
                <a:moveTo>
                  <a:pt x="0" y="0"/>
                </a:moveTo>
                <a:lnTo>
                  <a:pt x="5" y="0"/>
                </a:lnTo>
                <a:lnTo>
                  <a:pt x="10" y="0"/>
                </a:lnTo>
                <a:lnTo>
                  <a:pt x="15" y="0"/>
                </a:lnTo>
                <a:lnTo>
                  <a:pt x="15" y="5"/>
                </a:lnTo>
                <a:lnTo>
                  <a:pt x="20" y="5"/>
                </a:lnTo>
                <a:lnTo>
                  <a:pt x="25" y="5"/>
                </a:lnTo>
                <a:lnTo>
                  <a:pt x="30" y="10"/>
                </a:lnTo>
                <a:lnTo>
                  <a:pt x="36" y="10"/>
                </a:lnTo>
                <a:lnTo>
                  <a:pt x="41" y="15"/>
                </a:lnTo>
                <a:lnTo>
                  <a:pt x="41" y="21"/>
                </a:lnTo>
                <a:lnTo>
                  <a:pt x="46" y="21"/>
                </a:lnTo>
                <a:lnTo>
                  <a:pt x="51" y="26"/>
                </a:lnTo>
                <a:lnTo>
                  <a:pt x="56" y="31"/>
                </a:lnTo>
                <a:lnTo>
                  <a:pt x="61" y="36"/>
                </a:lnTo>
                <a:lnTo>
                  <a:pt x="66" y="41"/>
                </a:lnTo>
                <a:lnTo>
                  <a:pt x="71" y="46"/>
                </a:lnTo>
                <a:lnTo>
                  <a:pt x="71" y="51"/>
                </a:lnTo>
                <a:lnTo>
                  <a:pt x="76" y="61"/>
                </a:lnTo>
                <a:lnTo>
                  <a:pt x="81" y="66"/>
                </a:lnTo>
                <a:lnTo>
                  <a:pt x="86" y="71"/>
                </a:lnTo>
                <a:lnTo>
                  <a:pt x="91" y="81"/>
                </a:lnTo>
                <a:lnTo>
                  <a:pt x="96" y="91"/>
                </a:lnTo>
                <a:lnTo>
                  <a:pt x="96" y="96"/>
                </a:lnTo>
                <a:lnTo>
                  <a:pt x="101" y="106"/>
                </a:lnTo>
                <a:lnTo>
                  <a:pt x="106" y="116"/>
                </a:lnTo>
                <a:lnTo>
                  <a:pt x="111" y="126"/>
                </a:lnTo>
                <a:lnTo>
                  <a:pt x="116" y="136"/>
                </a:lnTo>
                <a:lnTo>
                  <a:pt x="121" y="152"/>
                </a:lnTo>
                <a:lnTo>
                  <a:pt x="126" y="162"/>
                </a:lnTo>
                <a:lnTo>
                  <a:pt x="126" y="172"/>
                </a:lnTo>
                <a:lnTo>
                  <a:pt x="131" y="187"/>
                </a:lnTo>
                <a:lnTo>
                  <a:pt x="136" y="202"/>
                </a:lnTo>
                <a:lnTo>
                  <a:pt x="141" y="217"/>
                </a:lnTo>
                <a:lnTo>
                  <a:pt x="147" y="232"/>
                </a:lnTo>
                <a:lnTo>
                  <a:pt x="152" y="247"/>
                </a:lnTo>
                <a:lnTo>
                  <a:pt x="157" y="263"/>
                </a:lnTo>
                <a:lnTo>
                  <a:pt x="157" y="283"/>
                </a:lnTo>
                <a:lnTo>
                  <a:pt x="162" y="303"/>
                </a:lnTo>
                <a:lnTo>
                  <a:pt x="167" y="323"/>
                </a:lnTo>
                <a:lnTo>
                  <a:pt x="172" y="343"/>
                </a:lnTo>
                <a:lnTo>
                  <a:pt x="177" y="363"/>
                </a:lnTo>
                <a:lnTo>
                  <a:pt x="182" y="389"/>
                </a:lnTo>
                <a:lnTo>
                  <a:pt x="182" y="414"/>
                </a:lnTo>
                <a:lnTo>
                  <a:pt x="187" y="444"/>
                </a:lnTo>
                <a:lnTo>
                  <a:pt x="192" y="469"/>
                </a:lnTo>
                <a:lnTo>
                  <a:pt x="197" y="505"/>
                </a:lnTo>
                <a:lnTo>
                  <a:pt x="202" y="540"/>
                </a:lnTo>
                <a:lnTo>
                  <a:pt x="207" y="580"/>
                </a:lnTo>
                <a:lnTo>
                  <a:pt x="212" y="621"/>
                </a:lnTo>
                <a:lnTo>
                  <a:pt x="212" y="676"/>
                </a:lnTo>
                <a:lnTo>
                  <a:pt x="217" y="737"/>
                </a:lnTo>
                <a:lnTo>
                  <a:pt x="222" y="822"/>
                </a:lnTo>
                <a:lnTo>
                  <a:pt x="227" y="958"/>
                </a:lnTo>
                <a:lnTo>
                  <a:pt x="232" y="1281"/>
                </a:lnTo>
                <a:lnTo>
                  <a:pt x="237" y="969"/>
                </a:lnTo>
                <a:lnTo>
                  <a:pt x="237" y="898"/>
                </a:lnTo>
                <a:lnTo>
                  <a:pt x="242" y="873"/>
                </a:lnTo>
                <a:lnTo>
                  <a:pt x="247" y="863"/>
                </a:lnTo>
                <a:lnTo>
                  <a:pt x="252" y="863"/>
                </a:lnTo>
                <a:lnTo>
                  <a:pt x="257" y="878"/>
                </a:lnTo>
                <a:lnTo>
                  <a:pt x="263" y="903"/>
                </a:lnTo>
                <a:lnTo>
                  <a:pt x="268" y="943"/>
                </a:lnTo>
                <a:lnTo>
                  <a:pt x="268" y="1004"/>
                </a:lnTo>
                <a:lnTo>
                  <a:pt x="273" y="1120"/>
                </a:lnTo>
                <a:lnTo>
                  <a:pt x="278" y="1362"/>
                </a:lnTo>
                <a:lnTo>
                  <a:pt x="283" y="1074"/>
                </a:lnTo>
                <a:lnTo>
                  <a:pt x="288" y="989"/>
                </a:lnTo>
                <a:lnTo>
                  <a:pt x="293" y="938"/>
                </a:lnTo>
                <a:lnTo>
                  <a:pt x="293" y="908"/>
                </a:lnTo>
                <a:lnTo>
                  <a:pt x="298" y="883"/>
                </a:lnTo>
                <a:lnTo>
                  <a:pt x="303" y="873"/>
                </a:lnTo>
                <a:lnTo>
                  <a:pt x="308" y="863"/>
                </a:lnTo>
                <a:lnTo>
                  <a:pt x="313" y="863"/>
                </a:lnTo>
                <a:lnTo>
                  <a:pt x="318" y="863"/>
                </a:lnTo>
                <a:lnTo>
                  <a:pt x="323" y="868"/>
                </a:lnTo>
                <a:lnTo>
                  <a:pt x="323" y="883"/>
                </a:lnTo>
                <a:lnTo>
                  <a:pt x="328" y="898"/>
                </a:lnTo>
                <a:lnTo>
                  <a:pt x="333" y="923"/>
                </a:lnTo>
                <a:lnTo>
                  <a:pt x="338" y="953"/>
                </a:lnTo>
                <a:lnTo>
                  <a:pt x="343" y="1004"/>
                </a:lnTo>
                <a:lnTo>
                  <a:pt x="348" y="1080"/>
                </a:lnTo>
                <a:lnTo>
                  <a:pt x="348" y="1246"/>
                </a:lnTo>
                <a:lnTo>
                  <a:pt x="353" y="1231"/>
                </a:lnTo>
                <a:lnTo>
                  <a:pt x="358" y="1074"/>
                </a:lnTo>
                <a:lnTo>
                  <a:pt x="363" y="1004"/>
                </a:lnTo>
                <a:lnTo>
                  <a:pt x="368" y="958"/>
                </a:lnTo>
                <a:lnTo>
                  <a:pt x="374" y="923"/>
                </a:lnTo>
                <a:lnTo>
                  <a:pt x="379" y="903"/>
                </a:lnTo>
                <a:lnTo>
                  <a:pt x="379" y="883"/>
                </a:lnTo>
                <a:lnTo>
                  <a:pt x="384" y="873"/>
                </a:lnTo>
                <a:lnTo>
                  <a:pt x="389" y="868"/>
                </a:lnTo>
                <a:lnTo>
                  <a:pt x="394" y="863"/>
                </a:lnTo>
                <a:lnTo>
                  <a:pt x="399" y="863"/>
                </a:lnTo>
                <a:lnTo>
                  <a:pt x="404" y="863"/>
                </a:lnTo>
                <a:lnTo>
                  <a:pt x="404" y="868"/>
                </a:lnTo>
                <a:lnTo>
                  <a:pt x="409" y="878"/>
                </a:lnTo>
                <a:lnTo>
                  <a:pt x="414" y="893"/>
                </a:lnTo>
                <a:lnTo>
                  <a:pt x="419" y="913"/>
                </a:lnTo>
                <a:lnTo>
                  <a:pt x="424" y="938"/>
                </a:lnTo>
                <a:lnTo>
                  <a:pt x="429" y="974"/>
                </a:lnTo>
                <a:lnTo>
                  <a:pt x="434" y="1019"/>
                </a:lnTo>
                <a:lnTo>
                  <a:pt x="434" y="1100"/>
                </a:lnTo>
                <a:lnTo>
                  <a:pt x="439" y="1276"/>
                </a:lnTo>
                <a:lnTo>
                  <a:pt x="444" y="1236"/>
                </a:lnTo>
                <a:lnTo>
                  <a:pt x="449" y="1085"/>
                </a:lnTo>
                <a:lnTo>
                  <a:pt x="454" y="1014"/>
                </a:lnTo>
                <a:lnTo>
                  <a:pt x="459" y="969"/>
                </a:lnTo>
                <a:lnTo>
                  <a:pt x="464" y="938"/>
                </a:lnTo>
                <a:lnTo>
                  <a:pt x="464" y="913"/>
                </a:lnTo>
                <a:lnTo>
                  <a:pt x="469" y="893"/>
                </a:lnTo>
                <a:lnTo>
                  <a:pt x="474" y="883"/>
                </a:lnTo>
                <a:lnTo>
                  <a:pt x="479" y="873"/>
                </a:lnTo>
                <a:lnTo>
                  <a:pt x="485" y="863"/>
                </a:lnTo>
                <a:lnTo>
                  <a:pt x="490" y="863"/>
                </a:lnTo>
                <a:lnTo>
                  <a:pt x="495" y="863"/>
                </a:lnTo>
                <a:lnTo>
                  <a:pt x="500" y="868"/>
                </a:lnTo>
                <a:lnTo>
                  <a:pt x="505" y="878"/>
                </a:lnTo>
                <a:lnTo>
                  <a:pt x="510" y="888"/>
                </a:lnTo>
                <a:lnTo>
                  <a:pt x="515" y="908"/>
                </a:lnTo>
                <a:lnTo>
                  <a:pt x="520" y="928"/>
                </a:lnTo>
                <a:lnTo>
                  <a:pt x="520" y="958"/>
                </a:lnTo>
                <a:lnTo>
                  <a:pt x="525" y="994"/>
                </a:lnTo>
                <a:lnTo>
                  <a:pt x="530" y="1049"/>
                </a:lnTo>
                <a:lnTo>
                  <a:pt x="535" y="1150"/>
                </a:lnTo>
                <a:lnTo>
                  <a:pt x="540" y="1533"/>
                </a:lnTo>
                <a:lnTo>
                  <a:pt x="545" y="1170"/>
                </a:lnTo>
                <a:lnTo>
                  <a:pt x="545" y="1064"/>
                </a:lnTo>
                <a:lnTo>
                  <a:pt x="550" y="1004"/>
                </a:lnTo>
                <a:lnTo>
                  <a:pt x="555" y="964"/>
                </a:lnTo>
                <a:lnTo>
                  <a:pt x="560" y="933"/>
                </a:lnTo>
                <a:lnTo>
                  <a:pt x="565" y="908"/>
                </a:lnTo>
                <a:lnTo>
                  <a:pt x="570" y="893"/>
                </a:lnTo>
                <a:lnTo>
                  <a:pt x="575" y="883"/>
                </a:lnTo>
                <a:lnTo>
                  <a:pt x="575" y="873"/>
                </a:lnTo>
                <a:lnTo>
                  <a:pt x="580" y="863"/>
                </a:lnTo>
                <a:lnTo>
                  <a:pt x="585" y="863"/>
                </a:lnTo>
                <a:lnTo>
                  <a:pt x="590" y="863"/>
                </a:lnTo>
                <a:lnTo>
                  <a:pt x="595" y="863"/>
                </a:lnTo>
                <a:lnTo>
                  <a:pt x="601" y="868"/>
                </a:lnTo>
                <a:lnTo>
                  <a:pt x="601" y="873"/>
                </a:lnTo>
                <a:lnTo>
                  <a:pt x="606" y="888"/>
                </a:lnTo>
                <a:lnTo>
                  <a:pt x="611" y="898"/>
                </a:lnTo>
                <a:lnTo>
                  <a:pt x="616" y="918"/>
                </a:lnTo>
                <a:lnTo>
                  <a:pt x="621" y="943"/>
                </a:lnTo>
                <a:lnTo>
                  <a:pt x="626" y="974"/>
                </a:lnTo>
                <a:lnTo>
                  <a:pt x="631" y="1019"/>
                </a:lnTo>
                <a:lnTo>
                  <a:pt x="631" y="1090"/>
                </a:lnTo>
                <a:lnTo>
                  <a:pt x="636" y="1231"/>
                </a:lnTo>
                <a:lnTo>
                  <a:pt x="641" y="1317"/>
                </a:lnTo>
                <a:lnTo>
                  <a:pt x="646" y="1120"/>
                </a:lnTo>
                <a:lnTo>
                  <a:pt x="651" y="1039"/>
                </a:lnTo>
                <a:lnTo>
                  <a:pt x="656" y="989"/>
                </a:lnTo>
                <a:lnTo>
                  <a:pt x="656" y="953"/>
                </a:lnTo>
                <a:lnTo>
                  <a:pt x="661" y="928"/>
                </a:lnTo>
                <a:lnTo>
                  <a:pt x="666" y="903"/>
                </a:lnTo>
                <a:lnTo>
                  <a:pt x="671" y="888"/>
                </a:lnTo>
                <a:lnTo>
                  <a:pt x="676" y="878"/>
                </a:lnTo>
                <a:lnTo>
                  <a:pt x="681" y="868"/>
                </a:lnTo>
                <a:lnTo>
                  <a:pt x="686" y="863"/>
                </a:lnTo>
                <a:lnTo>
                  <a:pt x="691" y="863"/>
                </a:lnTo>
                <a:lnTo>
                  <a:pt x="696" y="863"/>
                </a:lnTo>
                <a:lnTo>
                  <a:pt x="701" y="868"/>
                </a:lnTo>
                <a:lnTo>
                  <a:pt x="706" y="878"/>
                </a:lnTo>
                <a:lnTo>
                  <a:pt x="712" y="888"/>
                </a:lnTo>
                <a:lnTo>
                  <a:pt x="717" y="898"/>
                </a:lnTo>
                <a:lnTo>
                  <a:pt x="717" y="918"/>
                </a:lnTo>
                <a:lnTo>
                  <a:pt x="722" y="943"/>
                </a:lnTo>
                <a:lnTo>
                  <a:pt x="727" y="974"/>
                </a:lnTo>
                <a:lnTo>
                  <a:pt x="732" y="1019"/>
                </a:lnTo>
                <a:lnTo>
                  <a:pt x="737" y="1085"/>
                </a:lnTo>
                <a:lnTo>
                  <a:pt x="742" y="1211"/>
                </a:lnTo>
                <a:lnTo>
                  <a:pt x="742" y="1372"/>
                </a:lnTo>
                <a:lnTo>
                  <a:pt x="747" y="1135"/>
                </a:lnTo>
                <a:lnTo>
                  <a:pt x="752" y="1049"/>
                </a:lnTo>
                <a:lnTo>
                  <a:pt x="757" y="994"/>
                </a:lnTo>
                <a:lnTo>
                  <a:pt x="762" y="958"/>
                </a:lnTo>
                <a:lnTo>
                  <a:pt x="767" y="928"/>
                </a:lnTo>
                <a:lnTo>
                  <a:pt x="772" y="908"/>
                </a:lnTo>
                <a:lnTo>
                  <a:pt x="772" y="893"/>
                </a:lnTo>
                <a:lnTo>
                  <a:pt x="777" y="883"/>
                </a:lnTo>
                <a:lnTo>
                  <a:pt x="782" y="873"/>
                </a:lnTo>
                <a:lnTo>
                  <a:pt x="787" y="868"/>
                </a:lnTo>
                <a:lnTo>
                  <a:pt x="792" y="863"/>
                </a:lnTo>
                <a:lnTo>
                  <a:pt x="797" y="863"/>
                </a:lnTo>
                <a:lnTo>
                  <a:pt x="802" y="868"/>
                </a:lnTo>
                <a:lnTo>
                  <a:pt x="807" y="873"/>
                </a:lnTo>
                <a:lnTo>
                  <a:pt x="812" y="883"/>
                </a:lnTo>
                <a:lnTo>
                  <a:pt x="817" y="893"/>
                </a:lnTo>
                <a:lnTo>
                  <a:pt x="822" y="913"/>
                </a:lnTo>
                <a:lnTo>
                  <a:pt x="828" y="933"/>
                </a:lnTo>
                <a:lnTo>
                  <a:pt x="828" y="958"/>
                </a:lnTo>
                <a:lnTo>
                  <a:pt x="833" y="999"/>
                </a:lnTo>
                <a:lnTo>
                  <a:pt x="838" y="1054"/>
                </a:lnTo>
                <a:lnTo>
                  <a:pt x="843" y="1140"/>
                </a:lnTo>
                <a:lnTo>
                  <a:pt x="848" y="1412"/>
                </a:lnTo>
                <a:lnTo>
                  <a:pt x="853" y="1201"/>
                </a:lnTo>
                <a:lnTo>
                  <a:pt x="853" y="1080"/>
                </a:lnTo>
                <a:lnTo>
                  <a:pt x="858" y="1019"/>
                </a:lnTo>
                <a:lnTo>
                  <a:pt x="863" y="974"/>
                </a:lnTo>
                <a:lnTo>
                  <a:pt x="868" y="943"/>
                </a:lnTo>
                <a:lnTo>
                  <a:pt x="873" y="918"/>
                </a:lnTo>
                <a:lnTo>
                  <a:pt x="878" y="903"/>
                </a:lnTo>
                <a:lnTo>
                  <a:pt x="883" y="888"/>
                </a:lnTo>
                <a:lnTo>
                  <a:pt x="883" y="878"/>
                </a:lnTo>
                <a:lnTo>
                  <a:pt x="888" y="868"/>
                </a:lnTo>
                <a:lnTo>
                  <a:pt x="893" y="863"/>
                </a:lnTo>
                <a:lnTo>
                  <a:pt x="898" y="863"/>
                </a:lnTo>
                <a:lnTo>
                  <a:pt x="903" y="863"/>
                </a:lnTo>
                <a:lnTo>
                  <a:pt x="908" y="863"/>
                </a:lnTo>
                <a:lnTo>
                  <a:pt x="908" y="868"/>
                </a:lnTo>
                <a:lnTo>
                  <a:pt x="913" y="878"/>
                </a:lnTo>
                <a:lnTo>
                  <a:pt x="918" y="888"/>
                </a:lnTo>
                <a:lnTo>
                  <a:pt x="923" y="903"/>
                </a:lnTo>
                <a:lnTo>
                  <a:pt x="928" y="918"/>
                </a:lnTo>
                <a:lnTo>
                  <a:pt x="933" y="943"/>
                </a:lnTo>
                <a:lnTo>
                  <a:pt x="939" y="974"/>
                </a:lnTo>
                <a:lnTo>
                  <a:pt x="939" y="1014"/>
                </a:lnTo>
                <a:lnTo>
                  <a:pt x="944" y="1080"/>
                </a:lnTo>
                <a:lnTo>
                  <a:pt x="949" y="1190"/>
                </a:lnTo>
                <a:lnTo>
                  <a:pt x="954" y="1473"/>
                </a:lnTo>
                <a:lnTo>
                  <a:pt x="959" y="1150"/>
                </a:lnTo>
                <a:lnTo>
                  <a:pt x="964" y="1059"/>
                </a:lnTo>
                <a:lnTo>
                  <a:pt x="969" y="1004"/>
                </a:lnTo>
                <a:lnTo>
                  <a:pt x="969" y="964"/>
                </a:lnTo>
                <a:lnTo>
                  <a:pt x="974" y="933"/>
                </a:lnTo>
                <a:lnTo>
                  <a:pt x="979" y="913"/>
                </a:lnTo>
                <a:lnTo>
                  <a:pt x="984" y="898"/>
                </a:lnTo>
                <a:lnTo>
                  <a:pt x="989" y="883"/>
                </a:lnTo>
                <a:lnTo>
                  <a:pt x="994" y="873"/>
                </a:lnTo>
                <a:lnTo>
                  <a:pt x="994" y="868"/>
                </a:lnTo>
                <a:lnTo>
                  <a:pt x="999" y="863"/>
                </a:lnTo>
                <a:lnTo>
                  <a:pt x="1004" y="863"/>
                </a:lnTo>
                <a:lnTo>
                  <a:pt x="1009" y="863"/>
                </a:lnTo>
                <a:lnTo>
                  <a:pt x="1014" y="863"/>
                </a:lnTo>
                <a:lnTo>
                  <a:pt x="1019" y="868"/>
                </a:lnTo>
                <a:lnTo>
                  <a:pt x="1024" y="878"/>
                </a:lnTo>
                <a:lnTo>
                  <a:pt x="1024" y="888"/>
                </a:lnTo>
                <a:lnTo>
                  <a:pt x="1029" y="903"/>
                </a:lnTo>
                <a:lnTo>
                  <a:pt x="1034" y="923"/>
                </a:lnTo>
                <a:lnTo>
                  <a:pt x="1039" y="948"/>
                </a:lnTo>
                <a:lnTo>
                  <a:pt x="1044" y="979"/>
                </a:lnTo>
                <a:lnTo>
                  <a:pt x="1050" y="1024"/>
                </a:lnTo>
                <a:lnTo>
                  <a:pt x="1050" y="1090"/>
                </a:lnTo>
                <a:lnTo>
                  <a:pt x="1055" y="1221"/>
                </a:lnTo>
                <a:lnTo>
                  <a:pt x="1060" y="1352"/>
                </a:lnTo>
                <a:lnTo>
                  <a:pt x="1065" y="1130"/>
                </a:lnTo>
                <a:lnTo>
                  <a:pt x="1070" y="1049"/>
                </a:lnTo>
                <a:lnTo>
                  <a:pt x="1075" y="994"/>
                </a:lnTo>
                <a:lnTo>
                  <a:pt x="1080" y="958"/>
                </a:lnTo>
                <a:lnTo>
                  <a:pt x="1080" y="933"/>
                </a:lnTo>
                <a:lnTo>
                  <a:pt x="1085" y="913"/>
                </a:lnTo>
                <a:lnTo>
                  <a:pt x="1090" y="893"/>
                </a:lnTo>
                <a:lnTo>
                  <a:pt x="1095" y="883"/>
                </a:lnTo>
                <a:lnTo>
                  <a:pt x="1100" y="873"/>
                </a:lnTo>
                <a:lnTo>
                  <a:pt x="1105" y="868"/>
                </a:lnTo>
                <a:lnTo>
                  <a:pt x="1105" y="863"/>
                </a:lnTo>
                <a:lnTo>
                  <a:pt x="1110" y="863"/>
                </a:lnTo>
                <a:lnTo>
                  <a:pt x="1115" y="863"/>
                </a:lnTo>
                <a:lnTo>
                  <a:pt x="1120" y="863"/>
                </a:lnTo>
                <a:lnTo>
                  <a:pt x="1125" y="873"/>
                </a:lnTo>
                <a:lnTo>
                  <a:pt x="1130" y="878"/>
                </a:lnTo>
                <a:lnTo>
                  <a:pt x="1135" y="888"/>
                </a:lnTo>
                <a:lnTo>
                  <a:pt x="1135" y="903"/>
                </a:lnTo>
                <a:lnTo>
                  <a:pt x="1140" y="923"/>
                </a:lnTo>
                <a:lnTo>
                  <a:pt x="1145" y="948"/>
                </a:lnTo>
                <a:lnTo>
                  <a:pt x="1150" y="984"/>
                </a:lnTo>
                <a:lnTo>
                  <a:pt x="1155" y="1029"/>
                </a:lnTo>
                <a:lnTo>
                  <a:pt x="1160" y="1095"/>
                </a:lnTo>
                <a:lnTo>
                  <a:pt x="1160" y="1231"/>
                </a:lnTo>
                <a:lnTo>
                  <a:pt x="1166" y="1332"/>
                </a:lnTo>
                <a:lnTo>
                  <a:pt x="1171" y="1125"/>
                </a:lnTo>
                <a:lnTo>
                  <a:pt x="1176" y="1044"/>
                </a:lnTo>
                <a:lnTo>
                  <a:pt x="1181" y="994"/>
                </a:lnTo>
                <a:lnTo>
                  <a:pt x="1186" y="958"/>
                </a:lnTo>
                <a:lnTo>
                  <a:pt x="1191" y="933"/>
                </a:lnTo>
                <a:lnTo>
                  <a:pt x="1191" y="913"/>
                </a:lnTo>
                <a:lnTo>
                  <a:pt x="1196" y="893"/>
                </a:lnTo>
                <a:lnTo>
                  <a:pt x="1201" y="883"/>
                </a:lnTo>
                <a:lnTo>
                  <a:pt x="1206" y="873"/>
                </a:lnTo>
                <a:lnTo>
                  <a:pt x="1211" y="868"/>
                </a:lnTo>
                <a:lnTo>
                  <a:pt x="1216" y="863"/>
                </a:lnTo>
                <a:lnTo>
                  <a:pt x="1221" y="863"/>
                </a:lnTo>
                <a:lnTo>
                  <a:pt x="1226" y="863"/>
                </a:lnTo>
                <a:lnTo>
                  <a:pt x="1231" y="873"/>
                </a:lnTo>
                <a:lnTo>
                  <a:pt x="1236" y="878"/>
                </a:lnTo>
                <a:lnTo>
                  <a:pt x="1241" y="888"/>
                </a:lnTo>
                <a:lnTo>
                  <a:pt x="1246" y="903"/>
                </a:lnTo>
                <a:lnTo>
                  <a:pt x="1246" y="923"/>
                </a:lnTo>
                <a:lnTo>
                  <a:pt x="1251" y="948"/>
                </a:lnTo>
                <a:lnTo>
                  <a:pt x="1256" y="979"/>
                </a:lnTo>
                <a:lnTo>
                  <a:pt x="1261" y="1024"/>
                </a:lnTo>
                <a:lnTo>
                  <a:pt x="1266" y="1095"/>
                </a:lnTo>
                <a:lnTo>
                  <a:pt x="1271" y="1226"/>
                </a:lnTo>
                <a:lnTo>
                  <a:pt x="1277" y="1347"/>
                </a:lnTo>
                <a:lnTo>
                  <a:pt x="1277" y="1130"/>
                </a:lnTo>
                <a:lnTo>
                  <a:pt x="1282" y="1049"/>
                </a:lnTo>
                <a:lnTo>
                  <a:pt x="1287" y="999"/>
                </a:lnTo>
                <a:lnTo>
                  <a:pt x="1292" y="958"/>
                </a:lnTo>
                <a:lnTo>
                  <a:pt x="1297" y="933"/>
                </a:lnTo>
                <a:lnTo>
                  <a:pt x="1302" y="913"/>
                </a:lnTo>
                <a:lnTo>
                  <a:pt x="1302" y="893"/>
                </a:lnTo>
                <a:lnTo>
                  <a:pt x="1307" y="883"/>
                </a:lnTo>
                <a:lnTo>
                  <a:pt x="1312" y="873"/>
                </a:lnTo>
                <a:lnTo>
                  <a:pt x="1317" y="868"/>
                </a:lnTo>
                <a:lnTo>
                  <a:pt x="1322" y="863"/>
                </a:lnTo>
                <a:lnTo>
                  <a:pt x="1327" y="863"/>
                </a:lnTo>
                <a:lnTo>
                  <a:pt x="1332" y="863"/>
                </a:lnTo>
                <a:lnTo>
                  <a:pt x="1337" y="868"/>
                </a:lnTo>
                <a:lnTo>
                  <a:pt x="1342" y="878"/>
                </a:lnTo>
                <a:lnTo>
                  <a:pt x="1347" y="888"/>
                </a:lnTo>
                <a:lnTo>
                  <a:pt x="1352" y="903"/>
                </a:lnTo>
                <a:lnTo>
                  <a:pt x="1357" y="923"/>
                </a:lnTo>
                <a:lnTo>
                  <a:pt x="1357" y="948"/>
                </a:lnTo>
                <a:lnTo>
                  <a:pt x="1362" y="979"/>
                </a:lnTo>
                <a:lnTo>
                  <a:pt x="1367" y="1019"/>
                </a:lnTo>
                <a:lnTo>
                  <a:pt x="1372" y="1085"/>
                </a:lnTo>
                <a:lnTo>
                  <a:pt x="1377" y="1206"/>
                </a:lnTo>
                <a:lnTo>
                  <a:pt x="1382" y="1407"/>
                </a:lnTo>
                <a:lnTo>
                  <a:pt x="1387" y="1145"/>
                </a:lnTo>
                <a:lnTo>
                  <a:pt x="1387" y="1054"/>
                </a:lnTo>
                <a:lnTo>
                  <a:pt x="1393" y="999"/>
                </a:lnTo>
                <a:lnTo>
                  <a:pt x="1398" y="964"/>
                </a:lnTo>
                <a:lnTo>
                  <a:pt x="1403" y="933"/>
                </a:lnTo>
                <a:lnTo>
                  <a:pt x="1408" y="913"/>
                </a:lnTo>
                <a:lnTo>
                  <a:pt x="1413" y="898"/>
                </a:lnTo>
                <a:lnTo>
                  <a:pt x="1413" y="883"/>
                </a:lnTo>
                <a:lnTo>
                  <a:pt x="1418" y="873"/>
                </a:lnTo>
                <a:lnTo>
                  <a:pt x="1423" y="868"/>
                </a:lnTo>
                <a:lnTo>
                  <a:pt x="1428" y="863"/>
                </a:lnTo>
                <a:lnTo>
                  <a:pt x="1433" y="863"/>
                </a:lnTo>
                <a:lnTo>
                  <a:pt x="1438" y="863"/>
                </a:lnTo>
                <a:lnTo>
                  <a:pt x="1443" y="863"/>
                </a:lnTo>
                <a:lnTo>
                  <a:pt x="1443" y="868"/>
                </a:lnTo>
                <a:lnTo>
                  <a:pt x="1448" y="878"/>
                </a:lnTo>
                <a:lnTo>
                  <a:pt x="1453" y="888"/>
                </a:lnTo>
                <a:lnTo>
                  <a:pt x="1458" y="903"/>
                </a:lnTo>
                <a:lnTo>
                  <a:pt x="1463" y="918"/>
                </a:lnTo>
                <a:lnTo>
                  <a:pt x="1468" y="943"/>
                </a:lnTo>
                <a:lnTo>
                  <a:pt x="1468" y="974"/>
                </a:lnTo>
                <a:lnTo>
                  <a:pt x="1473" y="1014"/>
                </a:lnTo>
                <a:lnTo>
                  <a:pt x="1478" y="1074"/>
                </a:lnTo>
                <a:lnTo>
                  <a:pt x="1483" y="1180"/>
                </a:lnTo>
                <a:lnTo>
                  <a:pt x="1488" y="1604"/>
                </a:lnTo>
                <a:lnTo>
                  <a:pt x="1493" y="1165"/>
                </a:lnTo>
                <a:lnTo>
                  <a:pt x="1498" y="1064"/>
                </a:lnTo>
                <a:lnTo>
                  <a:pt x="1498" y="1009"/>
                </a:lnTo>
                <a:lnTo>
                  <a:pt x="1504" y="969"/>
                </a:lnTo>
                <a:lnTo>
                  <a:pt x="1509" y="938"/>
                </a:lnTo>
                <a:lnTo>
                  <a:pt x="1514" y="918"/>
                </a:lnTo>
                <a:lnTo>
                  <a:pt x="1519" y="898"/>
                </a:lnTo>
                <a:lnTo>
                  <a:pt x="1524" y="888"/>
                </a:lnTo>
                <a:lnTo>
                  <a:pt x="1529" y="878"/>
                </a:lnTo>
                <a:lnTo>
                  <a:pt x="1529" y="868"/>
                </a:lnTo>
                <a:lnTo>
                  <a:pt x="1534" y="863"/>
                </a:lnTo>
                <a:lnTo>
                  <a:pt x="1539" y="863"/>
                </a:lnTo>
                <a:lnTo>
                  <a:pt x="1544" y="863"/>
                </a:lnTo>
                <a:lnTo>
                  <a:pt x="1549" y="863"/>
                </a:lnTo>
                <a:lnTo>
                  <a:pt x="1554" y="868"/>
                </a:lnTo>
                <a:lnTo>
                  <a:pt x="1554" y="873"/>
                </a:lnTo>
                <a:lnTo>
                  <a:pt x="1559" y="883"/>
                </a:lnTo>
                <a:lnTo>
                  <a:pt x="1564" y="898"/>
                </a:lnTo>
                <a:lnTo>
                  <a:pt x="1569" y="913"/>
                </a:lnTo>
                <a:lnTo>
                  <a:pt x="1574" y="938"/>
                </a:lnTo>
                <a:lnTo>
                  <a:pt x="1579" y="969"/>
                </a:lnTo>
                <a:lnTo>
                  <a:pt x="1584" y="1004"/>
                </a:lnTo>
                <a:lnTo>
                  <a:pt x="1584" y="1059"/>
                </a:lnTo>
                <a:lnTo>
                  <a:pt x="1589" y="1155"/>
                </a:lnTo>
                <a:lnTo>
                  <a:pt x="1594" y="1473"/>
                </a:lnTo>
                <a:lnTo>
                  <a:pt x="1599" y="1195"/>
                </a:lnTo>
                <a:lnTo>
                  <a:pt x="1604" y="1080"/>
                </a:lnTo>
                <a:lnTo>
                  <a:pt x="1609" y="1019"/>
                </a:lnTo>
                <a:lnTo>
                  <a:pt x="1609" y="974"/>
                </a:lnTo>
                <a:lnTo>
                  <a:pt x="1615" y="943"/>
                </a:lnTo>
                <a:lnTo>
                  <a:pt x="1620" y="923"/>
                </a:lnTo>
                <a:lnTo>
                  <a:pt x="1625" y="903"/>
                </a:lnTo>
                <a:lnTo>
                  <a:pt x="1630" y="888"/>
                </a:lnTo>
                <a:lnTo>
                  <a:pt x="1635" y="878"/>
                </a:lnTo>
                <a:lnTo>
                  <a:pt x="1640" y="868"/>
                </a:lnTo>
                <a:lnTo>
                  <a:pt x="1640" y="863"/>
                </a:lnTo>
                <a:lnTo>
                  <a:pt x="1645" y="863"/>
                </a:lnTo>
                <a:lnTo>
                  <a:pt x="1650" y="863"/>
                </a:lnTo>
                <a:lnTo>
                  <a:pt x="1655" y="863"/>
                </a:lnTo>
                <a:lnTo>
                  <a:pt x="1660" y="868"/>
                </a:lnTo>
                <a:lnTo>
                  <a:pt x="1665" y="873"/>
                </a:lnTo>
                <a:lnTo>
                  <a:pt x="1665" y="883"/>
                </a:lnTo>
                <a:lnTo>
                  <a:pt x="1670" y="893"/>
                </a:lnTo>
                <a:lnTo>
                  <a:pt x="1675" y="913"/>
                </a:lnTo>
                <a:lnTo>
                  <a:pt x="1680" y="933"/>
                </a:lnTo>
                <a:lnTo>
                  <a:pt x="1685" y="958"/>
                </a:lnTo>
                <a:lnTo>
                  <a:pt x="1690" y="994"/>
                </a:lnTo>
                <a:lnTo>
                  <a:pt x="1695" y="1044"/>
                </a:lnTo>
                <a:lnTo>
                  <a:pt x="1695" y="1130"/>
                </a:lnTo>
                <a:lnTo>
                  <a:pt x="1700" y="1332"/>
                </a:lnTo>
                <a:lnTo>
                  <a:pt x="1705" y="1236"/>
                </a:lnTo>
                <a:lnTo>
                  <a:pt x="1710" y="1100"/>
                </a:lnTo>
                <a:lnTo>
                  <a:pt x="1715" y="1029"/>
                </a:lnTo>
                <a:lnTo>
                  <a:pt x="1720" y="984"/>
                </a:lnTo>
                <a:lnTo>
                  <a:pt x="1720" y="948"/>
                </a:lnTo>
                <a:lnTo>
                  <a:pt x="1725" y="923"/>
                </a:lnTo>
                <a:lnTo>
                  <a:pt x="1731" y="908"/>
                </a:lnTo>
                <a:lnTo>
                  <a:pt x="1736" y="893"/>
                </a:lnTo>
                <a:lnTo>
                  <a:pt x="1741" y="878"/>
                </a:lnTo>
                <a:lnTo>
                  <a:pt x="1746" y="873"/>
                </a:lnTo>
                <a:lnTo>
                  <a:pt x="1751" y="863"/>
                </a:lnTo>
                <a:lnTo>
                  <a:pt x="1756" y="863"/>
                </a:lnTo>
                <a:lnTo>
                  <a:pt x="1761" y="863"/>
                </a:lnTo>
                <a:lnTo>
                  <a:pt x="1766" y="868"/>
                </a:lnTo>
                <a:lnTo>
                  <a:pt x="1771" y="873"/>
                </a:lnTo>
                <a:lnTo>
                  <a:pt x="1776" y="883"/>
                </a:lnTo>
                <a:lnTo>
                  <a:pt x="1781" y="893"/>
                </a:lnTo>
                <a:lnTo>
                  <a:pt x="1781" y="908"/>
                </a:lnTo>
                <a:lnTo>
                  <a:pt x="1786" y="928"/>
                </a:lnTo>
                <a:lnTo>
                  <a:pt x="1791" y="953"/>
                </a:lnTo>
                <a:lnTo>
                  <a:pt x="1796" y="989"/>
                </a:lnTo>
                <a:lnTo>
                  <a:pt x="1801" y="1034"/>
                </a:lnTo>
                <a:lnTo>
                  <a:pt x="1806" y="1105"/>
                </a:lnTo>
                <a:lnTo>
                  <a:pt x="1806" y="1251"/>
                </a:lnTo>
                <a:lnTo>
                  <a:pt x="1811" y="1301"/>
                </a:lnTo>
                <a:lnTo>
                  <a:pt x="1816" y="1120"/>
                </a:lnTo>
                <a:lnTo>
                  <a:pt x="1821" y="1044"/>
                </a:lnTo>
                <a:lnTo>
                  <a:pt x="1826" y="994"/>
                </a:lnTo>
                <a:lnTo>
                  <a:pt x="1831" y="958"/>
                </a:lnTo>
                <a:lnTo>
                  <a:pt x="1836" y="933"/>
                </a:lnTo>
                <a:lnTo>
                  <a:pt x="1836" y="908"/>
                </a:lnTo>
                <a:lnTo>
                  <a:pt x="1842" y="893"/>
                </a:lnTo>
                <a:lnTo>
                  <a:pt x="1847" y="883"/>
                </a:lnTo>
                <a:lnTo>
                  <a:pt x="1852" y="873"/>
                </a:lnTo>
                <a:lnTo>
                  <a:pt x="1857" y="868"/>
                </a:lnTo>
                <a:lnTo>
                  <a:pt x="1862" y="863"/>
                </a:lnTo>
                <a:lnTo>
                  <a:pt x="1867" y="863"/>
                </a:lnTo>
                <a:lnTo>
                  <a:pt x="1872" y="863"/>
                </a:lnTo>
                <a:lnTo>
                  <a:pt x="1877" y="868"/>
                </a:lnTo>
                <a:lnTo>
                  <a:pt x="1882" y="878"/>
                </a:lnTo>
                <a:lnTo>
                  <a:pt x="1887" y="888"/>
                </a:lnTo>
                <a:lnTo>
                  <a:pt x="1892" y="903"/>
                </a:lnTo>
                <a:lnTo>
                  <a:pt x="1892" y="923"/>
                </a:lnTo>
                <a:lnTo>
                  <a:pt x="1897" y="943"/>
                </a:lnTo>
                <a:lnTo>
                  <a:pt x="1902" y="979"/>
                </a:lnTo>
                <a:lnTo>
                  <a:pt x="1907" y="1019"/>
                </a:lnTo>
                <a:lnTo>
                  <a:pt x="1912" y="1085"/>
                </a:lnTo>
                <a:lnTo>
                  <a:pt x="1917" y="1201"/>
                </a:lnTo>
                <a:lnTo>
                  <a:pt x="1917" y="1443"/>
                </a:lnTo>
                <a:lnTo>
                  <a:pt x="1922" y="1150"/>
                </a:lnTo>
                <a:lnTo>
                  <a:pt x="1927" y="1059"/>
                </a:lnTo>
                <a:lnTo>
                  <a:pt x="1932" y="1004"/>
                </a:lnTo>
                <a:lnTo>
                  <a:pt x="1937" y="964"/>
                </a:lnTo>
                <a:lnTo>
                  <a:pt x="1942" y="938"/>
                </a:lnTo>
                <a:lnTo>
                  <a:pt x="1947" y="913"/>
                </a:lnTo>
                <a:lnTo>
                  <a:pt x="1947" y="898"/>
                </a:lnTo>
                <a:lnTo>
                  <a:pt x="1952" y="883"/>
                </a:lnTo>
                <a:lnTo>
                  <a:pt x="1958" y="873"/>
                </a:lnTo>
                <a:lnTo>
                  <a:pt x="1963" y="868"/>
                </a:lnTo>
                <a:lnTo>
                  <a:pt x="1968" y="863"/>
                </a:lnTo>
                <a:lnTo>
                  <a:pt x="1973" y="863"/>
                </a:lnTo>
                <a:lnTo>
                  <a:pt x="1978" y="863"/>
                </a:lnTo>
                <a:lnTo>
                  <a:pt x="1983" y="868"/>
                </a:lnTo>
                <a:lnTo>
                  <a:pt x="1988" y="878"/>
                </a:lnTo>
                <a:lnTo>
                  <a:pt x="1993" y="888"/>
                </a:lnTo>
                <a:lnTo>
                  <a:pt x="1998" y="898"/>
                </a:lnTo>
                <a:lnTo>
                  <a:pt x="2003" y="918"/>
                </a:lnTo>
                <a:lnTo>
                  <a:pt x="2003" y="938"/>
                </a:lnTo>
                <a:lnTo>
                  <a:pt x="2008" y="969"/>
                </a:lnTo>
                <a:lnTo>
                  <a:pt x="2013" y="1009"/>
                </a:lnTo>
                <a:lnTo>
                  <a:pt x="2018" y="1064"/>
                </a:lnTo>
                <a:lnTo>
                  <a:pt x="2023" y="1160"/>
                </a:lnTo>
                <a:lnTo>
                  <a:pt x="2028" y="1523"/>
                </a:lnTo>
                <a:lnTo>
                  <a:pt x="2028" y="1185"/>
                </a:lnTo>
                <a:lnTo>
                  <a:pt x="2033" y="1080"/>
                </a:lnTo>
                <a:lnTo>
                  <a:pt x="2038" y="1014"/>
                </a:lnTo>
                <a:lnTo>
                  <a:pt x="2043" y="974"/>
                </a:lnTo>
                <a:lnTo>
                  <a:pt x="2048" y="943"/>
                </a:lnTo>
                <a:lnTo>
                  <a:pt x="2053" y="918"/>
                </a:lnTo>
                <a:lnTo>
                  <a:pt x="2058" y="903"/>
                </a:lnTo>
                <a:lnTo>
                  <a:pt x="2058" y="888"/>
                </a:lnTo>
                <a:lnTo>
                  <a:pt x="2063" y="878"/>
                </a:lnTo>
                <a:lnTo>
                  <a:pt x="2069" y="868"/>
                </a:lnTo>
                <a:lnTo>
                  <a:pt x="2074" y="863"/>
                </a:lnTo>
                <a:lnTo>
                  <a:pt x="2079" y="863"/>
                </a:lnTo>
                <a:lnTo>
                  <a:pt x="2084" y="863"/>
                </a:lnTo>
                <a:lnTo>
                  <a:pt x="2089" y="863"/>
                </a:lnTo>
                <a:lnTo>
                  <a:pt x="2089" y="868"/>
                </a:lnTo>
                <a:lnTo>
                  <a:pt x="2094" y="873"/>
                </a:lnTo>
                <a:lnTo>
                  <a:pt x="2099" y="883"/>
                </a:lnTo>
                <a:lnTo>
                  <a:pt x="2104" y="893"/>
                </a:lnTo>
                <a:lnTo>
                  <a:pt x="2109" y="913"/>
                </a:lnTo>
                <a:lnTo>
                  <a:pt x="2114" y="933"/>
                </a:lnTo>
                <a:lnTo>
                  <a:pt x="2114" y="958"/>
                </a:lnTo>
                <a:lnTo>
                  <a:pt x="2119" y="994"/>
                </a:lnTo>
                <a:lnTo>
                  <a:pt x="2124" y="1044"/>
                </a:lnTo>
                <a:lnTo>
                  <a:pt x="2129" y="1125"/>
                </a:lnTo>
                <a:lnTo>
                  <a:pt x="2134" y="1322"/>
                </a:lnTo>
                <a:lnTo>
                  <a:pt x="2139" y="1241"/>
                </a:lnTo>
                <a:lnTo>
                  <a:pt x="2144" y="1100"/>
                </a:lnTo>
                <a:lnTo>
                  <a:pt x="2144" y="1029"/>
                </a:lnTo>
                <a:lnTo>
                  <a:pt x="2149" y="984"/>
                </a:lnTo>
                <a:lnTo>
                  <a:pt x="2154" y="953"/>
                </a:lnTo>
                <a:lnTo>
                  <a:pt x="2159" y="928"/>
                </a:lnTo>
                <a:lnTo>
                  <a:pt x="2164" y="908"/>
                </a:lnTo>
                <a:lnTo>
                  <a:pt x="2169" y="893"/>
                </a:lnTo>
                <a:lnTo>
                  <a:pt x="2169" y="878"/>
                </a:lnTo>
                <a:lnTo>
                  <a:pt x="2174" y="873"/>
                </a:lnTo>
                <a:lnTo>
                  <a:pt x="2180" y="868"/>
                </a:lnTo>
                <a:lnTo>
                  <a:pt x="2185" y="863"/>
                </a:lnTo>
              </a:path>
            </a:pathLst>
          </a:custGeom>
          <a:noFill/>
          <a:ln cap="rnd" w="25560">
            <a:solidFill>
              <a:srgbClr val="f814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1" name=""/>
          <p:cNvSpPr/>
          <p:nvPr/>
        </p:nvSpPr>
        <p:spPr>
          <a:xfrm>
            <a:off x="5438880" y="2457360"/>
            <a:ext cx="690480" cy="3116520"/>
          </a:xfrm>
          <a:custGeom>
            <a:avLst/>
            <a:gdLst/>
            <a:ahLst/>
            <a:rect l="l" t="t" r="r" b="b"/>
            <a:pathLst>
              <a:path w="435" h="1963">
                <a:moveTo>
                  <a:pt x="0" y="0"/>
                </a:moveTo>
                <a:lnTo>
                  <a:pt x="5" y="0"/>
                </a:lnTo>
                <a:lnTo>
                  <a:pt x="10" y="0"/>
                </a:lnTo>
                <a:lnTo>
                  <a:pt x="15" y="0"/>
                </a:lnTo>
                <a:lnTo>
                  <a:pt x="20" y="5"/>
                </a:lnTo>
                <a:lnTo>
                  <a:pt x="25" y="5"/>
                </a:lnTo>
                <a:lnTo>
                  <a:pt x="30" y="5"/>
                </a:lnTo>
                <a:lnTo>
                  <a:pt x="36" y="5"/>
                </a:lnTo>
                <a:lnTo>
                  <a:pt x="41" y="10"/>
                </a:lnTo>
                <a:lnTo>
                  <a:pt x="46" y="15"/>
                </a:lnTo>
                <a:lnTo>
                  <a:pt x="51" y="15"/>
                </a:lnTo>
                <a:lnTo>
                  <a:pt x="56" y="21"/>
                </a:lnTo>
                <a:lnTo>
                  <a:pt x="61" y="26"/>
                </a:lnTo>
                <a:lnTo>
                  <a:pt x="66" y="26"/>
                </a:lnTo>
                <a:lnTo>
                  <a:pt x="71" y="31"/>
                </a:lnTo>
                <a:lnTo>
                  <a:pt x="71" y="36"/>
                </a:lnTo>
                <a:lnTo>
                  <a:pt x="76" y="41"/>
                </a:lnTo>
                <a:lnTo>
                  <a:pt x="81" y="41"/>
                </a:lnTo>
                <a:lnTo>
                  <a:pt x="86" y="46"/>
                </a:lnTo>
                <a:lnTo>
                  <a:pt x="91" y="51"/>
                </a:lnTo>
                <a:lnTo>
                  <a:pt x="96" y="56"/>
                </a:lnTo>
                <a:lnTo>
                  <a:pt x="96" y="61"/>
                </a:lnTo>
                <a:lnTo>
                  <a:pt x="101" y="71"/>
                </a:lnTo>
                <a:lnTo>
                  <a:pt x="106" y="76"/>
                </a:lnTo>
                <a:lnTo>
                  <a:pt x="111" y="81"/>
                </a:lnTo>
                <a:lnTo>
                  <a:pt x="116" y="86"/>
                </a:lnTo>
                <a:lnTo>
                  <a:pt x="121" y="96"/>
                </a:lnTo>
                <a:lnTo>
                  <a:pt x="126" y="101"/>
                </a:lnTo>
                <a:lnTo>
                  <a:pt x="126" y="106"/>
                </a:lnTo>
                <a:lnTo>
                  <a:pt x="131" y="116"/>
                </a:lnTo>
                <a:lnTo>
                  <a:pt x="136" y="126"/>
                </a:lnTo>
                <a:lnTo>
                  <a:pt x="141" y="131"/>
                </a:lnTo>
                <a:lnTo>
                  <a:pt x="147" y="142"/>
                </a:lnTo>
                <a:lnTo>
                  <a:pt x="152" y="152"/>
                </a:lnTo>
                <a:lnTo>
                  <a:pt x="157" y="157"/>
                </a:lnTo>
                <a:lnTo>
                  <a:pt x="157" y="167"/>
                </a:lnTo>
                <a:lnTo>
                  <a:pt x="162" y="177"/>
                </a:lnTo>
                <a:lnTo>
                  <a:pt x="167" y="187"/>
                </a:lnTo>
                <a:lnTo>
                  <a:pt x="172" y="197"/>
                </a:lnTo>
                <a:lnTo>
                  <a:pt x="177" y="212"/>
                </a:lnTo>
                <a:lnTo>
                  <a:pt x="182" y="222"/>
                </a:lnTo>
                <a:lnTo>
                  <a:pt x="182" y="232"/>
                </a:lnTo>
                <a:lnTo>
                  <a:pt x="187" y="242"/>
                </a:lnTo>
                <a:lnTo>
                  <a:pt x="192" y="258"/>
                </a:lnTo>
                <a:lnTo>
                  <a:pt x="197" y="273"/>
                </a:lnTo>
                <a:lnTo>
                  <a:pt x="202" y="283"/>
                </a:lnTo>
                <a:lnTo>
                  <a:pt x="207" y="298"/>
                </a:lnTo>
                <a:lnTo>
                  <a:pt x="212" y="313"/>
                </a:lnTo>
                <a:lnTo>
                  <a:pt x="212" y="328"/>
                </a:lnTo>
                <a:lnTo>
                  <a:pt x="217" y="343"/>
                </a:lnTo>
                <a:lnTo>
                  <a:pt x="222" y="358"/>
                </a:lnTo>
                <a:lnTo>
                  <a:pt x="227" y="374"/>
                </a:lnTo>
                <a:lnTo>
                  <a:pt x="232" y="389"/>
                </a:lnTo>
                <a:lnTo>
                  <a:pt x="237" y="409"/>
                </a:lnTo>
                <a:lnTo>
                  <a:pt x="237" y="424"/>
                </a:lnTo>
                <a:lnTo>
                  <a:pt x="242" y="444"/>
                </a:lnTo>
                <a:lnTo>
                  <a:pt x="247" y="464"/>
                </a:lnTo>
                <a:lnTo>
                  <a:pt x="252" y="484"/>
                </a:lnTo>
                <a:lnTo>
                  <a:pt x="257" y="505"/>
                </a:lnTo>
                <a:lnTo>
                  <a:pt x="263" y="525"/>
                </a:lnTo>
                <a:lnTo>
                  <a:pt x="268" y="545"/>
                </a:lnTo>
                <a:lnTo>
                  <a:pt x="268" y="570"/>
                </a:lnTo>
                <a:lnTo>
                  <a:pt x="273" y="595"/>
                </a:lnTo>
                <a:lnTo>
                  <a:pt x="278" y="621"/>
                </a:lnTo>
                <a:lnTo>
                  <a:pt x="283" y="646"/>
                </a:lnTo>
                <a:lnTo>
                  <a:pt x="288" y="676"/>
                </a:lnTo>
                <a:lnTo>
                  <a:pt x="293" y="701"/>
                </a:lnTo>
                <a:lnTo>
                  <a:pt x="293" y="732"/>
                </a:lnTo>
                <a:lnTo>
                  <a:pt x="298" y="767"/>
                </a:lnTo>
                <a:lnTo>
                  <a:pt x="303" y="802"/>
                </a:lnTo>
                <a:lnTo>
                  <a:pt x="308" y="837"/>
                </a:lnTo>
                <a:lnTo>
                  <a:pt x="313" y="878"/>
                </a:lnTo>
                <a:lnTo>
                  <a:pt x="318" y="923"/>
                </a:lnTo>
                <a:lnTo>
                  <a:pt x="323" y="969"/>
                </a:lnTo>
                <a:lnTo>
                  <a:pt x="323" y="1024"/>
                </a:lnTo>
                <a:lnTo>
                  <a:pt x="328" y="1085"/>
                </a:lnTo>
                <a:lnTo>
                  <a:pt x="333" y="1160"/>
                </a:lnTo>
                <a:lnTo>
                  <a:pt x="338" y="1251"/>
                </a:lnTo>
                <a:lnTo>
                  <a:pt x="343" y="1397"/>
                </a:lnTo>
                <a:lnTo>
                  <a:pt x="348" y="1740"/>
                </a:lnTo>
                <a:lnTo>
                  <a:pt x="348" y="1438"/>
                </a:lnTo>
                <a:lnTo>
                  <a:pt x="353" y="1387"/>
                </a:lnTo>
                <a:lnTo>
                  <a:pt x="358" y="1377"/>
                </a:lnTo>
                <a:lnTo>
                  <a:pt x="363" y="1392"/>
                </a:lnTo>
                <a:lnTo>
                  <a:pt x="368" y="1433"/>
                </a:lnTo>
                <a:lnTo>
                  <a:pt x="374" y="1503"/>
                </a:lnTo>
                <a:lnTo>
                  <a:pt x="379" y="1675"/>
                </a:lnTo>
                <a:lnTo>
                  <a:pt x="379" y="1659"/>
                </a:lnTo>
                <a:lnTo>
                  <a:pt x="384" y="1508"/>
                </a:lnTo>
                <a:lnTo>
                  <a:pt x="389" y="1443"/>
                </a:lnTo>
                <a:lnTo>
                  <a:pt x="394" y="1407"/>
                </a:lnTo>
                <a:lnTo>
                  <a:pt x="399" y="1387"/>
                </a:lnTo>
                <a:lnTo>
                  <a:pt x="404" y="1377"/>
                </a:lnTo>
                <a:lnTo>
                  <a:pt x="409" y="1382"/>
                </a:lnTo>
                <a:lnTo>
                  <a:pt x="414" y="1397"/>
                </a:lnTo>
                <a:lnTo>
                  <a:pt x="419" y="1422"/>
                </a:lnTo>
                <a:lnTo>
                  <a:pt x="424" y="1463"/>
                </a:lnTo>
                <a:lnTo>
                  <a:pt x="429" y="1518"/>
                </a:lnTo>
                <a:lnTo>
                  <a:pt x="434" y="1624"/>
                </a:lnTo>
                <a:lnTo>
                  <a:pt x="434" y="1962"/>
                </a:lnTo>
              </a:path>
            </a:pathLst>
          </a:custGeom>
          <a:noFill/>
          <a:ln cap="rnd" w="25560">
            <a:solidFill>
              <a:srgbClr val="00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2" name=""/>
          <p:cNvSpPr/>
          <p:nvPr/>
        </p:nvSpPr>
        <p:spPr>
          <a:xfrm>
            <a:off x="6127920" y="4643280"/>
            <a:ext cx="545760" cy="930600"/>
          </a:xfrm>
          <a:custGeom>
            <a:avLst/>
            <a:gdLst/>
            <a:ahLst/>
            <a:rect l="l" t="t" r="r" b="b"/>
            <a:pathLst>
              <a:path w="344" h="586">
                <a:moveTo>
                  <a:pt x="0" y="585"/>
                </a:moveTo>
                <a:lnTo>
                  <a:pt x="5" y="237"/>
                </a:lnTo>
                <a:lnTo>
                  <a:pt x="10" y="141"/>
                </a:lnTo>
                <a:lnTo>
                  <a:pt x="15" y="86"/>
                </a:lnTo>
                <a:lnTo>
                  <a:pt x="20" y="50"/>
                </a:lnTo>
                <a:lnTo>
                  <a:pt x="25" y="25"/>
                </a:lnTo>
                <a:lnTo>
                  <a:pt x="30" y="10"/>
                </a:lnTo>
                <a:lnTo>
                  <a:pt x="30" y="5"/>
                </a:lnTo>
                <a:lnTo>
                  <a:pt x="35" y="0"/>
                </a:lnTo>
                <a:lnTo>
                  <a:pt x="40" y="0"/>
                </a:lnTo>
                <a:lnTo>
                  <a:pt x="45" y="5"/>
                </a:lnTo>
                <a:lnTo>
                  <a:pt x="51" y="15"/>
                </a:lnTo>
                <a:lnTo>
                  <a:pt x="56" y="35"/>
                </a:lnTo>
                <a:lnTo>
                  <a:pt x="56" y="56"/>
                </a:lnTo>
                <a:lnTo>
                  <a:pt x="61" y="91"/>
                </a:lnTo>
                <a:lnTo>
                  <a:pt x="66" y="141"/>
                </a:lnTo>
                <a:lnTo>
                  <a:pt x="71" y="222"/>
                </a:lnTo>
                <a:lnTo>
                  <a:pt x="76" y="419"/>
                </a:lnTo>
                <a:lnTo>
                  <a:pt x="81" y="333"/>
                </a:lnTo>
                <a:lnTo>
                  <a:pt x="86" y="197"/>
                </a:lnTo>
                <a:lnTo>
                  <a:pt x="86" y="126"/>
                </a:lnTo>
                <a:lnTo>
                  <a:pt x="91" y="86"/>
                </a:lnTo>
                <a:lnTo>
                  <a:pt x="96" y="56"/>
                </a:lnTo>
                <a:lnTo>
                  <a:pt x="101" y="30"/>
                </a:lnTo>
                <a:lnTo>
                  <a:pt x="106" y="15"/>
                </a:lnTo>
                <a:lnTo>
                  <a:pt x="111" y="5"/>
                </a:lnTo>
                <a:lnTo>
                  <a:pt x="111" y="0"/>
                </a:lnTo>
                <a:lnTo>
                  <a:pt x="116" y="0"/>
                </a:lnTo>
                <a:lnTo>
                  <a:pt x="121" y="0"/>
                </a:lnTo>
                <a:lnTo>
                  <a:pt x="126" y="5"/>
                </a:lnTo>
                <a:lnTo>
                  <a:pt x="131" y="15"/>
                </a:lnTo>
                <a:lnTo>
                  <a:pt x="136" y="30"/>
                </a:lnTo>
                <a:lnTo>
                  <a:pt x="141" y="50"/>
                </a:lnTo>
                <a:lnTo>
                  <a:pt x="141" y="76"/>
                </a:lnTo>
                <a:lnTo>
                  <a:pt x="146" y="111"/>
                </a:lnTo>
                <a:lnTo>
                  <a:pt x="151" y="161"/>
                </a:lnTo>
                <a:lnTo>
                  <a:pt x="156" y="252"/>
                </a:lnTo>
                <a:lnTo>
                  <a:pt x="161" y="504"/>
                </a:lnTo>
                <a:lnTo>
                  <a:pt x="167" y="318"/>
                </a:lnTo>
                <a:lnTo>
                  <a:pt x="167" y="197"/>
                </a:lnTo>
                <a:lnTo>
                  <a:pt x="172" y="136"/>
                </a:lnTo>
                <a:lnTo>
                  <a:pt x="177" y="91"/>
                </a:lnTo>
                <a:lnTo>
                  <a:pt x="182" y="61"/>
                </a:lnTo>
                <a:lnTo>
                  <a:pt x="187" y="40"/>
                </a:lnTo>
                <a:lnTo>
                  <a:pt x="192" y="25"/>
                </a:lnTo>
                <a:lnTo>
                  <a:pt x="197" y="10"/>
                </a:lnTo>
                <a:lnTo>
                  <a:pt x="197" y="5"/>
                </a:lnTo>
                <a:lnTo>
                  <a:pt x="202" y="0"/>
                </a:lnTo>
                <a:lnTo>
                  <a:pt x="207" y="0"/>
                </a:lnTo>
                <a:lnTo>
                  <a:pt x="212" y="0"/>
                </a:lnTo>
                <a:lnTo>
                  <a:pt x="217" y="5"/>
                </a:lnTo>
                <a:lnTo>
                  <a:pt x="222" y="15"/>
                </a:lnTo>
                <a:lnTo>
                  <a:pt x="222" y="30"/>
                </a:lnTo>
                <a:lnTo>
                  <a:pt x="227" y="45"/>
                </a:lnTo>
                <a:lnTo>
                  <a:pt x="232" y="71"/>
                </a:lnTo>
                <a:lnTo>
                  <a:pt x="237" y="101"/>
                </a:lnTo>
                <a:lnTo>
                  <a:pt x="242" y="146"/>
                </a:lnTo>
                <a:lnTo>
                  <a:pt x="247" y="217"/>
                </a:lnTo>
                <a:lnTo>
                  <a:pt x="252" y="358"/>
                </a:lnTo>
                <a:lnTo>
                  <a:pt x="252" y="439"/>
                </a:lnTo>
                <a:lnTo>
                  <a:pt x="257" y="242"/>
                </a:lnTo>
                <a:lnTo>
                  <a:pt x="262" y="166"/>
                </a:lnTo>
                <a:lnTo>
                  <a:pt x="267" y="116"/>
                </a:lnTo>
                <a:lnTo>
                  <a:pt x="272" y="81"/>
                </a:lnTo>
                <a:lnTo>
                  <a:pt x="278" y="56"/>
                </a:lnTo>
                <a:lnTo>
                  <a:pt x="283" y="35"/>
                </a:lnTo>
                <a:lnTo>
                  <a:pt x="283" y="20"/>
                </a:lnTo>
                <a:lnTo>
                  <a:pt x="288" y="10"/>
                </a:lnTo>
                <a:lnTo>
                  <a:pt x="293" y="5"/>
                </a:lnTo>
                <a:lnTo>
                  <a:pt x="298" y="0"/>
                </a:lnTo>
                <a:lnTo>
                  <a:pt x="303" y="0"/>
                </a:lnTo>
                <a:lnTo>
                  <a:pt x="308" y="0"/>
                </a:lnTo>
                <a:lnTo>
                  <a:pt x="308" y="5"/>
                </a:lnTo>
                <a:lnTo>
                  <a:pt x="313" y="15"/>
                </a:lnTo>
                <a:lnTo>
                  <a:pt x="318" y="25"/>
                </a:lnTo>
                <a:lnTo>
                  <a:pt x="323" y="45"/>
                </a:lnTo>
                <a:lnTo>
                  <a:pt x="328" y="66"/>
                </a:lnTo>
                <a:lnTo>
                  <a:pt x="333" y="96"/>
                </a:lnTo>
                <a:lnTo>
                  <a:pt x="338" y="131"/>
                </a:lnTo>
                <a:lnTo>
                  <a:pt x="338" y="192"/>
                </a:lnTo>
                <a:lnTo>
                  <a:pt x="343" y="287"/>
                </a:lnTo>
                <a:lnTo>
                  <a:pt x="343" y="585"/>
                </a:lnTo>
              </a:path>
            </a:pathLst>
          </a:custGeom>
          <a:noFill/>
          <a:ln cap="rnd" w="25560">
            <a:solidFill>
              <a:srgbClr val="00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3" name=""/>
          <p:cNvSpPr/>
          <p:nvPr/>
        </p:nvSpPr>
        <p:spPr>
          <a:xfrm>
            <a:off x="6680160" y="4643280"/>
            <a:ext cx="154080" cy="930600"/>
          </a:xfrm>
          <a:custGeom>
            <a:avLst/>
            <a:gdLst/>
            <a:ahLst/>
            <a:rect l="l" t="t" r="r" b="b"/>
            <a:pathLst>
              <a:path w="97" h="586">
                <a:moveTo>
                  <a:pt x="0" y="585"/>
                </a:moveTo>
                <a:lnTo>
                  <a:pt x="5" y="303"/>
                </a:lnTo>
                <a:lnTo>
                  <a:pt x="10" y="197"/>
                </a:lnTo>
                <a:lnTo>
                  <a:pt x="15" y="136"/>
                </a:lnTo>
                <a:lnTo>
                  <a:pt x="15" y="96"/>
                </a:lnTo>
                <a:lnTo>
                  <a:pt x="20" y="66"/>
                </a:lnTo>
                <a:lnTo>
                  <a:pt x="25" y="45"/>
                </a:lnTo>
                <a:lnTo>
                  <a:pt x="30" y="30"/>
                </a:lnTo>
                <a:lnTo>
                  <a:pt x="35" y="15"/>
                </a:lnTo>
                <a:lnTo>
                  <a:pt x="40" y="10"/>
                </a:lnTo>
                <a:lnTo>
                  <a:pt x="46" y="0"/>
                </a:lnTo>
                <a:lnTo>
                  <a:pt x="51" y="0"/>
                </a:lnTo>
                <a:lnTo>
                  <a:pt x="56" y="0"/>
                </a:lnTo>
                <a:lnTo>
                  <a:pt x="61" y="10"/>
                </a:lnTo>
                <a:lnTo>
                  <a:pt x="66" y="15"/>
                </a:lnTo>
                <a:lnTo>
                  <a:pt x="71" y="30"/>
                </a:lnTo>
                <a:lnTo>
                  <a:pt x="71" y="45"/>
                </a:lnTo>
                <a:lnTo>
                  <a:pt x="76" y="66"/>
                </a:lnTo>
                <a:lnTo>
                  <a:pt x="81" y="96"/>
                </a:lnTo>
                <a:lnTo>
                  <a:pt x="86" y="131"/>
                </a:lnTo>
                <a:lnTo>
                  <a:pt x="91" y="187"/>
                </a:lnTo>
                <a:lnTo>
                  <a:pt x="96" y="282"/>
                </a:lnTo>
                <a:lnTo>
                  <a:pt x="96" y="585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4" name=""/>
          <p:cNvSpPr/>
          <p:nvPr/>
        </p:nvSpPr>
        <p:spPr>
          <a:xfrm>
            <a:off x="6840360" y="4643280"/>
            <a:ext cx="642960" cy="930600"/>
          </a:xfrm>
          <a:custGeom>
            <a:avLst/>
            <a:gdLst/>
            <a:ahLst/>
            <a:rect l="l" t="t" r="r" b="b"/>
            <a:pathLst>
              <a:path w="405" h="586">
                <a:moveTo>
                  <a:pt x="0" y="585"/>
                </a:moveTo>
                <a:lnTo>
                  <a:pt x="0" y="318"/>
                </a:lnTo>
                <a:lnTo>
                  <a:pt x="5" y="207"/>
                </a:lnTo>
                <a:lnTo>
                  <a:pt x="10" y="146"/>
                </a:lnTo>
                <a:lnTo>
                  <a:pt x="15" y="101"/>
                </a:lnTo>
                <a:lnTo>
                  <a:pt x="20" y="71"/>
                </a:lnTo>
                <a:lnTo>
                  <a:pt x="25" y="50"/>
                </a:lnTo>
                <a:lnTo>
                  <a:pt x="25" y="35"/>
                </a:lnTo>
                <a:lnTo>
                  <a:pt x="30" y="20"/>
                </a:lnTo>
                <a:lnTo>
                  <a:pt x="35" y="10"/>
                </a:lnTo>
                <a:lnTo>
                  <a:pt x="40" y="5"/>
                </a:lnTo>
                <a:lnTo>
                  <a:pt x="45" y="0"/>
                </a:lnTo>
                <a:lnTo>
                  <a:pt x="50" y="0"/>
                </a:lnTo>
                <a:lnTo>
                  <a:pt x="56" y="0"/>
                </a:lnTo>
                <a:lnTo>
                  <a:pt x="56" y="5"/>
                </a:lnTo>
                <a:lnTo>
                  <a:pt x="61" y="10"/>
                </a:lnTo>
                <a:lnTo>
                  <a:pt x="66" y="25"/>
                </a:lnTo>
                <a:lnTo>
                  <a:pt x="71" y="35"/>
                </a:lnTo>
                <a:lnTo>
                  <a:pt x="76" y="56"/>
                </a:lnTo>
                <a:lnTo>
                  <a:pt x="81" y="81"/>
                </a:lnTo>
                <a:lnTo>
                  <a:pt x="86" y="111"/>
                </a:lnTo>
                <a:lnTo>
                  <a:pt x="86" y="156"/>
                </a:lnTo>
                <a:lnTo>
                  <a:pt x="91" y="227"/>
                </a:lnTo>
                <a:lnTo>
                  <a:pt x="96" y="358"/>
                </a:lnTo>
                <a:lnTo>
                  <a:pt x="101" y="469"/>
                </a:lnTo>
                <a:lnTo>
                  <a:pt x="106" y="262"/>
                </a:lnTo>
                <a:lnTo>
                  <a:pt x="111" y="177"/>
                </a:lnTo>
                <a:lnTo>
                  <a:pt x="111" y="126"/>
                </a:lnTo>
                <a:lnTo>
                  <a:pt x="116" y="91"/>
                </a:lnTo>
                <a:lnTo>
                  <a:pt x="121" y="66"/>
                </a:lnTo>
                <a:lnTo>
                  <a:pt x="126" y="45"/>
                </a:lnTo>
                <a:lnTo>
                  <a:pt x="131" y="30"/>
                </a:lnTo>
                <a:lnTo>
                  <a:pt x="136" y="15"/>
                </a:lnTo>
                <a:lnTo>
                  <a:pt x="141" y="10"/>
                </a:lnTo>
                <a:lnTo>
                  <a:pt x="141" y="0"/>
                </a:lnTo>
                <a:lnTo>
                  <a:pt x="146" y="0"/>
                </a:lnTo>
                <a:lnTo>
                  <a:pt x="151" y="0"/>
                </a:lnTo>
                <a:lnTo>
                  <a:pt x="156" y="0"/>
                </a:lnTo>
                <a:lnTo>
                  <a:pt x="161" y="5"/>
                </a:lnTo>
                <a:lnTo>
                  <a:pt x="167" y="15"/>
                </a:lnTo>
                <a:lnTo>
                  <a:pt x="167" y="25"/>
                </a:lnTo>
                <a:lnTo>
                  <a:pt x="172" y="40"/>
                </a:lnTo>
                <a:lnTo>
                  <a:pt x="177" y="61"/>
                </a:lnTo>
                <a:lnTo>
                  <a:pt x="182" y="86"/>
                </a:lnTo>
                <a:lnTo>
                  <a:pt x="187" y="116"/>
                </a:lnTo>
                <a:lnTo>
                  <a:pt x="192" y="166"/>
                </a:lnTo>
                <a:lnTo>
                  <a:pt x="197" y="237"/>
                </a:lnTo>
                <a:lnTo>
                  <a:pt x="197" y="388"/>
                </a:lnTo>
                <a:lnTo>
                  <a:pt x="202" y="429"/>
                </a:lnTo>
                <a:lnTo>
                  <a:pt x="207" y="247"/>
                </a:lnTo>
                <a:lnTo>
                  <a:pt x="212" y="171"/>
                </a:lnTo>
                <a:lnTo>
                  <a:pt x="217" y="126"/>
                </a:lnTo>
                <a:lnTo>
                  <a:pt x="222" y="91"/>
                </a:lnTo>
                <a:lnTo>
                  <a:pt x="222" y="61"/>
                </a:lnTo>
                <a:lnTo>
                  <a:pt x="227" y="45"/>
                </a:lnTo>
                <a:lnTo>
                  <a:pt x="232" y="25"/>
                </a:lnTo>
                <a:lnTo>
                  <a:pt x="237" y="15"/>
                </a:lnTo>
                <a:lnTo>
                  <a:pt x="242" y="10"/>
                </a:lnTo>
                <a:lnTo>
                  <a:pt x="247" y="0"/>
                </a:lnTo>
                <a:lnTo>
                  <a:pt x="252" y="0"/>
                </a:lnTo>
                <a:lnTo>
                  <a:pt x="257" y="0"/>
                </a:lnTo>
                <a:lnTo>
                  <a:pt x="262" y="5"/>
                </a:lnTo>
                <a:lnTo>
                  <a:pt x="267" y="15"/>
                </a:lnTo>
                <a:lnTo>
                  <a:pt x="272" y="25"/>
                </a:lnTo>
                <a:lnTo>
                  <a:pt x="277" y="40"/>
                </a:lnTo>
                <a:lnTo>
                  <a:pt x="277" y="61"/>
                </a:lnTo>
                <a:lnTo>
                  <a:pt x="283" y="81"/>
                </a:lnTo>
                <a:lnTo>
                  <a:pt x="288" y="116"/>
                </a:lnTo>
                <a:lnTo>
                  <a:pt x="293" y="161"/>
                </a:lnTo>
                <a:lnTo>
                  <a:pt x="298" y="227"/>
                </a:lnTo>
                <a:lnTo>
                  <a:pt x="303" y="358"/>
                </a:lnTo>
                <a:lnTo>
                  <a:pt x="308" y="479"/>
                </a:lnTo>
                <a:lnTo>
                  <a:pt x="308" y="267"/>
                </a:lnTo>
                <a:lnTo>
                  <a:pt x="313" y="182"/>
                </a:lnTo>
                <a:lnTo>
                  <a:pt x="318" y="131"/>
                </a:lnTo>
                <a:lnTo>
                  <a:pt x="323" y="96"/>
                </a:lnTo>
                <a:lnTo>
                  <a:pt x="328" y="66"/>
                </a:lnTo>
                <a:lnTo>
                  <a:pt x="333" y="45"/>
                </a:lnTo>
                <a:lnTo>
                  <a:pt x="333" y="30"/>
                </a:lnTo>
                <a:lnTo>
                  <a:pt x="338" y="20"/>
                </a:lnTo>
                <a:lnTo>
                  <a:pt x="343" y="10"/>
                </a:lnTo>
                <a:lnTo>
                  <a:pt x="348" y="5"/>
                </a:lnTo>
                <a:lnTo>
                  <a:pt x="353" y="0"/>
                </a:lnTo>
                <a:lnTo>
                  <a:pt x="358" y="0"/>
                </a:lnTo>
                <a:lnTo>
                  <a:pt x="363" y="0"/>
                </a:lnTo>
                <a:lnTo>
                  <a:pt x="363" y="5"/>
                </a:lnTo>
                <a:lnTo>
                  <a:pt x="368" y="10"/>
                </a:lnTo>
                <a:lnTo>
                  <a:pt x="373" y="20"/>
                </a:lnTo>
                <a:lnTo>
                  <a:pt x="378" y="35"/>
                </a:lnTo>
                <a:lnTo>
                  <a:pt x="383" y="50"/>
                </a:lnTo>
                <a:lnTo>
                  <a:pt x="388" y="76"/>
                </a:lnTo>
                <a:lnTo>
                  <a:pt x="394" y="106"/>
                </a:lnTo>
                <a:lnTo>
                  <a:pt x="394" y="146"/>
                </a:lnTo>
                <a:lnTo>
                  <a:pt x="399" y="202"/>
                </a:lnTo>
                <a:lnTo>
                  <a:pt x="404" y="303"/>
                </a:lnTo>
                <a:lnTo>
                  <a:pt x="404" y="585"/>
                </a:lnTo>
              </a:path>
            </a:pathLst>
          </a:custGeom>
          <a:noFill/>
          <a:ln cap="rnd" w="25560">
            <a:solidFill>
              <a:srgbClr val="00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5" name=""/>
          <p:cNvSpPr/>
          <p:nvPr/>
        </p:nvSpPr>
        <p:spPr>
          <a:xfrm>
            <a:off x="7489800" y="4643280"/>
            <a:ext cx="328680" cy="930600"/>
          </a:xfrm>
          <a:custGeom>
            <a:avLst/>
            <a:gdLst/>
            <a:ahLst/>
            <a:rect l="l" t="t" r="r" b="b"/>
            <a:pathLst>
              <a:path w="207" h="586">
                <a:moveTo>
                  <a:pt x="0" y="585"/>
                </a:moveTo>
                <a:lnTo>
                  <a:pt x="5" y="308"/>
                </a:lnTo>
                <a:lnTo>
                  <a:pt x="10" y="202"/>
                </a:lnTo>
                <a:lnTo>
                  <a:pt x="10" y="146"/>
                </a:lnTo>
                <a:lnTo>
                  <a:pt x="15" y="106"/>
                </a:lnTo>
                <a:lnTo>
                  <a:pt x="20" y="76"/>
                </a:lnTo>
                <a:lnTo>
                  <a:pt x="25" y="56"/>
                </a:lnTo>
                <a:lnTo>
                  <a:pt x="30" y="35"/>
                </a:lnTo>
                <a:lnTo>
                  <a:pt x="35" y="20"/>
                </a:lnTo>
                <a:lnTo>
                  <a:pt x="40" y="10"/>
                </a:lnTo>
                <a:lnTo>
                  <a:pt x="40" y="5"/>
                </a:lnTo>
                <a:lnTo>
                  <a:pt x="45" y="0"/>
                </a:lnTo>
                <a:lnTo>
                  <a:pt x="50" y="0"/>
                </a:lnTo>
                <a:lnTo>
                  <a:pt x="55" y="0"/>
                </a:lnTo>
                <a:lnTo>
                  <a:pt x="60" y="5"/>
                </a:lnTo>
                <a:lnTo>
                  <a:pt x="65" y="10"/>
                </a:lnTo>
                <a:lnTo>
                  <a:pt x="65" y="15"/>
                </a:lnTo>
                <a:lnTo>
                  <a:pt x="70" y="30"/>
                </a:lnTo>
                <a:lnTo>
                  <a:pt x="75" y="45"/>
                </a:lnTo>
                <a:lnTo>
                  <a:pt x="80" y="66"/>
                </a:lnTo>
                <a:lnTo>
                  <a:pt x="85" y="91"/>
                </a:lnTo>
                <a:lnTo>
                  <a:pt x="90" y="126"/>
                </a:lnTo>
                <a:lnTo>
                  <a:pt x="95" y="171"/>
                </a:lnTo>
                <a:lnTo>
                  <a:pt x="95" y="247"/>
                </a:lnTo>
                <a:lnTo>
                  <a:pt x="101" y="419"/>
                </a:lnTo>
                <a:lnTo>
                  <a:pt x="106" y="398"/>
                </a:lnTo>
                <a:lnTo>
                  <a:pt x="111" y="242"/>
                </a:lnTo>
                <a:lnTo>
                  <a:pt x="116" y="171"/>
                </a:lnTo>
                <a:lnTo>
                  <a:pt x="121" y="121"/>
                </a:lnTo>
                <a:lnTo>
                  <a:pt x="121" y="91"/>
                </a:lnTo>
                <a:lnTo>
                  <a:pt x="126" y="66"/>
                </a:lnTo>
                <a:lnTo>
                  <a:pt x="131" y="45"/>
                </a:lnTo>
                <a:lnTo>
                  <a:pt x="136" y="30"/>
                </a:lnTo>
                <a:lnTo>
                  <a:pt x="141" y="15"/>
                </a:lnTo>
                <a:lnTo>
                  <a:pt x="146" y="10"/>
                </a:lnTo>
                <a:lnTo>
                  <a:pt x="151" y="5"/>
                </a:lnTo>
                <a:lnTo>
                  <a:pt x="151" y="0"/>
                </a:lnTo>
                <a:lnTo>
                  <a:pt x="156" y="0"/>
                </a:lnTo>
                <a:lnTo>
                  <a:pt x="161" y="0"/>
                </a:lnTo>
                <a:lnTo>
                  <a:pt x="166" y="5"/>
                </a:lnTo>
                <a:lnTo>
                  <a:pt x="171" y="10"/>
                </a:lnTo>
                <a:lnTo>
                  <a:pt x="176" y="20"/>
                </a:lnTo>
                <a:lnTo>
                  <a:pt x="176" y="35"/>
                </a:lnTo>
                <a:lnTo>
                  <a:pt x="181" y="56"/>
                </a:lnTo>
                <a:lnTo>
                  <a:pt x="186" y="76"/>
                </a:lnTo>
                <a:lnTo>
                  <a:pt x="191" y="106"/>
                </a:lnTo>
                <a:lnTo>
                  <a:pt x="196" y="146"/>
                </a:lnTo>
                <a:lnTo>
                  <a:pt x="201" y="202"/>
                </a:lnTo>
                <a:lnTo>
                  <a:pt x="206" y="303"/>
                </a:lnTo>
                <a:lnTo>
                  <a:pt x="206" y="585"/>
                </a:lnTo>
              </a:path>
            </a:pathLst>
          </a:custGeom>
          <a:noFill/>
          <a:ln cap="rnd" w="25560">
            <a:solidFill>
              <a:srgbClr val="00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6" name=""/>
          <p:cNvSpPr/>
          <p:nvPr/>
        </p:nvSpPr>
        <p:spPr>
          <a:xfrm>
            <a:off x="7816680" y="4643280"/>
            <a:ext cx="498600" cy="930600"/>
          </a:xfrm>
          <a:custGeom>
            <a:avLst/>
            <a:gdLst/>
            <a:ahLst/>
            <a:rect l="l" t="t" r="r" b="b"/>
            <a:pathLst>
              <a:path w="314" h="586">
                <a:moveTo>
                  <a:pt x="0" y="585"/>
                </a:moveTo>
                <a:lnTo>
                  <a:pt x="6" y="313"/>
                </a:lnTo>
                <a:lnTo>
                  <a:pt x="11" y="207"/>
                </a:lnTo>
                <a:lnTo>
                  <a:pt x="16" y="146"/>
                </a:lnTo>
                <a:lnTo>
                  <a:pt x="21" y="106"/>
                </a:lnTo>
                <a:lnTo>
                  <a:pt x="26" y="76"/>
                </a:lnTo>
                <a:lnTo>
                  <a:pt x="31" y="56"/>
                </a:lnTo>
                <a:lnTo>
                  <a:pt x="31" y="35"/>
                </a:lnTo>
                <a:lnTo>
                  <a:pt x="36" y="25"/>
                </a:lnTo>
                <a:lnTo>
                  <a:pt x="41" y="15"/>
                </a:lnTo>
                <a:lnTo>
                  <a:pt x="46" y="5"/>
                </a:lnTo>
                <a:lnTo>
                  <a:pt x="51" y="0"/>
                </a:lnTo>
                <a:lnTo>
                  <a:pt x="56" y="0"/>
                </a:lnTo>
                <a:lnTo>
                  <a:pt x="61" y="0"/>
                </a:lnTo>
                <a:lnTo>
                  <a:pt x="66" y="10"/>
                </a:lnTo>
                <a:lnTo>
                  <a:pt x="71" y="15"/>
                </a:lnTo>
                <a:lnTo>
                  <a:pt x="76" y="25"/>
                </a:lnTo>
                <a:lnTo>
                  <a:pt x="81" y="40"/>
                </a:lnTo>
                <a:lnTo>
                  <a:pt x="86" y="61"/>
                </a:lnTo>
                <a:lnTo>
                  <a:pt x="86" y="86"/>
                </a:lnTo>
                <a:lnTo>
                  <a:pt x="91" y="116"/>
                </a:lnTo>
                <a:lnTo>
                  <a:pt x="96" y="161"/>
                </a:lnTo>
                <a:lnTo>
                  <a:pt x="101" y="232"/>
                </a:lnTo>
                <a:lnTo>
                  <a:pt x="106" y="363"/>
                </a:lnTo>
                <a:lnTo>
                  <a:pt x="111" y="474"/>
                </a:lnTo>
                <a:lnTo>
                  <a:pt x="111" y="267"/>
                </a:lnTo>
                <a:lnTo>
                  <a:pt x="117" y="182"/>
                </a:lnTo>
                <a:lnTo>
                  <a:pt x="122" y="131"/>
                </a:lnTo>
                <a:lnTo>
                  <a:pt x="127" y="96"/>
                </a:lnTo>
                <a:lnTo>
                  <a:pt x="132" y="71"/>
                </a:lnTo>
                <a:lnTo>
                  <a:pt x="137" y="50"/>
                </a:lnTo>
                <a:lnTo>
                  <a:pt x="142" y="30"/>
                </a:lnTo>
                <a:lnTo>
                  <a:pt x="142" y="20"/>
                </a:lnTo>
                <a:lnTo>
                  <a:pt x="147" y="10"/>
                </a:lnTo>
                <a:lnTo>
                  <a:pt x="152" y="5"/>
                </a:lnTo>
                <a:lnTo>
                  <a:pt x="157" y="0"/>
                </a:lnTo>
                <a:lnTo>
                  <a:pt x="162" y="0"/>
                </a:lnTo>
                <a:lnTo>
                  <a:pt x="167" y="0"/>
                </a:lnTo>
                <a:lnTo>
                  <a:pt x="167" y="5"/>
                </a:lnTo>
                <a:lnTo>
                  <a:pt x="172" y="10"/>
                </a:lnTo>
                <a:lnTo>
                  <a:pt x="177" y="20"/>
                </a:lnTo>
                <a:lnTo>
                  <a:pt x="182" y="30"/>
                </a:lnTo>
                <a:lnTo>
                  <a:pt x="187" y="45"/>
                </a:lnTo>
                <a:lnTo>
                  <a:pt x="192" y="66"/>
                </a:lnTo>
                <a:lnTo>
                  <a:pt x="197" y="96"/>
                </a:lnTo>
                <a:lnTo>
                  <a:pt x="197" y="131"/>
                </a:lnTo>
                <a:lnTo>
                  <a:pt x="202" y="182"/>
                </a:lnTo>
                <a:lnTo>
                  <a:pt x="207" y="257"/>
                </a:lnTo>
                <a:lnTo>
                  <a:pt x="212" y="449"/>
                </a:lnTo>
                <a:lnTo>
                  <a:pt x="217" y="378"/>
                </a:lnTo>
                <a:lnTo>
                  <a:pt x="222" y="237"/>
                </a:lnTo>
                <a:lnTo>
                  <a:pt x="222" y="166"/>
                </a:lnTo>
                <a:lnTo>
                  <a:pt x="227" y="121"/>
                </a:lnTo>
                <a:lnTo>
                  <a:pt x="233" y="86"/>
                </a:lnTo>
                <a:lnTo>
                  <a:pt x="238" y="61"/>
                </a:lnTo>
                <a:lnTo>
                  <a:pt x="243" y="45"/>
                </a:lnTo>
                <a:lnTo>
                  <a:pt x="248" y="30"/>
                </a:lnTo>
                <a:lnTo>
                  <a:pt x="253" y="15"/>
                </a:lnTo>
                <a:lnTo>
                  <a:pt x="253" y="10"/>
                </a:lnTo>
                <a:lnTo>
                  <a:pt x="258" y="5"/>
                </a:lnTo>
                <a:lnTo>
                  <a:pt x="263" y="0"/>
                </a:lnTo>
                <a:lnTo>
                  <a:pt x="268" y="0"/>
                </a:lnTo>
                <a:lnTo>
                  <a:pt x="273" y="0"/>
                </a:lnTo>
                <a:lnTo>
                  <a:pt x="278" y="5"/>
                </a:lnTo>
                <a:lnTo>
                  <a:pt x="283" y="10"/>
                </a:lnTo>
                <a:lnTo>
                  <a:pt x="283" y="20"/>
                </a:lnTo>
                <a:lnTo>
                  <a:pt x="288" y="35"/>
                </a:lnTo>
                <a:lnTo>
                  <a:pt x="293" y="50"/>
                </a:lnTo>
                <a:lnTo>
                  <a:pt x="298" y="76"/>
                </a:lnTo>
                <a:lnTo>
                  <a:pt x="303" y="101"/>
                </a:lnTo>
                <a:lnTo>
                  <a:pt x="308" y="141"/>
                </a:lnTo>
                <a:lnTo>
                  <a:pt x="308" y="197"/>
                </a:lnTo>
                <a:lnTo>
                  <a:pt x="313" y="287"/>
                </a:lnTo>
                <a:lnTo>
                  <a:pt x="313" y="585"/>
                </a:lnTo>
              </a:path>
            </a:pathLst>
          </a:custGeom>
          <a:noFill/>
          <a:ln cap="rnd" w="25560">
            <a:solidFill>
              <a:srgbClr val="00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7" name=""/>
          <p:cNvSpPr/>
          <p:nvPr/>
        </p:nvSpPr>
        <p:spPr>
          <a:xfrm>
            <a:off x="8321760" y="4643280"/>
            <a:ext cx="162000" cy="930600"/>
          </a:xfrm>
          <a:custGeom>
            <a:avLst/>
            <a:gdLst/>
            <a:ahLst/>
            <a:rect l="l" t="t" r="r" b="b"/>
            <a:pathLst>
              <a:path w="102" h="586">
                <a:moveTo>
                  <a:pt x="0" y="585"/>
                </a:moveTo>
                <a:lnTo>
                  <a:pt x="5" y="333"/>
                </a:lnTo>
                <a:lnTo>
                  <a:pt x="10" y="217"/>
                </a:lnTo>
                <a:lnTo>
                  <a:pt x="15" y="156"/>
                </a:lnTo>
                <a:lnTo>
                  <a:pt x="20" y="111"/>
                </a:lnTo>
                <a:lnTo>
                  <a:pt x="20" y="81"/>
                </a:lnTo>
                <a:lnTo>
                  <a:pt x="26" y="56"/>
                </a:lnTo>
                <a:lnTo>
                  <a:pt x="31" y="40"/>
                </a:lnTo>
                <a:lnTo>
                  <a:pt x="36" y="25"/>
                </a:lnTo>
                <a:lnTo>
                  <a:pt x="41" y="15"/>
                </a:lnTo>
                <a:lnTo>
                  <a:pt x="46" y="5"/>
                </a:lnTo>
                <a:lnTo>
                  <a:pt x="46" y="0"/>
                </a:lnTo>
                <a:lnTo>
                  <a:pt x="51" y="0"/>
                </a:lnTo>
                <a:lnTo>
                  <a:pt x="56" y="0"/>
                </a:lnTo>
                <a:lnTo>
                  <a:pt x="61" y="0"/>
                </a:lnTo>
                <a:lnTo>
                  <a:pt x="66" y="5"/>
                </a:lnTo>
                <a:lnTo>
                  <a:pt x="71" y="15"/>
                </a:lnTo>
                <a:lnTo>
                  <a:pt x="76" y="25"/>
                </a:lnTo>
                <a:lnTo>
                  <a:pt x="76" y="40"/>
                </a:lnTo>
                <a:lnTo>
                  <a:pt x="81" y="56"/>
                </a:lnTo>
                <a:lnTo>
                  <a:pt x="86" y="81"/>
                </a:lnTo>
                <a:lnTo>
                  <a:pt x="91" y="111"/>
                </a:lnTo>
                <a:lnTo>
                  <a:pt x="96" y="151"/>
                </a:lnTo>
                <a:lnTo>
                  <a:pt x="101" y="212"/>
                </a:lnTo>
                <a:lnTo>
                  <a:pt x="101" y="318"/>
                </a:lnTo>
                <a:lnTo>
                  <a:pt x="101" y="585"/>
                </a:lnTo>
              </a:path>
            </a:pathLst>
          </a:custGeom>
          <a:noFill/>
          <a:ln cap="rnd" w="25560">
            <a:solidFill>
              <a:srgbClr val="00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8" name=""/>
          <p:cNvSpPr/>
          <p:nvPr/>
        </p:nvSpPr>
        <p:spPr>
          <a:xfrm>
            <a:off x="8489880" y="4643280"/>
            <a:ext cx="419040" cy="930600"/>
          </a:xfrm>
          <a:custGeom>
            <a:avLst/>
            <a:gdLst/>
            <a:ahLst/>
            <a:rect l="l" t="t" r="r" b="b"/>
            <a:pathLst>
              <a:path w="264" h="586">
                <a:moveTo>
                  <a:pt x="0" y="585"/>
                </a:moveTo>
                <a:lnTo>
                  <a:pt x="5" y="298"/>
                </a:lnTo>
                <a:lnTo>
                  <a:pt x="10" y="202"/>
                </a:lnTo>
                <a:lnTo>
                  <a:pt x="15" y="146"/>
                </a:lnTo>
                <a:lnTo>
                  <a:pt x="20" y="106"/>
                </a:lnTo>
                <a:lnTo>
                  <a:pt x="25" y="76"/>
                </a:lnTo>
                <a:lnTo>
                  <a:pt x="25" y="56"/>
                </a:lnTo>
                <a:lnTo>
                  <a:pt x="30" y="35"/>
                </a:lnTo>
                <a:lnTo>
                  <a:pt x="36" y="25"/>
                </a:lnTo>
                <a:lnTo>
                  <a:pt x="41" y="15"/>
                </a:lnTo>
                <a:lnTo>
                  <a:pt x="46" y="5"/>
                </a:lnTo>
                <a:lnTo>
                  <a:pt x="51" y="0"/>
                </a:lnTo>
                <a:lnTo>
                  <a:pt x="56" y="0"/>
                </a:lnTo>
                <a:lnTo>
                  <a:pt x="61" y="0"/>
                </a:lnTo>
                <a:lnTo>
                  <a:pt x="66" y="10"/>
                </a:lnTo>
                <a:lnTo>
                  <a:pt x="71" y="15"/>
                </a:lnTo>
                <a:lnTo>
                  <a:pt x="76" y="25"/>
                </a:lnTo>
                <a:lnTo>
                  <a:pt x="81" y="40"/>
                </a:lnTo>
                <a:lnTo>
                  <a:pt x="81" y="61"/>
                </a:lnTo>
                <a:lnTo>
                  <a:pt x="86" y="86"/>
                </a:lnTo>
                <a:lnTo>
                  <a:pt x="91" y="116"/>
                </a:lnTo>
                <a:lnTo>
                  <a:pt x="96" y="161"/>
                </a:lnTo>
                <a:lnTo>
                  <a:pt x="101" y="227"/>
                </a:lnTo>
                <a:lnTo>
                  <a:pt x="106" y="348"/>
                </a:lnTo>
                <a:lnTo>
                  <a:pt x="106" y="514"/>
                </a:lnTo>
                <a:lnTo>
                  <a:pt x="111" y="277"/>
                </a:lnTo>
                <a:lnTo>
                  <a:pt x="116" y="187"/>
                </a:lnTo>
                <a:lnTo>
                  <a:pt x="121" y="136"/>
                </a:lnTo>
                <a:lnTo>
                  <a:pt x="126" y="101"/>
                </a:lnTo>
                <a:lnTo>
                  <a:pt x="131" y="71"/>
                </a:lnTo>
                <a:lnTo>
                  <a:pt x="136" y="50"/>
                </a:lnTo>
                <a:lnTo>
                  <a:pt x="136" y="35"/>
                </a:lnTo>
                <a:lnTo>
                  <a:pt x="141" y="20"/>
                </a:lnTo>
                <a:lnTo>
                  <a:pt x="147" y="10"/>
                </a:lnTo>
                <a:lnTo>
                  <a:pt x="152" y="5"/>
                </a:lnTo>
                <a:lnTo>
                  <a:pt x="157" y="0"/>
                </a:lnTo>
                <a:lnTo>
                  <a:pt x="162" y="0"/>
                </a:lnTo>
                <a:lnTo>
                  <a:pt x="167" y="0"/>
                </a:lnTo>
                <a:lnTo>
                  <a:pt x="167" y="5"/>
                </a:lnTo>
                <a:lnTo>
                  <a:pt x="172" y="10"/>
                </a:lnTo>
                <a:lnTo>
                  <a:pt x="177" y="15"/>
                </a:lnTo>
                <a:lnTo>
                  <a:pt x="182" y="30"/>
                </a:lnTo>
                <a:lnTo>
                  <a:pt x="187" y="45"/>
                </a:lnTo>
                <a:lnTo>
                  <a:pt x="192" y="66"/>
                </a:lnTo>
                <a:lnTo>
                  <a:pt x="192" y="91"/>
                </a:lnTo>
                <a:lnTo>
                  <a:pt x="197" y="121"/>
                </a:lnTo>
                <a:lnTo>
                  <a:pt x="202" y="166"/>
                </a:lnTo>
                <a:lnTo>
                  <a:pt x="207" y="242"/>
                </a:lnTo>
                <a:lnTo>
                  <a:pt x="212" y="388"/>
                </a:lnTo>
                <a:lnTo>
                  <a:pt x="217" y="439"/>
                </a:lnTo>
                <a:lnTo>
                  <a:pt x="222" y="257"/>
                </a:lnTo>
                <a:lnTo>
                  <a:pt x="222" y="177"/>
                </a:lnTo>
                <a:lnTo>
                  <a:pt x="227" y="131"/>
                </a:lnTo>
                <a:lnTo>
                  <a:pt x="232" y="96"/>
                </a:lnTo>
                <a:lnTo>
                  <a:pt x="237" y="66"/>
                </a:lnTo>
                <a:lnTo>
                  <a:pt x="242" y="45"/>
                </a:lnTo>
                <a:lnTo>
                  <a:pt x="247" y="30"/>
                </a:lnTo>
                <a:lnTo>
                  <a:pt x="247" y="20"/>
                </a:lnTo>
                <a:lnTo>
                  <a:pt x="252" y="10"/>
                </a:lnTo>
                <a:lnTo>
                  <a:pt x="258" y="5"/>
                </a:lnTo>
                <a:lnTo>
                  <a:pt x="263" y="0"/>
                </a:lnTo>
              </a:path>
            </a:pathLst>
          </a:custGeom>
          <a:noFill/>
          <a:ln cap="rnd" w="25560">
            <a:solidFill>
              <a:srgbClr val="00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9" name=""/>
          <p:cNvSpPr/>
          <p:nvPr/>
        </p:nvSpPr>
        <p:spPr>
          <a:xfrm>
            <a:off x="5438880" y="4643280"/>
            <a:ext cx="3468600" cy="0"/>
          </a:xfrm>
          <a:prstGeom prst="line">
            <a:avLst/>
          </a:prstGeom>
          <a:ln w="25560">
            <a:solidFill>
              <a:srgbClr val="e519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0" name=""/>
          <p:cNvSpPr/>
          <p:nvPr/>
        </p:nvSpPr>
        <p:spPr>
          <a:xfrm>
            <a:off x="7467840" y="3476520"/>
            <a:ext cx="1132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bfff7"/>
                </a:solidFill>
                <a:latin typeface="Arial"/>
              </a:rPr>
              <a:t>50,00d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1" name=""/>
          <p:cNvSpPr/>
          <p:nvPr/>
        </p:nvSpPr>
        <p:spPr>
          <a:xfrm>
            <a:off x="7467840" y="4300560"/>
            <a:ext cx="1132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19d2"/>
                </a:solidFill>
                <a:latin typeface="Arial"/>
              </a:rPr>
              <a:t>80,00d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2" name=""/>
          <p:cNvSpPr/>
          <p:nvPr/>
        </p:nvSpPr>
        <p:spPr>
          <a:xfrm>
            <a:off x="8737200" y="5178600"/>
            <a:ext cx="325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3" name=""/>
          <p:cNvSpPr/>
          <p:nvPr/>
        </p:nvSpPr>
        <p:spPr>
          <a:xfrm>
            <a:off x="8884440" y="1998720"/>
            <a:ext cx="36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34" name=""/>
          <p:cNvGrpSpPr/>
          <p:nvPr/>
        </p:nvGrpSpPr>
        <p:grpSpPr>
          <a:xfrm>
            <a:off x="-1440" y="1949400"/>
            <a:ext cx="4461480" cy="3650400"/>
            <a:chOff x="-1440" y="1949400"/>
            <a:chExt cx="4461480" cy="3650400"/>
          </a:xfrm>
        </p:grpSpPr>
        <p:sp>
          <p:nvSpPr>
            <p:cNvPr id="4135" name=""/>
            <p:cNvSpPr/>
            <p:nvPr/>
          </p:nvSpPr>
          <p:spPr>
            <a:xfrm flipV="1">
              <a:off x="660240" y="2470320"/>
              <a:ext cx="0" cy="2730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 flipV="1">
              <a:off x="1357200" y="2470320"/>
              <a:ext cx="0" cy="2730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 flipV="1">
              <a:off x="2054160" y="2470320"/>
              <a:ext cx="0" cy="2730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 flipV="1">
              <a:off x="2743200" y="2470320"/>
              <a:ext cx="0" cy="2730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 flipV="1">
              <a:off x="3440160" y="2470320"/>
              <a:ext cx="0" cy="2730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660240" y="5200560"/>
              <a:ext cx="34689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660240" y="4656240"/>
              <a:ext cx="3468960" cy="0"/>
            </a:xfrm>
            <a:prstGeom prst="line">
              <a:avLst/>
            </a:prstGeom>
            <a:ln w="25560">
              <a:solidFill>
                <a:srgbClr val="e519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60240" y="4111560"/>
              <a:ext cx="34689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660240" y="3559320"/>
              <a:ext cx="34689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660240" y="3014640"/>
              <a:ext cx="34689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660240" y="2470320"/>
              <a:ext cx="34689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60240" y="2470320"/>
              <a:ext cx="3470400" cy="2732040"/>
            </a:xfrm>
            <a:custGeom>
              <a:avLst/>
              <a:gdLst/>
              <a:ahLst/>
              <a:rect l="l" t="t" r="r" b="b"/>
              <a:pathLst>
                <a:path w="2186" h="1721">
                  <a:moveTo>
                    <a:pt x="0" y="1720"/>
                  </a:moveTo>
                  <a:lnTo>
                    <a:pt x="0" y="0"/>
                  </a:lnTo>
                  <a:lnTo>
                    <a:pt x="2185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660240" y="2470320"/>
              <a:ext cx="3470400" cy="2732040"/>
            </a:xfrm>
            <a:custGeom>
              <a:avLst/>
              <a:gdLst/>
              <a:ahLst/>
              <a:rect l="l" t="t" r="r" b="b"/>
              <a:pathLst>
                <a:path w="2186" h="1721">
                  <a:moveTo>
                    <a:pt x="0" y="1720"/>
                  </a:moveTo>
                  <a:lnTo>
                    <a:pt x="0" y="0"/>
                  </a:lnTo>
                  <a:lnTo>
                    <a:pt x="2185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660240" y="2470320"/>
              <a:ext cx="3470400" cy="2732040"/>
            </a:xfrm>
            <a:custGeom>
              <a:avLst/>
              <a:gdLst/>
              <a:ahLst/>
              <a:rect l="l" t="t" r="r" b="b"/>
              <a:pathLst>
                <a:path w="2186" h="1721">
                  <a:moveTo>
                    <a:pt x="0" y="1720"/>
                  </a:moveTo>
                  <a:lnTo>
                    <a:pt x="0" y="0"/>
                  </a:lnTo>
                  <a:lnTo>
                    <a:pt x="2185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660240" y="5200560"/>
              <a:ext cx="34689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660240" y="2470320"/>
              <a:ext cx="34689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 flipV="1">
              <a:off x="660240" y="2470320"/>
              <a:ext cx="0" cy="2730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 flipV="1">
              <a:off x="4129200" y="2470320"/>
              <a:ext cx="0" cy="2730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660240" y="247032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660240" y="5200560"/>
              <a:ext cx="34689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 flipV="1">
              <a:off x="660240" y="2470320"/>
              <a:ext cx="0" cy="2730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660240" y="520056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 flipV="1">
              <a:off x="660240" y="51688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660240" y="2470320"/>
              <a:ext cx="0" cy="33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523080" y="51926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 flipV="1">
              <a:off x="1357200" y="51688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1357200" y="2470320"/>
              <a:ext cx="0" cy="33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1038600" y="5202360"/>
              <a:ext cx="67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,2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 flipV="1">
              <a:off x="2054160" y="51688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2054160" y="2470320"/>
              <a:ext cx="0" cy="33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 flipV="1">
              <a:off x="2743200" y="51688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2743200" y="2470320"/>
              <a:ext cx="0" cy="33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 flipV="1">
              <a:off x="3440160" y="51688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3440160" y="2470320"/>
              <a:ext cx="0" cy="33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660240" y="5200560"/>
              <a:ext cx="32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 flipH="1">
              <a:off x="4095360" y="520056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660240" y="4927680"/>
              <a:ext cx="32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 flipH="1">
              <a:off x="4095360" y="492768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660240" y="4656240"/>
              <a:ext cx="32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 flipH="1">
              <a:off x="4095360" y="465624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660240" y="4384800"/>
              <a:ext cx="32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 flipH="1">
              <a:off x="4095360" y="438480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660240" y="4111560"/>
              <a:ext cx="32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 flipH="1">
              <a:off x="4095360" y="411156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660240" y="3840120"/>
              <a:ext cx="32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 flipH="1">
              <a:off x="4095360" y="384012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660240" y="3559320"/>
              <a:ext cx="32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 flipH="1">
              <a:off x="4095360" y="355932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660240" y="3287880"/>
              <a:ext cx="32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 flipH="1">
              <a:off x="4095360" y="328788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660240" y="3014640"/>
              <a:ext cx="32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 flipH="1">
              <a:off x="4095360" y="301464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660240" y="2743200"/>
              <a:ext cx="32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 flipH="1">
              <a:off x="4095360" y="274320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660240" y="2470320"/>
              <a:ext cx="32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 flipH="1">
              <a:off x="4095360" y="247032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91" name=""/>
            <p:cNvGrpSpPr/>
            <p:nvPr/>
          </p:nvGrpSpPr>
          <p:grpSpPr>
            <a:xfrm>
              <a:off x="-1440" y="2239920"/>
              <a:ext cx="695520" cy="3128040"/>
              <a:chOff x="-1440" y="2239920"/>
              <a:chExt cx="695520" cy="3128040"/>
            </a:xfrm>
          </p:grpSpPr>
          <p:sp>
            <p:nvSpPr>
              <p:cNvPr id="4192" name=""/>
              <p:cNvSpPr/>
              <p:nvPr/>
            </p:nvSpPr>
            <p:spPr>
              <a:xfrm>
                <a:off x="-1440" y="4970520"/>
                <a:ext cx="695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10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70200" y="442584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8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70200" y="388152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6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70200" y="332892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4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70200" y="278460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2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183600" y="223992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98" name=""/>
            <p:cNvSpPr/>
            <p:nvPr/>
          </p:nvSpPr>
          <p:spPr>
            <a:xfrm>
              <a:off x="660240" y="5200560"/>
              <a:ext cx="34689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660240" y="2470320"/>
              <a:ext cx="3743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 flipV="1">
              <a:off x="660240" y="2082960"/>
              <a:ext cx="0" cy="3117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 flipV="1">
              <a:off x="4129200" y="2470320"/>
              <a:ext cx="0" cy="2730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660240" y="520056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660240" y="2470320"/>
              <a:ext cx="3470400" cy="2963520"/>
            </a:xfrm>
            <a:custGeom>
              <a:avLst/>
              <a:gdLst/>
              <a:ahLst/>
              <a:rect l="l" t="t" r="r" b="b"/>
              <a:pathLst>
                <a:path w="2186" h="1867">
                  <a:moveTo>
                    <a:pt x="0" y="0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6" y="5"/>
                  </a:lnTo>
                  <a:lnTo>
                    <a:pt x="41" y="5"/>
                  </a:lnTo>
                  <a:lnTo>
                    <a:pt x="46" y="5"/>
                  </a:lnTo>
                  <a:lnTo>
                    <a:pt x="51" y="5"/>
                  </a:lnTo>
                  <a:lnTo>
                    <a:pt x="56" y="10"/>
                  </a:lnTo>
                  <a:lnTo>
                    <a:pt x="61" y="10"/>
                  </a:lnTo>
                  <a:lnTo>
                    <a:pt x="66" y="10"/>
                  </a:lnTo>
                  <a:lnTo>
                    <a:pt x="71" y="10"/>
                  </a:lnTo>
                  <a:lnTo>
                    <a:pt x="71" y="15"/>
                  </a:lnTo>
                  <a:lnTo>
                    <a:pt x="76" y="15"/>
                  </a:lnTo>
                  <a:lnTo>
                    <a:pt x="81" y="15"/>
                  </a:lnTo>
                  <a:lnTo>
                    <a:pt x="86" y="21"/>
                  </a:lnTo>
                  <a:lnTo>
                    <a:pt x="91" y="21"/>
                  </a:lnTo>
                  <a:lnTo>
                    <a:pt x="96" y="21"/>
                  </a:lnTo>
                  <a:lnTo>
                    <a:pt x="96" y="26"/>
                  </a:lnTo>
                  <a:lnTo>
                    <a:pt x="101" y="26"/>
                  </a:lnTo>
                  <a:lnTo>
                    <a:pt x="106" y="31"/>
                  </a:lnTo>
                  <a:lnTo>
                    <a:pt x="111" y="31"/>
                  </a:lnTo>
                  <a:lnTo>
                    <a:pt x="116" y="36"/>
                  </a:lnTo>
                  <a:lnTo>
                    <a:pt x="121" y="36"/>
                  </a:lnTo>
                  <a:lnTo>
                    <a:pt x="126" y="41"/>
                  </a:lnTo>
                  <a:lnTo>
                    <a:pt x="131" y="46"/>
                  </a:lnTo>
                  <a:lnTo>
                    <a:pt x="136" y="46"/>
                  </a:lnTo>
                  <a:lnTo>
                    <a:pt x="141" y="51"/>
                  </a:lnTo>
                  <a:lnTo>
                    <a:pt x="147" y="56"/>
                  </a:lnTo>
                  <a:lnTo>
                    <a:pt x="152" y="56"/>
                  </a:lnTo>
                  <a:lnTo>
                    <a:pt x="157" y="61"/>
                  </a:lnTo>
                  <a:lnTo>
                    <a:pt x="157" y="66"/>
                  </a:lnTo>
                  <a:lnTo>
                    <a:pt x="162" y="66"/>
                  </a:lnTo>
                  <a:lnTo>
                    <a:pt x="167" y="71"/>
                  </a:lnTo>
                  <a:lnTo>
                    <a:pt x="172" y="76"/>
                  </a:lnTo>
                  <a:lnTo>
                    <a:pt x="177" y="81"/>
                  </a:lnTo>
                  <a:lnTo>
                    <a:pt x="182" y="81"/>
                  </a:lnTo>
                  <a:lnTo>
                    <a:pt x="182" y="86"/>
                  </a:lnTo>
                  <a:lnTo>
                    <a:pt x="187" y="91"/>
                  </a:lnTo>
                  <a:lnTo>
                    <a:pt x="192" y="96"/>
                  </a:lnTo>
                  <a:lnTo>
                    <a:pt x="197" y="101"/>
                  </a:lnTo>
                  <a:lnTo>
                    <a:pt x="202" y="106"/>
                  </a:lnTo>
                  <a:lnTo>
                    <a:pt x="207" y="111"/>
                  </a:lnTo>
                  <a:lnTo>
                    <a:pt x="212" y="116"/>
                  </a:lnTo>
                  <a:lnTo>
                    <a:pt x="212" y="121"/>
                  </a:lnTo>
                  <a:lnTo>
                    <a:pt x="217" y="126"/>
                  </a:lnTo>
                  <a:lnTo>
                    <a:pt x="222" y="131"/>
                  </a:lnTo>
                  <a:lnTo>
                    <a:pt x="227" y="136"/>
                  </a:lnTo>
                  <a:lnTo>
                    <a:pt x="232" y="142"/>
                  </a:lnTo>
                  <a:lnTo>
                    <a:pt x="237" y="147"/>
                  </a:lnTo>
                  <a:lnTo>
                    <a:pt x="237" y="152"/>
                  </a:lnTo>
                  <a:lnTo>
                    <a:pt x="242" y="162"/>
                  </a:lnTo>
                  <a:lnTo>
                    <a:pt x="247" y="167"/>
                  </a:lnTo>
                  <a:lnTo>
                    <a:pt x="252" y="172"/>
                  </a:lnTo>
                  <a:lnTo>
                    <a:pt x="257" y="177"/>
                  </a:lnTo>
                  <a:lnTo>
                    <a:pt x="263" y="187"/>
                  </a:lnTo>
                  <a:lnTo>
                    <a:pt x="268" y="192"/>
                  </a:lnTo>
                  <a:lnTo>
                    <a:pt x="268" y="202"/>
                  </a:lnTo>
                  <a:lnTo>
                    <a:pt x="273" y="207"/>
                  </a:lnTo>
                  <a:lnTo>
                    <a:pt x="278" y="212"/>
                  </a:lnTo>
                  <a:lnTo>
                    <a:pt x="283" y="222"/>
                  </a:lnTo>
                  <a:lnTo>
                    <a:pt x="288" y="232"/>
                  </a:lnTo>
                  <a:lnTo>
                    <a:pt x="293" y="237"/>
                  </a:lnTo>
                  <a:lnTo>
                    <a:pt x="293" y="247"/>
                  </a:lnTo>
                  <a:lnTo>
                    <a:pt x="298" y="252"/>
                  </a:lnTo>
                  <a:lnTo>
                    <a:pt x="303" y="263"/>
                  </a:lnTo>
                  <a:lnTo>
                    <a:pt x="308" y="273"/>
                  </a:lnTo>
                  <a:lnTo>
                    <a:pt x="313" y="283"/>
                  </a:lnTo>
                  <a:lnTo>
                    <a:pt x="318" y="293"/>
                  </a:lnTo>
                  <a:lnTo>
                    <a:pt x="323" y="303"/>
                  </a:lnTo>
                  <a:lnTo>
                    <a:pt x="323" y="313"/>
                  </a:lnTo>
                  <a:lnTo>
                    <a:pt x="328" y="323"/>
                  </a:lnTo>
                  <a:lnTo>
                    <a:pt x="333" y="333"/>
                  </a:lnTo>
                  <a:lnTo>
                    <a:pt x="338" y="343"/>
                  </a:lnTo>
                  <a:lnTo>
                    <a:pt x="343" y="353"/>
                  </a:lnTo>
                  <a:lnTo>
                    <a:pt x="348" y="363"/>
                  </a:lnTo>
                  <a:lnTo>
                    <a:pt x="348" y="379"/>
                  </a:lnTo>
                  <a:lnTo>
                    <a:pt x="353" y="389"/>
                  </a:lnTo>
                  <a:lnTo>
                    <a:pt x="358" y="404"/>
                  </a:lnTo>
                  <a:lnTo>
                    <a:pt x="363" y="414"/>
                  </a:lnTo>
                  <a:lnTo>
                    <a:pt x="368" y="429"/>
                  </a:lnTo>
                  <a:lnTo>
                    <a:pt x="374" y="444"/>
                  </a:lnTo>
                  <a:lnTo>
                    <a:pt x="379" y="459"/>
                  </a:lnTo>
                  <a:lnTo>
                    <a:pt x="379" y="474"/>
                  </a:lnTo>
                  <a:lnTo>
                    <a:pt x="384" y="489"/>
                  </a:lnTo>
                  <a:lnTo>
                    <a:pt x="389" y="505"/>
                  </a:lnTo>
                  <a:lnTo>
                    <a:pt x="394" y="525"/>
                  </a:lnTo>
                  <a:lnTo>
                    <a:pt x="399" y="545"/>
                  </a:lnTo>
                  <a:lnTo>
                    <a:pt x="404" y="560"/>
                  </a:lnTo>
                  <a:lnTo>
                    <a:pt x="404" y="585"/>
                  </a:lnTo>
                  <a:lnTo>
                    <a:pt x="409" y="605"/>
                  </a:lnTo>
                  <a:lnTo>
                    <a:pt x="414" y="631"/>
                  </a:lnTo>
                  <a:lnTo>
                    <a:pt x="419" y="656"/>
                  </a:lnTo>
                  <a:lnTo>
                    <a:pt x="424" y="681"/>
                  </a:lnTo>
                  <a:lnTo>
                    <a:pt x="429" y="716"/>
                  </a:lnTo>
                  <a:lnTo>
                    <a:pt x="434" y="747"/>
                  </a:lnTo>
                  <a:lnTo>
                    <a:pt x="434" y="792"/>
                  </a:lnTo>
                  <a:lnTo>
                    <a:pt x="439" y="837"/>
                  </a:lnTo>
                  <a:lnTo>
                    <a:pt x="444" y="903"/>
                  </a:lnTo>
                  <a:lnTo>
                    <a:pt x="449" y="994"/>
                  </a:lnTo>
                  <a:lnTo>
                    <a:pt x="454" y="1190"/>
                  </a:lnTo>
                  <a:lnTo>
                    <a:pt x="459" y="1145"/>
                  </a:lnTo>
                  <a:lnTo>
                    <a:pt x="464" y="1009"/>
                  </a:lnTo>
                  <a:lnTo>
                    <a:pt x="464" y="948"/>
                  </a:lnTo>
                  <a:lnTo>
                    <a:pt x="469" y="913"/>
                  </a:lnTo>
                  <a:lnTo>
                    <a:pt x="474" y="893"/>
                  </a:lnTo>
                  <a:lnTo>
                    <a:pt x="479" y="878"/>
                  </a:lnTo>
                  <a:lnTo>
                    <a:pt x="485" y="868"/>
                  </a:lnTo>
                  <a:lnTo>
                    <a:pt x="490" y="863"/>
                  </a:lnTo>
                  <a:lnTo>
                    <a:pt x="495" y="863"/>
                  </a:lnTo>
                  <a:lnTo>
                    <a:pt x="500" y="868"/>
                  </a:lnTo>
                  <a:lnTo>
                    <a:pt x="505" y="873"/>
                  </a:lnTo>
                  <a:lnTo>
                    <a:pt x="510" y="883"/>
                  </a:lnTo>
                  <a:lnTo>
                    <a:pt x="515" y="898"/>
                  </a:lnTo>
                  <a:lnTo>
                    <a:pt x="520" y="913"/>
                  </a:lnTo>
                  <a:lnTo>
                    <a:pt x="520" y="933"/>
                  </a:lnTo>
                  <a:lnTo>
                    <a:pt x="525" y="958"/>
                  </a:lnTo>
                  <a:lnTo>
                    <a:pt x="530" y="989"/>
                  </a:lnTo>
                  <a:lnTo>
                    <a:pt x="535" y="1029"/>
                  </a:lnTo>
                  <a:lnTo>
                    <a:pt x="540" y="1090"/>
                  </a:lnTo>
                  <a:lnTo>
                    <a:pt x="545" y="1195"/>
                  </a:lnTo>
                  <a:lnTo>
                    <a:pt x="545" y="1866"/>
                  </a:lnTo>
                  <a:lnTo>
                    <a:pt x="550" y="1201"/>
                  </a:lnTo>
                  <a:lnTo>
                    <a:pt x="555" y="1095"/>
                  </a:lnTo>
                  <a:lnTo>
                    <a:pt x="560" y="1039"/>
                  </a:lnTo>
                  <a:lnTo>
                    <a:pt x="565" y="999"/>
                  </a:lnTo>
                  <a:lnTo>
                    <a:pt x="570" y="969"/>
                  </a:lnTo>
                  <a:lnTo>
                    <a:pt x="575" y="943"/>
                  </a:lnTo>
                  <a:lnTo>
                    <a:pt x="575" y="923"/>
                  </a:lnTo>
                  <a:lnTo>
                    <a:pt x="580" y="908"/>
                  </a:lnTo>
                  <a:lnTo>
                    <a:pt x="585" y="898"/>
                  </a:lnTo>
                  <a:lnTo>
                    <a:pt x="590" y="888"/>
                  </a:lnTo>
                  <a:lnTo>
                    <a:pt x="595" y="878"/>
                  </a:lnTo>
                  <a:lnTo>
                    <a:pt x="601" y="873"/>
                  </a:lnTo>
                  <a:lnTo>
                    <a:pt x="601" y="868"/>
                  </a:lnTo>
                  <a:lnTo>
                    <a:pt x="606" y="863"/>
                  </a:lnTo>
                  <a:lnTo>
                    <a:pt x="611" y="863"/>
                  </a:lnTo>
                  <a:lnTo>
                    <a:pt x="616" y="863"/>
                  </a:lnTo>
                  <a:lnTo>
                    <a:pt x="621" y="863"/>
                  </a:lnTo>
                  <a:lnTo>
                    <a:pt x="626" y="863"/>
                  </a:lnTo>
                  <a:lnTo>
                    <a:pt x="631" y="863"/>
                  </a:lnTo>
                  <a:lnTo>
                    <a:pt x="631" y="868"/>
                  </a:lnTo>
                  <a:lnTo>
                    <a:pt x="636" y="873"/>
                  </a:lnTo>
                  <a:lnTo>
                    <a:pt x="641" y="878"/>
                  </a:lnTo>
                  <a:lnTo>
                    <a:pt x="646" y="888"/>
                  </a:lnTo>
                  <a:lnTo>
                    <a:pt x="651" y="898"/>
                  </a:lnTo>
                  <a:lnTo>
                    <a:pt x="656" y="908"/>
                  </a:lnTo>
                  <a:lnTo>
                    <a:pt x="656" y="923"/>
                  </a:lnTo>
                  <a:lnTo>
                    <a:pt x="661" y="938"/>
                  </a:lnTo>
                  <a:lnTo>
                    <a:pt x="666" y="953"/>
                  </a:lnTo>
                  <a:lnTo>
                    <a:pt x="671" y="979"/>
                  </a:lnTo>
                  <a:lnTo>
                    <a:pt x="676" y="1004"/>
                  </a:lnTo>
                  <a:lnTo>
                    <a:pt x="681" y="1039"/>
                  </a:lnTo>
                  <a:lnTo>
                    <a:pt x="686" y="1080"/>
                  </a:lnTo>
                  <a:lnTo>
                    <a:pt x="686" y="1145"/>
                  </a:lnTo>
                  <a:lnTo>
                    <a:pt x="691" y="1266"/>
                  </a:lnTo>
                  <a:lnTo>
                    <a:pt x="696" y="1503"/>
                  </a:lnTo>
                  <a:lnTo>
                    <a:pt x="701" y="1216"/>
                  </a:lnTo>
                  <a:lnTo>
                    <a:pt x="706" y="1120"/>
                  </a:lnTo>
                  <a:lnTo>
                    <a:pt x="712" y="1064"/>
                  </a:lnTo>
                  <a:lnTo>
                    <a:pt x="717" y="1029"/>
                  </a:lnTo>
                  <a:lnTo>
                    <a:pt x="717" y="999"/>
                  </a:lnTo>
                  <a:lnTo>
                    <a:pt x="722" y="974"/>
                  </a:lnTo>
                  <a:lnTo>
                    <a:pt x="727" y="953"/>
                  </a:lnTo>
                  <a:lnTo>
                    <a:pt x="732" y="933"/>
                  </a:lnTo>
                  <a:lnTo>
                    <a:pt x="737" y="923"/>
                  </a:lnTo>
                  <a:lnTo>
                    <a:pt x="742" y="908"/>
                  </a:lnTo>
                  <a:lnTo>
                    <a:pt x="742" y="898"/>
                  </a:lnTo>
                  <a:lnTo>
                    <a:pt x="747" y="888"/>
                  </a:lnTo>
                  <a:lnTo>
                    <a:pt x="752" y="883"/>
                  </a:lnTo>
                  <a:lnTo>
                    <a:pt x="757" y="878"/>
                  </a:lnTo>
                  <a:lnTo>
                    <a:pt x="762" y="873"/>
                  </a:lnTo>
                  <a:lnTo>
                    <a:pt x="767" y="868"/>
                  </a:lnTo>
                  <a:lnTo>
                    <a:pt x="772" y="863"/>
                  </a:lnTo>
                  <a:lnTo>
                    <a:pt x="777" y="863"/>
                  </a:lnTo>
                  <a:lnTo>
                    <a:pt x="782" y="863"/>
                  </a:lnTo>
                  <a:lnTo>
                    <a:pt x="787" y="863"/>
                  </a:lnTo>
                  <a:lnTo>
                    <a:pt x="792" y="863"/>
                  </a:lnTo>
                  <a:lnTo>
                    <a:pt x="797" y="863"/>
                  </a:lnTo>
                  <a:lnTo>
                    <a:pt x="797" y="868"/>
                  </a:lnTo>
                  <a:lnTo>
                    <a:pt x="802" y="873"/>
                  </a:lnTo>
                  <a:lnTo>
                    <a:pt x="807" y="878"/>
                  </a:lnTo>
                  <a:lnTo>
                    <a:pt x="812" y="883"/>
                  </a:lnTo>
                  <a:lnTo>
                    <a:pt x="817" y="888"/>
                  </a:lnTo>
                  <a:lnTo>
                    <a:pt x="822" y="898"/>
                  </a:lnTo>
                  <a:lnTo>
                    <a:pt x="828" y="908"/>
                  </a:lnTo>
                  <a:lnTo>
                    <a:pt x="828" y="918"/>
                  </a:lnTo>
                  <a:lnTo>
                    <a:pt x="833" y="933"/>
                  </a:lnTo>
                  <a:lnTo>
                    <a:pt x="838" y="948"/>
                  </a:lnTo>
                  <a:lnTo>
                    <a:pt x="843" y="964"/>
                  </a:lnTo>
                  <a:lnTo>
                    <a:pt x="848" y="984"/>
                  </a:lnTo>
                  <a:lnTo>
                    <a:pt x="853" y="1009"/>
                  </a:lnTo>
                  <a:lnTo>
                    <a:pt x="853" y="1039"/>
                  </a:lnTo>
                  <a:lnTo>
                    <a:pt x="858" y="1080"/>
                  </a:lnTo>
                  <a:lnTo>
                    <a:pt x="863" y="1135"/>
                  </a:lnTo>
                  <a:lnTo>
                    <a:pt x="868" y="1226"/>
                  </a:lnTo>
                  <a:lnTo>
                    <a:pt x="873" y="1498"/>
                  </a:lnTo>
                  <a:lnTo>
                    <a:pt x="878" y="1286"/>
                  </a:lnTo>
                  <a:lnTo>
                    <a:pt x="883" y="1165"/>
                  </a:lnTo>
                  <a:lnTo>
                    <a:pt x="883" y="1100"/>
                  </a:lnTo>
                  <a:lnTo>
                    <a:pt x="888" y="1054"/>
                  </a:lnTo>
                  <a:lnTo>
                    <a:pt x="893" y="1024"/>
                  </a:lnTo>
                  <a:lnTo>
                    <a:pt x="898" y="994"/>
                  </a:lnTo>
                  <a:lnTo>
                    <a:pt x="903" y="974"/>
                  </a:lnTo>
                  <a:lnTo>
                    <a:pt x="908" y="953"/>
                  </a:lnTo>
                  <a:lnTo>
                    <a:pt x="908" y="938"/>
                  </a:lnTo>
                  <a:lnTo>
                    <a:pt x="913" y="923"/>
                  </a:lnTo>
                  <a:lnTo>
                    <a:pt x="918" y="913"/>
                  </a:lnTo>
                  <a:lnTo>
                    <a:pt x="923" y="903"/>
                  </a:lnTo>
                  <a:lnTo>
                    <a:pt x="928" y="893"/>
                  </a:lnTo>
                  <a:lnTo>
                    <a:pt x="933" y="888"/>
                  </a:lnTo>
                  <a:lnTo>
                    <a:pt x="939" y="883"/>
                  </a:lnTo>
                  <a:lnTo>
                    <a:pt x="939" y="878"/>
                  </a:lnTo>
                  <a:lnTo>
                    <a:pt x="944" y="873"/>
                  </a:lnTo>
                  <a:lnTo>
                    <a:pt x="949" y="868"/>
                  </a:lnTo>
                  <a:lnTo>
                    <a:pt x="954" y="863"/>
                  </a:lnTo>
                  <a:lnTo>
                    <a:pt x="959" y="863"/>
                  </a:lnTo>
                  <a:lnTo>
                    <a:pt x="964" y="863"/>
                  </a:lnTo>
                  <a:lnTo>
                    <a:pt x="969" y="863"/>
                  </a:lnTo>
                  <a:lnTo>
                    <a:pt x="974" y="863"/>
                  </a:lnTo>
                  <a:lnTo>
                    <a:pt x="979" y="863"/>
                  </a:lnTo>
                  <a:lnTo>
                    <a:pt x="984" y="868"/>
                  </a:lnTo>
                  <a:lnTo>
                    <a:pt x="989" y="868"/>
                  </a:lnTo>
                  <a:lnTo>
                    <a:pt x="994" y="873"/>
                  </a:lnTo>
                  <a:lnTo>
                    <a:pt x="994" y="878"/>
                  </a:lnTo>
                  <a:lnTo>
                    <a:pt x="999" y="883"/>
                  </a:lnTo>
                  <a:lnTo>
                    <a:pt x="1004" y="893"/>
                  </a:lnTo>
                  <a:lnTo>
                    <a:pt x="1009" y="898"/>
                  </a:lnTo>
                  <a:lnTo>
                    <a:pt x="1014" y="908"/>
                  </a:lnTo>
                  <a:lnTo>
                    <a:pt x="1019" y="918"/>
                  </a:lnTo>
                  <a:lnTo>
                    <a:pt x="1024" y="928"/>
                  </a:lnTo>
                  <a:lnTo>
                    <a:pt x="1024" y="943"/>
                  </a:lnTo>
                  <a:lnTo>
                    <a:pt x="1029" y="958"/>
                  </a:lnTo>
                  <a:lnTo>
                    <a:pt x="1034" y="979"/>
                  </a:lnTo>
                  <a:lnTo>
                    <a:pt x="1039" y="999"/>
                  </a:lnTo>
                  <a:lnTo>
                    <a:pt x="1044" y="1029"/>
                  </a:lnTo>
                  <a:lnTo>
                    <a:pt x="1050" y="1059"/>
                  </a:lnTo>
                  <a:lnTo>
                    <a:pt x="1050" y="1105"/>
                  </a:lnTo>
                  <a:lnTo>
                    <a:pt x="1055" y="1170"/>
                  </a:lnTo>
                  <a:lnTo>
                    <a:pt x="1060" y="1286"/>
                  </a:lnTo>
                  <a:lnTo>
                    <a:pt x="1065" y="1533"/>
                  </a:lnTo>
                  <a:lnTo>
                    <a:pt x="1070" y="1236"/>
                  </a:lnTo>
                  <a:lnTo>
                    <a:pt x="1075" y="1145"/>
                  </a:lnTo>
                  <a:lnTo>
                    <a:pt x="1080" y="1090"/>
                  </a:lnTo>
                  <a:lnTo>
                    <a:pt x="1080" y="1049"/>
                  </a:lnTo>
                  <a:lnTo>
                    <a:pt x="1085" y="1019"/>
                  </a:lnTo>
                  <a:lnTo>
                    <a:pt x="1090" y="994"/>
                  </a:lnTo>
                  <a:lnTo>
                    <a:pt x="1095" y="974"/>
                  </a:lnTo>
                  <a:lnTo>
                    <a:pt x="1100" y="953"/>
                  </a:lnTo>
                  <a:lnTo>
                    <a:pt x="1105" y="938"/>
                  </a:lnTo>
                  <a:lnTo>
                    <a:pt x="1105" y="928"/>
                  </a:lnTo>
                  <a:lnTo>
                    <a:pt x="1110" y="913"/>
                  </a:lnTo>
                  <a:lnTo>
                    <a:pt x="1115" y="908"/>
                  </a:lnTo>
                  <a:lnTo>
                    <a:pt x="1120" y="898"/>
                  </a:lnTo>
                  <a:lnTo>
                    <a:pt x="1125" y="888"/>
                  </a:lnTo>
                  <a:lnTo>
                    <a:pt x="1130" y="883"/>
                  </a:lnTo>
                  <a:lnTo>
                    <a:pt x="1135" y="878"/>
                  </a:lnTo>
                  <a:lnTo>
                    <a:pt x="1135" y="873"/>
                  </a:lnTo>
                  <a:lnTo>
                    <a:pt x="1140" y="868"/>
                  </a:lnTo>
                  <a:lnTo>
                    <a:pt x="1145" y="868"/>
                  </a:lnTo>
                  <a:lnTo>
                    <a:pt x="1150" y="863"/>
                  </a:lnTo>
                  <a:lnTo>
                    <a:pt x="1155" y="863"/>
                  </a:lnTo>
                  <a:lnTo>
                    <a:pt x="1160" y="863"/>
                  </a:lnTo>
                  <a:lnTo>
                    <a:pt x="1166" y="863"/>
                  </a:lnTo>
                  <a:lnTo>
                    <a:pt x="1171" y="863"/>
                  </a:lnTo>
                  <a:lnTo>
                    <a:pt x="1176" y="863"/>
                  </a:lnTo>
                  <a:lnTo>
                    <a:pt x="1181" y="868"/>
                  </a:lnTo>
                  <a:lnTo>
                    <a:pt x="1186" y="868"/>
                  </a:lnTo>
                  <a:lnTo>
                    <a:pt x="1191" y="873"/>
                  </a:lnTo>
                  <a:lnTo>
                    <a:pt x="1191" y="878"/>
                  </a:lnTo>
                  <a:lnTo>
                    <a:pt x="1196" y="883"/>
                  </a:lnTo>
                  <a:lnTo>
                    <a:pt x="1201" y="893"/>
                  </a:lnTo>
                  <a:lnTo>
                    <a:pt x="1206" y="898"/>
                  </a:lnTo>
                  <a:lnTo>
                    <a:pt x="1211" y="908"/>
                  </a:lnTo>
                  <a:lnTo>
                    <a:pt x="1216" y="918"/>
                  </a:lnTo>
                  <a:lnTo>
                    <a:pt x="1216" y="928"/>
                  </a:lnTo>
                  <a:lnTo>
                    <a:pt x="1221" y="943"/>
                  </a:lnTo>
                  <a:lnTo>
                    <a:pt x="1226" y="958"/>
                  </a:lnTo>
                  <a:lnTo>
                    <a:pt x="1231" y="974"/>
                  </a:lnTo>
                  <a:lnTo>
                    <a:pt x="1236" y="994"/>
                  </a:lnTo>
                  <a:lnTo>
                    <a:pt x="1241" y="1019"/>
                  </a:lnTo>
                  <a:lnTo>
                    <a:pt x="1246" y="1049"/>
                  </a:lnTo>
                  <a:lnTo>
                    <a:pt x="1246" y="1090"/>
                  </a:lnTo>
                  <a:lnTo>
                    <a:pt x="1251" y="1145"/>
                  </a:lnTo>
                  <a:lnTo>
                    <a:pt x="1256" y="1231"/>
                  </a:lnTo>
                  <a:lnTo>
                    <a:pt x="1261" y="1473"/>
                  </a:lnTo>
                  <a:lnTo>
                    <a:pt x="1266" y="1306"/>
                  </a:lnTo>
                  <a:lnTo>
                    <a:pt x="1271" y="1180"/>
                  </a:lnTo>
                  <a:lnTo>
                    <a:pt x="1277" y="1115"/>
                  </a:lnTo>
                  <a:lnTo>
                    <a:pt x="1277" y="1069"/>
                  </a:lnTo>
                  <a:lnTo>
                    <a:pt x="1282" y="1034"/>
                  </a:lnTo>
                  <a:lnTo>
                    <a:pt x="1287" y="1009"/>
                  </a:lnTo>
                  <a:lnTo>
                    <a:pt x="1292" y="984"/>
                  </a:lnTo>
                  <a:lnTo>
                    <a:pt x="1297" y="964"/>
                  </a:lnTo>
                  <a:lnTo>
                    <a:pt x="1302" y="948"/>
                  </a:lnTo>
                  <a:lnTo>
                    <a:pt x="1302" y="933"/>
                  </a:lnTo>
                  <a:lnTo>
                    <a:pt x="1307" y="923"/>
                  </a:lnTo>
                  <a:lnTo>
                    <a:pt x="1312" y="913"/>
                  </a:lnTo>
                  <a:lnTo>
                    <a:pt x="1317" y="903"/>
                  </a:lnTo>
                  <a:lnTo>
                    <a:pt x="1322" y="893"/>
                  </a:lnTo>
                  <a:lnTo>
                    <a:pt x="1327" y="888"/>
                  </a:lnTo>
                  <a:lnTo>
                    <a:pt x="1332" y="883"/>
                  </a:lnTo>
                  <a:lnTo>
                    <a:pt x="1332" y="878"/>
                  </a:lnTo>
                  <a:lnTo>
                    <a:pt x="1337" y="873"/>
                  </a:lnTo>
                  <a:lnTo>
                    <a:pt x="1342" y="868"/>
                  </a:lnTo>
                  <a:lnTo>
                    <a:pt x="1347" y="868"/>
                  </a:lnTo>
                  <a:lnTo>
                    <a:pt x="1352" y="863"/>
                  </a:lnTo>
                  <a:lnTo>
                    <a:pt x="1357" y="863"/>
                  </a:lnTo>
                  <a:lnTo>
                    <a:pt x="1362" y="863"/>
                  </a:lnTo>
                  <a:lnTo>
                    <a:pt x="1367" y="863"/>
                  </a:lnTo>
                  <a:lnTo>
                    <a:pt x="1372" y="863"/>
                  </a:lnTo>
                  <a:lnTo>
                    <a:pt x="1377" y="863"/>
                  </a:lnTo>
                  <a:lnTo>
                    <a:pt x="1382" y="868"/>
                  </a:lnTo>
                  <a:lnTo>
                    <a:pt x="1387" y="868"/>
                  </a:lnTo>
                  <a:lnTo>
                    <a:pt x="1387" y="873"/>
                  </a:lnTo>
                  <a:lnTo>
                    <a:pt x="1393" y="878"/>
                  </a:lnTo>
                  <a:lnTo>
                    <a:pt x="1398" y="883"/>
                  </a:lnTo>
                  <a:lnTo>
                    <a:pt x="1403" y="888"/>
                  </a:lnTo>
                  <a:lnTo>
                    <a:pt x="1408" y="898"/>
                  </a:lnTo>
                  <a:lnTo>
                    <a:pt x="1413" y="903"/>
                  </a:lnTo>
                  <a:lnTo>
                    <a:pt x="1413" y="913"/>
                  </a:lnTo>
                  <a:lnTo>
                    <a:pt x="1418" y="928"/>
                  </a:lnTo>
                  <a:lnTo>
                    <a:pt x="1423" y="938"/>
                  </a:lnTo>
                  <a:lnTo>
                    <a:pt x="1428" y="953"/>
                  </a:lnTo>
                  <a:lnTo>
                    <a:pt x="1433" y="969"/>
                  </a:lnTo>
                  <a:lnTo>
                    <a:pt x="1438" y="989"/>
                  </a:lnTo>
                  <a:lnTo>
                    <a:pt x="1443" y="1009"/>
                  </a:lnTo>
                  <a:lnTo>
                    <a:pt x="1443" y="1039"/>
                  </a:lnTo>
                  <a:lnTo>
                    <a:pt x="1448" y="1074"/>
                  </a:lnTo>
                  <a:lnTo>
                    <a:pt x="1453" y="1120"/>
                  </a:lnTo>
                  <a:lnTo>
                    <a:pt x="1458" y="1190"/>
                  </a:lnTo>
                  <a:lnTo>
                    <a:pt x="1463" y="1327"/>
                  </a:lnTo>
                  <a:lnTo>
                    <a:pt x="1468" y="1433"/>
                  </a:lnTo>
                  <a:lnTo>
                    <a:pt x="1468" y="1226"/>
                  </a:lnTo>
                  <a:lnTo>
                    <a:pt x="1473" y="1140"/>
                  </a:lnTo>
                  <a:lnTo>
                    <a:pt x="1478" y="1090"/>
                  </a:lnTo>
                  <a:lnTo>
                    <a:pt x="1483" y="1049"/>
                  </a:lnTo>
                  <a:lnTo>
                    <a:pt x="1488" y="1019"/>
                  </a:lnTo>
                  <a:lnTo>
                    <a:pt x="1493" y="994"/>
                  </a:lnTo>
                  <a:lnTo>
                    <a:pt x="1498" y="974"/>
                  </a:lnTo>
                  <a:lnTo>
                    <a:pt x="1498" y="958"/>
                  </a:lnTo>
                  <a:lnTo>
                    <a:pt x="1504" y="943"/>
                  </a:lnTo>
                  <a:lnTo>
                    <a:pt x="1509" y="928"/>
                  </a:lnTo>
                  <a:lnTo>
                    <a:pt x="1514" y="918"/>
                  </a:lnTo>
                  <a:lnTo>
                    <a:pt x="1519" y="908"/>
                  </a:lnTo>
                  <a:lnTo>
                    <a:pt x="1524" y="898"/>
                  </a:lnTo>
                  <a:lnTo>
                    <a:pt x="1529" y="893"/>
                  </a:lnTo>
                  <a:lnTo>
                    <a:pt x="1529" y="888"/>
                  </a:lnTo>
                  <a:lnTo>
                    <a:pt x="1534" y="878"/>
                  </a:lnTo>
                  <a:lnTo>
                    <a:pt x="1539" y="873"/>
                  </a:lnTo>
                  <a:lnTo>
                    <a:pt x="1544" y="873"/>
                  </a:lnTo>
                  <a:lnTo>
                    <a:pt x="1549" y="868"/>
                  </a:lnTo>
                  <a:lnTo>
                    <a:pt x="1554" y="863"/>
                  </a:lnTo>
                  <a:lnTo>
                    <a:pt x="1559" y="863"/>
                  </a:lnTo>
                  <a:lnTo>
                    <a:pt x="1564" y="863"/>
                  </a:lnTo>
                  <a:lnTo>
                    <a:pt x="1569" y="863"/>
                  </a:lnTo>
                  <a:lnTo>
                    <a:pt x="1574" y="863"/>
                  </a:lnTo>
                  <a:lnTo>
                    <a:pt x="1579" y="863"/>
                  </a:lnTo>
                  <a:lnTo>
                    <a:pt x="1584" y="863"/>
                  </a:lnTo>
                  <a:lnTo>
                    <a:pt x="1584" y="868"/>
                  </a:lnTo>
                  <a:lnTo>
                    <a:pt x="1589" y="868"/>
                  </a:lnTo>
                  <a:lnTo>
                    <a:pt x="1594" y="873"/>
                  </a:lnTo>
                  <a:lnTo>
                    <a:pt x="1599" y="878"/>
                  </a:lnTo>
                  <a:lnTo>
                    <a:pt x="1604" y="883"/>
                  </a:lnTo>
                  <a:lnTo>
                    <a:pt x="1609" y="893"/>
                  </a:lnTo>
                  <a:lnTo>
                    <a:pt x="1609" y="898"/>
                  </a:lnTo>
                  <a:lnTo>
                    <a:pt x="1615" y="908"/>
                  </a:lnTo>
                  <a:lnTo>
                    <a:pt x="1620" y="918"/>
                  </a:lnTo>
                  <a:lnTo>
                    <a:pt x="1625" y="928"/>
                  </a:lnTo>
                  <a:lnTo>
                    <a:pt x="1630" y="938"/>
                  </a:lnTo>
                  <a:lnTo>
                    <a:pt x="1635" y="953"/>
                  </a:lnTo>
                  <a:lnTo>
                    <a:pt x="1640" y="969"/>
                  </a:lnTo>
                  <a:lnTo>
                    <a:pt x="1640" y="989"/>
                  </a:lnTo>
                  <a:lnTo>
                    <a:pt x="1645" y="1014"/>
                  </a:lnTo>
                  <a:lnTo>
                    <a:pt x="1650" y="1039"/>
                  </a:lnTo>
                  <a:lnTo>
                    <a:pt x="1655" y="1074"/>
                  </a:lnTo>
                  <a:lnTo>
                    <a:pt x="1660" y="1120"/>
                  </a:lnTo>
                  <a:lnTo>
                    <a:pt x="1665" y="1190"/>
                  </a:lnTo>
                  <a:lnTo>
                    <a:pt x="1665" y="1322"/>
                  </a:lnTo>
                  <a:lnTo>
                    <a:pt x="1670" y="1453"/>
                  </a:lnTo>
                  <a:lnTo>
                    <a:pt x="1675" y="1231"/>
                  </a:lnTo>
                  <a:lnTo>
                    <a:pt x="1680" y="1145"/>
                  </a:lnTo>
                  <a:lnTo>
                    <a:pt x="1685" y="1090"/>
                  </a:lnTo>
                  <a:lnTo>
                    <a:pt x="1690" y="1054"/>
                  </a:lnTo>
                  <a:lnTo>
                    <a:pt x="1695" y="1024"/>
                  </a:lnTo>
                  <a:lnTo>
                    <a:pt x="1695" y="999"/>
                  </a:lnTo>
                  <a:lnTo>
                    <a:pt x="1700" y="979"/>
                  </a:lnTo>
                  <a:lnTo>
                    <a:pt x="1705" y="958"/>
                  </a:lnTo>
                  <a:lnTo>
                    <a:pt x="1710" y="943"/>
                  </a:lnTo>
                  <a:lnTo>
                    <a:pt x="1715" y="933"/>
                  </a:lnTo>
                  <a:lnTo>
                    <a:pt x="1720" y="918"/>
                  </a:lnTo>
                  <a:lnTo>
                    <a:pt x="1720" y="908"/>
                  </a:lnTo>
                  <a:lnTo>
                    <a:pt x="1725" y="903"/>
                  </a:lnTo>
                  <a:lnTo>
                    <a:pt x="1731" y="893"/>
                  </a:lnTo>
                  <a:lnTo>
                    <a:pt x="1736" y="888"/>
                  </a:lnTo>
                  <a:lnTo>
                    <a:pt x="1741" y="883"/>
                  </a:lnTo>
                  <a:lnTo>
                    <a:pt x="1746" y="878"/>
                  </a:lnTo>
                  <a:lnTo>
                    <a:pt x="1751" y="873"/>
                  </a:lnTo>
                  <a:lnTo>
                    <a:pt x="1751" y="868"/>
                  </a:lnTo>
                  <a:lnTo>
                    <a:pt x="1756" y="868"/>
                  </a:lnTo>
                  <a:lnTo>
                    <a:pt x="1761" y="863"/>
                  </a:lnTo>
                  <a:lnTo>
                    <a:pt x="1766" y="863"/>
                  </a:lnTo>
                  <a:lnTo>
                    <a:pt x="1771" y="863"/>
                  </a:lnTo>
                  <a:lnTo>
                    <a:pt x="1776" y="863"/>
                  </a:lnTo>
                  <a:lnTo>
                    <a:pt x="1781" y="863"/>
                  </a:lnTo>
                  <a:lnTo>
                    <a:pt x="1786" y="863"/>
                  </a:lnTo>
                  <a:lnTo>
                    <a:pt x="1791" y="868"/>
                  </a:lnTo>
                  <a:lnTo>
                    <a:pt x="1796" y="868"/>
                  </a:lnTo>
                  <a:lnTo>
                    <a:pt x="1801" y="873"/>
                  </a:lnTo>
                  <a:lnTo>
                    <a:pt x="1806" y="878"/>
                  </a:lnTo>
                  <a:lnTo>
                    <a:pt x="1806" y="883"/>
                  </a:lnTo>
                  <a:lnTo>
                    <a:pt x="1811" y="888"/>
                  </a:lnTo>
                  <a:lnTo>
                    <a:pt x="1816" y="898"/>
                  </a:lnTo>
                  <a:lnTo>
                    <a:pt x="1821" y="903"/>
                  </a:lnTo>
                  <a:lnTo>
                    <a:pt x="1826" y="913"/>
                  </a:lnTo>
                  <a:lnTo>
                    <a:pt x="1831" y="923"/>
                  </a:lnTo>
                  <a:lnTo>
                    <a:pt x="1836" y="933"/>
                  </a:lnTo>
                  <a:lnTo>
                    <a:pt x="1836" y="948"/>
                  </a:lnTo>
                  <a:lnTo>
                    <a:pt x="1842" y="964"/>
                  </a:lnTo>
                  <a:lnTo>
                    <a:pt x="1847" y="984"/>
                  </a:lnTo>
                  <a:lnTo>
                    <a:pt x="1852" y="1004"/>
                  </a:lnTo>
                  <a:lnTo>
                    <a:pt x="1857" y="1029"/>
                  </a:lnTo>
                  <a:lnTo>
                    <a:pt x="1862" y="1059"/>
                  </a:lnTo>
                  <a:lnTo>
                    <a:pt x="1862" y="1100"/>
                  </a:lnTo>
                  <a:lnTo>
                    <a:pt x="1867" y="1160"/>
                  </a:lnTo>
                  <a:lnTo>
                    <a:pt x="1872" y="1256"/>
                  </a:lnTo>
                  <a:lnTo>
                    <a:pt x="1877" y="1614"/>
                  </a:lnTo>
                  <a:lnTo>
                    <a:pt x="1882" y="1286"/>
                  </a:lnTo>
                  <a:lnTo>
                    <a:pt x="1887" y="1175"/>
                  </a:lnTo>
                  <a:lnTo>
                    <a:pt x="1892" y="1110"/>
                  </a:lnTo>
                  <a:lnTo>
                    <a:pt x="1892" y="1069"/>
                  </a:lnTo>
                  <a:lnTo>
                    <a:pt x="1897" y="1034"/>
                  </a:lnTo>
                  <a:lnTo>
                    <a:pt x="1902" y="1009"/>
                  </a:lnTo>
                  <a:lnTo>
                    <a:pt x="1907" y="984"/>
                  </a:lnTo>
                  <a:lnTo>
                    <a:pt x="1912" y="969"/>
                  </a:lnTo>
                  <a:lnTo>
                    <a:pt x="1917" y="953"/>
                  </a:lnTo>
                  <a:lnTo>
                    <a:pt x="1917" y="938"/>
                  </a:lnTo>
                  <a:lnTo>
                    <a:pt x="1922" y="923"/>
                  </a:lnTo>
                  <a:lnTo>
                    <a:pt x="1927" y="913"/>
                  </a:lnTo>
                  <a:lnTo>
                    <a:pt x="1932" y="903"/>
                  </a:lnTo>
                  <a:lnTo>
                    <a:pt x="1937" y="898"/>
                  </a:lnTo>
                  <a:lnTo>
                    <a:pt x="1942" y="888"/>
                  </a:lnTo>
                  <a:lnTo>
                    <a:pt x="1947" y="883"/>
                  </a:lnTo>
                  <a:lnTo>
                    <a:pt x="1947" y="878"/>
                  </a:lnTo>
                  <a:lnTo>
                    <a:pt x="1952" y="873"/>
                  </a:lnTo>
                  <a:lnTo>
                    <a:pt x="1958" y="868"/>
                  </a:lnTo>
                  <a:lnTo>
                    <a:pt x="1963" y="868"/>
                  </a:lnTo>
                  <a:lnTo>
                    <a:pt x="1968" y="863"/>
                  </a:lnTo>
                  <a:lnTo>
                    <a:pt x="1973" y="863"/>
                  </a:lnTo>
                  <a:lnTo>
                    <a:pt x="1978" y="863"/>
                  </a:lnTo>
                  <a:lnTo>
                    <a:pt x="1983" y="863"/>
                  </a:lnTo>
                  <a:lnTo>
                    <a:pt x="1988" y="863"/>
                  </a:lnTo>
                  <a:lnTo>
                    <a:pt x="1993" y="863"/>
                  </a:lnTo>
                  <a:lnTo>
                    <a:pt x="1998" y="863"/>
                  </a:lnTo>
                  <a:lnTo>
                    <a:pt x="2003" y="868"/>
                  </a:lnTo>
                  <a:lnTo>
                    <a:pt x="2003" y="873"/>
                  </a:lnTo>
                  <a:lnTo>
                    <a:pt x="2008" y="873"/>
                  </a:lnTo>
                  <a:lnTo>
                    <a:pt x="2013" y="878"/>
                  </a:lnTo>
                  <a:lnTo>
                    <a:pt x="2018" y="883"/>
                  </a:lnTo>
                  <a:lnTo>
                    <a:pt x="2023" y="893"/>
                  </a:lnTo>
                  <a:lnTo>
                    <a:pt x="2028" y="898"/>
                  </a:lnTo>
                  <a:lnTo>
                    <a:pt x="2028" y="908"/>
                  </a:lnTo>
                  <a:lnTo>
                    <a:pt x="2033" y="918"/>
                  </a:lnTo>
                  <a:lnTo>
                    <a:pt x="2038" y="928"/>
                  </a:lnTo>
                  <a:lnTo>
                    <a:pt x="2043" y="938"/>
                  </a:lnTo>
                  <a:lnTo>
                    <a:pt x="2048" y="953"/>
                  </a:lnTo>
                  <a:lnTo>
                    <a:pt x="2053" y="974"/>
                  </a:lnTo>
                  <a:lnTo>
                    <a:pt x="2058" y="989"/>
                  </a:lnTo>
                  <a:lnTo>
                    <a:pt x="2058" y="1014"/>
                  </a:lnTo>
                  <a:lnTo>
                    <a:pt x="2063" y="1039"/>
                  </a:lnTo>
                  <a:lnTo>
                    <a:pt x="2069" y="1074"/>
                  </a:lnTo>
                  <a:lnTo>
                    <a:pt x="2074" y="1125"/>
                  </a:lnTo>
                  <a:lnTo>
                    <a:pt x="2079" y="1190"/>
                  </a:lnTo>
                  <a:lnTo>
                    <a:pt x="2084" y="1327"/>
                  </a:lnTo>
                  <a:lnTo>
                    <a:pt x="2089" y="1438"/>
                  </a:lnTo>
                  <a:lnTo>
                    <a:pt x="2089" y="1231"/>
                  </a:lnTo>
                  <a:lnTo>
                    <a:pt x="2094" y="1145"/>
                  </a:lnTo>
                  <a:lnTo>
                    <a:pt x="2099" y="1090"/>
                  </a:lnTo>
                  <a:lnTo>
                    <a:pt x="2104" y="1054"/>
                  </a:lnTo>
                  <a:lnTo>
                    <a:pt x="2109" y="1024"/>
                  </a:lnTo>
                  <a:lnTo>
                    <a:pt x="2114" y="999"/>
                  </a:lnTo>
                  <a:lnTo>
                    <a:pt x="2114" y="979"/>
                  </a:lnTo>
                  <a:lnTo>
                    <a:pt x="2119" y="958"/>
                  </a:lnTo>
                  <a:lnTo>
                    <a:pt x="2124" y="943"/>
                  </a:lnTo>
                  <a:lnTo>
                    <a:pt x="2129" y="933"/>
                  </a:lnTo>
                  <a:lnTo>
                    <a:pt x="2134" y="923"/>
                  </a:lnTo>
                  <a:lnTo>
                    <a:pt x="2139" y="913"/>
                  </a:lnTo>
                  <a:lnTo>
                    <a:pt x="2144" y="903"/>
                  </a:lnTo>
                  <a:lnTo>
                    <a:pt x="2144" y="893"/>
                  </a:lnTo>
                  <a:lnTo>
                    <a:pt x="2149" y="888"/>
                  </a:lnTo>
                  <a:lnTo>
                    <a:pt x="2154" y="883"/>
                  </a:lnTo>
                  <a:lnTo>
                    <a:pt x="2159" y="878"/>
                  </a:lnTo>
                  <a:lnTo>
                    <a:pt x="2164" y="873"/>
                  </a:lnTo>
                  <a:lnTo>
                    <a:pt x="2169" y="868"/>
                  </a:lnTo>
                  <a:lnTo>
                    <a:pt x="2174" y="863"/>
                  </a:lnTo>
                  <a:lnTo>
                    <a:pt x="2180" y="863"/>
                  </a:lnTo>
                  <a:lnTo>
                    <a:pt x="2185" y="863"/>
                  </a:lnTo>
                </a:path>
              </a:pathLst>
            </a:custGeom>
            <a:noFill/>
            <a:ln cap="rnd" w="25560">
              <a:solidFill>
                <a:srgbClr val="f81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04" name=""/>
            <p:cNvGrpSpPr/>
            <p:nvPr/>
          </p:nvGrpSpPr>
          <p:grpSpPr>
            <a:xfrm>
              <a:off x="660240" y="2470320"/>
              <a:ext cx="3470400" cy="3116160"/>
              <a:chOff x="660240" y="2470320"/>
              <a:chExt cx="3470400" cy="3116160"/>
            </a:xfrm>
          </p:grpSpPr>
          <p:sp>
            <p:nvSpPr>
              <p:cNvPr id="4205" name=""/>
              <p:cNvSpPr/>
              <p:nvPr/>
            </p:nvSpPr>
            <p:spPr>
              <a:xfrm>
                <a:off x="660240" y="2470320"/>
                <a:ext cx="1339920" cy="3116160"/>
              </a:xfrm>
              <a:custGeom>
                <a:avLst/>
                <a:gdLst/>
                <a:ahLst/>
                <a:rect l="l" t="t" r="r" b="b"/>
                <a:pathLst>
                  <a:path w="844" h="1963">
                    <a:moveTo>
                      <a:pt x="0" y="0"/>
                    </a:moveTo>
                    <a:lnTo>
                      <a:pt x="5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1" y="0"/>
                    </a:lnTo>
                    <a:lnTo>
                      <a:pt x="41" y="5"/>
                    </a:lnTo>
                    <a:lnTo>
                      <a:pt x="46" y="5"/>
                    </a:lnTo>
                    <a:lnTo>
                      <a:pt x="51" y="5"/>
                    </a:lnTo>
                    <a:lnTo>
                      <a:pt x="56" y="5"/>
                    </a:lnTo>
                    <a:lnTo>
                      <a:pt x="61" y="5"/>
                    </a:lnTo>
                    <a:lnTo>
                      <a:pt x="66" y="5"/>
                    </a:lnTo>
                    <a:lnTo>
                      <a:pt x="71" y="10"/>
                    </a:lnTo>
                    <a:lnTo>
                      <a:pt x="76" y="10"/>
                    </a:lnTo>
                    <a:lnTo>
                      <a:pt x="81" y="10"/>
                    </a:lnTo>
                    <a:lnTo>
                      <a:pt x="86" y="10"/>
                    </a:lnTo>
                    <a:lnTo>
                      <a:pt x="91" y="15"/>
                    </a:lnTo>
                    <a:lnTo>
                      <a:pt x="96" y="15"/>
                    </a:lnTo>
                    <a:lnTo>
                      <a:pt x="101" y="21"/>
                    </a:lnTo>
                    <a:lnTo>
                      <a:pt x="106" y="21"/>
                    </a:lnTo>
                    <a:lnTo>
                      <a:pt x="111" y="21"/>
                    </a:lnTo>
                    <a:lnTo>
                      <a:pt x="116" y="21"/>
                    </a:lnTo>
                    <a:lnTo>
                      <a:pt x="121" y="26"/>
                    </a:lnTo>
                    <a:lnTo>
                      <a:pt x="126" y="26"/>
                    </a:lnTo>
                    <a:lnTo>
                      <a:pt x="126" y="31"/>
                    </a:lnTo>
                    <a:lnTo>
                      <a:pt x="131" y="31"/>
                    </a:lnTo>
                    <a:lnTo>
                      <a:pt x="136" y="31"/>
                    </a:lnTo>
                    <a:lnTo>
                      <a:pt x="141" y="36"/>
                    </a:lnTo>
                    <a:lnTo>
                      <a:pt x="147" y="36"/>
                    </a:lnTo>
                    <a:lnTo>
                      <a:pt x="152" y="41"/>
                    </a:lnTo>
                    <a:lnTo>
                      <a:pt x="157" y="41"/>
                    </a:lnTo>
                    <a:lnTo>
                      <a:pt x="162" y="46"/>
                    </a:lnTo>
                    <a:lnTo>
                      <a:pt x="167" y="46"/>
                    </a:lnTo>
                    <a:lnTo>
                      <a:pt x="172" y="51"/>
                    </a:lnTo>
                    <a:lnTo>
                      <a:pt x="177" y="51"/>
                    </a:lnTo>
                    <a:lnTo>
                      <a:pt x="182" y="56"/>
                    </a:lnTo>
                    <a:lnTo>
                      <a:pt x="187" y="61"/>
                    </a:lnTo>
                    <a:lnTo>
                      <a:pt x="192" y="66"/>
                    </a:lnTo>
                    <a:lnTo>
                      <a:pt x="197" y="66"/>
                    </a:lnTo>
                    <a:lnTo>
                      <a:pt x="202" y="71"/>
                    </a:lnTo>
                    <a:lnTo>
                      <a:pt x="207" y="71"/>
                    </a:lnTo>
                    <a:lnTo>
                      <a:pt x="212" y="76"/>
                    </a:lnTo>
                    <a:lnTo>
                      <a:pt x="212" y="81"/>
                    </a:lnTo>
                    <a:lnTo>
                      <a:pt x="217" y="81"/>
                    </a:lnTo>
                    <a:lnTo>
                      <a:pt x="222" y="86"/>
                    </a:lnTo>
                    <a:lnTo>
                      <a:pt x="227" y="91"/>
                    </a:lnTo>
                    <a:lnTo>
                      <a:pt x="232" y="91"/>
                    </a:lnTo>
                    <a:lnTo>
                      <a:pt x="237" y="96"/>
                    </a:lnTo>
                    <a:lnTo>
                      <a:pt x="237" y="101"/>
                    </a:lnTo>
                    <a:lnTo>
                      <a:pt x="242" y="101"/>
                    </a:lnTo>
                    <a:lnTo>
                      <a:pt x="247" y="106"/>
                    </a:lnTo>
                    <a:lnTo>
                      <a:pt x="252" y="111"/>
                    </a:lnTo>
                    <a:lnTo>
                      <a:pt x="257" y="116"/>
                    </a:lnTo>
                    <a:lnTo>
                      <a:pt x="263" y="121"/>
                    </a:lnTo>
                    <a:lnTo>
                      <a:pt x="268" y="121"/>
                    </a:lnTo>
                    <a:lnTo>
                      <a:pt x="268" y="126"/>
                    </a:lnTo>
                    <a:lnTo>
                      <a:pt x="273" y="131"/>
                    </a:lnTo>
                    <a:lnTo>
                      <a:pt x="278" y="136"/>
                    </a:lnTo>
                    <a:lnTo>
                      <a:pt x="283" y="142"/>
                    </a:lnTo>
                    <a:lnTo>
                      <a:pt x="288" y="147"/>
                    </a:lnTo>
                    <a:lnTo>
                      <a:pt x="293" y="152"/>
                    </a:lnTo>
                    <a:lnTo>
                      <a:pt x="293" y="157"/>
                    </a:lnTo>
                    <a:lnTo>
                      <a:pt x="298" y="162"/>
                    </a:lnTo>
                    <a:lnTo>
                      <a:pt x="303" y="162"/>
                    </a:lnTo>
                    <a:lnTo>
                      <a:pt x="308" y="167"/>
                    </a:lnTo>
                    <a:lnTo>
                      <a:pt x="313" y="172"/>
                    </a:lnTo>
                    <a:lnTo>
                      <a:pt x="318" y="177"/>
                    </a:lnTo>
                    <a:lnTo>
                      <a:pt x="323" y="182"/>
                    </a:lnTo>
                    <a:lnTo>
                      <a:pt x="323" y="192"/>
                    </a:lnTo>
                    <a:lnTo>
                      <a:pt x="328" y="197"/>
                    </a:lnTo>
                    <a:lnTo>
                      <a:pt x="333" y="202"/>
                    </a:lnTo>
                    <a:lnTo>
                      <a:pt x="338" y="207"/>
                    </a:lnTo>
                    <a:lnTo>
                      <a:pt x="343" y="212"/>
                    </a:lnTo>
                    <a:lnTo>
                      <a:pt x="348" y="217"/>
                    </a:lnTo>
                    <a:lnTo>
                      <a:pt x="348" y="222"/>
                    </a:lnTo>
                    <a:lnTo>
                      <a:pt x="353" y="227"/>
                    </a:lnTo>
                    <a:lnTo>
                      <a:pt x="358" y="237"/>
                    </a:lnTo>
                    <a:lnTo>
                      <a:pt x="363" y="242"/>
                    </a:lnTo>
                    <a:lnTo>
                      <a:pt x="368" y="247"/>
                    </a:lnTo>
                    <a:lnTo>
                      <a:pt x="374" y="252"/>
                    </a:lnTo>
                    <a:lnTo>
                      <a:pt x="379" y="263"/>
                    </a:lnTo>
                    <a:lnTo>
                      <a:pt x="379" y="268"/>
                    </a:lnTo>
                    <a:lnTo>
                      <a:pt x="384" y="273"/>
                    </a:lnTo>
                    <a:lnTo>
                      <a:pt x="389" y="283"/>
                    </a:lnTo>
                    <a:lnTo>
                      <a:pt x="394" y="288"/>
                    </a:lnTo>
                    <a:lnTo>
                      <a:pt x="399" y="293"/>
                    </a:lnTo>
                    <a:lnTo>
                      <a:pt x="404" y="303"/>
                    </a:lnTo>
                    <a:lnTo>
                      <a:pt x="404" y="308"/>
                    </a:lnTo>
                    <a:lnTo>
                      <a:pt x="409" y="318"/>
                    </a:lnTo>
                    <a:lnTo>
                      <a:pt x="414" y="323"/>
                    </a:lnTo>
                    <a:lnTo>
                      <a:pt x="419" y="333"/>
                    </a:lnTo>
                    <a:lnTo>
                      <a:pt x="424" y="338"/>
                    </a:lnTo>
                    <a:lnTo>
                      <a:pt x="429" y="348"/>
                    </a:lnTo>
                    <a:lnTo>
                      <a:pt x="434" y="358"/>
                    </a:lnTo>
                    <a:lnTo>
                      <a:pt x="434" y="363"/>
                    </a:lnTo>
                    <a:lnTo>
                      <a:pt x="439" y="374"/>
                    </a:lnTo>
                    <a:lnTo>
                      <a:pt x="444" y="384"/>
                    </a:lnTo>
                    <a:lnTo>
                      <a:pt x="449" y="389"/>
                    </a:lnTo>
                    <a:lnTo>
                      <a:pt x="454" y="399"/>
                    </a:lnTo>
                    <a:lnTo>
                      <a:pt x="459" y="409"/>
                    </a:lnTo>
                    <a:lnTo>
                      <a:pt x="464" y="419"/>
                    </a:lnTo>
                    <a:lnTo>
                      <a:pt x="464" y="424"/>
                    </a:lnTo>
                    <a:lnTo>
                      <a:pt x="469" y="434"/>
                    </a:lnTo>
                    <a:lnTo>
                      <a:pt x="474" y="444"/>
                    </a:lnTo>
                    <a:lnTo>
                      <a:pt x="479" y="454"/>
                    </a:lnTo>
                    <a:lnTo>
                      <a:pt x="485" y="464"/>
                    </a:lnTo>
                    <a:lnTo>
                      <a:pt x="490" y="474"/>
                    </a:lnTo>
                    <a:lnTo>
                      <a:pt x="490" y="484"/>
                    </a:lnTo>
                    <a:lnTo>
                      <a:pt x="495" y="495"/>
                    </a:lnTo>
                    <a:lnTo>
                      <a:pt x="500" y="510"/>
                    </a:lnTo>
                    <a:lnTo>
                      <a:pt x="505" y="520"/>
                    </a:lnTo>
                    <a:lnTo>
                      <a:pt x="510" y="530"/>
                    </a:lnTo>
                    <a:lnTo>
                      <a:pt x="515" y="540"/>
                    </a:lnTo>
                    <a:lnTo>
                      <a:pt x="520" y="555"/>
                    </a:lnTo>
                    <a:lnTo>
                      <a:pt x="520" y="565"/>
                    </a:lnTo>
                    <a:lnTo>
                      <a:pt x="525" y="575"/>
                    </a:lnTo>
                    <a:lnTo>
                      <a:pt x="530" y="590"/>
                    </a:lnTo>
                    <a:lnTo>
                      <a:pt x="535" y="600"/>
                    </a:lnTo>
                    <a:lnTo>
                      <a:pt x="540" y="616"/>
                    </a:lnTo>
                    <a:lnTo>
                      <a:pt x="545" y="631"/>
                    </a:lnTo>
                    <a:lnTo>
                      <a:pt x="545" y="641"/>
                    </a:lnTo>
                    <a:lnTo>
                      <a:pt x="550" y="656"/>
                    </a:lnTo>
                    <a:lnTo>
                      <a:pt x="555" y="671"/>
                    </a:lnTo>
                    <a:lnTo>
                      <a:pt x="560" y="686"/>
                    </a:lnTo>
                    <a:lnTo>
                      <a:pt x="565" y="701"/>
                    </a:lnTo>
                    <a:lnTo>
                      <a:pt x="570" y="716"/>
                    </a:lnTo>
                    <a:lnTo>
                      <a:pt x="575" y="732"/>
                    </a:lnTo>
                    <a:lnTo>
                      <a:pt x="575" y="752"/>
                    </a:lnTo>
                    <a:lnTo>
                      <a:pt x="580" y="767"/>
                    </a:lnTo>
                    <a:lnTo>
                      <a:pt x="585" y="782"/>
                    </a:lnTo>
                    <a:lnTo>
                      <a:pt x="590" y="802"/>
                    </a:lnTo>
                    <a:lnTo>
                      <a:pt x="595" y="822"/>
                    </a:lnTo>
                    <a:lnTo>
                      <a:pt x="601" y="842"/>
                    </a:lnTo>
                    <a:lnTo>
                      <a:pt x="601" y="863"/>
                    </a:lnTo>
                    <a:lnTo>
                      <a:pt x="606" y="883"/>
                    </a:lnTo>
                    <a:lnTo>
                      <a:pt x="611" y="903"/>
                    </a:lnTo>
                    <a:lnTo>
                      <a:pt x="616" y="928"/>
                    </a:lnTo>
                    <a:lnTo>
                      <a:pt x="621" y="953"/>
                    </a:lnTo>
                    <a:lnTo>
                      <a:pt x="626" y="979"/>
                    </a:lnTo>
                    <a:lnTo>
                      <a:pt x="631" y="1004"/>
                    </a:lnTo>
                    <a:lnTo>
                      <a:pt x="631" y="1034"/>
                    </a:lnTo>
                    <a:lnTo>
                      <a:pt x="636" y="1064"/>
                    </a:lnTo>
                    <a:lnTo>
                      <a:pt x="641" y="1100"/>
                    </a:lnTo>
                    <a:lnTo>
                      <a:pt x="646" y="1135"/>
                    </a:lnTo>
                    <a:lnTo>
                      <a:pt x="651" y="1180"/>
                    </a:lnTo>
                    <a:lnTo>
                      <a:pt x="656" y="1226"/>
                    </a:lnTo>
                    <a:lnTo>
                      <a:pt x="656" y="1286"/>
                    </a:lnTo>
                    <a:lnTo>
                      <a:pt x="661" y="1357"/>
                    </a:lnTo>
                    <a:lnTo>
                      <a:pt x="666" y="1473"/>
                    </a:lnTo>
                    <a:lnTo>
                      <a:pt x="671" y="1821"/>
                    </a:lnTo>
                    <a:lnTo>
                      <a:pt x="676" y="1548"/>
                    </a:lnTo>
                    <a:lnTo>
                      <a:pt x="681" y="1453"/>
                    </a:lnTo>
                    <a:lnTo>
                      <a:pt x="686" y="1412"/>
                    </a:lnTo>
                    <a:lnTo>
                      <a:pt x="686" y="1387"/>
                    </a:lnTo>
                    <a:lnTo>
                      <a:pt x="691" y="1377"/>
                    </a:lnTo>
                    <a:lnTo>
                      <a:pt x="696" y="1377"/>
                    </a:lnTo>
                    <a:lnTo>
                      <a:pt x="701" y="1382"/>
                    </a:lnTo>
                    <a:lnTo>
                      <a:pt x="706" y="1392"/>
                    </a:lnTo>
                    <a:lnTo>
                      <a:pt x="712" y="1407"/>
                    </a:lnTo>
                    <a:lnTo>
                      <a:pt x="717" y="1427"/>
                    </a:lnTo>
                    <a:lnTo>
                      <a:pt x="717" y="1463"/>
                    </a:lnTo>
                    <a:lnTo>
                      <a:pt x="722" y="1503"/>
                    </a:lnTo>
                    <a:lnTo>
                      <a:pt x="727" y="1569"/>
                    </a:lnTo>
                    <a:lnTo>
                      <a:pt x="732" y="1685"/>
                    </a:lnTo>
                    <a:lnTo>
                      <a:pt x="737" y="1927"/>
                    </a:lnTo>
                    <a:lnTo>
                      <a:pt x="742" y="1639"/>
                    </a:lnTo>
                    <a:lnTo>
                      <a:pt x="742" y="1554"/>
                    </a:lnTo>
                    <a:lnTo>
                      <a:pt x="747" y="1498"/>
                    </a:lnTo>
                    <a:lnTo>
                      <a:pt x="752" y="1463"/>
                    </a:lnTo>
                    <a:lnTo>
                      <a:pt x="757" y="1438"/>
                    </a:lnTo>
                    <a:lnTo>
                      <a:pt x="762" y="1417"/>
                    </a:lnTo>
                    <a:lnTo>
                      <a:pt x="767" y="1402"/>
                    </a:lnTo>
                    <a:lnTo>
                      <a:pt x="772" y="1392"/>
                    </a:lnTo>
                    <a:lnTo>
                      <a:pt x="772" y="1382"/>
                    </a:lnTo>
                    <a:lnTo>
                      <a:pt x="777" y="1377"/>
                    </a:lnTo>
                    <a:lnTo>
                      <a:pt x="782" y="1377"/>
                    </a:lnTo>
                    <a:lnTo>
                      <a:pt x="787" y="1377"/>
                    </a:lnTo>
                    <a:lnTo>
                      <a:pt x="792" y="1377"/>
                    </a:lnTo>
                    <a:lnTo>
                      <a:pt x="797" y="1382"/>
                    </a:lnTo>
                    <a:lnTo>
                      <a:pt x="797" y="1387"/>
                    </a:lnTo>
                    <a:lnTo>
                      <a:pt x="802" y="1397"/>
                    </a:lnTo>
                    <a:lnTo>
                      <a:pt x="807" y="1407"/>
                    </a:lnTo>
                    <a:lnTo>
                      <a:pt x="812" y="1417"/>
                    </a:lnTo>
                    <a:lnTo>
                      <a:pt x="817" y="1433"/>
                    </a:lnTo>
                    <a:lnTo>
                      <a:pt x="822" y="1453"/>
                    </a:lnTo>
                    <a:lnTo>
                      <a:pt x="828" y="1478"/>
                    </a:lnTo>
                    <a:lnTo>
                      <a:pt x="828" y="1513"/>
                    </a:lnTo>
                    <a:lnTo>
                      <a:pt x="833" y="1554"/>
                    </a:lnTo>
                    <a:lnTo>
                      <a:pt x="838" y="1614"/>
                    </a:lnTo>
                    <a:lnTo>
                      <a:pt x="843" y="1720"/>
                    </a:lnTo>
                    <a:lnTo>
                      <a:pt x="843" y="1962"/>
                    </a:lnTo>
                  </a:path>
                </a:pathLst>
              </a:custGeom>
              <a:noFill/>
              <a:ln cap="rnd" w="25560">
                <a:solidFill>
                  <a:srgbClr val="00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2006640" y="4656240"/>
                <a:ext cx="480960" cy="930240"/>
              </a:xfrm>
              <a:custGeom>
                <a:avLst/>
                <a:gdLst/>
                <a:ahLst/>
                <a:rect l="l" t="t" r="r" b="b"/>
                <a:pathLst>
                  <a:path w="303" h="586">
                    <a:moveTo>
                      <a:pt x="0" y="585"/>
                    </a:moveTo>
                    <a:lnTo>
                      <a:pt x="5" y="338"/>
                    </a:lnTo>
                    <a:lnTo>
                      <a:pt x="5" y="237"/>
                    </a:lnTo>
                    <a:lnTo>
                      <a:pt x="10" y="177"/>
                    </a:lnTo>
                    <a:lnTo>
                      <a:pt x="15" y="136"/>
                    </a:lnTo>
                    <a:lnTo>
                      <a:pt x="20" y="106"/>
                    </a:lnTo>
                    <a:lnTo>
                      <a:pt x="25" y="81"/>
                    </a:lnTo>
                    <a:lnTo>
                      <a:pt x="30" y="66"/>
                    </a:lnTo>
                    <a:lnTo>
                      <a:pt x="35" y="50"/>
                    </a:lnTo>
                    <a:lnTo>
                      <a:pt x="35" y="35"/>
                    </a:lnTo>
                    <a:lnTo>
                      <a:pt x="40" y="25"/>
                    </a:lnTo>
                    <a:lnTo>
                      <a:pt x="45" y="15"/>
                    </a:lnTo>
                    <a:lnTo>
                      <a:pt x="50" y="10"/>
                    </a:lnTo>
                    <a:lnTo>
                      <a:pt x="55" y="5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5" y="0"/>
                    </a:lnTo>
                    <a:lnTo>
                      <a:pt x="80" y="5"/>
                    </a:lnTo>
                    <a:lnTo>
                      <a:pt x="85" y="10"/>
                    </a:lnTo>
                    <a:lnTo>
                      <a:pt x="91" y="15"/>
                    </a:lnTo>
                    <a:lnTo>
                      <a:pt x="91" y="20"/>
                    </a:lnTo>
                    <a:lnTo>
                      <a:pt x="96" y="30"/>
                    </a:lnTo>
                    <a:lnTo>
                      <a:pt x="101" y="40"/>
                    </a:lnTo>
                    <a:lnTo>
                      <a:pt x="106" y="56"/>
                    </a:lnTo>
                    <a:lnTo>
                      <a:pt x="111" y="71"/>
                    </a:lnTo>
                    <a:lnTo>
                      <a:pt x="116" y="86"/>
                    </a:lnTo>
                    <a:lnTo>
                      <a:pt x="121" y="111"/>
                    </a:lnTo>
                    <a:lnTo>
                      <a:pt x="121" y="136"/>
                    </a:lnTo>
                    <a:lnTo>
                      <a:pt x="126" y="171"/>
                    </a:lnTo>
                    <a:lnTo>
                      <a:pt x="131" y="217"/>
                    </a:lnTo>
                    <a:lnTo>
                      <a:pt x="136" y="287"/>
                    </a:lnTo>
                    <a:lnTo>
                      <a:pt x="141" y="419"/>
                    </a:lnTo>
                    <a:lnTo>
                      <a:pt x="146" y="545"/>
                    </a:lnTo>
                    <a:lnTo>
                      <a:pt x="146" y="328"/>
                    </a:lnTo>
                    <a:lnTo>
                      <a:pt x="151" y="242"/>
                    </a:lnTo>
                    <a:lnTo>
                      <a:pt x="156" y="192"/>
                    </a:lnTo>
                    <a:lnTo>
                      <a:pt x="161" y="151"/>
                    </a:lnTo>
                    <a:lnTo>
                      <a:pt x="166" y="121"/>
                    </a:lnTo>
                    <a:lnTo>
                      <a:pt x="171" y="101"/>
                    </a:lnTo>
                    <a:lnTo>
                      <a:pt x="176" y="81"/>
                    </a:lnTo>
                    <a:lnTo>
                      <a:pt x="176" y="66"/>
                    </a:lnTo>
                    <a:lnTo>
                      <a:pt x="181" y="50"/>
                    </a:lnTo>
                    <a:lnTo>
                      <a:pt x="186" y="40"/>
                    </a:lnTo>
                    <a:lnTo>
                      <a:pt x="191" y="30"/>
                    </a:lnTo>
                    <a:lnTo>
                      <a:pt x="196" y="20"/>
                    </a:lnTo>
                    <a:lnTo>
                      <a:pt x="202" y="15"/>
                    </a:lnTo>
                    <a:lnTo>
                      <a:pt x="202" y="10"/>
                    </a:lnTo>
                    <a:lnTo>
                      <a:pt x="207" y="5"/>
                    </a:lnTo>
                    <a:lnTo>
                      <a:pt x="212" y="0"/>
                    </a:lnTo>
                    <a:lnTo>
                      <a:pt x="217" y="0"/>
                    </a:lnTo>
                    <a:lnTo>
                      <a:pt x="222" y="0"/>
                    </a:lnTo>
                    <a:lnTo>
                      <a:pt x="227" y="0"/>
                    </a:lnTo>
                    <a:lnTo>
                      <a:pt x="232" y="0"/>
                    </a:lnTo>
                    <a:lnTo>
                      <a:pt x="237" y="5"/>
                    </a:lnTo>
                    <a:lnTo>
                      <a:pt x="242" y="10"/>
                    </a:lnTo>
                    <a:lnTo>
                      <a:pt x="247" y="15"/>
                    </a:lnTo>
                    <a:lnTo>
                      <a:pt x="252" y="20"/>
                    </a:lnTo>
                    <a:lnTo>
                      <a:pt x="257" y="30"/>
                    </a:lnTo>
                    <a:lnTo>
                      <a:pt x="257" y="40"/>
                    </a:lnTo>
                    <a:lnTo>
                      <a:pt x="262" y="50"/>
                    </a:lnTo>
                    <a:lnTo>
                      <a:pt x="267" y="61"/>
                    </a:lnTo>
                    <a:lnTo>
                      <a:pt x="272" y="76"/>
                    </a:lnTo>
                    <a:lnTo>
                      <a:pt x="277" y="96"/>
                    </a:lnTo>
                    <a:lnTo>
                      <a:pt x="282" y="116"/>
                    </a:lnTo>
                    <a:lnTo>
                      <a:pt x="287" y="141"/>
                    </a:lnTo>
                    <a:lnTo>
                      <a:pt x="287" y="171"/>
                    </a:lnTo>
                    <a:lnTo>
                      <a:pt x="292" y="212"/>
                    </a:lnTo>
                    <a:lnTo>
                      <a:pt x="297" y="267"/>
                    </a:lnTo>
                    <a:lnTo>
                      <a:pt x="302" y="363"/>
                    </a:lnTo>
                    <a:lnTo>
                      <a:pt x="302" y="585"/>
                    </a:lnTo>
                  </a:path>
                </a:pathLst>
              </a:custGeom>
              <a:noFill/>
              <a:ln cap="rnd" w="25560">
                <a:solidFill>
                  <a:srgbClr val="00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2494080" y="4656240"/>
                <a:ext cx="866520" cy="930240"/>
              </a:xfrm>
              <a:custGeom>
                <a:avLst/>
                <a:gdLst/>
                <a:ahLst/>
                <a:rect l="l" t="t" r="r" b="b"/>
                <a:pathLst>
                  <a:path w="546" h="586">
                    <a:moveTo>
                      <a:pt x="0" y="585"/>
                    </a:moveTo>
                    <a:lnTo>
                      <a:pt x="5" y="398"/>
                    </a:lnTo>
                    <a:lnTo>
                      <a:pt x="5" y="287"/>
                    </a:lnTo>
                    <a:lnTo>
                      <a:pt x="11" y="222"/>
                    </a:lnTo>
                    <a:lnTo>
                      <a:pt x="16" y="182"/>
                    </a:lnTo>
                    <a:lnTo>
                      <a:pt x="21" y="146"/>
                    </a:lnTo>
                    <a:lnTo>
                      <a:pt x="26" y="121"/>
                    </a:lnTo>
                    <a:lnTo>
                      <a:pt x="31" y="101"/>
                    </a:lnTo>
                    <a:lnTo>
                      <a:pt x="36" y="81"/>
                    </a:lnTo>
                    <a:lnTo>
                      <a:pt x="36" y="66"/>
                    </a:lnTo>
                    <a:lnTo>
                      <a:pt x="41" y="56"/>
                    </a:lnTo>
                    <a:lnTo>
                      <a:pt x="46" y="40"/>
                    </a:lnTo>
                    <a:lnTo>
                      <a:pt x="51" y="35"/>
                    </a:lnTo>
                    <a:lnTo>
                      <a:pt x="56" y="25"/>
                    </a:lnTo>
                    <a:lnTo>
                      <a:pt x="61" y="20"/>
                    </a:lnTo>
                    <a:lnTo>
                      <a:pt x="61" y="10"/>
                    </a:lnTo>
                    <a:lnTo>
                      <a:pt x="66" y="10"/>
                    </a:lnTo>
                    <a:lnTo>
                      <a:pt x="71" y="5"/>
                    </a:lnTo>
                    <a:lnTo>
                      <a:pt x="76" y="0"/>
                    </a:lnTo>
                    <a:lnTo>
                      <a:pt x="81" y="0"/>
                    </a:lnTo>
                    <a:lnTo>
                      <a:pt x="86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1" y="5"/>
                    </a:lnTo>
                    <a:lnTo>
                      <a:pt x="106" y="10"/>
                    </a:lnTo>
                    <a:lnTo>
                      <a:pt x="111" y="10"/>
                    </a:lnTo>
                    <a:lnTo>
                      <a:pt x="116" y="20"/>
                    </a:lnTo>
                    <a:lnTo>
                      <a:pt x="122" y="25"/>
                    </a:lnTo>
                    <a:lnTo>
                      <a:pt x="122" y="30"/>
                    </a:lnTo>
                    <a:lnTo>
                      <a:pt x="127" y="40"/>
                    </a:lnTo>
                    <a:lnTo>
                      <a:pt x="132" y="50"/>
                    </a:lnTo>
                    <a:lnTo>
                      <a:pt x="137" y="66"/>
                    </a:lnTo>
                    <a:lnTo>
                      <a:pt x="142" y="81"/>
                    </a:lnTo>
                    <a:lnTo>
                      <a:pt x="147" y="96"/>
                    </a:lnTo>
                    <a:lnTo>
                      <a:pt x="147" y="116"/>
                    </a:lnTo>
                    <a:lnTo>
                      <a:pt x="152" y="136"/>
                    </a:lnTo>
                    <a:lnTo>
                      <a:pt x="157" y="166"/>
                    </a:lnTo>
                    <a:lnTo>
                      <a:pt x="162" y="207"/>
                    </a:lnTo>
                    <a:lnTo>
                      <a:pt x="167" y="257"/>
                    </a:lnTo>
                    <a:lnTo>
                      <a:pt x="172" y="333"/>
                    </a:lnTo>
                    <a:lnTo>
                      <a:pt x="177" y="509"/>
                    </a:lnTo>
                    <a:lnTo>
                      <a:pt x="177" y="474"/>
                    </a:lnTo>
                    <a:lnTo>
                      <a:pt x="182" y="323"/>
                    </a:lnTo>
                    <a:lnTo>
                      <a:pt x="187" y="247"/>
                    </a:lnTo>
                    <a:lnTo>
                      <a:pt x="192" y="202"/>
                    </a:lnTo>
                    <a:lnTo>
                      <a:pt x="197" y="166"/>
                    </a:lnTo>
                    <a:lnTo>
                      <a:pt x="202" y="136"/>
                    </a:lnTo>
                    <a:lnTo>
                      <a:pt x="202" y="111"/>
                    </a:lnTo>
                    <a:lnTo>
                      <a:pt x="207" y="96"/>
                    </a:lnTo>
                    <a:lnTo>
                      <a:pt x="212" y="76"/>
                    </a:lnTo>
                    <a:lnTo>
                      <a:pt x="217" y="66"/>
                    </a:lnTo>
                    <a:lnTo>
                      <a:pt x="222" y="50"/>
                    </a:lnTo>
                    <a:lnTo>
                      <a:pt x="227" y="40"/>
                    </a:lnTo>
                    <a:lnTo>
                      <a:pt x="232" y="30"/>
                    </a:lnTo>
                    <a:lnTo>
                      <a:pt x="232" y="25"/>
                    </a:lnTo>
                    <a:lnTo>
                      <a:pt x="238" y="20"/>
                    </a:lnTo>
                    <a:lnTo>
                      <a:pt x="243" y="15"/>
                    </a:lnTo>
                    <a:lnTo>
                      <a:pt x="248" y="10"/>
                    </a:lnTo>
                    <a:lnTo>
                      <a:pt x="253" y="5"/>
                    </a:lnTo>
                    <a:lnTo>
                      <a:pt x="258" y="0"/>
                    </a:lnTo>
                    <a:lnTo>
                      <a:pt x="263" y="0"/>
                    </a:lnTo>
                    <a:lnTo>
                      <a:pt x="268" y="0"/>
                    </a:lnTo>
                    <a:lnTo>
                      <a:pt x="273" y="0"/>
                    </a:lnTo>
                    <a:lnTo>
                      <a:pt x="278" y="0"/>
                    </a:lnTo>
                    <a:lnTo>
                      <a:pt x="283" y="5"/>
                    </a:lnTo>
                    <a:lnTo>
                      <a:pt x="288" y="5"/>
                    </a:lnTo>
                    <a:lnTo>
                      <a:pt x="288" y="10"/>
                    </a:lnTo>
                    <a:lnTo>
                      <a:pt x="293" y="15"/>
                    </a:lnTo>
                    <a:lnTo>
                      <a:pt x="298" y="20"/>
                    </a:lnTo>
                    <a:lnTo>
                      <a:pt x="303" y="25"/>
                    </a:lnTo>
                    <a:lnTo>
                      <a:pt x="308" y="35"/>
                    </a:lnTo>
                    <a:lnTo>
                      <a:pt x="313" y="45"/>
                    </a:lnTo>
                    <a:lnTo>
                      <a:pt x="313" y="56"/>
                    </a:lnTo>
                    <a:lnTo>
                      <a:pt x="318" y="66"/>
                    </a:lnTo>
                    <a:lnTo>
                      <a:pt x="323" y="81"/>
                    </a:lnTo>
                    <a:lnTo>
                      <a:pt x="328" y="96"/>
                    </a:lnTo>
                    <a:lnTo>
                      <a:pt x="333" y="116"/>
                    </a:lnTo>
                    <a:lnTo>
                      <a:pt x="338" y="141"/>
                    </a:lnTo>
                    <a:lnTo>
                      <a:pt x="343" y="166"/>
                    </a:lnTo>
                    <a:lnTo>
                      <a:pt x="343" y="202"/>
                    </a:lnTo>
                    <a:lnTo>
                      <a:pt x="349" y="252"/>
                    </a:lnTo>
                    <a:lnTo>
                      <a:pt x="354" y="323"/>
                    </a:lnTo>
                    <a:lnTo>
                      <a:pt x="359" y="474"/>
                    </a:lnTo>
                    <a:lnTo>
                      <a:pt x="364" y="524"/>
                    </a:lnTo>
                    <a:lnTo>
                      <a:pt x="369" y="343"/>
                    </a:lnTo>
                    <a:lnTo>
                      <a:pt x="374" y="262"/>
                    </a:lnTo>
                    <a:lnTo>
                      <a:pt x="374" y="212"/>
                    </a:lnTo>
                    <a:lnTo>
                      <a:pt x="379" y="171"/>
                    </a:lnTo>
                    <a:lnTo>
                      <a:pt x="384" y="146"/>
                    </a:lnTo>
                    <a:lnTo>
                      <a:pt x="389" y="121"/>
                    </a:lnTo>
                    <a:lnTo>
                      <a:pt x="394" y="101"/>
                    </a:lnTo>
                    <a:lnTo>
                      <a:pt x="399" y="86"/>
                    </a:lnTo>
                    <a:lnTo>
                      <a:pt x="399" y="71"/>
                    </a:lnTo>
                    <a:lnTo>
                      <a:pt x="404" y="56"/>
                    </a:lnTo>
                    <a:lnTo>
                      <a:pt x="409" y="45"/>
                    </a:lnTo>
                    <a:lnTo>
                      <a:pt x="414" y="35"/>
                    </a:lnTo>
                    <a:lnTo>
                      <a:pt x="419" y="30"/>
                    </a:lnTo>
                    <a:lnTo>
                      <a:pt x="424" y="20"/>
                    </a:lnTo>
                    <a:lnTo>
                      <a:pt x="429" y="15"/>
                    </a:lnTo>
                    <a:lnTo>
                      <a:pt x="429" y="10"/>
                    </a:lnTo>
                    <a:lnTo>
                      <a:pt x="434" y="5"/>
                    </a:lnTo>
                    <a:lnTo>
                      <a:pt x="439" y="5"/>
                    </a:lnTo>
                    <a:lnTo>
                      <a:pt x="444" y="0"/>
                    </a:lnTo>
                    <a:lnTo>
                      <a:pt x="449" y="0"/>
                    </a:lnTo>
                    <a:lnTo>
                      <a:pt x="454" y="0"/>
                    </a:lnTo>
                    <a:lnTo>
                      <a:pt x="460" y="0"/>
                    </a:lnTo>
                    <a:lnTo>
                      <a:pt x="465" y="0"/>
                    </a:lnTo>
                    <a:lnTo>
                      <a:pt x="470" y="5"/>
                    </a:lnTo>
                    <a:lnTo>
                      <a:pt x="475" y="5"/>
                    </a:lnTo>
                    <a:lnTo>
                      <a:pt x="480" y="10"/>
                    </a:lnTo>
                    <a:lnTo>
                      <a:pt x="485" y="15"/>
                    </a:lnTo>
                    <a:lnTo>
                      <a:pt x="485" y="20"/>
                    </a:lnTo>
                    <a:lnTo>
                      <a:pt x="490" y="25"/>
                    </a:lnTo>
                    <a:lnTo>
                      <a:pt x="495" y="35"/>
                    </a:lnTo>
                    <a:lnTo>
                      <a:pt x="500" y="45"/>
                    </a:lnTo>
                    <a:lnTo>
                      <a:pt x="505" y="56"/>
                    </a:lnTo>
                    <a:lnTo>
                      <a:pt x="510" y="66"/>
                    </a:lnTo>
                    <a:lnTo>
                      <a:pt x="510" y="81"/>
                    </a:lnTo>
                    <a:lnTo>
                      <a:pt x="515" y="96"/>
                    </a:lnTo>
                    <a:lnTo>
                      <a:pt x="520" y="111"/>
                    </a:lnTo>
                    <a:lnTo>
                      <a:pt x="525" y="136"/>
                    </a:lnTo>
                    <a:lnTo>
                      <a:pt x="530" y="161"/>
                    </a:lnTo>
                    <a:lnTo>
                      <a:pt x="535" y="197"/>
                    </a:lnTo>
                    <a:lnTo>
                      <a:pt x="540" y="237"/>
                    </a:lnTo>
                    <a:lnTo>
                      <a:pt x="540" y="303"/>
                    </a:lnTo>
                    <a:lnTo>
                      <a:pt x="545" y="414"/>
                    </a:lnTo>
                    <a:lnTo>
                      <a:pt x="545" y="585"/>
                    </a:lnTo>
                  </a:path>
                </a:pathLst>
              </a:custGeom>
              <a:noFill/>
              <a:ln cap="rnd" w="25560">
                <a:solidFill>
                  <a:srgbClr val="00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3367080" y="4656240"/>
                <a:ext cx="298440" cy="930240"/>
              </a:xfrm>
              <a:custGeom>
                <a:avLst/>
                <a:gdLst/>
                <a:ahLst/>
                <a:rect l="l" t="t" r="r" b="b"/>
                <a:pathLst>
                  <a:path w="188" h="586">
                    <a:moveTo>
                      <a:pt x="0" y="585"/>
                    </a:moveTo>
                    <a:lnTo>
                      <a:pt x="5" y="378"/>
                    </a:lnTo>
                    <a:lnTo>
                      <a:pt x="10" y="282"/>
                    </a:lnTo>
                    <a:lnTo>
                      <a:pt x="15" y="227"/>
                    </a:lnTo>
                    <a:lnTo>
                      <a:pt x="15" y="187"/>
                    </a:lnTo>
                    <a:lnTo>
                      <a:pt x="20" y="156"/>
                    </a:lnTo>
                    <a:lnTo>
                      <a:pt x="26" y="131"/>
                    </a:lnTo>
                    <a:lnTo>
                      <a:pt x="31" y="111"/>
                    </a:lnTo>
                    <a:lnTo>
                      <a:pt x="36" y="91"/>
                    </a:lnTo>
                    <a:lnTo>
                      <a:pt x="41" y="76"/>
                    </a:lnTo>
                    <a:lnTo>
                      <a:pt x="46" y="61"/>
                    </a:lnTo>
                    <a:lnTo>
                      <a:pt x="46" y="50"/>
                    </a:lnTo>
                    <a:lnTo>
                      <a:pt x="51" y="40"/>
                    </a:lnTo>
                    <a:lnTo>
                      <a:pt x="56" y="35"/>
                    </a:lnTo>
                    <a:lnTo>
                      <a:pt x="61" y="25"/>
                    </a:lnTo>
                    <a:lnTo>
                      <a:pt x="66" y="20"/>
                    </a:lnTo>
                    <a:lnTo>
                      <a:pt x="71" y="15"/>
                    </a:lnTo>
                    <a:lnTo>
                      <a:pt x="76" y="10"/>
                    </a:lnTo>
                    <a:lnTo>
                      <a:pt x="76" y="5"/>
                    </a:lnTo>
                    <a:lnTo>
                      <a:pt x="81" y="5"/>
                    </a:lnTo>
                    <a:lnTo>
                      <a:pt x="86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6" y="0"/>
                    </a:lnTo>
                    <a:lnTo>
                      <a:pt x="111" y="5"/>
                    </a:lnTo>
                    <a:lnTo>
                      <a:pt x="116" y="5"/>
                    </a:lnTo>
                    <a:lnTo>
                      <a:pt x="121" y="10"/>
                    </a:lnTo>
                    <a:lnTo>
                      <a:pt x="126" y="15"/>
                    </a:lnTo>
                    <a:lnTo>
                      <a:pt x="131" y="20"/>
                    </a:lnTo>
                    <a:lnTo>
                      <a:pt x="131" y="30"/>
                    </a:lnTo>
                    <a:lnTo>
                      <a:pt x="137" y="35"/>
                    </a:lnTo>
                    <a:lnTo>
                      <a:pt x="142" y="45"/>
                    </a:lnTo>
                    <a:lnTo>
                      <a:pt x="147" y="56"/>
                    </a:lnTo>
                    <a:lnTo>
                      <a:pt x="152" y="66"/>
                    </a:lnTo>
                    <a:lnTo>
                      <a:pt x="157" y="81"/>
                    </a:lnTo>
                    <a:lnTo>
                      <a:pt x="157" y="96"/>
                    </a:lnTo>
                    <a:lnTo>
                      <a:pt x="162" y="116"/>
                    </a:lnTo>
                    <a:lnTo>
                      <a:pt x="167" y="136"/>
                    </a:lnTo>
                    <a:lnTo>
                      <a:pt x="172" y="161"/>
                    </a:lnTo>
                    <a:lnTo>
                      <a:pt x="177" y="197"/>
                    </a:lnTo>
                    <a:lnTo>
                      <a:pt x="182" y="242"/>
                    </a:lnTo>
                    <a:lnTo>
                      <a:pt x="187" y="303"/>
                    </a:lnTo>
                    <a:lnTo>
                      <a:pt x="187" y="419"/>
                    </a:lnTo>
                    <a:lnTo>
                      <a:pt x="187" y="585"/>
                    </a:lnTo>
                  </a:path>
                </a:pathLst>
              </a:custGeom>
              <a:noFill/>
              <a:ln cap="rnd" w="25560">
                <a:solidFill>
                  <a:srgbClr val="00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3672000" y="4656240"/>
                <a:ext cx="306360" cy="930240"/>
              </a:xfrm>
              <a:custGeom>
                <a:avLst/>
                <a:gdLst/>
                <a:ahLst/>
                <a:rect l="l" t="t" r="r" b="b"/>
                <a:pathLst>
                  <a:path w="193" h="586">
                    <a:moveTo>
                      <a:pt x="0" y="585"/>
                    </a:moveTo>
                    <a:lnTo>
                      <a:pt x="5" y="378"/>
                    </a:lnTo>
                    <a:lnTo>
                      <a:pt x="10" y="287"/>
                    </a:lnTo>
                    <a:lnTo>
                      <a:pt x="15" y="227"/>
                    </a:lnTo>
                    <a:lnTo>
                      <a:pt x="20" y="187"/>
                    </a:lnTo>
                    <a:lnTo>
                      <a:pt x="20" y="156"/>
                    </a:lnTo>
                    <a:lnTo>
                      <a:pt x="25" y="131"/>
                    </a:lnTo>
                    <a:lnTo>
                      <a:pt x="30" y="111"/>
                    </a:lnTo>
                    <a:lnTo>
                      <a:pt x="35" y="91"/>
                    </a:lnTo>
                    <a:lnTo>
                      <a:pt x="40" y="76"/>
                    </a:lnTo>
                    <a:lnTo>
                      <a:pt x="45" y="66"/>
                    </a:lnTo>
                    <a:lnTo>
                      <a:pt x="50" y="50"/>
                    </a:lnTo>
                    <a:lnTo>
                      <a:pt x="50" y="45"/>
                    </a:lnTo>
                    <a:lnTo>
                      <a:pt x="55" y="35"/>
                    </a:lnTo>
                    <a:lnTo>
                      <a:pt x="61" y="25"/>
                    </a:lnTo>
                    <a:lnTo>
                      <a:pt x="66" y="20"/>
                    </a:lnTo>
                    <a:lnTo>
                      <a:pt x="71" y="15"/>
                    </a:lnTo>
                    <a:lnTo>
                      <a:pt x="76" y="10"/>
                    </a:lnTo>
                    <a:lnTo>
                      <a:pt x="76" y="5"/>
                    </a:lnTo>
                    <a:lnTo>
                      <a:pt x="81" y="5"/>
                    </a:lnTo>
                    <a:lnTo>
                      <a:pt x="86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6" y="0"/>
                    </a:lnTo>
                    <a:lnTo>
                      <a:pt x="111" y="5"/>
                    </a:lnTo>
                    <a:lnTo>
                      <a:pt x="116" y="5"/>
                    </a:lnTo>
                    <a:lnTo>
                      <a:pt x="121" y="10"/>
                    </a:lnTo>
                    <a:lnTo>
                      <a:pt x="126" y="15"/>
                    </a:lnTo>
                    <a:lnTo>
                      <a:pt x="131" y="20"/>
                    </a:lnTo>
                    <a:lnTo>
                      <a:pt x="131" y="25"/>
                    </a:lnTo>
                    <a:lnTo>
                      <a:pt x="136" y="35"/>
                    </a:lnTo>
                    <a:lnTo>
                      <a:pt x="141" y="40"/>
                    </a:lnTo>
                    <a:lnTo>
                      <a:pt x="146" y="50"/>
                    </a:lnTo>
                    <a:lnTo>
                      <a:pt x="151" y="66"/>
                    </a:lnTo>
                    <a:lnTo>
                      <a:pt x="156" y="76"/>
                    </a:lnTo>
                    <a:lnTo>
                      <a:pt x="161" y="91"/>
                    </a:lnTo>
                    <a:lnTo>
                      <a:pt x="161" y="111"/>
                    </a:lnTo>
                    <a:lnTo>
                      <a:pt x="166" y="131"/>
                    </a:lnTo>
                    <a:lnTo>
                      <a:pt x="172" y="151"/>
                    </a:lnTo>
                    <a:lnTo>
                      <a:pt x="177" y="187"/>
                    </a:lnTo>
                    <a:lnTo>
                      <a:pt x="182" y="222"/>
                    </a:lnTo>
                    <a:lnTo>
                      <a:pt x="187" y="277"/>
                    </a:lnTo>
                    <a:lnTo>
                      <a:pt x="192" y="363"/>
                    </a:lnTo>
                    <a:lnTo>
                      <a:pt x="192" y="585"/>
                    </a:lnTo>
                  </a:path>
                </a:pathLst>
              </a:custGeom>
              <a:noFill/>
              <a:ln cap="rnd" w="25560">
                <a:solidFill>
                  <a:srgbClr val="00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3976560" y="4656240"/>
                <a:ext cx="154080" cy="930240"/>
              </a:xfrm>
              <a:custGeom>
                <a:avLst/>
                <a:gdLst/>
                <a:ahLst/>
                <a:rect l="l" t="t" r="r" b="b"/>
                <a:pathLst>
                  <a:path w="97" h="586">
                    <a:moveTo>
                      <a:pt x="0" y="585"/>
                    </a:moveTo>
                    <a:lnTo>
                      <a:pt x="5" y="444"/>
                    </a:lnTo>
                    <a:lnTo>
                      <a:pt x="10" y="313"/>
                    </a:lnTo>
                    <a:lnTo>
                      <a:pt x="15" y="247"/>
                    </a:lnTo>
                    <a:lnTo>
                      <a:pt x="20" y="202"/>
                    </a:lnTo>
                    <a:lnTo>
                      <a:pt x="25" y="166"/>
                    </a:lnTo>
                    <a:lnTo>
                      <a:pt x="25" y="141"/>
                    </a:lnTo>
                    <a:lnTo>
                      <a:pt x="30" y="116"/>
                    </a:lnTo>
                    <a:lnTo>
                      <a:pt x="35" y="101"/>
                    </a:lnTo>
                    <a:lnTo>
                      <a:pt x="40" y="86"/>
                    </a:lnTo>
                    <a:lnTo>
                      <a:pt x="45" y="71"/>
                    </a:lnTo>
                    <a:lnTo>
                      <a:pt x="50" y="56"/>
                    </a:lnTo>
                    <a:lnTo>
                      <a:pt x="55" y="45"/>
                    </a:lnTo>
                    <a:lnTo>
                      <a:pt x="55" y="40"/>
                    </a:lnTo>
                    <a:lnTo>
                      <a:pt x="60" y="30"/>
                    </a:lnTo>
                    <a:lnTo>
                      <a:pt x="65" y="25"/>
                    </a:lnTo>
                    <a:lnTo>
                      <a:pt x="70" y="15"/>
                    </a:lnTo>
                    <a:lnTo>
                      <a:pt x="75" y="10"/>
                    </a:lnTo>
                    <a:lnTo>
                      <a:pt x="80" y="10"/>
                    </a:lnTo>
                    <a:lnTo>
                      <a:pt x="80" y="5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25560">
                <a:solidFill>
                  <a:srgbClr val="00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11" name=""/>
            <p:cNvSpPr/>
            <p:nvPr/>
          </p:nvSpPr>
          <p:spPr>
            <a:xfrm>
              <a:off x="2700720" y="3489480"/>
              <a:ext cx="1132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bfff7"/>
                  </a:solidFill>
                  <a:latin typeface="Arial"/>
                </a:rPr>
                <a:t>50,00d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2689560" y="4289400"/>
              <a:ext cx="1132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519d2"/>
                  </a:solidFill>
                  <a:latin typeface="Arial"/>
                </a:rPr>
                <a:t>80,00d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660240" y="3846600"/>
              <a:ext cx="3468960" cy="0"/>
            </a:xfrm>
            <a:prstGeom prst="line">
              <a:avLst/>
            </a:prstGeom>
            <a:ln w="25560">
              <a:solidFill>
                <a:srgbClr val="abff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3925440" y="5178600"/>
              <a:ext cx="325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4099680" y="2021040"/>
              <a:ext cx="36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664920" y="1949400"/>
              <a:ext cx="1643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afd00"/>
                  </a:solidFill>
                  <a:latin typeface="Arial"/>
                </a:rPr>
                <a:t>amplituda [dB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17" name=""/>
          <p:cNvSpPr/>
          <p:nvPr/>
        </p:nvSpPr>
        <p:spPr>
          <a:xfrm>
            <a:off x="5445000" y="1949400"/>
            <a:ext cx="16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afd00"/>
                </a:solidFill>
                <a:latin typeface="Arial"/>
              </a:rPr>
              <a:t>amplituda [dB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dfca"/>
                </a:solidFill>
                <a:latin typeface="Times New Roman"/>
              </a:rPr>
              <a:t>Kaiserov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4400" spc="-1" strike="noStrike">
                <a:solidFill>
                  <a:srgbClr val="00dfca"/>
                </a:solidFill>
                <a:latin typeface="Times New Roman"/>
              </a:rPr>
              <a:t>otvor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graphicFrame>
        <p:nvGraphicFramePr>
          <p:cNvPr id="4219" name=""/>
          <p:cNvGraphicFramePr/>
          <p:nvPr/>
        </p:nvGraphicFramePr>
        <p:xfrm>
          <a:off x="1424160" y="1663560"/>
          <a:ext cx="6446520" cy="17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1663560"/>
                    <a:ext cx="644652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1" name=""/>
          <p:cNvSpPr/>
          <p:nvPr/>
        </p:nvSpPr>
        <p:spPr>
          <a:xfrm>
            <a:off x="228600" y="35053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gdje je </a:t>
            </a:r>
            <a:r>
              <a:rPr b="0" i="1" lang="hr-HR" sz="32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hr-HR" sz="32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hr-HR" sz="32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fafd00"/>
                </a:solidFill>
                <a:latin typeface="Times New Roman"/>
              </a:rPr>
              <a:t>u</a:t>
            </a:r>
            <a:r>
              <a:rPr b="0" lang="hr-HR" sz="32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modificirana Bessel-ova funkcija nultog reda prve vrs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2" name=""/>
              <p:cNvSpPr txBox="1"/>
              <p:nvPr/>
            </p:nvSpPr>
            <p:spPr>
              <a:xfrm>
                <a:off x="2819520" y="4495680"/>
                <a:ext cx="354168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fPr>
                                                <m:type m:val="lin"/>
                                              </m:fPr>
                                              <m:num>
                                                <m:r>
                                                  <m:t xml:space="preserve">u</m:t>
                                                </m:r>
                                              </m:num>
                                              <m:den>
                                                <m:r>
                                                  <m:t xml:space="preserve">2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r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r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223" name=""/>
          <p:cNvSpPr/>
          <p:nvPr/>
        </p:nvSpPr>
        <p:spPr>
          <a:xfrm>
            <a:off x="304920" y="5715000"/>
            <a:ext cx="86104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arametar koji kontrolira gušenje u području guše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4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9" dur="500"/>
                                        <p:tgtEl>
                                          <p:spTgt spid="4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4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dfca"/>
                </a:solidFill>
                <a:latin typeface="Times New Roman"/>
              </a:rPr>
              <a:t>Kaiserov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4400" spc="-1" strike="noStrike">
                <a:solidFill>
                  <a:srgbClr val="00dfca"/>
                </a:solidFill>
                <a:latin typeface="Times New Roman"/>
              </a:rPr>
              <a:t>otvor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5" name=""/>
              <p:cNvSpPr txBox="1"/>
              <p:nvPr/>
            </p:nvSpPr>
            <p:spPr>
              <a:xfrm>
                <a:off x="82440" y="3048120"/>
                <a:ext cx="89074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02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                                  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842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7886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e>
                              </m:d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                                                </m:t>
                              </m:r>
                            </m:e>
                          </m:mr>
                        </m:m>
                      </m:e>
                    </m:d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 za </m:t>
                          </m:r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 za 21</m:t>
                          </m:r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 za </m:t>
                          </m:r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&lt;</m:t>
                          </m:r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226" name=""/>
          <p:cNvSpPr/>
          <p:nvPr/>
        </p:nvSpPr>
        <p:spPr>
          <a:xfrm>
            <a:off x="457200" y="1905120"/>
            <a:ext cx="8001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toje izrazi za procjenu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 duljine filtra </a:t>
            </a: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 ovisnosti o gušenju u stop bandu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i="1" lang="en-US" sz="3200" spc="-1" strike="noStrike" baseline="-25000">
                <a:solidFill>
                  <a:srgbClr val="fafd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7" name=""/>
              <p:cNvSpPr txBox="1"/>
              <p:nvPr/>
            </p:nvSpPr>
            <p:spPr>
              <a:xfrm>
                <a:off x="1676520" y="4648320"/>
                <a:ext cx="480060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≈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7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5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Δf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222</m:t>
                                  </m:r>
                                </m:num>
                                <m:den>
                                  <m:r>
                                    <m:t xml:space="preserve">Δf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  za </m:t>
                          </m:r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e>
                      </m:mr>
                      <m:mr>
                        <m:e/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  za </m:t>
                          </m:r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1" dur="500"/>
                                        <p:tgtEl>
                                          <p:spTgt spid="4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6" dur="500"/>
                                        <p:tgtEl>
                                          <p:spTgt spid="4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"/>
          <p:cNvSpPr/>
          <p:nvPr/>
        </p:nvSpPr>
        <p:spPr>
          <a:xfrm>
            <a:off x="152280" y="1752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j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990720" y="2362320"/>
            <a:ext cx="19047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hr-HR" sz="3200" spc="-1" strike="noStrike" baseline="-25000">
                <a:solidFill>
                  <a:srgbClr val="fafd00"/>
                </a:solidFill>
                <a:latin typeface="Times New Roman"/>
              </a:rPr>
              <a:t>p</a:t>
            </a:r>
            <a:r>
              <a:rPr b="0" lang="hr-HR" sz="3200" spc="-1" strike="noStrike">
                <a:solidFill>
                  <a:srgbClr val="fafd00"/>
                </a:solidFill>
                <a:latin typeface="Times New Roman"/>
              </a:rPr>
              <a:t>=0,3</a:t>
            </a:r>
            <a:r>
              <a:rPr b="0" lang="hr-HR" sz="32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hr-HR" sz="3200" spc="-1" strike="noStrike" baseline="-25000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hr-HR" sz="3200" spc="-1" strike="noStrike">
                <a:solidFill>
                  <a:srgbClr val="fafd00"/>
                </a:solidFill>
                <a:latin typeface="Times New Roman"/>
              </a:rPr>
              <a:t>=0,5</a:t>
            </a:r>
            <a:r>
              <a:rPr b="0" lang="hr-HR" sz="32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i="1" lang="hr-HR" sz="3200" spc="-1" strike="noStrike" baseline="-25000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hr-HR" sz="3200" spc="-1" strike="noStrike">
                <a:solidFill>
                  <a:srgbClr val="fafd00"/>
                </a:solidFill>
                <a:latin typeface="Times New Roman"/>
              </a:rPr>
              <a:t>=</a:t>
            </a:r>
            <a:r>
              <a:rPr b="0" lang="hr-HR" sz="3200" spc="-1" strike="noStrike">
                <a:solidFill>
                  <a:srgbClr val="fafd00"/>
                </a:solidFill>
                <a:latin typeface="Symbol"/>
                <a:ea typeface="Symbol"/>
              </a:rPr>
              <a:t></a:t>
            </a:r>
            <a:r>
              <a:rPr b="0" lang="hr-HR" sz="3200" spc="-1" strike="noStrike">
                <a:solidFill>
                  <a:srgbClr val="fafd00"/>
                </a:solidFill>
                <a:latin typeface="Times New Roman"/>
              </a:rPr>
              <a:t> d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dfca"/>
                </a:solidFill>
                <a:latin typeface="Times New Roman"/>
              </a:rPr>
              <a:t>Kaiserov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4400" spc="-1" strike="noStrike">
                <a:solidFill>
                  <a:srgbClr val="00dfca"/>
                </a:solidFill>
                <a:latin typeface="Times New Roman"/>
              </a:rPr>
              <a:t>otvor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>
            <a:off x="457200" y="4191120"/>
            <a:ext cx="2971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2" name=""/>
          <p:cNvGrpSpPr/>
          <p:nvPr/>
        </p:nvGrpSpPr>
        <p:grpSpPr>
          <a:xfrm>
            <a:off x="2836800" y="2452680"/>
            <a:ext cx="1125720" cy="1000080"/>
            <a:chOff x="2836800" y="2452680"/>
            <a:chExt cx="1125720" cy="1000080"/>
          </a:xfrm>
        </p:grpSpPr>
        <mc:AlternateContent>
          <mc:Choice xmlns:a14="http://schemas.microsoft.com/office/drawing/2010/main" Requires="a14">
            <p:sp>
              <p:nvSpPr>
                <p:cNvPr id="4233" name=""/>
                <p:cNvSpPr txBox="1"/>
                <p:nvPr/>
              </p:nvSpPr>
              <p:spPr>
                <a:xfrm>
                  <a:off x="2836800" y="2452680"/>
                  <a:ext cx="382680" cy="100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4234" name=""/>
            <p:cNvSpPr/>
            <p:nvPr/>
          </p:nvSpPr>
          <p:spPr>
            <a:xfrm>
              <a:off x="3200400" y="2971800"/>
              <a:ext cx="762120" cy="0"/>
            </a:xfrm>
            <a:prstGeom prst="line">
              <a:avLst/>
            </a:prstGeom>
            <a:ln w="12600">
              <a:solidFill>
                <a:srgbClr val="00ff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35" name=""/>
              <p:cNvSpPr txBox="1"/>
              <p:nvPr/>
            </p:nvSpPr>
            <p:spPr>
              <a:xfrm>
                <a:off x="4154400" y="2200320"/>
                <a:ext cx="20923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36" name=""/>
          <p:cNvSpPr/>
          <p:nvPr/>
        </p:nvSpPr>
        <p:spPr>
          <a:xfrm>
            <a:off x="6248520" y="2435400"/>
            <a:ext cx="13716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=0,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>
            <a:off x="4191120" y="3200400"/>
            <a:ext cx="1904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=0,4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>
            <a:off x="6858000" y="2971800"/>
            <a:ext cx="0" cy="457200"/>
          </a:xfrm>
          <a:prstGeom prst="line">
            <a:avLst/>
          </a:prstGeom>
          <a:ln w="12600">
            <a:solidFill>
              <a:srgbClr val="00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>
            <a:off x="6248520" y="3425760"/>
            <a:ext cx="2512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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=23,318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>
            <a:off x="6858000" y="3962520"/>
            <a:ext cx="0" cy="380880"/>
          </a:xfrm>
          <a:prstGeom prst="line">
            <a:avLst/>
          </a:prstGeom>
          <a:ln w="12600">
            <a:solidFill>
              <a:srgbClr val="00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1" name=""/>
          <p:cNvSpPr/>
          <p:nvPr/>
        </p:nvSpPr>
        <p:spPr>
          <a:xfrm>
            <a:off x="6248520" y="4340160"/>
            <a:ext cx="2133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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=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42" name=""/>
          <p:cNvGrpSpPr/>
          <p:nvPr/>
        </p:nvGrpSpPr>
        <p:grpSpPr>
          <a:xfrm>
            <a:off x="380880" y="3809880"/>
            <a:ext cx="609840" cy="1143000"/>
            <a:chOff x="380880" y="3809880"/>
            <a:chExt cx="609840" cy="1143000"/>
          </a:xfrm>
        </p:grpSpPr>
        <p:sp>
          <p:nvSpPr>
            <p:cNvPr id="4243" name=""/>
            <p:cNvSpPr/>
            <p:nvPr/>
          </p:nvSpPr>
          <p:spPr>
            <a:xfrm>
              <a:off x="380880" y="3809880"/>
              <a:ext cx="609840" cy="0"/>
            </a:xfrm>
            <a:prstGeom prst="line">
              <a:avLst/>
            </a:prstGeom>
            <a:ln w="12600">
              <a:solidFill>
                <a:srgbClr val="00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380880" y="3809880"/>
              <a:ext cx="0" cy="1143000"/>
            </a:xfrm>
            <a:prstGeom prst="line">
              <a:avLst/>
            </a:prstGeom>
            <a:ln w="12600">
              <a:solidFill>
                <a:srgbClr val="00ff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45" name=""/>
          <p:cNvSpPr/>
          <p:nvPr/>
        </p:nvSpPr>
        <p:spPr>
          <a:xfrm>
            <a:off x="0" y="495144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=3,395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46" name=""/>
          <p:cNvGrpSpPr/>
          <p:nvPr/>
        </p:nvGrpSpPr>
        <p:grpSpPr>
          <a:xfrm>
            <a:off x="380880" y="5715000"/>
            <a:ext cx="5639040" cy="685800"/>
            <a:chOff x="380880" y="5715000"/>
            <a:chExt cx="5639040" cy="685800"/>
          </a:xfrm>
        </p:grpSpPr>
        <p:sp>
          <p:nvSpPr>
            <p:cNvPr id="4247" name=""/>
            <p:cNvSpPr/>
            <p:nvPr/>
          </p:nvSpPr>
          <p:spPr>
            <a:xfrm>
              <a:off x="380880" y="5715000"/>
              <a:ext cx="0" cy="6858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380880" y="6400800"/>
              <a:ext cx="563904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 flipV="1">
              <a:off x="6019920" y="5867280"/>
              <a:ext cx="0" cy="5335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50" name=""/>
          <p:cNvSpPr/>
          <p:nvPr/>
        </p:nvSpPr>
        <p:spPr>
          <a:xfrm>
            <a:off x="4800600" y="3886200"/>
            <a:ext cx="0" cy="990720"/>
          </a:xfrm>
          <a:prstGeom prst="line">
            <a:avLst/>
          </a:prstGeom>
          <a:ln w="1260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 flipH="1">
            <a:off x="6095520" y="4876920"/>
            <a:ext cx="838440" cy="457200"/>
          </a:xfrm>
          <a:prstGeom prst="line">
            <a:avLst/>
          </a:prstGeom>
          <a:ln w="1260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52" name=""/>
          <p:cNvGraphicFramePr/>
          <p:nvPr/>
        </p:nvGraphicFramePr>
        <p:xfrm>
          <a:off x="2867040" y="5153040"/>
          <a:ext cx="5916600" cy="96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7040" y="5153040"/>
                    <a:ext cx="5916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500"/>
                                        <p:tgtEl>
                                          <p:spTgt spid="4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4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4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00"/>
                            </p:stCondLst>
                            <p:childTnLst>
                              <p:par>
                                <p:cTn id="9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6" dur="500"/>
                                        <p:tgtEl>
                                          <p:spTgt spid="4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4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500"/>
                                        <p:tgtEl>
                                          <p:spTgt spid="4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7" dur="500"/>
                                        <p:tgtEl>
                                          <p:spTgt spid="4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41" dur="500"/>
                                        <p:tgtEl>
                                          <p:spTgt spid="4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4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4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4" dur="500"/>
                                        <p:tgtEl>
                                          <p:spTgt spid="4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1500"/>
                            </p:stCondLst>
                            <p:childTnLst>
                              <p:par>
                                <p:cTn id="9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8" dur="500"/>
                                        <p:tgtEl>
                                          <p:spTgt spid="4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dfca"/>
                </a:solidFill>
                <a:latin typeface="Times New Roman"/>
              </a:rPr>
              <a:t>Kaiserov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r-HR" sz="4400" spc="-1" strike="noStrike">
                <a:solidFill>
                  <a:srgbClr val="00dfca"/>
                </a:solidFill>
                <a:latin typeface="Times New Roman"/>
              </a:rPr>
              <a:t>otvor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grpSp>
        <p:nvGrpSpPr>
          <p:cNvPr id="4255" name=""/>
          <p:cNvGrpSpPr/>
          <p:nvPr/>
        </p:nvGrpSpPr>
        <p:grpSpPr>
          <a:xfrm>
            <a:off x="-1080" y="2514600"/>
            <a:ext cx="4802760" cy="4229640"/>
            <a:chOff x="-1080" y="2514600"/>
            <a:chExt cx="4802760" cy="4229640"/>
          </a:xfrm>
        </p:grpSpPr>
        <p:grpSp>
          <p:nvGrpSpPr>
            <p:cNvPr id="4256" name=""/>
            <p:cNvGrpSpPr/>
            <p:nvPr/>
          </p:nvGrpSpPr>
          <p:grpSpPr>
            <a:xfrm>
              <a:off x="-1080" y="2514600"/>
              <a:ext cx="4585680" cy="4229640"/>
              <a:chOff x="-1080" y="2514600"/>
              <a:chExt cx="4585680" cy="4229640"/>
            </a:xfrm>
          </p:grpSpPr>
          <p:sp>
            <p:nvSpPr>
              <p:cNvPr id="4257" name=""/>
              <p:cNvSpPr/>
              <p:nvPr/>
            </p:nvSpPr>
            <p:spPr>
              <a:xfrm>
                <a:off x="0" y="2514600"/>
                <a:ext cx="449568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Uzorci otvor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 flipV="1">
                <a:off x="577800" y="3595680"/>
                <a:ext cx="0" cy="27338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 flipV="1">
                <a:off x="1155600" y="3595680"/>
                <a:ext cx="0" cy="273384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 flipV="1">
                <a:off x="1733400" y="3595680"/>
                <a:ext cx="0" cy="273384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 flipV="1">
                <a:off x="2319480" y="3595680"/>
                <a:ext cx="0" cy="27338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 flipV="1">
                <a:off x="2897280" y="3595680"/>
                <a:ext cx="0" cy="273384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 flipV="1">
                <a:off x="3475080" y="3595680"/>
                <a:ext cx="0" cy="273384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 flipV="1">
                <a:off x="4052880" y="3595680"/>
                <a:ext cx="0" cy="27338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577800" y="6329520"/>
                <a:ext cx="34750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577800" y="5784840"/>
                <a:ext cx="34750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577800" y="5238720"/>
                <a:ext cx="34750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577800" y="4686480"/>
                <a:ext cx="34750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577800" y="4140360"/>
                <a:ext cx="34750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577800" y="3595680"/>
                <a:ext cx="34750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577800" y="3595680"/>
                <a:ext cx="3476520" cy="2735280"/>
              </a:xfrm>
              <a:custGeom>
                <a:avLst/>
                <a:gdLst/>
                <a:ahLst/>
                <a:rect l="l" t="t" r="r" b="b"/>
                <a:pathLst>
                  <a:path w="2190" h="1723">
                    <a:moveTo>
                      <a:pt x="0" y="1722"/>
                    </a:moveTo>
                    <a:lnTo>
                      <a:pt x="0" y="0"/>
                    </a:lnTo>
                    <a:lnTo>
                      <a:pt x="2189" y="0"/>
                    </a:lnTo>
                  </a:path>
                </a:pathLst>
              </a:custGeom>
              <a:noFill/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577800" y="3595680"/>
                <a:ext cx="3476520" cy="2735280"/>
              </a:xfrm>
              <a:custGeom>
                <a:avLst/>
                <a:gdLst/>
                <a:ahLst/>
                <a:rect l="l" t="t" r="r" b="b"/>
                <a:pathLst>
                  <a:path w="2190" h="1723">
                    <a:moveTo>
                      <a:pt x="0" y="1722"/>
                    </a:moveTo>
                    <a:lnTo>
                      <a:pt x="0" y="0"/>
                    </a:lnTo>
                    <a:lnTo>
                      <a:pt x="2189" y="0"/>
                    </a:lnTo>
                  </a:path>
                </a:pathLst>
              </a:custGeom>
              <a:noFill/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577800" y="3595680"/>
                <a:ext cx="3476520" cy="2735280"/>
              </a:xfrm>
              <a:custGeom>
                <a:avLst/>
                <a:gdLst/>
                <a:ahLst/>
                <a:rect l="l" t="t" r="r" b="b"/>
                <a:pathLst>
                  <a:path w="2190" h="1723">
                    <a:moveTo>
                      <a:pt x="0" y="1722"/>
                    </a:moveTo>
                    <a:lnTo>
                      <a:pt x="0" y="0"/>
                    </a:lnTo>
                    <a:lnTo>
                      <a:pt x="2189" y="0"/>
                    </a:lnTo>
                  </a:path>
                </a:pathLst>
              </a:custGeom>
              <a:noFill/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577800" y="6329520"/>
                <a:ext cx="34750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577800" y="3595680"/>
                <a:ext cx="34750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 flipV="1">
                <a:off x="577800" y="3595680"/>
                <a:ext cx="0" cy="27338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 flipV="1">
                <a:off x="4052880" y="3595680"/>
                <a:ext cx="0" cy="27338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577800" y="3595680"/>
                <a:ext cx="25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4052880" y="6329520"/>
                <a:ext cx="25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577800" y="6329520"/>
                <a:ext cx="34750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 flipV="1">
                <a:off x="577800" y="3595680"/>
                <a:ext cx="0" cy="27338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577800" y="6329520"/>
                <a:ext cx="25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 flipV="1">
                <a:off x="577800" y="6297120"/>
                <a:ext cx="0" cy="320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577800" y="3595680"/>
                <a:ext cx="0" cy="316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308160" y="634680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1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 flipV="1">
                <a:off x="1155600" y="6297120"/>
                <a:ext cx="0" cy="320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1155600" y="3595680"/>
                <a:ext cx="0" cy="316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933840" y="634680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 flipV="1">
                <a:off x="1733400" y="6297120"/>
                <a:ext cx="0" cy="320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1733400" y="3595680"/>
                <a:ext cx="0" cy="316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1530720" y="6335640"/>
                <a:ext cx="412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 flipV="1">
                <a:off x="2319480" y="6297120"/>
                <a:ext cx="0" cy="320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2319480" y="3595680"/>
                <a:ext cx="0" cy="31680"/>
              </a:xfrm>
              <a:prstGeom prst="line">
                <a:avLst/>
              </a:prstGeom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2147040" y="63468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 flipV="1">
                <a:off x="2897280" y="6297120"/>
                <a:ext cx="0" cy="320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2897280" y="3595680"/>
                <a:ext cx="0" cy="316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2761560" y="63468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 flipV="1">
                <a:off x="3475080" y="6297120"/>
                <a:ext cx="0" cy="320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3475080" y="3595680"/>
                <a:ext cx="0" cy="316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3225240" y="633564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 flipV="1">
                <a:off x="4052880" y="6297120"/>
                <a:ext cx="0" cy="320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4052880" y="3595680"/>
                <a:ext cx="0" cy="316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3839400" y="633420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1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577800" y="6329520"/>
                <a:ext cx="316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 flipH="1">
                <a:off x="4021200" y="6329520"/>
                <a:ext cx="316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577800" y="6058080"/>
                <a:ext cx="316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 flipH="1">
                <a:off x="4021200" y="6058080"/>
                <a:ext cx="316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577800" y="5784840"/>
                <a:ext cx="316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 flipH="1">
                <a:off x="4021200" y="5784840"/>
                <a:ext cx="316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577800" y="5511960"/>
                <a:ext cx="316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 flipH="1">
                <a:off x="4021200" y="5511960"/>
                <a:ext cx="316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577800" y="5238720"/>
                <a:ext cx="316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 flipH="1">
                <a:off x="4021200" y="5238720"/>
                <a:ext cx="316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577800" y="4967280"/>
                <a:ext cx="316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 flipH="1">
                <a:off x="4021200" y="4967280"/>
                <a:ext cx="316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577800" y="4686480"/>
                <a:ext cx="316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 flipH="1">
                <a:off x="4021200" y="4686480"/>
                <a:ext cx="316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577800" y="4413240"/>
                <a:ext cx="316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 flipH="1">
                <a:off x="4021200" y="4413240"/>
                <a:ext cx="316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577800" y="4140360"/>
                <a:ext cx="316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 flipH="1">
                <a:off x="4021200" y="4140360"/>
                <a:ext cx="316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577800" y="3867120"/>
                <a:ext cx="316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 flipH="1">
                <a:off x="4021200" y="3867120"/>
                <a:ext cx="316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577800" y="3595680"/>
                <a:ext cx="316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 flipH="1">
                <a:off x="4021200" y="3595680"/>
                <a:ext cx="316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326" name=""/>
              <p:cNvGrpSpPr/>
              <p:nvPr/>
            </p:nvGrpSpPr>
            <p:grpSpPr>
              <a:xfrm>
                <a:off x="-1080" y="3362400"/>
                <a:ext cx="538560" cy="3132720"/>
                <a:chOff x="-1080" y="3362400"/>
                <a:chExt cx="538560" cy="3132720"/>
              </a:xfrm>
            </p:grpSpPr>
            <p:sp>
              <p:nvSpPr>
                <p:cNvPr id="4327" name=""/>
                <p:cNvSpPr/>
                <p:nvPr/>
              </p:nvSpPr>
              <p:spPr>
                <a:xfrm>
                  <a:off x="102600" y="6097680"/>
                  <a:ext cx="3268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8" name=""/>
                <p:cNvSpPr/>
                <p:nvPr/>
              </p:nvSpPr>
              <p:spPr>
                <a:xfrm>
                  <a:off x="-1080" y="5551560"/>
                  <a:ext cx="5385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0,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9" name=""/>
                <p:cNvSpPr/>
                <p:nvPr/>
              </p:nvSpPr>
              <p:spPr>
                <a:xfrm>
                  <a:off x="-1080" y="5006880"/>
                  <a:ext cx="5385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0,4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0" name=""/>
                <p:cNvSpPr/>
                <p:nvPr/>
              </p:nvSpPr>
              <p:spPr>
                <a:xfrm>
                  <a:off x="-1080" y="4452840"/>
                  <a:ext cx="5385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0,6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1" name=""/>
                <p:cNvSpPr/>
                <p:nvPr/>
              </p:nvSpPr>
              <p:spPr>
                <a:xfrm>
                  <a:off x="-1080" y="3908520"/>
                  <a:ext cx="5385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0,8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2" name=""/>
                <p:cNvSpPr/>
                <p:nvPr/>
              </p:nvSpPr>
              <p:spPr>
                <a:xfrm>
                  <a:off x="102600" y="3362400"/>
                  <a:ext cx="3268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33" name=""/>
              <p:cNvSpPr/>
              <p:nvPr/>
            </p:nvSpPr>
            <p:spPr>
              <a:xfrm>
                <a:off x="577800" y="6329520"/>
                <a:ext cx="4006800" cy="6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577800" y="3595680"/>
                <a:ext cx="34750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 flipV="1">
                <a:off x="577800" y="3595680"/>
                <a:ext cx="0" cy="27338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 flipV="1">
                <a:off x="4052880" y="3595680"/>
                <a:ext cx="0" cy="27338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577800" y="6329520"/>
                <a:ext cx="25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903240" y="5910120"/>
                <a:ext cx="39600" cy="38160"/>
              </a:xfrm>
              <a:prstGeom prst="ellipse">
                <a:avLst/>
              </a:prstGeom>
              <a:noFill/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1023840" y="5700600"/>
                <a:ext cx="38160" cy="39960"/>
              </a:xfrm>
              <a:prstGeom prst="ellipse">
                <a:avLst/>
              </a:prstGeom>
              <a:noFill/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1136520" y="5460840"/>
                <a:ext cx="38160" cy="38160"/>
              </a:xfrm>
              <a:prstGeom prst="ellipse">
                <a:avLst/>
              </a:prstGeom>
              <a:noFill/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1257480" y="5211720"/>
                <a:ext cx="37800" cy="39600"/>
              </a:xfrm>
              <a:prstGeom prst="ellipse">
                <a:avLst/>
              </a:prstGeom>
              <a:noFill/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1368360" y="4946760"/>
                <a:ext cx="39600" cy="39600"/>
              </a:xfrm>
              <a:prstGeom prst="ellipse">
                <a:avLst/>
              </a:prstGeom>
              <a:noFill/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1481040" y="4683240"/>
                <a:ext cx="39960" cy="38160"/>
              </a:xfrm>
              <a:prstGeom prst="ellipse">
                <a:avLst/>
              </a:prstGeom>
              <a:noFill/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1601640" y="4425840"/>
                <a:ext cx="38160" cy="38160"/>
              </a:xfrm>
              <a:prstGeom prst="ellipse">
                <a:avLst/>
              </a:prstGeom>
              <a:noFill/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1714680" y="4192560"/>
                <a:ext cx="37800" cy="39600"/>
              </a:xfrm>
              <a:prstGeom prst="ellipse">
                <a:avLst/>
              </a:prstGeom>
              <a:noFill/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1835280" y="3984480"/>
                <a:ext cx="37800" cy="39960"/>
              </a:xfrm>
              <a:prstGeom prst="ellipse">
                <a:avLst/>
              </a:prstGeom>
              <a:noFill/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1946160" y="3808440"/>
                <a:ext cx="39960" cy="38160"/>
              </a:xfrm>
              <a:prstGeom prst="ellipse">
                <a:avLst/>
              </a:prstGeom>
              <a:noFill/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2066760" y="3679920"/>
                <a:ext cx="39960" cy="39600"/>
              </a:xfrm>
              <a:prstGeom prst="ellipse">
                <a:avLst/>
              </a:prstGeom>
              <a:noFill/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2179800" y="3600360"/>
                <a:ext cx="37800" cy="38160"/>
              </a:xfrm>
              <a:prstGeom prst="ellipse">
                <a:avLst/>
              </a:prstGeom>
              <a:noFill/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2300400" y="3575160"/>
                <a:ext cx="38160" cy="39600"/>
              </a:xfrm>
              <a:prstGeom prst="ellipse">
                <a:avLst/>
              </a:prstGeom>
              <a:noFill/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2413080" y="3600360"/>
                <a:ext cx="38160" cy="38160"/>
              </a:xfrm>
              <a:prstGeom prst="ellipse">
                <a:avLst/>
              </a:prstGeom>
              <a:noFill/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2523960" y="3679920"/>
                <a:ext cx="39960" cy="39600"/>
              </a:xfrm>
              <a:prstGeom prst="ellipse">
                <a:avLst/>
              </a:prstGeom>
              <a:noFill/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2644920" y="3808440"/>
                <a:ext cx="39600" cy="38160"/>
              </a:xfrm>
              <a:prstGeom prst="ellipse">
                <a:avLst/>
              </a:prstGeom>
              <a:noFill/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2757600" y="3984480"/>
                <a:ext cx="38160" cy="39960"/>
              </a:xfrm>
              <a:prstGeom prst="ellipse">
                <a:avLst/>
              </a:prstGeom>
              <a:noFill/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2878200" y="4192560"/>
                <a:ext cx="38160" cy="39600"/>
              </a:xfrm>
              <a:prstGeom prst="ellipse">
                <a:avLst/>
              </a:prstGeom>
              <a:noFill/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2990880" y="4425840"/>
                <a:ext cx="38160" cy="38160"/>
              </a:xfrm>
              <a:prstGeom prst="ellipse">
                <a:avLst/>
              </a:prstGeom>
              <a:noFill/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3110040" y="4683240"/>
                <a:ext cx="39600" cy="38160"/>
              </a:xfrm>
              <a:prstGeom prst="ellipse">
                <a:avLst/>
              </a:prstGeom>
              <a:noFill/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3222720" y="4946760"/>
                <a:ext cx="39600" cy="39600"/>
              </a:xfrm>
              <a:prstGeom prst="ellipse">
                <a:avLst/>
              </a:prstGeom>
              <a:noFill/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3335400" y="5211720"/>
                <a:ext cx="38160" cy="39600"/>
              </a:xfrm>
              <a:prstGeom prst="ellipse">
                <a:avLst/>
              </a:prstGeom>
              <a:noFill/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3456000" y="5460840"/>
                <a:ext cx="38160" cy="38160"/>
              </a:xfrm>
              <a:prstGeom prst="ellipse">
                <a:avLst/>
              </a:prstGeom>
              <a:noFill/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3568680" y="5700600"/>
                <a:ext cx="38160" cy="39960"/>
              </a:xfrm>
              <a:prstGeom prst="ellipse">
                <a:avLst/>
              </a:prstGeom>
              <a:noFill/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3687840" y="5910120"/>
                <a:ext cx="39600" cy="38160"/>
              </a:xfrm>
              <a:prstGeom prst="ellipse">
                <a:avLst/>
              </a:prstGeom>
              <a:noFill/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 flipV="1">
                <a:off x="922320" y="5929200"/>
                <a:ext cx="0" cy="400320"/>
              </a:xfrm>
              <a:prstGeom prst="line">
                <a:avLst/>
              </a:prstGeom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 flipV="1">
                <a:off x="1042920" y="5721120"/>
                <a:ext cx="0" cy="608040"/>
              </a:xfrm>
              <a:prstGeom prst="line">
                <a:avLst/>
              </a:prstGeom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 flipV="1">
                <a:off x="1155600" y="5479920"/>
                <a:ext cx="0" cy="849600"/>
              </a:xfrm>
              <a:prstGeom prst="line">
                <a:avLst/>
              </a:prstGeom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 flipV="1">
                <a:off x="1276200" y="5230800"/>
                <a:ext cx="0" cy="1098720"/>
              </a:xfrm>
              <a:prstGeom prst="line">
                <a:avLst/>
              </a:prstGeom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 flipV="1">
                <a:off x="1389240" y="4967280"/>
                <a:ext cx="0" cy="1362240"/>
              </a:xfrm>
              <a:prstGeom prst="line">
                <a:avLst/>
              </a:prstGeom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 flipV="1">
                <a:off x="1500120" y="4702320"/>
                <a:ext cx="0" cy="1627200"/>
              </a:xfrm>
              <a:prstGeom prst="line">
                <a:avLst/>
              </a:prstGeom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 flipV="1">
                <a:off x="1620720" y="4444560"/>
                <a:ext cx="0" cy="1884600"/>
              </a:xfrm>
              <a:prstGeom prst="line">
                <a:avLst/>
              </a:prstGeom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 flipV="1">
                <a:off x="1733400" y="4212720"/>
                <a:ext cx="0" cy="2116440"/>
              </a:xfrm>
              <a:prstGeom prst="line">
                <a:avLst/>
              </a:prstGeom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 flipV="1">
                <a:off x="1854360" y="4003200"/>
                <a:ext cx="0" cy="2325960"/>
              </a:xfrm>
              <a:prstGeom prst="line">
                <a:avLst/>
              </a:prstGeom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 flipV="1">
                <a:off x="1967040" y="3827520"/>
                <a:ext cx="0" cy="2502000"/>
              </a:xfrm>
              <a:prstGeom prst="line">
                <a:avLst/>
              </a:prstGeom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 flipV="1">
                <a:off x="2085840" y="3698640"/>
                <a:ext cx="0" cy="2630520"/>
              </a:xfrm>
              <a:prstGeom prst="line">
                <a:avLst/>
              </a:prstGeom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 flipV="1">
                <a:off x="2198520" y="3619440"/>
                <a:ext cx="0" cy="2710080"/>
              </a:xfrm>
              <a:prstGeom prst="line">
                <a:avLst/>
              </a:prstGeom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 flipV="1">
                <a:off x="2319480" y="3595680"/>
                <a:ext cx="0" cy="2733840"/>
              </a:xfrm>
              <a:prstGeom prst="line">
                <a:avLst/>
              </a:prstGeom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 flipV="1">
                <a:off x="2432160" y="3619440"/>
                <a:ext cx="0" cy="2710080"/>
              </a:xfrm>
              <a:prstGeom prst="line">
                <a:avLst/>
              </a:prstGeom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 flipV="1">
                <a:off x="2544840" y="3698640"/>
                <a:ext cx="0" cy="2630520"/>
              </a:xfrm>
              <a:prstGeom prst="line">
                <a:avLst/>
              </a:prstGeom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 flipV="1">
                <a:off x="2664000" y="3827520"/>
                <a:ext cx="0" cy="2502000"/>
              </a:xfrm>
              <a:prstGeom prst="line">
                <a:avLst/>
              </a:prstGeom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 flipV="1">
                <a:off x="2776680" y="4003200"/>
                <a:ext cx="0" cy="2325960"/>
              </a:xfrm>
              <a:prstGeom prst="line">
                <a:avLst/>
              </a:prstGeom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 flipV="1">
                <a:off x="2897280" y="4212720"/>
                <a:ext cx="0" cy="2116440"/>
              </a:xfrm>
              <a:prstGeom prst="line">
                <a:avLst/>
              </a:prstGeom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 flipV="1">
                <a:off x="3009960" y="4444560"/>
                <a:ext cx="0" cy="1884600"/>
              </a:xfrm>
              <a:prstGeom prst="line">
                <a:avLst/>
              </a:prstGeom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 flipV="1">
                <a:off x="3130560" y="4702320"/>
                <a:ext cx="0" cy="1627200"/>
              </a:xfrm>
              <a:prstGeom prst="line">
                <a:avLst/>
              </a:prstGeom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 flipV="1">
                <a:off x="3241800" y="4967280"/>
                <a:ext cx="0" cy="1362240"/>
              </a:xfrm>
              <a:prstGeom prst="line">
                <a:avLst/>
              </a:prstGeom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 flipV="1">
                <a:off x="3354480" y="5230800"/>
                <a:ext cx="0" cy="1098720"/>
              </a:xfrm>
              <a:prstGeom prst="line">
                <a:avLst/>
              </a:prstGeom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 flipV="1">
                <a:off x="3475080" y="5479920"/>
                <a:ext cx="0" cy="849600"/>
              </a:xfrm>
              <a:prstGeom prst="line">
                <a:avLst/>
              </a:prstGeom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 flipV="1">
                <a:off x="3587760" y="5721120"/>
                <a:ext cx="0" cy="608040"/>
              </a:xfrm>
              <a:prstGeom prst="line">
                <a:avLst/>
              </a:prstGeom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 flipV="1">
                <a:off x="3708360" y="5929200"/>
                <a:ext cx="0" cy="400320"/>
              </a:xfrm>
              <a:prstGeom prst="line">
                <a:avLst/>
              </a:prstGeom>
              <a:ln w="25560">
                <a:solidFill>
                  <a:srgbClr val="f814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88" name=""/>
            <p:cNvSpPr/>
            <p:nvPr/>
          </p:nvSpPr>
          <p:spPr>
            <a:xfrm>
              <a:off x="4008600" y="5935680"/>
              <a:ext cx="793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uzorc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89" name=""/>
          <p:cNvSpPr/>
          <p:nvPr/>
        </p:nvSpPr>
        <p:spPr>
          <a:xfrm>
            <a:off x="0" y="16765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afd00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afd00"/>
                </a:solidFill>
                <a:latin typeface="Times New Roman"/>
              </a:rPr>
              <a:t>=24, Att.=40dB, </a:t>
            </a:r>
            <a:r>
              <a:rPr b="0" lang="hr-HR" sz="32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hr-HR" sz="3200" spc="-1" strike="noStrike" baseline="-25000">
                <a:solidFill>
                  <a:srgbClr val="fafd00"/>
                </a:solidFill>
                <a:latin typeface="Times New Roman"/>
              </a:rPr>
              <a:t>p</a:t>
            </a:r>
            <a:r>
              <a:rPr b="0" lang="hr-HR" sz="3200" spc="-1" strike="noStrike">
                <a:solidFill>
                  <a:srgbClr val="fafd00"/>
                </a:solidFill>
                <a:latin typeface="Times New Roman"/>
              </a:rPr>
              <a:t>=0,3</a:t>
            </a:r>
            <a:r>
              <a:rPr b="0" lang="hr-HR" sz="3200" spc="-1" strike="noStrike">
                <a:solidFill>
                  <a:srgbClr val="fafd00"/>
                </a:solidFill>
                <a:latin typeface="Symbol"/>
                <a:ea typeface="Symbol"/>
              </a:rPr>
              <a:t></a:t>
            </a:r>
            <a:r>
              <a:rPr b="0" i="1" lang="hr-HR" sz="3200" spc="-1" strike="noStrike" baseline="-25000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hr-HR" sz="3200" spc="-1" strike="noStrike">
                <a:solidFill>
                  <a:srgbClr val="fafd00"/>
                </a:solidFill>
                <a:latin typeface="Times New Roman"/>
              </a:rPr>
              <a:t>=0,5</a:t>
            </a:r>
            <a:r>
              <a:rPr b="0" lang="hr-HR" sz="3200" spc="-1" strike="noStrike">
                <a:solidFill>
                  <a:srgbClr val="fafd00"/>
                </a:solidFill>
                <a:latin typeface="Symbol"/>
                <a:ea typeface="Symbol"/>
              </a:rPr>
              <a:t></a:t>
            </a:r>
            <a:r>
              <a:rPr b="0" i="1" lang="hr-HR" sz="3200" spc="-1" strike="noStrike" baseline="-25000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hr-HR" sz="3200" spc="-1" strike="noStrike">
                <a:solidFill>
                  <a:srgbClr val="fafd00"/>
                </a:solidFill>
                <a:latin typeface="Times New Roman"/>
              </a:rPr>
              <a:t>=0,4</a:t>
            </a:r>
            <a:r>
              <a:rPr b="0" lang="hr-HR" sz="3200" spc="-1" strike="noStrike">
                <a:solidFill>
                  <a:srgbClr val="fafd00"/>
                </a:solidFill>
                <a:latin typeface="Symbol"/>
                <a:ea typeface="Symbol"/>
              </a:rPr>
              <a:t>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90" name=""/>
          <p:cNvGrpSpPr/>
          <p:nvPr/>
        </p:nvGrpSpPr>
        <p:grpSpPr>
          <a:xfrm>
            <a:off x="4646520" y="2514600"/>
            <a:ext cx="4515840" cy="4217040"/>
            <a:chOff x="4646520" y="2514600"/>
            <a:chExt cx="4515840" cy="4217040"/>
          </a:xfrm>
        </p:grpSpPr>
        <p:sp>
          <p:nvSpPr>
            <p:cNvPr id="4391" name=""/>
            <p:cNvSpPr/>
            <p:nvPr/>
          </p:nvSpPr>
          <p:spPr>
            <a:xfrm flipV="1">
              <a:off x="5437080" y="3600000"/>
              <a:ext cx="0" cy="2730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 flipV="1">
              <a:off x="6134040" y="3600000"/>
              <a:ext cx="0" cy="273060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 flipV="1">
              <a:off x="6831000" y="3600000"/>
              <a:ext cx="0" cy="273060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 flipV="1">
              <a:off x="7520040" y="3600000"/>
              <a:ext cx="0" cy="273060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 flipV="1">
              <a:off x="8217000" y="3600000"/>
              <a:ext cx="0" cy="273060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5437080" y="6330960"/>
              <a:ext cx="34689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5437080" y="5786280"/>
              <a:ext cx="34689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5437080" y="5241960"/>
              <a:ext cx="34689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5437080" y="4689360"/>
              <a:ext cx="34689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5437080" y="4145040"/>
              <a:ext cx="34689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5437080" y="3600360"/>
              <a:ext cx="34689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5437080" y="3600360"/>
              <a:ext cx="3470400" cy="2732040"/>
            </a:xfrm>
            <a:custGeom>
              <a:avLst/>
              <a:gdLst/>
              <a:ahLst/>
              <a:rect l="l" t="t" r="r" b="b"/>
              <a:pathLst>
                <a:path w="2186" h="1721">
                  <a:moveTo>
                    <a:pt x="0" y="1720"/>
                  </a:moveTo>
                  <a:lnTo>
                    <a:pt x="0" y="0"/>
                  </a:lnTo>
                  <a:lnTo>
                    <a:pt x="2185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5437080" y="3600360"/>
              <a:ext cx="3470400" cy="2732040"/>
            </a:xfrm>
            <a:custGeom>
              <a:avLst/>
              <a:gdLst/>
              <a:ahLst/>
              <a:rect l="l" t="t" r="r" b="b"/>
              <a:pathLst>
                <a:path w="2186" h="1721">
                  <a:moveTo>
                    <a:pt x="0" y="1720"/>
                  </a:moveTo>
                  <a:lnTo>
                    <a:pt x="0" y="0"/>
                  </a:lnTo>
                  <a:lnTo>
                    <a:pt x="2185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5437080" y="3600360"/>
              <a:ext cx="3470400" cy="2732040"/>
            </a:xfrm>
            <a:custGeom>
              <a:avLst/>
              <a:gdLst/>
              <a:ahLst/>
              <a:rect l="l" t="t" r="r" b="b"/>
              <a:pathLst>
                <a:path w="2186" h="1721">
                  <a:moveTo>
                    <a:pt x="0" y="1720"/>
                  </a:moveTo>
                  <a:lnTo>
                    <a:pt x="0" y="0"/>
                  </a:lnTo>
                  <a:lnTo>
                    <a:pt x="2185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5437080" y="6330960"/>
              <a:ext cx="34689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5437080" y="3600360"/>
              <a:ext cx="34689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 flipV="1">
              <a:off x="5437080" y="3600000"/>
              <a:ext cx="0" cy="2730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 flipV="1">
              <a:off x="8906040" y="3600000"/>
              <a:ext cx="0" cy="2730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5437080" y="360036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5437080" y="6330960"/>
              <a:ext cx="34689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 flipV="1">
              <a:off x="5437080" y="3600000"/>
              <a:ext cx="0" cy="2730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5437080" y="633096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 flipV="1">
              <a:off x="5437080" y="62992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5437080" y="3600360"/>
              <a:ext cx="0" cy="33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5276160" y="633420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 flipV="1">
              <a:off x="6134040" y="62992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6134040" y="3600360"/>
              <a:ext cx="0" cy="33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5763240" y="6334200"/>
              <a:ext cx="67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,2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 flipV="1">
              <a:off x="6831000" y="62992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6831000" y="3600360"/>
              <a:ext cx="0" cy="33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6505920" y="6334200"/>
              <a:ext cx="67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,4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 flipV="1">
              <a:off x="7520040" y="62992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7520040" y="3600360"/>
              <a:ext cx="0" cy="33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7206120" y="6334200"/>
              <a:ext cx="67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,6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 flipV="1">
              <a:off x="8217000" y="6299280"/>
              <a:ext cx="0" cy="31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8217000" y="3600360"/>
              <a:ext cx="0" cy="33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7879320" y="6334200"/>
              <a:ext cx="67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0,8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5437080" y="63309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 flipH="1">
              <a:off x="8872200" y="633096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5437080" y="605808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 flipH="1">
              <a:off x="8872200" y="605808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5437080" y="578628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 flipH="1">
              <a:off x="8872200" y="578628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5437080" y="551484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 flipH="1">
              <a:off x="8872200" y="551484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5437080" y="52419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 flipH="1">
              <a:off x="8872200" y="524196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5437080" y="497052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 flipH="1">
              <a:off x="8872200" y="497052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5437080" y="46893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 flipH="1">
              <a:off x="8872200" y="468936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5437080" y="441792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 flipH="1">
              <a:off x="8872200" y="441792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5437080" y="414504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 flipH="1">
              <a:off x="8872200" y="414504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5437080" y="387360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 flipH="1">
              <a:off x="8872200" y="387360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5437080" y="3600360"/>
              <a:ext cx="31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 flipH="1">
              <a:off x="8872200" y="3600360"/>
              <a:ext cx="33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50" name=""/>
            <p:cNvGrpSpPr/>
            <p:nvPr/>
          </p:nvGrpSpPr>
          <p:grpSpPr>
            <a:xfrm>
              <a:off x="4781520" y="3370320"/>
              <a:ext cx="695520" cy="3128040"/>
              <a:chOff x="4781520" y="3370320"/>
              <a:chExt cx="695520" cy="3128040"/>
            </a:xfrm>
          </p:grpSpPr>
          <p:sp>
            <p:nvSpPr>
              <p:cNvPr id="4451" name=""/>
              <p:cNvSpPr/>
              <p:nvPr/>
            </p:nvSpPr>
            <p:spPr>
              <a:xfrm>
                <a:off x="4781520" y="6100920"/>
                <a:ext cx="695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10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4853160" y="555624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8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4853160" y="501156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6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4853160" y="445932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4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4853160" y="391464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-2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4966560" y="337032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57" name=""/>
            <p:cNvSpPr/>
            <p:nvPr/>
          </p:nvSpPr>
          <p:spPr>
            <a:xfrm>
              <a:off x="5437080" y="6330960"/>
              <a:ext cx="34689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 flipV="1">
              <a:off x="5437080" y="3593880"/>
              <a:ext cx="3705480" cy="6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 flipV="1">
              <a:off x="5437080" y="3154320"/>
              <a:ext cx="5040" cy="3176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 flipV="1">
              <a:off x="8906040" y="3600000"/>
              <a:ext cx="0" cy="2730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5437080" y="6330960"/>
              <a:ext cx="2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8906040" y="3600360"/>
              <a:ext cx="25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5437080" y="3600360"/>
              <a:ext cx="3470400" cy="2716200"/>
            </a:xfrm>
            <a:custGeom>
              <a:avLst/>
              <a:gdLst/>
              <a:ahLst/>
              <a:rect l="l" t="t" r="r" b="b"/>
              <a:pathLst>
                <a:path w="2186" h="1711">
                  <a:moveTo>
                    <a:pt x="0" y="0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6" y="0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6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7" y="0"/>
                  </a:lnTo>
                  <a:lnTo>
                    <a:pt x="152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7" y="0"/>
                  </a:lnTo>
                  <a:lnTo>
                    <a:pt x="172" y="0"/>
                  </a:lnTo>
                  <a:lnTo>
                    <a:pt x="177" y="0"/>
                  </a:lnTo>
                  <a:lnTo>
                    <a:pt x="182" y="0"/>
                  </a:lnTo>
                  <a:lnTo>
                    <a:pt x="187" y="0"/>
                  </a:lnTo>
                  <a:lnTo>
                    <a:pt x="192" y="0"/>
                  </a:lnTo>
                  <a:lnTo>
                    <a:pt x="197" y="0"/>
                  </a:lnTo>
                  <a:lnTo>
                    <a:pt x="202" y="0"/>
                  </a:lnTo>
                  <a:lnTo>
                    <a:pt x="207" y="0"/>
                  </a:lnTo>
                  <a:lnTo>
                    <a:pt x="212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lnTo>
                    <a:pt x="232" y="0"/>
                  </a:lnTo>
                  <a:lnTo>
                    <a:pt x="237" y="0"/>
                  </a:lnTo>
                  <a:lnTo>
                    <a:pt x="242" y="0"/>
                  </a:lnTo>
                  <a:lnTo>
                    <a:pt x="247" y="0"/>
                  </a:lnTo>
                  <a:lnTo>
                    <a:pt x="252" y="0"/>
                  </a:lnTo>
                  <a:lnTo>
                    <a:pt x="257" y="0"/>
                  </a:lnTo>
                  <a:lnTo>
                    <a:pt x="263" y="0"/>
                  </a:lnTo>
                  <a:lnTo>
                    <a:pt x="268" y="0"/>
                  </a:lnTo>
                  <a:lnTo>
                    <a:pt x="273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88" y="0"/>
                  </a:lnTo>
                  <a:lnTo>
                    <a:pt x="293" y="0"/>
                  </a:lnTo>
                  <a:lnTo>
                    <a:pt x="298" y="0"/>
                  </a:lnTo>
                  <a:lnTo>
                    <a:pt x="303" y="0"/>
                  </a:lnTo>
                  <a:lnTo>
                    <a:pt x="308" y="0"/>
                  </a:lnTo>
                  <a:lnTo>
                    <a:pt x="313" y="0"/>
                  </a:lnTo>
                  <a:lnTo>
                    <a:pt x="318" y="0"/>
                  </a:lnTo>
                  <a:lnTo>
                    <a:pt x="323" y="0"/>
                  </a:lnTo>
                  <a:lnTo>
                    <a:pt x="328" y="0"/>
                  </a:lnTo>
                  <a:lnTo>
                    <a:pt x="333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8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4" y="0"/>
                  </a:lnTo>
                  <a:lnTo>
                    <a:pt x="379" y="0"/>
                  </a:lnTo>
                  <a:lnTo>
                    <a:pt x="384" y="0"/>
                  </a:lnTo>
                  <a:lnTo>
                    <a:pt x="389" y="0"/>
                  </a:lnTo>
                  <a:lnTo>
                    <a:pt x="394" y="0"/>
                  </a:lnTo>
                  <a:lnTo>
                    <a:pt x="399" y="0"/>
                  </a:lnTo>
                  <a:lnTo>
                    <a:pt x="404" y="0"/>
                  </a:lnTo>
                  <a:lnTo>
                    <a:pt x="409" y="0"/>
                  </a:lnTo>
                  <a:lnTo>
                    <a:pt x="414" y="0"/>
                  </a:lnTo>
                  <a:lnTo>
                    <a:pt x="419" y="0"/>
                  </a:lnTo>
                  <a:lnTo>
                    <a:pt x="424" y="0"/>
                  </a:lnTo>
                  <a:lnTo>
                    <a:pt x="429" y="0"/>
                  </a:lnTo>
                  <a:lnTo>
                    <a:pt x="434" y="0"/>
                  </a:lnTo>
                  <a:lnTo>
                    <a:pt x="439" y="0"/>
                  </a:lnTo>
                  <a:lnTo>
                    <a:pt x="444" y="0"/>
                  </a:lnTo>
                  <a:lnTo>
                    <a:pt x="449" y="0"/>
                  </a:lnTo>
                  <a:lnTo>
                    <a:pt x="454" y="0"/>
                  </a:lnTo>
                  <a:lnTo>
                    <a:pt x="459" y="0"/>
                  </a:lnTo>
                  <a:lnTo>
                    <a:pt x="464" y="0"/>
                  </a:lnTo>
                  <a:lnTo>
                    <a:pt x="469" y="0"/>
                  </a:lnTo>
                  <a:lnTo>
                    <a:pt x="474" y="0"/>
                  </a:lnTo>
                  <a:lnTo>
                    <a:pt x="479" y="0"/>
                  </a:lnTo>
                  <a:lnTo>
                    <a:pt x="485" y="0"/>
                  </a:lnTo>
                  <a:lnTo>
                    <a:pt x="490" y="0"/>
                  </a:lnTo>
                  <a:lnTo>
                    <a:pt x="495" y="0"/>
                  </a:lnTo>
                  <a:lnTo>
                    <a:pt x="500" y="0"/>
                  </a:lnTo>
                  <a:lnTo>
                    <a:pt x="505" y="0"/>
                  </a:lnTo>
                  <a:lnTo>
                    <a:pt x="510" y="0"/>
                  </a:lnTo>
                  <a:lnTo>
                    <a:pt x="515" y="0"/>
                  </a:lnTo>
                  <a:lnTo>
                    <a:pt x="520" y="0"/>
                  </a:lnTo>
                  <a:lnTo>
                    <a:pt x="525" y="0"/>
                  </a:lnTo>
                  <a:lnTo>
                    <a:pt x="530" y="0"/>
                  </a:lnTo>
                  <a:lnTo>
                    <a:pt x="535" y="0"/>
                  </a:lnTo>
                  <a:lnTo>
                    <a:pt x="540" y="0"/>
                  </a:lnTo>
                  <a:lnTo>
                    <a:pt x="545" y="0"/>
                  </a:lnTo>
                  <a:lnTo>
                    <a:pt x="550" y="0"/>
                  </a:lnTo>
                  <a:lnTo>
                    <a:pt x="555" y="0"/>
                  </a:lnTo>
                  <a:lnTo>
                    <a:pt x="560" y="0"/>
                  </a:lnTo>
                  <a:lnTo>
                    <a:pt x="565" y="0"/>
                  </a:lnTo>
                  <a:lnTo>
                    <a:pt x="570" y="0"/>
                  </a:lnTo>
                  <a:lnTo>
                    <a:pt x="575" y="0"/>
                  </a:lnTo>
                  <a:lnTo>
                    <a:pt x="580" y="0"/>
                  </a:lnTo>
                  <a:lnTo>
                    <a:pt x="585" y="0"/>
                  </a:lnTo>
                  <a:lnTo>
                    <a:pt x="590" y="0"/>
                  </a:lnTo>
                  <a:lnTo>
                    <a:pt x="595" y="0"/>
                  </a:lnTo>
                  <a:lnTo>
                    <a:pt x="601" y="0"/>
                  </a:lnTo>
                  <a:lnTo>
                    <a:pt x="606" y="0"/>
                  </a:lnTo>
                  <a:lnTo>
                    <a:pt x="611" y="0"/>
                  </a:lnTo>
                  <a:lnTo>
                    <a:pt x="616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1" y="0"/>
                  </a:lnTo>
                  <a:lnTo>
                    <a:pt x="636" y="0"/>
                  </a:lnTo>
                  <a:lnTo>
                    <a:pt x="641" y="0"/>
                  </a:lnTo>
                  <a:lnTo>
                    <a:pt x="646" y="0"/>
                  </a:lnTo>
                  <a:lnTo>
                    <a:pt x="651" y="0"/>
                  </a:lnTo>
                  <a:lnTo>
                    <a:pt x="656" y="0"/>
                  </a:lnTo>
                  <a:lnTo>
                    <a:pt x="661" y="0"/>
                  </a:lnTo>
                  <a:lnTo>
                    <a:pt x="666" y="0"/>
                  </a:lnTo>
                  <a:lnTo>
                    <a:pt x="671" y="5"/>
                  </a:lnTo>
                  <a:lnTo>
                    <a:pt x="676" y="5"/>
                  </a:lnTo>
                  <a:lnTo>
                    <a:pt x="681" y="5"/>
                  </a:lnTo>
                  <a:lnTo>
                    <a:pt x="686" y="5"/>
                  </a:lnTo>
                  <a:lnTo>
                    <a:pt x="691" y="5"/>
                  </a:lnTo>
                  <a:lnTo>
                    <a:pt x="696" y="5"/>
                  </a:lnTo>
                  <a:lnTo>
                    <a:pt x="701" y="5"/>
                  </a:lnTo>
                  <a:lnTo>
                    <a:pt x="706" y="5"/>
                  </a:lnTo>
                  <a:lnTo>
                    <a:pt x="712" y="10"/>
                  </a:lnTo>
                  <a:lnTo>
                    <a:pt x="717" y="10"/>
                  </a:lnTo>
                  <a:lnTo>
                    <a:pt x="722" y="10"/>
                  </a:lnTo>
                  <a:lnTo>
                    <a:pt x="727" y="10"/>
                  </a:lnTo>
                  <a:lnTo>
                    <a:pt x="732" y="15"/>
                  </a:lnTo>
                  <a:lnTo>
                    <a:pt x="737" y="15"/>
                  </a:lnTo>
                  <a:lnTo>
                    <a:pt x="742" y="15"/>
                  </a:lnTo>
                  <a:lnTo>
                    <a:pt x="747" y="21"/>
                  </a:lnTo>
                  <a:lnTo>
                    <a:pt x="752" y="21"/>
                  </a:lnTo>
                  <a:lnTo>
                    <a:pt x="757" y="21"/>
                  </a:lnTo>
                  <a:lnTo>
                    <a:pt x="762" y="26"/>
                  </a:lnTo>
                  <a:lnTo>
                    <a:pt x="767" y="26"/>
                  </a:lnTo>
                  <a:lnTo>
                    <a:pt x="772" y="26"/>
                  </a:lnTo>
                  <a:lnTo>
                    <a:pt x="772" y="31"/>
                  </a:lnTo>
                  <a:lnTo>
                    <a:pt x="777" y="31"/>
                  </a:lnTo>
                  <a:lnTo>
                    <a:pt x="782" y="36"/>
                  </a:lnTo>
                  <a:lnTo>
                    <a:pt x="787" y="36"/>
                  </a:lnTo>
                  <a:lnTo>
                    <a:pt x="792" y="41"/>
                  </a:lnTo>
                  <a:lnTo>
                    <a:pt x="797" y="41"/>
                  </a:lnTo>
                  <a:lnTo>
                    <a:pt x="802" y="46"/>
                  </a:lnTo>
                  <a:lnTo>
                    <a:pt x="807" y="51"/>
                  </a:lnTo>
                  <a:lnTo>
                    <a:pt x="812" y="51"/>
                  </a:lnTo>
                  <a:lnTo>
                    <a:pt x="817" y="56"/>
                  </a:lnTo>
                  <a:lnTo>
                    <a:pt x="822" y="56"/>
                  </a:lnTo>
                  <a:lnTo>
                    <a:pt x="828" y="61"/>
                  </a:lnTo>
                  <a:lnTo>
                    <a:pt x="833" y="66"/>
                  </a:lnTo>
                  <a:lnTo>
                    <a:pt x="838" y="71"/>
                  </a:lnTo>
                  <a:lnTo>
                    <a:pt x="843" y="76"/>
                  </a:lnTo>
                  <a:lnTo>
                    <a:pt x="848" y="76"/>
                  </a:lnTo>
                  <a:lnTo>
                    <a:pt x="853" y="81"/>
                  </a:lnTo>
                  <a:lnTo>
                    <a:pt x="853" y="86"/>
                  </a:lnTo>
                  <a:lnTo>
                    <a:pt x="858" y="91"/>
                  </a:lnTo>
                  <a:lnTo>
                    <a:pt x="863" y="91"/>
                  </a:lnTo>
                  <a:lnTo>
                    <a:pt x="868" y="96"/>
                  </a:lnTo>
                  <a:lnTo>
                    <a:pt x="873" y="101"/>
                  </a:lnTo>
                  <a:lnTo>
                    <a:pt x="878" y="106"/>
                  </a:lnTo>
                  <a:lnTo>
                    <a:pt x="883" y="111"/>
                  </a:lnTo>
                  <a:lnTo>
                    <a:pt x="883" y="116"/>
                  </a:lnTo>
                  <a:lnTo>
                    <a:pt x="888" y="121"/>
                  </a:lnTo>
                  <a:lnTo>
                    <a:pt x="893" y="126"/>
                  </a:lnTo>
                  <a:lnTo>
                    <a:pt x="898" y="131"/>
                  </a:lnTo>
                  <a:lnTo>
                    <a:pt x="903" y="136"/>
                  </a:lnTo>
                  <a:lnTo>
                    <a:pt x="908" y="142"/>
                  </a:lnTo>
                  <a:lnTo>
                    <a:pt x="908" y="147"/>
                  </a:lnTo>
                  <a:lnTo>
                    <a:pt x="913" y="152"/>
                  </a:lnTo>
                  <a:lnTo>
                    <a:pt x="918" y="162"/>
                  </a:lnTo>
                  <a:lnTo>
                    <a:pt x="923" y="167"/>
                  </a:lnTo>
                  <a:lnTo>
                    <a:pt x="928" y="172"/>
                  </a:lnTo>
                  <a:lnTo>
                    <a:pt x="933" y="182"/>
                  </a:lnTo>
                  <a:lnTo>
                    <a:pt x="939" y="187"/>
                  </a:lnTo>
                  <a:lnTo>
                    <a:pt x="939" y="192"/>
                  </a:lnTo>
                  <a:lnTo>
                    <a:pt x="944" y="202"/>
                  </a:lnTo>
                  <a:lnTo>
                    <a:pt x="949" y="207"/>
                  </a:lnTo>
                  <a:lnTo>
                    <a:pt x="954" y="217"/>
                  </a:lnTo>
                  <a:lnTo>
                    <a:pt x="959" y="222"/>
                  </a:lnTo>
                  <a:lnTo>
                    <a:pt x="964" y="232"/>
                  </a:lnTo>
                  <a:lnTo>
                    <a:pt x="969" y="242"/>
                  </a:lnTo>
                  <a:lnTo>
                    <a:pt x="969" y="247"/>
                  </a:lnTo>
                  <a:lnTo>
                    <a:pt x="974" y="258"/>
                  </a:lnTo>
                  <a:lnTo>
                    <a:pt x="979" y="268"/>
                  </a:lnTo>
                  <a:lnTo>
                    <a:pt x="984" y="278"/>
                  </a:lnTo>
                  <a:lnTo>
                    <a:pt x="989" y="288"/>
                  </a:lnTo>
                  <a:lnTo>
                    <a:pt x="994" y="298"/>
                  </a:lnTo>
                  <a:lnTo>
                    <a:pt x="994" y="308"/>
                  </a:lnTo>
                  <a:lnTo>
                    <a:pt x="999" y="318"/>
                  </a:lnTo>
                  <a:lnTo>
                    <a:pt x="1004" y="328"/>
                  </a:lnTo>
                  <a:lnTo>
                    <a:pt x="1009" y="343"/>
                  </a:lnTo>
                  <a:lnTo>
                    <a:pt x="1014" y="353"/>
                  </a:lnTo>
                  <a:lnTo>
                    <a:pt x="1019" y="368"/>
                  </a:lnTo>
                  <a:lnTo>
                    <a:pt x="1024" y="379"/>
                  </a:lnTo>
                  <a:lnTo>
                    <a:pt x="1024" y="394"/>
                  </a:lnTo>
                  <a:lnTo>
                    <a:pt x="1029" y="409"/>
                  </a:lnTo>
                  <a:lnTo>
                    <a:pt x="1034" y="424"/>
                  </a:lnTo>
                  <a:lnTo>
                    <a:pt x="1039" y="439"/>
                  </a:lnTo>
                  <a:lnTo>
                    <a:pt x="1044" y="459"/>
                  </a:lnTo>
                  <a:lnTo>
                    <a:pt x="1050" y="474"/>
                  </a:lnTo>
                  <a:lnTo>
                    <a:pt x="1050" y="495"/>
                  </a:lnTo>
                  <a:lnTo>
                    <a:pt x="1055" y="515"/>
                  </a:lnTo>
                  <a:lnTo>
                    <a:pt x="1060" y="535"/>
                  </a:lnTo>
                  <a:lnTo>
                    <a:pt x="1065" y="560"/>
                  </a:lnTo>
                  <a:lnTo>
                    <a:pt x="1070" y="585"/>
                  </a:lnTo>
                  <a:lnTo>
                    <a:pt x="1075" y="611"/>
                  </a:lnTo>
                  <a:lnTo>
                    <a:pt x="1080" y="646"/>
                  </a:lnTo>
                  <a:lnTo>
                    <a:pt x="1080" y="681"/>
                  </a:lnTo>
                  <a:lnTo>
                    <a:pt x="1085" y="727"/>
                  </a:lnTo>
                  <a:lnTo>
                    <a:pt x="1090" y="782"/>
                  </a:lnTo>
                  <a:lnTo>
                    <a:pt x="1095" y="863"/>
                  </a:lnTo>
                  <a:lnTo>
                    <a:pt x="1100" y="1004"/>
                  </a:lnTo>
                  <a:lnTo>
                    <a:pt x="1105" y="1125"/>
                  </a:lnTo>
                  <a:lnTo>
                    <a:pt x="1105" y="923"/>
                  </a:lnTo>
                  <a:lnTo>
                    <a:pt x="1110" y="848"/>
                  </a:lnTo>
                  <a:lnTo>
                    <a:pt x="1115" y="807"/>
                  </a:lnTo>
                  <a:lnTo>
                    <a:pt x="1120" y="777"/>
                  </a:lnTo>
                  <a:lnTo>
                    <a:pt x="1125" y="757"/>
                  </a:lnTo>
                  <a:lnTo>
                    <a:pt x="1130" y="742"/>
                  </a:lnTo>
                  <a:lnTo>
                    <a:pt x="1135" y="732"/>
                  </a:lnTo>
                  <a:lnTo>
                    <a:pt x="1135" y="727"/>
                  </a:lnTo>
                  <a:lnTo>
                    <a:pt x="1140" y="721"/>
                  </a:lnTo>
                  <a:lnTo>
                    <a:pt x="1145" y="716"/>
                  </a:lnTo>
                  <a:lnTo>
                    <a:pt x="1150" y="716"/>
                  </a:lnTo>
                  <a:lnTo>
                    <a:pt x="1155" y="721"/>
                  </a:lnTo>
                  <a:lnTo>
                    <a:pt x="1160" y="721"/>
                  </a:lnTo>
                  <a:lnTo>
                    <a:pt x="1160" y="727"/>
                  </a:lnTo>
                  <a:lnTo>
                    <a:pt x="1166" y="732"/>
                  </a:lnTo>
                  <a:lnTo>
                    <a:pt x="1171" y="742"/>
                  </a:lnTo>
                  <a:lnTo>
                    <a:pt x="1176" y="752"/>
                  </a:lnTo>
                  <a:lnTo>
                    <a:pt x="1181" y="762"/>
                  </a:lnTo>
                  <a:lnTo>
                    <a:pt x="1186" y="777"/>
                  </a:lnTo>
                  <a:lnTo>
                    <a:pt x="1191" y="792"/>
                  </a:lnTo>
                  <a:lnTo>
                    <a:pt x="1191" y="807"/>
                  </a:lnTo>
                  <a:lnTo>
                    <a:pt x="1196" y="827"/>
                  </a:lnTo>
                  <a:lnTo>
                    <a:pt x="1201" y="853"/>
                  </a:lnTo>
                  <a:lnTo>
                    <a:pt x="1206" y="883"/>
                  </a:lnTo>
                  <a:lnTo>
                    <a:pt x="1211" y="918"/>
                  </a:lnTo>
                  <a:lnTo>
                    <a:pt x="1216" y="964"/>
                  </a:lnTo>
                  <a:lnTo>
                    <a:pt x="1216" y="1029"/>
                  </a:lnTo>
                  <a:lnTo>
                    <a:pt x="1221" y="1150"/>
                  </a:lnTo>
                  <a:lnTo>
                    <a:pt x="1226" y="1402"/>
                  </a:lnTo>
                  <a:lnTo>
                    <a:pt x="1231" y="1110"/>
                  </a:lnTo>
                  <a:lnTo>
                    <a:pt x="1236" y="1019"/>
                  </a:lnTo>
                  <a:lnTo>
                    <a:pt x="1241" y="969"/>
                  </a:lnTo>
                  <a:lnTo>
                    <a:pt x="1246" y="928"/>
                  </a:lnTo>
                  <a:lnTo>
                    <a:pt x="1246" y="903"/>
                  </a:lnTo>
                  <a:lnTo>
                    <a:pt x="1251" y="883"/>
                  </a:lnTo>
                  <a:lnTo>
                    <a:pt x="1256" y="863"/>
                  </a:lnTo>
                  <a:lnTo>
                    <a:pt x="1261" y="853"/>
                  </a:lnTo>
                  <a:lnTo>
                    <a:pt x="1266" y="842"/>
                  </a:lnTo>
                  <a:lnTo>
                    <a:pt x="1271" y="832"/>
                  </a:lnTo>
                  <a:lnTo>
                    <a:pt x="1277" y="822"/>
                  </a:lnTo>
                  <a:lnTo>
                    <a:pt x="1277" y="817"/>
                  </a:lnTo>
                  <a:lnTo>
                    <a:pt x="1282" y="817"/>
                  </a:lnTo>
                  <a:lnTo>
                    <a:pt x="1287" y="812"/>
                  </a:lnTo>
                  <a:lnTo>
                    <a:pt x="1292" y="812"/>
                  </a:lnTo>
                  <a:lnTo>
                    <a:pt x="1297" y="812"/>
                  </a:lnTo>
                  <a:lnTo>
                    <a:pt x="1302" y="812"/>
                  </a:lnTo>
                  <a:lnTo>
                    <a:pt x="1302" y="817"/>
                  </a:lnTo>
                  <a:lnTo>
                    <a:pt x="1307" y="817"/>
                  </a:lnTo>
                  <a:lnTo>
                    <a:pt x="1312" y="822"/>
                  </a:lnTo>
                  <a:lnTo>
                    <a:pt x="1317" y="827"/>
                  </a:lnTo>
                  <a:lnTo>
                    <a:pt x="1322" y="837"/>
                  </a:lnTo>
                  <a:lnTo>
                    <a:pt x="1327" y="842"/>
                  </a:lnTo>
                  <a:lnTo>
                    <a:pt x="1332" y="853"/>
                  </a:lnTo>
                  <a:lnTo>
                    <a:pt x="1332" y="863"/>
                  </a:lnTo>
                  <a:lnTo>
                    <a:pt x="1337" y="878"/>
                  </a:lnTo>
                  <a:lnTo>
                    <a:pt x="1342" y="888"/>
                  </a:lnTo>
                  <a:lnTo>
                    <a:pt x="1347" y="908"/>
                  </a:lnTo>
                  <a:lnTo>
                    <a:pt x="1352" y="923"/>
                  </a:lnTo>
                  <a:lnTo>
                    <a:pt x="1357" y="948"/>
                  </a:lnTo>
                  <a:lnTo>
                    <a:pt x="1357" y="974"/>
                  </a:lnTo>
                  <a:lnTo>
                    <a:pt x="1362" y="1009"/>
                  </a:lnTo>
                  <a:lnTo>
                    <a:pt x="1367" y="1049"/>
                  </a:lnTo>
                  <a:lnTo>
                    <a:pt x="1372" y="1110"/>
                  </a:lnTo>
                  <a:lnTo>
                    <a:pt x="1377" y="1206"/>
                  </a:lnTo>
                  <a:lnTo>
                    <a:pt x="1382" y="1538"/>
                  </a:lnTo>
                  <a:lnTo>
                    <a:pt x="1387" y="1246"/>
                  </a:lnTo>
                  <a:lnTo>
                    <a:pt x="1387" y="1135"/>
                  </a:lnTo>
                  <a:lnTo>
                    <a:pt x="1393" y="1074"/>
                  </a:lnTo>
                  <a:lnTo>
                    <a:pt x="1398" y="1034"/>
                  </a:lnTo>
                  <a:lnTo>
                    <a:pt x="1403" y="1004"/>
                  </a:lnTo>
                  <a:lnTo>
                    <a:pt x="1408" y="979"/>
                  </a:lnTo>
                  <a:lnTo>
                    <a:pt x="1413" y="958"/>
                  </a:lnTo>
                  <a:lnTo>
                    <a:pt x="1413" y="943"/>
                  </a:lnTo>
                  <a:lnTo>
                    <a:pt x="1418" y="928"/>
                  </a:lnTo>
                  <a:lnTo>
                    <a:pt x="1423" y="918"/>
                  </a:lnTo>
                  <a:lnTo>
                    <a:pt x="1428" y="908"/>
                  </a:lnTo>
                  <a:lnTo>
                    <a:pt x="1433" y="903"/>
                  </a:lnTo>
                  <a:lnTo>
                    <a:pt x="1438" y="898"/>
                  </a:lnTo>
                  <a:lnTo>
                    <a:pt x="1443" y="893"/>
                  </a:lnTo>
                  <a:lnTo>
                    <a:pt x="1443" y="888"/>
                  </a:lnTo>
                  <a:lnTo>
                    <a:pt x="1448" y="888"/>
                  </a:lnTo>
                  <a:lnTo>
                    <a:pt x="1453" y="883"/>
                  </a:lnTo>
                  <a:lnTo>
                    <a:pt x="1458" y="883"/>
                  </a:lnTo>
                  <a:lnTo>
                    <a:pt x="1463" y="888"/>
                  </a:lnTo>
                  <a:lnTo>
                    <a:pt x="1468" y="888"/>
                  </a:lnTo>
                  <a:lnTo>
                    <a:pt x="1473" y="893"/>
                  </a:lnTo>
                  <a:lnTo>
                    <a:pt x="1478" y="898"/>
                  </a:lnTo>
                  <a:lnTo>
                    <a:pt x="1483" y="903"/>
                  </a:lnTo>
                  <a:lnTo>
                    <a:pt x="1488" y="913"/>
                  </a:lnTo>
                  <a:lnTo>
                    <a:pt x="1493" y="918"/>
                  </a:lnTo>
                  <a:lnTo>
                    <a:pt x="1498" y="928"/>
                  </a:lnTo>
                  <a:lnTo>
                    <a:pt x="1498" y="938"/>
                  </a:lnTo>
                  <a:lnTo>
                    <a:pt x="1504" y="953"/>
                  </a:lnTo>
                  <a:lnTo>
                    <a:pt x="1509" y="964"/>
                  </a:lnTo>
                  <a:lnTo>
                    <a:pt x="1514" y="984"/>
                  </a:lnTo>
                  <a:lnTo>
                    <a:pt x="1519" y="999"/>
                  </a:lnTo>
                  <a:lnTo>
                    <a:pt x="1524" y="1024"/>
                  </a:lnTo>
                  <a:lnTo>
                    <a:pt x="1529" y="1049"/>
                  </a:lnTo>
                  <a:lnTo>
                    <a:pt x="1529" y="1080"/>
                  </a:lnTo>
                  <a:lnTo>
                    <a:pt x="1534" y="1125"/>
                  </a:lnTo>
                  <a:lnTo>
                    <a:pt x="1539" y="1180"/>
                  </a:lnTo>
                  <a:lnTo>
                    <a:pt x="1544" y="1276"/>
                  </a:lnTo>
                  <a:lnTo>
                    <a:pt x="1549" y="1589"/>
                  </a:lnTo>
                  <a:lnTo>
                    <a:pt x="1554" y="1322"/>
                  </a:lnTo>
                  <a:lnTo>
                    <a:pt x="1554" y="1211"/>
                  </a:lnTo>
                  <a:lnTo>
                    <a:pt x="1559" y="1145"/>
                  </a:lnTo>
                  <a:lnTo>
                    <a:pt x="1564" y="1105"/>
                  </a:lnTo>
                  <a:lnTo>
                    <a:pt x="1569" y="1074"/>
                  </a:lnTo>
                  <a:lnTo>
                    <a:pt x="1574" y="1049"/>
                  </a:lnTo>
                  <a:lnTo>
                    <a:pt x="1579" y="1029"/>
                  </a:lnTo>
                  <a:lnTo>
                    <a:pt x="1584" y="1009"/>
                  </a:lnTo>
                  <a:lnTo>
                    <a:pt x="1584" y="999"/>
                  </a:lnTo>
                  <a:lnTo>
                    <a:pt x="1589" y="984"/>
                  </a:lnTo>
                  <a:lnTo>
                    <a:pt x="1594" y="979"/>
                  </a:lnTo>
                  <a:lnTo>
                    <a:pt x="1599" y="969"/>
                  </a:lnTo>
                  <a:lnTo>
                    <a:pt x="1604" y="964"/>
                  </a:lnTo>
                  <a:lnTo>
                    <a:pt x="1609" y="958"/>
                  </a:lnTo>
                  <a:lnTo>
                    <a:pt x="1609" y="953"/>
                  </a:lnTo>
                  <a:lnTo>
                    <a:pt x="1615" y="948"/>
                  </a:lnTo>
                  <a:lnTo>
                    <a:pt x="1620" y="948"/>
                  </a:lnTo>
                  <a:lnTo>
                    <a:pt x="1625" y="948"/>
                  </a:lnTo>
                  <a:lnTo>
                    <a:pt x="1630" y="943"/>
                  </a:lnTo>
                  <a:lnTo>
                    <a:pt x="1635" y="948"/>
                  </a:lnTo>
                  <a:lnTo>
                    <a:pt x="1640" y="948"/>
                  </a:lnTo>
                  <a:lnTo>
                    <a:pt x="1645" y="953"/>
                  </a:lnTo>
                  <a:lnTo>
                    <a:pt x="1650" y="958"/>
                  </a:lnTo>
                  <a:lnTo>
                    <a:pt x="1655" y="964"/>
                  </a:lnTo>
                  <a:lnTo>
                    <a:pt x="1660" y="969"/>
                  </a:lnTo>
                  <a:lnTo>
                    <a:pt x="1665" y="979"/>
                  </a:lnTo>
                  <a:lnTo>
                    <a:pt x="1665" y="984"/>
                  </a:lnTo>
                  <a:lnTo>
                    <a:pt x="1670" y="994"/>
                  </a:lnTo>
                  <a:lnTo>
                    <a:pt x="1675" y="1004"/>
                  </a:lnTo>
                  <a:lnTo>
                    <a:pt x="1680" y="1019"/>
                  </a:lnTo>
                  <a:lnTo>
                    <a:pt x="1685" y="1034"/>
                  </a:lnTo>
                  <a:lnTo>
                    <a:pt x="1690" y="1049"/>
                  </a:lnTo>
                  <a:lnTo>
                    <a:pt x="1695" y="1069"/>
                  </a:lnTo>
                  <a:lnTo>
                    <a:pt x="1695" y="1095"/>
                  </a:lnTo>
                  <a:lnTo>
                    <a:pt x="1700" y="1120"/>
                  </a:lnTo>
                  <a:lnTo>
                    <a:pt x="1705" y="1155"/>
                  </a:lnTo>
                  <a:lnTo>
                    <a:pt x="1710" y="1201"/>
                  </a:lnTo>
                  <a:lnTo>
                    <a:pt x="1715" y="1266"/>
                  </a:lnTo>
                  <a:lnTo>
                    <a:pt x="1720" y="1387"/>
                  </a:lnTo>
                  <a:lnTo>
                    <a:pt x="1720" y="1624"/>
                  </a:lnTo>
                  <a:lnTo>
                    <a:pt x="1725" y="1337"/>
                  </a:lnTo>
                  <a:lnTo>
                    <a:pt x="1731" y="1246"/>
                  </a:lnTo>
                  <a:lnTo>
                    <a:pt x="1736" y="1190"/>
                  </a:lnTo>
                  <a:lnTo>
                    <a:pt x="1741" y="1155"/>
                  </a:lnTo>
                  <a:lnTo>
                    <a:pt x="1746" y="1125"/>
                  </a:lnTo>
                  <a:lnTo>
                    <a:pt x="1751" y="1100"/>
                  </a:lnTo>
                  <a:lnTo>
                    <a:pt x="1751" y="1080"/>
                  </a:lnTo>
                  <a:lnTo>
                    <a:pt x="1756" y="1064"/>
                  </a:lnTo>
                  <a:lnTo>
                    <a:pt x="1761" y="1054"/>
                  </a:lnTo>
                  <a:lnTo>
                    <a:pt x="1766" y="1039"/>
                  </a:lnTo>
                  <a:lnTo>
                    <a:pt x="1771" y="1034"/>
                  </a:lnTo>
                  <a:lnTo>
                    <a:pt x="1776" y="1024"/>
                  </a:lnTo>
                  <a:lnTo>
                    <a:pt x="1781" y="1019"/>
                  </a:lnTo>
                  <a:lnTo>
                    <a:pt x="1781" y="1009"/>
                  </a:lnTo>
                  <a:lnTo>
                    <a:pt x="1786" y="1009"/>
                  </a:lnTo>
                  <a:lnTo>
                    <a:pt x="1791" y="1004"/>
                  </a:lnTo>
                  <a:lnTo>
                    <a:pt x="1796" y="999"/>
                  </a:lnTo>
                  <a:lnTo>
                    <a:pt x="1801" y="999"/>
                  </a:lnTo>
                  <a:lnTo>
                    <a:pt x="1806" y="999"/>
                  </a:lnTo>
                  <a:lnTo>
                    <a:pt x="1811" y="999"/>
                  </a:lnTo>
                  <a:lnTo>
                    <a:pt x="1816" y="1004"/>
                  </a:lnTo>
                  <a:lnTo>
                    <a:pt x="1821" y="1004"/>
                  </a:lnTo>
                  <a:lnTo>
                    <a:pt x="1826" y="1009"/>
                  </a:lnTo>
                  <a:lnTo>
                    <a:pt x="1831" y="1014"/>
                  </a:lnTo>
                  <a:lnTo>
                    <a:pt x="1836" y="1019"/>
                  </a:lnTo>
                  <a:lnTo>
                    <a:pt x="1836" y="1024"/>
                  </a:lnTo>
                  <a:lnTo>
                    <a:pt x="1842" y="1029"/>
                  </a:lnTo>
                  <a:lnTo>
                    <a:pt x="1847" y="1039"/>
                  </a:lnTo>
                  <a:lnTo>
                    <a:pt x="1852" y="1049"/>
                  </a:lnTo>
                  <a:lnTo>
                    <a:pt x="1857" y="1059"/>
                  </a:lnTo>
                  <a:lnTo>
                    <a:pt x="1862" y="1069"/>
                  </a:lnTo>
                  <a:lnTo>
                    <a:pt x="1862" y="1085"/>
                  </a:lnTo>
                  <a:lnTo>
                    <a:pt x="1867" y="1100"/>
                  </a:lnTo>
                  <a:lnTo>
                    <a:pt x="1872" y="1120"/>
                  </a:lnTo>
                  <a:lnTo>
                    <a:pt x="1877" y="1140"/>
                  </a:lnTo>
                  <a:lnTo>
                    <a:pt x="1882" y="1165"/>
                  </a:lnTo>
                  <a:lnTo>
                    <a:pt x="1887" y="1201"/>
                  </a:lnTo>
                  <a:lnTo>
                    <a:pt x="1892" y="1241"/>
                  </a:lnTo>
                  <a:lnTo>
                    <a:pt x="1892" y="1301"/>
                  </a:lnTo>
                  <a:lnTo>
                    <a:pt x="1897" y="1392"/>
                  </a:lnTo>
                  <a:lnTo>
                    <a:pt x="1902" y="1710"/>
                  </a:lnTo>
                  <a:lnTo>
                    <a:pt x="1907" y="1438"/>
                  </a:lnTo>
                  <a:lnTo>
                    <a:pt x="1912" y="1322"/>
                  </a:lnTo>
                  <a:lnTo>
                    <a:pt x="1917" y="1261"/>
                  </a:lnTo>
                  <a:lnTo>
                    <a:pt x="1917" y="1221"/>
                  </a:lnTo>
                  <a:lnTo>
                    <a:pt x="1922" y="1185"/>
                  </a:lnTo>
                  <a:lnTo>
                    <a:pt x="1927" y="1160"/>
                  </a:lnTo>
                  <a:lnTo>
                    <a:pt x="1932" y="1140"/>
                  </a:lnTo>
                  <a:lnTo>
                    <a:pt x="1937" y="1125"/>
                  </a:lnTo>
                  <a:lnTo>
                    <a:pt x="1942" y="1110"/>
                  </a:lnTo>
                  <a:lnTo>
                    <a:pt x="1947" y="1095"/>
                  </a:lnTo>
                  <a:lnTo>
                    <a:pt x="1947" y="1085"/>
                  </a:lnTo>
                  <a:lnTo>
                    <a:pt x="1952" y="1074"/>
                  </a:lnTo>
                  <a:lnTo>
                    <a:pt x="1958" y="1069"/>
                  </a:lnTo>
                  <a:lnTo>
                    <a:pt x="1963" y="1059"/>
                  </a:lnTo>
                  <a:lnTo>
                    <a:pt x="1968" y="1054"/>
                  </a:lnTo>
                  <a:lnTo>
                    <a:pt x="1973" y="1049"/>
                  </a:lnTo>
                  <a:lnTo>
                    <a:pt x="1978" y="1044"/>
                  </a:lnTo>
                  <a:lnTo>
                    <a:pt x="1983" y="1044"/>
                  </a:lnTo>
                  <a:lnTo>
                    <a:pt x="1988" y="1044"/>
                  </a:lnTo>
                  <a:lnTo>
                    <a:pt x="1993" y="1039"/>
                  </a:lnTo>
                  <a:lnTo>
                    <a:pt x="1998" y="1044"/>
                  </a:lnTo>
                  <a:lnTo>
                    <a:pt x="2003" y="1044"/>
                  </a:lnTo>
                  <a:lnTo>
                    <a:pt x="2008" y="1049"/>
                  </a:lnTo>
                  <a:lnTo>
                    <a:pt x="2013" y="1049"/>
                  </a:lnTo>
                  <a:lnTo>
                    <a:pt x="2018" y="1054"/>
                  </a:lnTo>
                  <a:lnTo>
                    <a:pt x="2023" y="1059"/>
                  </a:lnTo>
                  <a:lnTo>
                    <a:pt x="2028" y="1064"/>
                  </a:lnTo>
                  <a:lnTo>
                    <a:pt x="2028" y="1074"/>
                  </a:lnTo>
                  <a:lnTo>
                    <a:pt x="2033" y="1080"/>
                  </a:lnTo>
                  <a:lnTo>
                    <a:pt x="2038" y="1090"/>
                  </a:lnTo>
                  <a:lnTo>
                    <a:pt x="2043" y="1100"/>
                  </a:lnTo>
                  <a:lnTo>
                    <a:pt x="2048" y="1110"/>
                  </a:lnTo>
                  <a:lnTo>
                    <a:pt x="2053" y="1125"/>
                  </a:lnTo>
                  <a:lnTo>
                    <a:pt x="2058" y="1140"/>
                  </a:lnTo>
                  <a:lnTo>
                    <a:pt x="2058" y="1160"/>
                  </a:lnTo>
                  <a:lnTo>
                    <a:pt x="2063" y="1180"/>
                  </a:lnTo>
                  <a:lnTo>
                    <a:pt x="2069" y="1206"/>
                  </a:lnTo>
                  <a:lnTo>
                    <a:pt x="2074" y="1236"/>
                  </a:lnTo>
                  <a:lnTo>
                    <a:pt x="2079" y="1271"/>
                  </a:lnTo>
                  <a:lnTo>
                    <a:pt x="2084" y="1327"/>
                  </a:lnTo>
                  <a:lnTo>
                    <a:pt x="2089" y="1407"/>
                  </a:lnTo>
                  <a:lnTo>
                    <a:pt x="2089" y="1614"/>
                  </a:lnTo>
                  <a:lnTo>
                    <a:pt x="2094" y="1513"/>
                  </a:lnTo>
                  <a:lnTo>
                    <a:pt x="2099" y="1377"/>
                  </a:lnTo>
                  <a:lnTo>
                    <a:pt x="2104" y="1311"/>
                  </a:lnTo>
                  <a:lnTo>
                    <a:pt x="2109" y="1261"/>
                  </a:lnTo>
                  <a:lnTo>
                    <a:pt x="2114" y="1226"/>
                  </a:lnTo>
                  <a:lnTo>
                    <a:pt x="2114" y="1201"/>
                  </a:lnTo>
                  <a:lnTo>
                    <a:pt x="2119" y="1180"/>
                  </a:lnTo>
                  <a:lnTo>
                    <a:pt x="2124" y="1160"/>
                  </a:lnTo>
                  <a:lnTo>
                    <a:pt x="2129" y="1145"/>
                  </a:lnTo>
                  <a:lnTo>
                    <a:pt x="2134" y="1130"/>
                  </a:lnTo>
                  <a:lnTo>
                    <a:pt x="2139" y="1120"/>
                  </a:lnTo>
                  <a:lnTo>
                    <a:pt x="2144" y="1110"/>
                  </a:lnTo>
                  <a:lnTo>
                    <a:pt x="2144" y="1100"/>
                  </a:lnTo>
                  <a:lnTo>
                    <a:pt x="2149" y="1090"/>
                  </a:lnTo>
                  <a:lnTo>
                    <a:pt x="2154" y="1085"/>
                  </a:lnTo>
                  <a:lnTo>
                    <a:pt x="2159" y="1080"/>
                  </a:lnTo>
                  <a:lnTo>
                    <a:pt x="2164" y="1074"/>
                  </a:lnTo>
                  <a:lnTo>
                    <a:pt x="2169" y="1069"/>
                  </a:lnTo>
                  <a:lnTo>
                    <a:pt x="2169" y="1064"/>
                  </a:lnTo>
                  <a:lnTo>
                    <a:pt x="2174" y="1064"/>
                  </a:lnTo>
                  <a:lnTo>
                    <a:pt x="2180" y="1059"/>
                  </a:lnTo>
                  <a:lnTo>
                    <a:pt x="2185" y="1059"/>
                  </a:lnTo>
                </a:path>
              </a:pathLst>
            </a:custGeom>
            <a:noFill/>
            <a:ln cap="rnd" w="25560">
              <a:solidFill>
                <a:srgbClr val="f81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5437080" y="4689360"/>
              <a:ext cx="3468960" cy="0"/>
            </a:xfrm>
            <a:prstGeom prst="line">
              <a:avLst/>
            </a:prstGeom>
            <a:ln w="25560">
              <a:solidFill>
                <a:srgbClr val="abff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7466760" y="4335480"/>
              <a:ext cx="779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bfff7"/>
                  </a:solidFill>
                  <a:latin typeface="Arial"/>
                </a:rPr>
                <a:t>40d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4646520" y="2514600"/>
              <a:ext cx="4496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ff"/>
                  </a:solidFill>
                  <a:latin typeface="Times New Roman"/>
                </a:rPr>
                <a:t>Amp.frek. karakteristik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8802000" y="3178080"/>
              <a:ext cx="36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5455440" y="3083040"/>
              <a:ext cx="1809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afd00"/>
                  </a:solidFill>
                  <a:latin typeface="Arial"/>
                </a:rPr>
                <a:t>amplituda [dB]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8765640" y="6321600"/>
              <a:ext cx="325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5" dur="500"/>
                                        <p:tgtEl>
                                          <p:spTgt spid="4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4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FIR sustav za M=2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gledajmo o kojem se sustavu rad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5800" y="2514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zmimo </a:t>
            </a: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M=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468360" y="3357720"/>
          <a:ext cx="3817800" cy="10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357720"/>
                    <a:ext cx="381780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"/>
          <p:cNvGraphicFramePr/>
          <p:nvPr/>
        </p:nvGraphicFramePr>
        <p:xfrm>
          <a:off x="4284720" y="3357720"/>
          <a:ext cx="221292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357720"/>
                    <a:ext cx="221292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6562800" y="3794040"/>
                <a:ext cx="239760" cy="1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17" name=""/>
          <p:cNvGraphicFramePr/>
          <p:nvPr/>
        </p:nvGraphicFramePr>
        <p:xfrm>
          <a:off x="1042920" y="5013360"/>
          <a:ext cx="2667240" cy="100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5013360"/>
                    <a:ext cx="26672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3780000" y="5013360"/>
          <a:ext cx="2357280" cy="97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80000" y="5013360"/>
                    <a:ext cx="23572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FIR sustav za M=2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539640" y="2031840"/>
          <a:ext cx="3390840" cy="9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031840"/>
                    <a:ext cx="3390840" cy="9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3995640" y="1978200"/>
          <a:ext cx="186696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1978200"/>
                    <a:ext cx="186696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1314360" y="3468600"/>
          <a:ext cx="3113280" cy="89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14360" y="3468600"/>
                    <a:ext cx="311328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4500720" y="3479760"/>
          <a:ext cx="2644560" cy="885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0720" y="3479760"/>
                    <a:ext cx="264456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1360440" y="4581360"/>
          <a:ext cx="2706840" cy="84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60440" y="4581360"/>
                    <a:ext cx="270684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2" name=""/>
          <p:cNvGrpSpPr/>
          <p:nvPr/>
        </p:nvGrpSpPr>
        <p:grpSpPr>
          <a:xfrm>
            <a:off x="1600200" y="5486400"/>
            <a:ext cx="1676520" cy="865080"/>
            <a:chOff x="1600200" y="5486400"/>
            <a:chExt cx="1676520" cy="865080"/>
          </a:xfrm>
        </p:grpSpPr>
        <p:grpSp>
          <p:nvGrpSpPr>
            <p:cNvPr id="633" name=""/>
            <p:cNvGrpSpPr/>
            <p:nvPr/>
          </p:nvGrpSpPr>
          <p:grpSpPr>
            <a:xfrm>
              <a:off x="1600200" y="5486400"/>
              <a:ext cx="1676520" cy="152280"/>
              <a:chOff x="1600200" y="5486400"/>
              <a:chExt cx="1676520" cy="152280"/>
            </a:xfrm>
          </p:grpSpPr>
          <p:sp>
            <p:nvSpPr>
              <p:cNvPr id="634" name=""/>
              <p:cNvSpPr/>
              <p:nvPr/>
            </p:nvSpPr>
            <p:spPr>
              <a:xfrm>
                <a:off x="1600200" y="5486400"/>
                <a:ext cx="0" cy="152280"/>
              </a:xfrm>
              <a:prstGeom prst="line">
                <a:avLst/>
              </a:prstGeom>
              <a:ln w="507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600200" y="5638680"/>
                <a:ext cx="1676520" cy="0"/>
              </a:xfrm>
              <a:prstGeom prst="line">
                <a:avLst/>
              </a:prstGeom>
              <a:ln w="507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276720" y="5486400"/>
                <a:ext cx="0" cy="152280"/>
              </a:xfrm>
              <a:prstGeom prst="line">
                <a:avLst/>
              </a:prstGeom>
              <a:ln w="507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37" name=""/>
                <p:cNvSpPr txBox="1"/>
                <p:nvPr/>
              </p:nvSpPr>
              <p:spPr>
                <a:xfrm>
                  <a:off x="1852560" y="5867280"/>
                  <a:ext cx="104796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w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FIR sustav za M=2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to pomoću Z-transforma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1496880" y="2616120"/>
                <a:ext cx="33148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1" name=""/>
          <p:cNvGrpSpPr/>
          <p:nvPr/>
        </p:nvGrpSpPr>
        <p:grpSpPr>
          <a:xfrm>
            <a:off x="2590920" y="3505320"/>
            <a:ext cx="1371600" cy="736560"/>
            <a:chOff x="2590920" y="3505320"/>
            <a:chExt cx="1371600" cy="736560"/>
          </a:xfrm>
        </p:grpSpPr>
        <p:grpSp>
          <p:nvGrpSpPr>
            <p:cNvPr id="642" name=""/>
            <p:cNvGrpSpPr/>
            <p:nvPr/>
          </p:nvGrpSpPr>
          <p:grpSpPr>
            <a:xfrm>
              <a:off x="2590920" y="3505320"/>
              <a:ext cx="1371600" cy="152280"/>
              <a:chOff x="2590920" y="3505320"/>
              <a:chExt cx="1371600" cy="152280"/>
            </a:xfrm>
          </p:grpSpPr>
          <p:sp>
            <p:nvSpPr>
              <p:cNvPr id="643" name=""/>
              <p:cNvSpPr/>
              <p:nvPr/>
            </p:nvSpPr>
            <p:spPr>
              <a:xfrm>
                <a:off x="2590920" y="3505320"/>
                <a:ext cx="0" cy="152280"/>
              </a:xfrm>
              <a:prstGeom prst="line">
                <a:avLst/>
              </a:prstGeom>
              <a:ln w="507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590920" y="3657600"/>
                <a:ext cx="1371600" cy="0"/>
              </a:xfrm>
              <a:prstGeom prst="line">
                <a:avLst/>
              </a:prstGeom>
              <a:ln w="507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962520" y="3505320"/>
                <a:ext cx="0" cy="152280"/>
              </a:xfrm>
              <a:prstGeom prst="line">
                <a:avLst/>
              </a:prstGeom>
              <a:ln w="507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46" name=""/>
                <p:cNvSpPr txBox="1"/>
                <p:nvPr/>
              </p:nvSpPr>
              <p:spPr>
                <a:xfrm>
                  <a:off x="2846520" y="3852720"/>
                  <a:ext cx="725400" cy="3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7" name=""/>
          <p:cNvSpPr/>
          <p:nvPr/>
        </p:nvSpPr>
        <p:spPr>
          <a:xfrm>
            <a:off x="3892680" y="3968640"/>
            <a:ext cx="596880" cy="216000"/>
          </a:xfrm>
          <a:prstGeom prst="rightArrow">
            <a:avLst>
              <a:gd name="adj1" fmla="val 50000"/>
              <a:gd name="adj2" fmla="val 138179"/>
            </a:avLst>
          </a:prstGeom>
          <a:solidFill>
            <a:srgbClr val="00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4703760" y="3882960"/>
                <a:ext cx="9651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w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>
            <a:off x="5873760" y="3968640"/>
            <a:ext cx="596880" cy="216000"/>
          </a:xfrm>
          <a:prstGeom prst="rightArrow">
            <a:avLst>
              <a:gd name="adj1" fmla="val 50000"/>
              <a:gd name="adj2" fmla="val 138179"/>
            </a:avLst>
          </a:prstGeom>
          <a:solidFill>
            <a:srgbClr val="00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6653160" y="3809880"/>
                <a:ext cx="10479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w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0066"/>
            </a:gs>
            <a:gs pos="50000">
              <a:srgbClr val="500093"/>
            </a:gs>
            <a:gs pos="100000">
              <a:srgbClr val="37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dfca"/>
                </a:solidFill>
                <a:latin typeface="Times New Roman"/>
              </a:rPr>
              <a:t>FIR sustav za M=2 ...</a:t>
            </a:r>
            <a:endParaRPr b="0" i="1" lang="en-US" sz="4400" spc="-1" strike="noStrike">
              <a:solidFill>
                <a:srgbClr val="00dfc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447840" y="1932120"/>
                <a:ext cx="32493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w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w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544760" y="2819520"/>
                <a:ext cx="42256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1560600" y="3809880"/>
                <a:ext cx="342108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5" name=""/>
          <p:cNvGrpSpPr/>
          <p:nvPr/>
        </p:nvGrpSpPr>
        <p:grpSpPr>
          <a:xfrm>
            <a:off x="2590920" y="4724280"/>
            <a:ext cx="2133360" cy="1144800"/>
            <a:chOff x="2590920" y="4724280"/>
            <a:chExt cx="2133360" cy="1144800"/>
          </a:xfrm>
        </p:grpSpPr>
        <mc:AlternateContent>
          <mc:Choice xmlns:a14="http://schemas.microsoft.com/office/drawing/2010/main" Requires="a14">
            <p:sp>
              <p:nvSpPr>
                <p:cNvPr id="656" name=""/>
                <p:cNvSpPr txBox="1"/>
                <p:nvPr/>
              </p:nvSpPr>
              <p:spPr>
                <a:xfrm>
                  <a:off x="3036960" y="5111640"/>
                  <a:ext cx="1096920" cy="75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w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657" name=""/>
            <p:cNvGrpSpPr/>
            <p:nvPr/>
          </p:nvGrpSpPr>
          <p:grpSpPr>
            <a:xfrm>
              <a:off x="2590920" y="4724280"/>
              <a:ext cx="2133360" cy="228600"/>
              <a:chOff x="2590920" y="4724280"/>
              <a:chExt cx="2133360" cy="228600"/>
            </a:xfrm>
          </p:grpSpPr>
          <p:sp>
            <p:nvSpPr>
              <p:cNvPr id="658" name=""/>
              <p:cNvSpPr/>
              <p:nvPr/>
            </p:nvSpPr>
            <p:spPr>
              <a:xfrm>
                <a:off x="2590920" y="4724280"/>
                <a:ext cx="0" cy="228600"/>
              </a:xfrm>
              <a:prstGeom prst="line">
                <a:avLst/>
              </a:prstGeom>
              <a:ln w="507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590920" y="4952880"/>
                <a:ext cx="2133360" cy="0"/>
              </a:xfrm>
              <a:prstGeom prst="line">
                <a:avLst/>
              </a:prstGeom>
              <a:ln w="507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724280" y="4724280"/>
                <a:ext cx="0" cy="228600"/>
              </a:xfrm>
              <a:prstGeom prst="line">
                <a:avLst/>
              </a:prstGeom>
              <a:ln w="507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5148360" y="3774960"/>
                <a:ext cx="187488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62" name=""/>
          <p:cNvGrpSpPr/>
          <p:nvPr/>
        </p:nvGrpSpPr>
        <p:grpSpPr>
          <a:xfrm>
            <a:off x="5181480" y="4724280"/>
            <a:ext cx="1067040" cy="1175040"/>
            <a:chOff x="5181480" y="4724280"/>
            <a:chExt cx="1067040" cy="1175040"/>
          </a:xfrm>
        </p:grpSpPr>
        <p:sp>
          <p:nvSpPr>
            <p:cNvPr id="663" name=""/>
            <p:cNvSpPr/>
            <p:nvPr/>
          </p:nvSpPr>
          <p:spPr>
            <a:xfrm>
              <a:off x="5607000" y="5302080"/>
              <a:ext cx="216000" cy="597240"/>
            </a:xfrm>
            <a:prstGeom prst="downArrow">
              <a:avLst>
                <a:gd name="adj1" fmla="val 50000"/>
                <a:gd name="adj2" fmla="val 138263"/>
              </a:avLst>
            </a:prstGeom>
            <a:solidFill>
              <a:srgbClr val="00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81480" y="4724280"/>
              <a:ext cx="0" cy="228600"/>
            </a:xfrm>
            <a:prstGeom prst="line">
              <a:avLst/>
            </a:prstGeom>
            <a:ln w="50760">
              <a:solidFill>
                <a:srgbClr val="00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81480" y="4952880"/>
              <a:ext cx="1067040" cy="0"/>
            </a:xfrm>
            <a:prstGeom prst="line">
              <a:avLst/>
            </a:prstGeom>
            <a:ln w="50760">
              <a:solidFill>
                <a:srgbClr val="00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248520" y="4724280"/>
              <a:ext cx="0" cy="228600"/>
            </a:xfrm>
            <a:prstGeom prst="line">
              <a:avLst/>
            </a:prstGeom>
            <a:ln w="50760">
              <a:solidFill>
                <a:srgbClr val="00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265640" y="6019560"/>
            <a:ext cx="373536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Niskopropusni filt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0T23:48:28Z</dcterms:created>
  <dc:creator>ZESOI</dc:creator>
  <dc:description/>
  <dc:language>en-US</dc:language>
  <cp:lastModifiedBy>Tomislav Petkovic</cp:lastModifiedBy>
  <cp:lastPrinted>1997-06-05T13:11:36Z</cp:lastPrinted>
  <dcterms:modified xsi:type="dcterms:W3CDTF">2003-10-30T10:02:50Z</dcterms:modified>
  <cp:revision>115</cp:revision>
  <dc:subject>Digitalna obradba signala</dc:subject>
  <dc:title>Nerekurzivni digitalni filtri</dc:title>
</cp:coreProperties>
</file>