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024080" y="900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0" y="974196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4024080" y="974196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fld id="{25696F45-4872-44A1-A44D-1EAD3D3FD83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Img"/>
          </p:nvPr>
        </p:nvSpPr>
        <p:spPr>
          <a:xfrm>
            <a:off x="1164960" y="896760"/>
            <a:ext cx="476892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22640" y="973944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-1440" y="973944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58DB-E9BA-4359-8BAA-5030997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409608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4423-9F55-4EDA-A8F0-88F7562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464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409608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04640" y="409608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DE9-DF28-4261-A0CB-2FE2283D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3760" y="1747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78040" y="1747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409608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3760" y="409608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78040" y="409608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C826-091D-4AA6-A683-BE0DBBC0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6CAC-058F-4259-B12C-5A5F719D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E421-7C0F-44AC-9E67-7774277D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4640" y="174780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1BD9-1567-4CD8-AD9E-A2C8324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F086-45C5-456B-81E6-4E4FB703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600" y="628560"/>
            <a:ext cx="769608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C4CD-11C9-458B-9A35-FA090893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4640" y="174780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9608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AF2D-C28B-44C3-AF1D-AA346C8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464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4640" y="409608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B3A6-368F-481C-910D-C27A8D91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04640" y="1747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09608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E415-7E33-4A35-BB93-5AC9DD3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305039-6938-4B45-B793-BF7036F89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2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3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65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66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640" y="213336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cccc"/>
                </a:solidFill>
                <a:latin typeface="Times New Roman"/>
              </a:rPr>
              <a:t>FIR i IIR filtarske struktur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A3D2-213A-489C-B83E-5FB8B34C82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Arial"/>
              </a:rPr>
              <a:t>Blok dijagra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an je preustroj blok dijagrama kako bi se izgradio “ekvivalentni” blok dijagram koji vodi na različite računalne algorit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4)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o je definirati zahtjeve na sklopovlje za realiza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o je razviti prikaze blok dijagrama izravno iz prijenosne fun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60A9-B645-4D52-92F2-F73C11C62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28200"/>
            <a:ext cx="76960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cccc"/>
                </a:solidFill>
                <a:latin typeface="Arial"/>
              </a:rPr>
              <a:t>Problem petlji bez elemenata za kašnjenje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izička realizacija filtarskih struktura je nemoguća ako postoje petlje u blok dijagramu koje ne sadrže elemente za kašnje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lustrirajmo ovaj problem na slijedećem primje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30440" y="4834080"/>
            <a:ext cx="4254480" cy="18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FFAA-97B9-4FF5-A560-DF634E619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28200"/>
            <a:ext cx="769608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Arial"/>
              </a:rPr>
              <a:t>Problem petlji bez elemenata za kašnjen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naliza ove strukture vodi 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što kombinacijom rezultira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računavanje trenutne vrijednost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htjeva poznavanje iste vrijed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70280" y="2133720"/>
                <a:ext cx="2870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2819520" y="2743200"/>
          <a:ext cx="364464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36446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05120" y="3860640"/>
                <a:ext cx="500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143000" y="443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5438-D755-4036-A09B-5C8805191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vo je fizički nemoguće postići zbog konačnog vremena potrebnog za izvođenje aritmetičkih operacija na digitalnom račun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trebno je detektirati postojanje takvih petlji o nekoj strukturi i odgovarajućim postupkom ih ukloniti ne narušavajući ukupne ulazno izlazne od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blem petlji bez elemenata za kašnjen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10E7-AD03-4239-8A6C-75992C165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klanjanje se postiže zamjenom dijela strukture s ekvivalentnom realizacijom koja ne sadrži petlju bez elemenata za kašnje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mjer jedne takve re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60880" y="3646440"/>
            <a:ext cx="3762360" cy="2095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blem petlji bez elemenata za kašnjen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7800" y="3635280"/>
            <a:ext cx="4254840" cy="209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4160" y="6095880"/>
                <a:ext cx="4016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4659480" y="5900760"/>
          <a:ext cx="44701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5900760"/>
                    <a:ext cx="4470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88F8-2290-4422-9417-72AEA5392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tn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vije su strukture digitalnog filtra ekvivalentne ako imaju istu prijenosnu funk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oji niz metoda za generaciju ekvivalentnih struk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rlo je koristan postupak generiranja ekvivalentne strukture  tzv. postupkom transponiranja izvorne struk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8954-5F71-462C-99A4-F46FDC609D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tn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upak transponiranja blok dija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krenuti sve tokove signa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mijeniti sve čvorove račvanja sa zbrajalima i obrn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mijeniti ulazni i izlazni čv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ve ostale metode za gradnju ekvivalentnih struktura temelje se na specifičnom algoritmu za svaku struktu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ABCC-A329-4792-B54B-6942AA607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tn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oji zapravo beskonačan broj ekvivalentnih struktura koje realiziraju istu prijenosnu karakterist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to je nemoguće razviti sve ekvivalentne re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vdje ćemo se ograničiti samo na najčešće korištene struk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9D1D-0964-40AC-8830-43A327C68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tn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rištenjem aritmetike beskonačne preciznosti bilo koja realizacije digitalnih filtara ponašala bi se identično za bilo koju ekvivalentnu struktu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eđutim, u praksi, zbog konačne duljine riječi , specifična realizacija se može ponašati potpuno drugačije od svoje ekvivalente re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0971-9970-46D1-9F65-BAB7212BA7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28200"/>
            <a:ext cx="769608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kvivalentn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žno je stoga izabrati strukturu koja pokazuje najmanju osjetljivost na efekte kvantizacije u slučaju korištenja aritmetike konačne preciz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čigledan pristup u pronalaženju takve strukture temelji se na analizi utjecaja konačne duljine riječi i aritmetike konačne preciznosti za veliki broj ekvivalentnih struktura čime je omogućen izbor najpovoljn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AEC8-E535-49C4-A5CC-1AD4432E4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cccc"/>
                </a:solidFill>
                <a:latin typeface="Times New Roman"/>
              </a:rPr>
              <a:t>Sadržaj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823760"/>
            <a:ext cx="838224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IR struk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irektna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ransponirana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FIR filtri linearne f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askadna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IR struk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irektne I i II real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ransponirana direktna II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askadna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aralelna realiz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3D22-2209-43D6-A3E1-0D6A8EC8867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Pojednostavljeno crtanje blok dijagram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42920" y="1871640"/>
          <a:ext cx="906768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871640"/>
                    <a:ext cx="906768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8F85-E2EE-4C74-BF95-54A8B61EA26F}" type="slidenum">
              <a:t>20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a realizacija FIR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44560" y="2138400"/>
                <a:ext cx="38466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69" name=""/>
          <p:cNvGraphicFramePr/>
          <p:nvPr/>
        </p:nvGraphicFramePr>
        <p:xfrm>
          <a:off x="71280" y="3859200"/>
          <a:ext cx="899352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859200"/>
                    <a:ext cx="899352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6CCF-5F0F-4C08-892B-FF9D412DD18B}" type="slidenum">
              <a:t>21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Transponirana struk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1538280"/>
                <a:ext cx="84740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04840" y="4460760"/>
                <a:ext cx="5875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84240" y="2416320"/>
          <a:ext cx="4371840" cy="20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2416320"/>
                    <a:ext cx="437184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479840" y="2416320"/>
          <a:ext cx="4372200" cy="20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2416320"/>
                    <a:ext cx="437220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93600" y="5016600"/>
          <a:ext cx="4372200" cy="15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600" y="5016600"/>
                    <a:ext cx="43722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308D-CBE5-410C-8904-3BD70A851B39}" type="slidenum">
              <a:t>22</a:t>
            </a:fld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Transponirana struk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280" y="2887560"/>
          <a:ext cx="899352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887560"/>
                    <a:ext cx="899352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6DDF-512D-4AEF-9092-816B7AEE8D29}" type="slidenum">
              <a:t>23</a:t>
            </a:fld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rukture za FIR filtre linearne faz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4 tipa FIR filtara linearne fa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I: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II: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ne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III: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IV: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ne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221F-68EE-400A-948A-996765016423}" type="slidenum">
              <a:t>24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rukture za FIR filtre linearne faz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tipove I i III možemo pisa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9720" y="2486160"/>
                <a:ext cx="3076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420920" y="3343320"/>
                <a:ext cx="64530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65000" y="5583240"/>
                <a:ext cx="8028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7929720" y="3605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d6009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75240" y="4680000"/>
                <a:ext cx="5197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474920" y="4338720"/>
            <a:ext cx="2879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d60093"/>
                </a:solidFill>
                <a:latin typeface="Times New Roman"/>
              </a:rPr>
              <a:t>* uvodimo zamjenu m</a:t>
            </a:r>
            <a:r>
              <a:rPr b="0" lang="hr-HR" sz="2400" spc="-1" strike="noStrike" baseline="-25000">
                <a:solidFill>
                  <a:srgbClr val="d60093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d60093"/>
                </a:solidFill>
                <a:latin typeface="Times New Roman"/>
              </a:rPr>
              <a:t> =M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d60093"/>
                </a:solidFill>
                <a:latin typeface="Times New Roman"/>
              </a:rPr>
              <a:t>iz čega slijed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B972-069F-43D0-9E62-F0402EE98A87}" type="slidenum">
              <a:t>25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rukture za FIR filtre linearne faz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7080" y="2962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Tip I vrijedi: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474920" y="3557520"/>
                <a:ext cx="70387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14200" y="4748040"/>
            <a:ext cx="87742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Tip III vrijedi: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, M je 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394000" y="5508720"/>
                <a:ext cx="4937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5292720"/>
                <a:ext cx="161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040" y="1776240"/>
                <a:ext cx="8280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FED9-EE48-411F-A338-E9BEA0B5C27B}" type="slidenum">
              <a:t>26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rukture za FIR filtre linearne faz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Tip II vrijedi: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ne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254320" y="2443320"/>
                <a:ext cx="4911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-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14200" y="3733920"/>
            <a:ext cx="87742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Tip IV vrijedi: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je ne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330280" y="4702320"/>
                <a:ext cx="4759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-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94A7-713B-4E7B-BC58-B991168D8C0B}" type="slidenum">
              <a:t>27</a:t>
            </a:fld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rukture za FIR filtre linearne faz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7080" y="197640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200" y="3976560"/>
            <a:ext cx="87742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nepa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28720" y="1593720"/>
          <a:ext cx="7415280" cy="25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1593720"/>
                    <a:ext cx="7415280" cy="25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287360" y="4406760"/>
          <a:ext cx="780588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7360" y="4406760"/>
                    <a:ext cx="7805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F7D-22CE-4B3C-8328-CF63CF4C0F85}" type="slidenum">
              <a:t>28</a:t>
            </a:fld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bijanje transfer funkcij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na sekcije drugog 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041480" y="2948040"/>
                <a:ext cx="30049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017960" y="2928960"/>
                <a:ext cx="462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m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217440" y="4186080"/>
            <a:ext cx="87742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najveći cijeli broj sadržan u 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+1)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4160" y="5110200"/>
          <a:ext cx="873756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5110200"/>
                    <a:ext cx="873756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AC05-4996-4CD5-AAB1-7B81A399B623}" type="slidenum">
              <a:t>29</a:t>
            </a:fld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arsk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47440"/>
            <a:ext cx="838224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nvolucijska sumacija može biti korištena u realizaciji diskretnih vremenski stalnih linearnih sustav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– linear time invaria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prikladna za IIR filtre zbog beskonačne duljine impulsnog odz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alizacija IIR filtara se temelji na izravnoj implementaciji jednadžbe diferencija odnosno prijenosne fun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1F07-4E87-49A4-A399-8A05E0E081E0}" type="slidenum">
              <a:t>3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87440" y="2484360"/>
                <a:ext cx="4861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m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31760" y="3197160"/>
                <a:ext cx="7425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m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m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1387440" y="3986280"/>
          <a:ext cx="3249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3986280"/>
                    <a:ext cx="3249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C43D-9D53-445B-92AE-C7DFF8EE4C7A}" type="slidenum">
              <a:t>30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a je izgled cijele struk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760" y="3086280"/>
          <a:ext cx="912024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3086280"/>
                    <a:ext cx="912024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2EEE-4C10-4E9D-AF93-88D9CA771364}" type="slidenum">
              <a:t>31</a:t>
            </a:fld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7400" y="1731960"/>
            <a:ext cx="89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lifazna dekompozicij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z) – paralelna struk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upak dekompozicije za kauzalni FIR filtar re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=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98600" y="3257640"/>
                <a:ext cx="83106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33520" y="5222880"/>
                <a:ext cx="8373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94280" y="451152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vršimo grupiranje na slijedeći nači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1710-91E0-455B-8F6F-17EA041C06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79360" y="1596960"/>
          <a:ext cx="888228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96960"/>
                    <a:ext cx="88822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33080" y="313992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vođenjem notacij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54120" y="3760920"/>
                <a:ext cx="843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98400" y="4416480"/>
                <a:ext cx="63756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16680" y="4983120"/>
            <a:ext cx="29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žemo pisa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579760" y="5784840"/>
                <a:ext cx="4346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C539-4F3B-4CF5-A860-86EB5A49F4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9972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5080" y="890640"/>
            <a:ext cx="71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vršimo li grupiranje na slijedeći nači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28720" y="1428840"/>
                <a:ext cx="5708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335240" y="315432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vođenjem notaci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797120" y="3746520"/>
                <a:ext cx="4979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766880" y="4400640"/>
                <a:ext cx="4916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735200" y="5013360"/>
                <a:ext cx="497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368360" y="5540400"/>
            <a:ext cx="15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89200" y="6170760"/>
                <a:ext cx="5645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995C-C681-4BE5-854F-107D4D93AE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06640" y="1447920"/>
            <a:ext cx="70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kazana dekompozicij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naziva se polifazna dekompozi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0400" y="2428920"/>
            <a:ext cx="75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općem slučaju polifazna dekompozicija na L grana je obl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701800" y="3562200"/>
                <a:ext cx="3362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125360" y="4424400"/>
            <a:ext cx="75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833480" y="4935600"/>
          <a:ext cx="666108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4935600"/>
                    <a:ext cx="6661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1959-B9C8-41DD-8606-C372478C11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35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60" idx="0"/>
          </p:cNvCxnSpPr>
          <p:nvPr/>
        </p:nvCxnSpPr>
        <p:spPr>
          <a:xfrm flipH="1">
            <a:off x="5355720" y="2209680"/>
            <a:ext cx="5760" cy="401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61" name=""/>
          <p:cNvCxnSpPr/>
          <p:nvPr/>
        </p:nvCxnSpPr>
        <p:spPr>
          <a:xfrm>
            <a:off x="4659480" y="2209320"/>
            <a:ext cx="1359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4705200" y="159876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53560" y="160344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75200" y="2610000"/>
            <a:ext cx="7621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5200" y="3795840"/>
            <a:ext cx="7621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32520" y="18669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7840" y="316224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7840" y="45766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85120" y="3286080"/>
            <a:ext cx="457200" cy="457200"/>
          </a:xfrm>
          <a:prstGeom prst="flowChartConnector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85120" y="2000160"/>
            <a:ext cx="457200" cy="457200"/>
          </a:xfrm>
          <a:prstGeom prst="flowChartConnector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endCxn id="264" idx="0"/>
          </p:cNvCxnSpPr>
          <p:nvPr/>
        </p:nvCxnSpPr>
        <p:spPr>
          <a:xfrm>
            <a:off x="5355720" y="3290400"/>
            <a:ext cx="1080" cy="505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64" idx="2"/>
            <a:endCxn id="267" idx="1"/>
          </p:cNvCxnSpPr>
          <p:nvPr/>
        </p:nvCxnSpPr>
        <p:spPr>
          <a:xfrm flipH="1" rot="16200000">
            <a:off x="5472720" y="4364280"/>
            <a:ext cx="438840" cy="6724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7189920" y="2209680"/>
            <a:ext cx="29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61120" y="351792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89920" y="3517920"/>
            <a:ext cx="29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7" idx="3"/>
            <a:endCxn id="268" idx="4"/>
          </p:cNvCxnSpPr>
          <p:nvPr/>
        </p:nvCxnSpPr>
        <p:spPr>
          <a:xfrm flipV="1">
            <a:off x="7184520" y="3742920"/>
            <a:ext cx="529200" cy="11772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 flipV="1">
            <a:off x="7713720" y="2457360"/>
            <a:ext cx="0" cy="8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42320" y="220968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endCxn id="279" idx="0"/>
          </p:cNvCxnSpPr>
          <p:nvPr/>
        </p:nvCxnSpPr>
        <p:spPr>
          <a:xfrm flipH="1">
            <a:off x="807480" y="2204640"/>
            <a:ext cx="5400" cy="400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80" name=""/>
          <p:cNvCxnSpPr/>
          <p:nvPr/>
        </p:nvCxnSpPr>
        <p:spPr>
          <a:xfrm>
            <a:off x="111240" y="2204640"/>
            <a:ext cx="1359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81" name=""/>
          <p:cNvSpPr/>
          <p:nvPr/>
        </p:nvSpPr>
        <p:spPr>
          <a:xfrm>
            <a:off x="156960" y="159372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5987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960" y="2604960"/>
            <a:ext cx="7621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84280" y="186228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79600" y="31575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6880" y="1995480"/>
            <a:ext cx="457200" cy="457200"/>
          </a:xfrm>
          <a:prstGeom prst="flowChartConnector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41680" y="2205000"/>
            <a:ext cx="29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94080" y="2205000"/>
            <a:ext cx="669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79" idx="2"/>
            <a:endCxn id="284" idx="1"/>
          </p:cNvCxnSpPr>
          <p:nvPr/>
        </p:nvCxnSpPr>
        <p:spPr>
          <a:xfrm flipH="1" rot="16200000">
            <a:off x="1038240" y="3059640"/>
            <a:ext cx="210240" cy="6721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3"/>
            <a:endCxn id="285" idx="4"/>
          </p:cNvCxnSpPr>
          <p:nvPr/>
        </p:nvCxnSpPr>
        <p:spPr>
          <a:xfrm flipV="1">
            <a:off x="2637000" y="2452320"/>
            <a:ext cx="529200" cy="10483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5A07-C201-4C5D-A34A-57D4938C2F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 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558360" y="2352240"/>
            <a:ext cx="13597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lg" type="oval" w="lg"/>
          </a:ln>
        </p:spPr>
      </p:cxnSp>
      <p:sp>
        <p:nvSpPr>
          <p:cNvPr id="292" name=""/>
          <p:cNvSpPr/>
          <p:nvPr/>
        </p:nvSpPr>
        <p:spPr>
          <a:xfrm>
            <a:off x="4680" y="174132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24520" y="1746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32120" y="20098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27080" y="33051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27080" y="471960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89160" y="2352600"/>
            <a:ext cx="50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84480" y="3660840"/>
            <a:ext cx="5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3"/>
            <a:endCxn id="298" idx="0"/>
          </p:cNvCxnSpPr>
          <p:nvPr/>
        </p:nvCxnSpPr>
        <p:spPr>
          <a:xfrm flipV="1">
            <a:off x="3084120" y="3660480"/>
            <a:ext cx="515160" cy="1402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00" name=""/>
          <p:cNvSpPr/>
          <p:nvPr/>
        </p:nvSpPr>
        <p:spPr>
          <a:xfrm>
            <a:off x="3656160" y="2352600"/>
            <a:ext cx="103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1" name=""/>
          <p:cNvCxnSpPr/>
          <p:nvPr/>
        </p:nvCxnSpPr>
        <p:spPr>
          <a:xfrm>
            <a:off x="1255320" y="2352600"/>
            <a:ext cx="540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sp>
        <p:nvSpPr>
          <p:cNvPr id="302" name=""/>
          <p:cNvSpPr/>
          <p:nvPr/>
        </p:nvSpPr>
        <p:spPr>
          <a:xfrm rot="16200000">
            <a:off x="1080360" y="2814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H="1" rot="16200000">
            <a:off x="884880" y="4030560"/>
            <a:ext cx="1402560" cy="662760"/>
          </a:xfrm>
          <a:prstGeom prst="bentConnector3">
            <a:avLst>
              <a:gd name="adj1" fmla="val 1007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04" name=""/>
          <p:cNvSpPr/>
          <p:nvPr/>
        </p:nvSpPr>
        <p:spPr>
          <a:xfrm rot="16200000">
            <a:off x="1075680" y="4138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366084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298" idx="1"/>
          </p:cNvCxnSpPr>
          <p:nvPr/>
        </p:nvCxnSpPr>
        <p:spPr>
          <a:xfrm flipV="1">
            <a:off x="3598560" y="2352240"/>
            <a:ext cx="108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07" name=""/>
          <p:cNvSpPr/>
          <p:nvPr/>
        </p:nvSpPr>
        <p:spPr>
          <a:xfrm rot="5400000">
            <a:off x="3432240" y="2814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3432240" y="4138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39081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3146040" y="2132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3155760" y="344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1379160" y="3447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13791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4" name=""/>
          <p:cNvCxnSpPr/>
          <p:nvPr/>
        </p:nvCxnSpPr>
        <p:spPr>
          <a:xfrm>
            <a:off x="4754160" y="3261960"/>
            <a:ext cx="13597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lg" type="oval" w="lg"/>
          </a:ln>
        </p:spPr>
      </p:cxnSp>
      <p:sp>
        <p:nvSpPr>
          <p:cNvPr id="315" name=""/>
          <p:cNvSpPr/>
          <p:nvPr/>
        </p:nvSpPr>
        <p:spPr>
          <a:xfrm>
            <a:off x="8291520" y="243540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11720" y="2592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7920" y="291924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2880" y="421488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22880" y="562932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84960" y="3262320"/>
            <a:ext cx="50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80280" y="4570560"/>
            <a:ext cx="5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9" idx="3"/>
            <a:endCxn id="321" idx="0"/>
          </p:cNvCxnSpPr>
          <p:nvPr/>
        </p:nvCxnSpPr>
        <p:spPr>
          <a:xfrm flipV="1">
            <a:off x="7279920" y="4569840"/>
            <a:ext cx="515160" cy="14022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23" name=""/>
          <p:cNvSpPr/>
          <p:nvPr/>
        </p:nvSpPr>
        <p:spPr>
          <a:xfrm>
            <a:off x="7851600" y="326232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>
            <a:off x="5451120" y="3262320"/>
            <a:ext cx="540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sp>
        <p:nvSpPr>
          <p:cNvPr id="325" name=""/>
          <p:cNvSpPr/>
          <p:nvPr/>
        </p:nvSpPr>
        <p:spPr>
          <a:xfrm flipH="1" rot="5400000">
            <a:off x="5287680" y="3724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flipH="1" rot="16200000">
            <a:off x="5080680" y="4939920"/>
            <a:ext cx="1402200" cy="662760"/>
          </a:xfrm>
          <a:prstGeom prst="bentConnector3">
            <a:avLst>
              <a:gd name="adj1" fmla="val 1007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27" name=""/>
          <p:cNvSpPr/>
          <p:nvPr/>
        </p:nvSpPr>
        <p:spPr>
          <a:xfrm flipH="1" rot="5400000">
            <a:off x="5287680" y="504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56160" y="457056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1"/>
          </p:cNvCxnSpPr>
          <p:nvPr/>
        </p:nvCxnSpPr>
        <p:spPr>
          <a:xfrm flipV="1">
            <a:off x="7794360" y="3261960"/>
            <a:ext cx="108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30" name=""/>
          <p:cNvSpPr/>
          <p:nvPr/>
        </p:nvSpPr>
        <p:spPr>
          <a:xfrm flipH="1" rot="16200000">
            <a:off x="7615800" y="3724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rot="16200000">
            <a:off x="7611120" y="504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 rot="10800000">
            <a:off x="8103960" y="30207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 rot="10800000">
            <a:off x="7341480" y="3025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10800000">
            <a:off x="7351560" y="433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 rot="10800000">
            <a:off x="5574600" y="433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74960" y="302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"/>
          <p:cNvCxnSpPr/>
          <p:nvPr/>
        </p:nvCxnSpPr>
        <p:spPr>
          <a:xfrm>
            <a:off x="558360" y="2352240"/>
            <a:ext cx="13597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lg" type="oval" w="lg"/>
          </a:ln>
        </p:spPr>
      </p:cxnSp>
      <p:sp>
        <p:nvSpPr>
          <p:cNvPr id="338" name=""/>
          <p:cNvSpPr/>
          <p:nvPr/>
        </p:nvSpPr>
        <p:spPr>
          <a:xfrm>
            <a:off x="4680" y="174132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24520" y="1746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2120" y="20098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7080" y="33051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27080" y="471960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89160" y="2352600"/>
            <a:ext cx="50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84480" y="3660840"/>
            <a:ext cx="5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3"/>
            <a:endCxn id="344" idx="0"/>
          </p:cNvCxnSpPr>
          <p:nvPr/>
        </p:nvCxnSpPr>
        <p:spPr>
          <a:xfrm flipV="1">
            <a:off x="3084120" y="3660480"/>
            <a:ext cx="515160" cy="1402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46" name=""/>
          <p:cNvSpPr/>
          <p:nvPr/>
        </p:nvSpPr>
        <p:spPr>
          <a:xfrm>
            <a:off x="3656160" y="2352600"/>
            <a:ext cx="103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>
            <a:off x="1255320" y="2352600"/>
            <a:ext cx="540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348" name=""/>
          <p:cNvCxnSpPr/>
          <p:nvPr/>
        </p:nvCxnSpPr>
        <p:spPr>
          <a:xfrm flipH="1" rot="16200000">
            <a:off x="884880" y="4030560"/>
            <a:ext cx="1402560" cy="662760"/>
          </a:xfrm>
          <a:prstGeom prst="bentConnector3">
            <a:avLst>
              <a:gd name="adj1" fmla="val 1007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1260360" y="366084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4" idx="1"/>
          </p:cNvCxnSpPr>
          <p:nvPr/>
        </p:nvCxnSpPr>
        <p:spPr>
          <a:xfrm flipV="1">
            <a:off x="3598560" y="2352240"/>
            <a:ext cx="108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51" name=""/>
          <p:cNvSpPr/>
          <p:nvPr/>
        </p:nvSpPr>
        <p:spPr>
          <a:xfrm rot="10800000">
            <a:off x="7077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12920" y="302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9840" y="5910120"/>
            <a:ext cx="75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ransponirana struk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4560" y="274176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6680" y="405144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7240" y="359424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45320" y="494676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BCAF-969D-43BB-9124-95C81D8AB1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>
            <a:off x="5042880" y="20368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133840" y="20415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427160" y="3191040"/>
            <a:ext cx="7621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427160" y="4976640"/>
            <a:ext cx="7621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112800" y="230508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08840" y="414324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108840" y="58006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566120" y="4267080"/>
            <a:ext cx="457200" cy="457200"/>
          </a:xfrm>
          <a:prstGeom prst="flowChartConnector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566120" y="2438280"/>
            <a:ext cx="457200" cy="457200"/>
          </a:xfrm>
          <a:prstGeom prst="flowChartConnector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 C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70920" y="2666880"/>
            <a:ext cx="29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42040" y="2638440"/>
            <a:ext cx="77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70920" y="4484520"/>
            <a:ext cx="29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80320" y="387684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780320" y="28857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80320" y="4723920"/>
            <a:ext cx="0" cy="2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64" idx="3"/>
            <a:endCxn id="361" idx="2"/>
          </p:cNvCxnSpPr>
          <p:nvPr/>
        </p:nvCxnSpPr>
        <p:spPr>
          <a:xfrm flipV="1">
            <a:off x="7267320" y="5660640"/>
            <a:ext cx="541800" cy="481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endCxn id="363" idx="1"/>
          </p:cNvCxnSpPr>
          <p:nvPr/>
        </p:nvCxnSpPr>
        <p:spPr>
          <a:xfrm flipH="1" rot="16200000">
            <a:off x="5027400" y="3401280"/>
            <a:ext cx="1818360" cy="3484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endCxn id="364" idx="1"/>
          </p:cNvCxnSpPr>
          <p:nvPr/>
        </p:nvCxnSpPr>
        <p:spPr>
          <a:xfrm flipH="1" rot="16200000">
            <a:off x="5107680" y="5139000"/>
            <a:ext cx="1658160" cy="3484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8023320" y="2666880"/>
            <a:ext cx="671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/>
          <p:nvPr/>
        </p:nvCxnSpPr>
        <p:spPr>
          <a:xfrm>
            <a:off x="558360" y="2352240"/>
            <a:ext cx="13597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lg" type="oval" w="lg"/>
          </a:ln>
        </p:spPr>
      </p:cxnSp>
      <p:sp>
        <p:nvSpPr>
          <p:cNvPr id="378" name=""/>
          <p:cNvSpPr/>
          <p:nvPr/>
        </p:nvSpPr>
        <p:spPr>
          <a:xfrm>
            <a:off x="4124520" y="1746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32120" y="20098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27080" y="33051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27080" y="471960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89160" y="2352600"/>
            <a:ext cx="50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84480" y="3660840"/>
            <a:ext cx="5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81" idx="3"/>
            <a:endCxn id="383" idx="0"/>
          </p:cNvCxnSpPr>
          <p:nvPr/>
        </p:nvCxnSpPr>
        <p:spPr>
          <a:xfrm flipV="1">
            <a:off x="3084120" y="3660480"/>
            <a:ext cx="515160" cy="1402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85" name=""/>
          <p:cNvSpPr/>
          <p:nvPr/>
        </p:nvSpPr>
        <p:spPr>
          <a:xfrm>
            <a:off x="3656160" y="2352600"/>
            <a:ext cx="103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6" name=""/>
          <p:cNvCxnSpPr/>
          <p:nvPr/>
        </p:nvCxnSpPr>
        <p:spPr>
          <a:xfrm>
            <a:off x="1255320" y="2352600"/>
            <a:ext cx="540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sp>
        <p:nvSpPr>
          <p:cNvPr id="387" name=""/>
          <p:cNvSpPr/>
          <p:nvPr/>
        </p:nvSpPr>
        <p:spPr>
          <a:xfrm rot="16200000">
            <a:off x="1080360" y="2814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H="1" rot="16200000">
            <a:off x="884880" y="4030560"/>
            <a:ext cx="1402560" cy="662760"/>
          </a:xfrm>
          <a:prstGeom prst="bentConnector3">
            <a:avLst>
              <a:gd name="adj1" fmla="val 1007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9" name=""/>
          <p:cNvSpPr/>
          <p:nvPr/>
        </p:nvSpPr>
        <p:spPr>
          <a:xfrm rot="16200000">
            <a:off x="1075680" y="4138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60360" y="366084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3" idx="1"/>
          </p:cNvCxnSpPr>
          <p:nvPr/>
        </p:nvCxnSpPr>
        <p:spPr>
          <a:xfrm flipV="1">
            <a:off x="3598560" y="2352240"/>
            <a:ext cx="108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392" name=""/>
          <p:cNvSpPr/>
          <p:nvPr/>
        </p:nvSpPr>
        <p:spPr>
          <a:xfrm rot="5400000">
            <a:off x="3432240" y="2814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3432240" y="4138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39081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3146040" y="2132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3155760" y="344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1379160" y="3447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0800000">
            <a:off x="13791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558360" y="2352240"/>
            <a:ext cx="13597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lg" type="oval" w="lg"/>
          </a:ln>
        </p:spPr>
      </p:cxnSp>
      <p:sp>
        <p:nvSpPr>
          <p:cNvPr id="400" name=""/>
          <p:cNvSpPr/>
          <p:nvPr/>
        </p:nvSpPr>
        <p:spPr>
          <a:xfrm>
            <a:off x="4124520" y="1746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32120" y="2009880"/>
            <a:ext cx="115704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27080" y="330516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27080" y="4719600"/>
            <a:ext cx="11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89160" y="2352600"/>
            <a:ext cx="50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4480" y="3660840"/>
            <a:ext cx="5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3" idx="3"/>
            <a:endCxn id="405" idx="0"/>
          </p:cNvCxnSpPr>
          <p:nvPr/>
        </p:nvCxnSpPr>
        <p:spPr>
          <a:xfrm flipV="1">
            <a:off x="3084120" y="3660480"/>
            <a:ext cx="515160" cy="1402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407" name=""/>
          <p:cNvSpPr/>
          <p:nvPr/>
        </p:nvSpPr>
        <p:spPr>
          <a:xfrm>
            <a:off x="3656160" y="2352600"/>
            <a:ext cx="103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8" name=""/>
          <p:cNvCxnSpPr/>
          <p:nvPr/>
        </p:nvCxnSpPr>
        <p:spPr>
          <a:xfrm>
            <a:off x="1255320" y="2352600"/>
            <a:ext cx="540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884880" y="4030560"/>
            <a:ext cx="1402560" cy="662760"/>
          </a:xfrm>
          <a:prstGeom prst="bentConnector3">
            <a:avLst>
              <a:gd name="adj1" fmla="val 1007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1260360" y="3660840"/>
            <a:ext cx="66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5" idx="1"/>
          </p:cNvCxnSpPr>
          <p:nvPr/>
        </p:nvCxnSpPr>
        <p:spPr>
          <a:xfrm flipV="1">
            <a:off x="3598560" y="2352240"/>
            <a:ext cx="1080" cy="1308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412" name=""/>
          <p:cNvSpPr/>
          <p:nvPr/>
        </p:nvSpPr>
        <p:spPr>
          <a:xfrm rot="10800000">
            <a:off x="707760" y="213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69200" y="275580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50120" y="405144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95280" y="177480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920" y="2235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3A94-707F-4955-918D-03BDAC8D7A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ifaznna realizacija F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4520" y="402732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u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82640" y="1035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92360" y="1601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44560" y="2154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92360" y="3059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01720" y="3625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54280" y="41781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87320" y="5140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97040" y="5707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49240" y="6259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8" name=""/>
          <p:cNvCxnSpPr/>
          <p:nvPr/>
        </p:nvCxnSpPr>
        <p:spPr>
          <a:xfrm>
            <a:off x="6589440" y="2044440"/>
            <a:ext cx="64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429" name=""/>
          <p:cNvCxnSpPr/>
          <p:nvPr/>
        </p:nvCxnSpPr>
        <p:spPr>
          <a:xfrm flipH="1">
            <a:off x="2766240" y="4649400"/>
            <a:ext cx="91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430" name=""/>
          <p:cNvCxnSpPr/>
          <p:nvPr/>
        </p:nvCxnSpPr>
        <p:spPr>
          <a:xfrm flipH="1">
            <a:off x="1832760" y="4644720"/>
            <a:ext cx="91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431" name=""/>
          <p:cNvSpPr/>
          <p:nvPr/>
        </p:nvSpPr>
        <p:spPr>
          <a:xfrm>
            <a:off x="3078360" y="409428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73680" y="410364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/>
          <p:nvPr/>
        </p:nvCxnSpPr>
        <p:spPr>
          <a:xfrm flipH="1" rot="10800000">
            <a:off x="1833120" y="1491480"/>
            <a:ext cx="3448800" cy="3153600"/>
          </a:xfrm>
          <a:prstGeom prst="bentConnector3">
            <a:avLst>
              <a:gd name="adj1" fmla="val -41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34" name=""/>
          <p:cNvCxnSpPr/>
          <p:nvPr/>
        </p:nvCxnSpPr>
        <p:spPr>
          <a:xfrm>
            <a:off x="1833120" y="3516120"/>
            <a:ext cx="2980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</a:ln>
        </p:spPr>
      </p:cxnSp>
      <p:cxnSp>
        <p:nvCxnSpPr>
          <p:cNvPr id="435" name=""/>
          <p:cNvCxnSpPr/>
          <p:nvPr/>
        </p:nvCxnSpPr>
        <p:spPr>
          <a:xfrm flipH="1" flipV="1" rot="10800000">
            <a:off x="1861920" y="4636800"/>
            <a:ext cx="3174120" cy="946800"/>
          </a:xfrm>
          <a:prstGeom prst="bentConnector3">
            <a:avLst>
              <a:gd name="adj1" fmla="val -79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36" name=""/>
          <p:cNvCxnSpPr/>
          <p:nvPr/>
        </p:nvCxnSpPr>
        <p:spPr>
          <a:xfrm>
            <a:off x="2766600" y="4068360"/>
            <a:ext cx="2004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</a:ln>
        </p:spPr>
      </p:cxnSp>
      <p:cxnSp>
        <p:nvCxnSpPr>
          <p:cNvPr id="437" name=""/>
          <p:cNvCxnSpPr/>
          <p:nvPr/>
        </p:nvCxnSpPr>
        <p:spPr>
          <a:xfrm>
            <a:off x="2766600" y="4645080"/>
            <a:ext cx="2515320" cy="1505520"/>
          </a:xfrm>
          <a:prstGeom prst="bentConnector3">
            <a:avLst>
              <a:gd name="adj1" fmla="val 37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38" name=""/>
          <p:cNvCxnSpPr/>
          <p:nvPr/>
        </p:nvCxnSpPr>
        <p:spPr>
          <a:xfrm>
            <a:off x="6584760" y="4068360"/>
            <a:ext cx="64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439" name=""/>
          <p:cNvCxnSpPr/>
          <p:nvPr/>
        </p:nvCxnSpPr>
        <p:spPr>
          <a:xfrm>
            <a:off x="6594120" y="6135480"/>
            <a:ext cx="64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oval" w="lg"/>
          </a:ln>
        </p:spPr>
      </p:cxnSp>
      <p:cxnSp>
        <p:nvCxnSpPr>
          <p:cNvPr id="440" name=""/>
          <p:cNvCxnSpPr/>
          <p:nvPr/>
        </p:nvCxnSpPr>
        <p:spPr>
          <a:xfrm flipV="1">
            <a:off x="2766960" y="2044080"/>
            <a:ext cx="3818880" cy="2601000"/>
          </a:xfrm>
          <a:prstGeom prst="bentConnector3">
            <a:avLst>
              <a:gd name="adj1" fmla="val 52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1" name=""/>
          <p:cNvCxnSpPr/>
          <p:nvPr/>
        </p:nvCxnSpPr>
        <p:spPr>
          <a:xfrm flipH="1" flipV="1" rot="5400000">
            <a:off x="3598920" y="2144880"/>
            <a:ext cx="3082320" cy="2909160"/>
          </a:xfrm>
          <a:prstGeom prst="bentConnector3">
            <a:avLst>
              <a:gd name="adj1" fmla="val 8143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2" name=""/>
          <p:cNvCxnSpPr/>
          <p:nvPr/>
        </p:nvCxnSpPr>
        <p:spPr>
          <a:xfrm>
            <a:off x="4813200" y="1491840"/>
            <a:ext cx="1767600" cy="553320"/>
          </a:xfrm>
          <a:prstGeom prst="bentConnector3">
            <a:avLst>
              <a:gd name="adj1" fmla="val 100896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3" name=""/>
          <p:cNvCxnSpPr/>
          <p:nvPr/>
        </p:nvCxnSpPr>
        <p:spPr>
          <a:xfrm>
            <a:off x="4770000" y="3516480"/>
            <a:ext cx="1772280" cy="552960"/>
          </a:xfrm>
          <a:prstGeom prst="bentConnector3">
            <a:avLst>
              <a:gd name="adj1" fmla="val 10241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4" name=""/>
          <p:cNvCxnSpPr/>
          <p:nvPr/>
        </p:nvCxnSpPr>
        <p:spPr>
          <a:xfrm>
            <a:off x="4770000" y="4068360"/>
            <a:ext cx="1810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5" name=""/>
          <p:cNvCxnSpPr/>
          <p:nvPr/>
        </p:nvCxnSpPr>
        <p:spPr>
          <a:xfrm flipV="1">
            <a:off x="3685680" y="4068000"/>
            <a:ext cx="2899800" cy="577080"/>
          </a:xfrm>
          <a:prstGeom prst="bentConnector3">
            <a:avLst>
              <a:gd name="adj1" fmla="val 10053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6" name=""/>
          <p:cNvCxnSpPr/>
          <p:nvPr/>
        </p:nvCxnSpPr>
        <p:spPr>
          <a:xfrm>
            <a:off x="4992840" y="5582880"/>
            <a:ext cx="1559520" cy="553320"/>
          </a:xfrm>
          <a:prstGeom prst="bentConnector3">
            <a:avLst>
              <a:gd name="adj1" fmla="val 10304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7" name=""/>
          <p:cNvCxnSpPr/>
          <p:nvPr/>
        </p:nvCxnSpPr>
        <p:spPr>
          <a:xfrm>
            <a:off x="5035680" y="6149520"/>
            <a:ext cx="155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8" name=""/>
          <p:cNvCxnSpPr/>
          <p:nvPr/>
        </p:nvCxnSpPr>
        <p:spPr>
          <a:xfrm flipH="1">
            <a:off x="4261680" y="6148800"/>
            <a:ext cx="2304360" cy="567720"/>
          </a:xfrm>
          <a:prstGeom prst="bentConnector3">
            <a:avLst>
              <a:gd name="adj1" fmla="val -1718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 flipH="1" rot="16200000">
            <a:off x="3300840" y="5528880"/>
            <a:ext cx="1577160" cy="808920"/>
          </a:xfrm>
          <a:prstGeom prst="bentConnector3">
            <a:avLst>
              <a:gd name="adj1" fmla="val 9968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50" name=""/>
          <p:cNvCxnSpPr/>
          <p:nvPr/>
        </p:nvCxnSpPr>
        <p:spPr>
          <a:xfrm>
            <a:off x="7232400" y="4068720"/>
            <a:ext cx="1080" cy="2067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51" name=""/>
          <p:cNvCxnSpPr/>
          <p:nvPr/>
        </p:nvCxnSpPr>
        <p:spPr>
          <a:xfrm>
            <a:off x="7241760" y="2058840"/>
            <a:ext cx="1080" cy="2045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52" name=""/>
          <p:cNvCxnSpPr/>
          <p:nvPr/>
        </p:nvCxnSpPr>
        <p:spPr>
          <a:xfrm>
            <a:off x="7237080" y="2044440"/>
            <a:ext cx="842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cxnSp>
        <p:nvCxnSpPr>
          <p:cNvPr id="453" name=""/>
          <p:cNvCxnSpPr/>
          <p:nvPr/>
        </p:nvCxnSpPr>
        <p:spPr>
          <a:xfrm flipH="1">
            <a:off x="913680" y="4644720"/>
            <a:ext cx="91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oval" w="lg"/>
          </a:ln>
        </p:spPr>
      </p:cxnSp>
      <p:sp>
        <p:nvSpPr>
          <p:cNvPr id="454" name=""/>
          <p:cNvSpPr/>
          <p:nvPr/>
        </p:nvSpPr>
        <p:spPr>
          <a:xfrm>
            <a:off x="5249880" y="80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0800000">
            <a:off x="1265040" y="4433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800000">
            <a:off x="2203200" y="442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3055680" y="442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5279760" y="4433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5217840" y="5371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5189400" y="5942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5256000" y="650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0800000">
            <a:off x="5232240" y="3828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5241600" y="3294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0800000">
            <a:off x="5308200" y="2389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5246640" y="1827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5270400" y="1280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6798960" y="1823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6784920" y="3852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6741720" y="5923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74240" y="477504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0800000">
            <a:off x="7537320" y="18327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7078680" y="28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7068960" y="4872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40760" y="2755800"/>
            <a:ext cx="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hr-HR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7536960" y="1341360"/>
            <a:ext cx="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 CE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 CE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3B55-0724-4934-91C6-AD08108EC4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arsk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lazno izlazni model IIR filtra pretpostavlja konačnu sumu produk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 druge strane, FIR filtri se mogu realizirati konvolucijskom sumacijom koja je konačna suma produk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01680" y="3124080"/>
          <a:ext cx="69375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3124080"/>
                    <a:ext cx="69375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16200" y="5613480"/>
          <a:ext cx="419436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5613480"/>
                    <a:ext cx="41943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AF94-73C6-42B5-A47F-D0392632D88F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17080" y="2989080"/>
            <a:ext cx="8774280" cy="116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transformacijom pišemo prijenosnu funkcij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95160" y="1771560"/>
                <a:ext cx="6199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698400" y="3792600"/>
                <a:ext cx="333540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4645080" y="3906720"/>
            <a:ext cx="43466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linomi od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brojniku i naziv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ustav ima nule i po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9F77-8FDC-4356-9ADB-944CD5299FCB}" type="slidenum">
              <a:t>40</a:t>
            </a:fld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68400" y="4245120"/>
            <a:ext cx="45244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ule od H(z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150920" y="1722600"/>
                <a:ext cx="579600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24480" y="5094360"/>
                <a:ext cx="35049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11240" y="5057640"/>
                <a:ext cx="289728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524480" y="4245120"/>
            <a:ext cx="45241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lovi od H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6B65-A0CF-458E-85A3-1F332FA677ED}" type="slidenum">
              <a:t>41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a I realizacija IIR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995800" y="1747800"/>
            <a:ext cx="33368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+N+1 mno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+N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+N+1 memorijskih lok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49280" y="1319040"/>
            <a:ext cx="2454120" cy="5427360"/>
            <a:chOff x="449280" y="1319040"/>
            <a:chExt cx="2454120" cy="5427360"/>
          </a:xfrm>
        </p:grpSpPr>
        <p:sp>
          <p:nvSpPr>
            <p:cNvPr id="490" name=""/>
            <p:cNvSpPr/>
            <p:nvPr/>
          </p:nvSpPr>
          <p:spPr>
            <a:xfrm>
              <a:off x="449280" y="1319040"/>
              <a:ext cx="2454120" cy="5418360"/>
            </a:xfrm>
            <a:prstGeom prst="rect">
              <a:avLst/>
            </a:prstGeom>
            <a:noFill/>
            <a:ln w="93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8280" y="6286680"/>
              <a:ext cx="22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d60093"/>
                  </a:solidFill>
                  <a:latin typeface="Times New Roman"/>
                </a:rPr>
                <a:t>All-Zero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2" name=""/>
          <p:cNvGraphicFramePr/>
          <p:nvPr/>
        </p:nvGraphicFramePr>
        <p:xfrm>
          <a:off x="160200" y="1204920"/>
          <a:ext cx="605952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04920"/>
                    <a:ext cx="60595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4" name=""/>
          <p:cNvGrpSpPr/>
          <p:nvPr/>
        </p:nvGrpSpPr>
        <p:grpSpPr>
          <a:xfrm>
            <a:off x="3287880" y="1314360"/>
            <a:ext cx="2454120" cy="5425560"/>
            <a:chOff x="3287880" y="1314360"/>
            <a:chExt cx="2454120" cy="5425560"/>
          </a:xfrm>
        </p:grpSpPr>
        <p:sp>
          <p:nvSpPr>
            <p:cNvPr id="495" name=""/>
            <p:cNvSpPr/>
            <p:nvPr/>
          </p:nvSpPr>
          <p:spPr>
            <a:xfrm>
              <a:off x="3287880" y="1314360"/>
              <a:ext cx="2454120" cy="5423040"/>
            </a:xfrm>
            <a:prstGeom prst="rect">
              <a:avLst/>
            </a:prstGeom>
            <a:noFill/>
            <a:ln w="9360">
              <a:solidFill>
                <a:srgbClr val="7500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01280" y="628020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7500d7"/>
                  </a:solidFill>
                  <a:latin typeface="Times New Roman"/>
                </a:rPr>
                <a:t>All-Pole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FACD-304E-440D-90C5-E7DCFE572F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a II realizacija IIR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8720" y="4527360"/>
            <a:ext cx="4136760" cy="23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+N+1 mno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+N zbraj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ax(M, N) memorijskih lok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080" y="1649520"/>
            <a:ext cx="413676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mpaktnija struktura jer vr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694400" y="1433520"/>
          <a:ext cx="458460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4400" y="1433520"/>
                    <a:ext cx="458460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95240" y="2728800"/>
                <a:ext cx="3579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39800" y="3635280"/>
                <a:ext cx="25909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A9C5-AE23-480D-AA68-1D329C60BB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Nedostaci direktnih realizacija IIR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42800" y="19526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uzetno osjetljive na promjene koeficijen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isu preporučljive u praktičnim aplikacij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vantizacija koeficijen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60093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aritmetika konačne duljine riječ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6EBC-4D4D-4327-89F6-FC39EBF1ED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Transponirana direktna II struk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656240" y="1433520"/>
          <a:ext cx="458460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1433520"/>
                    <a:ext cx="458460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95120" y="189396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1] + b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1] – 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n] + b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 = 1, 2, ..., N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– 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44440" y="5138640"/>
                <a:ext cx="46609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4A7A-3FA2-45C1-A75C-439A6BDC08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IR sustav drugog reda – direktna I realiz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23440" y="5832360"/>
            <a:ext cx="8991720" cy="8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 + b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–1] + b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2] – a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1] – a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92120" y="1749600"/>
                <a:ext cx="41511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14" name=""/>
          <p:cNvGraphicFramePr/>
          <p:nvPr/>
        </p:nvGraphicFramePr>
        <p:xfrm>
          <a:off x="623880" y="3089160"/>
          <a:ext cx="56894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3089160"/>
                    <a:ext cx="56894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80CF-E026-4B30-94BA-879EE960B6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IR sustav drugog reda – direktna II realiz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23440" y="4955760"/>
            <a:ext cx="899172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– a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1] – a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2] +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 +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1] +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2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716360" y="3267000"/>
          <a:ext cx="411660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267000"/>
                    <a:ext cx="41166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23800" y="1781280"/>
          <a:ext cx="4664160" cy="29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3800" y="1781280"/>
                    <a:ext cx="466416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BD99-23A3-4BEE-9F58-C7415C3BE7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IR sustav drugog reda – transponirana direktna II realiz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4760640"/>
            <a:ext cx="5862600" cy="18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 +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– a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+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-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– a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716360" y="3122640"/>
          <a:ext cx="411660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22640"/>
                    <a:ext cx="41166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03040" y="1262160"/>
          <a:ext cx="5054760" cy="35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040" y="1262160"/>
                    <a:ext cx="5054760" cy="35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C2A6-242B-46B1-835D-F2CBEB3B89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184480" y="3772080"/>
                <a:ext cx="56372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69720" y="5486400"/>
            <a:ext cx="87742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0280" y="1547640"/>
            <a:ext cx="83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laganje transfer funkcije H(z) na sekcije nižeg 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0280" y="24843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linomi u brojniku i nazivniku  prikazuju se kao produkti polinoma nižeg 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9720" y="5240160"/>
            <a:ext cx="23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6240" y="346536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1360" y="5137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ličite kaskadne realizacije  (36) postiže se različitim uparivanjem polova i nula ili/i izmjenom redoslijeda sekcija u kaskad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B1C2-95FC-4326-9E60-8B29F3ED7F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arsk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alizacija LTI digitalnih filtara može biti, ovisno o primjeni, programska ili sklopov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oba slučaja vrijednosti uzoraka signala i vrijednosti filtarskih koeficijenata prikazuju se s konačnom preciz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CEEF-8ED7-41C8-82BF-F1287589BCAC}" type="slidenum">
              <a:t>5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02840" y="2081160"/>
            <a:ext cx="3832560" cy="690480"/>
            <a:chOff x="402840" y="2081160"/>
            <a:chExt cx="3832560" cy="690480"/>
          </a:xfrm>
        </p:grpSpPr>
        <p:sp>
          <p:nvSpPr>
            <p:cNvPr id="538" name=""/>
            <p:cNvSpPr/>
            <p:nvPr/>
          </p:nvSpPr>
          <p:spPr>
            <a:xfrm>
              <a:off x="746280" y="208116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955800" y="2120760"/>
                  <a:ext cx="5904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"/>
            <p:cNvSpPr/>
            <p:nvPr/>
          </p:nvSpPr>
          <p:spPr>
            <a:xfrm>
              <a:off x="1927080" y="208296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2127240" y="211608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2" name=""/>
            <p:cNvSpPr/>
            <p:nvPr/>
          </p:nvSpPr>
          <p:spPr>
            <a:xfrm>
              <a:off x="3094200" y="208584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294000" y="211140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44" name=""/>
            <p:cNvCxnSpPr>
              <a:endCxn id="538" idx="1"/>
            </p:cNvCxnSpPr>
            <p:nvPr/>
          </p:nvCxnSpPr>
          <p:spPr>
            <a:xfrm>
              <a:off x="402840" y="242388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45" name=""/>
            <p:cNvSpPr/>
            <p:nvPr/>
          </p:nvSpPr>
          <p:spPr>
            <a:xfrm>
              <a:off x="1674720" y="242424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6" name=""/>
            <p:cNvCxnSpPr>
              <a:stCxn id="540" idx="3"/>
              <a:endCxn id="542" idx="1"/>
            </p:cNvCxnSpPr>
            <p:nvPr/>
          </p:nvCxnSpPr>
          <p:spPr>
            <a:xfrm>
              <a:off x="2855880" y="2425320"/>
              <a:ext cx="23904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42" idx="3"/>
            </p:cNvCxnSpPr>
            <p:nvPr/>
          </p:nvCxnSpPr>
          <p:spPr>
            <a:xfrm flipV="1">
              <a:off x="4022280" y="242352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48" name=""/>
          <p:cNvGrpSpPr/>
          <p:nvPr/>
        </p:nvGrpSpPr>
        <p:grpSpPr>
          <a:xfrm>
            <a:off x="4812840" y="2090880"/>
            <a:ext cx="3832560" cy="690480"/>
            <a:chOff x="4812840" y="2090880"/>
            <a:chExt cx="3832560" cy="690480"/>
          </a:xfrm>
        </p:grpSpPr>
        <p:sp>
          <p:nvSpPr>
            <p:cNvPr id="549" name=""/>
            <p:cNvSpPr/>
            <p:nvPr/>
          </p:nvSpPr>
          <p:spPr>
            <a:xfrm>
              <a:off x="5156280" y="209088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5356080" y="213048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1" name=""/>
            <p:cNvSpPr/>
            <p:nvPr/>
          </p:nvSpPr>
          <p:spPr>
            <a:xfrm>
              <a:off x="6337440" y="209232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6537240" y="212580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3" name=""/>
            <p:cNvSpPr/>
            <p:nvPr/>
          </p:nvSpPr>
          <p:spPr>
            <a:xfrm>
              <a:off x="7504200" y="209556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7704000" y="2120760"/>
                  <a:ext cx="609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55" name=""/>
            <p:cNvCxnSpPr>
              <a:endCxn id="549" idx="1"/>
            </p:cNvCxnSpPr>
            <p:nvPr/>
          </p:nvCxnSpPr>
          <p:spPr>
            <a:xfrm>
              <a:off x="4812840" y="243324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56" name=""/>
            <p:cNvSpPr/>
            <p:nvPr/>
          </p:nvSpPr>
          <p:spPr>
            <a:xfrm>
              <a:off x="6084720" y="2433600"/>
              <a:ext cx="2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1" idx="3"/>
              <a:endCxn id="553" idx="1"/>
            </p:cNvCxnSpPr>
            <p:nvPr/>
          </p:nvCxnSpPr>
          <p:spPr>
            <a:xfrm>
              <a:off x="7265880" y="2435400"/>
              <a:ext cx="23904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3" idx="3"/>
            </p:cNvCxnSpPr>
            <p:nvPr/>
          </p:nvCxnSpPr>
          <p:spPr>
            <a:xfrm flipV="1">
              <a:off x="8432280" y="243288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59" name=""/>
          <p:cNvGrpSpPr/>
          <p:nvPr/>
        </p:nvGrpSpPr>
        <p:grpSpPr>
          <a:xfrm>
            <a:off x="398520" y="3424320"/>
            <a:ext cx="3832200" cy="696960"/>
            <a:chOff x="398520" y="3424320"/>
            <a:chExt cx="3832200" cy="696960"/>
          </a:xfrm>
        </p:grpSpPr>
        <p:sp>
          <p:nvSpPr>
            <p:cNvPr id="560" name=""/>
            <p:cNvSpPr/>
            <p:nvPr/>
          </p:nvSpPr>
          <p:spPr>
            <a:xfrm>
              <a:off x="741240" y="3433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941400" y="3473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"/>
            <p:cNvSpPr/>
            <p:nvPr/>
          </p:nvSpPr>
          <p:spPr>
            <a:xfrm>
              <a:off x="1922400" y="34354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2122560" y="346860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3089160" y="3424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3289320" y="34639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66" name=""/>
            <p:cNvCxnSpPr>
              <a:endCxn id="560" idx="1"/>
            </p:cNvCxnSpPr>
            <p:nvPr/>
          </p:nvCxnSpPr>
          <p:spPr>
            <a:xfrm>
              <a:off x="398520" y="37764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67" name=""/>
            <p:cNvSpPr/>
            <p:nvPr/>
          </p:nvSpPr>
          <p:spPr>
            <a:xfrm>
              <a:off x="1670040" y="3776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8" name=""/>
            <p:cNvCxnSpPr>
              <a:stCxn id="562" idx="3"/>
              <a:endCxn id="564" idx="1"/>
            </p:cNvCxnSpPr>
            <p:nvPr/>
          </p:nvCxnSpPr>
          <p:spPr>
            <a:xfrm flipV="1">
              <a:off x="2850840" y="3766320"/>
              <a:ext cx="238680" cy="11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69" name=""/>
            <p:cNvCxnSpPr>
              <a:stCxn id="564" idx="3"/>
            </p:cNvCxnSpPr>
            <p:nvPr/>
          </p:nvCxnSpPr>
          <p:spPr>
            <a:xfrm flipV="1">
              <a:off x="4017600" y="3761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4842000" y="3424320"/>
            <a:ext cx="3832200" cy="696960"/>
            <a:chOff x="4842000" y="3424320"/>
            <a:chExt cx="3832200" cy="696960"/>
          </a:xfrm>
        </p:grpSpPr>
        <p:sp>
          <p:nvSpPr>
            <p:cNvPr id="571" name=""/>
            <p:cNvSpPr/>
            <p:nvPr/>
          </p:nvSpPr>
          <p:spPr>
            <a:xfrm>
              <a:off x="5184720" y="3433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5384880" y="3473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3" name=""/>
            <p:cNvSpPr/>
            <p:nvPr/>
          </p:nvSpPr>
          <p:spPr>
            <a:xfrm>
              <a:off x="6365880" y="34354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6566040" y="346860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5" name=""/>
            <p:cNvSpPr/>
            <p:nvPr/>
          </p:nvSpPr>
          <p:spPr>
            <a:xfrm>
              <a:off x="7532640" y="3424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7732800" y="34639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77" name=""/>
            <p:cNvCxnSpPr>
              <a:endCxn id="571" idx="1"/>
            </p:cNvCxnSpPr>
            <p:nvPr/>
          </p:nvCxnSpPr>
          <p:spPr>
            <a:xfrm>
              <a:off x="4842000" y="37764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78" name=""/>
            <p:cNvSpPr/>
            <p:nvPr/>
          </p:nvSpPr>
          <p:spPr>
            <a:xfrm>
              <a:off x="6113520" y="3776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3" idx="3"/>
              <a:endCxn id="575" idx="1"/>
            </p:cNvCxnSpPr>
            <p:nvPr/>
          </p:nvCxnSpPr>
          <p:spPr>
            <a:xfrm flipV="1">
              <a:off x="7294320" y="3766320"/>
              <a:ext cx="238680" cy="11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</p:cNvCxnSpPr>
            <p:nvPr/>
          </p:nvCxnSpPr>
          <p:spPr>
            <a:xfrm flipV="1">
              <a:off x="8461080" y="3761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81" name=""/>
          <p:cNvGrpSpPr/>
          <p:nvPr/>
        </p:nvGrpSpPr>
        <p:grpSpPr>
          <a:xfrm>
            <a:off x="393840" y="4643280"/>
            <a:ext cx="3832200" cy="690840"/>
            <a:chOff x="393840" y="4643280"/>
            <a:chExt cx="3832200" cy="690840"/>
          </a:xfrm>
        </p:grpSpPr>
        <p:sp>
          <p:nvSpPr>
            <p:cNvPr id="582" name=""/>
            <p:cNvSpPr/>
            <p:nvPr/>
          </p:nvSpPr>
          <p:spPr>
            <a:xfrm>
              <a:off x="736560" y="46432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946080" y="4683240"/>
                  <a:ext cx="590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"/>
            <p:cNvSpPr/>
            <p:nvPr/>
          </p:nvSpPr>
          <p:spPr>
            <a:xfrm>
              <a:off x="1917720" y="46450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117880" y="467820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3084480" y="4648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3284640" y="46735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88" name=""/>
            <p:cNvCxnSpPr>
              <a:endCxn id="582" idx="1"/>
            </p:cNvCxnSpPr>
            <p:nvPr/>
          </p:nvCxnSpPr>
          <p:spPr>
            <a:xfrm>
              <a:off x="393840" y="49860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89" name=""/>
            <p:cNvSpPr/>
            <p:nvPr/>
          </p:nvSpPr>
          <p:spPr>
            <a:xfrm>
              <a:off x="1665360" y="49863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0" name=""/>
            <p:cNvCxnSpPr>
              <a:stCxn id="584" idx="3"/>
              <a:endCxn id="586" idx="1"/>
            </p:cNvCxnSpPr>
            <p:nvPr/>
          </p:nvCxnSpPr>
          <p:spPr>
            <a:xfrm>
              <a:off x="2846160" y="4987440"/>
              <a:ext cx="23868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</p:cNvCxnSpPr>
            <p:nvPr/>
          </p:nvCxnSpPr>
          <p:spPr>
            <a:xfrm flipV="1">
              <a:off x="4012920" y="4985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92" name=""/>
          <p:cNvGrpSpPr/>
          <p:nvPr/>
        </p:nvGrpSpPr>
        <p:grpSpPr>
          <a:xfrm>
            <a:off x="4836600" y="4657680"/>
            <a:ext cx="3832920" cy="690480"/>
            <a:chOff x="4836600" y="4657680"/>
            <a:chExt cx="3832920" cy="690480"/>
          </a:xfrm>
        </p:grpSpPr>
        <p:sp>
          <p:nvSpPr>
            <p:cNvPr id="593" name=""/>
            <p:cNvSpPr/>
            <p:nvPr/>
          </p:nvSpPr>
          <p:spPr>
            <a:xfrm>
              <a:off x="5180040" y="4657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5380200" y="4697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5" name=""/>
            <p:cNvSpPr/>
            <p:nvPr/>
          </p:nvSpPr>
          <p:spPr>
            <a:xfrm>
              <a:off x="6361200" y="465948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561000" y="469260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"/>
            <p:cNvSpPr/>
            <p:nvPr/>
          </p:nvSpPr>
          <p:spPr>
            <a:xfrm>
              <a:off x="7527960" y="466236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28120" y="46879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99" name=""/>
            <p:cNvCxnSpPr>
              <a:endCxn id="593" idx="1"/>
            </p:cNvCxnSpPr>
            <p:nvPr/>
          </p:nvCxnSpPr>
          <p:spPr>
            <a:xfrm>
              <a:off x="4836600" y="500040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00" name=""/>
            <p:cNvSpPr/>
            <p:nvPr/>
          </p:nvSpPr>
          <p:spPr>
            <a:xfrm>
              <a:off x="6108840" y="5000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1" name=""/>
            <p:cNvCxnSpPr>
              <a:stCxn id="595" idx="3"/>
              <a:endCxn id="597" idx="1"/>
            </p:cNvCxnSpPr>
            <p:nvPr/>
          </p:nvCxnSpPr>
          <p:spPr>
            <a:xfrm>
              <a:off x="7289640" y="5001840"/>
              <a:ext cx="23904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97" idx="3"/>
            </p:cNvCxnSpPr>
            <p:nvPr/>
          </p:nvCxnSpPr>
          <p:spPr>
            <a:xfrm flipV="1">
              <a:off x="8456760" y="5000040"/>
              <a:ext cx="21312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03" name=""/>
          <p:cNvSpPr/>
          <p:nvPr/>
        </p:nvSpPr>
        <p:spPr>
          <a:xfrm>
            <a:off x="260280" y="558468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ličite ekvivalentne kaskadne realizacije različitim uparivanjem pol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AC07-F135-457C-BA7A-FEB48347C9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02840" y="2081160"/>
            <a:ext cx="3832560" cy="690480"/>
            <a:chOff x="402840" y="2081160"/>
            <a:chExt cx="3832560" cy="690480"/>
          </a:xfrm>
        </p:grpSpPr>
        <p:sp>
          <p:nvSpPr>
            <p:cNvPr id="606" name=""/>
            <p:cNvSpPr/>
            <p:nvPr/>
          </p:nvSpPr>
          <p:spPr>
            <a:xfrm>
              <a:off x="746280" y="208116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955800" y="2120760"/>
                  <a:ext cx="5904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"/>
            <p:cNvSpPr/>
            <p:nvPr/>
          </p:nvSpPr>
          <p:spPr>
            <a:xfrm>
              <a:off x="1927080" y="208296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2127240" y="211608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0" name=""/>
            <p:cNvSpPr/>
            <p:nvPr/>
          </p:nvSpPr>
          <p:spPr>
            <a:xfrm>
              <a:off x="3094200" y="208584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3294000" y="211140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12" name=""/>
            <p:cNvCxnSpPr>
              <a:endCxn id="606" idx="1"/>
            </p:cNvCxnSpPr>
            <p:nvPr/>
          </p:nvCxnSpPr>
          <p:spPr>
            <a:xfrm>
              <a:off x="402840" y="242388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13" name=""/>
            <p:cNvSpPr/>
            <p:nvPr/>
          </p:nvSpPr>
          <p:spPr>
            <a:xfrm>
              <a:off x="1674720" y="242424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08" idx="3"/>
              <a:endCxn id="610" idx="1"/>
            </p:cNvCxnSpPr>
            <p:nvPr/>
          </p:nvCxnSpPr>
          <p:spPr>
            <a:xfrm>
              <a:off x="2855880" y="2425320"/>
              <a:ext cx="23904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5" name=""/>
            <p:cNvCxnSpPr>
              <a:stCxn id="610" idx="3"/>
            </p:cNvCxnSpPr>
            <p:nvPr/>
          </p:nvCxnSpPr>
          <p:spPr>
            <a:xfrm flipV="1">
              <a:off x="4022280" y="242352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6" name=""/>
          <p:cNvGrpSpPr/>
          <p:nvPr/>
        </p:nvGrpSpPr>
        <p:grpSpPr>
          <a:xfrm>
            <a:off x="398520" y="3424320"/>
            <a:ext cx="3832200" cy="696960"/>
            <a:chOff x="398520" y="3424320"/>
            <a:chExt cx="3832200" cy="696960"/>
          </a:xfrm>
        </p:grpSpPr>
        <p:sp>
          <p:nvSpPr>
            <p:cNvPr id="617" name=""/>
            <p:cNvSpPr/>
            <p:nvPr/>
          </p:nvSpPr>
          <p:spPr>
            <a:xfrm>
              <a:off x="741240" y="3433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941400" y="3473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9" name=""/>
            <p:cNvSpPr/>
            <p:nvPr/>
          </p:nvSpPr>
          <p:spPr>
            <a:xfrm>
              <a:off x="1922400" y="34354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131920" y="3468600"/>
                  <a:ext cx="590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3089160" y="3424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3289320" y="34639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23" name=""/>
            <p:cNvCxnSpPr>
              <a:endCxn id="617" idx="1"/>
            </p:cNvCxnSpPr>
            <p:nvPr/>
          </p:nvCxnSpPr>
          <p:spPr>
            <a:xfrm>
              <a:off x="398520" y="37764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24" name=""/>
            <p:cNvSpPr/>
            <p:nvPr/>
          </p:nvSpPr>
          <p:spPr>
            <a:xfrm>
              <a:off x="1670040" y="3776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19" idx="3"/>
              <a:endCxn id="621" idx="1"/>
            </p:cNvCxnSpPr>
            <p:nvPr/>
          </p:nvCxnSpPr>
          <p:spPr>
            <a:xfrm flipV="1">
              <a:off x="2850840" y="3766320"/>
              <a:ext cx="238680" cy="11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6" name=""/>
            <p:cNvCxnSpPr>
              <a:stCxn id="621" idx="3"/>
            </p:cNvCxnSpPr>
            <p:nvPr/>
          </p:nvCxnSpPr>
          <p:spPr>
            <a:xfrm flipV="1">
              <a:off x="4017600" y="3761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27" name=""/>
          <p:cNvGrpSpPr/>
          <p:nvPr/>
        </p:nvGrpSpPr>
        <p:grpSpPr>
          <a:xfrm>
            <a:off x="4842000" y="3424320"/>
            <a:ext cx="3832200" cy="696960"/>
            <a:chOff x="4842000" y="3424320"/>
            <a:chExt cx="3832200" cy="696960"/>
          </a:xfrm>
        </p:grpSpPr>
        <p:sp>
          <p:nvSpPr>
            <p:cNvPr id="628" name=""/>
            <p:cNvSpPr/>
            <p:nvPr/>
          </p:nvSpPr>
          <p:spPr>
            <a:xfrm>
              <a:off x="5184720" y="3433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5384880" y="3473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0" name=""/>
            <p:cNvSpPr/>
            <p:nvPr/>
          </p:nvSpPr>
          <p:spPr>
            <a:xfrm>
              <a:off x="6365880" y="34354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6566040" y="346860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"/>
            <p:cNvSpPr/>
            <p:nvPr/>
          </p:nvSpPr>
          <p:spPr>
            <a:xfrm>
              <a:off x="7532640" y="3424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"/>
                <p:cNvSpPr txBox="1"/>
                <p:nvPr/>
              </p:nvSpPr>
              <p:spPr>
                <a:xfrm>
                  <a:off x="7742160" y="3463920"/>
                  <a:ext cx="590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34" name=""/>
            <p:cNvCxnSpPr>
              <a:endCxn id="628" idx="1"/>
            </p:cNvCxnSpPr>
            <p:nvPr/>
          </p:nvCxnSpPr>
          <p:spPr>
            <a:xfrm>
              <a:off x="4842000" y="37764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35" name=""/>
            <p:cNvSpPr/>
            <p:nvPr/>
          </p:nvSpPr>
          <p:spPr>
            <a:xfrm>
              <a:off x="6113520" y="3776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6" name=""/>
            <p:cNvCxnSpPr>
              <a:stCxn id="630" idx="3"/>
              <a:endCxn id="632" idx="1"/>
            </p:cNvCxnSpPr>
            <p:nvPr/>
          </p:nvCxnSpPr>
          <p:spPr>
            <a:xfrm flipV="1">
              <a:off x="7294320" y="3766320"/>
              <a:ext cx="238680" cy="11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37" name=""/>
            <p:cNvCxnSpPr>
              <a:stCxn id="632" idx="3"/>
            </p:cNvCxnSpPr>
            <p:nvPr/>
          </p:nvCxnSpPr>
          <p:spPr>
            <a:xfrm flipV="1">
              <a:off x="8461080" y="3761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393840" y="4643280"/>
            <a:ext cx="3832200" cy="690840"/>
            <a:chOff x="393840" y="4643280"/>
            <a:chExt cx="3832200" cy="690840"/>
          </a:xfrm>
        </p:grpSpPr>
        <p:sp>
          <p:nvSpPr>
            <p:cNvPr id="639" name=""/>
            <p:cNvSpPr/>
            <p:nvPr/>
          </p:nvSpPr>
          <p:spPr>
            <a:xfrm>
              <a:off x="736560" y="46432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936720" y="468324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1" name=""/>
            <p:cNvSpPr/>
            <p:nvPr/>
          </p:nvSpPr>
          <p:spPr>
            <a:xfrm>
              <a:off x="1917720" y="46450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127240" y="4678200"/>
                  <a:ext cx="5904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3084480" y="464832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3284640" y="4673520"/>
                  <a:ext cx="6094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45" name=""/>
            <p:cNvCxnSpPr>
              <a:endCxn id="639" idx="1"/>
            </p:cNvCxnSpPr>
            <p:nvPr/>
          </p:nvCxnSpPr>
          <p:spPr>
            <a:xfrm>
              <a:off x="393840" y="4986000"/>
              <a:ext cx="343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46" name=""/>
            <p:cNvSpPr/>
            <p:nvPr/>
          </p:nvSpPr>
          <p:spPr>
            <a:xfrm>
              <a:off x="1665360" y="49863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7" name=""/>
            <p:cNvCxnSpPr>
              <a:stCxn id="641" idx="3"/>
              <a:endCxn id="643" idx="1"/>
            </p:cNvCxnSpPr>
            <p:nvPr/>
          </p:nvCxnSpPr>
          <p:spPr>
            <a:xfrm>
              <a:off x="2846160" y="4987440"/>
              <a:ext cx="23868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48" name=""/>
            <p:cNvCxnSpPr>
              <a:stCxn id="643" idx="3"/>
            </p:cNvCxnSpPr>
            <p:nvPr/>
          </p:nvCxnSpPr>
          <p:spPr>
            <a:xfrm flipV="1">
              <a:off x="4012920" y="498564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49" name=""/>
          <p:cNvGrpSpPr/>
          <p:nvPr/>
        </p:nvGrpSpPr>
        <p:grpSpPr>
          <a:xfrm>
            <a:off x="4836600" y="4657680"/>
            <a:ext cx="3832920" cy="690480"/>
            <a:chOff x="4836600" y="4657680"/>
            <a:chExt cx="3832920" cy="690480"/>
          </a:xfrm>
        </p:grpSpPr>
        <p:sp>
          <p:nvSpPr>
            <p:cNvPr id="650" name=""/>
            <p:cNvSpPr/>
            <p:nvPr/>
          </p:nvSpPr>
          <p:spPr>
            <a:xfrm>
              <a:off x="5180040" y="465768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"/>
                <p:cNvSpPr txBox="1"/>
                <p:nvPr/>
              </p:nvSpPr>
              <p:spPr>
                <a:xfrm>
                  <a:off x="5380200" y="4697280"/>
                  <a:ext cx="6094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2" name=""/>
            <p:cNvSpPr/>
            <p:nvPr/>
          </p:nvSpPr>
          <p:spPr>
            <a:xfrm>
              <a:off x="6361200" y="465948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3" name=""/>
                <p:cNvSpPr txBox="1"/>
                <p:nvPr/>
              </p:nvSpPr>
              <p:spPr>
                <a:xfrm>
                  <a:off x="6561000" y="4692600"/>
                  <a:ext cx="609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4" name=""/>
            <p:cNvSpPr/>
            <p:nvPr/>
          </p:nvSpPr>
          <p:spPr>
            <a:xfrm>
              <a:off x="7527960" y="4662360"/>
              <a:ext cx="92880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7737480" y="4687920"/>
                  <a:ext cx="5904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56" name=""/>
            <p:cNvCxnSpPr>
              <a:endCxn id="650" idx="1"/>
            </p:cNvCxnSpPr>
            <p:nvPr/>
          </p:nvCxnSpPr>
          <p:spPr>
            <a:xfrm>
              <a:off x="4836600" y="500040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57" name=""/>
            <p:cNvSpPr/>
            <p:nvPr/>
          </p:nvSpPr>
          <p:spPr>
            <a:xfrm>
              <a:off x="6108840" y="5000760"/>
              <a:ext cx="2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2" idx="3"/>
              <a:endCxn id="654" idx="1"/>
            </p:cNvCxnSpPr>
            <p:nvPr/>
          </p:nvCxnSpPr>
          <p:spPr>
            <a:xfrm>
              <a:off x="7289640" y="5001840"/>
              <a:ext cx="23904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59" name=""/>
            <p:cNvCxnSpPr>
              <a:stCxn id="654" idx="3"/>
            </p:cNvCxnSpPr>
            <p:nvPr/>
          </p:nvCxnSpPr>
          <p:spPr>
            <a:xfrm flipV="1">
              <a:off x="8456760" y="5000040"/>
              <a:ext cx="21312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60" name=""/>
          <p:cNvGrpSpPr/>
          <p:nvPr/>
        </p:nvGrpSpPr>
        <p:grpSpPr>
          <a:xfrm>
            <a:off x="4812840" y="2090880"/>
            <a:ext cx="3832560" cy="690480"/>
            <a:chOff x="4812840" y="2090880"/>
            <a:chExt cx="3832560" cy="690480"/>
          </a:xfrm>
        </p:grpSpPr>
        <p:sp>
          <p:nvSpPr>
            <p:cNvPr id="661" name=""/>
            <p:cNvSpPr/>
            <p:nvPr/>
          </p:nvSpPr>
          <p:spPr>
            <a:xfrm>
              <a:off x="5156280" y="209088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2" name=""/>
                <p:cNvSpPr txBox="1"/>
                <p:nvPr/>
              </p:nvSpPr>
              <p:spPr>
                <a:xfrm>
                  <a:off x="5365800" y="2130480"/>
                  <a:ext cx="5904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3" name=""/>
            <p:cNvSpPr/>
            <p:nvPr/>
          </p:nvSpPr>
          <p:spPr>
            <a:xfrm>
              <a:off x="6337440" y="209232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04200" y="2095560"/>
              <a:ext cx="92844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7704000" y="2120760"/>
                  <a:ext cx="609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666" name=""/>
            <p:cNvCxnSpPr>
              <a:endCxn id="661" idx="1"/>
            </p:cNvCxnSpPr>
            <p:nvPr/>
          </p:nvCxnSpPr>
          <p:spPr>
            <a:xfrm>
              <a:off x="4812840" y="2433240"/>
              <a:ext cx="343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6084720" y="2433600"/>
              <a:ext cx="2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8" name=""/>
            <p:cNvCxnSpPr>
              <a:stCxn id="663" idx="3"/>
              <a:endCxn id="664" idx="1"/>
            </p:cNvCxnSpPr>
            <p:nvPr/>
          </p:nvCxnSpPr>
          <p:spPr>
            <a:xfrm>
              <a:off x="7265880" y="2435400"/>
              <a:ext cx="23904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69" name=""/>
            <p:cNvCxnSpPr>
              <a:stCxn id="664" idx="3"/>
            </p:cNvCxnSpPr>
            <p:nvPr/>
          </p:nvCxnSpPr>
          <p:spPr>
            <a:xfrm flipV="1">
              <a:off x="8432280" y="2432880"/>
              <a:ext cx="21348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518160" y="2120760"/>
                  <a:ext cx="609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1" name=""/>
          <p:cNvSpPr/>
          <p:nvPr/>
        </p:nvSpPr>
        <p:spPr>
          <a:xfrm>
            <a:off x="260280" y="558468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ličite ekvivalentne kaskadne realizacije promjenom redoslijeda se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82DF-2BAE-487A-AB0A-1FCB800ED6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17080" y="1819440"/>
            <a:ext cx="877428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bijanje transfer funkcije H(z) na sekcije drugog 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49440" y="2719440"/>
                <a:ext cx="32749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217440" y="3954600"/>
            <a:ext cx="877428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 L najveći cijeli broj sadržan u (N+1)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 = b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 = G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G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G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oditi računa o uparivanju polova i nula u aritmetici konačne duljine riječ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65640" y="2690640"/>
                <a:ext cx="4219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8D91-C7E7-435A-8864-A50E5699182C}" type="slidenum">
              <a:t>52</a:t>
            </a:fld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askad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30120" y="2346480"/>
            <a:ext cx="8382240" cy="25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1] –a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2] +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1, 2,..., 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1] + b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G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30120" y="1400040"/>
          <a:ext cx="8737560" cy="14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400040"/>
                    <a:ext cx="873756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3417840" y="4103640"/>
          <a:ext cx="5343480" cy="27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7840" y="4103640"/>
                    <a:ext cx="53434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EE0B-4839-4A2C-A0A3-65559D5299C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aralel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8040" y="2403360"/>
                <a:ext cx="38163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674640" y="5105520"/>
            <a:ext cx="8317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su p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polovi, a A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eficijenti u rastavu na parcijalne razlom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300384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674640" y="3586320"/>
                <a:ext cx="1216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3774960" y="1447920"/>
          <a:ext cx="53690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4960" y="1447920"/>
                    <a:ext cx="5369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B4AD-146B-446E-BA32-EC95DAC9F699}" type="slidenum">
              <a:t>54</a:t>
            </a:fld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aralelna realizacija IIR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mbiniraju se konjugirano kompleksni polo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575240" y="2266920"/>
                <a:ext cx="41860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1042920" y="2305080"/>
                <a:ext cx="33782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694" name=""/>
          <p:cNvGraphicFramePr/>
          <p:nvPr/>
        </p:nvGraphicFramePr>
        <p:xfrm>
          <a:off x="595440" y="3343320"/>
          <a:ext cx="53434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3343320"/>
                    <a:ext cx="53434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4122720" y="5229360"/>
            <a:ext cx="4859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= -a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1] – a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2] +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= b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] + b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186080" y="6024600"/>
                <a:ext cx="2874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759C-D914-4F8F-AA19-AD90297DED7B}" type="slidenum">
              <a:t>55</a:t>
            </a:fld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cccc"/>
                </a:solidFill>
                <a:latin typeface="Times New Roman"/>
              </a:rPr>
              <a:t>Litera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. V. Oppenheim, R. W.Schafer: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Discrete-Time Signal Processing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(poglavlj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6.5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Basic Network Structures for FIR System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John G. Proakis, Dimitris G. Manolakis: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tion to Digital Signal Process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(poglavlj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7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Realization of Discrete-Time Systems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S. K. Mitra: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gital Signal Processing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(poglavlje 6: Digital Filter Structu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D23F-647B-43A2-A1FF-F1FF4565AC40}" type="slidenum">
              <a:t>56</a:t>
            </a:fld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eđutim, direktna implementacija digitalnih filtara temeljena bilo na jednadžbi diferencija bilo na konačnoj konvolucijskoj sumaciji često može rezultirati nezadovoljavajućim performansama zbog aritmetike konačne precizn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praktičnog je interesa razviti alternativne realizacije i izabrati strukture koje daju zadovoljavajuće performanse uz aritmetiku konačne preciz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arsk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9A10-8815-437D-B911-927455C3B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012760"/>
            <a:ext cx="777240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trukturalni prikaz pomoću elementarnih blokova - blok dijagram - je prvi korak u sklopovskoj ili programskoj realizaciji LTI digitaln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lok dijagram omogućava dobar uvid o odnose unutarnjih varijabli te ulaza i izl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Filtarske struk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C2A6-D66B-43E1-86EC-2F6BAE52D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cccc"/>
                </a:solidFill>
                <a:latin typeface="Times New Roman"/>
              </a:rPr>
              <a:t>Elementi blok dijagram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računalne algoritme za realizaciju digitalnih filtara moguće je pogodno prikazati pomoću blok dijagrama koristeći elementarne gradivne blok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51520" y="3378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83800" y="3600360"/>
            <a:ext cx="6845040" cy="2850120"/>
            <a:chOff x="883800" y="3600360"/>
            <a:chExt cx="6845040" cy="2850120"/>
          </a:xfrm>
        </p:grpSpPr>
        <p:sp>
          <p:nvSpPr>
            <p:cNvPr id="100" name=""/>
            <p:cNvSpPr/>
            <p:nvPr/>
          </p:nvSpPr>
          <p:spPr>
            <a:xfrm rot="5329800">
              <a:off x="5797440" y="379080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3200" y="3994200"/>
              <a:ext cx="5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4640" y="398124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93680" y="3752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8880" y="371484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83800" y="3600360"/>
              <a:ext cx="6845040" cy="2850120"/>
              <a:chOff x="883800" y="3600360"/>
              <a:chExt cx="6845040" cy="285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2406600" y="3676680"/>
                <a:ext cx="304920" cy="304560"/>
              </a:xfrm>
              <a:prstGeom prst="ellipse">
                <a:avLst/>
              </a:prstGeom>
              <a:solidFill>
                <a:srgbClr val="66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62000" y="3841560"/>
                <a:ext cx="45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24120" y="3841560"/>
                <a:ext cx="45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558880" y="398088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88360" y="362592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45400" y="3600360"/>
                <a:ext cx="6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41280" y="424800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2444760" y="3701880"/>
                    <a:ext cx="2649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"/>
              <p:cNvSpPr/>
              <p:nvPr/>
            </p:nvSpPr>
            <p:spPr>
              <a:xfrm>
                <a:off x="3550320" y="5365800"/>
                <a:ext cx="6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65400" y="5289480"/>
                <a:ext cx="609480" cy="53352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55920" y="5556240"/>
                <a:ext cx="609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74880" y="5556240"/>
                <a:ext cx="60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241720" y="5327640"/>
                    <a:ext cx="45720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883800" y="53276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97520" y="5073480"/>
                <a:ext cx="1981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97520" y="5073480"/>
                <a:ext cx="53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87880" y="5073480"/>
                <a:ext cx="0" cy="53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50080" y="502272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12440" y="4844880"/>
                <a:ext cx="6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n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55640" y="4819680"/>
                <a:ext cx="6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n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33280" y="5530680"/>
                <a:ext cx="6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[n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01680" y="4654440"/>
                <a:ext cx="100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zbrajal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86640" y="5989680"/>
                <a:ext cx="230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element za kašnjenj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66760" y="4386240"/>
                <a:ext cx="24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množilo s konstantom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00280" y="6051600"/>
                <a:ext cx="15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čvor račvanj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3EBB-4517-4EE9-9304-E92A4A375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Arial"/>
              </a:rPr>
              <a:t>Blok dijagra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dnosti prikaza sustava pomoću blok dija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o je napisati računalni algoritam uvidom u blok dij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o je analizirati blok dijagram kako bi se odredio eksplicitni odnos ulaza i izl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4E2D-BF63-4FD5-84F5-459B13C9F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1-12T10:38:40Z</cp:lastPrinted>
  <dcterms:modified xsi:type="dcterms:W3CDTF">2003-12-04T16:08:02Z</dcterms:modified>
  <cp:revision>932</cp:revision>
  <dc:subject>Digitalna obradba signala</dc:subject>
  <dc:title>FIR i IIR filtarske strukture</dc:title>
</cp:coreProperties>
</file>