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1440" y="10800"/>
            <a:ext cx="3078000" cy="4777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i="1" lang="hr-H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021200" y="10800"/>
            <a:ext cx="3078000" cy="4777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i="1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i="1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-1440" y="9743760"/>
            <a:ext cx="3078000" cy="4777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i="1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i="1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4021200" y="9743760"/>
            <a:ext cx="3078000" cy="4777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i="1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69A2379B-375D-4472-88CD-299F7C0F79CC}" type="slidenum">
              <a:rPr b="0" i="1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942480" y="4875120"/>
            <a:ext cx="5208840" cy="43293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Img"/>
          </p:nvPr>
        </p:nvSpPr>
        <p:spPr>
          <a:xfrm>
            <a:off x="1163160" y="896760"/>
            <a:ext cx="4768920" cy="357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4019400" y="7920"/>
            <a:ext cx="30798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019400" y="9740880"/>
            <a:ext cx="30798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-3240" y="9740880"/>
            <a:ext cx="30765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-3240" y="7920"/>
            <a:ext cx="30765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63520" y="896760"/>
            <a:ext cx="4768920" cy="35769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42480" y="4875120"/>
            <a:ext cx="5208840" cy="43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63520" y="896760"/>
            <a:ext cx="4768920" cy="357696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42480" y="4875120"/>
            <a:ext cx="5208840" cy="43293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kreni primjer.m. Prvo se crta željena karakteristika kao na slajdu. T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 potrebno unijeti red filtra. Program tada redom ispiše koeficijente filtr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rta frekvencijsku karakteristiku i ispiše maksimalna odstupanja del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63520" y="896760"/>
            <a:ext cx="4768920" cy="357696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42480" y="4875120"/>
            <a:ext cx="5208840" cy="43293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primjer.m -&gt; projektiranje multiband remez fil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filtdemo -&gt; usporedba remez / kaiser / iir za razlicite parame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1. 2000/500/600Hz, 3/50 dB -&gt; remez, kai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2. 3/70 dB -&gt; remez, kai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3. 550Hz - 520H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4. 515 -&gt; remez, kaiser, ellipt, chebb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5. ecentualno 502,  .... dugio traje za rem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22F8-1760-47FA-B788-2106A8ECB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060800"/>
            <a:ext cx="83822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B3A4-940F-4C21-B892-4ACEF42D8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04640" y="17521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06080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04640" y="406080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AC8B9-0EF6-4528-BA3E-483B3D67A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43760" y="175212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78040" y="175212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06080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43760" y="406080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78040" y="406080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9EB7-C60C-4F26-B407-3B359B42CE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E1DE1-F15B-4DB5-8379-37EC92A056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AF36-4549-4DD6-AA6B-D591F02C7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090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04640" y="1752120"/>
            <a:ext cx="4090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2673-153E-42C1-AD64-82070AE54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51C6-3056-4446-9141-BC764B639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76197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3EAC-7A13-4F8F-8AF5-47C4CD6E7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4640" y="1752120"/>
            <a:ext cx="4090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06080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755E-7DF3-4759-AF50-144A56C18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090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4640" y="17521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04640" y="406080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FEFC-2050-4EEF-89D2-902DBE12C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4640" y="17521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060800"/>
            <a:ext cx="83822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2A26-E1C6-4C6D-B62E-F63EE3CB8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086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316D4C-0465-469D-9928-D9FC74911868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fffe"/>
                </a:solidFill>
                <a:latin typeface="Times New Roman"/>
              </a:rPr>
              <a:t>Projektiranje optimalnih FIR filtara</a:t>
            </a:r>
            <a:endParaRPr b="0" i="1" lang="en-US" sz="5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gitalna obradba signa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5365-73ED-44AA-BA3E-354F48E110D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Numeričko projektiranje</a:t>
            </a:r>
            <a:br>
              <a:rPr sz="4400"/>
            </a:b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FIR filtara jednake valovitosti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Za projektiranje fil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    </a:t>
            </a:r>
            <a:r>
              <a:rPr b="0" lang="hr-HR" sz="3200" spc="-1" strike="noStrike">
                <a:solidFill>
                  <a:srgbClr val="99ff33"/>
                </a:solidFill>
                <a:latin typeface="Times New Roman"/>
              </a:rPr>
              <a:t>treba zadovoljiti gornji zahtjev s valovitošću         u pojasu propuštanja i valovitošću      u pojasu gušenj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057400" y="2362320"/>
                <a:ext cx="55753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a pojas propuštanja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a pojas gušenj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066680" y="3581280"/>
                <a:ext cx="9399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˘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048120" y="4038480"/>
                <a:ext cx="736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048120" y="4572000"/>
                <a:ext cx="3808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5107-3B2C-41FE-87B7-FC0E1E0635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Numeričko projektiranje</a:t>
            </a:r>
            <a:br>
              <a:rPr sz="4400"/>
            </a:b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FIR filtara jednake valovitosti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Zato težinska funkcija može biti izabrana k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447920" y="2362320"/>
                <a:ext cx="64818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 pojasu propuštanja</m:t>
                              </m:r>
                            </m:e>
                          </m:mr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 pojasu gušenj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447920" y="4191120"/>
                <a:ext cx="64926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 pojasu propuštanja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 pojasu gušenj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D8D0-5247-4266-AE3A-6BE2FE1006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Numeričko projektiranje</a:t>
            </a:r>
            <a:br>
              <a:rPr sz="4400"/>
            </a:b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FIR filtara jednake valovitosti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ff33"/>
                </a:solidFill>
                <a:latin typeface="Times New Roman"/>
              </a:rPr>
              <a:t>Tip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 1</a:t>
            </a:r>
            <a:r>
              <a:rPr b="1" lang="hr-HR" sz="3200" spc="-1" strike="noStrike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gdje 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ff33"/>
                </a:solidFill>
                <a:latin typeface="Times New Roman"/>
              </a:rPr>
              <a:t>Tip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 2</a:t>
            </a:r>
            <a:r>
              <a:rPr b="1" lang="hr-HR" sz="3200" spc="-1" strike="noStrike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gdje 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411280" y="1557360"/>
          <a:ext cx="371484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557360"/>
                    <a:ext cx="37148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411280" y="3933720"/>
          <a:ext cx="514368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3933720"/>
                    <a:ext cx="51436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763640" y="3062160"/>
          <a:ext cx="705024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3640" y="3062160"/>
                    <a:ext cx="70502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1952640" y="5251320"/>
          <a:ext cx="6075360" cy="98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52640" y="5251320"/>
                    <a:ext cx="607536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29478-26F5-42B0-9A28-0BD5CA5ECF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Numeričko projektiranje</a:t>
            </a:r>
            <a:br>
              <a:rPr sz="4400"/>
            </a:b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FIR filtara jednake valovitosti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ff33"/>
                </a:solidFill>
                <a:latin typeface="Times New Roman"/>
              </a:rPr>
              <a:t>Tip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 3</a:t>
            </a:r>
            <a:r>
              <a:rPr b="1" lang="hr-HR" sz="3200" spc="-1" strike="noStrike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gdje 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T</a:t>
            </a:r>
            <a:r>
              <a:rPr b="1" lang="hr-HR" sz="3200" spc="-1" strike="noStrike">
                <a:solidFill>
                  <a:srgbClr val="99ff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p 4</a:t>
            </a:r>
            <a:r>
              <a:rPr b="1" lang="hr-HR" sz="3200" spc="-1" strike="noStrike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gdje 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535120" y="1557360"/>
          <a:ext cx="362124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5120" y="1557360"/>
                    <a:ext cx="36212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411280" y="3933720"/>
          <a:ext cx="527220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3933720"/>
                    <a:ext cx="52722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47840" y="2917800"/>
          <a:ext cx="470052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7840" y="2917800"/>
                    <a:ext cx="47005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763640" y="5365800"/>
          <a:ext cx="6265800" cy="98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3640" y="5365800"/>
                    <a:ext cx="626580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855F-B297-419C-85AA-41FDAAF92E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Numeričko projektiranje</a:t>
            </a:r>
            <a:br>
              <a:rPr sz="4400"/>
            </a:b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FIR filtara jednake valovitosti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Amplitudna karakteristika za sva četiri tipa FIR filtra s linearnom fazom može biti prikazana k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gdje 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048120" y="3200400"/>
                <a:ext cx="30099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˘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676520" y="4114800"/>
                <a:ext cx="4703760" cy="24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a tip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/2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a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ip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a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ip</m:t>
                              </m:r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ω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a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ip</m:t>
                              </m:r>
                              <m:r>
                                <m:t xml:space="preserve"> 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E5A2-22C5-42F3-AD01-F97781E05F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Numeričko projektiranje</a:t>
            </a:r>
            <a:br>
              <a:rPr sz="4400"/>
            </a:b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FIR filtara jednake valovitosti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gdje j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835280" y="1557360"/>
          <a:ext cx="362088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557360"/>
                    <a:ext cx="36208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158920" y="3741840"/>
          <a:ext cx="4430880" cy="25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58920" y="3741840"/>
                    <a:ext cx="443088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4197-263D-4372-A5B1-B681877259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Numeričko projektiranje</a:t>
            </a:r>
            <a:br>
              <a:rPr sz="4400"/>
            </a:b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FIR filtara jednake valovitosti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Što su         ,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        </a:t>
            </a: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  i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       </a:t>
            </a: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209680" y="1905120"/>
                <a:ext cx="3714840" cy="24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a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ip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a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ip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a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ip</m:t>
                              </m:r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a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ip</m:t>
                              </m:r>
                              <m:r>
                                <m:t xml:space="preserve"> 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8" name=""/>
          <p:cNvGraphicFramePr/>
          <p:nvPr/>
        </p:nvGraphicFramePr>
        <p:xfrm>
          <a:off x="2268360" y="4653000"/>
          <a:ext cx="73044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4653000"/>
                    <a:ext cx="7304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197160" y="4724280"/>
          <a:ext cx="72720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97160" y="4724280"/>
                    <a:ext cx="7272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456080" y="4653000"/>
          <a:ext cx="76356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56080" y="4653000"/>
                    <a:ext cx="76356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A619-9FA4-4FCD-B28A-EC4C431E42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Numeričko projektiranje</a:t>
            </a:r>
            <a:br>
              <a:rPr sz="4400"/>
            </a:b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FIR filtara jednake valovitosti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Što je         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 tip 2 vrije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dje 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Moguća je transformacija koja vodi 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24000" y="1746360"/>
          <a:ext cx="730440" cy="60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746360"/>
                    <a:ext cx="73044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1476360" y="2925720"/>
          <a:ext cx="530532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2925720"/>
                    <a:ext cx="53053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268360" y="3919680"/>
          <a:ext cx="6053400" cy="98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3919680"/>
                    <a:ext cx="605340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709640" y="5427720"/>
          <a:ext cx="5610240" cy="114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9640" y="5427720"/>
                    <a:ext cx="561024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AA6D-BC33-47F3-BBA4-73CF07E535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Numeričko projektiranje</a:t>
            </a:r>
            <a:br>
              <a:rPr sz="4400"/>
            </a:b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FIR filtara jednake valovitosti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 kakvoj su vezi           i        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165320" y="3581280"/>
                <a:ext cx="41274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~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[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7" name=""/>
          <p:cNvGraphicFramePr/>
          <p:nvPr/>
        </p:nvGraphicFramePr>
        <p:xfrm>
          <a:off x="1555920" y="1541520"/>
          <a:ext cx="56116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920" y="1541520"/>
                    <a:ext cx="56116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158840" y="4572000"/>
          <a:ext cx="3992760" cy="104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8840" y="4572000"/>
                    <a:ext cx="399276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219320" y="5562720"/>
                <a:ext cx="331632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92" name=""/>
          <p:cNvGraphicFramePr/>
          <p:nvPr/>
        </p:nvGraphicFramePr>
        <p:xfrm>
          <a:off x="6180120" y="4572000"/>
          <a:ext cx="2502000" cy="104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80120" y="4572000"/>
                    <a:ext cx="250200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137200" y="2897280"/>
          <a:ext cx="730080" cy="60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37200" y="2897280"/>
                    <a:ext cx="73008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886200" y="2971800"/>
          <a:ext cx="777960" cy="541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2971800"/>
                    <a:ext cx="7779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2ED6-C969-481A-8C63-34E0DE6300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Numeričko projektiranje</a:t>
            </a:r>
            <a:br>
              <a:rPr sz="4400"/>
            </a:b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FIR filtara jednake valovitosti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Modificirani oblik funkcije greške 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z notacij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905120" y="2438280"/>
                <a:ext cx="5016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540160" y="2878200"/>
                <a:ext cx="42415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603520" y="3619440"/>
                <a:ext cx="3556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009960" y="4724280"/>
                <a:ext cx="30988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048120" y="5410080"/>
                <a:ext cx="32256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ω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1447920" y="2374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ZapfChancery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169B8-195F-4335-9B7F-40D2639AD3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Valovitost kod filtar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Filtri dobiveni metodom vremenskih otv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valovitost definirana vrstom vremenskog otvor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nemogućnost kontrole nad valovitostima u pojedinim frekvencijskim područj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Filtri dobiveni korištenjem adaptivnih vremenskih otvora (Kaiser, Dolph-Chebyshe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omogućuju kontrolu minimalnog guše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Optimalni FIR filt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ontrola valovitosti za svako pojedino područje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D6D3-A195-4F9B-A3BB-A57B7CD0F9E7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Numeričko projektiranje</a:t>
            </a:r>
            <a:br>
              <a:rPr sz="4400"/>
            </a:b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FIR filtara jednake valovitosti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ff00"/>
                </a:solidFill>
                <a:uFillTx/>
                <a:latin typeface="Times New Roman"/>
              </a:rPr>
              <a:t>Optimizacijski proble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dredi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koji minimiziraju maksimalnu vrijednost     o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za specificirano frekvencijsko područ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9ff33"/>
                </a:solidFill>
                <a:latin typeface="Times New Roman"/>
              </a:rPr>
              <a:t>Kada su određeni          računaju se odgovarajući koeficijenti originala             . Iz njih se tada određuju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fcc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]</a:t>
            </a:r>
            <a:r>
              <a:rPr b="0" lang="hr-HR" sz="3200" spc="-1" strike="noStrike">
                <a:solidFill>
                  <a:srgbClr val="99ff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19280" y="2924280"/>
          <a:ext cx="590544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924280"/>
                    <a:ext cx="59054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6765840" y="1822320"/>
          <a:ext cx="75888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5840" y="1822320"/>
                    <a:ext cx="75888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620120" y="4114800"/>
                <a:ext cx="939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086600" y="2438280"/>
                <a:ext cx="20160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858000" y="5029200"/>
                <a:ext cx="1155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5" name=""/>
          <p:cNvGraphicFramePr/>
          <p:nvPr/>
        </p:nvGraphicFramePr>
        <p:xfrm>
          <a:off x="3995640" y="4630680"/>
          <a:ext cx="75888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5640" y="4630680"/>
                    <a:ext cx="75888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FD3E7-E946-4D0A-8F20-0E37C1AE15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Numeričko projektiranje</a:t>
            </a:r>
            <a:br>
              <a:rPr sz="4400"/>
            </a:b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FIR filtara jednake valovitosti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33"/>
                </a:solidFill>
                <a:uFillTx/>
                <a:latin typeface="Times New Roman"/>
              </a:rPr>
              <a:t>Alternacijski  teorem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najbolje jedinstveno rješenje u minimizaciji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o i samo ako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stoje najmanje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+ 2 točk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takve da j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                             ,                  za                     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682720" y="2362320"/>
          <a:ext cx="43228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720" y="2362320"/>
                    <a:ext cx="43228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8458200" y="3276720"/>
                <a:ext cx="23976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838080" y="4952880"/>
                <a:ext cx="28828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400800" y="5486400"/>
                <a:ext cx="19810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715000" y="4876920"/>
                <a:ext cx="31352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066680" y="5486400"/>
                <a:ext cx="28576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191120" y="5486400"/>
                <a:ext cx="1638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990720" y="3657600"/>
                <a:ext cx="75898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ω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ω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C4B28-D527-42BD-8217-F9C989F01E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Numeričko projektiranje</a:t>
            </a:r>
            <a:br>
              <a:rPr sz="4400"/>
            </a:b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FIR filtara - primjer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imjer niskopropusnog FIR filtra tipa 1. reda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 ovom slučaju je                     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ka 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66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= [0, </a:t>
            </a:r>
            <a:r>
              <a:rPr b="0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66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]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66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                                 za </a:t>
            </a:r>
            <a:r>
              <a:rPr b="0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[0, </a:t>
            </a:r>
            <a:r>
              <a:rPr b="0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66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                                 za </a:t>
            </a:r>
            <a:r>
              <a:rPr b="0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66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žinska funkcija definira da će valovitost u pojasu gušenja biti polovica valovitosti u pojasu propuštan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90720" y="3657600"/>
                <a:ext cx="24368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191120"/>
                <a:ext cx="25257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916440" y="3657600"/>
                <a:ext cx="25272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886200" y="4191120"/>
                <a:ext cx="25876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657600" y="2147760"/>
                <a:ext cx="19922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˘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8ADB-2C69-45A1-93F7-417F226ECB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Numeričko projektiranje</a:t>
            </a:r>
            <a:br>
              <a:rPr sz="4400"/>
            </a:b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FIR filtara - primjer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Ekstremi od </a:t>
            </a:r>
            <a:r>
              <a:rPr b="0" lang="en-US" sz="3600" spc="-1" strike="noStrike">
                <a:solidFill>
                  <a:srgbClr val="ffcc00"/>
                </a:solidFill>
                <a:latin typeface="ZapfChancery"/>
              </a:rPr>
              <a:t>E</a:t>
            </a:r>
            <a:r>
              <a:rPr b="0" lang="hr-HR" sz="3200" spc="-1" strike="noStrike">
                <a:solidFill>
                  <a:srgbClr val="ffcc00"/>
                </a:solidFill>
                <a:latin typeface="Times New Roman"/>
              </a:rPr>
              <a:t>(</a:t>
            </a:r>
            <a:r>
              <a:rPr b="0" lang="hr-HR" sz="3200" spc="-1" strike="noStrike">
                <a:solidFill>
                  <a:srgbClr val="ffcc00"/>
                </a:solidFill>
                <a:latin typeface="Symbol"/>
                <a:ea typeface="Symbol"/>
              </a:rPr>
              <a:t></a:t>
            </a:r>
            <a:r>
              <a:rPr b="0" lang="hr-HR" sz="32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su u </a:t>
            </a:r>
            <a:r>
              <a:rPr b="0" lang="hr-HR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 = </a:t>
            </a:r>
            <a:r>
              <a:rPr b="0" lang="hr-HR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r>
              <a:rPr b="0" i="1" lang="hr-HR" sz="3200" spc="-1" strike="noStrike" baseline="-25000">
                <a:solidFill>
                  <a:srgbClr val="ff6600"/>
                </a:solidFill>
                <a:latin typeface="Times New Roman"/>
              </a:rPr>
              <a:t>i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0 </a:t>
            </a:r>
            <a:r>
              <a:rPr b="0" lang="hr-HR" sz="3200" spc="-1" strike="noStrike">
                <a:solidFill>
                  <a:srgbClr val="ff6600"/>
                </a:solidFill>
                <a:latin typeface="Symbol"/>
                <a:ea typeface="Symbol"/>
              </a:rPr>
              <a:t></a:t>
            </a: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i="1" lang="hr-HR" sz="32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6600"/>
                </a:solidFill>
                <a:latin typeface="Symbol"/>
                <a:ea typeface="Symbol"/>
              </a:rPr>
              <a:t></a:t>
            </a: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i="1" lang="hr-HR" sz="3200" spc="-1" strike="noStrike">
                <a:solidFill>
                  <a:srgbClr val="ff6600"/>
                </a:solidFill>
                <a:latin typeface="Times New Roman"/>
              </a:rPr>
              <a:t>L</a:t>
            </a: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 + 1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i u njima 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Za </a:t>
            </a:r>
            <a:r>
              <a:rPr b="0" lang="hr-HR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6600"/>
                </a:solidFill>
                <a:latin typeface="Symbol"/>
                <a:ea typeface="Symbol"/>
              </a:rPr>
              <a:t></a:t>
            </a:r>
            <a:r>
              <a:rPr b="0" lang="hr-HR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[0, </a:t>
            </a:r>
            <a:r>
              <a:rPr b="0" lang="hr-HR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r>
              <a:rPr b="0" lang="hr-HR" sz="3200" spc="-1" strike="noStrike" baseline="-25000">
                <a:solidFill>
                  <a:srgbClr val="ff6600"/>
                </a:solidFill>
                <a:latin typeface="Times New Roman"/>
              </a:rPr>
              <a:t>p</a:t>
            </a: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]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 za</a:t>
            </a: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6600"/>
                </a:solidFill>
                <a:latin typeface="Symbol"/>
                <a:ea typeface="Symbol"/>
              </a:rPr>
              <a:t></a:t>
            </a: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 [</a:t>
            </a:r>
            <a:r>
              <a:rPr b="0" lang="hr-HR" sz="3200" spc="-1" strike="noStrike">
                <a:solidFill>
                  <a:srgbClr val="ff6600"/>
                </a:solidFill>
                <a:latin typeface="Symbol"/>
                <a:ea typeface="Symbol"/>
              </a:rPr>
              <a:t></a:t>
            </a:r>
            <a:r>
              <a:rPr b="0" lang="hr-HR" sz="3200" spc="-1" strike="noStrike" baseline="-25000">
                <a:solidFill>
                  <a:srgbClr val="ff6600"/>
                </a:solidFill>
                <a:latin typeface="Times New Roman"/>
              </a:rPr>
              <a:t>s</a:t>
            </a: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, </a:t>
            </a:r>
            <a:r>
              <a:rPr b="0" lang="hr-HR" sz="3200" spc="-1" strike="noStrike">
                <a:solidFill>
                  <a:srgbClr val="ff6600"/>
                </a:solidFill>
                <a:latin typeface="Symbol"/>
                <a:ea typeface="Symbol"/>
              </a:rPr>
              <a:t></a:t>
            </a:r>
            <a:r>
              <a:rPr b="0" lang="hr-HR" sz="3200" spc="-1" strike="noStrike">
                <a:solidFill>
                  <a:srgbClr val="ff6600"/>
                </a:solidFill>
                <a:latin typeface="Times New Roman"/>
              </a:rPr>
              <a:t>]           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br>
              <a:rPr sz="3200"/>
            </a:b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u konstante pa vrije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a za naš primjer vrijedi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172200" y="3276720"/>
                <a:ext cx="979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7620120" y="3276720"/>
                <a:ext cx="1042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819520" y="2286000"/>
                <a:ext cx="18237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057400" y="4343400"/>
                <a:ext cx="54388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513A-EC18-43FE-A00F-0223C01B32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Numeričko projektiranje</a:t>
            </a:r>
            <a:br>
              <a:rPr sz="4400"/>
            </a:b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FIR filtara - primjer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15238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4343400"/>
            <a:ext cx="6782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00600" y="1828800"/>
            <a:ext cx="0" cy="28195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4120" y="403848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76160" y="23623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403848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48760" y="1676520"/>
            <a:ext cx="9014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49120" y="2971800"/>
            <a:ext cx="88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4880" y="3733920"/>
            <a:ext cx="404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52600" y="4495680"/>
            <a:ext cx="556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8480" y="457200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86520" y="4572000"/>
            <a:ext cx="462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19040" y="4572000"/>
            <a:ext cx="35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29600" y="4267080"/>
            <a:ext cx="39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76520" y="4114800"/>
            <a:ext cx="336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81080" y="4038480"/>
            <a:ext cx="5867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81080" y="4648320"/>
            <a:ext cx="5867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981080" y="320040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81080" y="182880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1080" y="2514600"/>
            <a:ext cx="281952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4120" y="4343400"/>
            <a:ext cx="25146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5960" y="1523880"/>
            <a:ext cx="7759800" cy="3129120"/>
            <a:chOff x="75960" y="1523880"/>
            <a:chExt cx="7759800" cy="3129120"/>
          </a:xfrm>
        </p:grpSpPr>
        <p:sp>
          <p:nvSpPr>
            <p:cNvPr id="264" name=""/>
            <p:cNvSpPr/>
            <p:nvPr/>
          </p:nvSpPr>
          <p:spPr>
            <a:xfrm>
              <a:off x="1990800" y="1812960"/>
              <a:ext cx="5844960" cy="2840040"/>
            </a:xfrm>
            <a:custGeom>
              <a:avLst/>
              <a:gdLst/>
              <a:ahLst/>
              <a:rect l="l" t="t" r="r" b="b"/>
              <a:pathLst>
                <a:path w="3682" h="1789">
                  <a:moveTo>
                    <a:pt x="0" y="10"/>
                  </a:moveTo>
                  <a:cubicBezTo>
                    <a:pt x="86" y="152"/>
                    <a:pt x="319" y="862"/>
                    <a:pt x="518" y="861"/>
                  </a:cubicBezTo>
                  <a:cubicBezTo>
                    <a:pt x="717" y="860"/>
                    <a:pt x="984" y="0"/>
                    <a:pt x="1194" y="2"/>
                  </a:cubicBezTo>
                  <a:cubicBezTo>
                    <a:pt x="1404" y="4"/>
                    <a:pt x="1626" y="638"/>
                    <a:pt x="1778" y="870"/>
                  </a:cubicBezTo>
                  <a:cubicBezTo>
                    <a:pt x="1930" y="1102"/>
                    <a:pt x="1970" y="1243"/>
                    <a:pt x="2104" y="1396"/>
                  </a:cubicBezTo>
                  <a:cubicBezTo>
                    <a:pt x="2238" y="1549"/>
                    <a:pt x="2403" y="1787"/>
                    <a:pt x="2580" y="1788"/>
                  </a:cubicBezTo>
                  <a:cubicBezTo>
                    <a:pt x="2757" y="1789"/>
                    <a:pt x="2980" y="1404"/>
                    <a:pt x="3164" y="1404"/>
                  </a:cubicBezTo>
                  <a:cubicBezTo>
                    <a:pt x="3348" y="1404"/>
                    <a:pt x="3574" y="1708"/>
                    <a:pt x="3682" y="1788"/>
                  </a:cubicBezTo>
                </a:path>
              </a:pathLst>
            </a:custGeom>
            <a:noFill/>
            <a:ln w="442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960" y="1523880"/>
              <a:ext cx="1134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cc00"/>
                  </a:solidFill>
                  <a:latin typeface="Times New Roman"/>
                </a:rPr>
                <a:t>A(</a:t>
              </a:r>
              <a:r>
                <a:rPr b="0" lang="en-US" sz="36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</a:t>
              </a:r>
              <a:r>
                <a:rPr b="0" lang="en-US" sz="3600" spc="-1" strike="noStrike">
                  <a:solidFill>
                    <a:srgbClr val="ffcc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905120" y="1752480"/>
            <a:ext cx="6019560" cy="2971800"/>
            <a:chOff x="1905120" y="1752480"/>
            <a:chExt cx="6019560" cy="2971800"/>
          </a:xfrm>
        </p:grpSpPr>
        <p:sp>
          <p:nvSpPr>
            <p:cNvPr id="267" name=""/>
            <p:cNvSpPr/>
            <p:nvPr/>
          </p:nvSpPr>
          <p:spPr>
            <a:xfrm>
              <a:off x="1905120" y="1752480"/>
              <a:ext cx="152280" cy="15264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43200" y="3124080"/>
              <a:ext cx="152280" cy="15264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09880" y="1752480"/>
              <a:ext cx="152640" cy="15264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24280" y="3124080"/>
              <a:ext cx="152640" cy="15264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57800" y="3962520"/>
              <a:ext cx="152280" cy="15228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19920" y="4572000"/>
              <a:ext cx="152280" cy="15228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34320" y="3962520"/>
              <a:ext cx="152280" cy="15228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72400" y="4572000"/>
              <a:ext cx="152280" cy="15228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6172200" y="1752480"/>
            <a:ext cx="182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cc00"/>
                </a:solidFill>
                <a:latin typeface="Times New Roman"/>
              </a:rPr>
              <a:t>p 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ffcc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cc00"/>
                </a:solidFill>
                <a:latin typeface="Times New Roman"/>
              </a:rPr>
              <a:t>s 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ffcc00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/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52280" y="4952880"/>
            <a:ext cx="8686800" cy="1753920"/>
            <a:chOff x="152280" y="4952880"/>
            <a:chExt cx="8686800" cy="1753920"/>
          </a:xfrm>
        </p:grpSpPr>
        <p:sp>
          <p:nvSpPr>
            <p:cNvPr id="277" name=""/>
            <p:cNvSpPr/>
            <p:nvPr/>
          </p:nvSpPr>
          <p:spPr>
            <a:xfrm>
              <a:off x="4800600" y="5334120"/>
              <a:ext cx="533520" cy="1224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81080" y="5029200"/>
              <a:ext cx="0" cy="152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81080" y="5943600"/>
              <a:ext cx="6858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81080" y="5334120"/>
              <a:ext cx="58676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81080" y="6553080"/>
              <a:ext cx="58676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305920" y="5867280"/>
              <a:ext cx="39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848720" y="4952880"/>
              <a:ext cx="0" cy="16002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34120" y="4952880"/>
              <a:ext cx="0" cy="16002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00600" y="4952880"/>
              <a:ext cx="0" cy="16002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00200" y="5105520"/>
              <a:ext cx="317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48640" y="6248520"/>
              <a:ext cx="469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00200" y="5715000"/>
              <a:ext cx="336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280" y="5029200"/>
              <a:ext cx="1082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cc00"/>
                  </a:solidFill>
                  <a:latin typeface="Times New Roman"/>
                </a:rPr>
                <a:t>E</a:t>
              </a:r>
              <a:r>
                <a:rPr b="0" lang="en-US" sz="3600" spc="-1" strike="noStrike">
                  <a:solidFill>
                    <a:srgbClr val="ffcc00"/>
                  </a:solidFill>
                  <a:latin typeface="Times New Roman"/>
                </a:rPr>
                <a:t>(</a:t>
              </a:r>
              <a:r>
                <a:rPr b="0" lang="en-US" sz="36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</a:t>
              </a:r>
              <a:r>
                <a:rPr b="0" lang="en-US" sz="3600" spc="-1" strike="noStrike">
                  <a:solidFill>
                    <a:srgbClr val="ffcc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43480" y="5327640"/>
              <a:ext cx="2505240" cy="1220760"/>
            </a:xfrm>
            <a:custGeom>
              <a:avLst/>
              <a:gdLst/>
              <a:ahLst/>
              <a:rect l="l" t="t" r="r" b="b"/>
              <a:pathLst>
                <a:path w="1578" h="769">
                  <a:moveTo>
                    <a:pt x="0" y="0"/>
                  </a:moveTo>
                  <a:cubicBezTo>
                    <a:pt x="81" y="128"/>
                    <a:pt x="307" y="767"/>
                    <a:pt x="484" y="768"/>
                  </a:cubicBezTo>
                  <a:cubicBezTo>
                    <a:pt x="661" y="769"/>
                    <a:pt x="878" y="10"/>
                    <a:pt x="1060" y="8"/>
                  </a:cubicBezTo>
                  <a:cubicBezTo>
                    <a:pt x="1242" y="6"/>
                    <a:pt x="1470" y="603"/>
                    <a:pt x="1578" y="759"/>
                  </a:cubicBezTo>
                </a:path>
              </a:pathLst>
            </a:custGeom>
            <a:noFill/>
            <a:ln w="442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90800" y="5340240"/>
              <a:ext cx="2809800" cy="1219320"/>
            </a:xfrm>
            <a:custGeom>
              <a:avLst/>
              <a:gdLst/>
              <a:ahLst/>
              <a:rect l="l" t="t" r="r" b="b"/>
              <a:pathLst>
                <a:path w="1770" h="768">
                  <a:moveTo>
                    <a:pt x="0" y="0"/>
                  </a:moveTo>
                  <a:cubicBezTo>
                    <a:pt x="86" y="128"/>
                    <a:pt x="319" y="768"/>
                    <a:pt x="518" y="768"/>
                  </a:cubicBezTo>
                  <a:cubicBezTo>
                    <a:pt x="717" y="768"/>
                    <a:pt x="985" y="0"/>
                    <a:pt x="1194" y="0"/>
                  </a:cubicBezTo>
                  <a:cubicBezTo>
                    <a:pt x="1403" y="0"/>
                    <a:pt x="1650" y="608"/>
                    <a:pt x="1770" y="768"/>
                  </a:cubicBezTo>
                </a:path>
              </a:pathLst>
            </a:custGeom>
            <a:noFill/>
            <a:ln w="442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05120" y="5257800"/>
              <a:ext cx="152280" cy="15228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43200" y="6477120"/>
              <a:ext cx="152280" cy="15228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09880" y="5257800"/>
              <a:ext cx="152640" cy="15228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24280" y="6477120"/>
              <a:ext cx="152640" cy="15228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57800" y="5257800"/>
              <a:ext cx="152280" cy="15228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19920" y="6477120"/>
              <a:ext cx="152280" cy="15228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934320" y="5257800"/>
              <a:ext cx="152280" cy="15228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72400" y="6477120"/>
              <a:ext cx="152280" cy="15228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3003-BA81-444F-BA61-6B9A80274E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Numeričko projektiranje</a:t>
            </a:r>
            <a:br>
              <a:rPr sz="4400"/>
            </a:b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FIR filtara - primjer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 naš primjer j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L = N/2 = 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a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A(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adrži sedam nepoznan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j točaka ekstrema j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L + 2 = 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,…, 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7 = </a:t>
            </a:r>
            <a:r>
              <a:rPr b="0" i="1" lang="en-US" sz="3200" spc="-1" strike="noStrike" baseline="-25000">
                <a:solidFill>
                  <a:srgbClr val="99ff33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oda pronalaženja optimalnog filtra svodi se na iterativni postupak određivanja frekvencija ekstre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2963880" y="2895480"/>
                <a:ext cx="38210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,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,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[</m:t>
                    </m:r>
                    <m:r>
                      <m:t xml:space="preserve">6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E0E3-6466-441F-BD8B-2EBB34DB1E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Numeričko projektiranje</a:t>
            </a:r>
            <a:br>
              <a:rPr sz="4400"/>
            </a:b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FIR filtara jednake valovitosti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 alternacijskom teoremu znamo da će optimalni  filtar </a:t>
            </a:r>
            <a:r>
              <a:rPr b="0" i="1" lang="hr-HR" sz="3200" spc="-1" strike="noStrike">
                <a:solidFill>
                  <a:srgbClr val="ffcc00"/>
                </a:solidFill>
                <a:latin typeface="Times New Roman"/>
              </a:rPr>
              <a:t>A</a:t>
            </a:r>
            <a:r>
              <a:rPr b="0" lang="hr-HR" sz="3200" spc="-1" strike="noStrike">
                <a:solidFill>
                  <a:srgbClr val="ffcc00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0" i="1" lang="hr-HR" sz="3200" spc="-1" strike="noStrike" baseline="30000">
                <a:solidFill>
                  <a:srgbClr val="ffcc00"/>
                </a:solidFill>
                <a:latin typeface="Times New Roman"/>
              </a:rPr>
              <a:t>j</a:t>
            </a:r>
            <a:r>
              <a:rPr b="0" lang="hr-HR" sz="3200" spc="-1" strike="noStrike" baseline="30000">
                <a:solidFill>
                  <a:srgbClr val="ffcc00"/>
                </a:solidFill>
                <a:latin typeface="Symbol"/>
                <a:ea typeface="Symbol"/>
              </a:rPr>
              <a:t></a:t>
            </a:r>
            <a:r>
              <a:rPr b="0" lang="hr-HR" sz="32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zadovoljavati sljedeće jednak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koje napisane u matričnom obliku s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09480" y="4343400"/>
                <a:ext cx="6537600" cy="20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L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</m:acc>
                                </m:den>
                              </m:f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L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</m:acc>
                                </m:den>
                              </m:f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Lω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L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num>
                                <m:den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</m:acc>
                                </m:den>
                              </m:f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Lω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L</m:t>
                                      </m:r>
                                    </m:sup>
                                  </m:sSup>
                                </m:num>
                                <m:den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</m:acc>
                                </m:den>
                              </m:f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~"/>
                                </m:accPr>
                                <m:e>
                                  <m:r>
                                    <m:t xml:space="preserve">a</m:t>
                                  </m:r>
                                </m:e>
                              </m:acc>
                              <m:r>
                                <m:t xml:space="preserve">[</m:t>
                              </m:r>
                              <m:r>
                                <m:t xml:space="preserve">0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acc>
                                <m:accPr>
                                  <m:chr m:val="~"/>
                                </m:accPr>
                                <m:e>
                                  <m:r>
                                    <m:t xml:space="preserve">a</m:t>
                                  </m:r>
                                </m:e>
                              </m:acc>
                              <m:r>
                                <m:t xml:space="preserve">[</m:t>
                              </m:r>
                              <m:r>
                                <m:t xml:space="preserve">1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acc>
                                <m:accPr>
                                  <m:chr m:val="~"/>
                                </m:accPr>
                                <m:e>
                                  <m:r>
                                    <m:t xml:space="preserve">a</m:t>
                                  </m:r>
                                </m:e>
                              </m:acc>
                              <m:r>
                                <m:t xml:space="preserve">[</m:t>
                              </m:r>
                              <m:r>
                                <m:t xml:space="preserve">L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r>
                                <m:t xml:space="preserve">ε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7238880" y="4114800"/>
                <a:ext cx="1663920" cy="23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~"/>
                                </m:accPr>
                                <m:e>
                                  <m:r>
                                    <m:t xml:space="preserve">D</m:t>
                                  </m:r>
                                </m:e>
                              </m:acc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acc>
                                <m:accPr>
                                  <m:chr m:val="~"/>
                                </m:accPr>
                                <m:e>
                                  <m:r>
                                    <m:t xml:space="preserve">D</m:t>
                                  </m:r>
                                </m:e>
                              </m:acc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acc>
                                <m:accPr>
                                  <m:chr m:val="~"/>
                                </m:accPr>
                                <m:e>
                                  <m:r>
                                    <m:t xml:space="preserve">D</m:t>
                                  </m:r>
                                </m:e>
                              </m:acc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acc>
                                <m:accPr>
                                  <m:chr m:val="~"/>
                                </m:accPr>
                                <m:e>
                                  <m:r>
                                    <m:t xml:space="preserve">D</m:t>
                                  </m:r>
                                </m:e>
                              </m:acc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371600" y="3124080"/>
                <a:ext cx="71391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ε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2685-7FAC-4292-8BF3-6C0B720CCC3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Remez-algoritam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Times New Roman"/>
              </a:rPr>
              <a:t>Matrična jednadžba može biti riješena za nepoznanicu          i </a:t>
            </a:r>
            <a:r>
              <a:rPr b="0" lang="hr-HR" sz="3600" spc="-1" strike="noStrike">
                <a:solidFill>
                  <a:srgbClr val="ffcc00"/>
                </a:solidFill>
                <a:latin typeface="Symbol"/>
                <a:ea typeface="Symbol"/>
              </a:rPr>
              <a:t></a:t>
            </a:r>
            <a:r>
              <a:rPr b="0" lang="hr-HR" sz="3600" spc="-1" strike="noStrike">
                <a:solidFill>
                  <a:srgbClr val="ffffff"/>
                </a:solidFill>
                <a:latin typeface="Times New Roman"/>
              </a:rPr>
              <a:t> ako su unaprijed poznate </a:t>
            </a:r>
            <a:r>
              <a:rPr b="0" i="1" lang="hr-HR" sz="36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hr-HR" sz="3600" spc="-1" strike="noStrike">
                <a:solidFill>
                  <a:srgbClr val="ffcc00"/>
                </a:solidFill>
                <a:latin typeface="Times New Roman"/>
              </a:rPr>
              <a:t> + 2</a:t>
            </a:r>
            <a:r>
              <a:rPr b="0" lang="hr-HR" sz="3600" spc="-1" strike="noStrike">
                <a:solidFill>
                  <a:srgbClr val="ffffff"/>
                </a:solidFill>
                <a:latin typeface="Times New Roman"/>
              </a:rPr>
              <a:t> frekvencije ekstrem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99ff33"/>
                </a:solidFill>
                <a:latin typeface="Times New Roman"/>
              </a:rPr>
              <a:t>Remez-algoritam</a:t>
            </a:r>
            <a:r>
              <a:rPr b="0" lang="hr-HR" sz="3600" spc="-1" strike="noStrike">
                <a:solidFill>
                  <a:srgbClr val="ff6600"/>
                </a:solidFill>
                <a:latin typeface="Times New Roman"/>
              </a:rPr>
              <a:t> se koristi da bi se odredile pozicije frekvencija ekstrem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581280" y="2362320"/>
                <a:ext cx="846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[</m:t>
                    </m:r>
                    <m:r>
                      <m:t xml:space="preserve">i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E1FA-1EDD-4E99-8F12-7A7F44B048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533520" y="3496680"/>
            <a:ext cx="914040" cy="2370600"/>
            <a:chOff x="533520" y="3496680"/>
            <a:chExt cx="914040" cy="2370600"/>
          </a:xfrm>
        </p:grpSpPr>
        <p:sp>
          <p:nvSpPr>
            <p:cNvPr id="312" name=""/>
            <p:cNvSpPr/>
            <p:nvPr/>
          </p:nvSpPr>
          <p:spPr>
            <a:xfrm>
              <a:off x="533520" y="3496680"/>
              <a:ext cx="914040" cy="237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3454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345404"/>
                </a:path>
              </a:pathLst>
            </a:custGeom>
            <a:noFill/>
            <a:ln cap="rnd"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43000" y="3505320"/>
              <a:ext cx="0" cy="236196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Remez-algoritam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stupci kod Remez-algoritma su slijedeć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99ff33"/>
                </a:solidFill>
                <a:latin typeface="Times New Roman"/>
              </a:rPr>
              <a:t>1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proizvoljni odabir početnih ekstremalnih frekvenci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99ff33"/>
                </a:solidFill>
                <a:latin typeface="Times New Roman"/>
              </a:rPr>
              <a:t>2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računanje </a:t>
            </a:r>
            <a:r>
              <a:rPr b="0" lang="hr-HR" sz="2800" spc="-1" strike="noStrike">
                <a:solidFill>
                  <a:srgbClr val="ffcc00"/>
                </a:solidFill>
                <a:latin typeface="Symbol"/>
                <a:ea typeface="Symbol"/>
              </a:rPr>
              <a:t>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z prije dane matrične jednakost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99ff33"/>
                </a:solidFill>
                <a:latin typeface="Times New Roman"/>
              </a:rPr>
              <a:t>3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računanje </a:t>
            </a:r>
            <a:r>
              <a:rPr b="0" i="1" lang="hr-HR" sz="2800" spc="-1" strike="noStrike">
                <a:solidFill>
                  <a:srgbClr val="ffcc00"/>
                </a:solidFill>
                <a:latin typeface="Times New Roman"/>
              </a:rPr>
              <a:t>A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0" i="1" lang="hr-HR" sz="2800" spc="-1" strike="noStrike" baseline="30000">
                <a:solidFill>
                  <a:srgbClr val="ffcc00"/>
                </a:solidFill>
                <a:latin typeface="Times New Roman"/>
              </a:rPr>
              <a:t>j</a:t>
            </a:r>
            <a:r>
              <a:rPr b="0" lang="hr-HR" sz="2800" spc="-1" strike="noStrike" baseline="30000">
                <a:solidFill>
                  <a:srgbClr val="ffcc00"/>
                </a:solidFill>
                <a:latin typeface="Symbol"/>
                <a:ea typeface="Symbol"/>
              </a:rPr>
              <a:t>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provlačenjem Lagrangeovog polinoma kroz </a:t>
            </a:r>
            <a:r>
              <a:rPr b="0" i="1" lang="hr-HR" sz="28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 + 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od </a:t>
            </a:r>
            <a:r>
              <a:rPr b="0" i="1" lang="hr-HR" sz="28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 + 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odabrane točke ekstrem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99ff33"/>
                </a:solidFill>
                <a:latin typeface="Times New Roman"/>
              </a:rPr>
              <a:t>4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određivanje novih točaka ekstrema od </a:t>
            </a:r>
            <a:r>
              <a:rPr b="0" i="1" lang="hr-HR" sz="2800" spc="-1" strike="noStrike">
                <a:solidFill>
                  <a:srgbClr val="ffcc00"/>
                </a:solidFill>
                <a:latin typeface="Times New Roman"/>
              </a:rPr>
              <a:t>A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0" i="1" lang="hr-HR" sz="2800" spc="-1" strike="noStrike" baseline="30000">
                <a:solidFill>
                  <a:srgbClr val="ffcc00"/>
                </a:solidFill>
                <a:latin typeface="Times New Roman"/>
              </a:rPr>
              <a:t>j</a:t>
            </a:r>
            <a:r>
              <a:rPr b="0" lang="hr-HR" sz="2800" spc="-1" strike="noStrike" baseline="30000">
                <a:solidFill>
                  <a:srgbClr val="ffcc00"/>
                </a:solidFill>
                <a:latin typeface="Symbol"/>
                <a:ea typeface="Symbol"/>
              </a:rPr>
              <a:t>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odnosno funkcije pogreške </a:t>
            </a:r>
            <a:r>
              <a:rPr b="0" i="1" lang="hr-HR" sz="28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0" i="1" lang="hr-HR" sz="2800" spc="-1" strike="noStrike" baseline="30000">
                <a:solidFill>
                  <a:srgbClr val="ffcc00"/>
                </a:solidFill>
                <a:latin typeface="Times New Roman"/>
              </a:rPr>
              <a:t>j</a:t>
            </a:r>
            <a:r>
              <a:rPr b="0" lang="hr-HR" sz="2800" spc="-1" strike="noStrike" baseline="30000">
                <a:solidFill>
                  <a:srgbClr val="ffcc00"/>
                </a:solidFill>
                <a:latin typeface="Symbol"/>
                <a:ea typeface="Symbol"/>
              </a:rPr>
              <a:t>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C072-8148-4BD5-8D68-EF2F4EED8BB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Remez-algoritam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terativni postupak se ponavlja dok se </a:t>
            </a:r>
            <a:r>
              <a:rPr b="0" lang="hr-HR" sz="2800" spc="-1" strike="noStrike">
                <a:solidFill>
                  <a:srgbClr val="ffcc00"/>
                </a:solidFill>
                <a:latin typeface="Symbol"/>
                <a:ea typeface="Symbol"/>
              </a:rPr>
              <a:t>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u dva uzastopna koraka ne promijeni za neku zadanu malu vrijed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Tada je </a:t>
            </a:r>
            <a:r>
              <a:rPr b="0" lang="hr-HR" sz="2800" spc="-1" strike="noStrike">
                <a:solidFill>
                  <a:srgbClr val="ffcc00"/>
                </a:solidFill>
                <a:latin typeface="Symbol"/>
                <a:ea typeface="Symbol"/>
              </a:rPr>
              <a:t>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željena pogreška aproksimacije po </a:t>
            </a:r>
            <a:r>
              <a:rPr b="0" lang="hr-HR" sz="2800" spc="-1" strike="noStrike">
                <a:solidFill>
                  <a:srgbClr val="ff6600"/>
                </a:solidFill>
                <a:latin typeface="Times New Roman"/>
              </a:rPr>
              <a:t>minimax kriteriju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U algoritmu se u svakom koraku implicitno mijenjaju sve vrijednosti uzoraka impulsnog odziva </a:t>
            </a:r>
            <a:r>
              <a:rPr b="0" i="1" lang="hr-HR" sz="2800" spc="-1" strike="noStrike">
                <a:solidFill>
                  <a:srgbClr val="ffcc00"/>
                </a:solidFill>
                <a:latin typeface="Times New Roman"/>
              </a:rPr>
              <a:t>h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cc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]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ali se stvarne vrijednosti </a:t>
            </a:r>
            <a:r>
              <a:rPr b="0" i="1" lang="hr-HR" sz="2800" spc="-1" strike="noStrike">
                <a:solidFill>
                  <a:srgbClr val="ffcc00"/>
                </a:solidFill>
                <a:latin typeface="Times New Roman"/>
              </a:rPr>
              <a:t>h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cc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]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eksplicitno </a:t>
            </a:r>
            <a:r>
              <a:rPr b="0" lang="hr-HR" sz="2800" spc="-1" strike="noStrike">
                <a:solidFill>
                  <a:srgbClr val="ff6600"/>
                </a:solidFill>
                <a:latin typeface="Times New Roman"/>
              </a:rPr>
              <a:t>uopće ne računaju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Na kraju se iz uzoraka funkcije dobivene interpolacijom polinomom pomoću DFT-a računaju uzorci </a:t>
            </a:r>
            <a:r>
              <a:rPr b="0" i="1" lang="hr-HR" sz="2800" spc="-1" strike="noStrike">
                <a:solidFill>
                  <a:srgbClr val="ffcc00"/>
                </a:solidFill>
                <a:latin typeface="Times New Roman"/>
              </a:rPr>
              <a:t>h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fcc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]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BF9C-C7F4-45C5-8D4C-838E0144C73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e"/>
                </a:solidFill>
                <a:latin typeface="Times New Roman"/>
              </a:rPr>
              <a:t>Specifikacija optimalnog niskog propust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67520" y="1600200"/>
            <a:ext cx="7322400" cy="4029840"/>
            <a:chOff x="767520" y="1600200"/>
            <a:chExt cx="7322400" cy="4029840"/>
          </a:xfrm>
        </p:grpSpPr>
        <p:sp>
          <p:nvSpPr>
            <p:cNvPr id="52" name=""/>
            <p:cNvSpPr/>
            <p:nvPr/>
          </p:nvSpPr>
          <p:spPr>
            <a:xfrm>
              <a:off x="2149200" y="1920960"/>
              <a:ext cx="0" cy="358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49200" y="4968720"/>
              <a:ext cx="571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20800" y="2606760"/>
              <a:ext cx="0" cy="2361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30640" y="4587840"/>
              <a:ext cx="0" cy="7621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49200" y="2454120"/>
              <a:ext cx="13712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99480" y="22860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149200" y="2149560"/>
              <a:ext cx="1371240" cy="152280"/>
              <a:chOff x="2149200" y="2149560"/>
              <a:chExt cx="1371240" cy="152280"/>
            </a:xfrm>
          </p:grpSpPr>
          <p:sp>
            <p:nvSpPr>
              <p:cNvPr id="59" name=""/>
              <p:cNvSpPr/>
              <p:nvPr/>
            </p:nvSpPr>
            <p:spPr>
              <a:xfrm>
                <a:off x="2149200" y="2149560"/>
                <a:ext cx="1371240" cy="1522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149200" y="2301840"/>
                <a:ext cx="1371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2148840" y="2606760"/>
              <a:ext cx="1371600" cy="152280"/>
              <a:chOff x="2148840" y="2606760"/>
              <a:chExt cx="1371600" cy="152280"/>
            </a:xfrm>
          </p:grpSpPr>
          <p:sp>
            <p:nvSpPr>
              <p:cNvPr id="62" name=""/>
              <p:cNvSpPr/>
              <p:nvPr/>
            </p:nvSpPr>
            <p:spPr>
              <a:xfrm>
                <a:off x="2149200" y="2606760"/>
                <a:ext cx="1371240" cy="152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2148840" y="2606760"/>
                <a:ext cx="1371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4130640" y="4435560"/>
              <a:ext cx="2971440" cy="152280"/>
              <a:chOff x="4130640" y="4435560"/>
              <a:chExt cx="2971440" cy="152280"/>
            </a:xfrm>
          </p:grpSpPr>
          <p:sp>
            <p:nvSpPr>
              <p:cNvPr id="65" name=""/>
              <p:cNvSpPr/>
              <p:nvPr/>
            </p:nvSpPr>
            <p:spPr>
              <a:xfrm>
                <a:off x="4130640" y="4435560"/>
                <a:ext cx="2971440" cy="1522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130640" y="4587840"/>
                <a:ext cx="2971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130640" y="5349960"/>
              <a:ext cx="2971440" cy="152280"/>
              <a:chOff x="4130640" y="5349960"/>
              <a:chExt cx="2971440" cy="152280"/>
            </a:xfrm>
          </p:grpSpPr>
          <p:sp>
            <p:nvSpPr>
              <p:cNvPr id="68" name=""/>
              <p:cNvSpPr/>
              <p:nvPr/>
            </p:nvSpPr>
            <p:spPr>
              <a:xfrm>
                <a:off x="4130640" y="5349960"/>
                <a:ext cx="2971440" cy="1522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4130640" y="5349960"/>
                <a:ext cx="2971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7102440" y="4587840"/>
              <a:ext cx="0" cy="7621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7520" y="1905120"/>
              <a:ext cx="9014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Times New Roman"/>
                </a:rPr>
                <a:t>1 + </a:t>
              </a: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0" i="1" lang="hr-HR" sz="2400" spc="-1" strike="noStrike" baseline="-25000">
                  <a:solidFill>
                    <a:srgbClr val="ffff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2200" y="2530440"/>
              <a:ext cx="88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Times New Roman"/>
                </a:rPr>
                <a:t>1 </a:t>
              </a:r>
              <a:r>
                <a:rPr b="0" lang="hr-HR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hr-HR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0" i="1" lang="hr-HR" sz="2400" spc="-1" strike="noStrike" baseline="-25000">
                  <a:solidFill>
                    <a:srgbClr val="ffff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39720" y="2149560"/>
              <a:ext cx="6091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1539720" y="2606400"/>
              <a:ext cx="6091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30640" y="4968720"/>
              <a:ext cx="29714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47720" y="4344840"/>
              <a:ext cx="404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0" i="1" lang="hr-HR" sz="2400" spc="-1" strike="noStrike" baseline="-25000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44400" y="5121360"/>
              <a:ext cx="556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0" i="1" lang="hr-HR" sz="2400" spc="-1" strike="noStrike" baseline="-25000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073240" y="5349960"/>
              <a:ext cx="15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2073240" y="4587840"/>
              <a:ext cx="15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20560" y="4940280"/>
              <a:ext cx="482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r>
                <a:rPr b="0" i="1" lang="hr-HR" sz="2400" spc="-1" strike="noStrike" baseline="-25000">
                  <a:solidFill>
                    <a:srgbClr val="ffff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78480" y="4952880"/>
              <a:ext cx="4626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r>
                <a:rPr b="0" i="1" lang="hr-HR" sz="2400" spc="-1" strike="noStrike" baseline="-25000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99560" y="4951440"/>
              <a:ext cx="35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4876920"/>
              <a:ext cx="39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51720" y="1600200"/>
              <a:ext cx="10040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hr-HR" sz="2400" spc="-1" strike="noStrike" baseline="-25000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lang="hr-HR" sz="2400" spc="-1" strike="noStrike">
                  <a:solidFill>
                    <a:srgbClr val="ffff00"/>
                  </a:solidFill>
                  <a:latin typeface="Times New Roman"/>
                </a:rPr>
                <a:t>(</a:t>
              </a:r>
              <a:r>
                <a:rPr b="0" i="1" lang="hr-HR" sz="24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r>
                <a:rPr b="0" i="1" lang="hr-HR" sz="2400" spc="-1" strike="noStrike" baseline="30000">
                  <a:solidFill>
                    <a:srgbClr val="ffff00"/>
                  </a:solidFill>
                  <a:latin typeface="Times New Roman"/>
                </a:rPr>
                <a:t>j</a:t>
              </a:r>
              <a:r>
                <a:rPr b="0" lang="hr-HR" sz="2400" spc="-1" strike="noStrike" baseline="30000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r>
                <a:rPr b="0" lang="hr-HR" sz="24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28080" y="4724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563868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Neki od parametara 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N, </a:t>
            </a:r>
            <a:r>
              <a:rPr b="0" lang="hr-HR" sz="2800" spc="-1" strike="noStrike">
                <a:solidFill>
                  <a:srgbClr val="ffcc00"/>
                </a:solidFill>
                <a:latin typeface="Symbol"/>
                <a:ea typeface="Symbol"/>
              </a:rPr>
              <a:t></a:t>
            </a:r>
            <a:r>
              <a:rPr b="0" i="1" lang="hr-HR" sz="2800" spc="-1" strike="noStrike" baseline="-25000">
                <a:solidFill>
                  <a:srgbClr val="ffcc00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, </a:t>
            </a:r>
            <a:r>
              <a:rPr b="0" lang="hr-HR" sz="2800" spc="-1" strike="noStrike">
                <a:solidFill>
                  <a:srgbClr val="ffcc00"/>
                </a:solidFill>
                <a:latin typeface="Symbol"/>
                <a:ea typeface="Symbol"/>
              </a:rPr>
              <a:t></a:t>
            </a:r>
            <a:r>
              <a:rPr b="0" i="1" lang="hr-HR" sz="2800" spc="-1" strike="noStrike" baseline="-25000">
                <a:solidFill>
                  <a:srgbClr val="ffcc00"/>
                </a:solidFill>
                <a:latin typeface="Times New Roman"/>
              </a:rPr>
              <a:t>p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, </a:t>
            </a:r>
            <a:r>
              <a:rPr b="0" lang="hr-HR" sz="2800" spc="-1" strike="noStrike">
                <a:solidFill>
                  <a:srgbClr val="ffcc00"/>
                </a:solidFill>
                <a:latin typeface="Symbol"/>
                <a:ea typeface="Symbol"/>
              </a:rPr>
              <a:t></a:t>
            </a:r>
            <a:r>
              <a:rPr b="0" lang="hr-HR" sz="2800" spc="-1" strike="noStrike" baseline="-25000">
                <a:solidFill>
                  <a:srgbClr val="ffcc00"/>
                </a:solidFill>
                <a:latin typeface="Times New Roman"/>
              </a:rPr>
              <a:t>p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, </a:t>
            </a:r>
            <a:r>
              <a:rPr b="0" lang="hr-HR" sz="2800" spc="-1" strike="noStrike">
                <a:solidFill>
                  <a:srgbClr val="ffcc00"/>
                </a:solidFill>
                <a:latin typeface="Symbol"/>
                <a:ea typeface="Symbol"/>
              </a:rPr>
              <a:t></a:t>
            </a:r>
            <a:r>
              <a:rPr b="0" lang="hr-HR" sz="2800" spc="-1" strike="noStrike" baseline="-25000">
                <a:solidFill>
                  <a:srgbClr val="ffcc00"/>
                </a:solidFill>
                <a:latin typeface="Times New Roman"/>
              </a:rPr>
              <a:t>s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u fiksirani, a iterativnim postupcima se podešavaju ostali paramet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0036-980B-42A1-8230-FF064C079EE3}" type="slidenum">
              <a:t>3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Remez-algoritam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Optimalni FIR filtri imaju </a:t>
            </a:r>
            <a:r>
              <a:rPr b="0" lang="hr-HR" sz="2800" spc="-1" strike="noStrike">
                <a:solidFill>
                  <a:srgbClr val="99ff33"/>
                </a:solidFill>
                <a:latin typeface="Times New Roman"/>
              </a:rPr>
              <a:t>najmanju valovitost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cc00"/>
                </a:solidFill>
                <a:latin typeface="Symbol"/>
                <a:ea typeface="Symbol"/>
              </a:rPr>
              <a:t>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za definirano prijelazno područje 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[</a:t>
            </a:r>
            <a:r>
              <a:rPr b="0" lang="hr-HR" sz="2800" spc="-1" strike="noStrike">
                <a:solidFill>
                  <a:srgbClr val="ffcc00"/>
                </a:solidFill>
                <a:latin typeface="Symbol"/>
                <a:ea typeface="Symbol"/>
              </a:rPr>
              <a:t></a:t>
            </a:r>
            <a:r>
              <a:rPr b="0" i="1" lang="hr-HR" sz="2800" spc="-1" strike="noStrike" baseline="-25000">
                <a:solidFill>
                  <a:srgbClr val="ffcc00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, </a:t>
            </a:r>
            <a:r>
              <a:rPr b="0" lang="hr-HR" sz="2800" spc="-1" strike="noStrike">
                <a:solidFill>
                  <a:srgbClr val="ffcc00"/>
                </a:solidFill>
                <a:latin typeface="Symbol"/>
                <a:ea typeface="Symbol"/>
              </a:rPr>
              <a:t></a:t>
            </a:r>
            <a:r>
              <a:rPr b="0" i="1" lang="hr-HR" sz="2800" spc="-1" strike="noStrike" baseline="-25000">
                <a:solidFill>
                  <a:srgbClr val="ffcc00"/>
                </a:solidFill>
                <a:latin typeface="Times New Roman"/>
              </a:rPr>
              <a:t>p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]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Rezultirajuća valovitost je za niski propust u području gušenja </a:t>
            </a:r>
            <a:r>
              <a:rPr b="0" lang="hr-HR" sz="2800" spc="-1" strike="noStrike">
                <a:solidFill>
                  <a:srgbClr val="ffcc00"/>
                </a:solidFill>
                <a:latin typeface="Symbol"/>
                <a:ea typeface="Symbol"/>
              </a:rPr>
              <a:t></a:t>
            </a:r>
            <a:r>
              <a:rPr b="0" i="1" lang="hr-HR" sz="2800" spc="-1" strike="noStrike" baseline="-25000">
                <a:solidFill>
                  <a:srgbClr val="ffcc00"/>
                </a:solidFill>
                <a:latin typeface="Times New Roman"/>
              </a:rPr>
              <a:t>p</a:t>
            </a:r>
            <a:r>
              <a:rPr b="0" lang="hr-HR" sz="2800" spc="-1" strike="noStrike" baseline="-25000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cc00"/>
                </a:solidFill>
                <a:latin typeface="Symbol"/>
                <a:ea typeface="Symbol"/>
              </a:rPr>
              <a:t>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cc00"/>
                </a:solidFill>
                <a:latin typeface="Symbol"/>
                <a:ea typeface="Symbol"/>
              </a:rPr>
              <a:t>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a u području propuštanja </a:t>
            </a:r>
            <a:r>
              <a:rPr b="0" lang="hr-HR" sz="2800" spc="-1" strike="noStrike">
                <a:solidFill>
                  <a:srgbClr val="ffcc00"/>
                </a:solidFill>
                <a:latin typeface="Symbol"/>
                <a:ea typeface="Symbol"/>
              </a:rPr>
              <a:t></a:t>
            </a:r>
            <a:r>
              <a:rPr b="0" i="1" lang="hr-HR" sz="2800" spc="-1" strike="noStrike" baseline="-25000">
                <a:solidFill>
                  <a:srgbClr val="ffcc00"/>
                </a:solidFill>
                <a:latin typeface="Times New Roman"/>
              </a:rPr>
              <a:t>s</a:t>
            </a:r>
            <a:r>
              <a:rPr b="0" lang="hr-HR" sz="2800" spc="-1" strike="noStrike" baseline="-25000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cc00"/>
                </a:solidFill>
                <a:latin typeface="Symbol"/>
                <a:ea typeface="Symbol"/>
              </a:rPr>
              <a:t>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 K</a:t>
            </a:r>
            <a:r>
              <a:rPr b="0" lang="hr-HR" sz="2800" spc="-1" strike="noStrike">
                <a:solidFill>
                  <a:srgbClr val="ffcc00"/>
                </a:solidFill>
                <a:latin typeface="Symbol"/>
                <a:ea typeface="Symbol"/>
              </a:rPr>
              <a:t>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Za </a:t>
            </a:r>
            <a:r>
              <a:rPr b="0" lang="hr-HR" sz="2800" spc="-1" strike="noStrike">
                <a:solidFill>
                  <a:srgbClr val="66ff33"/>
                </a:solidFill>
                <a:latin typeface="Times New Roman"/>
              </a:rPr>
              <a:t>procjenu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potrebnih</a:t>
            </a:r>
            <a:r>
              <a:rPr b="0" lang="hr-HR" sz="2800" spc="-1" strike="noStrike">
                <a:solidFill>
                  <a:srgbClr val="66ff33"/>
                </a:solidFill>
                <a:latin typeface="Times New Roman"/>
              </a:rPr>
              <a:t> broja uzoraka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fcc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 + 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za ostvarenje nisko propusnog filtra zadanog prijelaznog područja i valovitosti može se koristiti slijedeći izraz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2895480" y="4724280"/>
                <a:ext cx="3635640" cy="10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2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609480" y="57913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guće je realizirati različite i vrlo složene tipove filta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55C4-E467-4E7B-8B9D-4F09008758A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Korištenje MATLAB funkcije </a:t>
            </a:r>
            <a:r>
              <a:rPr b="0" lang="hr-HR" sz="4400" spc="-1" strike="noStrike">
                <a:solidFill>
                  <a:srgbClr val="00fffe"/>
                </a:solidFill>
                <a:latin typeface="Courier New"/>
              </a:rPr>
              <a:t>remez()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Monotype Sorts" charset="2"/>
              <a:buChar char=""/>
              <a:tabLst>
                <a:tab algn="l" pos="124308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ff33"/>
                </a:solidFill>
                <a:latin typeface="Times New Roman"/>
              </a:rPr>
              <a:t>Funkcija </a:t>
            </a:r>
            <a:r>
              <a:rPr b="0" lang="hr-HR" sz="2800" spc="-1" strike="noStrike">
                <a:solidFill>
                  <a:srgbClr val="99ff33"/>
                </a:solidFill>
                <a:latin typeface="Courier New"/>
              </a:rPr>
              <a:t>remez()</a:t>
            </a:r>
            <a:r>
              <a:rPr b="0" lang="hr-HR" sz="2800" spc="-1" strike="noStrike">
                <a:solidFill>
                  <a:srgbClr val="99ff33"/>
                </a:solidFill>
                <a:latin typeface="Times New Roman"/>
              </a:rPr>
              <a:t> služi za realizaciju višepojasnih optimalnih FIR filtara s proizvoljnim omjerom valovitosti u pojasevi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124308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ziv funkcije: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Courier New"/>
              </a:rPr>
              <a:t>b = remez(N, f, m, w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Monotype Sorts" charset="2"/>
              <a:buChar char=""/>
              <a:tabLst>
                <a:tab algn="l" pos="124308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Courier New"/>
              </a:rPr>
              <a:t>b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vektor dužine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+ 1 s uzorcima impulsnog</a:t>
            </a:r>
            <a:br>
              <a:rPr sz="2800"/>
            </a:b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odziv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Monotype Sorts" charset="2"/>
              <a:buChar char=""/>
              <a:tabLst>
                <a:tab algn="l" pos="124308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Courier New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red filtr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Monotype Sorts" charset="2"/>
              <a:buChar char=""/>
              <a:tabLst>
                <a:tab algn="l" pos="124308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Courier New"/>
              </a:rPr>
              <a:t>f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vektor s frekvencijama u rasponu [0, 1]</a:t>
            </a:r>
            <a:br>
              <a:rPr sz="2800"/>
            </a:b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1 predstavlja pola frekvencije otipkavanja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Monotype Sorts" charset="2"/>
              <a:buChar char=""/>
              <a:tabLst>
                <a:tab algn="l" pos="124308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Courier New"/>
              </a:rPr>
              <a:t>m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magnitude željene frekv. karakteristik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Monotype Sorts" charset="2"/>
              <a:buChar char=""/>
              <a:tabLst>
                <a:tab algn="l" pos="124308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Courier New"/>
              </a:rPr>
              <a:t>wt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vektor s težinskim faktori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AAD58-50B9-44FD-BF1C-421BE0379EC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Primjer korištenja MATLAB funkcije </a:t>
            </a:r>
            <a:r>
              <a:rPr b="0" lang="hr-HR" sz="4400" spc="-1" strike="noStrike">
                <a:solidFill>
                  <a:srgbClr val="00fffe"/>
                </a:solidFill>
                <a:latin typeface="Courier New"/>
              </a:rPr>
              <a:t>remez()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jer željene frekvencijske karakteristik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904760" y="2438280"/>
            <a:ext cx="5917320" cy="4201560"/>
            <a:chOff x="1904760" y="2438280"/>
            <a:chExt cx="5917320" cy="4201560"/>
          </a:xfrm>
        </p:grpSpPr>
        <p:sp>
          <p:nvSpPr>
            <p:cNvPr id="327" name=""/>
            <p:cNvSpPr/>
            <p:nvPr/>
          </p:nvSpPr>
          <p:spPr>
            <a:xfrm>
              <a:off x="6042240" y="3143160"/>
              <a:ext cx="0" cy="2800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368880" y="4038120"/>
              <a:ext cx="0" cy="1904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470320" y="2679480"/>
              <a:ext cx="0" cy="341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70320" y="5452920"/>
              <a:ext cx="42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45960" y="52639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051000" y="5876640"/>
              <a:ext cx="565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70320" y="3144600"/>
              <a:ext cx="42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55680" y="29365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84880" y="5452920"/>
              <a:ext cx="2243160" cy="1440"/>
            </a:xfrm>
            <a:custGeom>
              <a:avLst/>
              <a:gdLst/>
              <a:ahLst/>
              <a:rect l="l" t="t" r="r" b="b"/>
              <a:pathLst>
                <a:path w="1413" h="1">
                  <a:moveTo>
                    <a:pt x="0" y="0"/>
                  </a:moveTo>
                  <a:lnTo>
                    <a:pt x="141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579840" y="4038480"/>
              <a:ext cx="3240" cy="1866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826240" y="3968280"/>
              <a:ext cx="0" cy="1439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28040" y="4986000"/>
              <a:ext cx="0" cy="919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470320" y="4285800"/>
              <a:ext cx="900000" cy="46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84880" y="5452920"/>
              <a:ext cx="22431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42240" y="3143160"/>
              <a:ext cx="9000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79600" y="6181560"/>
              <a:ext cx="718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2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89280" y="5876640"/>
              <a:ext cx="718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7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94200" y="6181560"/>
              <a:ext cx="565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45480" y="2901600"/>
              <a:ext cx="0" cy="2552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83120" y="54957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904760" y="4044600"/>
              <a:ext cx="565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428240" y="5470200"/>
              <a:ext cx="39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92000" y="2438280"/>
              <a:ext cx="10040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hr-HR" sz="2400" spc="-1" strike="noStrike" baseline="-25000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lang="hr-HR" sz="2400" spc="-1" strike="noStrike">
                  <a:solidFill>
                    <a:srgbClr val="ffff00"/>
                  </a:solidFill>
                  <a:latin typeface="Times New Roman"/>
                </a:rPr>
                <a:t>(</a:t>
              </a:r>
              <a:r>
                <a:rPr b="0" i="1" lang="hr-HR" sz="24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r>
                <a:rPr b="0" i="1" lang="hr-HR" sz="2400" spc="-1" strike="noStrike" baseline="30000">
                  <a:solidFill>
                    <a:srgbClr val="ffff00"/>
                  </a:solidFill>
                  <a:latin typeface="Times New Roman"/>
                </a:rPr>
                <a:t>j</a:t>
              </a:r>
              <a:r>
                <a:rPr b="0" lang="hr-HR" sz="2400" spc="-1" strike="noStrike" baseline="30000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r>
                <a:rPr b="0" lang="hr-HR" sz="24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500560" y="3143160"/>
              <a:ext cx="3549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55920" y="5454360"/>
              <a:ext cx="5072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379680" y="3152880"/>
            <a:ext cx="2663640" cy="2295360"/>
            <a:chOff x="3379680" y="3152880"/>
            <a:chExt cx="2663640" cy="2295360"/>
          </a:xfrm>
        </p:grpSpPr>
        <p:grpSp>
          <p:nvGrpSpPr>
            <p:cNvPr id="353" name=""/>
            <p:cNvGrpSpPr/>
            <p:nvPr/>
          </p:nvGrpSpPr>
          <p:grpSpPr>
            <a:xfrm>
              <a:off x="3674880" y="3214440"/>
              <a:ext cx="1820880" cy="867960"/>
              <a:chOff x="3674880" y="3214440"/>
              <a:chExt cx="1820880" cy="867960"/>
            </a:xfrm>
          </p:grpSpPr>
          <p:sp>
            <p:nvSpPr>
              <p:cNvPr id="354" name=""/>
              <p:cNvSpPr/>
              <p:nvPr/>
            </p:nvSpPr>
            <p:spPr>
              <a:xfrm>
                <a:off x="3868200" y="3226680"/>
                <a:ext cx="14072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Times New Roman"/>
                  </a:rPr>
                  <a:t>prijelazn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Times New Roman"/>
                  </a:rPr>
                  <a:t>područj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674880" y="3214440"/>
                <a:ext cx="1820880" cy="867960"/>
              </a:xfrm>
              <a:prstGeom prst="ellipse">
                <a:avLst/>
              </a:prstGeom>
              <a:noFill/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 flipH="1">
              <a:off x="3458880" y="3836880"/>
              <a:ext cx="231840" cy="3312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46440" y="3848040"/>
              <a:ext cx="357120" cy="253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379680" y="4298760"/>
              <a:ext cx="187200" cy="1147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33800" y="3152880"/>
              <a:ext cx="209520" cy="2295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8D03-9B6E-4803-863B-E8687148035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Primjer korištenja MATLAB funkcije </a:t>
            </a:r>
            <a:r>
              <a:rPr b="0" lang="hr-HR" sz="4400" spc="-1" strike="noStrike">
                <a:solidFill>
                  <a:srgbClr val="00fffe"/>
                </a:solidFill>
                <a:latin typeface="Courier New"/>
              </a:rPr>
              <a:t>remez()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Definicije varijabli potrebnih za ostvarenje primjera željene frekvencijske karakteristik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Courier New"/>
              </a:rPr>
              <a:t>N = 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Courier New"/>
              </a:rPr>
              <a:t>f = [0   0.2 0.25 0.75 0.8 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Courier New"/>
              </a:rPr>
              <a:t>m = [0.5 0.5 0    0    1   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Courier New"/>
              </a:rPr>
              <a:t>w = [4 1 2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ziv funkcije </a:t>
            </a:r>
            <a:r>
              <a:rPr b="0" lang="hr-HR" sz="2800" spc="-1" strike="noStrike">
                <a:solidFill>
                  <a:srgbClr val="ffffff"/>
                </a:solidFill>
                <a:latin typeface="Courier New"/>
              </a:rPr>
              <a:t>remez(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hr-HR" sz="2800" spc="-1" strike="noStrike">
                <a:solidFill>
                  <a:srgbClr val="ffff00"/>
                </a:solidFill>
                <a:latin typeface="Courier New"/>
              </a:rPr>
              <a:t>b = remez(N, f, m, 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28FC-A59F-46B7-A03A-D582D65A07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3381480" y="3076560"/>
            <a:ext cx="2663640" cy="2295720"/>
            <a:chOff x="3381480" y="3076560"/>
            <a:chExt cx="2663640" cy="2295720"/>
          </a:xfrm>
        </p:grpSpPr>
        <p:sp>
          <p:nvSpPr>
            <p:cNvPr id="363" name=""/>
            <p:cNvSpPr/>
            <p:nvPr/>
          </p:nvSpPr>
          <p:spPr>
            <a:xfrm>
              <a:off x="3381480" y="4222800"/>
              <a:ext cx="187200" cy="1147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35600" y="3076560"/>
              <a:ext cx="209520" cy="2295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452960" y="2347920"/>
            <a:ext cx="6370560" cy="4215960"/>
            <a:chOff x="1452960" y="2347920"/>
            <a:chExt cx="6370560" cy="4215960"/>
          </a:xfrm>
        </p:grpSpPr>
        <p:sp>
          <p:nvSpPr>
            <p:cNvPr id="366" name=""/>
            <p:cNvSpPr/>
            <p:nvPr/>
          </p:nvSpPr>
          <p:spPr>
            <a:xfrm>
              <a:off x="3281040" y="6105600"/>
              <a:ext cx="718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2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95640" y="6105600"/>
              <a:ext cx="565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452960" y="2347920"/>
              <a:ext cx="6370560" cy="3911040"/>
              <a:chOff x="1452960" y="2347920"/>
              <a:chExt cx="6370560" cy="3911040"/>
            </a:xfrm>
          </p:grpSpPr>
          <p:sp>
            <p:nvSpPr>
              <p:cNvPr id="369" name=""/>
              <p:cNvSpPr/>
              <p:nvPr/>
            </p:nvSpPr>
            <p:spPr>
              <a:xfrm>
                <a:off x="6043680" y="3067200"/>
                <a:ext cx="0" cy="28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3370320" y="3962160"/>
                <a:ext cx="0" cy="1904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2471760" y="2603520"/>
                <a:ext cx="0" cy="3416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471760" y="5376960"/>
                <a:ext cx="42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147400" y="518796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52440" y="5800680"/>
                <a:ext cx="5659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0,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471760" y="3068640"/>
                <a:ext cx="42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157120" y="286056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471760" y="4110120"/>
                <a:ext cx="900000" cy="226800"/>
              </a:xfrm>
              <a:custGeom>
                <a:avLst/>
                <a:gdLst/>
                <a:ahLst/>
                <a:rect l="l" t="t" r="r" b="b"/>
                <a:pathLst>
                  <a:path w="567" h="143">
                    <a:moveTo>
                      <a:pt x="0" y="0"/>
                    </a:moveTo>
                    <a:lnTo>
                      <a:pt x="566" y="0"/>
                    </a:lnTo>
                    <a:lnTo>
                      <a:pt x="566" y="142"/>
                    </a:lnTo>
                    <a:lnTo>
                      <a:pt x="0" y="14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custDash>
                  <a:ds d="499000" sp="20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586320" y="5376960"/>
                <a:ext cx="2243160" cy="1440"/>
              </a:xfrm>
              <a:custGeom>
                <a:avLst/>
                <a:gdLst/>
                <a:ahLst/>
                <a:rect l="l" t="t" r="r" b="b"/>
                <a:pathLst>
                  <a:path w="1413" h="1">
                    <a:moveTo>
                      <a:pt x="0" y="0"/>
                    </a:moveTo>
                    <a:lnTo>
                      <a:pt x="1412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045120" y="2828880"/>
                <a:ext cx="898560" cy="469800"/>
              </a:xfrm>
              <a:custGeom>
                <a:avLst/>
                <a:gdLst/>
                <a:ahLst/>
                <a:rect l="l" t="t" r="r" b="b"/>
                <a:pathLst>
                  <a:path w="566" h="296">
                    <a:moveTo>
                      <a:pt x="565" y="0"/>
                    </a:moveTo>
                    <a:lnTo>
                      <a:pt x="0" y="0"/>
                    </a:lnTo>
                    <a:lnTo>
                      <a:pt x="0" y="295"/>
                    </a:lnTo>
                    <a:lnTo>
                      <a:pt x="565" y="295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custDash>
                  <a:ds d="499000" sp="20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3581280" y="3962520"/>
                <a:ext cx="3240" cy="186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5827680" y="3936960"/>
                <a:ext cx="0" cy="1440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471760" y="5376960"/>
                <a:ext cx="5072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2471400" y="4910040"/>
                <a:ext cx="335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471400" y="5829480"/>
                <a:ext cx="3343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29480" y="4910040"/>
                <a:ext cx="0" cy="91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2471760" y="4209840"/>
                <a:ext cx="90000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586320" y="5376960"/>
                <a:ext cx="2243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043680" y="3067200"/>
                <a:ext cx="900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490720" y="5800680"/>
                <a:ext cx="7185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0,7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46920" y="2825640"/>
                <a:ext cx="0" cy="255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784560" y="541980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906200" y="3968640"/>
                <a:ext cx="5659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0,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429680" y="5394240"/>
                <a:ext cx="393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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452960" y="2347920"/>
                <a:ext cx="9594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ffff00"/>
                    </a:solidFill>
                    <a:latin typeface="Times New Roman"/>
                  </a:rPr>
                  <a:t>A</a:t>
                </a:r>
                <a:r>
                  <a:rPr b="0" lang="hr-HR" sz="2400" spc="-1" strike="noStrike" baseline="-25000">
                    <a:solidFill>
                      <a:srgbClr val="ffff00"/>
                    </a:solidFill>
                    <a:latin typeface="Times New Roman"/>
                  </a:rPr>
                  <a:t>e</a:t>
                </a:r>
                <a:r>
                  <a:rPr b="0" lang="hr-HR" sz="2400" spc="-1" strike="noStrike">
                    <a:solidFill>
                      <a:srgbClr val="ffff00"/>
                    </a:solidFill>
                    <a:latin typeface="Times New Roman"/>
                  </a:rPr>
                  <a:t>(</a:t>
                </a:r>
                <a:r>
                  <a:rPr b="0" i="1" lang="hr-HR" sz="2400" spc="-1" strike="noStrike">
                    <a:solidFill>
                      <a:srgbClr val="ffff00"/>
                    </a:solidFill>
                    <a:latin typeface="Times New Roman"/>
                  </a:rPr>
                  <a:t>e</a:t>
                </a:r>
                <a:r>
                  <a:rPr b="0" i="1" lang="hr-HR" sz="2400" spc="-1" strike="noStrike" baseline="30000">
                    <a:solidFill>
                      <a:srgbClr val="ffff00"/>
                    </a:solidFill>
                    <a:latin typeface="Times New Roman"/>
                  </a:rPr>
                  <a:t>j</a:t>
                </a:r>
                <a:r>
                  <a:rPr b="0" lang="hr-HR" sz="2400" spc="-1" strike="noStrike" baseline="30000">
                    <a:solidFill>
                      <a:srgbClr val="ffff00"/>
                    </a:solidFill>
                    <a:latin typeface="Symbol"/>
                    <a:ea typeface="Symbol"/>
                  </a:rPr>
                  <a:t></a:t>
                </a:r>
                <a:r>
                  <a:rPr b="0" lang="hr-HR" sz="2400" spc="-1" strike="noStrike">
                    <a:solidFill>
                      <a:srgbClr val="ffff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130280" y="2590920"/>
                <a:ext cx="10170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N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 = 2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471760" y="2828880"/>
                <a:ext cx="4471920" cy="3003480"/>
              </a:xfrm>
              <a:custGeom>
                <a:avLst/>
                <a:gdLst/>
                <a:ahLst/>
                <a:rect l="l" t="t" r="r" b="b"/>
                <a:pathLst>
                  <a:path w="2817" h="1892">
                    <a:moveTo>
                      <a:pt x="0" y="948"/>
                    </a:moveTo>
                    <a:lnTo>
                      <a:pt x="6" y="948"/>
                    </a:lnTo>
                    <a:lnTo>
                      <a:pt x="13" y="948"/>
                    </a:lnTo>
                    <a:lnTo>
                      <a:pt x="19" y="948"/>
                    </a:lnTo>
                    <a:lnTo>
                      <a:pt x="19" y="942"/>
                    </a:lnTo>
                    <a:lnTo>
                      <a:pt x="26" y="942"/>
                    </a:lnTo>
                    <a:lnTo>
                      <a:pt x="32" y="942"/>
                    </a:lnTo>
                    <a:lnTo>
                      <a:pt x="39" y="942"/>
                    </a:lnTo>
                    <a:lnTo>
                      <a:pt x="45" y="942"/>
                    </a:lnTo>
                    <a:lnTo>
                      <a:pt x="52" y="935"/>
                    </a:lnTo>
                    <a:lnTo>
                      <a:pt x="58" y="928"/>
                    </a:lnTo>
                    <a:lnTo>
                      <a:pt x="65" y="928"/>
                    </a:lnTo>
                    <a:lnTo>
                      <a:pt x="71" y="921"/>
                    </a:lnTo>
                    <a:lnTo>
                      <a:pt x="78" y="921"/>
                    </a:lnTo>
                    <a:lnTo>
                      <a:pt x="84" y="914"/>
                    </a:lnTo>
                    <a:lnTo>
                      <a:pt x="91" y="914"/>
                    </a:lnTo>
                    <a:lnTo>
                      <a:pt x="91" y="907"/>
                    </a:lnTo>
                    <a:lnTo>
                      <a:pt x="97" y="907"/>
                    </a:lnTo>
                    <a:lnTo>
                      <a:pt x="104" y="901"/>
                    </a:lnTo>
                    <a:lnTo>
                      <a:pt x="110" y="901"/>
                    </a:lnTo>
                    <a:lnTo>
                      <a:pt x="117" y="894"/>
                    </a:lnTo>
                    <a:lnTo>
                      <a:pt x="123" y="887"/>
                    </a:lnTo>
                    <a:lnTo>
                      <a:pt x="130" y="880"/>
                    </a:lnTo>
                    <a:lnTo>
                      <a:pt x="136" y="873"/>
                    </a:lnTo>
                    <a:lnTo>
                      <a:pt x="143" y="873"/>
                    </a:lnTo>
                    <a:lnTo>
                      <a:pt x="149" y="866"/>
                    </a:lnTo>
                    <a:lnTo>
                      <a:pt x="156" y="859"/>
                    </a:lnTo>
                    <a:lnTo>
                      <a:pt x="162" y="859"/>
                    </a:lnTo>
                    <a:lnTo>
                      <a:pt x="162" y="853"/>
                    </a:lnTo>
                    <a:lnTo>
                      <a:pt x="169" y="853"/>
                    </a:lnTo>
                    <a:lnTo>
                      <a:pt x="175" y="846"/>
                    </a:lnTo>
                    <a:lnTo>
                      <a:pt x="182" y="840"/>
                    </a:lnTo>
                    <a:lnTo>
                      <a:pt x="188" y="840"/>
                    </a:lnTo>
                    <a:lnTo>
                      <a:pt x="195" y="833"/>
                    </a:lnTo>
                    <a:lnTo>
                      <a:pt x="201" y="826"/>
                    </a:lnTo>
                    <a:lnTo>
                      <a:pt x="208" y="826"/>
                    </a:lnTo>
                    <a:lnTo>
                      <a:pt x="214" y="826"/>
                    </a:lnTo>
                    <a:lnTo>
                      <a:pt x="221" y="820"/>
                    </a:lnTo>
                    <a:lnTo>
                      <a:pt x="227" y="820"/>
                    </a:lnTo>
                    <a:lnTo>
                      <a:pt x="234" y="813"/>
                    </a:lnTo>
                    <a:lnTo>
                      <a:pt x="240" y="813"/>
                    </a:lnTo>
                    <a:lnTo>
                      <a:pt x="247" y="813"/>
                    </a:lnTo>
                    <a:lnTo>
                      <a:pt x="253" y="806"/>
                    </a:lnTo>
                    <a:lnTo>
                      <a:pt x="260" y="806"/>
                    </a:lnTo>
                    <a:lnTo>
                      <a:pt x="266" y="806"/>
                    </a:lnTo>
                    <a:lnTo>
                      <a:pt x="273" y="806"/>
                    </a:lnTo>
                    <a:lnTo>
                      <a:pt x="279" y="806"/>
                    </a:lnTo>
                    <a:lnTo>
                      <a:pt x="286" y="806"/>
                    </a:lnTo>
                    <a:lnTo>
                      <a:pt x="292" y="806"/>
                    </a:lnTo>
                    <a:lnTo>
                      <a:pt x="299" y="806"/>
                    </a:lnTo>
                    <a:lnTo>
                      <a:pt x="305" y="806"/>
                    </a:lnTo>
                    <a:lnTo>
                      <a:pt x="312" y="806"/>
                    </a:lnTo>
                    <a:lnTo>
                      <a:pt x="318" y="806"/>
                    </a:lnTo>
                    <a:lnTo>
                      <a:pt x="325" y="806"/>
                    </a:lnTo>
                    <a:lnTo>
                      <a:pt x="331" y="806"/>
                    </a:lnTo>
                    <a:lnTo>
                      <a:pt x="338" y="806"/>
                    </a:lnTo>
                    <a:lnTo>
                      <a:pt x="344" y="813"/>
                    </a:lnTo>
                    <a:lnTo>
                      <a:pt x="351" y="813"/>
                    </a:lnTo>
                    <a:lnTo>
                      <a:pt x="357" y="813"/>
                    </a:lnTo>
                    <a:lnTo>
                      <a:pt x="364" y="813"/>
                    </a:lnTo>
                    <a:lnTo>
                      <a:pt x="370" y="820"/>
                    </a:lnTo>
                    <a:lnTo>
                      <a:pt x="377" y="820"/>
                    </a:lnTo>
                    <a:lnTo>
                      <a:pt x="383" y="820"/>
                    </a:lnTo>
                    <a:lnTo>
                      <a:pt x="390" y="826"/>
                    </a:lnTo>
                    <a:lnTo>
                      <a:pt x="396" y="826"/>
                    </a:lnTo>
                    <a:lnTo>
                      <a:pt x="403" y="826"/>
                    </a:lnTo>
                    <a:lnTo>
                      <a:pt x="409" y="833"/>
                    </a:lnTo>
                    <a:lnTo>
                      <a:pt x="416" y="833"/>
                    </a:lnTo>
                    <a:lnTo>
                      <a:pt x="422" y="840"/>
                    </a:lnTo>
                    <a:lnTo>
                      <a:pt x="429" y="840"/>
                    </a:lnTo>
                    <a:lnTo>
                      <a:pt x="435" y="840"/>
                    </a:lnTo>
                    <a:lnTo>
                      <a:pt x="442" y="846"/>
                    </a:lnTo>
                    <a:lnTo>
                      <a:pt x="448" y="846"/>
                    </a:lnTo>
                    <a:lnTo>
                      <a:pt x="448" y="853"/>
                    </a:lnTo>
                    <a:lnTo>
                      <a:pt x="455" y="853"/>
                    </a:lnTo>
                    <a:lnTo>
                      <a:pt x="461" y="853"/>
                    </a:lnTo>
                    <a:lnTo>
                      <a:pt x="468" y="859"/>
                    </a:lnTo>
                    <a:lnTo>
                      <a:pt x="474" y="859"/>
                    </a:lnTo>
                    <a:lnTo>
                      <a:pt x="481" y="866"/>
                    </a:lnTo>
                    <a:lnTo>
                      <a:pt x="487" y="873"/>
                    </a:lnTo>
                    <a:lnTo>
                      <a:pt x="494" y="873"/>
                    </a:lnTo>
                    <a:lnTo>
                      <a:pt x="500" y="880"/>
                    </a:lnTo>
                    <a:lnTo>
                      <a:pt x="507" y="887"/>
                    </a:lnTo>
                    <a:lnTo>
                      <a:pt x="513" y="887"/>
                    </a:lnTo>
                    <a:lnTo>
                      <a:pt x="513" y="894"/>
                    </a:lnTo>
                    <a:lnTo>
                      <a:pt x="520" y="901"/>
                    </a:lnTo>
                    <a:lnTo>
                      <a:pt x="526" y="907"/>
                    </a:lnTo>
                    <a:lnTo>
                      <a:pt x="533" y="907"/>
                    </a:lnTo>
                    <a:lnTo>
                      <a:pt x="539" y="914"/>
                    </a:lnTo>
                    <a:lnTo>
                      <a:pt x="546" y="921"/>
                    </a:lnTo>
                    <a:lnTo>
                      <a:pt x="552" y="928"/>
                    </a:lnTo>
                    <a:lnTo>
                      <a:pt x="552" y="935"/>
                    </a:lnTo>
                    <a:lnTo>
                      <a:pt x="559" y="942"/>
                    </a:lnTo>
                    <a:lnTo>
                      <a:pt x="565" y="955"/>
                    </a:lnTo>
                    <a:lnTo>
                      <a:pt x="572" y="962"/>
                    </a:lnTo>
                    <a:lnTo>
                      <a:pt x="578" y="969"/>
                    </a:lnTo>
                    <a:lnTo>
                      <a:pt x="585" y="976"/>
                    </a:lnTo>
                    <a:lnTo>
                      <a:pt x="585" y="989"/>
                    </a:lnTo>
                    <a:lnTo>
                      <a:pt x="591" y="996"/>
                    </a:lnTo>
                    <a:lnTo>
                      <a:pt x="598" y="1010"/>
                    </a:lnTo>
                    <a:lnTo>
                      <a:pt x="604" y="1024"/>
                    </a:lnTo>
                    <a:lnTo>
                      <a:pt x="611" y="1031"/>
                    </a:lnTo>
                    <a:lnTo>
                      <a:pt x="617" y="1044"/>
                    </a:lnTo>
                    <a:lnTo>
                      <a:pt x="624" y="1058"/>
                    </a:lnTo>
                    <a:lnTo>
                      <a:pt x="624" y="1072"/>
                    </a:lnTo>
                    <a:lnTo>
                      <a:pt x="630" y="1085"/>
                    </a:lnTo>
                    <a:lnTo>
                      <a:pt x="637" y="1099"/>
                    </a:lnTo>
                    <a:lnTo>
                      <a:pt x="643" y="1113"/>
                    </a:lnTo>
                    <a:lnTo>
                      <a:pt x="650" y="1133"/>
                    </a:lnTo>
                    <a:lnTo>
                      <a:pt x="656" y="1147"/>
                    </a:lnTo>
                    <a:lnTo>
                      <a:pt x="656" y="1161"/>
                    </a:lnTo>
                    <a:lnTo>
                      <a:pt x="663" y="1181"/>
                    </a:lnTo>
                    <a:lnTo>
                      <a:pt x="669" y="1195"/>
                    </a:lnTo>
                    <a:lnTo>
                      <a:pt x="676" y="1215"/>
                    </a:lnTo>
                    <a:lnTo>
                      <a:pt x="682" y="1236"/>
                    </a:lnTo>
                    <a:lnTo>
                      <a:pt x="689" y="1256"/>
                    </a:lnTo>
                    <a:lnTo>
                      <a:pt x="695" y="1270"/>
                    </a:lnTo>
                    <a:lnTo>
                      <a:pt x="695" y="1291"/>
                    </a:lnTo>
                    <a:lnTo>
                      <a:pt x="702" y="1311"/>
                    </a:lnTo>
                    <a:lnTo>
                      <a:pt x="708" y="1330"/>
                    </a:lnTo>
                    <a:lnTo>
                      <a:pt x="715" y="1351"/>
                    </a:lnTo>
                    <a:lnTo>
                      <a:pt x="721" y="1372"/>
                    </a:lnTo>
                    <a:lnTo>
                      <a:pt x="728" y="1392"/>
                    </a:lnTo>
                    <a:lnTo>
                      <a:pt x="728" y="1413"/>
                    </a:lnTo>
                    <a:lnTo>
                      <a:pt x="734" y="1440"/>
                    </a:lnTo>
                    <a:lnTo>
                      <a:pt x="741" y="1461"/>
                    </a:lnTo>
                    <a:lnTo>
                      <a:pt x="747" y="1481"/>
                    </a:lnTo>
                    <a:lnTo>
                      <a:pt x="754" y="1502"/>
                    </a:lnTo>
                    <a:lnTo>
                      <a:pt x="760" y="1522"/>
                    </a:lnTo>
                    <a:lnTo>
                      <a:pt x="767" y="1543"/>
                    </a:lnTo>
                    <a:lnTo>
                      <a:pt x="767" y="1563"/>
                    </a:lnTo>
                    <a:lnTo>
                      <a:pt x="773" y="1584"/>
                    </a:lnTo>
                    <a:lnTo>
                      <a:pt x="780" y="1604"/>
                    </a:lnTo>
                    <a:lnTo>
                      <a:pt x="786" y="1625"/>
                    </a:lnTo>
                    <a:lnTo>
                      <a:pt x="793" y="1645"/>
                    </a:lnTo>
                    <a:lnTo>
                      <a:pt x="799" y="1666"/>
                    </a:lnTo>
                    <a:lnTo>
                      <a:pt x="799" y="1686"/>
                    </a:lnTo>
                    <a:lnTo>
                      <a:pt x="806" y="1700"/>
                    </a:lnTo>
                    <a:lnTo>
                      <a:pt x="812" y="1721"/>
                    </a:lnTo>
                    <a:lnTo>
                      <a:pt x="819" y="1734"/>
                    </a:lnTo>
                    <a:lnTo>
                      <a:pt x="825" y="1755"/>
                    </a:lnTo>
                    <a:lnTo>
                      <a:pt x="832" y="1768"/>
                    </a:lnTo>
                    <a:lnTo>
                      <a:pt x="838" y="1782"/>
                    </a:lnTo>
                    <a:lnTo>
                      <a:pt x="838" y="1796"/>
                    </a:lnTo>
                    <a:lnTo>
                      <a:pt x="845" y="1808"/>
                    </a:lnTo>
                    <a:lnTo>
                      <a:pt x="851" y="1822"/>
                    </a:lnTo>
                    <a:lnTo>
                      <a:pt x="858" y="1836"/>
                    </a:lnTo>
                    <a:lnTo>
                      <a:pt x="864" y="1843"/>
                    </a:lnTo>
                    <a:lnTo>
                      <a:pt x="871" y="1856"/>
                    </a:lnTo>
                    <a:lnTo>
                      <a:pt x="871" y="1863"/>
                    </a:lnTo>
                    <a:lnTo>
                      <a:pt x="877" y="1870"/>
                    </a:lnTo>
                    <a:lnTo>
                      <a:pt x="884" y="1877"/>
                    </a:lnTo>
                    <a:lnTo>
                      <a:pt x="890" y="1884"/>
                    </a:lnTo>
                    <a:lnTo>
                      <a:pt x="897" y="1891"/>
                    </a:lnTo>
                    <a:lnTo>
                      <a:pt x="903" y="1891"/>
                    </a:lnTo>
                    <a:lnTo>
                      <a:pt x="910" y="1891"/>
                    </a:lnTo>
                    <a:lnTo>
                      <a:pt x="916" y="1891"/>
                    </a:lnTo>
                    <a:lnTo>
                      <a:pt x="923" y="1891"/>
                    </a:lnTo>
                    <a:lnTo>
                      <a:pt x="929" y="1891"/>
                    </a:lnTo>
                    <a:lnTo>
                      <a:pt x="936" y="1884"/>
                    </a:lnTo>
                    <a:lnTo>
                      <a:pt x="943" y="1884"/>
                    </a:lnTo>
                    <a:lnTo>
                      <a:pt x="943" y="1877"/>
                    </a:lnTo>
                    <a:lnTo>
                      <a:pt x="949" y="1870"/>
                    </a:lnTo>
                    <a:lnTo>
                      <a:pt x="956" y="1863"/>
                    </a:lnTo>
                    <a:lnTo>
                      <a:pt x="962" y="1849"/>
                    </a:lnTo>
                    <a:lnTo>
                      <a:pt x="969" y="1843"/>
                    </a:lnTo>
                    <a:lnTo>
                      <a:pt x="975" y="1829"/>
                    </a:lnTo>
                    <a:lnTo>
                      <a:pt x="982" y="1815"/>
                    </a:lnTo>
                    <a:lnTo>
                      <a:pt x="982" y="1808"/>
                    </a:lnTo>
                    <a:lnTo>
                      <a:pt x="988" y="1796"/>
                    </a:lnTo>
                    <a:lnTo>
                      <a:pt x="995" y="1782"/>
                    </a:lnTo>
                    <a:lnTo>
                      <a:pt x="1001" y="1762"/>
                    </a:lnTo>
                    <a:lnTo>
                      <a:pt x="1008" y="1748"/>
                    </a:lnTo>
                    <a:lnTo>
                      <a:pt x="1014" y="1734"/>
                    </a:lnTo>
                    <a:lnTo>
                      <a:pt x="1014" y="1714"/>
                    </a:lnTo>
                    <a:lnTo>
                      <a:pt x="1021" y="1700"/>
                    </a:lnTo>
                    <a:lnTo>
                      <a:pt x="1027" y="1680"/>
                    </a:lnTo>
                    <a:lnTo>
                      <a:pt x="1034" y="1666"/>
                    </a:lnTo>
                    <a:lnTo>
                      <a:pt x="1040" y="1645"/>
                    </a:lnTo>
                    <a:lnTo>
                      <a:pt x="1047" y="1632"/>
                    </a:lnTo>
                    <a:lnTo>
                      <a:pt x="1053" y="1611"/>
                    </a:lnTo>
                    <a:lnTo>
                      <a:pt x="1053" y="1591"/>
                    </a:lnTo>
                    <a:lnTo>
                      <a:pt x="1060" y="1577"/>
                    </a:lnTo>
                    <a:lnTo>
                      <a:pt x="1066" y="1556"/>
                    </a:lnTo>
                    <a:lnTo>
                      <a:pt x="1073" y="1536"/>
                    </a:lnTo>
                    <a:lnTo>
                      <a:pt x="1079" y="1522"/>
                    </a:lnTo>
                    <a:lnTo>
                      <a:pt x="1086" y="1502"/>
                    </a:lnTo>
                    <a:lnTo>
                      <a:pt x="1086" y="1488"/>
                    </a:lnTo>
                    <a:lnTo>
                      <a:pt x="1092" y="1467"/>
                    </a:lnTo>
                    <a:lnTo>
                      <a:pt x="1099" y="1454"/>
                    </a:lnTo>
                    <a:lnTo>
                      <a:pt x="1105" y="1440"/>
                    </a:lnTo>
                    <a:lnTo>
                      <a:pt x="1112" y="1419"/>
                    </a:lnTo>
                    <a:lnTo>
                      <a:pt x="1118" y="1406"/>
                    </a:lnTo>
                    <a:lnTo>
                      <a:pt x="1125" y="1392"/>
                    </a:lnTo>
                    <a:lnTo>
                      <a:pt x="1125" y="1385"/>
                    </a:lnTo>
                    <a:lnTo>
                      <a:pt x="1131" y="1372"/>
                    </a:lnTo>
                    <a:lnTo>
                      <a:pt x="1138" y="1358"/>
                    </a:lnTo>
                    <a:lnTo>
                      <a:pt x="1144" y="1351"/>
                    </a:lnTo>
                    <a:lnTo>
                      <a:pt x="1151" y="1344"/>
                    </a:lnTo>
                    <a:lnTo>
                      <a:pt x="1157" y="1337"/>
                    </a:lnTo>
                    <a:lnTo>
                      <a:pt x="1157" y="1330"/>
                    </a:lnTo>
                    <a:lnTo>
                      <a:pt x="1164" y="1324"/>
                    </a:lnTo>
                    <a:lnTo>
                      <a:pt x="1170" y="1318"/>
                    </a:lnTo>
                    <a:lnTo>
                      <a:pt x="1177" y="1318"/>
                    </a:lnTo>
                    <a:lnTo>
                      <a:pt x="1183" y="1311"/>
                    </a:lnTo>
                    <a:lnTo>
                      <a:pt x="1190" y="1311"/>
                    </a:lnTo>
                    <a:lnTo>
                      <a:pt x="1196" y="1311"/>
                    </a:lnTo>
                    <a:lnTo>
                      <a:pt x="1203" y="1318"/>
                    </a:lnTo>
                    <a:lnTo>
                      <a:pt x="1209" y="1318"/>
                    </a:lnTo>
                    <a:lnTo>
                      <a:pt x="1216" y="1324"/>
                    </a:lnTo>
                    <a:lnTo>
                      <a:pt x="1222" y="1330"/>
                    </a:lnTo>
                    <a:lnTo>
                      <a:pt x="1229" y="1337"/>
                    </a:lnTo>
                    <a:lnTo>
                      <a:pt x="1229" y="1344"/>
                    </a:lnTo>
                    <a:lnTo>
                      <a:pt x="1235" y="1358"/>
                    </a:lnTo>
                    <a:lnTo>
                      <a:pt x="1242" y="1365"/>
                    </a:lnTo>
                    <a:lnTo>
                      <a:pt x="1248" y="1378"/>
                    </a:lnTo>
                    <a:lnTo>
                      <a:pt x="1255" y="1392"/>
                    </a:lnTo>
                    <a:lnTo>
                      <a:pt x="1261" y="1406"/>
                    </a:lnTo>
                    <a:lnTo>
                      <a:pt x="1268" y="1419"/>
                    </a:lnTo>
                    <a:lnTo>
                      <a:pt x="1268" y="1433"/>
                    </a:lnTo>
                    <a:lnTo>
                      <a:pt x="1274" y="1447"/>
                    </a:lnTo>
                    <a:lnTo>
                      <a:pt x="1281" y="1461"/>
                    </a:lnTo>
                    <a:lnTo>
                      <a:pt x="1287" y="1481"/>
                    </a:lnTo>
                    <a:lnTo>
                      <a:pt x="1294" y="1495"/>
                    </a:lnTo>
                    <a:lnTo>
                      <a:pt x="1300" y="1515"/>
                    </a:lnTo>
                    <a:lnTo>
                      <a:pt x="1300" y="1529"/>
                    </a:lnTo>
                    <a:lnTo>
                      <a:pt x="1307" y="1549"/>
                    </a:lnTo>
                    <a:lnTo>
                      <a:pt x="1313" y="1570"/>
                    </a:lnTo>
                    <a:lnTo>
                      <a:pt x="1320" y="1591"/>
                    </a:lnTo>
                    <a:lnTo>
                      <a:pt x="1326" y="1604"/>
                    </a:lnTo>
                    <a:lnTo>
                      <a:pt x="1333" y="1625"/>
                    </a:lnTo>
                    <a:lnTo>
                      <a:pt x="1339" y="1645"/>
                    </a:lnTo>
                    <a:lnTo>
                      <a:pt x="1339" y="1659"/>
                    </a:lnTo>
                    <a:lnTo>
                      <a:pt x="1346" y="1680"/>
                    </a:lnTo>
                    <a:lnTo>
                      <a:pt x="1352" y="1700"/>
                    </a:lnTo>
                    <a:lnTo>
                      <a:pt x="1359" y="1714"/>
                    </a:lnTo>
                    <a:lnTo>
                      <a:pt x="1365" y="1734"/>
                    </a:lnTo>
                    <a:lnTo>
                      <a:pt x="1372" y="1748"/>
                    </a:lnTo>
                    <a:lnTo>
                      <a:pt x="1372" y="1768"/>
                    </a:lnTo>
                    <a:lnTo>
                      <a:pt x="1378" y="1782"/>
                    </a:lnTo>
                    <a:lnTo>
                      <a:pt x="1385" y="1796"/>
                    </a:lnTo>
                    <a:lnTo>
                      <a:pt x="1391" y="1808"/>
                    </a:lnTo>
                    <a:lnTo>
                      <a:pt x="1398" y="1822"/>
                    </a:lnTo>
                    <a:lnTo>
                      <a:pt x="1404" y="1836"/>
                    </a:lnTo>
                    <a:lnTo>
                      <a:pt x="1411" y="1843"/>
                    </a:lnTo>
                    <a:lnTo>
                      <a:pt x="1411" y="1856"/>
                    </a:lnTo>
                    <a:lnTo>
                      <a:pt x="1417" y="1863"/>
                    </a:lnTo>
                    <a:lnTo>
                      <a:pt x="1424" y="1870"/>
                    </a:lnTo>
                    <a:lnTo>
                      <a:pt x="1430" y="1877"/>
                    </a:lnTo>
                    <a:lnTo>
                      <a:pt x="1437" y="1884"/>
                    </a:lnTo>
                    <a:lnTo>
                      <a:pt x="1443" y="1884"/>
                    </a:lnTo>
                    <a:lnTo>
                      <a:pt x="1443" y="1891"/>
                    </a:lnTo>
                    <a:lnTo>
                      <a:pt x="1450" y="1891"/>
                    </a:lnTo>
                    <a:lnTo>
                      <a:pt x="1456" y="1891"/>
                    </a:lnTo>
                    <a:lnTo>
                      <a:pt x="1463" y="1891"/>
                    </a:lnTo>
                    <a:lnTo>
                      <a:pt x="1469" y="1891"/>
                    </a:lnTo>
                    <a:lnTo>
                      <a:pt x="1476" y="1891"/>
                    </a:lnTo>
                    <a:lnTo>
                      <a:pt x="1476" y="1884"/>
                    </a:lnTo>
                    <a:lnTo>
                      <a:pt x="1482" y="1877"/>
                    </a:lnTo>
                    <a:lnTo>
                      <a:pt x="1489" y="1870"/>
                    </a:lnTo>
                    <a:lnTo>
                      <a:pt x="1495" y="1863"/>
                    </a:lnTo>
                    <a:lnTo>
                      <a:pt x="1502" y="1856"/>
                    </a:lnTo>
                    <a:lnTo>
                      <a:pt x="1508" y="1843"/>
                    </a:lnTo>
                    <a:lnTo>
                      <a:pt x="1515" y="1836"/>
                    </a:lnTo>
                    <a:lnTo>
                      <a:pt x="1515" y="1822"/>
                    </a:lnTo>
                    <a:lnTo>
                      <a:pt x="1521" y="1808"/>
                    </a:lnTo>
                    <a:lnTo>
                      <a:pt x="1528" y="1796"/>
                    </a:lnTo>
                    <a:lnTo>
                      <a:pt x="1534" y="1782"/>
                    </a:lnTo>
                    <a:lnTo>
                      <a:pt x="1541" y="1768"/>
                    </a:lnTo>
                    <a:lnTo>
                      <a:pt x="1547" y="1748"/>
                    </a:lnTo>
                    <a:lnTo>
                      <a:pt x="1547" y="1734"/>
                    </a:lnTo>
                    <a:lnTo>
                      <a:pt x="1554" y="1714"/>
                    </a:lnTo>
                    <a:lnTo>
                      <a:pt x="1560" y="1700"/>
                    </a:lnTo>
                    <a:lnTo>
                      <a:pt x="1567" y="1680"/>
                    </a:lnTo>
                    <a:lnTo>
                      <a:pt x="1573" y="1659"/>
                    </a:lnTo>
                    <a:lnTo>
                      <a:pt x="1580" y="1645"/>
                    </a:lnTo>
                    <a:lnTo>
                      <a:pt x="1586" y="1625"/>
                    </a:lnTo>
                    <a:lnTo>
                      <a:pt x="1586" y="1604"/>
                    </a:lnTo>
                    <a:lnTo>
                      <a:pt x="1593" y="1584"/>
                    </a:lnTo>
                    <a:lnTo>
                      <a:pt x="1599" y="1563"/>
                    </a:lnTo>
                    <a:lnTo>
                      <a:pt x="1606" y="1549"/>
                    </a:lnTo>
                    <a:lnTo>
                      <a:pt x="1612" y="1529"/>
                    </a:lnTo>
                    <a:lnTo>
                      <a:pt x="1619" y="1508"/>
                    </a:lnTo>
                    <a:lnTo>
                      <a:pt x="1619" y="1495"/>
                    </a:lnTo>
                    <a:lnTo>
                      <a:pt x="1625" y="1474"/>
                    </a:lnTo>
                    <a:lnTo>
                      <a:pt x="1632" y="1461"/>
                    </a:lnTo>
                    <a:lnTo>
                      <a:pt x="1638" y="1440"/>
                    </a:lnTo>
                    <a:lnTo>
                      <a:pt x="1645" y="1426"/>
                    </a:lnTo>
                    <a:lnTo>
                      <a:pt x="1651" y="1413"/>
                    </a:lnTo>
                    <a:lnTo>
                      <a:pt x="1658" y="1399"/>
                    </a:lnTo>
                    <a:lnTo>
                      <a:pt x="1658" y="1385"/>
                    </a:lnTo>
                    <a:lnTo>
                      <a:pt x="1664" y="1372"/>
                    </a:lnTo>
                    <a:lnTo>
                      <a:pt x="1671" y="1358"/>
                    </a:lnTo>
                    <a:lnTo>
                      <a:pt x="1677" y="1351"/>
                    </a:lnTo>
                    <a:lnTo>
                      <a:pt x="1684" y="1344"/>
                    </a:lnTo>
                    <a:lnTo>
                      <a:pt x="1690" y="1330"/>
                    </a:lnTo>
                    <a:lnTo>
                      <a:pt x="1690" y="1324"/>
                    </a:lnTo>
                    <a:lnTo>
                      <a:pt x="1697" y="1324"/>
                    </a:lnTo>
                    <a:lnTo>
                      <a:pt x="1703" y="1318"/>
                    </a:lnTo>
                    <a:lnTo>
                      <a:pt x="1710" y="1318"/>
                    </a:lnTo>
                    <a:lnTo>
                      <a:pt x="1716" y="1311"/>
                    </a:lnTo>
                    <a:lnTo>
                      <a:pt x="1723" y="1311"/>
                    </a:lnTo>
                    <a:lnTo>
                      <a:pt x="1729" y="1311"/>
                    </a:lnTo>
                    <a:lnTo>
                      <a:pt x="1729" y="1318"/>
                    </a:lnTo>
                    <a:lnTo>
                      <a:pt x="1736" y="1318"/>
                    </a:lnTo>
                    <a:lnTo>
                      <a:pt x="1742" y="1324"/>
                    </a:lnTo>
                    <a:lnTo>
                      <a:pt x="1749" y="1330"/>
                    </a:lnTo>
                    <a:lnTo>
                      <a:pt x="1755" y="1337"/>
                    </a:lnTo>
                    <a:lnTo>
                      <a:pt x="1762" y="1344"/>
                    </a:lnTo>
                    <a:lnTo>
                      <a:pt x="1762" y="1351"/>
                    </a:lnTo>
                    <a:lnTo>
                      <a:pt x="1768" y="1365"/>
                    </a:lnTo>
                    <a:lnTo>
                      <a:pt x="1775" y="1378"/>
                    </a:lnTo>
                    <a:lnTo>
                      <a:pt x="1781" y="1392"/>
                    </a:lnTo>
                    <a:lnTo>
                      <a:pt x="1788" y="1406"/>
                    </a:lnTo>
                    <a:lnTo>
                      <a:pt x="1794" y="1419"/>
                    </a:lnTo>
                    <a:lnTo>
                      <a:pt x="1801" y="1433"/>
                    </a:lnTo>
                    <a:lnTo>
                      <a:pt x="1801" y="1454"/>
                    </a:lnTo>
                    <a:lnTo>
                      <a:pt x="1807" y="1467"/>
                    </a:lnTo>
                    <a:lnTo>
                      <a:pt x="1814" y="1488"/>
                    </a:lnTo>
                    <a:lnTo>
                      <a:pt x="1820" y="1508"/>
                    </a:lnTo>
                    <a:lnTo>
                      <a:pt x="1827" y="1522"/>
                    </a:lnTo>
                    <a:lnTo>
                      <a:pt x="1833" y="1543"/>
                    </a:lnTo>
                    <a:lnTo>
                      <a:pt x="1833" y="1563"/>
                    </a:lnTo>
                    <a:lnTo>
                      <a:pt x="1840" y="1584"/>
                    </a:lnTo>
                    <a:lnTo>
                      <a:pt x="1846" y="1604"/>
                    </a:lnTo>
                    <a:lnTo>
                      <a:pt x="1853" y="1625"/>
                    </a:lnTo>
                    <a:lnTo>
                      <a:pt x="1859" y="1645"/>
                    </a:lnTo>
                    <a:lnTo>
                      <a:pt x="1866" y="1666"/>
                    </a:lnTo>
                    <a:lnTo>
                      <a:pt x="1872" y="1686"/>
                    </a:lnTo>
                    <a:lnTo>
                      <a:pt x="1872" y="1700"/>
                    </a:lnTo>
                    <a:lnTo>
                      <a:pt x="1879" y="1721"/>
                    </a:lnTo>
                    <a:lnTo>
                      <a:pt x="1886" y="1741"/>
                    </a:lnTo>
                    <a:lnTo>
                      <a:pt x="1892" y="1762"/>
                    </a:lnTo>
                    <a:lnTo>
                      <a:pt x="1899" y="1775"/>
                    </a:lnTo>
                    <a:lnTo>
                      <a:pt x="1905" y="1789"/>
                    </a:lnTo>
                    <a:lnTo>
                      <a:pt x="1905" y="1808"/>
                    </a:lnTo>
                    <a:lnTo>
                      <a:pt x="1912" y="1822"/>
                    </a:lnTo>
                    <a:lnTo>
                      <a:pt x="1918" y="1836"/>
                    </a:lnTo>
                    <a:lnTo>
                      <a:pt x="1925" y="1843"/>
                    </a:lnTo>
                    <a:lnTo>
                      <a:pt x="1931" y="1856"/>
                    </a:lnTo>
                    <a:lnTo>
                      <a:pt x="1938" y="1863"/>
                    </a:lnTo>
                    <a:lnTo>
                      <a:pt x="1944" y="1877"/>
                    </a:lnTo>
                    <a:lnTo>
                      <a:pt x="1944" y="1884"/>
                    </a:lnTo>
                    <a:lnTo>
                      <a:pt x="1951" y="1884"/>
                    </a:lnTo>
                    <a:lnTo>
                      <a:pt x="1957" y="1891"/>
                    </a:lnTo>
                    <a:lnTo>
                      <a:pt x="1964" y="1891"/>
                    </a:lnTo>
                    <a:lnTo>
                      <a:pt x="1970" y="1891"/>
                    </a:lnTo>
                    <a:lnTo>
                      <a:pt x="1977" y="1891"/>
                    </a:lnTo>
                    <a:lnTo>
                      <a:pt x="1983" y="1884"/>
                    </a:lnTo>
                    <a:lnTo>
                      <a:pt x="1990" y="1877"/>
                    </a:lnTo>
                    <a:lnTo>
                      <a:pt x="1996" y="1870"/>
                    </a:lnTo>
                    <a:lnTo>
                      <a:pt x="2003" y="1856"/>
                    </a:lnTo>
                    <a:lnTo>
                      <a:pt x="2009" y="1849"/>
                    </a:lnTo>
                    <a:lnTo>
                      <a:pt x="2016" y="1836"/>
                    </a:lnTo>
                    <a:lnTo>
                      <a:pt x="2016" y="1815"/>
                    </a:lnTo>
                    <a:lnTo>
                      <a:pt x="2022" y="1802"/>
                    </a:lnTo>
                    <a:lnTo>
                      <a:pt x="2029" y="1782"/>
                    </a:lnTo>
                    <a:lnTo>
                      <a:pt x="2035" y="1762"/>
                    </a:lnTo>
                    <a:lnTo>
                      <a:pt x="2042" y="1741"/>
                    </a:lnTo>
                    <a:lnTo>
                      <a:pt x="2048" y="1714"/>
                    </a:lnTo>
                    <a:lnTo>
                      <a:pt x="2048" y="1686"/>
                    </a:lnTo>
                    <a:lnTo>
                      <a:pt x="2055" y="1659"/>
                    </a:lnTo>
                    <a:lnTo>
                      <a:pt x="2061" y="1632"/>
                    </a:lnTo>
                    <a:lnTo>
                      <a:pt x="2068" y="1604"/>
                    </a:lnTo>
                    <a:lnTo>
                      <a:pt x="2074" y="1570"/>
                    </a:lnTo>
                    <a:lnTo>
                      <a:pt x="2081" y="1536"/>
                    </a:lnTo>
                    <a:lnTo>
                      <a:pt x="2087" y="1502"/>
                    </a:lnTo>
                    <a:lnTo>
                      <a:pt x="2087" y="1467"/>
                    </a:lnTo>
                    <a:lnTo>
                      <a:pt x="2094" y="1426"/>
                    </a:lnTo>
                    <a:lnTo>
                      <a:pt x="2100" y="1392"/>
                    </a:lnTo>
                    <a:lnTo>
                      <a:pt x="2107" y="1351"/>
                    </a:lnTo>
                    <a:lnTo>
                      <a:pt x="2113" y="1311"/>
                    </a:lnTo>
                    <a:lnTo>
                      <a:pt x="2120" y="1270"/>
                    </a:lnTo>
                    <a:lnTo>
                      <a:pt x="2120" y="1229"/>
                    </a:lnTo>
                    <a:lnTo>
                      <a:pt x="2126" y="1188"/>
                    </a:lnTo>
                    <a:lnTo>
                      <a:pt x="2133" y="1147"/>
                    </a:lnTo>
                    <a:lnTo>
                      <a:pt x="2139" y="1106"/>
                    </a:lnTo>
                    <a:lnTo>
                      <a:pt x="2146" y="1058"/>
                    </a:lnTo>
                    <a:lnTo>
                      <a:pt x="2152" y="1017"/>
                    </a:lnTo>
                    <a:lnTo>
                      <a:pt x="2159" y="976"/>
                    </a:lnTo>
                    <a:lnTo>
                      <a:pt x="2159" y="928"/>
                    </a:lnTo>
                    <a:lnTo>
                      <a:pt x="2165" y="887"/>
                    </a:lnTo>
                    <a:lnTo>
                      <a:pt x="2172" y="846"/>
                    </a:lnTo>
                    <a:lnTo>
                      <a:pt x="2178" y="799"/>
                    </a:lnTo>
                    <a:lnTo>
                      <a:pt x="2185" y="758"/>
                    </a:lnTo>
                    <a:lnTo>
                      <a:pt x="2191" y="717"/>
                    </a:lnTo>
                    <a:lnTo>
                      <a:pt x="2191" y="676"/>
                    </a:lnTo>
                    <a:lnTo>
                      <a:pt x="2198" y="635"/>
                    </a:lnTo>
                    <a:lnTo>
                      <a:pt x="2204" y="594"/>
                    </a:lnTo>
                    <a:lnTo>
                      <a:pt x="2211" y="553"/>
                    </a:lnTo>
                    <a:lnTo>
                      <a:pt x="2217" y="518"/>
                    </a:lnTo>
                    <a:lnTo>
                      <a:pt x="2224" y="477"/>
                    </a:lnTo>
                    <a:lnTo>
                      <a:pt x="2230" y="443"/>
                    </a:lnTo>
                    <a:lnTo>
                      <a:pt x="2230" y="409"/>
                    </a:lnTo>
                    <a:lnTo>
                      <a:pt x="2237" y="375"/>
                    </a:lnTo>
                    <a:lnTo>
                      <a:pt x="2243" y="342"/>
                    </a:lnTo>
                    <a:lnTo>
                      <a:pt x="2250" y="314"/>
                    </a:lnTo>
                    <a:lnTo>
                      <a:pt x="2256" y="280"/>
                    </a:lnTo>
                    <a:lnTo>
                      <a:pt x="2263" y="253"/>
                    </a:lnTo>
                    <a:lnTo>
                      <a:pt x="2263" y="225"/>
                    </a:lnTo>
                    <a:lnTo>
                      <a:pt x="2269" y="198"/>
                    </a:lnTo>
                    <a:lnTo>
                      <a:pt x="2276" y="177"/>
                    </a:lnTo>
                    <a:lnTo>
                      <a:pt x="2282" y="157"/>
                    </a:lnTo>
                    <a:lnTo>
                      <a:pt x="2289" y="130"/>
                    </a:lnTo>
                    <a:lnTo>
                      <a:pt x="2295" y="116"/>
                    </a:lnTo>
                    <a:lnTo>
                      <a:pt x="2302" y="95"/>
                    </a:lnTo>
                    <a:lnTo>
                      <a:pt x="2302" y="82"/>
                    </a:lnTo>
                    <a:lnTo>
                      <a:pt x="2308" y="68"/>
                    </a:lnTo>
                    <a:lnTo>
                      <a:pt x="2315" y="54"/>
                    </a:lnTo>
                    <a:lnTo>
                      <a:pt x="2321" y="41"/>
                    </a:lnTo>
                    <a:lnTo>
                      <a:pt x="2328" y="34"/>
                    </a:lnTo>
                    <a:lnTo>
                      <a:pt x="2334" y="20"/>
                    </a:lnTo>
                    <a:lnTo>
                      <a:pt x="2334" y="13"/>
                    </a:lnTo>
                    <a:lnTo>
                      <a:pt x="2341" y="13"/>
                    </a:lnTo>
                    <a:lnTo>
                      <a:pt x="2347" y="6"/>
                    </a:lnTo>
                    <a:lnTo>
                      <a:pt x="2354" y="6"/>
                    </a:lnTo>
                    <a:lnTo>
                      <a:pt x="2360" y="0"/>
                    </a:lnTo>
                    <a:lnTo>
                      <a:pt x="2367" y="0"/>
                    </a:lnTo>
                    <a:lnTo>
                      <a:pt x="2367" y="6"/>
                    </a:lnTo>
                    <a:lnTo>
                      <a:pt x="2373" y="6"/>
                    </a:lnTo>
                    <a:lnTo>
                      <a:pt x="2380" y="6"/>
                    </a:lnTo>
                    <a:lnTo>
                      <a:pt x="2386" y="13"/>
                    </a:lnTo>
                    <a:lnTo>
                      <a:pt x="2393" y="20"/>
                    </a:lnTo>
                    <a:lnTo>
                      <a:pt x="2399" y="27"/>
                    </a:lnTo>
                    <a:lnTo>
                      <a:pt x="2406" y="34"/>
                    </a:lnTo>
                    <a:lnTo>
                      <a:pt x="2406" y="41"/>
                    </a:lnTo>
                    <a:lnTo>
                      <a:pt x="2412" y="47"/>
                    </a:lnTo>
                    <a:lnTo>
                      <a:pt x="2419" y="61"/>
                    </a:lnTo>
                    <a:lnTo>
                      <a:pt x="2425" y="68"/>
                    </a:lnTo>
                    <a:lnTo>
                      <a:pt x="2432" y="82"/>
                    </a:lnTo>
                    <a:lnTo>
                      <a:pt x="2438" y="88"/>
                    </a:lnTo>
                    <a:lnTo>
                      <a:pt x="2438" y="102"/>
                    </a:lnTo>
                    <a:lnTo>
                      <a:pt x="2445" y="109"/>
                    </a:lnTo>
                    <a:lnTo>
                      <a:pt x="2451" y="123"/>
                    </a:lnTo>
                    <a:lnTo>
                      <a:pt x="2458" y="136"/>
                    </a:lnTo>
                    <a:lnTo>
                      <a:pt x="2464" y="143"/>
                    </a:lnTo>
                    <a:lnTo>
                      <a:pt x="2471" y="157"/>
                    </a:lnTo>
                    <a:lnTo>
                      <a:pt x="2477" y="171"/>
                    </a:lnTo>
                    <a:lnTo>
                      <a:pt x="2477" y="177"/>
                    </a:lnTo>
                    <a:lnTo>
                      <a:pt x="2484" y="191"/>
                    </a:lnTo>
                    <a:lnTo>
                      <a:pt x="2490" y="205"/>
                    </a:lnTo>
                    <a:lnTo>
                      <a:pt x="2497" y="212"/>
                    </a:lnTo>
                    <a:lnTo>
                      <a:pt x="2503" y="225"/>
                    </a:lnTo>
                    <a:lnTo>
                      <a:pt x="2510" y="232"/>
                    </a:lnTo>
                    <a:lnTo>
                      <a:pt x="2510" y="239"/>
                    </a:lnTo>
                    <a:lnTo>
                      <a:pt x="2516" y="246"/>
                    </a:lnTo>
                    <a:lnTo>
                      <a:pt x="2523" y="260"/>
                    </a:lnTo>
                    <a:lnTo>
                      <a:pt x="2529" y="266"/>
                    </a:lnTo>
                    <a:lnTo>
                      <a:pt x="2536" y="273"/>
                    </a:lnTo>
                    <a:lnTo>
                      <a:pt x="2542" y="273"/>
                    </a:lnTo>
                    <a:lnTo>
                      <a:pt x="2549" y="280"/>
                    </a:lnTo>
                    <a:lnTo>
                      <a:pt x="2549" y="287"/>
                    </a:lnTo>
                    <a:lnTo>
                      <a:pt x="2555" y="287"/>
                    </a:lnTo>
                    <a:lnTo>
                      <a:pt x="2562" y="287"/>
                    </a:lnTo>
                    <a:lnTo>
                      <a:pt x="2568" y="294"/>
                    </a:lnTo>
                    <a:lnTo>
                      <a:pt x="2575" y="294"/>
                    </a:lnTo>
                    <a:lnTo>
                      <a:pt x="2581" y="294"/>
                    </a:lnTo>
                    <a:lnTo>
                      <a:pt x="2588" y="294"/>
                    </a:lnTo>
                    <a:lnTo>
                      <a:pt x="2594" y="287"/>
                    </a:lnTo>
                    <a:lnTo>
                      <a:pt x="2601" y="287"/>
                    </a:lnTo>
                    <a:lnTo>
                      <a:pt x="2607" y="280"/>
                    </a:lnTo>
                    <a:lnTo>
                      <a:pt x="2614" y="280"/>
                    </a:lnTo>
                    <a:lnTo>
                      <a:pt x="2620" y="273"/>
                    </a:lnTo>
                    <a:lnTo>
                      <a:pt x="2620" y="266"/>
                    </a:lnTo>
                    <a:lnTo>
                      <a:pt x="2627" y="260"/>
                    </a:lnTo>
                    <a:lnTo>
                      <a:pt x="2633" y="253"/>
                    </a:lnTo>
                    <a:lnTo>
                      <a:pt x="2640" y="246"/>
                    </a:lnTo>
                    <a:lnTo>
                      <a:pt x="2646" y="239"/>
                    </a:lnTo>
                    <a:lnTo>
                      <a:pt x="2653" y="225"/>
                    </a:lnTo>
                    <a:lnTo>
                      <a:pt x="2653" y="218"/>
                    </a:lnTo>
                    <a:lnTo>
                      <a:pt x="2659" y="212"/>
                    </a:lnTo>
                    <a:lnTo>
                      <a:pt x="2666" y="198"/>
                    </a:lnTo>
                    <a:lnTo>
                      <a:pt x="2672" y="191"/>
                    </a:lnTo>
                    <a:lnTo>
                      <a:pt x="2679" y="177"/>
                    </a:lnTo>
                    <a:lnTo>
                      <a:pt x="2685" y="171"/>
                    </a:lnTo>
                    <a:lnTo>
                      <a:pt x="2692" y="157"/>
                    </a:lnTo>
                    <a:lnTo>
                      <a:pt x="2692" y="150"/>
                    </a:lnTo>
                    <a:lnTo>
                      <a:pt x="2698" y="136"/>
                    </a:lnTo>
                    <a:lnTo>
                      <a:pt x="2705" y="130"/>
                    </a:lnTo>
                    <a:lnTo>
                      <a:pt x="2711" y="116"/>
                    </a:lnTo>
                    <a:lnTo>
                      <a:pt x="2718" y="109"/>
                    </a:lnTo>
                    <a:lnTo>
                      <a:pt x="2724" y="95"/>
                    </a:lnTo>
                    <a:lnTo>
                      <a:pt x="2724" y="88"/>
                    </a:lnTo>
                    <a:lnTo>
                      <a:pt x="2731" y="82"/>
                    </a:lnTo>
                    <a:lnTo>
                      <a:pt x="2737" y="68"/>
                    </a:lnTo>
                    <a:lnTo>
                      <a:pt x="2744" y="61"/>
                    </a:lnTo>
                    <a:lnTo>
                      <a:pt x="2750" y="54"/>
                    </a:lnTo>
                    <a:lnTo>
                      <a:pt x="2757" y="47"/>
                    </a:lnTo>
                    <a:lnTo>
                      <a:pt x="2763" y="41"/>
                    </a:lnTo>
                    <a:lnTo>
                      <a:pt x="2763" y="34"/>
                    </a:lnTo>
                    <a:lnTo>
                      <a:pt x="2770" y="27"/>
                    </a:lnTo>
                    <a:lnTo>
                      <a:pt x="2776" y="20"/>
                    </a:lnTo>
                    <a:lnTo>
                      <a:pt x="2783" y="13"/>
                    </a:lnTo>
                    <a:lnTo>
                      <a:pt x="2789" y="13"/>
                    </a:lnTo>
                    <a:lnTo>
                      <a:pt x="2796" y="6"/>
                    </a:lnTo>
                    <a:lnTo>
                      <a:pt x="2802" y="6"/>
                    </a:lnTo>
                    <a:lnTo>
                      <a:pt x="2809" y="0"/>
                    </a:lnTo>
                    <a:lnTo>
                      <a:pt x="2816" y="0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7" name=""/>
          <p:cNvGrpSpPr/>
          <p:nvPr/>
        </p:nvGrpSpPr>
        <p:grpSpPr>
          <a:xfrm>
            <a:off x="-875160" y="1044720"/>
            <a:ext cx="9294480" cy="9232920"/>
            <a:chOff x="-875160" y="1044720"/>
            <a:chExt cx="9294480" cy="9232920"/>
          </a:xfrm>
        </p:grpSpPr>
        <p:sp>
          <p:nvSpPr>
            <p:cNvPr id="398" name=""/>
            <p:cNvSpPr/>
            <p:nvPr/>
          </p:nvSpPr>
          <p:spPr>
            <a:xfrm>
              <a:off x="261360" y="3246480"/>
              <a:ext cx="147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odno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valovitost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19080" y="4267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66960" y="342900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347880" y="34290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679840" y="3365640"/>
              <a:ext cx="507960" cy="50796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32320" y="4203720"/>
              <a:ext cx="507960" cy="50796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61120" y="3397320"/>
              <a:ext cx="507960" cy="50796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9080000">
              <a:off x="1667520" y="2773080"/>
              <a:ext cx="3247920" cy="470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9" y="0"/>
                  </a:moveTo>
                  <a:arcTo wR="10800" hR="10800" stAng="-5403359" swAng="54033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9" y="0"/>
                  </a:moveTo>
                  <a:arcTo wR="10800" hR="10800" stAng="-5403359" swAng="5403359"/>
                </a:path>
              </a:pathLst>
            </a:custGeom>
            <a:noFill/>
            <a:ln cap="rnd"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9080000">
              <a:off x="284040" y="2589120"/>
              <a:ext cx="6975360" cy="614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5" y="0"/>
                  </a:moveTo>
                  <a:arcTo wR="10800" hR="10800" stAng="-5401565" swAng="54015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5" y="0"/>
                  </a:moveTo>
                  <a:arcTo wR="10800" hR="10800" stAng="-5401565" swAng="5401565"/>
                </a:path>
              </a:pathLst>
            </a:custGeom>
            <a:noFill/>
            <a:ln cap="rnd"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2480000">
              <a:off x="1608480" y="3274200"/>
              <a:ext cx="1955160" cy="132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5463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54638"/>
                </a:path>
              </a:pathLst>
            </a:custGeom>
            <a:noFill/>
            <a:ln cap="rnd"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2240" y="3219480"/>
              <a:ext cx="1611000" cy="101916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371520" y="2749680"/>
            <a:ext cx="6645240" cy="3149640"/>
            <a:chOff x="371520" y="2749680"/>
            <a:chExt cx="6645240" cy="3149640"/>
          </a:xfrm>
        </p:grpSpPr>
        <p:sp>
          <p:nvSpPr>
            <p:cNvPr id="410" name=""/>
            <p:cNvSpPr/>
            <p:nvPr/>
          </p:nvSpPr>
          <p:spPr>
            <a:xfrm>
              <a:off x="6483240" y="3219480"/>
              <a:ext cx="152640" cy="15228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89320" y="4254480"/>
              <a:ext cx="152280" cy="15228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46680" y="4826160"/>
              <a:ext cx="152640" cy="15228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87520" y="4255920"/>
              <a:ext cx="152640" cy="15264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62680" y="3193920"/>
              <a:ext cx="152280" cy="15264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64480" y="2749680"/>
              <a:ext cx="152280" cy="15228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18080" y="5727600"/>
              <a:ext cx="152640" cy="15264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05200" y="5734080"/>
              <a:ext cx="152640" cy="15228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35440" y="5746680"/>
              <a:ext cx="152280" cy="15264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92360" y="4826160"/>
              <a:ext cx="152640" cy="15228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80040" y="4826160"/>
              <a:ext cx="152280" cy="15228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111640" y="4826160"/>
              <a:ext cx="152640" cy="15228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140520" y="2749680"/>
              <a:ext cx="152280" cy="15228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" y="4618080"/>
              <a:ext cx="1238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ekstrem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57680" y="4032360"/>
              <a:ext cx="152280" cy="15228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1520" y="4538520"/>
              <a:ext cx="1460520" cy="65268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81000" y="4987800"/>
              <a:ext cx="152640" cy="15264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Primjer korištenja MATLAB funkcije </a:t>
            </a:r>
            <a:r>
              <a:rPr b="0" lang="hr-HR" sz="4400" spc="-1" strike="noStrike">
                <a:solidFill>
                  <a:srgbClr val="00fffe"/>
                </a:solidFill>
                <a:latin typeface="Courier New"/>
              </a:rPr>
              <a:t>remez()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bivena optimalna frekvencijska karakteristik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E92C-BED9-47FB-8D3D-180B1C0765B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3433680" y="2916360"/>
            <a:ext cx="2652840" cy="2770200"/>
            <a:chOff x="3433680" y="2916360"/>
            <a:chExt cx="2652840" cy="2770200"/>
          </a:xfrm>
        </p:grpSpPr>
        <p:sp>
          <p:nvSpPr>
            <p:cNvPr id="430" name=""/>
            <p:cNvSpPr/>
            <p:nvPr/>
          </p:nvSpPr>
          <p:spPr>
            <a:xfrm>
              <a:off x="3433680" y="2916360"/>
              <a:ext cx="223920" cy="2765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81680" y="2921400"/>
              <a:ext cx="204840" cy="2765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752120" y="2286000"/>
            <a:ext cx="5842440" cy="4255560"/>
            <a:chOff x="1752120" y="2286000"/>
            <a:chExt cx="5842440" cy="4255560"/>
          </a:xfrm>
        </p:grpSpPr>
        <p:sp>
          <p:nvSpPr>
            <p:cNvPr id="433" name=""/>
            <p:cNvSpPr/>
            <p:nvPr/>
          </p:nvSpPr>
          <p:spPr>
            <a:xfrm flipV="1">
              <a:off x="3433320" y="2825640"/>
              <a:ext cx="0" cy="2868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655800" y="2809800"/>
              <a:ext cx="0" cy="28843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086160" y="2809800"/>
              <a:ext cx="0" cy="28843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975000" y="2809800"/>
              <a:ext cx="0" cy="28843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552400" y="5688000"/>
              <a:ext cx="4422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52400" y="4306680"/>
              <a:ext cx="477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552400" y="2914560"/>
              <a:ext cx="4422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552400" y="2570040"/>
              <a:ext cx="0" cy="327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66280" y="57560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64960" y="5754600"/>
              <a:ext cx="565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69520" y="6083280"/>
              <a:ext cx="718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2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44640" y="6083280"/>
              <a:ext cx="718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7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12920" y="5784840"/>
              <a:ext cx="565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752120" y="5432400"/>
              <a:ext cx="718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52400" y="5343480"/>
              <a:ext cx="4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52400" y="4997520"/>
              <a:ext cx="4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52400" y="4653000"/>
              <a:ext cx="4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52400" y="4306680"/>
              <a:ext cx="4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72520" y="4079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52400" y="3951000"/>
              <a:ext cx="4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52400" y="3605040"/>
              <a:ext cx="4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52400" y="3260520"/>
              <a:ext cx="4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52400" y="2914560"/>
              <a:ext cx="4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893240" y="2703240"/>
              <a:ext cx="565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2552400" y="2401560"/>
              <a:ext cx="0" cy="346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2552400" y="2914560"/>
              <a:ext cx="4424400" cy="2774880"/>
              <a:chOff x="2552400" y="2914560"/>
              <a:chExt cx="4424400" cy="2774880"/>
            </a:xfrm>
          </p:grpSpPr>
          <p:sp>
            <p:nvSpPr>
              <p:cNvPr id="459" name=""/>
              <p:cNvSpPr/>
              <p:nvPr/>
            </p:nvSpPr>
            <p:spPr>
              <a:xfrm>
                <a:off x="2552400" y="2914560"/>
                <a:ext cx="878040" cy="2774880"/>
              </a:xfrm>
              <a:custGeom>
                <a:avLst/>
                <a:gdLst/>
                <a:ahLst/>
                <a:rect l="l" t="t" r="r" b="b"/>
                <a:pathLst>
                  <a:path w="553" h="1748">
                    <a:moveTo>
                      <a:pt x="0" y="1747"/>
                    </a:moveTo>
                    <a:lnTo>
                      <a:pt x="6" y="1740"/>
                    </a:lnTo>
                    <a:lnTo>
                      <a:pt x="12" y="1740"/>
                    </a:lnTo>
                    <a:lnTo>
                      <a:pt x="19" y="1727"/>
                    </a:lnTo>
                    <a:lnTo>
                      <a:pt x="19" y="1714"/>
                    </a:lnTo>
                    <a:lnTo>
                      <a:pt x="25" y="1702"/>
                    </a:lnTo>
                    <a:lnTo>
                      <a:pt x="32" y="1682"/>
                    </a:lnTo>
                    <a:lnTo>
                      <a:pt x="38" y="1663"/>
                    </a:lnTo>
                    <a:lnTo>
                      <a:pt x="45" y="1637"/>
                    </a:lnTo>
                    <a:lnTo>
                      <a:pt x="51" y="1605"/>
                    </a:lnTo>
                    <a:lnTo>
                      <a:pt x="51" y="1581"/>
                    </a:lnTo>
                    <a:lnTo>
                      <a:pt x="57" y="1542"/>
                    </a:lnTo>
                    <a:lnTo>
                      <a:pt x="64" y="1510"/>
                    </a:lnTo>
                    <a:lnTo>
                      <a:pt x="70" y="1472"/>
                    </a:lnTo>
                    <a:lnTo>
                      <a:pt x="77" y="1433"/>
                    </a:lnTo>
                    <a:lnTo>
                      <a:pt x="83" y="1388"/>
                    </a:lnTo>
                    <a:lnTo>
                      <a:pt x="90" y="1343"/>
                    </a:lnTo>
                    <a:lnTo>
                      <a:pt x="90" y="1299"/>
                    </a:lnTo>
                    <a:lnTo>
                      <a:pt x="96" y="1247"/>
                    </a:lnTo>
                    <a:lnTo>
                      <a:pt x="103" y="1202"/>
                    </a:lnTo>
                    <a:lnTo>
                      <a:pt x="109" y="1152"/>
                    </a:lnTo>
                    <a:lnTo>
                      <a:pt x="115" y="1101"/>
                    </a:lnTo>
                    <a:lnTo>
                      <a:pt x="122" y="1049"/>
                    </a:lnTo>
                    <a:lnTo>
                      <a:pt x="122" y="992"/>
                    </a:lnTo>
                    <a:lnTo>
                      <a:pt x="128" y="940"/>
                    </a:lnTo>
                    <a:lnTo>
                      <a:pt x="135" y="889"/>
                    </a:lnTo>
                    <a:lnTo>
                      <a:pt x="141" y="838"/>
                    </a:lnTo>
                    <a:lnTo>
                      <a:pt x="148" y="786"/>
                    </a:lnTo>
                    <a:lnTo>
                      <a:pt x="154" y="735"/>
                    </a:lnTo>
                    <a:lnTo>
                      <a:pt x="161" y="685"/>
                    </a:lnTo>
                    <a:lnTo>
                      <a:pt x="161" y="634"/>
                    </a:lnTo>
                    <a:lnTo>
                      <a:pt x="167" y="582"/>
                    </a:lnTo>
                    <a:lnTo>
                      <a:pt x="173" y="537"/>
                    </a:lnTo>
                    <a:lnTo>
                      <a:pt x="180" y="486"/>
                    </a:lnTo>
                    <a:lnTo>
                      <a:pt x="186" y="441"/>
                    </a:lnTo>
                    <a:lnTo>
                      <a:pt x="193" y="396"/>
                    </a:lnTo>
                    <a:lnTo>
                      <a:pt x="193" y="358"/>
                    </a:lnTo>
                    <a:lnTo>
                      <a:pt x="199" y="319"/>
                    </a:lnTo>
                    <a:lnTo>
                      <a:pt x="206" y="281"/>
                    </a:lnTo>
                    <a:lnTo>
                      <a:pt x="212" y="243"/>
                    </a:lnTo>
                    <a:lnTo>
                      <a:pt x="219" y="211"/>
                    </a:lnTo>
                    <a:lnTo>
                      <a:pt x="225" y="179"/>
                    </a:lnTo>
                    <a:lnTo>
                      <a:pt x="231" y="153"/>
                    </a:lnTo>
                    <a:lnTo>
                      <a:pt x="231" y="128"/>
                    </a:lnTo>
                    <a:lnTo>
                      <a:pt x="238" y="102"/>
                    </a:lnTo>
                    <a:lnTo>
                      <a:pt x="244" y="83"/>
                    </a:lnTo>
                    <a:lnTo>
                      <a:pt x="251" y="64"/>
                    </a:lnTo>
                    <a:lnTo>
                      <a:pt x="257" y="51"/>
                    </a:lnTo>
                    <a:lnTo>
                      <a:pt x="264" y="32"/>
                    </a:lnTo>
                    <a:lnTo>
                      <a:pt x="264" y="25"/>
                    </a:lnTo>
                    <a:lnTo>
                      <a:pt x="270" y="12"/>
                    </a:lnTo>
                    <a:lnTo>
                      <a:pt x="277" y="6"/>
                    </a:lnTo>
                    <a:lnTo>
                      <a:pt x="283" y="6"/>
                    </a:lnTo>
                    <a:lnTo>
                      <a:pt x="289" y="0"/>
                    </a:lnTo>
                    <a:lnTo>
                      <a:pt x="296" y="0"/>
                    </a:lnTo>
                    <a:lnTo>
                      <a:pt x="302" y="6"/>
                    </a:lnTo>
                    <a:lnTo>
                      <a:pt x="309" y="12"/>
                    </a:lnTo>
                    <a:lnTo>
                      <a:pt x="315" y="25"/>
                    </a:lnTo>
                    <a:lnTo>
                      <a:pt x="322" y="32"/>
                    </a:lnTo>
                    <a:lnTo>
                      <a:pt x="328" y="44"/>
                    </a:lnTo>
                    <a:lnTo>
                      <a:pt x="335" y="57"/>
                    </a:lnTo>
                    <a:lnTo>
                      <a:pt x="335" y="70"/>
                    </a:lnTo>
                    <a:lnTo>
                      <a:pt x="341" y="89"/>
                    </a:lnTo>
                    <a:lnTo>
                      <a:pt x="347" y="109"/>
                    </a:lnTo>
                    <a:lnTo>
                      <a:pt x="354" y="128"/>
                    </a:lnTo>
                    <a:lnTo>
                      <a:pt x="360" y="147"/>
                    </a:lnTo>
                    <a:lnTo>
                      <a:pt x="367" y="166"/>
                    </a:lnTo>
                    <a:lnTo>
                      <a:pt x="373" y="186"/>
                    </a:lnTo>
                    <a:lnTo>
                      <a:pt x="373" y="211"/>
                    </a:lnTo>
                    <a:lnTo>
                      <a:pt x="380" y="230"/>
                    </a:lnTo>
                    <a:lnTo>
                      <a:pt x="386" y="256"/>
                    </a:lnTo>
                    <a:lnTo>
                      <a:pt x="393" y="281"/>
                    </a:lnTo>
                    <a:lnTo>
                      <a:pt x="399" y="306"/>
                    </a:lnTo>
                    <a:lnTo>
                      <a:pt x="405" y="332"/>
                    </a:lnTo>
                    <a:lnTo>
                      <a:pt x="405" y="364"/>
                    </a:lnTo>
                    <a:lnTo>
                      <a:pt x="412" y="390"/>
                    </a:lnTo>
                    <a:lnTo>
                      <a:pt x="418" y="415"/>
                    </a:lnTo>
                    <a:lnTo>
                      <a:pt x="425" y="447"/>
                    </a:lnTo>
                    <a:lnTo>
                      <a:pt x="431" y="480"/>
                    </a:lnTo>
                    <a:lnTo>
                      <a:pt x="438" y="512"/>
                    </a:lnTo>
                    <a:lnTo>
                      <a:pt x="443" y="544"/>
                    </a:lnTo>
                    <a:lnTo>
                      <a:pt x="443" y="576"/>
                    </a:lnTo>
                    <a:lnTo>
                      <a:pt x="449" y="608"/>
                    </a:lnTo>
                    <a:lnTo>
                      <a:pt x="456" y="646"/>
                    </a:lnTo>
                    <a:lnTo>
                      <a:pt x="462" y="685"/>
                    </a:lnTo>
                    <a:lnTo>
                      <a:pt x="469" y="722"/>
                    </a:lnTo>
                    <a:lnTo>
                      <a:pt x="475" y="761"/>
                    </a:lnTo>
                    <a:lnTo>
                      <a:pt x="475" y="806"/>
                    </a:lnTo>
                    <a:lnTo>
                      <a:pt x="482" y="851"/>
                    </a:lnTo>
                    <a:lnTo>
                      <a:pt x="488" y="895"/>
                    </a:lnTo>
                    <a:lnTo>
                      <a:pt x="495" y="947"/>
                    </a:lnTo>
                    <a:lnTo>
                      <a:pt x="501" y="998"/>
                    </a:lnTo>
                    <a:lnTo>
                      <a:pt x="507" y="1049"/>
                    </a:lnTo>
                    <a:lnTo>
                      <a:pt x="507" y="1107"/>
                    </a:lnTo>
                    <a:lnTo>
                      <a:pt x="514" y="1170"/>
                    </a:lnTo>
                    <a:lnTo>
                      <a:pt x="520" y="1234"/>
                    </a:lnTo>
                    <a:lnTo>
                      <a:pt x="527" y="1299"/>
                    </a:lnTo>
                    <a:lnTo>
                      <a:pt x="533" y="1376"/>
                    </a:lnTo>
                    <a:lnTo>
                      <a:pt x="540" y="1452"/>
                    </a:lnTo>
                    <a:lnTo>
                      <a:pt x="546" y="1529"/>
                    </a:lnTo>
                    <a:lnTo>
                      <a:pt x="546" y="1618"/>
                    </a:lnTo>
                    <a:lnTo>
                      <a:pt x="552" y="1738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654000" y="2914560"/>
                <a:ext cx="2219400" cy="2774880"/>
              </a:xfrm>
              <a:custGeom>
                <a:avLst/>
                <a:gdLst/>
                <a:ahLst/>
                <a:rect l="l" t="t" r="r" b="b"/>
                <a:pathLst>
                  <a:path w="1398" h="1748">
                    <a:moveTo>
                      <a:pt x="0" y="0"/>
                    </a:moveTo>
                    <a:lnTo>
                      <a:pt x="6" y="64"/>
                    </a:lnTo>
                    <a:lnTo>
                      <a:pt x="12" y="128"/>
                    </a:lnTo>
                    <a:lnTo>
                      <a:pt x="19" y="186"/>
                    </a:lnTo>
                    <a:lnTo>
                      <a:pt x="25" y="250"/>
                    </a:lnTo>
                    <a:lnTo>
                      <a:pt x="25" y="313"/>
                    </a:lnTo>
                    <a:lnTo>
                      <a:pt x="32" y="377"/>
                    </a:lnTo>
                    <a:lnTo>
                      <a:pt x="38" y="441"/>
                    </a:lnTo>
                    <a:lnTo>
                      <a:pt x="45" y="505"/>
                    </a:lnTo>
                    <a:lnTo>
                      <a:pt x="51" y="569"/>
                    </a:lnTo>
                    <a:lnTo>
                      <a:pt x="58" y="634"/>
                    </a:lnTo>
                    <a:lnTo>
                      <a:pt x="64" y="698"/>
                    </a:lnTo>
                    <a:lnTo>
                      <a:pt x="64" y="761"/>
                    </a:lnTo>
                    <a:lnTo>
                      <a:pt x="70" y="818"/>
                    </a:lnTo>
                    <a:lnTo>
                      <a:pt x="77" y="883"/>
                    </a:lnTo>
                    <a:lnTo>
                      <a:pt x="83" y="940"/>
                    </a:lnTo>
                    <a:lnTo>
                      <a:pt x="90" y="1005"/>
                    </a:lnTo>
                    <a:lnTo>
                      <a:pt x="96" y="1062"/>
                    </a:lnTo>
                    <a:lnTo>
                      <a:pt x="96" y="1120"/>
                    </a:lnTo>
                    <a:lnTo>
                      <a:pt x="103" y="1170"/>
                    </a:lnTo>
                    <a:lnTo>
                      <a:pt x="109" y="1222"/>
                    </a:lnTo>
                    <a:lnTo>
                      <a:pt x="116" y="1273"/>
                    </a:lnTo>
                    <a:lnTo>
                      <a:pt x="122" y="1324"/>
                    </a:lnTo>
                    <a:lnTo>
                      <a:pt x="128" y="1376"/>
                    </a:lnTo>
                    <a:lnTo>
                      <a:pt x="135" y="1420"/>
                    </a:lnTo>
                    <a:lnTo>
                      <a:pt x="135" y="1459"/>
                    </a:lnTo>
                    <a:lnTo>
                      <a:pt x="141" y="1504"/>
                    </a:lnTo>
                    <a:lnTo>
                      <a:pt x="148" y="1536"/>
                    </a:lnTo>
                    <a:lnTo>
                      <a:pt x="154" y="1574"/>
                    </a:lnTo>
                    <a:lnTo>
                      <a:pt x="161" y="1605"/>
                    </a:lnTo>
                    <a:lnTo>
                      <a:pt x="167" y="1631"/>
                    </a:lnTo>
                    <a:lnTo>
                      <a:pt x="167" y="1657"/>
                    </a:lnTo>
                    <a:lnTo>
                      <a:pt x="174" y="1682"/>
                    </a:lnTo>
                    <a:lnTo>
                      <a:pt x="180" y="1702"/>
                    </a:lnTo>
                    <a:lnTo>
                      <a:pt x="186" y="1714"/>
                    </a:lnTo>
                    <a:lnTo>
                      <a:pt x="193" y="1727"/>
                    </a:lnTo>
                    <a:lnTo>
                      <a:pt x="199" y="1740"/>
                    </a:lnTo>
                    <a:lnTo>
                      <a:pt x="206" y="1747"/>
                    </a:lnTo>
                    <a:lnTo>
                      <a:pt x="212" y="1747"/>
                    </a:lnTo>
                    <a:lnTo>
                      <a:pt x="219" y="1740"/>
                    </a:lnTo>
                    <a:lnTo>
                      <a:pt x="225" y="1734"/>
                    </a:lnTo>
                    <a:lnTo>
                      <a:pt x="232" y="1721"/>
                    </a:lnTo>
                    <a:lnTo>
                      <a:pt x="238" y="1708"/>
                    </a:lnTo>
                    <a:lnTo>
                      <a:pt x="238" y="1689"/>
                    </a:lnTo>
                    <a:lnTo>
                      <a:pt x="245" y="1670"/>
                    </a:lnTo>
                    <a:lnTo>
                      <a:pt x="251" y="1644"/>
                    </a:lnTo>
                    <a:lnTo>
                      <a:pt x="257" y="1618"/>
                    </a:lnTo>
                    <a:lnTo>
                      <a:pt x="264" y="1594"/>
                    </a:lnTo>
                    <a:lnTo>
                      <a:pt x="270" y="1562"/>
                    </a:lnTo>
                    <a:lnTo>
                      <a:pt x="277" y="1523"/>
                    </a:lnTo>
                    <a:lnTo>
                      <a:pt x="277" y="1485"/>
                    </a:lnTo>
                    <a:lnTo>
                      <a:pt x="283" y="1446"/>
                    </a:lnTo>
                    <a:lnTo>
                      <a:pt x="290" y="1401"/>
                    </a:lnTo>
                    <a:lnTo>
                      <a:pt x="296" y="1356"/>
                    </a:lnTo>
                    <a:lnTo>
                      <a:pt x="303" y="1311"/>
                    </a:lnTo>
                    <a:lnTo>
                      <a:pt x="309" y="1266"/>
                    </a:lnTo>
                    <a:lnTo>
                      <a:pt x="309" y="1215"/>
                    </a:lnTo>
                    <a:lnTo>
                      <a:pt x="315" y="1164"/>
                    </a:lnTo>
                    <a:lnTo>
                      <a:pt x="322" y="1114"/>
                    </a:lnTo>
                    <a:lnTo>
                      <a:pt x="328" y="1062"/>
                    </a:lnTo>
                    <a:lnTo>
                      <a:pt x="335" y="1005"/>
                    </a:lnTo>
                    <a:lnTo>
                      <a:pt x="341" y="953"/>
                    </a:lnTo>
                    <a:lnTo>
                      <a:pt x="347" y="895"/>
                    </a:lnTo>
                    <a:lnTo>
                      <a:pt x="347" y="844"/>
                    </a:lnTo>
                    <a:lnTo>
                      <a:pt x="353" y="786"/>
                    </a:lnTo>
                    <a:lnTo>
                      <a:pt x="359" y="735"/>
                    </a:lnTo>
                    <a:lnTo>
                      <a:pt x="366" y="678"/>
                    </a:lnTo>
                    <a:lnTo>
                      <a:pt x="372" y="627"/>
                    </a:lnTo>
                    <a:lnTo>
                      <a:pt x="379" y="576"/>
                    </a:lnTo>
                    <a:lnTo>
                      <a:pt x="379" y="524"/>
                    </a:lnTo>
                    <a:lnTo>
                      <a:pt x="385" y="473"/>
                    </a:lnTo>
                    <a:lnTo>
                      <a:pt x="392" y="428"/>
                    </a:lnTo>
                    <a:lnTo>
                      <a:pt x="398" y="377"/>
                    </a:lnTo>
                    <a:lnTo>
                      <a:pt x="405" y="332"/>
                    </a:lnTo>
                    <a:lnTo>
                      <a:pt x="411" y="294"/>
                    </a:lnTo>
                    <a:lnTo>
                      <a:pt x="418" y="256"/>
                    </a:lnTo>
                    <a:lnTo>
                      <a:pt x="418" y="218"/>
                    </a:lnTo>
                    <a:lnTo>
                      <a:pt x="424" y="179"/>
                    </a:lnTo>
                    <a:lnTo>
                      <a:pt x="430" y="147"/>
                    </a:lnTo>
                    <a:lnTo>
                      <a:pt x="437" y="121"/>
                    </a:lnTo>
                    <a:lnTo>
                      <a:pt x="443" y="96"/>
                    </a:lnTo>
                    <a:lnTo>
                      <a:pt x="450" y="70"/>
                    </a:lnTo>
                    <a:lnTo>
                      <a:pt x="450" y="51"/>
                    </a:lnTo>
                    <a:lnTo>
                      <a:pt x="456" y="32"/>
                    </a:lnTo>
                    <a:lnTo>
                      <a:pt x="463" y="19"/>
                    </a:lnTo>
                    <a:lnTo>
                      <a:pt x="469" y="12"/>
                    </a:lnTo>
                    <a:lnTo>
                      <a:pt x="476" y="6"/>
                    </a:lnTo>
                    <a:lnTo>
                      <a:pt x="482" y="0"/>
                    </a:lnTo>
                    <a:lnTo>
                      <a:pt x="488" y="0"/>
                    </a:lnTo>
                    <a:lnTo>
                      <a:pt x="488" y="6"/>
                    </a:lnTo>
                    <a:lnTo>
                      <a:pt x="495" y="12"/>
                    </a:lnTo>
                    <a:lnTo>
                      <a:pt x="501" y="25"/>
                    </a:lnTo>
                    <a:lnTo>
                      <a:pt x="508" y="38"/>
                    </a:lnTo>
                    <a:lnTo>
                      <a:pt x="514" y="57"/>
                    </a:lnTo>
                    <a:lnTo>
                      <a:pt x="521" y="83"/>
                    </a:lnTo>
                    <a:lnTo>
                      <a:pt x="521" y="109"/>
                    </a:lnTo>
                    <a:lnTo>
                      <a:pt x="527" y="134"/>
                    </a:lnTo>
                    <a:lnTo>
                      <a:pt x="534" y="166"/>
                    </a:lnTo>
                    <a:lnTo>
                      <a:pt x="540" y="198"/>
                    </a:lnTo>
                    <a:lnTo>
                      <a:pt x="546" y="237"/>
                    </a:lnTo>
                    <a:lnTo>
                      <a:pt x="553" y="274"/>
                    </a:lnTo>
                    <a:lnTo>
                      <a:pt x="559" y="313"/>
                    </a:lnTo>
                    <a:lnTo>
                      <a:pt x="559" y="358"/>
                    </a:lnTo>
                    <a:lnTo>
                      <a:pt x="566" y="409"/>
                    </a:lnTo>
                    <a:lnTo>
                      <a:pt x="572" y="454"/>
                    </a:lnTo>
                    <a:lnTo>
                      <a:pt x="579" y="505"/>
                    </a:lnTo>
                    <a:lnTo>
                      <a:pt x="585" y="557"/>
                    </a:lnTo>
                    <a:lnTo>
                      <a:pt x="592" y="608"/>
                    </a:lnTo>
                    <a:lnTo>
                      <a:pt x="592" y="666"/>
                    </a:lnTo>
                    <a:lnTo>
                      <a:pt x="598" y="716"/>
                    </a:lnTo>
                    <a:lnTo>
                      <a:pt x="605" y="774"/>
                    </a:lnTo>
                    <a:lnTo>
                      <a:pt x="611" y="831"/>
                    </a:lnTo>
                    <a:lnTo>
                      <a:pt x="617" y="883"/>
                    </a:lnTo>
                    <a:lnTo>
                      <a:pt x="624" y="940"/>
                    </a:lnTo>
                    <a:lnTo>
                      <a:pt x="630" y="998"/>
                    </a:lnTo>
                    <a:lnTo>
                      <a:pt x="630" y="1049"/>
                    </a:lnTo>
                    <a:lnTo>
                      <a:pt x="637" y="1107"/>
                    </a:lnTo>
                    <a:lnTo>
                      <a:pt x="643" y="1157"/>
                    </a:lnTo>
                    <a:lnTo>
                      <a:pt x="650" y="1215"/>
                    </a:lnTo>
                    <a:lnTo>
                      <a:pt x="656" y="1266"/>
                    </a:lnTo>
                    <a:lnTo>
                      <a:pt x="663" y="1311"/>
                    </a:lnTo>
                    <a:lnTo>
                      <a:pt x="663" y="1363"/>
                    </a:lnTo>
                    <a:lnTo>
                      <a:pt x="669" y="1408"/>
                    </a:lnTo>
                    <a:lnTo>
                      <a:pt x="675" y="1452"/>
                    </a:lnTo>
                    <a:lnTo>
                      <a:pt x="682" y="1491"/>
                    </a:lnTo>
                    <a:lnTo>
                      <a:pt x="688" y="1529"/>
                    </a:lnTo>
                    <a:lnTo>
                      <a:pt x="695" y="1568"/>
                    </a:lnTo>
                    <a:lnTo>
                      <a:pt x="701" y="1600"/>
                    </a:lnTo>
                    <a:lnTo>
                      <a:pt x="701" y="1625"/>
                    </a:lnTo>
                    <a:lnTo>
                      <a:pt x="708" y="1657"/>
                    </a:lnTo>
                    <a:lnTo>
                      <a:pt x="714" y="1676"/>
                    </a:lnTo>
                    <a:lnTo>
                      <a:pt x="721" y="1695"/>
                    </a:lnTo>
                    <a:lnTo>
                      <a:pt x="727" y="1714"/>
                    </a:lnTo>
                    <a:lnTo>
                      <a:pt x="733" y="1727"/>
                    </a:lnTo>
                    <a:lnTo>
                      <a:pt x="733" y="1740"/>
                    </a:lnTo>
                    <a:lnTo>
                      <a:pt x="740" y="1740"/>
                    </a:lnTo>
                    <a:lnTo>
                      <a:pt x="746" y="1747"/>
                    </a:lnTo>
                    <a:lnTo>
                      <a:pt x="753" y="1747"/>
                    </a:lnTo>
                    <a:lnTo>
                      <a:pt x="759" y="1740"/>
                    </a:lnTo>
                    <a:lnTo>
                      <a:pt x="766" y="1727"/>
                    </a:lnTo>
                    <a:lnTo>
                      <a:pt x="766" y="1714"/>
                    </a:lnTo>
                    <a:lnTo>
                      <a:pt x="772" y="1702"/>
                    </a:lnTo>
                    <a:lnTo>
                      <a:pt x="779" y="1682"/>
                    </a:lnTo>
                    <a:lnTo>
                      <a:pt x="785" y="1657"/>
                    </a:lnTo>
                    <a:lnTo>
                      <a:pt x="791" y="1631"/>
                    </a:lnTo>
                    <a:lnTo>
                      <a:pt x="798" y="1600"/>
                    </a:lnTo>
                    <a:lnTo>
                      <a:pt x="804" y="1568"/>
                    </a:lnTo>
                    <a:lnTo>
                      <a:pt x="804" y="1536"/>
                    </a:lnTo>
                    <a:lnTo>
                      <a:pt x="811" y="1497"/>
                    </a:lnTo>
                    <a:lnTo>
                      <a:pt x="817" y="1452"/>
                    </a:lnTo>
                    <a:lnTo>
                      <a:pt x="824" y="1408"/>
                    </a:lnTo>
                    <a:lnTo>
                      <a:pt x="830" y="1363"/>
                    </a:lnTo>
                    <a:lnTo>
                      <a:pt x="837" y="1318"/>
                    </a:lnTo>
                    <a:lnTo>
                      <a:pt x="837" y="1266"/>
                    </a:lnTo>
                    <a:lnTo>
                      <a:pt x="843" y="1215"/>
                    </a:lnTo>
                    <a:lnTo>
                      <a:pt x="850" y="1157"/>
                    </a:lnTo>
                    <a:lnTo>
                      <a:pt x="856" y="1107"/>
                    </a:lnTo>
                    <a:lnTo>
                      <a:pt x="862" y="1049"/>
                    </a:lnTo>
                    <a:lnTo>
                      <a:pt x="869" y="992"/>
                    </a:lnTo>
                    <a:lnTo>
                      <a:pt x="875" y="934"/>
                    </a:lnTo>
                    <a:lnTo>
                      <a:pt x="875" y="876"/>
                    </a:lnTo>
                    <a:lnTo>
                      <a:pt x="882" y="825"/>
                    </a:lnTo>
                    <a:lnTo>
                      <a:pt x="888" y="767"/>
                    </a:lnTo>
                    <a:lnTo>
                      <a:pt x="895" y="709"/>
                    </a:lnTo>
                    <a:lnTo>
                      <a:pt x="901" y="653"/>
                    </a:lnTo>
                    <a:lnTo>
                      <a:pt x="908" y="595"/>
                    </a:lnTo>
                    <a:lnTo>
                      <a:pt x="908" y="544"/>
                    </a:lnTo>
                    <a:lnTo>
                      <a:pt x="914" y="492"/>
                    </a:lnTo>
                    <a:lnTo>
                      <a:pt x="920" y="441"/>
                    </a:lnTo>
                    <a:lnTo>
                      <a:pt x="927" y="390"/>
                    </a:lnTo>
                    <a:lnTo>
                      <a:pt x="933" y="345"/>
                    </a:lnTo>
                    <a:lnTo>
                      <a:pt x="940" y="300"/>
                    </a:lnTo>
                    <a:lnTo>
                      <a:pt x="945" y="256"/>
                    </a:lnTo>
                    <a:lnTo>
                      <a:pt x="945" y="218"/>
                    </a:lnTo>
                    <a:lnTo>
                      <a:pt x="952" y="179"/>
                    </a:lnTo>
                    <a:lnTo>
                      <a:pt x="958" y="147"/>
                    </a:lnTo>
                    <a:lnTo>
                      <a:pt x="965" y="115"/>
                    </a:lnTo>
                    <a:lnTo>
                      <a:pt x="971" y="89"/>
                    </a:lnTo>
                    <a:lnTo>
                      <a:pt x="977" y="64"/>
                    </a:lnTo>
                    <a:lnTo>
                      <a:pt x="977" y="44"/>
                    </a:lnTo>
                    <a:lnTo>
                      <a:pt x="984" y="32"/>
                    </a:lnTo>
                    <a:lnTo>
                      <a:pt x="990" y="19"/>
                    </a:lnTo>
                    <a:lnTo>
                      <a:pt x="997" y="6"/>
                    </a:lnTo>
                    <a:lnTo>
                      <a:pt x="1003" y="6"/>
                    </a:lnTo>
                    <a:lnTo>
                      <a:pt x="1010" y="0"/>
                    </a:lnTo>
                    <a:lnTo>
                      <a:pt x="1016" y="6"/>
                    </a:lnTo>
                    <a:lnTo>
                      <a:pt x="1016" y="12"/>
                    </a:lnTo>
                    <a:lnTo>
                      <a:pt x="1023" y="19"/>
                    </a:lnTo>
                    <a:lnTo>
                      <a:pt x="1029" y="38"/>
                    </a:lnTo>
                    <a:lnTo>
                      <a:pt x="1035" y="57"/>
                    </a:lnTo>
                    <a:lnTo>
                      <a:pt x="1042" y="76"/>
                    </a:lnTo>
                    <a:lnTo>
                      <a:pt x="1048" y="102"/>
                    </a:lnTo>
                    <a:lnTo>
                      <a:pt x="1048" y="128"/>
                    </a:lnTo>
                    <a:lnTo>
                      <a:pt x="1055" y="166"/>
                    </a:lnTo>
                    <a:lnTo>
                      <a:pt x="1061" y="198"/>
                    </a:lnTo>
                    <a:lnTo>
                      <a:pt x="1068" y="237"/>
                    </a:lnTo>
                    <a:lnTo>
                      <a:pt x="1074" y="281"/>
                    </a:lnTo>
                    <a:lnTo>
                      <a:pt x="1081" y="326"/>
                    </a:lnTo>
                    <a:lnTo>
                      <a:pt x="1087" y="370"/>
                    </a:lnTo>
                    <a:lnTo>
                      <a:pt x="1087" y="422"/>
                    </a:lnTo>
                    <a:lnTo>
                      <a:pt x="1093" y="473"/>
                    </a:lnTo>
                    <a:lnTo>
                      <a:pt x="1100" y="524"/>
                    </a:lnTo>
                    <a:lnTo>
                      <a:pt x="1106" y="582"/>
                    </a:lnTo>
                    <a:lnTo>
                      <a:pt x="1113" y="640"/>
                    </a:lnTo>
                    <a:lnTo>
                      <a:pt x="1119" y="698"/>
                    </a:lnTo>
                    <a:lnTo>
                      <a:pt x="1119" y="754"/>
                    </a:lnTo>
                    <a:lnTo>
                      <a:pt x="1126" y="818"/>
                    </a:lnTo>
                    <a:lnTo>
                      <a:pt x="1132" y="876"/>
                    </a:lnTo>
                    <a:lnTo>
                      <a:pt x="1139" y="940"/>
                    </a:lnTo>
                    <a:lnTo>
                      <a:pt x="1145" y="998"/>
                    </a:lnTo>
                    <a:lnTo>
                      <a:pt x="1151" y="1056"/>
                    </a:lnTo>
                    <a:lnTo>
                      <a:pt x="1158" y="1120"/>
                    </a:lnTo>
                    <a:lnTo>
                      <a:pt x="1158" y="1177"/>
                    </a:lnTo>
                    <a:lnTo>
                      <a:pt x="1164" y="1228"/>
                    </a:lnTo>
                    <a:lnTo>
                      <a:pt x="1171" y="1286"/>
                    </a:lnTo>
                    <a:lnTo>
                      <a:pt x="1177" y="1337"/>
                    </a:lnTo>
                    <a:lnTo>
                      <a:pt x="1184" y="1388"/>
                    </a:lnTo>
                    <a:lnTo>
                      <a:pt x="1190" y="1440"/>
                    </a:lnTo>
                    <a:lnTo>
                      <a:pt x="1190" y="1485"/>
                    </a:lnTo>
                    <a:lnTo>
                      <a:pt x="1197" y="1529"/>
                    </a:lnTo>
                    <a:lnTo>
                      <a:pt x="1203" y="1568"/>
                    </a:lnTo>
                    <a:lnTo>
                      <a:pt x="1210" y="1605"/>
                    </a:lnTo>
                    <a:lnTo>
                      <a:pt x="1216" y="1637"/>
                    </a:lnTo>
                    <a:lnTo>
                      <a:pt x="1222" y="1663"/>
                    </a:lnTo>
                    <a:lnTo>
                      <a:pt x="1229" y="1689"/>
                    </a:lnTo>
                    <a:lnTo>
                      <a:pt x="1229" y="1708"/>
                    </a:lnTo>
                    <a:lnTo>
                      <a:pt x="1235" y="1727"/>
                    </a:lnTo>
                    <a:lnTo>
                      <a:pt x="1242" y="1740"/>
                    </a:lnTo>
                    <a:lnTo>
                      <a:pt x="1248" y="1747"/>
                    </a:lnTo>
                    <a:lnTo>
                      <a:pt x="1255" y="1747"/>
                    </a:lnTo>
                    <a:lnTo>
                      <a:pt x="1261" y="1740"/>
                    </a:lnTo>
                    <a:lnTo>
                      <a:pt x="1261" y="1734"/>
                    </a:lnTo>
                    <a:lnTo>
                      <a:pt x="1268" y="1721"/>
                    </a:lnTo>
                    <a:lnTo>
                      <a:pt x="1274" y="1702"/>
                    </a:lnTo>
                    <a:lnTo>
                      <a:pt x="1280" y="1676"/>
                    </a:lnTo>
                    <a:lnTo>
                      <a:pt x="1287" y="1644"/>
                    </a:lnTo>
                    <a:lnTo>
                      <a:pt x="1293" y="1612"/>
                    </a:lnTo>
                    <a:lnTo>
                      <a:pt x="1300" y="1568"/>
                    </a:lnTo>
                    <a:lnTo>
                      <a:pt x="1300" y="1523"/>
                    </a:lnTo>
                    <a:lnTo>
                      <a:pt x="1306" y="1472"/>
                    </a:lnTo>
                    <a:lnTo>
                      <a:pt x="1313" y="1414"/>
                    </a:lnTo>
                    <a:lnTo>
                      <a:pt x="1319" y="1350"/>
                    </a:lnTo>
                    <a:lnTo>
                      <a:pt x="1326" y="1279"/>
                    </a:lnTo>
                    <a:lnTo>
                      <a:pt x="1332" y="1209"/>
                    </a:lnTo>
                    <a:lnTo>
                      <a:pt x="1332" y="1133"/>
                    </a:lnTo>
                    <a:lnTo>
                      <a:pt x="1338" y="1049"/>
                    </a:lnTo>
                    <a:lnTo>
                      <a:pt x="1345" y="960"/>
                    </a:lnTo>
                    <a:lnTo>
                      <a:pt x="1351" y="870"/>
                    </a:lnTo>
                    <a:lnTo>
                      <a:pt x="1358" y="774"/>
                    </a:lnTo>
                    <a:lnTo>
                      <a:pt x="1364" y="678"/>
                    </a:lnTo>
                    <a:lnTo>
                      <a:pt x="1371" y="569"/>
                    </a:lnTo>
                    <a:lnTo>
                      <a:pt x="1371" y="460"/>
                    </a:lnTo>
                    <a:lnTo>
                      <a:pt x="1377" y="351"/>
                    </a:lnTo>
                    <a:lnTo>
                      <a:pt x="1384" y="237"/>
                    </a:lnTo>
                    <a:lnTo>
                      <a:pt x="1390" y="121"/>
                    </a:lnTo>
                    <a:lnTo>
                      <a:pt x="1397" y="0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090840" y="2914560"/>
                <a:ext cx="885960" cy="2774880"/>
              </a:xfrm>
              <a:custGeom>
                <a:avLst/>
                <a:gdLst/>
                <a:ahLst/>
                <a:rect l="l" t="t" r="r" b="b"/>
                <a:pathLst>
                  <a:path w="558" h="1748">
                    <a:moveTo>
                      <a:pt x="0" y="1740"/>
                    </a:moveTo>
                    <a:lnTo>
                      <a:pt x="10" y="1504"/>
                    </a:lnTo>
                    <a:lnTo>
                      <a:pt x="10" y="1343"/>
                    </a:lnTo>
                    <a:lnTo>
                      <a:pt x="16" y="1189"/>
                    </a:lnTo>
                    <a:lnTo>
                      <a:pt x="22" y="1043"/>
                    </a:lnTo>
                    <a:lnTo>
                      <a:pt x="28" y="908"/>
                    </a:lnTo>
                    <a:lnTo>
                      <a:pt x="35" y="786"/>
                    </a:lnTo>
                    <a:lnTo>
                      <a:pt x="41" y="672"/>
                    </a:lnTo>
                    <a:lnTo>
                      <a:pt x="48" y="563"/>
                    </a:lnTo>
                    <a:lnTo>
                      <a:pt x="48" y="467"/>
                    </a:lnTo>
                    <a:lnTo>
                      <a:pt x="54" y="377"/>
                    </a:lnTo>
                    <a:lnTo>
                      <a:pt x="61" y="300"/>
                    </a:lnTo>
                    <a:lnTo>
                      <a:pt x="67" y="237"/>
                    </a:lnTo>
                    <a:lnTo>
                      <a:pt x="74" y="173"/>
                    </a:lnTo>
                    <a:lnTo>
                      <a:pt x="80" y="121"/>
                    </a:lnTo>
                    <a:lnTo>
                      <a:pt x="80" y="83"/>
                    </a:lnTo>
                    <a:lnTo>
                      <a:pt x="86" y="51"/>
                    </a:lnTo>
                    <a:lnTo>
                      <a:pt x="93" y="25"/>
                    </a:lnTo>
                    <a:lnTo>
                      <a:pt x="99" y="12"/>
                    </a:lnTo>
                    <a:lnTo>
                      <a:pt x="106" y="6"/>
                    </a:lnTo>
                    <a:lnTo>
                      <a:pt x="101" y="4"/>
                    </a:lnTo>
                    <a:lnTo>
                      <a:pt x="112" y="12"/>
                    </a:lnTo>
                    <a:lnTo>
                      <a:pt x="119" y="25"/>
                    </a:lnTo>
                    <a:lnTo>
                      <a:pt x="125" y="44"/>
                    </a:lnTo>
                    <a:lnTo>
                      <a:pt x="132" y="70"/>
                    </a:lnTo>
                    <a:lnTo>
                      <a:pt x="138" y="102"/>
                    </a:lnTo>
                    <a:lnTo>
                      <a:pt x="144" y="141"/>
                    </a:lnTo>
                    <a:lnTo>
                      <a:pt x="151" y="186"/>
                    </a:lnTo>
                    <a:lnTo>
                      <a:pt x="151" y="237"/>
                    </a:lnTo>
                    <a:lnTo>
                      <a:pt x="157" y="287"/>
                    </a:lnTo>
                    <a:lnTo>
                      <a:pt x="164" y="345"/>
                    </a:lnTo>
                    <a:lnTo>
                      <a:pt x="170" y="403"/>
                    </a:lnTo>
                    <a:lnTo>
                      <a:pt x="177" y="460"/>
                    </a:lnTo>
                    <a:lnTo>
                      <a:pt x="183" y="524"/>
                    </a:lnTo>
                    <a:lnTo>
                      <a:pt x="183" y="595"/>
                    </a:lnTo>
                    <a:lnTo>
                      <a:pt x="189" y="659"/>
                    </a:lnTo>
                    <a:lnTo>
                      <a:pt x="196" y="729"/>
                    </a:lnTo>
                    <a:lnTo>
                      <a:pt x="202" y="799"/>
                    </a:lnTo>
                    <a:lnTo>
                      <a:pt x="209" y="870"/>
                    </a:lnTo>
                    <a:lnTo>
                      <a:pt x="215" y="934"/>
                    </a:lnTo>
                    <a:lnTo>
                      <a:pt x="222" y="1005"/>
                    </a:lnTo>
                    <a:lnTo>
                      <a:pt x="222" y="1075"/>
                    </a:lnTo>
                    <a:lnTo>
                      <a:pt x="228" y="1139"/>
                    </a:lnTo>
                    <a:lnTo>
                      <a:pt x="235" y="1202"/>
                    </a:lnTo>
                    <a:lnTo>
                      <a:pt x="241" y="1260"/>
                    </a:lnTo>
                    <a:lnTo>
                      <a:pt x="247" y="1324"/>
                    </a:lnTo>
                    <a:lnTo>
                      <a:pt x="254" y="1376"/>
                    </a:lnTo>
                    <a:lnTo>
                      <a:pt x="254" y="1433"/>
                    </a:lnTo>
                    <a:lnTo>
                      <a:pt x="260" y="1478"/>
                    </a:lnTo>
                    <a:lnTo>
                      <a:pt x="267" y="1523"/>
                    </a:lnTo>
                    <a:lnTo>
                      <a:pt x="273" y="1568"/>
                    </a:lnTo>
                    <a:lnTo>
                      <a:pt x="280" y="1605"/>
                    </a:lnTo>
                    <a:lnTo>
                      <a:pt x="286" y="1637"/>
                    </a:lnTo>
                    <a:lnTo>
                      <a:pt x="292" y="1670"/>
                    </a:lnTo>
                    <a:lnTo>
                      <a:pt x="292" y="1695"/>
                    </a:lnTo>
                    <a:lnTo>
                      <a:pt x="299" y="1714"/>
                    </a:lnTo>
                    <a:lnTo>
                      <a:pt x="305" y="1727"/>
                    </a:lnTo>
                    <a:lnTo>
                      <a:pt x="312" y="1740"/>
                    </a:lnTo>
                    <a:lnTo>
                      <a:pt x="318" y="1740"/>
                    </a:lnTo>
                    <a:lnTo>
                      <a:pt x="325" y="1747"/>
                    </a:lnTo>
                    <a:lnTo>
                      <a:pt x="325" y="1740"/>
                    </a:lnTo>
                    <a:lnTo>
                      <a:pt x="331" y="1734"/>
                    </a:lnTo>
                    <a:lnTo>
                      <a:pt x="338" y="1714"/>
                    </a:lnTo>
                    <a:lnTo>
                      <a:pt x="344" y="1702"/>
                    </a:lnTo>
                    <a:lnTo>
                      <a:pt x="350" y="1676"/>
                    </a:lnTo>
                    <a:lnTo>
                      <a:pt x="357" y="1650"/>
                    </a:lnTo>
                    <a:lnTo>
                      <a:pt x="363" y="1618"/>
                    </a:lnTo>
                    <a:lnTo>
                      <a:pt x="363" y="1587"/>
                    </a:lnTo>
                    <a:lnTo>
                      <a:pt x="370" y="1549"/>
                    </a:lnTo>
                    <a:lnTo>
                      <a:pt x="376" y="1504"/>
                    </a:lnTo>
                    <a:lnTo>
                      <a:pt x="383" y="1459"/>
                    </a:lnTo>
                    <a:lnTo>
                      <a:pt x="389" y="1408"/>
                    </a:lnTo>
                    <a:lnTo>
                      <a:pt x="396" y="1356"/>
                    </a:lnTo>
                    <a:lnTo>
                      <a:pt x="396" y="1305"/>
                    </a:lnTo>
                    <a:lnTo>
                      <a:pt x="402" y="1247"/>
                    </a:lnTo>
                    <a:lnTo>
                      <a:pt x="408" y="1189"/>
                    </a:lnTo>
                    <a:lnTo>
                      <a:pt x="415" y="1133"/>
                    </a:lnTo>
                    <a:lnTo>
                      <a:pt x="421" y="1069"/>
                    </a:lnTo>
                    <a:lnTo>
                      <a:pt x="428" y="1005"/>
                    </a:lnTo>
                    <a:lnTo>
                      <a:pt x="434" y="947"/>
                    </a:lnTo>
                    <a:lnTo>
                      <a:pt x="434" y="883"/>
                    </a:lnTo>
                    <a:lnTo>
                      <a:pt x="441" y="818"/>
                    </a:lnTo>
                    <a:lnTo>
                      <a:pt x="447" y="754"/>
                    </a:lnTo>
                    <a:lnTo>
                      <a:pt x="453" y="698"/>
                    </a:lnTo>
                    <a:lnTo>
                      <a:pt x="460" y="634"/>
                    </a:lnTo>
                    <a:lnTo>
                      <a:pt x="466" y="576"/>
                    </a:lnTo>
                    <a:lnTo>
                      <a:pt x="466" y="518"/>
                    </a:lnTo>
                    <a:lnTo>
                      <a:pt x="473" y="460"/>
                    </a:lnTo>
                    <a:lnTo>
                      <a:pt x="479" y="403"/>
                    </a:lnTo>
                    <a:lnTo>
                      <a:pt x="486" y="351"/>
                    </a:lnTo>
                    <a:lnTo>
                      <a:pt x="492" y="306"/>
                    </a:lnTo>
                    <a:lnTo>
                      <a:pt x="499" y="261"/>
                    </a:lnTo>
                    <a:lnTo>
                      <a:pt x="505" y="218"/>
                    </a:lnTo>
                    <a:lnTo>
                      <a:pt x="505" y="179"/>
                    </a:lnTo>
                    <a:lnTo>
                      <a:pt x="511" y="141"/>
                    </a:lnTo>
                    <a:lnTo>
                      <a:pt x="518" y="109"/>
                    </a:lnTo>
                    <a:lnTo>
                      <a:pt x="524" y="83"/>
                    </a:lnTo>
                    <a:lnTo>
                      <a:pt x="531" y="57"/>
                    </a:lnTo>
                    <a:lnTo>
                      <a:pt x="537" y="38"/>
                    </a:lnTo>
                    <a:lnTo>
                      <a:pt x="537" y="25"/>
                    </a:lnTo>
                    <a:lnTo>
                      <a:pt x="544" y="12"/>
                    </a:lnTo>
                    <a:lnTo>
                      <a:pt x="550" y="6"/>
                    </a:lnTo>
                    <a:lnTo>
                      <a:pt x="557" y="0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7200720" y="4314600"/>
              <a:ext cx="39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43760" y="2286000"/>
              <a:ext cx="784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5883120" y="2805120"/>
              <a:ext cx="0" cy="28843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455920" y="2817720"/>
            <a:ext cx="4669200" cy="3439440"/>
            <a:chOff x="2455920" y="2817720"/>
            <a:chExt cx="4669200" cy="3439440"/>
          </a:xfrm>
        </p:grpSpPr>
        <p:sp>
          <p:nvSpPr>
            <p:cNvPr id="466" name=""/>
            <p:cNvSpPr/>
            <p:nvPr/>
          </p:nvSpPr>
          <p:spPr>
            <a:xfrm>
              <a:off x="6787800" y="5798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52760" y="5688000"/>
              <a:ext cx="4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83400" y="2820960"/>
              <a:ext cx="172800" cy="17280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875640" y="2820960"/>
              <a:ext cx="172800" cy="17280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64280" y="2820960"/>
              <a:ext cx="173160" cy="17280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160960" y="2820960"/>
              <a:ext cx="173160" cy="17280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29000" y="2820960"/>
              <a:ext cx="173160" cy="17280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567240" y="2820960"/>
              <a:ext cx="172800" cy="17280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925720" y="2817720"/>
              <a:ext cx="173160" cy="17316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999400" y="5597280"/>
              <a:ext cx="172800" cy="17316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54800" y="5597280"/>
              <a:ext cx="172800" cy="17316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748400" y="5597280"/>
              <a:ext cx="172800" cy="17316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903840" y="5597280"/>
              <a:ext cx="172800" cy="17316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32160" y="5599080"/>
              <a:ext cx="173160" cy="17280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55920" y="5599080"/>
              <a:ext cx="173160" cy="17280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500880" y="5591160"/>
              <a:ext cx="173160" cy="172800"/>
            </a:xfrm>
            <a:prstGeom prst="ellipse">
              <a:avLst/>
            </a:prstGeom>
            <a:solidFill>
              <a:srgbClr val="00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Primjer korištenja MATLAB funkcije </a:t>
            </a:r>
            <a:r>
              <a:rPr b="0" lang="hr-HR" sz="4400" spc="-1" strike="noStrike">
                <a:solidFill>
                  <a:srgbClr val="00fffe"/>
                </a:solidFill>
                <a:latin typeface="Courier New"/>
              </a:rPr>
              <a:t>remez()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onačna pogreška  </a:t>
            </a:r>
            <a:r>
              <a:rPr b="0" lang="hr-HR" sz="2800" spc="-1" strike="noStrike">
                <a:solidFill>
                  <a:srgbClr val="ffcc00"/>
                </a:solidFill>
                <a:latin typeface="Symbol"/>
                <a:ea typeface="Symbol"/>
              </a:rPr>
              <a:t>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cc00"/>
                </a:solidFill>
                <a:latin typeface="Symbol"/>
                <a:ea typeface="Symbol"/>
              </a:rPr>
              <a:t>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cc00"/>
                </a:solidFill>
                <a:latin typeface="Symbol"/>
                <a:ea typeface="Symbol"/>
              </a:rPr>
              <a:t></a:t>
            </a:r>
            <a:r>
              <a:rPr b="0" i="1" lang="hr-HR" sz="2800" spc="-1" strike="noStrike" baseline="-25000">
                <a:solidFill>
                  <a:srgbClr val="ffcc00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cc00"/>
                </a:solidFill>
                <a:latin typeface="Symbol"/>
                <a:ea typeface="Symbol"/>
              </a:rPr>
              <a:t>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 0.2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A97C-0687-41FC-97B9-979CBAA2069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3089160" y="3154320"/>
            <a:ext cx="2663640" cy="2308320"/>
            <a:chOff x="3089160" y="3154320"/>
            <a:chExt cx="2663640" cy="2308320"/>
          </a:xfrm>
        </p:grpSpPr>
        <p:sp>
          <p:nvSpPr>
            <p:cNvPr id="485" name=""/>
            <p:cNvSpPr/>
            <p:nvPr/>
          </p:nvSpPr>
          <p:spPr>
            <a:xfrm>
              <a:off x="3089160" y="4313160"/>
              <a:ext cx="187200" cy="1147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38600" y="3154320"/>
              <a:ext cx="214200" cy="2308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161000" y="2438280"/>
            <a:ext cx="6370560" cy="4215960"/>
            <a:chOff x="1161000" y="2438280"/>
            <a:chExt cx="6370560" cy="4215960"/>
          </a:xfrm>
        </p:grpSpPr>
        <p:sp>
          <p:nvSpPr>
            <p:cNvPr id="488" name=""/>
            <p:cNvSpPr/>
            <p:nvPr/>
          </p:nvSpPr>
          <p:spPr>
            <a:xfrm>
              <a:off x="5751720" y="3157560"/>
              <a:ext cx="0" cy="2800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078360" y="4052520"/>
              <a:ext cx="0" cy="1904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2179800" y="2693880"/>
              <a:ext cx="0" cy="341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179800" y="5467320"/>
              <a:ext cx="42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55440" y="52783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60480" y="5891040"/>
              <a:ext cx="565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179800" y="3159000"/>
              <a:ext cx="42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865160" y="29509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79800" y="4252680"/>
              <a:ext cx="900000" cy="115920"/>
            </a:xfrm>
            <a:custGeom>
              <a:avLst/>
              <a:gdLst/>
              <a:ahLst/>
              <a:rect l="l" t="t" r="r" b="b"/>
              <a:pathLst>
                <a:path w="567" h="73">
                  <a:moveTo>
                    <a:pt x="0" y="0"/>
                  </a:moveTo>
                  <a:lnTo>
                    <a:pt x="566" y="0"/>
                  </a:lnTo>
                  <a:lnTo>
                    <a:pt x="566" y="72"/>
                  </a:lnTo>
                  <a:lnTo>
                    <a:pt x="0" y="7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94360" y="5467320"/>
              <a:ext cx="2243160" cy="1440"/>
            </a:xfrm>
            <a:custGeom>
              <a:avLst/>
              <a:gdLst/>
              <a:ahLst/>
              <a:rect l="l" t="t" r="r" b="b"/>
              <a:pathLst>
                <a:path w="1413" h="1">
                  <a:moveTo>
                    <a:pt x="0" y="0"/>
                  </a:moveTo>
                  <a:lnTo>
                    <a:pt x="141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53160" y="3033720"/>
              <a:ext cx="898560" cy="215640"/>
            </a:xfrm>
            <a:custGeom>
              <a:avLst/>
              <a:gdLst/>
              <a:ahLst/>
              <a:rect l="l" t="t" r="r" b="b"/>
              <a:pathLst>
                <a:path w="566" h="136">
                  <a:moveTo>
                    <a:pt x="565" y="0"/>
                  </a:moveTo>
                  <a:lnTo>
                    <a:pt x="0" y="0"/>
                  </a:lnTo>
                  <a:lnTo>
                    <a:pt x="0" y="135"/>
                  </a:lnTo>
                  <a:lnTo>
                    <a:pt x="565" y="135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3289320" y="4052880"/>
              <a:ext cx="3240" cy="1866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5535720" y="4027320"/>
              <a:ext cx="0" cy="14400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179800" y="5467320"/>
              <a:ext cx="5072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179440" y="5251320"/>
              <a:ext cx="3357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2179440" y="5694120"/>
              <a:ext cx="33433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537520" y="5000400"/>
              <a:ext cx="0" cy="919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179800" y="4304880"/>
              <a:ext cx="900000" cy="46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294360" y="5467320"/>
              <a:ext cx="22431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62880" y="3147840"/>
              <a:ext cx="900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989080" y="6195960"/>
              <a:ext cx="718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2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98760" y="5891040"/>
              <a:ext cx="718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7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03680" y="6195960"/>
              <a:ext cx="565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54960" y="2916000"/>
              <a:ext cx="0" cy="2552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92600" y="5510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14240" y="4059000"/>
              <a:ext cx="565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137720" y="5484600"/>
              <a:ext cx="39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61000" y="2438280"/>
              <a:ext cx="959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0" lang="hr-HR" sz="2400" spc="-1" strike="noStrike" baseline="-25000">
                  <a:solidFill>
                    <a:srgbClr val="ffff00"/>
                  </a:solidFill>
                  <a:latin typeface="Times New Roman"/>
                </a:rPr>
                <a:t>e</a:t>
              </a:r>
              <a:r>
                <a:rPr b="0" lang="hr-HR" sz="2400" spc="-1" strike="noStrike">
                  <a:solidFill>
                    <a:srgbClr val="ffff00"/>
                  </a:solidFill>
                  <a:latin typeface="Times New Roman"/>
                </a:rPr>
                <a:t>(</a:t>
              </a:r>
              <a:r>
                <a:rPr b="0" i="1" lang="hr-HR" sz="24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r>
                <a:rPr b="0" i="1" lang="hr-HR" sz="2400" spc="-1" strike="noStrike" baseline="30000">
                  <a:solidFill>
                    <a:srgbClr val="ffff00"/>
                  </a:solidFill>
                  <a:latin typeface="Times New Roman"/>
                </a:rPr>
                <a:t>j</a:t>
              </a:r>
              <a:r>
                <a:rPr b="0" lang="hr-HR" sz="2400" spc="-1" strike="noStrike" baseline="30000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r>
                <a:rPr b="0" lang="hr-HR" sz="24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38320" y="2681280"/>
              <a:ext cx="1017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= 3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76560" y="3022560"/>
              <a:ext cx="4487760" cy="2682720"/>
            </a:xfrm>
            <a:custGeom>
              <a:avLst/>
              <a:gdLst/>
              <a:ahLst/>
              <a:rect l="l" t="t" r="r" b="b"/>
              <a:pathLst>
                <a:path w="2827" h="1690">
                  <a:moveTo>
                    <a:pt x="0" y="844"/>
                  </a:moveTo>
                  <a:lnTo>
                    <a:pt x="6" y="844"/>
                  </a:lnTo>
                  <a:lnTo>
                    <a:pt x="13" y="844"/>
                  </a:lnTo>
                  <a:lnTo>
                    <a:pt x="19" y="844"/>
                  </a:lnTo>
                  <a:lnTo>
                    <a:pt x="26" y="838"/>
                  </a:lnTo>
                  <a:lnTo>
                    <a:pt x="32" y="838"/>
                  </a:lnTo>
                  <a:lnTo>
                    <a:pt x="39" y="838"/>
                  </a:lnTo>
                  <a:lnTo>
                    <a:pt x="45" y="832"/>
                  </a:lnTo>
                  <a:lnTo>
                    <a:pt x="52" y="832"/>
                  </a:lnTo>
                  <a:lnTo>
                    <a:pt x="52" y="826"/>
                  </a:lnTo>
                  <a:lnTo>
                    <a:pt x="58" y="826"/>
                  </a:lnTo>
                  <a:lnTo>
                    <a:pt x="65" y="820"/>
                  </a:lnTo>
                  <a:lnTo>
                    <a:pt x="71" y="820"/>
                  </a:lnTo>
                  <a:lnTo>
                    <a:pt x="78" y="814"/>
                  </a:lnTo>
                  <a:lnTo>
                    <a:pt x="84" y="807"/>
                  </a:lnTo>
                  <a:lnTo>
                    <a:pt x="91" y="807"/>
                  </a:lnTo>
                  <a:lnTo>
                    <a:pt x="91" y="801"/>
                  </a:lnTo>
                  <a:lnTo>
                    <a:pt x="98" y="801"/>
                  </a:lnTo>
                  <a:lnTo>
                    <a:pt x="104" y="795"/>
                  </a:lnTo>
                  <a:lnTo>
                    <a:pt x="111" y="789"/>
                  </a:lnTo>
                  <a:lnTo>
                    <a:pt x="117" y="789"/>
                  </a:lnTo>
                  <a:lnTo>
                    <a:pt x="124" y="783"/>
                  </a:lnTo>
                  <a:lnTo>
                    <a:pt x="130" y="783"/>
                  </a:lnTo>
                  <a:lnTo>
                    <a:pt x="137" y="777"/>
                  </a:lnTo>
                  <a:lnTo>
                    <a:pt x="143" y="777"/>
                  </a:lnTo>
                  <a:lnTo>
                    <a:pt x="150" y="777"/>
                  </a:lnTo>
                  <a:lnTo>
                    <a:pt x="156" y="777"/>
                  </a:lnTo>
                  <a:lnTo>
                    <a:pt x="163" y="777"/>
                  </a:lnTo>
                  <a:lnTo>
                    <a:pt x="169" y="777"/>
                  </a:lnTo>
                  <a:lnTo>
                    <a:pt x="176" y="777"/>
                  </a:lnTo>
                  <a:lnTo>
                    <a:pt x="183" y="777"/>
                  </a:lnTo>
                  <a:lnTo>
                    <a:pt x="189" y="777"/>
                  </a:lnTo>
                  <a:lnTo>
                    <a:pt x="196" y="783"/>
                  </a:lnTo>
                  <a:lnTo>
                    <a:pt x="202" y="783"/>
                  </a:lnTo>
                  <a:lnTo>
                    <a:pt x="209" y="789"/>
                  </a:lnTo>
                  <a:lnTo>
                    <a:pt x="215" y="789"/>
                  </a:lnTo>
                  <a:lnTo>
                    <a:pt x="222" y="795"/>
                  </a:lnTo>
                  <a:lnTo>
                    <a:pt x="228" y="795"/>
                  </a:lnTo>
                  <a:lnTo>
                    <a:pt x="235" y="801"/>
                  </a:lnTo>
                  <a:lnTo>
                    <a:pt x="241" y="807"/>
                  </a:lnTo>
                  <a:lnTo>
                    <a:pt x="248" y="814"/>
                  </a:lnTo>
                  <a:lnTo>
                    <a:pt x="254" y="814"/>
                  </a:lnTo>
                  <a:lnTo>
                    <a:pt x="261" y="820"/>
                  </a:lnTo>
                  <a:lnTo>
                    <a:pt x="268" y="820"/>
                  </a:lnTo>
                  <a:lnTo>
                    <a:pt x="268" y="826"/>
                  </a:lnTo>
                  <a:lnTo>
                    <a:pt x="274" y="826"/>
                  </a:lnTo>
                  <a:lnTo>
                    <a:pt x="281" y="832"/>
                  </a:lnTo>
                  <a:lnTo>
                    <a:pt x="287" y="832"/>
                  </a:lnTo>
                  <a:lnTo>
                    <a:pt x="294" y="838"/>
                  </a:lnTo>
                  <a:lnTo>
                    <a:pt x="300" y="838"/>
                  </a:lnTo>
                  <a:lnTo>
                    <a:pt x="307" y="844"/>
                  </a:lnTo>
                  <a:lnTo>
                    <a:pt x="313" y="844"/>
                  </a:lnTo>
                  <a:lnTo>
                    <a:pt x="320" y="844"/>
                  </a:lnTo>
                  <a:lnTo>
                    <a:pt x="326" y="844"/>
                  </a:lnTo>
                  <a:lnTo>
                    <a:pt x="333" y="844"/>
                  </a:lnTo>
                  <a:lnTo>
                    <a:pt x="339" y="844"/>
                  </a:lnTo>
                  <a:lnTo>
                    <a:pt x="346" y="844"/>
                  </a:lnTo>
                  <a:lnTo>
                    <a:pt x="352" y="844"/>
                  </a:lnTo>
                  <a:lnTo>
                    <a:pt x="359" y="844"/>
                  </a:lnTo>
                  <a:lnTo>
                    <a:pt x="366" y="838"/>
                  </a:lnTo>
                  <a:lnTo>
                    <a:pt x="372" y="838"/>
                  </a:lnTo>
                  <a:lnTo>
                    <a:pt x="379" y="832"/>
                  </a:lnTo>
                  <a:lnTo>
                    <a:pt x="385" y="832"/>
                  </a:lnTo>
                  <a:lnTo>
                    <a:pt x="392" y="826"/>
                  </a:lnTo>
                  <a:lnTo>
                    <a:pt x="398" y="820"/>
                  </a:lnTo>
                  <a:lnTo>
                    <a:pt x="405" y="820"/>
                  </a:lnTo>
                  <a:lnTo>
                    <a:pt x="411" y="814"/>
                  </a:lnTo>
                  <a:lnTo>
                    <a:pt x="418" y="807"/>
                  </a:lnTo>
                  <a:lnTo>
                    <a:pt x="424" y="801"/>
                  </a:lnTo>
                  <a:lnTo>
                    <a:pt x="431" y="801"/>
                  </a:lnTo>
                  <a:lnTo>
                    <a:pt x="437" y="795"/>
                  </a:lnTo>
                  <a:lnTo>
                    <a:pt x="444" y="795"/>
                  </a:lnTo>
                  <a:lnTo>
                    <a:pt x="449" y="789"/>
                  </a:lnTo>
                  <a:lnTo>
                    <a:pt x="456" y="783"/>
                  </a:lnTo>
                  <a:lnTo>
                    <a:pt x="463" y="783"/>
                  </a:lnTo>
                  <a:lnTo>
                    <a:pt x="469" y="777"/>
                  </a:lnTo>
                  <a:lnTo>
                    <a:pt x="476" y="777"/>
                  </a:lnTo>
                  <a:lnTo>
                    <a:pt x="482" y="777"/>
                  </a:lnTo>
                  <a:lnTo>
                    <a:pt x="489" y="777"/>
                  </a:lnTo>
                  <a:lnTo>
                    <a:pt x="495" y="777"/>
                  </a:lnTo>
                  <a:lnTo>
                    <a:pt x="502" y="777"/>
                  </a:lnTo>
                  <a:lnTo>
                    <a:pt x="508" y="777"/>
                  </a:lnTo>
                  <a:lnTo>
                    <a:pt x="515" y="783"/>
                  </a:lnTo>
                  <a:lnTo>
                    <a:pt x="521" y="789"/>
                  </a:lnTo>
                  <a:lnTo>
                    <a:pt x="528" y="795"/>
                  </a:lnTo>
                  <a:lnTo>
                    <a:pt x="534" y="801"/>
                  </a:lnTo>
                  <a:lnTo>
                    <a:pt x="541" y="807"/>
                  </a:lnTo>
                  <a:lnTo>
                    <a:pt x="547" y="814"/>
                  </a:lnTo>
                  <a:lnTo>
                    <a:pt x="554" y="820"/>
                  </a:lnTo>
                  <a:lnTo>
                    <a:pt x="554" y="832"/>
                  </a:lnTo>
                  <a:lnTo>
                    <a:pt x="561" y="844"/>
                  </a:lnTo>
                  <a:lnTo>
                    <a:pt x="567" y="850"/>
                  </a:lnTo>
                  <a:lnTo>
                    <a:pt x="574" y="862"/>
                  </a:lnTo>
                  <a:lnTo>
                    <a:pt x="580" y="881"/>
                  </a:lnTo>
                  <a:lnTo>
                    <a:pt x="587" y="893"/>
                  </a:lnTo>
                  <a:lnTo>
                    <a:pt x="587" y="911"/>
                  </a:lnTo>
                  <a:lnTo>
                    <a:pt x="593" y="923"/>
                  </a:lnTo>
                  <a:lnTo>
                    <a:pt x="600" y="941"/>
                  </a:lnTo>
                  <a:lnTo>
                    <a:pt x="606" y="960"/>
                  </a:lnTo>
                  <a:lnTo>
                    <a:pt x="613" y="984"/>
                  </a:lnTo>
                  <a:lnTo>
                    <a:pt x="619" y="1002"/>
                  </a:lnTo>
                  <a:lnTo>
                    <a:pt x="626" y="1027"/>
                  </a:lnTo>
                  <a:lnTo>
                    <a:pt x="626" y="1045"/>
                  </a:lnTo>
                  <a:lnTo>
                    <a:pt x="632" y="1069"/>
                  </a:lnTo>
                  <a:lnTo>
                    <a:pt x="639" y="1093"/>
                  </a:lnTo>
                  <a:lnTo>
                    <a:pt x="646" y="1117"/>
                  </a:lnTo>
                  <a:lnTo>
                    <a:pt x="652" y="1141"/>
                  </a:lnTo>
                  <a:lnTo>
                    <a:pt x="659" y="1172"/>
                  </a:lnTo>
                  <a:lnTo>
                    <a:pt x="659" y="1196"/>
                  </a:lnTo>
                  <a:lnTo>
                    <a:pt x="665" y="1221"/>
                  </a:lnTo>
                  <a:lnTo>
                    <a:pt x="672" y="1251"/>
                  </a:lnTo>
                  <a:lnTo>
                    <a:pt x="678" y="1275"/>
                  </a:lnTo>
                  <a:lnTo>
                    <a:pt x="685" y="1306"/>
                  </a:lnTo>
                  <a:lnTo>
                    <a:pt x="691" y="1330"/>
                  </a:lnTo>
                  <a:lnTo>
                    <a:pt x="698" y="1361"/>
                  </a:lnTo>
                  <a:lnTo>
                    <a:pt x="698" y="1385"/>
                  </a:lnTo>
                  <a:lnTo>
                    <a:pt x="704" y="1409"/>
                  </a:lnTo>
                  <a:lnTo>
                    <a:pt x="711" y="1440"/>
                  </a:lnTo>
                  <a:lnTo>
                    <a:pt x="717" y="1464"/>
                  </a:lnTo>
                  <a:lnTo>
                    <a:pt x="724" y="1489"/>
                  </a:lnTo>
                  <a:lnTo>
                    <a:pt x="731" y="1506"/>
                  </a:lnTo>
                  <a:lnTo>
                    <a:pt x="731" y="1530"/>
                  </a:lnTo>
                  <a:lnTo>
                    <a:pt x="737" y="1555"/>
                  </a:lnTo>
                  <a:lnTo>
                    <a:pt x="744" y="1573"/>
                  </a:lnTo>
                  <a:lnTo>
                    <a:pt x="750" y="1591"/>
                  </a:lnTo>
                  <a:lnTo>
                    <a:pt x="757" y="1609"/>
                  </a:lnTo>
                  <a:lnTo>
                    <a:pt x="763" y="1622"/>
                  </a:lnTo>
                  <a:lnTo>
                    <a:pt x="770" y="1640"/>
                  </a:lnTo>
                  <a:lnTo>
                    <a:pt x="770" y="1652"/>
                  </a:lnTo>
                  <a:lnTo>
                    <a:pt x="776" y="1664"/>
                  </a:lnTo>
                  <a:lnTo>
                    <a:pt x="783" y="1670"/>
                  </a:lnTo>
                  <a:lnTo>
                    <a:pt x="789" y="1676"/>
                  </a:lnTo>
                  <a:lnTo>
                    <a:pt x="796" y="1682"/>
                  </a:lnTo>
                  <a:lnTo>
                    <a:pt x="802" y="1689"/>
                  </a:lnTo>
                  <a:lnTo>
                    <a:pt x="809" y="1689"/>
                  </a:lnTo>
                  <a:lnTo>
                    <a:pt x="815" y="1689"/>
                  </a:lnTo>
                  <a:lnTo>
                    <a:pt x="822" y="1689"/>
                  </a:lnTo>
                  <a:lnTo>
                    <a:pt x="829" y="1682"/>
                  </a:lnTo>
                  <a:lnTo>
                    <a:pt x="835" y="1676"/>
                  </a:lnTo>
                  <a:lnTo>
                    <a:pt x="842" y="1670"/>
                  </a:lnTo>
                  <a:lnTo>
                    <a:pt x="842" y="1658"/>
                  </a:lnTo>
                  <a:lnTo>
                    <a:pt x="848" y="1646"/>
                  </a:lnTo>
                  <a:lnTo>
                    <a:pt x="855" y="1640"/>
                  </a:lnTo>
                  <a:lnTo>
                    <a:pt x="861" y="1628"/>
                  </a:lnTo>
                  <a:lnTo>
                    <a:pt x="868" y="1609"/>
                  </a:lnTo>
                  <a:lnTo>
                    <a:pt x="874" y="1597"/>
                  </a:lnTo>
                  <a:lnTo>
                    <a:pt x="874" y="1585"/>
                  </a:lnTo>
                  <a:lnTo>
                    <a:pt x="881" y="1567"/>
                  </a:lnTo>
                  <a:lnTo>
                    <a:pt x="887" y="1555"/>
                  </a:lnTo>
                  <a:lnTo>
                    <a:pt x="894" y="1542"/>
                  </a:lnTo>
                  <a:lnTo>
                    <a:pt x="900" y="1524"/>
                  </a:lnTo>
                  <a:lnTo>
                    <a:pt x="907" y="1512"/>
                  </a:lnTo>
                  <a:lnTo>
                    <a:pt x="914" y="1501"/>
                  </a:lnTo>
                  <a:lnTo>
                    <a:pt x="914" y="1482"/>
                  </a:lnTo>
                  <a:lnTo>
                    <a:pt x="920" y="1470"/>
                  </a:lnTo>
                  <a:lnTo>
                    <a:pt x="927" y="1458"/>
                  </a:lnTo>
                  <a:lnTo>
                    <a:pt x="933" y="1452"/>
                  </a:lnTo>
                  <a:lnTo>
                    <a:pt x="940" y="1440"/>
                  </a:lnTo>
                  <a:lnTo>
                    <a:pt x="946" y="1434"/>
                  </a:lnTo>
                  <a:lnTo>
                    <a:pt x="946" y="1422"/>
                  </a:lnTo>
                  <a:lnTo>
                    <a:pt x="953" y="1422"/>
                  </a:lnTo>
                  <a:lnTo>
                    <a:pt x="959" y="1415"/>
                  </a:lnTo>
                  <a:lnTo>
                    <a:pt x="966" y="1409"/>
                  </a:lnTo>
                  <a:lnTo>
                    <a:pt x="972" y="1409"/>
                  </a:lnTo>
                  <a:lnTo>
                    <a:pt x="979" y="1409"/>
                  </a:lnTo>
                  <a:lnTo>
                    <a:pt x="985" y="1415"/>
                  </a:lnTo>
                  <a:lnTo>
                    <a:pt x="992" y="1422"/>
                  </a:lnTo>
                  <a:lnTo>
                    <a:pt x="999" y="1428"/>
                  </a:lnTo>
                  <a:lnTo>
                    <a:pt x="1005" y="1440"/>
                  </a:lnTo>
                  <a:lnTo>
                    <a:pt x="1012" y="1446"/>
                  </a:lnTo>
                  <a:lnTo>
                    <a:pt x="1018" y="1458"/>
                  </a:lnTo>
                  <a:lnTo>
                    <a:pt x="1018" y="1470"/>
                  </a:lnTo>
                  <a:lnTo>
                    <a:pt x="1025" y="1482"/>
                  </a:lnTo>
                  <a:lnTo>
                    <a:pt x="1031" y="1495"/>
                  </a:lnTo>
                  <a:lnTo>
                    <a:pt x="1038" y="1506"/>
                  </a:lnTo>
                  <a:lnTo>
                    <a:pt x="1044" y="1518"/>
                  </a:lnTo>
                  <a:lnTo>
                    <a:pt x="1051" y="1536"/>
                  </a:lnTo>
                  <a:lnTo>
                    <a:pt x="1056" y="1548"/>
                  </a:lnTo>
                  <a:lnTo>
                    <a:pt x="1056" y="1567"/>
                  </a:lnTo>
                  <a:lnTo>
                    <a:pt x="1063" y="1579"/>
                  </a:lnTo>
                  <a:lnTo>
                    <a:pt x="1069" y="1597"/>
                  </a:lnTo>
                  <a:lnTo>
                    <a:pt x="1076" y="1609"/>
                  </a:lnTo>
                  <a:lnTo>
                    <a:pt x="1082" y="1622"/>
                  </a:lnTo>
                  <a:lnTo>
                    <a:pt x="1089" y="1634"/>
                  </a:lnTo>
                  <a:lnTo>
                    <a:pt x="1089" y="1646"/>
                  </a:lnTo>
                  <a:lnTo>
                    <a:pt x="1095" y="1658"/>
                  </a:lnTo>
                  <a:lnTo>
                    <a:pt x="1102" y="1664"/>
                  </a:lnTo>
                  <a:lnTo>
                    <a:pt x="1109" y="1676"/>
                  </a:lnTo>
                  <a:lnTo>
                    <a:pt x="1115" y="1682"/>
                  </a:lnTo>
                  <a:lnTo>
                    <a:pt x="1122" y="1682"/>
                  </a:lnTo>
                  <a:lnTo>
                    <a:pt x="1128" y="1689"/>
                  </a:lnTo>
                  <a:lnTo>
                    <a:pt x="1135" y="1689"/>
                  </a:lnTo>
                  <a:lnTo>
                    <a:pt x="1141" y="1689"/>
                  </a:lnTo>
                  <a:lnTo>
                    <a:pt x="1148" y="1689"/>
                  </a:lnTo>
                  <a:lnTo>
                    <a:pt x="1154" y="1682"/>
                  </a:lnTo>
                  <a:lnTo>
                    <a:pt x="1161" y="1676"/>
                  </a:lnTo>
                  <a:lnTo>
                    <a:pt x="1161" y="1670"/>
                  </a:lnTo>
                  <a:lnTo>
                    <a:pt x="1167" y="1658"/>
                  </a:lnTo>
                  <a:lnTo>
                    <a:pt x="1174" y="1646"/>
                  </a:lnTo>
                  <a:lnTo>
                    <a:pt x="1180" y="1640"/>
                  </a:lnTo>
                  <a:lnTo>
                    <a:pt x="1187" y="1628"/>
                  </a:lnTo>
                  <a:lnTo>
                    <a:pt x="1194" y="1609"/>
                  </a:lnTo>
                  <a:lnTo>
                    <a:pt x="1200" y="1597"/>
                  </a:lnTo>
                  <a:lnTo>
                    <a:pt x="1200" y="1585"/>
                  </a:lnTo>
                  <a:lnTo>
                    <a:pt x="1207" y="1567"/>
                  </a:lnTo>
                  <a:lnTo>
                    <a:pt x="1213" y="1555"/>
                  </a:lnTo>
                  <a:lnTo>
                    <a:pt x="1220" y="1536"/>
                  </a:lnTo>
                  <a:lnTo>
                    <a:pt x="1226" y="1524"/>
                  </a:lnTo>
                  <a:lnTo>
                    <a:pt x="1233" y="1506"/>
                  </a:lnTo>
                  <a:lnTo>
                    <a:pt x="1233" y="1495"/>
                  </a:lnTo>
                  <a:lnTo>
                    <a:pt x="1239" y="1482"/>
                  </a:lnTo>
                  <a:lnTo>
                    <a:pt x="1246" y="1470"/>
                  </a:lnTo>
                  <a:lnTo>
                    <a:pt x="1252" y="1458"/>
                  </a:lnTo>
                  <a:lnTo>
                    <a:pt x="1259" y="1446"/>
                  </a:lnTo>
                  <a:lnTo>
                    <a:pt x="1265" y="1434"/>
                  </a:lnTo>
                  <a:lnTo>
                    <a:pt x="1272" y="1428"/>
                  </a:lnTo>
                  <a:lnTo>
                    <a:pt x="1272" y="1422"/>
                  </a:lnTo>
                  <a:lnTo>
                    <a:pt x="1278" y="1415"/>
                  </a:lnTo>
                  <a:lnTo>
                    <a:pt x="1285" y="1415"/>
                  </a:lnTo>
                  <a:lnTo>
                    <a:pt x="1292" y="1409"/>
                  </a:lnTo>
                  <a:lnTo>
                    <a:pt x="1298" y="1409"/>
                  </a:lnTo>
                  <a:lnTo>
                    <a:pt x="1305" y="1415"/>
                  </a:lnTo>
                  <a:lnTo>
                    <a:pt x="1311" y="1422"/>
                  </a:lnTo>
                  <a:lnTo>
                    <a:pt x="1318" y="1428"/>
                  </a:lnTo>
                  <a:lnTo>
                    <a:pt x="1324" y="1434"/>
                  </a:lnTo>
                  <a:lnTo>
                    <a:pt x="1331" y="1446"/>
                  </a:lnTo>
                  <a:lnTo>
                    <a:pt x="1337" y="1452"/>
                  </a:lnTo>
                  <a:lnTo>
                    <a:pt x="1344" y="1464"/>
                  </a:lnTo>
                  <a:lnTo>
                    <a:pt x="1344" y="1476"/>
                  </a:lnTo>
                  <a:lnTo>
                    <a:pt x="1350" y="1495"/>
                  </a:lnTo>
                  <a:lnTo>
                    <a:pt x="1357" y="1506"/>
                  </a:lnTo>
                  <a:lnTo>
                    <a:pt x="1363" y="1524"/>
                  </a:lnTo>
                  <a:lnTo>
                    <a:pt x="1370" y="1536"/>
                  </a:lnTo>
                  <a:lnTo>
                    <a:pt x="1377" y="1555"/>
                  </a:lnTo>
                  <a:lnTo>
                    <a:pt x="1377" y="1567"/>
                  </a:lnTo>
                  <a:lnTo>
                    <a:pt x="1383" y="1585"/>
                  </a:lnTo>
                  <a:lnTo>
                    <a:pt x="1390" y="1597"/>
                  </a:lnTo>
                  <a:lnTo>
                    <a:pt x="1396" y="1609"/>
                  </a:lnTo>
                  <a:lnTo>
                    <a:pt x="1403" y="1628"/>
                  </a:lnTo>
                  <a:lnTo>
                    <a:pt x="1409" y="1640"/>
                  </a:lnTo>
                  <a:lnTo>
                    <a:pt x="1416" y="1652"/>
                  </a:lnTo>
                  <a:lnTo>
                    <a:pt x="1416" y="1658"/>
                  </a:lnTo>
                  <a:lnTo>
                    <a:pt x="1422" y="1670"/>
                  </a:lnTo>
                  <a:lnTo>
                    <a:pt x="1429" y="1676"/>
                  </a:lnTo>
                  <a:lnTo>
                    <a:pt x="1435" y="1682"/>
                  </a:lnTo>
                  <a:lnTo>
                    <a:pt x="1442" y="1689"/>
                  </a:lnTo>
                  <a:lnTo>
                    <a:pt x="1448" y="1689"/>
                  </a:lnTo>
                  <a:lnTo>
                    <a:pt x="1455" y="1689"/>
                  </a:lnTo>
                  <a:lnTo>
                    <a:pt x="1462" y="1689"/>
                  </a:lnTo>
                  <a:lnTo>
                    <a:pt x="1468" y="1682"/>
                  </a:lnTo>
                  <a:lnTo>
                    <a:pt x="1475" y="1676"/>
                  </a:lnTo>
                  <a:lnTo>
                    <a:pt x="1481" y="1670"/>
                  </a:lnTo>
                  <a:lnTo>
                    <a:pt x="1481" y="1664"/>
                  </a:lnTo>
                  <a:lnTo>
                    <a:pt x="1488" y="1652"/>
                  </a:lnTo>
                  <a:lnTo>
                    <a:pt x="1494" y="1640"/>
                  </a:lnTo>
                  <a:lnTo>
                    <a:pt x="1501" y="1628"/>
                  </a:lnTo>
                  <a:lnTo>
                    <a:pt x="1507" y="1615"/>
                  </a:lnTo>
                  <a:lnTo>
                    <a:pt x="1514" y="1597"/>
                  </a:lnTo>
                  <a:lnTo>
                    <a:pt x="1520" y="1585"/>
                  </a:lnTo>
                  <a:lnTo>
                    <a:pt x="1520" y="1567"/>
                  </a:lnTo>
                  <a:lnTo>
                    <a:pt x="1527" y="1555"/>
                  </a:lnTo>
                  <a:lnTo>
                    <a:pt x="1533" y="1536"/>
                  </a:lnTo>
                  <a:lnTo>
                    <a:pt x="1540" y="1524"/>
                  </a:lnTo>
                  <a:lnTo>
                    <a:pt x="1547" y="1506"/>
                  </a:lnTo>
                  <a:lnTo>
                    <a:pt x="1553" y="1495"/>
                  </a:lnTo>
                  <a:lnTo>
                    <a:pt x="1553" y="1482"/>
                  </a:lnTo>
                  <a:lnTo>
                    <a:pt x="1560" y="1464"/>
                  </a:lnTo>
                  <a:lnTo>
                    <a:pt x="1566" y="1458"/>
                  </a:lnTo>
                  <a:lnTo>
                    <a:pt x="1573" y="1446"/>
                  </a:lnTo>
                  <a:lnTo>
                    <a:pt x="1579" y="1434"/>
                  </a:lnTo>
                  <a:lnTo>
                    <a:pt x="1586" y="1428"/>
                  </a:lnTo>
                  <a:lnTo>
                    <a:pt x="1592" y="1422"/>
                  </a:lnTo>
                  <a:lnTo>
                    <a:pt x="1592" y="1415"/>
                  </a:lnTo>
                  <a:lnTo>
                    <a:pt x="1599" y="1415"/>
                  </a:lnTo>
                  <a:lnTo>
                    <a:pt x="1605" y="1409"/>
                  </a:lnTo>
                  <a:lnTo>
                    <a:pt x="1612" y="1409"/>
                  </a:lnTo>
                  <a:lnTo>
                    <a:pt x="1618" y="1415"/>
                  </a:lnTo>
                  <a:lnTo>
                    <a:pt x="1625" y="1415"/>
                  </a:lnTo>
                  <a:lnTo>
                    <a:pt x="1625" y="1422"/>
                  </a:lnTo>
                  <a:lnTo>
                    <a:pt x="1631" y="1428"/>
                  </a:lnTo>
                  <a:lnTo>
                    <a:pt x="1638" y="1440"/>
                  </a:lnTo>
                  <a:lnTo>
                    <a:pt x="1645" y="1452"/>
                  </a:lnTo>
                  <a:lnTo>
                    <a:pt x="1651" y="1458"/>
                  </a:lnTo>
                  <a:lnTo>
                    <a:pt x="1658" y="1476"/>
                  </a:lnTo>
                  <a:lnTo>
                    <a:pt x="1663" y="1489"/>
                  </a:lnTo>
                  <a:lnTo>
                    <a:pt x="1663" y="1501"/>
                  </a:lnTo>
                  <a:lnTo>
                    <a:pt x="1670" y="1518"/>
                  </a:lnTo>
                  <a:lnTo>
                    <a:pt x="1676" y="1530"/>
                  </a:lnTo>
                  <a:lnTo>
                    <a:pt x="1683" y="1548"/>
                  </a:lnTo>
                  <a:lnTo>
                    <a:pt x="1689" y="1561"/>
                  </a:lnTo>
                  <a:lnTo>
                    <a:pt x="1696" y="1579"/>
                  </a:lnTo>
                  <a:lnTo>
                    <a:pt x="1696" y="1591"/>
                  </a:lnTo>
                  <a:lnTo>
                    <a:pt x="1702" y="1609"/>
                  </a:lnTo>
                  <a:lnTo>
                    <a:pt x="1709" y="1622"/>
                  </a:lnTo>
                  <a:lnTo>
                    <a:pt x="1715" y="1634"/>
                  </a:lnTo>
                  <a:lnTo>
                    <a:pt x="1722" y="1646"/>
                  </a:lnTo>
                  <a:lnTo>
                    <a:pt x="1728" y="1658"/>
                  </a:lnTo>
                  <a:lnTo>
                    <a:pt x="1735" y="1670"/>
                  </a:lnTo>
                  <a:lnTo>
                    <a:pt x="1735" y="1676"/>
                  </a:lnTo>
                  <a:lnTo>
                    <a:pt x="1742" y="1682"/>
                  </a:lnTo>
                  <a:lnTo>
                    <a:pt x="1748" y="1689"/>
                  </a:lnTo>
                  <a:lnTo>
                    <a:pt x="1755" y="1689"/>
                  </a:lnTo>
                  <a:lnTo>
                    <a:pt x="1761" y="1689"/>
                  </a:lnTo>
                  <a:lnTo>
                    <a:pt x="1768" y="1689"/>
                  </a:lnTo>
                  <a:lnTo>
                    <a:pt x="1774" y="1682"/>
                  </a:lnTo>
                  <a:lnTo>
                    <a:pt x="1781" y="1676"/>
                  </a:lnTo>
                  <a:lnTo>
                    <a:pt x="1787" y="1670"/>
                  </a:lnTo>
                  <a:lnTo>
                    <a:pt x="1794" y="1658"/>
                  </a:lnTo>
                  <a:lnTo>
                    <a:pt x="1800" y="1652"/>
                  </a:lnTo>
                  <a:lnTo>
                    <a:pt x="1807" y="1640"/>
                  </a:lnTo>
                  <a:lnTo>
                    <a:pt x="1807" y="1622"/>
                  </a:lnTo>
                  <a:lnTo>
                    <a:pt x="1813" y="1609"/>
                  </a:lnTo>
                  <a:lnTo>
                    <a:pt x="1820" y="1597"/>
                  </a:lnTo>
                  <a:lnTo>
                    <a:pt x="1826" y="1579"/>
                  </a:lnTo>
                  <a:lnTo>
                    <a:pt x="1833" y="1561"/>
                  </a:lnTo>
                  <a:lnTo>
                    <a:pt x="1840" y="1548"/>
                  </a:lnTo>
                  <a:lnTo>
                    <a:pt x="1840" y="1530"/>
                  </a:lnTo>
                  <a:lnTo>
                    <a:pt x="1846" y="1512"/>
                  </a:lnTo>
                  <a:lnTo>
                    <a:pt x="1853" y="1501"/>
                  </a:lnTo>
                  <a:lnTo>
                    <a:pt x="1859" y="1482"/>
                  </a:lnTo>
                  <a:lnTo>
                    <a:pt x="1866" y="1470"/>
                  </a:lnTo>
                  <a:lnTo>
                    <a:pt x="1872" y="1458"/>
                  </a:lnTo>
                  <a:lnTo>
                    <a:pt x="1879" y="1446"/>
                  </a:lnTo>
                  <a:lnTo>
                    <a:pt x="1879" y="1434"/>
                  </a:lnTo>
                  <a:lnTo>
                    <a:pt x="1885" y="1428"/>
                  </a:lnTo>
                  <a:lnTo>
                    <a:pt x="1892" y="1422"/>
                  </a:lnTo>
                  <a:lnTo>
                    <a:pt x="1898" y="1415"/>
                  </a:lnTo>
                  <a:lnTo>
                    <a:pt x="1905" y="1409"/>
                  </a:lnTo>
                  <a:lnTo>
                    <a:pt x="1911" y="1409"/>
                  </a:lnTo>
                  <a:lnTo>
                    <a:pt x="1918" y="1415"/>
                  </a:lnTo>
                  <a:lnTo>
                    <a:pt x="1925" y="1415"/>
                  </a:lnTo>
                  <a:lnTo>
                    <a:pt x="1931" y="1428"/>
                  </a:lnTo>
                  <a:lnTo>
                    <a:pt x="1938" y="1434"/>
                  </a:lnTo>
                  <a:lnTo>
                    <a:pt x="1944" y="1446"/>
                  </a:lnTo>
                  <a:lnTo>
                    <a:pt x="1951" y="1452"/>
                  </a:lnTo>
                  <a:lnTo>
                    <a:pt x="1951" y="1470"/>
                  </a:lnTo>
                  <a:lnTo>
                    <a:pt x="1957" y="1482"/>
                  </a:lnTo>
                  <a:lnTo>
                    <a:pt x="1964" y="1495"/>
                  </a:lnTo>
                  <a:lnTo>
                    <a:pt x="1970" y="1512"/>
                  </a:lnTo>
                  <a:lnTo>
                    <a:pt x="1977" y="1530"/>
                  </a:lnTo>
                  <a:lnTo>
                    <a:pt x="1983" y="1548"/>
                  </a:lnTo>
                  <a:lnTo>
                    <a:pt x="1983" y="1567"/>
                  </a:lnTo>
                  <a:lnTo>
                    <a:pt x="1990" y="1585"/>
                  </a:lnTo>
                  <a:lnTo>
                    <a:pt x="1996" y="1597"/>
                  </a:lnTo>
                  <a:lnTo>
                    <a:pt x="2003" y="1615"/>
                  </a:lnTo>
                  <a:lnTo>
                    <a:pt x="2010" y="1634"/>
                  </a:lnTo>
                  <a:lnTo>
                    <a:pt x="2016" y="1646"/>
                  </a:lnTo>
                  <a:lnTo>
                    <a:pt x="2023" y="1658"/>
                  </a:lnTo>
                  <a:lnTo>
                    <a:pt x="2023" y="1670"/>
                  </a:lnTo>
                  <a:lnTo>
                    <a:pt x="2029" y="1676"/>
                  </a:lnTo>
                  <a:lnTo>
                    <a:pt x="2036" y="1682"/>
                  </a:lnTo>
                  <a:lnTo>
                    <a:pt x="2042" y="1689"/>
                  </a:lnTo>
                  <a:lnTo>
                    <a:pt x="2049" y="1689"/>
                  </a:lnTo>
                  <a:lnTo>
                    <a:pt x="2055" y="1689"/>
                  </a:lnTo>
                  <a:lnTo>
                    <a:pt x="2055" y="1682"/>
                  </a:lnTo>
                  <a:lnTo>
                    <a:pt x="2062" y="1676"/>
                  </a:lnTo>
                  <a:lnTo>
                    <a:pt x="2068" y="1664"/>
                  </a:lnTo>
                  <a:lnTo>
                    <a:pt x="2075" y="1652"/>
                  </a:lnTo>
                  <a:lnTo>
                    <a:pt x="2081" y="1634"/>
                  </a:lnTo>
                  <a:lnTo>
                    <a:pt x="2088" y="1609"/>
                  </a:lnTo>
                  <a:lnTo>
                    <a:pt x="2094" y="1585"/>
                  </a:lnTo>
                  <a:lnTo>
                    <a:pt x="2094" y="1555"/>
                  </a:lnTo>
                  <a:lnTo>
                    <a:pt x="2101" y="1524"/>
                  </a:lnTo>
                  <a:lnTo>
                    <a:pt x="2108" y="1489"/>
                  </a:lnTo>
                  <a:lnTo>
                    <a:pt x="2114" y="1452"/>
                  </a:lnTo>
                  <a:lnTo>
                    <a:pt x="2121" y="1409"/>
                  </a:lnTo>
                  <a:lnTo>
                    <a:pt x="2127" y="1367"/>
                  </a:lnTo>
                  <a:lnTo>
                    <a:pt x="2127" y="1318"/>
                  </a:lnTo>
                  <a:lnTo>
                    <a:pt x="2134" y="1269"/>
                  </a:lnTo>
                  <a:lnTo>
                    <a:pt x="2140" y="1221"/>
                  </a:lnTo>
                  <a:lnTo>
                    <a:pt x="2147" y="1166"/>
                  </a:lnTo>
                  <a:lnTo>
                    <a:pt x="2153" y="1111"/>
                  </a:lnTo>
                  <a:lnTo>
                    <a:pt x="2160" y="1057"/>
                  </a:lnTo>
                  <a:lnTo>
                    <a:pt x="2166" y="996"/>
                  </a:lnTo>
                  <a:lnTo>
                    <a:pt x="2166" y="941"/>
                  </a:lnTo>
                  <a:lnTo>
                    <a:pt x="2173" y="881"/>
                  </a:lnTo>
                  <a:lnTo>
                    <a:pt x="2179" y="826"/>
                  </a:lnTo>
                  <a:lnTo>
                    <a:pt x="2186" y="765"/>
                  </a:lnTo>
                  <a:lnTo>
                    <a:pt x="2193" y="710"/>
                  </a:lnTo>
                  <a:lnTo>
                    <a:pt x="2199" y="655"/>
                  </a:lnTo>
                  <a:lnTo>
                    <a:pt x="2199" y="595"/>
                  </a:lnTo>
                  <a:lnTo>
                    <a:pt x="2206" y="547"/>
                  </a:lnTo>
                  <a:lnTo>
                    <a:pt x="2212" y="492"/>
                  </a:lnTo>
                  <a:lnTo>
                    <a:pt x="2219" y="443"/>
                  </a:lnTo>
                  <a:lnTo>
                    <a:pt x="2225" y="394"/>
                  </a:lnTo>
                  <a:lnTo>
                    <a:pt x="2232" y="346"/>
                  </a:lnTo>
                  <a:lnTo>
                    <a:pt x="2238" y="303"/>
                  </a:lnTo>
                  <a:lnTo>
                    <a:pt x="2238" y="260"/>
                  </a:lnTo>
                  <a:lnTo>
                    <a:pt x="2245" y="225"/>
                  </a:lnTo>
                  <a:lnTo>
                    <a:pt x="2251" y="188"/>
                  </a:lnTo>
                  <a:lnTo>
                    <a:pt x="2258" y="158"/>
                  </a:lnTo>
                  <a:lnTo>
                    <a:pt x="2264" y="127"/>
                  </a:lnTo>
                  <a:lnTo>
                    <a:pt x="2271" y="103"/>
                  </a:lnTo>
                  <a:lnTo>
                    <a:pt x="2271" y="79"/>
                  </a:lnTo>
                  <a:lnTo>
                    <a:pt x="2276" y="60"/>
                  </a:lnTo>
                  <a:lnTo>
                    <a:pt x="2283" y="42"/>
                  </a:lnTo>
                  <a:lnTo>
                    <a:pt x="2289" y="30"/>
                  </a:lnTo>
                  <a:lnTo>
                    <a:pt x="2296" y="18"/>
                  </a:lnTo>
                  <a:lnTo>
                    <a:pt x="2303" y="12"/>
                  </a:lnTo>
                  <a:lnTo>
                    <a:pt x="2309" y="6"/>
                  </a:lnTo>
                  <a:lnTo>
                    <a:pt x="2309" y="0"/>
                  </a:lnTo>
                  <a:lnTo>
                    <a:pt x="2316" y="0"/>
                  </a:lnTo>
                  <a:lnTo>
                    <a:pt x="2322" y="0"/>
                  </a:lnTo>
                  <a:lnTo>
                    <a:pt x="2329" y="6"/>
                  </a:lnTo>
                  <a:lnTo>
                    <a:pt x="2335" y="6"/>
                  </a:lnTo>
                  <a:lnTo>
                    <a:pt x="2342" y="12"/>
                  </a:lnTo>
                  <a:lnTo>
                    <a:pt x="2342" y="18"/>
                  </a:lnTo>
                  <a:lnTo>
                    <a:pt x="2348" y="30"/>
                  </a:lnTo>
                  <a:lnTo>
                    <a:pt x="2355" y="36"/>
                  </a:lnTo>
                  <a:lnTo>
                    <a:pt x="2361" y="48"/>
                  </a:lnTo>
                  <a:lnTo>
                    <a:pt x="2368" y="54"/>
                  </a:lnTo>
                  <a:lnTo>
                    <a:pt x="2374" y="66"/>
                  </a:lnTo>
                  <a:lnTo>
                    <a:pt x="2374" y="73"/>
                  </a:lnTo>
                  <a:lnTo>
                    <a:pt x="2381" y="85"/>
                  </a:lnTo>
                  <a:lnTo>
                    <a:pt x="2388" y="91"/>
                  </a:lnTo>
                  <a:lnTo>
                    <a:pt x="2394" y="103"/>
                  </a:lnTo>
                  <a:lnTo>
                    <a:pt x="2401" y="109"/>
                  </a:lnTo>
                  <a:lnTo>
                    <a:pt x="2407" y="115"/>
                  </a:lnTo>
                  <a:lnTo>
                    <a:pt x="2414" y="121"/>
                  </a:lnTo>
                  <a:lnTo>
                    <a:pt x="2414" y="127"/>
                  </a:lnTo>
                  <a:lnTo>
                    <a:pt x="2420" y="133"/>
                  </a:lnTo>
                  <a:lnTo>
                    <a:pt x="2427" y="140"/>
                  </a:lnTo>
                  <a:lnTo>
                    <a:pt x="2433" y="140"/>
                  </a:lnTo>
                  <a:lnTo>
                    <a:pt x="2440" y="140"/>
                  </a:lnTo>
                  <a:lnTo>
                    <a:pt x="2446" y="140"/>
                  </a:lnTo>
                  <a:lnTo>
                    <a:pt x="2453" y="140"/>
                  </a:lnTo>
                  <a:lnTo>
                    <a:pt x="2459" y="133"/>
                  </a:lnTo>
                  <a:lnTo>
                    <a:pt x="2466" y="133"/>
                  </a:lnTo>
                  <a:lnTo>
                    <a:pt x="2473" y="127"/>
                  </a:lnTo>
                  <a:lnTo>
                    <a:pt x="2479" y="121"/>
                  </a:lnTo>
                  <a:lnTo>
                    <a:pt x="2486" y="115"/>
                  </a:lnTo>
                  <a:lnTo>
                    <a:pt x="2486" y="109"/>
                  </a:lnTo>
                  <a:lnTo>
                    <a:pt x="2492" y="103"/>
                  </a:lnTo>
                  <a:lnTo>
                    <a:pt x="2499" y="97"/>
                  </a:lnTo>
                  <a:lnTo>
                    <a:pt x="2505" y="85"/>
                  </a:lnTo>
                  <a:lnTo>
                    <a:pt x="2512" y="79"/>
                  </a:lnTo>
                  <a:lnTo>
                    <a:pt x="2518" y="73"/>
                  </a:lnTo>
                  <a:lnTo>
                    <a:pt x="2518" y="66"/>
                  </a:lnTo>
                  <a:lnTo>
                    <a:pt x="2525" y="54"/>
                  </a:lnTo>
                  <a:lnTo>
                    <a:pt x="2531" y="48"/>
                  </a:lnTo>
                  <a:lnTo>
                    <a:pt x="2538" y="42"/>
                  </a:lnTo>
                  <a:lnTo>
                    <a:pt x="2544" y="36"/>
                  </a:lnTo>
                  <a:lnTo>
                    <a:pt x="2551" y="30"/>
                  </a:lnTo>
                  <a:lnTo>
                    <a:pt x="2557" y="24"/>
                  </a:lnTo>
                  <a:lnTo>
                    <a:pt x="2557" y="18"/>
                  </a:lnTo>
                  <a:lnTo>
                    <a:pt x="2564" y="12"/>
                  </a:lnTo>
                  <a:lnTo>
                    <a:pt x="2571" y="12"/>
                  </a:lnTo>
                  <a:lnTo>
                    <a:pt x="2577" y="6"/>
                  </a:lnTo>
                  <a:lnTo>
                    <a:pt x="2584" y="6"/>
                  </a:lnTo>
                  <a:lnTo>
                    <a:pt x="2590" y="0"/>
                  </a:lnTo>
                  <a:lnTo>
                    <a:pt x="2597" y="0"/>
                  </a:lnTo>
                  <a:lnTo>
                    <a:pt x="2603" y="0"/>
                  </a:lnTo>
                  <a:lnTo>
                    <a:pt x="2610" y="6"/>
                  </a:lnTo>
                  <a:lnTo>
                    <a:pt x="2616" y="6"/>
                  </a:lnTo>
                  <a:lnTo>
                    <a:pt x="2623" y="6"/>
                  </a:lnTo>
                  <a:lnTo>
                    <a:pt x="2629" y="12"/>
                  </a:lnTo>
                  <a:lnTo>
                    <a:pt x="2636" y="18"/>
                  </a:lnTo>
                  <a:lnTo>
                    <a:pt x="2642" y="24"/>
                  </a:lnTo>
                  <a:lnTo>
                    <a:pt x="2649" y="30"/>
                  </a:lnTo>
                  <a:lnTo>
                    <a:pt x="2656" y="36"/>
                  </a:lnTo>
                  <a:lnTo>
                    <a:pt x="2662" y="36"/>
                  </a:lnTo>
                  <a:lnTo>
                    <a:pt x="2662" y="42"/>
                  </a:lnTo>
                  <a:lnTo>
                    <a:pt x="2669" y="48"/>
                  </a:lnTo>
                  <a:lnTo>
                    <a:pt x="2675" y="54"/>
                  </a:lnTo>
                  <a:lnTo>
                    <a:pt x="2682" y="60"/>
                  </a:lnTo>
                  <a:lnTo>
                    <a:pt x="2688" y="66"/>
                  </a:lnTo>
                  <a:lnTo>
                    <a:pt x="2695" y="73"/>
                  </a:lnTo>
                  <a:lnTo>
                    <a:pt x="2701" y="79"/>
                  </a:lnTo>
                  <a:lnTo>
                    <a:pt x="2701" y="85"/>
                  </a:lnTo>
                  <a:lnTo>
                    <a:pt x="2708" y="91"/>
                  </a:lnTo>
                  <a:lnTo>
                    <a:pt x="2714" y="97"/>
                  </a:lnTo>
                  <a:lnTo>
                    <a:pt x="2721" y="97"/>
                  </a:lnTo>
                  <a:lnTo>
                    <a:pt x="2727" y="103"/>
                  </a:lnTo>
                  <a:lnTo>
                    <a:pt x="2734" y="109"/>
                  </a:lnTo>
                  <a:lnTo>
                    <a:pt x="2734" y="115"/>
                  </a:lnTo>
                  <a:lnTo>
                    <a:pt x="2741" y="115"/>
                  </a:lnTo>
                  <a:lnTo>
                    <a:pt x="2747" y="121"/>
                  </a:lnTo>
                  <a:lnTo>
                    <a:pt x="2754" y="121"/>
                  </a:lnTo>
                  <a:lnTo>
                    <a:pt x="2760" y="127"/>
                  </a:lnTo>
                  <a:lnTo>
                    <a:pt x="2767" y="127"/>
                  </a:lnTo>
                  <a:lnTo>
                    <a:pt x="2773" y="133"/>
                  </a:lnTo>
                  <a:lnTo>
                    <a:pt x="2780" y="133"/>
                  </a:lnTo>
                  <a:lnTo>
                    <a:pt x="2786" y="133"/>
                  </a:lnTo>
                  <a:lnTo>
                    <a:pt x="2793" y="140"/>
                  </a:lnTo>
                  <a:lnTo>
                    <a:pt x="2799" y="140"/>
                  </a:lnTo>
                  <a:lnTo>
                    <a:pt x="2806" y="140"/>
                  </a:lnTo>
                  <a:lnTo>
                    <a:pt x="2812" y="140"/>
                  </a:lnTo>
                  <a:lnTo>
                    <a:pt x="2819" y="140"/>
                  </a:lnTo>
                  <a:lnTo>
                    <a:pt x="2826" y="14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2179800" y="2147760"/>
            <a:ext cx="6115680" cy="3774960"/>
            <a:chOff x="2179800" y="2147760"/>
            <a:chExt cx="6115680" cy="3774960"/>
          </a:xfrm>
        </p:grpSpPr>
        <p:sp>
          <p:nvSpPr>
            <p:cNvPr id="519" name=""/>
            <p:cNvSpPr/>
            <p:nvPr/>
          </p:nvSpPr>
          <p:spPr>
            <a:xfrm>
              <a:off x="2179800" y="2919240"/>
              <a:ext cx="4471920" cy="3003480"/>
            </a:xfrm>
            <a:custGeom>
              <a:avLst/>
              <a:gdLst/>
              <a:ahLst/>
              <a:rect l="l" t="t" r="r" b="b"/>
              <a:pathLst>
                <a:path w="2817" h="1892">
                  <a:moveTo>
                    <a:pt x="0" y="948"/>
                  </a:moveTo>
                  <a:lnTo>
                    <a:pt x="6" y="948"/>
                  </a:lnTo>
                  <a:lnTo>
                    <a:pt x="13" y="948"/>
                  </a:lnTo>
                  <a:lnTo>
                    <a:pt x="19" y="948"/>
                  </a:lnTo>
                  <a:lnTo>
                    <a:pt x="19" y="942"/>
                  </a:lnTo>
                  <a:lnTo>
                    <a:pt x="26" y="942"/>
                  </a:lnTo>
                  <a:lnTo>
                    <a:pt x="32" y="942"/>
                  </a:lnTo>
                  <a:lnTo>
                    <a:pt x="39" y="942"/>
                  </a:lnTo>
                  <a:lnTo>
                    <a:pt x="45" y="942"/>
                  </a:lnTo>
                  <a:lnTo>
                    <a:pt x="52" y="935"/>
                  </a:lnTo>
                  <a:lnTo>
                    <a:pt x="58" y="928"/>
                  </a:lnTo>
                  <a:lnTo>
                    <a:pt x="65" y="928"/>
                  </a:lnTo>
                  <a:lnTo>
                    <a:pt x="71" y="921"/>
                  </a:lnTo>
                  <a:lnTo>
                    <a:pt x="78" y="921"/>
                  </a:lnTo>
                  <a:lnTo>
                    <a:pt x="84" y="914"/>
                  </a:lnTo>
                  <a:lnTo>
                    <a:pt x="91" y="914"/>
                  </a:lnTo>
                  <a:lnTo>
                    <a:pt x="91" y="907"/>
                  </a:lnTo>
                  <a:lnTo>
                    <a:pt x="97" y="907"/>
                  </a:lnTo>
                  <a:lnTo>
                    <a:pt x="104" y="901"/>
                  </a:lnTo>
                  <a:lnTo>
                    <a:pt x="110" y="901"/>
                  </a:lnTo>
                  <a:lnTo>
                    <a:pt x="117" y="894"/>
                  </a:lnTo>
                  <a:lnTo>
                    <a:pt x="123" y="887"/>
                  </a:lnTo>
                  <a:lnTo>
                    <a:pt x="130" y="880"/>
                  </a:lnTo>
                  <a:lnTo>
                    <a:pt x="136" y="873"/>
                  </a:lnTo>
                  <a:lnTo>
                    <a:pt x="143" y="873"/>
                  </a:lnTo>
                  <a:lnTo>
                    <a:pt x="149" y="866"/>
                  </a:lnTo>
                  <a:lnTo>
                    <a:pt x="156" y="859"/>
                  </a:lnTo>
                  <a:lnTo>
                    <a:pt x="162" y="859"/>
                  </a:lnTo>
                  <a:lnTo>
                    <a:pt x="162" y="853"/>
                  </a:lnTo>
                  <a:lnTo>
                    <a:pt x="169" y="853"/>
                  </a:lnTo>
                  <a:lnTo>
                    <a:pt x="175" y="846"/>
                  </a:lnTo>
                  <a:lnTo>
                    <a:pt x="182" y="840"/>
                  </a:lnTo>
                  <a:lnTo>
                    <a:pt x="188" y="840"/>
                  </a:lnTo>
                  <a:lnTo>
                    <a:pt x="195" y="833"/>
                  </a:lnTo>
                  <a:lnTo>
                    <a:pt x="201" y="826"/>
                  </a:lnTo>
                  <a:lnTo>
                    <a:pt x="208" y="826"/>
                  </a:lnTo>
                  <a:lnTo>
                    <a:pt x="214" y="826"/>
                  </a:lnTo>
                  <a:lnTo>
                    <a:pt x="221" y="820"/>
                  </a:lnTo>
                  <a:lnTo>
                    <a:pt x="227" y="820"/>
                  </a:lnTo>
                  <a:lnTo>
                    <a:pt x="234" y="813"/>
                  </a:lnTo>
                  <a:lnTo>
                    <a:pt x="240" y="813"/>
                  </a:lnTo>
                  <a:lnTo>
                    <a:pt x="247" y="813"/>
                  </a:lnTo>
                  <a:lnTo>
                    <a:pt x="253" y="806"/>
                  </a:lnTo>
                  <a:lnTo>
                    <a:pt x="260" y="806"/>
                  </a:lnTo>
                  <a:lnTo>
                    <a:pt x="266" y="806"/>
                  </a:lnTo>
                  <a:lnTo>
                    <a:pt x="273" y="806"/>
                  </a:lnTo>
                  <a:lnTo>
                    <a:pt x="279" y="806"/>
                  </a:lnTo>
                  <a:lnTo>
                    <a:pt x="286" y="806"/>
                  </a:lnTo>
                  <a:lnTo>
                    <a:pt x="292" y="806"/>
                  </a:lnTo>
                  <a:lnTo>
                    <a:pt x="299" y="806"/>
                  </a:lnTo>
                  <a:lnTo>
                    <a:pt x="305" y="806"/>
                  </a:lnTo>
                  <a:lnTo>
                    <a:pt x="312" y="806"/>
                  </a:lnTo>
                  <a:lnTo>
                    <a:pt x="318" y="806"/>
                  </a:lnTo>
                  <a:lnTo>
                    <a:pt x="325" y="806"/>
                  </a:lnTo>
                  <a:lnTo>
                    <a:pt x="331" y="806"/>
                  </a:lnTo>
                  <a:lnTo>
                    <a:pt x="338" y="806"/>
                  </a:lnTo>
                  <a:lnTo>
                    <a:pt x="344" y="813"/>
                  </a:lnTo>
                  <a:lnTo>
                    <a:pt x="351" y="813"/>
                  </a:lnTo>
                  <a:lnTo>
                    <a:pt x="357" y="813"/>
                  </a:lnTo>
                  <a:lnTo>
                    <a:pt x="364" y="813"/>
                  </a:lnTo>
                  <a:lnTo>
                    <a:pt x="370" y="820"/>
                  </a:lnTo>
                  <a:lnTo>
                    <a:pt x="377" y="820"/>
                  </a:lnTo>
                  <a:lnTo>
                    <a:pt x="383" y="820"/>
                  </a:lnTo>
                  <a:lnTo>
                    <a:pt x="390" y="826"/>
                  </a:lnTo>
                  <a:lnTo>
                    <a:pt x="396" y="826"/>
                  </a:lnTo>
                  <a:lnTo>
                    <a:pt x="403" y="826"/>
                  </a:lnTo>
                  <a:lnTo>
                    <a:pt x="409" y="833"/>
                  </a:lnTo>
                  <a:lnTo>
                    <a:pt x="416" y="833"/>
                  </a:lnTo>
                  <a:lnTo>
                    <a:pt x="422" y="840"/>
                  </a:lnTo>
                  <a:lnTo>
                    <a:pt x="429" y="840"/>
                  </a:lnTo>
                  <a:lnTo>
                    <a:pt x="435" y="840"/>
                  </a:lnTo>
                  <a:lnTo>
                    <a:pt x="442" y="846"/>
                  </a:lnTo>
                  <a:lnTo>
                    <a:pt x="448" y="846"/>
                  </a:lnTo>
                  <a:lnTo>
                    <a:pt x="448" y="853"/>
                  </a:lnTo>
                  <a:lnTo>
                    <a:pt x="455" y="853"/>
                  </a:lnTo>
                  <a:lnTo>
                    <a:pt x="461" y="853"/>
                  </a:lnTo>
                  <a:lnTo>
                    <a:pt x="468" y="859"/>
                  </a:lnTo>
                  <a:lnTo>
                    <a:pt x="474" y="859"/>
                  </a:lnTo>
                  <a:lnTo>
                    <a:pt x="481" y="866"/>
                  </a:lnTo>
                  <a:lnTo>
                    <a:pt x="487" y="873"/>
                  </a:lnTo>
                  <a:lnTo>
                    <a:pt x="494" y="873"/>
                  </a:lnTo>
                  <a:lnTo>
                    <a:pt x="500" y="880"/>
                  </a:lnTo>
                  <a:lnTo>
                    <a:pt x="507" y="887"/>
                  </a:lnTo>
                  <a:lnTo>
                    <a:pt x="513" y="887"/>
                  </a:lnTo>
                  <a:lnTo>
                    <a:pt x="513" y="894"/>
                  </a:lnTo>
                  <a:lnTo>
                    <a:pt x="520" y="901"/>
                  </a:lnTo>
                  <a:lnTo>
                    <a:pt x="526" y="907"/>
                  </a:lnTo>
                  <a:lnTo>
                    <a:pt x="533" y="907"/>
                  </a:lnTo>
                  <a:lnTo>
                    <a:pt x="539" y="914"/>
                  </a:lnTo>
                  <a:lnTo>
                    <a:pt x="546" y="921"/>
                  </a:lnTo>
                  <a:lnTo>
                    <a:pt x="552" y="928"/>
                  </a:lnTo>
                  <a:lnTo>
                    <a:pt x="552" y="935"/>
                  </a:lnTo>
                  <a:lnTo>
                    <a:pt x="559" y="942"/>
                  </a:lnTo>
                  <a:lnTo>
                    <a:pt x="565" y="955"/>
                  </a:lnTo>
                  <a:lnTo>
                    <a:pt x="572" y="962"/>
                  </a:lnTo>
                  <a:lnTo>
                    <a:pt x="578" y="969"/>
                  </a:lnTo>
                  <a:lnTo>
                    <a:pt x="585" y="976"/>
                  </a:lnTo>
                  <a:lnTo>
                    <a:pt x="585" y="989"/>
                  </a:lnTo>
                  <a:lnTo>
                    <a:pt x="591" y="996"/>
                  </a:lnTo>
                  <a:lnTo>
                    <a:pt x="598" y="1010"/>
                  </a:lnTo>
                  <a:lnTo>
                    <a:pt x="604" y="1024"/>
                  </a:lnTo>
                  <a:lnTo>
                    <a:pt x="611" y="1031"/>
                  </a:lnTo>
                  <a:lnTo>
                    <a:pt x="617" y="1044"/>
                  </a:lnTo>
                  <a:lnTo>
                    <a:pt x="624" y="1058"/>
                  </a:lnTo>
                  <a:lnTo>
                    <a:pt x="624" y="1072"/>
                  </a:lnTo>
                  <a:lnTo>
                    <a:pt x="630" y="1085"/>
                  </a:lnTo>
                  <a:lnTo>
                    <a:pt x="637" y="1099"/>
                  </a:lnTo>
                  <a:lnTo>
                    <a:pt x="643" y="1113"/>
                  </a:lnTo>
                  <a:lnTo>
                    <a:pt x="650" y="1133"/>
                  </a:lnTo>
                  <a:lnTo>
                    <a:pt x="656" y="1147"/>
                  </a:lnTo>
                  <a:lnTo>
                    <a:pt x="656" y="1161"/>
                  </a:lnTo>
                  <a:lnTo>
                    <a:pt x="663" y="1181"/>
                  </a:lnTo>
                  <a:lnTo>
                    <a:pt x="669" y="1195"/>
                  </a:lnTo>
                  <a:lnTo>
                    <a:pt x="676" y="1215"/>
                  </a:lnTo>
                  <a:lnTo>
                    <a:pt x="682" y="1236"/>
                  </a:lnTo>
                  <a:lnTo>
                    <a:pt x="689" y="1256"/>
                  </a:lnTo>
                  <a:lnTo>
                    <a:pt x="695" y="1270"/>
                  </a:lnTo>
                  <a:lnTo>
                    <a:pt x="695" y="1291"/>
                  </a:lnTo>
                  <a:lnTo>
                    <a:pt x="702" y="1311"/>
                  </a:lnTo>
                  <a:lnTo>
                    <a:pt x="708" y="1330"/>
                  </a:lnTo>
                  <a:lnTo>
                    <a:pt x="715" y="1351"/>
                  </a:lnTo>
                  <a:lnTo>
                    <a:pt x="721" y="1372"/>
                  </a:lnTo>
                  <a:lnTo>
                    <a:pt x="728" y="1392"/>
                  </a:lnTo>
                  <a:lnTo>
                    <a:pt x="728" y="1413"/>
                  </a:lnTo>
                  <a:lnTo>
                    <a:pt x="734" y="1440"/>
                  </a:lnTo>
                  <a:lnTo>
                    <a:pt x="741" y="1461"/>
                  </a:lnTo>
                  <a:lnTo>
                    <a:pt x="747" y="1481"/>
                  </a:lnTo>
                  <a:lnTo>
                    <a:pt x="754" y="1502"/>
                  </a:lnTo>
                  <a:lnTo>
                    <a:pt x="760" y="1522"/>
                  </a:lnTo>
                  <a:lnTo>
                    <a:pt x="767" y="1543"/>
                  </a:lnTo>
                  <a:lnTo>
                    <a:pt x="767" y="1563"/>
                  </a:lnTo>
                  <a:lnTo>
                    <a:pt x="773" y="1584"/>
                  </a:lnTo>
                  <a:lnTo>
                    <a:pt x="780" y="1604"/>
                  </a:lnTo>
                  <a:lnTo>
                    <a:pt x="786" y="1625"/>
                  </a:lnTo>
                  <a:lnTo>
                    <a:pt x="793" y="1645"/>
                  </a:lnTo>
                  <a:lnTo>
                    <a:pt x="799" y="1666"/>
                  </a:lnTo>
                  <a:lnTo>
                    <a:pt x="799" y="1686"/>
                  </a:lnTo>
                  <a:lnTo>
                    <a:pt x="806" y="1700"/>
                  </a:lnTo>
                  <a:lnTo>
                    <a:pt x="812" y="1721"/>
                  </a:lnTo>
                  <a:lnTo>
                    <a:pt x="819" y="1734"/>
                  </a:lnTo>
                  <a:lnTo>
                    <a:pt x="825" y="1755"/>
                  </a:lnTo>
                  <a:lnTo>
                    <a:pt x="832" y="1768"/>
                  </a:lnTo>
                  <a:lnTo>
                    <a:pt x="838" y="1782"/>
                  </a:lnTo>
                  <a:lnTo>
                    <a:pt x="838" y="1796"/>
                  </a:lnTo>
                  <a:lnTo>
                    <a:pt x="845" y="1808"/>
                  </a:lnTo>
                  <a:lnTo>
                    <a:pt x="851" y="1822"/>
                  </a:lnTo>
                  <a:lnTo>
                    <a:pt x="858" y="1836"/>
                  </a:lnTo>
                  <a:lnTo>
                    <a:pt x="864" y="1843"/>
                  </a:lnTo>
                  <a:lnTo>
                    <a:pt x="871" y="1856"/>
                  </a:lnTo>
                  <a:lnTo>
                    <a:pt x="871" y="1863"/>
                  </a:lnTo>
                  <a:lnTo>
                    <a:pt x="877" y="1870"/>
                  </a:lnTo>
                  <a:lnTo>
                    <a:pt x="884" y="1877"/>
                  </a:lnTo>
                  <a:lnTo>
                    <a:pt x="890" y="1884"/>
                  </a:lnTo>
                  <a:lnTo>
                    <a:pt x="897" y="1891"/>
                  </a:lnTo>
                  <a:lnTo>
                    <a:pt x="903" y="1891"/>
                  </a:lnTo>
                  <a:lnTo>
                    <a:pt x="910" y="1891"/>
                  </a:lnTo>
                  <a:lnTo>
                    <a:pt x="916" y="1891"/>
                  </a:lnTo>
                  <a:lnTo>
                    <a:pt x="923" y="1891"/>
                  </a:lnTo>
                  <a:lnTo>
                    <a:pt x="929" y="1891"/>
                  </a:lnTo>
                  <a:lnTo>
                    <a:pt x="936" y="1884"/>
                  </a:lnTo>
                  <a:lnTo>
                    <a:pt x="943" y="1884"/>
                  </a:lnTo>
                  <a:lnTo>
                    <a:pt x="943" y="1877"/>
                  </a:lnTo>
                  <a:lnTo>
                    <a:pt x="949" y="1870"/>
                  </a:lnTo>
                  <a:lnTo>
                    <a:pt x="956" y="1863"/>
                  </a:lnTo>
                  <a:lnTo>
                    <a:pt x="962" y="1849"/>
                  </a:lnTo>
                  <a:lnTo>
                    <a:pt x="969" y="1843"/>
                  </a:lnTo>
                  <a:lnTo>
                    <a:pt x="975" y="1829"/>
                  </a:lnTo>
                  <a:lnTo>
                    <a:pt x="982" y="1815"/>
                  </a:lnTo>
                  <a:lnTo>
                    <a:pt x="982" y="1808"/>
                  </a:lnTo>
                  <a:lnTo>
                    <a:pt x="988" y="1796"/>
                  </a:lnTo>
                  <a:lnTo>
                    <a:pt x="995" y="1782"/>
                  </a:lnTo>
                  <a:lnTo>
                    <a:pt x="1001" y="1762"/>
                  </a:lnTo>
                  <a:lnTo>
                    <a:pt x="1008" y="1748"/>
                  </a:lnTo>
                  <a:lnTo>
                    <a:pt x="1014" y="1734"/>
                  </a:lnTo>
                  <a:lnTo>
                    <a:pt x="1014" y="1714"/>
                  </a:lnTo>
                  <a:lnTo>
                    <a:pt x="1021" y="1700"/>
                  </a:lnTo>
                  <a:lnTo>
                    <a:pt x="1027" y="1680"/>
                  </a:lnTo>
                  <a:lnTo>
                    <a:pt x="1034" y="1666"/>
                  </a:lnTo>
                  <a:lnTo>
                    <a:pt x="1040" y="1645"/>
                  </a:lnTo>
                  <a:lnTo>
                    <a:pt x="1047" y="1632"/>
                  </a:lnTo>
                  <a:lnTo>
                    <a:pt x="1053" y="1611"/>
                  </a:lnTo>
                  <a:lnTo>
                    <a:pt x="1053" y="1591"/>
                  </a:lnTo>
                  <a:lnTo>
                    <a:pt x="1060" y="1577"/>
                  </a:lnTo>
                  <a:lnTo>
                    <a:pt x="1066" y="1556"/>
                  </a:lnTo>
                  <a:lnTo>
                    <a:pt x="1073" y="1536"/>
                  </a:lnTo>
                  <a:lnTo>
                    <a:pt x="1079" y="1522"/>
                  </a:lnTo>
                  <a:lnTo>
                    <a:pt x="1086" y="1502"/>
                  </a:lnTo>
                  <a:lnTo>
                    <a:pt x="1086" y="1488"/>
                  </a:lnTo>
                  <a:lnTo>
                    <a:pt x="1092" y="1467"/>
                  </a:lnTo>
                  <a:lnTo>
                    <a:pt x="1099" y="1454"/>
                  </a:lnTo>
                  <a:lnTo>
                    <a:pt x="1105" y="1440"/>
                  </a:lnTo>
                  <a:lnTo>
                    <a:pt x="1112" y="1419"/>
                  </a:lnTo>
                  <a:lnTo>
                    <a:pt x="1118" y="1406"/>
                  </a:lnTo>
                  <a:lnTo>
                    <a:pt x="1125" y="1392"/>
                  </a:lnTo>
                  <a:lnTo>
                    <a:pt x="1125" y="1385"/>
                  </a:lnTo>
                  <a:lnTo>
                    <a:pt x="1131" y="1372"/>
                  </a:lnTo>
                  <a:lnTo>
                    <a:pt x="1138" y="1358"/>
                  </a:lnTo>
                  <a:lnTo>
                    <a:pt x="1144" y="1351"/>
                  </a:lnTo>
                  <a:lnTo>
                    <a:pt x="1151" y="1344"/>
                  </a:lnTo>
                  <a:lnTo>
                    <a:pt x="1157" y="1337"/>
                  </a:lnTo>
                  <a:lnTo>
                    <a:pt x="1157" y="1330"/>
                  </a:lnTo>
                  <a:lnTo>
                    <a:pt x="1164" y="1324"/>
                  </a:lnTo>
                  <a:lnTo>
                    <a:pt x="1170" y="1318"/>
                  </a:lnTo>
                  <a:lnTo>
                    <a:pt x="1177" y="1318"/>
                  </a:lnTo>
                  <a:lnTo>
                    <a:pt x="1183" y="1311"/>
                  </a:lnTo>
                  <a:lnTo>
                    <a:pt x="1190" y="1311"/>
                  </a:lnTo>
                  <a:lnTo>
                    <a:pt x="1196" y="1311"/>
                  </a:lnTo>
                  <a:lnTo>
                    <a:pt x="1203" y="1318"/>
                  </a:lnTo>
                  <a:lnTo>
                    <a:pt x="1209" y="1318"/>
                  </a:lnTo>
                  <a:lnTo>
                    <a:pt x="1216" y="1324"/>
                  </a:lnTo>
                  <a:lnTo>
                    <a:pt x="1222" y="1330"/>
                  </a:lnTo>
                  <a:lnTo>
                    <a:pt x="1229" y="1337"/>
                  </a:lnTo>
                  <a:lnTo>
                    <a:pt x="1229" y="1344"/>
                  </a:lnTo>
                  <a:lnTo>
                    <a:pt x="1235" y="1358"/>
                  </a:lnTo>
                  <a:lnTo>
                    <a:pt x="1242" y="1365"/>
                  </a:lnTo>
                  <a:lnTo>
                    <a:pt x="1248" y="1378"/>
                  </a:lnTo>
                  <a:lnTo>
                    <a:pt x="1255" y="1392"/>
                  </a:lnTo>
                  <a:lnTo>
                    <a:pt x="1261" y="1406"/>
                  </a:lnTo>
                  <a:lnTo>
                    <a:pt x="1268" y="1419"/>
                  </a:lnTo>
                  <a:lnTo>
                    <a:pt x="1268" y="1433"/>
                  </a:lnTo>
                  <a:lnTo>
                    <a:pt x="1274" y="1447"/>
                  </a:lnTo>
                  <a:lnTo>
                    <a:pt x="1281" y="1461"/>
                  </a:lnTo>
                  <a:lnTo>
                    <a:pt x="1287" y="1481"/>
                  </a:lnTo>
                  <a:lnTo>
                    <a:pt x="1294" y="1495"/>
                  </a:lnTo>
                  <a:lnTo>
                    <a:pt x="1300" y="1515"/>
                  </a:lnTo>
                  <a:lnTo>
                    <a:pt x="1300" y="1529"/>
                  </a:lnTo>
                  <a:lnTo>
                    <a:pt x="1307" y="1549"/>
                  </a:lnTo>
                  <a:lnTo>
                    <a:pt x="1313" y="1570"/>
                  </a:lnTo>
                  <a:lnTo>
                    <a:pt x="1320" y="1591"/>
                  </a:lnTo>
                  <a:lnTo>
                    <a:pt x="1326" y="1604"/>
                  </a:lnTo>
                  <a:lnTo>
                    <a:pt x="1333" y="1625"/>
                  </a:lnTo>
                  <a:lnTo>
                    <a:pt x="1339" y="1645"/>
                  </a:lnTo>
                  <a:lnTo>
                    <a:pt x="1339" y="1659"/>
                  </a:lnTo>
                  <a:lnTo>
                    <a:pt x="1346" y="1680"/>
                  </a:lnTo>
                  <a:lnTo>
                    <a:pt x="1352" y="1700"/>
                  </a:lnTo>
                  <a:lnTo>
                    <a:pt x="1359" y="1714"/>
                  </a:lnTo>
                  <a:lnTo>
                    <a:pt x="1365" y="1734"/>
                  </a:lnTo>
                  <a:lnTo>
                    <a:pt x="1372" y="1748"/>
                  </a:lnTo>
                  <a:lnTo>
                    <a:pt x="1372" y="1768"/>
                  </a:lnTo>
                  <a:lnTo>
                    <a:pt x="1378" y="1782"/>
                  </a:lnTo>
                  <a:lnTo>
                    <a:pt x="1385" y="1796"/>
                  </a:lnTo>
                  <a:lnTo>
                    <a:pt x="1391" y="1808"/>
                  </a:lnTo>
                  <a:lnTo>
                    <a:pt x="1398" y="1822"/>
                  </a:lnTo>
                  <a:lnTo>
                    <a:pt x="1404" y="1836"/>
                  </a:lnTo>
                  <a:lnTo>
                    <a:pt x="1411" y="1843"/>
                  </a:lnTo>
                  <a:lnTo>
                    <a:pt x="1411" y="1856"/>
                  </a:lnTo>
                  <a:lnTo>
                    <a:pt x="1417" y="1863"/>
                  </a:lnTo>
                  <a:lnTo>
                    <a:pt x="1424" y="1870"/>
                  </a:lnTo>
                  <a:lnTo>
                    <a:pt x="1430" y="1877"/>
                  </a:lnTo>
                  <a:lnTo>
                    <a:pt x="1437" y="1884"/>
                  </a:lnTo>
                  <a:lnTo>
                    <a:pt x="1443" y="1884"/>
                  </a:lnTo>
                  <a:lnTo>
                    <a:pt x="1443" y="1891"/>
                  </a:lnTo>
                  <a:lnTo>
                    <a:pt x="1450" y="1891"/>
                  </a:lnTo>
                  <a:lnTo>
                    <a:pt x="1456" y="1891"/>
                  </a:lnTo>
                  <a:lnTo>
                    <a:pt x="1463" y="1891"/>
                  </a:lnTo>
                  <a:lnTo>
                    <a:pt x="1469" y="1891"/>
                  </a:lnTo>
                  <a:lnTo>
                    <a:pt x="1476" y="1891"/>
                  </a:lnTo>
                  <a:lnTo>
                    <a:pt x="1476" y="1884"/>
                  </a:lnTo>
                  <a:lnTo>
                    <a:pt x="1482" y="1877"/>
                  </a:lnTo>
                  <a:lnTo>
                    <a:pt x="1489" y="1870"/>
                  </a:lnTo>
                  <a:lnTo>
                    <a:pt x="1495" y="1863"/>
                  </a:lnTo>
                  <a:lnTo>
                    <a:pt x="1502" y="1856"/>
                  </a:lnTo>
                  <a:lnTo>
                    <a:pt x="1508" y="1843"/>
                  </a:lnTo>
                  <a:lnTo>
                    <a:pt x="1515" y="1836"/>
                  </a:lnTo>
                  <a:lnTo>
                    <a:pt x="1515" y="1822"/>
                  </a:lnTo>
                  <a:lnTo>
                    <a:pt x="1521" y="1808"/>
                  </a:lnTo>
                  <a:lnTo>
                    <a:pt x="1528" y="1796"/>
                  </a:lnTo>
                  <a:lnTo>
                    <a:pt x="1534" y="1782"/>
                  </a:lnTo>
                  <a:lnTo>
                    <a:pt x="1541" y="1768"/>
                  </a:lnTo>
                  <a:lnTo>
                    <a:pt x="1547" y="1748"/>
                  </a:lnTo>
                  <a:lnTo>
                    <a:pt x="1547" y="1734"/>
                  </a:lnTo>
                  <a:lnTo>
                    <a:pt x="1554" y="1714"/>
                  </a:lnTo>
                  <a:lnTo>
                    <a:pt x="1560" y="1700"/>
                  </a:lnTo>
                  <a:lnTo>
                    <a:pt x="1567" y="1680"/>
                  </a:lnTo>
                  <a:lnTo>
                    <a:pt x="1573" y="1659"/>
                  </a:lnTo>
                  <a:lnTo>
                    <a:pt x="1580" y="1645"/>
                  </a:lnTo>
                  <a:lnTo>
                    <a:pt x="1586" y="1625"/>
                  </a:lnTo>
                  <a:lnTo>
                    <a:pt x="1586" y="1604"/>
                  </a:lnTo>
                  <a:lnTo>
                    <a:pt x="1593" y="1584"/>
                  </a:lnTo>
                  <a:lnTo>
                    <a:pt x="1599" y="1563"/>
                  </a:lnTo>
                  <a:lnTo>
                    <a:pt x="1606" y="1549"/>
                  </a:lnTo>
                  <a:lnTo>
                    <a:pt x="1612" y="1529"/>
                  </a:lnTo>
                  <a:lnTo>
                    <a:pt x="1619" y="1508"/>
                  </a:lnTo>
                  <a:lnTo>
                    <a:pt x="1619" y="1495"/>
                  </a:lnTo>
                  <a:lnTo>
                    <a:pt x="1625" y="1474"/>
                  </a:lnTo>
                  <a:lnTo>
                    <a:pt x="1632" y="1461"/>
                  </a:lnTo>
                  <a:lnTo>
                    <a:pt x="1638" y="1440"/>
                  </a:lnTo>
                  <a:lnTo>
                    <a:pt x="1645" y="1426"/>
                  </a:lnTo>
                  <a:lnTo>
                    <a:pt x="1651" y="1413"/>
                  </a:lnTo>
                  <a:lnTo>
                    <a:pt x="1658" y="1399"/>
                  </a:lnTo>
                  <a:lnTo>
                    <a:pt x="1658" y="1385"/>
                  </a:lnTo>
                  <a:lnTo>
                    <a:pt x="1664" y="1372"/>
                  </a:lnTo>
                  <a:lnTo>
                    <a:pt x="1671" y="1358"/>
                  </a:lnTo>
                  <a:lnTo>
                    <a:pt x="1677" y="1351"/>
                  </a:lnTo>
                  <a:lnTo>
                    <a:pt x="1684" y="1344"/>
                  </a:lnTo>
                  <a:lnTo>
                    <a:pt x="1690" y="1330"/>
                  </a:lnTo>
                  <a:lnTo>
                    <a:pt x="1690" y="1324"/>
                  </a:lnTo>
                  <a:lnTo>
                    <a:pt x="1697" y="1324"/>
                  </a:lnTo>
                  <a:lnTo>
                    <a:pt x="1703" y="1318"/>
                  </a:lnTo>
                  <a:lnTo>
                    <a:pt x="1710" y="1318"/>
                  </a:lnTo>
                  <a:lnTo>
                    <a:pt x="1716" y="1311"/>
                  </a:lnTo>
                  <a:lnTo>
                    <a:pt x="1723" y="1311"/>
                  </a:lnTo>
                  <a:lnTo>
                    <a:pt x="1729" y="1311"/>
                  </a:lnTo>
                  <a:lnTo>
                    <a:pt x="1729" y="1318"/>
                  </a:lnTo>
                  <a:lnTo>
                    <a:pt x="1736" y="1318"/>
                  </a:lnTo>
                  <a:lnTo>
                    <a:pt x="1742" y="1324"/>
                  </a:lnTo>
                  <a:lnTo>
                    <a:pt x="1749" y="1330"/>
                  </a:lnTo>
                  <a:lnTo>
                    <a:pt x="1755" y="1337"/>
                  </a:lnTo>
                  <a:lnTo>
                    <a:pt x="1762" y="1344"/>
                  </a:lnTo>
                  <a:lnTo>
                    <a:pt x="1762" y="1351"/>
                  </a:lnTo>
                  <a:lnTo>
                    <a:pt x="1768" y="1365"/>
                  </a:lnTo>
                  <a:lnTo>
                    <a:pt x="1775" y="1378"/>
                  </a:lnTo>
                  <a:lnTo>
                    <a:pt x="1781" y="1392"/>
                  </a:lnTo>
                  <a:lnTo>
                    <a:pt x="1788" y="1406"/>
                  </a:lnTo>
                  <a:lnTo>
                    <a:pt x="1794" y="1419"/>
                  </a:lnTo>
                  <a:lnTo>
                    <a:pt x="1801" y="1433"/>
                  </a:lnTo>
                  <a:lnTo>
                    <a:pt x="1801" y="1454"/>
                  </a:lnTo>
                  <a:lnTo>
                    <a:pt x="1807" y="1467"/>
                  </a:lnTo>
                  <a:lnTo>
                    <a:pt x="1814" y="1488"/>
                  </a:lnTo>
                  <a:lnTo>
                    <a:pt x="1820" y="1508"/>
                  </a:lnTo>
                  <a:lnTo>
                    <a:pt x="1827" y="1522"/>
                  </a:lnTo>
                  <a:lnTo>
                    <a:pt x="1833" y="1543"/>
                  </a:lnTo>
                  <a:lnTo>
                    <a:pt x="1833" y="1563"/>
                  </a:lnTo>
                  <a:lnTo>
                    <a:pt x="1840" y="1584"/>
                  </a:lnTo>
                  <a:lnTo>
                    <a:pt x="1846" y="1604"/>
                  </a:lnTo>
                  <a:lnTo>
                    <a:pt x="1853" y="1625"/>
                  </a:lnTo>
                  <a:lnTo>
                    <a:pt x="1859" y="1645"/>
                  </a:lnTo>
                  <a:lnTo>
                    <a:pt x="1866" y="1666"/>
                  </a:lnTo>
                  <a:lnTo>
                    <a:pt x="1872" y="1686"/>
                  </a:lnTo>
                  <a:lnTo>
                    <a:pt x="1872" y="1700"/>
                  </a:lnTo>
                  <a:lnTo>
                    <a:pt x="1879" y="1721"/>
                  </a:lnTo>
                  <a:lnTo>
                    <a:pt x="1886" y="1741"/>
                  </a:lnTo>
                  <a:lnTo>
                    <a:pt x="1892" y="1762"/>
                  </a:lnTo>
                  <a:lnTo>
                    <a:pt x="1899" y="1775"/>
                  </a:lnTo>
                  <a:lnTo>
                    <a:pt x="1905" y="1789"/>
                  </a:lnTo>
                  <a:lnTo>
                    <a:pt x="1905" y="1808"/>
                  </a:lnTo>
                  <a:lnTo>
                    <a:pt x="1912" y="1822"/>
                  </a:lnTo>
                  <a:lnTo>
                    <a:pt x="1918" y="1836"/>
                  </a:lnTo>
                  <a:lnTo>
                    <a:pt x="1925" y="1843"/>
                  </a:lnTo>
                  <a:lnTo>
                    <a:pt x="1931" y="1856"/>
                  </a:lnTo>
                  <a:lnTo>
                    <a:pt x="1938" y="1863"/>
                  </a:lnTo>
                  <a:lnTo>
                    <a:pt x="1944" y="1877"/>
                  </a:lnTo>
                  <a:lnTo>
                    <a:pt x="1944" y="1884"/>
                  </a:lnTo>
                  <a:lnTo>
                    <a:pt x="1951" y="1884"/>
                  </a:lnTo>
                  <a:lnTo>
                    <a:pt x="1957" y="1891"/>
                  </a:lnTo>
                  <a:lnTo>
                    <a:pt x="1964" y="1891"/>
                  </a:lnTo>
                  <a:lnTo>
                    <a:pt x="1970" y="1891"/>
                  </a:lnTo>
                  <a:lnTo>
                    <a:pt x="1977" y="1891"/>
                  </a:lnTo>
                  <a:lnTo>
                    <a:pt x="1983" y="1884"/>
                  </a:lnTo>
                  <a:lnTo>
                    <a:pt x="1990" y="1877"/>
                  </a:lnTo>
                  <a:lnTo>
                    <a:pt x="1996" y="1870"/>
                  </a:lnTo>
                  <a:lnTo>
                    <a:pt x="2003" y="1856"/>
                  </a:lnTo>
                  <a:lnTo>
                    <a:pt x="2009" y="1849"/>
                  </a:lnTo>
                  <a:lnTo>
                    <a:pt x="2016" y="1836"/>
                  </a:lnTo>
                  <a:lnTo>
                    <a:pt x="2016" y="1815"/>
                  </a:lnTo>
                  <a:lnTo>
                    <a:pt x="2022" y="1802"/>
                  </a:lnTo>
                  <a:lnTo>
                    <a:pt x="2029" y="1782"/>
                  </a:lnTo>
                  <a:lnTo>
                    <a:pt x="2035" y="1762"/>
                  </a:lnTo>
                  <a:lnTo>
                    <a:pt x="2042" y="1741"/>
                  </a:lnTo>
                  <a:lnTo>
                    <a:pt x="2048" y="1714"/>
                  </a:lnTo>
                  <a:lnTo>
                    <a:pt x="2048" y="1686"/>
                  </a:lnTo>
                  <a:lnTo>
                    <a:pt x="2055" y="1659"/>
                  </a:lnTo>
                  <a:lnTo>
                    <a:pt x="2061" y="1632"/>
                  </a:lnTo>
                  <a:lnTo>
                    <a:pt x="2068" y="1604"/>
                  </a:lnTo>
                  <a:lnTo>
                    <a:pt x="2074" y="1570"/>
                  </a:lnTo>
                  <a:lnTo>
                    <a:pt x="2081" y="1536"/>
                  </a:lnTo>
                  <a:lnTo>
                    <a:pt x="2087" y="1502"/>
                  </a:lnTo>
                  <a:lnTo>
                    <a:pt x="2087" y="1467"/>
                  </a:lnTo>
                  <a:lnTo>
                    <a:pt x="2094" y="1426"/>
                  </a:lnTo>
                  <a:lnTo>
                    <a:pt x="2100" y="1392"/>
                  </a:lnTo>
                  <a:lnTo>
                    <a:pt x="2107" y="1351"/>
                  </a:lnTo>
                  <a:lnTo>
                    <a:pt x="2113" y="1311"/>
                  </a:lnTo>
                  <a:lnTo>
                    <a:pt x="2120" y="1270"/>
                  </a:lnTo>
                  <a:lnTo>
                    <a:pt x="2120" y="1229"/>
                  </a:lnTo>
                  <a:lnTo>
                    <a:pt x="2126" y="1188"/>
                  </a:lnTo>
                  <a:lnTo>
                    <a:pt x="2133" y="1147"/>
                  </a:lnTo>
                  <a:lnTo>
                    <a:pt x="2139" y="1106"/>
                  </a:lnTo>
                  <a:lnTo>
                    <a:pt x="2146" y="1058"/>
                  </a:lnTo>
                  <a:lnTo>
                    <a:pt x="2152" y="1017"/>
                  </a:lnTo>
                  <a:lnTo>
                    <a:pt x="2159" y="976"/>
                  </a:lnTo>
                  <a:lnTo>
                    <a:pt x="2159" y="928"/>
                  </a:lnTo>
                  <a:lnTo>
                    <a:pt x="2165" y="887"/>
                  </a:lnTo>
                  <a:lnTo>
                    <a:pt x="2172" y="846"/>
                  </a:lnTo>
                  <a:lnTo>
                    <a:pt x="2178" y="799"/>
                  </a:lnTo>
                  <a:lnTo>
                    <a:pt x="2185" y="758"/>
                  </a:lnTo>
                  <a:lnTo>
                    <a:pt x="2191" y="717"/>
                  </a:lnTo>
                  <a:lnTo>
                    <a:pt x="2191" y="676"/>
                  </a:lnTo>
                  <a:lnTo>
                    <a:pt x="2198" y="635"/>
                  </a:lnTo>
                  <a:lnTo>
                    <a:pt x="2204" y="594"/>
                  </a:lnTo>
                  <a:lnTo>
                    <a:pt x="2211" y="553"/>
                  </a:lnTo>
                  <a:lnTo>
                    <a:pt x="2217" y="518"/>
                  </a:lnTo>
                  <a:lnTo>
                    <a:pt x="2224" y="477"/>
                  </a:lnTo>
                  <a:lnTo>
                    <a:pt x="2230" y="443"/>
                  </a:lnTo>
                  <a:lnTo>
                    <a:pt x="2230" y="409"/>
                  </a:lnTo>
                  <a:lnTo>
                    <a:pt x="2237" y="375"/>
                  </a:lnTo>
                  <a:lnTo>
                    <a:pt x="2243" y="342"/>
                  </a:lnTo>
                  <a:lnTo>
                    <a:pt x="2250" y="314"/>
                  </a:lnTo>
                  <a:lnTo>
                    <a:pt x="2256" y="280"/>
                  </a:lnTo>
                  <a:lnTo>
                    <a:pt x="2263" y="253"/>
                  </a:lnTo>
                  <a:lnTo>
                    <a:pt x="2263" y="225"/>
                  </a:lnTo>
                  <a:lnTo>
                    <a:pt x="2269" y="198"/>
                  </a:lnTo>
                  <a:lnTo>
                    <a:pt x="2276" y="177"/>
                  </a:lnTo>
                  <a:lnTo>
                    <a:pt x="2282" y="157"/>
                  </a:lnTo>
                  <a:lnTo>
                    <a:pt x="2289" y="130"/>
                  </a:lnTo>
                  <a:lnTo>
                    <a:pt x="2295" y="116"/>
                  </a:lnTo>
                  <a:lnTo>
                    <a:pt x="2302" y="95"/>
                  </a:lnTo>
                  <a:lnTo>
                    <a:pt x="2302" y="82"/>
                  </a:lnTo>
                  <a:lnTo>
                    <a:pt x="2308" y="68"/>
                  </a:lnTo>
                  <a:lnTo>
                    <a:pt x="2315" y="54"/>
                  </a:lnTo>
                  <a:lnTo>
                    <a:pt x="2321" y="41"/>
                  </a:lnTo>
                  <a:lnTo>
                    <a:pt x="2328" y="34"/>
                  </a:lnTo>
                  <a:lnTo>
                    <a:pt x="2334" y="20"/>
                  </a:lnTo>
                  <a:lnTo>
                    <a:pt x="2334" y="13"/>
                  </a:lnTo>
                  <a:lnTo>
                    <a:pt x="2341" y="13"/>
                  </a:lnTo>
                  <a:lnTo>
                    <a:pt x="2347" y="6"/>
                  </a:lnTo>
                  <a:lnTo>
                    <a:pt x="2354" y="6"/>
                  </a:lnTo>
                  <a:lnTo>
                    <a:pt x="2360" y="0"/>
                  </a:lnTo>
                  <a:lnTo>
                    <a:pt x="2367" y="0"/>
                  </a:lnTo>
                  <a:lnTo>
                    <a:pt x="2367" y="6"/>
                  </a:lnTo>
                  <a:lnTo>
                    <a:pt x="2373" y="6"/>
                  </a:lnTo>
                  <a:lnTo>
                    <a:pt x="2380" y="6"/>
                  </a:lnTo>
                  <a:lnTo>
                    <a:pt x="2386" y="13"/>
                  </a:lnTo>
                  <a:lnTo>
                    <a:pt x="2393" y="20"/>
                  </a:lnTo>
                  <a:lnTo>
                    <a:pt x="2399" y="27"/>
                  </a:lnTo>
                  <a:lnTo>
                    <a:pt x="2406" y="34"/>
                  </a:lnTo>
                  <a:lnTo>
                    <a:pt x="2406" y="41"/>
                  </a:lnTo>
                  <a:lnTo>
                    <a:pt x="2412" y="47"/>
                  </a:lnTo>
                  <a:lnTo>
                    <a:pt x="2419" y="61"/>
                  </a:lnTo>
                  <a:lnTo>
                    <a:pt x="2425" y="68"/>
                  </a:lnTo>
                  <a:lnTo>
                    <a:pt x="2432" y="82"/>
                  </a:lnTo>
                  <a:lnTo>
                    <a:pt x="2438" y="88"/>
                  </a:lnTo>
                  <a:lnTo>
                    <a:pt x="2438" y="102"/>
                  </a:lnTo>
                  <a:lnTo>
                    <a:pt x="2445" y="109"/>
                  </a:lnTo>
                  <a:lnTo>
                    <a:pt x="2451" y="123"/>
                  </a:lnTo>
                  <a:lnTo>
                    <a:pt x="2458" y="136"/>
                  </a:lnTo>
                  <a:lnTo>
                    <a:pt x="2464" y="143"/>
                  </a:lnTo>
                  <a:lnTo>
                    <a:pt x="2471" y="157"/>
                  </a:lnTo>
                  <a:lnTo>
                    <a:pt x="2477" y="171"/>
                  </a:lnTo>
                  <a:lnTo>
                    <a:pt x="2477" y="177"/>
                  </a:lnTo>
                  <a:lnTo>
                    <a:pt x="2484" y="191"/>
                  </a:lnTo>
                  <a:lnTo>
                    <a:pt x="2490" y="205"/>
                  </a:lnTo>
                  <a:lnTo>
                    <a:pt x="2497" y="212"/>
                  </a:lnTo>
                  <a:lnTo>
                    <a:pt x="2503" y="225"/>
                  </a:lnTo>
                  <a:lnTo>
                    <a:pt x="2510" y="232"/>
                  </a:lnTo>
                  <a:lnTo>
                    <a:pt x="2510" y="239"/>
                  </a:lnTo>
                  <a:lnTo>
                    <a:pt x="2516" y="246"/>
                  </a:lnTo>
                  <a:lnTo>
                    <a:pt x="2523" y="260"/>
                  </a:lnTo>
                  <a:lnTo>
                    <a:pt x="2529" y="266"/>
                  </a:lnTo>
                  <a:lnTo>
                    <a:pt x="2536" y="273"/>
                  </a:lnTo>
                  <a:lnTo>
                    <a:pt x="2542" y="273"/>
                  </a:lnTo>
                  <a:lnTo>
                    <a:pt x="2549" y="280"/>
                  </a:lnTo>
                  <a:lnTo>
                    <a:pt x="2549" y="287"/>
                  </a:lnTo>
                  <a:lnTo>
                    <a:pt x="2555" y="287"/>
                  </a:lnTo>
                  <a:lnTo>
                    <a:pt x="2562" y="287"/>
                  </a:lnTo>
                  <a:lnTo>
                    <a:pt x="2568" y="294"/>
                  </a:lnTo>
                  <a:lnTo>
                    <a:pt x="2575" y="294"/>
                  </a:lnTo>
                  <a:lnTo>
                    <a:pt x="2581" y="294"/>
                  </a:lnTo>
                  <a:lnTo>
                    <a:pt x="2588" y="294"/>
                  </a:lnTo>
                  <a:lnTo>
                    <a:pt x="2594" y="287"/>
                  </a:lnTo>
                  <a:lnTo>
                    <a:pt x="2601" y="287"/>
                  </a:lnTo>
                  <a:lnTo>
                    <a:pt x="2607" y="280"/>
                  </a:lnTo>
                  <a:lnTo>
                    <a:pt x="2614" y="280"/>
                  </a:lnTo>
                  <a:lnTo>
                    <a:pt x="2620" y="273"/>
                  </a:lnTo>
                  <a:lnTo>
                    <a:pt x="2620" y="266"/>
                  </a:lnTo>
                  <a:lnTo>
                    <a:pt x="2627" y="260"/>
                  </a:lnTo>
                  <a:lnTo>
                    <a:pt x="2633" y="253"/>
                  </a:lnTo>
                  <a:lnTo>
                    <a:pt x="2640" y="246"/>
                  </a:lnTo>
                  <a:lnTo>
                    <a:pt x="2646" y="239"/>
                  </a:lnTo>
                  <a:lnTo>
                    <a:pt x="2653" y="225"/>
                  </a:lnTo>
                  <a:lnTo>
                    <a:pt x="2653" y="218"/>
                  </a:lnTo>
                  <a:lnTo>
                    <a:pt x="2659" y="212"/>
                  </a:lnTo>
                  <a:lnTo>
                    <a:pt x="2666" y="198"/>
                  </a:lnTo>
                  <a:lnTo>
                    <a:pt x="2672" y="191"/>
                  </a:lnTo>
                  <a:lnTo>
                    <a:pt x="2679" y="177"/>
                  </a:lnTo>
                  <a:lnTo>
                    <a:pt x="2685" y="171"/>
                  </a:lnTo>
                  <a:lnTo>
                    <a:pt x="2692" y="157"/>
                  </a:lnTo>
                  <a:lnTo>
                    <a:pt x="2692" y="150"/>
                  </a:lnTo>
                  <a:lnTo>
                    <a:pt x="2698" y="136"/>
                  </a:lnTo>
                  <a:lnTo>
                    <a:pt x="2705" y="130"/>
                  </a:lnTo>
                  <a:lnTo>
                    <a:pt x="2711" y="116"/>
                  </a:lnTo>
                  <a:lnTo>
                    <a:pt x="2718" y="109"/>
                  </a:lnTo>
                  <a:lnTo>
                    <a:pt x="2724" y="95"/>
                  </a:lnTo>
                  <a:lnTo>
                    <a:pt x="2724" y="88"/>
                  </a:lnTo>
                  <a:lnTo>
                    <a:pt x="2731" y="82"/>
                  </a:lnTo>
                  <a:lnTo>
                    <a:pt x="2737" y="68"/>
                  </a:lnTo>
                  <a:lnTo>
                    <a:pt x="2744" y="61"/>
                  </a:lnTo>
                  <a:lnTo>
                    <a:pt x="2750" y="54"/>
                  </a:lnTo>
                  <a:lnTo>
                    <a:pt x="2757" y="47"/>
                  </a:lnTo>
                  <a:lnTo>
                    <a:pt x="2763" y="41"/>
                  </a:lnTo>
                  <a:lnTo>
                    <a:pt x="2763" y="34"/>
                  </a:lnTo>
                  <a:lnTo>
                    <a:pt x="2770" y="27"/>
                  </a:lnTo>
                  <a:lnTo>
                    <a:pt x="2776" y="20"/>
                  </a:lnTo>
                  <a:lnTo>
                    <a:pt x="2783" y="13"/>
                  </a:lnTo>
                  <a:lnTo>
                    <a:pt x="2789" y="13"/>
                  </a:lnTo>
                  <a:lnTo>
                    <a:pt x="2796" y="6"/>
                  </a:lnTo>
                  <a:lnTo>
                    <a:pt x="2802" y="6"/>
                  </a:lnTo>
                  <a:lnTo>
                    <a:pt x="2809" y="0"/>
                  </a:lnTo>
                  <a:lnTo>
                    <a:pt x="2816" y="0"/>
                  </a:lnTo>
                </a:path>
              </a:pathLst>
            </a:custGeom>
            <a:noFill/>
            <a:ln cap="rnd" w="25560">
              <a:solidFill>
                <a:srgbClr val="00ff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6602400" y="2147760"/>
              <a:ext cx="1693080" cy="1082520"/>
              <a:chOff x="6602400" y="2147760"/>
              <a:chExt cx="1693080" cy="1082520"/>
            </a:xfrm>
          </p:grpSpPr>
          <p:sp>
            <p:nvSpPr>
              <p:cNvPr id="521" name=""/>
              <p:cNvSpPr/>
              <p:nvPr/>
            </p:nvSpPr>
            <p:spPr>
              <a:xfrm flipV="1">
                <a:off x="6602400" y="2447280"/>
                <a:ext cx="725760" cy="46836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6634440" y="2781000"/>
                <a:ext cx="693720" cy="4492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78480" y="2147760"/>
                <a:ext cx="10170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N</a:t>
                </a:r>
                <a:r>
                  <a:rPr b="0" lang="en-US" sz="2400" spc="-1" strike="noStrike">
                    <a:solidFill>
                      <a:srgbClr val="ffcc00"/>
                    </a:solidFill>
                    <a:latin typeface="Times New Roman"/>
                  </a:rPr>
                  <a:t> = 2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278480" y="2579400"/>
                <a:ext cx="10170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N</a:t>
                </a:r>
                <a:r>
                  <a:rPr b="0" lang="en-US" sz="2400" spc="-1" strike="noStrike">
                    <a:solidFill>
                      <a:srgbClr val="ffcc00"/>
                    </a:solidFill>
                    <a:latin typeface="Times New Roman"/>
                  </a:rPr>
                  <a:t> = 38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Primjer korištenja MATLAB funkcije </a:t>
            </a:r>
            <a:r>
              <a:rPr b="0" lang="hr-HR" sz="4400" spc="-1" strike="noStrike">
                <a:solidFill>
                  <a:srgbClr val="00fffe"/>
                </a:solidFill>
                <a:latin typeface="Courier New"/>
              </a:rPr>
              <a:t>remez()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timalna frekvencijska karakteristika uz </a:t>
            </a:r>
            <a:r>
              <a:rPr b="0" i="1" lang="en-US" sz="2800" spc="-1" strike="noStrike">
                <a:solidFill>
                  <a:srgbClr val="ffcc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Symbol"/>
                <a:ea typeface="Symbol"/>
              </a:rPr>
              <a:t>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EFFE-8904-4C07-91C9-531163560B1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3200400" y="2971800"/>
            <a:ext cx="2652840" cy="2770200"/>
            <a:chOff x="3200400" y="2971800"/>
            <a:chExt cx="2652840" cy="2770200"/>
          </a:xfrm>
        </p:grpSpPr>
        <p:sp>
          <p:nvSpPr>
            <p:cNvPr id="528" name=""/>
            <p:cNvSpPr/>
            <p:nvPr/>
          </p:nvSpPr>
          <p:spPr>
            <a:xfrm>
              <a:off x="3200400" y="2971800"/>
              <a:ext cx="223920" cy="2765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48400" y="2976840"/>
              <a:ext cx="204840" cy="2765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1518840" y="2341440"/>
            <a:ext cx="5842440" cy="4255560"/>
            <a:chOff x="1518840" y="2341440"/>
            <a:chExt cx="5842440" cy="4255560"/>
          </a:xfrm>
        </p:grpSpPr>
        <p:sp>
          <p:nvSpPr>
            <p:cNvPr id="531" name=""/>
            <p:cNvSpPr/>
            <p:nvPr/>
          </p:nvSpPr>
          <p:spPr>
            <a:xfrm flipV="1">
              <a:off x="3200040" y="2881080"/>
              <a:ext cx="0" cy="2868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3422520" y="2865240"/>
              <a:ext cx="0" cy="28843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5852880" y="2865240"/>
              <a:ext cx="0" cy="28843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6741720" y="2865240"/>
              <a:ext cx="0" cy="28843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19120" y="5743440"/>
              <a:ext cx="4422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19120" y="4362120"/>
              <a:ext cx="477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19120" y="2970000"/>
              <a:ext cx="4422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2319120" y="2625480"/>
              <a:ext cx="0" cy="327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33000" y="5811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731680" y="5810040"/>
              <a:ext cx="565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36240" y="6138720"/>
              <a:ext cx="718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2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211360" y="6138720"/>
              <a:ext cx="718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7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79640" y="5840280"/>
              <a:ext cx="565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554160" y="58543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18840" y="5487840"/>
              <a:ext cx="718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319120" y="5398920"/>
              <a:ext cx="4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19120" y="5052960"/>
              <a:ext cx="4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319120" y="4708440"/>
              <a:ext cx="4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319120" y="4362120"/>
              <a:ext cx="4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839240" y="41353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19120" y="4006440"/>
              <a:ext cx="4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19120" y="3660480"/>
              <a:ext cx="4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319120" y="3315960"/>
              <a:ext cx="4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319120" y="2970000"/>
              <a:ext cx="4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34400" y="2758680"/>
              <a:ext cx="565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2319120" y="2457000"/>
              <a:ext cx="0" cy="346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967440" y="4370040"/>
              <a:ext cx="39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310480" y="2341440"/>
              <a:ext cx="784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5649840" y="2860560"/>
              <a:ext cx="0" cy="28843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315880" y="3709800"/>
              <a:ext cx="881280" cy="1316160"/>
            </a:xfrm>
            <a:custGeom>
              <a:avLst/>
              <a:gdLst/>
              <a:ahLst/>
              <a:rect l="l" t="t" r="r" b="b"/>
              <a:pathLst>
                <a:path w="555" h="829">
                  <a:moveTo>
                    <a:pt x="0" y="823"/>
                  </a:moveTo>
                  <a:lnTo>
                    <a:pt x="0" y="812"/>
                  </a:lnTo>
                  <a:lnTo>
                    <a:pt x="10" y="815"/>
                  </a:lnTo>
                  <a:lnTo>
                    <a:pt x="15" y="804"/>
                  </a:lnTo>
                  <a:lnTo>
                    <a:pt x="17" y="789"/>
                  </a:lnTo>
                  <a:lnTo>
                    <a:pt x="23" y="770"/>
                  </a:lnTo>
                  <a:lnTo>
                    <a:pt x="30" y="744"/>
                  </a:lnTo>
                  <a:lnTo>
                    <a:pt x="36" y="718"/>
                  </a:lnTo>
                  <a:lnTo>
                    <a:pt x="43" y="687"/>
                  </a:lnTo>
                  <a:lnTo>
                    <a:pt x="49" y="648"/>
                  </a:lnTo>
                  <a:lnTo>
                    <a:pt x="49" y="616"/>
                  </a:lnTo>
                  <a:lnTo>
                    <a:pt x="56" y="571"/>
                  </a:lnTo>
                  <a:lnTo>
                    <a:pt x="62" y="533"/>
                  </a:lnTo>
                  <a:lnTo>
                    <a:pt x="69" y="488"/>
                  </a:lnTo>
                  <a:lnTo>
                    <a:pt x="75" y="442"/>
                  </a:lnTo>
                  <a:lnTo>
                    <a:pt x="82" y="404"/>
                  </a:lnTo>
                  <a:lnTo>
                    <a:pt x="88" y="359"/>
                  </a:lnTo>
                  <a:lnTo>
                    <a:pt x="88" y="314"/>
                  </a:lnTo>
                  <a:lnTo>
                    <a:pt x="95" y="275"/>
                  </a:lnTo>
                  <a:lnTo>
                    <a:pt x="101" y="231"/>
                  </a:lnTo>
                  <a:lnTo>
                    <a:pt x="107" y="193"/>
                  </a:lnTo>
                  <a:lnTo>
                    <a:pt x="114" y="160"/>
                  </a:lnTo>
                  <a:lnTo>
                    <a:pt x="120" y="128"/>
                  </a:lnTo>
                  <a:lnTo>
                    <a:pt x="120" y="96"/>
                  </a:lnTo>
                  <a:lnTo>
                    <a:pt x="127" y="70"/>
                  </a:lnTo>
                  <a:lnTo>
                    <a:pt x="133" y="45"/>
                  </a:lnTo>
                  <a:lnTo>
                    <a:pt x="140" y="25"/>
                  </a:lnTo>
                  <a:lnTo>
                    <a:pt x="146" y="12"/>
                  </a:lnTo>
                  <a:lnTo>
                    <a:pt x="153" y="6"/>
                  </a:lnTo>
                  <a:lnTo>
                    <a:pt x="159" y="0"/>
                  </a:lnTo>
                  <a:lnTo>
                    <a:pt x="166" y="6"/>
                  </a:lnTo>
                  <a:lnTo>
                    <a:pt x="172" y="12"/>
                  </a:lnTo>
                  <a:lnTo>
                    <a:pt x="179" y="25"/>
                  </a:lnTo>
                  <a:lnTo>
                    <a:pt x="185" y="45"/>
                  </a:lnTo>
                  <a:lnTo>
                    <a:pt x="192" y="64"/>
                  </a:lnTo>
                  <a:lnTo>
                    <a:pt x="192" y="90"/>
                  </a:lnTo>
                  <a:lnTo>
                    <a:pt x="198" y="115"/>
                  </a:lnTo>
                  <a:lnTo>
                    <a:pt x="205" y="148"/>
                  </a:lnTo>
                  <a:lnTo>
                    <a:pt x="211" y="186"/>
                  </a:lnTo>
                  <a:lnTo>
                    <a:pt x="218" y="218"/>
                  </a:lnTo>
                  <a:lnTo>
                    <a:pt x="224" y="256"/>
                  </a:lnTo>
                  <a:lnTo>
                    <a:pt x="231" y="301"/>
                  </a:lnTo>
                  <a:lnTo>
                    <a:pt x="231" y="339"/>
                  </a:lnTo>
                  <a:lnTo>
                    <a:pt x="237" y="385"/>
                  </a:lnTo>
                  <a:lnTo>
                    <a:pt x="244" y="423"/>
                  </a:lnTo>
                  <a:lnTo>
                    <a:pt x="250" y="468"/>
                  </a:lnTo>
                  <a:lnTo>
                    <a:pt x="257" y="513"/>
                  </a:lnTo>
                  <a:lnTo>
                    <a:pt x="263" y="552"/>
                  </a:lnTo>
                  <a:lnTo>
                    <a:pt x="263" y="590"/>
                  </a:lnTo>
                  <a:lnTo>
                    <a:pt x="269" y="629"/>
                  </a:lnTo>
                  <a:lnTo>
                    <a:pt x="276" y="661"/>
                  </a:lnTo>
                  <a:lnTo>
                    <a:pt x="282" y="699"/>
                  </a:lnTo>
                  <a:lnTo>
                    <a:pt x="289" y="725"/>
                  </a:lnTo>
                  <a:lnTo>
                    <a:pt x="295" y="750"/>
                  </a:lnTo>
                  <a:lnTo>
                    <a:pt x="302" y="776"/>
                  </a:lnTo>
                  <a:lnTo>
                    <a:pt x="302" y="795"/>
                  </a:lnTo>
                  <a:lnTo>
                    <a:pt x="308" y="808"/>
                  </a:lnTo>
                  <a:lnTo>
                    <a:pt x="315" y="821"/>
                  </a:lnTo>
                  <a:lnTo>
                    <a:pt x="321" y="828"/>
                  </a:lnTo>
                  <a:lnTo>
                    <a:pt x="327" y="821"/>
                  </a:lnTo>
                  <a:lnTo>
                    <a:pt x="334" y="828"/>
                  </a:lnTo>
                  <a:lnTo>
                    <a:pt x="334" y="821"/>
                  </a:lnTo>
                  <a:lnTo>
                    <a:pt x="341" y="808"/>
                  </a:lnTo>
                  <a:lnTo>
                    <a:pt x="347" y="795"/>
                  </a:lnTo>
                  <a:lnTo>
                    <a:pt x="354" y="776"/>
                  </a:lnTo>
                  <a:lnTo>
                    <a:pt x="360" y="750"/>
                  </a:lnTo>
                  <a:lnTo>
                    <a:pt x="367" y="725"/>
                  </a:lnTo>
                  <a:lnTo>
                    <a:pt x="373" y="699"/>
                  </a:lnTo>
                  <a:lnTo>
                    <a:pt x="373" y="668"/>
                  </a:lnTo>
                  <a:lnTo>
                    <a:pt x="380" y="629"/>
                  </a:lnTo>
                  <a:lnTo>
                    <a:pt x="386" y="590"/>
                  </a:lnTo>
                  <a:lnTo>
                    <a:pt x="393" y="552"/>
                  </a:lnTo>
                  <a:lnTo>
                    <a:pt x="399" y="507"/>
                  </a:lnTo>
                  <a:lnTo>
                    <a:pt x="406" y="468"/>
                  </a:lnTo>
                  <a:lnTo>
                    <a:pt x="406" y="423"/>
                  </a:lnTo>
                  <a:lnTo>
                    <a:pt x="412" y="378"/>
                  </a:lnTo>
                  <a:lnTo>
                    <a:pt x="419" y="333"/>
                  </a:lnTo>
                  <a:lnTo>
                    <a:pt x="425" y="288"/>
                  </a:lnTo>
                  <a:lnTo>
                    <a:pt x="431" y="249"/>
                  </a:lnTo>
                  <a:lnTo>
                    <a:pt x="438" y="205"/>
                  </a:lnTo>
                  <a:lnTo>
                    <a:pt x="443" y="167"/>
                  </a:lnTo>
                  <a:lnTo>
                    <a:pt x="443" y="135"/>
                  </a:lnTo>
                  <a:lnTo>
                    <a:pt x="450" y="102"/>
                  </a:lnTo>
                  <a:lnTo>
                    <a:pt x="456" y="70"/>
                  </a:lnTo>
                  <a:lnTo>
                    <a:pt x="463" y="45"/>
                  </a:lnTo>
                  <a:lnTo>
                    <a:pt x="469" y="25"/>
                  </a:lnTo>
                  <a:lnTo>
                    <a:pt x="476" y="12"/>
                  </a:lnTo>
                  <a:lnTo>
                    <a:pt x="476" y="0"/>
                  </a:lnTo>
                  <a:lnTo>
                    <a:pt x="482" y="0"/>
                  </a:lnTo>
                  <a:lnTo>
                    <a:pt x="489" y="6"/>
                  </a:lnTo>
                  <a:lnTo>
                    <a:pt x="495" y="12"/>
                  </a:lnTo>
                  <a:lnTo>
                    <a:pt x="502" y="32"/>
                  </a:lnTo>
                  <a:lnTo>
                    <a:pt x="508" y="64"/>
                  </a:lnTo>
                  <a:lnTo>
                    <a:pt x="508" y="102"/>
                  </a:lnTo>
                  <a:lnTo>
                    <a:pt x="515" y="148"/>
                  </a:lnTo>
                  <a:lnTo>
                    <a:pt x="521" y="205"/>
                  </a:lnTo>
                  <a:lnTo>
                    <a:pt x="528" y="269"/>
                  </a:lnTo>
                  <a:lnTo>
                    <a:pt x="534" y="346"/>
                  </a:lnTo>
                  <a:lnTo>
                    <a:pt x="541" y="436"/>
                  </a:lnTo>
                  <a:lnTo>
                    <a:pt x="547" y="539"/>
                  </a:lnTo>
                  <a:lnTo>
                    <a:pt x="547" y="648"/>
                  </a:lnTo>
                  <a:lnTo>
                    <a:pt x="554" y="82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409560" y="3701880"/>
              <a:ext cx="2240280" cy="1315800"/>
            </a:xfrm>
            <a:custGeom>
              <a:avLst/>
              <a:gdLst/>
              <a:ahLst/>
              <a:rect l="l" t="t" r="r" b="b"/>
              <a:pathLst>
                <a:path w="1411" h="829">
                  <a:moveTo>
                    <a:pt x="0" y="0"/>
                  </a:moveTo>
                  <a:lnTo>
                    <a:pt x="6" y="77"/>
                  </a:lnTo>
                  <a:lnTo>
                    <a:pt x="13" y="148"/>
                  </a:lnTo>
                  <a:lnTo>
                    <a:pt x="19" y="225"/>
                  </a:lnTo>
                  <a:lnTo>
                    <a:pt x="26" y="288"/>
                  </a:lnTo>
                  <a:lnTo>
                    <a:pt x="26" y="359"/>
                  </a:lnTo>
                  <a:lnTo>
                    <a:pt x="32" y="417"/>
                  </a:lnTo>
                  <a:lnTo>
                    <a:pt x="39" y="481"/>
                  </a:lnTo>
                  <a:lnTo>
                    <a:pt x="45" y="533"/>
                  </a:lnTo>
                  <a:lnTo>
                    <a:pt x="52" y="584"/>
                  </a:lnTo>
                  <a:lnTo>
                    <a:pt x="58" y="629"/>
                  </a:lnTo>
                  <a:lnTo>
                    <a:pt x="65" y="674"/>
                  </a:lnTo>
                  <a:lnTo>
                    <a:pt x="65" y="712"/>
                  </a:lnTo>
                  <a:lnTo>
                    <a:pt x="71" y="744"/>
                  </a:lnTo>
                  <a:lnTo>
                    <a:pt x="78" y="770"/>
                  </a:lnTo>
                  <a:lnTo>
                    <a:pt x="84" y="789"/>
                  </a:lnTo>
                  <a:lnTo>
                    <a:pt x="91" y="808"/>
                  </a:lnTo>
                  <a:lnTo>
                    <a:pt x="97" y="821"/>
                  </a:lnTo>
                  <a:lnTo>
                    <a:pt x="97" y="828"/>
                  </a:lnTo>
                  <a:lnTo>
                    <a:pt x="104" y="828"/>
                  </a:lnTo>
                  <a:lnTo>
                    <a:pt x="110" y="821"/>
                  </a:lnTo>
                  <a:lnTo>
                    <a:pt x="117" y="815"/>
                  </a:lnTo>
                  <a:lnTo>
                    <a:pt x="123" y="802"/>
                  </a:lnTo>
                  <a:lnTo>
                    <a:pt x="130" y="782"/>
                  </a:lnTo>
                  <a:lnTo>
                    <a:pt x="136" y="757"/>
                  </a:lnTo>
                  <a:lnTo>
                    <a:pt x="136" y="731"/>
                  </a:lnTo>
                  <a:lnTo>
                    <a:pt x="143" y="705"/>
                  </a:lnTo>
                  <a:lnTo>
                    <a:pt x="149" y="674"/>
                  </a:lnTo>
                  <a:lnTo>
                    <a:pt x="156" y="636"/>
                  </a:lnTo>
                  <a:lnTo>
                    <a:pt x="162" y="597"/>
                  </a:lnTo>
                  <a:lnTo>
                    <a:pt x="169" y="558"/>
                  </a:lnTo>
                  <a:lnTo>
                    <a:pt x="169" y="513"/>
                  </a:lnTo>
                  <a:lnTo>
                    <a:pt x="175" y="468"/>
                  </a:lnTo>
                  <a:lnTo>
                    <a:pt x="182" y="430"/>
                  </a:lnTo>
                  <a:lnTo>
                    <a:pt x="188" y="385"/>
                  </a:lnTo>
                  <a:lnTo>
                    <a:pt x="195" y="339"/>
                  </a:lnTo>
                  <a:lnTo>
                    <a:pt x="201" y="294"/>
                  </a:lnTo>
                  <a:lnTo>
                    <a:pt x="208" y="256"/>
                  </a:lnTo>
                  <a:lnTo>
                    <a:pt x="208" y="218"/>
                  </a:lnTo>
                  <a:lnTo>
                    <a:pt x="214" y="180"/>
                  </a:lnTo>
                  <a:lnTo>
                    <a:pt x="221" y="148"/>
                  </a:lnTo>
                  <a:lnTo>
                    <a:pt x="227" y="115"/>
                  </a:lnTo>
                  <a:lnTo>
                    <a:pt x="234" y="83"/>
                  </a:lnTo>
                  <a:lnTo>
                    <a:pt x="240" y="64"/>
                  </a:lnTo>
                  <a:lnTo>
                    <a:pt x="240" y="38"/>
                  </a:lnTo>
                  <a:lnTo>
                    <a:pt x="247" y="25"/>
                  </a:lnTo>
                  <a:lnTo>
                    <a:pt x="253" y="12"/>
                  </a:lnTo>
                  <a:lnTo>
                    <a:pt x="260" y="6"/>
                  </a:lnTo>
                  <a:lnTo>
                    <a:pt x="266" y="0"/>
                  </a:lnTo>
                  <a:lnTo>
                    <a:pt x="273" y="0"/>
                  </a:lnTo>
                  <a:lnTo>
                    <a:pt x="279" y="6"/>
                  </a:lnTo>
                  <a:lnTo>
                    <a:pt x="279" y="19"/>
                  </a:lnTo>
                  <a:lnTo>
                    <a:pt x="286" y="32"/>
                  </a:lnTo>
                  <a:lnTo>
                    <a:pt x="292" y="51"/>
                  </a:lnTo>
                  <a:lnTo>
                    <a:pt x="299" y="77"/>
                  </a:lnTo>
                  <a:lnTo>
                    <a:pt x="305" y="102"/>
                  </a:lnTo>
                  <a:lnTo>
                    <a:pt x="312" y="135"/>
                  </a:lnTo>
                  <a:lnTo>
                    <a:pt x="312" y="167"/>
                  </a:lnTo>
                  <a:lnTo>
                    <a:pt x="318" y="205"/>
                  </a:lnTo>
                  <a:lnTo>
                    <a:pt x="325" y="244"/>
                  </a:lnTo>
                  <a:lnTo>
                    <a:pt x="331" y="282"/>
                  </a:lnTo>
                  <a:lnTo>
                    <a:pt x="338" y="327"/>
                  </a:lnTo>
                  <a:lnTo>
                    <a:pt x="344" y="372"/>
                  </a:lnTo>
                  <a:lnTo>
                    <a:pt x="350" y="417"/>
                  </a:lnTo>
                  <a:lnTo>
                    <a:pt x="350" y="462"/>
                  </a:lnTo>
                  <a:lnTo>
                    <a:pt x="356" y="500"/>
                  </a:lnTo>
                  <a:lnTo>
                    <a:pt x="363" y="545"/>
                  </a:lnTo>
                  <a:lnTo>
                    <a:pt x="369" y="584"/>
                  </a:lnTo>
                  <a:lnTo>
                    <a:pt x="376" y="623"/>
                  </a:lnTo>
                  <a:lnTo>
                    <a:pt x="382" y="661"/>
                  </a:lnTo>
                  <a:lnTo>
                    <a:pt x="382" y="699"/>
                  </a:lnTo>
                  <a:lnTo>
                    <a:pt x="389" y="725"/>
                  </a:lnTo>
                  <a:lnTo>
                    <a:pt x="395" y="757"/>
                  </a:lnTo>
                  <a:lnTo>
                    <a:pt x="402" y="776"/>
                  </a:lnTo>
                  <a:lnTo>
                    <a:pt x="408" y="795"/>
                  </a:lnTo>
                  <a:lnTo>
                    <a:pt x="415" y="808"/>
                  </a:lnTo>
                  <a:lnTo>
                    <a:pt x="421" y="821"/>
                  </a:lnTo>
                  <a:lnTo>
                    <a:pt x="421" y="828"/>
                  </a:lnTo>
                  <a:lnTo>
                    <a:pt x="428" y="828"/>
                  </a:lnTo>
                  <a:lnTo>
                    <a:pt x="434" y="821"/>
                  </a:lnTo>
                  <a:lnTo>
                    <a:pt x="441" y="815"/>
                  </a:lnTo>
                  <a:lnTo>
                    <a:pt x="447" y="802"/>
                  </a:lnTo>
                  <a:lnTo>
                    <a:pt x="454" y="782"/>
                  </a:lnTo>
                  <a:lnTo>
                    <a:pt x="454" y="763"/>
                  </a:lnTo>
                  <a:lnTo>
                    <a:pt x="460" y="737"/>
                  </a:lnTo>
                  <a:lnTo>
                    <a:pt x="467" y="705"/>
                  </a:lnTo>
                  <a:lnTo>
                    <a:pt x="473" y="674"/>
                  </a:lnTo>
                  <a:lnTo>
                    <a:pt x="480" y="636"/>
                  </a:lnTo>
                  <a:lnTo>
                    <a:pt x="486" y="597"/>
                  </a:lnTo>
                  <a:lnTo>
                    <a:pt x="493" y="552"/>
                  </a:lnTo>
                  <a:lnTo>
                    <a:pt x="493" y="513"/>
                  </a:lnTo>
                  <a:lnTo>
                    <a:pt x="500" y="468"/>
                  </a:lnTo>
                  <a:lnTo>
                    <a:pt x="506" y="423"/>
                  </a:lnTo>
                  <a:lnTo>
                    <a:pt x="513" y="378"/>
                  </a:lnTo>
                  <a:lnTo>
                    <a:pt x="519" y="333"/>
                  </a:lnTo>
                  <a:lnTo>
                    <a:pt x="526" y="288"/>
                  </a:lnTo>
                  <a:lnTo>
                    <a:pt x="526" y="244"/>
                  </a:lnTo>
                  <a:lnTo>
                    <a:pt x="532" y="205"/>
                  </a:lnTo>
                  <a:lnTo>
                    <a:pt x="539" y="167"/>
                  </a:lnTo>
                  <a:lnTo>
                    <a:pt x="545" y="135"/>
                  </a:lnTo>
                  <a:lnTo>
                    <a:pt x="552" y="102"/>
                  </a:lnTo>
                  <a:lnTo>
                    <a:pt x="558" y="77"/>
                  </a:lnTo>
                  <a:lnTo>
                    <a:pt x="565" y="51"/>
                  </a:lnTo>
                  <a:lnTo>
                    <a:pt x="565" y="32"/>
                  </a:lnTo>
                  <a:lnTo>
                    <a:pt x="571" y="19"/>
                  </a:lnTo>
                  <a:lnTo>
                    <a:pt x="578" y="6"/>
                  </a:lnTo>
                  <a:lnTo>
                    <a:pt x="584" y="0"/>
                  </a:lnTo>
                  <a:lnTo>
                    <a:pt x="591" y="0"/>
                  </a:lnTo>
                  <a:lnTo>
                    <a:pt x="597" y="6"/>
                  </a:lnTo>
                  <a:lnTo>
                    <a:pt x="597" y="12"/>
                  </a:lnTo>
                  <a:lnTo>
                    <a:pt x="604" y="25"/>
                  </a:lnTo>
                  <a:lnTo>
                    <a:pt x="610" y="45"/>
                  </a:lnTo>
                  <a:lnTo>
                    <a:pt x="617" y="70"/>
                  </a:lnTo>
                  <a:lnTo>
                    <a:pt x="623" y="96"/>
                  </a:lnTo>
                  <a:lnTo>
                    <a:pt x="630" y="128"/>
                  </a:lnTo>
                  <a:lnTo>
                    <a:pt x="636" y="167"/>
                  </a:lnTo>
                  <a:lnTo>
                    <a:pt x="636" y="199"/>
                  </a:lnTo>
                  <a:lnTo>
                    <a:pt x="643" y="244"/>
                  </a:lnTo>
                  <a:lnTo>
                    <a:pt x="649" y="282"/>
                  </a:lnTo>
                  <a:lnTo>
                    <a:pt x="656" y="327"/>
                  </a:lnTo>
                  <a:lnTo>
                    <a:pt x="662" y="372"/>
                  </a:lnTo>
                  <a:lnTo>
                    <a:pt x="669" y="417"/>
                  </a:lnTo>
                  <a:lnTo>
                    <a:pt x="669" y="462"/>
                  </a:lnTo>
                  <a:lnTo>
                    <a:pt x="675" y="507"/>
                  </a:lnTo>
                  <a:lnTo>
                    <a:pt x="682" y="552"/>
                  </a:lnTo>
                  <a:lnTo>
                    <a:pt x="688" y="597"/>
                  </a:lnTo>
                  <a:lnTo>
                    <a:pt x="695" y="636"/>
                  </a:lnTo>
                  <a:lnTo>
                    <a:pt x="701" y="674"/>
                  </a:lnTo>
                  <a:lnTo>
                    <a:pt x="708" y="705"/>
                  </a:lnTo>
                  <a:lnTo>
                    <a:pt x="708" y="737"/>
                  </a:lnTo>
                  <a:lnTo>
                    <a:pt x="714" y="763"/>
                  </a:lnTo>
                  <a:lnTo>
                    <a:pt x="721" y="789"/>
                  </a:lnTo>
                  <a:lnTo>
                    <a:pt x="727" y="802"/>
                  </a:lnTo>
                  <a:lnTo>
                    <a:pt x="734" y="815"/>
                  </a:lnTo>
                  <a:lnTo>
                    <a:pt x="740" y="828"/>
                  </a:lnTo>
                  <a:lnTo>
                    <a:pt x="747" y="828"/>
                  </a:lnTo>
                  <a:lnTo>
                    <a:pt x="753" y="821"/>
                  </a:lnTo>
                  <a:lnTo>
                    <a:pt x="760" y="808"/>
                  </a:lnTo>
                  <a:lnTo>
                    <a:pt x="766" y="789"/>
                  </a:lnTo>
                  <a:lnTo>
                    <a:pt x="773" y="770"/>
                  </a:lnTo>
                  <a:lnTo>
                    <a:pt x="773" y="744"/>
                  </a:lnTo>
                  <a:lnTo>
                    <a:pt x="779" y="712"/>
                  </a:lnTo>
                  <a:lnTo>
                    <a:pt x="786" y="681"/>
                  </a:lnTo>
                  <a:lnTo>
                    <a:pt x="792" y="642"/>
                  </a:lnTo>
                  <a:lnTo>
                    <a:pt x="799" y="603"/>
                  </a:lnTo>
                  <a:lnTo>
                    <a:pt x="805" y="558"/>
                  </a:lnTo>
                  <a:lnTo>
                    <a:pt x="812" y="513"/>
                  </a:lnTo>
                  <a:lnTo>
                    <a:pt x="812" y="468"/>
                  </a:lnTo>
                  <a:lnTo>
                    <a:pt x="818" y="423"/>
                  </a:lnTo>
                  <a:lnTo>
                    <a:pt x="825" y="378"/>
                  </a:lnTo>
                  <a:lnTo>
                    <a:pt x="831" y="333"/>
                  </a:lnTo>
                  <a:lnTo>
                    <a:pt x="838" y="288"/>
                  </a:lnTo>
                  <a:lnTo>
                    <a:pt x="844" y="244"/>
                  </a:lnTo>
                  <a:lnTo>
                    <a:pt x="844" y="205"/>
                  </a:lnTo>
                  <a:lnTo>
                    <a:pt x="851" y="167"/>
                  </a:lnTo>
                  <a:lnTo>
                    <a:pt x="857" y="128"/>
                  </a:lnTo>
                  <a:lnTo>
                    <a:pt x="864" y="96"/>
                  </a:lnTo>
                  <a:lnTo>
                    <a:pt x="870" y="70"/>
                  </a:lnTo>
                  <a:lnTo>
                    <a:pt x="877" y="45"/>
                  </a:lnTo>
                  <a:lnTo>
                    <a:pt x="883" y="25"/>
                  </a:lnTo>
                  <a:lnTo>
                    <a:pt x="883" y="12"/>
                  </a:lnTo>
                  <a:lnTo>
                    <a:pt x="890" y="6"/>
                  </a:lnTo>
                  <a:lnTo>
                    <a:pt x="896" y="0"/>
                  </a:lnTo>
                  <a:lnTo>
                    <a:pt x="903" y="0"/>
                  </a:lnTo>
                  <a:lnTo>
                    <a:pt x="909" y="6"/>
                  </a:lnTo>
                  <a:lnTo>
                    <a:pt x="916" y="19"/>
                  </a:lnTo>
                  <a:lnTo>
                    <a:pt x="916" y="38"/>
                  </a:lnTo>
                  <a:lnTo>
                    <a:pt x="923" y="57"/>
                  </a:lnTo>
                  <a:lnTo>
                    <a:pt x="929" y="83"/>
                  </a:lnTo>
                  <a:lnTo>
                    <a:pt x="936" y="115"/>
                  </a:lnTo>
                  <a:lnTo>
                    <a:pt x="942" y="148"/>
                  </a:lnTo>
                  <a:lnTo>
                    <a:pt x="949" y="186"/>
                  </a:lnTo>
                  <a:lnTo>
                    <a:pt x="954" y="225"/>
                  </a:lnTo>
                  <a:lnTo>
                    <a:pt x="954" y="269"/>
                  </a:lnTo>
                  <a:lnTo>
                    <a:pt x="960" y="314"/>
                  </a:lnTo>
                  <a:lnTo>
                    <a:pt x="967" y="359"/>
                  </a:lnTo>
                  <a:lnTo>
                    <a:pt x="973" y="404"/>
                  </a:lnTo>
                  <a:lnTo>
                    <a:pt x="980" y="449"/>
                  </a:lnTo>
                  <a:lnTo>
                    <a:pt x="987" y="494"/>
                  </a:lnTo>
                  <a:lnTo>
                    <a:pt x="987" y="539"/>
                  </a:lnTo>
                  <a:lnTo>
                    <a:pt x="993" y="584"/>
                  </a:lnTo>
                  <a:lnTo>
                    <a:pt x="1000" y="629"/>
                  </a:lnTo>
                  <a:lnTo>
                    <a:pt x="1006" y="668"/>
                  </a:lnTo>
                  <a:lnTo>
                    <a:pt x="1013" y="699"/>
                  </a:lnTo>
                  <a:lnTo>
                    <a:pt x="1019" y="731"/>
                  </a:lnTo>
                  <a:lnTo>
                    <a:pt x="1026" y="763"/>
                  </a:lnTo>
                  <a:lnTo>
                    <a:pt x="1026" y="782"/>
                  </a:lnTo>
                  <a:lnTo>
                    <a:pt x="1032" y="802"/>
                  </a:lnTo>
                  <a:lnTo>
                    <a:pt x="1039" y="815"/>
                  </a:lnTo>
                  <a:lnTo>
                    <a:pt x="1045" y="828"/>
                  </a:lnTo>
                  <a:lnTo>
                    <a:pt x="1052" y="828"/>
                  </a:lnTo>
                  <a:lnTo>
                    <a:pt x="1058" y="828"/>
                  </a:lnTo>
                  <a:lnTo>
                    <a:pt x="1058" y="821"/>
                  </a:lnTo>
                  <a:lnTo>
                    <a:pt x="1065" y="808"/>
                  </a:lnTo>
                  <a:lnTo>
                    <a:pt x="1071" y="789"/>
                  </a:lnTo>
                  <a:lnTo>
                    <a:pt x="1078" y="763"/>
                  </a:lnTo>
                  <a:lnTo>
                    <a:pt x="1084" y="737"/>
                  </a:lnTo>
                  <a:lnTo>
                    <a:pt x="1091" y="705"/>
                  </a:lnTo>
                  <a:lnTo>
                    <a:pt x="1097" y="668"/>
                  </a:lnTo>
                  <a:lnTo>
                    <a:pt x="1097" y="629"/>
                  </a:lnTo>
                  <a:lnTo>
                    <a:pt x="1104" y="590"/>
                  </a:lnTo>
                  <a:lnTo>
                    <a:pt x="1110" y="545"/>
                  </a:lnTo>
                  <a:lnTo>
                    <a:pt x="1117" y="500"/>
                  </a:lnTo>
                  <a:lnTo>
                    <a:pt x="1123" y="449"/>
                  </a:lnTo>
                  <a:lnTo>
                    <a:pt x="1130" y="404"/>
                  </a:lnTo>
                  <a:lnTo>
                    <a:pt x="1130" y="352"/>
                  </a:lnTo>
                  <a:lnTo>
                    <a:pt x="1136" y="307"/>
                  </a:lnTo>
                  <a:lnTo>
                    <a:pt x="1143" y="262"/>
                  </a:lnTo>
                  <a:lnTo>
                    <a:pt x="1149" y="218"/>
                  </a:lnTo>
                  <a:lnTo>
                    <a:pt x="1156" y="180"/>
                  </a:lnTo>
                  <a:lnTo>
                    <a:pt x="1162" y="141"/>
                  </a:lnTo>
                  <a:lnTo>
                    <a:pt x="1169" y="109"/>
                  </a:lnTo>
                  <a:lnTo>
                    <a:pt x="1169" y="77"/>
                  </a:lnTo>
                  <a:lnTo>
                    <a:pt x="1175" y="51"/>
                  </a:lnTo>
                  <a:lnTo>
                    <a:pt x="1182" y="32"/>
                  </a:lnTo>
                  <a:lnTo>
                    <a:pt x="1188" y="12"/>
                  </a:lnTo>
                  <a:lnTo>
                    <a:pt x="1195" y="6"/>
                  </a:lnTo>
                  <a:lnTo>
                    <a:pt x="1201" y="0"/>
                  </a:lnTo>
                  <a:lnTo>
                    <a:pt x="1208" y="6"/>
                  </a:lnTo>
                  <a:lnTo>
                    <a:pt x="1214" y="19"/>
                  </a:lnTo>
                  <a:lnTo>
                    <a:pt x="1221" y="38"/>
                  </a:lnTo>
                  <a:lnTo>
                    <a:pt x="1227" y="64"/>
                  </a:lnTo>
                  <a:lnTo>
                    <a:pt x="1234" y="96"/>
                  </a:lnTo>
                  <a:lnTo>
                    <a:pt x="1240" y="128"/>
                  </a:lnTo>
                  <a:lnTo>
                    <a:pt x="1240" y="167"/>
                  </a:lnTo>
                  <a:lnTo>
                    <a:pt x="1247" y="212"/>
                  </a:lnTo>
                  <a:lnTo>
                    <a:pt x="1253" y="256"/>
                  </a:lnTo>
                  <a:lnTo>
                    <a:pt x="1260" y="301"/>
                  </a:lnTo>
                  <a:lnTo>
                    <a:pt x="1266" y="352"/>
                  </a:lnTo>
                  <a:lnTo>
                    <a:pt x="1273" y="404"/>
                  </a:lnTo>
                  <a:lnTo>
                    <a:pt x="1273" y="455"/>
                  </a:lnTo>
                  <a:lnTo>
                    <a:pt x="1279" y="507"/>
                  </a:lnTo>
                  <a:lnTo>
                    <a:pt x="1286" y="558"/>
                  </a:lnTo>
                  <a:lnTo>
                    <a:pt x="1292" y="610"/>
                  </a:lnTo>
                  <a:lnTo>
                    <a:pt x="1299" y="655"/>
                  </a:lnTo>
                  <a:lnTo>
                    <a:pt x="1305" y="693"/>
                  </a:lnTo>
                  <a:lnTo>
                    <a:pt x="1312" y="731"/>
                  </a:lnTo>
                  <a:lnTo>
                    <a:pt x="1312" y="763"/>
                  </a:lnTo>
                  <a:lnTo>
                    <a:pt x="1318" y="789"/>
                  </a:lnTo>
                  <a:lnTo>
                    <a:pt x="1325" y="808"/>
                  </a:lnTo>
                  <a:lnTo>
                    <a:pt x="1331" y="821"/>
                  </a:lnTo>
                  <a:lnTo>
                    <a:pt x="1338" y="828"/>
                  </a:lnTo>
                  <a:lnTo>
                    <a:pt x="1344" y="821"/>
                  </a:lnTo>
                  <a:lnTo>
                    <a:pt x="1344" y="808"/>
                  </a:lnTo>
                  <a:lnTo>
                    <a:pt x="1351" y="782"/>
                  </a:lnTo>
                  <a:lnTo>
                    <a:pt x="1357" y="750"/>
                  </a:lnTo>
                  <a:lnTo>
                    <a:pt x="1364" y="712"/>
                  </a:lnTo>
                  <a:lnTo>
                    <a:pt x="1370" y="655"/>
                  </a:lnTo>
                  <a:lnTo>
                    <a:pt x="1377" y="590"/>
                  </a:lnTo>
                  <a:lnTo>
                    <a:pt x="1383" y="520"/>
                  </a:lnTo>
                  <a:lnTo>
                    <a:pt x="1383" y="436"/>
                  </a:lnTo>
                  <a:lnTo>
                    <a:pt x="1390" y="339"/>
                  </a:lnTo>
                  <a:lnTo>
                    <a:pt x="1396" y="238"/>
                  </a:lnTo>
                  <a:lnTo>
                    <a:pt x="1403" y="122"/>
                  </a:lnTo>
                  <a:lnTo>
                    <a:pt x="1410" y="0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875200" y="3701880"/>
              <a:ext cx="888840" cy="1315800"/>
            </a:xfrm>
            <a:custGeom>
              <a:avLst/>
              <a:gdLst/>
              <a:ahLst/>
              <a:rect l="l" t="t" r="r" b="b"/>
              <a:pathLst>
                <a:path w="560" h="829">
                  <a:moveTo>
                    <a:pt x="0" y="763"/>
                  </a:moveTo>
                  <a:lnTo>
                    <a:pt x="6" y="610"/>
                  </a:lnTo>
                  <a:lnTo>
                    <a:pt x="6" y="475"/>
                  </a:lnTo>
                  <a:lnTo>
                    <a:pt x="11" y="359"/>
                  </a:lnTo>
                  <a:lnTo>
                    <a:pt x="18" y="256"/>
                  </a:lnTo>
                  <a:lnTo>
                    <a:pt x="24" y="173"/>
                  </a:lnTo>
                  <a:lnTo>
                    <a:pt x="31" y="109"/>
                  </a:lnTo>
                  <a:lnTo>
                    <a:pt x="37" y="64"/>
                  </a:lnTo>
                  <a:lnTo>
                    <a:pt x="44" y="25"/>
                  </a:lnTo>
                  <a:lnTo>
                    <a:pt x="44" y="6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4" y="19"/>
                  </a:lnTo>
                  <a:lnTo>
                    <a:pt x="70" y="45"/>
                  </a:lnTo>
                  <a:lnTo>
                    <a:pt x="77" y="77"/>
                  </a:lnTo>
                  <a:lnTo>
                    <a:pt x="77" y="115"/>
                  </a:lnTo>
                  <a:lnTo>
                    <a:pt x="83" y="160"/>
                  </a:lnTo>
                  <a:lnTo>
                    <a:pt x="90" y="212"/>
                  </a:lnTo>
                  <a:lnTo>
                    <a:pt x="96" y="262"/>
                  </a:lnTo>
                  <a:lnTo>
                    <a:pt x="103" y="320"/>
                  </a:lnTo>
                  <a:lnTo>
                    <a:pt x="109" y="378"/>
                  </a:lnTo>
                  <a:lnTo>
                    <a:pt x="109" y="436"/>
                  </a:lnTo>
                  <a:lnTo>
                    <a:pt x="116" y="494"/>
                  </a:lnTo>
                  <a:lnTo>
                    <a:pt x="122" y="545"/>
                  </a:lnTo>
                  <a:lnTo>
                    <a:pt x="129" y="597"/>
                  </a:lnTo>
                  <a:lnTo>
                    <a:pt x="135" y="642"/>
                  </a:lnTo>
                  <a:lnTo>
                    <a:pt x="142" y="687"/>
                  </a:lnTo>
                  <a:lnTo>
                    <a:pt x="148" y="725"/>
                  </a:lnTo>
                  <a:lnTo>
                    <a:pt x="148" y="757"/>
                  </a:lnTo>
                  <a:lnTo>
                    <a:pt x="155" y="782"/>
                  </a:lnTo>
                  <a:lnTo>
                    <a:pt x="161" y="802"/>
                  </a:lnTo>
                  <a:lnTo>
                    <a:pt x="168" y="815"/>
                  </a:lnTo>
                  <a:lnTo>
                    <a:pt x="174" y="828"/>
                  </a:lnTo>
                  <a:lnTo>
                    <a:pt x="181" y="828"/>
                  </a:lnTo>
                  <a:lnTo>
                    <a:pt x="181" y="821"/>
                  </a:lnTo>
                  <a:lnTo>
                    <a:pt x="187" y="815"/>
                  </a:lnTo>
                  <a:lnTo>
                    <a:pt x="194" y="795"/>
                  </a:lnTo>
                  <a:lnTo>
                    <a:pt x="200" y="776"/>
                  </a:lnTo>
                  <a:lnTo>
                    <a:pt x="207" y="744"/>
                  </a:lnTo>
                  <a:lnTo>
                    <a:pt x="213" y="718"/>
                  </a:lnTo>
                  <a:lnTo>
                    <a:pt x="220" y="681"/>
                  </a:lnTo>
                  <a:lnTo>
                    <a:pt x="220" y="642"/>
                  </a:lnTo>
                  <a:lnTo>
                    <a:pt x="226" y="597"/>
                  </a:lnTo>
                  <a:lnTo>
                    <a:pt x="233" y="558"/>
                  </a:lnTo>
                  <a:lnTo>
                    <a:pt x="239" y="513"/>
                  </a:lnTo>
                  <a:lnTo>
                    <a:pt x="246" y="462"/>
                  </a:lnTo>
                  <a:lnTo>
                    <a:pt x="252" y="417"/>
                  </a:lnTo>
                  <a:lnTo>
                    <a:pt x="252" y="372"/>
                  </a:lnTo>
                  <a:lnTo>
                    <a:pt x="259" y="327"/>
                  </a:lnTo>
                  <a:lnTo>
                    <a:pt x="265" y="282"/>
                  </a:lnTo>
                  <a:lnTo>
                    <a:pt x="272" y="238"/>
                  </a:lnTo>
                  <a:lnTo>
                    <a:pt x="278" y="199"/>
                  </a:lnTo>
                  <a:lnTo>
                    <a:pt x="285" y="160"/>
                  </a:lnTo>
                  <a:lnTo>
                    <a:pt x="291" y="128"/>
                  </a:lnTo>
                  <a:lnTo>
                    <a:pt x="291" y="96"/>
                  </a:lnTo>
                  <a:lnTo>
                    <a:pt x="298" y="70"/>
                  </a:lnTo>
                  <a:lnTo>
                    <a:pt x="305" y="45"/>
                  </a:lnTo>
                  <a:lnTo>
                    <a:pt x="311" y="32"/>
                  </a:lnTo>
                  <a:lnTo>
                    <a:pt x="318" y="12"/>
                  </a:lnTo>
                  <a:lnTo>
                    <a:pt x="324" y="6"/>
                  </a:lnTo>
                  <a:lnTo>
                    <a:pt x="324" y="0"/>
                  </a:lnTo>
                  <a:lnTo>
                    <a:pt x="331" y="0"/>
                  </a:lnTo>
                  <a:lnTo>
                    <a:pt x="337" y="6"/>
                  </a:lnTo>
                  <a:lnTo>
                    <a:pt x="344" y="12"/>
                  </a:lnTo>
                  <a:lnTo>
                    <a:pt x="350" y="25"/>
                  </a:lnTo>
                  <a:lnTo>
                    <a:pt x="357" y="38"/>
                  </a:lnTo>
                  <a:lnTo>
                    <a:pt x="363" y="57"/>
                  </a:lnTo>
                  <a:lnTo>
                    <a:pt x="363" y="77"/>
                  </a:lnTo>
                  <a:lnTo>
                    <a:pt x="370" y="102"/>
                  </a:lnTo>
                  <a:lnTo>
                    <a:pt x="376" y="128"/>
                  </a:lnTo>
                  <a:lnTo>
                    <a:pt x="383" y="160"/>
                  </a:lnTo>
                  <a:lnTo>
                    <a:pt x="389" y="193"/>
                  </a:lnTo>
                  <a:lnTo>
                    <a:pt x="396" y="225"/>
                  </a:lnTo>
                  <a:lnTo>
                    <a:pt x="396" y="256"/>
                  </a:lnTo>
                  <a:lnTo>
                    <a:pt x="402" y="288"/>
                  </a:lnTo>
                  <a:lnTo>
                    <a:pt x="409" y="327"/>
                  </a:lnTo>
                  <a:lnTo>
                    <a:pt x="415" y="359"/>
                  </a:lnTo>
                  <a:lnTo>
                    <a:pt x="422" y="397"/>
                  </a:lnTo>
                  <a:lnTo>
                    <a:pt x="428" y="430"/>
                  </a:lnTo>
                  <a:lnTo>
                    <a:pt x="435" y="462"/>
                  </a:lnTo>
                  <a:lnTo>
                    <a:pt x="435" y="494"/>
                  </a:lnTo>
                  <a:lnTo>
                    <a:pt x="441" y="526"/>
                  </a:lnTo>
                  <a:lnTo>
                    <a:pt x="448" y="558"/>
                  </a:lnTo>
                  <a:lnTo>
                    <a:pt x="454" y="584"/>
                  </a:lnTo>
                  <a:lnTo>
                    <a:pt x="461" y="610"/>
                  </a:lnTo>
                  <a:lnTo>
                    <a:pt x="467" y="636"/>
                  </a:lnTo>
                  <a:lnTo>
                    <a:pt x="467" y="661"/>
                  </a:lnTo>
                  <a:lnTo>
                    <a:pt x="474" y="687"/>
                  </a:lnTo>
                  <a:lnTo>
                    <a:pt x="480" y="705"/>
                  </a:lnTo>
                  <a:lnTo>
                    <a:pt x="487" y="725"/>
                  </a:lnTo>
                  <a:lnTo>
                    <a:pt x="493" y="737"/>
                  </a:lnTo>
                  <a:lnTo>
                    <a:pt x="500" y="757"/>
                  </a:lnTo>
                  <a:lnTo>
                    <a:pt x="506" y="770"/>
                  </a:lnTo>
                  <a:lnTo>
                    <a:pt x="506" y="776"/>
                  </a:lnTo>
                  <a:lnTo>
                    <a:pt x="513" y="789"/>
                  </a:lnTo>
                  <a:lnTo>
                    <a:pt x="519" y="802"/>
                  </a:lnTo>
                  <a:lnTo>
                    <a:pt x="526" y="808"/>
                  </a:lnTo>
                  <a:lnTo>
                    <a:pt x="532" y="815"/>
                  </a:lnTo>
                  <a:lnTo>
                    <a:pt x="539" y="815"/>
                  </a:lnTo>
                  <a:lnTo>
                    <a:pt x="539" y="821"/>
                  </a:lnTo>
                  <a:lnTo>
                    <a:pt x="545" y="828"/>
                  </a:lnTo>
                  <a:lnTo>
                    <a:pt x="552" y="828"/>
                  </a:lnTo>
                  <a:lnTo>
                    <a:pt x="559" y="828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532880" y="4817880"/>
              <a:ext cx="718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32880" y="3446280"/>
              <a:ext cx="642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,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15880" y="5020920"/>
              <a:ext cx="4422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15880" y="3700080"/>
              <a:ext cx="4422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319480" y="2198520"/>
            <a:ext cx="6010920" cy="3546360"/>
            <a:chOff x="2319480" y="2198520"/>
            <a:chExt cx="6010920" cy="3546360"/>
          </a:xfrm>
        </p:grpSpPr>
        <p:grpSp>
          <p:nvGrpSpPr>
            <p:cNvPr id="568" name=""/>
            <p:cNvGrpSpPr/>
            <p:nvPr/>
          </p:nvGrpSpPr>
          <p:grpSpPr>
            <a:xfrm>
              <a:off x="2319480" y="2970000"/>
              <a:ext cx="4424400" cy="2774880"/>
              <a:chOff x="2319480" y="2970000"/>
              <a:chExt cx="4424400" cy="2774880"/>
            </a:xfrm>
          </p:grpSpPr>
          <p:sp>
            <p:nvSpPr>
              <p:cNvPr id="569" name=""/>
              <p:cNvSpPr/>
              <p:nvPr/>
            </p:nvSpPr>
            <p:spPr>
              <a:xfrm>
                <a:off x="2319480" y="2970000"/>
                <a:ext cx="878040" cy="2774880"/>
              </a:xfrm>
              <a:custGeom>
                <a:avLst/>
                <a:gdLst/>
                <a:ahLst/>
                <a:rect l="l" t="t" r="r" b="b"/>
                <a:pathLst>
                  <a:path w="553" h="1748">
                    <a:moveTo>
                      <a:pt x="0" y="1747"/>
                    </a:moveTo>
                    <a:lnTo>
                      <a:pt x="6" y="1740"/>
                    </a:lnTo>
                    <a:lnTo>
                      <a:pt x="12" y="1740"/>
                    </a:lnTo>
                    <a:lnTo>
                      <a:pt x="19" y="1727"/>
                    </a:lnTo>
                    <a:lnTo>
                      <a:pt x="19" y="1714"/>
                    </a:lnTo>
                    <a:lnTo>
                      <a:pt x="25" y="1702"/>
                    </a:lnTo>
                    <a:lnTo>
                      <a:pt x="32" y="1682"/>
                    </a:lnTo>
                    <a:lnTo>
                      <a:pt x="38" y="1663"/>
                    </a:lnTo>
                    <a:lnTo>
                      <a:pt x="45" y="1637"/>
                    </a:lnTo>
                    <a:lnTo>
                      <a:pt x="51" y="1605"/>
                    </a:lnTo>
                    <a:lnTo>
                      <a:pt x="51" y="1581"/>
                    </a:lnTo>
                    <a:lnTo>
                      <a:pt x="57" y="1542"/>
                    </a:lnTo>
                    <a:lnTo>
                      <a:pt x="64" y="1510"/>
                    </a:lnTo>
                    <a:lnTo>
                      <a:pt x="70" y="1472"/>
                    </a:lnTo>
                    <a:lnTo>
                      <a:pt x="77" y="1433"/>
                    </a:lnTo>
                    <a:lnTo>
                      <a:pt x="83" y="1388"/>
                    </a:lnTo>
                    <a:lnTo>
                      <a:pt x="90" y="1343"/>
                    </a:lnTo>
                    <a:lnTo>
                      <a:pt x="90" y="1299"/>
                    </a:lnTo>
                    <a:lnTo>
                      <a:pt x="96" y="1247"/>
                    </a:lnTo>
                    <a:lnTo>
                      <a:pt x="103" y="1202"/>
                    </a:lnTo>
                    <a:lnTo>
                      <a:pt x="109" y="1152"/>
                    </a:lnTo>
                    <a:lnTo>
                      <a:pt x="115" y="1101"/>
                    </a:lnTo>
                    <a:lnTo>
                      <a:pt x="122" y="1049"/>
                    </a:lnTo>
                    <a:lnTo>
                      <a:pt x="122" y="992"/>
                    </a:lnTo>
                    <a:lnTo>
                      <a:pt x="128" y="940"/>
                    </a:lnTo>
                    <a:lnTo>
                      <a:pt x="135" y="889"/>
                    </a:lnTo>
                    <a:lnTo>
                      <a:pt x="141" y="838"/>
                    </a:lnTo>
                    <a:lnTo>
                      <a:pt x="148" y="786"/>
                    </a:lnTo>
                    <a:lnTo>
                      <a:pt x="154" y="735"/>
                    </a:lnTo>
                    <a:lnTo>
                      <a:pt x="161" y="685"/>
                    </a:lnTo>
                    <a:lnTo>
                      <a:pt x="161" y="634"/>
                    </a:lnTo>
                    <a:lnTo>
                      <a:pt x="167" y="582"/>
                    </a:lnTo>
                    <a:lnTo>
                      <a:pt x="173" y="537"/>
                    </a:lnTo>
                    <a:lnTo>
                      <a:pt x="180" y="486"/>
                    </a:lnTo>
                    <a:lnTo>
                      <a:pt x="186" y="441"/>
                    </a:lnTo>
                    <a:lnTo>
                      <a:pt x="193" y="396"/>
                    </a:lnTo>
                    <a:lnTo>
                      <a:pt x="193" y="358"/>
                    </a:lnTo>
                    <a:lnTo>
                      <a:pt x="199" y="319"/>
                    </a:lnTo>
                    <a:lnTo>
                      <a:pt x="206" y="281"/>
                    </a:lnTo>
                    <a:lnTo>
                      <a:pt x="212" y="243"/>
                    </a:lnTo>
                    <a:lnTo>
                      <a:pt x="219" y="211"/>
                    </a:lnTo>
                    <a:lnTo>
                      <a:pt x="225" y="179"/>
                    </a:lnTo>
                    <a:lnTo>
                      <a:pt x="231" y="153"/>
                    </a:lnTo>
                    <a:lnTo>
                      <a:pt x="231" y="128"/>
                    </a:lnTo>
                    <a:lnTo>
                      <a:pt x="238" y="102"/>
                    </a:lnTo>
                    <a:lnTo>
                      <a:pt x="244" y="83"/>
                    </a:lnTo>
                    <a:lnTo>
                      <a:pt x="251" y="64"/>
                    </a:lnTo>
                    <a:lnTo>
                      <a:pt x="257" y="51"/>
                    </a:lnTo>
                    <a:lnTo>
                      <a:pt x="264" y="32"/>
                    </a:lnTo>
                    <a:lnTo>
                      <a:pt x="264" y="25"/>
                    </a:lnTo>
                    <a:lnTo>
                      <a:pt x="270" y="12"/>
                    </a:lnTo>
                    <a:lnTo>
                      <a:pt x="277" y="6"/>
                    </a:lnTo>
                    <a:lnTo>
                      <a:pt x="283" y="6"/>
                    </a:lnTo>
                    <a:lnTo>
                      <a:pt x="289" y="0"/>
                    </a:lnTo>
                    <a:lnTo>
                      <a:pt x="296" y="0"/>
                    </a:lnTo>
                    <a:lnTo>
                      <a:pt x="302" y="6"/>
                    </a:lnTo>
                    <a:lnTo>
                      <a:pt x="309" y="12"/>
                    </a:lnTo>
                    <a:lnTo>
                      <a:pt x="315" y="25"/>
                    </a:lnTo>
                    <a:lnTo>
                      <a:pt x="322" y="32"/>
                    </a:lnTo>
                    <a:lnTo>
                      <a:pt x="328" y="44"/>
                    </a:lnTo>
                    <a:lnTo>
                      <a:pt x="335" y="57"/>
                    </a:lnTo>
                    <a:lnTo>
                      <a:pt x="335" y="70"/>
                    </a:lnTo>
                    <a:lnTo>
                      <a:pt x="341" y="89"/>
                    </a:lnTo>
                    <a:lnTo>
                      <a:pt x="347" y="109"/>
                    </a:lnTo>
                    <a:lnTo>
                      <a:pt x="354" y="128"/>
                    </a:lnTo>
                    <a:lnTo>
                      <a:pt x="360" y="147"/>
                    </a:lnTo>
                    <a:lnTo>
                      <a:pt x="367" y="166"/>
                    </a:lnTo>
                    <a:lnTo>
                      <a:pt x="373" y="186"/>
                    </a:lnTo>
                    <a:lnTo>
                      <a:pt x="373" y="211"/>
                    </a:lnTo>
                    <a:lnTo>
                      <a:pt x="380" y="230"/>
                    </a:lnTo>
                    <a:lnTo>
                      <a:pt x="386" y="256"/>
                    </a:lnTo>
                    <a:lnTo>
                      <a:pt x="393" y="281"/>
                    </a:lnTo>
                    <a:lnTo>
                      <a:pt x="399" y="306"/>
                    </a:lnTo>
                    <a:lnTo>
                      <a:pt x="405" y="332"/>
                    </a:lnTo>
                    <a:lnTo>
                      <a:pt x="405" y="364"/>
                    </a:lnTo>
                    <a:lnTo>
                      <a:pt x="412" y="390"/>
                    </a:lnTo>
                    <a:lnTo>
                      <a:pt x="418" y="415"/>
                    </a:lnTo>
                    <a:lnTo>
                      <a:pt x="425" y="447"/>
                    </a:lnTo>
                    <a:lnTo>
                      <a:pt x="431" y="480"/>
                    </a:lnTo>
                    <a:lnTo>
                      <a:pt x="438" y="512"/>
                    </a:lnTo>
                    <a:lnTo>
                      <a:pt x="443" y="544"/>
                    </a:lnTo>
                    <a:lnTo>
                      <a:pt x="443" y="576"/>
                    </a:lnTo>
                    <a:lnTo>
                      <a:pt x="449" y="608"/>
                    </a:lnTo>
                    <a:lnTo>
                      <a:pt x="456" y="646"/>
                    </a:lnTo>
                    <a:lnTo>
                      <a:pt x="462" y="685"/>
                    </a:lnTo>
                    <a:lnTo>
                      <a:pt x="469" y="722"/>
                    </a:lnTo>
                    <a:lnTo>
                      <a:pt x="475" y="761"/>
                    </a:lnTo>
                    <a:lnTo>
                      <a:pt x="475" y="806"/>
                    </a:lnTo>
                    <a:lnTo>
                      <a:pt x="482" y="851"/>
                    </a:lnTo>
                    <a:lnTo>
                      <a:pt x="488" y="895"/>
                    </a:lnTo>
                    <a:lnTo>
                      <a:pt x="495" y="947"/>
                    </a:lnTo>
                    <a:lnTo>
                      <a:pt x="501" y="998"/>
                    </a:lnTo>
                    <a:lnTo>
                      <a:pt x="507" y="1049"/>
                    </a:lnTo>
                    <a:lnTo>
                      <a:pt x="507" y="1107"/>
                    </a:lnTo>
                    <a:lnTo>
                      <a:pt x="514" y="1170"/>
                    </a:lnTo>
                    <a:lnTo>
                      <a:pt x="520" y="1234"/>
                    </a:lnTo>
                    <a:lnTo>
                      <a:pt x="527" y="1299"/>
                    </a:lnTo>
                    <a:lnTo>
                      <a:pt x="533" y="1376"/>
                    </a:lnTo>
                    <a:lnTo>
                      <a:pt x="540" y="1452"/>
                    </a:lnTo>
                    <a:lnTo>
                      <a:pt x="546" y="1529"/>
                    </a:lnTo>
                    <a:lnTo>
                      <a:pt x="546" y="1618"/>
                    </a:lnTo>
                    <a:lnTo>
                      <a:pt x="552" y="1738"/>
                    </a:lnTo>
                  </a:path>
                </a:pathLst>
              </a:custGeom>
              <a:noFill/>
              <a:ln cap="rnd" w="25560">
                <a:solidFill>
                  <a:srgbClr val="00ff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421080" y="2970000"/>
                <a:ext cx="2219400" cy="2774880"/>
              </a:xfrm>
              <a:custGeom>
                <a:avLst/>
                <a:gdLst/>
                <a:ahLst/>
                <a:rect l="l" t="t" r="r" b="b"/>
                <a:pathLst>
                  <a:path w="1398" h="1748">
                    <a:moveTo>
                      <a:pt x="0" y="0"/>
                    </a:moveTo>
                    <a:lnTo>
                      <a:pt x="6" y="64"/>
                    </a:lnTo>
                    <a:lnTo>
                      <a:pt x="12" y="128"/>
                    </a:lnTo>
                    <a:lnTo>
                      <a:pt x="19" y="186"/>
                    </a:lnTo>
                    <a:lnTo>
                      <a:pt x="25" y="250"/>
                    </a:lnTo>
                    <a:lnTo>
                      <a:pt x="25" y="313"/>
                    </a:lnTo>
                    <a:lnTo>
                      <a:pt x="32" y="377"/>
                    </a:lnTo>
                    <a:lnTo>
                      <a:pt x="38" y="441"/>
                    </a:lnTo>
                    <a:lnTo>
                      <a:pt x="45" y="505"/>
                    </a:lnTo>
                    <a:lnTo>
                      <a:pt x="51" y="569"/>
                    </a:lnTo>
                    <a:lnTo>
                      <a:pt x="58" y="634"/>
                    </a:lnTo>
                    <a:lnTo>
                      <a:pt x="64" y="698"/>
                    </a:lnTo>
                    <a:lnTo>
                      <a:pt x="64" y="761"/>
                    </a:lnTo>
                    <a:lnTo>
                      <a:pt x="70" y="818"/>
                    </a:lnTo>
                    <a:lnTo>
                      <a:pt x="77" y="883"/>
                    </a:lnTo>
                    <a:lnTo>
                      <a:pt x="83" y="940"/>
                    </a:lnTo>
                    <a:lnTo>
                      <a:pt x="90" y="1005"/>
                    </a:lnTo>
                    <a:lnTo>
                      <a:pt x="96" y="1062"/>
                    </a:lnTo>
                    <a:lnTo>
                      <a:pt x="96" y="1120"/>
                    </a:lnTo>
                    <a:lnTo>
                      <a:pt x="103" y="1170"/>
                    </a:lnTo>
                    <a:lnTo>
                      <a:pt x="109" y="1222"/>
                    </a:lnTo>
                    <a:lnTo>
                      <a:pt x="116" y="1273"/>
                    </a:lnTo>
                    <a:lnTo>
                      <a:pt x="122" y="1324"/>
                    </a:lnTo>
                    <a:lnTo>
                      <a:pt x="128" y="1376"/>
                    </a:lnTo>
                    <a:lnTo>
                      <a:pt x="135" y="1420"/>
                    </a:lnTo>
                    <a:lnTo>
                      <a:pt x="135" y="1459"/>
                    </a:lnTo>
                    <a:lnTo>
                      <a:pt x="141" y="1504"/>
                    </a:lnTo>
                    <a:lnTo>
                      <a:pt x="148" y="1536"/>
                    </a:lnTo>
                    <a:lnTo>
                      <a:pt x="154" y="1574"/>
                    </a:lnTo>
                    <a:lnTo>
                      <a:pt x="161" y="1605"/>
                    </a:lnTo>
                    <a:lnTo>
                      <a:pt x="167" y="1631"/>
                    </a:lnTo>
                    <a:lnTo>
                      <a:pt x="167" y="1657"/>
                    </a:lnTo>
                    <a:lnTo>
                      <a:pt x="174" y="1682"/>
                    </a:lnTo>
                    <a:lnTo>
                      <a:pt x="180" y="1702"/>
                    </a:lnTo>
                    <a:lnTo>
                      <a:pt x="186" y="1714"/>
                    </a:lnTo>
                    <a:lnTo>
                      <a:pt x="193" y="1727"/>
                    </a:lnTo>
                    <a:lnTo>
                      <a:pt x="199" y="1740"/>
                    </a:lnTo>
                    <a:lnTo>
                      <a:pt x="206" y="1747"/>
                    </a:lnTo>
                    <a:lnTo>
                      <a:pt x="212" y="1747"/>
                    </a:lnTo>
                    <a:lnTo>
                      <a:pt x="219" y="1740"/>
                    </a:lnTo>
                    <a:lnTo>
                      <a:pt x="225" y="1734"/>
                    </a:lnTo>
                    <a:lnTo>
                      <a:pt x="232" y="1721"/>
                    </a:lnTo>
                    <a:lnTo>
                      <a:pt x="238" y="1708"/>
                    </a:lnTo>
                    <a:lnTo>
                      <a:pt x="238" y="1689"/>
                    </a:lnTo>
                    <a:lnTo>
                      <a:pt x="245" y="1670"/>
                    </a:lnTo>
                    <a:lnTo>
                      <a:pt x="251" y="1644"/>
                    </a:lnTo>
                    <a:lnTo>
                      <a:pt x="257" y="1618"/>
                    </a:lnTo>
                    <a:lnTo>
                      <a:pt x="264" y="1594"/>
                    </a:lnTo>
                    <a:lnTo>
                      <a:pt x="270" y="1562"/>
                    </a:lnTo>
                    <a:lnTo>
                      <a:pt x="277" y="1523"/>
                    </a:lnTo>
                    <a:lnTo>
                      <a:pt x="277" y="1485"/>
                    </a:lnTo>
                    <a:lnTo>
                      <a:pt x="283" y="1446"/>
                    </a:lnTo>
                    <a:lnTo>
                      <a:pt x="290" y="1401"/>
                    </a:lnTo>
                    <a:lnTo>
                      <a:pt x="296" y="1356"/>
                    </a:lnTo>
                    <a:lnTo>
                      <a:pt x="303" y="1311"/>
                    </a:lnTo>
                    <a:lnTo>
                      <a:pt x="309" y="1266"/>
                    </a:lnTo>
                    <a:lnTo>
                      <a:pt x="309" y="1215"/>
                    </a:lnTo>
                    <a:lnTo>
                      <a:pt x="315" y="1164"/>
                    </a:lnTo>
                    <a:lnTo>
                      <a:pt x="322" y="1114"/>
                    </a:lnTo>
                    <a:lnTo>
                      <a:pt x="328" y="1062"/>
                    </a:lnTo>
                    <a:lnTo>
                      <a:pt x="335" y="1005"/>
                    </a:lnTo>
                    <a:lnTo>
                      <a:pt x="341" y="953"/>
                    </a:lnTo>
                    <a:lnTo>
                      <a:pt x="347" y="895"/>
                    </a:lnTo>
                    <a:lnTo>
                      <a:pt x="347" y="844"/>
                    </a:lnTo>
                    <a:lnTo>
                      <a:pt x="353" y="786"/>
                    </a:lnTo>
                    <a:lnTo>
                      <a:pt x="359" y="735"/>
                    </a:lnTo>
                    <a:lnTo>
                      <a:pt x="366" y="678"/>
                    </a:lnTo>
                    <a:lnTo>
                      <a:pt x="372" y="627"/>
                    </a:lnTo>
                    <a:lnTo>
                      <a:pt x="379" y="576"/>
                    </a:lnTo>
                    <a:lnTo>
                      <a:pt x="379" y="524"/>
                    </a:lnTo>
                    <a:lnTo>
                      <a:pt x="385" y="473"/>
                    </a:lnTo>
                    <a:lnTo>
                      <a:pt x="392" y="428"/>
                    </a:lnTo>
                    <a:lnTo>
                      <a:pt x="398" y="377"/>
                    </a:lnTo>
                    <a:lnTo>
                      <a:pt x="405" y="332"/>
                    </a:lnTo>
                    <a:lnTo>
                      <a:pt x="411" y="294"/>
                    </a:lnTo>
                    <a:lnTo>
                      <a:pt x="418" y="256"/>
                    </a:lnTo>
                    <a:lnTo>
                      <a:pt x="418" y="218"/>
                    </a:lnTo>
                    <a:lnTo>
                      <a:pt x="424" y="179"/>
                    </a:lnTo>
                    <a:lnTo>
                      <a:pt x="430" y="147"/>
                    </a:lnTo>
                    <a:lnTo>
                      <a:pt x="437" y="121"/>
                    </a:lnTo>
                    <a:lnTo>
                      <a:pt x="443" y="96"/>
                    </a:lnTo>
                    <a:lnTo>
                      <a:pt x="450" y="70"/>
                    </a:lnTo>
                    <a:lnTo>
                      <a:pt x="450" y="51"/>
                    </a:lnTo>
                    <a:lnTo>
                      <a:pt x="456" y="32"/>
                    </a:lnTo>
                    <a:lnTo>
                      <a:pt x="463" y="19"/>
                    </a:lnTo>
                    <a:lnTo>
                      <a:pt x="469" y="12"/>
                    </a:lnTo>
                    <a:lnTo>
                      <a:pt x="476" y="6"/>
                    </a:lnTo>
                    <a:lnTo>
                      <a:pt x="482" y="0"/>
                    </a:lnTo>
                    <a:lnTo>
                      <a:pt x="488" y="0"/>
                    </a:lnTo>
                    <a:lnTo>
                      <a:pt x="488" y="6"/>
                    </a:lnTo>
                    <a:lnTo>
                      <a:pt x="495" y="12"/>
                    </a:lnTo>
                    <a:lnTo>
                      <a:pt x="501" y="25"/>
                    </a:lnTo>
                    <a:lnTo>
                      <a:pt x="508" y="38"/>
                    </a:lnTo>
                    <a:lnTo>
                      <a:pt x="514" y="57"/>
                    </a:lnTo>
                    <a:lnTo>
                      <a:pt x="521" y="83"/>
                    </a:lnTo>
                    <a:lnTo>
                      <a:pt x="521" y="109"/>
                    </a:lnTo>
                    <a:lnTo>
                      <a:pt x="527" y="134"/>
                    </a:lnTo>
                    <a:lnTo>
                      <a:pt x="534" y="166"/>
                    </a:lnTo>
                    <a:lnTo>
                      <a:pt x="540" y="198"/>
                    </a:lnTo>
                    <a:lnTo>
                      <a:pt x="546" y="237"/>
                    </a:lnTo>
                    <a:lnTo>
                      <a:pt x="553" y="274"/>
                    </a:lnTo>
                    <a:lnTo>
                      <a:pt x="559" y="313"/>
                    </a:lnTo>
                    <a:lnTo>
                      <a:pt x="559" y="358"/>
                    </a:lnTo>
                    <a:lnTo>
                      <a:pt x="566" y="409"/>
                    </a:lnTo>
                    <a:lnTo>
                      <a:pt x="572" y="454"/>
                    </a:lnTo>
                    <a:lnTo>
                      <a:pt x="579" y="505"/>
                    </a:lnTo>
                    <a:lnTo>
                      <a:pt x="585" y="557"/>
                    </a:lnTo>
                    <a:lnTo>
                      <a:pt x="592" y="608"/>
                    </a:lnTo>
                    <a:lnTo>
                      <a:pt x="592" y="666"/>
                    </a:lnTo>
                    <a:lnTo>
                      <a:pt x="598" y="716"/>
                    </a:lnTo>
                    <a:lnTo>
                      <a:pt x="605" y="774"/>
                    </a:lnTo>
                    <a:lnTo>
                      <a:pt x="611" y="831"/>
                    </a:lnTo>
                    <a:lnTo>
                      <a:pt x="617" y="883"/>
                    </a:lnTo>
                    <a:lnTo>
                      <a:pt x="624" y="940"/>
                    </a:lnTo>
                    <a:lnTo>
                      <a:pt x="630" y="998"/>
                    </a:lnTo>
                    <a:lnTo>
                      <a:pt x="630" y="1049"/>
                    </a:lnTo>
                    <a:lnTo>
                      <a:pt x="637" y="1107"/>
                    </a:lnTo>
                    <a:lnTo>
                      <a:pt x="643" y="1157"/>
                    </a:lnTo>
                    <a:lnTo>
                      <a:pt x="650" y="1215"/>
                    </a:lnTo>
                    <a:lnTo>
                      <a:pt x="656" y="1266"/>
                    </a:lnTo>
                    <a:lnTo>
                      <a:pt x="663" y="1311"/>
                    </a:lnTo>
                    <a:lnTo>
                      <a:pt x="663" y="1363"/>
                    </a:lnTo>
                    <a:lnTo>
                      <a:pt x="669" y="1408"/>
                    </a:lnTo>
                    <a:lnTo>
                      <a:pt x="675" y="1452"/>
                    </a:lnTo>
                    <a:lnTo>
                      <a:pt x="682" y="1491"/>
                    </a:lnTo>
                    <a:lnTo>
                      <a:pt x="688" y="1529"/>
                    </a:lnTo>
                    <a:lnTo>
                      <a:pt x="695" y="1568"/>
                    </a:lnTo>
                    <a:lnTo>
                      <a:pt x="701" y="1600"/>
                    </a:lnTo>
                    <a:lnTo>
                      <a:pt x="701" y="1625"/>
                    </a:lnTo>
                    <a:lnTo>
                      <a:pt x="708" y="1657"/>
                    </a:lnTo>
                    <a:lnTo>
                      <a:pt x="714" y="1676"/>
                    </a:lnTo>
                    <a:lnTo>
                      <a:pt x="721" y="1695"/>
                    </a:lnTo>
                    <a:lnTo>
                      <a:pt x="727" y="1714"/>
                    </a:lnTo>
                    <a:lnTo>
                      <a:pt x="733" y="1727"/>
                    </a:lnTo>
                    <a:lnTo>
                      <a:pt x="733" y="1740"/>
                    </a:lnTo>
                    <a:lnTo>
                      <a:pt x="740" y="1740"/>
                    </a:lnTo>
                    <a:lnTo>
                      <a:pt x="746" y="1747"/>
                    </a:lnTo>
                    <a:lnTo>
                      <a:pt x="753" y="1747"/>
                    </a:lnTo>
                    <a:lnTo>
                      <a:pt x="759" y="1740"/>
                    </a:lnTo>
                    <a:lnTo>
                      <a:pt x="766" y="1727"/>
                    </a:lnTo>
                    <a:lnTo>
                      <a:pt x="766" y="1714"/>
                    </a:lnTo>
                    <a:lnTo>
                      <a:pt x="772" y="1702"/>
                    </a:lnTo>
                    <a:lnTo>
                      <a:pt x="779" y="1682"/>
                    </a:lnTo>
                    <a:lnTo>
                      <a:pt x="785" y="1657"/>
                    </a:lnTo>
                    <a:lnTo>
                      <a:pt x="791" y="1631"/>
                    </a:lnTo>
                    <a:lnTo>
                      <a:pt x="798" y="1600"/>
                    </a:lnTo>
                    <a:lnTo>
                      <a:pt x="804" y="1568"/>
                    </a:lnTo>
                    <a:lnTo>
                      <a:pt x="804" y="1536"/>
                    </a:lnTo>
                    <a:lnTo>
                      <a:pt x="811" y="1497"/>
                    </a:lnTo>
                    <a:lnTo>
                      <a:pt x="817" y="1452"/>
                    </a:lnTo>
                    <a:lnTo>
                      <a:pt x="824" y="1408"/>
                    </a:lnTo>
                    <a:lnTo>
                      <a:pt x="830" y="1363"/>
                    </a:lnTo>
                    <a:lnTo>
                      <a:pt x="837" y="1318"/>
                    </a:lnTo>
                    <a:lnTo>
                      <a:pt x="837" y="1266"/>
                    </a:lnTo>
                    <a:lnTo>
                      <a:pt x="843" y="1215"/>
                    </a:lnTo>
                    <a:lnTo>
                      <a:pt x="850" y="1157"/>
                    </a:lnTo>
                    <a:lnTo>
                      <a:pt x="856" y="1107"/>
                    </a:lnTo>
                    <a:lnTo>
                      <a:pt x="862" y="1049"/>
                    </a:lnTo>
                    <a:lnTo>
                      <a:pt x="869" y="992"/>
                    </a:lnTo>
                    <a:lnTo>
                      <a:pt x="875" y="934"/>
                    </a:lnTo>
                    <a:lnTo>
                      <a:pt x="875" y="876"/>
                    </a:lnTo>
                    <a:lnTo>
                      <a:pt x="882" y="825"/>
                    </a:lnTo>
                    <a:lnTo>
                      <a:pt x="888" y="767"/>
                    </a:lnTo>
                    <a:lnTo>
                      <a:pt x="895" y="709"/>
                    </a:lnTo>
                    <a:lnTo>
                      <a:pt x="901" y="653"/>
                    </a:lnTo>
                    <a:lnTo>
                      <a:pt x="908" y="595"/>
                    </a:lnTo>
                    <a:lnTo>
                      <a:pt x="908" y="544"/>
                    </a:lnTo>
                    <a:lnTo>
                      <a:pt x="914" y="492"/>
                    </a:lnTo>
                    <a:lnTo>
                      <a:pt x="920" y="441"/>
                    </a:lnTo>
                    <a:lnTo>
                      <a:pt x="927" y="390"/>
                    </a:lnTo>
                    <a:lnTo>
                      <a:pt x="933" y="345"/>
                    </a:lnTo>
                    <a:lnTo>
                      <a:pt x="940" y="300"/>
                    </a:lnTo>
                    <a:lnTo>
                      <a:pt x="945" y="256"/>
                    </a:lnTo>
                    <a:lnTo>
                      <a:pt x="945" y="218"/>
                    </a:lnTo>
                    <a:lnTo>
                      <a:pt x="952" y="179"/>
                    </a:lnTo>
                    <a:lnTo>
                      <a:pt x="958" y="147"/>
                    </a:lnTo>
                    <a:lnTo>
                      <a:pt x="965" y="115"/>
                    </a:lnTo>
                    <a:lnTo>
                      <a:pt x="971" y="89"/>
                    </a:lnTo>
                    <a:lnTo>
                      <a:pt x="977" y="64"/>
                    </a:lnTo>
                    <a:lnTo>
                      <a:pt x="977" y="44"/>
                    </a:lnTo>
                    <a:lnTo>
                      <a:pt x="984" y="32"/>
                    </a:lnTo>
                    <a:lnTo>
                      <a:pt x="990" y="19"/>
                    </a:lnTo>
                    <a:lnTo>
                      <a:pt x="997" y="6"/>
                    </a:lnTo>
                    <a:lnTo>
                      <a:pt x="1003" y="6"/>
                    </a:lnTo>
                    <a:lnTo>
                      <a:pt x="1010" y="0"/>
                    </a:lnTo>
                    <a:lnTo>
                      <a:pt x="1016" y="6"/>
                    </a:lnTo>
                    <a:lnTo>
                      <a:pt x="1016" y="12"/>
                    </a:lnTo>
                    <a:lnTo>
                      <a:pt x="1023" y="19"/>
                    </a:lnTo>
                    <a:lnTo>
                      <a:pt x="1029" y="38"/>
                    </a:lnTo>
                    <a:lnTo>
                      <a:pt x="1035" y="57"/>
                    </a:lnTo>
                    <a:lnTo>
                      <a:pt x="1042" y="76"/>
                    </a:lnTo>
                    <a:lnTo>
                      <a:pt x="1048" y="102"/>
                    </a:lnTo>
                    <a:lnTo>
                      <a:pt x="1048" y="128"/>
                    </a:lnTo>
                    <a:lnTo>
                      <a:pt x="1055" y="166"/>
                    </a:lnTo>
                    <a:lnTo>
                      <a:pt x="1061" y="198"/>
                    </a:lnTo>
                    <a:lnTo>
                      <a:pt x="1068" y="237"/>
                    </a:lnTo>
                    <a:lnTo>
                      <a:pt x="1074" y="281"/>
                    </a:lnTo>
                    <a:lnTo>
                      <a:pt x="1081" y="326"/>
                    </a:lnTo>
                    <a:lnTo>
                      <a:pt x="1087" y="370"/>
                    </a:lnTo>
                    <a:lnTo>
                      <a:pt x="1087" y="422"/>
                    </a:lnTo>
                    <a:lnTo>
                      <a:pt x="1093" y="473"/>
                    </a:lnTo>
                    <a:lnTo>
                      <a:pt x="1100" y="524"/>
                    </a:lnTo>
                    <a:lnTo>
                      <a:pt x="1106" y="582"/>
                    </a:lnTo>
                    <a:lnTo>
                      <a:pt x="1113" y="640"/>
                    </a:lnTo>
                    <a:lnTo>
                      <a:pt x="1119" y="698"/>
                    </a:lnTo>
                    <a:lnTo>
                      <a:pt x="1119" y="754"/>
                    </a:lnTo>
                    <a:lnTo>
                      <a:pt x="1126" y="818"/>
                    </a:lnTo>
                    <a:lnTo>
                      <a:pt x="1132" y="876"/>
                    </a:lnTo>
                    <a:lnTo>
                      <a:pt x="1139" y="940"/>
                    </a:lnTo>
                    <a:lnTo>
                      <a:pt x="1145" y="998"/>
                    </a:lnTo>
                    <a:lnTo>
                      <a:pt x="1151" y="1056"/>
                    </a:lnTo>
                    <a:lnTo>
                      <a:pt x="1158" y="1120"/>
                    </a:lnTo>
                    <a:lnTo>
                      <a:pt x="1158" y="1177"/>
                    </a:lnTo>
                    <a:lnTo>
                      <a:pt x="1164" y="1228"/>
                    </a:lnTo>
                    <a:lnTo>
                      <a:pt x="1171" y="1286"/>
                    </a:lnTo>
                    <a:lnTo>
                      <a:pt x="1177" y="1337"/>
                    </a:lnTo>
                    <a:lnTo>
                      <a:pt x="1184" y="1388"/>
                    </a:lnTo>
                    <a:lnTo>
                      <a:pt x="1190" y="1440"/>
                    </a:lnTo>
                    <a:lnTo>
                      <a:pt x="1190" y="1485"/>
                    </a:lnTo>
                    <a:lnTo>
                      <a:pt x="1197" y="1529"/>
                    </a:lnTo>
                    <a:lnTo>
                      <a:pt x="1203" y="1568"/>
                    </a:lnTo>
                    <a:lnTo>
                      <a:pt x="1210" y="1605"/>
                    </a:lnTo>
                    <a:lnTo>
                      <a:pt x="1216" y="1637"/>
                    </a:lnTo>
                    <a:lnTo>
                      <a:pt x="1222" y="1663"/>
                    </a:lnTo>
                    <a:lnTo>
                      <a:pt x="1229" y="1689"/>
                    </a:lnTo>
                    <a:lnTo>
                      <a:pt x="1229" y="1708"/>
                    </a:lnTo>
                    <a:lnTo>
                      <a:pt x="1235" y="1727"/>
                    </a:lnTo>
                    <a:lnTo>
                      <a:pt x="1242" y="1740"/>
                    </a:lnTo>
                    <a:lnTo>
                      <a:pt x="1248" y="1747"/>
                    </a:lnTo>
                    <a:lnTo>
                      <a:pt x="1255" y="1747"/>
                    </a:lnTo>
                    <a:lnTo>
                      <a:pt x="1261" y="1740"/>
                    </a:lnTo>
                    <a:lnTo>
                      <a:pt x="1261" y="1734"/>
                    </a:lnTo>
                    <a:lnTo>
                      <a:pt x="1268" y="1721"/>
                    </a:lnTo>
                    <a:lnTo>
                      <a:pt x="1274" y="1702"/>
                    </a:lnTo>
                    <a:lnTo>
                      <a:pt x="1280" y="1676"/>
                    </a:lnTo>
                    <a:lnTo>
                      <a:pt x="1287" y="1644"/>
                    </a:lnTo>
                    <a:lnTo>
                      <a:pt x="1293" y="1612"/>
                    </a:lnTo>
                    <a:lnTo>
                      <a:pt x="1300" y="1568"/>
                    </a:lnTo>
                    <a:lnTo>
                      <a:pt x="1300" y="1523"/>
                    </a:lnTo>
                    <a:lnTo>
                      <a:pt x="1306" y="1472"/>
                    </a:lnTo>
                    <a:lnTo>
                      <a:pt x="1313" y="1414"/>
                    </a:lnTo>
                    <a:lnTo>
                      <a:pt x="1319" y="1350"/>
                    </a:lnTo>
                    <a:lnTo>
                      <a:pt x="1326" y="1279"/>
                    </a:lnTo>
                    <a:lnTo>
                      <a:pt x="1332" y="1209"/>
                    </a:lnTo>
                    <a:lnTo>
                      <a:pt x="1332" y="1133"/>
                    </a:lnTo>
                    <a:lnTo>
                      <a:pt x="1338" y="1049"/>
                    </a:lnTo>
                    <a:lnTo>
                      <a:pt x="1345" y="960"/>
                    </a:lnTo>
                    <a:lnTo>
                      <a:pt x="1351" y="870"/>
                    </a:lnTo>
                    <a:lnTo>
                      <a:pt x="1358" y="774"/>
                    </a:lnTo>
                    <a:lnTo>
                      <a:pt x="1364" y="678"/>
                    </a:lnTo>
                    <a:lnTo>
                      <a:pt x="1371" y="569"/>
                    </a:lnTo>
                    <a:lnTo>
                      <a:pt x="1371" y="460"/>
                    </a:lnTo>
                    <a:lnTo>
                      <a:pt x="1377" y="351"/>
                    </a:lnTo>
                    <a:lnTo>
                      <a:pt x="1384" y="237"/>
                    </a:lnTo>
                    <a:lnTo>
                      <a:pt x="1390" y="121"/>
                    </a:lnTo>
                    <a:lnTo>
                      <a:pt x="1397" y="0"/>
                    </a:lnTo>
                  </a:path>
                </a:pathLst>
              </a:custGeom>
              <a:noFill/>
              <a:ln cap="rnd" w="25560">
                <a:solidFill>
                  <a:srgbClr val="00ff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857920" y="2970000"/>
                <a:ext cx="885960" cy="2774880"/>
              </a:xfrm>
              <a:custGeom>
                <a:avLst/>
                <a:gdLst/>
                <a:ahLst/>
                <a:rect l="l" t="t" r="r" b="b"/>
                <a:pathLst>
                  <a:path w="558" h="1748">
                    <a:moveTo>
                      <a:pt x="0" y="1740"/>
                    </a:moveTo>
                    <a:lnTo>
                      <a:pt x="10" y="1504"/>
                    </a:lnTo>
                    <a:lnTo>
                      <a:pt x="10" y="1343"/>
                    </a:lnTo>
                    <a:lnTo>
                      <a:pt x="16" y="1189"/>
                    </a:lnTo>
                    <a:lnTo>
                      <a:pt x="22" y="1043"/>
                    </a:lnTo>
                    <a:lnTo>
                      <a:pt x="28" y="908"/>
                    </a:lnTo>
                    <a:lnTo>
                      <a:pt x="35" y="786"/>
                    </a:lnTo>
                    <a:lnTo>
                      <a:pt x="41" y="672"/>
                    </a:lnTo>
                    <a:lnTo>
                      <a:pt x="48" y="563"/>
                    </a:lnTo>
                    <a:lnTo>
                      <a:pt x="48" y="467"/>
                    </a:lnTo>
                    <a:lnTo>
                      <a:pt x="54" y="377"/>
                    </a:lnTo>
                    <a:lnTo>
                      <a:pt x="61" y="300"/>
                    </a:lnTo>
                    <a:lnTo>
                      <a:pt x="67" y="237"/>
                    </a:lnTo>
                    <a:lnTo>
                      <a:pt x="74" y="173"/>
                    </a:lnTo>
                    <a:lnTo>
                      <a:pt x="80" y="121"/>
                    </a:lnTo>
                    <a:lnTo>
                      <a:pt x="80" y="83"/>
                    </a:lnTo>
                    <a:lnTo>
                      <a:pt x="86" y="51"/>
                    </a:lnTo>
                    <a:lnTo>
                      <a:pt x="93" y="25"/>
                    </a:lnTo>
                    <a:lnTo>
                      <a:pt x="99" y="12"/>
                    </a:lnTo>
                    <a:lnTo>
                      <a:pt x="106" y="6"/>
                    </a:lnTo>
                    <a:lnTo>
                      <a:pt x="101" y="4"/>
                    </a:lnTo>
                    <a:lnTo>
                      <a:pt x="112" y="12"/>
                    </a:lnTo>
                    <a:lnTo>
                      <a:pt x="119" y="25"/>
                    </a:lnTo>
                    <a:lnTo>
                      <a:pt x="125" y="44"/>
                    </a:lnTo>
                    <a:lnTo>
                      <a:pt x="132" y="70"/>
                    </a:lnTo>
                    <a:lnTo>
                      <a:pt x="138" y="102"/>
                    </a:lnTo>
                    <a:lnTo>
                      <a:pt x="144" y="141"/>
                    </a:lnTo>
                    <a:lnTo>
                      <a:pt x="151" y="186"/>
                    </a:lnTo>
                    <a:lnTo>
                      <a:pt x="151" y="237"/>
                    </a:lnTo>
                    <a:lnTo>
                      <a:pt x="157" y="287"/>
                    </a:lnTo>
                    <a:lnTo>
                      <a:pt x="164" y="345"/>
                    </a:lnTo>
                    <a:lnTo>
                      <a:pt x="170" y="403"/>
                    </a:lnTo>
                    <a:lnTo>
                      <a:pt x="177" y="460"/>
                    </a:lnTo>
                    <a:lnTo>
                      <a:pt x="183" y="524"/>
                    </a:lnTo>
                    <a:lnTo>
                      <a:pt x="183" y="595"/>
                    </a:lnTo>
                    <a:lnTo>
                      <a:pt x="189" y="659"/>
                    </a:lnTo>
                    <a:lnTo>
                      <a:pt x="196" y="729"/>
                    </a:lnTo>
                    <a:lnTo>
                      <a:pt x="202" y="799"/>
                    </a:lnTo>
                    <a:lnTo>
                      <a:pt x="209" y="870"/>
                    </a:lnTo>
                    <a:lnTo>
                      <a:pt x="215" y="934"/>
                    </a:lnTo>
                    <a:lnTo>
                      <a:pt x="222" y="1005"/>
                    </a:lnTo>
                    <a:lnTo>
                      <a:pt x="222" y="1075"/>
                    </a:lnTo>
                    <a:lnTo>
                      <a:pt x="228" y="1139"/>
                    </a:lnTo>
                    <a:lnTo>
                      <a:pt x="235" y="1202"/>
                    </a:lnTo>
                    <a:lnTo>
                      <a:pt x="241" y="1260"/>
                    </a:lnTo>
                    <a:lnTo>
                      <a:pt x="247" y="1324"/>
                    </a:lnTo>
                    <a:lnTo>
                      <a:pt x="254" y="1376"/>
                    </a:lnTo>
                    <a:lnTo>
                      <a:pt x="254" y="1433"/>
                    </a:lnTo>
                    <a:lnTo>
                      <a:pt x="260" y="1478"/>
                    </a:lnTo>
                    <a:lnTo>
                      <a:pt x="267" y="1523"/>
                    </a:lnTo>
                    <a:lnTo>
                      <a:pt x="273" y="1568"/>
                    </a:lnTo>
                    <a:lnTo>
                      <a:pt x="280" y="1605"/>
                    </a:lnTo>
                    <a:lnTo>
                      <a:pt x="286" y="1637"/>
                    </a:lnTo>
                    <a:lnTo>
                      <a:pt x="292" y="1670"/>
                    </a:lnTo>
                    <a:lnTo>
                      <a:pt x="292" y="1695"/>
                    </a:lnTo>
                    <a:lnTo>
                      <a:pt x="299" y="1714"/>
                    </a:lnTo>
                    <a:lnTo>
                      <a:pt x="305" y="1727"/>
                    </a:lnTo>
                    <a:lnTo>
                      <a:pt x="312" y="1740"/>
                    </a:lnTo>
                    <a:lnTo>
                      <a:pt x="318" y="1740"/>
                    </a:lnTo>
                    <a:lnTo>
                      <a:pt x="325" y="1747"/>
                    </a:lnTo>
                    <a:lnTo>
                      <a:pt x="325" y="1740"/>
                    </a:lnTo>
                    <a:lnTo>
                      <a:pt x="331" y="1734"/>
                    </a:lnTo>
                    <a:lnTo>
                      <a:pt x="338" y="1714"/>
                    </a:lnTo>
                    <a:lnTo>
                      <a:pt x="344" y="1702"/>
                    </a:lnTo>
                    <a:lnTo>
                      <a:pt x="350" y="1676"/>
                    </a:lnTo>
                    <a:lnTo>
                      <a:pt x="357" y="1650"/>
                    </a:lnTo>
                    <a:lnTo>
                      <a:pt x="363" y="1618"/>
                    </a:lnTo>
                    <a:lnTo>
                      <a:pt x="363" y="1587"/>
                    </a:lnTo>
                    <a:lnTo>
                      <a:pt x="370" y="1549"/>
                    </a:lnTo>
                    <a:lnTo>
                      <a:pt x="376" y="1504"/>
                    </a:lnTo>
                    <a:lnTo>
                      <a:pt x="383" y="1459"/>
                    </a:lnTo>
                    <a:lnTo>
                      <a:pt x="389" y="1408"/>
                    </a:lnTo>
                    <a:lnTo>
                      <a:pt x="396" y="1356"/>
                    </a:lnTo>
                    <a:lnTo>
                      <a:pt x="396" y="1305"/>
                    </a:lnTo>
                    <a:lnTo>
                      <a:pt x="402" y="1247"/>
                    </a:lnTo>
                    <a:lnTo>
                      <a:pt x="408" y="1189"/>
                    </a:lnTo>
                    <a:lnTo>
                      <a:pt x="415" y="1133"/>
                    </a:lnTo>
                    <a:lnTo>
                      <a:pt x="421" y="1069"/>
                    </a:lnTo>
                    <a:lnTo>
                      <a:pt x="428" y="1005"/>
                    </a:lnTo>
                    <a:lnTo>
                      <a:pt x="434" y="947"/>
                    </a:lnTo>
                    <a:lnTo>
                      <a:pt x="434" y="883"/>
                    </a:lnTo>
                    <a:lnTo>
                      <a:pt x="441" y="818"/>
                    </a:lnTo>
                    <a:lnTo>
                      <a:pt x="447" y="754"/>
                    </a:lnTo>
                    <a:lnTo>
                      <a:pt x="453" y="698"/>
                    </a:lnTo>
                    <a:lnTo>
                      <a:pt x="460" y="634"/>
                    </a:lnTo>
                    <a:lnTo>
                      <a:pt x="466" y="576"/>
                    </a:lnTo>
                    <a:lnTo>
                      <a:pt x="466" y="518"/>
                    </a:lnTo>
                    <a:lnTo>
                      <a:pt x="473" y="460"/>
                    </a:lnTo>
                    <a:lnTo>
                      <a:pt x="479" y="403"/>
                    </a:lnTo>
                    <a:lnTo>
                      <a:pt x="486" y="351"/>
                    </a:lnTo>
                    <a:lnTo>
                      <a:pt x="492" y="306"/>
                    </a:lnTo>
                    <a:lnTo>
                      <a:pt x="499" y="261"/>
                    </a:lnTo>
                    <a:lnTo>
                      <a:pt x="505" y="218"/>
                    </a:lnTo>
                    <a:lnTo>
                      <a:pt x="505" y="179"/>
                    </a:lnTo>
                    <a:lnTo>
                      <a:pt x="511" y="141"/>
                    </a:lnTo>
                    <a:lnTo>
                      <a:pt x="518" y="109"/>
                    </a:lnTo>
                    <a:lnTo>
                      <a:pt x="524" y="83"/>
                    </a:lnTo>
                    <a:lnTo>
                      <a:pt x="531" y="57"/>
                    </a:lnTo>
                    <a:lnTo>
                      <a:pt x="537" y="38"/>
                    </a:lnTo>
                    <a:lnTo>
                      <a:pt x="537" y="25"/>
                    </a:lnTo>
                    <a:lnTo>
                      <a:pt x="544" y="12"/>
                    </a:lnTo>
                    <a:lnTo>
                      <a:pt x="550" y="6"/>
                    </a:lnTo>
                    <a:lnTo>
                      <a:pt x="557" y="0"/>
                    </a:lnTo>
                  </a:path>
                </a:pathLst>
              </a:custGeom>
              <a:noFill/>
              <a:ln cap="rnd" w="25560">
                <a:solidFill>
                  <a:srgbClr val="00ff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 flipV="1">
              <a:off x="6091560" y="2486880"/>
              <a:ext cx="1238040" cy="7146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13040" y="2198520"/>
              <a:ext cx="1017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cc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= 2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6472440" y="3349080"/>
              <a:ext cx="799920" cy="46188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13040" y="2960280"/>
              <a:ext cx="1017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cc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= 3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Primjer korištenja MATLAB funkcije </a:t>
            </a:r>
            <a:r>
              <a:rPr b="0" lang="hr-HR" sz="4400" spc="-1" strike="noStrike">
                <a:solidFill>
                  <a:srgbClr val="00fffe"/>
                </a:solidFill>
                <a:latin typeface="Courier New"/>
              </a:rPr>
              <a:t>remez()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onačna pogreška  uz </a:t>
            </a:r>
            <a:r>
              <a:rPr b="0" i="1" lang="hr-HR" sz="2800" spc="-1" strike="noStrike">
                <a:solidFill>
                  <a:srgbClr val="ffcc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cc00"/>
                </a:solidFill>
                <a:latin typeface="Arial"/>
              </a:rPr>
              <a:t>= 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38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hr-HR" sz="2800" spc="-1" strike="noStrike">
                <a:solidFill>
                  <a:srgbClr val="ffcc00"/>
                </a:solidFill>
                <a:latin typeface="Symbol"/>
                <a:ea typeface="Symbol"/>
              </a:rPr>
              <a:t>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cc00"/>
                </a:solidFill>
                <a:latin typeface="Symbol"/>
                <a:ea typeface="Symbol"/>
              </a:rPr>
              <a:t>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cc00"/>
                </a:solidFill>
                <a:latin typeface="Symbol"/>
                <a:ea typeface="Symbol"/>
              </a:rPr>
              <a:t></a:t>
            </a:r>
            <a:r>
              <a:rPr b="0" i="1" lang="hr-HR" sz="2800" spc="-1" strike="noStrike" baseline="-25000">
                <a:solidFill>
                  <a:srgbClr val="ffcc00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cc00"/>
                </a:solidFill>
                <a:latin typeface="Symbol"/>
                <a:ea typeface="Symbol"/>
              </a:rPr>
              <a:t></a:t>
            </a:r>
            <a:r>
              <a:rPr b="0" lang="hr-HR" sz="2800" spc="-1" strike="noStrike">
                <a:solidFill>
                  <a:srgbClr val="ffcc00"/>
                </a:solidFill>
                <a:latin typeface="Times New Roman"/>
              </a:rPr>
              <a:t>0,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7AA3-6077-4F3A-8930-FC8CAE838A9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1698120" y="2390760"/>
            <a:ext cx="5232960" cy="4384080"/>
            <a:chOff x="1698120" y="2390760"/>
            <a:chExt cx="5232960" cy="4384080"/>
          </a:xfrm>
        </p:grpSpPr>
        <p:grpSp>
          <p:nvGrpSpPr>
            <p:cNvPr id="579" name=""/>
            <p:cNvGrpSpPr/>
            <p:nvPr/>
          </p:nvGrpSpPr>
          <p:grpSpPr>
            <a:xfrm>
              <a:off x="1698120" y="2390760"/>
              <a:ext cx="5232960" cy="4384080"/>
              <a:chOff x="1698120" y="2390760"/>
              <a:chExt cx="5232960" cy="438408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1698120" y="2390760"/>
                <a:ext cx="4966200" cy="4384080"/>
                <a:chOff x="1698120" y="2390760"/>
                <a:chExt cx="4966200" cy="4384080"/>
              </a:xfrm>
            </p:grpSpPr>
            <p:sp>
              <p:nvSpPr>
                <p:cNvPr id="581" name=""/>
                <p:cNvSpPr/>
                <p:nvPr/>
              </p:nvSpPr>
              <p:spPr>
                <a:xfrm flipV="1">
                  <a:off x="5477040" y="2832120"/>
                  <a:ext cx="0" cy="3078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V="1">
                  <a:off x="2954160" y="2832120"/>
                  <a:ext cx="0" cy="3078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108160" y="5910120"/>
                  <a:ext cx="4214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flipV="1">
                  <a:off x="2108160" y="2557080"/>
                  <a:ext cx="0" cy="335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6323040" y="5910120"/>
                  <a:ext cx="25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108160" y="5910120"/>
                  <a:ext cx="4214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V="1">
                  <a:off x="2108160" y="2557080"/>
                  <a:ext cx="0" cy="335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108160" y="5910120"/>
                  <a:ext cx="27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V="1">
                  <a:off x="2108160" y="5871960"/>
                  <a:ext cx="0" cy="37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V="1">
                  <a:off x="2954160" y="5871960"/>
                  <a:ext cx="0" cy="37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V="1">
                  <a:off x="3790800" y="5871960"/>
                  <a:ext cx="0" cy="37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V="1">
                  <a:off x="4637160" y="5871960"/>
                  <a:ext cx="0" cy="37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V="1">
                  <a:off x="5477040" y="5871960"/>
                  <a:ext cx="0" cy="37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flipV="1">
                  <a:off x="6323040" y="5871960"/>
                  <a:ext cx="0" cy="37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108160" y="5910120"/>
                  <a:ext cx="38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flipH="1">
                  <a:off x="6283440" y="5910120"/>
                  <a:ext cx="3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108160" y="3117960"/>
                  <a:ext cx="38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698120" y="2822400"/>
                  <a:ext cx="3373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108160" y="5910120"/>
                  <a:ext cx="4556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V="1">
                  <a:off x="2108160" y="2557080"/>
                  <a:ext cx="0" cy="335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108160" y="5910120"/>
                  <a:ext cx="27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V="1">
                  <a:off x="3159000" y="2832120"/>
                  <a:ext cx="0" cy="3078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V="1">
                  <a:off x="3587760" y="2832120"/>
                  <a:ext cx="0" cy="3078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V="1">
                  <a:off x="3790800" y="2832120"/>
                  <a:ext cx="0" cy="3078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V="1">
                  <a:off x="4219560" y="2832120"/>
                  <a:ext cx="0" cy="3078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V="1">
                  <a:off x="4424400" y="2832120"/>
                  <a:ext cx="0" cy="3078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4842000" y="2832120"/>
                  <a:ext cx="0" cy="3078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5057640" y="2832120"/>
                  <a:ext cx="0" cy="3078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V="1">
                  <a:off x="5689440" y="2832120"/>
                  <a:ext cx="0" cy="3078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V="1">
                  <a:off x="6323040" y="2832120"/>
                  <a:ext cx="0" cy="3078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1" name=""/>
                <p:cNvGrpSpPr/>
                <p:nvPr/>
              </p:nvGrpSpPr>
              <p:grpSpPr>
                <a:xfrm>
                  <a:off x="2106720" y="3121200"/>
                  <a:ext cx="4217760" cy="2790720"/>
                  <a:chOff x="2106720" y="3121200"/>
                  <a:chExt cx="4217760" cy="279072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>
                    <a:off x="3789360" y="3121200"/>
                    <a:ext cx="428760" cy="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3159000" y="5910120"/>
                    <a:ext cx="4302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">
                        <a:moveTo>
                          <a:pt x="0" y="0"/>
                        </a:moveTo>
                        <a:lnTo>
                          <a:pt x="27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507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4424400" y="5910120"/>
                    <a:ext cx="419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1">
                        <a:moveTo>
                          <a:pt x="0" y="0"/>
                        </a:moveTo>
                        <a:lnTo>
                          <a:pt x="263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507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5689440" y="5910120"/>
                    <a:ext cx="635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">
                        <a:moveTo>
                          <a:pt x="399" y="0"/>
                        </a:moveTo>
                        <a:lnTo>
                          <a:pt x="0" y="0"/>
                        </a:lnTo>
                        <a:lnTo>
                          <a:pt x="399" y="0"/>
                        </a:lnTo>
                      </a:path>
                    </a:pathLst>
                  </a:custGeom>
                  <a:noFill/>
                  <a:ln cap="rnd" w="507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106720" y="3121200"/>
                    <a:ext cx="838080" cy="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5049720" y="3121200"/>
                    <a:ext cx="430200" cy="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1942920" y="5970600"/>
                  <a:ext cx="4570920" cy="804240"/>
                  <a:chOff x="1942920" y="5970600"/>
                  <a:chExt cx="4570920" cy="804240"/>
                </a:xfrm>
              </p:grpSpPr>
              <p:grpSp>
                <p:nvGrpSpPr>
                  <p:cNvPr id="619" name=""/>
                  <p:cNvGrpSpPr/>
                  <p:nvPr/>
                </p:nvGrpSpPr>
                <p:grpSpPr>
                  <a:xfrm>
                    <a:off x="2746080" y="6316560"/>
                    <a:ext cx="3326760" cy="458280"/>
                    <a:chOff x="2746080" y="6316560"/>
                    <a:chExt cx="3326760" cy="458280"/>
                  </a:xfrm>
                </p:grpSpPr>
                <p:sp>
                  <p:nvSpPr>
                    <p:cNvPr id="620" name=""/>
                    <p:cNvSpPr/>
                    <p:nvPr/>
                  </p:nvSpPr>
                  <p:spPr>
                    <a:xfrm>
                      <a:off x="2746080" y="6316560"/>
                      <a:ext cx="718560" cy="45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3481200" y="6316560"/>
                      <a:ext cx="565920" cy="45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4032000" y="6316560"/>
                      <a:ext cx="718560" cy="45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4781160" y="6316560"/>
                      <a:ext cx="565920" cy="45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5354280" y="6316560"/>
                      <a:ext cx="718560" cy="45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5" name=""/>
                  <p:cNvGrpSpPr/>
                  <p:nvPr/>
                </p:nvGrpSpPr>
                <p:grpSpPr>
                  <a:xfrm>
                    <a:off x="1942920" y="5970600"/>
                    <a:ext cx="4570920" cy="496440"/>
                    <a:chOff x="1942920" y="5970600"/>
                    <a:chExt cx="4570920" cy="496440"/>
                  </a:xfrm>
                </p:grpSpPr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942920" y="5970600"/>
                      <a:ext cx="337320" cy="45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2649240" y="5994360"/>
                      <a:ext cx="565920" cy="45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3250800" y="5994360"/>
                      <a:ext cx="718560" cy="45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>
                      <a:off x="3938400" y="5994360"/>
                      <a:ext cx="565920" cy="45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0" name=""/>
                    <p:cNvSpPr/>
                    <p:nvPr/>
                  </p:nvSpPr>
                  <p:spPr>
                    <a:xfrm>
                      <a:off x="5171760" y="5994360"/>
                      <a:ext cx="565920" cy="45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>
                      <a:off x="6176520" y="6008760"/>
                      <a:ext cx="337320" cy="45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>
                      <a:off x="4530240" y="5987880"/>
                      <a:ext cx="718560" cy="45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33" name=""/>
                <p:cNvSpPr/>
                <p:nvPr/>
              </p:nvSpPr>
              <p:spPr>
                <a:xfrm>
                  <a:off x="2176200" y="2390760"/>
                  <a:ext cx="1004040" cy="50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hr-HR" sz="2400" spc="-1" strike="noStrike">
                      <a:solidFill>
                        <a:srgbClr val="ffff00"/>
                      </a:solidFill>
                      <a:latin typeface="Times New Roman"/>
                    </a:rPr>
                    <a:t>H</a:t>
                  </a:r>
                  <a:r>
                    <a:rPr b="0" lang="hr-HR" sz="2400" spc="-1" strike="noStrike" baseline="-25000">
                      <a:solidFill>
                        <a:srgbClr val="ffff00"/>
                      </a:solidFill>
                      <a:latin typeface="Times New Roman"/>
                    </a:rPr>
                    <a:t>d</a:t>
                  </a:r>
                  <a:r>
                    <a:rPr b="0" lang="hr-HR" sz="24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i="1" lang="hr-HR" sz="2400" spc="-1" strike="noStrike">
                      <a:solidFill>
                        <a:srgbClr val="ffff00"/>
                      </a:solidFill>
                      <a:latin typeface="Times New Roman"/>
                    </a:rPr>
                    <a:t>e</a:t>
                  </a:r>
                  <a:r>
                    <a:rPr b="0" i="1" lang="hr-HR" sz="2400" spc="-1" strike="noStrike" baseline="30000">
                      <a:solidFill>
                        <a:srgbClr val="ffff00"/>
                      </a:solidFill>
                      <a:latin typeface="Times New Roman"/>
                    </a:rPr>
                    <a:t>j</a:t>
                  </a:r>
                  <a:r>
                    <a:rPr b="0" lang="hr-HR" sz="2400" spc="-1" strike="noStrike" baseline="30000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</a:t>
                  </a:r>
                  <a:r>
                    <a:rPr b="0" lang="hr-HR" sz="24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>
                <a:off x="6537240" y="5950080"/>
                <a:ext cx="393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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2952720" y="3121200"/>
              <a:ext cx="2736720" cy="2778120"/>
              <a:chOff x="2952720" y="3121200"/>
              <a:chExt cx="2736720" cy="2778120"/>
            </a:xfrm>
          </p:grpSpPr>
          <p:sp>
            <p:nvSpPr>
              <p:cNvPr id="636" name=""/>
              <p:cNvSpPr/>
              <p:nvPr/>
            </p:nvSpPr>
            <p:spPr>
              <a:xfrm>
                <a:off x="2952720" y="3121200"/>
                <a:ext cx="203400" cy="2778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587760" y="3121200"/>
                <a:ext cx="201600" cy="2778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216320" y="3121200"/>
                <a:ext cx="206280" cy="27781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844880" y="3121200"/>
                <a:ext cx="216000" cy="27781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478480" y="3121200"/>
                <a:ext cx="210960" cy="27781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Primjer korištenja MATLAB funkcije </a:t>
            </a:r>
            <a:r>
              <a:rPr b="0" lang="hr-HR" sz="4400" spc="-1" strike="noStrike">
                <a:solidFill>
                  <a:srgbClr val="00fffe"/>
                </a:solidFill>
                <a:latin typeface="Courier New"/>
              </a:rPr>
              <a:t>remez()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jer u MATLAB-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CF6C-5BEA-4983-8DF2-49436201248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52480" y="2852640"/>
            <a:ext cx="769608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6000" spc="-1" strike="noStrike">
                <a:solidFill>
                  <a:srgbClr val="00fffe"/>
                </a:solidFill>
                <a:latin typeface="Times New Roman"/>
              </a:rPr>
              <a:t>Matlab primjeri</a:t>
            </a:r>
            <a:br>
              <a:rPr sz="6000"/>
            </a:br>
            <a:r>
              <a:rPr b="0" i="1" lang="hr-HR" sz="6000" spc="-1" strike="noStrike">
                <a:solidFill>
                  <a:srgbClr val="00fffe"/>
                </a:solidFill>
                <a:latin typeface="Times New Roman"/>
              </a:rPr>
              <a:t>(primjer i filtdemo)</a:t>
            </a:r>
            <a:endParaRPr b="0" i="1" lang="en-US" sz="60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BF24-9E5B-4B07-BD47-3BDD3530D56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Numeričko projektiranje FIR filtar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hr-HR" sz="3600" spc="-1" strike="noStrike">
                <a:solidFill>
                  <a:srgbClr val="ffffff"/>
                </a:solidFill>
                <a:latin typeface="Times New Roman"/>
              </a:rPr>
              <a:t>- frekvencijska karakteristika digitalnog filtra  </a:t>
            </a:r>
            <a:r>
              <a:rPr b="0" i="1" lang="hr-HR" sz="3600" spc="-1" strike="noStrike">
                <a:solidFill>
                  <a:srgbClr val="ffcc00"/>
                </a:solidFill>
                <a:latin typeface="Times New Roman"/>
              </a:rPr>
              <a:t>H</a:t>
            </a:r>
            <a:r>
              <a:rPr b="0" lang="hr-HR" sz="3600" spc="-1" strike="noStrike">
                <a:solidFill>
                  <a:srgbClr val="ffcc00"/>
                </a:solidFill>
                <a:latin typeface="Times New Roman"/>
              </a:rPr>
              <a:t>(</a:t>
            </a:r>
            <a:r>
              <a:rPr b="0" i="1" lang="hr-HR" sz="3600" spc="-1" strike="noStrike">
                <a:solidFill>
                  <a:srgbClr val="ffcc00"/>
                </a:solidFill>
                <a:latin typeface="Times New Roman"/>
              </a:rPr>
              <a:t>z</a:t>
            </a:r>
            <a:r>
              <a:rPr b="0" lang="hr-HR" sz="36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0" lang="hr-HR" sz="3600" spc="-1" strike="noStrike">
                <a:solidFill>
                  <a:srgbClr val="ffffff"/>
                </a:solidFill>
                <a:latin typeface="Times New Roman"/>
              </a:rPr>
              <a:t>  koja aproksimira željenu frekvencijsku karakteristiku</a:t>
            </a:r>
            <a:br>
              <a:rPr sz="3600"/>
            </a:br>
            <a:r>
              <a:rPr b="0" lang="hr-HR" sz="3600" spc="-1" strike="noStrike">
                <a:solidFill>
                  <a:srgbClr val="ffffff"/>
                </a:solidFill>
                <a:latin typeface="Times New Roman"/>
              </a:rPr>
              <a:t>           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Times New Roman"/>
              </a:rPr>
              <a:t>Primjenjuje se </a:t>
            </a:r>
            <a:r>
              <a:rPr b="0" lang="hr-HR" sz="3600" spc="-1" strike="noStrike">
                <a:solidFill>
                  <a:srgbClr val="ffff00"/>
                </a:solidFill>
                <a:latin typeface="Times New Roman"/>
              </a:rPr>
              <a:t>iterativni postupak</a:t>
            </a:r>
            <a:r>
              <a:rPr b="0" lang="hr-HR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066680" y="1752480"/>
                <a:ext cx="1446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90720" y="3352680"/>
                <a:ext cx="1371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8850-AF05-4EEA-8DAA-78597ECD59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Numeričko projektiranje FIR filtar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Iterativno se određuju koeficijenti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(z)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tako da je razlika                i                preko zatvorenih subintervala od                   minimal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Greška aproksimacije dana je 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gdje je               težinska funk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743200" y="2209680"/>
                <a:ext cx="1244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419720" y="2209680"/>
                <a:ext cx="1206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809880" y="2895480"/>
                <a:ext cx="148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ω</m:t>
                    </m:r>
                    <m:r>
                      <m:t xml:space="preserve">≤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905120" y="3886200"/>
                <a:ext cx="5473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286000" y="4495680"/>
                <a:ext cx="1244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BC5D3-B40A-4DD9-B7B2-427435337D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Numeričko projektiranje FIR filtara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ebyshev </a:t>
            </a:r>
            <a:r>
              <a:rPr b="0" lang="hr-HR" sz="3200" spc="-1" strike="noStrike">
                <a:solidFill>
                  <a:srgbClr val="ffff00"/>
                </a:solidFill>
                <a:latin typeface="Times New Roman"/>
              </a:rPr>
              <a:t>ili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minimax </a:t>
            </a: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kriterij:</a:t>
            </a:r>
            <a:br>
              <a:rPr sz="3200"/>
            </a:b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Minimizira 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maksimalna vrijednost grešk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gdje je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kup razdvojenih frekvencijskih područja unutar                  za koje je</a:t>
            </a:r>
            <a:br>
              <a:rPr sz="3200"/>
            </a:b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definir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fffe"/>
                </a:solidFill>
                <a:latin typeface="Times New Roman"/>
              </a:rPr>
              <a:t>Na</a:t>
            </a:r>
            <a:r>
              <a:rPr b="0" lang="en-US" sz="3200" spc="-1" strike="noStrike">
                <a:solidFill>
                  <a:srgbClr val="00fffe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fffe"/>
                </a:solidFill>
                <a:latin typeface="Times New Roman"/>
              </a:rPr>
              <a:t>primjer</a:t>
            </a:r>
            <a:r>
              <a:rPr b="0" lang="en-US" sz="3200" spc="-1" strike="noStrike">
                <a:solidFill>
                  <a:srgbClr val="00fffe"/>
                </a:solidFill>
                <a:latin typeface="Times New Roman"/>
              </a:rPr>
              <a:t>, </a:t>
            </a:r>
            <a:r>
              <a:rPr b="0" lang="hr-HR" sz="3200" spc="-1" strike="noStrike">
                <a:solidFill>
                  <a:srgbClr val="00fffe"/>
                </a:solidFill>
                <a:latin typeface="Times New Roman"/>
              </a:rPr>
              <a:t>za niski propust</a:t>
            </a:r>
            <a:r>
              <a:rPr b="0" lang="en-US" sz="3200" spc="-1" strike="noStrike">
                <a:solidFill>
                  <a:srgbClr val="00fffe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fffe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fffe"/>
                </a:solidFill>
                <a:latin typeface="Times New Roman"/>
              </a:rPr>
              <a:t>to područje je unija              i             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352680" y="2819520"/>
                <a:ext cx="2222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ω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733920" y="4038480"/>
                <a:ext cx="1485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ω</m:t>
                    </m:r>
                    <m:r>
                      <m:t xml:space="preserve">≤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086600" y="3886200"/>
                <a:ext cx="1206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981080" y="5486400"/>
                <a:ext cx="11178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657600" y="5486400"/>
                <a:ext cx="10666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π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8BE1-0E65-4553-B554-0061D9D2DB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Projektiranje FIR filtara jednake valovitosti (equiripple)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filtri linearne faz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rojektirani na temelju maksimalne greš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nazivaju se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equirippl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FIR fil</a:t>
            </a: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t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9ff33"/>
                </a:solidFill>
                <a:latin typeface="Times New Roman"/>
              </a:rPr>
              <a:t>Za minimizirani     funkcija greške </a:t>
            </a:r>
            <a:r>
              <a:rPr b="0" lang="en-US" sz="3200" spc="-1" strike="noStrike">
                <a:solidFill>
                  <a:srgbClr val="ffcc00"/>
                </a:solidFill>
                <a:latin typeface="ZapfChancery"/>
              </a:rPr>
              <a:t>E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99ff33"/>
                </a:solidFill>
                <a:latin typeface="Times New Roman"/>
              </a:rPr>
              <a:t>karakterizirana je jednakom valovitošću u području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809880" y="4800600"/>
                <a:ext cx="20160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352680" y="3048120"/>
                <a:ext cx="2222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ω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F595-CF87-458B-AB0B-E291B556AF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Projektiranje FIR filtara jednake valovitosti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9ff33"/>
                </a:solidFill>
                <a:latin typeface="Times New Roman"/>
              </a:rPr>
              <a:t>Opći oblik frekvencijske karakteristike kauzalnog FIR filtra duljine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i="1" lang="hr-HR" sz="3200" spc="-1" strike="noStrike">
                <a:solidFill>
                  <a:srgbClr val="ffcc00"/>
                </a:solidFill>
                <a:latin typeface="Times New Roman"/>
              </a:rPr>
              <a:t>N=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M</a:t>
            </a:r>
            <a:r>
              <a:rPr b="0" i="1" lang="hr-HR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+</a:t>
            </a:r>
            <a:r>
              <a:rPr b="0" lang="hr-HR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hr-HR" sz="3200" spc="-1" strike="noStrike">
                <a:solidFill>
                  <a:srgbClr val="99ff33"/>
                </a:solidFill>
                <a:latin typeface="Times New Roman"/>
              </a:rPr>
              <a:t> j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99ff33"/>
                </a:solidFill>
                <a:latin typeface="Times New Roman"/>
              </a:rPr>
              <a:t>gdje je           amplitudna karakteristika realna funkcija od    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Funkcija greške je tada dana 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gdje je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željena amplitudna karakteristika a            pozitivna težinska funk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63520" y="2720880"/>
          <a:ext cx="629784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2720880"/>
                    <a:ext cx="62978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86000" y="3276720"/>
                <a:ext cx="9399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˘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048120" y="3886200"/>
                <a:ext cx="29052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895480" y="4800600"/>
                <a:ext cx="4267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[</m:t>
                    </m:r>
                    <m:acc>
                      <m:accPr>
                        <m:chr m:val="˘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286000" y="5334120"/>
                <a:ext cx="9018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371600" y="5867280"/>
                <a:ext cx="9399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453400" y="4724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ZapfChancery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4C4AA-7520-4514-8DC2-1C0DB0700B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a68"/>
            </a:gs>
            <a:gs pos="50000">
              <a:srgbClr val="260c7a"/>
            </a:gs>
            <a:gs pos="100000">
              <a:srgbClr val="250a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fffe"/>
                </a:solidFill>
                <a:latin typeface="Times New Roman"/>
              </a:rPr>
              <a:t>Projektiranje FIR filtara jednake valovitosti</a:t>
            </a:r>
            <a:endParaRPr b="0" i="1" lang="en-US" sz="4400" spc="-1" strike="noStrike">
              <a:solidFill>
                <a:srgbClr val="00fff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arks-McClellan </a:t>
            </a:r>
            <a:r>
              <a:rPr b="1" lang="hr-HR" sz="3200" spc="-1" strike="noStrike">
                <a:solidFill>
                  <a:srgbClr val="ffff00"/>
                </a:solidFill>
                <a:latin typeface="Times New Roman"/>
              </a:rPr>
              <a:t>algorita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Temelji se na iterativnom podešavanju koeficijenata</a:t>
            </a:r>
            <a:br>
              <a:rPr sz="3200"/>
            </a:b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dok maksimum pogreške </a:t>
            </a:r>
            <a:r>
              <a:rPr b="0" lang="en-US" sz="3200" spc="-1" strike="noStrike">
                <a:solidFill>
                  <a:srgbClr val="ffcc00"/>
                </a:solidFill>
                <a:latin typeface="ZapfChancery"/>
              </a:rPr>
              <a:t>E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ne postane minimal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fffe"/>
                </a:solidFill>
                <a:latin typeface="Times New Roman"/>
              </a:rPr>
              <a:t>Ako maksimum od</a:t>
            </a:r>
            <a:r>
              <a:rPr b="0" lang="en-US" sz="3200" spc="-1" strike="noStrike">
                <a:solidFill>
                  <a:srgbClr val="00fffe"/>
                </a:solidFill>
                <a:latin typeface="Times New Roman"/>
              </a:rPr>
              <a:t> E(</a:t>
            </a:r>
            <a:r>
              <a:rPr b="0" lang="en-US" sz="3200" spc="-1" strike="noStrike">
                <a:solidFill>
                  <a:srgbClr val="00fffe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fffe"/>
                </a:solidFill>
                <a:latin typeface="Times New Roman"/>
              </a:rPr>
              <a:t>) </a:t>
            </a:r>
            <a:r>
              <a:rPr b="0" lang="hr-HR" sz="3200" spc="-1" strike="noStrike">
                <a:solidFill>
                  <a:srgbClr val="00fffe"/>
                </a:solidFill>
                <a:latin typeface="Times New Roman"/>
              </a:rPr>
              <a:t>u području</a:t>
            </a:r>
            <a:br>
              <a:rPr sz="3200"/>
            </a:br>
            <a:r>
              <a:rPr b="0" lang="hr-HR" sz="3200" spc="-1" strike="noStrike">
                <a:solidFill>
                  <a:srgbClr val="00fffe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fffe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fffe"/>
                </a:solidFill>
                <a:latin typeface="Times New Roman"/>
              </a:rPr>
              <a:t>iznosi      , tada za apsolutnu grešku vrijed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391520" y="2286000"/>
                <a:ext cx="9396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˘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625760" y="5257800"/>
                <a:ext cx="6097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˘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ω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143000" y="4343400"/>
                <a:ext cx="19684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ω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343400" y="4343400"/>
                <a:ext cx="3808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796C-7DDC-4E27-86C4-37F9779247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5:27:48Z</dcterms:created>
  <dc:creator>ZESOI</dc:creator>
  <dc:description/>
  <dc:language>en-US</dc:language>
  <cp:lastModifiedBy>Tomislav Petkovic</cp:lastModifiedBy>
  <cp:lastPrinted>1997-10-31T14:33:10Z</cp:lastPrinted>
  <dcterms:modified xsi:type="dcterms:W3CDTF">2003-11-19T15:20:03Z</dcterms:modified>
  <cp:revision>198</cp:revision>
  <dc:subject>Digitalna obradba signala</dc:subject>
  <dc:title>Projektiranje optimalnih FIR filtara</dc:title>
</cp:coreProperties>
</file>