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93E-44E8-4970-AB8B-B5B4182B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972-3EC2-4469-9FD4-42FFA232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45D-6C1C-451A-98C8-5A756961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601-3D30-4BD1-85EE-36589DEA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7570-4BAB-403F-A846-3B83C94E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342-D855-4B55-9A93-4BEDF0A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3B58-4707-4ECB-B804-ADFADF27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A17F-9FEB-45DC-A2B5-5351E9C7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E3C-D66A-4230-BDC8-841C4B1D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09FB-628F-4C15-B15A-17CBBB02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CA6F-7D0F-478B-8F8A-2B07CBA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9D4-7BA8-4D0A-80FE-64DC3FED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267E-D6F2-433F-AD94-09EB431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B9EF-4517-4CDF-8847-08DCCC1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E237-421E-4651-B858-937D096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6871-7B1A-491E-8388-8CDD02D0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AAF4-2A69-4FB9-9144-C948071D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0B0-C090-475D-B832-1893EF83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245-8D1B-499F-8002-A4F6058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BF5-2275-418E-B8D9-3DA7C75C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88C-8820-47FB-AF81-CA1DED91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377-A485-4094-AB13-C5B0392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6E1-5AD1-42BF-A0BF-FC4BD3FF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EFD-E219-4487-A5B4-72EA19D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1ABF-F475-4C46-A3D7-5D3BEBFA2790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A0C4-D0D6-407C-B35A-34C30C594963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720" y="2742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Kvantizacija filtarskih koeficijen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08040" y="243000"/>
            <a:ext cx="7635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Članov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nazivniku predstavljaju vektore od polov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 pol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79720" y="1392120"/>
            <a:ext cx="4664160" cy="3789360"/>
            <a:chOff x="2079720" y="1392120"/>
            <a:chExt cx="4664160" cy="3789360"/>
          </a:xfrm>
        </p:grpSpPr>
        <p:sp>
          <p:nvSpPr>
            <p:cNvPr id="181" name=""/>
            <p:cNvSpPr/>
            <p:nvPr/>
          </p:nvSpPr>
          <p:spPr>
            <a:xfrm>
              <a:off x="2079720" y="3262320"/>
              <a:ext cx="4664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273560" y="1392120"/>
              <a:ext cx="0" cy="378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17800" y="1968480"/>
              <a:ext cx="2718000" cy="2603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603320" y="2203560"/>
            <a:ext cx="486000" cy="255600"/>
            <a:chOff x="4603320" y="2203560"/>
            <a:chExt cx="486000" cy="255600"/>
          </a:xfrm>
        </p:grpSpPr>
        <p:grpSp>
          <p:nvGrpSpPr>
            <p:cNvPr id="185" name=""/>
            <p:cNvGrpSpPr/>
            <p:nvPr/>
          </p:nvGrpSpPr>
          <p:grpSpPr>
            <a:xfrm>
              <a:off x="4978080" y="2336400"/>
              <a:ext cx="111240" cy="92520"/>
              <a:chOff x="4978080" y="2336400"/>
              <a:chExt cx="111240" cy="9252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4978080" y="2341440"/>
                <a:ext cx="11124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4978080" y="2336400"/>
                <a:ext cx="11124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773240" y="2203560"/>
              <a:ext cx="111240" cy="91800"/>
              <a:chOff x="4773240" y="2203560"/>
              <a:chExt cx="111240" cy="918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773240" y="2208240"/>
                <a:ext cx="111240" cy="871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4773240" y="2203560"/>
                <a:ext cx="111240" cy="871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603320" y="2367000"/>
              <a:ext cx="111240" cy="92160"/>
              <a:chOff x="4603320" y="2367000"/>
              <a:chExt cx="111240" cy="9216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4603320" y="2371680"/>
                <a:ext cx="11124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4603320" y="2367000"/>
                <a:ext cx="111240" cy="871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4602240" y="4068360"/>
            <a:ext cx="485280" cy="255960"/>
            <a:chOff x="4602240" y="4068360"/>
            <a:chExt cx="485280" cy="255960"/>
          </a:xfrm>
        </p:grpSpPr>
        <p:grpSp>
          <p:nvGrpSpPr>
            <p:cNvPr id="195" name=""/>
            <p:cNvGrpSpPr/>
            <p:nvPr/>
          </p:nvGrpSpPr>
          <p:grpSpPr>
            <a:xfrm>
              <a:off x="4976280" y="4098960"/>
              <a:ext cx="111240" cy="92160"/>
              <a:chOff x="4976280" y="4098960"/>
              <a:chExt cx="111240" cy="92160"/>
            </a:xfrm>
          </p:grpSpPr>
          <p:sp>
            <p:nvSpPr>
              <p:cNvPr id="196" name=""/>
              <p:cNvSpPr/>
              <p:nvPr/>
            </p:nvSpPr>
            <p:spPr>
              <a:xfrm flipH="1" flipV="1">
                <a:off x="4976280" y="4098960"/>
                <a:ext cx="111240" cy="871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976280" y="4103640"/>
                <a:ext cx="11124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4772160" y="4231800"/>
              <a:ext cx="110880" cy="92520"/>
              <a:chOff x="4772160" y="4231800"/>
              <a:chExt cx="110880" cy="92520"/>
            </a:xfrm>
          </p:grpSpPr>
          <p:sp>
            <p:nvSpPr>
              <p:cNvPr id="199" name=""/>
              <p:cNvSpPr/>
              <p:nvPr/>
            </p:nvSpPr>
            <p:spPr>
              <a:xfrm flipH="1" flipV="1">
                <a:off x="4772160" y="4231800"/>
                <a:ext cx="11088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4772160" y="4237200"/>
                <a:ext cx="110880" cy="871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602240" y="4068360"/>
              <a:ext cx="110880" cy="92520"/>
              <a:chOff x="4602240" y="4068360"/>
              <a:chExt cx="110880" cy="92520"/>
            </a:xfrm>
          </p:grpSpPr>
          <p:sp>
            <p:nvSpPr>
              <p:cNvPr id="202" name=""/>
              <p:cNvSpPr/>
              <p:nvPr/>
            </p:nvSpPr>
            <p:spPr>
              <a:xfrm flipH="1" flipV="1">
                <a:off x="4602240" y="4068360"/>
                <a:ext cx="11088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602240" y="4073400"/>
                <a:ext cx="11088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 flipV="1">
            <a:off x="4653000" y="2390760"/>
            <a:ext cx="380880" cy="1727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33880" y="2386080"/>
            <a:ext cx="4680" cy="1760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827600" y="2385720"/>
            <a:ext cx="209520" cy="18939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656240" y="2391840"/>
            <a:ext cx="380880" cy="24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2249640"/>
            <a:ext cx="215640" cy="133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53240" y="328788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e(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82640" y="1214280"/>
            <a:ext cx="86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(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394240" y="2154240"/>
            <a:ext cx="13208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1680" y="1917720"/>
            <a:ext cx="243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dinična kruž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5120" y="5326200"/>
            <a:ext cx="893952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ko su polovi tijesno grupirani, duljina vekto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će biti mala. To će imati za posljedicu veliku osjetljivost i stoga veliku perturbacijsku grešk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74640" y="263520"/>
            <a:ext cx="75218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Greška </a:t>
            </a:r>
            <a:r>
              <a:rPr b="1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se može minimizirati maksimizacijom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 To se može postići realizacijom filtra višeg reda uz pomoć sekcija drugog re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9560" y="1633680"/>
            <a:ext cx="75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tom slučaju je svaki par kompleksnih polova realiziran nezavisno od drugih polova , te je i greška u pojedinom paru polova nezavisna od njihove udaljenosti od drugih polova fil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360" y="3538440"/>
            <a:ext cx="815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kaskadnu realizaciju isti argumenti vrijede i za nu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3400" y="4051440"/>
            <a:ext cx="732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Kaskadna realizacija je superiornija direktno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1520" y="4729320"/>
            <a:ext cx="8701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d paralelne realizacije nule se određuju implicitno. Pojedina nula osjeća kvantizacijsku pogrešku u brojniku i nazivnicima svih sekcija drugog re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pak, paralelna realizacija je puno bolja nego direkt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ealizacija sekcija II red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080" y="1943280"/>
            <a:ext cx="8700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Čak i u slučaju sekcije s dva pola, struktura koja se koristi za realizaciju te filtarske sekcije igra važnu ulogu u greškama nastalim zbog kvantizacije koeficijen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kažimo to kroz slijedeći sluča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44520" y="3789360"/>
            <a:ext cx="8274600" cy="1724040"/>
            <a:chOff x="344520" y="3789360"/>
            <a:chExt cx="8274600" cy="1724040"/>
          </a:xfrm>
        </p:grpSpPr>
        <p:sp>
          <p:nvSpPr>
            <p:cNvPr id="222" name=""/>
            <p:cNvSpPr/>
            <p:nvPr/>
          </p:nvSpPr>
          <p:spPr>
            <a:xfrm>
              <a:off x="344520" y="3789360"/>
              <a:ext cx="8274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eka je zadan filtar s dva pola čija je prijenosna funkci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870200" y="4554360"/>
                  <a:ext cx="530208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q</m:t>
                              </m:r>
                            </m:e>
                          </m:d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333360" y="5897520"/>
            <a:ext cx="5270400" cy="554040"/>
            <a:chOff x="333360" y="5897520"/>
            <a:chExt cx="5270400" cy="554040"/>
          </a:xfrm>
        </p:grpSpPr>
        <p:sp>
          <p:nvSpPr>
            <p:cNvPr id="225" name=""/>
            <p:cNvSpPr/>
            <p:nvPr/>
          </p:nvSpPr>
          <p:spPr>
            <a:xfrm>
              <a:off x="333360" y="5932440"/>
              <a:ext cx="282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jegovi polovi su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352680" y="5897520"/>
                  <a:ext cx="225108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±</m:t>
                          </m:r>
                          <m:r>
                            <m:t xml:space="preserve">j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33680" y="216000"/>
            <a:ext cx="7439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i direktnoj realizaciji sustav ima dva koeficijent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2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os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25480" y="1442880"/>
            <a:ext cx="5002200" cy="3207960"/>
            <a:chOff x="1725480" y="1442880"/>
            <a:chExt cx="5002200" cy="3207960"/>
          </a:xfrm>
        </p:grpSpPr>
        <p:grpSp>
          <p:nvGrpSpPr>
            <p:cNvPr id="229" name=""/>
            <p:cNvGrpSpPr/>
            <p:nvPr/>
          </p:nvGrpSpPr>
          <p:grpSpPr>
            <a:xfrm>
              <a:off x="2585880" y="1442880"/>
              <a:ext cx="384840" cy="519120"/>
              <a:chOff x="2585880" y="1442880"/>
              <a:chExt cx="384840" cy="519120"/>
            </a:xfrm>
          </p:grpSpPr>
          <p:sp>
            <p:nvSpPr>
              <p:cNvPr id="230" name=""/>
              <p:cNvSpPr/>
              <p:nvPr/>
            </p:nvSpPr>
            <p:spPr>
              <a:xfrm>
                <a:off x="2595600" y="1500120"/>
                <a:ext cx="355680" cy="3668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85880" y="1442880"/>
                <a:ext cx="384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585880" y="2622600"/>
              <a:ext cx="384840" cy="519120"/>
              <a:chOff x="2585880" y="2622600"/>
              <a:chExt cx="384840" cy="519120"/>
            </a:xfrm>
          </p:grpSpPr>
          <p:sp>
            <p:nvSpPr>
              <p:cNvPr id="233" name=""/>
              <p:cNvSpPr/>
              <p:nvPr/>
            </p:nvSpPr>
            <p:spPr>
              <a:xfrm>
                <a:off x="2595600" y="2679840"/>
                <a:ext cx="355680" cy="3664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85880" y="2622600"/>
                <a:ext cx="384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822920" y="1987560"/>
              <a:ext cx="807840" cy="569880"/>
              <a:chOff x="4822920" y="1987560"/>
              <a:chExt cx="807840" cy="569880"/>
            </a:xfrm>
          </p:grpSpPr>
          <p:sp>
            <p:nvSpPr>
              <p:cNvPr id="236" name=""/>
              <p:cNvSpPr/>
              <p:nvPr/>
            </p:nvSpPr>
            <p:spPr>
              <a:xfrm>
                <a:off x="4822920" y="1987560"/>
                <a:ext cx="807840" cy="56988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31000" y="2025720"/>
                <a:ext cx="514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z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822920" y="3441600"/>
              <a:ext cx="807840" cy="569880"/>
              <a:chOff x="4822920" y="3441600"/>
              <a:chExt cx="807840" cy="569880"/>
            </a:xfrm>
          </p:grpSpPr>
          <p:sp>
            <p:nvSpPr>
              <p:cNvPr id="239" name=""/>
              <p:cNvSpPr/>
              <p:nvPr/>
            </p:nvSpPr>
            <p:spPr>
              <a:xfrm>
                <a:off x="4822920" y="3441600"/>
                <a:ext cx="807840" cy="56988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31000" y="3479760"/>
                <a:ext cx="514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z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706920" y="2603520"/>
              <a:ext cx="496800" cy="558720"/>
              <a:chOff x="3706920" y="2603520"/>
              <a:chExt cx="496800" cy="558720"/>
            </a:xfrm>
          </p:grpSpPr>
          <p:sp>
            <p:nvSpPr>
              <p:cNvPr id="242" name=""/>
              <p:cNvSpPr/>
              <p:nvPr/>
            </p:nvSpPr>
            <p:spPr>
              <a:xfrm>
                <a:off x="4202280" y="2606760"/>
                <a:ext cx="0" cy="547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3714840" y="2603520"/>
                <a:ext cx="480960" cy="27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3706920" y="2876400"/>
                <a:ext cx="496800" cy="28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693600" y="4092480"/>
              <a:ext cx="497160" cy="558360"/>
              <a:chOff x="3693600" y="4092480"/>
              <a:chExt cx="497160" cy="558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189320" y="4095720"/>
                <a:ext cx="0" cy="547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01520" y="4092480"/>
                <a:ext cx="481320" cy="27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3693600" y="4365360"/>
                <a:ext cx="49716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963880" y="1701720"/>
              <a:ext cx="3763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25480" y="1701720"/>
              <a:ext cx="833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773440" y="1891800"/>
              <a:ext cx="0" cy="78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63880" y="2879640"/>
              <a:ext cx="738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03800" y="1701720"/>
              <a:ext cx="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03800" y="2593800"/>
              <a:ext cx="0" cy="83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1120" y="2879640"/>
              <a:ext cx="1000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91120" y="4392720"/>
              <a:ext cx="1000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03800" y="4035600"/>
              <a:ext cx="0" cy="35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73440" y="4368960"/>
              <a:ext cx="9349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773440" y="3071520"/>
              <a:ext cx="0" cy="132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3160" y="2119320"/>
              <a:ext cx="109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r 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cos</a:t>
              </a:r>
              <a:r>
                <a:rPr b="0" lang="hr-H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75400" y="3656160"/>
              <a:ext cx="49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0600" y="4824360"/>
            <a:ext cx="896292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kon kvantizacije koeficijenat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2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os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polovi leže na mreži u z ravnini koja je definirana presjekom koncentričnih kružnica (kvantizacij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 i vertikalnih pravaca (kvantizacij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2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os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714760" y="1366920"/>
            <a:ext cx="3782880" cy="3716280"/>
          </a:xfrm>
          <a:custGeom>
            <a:avLst/>
            <a:gdLst/>
            <a:ahLst/>
            <a:rect l="l" t="t" r="r" b="b"/>
            <a:pathLst>
              <a:path w="2383" h="2341">
                <a:moveTo>
                  <a:pt x="2382" y="1186"/>
                </a:moveTo>
                <a:lnTo>
                  <a:pt x="2343" y="1109"/>
                </a:lnTo>
                <a:lnTo>
                  <a:pt x="2343" y="1032"/>
                </a:lnTo>
                <a:lnTo>
                  <a:pt x="2343" y="955"/>
                </a:lnTo>
                <a:lnTo>
                  <a:pt x="2343" y="878"/>
                </a:lnTo>
                <a:lnTo>
                  <a:pt x="2305" y="801"/>
                </a:lnTo>
                <a:lnTo>
                  <a:pt x="2266" y="724"/>
                </a:lnTo>
                <a:lnTo>
                  <a:pt x="2266" y="647"/>
                </a:lnTo>
                <a:lnTo>
                  <a:pt x="2228" y="609"/>
                </a:lnTo>
                <a:lnTo>
                  <a:pt x="2189" y="532"/>
                </a:lnTo>
                <a:lnTo>
                  <a:pt x="2151" y="455"/>
                </a:lnTo>
                <a:lnTo>
                  <a:pt x="2074" y="416"/>
                </a:lnTo>
                <a:lnTo>
                  <a:pt x="2036" y="339"/>
                </a:lnTo>
                <a:lnTo>
                  <a:pt x="1997" y="301"/>
                </a:lnTo>
                <a:lnTo>
                  <a:pt x="1920" y="262"/>
                </a:lnTo>
                <a:lnTo>
                  <a:pt x="1882" y="185"/>
                </a:lnTo>
                <a:lnTo>
                  <a:pt x="1805" y="153"/>
                </a:lnTo>
                <a:lnTo>
                  <a:pt x="1728" y="115"/>
                </a:lnTo>
                <a:lnTo>
                  <a:pt x="1690" y="76"/>
                </a:lnTo>
                <a:lnTo>
                  <a:pt x="1613" y="76"/>
                </a:lnTo>
                <a:lnTo>
                  <a:pt x="1536" y="38"/>
                </a:lnTo>
                <a:lnTo>
                  <a:pt x="1459" y="0"/>
                </a:lnTo>
                <a:lnTo>
                  <a:pt x="1383" y="0"/>
                </a:lnTo>
                <a:lnTo>
                  <a:pt x="1306" y="0"/>
                </a:lnTo>
                <a:lnTo>
                  <a:pt x="1229" y="0"/>
                </a:lnTo>
                <a:lnTo>
                  <a:pt x="1191" y="0"/>
                </a:lnTo>
                <a:lnTo>
                  <a:pt x="1114" y="0"/>
                </a:lnTo>
                <a:lnTo>
                  <a:pt x="1037" y="0"/>
                </a:lnTo>
                <a:lnTo>
                  <a:pt x="960" y="0"/>
                </a:lnTo>
                <a:lnTo>
                  <a:pt x="883" y="0"/>
                </a:lnTo>
                <a:lnTo>
                  <a:pt x="806" y="38"/>
                </a:lnTo>
                <a:lnTo>
                  <a:pt x="729" y="76"/>
                </a:lnTo>
                <a:lnTo>
                  <a:pt x="653" y="76"/>
                </a:lnTo>
                <a:lnTo>
                  <a:pt x="614" y="115"/>
                </a:lnTo>
                <a:lnTo>
                  <a:pt x="537" y="153"/>
                </a:lnTo>
                <a:lnTo>
                  <a:pt x="461" y="185"/>
                </a:lnTo>
                <a:lnTo>
                  <a:pt x="422" y="262"/>
                </a:lnTo>
                <a:lnTo>
                  <a:pt x="345" y="301"/>
                </a:lnTo>
                <a:lnTo>
                  <a:pt x="307" y="339"/>
                </a:lnTo>
                <a:lnTo>
                  <a:pt x="268" y="416"/>
                </a:lnTo>
                <a:lnTo>
                  <a:pt x="192" y="455"/>
                </a:lnTo>
                <a:lnTo>
                  <a:pt x="153" y="532"/>
                </a:lnTo>
                <a:lnTo>
                  <a:pt x="115" y="609"/>
                </a:lnTo>
                <a:lnTo>
                  <a:pt x="76" y="647"/>
                </a:lnTo>
                <a:lnTo>
                  <a:pt x="76" y="724"/>
                </a:lnTo>
                <a:lnTo>
                  <a:pt x="38" y="801"/>
                </a:lnTo>
                <a:lnTo>
                  <a:pt x="0" y="878"/>
                </a:lnTo>
                <a:lnTo>
                  <a:pt x="0" y="955"/>
                </a:lnTo>
                <a:lnTo>
                  <a:pt x="0" y="1032"/>
                </a:lnTo>
                <a:lnTo>
                  <a:pt x="0" y="1109"/>
                </a:lnTo>
                <a:lnTo>
                  <a:pt x="0" y="1186"/>
                </a:lnTo>
                <a:lnTo>
                  <a:pt x="0" y="1224"/>
                </a:lnTo>
                <a:lnTo>
                  <a:pt x="0" y="1301"/>
                </a:lnTo>
                <a:lnTo>
                  <a:pt x="0" y="1378"/>
                </a:lnTo>
                <a:lnTo>
                  <a:pt x="0" y="1455"/>
                </a:lnTo>
                <a:lnTo>
                  <a:pt x="38" y="1532"/>
                </a:lnTo>
                <a:lnTo>
                  <a:pt x="76" y="1609"/>
                </a:lnTo>
                <a:lnTo>
                  <a:pt x="76" y="1686"/>
                </a:lnTo>
                <a:lnTo>
                  <a:pt x="115" y="1724"/>
                </a:lnTo>
                <a:lnTo>
                  <a:pt x="153" y="1801"/>
                </a:lnTo>
                <a:lnTo>
                  <a:pt x="192" y="1878"/>
                </a:lnTo>
                <a:lnTo>
                  <a:pt x="268" y="1916"/>
                </a:lnTo>
                <a:lnTo>
                  <a:pt x="307" y="1993"/>
                </a:lnTo>
                <a:lnTo>
                  <a:pt x="345" y="2032"/>
                </a:lnTo>
                <a:lnTo>
                  <a:pt x="422" y="2070"/>
                </a:lnTo>
                <a:lnTo>
                  <a:pt x="461" y="2147"/>
                </a:lnTo>
                <a:lnTo>
                  <a:pt x="537" y="2186"/>
                </a:lnTo>
                <a:lnTo>
                  <a:pt x="614" y="2224"/>
                </a:lnTo>
                <a:lnTo>
                  <a:pt x="653" y="2263"/>
                </a:lnTo>
                <a:lnTo>
                  <a:pt x="729" y="2263"/>
                </a:lnTo>
                <a:lnTo>
                  <a:pt x="806" y="2301"/>
                </a:lnTo>
                <a:lnTo>
                  <a:pt x="883" y="2340"/>
                </a:lnTo>
                <a:lnTo>
                  <a:pt x="960" y="2340"/>
                </a:lnTo>
                <a:lnTo>
                  <a:pt x="1037" y="2340"/>
                </a:lnTo>
                <a:lnTo>
                  <a:pt x="1114" y="2340"/>
                </a:lnTo>
                <a:lnTo>
                  <a:pt x="1191" y="2340"/>
                </a:lnTo>
                <a:lnTo>
                  <a:pt x="1229" y="2340"/>
                </a:lnTo>
                <a:lnTo>
                  <a:pt x="1306" y="2340"/>
                </a:lnTo>
                <a:lnTo>
                  <a:pt x="1383" y="2340"/>
                </a:lnTo>
                <a:lnTo>
                  <a:pt x="1459" y="2340"/>
                </a:lnTo>
                <a:lnTo>
                  <a:pt x="1536" y="2301"/>
                </a:lnTo>
                <a:lnTo>
                  <a:pt x="1613" y="2263"/>
                </a:lnTo>
                <a:lnTo>
                  <a:pt x="1690" y="2263"/>
                </a:lnTo>
                <a:lnTo>
                  <a:pt x="1728" y="2224"/>
                </a:lnTo>
                <a:lnTo>
                  <a:pt x="1805" y="2186"/>
                </a:lnTo>
                <a:lnTo>
                  <a:pt x="1882" y="2147"/>
                </a:lnTo>
                <a:lnTo>
                  <a:pt x="1920" y="2070"/>
                </a:lnTo>
                <a:lnTo>
                  <a:pt x="1997" y="2032"/>
                </a:lnTo>
                <a:lnTo>
                  <a:pt x="2036" y="1993"/>
                </a:lnTo>
                <a:lnTo>
                  <a:pt x="2074" y="1916"/>
                </a:lnTo>
                <a:lnTo>
                  <a:pt x="2151" y="1878"/>
                </a:lnTo>
                <a:lnTo>
                  <a:pt x="2189" y="1801"/>
                </a:lnTo>
                <a:lnTo>
                  <a:pt x="2228" y="1724"/>
                </a:lnTo>
                <a:lnTo>
                  <a:pt x="2266" y="1686"/>
                </a:lnTo>
                <a:lnTo>
                  <a:pt x="2266" y="1609"/>
                </a:lnTo>
                <a:lnTo>
                  <a:pt x="2305" y="1532"/>
                </a:lnTo>
                <a:lnTo>
                  <a:pt x="2343" y="1455"/>
                </a:lnTo>
                <a:lnTo>
                  <a:pt x="2343" y="1378"/>
                </a:lnTo>
                <a:lnTo>
                  <a:pt x="2343" y="1301"/>
                </a:lnTo>
                <a:lnTo>
                  <a:pt x="2343" y="1224"/>
                </a:lnTo>
                <a:lnTo>
                  <a:pt x="2382" y="118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8640" y="2254320"/>
            <a:ext cx="8755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89040" y="1108080"/>
            <a:ext cx="4237200" cy="4243320"/>
          </a:xfrm>
          <a:custGeom>
            <a:avLst/>
            <a:gdLst/>
            <a:ahLst/>
            <a:rect l="l" t="t" r="r" b="b"/>
            <a:pathLst>
              <a:path w="2669" h="2673">
                <a:moveTo>
                  <a:pt x="2668" y="1336"/>
                </a:moveTo>
                <a:lnTo>
                  <a:pt x="2646" y="1249"/>
                </a:lnTo>
                <a:lnTo>
                  <a:pt x="2646" y="1163"/>
                </a:lnTo>
                <a:lnTo>
                  <a:pt x="2624" y="1076"/>
                </a:lnTo>
                <a:lnTo>
                  <a:pt x="2624" y="990"/>
                </a:lnTo>
                <a:lnTo>
                  <a:pt x="2581" y="903"/>
                </a:lnTo>
                <a:lnTo>
                  <a:pt x="2560" y="839"/>
                </a:lnTo>
                <a:lnTo>
                  <a:pt x="2538" y="756"/>
                </a:lnTo>
                <a:lnTo>
                  <a:pt x="2495" y="691"/>
                </a:lnTo>
                <a:lnTo>
                  <a:pt x="2452" y="604"/>
                </a:lnTo>
                <a:lnTo>
                  <a:pt x="2409" y="540"/>
                </a:lnTo>
                <a:lnTo>
                  <a:pt x="2344" y="475"/>
                </a:lnTo>
                <a:lnTo>
                  <a:pt x="2301" y="410"/>
                </a:lnTo>
                <a:lnTo>
                  <a:pt x="2236" y="345"/>
                </a:lnTo>
                <a:lnTo>
                  <a:pt x="2171" y="302"/>
                </a:lnTo>
                <a:lnTo>
                  <a:pt x="2110" y="237"/>
                </a:lnTo>
                <a:lnTo>
                  <a:pt x="2045" y="194"/>
                </a:lnTo>
                <a:lnTo>
                  <a:pt x="1959" y="151"/>
                </a:lnTo>
                <a:lnTo>
                  <a:pt x="1894" y="108"/>
                </a:lnTo>
                <a:lnTo>
                  <a:pt x="1808" y="86"/>
                </a:lnTo>
                <a:lnTo>
                  <a:pt x="1743" y="64"/>
                </a:lnTo>
                <a:lnTo>
                  <a:pt x="1657" y="21"/>
                </a:lnTo>
                <a:lnTo>
                  <a:pt x="1571" y="21"/>
                </a:lnTo>
                <a:lnTo>
                  <a:pt x="1485" y="0"/>
                </a:lnTo>
                <a:lnTo>
                  <a:pt x="1398" y="0"/>
                </a:lnTo>
                <a:lnTo>
                  <a:pt x="1334" y="0"/>
                </a:lnTo>
                <a:lnTo>
                  <a:pt x="1247" y="0"/>
                </a:lnTo>
                <a:lnTo>
                  <a:pt x="1161" y="0"/>
                </a:lnTo>
                <a:lnTo>
                  <a:pt x="1075" y="21"/>
                </a:lnTo>
                <a:lnTo>
                  <a:pt x="988" y="21"/>
                </a:lnTo>
                <a:lnTo>
                  <a:pt x="902" y="64"/>
                </a:lnTo>
                <a:lnTo>
                  <a:pt x="837" y="86"/>
                </a:lnTo>
                <a:lnTo>
                  <a:pt x="751" y="108"/>
                </a:lnTo>
                <a:lnTo>
                  <a:pt x="686" y="151"/>
                </a:lnTo>
                <a:lnTo>
                  <a:pt x="600" y="194"/>
                </a:lnTo>
                <a:lnTo>
                  <a:pt x="535" y="237"/>
                </a:lnTo>
                <a:lnTo>
                  <a:pt x="471" y="302"/>
                </a:lnTo>
                <a:lnTo>
                  <a:pt x="406" y="345"/>
                </a:lnTo>
                <a:lnTo>
                  <a:pt x="341" y="410"/>
                </a:lnTo>
                <a:lnTo>
                  <a:pt x="298" y="475"/>
                </a:lnTo>
                <a:lnTo>
                  <a:pt x="233" y="540"/>
                </a:lnTo>
                <a:lnTo>
                  <a:pt x="190" y="604"/>
                </a:lnTo>
                <a:lnTo>
                  <a:pt x="147" y="691"/>
                </a:lnTo>
                <a:lnTo>
                  <a:pt x="107" y="756"/>
                </a:lnTo>
                <a:lnTo>
                  <a:pt x="86" y="839"/>
                </a:lnTo>
                <a:lnTo>
                  <a:pt x="64" y="903"/>
                </a:lnTo>
                <a:lnTo>
                  <a:pt x="21" y="990"/>
                </a:lnTo>
                <a:lnTo>
                  <a:pt x="21" y="1076"/>
                </a:lnTo>
                <a:lnTo>
                  <a:pt x="0" y="1163"/>
                </a:lnTo>
                <a:lnTo>
                  <a:pt x="0" y="1249"/>
                </a:lnTo>
                <a:lnTo>
                  <a:pt x="0" y="1336"/>
                </a:lnTo>
                <a:lnTo>
                  <a:pt x="0" y="1400"/>
                </a:lnTo>
                <a:lnTo>
                  <a:pt x="0" y="1487"/>
                </a:lnTo>
                <a:lnTo>
                  <a:pt x="21" y="1573"/>
                </a:lnTo>
                <a:lnTo>
                  <a:pt x="21" y="1660"/>
                </a:lnTo>
                <a:lnTo>
                  <a:pt x="64" y="1746"/>
                </a:lnTo>
                <a:lnTo>
                  <a:pt x="86" y="1811"/>
                </a:lnTo>
                <a:lnTo>
                  <a:pt x="107" y="1897"/>
                </a:lnTo>
                <a:lnTo>
                  <a:pt x="147" y="1962"/>
                </a:lnTo>
                <a:lnTo>
                  <a:pt x="190" y="2049"/>
                </a:lnTo>
                <a:lnTo>
                  <a:pt x="233" y="2113"/>
                </a:lnTo>
                <a:lnTo>
                  <a:pt x="298" y="2178"/>
                </a:lnTo>
                <a:lnTo>
                  <a:pt x="341" y="2243"/>
                </a:lnTo>
                <a:lnTo>
                  <a:pt x="406" y="2304"/>
                </a:lnTo>
                <a:lnTo>
                  <a:pt x="471" y="2347"/>
                </a:lnTo>
                <a:lnTo>
                  <a:pt x="535" y="2412"/>
                </a:lnTo>
                <a:lnTo>
                  <a:pt x="600" y="2455"/>
                </a:lnTo>
                <a:lnTo>
                  <a:pt x="686" y="2499"/>
                </a:lnTo>
                <a:lnTo>
                  <a:pt x="751" y="2542"/>
                </a:lnTo>
                <a:lnTo>
                  <a:pt x="837" y="2563"/>
                </a:lnTo>
                <a:lnTo>
                  <a:pt x="902" y="2585"/>
                </a:lnTo>
                <a:lnTo>
                  <a:pt x="988" y="2628"/>
                </a:lnTo>
                <a:lnTo>
                  <a:pt x="1075" y="2628"/>
                </a:lnTo>
                <a:lnTo>
                  <a:pt x="1161" y="2650"/>
                </a:lnTo>
                <a:lnTo>
                  <a:pt x="1247" y="2650"/>
                </a:lnTo>
                <a:lnTo>
                  <a:pt x="1334" y="2672"/>
                </a:lnTo>
                <a:lnTo>
                  <a:pt x="1398" y="2650"/>
                </a:lnTo>
                <a:lnTo>
                  <a:pt x="1485" y="2650"/>
                </a:lnTo>
                <a:lnTo>
                  <a:pt x="1571" y="2628"/>
                </a:lnTo>
                <a:lnTo>
                  <a:pt x="1657" y="2628"/>
                </a:lnTo>
                <a:lnTo>
                  <a:pt x="1743" y="2585"/>
                </a:lnTo>
                <a:lnTo>
                  <a:pt x="1808" y="2563"/>
                </a:lnTo>
                <a:lnTo>
                  <a:pt x="1894" y="2542"/>
                </a:lnTo>
                <a:lnTo>
                  <a:pt x="1959" y="2499"/>
                </a:lnTo>
                <a:lnTo>
                  <a:pt x="2045" y="2455"/>
                </a:lnTo>
                <a:lnTo>
                  <a:pt x="2110" y="2412"/>
                </a:lnTo>
                <a:lnTo>
                  <a:pt x="2171" y="2347"/>
                </a:lnTo>
                <a:lnTo>
                  <a:pt x="2236" y="2304"/>
                </a:lnTo>
                <a:lnTo>
                  <a:pt x="2301" y="2243"/>
                </a:lnTo>
                <a:lnTo>
                  <a:pt x="2344" y="2178"/>
                </a:lnTo>
                <a:lnTo>
                  <a:pt x="2409" y="2113"/>
                </a:lnTo>
                <a:lnTo>
                  <a:pt x="2452" y="2049"/>
                </a:lnTo>
                <a:lnTo>
                  <a:pt x="2495" y="1962"/>
                </a:lnTo>
                <a:lnTo>
                  <a:pt x="2538" y="1897"/>
                </a:lnTo>
                <a:lnTo>
                  <a:pt x="2560" y="1811"/>
                </a:lnTo>
                <a:lnTo>
                  <a:pt x="2581" y="1746"/>
                </a:lnTo>
                <a:lnTo>
                  <a:pt x="2624" y="1660"/>
                </a:lnTo>
                <a:lnTo>
                  <a:pt x="2624" y="1573"/>
                </a:lnTo>
                <a:lnTo>
                  <a:pt x="2646" y="1487"/>
                </a:lnTo>
                <a:lnTo>
                  <a:pt x="2646" y="1400"/>
                </a:lnTo>
                <a:lnTo>
                  <a:pt x="2668" y="133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8640" y="1722600"/>
            <a:ext cx="8755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00240" y="1620720"/>
            <a:ext cx="3202200" cy="3205440"/>
          </a:xfrm>
          <a:custGeom>
            <a:avLst/>
            <a:gdLst/>
            <a:ahLst/>
            <a:rect l="l" t="t" r="r" b="b"/>
            <a:pathLst>
              <a:path w="2017" h="2019">
                <a:moveTo>
                  <a:pt x="2016" y="1014"/>
                </a:moveTo>
                <a:lnTo>
                  <a:pt x="2005" y="949"/>
                </a:lnTo>
                <a:lnTo>
                  <a:pt x="2005" y="884"/>
                </a:lnTo>
                <a:lnTo>
                  <a:pt x="1994" y="819"/>
                </a:lnTo>
                <a:lnTo>
                  <a:pt x="1983" y="754"/>
                </a:lnTo>
                <a:lnTo>
                  <a:pt x="1962" y="702"/>
                </a:lnTo>
                <a:lnTo>
                  <a:pt x="1940" y="637"/>
                </a:lnTo>
                <a:lnTo>
                  <a:pt x="1918" y="583"/>
                </a:lnTo>
                <a:lnTo>
                  <a:pt x="1886" y="529"/>
                </a:lnTo>
                <a:lnTo>
                  <a:pt x="1854" y="475"/>
                </a:lnTo>
                <a:lnTo>
                  <a:pt x="1821" y="421"/>
                </a:lnTo>
                <a:lnTo>
                  <a:pt x="1778" y="367"/>
                </a:lnTo>
                <a:lnTo>
                  <a:pt x="1735" y="324"/>
                </a:lnTo>
                <a:lnTo>
                  <a:pt x="1692" y="281"/>
                </a:lnTo>
                <a:lnTo>
                  <a:pt x="1648" y="237"/>
                </a:lnTo>
                <a:lnTo>
                  <a:pt x="1594" y="194"/>
                </a:lnTo>
                <a:lnTo>
                  <a:pt x="1540" y="162"/>
                </a:lnTo>
                <a:lnTo>
                  <a:pt x="1486" y="129"/>
                </a:lnTo>
                <a:lnTo>
                  <a:pt x="1432" y="97"/>
                </a:lnTo>
                <a:lnTo>
                  <a:pt x="1380" y="75"/>
                </a:lnTo>
                <a:lnTo>
                  <a:pt x="1315" y="54"/>
                </a:lnTo>
                <a:lnTo>
                  <a:pt x="1261" y="32"/>
                </a:lnTo>
                <a:lnTo>
                  <a:pt x="1197" y="21"/>
                </a:lnTo>
                <a:lnTo>
                  <a:pt x="1132" y="10"/>
                </a:lnTo>
                <a:lnTo>
                  <a:pt x="1067" y="10"/>
                </a:lnTo>
                <a:lnTo>
                  <a:pt x="1013" y="0"/>
                </a:lnTo>
                <a:lnTo>
                  <a:pt x="948" y="10"/>
                </a:lnTo>
                <a:lnTo>
                  <a:pt x="883" y="10"/>
                </a:lnTo>
                <a:lnTo>
                  <a:pt x="819" y="21"/>
                </a:lnTo>
                <a:lnTo>
                  <a:pt x="754" y="32"/>
                </a:lnTo>
                <a:lnTo>
                  <a:pt x="700" y="54"/>
                </a:lnTo>
                <a:lnTo>
                  <a:pt x="635" y="75"/>
                </a:lnTo>
                <a:lnTo>
                  <a:pt x="581" y="97"/>
                </a:lnTo>
                <a:lnTo>
                  <a:pt x="527" y="129"/>
                </a:lnTo>
                <a:lnTo>
                  <a:pt x="473" y="162"/>
                </a:lnTo>
                <a:lnTo>
                  <a:pt x="419" y="194"/>
                </a:lnTo>
                <a:lnTo>
                  <a:pt x="367" y="237"/>
                </a:lnTo>
                <a:lnTo>
                  <a:pt x="324" y="281"/>
                </a:lnTo>
                <a:lnTo>
                  <a:pt x="280" y="324"/>
                </a:lnTo>
                <a:lnTo>
                  <a:pt x="237" y="367"/>
                </a:lnTo>
                <a:lnTo>
                  <a:pt x="194" y="421"/>
                </a:lnTo>
                <a:lnTo>
                  <a:pt x="162" y="475"/>
                </a:lnTo>
                <a:lnTo>
                  <a:pt x="129" y="529"/>
                </a:lnTo>
                <a:lnTo>
                  <a:pt x="97" y="583"/>
                </a:lnTo>
                <a:lnTo>
                  <a:pt x="75" y="637"/>
                </a:lnTo>
                <a:lnTo>
                  <a:pt x="54" y="702"/>
                </a:lnTo>
                <a:lnTo>
                  <a:pt x="32" y="754"/>
                </a:lnTo>
                <a:lnTo>
                  <a:pt x="21" y="819"/>
                </a:lnTo>
                <a:lnTo>
                  <a:pt x="10" y="884"/>
                </a:lnTo>
                <a:lnTo>
                  <a:pt x="10" y="949"/>
                </a:lnTo>
                <a:lnTo>
                  <a:pt x="0" y="1014"/>
                </a:lnTo>
                <a:lnTo>
                  <a:pt x="10" y="1068"/>
                </a:lnTo>
                <a:lnTo>
                  <a:pt x="10" y="1133"/>
                </a:lnTo>
                <a:lnTo>
                  <a:pt x="21" y="1198"/>
                </a:lnTo>
                <a:lnTo>
                  <a:pt x="32" y="1263"/>
                </a:lnTo>
                <a:lnTo>
                  <a:pt x="54" y="1317"/>
                </a:lnTo>
                <a:lnTo>
                  <a:pt x="75" y="1381"/>
                </a:lnTo>
                <a:lnTo>
                  <a:pt x="97" y="1436"/>
                </a:lnTo>
                <a:lnTo>
                  <a:pt x="129" y="1488"/>
                </a:lnTo>
                <a:lnTo>
                  <a:pt x="162" y="1542"/>
                </a:lnTo>
                <a:lnTo>
                  <a:pt x="194" y="1596"/>
                </a:lnTo>
                <a:lnTo>
                  <a:pt x="237" y="1650"/>
                </a:lnTo>
                <a:lnTo>
                  <a:pt x="280" y="1693"/>
                </a:lnTo>
                <a:lnTo>
                  <a:pt x="324" y="1736"/>
                </a:lnTo>
                <a:lnTo>
                  <a:pt x="367" y="1780"/>
                </a:lnTo>
                <a:lnTo>
                  <a:pt x="419" y="1823"/>
                </a:lnTo>
                <a:lnTo>
                  <a:pt x="473" y="1855"/>
                </a:lnTo>
                <a:lnTo>
                  <a:pt x="527" y="1888"/>
                </a:lnTo>
                <a:lnTo>
                  <a:pt x="581" y="1920"/>
                </a:lnTo>
                <a:lnTo>
                  <a:pt x="635" y="1942"/>
                </a:lnTo>
                <a:lnTo>
                  <a:pt x="700" y="1963"/>
                </a:lnTo>
                <a:lnTo>
                  <a:pt x="754" y="1985"/>
                </a:lnTo>
                <a:lnTo>
                  <a:pt x="819" y="1996"/>
                </a:lnTo>
                <a:lnTo>
                  <a:pt x="883" y="2007"/>
                </a:lnTo>
                <a:lnTo>
                  <a:pt x="948" y="2007"/>
                </a:lnTo>
                <a:lnTo>
                  <a:pt x="1013" y="2018"/>
                </a:lnTo>
                <a:lnTo>
                  <a:pt x="1067" y="2007"/>
                </a:lnTo>
                <a:lnTo>
                  <a:pt x="1132" y="2007"/>
                </a:lnTo>
                <a:lnTo>
                  <a:pt x="1197" y="1996"/>
                </a:lnTo>
                <a:lnTo>
                  <a:pt x="1261" y="1985"/>
                </a:lnTo>
                <a:lnTo>
                  <a:pt x="1315" y="1963"/>
                </a:lnTo>
                <a:lnTo>
                  <a:pt x="1380" y="1942"/>
                </a:lnTo>
                <a:lnTo>
                  <a:pt x="1432" y="1920"/>
                </a:lnTo>
                <a:lnTo>
                  <a:pt x="1486" y="1888"/>
                </a:lnTo>
                <a:lnTo>
                  <a:pt x="1540" y="1855"/>
                </a:lnTo>
                <a:lnTo>
                  <a:pt x="1594" y="1823"/>
                </a:lnTo>
                <a:lnTo>
                  <a:pt x="1648" y="1780"/>
                </a:lnTo>
                <a:lnTo>
                  <a:pt x="1692" y="1736"/>
                </a:lnTo>
                <a:lnTo>
                  <a:pt x="1735" y="1693"/>
                </a:lnTo>
                <a:lnTo>
                  <a:pt x="1778" y="1650"/>
                </a:lnTo>
                <a:lnTo>
                  <a:pt x="1821" y="1596"/>
                </a:lnTo>
                <a:lnTo>
                  <a:pt x="1854" y="1542"/>
                </a:lnTo>
                <a:lnTo>
                  <a:pt x="1886" y="1488"/>
                </a:lnTo>
                <a:lnTo>
                  <a:pt x="1918" y="1436"/>
                </a:lnTo>
                <a:lnTo>
                  <a:pt x="1940" y="1381"/>
                </a:lnTo>
                <a:lnTo>
                  <a:pt x="1962" y="1317"/>
                </a:lnTo>
                <a:lnTo>
                  <a:pt x="1983" y="1263"/>
                </a:lnTo>
                <a:lnTo>
                  <a:pt x="1994" y="1198"/>
                </a:lnTo>
                <a:lnTo>
                  <a:pt x="2005" y="1133"/>
                </a:lnTo>
                <a:lnTo>
                  <a:pt x="2005" y="1068"/>
                </a:lnTo>
                <a:lnTo>
                  <a:pt x="2016" y="101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8640" y="1193760"/>
            <a:ext cx="8755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9600" y="1892160"/>
            <a:ext cx="2659320" cy="2662200"/>
          </a:xfrm>
          <a:custGeom>
            <a:avLst/>
            <a:gdLst/>
            <a:ahLst/>
            <a:rect l="l" t="t" r="r" b="b"/>
            <a:pathLst>
              <a:path w="1675" h="1677">
                <a:moveTo>
                  <a:pt x="1674" y="841"/>
                </a:moveTo>
                <a:lnTo>
                  <a:pt x="1667" y="787"/>
                </a:lnTo>
                <a:lnTo>
                  <a:pt x="1667" y="733"/>
                </a:lnTo>
                <a:lnTo>
                  <a:pt x="1653" y="679"/>
                </a:lnTo>
                <a:lnTo>
                  <a:pt x="1646" y="633"/>
                </a:lnTo>
                <a:lnTo>
                  <a:pt x="1626" y="579"/>
                </a:lnTo>
                <a:lnTo>
                  <a:pt x="1613" y="532"/>
                </a:lnTo>
                <a:lnTo>
                  <a:pt x="1592" y="484"/>
                </a:lnTo>
                <a:lnTo>
                  <a:pt x="1565" y="437"/>
                </a:lnTo>
                <a:lnTo>
                  <a:pt x="1538" y="390"/>
                </a:lnTo>
                <a:lnTo>
                  <a:pt x="1511" y="349"/>
                </a:lnTo>
                <a:lnTo>
                  <a:pt x="1477" y="302"/>
                </a:lnTo>
                <a:lnTo>
                  <a:pt x="1444" y="268"/>
                </a:lnTo>
                <a:lnTo>
                  <a:pt x="1403" y="228"/>
                </a:lnTo>
                <a:lnTo>
                  <a:pt x="1369" y="194"/>
                </a:lnTo>
                <a:lnTo>
                  <a:pt x="1322" y="161"/>
                </a:lnTo>
                <a:lnTo>
                  <a:pt x="1281" y="134"/>
                </a:lnTo>
                <a:lnTo>
                  <a:pt x="1234" y="107"/>
                </a:lnTo>
                <a:lnTo>
                  <a:pt x="1187" y="80"/>
                </a:lnTo>
                <a:lnTo>
                  <a:pt x="1140" y="60"/>
                </a:lnTo>
                <a:lnTo>
                  <a:pt x="1092" y="47"/>
                </a:lnTo>
                <a:lnTo>
                  <a:pt x="1039" y="26"/>
                </a:lnTo>
                <a:lnTo>
                  <a:pt x="992" y="20"/>
                </a:lnTo>
                <a:lnTo>
                  <a:pt x="938" y="6"/>
                </a:lnTo>
                <a:lnTo>
                  <a:pt x="884" y="6"/>
                </a:lnTo>
                <a:lnTo>
                  <a:pt x="830" y="0"/>
                </a:lnTo>
                <a:lnTo>
                  <a:pt x="782" y="6"/>
                </a:lnTo>
                <a:lnTo>
                  <a:pt x="728" y="6"/>
                </a:lnTo>
                <a:lnTo>
                  <a:pt x="674" y="20"/>
                </a:lnTo>
                <a:lnTo>
                  <a:pt x="627" y="26"/>
                </a:lnTo>
                <a:lnTo>
                  <a:pt x="573" y="47"/>
                </a:lnTo>
                <a:lnTo>
                  <a:pt x="526" y="60"/>
                </a:lnTo>
                <a:lnTo>
                  <a:pt x="478" y="80"/>
                </a:lnTo>
                <a:lnTo>
                  <a:pt x="432" y="107"/>
                </a:lnTo>
                <a:lnTo>
                  <a:pt x="385" y="134"/>
                </a:lnTo>
                <a:lnTo>
                  <a:pt x="344" y="161"/>
                </a:lnTo>
                <a:lnTo>
                  <a:pt x="297" y="194"/>
                </a:lnTo>
                <a:lnTo>
                  <a:pt x="263" y="228"/>
                </a:lnTo>
                <a:lnTo>
                  <a:pt x="223" y="268"/>
                </a:lnTo>
                <a:lnTo>
                  <a:pt x="189" y="302"/>
                </a:lnTo>
                <a:lnTo>
                  <a:pt x="155" y="349"/>
                </a:lnTo>
                <a:lnTo>
                  <a:pt x="128" y="390"/>
                </a:lnTo>
                <a:lnTo>
                  <a:pt x="101" y="437"/>
                </a:lnTo>
                <a:lnTo>
                  <a:pt x="74" y="484"/>
                </a:lnTo>
                <a:lnTo>
                  <a:pt x="54" y="532"/>
                </a:lnTo>
                <a:lnTo>
                  <a:pt x="40" y="579"/>
                </a:lnTo>
                <a:lnTo>
                  <a:pt x="20" y="633"/>
                </a:lnTo>
                <a:lnTo>
                  <a:pt x="13" y="679"/>
                </a:lnTo>
                <a:lnTo>
                  <a:pt x="0" y="733"/>
                </a:lnTo>
                <a:lnTo>
                  <a:pt x="0" y="787"/>
                </a:lnTo>
                <a:lnTo>
                  <a:pt x="0" y="841"/>
                </a:lnTo>
                <a:lnTo>
                  <a:pt x="0" y="888"/>
                </a:lnTo>
                <a:lnTo>
                  <a:pt x="0" y="942"/>
                </a:lnTo>
                <a:lnTo>
                  <a:pt x="13" y="996"/>
                </a:lnTo>
                <a:lnTo>
                  <a:pt x="20" y="1043"/>
                </a:lnTo>
                <a:lnTo>
                  <a:pt x="40" y="1097"/>
                </a:lnTo>
                <a:lnTo>
                  <a:pt x="54" y="1143"/>
                </a:lnTo>
                <a:lnTo>
                  <a:pt x="74" y="1191"/>
                </a:lnTo>
                <a:lnTo>
                  <a:pt x="101" y="1238"/>
                </a:lnTo>
                <a:lnTo>
                  <a:pt x="128" y="1285"/>
                </a:lnTo>
                <a:lnTo>
                  <a:pt x="155" y="1326"/>
                </a:lnTo>
                <a:lnTo>
                  <a:pt x="189" y="1373"/>
                </a:lnTo>
                <a:lnTo>
                  <a:pt x="223" y="1407"/>
                </a:lnTo>
                <a:lnTo>
                  <a:pt x="263" y="1447"/>
                </a:lnTo>
                <a:lnTo>
                  <a:pt x="297" y="1481"/>
                </a:lnTo>
                <a:lnTo>
                  <a:pt x="344" y="1515"/>
                </a:lnTo>
                <a:lnTo>
                  <a:pt x="385" y="1542"/>
                </a:lnTo>
                <a:lnTo>
                  <a:pt x="432" y="1569"/>
                </a:lnTo>
                <a:lnTo>
                  <a:pt x="478" y="1596"/>
                </a:lnTo>
                <a:lnTo>
                  <a:pt x="526" y="1615"/>
                </a:lnTo>
                <a:lnTo>
                  <a:pt x="573" y="1628"/>
                </a:lnTo>
                <a:lnTo>
                  <a:pt x="627" y="1649"/>
                </a:lnTo>
                <a:lnTo>
                  <a:pt x="674" y="1655"/>
                </a:lnTo>
                <a:lnTo>
                  <a:pt x="728" y="1669"/>
                </a:lnTo>
                <a:lnTo>
                  <a:pt x="782" y="1669"/>
                </a:lnTo>
                <a:lnTo>
                  <a:pt x="830" y="1676"/>
                </a:lnTo>
                <a:lnTo>
                  <a:pt x="884" y="1669"/>
                </a:lnTo>
                <a:lnTo>
                  <a:pt x="938" y="1669"/>
                </a:lnTo>
                <a:lnTo>
                  <a:pt x="992" y="1655"/>
                </a:lnTo>
                <a:lnTo>
                  <a:pt x="1039" y="1649"/>
                </a:lnTo>
                <a:lnTo>
                  <a:pt x="1092" y="1628"/>
                </a:lnTo>
                <a:lnTo>
                  <a:pt x="1140" y="1615"/>
                </a:lnTo>
                <a:lnTo>
                  <a:pt x="1187" y="1596"/>
                </a:lnTo>
                <a:lnTo>
                  <a:pt x="1234" y="1569"/>
                </a:lnTo>
                <a:lnTo>
                  <a:pt x="1281" y="1542"/>
                </a:lnTo>
                <a:lnTo>
                  <a:pt x="1322" y="1515"/>
                </a:lnTo>
                <a:lnTo>
                  <a:pt x="1369" y="1481"/>
                </a:lnTo>
                <a:lnTo>
                  <a:pt x="1403" y="1447"/>
                </a:lnTo>
                <a:lnTo>
                  <a:pt x="1444" y="1407"/>
                </a:lnTo>
                <a:lnTo>
                  <a:pt x="1477" y="1373"/>
                </a:lnTo>
                <a:lnTo>
                  <a:pt x="1511" y="1326"/>
                </a:lnTo>
                <a:lnTo>
                  <a:pt x="1538" y="1285"/>
                </a:lnTo>
                <a:lnTo>
                  <a:pt x="1565" y="1238"/>
                </a:lnTo>
                <a:lnTo>
                  <a:pt x="1592" y="1191"/>
                </a:lnTo>
                <a:lnTo>
                  <a:pt x="1613" y="1143"/>
                </a:lnTo>
                <a:lnTo>
                  <a:pt x="1626" y="1097"/>
                </a:lnTo>
                <a:lnTo>
                  <a:pt x="1646" y="1043"/>
                </a:lnTo>
                <a:lnTo>
                  <a:pt x="1653" y="996"/>
                </a:lnTo>
                <a:lnTo>
                  <a:pt x="1667" y="942"/>
                </a:lnTo>
                <a:lnTo>
                  <a:pt x="1667" y="888"/>
                </a:lnTo>
                <a:lnTo>
                  <a:pt x="1674" y="841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8640" y="663480"/>
            <a:ext cx="8755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55880" y="560520"/>
            <a:ext cx="5288040" cy="5325840"/>
          </a:xfrm>
          <a:custGeom>
            <a:avLst/>
            <a:gdLst/>
            <a:ahLst/>
            <a:rect l="l" t="t" r="r" b="b"/>
            <a:pathLst>
              <a:path w="3331" h="3355">
                <a:moveTo>
                  <a:pt x="3330" y="1682"/>
                </a:moveTo>
                <a:lnTo>
                  <a:pt x="3330" y="1574"/>
                </a:lnTo>
                <a:lnTo>
                  <a:pt x="3319" y="1466"/>
                </a:lnTo>
                <a:lnTo>
                  <a:pt x="3308" y="1359"/>
                </a:lnTo>
                <a:lnTo>
                  <a:pt x="3286" y="1262"/>
                </a:lnTo>
                <a:lnTo>
                  <a:pt x="3254" y="1165"/>
                </a:lnTo>
                <a:lnTo>
                  <a:pt x="3222" y="1057"/>
                </a:lnTo>
                <a:lnTo>
                  <a:pt x="3178" y="970"/>
                </a:lnTo>
                <a:lnTo>
                  <a:pt x="3124" y="873"/>
                </a:lnTo>
                <a:lnTo>
                  <a:pt x="3072" y="776"/>
                </a:lnTo>
                <a:lnTo>
                  <a:pt x="3018" y="689"/>
                </a:lnTo>
                <a:lnTo>
                  <a:pt x="2953" y="616"/>
                </a:lnTo>
                <a:lnTo>
                  <a:pt x="2878" y="529"/>
                </a:lnTo>
                <a:lnTo>
                  <a:pt x="2813" y="464"/>
                </a:lnTo>
                <a:lnTo>
                  <a:pt x="2727" y="389"/>
                </a:lnTo>
                <a:lnTo>
                  <a:pt x="2651" y="324"/>
                </a:lnTo>
                <a:lnTo>
                  <a:pt x="2565" y="270"/>
                </a:lnTo>
                <a:lnTo>
                  <a:pt x="2467" y="216"/>
                </a:lnTo>
                <a:lnTo>
                  <a:pt x="2370" y="162"/>
                </a:lnTo>
                <a:lnTo>
                  <a:pt x="2284" y="118"/>
                </a:lnTo>
                <a:lnTo>
                  <a:pt x="2176" y="86"/>
                </a:lnTo>
                <a:lnTo>
                  <a:pt x="2079" y="54"/>
                </a:lnTo>
                <a:lnTo>
                  <a:pt x="1983" y="32"/>
                </a:lnTo>
                <a:lnTo>
                  <a:pt x="1875" y="21"/>
                </a:lnTo>
                <a:lnTo>
                  <a:pt x="1767" y="10"/>
                </a:lnTo>
                <a:lnTo>
                  <a:pt x="1659" y="0"/>
                </a:lnTo>
                <a:lnTo>
                  <a:pt x="1562" y="10"/>
                </a:lnTo>
                <a:lnTo>
                  <a:pt x="1454" y="21"/>
                </a:lnTo>
                <a:lnTo>
                  <a:pt x="1346" y="32"/>
                </a:lnTo>
                <a:lnTo>
                  <a:pt x="1249" y="54"/>
                </a:lnTo>
                <a:lnTo>
                  <a:pt x="1152" y="86"/>
                </a:lnTo>
                <a:lnTo>
                  <a:pt x="1045" y="118"/>
                </a:lnTo>
                <a:lnTo>
                  <a:pt x="959" y="162"/>
                </a:lnTo>
                <a:lnTo>
                  <a:pt x="862" y="216"/>
                </a:lnTo>
                <a:lnTo>
                  <a:pt x="765" y="270"/>
                </a:lnTo>
                <a:lnTo>
                  <a:pt x="678" y="324"/>
                </a:lnTo>
                <a:lnTo>
                  <a:pt x="603" y="389"/>
                </a:lnTo>
                <a:lnTo>
                  <a:pt x="516" y="464"/>
                </a:lnTo>
                <a:lnTo>
                  <a:pt x="451" y="529"/>
                </a:lnTo>
                <a:lnTo>
                  <a:pt x="376" y="616"/>
                </a:lnTo>
                <a:lnTo>
                  <a:pt x="311" y="689"/>
                </a:lnTo>
                <a:lnTo>
                  <a:pt x="257" y="776"/>
                </a:lnTo>
                <a:lnTo>
                  <a:pt x="203" y="873"/>
                </a:lnTo>
                <a:lnTo>
                  <a:pt x="149" y="970"/>
                </a:lnTo>
                <a:lnTo>
                  <a:pt x="106" y="1057"/>
                </a:lnTo>
                <a:lnTo>
                  <a:pt x="73" y="1165"/>
                </a:lnTo>
                <a:lnTo>
                  <a:pt x="43" y="1262"/>
                </a:lnTo>
                <a:lnTo>
                  <a:pt x="21" y="1359"/>
                </a:lnTo>
                <a:lnTo>
                  <a:pt x="10" y="1466"/>
                </a:lnTo>
                <a:lnTo>
                  <a:pt x="0" y="1574"/>
                </a:lnTo>
                <a:lnTo>
                  <a:pt x="0" y="1682"/>
                </a:lnTo>
                <a:lnTo>
                  <a:pt x="0" y="1779"/>
                </a:lnTo>
                <a:lnTo>
                  <a:pt x="10" y="1887"/>
                </a:lnTo>
                <a:lnTo>
                  <a:pt x="21" y="1995"/>
                </a:lnTo>
                <a:lnTo>
                  <a:pt x="43" y="2093"/>
                </a:lnTo>
                <a:lnTo>
                  <a:pt x="73" y="2188"/>
                </a:lnTo>
                <a:lnTo>
                  <a:pt x="106" y="2296"/>
                </a:lnTo>
                <a:lnTo>
                  <a:pt x="149" y="2383"/>
                </a:lnTo>
                <a:lnTo>
                  <a:pt x="203" y="2480"/>
                </a:lnTo>
                <a:lnTo>
                  <a:pt x="257" y="2577"/>
                </a:lnTo>
                <a:lnTo>
                  <a:pt x="311" y="2664"/>
                </a:lnTo>
                <a:lnTo>
                  <a:pt x="376" y="2739"/>
                </a:lnTo>
                <a:lnTo>
                  <a:pt x="451" y="2826"/>
                </a:lnTo>
                <a:lnTo>
                  <a:pt x="516" y="2891"/>
                </a:lnTo>
                <a:lnTo>
                  <a:pt x="603" y="2964"/>
                </a:lnTo>
                <a:lnTo>
                  <a:pt x="678" y="3029"/>
                </a:lnTo>
                <a:lnTo>
                  <a:pt x="765" y="3083"/>
                </a:lnTo>
                <a:lnTo>
                  <a:pt x="862" y="3137"/>
                </a:lnTo>
                <a:lnTo>
                  <a:pt x="959" y="3191"/>
                </a:lnTo>
                <a:lnTo>
                  <a:pt x="1045" y="3235"/>
                </a:lnTo>
                <a:lnTo>
                  <a:pt x="1152" y="3267"/>
                </a:lnTo>
                <a:lnTo>
                  <a:pt x="1249" y="3299"/>
                </a:lnTo>
                <a:lnTo>
                  <a:pt x="1346" y="3321"/>
                </a:lnTo>
                <a:lnTo>
                  <a:pt x="1454" y="3332"/>
                </a:lnTo>
                <a:lnTo>
                  <a:pt x="1562" y="3343"/>
                </a:lnTo>
                <a:lnTo>
                  <a:pt x="1659" y="3354"/>
                </a:lnTo>
                <a:lnTo>
                  <a:pt x="1767" y="3343"/>
                </a:lnTo>
                <a:lnTo>
                  <a:pt x="1875" y="3332"/>
                </a:lnTo>
                <a:lnTo>
                  <a:pt x="1983" y="3321"/>
                </a:lnTo>
                <a:lnTo>
                  <a:pt x="2079" y="3299"/>
                </a:lnTo>
                <a:lnTo>
                  <a:pt x="2176" y="3267"/>
                </a:lnTo>
                <a:lnTo>
                  <a:pt x="2284" y="3235"/>
                </a:lnTo>
                <a:lnTo>
                  <a:pt x="2370" y="3191"/>
                </a:lnTo>
                <a:lnTo>
                  <a:pt x="2467" y="3137"/>
                </a:lnTo>
                <a:lnTo>
                  <a:pt x="2565" y="3083"/>
                </a:lnTo>
                <a:lnTo>
                  <a:pt x="2651" y="3029"/>
                </a:lnTo>
                <a:lnTo>
                  <a:pt x="2727" y="2964"/>
                </a:lnTo>
                <a:lnTo>
                  <a:pt x="2813" y="2891"/>
                </a:lnTo>
                <a:lnTo>
                  <a:pt x="2878" y="2826"/>
                </a:lnTo>
                <a:lnTo>
                  <a:pt x="2953" y="2739"/>
                </a:lnTo>
                <a:lnTo>
                  <a:pt x="3018" y="2664"/>
                </a:lnTo>
                <a:lnTo>
                  <a:pt x="3072" y="2577"/>
                </a:lnTo>
                <a:lnTo>
                  <a:pt x="3124" y="2480"/>
                </a:lnTo>
                <a:lnTo>
                  <a:pt x="3178" y="2383"/>
                </a:lnTo>
                <a:lnTo>
                  <a:pt x="3222" y="2296"/>
                </a:lnTo>
                <a:lnTo>
                  <a:pt x="3254" y="2188"/>
                </a:lnTo>
                <a:lnTo>
                  <a:pt x="3286" y="2093"/>
                </a:lnTo>
                <a:lnTo>
                  <a:pt x="3308" y="1995"/>
                </a:lnTo>
                <a:lnTo>
                  <a:pt x="3319" y="1887"/>
                </a:lnTo>
                <a:lnTo>
                  <a:pt x="3330" y="1779"/>
                </a:lnTo>
                <a:lnTo>
                  <a:pt x="3330" y="168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360" y="133200"/>
            <a:ext cx="64224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298600" y="1897200"/>
            <a:ext cx="4603680" cy="2652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4920" y="920880"/>
            <a:ext cx="2651040" cy="4603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608360" y="560520"/>
            <a:ext cx="0" cy="5324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274920" y="920880"/>
            <a:ext cx="2651040" cy="4603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298600" y="1897200"/>
            <a:ext cx="4603680" cy="2652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955880" y="3211560"/>
            <a:ext cx="5286240" cy="1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79880" y="1498680"/>
            <a:ext cx="64224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65000" y="442764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21120" y="439560"/>
            <a:ext cx="64224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27360" y="548640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5280" y="47520"/>
            <a:ext cx="64224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7240" y="588168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7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27360" y="43956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3080" y="548640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65000" y="149868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1840" y="442764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71520" y="2954160"/>
            <a:ext cx="797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59400" y="2971800"/>
            <a:ext cx="486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240" rIns="165240" tIns="84240" bIns="84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40320" y="3230640"/>
            <a:ext cx="1364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08360" y="3162240"/>
            <a:ext cx="0" cy="13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40320" y="22924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08360" y="22240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40320" y="41544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08360" y="4084560"/>
            <a:ext cx="0" cy="1396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40320" y="18972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08360" y="182736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40320" y="45496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08360" y="44816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40320" y="16066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08360" y="1539720"/>
            <a:ext cx="0" cy="1350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0320" y="48420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08360" y="477216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0320" y="1351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08360" y="12826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40320" y="509904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08360" y="502920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40320" y="112716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8360" y="105732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0320" y="531972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08360" y="52513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40320" y="92232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08360" y="8539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40320" y="552456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08360" y="545616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40320" y="75096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08360" y="68256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40320" y="569592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08360" y="562752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65760" y="234324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33800" y="22748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65760" y="410364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33800" y="403560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65760" y="193212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33800" y="1863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5760" y="451476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3800" y="4446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5760" y="16398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33800" y="157464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65760" y="4807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33800" y="47386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65760" y="13842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33800" y="131436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65760" y="506412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33800" y="49957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65760" y="1162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3800" y="109368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65760" y="52848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33800" y="521640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65760" y="9558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33800" y="88596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65760" y="5491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33800" y="54230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5760" y="76824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33800" y="69696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5760" y="5680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3800" y="561024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91200" y="256716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249552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91200" y="388476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381636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91200" y="206856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57800" y="199872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91200" y="437832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57800" y="43099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91200" y="174312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57800" y="1674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1200" y="470376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63536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91200" y="146988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140004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91200" y="497844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491004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91200" y="123048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11620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91200" y="521640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5149800"/>
            <a:ext cx="0" cy="1350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91200" y="102564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95400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91200" y="542304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535320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91200" y="83664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7800" y="76824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91200" y="5610240"/>
            <a:ext cx="135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57800" y="554184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32480" y="234324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00880" y="22748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32480" y="410364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00880" y="403560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32480" y="193212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00880" y="1863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2480" y="451476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00880" y="4446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32480" y="16398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00880" y="157464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32480" y="4807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00880" y="47386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32480" y="13842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00880" y="131436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32480" y="506412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00880" y="49957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32480" y="1162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00880" y="109368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32480" y="52848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00880" y="521640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32480" y="95580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00880" y="88596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32480" y="5491080"/>
            <a:ext cx="1364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00880" y="54230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57920" y="323064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25960" y="3162240"/>
            <a:ext cx="0" cy="1396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7920" y="229248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5960" y="22240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57920" y="415440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25960" y="4084560"/>
            <a:ext cx="0" cy="1396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57920" y="189720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25960" y="182736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57920" y="454968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25960" y="44816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57920" y="160668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25960" y="1539720"/>
            <a:ext cx="0" cy="1350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7920" y="484200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25960" y="477216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57920" y="135108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25960" y="12826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57920" y="509904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25960" y="502920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57920" y="112716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25960" y="105732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57920" y="531972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25960" y="52513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83360" y="234324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53200" y="22748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83360" y="410364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53200" y="403560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83360" y="193212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53200" y="1863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83360" y="451476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53200" y="4446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83360" y="163980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53200" y="157464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83360" y="480708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53200" y="473868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83360" y="138420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53200" y="131436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83360" y="506412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53200" y="49957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26080" y="256716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95920" y="2495520"/>
            <a:ext cx="0" cy="1382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26080" y="388476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95920" y="381636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26080" y="206856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95920" y="1998720"/>
            <a:ext cx="0" cy="13788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26080" y="437832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95920" y="430992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526080" y="174312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95920" y="167472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26080" y="4703760"/>
            <a:ext cx="1382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95920" y="4635360"/>
            <a:ext cx="0" cy="1368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4760" y="2343240"/>
            <a:ext cx="1335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16680" y="227484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4760" y="4103640"/>
            <a:ext cx="1335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16680" y="4035600"/>
            <a:ext cx="0" cy="1364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7320" y="225360"/>
            <a:ext cx="0" cy="5502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85120" y="225360"/>
            <a:ext cx="0" cy="5502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40600" y="225360"/>
            <a:ext cx="0" cy="5502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18040" y="225360"/>
            <a:ext cx="0" cy="5502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73880" y="225360"/>
            <a:ext cx="0" cy="5502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1320" y="225360"/>
            <a:ext cx="0" cy="5502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17960" y="225360"/>
            <a:ext cx="0" cy="5502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9680" y="2286000"/>
            <a:ext cx="1915920" cy="1884240"/>
          </a:xfrm>
          <a:custGeom>
            <a:avLst/>
            <a:gdLst/>
            <a:ahLst/>
            <a:rect l="l" t="t" r="r" b="b"/>
            <a:pathLst>
              <a:path w="1207" h="1187">
                <a:moveTo>
                  <a:pt x="1206" y="601"/>
                </a:moveTo>
                <a:lnTo>
                  <a:pt x="1186" y="562"/>
                </a:lnTo>
                <a:lnTo>
                  <a:pt x="1186" y="523"/>
                </a:lnTo>
                <a:lnTo>
                  <a:pt x="1186" y="484"/>
                </a:lnTo>
                <a:lnTo>
                  <a:pt x="1186" y="445"/>
                </a:lnTo>
                <a:lnTo>
                  <a:pt x="1167" y="406"/>
                </a:lnTo>
                <a:lnTo>
                  <a:pt x="1147" y="367"/>
                </a:lnTo>
                <a:lnTo>
                  <a:pt x="1147" y="328"/>
                </a:lnTo>
                <a:lnTo>
                  <a:pt x="1128" y="308"/>
                </a:lnTo>
                <a:lnTo>
                  <a:pt x="1108" y="269"/>
                </a:lnTo>
                <a:lnTo>
                  <a:pt x="1089" y="230"/>
                </a:lnTo>
                <a:lnTo>
                  <a:pt x="1050" y="211"/>
                </a:lnTo>
                <a:lnTo>
                  <a:pt x="1030" y="172"/>
                </a:lnTo>
                <a:lnTo>
                  <a:pt x="1011" y="152"/>
                </a:lnTo>
                <a:lnTo>
                  <a:pt x="972" y="133"/>
                </a:lnTo>
                <a:lnTo>
                  <a:pt x="953" y="94"/>
                </a:lnTo>
                <a:lnTo>
                  <a:pt x="914" y="77"/>
                </a:lnTo>
                <a:lnTo>
                  <a:pt x="875" y="58"/>
                </a:lnTo>
                <a:lnTo>
                  <a:pt x="855" y="38"/>
                </a:lnTo>
                <a:lnTo>
                  <a:pt x="816" y="38"/>
                </a:lnTo>
                <a:lnTo>
                  <a:pt x="778" y="19"/>
                </a:lnTo>
                <a:lnTo>
                  <a:pt x="739" y="0"/>
                </a:lnTo>
                <a:lnTo>
                  <a:pt x="700" y="0"/>
                </a:lnTo>
                <a:lnTo>
                  <a:pt x="661" y="0"/>
                </a:lnTo>
                <a:lnTo>
                  <a:pt x="622" y="0"/>
                </a:lnTo>
                <a:lnTo>
                  <a:pt x="603" y="0"/>
                </a:lnTo>
                <a:lnTo>
                  <a:pt x="564" y="0"/>
                </a:lnTo>
                <a:lnTo>
                  <a:pt x="525" y="0"/>
                </a:lnTo>
                <a:lnTo>
                  <a:pt x="486" y="0"/>
                </a:lnTo>
                <a:lnTo>
                  <a:pt x="447" y="0"/>
                </a:lnTo>
                <a:lnTo>
                  <a:pt x="408" y="19"/>
                </a:lnTo>
                <a:lnTo>
                  <a:pt x="369" y="38"/>
                </a:lnTo>
                <a:lnTo>
                  <a:pt x="330" y="38"/>
                </a:lnTo>
                <a:lnTo>
                  <a:pt x="311" y="58"/>
                </a:lnTo>
                <a:lnTo>
                  <a:pt x="272" y="77"/>
                </a:lnTo>
                <a:lnTo>
                  <a:pt x="233" y="94"/>
                </a:lnTo>
                <a:lnTo>
                  <a:pt x="213" y="133"/>
                </a:lnTo>
                <a:lnTo>
                  <a:pt x="175" y="152"/>
                </a:lnTo>
                <a:lnTo>
                  <a:pt x="155" y="172"/>
                </a:lnTo>
                <a:lnTo>
                  <a:pt x="136" y="211"/>
                </a:lnTo>
                <a:lnTo>
                  <a:pt x="97" y="230"/>
                </a:lnTo>
                <a:lnTo>
                  <a:pt x="77" y="269"/>
                </a:lnTo>
                <a:lnTo>
                  <a:pt x="58" y="308"/>
                </a:lnTo>
                <a:lnTo>
                  <a:pt x="38" y="328"/>
                </a:lnTo>
                <a:lnTo>
                  <a:pt x="38" y="367"/>
                </a:lnTo>
                <a:lnTo>
                  <a:pt x="19" y="406"/>
                </a:lnTo>
                <a:lnTo>
                  <a:pt x="0" y="445"/>
                </a:lnTo>
                <a:lnTo>
                  <a:pt x="0" y="484"/>
                </a:lnTo>
                <a:lnTo>
                  <a:pt x="0" y="523"/>
                </a:lnTo>
                <a:lnTo>
                  <a:pt x="0" y="562"/>
                </a:lnTo>
                <a:lnTo>
                  <a:pt x="0" y="601"/>
                </a:lnTo>
                <a:lnTo>
                  <a:pt x="0" y="620"/>
                </a:lnTo>
                <a:lnTo>
                  <a:pt x="0" y="659"/>
                </a:lnTo>
                <a:lnTo>
                  <a:pt x="0" y="698"/>
                </a:lnTo>
                <a:lnTo>
                  <a:pt x="0" y="737"/>
                </a:lnTo>
                <a:lnTo>
                  <a:pt x="19" y="776"/>
                </a:lnTo>
                <a:lnTo>
                  <a:pt x="38" y="815"/>
                </a:lnTo>
                <a:lnTo>
                  <a:pt x="38" y="854"/>
                </a:lnTo>
                <a:lnTo>
                  <a:pt x="58" y="874"/>
                </a:lnTo>
                <a:lnTo>
                  <a:pt x="77" y="913"/>
                </a:lnTo>
                <a:lnTo>
                  <a:pt x="97" y="952"/>
                </a:lnTo>
                <a:lnTo>
                  <a:pt x="136" y="971"/>
                </a:lnTo>
                <a:lnTo>
                  <a:pt x="155" y="1010"/>
                </a:lnTo>
                <a:lnTo>
                  <a:pt x="175" y="1030"/>
                </a:lnTo>
                <a:lnTo>
                  <a:pt x="213" y="1049"/>
                </a:lnTo>
                <a:lnTo>
                  <a:pt x="233" y="1088"/>
                </a:lnTo>
                <a:lnTo>
                  <a:pt x="272" y="1108"/>
                </a:lnTo>
                <a:lnTo>
                  <a:pt x="311" y="1127"/>
                </a:lnTo>
                <a:lnTo>
                  <a:pt x="330" y="1147"/>
                </a:lnTo>
                <a:lnTo>
                  <a:pt x="369" y="1147"/>
                </a:lnTo>
                <a:lnTo>
                  <a:pt x="408" y="1166"/>
                </a:lnTo>
                <a:lnTo>
                  <a:pt x="447" y="1186"/>
                </a:lnTo>
                <a:lnTo>
                  <a:pt x="486" y="1186"/>
                </a:lnTo>
                <a:lnTo>
                  <a:pt x="525" y="1186"/>
                </a:lnTo>
                <a:lnTo>
                  <a:pt x="564" y="1186"/>
                </a:lnTo>
                <a:lnTo>
                  <a:pt x="603" y="1186"/>
                </a:lnTo>
                <a:lnTo>
                  <a:pt x="622" y="1186"/>
                </a:lnTo>
                <a:lnTo>
                  <a:pt x="661" y="1186"/>
                </a:lnTo>
                <a:lnTo>
                  <a:pt x="700" y="1186"/>
                </a:lnTo>
                <a:lnTo>
                  <a:pt x="739" y="1186"/>
                </a:lnTo>
                <a:lnTo>
                  <a:pt x="778" y="1166"/>
                </a:lnTo>
                <a:lnTo>
                  <a:pt x="816" y="1147"/>
                </a:lnTo>
                <a:lnTo>
                  <a:pt x="855" y="1147"/>
                </a:lnTo>
                <a:lnTo>
                  <a:pt x="875" y="1127"/>
                </a:lnTo>
                <a:lnTo>
                  <a:pt x="914" y="1108"/>
                </a:lnTo>
                <a:lnTo>
                  <a:pt x="953" y="1088"/>
                </a:lnTo>
                <a:lnTo>
                  <a:pt x="972" y="1049"/>
                </a:lnTo>
                <a:lnTo>
                  <a:pt x="1011" y="1030"/>
                </a:lnTo>
                <a:lnTo>
                  <a:pt x="1030" y="1010"/>
                </a:lnTo>
                <a:lnTo>
                  <a:pt x="1050" y="971"/>
                </a:lnTo>
                <a:lnTo>
                  <a:pt x="1089" y="952"/>
                </a:lnTo>
                <a:lnTo>
                  <a:pt x="1108" y="913"/>
                </a:lnTo>
                <a:lnTo>
                  <a:pt x="1128" y="874"/>
                </a:lnTo>
                <a:lnTo>
                  <a:pt x="1147" y="854"/>
                </a:lnTo>
                <a:lnTo>
                  <a:pt x="1147" y="815"/>
                </a:lnTo>
                <a:lnTo>
                  <a:pt x="1167" y="776"/>
                </a:lnTo>
                <a:lnTo>
                  <a:pt x="1186" y="737"/>
                </a:lnTo>
                <a:lnTo>
                  <a:pt x="1186" y="698"/>
                </a:lnTo>
                <a:lnTo>
                  <a:pt x="1186" y="659"/>
                </a:lnTo>
                <a:lnTo>
                  <a:pt x="1186" y="620"/>
                </a:lnTo>
                <a:lnTo>
                  <a:pt x="1206" y="601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74840" y="880920"/>
            <a:ext cx="4662360" cy="4668840"/>
          </a:xfrm>
          <a:custGeom>
            <a:avLst/>
            <a:gdLst/>
            <a:ahLst/>
            <a:rect l="l" t="t" r="r" b="b"/>
            <a:pathLst>
              <a:path w="2937" h="2941">
                <a:moveTo>
                  <a:pt x="2936" y="1470"/>
                </a:moveTo>
                <a:lnTo>
                  <a:pt x="2912" y="1374"/>
                </a:lnTo>
                <a:lnTo>
                  <a:pt x="2912" y="1279"/>
                </a:lnTo>
                <a:lnTo>
                  <a:pt x="2888" y="1184"/>
                </a:lnTo>
                <a:lnTo>
                  <a:pt x="2888" y="1089"/>
                </a:lnTo>
                <a:lnTo>
                  <a:pt x="2841" y="994"/>
                </a:lnTo>
                <a:lnTo>
                  <a:pt x="2817" y="923"/>
                </a:lnTo>
                <a:lnTo>
                  <a:pt x="2793" y="832"/>
                </a:lnTo>
                <a:lnTo>
                  <a:pt x="2746" y="760"/>
                </a:lnTo>
                <a:lnTo>
                  <a:pt x="2698" y="665"/>
                </a:lnTo>
                <a:lnTo>
                  <a:pt x="2651" y="594"/>
                </a:lnTo>
                <a:lnTo>
                  <a:pt x="2579" y="523"/>
                </a:lnTo>
                <a:lnTo>
                  <a:pt x="2532" y="451"/>
                </a:lnTo>
                <a:lnTo>
                  <a:pt x="2461" y="380"/>
                </a:lnTo>
                <a:lnTo>
                  <a:pt x="2389" y="332"/>
                </a:lnTo>
                <a:lnTo>
                  <a:pt x="2322" y="261"/>
                </a:lnTo>
                <a:lnTo>
                  <a:pt x="2251" y="213"/>
                </a:lnTo>
                <a:lnTo>
                  <a:pt x="2156" y="166"/>
                </a:lnTo>
                <a:lnTo>
                  <a:pt x="2085" y="118"/>
                </a:lnTo>
                <a:lnTo>
                  <a:pt x="1990" y="95"/>
                </a:lnTo>
                <a:lnTo>
                  <a:pt x="1919" y="71"/>
                </a:lnTo>
                <a:lnTo>
                  <a:pt x="1824" y="23"/>
                </a:lnTo>
                <a:lnTo>
                  <a:pt x="1729" y="23"/>
                </a:lnTo>
                <a:lnTo>
                  <a:pt x="1634" y="0"/>
                </a:lnTo>
                <a:lnTo>
                  <a:pt x="1539" y="0"/>
                </a:lnTo>
                <a:lnTo>
                  <a:pt x="1468" y="0"/>
                </a:lnTo>
                <a:lnTo>
                  <a:pt x="1373" y="0"/>
                </a:lnTo>
                <a:lnTo>
                  <a:pt x="1278" y="0"/>
                </a:lnTo>
                <a:lnTo>
                  <a:pt x="1183" y="23"/>
                </a:lnTo>
                <a:lnTo>
                  <a:pt x="1088" y="23"/>
                </a:lnTo>
                <a:lnTo>
                  <a:pt x="993" y="71"/>
                </a:lnTo>
                <a:lnTo>
                  <a:pt x="921" y="95"/>
                </a:lnTo>
                <a:lnTo>
                  <a:pt x="826" y="118"/>
                </a:lnTo>
                <a:lnTo>
                  <a:pt x="755" y="166"/>
                </a:lnTo>
                <a:lnTo>
                  <a:pt x="660" y="213"/>
                </a:lnTo>
                <a:lnTo>
                  <a:pt x="589" y="261"/>
                </a:lnTo>
                <a:lnTo>
                  <a:pt x="518" y="332"/>
                </a:lnTo>
                <a:lnTo>
                  <a:pt x="447" y="380"/>
                </a:lnTo>
                <a:lnTo>
                  <a:pt x="375" y="451"/>
                </a:lnTo>
                <a:lnTo>
                  <a:pt x="328" y="523"/>
                </a:lnTo>
                <a:lnTo>
                  <a:pt x="257" y="594"/>
                </a:lnTo>
                <a:lnTo>
                  <a:pt x="209" y="665"/>
                </a:lnTo>
                <a:lnTo>
                  <a:pt x="162" y="760"/>
                </a:lnTo>
                <a:lnTo>
                  <a:pt x="118" y="832"/>
                </a:lnTo>
                <a:lnTo>
                  <a:pt x="94" y="923"/>
                </a:lnTo>
                <a:lnTo>
                  <a:pt x="71" y="994"/>
                </a:lnTo>
                <a:lnTo>
                  <a:pt x="23" y="1089"/>
                </a:lnTo>
                <a:lnTo>
                  <a:pt x="23" y="1184"/>
                </a:lnTo>
                <a:lnTo>
                  <a:pt x="0" y="1279"/>
                </a:lnTo>
                <a:lnTo>
                  <a:pt x="0" y="1374"/>
                </a:lnTo>
                <a:lnTo>
                  <a:pt x="0" y="1470"/>
                </a:lnTo>
                <a:lnTo>
                  <a:pt x="0" y="1541"/>
                </a:lnTo>
                <a:lnTo>
                  <a:pt x="0" y="1636"/>
                </a:lnTo>
                <a:lnTo>
                  <a:pt x="23" y="1731"/>
                </a:lnTo>
                <a:lnTo>
                  <a:pt x="23" y="1826"/>
                </a:lnTo>
                <a:lnTo>
                  <a:pt x="71" y="1921"/>
                </a:lnTo>
                <a:lnTo>
                  <a:pt x="94" y="1993"/>
                </a:lnTo>
                <a:lnTo>
                  <a:pt x="118" y="2088"/>
                </a:lnTo>
                <a:lnTo>
                  <a:pt x="162" y="2159"/>
                </a:lnTo>
                <a:lnTo>
                  <a:pt x="209" y="2254"/>
                </a:lnTo>
                <a:lnTo>
                  <a:pt x="257" y="2325"/>
                </a:lnTo>
                <a:lnTo>
                  <a:pt x="328" y="2397"/>
                </a:lnTo>
                <a:lnTo>
                  <a:pt x="375" y="2468"/>
                </a:lnTo>
                <a:lnTo>
                  <a:pt x="447" y="2535"/>
                </a:lnTo>
                <a:lnTo>
                  <a:pt x="518" y="2583"/>
                </a:lnTo>
                <a:lnTo>
                  <a:pt x="589" y="2654"/>
                </a:lnTo>
                <a:lnTo>
                  <a:pt x="660" y="2702"/>
                </a:lnTo>
                <a:lnTo>
                  <a:pt x="755" y="2749"/>
                </a:lnTo>
                <a:lnTo>
                  <a:pt x="826" y="2797"/>
                </a:lnTo>
                <a:lnTo>
                  <a:pt x="921" y="2821"/>
                </a:lnTo>
                <a:lnTo>
                  <a:pt x="993" y="2844"/>
                </a:lnTo>
                <a:lnTo>
                  <a:pt x="1088" y="2892"/>
                </a:lnTo>
                <a:lnTo>
                  <a:pt x="1183" y="2892"/>
                </a:lnTo>
                <a:lnTo>
                  <a:pt x="1278" y="2916"/>
                </a:lnTo>
                <a:lnTo>
                  <a:pt x="1373" y="2916"/>
                </a:lnTo>
                <a:lnTo>
                  <a:pt x="1468" y="2940"/>
                </a:lnTo>
                <a:lnTo>
                  <a:pt x="1539" y="2916"/>
                </a:lnTo>
                <a:lnTo>
                  <a:pt x="1634" y="2916"/>
                </a:lnTo>
                <a:lnTo>
                  <a:pt x="1729" y="2892"/>
                </a:lnTo>
                <a:lnTo>
                  <a:pt x="1824" y="2892"/>
                </a:lnTo>
                <a:lnTo>
                  <a:pt x="1919" y="2844"/>
                </a:lnTo>
                <a:lnTo>
                  <a:pt x="1990" y="2821"/>
                </a:lnTo>
                <a:lnTo>
                  <a:pt x="2085" y="2797"/>
                </a:lnTo>
                <a:lnTo>
                  <a:pt x="2156" y="2749"/>
                </a:lnTo>
                <a:lnTo>
                  <a:pt x="2251" y="2702"/>
                </a:lnTo>
                <a:lnTo>
                  <a:pt x="2322" y="2654"/>
                </a:lnTo>
                <a:lnTo>
                  <a:pt x="2389" y="2583"/>
                </a:lnTo>
                <a:lnTo>
                  <a:pt x="2461" y="2535"/>
                </a:lnTo>
                <a:lnTo>
                  <a:pt x="2532" y="2468"/>
                </a:lnTo>
                <a:lnTo>
                  <a:pt x="2579" y="2397"/>
                </a:lnTo>
                <a:lnTo>
                  <a:pt x="2651" y="2325"/>
                </a:lnTo>
                <a:lnTo>
                  <a:pt x="2698" y="2254"/>
                </a:lnTo>
                <a:lnTo>
                  <a:pt x="2746" y="2159"/>
                </a:lnTo>
                <a:lnTo>
                  <a:pt x="2793" y="2088"/>
                </a:lnTo>
                <a:lnTo>
                  <a:pt x="2817" y="1993"/>
                </a:lnTo>
                <a:lnTo>
                  <a:pt x="2841" y="1921"/>
                </a:lnTo>
                <a:lnTo>
                  <a:pt x="2888" y="1826"/>
                </a:lnTo>
                <a:lnTo>
                  <a:pt x="2888" y="1731"/>
                </a:lnTo>
                <a:lnTo>
                  <a:pt x="2912" y="1636"/>
                </a:lnTo>
                <a:lnTo>
                  <a:pt x="2912" y="1541"/>
                </a:lnTo>
                <a:lnTo>
                  <a:pt x="2936" y="147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01680" y="744480"/>
            <a:ext cx="4977000" cy="4983120"/>
          </a:xfrm>
          <a:custGeom>
            <a:avLst/>
            <a:gdLst/>
            <a:ahLst/>
            <a:rect l="l" t="t" r="r" b="b"/>
            <a:pathLst>
              <a:path w="3135" h="3139">
                <a:moveTo>
                  <a:pt x="3134" y="1569"/>
                </a:moveTo>
                <a:lnTo>
                  <a:pt x="3108" y="1467"/>
                </a:lnTo>
                <a:lnTo>
                  <a:pt x="3108" y="1366"/>
                </a:lnTo>
                <a:lnTo>
                  <a:pt x="3083" y="1264"/>
                </a:lnTo>
                <a:lnTo>
                  <a:pt x="3083" y="1163"/>
                </a:lnTo>
                <a:lnTo>
                  <a:pt x="3032" y="1061"/>
                </a:lnTo>
                <a:lnTo>
                  <a:pt x="3007" y="985"/>
                </a:lnTo>
                <a:lnTo>
                  <a:pt x="2981" y="888"/>
                </a:lnTo>
                <a:lnTo>
                  <a:pt x="2931" y="811"/>
                </a:lnTo>
                <a:lnTo>
                  <a:pt x="2880" y="710"/>
                </a:lnTo>
                <a:lnTo>
                  <a:pt x="2829" y="634"/>
                </a:lnTo>
                <a:lnTo>
                  <a:pt x="2753" y="558"/>
                </a:lnTo>
                <a:lnTo>
                  <a:pt x="2703" y="482"/>
                </a:lnTo>
                <a:lnTo>
                  <a:pt x="2627" y="405"/>
                </a:lnTo>
                <a:lnTo>
                  <a:pt x="2551" y="355"/>
                </a:lnTo>
                <a:lnTo>
                  <a:pt x="2479" y="279"/>
                </a:lnTo>
                <a:lnTo>
                  <a:pt x="2403" y="228"/>
                </a:lnTo>
                <a:lnTo>
                  <a:pt x="2301" y="177"/>
                </a:lnTo>
                <a:lnTo>
                  <a:pt x="2225" y="126"/>
                </a:lnTo>
                <a:lnTo>
                  <a:pt x="2124" y="101"/>
                </a:lnTo>
                <a:lnTo>
                  <a:pt x="2048" y="76"/>
                </a:lnTo>
                <a:lnTo>
                  <a:pt x="1947" y="25"/>
                </a:lnTo>
                <a:lnTo>
                  <a:pt x="1845" y="25"/>
                </a:lnTo>
                <a:lnTo>
                  <a:pt x="1744" y="0"/>
                </a:lnTo>
                <a:lnTo>
                  <a:pt x="1643" y="0"/>
                </a:lnTo>
                <a:lnTo>
                  <a:pt x="1567" y="0"/>
                </a:lnTo>
                <a:lnTo>
                  <a:pt x="1465" y="0"/>
                </a:lnTo>
                <a:lnTo>
                  <a:pt x="1364" y="0"/>
                </a:lnTo>
                <a:lnTo>
                  <a:pt x="1262" y="25"/>
                </a:lnTo>
                <a:lnTo>
                  <a:pt x="1161" y="25"/>
                </a:lnTo>
                <a:lnTo>
                  <a:pt x="1060" y="76"/>
                </a:lnTo>
                <a:lnTo>
                  <a:pt x="984" y="101"/>
                </a:lnTo>
                <a:lnTo>
                  <a:pt x="882" y="126"/>
                </a:lnTo>
                <a:lnTo>
                  <a:pt x="806" y="177"/>
                </a:lnTo>
                <a:lnTo>
                  <a:pt x="705" y="228"/>
                </a:lnTo>
                <a:lnTo>
                  <a:pt x="629" y="279"/>
                </a:lnTo>
                <a:lnTo>
                  <a:pt x="553" y="355"/>
                </a:lnTo>
                <a:lnTo>
                  <a:pt x="477" y="405"/>
                </a:lnTo>
                <a:lnTo>
                  <a:pt x="401" y="482"/>
                </a:lnTo>
                <a:lnTo>
                  <a:pt x="350" y="558"/>
                </a:lnTo>
                <a:lnTo>
                  <a:pt x="274" y="634"/>
                </a:lnTo>
                <a:lnTo>
                  <a:pt x="223" y="710"/>
                </a:lnTo>
                <a:lnTo>
                  <a:pt x="173" y="811"/>
                </a:lnTo>
                <a:lnTo>
                  <a:pt x="126" y="888"/>
                </a:lnTo>
                <a:lnTo>
                  <a:pt x="101" y="985"/>
                </a:lnTo>
                <a:lnTo>
                  <a:pt x="76" y="1061"/>
                </a:lnTo>
                <a:lnTo>
                  <a:pt x="25" y="1163"/>
                </a:lnTo>
                <a:lnTo>
                  <a:pt x="25" y="1264"/>
                </a:lnTo>
                <a:lnTo>
                  <a:pt x="0" y="1366"/>
                </a:lnTo>
                <a:lnTo>
                  <a:pt x="0" y="1467"/>
                </a:lnTo>
                <a:lnTo>
                  <a:pt x="0" y="1569"/>
                </a:lnTo>
                <a:lnTo>
                  <a:pt x="0" y="1645"/>
                </a:lnTo>
                <a:lnTo>
                  <a:pt x="0" y="1746"/>
                </a:lnTo>
                <a:lnTo>
                  <a:pt x="25" y="1848"/>
                </a:lnTo>
                <a:lnTo>
                  <a:pt x="25" y="1949"/>
                </a:lnTo>
                <a:lnTo>
                  <a:pt x="76" y="2051"/>
                </a:lnTo>
                <a:lnTo>
                  <a:pt x="101" y="2127"/>
                </a:lnTo>
                <a:lnTo>
                  <a:pt x="126" y="2228"/>
                </a:lnTo>
                <a:lnTo>
                  <a:pt x="173" y="2304"/>
                </a:lnTo>
                <a:lnTo>
                  <a:pt x="223" y="2406"/>
                </a:lnTo>
                <a:lnTo>
                  <a:pt x="274" y="2482"/>
                </a:lnTo>
                <a:lnTo>
                  <a:pt x="350" y="2558"/>
                </a:lnTo>
                <a:lnTo>
                  <a:pt x="401" y="2634"/>
                </a:lnTo>
                <a:lnTo>
                  <a:pt x="477" y="2706"/>
                </a:lnTo>
                <a:lnTo>
                  <a:pt x="553" y="2757"/>
                </a:lnTo>
                <a:lnTo>
                  <a:pt x="629" y="2833"/>
                </a:lnTo>
                <a:lnTo>
                  <a:pt x="705" y="2884"/>
                </a:lnTo>
                <a:lnTo>
                  <a:pt x="806" y="2935"/>
                </a:lnTo>
                <a:lnTo>
                  <a:pt x="882" y="2985"/>
                </a:lnTo>
                <a:lnTo>
                  <a:pt x="984" y="3011"/>
                </a:lnTo>
                <a:lnTo>
                  <a:pt x="1060" y="3036"/>
                </a:lnTo>
                <a:lnTo>
                  <a:pt x="1161" y="3087"/>
                </a:lnTo>
                <a:lnTo>
                  <a:pt x="1262" y="3087"/>
                </a:lnTo>
                <a:lnTo>
                  <a:pt x="1364" y="3112"/>
                </a:lnTo>
                <a:lnTo>
                  <a:pt x="1465" y="3112"/>
                </a:lnTo>
                <a:lnTo>
                  <a:pt x="1567" y="3138"/>
                </a:lnTo>
                <a:lnTo>
                  <a:pt x="1643" y="3112"/>
                </a:lnTo>
                <a:lnTo>
                  <a:pt x="1744" y="3112"/>
                </a:lnTo>
                <a:lnTo>
                  <a:pt x="1845" y="3087"/>
                </a:lnTo>
                <a:lnTo>
                  <a:pt x="1947" y="3087"/>
                </a:lnTo>
                <a:lnTo>
                  <a:pt x="2048" y="3036"/>
                </a:lnTo>
                <a:lnTo>
                  <a:pt x="2124" y="3011"/>
                </a:lnTo>
                <a:lnTo>
                  <a:pt x="2225" y="2985"/>
                </a:lnTo>
                <a:lnTo>
                  <a:pt x="2301" y="2935"/>
                </a:lnTo>
                <a:lnTo>
                  <a:pt x="2403" y="2884"/>
                </a:lnTo>
                <a:lnTo>
                  <a:pt x="2479" y="2833"/>
                </a:lnTo>
                <a:lnTo>
                  <a:pt x="2551" y="2757"/>
                </a:lnTo>
                <a:lnTo>
                  <a:pt x="2627" y="2706"/>
                </a:lnTo>
                <a:lnTo>
                  <a:pt x="2703" y="2634"/>
                </a:lnTo>
                <a:lnTo>
                  <a:pt x="2753" y="2558"/>
                </a:lnTo>
                <a:lnTo>
                  <a:pt x="2829" y="2482"/>
                </a:lnTo>
                <a:lnTo>
                  <a:pt x="2880" y="2406"/>
                </a:lnTo>
                <a:lnTo>
                  <a:pt x="2931" y="2304"/>
                </a:lnTo>
                <a:lnTo>
                  <a:pt x="2981" y="2228"/>
                </a:lnTo>
                <a:lnTo>
                  <a:pt x="3007" y="2127"/>
                </a:lnTo>
                <a:lnTo>
                  <a:pt x="3032" y="2051"/>
                </a:lnTo>
                <a:lnTo>
                  <a:pt x="3083" y="1949"/>
                </a:lnTo>
                <a:lnTo>
                  <a:pt x="3083" y="1848"/>
                </a:lnTo>
                <a:lnTo>
                  <a:pt x="3108" y="1746"/>
                </a:lnTo>
                <a:lnTo>
                  <a:pt x="3108" y="1645"/>
                </a:lnTo>
                <a:lnTo>
                  <a:pt x="3134" y="1569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1800" y="6300720"/>
            <a:ext cx="580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4-bitna kvantizacija (3 bita + predzna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441440" y="84240"/>
            <a:ext cx="7656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na realizacija filtra s dva pola dana je slik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322440" y="1006560"/>
            <a:ext cx="384840" cy="519120"/>
            <a:chOff x="3322440" y="1006560"/>
            <a:chExt cx="384840" cy="519120"/>
          </a:xfrm>
        </p:grpSpPr>
        <p:sp>
          <p:nvSpPr>
            <p:cNvPr id="468" name=""/>
            <p:cNvSpPr/>
            <p:nvPr/>
          </p:nvSpPr>
          <p:spPr>
            <a:xfrm>
              <a:off x="3332160" y="1063800"/>
              <a:ext cx="355680" cy="3664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22440" y="1006560"/>
              <a:ext cx="384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549320" y="1008000"/>
            <a:ext cx="384840" cy="519120"/>
            <a:chOff x="4549320" y="1008000"/>
            <a:chExt cx="384840" cy="519120"/>
          </a:xfrm>
        </p:grpSpPr>
        <p:sp>
          <p:nvSpPr>
            <p:cNvPr id="471" name=""/>
            <p:cNvSpPr/>
            <p:nvPr/>
          </p:nvSpPr>
          <p:spPr>
            <a:xfrm>
              <a:off x="4559400" y="1065240"/>
              <a:ext cx="355680" cy="366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49320" y="1008000"/>
              <a:ext cx="384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559480" y="1550880"/>
            <a:ext cx="807840" cy="569880"/>
            <a:chOff x="5559480" y="1550880"/>
            <a:chExt cx="807840" cy="569880"/>
          </a:xfrm>
        </p:grpSpPr>
        <p:sp>
          <p:nvSpPr>
            <p:cNvPr id="474" name=""/>
            <p:cNvSpPr/>
            <p:nvPr/>
          </p:nvSpPr>
          <p:spPr>
            <a:xfrm>
              <a:off x="5559480" y="1550880"/>
              <a:ext cx="807840" cy="569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67560" y="1588680"/>
              <a:ext cx="514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559480" y="4433760"/>
            <a:ext cx="807840" cy="569880"/>
            <a:chOff x="5559480" y="4433760"/>
            <a:chExt cx="807840" cy="569880"/>
          </a:xfrm>
        </p:grpSpPr>
        <p:sp>
          <p:nvSpPr>
            <p:cNvPr id="477" name=""/>
            <p:cNvSpPr/>
            <p:nvPr/>
          </p:nvSpPr>
          <p:spPr>
            <a:xfrm>
              <a:off x="5559480" y="4433760"/>
              <a:ext cx="807840" cy="569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67560" y="4471560"/>
              <a:ext cx="514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462040" y="1265400"/>
            <a:ext cx="83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10000" y="1455840"/>
            <a:ext cx="0" cy="89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0360" y="126540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2157480"/>
            <a:ext cx="0" cy="834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34000" y="2441520"/>
            <a:ext cx="1193760" cy="1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05200" y="3981600"/>
            <a:ext cx="3240" cy="171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46360" y="5397480"/>
            <a:ext cx="239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27080" y="1611360"/>
            <a:ext cx="94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36800" y="1265400"/>
            <a:ext cx="83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2880" y="1265400"/>
            <a:ext cx="99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724280" y="1455840"/>
            <a:ext cx="1116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451400" y="1755720"/>
            <a:ext cx="558360" cy="503280"/>
            <a:chOff x="4451400" y="1755720"/>
            <a:chExt cx="558360" cy="503280"/>
          </a:xfrm>
        </p:grpSpPr>
        <p:sp>
          <p:nvSpPr>
            <p:cNvPr id="491" name=""/>
            <p:cNvSpPr/>
            <p:nvPr/>
          </p:nvSpPr>
          <p:spPr>
            <a:xfrm flipH="1">
              <a:off x="4458960" y="2247840"/>
              <a:ext cx="546120" cy="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4725720" y="1765080"/>
              <a:ext cx="284040" cy="476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451400" y="1755720"/>
              <a:ext cx="276120" cy="50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 flipV="1">
            <a:off x="4734000" y="2265480"/>
            <a:ext cx="1440" cy="17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664240" y="2990880"/>
            <a:ext cx="558360" cy="503280"/>
            <a:chOff x="5664240" y="2990880"/>
            <a:chExt cx="558360" cy="503280"/>
          </a:xfrm>
        </p:grpSpPr>
        <p:sp>
          <p:nvSpPr>
            <p:cNvPr id="496" name=""/>
            <p:cNvSpPr/>
            <p:nvPr/>
          </p:nvSpPr>
          <p:spPr>
            <a:xfrm flipH="1" flipV="1">
              <a:off x="5671800" y="2991960"/>
              <a:ext cx="546120" cy="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38560" y="3008520"/>
              <a:ext cx="284040" cy="476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64240" y="2990880"/>
              <a:ext cx="276120" cy="50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940360" y="3479760"/>
            <a:ext cx="0" cy="322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52800" y="3746520"/>
            <a:ext cx="384840" cy="519120"/>
            <a:chOff x="5752800" y="3746520"/>
            <a:chExt cx="384840" cy="519120"/>
          </a:xfrm>
        </p:grpSpPr>
        <p:sp>
          <p:nvSpPr>
            <p:cNvPr id="501" name=""/>
            <p:cNvSpPr/>
            <p:nvPr/>
          </p:nvSpPr>
          <p:spPr>
            <a:xfrm>
              <a:off x="5762520" y="3803760"/>
              <a:ext cx="355680" cy="366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52800" y="3746520"/>
              <a:ext cx="384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5940360" y="4194000"/>
            <a:ext cx="11160" cy="25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232080" y="2322000"/>
            <a:ext cx="558360" cy="502920"/>
            <a:chOff x="3232080" y="2322000"/>
            <a:chExt cx="558360" cy="502920"/>
          </a:xfrm>
        </p:grpSpPr>
        <p:sp>
          <p:nvSpPr>
            <p:cNvPr id="505" name=""/>
            <p:cNvSpPr/>
            <p:nvPr/>
          </p:nvSpPr>
          <p:spPr>
            <a:xfrm flipH="1">
              <a:off x="3239640" y="2814480"/>
              <a:ext cx="546120" cy="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3506400" y="2331360"/>
              <a:ext cx="284040" cy="476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232080" y="2322000"/>
              <a:ext cx="276120" cy="50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451400" y="4125960"/>
            <a:ext cx="558360" cy="503280"/>
            <a:chOff x="4451400" y="4125960"/>
            <a:chExt cx="558360" cy="503280"/>
          </a:xfrm>
        </p:grpSpPr>
        <p:sp>
          <p:nvSpPr>
            <p:cNvPr id="509" name=""/>
            <p:cNvSpPr/>
            <p:nvPr/>
          </p:nvSpPr>
          <p:spPr>
            <a:xfrm flipH="1">
              <a:off x="4458960" y="4618080"/>
              <a:ext cx="546120" cy="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4725720" y="4134960"/>
              <a:ext cx="284040" cy="476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451400" y="4125960"/>
              <a:ext cx="276120" cy="50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 flipV="1">
            <a:off x="3510000" y="2825640"/>
            <a:ext cx="0" cy="2571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40360" y="501480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723920" y="4630680"/>
            <a:ext cx="3240" cy="770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00520" y="3981600"/>
            <a:ext cx="1013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4248000"/>
            <a:ext cx="1012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4080" y="1052640"/>
            <a:ext cx="69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27080" y="4016520"/>
            <a:ext cx="94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360" y="2325600"/>
            <a:ext cx="99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-r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31640" y="3076560"/>
            <a:ext cx="89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944640"/>
            <a:ext cx="766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560" y="2217600"/>
            <a:ext cx="1020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59920" y="3718080"/>
            <a:ext cx="67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77080" y="5051520"/>
            <a:ext cx="93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6960" y="5586480"/>
            <a:ext cx="6124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n)=u(n) +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cos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y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n-1)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in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y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3520" y="6194520"/>
            <a:ext cx="5140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y(n)=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sin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y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n-1)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os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y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-3240" y="1954080"/>
            <a:ext cx="7439400" cy="1747800"/>
            <a:chOff x="-3240" y="1954080"/>
            <a:chExt cx="7439400" cy="1747800"/>
          </a:xfrm>
        </p:grpSpPr>
        <p:sp>
          <p:nvSpPr>
            <p:cNvPr id="528" name=""/>
            <p:cNvSpPr/>
            <p:nvPr/>
          </p:nvSpPr>
          <p:spPr>
            <a:xfrm>
              <a:off x="-3240" y="1954080"/>
              <a:ext cx="743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formacijom ove dvije jednadžbe dolazimo 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1854360" y="2708280"/>
                  <a:ext cx="5298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q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-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q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0" name=""/>
          <p:cNvSpPr/>
          <p:nvPr/>
        </p:nvSpPr>
        <p:spPr>
          <a:xfrm>
            <a:off x="117000" y="4156200"/>
            <a:ext cx="9046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ovom obliku postoje dva koeficijenta </a:t>
            </a:r>
            <a:r>
              <a:rPr b="0" i="1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in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os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60" y="5146560"/>
            <a:ext cx="9056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gući polovi sada su jednoliko raspoređeni po pravokutnoj mrež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230720" y="2833560"/>
            <a:ext cx="947880" cy="928800"/>
          </a:xfrm>
          <a:custGeom>
            <a:avLst/>
            <a:gdLst/>
            <a:ahLst/>
            <a:rect l="l" t="t" r="r" b="b"/>
            <a:pathLst>
              <a:path w="597" h="585">
                <a:moveTo>
                  <a:pt x="596" y="296"/>
                </a:moveTo>
                <a:lnTo>
                  <a:pt x="586" y="276"/>
                </a:lnTo>
                <a:lnTo>
                  <a:pt x="586" y="257"/>
                </a:lnTo>
                <a:lnTo>
                  <a:pt x="586" y="238"/>
                </a:lnTo>
                <a:lnTo>
                  <a:pt x="586" y="219"/>
                </a:lnTo>
                <a:lnTo>
                  <a:pt x="576" y="200"/>
                </a:lnTo>
                <a:lnTo>
                  <a:pt x="567" y="180"/>
                </a:lnTo>
                <a:lnTo>
                  <a:pt x="567" y="161"/>
                </a:lnTo>
                <a:lnTo>
                  <a:pt x="557" y="152"/>
                </a:lnTo>
                <a:lnTo>
                  <a:pt x="547" y="132"/>
                </a:lnTo>
                <a:lnTo>
                  <a:pt x="538" y="113"/>
                </a:lnTo>
                <a:lnTo>
                  <a:pt x="519" y="104"/>
                </a:lnTo>
                <a:lnTo>
                  <a:pt x="509" y="84"/>
                </a:lnTo>
                <a:lnTo>
                  <a:pt x="499" y="75"/>
                </a:lnTo>
                <a:lnTo>
                  <a:pt x="480" y="65"/>
                </a:lnTo>
                <a:lnTo>
                  <a:pt x="471" y="46"/>
                </a:lnTo>
                <a:lnTo>
                  <a:pt x="451" y="38"/>
                </a:lnTo>
                <a:lnTo>
                  <a:pt x="432" y="28"/>
                </a:lnTo>
                <a:lnTo>
                  <a:pt x="422" y="19"/>
                </a:lnTo>
                <a:lnTo>
                  <a:pt x="403" y="19"/>
                </a:lnTo>
                <a:lnTo>
                  <a:pt x="384" y="9"/>
                </a:lnTo>
                <a:lnTo>
                  <a:pt x="365" y="0"/>
                </a:lnTo>
                <a:lnTo>
                  <a:pt x="346" y="0"/>
                </a:lnTo>
                <a:lnTo>
                  <a:pt x="326" y="0"/>
                </a:lnTo>
                <a:lnTo>
                  <a:pt x="307" y="0"/>
                </a:lnTo>
                <a:lnTo>
                  <a:pt x="298" y="0"/>
                </a:lnTo>
                <a:lnTo>
                  <a:pt x="278" y="0"/>
                </a:lnTo>
                <a:lnTo>
                  <a:pt x="259" y="0"/>
                </a:lnTo>
                <a:lnTo>
                  <a:pt x="240" y="0"/>
                </a:lnTo>
                <a:lnTo>
                  <a:pt x="221" y="0"/>
                </a:lnTo>
                <a:lnTo>
                  <a:pt x="201" y="9"/>
                </a:lnTo>
                <a:lnTo>
                  <a:pt x="182" y="19"/>
                </a:lnTo>
                <a:lnTo>
                  <a:pt x="163" y="19"/>
                </a:lnTo>
                <a:lnTo>
                  <a:pt x="153" y="28"/>
                </a:lnTo>
                <a:lnTo>
                  <a:pt x="134" y="38"/>
                </a:lnTo>
                <a:lnTo>
                  <a:pt x="115" y="46"/>
                </a:lnTo>
                <a:lnTo>
                  <a:pt x="105" y="65"/>
                </a:lnTo>
                <a:lnTo>
                  <a:pt x="86" y="75"/>
                </a:lnTo>
                <a:lnTo>
                  <a:pt x="76" y="84"/>
                </a:lnTo>
                <a:lnTo>
                  <a:pt x="67" y="104"/>
                </a:lnTo>
                <a:lnTo>
                  <a:pt x="48" y="113"/>
                </a:lnTo>
                <a:lnTo>
                  <a:pt x="38" y="132"/>
                </a:lnTo>
                <a:lnTo>
                  <a:pt x="28" y="152"/>
                </a:lnTo>
                <a:lnTo>
                  <a:pt x="19" y="161"/>
                </a:lnTo>
                <a:lnTo>
                  <a:pt x="19" y="180"/>
                </a:lnTo>
                <a:lnTo>
                  <a:pt x="9" y="200"/>
                </a:lnTo>
                <a:lnTo>
                  <a:pt x="0" y="219"/>
                </a:lnTo>
                <a:lnTo>
                  <a:pt x="0" y="238"/>
                </a:lnTo>
                <a:lnTo>
                  <a:pt x="0" y="257"/>
                </a:lnTo>
                <a:lnTo>
                  <a:pt x="0" y="276"/>
                </a:lnTo>
                <a:lnTo>
                  <a:pt x="0" y="296"/>
                </a:lnTo>
                <a:lnTo>
                  <a:pt x="0" y="305"/>
                </a:lnTo>
                <a:lnTo>
                  <a:pt x="0" y="324"/>
                </a:lnTo>
                <a:lnTo>
                  <a:pt x="0" y="344"/>
                </a:lnTo>
                <a:lnTo>
                  <a:pt x="0" y="363"/>
                </a:lnTo>
                <a:lnTo>
                  <a:pt x="9" y="382"/>
                </a:lnTo>
                <a:lnTo>
                  <a:pt x="19" y="401"/>
                </a:lnTo>
                <a:lnTo>
                  <a:pt x="19" y="420"/>
                </a:lnTo>
                <a:lnTo>
                  <a:pt x="28" y="430"/>
                </a:lnTo>
                <a:lnTo>
                  <a:pt x="38" y="449"/>
                </a:lnTo>
                <a:lnTo>
                  <a:pt x="48" y="468"/>
                </a:lnTo>
                <a:lnTo>
                  <a:pt x="67" y="478"/>
                </a:lnTo>
                <a:lnTo>
                  <a:pt x="76" y="497"/>
                </a:lnTo>
                <a:lnTo>
                  <a:pt x="86" y="507"/>
                </a:lnTo>
                <a:lnTo>
                  <a:pt x="105" y="516"/>
                </a:lnTo>
                <a:lnTo>
                  <a:pt x="115" y="536"/>
                </a:lnTo>
                <a:lnTo>
                  <a:pt x="134" y="545"/>
                </a:lnTo>
                <a:lnTo>
                  <a:pt x="153" y="555"/>
                </a:lnTo>
                <a:lnTo>
                  <a:pt x="163" y="564"/>
                </a:lnTo>
                <a:lnTo>
                  <a:pt x="182" y="564"/>
                </a:lnTo>
                <a:lnTo>
                  <a:pt x="201" y="574"/>
                </a:lnTo>
                <a:lnTo>
                  <a:pt x="221" y="584"/>
                </a:lnTo>
                <a:lnTo>
                  <a:pt x="240" y="584"/>
                </a:lnTo>
                <a:lnTo>
                  <a:pt x="259" y="584"/>
                </a:lnTo>
                <a:lnTo>
                  <a:pt x="278" y="584"/>
                </a:lnTo>
                <a:lnTo>
                  <a:pt x="298" y="584"/>
                </a:lnTo>
                <a:lnTo>
                  <a:pt x="307" y="584"/>
                </a:lnTo>
                <a:lnTo>
                  <a:pt x="326" y="584"/>
                </a:lnTo>
                <a:lnTo>
                  <a:pt x="346" y="584"/>
                </a:lnTo>
                <a:lnTo>
                  <a:pt x="365" y="584"/>
                </a:lnTo>
                <a:lnTo>
                  <a:pt x="384" y="574"/>
                </a:lnTo>
                <a:lnTo>
                  <a:pt x="403" y="564"/>
                </a:lnTo>
                <a:lnTo>
                  <a:pt x="422" y="564"/>
                </a:lnTo>
                <a:lnTo>
                  <a:pt x="432" y="555"/>
                </a:lnTo>
                <a:lnTo>
                  <a:pt x="451" y="545"/>
                </a:lnTo>
                <a:lnTo>
                  <a:pt x="471" y="536"/>
                </a:lnTo>
                <a:lnTo>
                  <a:pt x="480" y="516"/>
                </a:lnTo>
                <a:lnTo>
                  <a:pt x="499" y="507"/>
                </a:lnTo>
                <a:lnTo>
                  <a:pt x="509" y="497"/>
                </a:lnTo>
                <a:lnTo>
                  <a:pt x="519" y="478"/>
                </a:lnTo>
                <a:lnTo>
                  <a:pt x="538" y="468"/>
                </a:lnTo>
                <a:lnTo>
                  <a:pt x="547" y="449"/>
                </a:lnTo>
                <a:lnTo>
                  <a:pt x="557" y="430"/>
                </a:lnTo>
                <a:lnTo>
                  <a:pt x="567" y="420"/>
                </a:lnTo>
                <a:lnTo>
                  <a:pt x="567" y="401"/>
                </a:lnTo>
                <a:lnTo>
                  <a:pt x="576" y="382"/>
                </a:lnTo>
                <a:lnTo>
                  <a:pt x="586" y="363"/>
                </a:lnTo>
                <a:lnTo>
                  <a:pt x="586" y="344"/>
                </a:lnTo>
                <a:lnTo>
                  <a:pt x="586" y="324"/>
                </a:lnTo>
                <a:lnTo>
                  <a:pt x="586" y="305"/>
                </a:lnTo>
                <a:lnTo>
                  <a:pt x="596" y="296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49680" y="2446200"/>
            <a:ext cx="76536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60920" y="2359080"/>
            <a:ext cx="1887480" cy="1887480"/>
          </a:xfrm>
          <a:custGeom>
            <a:avLst/>
            <a:gdLst/>
            <a:ahLst/>
            <a:rect l="l" t="t" r="r" b="b"/>
            <a:pathLst>
              <a:path w="1189" h="1189">
                <a:moveTo>
                  <a:pt x="1188" y="594"/>
                </a:moveTo>
                <a:lnTo>
                  <a:pt x="1178" y="555"/>
                </a:lnTo>
                <a:lnTo>
                  <a:pt x="1178" y="517"/>
                </a:lnTo>
                <a:lnTo>
                  <a:pt x="1168" y="478"/>
                </a:lnTo>
                <a:lnTo>
                  <a:pt x="1168" y="440"/>
                </a:lnTo>
                <a:lnTo>
                  <a:pt x="1149" y="401"/>
                </a:lnTo>
                <a:lnTo>
                  <a:pt x="1139" y="373"/>
                </a:lnTo>
                <a:lnTo>
                  <a:pt x="1130" y="336"/>
                </a:lnTo>
                <a:lnTo>
                  <a:pt x="1111" y="307"/>
                </a:lnTo>
                <a:lnTo>
                  <a:pt x="1091" y="268"/>
                </a:lnTo>
                <a:lnTo>
                  <a:pt x="1072" y="240"/>
                </a:lnTo>
                <a:lnTo>
                  <a:pt x="1043" y="211"/>
                </a:lnTo>
                <a:lnTo>
                  <a:pt x="1024" y="182"/>
                </a:lnTo>
                <a:lnTo>
                  <a:pt x="995" y="153"/>
                </a:lnTo>
                <a:lnTo>
                  <a:pt x="967" y="134"/>
                </a:lnTo>
                <a:lnTo>
                  <a:pt x="939" y="105"/>
                </a:lnTo>
                <a:lnTo>
                  <a:pt x="911" y="86"/>
                </a:lnTo>
                <a:lnTo>
                  <a:pt x="872" y="67"/>
                </a:lnTo>
                <a:lnTo>
                  <a:pt x="843" y="48"/>
                </a:lnTo>
                <a:lnTo>
                  <a:pt x="805" y="38"/>
                </a:lnTo>
                <a:lnTo>
                  <a:pt x="776" y="28"/>
                </a:lnTo>
                <a:lnTo>
                  <a:pt x="738" y="9"/>
                </a:lnTo>
                <a:lnTo>
                  <a:pt x="699" y="9"/>
                </a:lnTo>
                <a:lnTo>
                  <a:pt x="661" y="0"/>
                </a:lnTo>
                <a:lnTo>
                  <a:pt x="622" y="0"/>
                </a:lnTo>
                <a:lnTo>
                  <a:pt x="594" y="0"/>
                </a:lnTo>
                <a:lnTo>
                  <a:pt x="555" y="0"/>
                </a:lnTo>
                <a:lnTo>
                  <a:pt x="517" y="0"/>
                </a:lnTo>
                <a:lnTo>
                  <a:pt x="478" y="9"/>
                </a:lnTo>
                <a:lnTo>
                  <a:pt x="440" y="9"/>
                </a:lnTo>
                <a:lnTo>
                  <a:pt x="401" y="28"/>
                </a:lnTo>
                <a:lnTo>
                  <a:pt x="373" y="38"/>
                </a:lnTo>
                <a:lnTo>
                  <a:pt x="334" y="48"/>
                </a:lnTo>
                <a:lnTo>
                  <a:pt x="305" y="67"/>
                </a:lnTo>
                <a:lnTo>
                  <a:pt x="267" y="86"/>
                </a:lnTo>
                <a:lnTo>
                  <a:pt x="238" y="105"/>
                </a:lnTo>
                <a:lnTo>
                  <a:pt x="209" y="134"/>
                </a:lnTo>
                <a:lnTo>
                  <a:pt x="180" y="153"/>
                </a:lnTo>
                <a:lnTo>
                  <a:pt x="152" y="182"/>
                </a:lnTo>
                <a:lnTo>
                  <a:pt x="132" y="211"/>
                </a:lnTo>
                <a:lnTo>
                  <a:pt x="104" y="240"/>
                </a:lnTo>
                <a:lnTo>
                  <a:pt x="84" y="268"/>
                </a:lnTo>
                <a:lnTo>
                  <a:pt x="65" y="307"/>
                </a:lnTo>
                <a:lnTo>
                  <a:pt x="48" y="336"/>
                </a:lnTo>
                <a:lnTo>
                  <a:pt x="38" y="373"/>
                </a:lnTo>
                <a:lnTo>
                  <a:pt x="28" y="401"/>
                </a:lnTo>
                <a:lnTo>
                  <a:pt x="9" y="440"/>
                </a:lnTo>
                <a:lnTo>
                  <a:pt x="9" y="478"/>
                </a:lnTo>
                <a:lnTo>
                  <a:pt x="0" y="517"/>
                </a:lnTo>
                <a:lnTo>
                  <a:pt x="0" y="555"/>
                </a:lnTo>
                <a:lnTo>
                  <a:pt x="0" y="594"/>
                </a:lnTo>
                <a:lnTo>
                  <a:pt x="0" y="622"/>
                </a:lnTo>
                <a:lnTo>
                  <a:pt x="0" y="661"/>
                </a:lnTo>
                <a:lnTo>
                  <a:pt x="9" y="699"/>
                </a:lnTo>
                <a:lnTo>
                  <a:pt x="9" y="738"/>
                </a:lnTo>
                <a:lnTo>
                  <a:pt x="28" y="776"/>
                </a:lnTo>
                <a:lnTo>
                  <a:pt x="38" y="805"/>
                </a:lnTo>
                <a:lnTo>
                  <a:pt x="48" y="843"/>
                </a:lnTo>
                <a:lnTo>
                  <a:pt x="65" y="872"/>
                </a:lnTo>
                <a:lnTo>
                  <a:pt x="84" y="911"/>
                </a:lnTo>
                <a:lnTo>
                  <a:pt x="104" y="939"/>
                </a:lnTo>
                <a:lnTo>
                  <a:pt x="132" y="968"/>
                </a:lnTo>
                <a:lnTo>
                  <a:pt x="152" y="997"/>
                </a:lnTo>
                <a:lnTo>
                  <a:pt x="180" y="1024"/>
                </a:lnTo>
                <a:lnTo>
                  <a:pt x="209" y="1043"/>
                </a:lnTo>
                <a:lnTo>
                  <a:pt x="238" y="1072"/>
                </a:lnTo>
                <a:lnTo>
                  <a:pt x="267" y="1091"/>
                </a:lnTo>
                <a:lnTo>
                  <a:pt x="305" y="1111"/>
                </a:lnTo>
                <a:lnTo>
                  <a:pt x="334" y="1130"/>
                </a:lnTo>
                <a:lnTo>
                  <a:pt x="373" y="1139"/>
                </a:lnTo>
                <a:lnTo>
                  <a:pt x="401" y="1149"/>
                </a:lnTo>
                <a:lnTo>
                  <a:pt x="440" y="1168"/>
                </a:lnTo>
                <a:lnTo>
                  <a:pt x="478" y="1168"/>
                </a:lnTo>
                <a:lnTo>
                  <a:pt x="517" y="1178"/>
                </a:lnTo>
                <a:lnTo>
                  <a:pt x="555" y="1178"/>
                </a:lnTo>
                <a:lnTo>
                  <a:pt x="594" y="1188"/>
                </a:lnTo>
                <a:lnTo>
                  <a:pt x="622" y="1178"/>
                </a:lnTo>
                <a:lnTo>
                  <a:pt x="661" y="1178"/>
                </a:lnTo>
                <a:lnTo>
                  <a:pt x="699" y="1168"/>
                </a:lnTo>
                <a:lnTo>
                  <a:pt x="738" y="1168"/>
                </a:lnTo>
                <a:lnTo>
                  <a:pt x="776" y="1149"/>
                </a:lnTo>
                <a:lnTo>
                  <a:pt x="805" y="1139"/>
                </a:lnTo>
                <a:lnTo>
                  <a:pt x="843" y="1130"/>
                </a:lnTo>
                <a:lnTo>
                  <a:pt x="872" y="1111"/>
                </a:lnTo>
                <a:lnTo>
                  <a:pt x="911" y="1091"/>
                </a:lnTo>
                <a:lnTo>
                  <a:pt x="939" y="1072"/>
                </a:lnTo>
                <a:lnTo>
                  <a:pt x="967" y="1043"/>
                </a:lnTo>
                <a:lnTo>
                  <a:pt x="995" y="1024"/>
                </a:lnTo>
                <a:lnTo>
                  <a:pt x="1024" y="997"/>
                </a:lnTo>
                <a:lnTo>
                  <a:pt x="1043" y="968"/>
                </a:lnTo>
                <a:lnTo>
                  <a:pt x="1072" y="939"/>
                </a:lnTo>
                <a:lnTo>
                  <a:pt x="1091" y="911"/>
                </a:lnTo>
                <a:lnTo>
                  <a:pt x="1111" y="872"/>
                </a:lnTo>
                <a:lnTo>
                  <a:pt x="1130" y="843"/>
                </a:lnTo>
                <a:lnTo>
                  <a:pt x="1139" y="805"/>
                </a:lnTo>
                <a:lnTo>
                  <a:pt x="1149" y="776"/>
                </a:lnTo>
                <a:lnTo>
                  <a:pt x="1168" y="738"/>
                </a:lnTo>
                <a:lnTo>
                  <a:pt x="1168" y="699"/>
                </a:lnTo>
                <a:lnTo>
                  <a:pt x="1178" y="661"/>
                </a:lnTo>
                <a:lnTo>
                  <a:pt x="1178" y="622"/>
                </a:lnTo>
                <a:lnTo>
                  <a:pt x="1188" y="594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49680" y="1973160"/>
            <a:ext cx="76536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4920" y="1871640"/>
            <a:ext cx="2846520" cy="2846520"/>
          </a:xfrm>
          <a:custGeom>
            <a:avLst/>
            <a:gdLst/>
            <a:ahLst/>
            <a:rect l="l" t="t" r="r" b="b"/>
            <a:pathLst>
              <a:path w="1793" h="1793">
                <a:moveTo>
                  <a:pt x="1792" y="900"/>
                </a:moveTo>
                <a:lnTo>
                  <a:pt x="1782" y="843"/>
                </a:lnTo>
                <a:lnTo>
                  <a:pt x="1782" y="785"/>
                </a:lnTo>
                <a:lnTo>
                  <a:pt x="1772" y="728"/>
                </a:lnTo>
                <a:lnTo>
                  <a:pt x="1763" y="670"/>
                </a:lnTo>
                <a:lnTo>
                  <a:pt x="1744" y="624"/>
                </a:lnTo>
                <a:lnTo>
                  <a:pt x="1724" y="566"/>
                </a:lnTo>
                <a:lnTo>
                  <a:pt x="1705" y="518"/>
                </a:lnTo>
                <a:lnTo>
                  <a:pt x="1676" y="470"/>
                </a:lnTo>
                <a:lnTo>
                  <a:pt x="1648" y="422"/>
                </a:lnTo>
                <a:lnTo>
                  <a:pt x="1619" y="374"/>
                </a:lnTo>
                <a:lnTo>
                  <a:pt x="1580" y="326"/>
                </a:lnTo>
                <a:lnTo>
                  <a:pt x="1542" y="288"/>
                </a:lnTo>
                <a:lnTo>
                  <a:pt x="1504" y="249"/>
                </a:lnTo>
                <a:lnTo>
                  <a:pt x="1465" y="211"/>
                </a:lnTo>
                <a:lnTo>
                  <a:pt x="1417" y="172"/>
                </a:lnTo>
                <a:lnTo>
                  <a:pt x="1369" y="144"/>
                </a:lnTo>
                <a:lnTo>
                  <a:pt x="1321" y="115"/>
                </a:lnTo>
                <a:lnTo>
                  <a:pt x="1273" y="86"/>
                </a:lnTo>
                <a:lnTo>
                  <a:pt x="1227" y="67"/>
                </a:lnTo>
                <a:lnTo>
                  <a:pt x="1169" y="48"/>
                </a:lnTo>
                <a:lnTo>
                  <a:pt x="1121" y="28"/>
                </a:lnTo>
                <a:lnTo>
                  <a:pt x="1064" y="19"/>
                </a:lnTo>
                <a:lnTo>
                  <a:pt x="1006" y="9"/>
                </a:lnTo>
                <a:lnTo>
                  <a:pt x="948" y="9"/>
                </a:lnTo>
                <a:lnTo>
                  <a:pt x="900" y="0"/>
                </a:lnTo>
                <a:lnTo>
                  <a:pt x="843" y="9"/>
                </a:lnTo>
                <a:lnTo>
                  <a:pt x="785" y="9"/>
                </a:lnTo>
                <a:lnTo>
                  <a:pt x="728" y="19"/>
                </a:lnTo>
                <a:lnTo>
                  <a:pt x="670" y="28"/>
                </a:lnTo>
                <a:lnTo>
                  <a:pt x="622" y="48"/>
                </a:lnTo>
                <a:lnTo>
                  <a:pt x="564" y="67"/>
                </a:lnTo>
                <a:lnTo>
                  <a:pt x="516" y="86"/>
                </a:lnTo>
                <a:lnTo>
                  <a:pt x="468" y="115"/>
                </a:lnTo>
                <a:lnTo>
                  <a:pt x="420" y="144"/>
                </a:lnTo>
                <a:lnTo>
                  <a:pt x="372" y="172"/>
                </a:lnTo>
                <a:lnTo>
                  <a:pt x="326" y="211"/>
                </a:lnTo>
                <a:lnTo>
                  <a:pt x="288" y="249"/>
                </a:lnTo>
                <a:lnTo>
                  <a:pt x="249" y="288"/>
                </a:lnTo>
                <a:lnTo>
                  <a:pt x="211" y="326"/>
                </a:lnTo>
                <a:lnTo>
                  <a:pt x="172" y="374"/>
                </a:lnTo>
                <a:lnTo>
                  <a:pt x="144" y="422"/>
                </a:lnTo>
                <a:lnTo>
                  <a:pt x="115" y="470"/>
                </a:lnTo>
                <a:lnTo>
                  <a:pt x="86" y="518"/>
                </a:lnTo>
                <a:lnTo>
                  <a:pt x="67" y="566"/>
                </a:lnTo>
                <a:lnTo>
                  <a:pt x="48" y="624"/>
                </a:lnTo>
                <a:lnTo>
                  <a:pt x="28" y="670"/>
                </a:lnTo>
                <a:lnTo>
                  <a:pt x="19" y="728"/>
                </a:lnTo>
                <a:lnTo>
                  <a:pt x="9" y="785"/>
                </a:lnTo>
                <a:lnTo>
                  <a:pt x="9" y="843"/>
                </a:lnTo>
                <a:lnTo>
                  <a:pt x="0" y="900"/>
                </a:lnTo>
                <a:lnTo>
                  <a:pt x="9" y="948"/>
                </a:lnTo>
                <a:lnTo>
                  <a:pt x="9" y="1006"/>
                </a:lnTo>
                <a:lnTo>
                  <a:pt x="19" y="1064"/>
                </a:lnTo>
                <a:lnTo>
                  <a:pt x="28" y="1121"/>
                </a:lnTo>
                <a:lnTo>
                  <a:pt x="48" y="1169"/>
                </a:lnTo>
                <a:lnTo>
                  <a:pt x="67" y="1227"/>
                </a:lnTo>
                <a:lnTo>
                  <a:pt x="86" y="1275"/>
                </a:lnTo>
                <a:lnTo>
                  <a:pt x="115" y="1321"/>
                </a:lnTo>
                <a:lnTo>
                  <a:pt x="144" y="1369"/>
                </a:lnTo>
                <a:lnTo>
                  <a:pt x="172" y="1417"/>
                </a:lnTo>
                <a:lnTo>
                  <a:pt x="211" y="1465"/>
                </a:lnTo>
                <a:lnTo>
                  <a:pt x="249" y="1504"/>
                </a:lnTo>
                <a:lnTo>
                  <a:pt x="288" y="1542"/>
                </a:lnTo>
                <a:lnTo>
                  <a:pt x="326" y="1580"/>
                </a:lnTo>
                <a:lnTo>
                  <a:pt x="372" y="1619"/>
                </a:lnTo>
                <a:lnTo>
                  <a:pt x="420" y="1648"/>
                </a:lnTo>
                <a:lnTo>
                  <a:pt x="468" y="1676"/>
                </a:lnTo>
                <a:lnTo>
                  <a:pt x="516" y="1705"/>
                </a:lnTo>
                <a:lnTo>
                  <a:pt x="564" y="1724"/>
                </a:lnTo>
                <a:lnTo>
                  <a:pt x="622" y="1744"/>
                </a:lnTo>
                <a:lnTo>
                  <a:pt x="670" y="1763"/>
                </a:lnTo>
                <a:lnTo>
                  <a:pt x="728" y="1772"/>
                </a:lnTo>
                <a:lnTo>
                  <a:pt x="785" y="1782"/>
                </a:lnTo>
                <a:lnTo>
                  <a:pt x="843" y="1782"/>
                </a:lnTo>
                <a:lnTo>
                  <a:pt x="900" y="1792"/>
                </a:lnTo>
                <a:lnTo>
                  <a:pt x="948" y="1782"/>
                </a:lnTo>
                <a:lnTo>
                  <a:pt x="1006" y="1782"/>
                </a:lnTo>
                <a:lnTo>
                  <a:pt x="1064" y="1772"/>
                </a:lnTo>
                <a:lnTo>
                  <a:pt x="1121" y="1763"/>
                </a:lnTo>
                <a:lnTo>
                  <a:pt x="1169" y="1744"/>
                </a:lnTo>
                <a:lnTo>
                  <a:pt x="1227" y="1724"/>
                </a:lnTo>
                <a:lnTo>
                  <a:pt x="1273" y="1705"/>
                </a:lnTo>
                <a:lnTo>
                  <a:pt x="1321" y="1676"/>
                </a:lnTo>
                <a:lnTo>
                  <a:pt x="1369" y="1648"/>
                </a:lnTo>
                <a:lnTo>
                  <a:pt x="1417" y="1619"/>
                </a:lnTo>
                <a:lnTo>
                  <a:pt x="1465" y="1580"/>
                </a:lnTo>
                <a:lnTo>
                  <a:pt x="1504" y="1542"/>
                </a:lnTo>
                <a:lnTo>
                  <a:pt x="1542" y="1504"/>
                </a:lnTo>
                <a:lnTo>
                  <a:pt x="1580" y="1465"/>
                </a:lnTo>
                <a:lnTo>
                  <a:pt x="1619" y="1417"/>
                </a:lnTo>
                <a:lnTo>
                  <a:pt x="1648" y="1369"/>
                </a:lnTo>
                <a:lnTo>
                  <a:pt x="1676" y="1321"/>
                </a:lnTo>
                <a:lnTo>
                  <a:pt x="1705" y="1275"/>
                </a:lnTo>
                <a:lnTo>
                  <a:pt x="1724" y="1227"/>
                </a:lnTo>
                <a:lnTo>
                  <a:pt x="1744" y="1169"/>
                </a:lnTo>
                <a:lnTo>
                  <a:pt x="1763" y="1121"/>
                </a:lnTo>
                <a:lnTo>
                  <a:pt x="1772" y="1064"/>
                </a:lnTo>
                <a:lnTo>
                  <a:pt x="1782" y="1006"/>
                </a:lnTo>
                <a:lnTo>
                  <a:pt x="1782" y="948"/>
                </a:lnTo>
                <a:lnTo>
                  <a:pt x="1792" y="90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49680" y="1504800"/>
            <a:ext cx="76536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16280" y="1401840"/>
            <a:ext cx="3776760" cy="3786120"/>
          </a:xfrm>
          <a:custGeom>
            <a:avLst/>
            <a:gdLst/>
            <a:ahLst/>
            <a:rect l="l" t="t" r="r" b="b"/>
            <a:pathLst>
              <a:path w="2379" h="2385">
                <a:moveTo>
                  <a:pt x="2378" y="1196"/>
                </a:moveTo>
                <a:lnTo>
                  <a:pt x="2368" y="1120"/>
                </a:lnTo>
                <a:lnTo>
                  <a:pt x="2368" y="1043"/>
                </a:lnTo>
                <a:lnTo>
                  <a:pt x="2349" y="966"/>
                </a:lnTo>
                <a:lnTo>
                  <a:pt x="2339" y="900"/>
                </a:lnTo>
                <a:lnTo>
                  <a:pt x="2310" y="824"/>
                </a:lnTo>
                <a:lnTo>
                  <a:pt x="2291" y="756"/>
                </a:lnTo>
                <a:lnTo>
                  <a:pt x="2262" y="689"/>
                </a:lnTo>
                <a:lnTo>
                  <a:pt x="2224" y="622"/>
                </a:lnTo>
                <a:lnTo>
                  <a:pt x="2185" y="555"/>
                </a:lnTo>
                <a:lnTo>
                  <a:pt x="2147" y="497"/>
                </a:lnTo>
                <a:lnTo>
                  <a:pt x="2099" y="430"/>
                </a:lnTo>
                <a:lnTo>
                  <a:pt x="2051" y="382"/>
                </a:lnTo>
                <a:lnTo>
                  <a:pt x="1993" y="324"/>
                </a:lnTo>
                <a:lnTo>
                  <a:pt x="1945" y="276"/>
                </a:lnTo>
                <a:lnTo>
                  <a:pt x="1878" y="230"/>
                </a:lnTo>
                <a:lnTo>
                  <a:pt x="1821" y="192"/>
                </a:lnTo>
                <a:lnTo>
                  <a:pt x="1753" y="153"/>
                </a:lnTo>
                <a:lnTo>
                  <a:pt x="1686" y="115"/>
                </a:lnTo>
                <a:lnTo>
                  <a:pt x="1619" y="86"/>
                </a:lnTo>
                <a:lnTo>
                  <a:pt x="1552" y="67"/>
                </a:lnTo>
                <a:lnTo>
                  <a:pt x="1477" y="38"/>
                </a:lnTo>
                <a:lnTo>
                  <a:pt x="1409" y="28"/>
                </a:lnTo>
                <a:lnTo>
                  <a:pt x="1333" y="9"/>
                </a:lnTo>
                <a:lnTo>
                  <a:pt x="1256" y="9"/>
                </a:lnTo>
                <a:lnTo>
                  <a:pt x="1179" y="0"/>
                </a:lnTo>
                <a:lnTo>
                  <a:pt x="1112" y="9"/>
                </a:lnTo>
                <a:lnTo>
                  <a:pt x="1035" y="9"/>
                </a:lnTo>
                <a:lnTo>
                  <a:pt x="958" y="28"/>
                </a:lnTo>
                <a:lnTo>
                  <a:pt x="891" y="38"/>
                </a:lnTo>
                <a:lnTo>
                  <a:pt x="814" y="67"/>
                </a:lnTo>
                <a:lnTo>
                  <a:pt x="747" y="86"/>
                </a:lnTo>
                <a:lnTo>
                  <a:pt x="680" y="115"/>
                </a:lnTo>
                <a:lnTo>
                  <a:pt x="614" y="153"/>
                </a:lnTo>
                <a:lnTo>
                  <a:pt x="547" y="192"/>
                </a:lnTo>
                <a:lnTo>
                  <a:pt x="489" y="230"/>
                </a:lnTo>
                <a:lnTo>
                  <a:pt x="422" y="276"/>
                </a:lnTo>
                <a:lnTo>
                  <a:pt x="374" y="324"/>
                </a:lnTo>
                <a:lnTo>
                  <a:pt x="316" y="382"/>
                </a:lnTo>
                <a:lnTo>
                  <a:pt x="268" y="430"/>
                </a:lnTo>
                <a:lnTo>
                  <a:pt x="220" y="497"/>
                </a:lnTo>
                <a:lnTo>
                  <a:pt x="182" y="555"/>
                </a:lnTo>
                <a:lnTo>
                  <a:pt x="144" y="622"/>
                </a:lnTo>
                <a:lnTo>
                  <a:pt x="105" y="689"/>
                </a:lnTo>
                <a:lnTo>
                  <a:pt x="76" y="756"/>
                </a:lnTo>
                <a:lnTo>
                  <a:pt x="57" y="824"/>
                </a:lnTo>
                <a:lnTo>
                  <a:pt x="28" y="900"/>
                </a:lnTo>
                <a:lnTo>
                  <a:pt x="19" y="966"/>
                </a:lnTo>
                <a:lnTo>
                  <a:pt x="0" y="1043"/>
                </a:lnTo>
                <a:lnTo>
                  <a:pt x="0" y="1120"/>
                </a:lnTo>
                <a:lnTo>
                  <a:pt x="0" y="1196"/>
                </a:lnTo>
                <a:lnTo>
                  <a:pt x="0" y="1264"/>
                </a:lnTo>
                <a:lnTo>
                  <a:pt x="0" y="1340"/>
                </a:lnTo>
                <a:lnTo>
                  <a:pt x="19" y="1417"/>
                </a:lnTo>
                <a:lnTo>
                  <a:pt x="28" y="1484"/>
                </a:lnTo>
                <a:lnTo>
                  <a:pt x="57" y="1561"/>
                </a:lnTo>
                <a:lnTo>
                  <a:pt x="76" y="1627"/>
                </a:lnTo>
                <a:lnTo>
                  <a:pt x="105" y="1694"/>
                </a:lnTo>
                <a:lnTo>
                  <a:pt x="144" y="1761"/>
                </a:lnTo>
                <a:lnTo>
                  <a:pt x="182" y="1828"/>
                </a:lnTo>
                <a:lnTo>
                  <a:pt x="220" y="1886"/>
                </a:lnTo>
                <a:lnTo>
                  <a:pt x="268" y="1953"/>
                </a:lnTo>
                <a:lnTo>
                  <a:pt x="316" y="2001"/>
                </a:lnTo>
                <a:lnTo>
                  <a:pt x="374" y="2059"/>
                </a:lnTo>
                <a:lnTo>
                  <a:pt x="422" y="2107"/>
                </a:lnTo>
                <a:lnTo>
                  <a:pt x="489" y="2155"/>
                </a:lnTo>
                <a:lnTo>
                  <a:pt x="547" y="2193"/>
                </a:lnTo>
                <a:lnTo>
                  <a:pt x="614" y="2232"/>
                </a:lnTo>
                <a:lnTo>
                  <a:pt x="680" y="2270"/>
                </a:lnTo>
                <a:lnTo>
                  <a:pt x="747" y="2297"/>
                </a:lnTo>
                <a:lnTo>
                  <a:pt x="814" y="2316"/>
                </a:lnTo>
                <a:lnTo>
                  <a:pt x="891" y="2345"/>
                </a:lnTo>
                <a:lnTo>
                  <a:pt x="958" y="2355"/>
                </a:lnTo>
                <a:lnTo>
                  <a:pt x="1035" y="2374"/>
                </a:lnTo>
                <a:lnTo>
                  <a:pt x="1112" y="2374"/>
                </a:lnTo>
                <a:lnTo>
                  <a:pt x="1179" y="2384"/>
                </a:lnTo>
                <a:lnTo>
                  <a:pt x="1256" y="2374"/>
                </a:lnTo>
                <a:lnTo>
                  <a:pt x="1333" y="2374"/>
                </a:lnTo>
                <a:lnTo>
                  <a:pt x="1409" y="2355"/>
                </a:lnTo>
                <a:lnTo>
                  <a:pt x="1477" y="2345"/>
                </a:lnTo>
                <a:lnTo>
                  <a:pt x="1552" y="2316"/>
                </a:lnTo>
                <a:lnTo>
                  <a:pt x="1619" y="2297"/>
                </a:lnTo>
                <a:lnTo>
                  <a:pt x="1686" y="2270"/>
                </a:lnTo>
                <a:lnTo>
                  <a:pt x="1753" y="2232"/>
                </a:lnTo>
                <a:lnTo>
                  <a:pt x="1821" y="2193"/>
                </a:lnTo>
                <a:lnTo>
                  <a:pt x="1878" y="2155"/>
                </a:lnTo>
                <a:lnTo>
                  <a:pt x="1945" y="2107"/>
                </a:lnTo>
                <a:lnTo>
                  <a:pt x="1993" y="2059"/>
                </a:lnTo>
                <a:lnTo>
                  <a:pt x="2051" y="2001"/>
                </a:lnTo>
                <a:lnTo>
                  <a:pt x="2099" y="1953"/>
                </a:lnTo>
                <a:lnTo>
                  <a:pt x="2147" y="1886"/>
                </a:lnTo>
                <a:lnTo>
                  <a:pt x="2185" y="1828"/>
                </a:lnTo>
                <a:lnTo>
                  <a:pt x="2224" y="1761"/>
                </a:lnTo>
                <a:lnTo>
                  <a:pt x="2262" y="1694"/>
                </a:lnTo>
                <a:lnTo>
                  <a:pt x="2291" y="1627"/>
                </a:lnTo>
                <a:lnTo>
                  <a:pt x="2310" y="1561"/>
                </a:lnTo>
                <a:lnTo>
                  <a:pt x="2339" y="1484"/>
                </a:lnTo>
                <a:lnTo>
                  <a:pt x="2349" y="1417"/>
                </a:lnTo>
                <a:lnTo>
                  <a:pt x="2368" y="1340"/>
                </a:lnTo>
                <a:lnTo>
                  <a:pt x="2368" y="1264"/>
                </a:lnTo>
                <a:lnTo>
                  <a:pt x="2378" y="1196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9680" y="1031760"/>
            <a:ext cx="76536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46480" y="928800"/>
            <a:ext cx="4700520" cy="4732200"/>
          </a:xfrm>
          <a:custGeom>
            <a:avLst/>
            <a:gdLst/>
            <a:ahLst/>
            <a:rect l="l" t="t" r="r" b="b"/>
            <a:pathLst>
              <a:path w="2961" h="2981">
                <a:moveTo>
                  <a:pt x="2960" y="1494"/>
                </a:moveTo>
                <a:lnTo>
                  <a:pt x="2960" y="1398"/>
                </a:lnTo>
                <a:lnTo>
                  <a:pt x="2950" y="1302"/>
                </a:lnTo>
                <a:lnTo>
                  <a:pt x="2940" y="1208"/>
                </a:lnTo>
                <a:lnTo>
                  <a:pt x="2921" y="1121"/>
                </a:lnTo>
                <a:lnTo>
                  <a:pt x="2892" y="1035"/>
                </a:lnTo>
                <a:lnTo>
                  <a:pt x="2864" y="939"/>
                </a:lnTo>
                <a:lnTo>
                  <a:pt x="2825" y="862"/>
                </a:lnTo>
                <a:lnTo>
                  <a:pt x="2777" y="776"/>
                </a:lnTo>
                <a:lnTo>
                  <a:pt x="2731" y="689"/>
                </a:lnTo>
                <a:lnTo>
                  <a:pt x="2683" y="612"/>
                </a:lnTo>
                <a:lnTo>
                  <a:pt x="2625" y="547"/>
                </a:lnTo>
                <a:lnTo>
                  <a:pt x="2558" y="470"/>
                </a:lnTo>
                <a:lnTo>
                  <a:pt x="2500" y="412"/>
                </a:lnTo>
                <a:lnTo>
                  <a:pt x="2424" y="345"/>
                </a:lnTo>
                <a:lnTo>
                  <a:pt x="2356" y="288"/>
                </a:lnTo>
                <a:lnTo>
                  <a:pt x="2280" y="240"/>
                </a:lnTo>
                <a:lnTo>
                  <a:pt x="2193" y="192"/>
                </a:lnTo>
                <a:lnTo>
                  <a:pt x="2107" y="144"/>
                </a:lnTo>
                <a:lnTo>
                  <a:pt x="2030" y="105"/>
                </a:lnTo>
                <a:lnTo>
                  <a:pt x="1934" y="76"/>
                </a:lnTo>
                <a:lnTo>
                  <a:pt x="1848" y="48"/>
                </a:lnTo>
                <a:lnTo>
                  <a:pt x="1763" y="28"/>
                </a:lnTo>
                <a:lnTo>
                  <a:pt x="1667" y="19"/>
                </a:lnTo>
                <a:lnTo>
                  <a:pt x="1571" y="9"/>
                </a:lnTo>
                <a:lnTo>
                  <a:pt x="1475" y="0"/>
                </a:lnTo>
                <a:lnTo>
                  <a:pt x="1388" y="9"/>
                </a:lnTo>
                <a:lnTo>
                  <a:pt x="1292" y="19"/>
                </a:lnTo>
                <a:lnTo>
                  <a:pt x="1196" y="28"/>
                </a:lnTo>
                <a:lnTo>
                  <a:pt x="1110" y="48"/>
                </a:lnTo>
                <a:lnTo>
                  <a:pt x="1024" y="76"/>
                </a:lnTo>
                <a:lnTo>
                  <a:pt x="929" y="105"/>
                </a:lnTo>
                <a:lnTo>
                  <a:pt x="852" y="144"/>
                </a:lnTo>
                <a:lnTo>
                  <a:pt x="766" y="192"/>
                </a:lnTo>
                <a:lnTo>
                  <a:pt x="680" y="240"/>
                </a:lnTo>
                <a:lnTo>
                  <a:pt x="603" y="288"/>
                </a:lnTo>
                <a:lnTo>
                  <a:pt x="536" y="345"/>
                </a:lnTo>
                <a:lnTo>
                  <a:pt x="459" y="412"/>
                </a:lnTo>
                <a:lnTo>
                  <a:pt x="401" y="470"/>
                </a:lnTo>
                <a:lnTo>
                  <a:pt x="334" y="547"/>
                </a:lnTo>
                <a:lnTo>
                  <a:pt x="276" y="612"/>
                </a:lnTo>
                <a:lnTo>
                  <a:pt x="228" y="689"/>
                </a:lnTo>
                <a:lnTo>
                  <a:pt x="180" y="776"/>
                </a:lnTo>
                <a:lnTo>
                  <a:pt x="132" y="862"/>
                </a:lnTo>
                <a:lnTo>
                  <a:pt x="94" y="939"/>
                </a:lnTo>
                <a:lnTo>
                  <a:pt x="65" y="1035"/>
                </a:lnTo>
                <a:lnTo>
                  <a:pt x="38" y="1121"/>
                </a:lnTo>
                <a:lnTo>
                  <a:pt x="19" y="1208"/>
                </a:lnTo>
                <a:lnTo>
                  <a:pt x="9" y="1302"/>
                </a:lnTo>
                <a:lnTo>
                  <a:pt x="0" y="1398"/>
                </a:lnTo>
                <a:lnTo>
                  <a:pt x="0" y="1494"/>
                </a:lnTo>
                <a:lnTo>
                  <a:pt x="0" y="1581"/>
                </a:lnTo>
                <a:lnTo>
                  <a:pt x="9" y="1677"/>
                </a:lnTo>
                <a:lnTo>
                  <a:pt x="19" y="1773"/>
                </a:lnTo>
                <a:lnTo>
                  <a:pt x="38" y="1859"/>
                </a:lnTo>
                <a:lnTo>
                  <a:pt x="65" y="1944"/>
                </a:lnTo>
                <a:lnTo>
                  <a:pt x="94" y="2040"/>
                </a:lnTo>
                <a:lnTo>
                  <a:pt x="132" y="2117"/>
                </a:lnTo>
                <a:lnTo>
                  <a:pt x="180" y="2203"/>
                </a:lnTo>
                <a:lnTo>
                  <a:pt x="228" y="2290"/>
                </a:lnTo>
                <a:lnTo>
                  <a:pt x="276" y="2367"/>
                </a:lnTo>
                <a:lnTo>
                  <a:pt x="334" y="2434"/>
                </a:lnTo>
                <a:lnTo>
                  <a:pt x="401" y="2511"/>
                </a:lnTo>
                <a:lnTo>
                  <a:pt x="459" y="2568"/>
                </a:lnTo>
                <a:lnTo>
                  <a:pt x="536" y="2634"/>
                </a:lnTo>
                <a:lnTo>
                  <a:pt x="603" y="2691"/>
                </a:lnTo>
                <a:lnTo>
                  <a:pt x="680" y="2739"/>
                </a:lnTo>
                <a:lnTo>
                  <a:pt x="766" y="2787"/>
                </a:lnTo>
                <a:lnTo>
                  <a:pt x="852" y="2835"/>
                </a:lnTo>
                <a:lnTo>
                  <a:pt x="929" y="2874"/>
                </a:lnTo>
                <a:lnTo>
                  <a:pt x="1024" y="2903"/>
                </a:lnTo>
                <a:lnTo>
                  <a:pt x="1110" y="2931"/>
                </a:lnTo>
                <a:lnTo>
                  <a:pt x="1196" y="2951"/>
                </a:lnTo>
                <a:lnTo>
                  <a:pt x="1292" y="2960"/>
                </a:lnTo>
                <a:lnTo>
                  <a:pt x="1388" y="2970"/>
                </a:lnTo>
                <a:lnTo>
                  <a:pt x="1475" y="2980"/>
                </a:lnTo>
                <a:lnTo>
                  <a:pt x="1571" y="2970"/>
                </a:lnTo>
                <a:lnTo>
                  <a:pt x="1667" y="2960"/>
                </a:lnTo>
                <a:lnTo>
                  <a:pt x="1763" y="2951"/>
                </a:lnTo>
                <a:lnTo>
                  <a:pt x="1848" y="2931"/>
                </a:lnTo>
                <a:lnTo>
                  <a:pt x="1934" y="2903"/>
                </a:lnTo>
                <a:lnTo>
                  <a:pt x="2030" y="2874"/>
                </a:lnTo>
                <a:lnTo>
                  <a:pt x="2107" y="2835"/>
                </a:lnTo>
                <a:lnTo>
                  <a:pt x="2193" y="2787"/>
                </a:lnTo>
                <a:lnTo>
                  <a:pt x="2280" y="2739"/>
                </a:lnTo>
                <a:lnTo>
                  <a:pt x="2356" y="2691"/>
                </a:lnTo>
                <a:lnTo>
                  <a:pt x="2424" y="2634"/>
                </a:lnTo>
                <a:lnTo>
                  <a:pt x="2500" y="2568"/>
                </a:lnTo>
                <a:lnTo>
                  <a:pt x="2558" y="2511"/>
                </a:lnTo>
                <a:lnTo>
                  <a:pt x="2625" y="2434"/>
                </a:lnTo>
                <a:lnTo>
                  <a:pt x="2683" y="2367"/>
                </a:lnTo>
                <a:lnTo>
                  <a:pt x="2731" y="2290"/>
                </a:lnTo>
                <a:lnTo>
                  <a:pt x="2777" y="2203"/>
                </a:lnTo>
                <a:lnTo>
                  <a:pt x="2825" y="2117"/>
                </a:lnTo>
                <a:lnTo>
                  <a:pt x="2864" y="2040"/>
                </a:lnTo>
                <a:lnTo>
                  <a:pt x="2892" y="1944"/>
                </a:lnTo>
                <a:lnTo>
                  <a:pt x="2921" y="1859"/>
                </a:lnTo>
                <a:lnTo>
                  <a:pt x="2940" y="1773"/>
                </a:lnTo>
                <a:lnTo>
                  <a:pt x="2950" y="1677"/>
                </a:lnTo>
                <a:lnTo>
                  <a:pt x="2960" y="1581"/>
                </a:lnTo>
                <a:lnTo>
                  <a:pt x="2960" y="1494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49320" y="561960"/>
            <a:ext cx="5644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649600" y="2114280"/>
            <a:ext cx="4091040" cy="235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516480" y="1249200"/>
            <a:ext cx="2358720" cy="4089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03760" y="928440"/>
            <a:ext cx="0" cy="4730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3516480" y="1249200"/>
            <a:ext cx="2358720" cy="4089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2649600" y="2114280"/>
            <a:ext cx="4091040" cy="235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2346480" y="3286080"/>
            <a:ext cx="4698720" cy="14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46680" y="1776240"/>
            <a:ext cx="5641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01680" y="437688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05280" y="833400"/>
            <a:ext cx="5641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3080" y="531828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11440" y="485640"/>
            <a:ext cx="5641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1320" y="566892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7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3080" y="83340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43720" y="531828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01680" y="177624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86560" y="437688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3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1040" y="3068640"/>
            <a:ext cx="6984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74000" y="3084480"/>
            <a:ext cx="4302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7600" rIns="147600" tIns="73080" bIns="73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4683240"/>
                <a:tab algn="l" pos="7024680"/>
                <a:tab algn="l" pos="93661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32360" y="33019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94280" y="32400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22880" y="330192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81560" y="32400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24560" y="330192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86480" y="32400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15080" y="330192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75200" y="32400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03800" y="33019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64280" y="32400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08720" y="33019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69200" y="32400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97800" y="3301920"/>
            <a:ext cx="1188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56480" y="32400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3280" y="29973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0376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43280" y="359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70376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932360" y="29973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9428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32360" y="359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99428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22880" y="299736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8156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22880" y="359244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8156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24560" y="299736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8648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24560" y="359244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8648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15080" y="299736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7520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15080" y="359244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87520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03800" y="29973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6428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03800" y="359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6428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8720" y="29973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920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08720" y="359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6920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97800" y="2997360"/>
            <a:ext cx="1188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56480" y="29354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97800" y="3592440"/>
            <a:ext cx="1188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56480" y="35305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43280" y="2709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0376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3280" y="38815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70376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32360" y="2709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9428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32360" y="38815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9428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22880" y="270972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8156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222880" y="388152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8156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24560" y="270972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8648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24560" y="388152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8648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15080" y="270972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87520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15080" y="388152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7520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03800" y="2709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16428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03800" y="38815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6428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08720" y="2709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46920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08720" y="38815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46920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697800" y="2709720"/>
            <a:ext cx="1188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56480" y="264780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697800" y="3881520"/>
            <a:ext cx="1188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56480" y="382104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3280" y="24051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0376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43280" y="41832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0376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32360" y="24051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9428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32360" y="41832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9428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22880" y="240516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8156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22880" y="418320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8156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524560" y="240516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648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24560" y="418320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8648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15080" y="240516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7520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815080" y="418320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87520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800" y="24051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6428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03800" y="41832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428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08720" y="24051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6920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08720" y="41832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6920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697800" y="2405160"/>
            <a:ext cx="1188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56480" y="234324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97800" y="4183200"/>
            <a:ext cx="1188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56480" y="412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43280" y="211608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03760" y="205596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3280" y="4473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03760" y="441180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32360" y="211608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94280" y="205596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32360" y="4473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94280" y="441180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22880" y="211608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81560" y="205596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22880" y="447372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81560" y="441180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24560" y="211608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86480" y="205596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24560" y="447372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86480" y="441180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15080" y="211608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75200" y="205596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15080" y="447372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75200" y="441180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03800" y="211608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64280" y="205596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103800" y="4473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64280" y="441180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08720" y="211608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69200" y="205596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8720" y="44737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69200" y="441180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43280" y="18288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03760" y="176832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43280" y="476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703760" y="470232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32360" y="18288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94280" y="176832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32360" y="476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94280" y="470232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2880" y="182880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81560" y="176832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22880" y="476244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81560" y="470232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24560" y="182880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86480" y="176832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4560" y="476244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86480" y="470232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15080" y="182880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875200" y="176832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15080" y="476244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75200" y="470232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03800" y="18288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64280" y="176832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03800" y="476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64280" y="470232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408720" y="182880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469200" y="176832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08720" y="47624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69200" y="4702320"/>
            <a:ext cx="0" cy="12204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43280" y="152388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03760" y="146196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43280" y="50641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03760" y="500688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32360" y="152388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94280" y="146196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32360" y="50641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94280" y="500688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22880" y="152388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81560" y="146196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22880" y="506412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81560" y="500688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24560" y="152388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86480" y="146196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24560" y="506412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86480" y="500688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15080" y="152388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75200" y="146196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15080" y="5064120"/>
            <a:ext cx="1206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75200" y="500688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03800" y="152388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64280" y="146196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103800" y="506412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64280" y="5006880"/>
            <a:ext cx="0" cy="11916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43280" y="12351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703760" y="117468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43280" y="53546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703760" y="529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32360" y="123516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994280" y="117468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32360" y="5354640"/>
            <a:ext cx="1224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94280" y="529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22880" y="123516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81560" y="117468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22880" y="5354640"/>
            <a:ext cx="11916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81560" y="529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24560" y="123516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86480" y="1174680"/>
            <a:ext cx="0" cy="1206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524560" y="5354640"/>
            <a:ext cx="12204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86480" y="5292720"/>
            <a:ext cx="0" cy="12240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514440" y="1943280"/>
            <a:ext cx="73324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ovi su sada jednoliko raspoređeni unutar jedinične kružn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jenu za to plaćamo povećanjem broja operaci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lno bi bilo odabrati strukturu koja omogućava gust raspored mogućnosti za polove u području gdje polovi inače lež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imjer kvantizacije koeficijen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7520" y="2859120"/>
            <a:ext cx="74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 primjeru IIR eliptičkog filtra šestog reda biti ć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kazan utjecaj kvantizacije koeficijen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sporediti će se direktna i kaskadna realizacij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475920"/>
            <a:ext cx="7847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200" spc="-1" strike="noStrike">
                <a:solidFill>
                  <a:srgbClr val="00cccc"/>
                </a:solidFill>
                <a:latin typeface="Times New Roman"/>
              </a:rPr>
              <a:t>Kvantizacija filtarskih koeficijenata</a:t>
            </a:r>
            <a:endParaRPr b="0" i="1" lang="en-US" sz="4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očnost s kojom se mogu specificirati koeficijenti filtra ograničena je duljinom  riječi računala ili duljinom regis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vantizacija koeficijenata ima za posljedicu promjenu položaja polova i nula, tj. promjenu frekvencijske karakterist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sjetljivost frekvencijske karakteristike na kvantizaciju koeficijenata moguće je minimizirati realizacijom filtra kao spoja sekcija drugog reda (paralelna ili kaskadna realizacij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4608720" y="67644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ktna 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557600" y="3421080"/>
            <a:ext cx="4519800" cy="33987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4519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4608720" y="67644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ktna 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92520" y="3417840"/>
            <a:ext cx="4519800" cy="33987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25560" y="28440"/>
            <a:ext cx="451944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4608720" y="67644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ktna 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4576680" y="3427560"/>
            <a:ext cx="4519800" cy="33987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38160" y="25560"/>
            <a:ext cx="4519440" cy="33987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295200" y="3740040"/>
            <a:ext cx="4572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 CE"/>
              </a:rPr>
              <a:t>nule  za kvantizirane koeficij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-2.1537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-0.1910 + 0.9816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-0.1910 - 0.9816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-0.5000 + 0.8660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-0.5000 - 0.8660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-0.464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4608720" y="67644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ktna 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4592520" y="3427560"/>
            <a:ext cx="4519800" cy="33987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8160" y="25560"/>
            <a:ext cx="4519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946560" y="676440"/>
            <a:ext cx="17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skad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592520" y="3427560"/>
            <a:ext cx="4519800" cy="33987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4519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946560" y="676440"/>
            <a:ext cx="17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skad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4576680" y="3411360"/>
            <a:ext cx="4519800" cy="339912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42840" y="25560"/>
            <a:ext cx="45198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6946560" y="676440"/>
            <a:ext cx="17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skad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4576680" y="3419640"/>
            <a:ext cx="4519800" cy="33987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38160" y="12600"/>
            <a:ext cx="4519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6946560" y="676440"/>
            <a:ext cx="17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skad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izaci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4576680" y="3411360"/>
            <a:ext cx="4519800" cy="33991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25560" y="12600"/>
            <a:ext cx="4519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5560" y="25560"/>
            <a:ext cx="4519440" cy="33987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25560" y="3452760"/>
            <a:ext cx="4519440" cy="33987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4584600" y="25560"/>
            <a:ext cx="4519800" cy="33987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4"/>
          <a:stretch/>
        </p:blipFill>
        <p:spPr>
          <a:xfrm>
            <a:off x="4573440" y="3459240"/>
            <a:ext cx="45198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25560" y="12600"/>
            <a:ext cx="4519440" cy="339876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34920" y="3446640"/>
            <a:ext cx="4519440" cy="33987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4586400" y="12600"/>
            <a:ext cx="4519440" cy="33987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4"/>
          <a:stretch/>
        </p:blipFill>
        <p:spPr>
          <a:xfrm>
            <a:off x="4586400" y="3433680"/>
            <a:ext cx="4519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47320"/>
            <a:ext cx="7847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Analiza osjetljivosti na kvantizaciju filtarskih koeficijenat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3360" y="1614600"/>
            <a:ext cx="8184600" cy="2624040"/>
            <a:chOff x="513360" y="1614600"/>
            <a:chExt cx="8184600" cy="2624040"/>
          </a:xfrm>
        </p:grpSpPr>
        <p:sp>
          <p:nvSpPr>
            <p:cNvPr id="115" name=""/>
            <p:cNvSpPr/>
            <p:nvPr/>
          </p:nvSpPr>
          <p:spPr>
            <a:xfrm>
              <a:off x="513360" y="1614600"/>
              <a:ext cx="8184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azmotrimo općeniti IIR filtar s prijenosnom funkcijo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2874960" y="2151000"/>
                  <a:ext cx="3041640" cy="20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76320" y="4205160"/>
            <a:ext cx="9067680" cy="2651400"/>
            <a:chOff x="76320" y="4205160"/>
            <a:chExt cx="9067680" cy="2651400"/>
          </a:xfrm>
        </p:grpSpPr>
        <p:sp>
          <p:nvSpPr>
            <p:cNvPr id="118" name=""/>
            <p:cNvSpPr/>
            <p:nvPr/>
          </p:nvSpPr>
          <p:spPr>
            <a:xfrm>
              <a:off x="76320" y="4205160"/>
              <a:ext cx="90676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Direktna realizacija ovog filtra s kvantiziranim koeficijentima daje prijenosnu funkcij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637000" y="4821120"/>
                  <a:ext cx="3394080" cy="203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"/>
          <p:cNvGrpSpPr/>
          <p:nvPr/>
        </p:nvGrpSpPr>
        <p:grpSpPr>
          <a:xfrm>
            <a:off x="3276720" y="4861080"/>
            <a:ext cx="5638680" cy="1982520"/>
            <a:chOff x="3276720" y="4861080"/>
            <a:chExt cx="5638680" cy="1982520"/>
          </a:xfrm>
        </p:grpSpPr>
        <p:sp>
          <p:nvSpPr>
            <p:cNvPr id="121" name=""/>
            <p:cNvSpPr/>
            <p:nvPr/>
          </p:nvSpPr>
          <p:spPr>
            <a:xfrm>
              <a:off x="4737240" y="4889520"/>
              <a:ext cx="431640" cy="812880"/>
            </a:xfrm>
            <a:prstGeom prst="ellipse">
              <a:avLst/>
            </a:prstGeom>
            <a:noFill/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8120" y="6031080"/>
              <a:ext cx="431640" cy="812520"/>
            </a:xfrm>
            <a:prstGeom prst="ellipse">
              <a:avLst/>
            </a:prstGeom>
            <a:noFill/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8680" y="4878360"/>
              <a:ext cx="28958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56" y="26"/>
                  </a:moveTo>
                  <a:arcTo wR="10800" hR="10800" stAng="-5637100" swAng="56371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56" y="26"/>
                  </a:moveTo>
                  <a:arcTo wR="10800" hR="10800" stAng="-5637100" swAng="5637100"/>
                </a:path>
              </a:pathLst>
            </a:custGeom>
            <a:noFill/>
            <a:ln cap="rnd"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720" y="5486760"/>
              <a:ext cx="441900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13560" y="4861080"/>
              <a:ext cx="23018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d60093"/>
                  </a:solidFill>
                  <a:latin typeface="Times New Roman"/>
                </a:rPr>
                <a:t>kvantizirani koeficijent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4519440" cy="33991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4576680" y="79200"/>
            <a:ext cx="451980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26920" y="35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        </a:t>
            </a: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igitalna obradba signal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69236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00"/>
                </a:solidFill>
                <a:latin typeface="Times New Roman"/>
              </a:rPr>
              <a:t>FF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60A5-4A79-477C-8DA9-EC2447FF33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Uvod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FT je postupak za efikasno račun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FT-a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d DFT-a z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čaka broj množe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se koristi FFT algoritam br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noženja 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3836880" y="5943600"/>
                <a:ext cx="2183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2173320" y="1600200"/>
                <a:ext cx="40082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nk</m:t>
                            </m:r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6740640" y="2022480"/>
                <a:ext cx="2025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C64-4ED6-4519-B972-6775FA1981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računanja DFT-a jest da 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zračuna  niz  {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[k]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 od N kompleksn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jeva zadanih drugim  nizom podata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[n]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 dužine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592360" y="3654360"/>
                <a:ext cx="42260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nk</m:t>
                            </m:r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560760" y="5468760"/>
                <a:ext cx="1793880" cy="4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88E-57C6-4316-87FE-2A2BC90F50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jednostavljujući notaciju definiram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mpleksnu eksponencijalu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657600" y="1981080"/>
            <a:ext cx="3429000" cy="1229040"/>
            <a:chOff x="3657600" y="1981080"/>
            <a:chExt cx="3429000" cy="1229040"/>
          </a:xfrm>
        </p:grpSpPr>
        <p:sp>
          <p:nvSpPr>
            <p:cNvPr id="817" name=""/>
            <p:cNvSpPr/>
            <p:nvPr/>
          </p:nvSpPr>
          <p:spPr>
            <a:xfrm>
              <a:off x="3657600" y="2197080"/>
              <a:ext cx="342900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W</a:t>
              </a:r>
              <a:r>
                <a:rPr b="0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4987800" y="1981080"/>
                  <a:ext cx="134784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  <m:r>
                            <m:t xml:space="preserve">/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2232000" y="2895480"/>
                <a:ext cx="2954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6248520" y="3352680"/>
                <a:ext cx="2162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817560" y="4541760"/>
            <a:ext cx="359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čno  IDFT post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409760" y="5319720"/>
                <a:ext cx="3522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6019920" y="5594400"/>
                <a:ext cx="2030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5A8-B29B-41F4-85DF-62796292BE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niz kompleksnih brojeva DFT se može izraziti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486080" y="2063880"/>
                <a:ext cx="65214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1449360" y="4375080"/>
                <a:ext cx="66708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FC2-40A3-43A3-9489-E4919B8D7B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ktno računan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ž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računa trigonometrijski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nih množ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nih zbraj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ređen broj indeksnih i adresnih operaci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197000" y="1638360"/>
                <a:ext cx="1187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271520" y="2833560"/>
                <a:ext cx="12034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322280" y="3498840"/>
                <a:ext cx="26402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772-D861-4E40-8F56-6313C3E261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04920" y="990720"/>
            <a:ext cx="802476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kle da se izračuna svih N vrijednos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FT-a potrebno je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 baseline="4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mpleksnih množenja i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 baseline="4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mpleksnih zbraja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304920" y="3885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irektno izračunavanje DFT-a je u osnovi neefikasno jer ne koristi simetričnost i periodičnost kompleksne eksponencij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FF4-DEC5-4D20-937E-AC00431A39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etričn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3657600" y="2001960"/>
                <a:ext cx="2514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r>
                      <m:rPr>
                        <m:lit/>
                        <m:nor/>
                      </m:rPr>
                      <m:t xml:space="preserve">=-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663480" y="2681280"/>
            <a:ext cx="276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čn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3657600" y="2624040"/>
                <a:ext cx="2189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682560" y="4203720"/>
            <a:ext cx="6531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ffff00"/>
                </a:solidFill>
                <a:latin typeface="Times New Roman"/>
              </a:rPr>
              <a:t>FFT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lgoritmi koriste ova osnov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vojstva kompleksne eksponencij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EEF-9F08-447F-B34F-963D8DD3AB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Primjer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25600" y="2262240"/>
                <a:ext cx="7846920" cy="35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k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265-19A9-441B-A2ED-EAD411F76F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09480" y="1919160"/>
            <a:ext cx="7620120" cy="1063800"/>
            <a:chOff x="609480" y="1919160"/>
            <a:chExt cx="7620120" cy="1063800"/>
          </a:xfrm>
        </p:grpSpPr>
        <p:sp>
          <p:nvSpPr>
            <p:cNvPr id="127" name=""/>
            <p:cNvSpPr/>
            <p:nvPr/>
          </p:nvSpPr>
          <p:spPr>
            <a:xfrm>
              <a:off x="609480" y="1919160"/>
              <a:ext cx="7620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Vezu      i       s nekvantiziranim koeficijentima 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 i 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 možemo iskazati slijedećim relacijam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1569960" y="1982880"/>
                  <a:ext cx="34632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197080" y="1959120"/>
                  <a:ext cx="2998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41320" y="3201840"/>
                <a:ext cx="5910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0400" y="3863880"/>
                <a:ext cx="5997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36280" y="4890960"/>
            <a:ext cx="62042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edstavljaju grešku kvantiz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608040" y="1262160"/>
                <a:ext cx="8067600" cy="28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869-D3C8-4B47-88EF-AC9A5E5A460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etoda podijeli pa vladaj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vaj pristup zasniva se na dekompoziciji  DFT-a u N točaka u sukcesivno manje blokove DFT-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ao ilustraciju osnovnih karakteristika promotrit ćemo  računanje DFT-a u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točaka gdje 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 može biti faktoriziran  kao produkt dva cijela bro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N=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FAC-D4D7-4015-8A06-8513074DC0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tpostavka da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ije prost broj nije restriktivna budući da se niz može popuniti sa nulama, da se osigura faktorizacij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9960" y="3962520"/>
            <a:ext cx="7559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z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,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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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e može pohran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jednodimenzionalno polje indeksir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2C9-0825-4AD8-A8D9-1D28A49486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6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lica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479520" y="4098960"/>
          <a:ext cx="11577600" cy="207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098960"/>
                    <a:ext cx="115776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CB4-F179-485A-80B9-83DEB3208D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z x[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] se, međutim,  može pohraniti u dvodimenzionalno polje indeksirano s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3138480"/>
            <a:ext cx="1828800" cy="1204920"/>
            <a:chOff x="2819520" y="3138480"/>
            <a:chExt cx="1828800" cy="1204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819520" y="3138480"/>
                  <a:ext cx="18288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l</m:t>
                      </m:r>
                      <m:r>
                        <m:t xml:space="preserve">≤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2819520" y="3900600"/>
                  <a:ext cx="18288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2" name=""/>
          <p:cNvSpPr/>
          <p:nvPr/>
        </p:nvSpPr>
        <p:spPr>
          <a:xfrm>
            <a:off x="533520" y="4495680"/>
            <a:ext cx="77724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edstavlja indeks redaka 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de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pa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615-34A5-4EFD-B09D-9FBFBA98DF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ablica 2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1447920" y="2362320"/>
          <a:ext cx="6705360" cy="4092480"/>
        </p:xfrm>
        <a:graphic>
          <a:graphicData uri="http://schemas.openxmlformats.org/drawingml/2006/table">
            <a:tbl>
              <a:tblPr/>
              <a:tblGrid>
                <a:gridCol w="1015920"/>
                <a:gridCol w="1270080"/>
                <a:gridCol w="1218960"/>
                <a:gridCol w="838440"/>
                <a:gridCol w="736560"/>
                <a:gridCol w="1625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0,0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0,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0,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1,0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1,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1,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,0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,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,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-1,0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-1,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-1,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"/>
          <p:cNvSpPr/>
          <p:nvPr/>
        </p:nvSpPr>
        <p:spPr>
          <a:xfrm>
            <a:off x="3815640" y="1630440"/>
            <a:ext cx="28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ndex stupa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1447560" y="2361960"/>
            <a:ext cx="99036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016000" y="2239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5680" y="2468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6200000">
            <a:off x="-268200" y="428832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ndex red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z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že biti pohranjen u pravokutno polje na više načina od koji svaki zavisi o razlaganju indeks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indek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m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9440" y="2846520"/>
            <a:ext cx="71992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primjer, ako odaberemo razlagan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 = M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7040" y="4459320"/>
            <a:ext cx="796608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vodi u slučaj u kojem  prvi redak sadrž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i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ata o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rugi redak sadrž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jedećih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at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A70-5E6F-48BF-BA9F-5A1BC21B0C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3" name=""/>
          <p:cNvGraphicFramePr/>
          <p:nvPr/>
        </p:nvGraphicFramePr>
        <p:xfrm>
          <a:off x="533520" y="2079720"/>
          <a:ext cx="8381880" cy="4092480"/>
        </p:xfrm>
        <a:graphic>
          <a:graphicData uri="http://schemas.openxmlformats.org/drawingml/2006/table">
            <a:tbl>
              <a:tblPr/>
              <a:tblGrid>
                <a:gridCol w="838080"/>
                <a:gridCol w="1544760"/>
                <a:gridCol w="1807920"/>
                <a:gridCol w="1905120"/>
                <a:gridCol w="990720"/>
                <a:gridCol w="12952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0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M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M+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M+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M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M+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M+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3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(L-1)M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(L-1)M+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(L-1)M+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4" name=""/>
          <p:cNvSpPr/>
          <p:nvPr/>
        </p:nvSpPr>
        <p:spPr>
          <a:xfrm>
            <a:off x="3198240" y="1096920"/>
            <a:ext cx="28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ndex stupa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71280" y="1905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428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16200000">
            <a:off x="-1029960" y="390888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ndex red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33520" y="2057040"/>
            <a:ext cx="83808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43600" y="3808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zlaganje n = M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697360" y="624852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(L-1)M+M-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7696080" y="6019920"/>
            <a:ext cx="3812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71360" indent="-1713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drugom slučaju razlag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n =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 l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+m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76880" y="3697200"/>
            <a:ext cx="77364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hranjuje prvi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ata o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[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prv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pac, sljedećih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ata u drug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pac, itd. kao sto je prikazano u Tablici 3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45C-FE78-4686-9AEB-9C252B51F1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533520" y="2079720"/>
          <a:ext cx="8381880" cy="4092480"/>
        </p:xfrm>
        <a:graphic>
          <a:graphicData uri="http://schemas.openxmlformats.org/drawingml/2006/table">
            <a:tbl>
              <a:tblPr/>
              <a:tblGrid>
                <a:gridCol w="838080"/>
                <a:gridCol w="1143000"/>
                <a:gridCol w="1143000"/>
                <a:gridCol w="1219320"/>
                <a:gridCol w="220968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...............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0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L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(M-1)L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+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L+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(M-1)L+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+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L+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(M-1)L+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2L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3L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...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x[LM-1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"/>
          <p:cNvSpPr/>
          <p:nvPr/>
        </p:nvSpPr>
        <p:spPr>
          <a:xfrm>
            <a:off x="3198240" y="1096920"/>
            <a:ext cx="28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ndex stupa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71280" y="1905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28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533520" y="2057040"/>
            <a:ext cx="83808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43240" y="380880"/>
            <a:ext cx="37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razlaganje n =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l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+ 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16200000">
            <a:off x="-1099440" y="3840120"/>
            <a:ext cx="26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ndex stupa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624852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(M-1)L+L-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7620120" y="6019920"/>
            <a:ext cx="3045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584360" y="395280"/>
            <a:ext cx="7407360" cy="2559240"/>
            <a:chOff x="1584360" y="395280"/>
            <a:chExt cx="7407360" cy="2559240"/>
          </a:xfrm>
        </p:grpSpPr>
        <p:sp>
          <p:nvSpPr>
            <p:cNvPr id="134" name=""/>
            <p:cNvSpPr/>
            <p:nvPr/>
          </p:nvSpPr>
          <p:spPr>
            <a:xfrm>
              <a:off x="1584360" y="395280"/>
              <a:ext cx="74073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azivnik prijenosne funkcije možemo prikazati i u oblik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671480" y="1316160"/>
                  <a:ext cx="54738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∏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1663920" y="2376360"/>
              <a:ext cx="61952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gdje su 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 polovi prijenosne funkcije 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hr-HR" sz="28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r>
                <a:rPr b="0" lang="hr-HR" sz="28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7600" y="3443400"/>
            <a:ext cx="8857800" cy="3062160"/>
            <a:chOff x="57600" y="3443400"/>
            <a:chExt cx="8857800" cy="3062160"/>
          </a:xfrm>
        </p:grpSpPr>
        <p:grpSp>
          <p:nvGrpSpPr>
            <p:cNvPr id="138" name=""/>
            <p:cNvGrpSpPr/>
            <p:nvPr/>
          </p:nvGrpSpPr>
          <p:grpSpPr>
            <a:xfrm>
              <a:off x="57600" y="3443400"/>
              <a:ext cx="8833680" cy="523800"/>
              <a:chOff x="57600" y="3443400"/>
              <a:chExt cx="8833680" cy="523800"/>
            </a:xfrm>
          </p:grpSpPr>
          <p:sp>
            <p:nvSpPr>
              <p:cNvPr id="139" name=""/>
              <p:cNvSpPr/>
              <p:nvPr/>
            </p:nvSpPr>
            <p:spPr>
              <a:xfrm>
                <a:off x="57600" y="3443400"/>
                <a:ext cx="8833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lično bi mogli prikazati nazivnik prijenosne funkcije          :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7913520" y="3481560"/>
                    <a:ext cx="76536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857680" y="3848040"/>
                  <a:ext cx="3159000" cy="107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Â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∏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36440" y="4967280"/>
              <a:ext cx="1230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gdje j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386000" y="5030640"/>
                  <a:ext cx="5591160" cy="4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Dp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     k=1,2,</m:t>
                      </m:r>
                      <m:r>
                        <m:t xml:space="preserve">K</m:t>
                      </m:r>
                      <m:r>
                        <m:rPr>
                          <m:lit/>
                          <m:nor/>
                        </m:rPr>
                        <m:t xml:space="preserve">,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136440" y="5500800"/>
              <a:ext cx="87789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  je greška koja nastaje kao rezultat kvantizacije filtarskih koeficijenata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994440" y="4967280"/>
            <a:ext cx="27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679320" y="509760"/>
            <a:ext cx="79311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čan aranžman može se koristiti 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računate DFT vrijednosti.Poseb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zlaganje indeks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par indeks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,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dje 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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i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q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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609480" y="3885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ko odaberemo   razlaganje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k = Mp + q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, DFT je pohranjen po recima gdje  prvi redak sadrži prvih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elemenata DFT-a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X(k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drugi  redak sadrži slijedeći niz od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elemen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729-176C-432A-8FE4-7D62E33996A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ko se odabere razlag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k = p + q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ezultati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X(k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pohranjeni su po stupc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87680" y="4383000"/>
            <a:ext cx="741492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i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lemenata pohranjeno u prv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pcu, drugi niz elemenata  pohranjen 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drugom stupcu i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CF7-9D09-4BBD-BFEA-7B2CEA74C77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FT se može izraziti kao dvostruka suma preko  elemenata polja pomnoženih sa odgovarajućom kompleksnom eksponenci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al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606600" y="3665520"/>
                <a:ext cx="785484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0F0-25A9-4428-97F5-628333D1B18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882800" y="1424160"/>
                <a:ext cx="46134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</m:d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1060560" y="3124080"/>
                <a:ext cx="73213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pl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Lpm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qm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924280" y="5265720"/>
                <a:ext cx="28335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664-F886-4FBC-9768-BBACD15F60D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184640" y="1001880"/>
                <a:ext cx="5035680" cy="28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q</m:t>
                            </m:r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p</m:t>
                            </m:r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p</m:t>
                            </m:r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p</m:t>
                            </m:r>
                            <m:r>
                              <m:t xml:space="preserve">l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  <m:r>
                              <m:t xml:space="preserve">m</m:t>
                            </m:r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m</m:t>
                            </m:r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685800" y="3657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risteći ova pojednostavlj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866880" y="4630680"/>
                <a:ext cx="794232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q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]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q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</m:d>
                      </m:e>
                    </m:nary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014480" y="1154160"/>
                <a:ext cx="294804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L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0B7-A6ED-4F63-87AC-A1322611850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račun se može podijeliti u 3 kor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Računaju se  komponente DFT-a u M toč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708120" y="3056040"/>
                <a:ext cx="77850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]</m:t>
                    </m:r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q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-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8" name=""/>
          <p:cNvSpPr/>
          <p:nvPr/>
        </p:nvSpPr>
        <p:spPr>
          <a:xfrm>
            <a:off x="1480680" y="5500800"/>
            <a:ext cx="547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svaki od redak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0,1....,L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B1B-5B05-4AC8-9B85-1919AC66543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Računa se novo pol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(l,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817560" y="2286000"/>
                <a:ext cx="781380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0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0</m:t>
                        </m:r>
                        <m:r>
                          <m:t xml:space="preserve">≤</m:t>
                        </m:r>
                        <m:r>
                          <m:t xml:space="preserve">q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-1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08D-A889-4DF6-91BF-49BAA779D11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054080" y="1081080"/>
            <a:ext cx="75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Konačno, računaju se komponente DFT-a u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č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116000" y="2217600"/>
                <a:ext cx="7215120" cy="16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909000" y="4357800"/>
            <a:ext cx="732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svaki stupa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=0,1,.......,M-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j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(l,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B11-0278-4F17-B916-0996A7588B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j množenja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M</a:t>
            </a:r>
            <a:r>
              <a:rPr b="1" lang="en-US" sz="3200" spc="-1" strike="noStrike" baseline="4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M+ML</a:t>
            </a:r>
            <a:r>
              <a:rPr b="1" lang="en-US" sz="3200" spc="-1" strike="noStrike" baseline="4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N(M+L+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j zbrajanja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M(M-1)+ML(L-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N(M+L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4C9-4EE2-4A7F-9FF9-99F8466B6C7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Primjer: Z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=1000</a:t>
            </a: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 i ako 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odabere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=20</a:t>
            </a: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    i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=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Broj množenja j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(M+L+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1000(20+50+1)=71000</a:t>
            </a: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Direktnim postupkom potrebno j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4000" spc="-1" strike="noStrike" baseline="4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10</a:t>
            </a:r>
            <a:r>
              <a:rPr b="1" lang="en-US" sz="4000" spc="-1" strike="noStrike" baseline="40000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2DA-C2CF-4F01-8E81-D646BF44C0D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300960" y="1690560"/>
            <a:ext cx="7318440" cy="1765440"/>
            <a:chOff x="300960" y="1690560"/>
            <a:chExt cx="7318440" cy="1765440"/>
          </a:xfrm>
        </p:grpSpPr>
        <p:sp>
          <p:nvSpPr>
            <p:cNvPr id="147" name=""/>
            <p:cNvSpPr/>
            <p:nvPr/>
          </p:nvSpPr>
          <p:spPr>
            <a:xfrm>
              <a:off x="300960" y="1690560"/>
              <a:ext cx="73184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Povežimo grešku </a:t>
              </a:r>
              <a:r>
                <a:rPr b="1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  s greškom kvantizacije </a:t>
              </a:r>
              <a:r>
                <a:rPr b="1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598840" y="2459160"/>
                  <a:ext cx="3003480" cy="99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D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3565440" y="2451240"/>
            <a:ext cx="4891320" cy="2665440"/>
            <a:chOff x="3565440" y="2451240"/>
            <a:chExt cx="4891320" cy="2665440"/>
          </a:xfrm>
        </p:grpSpPr>
        <p:sp>
          <p:nvSpPr>
            <p:cNvPr id="150" name=""/>
            <p:cNvSpPr/>
            <p:nvPr/>
          </p:nvSpPr>
          <p:spPr>
            <a:xfrm>
              <a:off x="4203720" y="2451240"/>
              <a:ext cx="736560" cy="1117440"/>
            </a:xfrm>
            <a:prstGeom prst="ellipse">
              <a:avLst/>
            </a:prstGeom>
            <a:noFill/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4876560" y="3276720"/>
              <a:ext cx="990360" cy="76176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5440" y="4052880"/>
              <a:ext cx="48913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d60093"/>
                  </a:solidFill>
                  <a:latin typeface="Times New Roman"/>
                </a:rPr>
                <a:t>inkrementalna promjena pola 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hr-HR" sz="2800" spc="-1" strike="noStrike">
                  <a:solidFill>
                    <a:srgbClr val="d60093"/>
                  </a:solidFill>
                  <a:latin typeface="Times New Roman"/>
                </a:rPr>
                <a:t> zbog promjene koeficijenta 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89080" y="5424480"/>
            <a:ext cx="86263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otalna pogreška </a:t>
            </a:r>
            <a:r>
              <a:rPr b="1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dana je sumom inkrementalnih grešaka zbog promjene u svakom koeficijentu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1600200" y="2363760"/>
                <a:ext cx="5867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508040" y="1189080"/>
            <a:ext cx="424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377720" y="4160880"/>
            <a:ext cx="5232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Kod zbrajanja omjer 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,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659-250F-4DEC-966F-4B9E2325EA3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j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o ilustracija procedure računanj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riti će se računanje  DFT-a u 1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čaka. Ako j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5*3=15, odabire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=5 i  M=3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kle, pohranjuje se  niz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d  15  točaka p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upci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EDE-D244-4790-B7F5-42BA3BAF8C0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0" name=""/>
          <p:cNvGraphicFramePr/>
          <p:nvPr/>
        </p:nvGraphicFramePr>
        <p:xfrm>
          <a:off x="304920" y="1446120"/>
          <a:ext cx="8837640" cy="48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6120"/>
                    <a:ext cx="883764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94F-E944-49E4-B713-0CF13E2E686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d se računaju DFT-ovi u 3 točke za svaki od 5 reda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900000" y="1916280"/>
          <a:ext cx="698508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16280"/>
                    <a:ext cx="698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A04-DA94-47F7-AE65-1D766AE8C98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lijedeći korak je da se pomnože svaki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F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,q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sa kompleksnom eksponencijal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0880" y="3233880"/>
                <a:ext cx="8229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q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q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,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6D9-98D7-4DCA-87C8-0536ECC2027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zultati računanja u 5*3 pol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762120" y="1600200"/>
          <a:ext cx="80769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8076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573-4548-4C03-B245-E916475B6D1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ačni korak je da se izračuna  DFT u 5 točaka za  svaki od 3 stupca.Ovaj računski postupak sadrž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željene vrijednosti DFT-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A5D-97C1-4EE7-89A0-603755A3F52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1" name=""/>
          <p:cNvGraphicFramePr/>
          <p:nvPr/>
        </p:nvGraphicFramePr>
        <p:xfrm>
          <a:off x="878040" y="1066680"/>
          <a:ext cx="7856280" cy="46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066680"/>
                    <a:ext cx="785628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C82-9D18-45AE-B9B8-1E09499F42E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1322640" y="2551320"/>
            <a:ext cx="3084120" cy="3891960"/>
            <a:chOff x="1322640" y="2551320"/>
            <a:chExt cx="3084120" cy="3891960"/>
          </a:xfrm>
        </p:grpSpPr>
        <p:sp>
          <p:nvSpPr>
            <p:cNvPr id="924" name=""/>
            <p:cNvSpPr/>
            <p:nvPr/>
          </p:nvSpPr>
          <p:spPr>
            <a:xfrm rot="19680000">
              <a:off x="1668600" y="4573080"/>
              <a:ext cx="2577960" cy="1284480"/>
            </a:xfrm>
            <a:prstGeom prst="rect">
              <a:avLst/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9680000">
              <a:off x="1685520" y="4258800"/>
              <a:ext cx="2576520" cy="1284480"/>
            </a:xfrm>
            <a:prstGeom prst="rect">
              <a:avLst/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9680000">
              <a:off x="1612800" y="3885840"/>
              <a:ext cx="2579760" cy="1282680"/>
            </a:xfrm>
            <a:prstGeom prst="rect">
              <a:avLst/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9680000">
              <a:off x="1537920" y="3511440"/>
              <a:ext cx="2579760" cy="1284480"/>
            </a:xfrm>
            <a:prstGeom prst="rect">
              <a:avLst/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9680000">
              <a:off x="1467000" y="3136680"/>
              <a:ext cx="2577960" cy="1284120"/>
            </a:xfrm>
            <a:prstGeom prst="rect">
              <a:avLst/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947480" y="216720"/>
            <a:ext cx="3951360" cy="3655800"/>
            <a:chOff x="4947480" y="216720"/>
            <a:chExt cx="3951360" cy="3655800"/>
          </a:xfrm>
        </p:grpSpPr>
        <p:sp>
          <p:nvSpPr>
            <p:cNvPr id="930" name=""/>
            <p:cNvSpPr/>
            <p:nvPr/>
          </p:nvSpPr>
          <p:spPr>
            <a:xfrm rot="20160000">
              <a:off x="5268600" y="650880"/>
              <a:ext cx="2587680" cy="2130480"/>
            </a:xfrm>
            <a:prstGeom prst="parallelogram">
              <a:avLst>
                <a:gd name="adj" fmla="val 30359"/>
              </a:avLst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0160000">
              <a:off x="5628960" y="979560"/>
              <a:ext cx="2587680" cy="2130480"/>
            </a:xfrm>
            <a:prstGeom prst="parallelogram">
              <a:avLst>
                <a:gd name="adj" fmla="val 30359"/>
              </a:avLst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20160000">
              <a:off x="5989680" y="1308240"/>
              <a:ext cx="2587680" cy="2130120"/>
            </a:xfrm>
            <a:prstGeom prst="parallelogram">
              <a:avLst>
                <a:gd name="adj" fmla="val 30364"/>
              </a:avLst>
            </a:prstGeom>
            <a:solidFill>
              <a:srgbClr val="ff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581280" y="1371600"/>
            <a:ext cx="2895840" cy="3581280"/>
            <a:chOff x="3581280" y="1371600"/>
            <a:chExt cx="2895840" cy="3581280"/>
          </a:xfrm>
        </p:grpSpPr>
        <p:sp>
          <p:nvSpPr>
            <p:cNvPr id="934" name=""/>
            <p:cNvSpPr/>
            <p:nvPr/>
          </p:nvSpPr>
          <p:spPr>
            <a:xfrm flipV="1">
              <a:off x="3581280" y="1371600"/>
              <a:ext cx="198144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3809880" y="1600200"/>
              <a:ext cx="213372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4038480" y="1828440"/>
              <a:ext cx="2286000" cy="152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4114800" y="2438280"/>
              <a:ext cx="220968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4191120" y="2819160"/>
              <a:ext cx="2209680" cy="144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343400" y="3276720"/>
              <a:ext cx="213372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343400" y="3581280"/>
              <a:ext cx="213372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 flipV="1">
            <a:off x="1600200" y="6324120"/>
            <a:ext cx="53352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600200" y="5943600"/>
            <a:ext cx="5335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523880" y="5562720"/>
            <a:ext cx="5335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1447920" y="518112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371600" y="4800600"/>
            <a:ext cx="5335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1219320" y="449532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990720" y="4114800"/>
            <a:ext cx="53316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838080" y="4952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066680" y="52574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62120" y="54860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1143000" y="56386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838080" y="58672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1219320" y="601956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914400" y="624816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143000" y="647676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7315200" y="228240"/>
            <a:ext cx="45720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696080" y="38052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077320" y="685440"/>
            <a:ext cx="53316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077320" y="1066320"/>
            <a:ext cx="53316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8153280" y="1523520"/>
            <a:ext cx="53352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8229600" y="1980720"/>
            <a:ext cx="53352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8229600" y="2437920"/>
            <a:ext cx="53352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48160" y="3154320"/>
            <a:ext cx="1120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 3 toč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6888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5012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02040" y="4754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68880" y="4754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73800" y="5059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78000" y="52117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68880" y="5288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50120" y="5440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78000" y="5592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54320" y="59738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354320" y="63547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68880" y="5668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5200" y="6049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501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73800" y="6278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31800" y="-460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365320" y="106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669880" y="334800"/>
            <a:ext cx="313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669880" y="716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746200" y="1173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821800" y="16304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821800" y="20876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93000" y="1554120"/>
            <a:ext cx="1041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FT 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 toča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=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384600" y="4662360"/>
            <a:ext cx="1567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FT u 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č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3733920" y="1430280"/>
                <a:ext cx="836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q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989" name=""/>
          <p:cNvGrpSpPr/>
          <p:nvPr/>
        </p:nvGrpSpPr>
        <p:grpSpPr>
          <a:xfrm>
            <a:off x="4267080" y="2133720"/>
            <a:ext cx="76320" cy="152280"/>
            <a:chOff x="4267080" y="2133720"/>
            <a:chExt cx="76320" cy="152280"/>
          </a:xfrm>
        </p:grpSpPr>
        <p:sp>
          <p:nvSpPr>
            <p:cNvPr id="990" name=""/>
            <p:cNvSpPr/>
            <p:nvPr/>
          </p:nvSpPr>
          <p:spPr>
            <a:xfrm>
              <a:off x="4267080" y="213372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43400" y="21337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4648320" y="2362320"/>
            <a:ext cx="75960" cy="152280"/>
            <a:chOff x="4648320" y="2362320"/>
            <a:chExt cx="75960" cy="152280"/>
          </a:xfrm>
        </p:grpSpPr>
        <p:sp>
          <p:nvSpPr>
            <p:cNvPr id="993" name=""/>
            <p:cNvSpPr/>
            <p:nvPr/>
          </p:nvSpPr>
          <p:spPr>
            <a:xfrm>
              <a:off x="4648320" y="23623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724280" y="23623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5029200" y="2590920"/>
            <a:ext cx="76320" cy="152280"/>
            <a:chOff x="5029200" y="2590920"/>
            <a:chExt cx="76320" cy="152280"/>
          </a:xfrm>
        </p:grpSpPr>
        <p:sp>
          <p:nvSpPr>
            <p:cNvPr id="996" name=""/>
            <p:cNvSpPr/>
            <p:nvPr/>
          </p:nvSpPr>
          <p:spPr>
            <a:xfrm>
              <a:off x="5029200" y="259092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05520" y="25909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181480" y="3124080"/>
            <a:ext cx="76320" cy="152640"/>
            <a:chOff x="5181480" y="3124080"/>
            <a:chExt cx="76320" cy="152640"/>
          </a:xfrm>
        </p:grpSpPr>
        <p:sp>
          <p:nvSpPr>
            <p:cNvPr id="999" name=""/>
            <p:cNvSpPr/>
            <p:nvPr/>
          </p:nvSpPr>
          <p:spPr>
            <a:xfrm>
              <a:off x="5181480" y="312408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2578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5105520" y="3581280"/>
            <a:ext cx="75960" cy="152640"/>
            <a:chOff x="5105520" y="3581280"/>
            <a:chExt cx="75960" cy="152640"/>
          </a:xfrm>
        </p:grpSpPr>
        <p:sp>
          <p:nvSpPr>
            <p:cNvPr id="1002" name=""/>
            <p:cNvSpPr/>
            <p:nvPr/>
          </p:nvSpPr>
          <p:spPr>
            <a:xfrm>
              <a:off x="5105520" y="358128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81480" y="35812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181480" y="4038480"/>
            <a:ext cx="76320" cy="152640"/>
            <a:chOff x="5181480" y="4038480"/>
            <a:chExt cx="76320" cy="152640"/>
          </a:xfrm>
        </p:grpSpPr>
        <p:sp>
          <p:nvSpPr>
            <p:cNvPr id="1005" name=""/>
            <p:cNvSpPr/>
            <p:nvPr/>
          </p:nvSpPr>
          <p:spPr>
            <a:xfrm>
              <a:off x="5181480" y="403848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40384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181480" y="4343400"/>
            <a:ext cx="76320" cy="152280"/>
            <a:chOff x="5181480" y="4343400"/>
            <a:chExt cx="76320" cy="152280"/>
          </a:xfrm>
        </p:grpSpPr>
        <p:sp>
          <p:nvSpPr>
            <p:cNvPr id="1008" name=""/>
            <p:cNvSpPr/>
            <p:nvPr/>
          </p:nvSpPr>
          <p:spPr>
            <a:xfrm>
              <a:off x="5181480" y="43434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34340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94F-0719-4D38-A940-A9663CC85C7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12760" y="1494000"/>
            <a:ext cx="8714160" cy="2242800"/>
            <a:chOff x="212760" y="1494000"/>
            <a:chExt cx="8714160" cy="2242800"/>
          </a:xfrm>
        </p:grpSpPr>
        <p:grpSp>
          <p:nvGrpSpPr>
            <p:cNvPr id="155" name=""/>
            <p:cNvGrpSpPr/>
            <p:nvPr/>
          </p:nvGrpSpPr>
          <p:grpSpPr>
            <a:xfrm>
              <a:off x="212760" y="1494000"/>
              <a:ext cx="8714160" cy="936360"/>
              <a:chOff x="212760" y="1494000"/>
              <a:chExt cx="8714160" cy="936360"/>
            </a:xfrm>
          </p:grpSpPr>
          <p:sp>
            <p:nvSpPr>
              <p:cNvPr id="156" name=""/>
              <p:cNvSpPr/>
              <p:nvPr/>
            </p:nvSpPr>
            <p:spPr>
              <a:xfrm>
                <a:off x="212760" y="1690560"/>
                <a:ext cx="31827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Parcijalne derivacije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3379680" y="1494000"/>
                    <a:ext cx="671760" cy="93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8" name=""/>
              <p:cNvSpPr/>
              <p:nvPr/>
            </p:nvSpPr>
            <p:spPr>
              <a:xfrm>
                <a:off x="4098240" y="1690560"/>
                <a:ext cx="4828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možemo naći na slijedeći način: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509840" y="2462040"/>
                  <a:ext cx="548136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A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b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A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212760" y="4205160"/>
            <a:ext cx="5535720" cy="2448000"/>
            <a:chOff x="212760" y="4205160"/>
            <a:chExt cx="5535720" cy="2448000"/>
          </a:xfrm>
        </p:grpSpPr>
        <p:sp>
          <p:nvSpPr>
            <p:cNvPr id="161" name=""/>
            <p:cNvSpPr/>
            <p:nvPr/>
          </p:nvSpPr>
          <p:spPr>
            <a:xfrm>
              <a:off x="212760" y="4205160"/>
              <a:ext cx="191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ada vrije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527200" y="4307040"/>
                  <a:ext cx="3221280" cy="23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r>
                                        <m:t xml:space="preserve">A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d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num>
                        <m:den>
                          <m:sSub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r>
                                        <m:t xml:space="preserve">A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d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054080" y="243000"/>
            <a:ext cx="7734240" cy="2941560"/>
            <a:chOff x="1054080" y="243000"/>
            <a:chExt cx="7734240" cy="2941560"/>
          </a:xfrm>
        </p:grpSpPr>
        <p:sp>
          <p:nvSpPr>
            <p:cNvPr id="164" name=""/>
            <p:cNvSpPr/>
            <p:nvPr/>
          </p:nvSpPr>
          <p:spPr>
            <a:xfrm>
              <a:off x="1735920" y="243000"/>
              <a:ext cx="161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rojnik j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054080" y="906480"/>
                  <a:ext cx="7734240" cy="22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A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b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∂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d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</m:d>
                        </m:e>
                        <m:sub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-1080" y="3214800"/>
            <a:ext cx="7509960" cy="1861920"/>
            <a:chOff x="-1080" y="3214800"/>
            <a:chExt cx="7509960" cy="1861920"/>
          </a:xfrm>
        </p:grpSpPr>
        <p:sp>
          <p:nvSpPr>
            <p:cNvPr id="167" name=""/>
            <p:cNvSpPr/>
            <p:nvPr/>
          </p:nvSpPr>
          <p:spPr>
            <a:xfrm>
              <a:off x="-1080" y="3214800"/>
              <a:ext cx="183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azivnik j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336680" y="3778200"/>
                  <a:ext cx="6172200" cy="12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A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z</m:t>
                                  </m:r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nary>
                                    <m:naryPr>
                                      <m:chr m:val="∏"/>
                                    </m:naryPr>
                                    <m:sub>
                                      <m:r>
                                        <m:t xml:space="preserve">l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l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p>
                                          </m:sSup>
                                        </m:e>
                                      </m:d>
                                    </m:e>
                                  </m:nary>
                                </m:e>
                              </m:d>
                            </m:e>
                          </m:d>
                        </m:e>
                        <m:sub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50760" y="5226120"/>
                <a:ext cx="455004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N</m:t>
                                </m:r>
                              </m:sup>
                              <m:e/>
                            </m:nary>
                          </m:e>
                          <m:e/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634000" y="5570640"/>
                <a:ext cx="30513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¹</m:t>
                    </m:r>
                    <m:r>
                      <m:t xml:space="preserve">k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040480" y="90360"/>
            <a:ext cx="3412440" cy="2292480"/>
            <a:chOff x="2040480" y="90360"/>
            <a:chExt cx="3412440" cy="2292480"/>
          </a:xfrm>
        </p:grpSpPr>
        <p:sp>
          <p:nvSpPr>
            <p:cNvPr id="172" name=""/>
            <p:cNvSpPr/>
            <p:nvPr/>
          </p:nvSpPr>
          <p:spPr>
            <a:xfrm>
              <a:off x="2040480" y="90360"/>
              <a:ext cx="3380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da možemo napisat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147760" y="576360"/>
                  <a:ext cx="3305160" cy="18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¹</m:t>
                      </m:r>
                      <m:r>
                        <m:t xml:space="preserve">i</m:t>
                      </m:r>
                      <m:limLow>
                        <m:e/>
                        <m:lim>
                          <m:r>
                            <m:t xml:space="preserve">N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4" name=""/>
          <p:cNvGrpSpPr/>
          <p:nvPr/>
        </p:nvGrpSpPr>
        <p:grpSpPr>
          <a:xfrm>
            <a:off x="137160" y="2376360"/>
            <a:ext cx="6211080" cy="2379960"/>
            <a:chOff x="137160" y="2376360"/>
            <a:chExt cx="6211080" cy="2379960"/>
          </a:xfrm>
        </p:grpSpPr>
        <p:sp>
          <p:nvSpPr>
            <p:cNvPr id="175" name=""/>
            <p:cNvSpPr/>
            <p:nvPr/>
          </p:nvSpPr>
          <p:spPr>
            <a:xfrm>
              <a:off x="137160" y="2376360"/>
              <a:ext cx="58708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Totalna perturbacijska greška </a:t>
              </a:r>
              <a:r>
                <a:rPr b="1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hr-HR" sz="28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i="1" lang="hr-HR" sz="2800" spc="-1" strike="noStrike" baseline="-25000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 iznos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2006640" y="2989440"/>
                  <a:ext cx="4341600" cy="17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sSub>
                            <m:e>
                              <m:r>
                                <m:t xml:space="preserve">D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/>
                            <m:sup>
                              <m:r>
                                <m:t xml:space="preserve">N</m:t>
                              </m:r>
                            </m:sup>
                            <m:e/>
                          </m:nary>
                        </m:e>
                        <m:lim>
                          <m:r>
                            <m:t xml:space="preserve">N</m:t>
                          </m:r>
                        </m:lim>
                      </m:limLow>
                      <m:sSub>
                        <m:e>
                          <m:r>
                            <m:t xml:space="preserve">D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" name=""/>
          <p:cNvSpPr/>
          <p:nvPr/>
        </p:nvSpPr>
        <p:spPr>
          <a:xfrm>
            <a:off x="214200" y="4890960"/>
            <a:ext cx="8855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aj rezultat daje mjeru osjetljivost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og pola na promjenu koeficijenata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2760" y="5910120"/>
            <a:ext cx="8854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ličan rezultat se može dobiti za osjetljivost nula na promjenu koeficijenat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ZESOI</dc:creator>
  <dc:description/>
  <dc:language>en-US</dc:language>
  <cp:lastModifiedBy>Tomislav Petkovic</cp:lastModifiedBy>
  <dcterms:modified xsi:type="dcterms:W3CDTF">2003-12-11T16:19:12Z</dcterms:modified>
  <cp:revision>27</cp:revision>
  <dc:subject>Digitalna obradba signala</dc:subject>
  <dc:title>Kvantizacija filtarskih koeficijenata, FFT</dc:title>
</cp:coreProperties>
</file>