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3075120" cy="4813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hr-HR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024080" y="9000"/>
            <a:ext cx="3074760" cy="4813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  <a:defRPr b="0" i="1" lang="hr-H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hr-HR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0" y="9744120"/>
            <a:ext cx="30751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  <a:defRPr b="0" i="1" lang="hr-H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hr-HR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4024080" y="9744120"/>
            <a:ext cx="30747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  <a:defRPr b="0" i="1" lang="hr-H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fld id="{1EE3BC7B-BB44-4229-A7B5-DCF56D27854C}" type="slidenum">
              <a:rPr b="0" i="1" lang="hr-H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945720" y="4876560"/>
            <a:ext cx="5203800" cy="432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Img"/>
          </p:nvPr>
        </p:nvSpPr>
        <p:spPr>
          <a:xfrm>
            <a:off x="1164960" y="896760"/>
            <a:ext cx="4770360" cy="357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022640" y="6480"/>
            <a:ext cx="3076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22640" y="9740880"/>
            <a:ext cx="3076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hr-HR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1440" y="9740880"/>
            <a:ext cx="3074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1440" y="6480"/>
            <a:ext cx="3074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70360" cy="3578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5720" y="4876560"/>
            <a:ext cx="52038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1CE0-3584-48F8-8F50-C2A5C97E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94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230D-A099-4193-9A2B-9E9BFB54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046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44EF-3042-48CF-853E-D3CEA2FF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4376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27804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0948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4376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27804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09D6-3FF5-40F3-A3DC-EBD98185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1F8D-F11C-4C99-B622-5FB98563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0245-7617-4535-AC68-B3DF04CD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A3A3-D385-4E20-BC93-44AF8FDD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F870-BA61-4F67-9EA3-44A070F8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600" y="628560"/>
            <a:ext cx="769608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758B-265D-46AA-B917-8C8092E5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47DB-1E08-4E98-B393-EEF538D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46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0AA1-EC0C-444B-BDFD-1A55D30F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7B51-9969-4020-8BE1-4C3672A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6DD5BB-88F4-4236-BD60-B5F35D4E9F74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2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3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70048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63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64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70048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640" y="213336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Frekvencijske transformacije u </a:t>
            </a:r>
            <a:br>
              <a:rPr sz="4000"/>
            </a:b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z-domeni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gitalna obradba signa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8B33-FF30-4159-BDA5-CCDB00D6591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a transformacija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N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nos između frekvencij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60440" y="2465280"/>
            <a:ext cx="4892760" cy="3851280"/>
            <a:chOff x="2260440" y="2465280"/>
            <a:chExt cx="4892760" cy="3851280"/>
          </a:xfrm>
        </p:grpSpPr>
        <p:sp>
          <p:nvSpPr>
            <p:cNvPr id="118" name=""/>
            <p:cNvSpPr/>
            <p:nvPr/>
          </p:nvSpPr>
          <p:spPr>
            <a:xfrm>
              <a:off x="2260440" y="2465280"/>
              <a:ext cx="4892760" cy="3851280"/>
            </a:xfrm>
            <a:custGeom>
              <a:avLst/>
              <a:gdLst/>
              <a:ahLst/>
              <a:rect l="l" t="t" r="r" b="b"/>
              <a:pathLst>
                <a:path w="3082" h="2426">
                  <a:moveTo>
                    <a:pt x="0" y="2425"/>
                  </a:moveTo>
                  <a:lnTo>
                    <a:pt x="14" y="2418"/>
                  </a:lnTo>
                  <a:lnTo>
                    <a:pt x="29" y="2418"/>
                  </a:lnTo>
                  <a:lnTo>
                    <a:pt x="43" y="2411"/>
                  </a:lnTo>
                  <a:lnTo>
                    <a:pt x="64" y="2411"/>
                  </a:lnTo>
                  <a:lnTo>
                    <a:pt x="78" y="2403"/>
                  </a:lnTo>
                  <a:lnTo>
                    <a:pt x="93" y="2403"/>
                  </a:lnTo>
                  <a:lnTo>
                    <a:pt x="107" y="2396"/>
                  </a:lnTo>
                  <a:lnTo>
                    <a:pt x="121" y="2389"/>
                  </a:lnTo>
                  <a:lnTo>
                    <a:pt x="135" y="2389"/>
                  </a:lnTo>
                  <a:lnTo>
                    <a:pt x="157" y="2382"/>
                  </a:lnTo>
                  <a:lnTo>
                    <a:pt x="171" y="2382"/>
                  </a:lnTo>
                  <a:lnTo>
                    <a:pt x="185" y="2375"/>
                  </a:lnTo>
                  <a:lnTo>
                    <a:pt x="199" y="2375"/>
                  </a:lnTo>
                  <a:lnTo>
                    <a:pt x="214" y="2368"/>
                  </a:lnTo>
                  <a:lnTo>
                    <a:pt x="228" y="2361"/>
                  </a:lnTo>
                  <a:lnTo>
                    <a:pt x="249" y="2361"/>
                  </a:lnTo>
                  <a:lnTo>
                    <a:pt x="263" y="2354"/>
                  </a:lnTo>
                  <a:lnTo>
                    <a:pt x="278" y="2354"/>
                  </a:lnTo>
                  <a:lnTo>
                    <a:pt x="292" y="2347"/>
                  </a:lnTo>
                  <a:lnTo>
                    <a:pt x="306" y="2347"/>
                  </a:lnTo>
                  <a:lnTo>
                    <a:pt x="320" y="2339"/>
                  </a:lnTo>
                  <a:lnTo>
                    <a:pt x="342" y="2332"/>
                  </a:lnTo>
                  <a:lnTo>
                    <a:pt x="356" y="2332"/>
                  </a:lnTo>
                  <a:lnTo>
                    <a:pt x="370" y="2325"/>
                  </a:lnTo>
                  <a:lnTo>
                    <a:pt x="384" y="2325"/>
                  </a:lnTo>
                  <a:lnTo>
                    <a:pt x="399" y="2318"/>
                  </a:lnTo>
                  <a:lnTo>
                    <a:pt x="413" y="2311"/>
                  </a:lnTo>
                  <a:lnTo>
                    <a:pt x="434" y="2311"/>
                  </a:lnTo>
                  <a:lnTo>
                    <a:pt x="448" y="2304"/>
                  </a:lnTo>
                  <a:lnTo>
                    <a:pt x="463" y="2304"/>
                  </a:lnTo>
                  <a:lnTo>
                    <a:pt x="477" y="2297"/>
                  </a:lnTo>
                  <a:lnTo>
                    <a:pt x="491" y="2290"/>
                  </a:lnTo>
                  <a:lnTo>
                    <a:pt x="505" y="2290"/>
                  </a:lnTo>
                  <a:lnTo>
                    <a:pt x="527" y="2283"/>
                  </a:lnTo>
                  <a:lnTo>
                    <a:pt x="541" y="2283"/>
                  </a:lnTo>
                  <a:lnTo>
                    <a:pt x="555" y="2275"/>
                  </a:lnTo>
                  <a:lnTo>
                    <a:pt x="569" y="2268"/>
                  </a:lnTo>
                  <a:lnTo>
                    <a:pt x="584" y="2268"/>
                  </a:lnTo>
                  <a:lnTo>
                    <a:pt x="598" y="2261"/>
                  </a:lnTo>
                  <a:lnTo>
                    <a:pt x="619" y="2261"/>
                  </a:lnTo>
                  <a:lnTo>
                    <a:pt x="633" y="2254"/>
                  </a:lnTo>
                  <a:lnTo>
                    <a:pt x="648" y="2247"/>
                  </a:lnTo>
                  <a:lnTo>
                    <a:pt x="662" y="2247"/>
                  </a:lnTo>
                  <a:lnTo>
                    <a:pt x="676" y="2240"/>
                  </a:lnTo>
                  <a:lnTo>
                    <a:pt x="690" y="2233"/>
                  </a:lnTo>
                  <a:lnTo>
                    <a:pt x="712" y="2233"/>
                  </a:lnTo>
                  <a:lnTo>
                    <a:pt x="726" y="2226"/>
                  </a:lnTo>
                  <a:lnTo>
                    <a:pt x="740" y="2226"/>
                  </a:lnTo>
                  <a:lnTo>
                    <a:pt x="754" y="2219"/>
                  </a:lnTo>
                  <a:lnTo>
                    <a:pt x="769" y="2211"/>
                  </a:lnTo>
                  <a:lnTo>
                    <a:pt x="783" y="2211"/>
                  </a:lnTo>
                  <a:lnTo>
                    <a:pt x="804" y="2204"/>
                  </a:lnTo>
                  <a:lnTo>
                    <a:pt x="818" y="2197"/>
                  </a:lnTo>
                  <a:lnTo>
                    <a:pt x="833" y="2197"/>
                  </a:lnTo>
                  <a:lnTo>
                    <a:pt x="847" y="2190"/>
                  </a:lnTo>
                  <a:lnTo>
                    <a:pt x="861" y="2183"/>
                  </a:lnTo>
                  <a:lnTo>
                    <a:pt x="875" y="2183"/>
                  </a:lnTo>
                  <a:lnTo>
                    <a:pt x="897" y="2176"/>
                  </a:lnTo>
                  <a:lnTo>
                    <a:pt x="911" y="2169"/>
                  </a:lnTo>
                  <a:lnTo>
                    <a:pt x="925" y="2162"/>
                  </a:lnTo>
                  <a:lnTo>
                    <a:pt x="939" y="2162"/>
                  </a:lnTo>
                  <a:lnTo>
                    <a:pt x="954" y="2155"/>
                  </a:lnTo>
                  <a:lnTo>
                    <a:pt x="968" y="2147"/>
                  </a:lnTo>
                  <a:lnTo>
                    <a:pt x="989" y="2147"/>
                  </a:lnTo>
                  <a:lnTo>
                    <a:pt x="1003" y="2140"/>
                  </a:lnTo>
                  <a:lnTo>
                    <a:pt x="1018" y="2133"/>
                  </a:lnTo>
                  <a:lnTo>
                    <a:pt x="1032" y="2126"/>
                  </a:lnTo>
                  <a:lnTo>
                    <a:pt x="1046" y="2126"/>
                  </a:lnTo>
                  <a:lnTo>
                    <a:pt x="1060" y="2119"/>
                  </a:lnTo>
                  <a:lnTo>
                    <a:pt x="1082" y="2112"/>
                  </a:lnTo>
                  <a:lnTo>
                    <a:pt x="1096" y="2112"/>
                  </a:lnTo>
                  <a:lnTo>
                    <a:pt x="1110" y="2105"/>
                  </a:lnTo>
                  <a:lnTo>
                    <a:pt x="1124" y="2098"/>
                  </a:lnTo>
                  <a:lnTo>
                    <a:pt x="1139" y="2091"/>
                  </a:lnTo>
                  <a:lnTo>
                    <a:pt x="1153" y="2083"/>
                  </a:lnTo>
                  <a:lnTo>
                    <a:pt x="1174" y="2083"/>
                  </a:lnTo>
                  <a:lnTo>
                    <a:pt x="1188" y="2076"/>
                  </a:lnTo>
                  <a:lnTo>
                    <a:pt x="1203" y="2069"/>
                  </a:lnTo>
                  <a:lnTo>
                    <a:pt x="1217" y="2062"/>
                  </a:lnTo>
                  <a:lnTo>
                    <a:pt x="1231" y="2055"/>
                  </a:lnTo>
                  <a:lnTo>
                    <a:pt x="1245" y="2055"/>
                  </a:lnTo>
                  <a:lnTo>
                    <a:pt x="1267" y="2048"/>
                  </a:lnTo>
                  <a:lnTo>
                    <a:pt x="1281" y="2041"/>
                  </a:lnTo>
                  <a:lnTo>
                    <a:pt x="1295" y="2034"/>
                  </a:lnTo>
                  <a:lnTo>
                    <a:pt x="1309" y="2027"/>
                  </a:lnTo>
                  <a:lnTo>
                    <a:pt x="1323" y="2020"/>
                  </a:lnTo>
                  <a:lnTo>
                    <a:pt x="1338" y="2012"/>
                  </a:lnTo>
                  <a:lnTo>
                    <a:pt x="1359" y="2012"/>
                  </a:lnTo>
                  <a:lnTo>
                    <a:pt x="1373" y="2005"/>
                  </a:lnTo>
                  <a:lnTo>
                    <a:pt x="1388" y="1998"/>
                  </a:lnTo>
                  <a:lnTo>
                    <a:pt x="1402" y="1991"/>
                  </a:lnTo>
                  <a:lnTo>
                    <a:pt x="1416" y="1984"/>
                  </a:lnTo>
                  <a:lnTo>
                    <a:pt x="1430" y="1977"/>
                  </a:lnTo>
                  <a:lnTo>
                    <a:pt x="1452" y="1970"/>
                  </a:lnTo>
                  <a:lnTo>
                    <a:pt x="1466" y="1963"/>
                  </a:lnTo>
                  <a:lnTo>
                    <a:pt x="1480" y="1956"/>
                  </a:lnTo>
                  <a:lnTo>
                    <a:pt x="1494" y="1948"/>
                  </a:lnTo>
                  <a:lnTo>
                    <a:pt x="1508" y="1941"/>
                  </a:lnTo>
                  <a:lnTo>
                    <a:pt x="1523" y="1934"/>
                  </a:lnTo>
                  <a:lnTo>
                    <a:pt x="1544" y="1927"/>
                  </a:lnTo>
                  <a:lnTo>
                    <a:pt x="1558" y="1920"/>
                  </a:lnTo>
                  <a:lnTo>
                    <a:pt x="1572" y="1913"/>
                  </a:lnTo>
                  <a:lnTo>
                    <a:pt x="1587" y="1906"/>
                  </a:lnTo>
                  <a:lnTo>
                    <a:pt x="1601" y="1899"/>
                  </a:lnTo>
                  <a:lnTo>
                    <a:pt x="1615" y="1892"/>
                  </a:lnTo>
                  <a:lnTo>
                    <a:pt x="1629" y="1884"/>
                  </a:lnTo>
                  <a:lnTo>
                    <a:pt x="1651" y="1877"/>
                  </a:lnTo>
                  <a:lnTo>
                    <a:pt x="1665" y="1870"/>
                  </a:lnTo>
                  <a:lnTo>
                    <a:pt x="1679" y="1856"/>
                  </a:lnTo>
                  <a:lnTo>
                    <a:pt x="1693" y="1849"/>
                  </a:lnTo>
                  <a:lnTo>
                    <a:pt x="1708" y="1842"/>
                  </a:lnTo>
                  <a:lnTo>
                    <a:pt x="1722" y="1835"/>
                  </a:lnTo>
                  <a:lnTo>
                    <a:pt x="1743" y="1828"/>
                  </a:lnTo>
                  <a:lnTo>
                    <a:pt x="1757" y="1813"/>
                  </a:lnTo>
                  <a:lnTo>
                    <a:pt x="1772" y="1806"/>
                  </a:lnTo>
                  <a:lnTo>
                    <a:pt x="1786" y="1799"/>
                  </a:lnTo>
                  <a:lnTo>
                    <a:pt x="1800" y="1792"/>
                  </a:lnTo>
                  <a:lnTo>
                    <a:pt x="1814" y="1778"/>
                  </a:lnTo>
                  <a:lnTo>
                    <a:pt x="1836" y="1771"/>
                  </a:lnTo>
                  <a:lnTo>
                    <a:pt x="1850" y="1764"/>
                  </a:lnTo>
                  <a:lnTo>
                    <a:pt x="1864" y="1749"/>
                  </a:lnTo>
                  <a:lnTo>
                    <a:pt x="1878" y="1742"/>
                  </a:lnTo>
                  <a:lnTo>
                    <a:pt x="1893" y="1728"/>
                  </a:lnTo>
                  <a:lnTo>
                    <a:pt x="1907" y="1721"/>
                  </a:lnTo>
                  <a:lnTo>
                    <a:pt x="1928" y="1714"/>
                  </a:lnTo>
                  <a:lnTo>
                    <a:pt x="1942" y="1700"/>
                  </a:lnTo>
                  <a:lnTo>
                    <a:pt x="1957" y="1692"/>
                  </a:lnTo>
                  <a:lnTo>
                    <a:pt x="1971" y="1678"/>
                  </a:lnTo>
                  <a:lnTo>
                    <a:pt x="1985" y="1664"/>
                  </a:lnTo>
                  <a:lnTo>
                    <a:pt x="1999" y="1657"/>
                  </a:lnTo>
                  <a:lnTo>
                    <a:pt x="2021" y="1643"/>
                  </a:lnTo>
                  <a:lnTo>
                    <a:pt x="2035" y="1636"/>
                  </a:lnTo>
                  <a:lnTo>
                    <a:pt x="2049" y="1621"/>
                  </a:lnTo>
                  <a:lnTo>
                    <a:pt x="2063" y="1607"/>
                  </a:lnTo>
                  <a:lnTo>
                    <a:pt x="2078" y="1593"/>
                  </a:lnTo>
                  <a:lnTo>
                    <a:pt x="2092" y="1586"/>
                  </a:lnTo>
                  <a:lnTo>
                    <a:pt x="2113" y="1572"/>
                  </a:lnTo>
                  <a:lnTo>
                    <a:pt x="2127" y="1557"/>
                  </a:lnTo>
                  <a:lnTo>
                    <a:pt x="2142" y="1543"/>
                  </a:lnTo>
                  <a:lnTo>
                    <a:pt x="2156" y="1529"/>
                  </a:lnTo>
                  <a:lnTo>
                    <a:pt x="2170" y="1515"/>
                  </a:lnTo>
                  <a:lnTo>
                    <a:pt x="2184" y="1501"/>
                  </a:lnTo>
                  <a:lnTo>
                    <a:pt x="2206" y="1486"/>
                  </a:lnTo>
                  <a:lnTo>
                    <a:pt x="2220" y="1472"/>
                  </a:lnTo>
                  <a:lnTo>
                    <a:pt x="2234" y="1458"/>
                  </a:lnTo>
                  <a:lnTo>
                    <a:pt x="2248" y="1444"/>
                  </a:lnTo>
                  <a:lnTo>
                    <a:pt x="2263" y="1429"/>
                  </a:lnTo>
                  <a:lnTo>
                    <a:pt x="2277" y="1415"/>
                  </a:lnTo>
                  <a:lnTo>
                    <a:pt x="2298" y="1394"/>
                  </a:lnTo>
                  <a:lnTo>
                    <a:pt x="2312" y="1380"/>
                  </a:lnTo>
                  <a:lnTo>
                    <a:pt x="2327" y="1365"/>
                  </a:lnTo>
                  <a:lnTo>
                    <a:pt x="2341" y="1344"/>
                  </a:lnTo>
                  <a:lnTo>
                    <a:pt x="2355" y="1330"/>
                  </a:lnTo>
                  <a:lnTo>
                    <a:pt x="2369" y="1309"/>
                  </a:lnTo>
                  <a:lnTo>
                    <a:pt x="2391" y="1287"/>
                  </a:lnTo>
                  <a:lnTo>
                    <a:pt x="2405" y="1273"/>
                  </a:lnTo>
                  <a:lnTo>
                    <a:pt x="2419" y="1252"/>
                  </a:lnTo>
                  <a:lnTo>
                    <a:pt x="2433" y="1230"/>
                  </a:lnTo>
                  <a:lnTo>
                    <a:pt x="2448" y="1216"/>
                  </a:lnTo>
                  <a:lnTo>
                    <a:pt x="2462" y="1195"/>
                  </a:lnTo>
                  <a:lnTo>
                    <a:pt x="2483" y="1173"/>
                  </a:lnTo>
                  <a:lnTo>
                    <a:pt x="2497" y="1152"/>
                  </a:lnTo>
                  <a:lnTo>
                    <a:pt x="2512" y="1131"/>
                  </a:lnTo>
                  <a:lnTo>
                    <a:pt x="2526" y="1109"/>
                  </a:lnTo>
                  <a:lnTo>
                    <a:pt x="2540" y="1081"/>
                  </a:lnTo>
                  <a:lnTo>
                    <a:pt x="2554" y="1060"/>
                  </a:lnTo>
                  <a:lnTo>
                    <a:pt x="2576" y="1038"/>
                  </a:lnTo>
                  <a:lnTo>
                    <a:pt x="2590" y="1010"/>
                  </a:lnTo>
                  <a:lnTo>
                    <a:pt x="2604" y="989"/>
                  </a:lnTo>
                  <a:lnTo>
                    <a:pt x="2618" y="967"/>
                  </a:lnTo>
                  <a:lnTo>
                    <a:pt x="2633" y="939"/>
                  </a:lnTo>
                  <a:lnTo>
                    <a:pt x="2647" y="910"/>
                  </a:lnTo>
                  <a:lnTo>
                    <a:pt x="2668" y="882"/>
                  </a:lnTo>
                  <a:lnTo>
                    <a:pt x="2682" y="861"/>
                  </a:lnTo>
                  <a:lnTo>
                    <a:pt x="2697" y="832"/>
                  </a:lnTo>
                  <a:lnTo>
                    <a:pt x="2711" y="804"/>
                  </a:lnTo>
                  <a:lnTo>
                    <a:pt x="2725" y="775"/>
                  </a:lnTo>
                  <a:lnTo>
                    <a:pt x="2739" y="747"/>
                  </a:lnTo>
                  <a:lnTo>
                    <a:pt x="2761" y="718"/>
                  </a:lnTo>
                  <a:lnTo>
                    <a:pt x="2775" y="683"/>
                  </a:lnTo>
                  <a:lnTo>
                    <a:pt x="2789" y="654"/>
                  </a:lnTo>
                  <a:lnTo>
                    <a:pt x="2803" y="626"/>
                  </a:lnTo>
                  <a:lnTo>
                    <a:pt x="2817" y="590"/>
                  </a:lnTo>
                  <a:lnTo>
                    <a:pt x="2832" y="562"/>
                  </a:lnTo>
                  <a:lnTo>
                    <a:pt x="2853" y="527"/>
                  </a:lnTo>
                  <a:lnTo>
                    <a:pt x="2867" y="491"/>
                  </a:lnTo>
                  <a:lnTo>
                    <a:pt x="2882" y="463"/>
                  </a:lnTo>
                  <a:lnTo>
                    <a:pt x="2896" y="427"/>
                  </a:lnTo>
                  <a:lnTo>
                    <a:pt x="2910" y="391"/>
                  </a:lnTo>
                  <a:lnTo>
                    <a:pt x="2924" y="356"/>
                  </a:lnTo>
                  <a:lnTo>
                    <a:pt x="2946" y="320"/>
                  </a:lnTo>
                  <a:lnTo>
                    <a:pt x="2960" y="285"/>
                  </a:lnTo>
                  <a:lnTo>
                    <a:pt x="2974" y="256"/>
                  </a:lnTo>
                  <a:lnTo>
                    <a:pt x="2988" y="221"/>
                  </a:lnTo>
                  <a:lnTo>
                    <a:pt x="3002" y="178"/>
                  </a:lnTo>
                  <a:lnTo>
                    <a:pt x="3017" y="143"/>
                  </a:lnTo>
                  <a:lnTo>
                    <a:pt x="3038" y="107"/>
                  </a:lnTo>
                  <a:lnTo>
                    <a:pt x="3052" y="71"/>
                  </a:lnTo>
                  <a:lnTo>
                    <a:pt x="3066" y="36"/>
                  </a:lnTo>
                  <a:lnTo>
                    <a:pt x="3081" y="0"/>
                  </a:lnTo>
                </a:path>
              </a:pathLst>
            </a:custGeom>
            <a:noFill/>
            <a:ln cap="rnd" w="2556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60440" y="5987880"/>
              <a:ext cx="119700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858640" y="4648320"/>
              <a:ext cx="930240" cy="843840"/>
              <a:chOff x="5858640" y="4648320"/>
              <a:chExt cx="930240" cy="843840"/>
            </a:xfrm>
          </p:grpSpPr>
          <p:sp>
            <p:nvSpPr>
              <p:cNvPr id="121" name=""/>
              <p:cNvSpPr/>
              <p:nvPr/>
            </p:nvSpPr>
            <p:spPr>
              <a:xfrm>
                <a:off x="5858640" y="5033880"/>
                <a:ext cx="930240" cy="458280"/>
              </a:xfrm>
              <a:prstGeom prst="rect">
                <a:avLst/>
              </a:prstGeom>
              <a:noFill/>
              <a:ln w="1260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=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6095520" y="4648320"/>
                <a:ext cx="228600" cy="380880"/>
              </a:xfrm>
              <a:prstGeom prst="line">
                <a:avLst/>
              </a:prstGeom>
              <a:ln w="12600">
                <a:solidFill>
                  <a:srgbClr val="d6009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2260440" y="2465280"/>
            <a:ext cx="4892760" cy="3851280"/>
            <a:chOff x="2260440" y="2465280"/>
            <a:chExt cx="4892760" cy="3851280"/>
          </a:xfrm>
        </p:grpSpPr>
        <p:sp>
          <p:nvSpPr>
            <p:cNvPr id="124" name=""/>
            <p:cNvSpPr/>
            <p:nvPr/>
          </p:nvSpPr>
          <p:spPr>
            <a:xfrm>
              <a:off x="2260440" y="2465280"/>
              <a:ext cx="4892760" cy="3851280"/>
            </a:xfrm>
            <a:custGeom>
              <a:avLst/>
              <a:gdLst/>
              <a:ahLst/>
              <a:rect l="l" t="t" r="r" b="b"/>
              <a:pathLst>
                <a:path w="3082" h="2426">
                  <a:moveTo>
                    <a:pt x="0" y="2425"/>
                  </a:moveTo>
                  <a:lnTo>
                    <a:pt x="14" y="2389"/>
                  </a:lnTo>
                  <a:lnTo>
                    <a:pt x="29" y="2354"/>
                  </a:lnTo>
                  <a:lnTo>
                    <a:pt x="43" y="2318"/>
                  </a:lnTo>
                  <a:lnTo>
                    <a:pt x="64" y="2283"/>
                  </a:lnTo>
                  <a:lnTo>
                    <a:pt x="78" y="2247"/>
                  </a:lnTo>
                  <a:lnTo>
                    <a:pt x="93" y="2204"/>
                  </a:lnTo>
                  <a:lnTo>
                    <a:pt x="107" y="2169"/>
                  </a:lnTo>
                  <a:lnTo>
                    <a:pt x="121" y="2140"/>
                  </a:lnTo>
                  <a:lnTo>
                    <a:pt x="135" y="2105"/>
                  </a:lnTo>
                  <a:lnTo>
                    <a:pt x="157" y="2069"/>
                  </a:lnTo>
                  <a:lnTo>
                    <a:pt x="171" y="2034"/>
                  </a:lnTo>
                  <a:lnTo>
                    <a:pt x="185" y="1998"/>
                  </a:lnTo>
                  <a:lnTo>
                    <a:pt x="199" y="1963"/>
                  </a:lnTo>
                  <a:lnTo>
                    <a:pt x="214" y="1934"/>
                  </a:lnTo>
                  <a:lnTo>
                    <a:pt x="228" y="1899"/>
                  </a:lnTo>
                  <a:lnTo>
                    <a:pt x="249" y="1863"/>
                  </a:lnTo>
                  <a:lnTo>
                    <a:pt x="263" y="1835"/>
                  </a:lnTo>
                  <a:lnTo>
                    <a:pt x="278" y="1799"/>
                  </a:lnTo>
                  <a:lnTo>
                    <a:pt x="292" y="1771"/>
                  </a:lnTo>
                  <a:lnTo>
                    <a:pt x="306" y="1742"/>
                  </a:lnTo>
                  <a:lnTo>
                    <a:pt x="320" y="1707"/>
                  </a:lnTo>
                  <a:lnTo>
                    <a:pt x="342" y="1678"/>
                  </a:lnTo>
                  <a:lnTo>
                    <a:pt x="356" y="1650"/>
                  </a:lnTo>
                  <a:lnTo>
                    <a:pt x="370" y="1621"/>
                  </a:lnTo>
                  <a:lnTo>
                    <a:pt x="384" y="1593"/>
                  </a:lnTo>
                  <a:lnTo>
                    <a:pt x="399" y="1564"/>
                  </a:lnTo>
                  <a:lnTo>
                    <a:pt x="413" y="1543"/>
                  </a:lnTo>
                  <a:lnTo>
                    <a:pt x="434" y="1515"/>
                  </a:lnTo>
                  <a:lnTo>
                    <a:pt x="448" y="1486"/>
                  </a:lnTo>
                  <a:lnTo>
                    <a:pt x="463" y="1458"/>
                  </a:lnTo>
                  <a:lnTo>
                    <a:pt x="477" y="1437"/>
                  </a:lnTo>
                  <a:lnTo>
                    <a:pt x="491" y="1415"/>
                  </a:lnTo>
                  <a:lnTo>
                    <a:pt x="505" y="1387"/>
                  </a:lnTo>
                  <a:lnTo>
                    <a:pt x="527" y="1365"/>
                  </a:lnTo>
                  <a:lnTo>
                    <a:pt x="541" y="1344"/>
                  </a:lnTo>
                  <a:lnTo>
                    <a:pt x="555" y="1316"/>
                  </a:lnTo>
                  <a:lnTo>
                    <a:pt x="569" y="1294"/>
                  </a:lnTo>
                  <a:lnTo>
                    <a:pt x="584" y="1273"/>
                  </a:lnTo>
                  <a:lnTo>
                    <a:pt x="598" y="1252"/>
                  </a:lnTo>
                  <a:lnTo>
                    <a:pt x="619" y="1230"/>
                  </a:lnTo>
                  <a:lnTo>
                    <a:pt x="633" y="1209"/>
                  </a:lnTo>
                  <a:lnTo>
                    <a:pt x="648" y="1195"/>
                  </a:lnTo>
                  <a:lnTo>
                    <a:pt x="662" y="1173"/>
                  </a:lnTo>
                  <a:lnTo>
                    <a:pt x="676" y="1152"/>
                  </a:lnTo>
                  <a:lnTo>
                    <a:pt x="690" y="1138"/>
                  </a:lnTo>
                  <a:lnTo>
                    <a:pt x="712" y="1117"/>
                  </a:lnTo>
                  <a:lnTo>
                    <a:pt x="726" y="1095"/>
                  </a:lnTo>
                  <a:lnTo>
                    <a:pt x="740" y="1081"/>
                  </a:lnTo>
                  <a:lnTo>
                    <a:pt x="754" y="1060"/>
                  </a:lnTo>
                  <a:lnTo>
                    <a:pt x="769" y="1045"/>
                  </a:lnTo>
                  <a:lnTo>
                    <a:pt x="783" y="1031"/>
                  </a:lnTo>
                  <a:lnTo>
                    <a:pt x="804" y="1010"/>
                  </a:lnTo>
                  <a:lnTo>
                    <a:pt x="818" y="996"/>
                  </a:lnTo>
                  <a:lnTo>
                    <a:pt x="833" y="982"/>
                  </a:lnTo>
                  <a:lnTo>
                    <a:pt x="847" y="967"/>
                  </a:lnTo>
                  <a:lnTo>
                    <a:pt x="861" y="953"/>
                  </a:lnTo>
                  <a:lnTo>
                    <a:pt x="875" y="939"/>
                  </a:lnTo>
                  <a:lnTo>
                    <a:pt x="897" y="925"/>
                  </a:lnTo>
                  <a:lnTo>
                    <a:pt x="911" y="910"/>
                  </a:lnTo>
                  <a:lnTo>
                    <a:pt x="925" y="896"/>
                  </a:lnTo>
                  <a:lnTo>
                    <a:pt x="939" y="882"/>
                  </a:lnTo>
                  <a:lnTo>
                    <a:pt x="954" y="868"/>
                  </a:lnTo>
                  <a:lnTo>
                    <a:pt x="968" y="854"/>
                  </a:lnTo>
                  <a:lnTo>
                    <a:pt x="989" y="839"/>
                  </a:lnTo>
                  <a:lnTo>
                    <a:pt x="1003" y="832"/>
                  </a:lnTo>
                  <a:lnTo>
                    <a:pt x="1018" y="818"/>
                  </a:lnTo>
                  <a:lnTo>
                    <a:pt x="1032" y="804"/>
                  </a:lnTo>
                  <a:lnTo>
                    <a:pt x="1046" y="790"/>
                  </a:lnTo>
                  <a:lnTo>
                    <a:pt x="1060" y="782"/>
                  </a:lnTo>
                  <a:lnTo>
                    <a:pt x="1082" y="768"/>
                  </a:lnTo>
                  <a:lnTo>
                    <a:pt x="1096" y="761"/>
                  </a:lnTo>
                  <a:lnTo>
                    <a:pt x="1110" y="747"/>
                  </a:lnTo>
                  <a:lnTo>
                    <a:pt x="1124" y="733"/>
                  </a:lnTo>
                  <a:lnTo>
                    <a:pt x="1139" y="726"/>
                  </a:lnTo>
                  <a:lnTo>
                    <a:pt x="1153" y="711"/>
                  </a:lnTo>
                  <a:lnTo>
                    <a:pt x="1174" y="704"/>
                  </a:lnTo>
                  <a:lnTo>
                    <a:pt x="1188" y="697"/>
                  </a:lnTo>
                  <a:lnTo>
                    <a:pt x="1203" y="683"/>
                  </a:lnTo>
                  <a:lnTo>
                    <a:pt x="1217" y="676"/>
                  </a:lnTo>
                  <a:lnTo>
                    <a:pt x="1231" y="662"/>
                  </a:lnTo>
                  <a:lnTo>
                    <a:pt x="1245" y="654"/>
                  </a:lnTo>
                  <a:lnTo>
                    <a:pt x="1267" y="647"/>
                  </a:lnTo>
                  <a:lnTo>
                    <a:pt x="1281" y="633"/>
                  </a:lnTo>
                  <a:lnTo>
                    <a:pt x="1295" y="626"/>
                  </a:lnTo>
                  <a:lnTo>
                    <a:pt x="1309" y="619"/>
                  </a:lnTo>
                  <a:lnTo>
                    <a:pt x="1323" y="612"/>
                  </a:lnTo>
                  <a:lnTo>
                    <a:pt x="1338" y="598"/>
                  </a:lnTo>
                  <a:lnTo>
                    <a:pt x="1359" y="590"/>
                  </a:lnTo>
                  <a:lnTo>
                    <a:pt x="1373" y="583"/>
                  </a:lnTo>
                  <a:lnTo>
                    <a:pt x="1388" y="576"/>
                  </a:lnTo>
                  <a:lnTo>
                    <a:pt x="1402" y="569"/>
                  </a:lnTo>
                  <a:lnTo>
                    <a:pt x="1416" y="555"/>
                  </a:lnTo>
                  <a:lnTo>
                    <a:pt x="1430" y="548"/>
                  </a:lnTo>
                  <a:lnTo>
                    <a:pt x="1452" y="541"/>
                  </a:lnTo>
                  <a:lnTo>
                    <a:pt x="1466" y="534"/>
                  </a:lnTo>
                  <a:lnTo>
                    <a:pt x="1480" y="527"/>
                  </a:lnTo>
                  <a:lnTo>
                    <a:pt x="1494" y="519"/>
                  </a:lnTo>
                  <a:lnTo>
                    <a:pt x="1508" y="512"/>
                  </a:lnTo>
                  <a:lnTo>
                    <a:pt x="1523" y="505"/>
                  </a:lnTo>
                  <a:lnTo>
                    <a:pt x="1544" y="498"/>
                  </a:lnTo>
                  <a:lnTo>
                    <a:pt x="1558" y="491"/>
                  </a:lnTo>
                  <a:lnTo>
                    <a:pt x="1572" y="484"/>
                  </a:lnTo>
                  <a:lnTo>
                    <a:pt x="1587" y="477"/>
                  </a:lnTo>
                  <a:lnTo>
                    <a:pt x="1601" y="470"/>
                  </a:lnTo>
                  <a:lnTo>
                    <a:pt x="1615" y="463"/>
                  </a:lnTo>
                  <a:lnTo>
                    <a:pt x="1629" y="455"/>
                  </a:lnTo>
                  <a:lnTo>
                    <a:pt x="1651" y="448"/>
                  </a:lnTo>
                  <a:lnTo>
                    <a:pt x="1665" y="441"/>
                  </a:lnTo>
                  <a:lnTo>
                    <a:pt x="1679" y="434"/>
                  </a:lnTo>
                  <a:lnTo>
                    <a:pt x="1693" y="427"/>
                  </a:lnTo>
                  <a:lnTo>
                    <a:pt x="1708" y="420"/>
                  </a:lnTo>
                  <a:lnTo>
                    <a:pt x="1722" y="413"/>
                  </a:lnTo>
                  <a:lnTo>
                    <a:pt x="1743" y="413"/>
                  </a:lnTo>
                  <a:lnTo>
                    <a:pt x="1757" y="406"/>
                  </a:lnTo>
                  <a:lnTo>
                    <a:pt x="1772" y="399"/>
                  </a:lnTo>
                  <a:lnTo>
                    <a:pt x="1786" y="391"/>
                  </a:lnTo>
                  <a:lnTo>
                    <a:pt x="1800" y="384"/>
                  </a:lnTo>
                  <a:lnTo>
                    <a:pt x="1814" y="377"/>
                  </a:lnTo>
                  <a:lnTo>
                    <a:pt x="1836" y="370"/>
                  </a:lnTo>
                  <a:lnTo>
                    <a:pt x="1850" y="370"/>
                  </a:lnTo>
                  <a:lnTo>
                    <a:pt x="1864" y="363"/>
                  </a:lnTo>
                  <a:lnTo>
                    <a:pt x="1878" y="356"/>
                  </a:lnTo>
                  <a:lnTo>
                    <a:pt x="1893" y="349"/>
                  </a:lnTo>
                  <a:lnTo>
                    <a:pt x="1907" y="342"/>
                  </a:lnTo>
                  <a:lnTo>
                    <a:pt x="1928" y="342"/>
                  </a:lnTo>
                  <a:lnTo>
                    <a:pt x="1942" y="335"/>
                  </a:lnTo>
                  <a:lnTo>
                    <a:pt x="1957" y="327"/>
                  </a:lnTo>
                  <a:lnTo>
                    <a:pt x="1971" y="320"/>
                  </a:lnTo>
                  <a:lnTo>
                    <a:pt x="1985" y="313"/>
                  </a:lnTo>
                  <a:lnTo>
                    <a:pt x="1999" y="313"/>
                  </a:lnTo>
                  <a:lnTo>
                    <a:pt x="2021" y="306"/>
                  </a:lnTo>
                  <a:lnTo>
                    <a:pt x="2035" y="299"/>
                  </a:lnTo>
                  <a:lnTo>
                    <a:pt x="2049" y="299"/>
                  </a:lnTo>
                  <a:lnTo>
                    <a:pt x="2063" y="292"/>
                  </a:lnTo>
                  <a:lnTo>
                    <a:pt x="2078" y="285"/>
                  </a:lnTo>
                  <a:lnTo>
                    <a:pt x="2092" y="278"/>
                  </a:lnTo>
                  <a:lnTo>
                    <a:pt x="2113" y="278"/>
                  </a:lnTo>
                  <a:lnTo>
                    <a:pt x="2127" y="271"/>
                  </a:lnTo>
                  <a:lnTo>
                    <a:pt x="2142" y="263"/>
                  </a:lnTo>
                  <a:lnTo>
                    <a:pt x="2156" y="263"/>
                  </a:lnTo>
                  <a:lnTo>
                    <a:pt x="2170" y="256"/>
                  </a:lnTo>
                  <a:lnTo>
                    <a:pt x="2184" y="249"/>
                  </a:lnTo>
                  <a:lnTo>
                    <a:pt x="2206" y="242"/>
                  </a:lnTo>
                  <a:lnTo>
                    <a:pt x="2220" y="242"/>
                  </a:lnTo>
                  <a:lnTo>
                    <a:pt x="2234" y="235"/>
                  </a:lnTo>
                  <a:lnTo>
                    <a:pt x="2248" y="228"/>
                  </a:lnTo>
                  <a:lnTo>
                    <a:pt x="2263" y="228"/>
                  </a:lnTo>
                  <a:lnTo>
                    <a:pt x="2277" y="221"/>
                  </a:lnTo>
                  <a:lnTo>
                    <a:pt x="2298" y="214"/>
                  </a:lnTo>
                  <a:lnTo>
                    <a:pt x="2312" y="214"/>
                  </a:lnTo>
                  <a:lnTo>
                    <a:pt x="2327" y="207"/>
                  </a:lnTo>
                  <a:lnTo>
                    <a:pt x="2341" y="199"/>
                  </a:lnTo>
                  <a:lnTo>
                    <a:pt x="2355" y="199"/>
                  </a:lnTo>
                  <a:lnTo>
                    <a:pt x="2369" y="192"/>
                  </a:lnTo>
                  <a:lnTo>
                    <a:pt x="2391" y="192"/>
                  </a:lnTo>
                  <a:lnTo>
                    <a:pt x="2405" y="185"/>
                  </a:lnTo>
                  <a:lnTo>
                    <a:pt x="2419" y="178"/>
                  </a:lnTo>
                  <a:lnTo>
                    <a:pt x="2433" y="178"/>
                  </a:lnTo>
                  <a:lnTo>
                    <a:pt x="2448" y="171"/>
                  </a:lnTo>
                  <a:lnTo>
                    <a:pt x="2462" y="164"/>
                  </a:lnTo>
                  <a:lnTo>
                    <a:pt x="2483" y="164"/>
                  </a:lnTo>
                  <a:lnTo>
                    <a:pt x="2497" y="157"/>
                  </a:lnTo>
                  <a:lnTo>
                    <a:pt x="2512" y="157"/>
                  </a:lnTo>
                  <a:lnTo>
                    <a:pt x="2526" y="150"/>
                  </a:lnTo>
                  <a:lnTo>
                    <a:pt x="2540" y="143"/>
                  </a:lnTo>
                  <a:lnTo>
                    <a:pt x="2554" y="143"/>
                  </a:lnTo>
                  <a:lnTo>
                    <a:pt x="2576" y="135"/>
                  </a:lnTo>
                  <a:lnTo>
                    <a:pt x="2590" y="135"/>
                  </a:lnTo>
                  <a:lnTo>
                    <a:pt x="2604" y="128"/>
                  </a:lnTo>
                  <a:lnTo>
                    <a:pt x="2618" y="121"/>
                  </a:lnTo>
                  <a:lnTo>
                    <a:pt x="2633" y="121"/>
                  </a:lnTo>
                  <a:lnTo>
                    <a:pt x="2647" y="114"/>
                  </a:lnTo>
                  <a:lnTo>
                    <a:pt x="2668" y="114"/>
                  </a:lnTo>
                  <a:lnTo>
                    <a:pt x="2682" y="107"/>
                  </a:lnTo>
                  <a:lnTo>
                    <a:pt x="2697" y="100"/>
                  </a:lnTo>
                  <a:lnTo>
                    <a:pt x="2711" y="100"/>
                  </a:lnTo>
                  <a:lnTo>
                    <a:pt x="2725" y="93"/>
                  </a:lnTo>
                  <a:lnTo>
                    <a:pt x="2739" y="93"/>
                  </a:lnTo>
                  <a:lnTo>
                    <a:pt x="2761" y="86"/>
                  </a:lnTo>
                  <a:lnTo>
                    <a:pt x="2775" y="79"/>
                  </a:lnTo>
                  <a:lnTo>
                    <a:pt x="2789" y="79"/>
                  </a:lnTo>
                  <a:lnTo>
                    <a:pt x="2803" y="71"/>
                  </a:lnTo>
                  <a:lnTo>
                    <a:pt x="2817" y="71"/>
                  </a:lnTo>
                  <a:lnTo>
                    <a:pt x="2832" y="64"/>
                  </a:lnTo>
                  <a:lnTo>
                    <a:pt x="2853" y="64"/>
                  </a:lnTo>
                  <a:lnTo>
                    <a:pt x="2867" y="57"/>
                  </a:lnTo>
                  <a:lnTo>
                    <a:pt x="2882" y="50"/>
                  </a:lnTo>
                  <a:lnTo>
                    <a:pt x="2896" y="50"/>
                  </a:lnTo>
                  <a:lnTo>
                    <a:pt x="2910" y="43"/>
                  </a:lnTo>
                  <a:lnTo>
                    <a:pt x="2924" y="43"/>
                  </a:lnTo>
                  <a:lnTo>
                    <a:pt x="2946" y="36"/>
                  </a:lnTo>
                  <a:lnTo>
                    <a:pt x="2960" y="36"/>
                  </a:lnTo>
                  <a:lnTo>
                    <a:pt x="2974" y="29"/>
                  </a:lnTo>
                  <a:lnTo>
                    <a:pt x="2988" y="22"/>
                  </a:lnTo>
                  <a:lnTo>
                    <a:pt x="3002" y="22"/>
                  </a:lnTo>
                  <a:lnTo>
                    <a:pt x="3017" y="15"/>
                  </a:lnTo>
                  <a:lnTo>
                    <a:pt x="3038" y="15"/>
                  </a:lnTo>
                  <a:lnTo>
                    <a:pt x="3052" y="8"/>
                  </a:lnTo>
                  <a:lnTo>
                    <a:pt x="3066" y="8"/>
                  </a:lnTo>
                  <a:lnTo>
                    <a:pt x="3081" y="0"/>
                  </a:lnTo>
                </a:path>
              </a:pathLst>
            </a:custGeom>
            <a:noFill/>
            <a:ln cap="rnd"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60440" y="4148280"/>
              <a:ext cx="119700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572640" y="2671920"/>
              <a:ext cx="1108440" cy="757080"/>
              <a:chOff x="3572640" y="2671920"/>
              <a:chExt cx="1108440" cy="757080"/>
            </a:xfrm>
          </p:grpSpPr>
          <p:sp>
            <p:nvSpPr>
              <p:cNvPr id="127" name=""/>
              <p:cNvSpPr/>
              <p:nvPr/>
            </p:nvSpPr>
            <p:spPr>
              <a:xfrm>
                <a:off x="3572640" y="2671920"/>
                <a:ext cx="1108440" cy="458280"/>
              </a:xfrm>
              <a:prstGeom prst="rect">
                <a:avLst/>
              </a:prstGeom>
              <a:noFill/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= -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62520" y="3124080"/>
                <a:ext cx="152280" cy="3049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1351080" y="2133360"/>
            <a:ext cx="6391800" cy="4604400"/>
            <a:chOff x="1351080" y="2133360"/>
            <a:chExt cx="6391800" cy="4604400"/>
          </a:xfrm>
        </p:grpSpPr>
        <p:sp>
          <p:nvSpPr>
            <p:cNvPr id="130" name=""/>
            <p:cNvSpPr/>
            <p:nvPr/>
          </p:nvSpPr>
          <p:spPr>
            <a:xfrm>
              <a:off x="2260440" y="6315120"/>
              <a:ext cx="4891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60440" y="2465280"/>
              <a:ext cx="4891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260440" y="2465280"/>
              <a:ext cx="0" cy="3849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151760" y="2465280"/>
              <a:ext cx="0" cy="3849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60440" y="246528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51760" y="631512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60440" y="6315120"/>
              <a:ext cx="4891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260440" y="2465280"/>
              <a:ext cx="0" cy="3849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60440" y="63151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260440" y="626904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60440" y="246528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243240" y="626904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3240" y="246528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214880" y="626904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14880" y="246528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197320" y="626904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97320" y="246528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168960" y="626904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68960" y="246528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151760" y="626904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51760" y="246528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60440" y="631512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105680" y="631512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105680" y="593100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60440" y="554688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105680" y="554688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105680" y="516420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60440" y="478008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105680" y="478008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105680" y="439596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0440" y="400068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105680" y="400068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7105680" y="361800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60440" y="323388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105680" y="323388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105680" y="284940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60440" y="246528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7105680" y="246528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0440" y="6315120"/>
              <a:ext cx="5435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0440" y="2465280"/>
              <a:ext cx="4891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260440" y="2133360"/>
              <a:ext cx="0" cy="418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151760" y="2465280"/>
              <a:ext cx="0" cy="3849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60440" y="63151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51760" y="246528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0440" y="2465280"/>
              <a:ext cx="4892760" cy="3851280"/>
            </a:xfrm>
            <a:custGeom>
              <a:avLst/>
              <a:gdLst/>
              <a:ahLst/>
              <a:rect l="l" t="t" r="r" b="b"/>
              <a:pathLst>
                <a:path w="3082" h="2426">
                  <a:moveTo>
                    <a:pt x="0" y="2425"/>
                  </a:moveTo>
                  <a:lnTo>
                    <a:pt x="14" y="2411"/>
                  </a:lnTo>
                  <a:lnTo>
                    <a:pt x="29" y="2403"/>
                  </a:lnTo>
                  <a:lnTo>
                    <a:pt x="43" y="2389"/>
                  </a:lnTo>
                  <a:lnTo>
                    <a:pt x="64" y="2375"/>
                  </a:lnTo>
                  <a:lnTo>
                    <a:pt x="78" y="2361"/>
                  </a:lnTo>
                  <a:lnTo>
                    <a:pt x="93" y="2354"/>
                  </a:lnTo>
                  <a:lnTo>
                    <a:pt x="107" y="2339"/>
                  </a:lnTo>
                  <a:lnTo>
                    <a:pt x="121" y="2325"/>
                  </a:lnTo>
                  <a:lnTo>
                    <a:pt x="135" y="2318"/>
                  </a:lnTo>
                  <a:lnTo>
                    <a:pt x="157" y="2304"/>
                  </a:lnTo>
                  <a:lnTo>
                    <a:pt x="171" y="2290"/>
                  </a:lnTo>
                  <a:lnTo>
                    <a:pt x="185" y="2283"/>
                  </a:lnTo>
                  <a:lnTo>
                    <a:pt x="199" y="2268"/>
                  </a:lnTo>
                  <a:lnTo>
                    <a:pt x="214" y="2254"/>
                  </a:lnTo>
                  <a:lnTo>
                    <a:pt x="228" y="2240"/>
                  </a:lnTo>
                  <a:lnTo>
                    <a:pt x="249" y="2233"/>
                  </a:lnTo>
                  <a:lnTo>
                    <a:pt x="263" y="2219"/>
                  </a:lnTo>
                  <a:lnTo>
                    <a:pt x="278" y="2204"/>
                  </a:lnTo>
                  <a:lnTo>
                    <a:pt x="292" y="2197"/>
                  </a:lnTo>
                  <a:lnTo>
                    <a:pt x="306" y="2183"/>
                  </a:lnTo>
                  <a:lnTo>
                    <a:pt x="320" y="2169"/>
                  </a:lnTo>
                  <a:lnTo>
                    <a:pt x="342" y="2155"/>
                  </a:lnTo>
                  <a:lnTo>
                    <a:pt x="356" y="2147"/>
                  </a:lnTo>
                  <a:lnTo>
                    <a:pt x="370" y="2133"/>
                  </a:lnTo>
                  <a:lnTo>
                    <a:pt x="384" y="2119"/>
                  </a:lnTo>
                  <a:lnTo>
                    <a:pt x="399" y="2112"/>
                  </a:lnTo>
                  <a:lnTo>
                    <a:pt x="413" y="2098"/>
                  </a:lnTo>
                  <a:lnTo>
                    <a:pt x="434" y="2083"/>
                  </a:lnTo>
                  <a:lnTo>
                    <a:pt x="448" y="2076"/>
                  </a:lnTo>
                  <a:lnTo>
                    <a:pt x="463" y="2062"/>
                  </a:lnTo>
                  <a:lnTo>
                    <a:pt x="477" y="2048"/>
                  </a:lnTo>
                  <a:lnTo>
                    <a:pt x="491" y="2034"/>
                  </a:lnTo>
                  <a:lnTo>
                    <a:pt x="505" y="2027"/>
                  </a:lnTo>
                  <a:lnTo>
                    <a:pt x="527" y="2012"/>
                  </a:lnTo>
                  <a:lnTo>
                    <a:pt x="541" y="1998"/>
                  </a:lnTo>
                  <a:lnTo>
                    <a:pt x="555" y="1991"/>
                  </a:lnTo>
                  <a:lnTo>
                    <a:pt x="569" y="1977"/>
                  </a:lnTo>
                  <a:lnTo>
                    <a:pt x="584" y="1963"/>
                  </a:lnTo>
                  <a:lnTo>
                    <a:pt x="598" y="1956"/>
                  </a:lnTo>
                  <a:lnTo>
                    <a:pt x="619" y="1941"/>
                  </a:lnTo>
                  <a:lnTo>
                    <a:pt x="633" y="1927"/>
                  </a:lnTo>
                  <a:lnTo>
                    <a:pt x="648" y="1913"/>
                  </a:lnTo>
                  <a:lnTo>
                    <a:pt x="662" y="1906"/>
                  </a:lnTo>
                  <a:lnTo>
                    <a:pt x="676" y="1892"/>
                  </a:lnTo>
                  <a:lnTo>
                    <a:pt x="690" y="1877"/>
                  </a:lnTo>
                  <a:lnTo>
                    <a:pt x="712" y="1870"/>
                  </a:lnTo>
                  <a:lnTo>
                    <a:pt x="726" y="1856"/>
                  </a:lnTo>
                  <a:lnTo>
                    <a:pt x="740" y="1842"/>
                  </a:lnTo>
                  <a:lnTo>
                    <a:pt x="754" y="1828"/>
                  </a:lnTo>
                  <a:lnTo>
                    <a:pt x="769" y="1820"/>
                  </a:lnTo>
                  <a:lnTo>
                    <a:pt x="783" y="1806"/>
                  </a:lnTo>
                  <a:lnTo>
                    <a:pt x="804" y="1792"/>
                  </a:lnTo>
                  <a:lnTo>
                    <a:pt x="818" y="1785"/>
                  </a:lnTo>
                  <a:lnTo>
                    <a:pt x="833" y="1771"/>
                  </a:lnTo>
                  <a:lnTo>
                    <a:pt x="847" y="1756"/>
                  </a:lnTo>
                  <a:lnTo>
                    <a:pt x="861" y="1749"/>
                  </a:lnTo>
                  <a:lnTo>
                    <a:pt x="875" y="1735"/>
                  </a:lnTo>
                  <a:lnTo>
                    <a:pt x="897" y="1721"/>
                  </a:lnTo>
                  <a:lnTo>
                    <a:pt x="911" y="1707"/>
                  </a:lnTo>
                  <a:lnTo>
                    <a:pt x="925" y="1700"/>
                  </a:lnTo>
                  <a:lnTo>
                    <a:pt x="939" y="1685"/>
                  </a:lnTo>
                  <a:lnTo>
                    <a:pt x="954" y="1671"/>
                  </a:lnTo>
                  <a:lnTo>
                    <a:pt x="968" y="1664"/>
                  </a:lnTo>
                  <a:lnTo>
                    <a:pt x="989" y="1650"/>
                  </a:lnTo>
                  <a:lnTo>
                    <a:pt x="1003" y="1636"/>
                  </a:lnTo>
                  <a:lnTo>
                    <a:pt x="1018" y="1621"/>
                  </a:lnTo>
                  <a:lnTo>
                    <a:pt x="1032" y="1614"/>
                  </a:lnTo>
                  <a:lnTo>
                    <a:pt x="1046" y="1600"/>
                  </a:lnTo>
                  <a:lnTo>
                    <a:pt x="1060" y="1586"/>
                  </a:lnTo>
                  <a:lnTo>
                    <a:pt x="1082" y="1579"/>
                  </a:lnTo>
                  <a:lnTo>
                    <a:pt x="1096" y="1564"/>
                  </a:lnTo>
                  <a:lnTo>
                    <a:pt x="1110" y="1550"/>
                  </a:lnTo>
                  <a:lnTo>
                    <a:pt x="1124" y="1543"/>
                  </a:lnTo>
                  <a:lnTo>
                    <a:pt x="1139" y="1529"/>
                  </a:lnTo>
                  <a:lnTo>
                    <a:pt x="1153" y="1515"/>
                  </a:lnTo>
                  <a:lnTo>
                    <a:pt x="1174" y="1501"/>
                  </a:lnTo>
                  <a:lnTo>
                    <a:pt x="1188" y="1493"/>
                  </a:lnTo>
                  <a:lnTo>
                    <a:pt x="1203" y="1479"/>
                  </a:lnTo>
                  <a:lnTo>
                    <a:pt x="1217" y="1465"/>
                  </a:lnTo>
                  <a:lnTo>
                    <a:pt x="1231" y="1458"/>
                  </a:lnTo>
                  <a:lnTo>
                    <a:pt x="1245" y="1444"/>
                  </a:lnTo>
                  <a:lnTo>
                    <a:pt x="1267" y="1429"/>
                  </a:lnTo>
                  <a:lnTo>
                    <a:pt x="1281" y="1415"/>
                  </a:lnTo>
                  <a:lnTo>
                    <a:pt x="1295" y="1408"/>
                  </a:lnTo>
                  <a:lnTo>
                    <a:pt x="1309" y="1394"/>
                  </a:lnTo>
                  <a:lnTo>
                    <a:pt x="1323" y="1380"/>
                  </a:lnTo>
                  <a:lnTo>
                    <a:pt x="1338" y="1373"/>
                  </a:lnTo>
                  <a:lnTo>
                    <a:pt x="1359" y="1358"/>
                  </a:lnTo>
                  <a:lnTo>
                    <a:pt x="1373" y="1344"/>
                  </a:lnTo>
                  <a:lnTo>
                    <a:pt x="1388" y="1337"/>
                  </a:lnTo>
                  <a:lnTo>
                    <a:pt x="1402" y="1323"/>
                  </a:lnTo>
                  <a:lnTo>
                    <a:pt x="1416" y="1309"/>
                  </a:lnTo>
                  <a:lnTo>
                    <a:pt x="1430" y="1294"/>
                  </a:lnTo>
                  <a:lnTo>
                    <a:pt x="1452" y="1287"/>
                  </a:lnTo>
                  <a:lnTo>
                    <a:pt x="1466" y="1273"/>
                  </a:lnTo>
                  <a:lnTo>
                    <a:pt x="1480" y="1259"/>
                  </a:lnTo>
                  <a:lnTo>
                    <a:pt x="1494" y="1252"/>
                  </a:lnTo>
                  <a:lnTo>
                    <a:pt x="1508" y="1237"/>
                  </a:lnTo>
                  <a:lnTo>
                    <a:pt x="1523" y="1223"/>
                  </a:lnTo>
                  <a:lnTo>
                    <a:pt x="1544" y="1216"/>
                  </a:lnTo>
                  <a:lnTo>
                    <a:pt x="1558" y="1202"/>
                  </a:lnTo>
                  <a:lnTo>
                    <a:pt x="1572" y="1188"/>
                  </a:lnTo>
                  <a:lnTo>
                    <a:pt x="1587" y="1173"/>
                  </a:lnTo>
                  <a:lnTo>
                    <a:pt x="1601" y="1166"/>
                  </a:lnTo>
                  <a:lnTo>
                    <a:pt x="1615" y="1152"/>
                  </a:lnTo>
                  <a:lnTo>
                    <a:pt x="1629" y="1138"/>
                  </a:lnTo>
                  <a:lnTo>
                    <a:pt x="1651" y="1131"/>
                  </a:lnTo>
                  <a:lnTo>
                    <a:pt x="1665" y="1117"/>
                  </a:lnTo>
                  <a:lnTo>
                    <a:pt x="1679" y="1102"/>
                  </a:lnTo>
                  <a:lnTo>
                    <a:pt x="1693" y="1088"/>
                  </a:lnTo>
                  <a:lnTo>
                    <a:pt x="1708" y="1081"/>
                  </a:lnTo>
                  <a:lnTo>
                    <a:pt x="1722" y="1067"/>
                  </a:lnTo>
                  <a:lnTo>
                    <a:pt x="1743" y="1053"/>
                  </a:lnTo>
                  <a:lnTo>
                    <a:pt x="1757" y="1045"/>
                  </a:lnTo>
                  <a:lnTo>
                    <a:pt x="1772" y="1031"/>
                  </a:lnTo>
                  <a:lnTo>
                    <a:pt x="1786" y="1017"/>
                  </a:lnTo>
                  <a:lnTo>
                    <a:pt x="1800" y="1010"/>
                  </a:lnTo>
                  <a:lnTo>
                    <a:pt x="1814" y="996"/>
                  </a:lnTo>
                  <a:lnTo>
                    <a:pt x="1836" y="982"/>
                  </a:lnTo>
                  <a:lnTo>
                    <a:pt x="1850" y="967"/>
                  </a:lnTo>
                  <a:lnTo>
                    <a:pt x="1864" y="960"/>
                  </a:lnTo>
                  <a:lnTo>
                    <a:pt x="1878" y="946"/>
                  </a:lnTo>
                  <a:lnTo>
                    <a:pt x="1893" y="932"/>
                  </a:lnTo>
                  <a:lnTo>
                    <a:pt x="1907" y="925"/>
                  </a:lnTo>
                  <a:lnTo>
                    <a:pt x="1928" y="910"/>
                  </a:lnTo>
                  <a:lnTo>
                    <a:pt x="1942" y="896"/>
                  </a:lnTo>
                  <a:lnTo>
                    <a:pt x="1957" y="882"/>
                  </a:lnTo>
                  <a:lnTo>
                    <a:pt x="1971" y="875"/>
                  </a:lnTo>
                  <a:lnTo>
                    <a:pt x="1985" y="861"/>
                  </a:lnTo>
                  <a:lnTo>
                    <a:pt x="1999" y="846"/>
                  </a:lnTo>
                  <a:lnTo>
                    <a:pt x="2021" y="839"/>
                  </a:lnTo>
                  <a:lnTo>
                    <a:pt x="2035" y="825"/>
                  </a:lnTo>
                  <a:lnTo>
                    <a:pt x="2049" y="811"/>
                  </a:lnTo>
                  <a:lnTo>
                    <a:pt x="2063" y="804"/>
                  </a:lnTo>
                  <a:lnTo>
                    <a:pt x="2078" y="790"/>
                  </a:lnTo>
                  <a:lnTo>
                    <a:pt x="2092" y="775"/>
                  </a:lnTo>
                  <a:lnTo>
                    <a:pt x="2113" y="761"/>
                  </a:lnTo>
                  <a:lnTo>
                    <a:pt x="2127" y="754"/>
                  </a:lnTo>
                  <a:lnTo>
                    <a:pt x="2142" y="740"/>
                  </a:lnTo>
                  <a:lnTo>
                    <a:pt x="2156" y="726"/>
                  </a:lnTo>
                  <a:lnTo>
                    <a:pt x="2170" y="718"/>
                  </a:lnTo>
                  <a:lnTo>
                    <a:pt x="2184" y="704"/>
                  </a:lnTo>
                  <a:lnTo>
                    <a:pt x="2206" y="690"/>
                  </a:lnTo>
                  <a:lnTo>
                    <a:pt x="2220" y="676"/>
                  </a:lnTo>
                  <a:lnTo>
                    <a:pt x="2234" y="669"/>
                  </a:lnTo>
                  <a:lnTo>
                    <a:pt x="2248" y="654"/>
                  </a:lnTo>
                  <a:lnTo>
                    <a:pt x="2263" y="640"/>
                  </a:lnTo>
                  <a:lnTo>
                    <a:pt x="2277" y="633"/>
                  </a:lnTo>
                  <a:lnTo>
                    <a:pt x="2298" y="619"/>
                  </a:lnTo>
                  <a:lnTo>
                    <a:pt x="2312" y="605"/>
                  </a:lnTo>
                  <a:lnTo>
                    <a:pt x="2327" y="598"/>
                  </a:lnTo>
                  <a:lnTo>
                    <a:pt x="2341" y="583"/>
                  </a:lnTo>
                  <a:lnTo>
                    <a:pt x="2355" y="569"/>
                  </a:lnTo>
                  <a:lnTo>
                    <a:pt x="2369" y="555"/>
                  </a:lnTo>
                  <a:lnTo>
                    <a:pt x="2391" y="548"/>
                  </a:lnTo>
                  <a:lnTo>
                    <a:pt x="2405" y="534"/>
                  </a:lnTo>
                  <a:lnTo>
                    <a:pt x="2419" y="519"/>
                  </a:lnTo>
                  <a:lnTo>
                    <a:pt x="2433" y="512"/>
                  </a:lnTo>
                  <a:lnTo>
                    <a:pt x="2448" y="498"/>
                  </a:lnTo>
                  <a:lnTo>
                    <a:pt x="2462" y="484"/>
                  </a:lnTo>
                  <a:lnTo>
                    <a:pt x="2483" y="470"/>
                  </a:lnTo>
                  <a:lnTo>
                    <a:pt x="2497" y="463"/>
                  </a:lnTo>
                  <a:lnTo>
                    <a:pt x="2512" y="448"/>
                  </a:lnTo>
                  <a:lnTo>
                    <a:pt x="2526" y="434"/>
                  </a:lnTo>
                  <a:lnTo>
                    <a:pt x="2540" y="427"/>
                  </a:lnTo>
                  <a:lnTo>
                    <a:pt x="2554" y="413"/>
                  </a:lnTo>
                  <a:lnTo>
                    <a:pt x="2576" y="399"/>
                  </a:lnTo>
                  <a:lnTo>
                    <a:pt x="2590" y="391"/>
                  </a:lnTo>
                  <a:lnTo>
                    <a:pt x="2604" y="377"/>
                  </a:lnTo>
                  <a:lnTo>
                    <a:pt x="2618" y="363"/>
                  </a:lnTo>
                  <a:lnTo>
                    <a:pt x="2633" y="349"/>
                  </a:lnTo>
                  <a:lnTo>
                    <a:pt x="2647" y="342"/>
                  </a:lnTo>
                  <a:lnTo>
                    <a:pt x="2668" y="327"/>
                  </a:lnTo>
                  <a:lnTo>
                    <a:pt x="2682" y="313"/>
                  </a:lnTo>
                  <a:lnTo>
                    <a:pt x="2697" y="306"/>
                  </a:lnTo>
                  <a:lnTo>
                    <a:pt x="2711" y="292"/>
                  </a:lnTo>
                  <a:lnTo>
                    <a:pt x="2725" y="278"/>
                  </a:lnTo>
                  <a:lnTo>
                    <a:pt x="2739" y="271"/>
                  </a:lnTo>
                  <a:lnTo>
                    <a:pt x="2761" y="256"/>
                  </a:lnTo>
                  <a:lnTo>
                    <a:pt x="2775" y="242"/>
                  </a:lnTo>
                  <a:lnTo>
                    <a:pt x="2789" y="228"/>
                  </a:lnTo>
                  <a:lnTo>
                    <a:pt x="2803" y="221"/>
                  </a:lnTo>
                  <a:lnTo>
                    <a:pt x="2817" y="207"/>
                  </a:lnTo>
                  <a:lnTo>
                    <a:pt x="2832" y="192"/>
                  </a:lnTo>
                  <a:lnTo>
                    <a:pt x="2853" y="185"/>
                  </a:lnTo>
                  <a:lnTo>
                    <a:pt x="2867" y="171"/>
                  </a:lnTo>
                  <a:lnTo>
                    <a:pt x="2882" y="157"/>
                  </a:lnTo>
                  <a:lnTo>
                    <a:pt x="2896" y="143"/>
                  </a:lnTo>
                  <a:lnTo>
                    <a:pt x="2910" y="135"/>
                  </a:lnTo>
                  <a:lnTo>
                    <a:pt x="2924" y="121"/>
                  </a:lnTo>
                  <a:lnTo>
                    <a:pt x="2946" y="107"/>
                  </a:lnTo>
                  <a:lnTo>
                    <a:pt x="2960" y="100"/>
                  </a:lnTo>
                  <a:lnTo>
                    <a:pt x="2974" y="86"/>
                  </a:lnTo>
                  <a:lnTo>
                    <a:pt x="2988" y="71"/>
                  </a:lnTo>
                  <a:lnTo>
                    <a:pt x="3002" y="64"/>
                  </a:lnTo>
                  <a:lnTo>
                    <a:pt x="3017" y="50"/>
                  </a:lnTo>
                  <a:lnTo>
                    <a:pt x="3038" y="36"/>
                  </a:lnTo>
                  <a:lnTo>
                    <a:pt x="3052" y="22"/>
                  </a:lnTo>
                  <a:lnTo>
                    <a:pt x="3066" y="15"/>
                  </a:lnTo>
                  <a:lnTo>
                    <a:pt x="3081" y="0"/>
                  </a:lnTo>
                </a:path>
              </a:pathLst>
            </a:custGeom>
            <a:noFill/>
            <a:ln cap="rnd" w="255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457440" y="3809520"/>
              <a:ext cx="0" cy="25052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60440" y="5367240"/>
              <a:ext cx="119700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02760" y="63403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97640" y="634032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2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27960" y="634032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4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91680" y="634032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6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5680" y="634032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8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78240" y="634032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94320" y="5743440"/>
              <a:ext cx="448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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6040" y="535140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2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89680" y="458964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4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38640" y="382752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6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78600" y="306540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8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6400" y="230364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51080" y="2208240"/>
              <a:ext cx="39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867920" y="3962520"/>
              <a:ext cx="701640" cy="843840"/>
              <a:chOff x="4867920" y="3962520"/>
              <a:chExt cx="701640" cy="843840"/>
            </a:xfrm>
          </p:grpSpPr>
          <p:sp>
            <p:nvSpPr>
              <p:cNvPr id="191" name=""/>
              <p:cNvSpPr/>
              <p:nvPr/>
            </p:nvSpPr>
            <p:spPr>
              <a:xfrm>
                <a:off x="4867920" y="4348080"/>
                <a:ext cx="701640" cy="458280"/>
              </a:xfrm>
              <a:prstGeom prst="rect">
                <a:avLst/>
              </a:prstGeom>
              <a:noFill/>
              <a:ln w="1260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=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5334120" y="3962520"/>
                <a:ext cx="0" cy="380880"/>
              </a:xfrm>
              <a:prstGeom prst="line">
                <a:avLst/>
              </a:prstGeom>
              <a:ln w="12600">
                <a:solidFill>
                  <a:srgbClr val="00ccc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ED30-8D74-46F5-AA0B-F7273702262C}" type="slidenum">
              <a:t>10</a:t>
            </a:fld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a transformacija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N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zadane granične frekvencije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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arametar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se nalazi prema slijedećem izrazu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419720"/>
            <a:ext cx="8381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e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s graničnom frekvencijom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nalazi se na osnovu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r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granične frekvencije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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, tako da se svak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u izrazu  z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zamjeni sa    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z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/(1-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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gdje je parametar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nađen prema gornjoj formul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5440" y="2637000"/>
          <a:ext cx="7472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2637000"/>
                    <a:ext cx="7472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753B-3588-4A29-A45B-45AA19A9667C}" type="slidenum">
              <a:t>11</a:t>
            </a:fld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a transformacija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V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V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er željene granične frekvencije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536920" y="2381400"/>
                <a:ext cx="2668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611280" y="32004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dje je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2760" y="3527280"/>
                <a:ext cx="340200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B024-FD4B-475F-9593-2812CE23BE17}" type="slidenum">
              <a:t>12</a:t>
            </a:fld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a transformacija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P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P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er željenih graničnih frekvencij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658880" y="2224080"/>
                <a:ext cx="50259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α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α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611280" y="36576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dje su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725560" y="4060800"/>
                <a:ext cx="336096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863720" y="6000840"/>
                <a:ext cx="47498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835680" y="5303880"/>
                <a:ext cx="16844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1683-CB75-49DA-A2D2-6933A78E0980}" type="slidenum">
              <a:t>13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a transformacija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PB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filter tipa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PB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željenih gran. frekvencij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801800" y="2224080"/>
                <a:ext cx="47293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611280" y="36576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dje su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725560" y="4060800"/>
                <a:ext cx="336096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57240" y="6000840"/>
                <a:ext cx="4773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835680" y="5303880"/>
                <a:ext cx="16844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8AC5-A7E0-45BE-905A-69AC2CA6180A}" type="slidenum">
              <a:t>14</a:t>
            </a:fld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71600" y="1752480"/>
            <a:ext cx="670572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Frekvencijske transformacije u </a:t>
            </a:r>
            <a:br>
              <a:rPr sz="3200"/>
            </a:b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z-dome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920" y="320004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rimjer transformacije NP</a:t>
            </a: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V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7EF2-5356-4C94-A1DF-60F63B3645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transformacije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V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6765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renimo od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ra Chebyshev-ljeve aproksimacije tip I sa slijedećim specifikacija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30280" y="2633760"/>
                <a:ext cx="62452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9125</m:t>
                          </m:r>
                          <m:r>
                            <m:t xml:space="preserve">≤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P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jQ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za 0</m:t>
                          </m:r>
                          <m:r>
                            <m:t xml:space="preserve">≤</m:t>
                          </m:r>
                          <m:r>
                            <m:t xml:space="preserve">Q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P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jQ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7783</m:t>
                          </m:r>
                        </m:e>
                        <m:e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za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p</m:t>
                          </m:r>
                          <m:r>
                            <m:t xml:space="preserve">≤</m:t>
                          </m:r>
                          <m:r>
                            <m:t xml:space="preserve">Q</m:t>
                          </m:r>
                          <m:r>
                            <m:t xml:space="preserve">≤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1031760" y="3809520"/>
            <a:ext cx="5796720" cy="3096000"/>
            <a:chOff x="1031760" y="3809520"/>
            <a:chExt cx="5796720" cy="3096000"/>
          </a:xfrm>
        </p:grpSpPr>
        <p:sp>
          <p:nvSpPr>
            <p:cNvPr id="223" name=""/>
            <p:cNvSpPr/>
            <p:nvPr/>
          </p:nvSpPr>
          <p:spPr>
            <a:xfrm>
              <a:off x="2898720" y="4100400"/>
              <a:ext cx="649440" cy="260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92600" y="4581360"/>
              <a:ext cx="655560" cy="27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81400" y="6337440"/>
              <a:ext cx="5475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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73080" y="6337440"/>
              <a:ext cx="5371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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887560" y="3975120"/>
              <a:ext cx="0" cy="2395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87560" y="637056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7560" y="617220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87560" y="457200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87560" y="437508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87560" y="637056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887560" y="3975120"/>
              <a:ext cx="0" cy="2395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75440" y="637056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87560" y="637056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887560" y="3975120"/>
              <a:ext cx="0" cy="2395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87560" y="637056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887560" y="634320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87560" y="397512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56520" y="63644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548160" y="634320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48160" y="397512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202280" y="634320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4862520" y="634320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514840" y="634320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175440" y="634320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04800" y="629136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87560" y="637056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145200" y="637056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87560" y="59706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87560" y="556884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87560" y="51768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87560" y="477684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87560" y="437508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145200" y="437508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48800" y="61959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85000" y="579600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85000" y="539604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85000" y="500220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85000" y="460224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21800" y="4200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87560" y="6370560"/>
              <a:ext cx="3792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887560" y="3809520"/>
              <a:ext cx="0" cy="2560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7560" y="637056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90880" y="5859360"/>
              <a:ext cx="2268720" cy="29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548160" y="3971880"/>
              <a:ext cx="0" cy="2395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890880" y="3966840"/>
              <a:ext cx="0" cy="23972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79920" y="6386400"/>
              <a:ext cx="448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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1031760" y="3951360"/>
                  <a:ext cx="142560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P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Q</m:t>
                                  </m:r>
                                </m:sup>
                              </m:sSup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5041800" y="4713120"/>
                  <a:ext cx="1451160" cy="73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C1EC-7D59-40B8-970F-4515DD971E50}" type="slidenum">
              <a:t>16</a:t>
            </a:fld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transformacije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V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kacija je zadovoljena filtrom četvrtog reda s prijenosnom funkcijo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Z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finiranom ka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41360" y="2660760"/>
                <a:ext cx="6770880" cy="18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836</m:t>
                        </m:r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4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93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96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8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47242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ransformirajmo ovaj filter u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V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er granične frekvencije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0.6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739880" y="5734080"/>
                <a:ext cx="55562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19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396D-BEB8-4FC6-88DA-FA586971CA65}" type="slidenum">
              <a:t>17</a:t>
            </a:fld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transformacije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V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obivamo na osnov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Z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lijedećom supstitucijom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46200" y="2470320"/>
                <a:ext cx="40816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19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197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611280" y="33526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z čega slijedi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79400" y="3989520"/>
                <a:ext cx="6073920" cy="18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26</m:t>
                        </m:r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16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19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61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47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A6C2-370E-4F87-BE30-B07151CB4F67}" type="slidenum">
              <a:t>18</a:t>
            </a:fld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transformacije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V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.-frekv. karakteristik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e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hr-HR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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e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hr-HR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33360" y="2285640"/>
            <a:ext cx="8678880" cy="4528440"/>
            <a:chOff x="333360" y="2285640"/>
            <a:chExt cx="8678880" cy="4528440"/>
          </a:xfrm>
        </p:grpSpPr>
        <p:sp>
          <p:nvSpPr>
            <p:cNvPr id="284" name=""/>
            <p:cNvSpPr/>
            <p:nvPr/>
          </p:nvSpPr>
          <p:spPr>
            <a:xfrm flipV="1">
              <a:off x="2384280" y="2624040"/>
              <a:ext cx="0" cy="3710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330720" y="2624040"/>
              <a:ext cx="0" cy="37101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267080" y="2624040"/>
              <a:ext cx="0" cy="37101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214960" y="2624040"/>
              <a:ext cx="0" cy="37101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149880" y="2624040"/>
              <a:ext cx="0" cy="37101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097760" y="2624040"/>
              <a:ext cx="0" cy="3710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84280" y="6334200"/>
              <a:ext cx="4034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384280" y="3363840"/>
              <a:ext cx="4702320" cy="2230560"/>
              <a:chOff x="2384280" y="3363840"/>
              <a:chExt cx="4702320" cy="2230560"/>
            </a:xfrm>
          </p:grpSpPr>
          <p:sp>
            <p:nvSpPr>
              <p:cNvPr id="292" name=""/>
              <p:cNvSpPr/>
              <p:nvPr/>
            </p:nvSpPr>
            <p:spPr>
              <a:xfrm>
                <a:off x="2384280" y="5594400"/>
                <a:ext cx="47023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384280" y="4854600"/>
                <a:ext cx="47023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84280" y="4103640"/>
                <a:ext cx="47023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384280" y="3363840"/>
                <a:ext cx="47023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384280" y="2624040"/>
              <a:ext cx="4034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84280" y="2624040"/>
              <a:ext cx="4714920" cy="3711600"/>
            </a:xfrm>
            <a:custGeom>
              <a:avLst/>
              <a:gdLst/>
              <a:ahLst/>
              <a:rect l="l" t="t" r="r" b="b"/>
              <a:pathLst>
                <a:path w="2970" h="2338">
                  <a:moveTo>
                    <a:pt x="0" y="2337"/>
                  </a:moveTo>
                  <a:lnTo>
                    <a:pt x="0" y="0"/>
                  </a:lnTo>
                  <a:lnTo>
                    <a:pt x="296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2624040"/>
              <a:ext cx="4714920" cy="3711600"/>
            </a:xfrm>
            <a:custGeom>
              <a:avLst/>
              <a:gdLst/>
              <a:ahLst/>
              <a:rect l="l" t="t" r="r" b="b"/>
              <a:pathLst>
                <a:path w="2970" h="2338">
                  <a:moveTo>
                    <a:pt x="0" y="2337"/>
                  </a:moveTo>
                  <a:lnTo>
                    <a:pt x="0" y="0"/>
                  </a:lnTo>
                  <a:lnTo>
                    <a:pt x="296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84280" y="2624040"/>
              <a:ext cx="4714920" cy="3711600"/>
            </a:xfrm>
            <a:custGeom>
              <a:avLst/>
              <a:gdLst/>
              <a:ahLst/>
              <a:rect l="l" t="t" r="r" b="b"/>
              <a:pathLst>
                <a:path w="2970" h="2338">
                  <a:moveTo>
                    <a:pt x="0" y="2337"/>
                  </a:moveTo>
                  <a:lnTo>
                    <a:pt x="0" y="0"/>
                  </a:lnTo>
                  <a:lnTo>
                    <a:pt x="296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84280" y="6334200"/>
              <a:ext cx="4034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84280" y="2624040"/>
              <a:ext cx="4034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384280" y="2624040"/>
              <a:ext cx="0" cy="3710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097760" y="2624040"/>
              <a:ext cx="0" cy="3710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84280" y="262404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97760" y="633420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84280" y="6334200"/>
              <a:ext cx="4034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384280" y="2624040"/>
              <a:ext cx="0" cy="3710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84280" y="633420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384280" y="629100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84280" y="2624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330720" y="629100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30720" y="2624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267080" y="629100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67080" y="2624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214960" y="629100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4960" y="2624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149880" y="629100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49880" y="2624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097760" y="629100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97760" y="2624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84280" y="633420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053120" y="63342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84280" y="59641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053120" y="59641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4280" y="559440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053120" y="55944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84280" y="52243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053120" y="52243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84280" y="485460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053120" y="48546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84280" y="44845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053120" y="44845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84280" y="410364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053120" y="41036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84280" y="37339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053120" y="37339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84280" y="336384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053120" y="33638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84280" y="29941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053120" y="29941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84280" y="262404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053120" y="26240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4280" y="6334200"/>
              <a:ext cx="5388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4280" y="2624040"/>
              <a:ext cx="4034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384280" y="2285640"/>
              <a:ext cx="0" cy="4048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097760" y="2624040"/>
              <a:ext cx="0" cy="3710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4280" y="633420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97760" y="262404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4280" y="2624040"/>
              <a:ext cx="4714920" cy="3711600"/>
            </a:xfrm>
            <a:custGeom>
              <a:avLst/>
              <a:gdLst/>
              <a:ahLst/>
              <a:rect l="l" t="t" r="r" b="b"/>
              <a:pathLst>
                <a:path w="2970" h="2338">
                  <a:moveTo>
                    <a:pt x="0" y="2337"/>
                  </a:moveTo>
                  <a:lnTo>
                    <a:pt x="7" y="2337"/>
                  </a:lnTo>
                  <a:lnTo>
                    <a:pt x="13" y="2337"/>
                  </a:lnTo>
                  <a:lnTo>
                    <a:pt x="20" y="2337"/>
                  </a:lnTo>
                  <a:lnTo>
                    <a:pt x="27" y="2337"/>
                  </a:lnTo>
                  <a:lnTo>
                    <a:pt x="34" y="2337"/>
                  </a:lnTo>
                  <a:lnTo>
                    <a:pt x="41" y="2337"/>
                  </a:lnTo>
                  <a:lnTo>
                    <a:pt x="48" y="2337"/>
                  </a:lnTo>
                  <a:lnTo>
                    <a:pt x="55" y="2337"/>
                  </a:lnTo>
                  <a:lnTo>
                    <a:pt x="61" y="2337"/>
                  </a:lnTo>
                  <a:lnTo>
                    <a:pt x="68" y="2337"/>
                  </a:lnTo>
                  <a:lnTo>
                    <a:pt x="75" y="2337"/>
                  </a:lnTo>
                  <a:lnTo>
                    <a:pt x="82" y="2337"/>
                  </a:lnTo>
                  <a:lnTo>
                    <a:pt x="89" y="2337"/>
                  </a:lnTo>
                  <a:lnTo>
                    <a:pt x="96" y="2337"/>
                  </a:lnTo>
                  <a:lnTo>
                    <a:pt x="103" y="2337"/>
                  </a:lnTo>
                  <a:lnTo>
                    <a:pt x="109" y="2337"/>
                  </a:lnTo>
                  <a:lnTo>
                    <a:pt x="116" y="2337"/>
                  </a:lnTo>
                  <a:lnTo>
                    <a:pt x="123" y="2337"/>
                  </a:lnTo>
                  <a:lnTo>
                    <a:pt x="130" y="2337"/>
                  </a:lnTo>
                  <a:lnTo>
                    <a:pt x="137" y="2337"/>
                  </a:lnTo>
                  <a:lnTo>
                    <a:pt x="144" y="2337"/>
                  </a:lnTo>
                  <a:lnTo>
                    <a:pt x="151" y="2337"/>
                  </a:lnTo>
                  <a:lnTo>
                    <a:pt x="157" y="2337"/>
                  </a:lnTo>
                  <a:lnTo>
                    <a:pt x="164" y="2337"/>
                  </a:lnTo>
                  <a:lnTo>
                    <a:pt x="171" y="2337"/>
                  </a:lnTo>
                  <a:lnTo>
                    <a:pt x="178" y="2337"/>
                  </a:lnTo>
                  <a:lnTo>
                    <a:pt x="185" y="2337"/>
                  </a:lnTo>
                  <a:lnTo>
                    <a:pt x="192" y="2337"/>
                  </a:lnTo>
                  <a:lnTo>
                    <a:pt x="199" y="2337"/>
                  </a:lnTo>
                  <a:lnTo>
                    <a:pt x="205" y="2337"/>
                  </a:lnTo>
                  <a:lnTo>
                    <a:pt x="212" y="2337"/>
                  </a:lnTo>
                  <a:lnTo>
                    <a:pt x="219" y="2337"/>
                  </a:lnTo>
                  <a:lnTo>
                    <a:pt x="226" y="2337"/>
                  </a:lnTo>
                  <a:lnTo>
                    <a:pt x="233" y="2337"/>
                  </a:lnTo>
                  <a:lnTo>
                    <a:pt x="240" y="2337"/>
                  </a:lnTo>
                  <a:lnTo>
                    <a:pt x="247" y="2337"/>
                  </a:lnTo>
                  <a:lnTo>
                    <a:pt x="253" y="2337"/>
                  </a:lnTo>
                  <a:lnTo>
                    <a:pt x="260" y="2337"/>
                  </a:lnTo>
                  <a:lnTo>
                    <a:pt x="267" y="2337"/>
                  </a:lnTo>
                  <a:lnTo>
                    <a:pt x="274" y="2337"/>
                  </a:lnTo>
                  <a:lnTo>
                    <a:pt x="281" y="2337"/>
                  </a:lnTo>
                  <a:lnTo>
                    <a:pt x="288" y="2337"/>
                  </a:lnTo>
                  <a:lnTo>
                    <a:pt x="295" y="2337"/>
                  </a:lnTo>
                  <a:lnTo>
                    <a:pt x="301" y="2337"/>
                  </a:lnTo>
                  <a:lnTo>
                    <a:pt x="308" y="2337"/>
                  </a:lnTo>
                  <a:lnTo>
                    <a:pt x="315" y="2337"/>
                  </a:lnTo>
                  <a:lnTo>
                    <a:pt x="322" y="2337"/>
                  </a:lnTo>
                  <a:lnTo>
                    <a:pt x="329" y="2337"/>
                  </a:lnTo>
                  <a:lnTo>
                    <a:pt x="336" y="2337"/>
                  </a:lnTo>
                  <a:lnTo>
                    <a:pt x="343" y="2337"/>
                  </a:lnTo>
                  <a:lnTo>
                    <a:pt x="349" y="2337"/>
                  </a:lnTo>
                  <a:lnTo>
                    <a:pt x="356" y="2337"/>
                  </a:lnTo>
                  <a:lnTo>
                    <a:pt x="363" y="2337"/>
                  </a:lnTo>
                  <a:lnTo>
                    <a:pt x="370" y="2337"/>
                  </a:lnTo>
                  <a:lnTo>
                    <a:pt x="377" y="2337"/>
                  </a:lnTo>
                  <a:lnTo>
                    <a:pt x="384" y="2337"/>
                  </a:lnTo>
                  <a:lnTo>
                    <a:pt x="391" y="2337"/>
                  </a:lnTo>
                  <a:lnTo>
                    <a:pt x="397" y="2337"/>
                  </a:lnTo>
                  <a:lnTo>
                    <a:pt x="404" y="2337"/>
                  </a:lnTo>
                  <a:lnTo>
                    <a:pt x="411" y="2337"/>
                  </a:lnTo>
                  <a:lnTo>
                    <a:pt x="418" y="2337"/>
                  </a:lnTo>
                  <a:lnTo>
                    <a:pt x="425" y="2337"/>
                  </a:lnTo>
                  <a:lnTo>
                    <a:pt x="432" y="2337"/>
                  </a:lnTo>
                  <a:lnTo>
                    <a:pt x="439" y="2337"/>
                  </a:lnTo>
                  <a:lnTo>
                    <a:pt x="445" y="2337"/>
                  </a:lnTo>
                  <a:lnTo>
                    <a:pt x="452" y="2337"/>
                  </a:lnTo>
                  <a:lnTo>
                    <a:pt x="459" y="2337"/>
                  </a:lnTo>
                  <a:lnTo>
                    <a:pt x="466" y="2337"/>
                  </a:lnTo>
                  <a:lnTo>
                    <a:pt x="473" y="2337"/>
                  </a:lnTo>
                  <a:lnTo>
                    <a:pt x="480" y="2337"/>
                  </a:lnTo>
                  <a:lnTo>
                    <a:pt x="487" y="2337"/>
                  </a:lnTo>
                  <a:lnTo>
                    <a:pt x="493" y="2337"/>
                  </a:lnTo>
                  <a:lnTo>
                    <a:pt x="500" y="2337"/>
                  </a:lnTo>
                  <a:lnTo>
                    <a:pt x="507" y="2337"/>
                  </a:lnTo>
                  <a:lnTo>
                    <a:pt x="514" y="2337"/>
                  </a:lnTo>
                  <a:lnTo>
                    <a:pt x="521" y="2337"/>
                  </a:lnTo>
                  <a:lnTo>
                    <a:pt x="528" y="2337"/>
                  </a:lnTo>
                  <a:lnTo>
                    <a:pt x="535" y="2337"/>
                  </a:lnTo>
                  <a:lnTo>
                    <a:pt x="541" y="2337"/>
                  </a:lnTo>
                  <a:lnTo>
                    <a:pt x="548" y="2337"/>
                  </a:lnTo>
                  <a:lnTo>
                    <a:pt x="555" y="2337"/>
                  </a:lnTo>
                  <a:lnTo>
                    <a:pt x="562" y="2337"/>
                  </a:lnTo>
                  <a:lnTo>
                    <a:pt x="569" y="2337"/>
                  </a:lnTo>
                  <a:lnTo>
                    <a:pt x="576" y="2337"/>
                  </a:lnTo>
                  <a:lnTo>
                    <a:pt x="583" y="2337"/>
                  </a:lnTo>
                  <a:lnTo>
                    <a:pt x="589" y="2337"/>
                  </a:lnTo>
                  <a:lnTo>
                    <a:pt x="596" y="2337"/>
                  </a:lnTo>
                  <a:lnTo>
                    <a:pt x="603" y="2337"/>
                  </a:lnTo>
                  <a:lnTo>
                    <a:pt x="610" y="2337"/>
                  </a:lnTo>
                  <a:lnTo>
                    <a:pt x="617" y="2337"/>
                  </a:lnTo>
                  <a:lnTo>
                    <a:pt x="624" y="2337"/>
                  </a:lnTo>
                  <a:lnTo>
                    <a:pt x="631" y="2337"/>
                  </a:lnTo>
                  <a:lnTo>
                    <a:pt x="637" y="2337"/>
                  </a:lnTo>
                  <a:lnTo>
                    <a:pt x="644" y="2337"/>
                  </a:lnTo>
                  <a:lnTo>
                    <a:pt x="651" y="2337"/>
                  </a:lnTo>
                  <a:lnTo>
                    <a:pt x="658" y="2337"/>
                  </a:lnTo>
                  <a:lnTo>
                    <a:pt x="665" y="2337"/>
                  </a:lnTo>
                  <a:lnTo>
                    <a:pt x="672" y="2337"/>
                  </a:lnTo>
                  <a:lnTo>
                    <a:pt x="679" y="2337"/>
                  </a:lnTo>
                  <a:lnTo>
                    <a:pt x="679" y="2330"/>
                  </a:lnTo>
                  <a:lnTo>
                    <a:pt x="685" y="2330"/>
                  </a:lnTo>
                  <a:lnTo>
                    <a:pt x="692" y="2330"/>
                  </a:lnTo>
                  <a:lnTo>
                    <a:pt x="699" y="2330"/>
                  </a:lnTo>
                  <a:lnTo>
                    <a:pt x="706" y="2330"/>
                  </a:lnTo>
                  <a:lnTo>
                    <a:pt x="713" y="2330"/>
                  </a:lnTo>
                  <a:lnTo>
                    <a:pt x="720" y="2330"/>
                  </a:lnTo>
                  <a:lnTo>
                    <a:pt x="727" y="2330"/>
                  </a:lnTo>
                  <a:lnTo>
                    <a:pt x="733" y="2330"/>
                  </a:lnTo>
                  <a:lnTo>
                    <a:pt x="740" y="2330"/>
                  </a:lnTo>
                  <a:lnTo>
                    <a:pt x="747" y="2330"/>
                  </a:lnTo>
                  <a:lnTo>
                    <a:pt x="754" y="2330"/>
                  </a:lnTo>
                  <a:lnTo>
                    <a:pt x="761" y="2330"/>
                  </a:lnTo>
                  <a:lnTo>
                    <a:pt x="768" y="2330"/>
                  </a:lnTo>
                  <a:lnTo>
                    <a:pt x="775" y="2330"/>
                  </a:lnTo>
                  <a:lnTo>
                    <a:pt x="781" y="2330"/>
                  </a:lnTo>
                  <a:lnTo>
                    <a:pt x="788" y="2330"/>
                  </a:lnTo>
                  <a:lnTo>
                    <a:pt x="795" y="2330"/>
                  </a:lnTo>
                  <a:lnTo>
                    <a:pt x="802" y="2330"/>
                  </a:lnTo>
                  <a:lnTo>
                    <a:pt x="809" y="2330"/>
                  </a:lnTo>
                  <a:lnTo>
                    <a:pt x="816" y="2330"/>
                  </a:lnTo>
                  <a:lnTo>
                    <a:pt x="823" y="2330"/>
                  </a:lnTo>
                  <a:lnTo>
                    <a:pt x="829" y="2330"/>
                  </a:lnTo>
                  <a:lnTo>
                    <a:pt x="836" y="2330"/>
                  </a:lnTo>
                  <a:lnTo>
                    <a:pt x="843" y="2330"/>
                  </a:lnTo>
                  <a:lnTo>
                    <a:pt x="850" y="2330"/>
                  </a:lnTo>
                  <a:lnTo>
                    <a:pt x="857" y="2330"/>
                  </a:lnTo>
                  <a:lnTo>
                    <a:pt x="857" y="2323"/>
                  </a:lnTo>
                  <a:lnTo>
                    <a:pt x="864" y="2323"/>
                  </a:lnTo>
                  <a:lnTo>
                    <a:pt x="871" y="2323"/>
                  </a:lnTo>
                  <a:lnTo>
                    <a:pt x="877" y="2323"/>
                  </a:lnTo>
                  <a:lnTo>
                    <a:pt x="884" y="2323"/>
                  </a:lnTo>
                  <a:lnTo>
                    <a:pt x="891" y="2323"/>
                  </a:lnTo>
                  <a:lnTo>
                    <a:pt x="898" y="2323"/>
                  </a:lnTo>
                  <a:lnTo>
                    <a:pt x="905" y="2323"/>
                  </a:lnTo>
                  <a:lnTo>
                    <a:pt x="912" y="2323"/>
                  </a:lnTo>
                  <a:lnTo>
                    <a:pt x="919" y="2323"/>
                  </a:lnTo>
                  <a:lnTo>
                    <a:pt x="925" y="2323"/>
                  </a:lnTo>
                  <a:lnTo>
                    <a:pt x="932" y="2323"/>
                  </a:lnTo>
                  <a:lnTo>
                    <a:pt x="939" y="2323"/>
                  </a:lnTo>
                  <a:lnTo>
                    <a:pt x="946" y="2323"/>
                  </a:lnTo>
                  <a:lnTo>
                    <a:pt x="946" y="2317"/>
                  </a:lnTo>
                  <a:lnTo>
                    <a:pt x="953" y="2317"/>
                  </a:lnTo>
                  <a:lnTo>
                    <a:pt x="960" y="2317"/>
                  </a:lnTo>
                  <a:lnTo>
                    <a:pt x="967" y="2317"/>
                  </a:lnTo>
                  <a:lnTo>
                    <a:pt x="973" y="2317"/>
                  </a:lnTo>
                  <a:lnTo>
                    <a:pt x="980" y="2317"/>
                  </a:lnTo>
                  <a:lnTo>
                    <a:pt x="987" y="2317"/>
                  </a:lnTo>
                  <a:lnTo>
                    <a:pt x="994" y="2317"/>
                  </a:lnTo>
                  <a:lnTo>
                    <a:pt x="1001" y="2317"/>
                  </a:lnTo>
                  <a:lnTo>
                    <a:pt x="1008" y="2317"/>
                  </a:lnTo>
                  <a:lnTo>
                    <a:pt x="1008" y="2310"/>
                  </a:lnTo>
                  <a:lnTo>
                    <a:pt x="1015" y="2310"/>
                  </a:lnTo>
                  <a:lnTo>
                    <a:pt x="1021" y="2310"/>
                  </a:lnTo>
                  <a:lnTo>
                    <a:pt x="1028" y="2310"/>
                  </a:lnTo>
                  <a:lnTo>
                    <a:pt x="1035" y="2310"/>
                  </a:lnTo>
                  <a:lnTo>
                    <a:pt x="1042" y="2310"/>
                  </a:lnTo>
                  <a:lnTo>
                    <a:pt x="1049" y="2310"/>
                  </a:lnTo>
                  <a:lnTo>
                    <a:pt x="1056" y="2310"/>
                  </a:lnTo>
                  <a:lnTo>
                    <a:pt x="1056" y="2303"/>
                  </a:lnTo>
                  <a:lnTo>
                    <a:pt x="1063" y="2303"/>
                  </a:lnTo>
                  <a:lnTo>
                    <a:pt x="1069" y="2303"/>
                  </a:lnTo>
                  <a:lnTo>
                    <a:pt x="1076" y="2303"/>
                  </a:lnTo>
                  <a:lnTo>
                    <a:pt x="1083" y="2303"/>
                  </a:lnTo>
                  <a:lnTo>
                    <a:pt x="1090" y="2303"/>
                  </a:lnTo>
                  <a:lnTo>
                    <a:pt x="1097" y="2303"/>
                  </a:lnTo>
                  <a:lnTo>
                    <a:pt x="1097" y="2296"/>
                  </a:lnTo>
                  <a:lnTo>
                    <a:pt x="1104" y="2296"/>
                  </a:lnTo>
                  <a:lnTo>
                    <a:pt x="1111" y="2296"/>
                  </a:lnTo>
                  <a:lnTo>
                    <a:pt x="1117" y="2296"/>
                  </a:lnTo>
                  <a:lnTo>
                    <a:pt x="1124" y="2296"/>
                  </a:lnTo>
                  <a:lnTo>
                    <a:pt x="1124" y="2289"/>
                  </a:lnTo>
                  <a:lnTo>
                    <a:pt x="1131" y="2289"/>
                  </a:lnTo>
                  <a:lnTo>
                    <a:pt x="1138" y="2289"/>
                  </a:lnTo>
                  <a:lnTo>
                    <a:pt x="1145" y="2289"/>
                  </a:lnTo>
                  <a:lnTo>
                    <a:pt x="1152" y="2289"/>
                  </a:lnTo>
                  <a:lnTo>
                    <a:pt x="1159" y="2282"/>
                  </a:lnTo>
                  <a:lnTo>
                    <a:pt x="1165" y="2282"/>
                  </a:lnTo>
                  <a:lnTo>
                    <a:pt x="1172" y="2282"/>
                  </a:lnTo>
                  <a:lnTo>
                    <a:pt x="1179" y="2282"/>
                  </a:lnTo>
                  <a:lnTo>
                    <a:pt x="1179" y="2275"/>
                  </a:lnTo>
                  <a:lnTo>
                    <a:pt x="1186" y="2275"/>
                  </a:lnTo>
                  <a:lnTo>
                    <a:pt x="1193" y="2275"/>
                  </a:lnTo>
                  <a:lnTo>
                    <a:pt x="1200" y="2275"/>
                  </a:lnTo>
                  <a:lnTo>
                    <a:pt x="1200" y="2269"/>
                  </a:lnTo>
                  <a:lnTo>
                    <a:pt x="1207" y="2269"/>
                  </a:lnTo>
                  <a:lnTo>
                    <a:pt x="1213" y="2269"/>
                  </a:lnTo>
                  <a:lnTo>
                    <a:pt x="1220" y="2269"/>
                  </a:lnTo>
                  <a:lnTo>
                    <a:pt x="1220" y="2262"/>
                  </a:lnTo>
                  <a:lnTo>
                    <a:pt x="1227" y="2262"/>
                  </a:lnTo>
                  <a:lnTo>
                    <a:pt x="1234" y="2262"/>
                  </a:lnTo>
                  <a:lnTo>
                    <a:pt x="1234" y="2255"/>
                  </a:lnTo>
                  <a:lnTo>
                    <a:pt x="1241" y="2255"/>
                  </a:lnTo>
                  <a:lnTo>
                    <a:pt x="1248" y="2255"/>
                  </a:lnTo>
                  <a:lnTo>
                    <a:pt x="1255" y="2248"/>
                  </a:lnTo>
                  <a:lnTo>
                    <a:pt x="1261" y="2248"/>
                  </a:lnTo>
                  <a:lnTo>
                    <a:pt x="1268" y="2248"/>
                  </a:lnTo>
                  <a:lnTo>
                    <a:pt x="1268" y="2241"/>
                  </a:lnTo>
                  <a:lnTo>
                    <a:pt x="1275" y="2241"/>
                  </a:lnTo>
                  <a:lnTo>
                    <a:pt x="1282" y="2241"/>
                  </a:lnTo>
                  <a:lnTo>
                    <a:pt x="1282" y="2234"/>
                  </a:lnTo>
                  <a:lnTo>
                    <a:pt x="1289" y="2234"/>
                  </a:lnTo>
                  <a:lnTo>
                    <a:pt x="1296" y="2227"/>
                  </a:lnTo>
                  <a:lnTo>
                    <a:pt x="1303" y="2227"/>
                  </a:lnTo>
                  <a:lnTo>
                    <a:pt x="1303" y="2221"/>
                  </a:lnTo>
                  <a:lnTo>
                    <a:pt x="1309" y="2221"/>
                  </a:lnTo>
                  <a:lnTo>
                    <a:pt x="1316" y="2221"/>
                  </a:lnTo>
                  <a:lnTo>
                    <a:pt x="1316" y="2214"/>
                  </a:lnTo>
                  <a:lnTo>
                    <a:pt x="1323" y="2214"/>
                  </a:lnTo>
                  <a:lnTo>
                    <a:pt x="1323" y="2207"/>
                  </a:lnTo>
                  <a:lnTo>
                    <a:pt x="1330" y="2207"/>
                  </a:lnTo>
                  <a:lnTo>
                    <a:pt x="1337" y="2207"/>
                  </a:lnTo>
                  <a:lnTo>
                    <a:pt x="1337" y="2200"/>
                  </a:lnTo>
                  <a:lnTo>
                    <a:pt x="1344" y="2200"/>
                  </a:lnTo>
                  <a:lnTo>
                    <a:pt x="1344" y="2193"/>
                  </a:lnTo>
                  <a:lnTo>
                    <a:pt x="1351" y="2193"/>
                  </a:lnTo>
                  <a:lnTo>
                    <a:pt x="1351" y="2186"/>
                  </a:lnTo>
                  <a:lnTo>
                    <a:pt x="1357" y="2186"/>
                  </a:lnTo>
                  <a:lnTo>
                    <a:pt x="1364" y="2186"/>
                  </a:lnTo>
                  <a:lnTo>
                    <a:pt x="1364" y="2179"/>
                  </a:lnTo>
                  <a:lnTo>
                    <a:pt x="1371" y="2179"/>
                  </a:lnTo>
                  <a:lnTo>
                    <a:pt x="1371" y="2173"/>
                  </a:lnTo>
                  <a:lnTo>
                    <a:pt x="1378" y="2173"/>
                  </a:lnTo>
                  <a:lnTo>
                    <a:pt x="1378" y="2166"/>
                  </a:lnTo>
                  <a:lnTo>
                    <a:pt x="1385" y="2166"/>
                  </a:lnTo>
                  <a:lnTo>
                    <a:pt x="1385" y="2159"/>
                  </a:lnTo>
                  <a:lnTo>
                    <a:pt x="1392" y="2159"/>
                  </a:lnTo>
                  <a:lnTo>
                    <a:pt x="1392" y="2152"/>
                  </a:lnTo>
                  <a:lnTo>
                    <a:pt x="1399" y="2152"/>
                  </a:lnTo>
                  <a:lnTo>
                    <a:pt x="1399" y="2145"/>
                  </a:lnTo>
                  <a:lnTo>
                    <a:pt x="1405" y="2145"/>
                  </a:lnTo>
                  <a:lnTo>
                    <a:pt x="1405" y="2138"/>
                  </a:lnTo>
                  <a:lnTo>
                    <a:pt x="1412" y="2138"/>
                  </a:lnTo>
                  <a:lnTo>
                    <a:pt x="1412" y="2132"/>
                  </a:lnTo>
                  <a:lnTo>
                    <a:pt x="1419" y="2125"/>
                  </a:lnTo>
                  <a:lnTo>
                    <a:pt x="1419" y="2118"/>
                  </a:lnTo>
                  <a:lnTo>
                    <a:pt x="1426" y="2118"/>
                  </a:lnTo>
                  <a:lnTo>
                    <a:pt x="1426" y="2111"/>
                  </a:lnTo>
                  <a:lnTo>
                    <a:pt x="1433" y="2111"/>
                  </a:lnTo>
                  <a:lnTo>
                    <a:pt x="1433" y="2104"/>
                  </a:lnTo>
                  <a:lnTo>
                    <a:pt x="1440" y="2104"/>
                  </a:lnTo>
                  <a:lnTo>
                    <a:pt x="1440" y="2097"/>
                  </a:lnTo>
                  <a:lnTo>
                    <a:pt x="1440" y="2090"/>
                  </a:lnTo>
                  <a:lnTo>
                    <a:pt x="1447" y="2090"/>
                  </a:lnTo>
                  <a:lnTo>
                    <a:pt x="1447" y="2084"/>
                  </a:lnTo>
                  <a:lnTo>
                    <a:pt x="1453" y="2084"/>
                  </a:lnTo>
                  <a:lnTo>
                    <a:pt x="1453" y="2077"/>
                  </a:lnTo>
                  <a:lnTo>
                    <a:pt x="1453" y="2070"/>
                  </a:lnTo>
                  <a:lnTo>
                    <a:pt x="1460" y="2070"/>
                  </a:lnTo>
                  <a:lnTo>
                    <a:pt x="1460" y="2063"/>
                  </a:lnTo>
                  <a:lnTo>
                    <a:pt x="1467" y="2063"/>
                  </a:lnTo>
                  <a:lnTo>
                    <a:pt x="1467" y="2056"/>
                  </a:lnTo>
                  <a:lnTo>
                    <a:pt x="1467" y="2049"/>
                  </a:lnTo>
                  <a:lnTo>
                    <a:pt x="1474" y="2049"/>
                  </a:lnTo>
                  <a:lnTo>
                    <a:pt x="1474" y="2042"/>
                  </a:lnTo>
                  <a:lnTo>
                    <a:pt x="1474" y="2036"/>
                  </a:lnTo>
                  <a:lnTo>
                    <a:pt x="1481" y="2036"/>
                  </a:lnTo>
                  <a:lnTo>
                    <a:pt x="1481" y="2029"/>
                  </a:lnTo>
                  <a:lnTo>
                    <a:pt x="1488" y="2022"/>
                  </a:lnTo>
                  <a:lnTo>
                    <a:pt x="1488" y="2015"/>
                  </a:lnTo>
                  <a:lnTo>
                    <a:pt x="1495" y="2008"/>
                  </a:lnTo>
                  <a:lnTo>
                    <a:pt x="1495" y="2001"/>
                  </a:lnTo>
                  <a:lnTo>
                    <a:pt x="1501" y="1994"/>
                  </a:lnTo>
                  <a:lnTo>
                    <a:pt x="1501" y="1988"/>
                  </a:lnTo>
                  <a:lnTo>
                    <a:pt x="1501" y="1981"/>
                  </a:lnTo>
                  <a:lnTo>
                    <a:pt x="1508" y="1981"/>
                  </a:lnTo>
                  <a:lnTo>
                    <a:pt x="1508" y="1974"/>
                  </a:lnTo>
                  <a:lnTo>
                    <a:pt x="1508" y="1967"/>
                  </a:lnTo>
                  <a:lnTo>
                    <a:pt x="1515" y="1967"/>
                  </a:lnTo>
                  <a:lnTo>
                    <a:pt x="1515" y="1960"/>
                  </a:lnTo>
                  <a:lnTo>
                    <a:pt x="1515" y="1953"/>
                  </a:lnTo>
                  <a:lnTo>
                    <a:pt x="1522" y="1953"/>
                  </a:lnTo>
                  <a:lnTo>
                    <a:pt x="1522" y="1947"/>
                  </a:lnTo>
                  <a:lnTo>
                    <a:pt x="1522" y="1940"/>
                  </a:lnTo>
                  <a:lnTo>
                    <a:pt x="1522" y="1933"/>
                  </a:lnTo>
                  <a:lnTo>
                    <a:pt x="1529" y="1933"/>
                  </a:lnTo>
                  <a:lnTo>
                    <a:pt x="1529" y="1926"/>
                  </a:lnTo>
                  <a:lnTo>
                    <a:pt x="1529" y="1919"/>
                  </a:lnTo>
                  <a:lnTo>
                    <a:pt x="1536" y="1912"/>
                  </a:lnTo>
                  <a:lnTo>
                    <a:pt x="1536" y="1905"/>
                  </a:lnTo>
                  <a:lnTo>
                    <a:pt x="1536" y="1899"/>
                  </a:lnTo>
                  <a:lnTo>
                    <a:pt x="1543" y="1899"/>
                  </a:lnTo>
                  <a:lnTo>
                    <a:pt x="1543" y="1892"/>
                  </a:lnTo>
                  <a:lnTo>
                    <a:pt x="1543" y="1885"/>
                  </a:lnTo>
                  <a:lnTo>
                    <a:pt x="1543" y="1878"/>
                  </a:lnTo>
                  <a:lnTo>
                    <a:pt x="1549" y="1878"/>
                  </a:lnTo>
                  <a:lnTo>
                    <a:pt x="1549" y="1871"/>
                  </a:lnTo>
                  <a:lnTo>
                    <a:pt x="1549" y="1864"/>
                  </a:lnTo>
                  <a:lnTo>
                    <a:pt x="1549" y="1857"/>
                  </a:lnTo>
                  <a:lnTo>
                    <a:pt x="1556" y="1857"/>
                  </a:lnTo>
                  <a:lnTo>
                    <a:pt x="1556" y="1851"/>
                  </a:lnTo>
                  <a:lnTo>
                    <a:pt x="1556" y="1844"/>
                  </a:lnTo>
                  <a:lnTo>
                    <a:pt x="1556" y="1837"/>
                  </a:lnTo>
                  <a:lnTo>
                    <a:pt x="1563" y="1830"/>
                  </a:lnTo>
                  <a:lnTo>
                    <a:pt x="1563" y="1823"/>
                  </a:lnTo>
                  <a:lnTo>
                    <a:pt x="1563" y="1816"/>
                  </a:lnTo>
                  <a:lnTo>
                    <a:pt x="1570" y="1809"/>
                  </a:lnTo>
                  <a:lnTo>
                    <a:pt x="1570" y="1803"/>
                  </a:lnTo>
                  <a:lnTo>
                    <a:pt x="1570" y="1796"/>
                  </a:lnTo>
                  <a:lnTo>
                    <a:pt x="1570" y="1789"/>
                  </a:lnTo>
                  <a:lnTo>
                    <a:pt x="1577" y="1782"/>
                  </a:lnTo>
                  <a:lnTo>
                    <a:pt x="1577" y="1775"/>
                  </a:lnTo>
                  <a:lnTo>
                    <a:pt x="1577" y="1768"/>
                  </a:lnTo>
                  <a:lnTo>
                    <a:pt x="1577" y="1761"/>
                  </a:lnTo>
                  <a:lnTo>
                    <a:pt x="1584" y="1761"/>
                  </a:lnTo>
                  <a:lnTo>
                    <a:pt x="1584" y="1755"/>
                  </a:lnTo>
                  <a:lnTo>
                    <a:pt x="1584" y="1748"/>
                  </a:lnTo>
                  <a:lnTo>
                    <a:pt x="1584" y="1741"/>
                  </a:lnTo>
                  <a:lnTo>
                    <a:pt x="1591" y="1734"/>
                  </a:lnTo>
                  <a:lnTo>
                    <a:pt x="1591" y="1727"/>
                  </a:lnTo>
                  <a:lnTo>
                    <a:pt x="1591" y="1720"/>
                  </a:lnTo>
                  <a:lnTo>
                    <a:pt x="1591" y="1714"/>
                  </a:lnTo>
                  <a:lnTo>
                    <a:pt x="1597" y="1707"/>
                  </a:lnTo>
                  <a:lnTo>
                    <a:pt x="1597" y="1700"/>
                  </a:lnTo>
                  <a:lnTo>
                    <a:pt x="1597" y="1693"/>
                  </a:lnTo>
                  <a:lnTo>
                    <a:pt x="1597" y="1686"/>
                  </a:lnTo>
                  <a:lnTo>
                    <a:pt x="1597" y="1679"/>
                  </a:lnTo>
                  <a:lnTo>
                    <a:pt x="1604" y="1672"/>
                  </a:lnTo>
                  <a:lnTo>
                    <a:pt x="1604" y="1666"/>
                  </a:lnTo>
                  <a:lnTo>
                    <a:pt x="1604" y="1659"/>
                  </a:lnTo>
                  <a:lnTo>
                    <a:pt x="1604" y="1652"/>
                  </a:lnTo>
                  <a:lnTo>
                    <a:pt x="1604" y="1645"/>
                  </a:lnTo>
                  <a:lnTo>
                    <a:pt x="1611" y="1638"/>
                  </a:lnTo>
                  <a:lnTo>
                    <a:pt x="1611" y="1631"/>
                  </a:lnTo>
                  <a:lnTo>
                    <a:pt x="1611" y="1624"/>
                  </a:lnTo>
                  <a:lnTo>
                    <a:pt x="1611" y="1618"/>
                  </a:lnTo>
                  <a:lnTo>
                    <a:pt x="1618" y="1611"/>
                  </a:lnTo>
                  <a:lnTo>
                    <a:pt x="1618" y="1604"/>
                  </a:lnTo>
                  <a:lnTo>
                    <a:pt x="1618" y="1597"/>
                  </a:lnTo>
                  <a:lnTo>
                    <a:pt x="1618" y="1590"/>
                  </a:lnTo>
                  <a:lnTo>
                    <a:pt x="1618" y="1583"/>
                  </a:lnTo>
                  <a:lnTo>
                    <a:pt x="1625" y="1576"/>
                  </a:lnTo>
                  <a:lnTo>
                    <a:pt x="1625" y="1563"/>
                  </a:lnTo>
                  <a:lnTo>
                    <a:pt x="1625" y="1556"/>
                  </a:lnTo>
                  <a:lnTo>
                    <a:pt x="1625" y="1549"/>
                  </a:lnTo>
                  <a:lnTo>
                    <a:pt x="1625" y="1542"/>
                  </a:lnTo>
                  <a:lnTo>
                    <a:pt x="1632" y="1535"/>
                  </a:lnTo>
                  <a:lnTo>
                    <a:pt x="1632" y="1529"/>
                  </a:lnTo>
                  <a:lnTo>
                    <a:pt x="1632" y="1515"/>
                  </a:lnTo>
                  <a:lnTo>
                    <a:pt x="1632" y="1508"/>
                  </a:lnTo>
                  <a:lnTo>
                    <a:pt x="1632" y="1501"/>
                  </a:lnTo>
                  <a:lnTo>
                    <a:pt x="1639" y="1494"/>
                  </a:lnTo>
                  <a:lnTo>
                    <a:pt x="1639" y="1481"/>
                  </a:lnTo>
                  <a:lnTo>
                    <a:pt x="1639" y="1474"/>
                  </a:lnTo>
                  <a:lnTo>
                    <a:pt x="1639" y="1467"/>
                  </a:lnTo>
                  <a:lnTo>
                    <a:pt x="1645" y="1460"/>
                  </a:lnTo>
                  <a:lnTo>
                    <a:pt x="1645" y="1446"/>
                  </a:lnTo>
                  <a:lnTo>
                    <a:pt x="1645" y="1439"/>
                  </a:lnTo>
                  <a:lnTo>
                    <a:pt x="1645" y="1433"/>
                  </a:lnTo>
                  <a:lnTo>
                    <a:pt x="1645" y="1419"/>
                  </a:lnTo>
                  <a:lnTo>
                    <a:pt x="1652" y="1412"/>
                  </a:lnTo>
                  <a:lnTo>
                    <a:pt x="1652" y="1398"/>
                  </a:lnTo>
                  <a:lnTo>
                    <a:pt x="1652" y="1391"/>
                  </a:lnTo>
                  <a:lnTo>
                    <a:pt x="1652" y="1385"/>
                  </a:lnTo>
                  <a:lnTo>
                    <a:pt x="1652" y="1371"/>
                  </a:lnTo>
                  <a:lnTo>
                    <a:pt x="1659" y="1364"/>
                  </a:lnTo>
                  <a:lnTo>
                    <a:pt x="1659" y="1350"/>
                  </a:lnTo>
                  <a:lnTo>
                    <a:pt x="1659" y="1343"/>
                  </a:lnTo>
                  <a:lnTo>
                    <a:pt x="1659" y="1330"/>
                  </a:lnTo>
                  <a:lnTo>
                    <a:pt x="1666" y="1323"/>
                  </a:lnTo>
                  <a:lnTo>
                    <a:pt x="1666" y="1309"/>
                  </a:lnTo>
                  <a:lnTo>
                    <a:pt x="1666" y="1302"/>
                  </a:lnTo>
                  <a:lnTo>
                    <a:pt x="1666" y="1289"/>
                  </a:lnTo>
                  <a:lnTo>
                    <a:pt x="1666" y="1275"/>
                  </a:lnTo>
                  <a:lnTo>
                    <a:pt x="1673" y="1268"/>
                  </a:lnTo>
                  <a:lnTo>
                    <a:pt x="1673" y="1254"/>
                  </a:lnTo>
                  <a:lnTo>
                    <a:pt x="1673" y="1248"/>
                  </a:lnTo>
                  <a:lnTo>
                    <a:pt x="1673" y="1234"/>
                  </a:lnTo>
                  <a:lnTo>
                    <a:pt x="1673" y="1220"/>
                  </a:lnTo>
                  <a:lnTo>
                    <a:pt x="1680" y="1213"/>
                  </a:lnTo>
                  <a:lnTo>
                    <a:pt x="1680" y="1200"/>
                  </a:lnTo>
                  <a:lnTo>
                    <a:pt x="1680" y="1186"/>
                  </a:lnTo>
                  <a:lnTo>
                    <a:pt x="1680" y="1179"/>
                  </a:lnTo>
                  <a:lnTo>
                    <a:pt x="1680" y="1165"/>
                  </a:lnTo>
                  <a:lnTo>
                    <a:pt x="1687" y="1152"/>
                  </a:lnTo>
                  <a:lnTo>
                    <a:pt x="1687" y="1138"/>
                  </a:lnTo>
                  <a:lnTo>
                    <a:pt x="1687" y="1131"/>
                  </a:lnTo>
                  <a:lnTo>
                    <a:pt x="1687" y="1117"/>
                  </a:lnTo>
                  <a:lnTo>
                    <a:pt x="1693" y="1104"/>
                  </a:lnTo>
                  <a:lnTo>
                    <a:pt x="1693" y="1090"/>
                  </a:lnTo>
                  <a:lnTo>
                    <a:pt x="1693" y="1076"/>
                  </a:lnTo>
                  <a:lnTo>
                    <a:pt x="1693" y="1063"/>
                  </a:lnTo>
                  <a:lnTo>
                    <a:pt x="1693" y="1056"/>
                  </a:lnTo>
                  <a:lnTo>
                    <a:pt x="1700" y="1042"/>
                  </a:lnTo>
                  <a:lnTo>
                    <a:pt x="1700" y="1028"/>
                  </a:lnTo>
                  <a:lnTo>
                    <a:pt x="1700" y="1015"/>
                  </a:lnTo>
                  <a:lnTo>
                    <a:pt x="1700" y="1001"/>
                  </a:lnTo>
                  <a:lnTo>
                    <a:pt x="1700" y="987"/>
                  </a:lnTo>
                  <a:lnTo>
                    <a:pt x="1707" y="973"/>
                  </a:lnTo>
                  <a:lnTo>
                    <a:pt x="1707" y="960"/>
                  </a:lnTo>
                  <a:lnTo>
                    <a:pt x="1707" y="946"/>
                  </a:lnTo>
                  <a:lnTo>
                    <a:pt x="1707" y="932"/>
                  </a:lnTo>
                  <a:lnTo>
                    <a:pt x="1707" y="919"/>
                  </a:lnTo>
                  <a:lnTo>
                    <a:pt x="1714" y="905"/>
                  </a:lnTo>
                  <a:lnTo>
                    <a:pt x="1714" y="891"/>
                  </a:lnTo>
                  <a:lnTo>
                    <a:pt x="1714" y="878"/>
                  </a:lnTo>
                  <a:lnTo>
                    <a:pt x="1714" y="864"/>
                  </a:lnTo>
                  <a:lnTo>
                    <a:pt x="1721" y="850"/>
                  </a:lnTo>
                  <a:lnTo>
                    <a:pt x="1721" y="836"/>
                  </a:lnTo>
                  <a:lnTo>
                    <a:pt x="1721" y="823"/>
                  </a:lnTo>
                  <a:lnTo>
                    <a:pt x="1721" y="809"/>
                  </a:lnTo>
                  <a:lnTo>
                    <a:pt x="1721" y="795"/>
                  </a:lnTo>
                  <a:lnTo>
                    <a:pt x="1728" y="782"/>
                  </a:lnTo>
                  <a:lnTo>
                    <a:pt x="1728" y="768"/>
                  </a:lnTo>
                  <a:lnTo>
                    <a:pt x="1728" y="747"/>
                  </a:lnTo>
                  <a:lnTo>
                    <a:pt x="1728" y="734"/>
                  </a:lnTo>
                  <a:lnTo>
                    <a:pt x="1728" y="720"/>
                  </a:lnTo>
                  <a:lnTo>
                    <a:pt x="1735" y="706"/>
                  </a:lnTo>
                  <a:lnTo>
                    <a:pt x="1735" y="693"/>
                  </a:lnTo>
                  <a:lnTo>
                    <a:pt x="1735" y="679"/>
                  </a:lnTo>
                  <a:lnTo>
                    <a:pt x="1735" y="665"/>
                  </a:lnTo>
                  <a:lnTo>
                    <a:pt x="1735" y="651"/>
                  </a:lnTo>
                  <a:lnTo>
                    <a:pt x="1741" y="638"/>
                  </a:lnTo>
                  <a:lnTo>
                    <a:pt x="1741" y="617"/>
                  </a:lnTo>
                  <a:lnTo>
                    <a:pt x="1741" y="603"/>
                  </a:lnTo>
                  <a:lnTo>
                    <a:pt x="1741" y="590"/>
                  </a:lnTo>
                  <a:lnTo>
                    <a:pt x="1748" y="576"/>
                  </a:lnTo>
                  <a:lnTo>
                    <a:pt x="1748" y="562"/>
                  </a:lnTo>
                  <a:lnTo>
                    <a:pt x="1748" y="549"/>
                  </a:lnTo>
                  <a:lnTo>
                    <a:pt x="1748" y="535"/>
                  </a:lnTo>
                  <a:lnTo>
                    <a:pt x="1748" y="521"/>
                  </a:lnTo>
                  <a:lnTo>
                    <a:pt x="1755" y="508"/>
                  </a:lnTo>
                  <a:lnTo>
                    <a:pt x="1755" y="494"/>
                  </a:lnTo>
                  <a:lnTo>
                    <a:pt x="1755" y="480"/>
                  </a:lnTo>
                  <a:lnTo>
                    <a:pt x="1755" y="466"/>
                  </a:lnTo>
                  <a:lnTo>
                    <a:pt x="1755" y="453"/>
                  </a:lnTo>
                  <a:lnTo>
                    <a:pt x="1762" y="439"/>
                  </a:lnTo>
                  <a:lnTo>
                    <a:pt x="1762" y="425"/>
                  </a:lnTo>
                  <a:lnTo>
                    <a:pt x="1762" y="412"/>
                  </a:lnTo>
                  <a:lnTo>
                    <a:pt x="1762" y="398"/>
                  </a:lnTo>
                  <a:lnTo>
                    <a:pt x="1769" y="384"/>
                  </a:lnTo>
                  <a:lnTo>
                    <a:pt x="1769" y="370"/>
                  </a:lnTo>
                  <a:lnTo>
                    <a:pt x="1769" y="357"/>
                  </a:lnTo>
                  <a:lnTo>
                    <a:pt x="1769" y="350"/>
                  </a:lnTo>
                  <a:lnTo>
                    <a:pt x="1769" y="336"/>
                  </a:lnTo>
                  <a:lnTo>
                    <a:pt x="1776" y="322"/>
                  </a:lnTo>
                  <a:lnTo>
                    <a:pt x="1776" y="309"/>
                  </a:lnTo>
                  <a:lnTo>
                    <a:pt x="1776" y="295"/>
                  </a:lnTo>
                  <a:lnTo>
                    <a:pt x="1776" y="288"/>
                  </a:lnTo>
                  <a:lnTo>
                    <a:pt x="1776" y="275"/>
                  </a:lnTo>
                  <a:lnTo>
                    <a:pt x="1783" y="261"/>
                  </a:lnTo>
                  <a:lnTo>
                    <a:pt x="1783" y="254"/>
                  </a:lnTo>
                  <a:lnTo>
                    <a:pt x="1783" y="240"/>
                  </a:lnTo>
                  <a:lnTo>
                    <a:pt x="1783" y="233"/>
                  </a:lnTo>
                  <a:lnTo>
                    <a:pt x="1783" y="220"/>
                  </a:lnTo>
                  <a:lnTo>
                    <a:pt x="1789" y="213"/>
                  </a:lnTo>
                  <a:lnTo>
                    <a:pt x="1789" y="199"/>
                  </a:lnTo>
                  <a:lnTo>
                    <a:pt x="1789" y="192"/>
                  </a:lnTo>
                  <a:lnTo>
                    <a:pt x="1789" y="179"/>
                  </a:lnTo>
                  <a:lnTo>
                    <a:pt x="1796" y="172"/>
                  </a:lnTo>
                  <a:lnTo>
                    <a:pt x="1796" y="165"/>
                  </a:lnTo>
                  <a:lnTo>
                    <a:pt x="1796" y="151"/>
                  </a:lnTo>
                  <a:lnTo>
                    <a:pt x="1796" y="144"/>
                  </a:lnTo>
                  <a:lnTo>
                    <a:pt x="1796" y="137"/>
                  </a:lnTo>
                  <a:lnTo>
                    <a:pt x="1803" y="131"/>
                  </a:lnTo>
                  <a:lnTo>
                    <a:pt x="1803" y="124"/>
                  </a:lnTo>
                  <a:lnTo>
                    <a:pt x="1803" y="110"/>
                  </a:lnTo>
                  <a:lnTo>
                    <a:pt x="1803" y="103"/>
                  </a:lnTo>
                  <a:lnTo>
                    <a:pt x="1803" y="96"/>
                  </a:lnTo>
                  <a:lnTo>
                    <a:pt x="1810" y="90"/>
                  </a:lnTo>
                  <a:lnTo>
                    <a:pt x="1810" y="83"/>
                  </a:lnTo>
                  <a:lnTo>
                    <a:pt x="1810" y="76"/>
                  </a:lnTo>
                  <a:lnTo>
                    <a:pt x="1810" y="69"/>
                  </a:lnTo>
                  <a:lnTo>
                    <a:pt x="1817" y="62"/>
                  </a:lnTo>
                  <a:lnTo>
                    <a:pt x="1817" y="55"/>
                  </a:lnTo>
                  <a:lnTo>
                    <a:pt x="1817" y="48"/>
                  </a:lnTo>
                  <a:lnTo>
                    <a:pt x="1824" y="42"/>
                  </a:lnTo>
                  <a:lnTo>
                    <a:pt x="1824" y="35"/>
                  </a:lnTo>
                  <a:lnTo>
                    <a:pt x="1824" y="28"/>
                  </a:lnTo>
                  <a:lnTo>
                    <a:pt x="1831" y="21"/>
                  </a:lnTo>
                  <a:lnTo>
                    <a:pt x="1831" y="14"/>
                  </a:lnTo>
                  <a:lnTo>
                    <a:pt x="1837" y="14"/>
                  </a:lnTo>
                  <a:lnTo>
                    <a:pt x="1837" y="7"/>
                  </a:lnTo>
                  <a:lnTo>
                    <a:pt x="1844" y="7"/>
                  </a:lnTo>
                  <a:lnTo>
                    <a:pt x="1844" y="0"/>
                  </a:lnTo>
                  <a:lnTo>
                    <a:pt x="1851" y="0"/>
                  </a:lnTo>
                  <a:lnTo>
                    <a:pt x="1858" y="0"/>
                  </a:lnTo>
                  <a:lnTo>
                    <a:pt x="1865" y="7"/>
                  </a:lnTo>
                  <a:lnTo>
                    <a:pt x="1872" y="7"/>
                  </a:lnTo>
                  <a:lnTo>
                    <a:pt x="1872" y="14"/>
                  </a:lnTo>
                  <a:lnTo>
                    <a:pt x="1879" y="21"/>
                  </a:lnTo>
                  <a:lnTo>
                    <a:pt x="1879" y="28"/>
                  </a:lnTo>
                  <a:lnTo>
                    <a:pt x="1885" y="28"/>
                  </a:lnTo>
                  <a:lnTo>
                    <a:pt x="1885" y="35"/>
                  </a:lnTo>
                  <a:lnTo>
                    <a:pt x="1885" y="42"/>
                  </a:lnTo>
                  <a:lnTo>
                    <a:pt x="1892" y="42"/>
                  </a:lnTo>
                  <a:lnTo>
                    <a:pt x="1892" y="48"/>
                  </a:lnTo>
                  <a:lnTo>
                    <a:pt x="1899" y="48"/>
                  </a:lnTo>
                  <a:lnTo>
                    <a:pt x="1899" y="55"/>
                  </a:lnTo>
                  <a:lnTo>
                    <a:pt x="1899" y="62"/>
                  </a:lnTo>
                  <a:lnTo>
                    <a:pt x="1906" y="62"/>
                  </a:lnTo>
                  <a:lnTo>
                    <a:pt x="1906" y="69"/>
                  </a:lnTo>
                  <a:lnTo>
                    <a:pt x="1906" y="76"/>
                  </a:lnTo>
                  <a:lnTo>
                    <a:pt x="1913" y="76"/>
                  </a:lnTo>
                  <a:lnTo>
                    <a:pt x="1913" y="83"/>
                  </a:lnTo>
                  <a:lnTo>
                    <a:pt x="1913" y="90"/>
                  </a:lnTo>
                  <a:lnTo>
                    <a:pt x="1920" y="90"/>
                  </a:lnTo>
                  <a:lnTo>
                    <a:pt x="1920" y="96"/>
                  </a:lnTo>
                  <a:lnTo>
                    <a:pt x="1920" y="103"/>
                  </a:lnTo>
                  <a:lnTo>
                    <a:pt x="1927" y="103"/>
                  </a:lnTo>
                  <a:lnTo>
                    <a:pt x="1927" y="110"/>
                  </a:lnTo>
                  <a:lnTo>
                    <a:pt x="1927" y="117"/>
                  </a:lnTo>
                  <a:lnTo>
                    <a:pt x="1933" y="117"/>
                  </a:lnTo>
                  <a:lnTo>
                    <a:pt x="1933" y="124"/>
                  </a:lnTo>
                  <a:lnTo>
                    <a:pt x="1933" y="131"/>
                  </a:lnTo>
                  <a:lnTo>
                    <a:pt x="1940" y="131"/>
                  </a:lnTo>
                  <a:lnTo>
                    <a:pt x="1940" y="137"/>
                  </a:lnTo>
                  <a:lnTo>
                    <a:pt x="1947" y="144"/>
                  </a:lnTo>
                  <a:lnTo>
                    <a:pt x="1947" y="151"/>
                  </a:lnTo>
                  <a:lnTo>
                    <a:pt x="1954" y="158"/>
                  </a:lnTo>
                  <a:lnTo>
                    <a:pt x="1954" y="165"/>
                  </a:lnTo>
                  <a:lnTo>
                    <a:pt x="1961" y="165"/>
                  </a:lnTo>
                  <a:lnTo>
                    <a:pt x="1961" y="172"/>
                  </a:lnTo>
                  <a:lnTo>
                    <a:pt x="1961" y="179"/>
                  </a:lnTo>
                  <a:lnTo>
                    <a:pt x="1968" y="179"/>
                  </a:lnTo>
                  <a:lnTo>
                    <a:pt x="1968" y="185"/>
                  </a:lnTo>
                  <a:lnTo>
                    <a:pt x="1975" y="185"/>
                  </a:lnTo>
                  <a:lnTo>
                    <a:pt x="1975" y="192"/>
                  </a:lnTo>
                  <a:lnTo>
                    <a:pt x="1981" y="199"/>
                  </a:lnTo>
                  <a:lnTo>
                    <a:pt x="1981" y="206"/>
                  </a:lnTo>
                  <a:lnTo>
                    <a:pt x="1988" y="206"/>
                  </a:lnTo>
                  <a:lnTo>
                    <a:pt x="1988" y="213"/>
                  </a:lnTo>
                  <a:lnTo>
                    <a:pt x="1995" y="213"/>
                  </a:lnTo>
                  <a:lnTo>
                    <a:pt x="1995" y="220"/>
                  </a:lnTo>
                  <a:lnTo>
                    <a:pt x="2002" y="220"/>
                  </a:lnTo>
                  <a:lnTo>
                    <a:pt x="2002" y="227"/>
                  </a:lnTo>
                  <a:lnTo>
                    <a:pt x="2009" y="227"/>
                  </a:lnTo>
                  <a:lnTo>
                    <a:pt x="2009" y="233"/>
                  </a:lnTo>
                  <a:lnTo>
                    <a:pt x="2016" y="233"/>
                  </a:lnTo>
                  <a:lnTo>
                    <a:pt x="2023" y="240"/>
                  </a:lnTo>
                  <a:lnTo>
                    <a:pt x="2029" y="240"/>
                  </a:lnTo>
                  <a:lnTo>
                    <a:pt x="2029" y="247"/>
                  </a:lnTo>
                  <a:lnTo>
                    <a:pt x="2036" y="247"/>
                  </a:lnTo>
                  <a:lnTo>
                    <a:pt x="2043" y="247"/>
                  </a:lnTo>
                  <a:lnTo>
                    <a:pt x="2050" y="254"/>
                  </a:lnTo>
                  <a:lnTo>
                    <a:pt x="2057" y="254"/>
                  </a:lnTo>
                  <a:lnTo>
                    <a:pt x="2064" y="254"/>
                  </a:lnTo>
                  <a:lnTo>
                    <a:pt x="2071" y="254"/>
                  </a:lnTo>
                  <a:lnTo>
                    <a:pt x="2077" y="254"/>
                  </a:lnTo>
                  <a:lnTo>
                    <a:pt x="2084" y="254"/>
                  </a:lnTo>
                  <a:lnTo>
                    <a:pt x="2091" y="254"/>
                  </a:lnTo>
                  <a:lnTo>
                    <a:pt x="2098" y="254"/>
                  </a:lnTo>
                  <a:lnTo>
                    <a:pt x="2098" y="247"/>
                  </a:lnTo>
                  <a:lnTo>
                    <a:pt x="2105" y="247"/>
                  </a:lnTo>
                  <a:lnTo>
                    <a:pt x="2112" y="247"/>
                  </a:lnTo>
                  <a:lnTo>
                    <a:pt x="2119" y="247"/>
                  </a:lnTo>
                  <a:lnTo>
                    <a:pt x="2119" y="240"/>
                  </a:lnTo>
                  <a:lnTo>
                    <a:pt x="2125" y="240"/>
                  </a:lnTo>
                  <a:lnTo>
                    <a:pt x="2132" y="240"/>
                  </a:lnTo>
                  <a:lnTo>
                    <a:pt x="2132" y="233"/>
                  </a:lnTo>
                  <a:lnTo>
                    <a:pt x="2139" y="233"/>
                  </a:lnTo>
                  <a:lnTo>
                    <a:pt x="2139" y="227"/>
                  </a:lnTo>
                  <a:lnTo>
                    <a:pt x="2146" y="227"/>
                  </a:lnTo>
                  <a:lnTo>
                    <a:pt x="2153" y="227"/>
                  </a:lnTo>
                  <a:lnTo>
                    <a:pt x="2153" y="220"/>
                  </a:lnTo>
                  <a:lnTo>
                    <a:pt x="2160" y="220"/>
                  </a:lnTo>
                  <a:lnTo>
                    <a:pt x="2160" y="213"/>
                  </a:lnTo>
                  <a:lnTo>
                    <a:pt x="2167" y="213"/>
                  </a:lnTo>
                  <a:lnTo>
                    <a:pt x="2173" y="206"/>
                  </a:lnTo>
                  <a:lnTo>
                    <a:pt x="2180" y="206"/>
                  </a:lnTo>
                  <a:lnTo>
                    <a:pt x="2180" y="199"/>
                  </a:lnTo>
                  <a:lnTo>
                    <a:pt x="2187" y="199"/>
                  </a:lnTo>
                  <a:lnTo>
                    <a:pt x="2187" y="192"/>
                  </a:lnTo>
                  <a:lnTo>
                    <a:pt x="2194" y="192"/>
                  </a:lnTo>
                  <a:lnTo>
                    <a:pt x="2194" y="185"/>
                  </a:lnTo>
                  <a:lnTo>
                    <a:pt x="2201" y="185"/>
                  </a:lnTo>
                  <a:lnTo>
                    <a:pt x="2201" y="179"/>
                  </a:lnTo>
                  <a:lnTo>
                    <a:pt x="2208" y="179"/>
                  </a:lnTo>
                  <a:lnTo>
                    <a:pt x="2208" y="172"/>
                  </a:lnTo>
                  <a:lnTo>
                    <a:pt x="2215" y="172"/>
                  </a:lnTo>
                  <a:lnTo>
                    <a:pt x="2215" y="165"/>
                  </a:lnTo>
                  <a:lnTo>
                    <a:pt x="2221" y="165"/>
                  </a:lnTo>
                  <a:lnTo>
                    <a:pt x="2221" y="158"/>
                  </a:lnTo>
                  <a:lnTo>
                    <a:pt x="2228" y="158"/>
                  </a:lnTo>
                  <a:lnTo>
                    <a:pt x="2228" y="151"/>
                  </a:lnTo>
                  <a:lnTo>
                    <a:pt x="2235" y="151"/>
                  </a:lnTo>
                  <a:lnTo>
                    <a:pt x="2235" y="144"/>
                  </a:lnTo>
                  <a:lnTo>
                    <a:pt x="2242" y="144"/>
                  </a:lnTo>
                  <a:lnTo>
                    <a:pt x="2242" y="137"/>
                  </a:lnTo>
                  <a:lnTo>
                    <a:pt x="2249" y="137"/>
                  </a:lnTo>
                  <a:lnTo>
                    <a:pt x="2249" y="131"/>
                  </a:lnTo>
                  <a:lnTo>
                    <a:pt x="2256" y="131"/>
                  </a:lnTo>
                  <a:lnTo>
                    <a:pt x="2256" y="124"/>
                  </a:lnTo>
                  <a:lnTo>
                    <a:pt x="2263" y="124"/>
                  </a:lnTo>
                  <a:lnTo>
                    <a:pt x="2263" y="117"/>
                  </a:lnTo>
                  <a:lnTo>
                    <a:pt x="2269" y="117"/>
                  </a:lnTo>
                  <a:lnTo>
                    <a:pt x="2269" y="110"/>
                  </a:lnTo>
                  <a:lnTo>
                    <a:pt x="2276" y="110"/>
                  </a:lnTo>
                  <a:lnTo>
                    <a:pt x="2276" y="103"/>
                  </a:lnTo>
                  <a:lnTo>
                    <a:pt x="2283" y="103"/>
                  </a:lnTo>
                  <a:lnTo>
                    <a:pt x="2283" y="96"/>
                  </a:lnTo>
                  <a:lnTo>
                    <a:pt x="2290" y="96"/>
                  </a:lnTo>
                  <a:lnTo>
                    <a:pt x="2290" y="90"/>
                  </a:lnTo>
                  <a:lnTo>
                    <a:pt x="2297" y="90"/>
                  </a:lnTo>
                  <a:lnTo>
                    <a:pt x="2297" y="83"/>
                  </a:lnTo>
                  <a:lnTo>
                    <a:pt x="2304" y="83"/>
                  </a:lnTo>
                  <a:lnTo>
                    <a:pt x="2304" y="76"/>
                  </a:lnTo>
                  <a:lnTo>
                    <a:pt x="2311" y="76"/>
                  </a:lnTo>
                  <a:lnTo>
                    <a:pt x="2311" y="69"/>
                  </a:lnTo>
                  <a:lnTo>
                    <a:pt x="2317" y="69"/>
                  </a:lnTo>
                  <a:lnTo>
                    <a:pt x="2317" y="62"/>
                  </a:lnTo>
                  <a:lnTo>
                    <a:pt x="2324" y="62"/>
                  </a:lnTo>
                  <a:lnTo>
                    <a:pt x="2324" y="55"/>
                  </a:lnTo>
                  <a:lnTo>
                    <a:pt x="2331" y="55"/>
                  </a:lnTo>
                  <a:lnTo>
                    <a:pt x="2338" y="48"/>
                  </a:lnTo>
                  <a:lnTo>
                    <a:pt x="2345" y="48"/>
                  </a:lnTo>
                  <a:lnTo>
                    <a:pt x="2345" y="42"/>
                  </a:lnTo>
                  <a:lnTo>
                    <a:pt x="2352" y="42"/>
                  </a:lnTo>
                  <a:lnTo>
                    <a:pt x="2352" y="35"/>
                  </a:lnTo>
                  <a:lnTo>
                    <a:pt x="2359" y="35"/>
                  </a:lnTo>
                  <a:lnTo>
                    <a:pt x="2365" y="28"/>
                  </a:lnTo>
                  <a:lnTo>
                    <a:pt x="2372" y="28"/>
                  </a:lnTo>
                  <a:lnTo>
                    <a:pt x="2372" y="21"/>
                  </a:lnTo>
                  <a:lnTo>
                    <a:pt x="2379" y="21"/>
                  </a:lnTo>
                  <a:lnTo>
                    <a:pt x="2386" y="21"/>
                  </a:lnTo>
                  <a:lnTo>
                    <a:pt x="2386" y="14"/>
                  </a:lnTo>
                  <a:lnTo>
                    <a:pt x="2393" y="14"/>
                  </a:lnTo>
                  <a:lnTo>
                    <a:pt x="2400" y="14"/>
                  </a:lnTo>
                  <a:lnTo>
                    <a:pt x="2407" y="7"/>
                  </a:lnTo>
                  <a:lnTo>
                    <a:pt x="2413" y="7"/>
                  </a:lnTo>
                  <a:lnTo>
                    <a:pt x="2420" y="7"/>
                  </a:lnTo>
                  <a:lnTo>
                    <a:pt x="2427" y="7"/>
                  </a:lnTo>
                  <a:lnTo>
                    <a:pt x="2427" y="0"/>
                  </a:lnTo>
                  <a:lnTo>
                    <a:pt x="2434" y="0"/>
                  </a:lnTo>
                  <a:lnTo>
                    <a:pt x="2441" y="0"/>
                  </a:lnTo>
                  <a:lnTo>
                    <a:pt x="2448" y="0"/>
                  </a:lnTo>
                  <a:lnTo>
                    <a:pt x="2455" y="0"/>
                  </a:lnTo>
                  <a:lnTo>
                    <a:pt x="2461" y="0"/>
                  </a:lnTo>
                  <a:lnTo>
                    <a:pt x="2468" y="0"/>
                  </a:lnTo>
                  <a:lnTo>
                    <a:pt x="2475" y="0"/>
                  </a:lnTo>
                  <a:lnTo>
                    <a:pt x="2482" y="0"/>
                  </a:lnTo>
                  <a:lnTo>
                    <a:pt x="2489" y="0"/>
                  </a:lnTo>
                  <a:lnTo>
                    <a:pt x="2489" y="7"/>
                  </a:lnTo>
                  <a:lnTo>
                    <a:pt x="2496" y="7"/>
                  </a:lnTo>
                  <a:lnTo>
                    <a:pt x="2503" y="7"/>
                  </a:lnTo>
                  <a:lnTo>
                    <a:pt x="2509" y="7"/>
                  </a:lnTo>
                  <a:lnTo>
                    <a:pt x="2509" y="14"/>
                  </a:lnTo>
                  <a:lnTo>
                    <a:pt x="2516" y="14"/>
                  </a:lnTo>
                  <a:lnTo>
                    <a:pt x="2523" y="14"/>
                  </a:lnTo>
                  <a:lnTo>
                    <a:pt x="2530" y="14"/>
                  </a:lnTo>
                  <a:lnTo>
                    <a:pt x="2530" y="21"/>
                  </a:lnTo>
                  <a:lnTo>
                    <a:pt x="2537" y="21"/>
                  </a:lnTo>
                  <a:lnTo>
                    <a:pt x="2544" y="21"/>
                  </a:lnTo>
                  <a:lnTo>
                    <a:pt x="2544" y="28"/>
                  </a:lnTo>
                  <a:lnTo>
                    <a:pt x="2551" y="28"/>
                  </a:lnTo>
                  <a:lnTo>
                    <a:pt x="2557" y="28"/>
                  </a:lnTo>
                  <a:lnTo>
                    <a:pt x="2557" y="35"/>
                  </a:lnTo>
                  <a:lnTo>
                    <a:pt x="2564" y="35"/>
                  </a:lnTo>
                  <a:lnTo>
                    <a:pt x="2571" y="42"/>
                  </a:lnTo>
                  <a:lnTo>
                    <a:pt x="2578" y="42"/>
                  </a:lnTo>
                  <a:lnTo>
                    <a:pt x="2578" y="48"/>
                  </a:lnTo>
                  <a:lnTo>
                    <a:pt x="2585" y="48"/>
                  </a:lnTo>
                  <a:lnTo>
                    <a:pt x="2592" y="55"/>
                  </a:lnTo>
                  <a:lnTo>
                    <a:pt x="2599" y="55"/>
                  </a:lnTo>
                  <a:lnTo>
                    <a:pt x="2599" y="62"/>
                  </a:lnTo>
                  <a:lnTo>
                    <a:pt x="2605" y="62"/>
                  </a:lnTo>
                  <a:lnTo>
                    <a:pt x="2612" y="69"/>
                  </a:lnTo>
                  <a:lnTo>
                    <a:pt x="2619" y="69"/>
                  </a:lnTo>
                  <a:lnTo>
                    <a:pt x="2619" y="76"/>
                  </a:lnTo>
                  <a:lnTo>
                    <a:pt x="2626" y="76"/>
                  </a:lnTo>
                  <a:lnTo>
                    <a:pt x="2626" y="83"/>
                  </a:lnTo>
                  <a:lnTo>
                    <a:pt x="2633" y="83"/>
                  </a:lnTo>
                  <a:lnTo>
                    <a:pt x="2633" y="90"/>
                  </a:lnTo>
                  <a:lnTo>
                    <a:pt x="2640" y="90"/>
                  </a:lnTo>
                  <a:lnTo>
                    <a:pt x="2647" y="90"/>
                  </a:lnTo>
                  <a:lnTo>
                    <a:pt x="2647" y="96"/>
                  </a:lnTo>
                  <a:lnTo>
                    <a:pt x="2653" y="96"/>
                  </a:lnTo>
                  <a:lnTo>
                    <a:pt x="2653" y="103"/>
                  </a:lnTo>
                  <a:lnTo>
                    <a:pt x="2660" y="103"/>
                  </a:lnTo>
                  <a:lnTo>
                    <a:pt x="2660" y="110"/>
                  </a:lnTo>
                  <a:lnTo>
                    <a:pt x="2667" y="110"/>
                  </a:lnTo>
                  <a:lnTo>
                    <a:pt x="2674" y="117"/>
                  </a:lnTo>
                  <a:lnTo>
                    <a:pt x="2681" y="117"/>
                  </a:lnTo>
                  <a:lnTo>
                    <a:pt x="2681" y="124"/>
                  </a:lnTo>
                  <a:lnTo>
                    <a:pt x="2688" y="124"/>
                  </a:lnTo>
                  <a:lnTo>
                    <a:pt x="2688" y="131"/>
                  </a:lnTo>
                  <a:lnTo>
                    <a:pt x="2695" y="131"/>
                  </a:lnTo>
                  <a:lnTo>
                    <a:pt x="2695" y="137"/>
                  </a:lnTo>
                  <a:lnTo>
                    <a:pt x="2701" y="137"/>
                  </a:lnTo>
                  <a:lnTo>
                    <a:pt x="2708" y="137"/>
                  </a:lnTo>
                  <a:lnTo>
                    <a:pt x="2708" y="144"/>
                  </a:lnTo>
                  <a:lnTo>
                    <a:pt x="2715" y="144"/>
                  </a:lnTo>
                  <a:lnTo>
                    <a:pt x="2715" y="151"/>
                  </a:lnTo>
                  <a:lnTo>
                    <a:pt x="2722" y="151"/>
                  </a:lnTo>
                  <a:lnTo>
                    <a:pt x="2722" y="158"/>
                  </a:lnTo>
                  <a:lnTo>
                    <a:pt x="2729" y="158"/>
                  </a:lnTo>
                  <a:lnTo>
                    <a:pt x="2736" y="158"/>
                  </a:lnTo>
                  <a:lnTo>
                    <a:pt x="2736" y="165"/>
                  </a:lnTo>
                  <a:lnTo>
                    <a:pt x="2743" y="165"/>
                  </a:lnTo>
                  <a:lnTo>
                    <a:pt x="2743" y="172"/>
                  </a:lnTo>
                  <a:lnTo>
                    <a:pt x="2749" y="172"/>
                  </a:lnTo>
                  <a:lnTo>
                    <a:pt x="2756" y="179"/>
                  </a:lnTo>
                  <a:lnTo>
                    <a:pt x="2763" y="179"/>
                  </a:lnTo>
                  <a:lnTo>
                    <a:pt x="2763" y="185"/>
                  </a:lnTo>
                  <a:lnTo>
                    <a:pt x="2770" y="185"/>
                  </a:lnTo>
                  <a:lnTo>
                    <a:pt x="2777" y="192"/>
                  </a:lnTo>
                  <a:lnTo>
                    <a:pt x="2784" y="192"/>
                  </a:lnTo>
                  <a:lnTo>
                    <a:pt x="2784" y="199"/>
                  </a:lnTo>
                  <a:lnTo>
                    <a:pt x="2791" y="199"/>
                  </a:lnTo>
                  <a:lnTo>
                    <a:pt x="2797" y="199"/>
                  </a:lnTo>
                  <a:lnTo>
                    <a:pt x="2797" y="206"/>
                  </a:lnTo>
                  <a:lnTo>
                    <a:pt x="2804" y="206"/>
                  </a:lnTo>
                  <a:lnTo>
                    <a:pt x="2811" y="206"/>
                  </a:lnTo>
                  <a:lnTo>
                    <a:pt x="2811" y="213"/>
                  </a:lnTo>
                  <a:lnTo>
                    <a:pt x="2818" y="213"/>
                  </a:lnTo>
                  <a:lnTo>
                    <a:pt x="2825" y="220"/>
                  </a:lnTo>
                  <a:lnTo>
                    <a:pt x="2832" y="220"/>
                  </a:lnTo>
                  <a:lnTo>
                    <a:pt x="2839" y="220"/>
                  </a:lnTo>
                  <a:lnTo>
                    <a:pt x="2839" y="227"/>
                  </a:lnTo>
                  <a:lnTo>
                    <a:pt x="2845" y="227"/>
                  </a:lnTo>
                  <a:lnTo>
                    <a:pt x="2852" y="227"/>
                  </a:lnTo>
                  <a:lnTo>
                    <a:pt x="2852" y="233"/>
                  </a:lnTo>
                  <a:lnTo>
                    <a:pt x="2859" y="233"/>
                  </a:lnTo>
                  <a:lnTo>
                    <a:pt x="2866" y="233"/>
                  </a:lnTo>
                  <a:lnTo>
                    <a:pt x="2873" y="240"/>
                  </a:lnTo>
                  <a:lnTo>
                    <a:pt x="2880" y="240"/>
                  </a:lnTo>
                  <a:lnTo>
                    <a:pt x="2887" y="240"/>
                  </a:lnTo>
                  <a:lnTo>
                    <a:pt x="2893" y="240"/>
                  </a:lnTo>
                  <a:lnTo>
                    <a:pt x="2893" y="247"/>
                  </a:lnTo>
                  <a:lnTo>
                    <a:pt x="2900" y="247"/>
                  </a:lnTo>
                  <a:lnTo>
                    <a:pt x="2907" y="247"/>
                  </a:lnTo>
                  <a:lnTo>
                    <a:pt x="2914" y="247"/>
                  </a:lnTo>
                  <a:lnTo>
                    <a:pt x="2921" y="247"/>
                  </a:lnTo>
                  <a:lnTo>
                    <a:pt x="2921" y="254"/>
                  </a:lnTo>
                  <a:lnTo>
                    <a:pt x="2928" y="254"/>
                  </a:lnTo>
                  <a:lnTo>
                    <a:pt x="2935" y="254"/>
                  </a:lnTo>
                  <a:lnTo>
                    <a:pt x="2941" y="254"/>
                  </a:lnTo>
                  <a:lnTo>
                    <a:pt x="2948" y="254"/>
                  </a:lnTo>
                  <a:lnTo>
                    <a:pt x="2955" y="254"/>
                  </a:lnTo>
                  <a:lnTo>
                    <a:pt x="2962" y="254"/>
                  </a:lnTo>
                  <a:lnTo>
                    <a:pt x="2969" y="254"/>
                  </a:lnTo>
                </a:path>
              </a:pathLst>
            </a:custGeom>
            <a:noFill/>
            <a:ln cap="rnd" w="255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4280" y="2624040"/>
              <a:ext cx="4714920" cy="3711600"/>
            </a:xfrm>
            <a:custGeom>
              <a:avLst/>
              <a:gdLst/>
              <a:ahLst/>
              <a:rect l="l" t="t" r="r" b="b"/>
              <a:pathLst>
                <a:path w="2970" h="2338">
                  <a:moveTo>
                    <a:pt x="0" y="254"/>
                  </a:moveTo>
                  <a:lnTo>
                    <a:pt x="7" y="254"/>
                  </a:lnTo>
                  <a:lnTo>
                    <a:pt x="13" y="254"/>
                  </a:lnTo>
                  <a:lnTo>
                    <a:pt x="20" y="254"/>
                  </a:lnTo>
                  <a:lnTo>
                    <a:pt x="20" y="247"/>
                  </a:lnTo>
                  <a:lnTo>
                    <a:pt x="27" y="247"/>
                  </a:lnTo>
                  <a:lnTo>
                    <a:pt x="34" y="247"/>
                  </a:lnTo>
                  <a:lnTo>
                    <a:pt x="34" y="240"/>
                  </a:lnTo>
                  <a:lnTo>
                    <a:pt x="41" y="240"/>
                  </a:lnTo>
                  <a:lnTo>
                    <a:pt x="48" y="233"/>
                  </a:lnTo>
                  <a:lnTo>
                    <a:pt x="55" y="233"/>
                  </a:lnTo>
                  <a:lnTo>
                    <a:pt x="55" y="227"/>
                  </a:lnTo>
                  <a:lnTo>
                    <a:pt x="61" y="227"/>
                  </a:lnTo>
                  <a:lnTo>
                    <a:pt x="61" y="220"/>
                  </a:lnTo>
                  <a:lnTo>
                    <a:pt x="68" y="220"/>
                  </a:lnTo>
                  <a:lnTo>
                    <a:pt x="68" y="213"/>
                  </a:lnTo>
                  <a:lnTo>
                    <a:pt x="75" y="206"/>
                  </a:lnTo>
                  <a:lnTo>
                    <a:pt x="75" y="199"/>
                  </a:lnTo>
                  <a:lnTo>
                    <a:pt x="82" y="199"/>
                  </a:lnTo>
                  <a:lnTo>
                    <a:pt x="82" y="192"/>
                  </a:lnTo>
                  <a:lnTo>
                    <a:pt x="89" y="192"/>
                  </a:lnTo>
                  <a:lnTo>
                    <a:pt x="89" y="185"/>
                  </a:lnTo>
                  <a:lnTo>
                    <a:pt x="96" y="179"/>
                  </a:lnTo>
                  <a:lnTo>
                    <a:pt x="96" y="172"/>
                  </a:lnTo>
                  <a:lnTo>
                    <a:pt x="103" y="172"/>
                  </a:lnTo>
                  <a:lnTo>
                    <a:pt x="103" y="165"/>
                  </a:lnTo>
                  <a:lnTo>
                    <a:pt x="103" y="158"/>
                  </a:lnTo>
                  <a:lnTo>
                    <a:pt x="109" y="158"/>
                  </a:lnTo>
                  <a:lnTo>
                    <a:pt x="109" y="151"/>
                  </a:lnTo>
                  <a:lnTo>
                    <a:pt x="116" y="144"/>
                  </a:lnTo>
                  <a:lnTo>
                    <a:pt x="116" y="137"/>
                  </a:lnTo>
                  <a:lnTo>
                    <a:pt x="123" y="137"/>
                  </a:lnTo>
                  <a:lnTo>
                    <a:pt x="123" y="131"/>
                  </a:lnTo>
                  <a:lnTo>
                    <a:pt x="130" y="124"/>
                  </a:lnTo>
                  <a:lnTo>
                    <a:pt x="130" y="117"/>
                  </a:lnTo>
                  <a:lnTo>
                    <a:pt x="137" y="110"/>
                  </a:lnTo>
                  <a:lnTo>
                    <a:pt x="137" y="103"/>
                  </a:lnTo>
                  <a:lnTo>
                    <a:pt x="144" y="103"/>
                  </a:lnTo>
                  <a:lnTo>
                    <a:pt x="144" y="96"/>
                  </a:lnTo>
                  <a:lnTo>
                    <a:pt x="144" y="90"/>
                  </a:lnTo>
                  <a:lnTo>
                    <a:pt x="151" y="90"/>
                  </a:lnTo>
                  <a:lnTo>
                    <a:pt x="151" y="83"/>
                  </a:lnTo>
                  <a:lnTo>
                    <a:pt x="157" y="76"/>
                  </a:lnTo>
                  <a:lnTo>
                    <a:pt x="157" y="69"/>
                  </a:lnTo>
                  <a:lnTo>
                    <a:pt x="164" y="69"/>
                  </a:lnTo>
                  <a:lnTo>
                    <a:pt x="164" y="62"/>
                  </a:lnTo>
                  <a:lnTo>
                    <a:pt x="171" y="55"/>
                  </a:lnTo>
                  <a:lnTo>
                    <a:pt x="171" y="48"/>
                  </a:lnTo>
                  <a:lnTo>
                    <a:pt x="178" y="48"/>
                  </a:lnTo>
                  <a:lnTo>
                    <a:pt x="178" y="42"/>
                  </a:lnTo>
                  <a:lnTo>
                    <a:pt x="185" y="35"/>
                  </a:lnTo>
                  <a:lnTo>
                    <a:pt x="185" y="28"/>
                  </a:lnTo>
                  <a:lnTo>
                    <a:pt x="192" y="28"/>
                  </a:lnTo>
                  <a:lnTo>
                    <a:pt x="192" y="21"/>
                  </a:lnTo>
                  <a:lnTo>
                    <a:pt x="199" y="21"/>
                  </a:lnTo>
                  <a:lnTo>
                    <a:pt x="199" y="14"/>
                  </a:lnTo>
                  <a:lnTo>
                    <a:pt x="205" y="14"/>
                  </a:lnTo>
                  <a:lnTo>
                    <a:pt x="205" y="7"/>
                  </a:lnTo>
                  <a:lnTo>
                    <a:pt x="212" y="7"/>
                  </a:lnTo>
                  <a:lnTo>
                    <a:pt x="219" y="7"/>
                  </a:lnTo>
                  <a:lnTo>
                    <a:pt x="219" y="0"/>
                  </a:lnTo>
                  <a:lnTo>
                    <a:pt x="226" y="0"/>
                  </a:lnTo>
                  <a:lnTo>
                    <a:pt x="233" y="0"/>
                  </a:lnTo>
                  <a:lnTo>
                    <a:pt x="240" y="0"/>
                  </a:lnTo>
                  <a:lnTo>
                    <a:pt x="247" y="0"/>
                  </a:lnTo>
                  <a:lnTo>
                    <a:pt x="247" y="7"/>
                  </a:lnTo>
                  <a:lnTo>
                    <a:pt x="253" y="7"/>
                  </a:lnTo>
                  <a:lnTo>
                    <a:pt x="260" y="7"/>
                  </a:lnTo>
                  <a:lnTo>
                    <a:pt x="260" y="14"/>
                  </a:lnTo>
                  <a:lnTo>
                    <a:pt x="267" y="14"/>
                  </a:lnTo>
                  <a:lnTo>
                    <a:pt x="267" y="21"/>
                  </a:lnTo>
                  <a:lnTo>
                    <a:pt x="274" y="21"/>
                  </a:lnTo>
                  <a:lnTo>
                    <a:pt x="274" y="28"/>
                  </a:lnTo>
                  <a:lnTo>
                    <a:pt x="281" y="28"/>
                  </a:lnTo>
                  <a:lnTo>
                    <a:pt x="281" y="35"/>
                  </a:lnTo>
                  <a:lnTo>
                    <a:pt x="281" y="42"/>
                  </a:lnTo>
                  <a:lnTo>
                    <a:pt x="288" y="42"/>
                  </a:lnTo>
                  <a:lnTo>
                    <a:pt x="288" y="48"/>
                  </a:lnTo>
                  <a:lnTo>
                    <a:pt x="295" y="55"/>
                  </a:lnTo>
                  <a:lnTo>
                    <a:pt x="295" y="62"/>
                  </a:lnTo>
                  <a:lnTo>
                    <a:pt x="301" y="62"/>
                  </a:lnTo>
                  <a:lnTo>
                    <a:pt x="301" y="69"/>
                  </a:lnTo>
                  <a:lnTo>
                    <a:pt x="301" y="76"/>
                  </a:lnTo>
                  <a:lnTo>
                    <a:pt x="308" y="76"/>
                  </a:lnTo>
                  <a:lnTo>
                    <a:pt x="308" y="83"/>
                  </a:lnTo>
                  <a:lnTo>
                    <a:pt x="308" y="90"/>
                  </a:lnTo>
                  <a:lnTo>
                    <a:pt x="315" y="90"/>
                  </a:lnTo>
                  <a:lnTo>
                    <a:pt x="315" y="96"/>
                  </a:lnTo>
                  <a:lnTo>
                    <a:pt x="322" y="103"/>
                  </a:lnTo>
                  <a:lnTo>
                    <a:pt x="322" y="110"/>
                  </a:lnTo>
                  <a:lnTo>
                    <a:pt x="329" y="117"/>
                  </a:lnTo>
                  <a:lnTo>
                    <a:pt x="329" y="124"/>
                  </a:lnTo>
                  <a:lnTo>
                    <a:pt x="336" y="131"/>
                  </a:lnTo>
                  <a:lnTo>
                    <a:pt x="336" y="137"/>
                  </a:lnTo>
                  <a:lnTo>
                    <a:pt x="336" y="144"/>
                  </a:lnTo>
                  <a:lnTo>
                    <a:pt x="343" y="144"/>
                  </a:lnTo>
                  <a:lnTo>
                    <a:pt x="343" y="151"/>
                  </a:lnTo>
                  <a:lnTo>
                    <a:pt x="349" y="158"/>
                  </a:lnTo>
                  <a:lnTo>
                    <a:pt x="349" y="165"/>
                  </a:lnTo>
                  <a:lnTo>
                    <a:pt x="356" y="172"/>
                  </a:lnTo>
                  <a:lnTo>
                    <a:pt x="356" y="179"/>
                  </a:lnTo>
                  <a:lnTo>
                    <a:pt x="363" y="185"/>
                  </a:lnTo>
                  <a:lnTo>
                    <a:pt x="363" y="192"/>
                  </a:lnTo>
                  <a:lnTo>
                    <a:pt x="370" y="199"/>
                  </a:lnTo>
                  <a:lnTo>
                    <a:pt x="370" y="206"/>
                  </a:lnTo>
                  <a:lnTo>
                    <a:pt x="377" y="206"/>
                  </a:lnTo>
                  <a:lnTo>
                    <a:pt x="377" y="213"/>
                  </a:lnTo>
                  <a:lnTo>
                    <a:pt x="384" y="220"/>
                  </a:lnTo>
                  <a:lnTo>
                    <a:pt x="384" y="227"/>
                  </a:lnTo>
                  <a:lnTo>
                    <a:pt x="391" y="227"/>
                  </a:lnTo>
                  <a:lnTo>
                    <a:pt x="391" y="233"/>
                  </a:lnTo>
                  <a:lnTo>
                    <a:pt x="397" y="233"/>
                  </a:lnTo>
                  <a:lnTo>
                    <a:pt x="397" y="240"/>
                  </a:lnTo>
                  <a:lnTo>
                    <a:pt x="404" y="240"/>
                  </a:lnTo>
                  <a:lnTo>
                    <a:pt x="404" y="247"/>
                  </a:lnTo>
                  <a:lnTo>
                    <a:pt x="411" y="247"/>
                  </a:lnTo>
                  <a:lnTo>
                    <a:pt x="411" y="254"/>
                  </a:lnTo>
                  <a:lnTo>
                    <a:pt x="418" y="254"/>
                  </a:lnTo>
                  <a:lnTo>
                    <a:pt x="425" y="254"/>
                  </a:lnTo>
                  <a:lnTo>
                    <a:pt x="432" y="254"/>
                  </a:lnTo>
                  <a:lnTo>
                    <a:pt x="439" y="254"/>
                  </a:lnTo>
                  <a:lnTo>
                    <a:pt x="439" y="247"/>
                  </a:lnTo>
                  <a:lnTo>
                    <a:pt x="445" y="247"/>
                  </a:lnTo>
                  <a:lnTo>
                    <a:pt x="452" y="247"/>
                  </a:lnTo>
                  <a:lnTo>
                    <a:pt x="452" y="240"/>
                  </a:lnTo>
                  <a:lnTo>
                    <a:pt x="459" y="233"/>
                  </a:lnTo>
                  <a:lnTo>
                    <a:pt x="459" y="227"/>
                  </a:lnTo>
                  <a:lnTo>
                    <a:pt x="466" y="227"/>
                  </a:lnTo>
                  <a:lnTo>
                    <a:pt x="466" y="220"/>
                  </a:lnTo>
                  <a:lnTo>
                    <a:pt x="473" y="213"/>
                  </a:lnTo>
                  <a:lnTo>
                    <a:pt x="473" y="206"/>
                  </a:lnTo>
                  <a:lnTo>
                    <a:pt x="473" y="199"/>
                  </a:lnTo>
                  <a:lnTo>
                    <a:pt x="480" y="199"/>
                  </a:lnTo>
                  <a:lnTo>
                    <a:pt x="480" y="192"/>
                  </a:lnTo>
                  <a:lnTo>
                    <a:pt x="480" y="185"/>
                  </a:lnTo>
                  <a:lnTo>
                    <a:pt x="487" y="179"/>
                  </a:lnTo>
                  <a:lnTo>
                    <a:pt x="487" y="172"/>
                  </a:lnTo>
                  <a:lnTo>
                    <a:pt x="487" y="165"/>
                  </a:lnTo>
                  <a:lnTo>
                    <a:pt x="493" y="158"/>
                  </a:lnTo>
                  <a:lnTo>
                    <a:pt x="493" y="151"/>
                  </a:lnTo>
                  <a:lnTo>
                    <a:pt x="493" y="144"/>
                  </a:lnTo>
                  <a:lnTo>
                    <a:pt x="500" y="144"/>
                  </a:lnTo>
                  <a:lnTo>
                    <a:pt x="500" y="137"/>
                  </a:lnTo>
                  <a:lnTo>
                    <a:pt x="500" y="131"/>
                  </a:lnTo>
                  <a:lnTo>
                    <a:pt x="500" y="124"/>
                  </a:lnTo>
                  <a:lnTo>
                    <a:pt x="507" y="117"/>
                  </a:lnTo>
                  <a:lnTo>
                    <a:pt x="507" y="110"/>
                  </a:lnTo>
                  <a:lnTo>
                    <a:pt x="507" y="103"/>
                  </a:lnTo>
                  <a:lnTo>
                    <a:pt x="514" y="96"/>
                  </a:lnTo>
                  <a:lnTo>
                    <a:pt x="514" y="90"/>
                  </a:lnTo>
                  <a:lnTo>
                    <a:pt x="514" y="83"/>
                  </a:lnTo>
                  <a:lnTo>
                    <a:pt x="514" y="76"/>
                  </a:lnTo>
                  <a:lnTo>
                    <a:pt x="521" y="69"/>
                  </a:lnTo>
                  <a:lnTo>
                    <a:pt x="521" y="62"/>
                  </a:lnTo>
                  <a:lnTo>
                    <a:pt x="521" y="55"/>
                  </a:lnTo>
                  <a:lnTo>
                    <a:pt x="528" y="55"/>
                  </a:lnTo>
                  <a:lnTo>
                    <a:pt x="528" y="48"/>
                  </a:lnTo>
                  <a:lnTo>
                    <a:pt x="528" y="42"/>
                  </a:lnTo>
                  <a:lnTo>
                    <a:pt x="528" y="35"/>
                  </a:lnTo>
                  <a:lnTo>
                    <a:pt x="535" y="28"/>
                  </a:lnTo>
                  <a:lnTo>
                    <a:pt x="535" y="21"/>
                  </a:lnTo>
                  <a:lnTo>
                    <a:pt x="535" y="14"/>
                  </a:lnTo>
                  <a:lnTo>
                    <a:pt x="541" y="14"/>
                  </a:lnTo>
                  <a:lnTo>
                    <a:pt x="541" y="7"/>
                  </a:lnTo>
                  <a:lnTo>
                    <a:pt x="548" y="0"/>
                  </a:lnTo>
                  <a:lnTo>
                    <a:pt x="555" y="0"/>
                  </a:lnTo>
                  <a:lnTo>
                    <a:pt x="555" y="7"/>
                  </a:lnTo>
                  <a:lnTo>
                    <a:pt x="562" y="7"/>
                  </a:lnTo>
                  <a:lnTo>
                    <a:pt x="562" y="14"/>
                  </a:lnTo>
                  <a:lnTo>
                    <a:pt x="562" y="21"/>
                  </a:lnTo>
                  <a:lnTo>
                    <a:pt x="562" y="28"/>
                  </a:lnTo>
                  <a:lnTo>
                    <a:pt x="569" y="28"/>
                  </a:lnTo>
                  <a:lnTo>
                    <a:pt x="569" y="35"/>
                  </a:lnTo>
                  <a:lnTo>
                    <a:pt x="569" y="42"/>
                  </a:lnTo>
                  <a:lnTo>
                    <a:pt x="569" y="48"/>
                  </a:lnTo>
                  <a:lnTo>
                    <a:pt x="576" y="62"/>
                  </a:lnTo>
                  <a:lnTo>
                    <a:pt x="576" y="69"/>
                  </a:lnTo>
                  <a:lnTo>
                    <a:pt x="576" y="76"/>
                  </a:lnTo>
                  <a:lnTo>
                    <a:pt x="576" y="90"/>
                  </a:lnTo>
                  <a:lnTo>
                    <a:pt x="576" y="96"/>
                  </a:lnTo>
                  <a:lnTo>
                    <a:pt x="583" y="110"/>
                  </a:lnTo>
                  <a:lnTo>
                    <a:pt x="583" y="124"/>
                  </a:lnTo>
                  <a:lnTo>
                    <a:pt x="583" y="137"/>
                  </a:lnTo>
                  <a:lnTo>
                    <a:pt x="583" y="151"/>
                  </a:lnTo>
                  <a:lnTo>
                    <a:pt x="583" y="165"/>
                  </a:lnTo>
                  <a:lnTo>
                    <a:pt x="589" y="179"/>
                  </a:lnTo>
                  <a:lnTo>
                    <a:pt x="589" y="192"/>
                  </a:lnTo>
                  <a:lnTo>
                    <a:pt x="589" y="213"/>
                  </a:lnTo>
                  <a:lnTo>
                    <a:pt x="589" y="227"/>
                  </a:lnTo>
                  <a:lnTo>
                    <a:pt x="589" y="247"/>
                  </a:lnTo>
                  <a:lnTo>
                    <a:pt x="596" y="261"/>
                  </a:lnTo>
                  <a:lnTo>
                    <a:pt x="596" y="281"/>
                  </a:lnTo>
                  <a:lnTo>
                    <a:pt x="596" y="302"/>
                  </a:lnTo>
                  <a:lnTo>
                    <a:pt x="596" y="316"/>
                  </a:lnTo>
                  <a:lnTo>
                    <a:pt x="603" y="336"/>
                  </a:lnTo>
                  <a:lnTo>
                    <a:pt x="603" y="357"/>
                  </a:lnTo>
                  <a:lnTo>
                    <a:pt x="603" y="377"/>
                  </a:lnTo>
                  <a:lnTo>
                    <a:pt x="603" y="398"/>
                  </a:lnTo>
                  <a:lnTo>
                    <a:pt x="603" y="418"/>
                  </a:lnTo>
                  <a:lnTo>
                    <a:pt x="610" y="439"/>
                  </a:lnTo>
                  <a:lnTo>
                    <a:pt x="610" y="466"/>
                  </a:lnTo>
                  <a:lnTo>
                    <a:pt x="610" y="487"/>
                  </a:lnTo>
                  <a:lnTo>
                    <a:pt x="610" y="508"/>
                  </a:lnTo>
                  <a:lnTo>
                    <a:pt x="610" y="528"/>
                  </a:lnTo>
                  <a:lnTo>
                    <a:pt x="617" y="555"/>
                  </a:lnTo>
                  <a:lnTo>
                    <a:pt x="617" y="576"/>
                  </a:lnTo>
                  <a:lnTo>
                    <a:pt x="617" y="597"/>
                  </a:lnTo>
                  <a:lnTo>
                    <a:pt x="617" y="624"/>
                  </a:lnTo>
                  <a:lnTo>
                    <a:pt x="617" y="645"/>
                  </a:lnTo>
                  <a:lnTo>
                    <a:pt x="624" y="665"/>
                  </a:lnTo>
                  <a:lnTo>
                    <a:pt x="624" y="693"/>
                  </a:lnTo>
                  <a:lnTo>
                    <a:pt x="624" y="713"/>
                  </a:lnTo>
                  <a:lnTo>
                    <a:pt x="624" y="734"/>
                  </a:lnTo>
                  <a:lnTo>
                    <a:pt x="631" y="754"/>
                  </a:lnTo>
                  <a:lnTo>
                    <a:pt x="631" y="782"/>
                  </a:lnTo>
                  <a:lnTo>
                    <a:pt x="631" y="802"/>
                  </a:lnTo>
                  <a:lnTo>
                    <a:pt x="631" y="823"/>
                  </a:lnTo>
                  <a:lnTo>
                    <a:pt x="631" y="843"/>
                  </a:lnTo>
                  <a:lnTo>
                    <a:pt x="637" y="871"/>
                  </a:lnTo>
                  <a:lnTo>
                    <a:pt x="637" y="891"/>
                  </a:lnTo>
                  <a:lnTo>
                    <a:pt x="637" y="912"/>
                  </a:lnTo>
                  <a:lnTo>
                    <a:pt x="637" y="932"/>
                  </a:lnTo>
                  <a:lnTo>
                    <a:pt x="637" y="953"/>
                  </a:lnTo>
                  <a:lnTo>
                    <a:pt x="644" y="973"/>
                  </a:lnTo>
                  <a:lnTo>
                    <a:pt x="644" y="994"/>
                  </a:lnTo>
                  <a:lnTo>
                    <a:pt x="644" y="1015"/>
                  </a:lnTo>
                  <a:lnTo>
                    <a:pt x="644" y="1035"/>
                  </a:lnTo>
                  <a:lnTo>
                    <a:pt x="651" y="1056"/>
                  </a:lnTo>
                  <a:lnTo>
                    <a:pt x="651" y="1076"/>
                  </a:lnTo>
                  <a:lnTo>
                    <a:pt x="651" y="1097"/>
                  </a:lnTo>
                  <a:lnTo>
                    <a:pt x="651" y="1111"/>
                  </a:lnTo>
                  <a:lnTo>
                    <a:pt x="651" y="1131"/>
                  </a:lnTo>
                  <a:lnTo>
                    <a:pt x="658" y="1152"/>
                  </a:lnTo>
                  <a:lnTo>
                    <a:pt x="658" y="1172"/>
                  </a:lnTo>
                  <a:lnTo>
                    <a:pt x="658" y="1186"/>
                  </a:lnTo>
                  <a:lnTo>
                    <a:pt x="658" y="1206"/>
                  </a:lnTo>
                  <a:lnTo>
                    <a:pt x="658" y="1220"/>
                  </a:lnTo>
                  <a:lnTo>
                    <a:pt x="665" y="1241"/>
                  </a:lnTo>
                  <a:lnTo>
                    <a:pt x="665" y="1254"/>
                  </a:lnTo>
                  <a:lnTo>
                    <a:pt x="665" y="1275"/>
                  </a:lnTo>
                  <a:lnTo>
                    <a:pt x="665" y="1289"/>
                  </a:lnTo>
                  <a:lnTo>
                    <a:pt x="665" y="1309"/>
                  </a:lnTo>
                  <a:lnTo>
                    <a:pt x="672" y="1323"/>
                  </a:lnTo>
                  <a:lnTo>
                    <a:pt x="672" y="1337"/>
                  </a:lnTo>
                  <a:lnTo>
                    <a:pt x="672" y="1350"/>
                  </a:lnTo>
                  <a:lnTo>
                    <a:pt x="672" y="1371"/>
                  </a:lnTo>
                  <a:lnTo>
                    <a:pt x="679" y="1385"/>
                  </a:lnTo>
                  <a:lnTo>
                    <a:pt x="679" y="1398"/>
                  </a:lnTo>
                  <a:lnTo>
                    <a:pt x="679" y="1412"/>
                  </a:lnTo>
                  <a:lnTo>
                    <a:pt x="679" y="1426"/>
                  </a:lnTo>
                  <a:lnTo>
                    <a:pt x="679" y="1439"/>
                  </a:lnTo>
                  <a:lnTo>
                    <a:pt x="685" y="1453"/>
                  </a:lnTo>
                  <a:lnTo>
                    <a:pt x="685" y="1467"/>
                  </a:lnTo>
                  <a:lnTo>
                    <a:pt x="685" y="1481"/>
                  </a:lnTo>
                  <a:lnTo>
                    <a:pt x="685" y="1494"/>
                  </a:lnTo>
                  <a:lnTo>
                    <a:pt x="685" y="1508"/>
                  </a:lnTo>
                  <a:lnTo>
                    <a:pt x="692" y="1515"/>
                  </a:lnTo>
                  <a:lnTo>
                    <a:pt x="692" y="1529"/>
                  </a:lnTo>
                  <a:lnTo>
                    <a:pt x="692" y="1542"/>
                  </a:lnTo>
                  <a:lnTo>
                    <a:pt x="692" y="1556"/>
                  </a:lnTo>
                  <a:lnTo>
                    <a:pt x="692" y="1563"/>
                  </a:lnTo>
                  <a:lnTo>
                    <a:pt x="699" y="1576"/>
                  </a:lnTo>
                  <a:lnTo>
                    <a:pt x="699" y="1590"/>
                  </a:lnTo>
                  <a:lnTo>
                    <a:pt x="699" y="1597"/>
                  </a:lnTo>
                  <a:lnTo>
                    <a:pt x="699" y="1611"/>
                  </a:lnTo>
                  <a:lnTo>
                    <a:pt x="706" y="1618"/>
                  </a:lnTo>
                  <a:lnTo>
                    <a:pt x="706" y="1631"/>
                  </a:lnTo>
                  <a:lnTo>
                    <a:pt x="706" y="1638"/>
                  </a:lnTo>
                  <a:lnTo>
                    <a:pt x="706" y="1652"/>
                  </a:lnTo>
                  <a:lnTo>
                    <a:pt x="706" y="1659"/>
                  </a:lnTo>
                  <a:lnTo>
                    <a:pt x="713" y="1672"/>
                  </a:lnTo>
                  <a:lnTo>
                    <a:pt x="713" y="1679"/>
                  </a:lnTo>
                  <a:lnTo>
                    <a:pt x="713" y="1686"/>
                  </a:lnTo>
                  <a:lnTo>
                    <a:pt x="713" y="1700"/>
                  </a:lnTo>
                  <a:lnTo>
                    <a:pt x="713" y="1707"/>
                  </a:lnTo>
                  <a:lnTo>
                    <a:pt x="720" y="1714"/>
                  </a:lnTo>
                  <a:lnTo>
                    <a:pt x="720" y="1727"/>
                  </a:lnTo>
                  <a:lnTo>
                    <a:pt x="720" y="1734"/>
                  </a:lnTo>
                  <a:lnTo>
                    <a:pt x="720" y="1741"/>
                  </a:lnTo>
                  <a:lnTo>
                    <a:pt x="727" y="1748"/>
                  </a:lnTo>
                  <a:lnTo>
                    <a:pt x="727" y="1761"/>
                  </a:lnTo>
                  <a:lnTo>
                    <a:pt x="727" y="1768"/>
                  </a:lnTo>
                  <a:lnTo>
                    <a:pt x="727" y="1775"/>
                  </a:lnTo>
                  <a:lnTo>
                    <a:pt x="727" y="1782"/>
                  </a:lnTo>
                  <a:lnTo>
                    <a:pt x="733" y="1789"/>
                  </a:lnTo>
                  <a:lnTo>
                    <a:pt x="733" y="1796"/>
                  </a:lnTo>
                  <a:lnTo>
                    <a:pt x="733" y="1803"/>
                  </a:lnTo>
                  <a:lnTo>
                    <a:pt x="733" y="1809"/>
                  </a:lnTo>
                  <a:lnTo>
                    <a:pt x="733" y="1816"/>
                  </a:lnTo>
                  <a:lnTo>
                    <a:pt x="740" y="1823"/>
                  </a:lnTo>
                  <a:lnTo>
                    <a:pt x="740" y="1830"/>
                  </a:lnTo>
                  <a:lnTo>
                    <a:pt x="740" y="1837"/>
                  </a:lnTo>
                  <a:lnTo>
                    <a:pt x="740" y="1844"/>
                  </a:lnTo>
                  <a:lnTo>
                    <a:pt x="740" y="1851"/>
                  </a:lnTo>
                  <a:lnTo>
                    <a:pt x="747" y="1857"/>
                  </a:lnTo>
                  <a:lnTo>
                    <a:pt x="747" y="1864"/>
                  </a:lnTo>
                  <a:lnTo>
                    <a:pt x="747" y="1871"/>
                  </a:lnTo>
                  <a:lnTo>
                    <a:pt x="747" y="1878"/>
                  </a:lnTo>
                  <a:lnTo>
                    <a:pt x="754" y="1885"/>
                  </a:lnTo>
                  <a:lnTo>
                    <a:pt x="754" y="1892"/>
                  </a:lnTo>
                  <a:lnTo>
                    <a:pt x="754" y="1899"/>
                  </a:lnTo>
                  <a:lnTo>
                    <a:pt x="754" y="1905"/>
                  </a:lnTo>
                  <a:lnTo>
                    <a:pt x="761" y="1912"/>
                  </a:lnTo>
                  <a:lnTo>
                    <a:pt x="761" y="1919"/>
                  </a:lnTo>
                  <a:lnTo>
                    <a:pt x="761" y="1926"/>
                  </a:lnTo>
                  <a:lnTo>
                    <a:pt x="761" y="1933"/>
                  </a:lnTo>
                  <a:lnTo>
                    <a:pt x="768" y="1940"/>
                  </a:lnTo>
                  <a:lnTo>
                    <a:pt x="768" y="1947"/>
                  </a:lnTo>
                  <a:lnTo>
                    <a:pt x="768" y="1953"/>
                  </a:lnTo>
                  <a:lnTo>
                    <a:pt x="775" y="1960"/>
                  </a:lnTo>
                  <a:lnTo>
                    <a:pt x="775" y="1967"/>
                  </a:lnTo>
                  <a:lnTo>
                    <a:pt x="775" y="1974"/>
                  </a:lnTo>
                  <a:lnTo>
                    <a:pt x="781" y="1981"/>
                  </a:lnTo>
                  <a:lnTo>
                    <a:pt x="781" y="1988"/>
                  </a:lnTo>
                  <a:lnTo>
                    <a:pt x="781" y="1994"/>
                  </a:lnTo>
                  <a:lnTo>
                    <a:pt x="788" y="2001"/>
                  </a:lnTo>
                  <a:lnTo>
                    <a:pt x="788" y="2008"/>
                  </a:lnTo>
                  <a:lnTo>
                    <a:pt x="788" y="2015"/>
                  </a:lnTo>
                  <a:lnTo>
                    <a:pt x="795" y="2022"/>
                  </a:lnTo>
                  <a:lnTo>
                    <a:pt x="795" y="2029"/>
                  </a:lnTo>
                  <a:lnTo>
                    <a:pt x="795" y="2036"/>
                  </a:lnTo>
                  <a:lnTo>
                    <a:pt x="802" y="2036"/>
                  </a:lnTo>
                  <a:lnTo>
                    <a:pt x="802" y="2042"/>
                  </a:lnTo>
                  <a:lnTo>
                    <a:pt x="802" y="2049"/>
                  </a:lnTo>
                  <a:lnTo>
                    <a:pt x="809" y="2049"/>
                  </a:lnTo>
                  <a:lnTo>
                    <a:pt x="809" y="2056"/>
                  </a:lnTo>
                  <a:lnTo>
                    <a:pt x="809" y="2063"/>
                  </a:lnTo>
                  <a:lnTo>
                    <a:pt x="816" y="2070"/>
                  </a:lnTo>
                  <a:lnTo>
                    <a:pt x="816" y="2077"/>
                  </a:lnTo>
                  <a:lnTo>
                    <a:pt x="823" y="2084"/>
                  </a:lnTo>
                  <a:lnTo>
                    <a:pt x="823" y="2090"/>
                  </a:lnTo>
                  <a:lnTo>
                    <a:pt x="829" y="2090"/>
                  </a:lnTo>
                  <a:lnTo>
                    <a:pt x="829" y="2097"/>
                  </a:lnTo>
                  <a:lnTo>
                    <a:pt x="829" y="2104"/>
                  </a:lnTo>
                  <a:lnTo>
                    <a:pt x="836" y="2104"/>
                  </a:lnTo>
                  <a:lnTo>
                    <a:pt x="836" y="2111"/>
                  </a:lnTo>
                  <a:lnTo>
                    <a:pt x="836" y="2118"/>
                  </a:lnTo>
                  <a:lnTo>
                    <a:pt x="843" y="2118"/>
                  </a:lnTo>
                  <a:lnTo>
                    <a:pt x="843" y="2125"/>
                  </a:lnTo>
                  <a:lnTo>
                    <a:pt x="850" y="2132"/>
                  </a:lnTo>
                  <a:lnTo>
                    <a:pt x="850" y="2138"/>
                  </a:lnTo>
                  <a:lnTo>
                    <a:pt x="857" y="2138"/>
                  </a:lnTo>
                  <a:lnTo>
                    <a:pt x="857" y="2145"/>
                  </a:lnTo>
                  <a:lnTo>
                    <a:pt x="864" y="2145"/>
                  </a:lnTo>
                  <a:lnTo>
                    <a:pt x="864" y="2152"/>
                  </a:lnTo>
                  <a:lnTo>
                    <a:pt x="871" y="2159"/>
                  </a:lnTo>
                  <a:lnTo>
                    <a:pt x="871" y="2166"/>
                  </a:lnTo>
                  <a:lnTo>
                    <a:pt x="877" y="2166"/>
                  </a:lnTo>
                  <a:lnTo>
                    <a:pt x="877" y="2173"/>
                  </a:lnTo>
                  <a:lnTo>
                    <a:pt x="884" y="2173"/>
                  </a:lnTo>
                  <a:lnTo>
                    <a:pt x="884" y="2179"/>
                  </a:lnTo>
                  <a:lnTo>
                    <a:pt x="891" y="2179"/>
                  </a:lnTo>
                  <a:lnTo>
                    <a:pt x="891" y="2186"/>
                  </a:lnTo>
                  <a:lnTo>
                    <a:pt x="898" y="2186"/>
                  </a:lnTo>
                  <a:lnTo>
                    <a:pt x="898" y="2193"/>
                  </a:lnTo>
                  <a:lnTo>
                    <a:pt x="905" y="2193"/>
                  </a:lnTo>
                  <a:lnTo>
                    <a:pt x="905" y="2200"/>
                  </a:lnTo>
                  <a:lnTo>
                    <a:pt x="912" y="2200"/>
                  </a:lnTo>
                  <a:lnTo>
                    <a:pt x="912" y="2207"/>
                  </a:lnTo>
                  <a:lnTo>
                    <a:pt x="919" y="2207"/>
                  </a:lnTo>
                  <a:lnTo>
                    <a:pt x="919" y="2214"/>
                  </a:lnTo>
                  <a:lnTo>
                    <a:pt x="925" y="2214"/>
                  </a:lnTo>
                  <a:lnTo>
                    <a:pt x="932" y="2221"/>
                  </a:lnTo>
                  <a:lnTo>
                    <a:pt x="939" y="2221"/>
                  </a:lnTo>
                  <a:lnTo>
                    <a:pt x="939" y="2227"/>
                  </a:lnTo>
                  <a:lnTo>
                    <a:pt x="946" y="2227"/>
                  </a:lnTo>
                  <a:lnTo>
                    <a:pt x="946" y="2234"/>
                  </a:lnTo>
                  <a:lnTo>
                    <a:pt x="953" y="2234"/>
                  </a:lnTo>
                  <a:lnTo>
                    <a:pt x="960" y="2234"/>
                  </a:lnTo>
                  <a:lnTo>
                    <a:pt x="960" y="2241"/>
                  </a:lnTo>
                  <a:lnTo>
                    <a:pt x="967" y="2241"/>
                  </a:lnTo>
                  <a:lnTo>
                    <a:pt x="973" y="2248"/>
                  </a:lnTo>
                  <a:lnTo>
                    <a:pt x="980" y="2248"/>
                  </a:lnTo>
                  <a:lnTo>
                    <a:pt x="987" y="2255"/>
                  </a:lnTo>
                  <a:lnTo>
                    <a:pt x="994" y="2255"/>
                  </a:lnTo>
                  <a:lnTo>
                    <a:pt x="1001" y="2262"/>
                  </a:lnTo>
                  <a:lnTo>
                    <a:pt x="1008" y="2262"/>
                  </a:lnTo>
                  <a:lnTo>
                    <a:pt x="1015" y="2262"/>
                  </a:lnTo>
                  <a:lnTo>
                    <a:pt x="1015" y="2269"/>
                  </a:lnTo>
                  <a:lnTo>
                    <a:pt x="1021" y="2269"/>
                  </a:lnTo>
                  <a:lnTo>
                    <a:pt x="1028" y="2269"/>
                  </a:lnTo>
                  <a:lnTo>
                    <a:pt x="1035" y="2275"/>
                  </a:lnTo>
                  <a:lnTo>
                    <a:pt x="1042" y="2275"/>
                  </a:lnTo>
                  <a:lnTo>
                    <a:pt x="1049" y="2275"/>
                  </a:lnTo>
                  <a:lnTo>
                    <a:pt x="1049" y="2282"/>
                  </a:lnTo>
                  <a:lnTo>
                    <a:pt x="1056" y="2282"/>
                  </a:lnTo>
                  <a:lnTo>
                    <a:pt x="1063" y="2282"/>
                  </a:lnTo>
                  <a:lnTo>
                    <a:pt x="1069" y="2282"/>
                  </a:lnTo>
                  <a:lnTo>
                    <a:pt x="1076" y="2289"/>
                  </a:lnTo>
                  <a:lnTo>
                    <a:pt x="1083" y="2289"/>
                  </a:lnTo>
                  <a:lnTo>
                    <a:pt x="1090" y="2289"/>
                  </a:lnTo>
                  <a:lnTo>
                    <a:pt x="1097" y="2289"/>
                  </a:lnTo>
                  <a:lnTo>
                    <a:pt x="1104" y="2296"/>
                  </a:lnTo>
                  <a:lnTo>
                    <a:pt x="1111" y="2296"/>
                  </a:lnTo>
                  <a:lnTo>
                    <a:pt x="1117" y="2296"/>
                  </a:lnTo>
                  <a:lnTo>
                    <a:pt x="1124" y="2296"/>
                  </a:lnTo>
                  <a:lnTo>
                    <a:pt x="1131" y="2296"/>
                  </a:lnTo>
                  <a:lnTo>
                    <a:pt x="1131" y="2303"/>
                  </a:lnTo>
                  <a:lnTo>
                    <a:pt x="1138" y="2303"/>
                  </a:lnTo>
                  <a:lnTo>
                    <a:pt x="1145" y="2303"/>
                  </a:lnTo>
                  <a:lnTo>
                    <a:pt x="1152" y="2303"/>
                  </a:lnTo>
                  <a:lnTo>
                    <a:pt x="1159" y="2303"/>
                  </a:lnTo>
                  <a:lnTo>
                    <a:pt x="1165" y="2303"/>
                  </a:lnTo>
                  <a:lnTo>
                    <a:pt x="1172" y="2303"/>
                  </a:lnTo>
                  <a:lnTo>
                    <a:pt x="1172" y="2310"/>
                  </a:lnTo>
                  <a:lnTo>
                    <a:pt x="1179" y="2310"/>
                  </a:lnTo>
                  <a:lnTo>
                    <a:pt x="1186" y="2310"/>
                  </a:lnTo>
                  <a:lnTo>
                    <a:pt x="1193" y="2310"/>
                  </a:lnTo>
                  <a:lnTo>
                    <a:pt x="1200" y="2310"/>
                  </a:lnTo>
                  <a:lnTo>
                    <a:pt x="1207" y="2310"/>
                  </a:lnTo>
                  <a:lnTo>
                    <a:pt x="1213" y="2310"/>
                  </a:lnTo>
                  <a:lnTo>
                    <a:pt x="1220" y="2310"/>
                  </a:lnTo>
                  <a:lnTo>
                    <a:pt x="1220" y="2317"/>
                  </a:lnTo>
                  <a:lnTo>
                    <a:pt x="1227" y="2317"/>
                  </a:lnTo>
                  <a:lnTo>
                    <a:pt x="1234" y="2317"/>
                  </a:lnTo>
                  <a:lnTo>
                    <a:pt x="1241" y="2317"/>
                  </a:lnTo>
                  <a:lnTo>
                    <a:pt x="1248" y="2317"/>
                  </a:lnTo>
                  <a:lnTo>
                    <a:pt x="1255" y="2317"/>
                  </a:lnTo>
                  <a:lnTo>
                    <a:pt x="1261" y="2317"/>
                  </a:lnTo>
                  <a:lnTo>
                    <a:pt x="1268" y="2317"/>
                  </a:lnTo>
                  <a:lnTo>
                    <a:pt x="1275" y="2317"/>
                  </a:lnTo>
                  <a:lnTo>
                    <a:pt x="1282" y="2317"/>
                  </a:lnTo>
                  <a:lnTo>
                    <a:pt x="1289" y="2317"/>
                  </a:lnTo>
                  <a:lnTo>
                    <a:pt x="1296" y="2323"/>
                  </a:lnTo>
                  <a:lnTo>
                    <a:pt x="1303" y="2323"/>
                  </a:lnTo>
                  <a:lnTo>
                    <a:pt x="1309" y="2323"/>
                  </a:lnTo>
                  <a:lnTo>
                    <a:pt x="1316" y="2323"/>
                  </a:lnTo>
                  <a:lnTo>
                    <a:pt x="1323" y="2323"/>
                  </a:lnTo>
                  <a:lnTo>
                    <a:pt x="1330" y="2323"/>
                  </a:lnTo>
                  <a:lnTo>
                    <a:pt x="1337" y="2323"/>
                  </a:lnTo>
                  <a:lnTo>
                    <a:pt x="1344" y="2323"/>
                  </a:lnTo>
                  <a:lnTo>
                    <a:pt x="1351" y="2323"/>
                  </a:lnTo>
                  <a:lnTo>
                    <a:pt x="1357" y="2323"/>
                  </a:lnTo>
                  <a:lnTo>
                    <a:pt x="1364" y="2323"/>
                  </a:lnTo>
                  <a:lnTo>
                    <a:pt x="1371" y="2323"/>
                  </a:lnTo>
                  <a:lnTo>
                    <a:pt x="1378" y="2323"/>
                  </a:lnTo>
                  <a:lnTo>
                    <a:pt x="1385" y="2323"/>
                  </a:lnTo>
                  <a:lnTo>
                    <a:pt x="1392" y="2323"/>
                  </a:lnTo>
                  <a:lnTo>
                    <a:pt x="1399" y="2323"/>
                  </a:lnTo>
                  <a:lnTo>
                    <a:pt x="1405" y="2323"/>
                  </a:lnTo>
                  <a:lnTo>
                    <a:pt x="1405" y="2330"/>
                  </a:lnTo>
                  <a:lnTo>
                    <a:pt x="1412" y="2330"/>
                  </a:lnTo>
                  <a:lnTo>
                    <a:pt x="1419" y="2330"/>
                  </a:lnTo>
                  <a:lnTo>
                    <a:pt x="1426" y="2330"/>
                  </a:lnTo>
                  <a:lnTo>
                    <a:pt x="1433" y="2330"/>
                  </a:lnTo>
                  <a:lnTo>
                    <a:pt x="1440" y="2330"/>
                  </a:lnTo>
                  <a:lnTo>
                    <a:pt x="1447" y="2330"/>
                  </a:lnTo>
                  <a:lnTo>
                    <a:pt x="1453" y="2330"/>
                  </a:lnTo>
                  <a:lnTo>
                    <a:pt x="1460" y="2330"/>
                  </a:lnTo>
                  <a:lnTo>
                    <a:pt x="1467" y="2330"/>
                  </a:lnTo>
                  <a:lnTo>
                    <a:pt x="1474" y="2330"/>
                  </a:lnTo>
                  <a:lnTo>
                    <a:pt x="1481" y="2330"/>
                  </a:lnTo>
                  <a:lnTo>
                    <a:pt x="1488" y="2330"/>
                  </a:lnTo>
                  <a:lnTo>
                    <a:pt x="1495" y="2330"/>
                  </a:lnTo>
                  <a:lnTo>
                    <a:pt x="1501" y="2330"/>
                  </a:lnTo>
                  <a:lnTo>
                    <a:pt x="1508" y="2330"/>
                  </a:lnTo>
                  <a:lnTo>
                    <a:pt x="1515" y="2330"/>
                  </a:lnTo>
                  <a:lnTo>
                    <a:pt x="1522" y="2330"/>
                  </a:lnTo>
                  <a:lnTo>
                    <a:pt x="1529" y="2330"/>
                  </a:lnTo>
                  <a:lnTo>
                    <a:pt x="1536" y="2330"/>
                  </a:lnTo>
                  <a:lnTo>
                    <a:pt x="1543" y="2330"/>
                  </a:lnTo>
                  <a:lnTo>
                    <a:pt x="1549" y="2330"/>
                  </a:lnTo>
                  <a:lnTo>
                    <a:pt x="1556" y="2330"/>
                  </a:lnTo>
                  <a:lnTo>
                    <a:pt x="1563" y="2330"/>
                  </a:lnTo>
                  <a:lnTo>
                    <a:pt x="1570" y="2330"/>
                  </a:lnTo>
                  <a:lnTo>
                    <a:pt x="1577" y="2330"/>
                  </a:lnTo>
                  <a:lnTo>
                    <a:pt x="1584" y="2330"/>
                  </a:lnTo>
                  <a:lnTo>
                    <a:pt x="1591" y="2330"/>
                  </a:lnTo>
                  <a:lnTo>
                    <a:pt x="1597" y="2330"/>
                  </a:lnTo>
                  <a:lnTo>
                    <a:pt x="1604" y="2330"/>
                  </a:lnTo>
                  <a:lnTo>
                    <a:pt x="1611" y="2330"/>
                  </a:lnTo>
                  <a:lnTo>
                    <a:pt x="1618" y="2330"/>
                  </a:lnTo>
                  <a:lnTo>
                    <a:pt x="1625" y="2330"/>
                  </a:lnTo>
                  <a:lnTo>
                    <a:pt x="1632" y="2330"/>
                  </a:lnTo>
                  <a:lnTo>
                    <a:pt x="1639" y="2330"/>
                  </a:lnTo>
                  <a:lnTo>
                    <a:pt x="1645" y="2330"/>
                  </a:lnTo>
                  <a:lnTo>
                    <a:pt x="1652" y="2337"/>
                  </a:lnTo>
                  <a:lnTo>
                    <a:pt x="1659" y="2337"/>
                  </a:lnTo>
                  <a:lnTo>
                    <a:pt x="1666" y="2337"/>
                  </a:lnTo>
                  <a:lnTo>
                    <a:pt x="1673" y="2337"/>
                  </a:lnTo>
                  <a:lnTo>
                    <a:pt x="1680" y="2337"/>
                  </a:lnTo>
                  <a:lnTo>
                    <a:pt x="1687" y="2337"/>
                  </a:lnTo>
                  <a:lnTo>
                    <a:pt x="1693" y="2337"/>
                  </a:lnTo>
                  <a:lnTo>
                    <a:pt x="1700" y="2337"/>
                  </a:lnTo>
                  <a:lnTo>
                    <a:pt x="1707" y="2337"/>
                  </a:lnTo>
                  <a:lnTo>
                    <a:pt x="1714" y="2337"/>
                  </a:lnTo>
                  <a:lnTo>
                    <a:pt x="1721" y="2337"/>
                  </a:lnTo>
                  <a:lnTo>
                    <a:pt x="1728" y="2337"/>
                  </a:lnTo>
                  <a:lnTo>
                    <a:pt x="1735" y="2337"/>
                  </a:lnTo>
                  <a:lnTo>
                    <a:pt x="1741" y="2337"/>
                  </a:lnTo>
                  <a:lnTo>
                    <a:pt x="1748" y="2337"/>
                  </a:lnTo>
                  <a:lnTo>
                    <a:pt x="1755" y="2337"/>
                  </a:lnTo>
                  <a:lnTo>
                    <a:pt x="1762" y="2337"/>
                  </a:lnTo>
                  <a:lnTo>
                    <a:pt x="1769" y="2337"/>
                  </a:lnTo>
                  <a:lnTo>
                    <a:pt x="1776" y="2337"/>
                  </a:lnTo>
                  <a:lnTo>
                    <a:pt x="1783" y="2337"/>
                  </a:lnTo>
                  <a:lnTo>
                    <a:pt x="1789" y="2337"/>
                  </a:lnTo>
                  <a:lnTo>
                    <a:pt x="1796" y="2337"/>
                  </a:lnTo>
                  <a:lnTo>
                    <a:pt x="1803" y="2337"/>
                  </a:lnTo>
                  <a:lnTo>
                    <a:pt x="1810" y="2337"/>
                  </a:lnTo>
                  <a:lnTo>
                    <a:pt x="1817" y="2337"/>
                  </a:lnTo>
                  <a:lnTo>
                    <a:pt x="1824" y="2337"/>
                  </a:lnTo>
                  <a:lnTo>
                    <a:pt x="1831" y="2337"/>
                  </a:lnTo>
                  <a:lnTo>
                    <a:pt x="1837" y="2337"/>
                  </a:lnTo>
                  <a:lnTo>
                    <a:pt x="1844" y="2337"/>
                  </a:lnTo>
                  <a:lnTo>
                    <a:pt x="1851" y="2337"/>
                  </a:lnTo>
                  <a:lnTo>
                    <a:pt x="1858" y="2337"/>
                  </a:lnTo>
                  <a:lnTo>
                    <a:pt x="1865" y="2337"/>
                  </a:lnTo>
                  <a:lnTo>
                    <a:pt x="1872" y="2337"/>
                  </a:lnTo>
                  <a:lnTo>
                    <a:pt x="1879" y="2337"/>
                  </a:lnTo>
                  <a:lnTo>
                    <a:pt x="1885" y="2337"/>
                  </a:lnTo>
                  <a:lnTo>
                    <a:pt x="1892" y="2337"/>
                  </a:lnTo>
                  <a:lnTo>
                    <a:pt x="1899" y="2337"/>
                  </a:lnTo>
                  <a:lnTo>
                    <a:pt x="1906" y="2337"/>
                  </a:lnTo>
                  <a:lnTo>
                    <a:pt x="1913" y="2337"/>
                  </a:lnTo>
                  <a:lnTo>
                    <a:pt x="1920" y="2337"/>
                  </a:lnTo>
                  <a:lnTo>
                    <a:pt x="1927" y="2337"/>
                  </a:lnTo>
                  <a:lnTo>
                    <a:pt x="1933" y="2337"/>
                  </a:lnTo>
                  <a:lnTo>
                    <a:pt x="1940" y="2337"/>
                  </a:lnTo>
                  <a:lnTo>
                    <a:pt x="1947" y="2337"/>
                  </a:lnTo>
                  <a:lnTo>
                    <a:pt x="1954" y="2337"/>
                  </a:lnTo>
                  <a:lnTo>
                    <a:pt x="1961" y="2337"/>
                  </a:lnTo>
                  <a:lnTo>
                    <a:pt x="1968" y="2337"/>
                  </a:lnTo>
                  <a:lnTo>
                    <a:pt x="1975" y="2337"/>
                  </a:lnTo>
                  <a:lnTo>
                    <a:pt x="1981" y="2337"/>
                  </a:lnTo>
                  <a:lnTo>
                    <a:pt x="1988" y="2337"/>
                  </a:lnTo>
                  <a:lnTo>
                    <a:pt x="1995" y="2337"/>
                  </a:lnTo>
                  <a:lnTo>
                    <a:pt x="2002" y="2337"/>
                  </a:lnTo>
                  <a:lnTo>
                    <a:pt x="2009" y="2337"/>
                  </a:lnTo>
                  <a:lnTo>
                    <a:pt x="2016" y="2337"/>
                  </a:lnTo>
                  <a:lnTo>
                    <a:pt x="2023" y="2337"/>
                  </a:lnTo>
                  <a:lnTo>
                    <a:pt x="2029" y="2337"/>
                  </a:lnTo>
                  <a:lnTo>
                    <a:pt x="2036" y="2337"/>
                  </a:lnTo>
                  <a:lnTo>
                    <a:pt x="2043" y="2337"/>
                  </a:lnTo>
                  <a:lnTo>
                    <a:pt x="2050" y="2337"/>
                  </a:lnTo>
                  <a:lnTo>
                    <a:pt x="2057" y="2337"/>
                  </a:lnTo>
                  <a:lnTo>
                    <a:pt x="2064" y="2337"/>
                  </a:lnTo>
                  <a:lnTo>
                    <a:pt x="2071" y="2337"/>
                  </a:lnTo>
                  <a:lnTo>
                    <a:pt x="2077" y="2337"/>
                  </a:lnTo>
                  <a:lnTo>
                    <a:pt x="2084" y="2337"/>
                  </a:lnTo>
                  <a:lnTo>
                    <a:pt x="2091" y="2337"/>
                  </a:lnTo>
                  <a:lnTo>
                    <a:pt x="2098" y="2337"/>
                  </a:lnTo>
                  <a:lnTo>
                    <a:pt x="2105" y="2337"/>
                  </a:lnTo>
                  <a:lnTo>
                    <a:pt x="2112" y="2337"/>
                  </a:lnTo>
                  <a:lnTo>
                    <a:pt x="2119" y="2337"/>
                  </a:lnTo>
                  <a:lnTo>
                    <a:pt x="2125" y="2337"/>
                  </a:lnTo>
                  <a:lnTo>
                    <a:pt x="2132" y="2337"/>
                  </a:lnTo>
                  <a:lnTo>
                    <a:pt x="2139" y="2337"/>
                  </a:lnTo>
                  <a:lnTo>
                    <a:pt x="2146" y="2337"/>
                  </a:lnTo>
                  <a:lnTo>
                    <a:pt x="2153" y="2337"/>
                  </a:lnTo>
                  <a:lnTo>
                    <a:pt x="2160" y="2337"/>
                  </a:lnTo>
                  <a:lnTo>
                    <a:pt x="2167" y="2337"/>
                  </a:lnTo>
                  <a:lnTo>
                    <a:pt x="2173" y="2337"/>
                  </a:lnTo>
                  <a:lnTo>
                    <a:pt x="2180" y="2337"/>
                  </a:lnTo>
                  <a:lnTo>
                    <a:pt x="2187" y="2337"/>
                  </a:lnTo>
                  <a:lnTo>
                    <a:pt x="2194" y="2337"/>
                  </a:lnTo>
                  <a:lnTo>
                    <a:pt x="2201" y="2337"/>
                  </a:lnTo>
                  <a:lnTo>
                    <a:pt x="2208" y="2337"/>
                  </a:lnTo>
                  <a:lnTo>
                    <a:pt x="2215" y="2337"/>
                  </a:lnTo>
                  <a:lnTo>
                    <a:pt x="2221" y="2337"/>
                  </a:lnTo>
                  <a:lnTo>
                    <a:pt x="2228" y="2337"/>
                  </a:lnTo>
                  <a:lnTo>
                    <a:pt x="2235" y="2337"/>
                  </a:lnTo>
                  <a:lnTo>
                    <a:pt x="2242" y="2337"/>
                  </a:lnTo>
                  <a:lnTo>
                    <a:pt x="2249" y="2337"/>
                  </a:lnTo>
                  <a:lnTo>
                    <a:pt x="2256" y="2337"/>
                  </a:lnTo>
                  <a:lnTo>
                    <a:pt x="2263" y="2337"/>
                  </a:lnTo>
                  <a:lnTo>
                    <a:pt x="2269" y="2337"/>
                  </a:lnTo>
                  <a:lnTo>
                    <a:pt x="2276" y="2337"/>
                  </a:lnTo>
                  <a:lnTo>
                    <a:pt x="2283" y="2337"/>
                  </a:lnTo>
                  <a:lnTo>
                    <a:pt x="2290" y="2337"/>
                  </a:lnTo>
                  <a:lnTo>
                    <a:pt x="2297" y="2337"/>
                  </a:lnTo>
                  <a:lnTo>
                    <a:pt x="2304" y="2337"/>
                  </a:lnTo>
                  <a:lnTo>
                    <a:pt x="2311" y="2337"/>
                  </a:lnTo>
                  <a:lnTo>
                    <a:pt x="2317" y="2337"/>
                  </a:lnTo>
                  <a:lnTo>
                    <a:pt x="2324" y="2337"/>
                  </a:lnTo>
                  <a:lnTo>
                    <a:pt x="2331" y="2337"/>
                  </a:lnTo>
                  <a:lnTo>
                    <a:pt x="2338" y="2337"/>
                  </a:lnTo>
                  <a:lnTo>
                    <a:pt x="2345" y="2337"/>
                  </a:lnTo>
                  <a:lnTo>
                    <a:pt x="2352" y="2337"/>
                  </a:lnTo>
                  <a:lnTo>
                    <a:pt x="2359" y="2337"/>
                  </a:lnTo>
                  <a:lnTo>
                    <a:pt x="2365" y="2337"/>
                  </a:lnTo>
                  <a:lnTo>
                    <a:pt x="2372" y="2337"/>
                  </a:lnTo>
                  <a:lnTo>
                    <a:pt x="2379" y="2337"/>
                  </a:lnTo>
                  <a:lnTo>
                    <a:pt x="2386" y="2337"/>
                  </a:lnTo>
                  <a:lnTo>
                    <a:pt x="2393" y="2337"/>
                  </a:lnTo>
                  <a:lnTo>
                    <a:pt x="2400" y="2337"/>
                  </a:lnTo>
                  <a:lnTo>
                    <a:pt x="2407" y="2337"/>
                  </a:lnTo>
                  <a:lnTo>
                    <a:pt x="2413" y="2337"/>
                  </a:lnTo>
                  <a:lnTo>
                    <a:pt x="2420" y="2337"/>
                  </a:lnTo>
                  <a:lnTo>
                    <a:pt x="2427" y="2337"/>
                  </a:lnTo>
                  <a:lnTo>
                    <a:pt x="2434" y="2337"/>
                  </a:lnTo>
                  <a:lnTo>
                    <a:pt x="2441" y="2337"/>
                  </a:lnTo>
                  <a:lnTo>
                    <a:pt x="2448" y="2337"/>
                  </a:lnTo>
                  <a:lnTo>
                    <a:pt x="2455" y="2337"/>
                  </a:lnTo>
                  <a:lnTo>
                    <a:pt x="2461" y="2337"/>
                  </a:lnTo>
                  <a:lnTo>
                    <a:pt x="2468" y="2337"/>
                  </a:lnTo>
                  <a:lnTo>
                    <a:pt x="2475" y="2337"/>
                  </a:lnTo>
                  <a:lnTo>
                    <a:pt x="2482" y="2337"/>
                  </a:lnTo>
                  <a:lnTo>
                    <a:pt x="2489" y="2337"/>
                  </a:lnTo>
                  <a:lnTo>
                    <a:pt x="2496" y="2337"/>
                  </a:lnTo>
                  <a:lnTo>
                    <a:pt x="2503" y="2337"/>
                  </a:lnTo>
                  <a:lnTo>
                    <a:pt x="2509" y="2337"/>
                  </a:lnTo>
                  <a:lnTo>
                    <a:pt x="2516" y="2337"/>
                  </a:lnTo>
                  <a:lnTo>
                    <a:pt x="2523" y="2337"/>
                  </a:lnTo>
                  <a:lnTo>
                    <a:pt x="2530" y="2337"/>
                  </a:lnTo>
                  <a:lnTo>
                    <a:pt x="2537" y="2337"/>
                  </a:lnTo>
                  <a:lnTo>
                    <a:pt x="2544" y="2337"/>
                  </a:lnTo>
                  <a:lnTo>
                    <a:pt x="2551" y="2337"/>
                  </a:lnTo>
                  <a:lnTo>
                    <a:pt x="2557" y="2337"/>
                  </a:lnTo>
                  <a:lnTo>
                    <a:pt x="2564" y="2337"/>
                  </a:lnTo>
                  <a:lnTo>
                    <a:pt x="2571" y="2337"/>
                  </a:lnTo>
                  <a:lnTo>
                    <a:pt x="2578" y="2337"/>
                  </a:lnTo>
                  <a:lnTo>
                    <a:pt x="2585" y="2337"/>
                  </a:lnTo>
                  <a:lnTo>
                    <a:pt x="2592" y="2337"/>
                  </a:lnTo>
                  <a:lnTo>
                    <a:pt x="2599" y="2337"/>
                  </a:lnTo>
                  <a:lnTo>
                    <a:pt x="2605" y="2337"/>
                  </a:lnTo>
                  <a:lnTo>
                    <a:pt x="2612" y="2337"/>
                  </a:lnTo>
                  <a:lnTo>
                    <a:pt x="2619" y="2337"/>
                  </a:lnTo>
                  <a:lnTo>
                    <a:pt x="2626" y="2337"/>
                  </a:lnTo>
                  <a:lnTo>
                    <a:pt x="2633" y="2337"/>
                  </a:lnTo>
                  <a:lnTo>
                    <a:pt x="2640" y="2337"/>
                  </a:lnTo>
                  <a:lnTo>
                    <a:pt x="2647" y="2337"/>
                  </a:lnTo>
                  <a:lnTo>
                    <a:pt x="2653" y="2337"/>
                  </a:lnTo>
                  <a:lnTo>
                    <a:pt x="2660" y="2337"/>
                  </a:lnTo>
                  <a:lnTo>
                    <a:pt x="2667" y="2337"/>
                  </a:lnTo>
                  <a:lnTo>
                    <a:pt x="2674" y="2337"/>
                  </a:lnTo>
                  <a:lnTo>
                    <a:pt x="2681" y="2337"/>
                  </a:lnTo>
                  <a:lnTo>
                    <a:pt x="2688" y="2337"/>
                  </a:lnTo>
                  <a:lnTo>
                    <a:pt x="2695" y="2337"/>
                  </a:lnTo>
                  <a:lnTo>
                    <a:pt x="2701" y="2337"/>
                  </a:lnTo>
                  <a:lnTo>
                    <a:pt x="2708" y="2337"/>
                  </a:lnTo>
                  <a:lnTo>
                    <a:pt x="2715" y="2337"/>
                  </a:lnTo>
                  <a:lnTo>
                    <a:pt x="2722" y="2337"/>
                  </a:lnTo>
                  <a:lnTo>
                    <a:pt x="2729" y="2337"/>
                  </a:lnTo>
                  <a:lnTo>
                    <a:pt x="2736" y="2337"/>
                  </a:lnTo>
                  <a:lnTo>
                    <a:pt x="2743" y="2337"/>
                  </a:lnTo>
                  <a:lnTo>
                    <a:pt x="2749" y="2337"/>
                  </a:lnTo>
                  <a:lnTo>
                    <a:pt x="2756" y="2337"/>
                  </a:lnTo>
                  <a:lnTo>
                    <a:pt x="2763" y="2337"/>
                  </a:lnTo>
                  <a:lnTo>
                    <a:pt x="2770" y="2337"/>
                  </a:lnTo>
                  <a:lnTo>
                    <a:pt x="2777" y="2337"/>
                  </a:lnTo>
                  <a:lnTo>
                    <a:pt x="2784" y="2337"/>
                  </a:lnTo>
                  <a:lnTo>
                    <a:pt x="2791" y="2337"/>
                  </a:lnTo>
                  <a:lnTo>
                    <a:pt x="2797" y="2337"/>
                  </a:lnTo>
                  <a:lnTo>
                    <a:pt x="2804" y="2337"/>
                  </a:lnTo>
                  <a:lnTo>
                    <a:pt x="2811" y="2337"/>
                  </a:lnTo>
                  <a:lnTo>
                    <a:pt x="2818" y="2337"/>
                  </a:lnTo>
                  <a:lnTo>
                    <a:pt x="2825" y="2337"/>
                  </a:lnTo>
                  <a:lnTo>
                    <a:pt x="2832" y="2337"/>
                  </a:lnTo>
                  <a:lnTo>
                    <a:pt x="2839" y="2337"/>
                  </a:lnTo>
                  <a:lnTo>
                    <a:pt x="2845" y="2337"/>
                  </a:lnTo>
                  <a:lnTo>
                    <a:pt x="2852" y="2337"/>
                  </a:lnTo>
                  <a:lnTo>
                    <a:pt x="2859" y="2337"/>
                  </a:lnTo>
                  <a:lnTo>
                    <a:pt x="2866" y="2337"/>
                  </a:lnTo>
                  <a:lnTo>
                    <a:pt x="2873" y="2337"/>
                  </a:lnTo>
                  <a:lnTo>
                    <a:pt x="2880" y="2337"/>
                  </a:lnTo>
                  <a:lnTo>
                    <a:pt x="2887" y="2337"/>
                  </a:lnTo>
                  <a:lnTo>
                    <a:pt x="2893" y="2337"/>
                  </a:lnTo>
                  <a:lnTo>
                    <a:pt x="2900" y="2337"/>
                  </a:lnTo>
                  <a:lnTo>
                    <a:pt x="2907" y="2337"/>
                  </a:lnTo>
                  <a:lnTo>
                    <a:pt x="2914" y="2337"/>
                  </a:lnTo>
                  <a:lnTo>
                    <a:pt x="2921" y="2337"/>
                  </a:lnTo>
                  <a:lnTo>
                    <a:pt x="2928" y="2337"/>
                  </a:lnTo>
                  <a:lnTo>
                    <a:pt x="2935" y="2337"/>
                  </a:lnTo>
                  <a:lnTo>
                    <a:pt x="2941" y="2337"/>
                  </a:lnTo>
                  <a:lnTo>
                    <a:pt x="2948" y="2337"/>
                  </a:lnTo>
                  <a:lnTo>
                    <a:pt x="2955" y="2337"/>
                  </a:lnTo>
                  <a:lnTo>
                    <a:pt x="2962" y="2337"/>
                  </a:lnTo>
                  <a:lnTo>
                    <a:pt x="2969" y="2337"/>
                  </a:lnTo>
                </a:path>
              </a:pathLst>
            </a:custGeom>
            <a:noFill/>
            <a:ln cap="rnd"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2179080" y="5819760"/>
              <a:ext cx="5859720" cy="994320"/>
              <a:chOff x="2179080" y="5819760"/>
              <a:chExt cx="5859720" cy="994320"/>
            </a:xfrm>
          </p:grpSpPr>
          <p:sp>
            <p:nvSpPr>
              <p:cNvPr id="352" name=""/>
              <p:cNvSpPr/>
              <p:nvPr/>
            </p:nvSpPr>
            <p:spPr>
              <a:xfrm>
                <a:off x="2179080" y="64166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56320" y="64166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2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964320" y="64166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4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07520" y="64166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6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41000" y="64166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8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948000" y="6416640"/>
                <a:ext cx="325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57960" y="5819760"/>
                <a:ext cx="780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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824840" y="542772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24840" y="466560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24840" y="390384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24840" y="314172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0200" y="237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3360" y="2516040"/>
              <a:ext cx="154152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</a:t>
              </a:r>
              <a:r>
                <a:rPr b="0" lang="hr-HR" sz="2800" spc="-1" strike="noStrike">
                  <a:solidFill>
                    <a:srgbClr val="cc0066"/>
                  </a:solidFill>
                  <a:latin typeface="Times New Roman"/>
                </a:rPr>
                <a:t>e</a:t>
              </a:r>
              <a:r>
                <a:rPr b="0" lang="hr-HR" sz="2800" spc="-1" strike="noStrike" baseline="30000">
                  <a:solidFill>
                    <a:srgbClr val="cc0066"/>
                  </a:solidFill>
                  <a:latin typeface="Times New Roman"/>
                </a:rPr>
                <a:t>j</a:t>
              </a:r>
              <a:r>
                <a:rPr b="0" lang="hr-HR" sz="2800" spc="-1" strike="noStrike" baseline="30000">
                  <a:solidFill>
                    <a:srgbClr val="cc0066"/>
                  </a:solidFill>
                  <a:latin typeface="Symbol"/>
                  <a:ea typeface="Symbol"/>
                </a:rPr>
                <a:t></a:t>
              </a:r>
              <a:r>
                <a:rPr b="0" lang="hr-HR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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66ff33"/>
                  </a:solidFill>
                  <a:latin typeface="Symbol"/>
                  <a:ea typeface="Symbol"/>
                </a:rPr>
                <a:t></a:t>
              </a:r>
              <a:r>
                <a:rPr b="0" lang="hr-HR" sz="2800" spc="-1" strike="noStrike">
                  <a:solidFill>
                    <a:srgbClr val="66ff33"/>
                  </a:solidFill>
                  <a:latin typeface="Times New Roman"/>
                </a:rPr>
                <a:t>H</a:t>
              </a:r>
              <a:r>
                <a:rPr b="0" lang="hr-HR" sz="2800" spc="-1" strike="noStrike" baseline="-25000">
                  <a:solidFill>
                    <a:srgbClr val="66ff33"/>
                  </a:solidFill>
                  <a:latin typeface="Times New Roman"/>
                </a:rPr>
                <a:t>LP</a:t>
              </a:r>
              <a:r>
                <a:rPr b="0" lang="hr-HR" sz="2800" spc="-1" strike="noStrike">
                  <a:solidFill>
                    <a:srgbClr val="66ff33"/>
                  </a:solidFill>
                  <a:latin typeface="Times New Roman"/>
                </a:rPr>
                <a:t>(e</a:t>
              </a:r>
              <a:r>
                <a:rPr b="0" lang="hr-HR" sz="2800" spc="-1" strike="noStrike" baseline="30000">
                  <a:solidFill>
                    <a:srgbClr val="66ff33"/>
                  </a:solidFill>
                  <a:latin typeface="Times New Roman"/>
                </a:rPr>
                <a:t>j</a:t>
              </a:r>
              <a:r>
                <a:rPr b="0" lang="hr-HR" sz="2800" spc="-1" strike="noStrike" baseline="30000">
                  <a:solidFill>
                    <a:srgbClr val="66ff33"/>
                  </a:solidFill>
                  <a:latin typeface="Symbol"/>
                  <a:ea typeface="Symbol"/>
                </a:rPr>
                <a:t></a:t>
              </a:r>
              <a:r>
                <a:rPr b="0" lang="hr-HR" sz="2800" spc="-1" strike="noStrike">
                  <a:solidFill>
                    <a:srgbClr val="66ff33"/>
                  </a:solidFill>
                  <a:latin typeface="Times New Roman"/>
                </a:rPr>
                <a:t>)</a:t>
              </a:r>
              <a:r>
                <a:rPr b="0" lang="hr-HR" sz="2800" spc="-1" strike="noStrike">
                  <a:solidFill>
                    <a:srgbClr val="66ff33"/>
                  </a:solidFill>
                  <a:latin typeface="Symbol"/>
                  <a:ea typeface="Symbol"/>
                </a:rPr>
                <a:t>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23120" y="3271680"/>
              <a:ext cx="1689120" cy="1372320"/>
            </a:xfrm>
            <a:prstGeom prst="rect">
              <a:avLst/>
            </a:prstGeom>
            <a:noFill/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Jedna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izn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valovitost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6019920" y="2971800"/>
              <a:ext cx="1295280" cy="99072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3504960" y="2971800"/>
              <a:ext cx="3809880" cy="99072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2000-215F-4354-B447-C9F073DA15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Sadržaj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36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kvencijske transformaci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jer transformacije NP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814F-9CFA-4126-B063-82A1F2080B4C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transformacije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V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Grupno vrijeme kašnjenja od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e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hr-HR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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e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hr-HR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87320" y="2285640"/>
            <a:ext cx="8142480" cy="4528440"/>
            <a:chOff x="787320" y="2285640"/>
            <a:chExt cx="8142480" cy="4528440"/>
          </a:xfrm>
        </p:grpSpPr>
        <p:sp>
          <p:nvSpPr>
            <p:cNvPr id="371" name=""/>
            <p:cNvSpPr/>
            <p:nvPr/>
          </p:nvSpPr>
          <p:spPr>
            <a:xfrm flipV="1">
              <a:off x="2317680" y="2571480"/>
              <a:ext cx="0" cy="3755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276720" y="2571480"/>
              <a:ext cx="0" cy="37558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224240" y="2571480"/>
              <a:ext cx="0" cy="37558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183280" y="2571480"/>
              <a:ext cx="0" cy="37558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130800" y="2571480"/>
              <a:ext cx="0" cy="37558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089840" y="2571480"/>
              <a:ext cx="0" cy="3755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17680" y="632772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17680" y="578808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17680" y="525924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17680" y="471960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17680" y="417996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17680" y="363996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17680" y="311148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17680" y="257184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17680" y="2571840"/>
              <a:ext cx="4773600" cy="3757680"/>
            </a:xfrm>
            <a:custGeom>
              <a:avLst/>
              <a:gdLst/>
              <a:ahLst/>
              <a:rect l="l" t="t" r="r" b="b"/>
              <a:pathLst>
                <a:path w="3007" h="2367">
                  <a:moveTo>
                    <a:pt x="0" y="2366"/>
                  </a:moveTo>
                  <a:lnTo>
                    <a:pt x="0" y="0"/>
                  </a:lnTo>
                  <a:lnTo>
                    <a:pt x="3006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17680" y="2571840"/>
              <a:ext cx="4773600" cy="3757680"/>
            </a:xfrm>
            <a:custGeom>
              <a:avLst/>
              <a:gdLst/>
              <a:ahLst/>
              <a:rect l="l" t="t" r="r" b="b"/>
              <a:pathLst>
                <a:path w="3007" h="2367">
                  <a:moveTo>
                    <a:pt x="0" y="2366"/>
                  </a:moveTo>
                  <a:lnTo>
                    <a:pt x="0" y="0"/>
                  </a:lnTo>
                  <a:lnTo>
                    <a:pt x="3006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17680" y="2571840"/>
              <a:ext cx="4773600" cy="3757680"/>
            </a:xfrm>
            <a:custGeom>
              <a:avLst/>
              <a:gdLst/>
              <a:ahLst/>
              <a:rect l="l" t="t" r="r" b="b"/>
              <a:pathLst>
                <a:path w="3007" h="2367">
                  <a:moveTo>
                    <a:pt x="0" y="2366"/>
                  </a:moveTo>
                  <a:lnTo>
                    <a:pt x="0" y="0"/>
                  </a:lnTo>
                  <a:lnTo>
                    <a:pt x="3006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17680" y="632772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17680" y="257184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317680" y="2571480"/>
              <a:ext cx="0" cy="3755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89840" y="2571480"/>
              <a:ext cx="0" cy="3755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17680" y="257184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89840" y="632772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17680" y="632772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317680" y="2571480"/>
              <a:ext cx="0" cy="3755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7680" y="63277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317680" y="62830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17680" y="2571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276720" y="62830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76720" y="2571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224240" y="62830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24240" y="2571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183280" y="62830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3280" y="2571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130800" y="62830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30800" y="2571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089840" y="62830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89840" y="2571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17680" y="63277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045200" y="63277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17680" y="57880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045200" y="57880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17680" y="52592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045200" y="52592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17680" y="47196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045200" y="47196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17680" y="41799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045200" y="41799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17680" y="36399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045200" y="36399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17680" y="31114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045200" y="31114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17680" y="25718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045200" y="25718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1829520" y="2355840"/>
              <a:ext cx="468360" cy="4153320"/>
              <a:chOff x="1829520" y="2355840"/>
              <a:chExt cx="468360" cy="4153320"/>
            </a:xfrm>
          </p:grpSpPr>
          <p:sp>
            <p:nvSpPr>
              <p:cNvPr id="426" name=""/>
              <p:cNvSpPr/>
              <p:nvPr/>
            </p:nvSpPr>
            <p:spPr>
              <a:xfrm>
                <a:off x="1929600" y="61117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929600" y="55720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929600" y="5043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929600" y="4503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29600" y="39639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829520" y="342432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829520" y="28954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829520" y="235584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2317680" y="6327720"/>
              <a:ext cx="5607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17680" y="2571840"/>
              <a:ext cx="4772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317680" y="2285640"/>
              <a:ext cx="0" cy="404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089840" y="2571480"/>
              <a:ext cx="0" cy="3755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17680" y="63277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89840" y="257184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17680" y="4059360"/>
              <a:ext cx="4762440" cy="2181240"/>
            </a:xfrm>
            <a:custGeom>
              <a:avLst/>
              <a:gdLst/>
              <a:ahLst/>
              <a:rect l="l" t="t" r="r" b="b"/>
              <a:pathLst>
                <a:path w="3000" h="1374">
                  <a:moveTo>
                    <a:pt x="0" y="1367"/>
                  </a:moveTo>
                  <a:lnTo>
                    <a:pt x="0" y="1373"/>
                  </a:lnTo>
                  <a:lnTo>
                    <a:pt x="7" y="1373"/>
                  </a:lnTo>
                  <a:lnTo>
                    <a:pt x="14" y="1373"/>
                  </a:lnTo>
                  <a:lnTo>
                    <a:pt x="21" y="1373"/>
                  </a:lnTo>
                  <a:lnTo>
                    <a:pt x="28" y="1373"/>
                  </a:lnTo>
                  <a:lnTo>
                    <a:pt x="35" y="1373"/>
                  </a:lnTo>
                  <a:lnTo>
                    <a:pt x="42" y="1373"/>
                  </a:lnTo>
                  <a:lnTo>
                    <a:pt x="48" y="1373"/>
                  </a:lnTo>
                  <a:lnTo>
                    <a:pt x="55" y="1373"/>
                  </a:lnTo>
                  <a:lnTo>
                    <a:pt x="62" y="1373"/>
                  </a:lnTo>
                  <a:lnTo>
                    <a:pt x="69" y="1373"/>
                  </a:lnTo>
                  <a:lnTo>
                    <a:pt x="76" y="1373"/>
                  </a:lnTo>
                  <a:lnTo>
                    <a:pt x="83" y="1373"/>
                  </a:lnTo>
                  <a:lnTo>
                    <a:pt x="90" y="1373"/>
                  </a:lnTo>
                  <a:lnTo>
                    <a:pt x="97" y="1373"/>
                  </a:lnTo>
                  <a:lnTo>
                    <a:pt x="104" y="1373"/>
                  </a:lnTo>
                  <a:lnTo>
                    <a:pt x="111" y="1373"/>
                  </a:lnTo>
                  <a:lnTo>
                    <a:pt x="118" y="1373"/>
                  </a:lnTo>
                  <a:lnTo>
                    <a:pt x="125" y="1373"/>
                  </a:lnTo>
                  <a:lnTo>
                    <a:pt x="132" y="1373"/>
                  </a:lnTo>
                  <a:lnTo>
                    <a:pt x="139" y="1367"/>
                  </a:lnTo>
                  <a:lnTo>
                    <a:pt x="146" y="1367"/>
                  </a:lnTo>
                  <a:lnTo>
                    <a:pt x="153" y="1367"/>
                  </a:lnTo>
                  <a:lnTo>
                    <a:pt x="160" y="1367"/>
                  </a:lnTo>
                  <a:lnTo>
                    <a:pt x="167" y="1367"/>
                  </a:lnTo>
                  <a:lnTo>
                    <a:pt x="173" y="1367"/>
                  </a:lnTo>
                  <a:lnTo>
                    <a:pt x="180" y="1367"/>
                  </a:lnTo>
                  <a:lnTo>
                    <a:pt x="187" y="1367"/>
                  </a:lnTo>
                  <a:lnTo>
                    <a:pt x="194" y="1367"/>
                  </a:lnTo>
                  <a:lnTo>
                    <a:pt x="201" y="1367"/>
                  </a:lnTo>
                  <a:lnTo>
                    <a:pt x="208" y="1367"/>
                  </a:lnTo>
                  <a:lnTo>
                    <a:pt x="215" y="1367"/>
                  </a:lnTo>
                  <a:lnTo>
                    <a:pt x="222" y="1367"/>
                  </a:lnTo>
                  <a:lnTo>
                    <a:pt x="229" y="1367"/>
                  </a:lnTo>
                  <a:lnTo>
                    <a:pt x="236" y="1367"/>
                  </a:lnTo>
                  <a:lnTo>
                    <a:pt x="243" y="1367"/>
                  </a:lnTo>
                  <a:lnTo>
                    <a:pt x="250" y="1367"/>
                  </a:lnTo>
                  <a:lnTo>
                    <a:pt x="257" y="1367"/>
                  </a:lnTo>
                  <a:lnTo>
                    <a:pt x="264" y="1367"/>
                  </a:lnTo>
                  <a:lnTo>
                    <a:pt x="271" y="1367"/>
                  </a:lnTo>
                  <a:lnTo>
                    <a:pt x="278" y="1367"/>
                  </a:lnTo>
                  <a:lnTo>
                    <a:pt x="285" y="1367"/>
                  </a:lnTo>
                  <a:lnTo>
                    <a:pt x="291" y="1367"/>
                  </a:lnTo>
                  <a:lnTo>
                    <a:pt x="298" y="1367"/>
                  </a:lnTo>
                  <a:lnTo>
                    <a:pt x="305" y="1367"/>
                  </a:lnTo>
                  <a:lnTo>
                    <a:pt x="312" y="1367"/>
                  </a:lnTo>
                  <a:lnTo>
                    <a:pt x="319" y="1367"/>
                  </a:lnTo>
                  <a:lnTo>
                    <a:pt x="326" y="1367"/>
                  </a:lnTo>
                  <a:lnTo>
                    <a:pt x="333" y="1367"/>
                  </a:lnTo>
                  <a:lnTo>
                    <a:pt x="340" y="1367"/>
                  </a:lnTo>
                  <a:lnTo>
                    <a:pt x="347" y="1367"/>
                  </a:lnTo>
                  <a:lnTo>
                    <a:pt x="354" y="1367"/>
                  </a:lnTo>
                  <a:lnTo>
                    <a:pt x="361" y="1367"/>
                  </a:lnTo>
                  <a:lnTo>
                    <a:pt x="368" y="1367"/>
                  </a:lnTo>
                  <a:lnTo>
                    <a:pt x="375" y="1367"/>
                  </a:lnTo>
                  <a:lnTo>
                    <a:pt x="382" y="1367"/>
                  </a:lnTo>
                  <a:lnTo>
                    <a:pt x="389" y="1367"/>
                  </a:lnTo>
                  <a:lnTo>
                    <a:pt x="396" y="1367"/>
                  </a:lnTo>
                  <a:lnTo>
                    <a:pt x="403" y="1367"/>
                  </a:lnTo>
                  <a:lnTo>
                    <a:pt x="410" y="1367"/>
                  </a:lnTo>
                  <a:lnTo>
                    <a:pt x="416" y="1367"/>
                  </a:lnTo>
                  <a:lnTo>
                    <a:pt x="423" y="1367"/>
                  </a:lnTo>
                  <a:lnTo>
                    <a:pt x="430" y="1367"/>
                  </a:lnTo>
                  <a:lnTo>
                    <a:pt x="437" y="1367"/>
                  </a:lnTo>
                  <a:lnTo>
                    <a:pt x="444" y="1367"/>
                  </a:lnTo>
                  <a:lnTo>
                    <a:pt x="451" y="1367"/>
                  </a:lnTo>
                  <a:lnTo>
                    <a:pt x="458" y="1367"/>
                  </a:lnTo>
                  <a:lnTo>
                    <a:pt x="465" y="1367"/>
                  </a:lnTo>
                  <a:lnTo>
                    <a:pt x="472" y="1367"/>
                  </a:lnTo>
                  <a:lnTo>
                    <a:pt x="479" y="1367"/>
                  </a:lnTo>
                  <a:lnTo>
                    <a:pt x="486" y="1367"/>
                  </a:lnTo>
                  <a:lnTo>
                    <a:pt x="493" y="1367"/>
                  </a:lnTo>
                  <a:lnTo>
                    <a:pt x="500" y="1367"/>
                  </a:lnTo>
                  <a:lnTo>
                    <a:pt x="507" y="1367"/>
                  </a:lnTo>
                  <a:lnTo>
                    <a:pt x="514" y="1367"/>
                  </a:lnTo>
                  <a:lnTo>
                    <a:pt x="514" y="1360"/>
                  </a:lnTo>
                  <a:lnTo>
                    <a:pt x="521" y="1360"/>
                  </a:lnTo>
                  <a:lnTo>
                    <a:pt x="528" y="1360"/>
                  </a:lnTo>
                  <a:lnTo>
                    <a:pt x="534" y="1360"/>
                  </a:lnTo>
                  <a:lnTo>
                    <a:pt x="541" y="1360"/>
                  </a:lnTo>
                  <a:lnTo>
                    <a:pt x="548" y="1360"/>
                  </a:lnTo>
                  <a:lnTo>
                    <a:pt x="555" y="1360"/>
                  </a:lnTo>
                  <a:lnTo>
                    <a:pt x="562" y="1360"/>
                  </a:lnTo>
                  <a:lnTo>
                    <a:pt x="569" y="1360"/>
                  </a:lnTo>
                  <a:lnTo>
                    <a:pt x="576" y="1360"/>
                  </a:lnTo>
                  <a:lnTo>
                    <a:pt x="583" y="1360"/>
                  </a:lnTo>
                  <a:lnTo>
                    <a:pt x="590" y="1360"/>
                  </a:lnTo>
                  <a:lnTo>
                    <a:pt x="597" y="1360"/>
                  </a:lnTo>
                  <a:lnTo>
                    <a:pt x="604" y="1360"/>
                  </a:lnTo>
                  <a:lnTo>
                    <a:pt x="611" y="1360"/>
                  </a:lnTo>
                  <a:lnTo>
                    <a:pt x="618" y="1360"/>
                  </a:lnTo>
                  <a:lnTo>
                    <a:pt x="625" y="1360"/>
                  </a:lnTo>
                  <a:lnTo>
                    <a:pt x="632" y="1360"/>
                  </a:lnTo>
                  <a:lnTo>
                    <a:pt x="639" y="1360"/>
                  </a:lnTo>
                  <a:lnTo>
                    <a:pt x="646" y="1360"/>
                  </a:lnTo>
                  <a:lnTo>
                    <a:pt x="653" y="1360"/>
                  </a:lnTo>
                  <a:lnTo>
                    <a:pt x="659" y="1360"/>
                  </a:lnTo>
                  <a:lnTo>
                    <a:pt x="666" y="1360"/>
                  </a:lnTo>
                  <a:lnTo>
                    <a:pt x="673" y="1360"/>
                  </a:lnTo>
                  <a:lnTo>
                    <a:pt x="680" y="1360"/>
                  </a:lnTo>
                  <a:lnTo>
                    <a:pt x="687" y="1360"/>
                  </a:lnTo>
                  <a:lnTo>
                    <a:pt x="687" y="1353"/>
                  </a:lnTo>
                  <a:lnTo>
                    <a:pt x="694" y="1353"/>
                  </a:lnTo>
                  <a:lnTo>
                    <a:pt x="701" y="1353"/>
                  </a:lnTo>
                  <a:lnTo>
                    <a:pt x="708" y="1353"/>
                  </a:lnTo>
                  <a:lnTo>
                    <a:pt x="715" y="1353"/>
                  </a:lnTo>
                  <a:lnTo>
                    <a:pt x="722" y="1353"/>
                  </a:lnTo>
                  <a:lnTo>
                    <a:pt x="729" y="1353"/>
                  </a:lnTo>
                  <a:lnTo>
                    <a:pt x="736" y="1353"/>
                  </a:lnTo>
                  <a:lnTo>
                    <a:pt x="743" y="1353"/>
                  </a:lnTo>
                  <a:lnTo>
                    <a:pt x="750" y="1353"/>
                  </a:lnTo>
                  <a:lnTo>
                    <a:pt x="757" y="1353"/>
                  </a:lnTo>
                  <a:lnTo>
                    <a:pt x="764" y="1353"/>
                  </a:lnTo>
                  <a:lnTo>
                    <a:pt x="771" y="1353"/>
                  </a:lnTo>
                  <a:lnTo>
                    <a:pt x="777" y="1353"/>
                  </a:lnTo>
                  <a:lnTo>
                    <a:pt x="784" y="1353"/>
                  </a:lnTo>
                  <a:lnTo>
                    <a:pt x="791" y="1353"/>
                  </a:lnTo>
                  <a:lnTo>
                    <a:pt x="798" y="1353"/>
                  </a:lnTo>
                  <a:lnTo>
                    <a:pt x="805" y="1353"/>
                  </a:lnTo>
                  <a:lnTo>
                    <a:pt x="805" y="1346"/>
                  </a:lnTo>
                  <a:lnTo>
                    <a:pt x="812" y="1346"/>
                  </a:lnTo>
                  <a:lnTo>
                    <a:pt x="819" y="1346"/>
                  </a:lnTo>
                  <a:lnTo>
                    <a:pt x="826" y="1346"/>
                  </a:lnTo>
                  <a:lnTo>
                    <a:pt x="833" y="1346"/>
                  </a:lnTo>
                  <a:lnTo>
                    <a:pt x="840" y="1346"/>
                  </a:lnTo>
                  <a:lnTo>
                    <a:pt x="847" y="1346"/>
                  </a:lnTo>
                  <a:lnTo>
                    <a:pt x="854" y="1346"/>
                  </a:lnTo>
                  <a:lnTo>
                    <a:pt x="861" y="1346"/>
                  </a:lnTo>
                  <a:lnTo>
                    <a:pt x="868" y="1346"/>
                  </a:lnTo>
                  <a:lnTo>
                    <a:pt x="875" y="1346"/>
                  </a:lnTo>
                  <a:lnTo>
                    <a:pt x="882" y="1346"/>
                  </a:lnTo>
                  <a:lnTo>
                    <a:pt x="889" y="1346"/>
                  </a:lnTo>
                  <a:lnTo>
                    <a:pt x="896" y="1346"/>
                  </a:lnTo>
                  <a:lnTo>
                    <a:pt x="896" y="1339"/>
                  </a:lnTo>
                  <a:lnTo>
                    <a:pt x="902" y="1339"/>
                  </a:lnTo>
                  <a:lnTo>
                    <a:pt x="909" y="1339"/>
                  </a:lnTo>
                  <a:lnTo>
                    <a:pt x="916" y="1339"/>
                  </a:lnTo>
                  <a:lnTo>
                    <a:pt x="923" y="1339"/>
                  </a:lnTo>
                  <a:lnTo>
                    <a:pt x="930" y="1339"/>
                  </a:lnTo>
                  <a:lnTo>
                    <a:pt x="937" y="1339"/>
                  </a:lnTo>
                  <a:lnTo>
                    <a:pt x="944" y="1339"/>
                  </a:lnTo>
                  <a:lnTo>
                    <a:pt x="951" y="1339"/>
                  </a:lnTo>
                  <a:lnTo>
                    <a:pt x="958" y="1339"/>
                  </a:lnTo>
                  <a:lnTo>
                    <a:pt x="965" y="1339"/>
                  </a:lnTo>
                  <a:lnTo>
                    <a:pt x="972" y="1339"/>
                  </a:lnTo>
                  <a:lnTo>
                    <a:pt x="972" y="1332"/>
                  </a:lnTo>
                  <a:lnTo>
                    <a:pt x="979" y="1332"/>
                  </a:lnTo>
                  <a:lnTo>
                    <a:pt x="986" y="1332"/>
                  </a:lnTo>
                  <a:lnTo>
                    <a:pt x="993" y="1332"/>
                  </a:lnTo>
                  <a:lnTo>
                    <a:pt x="1000" y="1332"/>
                  </a:lnTo>
                  <a:lnTo>
                    <a:pt x="1007" y="1332"/>
                  </a:lnTo>
                  <a:lnTo>
                    <a:pt x="1014" y="1332"/>
                  </a:lnTo>
                  <a:lnTo>
                    <a:pt x="1020" y="1332"/>
                  </a:lnTo>
                  <a:lnTo>
                    <a:pt x="1027" y="1332"/>
                  </a:lnTo>
                  <a:lnTo>
                    <a:pt x="1027" y="1325"/>
                  </a:lnTo>
                  <a:lnTo>
                    <a:pt x="1034" y="1325"/>
                  </a:lnTo>
                  <a:lnTo>
                    <a:pt x="1041" y="1325"/>
                  </a:lnTo>
                  <a:lnTo>
                    <a:pt x="1048" y="1325"/>
                  </a:lnTo>
                  <a:lnTo>
                    <a:pt x="1055" y="1325"/>
                  </a:lnTo>
                  <a:lnTo>
                    <a:pt x="1062" y="1325"/>
                  </a:lnTo>
                  <a:lnTo>
                    <a:pt x="1069" y="1325"/>
                  </a:lnTo>
                  <a:lnTo>
                    <a:pt x="1076" y="1325"/>
                  </a:lnTo>
                  <a:lnTo>
                    <a:pt x="1076" y="1318"/>
                  </a:lnTo>
                  <a:lnTo>
                    <a:pt x="1083" y="1318"/>
                  </a:lnTo>
                  <a:lnTo>
                    <a:pt x="1090" y="1318"/>
                  </a:lnTo>
                  <a:lnTo>
                    <a:pt x="1097" y="1318"/>
                  </a:lnTo>
                  <a:lnTo>
                    <a:pt x="1104" y="1318"/>
                  </a:lnTo>
                  <a:lnTo>
                    <a:pt x="1111" y="1318"/>
                  </a:lnTo>
                  <a:lnTo>
                    <a:pt x="1118" y="1318"/>
                  </a:lnTo>
                  <a:lnTo>
                    <a:pt x="1125" y="1318"/>
                  </a:lnTo>
                  <a:lnTo>
                    <a:pt x="1125" y="1311"/>
                  </a:lnTo>
                  <a:lnTo>
                    <a:pt x="1132" y="1311"/>
                  </a:lnTo>
                  <a:lnTo>
                    <a:pt x="1139" y="1311"/>
                  </a:lnTo>
                  <a:lnTo>
                    <a:pt x="1145" y="1311"/>
                  </a:lnTo>
                  <a:lnTo>
                    <a:pt x="1152" y="1311"/>
                  </a:lnTo>
                  <a:lnTo>
                    <a:pt x="1159" y="1311"/>
                  </a:lnTo>
                  <a:lnTo>
                    <a:pt x="1159" y="1304"/>
                  </a:lnTo>
                  <a:lnTo>
                    <a:pt x="1166" y="1304"/>
                  </a:lnTo>
                  <a:lnTo>
                    <a:pt x="1173" y="1304"/>
                  </a:lnTo>
                  <a:lnTo>
                    <a:pt x="1180" y="1304"/>
                  </a:lnTo>
                  <a:lnTo>
                    <a:pt x="1187" y="1304"/>
                  </a:lnTo>
                  <a:lnTo>
                    <a:pt x="1194" y="1297"/>
                  </a:lnTo>
                  <a:lnTo>
                    <a:pt x="1201" y="1297"/>
                  </a:lnTo>
                  <a:lnTo>
                    <a:pt x="1208" y="1297"/>
                  </a:lnTo>
                  <a:lnTo>
                    <a:pt x="1215" y="1297"/>
                  </a:lnTo>
                  <a:lnTo>
                    <a:pt x="1222" y="1297"/>
                  </a:lnTo>
                  <a:lnTo>
                    <a:pt x="1222" y="1290"/>
                  </a:lnTo>
                  <a:lnTo>
                    <a:pt x="1229" y="1290"/>
                  </a:lnTo>
                  <a:lnTo>
                    <a:pt x="1236" y="1290"/>
                  </a:lnTo>
                  <a:lnTo>
                    <a:pt x="1243" y="1290"/>
                  </a:lnTo>
                  <a:lnTo>
                    <a:pt x="1250" y="1290"/>
                  </a:lnTo>
                  <a:lnTo>
                    <a:pt x="1250" y="1283"/>
                  </a:lnTo>
                  <a:lnTo>
                    <a:pt x="1257" y="1283"/>
                  </a:lnTo>
                  <a:lnTo>
                    <a:pt x="1263" y="1283"/>
                  </a:lnTo>
                  <a:lnTo>
                    <a:pt x="1270" y="1283"/>
                  </a:lnTo>
                  <a:lnTo>
                    <a:pt x="1270" y="1276"/>
                  </a:lnTo>
                  <a:lnTo>
                    <a:pt x="1277" y="1276"/>
                  </a:lnTo>
                  <a:lnTo>
                    <a:pt x="1284" y="1276"/>
                  </a:lnTo>
                  <a:lnTo>
                    <a:pt x="1291" y="1276"/>
                  </a:lnTo>
                  <a:lnTo>
                    <a:pt x="1291" y="1269"/>
                  </a:lnTo>
                  <a:lnTo>
                    <a:pt x="1298" y="1269"/>
                  </a:lnTo>
                  <a:lnTo>
                    <a:pt x="1305" y="1269"/>
                  </a:lnTo>
                  <a:lnTo>
                    <a:pt x="1312" y="1269"/>
                  </a:lnTo>
                  <a:lnTo>
                    <a:pt x="1312" y="1262"/>
                  </a:lnTo>
                  <a:lnTo>
                    <a:pt x="1319" y="1262"/>
                  </a:lnTo>
                  <a:lnTo>
                    <a:pt x="1326" y="1262"/>
                  </a:lnTo>
                  <a:lnTo>
                    <a:pt x="1333" y="1256"/>
                  </a:lnTo>
                  <a:lnTo>
                    <a:pt x="1340" y="1256"/>
                  </a:lnTo>
                  <a:lnTo>
                    <a:pt x="1347" y="1256"/>
                  </a:lnTo>
                  <a:lnTo>
                    <a:pt x="1347" y="1249"/>
                  </a:lnTo>
                  <a:lnTo>
                    <a:pt x="1354" y="1249"/>
                  </a:lnTo>
                  <a:lnTo>
                    <a:pt x="1361" y="1249"/>
                  </a:lnTo>
                  <a:lnTo>
                    <a:pt x="1361" y="1242"/>
                  </a:lnTo>
                  <a:lnTo>
                    <a:pt x="1368" y="1242"/>
                  </a:lnTo>
                  <a:lnTo>
                    <a:pt x="1375" y="1242"/>
                  </a:lnTo>
                  <a:lnTo>
                    <a:pt x="1375" y="1235"/>
                  </a:lnTo>
                  <a:lnTo>
                    <a:pt x="1382" y="1235"/>
                  </a:lnTo>
                  <a:lnTo>
                    <a:pt x="1388" y="1235"/>
                  </a:lnTo>
                  <a:lnTo>
                    <a:pt x="1388" y="1228"/>
                  </a:lnTo>
                  <a:lnTo>
                    <a:pt x="1395" y="1228"/>
                  </a:lnTo>
                  <a:lnTo>
                    <a:pt x="1395" y="1221"/>
                  </a:lnTo>
                  <a:lnTo>
                    <a:pt x="1402" y="1221"/>
                  </a:lnTo>
                  <a:lnTo>
                    <a:pt x="1409" y="1221"/>
                  </a:lnTo>
                  <a:lnTo>
                    <a:pt x="1409" y="1214"/>
                  </a:lnTo>
                  <a:lnTo>
                    <a:pt x="1416" y="1214"/>
                  </a:lnTo>
                  <a:lnTo>
                    <a:pt x="1423" y="1207"/>
                  </a:lnTo>
                  <a:lnTo>
                    <a:pt x="1430" y="1207"/>
                  </a:lnTo>
                  <a:lnTo>
                    <a:pt x="1430" y="1200"/>
                  </a:lnTo>
                  <a:lnTo>
                    <a:pt x="1437" y="1200"/>
                  </a:lnTo>
                  <a:lnTo>
                    <a:pt x="1444" y="1193"/>
                  </a:lnTo>
                  <a:lnTo>
                    <a:pt x="1451" y="1193"/>
                  </a:lnTo>
                  <a:lnTo>
                    <a:pt x="1451" y="1186"/>
                  </a:lnTo>
                  <a:lnTo>
                    <a:pt x="1458" y="1186"/>
                  </a:lnTo>
                  <a:lnTo>
                    <a:pt x="1458" y="1179"/>
                  </a:lnTo>
                  <a:lnTo>
                    <a:pt x="1465" y="1179"/>
                  </a:lnTo>
                  <a:lnTo>
                    <a:pt x="1465" y="1172"/>
                  </a:lnTo>
                  <a:lnTo>
                    <a:pt x="1472" y="1172"/>
                  </a:lnTo>
                  <a:lnTo>
                    <a:pt x="1472" y="1165"/>
                  </a:lnTo>
                  <a:lnTo>
                    <a:pt x="1479" y="1165"/>
                  </a:lnTo>
                  <a:lnTo>
                    <a:pt x="1479" y="1158"/>
                  </a:lnTo>
                  <a:lnTo>
                    <a:pt x="1486" y="1158"/>
                  </a:lnTo>
                  <a:lnTo>
                    <a:pt x="1486" y="1151"/>
                  </a:lnTo>
                  <a:lnTo>
                    <a:pt x="1493" y="1151"/>
                  </a:lnTo>
                  <a:lnTo>
                    <a:pt x="1493" y="1145"/>
                  </a:lnTo>
                  <a:lnTo>
                    <a:pt x="1500" y="1145"/>
                  </a:lnTo>
                  <a:lnTo>
                    <a:pt x="1500" y="1138"/>
                  </a:lnTo>
                  <a:lnTo>
                    <a:pt x="1506" y="1138"/>
                  </a:lnTo>
                  <a:lnTo>
                    <a:pt x="1506" y="1131"/>
                  </a:lnTo>
                  <a:lnTo>
                    <a:pt x="1513" y="1131"/>
                  </a:lnTo>
                  <a:lnTo>
                    <a:pt x="1513" y="1124"/>
                  </a:lnTo>
                  <a:lnTo>
                    <a:pt x="1520" y="1117"/>
                  </a:lnTo>
                  <a:lnTo>
                    <a:pt x="1520" y="1110"/>
                  </a:lnTo>
                  <a:lnTo>
                    <a:pt x="1527" y="1110"/>
                  </a:lnTo>
                  <a:lnTo>
                    <a:pt x="1527" y="1103"/>
                  </a:lnTo>
                  <a:lnTo>
                    <a:pt x="1534" y="1103"/>
                  </a:lnTo>
                  <a:lnTo>
                    <a:pt x="1534" y="1096"/>
                  </a:lnTo>
                  <a:lnTo>
                    <a:pt x="1541" y="1089"/>
                  </a:lnTo>
                  <a:lnTo>
                    <a:pt x="1541" y="1082"/>
                  </a:lnTo>
                  <a:lnTo>
                    <a:pt x="1548" y="1082"/>
                  </a:lnTo>
                  <a:lnTo>
                    <a:pt x="1548" y="1075"/>
                  </a:lnTo>
                  <a:lnTo>
                    <a:pt x="1548" y="1068"/>
                  </a:lnTo>
                  <a:lnTo>
                    <a:pt x="1555" y="1068"/>
                  </a:lnTo>
                  <a:lnTo>
                    <a:pt x="1555" y="1061"/>
                  </a:lnTo>
                  <a:lnTo>
                    <a:pt x="1562" y="1054"/>
                  </a:lnTo>
                  <a:lnTo>
                    <a:pt x="1562" y="1047"/>
                  </a:lnTo>
                  <a:lnTo>
                    <a:pt x="1569" y="1047"/>
                  </a:lnTo>
                  <a:lnTo>
                    <a:pt x="1569" y="1040"/>
                  </a:lnTo>
                  <a:lnTo>
                    <a:pt x="1569" y="1034"/>
                  </a:lnTo>
                  <a:lnTo>
                    <a:pt x="1576" y="1027"/>
                  </a:lnTo>
                  <a:lnTo>
                    <a:pt x="1576" y="1020"/>
                  </a:lnTo>
                  <a:lnTo>
                    <a:pt x="1583" y="1013"/>
                  </a:lnTo>
                  <a:lnTo>
                    <a:pt x="1583" y="1006"/>
                  </a:lnTo>
                  <a:lnTo>
                    <a:pt x="1590" y="999"/>
                  </a:lnTo>
                  <a:lnTo>
                    <a:pt x="1590" y="992"/>
                  </a:lnTo>
                  <a:lnTo>
                    <a:pt x="1590" y="985"/>
                  </a:lnTo>
                  <a:lnTo>
                    <a:pt x="1597" y="985"/>
                  </a:lnTo>
                  <a:lnTo>
                    <a:pt x="1597" y="978"/>
                  </a:lnTo>
                  <a:lnTo>
                    <a:pt x="1597" y="971"/>
                  </a:lnTo>
                  <a:lnTo>
                    <a:pt x="1604" y="964"/>
                  </a:lnTo>
                  <a:lnTo>
                    <a:pt x="1604" y="957"/>
                  </a:lnTo>
                  <a:lnTo>
                    <a:pt x="1611" y="950"/>
                  </a:lnTo>
                  <a:lnTo>
                    <a:pt x="1611" y="943"/>
                  </a:lnTo>
                  <a:lnTo>
                    <a:pt x="1611" y="936"/>
                  </a:lnTo>
                  <a:lnTo>
                    <a:pt x="1618" y="929"/>
                  </a:lnTo>
                  <a:lnTo>
                    <a:pt x="1618" y="922"/>
                  </a:lnTo>
                  <a:lnTo>
                    <a:pt x="1618" y="916"/>
                  </a:lnTo>
                  <a:lnTo>
                    <a:pt x="1625" y="909"/>
                  </a:lnTo>
                  <a:lnTo>
                    <a:pt x="1625" y="902"/>
                  </a:lnTo>
                  <a:lnTo>
                    <a:pt x="1625" y="895"/>
                  </a:lnTo>
                  <a:lnTo>
                    <a:pt x="1631" y="888"/>
                  </a:lnTo>
                  <a:lnTo>
                    <a:pt x="1631" y="881"/>
                  </a:lnTo>
                  <a:lnTo>
                    <a:pt x="1631" y="874"/>
                  </a:lnTo>
                  <a:lnTo>
                    <a:pt x="1638" y="867"/>
                  </a:lnTo>
                  <a:lnTo>
                    <a:pt x="1638" y="860"/>
                  </a:lnTo>
                  <a:lnTo>
                    <a:pt x="1638" y="853"/>
                  </a:lnTo>
                  <a:lnTo>
                    <a:pt x="1638" y="846"/>
                  </a:lnTo>
                  <a:lnTo>
                    <a:pt x="1645" y="839"/>
                  </a:lnTo>
                  <a:lnTo>
                    <a:pt x="1645" y="832"/>
                  </a:lnTo>
                  <a:lnTo>
                    <a:pt x="1645" y="825"/>
                  </a:lnTo>
                  <a:lnTo>
                    <a:pt x="1645" y="818"/>
                  </a:lnTo>
                  <a:lnTo>
                    <a:pt x="1652" y="811"/>
                  </a:lnTo>
                  <a:lnTo>
                    <a:pt x="1652" y="805"/>
                  </a:lnTo>
                  <a:lnTo>
                    <a:pt x="1652" y="798"/>
                  </a:lnTo>
                  <a:lnTo>
                    <a:pt x="1652" y="791"/>
                  </a:lnTo>
                  <a:lnTo>
                    <a:pt x="1659" y="784"/>
                  </a:lnTo>
                  <a:lnTo>
                    <a:pt x="1659" y="777"/>
                  </a:lnTo>
                  <a:lnTo>
                    <a:pt x="1659" y="770"/>
                  </a:lnTo>
                  <a:lnTo>
                    <a:pt x="1659" y="763"/>
                  </a:lnTo>
                  <a:lnTo>
                    <a:pt x="1666" y="763"/>
                  </a:lnTo>
                  <a:lnTo>
                    <a:pt x="1666" y="756"/>
                  </a:lnTo>
                  <a:lnTo>
                    <a:pt x="1666" y="749"/>
                  </a:lnTo>
                  <a:lnTo>
                    <a:pt x="1666" y="742"/>
                  </a:lnTo>
                  <a:lnTo>
                    <a:pt x="1666" y="735"/>
                  </a:lnTo>
                  <a:lnTo>
                    <a:pt x="1673" y="728"/>
                  </a:lnTo>
                  <a:lnTo>
                    <a:pt x="1673" y="721"/>
                  </a:lnTo>
                  <a:lnTo>
                    <a:pt x="1673" y="714"/>
                  </a:lnTo>
                  <a:lnTo>
                    <a:pt x="1673" y="707"/>
                  </a:lnTo>
                  <a:lnTo>
                    <a:pt x="1673" y="700"/>
                  </a:lnTo>
                  <a:lnTo>
                    <a:pt x="1680" y="694"/>
                  </a:lnTo>
                  <a:lnTo>
                    <a:pt x="1680" y="687"/>
                  </a:lnTo>
                  <a:lnTo>
                    <a:pt x="1680" y="680"/>
                  </a:lnTo>
                  <a:lnTo>
                    <a:pt x="1680" y="673"/>
                  </a:lnTo>
                  <a:lnTo>
                    <a:pt x="1687" y="666"/>
                  </a:lnTo>
                  <a:lnTo>
                    <a:pt x="1687" y="652"/>
                  </a:lnTo>
                  <a:lnTo>
                    <a:pt x="1687" y="645"/>
                  </a:lnTo>
                  <a:lnTo>
                    <a:pt x="1687" y="638"/>
                  </a:lnTo>
                  <a:lnTo>
                    <a:pt x="1687" y="631"/>
                  </a:lnTo>
                  <a:lnTo>
                    <a:pt x="1694" y="624"/>
                  </a:lnTo>
                  <a:lnTo>
                    <a:pt x="1694" y="617"/>
                  </a:lnTo>
                  <a:lnTo>
                    <a:pt x="1694" y="610"/>
                  </a:lnTo>
                  <a:lnTo>
                    <a:pt x="1694" y="603"/>
                  </a:lnTo>
                  <a:lnTo>
                    <a:pt x="1694" y="589"/>
                  </a:lnTo>
                  <a:lnTo>
                    <a:pt x="1701" y="583"/>
                  </a:lnTo>
                  <a:lnTo>
                    <a:pt x="1701" y="576"/>
                  </a:lnTo>
                  <a:lnTo>
                    <a:pt x="1701" y="569"/>
                  </a:lnTo>
                  <a:lnTo>
                    <a:pt x="1701" y="562"/>
                  </a:lnTo>
                  <a:lnTo>
                    <a:pt x="1701" y="548"/>
                  </a:lnTo>
                  <a:lnTo>
                    <a:pt x="1708" y="541"/>
                  </a:lnTo>
                  <a:lnTo>
                    <a:pt x="1708" y="534"/>
                  </a:lnTo>
                  <a:lnTo>
                    <a:pt x="1708" y="520"/>
                  </a:lnTo>
                  <a:lnTo>
                    <a:pt x="1708" y="513"/>
                  </a:lnTo>
                  <a:lnTo>
                    <a:pt x="1715" y="506"/>
                  </a:lnTo>
                  <a:lnTo>
                    <a:pt x="1715" y="499"/>
                  </a:lnTo>
                  <a:lnTo>
                    <a:pt x="1715" y="485"/>
                  </a:lnTo>
                  <a:lnTo>
                    <a:pt x="1715" y="478"/>
                  </a:lnTo>
                  <a:lnTo>
                    <a:pt x="1715" y="472"/>
                  </a:lnTo>
                  <a:lnTo>
                    <a:pt x="1722" y="458"/>
                  </a:lnTo>
                  <a:lnTo>
                    <a:pt x="1722" y="451"/>
                  </a:lnTo>
                  <a:lnTo>
                    <a:pt x="1722" y="444"/>
                  </a:lnTo>
                  <a:lnTo>
                    <a:pt x="1722" y="430"/>
                  </a:lnTo>
                  <a:lnTo>
                    <a:pt x="1722" y="423"/>
                  </a:lnTo>
                  <a:lnTo>
                    <a:pt x="1729" y="416"/>
                  </a:lnTo>
                  <a:lnTo>
                    <a:pt x="1729" y="402"/>
                  </a:lnTo>
                  <a:lnTo>
                    <a:pt x="1729" y="395"/>
                  </a:lnTo>
                  <a:lnTo>
                    <a:pt x="1729" y="381"/>
                  </a:lnTo>
                  <a:lnTo>
                    <a:pt x="1729" y="374"/>
                  </a:lnTo>
                  <a:lnTo>
                    <a:pt x="1736" y="367"/>
                  </a:lnTo>
                  <a:lnTo>
                    <a:pt x="1736" y="354"/>
                  </a:lnTo>
                  <a:lnTo>
                    <a:pt x="1736" y="347"/>
                  </a:lnTo>
                  <a:lnTo>
                    <a:pt x="1736" y="333"/>
                  </a:lnTo>
                  <a:lnTo>
                    <a:pt x="1743" y="326"/>
                  </a:lnTo>
                  <a:lnTo>
                    <a:pt x="1743" y="319"/>
                  </a:lnTo>
                  <a:lnTo>
                    <a:pt x="1743" y="305"/>
                  </a:lnTo>
                  <a:lnTo>
                    <a:pt x="1743" y="298"/>
                  </a:lnTo>
                  <a:lnTo>
                    <a:pt x="1743" y="284"/>
                  </a:lnTo>
                  <a:lnTo>
                    <a:pt x="1749" y="277"/>
                  </a:lnTo>
                  <a:lnTo>
                    <a:pt x="1749" y="270"/>
                  </a:lnTo>
                  <a:lnTo>
                    <a:pt x="1749" y="256"/>
                  </a:lnTo>
                  <a:lnTo>
                    <a:pt x="1749" y="249"/>
                  </a:lnTo>
                  <a:lnTo>
                    <a:pt x="1749" y="243"/>
                  </a:lnTo>
                  <a:lnTo>
                    <a:pt x="1756" y="229"/>
                  </a:lnTo>
                  <a:lnTo>
                    <a:pt x="1756" y="222"/>
                  </a:lnTo>
                  <a:lnTo>
                    <a:pt x="1756" y="208"/>
                  </a:lnTo>
                  <a:lnTo>
                    <a:pt x="1756" y="201"/>
                  </a:lnTo>
                  <a:lnTo>
                    <a:pt x="1756" y="194"/>
                  </a:lnTo>
                  <a:lnTo>
                    <a:pt x="1763" y="187"/>
                  </a:lnTo>
                  <a:lnTo>
                    <a:pt x="1763" y="173"/>
                  </a:lnTo>
                  <a:lnTo>
                    <a:pt x="1763" y="166"/>
                  </a:lnTo>
                  <a:lnTo>
                    <a:pt x="1763" y="159"/>
                  </a:lnTo>
                  <a:lnTo>
                    <a:pt x="1770" y="152"/>
                  </a:lnTo>
                  <a:lnTo>
                    <a:pt x="1770" y="138"/>
                  </a:lnTo>
                  <a:lnTo>
                    <a:pt x="1770" y="132"/>
                  </a:lnTo>
                  <a:lnTo>
                    <a:pt x="1770" y="125"/>
                  </a:lnTo>
                  <a:lnTo>
                    <a:pt x="1770" y="118"/>
                  </a:lnTo>
                  <a:lnTo>
                    <a:pt x="1777" y="111"/>
                  </a:lnTo>
                  <a:lnTo>
                    <a:pt x="1777" y="104"/>
                  </a:lnTo>
                  <a:lnTo>
                    <a:pt x="1777" y="97"/>
                  </a:lnTo>
                  <a:lnTo>
                    <a:pt x="1777" y="90"/>
                  </a:lnTo>
                  <a:lnTo>
                    <a:pt x="1777" y="83"/>
                  </a:lnTo>
                  <a:lnTo>
                    <a:pt x="1784" y="76"/>
                  </a:lnTo>
                  <a:lnTo>
                    <a:pt x="1784" y="69"/>
                  </a:lnTo>
                  <a:lnTo>
                    <a:pt x="1784" y="62"/>
                  </a:lnTo>
                  <a:lnTo>
                    <a:pt x="1784" y="55"/>
                  </a:lnTo>
                  <a:lnTo>
                    <a:pt x="1791" y="48"/>
                  </a:lnTo>
                  <a:lnTo>
                    <a:pt x="1791" y="41"/>
                  </a:lnTo>
                  <a:lnTo>
                    <a:pt x="1791" y="34"/>
                  </a:lnTo>
                  <a:lnTo>
                    <a:pt x="1798" y="27"/>
                  </a:lnTo>
                  <a:lnTo>
                    <a:pt x="1798" y="21"/>
                  </a:lnTo>
                  <a:lnTo>
                    <a:pt x="1798" y="14"/>
                  </a:lnTo>
                  <a:lnTo>
                    <a:pt x="1805" y="14"/>
                  </a:lnTo>
                  <a:lnTo>
                    <a:pt x="1805" y="7"/>
                  </a:lnTo>
                  <a:lnTo>
                    <a:pt x="1805" y="0"/>
                  </a:lnTo>
                  <a:lnTo>
                    <a:pt x="1812" y="0"/>
                  </a:lnTo>
                  <a:lnTo>
                    <a:pt x="1819" y="0"/>
                  </a:lnTo>
                  <a:lnTo>
                    <a:pt x="1819" y="7"/>
                  </a:lnTo>
                  <a:lnTo>
                    <a:pt x="1826" y="7"/>
                  </a:lnTo>
                  <a:lnTo>
                    <a:pt x="1826" y="14"/>
                  </a:lnTo>
                  <a:lnTo>
                    <a:pt x="1826" y="21"/>
                  </a:lnTo>
                  <a:lnTo>
                    <a:pt x="1833" y="21"/>
                  </a:lnTo>
                  <a:lnTo>
                    <a:pt x="1833" y="27"/>
                  </a:lnTo>
                  <a:lnTo>
                    <a:pt x="1833" y="34"/>
                  </a:lnTo>
                  <a:lnTo>
                    <a:pt x="1840" y="41"/>
                  </a:lnTo>
                  <a:lnTo>
                    <a:pt x="1840" y="48"/>
                  </a:lnTo>
                  <a:lnTo>
                    <a:pt x="1840" y="55"/>
                  </a:lnTo>
                  <a:lnTo>
                    <a:pt x="1847" y="62"/>
                  </a:lnTo>
                  <a:lnTo>
                    <a:pt x="1847" y="69"/>
                  </a:lnTo>
                  <a:lnTo>
                    <a:pt x="1847" y="76"/>
                  </a:lnTo>
                  <a:lnTo>
                    <a:pt x="1847" y="83"/>
                  </a:lnTo>
                  <a:lnTo>
                    <a:pt x="1847" y="90"/>
                  </a:lnTo>
                  <a:lnTo>
                    <a:pt x="1854" y="97"/>
                  </a:lnTo>
                  <a:lnTo>
                    <a:pt x="1854" y="104"/>
                  </a:lnTo>
                  <a:lnTo>
                    <a:pt x="1854" y="111"/>
                  </a:lnTo>
                  <a:lnTo>
                    <a:pt x="1854" y="118"/>
                  </a:lnTo>
                  <a:lnTo>
                    <a:pt x="1854" y="125"/>
                  </a:lnTo>
                  <a:lnTo>
                    <a:pt x="1861" y="132"/>
                  </a:lnTo>
                  <a:lnTo>
                    <a:pt x="1861" y="138"/>
                  </a:lnTo>
                  <a:lnTo>
                    <a:pt x="1861" y="145"/>
                  </a:lnTo>
                  <a:lnTo>
                    <a:pt x="1861" y="152"/>
                  </a:lnTo>
                  <a:lnTo>
                    <a:pt x="1868" y="166"/>
                  </a:lnTo>
                  <a:lnTo>
                    <a:pt x="1868" y="173"/>
                  </a:lnTo>
                  <a:lnTo>
                    <a:pt x="1868" y="180"/>
                  </a:lnTo>
                  <a:lnTo>
                    <a:pt x="1868" y="187"/>
                  </a:lnTo>
                  <a:lnTo>
                    <a:pt x="1868" y="194"/>
                  </a:lnTo>
                  <a:lnTo>
                    <a:pt x="1874" y="208"/>
                  </a:lnTo>
                  <a:lnTo>
                    <a:pt x="1874" y="215"/>
                  </a:lnTo>
                  <a:lnTo>
                    <a:pt x="1874" y="222"/>
                  </a:lnTo>
                  <a:lnTo>
                    <a:pt x="1874" y="229"/>
                  </a:lnTo>
                  <a:lnTo>
                    <a:pt x="1874" y="243"/>
                  </a:lnTo>
                  <a:lnTo>
                    <a:pt x="1881" y="249"/>
                  </a:lnTo>
                  <a:lnTo>
                    <a:pt x="1881" y="256"/>
                  </a:lnTo>
                  <a:lnTo>
                    <a:pt x="1881" y="263"/>
                  </a:lnTo>
                  <a:lnTo>
                    <a:pt x="1881" y="277"/>
                  </a:lnTo>
                  <a:lnTo>
                    <a:pt x="1881" y="284"/>
                  </a:lnTo>
                  <a:lnTo>
                    <a:pt x="1888" y="291"/>
                  </a:lnTo>
                  <a:lnTo>
                    <a:pt x="1888" y="298"/>
                  </a:lnTo>
                  <a:lnTo>
                    <a:pt x="1888" y="312"/>
                  </a:lnTo>
                  <a:lnTo>
                    <a:pt x="1888" y="319"/>
                  </a:lnTo>
                  <a:lnTo>
                    <a:pt x="1895" y="326"/>
                  </a:lnTo>
                  <a:lnTo>
                    <a:pt x="1895" y="340"/>
                  </a:lnTo>
                  <a:lnTo>
                    <a:pt x="1895" y="347"/>
                  </a:lnTo>
                  <a:lnTo>
                    <a:pt x="1895" y="354"/>
                  </a:lnTo>
                  <a:lnTo>
                    <a:pt x="1895" y="361"/>
                  </a:lnTo>
                  <a:lnTo>
                    <a:pt x="1902" y="374"/>
                  </a:lnTo>
                  <a:lnTo>
                    <a:pt x="1902" y="381"/>
                  </a:lnTo>
                  <a:lnTo>
                    <a:pt x="1902" y="388"/>
                  </a:lnTo>
                  <a:lnTo>
                    <a:pt x="1902" y="395"/>
                  </a:lnTo>
                  <a:lnTo>
                    <a:pt x="1902" y="402"/>
                  </a:lnTo>
                  <a:lnTo>
                    <a:pt x="1909" y="416"/>
                  </a:lnTo>
                  <a:lnTo>
                    <a:pt x="1909" y="423"/>
                  </a:lnTo>
                  <a:lnTo>
                    <a:pt x="1909" y="430"/>
                  </a:lnTo>
                  <a:lnTo>
                    <a:pt x="1909" y="437"/>
                  </a:lnTo>
                  <a:lnTo>
                    <a:pt x="1909" y="444"/>
                  </a:lnTo>
                  <a:lnTo>
                    <a:pt x="1916" y="458"/>
                  </a:lnTo>
                  <a:lnTo>
                    <a:pt x="1916" y="465"/>
                  </a:lnTo>
                  <a:lnTo>
                    <a:pt x="1916" y="472"/>
                  </a:lnTo>
                  <a:lnTo>
                    <a:pt x="1916" y="478"/>
                  </a:lnTo>
                  <a:lnTo>
                    <a:pt x="1923" y="485"/>
                  </a:lnTo>
                  <a:lnTo>
                    <a:pt x="1923" y="492"/>
                  </a:lnTo>
                  <a:lnTo>
                    <a:pt x="1923" y="499"/>
                  </a:lnTo>
                  <a:lnTo>
                    <a:pt x="1923" y="506"/>
                  </a:lnTo>
                  <a:lnTo>
                    <a:pt x="1923" y="520"/>
                  </a:lnTo>
                  <a:lnTo>
                    <a:pt x="1930" y="527"/>
                  </a:lnTo>
                  <a:lnTo>
                    <a:pt x="1930" y="534"/>
                  </a:lnTo>
                  <a:lnTo>
                    <a:pt x="1930" y="541"/>
                  </a:lnTo>
                  <a:lnTo>
                    <a:pt x="1930" y="548"/>
                  </a:lnTo>
                  <a:lnTo>
                    <a:pt x="1930" y="555"/>
                  </a:lnTo>
                  <a:lnTo>
                    <a:pt x="1937" y="562"/>
                  </a:lnTo>
                  <a:lnTo>
                    <a:pt x="1937" y="569"/>
                  </a:lnTo>
                  <a:lnTo>
                    <a:pt x="1937" y="576"/>
                  </a:lnTo>
                  <a:lnTo>
                    <a:pt x="1937" y="583"/>
                  </a:lnTo>
                  <a:lnTo>
                    <a:pt x="1944" y="589"/>
                  </a:lnTo>
                  <a:lnTo>
                    <a:pt x="1944" y="596"/>
                  </a:lnTo>
                  <a:lnTo>
                    <a:pt x="1944" y="603"/>
                  </a:lnTo>
                  <a:lnTo>
                    <a:pt x="1944" y="610"/>
                  </a:lnTo>
                  <a:lnTo>
                    <a:pt x="1951" y="617"/>
                  </a:lnTo>
                  <a:lnTo>
                    <a:pt x="1951" y="624"/>
                  </a:lnTo>
                  <a:lnTo>
                    <a:pt x="1951" y="631"/>
                  </a:lnTo>
                  <a:lnTo>
                    <a:pt x="1951" y="638"/>
                  </a:lnTo>
                  <a:lnTo>
                    <a:pt x="1951" y="645"/>
                  </a:lnTo>
                  <a:lnTo>
                    <a:pt x="1958" y="652"/>
                  </a:lnTo>
                  <a:lnTo>
                    <a:pt x="1958" y="659"/>
                  </a:lnTo>
                  <a:lnTo>
                    <a:pt x="1958" y="666"/>
                  </a:lnTo>
                  <a:lnTo>
                    <a:pt x="1958" y="673"/>
                  </a:lnTo>
                  <a:lnTo>
                    <a:pt x="1965" y="680"/>
                  </a:lnTo>
                  <a:lnTo>
                    <a:pt x="1965" y="687"/>
                  </a:lnTo>
                  <a:lnTo>
                    <a:pt x="1965" y="694"/>
                  </a:lnTo>
                  <a:lnTo>
                    <a:pt x="1972" y="700"/>
                  </a:lnTo>
                  <a:lnTo>
                    <a:pt x="1972" y="707"/>
                  </a:lnTo>
                  <a:lnTo>
                    <a:pt x="1972" y="714"/>
                  </a:lnTo>
                  <a:lnTo>
                    <a:pt x="1979" y="721"/>
                  </a:lnTo>
                  <a:lnTo>
                    <a:pt x="1979" y="728"/>
                  </a:lnTo>
                  <a:lnTo>
                    <a:pt x="1979" y="735"/>
                  </a:lnTo>
                  <a:lnTo>
                    <a:pt x="1979" y="742"/>
                  </a:lnTo>
                  <a:lnTo>
                    <a:pt x="1986" y="742"/>
                  </a:lnTo>
                  <a:lnTo>
                    <a:pt x="1986" y="749"/>
                  </a:lnTo>
                  <a:lnTo>
                    <a:pt x="1986" y="756"/>
                  </a:lnTo>
                  <a:lnTo>
                    <a:pt x="1986" y="763"/>
                  </a:lnTo>
                  <a:lnTo>
                    <a:pt x="1992" y="763"/>
                  </a:lnTo>
                  <a:lnTo>
                    <a:pt x="1992" y="770"/>
                  </a:lnTo>
                  <a:lnTo>
                    <a:pt x="1992" y="777"/>
                  </a:lnTo>
                  <a:lnTo>
                    <a:pt x="1999" y="784"/>
                  </a:lnTo>
                  <a:lnTo>
                    <a:pt x="1999" y="791"/>
                  </a:lnTo>
                  <a:lnTo>
                    <a:pt x="1999" y="798"/>
                  </a:lnTo>
                  <a:lnTo>
                    <a:pt x="2006" y="798"/>
                  </a:lnTo>
                  <a:lnTo>
                    <a:pt x="2006" y="805"/>
                  </a:lnTo>
                  <a:lnTo>
                    <a:pt x="2006" y="811"/>
                  </a:lnTo>
                  <a:lnTo>
                    <a:pt x="2013" y="811"/>
                  </a:lnTo>
                  <a:lnTo>
                    <a:pt x="2013" y="818"/>
                  </a:lnTo>
                  <a:lnTo>
                    <a:pt x="2013" y="825"/>
                  </a:lnTo>
                  <a:lnTo>
                    <a:pt x="2020" y="832"/>
                  </a:lnTo>
                  <a:lnTo>
                    <a:pt x="2020" y="839"/>
                  </a:lnTo>
                  <a:lnTo>
                    <a:pt x="2027" y="839"/>
                  </a:lnTo>
                  <a:lnTo>
                    <a:pt x="2027" y="846"/>
                  </a:lnTo>
                  <a:lnTo>
                    <a:pt x="2027" y="853"/>
                  </a:lnTo>
                  <a:lnTo>
                    <a:pt x="2034" y="853"/>
                  </a:lnTo>
                  <a:lnTo>
                    <a:pt x="2034" y="860"/>
                  </a:lnTo>
                  <a:lnTo>
                    <a:pt x="2041" y="867"/>
                  </a:lnTo>
                  <a:lnTo>
                    <a:pt x="2041" y="874"/>
                  </a:lnTo>
                  <a:lnTo>
                    <a:pt x="2048" y="874"/>
                  </a:lnTo>
                  <a:lnTo>
                    <a:pt x="2048" y="881"/>
                  </a:lnTo>
                  <a:lnTo>
                    <a:pt x="2055" y="881"/>
                  </a:lnTo>
                  <a:lnTo>
                    <a:pt x="2055" y="888"/>
                  </a:lnTo>
                  <a:lnTo>
                    <a:pt x="2055" y="895"/>
                  </a:lnTo>
                  <a:lnTo>
                    <a:pt x="2062" y="895"/>
                  </a:lnTo>
                  <a:lnTo>
                    <a:pt x="2062" y="902"/>
                  </a:lnTo>
                  <a:lnTo>
                    <a:pt x="2069" y="902"/>
                  </a:lnTo>
                  <a:lnTo>
                    <a:pt x="2069" y="909"/>
                  </a:lnTo>
                  <a:lnTo>
                    <a:pt x="2076" y="909"/>
                  </a:lnTo>
                  <a:lnTo>
                    <a:pt x="2076" y="916"/>
                  </a:lnTo>
                  <a:lnTo>
                    <a:pt x="2083" y="916"/>
                  </a:lnTo>
                  <a:lnTo>
                    <a:pt x="2083" y="922"/>
                  </a:lnTo>
                  <a:lnTo>
                    <a:pt x="2090" y="922"/>
                  </a:lnTo>
                  <a:lnTo>
                    <a:pt x="2097" y="922"/>
                  </a:lnTo>
                  <a:lnTo>
                    <a:pt x="2097" y="929"/>
                  </a:lnTo>
                  <a:lnTo>
                    <a:pt x="2104" y="929"/>
                  </a:lnTo>
                  <a:lnTo>
                    <a:pt x="2104" y="936"/>
                  </a:lnTo>
                  <a:lnTo>
                    <a:pt x="2111" y="936"/>
                  </a:lnTo>
                  <a:lnTo>
                    <a:pt x="2117" y="936"/>
                  </a:lnTo>
                  <a:lnTo>
                    <a:pt x="2117" y="943"/>
                  </a:lnTo>
                  <a:lnTo>
                    <a:pt x="2124" y="943"/>
                  </a:lnTo>
                  <a:lnTo>
                    <a:pt x="2131" y="943"/>
                  </a:lnTo>
                  <a:lnTo>
                    <a:pt x="2138" y="943"/>
                  </a:lnTo>
                  <a:lnTo>
                    <a:pt x="2138" y="950"/>
                  </a:lnTo>
                  <a:lnTo>
                    <a:pt x="2145" y="950"/>
                  </a:lnTo>
                  <a:lnTo>
                    <a:pt x="2152" y="950"/>
                  </a:lnTo>
                  <a:lnTo>
                    <a:pt x="2159" y="950"/>
                  </a:lnTo>
                  <a:lnTo>
                    <a:pt x="2166" y="950"/>
                  </a:lnTo>
                  <a:lnTo>
                    <a:pt x="2166" y="957"/>
                  </a:lnTo>
                  <a:lnTo>
                    <a:pt x="2173" y="957"/>
                  </a:lnTo>
                  <a:lnTo>
                    <a:pt x="2180" y="957"/>
                  </a:lnTo>
                  <a:lnTo>
                    <a:pt x="2187" y="957"/>
                  </a:lnTo>
                  <a:lnTo>
                    <a:pt x="2194" y="957"/>
                  </a:lnTo>
                  <a:lnTo>
                    <a:pt x="2201" y="957"/>
                  </a:lnTo>
                  <a:lnTo>
                    <a:pt x="2208" y="957"/>
                  </a:lnTo>
                  <a:lnTo>
                    <a:pt x="2215" y="957"/>
                  </a:lnTo>
                  <a:lnTo>
                    <a:pt x="2222" y="957"/>
                  </a:lnTo>
                  <a:lnTo>
                    <a:pt x="2229" y="957"/>
                  </a:lnTo>
                  <a:lnTo>
                    <a:pt x="2229" y="950"/>
                  </a:lnTo>
                  <a:lnTo>
                    <a:pt x="2235" y="950"/>
                  </a:lnTo>
                  <a:lnTo>
                    <a:pt x="2242" y="950"/>
                  </a:lnTo>
                  <a:lnTo>
                    <a:pt x="2249" y="950"/>
                  </a:lnTo>
                  <a:lnTo>
                    <a:pt x="2256" y="950"/>
                  </a:lnTo>
                  <a:lnTo>
                    <a:pt x="2263" y="950"/>
                  </a:lnTo>
                  <a:lnTo>
                    <a:pt x="2270" y="950"/>
                  </a:lnTo>
                  <a:lnTo>
                    <a:pt x="2277" y="950"/>
                  </a:lnTo>
                  <a:lnTo>
                    <a:pt x="2277" y="943"/>
                  </a:lnTo>
                  <a:lnTo>
                    <a:pt x="2284" y="943"/>
                  </a:lnTo>
                  <a:lnTo>
                    <a:pt x="2291" y="943"/>
                  </a:lnTo>
                  <a:lnTo>
                    <a:pt x="2298" y="943"/>
                  </a:lnTo>
                  <a:lnTo>
                    <a:pt x="2305" y="943"/>
                  </a:lnTo>
                  <a:lnTo>
                    <a:pt x="2312" y="943"/>
                  </a:lnTo>
                  <a:lnTo>
                    <a:pt x="2319" y="943"/>
                  </a:lnTo>
                  <a:lnTo>
                    <a:pt x="2319" y="936"/>
                  </a:lnTo>
                  <a:lnTo>
                    <a:pt x="2326" y="936"/>
                  </a:lnTo>
                  <a:lnTo>
                    <a:pt x="2333" y="936"/>
                  </a:lnTo>
                  <a:lnTo>
                    <a:pt x="2340" y="936"/>
                  </a:lnTo>
                  <a:lnTo>
                    <a:pt x="2347" y="936"/>
                  </a:lnTo>
                  <a:lnTo>
                    <a:pt x="2354" y="936"/>
                  </a:lnTo>
                  <a:lnTo>
                    <a:pt x="2360" y="936"/>
                  </a:lnTo>
                  <a:lnTo>
                    <a:pt x="2367" y="936"/>
                  </a:lnTo>
                  <a:lnTo>
                    <a:pt x="2374" y="936"/>
                  </a:lnTo>
                  <a:lnTo>
                    <a:pt x="2381" y="936"/>
                  </a:lnTo>
                  <a:lnTo>
                    <a:pt x="2388" y="936"/>
                  </a:lnTo>
                  <a:lnTo>
                    <a:pt x="2395" y="936"/>
                  </a:lnTo>
                  <a:lnTo>
                    <a:pt x="2402" y="936"/>
                  </a:lnTo>
                  <a:lnTo>
                    <a:pt x="2409" y="936"/>
                  </a:lnTo>
                  <a:lnTo>
                    <a:pt x="2416" y="936"/>
                  </a:lnTo>
                  <a:lnTo>
                    <a:pt x="2423" y="936"/>
                  </a:lnTo>
                  <a:lnTo>
                    <a:pt x="2430" y="936"/>
                  </a:lnTo>
                  <a:lnTo>
                    <a:pt x="2437" y="936"/>
                  </a:lnTo>
                  <a:lnTo>
                    <a:pt x="2444" y="936"/>
                  </a:lnTo>
                  <a:lnTo>
                    <a:pt x="2451" y="936"/>
                  </a:lnTo>
                  <a:lnTo>
                    <a:pt x="2458" y="936"/>
                  </a:lnTo>
                  <a:lnTo>
                    <a:pt x="2458" y="943"/>
                  </a:lnTo>
                  <a:lnTo>
                    <a:pt x="2465" y="943"/>
                  </a:lnTo>
                  <a:lnTo>
                    <a:pt x="2472" y="943"/>
                  </a:lnTo>
                  <a:lnTo>
                    <a:pt x="2478" y="943"/>
                  </a:lnTo>
                  <a:lnTo>
                    <a:pt x="2485" y="943"/>
                  </a:lnTo>
                  <a:lnTo>
                    <a:pt x="2485" y="950"/>
                  </a:lnTo>
                  <a:lnTo>
                    <a:pt x="2492" y="950"/>
                  </a:lnTo>
                  <a:lnTo>
                    <a:pt x="2499" y="950"/>
                  </a:lnTo>
                  <a:lnTo>
                    <a:pt x="2506" y="950"/>
                  </a:lnTo>
                  <a:lnTo>
                    <a:pt x="2513" y="950"/>
                  </a:lnTo>
                  <a:lnTo>
                    <a:pt x="2513" y="957"/>
                  </a:lnTo>
                  <a:lnTo>
                    <a:pt x="2520" y="957"/>
                  </a:lnTo>
                  <a:lnTo>
                    <a:pt x="2527" y="957"/>
                  </a:lnTo>
                  <a:lnTo>
                    <a:pt x="2527" y="964"/>
                  </a:lnTo>
                  <a:lnTo>
                    <a:pt x="2534" y="964"/>
                  </a:lnTo>
                  <a:lnTo>
                    <a:pt x="2541" y="964"/>
                  </a:lnTo>
                  <a:lnTo>
                    <a:pt x="2548" y="964"/>
                  </a:lnTo>
                  <a:lnTo>
                    <a:pt x="2548" y="971"/>
                  </a:lnTo>
                  <a:lnTo>
                    <a:pt x="2555" y="971"/>
                  </a:lnTo>
                  <a:lnTo>
                    <a:pt x="2562" y="971"/>
                  </a:lnTo>
                  <a:lnTo>
                    <a:pt x="2562" y="978"/>
                  </a:lnTo>
                  <a:lnTo>
                    <a:pt x="2569" y="978"/>
                  </a:lnTo>
                  <a:lnTo>
                    <a:pt x="2576" y="978"/>
                  </a:lnTo>
                  <a:lnTo>
                    <a:pt x="2583" y="985"/>
                  </a:lnTo>
                  <a:lnTo>
                    <a:pt x="2590" y="985"/>
                  </a:lnTo>
                  <a:lnTo>
                    <a:pt x="2597" y="985"/>
                  </a:lnTo>
                  <a:lnTo>
                    <a:pt x="2597" y="992"/>
                  </a:lnTo>
                  <a:lnTo>
                    <a:pt x="2603" y="992"/>
                  </a:lnTo>
                  <a:lnTo>
                    <a:pt x="2610" y="992"/>
                  </a:lnTo>
                  <a:lnTo>
                    <a:pt x="2610" y="999"/>
                  </a:lnTo>
                  <a:lnTo>
                    <a:pt x="2617" y="999"/>
                  </a:lnTo>
                  <a:lnTo>
                    <a:pt x="2624" y="999"/>
                  </a:lnTo>
                  <a:lnTo>
                    <a:pt x="2624" y="1006"/>
                  </a:lnTo>
                  <a:lnTo>
                    <a:pt x="2631" y="1006"/>
                  </a:lnTo>
                  <a:lnTo>
                    <a:pt x="2638" y="1006"/>
                  </a:lnTo>
                  <a:lnTo>
                    <a:pt x="2638" y="1013"/>
                  </a:lnTo>
                  <a:lnTo>
                    <a:pt x="2645" y="1013"/>
                  </a:lnTo>
                  <a:lnTo>
                    <a:pt x="2652" y="1013"/>
                  </a:lnTo>
                  <a:lnTo>
                    <a:pt x="2652" y="1020"/>
                  </a:lnTo>
                  <a:lnTo>
                    <a:pt x="2659" y="1020"/>
                  </a:lnTo>
                  <a:lnTo>
                    <a:pt x="2666" y="1020"/>
                  </a:lnTo>
                  <a:lnTo>
                    <a:pt x="2666" y="1027"/>
                  </a:lnTo>
                  <a:lnTo>
                    <a:pt x="2673" y="1027"/>
                  </a:lnTo>
                  <a:lnTo>
                    <a:pt x="2680" y="1027"/>
                  </a:lnTo>
                  <a:lnTo>
                    <a:pt x="2680" y="1034"/>
                  </a:lnTo>
                  <a:lnTo>
                    <a:pt x="2687" y="1034"/>
                  </a:lnTo>
                  <a:lnTo>
                    <a:pt x="2694" y="1034"/>
                  </a:lnTo>
                  <a:lnTo>
                    <a:pt x="2694" y="1040"/>
                  </a:lnTo>
                  <a:lnTo>
                    <a:pt x="2701" y="1040"/>
                  </a:lnTo>
                  <a:lnTo>
                    <a:pt x="2708" y="1040"/>
                  </a:lnTo>
                  <a:lnTo>
                    <a:pt x="2715" y="1047"/>
                  </a:lnTo>
                  <a:lnTo>
                    <a:pt x="2721" y="1047"/>
                  </a:lnTo>
                  <a:lnTo>
                    <a:pt x="2728" y="1054"/>
                  </a:lnTo>
                  <a:lnTo>
                    <a:pt x="2735" y="1054"/>
                  </a:lnTo>
                  <a:lnTo>
                    <a:pt x="2742" y="1054"/>
                  </a:lnTo>
                  <a:lnTo>
                    <a:pt x="2742" y="1061"/>
                  </a:lnTo>
                  <a:lnTo>
                    <a:pt x="2749" y="1061"/>
                  </a:lnTo>
                  <a:lnTo>
                    <a:pt x="2756" y="1061"/>
                  </a:lnTo>
                  <a:lnTo>
                    <a:pt x="2756" y="1068"/>
                  </a:lnTo>
                  <a:lnTo>
                    <a:pt x="2763" y="1068"/>
                  </a:lnTo>
                  <a:lnTo>
                    <a:pt x="2770" y="1068"/>
                  </a:lnTo>
                  <a:lnTo>
                    <a:pt x="2777" y="1068"/>
                  </a:lnTo>
                  <a:lnTo>
                    <a:pt x="2777" y="1075"/>
                  </a:lnTo>
                  <a:lnTo>
                    <a:pt x="2784" y="1075"/>
                  </a:lnTo>
                  <a:lnTo>
                    <a:pt x="2791" y="1075"/>
                  </a:lnTo>
                  <a:lnTo>
                    <a:pt x="2798" y="1075"/>
                  </a:lnTo>
                  <a:lnTo>
                    <a:pt x="2798" y="1082"/>
                  </a:lnTo>
                  <a:lnTo>
                    <a:pt x="2805" y="1082"/>
                  </a:lnTo>
                  <a:lnTo>
                    <a:pt x="2812" y="1082"/>
                  </a:lnTo>
                  <a:lnTo>
                    <a:pt x="2819" y="1082"/>
                  </a:lnTo>
                  <a:lnTo>
                    <a:pt x="2819" y="1089"/>
                  </a:lnTo>
                  <a:lnTo>
                    <a:pt x="2826" y="1089"/>
                  </a:lnTo>
                  <a:lnTo>
                    <a:pt x="2833" y="1089"/>
                  </a:lnTo>
                  <a:lnTo>
                    <a:pt x="2840" y="1089"/>
                  </a:lnTo>
                  <a:lnTo>
                    <a:pt x="2840" y="1096"/>
                  </a:lnTo>
                  <a:lnTo>
                    <a:pt x="2846" y="1096"/>
                  </a:lnTo>
                  <a:lnTo>
                    <a:pt x="2853" y="1096"/>
                  </a:lnTo>
                  <a:lnTo>
                    <a:pt x="2860" y="1096"/>
                  </a:lnTo>
                  <a:lnTo>
                    <a:pt x="2867" y="1096"/>
                  </a:lnTo>
                  <a:lnTo>
                    <a:pt x="2867" y="1103"/>
                  </a:lnTo>
                  <a:lnTo>
                    <a:pt x="2874" y="1103"/>
                  </a:lnTo>
                  <a:lnTo>
                    <a:pt x="2881" y="1103"/>
                  </a:lnTo>
                  <a:lnTo>
                    <a:pt x="2888" y="1103"/>
                  </a:lnTo>
                  <a:lnTo>
                    <a:pt x="2895" y="1103"/>
                  </a:lnTo>
                  <a:lnTo>
                    <a:pt x="2902" y="1103"/>
                  </a:lnTo>
                  <a:lnTo>
                    <a:pt x="2902" y="1110"/>
                  </a:lnTo>
                  <a:lnTo>
                    <a:pt x="2909" y="1110"/>
                  </a:lnTo>
                  <a:lnTo>
                    <a:pt x="2916" y="1110"/>
                  </a:lnTo>
                  <a:lnTo>
                    <a:pt x="2923" y="1110"/>
                  </a:lnTo>
                  <a:lnTo>
                    <a:pt x="2930" y="1110"/>
                  </a:lnTo>
                  <a:lnTo>
                    <a:pt x="2937" y="1110"/>
                  </a:lnTo>
                  <a:lnTo>
                    <a:pt x="2944" y="1110"/>
                  </a:lnTo>
                  <a:lnTo>
                    <a:pt x="2951" y="1110"/>
                  </a:lnTo>
                  <a:lnTo>
                    <a:pt x="2951" y="1117"/>
                  </a:lnTo>
                  <a:lnTo>
                    <a:pt x="2958" y="1117"/>
                  </a:lnTo>
                  <a:lnTo>
                    <a:pt x="2964" y="1117"/>
                  </a:lnTo>
                  <a:lnTo>
                    <a:pt x="2971" y="1117"/>
                  </a:lnTo>
                  <a:lnTo>
                    <a:pt x="2978" y="1117"/>
                  </a:lnTo>
                  <a:lnTo>
                    <a:pt x="2985" y="1117"/>
                  </a:lnTo>
                  <a:lnTo>
                    <a:pt x="2992" y="1117"/>
                  </a:lnTo>
                  <a:lnTo>
                    <a:pt x="2999" y="1117"/>
                  </a:lnTo>
                </a:path>
              </a:pathLst>
            </a:custGeom>
            <a:noFill/>
            <a:ln cap="rnd" w="255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17680" y="2627280"/>
              <a:ext cx="4762440" cy="3657600"/>
            </a:xfrm>
            <a:custGeom>
              <a:avLst/>
              <a:gdLst/>
              <a:ahLst/>
              <a:rect l="l" t="t" r="r" b="b"/>
              <a:pathLst>
                <a:path w="3000" h="2304">
                  <a:moveTo>
                    <a:pt x="0" y="1630"/>
                  </a:moveTo>
                  <a:lnTo>
                    <a:pt x="7" y="1630"/>
                  </a:lnTo>
                  <a:lnTo>
                    <a:pt x="14" y="1630"/>
                  </a:lnTo>
                  <a:lnTo>
                    <a:pt x="21" y="1630"/>
                  </a:lnTo>
                  <a:lnTo>
                    <a:pt x="21" y="1623"/>
                  </a:lnTo>
                  <a:lnTo>
                    <a:pt x="28" y="1623"/>
                  </a:lnTo>
                  <a:lnTo>
                    <a:pt x="35" y="1623"/>
                  </a:lnTo>
                  <a:lnTo>
                    <a:pt x="35" y="1616"/>
                  </a:lnTo>
                  <a:lnTo>
                    <a:pt x="42" y="1616"/>
                  </a:lnTo>
                  <a:lnTo>
                    <a:pt x="48" y="1609"/>
                  </a:lnTo>
                  <a:lnTo>
                    <a:pt x="55" y="1602"/>
                  </a:lnTo>
                  <a:lnTo>
                    <a:pt x="62" y="1596"/>
                  </a:lnTo>
                  <a:lnTo>
                    <a:pt x="69" y="1589"/>
                  </a:lnTo>
                  <a:lnTo>
                    <a:pt x="69" y="1582"/>
                  </a:lnTo>
                  <a:lnTo>
                    <a:pt x="76" y="1582"/>
                  </a:lnTo>
                  <a:lnTo>
                    <a:pt x="76" y="1575"/>
                  </a:lnTo>
                  <a:lnTo>
                    <a:pt x="83" y="1575"/>
                  </a:lnTo>
                  <a:lnTo>
                    <a:pt x="83" y="1568"/>
                  </a:lnTo>
                  <a:lnTo>
                    <a:pt x="90" y="1561"/>
                  </a:lnTo>
                  <a:lnTo>
                    <a:pt x="90" y="1554"/>
                  </a:lnTo>
                  <a:lnTo>
                    <a:pt x="97" y="1554"/>
                  </a:lnTo>
                  <a:lnTo>
                    <a:pt x="97" y="1547"/>
                  </a:lnTo>
                  <a:lnTo>
                    <a:pt x="104" y="1540"/>
                  </a:lnTo>
                  <a:lnTo>
                    <a:pt x="104" y="1533"/>
                  </a:lnTo>
                  <a:lnTo>
                    <a:pt x="111" y="1533"/>
                  </a:lnTo>
                  <a:lnTo>
                    <a:pt x="111" y="1526"/>
                  </a:lnTo>
                  <a:lnTo>
                    <a:pt x="111" y="1519"/>
                  </a:lnTo>
                  <a:lnTo>
                    <a:pt x="118" y="1519"/>
                  </a:lnTo>
                  <a:lnTo>
                    <a:pt x="118" y="1512"/>
                  </a:lnTo>
                  <a:lnTo>
                    <a:pt x="125" y="1505"/>
                  </a:lnTo>
                  <a:lnTo>
                    <a:pt x="125" y="1498"/>
                  </a:lnTo>
                  <a:lnTo>
                    <a:pt x="132" y="1491"/>
                  </a:lnTo>
                  <a:lnTo>
                    <a:pt x="132" y="1485"/>
                  </a:lnTo>
                  <a:lnTo>
                    <a:pt x="132" y="1478"/>
                  </a:lnTo>
                  <a:lnTo>
                    <a:pt x="139" y="1478"/>
                  </a:lnTo>
                  <a:lnTo>
                    <a:pt x="139" y="1471"/>
                  </a:lnTo>
                  <a:lnTo>
                    <a:pt x="146" y="1464"/>
                  </a:lnTo>
                  <a:lnTo>
                    <a:pt x="146" y="1457"/>
                  </a:lnTo>
                  <a:lnTo>
                    <a:pt x="153" y="1450"/>
                  </a:lnTo>
                  <a:lnTo>
                    <a:pt x="153" y="1443"/>
                  </a:lnTo>
                  <a:lnTo>
                    <a:pt x="160" y="1436"/>
                  </a:lnTo>
                  <a:lnTo>
                    <a:pt x="160" y="1429"/>
                  </a:lnTo>
                  <a:lnTo>
                    <a:pt x="160" y="1422"/>
                  </a:lnTo>
                  <a:lnTo>
                    <a:pt x="167" y="1422"/>
                  </a:lnTo>
                  <a:lnTo>
                    <a:pt x="167" y="1415"/>
                  </a:lnTo>
                  <a:lnTo>
                    <a:pt x="173" y="1408"/>
                  </a:lnTo>
                  <a:lnTo>
                    <a:pt x="173" y="1401"/>
                  </a:lnTo>
                  <a:lnTo>
                    <a:pt x="180" y="1394"/>
                  </a:lnTo>
                  <a:lnTo>
                    <a:pt x="180" y="1387"/>
                  </a:lnTo>
                  <a:lnTo>
                    <a:pt x="187" y="1380"/>
                  </a:lnTo>
                  <a:lnTo>
                    <a:pt x="187" y="1374"/>
                  </a:lnTo>
                  <a:lnTo>
                    <a:pt x="194" y="1367"/>
                  </a:lnTo>
                  <a:lnTo>
                    <a:pt x="194" y="1360"/>
                  </a:lnTo>
                  <a:lnTo>
                    <a:pt x="201" y="1360"/>
                  </a:lnTo>
                  <a:lnTo>
                    <a:pt x="201" y="1353"/>
                  </a:lnTo>
                  <a:lnTo>
                    <a:pt x="208" y="1346"/>
                  </a:lnTo>
                  <a:lnTo>
                    <a:pt x="208" y="1339"/>
                  </a:lnTo>
                  <a:lnTo>
                    <a:pt x="215" y="1339"/>
                  </a:lnTo>
                  <a:lnTo>
                    <a:pt x="215" y="1332"/>
                  </a:lnTo>
                  <a:lnTo>
                    <a:pt x="222" y="1332"/>
                  </a:lnTo>
                  <a:lnTo>
                    <a:pt x="222" y="1325"/>
                  </a:lnTo>
                  <a:lnTo>
                    <a:pt x="229" y="1325"/>
                  </a:lnTo>
                  <a:lnTo>
                    <a:pt x="229" y="1318"/>
                  </a:lnTo>
                  <a:lnTo>
                    <a:pt x="236" y="1318"/>
                  </a:lnTo>
                  <a:lnTo>
                    <a:pt x="236" y="1311"/>
                  </a:lnTo>
                  <a:lnTo>
                    <a:pt x="243" y="1311"/>
                  </a:lnTo>
                  <a:lnTo>
                    <a:pt x="250" y="1311"/>
                  </a:lnTo>
                  <a:lnTo>
                    <a:pt x="250" y="1304"/>
                  </a:lnTo>
                  <a:lnTo>
                    <a:pt x="257" y="1304"/>
                  </a:lnTo>
                  <a:lnTo>
                    <a:pt x="264" y="1304"/>
                  </a:lnTo>
                  <a:lnTo>
                    <a:pt x="271" y="1304"/>
                  </a:lnTo>
                  <a:lnTo>
                    <a:pt x="271" y="1311"/>
                  </a:lnTo>
                  <a:lnTo>
                    <a:pt x="278" y="1311"/>
                  </a:lnTo>
                  <a:lnTo>
                    <a:pt x="285" y="1311"/>
                  </a:lnTo>
                  <a:lnTo>
                    <a:pt x="285" y="1318"/>
                  </a:lnTo>
                  <a:lnTo>
                    <a:pt x="291" y="1318"/>
                  </a:lnTo>
                  <a:lnTo>
                    <a:pt x="291" y="1325"/>
                  </a:lnTo>
                  <a:lnTo>
                    <a:pt x="298" y="1325"/>
                  </a:lnTo>
                  <a:lnTo>
                    <a:pt x="305" y="1332"/>
                  </a:lnTo>
                  <a:lnTo>
                    <a:pt x="312" y="1339"/>
                  </a:lnTo>
                  <a:lnTo>
                    <a:pt x="312" y="1346"/>
                  </a:lnTo>
                  <a:lnTo>
                    <a:pt x="319" y="1346"/>
                  </a:lnTo>
                  <a:lnTo>
                    <a:pt x="319" y="1353"/>
                  </a:lnTo>
                  <a:lnTo>
                    <a:pt x="326" y="1353"/>
                  </a:lnTo>
                  <a:lnTo>
                    <a:pt x="326" y="1360"/>
                  </a:lnTo>
                  <a:lnTo>
                    <a:pt x="333" y="1360"/>
                  </a:lnTo>
                  <a:lnTo>
                    <a:pt x="333" y="1367"/>
                  </a:lnTo>
                  <a:lnTo>
                    <a:pt x="340" y="1374"/>
                  </a:lnTo>
                  <a:lnTo>
                    <a:pt x="340" y="1380"/>
                  </a:lnTo>
                  <a:lnTo>
                    <a:pt x="347" y="1380"/>
                  </a:lnTo>
                  <a:lnTo>
                    <a:pt x="347" y="1387"/>
                  </a:lnTo>
                  <a:lnTo>
                    <a:pt x="354" y="1387"/>
                  </a:lnTo>
                  <a:lnTo>
                    <a:pt x="354" y="1394"/>
                  </a:lnTo>
                  <a:lnTo>
                    <a:pt x="361" y="1394"/>
                  </a:lnTo>
                  <a:lnTo>
                    <a:pt x="361" y="1401"/>
                  </a:lnTo>
                  <a:lnTo>
                    <a:pt x="368" y="1401"/>
                  </a:lnTo>
                  <a:lnTo>
                    <a:pt x="368" y="1408"/>
                  </a:lnTo>
                  <a:lnTo>
                    <a:pt x="375" y="1408"/>
                  </a:lnTo>
                  <a:lnTo>
                    <a:pt x="375" y="1415"/>
                  </a:lnTo>
                  <a:lnTo>
                    <a:pt x="382" y="1415"/>
                  </a:lnTo>
                  <a:lnTo>
                    <a:pt x="389" y="1415"/>
                  </a:lnTo>
                  <a:lnTo>
                    <a:pt x="389" y="1422"/>
                  </a:lnTo>
                  <a:lnTo>
                    <a:pt x="396" y="1422"/>
                  </a:lnTo>
                  <a:lnTo>
                    <a:pt x="403" y="1422"/>
                  </a:lnTo>
                  <a:lnTo>
                    <a:pt x="410" y="1422"/>
                  </a:lnTo>
                  <a:lnTo>
                    <a:pt x="410" y="1415"/>
                  </a:lnTo>
                  <a:lnTo>
                    <a:pt x="416" y="1415"/>
                  </a:lnTo>
                  <a:lnTo>
                    <a:pt x="423" y="1408"/>
                  </a:lnTo>
                  <a:lnTo>
                    <a:pt x="430" y="1401"/>
                  </a:lnTo>
                  <a:lnTo>
                    <a:pt x="430" y="1394"/>
                  </a:lnTo>
                  <a:lnTo>
                    <a:pt x="437" y="1394"/>
                  </a:lnTo>
                  <a:lnTo>
                    <a:pt x="437" y="1387"/>
                  </a:lnTo>
                  <a:lnTo>
                    <a:pt x="437" y="1380"/>
                  </a:lnTo>
                  <a:lnTo>
                    <a:pt x="444" y="1374"/>
                  </a:lnTo>
                  <a:lnTo>
                    <a:pt x="444" y="1367"/>
                  </a:lnTo>
                  <a:lnTo>
                    <a:pt x="444" y="1360"/>
                  </a:lnTo>
                  <a:lnTo>
                    <a:pt x="451" y="1360"/>
                  </a:lnTo>
                  <a:lnTo>
                    <a:pt x="451" y="1353"/>
                  </a:lnTo>
                  <a:lnTo>
                    <a:pt x="451" y="1346"/>
                  </a:lnTo>
                  <a:lnTo>
                    <a:pt x="458" y="1339"/>
                  </a:lnTo>
                  <a:lnTo>
                    <a:pt x="458" y="1332"/>
                  </a:lnTo>
                  <a:lnTo>
                    <a:pt x="458" y="1325"/>
                  </a:lnTo>
                  <a:lnTo>
                    <a:pt x="458" y="1318"/>
                  </a:lnTo>
                  <a:lnTo>
                    <a:pt x="465" y="1311"/>
                  </a:lnTo>
                  <a:lnTo>
                    <a:pt x="465" y="1304"/>
                  </a:lnTo>
                  <a:lnTo>
                    <a:pt x="465" y="1297"/>
                  </a:lnTo>
                  <a:lnTo>
                    <a:pt x="465" y="1290"/>
                  </a:lnTo>
                  <a:lnTo>
                    <a:pt x="465" y="1283"/>
                  </a:lnTo>
                  <a:lnTo>
                    <a:pt x="472" y="1276"/>
                  </a:lnTo>
                  <a:lnTo>
                    <a:pt x="472" y="1269"/>
                  </a:lnTo>
                  <a:lnTo>
                    <a:pt x="472" y="1263"/>
                  </a:lnTo>
                  <a:lnTo>
                    <a:pt x="472" y="1256"/>
                  </a:lnTo>
                  <a:lnTo>
                    <a:pt x="479" y="1249"/>
                  </a:lnTo>
                  <a:lnTo>
                    <a:pt x="479" y="1235"/>
                  </a:lnTo>
                  <a:lnTo>
                    <a:pt x="479" y="1228"/>
                  </a:lnTo>
                  <a:lnTo>
                    <a:pt x="479" y="1221"/>
                  </a:lnTo>
                  <a:lnTo>
                    <a:pt x="479" y="1214"/>
                  </a:lnTo>
                  <a:lnTo>
                    <a:pt x="486" y="1200"/>
                  </a:lnTo>
                  <a:lnTo>
                    <a:pt x="486" y="1193"/>
                  </a:lnTo>
                  <a:lnTo>
                    <a:pt x="486" y="1179"/>
                  </a:lnTo>
                  <a:lnTo>
                    <a:pt x="486" y="1172"/>
                  </a:lnTo>
                  <a:lnTo>
                    <a:pt x="486" y="1158"/>
                  </a:lnTo>
                  <a:lnTo>
                    <a:pt x="493" y="1151"/>
                  </a:lnTo>
                  <a:lnTo>
                    <a:pt x="493" y="1138"/>
                  </a:lnTo>
                  <a:lnTo>
                    <a:pt x="493" y="1124"/>
                  </a:lnTo>
                  <a:lnTo>
                    <a:pt x="493" y="1117"/>
                  </a:lnTo>
                  <a:lnTo>
                    <a:pt x="493" y="1103"/>
                  </a:lnTo>
                  <a:lnTo>
                    <a:pt x="500" y="1089"/>
                  </a:lnTo>
                  <a:lnTo>
                    <a:pt x="500" y="1075"/>
                  </a:lnTo>
                  <a:lnTo>
                    <a:pt x="500" y="1061"/>
                  </a:lnTo>
                  <a:lnTo>
                    <a:pt x="500" y="1047"/>
                  </a:lnTo>
                  <a:lnTo>
                    <a:pt x="507" y="1034"/>
                  </a:lnTo>
                  <a:lnTo>
                    <a:pt x="507" y="1020"/>
                  </a:lnTo>
                  <a:lnTo>
                    <a:pt x="507" y="1006"/>
                  </a:lnTo>
                  <a:lnTo>
                    <a:pt x="507" y="992"/>
                  </a:lnTo>
                  <a:lnTo>
                    <a:pt x="507" y="971"/>
                  </a:lnTo>
                  <a:lnTo>
                    <a:pt x="514" y="957"/>
                  </a:lnTo>
                  <a:lnTo>
                    <a:pt x="514" y="943"/>
                  </a:lnTo>
                  <a:lnTo>
                    <a:pt x="514" y="923"/>
                  </a:lnTo>
                  <a:lnTo>
                    <a:pt x="514" y="909"/>
                  </a:lnTo>
                  <a:lnTo>
                    <a:pt x="514" y="888"/>
                  </a:lnTo>
                  <a:lnTo>
                    <a:pt x="521" y="874"/>
                  </a:lnTo>
                  <a:lnTo>
                    <a:pt x="521" y="853"/>
                  </a:lnTo>
                  <a:lnTo>
                    <a:pt x="521" y="839"/>
                  </a:lnTo>
                  <a:lnTo>
                    <a:pt x="521" y="818"/>
                  </a:lnTo>
                  <a:lnTo>
                    <a:pt x="521" y="798"/>
                  </a:lnTo>
                  <a:lnTo>
                    <a:pt x="528" y="777"/>
                  </a:lnTo>
                  <a:lnTo>
                    <a:pt x="528" y="756"/>
                  </a:lnTo>
                  <a:lnTo>
                    <a:pt x="528" y="735"/>
                  </a:lnTo>
                  <a:lnTo>
                    <a:pt x="528" y="714"/>
                  </a:lnTo>
                  <a:lnTo>
                    <a:pt x="534" y="694"/>
                  </a:lnTo>
                  <a:lnTo>
                    <a:pt x="534" y="673"/>
                  </a:lnTo>
                  <a:lnTo>
                    <a:pt x="534" y="652"/>
                  </a:lnTo>
                  <a:lnTo>
                    <a:pt x="534" y="631"/>
                  </a:lnTo>
                  <a:lnTo>
                    <a:pt x="534" y="610"/>
                  </a:lnTo>
                  <a:lnTo>
                    <a:pt x="541" y="590"/>
                  </a:lnTo>
                  <a:lnTo>
                    <a:pt x="541" y="562"/>
                  </a:lnTo>
                  <a:lnTo>
                    <a:pt x="541" y="541"/>
                  </a:lnTo>
                  <a:lnTo>
                    <a:pt x="541" y="520"/>
                  </a:lnTo>
                  <a:lnTo>
                    <a:pt x="541" y="499"/>
                  </a:lnTo>
                  <a:lnTo>
                    <a:pt x="548" y="472"/>
                  </a:lnTo>
                  <a:lnTo>
                    <a:pt x="548" y="451"/>
                  </a:lnTo>
                  <a:lnTo>
                    <a:pt x="548" y="430"/>
                  </a:lnTo>
                  <a:lnTo>
                    <a:pt x="548" y="402"/>
                  </a:lnTo>
                  <a:lnTo>
                    <a:pt x="548" y="381"/>
                  </a:lnTo>
                  <a:lnTo>
                    <a:pt x="555" y="361"/>
                  </a:lnTo>
                  <a:lnTo>
                    <a:pt x="555" y="340"/>
                  </a:lnTo>
                  <a:lnTo>
                    <a:pt x="555" y="312"/>
                  </a:lnTo>
                  <a:lnTo>
                    <a:pt x="555" y="291"/>
                  </a:lnTo>
                  <a:lnTo>
                    <a:pt x="562" y="270"/>
                  </a:lnTo>
                  <a:lnTo>
                    <a:pt x="562" y="250"/>
                  </a:lnTo>
                  <a:lnTo>
                    <a:pt x="562" y="229"/>
                  </a:lnTo>
                  <a:lnTo>
                    <a:pt x="562" y="208"/>
                  </a:lnTo>
                  <a:lnTo>
                    <a:pt x="562" y="187"/>
                  </a:lnTo>
                  <a:lnTo>
                    <a:pt x="569" y="173"/>
                  </a:lnTo>
                  <a:lnTo>
                    <a:pt x="569" y="152"/>
                  </a:lnTo>
                  <a:lnTo>
                    <a:pt x="569" y="139"/>
                  </a:lnTo>
                  <a:lnTo>
                    <a:pt x="569" y="118"/>
                  </a:lnTo>
                  <a:lnTo>
                    <a:pt x="569" y="104"/>
                  </a:lnTo>
                  <a:lnTo>
                    <a:pt x="576" y="90"/>
                  </a:lnTo>
                  <a:lnTo>
                    <a:pt x="576" y="76"/>
                  </a:lnTo>
                  <a:lnTo>
                    <a:pt x="576" y="62"/>
                  </a:lnTo>
                  <a:lnTo>
                    <a:pt x="576" y="48"/>
                  </a:lnTo>
                  <a:lnTo>
                    <a:pt x="583" y="41"/>
                  </a:lnTo>
                  <a:lnTo>
                    <a:pt x="583" y="28"/>
                  </a:lnTo>
                  <a:lnTo>
                    <a:pt x="583" y="21"/>
                  </a:lnTo>
                  <a:lnTo>
                    <a:pt x="583" y="14"/>
                  </a:lnTo>
                  <a:lnTo>
                    <a:pt x="590" y="7"/>
                  </a:lnTo>
                  <a:lnTo>
                    <a:pt x="590" y="0"/>
                  </a:lnTo>
                  <a:lnTo>
                    <a:pt x="590" y="7"/>
                  </a:lnTo>
                  <a:lnTo>
                    <a:pt x="597" y="7"/>
                  </a:lnTo>
                  <a:lnTo>
                    <a:pt x="597" y="14"/>
                  </a:lnTo>
                  <a:lnTo>
                    <a:pt x="597" y="21"/>
                  </a:lnTo>
                  <a:lnTo>
                    <a:pt x="597" y="28"/>
                  </a:lnTo>
                  <a:lnTo>
                    <a:pt x="597" y="34"/>
                  </a:lnTo>
                  <a:lnTo>
                    <a:pt x="604" y="41"/>
                  </a:lnTo>
                  <a:lnTo>
                    <a:pt x="604" y="55"/>
                  </a:lnTo>
                  <a:lnTo>
                    <a:pt x="604" y="69"/>
                  </a:lnTo>
                  <a:lnTo>
                    <a:pt x="604" y="83"/>
                  </a:lnTo>
                  <a:lnTo>
                    <a:pt x="611" y="97"/>
                  </a:lnTo>
                  <a:lnTo>
                    <a:pt x="611" y="111"/>
                  </a:lnTo>
                  <a:lnTo>
                    <a:pt x="611" y="132"/>
                  </a:lnTo>
                  <a:lnTo>
                    <a:pt x="611" y="145"/>
                  </a:lnTo>
                  <a:lnTo>
                    <a:pt x="611" y="166"/>
                  </a:lnTo>
                  <a:lnTo>
                    <a:pt x="618" y="187"/>
                  </a:lnTo>
                  <a:lnTo>
                    <a:pt x="618" y="208"/>
                  </a:lnTo>
                  <a:lnTo>
                    <a:pt x="618" y="229"/>
                  </a:lnTo>
                  <a:lnTo>
                    <a:pt x="618" y="250"/>
                  </a:lnTo>
                  <a:lnTo>
                    <a:pt x="618" y="270"/>
                  </a:lnTo>
                  <a:lnTo>
                    <a:pt x="625" y="298"/>
                  </a:lnTo>
                  <a:lnTo>
                    <a:pt x="625" y="319"/>
                  </a:lnTo>
                  <a:lnTo>
                    <a:pt x="625" y="347"/>
                  </a:lnTo>
                  <a:lnTo>
                    <a:pt x="625" y="367"/>
                  </a:lnTo>
                  <a:lnTo>
                    <a:pt x="625" y="395"/>
                  </a:lnTo>
                  <a:lnTo>
                    <a:pt x="632" y="416"/>
                  </a:lnTo>
                  <a:lnTo>
                    <a:pt x="632" y="444"/>
                  </a:lnTo>
                  <a:lnTo>
                    <a:pt x="632" y="472"/>
                  </a:lnTo>
                  <a:lnTo>
                    <a:pt x="632" y="492"/>
                  </a:lnTo>
                  <a:lnTo>
                    <a:pt x="639" y="520"/>
                  </a:lnTo>
                  <a:lnTo>
                    <a:pt x="639" y="548"/>
                  </a:lnTo>
                  <a:lnTo>
                    <a:pt x="639" y="576"/>
                  </a:lnTo>
                  <a:lnTo>
                    <a:pt x="639" y="596"/>
                  </a:lnTo>
                  <a:lnTo>
                    <a:pt x="639" y="624"/>
                  </a:lnTo>
                  <a:lnTo>
                    <a:pt x="646" y="652"/>
                  </a:lnTo>
                  <a:lnTo>
                    <a:pt x="646" y="680"/>
                  </a:lnTo>
                  <a:lnTo>
                    <a:pt x="646" y="701"/>
                  </a:lnTo>
                  <a:lnTo>
                    <a:pt x="646" y="728"/>
                  </a:lnTo>
                  <a:lnTo>
                    <a:pt x="646" y="756"/>
                  </a:lnTo>
                  <a:lnTo>
                    <a:pt x="653" y="777"/>
                  </a:lnTo>
                  <a:lnTo>
                    <a:pt x="653" y="805"/>
                  </a:lnTo>
                  <a:lnTo>
                    <a:pt x="653" y="825"/>
                  </a:lnTo>
                  <a:lnTo>
                    <a:pt x="653" y="853"/>
                  </a:lnTo>
                  <a:lnTo>
                    <a:pt x="659" y="874"/>
                  </a:lnTo>
                  <a:lnTo>
                    <a:pt x="659" y="902"/>
                  </a:lnTo>
                  <a:lnTo>
                    <a:pt x="659" y="923"/>
                  </a:lnTo>
                  <a:lnTo>
                    <a:pt x="659" y="943"/>
                  </a:lnTo>
                  <a:lnTo>
                    <a:pt x="659" y="964"/>
                  </a:lnTo>
                  <a:lnTo>
                    <a:pt x="666" y="992"/>
                  </a:lnTo>
                  <a:lnTo>
                    <a:pt x="666" y="1013"/>
                  </a:lnTo>
                  <a:lnTo>
                    <a:pt x="666" y="1034"/>
                  </a:lnTo>
                  <a:lnTo>
                    <a:pt x="666" y="1054"/>
                  </a:lnTo>
                  <a:lnTo>
                    <a:pt x="666" y="1075"/>
                  </a:lnTo>
                  <a:lnTo>
                    <a:pt x="673" y="1096"/>
                  </a:lnTo>
                  <a:lnTo>
                    <a:pt x="673" y="1117"/>
                  </a:lnTo>
                  <a:lnTo>
                    <a:pt x="673" y="1138"/>
                  </a:lnTo>
                  <a:lnTo>
                    <a:pt x="673" y="1151"/>
                  </a:lnTo>
                  <a:lnTo>
                    <a:pt x="673" y="1172"/>
                  </a:lnTo>
                  <a:lnTo>
                    <a:pt x="680" y="1193"/>
                  </a:lnTo>
                  <a:lnTo>
                    <a:pt x="680" y="1207"/>
                  </a:lnTo>
                  <a:lnTo>
                    <a:pt x="680" y="1228"/>
                  </a:lnTo>
                  <a:lnTo>
                    <a:pt x="680" y="1242"/>
                  </a:lnTo>
                  <a:lnTo>
                    <a:pt x="687" y="1263"/>
                  </a:lnTo>
                  <a:lnTo>
                    <a:pt x="687" y="1276"/>
                  </a:lnTo>
                  <a:lnTo>
                    <a:pt x="687" y="1297"/>
                  </a:lnTo>
                  <a:lnTo>
                    <a:pt x="687" y="1311"/>
                  </a:lnTo>
                  <a:lnTo>
                    <a:pt x="687" y="1325"/>
                  </a:lnTo>
                  <a:lnTo>
                    <a:pt x="694" y="1339"/>
                  </a:lnTo>
                  <a:lnTo>
                    <a:pt x="694" y="1360"/>
                  </a:lnTo>
                  <a:lnTo>
                    <a:pt x="694" y="1374"/>
                  </a:lnTo>
                  <a:lnTo>
                    <a:pt x="694" y="1387"/>
                  </a:lnTo>
                  <a:lnTo>
                    <a:pt x="694" y="1401"/>
                  </a:lnTo>
                  <a:lnTo>
                    <a:pt x="701" y="1415"/>
                  </a:lnTo>
                  <a:lnTo>
                    <a:pt x="701" y="1429"/>
                  </a:lnTo>
                  <a:lnTo>
                    <a:pt x="701" y="1443"/>
                  </a:lnTo>
                  <a:lnTo>
                    <a:pt x="701" y="1457"/>
                  </a:lnTo>
                  <a:lnTo>
                    <a:pt x="701" y="1471"/>
                  </a:lnTo>
                  <a:lnTo>
                    <a:pt x="708" y="1478"/>
                  </a:lnTo>
                  <a:lnTo>
                    <a:pt x="708" y="1491"/>
                  </a:lnTo>
                  <a:lnTo>
                    <a:pt x="708" y="1505"/>
                  </a:lnTo>
                  <a:lnTo>
                    <a:pt x="708" y="1519"/>
                  </a:lnTo>
                  <a:lnTo>
                    <a:pt x="715" y="1526"/>
                  </a:lnTo>
                  <a:lnTo>
                    <a:pt x="715" y="1540"/>
                  </a:lnTo>
                  <a:lnTo>
                    <a:pt x="715" y="1554"/>
                  </a:lnTo>
                  <a:lnTo>
                    <a:pt x="715" y="1561"/>
                  </a:lnTo>
                  <a:lnTo>
                    <a:pt x="715" y="1575"/>
                  </a:lnTo>
                  <a:lnTo>
                    <a:pt x="722" y="1582"/>
                  </a:lnTo>
                  <a:lnTo>
                    <a:pt x="722" y="1596"/>
                  </a:lnTo>
                  <a:lnTo>
                    <a:pt x="722" y="1602"/>
                  </a:lnTo>
                  <a:lnTo>
                    <a:pt x="722" y="1609"/>
                  </a:lnTo>
                  <a:lnTo>
                    <a:pt x="722" y="1623"/>
                  </a:lnTo>
                  <a:lnTo>
                    <a:pt x="729" y="1630"/>
                  </a:lnTo>
                  <a:lnTo>
                    <a:pt x="729" y="1637"/>
                  </a:lnTo>
                  <a:lnTo>
                    <a:pt x="729" y="1651"/>
                  </a:lnTo>
                  <a:lnTo>
                    <a:pt x="729" y="1658"/>
                  </a:lnTo>
                  <a:lnTo>
                    <a:pt x="736" y="1665"/>
                  </a:lnTo>
                  <a:lnTo>
                    <a:pt x="736" y="1679"/>
                  </a:lnTo>
                  <a:lnTo>
                    <a:pt x="736" y="1686"/>
                  </a:lnTo>
                  <a:lnTo>
                    <a:pt x="736" y="1693"/>
                  </a:lnTo>
                  <a:lnTo>
                    <a:pt x="736" y="1700"/>
                  </a:lnTo>
                  <a:lnTo>
                    <a:pt x="743" y="1707"/>
                  </a:lnTo>
                  <a:lnTo>
                    <a:pt x="743" y="1713"/>
                  </a:lnTo>
                  <a:lnTo>
                    <a:pt x="743" y="1720"/>
                  </a:lnTo>
                  <a:lnTo>
                    <a:pt x="743" y="1727"/>
                  </a:lnTo>
                  <a:lnTo>
                    <a:pt x="743" y="1741"/>
                  </a:lnTo>
                  <a:lnTo>
                    <a:pt x="750" y="1748"/>
                  </a:lnTo>
                  <a:lnTo>
                    <a:pt x="750" y="1755"/>
                  </a:lnTo>
                  <a:lnTo>
                    <a:pt x="750" y="1762"/>
                  </a:lnTo>
                  <a:lnTo>
                    <a:pt x="750" y="1769"/>
                  </a:lnTo>
                  <a:lnTo>
                    <a:pt x="757" y="1776"/>
                  </a:lnTo>
                  <a:lnTo>
                    <a:pt x="757" y="1783"/>
                  </a:lnTo>
                  <a:lnTo>
                    <a:pt x="757" y="1790"/>
                  </a:lnTo>
                  <a:lnTo>
                    <a:pt x="757" y="1797"/>
                  </a:lnTo>
                  <a:lnTo>
                    <a:pt x="764" y="1804"/>
                  </a:lnTo>
                  <a:lnTo>
                    <a:pt x="764" y="1811"/>
                  </a:lnTo>
                  <a:lnTo>
                    <a:pt x="764" y="1818"/>
                  </a:lnTo>
                  <a:lnTo>
                    <a:pt x="764" y="1824"/>
                  </a:lnTo>
                  <a:lnTo>
                    <a:pt x="771" y="1831"/>
                  </a:lnTo>
                  <a:lnTo>
                    <a:pt x="771" y="1838"/>
                  </a:lnTo>
                  <a:lnTo>
                    <a:pt x="771" y="1845"/>
                  </a:lnTo>
                  <a:lnTo>
                    <a:pt x="771" y="1852"/>
                  </a:lnTo>
                  <a:lnTo>
                    <a:pt x="777" y="1859"/>
                  </a:lnTo>
                  <a:lnTo>
                    <a:pt x="777" y="1866"/>
                  </a:lnTo>
                  <a:lnTo>
                    <a:pt x="777" y="1873"/>
                  </a:lnTo>
                  <a:lnTo>
                    <a:pt x="777" y="1880"/>
                  </a:lnTo>
                  <a:lnTo>
                    <a:pt x="784" y="1880"/>
                  </a:lnTo>
                  <a:lnTo>
                    <a:pt x="784" y="1887"/>
                  </a:lnTo>
                  <a:lnTo>
                    <a:pt x="784" y="1894"/>
                  </a:lnTo>
                  <a:lnTo>
                    <a:pt x="791" y="1901"/>
                  </a:lnTo>
                  <a:lnTo>
                    <a:pt x="791" y="1908"/>
                  </a:lnTo>
                  <a:lnTo>
                    <a:pt x="791" y="1915"/>
                  </a:lnTo>
                  <a:lnTo>
                    <a:pt x="798" y="1922"/>
                  </a:lnTo>
                  <a:lnTo>
                    <a:pt x="798" y="1929"/>
                  </a:lnTo>
                  <a:lnTo>
                    <a:pt x="798" y="1936"/>
                  </a:lnTo>
                  <a:lnTo>
                    <a:pt x="805" y="1936"/>
                  </a:lnTo>
                  <a:lnTo>
                    <a:pt x="805" y="1942"/>
                  </a:lnTo>
                  <a:lnTo>
                    <a:pt x="805" y="1949"/>
                  </a:lnTo>
                  <a:lnTo>
                    <a:pt x="812" y="1956"/>
                  </a:lnTo>
                  <a:lnTo>
                    <a:pt x="812" y="1963"/>
                  </a:lnTo>
                  <a:lnTo>
                    <a:pt x="819" y="1970"/>
                  </a:lnTo>
                  <a:lnTo>
                    <a:pt x="819" y="1977"/>
                  </a:lnTo>
                  <a:lnTo>
                    <a:pt x="819" y="1984"/>
                  </a:lnTo>
                  <a:lnTo>
                    <a:pt x="826" y="1984"/>
                  </a:lnTo>
                  <a:lnTo>
                    <a:pt x="826" y="1991"/>
                  </a:lnTo>
                  <a:lnTo>
                    <a:pt x="826" y="1998"/>
                  </a:lnTo>
                  <a:lnTo>
                    <a:pt x="833" y="1998"/>
                  </a:lnTo>
                  <a:lnTo>
                    <a:pt x="833" y="2005"/>
                  </a:lnTo>
                  <a:lnTo>
                    <a:pt x="840" y="2012"/>
                  </a:lnTo>
                  <a:lnTo>
                    <a:pt x="840" y="2019"/>
                  </a:lnTo>
                  <a:lnTo>
                    <a:pt x="847" y="2019"/>
                  </a:lnTo>
                  <a:lnTo>
                    <a:pt x="847" y="2026"/>
                  </a:lnTo>
                  <a:lnTo>
                    <a:pt x="847" y="2033"/>
                  </a:lnTo>
                  <a:lnTo>
                    <a:pt x="854" y="2033"/>
                  </a:lnTo>
                  <a:lnTo>
                    <a:pt x="854" y="2040"/>
                  </a:lnTo>
                  <a:lnTo>
                    <a:pt x="861" y="2047"/>
                  </a:lnTo>
                  <a:lnTo>
                    <a:pt x="868" y="2053"/>
                  </a:lnTo>
                  <a:lnTo>
                    <a:pt x="868" y="2060"/>
                  </a:lnTo>
                  <a:lnTo>
                    <a:pt x="875" y="2060"/>
                  </a:lnTo>
                  <a:lnTo>
                    <a:pt x="875" y="2067"/>
                  </a:lnTo>
                  <a:lnTo>
                    <a:pt x="882" y="2067"/>
                  </a:lnTo>
                  <a:lnTo>
                    <a:pt x="882" y="2074"/>
                  </a:lnTo>
                  <a:lnTo>
                    <a:pt x="889" y="2081"/>
                  </a:lnTo>
                  <a:lnTo>
                    <a:pt x="896" y="2088"/>
                  </a:lnTo>
                  <a:lnTo>
                    <a:pt x="896" y="2095"/>
                  </a:lnTo>
                  <a:lnTo>
                    <a:pt x="902" y="2095"/>
                  </a:lnTo>
                  <a:lnTo>
                    <a:pt x="902" y="2102"/>
                  </a:lnTo>
                  <a:lnTo>
                    <a:pt x="909" y="2102"/>
                  </a:lnTo>
                  <a:lnTo>
                    <a:pt x="916" y="2109"/>
                  </a:lnTo>
                  <a:lnTo>
                    <a:pt x="923" y="2116"/>
                  </a:lnTo>
                  <a:lnTo>
                    <a:pt x="930" y="2116"/>
                  </a:lnTo>
                  <a:lnTo>
                    <a:pt x="930" y="2123"/>
                  </a:lnTo>
                  <a:lnTo>
                    <a:pt x="937" y="2123"/>
                  </a:lnTo>
                  <a:lnTo>
                    <a:pt x="937" y="2130"/>
                  </a:lnTo>
                  <a:lnTo>
                    <a:pt x="944" y="2130"/>
                  </a:lnTo>
                  <a:lnTo>
                    <a:pt x="944" y="2137"/>
                  </a:lnTo>
                  <a:lnTo>
                    <a:pt x="951" y="2137"/>
                  </a:lnTo>
                  <a:lnTo>
                    <a:pt x="958" y="2137"/>
                  </a:lnTo>
                  <a:lnTo>
                    <a:pt x="958" y="2144"/>
                  </a:lnTo>
                  <a:lnTo>
                    <a:pt x="965" y="2144"/>
                  </a:lnTo>
                  <a:lnTo>
                    <a:pt x="965" y="2151"/>
                  </a:lnTo>
                  <a:lnTo>
                    <a:pt x="972" y="2151"/>
                  </a:lnTo>
                  <a:lnTo>
                    <a:pt x="979" y="2151"/>
                  </a:lnTo>
                  <a:lnTo>
                    <a:pt x="979" y="2158"/>
                  </a:lnTo>
                  <a:lnTo>
                    <a:pt x="986" y="2158"/>
                  </a:lnTo>
                  <a:lnTo>
                    <a:pt x="993" y="2164"/>
                  </a:lnTo>
                  <a:lnTo>
                    <a:pt x="1000" y="2164"/>
                  </a:lnTo>
                  <a:lnTo>
                    <a:pt x="1000" y="2171"/>
                  </a:lnTo>
                  <a:lnTo>
                    <a:pt x="1007" y="2171"/>
                  </a:lnTo>
                  <a:lnTo>
                    <a:pt x="1014" y="2171"/>
                  </a:lnTo>
                  <a:lnTo>
                    <a:pt x="1020" y="2178"/>
                  </a:lnTo>
                  <a:lnTo>
                    <a:pt x="1027" y="2178"/>
                  </a:lnTo>
                  <a:lnTo>
                    <a:pt x="1034" y="2185"/>
                  </a:lnTo>
                  <a:lnTo>
                    <a:pt x="1041" y="2185"/>
                  </a:lnTo>
                  <a:lnTo>
                    <a:pt x="1048" y="2185"/>
                  </a:lnTo>
                  <a:lnTo>
                    <a:pt x="1048" y="2192"/>
                  </a:lnTo>
                  <a:lnTo>
                    <a:pt x="1055" y="2192"/>
                  </a:lnTo>
                  <a:lnTo>
                    <a:pt x="1062" y="2192"/>
                  </a:lnTo>
                  <a:lnTo>
                    <a:pt x="1062" y="2199"/>
                  </a:lnTo>
                  <a:lnTo>
                    <a:pt x="1069" y="2199"/>
                  </a:lnTo>
                  <a:lnTo>
                    <a:pt x="1076" y="2199"/>
                  </a:lnTo>
                  <a:lnTo>
                    <a:pt x="1083" y="2199"/>
                  </a:lnTo>
                  <a:lnTo>
                    <a:pt x="1083" y="2206"/>
                  </a:lnTo>
                  <a:lnTo>
                    <a:pt x="1090" y="2206"/>
                  </a:lnTo>
                  <a:lnTo>
                    <a:pt x="1097" y="2206"/>
                  </a:lnTo>
                  <a:lnTo>
                    <a:pt x="1104" y="2206"/>
                  </a:lnTo>
                  <a:lnTo>
                    <a:pt x="1111" y="2213"/>
                  </a:lnTo>
                  <a:lnTo>
                    <a:pt x="1118" y="2213"/>
                  </a:lnTo>
                  <a:lnTo>
                    <a:pt x="1125" y="2213"/>
                  </a:lnTo>
                  <a:lnTo>
                    <a:pt x="1132" y="2213"/>
                  </a:lnTo>
                  <a:lnTo>
                    <a:pt x="1132" y="2220"/>
                  </a:lnTo>
                  <a:lnTo>
                    <a:pt x="1139" y="2220"/>
                  </a:lnTo>
                  <a:lnTo>
                    <a:pt x="1145" y="2220"/>
                  </a:lnTo>
                  <a:lnTo>
                    <a:pt x="1152" y="2220"/>
                  </a:lnTo>
                  <a:lnTo>
                    <a:pt x="1159" y="2220"/>
                  </a:lnTo>
                  <a:lnTo>
                    <a:pt x="1159" y="2227"/>
                  </a:lnTo>
                  <a:lnTo>
                    <a:pt x="1166" y="2227"/>
                  </a:lnTo>
                  <a:lnTo>
                    <a:pt x="1173" y="2227"/>
                  </a:lnTo>
                  <a:lnTo>
                    <a:pt x="1180" y="2227"/>
                  </a:lnTo>
                  <a:lnTo>
                    <a:pt x="1187" y="2227"/>
                  </a:lnTo>
                  <a:lnTo>
                    <a:pt x="1187" y="2234"/>
                  </a:lnTo>
                  <a:lnTo>
                    <a:pt x="1194" y="2234"/>
                  </a:lnTo>
                  <a:lnTo>
                    <a:pt x="1201" y="2234"/>
                  </a:lnTo>
                  <a:lnTo>
                    <a:pt x="1208" y="2234"/>
                  </a:lnTo>
                  <a:lnTo>
                    <a:pt x="1215" y="2234"/>
                  </a:lnTo>
                  <a:lnTo>
                    <a:pt x="1222" y="2234"/>
                  </a:lnTo>
                  <a:lnTo>
                    <a:pt x="1222" y="2241"/>
                  </a:lnTo>
                  <a:lnTo>
                    <a:pt x="1229" y="2241"/>
                  </a:lnTo>
                  <a:lnTo>
                    <a:pt x="1236" y="2241"/>
                  </a:lnTo>
                  <a:lnTo>
                    <a:pt x="1243" y="2241"/>
                  </a:lnTo>
                  <a:lnTo>
                    <a:pt x="1250" y="2241"/>
                  </a:lnTo>
                  <a:lnTo>
                    <a:pt x="1257" y="2241"/>
                  </a:lnTo>
                  <a:lnTo>
                    <a:pt x="1263" y="2241"/>
                  </a:lnTo>
                  <a:lnTo>
                    <a:pt x="1263" y="2248"/>
                  </a:lnTo>
                  <a:lnTo>
                    <a:pt x="1270" y="2248"/>
                  </a:lnTo>
                  <a:lnTo>
                    <a:pt x="1277" y="2248"/>
                  </a:lnTo>
                  <a:lnTo>
                    <a:pt x="1284" y="2248"/>
                  </a:lnTo>
                  <a:lnTo>
                    <a:pt x="1291" y="2248"/>
                  </a:lnTo>
                  <a:lnTo>
                    <a:pt x="1298" y="2248"/>
                  </a:lnTo>
                  <a:lnTo>
                    <a:pt x="1305" y="2248"/>
                  </a:lnTo>
                  <a:lnTo>
                    <a:pt x="1312" y="2255"/>
                  </a:lnTo>
                  <a:lnTo>
                    <a:pt x="1319" y="2255"/>
                  </a:lnTo>
                  <a:lnTo>
                    <a:pt x="1326" y="2255"/>
                  </a:lnTo>
                  <a:lnTo>
                    <a:pt x="1333" y="2255"/>
                  </a:lnTo>
                  <a:lnTo>
                    <a:pt x="1340" y="2255"/>
                  </a:lnTo>
                  <a:lnTo>
                    <a:pt x="1347" y="2255"/>
                  </a:lnTo>
                  <a:lnTo>
                    <a:pt x="1354" y="2255"/>
                  </a:lnTo>
                  <a:lnTo>
                    <a:pt x="1361" y="2255"/>
                  </a:lnTo>
                  <a:lnTo>
                    <a:pt x="1361" y="2262"/>
                  </a:lnTo>
                  <a:lnTo>
                    <a:pt x="1368" y="2262"/>
                  </a:lnTo>
                  <a:lnTo>
                    <a:pt x="1375" y="2262"/>
                  </a:lnTo>
                  <a:lnTo>
                    <a:pt x="1382" y="2262"/>
                  </a:lnTo>
                  <a:lnTo>
                    <a:pt x="1388" y="2262"/>
                  </a:lnTo>
                  <a:lnTo>
                    <a:pt x="1395" y="2262"/>
                  </a:lnTo>
                  <a:lnTo>
                    <a:pt x="1402" y="2262"/>
                  </a:lnTo>
                  <a:lnTo>
                    <a:pt x="1409" y="2262"/>
                  </a:lnTo>
                  <a:lnTo>
                    <a:pt x="1416" y="2262"/>
                  </a:lnTo>
                  <a:lnTo>
                    <a:pt x="1423" y="2262"/>
                  </a:lnTo>
                  <a:lnTo>
                    <a:pt x="1430" y="2262"/>
                  </a:lnTo>
                  <a:lnTo>
                    <a:pt x="1430" y="2269"/>
                  </a:lnTo>
                  <a:lnTo>
                    <a:pt x="1437" y="2269"/>
                  </a:lnTo>
                  <a:lnTo>
                    <a:pt x="1444" y="2269"/>
                  </a:lnTo>
                  <a:lnTo>
                    <a:pt x="1451" y="2269"/>
                  </a:lnTo>
                  <a:lnTo>
                    <a:pt x="1458" y="2269"/>
                  </a:lnTo>
                  <a:lnTo>
                    <a:pt x="1465" y="2269"/>
                  </a:lnTo>
                  <a:lnTo>
                    <a:pt x="1472" y="2269"/>
                  </a:lnTo>
                  <a:lnTo>
                    <a:pt x="1479" y="2269"/>
                  </a:lnTo>
                  <a:lnTo>
                    <a:pt x="1486" y="2269"/>
                  </a:lnTo>
                  <a:lnTo>
                    <a:pt x="1493" y="2269"/>
                  </a:lnTo>
                  <a:lnTo>
                    <a:pt x="1500" y="2269"/>
                  </a:lnTo>
                  <a:lnTo>
                    <a:pt x="1506" y="2269"/>
                  </a:lnTo>
                  <a:lnTo>
                    <a:pt x="1506" y="2275"/>
                  </a:lnTo>
                  <a:lnTo>
                    <a:pt x="1513" y="2275"/>
                  </a:lnTo>
                  <a:lnTo>
                    <a:pt x="1520" y="2275"/>
                  </a:lnTo>
                  <a:lnTo>
                    <a:pt x="1527" y="2275"/>
                  </a:lnTo>
                  <a:lnTo>
                    <a:pt x="1534" y="2275"/>
                  </a:lnTo>
                  <a:lnTo>
                    <a:pt x="1541" y="2275"/>
                  </a:lnTo>
                  <a:lnTo>
                    <a:pt x="1548" y="2275"/>
                  </a:lnTo>
                  <a:lnTo>
                    <a:pt x="1555" y="2275"/>
                  </a:lnTo>
                  <a:lnTo>
                    <a:pt x="1562" y="2275"/>
                  </a:lnTo>
                  <a:lnTo>
                    <a:pt x="1569" y="2275"/>
                  </a:lnTo>
                  <a:lnTo>
                    <a:pt x="1576" y="2275"/>
                  </a:lnTo>
                  <a:lnTo>
                    <a:pt x="1583" y="2275"/>
                  </a:lnTo>
                  <a:lnTo>
                    <a:pt x="1590" y="2275"/>
                  </a:lnTo>
                  <a:lnTo>
                    <a:pt x="1597" y="2275"/>
                  </a:lnTo>
                  <a:lnTo>
                    <a:pt x="1604" y="2275"/>
                  </a:lnTo>
                  <a:lnTo>
                    <a:pt x="1611" y="2275"/>
                  </a:lnTo>
                  <a:lnTo>
                    <a:pt x="1611" y="2282"/>
                  </a:lnTo>
                  <a:lnTo>
                    <a:pt x="1618" y="2282"/>
                  </a:lnTo>
                  <a:lnTo>
                    <a:pt x="1625" y="2282"/>
                  </a:lnTo>
                  <a:lnTo>
                    <a:pt x="1631" y="2282"/>
                  </a:lnTo>
                  <a:lnTo>
                    <a:pt x="1638" y="2282"/>
                  </a:lnTo>
                  <a:lnTo>
                    <a:pt x="1645" y="2282"/>
                  </a:lnTo>
                  <a:lnTo>
                    <a:pt x="1652" y="2282"/>
                  </a:lnTo>
                  <a:lnTo>
                    <a:pt x="1659" y="2282"/>
                  </a:lnTo>
                  <a:lnTo>
                    <a:pt x="1666" y="2282"/>
                  </a:lnTo>
                  <a:lnTo>
                    <a:pt x="1673" y="2282"/>
                  </a:lnTo>
                  <a:lnTo>
                    <a:pt x="1680" y="2282"/>
                  </a:lnTo>
                  <a:lnTo>
                    <a:pt x="1687" y="2282"/>
                  </a:lnTo>
                  <a:lnTo>
                    <a:pt x="1694" y="2282"/>
                  </a:lnTo>
                  <a:lnTo>
                    <a:pt x="1701" y="2282"/>
                  </a:lnTo>
                  <a:lnTo>
                    <a:pt x="1708" y="2282"/>
                  </a:lnTo>
                  <a:lnTo>
                    <a:pt x="1715" y="2282"/>
                  </a:lnTo>
                  <a:lnTo>
                    <a:pt x="1722" y="2282"/>
                  </a:lnTo>
                  <a:lnTo>
                    <a:pt x="1729" y="2282"/>
                  </a:lnTo>
                  <a:lnTo>
                    <a:pt x="1736" y="2282"/>
                  </a:lnTo>
                  <a:lnTo>
                    <a:pt x="1743" y="2282"/>
                  </a:lnTo>
                  <a:lnTo>
                    <a:pt x="1743" y="2289"/>
                  </a:lnTo>
                  <a:lnTo>
                    <a:pt x="1749" y="2289"/>
                  </a:lnTo>
                  <a:lnTo>
                    <a:pt x="1756" y="2289"/>
                  </a:lnTo>
                  <a:lnTo>
                    <a:pt x="1763" y="2289"/>
                  </a:lnTo>
                  <a:lnTo>
                    <a:pt x="1770" y="2289"/>
                  </a:lnTo>
                  <a:lnTo>
                    <a:pt x="1777" y="2289"/>
                  </a:lnTo>
                  <a:lnTo>
                    <a:pt x="1784" y="2289"/>
                  </a:lnTo>
                  <a:lnTo>
                    <a:pt x="1791" y="2289"/>
                  </a:lnTo>
                  <a:lnTo>
                    <a:pt x="1798" y="2289"/>
                  </a:lnTo>
                  <a:lnTo>
                    <a:pt x="1805" y="2289"/>
                  </a:lnTo>
                  <a:lnTo>
                    <a:pt x="1812" y="2289"/>
                  </a:lnTo>
                  <a:lnTo>
                    <a:pt x="1819" y="2289"/>
                  </a:lnTo>
                  <a:lnTo>
                    <a:pt x="1826" y="2289"/>
                  </a:lnTo>
                  <a:lnTo>
                    <a:pt x="1833" y="2289"/>
                  </a:lnTo>
                  <a:lnTo>
                    <a:pt x="1840" y="2289"/>
                  </a:lnTo>
                  <a:lnTo>
                    <a:pt x="1847" y="2289"/>
                  </a:lnTo>
                  <a:lnTo>
                    <a:pt x="1854" y="2289"/>
                  </a:lnTo>
                  <a:lnTo>
                    <a:pt x="1861" y="2289"/>
                  </a:lnTo>
                  <a:lnTo>
                    <a:pt x="1868" y="2289"/>
                  </a:lnTo>
                  <a:lnTo>
                    <a:pt x="1874" y="2289"/>
                  </a:lnTo>
                  <a:lnTo>
                    <a:pt x="1881" y="2289"/>
                  </a:lnTo>
                  <a:lnTo>
                    <a:pt x="1888" y="2289"/>
                  </a:lnTo>
                  <a:lnTo>
                    <a:pt x="1895" y="2289"/>
                  </a:lnTo>
                  <a:lnTo>
                    <a:pt x="1902" y="2289"/>
                  </a:lnTo>
                  <a:lnTo>
                    <a:pt x="1909" y="2289"/>
                  </a:lnTo>
                  <a:lnTo>
                    <a:pt x="1916" y="2289"/>
                  </a:lnTo>
                  <a:lnTo>
                    <a:pt x="1923" y="2289"/>
                  </a:lnTo>
                  <a:lnTo>
                    <a:pt x="1930" y="2289"/>
                  </a:lnTo>
                  <a:lnTo>
                    <a:pt x="1937" y="2289"/>
                  </a:lnTo>
                  <a:lnTo>
                    <a:pt x="1937" y="2296"/>
                  </a:lnTo>
                  <a:lnTo>
                    <a:pt x="1944" y="2296"/>
                  </a:lnTo>
                  <a:lnTo>
                    <a:pt x="1951" y="2296"/>
                  </a:lnTo>
                  <a:lnTo>
                    <a:pt x="1958" y="2296"/>
                  </a:lnTo>
                  <a:lnTo>
                    <a:pt x="1965" y="2296"/>
                  </a:lnTo>
                  <a:lnTo>
                    <a:pt x="1972" y="2296"/>
                  </a:lnTo>
                  <a:lnTo>
                    <a:pt x="1979" y="2296"/>
                  </a:lnTo>
                  <a:lnTo>
                    <a:pt x="1986" y="2296"/>
                  </a:lnTo>
                  <a:lnTo>
                    <a:pt x="1992" y="2296"/>
                  </a:lnTo>
                  <a:lnTo>
                    <a:pt x="1999" y="2296"/>
                  </a:lnTo>
                  <a:lnTo>
                    <a:pt x="2006" y="2296"/>
                  </a:lnTo>
                  <a:lnTo>
                    <a:pt x="2013" y="2296"/>
                  </a:lnTo>
                  <a:lnTo>
                    <a:pt x="2020" y="2296"/>
                  </a:lnTo>
                  <a:lnTo>
                    <a:pt x="2027" y="2296"/>
                  </a:lnTo>
                  <a:lnTo>
                    <a:pt x="2034" y="2296"/>
                  </a:lnTo>
                  <a:lnTo>
                    <a:pt x="2041" y="2296"/>
                  </a:lnTo>
                  <a:lnTo>
                    <a:pt x="2048" y="2296"/>
                  </a:lnTo>
                  <a:lnTo>
                    <a:pt x="2055" y="2296"/>
                  </a:lnTo>
                  <a:lnTo>
                    <a:pt x="2062" y="2296"/>
                  </a:lnTo>
                  <a:lnTo>
                    <a:pt x="2069" y="2296"/>
                  </a:lnTo>
                  <a:lnTo>
                    <a:pt x="2076" y="2296"/>
                  </a:lnTo>
                  <a:lnTo>
                    <a:pt x="2083" y="2296"/>
                  </a:lnTo>
                  <a:lnTo>
                    <a:pt x="2090" y="2296"/>
                  </a:lnTo>
                  <a:lnTo>
                    <a:pt x="2097" y="2296"/>
                  </a:lnTo>
                  <a:lnTo>
                    <a:pt x="2104" y="2296"/>
                  </a:lnTo>
                  <a:lnTo>
                    <a:pt x="2111" y="2296"/>
                  </a:lnTo>
                  <a:lnTo>
                    <a:pt x="2117" y="2296"/>
                  </a:lnTo>
                  <a:lnTo>
                    <a:pt x="2124" y="2296"/>
                  </a:lnTo>
                  <a:lnTo>
                    <a:pt x="2131" y="2296"/>
                  </a:lnTo>
                  <a:lnTo>
                    <a:pt x="2138" y="2296"/>
                  </a:lnTo>
                  <a:lnTo>
                    <a:pt x="2145" y="2296"/>
                  </a:lnTo>
                  <a:lnTo>
                    <a:pt x="2152" y="2296"/>
                  </a:lnTo>
                  <a:lnTo>
                    <a:pt x="2159" y="2296"/>
                  </a:lnTo>
                  <a:lnTo>
                    <a:pt x="2166" y="2296"/>
                  </a:lnTo>
                  <a:lnTo>
                    <a:pt x="2173" y="2296"/>
                  </a:lnTo>
                  <a:lnTo>
                    <a:pt x="2180" y="2296"/>
                  </a:lnTo>
                  <a:lnTo>
                    <a:pt x="2187" y="2296"/>
                  </a:lnTo>
                  <a:lnTo>
                    <a:pt x="2194" y="2296"/>
                  </a:lnTo>
                  <a:lnTo>
                    <a:pt x="2201" y="2296"/>
                  </a:lnTo>
                  <a:lnTo>
                    <a:pt x="2208" y="2296"/>
                  </a:lnTo>
                  <a:lnTo>
                    <a:pt x="2215" y="2296"/>
                  </a:lnTo>
                  <a:lnTo>
                    <a:pt x="2222" y="2296"/>
                  </a:lnTo>
                  <a:lnTo>
                    <a:pt x="2229" y="2296"/>
                  </a:lnTo>
                  <a:lnTo>
                    <a:pt x="2235" y="2296"/>
                  </a:lnTo>
                  <a:lnTo>
                    <a:pt x="2242" y="2296"/>
                  </a:lnTo>
                  <a:lnTo>
                    <a:pt x="2249" y="2296"/>
                  </a:lnTo>
                  <a:lnTo>
                    <a:pt x="2256" y="2296"/>
                  </a:lnTo>
                  <a:lnTo>
                    <a:pt x="2256" y="2303"/>
                  </a:lnTo>
                  <a:lnTo>
                    <a:pt x="2263" y="2303"/>
                  </a:lnTo>
                  <a:lnTo>
                    <a:pt x="2270" y="2303"/>
                  </a:lnTo>
                  <a:lnTo>
                    <a:pt x="2277" y="2303"/>
                  </a:lnTo>
                  <a:lnTo>
                    <a:pt x="2284" y="2303"/>
                  </a:lnTo>
                  <a:lnTo>
                    <a:pt x="2291" y="2303"/>
                  </a:lnTo>
                  <a:lnTo>
                    <a:pt x="2298" y="2303"/>
                  </a:lnTo>
                  <a:lnTo>
                    <a:pt x="2305" y="2303"/>
                  </a:lnTo>
                  <a:lnTo>
                    <a:pt x="2312" y="2303"/>
                  </a:lnTo>
                  <a:lnTo>
                    <a:pt x="2319" y="2303"/>
                  </a:lnTo>
                  <a:lnTo>
                    <a:pt x="2326" y="2303"/>
                  </a:lnTo>
                  <a:lnTo>
                    <a:pt x="2333" y="2303"/>
                  </a:lnTo>
                  <a:lnTo>
                    <a:pt x="2340" y="2303"/>
                  </a:lnTo>
                  <a:lnTo>
                    <a:pt x="2347" y="2303"/>
                  </a:lnTo>
                  <a:lnTo>
                    <a:pt x="2354" y="2303"/>
                  </a:lnTo>
                  <a:lnTo>
                    <a:pt x="2360" y="2303"/>
                  </a:lnTo>
                  <a:lnTo>
                    <a:pt x="2367" y="2303"/>
                  </a:lnTo>
                  <a:lnTo>
                    <a:pt x="2374" y="2303"/>
                  </a:lnTo>
                  <a:lnTo>
                    <a:pt x="2381" y="2303"/>
                  </a:lnTo>
                  <a:lnTo>
                    <a:pt x="2388" y="2303"/>
                  </a:lnTo>
                  <a:lnTo>
                    <a:pt x="2395" y="2303"/>
                  </a:lnTo>
                  <a:lnTo>
                    <a:pt x="2402" y="2303"/>
                  </a:lnTo>
                  <a:lnTo>
                    <a:pt x="2409" y="2303"/>
                  </a:lnTo>
                  <a:lnTo>
                    <a:pt x="2416" y="2303"/>
                  </a:lnTo>
                  <a:lnTo>
                    <a:pt x="2423" y="2303"/>
                  </a:lnTo>
                  <a:lnTo>
                    <a:pt x="2430" y="2303"/>
                  </a:lnTo>
                  <a:lnTo>
                    <a:pt x="2437" y="2303"/>
                  </a:lnTo>
                  <a:lnTo>
                    <a:pt x="2444" y="2303"/>
                  </a:lnTo>
                  <a:lnTo>
                    <a:pt x="2451" y="2303"/>
                  </a:lnTo>
                  <a:lnTo>
                    <a:pt x="2458" y="2303"/>
                  </a:lnTo>
                  <a:lnTo>
                    <a:pt x="2465" y="2303"/>
                  </a:lnTo>
                  <a:lnTo>
                    <a:pt x="2472" y="2303"/>
                  </a:lnTo>
                  <a:lnTo>
                    <a:pt x="2478" y="2303"/>
                  </a:lnTo>
                  <a:lnTo>
                    <a:pt x="2485" y="2303"/>
                  </a:lnTo>
                  <a:lnTo>
                    <a:pt x="2492" y="2303"/>
                  </a:lnTo>
                  <a:lnTo>
                    <a:pt x="2499" y="2303"/>
                  </a:lnTo>
                  <a:lnTo>
                    <a:pt x="2506" y="2303"/>
                  </a:lnTo>
                  <a:lnTo>
                    <a:pt x="2513" y="2303"/>
                  </a:lnTo>
                  <a:lnTo>
                    <a:pt x="2520" y="2303"/>
                  </a:lnTo>
                  <a:lnTo>
                    <a:pt x="2527" y="2303"/>
                  </a:lnTo>
                  <a:lnTo>
                    <a:pt x="2534" y="2303"/>
                  </a:lnTo>
                  <a:lnTo>
                    <a:pt x="2541" y="2303"/>
                  </a:lnTo>
                  <a:lnTo>
                    <a:pt x="2548" y="2303"/>
                  </a:lnTo>
                  <a:lnTo>
                    <a:pt x="2555" y="2303"/>
                  </a:lnTo>
                  <a:lnTo>
                    <a:pt x="2562" y="2303"/>
                  </a:lnTo>
                  <a:lnTo>
                    <a:pt x="2569" y="2303"/>
                  </a:lnTo>
                  <a:lnTo>
                    <a:pt x="2576" y="2303"/>
                  </a:lnTo>
                  <a:lnTo>
                    <a:pt x="2583" y="2303"/>
                  </a:lnTo>
                  <a:lnTo>
                    <a:pt x="2590" y="2303"/>
                  </a:lnTo>
                  <a:lnTo>
                    <a:pt x="2597" y="2303"/>
                  </a:lnTo>
                  <a:lnTo>
                    <a:pt x="2603" y="2303"/>
                  </a:lnTo>
                  <a:lnTo>
                    <a:pt x="2610" y="2303"/>
                  </a:lnTo>
                  <a:lnTo>
                    <a:pt x="2617" y="2303"/>
                  </a:lnTo>
                  <a:lnTo>
                    <a:pt x="2624" y="2303"/>
                  </a:lnTo>
                  <a:lnTo>
                    <a:pt x="2631" y="2303"/>
                  </a:lnTo>
                  <a:lnTo>
                    <a:pt x="2638" y="2303"/>
                  </a:lnTo>
                  <a:lnTo>
                    <a:pt x="2645" y="2303"/>
                  </a:lnTo>
                  <a:lnTo>
                    <a:pt x="2652" y="2303"/>
                  </a:lnTo>
                  <a:lnTo>
                    <a:pt x="2659" y="2303"/>
                  </a:lnTo>
                  <a:lnTo>
                    <a:pt x="2666" y="2303"/>
                  </a:lnTo>
                  <a:lnTo>
                    <a:pt x="2673" y="2303"/>
                  </a:lnTo>
                  <a:lnTo>
                    <a:pt x="2680" y="2303"/>
                  </a:lnTo>
                  <a:lnTo>
                    <a:pt x="2687" y="2303"/>
                  </a:lnTo>
                  <a:lnTo>
                    <a:pt x="2694" y="2303"/>
                  </a:lnTo>
                  <a:lnTo>
                    <a:pt x="2701" y="2303"/>
                  </a:lnTo>
                  <a:lnTo>
                    <a:pt x="2708" y="2303"/>
                  </a:lnTo>
                  <a:lnTo>
                    <a:pt x="2715" y="2303"/>
                  </a:lnTo>
                  <a:lnTo>
                    <a:pt x="2721" y="2303"/>
                  </a:lnTo>
                  <a:lnTo>
                    <a:pt x="2728" y="2303"/>
                  </a:lnTo>
                  <a:lnTo>
                    <a:pt x="2735" y="2303"/>
                  </a:lnTo>
                  <a:lnTo>
                    <a:pt x="2742" y="2303"/>
                  </a:lnTo>
                  <a:lnTo>
                    <a:pt x="2749" y="2303"/>
                  </a:lnTo>
                  <a:lnTo>
                    <a:pt x="2756" y="2303"/>
                  </a:lnTo>
                  <a:lnTo>
                    <a:pt x="2763" y="2303"/>
                  </a:lnTo>
                  <a:lnTo>
                    <a:pt x="2770" y="2303"/>
                  </a:lnTo>
                  <a:lnTo>
                    <a:pt x="2777" y="2303"/>
                  </a:lnTo>
                  <a:lnTo>
                    <a:pt x="2784" y="2303"/>
                  </a:lnTo>
                  <a:lnTo>
                    <a:pt x="2791" y="2303"/>
                  </a:lnTo>
                  <a:lnTo>
                    <a:pt x="2798" y="2303"/>
                  </a:lnTo>
                  <a:lnTo>
                    <a:pt x="2805" y="2303"/>
                  </a:lnTo>
                  <a:lnTo>
                    <a:pt x="2812" y="2303"/>
                  </a:lnTo>
                  <a:lnTo>
                    <a:pt x="2819" y="2303"/>
                  </a:lnTo>
                  <a:lnTo>
                    <a:pt x="2826" y="2303"/>
                  </a:lnTo>
                  <a:lnTo>
                    <a:pt x="2833" y="2303"/>
                  </a:lnTo>
                  <a:lnTo>
                    <a:pt x="2840" y="2303"/>
                  </a:lnTo>
                  <a:lnTo>
                    <a:pt x="2846" y="2303"/>
                  </a:lnTo>
                  <a:lnTo>
                    <a:pt x="2853" y="2303"/>
                  </a:lnTo>
                  <a:lnTo>
                    <a:pt x="2860" y="2303"/>
                  </a:lnTo>
                  <a:lnTo>
                    <a:pt x="2867" y="2303"/>
                  </a:lnTo>
                  <a:lnTo>
                    <a:pt x="2874" y="2303"/>
                  </a:lnTo>
                  <a:lnTo>
                    <a:pt x="2881" y="2303"/>
                  </a:lnTo>
                  <a:lnTo>
                    <a:pt x="2888" y="2303"/>
                  </a:lnTo>
                  <a:lnTo>
                    <a:pt x="2895" y="2303"/>
                  </a:lnTo>
                  <a:lnTo>
                    <a:pt x="2902" y="2303"/>
                  </a:lnTo>
                  <a:lnTo>
                    <a:pt x="2909" y="2303"/>
                  </a:lnTo>
                  <a:lnTo>
                    <a:pt x="2916" y="2303"/>
                  </a:lnTo>
                  <a:lnTo>
                    <a:pt x="2923" y="2303"/>
                  </a:lnTo>
                  <a:lnTo>
                    <a:pt x="2930" y="2303"/>
                  </a:lnTo>
                  <a:lnTo>
                    <a:pt x="2937" y="2303"/>
                  </a:lnTo>
                  <a:lnTo>
                    <a:pt x="2944" y="2303"/>
                  </a:lnTo>
                  <a:lnTo>
                    <a:pt x="2951" y="2303"/>
                  </a:lnTo>
                  <a:lnTo>
                    <a:pt x="2958" y="2303"/>
                  </a:lnTo>
                  <a:lnTo>
                    <a:pt x="2964" y="2303"/>
                  </a:lnTo>
                  <a:lnTo>
                    <a:pt x="2971" y="2303"/>
                  </a:lnTo>
                  <a:lnTo>
                    <a:pt x="2978" y="2303"/>
                  </a:lnTo>
                  <a:lnTo>
                    <a:pt x="2985" y="2303"/>
                  </a:lnTo>
                  <a:lnTo>
                    <a:pt x="2992" y="2303"/>
                  </a:lnTo>
                  <a:lnTo>
                    <a:pt x="2999" y="2303"/>
                  </a:lnTo>
                  <a:lnTo>
                    <a:pt x="2999" y="2296"/>
                  </a:lnTo>
                </a:path>
              </a:pathLst>
            </a:custGeom>
            <a:noFill/>
            <a:ln cap="rnd"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79080" y="5819760"/>
              <a:ext cx="5859720" cy="994320"/>
              <a:chOff x="2179080" y="5819760"/>
              <a:chExt cx="5859720" cy="994320"/>
            </a:xfrm>
          </p:grpSpPr>
          <p:sp>
            <p:nvSpPr>
              <p:cNvPr id="443" name=""/>
              <p:cNvSpPr/>
              <p:nvPr/>
            </p:nvSpPr>
            <p:spPr>
              <a:xfrm>
                <a:off x="2179080" y="64166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56320" y="64166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2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64320" y="64166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4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907520" y="64166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6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41000" y="64166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8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48000" y="6416640"/>
                <a:ext cx="325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257960" y="5819760"/>
                <a:ext cx="780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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787320" y="3171960"/>
              <a:ext cx="123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[uzorci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43000" y="2333520"/>
              <a:ext cx="7318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66ff33"/>
                  </a:solidFill>
                  <a:latin typeface="Symbol"/>
                  <a:ea typeface="Symbol"/>
                </a:rPr>
                <a:t></a:t>
              </a:r>
              <a:r>
                <a:rPr b="0" lang="hr-HR" sz="2800" spc="-1" strike="noStrike" baseline="-25000">
                  <a:solidFill>
                    <a:srgbClr val="66ff33"/>
                  </a:solidFill>
                  <a:latin typeface="Times New Roman"/>
                </a:rPr>
                <a:t>L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01960" y="3271680"/>
              <a:ext cx="1527840" cy="1798920"/>
            </a:xfrm>
            <a:prstGeom prst="rect">
              <a:avLst/>
            </a:prstGeom>
            <a:noFill/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Različi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vremen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grupno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kašnjen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3428640" y="2895480"/>
              <a:ext cx="3962520" cy="99072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486400" y="3886200"/>
              <a:ext cx="1905120" cy="60948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6578-34C7-4E75-BD6F-BD8FBE5BB95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transformacije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V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ožaj polova i nula filtar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Z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0" y="2538360"/>
            <a:ext cx="9142560" cy="4123440"/>
            <a:chOff x="0" y="2538360"/>
            <a:chExt cx="9142560" cy="4123440"/>
          </a:xfrm>
        </p:grpSpPr>
        <p:sp>
          <p:nvSpPr>
            <p:cNvPr id="458" name=""/>
            <p:cNvSpPr/>
            <p:nvPr/>
          </p:nvSpPr>
          <p:spPr>
            <a:xfrm>
              <a:off x="969840" y="4643280"/>
              <a:ext cx="288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4960" y="3730680"/>
              <a:ext cx="74880" cy="7632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774960" y="3730680"/>
              <a:ext cx="74880" cy="7632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74960" y="5470560"/>
              <a:ext cx="74880" cy="7632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3774960" y="5470560"/>
              <a:ext cx="74880" cy="7632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22840" y="4254480"/>
              <a:ext cx="74520" cy="7632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822480" y="4254480"/>
              <a:ext cx="74520" cy="7632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22840" y="4948200"/>
              <a:ext cx="74520" cy="7632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822480" y="4948200"/>
              <a:ext cx="74520" cy="7632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595600" y="2666520"/>
              <a:ext cx="0" cy="3886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2120" y="4643280"/>
              <a:ext cx="380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8640" y="463536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595600" y="6230880"/>
              <a:ext cx="0" cy="28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0880" y="46353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6640" y="46353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29120" y="626436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77360" y="2719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69840" y="3019320"/>
              <a:ext cx="3252960" cy="3241800"/>
            </a:xfrm>
            <a:custGeom>
              <a:avLst/>
              <a:gdLst/>
              <a:ahLst/>
              <a:rect l="l" t="t" r="r" b="b"/>
              <a:pathLst>
                <a:path w="2049" h="2042">
                  <a:moveTo>
                    <a:pt x="2048" y="1023"/>
                  </a:moveTo>
                  <a:lnTo>
                    <a:pt x="2048" y="987"/>
                  </a:lnTo>
                  <a:lnTo>
                    <a:pt x="2048" y="957"/>
                  </a:lnTo>
                  <a:lnTo>
                    <a:pt x="2042" y="921"/>
                  </a:lnTo>
                  <a:lnTo>
                    <a:pt x="2042" y="891"/>
                  </a:lnTo>
                  <a:lnTo>
                    <a:pt x="2036" y="862"/>
                  </a:lnTo>
                  <a:lnTo>
                    <a:pt x="2030" y="832"/>
                  </a:lnTo>
                  <a:lnTo>
                    <a:pt x="2024" y="796"/>
                  </a:lnTo>
                  <a:lnTo>
                    <a:pt x="2018" y="766"/>
                  </a:lnTo>
                  <a:lnTo>
                    <a:pt x="2006" y="736"/>
                  </a:lnTo>
                  <a:lnTo>
                    <a:pt x="2000" y="706"/>
                  </a:lnTo>
                  <a:lnTo>
                    <a:pt x="1988" y="676"/>
                  </a:lnTo>
                  <a:lnTo>
                    <a:pt x="1976" y="646"/>
                  </a:lnTo>
                  <a:lnTo>
                    <a:pt x="1964" y="616"/>
                  </a:lnTo>
                  <a:lnTo>
                    <a:pt x="1952" y="586"/>
                  </a:lnTo>
                  <a:lnTo>
                    <a:pt x="1934" y="556"/>
                  </a:lnTo>
                  <a:lnTo>
                    <a:pt x="1922" y="526"/>
                  </a:lnTo>
                  <a:lnTo>
                    <a:pt x="1904" y="502"/>
                  </a:lnTo>
                  <a:lnTo>
                    <a:pt x="1886" y="472"/>
                  </a:lnTo>
                  <a:lnTo>
                    <a:pt x="1868" y="448"/>
                  </a:lnTo>
                  <a:lnTo>
                    <a:pt x="1850" y="419"/>
                  </a:lnTo>
                  <a:lnTo>
                    <a:pt x="1832" y="395"/>
                  </a:lnTo>
                  <a:lnTo>
                    <a:pt x="1814" y="371"/>
                  </a:lnTo>
                  <a:lnTo>
                    <a:pt x="1791" y="347"/>
                  </a:lnTo>
                  <a:lnTo>
                    <a:pt x="1773" y="323"/>
                  </a:lnTo>
                  <a:lnTo>
                    <a:pt x="1749" y="299"/>
                  </a:lnTo>
                  <a:lnTo>
                    <a:pt x="1725" y="275"/>
                  </a:lnTo>
                  <a:lnTo>
                    <a:pt x="1701" y="257"/>
                  </a:lnTo>
                  <a:lnTo>
                    <a:pt x="1677" y="233"/>
                  </a:lnTo>
                  <a:lnTo>
                    <a:pt x="1653" y="215"/>
                  </a:lnTo>
                  <a:lnTo>
                    <a:pt x="1629" y="197"/>
                  </a:lnTo>
                  <a:lnTo>
                    <a:pt x="1599" y="173"/>
                  </a:lnTo>
                  <a:lnTo>
                    <a:pt x="1575" y="161"/>
                  </a:lnTo>
                  <a:lnTo>
                    <a:pt x="1545" y="143"/>
                  </a:lnTo>
                  <a:lnTo>
                    <a:pt x="1515" y="125"/>
                  </a:lnTo>
                  <a:lnTo>
                    <a:pt x="1491" y="113"/>
                  </a:lnTo>
                  <a:lnTo>
                    <a:pt x="1461" y="95"/>
                  </a:lnTo>
                  <a:lnTo>
                    <a:pt x="1431" y="83"/>
                  </a:lnTo>
                  <a:lnTo>
                    <a:pt x="1401" y="71"/>
                  </a:lnTo>
                  <a:lnTo>
                    <a:pt x="1371" y="59"/>
                  </a:lnTo>
                  <a:lnTo>
                    <a:pt x="1341" y="47"/>
                  </a:lnTo>
                  <a:lnTo>
                    <a:pt x="1311" y="41"/>
                  </a:lnTo>
                  <a:lnTo>
                    <a:pt x="1281" y="29"/>
                  </a:lnTo>
                  <a:lnTo>
                    <a:pt x="1246" y="24"/>
                  </a:lnTo>
                  <a:lnTo>
                    <a:pt x="1216" y="18"/>
                  </a:lnTo>
                  <a:lnTo>
                    <a:pt x="1186" y="12"/>
                  </a:lnTo>
                  <a:lnTo>
                    <a:pt x="1150" y="6"/>
                  </a:lnTo>
                  <a:lnTo>
                    <a:pt x="1120" y="6"/>
                  </a:lnTo>
                  <a:lnTo>
                    <a:pt x="1090" y="0"/>
                  </a:lnTo>
                  <a:lnTo>
                    <a:pt x="1054" y="0"/>
                  </a:lnTo>
                  <a:lnTo>
                    <a:pt x="1024" y="0"/>
                  </a:lnTo>
                  <a:lnTo>
                    <a:pt x="994" y="0"/>
                  </a:lnTo>
                  <a:lnTo>
                    <a:pt x="958" y="0"/>
                  </a:lnTo>
                  <a:lnTo>
                    <a:pt x="928" y="6"/>
                  </a:lnTo>
                  <a:lnTo>
                    <a:pt x="898" y="6"/>
                  </a:lnTo>
                  <a:lnTo>
                    <a:pt x="862" y="12"/>
                  </a:lnTo>
                  <a:lnTo>
                    <a:pt x="832" y="18"/>
                  </a:lnTo>
                  <a:lnTo>
                    <a:pt x="802" y="24"/>
                  </a:lnTo>
                  <a:lnTo>
                    <a:pt x="766" y="29"/>
                  </a:lnTo>
                  <a:lnTo>
                    <a:pt x="736" y="41"/>
                  </a:lnTo>
                  <a:lnTo>
                    <a:pt x="706" y="47"/>
                  </a:lnTo>
                  <a:lnTo>
                    <a:pt x="677" y="59"/>
                  </a:lnTo>
                  <a:lnTo>
                    <a:pt x="647" y="71"/>
                  </a:lnTo>
                  <a:lnTo>
                    <a:pt x="617" y="83"/>
                  </a:lnTo>
                  <a:lnTo>
                    <a:pt x="587" y="95"/>
                  </a:lnTo>
                  <a:lnTo>
                    <a:pt x="557" y="113"/>
                  </a:lnTo>
                  <a:lnTo>
                    <a:pt x="533" y="125"/>
                  </a:lnTo>
                  <a:lnTo>
                    <a:pt x="503" y="143"/>
                  </a:lnTo>
                  <a:lnTo>
                    <a:pt x="473" y="161"/>
                  </a:lnTo>
                  <a:lnTo>
                    <a:pt x="449" y="173"/>
                  </a:lnTo>
                  <a:lnTo>
                    <a:pt x="419" y="197"/>
                  </a:lnTo>
                  <a:lnTo>
                    <a:pt x="395" y="215"/>
                  </a:lnTo>
                  <a:lnTo>
                    <a:pt x="371" y="233"/>
                  </a:lnTo>
                  <a:lnTo>
                    <a:pt x="347" y="257"/>
                  </a:lnTo>
                  <a:lnTo>
                    <a:pt x="323" y="275"/>
                  </a:lnTo>
                  <a:lnTo>
                    <a:pt x="299" y="299"/>
                  </a:lnTo>
                  <a:lnTo>
                    <a:pt x="275" y="323"/>
                  </a:lnTo>
                  <a:lnTo>
                    <a:pt x="257" y="347"/>
                  </a:lnTo>
                  <a:lnTo>
                    <a:pt x="233" y="371"/>
                  </a:lnTo>
                  <a:lnTo>
                    <a:pt x="215" y="395"/>
                  </a:lnTo>
                  <a:lnTo>
                    <a:pt x="197" y="419"/>
                  </a:lnTo>
                  <a:lnTo>
                    <a:pt x="179" y="448"/>
                  </a:lnTo>
                  <a:lnTo>
                    <a:pt x="161" y="472"/>
                  </a:lnTo>
                  <a:lnTo>
                    <a:pt x="143" y="502"/>
                  </a:lnTo>
                  <a:lnTo>
                    <a:pt x="126" y="526"/>
                  </a:lnTo>
                  <a:lnTo>
                    <a:pt x="114" y="556"/>
                  </a:lnTo>
                  <a:lnTo>
                    <a:pt x="96" y="586"/>
                  </a:lnTo>
                  <a:lnTo>
                    <a:pt x="84" y="616"/>
                  </a:lnTo>
                  <a:lnTo>
                    <a:pt x="72" y="646"/>
                  </a:lnTo>
                  <a:lnTo>
                    <a:pt x="60" y="676"/>
                  </a:lnTo>
                  <a:lnTo>
                    <a:pt x="48" y="706"/>
                  </a:lnTo>
                  <a:lnTo>
                    <a:pt x="42" y="736"/>
                  </a:lnTo>
                  <a:lnTo>
                    <a:pt x="30" y="766"/>
                  </a:lnTo>
                  <a:lnTo>
                    <a:pt x="24" y="796"/>
                  </a:lnTo>
                  <a:lnTo>
                    <a:pt x="18" y="832"/>
                  </a:lnTo>
                  <a:lnTo>
                    <a:pt x="12" y="862"/>
                  </a:lnTo>
                  <a:lnTo>
                    <a:pt x="6" y="891"/>
                  </a:lnTo>
                  <a:lnTo>
                    <a:pt x="6" y="921"/>
                  </a:lnTo>
                  <a:lnTo>
                    <a:pt x="0" y="957"/>
                  </a:lnTo>
                  <a:lnTo>
                    <a:pt x="0" y="987"/>
                  </a:lnTo>
                  <a:lnTo>
                    <a:pt x="0" y="1017"/>
                  </a:lnTo>
                  <a:lnTo>
                    <a:pt x="0" y="1053"/>
                  </a:lnTo>
                  <a:lnTo>
                    <a:pt x="0" y="1083"/>
                  </a:lnTo>
                  <a:lnTo>
                    <a:pt x="6" y="1119"/>
                  </a:lnTo>
                  <a:lnTo>
                    <a:pt x="6" y="1149"/>
                  </a:lnTo>
                  <a:lnTo>
                    <a:pt x="12" y="1179"/>
                  </a:lnTo>
                  <a:lnTo>
                    <a:pt x="18" y="1209"/>
                  </a:lnTo>
                  <a:lnTo>
                    <a:pt x="24" y="1245"/>
                  </a:lnTo>
                  <a:lnTo>
                    <a:pt x="30" y="1275"/>
                  </a:lnTo>
                  <a:lnTo>
                    <a:pt x="42" y="1304"/>
                  </a:lnTo>
                  <a:lnTo>
                    <a:pt x="48" y="1334"/>
                  </a:lnTo>
                  <a:lnTo>
                    <a:pt x="60" y="1364"/>
                  </a:lnTo>
                  <a:lnTo>
                    <a:pt x="72" y="1394"/>
                  </a:lnTo>
                  <a:lnTo>
                    <a:pt x="84" y="1424"/>
                  </a:lnTo>
                  <a:lnTo>
                    <a:pt x="96" y="1454"/>
                  </a:lnTo>
                  <a:lnTo>
                    <a:pt x="114" y="1484"/>
                  </a:lnTo>
                  <a:lnTo>
                    <a:pt x="126" y="1514"/>
                  </a:lnTo>
                  <a:lnTo>
                    <a:pt x="143" y="1538"/>
                  </a:lnTo>
                  <a:lnTo>
                    <a:pt x="161" y="1568"/>
                  </a:lnTo>
                  <a:lnTo>
                    <a:pt x="179" y="1592"/>
                  </a:lnTo>
                  <a:lnTo>
                    <a:pt x="197" y="1622"/>
                  </a:lnTo>
                  <a:lnTo>
                    <a:pt x="215" y="1646"/>
                  </a:lnTo>
                  <a:lnTo>
                    <a:pt x="233" y="1670"/>
                  </a:lnTo>
                  <a:lnTo>
                    <a:pt x="257" y="1694"/>
                  </a:lnTo>
                  <a:lnTo>
                    <a:pt x="275" y="1717"/>
                  </a:lnTo>
                  <a:lnTo>
                    <a:pt x="299" y="1741"/>
                  </a:lnTo>
                  <a:lnTo>
                    <a:pt x="323" y="1765"/>
                  </a:lnTo>
                  <a:lnTo>
                    <a:pt x="347" y="1783"/>
                  </a:lnTo>
                  <a:lnTo>
                    <a:pt x="371" y="1807"/>
                  </a:lnTo>
                  <a:lnTo>
                    <a:pt x="395" y="1825"/>
                  </a:lnTo>
                  <a:lnTo>
                    <a:pt x="419" y="1843"/>
                  </a:lnTo>
                  <a:lnTo>
                    <a:pt x="449" y="1867"/>
                  </a:lnTo>
                  <a:lnTo>
                    <a:pt x="473" y="1879"/>
                  </a:lnTo>
                  <a:lnTo>
                    <a:pt x="503" y="1897"/>
                  </a:lnTo>
                  <a:lnTo>
                    <a:pt x="533" y="1915"/>
                  </a:lnTo>
                  <a:lnTo>
                    <a:pt x="557" y="1927"/>
                  </a:lnTo>
                  <a:lnTo>
                    <a:pt x="587" y="1945"/>
                  </a:lnTo>
                  <a:lnTo>
                    <a:pt x="617" y="1957"/>
                  </a:lnTo>
                  <a:lnTo>
                    <a:pt x="647" y="1969"/>
                  </a:lnTo>
                  <a:lnTo>
                    <a:pt x="677" y="1981"/>
                  </a:lnTo>
                  <a:lnTo>
                    <a:pt x="706" y="1993"/>
                  </a:lnTo>
                  <a:lnTo>
                    <a:pt x="736" y="1999"/>
                  </a:lnTo>
                  <a:lnTo>
                    <a:pt x="766" y="2011"/>
                  </a:lnTo>
                  <a:lnTo>
                    <a:pt x="802" y="2017"/>
                  </a:lnTo>
                  <a:lnTo>
                    <a:pt x="832" y="2023"/>
                  </a:lnTo>
                  <a:lnTo>
                    <a:pt x="862" y="2029"/>
                  </a:lnTo>
                  <a:lnTo>
                    <a:pt x="898" y="2035"/>
                  </a:lnTo>
                  <a:lnTo>
                    <a:pt x="928" y="2035"/>
                  </a:lnTo>
                  <a:lnTo>
                    <a:pt x="958" y="2041"/>
                  </a:lnTo>
                  <a:lnTo>
                    <a:pt x="994" y="2041"/>
                  </a:lnTo>
                  <a:lnTo>
                    <a:pt x="1024" y="2041"/>
                  </a:lnTo>
                  <a:lnTo>
                    <a:pt x="1054" y="2041"/>
                  </a:lnTo>
                  <a:lnTo>
                    <a:pt x="1090" y="2041"/>
                  </a:lnTo>
                  <a:lnTo>
                    <a:pt x="1120" y="2035"/>
                  </a:lnTo>
                  <a:lnTo>
                    <a:pt x="1150" y="2035"/>
                  </a:lnTo>
                  <a:lnTo>
                    <a:pt x="1186" y="2029"/>
                  </a:lnTo>
                  <a:lnTo>
                    <a:pt x="1216" y="2023"/>
                  </a:lnTo>
                  <a:lnTo>
                    <a:pt x="1246" y="2017"/>
                  </a:lnTo>
                  <a:lnTo>
                    <a:pt x="1281" y="2011"/>
                  </a:lnTo>
                  <a:lnTo>
                    <a:pt x="1311" y="1999"/>
                  </a:lnTo>
                  <a:lnTo>
                    <a:pt x="1341" y="1993"/>
                  </a:lnTo>
                  <a:lnTo>
                    <a:pt x="1371" y="1981"/>
                  </a:lnTo>
                  <a:lnTo>
                    <a:pt x="1401" y="1969"/>
                  </a:lnTo>
                  <a:lnTo>
                    <a:pt x="1431" y="1957"/>
                  </a:lnTo>
                  <a:lnTo>
                    <a:pt x="1461" y="1945"/>
                  </a:lnTo>
                  <a:lnTo>
                    <a:pt x="1491" y="1927"/>
                  </a:lnTo>
                  <a:lnTo>
                    <a:pt x="1515" y="1915"/>
                  </a:lnTo>
                  <a:lnTo>
                    <a:pt x="1545" y="1897"/>
                  </a:lnTo>
                  <a:lnTo>
                    <a:pt x="1575" y="1879"/>
                  </a:lnTo>
                  <a:lnTo>
                    <a:pt x="1599" y="1867"/>
                  </a:lnTo>
                  <a:lnTo>
                    <a:pt x="1629" y="1843"/>
                  </a:lnTo>
                  <a:lnTo>
                    <a:pt x="1653" y="1825"/>
                  </a:lnTo>
                  <a:lnTo>
                    <a:pt x="1677" y="1807"/>
                  </a:lnTo>
                  <a:lnTo>
                    <a:pt x="1701" y="1783"/>
                  </a:lnTo>
                  <a:lnTo>
                    <a:pt x="1725" y="1765"/>
                  </a:lnTo>
                  <a:lnTo>
                    <a:pt x="1749" y="1741"/>
                  </a:lnTo>
                  <a:lnTo>
                    <a:pt x="1773" y="1717"/>
                  </a:lnTo>
                  <a:lnTo>
                    <a:pt x="1791" y="1694"/>
                  </a:lnTo>
                  <a:lnTo>
                    <a:pt x="1814" y="1670"/>
                  </a:lnTo>
                  <a:lnTo>
                    <a:pt x="1832" y="1646"/>
                  </a:lnTo>
                  <a:lnTo>
                    <a:pt x="1850" y="1622"/>
                  </a:lnTo>
                  <a:lnTo>
                    <a:pt x="1868" y="1592"/>
                  </a:lnTo>
                  <a:lnTo>
                    <a:pt x="1886" y="1568"/>
                  </a:lnTo>
                  <a:lnTo>
                    <a:pt x="1904" y="1538"/>
                  </a:lnTo>
                  <a:lnTo>
                    <a:pt x="1922" y="1514"/>
                  </a:lnTo>
                  <a:lnTo>
                    <a:pt x="1934" y="1484"/>
                  </a:lnTo>
                  <a:lnTo>
                    <a:pt x="1952" y="1454"/>
                  </a:lnTo>
                  <a:lnTo>
                    <a:pt x="1964" y="1424"/>
                  </a:lnTo>
                  <a:lnTo>
                    <a:pt x="1976" y="1394"/>
                  </a:lnTo>
                  <a:lnTo>
                    <a:pt x="1988" y="1364"/>
                  </a:lnTo>
                  <a:lnTo>
                    <a:pt x="2000" y="1334"/>
                  </a:lnTo>
                  <a:lnTo>
                    <a:pt x="2006" y="1304"/>
                  </a:lnTo>
                  <a:lnTo>
                    <a:pt x="2018" y="1275"/>
                  </a:lnTo>
                  <a:lnTo>
                    <a:pt x="2024" y="1245"/>
                  </a:lnTo>
                  <a:lnTo>
                    <a:pt x="2030" y="1209"/>
                  </a:lnTo>
                  <a:lnTo>
                    <a:pt x="2036" y="1179"/>
                  </a:lnTo>
                  <a:lnTo>
                    <a:pt x="2042" y="1149"/>
                  </a:lnTo>
                  <a:lnTo>
                    <a:pt x="2042" y="1119"/>
                  </a:lnTo>
                  <a:lnTo>
                    <a:pt x="2048" y="1083"/>
                  </a:lnTo>
                  <a:lnTo>
                    <a:pt x="2048" y="1053"/>
                  </a:lnTo>
                  <a:lnTo>
                    <a:pt x="2048" y="1023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44640" y="4618080"/>
              <a:ext cx="50760" cy="50760"/>
            </a:xfrm>
            <a:prstGeom prst="ellipse">
              <a:avLst/>
            </a:prstGeom>
            <a:noFill/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8162640" y="4643280"/>
              <a:ext cx="284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70680" y="3255840"/>
              <a:ext cx="75960" cy="763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070320" y="3255840"/>
              <a:ext cx="75960" cy="763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70680" y="5945040"/>
              <a:ext cx="75960" cy="763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070320" y="5945040"/>
              <a:ext cx="75960" cy="763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81520" y="4016520"/>
              <a:ext cx="76320" cy="7596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5681520" y="4016520"/>
              <a:ext cx="76320" cy="7596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81520" y="5184720"/>
              <a:ext cx="76320" cy="763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681520" y="5184720"/>
              <a:ext cx="76320" cy="763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166240" y="4618080"/>
              <a:ext cx="50760" cy="50760"/>
            </a:xfrm>
            <a:prstGeom prst="ellipse">
              <a:avLst/>
            </a:prstGeom>
            <a:noFill/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558120" y="2666520"/>
              <a:ext cx="0" cy="3886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24280" y="4643280"/>
              <a:ext cx="381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00800" y="463536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6558120" y="6230880"/>
              <a:ext cx="0" cy="28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503400" y="46353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28800" y="46353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91640" y="626436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39880" y="2719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32360" y="3019320"/>
              <a:ext cx="3252960" cy="3241800"/>
            </a:xfrm>
            <a:custGeom>
              <a:avLst/>
              <a:gdLst/>
              <a:ahLst/>
              <a:rect l="l" t="t" r="r" b="b"/>
              <a:pathLst>
                <a:path w="2049" h="2042">
                  <a:moveTo>
                    <a:pt x="2048" y="1023"/>
                  </a:moveTo>
                  <a:lnTo>
                    <a:pt x="2048" y="987"/>
                  </a:lnTo>
                  <a:lnTo>
                    <a:pt x="2048" y="957"/>
                  </a:lnTo>
                  <a:lnTo>
                    <a:pt x="2042" y="921"/>
                  </a:lnTo>
                  <a:lnTo>
                    <a:pt x="2042" y="891"/>
                  </a:lnTo>
                  <a:lnTo>
                    <a:pt x="2036" y="862"/>
                  </a:lnTo>
                  <a:lnTo>
                    <a:pt x="2030" y="832"/>
                  </a:lnTo>
                  <a:lnTo>
                    <a:pt x="2024" y="796"/>
                  </a:lnTo>
                  <a:lnTo>
                    <a:pt x="2018" y="766"/>
                  </a:lnTo>
                  <a:lnTo>
                    <a:pt x="2006" y="736"/>
                  </a:lnTo>
                  <a:lnTo>
                    <a:pt x="2000" y="706"/>
                  </a:lnTo>
                  <a:lnTo>
                    <a:pt x="1988" y="676"/>
                  </a:lnTo>
                  <a:lnTo>
                    <a:pt x="1976" y="646"/>
                  </a:lnTo>
                  <a:lnTo>
                    <a:pt x="1964" y="616"/>
                  </a:lnTo>
                  <a:lnTo>
                    <a:pt x="1952" y="586"/>
                  </a:lnTo>
                  <a:lnTo>
                    <a:pt x="1934" y="556"/>
                  </a:lnTo>
                  <a:lnTo>
                    <a:pt x="1922" y="526"/>
                  </a:lnTo>
                  <a:lnTo>
                    <a:pt x="1904" y="502"/>
                  </a:lnTo>
                  <a:lnTo>
                    <a:pt x="1886" y="472"/>
                  </a:lnTo>
                  <a:lnTo>
                    <a:pt x="1868" y="448"/>
                  </a:lnTo>
                  <a:lnTo>
                    <a:pt x="1850" y="419"/>
                  </a:lnTo>
                  <a:lnTo>
                    <a:pt x="1832" y="395"/>
                  </a:lnTo>
                  <a:lnTo>
                    <a:pt x="1814" y="371"/>
                  </a:lnTo>
                  <a:lnTo>
                    <a:pt x="1791" y="347"/>
                  </a:lnTo>
                  <a:lnTo>
                    <a:pt x="1773" y="323"/>
                  </a:lnTo>
                  <a:lnTo>
                    <a:pt x="1749" y="299"/>
                  </a:lnTo>
                  <a:lnTo>
                    <a:pt x="1725" y="275"/>
                  </a:lnTo>
                  <a:lnTo>
                    <a:pt x="1701" y="257"/>
                  </a:lnTo>
                  <a:lnTo>
                    <a:pt x="1677" y="233"/>
                  </a:lnTo>
                  <a:lnTo>
                    <a:pt x="1653" y="215"/>
                  </a:lnTo>
                  <a:lnTo>
                    <a:pt x="1629" y="197"/>
                  </a:lnTo>
                  <a:lnTo>
                    <a:pt x="1599" y="173"/>
                  </a:lnTo>
                  <a:lnTo>
                    <a:pt x="1575" y="161"/>
                  </a:lnTo>
                  <a:lnTo>
                    <a:pt x="1545" y="143"/>
                  </a:lnTo>
                  <a:lnTo>
                    <a:pt x="1515" y="125"/>
                  </a:lnTo>
                  <a:lnTo>
                    <a:pt x="1491" y="113"/>
                  </a:lnTo>
                  <a:lnTo>
                    <a:pt x="1461" y="95"/>
                  </a:lnTo>
                  <a:lnTo>
                    <a:pt x="1431" y="83"/>
                  </a:lnTo>
                  <a:lnTo>
                    <a:pt x="1401" y="71"/>
                  </a:lnTo>
                  <a:lnTo>
                    <a:pt x="1371" y="59"/>
                  </a:lnTo>
                  <a:lnTo>
                    <a:pt x="1341" y="47"/>
                  </a:lnTo>
                  <a:lnTo>
                    <a:pt x="1311" y="41"/>
                  </a:lnTo>
                  <a:lnTo>
                    <a:pt x="1281" y="29"/>
                  </a:lnTo>
                  <a:lnTo>
                    <a:pt x="1246" y="24"/>
                  </a:lnTo>
                  <a:lnTo>
                    <a:pt x="1216" y="18"/>
                  </a:lnTo>
                  <a:lnTo>
                    <a:pt x="1186" y="12"/>
                  </a:lnTo>
                  <a:lnTo>
                    <a:pt x="1150" y="6"/>
                  </a:lnTo>
                  <a:lnTo>
                    <a:pt x="1120" y="6"/>
                  </a:lnTo>
                  <a:lnTo>
                    <a:pt x="1090" y="0"/>
                  </a:lnTo>
                  <a:lnTo>
                    <a:pt x="1054" y="0"/>
                  </a:lnTo>
                  <a:lnTo>
                    <a:pt x="1024" y="0"/>
                  </a:lnTo>
                  <a:lnTo>
                    <a:pt x="994" y="0"/>
                  </a:lnTo>
                  <a:lnTo>
                    <a:pt x="958" y="0"/>
                  </a:lnTo>
                  <a:lnTo>
                    <a:pt x="928" y="6"/>
                  </a:lnTo>
                  <a:lnTo>
                    <a:pt x="898" y="6"/>
                  </a:lnTo>
                  <a:lnTo>
                    <a:pt x="862" y="12"/>
                  </a:lnTo>
                  <a:lnTo>
                    <a:pt x="832" y="18"/>
                  </a:lnTo>
                  <a:lnTo>
                    <a:pt x="802" y="24"/>
                  </a:lnTo>
                  <a:lnTo>
                    <a:pt x="766" y="29"/>
                  </a:lnTo>
                  <a:lnTo>
                    <a:pt x="736" y="41"/>
                  </a:lnTo>
                  <a:lnTo>
                    <a:pt x="706" y="47"/>
                  </a:lnTo>
                  <a:lnTo>
                    <a:pt x="677" y="59"/>
                  </a:lnTo>
                  <a:lnTo>
                    <a:pt x="647" y="71"/>
                  </a:lnTo>
                  <a:lnTo>
                    <a:pt x="617" y="83"/>
                  </a:lnTo>
                  <a:lnTo>
                    <a:pt x="587" y="95"/>
                  </a:lnTo>
                  <a:lnTo>
                    <a:pt x="557" y="113"/>
                  </a:lnTo>
                  <a:lnTo>
                    <a:pt x="533" y="125"/>
                  </a:lnTo>
                  <a:lnTo>
                    <a:pt x="503" y="143"/>
                  </a:lnTo>
                  <a:lnTo>
                    <a:pt x="473" y="161"/>
                  </a:lnTo>
                  <a:lnTo>
                    <a:pt x="449" y="173"/>
                  </a:lnTo>
                  <a:lnTo>
                    <a:pt x="419" y="197"/>
                  </a:lnTo>
                  <a:lnTo>
                    <a:pt x="395" y="215"/>
                  </a:lnTo>
                  <a:lnTo>
                    <a:pt x="371" y="233"/>
                  </a:lnTo>
                  <a:lnTo>
                    <a:pt x="347" y="257"/>
                  </a:lnTo>
                  <a:lnTo>
                    <a:pt x="323" y="275"/>
                  </a:lnTo>
                  <a:lnTo>
                    <a:pt x="299" y="299"/>
                  </a:lnTo>
                  <a:lnTo>
                    <a:pt x="275" y="323"/>
                  </a:lnTo>
                  <a:lnTo>
                    <a:pt x="257" y="347"/>
                  </a:lnTo>
                  <a:lnTo>
                    <a:pt x="233" y="371"/>
                  </a:lnTo>
                  <a:lnTo>
                    <a:pt x="215" y="395"/>
                  </a:lnTo>
                  <a:lnTo>
                    <a:pt x="197" y="419"/>
                  </a:lnTo>
                  <a:lnTo>
                    <a:pt x="179" y="448"/>
                  </a:lnTo>
                  <a:lnTo>
                    <a:pt x="161" y="472"/>
                  </a:lnTo>
                  <a:lnTo>
                    <a:pt x="143" y="502"/>
                  </a:lnTo>
                  <a:lnTo>
                    <a:pt x="126" y="526"/>
                  </a:lnTo>
                  <a:lnTo>
                    <a:pt x="114" y="556"/>
                  </a:lnTo>
                  <a:lnTo>
                    <a:pt x="96" y="586"/>
                  </a:lnTo>
                  <a:lnTo>
                    <a:pt x="84" y="616"/>
                  </a:lnTo>
                  <a:lnTo>
                    <a:pt x="72" y="646"/>
                  </a:lnTo>
                  <a:lnTo>
                    <a:pt x="60" y="676"/>
                  </a:lnTo>
                  <a:lnTo>
                    <a:pt x="48" y="706"/>
                  </a:lnTo>
                  <a:lnTo>
                    <a:pt x="42" y="736"/>
                  </a:lnTo>
                  <a:lnTo>
                    <a:pt x="30" y="766"/>
                  </a:lnTo>
                  <a:lnTo>
                    <a:pt x="24" y="796"/>
                  </a:lnTo>
                  <a:lnTo>
                    <a:pt x="18" y="832"/>
                  </a:lnTo>
                  <a:lnTo>
                    <a:pt x="12" y="862"/>
                  </a:lnTo>
                  <a:lnTo>
                    <a:pt x="6" y="891"/>
                  </a:lnTo>
                  <a:lnTo>
                    <a:pt x="6" y="921"/>
                  </a:lnTo>
                  <a:lnTo>
                    <a:pt x="0" y="957"/>
                  </a:lnTo>
                  <a:lnTo>
                    <a:pt x="0" y="987"/>
                  </a:lnTo>
                  <a:lnTo>
                    <a:pt x="0" y="1017"/>
                  </a:lnTo>
                  <a:lnTo>
                    <a:pt x="0" y="1053"/>
                  </a:lnTo>
                  <a:lnTo>
                    <a:pt x="0" y="1083"/>
                  </a:lnTo>
                  <a:lnTo>
                    <a:pt x="6" y="1119"/>
                  </a:lnTo>
                  <a:lnTo>
                    <a:pt x="6" y="1149"/>
                  </a:lnTo>
                  <a:lnTo>
                    <a:pt x="12" y="1179"/>
                  </a:lnTo>
                  <a:lnTo>
                    <a:pt x="18" y="1209"/>
                  </a:lnTo>
                  <a:lnTo>
                    <a:pt x="24" y="1245"/>
                  </a:lnTo>
                  <a:lnTo>
                    <a:pt x="30" y="1275"/>
                  </a:lnTo>
                  <a:lnTo>
                    <a:pt x="42" y="1304"/>
                  </a:lnTo>
                  <a:lnTo>
                    <a:pt x="48" y="1334"/>
                  </a:lnTo>
                  <a:lnTo>
                    <a:pt x="60" y="1364"/>
                  </a:lnTo>
                  <a:lnTo>
                    <a:pt x="72" y="1394"/>
                  </a:lnTo>
                  <a:lnTo>
                    <a:pt x="84" y="1424"/>
                  </a:lnTo>
                  <a:lnTo>
                    <a:pt x="96" y="1454"/>
                  </a:lnTo>
                  <a:lnTo>
                    <a:pt x="114" y="1484"/>
                  </a:lnTo>
                  <a:lnTo>
                    <a:pt x="126" y="1514"/>
                  </a:lnTo>
                  <a:lnTo>
                    <a:pt x="143" y="1538"/>
                  </a:lnTo>
                  <a:lnTo>
                    <a:pt x="161" y="1568"/>
                  </a:lnTo>
                  <a:lnTo>
                    <a:pt x="179" y="1592"/>
                  </a:lnTo>
                  <a:lnTo>
                    <a:pt x="197" y="1622"/>
                  </a:lnTo>
                  <a:lnTo>
                    <a:pt x="215" y="1646"/>
                  </a:lnTo>
                  <a:lnTo>
                    <a:pt x="233" y="1670"/>
                  </a:lnTo>
                  <a:lnTo>
                    <a:pt x="257" y="1694"/>
                  </a:lnTo>
                  <a:lnTo>
                    <a:pt x="275" y="1717"/>
                  </a:lnTo>
                  <a:lnTo>
                    <a:pt x="299" y="1741"/>
                  </a:lnTo>
                  <a:lnTo>
                    <a:pt x="323" y="1765"/>
                  </a:lnTo>
                  <a:lnTo>
                    <a:pt x="347" y="1783"/>
                  </a:lnTo>
                  <a:lnTo>
                    <a:pt x="371" y="1807"/>
                  </a:lnTo>
                  <a:lnTo>
                    <a:pt x="395" y="1825"/>
                  </a:lnTo>
                  <a:lnTo>
                    <a:pt x="419" y="1843"/>
                  </a:lnTo>
                  <a:lnTo>
                    <a:pt x="449" y="1867"/>
                  </a:lnTo>
                  <a:lnTo>
                    <a:pt x="473" y="1879"/>
                  </a:lnTo>
                  <a:lnTo>
                    <a:pt x="503" y="1897"/>
                  </a:lnTo>
                  <a:lnTo>
                    <a:pt x="533" y="1915"/>
                  </a:lnTo>
                  <a:lnTo>
                    <a:pt x="557" y="1927"/>
                  </a:lnTo>
                  <a:lnTo>
                    <a:pt x="587" y="1945"/>
                  </a:lnTo>
                  <a:lnTo>
                    <a:pt x="617" y="1957"/>
                  </a:lnTo>
                  <a:lnTo>
                    <a:pt x="647" y="1969"/>
                  </a:lnTo>
                  <a:lnTo>
                    <a:pt x="677" y="1981"/>
                  </a:lnTo>
                  <a:lnTo>
                    <a:pt x="706" y="1993"/>
                  </a:lnTo>
                  <a:lnTo>
                    <a:pt x="736" y="1999"/>
                  </a:lnTo>
                  <a:lnTo>
                    <a:pt x="766" y="2011"/>
                  </a:lnTo>
                  <a:lnTo>
                    <a:pt x="802" y="2017"/>
                  </a:lnTo>
                  <a:lnTo>
                    <a:pt x="832" y="2023"/>
                  </a:lnTo>
                  <a:lnTo>
                    <a:pt x="862" y="2029"/>
                  </a:lnTo>
                  <a:lnTo>
                    <a:pt x="898" y="2035"/>
                  </a:lnTo>
                  <a:lnTo>
                    <a:pt x="928" y="2035"/>
                  </a:lnTo>
                  <a:lnTo>
                    <a:pt x="958" y="2041"/>
                  </a:lnTo>
                  <a:lnTo>
                    <a:pt x="994" y="2041"/>
                  </a:lnTo>
                  <a:lnTo>
                    <a:pt x="1024" y="2041"/>
                  </a:lnTo>
                  <a:lnTo>
                    <a:pt x="1054" y="2041"/>
                  </a:lnTo>
                  <a:lnTo>
                    <a:pt x="1090" y="2041"/>
                  </a:lnTo>
                  <a:lnTo>
                    <a:pt x="1120" y="2035"/>
                  </a:lnTo>
                  <a:lnTo>
                    <a:pt x="1150" y="2035"/>
                  </a:lnTo>
                  <a:lnTo>
                    <a:pt x="1186" y="2029"/>
                  </a:lnTo>
                  <a:lnTo>
                    <a:pt x="1216" y="2023"/>
                  </a:lnTo>
                  <a:lnTo>
                    <a:pt x="1246" y="2017"/>
                  </a:lnTo>
                  <a:lnTo>
                    <a:pt x="1281" y="2011"/>
                  </a:lnTo>
                  <a:lnTo>
                    <a:pt x="1311" y="1999"/>
                  </a:lnTo>
                  <a:lnTo>
                    <a:pt x="1341" y="1993"/>
                  </a:lnTo>
                  <a:lnTo>
                    <a:pt x="1371" y="1981"/>
                  </a:lnTo>
                  <a:lnTo>
                    <a:pt x="1401" y="1969"/>
                  </a:lnTo>
                  <a:lnTo>
                    <a:pt x="1431" y="1957"/>
                  </a:lnTo>
                  <a:lnTo>
                    <a:pt x="1461" y="1945"/>
                  </a:lnTo>
                  <a:lnTo>
                    <a:pt x="1491" y="1927"/>
                  </a:lnTo>
                  <a:lnTo>
                    <a:pt x="1515" y="1915"/>
                  </a:lnTo>
                  <a:lnTo>
                    <a:pt x="1545" y="1897"/>
                  </a:lnTo>
                  <a:lnTo>
                    <a:pt x="1575" y="1879"/>
                  </a:lnTo>
                  <a:lnTo>
                    <a:pt x="1599" y="1867"/>
                  </a:lnTo>
                  <a:lnTo>
                    <a:pt x="1629" y="1843"/>
                  </a:lnTo>
                  <a:lnTo>
                    <a:pt x="1653" y="1825"/>
                  </a:lnTo>
                  <a:lnTo>
                    <a:pt x="1677" y="1807"/>
                  </a:lnTo>
                  <a:lnTo>
                    <a:pt x="1701" y="1783"/>
                  </a:lnTo>
                  <a:lnTo>
                    <a:pt x="1725" y="1765"/>
                  </a:lnTo>
                  <a:lnTo>
                    <a:pt x="1749" y="1741"/>
                  </a:lnTo>
                  <a:lnTo>
                    <a:pt x="1773" y="1717"/>
                  </a:lnTo>
                  <a:lnTo>
                    <a:pt x="1791" y="1694"/>
                  </a:lnTo>
                  <a:lnTo>
                    <a:pt x="1814" y="1670"/>
                  </a:lnTo>
                  <a:lnTo>
                    <a:pt x="1832" y="1646"/>
                  </a:lnTo>
                  <a:lnTo>
                    <a:pt x="1850" y="1622"/>
                  </a:lnTo>
                  <a:lnTo>
                    <a:pt x="1868" y="1592"/>
                  </a:lnTo>
                  <a:lnTo>
                    <a:pt x="1886" y="1568"/>
                  </a:lnTo>
                  <a:lnTo>
                    <a:pt x="1904" y="1538"/>
                  </a:lnTo>
                  <a:lnTo>
                    <a:pt x="1922" y="1514"/>
                  </a:lnTo>
                  <a:lnTo>
                    <a:pt x="1934" y="1484"/>
                  </a:lnTo>
                  <a:lnTo>
                    <a:pt x="1952" y="1454"/>
                  </a:lnTo>
                  <a:lnTo>
                    <a:pt x="1964" y="1424"/>
                  </a:lnTo>
                  <a:lnTo>
                    <a:pt x="1976" y="1394"/>
                  </a:lnTo>
                  <a:lnTo>
                    <a:pt x="1988" y="1364"/>
                  </a:lnTo>
                  <a:lnTo>
                    <a:pt x="2000" y="1334"/>
                  </a:lnTo>
                  <a:lnTo>
                    <a:pt x="2006" y="1304"/>
                  </a:lnTo>
                  <a:lnTo>
                    <a:pt x="2018" y="1275"/>
                  </a:lnTo>
                  <a:lnTo>
                    <a:pt x="2024" y="1245"/>
                  </a:lnTo>
                  <a:lnTo>
                    <a:pt x="2030" y="1209"/>
                  </a:lnTo>
                  <a:lnTo>
                    <a:pt x="2036" y="1179"/>
                  </a:lnTo>
                  <a:lnTo>
                    <a:pt x="2042" y="1149"/>
                  </a:lnTo>
                  <a:lnTo>
                    <a:pt x="2042" y="1119"/>
                  </a:lnTo>
                  <a:lnTo>
                    <a:pt x="2048" y="1083"/>
                  </a:lnTo>
                  <a:lnTo>
                    <a:pt x="2048" y="1053"/>
                  </a:lnTo>
                  <a:lnTo>
                    <a:pt x="2048" y="1023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60600" y="2743200"/>
              <a:ext cx="139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Z-ravni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06760" y="2538360"/>
              <a:ext cx="53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Brush Script MT"/>
                </a:rPr>
                <a:t>I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40080" y="4184640"/>
              <a:ext cx="540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Brush Script MT"/>
                </a:rPr>
                <a:t>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0" y="2855880"/>
              <a:ext cx="2035080" cy="1720800"/>
              <a:chOff x="0" y="2855880"/>
              <a:chExt cx="2035080" cy="172080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285588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četverostruka nul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120" y="3352680"/>
                <a:ext cx="195120" cy="12240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323120" y="2743200"/>
              <a:ext cx="139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z-ravni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68920" y="2538360"/>
              <a:ext cx="540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Brush Script MT"/>
                </a:rPr>
                <a:t>I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02600" y="4184640"/>
              <a:ext cx="53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Brush Script MT"/>
                </a:rPr>
                <a:t>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57960" y="5745240"/>
              <a:ext cx="188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četverostruka n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8229240" y="4876920"/>
              <a:ext cx="228600" cy="914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887640" y="3312720"/>
            <a:ext cx="2127240" cy="2661120"/>
            <a:chOff x="3887640" y="3312720"/>
            <a:chExt cx="2127240" cy="2661120"/>
          </a:xfrm>
        </p:grpSpPr>
        <p:sp>
          <p:nvSpPr>
            <p:cNvPr id="508" name=""/>
            <p:cNvSpPr/>
            <p:nvPr/>
          </p:nvSpPr>
          <p:spPr>
            <a:xfrm flipV="1">
              <a:off x="3908520" y="3312720"/>
              <a:ext cx="2106360" cy="46188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87640" y="5511960"/>
              <a:ext cx="2106720" cy="46188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59280" y="4064040"/>
            <a:ext cx="1650960" cy="1133280"/>
            <a:chOff x="3959280" y="4064040"/>
            <a:chExt cx="1650960" cy="1133280"/>
          </a:xfrm>
        </p:grpSpPr>
        <p:sp>
          <p:nvSpPr>
            <p:cNvPr id="511" name=""/>
            <p:cNvSpPr/>
            <p:nvPr/>
          </p:nvSpPr>
          <p:spPr>
            <a:xfrm flipV="1">
              <a:off x="3965400" y="4064040"/>
              <a:ext cx="1644840" cy="21600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59280" y="4981680"/>
              <a:ext cx="1644480" cy="215640"/>
            </a:xfrm>
            <a:prstGeom prst="line">
              <a:avLst/>
            </a:prstGeom>
            <a:ln w="12600">
              <a:solidFill>
                <a:srgbClr val="00cc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274A-95EC-4C96-98E2-C25D98807811}" type="slidenum">
              <a:t>21</a:t>
            </a:fld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e transfor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520" y="1447920"/>
            <a:ext cx="838188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stupak stvarne primjene frekvencijskih transformacija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efinicija zahtjeva na karakteristik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konačnog (transformiranog) filtra tipa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V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P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li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PB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a osnovu tog zahtjeva određuju se zahtjevi koje mora zadovoljiti prototip NP filte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čijom će se  transformacijom dobiti željen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(u ovom koraku se mora provesti “frequency prewarping” zbog nelinearne transformacije frekvenci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ojektiranje prototip filtr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ransformacija prototip filtra u konačni filte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5A60-E3A2-42B5-8677-372139A5341A}" type="slidenum">
              <a:t>22</a:t>
            </a:fld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5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5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e transfor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67652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a li je moguće određenim matematičkim postupcima digitalni niskopropusni (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 rekurzivni filter, transformirati u preostale tipove filtra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visokopropusni (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V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jasnopropusni (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P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jasnu branu (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PB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li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ruge granične frekvencije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rištena transformacija je po tipu vrlo slična bilinearnoj transformaci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6B61-1CE0-4231-947A-23C8C4D83887}" type="slidenum">
              <a:t>3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e transfor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676520"/>
            <a:ext cx="83822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eka 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olazni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er koji želimo transformirati u novi filte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koji će imati jednu od željenih karakteristika (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V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P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li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PB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je kompleksna varijabla vezana uz prototip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er, dok 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vezan uz transformirani fil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efiniramo preslikavanje iz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ravnine 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ravninu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478320" y="4525920"/>
                <a:ext cx="1874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11280" y="5040360"/>
            <a:ext cx="8381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takvo da vrijedi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218120" y="4954680"/>
                <a:ext cx="4087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12720" y="5649840"/>
            <a:ext cx="83818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 dobiva tako da se u izrazu 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Z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vugdj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amijeni funkcijo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(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BBFC-264A-4795-AA83-C24489693AF2}" type="slidenum">
              <a:t>4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e transfor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447920"/>
            <a:ext cx="838188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htjevi na transformacij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(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acijo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LP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Z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oji ima racionalnu prijenosnu funkciju, koji je kauzalan i stabilan, želimo dobit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oji ima ista svojst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 bi to bilo zadovoljen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(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ra bit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cionalna funkcija o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trašnjost jedinične kružnice 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ravnini mora preslikati u unutrašnjost jedinične kružnice 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ravnin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inična kružnica iz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ravnine mora se preslikati točno na jediničnu kružnicu 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ravnin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064E-7B50-45CC-8DC1-458EA0DEA284}" type="slidenum">
              <a:t>5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e transfor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varijabl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a jediničnim kružnicama u pripadnim ravninama, na frekvencijam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rijed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08440" y="2643120"/>
                <a:ext cx="30319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Q</m:t>
                              </m:r>
                            </m:sup>
                          </m:sSup>
                        </m:e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,  z=e</m:t>
                              </m:r>
                            </m:e>
                            <m:sup>
                              <m:r>
                                <m:t xml:space="preserve">jw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3048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acijo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(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lijedi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252520" y="3546360"/>
                <a:ext cx="43340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Q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w</m:t>
                                </m:r>
                              </m:sup>
                            </m:sSup>
                          </m:e>
                        </m:d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w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12720" y="4191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čito je da 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98760" y="4419720"/>
                <a:ext cx="2038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w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14520" y="4952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pa je odnos između frekvencij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izrazo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921040" y="5648400"/>
                <a:ext cx="2976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w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5636-9962-43A1-8145-C62CDA012841}" type="slidenum">
              <a:t>6</a:t>
            </a:fld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e transformacij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azuje se da funkcij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(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oje zadovoljavaju sve tražene zahtjeve imaju općenit obli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909800" y="2732040"/>
                <a:ext cx="5027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±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11280" y="358128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uz uvjet d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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&lt;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unkcij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G(z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dgovara prijenosnoj funkciji svepropusnog filt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E2DB-314E-4ABA-8598-D29CD3DDDD3C}" type="slidenum">
              <a:t>7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a transformacija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N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76520"/>
            <a:ext cx="8382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ajjednostavnija je transformacija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ra ponovno u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er ali druge granične frekvenci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G(z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za ovu transformaciju gl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79520" y="3071880"/>
                <a:ext cx="3973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11280" y="4038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stitucijom                                     u gornji izraz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60720" y="4091040"/>
                <a:ext cx="3032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Q</m:t>
                              </m:r>
                            </m:sup>
                          </m:sSup>
                        </m:e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,  z=e</m:t>
                              </m:r>
                            </m:e>
                            <m:sup>
                              <m:r>
                                <m:t xml:space="preserve">jw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60640" y="4672080"/>
                <a:ext cx="27450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Q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w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w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12720" y="5257800"/>
            <a:ext cx="235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odnosno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87480" y="5691240"/>
                <a:ext cx="51879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5BD6-409D-4FAE-85CF-F83B129FF08D}" type="slidenum">
              <a:t>8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a transformacija NP</a:t>
            </a:r>
            <a:r>
              <a:rPr b="0" i="1" lang="en-US" sz="3200" spc="-1" strike="noStrike">
                <a:solidFill>
                  <a:srgbClr val="00cc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 NP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676520"/>
            <a:ext cx="8382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79640" y="2278080"/>
          <a:ext cx="470376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278080"/>
                    <a:ext cx="4703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3AA1-26A0-453A-9DCE-09C3EA9508DD}" type="slidenum">
              <a:t>9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5:27:48Z</dcterms:created>
  <dc:creator>ZESOI</dc:creator>
  <dc:description/>
  <dc:language>en-US</dc:language>
  <cp:lastModifiedBy>Tomislav Petkovic</cp:lastModifiedBy>
  <cp:lastPrinted>1997-11-19T15:17:00Z</cp:lastPrinted>
  <dcterms:modified xsi:type="dcterms:W3CDTF">2003-12-04T16:17:51Z</dcterms:modified>
  <cp:revision>170</cp:revision>
  <dc:subject>Digitalna obradba signala</dc:subject>
  <dc:title>Frekvencijske transformacije u Z-domeni</dc:title>
</cp:coreProperties>
</file>