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png" ContentType="image/pn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024080" y="900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0" y="9744120"/>
            <a:ext cx="30751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4024080" y="9744120"/>
            <a:ext cx="30747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fld id="{4ADFCA13-398B-46CC-BA91-2A0C1E9EB43F}" type="slidenum"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945720" y="4876560"/>
            <a:ext cx="5203800" cy="432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Img"/>
          </p:nvPr>
        </p:nvSpPr>
        <p:spPr>
          <a:xfrm>
            <a:off x="1164960" y="896760"/>
            <a:ext cx="4770360" cy="357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2640" y="973944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-1440" y="973944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 program za izracunavanje linearne konvolucij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h= input('unesi uzorke 1. niza=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= input('unesi uzorke 2. niza=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 = conv(h,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M=length(c)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 = 0:1: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disp('linearna konvolucija=');disp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 ylabel('amplituda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rezultat linearne konvolucije'); g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 program za izracunavanje linearne konvolucij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h= input('unesi uzorke 1. niza=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x= input('unesi uzorke 2. niza=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h=[1 1 1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=[1 2 3 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 = conv(h,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M=length(c)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 = -3:1:M+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disp('linearna konvolucija=');disp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d=[0 0 0 c 0 0 0 0 0 0 0 0 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 ylabel('amplituda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x2[n]'); g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xis([-3 12 0 9]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 program za izracunavanje periodicne konvolucij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1=[1 1 1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0=[1 4 3 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1=[2 1 4 3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2=[3 2 1 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3=[4 3 2 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0=x1*x2m0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1=x1*x2m1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2=x1*x2m2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3=x1*x2m3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=[y0 y1 y2 y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=-10:17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c=[y2 y3 y y y y y y y0 y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y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 ylabel('amplituda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rezultat periodicne konvolucije'); g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xis([-10 17 0 9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program za crtanje periodiziranih nizova x1[n] i x2[-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 = -10:17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1 = [0 0 0 0 0 0 0 0 0 0 1 1 1 0 0 0 0 0 0 0 0 0 0 0 0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 = [0 0 0 0 0 0 0 0 0 0 1 2 3 4 0 0 0 0 0 0 0 0 0 0 0 0 0 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ubplot(2,1,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x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ylabel('amplituda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x1[n]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xis([-10 17 0 4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ubplot(2,1,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x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ylabel('amplitude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x2[n]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xis([-10 17 0 4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1=[1 1 1 0 0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0=[1 0 0 0 0 4 3 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1=[2 1 0 0 0 0 4 3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2=[3 2 1 0 0 0 0 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3=[4 3 2 1 0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4=[0 4 3 2 1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5=[0 0 4 3 2 1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6=[0 0 0 4 3 2 1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m7=[0 0 0 0 4 3 2 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% program za izracunavanje cirkularne konvolucij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cl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1=[1 1 1 0 0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0=[1 0 0 0 0 4 3 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1=[2 1 0 0 0 0 4 3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2=[3 2 1 0 0 0 0 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3=[4 3 2 1 0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4=[0 4 3 2 1 0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5=[0 0 4 3 2 1 0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6=[0 0 0 4 3 2 1 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2m7=[0 0 0 0 4 3 2 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0=x1*x2m0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1=x1*x2m1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2=x1*x2m2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3=x1*x2m3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4=x1*x2m4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5=x1*x2m5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6=x1*x2m6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7=x1*x2m7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=-10:17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yc=[0 0 0 0 0 0 0 0 0 0 y0 y1 y2 y3 y4 y5 y6 y7 0 0 0 0 0 0 0 0 0 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em(n,y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xlabel('korak n'); ylabel('amplituda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itle('linearna konvolucija pomoću cirkularne konvolucije'); gr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xis([-10 17 0 9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E3F2-6164-4785-8294-C2EB2038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AA2-56EC-48A7-9B4F-D431486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BA2F-344A-4082-8FCD-61558558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37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780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37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780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0626-0E6D-47D7-AD1C-E344F8F8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4893-8283-4B76-ABD2-253AB159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B477-10F0-48F4-A7E2-8A4BD527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E2D2-AFB3-4E8B-B149-8BC6442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3752-7469-4C3C-AC82-56155A5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600" y="628560"/>
            <a:ext cx="769608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6315-5714-4A00-8ED9-246ABA0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5A93-25F9-4AF0-BA8E-956D77F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B9F5-864F-4D07-8DCB-2FA0453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100E-E334-479B-A301-8B866A9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381079-8433-4BC8-8CCC-24440034E3D5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2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3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65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66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4280" y="1806480"/>
            <a:ext cx="70848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Obradba signala u blokovima i obradba uzorak po uzora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24C2-D961-4085-8498-84E884E801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14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uzalni FIR filtar M-tog reda: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[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....,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M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43000" y="3424320"/>
                <a:ext cx="398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76720" y="5334120"/>
                <a:ext cx="2701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09480" y="2813040"/>
            <a:ext cx="7239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je je područje vrijednosti od n i 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8320" y="4578480"/>
            <a:ext cx="7239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 definicije h(n) i u(n) sl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F6D4-9AA1-47FA-B6BA-385C4EA1F104}" type="slidenum">
              <a:t>10</a:t>
            </a:fld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9520" y="5314680"/>
            <a:ext cx="6338880" cy="107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 toga slijedi: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= L +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43000" y="1905120"/>
                <a:ext cx="38498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            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43000" y="4572000"/>
                <a:ext cx="4357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**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54160" y="3200400"/>
                <a:ext cx="69231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  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CA63-18C6-420D-A38E-35889548A261}" type="slidenum">
              <a:t>11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cccc"/>
                </a:solidFill>
                <a:latin typeface="Times New Roman"/>
              </a:rPr>
              <a:t>Direktni oblik konvolucije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81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lok izlaznog signala: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[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....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L-1+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dziv je duži od ulaza za M uzorak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40480" y="3916440"/>
            <a:ext cx="3736440" cy="581400"/>
            <a:chOff x="1140480" y="3916440"/>
            <a:chExt cx="3736440" cy="581400"/>
          </a:xfrm>
        </p:grpSpPr>
        <p:sp>
          <p:nvSpPr>
            <p:cNvPr id="127" name=""/>
            <p:cNvSpPr/>
            <p:nvPr/>
          </p:nvSpPr>
          <p:spPr>
            <a:xfrm>
              <a:off x="3352680" y="4038480"/>
              <a:ext cx="152424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M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0480" y="3916440"/>
              <a:ext cx="84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Book Antiqua"/>
                </a:rPr>
                <a:t>h =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139760" y="4449600"/>
            <a:ext cx="4651560" cy="581400"/>
            <a:chOff x="1139760" y="4449600"/>
            <a:chExt cx="4651560" cy="581400"/>
          </a:xfrm>
        </p:grpSpPr>
        <p:sp>
          <p:nvSpPr>
            <p:cNvPr id="130" name=""/>
            <p:cNvSpPr/>
            <p:nvPr/>
          </p:nvSpPr>
          <p:spPr>
            <a:xfrm>
              <a:off x="3352680" y="4572000"/>
              <a:ext cx="2438640" cy="304920"/>
            </a:xfrm>
            <a:prstGeom prst="rect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39760" y="4449600"/>
              <a:ext cx="84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Book Antiqua"/>
                </a:rPr>
                <a:t>u =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07920" y="4983120"/>
            <a:ext cx="6255000" cy="581400"/>
            <a:chOff x="907920" y="4983120"/>
            <a:chExt cx="6255000" cy="581400"/>
          </a:xfrm>
        </p:grpSpPr>
        <p:sp>
          <p:nvSpPr>
            <p:cNvPr id="133" name=""/>
            <p:cNvSpPr/>
            <p:nvPr/>
          </p:nvSpPr>
          <p:spPr>
            <a:xfrm>
              <a:off x="5791320" y="5105520"/>
              <a:ext cx="1371600" cy="304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907920" y="4983120"/>
              <a:ext cx="4883400" cy="581400"/>
              <a:chOff x="907920" y="4983120"/>
              <a:chExt cx="4883400" cy="581400"/>
            </a:xfrm>
          </p:grpSpPr>
          <p:sp>
            <p:nvSpPr>
              <p:cNvPr id="135" name=""/>
              <p:cNvSpPr/>
              <p:nvPr/>
            </p:nvSpPr>
            <p:spPr>
              <a:xfrm>
                <a:off x="3352680" y="5105520"/>
                <a:ext cx="2438640" cy="304560"/>
              </a:xfrm>
              <a:prstGeom prst="rect">
                <a:avLst/>
              </a:prstGeom>
              <a:solidFill>
                <a:srgbClr val="d6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Book Antiqua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07920" y="4983120"/>
                <a:ext cx="1987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3200" spc="-1" strike="noStrike">
                    <a:solidFill>
                      <a:srgbClr val="ffffff"/>
                    </a:solidFill>
                    <a:latin typeface="Book Antiqua"/>
                  </a:rPr>
                  <a:t>y = h*u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73D6-0065-4644-B068-F85B6BADCDDD}" type="slidenum">
              <a:t>12</a:t>
            </a:fld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:</a:t>
            </a:r>
            <a:br>
              <a:rPr sz="3200"/>
            </a:b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je je područje vrijednosti m za svaki n?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 definicije h(n) i u(n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332000" y="2509920"/>
                <a:ext cx="3849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            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08200" y="3873600"/>
                <a:ext cx="5170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37972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obiva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brojimo 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9528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akle, m mora zadovoljiti dvije nejednadž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86200" y="5407200"/>
                <a:ext cx="334476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         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5130-4AD8-4CDD-B0D7-6423602D5B8F}" type="slidenum">
              <a:t>13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:</a:t>
            </a:r>
            <a:br>
              <a:rPr sz="3200"/>
            </a:b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je je područje vrijednosti m za svaki n?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767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 ove  dvije nejednadžbe sl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22320" y="2057400"/>
                <a:ext cx="33447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         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295280" y="4114800"/>
                <a:ext cx="547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0" y="4764240"/>
                <a:ext cx="455760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 </m:t>
                        </m:r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C7E9-7B0B-43FD-8DF8-01D524E5D11F}" type="slidenum">
              <a:t>14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 (primjer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R filtra reda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lazni signal od 5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blok je duljine 5+3 (indeksi od 0 do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[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[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[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80920" y="5415120"/>
                <a:ext cx="7123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n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, 1, 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E3D1-10D8-4773-86B2-67EA75A18954}" type="slidenum">
              <a:t>15</a:t>
            </a:fld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Direktni oblik konvolucije (primjer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7800" y="1905120"/>
            <a:ext cx="57024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4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4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6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4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+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7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  = 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25D8-A62C-4168-A07A-2B345FCCFF85}" type="slidenum">
              <a:t>1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nvolucijska tablic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vaki uzorak 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suma svih mogućih produkata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koje vrijedi i + j =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2971800"/>
          <a:ext cx="6019560" cy="3581280"/>
        </p:xfrm>
        <a:graphic>
          <a:graphicData uri="http://schemas.openxmlformats.org/drawingml/2006/table">
            <a:tbl>
              <a:tblPr/>
              <a:tblGrid>
                <a:gridCol w="1003320"/>
                <a:gridCol w="1003320"/>
                <a:gridCol w="1003320"/>
                <a:gridCol w="1002960"/>
                <a:gridCol w="1003320"/>
                <a:gridCol w="100332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8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2438280" y="3429000"/>
            <a:ext cx="2276640" cy="1676520"/>
            <a:chOff x="2438280" y="3429000"/>
            <a:chExt cx="2276640" cy="1676520"/>
          </a:xfrm>
        </p:grpSpPr>
        <p:sp>
          <p:nvSpPr>
            <p:cNvPr id="158" name=""/>
            <p:cNvSpPr/>
            <p:nvPr/>
          </p:nvSpPr>
          <p:spPr>
            <a:xfrm flipV="1">
              <a:off x="2438280" y="3687840"/>
              <a:ext cx="2019600" cy="141768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8240" y="34290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41600" y="3429000"/>
            <a:ext cx="4243320" cy="3123720"/>
            <a:chOff x="3441600" y="3429000"/>
            <a:chExt cx="4243320" cy="3123720"/>
          </a:xfrm>
        </p:grpSpPr>
        <p:sp>
          <p:nvSpPr>
            <p:cNvPr id="161" name=""/>
            <p:cNvSpPr/>
            <p:nvPr/>
          </p:nvSpPr>
          <p:spPr>
            <a:xfrm flipV="1">
              <a:off x="3441600" y="3687480"/>
              <a:ext cx="4025880" cy="286524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48240" y="34290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32320" y="4175280"/>
            <a:ext cx="3252600" cy="2377800"/>
            <a:chOff x="4432320" y="4175280"/>
            <a:chExt cx="3252600" cy="2377800"/>
          </a:xfrm>
        </p:grpSpPr>
        <p:sp>
          <p:nvSpPr>
            <p:cNvPr id="164" name=""/>
            <p:cNvSpPr/>
            <p:nvPr/>
          </p:nvSpPr>
          <p:spPr>
            <a:xfrm flipV="1">
              <a:off x="4432320" y="4403880"/>
              <a:ext cx="3035160" cy="214920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48240" y="417528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448240" y="4876920"/>
            <a:ext cx="2236680" cy="1676160"/>
            <a:chOff x="5448240" y="4876920"/>
            <a:chExt cx="2236680" cy="1676160"/>
          </a:xfrm>
        </p:grpSpPr>
        <p:sp>
          <p:nvSpPr>
            <p:cNvPr id="167" name=""/>
            <p:cNvSpPr/>
            <p:nvPr/>
          </p:nvSpPr>
          <p:spPr>
            <a:xfrm flipV="1">
              <a:off x="5448240" y="5135400"/>
              <a:ext cx="2019240" cy="141768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48240" y="487692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64160" y="5608800"/>
            <a:ext cx="1220760" cy="944280"/>
            <a:chOff x="6464160" y="5608800"/>
            <a:chExt cx="1220760" cy="944280"/>
          </a:xfrm>
        </p:grpSpPr>
        <p:sp>
          <p:nvSpPr>
            <p:cNvPr id="170" name=""/>
            <p:cNvSpPr/>
            <p:nvPr/>
          </p:nvSpPr>
          <p:spPr>
            <a:xfrm flipV="1">
              <a:off x="6464160" y="5837400"/>
              <a:ext cx="1003320" cy="71568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48240" y="56088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38280" y="3429000"/>
            <a:ext cx="4243320" cy="3123720"/>
            <a:chOff x="2438280" y="3429000"/>
            <a:chExt cx="4243320" cy="3123720"/>
          </a:xfrm>
        </p:grpSpPr>
        <p:sp>
          <p:nvSpPr>
            <p:cNvPr id="173" name=""/>
            <p:cNvSpPr/>
            <p:nvPr/>
          </p:nvSpPr>
          <p:spPr>
            <a:xfrm flipV="1">
              <a:off x="2438280" y="3687480"/>
              <a:ext cx="4025880" cy="286524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4920" y="34290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38280" y="3429000"/>
            <a:ext cx="3240000" cy="2361960"/>
            <a:chOff x="2438280" y="3429000"/>
            <a:chExt cx="3240000" cy="2361960"/>
          </a:xfrm>
        </p:grpSpPr>
        <p:sp>
          <p:nvSpPr>
            <p:cNvPr id="176" name=""/>
            <p:cNvSpPr/>
            <p:nvPr/>
          </p:nvSpPr>
          <p:spPr>
            <a:xfrm flipV="1">
              <a:off x="2438280" y="3687480"/>
              <a:ext cx="3022560" cy="210348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1600" y="34290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51240" y="3429000"/>
            <a:ext cx="1271520" cy="974520"/>
            <a:chOff x="2451240" y="3429000"/>
            <a:chExt cx="1271520" cy="974520"/>
          </a:xfrm>
        </p:grpSpPr>
        <p:sp>
          <p:nvSpPr>
            <p:cNvPr id="179" name=""/>
            <p:cNvSpPr/>
            <p:nvPr/>
          </p:nvSpPr>
          <p:spPr>
            <a:xfrm flipV="1">
              <a:off x="2451240" y="3687480"/>
              <a:ext cx="1003320" cy="716040"/>
            </a:xfrm>
            <a:prstGeom prst="line">
              <a:avLst/>
            </a:prstGeom>
            <a:ln w="25560">
              <a:solidFill>
                <a:srgbClr val="d600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86080" y="342900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0D68-4DEA-4059-B747-19958EB15FB7}" type="slidenum">
              <a:t>17</a:t>
            </a:fld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9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Matrič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u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dje je matrica H sastavljena iz koeficijenata inpulsnog odziva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lazni vektor je duljine 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vektor je duljine L+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pravokutna matrica dimenzija (L+M)x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tupce od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tvore zakašnjele replike bloka impulsnog odziva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je Toeplitzova mat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C41B-AD4D-49CE-B0A7-C286C918EC06}" type="slidenum">
              <a:t>18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Matrič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49480" y="1676520"/>
                <a:ext cx="6927840" cy="44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39DF-2C49-4B0B-A8B8-30666798F2A4}" type="slidenum">
              <a:t>1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cccc"/>
                </a:solidFill>
                <a:latin typeface="Times New Roman"/>
              </a:rPr>
              <a:t>Sadržaj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radba po blokov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rektni oblik, konvolucijska tablica, matrični obl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rcali i pomakni obl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lokovi beskonačne dulj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eklopi i zbroji met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radba uzorak po uzor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D80A-3D9F-4DE1-B8F1-19517ABD224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Alternativni matrič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939960" y="1523880"/>
                <a:ext cx="6222960" cy="44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800" y="6172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Book Antiqua"/>
              </a:rPr>
              <a:t>dimenzija od U je (L+M)x(M+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2F43-CE69-4239-B9E3-C6FDB638A36B}" type="slidenum">
              <a:t>20</a:t>
            </a:fld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Zrcali i pomakni oblik (Flip-and-Slide Form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rlo česta i očigledna interpretacija konvolu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mpuslni odziv filtra se zrc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a se posmiče preko ulazn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90760" y="4829040"/>
            <a:ext cx="4419720" cy="457200"/>
          </a:xfrm>
          <a:prstGeom prst="rect">
            <a:avLst/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 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1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2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3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4 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.... 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n-1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 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n 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....  u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Book Antiqua"/>
              </a:rPr>
              <a:t>L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4240" y="4829040"/>
            <a:ext cx="1676520" cy="45720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0480" y="4829040"/>
            <a:ext cx="1676160" cy="45720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14240" y="3838680"/>
            <a:ext cx="2133720" cy="1001520"/>
            <a:chOff x="714240" y="3838680"/>
            <a:chExt cx="2133720" cy="1001520"/>
          </a:xfrm>
        </p:grpSpPr>
        <p:sp>
          <p:nvSpPr>
            <p:cNvPr id="194" name=""/>
            <p:cNvSpPr/>
            <p:nvPr/>
          </p:nvSpPr>
          <p:spPr>
            <a:xfrm>
              <a:off x="714240" y="3838680"/>
              <a:ext cx="213372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-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...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46080" y="429588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429408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36680" y="429588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7920" y="429732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95440" y="5291280"/>
            <a:ext cx="436680" cy="1119600"/>
            <a:chOff x="2395440" y="5291280"/>
            <a:chExt cx="436680" cy="1119600"/>
          </a:xfrm>
        </p:grpSpPr>
        <p:sp>
          <p:nvSpPr>
            <p:cNvPr id="200" name=""/>
            <p:cNvSpPr/>
            <p:nvPr/>
          </p:nvSpPr>
          <p:spPr>
            <a:xfrm>
              <a:off x="2612880" y="529128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95440" y="5900760"/>
              <a:ext cx="43668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533760" y="3838680"/>
            <a:ext cx="2133720" cy="1011240"/>
            <a:chOff x="3533760" y="3838680"/>
            <a:chExt cx="2133720" cy="1011240"/>
          </a:xfrm>
        </p:grpSpPr>
        <p:sp>
          <p:nvSpPr>
            <p:cNvPr id="203" name=""/>
            <p:cNvSpPr/>
            <p:nvPr/>
          </p:nvSpPr>
          <p:spPr>
            <a:xfrm>
              <a:off x="3533760" y="3838680"/>
              <a:ext cx="213372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-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...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84680" y="43052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79960" y="430380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5280" y="43052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6160" y="43070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29720" y="5300640"/>
            <a:ext cx="446040" cy="1119600"/>
            <a:chOff x="5229720" y="5300640"/>
            <a:chExt cx="446040" cy="1119600"/>
          </a:xfrm>
        </p:grpSpPr>
        <p:sp>
          <p:nvSpPr>
            <p:cNvPr id="209" name=""/>
            <p:cNvSpPr/>
            <p:nvPr/>
          </p:nvSpPr>
          <p:spPr>
            <a:xfrm>
              <a:off x="5451480" y="53006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9720" y="5910120"/>
              <a:ext cx="44604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353280" y="3838680"/>
            <a:ext cx="2133360" cy="1011240"/>
            <a:chOff x="6353280" y="3838680"/>
            <a:chExt cx="2133360" cy="1011240"/>
          </a:xfrm>
        </p:grpSpPr>
        <p:sp>
          <p:nvSpPr>
            <p:cNvPr id="212" name=""/>
            <p:cNvSpPr/>
            <p:nvPr/>
          </p:nvSpPr>
          <p:spPr>
            <a:xfrm>
              <a:off x="6353280" y="3838680"/>
              <a:ext cx="21333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M-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...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h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70720" y="43052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66000" y="430380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61320" y="43052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42200" y="43070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816320" y="5300640"/>
            <a:ext cx="846720" cy="1119600"/>
            <a:chOff x="7816320" y="5300640"/>
            <a:chExt cx="846720" cy="1119600"/>
          </a:xfrm>
        </p:grpSpPr>
        <p:sp>
          <p:nvSpPr>
            <p:cNvPr id="218" name=""/>
            <p:cNvSpPr/>
            <p:nvPr/>
          </p:nvSpPr>
          <p:spPr>
            <a:xfrm>
              <a:off x="8237520" y="5300640"/>
              <a:ext cx="0" cy="5428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16320" y="5910120"/>
              <a:ext cx="84672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L-1+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85360" y="4829040"/>
            <a:ext cx="7902000" cy="970920"/>
            <a:chOff x="585360" y="4829040"/>
            <a:chExt cx="7902000" cy="970920"/>
          </a:xfrm>
        </p:grpSpPr>
        <p:sp>
          <p:nvSpPr>
            <p:cNvPr id="221" name=""/>
            <p:cNvSpPr/>
            <p:nvPr/>
          </p:nvSpPr>
          <p:spPr>
            <a:xfrm>
              <a:off x="585360" y="4829040"/>
              <a:ext cx="189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  </a:t>
              </a: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0   0   ... 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6040" y="48387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0    ...   0 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280" y="53308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M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1800" y="534024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M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F63D-D4A5-4D15-8353-892C8F0D56AA}" type="slidenum">
              <a:t>21</a:t>
            </a:fld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Zrcali i pomak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vih M uzoraka izlaznog bloka naziva se prijelazni odziv (input-on transient) il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utitravanje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tacionarno stanje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(steady state) filtra je z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=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n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n-1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+ ... +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Book Antiqua"/>
              </a:rPr>
              <a:t>n-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dnjih M uzoraka z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+ M naziva s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istitravanje filtr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input-off transi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072D-8458-406D-96C1-09D54F00FBC0}" type="slidenum">
              <a:t>22</a:t>
            </a:fld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acionarni odziv i utitravanje/istitravanje FIR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filtar M-tog reda i ulazni blok duljine L moguće su ove vrijednosti indeksa odziv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0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+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ri različite granice konvolucijske sumacije za tri dijela izlaznog bloka*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titravanje filtr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0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tacionarno stanje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stitravanje filt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+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560" y="586440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uz pretpostavku da je duljina filtra mnogo krać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duljine ulaznog bloka: M +1 &lt; L, tj. M &lt;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D177-4FDA-4A4B-A96C-44F5C0D7C099}" type="slidenum">
              <a:t>23</a:t>
            </a:fld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acionarni odziv i utitravanje/istitravanje FIR filtra - 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17080" y="1747800"/>
            <a:ext cx="8774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onja granica sumacije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ax (0,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– L + 1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a gornja granica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n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,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titravanje filtr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0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M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ax (0, n – L + 1) = 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n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, M) =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tacionarno stanje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ax (0, n – L + 1) = 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n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, M) =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stitravanje filt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1 + 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ax (0, n – L + 1) = n – L +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min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, M) =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9640" y="601200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uz pretpostavku da je duljina filtra mnogo krać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duljine ulaznog bloka: M +1 &lt; L, tj. M &lt;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33E4-D260-43B7-93A7-9671E2ADCEE7}" type="slidenum">
              <a:t>24</a:t>
            </a:fld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tacionarni odziv i utitravanje/istitravanje FIR filtra - 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81240" y="585000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uz pretpostavku da je duljina filtra mnogo krać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duljine ulaznog bloka: M +1 &lt; L, tj. M &lt;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90440" y="2451240"/>
                <a:ext cx="26449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68840" y="282240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06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0 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tra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73520" y="37609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06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c. st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73520" y="470376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06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+ M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itra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6FD8-FF67-4D88-A17A-D0F4579159D3}" type="slidenum">
              <a:t>25</a:t>
            </a:fld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nvolucija blokova signala beskonačne duljin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4600" y="1847880"/>
            <a:ext cx="881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ar beskonačne duljine, konačan ulazni signa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L &lt;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ar konačne duljine, beskonačan ulazni signa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&lt;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L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ar beskonačne duljine, beskonačan ulazni signa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L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sva tri slučaja 0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61BA-BDDE-435A-8775-C51ED5F49CB5}" type="slidenum">
              <a:t>26</a:t>
            </a:fld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nvolucija blokova signala beskonačne duljine –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4568400"/>
            <a:ext cx="8382240" cy="20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da L </a:t>
            </a:r>
            <a:r>
              <a:rPr b="0" lang="hr-H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ax (0, n – L + 1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da M </a:t>
            </a:r>
            <a:r>
              <a:rPr b="0" lang="hr-H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in 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M) =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66800" y="1955880"/>
                <a:ext cx="554184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1475-89D8-4379-85B0-29E471572C09}" type="slidenum">
              <a:t>27</a:t>
            </a:fld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nvolucija blokova signala beskonačne duljine –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849320" y="1941480"/>
                <a:ext cx="31734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903320" y="3494160"/>
                <a:ext cx="2768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38320" y="5183280"/>
                <a:ext cx="24987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194440" y="234000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  M =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L &lt;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32440" y="38624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  M &lt;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L =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440" y="552132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za  M =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, L =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EA7E-A768-4253-A0D7-E829DD358F61}" type="slidenum">
              <a:t>28</a:t>
            </a:fld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pći slučaj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297760" cy="22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mpulsni odziv filtra konačnog ili beskonačnog trajanja, kauzalan ili nekauzalan: –M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726080" y="4246560"/>
          <a:ext cx="445428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4246560"/>
                    <a:ext cx="44542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03360" y="4287960"/>
            <a:ext cx="423072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lok ulaznog signala konačnog ili beskonačnog trajanja: –L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707000" y="1332000"/>
          <a:ext cx="41353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7000" y="1332000"/>
                    <a:ext cx="41353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39E0-8BFA-49E4-B45F-F4CA183F6D63}" type="slidenum">
              <a:t>29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po blokovim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kupljanje uzoraka u blok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R filtracija signala konačnog traj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za konvolucija dugačkih signala razloženih u kraće blok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FT/F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naliza i sinteza gov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radba sli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3BCC-0C6D-4BAC-879D-24D52592D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pći slučaj –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7080" y="2707920"/>
            <a:ext cx="4800600" cy="18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*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 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*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47880" y="1527120"/>
                <a:ext cx="3882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1565280" y="4643280"/>
            <a:ext cx="1833480" cy="1015920"/>
            <a:chOff x="1565280" y="4643280"/>
            <a:chExt cx="1833480" cy="1015920"/>
          </a:xfrm>
        </p:grpSpPr>
        <p:sp>
          <p:nvSpPr>
            <p:cNvPr id="262" name=""/>
            <p:cNvSpPr/>
            <p:nvPr/>
          </p:nvSpPr>
          <p:spPr>
            <a:xfrm>
              <a:off x="1565280" y="4643280"/>
              <a:ext cx="396720" cy="1015920"/>
            </a:xfrm>
            <a:prstGeom prst="downArrow">
              <a:avLst>
                <a:gd name="adj1" fmla="val 50000"/>
                <a:gd name="adj2" fmla="val 6402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0560" y="4684320"/>
              <a:ext cx="14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(*),(**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17440" y="5848200"/>
            <a:ext cx="6600960" cy="5558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ax(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+ 1)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in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 +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M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46560" y="3328920"/>
            <a:ext cx="41259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837400" y="3978360"/>
            <a:ext cx="1833120" cy="1015920"/>
            <a:chOff x="5837400" y="3978360"/>
            <a:chExt cx="1833120" cy="1015920"/>
          </a:xfrm>
        </p:grpSpPr>
        <p:sp>
          <p:nvSpPr>
            <p:cNvPr id="267" name=""/>
            <p:cNvSpPr/>
            <p:nvPr/>
          </p:nvSpPr>
          <p:spPr>
            <a:xfrm>
              <a:off x="5837400" y="3978360"/>
              <a:ext cx="396360" cy="1015920"/>
            </a:xfrm>
            <a:prstGeom prst="downArrow">
              <a:avLst>
                <a:gd name="adj1" fmla="val 50000"/>
                <a:gd name="adj2" fmla="val 64078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32320" y="4019400"/>
              <a:ext cx="14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(*),(**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049640" y="5130720"/>
            <a:ext cx="4942080" cy="5288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BBD0-2DA1-4571-957B-F111B46B00CB}" type="slidenum">
              <a:t>30</a:t>
            </a:fld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pći slučaj – granice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25640" y="2786040"/>
                <a:ext cx="7750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1798-BC01-4DA8-89FD-9D6D107212B5}" type="slidenum">
              <a:t>31</a:t>
            </a:fld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 (Overlap-Add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6440" y="1747800"/>
            <a:ext cx="8585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vrlo dugačke (ili beskonačne) sig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lazni signal se podijeli u kraće blokove duljine L: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blokovi duljine L+M se preklapaj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*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*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*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trebno je zbrojiti dijelove koji se preklapa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1D22-C8D4-459A-A2CA-E97AD209A194}" type="slidenum">
              <a:t>32</a:t>
            </a:fld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2006640"/>
            <a:ext cx="2197080" cy="36828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5320" y="2006640"/>
            <a:ext cx="2197080" cy="36828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75360" y="2006640"/>
            <a:ext cx="2197080" cy="36828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49160" y="1695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959200" y="1695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68880" y="1695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378560" y="169560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9160" y="18478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184788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68880" y="184788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4000" y="1374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27360" y="1374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89680" y="1374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5240" y="1952640"/>
            <a:ext cx="119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lok </a:t>
            </a:r>
            <a:r>
              <a:rPr b="1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3200" y="1947960"/>
            <a:ext cx="118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lok </a:t>
            </a:r>
            <a:r>
              <a:rPr b="1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8720" y="1957320"/>
            <a:ext cx="119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Book Antiqua"/>
              </a:rPr>
              <a:t>blok </a:t>
            </a:r>
            <a:r>
              <a:rPr b="1" lang="hr-HR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49160" y="2381400"/>
            <a:ext cx="2919240" cy="4485600"/>
            <a:chOff x="749160" y="2381400"/>
            <a:chExt cx="2919240" cy="4485600"/>
          </a:xfrm>
        </p:grpSpPr>
        <p:grpSp>
          <p:nvGrpSpPr>
            <p:cNvPr id="292" name=""/>
            <p:cNvGrpSpPr/>
            <p:nvPr/>
          </p:nvGrpSpPr>
          <p:grpSpPr>
            <a:xfrm>
              <a:off x="755640" y="3279600"/>
              <a:ext cx="2806560" cy="914400"/>
              <a:chOff x="755640" y="3279600"/>
              <a:chExt cx="2806560" cy="914400"/>
            </a:xfrm>
          </p:grpSpPr>
          <p:sp>
            <p:nvSpPr>
              <p:cNvPr id="293" name=""/>
              <p:cNvSpPr/>
              <p:nvPr/>
            </p:nvSpPr>
            <p:spPr>
              <a:xfrm>
                <a:off x="755640" y="3301920"/>
                <a:ext cx="21970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65320" y="3301920"/>
                <a:ext cx="596880" cy="368280"/>
              </a:xfrm>
              <a:prstGeom prst="rect">
                <a:avLst/>
              </a:prstGeom>
              <a:solidFill>
                <a:srgbClr val="7500d7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14200" y="3279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95640" y="3736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49160" y="2381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59200" y="2381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9160" y="3301920"/>
              <a:ext cx="0" cy="3330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55960" y="4597560"/>
              <a:ext cx="3240" cy="20350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55960" y="6408720"/>
              <a:ext cx="71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640" y="6408720"/>
              <a:ext cx="69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4760" y="288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47320" y="321624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te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68880" y="2381400"/>
            <a:ext cx="3057120" cy="4480920"/>
            <a:chOff x="5168880" y="2381400"/>
            <a:chExt cx="3057120" cy="4480920"/>
          </a:xfrm>
        </p:grpSpPr>
        <p:sp>
          <p:nvSpPr>
            <p:cNvPr id="306" name=""/>
            <p:cNvSpPr/>
            <p:nvPr/>
          </p:nvSpPr>
          <p:spPr>
            <a:xfrm>
              <a:off x="5168880" y="497196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5175360" y="2381400"/>
              <a:ext cx="3050640" cy="4480920"/>
              <a:chOff x="5175360" y="2381400"/>
              <a:chExt cx="3050640" cy="44809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175360" y="2381400"/>
                <a:ext cx="3050640" cy="4480920"/>
                <a:chOff x="5175360" y="2381400"/>
                <a:chExt cx="3050640" cy="448092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175360" y="5870520"/>
                  <a:ext cx="2806560" cy="457200"/>
                  <a:chOff x="5175360" y="5870520"/>
                  <a:chExt cx="2806560" cy="4572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175360" y="5892840"/>
                    <a:ext cx="2197080" cy="368280"/>
                  </a:xfrm>
                  <a:prstGeom prst="rect">
                    <a:avLst/>
                  </a:prstGeom>
                  <a:solidFill>
                    <a:srgbClr val="d60093">
                      <a:alpha val="50000"/>
                    </a:srgbClr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385040" y="5892840"/>
                    <a:ext cx="596880" cy="368280"/>
                  </a:xfrm>
                  <a:prstGeom prst="rect">
                    <a:avLst/>
                  </a:prstGeom>
                  <a:solidFill>
                    <a:srgbClr val="7500d7">
                      <a:alpha val="50000"/>
                    </a:srgbClr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610240" y="587052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361280" y="2381400"/>
                  <a:ext cx="864720" cy="4480920"/>
                  <a:chOff x="7361280" y="2381400"/>
                  <a:chExt cx="864720" cy="44809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7361280" y="6404040"/>
                    <a:ext cx="86472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hr-HR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=3L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7378560" y="2381400"/>
                    <a:ext cx="0" cy="3504600"/>
                    <a:chOff x="7378560" y="2381400"/>
                    <a:chExt cx="0" cy="35046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378560" y="4971960"/>
                      <a:ext cx="0" cy="914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78560" y="2381400"/>
                      <a:ext cx="0" cy="28954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7372440" y="5886360"/>
                    <a:ext cx="12600" cy="741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7367040" y="5803920"/>
                <a:ext cx="68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hr-H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tem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45240" y="5435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2959200" y="2381400"/>
            <a:ext cx="3076200" cy="4485600"/>
            <a:chOff x="2959200" y="2381400"/>
            <a:chExt cx="3076200" cy="4485600"/>
          </a:xfrm>
        </p:grpSpPr>
        <p:grpSp>
          <p:nvGrpSpPr>
            <p:cNvPr id="322" name=""/>
            <p:cNvGrpSpPr/>
            <p:nvPr/>
          </p:nvGrpSpPr>
          <p:grpSpPr>
            <a:xfrm>
              <a:off x="2965320" y="4575240"/>
              <a:ext cx="2806560" cy="914400"/>
              <a:chOff x="2965320" y="4575240"/>
              <a:chExt cx="2806560" cy="91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2965320" y="4597200"/>
                <a:ext cx="21970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75000" y="4597200"/>
                <a:ext cx="596880" cy="368280"/>
              </a:xfrm>
              <a:prstGeom prst="rect">
                <a:avLst/>
              </a:prstGeom>
              <a:solidFill>
                <a:srgbClr val="7500d7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00200" y="4575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81640" y="50324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959200" y="367668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168880" y="2381400"/>
              <a:ext cx="6480" cy="4251240"/>
              <a:chOff x="5168880" y="2381400"/>
              <a:chExt cx="6480" cy="42512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168880" y="2381400"/>
                <a:ext cx="0" cy="2209320"/>
                <a:chOff x="5168880" y="2381400"/>
                <a:chExt cx="0" cy="22093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168880" y="3676680"/>
                  <a:ext cx="0" cy="914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68880" y="2381400"/>
                  <a:ext cx="0" cy="144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175360" y="5892840"/>
                <a:ext cx="0" cy="73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170680" y="6408720"/>
              <a:ext cx="86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2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57360" y="451152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te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98840" y="4140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62360" y="3301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2360" y="4514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2360" y="5892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5880" y="1957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9E36-91B0-48EF-B10D-C2B31B2C8A62}" type="slidenum">
              <a:t>33</a:t>
            </a:fld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 - primje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076120"/>
            <a:ext cx="8382240" cy="36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ka je ulazni “dugački” signal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(n) = [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u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azložimo ulazni signal na blokove duljine L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ka je filtar reda M =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C8EC-B2BE-40E4-8232-913CA69788A1}" type="slidenum">
              <a:t>34</a:t>
            </a:fld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9000" y="-3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200560" y="606600"/>
            <a:ext cx="2210040" cy="1082880"/>
            <a:chOff x="5200560" y="606600"/>
            <a:chExt cx="2210040" cy="1082880"/>
          </a:xfrm>
        </p:grpSpPr>
        <p:sp>
          <p:nvSpPr>
            <p:cNvPr id="344" name=""/>
            <p:cNvSpPr/>
            <p:nvPr/>
          </p:nvSpPr>
          <p:spPr>
            <a:xfrm>
              <a:off x="602136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0704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41060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00560" y="1079640"/>
              <a:ext cx="221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4880" y="1179360"/>
              <a:ext cx="118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990880" y="606600"/>
            <a:ext cx="2209680" cy="1092600"/>
            <a:chOff x="2990880" y="606600"/>
            <a:chExt cx="2209680" cy="1092600"/>
          </a:xfrm>
        </p:grpSpPr>
        <p:sp>
          <p:nvSpPr>
            <p:cNvPr id="350" name=""/>
            <p:cNvSpPr/>
            <p:nvPr/>
          </p:nvSpPr>
          <p:spPr>
            <a:xfrm>
              <a:off x="365904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9736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20056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90880" y="107964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80400" y="1189080"/>
              <a:ext cx="119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94440" y="1612800"/>
            <a:ext cx="2190600" cy="3264120"/>
            <a:chOff x="5194440" y="1612800"/>
            <a:chExt cx="2190600" cy="3264120"/>
          </a:xfrm>
        </p:grpSpPr>
        <p:sp>
          <p:nvSpPr>
            <p:cNvPr id="356" name=""/>
            <p:cNvSpPr/>
            <p:nvPr/>
          </p:nvSpPr>
          <p:spPr>
            <a:xfrm>
              <a:off x="5194440" y="3746520"/>
              <a:ext cx="6120" cy="113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85040" y="1612800"/>
              <a:ext cx="0" cy="252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4040" y="2143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4040" y="3289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4040" y="4419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7560" y="606600"/>
            <a:ext cx="2803320" cy="1087920"/>
            <a:chOff x="187560" y="606600"/>
            <a:chExt cx="2803320" cy="1087920"/>
          </a:xfrm>
        </p:grpSpPr>
        <p:sp>
          <p:nvSpPr>
            <p:cNvPr id="362" name=""/>
            <p:cNvSpPr/>
            <p:nvPr/>
          </p:nvSpPr>
          <p:spPr>
            <a:xfrm>
              <a:off x="78732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8120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99088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1200" y="107964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568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6920" y="1184400"/>
              <a:ext cx="119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7560" y="118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990880" y="3009960"/>
            <a:ext cx="3641760" cy="1104840"/>
            <a:chOff x="2990880" y="3009960"/>
            <a:chExt cx="3641760" cy="1104840"/>
          </a:xfrm>
        </p:grpSpPr>
        <p:sp>
          <p:nvSpPr>
            <p:cNvPr id="370" name=""/>
            <p:cNvSpPr/>
            <p:nvPr/>
          </p:nvSpPr>
          <p:spPr>
            <a:xfrm>
              <a:off x="2990880" y="3746520"/>
              <a:ext cx="7714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62360" y="374652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75160" y="374652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75160" y="337824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5880" y="337824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13360" y="300996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94440" y="3378240"/>
              <a:ext cx="71892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7960" y="300996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75160" y="300996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97040" y="1863720"/>
            <a:ext cx="3641760" cy="1104840"/>
            <a:chOff x="797040" y="1863720"/>
            <a:chExt cx="3641760" cy="1104840"/>
          </a:xfrm>
        </p:grpSpPr>
        <p:sp>
          <p:nvSpPr>
            <p:cNvPr id="380" name=""/>
            <p:cNvSpPr/>
            <p:nvPr/>
          </p:nvSpPr>
          <p:spPr>
            <a:xfrm>
              <a:off x="797040" y="2600280"/>
              <a:ext cx="7714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68520" y="260028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1320" y="260028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1320" y="223200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62040" y="22320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19520" y="186372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00240" y="22320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4120" y="186372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81320" y="186372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000240" y="1612800"/>
            <a:ext cx="2194200" cy="2133720"/>
            <a:chOff x="3000240" y="1612800"/>
            <a:chExt cx="2194200" cy="2133720"/>
          </a:xfrm>
        </p:grpSpPr>
        <p:sp>
          <p:nvSpPr>
            <p:cNvPr id="390" name=""/>
            <p:cNvSpPr/>
            <p:nvPr/>
          </p:nvSpPr>
          <p:spPr>
            <a:xfrm>
              <a:off x="3000240" y="2600280"/>
              <a:ext cx="0" cy="11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4440" y="1612800"/>
              <a:ext cx="0" cy="13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7040" y="1606680"/>
            <a:ext cx="2196720" cy="993600"/>
            <a:chOff x="797040" y="1606680"/>
            <a:chExt cx="2196720" cy="993600"/>
          </a:xfrm>
        </p:grpSpPr>
        <p:sp>
          <p:nvSpPr>
            <p:cNvPr id="393" name=""/>
            <p:cNvSpPr/>
            <p:nvPr/>
          </p:nvSpPr>
          <p:spPr>
            <a:xfrm>
              <a:off x="797040" y="1612800"/>
              <a:ext cx="0" cy="9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90520" y="1606680"/>
              <a:ext cx="32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9520" y="2600280"/>
            <a:ext cx="8375400" cy="4257720"/>
            <a:chOff x="479520" y="2600280"/>
            <a:chExt cx="8375400" cy="4257720"/>
          </a:xfrm>
        </p:grpSpPr>
        <p:sp>
          <p:nvSpPr>
            <p:cNvPr id="396" name=""/>
            <p:cNvSpPr/>
            <p:nvPr/>
          </p:nvSpPr>
          <p:spPr>
            <a:xfrm>
              <a:off x="2987640" y="5245200"/>
              <a:ext cx="71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0160" y="5245200"/>
              <a:ext cx="69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17080" y="5245200"/>
              <a:ext cx="86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3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7960" y="5245200"/>
              <a:ext cx="86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2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7040" y="2600280"/>
              <a:ext cx="0" cy="4257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984040" y="3746520"/>
              <a:ext cx="3240" cy="18892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385040" y="4876920"/>
              <a:ext cx="6480" cy="7588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520" y="5635800"/>
              <a:ext cx="837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7960" y="48769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89080" y="584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187960" y="4140360"/>
            <a:ext cx="3635280" cy="1104840"/>
            <a:chOff x="5187960" y="4140360"/>
            <a:chExt cx="3635280" cy="1104840"/>
          </a:xfrm>
        </p:grpSpPr>
        <p:sp>
          <p:nvSpPr>
            <p:cNvPr id="407" name=""/>
            <p:cNvSpPr/>
            <p:nvPr/>
          </p:nvSpPr>
          <p:spPr>
            <a:xfrm>
              <a:off x="5187960" y="4876920"/>
              <a:ext cx="7714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9440" y="487692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72240" y="450864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52960" y="450864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5040" y="41403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72240" y="41403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8720" y="487692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1520" y="450864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04320" y="414036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97040" y="5702400"/>
            <a:ext cx="8020080" cy="1104840"/>
            <a:chOff x="797040" y="5702400"/>
            <a:chExt cx="8020080" cy="1104840"/>
          </a:xfrm>
        </p:grpSpPr>
        <p:sp>
          <p:nvSpPr>
            <p:cNvPr id="417" name=""/>
            <p:cNvSpPr/>
            <p:nvPr/>
          </p:nvSpPr>
          <p:spPr>
            <a:xfrm>
              <a:off x="797040" y="6438960"/>
              <a:ext cx="7714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68520" y="643896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74840" y="643896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81320" y="607068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62040" y="607068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7440" y="57024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94120" y="6438960"/>
              <a:ext cx="73332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6800" y="643896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9600" y="643896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03480" y="6070680"/>
              <a:ext cx="7333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6800" y="607068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9600" y="607068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03480" y="5702400"/>
              <a:ext cx="7333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6800" y="57024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9600" y="570240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68880" y="6438960"/>
              <a:ext cx="7840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2960" y="64389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8880" y="6070680"/>
              <a:ext cx="7840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2960" y="607068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65760" y="607068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68880" y="5702400"/>
              <a:ext cx="7840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52960" y="570240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65760" y="570240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85040" y="570240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72240" y="64389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85040" y="607068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7840" y="570240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FCB9-38A0-4652-9FB9-89F101336F83}" type="slidenum">
              <a:t>35</a:t>
            </a:fld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59000" y="-3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200560" y="606600"/>
            <a:ext cx="2210040" cy="1082880"/>
            <a:chOff x="5200560" y="606600"/>
            <a:chExt cx="2210040" cy="1082880"/>
          </a:xfrm>
        </p:grpSpPr>
        <p:sp>
          <p:nvSpPr>
            <p:cNvPr id="446" name=""/>
            <p:cNvSpPr/>
            <p:nvPr/>
          </p:nvSpPr>
          <p:spPr>
            <a:xfrm>
              <a:off x="602136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0704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41060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00560" y="1079640"/>
              <a:ext cx="221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44880" y="1179360"/>
              <a:ext cx="118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990880" y="606600"/>
            <a:ext cx="2209680" cy="1092600"/>
            <a:chOff x="2990880" y="606600"/>
            <a:chExt cx="2209680" cy="1092600"/>
          </a:xfrm>
        </p:grpSpPr>
        <p:sp>
          <p:nvSpPr>
            <p:cNvPr id="452" name=""/>
            <p:cNvSpPr/>
            <p:nvPr/>
          </p:nvSpPr>
          <p:spPr>
            <a:xfrm>
              <a:off x="365904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9736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20056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90880" y="107964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0400" y="1189080"/>
              <a:ext cx="119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194440" y="1612800"/>
            <a:ext cx="2190600" cy="3264120"/>
            <a:chOff x="5194440" y="1612800"/>
            <a:chExt cx="2190600" cy="3264120"/>
          </a:xfrm>
        </p:grpSpPr>
        <p:sp>
          <p:nvSpPr>
            <p:cNvPr id="458" name=""/>
            <p:cNvSpPr/>
            <p:nvPr/>
          </p:nvSpPr>
          <p:spPr>
            <a:xfrm>
              <a:off x="5194440" y="3746520"/>
              <a:ext cx="6120" cy="113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85040" y="1612800"/>
              <a:ext cx="0" cy="252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4040" y="2143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4040" y="3289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4040" y="4419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r-H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87560" y="606600"/>
            <a:ext cx="2803320" cy="1087920"/>
            <a:chOff x="187560" y="606600"/>
            <a:chExt cx="2803320" cy="1087920"/>
          </a:xfrm>
        </p:grpSpPr>
        <p:sp>
          <p:nvSpPr>
            <p:cNvPr id="464" name=""/>
            <p:cNvSpPr/>
            <p:nvPr/>
          </p:nvSpPr>
          <p:spPr>
            <a:xfrm>
              <a:off x="787320" y="1238400"/>
              <a:ext cx="2197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8120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990880" y="9266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1200" y="1079640"/>
              <a:ext cx="22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5680" y="606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6920" y="1184400"/>
              <a:ext cx="119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Book Antiqua"/>
                </a:rPr>
                <a:t>blok 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1" lang="hr-HR" sz="2400" spc="-1" strike="noStrike" baseline="-25000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7560" y="118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990880" y="3013200"/>
            <a:ext cx="3641760" cy="1098360"/>
            <a:chOff x="2990880" y="3013200"/>
            <a:chExt cx="3641760" cy="1098360"/>
          </a:xfrm>
        </p:grpSpPr>
        <p:sp>
          <p:nvSpPr>
            <p:cNvPr id="472" name=""/>
            <p:cNvSpPr/>
            <p:nvPr/>
          </p:nvSpPr>
          <p:spPr>
            <a:xfrm>
              <a:off x="2990880" y="3013200"/>
              <a:ext cx="7714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01320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75160" y="301320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75160" y="337824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55880" y="337824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13360" y="374328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94440" y="3378240"/>
              <a:ext cx="71892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87960" y="374328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3743280"/>
              <a:ext cx="719280" cy="368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97040" y="1866960"/>
            <a:ext cx="3641760" cy="1116000"/>
            <a:chOff x="797040" y="1866960"/>
            <a:chExt cx="3641760" cy="1116000"/>
          </a:xfrm>
        </p:grpSpPr>
        <p:sp>
          <p:nvSpPr>
            <p:cNvPr id="482" name=""/>
            <p:cNvSpPr/>
            <p:nvPr/>
          </p:nvSpPr>
          <p:spPr>
            <a:xfrm>
              <a:off x="797040" y="1866960"/>
              <a:ext cx="7714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68520" y="186696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1320" y="186696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81320" y="223200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62040" y="22320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9520" y="261468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00240" y="2232000"/>
              <a:ext cx="71928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94120" y="261468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1320" y="2614680"/>
              <a:ext cx="718920" cy="36828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000240" y="1612800"/>
            <a:ext cx="2194200" cy="2133720"/>
            <a:chOff x="3000240" y="1612800"/>
            <a:chExt cx="2194200" cy="2133720"/>
          </a:xfrm>
        </p:grpSpPr>
        <p:sp>
          <p:nvSpPr>
            <p:cNvPr id="492" name=""/>
            <p:cNvSpPr/>
            <p:nvPr/>
          </p:nvSpPr>
          <p:spPr>
            <a:xfrm>
              <a:off x="3000240" y="2600280"/>
              <a:ext cx="0" cy="11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94440" y="1612800"/>
              <a:ext cx="0" cy="13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97040" y="1606680"/>
            <a:ext cx="2196720" cy="993600"/>
            <a:chOff x="797040" y="1606680"/>
            <a:chExt cx="2196720" cy="993600"/>
          </a:xfrm>
        </p:grpSpPr>
        <p:sp>
          <p:nvSpPr>
            <p:cNvPr id="495" name=""/>
            <p:cNvSpPr/>
            <p:nvPr/>
          </p:nvSpPr>
          <p:spPr>
            <a:xfrm>
              <a:off x="797040" y="1612800"/>
              <a:ext cx="0" cy="9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990520" y="1606680"/>
              <a:ext cx="32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79520" y="2600280"/>
            <a:ext cx="8375400" cy="4257720"/>
            <a:chOff x="479520" y="2600280"/>
            <a:chExt cx="8375400" cy="4257720"/>
          </a:xfrm>
        </p:grpSpPr>
        <p:sp>
          <p:nvSpPr>
            <p:cNvPr id="498" name=""/>
            <p:cNvSpPr/>
            <p:nvPr/>
          </p:nvSpPr>
          <p:spPr>
            <a:xfrm>
              <a:off x="2987640" y="5245200"/>
              <a:ext cx="71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0160" y="5245200"/>
              <a:ext cx="69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7080" y="5245200"/>
              <a:ext cx="86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3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7960" y="5245200"/>
              <a:ext cx="86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n=2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97040" y="2600280"/>
              <a:ext cx="0" cy="4257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84040" y="3746520"/>
              <a:ext cx="3240" cy="18892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385040" y="4876920"/>
              <a:ext cx="6480" cy="7588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9520" y="5635800"/>
              <a:ext cx="837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7960" y="48769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89080" y="584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187960" y="4143240"/>
            <a:ext cx="3635280" cy="1116000"/>
            <a:chOff x="5187960" y="4143240"/>
            <a:chExt cx="3635280" cy="1116000"/>
          </a:xfrm>
        </p:grpSpPr>
        <p:sp>
          <p:nvSpPr>
            <p:cNvPr id="509" name=""/>
            <p:cNvSpPr/>
            <p:nvPr/>
          </p:nvSpPr>
          <p:spPr>
            <a:xfrm>
              <a:off x="5187960" y="4143240"/>
              <a:ext cx="7714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59440" y="414324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72240" y="450864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52960" y="450864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85040" y="48909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72240" y="4890960"/>
              <a:ext cx="71928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78720" y="414324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91520" y="450864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04320" y="4890960"/>
              <a:ext cx="718920" cy="3682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u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85880" y="5662440"/>
            <a:ext cx="8026200" cy="1122480"/>
            <a:chOff x="785880" y="5662440"/>
            <a:chExt cx="8026200" cy="1122480"/>
          </a:xfrm>
        </p:grpSpPr>
        <p:grpSp>
          <p:nvGrpSpPr>
            <p:cNvPr id="519" name=""/>
            <p:cNvGrpSpPr/>
            <p:nvPr/>
          </p:nvGrpSpPr>
          <p:grpSpPr>
            <a:xfrm>
              <a:off x="785880" y="5662440"/>
              <a:ext cx="3641760" cy="1116000"/>
              <a:chOff x="785880" y="5662440"/>
              <a:chExt cx="3641760" cy="1116000"/>
            </a:xfrm>
          </p:grpSpPr>
          <p:sp>
            <p:nvSpPr>
              <p:cNvPr id="520" name=""/>
              <p:cNvSpPr/>
              <p:nvPr/>
            </p:nvSpPr>
            <p:spPr>
              <a:xfrm>
                <a:off x="785880" y="5662440"/>
                <a:ext cx="7714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557360" y="5662440"/>
                <a:ext cx="71892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270160" y="5662440"/>
                <a:ext cx="71892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70160" y="6027480"/>
                <a:ext cx="71892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50880" y="6027480"/>
                <a:ext cx="7192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08360" y="6410160"/>
                <a:ext cx="7192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989080" y="6027480"/>
                <a:ext cx="71928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82960" y="6410160"/>
                <a:ext cx="71892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70160" y="6410160"/>
                <a:ext cx="718920" cy="368280"/>
              </a:xfrm>
              <a:prstGeom prst="rect">
                <a:avLst/>
              </a:prstGeom>
              <a:solidFill>
                <a:srgbClr val="d60093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979720" y="5673600"/>
              <a:ext cx="3641760" cy="1098360"/>
              <a:chOff x="2979720" y="5673600"/>
              <a:chExt cx="3641760" cy="1098360"/>
            </a:xfrm>
          </p:grpSpPr>
          <p:sp>
            <p:nvSpPr>
              <p:cNvPr id="530" name=""/>
              <p:cNvSpPr/>
              <p:nvPr/>
            </p:nvSpPr>
            <p:spPr>
              <a:xfrm>
                <a:off x="2979720" y="5673600"/>
                <a:ext cx="7714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51200" y="567360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64000" y="567360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64000" y="603864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44720" y="603864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02200" y="640368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83280" y="6038640"/>
                <a:ext cx="71892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76800" y="640368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464000" y="6403680"/>
                <a:ext cx="719280" cy="3682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176800" y="5668920"/>
              <a:ext cx="3635280" cy="1116000"/>
              <a:chOff x="5176800" y="5668920"/>
              <a:chExt cx="3635280" cy="1116000"/>
            </a:xfrm>
          </p:grpSpPr>
          <p:sp>
            <p:nvSpPr>
              <p:cNvPr id="540" name=""/>
              <p:cNvSpPr/>
              <p:nvPr/>
            </p:nvSpPr>
            <p:spPr>
              <a:xfrm>
                <a:off x="5176800" y="5668920"/>
                <a:ext cx="7714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48280" y="5668920"/>
                <a:ext cx="7192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61080" y="6034320"/>
                <a:ext cx="7192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941800" y="6034320"/>
                <a:ext cx="7192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73880" y="6416640"/>
                <a:ext cx="7192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61080" y="6416640"/>
                <a:ext cx="71928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67560" y="5668920"/>
                <a:ext cx="71892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80360" y="6034320"/>
                <a:ext cx="71892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93160" y="6416640"/>
                <a:ext cx="718920" cy="3682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 Antiqua"/>
                  </a:rPr>
                  <a:t>u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 Antiqua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58F7-9EF3-46A8-9FCF-B70709960AE8}" type="slidenum">
              <a:t>36</a:t>
            </a:fld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eklopi i zbroji metoda - primje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003320" y="2700360"/>
            <a:ext cx="7621560" cy="2149560"/>
            <a:chOff x="1003320" y="2700360"/>
            <a:chExt cx="7621560" cy="2149560"/>
          </a:xfrm>
        </p:grpSpPr>
        <p:sp>
          <p:nvSpPr>
            <p:cNvPr id="551" name=""/>
            <p:cNvSpPr/>
            <p:nvPr/>
          </p:nvSpPr>
          <p:spPr>
            <a:xfrm>
              <a:off x="1003320" y="2700360"/>
              <a:ext cx="2536920" cy="2149560"/>
            </a:xfrm>
            <a:prstGeom prst="rect">
              <a:avLst/>
            </a:prstGeom>
            <a:solidFill>
              <a:srgbClr val="d60093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59320" y="2700360"/>
              <a:ext cx="2536560" cy="2149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87960" y="2700360"/>
              <a:ext cx="2536920" cy="21495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860480" y="2724120"/>
            <a:ext cx="2536920" cy="2152800"/>
            <a:chOff x="1860480" y="2724120"/>
            <a:chExt cx="2536920" cy="2152800"/>
          </a:xfrm>
        </p:grpSpPr>
        <p:sp>
          <p:nvSpPr>
            <p:cNvPr id="555" name=""/>
            <p:cNvSpPr/>
            <p:nvPr/>
          </p:nvSpPr>
          <p:spPr>
            <a:xfrm>
              <a:off x="2705040" y="3441600"/>
              <a:ext cx="844560" cy="71784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60480" y="4159440"/>
              <a:ext cx="844560" cy="71748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52840" y="2724120"/>
              <a:ext cx="844560" cy="717480"/>
            </a:xfrm>
            <a:prstGeom prst="rect">
              <a:avLst/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705040" y="2724120"/>
            <a:ext cx="2536920" cy="2152800"/>
            <a:chOff x="2705040" y="2724120"/>
            <a:chExt cx="2536920" cy="2152800"/>
          </a:xfrm>
        </p:grpSpPr>
        <p:sp>
          <p:nvSpPr>
            <p:cNvPr id="559" name=""/>
            <p:cNvSpPr/>
            <p:nvPr/>
          </p:nvSpPr>
          <p:spPr>
            <a:xfrm>
              <a:off x="2705040" y="4159440"/>
              <a:ext cx="844560" cy="717480"/>
            </a:xfrm>
            <a:prstGeom prst="rect">
              <a:avLst/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97400" y="2724120"/>
              <a:ext cx="844560" cy="717480"/>
            </a:xfrm>
            <a:prstGeom prst="rect">
              <a:avLst/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52840" y="3441600"/>
              <a:ext cx="844560" cy="717840"/>
            </a:xfrm>
            <a:prstGeom prst="rect">
              <a:avLst/>
            </a:prstGeom>
            <a:blipFill rotWithShape="0">
              <a:blip r:embed="rId6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405320" y="2719440"/>
            <a:ext cx="2533680" cy="2147400"/>
            <a:chOff x="4405320" y="2719440"/>
            <a:chExt cx="2533680" cy="2147400"/>
          </a:xfrm>
        </p:grpSpPr>
        <p:sp>
          <p:nvSpPr>
            <p:cNvPr id="563" name=""/>
            <p:cNvSpPr/>
            <p:nvPr/>
          </p:nvSpPr>
          <p:spPr>
            <a:xfrm>
              <a:off x="5249880" y="3431880"/>
              <a:ext cx="844560" cy="717120"/>
            </a:xfrm>
            <a:prstGeom prst="rect">
              <a:avLst/>
            </a:prstGeom>
            <a:blipFill rotWithShape="0">
              <a:blip r:embed="rId7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05320" y="4149360"/>
              <a:ext cx="844560" cy="717480"/>
            </a:xfrm>
            <a:prstGeom prst="rect">
              <a:avLst/>
            </a:prstGeom>
            <a:blipFill rotWithShape="0">
              <a:blip r:embed="rId8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94440" y="2719440"/>
              <a:ext cx="844560" cy="717120"/>
            </a:xfrm>
            <a:prstGeom prst="rect">
              <a:avLst/>
            </a:prstGeom>
            <a:blipFill rotWithShape="0">
              <a:blip r:embed="rId9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249880" y="2714760"/>
            <a:ext cx="2529000" cy="2152080"/>
            <a:chOff x="5249880" y="2714760"/>
            <a:chExt cx="2529000" cy="2152080"/>
          </a:xfrm>
        </p:grpSpPr>
        <p:sp>
          <p:nvSpPr>
            <p:cNvPr id="567" name=""/>
            <p:cNvSpPr/>
            <p:nvPr/>
          </p:nvSpPr>
          <p:spPr>
            <a:xfrm>
              <a:off x="5249880" y="4149360"/>
              <a:ext cx="844560" cy="717480"/>
            </a:xfrm>
            <a:prstGeom prst="rect">
              <a:avLst/>
            </a:prstGeom>
            <a:blipFill rotWithShape="0">
              <a:blip r:embed="rId10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94440" y="3436560"/>
              <a:ext cx="844560" cy="717480"/>
            </a:xfrm>
            <a:prstGeom prst="rect">
              <a:avLst/>
            </a:prstGeom>
            <a:blipFill rotWithShape="0">
              <a:blip r:embed="rId11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34320" y="2714760"/>
              <a:ext cx="844560" cy="717120"/>
            </a:xfrm>
            <a:prstGeom prst="rect">
              <a:avLst/>
            </a:prstGeom>
            <a:blipFill rotWithShape="0">
              <a:blip r:embed="rId12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70" name=""/>
          <p:cNvGraphicFramePr/>
          <p:nvPr/>
        </p:nvGraphicFramePr>
        <p:xfrm>
          <a:off x="168120" y="2003400"/>
          <a:ext cx="8456760" cy="2857320"/>
        </p:xfrm>
        <a:graphic>
          <a:graphicData uri="http://schemas.openxmlformats.org/drawingml/2006/table">
            <a:tbl>
              <a:tblPr/>
              <a:tblGrid>
                <a:gridCol w="852480"/>
                <a:gridCol w="838080"/>
                <a:gridCol w="851040"/>
                <a:gridCol w="841320"/>
                <a:gridCol w="844560"/>
                <a:gridCol w="846000"/>
                <a:gridCol w="846360"/>
                <a:gridCol w="844560"/>
                <a:gridCol w="846000"/>
                <a:gridCol w="846360"/>
              </a:tblGrid>
              <a:tr h="720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</a:t>
                      </a:r>
                      <a:r>
                        <a:rPr b="0" lang="hr-HR" sz="2000" spc="-1" strike="noStrike" baseline="-25000">
                          <a:solidFill>
                            <a:srgbClr val="ffffff"/>
                          </a:solidFill>
                          <a:latin typeface="Book Antiqu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6083280" y="2440080"/>
            <a:ext cx="2976120" cy="2377800"/>
            <a:chOff x="6083280" y="2440080"/>
            <a:chExt cx="2976120" cy="2377800"/>
          </a:xfrm>
        </p:grpSpPr>
        <p:sp>
          <p:nvSpPr>
            <p:cNvPr id="572" name=""/>
            <p:cNvSpPr/>
            <p:nvPr/>
          </p:nvSpPr>
          <p:spPr>
            <a:xfrm flipV="1">
              <a:off x="6083280" y="2700000"/>
              <a:ext cx="253044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637840" y="244008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919920" y="3157560"/>
            <a:ext cx="2136240" cy="1660680"/>
            <a:chOff x="6919920" y="3157560"/>
            <a:chExt cx="2136240" cy="1660680"/>
          </a:xfrm>
        </p:grpSpPr>
        <p:sp>
          <p:nvSpPr>
            <p:cNvPr id="575" name=""/>
            <p:cNvSpPr/>
            <p:nvPr/>
          </p:nvSpPr>
          <p:spPr>
            <a:xfrm flipV="1">
              <a:off x="6919920" y="3416400"/>
              <a:ext cx="1693800" cy="14018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34600" y="315756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011240" y="1495440"/>
            <a:ext cx="1053720" cy="1908000"/>
            <a:chOff x="1011240" y="1495440"/>
            <a:chExt cx="1053720" cy="1908000"/>
          </a:xfrm>
        </p:grpSpPr>
        <p:sp>
          <p:nvSpPr>
            <p:cNvPr id="578" name=""/>
            <p:cNvSpPr/>
            <p:nvPr/>
          </p:nvSpPr>
          <p:spPr>
            <a:xfrm flipV="1">
              <a:off x="1011240" y="2687760"/>
              <a:ext cx="844560" cy="7156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4340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849320" y="200304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004760" y="1495440"/>
            <a:ext cx="1906200" cy="2625480"/>
            <a:chOff x="1004760" y="1495440"/>
            <a:chExt cx="1906200" cy="2625480"/>
          </a:xfrm>
        </p:grpSpPr>
        <p:sp>
          <p:nvSpPr>
            <p:cNvPr id="582" name=""/>
            <p:cNvSpPr/>
            <p:nvPr/>
          </p:nvSpPr>
          <p:spPr>
            <a:xfrm>
              <a:off x="248940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004760" y="2714400"/>
              <a:ext cx="1695600" cy="140652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700360" y="199836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009800" y="1495440"/>
            <a:ext cx="2747520" cy="3322440"/>
            <a:chOff x="1009800" y="1495440"/>
            <a:chExt cx="2747520" cy="3322440"/>
          </a:xfrm>
        </p:grpSpPr>
        <p:sp>
          <p:nvSpPr>
            <p:cNvPr id="586" name=""/>
            <p:cNvSpPr/>
            <p:nvPr/>
          </p:nvSpPr>
          <p:spPr>
            <a:xfrm>
              <a:off x="333576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009800" y="2700000"/>
              <a:ext cx="253656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40240" y="200304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855800" y="1495440"/>
            <a:ext cx="2746080" cy="3322440"/>
            <a:chOff x="1855800" y="1495440"/>
            <a:chExt cx="2746080" cy="3322440"/>
          </a:xfrm>
        </p:grpSpPr>
        <p:sp>
          <p:nvSpPr>
            <p:cNvPr id="590" name=""/>
            <p:cNvSpPr/>
            <p:nvPr/>
          </p:nvSpPr>
          <p:spPr>
            <a:xfrm>
              <a:off x="418032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855800" y="2700000"/>
              <a:ext cx="253692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392720" y="199836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700360" y="1495440"/>
            <a:ext cx="2747520" cy="3322440"/>
            <a:chOff x="2700360" y="1495440"/>
            <a:chExt cx="2747520" cy="3322440"/>
          </a:xfrm>
        </p:grpSpPr>
        <p:sp>
          <p:nvSpPr>
            <p:cNvPr id="594" name=""/>
            <p:cNvSpPr/>
            <p:nvPr/>
          </p:nvSpPr>
          <p:spPr>
            <a:xfrm>
              <a:off x="502632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700360" y="2700000"/>
              <a:ext cx="253692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37280" y="197136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46360" y="1495440"/>
            <a:ext cx="2747880" cy="3322440"/>
            <a:chOff x="3546360" y="1495440"/>
            <a:chExt cx="2747880" cy="3322440"/>
          </a:xfrm>
        </p:grpSpPr>
        <p:sp>
          <p:nvSpPr>
            <p:cNvPr id="598" name=""/>
            <p:cNvSpPr/>
            <p:nvPr/>
          </p:nvSpPr>
          <p:spPr>
            <a:xfrm>
              <a:off x="587268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546360" y="2700000"/>
              <a:ext cx="253692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083280" y="197136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386240" y="1495440"/>
            <a:ext cx="2752200" cy="3322440"/>
            <a:chOff x="4386240" y="1495440"/>
            <a:chExt cx="2752200" cy="3322440"/>
          </a:xfrm>
        </p:grpSpPr>
        <p:sp>
          <p:nvSpPr>
            <p:cNvPr id="602" name=""/>
            <p:cNvSpPr/>
            <p:nvPr/>
          </p:nvSpPr>
          <p:spPr>
            <a:xfrm flipV="1">
              <a:off x="4386240" y="2700000"/>
              <a:ext cx="2536920" cy="211788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1688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919920" y="200304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237280" y="1495440"/>
            <a:ext cx="2747520" cy="3341520"/>
            <a:chOff x="5237280" y="1495440"/>
            <a:chExt cx="2747520" cy="3341520"/>
          </a:xfrm>
        </p:grpSpPr>
        <p:sp>
          <p:nvSpPr>
            <p:cNvPr id="606" name=""/>
            <p:cNvSpPr/>
            <p:nvPr/>
          </p:nvSpPr>
          <p:spPr>
            <a:xfrm flipV="1">
              <a:off x="5237280" y="2719440"/>
              <a:ext cx="2536560" cy="211752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63240" y="1495440"/>
              <a:ext cx="421560" cy="5101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769160" y="1998360"/>
              <a:ext cx="0" cy="716040"/>
            </a:xfrm>
            <a:prstGeom prst="line">
              <a:avLst/>
            </a:prstGeom>
            <a:ln w="19080">
              <a:solidFill>
                <a:srgbClr val="d60093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9FBC-E6C8-4673-9D0E-727648F4A811}" type="slidenum">
              <a:t>37</a:t>
            </a:fld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uzorak po uzora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ntinuirana obradba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ealizacije u stvarnom vrem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lementarni funkcijski blok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braj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noži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lement za kašnj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D5FB-7FB2-46FC-A7F5-73AA38C66564}" type="slidenum">
              <a:t>38</a:t>
            </a:fld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uzorak po uzorak – direkt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ealizacija slijedi direktno iz konvolucijske sumacije za M &lt;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L =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055520" y="2781360"/>
                <a:ext cx="37800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604800" y="3857760"/>
            <a:ext cx="83818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govara joj blok dijagr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579600" y="4492800"/>
          <a:ext cx="808344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4492800"/>
                    <a:ext cx="80834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F6D1-35BE-4BF2-8A12-235426BE64ED}" type="slidenum">
              <a:t>39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uzorak po uzora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SP algoritam za svaki uzorak sig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racija dugačkih signala u stvarnom vrem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udio efek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stavi regul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daptivna obradba sig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A109-955F-4C66-923C-BA5F82E7D7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uzorak po uzorak – direkt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747800"/>
            <a:ext cx="838224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vode se varijable stanja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,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,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, ...,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 = u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 = u(n-1) =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 = u(n-2) =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 = u(n-3) =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) = u(n-M) = w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M-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8696-9E5E-4E7D-9BB0-D01F1FA0D660}" type="slidenum">
              <a:t>40</a:t>
            </a:fld>
          </a:p>
        </p:txBody>
      </p:sp>
    </p:spTree>
  </p:cSld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uzorak po uzorak – direktni obl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ovi zapis konvoluci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173240" y="2395440"/>
                <a:ext cx="3544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604800" y="3544920"/>
            <a:ext cx="83818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dnost je da se svi članovi sumacije odnose na isti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 svi su dostupni za obradbu u koraku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n) je trenutni ulazni uzor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n), i = 1, ..., M su trenutni iznosi elemenata za kašnje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4573-3399-4976-AC93-4F9B796CDE46}" type="slidenum">
              <a:t>41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irkularni međuspremnic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44280" y="1976400"/>
          <a:ext cx="4375440" cy="36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976400"/>
                    <a:ext cx="43754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4697280" y="1971720"/>
          <a:ext cx="437544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1971720"/>
                    <a:ext cx="43754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4122720" y="4470480"/>
            <a:ext cx="855720" cy="290520"/>
          </a:xfrm>
          <a:prstGeom prst="rightArrow">
            <a:avLst>
              <a:gd name="adj1" fmla="val 50000"/>
              <a:gd name="adj2" fmla="val 73637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25120" y="47577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lijedeći ko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40120" y="16365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maknu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da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7B23-FB66-4B89-A3FB-A29FFAFC8944}" type="slidenum">
              <a:t>42</a:t>
            </a:fld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Modulo M+1 cirkularni međuspremnik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4280" y="1976400"/>
          <a:ext cx="4375440" cy="36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976400"/>
                    <a:ext cx="43754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4697280" y="1971720"/>
          <a:ext cx="437544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1971720"/>
                    <a:ext cx="43754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4122720" y="4470480"/>
            <a:ext cx="855720" cy="290520"/>
          </a:xfrm>
          <a:prstGeom prst="rightArrow">
            <a:avLst>
              <a:gd name="adj1" fmla="val 50000"/>
              <a:gd name="adj2" fmla="val 73637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25120" y="47577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lijedeći ko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57920" y="48322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maknu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kaziva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DC4F-202F-491F-8FB4-26CEB1FC4DE9}" type="slidenum">
              <a:t>43</a:t>
            </a:fld>
          </a:p>
        </p:txBody>
      </p:sp>
    </p:spTree>
  </p:cSld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1281240" y="88920"/>
          <a:ext cx="1292040" cy="6324480"/>
        </p:xfrm>
        <a:graphic>
          <a:graphicData uri="http://schemas.openxmlformats.org/drawingml/2006/table">
            <a:tbl>
              <a:tblPr/>
              <a:tblGrid>
                <a:gridCol w="12920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]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4011480" y="81000"/>
          <a:ext cx="1292400" cy="6324480"/>
        </p:xfrm>
        <a:graphic>
          <a:graphicData uri="http://schemas.openxmlformats.org/drawingml/2006/table">
            <a:tbl>
              <a:tblPr/>
              <a:tblGrid>
                <a:gridCol w="12924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6711840" y="81000"/>
          <a:ext cx="1292400" cy="6324480"/>
        </p:xfrm>
        <a:graphic>
          <a:graphicData uri="http://schemas.openxmlformats.org/drawingml/2006/table">
            <a:tbl>
              <a:tblPr/>
              <a:tblGrid>
                <a:gridCol w="12924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+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+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M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]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90640" y="76320"/>
          <a:ext cx="1001880" cy="3184560"/>
        </p:xfrm>
        <a:graphic>
          <a:graphicData uri="http://schemas.openxmlformats.org/drawingml/2006/table">
            <a:tbl>
              <a:tblPr/>
              <a:tblGrid>
                <a:gridCol w="10018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400720" y="485640"/>
          <a:ext cx="1001520" cy="3178440"/>
        </p:xfrm>
        <a:graphic>
          <a:graphicData uri="http://schemas.openxmlformats.org/drawingml/2006/table">
            <a:tbl>
              <a:tblPr/>
              <a:tblGrid>
                <a:gridCol w="10015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058240" y="851040"/>
          <a:ext cx="1001520" cy="3184560"/>
        </p:xfrm>
        <a:graphic>
          <a:graphicData uri="http://schemas.openxmlformats.org/drawingml/2006/table">
            <a:tbl>
              <a:tblPr/>
              <a:tblGrid>
                <a:gridCol w="10015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M-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565200" y="3057480"/>
            <a:ext cx="5792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1280" y="2638440"/>
            <a:ext cx="8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6200" y="5773680"/>
            <a:ext cx="8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60600" y="3438360"/>
            <a:ext cx="579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49080" y="3430440"/>
            <a:ext cx="6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20880" y="-69840"/>
            <a:ext cx="6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5418000" y="317520"/>
            <a:ext cx="57960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32520" y="3838680"/>
            <a:ext cx="5792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8099280" y="669960"/>
            <a:ext cx="57960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8960" y="6224760"/>
            <a:ext cx="579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62960" y="3816360"/>
            <a:ext cx="9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+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06040" y="266760"/>
            <a:ext cx="90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+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96440" y="6431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rak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45600" y="6431040"/>
            <a:ext cx="13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rak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32640" y="6431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rak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7286-6EC4-492C-B511-337F064844A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cccc"/>
                </a:solidFill>
                <a:latin typeface="Times New Roman"/>
              </a:rPr>
              <a:t>Litera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726920"/>
            <a:ext cx="8382240" cy="45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iner:A Simplified Computational Algorithm for Implementing FIR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Filters; IEEE Trans. Vol. ASSP-25, No. 3, 1977. P.259-2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phocles J. Orfanidis: Introduction to Signal Processing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(poglavlje 4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 Filtering and Convolutio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0FFA-DFC1-4C96-83A4-FB95ECD514F4}" type="slidenum">
              <a:t>45</a:t>
            </a:fld>
          </a:p>
        </p:txBody>
      </p:sp>
    </p:spTree>
  </p:cSld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Linearna, periodična i cirkularna konvolucija</a:t>
            </a:r>
            <a:br>
              <a:rPr sz="3200"/>
            </a:b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o sada smo, prešutno, razmatrali linearnu konvolu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lustrirajmo je još jednim primjer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ka su zadani diskretni nizov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=[1 1 1 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=[1 2 3 4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inearna konvolucija ovih nizova 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162080" y="5597640"/>
                <a:ext cx="70261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za 0 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A96B-E459-436D-B8E3-F0B566B6C56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504800" y="3759120"/>
            <a:ext cx="6249960" cy="309888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504800" y="14400"/>
            <a:ext cx="624996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E642-A1E8-4256-B19D-4A270D44C2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eriodična i cirkularna ko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periodične nizove                       perioda N definiramo periodičnu konvolu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170080" y="2978280"/>
                <a:ext cx="41292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638600" y="1758960"/>
                <a:ext cx="2130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466560" y="4246560"/>
            <a:ext cx="821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itna razlika u odnosu na izračunavanje linearne konvolucijske sumacije za aperiodske nizovne je da se ovdje sumacija izvršava u intervalu   0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6953-980D-499A-B663-6F59A9FA1A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eriodična i cirkularna kon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eriodiziramo li nizove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i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] dobiti će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009800" y="2430360"/>
                <a:ext cx="2130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1038960" y="3394080"/>
            <a:ext cx="61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i nizovi su prikazani kako sl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5528-E944-4A0C-9890-A8E8F1EC483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Obradba po blokovim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finicija blo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57160" y="2610000"/>
          <a:ext cx="6394680" cy="39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610000"/>
                    <a:ext cx="639468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830840" y="2155680"/>
            <a:ext cx="3744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= 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= 1/T </a:t>
            </a:r>
            <a:r>
              <a:rPr b="0" lang="hr-H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L = T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8DEC-D817-447F-9DAD-DA64532686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85720" y="420840"/>
            <a:ext cx="7970760" cy="59785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833640" y="878040"/>
            <a:ext cx="0" cy="5757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19600" y="878040"/>
            <a:ext cx="0" cy="5757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16360" y="878040"/>
            <a:ext cx="0" cy="5757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18160" y="863640"/>
            <a:ext cx="0" cy="5772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55880" y="863640"/>
            <a:ext cx="0" cy="5772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48400" y="863640"/>
            <a:ext cx="0" cy="5772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59560" y="863640"/>
            <a:ext cx="0" cy="5772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8A18-49F7-422C-8285-85F6385EC4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592280" y="1461960"/>
            <a:ext cx="6249960" cy="405792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periodič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137120" y="1763640"/>
            <a:ext cx="0" cy="423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803840" y="1763640"/>
            <a:ext cx="12600" cy="423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00640" y="3716280"/>
            <a:ext cx="0" cy="1381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189320" y="4773600"/>
            <a:ext cx="0" cy="324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99040" y="2825640"/>
            <a:ext cx="0" cy="324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384800" y="2840040"/>
            <a:ext cx="0" cy="324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556160" y="2825640"/>
            <a:ext cx="0" cy="324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556160" y="4064040"/>
            <a:ext cx="0" cy="102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761000" y="4397040"/>
            <a:ext cx="0" cy="700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643280" y="3071880"/>
                <a:ext cx="17316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752400" y="5692680"/>
                <a:ext cx="8004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7639-ADCA-4EC7-BF3A-B6AF015866B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592280" y="1447920"/>
            <a:ext cx="6249960" cy="4329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periodič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116240" y="1774800"/>
            <a:ext cx="0" cy="4238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26160" y="1774800"/>
            <a:ext cx="0" cy="4238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00280" y="5792760"/>
                <a:ext cx="79088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5D5C-3831-431E-958B-E65CE2E69F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592280" y="1447920"/>
            <a:ext cx="6249960" cy="43290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periodič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36560" y="5754600"/>
                <a:ext cx="803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5" name=""/>
          <p:cNvSpPr/>
          <p:nvPr/>
        </p:nvSpPr>
        <p:spPr>
          <a:xfrm>
            <a:off x="4116240" y="1774800"/>
            <a:ext cx="0" cy="4156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26160" y="1774800"/>
            <a:ext cx="0" cy="4156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6363-91F9-411D-B6E9-D744526424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592280" y="1447920"/>
            <a:ext cx="6249960" cy="4329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periodič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768240" y="5754600"/>
                <a:ext cx="7972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140360" y="1787400"/>
            <a:ext cx="0" cy="4152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21120" y="1787400"/>
            <a:ext cx="0" cy="4119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39BA-26C1-4DA4-919F-C8DD6FC160D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1592280" y="171756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periodič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56200" y="1989000"/>
            <a:ext cx="0" cy="4545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22920" y="1984320"/>
            <a:ext cx="0" cy="454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08480" y="1447920"/>
            <a:ext cx="0" cy="5086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79840" y="1447920"/>
            <a:ext cx="0" cy="5086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51560" y="1969920"/>
            <a:ext cx="0" cy="456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65800" y="1447920"/>
            <a:ext cx="0" cy="5086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80400" y="1447920"/>
            <a:ext cx="0" cy="5086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6E2-1928-48A9-980A-CC1D800CEE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irkularna kon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26216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Cirkularnom konvolucijom nazivamo jednu periodu periodične konvolucije, pa za prethodni primjer sl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592280" y="2909880"/>
            <a:ext cx="624996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2732-7032-4B31-AD2D-90041D57740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irkularna kon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eriodična konvolucija 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170080" y="2235240"/>
                <a:ext cx="41292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941760" y="3436920"/>
            <a:ext cx="80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se ograničimo samo na jedan period sl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843120" y="3944880"/>
                <a:ext cx="78325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za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1079640" y="5265720"/>
            <a:ext cx="74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čigledno je da je dovoljno promatrati jedan  period 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894040" y="5773680"/>
                <a:ext cx="273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6441-A5E3-467A-98A5-9763F209377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irkularna kon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om periodu linearno pomaknutog n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3298680" y="2405160"/>
                <a:ext cx="1633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011240" y="3306600"/>
            <a:ext cx="10131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ogvara cirkularni pomak aperiodskog ni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-j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] što je prikazano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3147840" y="4425840"/>
                <a:ext cx="2135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919080" y="52657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o odgovara  računanju rednog broja koraka po modulu N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CE28-46F9-4536-AE2A-9B5AE3AF428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irkularna konvolu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 svega je vidljivo da se cirkularna konvolucija (koja će biti duljine N uzoraka) može primjeniti za dva aperiodska niza duljin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1500-4B14-4FCF-8DD8-7034260A71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Konvolucijska su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17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skretni sustav moguće je opisati pomoću konvolucijske sum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89600" y="2471760"/>
                <a:ext cx="398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04800" y="3538440"/>
            <a:ext cx="8381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ijedi samo za linearne vremenski nepromjenjive (LTI) sust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D638-0BFC-41FA-B6C8-89D88DA19E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60600" y="2188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mjer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dani nizov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=[1 1 1 0] 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=[1 2 3 4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560600" y="2389320"/>
            <a:ext cx="6249960" cy="42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47D4-1010-4E57-A107-90851070546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60600" y="694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560600" y="888840"/>
            <a:ext cx="6865920" cy="469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12720" y="5651640"/>
                <a:ext cx="80042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938-C4AF-4406-9023-66495BBB4B6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60600" y="694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560600" y="888840"/>
            <a:ext cx="6794280" cy="469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12720" y="5651640"/>
                <a:ext cx="79088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773-E81B-4AB3-8601-0A38BCEFD42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60600" y="694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560600" y="888840"/>
            <a:ext cx="6794280" cy="470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612720" y="5651640"/>
                <a:ext cx="80359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2D9B-A4D9-484A-B1FC-DBD3912FC6A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60600" y="694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560600" y="888840"/>
            <a:ext cx="6870600" cy="466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612720" y="5651640"/>
                <a:ext cx="79725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8FB-B887-430E-BFE6-90835347DC7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560600" y="6948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30040" y="888480"/>
            <a:ext cx="7861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 konačno finalni rezultat konvolucijske sum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1560600" y="2116080"/>
            <a:ext cx="6249960" cy="43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E03A-A0D0-4C19-A8A8-8F9CA9C5F9A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linearne konvolucije pomoću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747440"/>
            <a:ext cx="838224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    = [1 1 1 0 0 0 0 0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    = [1 2 3 4 0 0 0 0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1 0 0 0 0 4 3 2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2 1 0 0 0 0 4 3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1]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3 2 1 0 0 0 0 4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2]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4 3 2 1 0 0 0 0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3] 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0 4 3 2 1 0 0 0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4] =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5-j] = [0 0 4 3 2 1 0 0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5] =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6-j] = [0 0 0 4 3 2 1 0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6]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-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= [0 0 0 0 4 3 2 1]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7]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2B94-652F-46E4-80B5-5D3C895D347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računavanje linearne konvolucije pomoću cirkularne konvolu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592280" y="183204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10FB-57F8-4E42-B9AE-40E0C535A9A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Izvod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58680" y="2133720"/>
                <a:ext cx="40179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573880" y="4757760"/>
                <a:ext cx="31734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58680" y="3373560"/>
                <a:ext cx="6313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950760" y="4761000"/>
                <a:ext cx="45579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9090-D474-455D-BA84-8A8947EDE6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800" y="1747800"/>
                <a:ext cx="398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Ekvivalentni oblici zapisa konvolucijske su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133440"/>
            <a:ext cx="4656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mjen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 = n –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5800" y="3643200"/>
                <a:ext cx="63482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406680" y="4948200"/>
                <a:ext cx="39848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09480" y="5224320"/>
            <a:ext cx="5207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 = m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slijed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E9E6-00E4-4E8F-9092-88452AB9A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Ekvivalentni oblici zapisa konvolucijske sumacije (2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indeks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+ n – m =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mjena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j = n –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44640" y="1523880"/>
                <a:ext cx="46591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47880" y="2666880"/>
                <a:ext cx="4459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86200" y="5143680"/>
                <a:ext cx="250020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n</m:t>
                    </m:r>
                    <m:limLow>
                      <m:e/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FC21-DBB4-46EC-993B-E4F8356845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1-19T15:17:00Z</cp:lastPrinted>
  <dcterms:modified xsi:type="dcterms:W3CDTF">2003-12-04T16:17:37Z</dcterms:modified>
  <cp:revision>170</cp:revision>
  <dc:subject>Digitalna obradba signala</dc:subject>
  <dc:title>Obradba signala u blokovima i obradba uzorak po uzorak</dc:title>
</cp:coreProperties>
</file>