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31.wmf" ContentType="image/x-wmf"/>
  <Override PartName="/ppt/media/image28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20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0" y="7776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ctr">
            <a:noAutofit/>
          </a:bodyPr>
          <a:p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9920" y="4861440"/>
            <a:ext cx="56790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Program Primjer_3_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Effect of Up-sampling in the Frequency Dom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Use fir2 to create a bandlimited input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freq = [0 .3 0.45 0.5 1]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mag = [0 1 1 0 0]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x = fir2(99, freq, mag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Evaluate and plot the input spectrum H = FREQZ(B,A,W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w=-pi:pi/256:pi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Xz = FREQZ(x,1,w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[Xz, w] = freqz(x, 1, 512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ubplot(2,2,1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plot(w/pi, abs(Xz)); axis([-1 1 0 1]); g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xlabel('\omega/\pi'); ylabel('Amplituda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title('Spektar ulaznog signala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ubplot(2,2,2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Generate the up-sample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L = input('Type in the up-sampling factor = 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 = zeros(1, L*length(x)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([1: L: length(y)]) = x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Evaluate and plot the output spectr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w=-pi:pi/256:pi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z = FREQZ(y,1,w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plot(w/pi, abs(Yz)); axis([-1 1 0 1]); g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xlabel('\omega/\pi'); ylabel('Amplituda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title('Spektar izlaznog signala za L=2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ubplot(2,2,3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Generate the up-sample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L = input('Type in the up-sampling factor = 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 = zeros(1, L*length(x)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([1: L: length(y)]) = x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Evaluate and plot the output spectr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w=-pi:pi/256:pi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z = FREQZ(y,1,w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plot(w/pi, abs(Yz)); axis([-1 1 0 1]); g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xlabel('\omega/\pi'); ylabel('Amplituda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title('Spektar izlaznog signala za L=3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ubplot(2,2,4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Generate the up-sample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L = input('Type in the up-sampling factor = 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 = zeros(1, L*length(x)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([1: L: length(y)]) = x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Evaluate and plot the output spectr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w=-pi:pi/256:pi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z = FREQZ(y,1,w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plot(w/pi, abs(Yz)); axis([-1 1 0 1]); g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xlabel('\omega/\pi'); ylabel('Amplituda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title('Spektar izlaznog signala za L=4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Program Primjer_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Effect of Up-sampling in the Frequency Dom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Use fir2 to create a bandlimited input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freq = [0 .3 0.45 0.5 1]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mag = [0 1 1 0 0]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x = fir2(99, freq, mag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Evaluate and plot the input spectrum H = FREQZ(B,A,W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w=0:pi/512:pi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Xz = FREQZ(x,1,w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[Xz, w] = freqz(x, 1, 512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ubplot(2,2,1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plot(w/pi, abs(Xz)); axis([0 1 0 1]); g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xlabel('\omega/\pi'); ylabel('Amplituda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title('Spektar ulaznog signala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ubplot(2,2,2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Generate the up-sample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L = input('Type in the up-sampling factor = 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 = zeros(1, L*length(x)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([1: L: length(y)]) = x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Evaluate and plot the output spectr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w=0:pi/512:pi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z = FREQZ(y,1,w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plot(w/pi, abs(Yz)); axis([0 1 0 1]); g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xlabel('\omega/\pi'); ylabel('Amplituda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title('Spektar izlaznog signala za L=2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ubplot(2,2,3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Generate the up-sample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L = input('Type in the up-sampling factor = 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 = zeros(1, L*length(x)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([1: L: length(y)]) = x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Evaluate and plot the output spectr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w=0:pi/512:pi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z = FREQZ(y,1,w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plot(w/pi, abs(Yz)); axis([0 1 0 1]); g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xlabel('\omega/\pi'); ylabel('Amplituda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title('Spektar izlaznog signala za L=3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ubplot(2,2,4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Generate the up-sample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L = input('Type in the up-sampling factor = 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 = zeros(1, L*length(x)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([1: L: length(y)]) = x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Evaluate and plot the output spectr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w=0:pi/512:pi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z = FREQZ(y,1,w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plot(w/pi, abs(Yz)); axis([0 1 0 1]); g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xlabel('\omega/\pi'); ylabel('Amplituda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title('Spektar izlaznog signala za L=4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Program Primjer_4_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Effect of Down-sampling in the Frequency Dom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Use fir2 to create a bandlimited input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clf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freq = [0 .3 0.42 0.48 1]; mag = [0 1 1 0 0]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x = fir2(101, freq, mag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Evaluate and plot the input spectr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w=-2*pi:pi/256:2*pi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Xz = FREQZ(x,1,w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ubplot(2,2,1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plot(w/pi, abs(Xz)); axis([-2 2 0 1]); g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xlabel('\omega/\pi'); ylabel('Amplituda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title('Spektar ulaznog signala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Generate the down-sample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M = input('Type in the down-sampling factor = 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 = x([1: M: length(x)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Evaluate and plot the output spectr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w=-2*pi:pi/256:2*pi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z = FREQZ(y,1,w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ubplot(2,2,2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plot(w/pi, abs(Yz)); axis([-2 2 0 1]); g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xlabel('\omega/\pi'); ylabel('Amplituda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title('Spektar izlaznog signala za M=2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Generate the down-sample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M = input('Type in the down-sampling factor = 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 = x([1: M: length(x)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Evaluate and plot the output spectr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w=-2*pi:pi/256:2*pi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z = FREQZ(y,1,w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ubplot(2,2,3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plot(w/pi, abs(Yz)); axis([-2 2 0 1]); g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xlabel('\omega/\pi'); ylabel('Amplituda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title('Spektar izlaznog signala za M=3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Generate the down-sample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M = input('Type in the down-sampling factor = 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 = x([1: M: length(x)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Evaluate and plot the output spectr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w=-2*pi:pi/256:2*pi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z = FREQZ(y,1,w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ubplot(2,2,4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plot(w/pi, abs(Yz)); axis([-2 2 0 1]); g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xlabel('\omega/\pi'); ylabel('Amplituda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title('Spektar izlaznog signala za M=4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Program Primjer_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Effect of Down-sampling in the Frequency Dom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Use fir2 to create a bandlimited input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clf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freq = [0 .3 0.42 0.48 1]; mag = [0 1 1 0 0]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x = fir2(101, freq, mag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Evaluate and plot the input spectr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[Xz, w] = freqz(x, 1, 512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ubplot(2,2,1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plot(w/pi, abs(Xz)); axis([0 1 0 1]); g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xlabel('\omega/\pi'); ylabel('Amplituda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title('Spektar ulaznog signala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Generate the down-sample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M = input('Type in the down-sampling factor = 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 = x([1: M: length(x)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Evaluate and plot the output spectr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[Yz, w] = freqz(y, 1, 512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ubplot(2,2,2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plot(w/pi, abs(Yz)); axis([0 1 0 1]); g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xlabel('\omega/\pi'); ylabel('Amplituda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title('Spektar izlaznog signala za M=2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Generate the down-sample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M = input('Type in the down-sampling factor = 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 = x([1: M: length(x)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Evaluate and plot the output spectr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[Yz, w] = freqz(y, 1, 512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ubplot(2,2,3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plot(w/pi, abs(Yz)); axis([0 1 0 1]); g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xlabel('\omega/\pi'); ylabel('Amplituda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title('Spektar izlaznog signala za M=3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Generate the down-sampled seq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M = input('Type in the down-sampling factor = 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 = x([1: M: length(x)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Evaluate and plot the output spectr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[Yz, w] = freqz(y, 1, 512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ubplot(2,2,4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plot(w/pi, abs(Yz)); axis([0 1 0 1]); g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xlabel('\omega/\pi'); ylabel('Amplituda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title('Spektar izlaznog signala za M=4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 Program Primjer_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clf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n = 0:30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x = [0 1 2 3 4 5 4 3 2 1 0 zeros(1,20)]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 = zeros(1, 3*length(x)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([1: 3: length(y)]) = x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ubplot(3,2,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tem(n,x);axis([0 30 0 5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title('Ulazni niz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label('Amplituda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ubplot(3,2,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tem(n,y(1:length(x)));axis([0 30 0 5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title('Pretipkavanje ul. niza za faktor 3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label('Amplituda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x=y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stem(n,y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n = 0: 29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m = 0: 50*3 - 1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%x = sin(2*pi*0.042*m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 = x([1 : 2 : length(x)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ubplot(3,2,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tem(n, y(1:30)); axis([0 30 0 5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title('Podotipkavanje pom. niza za faktor 2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label('Amplituda');xlabel('Korak n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n= 0:29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x = [0 1 2 3 4 5 4 3 2 1 0 zeros(1,19)]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ubplot(3,2,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tem(n,x(1:30));axis([0 30 0 5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title('Ulazni niz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x = [0 1 2 3 4 5 4 3 2 1 0 zeros(1,49)]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 = x([1 : 2 : length(x)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ubplot(3,2,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tem(n, y(1:30)); axis([0 30 0 5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title('Podotipkavanje ul. niza za faktor 2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x=y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 = zeros(1, 3*length(x)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y([1: 3: length(y)]) = x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ubplot(3,2,6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tem(n,y(1:length(x)));axis([0 30 0 5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title('Pretipkavanje pom. niza za faktor 3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xlabel('Korak n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% Program Primjer_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% Ilustracija nadotipkavanja za cjelobrojni fak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cl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n = 0:5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x = sin(2*pi*0.12*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y = zeros(1, 3*length(x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y([1: 3: length(y)]) = x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ubplot(2,1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tem(n,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title('Ulazni niz'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xlabel('Korak n');ylabel('Amplituda'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ubplot(2,1,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tem(n,y(1:length(x)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title('Izlazni niz - pretipkavanje ulaznog niza za faktor 3'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xlabel('Korak n');ylabel('Amplituda'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% Program Primjer_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% Illustration of Down-Sampling by an Integer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cl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n = 0: 49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m = 0: 50*3 -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x = sin(2*pi*0.042*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y = x([1 : 3 : length(x)]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ubplot(2,1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tem(n, x(1:50)); axis([0 50 -1.2 1.2]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title('Ulazni niz'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xlabel('Korak n');ylabel('Amplituda'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ubplot(2,1,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tem(n, y); axis([0 50 -1.2 1.2]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title('Izlazni niz - podotipkavanjem za faktor 3'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ylabel('Amplituda');xlabel('Korak n'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1B65-1078-4DD0-9076-30C6D4D5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FD56-B5E0-4AEF-86CA-A8FB55F3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C40D-781A-4EF3-A53A-1D51D6B0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04D9-C961-4A93-A5E6-EC2ACD46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5DB6-97AE-4A02-8EDB-6D077819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3B15-53E9-439F-8EBD-49D4A4A3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9F1D-8861-4AC7-AEC5-011A3BD9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885F-BBDB-4633-898E-61D113EB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3316-FBED-44BA-A004-E01C88DB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F447-2EBB-43EA-AB78-5702534F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C94D-83B8-493A-9FD6-1ABB85CD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0726-6338-453C-BE66-39372032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0E88-AB16-42BD-BBF7-F40A9EC2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EABE-BED2-4F67-BE87-D206BC66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703F-2516-4AA2-BB26-77A7D582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3581-DBD5-4E1E-92CD-05787EFC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8D4B-449C-4264-915C-2D36D03B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BDD6-1914-455A-BC1D-05DD1B8A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4832-BBD2-434D-8847-70858470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8022-7D51-4B12-94CD-862F12A4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9968-6D40-49B4-AA86-F10D64E2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D4A8-B4BB-4066-9BF5-B3816CB1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598E-13F6-4C63-81B9-F25F68D6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9E9F-D8A6-4162-8B43-D2CB35C9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9F66-3794-4F3D-A91A-167D7AD60A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BB22-2C04-4921-ABAE-6FF6B1015E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wmf"/><Relationship Id="rId9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4720" y="274284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cccc"/>
                </a:solidFill>
                <a:latin typeface="Times New Roman"/>
              </a:rPr>
              <a:t>Višetaktna digitalna obradba signala</a:t>
            </a: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 </a:t>
            </a:r>
            <a:br>
              <a:rPr sz="4400"/>
            </a:br>
            <a:r>
              <a:rPr b="0" i="1" lang="hr-HR" sz="4400" spc="-1" strike="noStrike">
                <a:solidFill>
                  <a:srgbClr val="00cccc"/>
                </a:solidFill>
                <a:latin typeface="Times New Roman"/>
              </a:rPr>
              <a:t>Multirate </a:t>
            </a: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Digital Signal Processing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7905-5898-4697-98E6-01411A7E54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62120" y="2336760"/>
            <a:ext cx="818820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period otipkavanja nije posebno naznačavan u blok dijagramima za operacije podotipkavanja i pretipkava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to je uobičajeni način prikaza višetaktnih sustava no pri tome se mora voditi računa o frekvenciji otipkavanja svakog od podsust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eksplicitno se frekvencija otipkavanja naznačuje na slijedeći nač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247680"/>
            <a:ext cx="78472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Podotipkavanj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02AC-718C-4FCD-A2D4-0B2F6FC2E9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Podotipkavanje </a:t>
            </a:r>
            <a:r>
              <a:rPr b="0" lang="hr-HR" sz="4000" spc="-1" strike="noStrike">
                <a:solidFill>
                  <a:srgbClr val="00cccc"/>
                </a:solidFill>
                <a:latin typeface="Times New Roman"/>
              </a:rPr>
              <a:t>(</a:t>
            </a: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Down-Sampling</a:t>
            </a:r>
            <a:r>
              <a:rPr b="0" lang="hr-HR" sz="4000" spc="-1" strike="noStrike">
                <a:solidFill>
                  <a:srgbClr val="00cccc"/>
                </a:solidFill>
                <a:latin typeface="Times New Roman"/>
              </a:rPr>
              <a:t>)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545840" y="2070000"/>
            <a:ext cx="6297840" cy="685800"/>
            <a:chOff x="1545840" y="2070000"/>
            <a:chExt cx="6297840" cy="685800"/>
          </a:xfrm>
        </p:grpSpPr>
        <p:sp>
          <p:nvSpPr>
            <p:cNvPr id="158" name=""/>
            <p:cNvSpPr/>
            <p:nvPr/>
          </p:nvSpPr>
          <p:spPr>
            <a:xfrm>
              <a:off x="4038480" y="2070000"/>
              <a:ext cx="762120" cy="685800"/>
            </a:xfrm>
            <a:prstGeom prst="rect">
              <a:avLst/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29000" y="2413080"/>
              <a:ext cx="6094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13200" y="2413080"/>
              <a:ext cx="60984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03720" y="2222640"/>
              <a:ext cx="0" cy="3808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06680" y="21844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45840" y="2108160"/>
              <a:ext cx="1796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 CE"/>
                </a:rPr>
                <a:t>x</a:t>
              </a:r>
              <a:r>
                <a:rPr b="0" i="1" lang="hr-HR" sz="2800" spc="-1" strike="noStrike" baseline="-25000">
                  <a:solidFill>
                    <a:srgbClr val="ffffff"/>
                  </a:solidFill>
                  <a:latin typeface="Times New Roman CE"/>
                </a:rPr>
                <a:t>a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 CE"/>
                </a:rPr>
                <a:t>(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 CE"/>
                </a:rPr>
                <a:t>n</a:t>
              </a:r>
              <a:r>
                <a:rPr b="0" i="1" lang="hr-HR" sz="2800" spc="-1" strike="noStrike">
                  <a:solidFill>
                    <a:srgbClr val="ffffff"/>
                  </a:solidFill>
                  <a:latin typeface="Times New Roman CE"/>
                </a:rPr>
                <a:t>T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 CE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26000" y="2120760"/>
              <a:ext cx="2317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i="1" lang="hr-HR" sz="2400" spc="-1" strike="noStrike" baseline="-25000">
                  <a:solidFill>
                    <a:srgbClr val="ffffff"/>
                  </a:solidFill>
                  <a:latin typeface="Times New Roman"/>
                </a:rPr>
                <a:t>pd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 CE"/>
                </a:rPr>
                <a:t>x</a:t>
              </a:r>
              <a:r>
                <a:rPr b="0" i="1" lang="hr-HR" sz="2800" spc="-1" strike="noStrike" baseline="-25000">
                  <a:solidFill>
                    <a:srgbClr val="ffffff"/>
                  </a:solidFill>
                  <a:latin typeface="Times New Roman CE"/>
                </a:rPr>
                <a:t>a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 CE"/>
                </a:rPr>
                <a:t>(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 CE"/>
                </a:rPr>
                <a:t>n</a:t>
              </a:r>
              <a:r>
                <a:rPr b="0" i="1" lang="hr-HR" sz="2800" spc="-1" strike="noStrike">
                  <a:solidFill>
                    <a:srgbClr val="ffffff"/>
                  </a:solidFill>
                  <a:latin typeface="Times New Roman CE"/>
                </a:rPr>
                <a:t>MT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 CE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10560" y="3498840"/>
            <a:ext cx="35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frekvencija otipkava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ulaznog ni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31800" y="3511440"/>
            <a:ext cx="35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frekvencija otipkava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izlaznog ni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494000" y="4921200"/>
          <a:ext cx="126828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0" y="4921200"/>
                    <a:ext cx="12682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765760" y="4913280"/>
          <a:ext cx="226224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65760" y="4913280"/>
                    <a:ext cx="226224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4E9C-36CF-44BB-B234-96DB027E52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Pretipkavanje </a:t>
            </a:r>
            <a:r>
              <a:rPr b="0" lang="hr-HR" sz="4000" spc="-1" strike="noStrike">
                <a:solidFill>
                  <a:srgbClr val="00cccc"/>
                </a:solidFill>
                <a:latin typeface="Times New Roman"/>
              </a:rPr>
              <a:t>(</a:t>
            </a: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Up-Sampling</a:t>
            </a:r>
            <a:r>
              <a:rPr b="0" lang="hr-HR" sz="4000" spc="-1" strike="noStrike">
                <a:solidFill>
                  <a:srgbClr val="00cccc"/>
                </a:solidFill>
                <a:latin typeface="Times New Roman"/>
              </a:rPr>
              <a:t>)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0560" y="3498840"/>
            <a:ext cx="35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frekvencija otipkava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ulaznog ni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31800" y="3511440"/>
            <a:ext cx="35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frekvencija otipkava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izlaznog ni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494000" y="4921200"/>
          <a:ext cx="126828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0" y="4921200"/>
                    <a:ext cx="12682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5680080" y="4913280"/>
          <a:ext cx="243360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80080" y="4913280"/>
                    <a:ext cx="24336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2955960" y="2170080"/>
            <a:ext cx="762120" cy="685800"/>
          </a:xfrm>
          <a:prstGeom prst="rect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46480" y="2513160"/>
            <a:ext cx="6094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30680" y="2513160"/>
            <a:ext cx="6094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121200" y="2322000"/>
            <a:ext cx="0" cy="38124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24520" y="228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4840" y="2208240"/>
            <a:ext cx="1796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 CE"/>
              </a:rPr>
              <a:t>x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 CE"/>
              </a:rPr>
              <a:t>a</a:t>
            </a: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 CE"/>
              </a:rPr>
              <a:t>n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 CE"/>
              </a:rPr>
              <a:t>T</a:t>
            </a: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948200" y="1932120"/>
          <a:ext cx="4019760" cy="109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48200" y="1932120"/>
                    <a:ext cx="401976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4325040" y="22399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075D-EE7E-4096-A358-24C6B853C8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Značajke blokova za promjenu frekvencije otipkavanj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336760"/>
            <a:ext cx="81882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blokovi za podotipkavanje odnosno pretipkavanje su  linearni ali vremenski promjenljivi vremenski diskretni sustav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ovdje ćemo pokazati vremensku varijantnost bloka za podotipkav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5178-6768-43FB-B828-2B5036EEB5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Značajke blokova za promjenu frekvencije otipkavanj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1836720"/>
            <a:ext cx="818820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neka je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faktor podotipkavanja bloka za podotipkavanje opisanog s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y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]=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x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nM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njegov izlaz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y</a:t>
            </a:r>
            <a:r>
              <a:rPr b="0" lang="hr-HR" sz="3200" spc="-1" strike="noStrike" baseline="-25000">
                <a:solidFill>
                  <a:srgbClr val="ffff00"/>
                </a:solidFill>
                <a:latin typeface="Times New Roman CE"/>
              </a:rPr>
              <a:t>1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]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na pobudu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x</a:t>
            </a:r>
            <a:r>
              <a:rPr b="0" lang="hr-HR" sz="3200" spc="-1" strike="noStrike" baseline="-25000">
                <a:solidFill>
                  <a:srgbClr val="ffff00"/>
                </a:solidFill>
                <a:latin typeface="Times New Roman CE"/>
              </a:rPr>
              <a:t>1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]=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x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n-n</a:t>
            </a:r>
            <a:r>
              <a:rPr b="0" i="1" lang="hr-HR" sz="3200" spc="-1" strike="noStrike" baseline="-25000">
                <a:solidFill>
                  <a:srgbClr val="ffff00"/>
                </a:solidFill>
                <a:latin typeface="Times New Roman CE"/>
              </a:rPr>
              <a:t>0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]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246400" y="3438360"/>
          <a:ext cx="47671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6400" y="3438360"/>
                    <a:ext cx="47671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763560" y="4267080"/>
            <a:ext cx="818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iz ulazno izlazne relacije bloka za podotipkav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50800" y="5562720"/>
          <a:ext cx="816156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00" y="5562720"/>
                    <a:ext cx="81615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1006-8EF6-4E1A-B331-3D2D3A10DC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Pretipkavanje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2465280"/>
            <a:ext cx="818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opis u frekvencijskoj dome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razmotrimo pretipkavanje za faktor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333440" y="4152960"/>
          <a:ext cx="6478560" cy="12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4152960"/>
                    <a:ext cx="647856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9411-DB1D-4436-8D83-9FF34C4F33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cccc"/>
                </a:solidFill>
                <a:latin typeface="Times New Roman"/>
              </a:rPr>
              <a:t>Pretipkavanje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1693800"/>
            <a:ext cx="8188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primjenom z - transforma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095480" y="2862360"/>
          <a:ext cx="6958080" cy="23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2862360"/>
                    <a:ext cx="6958080" cy="23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3FF6-E8A1-49DB-8D4F-A4E6088762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cccc"/>
                </a:solidFill>
                <a:latin typeface="Times New Roman"/>
              </a:rPr>
              <a:t>Pretipkavanje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693800"/>
            <a:ext cx="8188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na sličan način može se pokazati da vrije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151080" y="2735280"/>
          <a:ext cx="2845080" cy="7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1080" y="2735280"/>
                    <a:ext cx="284508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763560" y="3652920"/>
            <a:ext cx="818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isto tako na jediničnoj kružnici, za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z=e</a:t>
            </a:r>
            <a:r>
              <a:rPr b="0" i="1" lang="hr-HR" sz="3200" spc="-1" strike="noStrike" baseline="30000">
                <a:solidFill>
                  <a:srgbClr val="ffff00"/>
                </a:solidFill>
                <a:latin typeface="Times New Roman CE"/>
              </a:rPr>
              <a:t>j</a:t>
            </a:r>
            <a:r>
              <a:rPr b="0" i="1" lang="el-GR" sz="3200" spc="-1" strike="noStrike" baseline="30000">
                <a:solidFill>
                  <a:srgbClr val="ffff00"/>
                </a:solidFill>
                <a:latin typeface="Times New Roman CE"/>
              </a:rPr>
              <a:t>ω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 CE"/>
              </a:rPr>
              <a:t>,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vrije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862360" y="5051520"/>
          <a:ext cx="3427200" cy="75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62360" y="5051520"/>
                    <a:ext cx="342720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8065-D9A1-4D74-9087-A0159F3A51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cccc"/>
                </a:solidFill>
                <a:latin typeface="Times New Roman"/>
              </a:rPr>
              <a:t>Pretipkavanje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0200" y="1503360"/>
            <a:ext cx="8188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za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L=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2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slije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560760" y="2436840"/>
          <a:ext cx="9651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0760" y="2436840"/>
                    <a:ext cx="965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5" name=""/>
          <p:cNvGrpSpPr/>
          <p:nvPr/>
        </p:nvGrpSpPr>
        <p:grpSpPr>
          <a:xfrm>
            <a:off x="0" y="2725560"/>
            <a:ext cx="9166680" cy="3806280"/>
            <a:chOff x="0" y="2725560"/>
            <a:chExt cx="9166680" cy="3806280"/>
          </a:xfrm>
        </p:grpSpPr>
        <p:sp>
          <p:nvSpPr>
            <p:cNvPr id="216" name=""/>
            <p:cNvSpPr/>
            <p:nvPr/>
          </p:nvSpPr>
          <p:spPr>
            <a:xfrm>
              <a:off x="61920" y="3911760"/>
              <a:ext cx="8862840" cy="144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498840" y="2725560"/>
              <a:ext cx="0" cy="155736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24720" y="3832200"/>
              <a:ext cx="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0" y="6000840"/>
              <a:ext cx="9072720" cy="79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500280" y="4683240"/>
              <a:ext cx="0" cy="16300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27960" y="5921280"/>
              <a:ext cx="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45040" y="5952960"/>
              <a:ext cx="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170920" y="5935680"/>
              <a:ext cx="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3080" y="5942160"/>
              <a:ext cx="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01880" y="5948280"/>
              <a:ext cx="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48120" y="39355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Times New Roman CE"/>
                </a:rPr>
                <a:t>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63960" y="60372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Times New Roman CE"/>
                </a:rPr>
                <a:t>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51480" y="395280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 CE"/>
                </a:rPr>
                <a:t>2</a:t>
              </a:r>
              <a:r>
                <a:rPr b="0" lang="el-GR" sz="2400" spc="-1" strike="noStrike">
                  <a:solidFill>
                    <a:srgbClr val="ffffff"/>
                  </a:solidFill>
                  <a:latin typeface="Times New Roman CE"/>
                </a:rPr>
                <a:t>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910640" y="395460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 CE"/>
                </a:rPr>
                <a:t>3</a:t>
              </a:r>
              <a:r>
                <a:rPr b="0" lang="el-GR" sz="2400" spc="-1" strike="noStrike">
                  <a:solidFill>
                    <a:srgbClr val="ffffff"/>
                  </a:solidFill>
                  <a:latin typeface="Times New Roman CE"/>
                </a:rPr>
                <a:t>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52400" y="3954600"/>
              <a:ext cx="43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 CE"/>
                </a:rPr>
                <a:t>-</a:t>
              </a:r>
              <a:r>
                <a:rPr b="0" lang="el-GR" sz="2400" spc="-1" strike="noStrike">
                  <a:solidFill>
                    <a:srgbClr val="ffffff"/>
                  </a:solidFill>
                  <a:latin typeface="Times New Roman CE"/>
                </a:rPr>
                <a:t>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600" y="3970440"/>
              <a:ext cx="58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 CE"/>
                </a:rPr>
                <a:t>-2</a:t>
              </a:r>
              <a:r>
                <a:rPr b="0" lang="el-GR" sz="2400" spc="-1" strike="noStrike">
                  <a:solidFill>
                    <a:srgbClr val="ffffff"/>
                  </a:solidFill>
                  <a:latin typeface="Times New Roman CE"/>
                </a:rPr>
                <a:t>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4520" y="3843360"/>
              <a:ext cx="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040" y="6072120"/>
              <a:ext cx="58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 CE"/>
                </a:rPr>
                <a:t>-2</a:t>
              </a:r>
              <a:r>
                <a:rPr b="0" lang="el-GR" sz="2400" spc="-1" strike="noStrike">
                  <a:solidFill>
                    <a:srgbClr val="ffffff"/>
                  </a:solidFill>
                  <a:latin typeface="Times New Roman CE"/>
                </a:rPr>
                <a:t>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68240" y="6056280"/>
              <a:ext cx="43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 CE"/>
                </a:rPr>
                <a:t>-</a:t>
              </a:r>
              <a:r>
                <a:rPr b="0" lang="el-GR" sz="2400" spc="-1" strike="noStrike">
                  <a:solidFill>
                    <a:srgbClr val="ffffff"/>
                  </a:solidFill>
                  <a:latin typeface="Times New Roman CE"/>
                </a:rPr>
                <a:t>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67680" y="606888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 CE"/>
                </a:rPr>
                <a:t>2</a:t>
              </a:r>
              <a:r>
                <a:rPr b="0" lang="el-GR" sz="2400" spc="-1" strike="noStrike">
                  <a:solidFill>
                    <a:srgbClr val="ffffff"/>
                  </a:solidFill>
                  <a:latin typeface="Times New Roman CE"/>
                </a:rPr>
                <a:t>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912080" y="605628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 CE"/>
                </a:rPr>
                <a:t>3</a:t>
              </a:r>
              <a:r>
                <a:rPr b="0" lang="el-GR" sz="2400" spc="-1" strike="noStrike">
                  <a:solidFill>
                    <a:srgbClr val="ffffff"/>
                  </a:solidFill>
                  <a:latin typeface="Times New Roman CE"/>
                </a:rPr>
                <a:t>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65040" y="6067440"/>
              <a:ext cx="5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Times New Roman CE"/>
                </a:rPr>
                <a:t>π</a:t>
              </a:r>
              <a:r>
                <a:rPr b="0" lang="hr-HR" sz="2400" spc="-1" strike="noStrike">
                  <a:solidFill>
                    <a:srgbClr val="ffffff"/>
                  </a:solidFill>
                  <a:latin typeface="Times New Roman CE"/>
                </a:rPr>
                <a:t>/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37480" y="6068880"/>
              <a:ext cx="67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 CE"/>
                </a:rPr>
                <a:t>-</a:t>
              </a:r>
              <a:r>
                <a:rPr b="0" lang="el-GR" sz="2400" spc="-1" strike="noStrike">
                  <a:solidFill>
                    <a:srgbClr val="ffffff"/>
                  </a:solidFill>
                  <a:latin typeface="Times New Roman CE"/>
                </a:rPr>
                <a:t>π</a:t>
              </a:r>
              <a:r>
                <a:rPr b="0" lang="hr-HR" sz="2400" spc="-1" strike="noStrike">
                  <a:solidFill>
                    <a:srgbClr val="ffffff"/>
                  </a:solidFill>
                  <a:latin typeface="Times New Roman CE"/>
                </a:rPr>
                <a:t>/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583120" y="3927600"/>
              <a:ext cx="38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Times New Roman CE"/>
                </a:rPr>
                <a:t>ω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784720" y="6014880"/>
              <a:ext cx="38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Times New Roman CE"/>
                </a:rPr>
                <a:t>ω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41" name=""/>
            <p:cNvGraphicFramePr/>
            <p:nvPr/>
          </p:nvGraphicFramePr>
          <p:xfrm>
            <a:off x="3544920" y="4446720"/>
            <a:ext cx="2536920" cy="558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44920" y="4446720"/>
                      <a:ext cx="253692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3" name=""/>
            <p:cNvSpPr/>
            <p:nvPr/>
          </p:nvSpPr>
          <p:spPr>
            <a:xfrm>
              <a:off x="6625080" y="4518000"/>
              <a:ext cx="7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d60093"/>
                  </a:solidFill>
                  <a:latin typeface="Times New Roman CE"/>
                </a:rPr>
                <a:t>slik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660640" y="4875120"/>
              <a:ext cx="885960" cy="45108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2994120" y="3144600"/>
              <a:ext cx="2047680" cy="841680"/>
              <a:chOff x="2994120" y="3144600"/>
              <a:chExt cx="2047680" cy="841680"/>
            </a:xfrm>
          </p:grpSpPr>
          <p:sp>
            <p:nvSpPr>
              <p:cNvPr id="246" name=""/>
              <p:cNvSpPr/>
              <p:nvPr/>
            </p:nvSpPr>
            <p:spPr>
              <a:xfrm>
                <a:off x="5041800" y="3854520"/>
                <a:ext cx="0" cy="131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flipV="1">
                <a:off x="4055760" y="3144600"/>
                <a:ext cx="981000" cy="768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2994120" y="3144600"/>
                <a:ext cx="507960" cy="768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495600" y="3148200"/>
                <a:ext cx="5652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124680" y="3146040"/>
              <a:ext cx="2047680" cy="841680"/>
              <a:chOff x="6124680" y="3146040"/>
              <a:chExt cx="2047680" cy="841680"/>
            </a:xfrm>
          </p:grpSpPr>
          <p:sp>
            <p:nvSpPr>
              <p:cNvPr id="251" name=""/>
              <p:cNvSpPr/>
              <p:nvPr/>
            </p:nvSpPr>
            <p:spPr>
              <a:xfrm>
                <a:off x="8172360" y="3855960"/>
                <a:ext cx="0" cy="131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7186320" y="3146040"/>
                <a:ext cx="981000" cy="768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6124680" y="3146040"/>
                <a:ext cx="507960" cy="768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626160" y="3149640"/>
                <a:ext cx="5652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1900080" y="3855960"/>
              <a:ext cx="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914040" y="3146400"/>
              <a:ext cx="981000" cy="768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3880" y="3149640"/>
              <a:ext cx="565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79200" y="3147480"/>
              <a:ext cx="262080" cy="397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43600" y="5913360"/>
              <a:ext cx="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3255840" y="5200560"/>
              <a:ext cx="1009800" cy="871560"/>
              <a:chOff x="3255840" y="5200560"/>
              <a:chExt cx="1009800" cy="871560"/>
            </a:xfrm>
          </p:grpSpPr>
          <p:sp>
            <p:nvSpPr>
              <p:cNvPr id="261" name=""/>
              <p:cNvSpPr/>
              <p:nvPr/>
            </p:nvSpPr>
            <p:spPr>
              <a:xfrm>
                <a:off x="4265640" y="5940360"/>
                <a:ext cx="0" cy="131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3798720" y="5205240"/>
                <a:ext cx="463680" cy="795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3255840" y="5200560"/>
                <a:ext cx="249480" cy="8049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3495600" y="5205240"/>
                <a:ext cx="3096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4800600" y="5202360"/>
              <a:ext cx="1009800" cy="871560"/>
              <a:chOff x="4800600" y="5202360"/>
              <a:chExt cx="1009800" cy="871560"/>
            </a:xfrm>
          </p:grpSpPr>
          <p:sp>
            <p:nvSpPr>
              <p:cNvPr id="266" name=""/>
              <p:cNvSpPr/>
              <p:nvPr/>
            </p:nvSpPr>
            <p:spPr>
              <a:xfrm>
                <a:off x="5810400" y="5942160"/>
                <a:ext cx="0" cy="131760"/>
              </a:xfrm>
              <a:prstGeom prst="line">
                <a:avLst/>
              </a:prstGeom>
              <a:ln w="1260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flipV="1">
                <a:off x="5343480" y="5207040"/>
                <a:ext cx="463680" cy="795600"/>
              </a:xfrm>
              <a:prstGeom prst="line">
                <a:avLst/>
              </a:prstGeom>
              <a:ln w="507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4800600" y="5202360"/>
                <a:ext cx="249480" cy="804960"/>
              </a:xfrm>
              <a:prstGeom prst="line">
                <a:avLst/>
              </a:prstGeom>
              <a:ln w="507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040360" y="5207040"/>
                <a:ext cx="309600" cy="0"/>
              </a:xfrm>
              <a:prstGeom prst="line">
                <a:avLst/>
              </a:prstGeom>
              <a:ln w="507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388200" y="5194440"/>
              <a:ext cx="1009440" cy="871560"/>
              <a:chOff x="6388200" y="5194440"/>
              <a:chExt cx="1009440" cy="871560"/>
            </a:xfrm>
          </p:grpSpPr>
          <p:sp>
            <p:nvSpPr>
              <p:cNvPr id="271" name=""/>
              <p:cNvSpPr/>
              <p:nvPr/>
            </p:nvSpPr>
            <p:spPr>
              <a:xfrm>
                <a:off x="7397640" y="5934240"/>
                <a:ext cx="0" cy="131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flipV="1">
                <a:off x="6930360" y="5199120"/>
                <a:ext cx="463320" cy="795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388200" y="5194440"/>
                <a:ext cx="249120" cy="8049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6627240" y="5199120"/>
                <a:ext cx="3092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7918560" y="5191200"/>
              <a:ext cx="1009440" cy="871560"/>
              <a:chOff x="7918560" y="5191200"/>
              <a:chExt cx="1009440" cy="871560"/>
            </a:xfrm>
          </p:grpSpPr>
          <p:sp>
            <p:nvSpPr>
              <p:cNvPr id="276" name=""/>
              <p:cNvSpPr/>
              <p:nvPr/>
            </p:nvSpPr>
            <p:spPr>
              <a:xfrm>
                <a:off x="8928000" y="5931000"/>
                <a:ext cx="0" cy="131760"/>
              </a:xfrm>
              <a:prstGeom prst="line">
                <a:avLst/>
              </a:prstGeom>
              <a:ln w="1260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 flipV="1">
                <a:off x="8460720" y="5195880"/>
                <a:ext cx="463320" cy="795600"/>
              </a:xfrm>
              <a:prstGeom prst="line">
                <a:avLst/>
              </a:prstGeom>
              <a:ln w="507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7918560" y="5191200"/>
                <a:ext cx="249120" cy="804960"/>
              </a:xfrm>
              <a:prstGeom prst="line">
                <a:avLst/>
              </a:prstGeom>
              <a:ln w="507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8157600" y="5195880"/>
                <a:ext cx="309240" cy="0"/>
              </a:xfrm>
              <a:prstGeom prst="line">
                <a:avLst/>
              </a:prstGeom>
              <a:ln w="507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657440" y="5202360"/>
              <a:ext cx="1009440" cy="871560"/>
              <a:chOff x="1657440" y="5202360"/>
              <a:chExt cx="1009440" cy="871560"/>
            </a:xfrm>
          </p:grpSpPr>
          <p:sp>
            <p:nvSpPr>
              <p:cNvPr id="281" name=""/>
              <p:cNvSpPr/>
              <p:nvPr/>
            </p:nvSpPr>
            <p:spPr>
              <a:xfrm>
                <a:off x="2666880" y="5942160"/>
                <a:ext cx="0" cy="131760"/>
              </a:xfrm>
              <a:prstGeom prst="line">
                <a:avLst/>
              </a:prstGeom>
              <a:ln w="1260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flipV="1">
                <a:off x="2199600" y="5207040"/>
                <a:ext cx="463320" cy="795600"/>
              </a:xfrm>
              <a:prstGeom prst="line">
                <a:avLst/>
              </a:prstGeom>
              <a:ln w="507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1657440" y="5202360"/>
                <a:ext cx="249120" cy="804960"/>
              </a:xfrm>
              <a:prstGeom prst="line">
                <a:avLst/>
              </a:prstGeom>
              <a:ln w="507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1896480" y="5207040"/>
                <a:ext cx="309240" cy="0"/>
              </a:xfrm>
              <a:prstGeom prst="line">
                <a:avLst/>
              </a:prstGeom>
              <a:ln w="507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96840" y="5203800"/>
              <a:ext cx="1009800" cy="871560"/>
              <a:chOff x="96840" y="5203800"/>
              <a:chExt cx="1009800" cy="871560"/>
            </a:xfrm>
          </p:grpSpPr>
          <p:sp>
            <p:nvSpPr>
              <p:cNvPr id="286" name=""/>
              <p:cNvSpPr/>
              <p:nvPr/>
            </p:nvSpPr>
            <p:spPr>
              <a:xfrm>
                <a:off x="1106640" y="5943600"/>
                <a:ext cx="0" cy="131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flipV="1">
                <a:off x="639720" y="5208480"/>
                <a:ext cx="463680" cy="795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96840" y="5203800"/>
                <a:ext cx="249480" cy="8049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336600" y="5208480"/>
                <a:ext cx="3096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9585-D8D2-47D3-8DDA-4F000D8759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cccc"/>
                </a:solidFill>
                <a:latin typeface="Times New Roman"/>
              </a:rPr>
              <a:t>Pretipkavanje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2136600"/>
            <a:ext cx="818820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kako je pokazano pretipkavanje (povećanje frekvencije otipkavanja) za faktor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L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=2 </a:t>
            </a: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rezultira u kompresiji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X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(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e</a:t>
            </a:r>
            <a:r>
              <a:rPr b="0" i="1" lang="hr-HR" sz="3200" spc="-1" strike="noStrike" baseline="30000">
                <a:solidFill>
                  <a:srgbClr val="ffff00"/>
                </a:solidFill>
                <a:latin typeface="Times New Roman CE"/>
              </a:rPr>
              <a:t>j</a:t>
            </a:r>
            <a:r>
              <a:rPr b="0" i="1" lang="el-GR" sz="3200" spc="-1" strike="noStrike" baseline="30000">
                <a:solidFill>
                  <a:srgbClr val="ffff00"/>
                </a:solidFill>
                <a:latin typeface="Times New Roman CE"/>
              </a:rPr>
              <a:t>ω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)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za faktor 2 te njegovom dvostrukom ponavljanju u osnovnom intervalu 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[0, 2</a:t>
            </a:r>
            <a:r>
              <a:rPr b="0" lang="el-GR" sz="3200" spc="-1" strike="noStrike">
                <a:solidFill>
                  <a:srgbClr val="ffff00"/>
                </a:solidFill>
                <a:latin typeface="Times New Roman CE"/>
              </a:rPr>
              <a:t>π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3560" y="5081760"/>
            <a:ext cx="818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ovaj proces naziva se zrcaljenje budući da dobivamo dodatnu sliku (odraz) ulaznog spek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529C-04C1-46C0-8AB0-7562860BE9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475920"/>
            <a:ext cx="78472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200" spc="-1" strike="noStrike">
                <a:solidFill>
                  <a:srgbClr val="00cccc"/>
                </a:solidFill>
                <a:latin typeface="Times New Roman"/>
              </a:rPr>
              <a:t>Višetaktna digitalna obradba signala </a:t>
            </a:r>
            <a:endParaRPr b="0" i="1" lang="en-US" sz="4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Temeljne operacije za promjenu frekvencije otipkavanj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retikpkavanje -  koristi se za povećanje frekvencije otipkavanja za cjelobrojni fak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dotipkavanje – koristi se za smanjenje frekvencije otipkavanja za cjelobrojni fak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2C03-E02F-4FC7-8E6C-86EF940884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cccc"/>
                </a:solidFill>
                <a:latin typeface="Times New Roman"/>
              </a:rPr>
              <a:t>Pretipkavanje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2136600"/>
            <a:ext cx="81882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slično i u slučaju pretipkavanja za faktor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L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postoji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L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-1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dodatnih slika ulaznog signala u osnovnom interva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3560" y="4324320"/>
            <a:ext cx="818820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filtriranjem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x</a:t>
            </a:r>
            <a:r>
              <a:rPr b="0" i="1" lang="hr-HR" sz="3200" spc="-1" strike="noStrike" baseline="-25000">
                <a:solidFill>
                  <a:srgbClr val="ffff00"/>
                </a:solidFill>
                <a:latin typeface="Times New Roman CE"/>
              </a:rPr>
              <a:t>prt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]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s niskopropusnim filtrom uklanja se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L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-1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slika što kao efekt ima  “upotpunjavanje” uzoraka vrijednosti nula u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x</a:t>
            </a:r>
            <a:r>
              <a:rPr b="0" i="1" lang="hr-HR" sz="3200" spc="-1" strike="noStrike" baseline="-25000">
                <a:solidFill>
                  <a:srgbClr val="ffff00"/>
                </a:solidFill>
                <a:latin typeface="Times New Roman CE"/>
              </a:rPr>
              <a:t>prt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]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s interpoliranim vrijednostima uzora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CA66-47DD-45AE-BDE9-203F6737DA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240" y="-8100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Pretipkavanje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860400" y="1058760"/>
            <a:ext cx="7712280" cy="579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FD4A-B283-45B0-9759-3D73EED210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58800" y="-7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cccc"/>
                </a:solidFill>
                <a:latin typeface="Times New Roman"/>
              </a:rPr>
              <a:t>Pretipkavanj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998640" y="981000"/>
            <a:ext cx="7711920" cy="579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6368-19C1-4899-9C39-3C6F9063D7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Podotipkavanje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1822320"/>
            <a:ext cx="818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opis u frekvencijskoj dome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razmotrimo podotipkavanje za faktor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246480" y="2984400"/>
          <a:ext cx="23320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6480" y="2984400"/>
                    <a:ext cx="23320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762120" y="3693960"/>
            <a:ext cx="8188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primjenom z - transforma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341440" y="4349880"/>
          <a:ext cx="3498840" cy="11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1440" y="4349880"/>
                    <a:ext cx="349884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777960" y="5867280"/>
            <a:ext cx="8188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uvodi se pomoćni niz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x</a:t>
            </a:r>
            <a:r>
              <a:rPr b="0" i="1" lang="hr-HR" sz="3200" spc="-1" strike="noStrike" baseline="-25000">
                <a:solidFill>
                  <a:srgbClr val="ffff00"/>
                </a:solidFill>
                <a:latin typeface="Times New Roman CE"/>
              </a:rPr>
              <a:t>pom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2CFF-7AFF-4965-B9EE-2CF0441C3A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Podotipkavanje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966960" y="2538360"/>
          <a:ext cx="6789600" cy="12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6960" y="2538360"/>
                    <a:ext cx="678960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646200" y="1763640"/>
            <a:ext cx="81882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x</a:t>
            </a:r>
            <a:r>
              <a:rPr b="0" i="1" lang="hr-HR" sz="2800" spc="-1" strike="noStrike" baseline="-25000">
                <a:solidFill>
                  <a:srgbClr val="ffff00"/>
                </a:solidFill>
                <a:latin typeface="Times New Roman CE"/>
              </a:rPr>
              <a:t>pom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]</a:t>
            </a: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se definira k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344600" y="4424400"/>
          <a:ext cx="6551640" cy="23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4600" y="4424400"/>
                    <a:ext cx="655164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662040" y="3922560"/>
            <a:ext cx="8188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tada 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883D-4D5B-49C1-988F-085A301DF6C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Podotipkavanje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766960" y="2830680"/>
          <a:ext cx="318924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6960" y="2830680"/>
                    <a:ext cx="31892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646200" y="1763640"/>
            <a:ext cx="8188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veza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x</a:t>
            </a:r>
            <a:r>
              <a:rPr b="0" i="1" lang="hr-HR" sz="3200" spc="-1" strike="noStrike" baseline="-25000">
                <a:solidFill>
                  <a:srgbClr val="ffff00"/>
                </a:solidFill>
                <a:latin typeface="Times New Roman CE"/>
              </a:rPr>
              <a:t>pom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]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s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x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]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se može definirati i k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1722600" y="4829040"/>
          <a:ext cx="5795640" cy="123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2600" y="4829040"/>
                    <a:ext cx="5795640" cy="12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662040" y="3922560"/>
            <a:ext cx="8188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gdje 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A2FC-5E10-4C8D-9B2C-A4CD6DEF5F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Podotipkavanje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663560" y="2911320"/>
          <a:ext cx="5453280" cy="12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3560" y="2911320"/>
                    <a:ext cx="5453280" cy="12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646200" y="1763640"/>
            <a:ext cx="8188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c</a:t>
            </a:r>
            <a:r>
              <a:rPr b="0" lang="en-US" sz="32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imes New Roman CE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je pogodno prikazati k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040" y="4151160"/>
            <a:ext cx="8188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pa 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157400" y="4829040"/>
          <a:ext cx="6413400" cy="116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7400" y="4829040"/>
                    <a:ext cx="64134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166C-AC49-461F-A372-51C81FEA427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Podotipkavanje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04840" y="2747880"/>
          <a:ext cx="8745480" cy="24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40" y="2747880"/>
                    <a:ext cx="8745480" cy="24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46200" y="1763640"/>
            <a:ext cx="8188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slije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504E-CD46-4583-AA8C-6CE8348D0AA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Podotipkavanje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46200" y="1763640"/>
            <a:ext cx="81882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razmotrimo podotipkavanje  za faktor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M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=2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ulaznog signala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x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]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čije je spektar prikazan slik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2741760" y="4937040"/>
          <a:ext cx="5246640" cy="19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1760" y="4937040"/>
                    <a:ext cx="5246640" cy="19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484200" y="4795920"/>
            <a:ext cx="2279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za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M</a:t>
            </a:r>
            <a:r>
              <a:rPr b="0" lang="en-US" sz="3200" spc="-1" strike="noStrike">
                <a:solidFill>
                  <a:srgbClr val="ffff00"/>
                </a:solidFill>
                <a:latin typeface="Times New Roman CE"/>
              </a:rPr>
              <a:t>=2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i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04760" y="2994120"/>
            <a:ext cx="8946000" cy="1807560"/>
            <a:chOff x="104760" y="2994120"/>
            <a:chExt cx="8946000" cy="1807560"/>
          </a:xfrm>
        </p:grpSpPr>
        <p:grpSp>
          <p:nvGrpSpPr>
            <p:cNvPr id="339" name=""/>
            <p:cNvGrpSpPr/>
            <p:nvPr/>
          </p:nvGrpSpPr>
          <p:grpSpPr>
            <a:xfrm>
              <a:off x="104760" y="3097080"/>
              <a:ext cx="8946000" cy="1704600"/>
              <a:chOff x="104760" y="3097080"/>
              <a:chExt cx="8946000" cy="1704600"/>
            </a:xfrm>
          </p:grpSpPr>
          <p:sp>
            <p:nvSpPr>
              <p:cNvPr id="340" name=""/>
              <p:cNvSpPr/>
              <p:nvPr/>
            </p:nvSpPr>
            <p:spPr>
              <a:xfrm>
                <a:off x="104760" y="4283280"/>
                <a:ext cx="8862840" cy="144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3584520" y="3097080"/>
                <a:ext cx="0" cy="155736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710400" y="4203720"/>
                <a:ext cx="0" cy="131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33800" y="430704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ffffff"/>
                    </a:solidFill>
                    <a:latin typeface="Times New Roman CE"/>
                  </a:rPr>
                  <a:t>π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437160" y="4324320"/>
                <a:ext cx="48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ff"/>
                    </a:solidFill>
                    <a:latin typeface="Times New Roman CE"/>
                  </a:rPr>
                  <a:t>2</a:t>
                </a:r>
                <a:r>
                  <a:rPr b="0" lang="el-GR" sz="2400" spc="-1" strike="noStrike">
                    <a:solidFill>
                      <a:srgbClr val="ffffff"/>
                    </a:solidFill>
                    <a:latin typeface="Times New Roman CE"/>
                  </a:rPr>
                  <a:t>π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996320" y="4326120"/>
                <a:ext cx="48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ff"/>
                    </a:solidFill>
                    <a:latin typeface="Times New Roman CE"/>
                  </a:rPr>
                  <a:t>3</a:t>
                </a:r>
                <a:r>
                  <a:rPr b="0" lang="el-GR" sz="2400" spc="-1" strike="noStrike">
                    <a:solidFill>
                      <a:srgbClr val="ffffff"/>
                    </a:solidFill>
                    <a:latin typeface="Times New Roman CE"/>
                  </a:rPr>
                  <a:t>π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738080" y="4326120"/>
                <a:ext cx="43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ff"/>
                    </a:solidFill>
                    <a:latin typeface="Times New Roman CE"/>
                  </a:rPr>
                  <a:t>-</a:t>
                </a:r>
                <a:r>
                  <a:rPr b="0" lang="el-GR" sz="2400" spc="-1" strike="noStrike">
                    <a:solidFill>
                      <a:srgbClr val="ffffff"/>
                    </a:solidFill>
                    <a:latin typeface="Times New Roman CE"/>
                  </a:rPr>
                  <a:t>π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25280" y="4341960"/>
                <a:ext cx="58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ff"/>
                    </a:solidFill>
                    <a:latin typeface="Times New Roman CE"/>
                  </a:rPr>
                  <a:t>-2</a:t>
                </a:r>
                <a:r>
                  <a:rPr b="0" lang="el-GR" sz="2400" spc="-1" strike="noStrike">
                    <a:solidFill>
                      <a:srgbClr val="ffffff"/>
                    </a:solidFill>
                    <a:latin typeface="Times New Roman CE"/>
                  </a:rPr>
                  <a:t>π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30200" y="4214880"/>
                <a:ext cx="0" cy="131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668800" y="4299120"/>
                <a:ext cx="38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ffffff"/>
                    </a:solidFill>
                    <a:latin typeface="Times New Roman CE"/>
                  </a:rPr>
                  <a:t>ω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3079800" y="3516120"/>
                <a:ext cx="2047680" cy="841680"/>
                <a:chOff x="3079800" y="3516120"/>
                <a:chExt cx="2047680" cy="8416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5127480" y="4226040"/>
                  <a:ext cx="0" cy="131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 flipV="1">
                  <a:off x="4141440" y="3516120"/>
                  <a:ext cx="981000" cy="76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V="1">
                  <a:off x="3079800" y="3516120"/>
                  <a:ext cx="507960" cy="76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581280" y="3519720"/>
                  <a:ext cx="565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6210360" y="3517560"/>
                <a:ext cx="2047680" cy="841680"/>
                <a:chOff x="6210360" y="3517560"/>
                <a:chExt cx="2047680" cy="8416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8258040" y="4227480"/>
                  <a:ext cx="0" cy="131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H="1" flipV="1">
                  <a:off x="7272000" y="3517560"/>
                  <a:ext cx="981000" cy="76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V="1">
                  <a:off x="6210360" y="3517560"/>
                  <a:ext cx="507960" cy="76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711840" y="3521160"/>
                  <a:ext cx="565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0" name=""/>
              <p:cNvSpPr/>
              <p:nvPr/>
            </p:nvSpPr>
            <p:spPr>
              <a:xfrm>
                <a:off x="1985760" y="4227480"/>
                <a:ext cx="0" cy="131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 flipV="1">
                <a:off x="999720" y="3517920"/>
                <a:ext cx="981000" cy="76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39560" y="3521160"/>
                <a:ext cx="565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164880" y="3519000"/>
                <a:ext cx="262080" cy="39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364" name=""/>
            <p:cNvGraphicFramePr/>
            <p:nvPr/>
          </p:nvGraphicFramePr>
          <p:xfrm>
            <a:off x="3703680" y="2994120"/>
            <a:ext cx="965160" cy="457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03680" y="2994120"/>
                      <a:ext cx="96516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5386-FA73-4884-B046-642028D2E1F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Podotipkavanje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58760" y="1825560"/>
          <a:ext cx="888048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1825560"/>
                    <a:ext cx="88804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441360" y="3154320"/>
            <a:ext cx="2279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i i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351080" y="3146400"/>
          <a:ext cx="2982960" cy="6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1080" y="3146400"/>
                    <a:ext cx="29829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442800" y="4056120"/>
            <a:ext cx="1292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slije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992240" y="3876840"/>
          <a:ext cx="5041800" cy="10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92240" y="3876840"/>
                    <a:ext cx="50418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458640" y="5172120"/>
            <a:ext cx="1292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pa 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1974960" y="4992840"/>
          <a:ext cx="5796000" cy="106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4992840"/>
                    <a:ext cx="57960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1939-F1E0-492E-9416-557468EDA0F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247320"/>
            <a:ext cx="78472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Pretipkavanje – up-sampling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3400" y="1781280"/>
            <a:ext cx="777240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pis u vremenskoj domen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retipkavanje, označeno s cjelobrojnim faktorom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generira izlazni niz  čija je frekvencija otipkavanja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puta viša od frekvencije otipkavanja ulaznog signala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blok dijagram 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439000" y="5524560"/>
            <a:ext cx="3727440" cy="685800"/>
            <a:chOff x="2439000" y="5524560"/>
            <a:chExt cx="3727440" cy="685800"/>
          </a:xfrm>
        </p:grpSpPr>
        <p:sp>
          <p:nvSpPr>
            <p:cNvPr id="119" name=""/>
            <p:cNvSpPr/>
            <p:nvPr/>
          </p:nvSpPr>
          <p:spPr>
            <a:xfrm>
              <a:off x="3809880" y="5524560"/>
              <a:ext cx="762120" cy="685800"/>
            </a:xfrm>
            <a:prstGeom prst="rect">
              <a:avLst/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00400" y="5867280"/>
              <a:ext cx="6094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84600" y="5867280"/>
              <a:ext cx="60984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975120" y="5676480"/>
              <a:ext cx="0" cy="38124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78800" y="5638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39000" y="5638680"/>
              <a:ext cx="67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87320" y="5626080"/>
              <a:ext cx="87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i="1" lang="hr-HR" sz="2400" spc="-1" strike="noStrike" baseline="-25000">
                  <a:solidFill>
                    <a:srgbClr val="ffffff"/>
                  </a:solidFill>
                  <a:latin typeface="Times New Roman"/>
                </a:rPr>
                <a:t>pr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A771-E49F-449F-8790-4D361EBE0B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Podotipkavanje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6200" y="1763640"/>
            <a:ext cx="901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i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660680" y="1739880"/>
          <a:ext cx="4389120" cy="7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1739880"/>
                    <a:ext cx="438912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619200" y="2465280"/>
            <a:ext cx="1190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slije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2001960" y="3357720"/>
          <a:ext cx="620712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1960" y="3357720"/>
                    <a:ext cx="62071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649440" y="4896000"/>
            <a:ext cx="825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dakle, drugi član je dobiven pomakom prvog člana za 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2</a:t>
            </a:r>
            <a:r>
              <a:rPr b="0" lang="el-GR" sz="3200" spc="-1" strike="noStrike">
                <a:solidFill>
                  <a:srgbClr val="ffff00"/>
                </a:solidFill>
                <a:latin typeface="Times New Roman CE"/>
              </a:rPr>
              <a:t>π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na des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001F-6187-4B7A-8F38-A5855E2DDDD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240" y="615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cccc"/>
                </a:solidFill>
                <a:latin typeface="Times New Roman"/>
              </a:rPr>
              <a:t>Podotipkavanje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33200" y="1393920"/>
            <a:ext cx="8946000" cy="1807560"/>
            <a:chOff x="133200" y="1393920"/>
            <a:chExt cx="8946000" cy="1807560"/>
          </a:xfrm>
        </p:grpSpPr>
        <p:sp>
          <p:nvSpPr>
            <p:cNvPr id="388" name=""/>
            <p:cNvSpPr/>
            <p:nvPr/>
          </p:nvSpPr>
          <p:spPr>
            <a:xfrm>
              <a:off x="133200" y="2683080"/>
              <a:ext cx="8863200" cy="144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613320" y="1497240"/>
              <a:ext cx="0" cy="155736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38840" y="2603520"/>
              <a:ext cx="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62600" y="270684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Times New Roman CE"/>
                </a:rPr>
                <a:t>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465960" y="272412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 CE"/>
                </a:rPr>
                <a:t>2</a:t>
              </a:r>
              <a:r>
                <a:rPr b="0" lang="el-GR" sz="2400" spc="-1" strike="noStrike">
                  <a:solidFill>
                    <a:srgbClr val="ffffff"/>
                  </a:solidFill>
                  <a:latin typeface="Times New Roman CE"/>
                </a:rPr>
                <a:t>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024760" y="272592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 CE"/>
                </a:rPr>
                <a:t>3</a:t>
              </a:r>
              <a:r>
                <a:rPr b="0" lang="el-GR" sz="2400" spc="-1" strike="noStrike">
                  <a:solidFill>
                    <a:srgbClr val="ffffff"/>
                  </a:solidFill>
                  <a:latin typeface="Times New Roman CE"/>
                </a:rPr>
                <a:t>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66520" y="2725920"/>
              <a:ext cx="43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 CE"/>
                </a:rPr>
                <a:t>-</a:t>
              </a:r>
              <a:r>
                <a:rPr b="0" lang="el-GR" sz="2400" spc="-1" strike="noStrike">
                  <a:solidFill>
                    <a:srgbClr val="ffffff"/>
                  </a:solidFill>
                  <a:latin typeface="Times New Roman CE"/>
                </a:rPr>
                <a:t>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3720" y="2741760"/>
              <a:ext cx="58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 CE"/>
                </a:rPr>
                <a:t>-2</a:t>
              </a:r>
              <a:r>
                <a:rPr b="0" lang="el-GR" sz="2400" spc="-1" strike="noStrike">
                  <a:solidFill>
                    <a:srgbClr val="ffffff"/>
                  </a:solidFill>
                  <a:latin typeface="Times New Roman CE"/>
                </a:rPr>
                <a:t>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8640" y="2614680"/>
              <a:ext cx="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697240" y="2698920"/>
              <a:ext cx="38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Times New Roman CE"/>
                </a:rPr>
                <a:t>ω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108240" y="1915920"/>
              <a:ext cx="2047680" cy="841680"/>
              <a:chOff x="3108240" y="1915920"/>
              <a:chExt cx="2047680" cy="841680"/>
            </a:xfrm>
          </p:grpSpPr>
          <p:sp>
            <p:nvSpPr>
              <p:cNvPr id="399" name=""/>
              <p:cNvSpPr/>
              <p:nvPr/>
            </p:nvSpPr>
            <p:spPr>
              <a:xfrm>
                <a:off x="5155920" y="2625840"/>
                <a:ext cx="0" cy="131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flipV="1">
                <a:off x="4169880" y="1915920"/>
                <a:ext cx="981000" cy="768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3108240" y="1915920"/>
                <a:ext cx="507960" cy="768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609720" y="1919520"/>
                <a:ext cx="5652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6238800" y="1917360"/>
              <a:ext cx="2047680" cy="841680"/>
              <a:chOff x="6238800" y="1917360"/>
              <a:chExt cx="2047680" cy="841680"/>
            </a:xfrm>
          </p:grpSpPr>
          <p:sp>
            <p:nvSpPr>
              <p:cNvPr id="404" name=""/>
              <p:cNvSpPr/>
              <p:nvPr/>
            </p:nvSpPr>
            <p:spPr>
              <a:xfrm>
                <a:off x="8286480" y="2627280"/>
                <a:ext cx="0" cy="131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 flipV="1">
                <a:off x="7300440" y="1917360"/>
                <a:ext cx="981000" cy="768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6238800" y="1917360"/>
                <a:ext cx="507960" cy="768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740280" y="1920960"/>
                <a:ext cx="5652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2014560" y="2627280"/>
              <a:ext cx="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1028520" y="1917360"/>
              <a:ext cx="981000" cy="768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8360" y="1920960"/>
              <a:ext cx="565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193680" y="1919520"/>
              <a:ext cx="262080" cy="396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12" name=""/>
            <p:cNvGraphicFramePr/>
            <p:nvPr/>
          </p:nvGraphicFramePr>
          <p:xfrm>
            <a:off x="3732120" y="1393920"/>
            <a:ext cx="96516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2120" y="1393920"/>
                      <a:ext cx="96516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14" name=""/>
          <p:cNvGrpSpPr/>
          <p:nvPr/>
        </p:nvGrpSpPr>
        <p:grpSpPr>
          <a:xfrm>
            <a:off x="0" y="5102280"/>
            <a:ext cx="9069840" cy="1815480"/>
            <a:chOff x="0" y="5102280"/>
            <a:chExt cx="9069840" cy="1815480"/>
          </a:xfrm>
        </p:grpSpPr>
        <p:grpSp>
          <p:nvGrpSpPr>
            <p:cNvPr id="415" name=""/>
            <p:cNvGrpSpPr/>
            <p:nvPr/>
          </p:nvGrpSpPr>
          <p:grpSpPr>
            <a:xfrm>
              <a:off x="0" y="5197320"/>
              <a:ext cx="9069840" cy="1720440"/>
              <a:chOff x="0" y="5197320"/>
              <a:chExt cx="9069840" cy="1720440"/>
            </a:xfrm>
          </p:grpSpPr>
          <p:sp>
            <p:nvSpPr>
              <p:cNvPr id="416" name=""/>
              <p:cNvSpPr/>
              <p:nvPr/>
            </p:nvSpPr>
            <p:spPr>
              <a:xfrm>
                <a:off x="166680" y="6399360"/>
                <a:ext cx="8863200" cy="144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3603600" y="5197320"/>
                <a:ext cx="0" cy="155736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146560" y="6332400"/>
                <a:ext cx="0" cy="131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29480" y="6319800"/>
                <a:ext cx="0" cy="131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273880" y="6321600"/>
                <a:ext cx="0" cy="131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028960" y="6334200"/>
                <a:ext cx="0" cy="131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952880" y="642312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ffffff"/>
                    </a:solidFill>
                    <a:latin typeface="Times New Roman CE"/>
                  </a:rPr>
                  <a:t>π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456600" y="6440400"/>
                <a:ext cx="48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ff"/>
                    </a:solidFill>
                    <a:latin typeface="Times New Roman CE"/>
                  </a:rPr>
                  <a:t>2</a:t>
                </a:r>
                <a:r>
                  <a:rPr b="0" lang="el-GR" sz="2400" spc="-1" strike="noStrike">
                    <a:solidFill>
                      <a:srgbClr val="ffffff"/>
                    </a:solidFill>
                    <a:latin typeface="Times New Roman CE"/>
                  </a:rPr>
                  <a:t>π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015400" y="6442200"/>
                <a:ext cx="48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ff"/>
                    </a:solidFill>
                    <a:latin typeface="Times New Roman CE"/>
                  </a:rPr>
                  <a:t>3</a:t>
                </a:r>
                <a:r>
                  <a:rPr b="0" lang="el-GR" sz="2400" spc="-1" strike="noStrike">
                    <a:solidFill>
                      <a:srgbClr val="ffffff"/>
                    </a:solidFill>
                    <a:latin typeface="Times New Roman CE"/>
                  </a:rPr>
                  <a:t>π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757160" y="6442200"/>
                <a:ext cx="43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ff"/>
                    </a:solidFill>
                    <a:latin typeface="Times New Roman CE"/>
                  </a:rPr>
                  <a:t>-</a:t>
                </a:r>
                <a:r>
                  <a:rPr b="0" lang="el-GR" sz="2400" spc="-1" strike="noStrike">
                    <a:solidFill>
                      <a:srgbClr val="ffffff"/>
                    </a:solidFill>
                    <a:latin typeface="Times New Roman CE"/>
                  </a:rPr>
                  <a:t>π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44360" y="6458040"/>
                <a:ext cx="58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ff"/>
                    </a:solidFill>
                    <a:latin typeface="Times New Roman CE"/>
                  </a:rPr>
                  <a:t>-2</a:t>
                </a:r>
                <a:r>
                  <a:rPr b="0" lang="el-GR" sz="2400" spc="-1" strike="noStrike">
                    <a:solidFill>
                      <a:srgbClr val="ffffff"/>
                    </a:solidFill>
                    <a:latin typeface="Times New Roman CE"/>
                  </a:rPr>
                  <a:t>π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9280" y="6330960"/>
                <a:ext cx="0" cy="131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687880" y="6415200"/>
                <a:ext cx="38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ffffff"/>
                    </a:solidFill>
                    <a:latin typeface="Times New Roman CE"/>
                  </a:rPr>
                  <a:t>ω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727680" y="6326280"/>
                <a:ext cx="0" cy="128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2597040" y="5632560"/>
                <a:ext cx="1001880" cy="37296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5732640" y="5632200"/>
                <a:ext cx="1001520" cy="37764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604880" y="5634000"/>
                <a:ext cx="1000080" cy="36684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471600" y="5638680"/>
                <a:ext cx="1137960" cy="504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43360" y="5634000"/>
                <a:ext cx="1000080" cy="37620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595680" y="5634000"/>
                <a:ext cx="1166760" cy="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816680" y="5635800"/>
                <a:ext cx="1000440" cy="37620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734160" y="5632560"/>
                <a:ext cx="1082520" cy="324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0" y="5648400"/>
                <a:ext cx="457200" cy="16992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39" name=""/>
            <p:cNvGraphicFramePr/>
            <p:nvPr/>
          </p:nvGraphicFramePr>
          <p:xfrm>
            <a:off x="3749760" y="5102280"/>
            <a:ext cx="1041480" cy="457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49760" y="5102280"/>
                      <a:ext cx="1041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41" name=""/>
          <p:cNvSpPr/>
          <p:nvPr/>
        </p:nvSpPr>
        <p:spPr>
          <a:xfrm flipV="1">
            <a:off x="2608200" y="3870360"/>
            <a:ext cx="1001880" cy="372960"/>
          </a:xfrm>
          <a:prstGeom prst="line">
            <a:avLst/>
          </a:prstGeom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5732640" y="3848040"/>
            <a:ext cx="1001520" cy="378000"/>
          </a:xfrm>
          <a:prstGeom prst="line">
            <a:avLst/>
          </a:prstGeom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0" y="3408480"/>
            <a:ext cx="9144000" cy="1729440"/>
            <a:chOff x="0" y="3408480"/>
            <a:chExt cx="9144000" cy="1729440"/>
          </a:xfrm>
        </p:grpSpPr>
        <p:sp>
          <p:nvSpPr>
            <p:cNvPr id="444" name=""/>
            <p:cNvSpPr/>
            <p:nvPr/>
          </p:nvSpPr>
          <p:spPr>
            <a:xfrm>
              <a:off x="166680" y="4619520"/>
              <a:ext cx="8862840" cy="10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3603600" y="3417480"/>
              <a:ext cx="0" cy="15570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46560" y="4552920"/>
              <a:ext cx="0" cy="13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729480" y="4540320"/>
              <a:ext cx="0" cy="13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273880" y="4541760"/>
              <a:ext cx="0" cy="13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028600" y="4554360"/>
              <a:ext cx="0" cy="13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52880" y="464328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Times New Roman CE"/>
                </a:rPr>
                <a:t>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456240" y="466092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 CE"/>
                </a:rPr>
                <a:t>2</a:t>
              </a:r>
              <a:r>
                <a:rPr b="0" lang="el-GR" sz="2400" spc="-1" strike="noStrike">
                  <a:solidFill>
                    <a:srgbClr val="ffffff"/>
                  </a:solidFill>
                  <a:latin typeface="Times New Roman CE"/>
                </a:rPr>
                <a:t>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015400" y="466236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 CE"/>
                </a:rPr>
                <a:t>3</a:t>
              </a:r>
              <a:r>
                <a:rPr b="0" lang="el-GR" sz="2400" spc="-1" strike="noStrike">
                  <a:solidFill>
                    <a:srgbClr val="ffffff"/>
                  </a:solidFill>
                  <a:latin typeface="Times New Roman CE"/>
                </a:rPr>
                <a:t>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56800" y="4662360"/>
              <a:ext cx="43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 CE"/>
                </a:rPr>
                <a:t>-</a:t>
              </a:r>
              <a:r>
                <a:rPr b="0" lang="el-GR" sz="2400" spc="-1" strike="noStrike">
                  <a:solidFill>
                    <a:srgbClr val="ffffff"/>
                  </a:solidFill>
                  <a:latin typeface="Times New Roman CE"/>
                </a:rPr>
                <a:t>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4000" y="4678200"/>
              <a:ext cx="58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 CE"/>
                </a:rPr>
                <a:t>-2</a:t>
              </a:r>
              <a:r>
                <a:rPr b="0" lang="el-GR" sz="2400" spc="-1" strike="noStrike">
                  <a:solidFill>
                    <a:srgbClr val="ffffff"/>
                  </a:solidFill>
                  <a:latin typeface="Times New Roman CE"/>
                </a:rPr>
                <a:t>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49280" y="4551120"/>
              <a:ext cx="0" cy="13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687880" y="4635360"/>
              <a:ext cx="38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Times New Roman CE"/>
                </a:rPr>
                <a:t>ω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27680" y="4546440"/>
              <a:ext cx="0" cy="12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4746600" y="3852360"/>
              <a:ext cx="1969920" cy="750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2616120" y="3852360"/>
              <a:ext cx="1019160" cy="750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622680" y="3855960"/>
              <a:ext cx="1135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5718240" y="3854520"/>
              <a:ext cx="1019160" cy="7502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724440" y="3857400"/>
              <a:ext cx="11350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818480" y="3852720"/>
              <a:ext cx="1325520" cy="5029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 flipV="1">
              <a:off x="1605960" y="3854520"/>
              <a:ext cx="1970280" cy="7502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0960" y="3857400"/>
              <a:ext cx="11350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8761320" y="4357080"/>
              <a:ext cx="307800" cy="247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0" y="3868200"/>
              <a:ext cx="479160" cy="3870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 flipV="1">
              <a:off x="0" y="4424400"/>
              <a:ext cx="434880" cy="167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69" name=""/>
            <p:cNvGraphicFramePr/>
            <p:nvPr/>
          </p:nvGraphicFramePr>
          <p:xfrm>
            <a:off x="4295520" y="3411360"/>
            <a:ext cx="1117800" cy="456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295520" y="3411360"/>
                      <a:ext cx="1117800" cy="45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1" name=""/>
            <p:cNvGraphicFramePr/>
            <p:nvPr/>
          </p:nvGraphicFramePr>
          <p:xfrm>
            <a:off x="7441920" y="3408480"/>
            <a:ext cx="1295640" cy="456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7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441920" y="3408480"/>
                      <a:ext cx="1295640" cy="45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73" name=""/>
          <p:cNvGraphicFramePr/>
          <p:nvPr/>
        </p:nvGraphicFramePr>
        <p:xfrm>
          <a:off x="5002200" y="1108080"/>
          <a:ext cx="4141800" cy="70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02200" y="1108080"/>
                    <a:ext cx="414180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"/>
          <p:cNvSpPr/>
          <p:nvPr/>
        </p:nvSpPr>
        <p:spPr>
          <a:xfrm>
            <a:off x="2643120" y="4780080"/>
            <a:ext cx="1176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d60093"/>
                </a:solidFill>
                <a:latin typeface="Times New Roman CE"/>
              </a:rPr>
              <a:t>alia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529240" y="4808520"/>
            <a:ext cx="1176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d60093"/>
                </a:solidFill>
                <a:latin typeface="Times New Roman CE"/>
              </a:rPr>
              <a:t>alia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965920" y="4509720"/>
            <a:ext cx="129960" cy="352440"/>
          </a:xfrm>
          <a:prstGeom prst="line">
            <a:avLst/>
          </a:prstGeom>
          <a:ln w="1260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819520" y="4500360"/>
            <a:ext cx="129960" cy="352440"/>
          </a:xfrm>
          <a:prstGeom prst="line">
            <a:avLst/>
          </a:prstGeom>
          <a:ln w="1260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3985-831B-47E6-B36D-F51B38C5A10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371240" y="615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cccc"/>
                </a:solidFill>
                <a:latin typeface="Times New Roman"/>
              </a:rPr>
              <a:t>Podotipkavanje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1173240" y="1058760"/>
            <a:ext cx="7711920" cy="579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97AE-ABB8-4EFC-AF71-A9727A24FB5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371240" y="615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cccc"/>
                </a:solidFill>
                <a:latin typeface="Times New Roman"/>
              </a:rPr>
              <a:t>Podotipkavanje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111320" y="1058760"/>
            <a:ext cx="7711920" cy="579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004F-27E2-42C5-8219-A5F55FB7CA9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Ekvivalencije kaskadnih spojev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46200" y="1763640"/>
            <a:ext cx="818820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složeni višetaktni sustavi grade se spajanjem komponenti za podotipkavanje i pretipkavanje te komponenti koje predstavljaju vremenski stalne digitalne filt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42960" y="3919680"/>
            <a:ext cx="8188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u mnogim primjenama koristi se kaskadni sp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44400" y="4678200"/>
            <a:ext cx="81885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zamjenom redoslijeda komponenti u kaskadnom spoju često se dolazi do numerički efikasnijih realiz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653B-1517-4F8C-9CEF-5EEE600E0BC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Ekvivalencije kaskadnih spojev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46200" y="1763640"/>
            <a:ext cx="81882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da bi se realizirala necjelobrojna promjena takta koristi se kaskada blokova za podotipkavanje i pretipkav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42960" y="3919680"/>
            <a:ext cx="8188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dva su moguća kaskadna spo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308960" y="4933800"/>
            <a:ext cx="4952880" cy="690840"/>
            <a:chOff x="1308960" y="4933800"/>
            <a:chExt cx="4952880" cy="690840"/>
          </a:xfrm>
        </p:grpSpPr>
        <p:sp>
          <p:nvSpPr>
            <p:cNvPr id="491" name=""/>
            <p:cNvSpPr/>
            <p:nvPr/>
          </p:nvSpPr>
          <p:spPr>
            <a:xfrm>
              <a:off x="2679840" y="4933800"/>
              <a:ext cx="761760" cy="685800"/>
            </a:xfrm>
            <a:prstGeom prst="rect">
              <a:avLst/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70000" y="5276880"/>
              <a:ext cx="60984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2844720" y="5086440"/>
              <a:ext cx="0" cy="3808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948400" y="5048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08960" y="5048280"/>
              <a:ext cx="67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32360" y="4938840"/>
              <a:ext cx="761760" cy="685800"/>
            </a:xfrm>
            <a:prstGeom prst="rect">
              <a:avLst/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422520" y="5281560"/>
              <a:ext cx="60984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807080" y="5281560"/>
              <a:ext cx="6094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197240" y="5091120"/>
              <a:ext cx="0" cy="3808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300560" y="50529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00080" y="504036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1310400" y="5992920"/>
            <a:ext cx="4952880" cy="690480"/>
            <a:chOff x="1310400" y="5992920"/>
            <a:chExt cx="4952880" cy="690480"/>
          </a:xfrm>
        </p:grpSpPr>
        <p:sp>
          <p:nvSpPr>
            <p:cNvPr id="503" name=""/>
            <p:cNvSpPr/>
            <p:nvPr/>
          </p:nvSpPr>
          <p:spPr>
            <a:xfrm>
              <a:off x="2681280" y="5992920"/>
              <a:ext cx="762120" cy="685800"/>
            </a:xfrm>
            <a:prstGeom prst="rect">
              <a:avLst/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71800" y="6335640"/>
              <a:ext cx="6094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46520" y="6145200"/>
              <a:ext cx="0" cy="3808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949480" y="61070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310400" y="6107040"/>
              <a:ext cx="67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033800" y="5997600"/>
              <a:ext cx="762120" cy="685800"/>
            </a:xfrm>
            <a:prstGeom prst="rect">
              <a:avLst/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424320" y="6340320"/>
              <a:ext cx="6094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808520" y="6340320"/>
              <a:ext cx="6094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4199040" y="6149520"/>
              <a:ext cx="0" cy="38124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302360" y="6111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501520" y="60991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EF2B-2628-48A1-8AE2-91DD9023283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1244520" y="0"/>
            <a:ext cx="6913800" cy="6892920"/>
          </a:xfrm>
          <a:prstGeom prst="rect">
            <a:avLst/>
          </a:prstGeom>
          <a:ln w="0">
            <a:noFill/>
          </a:ln>
        </p:spPr>
      </p:pic>
      <p:grpSp>
        <p:nvGrpSpPr>
          <p:cNvPr id="515" name=""/>
          <p:cNvGrpSpPr/>
          <p:nvPr/>
        </p:nvGrpSpPr>
        <p:grpSpPr>
          <a:xfrm>
            <a:off x="361080" y="1924200"/>
            <a:ext cx="761760" cy="4644000"/>
            <a:chOff x="361080" y="1924200"/>
            <a:chExt cx="761760" cy="4644000"/>
          </a:xfrm>
        </p:grpSpPr>
        <p:sp>
          <p:nvSpPr>
            <p:cNvPr id="516" name=""/>
            <p:cNvSpPr/>
            <p:nvPr/>
          </p:nvSpPr>
          <p:spPr>
            <a:xfrm rot="5400000">
              <a:off x="353160" y="3165480"/>
              <a:ext cx="762120" cy="685800"/>
            </a:xfrm>
            <a:prstGeom prst="rect">
              <a:avLst/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3320" y="2519280"/>
              <a:ext cx="0" cy="60984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561960" y="3317760"/>
              <a:ext cx="0" cy="4093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9080" y="3286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94560" y="1924200"/>
              <a:ext cx="67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5400000">
              <a:off x="348480" y="4518000"/>
              <a:ext cx="762120" cy="685800"/>
            </a:xfrm>
            <a:prstGeom prst="rect">
              <a:avLst/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0080" y="3870360"/>
              <a:ext cx="0" cy="6094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0080" y="5254560"/>
              <a:ext cx="0" cy="60984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4680" y="4683240"/>
              <a:ext cx="0" cy="3808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55480" y="46087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61080" y="605808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8335080" y="1795320"/>
            <a:ext cx="761760" cy="4745880"/>
            <a:chOff x="8335080" y="1795320"/>
            <a:chExt cx="761760" cy="4745880"/>
          </a:xfrm>
        </p:grpSpPr>
        <p:sp>
          <p:nvSpPr>
            <p:cNvPr id="528" name=""/>
            <p:cNvSpPr/>
            <p:nvPr/>
          </p:nvSpPr>
          <p:spPr>
            <a:xfrm rot="5400000">
              <a:off x="8327520" y="3095640"/>
              <a:ext cx="762120" cy="685800"/>
            </a:xfrm>
            <a:prstGeom prst="rect">
              <a:avLst/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709120" y="2448000"/>
              <a:ext cx="0" cy="6094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494560" y="3260880"/>
              <a:ext cx="0" cy="3808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562960" y="3186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371440" y="1795320"/>
              <a:ext cx="67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5400000">
              <a:off x="8322840" y="4448160"/>
              <a:ext cx="762120" cy="685800"/>
            </a:xfrm>
            <a:prstGeom prst="rect">
              <a:avLst/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704440" y="3800520"/>
              <a:ext cx="0" cy="6094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704440" y="5184720"/>
              <a:ext cx="0" cy="6094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8547120" y="4641840"/>
              <a:ext cx="0" cy="3808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585640" y="4597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335080" y="603108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C2A-432E-4F3F-8541-0CA43B4D011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Ekvivalencije kaskadnih spojev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46200" y="1763640"/>
            <a:ext cx="81882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redoslijed bloka za podotipkavanje s faktorom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M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i bloka za pretipkavanjem s faktorom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L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u kaskadnom spoju je slobodan, dakle, vrije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2960" y="3919680"/>
            <a:ext cx="818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onda i samo onda ako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M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i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 L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nemaju zajednički faktor koje je cjelobrojan i veći od jed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3124080" y="3238560"/>
          <a:ext cx="23320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238560"/>
                    <a:ext cx="23320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F368-67A4-4F81-AD97-7BED2EE9506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Filtri u višetaktnoj obradbi signal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46200" y="1763640"/>
            <a:ext cx="818820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ako spektar kritično otipkanog signala zauzima cijelo Nyquist-ovo područje daljnja redukcija frekvencije otipkavanja nije moguća zbog pojave aliasin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040" y="3922560"/>
            <a:ext cx="818820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prema tome, frekvencijsko područje kritično otipkanog signala mora, prije podotipkavanja, biti reducirano niskopropusnim digitalnim filt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23FA-20B9-4CAC-97CC-CE5695670E5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Filtri u višetaktnoj obradbi signal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6200" y="1763640"/>
            <a:ext cx="818820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isto tako uzorci vrijednosti nula generirani postupkom pretipkavanja trebaju biti interpolirani s odgovarajućim vrijednostima za primijenjeno povećanje frekvencije otipkava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62040" y="3922560"/>
            <a:ext cx="81882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pokazuje se da se ova interpolacija jednostavno postiže filtriranjem niskopropusnim digitalnim filt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00FF-96BC-47C7-B4E1-2BB2B11050D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2120" y="1627200"/>
            <a:ext cx="83818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operacija pretipkavanja realizira se umetanjem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L</a:t>
            </a:r>
            <a:r>
              <a:rPr b="0" lang="en-US" sz="3200" spc="-1" strike="noStrike">
                <a:solidFill>
                  <a:srgbClr val="ffff00"/>
                </a:solidFill>
                <a:latin typeface="Times New Roman CE"/>
              </a:rPr>
              <a:t>-1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jednoliko razmaknutih uzoraka vrijednosti nula između dva susjedna uzorka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x</a:t>
            </a:r>
            <a:r>
              <a:rPr b="0" lang="en-US" sz="32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imes New Roman CE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247680"/>
            <a:ext cx="78472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cccc"/>
                </a:solidFill>
                <a:latin typeface="Times New Roman"/>
              </a:rPr>
              <a:t>Pretipkavanj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4720" y="3719520"/>
            <a:ext cx="7620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ulazno izlazna rel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77920" y="4848120"/>
          <a:ext cx="6788160" cy="12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7920" y="4848120"/>
                    <a:ext cx="678816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AF07-DBC3-4A2F-B02B-009750F692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Zahtjevi na filtar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6200" y="1763640"/>
            <a:ext cx="818820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postupkom pretipkavanja periodički se ponavlja temeljni spektar signala i neželjene slike u spektru pretipkanog signala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x</a:t>
            </a:r>
            <a:r>
              <a:rPr b="0" i="1" lang="hr-HR" sz="3200" spc="-1" strike="noStrike" baseline="-25000">
                <a:solidFill>
                  <a:srgbClr val="ffff00"/>
                </a:solidFill>
                <a:latin typeface="Times New Roman CE"/>
              </a:rPr>
              <a:t>prt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]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trebaju biti uklonjene primjenom niskopropusnog filtra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H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(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z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)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– inetrpolacijskog filtra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4800" y="5997600"/>
            <a:ext cx="8188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gornji sustav se naziva interpo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1623240" y="4595760"/>
            <a:ext cx="5405400" cy="870120"/>
            <a:chOff x="1623240" y="4595760"/>
            <a:chExt cx="5405400" cy="870120"/>
          </a:xfrm>
        </p:grpSpPr>
        <p:sp>
          <p:nvSpPr>
            <p:cNvPr id="554" name=""/>
            <p:cNvSpPr/>
            <p:nvPr/>
          </p:nvSpPr>
          <p:spPr>
            <a:xfrm>
              <a:off x="2994120" y="4775400"/>
              <a:ext cx="761760" cy="685800"/>
            </a:xfrm>
            <a:prstGeom prst="rect">
              <a:avLst/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384280" y="5118120"/>
              <a:ext cx="60984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23240" y="4889520"/>
              <a:ext cx="67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46680" y="4780080"/>
              <a:ext cx="762120" cy="685800"/>
            </a:xfrm>
            <a:prstGeom prst="rect">
              <a:avLst/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751200" y="5122800"/>
              <a:ext cx="10890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621400" y="5122800"/>
              <a:ext cx="6094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3125880" y="4932000"/>
              <a:ext cx="0" cy="38124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311160" y="4881600"/>
              <a:ext cx="71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84840" y="4897440"/>
              <a:ext cx="72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46480" y="4896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42640" y="4595760"/>
              <a:ext cx="95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i="1" lang="hr-HR" sz="2400" spc="-1" strike="noStrike" baseline="-25000">
                  <a:solidFill>
                    <a:srgbClr val="ffffff"/>
                  </a:solidFill>
                  <a:latin typeface="Times New Roman"/>
                </a:rPr>
                <a:t>prt</a:t>
              </a: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6531-2A78-40DC-BF7B-C93024E04B6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Zahtjevi na filtar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04800" y="5997600"/>
            <a:ext cx="8188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gornji sustav se naziva decim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994120" y="5046840"/>
            <a:ext cx="761760" cy="685800"/>
          </a:xfrm>
          <a:prstGeom prst="rect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84280" y="5389560"/>
            <a:ext cx="60984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23240" y="516096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846680" y="5051520"/>
            <a:ext cx="762120" cy="685800"/>
          </a:xfrm>
          <a:prstGeom prst="rect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51200" y="5394240"/>
            <a:ext cx="10890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621400" y="5394240"/>
            <a:ext cx="6094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56200" y="5189400"/>
            <a:ext cx="0" cy="38124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311160" y="5153040"/>
            <a:ext cx="71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011400" y="5183280"/>
            <a:ext cx="72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133960" y="51530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646200" y="1677960"/>
            <a:ext cx="8188200" cy="2133720"/>
            <a:chOff x="646200" y="1677960"/>
            <a:chExt cx="8188200" cy="2133720"/>
          </a:xfrm>
        </p:grpSpPr>
        <p:sp>
          <p:nvSpPr>
            <p:cNvPr id="578" name=""/>
            <p:cNvSpPr/>
            <p:nvPr/>
          </p:nvSpPr>
          <p:spPr>
            <a:xfrm>
              <a:off x="646200" y="1677960"/>
              <a:ext cx="8188200" cy="20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cc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ff"/>
                  </a:solidFill>
                  <a:latin typeface="Times New Roman CE"/>
                </a:rPr>
                <a:t> </a:t>
              </a:r>
              <a:r>
                <a:rPr b="0" lang="hr-HR" sz="3200" spc="-1" strike="noStrike">
                  <a:solidFill>
                    <a:srgbClr val="ffffff"/>
                  </a:solidFill>
                  <a:latin typeface="Times New Roman CE"/>
                </a:rPr>
                <a:t>s druge strane, prije postupka podotipkavanja, ulazni signal treba frekvencijski primjenom niskopropusnog digitalnog filtra ograničiti na područj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79" name=""/>
            <p:cNvGraphicFramePr/>
            <p:nvPr/>
          </p:nvGraphicFramePr>
          <p:xfrm>
            <a:off x="2251080" y="3125880"/>
            <a:ext cx="188604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51080" y="3125880"/>
                      <a:ext cx="188604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81" name=""/>
          <p:cNvSpPr/>
          <p:nvPr/>
        </p:nvSpPr>
        <p:spPr>
          <a:xfrm>
            <a:off x="676440" y="3651120"/>
            <a:ext cx="818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tako primijenjeni niskopropusni filtar se tada naziva decimacijski filt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9A6E-B40C-47D4-B674-A6C60097002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Zahtjevi na interpolacijski filtar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04800" y="5997600"/>
            <a:ext cx="8188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T</a:t>
            </a:r>
            <a:r>
              <a:rPr b="0" lang="hr-HR" sz="3200" spc="-1" strike="noStrike" baseline="-25000">
                <a:solidFill>
                  <a:srgbClr val="ffff00"/>
                </a:solidFill>
                <a:latin typeface="Times New Roman CE"/>
              </a:rPr>
              <a:t>0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je period otipkava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6200" y="1677960"/>
            <a:ext cx="818820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pretpostavimo da je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x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]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rezultat otipkavanje vremenski kontinuiranog signala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x</a:t>
            </a:r>
            <a:r>
              <a:rPr b="0" i="1" lang="hr-HR" sz="3200" spc="-1" strike="noStrike" baseline="-25000">
                <a:solidFill>
                  <a:srgbClr val="ffff00"/>
                </a:solidFill>
                <a:latin typeface="Times New Roman CE"/>
              </a:rPr>
              <a:t>a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(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t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)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s maksimalnom frekvencijom otipkavanja koja zadovoljava teorem otipkava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76440" y="3651120"/>
            <a:ext cx="846756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neka su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X</a:t>
            </a:r>
            <a:r>
              <a:rPr b="0" i="1" lang="hr-HR" sz="2800" spc="-1" strike="noStrike" baseline="-25000">
                <a:solidFill>
                  <a:srgbClr val="ffff00"/>
                </a:solidFill>
                <a:latin typeface="Times New Roman CE"/>
              </a:rPr>
              <a:t>a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(j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)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i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X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(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e</a:t>
            </a:r>
            <a:r>
              <a:rPr b="0" i="1" lang="hr-HR" sz="2800" spc="-1" strike="noStrike" baseline="30000">
                <a:solidFill>
                  <a:srgbClr val="ffff00"/>
                </a:solidFill>
                <a:latin typeface="Times New Roman CE"/>
              </a:rPr>
              <a:t>j</a:t>
            </a:r>
            <a:r>
              <a:rPr b="0" i="1" lang="el-GR" sz="2800" spc="-1" strike="noStrike" baseline="30000">
                <a:solidFill>
                  <a:srgbClr val="ffff00"/>
                </a:solidFill>
                <a:latin typeface="Times New Roman CE"/>
              </a:rPr>
              <a:t>ω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)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Fourierove transformacije gornjih signala i možemo pisa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1682640" y="4613400"/>
          <a:ext cx="5591160" cy="130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2640" y="4613400"/>
                    <a:ext cx="559116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DD2F-1C90-4FD2-995B-692938E6F9E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Zahtjevi na interpolacijski filtar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6200" y="1320840"/>
            <a:ext cx="8188200" cy="20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budući je signal otipkan frekvencijom otipkavanja koja zadovoljava teorem opitpkvanja ne postoji preklapanje između pomaknutih spektara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X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(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j</a:t>
            </a:r>
            <a:r>
              <a:rPr b="0" i="1" lang="el-GR" sz="2800" spc="-1" strike="noStrike">
                <a:solidFill>
                  <a:srgbClr val="ffff00"/>
                </a:solidFill>
                <a:latin typeface="Times New Roman CE"/>
              </a:rPr>
              <a:t>ω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/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T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 CE"/>
              </a:rPr>
              <a:t>0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)</a:t>
            </a: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6440" y="3465360"/>
            <a:ext cx="8467560" cy="21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ako se signal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x</a:t>
            </a:r>
            <a:r>
              <a:rPr b="0" i="1" lang="hr-HR" sz="2800" spc="-1" strike="noStrike" baseline="-25000">
                <a:solidFill>
                  <a:srgbClr val="ffff00"/>
                </a:solidFill>
                <a:latin typeface="Times New Roman CE"/>
              </a:rPr>
              <a:t>a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(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t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)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otipka s puno višom frekvencijom otipkavanja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T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=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T</a:t>
            </a:r>
            <a:r>
              <a:rPr b="0" lang="hr-HR" sz="3200" spc="-1" strike="noStrike" baseline="-25000">
                <a:solidFill>
                  <a:srgbClr val="ffff00"/>
                </a:solidFill>
                <a:latin typeface="Times New Roman CE"/>
              </a:rPr>
              <a:t>0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/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L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dobivamo signal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y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]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čija Fourierova transformacija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Y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(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e</a:t>
            </a:r>
            <a:r>
              <a:rPr b="0" i="1" lang="hr-HR" sz="2800" spc="-1" strike="noStrike" baseline="30000">
                <a:solidFill>
                  <a:srgbClr val="ffff00"/>
                </a:solidFill>
                <a:latin typeface="Times New Roman CE"/>
              </a:rPr>
              <a:t>j</a:t>
            </a:r>
            <a:r>
              <a:rPr b="0" i="1" lang="el-GR" sz="2800" spc="-1" strike="noStrike" baseline="30000">
                <a:solidFill>
                  <a:srgbClr val="ffff00"/>
                </a:solidFill>
                <a:latin typeface="Times New Roman CE"/>
              </a:rPr>
              <a:t>ω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) </a:t>
            </a: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je vezana s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X</a:t>
            </a:r>
            <a:r>
              <a:rPr b="0" i="1" lang="hr-HR" sz="2800" spc="-1" strike="noStrike" baseline="-25000">
                <a:solidFill>
                  <a:srgbClr val="ffff00"/>
                </a:solidFill>
                <a:latin typeface="Times New Roman CE"/>
              </a:rPr>
              <a:t>a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(j</a:t>
            </a:r>
            <a:r>
              <a:rPr b="0" lang="el-GR" sz="2800" spc="-1" strike="noStrike">
                <a:solidFill>
                  <a:srgbClr val="ffff00"/>
                </a:solidFill>
                <a:latin typeface="Times New Roman CE"/>
              </a:rPr>
              <a:t>Ω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)</a:t>
            </a: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 na slijedeći nač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142920" y="5454720"/>
          <a:ext cx="8978760" cy="12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5454720"/>
                    <a:ext cx="897876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D424-4CCB-49BE-ABAA-5EC430C8E27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Zahtjevi na interpolacijski filtar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46200" y="1906560"/>
            <a:ext cx="818820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s druge strane ako se signal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x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]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pretipka s faktorom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L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generira se signal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x</a:t>
            </a:r>
            <a:r>
              <a:rPr b="0" i="1" lang="hr-HR" sz="3200" spc="-1" strike="noStrike" baseline="-25000">
                <a:solidFill>
                  <a:srgbClr val="ffff00"/>
                </a:solidFill>
                <a:latin typeface="Times New Roman CE"/>
              </a:rPr>
              <a:t>prt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]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pri čemu je odnos njihovih spektara dan 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6440" y="4637160"/>
            <a:ext cx="84675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iz toga slijedi kako će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x</a:t>
            </a:r>
            <a:r>
              <a:rPr b="0" i="1" lang="hr-HR" sz="3200" spc="-1" strike="noStrike" baseline="-25000">
                <a:solidFill>
                  <a:srgbClr val="ffff00"/>
                </a:solidFill>
                <a:latin typeface="Times New Roman CE"/>
              </a:rPr>
              <a:t>prt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]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propušten kroz idealni niskopropusni filtar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H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(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z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)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s graničnom frekvencijom na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 </a:t>
            </a:r>
            <a:r>
              <a:rPr b="0" lang="el-GR" sz="3200" spc="-1" strike="noStrike">
                <a:solidFill>
                  <a:srgbClr val="ffff00"/>
                </a:solidFill>
                <a:latin typeface="Times New Roman CE"/>
              </a:rPr>
              <a:t>π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/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L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i pojačanjem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L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biti identičan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y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3098880" y="3681360"/>
          <a:ext cx="310968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8880" y="3681360"/>
                    <a:ext cx="31096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A99-D579-4EE4-ABB6-E9025463AC7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Zahtjevi na interpolacijski filtar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46200" y="1906560"/>
            <a:ext cx="81882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uporabom realnih filtara </a:t>
            </a: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(tako osiguravamo ostvarivost i stabilnost)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, potrebno je uzeti u obzir prijelazno područje fil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76440" y="3664080"/>
            <a:ext cx="846756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željeni niskopropusni filtar treba stoga imati graničnu frekvenciju pojasa gušenja </a:t>
            </a:r>
            <a:r>
              <a:rPr b="0" i="1" lang="el-GR" sz="2800" spc="-1" strike="noStrike">
                <a:solidFill>
                  <a:srgbClr val="ffff00"/>
                </a:solidFill>
                <a:latin typeface="Times New Roman CE"/>
              </a:rPr>
              <a:t>ω</a:t>
            </a:r>
            <a:r>
              <a:rPr b="0" i="1" lang="hr-HR" sz="2800" spc="-1" strike="noStrike" baseline="-25000">
                <a:solidFill>
                  <a:srgbClr val="ffff00"/>
                </a:solidFill>
                <a:latin typeface="Times New Roman CE"/>
              </a:rPr>
              <a:t>s</a:t>
            </a: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=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 </a:t>
            </a:r>
            <a:r>
              <a:rPr b="0" lang="el-GR" sz="2800" spc="-1" strike="noStrike">
                <a:solidFill>
                  <a:srgbClr val="ffff00"/>
                </a:solidFill>
                <a:latin typeface="Times New Roman CE"/>
              </a:rPr>
              <a:t>π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/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L</a:t>
            </a: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i graničnu frekvenciju pojasa propuštanja </a:t>
            </a:r>
            <a:r>
              <a:rPr b="0" i="1" lang="el-GR" sz="2800" spc="-1" strike="noStrike">
                <a:solidFill>
                  <a:srgbClr val="ffff00"/>
                </a:solidFill>
                <a:latin typeface="Times New Roman CE"/>
              </a:rPr>
              <a:t>ω</a:t>
            </a:r>
            <a:r>
              <a:rPr b="0" i="1" lang="hr-HR" sz="2800" spc="-1" strike="noStrike" baseline="-25000">
                <a:solidFill>
                  <a:srgbClr val="ffff00"/>
                </a:solidFill>
                <a:latin typeface="Times New Roman CE"/>
              </a:rPr>
              <a:t>p</a:t>
            </a: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što je moguće bližu </a:t>
            </a:r>
            <a:r>
              <a:rPr b="0" i="1" lang="el-GR" sz="2800" spc="-1" strike="noStrike">
                <a:solidFill>
                  <a:srgbClr val="ffff00"/>
                </a:solidFill>
                <a:latin typeface="Times New Roman CE"/>
              </a:rPr>
              <a:t>ω</a:t>
            </a:r>
            <a:r>
              <a:rPr b="0" i="1" lang="hr-HR" sz="2800" spc="-1" strike="noStrike" baseline="-25000">
                <a:solidFill>
                  <a:srgbClr val="ffff00"/>
                </a:solidFill>
                <a:latin typeface="Times New Roman CE"/>
              </a:rPr>
              <a:t>s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kako bi se reducirala distorzija spektra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x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D0F7-81A7-4596-B770-4A1FE7C4FDF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Zahtjevi na interpolacijski filtar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46200" y="1906560"/>
            <a:ext cx="818820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ako je </a:t>
            </a:r>
            <a:r>
              <a:rPr b="0" i="1" lang="el-GR" sz="2800" spc="-1" strike="noStrike">
                <a:solidFill>
                  <a:srgbClr val="ffff00"/>
                </a:solidFill>
                <a:latin typeface="Times New Roman CE"/>
              </a:rPr>
              <a:t>ω</a:t>
            </a:r>
            <a:r>
              <a:rPr b="0" i="1" lang="hr-HR" sz="2800" spc="-1" strike="noStrike" baseline="-25000">
                <a:solidFill>
                  <a:srgbClr val="ffff00"/>
                </a:solidFill>
                <a:latin typeface="Times New Roman CE"/>
              </a:rPr>
              <a:t>c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najviša frekvencija u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x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]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koja treba biti očuvana tada 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6440" y="3664080"/>
            <a:ext cx="8467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zaključno: specifikacije na niskopropusni interpolacijski filtar su prema t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3722760" y="3014640"/>
          <a:ext cx="177624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2760" y="3014640"/>
                    <a:ext cx="177624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6" name=""/>
          <p:cNvGraphicFramePr/>
          <p:nvPr/>
        </p:nvGraphicFramePr>
        <p:xfrm>
          <a:off x="2131920" y="5148360"/>
          <a:ext cx="4662720" cy="126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1920" y="5148360"/>
                    <a:ext cx="466272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2317-0739-4B0B-9347-26BD463A158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Zahtjevi na decimacijski filtar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6200" y="1778040"/>
            <a:ext cx="818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na sličan način definiraju se specifikacije za niskopropusni decimacijski filt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2098800" y="3154320"/>
          <a:ext cx="4757760" cy="12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8800" y="3154320"/>
                    <a:ext cx="475776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2" name=""/>
          <p:cNvSpPr/>
          <p:nvPr/>
        </p:nvSpPr>
        <p:spPr>
          <a:xfrm>
            <a:off x="647640" y="4765680"/>
            <a:ext cx="81885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niskopropusni decimacijski i interpolacijski filtri mogu biti IIR ili FIR filtri i projektiraju su uobičajenim postupc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52FC-3E30-4192-B3CD-CDFA7B0BF16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Filtri za necjelobrojnu promjenu takt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46200" y="1778040"/>
            <a:ext cx="818820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necjelobrojna promjena takta postiže se kaskadnim spojem decimatora za faktor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 M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i interpolatora za faktor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L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, pri čemu su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i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L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cijeli brojev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92280" y="4097160"/>
            <a:ext cx="81882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ovakva kaskada ekvivalentna je decimatoru s </a:t>
            </a: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decimacijskim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faktorom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M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/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L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ili interpolatoru s interpolacijskim faktorom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L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/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F1D-21A7-450A-9A05-EA5FB6AE375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Filtri za necjelobrojnu promjenu takt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60240" y="1763640"/>
            <a:ext cx="8188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dva su moguća kaskadna spo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1784520" y="2449440"/>
            <a:ext cx="6065640" cy="695520"/>
            <a:chOff x="1784520" y="2449440"/>
            <a:chExt cx="6065640" cy="695520"/>
          </a:xfrm>
        </p:grpSpPr>
        <p:sp>
          <p:nvSpPr>
            <p:cNvPr id="619" name=""/>
            <p:cNvSpPr/>
            <p:nvPr/>
          </p:nvSpPr>
          <p:spPr>
            <a:xfrm>
              <a:off x="2394000" y="2449440"/>
              <a:ext cx="762120" cy="685800"/>
            </a:xfrm>
            <a:prstGeom prst="rect">
              <a:avLst/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84520" y="2792520"/>
              <a:ext cx="6094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349720" y="2563920"/>
              <a:ext cx="81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hr-HR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46520" y="2454120"/>
              <a:ext cx="762120" cy="685800"/>
            </a:xfrm>
            <a:prstGeom prst="rect">
              <a:avLst/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137040" y="2797200"/>
              <a:ext cx="6094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911760" y="2606760"/>
              <a:ext cx="0" cy="3808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014720" y="2568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113440" y="2454120"/>
              <a:ext cx="761760" cy="685800"/>
            </a:xfrm>
            <a:prstGeom prst="rect">
              <a:avLst/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03600" y="2797200"/>
              <a:ext cx="60984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65960" y="2459160"/>
              <a:ext cx="761760" cy="685800"/>
            </a:xfrm>
            <a:prstGeom prst="rect">
              <a:avLst/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56120" y="2801880"/>
              <a:ext cx="60984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240680" y="2801880"/>
              <a:ext cx="6094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5245200" y="2611440"/>
              <a:ext cx="0" cy="3808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436800" y="2576520"/>
              <a:ext cx="772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hr-HR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65800" y="2575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1771560" y="3470400"/>
            <a:ext cx="6066000" cy="694800"/>
            <a:chOff x="1771560" y="3470400"/>
            <a:chExt cx="6066000" cy="694800"/>
          </a:xfrm>
        </p:grpSpPr>
        <p:sp>
          <p:nvSpPr>
            <p:cNvPr id="635" name=""/>
            <p:cNvSpPr/>
            <p:nvPr/>
          </p:nvSpPr>
          <p:spPr>
            <a:xfrm>
              <a:off x="5110200" y="3479760"/>
              <a:ext cx="762120" cy="685440"/>
            </a:xfrm>
            <a:prstGeom prst="rect">
              <a:avLst/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71560" y="3808440"/>
              <a:ext cx="60984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65920" y="3593880"/>
              <a:ext cx="81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hr-HR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48320" y="3470400"/>
              <a:ext cx="762120" cy="685440"/>
            </a:xfrm>
            <a:prstGeom prst="rect">
              <a:avLst/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124080" y="3813120"/>
              <a:ext cx="60984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613560" y="3622680"/>
              <a:ext cx="0" cy="3805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716520" y="35845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386080" y="3470400"/>
              <a:ext cx="761760" cy="685440"/>
            </a:xfrm>
            <a:prstGeom prst="rect">
              <a:avLst/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91000" y="3813120"/>
              <a:ext cx="6094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724200" y="3475080"/>
              <a:ext cx="762120" cy="685440"/>
            </a:xfrm>
            <a:prstGeom prst="rect">
              <a:avLst/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43520" y="3817800"/>
              <a:ext cx="60984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227720" y="3817800"/>
              <a:ext cx="60984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2532240" y="3627000"/>
              <a:ext cx="0" cy="3805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695400" y="3592440"/>
              <a:ext cx="772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hr-HR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652840" y="3591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676440" y="4280040"/>
            <a:ext cx="818820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drugi spoj je efikasniji u realizaciji jer je dovoljan samo jedan od filtara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H</a:t>
            </a:r>
            <a:r>
              <a:rPr b="0" i="1" lang="hr-HR" sz="3200" spc="-1" strike="noStrike" baseline="-25000">
                <a:solidFill>
                  <a:srgbClr val="ffff00"/>
                </a:solidFill>
                <a:latin typeface="Times New Roman CE"/>
              </a:rPr>
              <a:t>i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(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z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)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ili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H</a:t>
            </a:r>
            <a:r>
              <a:rPr b="0" i="1" lang="hr-HR" sz="2800" spc="-1" strike="noStrike" baseline="-25000">
                <a:solidFill>
                  <a:srgbClr val="ffff00"/>
                </a:solidFill>
                <a:latin typeface="Times New Roman CE"/>
              </a:rPr>
              <a:t>d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(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z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)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koji može poslužiti i kao interpolacijski i decimacijski filt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2EED-EFE9-412C-8003-DA7E4F4B72B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2120" y="1498680"/>
            <a:ext cx="7619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primjer pretipkavanje sinusnog niza frekvencije 0.12 Hz za faktor 3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247680"/>
            <a:ext cx="78472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cccc"/>
                </a:solidFill>
                <a:latin typeface="Times New Roman"/>
              </a:rPr>
              <a:t>Pretipkavanj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911240" y="2617920"/>
            <a:ext cx="5316480" cy="399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5A71-9E82-48B3-99FE-A41A885653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Filtri za necjelobrojnu promjenu takt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60240" y="1763640"/>
            <a:ext cx="8188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željena konfiguracija za necjelobrojnu promjenu takta je prema t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771560" y="3622680"/>
            <a:ext cx="60984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091120" y="3284640"/>
            <a:ext cx="762120" cy="685800"/>
          </a:xfrm>
          <a:prstGeom prst="rect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124080" y="3627360"/>
            <a:ext cx="60984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256360" y="3436920"/>
            <a:ext cx="0" cy="38088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359320" y="33987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386080" y="3284640"/>
            <a:ext cx="761760" cy="685800"/>
          </a:xfrm>
          <a:prstGeom prst="rect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24200" y="3289320"/>
            <a:ext cx="762120" cy="685800"/>
          </a:xfrm>
          <a:prstGeom prst="rect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486320" y="3632040"/>
            <a:ext cx="6094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70520" y="3632040"/>
            <a:ext cx="6094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2532240" y="3441240"/>
            <a:ext cx="0" cy="38124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94320" y="3406680"/>
            <a:ext cx="76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hr-HR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652840" y="34052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76440" y="4280040"/>
            <a:ext cx="81882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pri čemu je granična frekvencija pojasa gušenja niskopropusnog filtra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H</a:t>
            </a:r>
            <a:r>
              <a:rPr b="0" i="1" lang="hr-HR" sz="3200" spc="-1" strike="noStrike" baseline="-25000">
                <a:solidFill>
                  <a:srgbClr val="ffff00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(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z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)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dana 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2986200" y="5499000"/>
          <a:ext cx="282240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6200" y="5499000"/>
                    <a:ext cx="28224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8C7C-2976-498D-AC39-B6D3FDBA042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Zahtjevi na broj operacij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60240" y="1763640"/>
            <a:ext cx="8188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već je kazano decimacijski ili interpolacijski filtri mogu biti realizirani ili kao FIR ili IIR filt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62040" y="2908440"/>
            <a:ext cx="818820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u slučaju jednotaktne obradbe signala IIR filtri su u principu pogodniji od FIR filtara u pogledu broja potrebnih operacija pa time i efikasniji u primje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63480" y="4967280"/>
            <a:ext cx="8188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tomu nije tako u slučaju višetaktne obrade signa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1A46-9B40-4E84-B7AF-83893E6E76F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Zahtjevi na broj operacij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60240" y="1763640"/>
            <a:ext cx="8188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razmotrimo decimator za faktor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62040" y="4222800"/>
            <a:ext cx="818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ako je decimacijski filtar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H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(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z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)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FIR filtar duljine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u direktnoj realizaciji tada vrije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222720" y="2978280"/>
            <a:ext cx="761760" cy="685800"/>
          </a:xfrm>
          <a:prstGeom prst="rect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612880" y="3321000"/>
            <a:ext cx="60984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32440" y="3092400"/>
            <a:ext cx="76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hr-HR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575240" y="2982960"/>
            <a:ext cx="761760" cy="685800"/>
          </a:xfrm>
          <a:prstGeom prst="rect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965400" y="3325680"/>
            <a:ext cx="60984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740120" y="3135240"/>
            <a:ext cx="0" cy="38124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843440" y="3097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32320" y="3340080"/>
            <a:ext cx="60984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451960" y="27464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944160" y="27590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539680" y="27432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2654280" y="5499000"/>
          <a:ext cx="348768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4280" y="5499000"/>
                    <a:ext cx="348768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774B-D889-43A9-A530-7783D59874E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Zahtjevi na broj operacij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60240" y="1763640"/>
            <a:ext cx="818856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kako blok za podotipkavanje zadržava samo svaki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– ti  uzorak dovoljno je u izračunavanju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v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]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izračunavati samo uzorke od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koji su višekratnici od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dok se izračunavanja za preostale uzorke mogu jednostavno preskoči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62040" y="4694400"/>
            <a:ext cx="818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ovo vodi za uštedama u izračunavanju za faktor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5234-6F9E-489E-9B98-36D3BE13516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Zahtjevi na broj operacij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60240" y="1763640"/>
            <a:ext cx="8188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neka je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 CE"/>
              </a:rPr>
              <a:t>H</a:t>
            </a:r>
            <a:r>
              <a:rPr b="0" lang="en-US" sz="2800" spc="-1" strike="noStrike">
                <a:solidFill>
                  <a:srgbClr val="ffff00"/>
                </a:solidFill>
                <a:latin typeface="Times New Roman CE"/>
              </a:rPr>
              <a:t>(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 CE"/>
              </a:rPr>
              <a:t>z</a:t>
            </a:r>
            <a:r>
              <a:rPr b="0" lang="en-US" sz="2800" spc="-1" strike="noStrike">
                <a:solidFill>
                  <a:srgbClr val="ffff00"/>
                </a:solidFill>
                <a:latin typeface="Times New Roman CE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IIR filtar reda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 CE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s prijenosnom funkcij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62040" y="3894120"/>
            <a:ext cx="8188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gdje s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3098880" y="2727360"/>
          <a:ext cx="3267000" cy="10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8880" y="2727360"/>
                    <a:ext cx="326700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6" name=""/>
          <p:cNvGraphicFramePr/>
          <p:nvPr/>
        </p:nvGraphicFramePr>
        <p:xfrm>
          <a:off x="3438360" y="4276800"/>
          <a:ext cx="2409840" cy="10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8360" y="4276800"/>
                    <a:ext cx="24098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8" name=""/>
          <p:cNvGraphicFramePr/>
          <p:nvPr/>
        </p:nvGraphicFramePr>
        <p:xfrm>
          <a:off x="3359160" y="5564160"/>
          <a:ext cx="2884320" cy="107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9160" y="5564160"/>
                    <a:ext cx="28843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478-B38F-4679-948C-3500020CF41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Zahtjevi na broj operacij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60240" y="1763640"/>
            <a:ext cx="8188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direktna realizacija ovog filtra opisuje se 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62040" y="4237200"/>
            <a:ext cx="81882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kako se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v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]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podotipkava s faktorom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dovoljno je izračunavati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v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]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samo za vrijednosti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koje su cjelobrojni višekratnik od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1512720" y="2395440"/>
          <a:ext cx="6438960" cy="17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2720" y="2395440"/>
                    <a:ext cx="643896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3FC8-028C-4BB8-A745-29A94B52FC4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Zahtjevi na broj operacij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60240" y="1635120"/>
            <a:ext cx="8188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međutim, varijable stanje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w</a:t>
            </a:r>
            <a:r>
              <a:rPr b="0" lang="en-US" sz="32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imes New Roman CE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moraju biti izračunavane za svaki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60520" y="5303880"/>
            <a:ext cx="818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sukladno tome ušteda u broju operacija će svakako biti manja od faktora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1133640" y="3436920"/>
          <a:ext cx="719928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3640" y="3436920"/>
                    <a:ext cx="71992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0" name=""/>
          <p:cNvSpPr/>
          <p:nvPr/>
        </p:nvSpPr>
        <p:spPr>
          <a:xfrm>
            <a:off x="662040" y="2665440"/>
            <a:ext cx="8188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tako, na primjer, u izračunavanj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63480" y="4081320"/>
            <a:ext cx="848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još uvijek je nužno izračunati svih K+1vrijednosti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w</a:t>
            </a:r>
            <a:r>
              <a:rPr b="0" lang="en-US" sz="32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imes New Roman CE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22A5-0D43-4829-A19A-2560EF91E57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Zahtjevi na broj operacij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60240" y="1635120"/>
            <a:ext cx="81885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primjer – kompariramo broj računskih operacija za različite realizacije decimatora za faktor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60520" y="4132440"/>
            <a:ext cx="818820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uspoređujemo broj množenja po sekundi,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R</a:t>
            </a:r>
            <a:r>
              <a:rPr b="0" i="1" lang="hr-HR" sz="2800" spc="-1" strike="noStrike" baseline="-25000">
                <a:solidFill>
                  <a:srgbClr val="ffff00"/>
                </a:solidFill>
                <a:latin typeface="Times New Roman CE"/>
              </a:rPr>
              <a:t>M</a:t>
            </a: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, za različite načine izvedbe algoritma decimira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3360" y="3362400"/>
            <a:ext cx="8188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neka je frekvencija otipkavanja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F</a:t>
            </a:r>
            <a:r>
              <a:rPr b="0" i="1" lang="hr-HR" sz="3200" spc="-1" strike="noStrike" baseline="-25000">
                <a:solidFill>
                  <a:srgbClr val="ffff00"/>
                </a:solidFill>
                <a:latin typeface="Times New Roman CE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D96B-658E-4C5A-BE73-BC317ED1752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Zahtjevi na broj operacij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60240" y="1635120"/>
            <a:ext cx="8188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FIR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H</a:t>
            </a:r>
            <a:r>
              <a:rPr b="0" lang="en-US" sz="3200" spc="-1" strike="noStrike">
                <a:solidFill>
                  <a:srgbClr val="ffff00"/>
                </a:solidFill>
                <a:latin typeface="Times New Roman CE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z</a:t>
            </a:r>
            <a:r>
              <a:rPr b="0" lang="en-US" sz="3200" spc="-1" strike="noStrike">
                <a:solidFill>
                  <a:srgbClr val="ffff00"/>
                </a:solidFill>
                <a:latin typeface="Times New Roman CE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duljine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4629240" y="1665360"/>
          <a:ext cx="244296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9240" y="1665360"/>
                    <a:ext cx="244296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0" name=""/>
          <p:cNvGrpSpPr/>
          <p:nvPr/>
        </p:nvGrpSpPr>
        <p:grpSpPr>
          <a:xfrm>
            <a:off x="676440" y="2394000"/>
            <a:ext cx="8188200" cy="1143000"/>
            <a:chOff x="676440" y="2394000"/>
            <a:chExt cx="8188200" cy="1143000"/>
          </a:xfrm>
        </p:grpSpPr>
        <p:sp>
          <p:nvSpPr>
            <p:cNvPr id="721" name=""/>
            <p:cNvSpPr/>
            <p:nvPr/>
          </p:nvSpPr>
          <p:spPr>
            <a:xfrm>
              <a:off x="676440" y="2394000"/>
              <a:ext cx="8188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cc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ff"/>
                  </a:solidFill>
                  <a:latin typeface="Times New Roman CE"/>
                </a:rPr>
                <a:t> </a:t>
              </a:r>
              <a:r>
                <a:rPr b="0" lang="hr-HR" sz="3200" spc="-1" strike="noStrike">
                  <a:solidFill>
                    <a:srgbClr val="ffffff"/>
                  </a:solidFill>
                  <a:latin typeface="Times New Roman CE"/>
                </a:rPr>
                <a:t>FIR </a:t>
              </a:r>
              <a:r>
                <a:rPr b="0" i="1" lang="hr-HR" sz="3200" spc="-1" strike="noStrike">
                  <a:solidFill>
                    <a:srgbClr val="ffff00"/>
                  </a:solidFill>
                  <a:latin typeface="Times New Roman CE"/>
                </a:rPr>
                <a:t>H</a:t>
              </a:r>
              <a:r>
                <a:rPr b="0" lang="hr-HR" sz="3200" spc="-1" strike="noStrike">
                  <a:solidFill>
                    <a:srgbClr val="ffff00"/>
                  </a:solidFill>
                  <a:latin typeface="Times New Roman CE"/>
                </a:rPr>
                <a:t>(</a:t>
              </a:r>
              <a:r>
                <a:rPr b="0" i="1" lang="hr-HR" sz="3200" spc="-1" strike="noStrike">
                  <a:solidFill>
                    <a:srgbClr val="ffff00"/>
                  </a:solidFill>
                  <a:latin typeface="Times New Roman CE"/>
                </a:rPr>
                <a:t>z</a:t>
              </a:r>
              <a:r>
                <a:rPr b="0" lang="hr-HR" sz="3200" spc="-1" strike="noStrike">
                  <a:solidFill>
                    <a:srgbClr val="ffff00"/>
                  </a:solidFill>
                  <a:latin typeface="Times New Roman CE"/>
                </a:rPr>
                <a:t>)</a:t>
              </a:r>
              <a:r>
                <a:rPr b="0" lang="hr-HR" sz="3200" spc="-1" strike="noStrike">
                  <a:solidFill>
                    <a:srgbClr val="ffffff"/>
                  </a:solidFill>
                  <a:latin typeface="Times New Roman CE"/>
                </a:rPr>
                <a:t> duljine </a:t>
              </a:r>
              <a:r>
                <a:rPr b="0" i="1" lang="hr-HR" sz="3200" spc="-1" strike="noStrike">
                  <a:solidFill>
                    <a:srgbClr val="ffff00"/>
                  </a:solidFill>
                  <a:latin typeface="Times New Roman CE"/>
                </a:rPr>
                <a:t>N </a:t>
              </a:r>
              <a:r>
                <a:rPr b="0" lang="hr-HR" sz="3200" spc="-1" strike="noStrike">
                  <a:solidFill>
                    <a:srgbClr val="ffffff"/>
                  </a:solidFill>
                  <a:latin typeface="Times New Roman CE"/>
                </a:rPr>
                <a:t>u kaskadi s blokom za podotipkavanje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722" name=""/>
            <p:cNvGraphicFramePr/>
            <p:nvPr/>
          </p:nvGraphicFramePr>
          <p:xfrm>
            <a:off x="3506760" y="2935080"/>
            <a:ext cx="3713040" cy="601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06760" y="2935080"/>
                      <a:ext cx="3713040" cy="60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24" name=""/>
          <p:cNvGrpSpPr/>
          <p:nvPr/>
        </p:nvGrpSpPr>
        <p:grpSpPr>
          <a:xfrm>
            <a:off x="658800" y="3651120"/>
            <a:ext cx="8188200" cy="646200"/>
            <a:chOff x="658800" y="3651120"/>
            <a:chExt cx="8188200" cy="646200"/>
          </a:xfrm>
        </p:grpSpPr>
        <p:sp>
          <p:nvSpPr>
            <p:cNvPr id="725" name=""/>
            <p:cNvSpPr/>
            <p:nvPr/>
          </p:nvSpPr>
          <p:spPr>
            <a:xfrm>
              <a:off x="658800" y="3651120"/>
              <a:ext cx="8188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cc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 CE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 CE"/>
                </a:rPr>
                <a:t>IIR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Times New Roman CE"/>
                </a:rPr>
                <a:t>H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 CE"/>
                </a:rPr>
                <a:t>(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Times New Roman CE"/>
                </a:rPr>
                <a:t>z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 CE"/>
                </a:rPr>
                <a:t>)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 CE"/>
                </a:rPr>
                <a:t> reda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Times New Roman CE"/>
                </a:rPr>
                <a:t>K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 CE"/>
                </a:rPr>
                <a:t>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726" name=""/>
            <p:cNvGraphicFramePr/>
            <p:nvPr/>
          </p:nvGraphicFramePr>
          <p:xfrm>
            <a:off x="3944880" y="3695760"/>
            <a:ext cx="3300480" cy="601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44880" y="3695760"/>
                      <a:ext cx="3300480" cy="60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28" name=""/>
          <p:cNvGrpSpPr/>
          <p:nvPr/>
        </p:nvGrpSpPr>
        <p:grpSpPr>
          <a:xfrm>
            <a:off x="660240" y="4610160"/>
            <a:ext cx="8188560" cy="1790640"/>
            <a:chOff x="660240" y="4610160"/>
            <a:chExt cx="8188560" cy="1790640"/>
          </a:xfrm>
        </p:grpSpPr>
        <p:sp>
          <p:nvSpPr>
            <p:cNvPr id="729" name=""/>
            <p:cNvSpPr/>
            <p:nvPr/>
          </p:nvSpPr>
          <p:spPr>
            <a:xfrm>
              <a:off x="660240" y="4610160"/>
              <a:ext cx="81885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cc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ff"/>
                  </a:solidFill>
                  <a:latin typeface="Times New Roman CE"/>
                </a:rPr>
                <a:t> </a:t>
              </a:r>
              <a:r>
                <a:rPr b="0" lang="hr-HR" sz="3200" spc="-1" strike="noStrike">
                  <a:solidFill>
                    <a:srgbClr val="ffffff"/>
                  </a:solidFill>
                  <a:latin typeface="Times New Roman CE"/>
                </a:rPr>
                <a:t>IIR </a:t>
              </a:r>
              <a:r>
                <a:rPr b="0" i="1" lang="hr-HR" sz="3200" spc="-1" strike="noStrike">
                  <a:solidFill>
                    <a:srgbClr val="ffff00"/>
                  </a:solidFill>
                  <a:latin typeface="Times New Roman CE"/>
                </a:rPr>
                <a:t>H</a:t>
              </a:r>
              <a:r>
                <a:rPr b="0" lang="hr-HR" sz="3200" spc="-1" strike="noStrike">
                  <a:solidFill>
                    <a:srgbClr val="ffff00"/>
                  </a:solidFill>
                  <a:latin typeface="Times New Roman CE"/>
                </a:rPr>
                <a:t>(</a:t>
              </a:r>
              <a:r>
                <a:rPr b="0" i="1" lang="hr-HR" sz="3200" spc="-1" strike="noStrike">
                  <a:solidFill>
                    <a:srgbClr val="ffff00"/>
                  </a:solidFill>
                  <a:latin typeface="Times New Roman CE"/>
                </a:rPr>
                <a:t>z</a:t>
              </a:r>
              <a:r>
                <a:rPr b="0" lang="hr-HR" sz="3200" spc="-1" strike="noStrike">
                  <a:solidFill>
                    <a:srgbClr val="ffff00"/>
                  </a:solidFill>
                  <a:latin typeface="Times New Roman CE"/>
                </a:rPr>
                <a:t>)</a:t>
              </a:r>
              <a:r>
                <a:rPr b="0" lang="hr-HR" sz="3200" spc="-1" strike="noStrike">
                  <a:solidFill>
                    <a:srgbClr val="ffffff"/>
                  </a:solidFill>
                  <a:latin typeface="Times New Roman CE"/>
                </a:rPr>
                <a:t> reda </a:t>
              </a:r>
              <a:r>
                <a:rPr b="0" i="1" lang="hr-HR" sz="3200" spc="-1" strike="noStrike">
                  <a:solidFill>
                    <a:srgbClr val="ffff00"/>
                  </a:solidFill>
                  <a:latin typeface="Times New Roman CE"/>
                </a:rPr>
                <a:t>K</a:t>
              </a:r>
              <a:r>
                <a:rPr b="0" lang="hr-HR" sz="3200" spc="-1" strike="noStrike">
                  <a:solidFill>
                    <a:srgbClr val="ffffff"/>
                  </a:solidFill>
                  <a:latin typeface="Times New Roman CE"/>
                </a:rPr>
                <a:t> 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 CE"/>
                </a:rPr>
                <a:t>u kaskadi s blokom za podotipkavanje: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730" name=""/>
            <p:cNvGraphicFramePr/>
            <p:nvPr/>
          </p:nvGraphicFramePr>
          <p:xfrm>
            <a:off x="1716120" y="5799240"/>
            <a:ext cx="5711760" cy="601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3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716120" y="5799240"/>
                      <a:ext cx="5711760" cy="60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6662-C445-455F-AC2B-2B53A2C8B96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Zahtjevi na broj operacij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240" y="1635120"/>
            <a:ext cx="8188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u slučaju FIR filtara ušteda u broju množenja je faktor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6440" y="2851200"/>
            <a:ext cx="81882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u slučaju IIR filtara ušteda u broju množenja je za faktor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M</a:t>
            </a:r>
            <a:r>
              <a:rPr b="0" lang="en-US" sz="3200" spc="-1" strike="noStrike">
                <a:solidFill>
                  <a:srgbClr val="ffff00"/>
                </a:solidFill>
                <a:latin typeface="Times New Roman CE"/>
              </a:rPr>
              <a:t>(2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K+</a:t>
            </a:r>
            <a:r>
              <a:rPr b="0" lang="en-US" sz="3200" spc="-1" strike="noStrike">
                <a:solidFill>
                  <a:srgbClr val="ffff00"/>
                </a:solidFill>
                <a:latin typeface="Times New Roman CE"/>
              </a:rPr>
              <a:t>1)/[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M+</a:t>
            </a:r>
            <a:r>
              <a:rPr b="0" lang="en-US" sz="3200" spc="-1" strike="noStrike">
                <a:solidFill>
                  <a:srgbClr val="ffff00"/>
                </a:solidFill>
                <a:latin typeface="Times New Roman CE"/>
              </a:rPr>
              <a:t>1)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K+</a:t>
            </a:r>
            <a:r>
              <a:rPr b="0" lang="en-US" sz="3200" spc="-1" strike="noStrike">
                <a:solidFill>
                  <a:srgbClr val="ffff00"/>
                </a:solidFill>
                <a:latin typeface="Times New Roman CE"/>
              </a:rPr>
              <a:t>1]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što nije značajno za velike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60240" y="4610160"/>
            <a:ext cx="8188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za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M=</a:t>
            </a:r>
            <a:r>
              <a:rPr b="0" lang="en-US" sz="3200" spc="-1" strike="noStrike">
                <a:solidFill>
                  <a:srgbClr val="ffff00"/>
                </a:solidFill>
                <a:latin typeface="Times New Roman CE"/>
              </a:rPr>
              <a:t>10 </a:t>
            </a: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i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 CE"/>
              </a:rPr>
              <a:t>K=</a:t>
            </a:r>
            <a:r>
              <a:rPr b="0" lang="en-US" sz="2800" spc="-1" strike="noStrike">
                <a:solidFill>
                  <a:srgbClr val="ffff00"/>
                </a:solidFill>
                <a:latin typeface="Times New Roman CE"/>
              </a:rPr>
              <a:t>9</a:t>
            </a: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 ušteda je samo za faktor </a:t>
            </a:r>
            <a:r>
              <a:rPr b="0" lang="en-US" sz="2800" spc="-1" strike="noStrike">
                <a:solidFill>
                  <a:srgbClr val="ffff00"/>
                </a:solidFill>
                <a:latin typeface="Times New Roman CE"/>
              </a:rPr>
              <a:t>1,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62040" y="5425920"/>
            <a:ext cx="818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dakako, postoje izvjesni slučajevi kada će se primjena IIR filtara pokazati efikasnij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CC1E-DFF5-49AC-9580-9EB25178D0B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62120" y="2336760"/>
            <a:ext cx="761976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u praksi se, u postupku pretipkavanja, uzorci vrijednosti nula zamjenjuju s odgovarajućim uzorcima različitim od nule -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interpolacija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-  a što se postiže postupkom filtrira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247680"/>
            <a:ext cx="78472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cccc"/>
                </a:solidFill>
                <a:latin typeface="Times New Roman"/>
              </a:rPr>
              <a:t>Pretipkavanj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130B-66AA-4DA8-A36D-487036FD73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Zahtjevi na broj operacij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60240" y="1635120"/>
            <a:ext cx="8188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slična argumentacija vrijedi u razmatranju filtara za interpolacij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6440" y="2851200"/>
            <a:ext cx="818820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ako je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H</a:t>
            </a:r>
            <a:r>
              <a:rPr b="0" lang="en-US" sz="3200" spc="-1" strike="noStrike">
                <a:solidFill>
                  <a:srgbClr val="ffff00"/>
                </a:solidFill>
                <a:latin typeface="Times New Roman CE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z</a:t>
            </a:r>
            <a:r>
              <a:rPr b="0" lang="en-US" sz="3200" spc="-1" strike="noStrike">
                <a:solidFill>
                  <a:srgbClr val="ffff00"/>
                </a:solidFill>
                <a:latin typeface="Times New Roman CE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FIR interpolacijski filtar tada je ušteda u broju računskih operacija za faktor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( budući je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v</a:t>
            </a:r>
            <a:r>
              <a:rPr b="0" lang="en-US" sz="32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imes New Roman CE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ima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L-</a:t>
            </a:r>
            <a:r>
              <a:rPr b="0" lang="en-US" sz="3200" spc="-1" strike="noStrike">
                <a:solidFill>
                  <a:srgbClr val="ffff00"/>
                </a:solidFill>
                <a:latin typeface="Times New Roman CE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nula između uzoraka različitih od nul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62040" y="5425920"/>
            <a:ext cx="818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i ovdje se pokazuje da su za IIR filtre moguće uštede u broju operacije znatno m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DAD4-8116-4BA9-8C07-5BD6FA46911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Promjena takta korištenjem MATLAB-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60240" y="1978200"/>
            <a:ext cx="818856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funkcija </a:t>
            </a:r>
            <a:r>
              <a:rPr b="1" i="1" lang="hr-HR" sz="3600" spc="-1" strike="noStrike">
                <a:solidFill>
                  <a:srgbClr val="ffff00"/>
                </a:solidFill>
                <a:latin typeface="Times New Roman CE"/>
              </a:rPr>
              <a:t>decimate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koristi se </a:t>
            </a: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za redukciju frekvencije otipkavanja vektora ulaznog signala x za cjelobrojni faktor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76440" y="3508200"/>
            <a:ext cx="818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primjer programa za decimaciju niza za faktor 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7880" y="4809960"/>
            <a:ext cx="818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primjenjuje se oblik funk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y = decimate(x,M,'fir'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7A9F-76D2-4519-9485-32CB5B78B2F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Promjena takta korištenjem MATLAB-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93720" y="2011320"/>
            <a:ext cx="818820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ovaj oblik funkcije decimate podrazumije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podotipkavanje za faktor 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primjenu niskopropusnog FIR filtra  projektiranog uz pomoć MATLAB funkcije FIR1(30,1/M) – 30 uzoraka filtra i granična frekvencija 1/M koja ako nije drukčije naznačeno koristi </a:t>
            </a: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Hamming-ov otv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E3B3-F438-467C-9766-724836D6FD8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Promjena takta korištenjem MATLAB-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085760" y="1604880"/>
            <a:ext cx="6618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% Program Primjer_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% Ilustracija postupka decimaci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lf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M = input('Faktor decimacije = '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n = 0:99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x = sin(2*pi*0.043*n)+ sin(2*pi*0.031*n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y = decimate(x,M,'fir'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ubplot(2,1,1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em(n,x(1:100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title('Ulazni niz');ylabel('Amplituda'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ubplot(2,1,2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m = 0:(100/M)-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em(m,y(1:100/M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title('Izlazni niz nastao decimacijom za faktor M'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xlabel('Korak n');ylabel('Amplituda'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6462-77F1-4485-B445-0550B3BEEE4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Promjena takta korištenjem MATLAB-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1241280" y="1562040"/>
            <a:ext cx="6910560" cy="519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1FA1-C554-4D60-950E-2DED057E4F7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Promjena takta korištenjem MATLAB-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1370160" y="1604880"/>
            <a:ext cx="6913440" cy="519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12EB-3100-43EC-87D7-EE8F8780499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Promjena takta korištenjem MATLAB-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60240" y="1978200"/>
            <a:ext cx="818856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funkcija </a:t>
            </a:r>
            <a:r>
              <a:rPr b="1" i="1" lang="hr-HR" sz="3600" spc="-1" strike="noStrike">
                <a:solidFill>
                  <a:srgbClr val="ffff00"/>
                </a:solidFill>
                <a:latin typeface="Times New Roman CE"/>
              </a:rPr>
              <a:t>interp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koristi se </a:t>
            </a: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za povećanje frekvencije otipkavanja vektora ulaznog signala x za cjelobrojni faktor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6440" y="3508200"/>
            <a:ext cx="818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primjer programa za interpolaciju niza za faktor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 CE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BD1E-A7B3-4340-B5AF-7DE6CD4BC5E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1195560" y="1628640"/>
            <a:ext cx="6913440" cy="519912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/>
          <p:nvPr/>
        </p:nvSpPr>
        <p:spPr>
          <a:xfrm>
            <a:off x="762120" y="328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Promjena takta korištenjem MATLAB-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A2C0-E599-466D-B140-C683FE1F691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1212840" y="1576440"/>
            <a:ext cx="6913440" cy="519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A954-85C6-4F77-866B-ED6CAEDED54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Promjena takta korištenjem MATLAB-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60240" y="1978200"/>
            <a:ext cx="818856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funkcija </a:t>
            </a:r>
            <a:r>
              <a:rPr b="1" i="1" lang="hr-HR" sz="3600" spc="-1" strike="noStrike">
                <a:solidFill>
                  <a:srgbClr val="ffff00"/>
                </a:solidFill>
                <a:latin typeface="Times New Roman CE"/>
              </a:rPr>
              <a:t>resample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koristi se </a:t>
            </a: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za promjenu frekvencije otipkavanja vektora ulaznog signala x za faktor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L/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76440" y="3508200"/>
            <a:ext cx="818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kao filtar koristi se FIR filtar projektiran korištenje fir1 s Kaiserovim otvo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72C3-A1EE-488E-81B4-2A87A38D495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5280" y="247320"/>
            <a:ext cx="78472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cccc"/>
                </a:solidFill>
                <a:latin typeface="Times New Roman"/>
              </a:rPr>
              <a:t>Podotipkavanje </a:t>
            </a:r>
            <a:r>
              <a:rPr b="0" lang="hr-HR" sz="3600" spc="-1" strike="noStrike">
                <a:solidFill>
                  <a:srgbClr val="00cccc"/>
                </a:solidFill>
                <a:latin typeface="Times New Roman"/>
              </a:rPr>
              <a:t>(</a:t>
            </a:r>
            <a:r>
              <a:rPr b="0" i="1" lang="hr-HR" sz="3600" spc="-1" strike="noStrike">
                <a:solidFill>
                  <a:srgbClr val="00cccc"/>
                </a:solidFill>
                <a:latin typeface="Times New Roman"/>
              </a:rPr>
              <a:t>Down-Sampling</a:t>
            </a:r>
            <a:r>
              <a:rPr b="0" lang="hr-HR" sz="3600" spc="-1" strike="noStrike">
                <a:solidFill>
                  <a:srgbClr val="00cccc"/>
                </a:solidFill>
                <a:latin typeface="Times New Roman"/>
              </a:rPr>
              <a:t>)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3400" y="1781280"/>
            <a:ext cx="777240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pis u vremenskoj domen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dotipkavanjem, označenim s cjelobrojnim faktorom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generira se izlazni niz  čija je frekvencija otipkavanja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puta niža od frekvencije otipkavanja ulaznog signala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blok dijagram 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439000" y="5524560"/>
            <a:ext cx="3748320" cy="685800"/>
            <a:chOff x="2439000" y="5524560"/>
            <a:chExt cx="3748320" cy="685800"/>
          </a:xfrm>
        </p:grpSpPr>
        <p:sp>
          <p:nvSpPr>
            <p:cNvPr id="139" name=""/>
            <p:cNvSpPr/>
            <p:nvPr/>
          </p:nvSpPr>
          <p:spPr>
            <a:xfrm>
              <a:off x="3809880" y="5524560"/>
              <a:ext cx="762120" cy="685800"/>
            </a:xfrm>
            <a:prstGeom prst="rect">
              <a:avLst/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00400" y="5867280"/>
              <a:ext cx="6094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84600" y="5867280"/>
              <a:ext cx="60984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5120" y="5676840"/>
              <a:ext cx="0" cy="38124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78080" y="56386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39000" y="5638680"/>
              <a:ext cx="67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88400" y="5626080"/>
              <a:ext cx="89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i="1" lang="hr-HR" sz="2400" spc="-1" strike="noStrike" baseline="-25000">
                  <a:solidFill>
                    <a:srgbClr val="ffffff"/>
                  </a:solidFill>
                  <a:latin typeface="Times New Roman"/>
                </a:rPr>
                <a:t>pd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EFF2-5787-41A6-9AC6-C8CD0E89A4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Promjena takta korištenjem MATLAB-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1684440" y="1862280"/>
            <a:ext cx="6379920" cy="479736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98280" y="302580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 CE"/>
              </a:rPr>
              <a:t>L/M=5/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3150-DA62-4759-B356-3C0548816B9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762120" y="114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Promjena takta korištenjem MATLAB-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133640" y="1128600"/>
            <a:ext cx="58924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% Program_8 - Ilustracija promjene takta za faktor L/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clf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L = input('Faktor pretipkavanja = '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M = input('Faktor podotipkavanja = '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% Generiranje ulaznog ni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n=0:49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f=.025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arg=2*pi*f*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x=sawtooth(arg,.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% Genreriranje interpoliranog izlaznog ni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y = resample(x,L,M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% Prikaz ulaznog i izlaznog ni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subplot(2,1,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stem(n,x(1:50)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itle('Ulazni niz'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ylabel('Amplituda'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subplot(2,1,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m = 0:(50*L/M)-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stem(m,y(1:50*L/M));axis([0 50*L/M -1 1]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itle('Izlazni niz nastao promjenom takta za faktor L/M'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xlabel('Korak n'); ylabel('Amplituda'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B696-A7A2-4245-872F-A8E49F9E3FA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2120" y="2055960"/>
            <a:ext cx="761976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operacija podotipkavanja realizira se zadržavanjem svakog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-tog uzorka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x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]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te uklanjanjem preostalih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 CE"/>
              </a:rPr>
              <a:t>M</a:t>
            </a:r>
            <a:r>
              <a:rPr b="0" lang="hr-HR" sz="3200" spc="-1" strike="noStrike">
                <a:solidFill>
                  <a:srgbClr val="ffff00"/>
                </a:solidFill>
                <a:latin typeface="Times New Roman CE"/>
              </a:rPr>
              <a:t>-1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uzoraka između nji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247680"/>
            <a:ext cx="78472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Podotipkavanj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986200" y="5630760"/>
          <a:ext cx="253656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6200" y="5630760"/>
                    <a:ext cx="253656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774720" y="4448160"/>
            <a:ext cx="7620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ulazno izlazna rel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0580-DC49-4692-B8A4-269185F020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1498680"/>
            <a:ext cx="7619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 CE"/>
              </a:rPr>
              <a:t>primjer podotipkavanja sinusnog niza frekvencije 0.12 Hz za faktor 3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247680"/>
            <a:ext cx="78472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Podotipkavanj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13040" y="2712960"/>
            <a:ext cx="5316480" cy="399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B63F-EAE7-43D1-8D74-F3D8EAF280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4:56Z</dcterms:created>
  <dc:creator>ZESOI</dc:creator>
  <dc:description/>
  <dc:language>en-US</dc:language>
  <cp:lastModifiedBy>Tomislav Petkovic</cp:lastModifiedBy>
  <dcterms:modified xsi:type="dcterms:W3CDTF">2004-01-19T15:53:37Z</dcterms:modified>
  <cp:revision>68</cp:revision>
  <dc:subject>Digitalna obradba signala</dc:subject>
  <dc:title>Višetaktna digitalna obradba signala</dc:title>
</cp:coreProperties>
</file>