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036-3AE1-4C16-9254-EF709352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063-C5CA-4101-9351-0B2702BA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63B-3773-4078-8EEE-EE8B2283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919-4AAB-4FD9-83F2-742970E7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A9D-4302-4C65-821D-D5837D8E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FCA-7DBE-4473-8795-C97498E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643-8970-43ED-8D61-2B8254DA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C99-5744-4A88-A789-18853A49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9B8-5A19-4552-9B52-419E5B95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B54-A979-4ADD-A821-44391FC9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3E6-972C-47AE-BEDC-51A1748F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635-B5C3-4B64-B381-AA049BED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r-H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r-H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FEACD3-CA2C-47E0-B8C1-9CE819225547}" type="slidenum">
              <a:rPr b="0" lang="hr-H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dfca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dfc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dfc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dfc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306360"/>
            <a:ext cx="838080" cy="988920"/>
            <a:chOff x="304920" y="306360"/>
            <a:chExt cx="838080" cy="988920"/>
          </a:xfrm>
        </p:grpSpPr>
        <p:sp>
          <p:nvSpPr>
            <p:cNvPr id="6" name=""/>
            <p:cNvSpPr txBox="1"/>
            <p:nvPr/>
          </p:nvSpPr>
          <p:spPr>
            <a:xfrm>
              <a:off x="304920" y="380880"/>
              <a:ext cx="8190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f48ff"/>
                    </a:solidFill>
                    <a:miter/>
                  </a:ln>
                  <a:gradFill rotWithShape="0">
                    <a:gsLst>
                      <a:gs pos="0">
                        <a:srgbClr val="000074"/>
                      </a:gs>
                      <a:gs pos="100000">
                        <a:srgbClr val="1d53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0f48ff">
                        <a:alpha val="50000"/>
                      </a:srgbClr>
                    </a:outerShdw>
                  </a:effectLst>
                  <a:latin typeface="Impact"/>
                </a:rPr>
                <a:t>SiS</a:t>
              </a:r>
              <a:endParaRPr b="0" lang="en-US" sz="2400" spc="1" strike="noStrike">
                <a:ln w="9360">
                  <a:solidFill>
                    <a:srgbClr val="0f48ff"/>
                  </a:solidFill>
                  <a:miter/>
                </a:ln>
                <a:gradFill rotWithShape="0">
                  <a:gsLst>
                    <a:gs pos="0">
                      <a:srgbClr val="000074"/>
                    </a:gs>
                    <a:gs pos="100000">
                      <a:srgbClr val="1d53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f48ff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304920" y="1066680"/>
              <a:ext cx="8380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74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ZESOI</a:t>
              </a:r>
              <a:endParaRPr b="0" lang="en-US" sz="2400" spc="1" strike="noStrike">
                <a:ln w="9360">
                  <a:solidFill>
                    <a:srgbClr val="000074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492120" y="306360"/>
              <a:ext cx="457200" cy="411120"/>
              <a:chOff x="492120" y="306360"/>
              <a:chExt cx="457200" cy="411120"/>
            </a:xfrm>
          </p:grpSpPr>
          <p:sp>
            <p:nvSpPr>
              <p:cNvPr id="9" name=""/>
              <p:cNvSpPr/>
              <p:nvPr/>
            </p:nvSpPr>
            <p:spPr>
              <a:xfrm>
                <a:off x="72360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2720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3116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5480" y="512280"/>
                <a:ext cx="360" cy="1008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3872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4232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4628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50600" y="512280"/>
                <a:ext cx="360" cy="1008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609840" y="377640"/>
                <a:ext cx="221760" cy="267840"/>
              </a:xfrm>
              <a:custGeom>
                <a:avLst/>
                <a:gdLst/>
                <a:ahLst/>
                <a:rect l="l" t="t" r="r" b="b"/>
                <a:pathLst>
                  <a:path w="366" h="450">
                    <a:moveTo>
                      <a:pt x="0" y="114"/>
                    </a:moveTo>
                    <a:lnTo>
                      <a:pt x="170" y="201"/>
                    </a:lnTo>
                    <a:lnTo>
                      <a:pt x="183" y="0"/>
                    </a:lnTo>
                    <a:lnTo>
                      <a:pt x="195" y="201"/>
                    </a:lnTo>
                    <a:lnTo>
                      <a:pt x="364" y="112"/>
                    </a:lnTo>
                    <a:lnTo>
                      <a:pt x="207" y="225"/>
                    </a:lnTo>
                    <a:lnTo>
                      <a:pt x="365" y="337"/>
                    </a:lnTo>
                    <a:lnTo>
                      <a:pt x="195" y="248"/>
                    </a:lnTo>
                    <a:lnTo>
                      <a:pt x="183" y="449"/>
                    </a:lnTo>
                    <a:lnTo>
                      <a:pt x="170" y="248"/>
                    </a:lnTo>
                    <a:lnTo>
                      <a:pt x="0" y="337"/>
                    </a:lnTo>
                    <a:lnTo>
                      <a:pt x="158" y="225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92120" y="306360"/>
                <a:ext cx="457200" cy="411120"/>
              </a:xfrm>
              <a:custGeom>
                <a:avLst/>
                <a:gdLst/>
                <a:ahLst/>
                <a:rect l="l" t="t" r="r" b="b"/>
                <a:pathLst>
                  <a:path w="754" h="691">
                    <a:moveTo>
                      <a:pt x="338" y="322"/>
                    </a:moveTo>
                    <a:lnTo>
                      <a:pt x="188" y="0"/>
                    </a:lnTo>
                    <a:lnTo>
                      <a:pt x="377" y="298"/>
                    </a:lnTo>
                    <a:lnTo>
                      <a:pt x="563" y="0"/>
                    </a:lnTo>
                    <a:lnTo>
                      <a:pt x="414" y="322"/>
                    </a:lnTo>
                    <a:lnTo>
                      <a:pt x="753" y="345"/>
                    </a:lnTo>
                    <a:lnTo>
                      <a:pt x="413" y="367"/>
                    </a:lnTo>
                    <a:lnTo>
                      <a:pt x="566" y="690"/>
                    </a:lnTo>
                    <a:lnTo>
                      <a:pt x="377" y="391"/>
                    </a:lnTo>
                    <a:lnTo>
                      <a:pt x="188" y="690"/>
                    </a:lnTo>
                    <a:lnTo>
                      <a:pt x="337" y="369"/>
                    </a:lnTo>
                    <a:lnTo>
                      <a:pt x="0" y="345"/>
                    </a:lnTo>
                    <a:lnTo>
                      <a:pt x="338" y="322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13440" y="381960"/>
                <a:ext cx="213840" cy="259560"/>
              </a:xfrm>
              <a:custGeom>
                <a:avLst/>
                <a:gdLst/>
                <a:ahLst/>
                <a:rect l="l" t="t" r="r" b="b"/>
                <a:pathLst>
                  <a:path w="353" h="436">
                    <a:moveTo>
                      <a:pt x="0" y="110"/>
                    </a:moveTo>
                    <a:lnTo>
                      <a:pt x="164" y="194"/>
                    </a:lnTo>
                    <a:lnTo>
                      <a:pt x="177" y="0"/>
                    </a:lnTo>
                    <a:lnTo>
                      <a:pt x="189" y="194"/>
                    </a:lnTo>
                    <a:lnTo>
                      <a:pt x="352" y="110"/>
                    </a:lnTo>
                    <a:lnTo>
                      <a:pt x="201" y="218"/>
                    </a:lnTo>
                    <a:lnTo>
                      <a:pt x="352" y="325"/>
                    </a:lnTo>
                    <a:lnTo>
                      <a:pt x="189" y="242"/>
                    </a:lnTo>
                    <a:lnTo>
                      <a:pt x="177" y="435"/>
                    </a:lnTo>
                    <a:lnTo>
                      <a:pt x="164" y="242"/>
                    </a:lnTo>
                    <a:lnTo>
                      <a:pt x="0" y="327"/>
                    </a:lnTo>
                    <a:lnTo>
                      <a:pt x="152" y="218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00400" y="313920"/>
                <a:ext cx="439560" cy="395640"/>
              </a:xfrm>
              <a:custGeom>
                <a:avLst/>
                <a:gdLst/>
                <a:ahLst/>
                <a:rect l="l" t="t" r="r" b="b"/>
                <a:pathLst>
                  <a:path w="725" h="665">
                    <a:moveTo>
                      <a:pt x="324" y="309"/>
                    </a:moveTo>
                    <a:lnTo>
                      <a:pt x="182" y="0"/>
                    </a:lnTo>
                    <a:lnTo>
                      <a:pt x="363" y="285"/>
                    </a:lnTo>
                    <a:lnTo>
                      <a:pt x="543" y="0"/>
                    </a:lnTo>
                    <a:lnTo>
                      <a:pt x="400" y="309"/>
                    </a:lnTo>
                    <a:lnTo>
                      <a:pt x="724" y="332"/>
                    </a:lnTo>
                    <a:lnTo>
                      <a:pt x="399" y="354"/>
                    </a:lnTo>
                    <a:lnTo>
                      <a:pt x="543" y="663"/>
                    </a:lnTo>
                    <a:lnTo>
                      <a:pt x="363" y="378"/>
                    </a:lnTo>
                    <a:lnTo>
                      <a:pt x="182" y="664"/>
                    </a:lnTo>
                    <a:lnTo>
                      <a:pt x="323" y="356"/>
                    </a:lnTo>
                    <a:lnTo>
                      <a:pt x="0" y="332"/>
                    </a:lnTo>
                    <a:lnTo>
                      <a:pt x="324" y="309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17040" y="386640"/>
                <a:ext cx="206640" cy="250560"/>
              </a:xfrm>
              <a:custGeom>
                <a:avLst/>
                <a:gdLst/>
                <a:ahLst/>
                <a:rect l="l" t="t" r="r" b="b"/>
                <a:pathLst>
                  <a:path w="341" h="421">
                    <a:moveTo>
                      <a:pt x="0" y="106"/>
                    </a:moveTo>
                    <a:lnTo>
                      <a:pt x="158" y="186"/>
                    </a:lnTo>
                    <a:lnTo>
                      <a:pt x="171" y="0"/>
                    </a:lnTo>
                    <a:lnTo>
                      <a:pt x="183" y="186"/>
                    </a:lnTo>
                    <a:lnTo>
                      <a:pt x="340" y="106"/>
                    </a:lnTo>
                    <a:lnTo>
                      <a:pt x="195" y="210"/>
                    </a:lnTo>
                    <a:lnTo>
                      <a:pt x="340" y="315"/>
                    </a:lnTo>
                    <a:lnTo>
                      <a:pt x="183" y="234"/>
                    </a:lnTo>
                    <a:lnTo>
                      <a:pt x="171" y="420"/>
                    </a:lnTo>
                    <a:lnTo>
                      <a:pt x="158" y="234"/>
                    </a:lnTo>
                    <a:lnTo>
                      <a:pt x="0" y="315"/>
                    </a:lnTo>
                    <a:lnTo>
                      <a:pt x="146" y="210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09040" y="321840"/>
                <a:ext cx="422640" cy="379440"/>
              </a:xfrm>
              <a:custGeom>
                <a:avLst/>
                <a:gdLst/>
                <a:ahLst/>
                <a:rect l="l" t="t" r="r" b="b"/>
                <a:pathLst>
                  <a:path w="697" h="638">
                    <a:moveTo>
                      <a:pt x="310" y="296"/>
                    </a:moveTo>
                    <a:lnTo>
                      <a:pt x="176" y="0"/>
                    </a:lnTo>
                    <a:lnTo>
                      <a:pt x="349" y="272"/>
                    </a:lnTo>
                    <a:lnTo>
                      <a:pt x="522" y="0"/>
                    </a:lnTo>
                    <a:lnTo>
                      <a:pt x="386" y="296"/>
                    </a:lnTo>
                    <a:lnTo>
                      <a:pt x="696" y="319"/>
                    </a:lnTo>
                    <a:lnTo>
                      <a:pt x="385" y="341"/>
                    </a:lnTo>
                    <a:lnTo>
                      <a:pt x="522" y="637"/>
                    </a:lnTo>
                    <a:lnTo>
                      <a:pt x="349" y="365"/>
                    </a:lnTo>
                    <a:lnTo>
                      <a:pt x="176" y="637"/>
                    </a:lnTo>
                    <a:lnTo>
                      <a:pt x="310" y="342"/>
                    </a:lnTo>
                    <a:lnTo>
                      <a:pt x="0" y="319"/>
                    </a:lnTo>
                    <a:lnTo>
                      <a:pt x="310" y="29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0640" y="390600"/>
                <a:ext cx="199440" cy="241560"/>
              </a:xfrm>
              <a:custGeom>
                <a:avLst/>
                <a:gdLst/>
                <a:ahLst/>
                <a:rect l="l" t="t" r="r" b="b"/>
                <a:pathLst>
                  <a:path w="329" h="406">
                    <a:moveTo>
                      <a:pt x="0" y="103"/>
                    </a:moveTo>
                    <a:lnTo>
                      <a:pt x="152" y="179"/>
                    </a:lnTo>
                    <a:lnTo>
                      <a:pt x="165" y="0"/>
                    </a:lnTo>
                    <a:lnTo>
                      <a:pt x="177" y="179"/>
                    </a:lnTo>
                    <a:lnTo>
                      <a:pt x="328" y="101"/>
                    </a:lnTo>
                    <a:lnTo>
                      <a:pt x="189" y="203"/>
                    </a:lnTo>
                    <a:lnTo>
                      <a:pt x="328" y="304"/>
                    </a:lnTo>
                    <a:lnTo>
                      <a:pt x="177" y="227"/>
                    </a:lnTo>
                    <a:lnTo>
                      <a:pt x="165" y="405"/>
                    </a:lnTo>
                    <a:lnTo>
                      <a:pt x="152" y="227"/>
                    </a:lnTo>
                    <a:lnTo>
                      <a:pt x="0" y="304"/>
                    </a:lnTo>
                    <a:lnTo>
                      <a:pt x="140" y="2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18040" y="329400"/>
                <a:ext cx="405000" cy="364320"/>
              </a:xfrm>
              <a:custGeom>
                <a:avLst/>
                <a:gdLst/>
                <a:ahLst/>
                <a:rect l="l" t="t" r="r" b="b"/>
                <a:pathLst>
                  <a:path w="668" h="612">
                    <a:moveTo>
                      <a:pt x="295" y="283"/>
                    </a:moveTo>
                    <a:lnTo>
                      <a:pt x="168" y="0"/>
                    </a:lnTo>
                    <a:lnTo>
                      <a:pt x="334" y="259"/>
                    </a:lnTo>
                    <a:lnTo>
                      <a:pt x="499" y="0"/>
                    </a:lnTo>
                    <a:lnTo>
                      <a:pt x="371" y="283"/>
                    </a:lnTo>
                    <a:lnTo>
                      <a:pt x="667" y="306"/>
                    </a:lnTo>
                    <a:lnTo>
                      <a:pt x="370" y="328"/>
                    </a:lnTo>
                    <a:lnTo>
                      <a:pt x="499" y="611"/>
                    </a:lnTo>
                    <a:lnTo>
                      <a:pt x="334" y="352"/>
                    </a:lnTo>
                    <a:lnTo>
                      <a:pt x="168" y="611"/>
                    </a:lnTo>
                    <a:lnTo>
                      <a:pt x="294" y="330"/>
                    </a:lnTo>
                    <a:lnTo>
                      <a:pt x="0" y="306"/>
                    </a:lnTo>
                    <a:lnTo>
                      <a:pt x="295" y="28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624240" y="394920"/>
                <a:ext cx="192600" cy="233280"/>
              </a:xfrm>
              <a:custGeom>
                <a:avLst/>
                <a:gdLst/>
                <a:ahLst/>
                <a:rect l="l" t="t" r="r" b="b"/>
                <a:pathLst>
                  <a:path w="318" h="392">
                    <a:moveTo>
                      <a:pt x="0" y="99"/>
                    </a:moveTo>
                    <a:lnTo>
                      <a:pt x="146" y="172"/>
                    </a:lnTo>
                    <a:lnTo>
                      <a:pt x="159" y="0"/>
                    </a:lnTo>
                    <a:lnTo>
                      <a:pt x="171" y="172"/>
                    </a:lnTo>
                    <a:lnTo>
                      <a:pt x="317" y="99"/>
                    </a:lnTo>
                    <a:lnTo>
                      <a:pt x="183" y="196"/>
                    </a:lnTo>
                    <a:lnTo>
                      <a:pt x="317" y="292"/>
                    </a:lnTo>
                    <a:lnTo>
                      <a:pt x="171" y="220"/>
                    </a:lnTo>
                    <a:lnTo>
                      <a:pt x="159" y="391"/>
                    </a:lnTo>
                    <a:lnTo>
                      <a:pt x="146" y="220"/>
                    </a:lnTo>
                    <a:lnTo>
                      <a:pt x="0" y="292"/>
                    </a:lnTo>
                    <a:lnTo>
                      <a:pt x="134" y="196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26680" y="336960"/>
                <a:ext cx="387360" cy="348840"/>
              </a:xfrm>
              <a:custGeom>
                <a:avLst/>
                <a:gdLst/>
                <a:ahLst/>
                <a:rect l="l" t="t" r="r" b="b"/>
                <a:pathLst>
                  <a:path w="639" h="586">
                    <a:moveTo>
                      <a:pt x="281" y="270"/>
                    </a:moveTo>
                    <a:lnTo>
                      <a:pt x="161" y="0"/>
                    </a:lnTo>
                    <a:lnTo>
                      <a:pt x="320" y="246"/>
                    </a:lnTo>
                    <a:lnTo>
                      <a:pt x="479" y="0"/>
                    </a:lnTo>
                    <a:lnTo>
                      <a:pt x="357" y="270"/>
                    </a:lnTo>
                    <a:lnTo>
                      <a:pt x="638" y="293"/>
                    </a:lnTo>
                    <a:lnTo>
                      <a:pt x="356" y="315"/>
                    </a:lnTo>
                    <a:lnTo>
                      <a:pt x="479" y="585"/>
                    </a:lnTo>
                    <a:lnTo>
                      <a:pt x="320" y="339"/>
                    </a:lnTo>
                    <a:lnTo>
                      <a:pt x="161" y="585"/>
                    </a:lnTo>
                    <a:lnTo>
                      <a:pt x="281" y="316"/>
                    </a:lnTo>
                    <a:lnTo>
                      <a:pt x="0" y="293"/>
                    </a:lnTo>
                    <a:lnTo>
                      <a:pt x="281" y="270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27840" y="399240"/>
                <a:ext cx="185400" cy="225000"/>
              </a:xfrm>
              <a:custGeom>
                <a:avLst/>
                <a:gdLst/>
                <a:ahLst/>
                <a:rect l="l" t="t" r="r" b="b"/>
                <a:pathLst>
                  <a:path w="306" h="378">
                    <a:moveTo>
                      <a:pt x="0" y="96"/>
                    </a:moveTo>
                    <a:lnTo>
                      <a:pt x="140" y="165"/>
                    </a:lnTo>
                    <a:lnTo>
                      <a:pt x="153" y="0"/>
                    </a:lnTo>
                    <a:lnTo>
                      <a:pt x="165" y="165"/>
                    </a:lnTo>
                    <a:lnTo>
                      <a:pt x="305" y="96"/>
                    </a:lnTo>
                    <a:lnTo>
                      <a:pt x="177" y="189"/>
                    </a:lnTo>
                    <a:lnTo>
                      <a:pt x="305" y="283"/>
                    </a:lnTo>
                    <a:lnTo>
                      <a:pt x="165" y="212"/>
                    </a:lnTo>
                    <a:lnTo>
                      <a:pt x="153" y="377"/>
                    </a:lnTo>
                    <a:lnTo>
                      <a:pt x="140" y="212"/>
                    </a:lnTo>
                    <a:lnTo>
                      <a:pt x="0" y="283"/>
                    </a:lnTo>
                    <a:lnTo>
                      <a:pt x="128" y="189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35680" y="344880"/>
                <a:ext cx="369720" cy="333000"/>
              </a:xfrm>
              <a:custGeom>
                <a:avLst/>
                <a:gdLst/>
                <a:ahLst/>
                <a:rect l="l" t="t" r="r" b="b"/>
                <a:pathLst>
                  <a:path w="610" h="560">
                    <a:moveTo>
                      <a:pt x="266" y="257"/>
                    </a:moveTo>
                    <a:lnTo>
                      <a:pt x="152" y="0"/>
                    </a:lnTo>
                    <a:lnTo>
                      <a:pt x="305" y="233"/>
                    </a:lnTo>
                    <a:lnTo>
                      <a:pt x="455" y="0"/>
                    </a:lnTo>
                    <a:lnTo>
                      <a:pt x="342" y="257"/>
                    </a:lnTo>
                    <a:lnTo>
                      <a:pt x="609" y="280"/>
                    </a:lnTo>
                    <a:lnTo>
                      <a:pt x="341" y="302"/>
                    </a:lnTo>
                    <a:lnTo>
                      <a:pt x="455" y="559"/>
                    </a:lnTo>
                    <a:lnTo>
                      <a:pt x="305" y="326"/>
                    </a:lnTo>
                    <a:lnTo>
                      <a:pt x="152" y="559"/>
                    </a:lnTo>
                    <a:lnTo>
                      <a:pt x="266" y="304"/>
                    </a:lnTo>
                    <a:lnTo>
                      <a:pt x="0" y="280"/>
                    </a:lnTo>
                    <a:lnTo>
                      <a:pt x="266" y="25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31440" y="403920"/>
                <a:ext cx="178200" cy="216000"/>
              </a:xfrm>
              <a:custGeom>
                <a:avLst/>
                <a:gdLst/>
                <a:ahLst/>
                <a:rect l="l" t="t" r="r" b="b"/>
                <a:pathLst>
                  <a:path w="294" h="363">
                    <a:moveTo>
                      <a:pt x="0" y="90"/>
                    </a:moveTo>
                    <a:lnTo>
                      <a:pt x="134" y="158"/>
                    </a:lnTo>
                    <a:lnTo>
                      <a:pt x="147" y="0"/>
                    </a:lnTo>
                    <a:lnTo>
                      <a:pt x="159" y="158"/>
                    </a:lnTo>
                    <a:lnTo>
                      <a:pt x="293" y="90"/>
                    </a:lnTo>
                    <a:lnTo>
                      <a:pt x="171" y="181"/>
                    </a:lnTo>
                    <a:lnTo>
                      <a:pt x="293" y="270"/>
                    </a:lnTo>
                    <a:lnTo>
                      <a:pt x="159" y="204"/>
                    </a:lnTo>
                    <a:lnTo>
                      <a:pt x="147" y="362"/>
                    </a:lnTo>
                    <a:lnTo>
                      <a:pt x="134" y="204"/>
                    </a:lnTo>
                    <a:lnTo>
                      <a:pt x="0" y="270"/>
                    </a:lnTo>
                    <a:lnTo>
                      <a:pt x="122" y="18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43960" y="352800"/>
                <a:ext cx="352800" cy="317880"/>
              </a:xfrm>
              <a:custGeom>
                <a:avLst/>
                <a:gdLst/>
                <a:ahLst/>
                <a:rect l="l" t="t" r="r" b="b"/>
                <a:pathLst>
                  <a:path w="582" h="534">
                    <a:moveTo>
                      <a:pt x="253" y="244"/>
                    </a:moveTo>
                    <a:lnTo>
                      <a:pt x="145" y="0"/>
                    </a:lnTo>
                    <a:lnTo>
                      <a:pt x="291" y="220"/>
                    </a:lnTo>
                    <a:lnTo>
                      <a:pt x="436" y="0"/>
                    </a:lnTo>
                    <a:lnTo>
                      <a:pt x="327" y="244"/>
                    </a:lnTo>
                    <a:lnTo>
                      <a:pt x="581" y="267"/>
                    </a:lnTo>
                    <a:lnTo>
                      <a:pt x="327" y="289"/>
                    </a:lnTo>
                    <a:lnTo>
                      <a:pt x="436" y="533"/>
                    </a:lnTo>
                    <a:lnTo>
                      <a:pt x="291" y="313"/>
                    </a:lnTo>
                    <a:lnTo>
                      <a:pt x="145" y="533"/>
                    </a:lnTo>
                    <a:lnTo>
                      <a:pt x="252" y="290"/>
                    </a:lnTo>
                    <a:lnTo>
                      <a:pt x="0" y="267"/>
                    </a:lnTo>
                    <a:lnTo>
                      <a:pt x="253" y="244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35040" y="407880"/>
                <a:ext cx="171000" cy="207000"/>
              </a:xfrm>
              <a:custGeom>
                <a:avLst/>
                <a:gdLst/>
                <a:ahLst/>
                <a:rect l="l" t="t" r="r" b="b"/>
                <a:pathLst>
                  <a:path w="282" h="348">
                    <a:moveTo>
                      <a:pt x="0" y="88"/>
                    </a:moveTo>
                    <a:lnTo>
                      <a:pt x="128" y="151"/>
                    </a:lnTo>
                    <a:lnTo>
                      <a:pt x="141" y="0"/>
                    </a:lnTo>
                    <a:lnTo>
                      <a:pt x="153" y="151"/>
                    </a:lnTo>
                    <a:lnTo>
                      <a:pt x="280" y="88"/>
                    </a:lnTo>
                    <a:lnTo>
                      <a:pt x="165" y="174"/>
                    </a:lnTo>
                    <a:lnTo>
                      <a:pt x="281" y="259"/>
                    </a:lnTo>
                    <a:lnTo>
                      <a:pt x="153" y="197"/>
                    </a:lnTo>
                    <a:lnTo>
                      <a:pt x="141" y="347"/>
                    </a:lnTo>
                    <a:lnTo>
                      <a:pt x="128" y="197"/>
                    </a:lnTo>
                    <a:lnTo>
                      <a:pt x="0" y="261"/>
                    </a:lnTo>
                    <a:lnTo>
                      <a:pt x="116" y="17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52600" y="361080"/>
                <a:ext cx="335520" cy="301680"/>
              </a:xfrm>
              <a:custGeom>
                <a:avLst/>
                <a:gdLst/>
                <a:ahLst/>
                <a:rect l="l" t="t" r="r" b="b"/>
                <a:pathLst>
                  <a:path w="553" h="507">
                    <a:moveTo>
                      <a:pt x="239" y="230"/>
                    </a:moveTo>
                    <a:lnTo>
                      <a:pt x="139" y="0"/>
                    </a:lnTo>
                    <a:lnTo>
                      <a:pt x="277" y="206"/>
                    </a:lnTo>
                    <a:lnTo>
                      <a:pt x="414" y="0"/>
                    </a:lnTo>
                    <a:lnTo>
                      <a:pt x="313" y="230"/>
                    </a:lnTo>
                    <a:lnTo>
                      <a:pt x="552" y="253"/>
                    </a:lnTo>
                    <a:lnTo>
                      <a:pt x="312" y="275"/>
                    </a:lnTo>
                    <a:lnTo>
                      <a:pt x="414" y="506"/>
                    </a:lnTo>
                    <a:lnTo>
                      <a:pt x="277" y="299"/>
                    </a:lnTo>
                    <a:lnTo>
                      <a:pt x="139" y="506"/>
                    </a:lnTo>
                    <a:lnTo>
                      <a:pt x="238" y="277"/>
                    </a:lnTo>
                    <a:lnTo>
                      <a:pt x="0" y="253"/>
                    </a:lnTo>
                    <a:lnTo>
                      <a:pt x="239" y="230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38640" y="412560"/>
                <a:ext cx="163800" cy="1976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561240" y="368640"/>
                <a:ext cx="318240" cy="28548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41880" y="416880"/>
                <a:ext cx="156960" cy="189000"/>
              </a:xfrm>
              <a:custGeom>
                <a:avLst/>
                <a:gdLst/>
                <a:ahLst/>
                <a:rect l="l" t="t" r="r" b="b"/>
                <a:pathLst>
                  <a:path w="259" h="318">
                    <a:moveTo>
                      <a:pt x="0" y="80"/>
                    </a:moveTo>
                    <a:lnTo>
                      <a:pt x="117" y="136"/>
                    </a:lnTo>
                    <a:lnTo>
                      <a:pt x="129" y="0"/>
                    </a:lnTo>
                    <a:lnTo>
                      <a:pt x="142" y="136"/>
                    </a:lnTo>
                    <a:lnTo>
                      <a:pt x="258" y="80"/>
                    </a:lnTo>
                    <a:lnTo>
                      <a:pt x="154" y="159"/>
                    </a:lnTo>
                    <a:lnTo>
                      <a:pt x="258" y="239"/>
                    </a:lnTo>
                    <a:lnTo>
                      <a:pt x="142" y="182"/>
                    </a:lnTo>
                    <a:lnTo>
                      <a:pt x="130" y="317"/>
                    </a:lnTo>
                    <a:lnTo>
                      <a:pt x="117" y="182"/>
                    </a:lnTo>
                    <a:lnTo>
                      <a:pt x="0" y="239"/>
                    </a:lnTo>
                    <a:lnTo>
                      <a:pt x="105" y="159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570240" y="376560"/>
                <a:ext cx="300600" cy="270000"/>
              </a:xfrm>
              <a:custGeom>
                <a:avLst/>
                <a:gdLst/>
                <a:ahLst/>
                <a:rect l="l" t="t" r="r" b="b"/>
                <a:pathLst>
                  <a:path w="496" h="454">
                    <a:moveTo>
                      <a:pt x="210" y="204"/>
                    </a:moveTo>
                    <a:lnTo>
                      <a:pt x="125" y="1"/>
                    </a:lnTo>
                    <a:lnTo>
                      <a:pt x="248" y="180"/>
                    </a:lnTo>
                    <a:lnTo>
                      <a:pt x="369" y="0"/>
                    </a:lnTo>
                    <a:lnTo>
                      <a:pt x="284" y="204"/>
                    </a:lnTo>
                    <a:lnTo>
                      <a:pt x="495" y="227"/>
                    </a:lnTo>
                    <a:lnTo>
                      <a:pt x="283" y="249"/>
                    </a:lnTo>
                    <a:lnTo>
                      <a:pt x="370" y="453"/>
                    </a:lnTo>
                    <a:lnTo>
                      <a:pt x="248" y="273"/>
                    </a:lnTo>
                    <a:lnTo>
                      <a:pt x="125" y="453"/>
                    </a:lnTo>
                    <a:lnTo>
                      <a:pt x="209" y="251"/>
                    </a:lnTo>
                    <a:lnTo>
                      <a:pt x="0" y="227"/>
                    </a:lnTo>
                    <a:lnTo>
                      <a:pt x="210" y="20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45480" y="421560"/>
                <a:ext cx="149760" cy="180360"/>
              </a:xfrm>
              <a:custGeom>
                <a:avLst/>
                <a:gdLst/>
                <a:ahLst/>
                <a:rect l="l" t="t" r="r" b="b"/>
                <a:pathLst>
                  <a:path w="247" h="303">
                    <a:moveTo>
                      <a:pt x="0" y="76"/>
                    </a:moveTo>
                    <a:lnTo>
                      <a:pt x="111" y="128"/>
                    </a:lnTo>
                    <a:lnTo>
                      <a:pt x="124" y="0"/>
                    </a:lnTo>
                    <a:lnTo>
                      <a:pt x="136" y="128"/>
                    </a:lnTo>
                    <a:lnTo>
                      <a:pt x="246" y="76"/>
                    </a:lnTo>
                    <a:lnTo>
                      <a:pt x="148" y="151"/>
                    </a:lnTo>
                    <a:lnTo>
                      <a:pt x="246" y="227"/>
                    </a:lnTo>
                    <a:lnTo>
                      <a:pt x="136" y="173"/>
                    </a:lnTo>
                    <a:lnTo>
                      <a:pt x="124" y="302"/>
                    </a:lnTo>
                    <a:lnTo>
                      <a:pt x="111" y="173"/>
                    </a:lnTo>
                    <a:lnTo>
                      <a:pt x="0" y="227"/>
                    </a:lnTo>
                    <a:lnTo>
                      <a:pt x="99" y="151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78880" y="384120"/>
                <a:ext cx="282960" cy="254520"/>
              </a:xfrm>
              <a:custGeom>
                <a:avLst/>
                <a:gdLst/>
                <a:ahLst/>
                <a:rect l="l" t="t" r="r" b="b"/>
                <a:pathLst>
                  <a:path w="467" h="428">
                    <a:moveTo>
                      <a:pt x="196" y="191"/>
                    </a:moveTo>
                    <a:lnTo>
                      <a:pt x="118" y="0"/>
                    </a:lnTo>
                    <a:lnTo>
                      <a:pt x="234" y="167"/>
                    </a:lnTo>
                    <a:lnTo>
                      <a:pt x="350" y="0"/>
                    </a:lnTo>
                    <a:lnTo>
                      <a:pt x="270" y="191"/>
                    </a:lnTo>
                    <a:lnTo>
                      <a:pt x="466" y="214"/>
                    </a:lnTo>
                    <a:lnTo>
                      <a:pt x="269" y="236"/>
                    </a:lnTo>
                    <a:lnTo>
                      <a:pt x="350" y="427"/>
                    </a:lnTo>
                    <a:lnTo>
                      <a:pt x="234" y="260"/>
                    </a:lnTo>
                    <a:lnTo>
                      <a:pt x="118" y="427"/>
                    </a:lnTo>
                    <a:lnTo>
                      <a:pt x="195" y="237"/>
                    </a:lnTo>
                    <a:lnTo>
                      <a:pt x="0" y="214"/>
                    </a:lnTo>
                    <a:lnTo>
                      <a:pt x="196" y="19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49080" y="425880"/>
                <a:ext cx="142560" cy="172080"/>
              </a:xfrm>
              <a:custGeom>
                <a:avLst/>
                <a:gdLst/>
                <a:ahLst/>
                <a:rect l="l" t="t" r="r" b="b"/>
                <a:pathLst>
                  <a:path w="235" h="289">
                    <a:moveTo>
                      <a:pt x="0" y="71"/>
                    </a:moveTo>
                    <a:lnTo>
                      <a:pt x="105" y="121"/>
                    </a:lnTo>
                    <a:lnTo>
                      <a:pt x="118" y="0"/>
                    </a:lnTo>
                    <a:lnTo>
                      <a:pt x="130" y="121"/>
                    </a:lnTo>
                    <a:lnTo>
                      <a:pt x="234" y="71"/>
                    </a:lnTo>
                    <a:lnTo>
                      <a:pt x="142" y="144"/>
                    </a:lnTo>
                    <a:lnTo>
                      <a:pt x="234" y="215"/>
                    </a:lnTo>
                    <a:lnTo>
                      <a:pt x="130" y="167"/>
                    </a:lnTo>
                    <a:lnTo>
                      <a:pt x="118" y="288"/>
                    </a:lnTo>
                    <a:lnTo>
                      <a:pt x="105" y="167"/>
                    </a:lnTo>
                    <a:lnTo>
                      <a:pt x="0" y="217"/>
                    </a:lnTo>
                    <a:lnTo>
                      <a:pt x="93" y="144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87160" y="392400"/>
                <a:ext cx="266040" cy="238680"/>
              </a:xfrm>
              <a:custGeom>
                <a:avLst/>
                <a:gdLst/>
                <a:ahLst/>
                <a:rect l="l" t="t" r="r" b="b"/>
                <a:pathLst>
                  <a:path w="439" h="401">
                    <a:moveTo>
                      <a:pt x="182" y="177"/>
                    </a:moveTo>
                    <a:lnTo>
                      <a:pt x="111" y="0"/>
                    </a:lnTo>
                    <a:lnTo>
                      <a:pt x="220" y="153"/>
                    </a:lnTo>
                    <a:lnTo>
                      <a:pt x="329" y="0"/>
                    </a:lnTo>
                    <a:lnTo>
                      <a:pt x="256" y="177"/>
                    </a:lnTo>
                    <a:lnTo>
                      <a:pt x="438" y="200"/>
                    </a:lnTo>
                    <a:lnTo>
                      <a:pt x="255" y="222"/>
                    </a:lnTo>
                    <a:lnTo>
                      <a:pt x="329" y="400"/>
                    </a:lnTo>
                    <a:lnTo>
                      <a:pt x="220" y="246"/>
                    </a:lnTo>
                    <a:lnTo>
                      <a:pt x="111" y="400"/>
                    </a:lnTo>
                    <a:lnTo>
                      <a:pt x="182" y="223"/>
                    </a:lnTo>
                    <a:lnTo>
                      <a:pt x="0" y="200"/>
                    </a:lnTo>
                    <a:lnTo>
                      <a:pt x="182" y="177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52680" y="429840"/>
                <a:ext cx="135000" cy="163080"/>
              </a:xfrm>
              <a:custGeom>
                <a:avLst/>
                <a:gdLst/>
                <a:ahLst/>
                <a:rect l="l" t="t" r="r" b="b"/>
                <a:pathLst>
                  <a:path w="223" h="274">
                    <a:moveTo>
                      <a:pt x="0" y="69"/>
                    </a:moveTo>
                    <a:lnTo>
                      <a:pt x="99" y="114"/>
                    </a:lnTo>
                    <a:lnTo>
                      <a:pt x="112" y="0"/>
                    </a:lnTo>
                    <a:lnTo>
                      <a:pt x="124" y="114"/>
                    </a:lnTo>
                    <a:lnTo>
                      <a:pt x="222" y="69"/>
                    </a:lnTo>
                    <a:lnTo>
                      <a:pt x="136" y="137"/>
                    </a:lnTo>
                    <a:lnTo>
                      <a:pt x="222" y="206"/>
                    </a:lnTo>
                    <a:lnTo>
                      <a:pt x="124" y="159"/>
                    </a:lnTo>
                    <a:lnTo>
                      <a:pt x="112" y="273"/>
                    </a:lnTo>
                    <a:lnTo>
                      <a:pt x="99" y="159"/>
                    </a:lnTo>
                    <a:lnTo>
                      <a:pt x="0" y="206"/>
                    </a:lnTo>
                    <a:lnTo>
                      <a:pt x="87" y="137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96520" y="399600"/>
                <a:ext cx="248400" cy="223560"/>
              </a:xfrm>
              <a:custGeom>
                <a:avLst/>
                <a:gdLst/>
                <a:ahLst/>
                <a:rect l="l" t="t" r="r" b="b"/>
                <a:pathLst>
                  <a:path w="410" h="376">
                    <a:moveTo>
                      <a:pt x="167" y="165"/>
                    </a:moveTo>
                    <a:lnTo>
                      <a:pt x="102" y="0"/>
                    </a:lnTo>
                    <a:lnTo>
                      <a:pt x="205" y="141"/>
                    </a:lnTo>
                    <a:lnTo>
                      <a:pt x="305" y="0"/>
                    </a:lnTo>
                    <a:lnTo>
                      <a:pt x="241" y="165"/>
                    </a:lnTo>
                    <a:lnTo>
                      <a:pt x="409" y="188"/>
                    </a:lnTo>
                    <a:lnTo>
                      <a:pt x="240" y="210"/>
                    </a:lnTo>
                    <a:lnTo>
                      <a:pt x="305" y="375"/>
                    </a:lnTo>
                    <a:lnTo>
                      <a:pt x="205" y="234"/>
                    </a:lnTo>
                    <a:lnTo>
                      <a:pt x="102" y="375"/>
                    </a:lnTo>
                    <a:lnTo>
                      <a:pt x="166" y="211"/>
                    </a:lnTo>
                    <a:lnTo>
                      <a:pt x="0" y="188"/>
                    </a:lnTo>
                    <a:lnTo>
                      <a:pt x="167" y="165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56280" y="434160"/>
                <a:ext cx="127800" cy="154800"/>
              </a:xfrm>
              <a:custGeom>
                <a:avLst/>
                <a:gdLst/>
                <a:ahLst/>
                <a:rect l="l" t="t" r="r" b="b"/>
                <a:pathLst>
                  <a:path w="211" h="260">
                    <a:moveTo>
                      <a:pt x="0" y="66"/>
                    </a:moveTo>
                    <a:lnTo>
                      <a:pt x="93" y="107"/>
                    </a:lnTo>
                    <a:lnTo>
                      <a:pt x="106" y="0"/>
                    </a:lnTo>
                    <a:lnTo>
                      <a:pt x="118" y="107"/>
                    </a:lnTo>
                    <a:lnTo>
                      <a:pt x="210" y="66"/>
                    </a:lnTo>
                    <a:lnTo>
                      <a:pt x="130" y="130"/>
                    </a:lnTo>
                    <a:lnTo>
                      <a:pt x="210" y="195"/>
                    </a:lnTo>
                    <a:lnTo>
                      <a:pt x="118" y="152"/>
                    </a:lnTo>
                    <a:lnTo>
                      <a:pt x="106" y="259"/>
                    </a:lnTo>
                    <a:lnTo>
                      <a:pt x="93" y="152"/>
                    </a:lnTo>
                    <a:lnTo>
                      <a:pt x="0" y="195"/>
                    </a:lnTo>
                    <a:lnTo>
                      <a:pt x="81" y="13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4800" y="407520"/>
                <a:ext cx="231480" cy="2080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59880" y="438840"/>
                <a:ext cx="120600" cy="145800"/>
              </a:xfrm>
              <a:custGeom>
                <a:avLst/>
                <a:gdLst/>
                <a:ahLst/>
                <a:rect l="l" t="t" r="r" b="b"/>
                <a:pathLst>
                  <a:path w="199" h="245">
                    <a:moveTo>
                      <a:pt x="0" y="60"/>
                    </a:moveTo>
                    <a:lnTo>
                      <a:pt x="87" y="99"/>
                    </a:lnTo>
                    <a:lnTo>
                      <a:pt x="100" y="0"/>
                    </a:lnTo>
                    <a:lnTo>
                      <a:pt x="111" y="99"/>
                    </a:lnTo>
                    <a:lnTo>
                      <a:pt x="198" y="60"/>
                    </a:lnTo>
                    <a:lnTo>
                      <a:pt x="124" y="122"/>
                    </a:lnTo>
                    <a:lnTo>
                      <a:pt x="198" y="182"/>
                    </a:lnTo>
                    <a:lnTo>
                      <a:pt x="111" y="144"/>
                    </a:lnTo>
                    <a:lnTo>
                      <a:pt x="100" y="244"/>
                    </a:lnTo>
                    <a:lnTo>
                      <a:pt x="87" y="144"/>
                    </a:lnTo>
                    <a:lnTo>
                      <a:pt x="0" y="182"/>
                    </a:lnTo>
                    <a:lnTo>
                      <a:pt x="75" y="12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13800" y="416520"/>
                <a:ext cx="212760" cy="190800"/>
              </a:xfrm>
              <a:custGeom>
                <a:avLst/>
                <a:gdLst/>
                <a:ahLst/>
                <a:rect l="l" t="t" r="r" b="b"/>
                <a:pathLst>
                  <a:path w="351" h="321">
                    <a:moveTo>
                      <a:pt x="138" y="138"/>
                    </a:moveTo>
                    <a:lnTo>
                      <a:pt x="89" y="0"/>
                    </a:lnTo>
                    <a:lnTo>
                      <a:pt x="176" y="113"/>
                    </a:lnTo>
                    <a:lnTo>
                      <a:pt x="263" y="0"/>
                    </a:lnTo>
                    <a:lnTo>
                      <a:pt x="212" y="138"/>
                    </a:lnTo>
                    <a:lnTo>
                      <a:pt x="350" y="160"/>
                    </a:lnTo>
                    <a:lnTo>
                      <a:pt x="211" y="181"/>
                    </a:lnTo>
                    <a:lnTo>
                      <a:pt x="263" y="319"/>
                    </a:lnTo>
                    <a:lnTo>
                      <a:pt x="176" y="206"/>
                    </a:lnTo>
                    <a:lnTo>
                      <a:pt x="89" y="320"/>
                    </a:lnTo>
                    <a:lnTo>
                      <a:pt x="138" y="182"/>
                    </a:lnTo>
                    <a:lnTo>
                      <a:pt x="0" y="160"/>
                    </a:lnTo>
                    <a:lnTo>
                      <a:pt x="138" y="138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3480" y="443160"/>
                <a:ext cx="113400" cy="137520"/>
              </a:xfrm>
              <a:custGeom>
                <a:avLst/>
                <a:gdLst/>
                <a:ahLst/>
                <a:rect l="l" t="t" r="r" b="b"/>
                <a:pathLst>
                  <a:path w="187" h="231">
                    <a:moveTo>
                      <a:pt x="0" y="58"/>
                    </a:moveTo>
                    <a:lnTo>
                      <a:pt x="81" y="92"/>
                    </a:lnTo>
                    <a:lnTo>
                      <a:pt x="94" y="0"/>
                    </a:lnTo>
                    <a:lnTo>
                      <a:pt x="105" y="92"/>
                    </a:lnTo>
                    <a:lnTo>
                      <a:pt x="186" y="58"/>
                    </a:lnTo>
                    <a:lnTo>
                      <a:pt x="118" y="115"/>
                    </a:lnTo>
                    <a:lnTo>
                      <a:pt x="186" y="173"/>
                    </a:lnTo>
                    <a:lnTo>
                      <a:pt x="105" y="137"/>
                    </a:lnTo>
                    <a:lnTo>
                      <a:pt x="94" y="230"/>
                    </a:lnTo>
                    <a:lnTo>
                      <a:pt x="81" y="137"/>
                    </a:lnTo>
                    <a:lnTo>
                      <a:pt x="0" y="173"/>
                    </a:lnTo>
                    <a:lnTo>
                      <a:pt x="69" y="115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3160" y="424080"/>
                <a:ext cx="195120" cy="17532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123" y="125"/>
                    </a:moveTo>
                    <a:lnTo>
                      <a:pt x="81" y="0"/>
                    </a:lnTo>
                    <a:lnTo>
                      <a:pt x="161" y="100"/>
                    </a:lnTo>
                    <a:lnTo>
                      <a:pt x="240" y="0"/>
                    </a:lnTo>
                    <a:lnTo>
                      <a:pt x="197" y="125"/>
                    </a:lnTo>
                    <a:lnTo>
                      <a:pt x="321" y="147"/>
                    </a:lnTo>
                    <a:lnTo>
                      <a:pt x="196" y="168"/>
                    </a:lnTo>
                    <a:lnTo>
                      <a:pt x="240" y="293"/>
                    </a:lnTo>
                    <a:lnTo>
                      <a:pt x="161" y="193"/>
                    </a:lnTo>
                    <a:lnTo>
                      <a:pt x="81" y="294"/>
                    </a:lnTo>
                    <a:lnTo>
                      <a:pt x="122" y="170"/>
                    </a:lnTo>
                    <a:lnTo>
                      <a:pt x="0" y="147"/>
                    </a:lnTo>
                    <a:lnTo>
                      <a:pt x="123" y="125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67440" y="447120"/>
                <a:ext cx="106560" cy="128880"/>
              </a:xfrm>
              <a:custGeom>
                <a:avLst/>
                <a:gdLst/>
                <a:ahLst/>
                <a:rect l="l" t="t" r="r" b="b"/>
                <a:pathLst>
                  <a:path w="176" h="217">
                    <a:moveTo>
                      <a:pt x="0" y="55"/>
                    </a:moveTo>
                    <a:lnTo>
                      <a:pt x="76" y="85"/>
                    </a:lnTo>
                    <a:lnTo>
                      <a:pt x="88" y="0"/>
                    </a:lnTo>
                    <a:lnTo>
                      <a:pt x="99" y="85"/>
                    </a:lnTo>
                    <a:lnTo>
                      <a:pt x="174" y="53"/>
                    </a:lnTo>
                    <a:lnTo>
                      <a:pt x="112" y="108"/>
                    </a:lnTo>
                    <a:lnTo>
                      <a:pt x="175" y="161"/>
                    </a:lnTo>
                    <a:lnTo>
                      <a:pt x="99" y="130"/>
                    </a:lnTo>
                    <a:lnTo>
                      <a:pt x="88" y="216"/>
                    </a:lnTo>
                    <a:lnTo>
                      <a:pt x="76" y="130"/>
                    </a:lnTo>
                    <a:lnTo>
                      <a:pt x="0" y="161"/>
                    </a:lnTo>
                    <a:lnTo>
                      <a:pt x="63" y="10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1440" y="431640"/>
                <a:ext cx="178200" cy="160200"/>
              </a:xfrm>
              <a:custGeom>
                <a:avLst/>
                <a:gdLst/>
                <a:ahLst/>
                <a:rect l="l" t="t" r="r" b="b"/>
                <a:pathLst>
                  <a:path w="294" h="269">
                    <a:moveTo>
                      <a:pt x="109" y="112"/>
                    </a:moveTo>
                    <a:lnTo>
                      <a:pt x="74" y="0"/>
                    </a:lnTo>
                    <a:lnTo>
                      <a:pt x="147" y="87"/>
                    </a:lnTo>
                    <a:lnTo>
                      <a:pt x="219" y="0"/>
                    </a:lnTo>
                    <a:lnTo>
                      <a:pt x="183" y="112"/>
                    </a:lnTo>
                    <a:lnTo>
                      <a:pt x="293" y="134"/>
                    </a:lnTo>
                    <a:lnTo>
                      <a:pt x="182" y="155"/>
                    </a:lnTo>
                    <a:lnTo>
                      <a:pt x="219" y="267"/>
                    </a:lnTo>
                    <a:lnTo>
                      <a:pt x="147" y="180"/>
                    </a:lnTo>
                    <a:lnTo>
                      <a:pt x="74" y="268"/>
                    </a:lnTo>
                    <a:lnTo>
                      <a:pt x="108" y="157"/>
                    </a:lnTo>
                    <a:lnTo>
                      <a:pt x="0" y="134"/>
                    </a:lnTo>
                    <a:lnTo>
                      <a:pt x="109" y="112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1040" y="451440"/>
                <a:ext cx="99360" cy="120240"/>
              </a:xfrm>
              <a:custGeom>
                <a:avLst/>
                <a:gdLst/>
                <a:ahLst/>
                <a:rect l="l" t="t" r="r" b="b"/>
                <a:pathLst>
                  <a:path w="164" h="202">
                    <a:moveTo>
                      <a:pt x="0" y="51"/>
                    </a:moveTo>
                    <a:lnTo>
                      <a:pt x="70" y="78"/>
                    </a:lnTo>
                    <a:lnTo>
                      <a:pt x="82" y="0"/>
                    </a:lnTo>
                    <a:lnTo>
                      <a:pt x="93" y="78"/>
                    </a:lnTo>
                    <a:lnTo>
                      <a:pt x="162" y="51"/>
                    </a:lnTo>
                    <a:lnTo>
                      <a:pt x="106" y="101"/>
                    </a:lnTo>
                    <a:lnTo>
                      <a:pt x="163" y="150"/>
                    </a:lnTo>
                    <a:lnTo>
                      <a:pt x="93" y="123"/>
                    </a:lnTo>
                    <a:lnTo>
                      <a:pt x="82" y="201"/>
                    </a:lnTo>
                    <a:lnTo>
                      <a:pt x="70" y="123"/>
                    </a:lnTo>
                    <a:lnTo>
                      <a:pt x="0" y="150"/>
                    </a:lnTo>
                    <a:lnTo>
                      <a:pt x="57" y="10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40080" y="439560"/>
                <a:ext cx="160560" cy="144000"/>
              </a:xfrm>
              <a:custGeom>
                <a:avLst/>
                <a:gdLst/>
                <a:ahLst/>
                <a:rect l="l" t="t" r="r" b="b"/>
                <a:pathLst>
                  <a:path w="265" h="242">
                    <a:moveTo>
                      <a:pt x="95" y="99"/>
                    </a:moveTo>
                    <a:lnTo>
                      <a:pt x="67" y="0"/>
                    </a:lnTo>
                    <a:lnTo>
                      <a:pt x="133" y="75"/>
                    </a:lnTo>
                    <a:lnTo>
                      <a:pt x="199" y="0"/>
                    </a:lnTo>
                    <a:lnTo>
                      <a:pt x="169" y="99"/>
                    </a:lnTo>
                    <a:lnTo>
                      <a:pt x="264" y="121"/>
                    </a:lnTo>
                    <a:lnTo>
                      <a:pt x="168" y="142"/>
                    </a:lnTo>
                    <a:lnTo>
                      <a:pt x="199" y="241"/>
                    </a:lnTo>
                    <a:lnTo>
                      <a:pt x="133" y="166"/>
                    </a:lnTo>
                    <a:lnTo>
                      <a:pt x="67" y="241"/>
                    </a:lnTo>
                    <a:lnTo>
                      <a:pt x="95" y="143"/>
                    </a:lnTo>
                    <a:lnTo>
                      <a:pt x="0" y="121"/>
                    </a:lnTo>
                    <a:lnTo>
                      <a:pt x="95" y="99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4640" y="455760"/>
                <a:ext cx="92160" cy="111600"/>
              </a:xfrm>
              <a:custGeom>
                <a:avLst/>
                <a:gdLst/>
                <a:ahLst/>
                <a:rect l="l" t="t" r="r" b="b"/>
                <a:pathLst>
                  <a:path w="152" h="188">
                    <a:moveTo>
                      <a:pt x="0" y="48"/>
                    </a:moveTo>
                    <a:lnTo>
                      <a:pt x="64" y="71"/>
                    </a:lnTo>
                    <a:lnTo>
                      <a:pt x="76" y="0"/>
                    </a:lnTo>
                    <a:lnTo>
                      <a:pt x="87" y="71"/>
                    </a:lnTo>
                    <a:lnTo>
                      <a:pt x="151" y="48"/>
                    </a:lnTo>
                    <a:lnTo>
                      <a:pt x="100" y="94"/>
                    </a:lnTo>
                    <a:lnTo>
                      <a:pt x="151" y="141"/>
                    </a:lnTo>
                    <a:lnTo>
                      <a:pt x="87" y="116"/>
                    </a:lnTo>
                    <a:lnTo>
                      <a:pt x="76" y="187"/>
                    </a:lnTo>
                    <a:lnTo>
                      <a:pt x="64" y="116"/>
                    </a:lnTo>
                    <a:lnTo>
                      <a:pt x="0" y="141"/>
                    </a:lnTo>
                    <a:lnTo>
                      <a:pt x="51" y="94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9080" y="447120"/>
                <a:ext cx="142920" cy="128520"/>
              </a:xfrm>
              <a:custGeom>
                <a:avLst/>
                <a:gdLst/>
                <a:ahLst/>
                <a:rect l="l" t="t" r="r" b="b"/>
                <a:pathLst>
                  <a:path w="236" h="216">
                    <a:moveTo>
                      <a:pt x="80" y="86"/>
                    </a:moveTo>
                    <a:lnTo>
                      <a:pt x="58" y="0"/>
                    </a:lnTo>
                    <a:lnTo>
                      <a:pt x="118" y="62"/>
                    </a:lnTo>
                    <a:lnTo>
                      <a:pt x="175" y="0"/>
                    </a:lnTo>
                    <a:lnTo>
                      <a:pt x="154" y="86"/>
                    </a:lnTo>
                    <a:lnTo>
                      <a:pt x="235" y="108"/>
                    </a:lnTo>
                    <a:lnTo>
                      <a:pt x="153" y="129"/>
                    </a:lnTo>
                    <a:lnTo>
                      <a:pt x="175" y="215"/>
                    </a:lnTo>
                    <a:lnTo>
                      <a:pt x="118" y="153"/>
                    </a:lnTo>
                    <a:lnTo>
                      <a:pt x="58" y="215"/>
                    </a:lnTo>
                    <a:lnTo>
                      <a:pt x="80" y="130"/>
                    </a:lnTo>
                    <a:lnTo>
                      <a:pt x="0" y="108"/>
                    </a:lnTo>
                    <a:lnTo>
                      <a:pt x="80" y="8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8240" y="460440"/>
                <a:ext cx="84600" cy="102960"/>
              </a:xfrm>
              <a:custGeom>
                <a:avLst/>
                <a:gdLst/>
                <a:ahLst/>
                <a:rect l="l" t="t" r="r" b="b"/>
                <a:pathLst>
                  <a:path w="140" h="173">
                    <a:moveTo>
                      <a:pt x="0" y="42"/>
                    </a:moveTo>
                    <a:lnTo>
                      <a:pt x="58" y="63"/>
                    </a:lnTo>
                    <a:lnTo>
                      <a:pt x="70" y="0"/>
                    </a:lnTo>
                    <a:lnTo>
                      <a:pt x="81" y="63"/>
                    </a:lnTo>
                    <a:lnTo>
                      <a:pt x="139" y="42"/>
                    </a:lnTo>
                    <a:lnTo>
                      <a:pt x="94" y="86"/>
                    </a:lnTo>
                    <a:lnTo>
                      <a:pt x="139" y="128"/>
                    </a:lnTo>
                    <a:lnTo>
                      <a:pt x="81" y="108"/>
                    </a:lnTo>
                    <a:lnTo>
                      <a:pt x="70" y="172"/>
                    </a:lnTo>
                    <a:lnTo>
                      <a:pt x="58" y="108"/>
                    </a:lnTo>
                    <a:lnTo>
                      <a:pt x="0" y="128"/>
                    </a:lnTo>
                    <a:lnTo>
                      <a:pt x="45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r-H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r-H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r-H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dfca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4920" y="306360"/>
            <a:ext cx="838080" cy="988920"/>
            <a:chOff x="304920" y="306360"/>
            <a:chExt cx="838080" cy="988920"/>
          </a:xfrm>
        </p:grpSpPr>
        <p:sp>
          <p:nvSpPr>
            <p:cNvPr id="96" name=""/>
            <p:cNvSpPr txBox="1"/>
            <p:nvPr/>
          </p:nvSpPr>
          <p:spPr>
            <a:xfrm>
              <a:off x="304920" y="380880"/>
              <a:ext cx="8190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f48ff"/>
                    </a:solidFill>
                    <a:miter/>
                  </a:ln>
                  <a:gradFill rotWithShape="0">
                    <a:gsLst>
                      <a:gs pos="0">
                        <a:srgbClr val="000074"/>
                      </a:gs>
                      <a:gs pos="100000">
                        <a:srgbClr val="1d53ff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0f48ff">
                        <a:alpha val="50000"/>
                      </a:srgbClr>
                    </a:outerShdw>
                  </a:effectLst>
                  <a:latin typeface="Impact"/>
                </a:rPr>
                <a:t>SiS</a:t>
              </a:r>
              <a:endParaRPr b="0" lang="en-US" sz="2400" spc="1" strike="noStrike">
                <a:ln w="9360">
                  <a:solidFill>
                    <a:srgbClr val="0f48ff"/>
                  </a:solidFill>
                  <a:miter/>
                </a:ln>
                <a:gradFill rotWithShape="0">
                  <a:gsLst>
                    <a:gs pos="0">
                      <a:srgbClr val="000074"/>
                    </a:gs>
                    <a:gs pos="100000">
                      <a:srgbClr val="1d53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f48ff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04920" y="1066680"/>
              <a:ext cx="8380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74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ZESOI</a:t>
              </a:r>
              <a:endParaRPr b="0" lang="en-US" sz="2400" spc="1" strike="noStrike">
                <a:ln w="9360">
                  <a:solidFill>
                    <a:srgbClr val="000074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92120" y="306360"/>
              <a:ext cx="457200" cy="411120"/>
              <a:chOff x="492120" y="306360"/>
              <a:chExt cx="457200" cy="411120"/>
            </a:xfrm>
          </p:grpSpPr>
          <p:sp>
            <p:nvSpPr>
              <p:cNvPr id="99" name=""/>
              <p:cNvSpPr/>
              <p:nvPr/>
            </p:nvSpPr>
            <p:spPr>
              <a:xfrm>
                <a:off x="72360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720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116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5480" y="512280"/>
                <a:ext cx="360" cy="1008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872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232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46280" y="512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0600" y="512280"/>
                <a:ext cx="360" cy="1008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9840" y="377640"/>
                <a:ext cx="221760" cy="267840"/>
              </a:xfrm>
              <a:custGeom>
                <a:avLst/>
                <a:gdLst/>
                <a:ahLst/>
                <a:rect l="l" t="t" r="r" b="b"/>
                <a:pathLst>
                  <a:path w="366" h="450">
                    <a:moveTo>
                      <a:pt x="0" y="114"/>
                    </a:moveTo>
                    <a:lnTo>
                      <a:pt x="170" y="201"/>
                    </a:lnTo>
                    <a:lnTo>
                      <a:pt x="183" y="0"/>
                    </a:lnTo>
                    <a:lnTo>
                      <a:pt x="195" y="201"/>
                    </a:lnTo>
                    <a:lnTo>
                      <a:pt x="364" y="112"/>
                    </a:lnTo>
                    <a:lnTo>
                      <a:pt x="207" y="225"/>
                    </a:lnTo>
                    <a:lnTo>
                      <a:pt x="365" y="337"/>
                    </a:lnTo>
                    <a:lnTo>
                      <a:pt x="195" y="248"/>
                    </a:lnTo>
                    <a:lnTo>
                      <a:pt x="183" y="449"/>
                    </a:lnTo>
                    <a:lnTo>
                      <a:pt x="170" y="248"/>
                    </a:lnTo>
                    <a:lnTo>
                      <a:pt x="0" y="337"/>
                    </a:lnTo>
                    <a:lnTo>
                      <a:pt x="158" y="225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2120" y="306360"/>
                <a:ext cx="457200" cy="411120"/>
              </a:xfrm>
              <a:custGeom>
                <a:avLst/>
                <a:gdLst/>
                <a:ahLst/>
                <a:rect l="l" t="t" r="r" b="b"/>
                <a:pathLst>
                  <a:path w="754" h="691">
                    <a:moveTo>
                      <a:pt x="338" y="322"/>
                    </a:moveTo>
                    <a:lnTo>
                      <a:pt x="188" y="0"/>
                    </a:lnTo>
                    <a:lnTo>
                      <a:pt x="377" y="298"/>
                    </a:lnTo>
                    <a:lnTo>
                      <a:pt x="563" y="0"/>
                    </a:lnTo>
                    <a:lnTo>
                      <a:pt x="414" y="322"/>
                    </a:lnTo>
                    <a:lnTo>
                      <a:pt x="753" y="345"/>
                    </a:lnTo>
                    <a:lnTo>
                      <a:pt x="413" y="367"/>
                    </a:lnTo>
                    <a:lnTo>
                      <a:pt x="566" y="690"/>
                    </a:lnTo>
                    <a:lnTo>
                      <a:pt x="377" y="391"/>
                    </a:lnTo>
                    <a:lnTo>
                      <a:pt x="188" y="690"/>
                    </a:lnTo>
                    <a:lnTo>
                      <a:pt x="337" y="369"/>
                    </a:lnTo>
                    <a:lnTo>
                      <a:pt x="0" y="345"/>
                    </a:lnTo>
                    <a:lnTo>
                      <a:pt x="338" y="322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3440" y="381960"/>
                <a:ext cx="213840" cy="259560"/>
              </a:xfrm>
              <a:custGeom>
                <a:avLst/>
                <a:gdLst/>
                <a:ahLst/>
                <a:rect l="l" t="t" r="r" b="b"/>
                <a:pathLst>
                  <a:path w="353" h="436">
                    <a:moveTo>
                      <a:pt x="0" y="110"/>
                    </a:moveTo>
                    <a:lnTo>
                      <a:pt x="164" y="194"/>
                    </a:lnTo>
                    <a:lnTo>
                      <a:pt x="177" y="0"/>
                    </a:lnTo>
                    <a:lnTo>
                      <a:pt x="189" y="194"/>
                    </a:lnTo>
                    <a:lnTo>
                      <a:pt x="352" y="110"/>
                    </a:lnTo>
                    <a:lnTo>
                      <a:pt x="201" y="218"/>
                    </a:lnTo>
                    <a:lnTo>
                      <a:pt x="352" y="325"/>
                    </a:lnTo>
                    <a:lnTo>
                      <a:pt x="189" y="242"/>
                    </a:lnTo>
                    <a:lnTo>
                      <a:pt x="177" y="435"/>
                    </a:lnTo>
                    <a:lnTo>
                      <a:pt x="164" y="242"/>
                    </a:lnTo>
                    <a:lnTo>
                      <a:pt x="0" y="327"/>
                    </a:lnTo>
                    <a:lnTo>
                      <a:pt x="152" y="218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00400" y="313920"/>
                <a:ext cx="439560" cy="395640"/>
              </a:xfrm>
              <a:custGeom>
                <a:avLst/>
                <a:gdLst/>
                <a:ahLst/>
                <a:rect l="l" t="t" r="r" b="b"/>
                <a:pathLst>
                  <a:path w="725" h="665">
                    <a:moveTo>
                      <a:pt x="324" y="309"/>
                    </a:moveTo>
                    <a:lnTo>
                      <a:pt x="182" y="0"/>
                    </a:lnTo>
                    <a:lnTo>
                      <a:pt x="363" y="285"/>
                    </a:lnTo>
                    <a:lnTo>
                      <a:pt x="543" y="0"/>
                    </a:lnTo>
                    <a:lnTo>
                      <a:pt x="400" y="309"/>
                    </a:lnTo>
                    <a:lnTo>
                      <a:pt x="724" y="332"/>
                    </a:lnTo>
                    <a:lnTo>
                      <a:pt x="399" y="354"/>
                    </a:lnTo>
                    <a:lnTo>
                      <a:pt x="543" y="663"/>
                    </a:lnTo>
                    <a:lnTo>
                      <a:pt x="363" y="378"/>
                    </a:lnTo>
                    <a:lnTo>
                      <a:pt x="182" y="664"/>
                    </a:lnTo>
                    <a:lnTo>
                      <a:pt x="323" y="356"/>
                    </a:lnTo>
                    <a:lnTo>
                      <a:pt x="0" y="332"/>
                    </a:lnTo>
                    <a:lnTo>
                      <a:pt x="324" y="309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7040" y="386640"/>
                <a:ext cx="206640" cy="250560"/>
              </a:xfrm>
              <a:custGeom>
                <a:avLst/>
                <a:gdLst/>
                <a:ahLst/>
                <a:rect l="l" t="t" r="r" b="b"/>
                <a:pathLst>
                  <a:path w="341" h="421">
                    <a:moveTo>
                      <a:pt x="0" y="106"/>
                    </a:moveTo>
                    <a:lnTo>
                      <a:pt x="158" y="186"/>
                    </a:lnTo>
                    <a:lnTo>
                      <a:pt x="171" y="0"/>
                    </a:lnTo>
                    <a:lnTo>
                      <a:pt x="183" y="186"/>
                    </a:lnTo>
                    <a:lnTo>
                      <a:pt x="340" y="106"/>
                    </a:lnTo>
                    <a:lnTo>
                      <a:pt x="195" y="210"/>
                    </a:lnTo>
                    <a:lnTo>
                      <a:pt x="340" y="315"/>
                    </a:lnTo>
                    <a:lnTo>
                      <a:pt x="183" y="234"/>
                    </a:lnTo>
                    <a:lnTo>
                      <a:pt x="171" y="420"/>
                    </a:lnTo>
                    <a:lnTo>
                      <a:pt x="158" y="234"/>
                    </a:lnTo>
                    <a:lnTo>
                      <a:pt x="0" y="315"/>
                    </a:lnTo>
                    <a:lnTo>
                      <a:pt x="146" y="210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9040" y="321840"/>
                <a:ext cx="422640" cy="379440"/>
              </a:xfrm>
              <a:custGeom>
                <a:avLst/>
                <a:gdLst/>
                <a:ahLst/>
                <a:rect l="l" t="t" r="r" b="b"/>
                <a:pathLst>
                  <a:path w="697" h="638">
                    <a:moveTo>
                      <a:pt x="310" y="296"/>
                    </a:moveTo>
                    <a:lnTo>
                      <a:pt x="176" y="0"/>
                    </a:lnTo>
                    <a:lnTo>
                      <a:pt x="349" y="272"/>
                    </a:lnTo>
                    <a:lnTo>
                      <a:pt x="522" y="0"/>
                    </a:lnTo>
                    <a:lnTo>
                      <a:pt x="386" y="296"/>
                    </a:lnTo>
                    <a:lnTo>
                      <a:pt x="696" y="319"/>
                    </a:lnTo>
                    <a:lnTo>
                      <a:pt x="385" y="341"/>
                    </a:lnTo>
                    <a:lnTo>
                      <a:pt x="522" y="637"/>
                    </a:lnTo>
                    <a:lnTo>
                      <a:pt x="349" y="365"/>
                    </a:lnTo>
                    <a:lnTo>
                      <a:pt x="176" y="637"/>
                    </a:lnTo>
                    <a:lnTo>
                      <a:pt x="310" y="342"/>
                    </a:lnTo>
                    <a:lnTo>
                      <a:pt x="0" y="319"/>
                    </a:lnTo>
                    <a:lnTo>
                      <a:pt x="310" y="29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0640" y="390600"/>
                <a:ext cx="199440" cy="241560"/>
              </a:xfrm>
              <a:custGeom>
                <a:avLst/>
                <a:gdLst/>
                <a:ahLst/>
                <a:rect l="l" t="t" r="r" b="b"/>
                <a:pathLst>
                  <a:path w="329" h="406">
                    <a:moveTo>
                      <a:pt x="0" y="103"/>
                    </a:moveTo>
                    <a:lnTo>
                      <a:pt x="152" y="179"/>
                    </a:lnTo>
                    <a:lnTo>
                      <a:pt x="165" y="0"/>
                    </a:lnTo>
                    <a:lnTo>
                      <a:pt x="177" y="179"/>
                    </a:lnTo>
                    <a:lnTo>
                      <a:pt x="328" y="101"/>
                    </a:lnTo>
                    <a:lnTo>
                      <a:pt x="189" y="203"/>
                    </a:lnTo>
                    <a:lnTo>
                      <a:pt x="328" y="304"/>
                    </a:lnTo>
                    <a:lnTo>
                      <a:pt x="177" y="227"/>
                    </a:lnTo>
                    <a:lnTo>
                      <a:pt x="165" y="405"/>
                    </a:lnTo>
                    <a:lnTo>
                      <a:pt x="152" y="227"/>
                    </a:lnTo>
                    <a:lnTo>
                      <a:pt x="0" y="304"/>
                    </a:lnTo>
                    <a:lnTo>
                      <a:pt x="140" y="2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8040" y="329400"/>
                <a:ext cx="405000" cy="364320"/>
              </a:xfrm>
              <a:custGeom>
                <a:avLst/>
                <a:gdLst/>
                <a:ahLst/>
                <a:rect l="l" t="t" r="r" b="b"/>
                <a:pathLst>
                  <a:path w="668" h="612">
                    <a:moveTo>
                      <a:pt x="295" y="283"/>
                    </a:moveTo>
                    <a:lnTo>
                      <a:pt x="168" y="0"/>
                    </a:lnTo>
                    <a:lnTo>
                      <a:pt x="334" y="259"/>
                    </a:lnTo>
                    <a:lnTo>
                      <a:pt x="499" y="0"/>
                    </a:lnTo>
                    <a:lnTo>
                      <a:pt x="371" y="283"/>
                    </a:lnTo>
                    <a:lnTo>
                      <a:pt x="667" y="306"/>
                    </a:lnTo>
                    <a:lnTo>
                      <a:pt x="370" y="328"/>
                    </a:lnTo>
                    <a:lnTo>
                      <a:pt x="499" y="611"/>
                    </a:lnTo>
                    <a:lnTo>
                      <a:pt x="334" y="352"/>
                    </a:lnTo>
                    <a:lnTo>
                      <a:pt x="168" y="611"/>
                    </a:lnTo>
                    <a:lnTo>
                      <a:pt x="294" y="330"/>
                    </a:lnTo>
                    <a:lnTo>
                      <a:pt x="0" y="306"/>
                    </a:lnTo>
                    <a:lnTo>
                      <a:pt x="295" y="28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240" y="394920"/>
                <a:ext cx="192600" cy="233280"/>
              </a:xfrm>
              <a:custGeom>
                <a:avLst/>
                <a:gdLst/>
                <a:ahLst/>
                <a:rect l="l" t="t" r="r" b="b"/>
                <a:pathLst>
                  <a:path w="318" h="392">
                    <a:moveTo>
                      <a:pt x="0" y="99"/>
                    </a:moveTo>
                    <a:lnTo>
                      <a:pt x="146" y="172"/>
                    </a:lnTo>
                    <a:lnTo>
                      <a:pt x="159" y="0"/>
                    </a:lnTo>
                    <a:lnTo>
                      <a:pt x="171" y="172"/>
                    </a:lnTo>
                    <a:lnTo>
                      <a:pt x="317" y="99"/>
                    </a:lnTo>
                    <a:lnTo>
                      <a:pt x="183" y="196"/>
                    </a:lnTo>
                    <a:lnTo>
                      <a:pt x="317" y="292"/>
                    </a:lnTo>
                    <a:lnTo>
                      <a:pt x="171" y="220"/>
                    </a:lnTo>
                    <a:lnTo>
                      <a:pt x="159" y="391"/>
                    </a:lnTo>
                    <a:lnTo>
                      <a:pt x="146" y="220"/>
                    </a:lnTo>
                    <a:lnTo>
                      <a:pt x="0" y="292"/>
                    </a:lnTo>
                    <a:lnTo>
                      <a:pt x="134" y="196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6680" y="336960"/>
                <a:ext cx="387360" cy="348840"/>
              </a:xfrm>
              <a:custGeom>
                <a:avLst/>
                <a:gdLst/>
                <a:ahLst/>
                <a:rect l="l" t="t" r="r" b="b"/>
                <a:pathLst>
                  <a:path w="639" h="586">
                    <a:moveTo>
                      <a:pt x="281" y="270"/>
                    </a:moveTo>
                    <a:lnTo>
                      <a:pt x="161" y="0"/>
                    </a:lnTo>
                    <a:lnTo>
                      <a:pt x="320" y="246"/>
                    </a:lnTo>
                    <a:lnTo>
                      <a:pt x="479" y="0"/>
                    </a:lnTo>
                    <a:lnTo>
                      <a:pt x="357" y="270"/>
                    </a:lnTo>
                    <a:lnTo>
                      <a:pt x="638" y="293"/>
                    </a:lnTo>
                    <a:lnTo>
                      <a:pt x="356" y="315"/>
                    </a:lnTo>
                    <a:lnTo>
                      <a:pt x="479" y="585"/>
                    </a:lnTo>
                    <a:lnTo>
                      <a:pt x="320" y="339"/>
                    </a:lnTo>
                    <a:lnTo>
                      <a:pt x="161" y="585"/>
                    </a:lnTo>
                    <a:lnTo>
                      <a:pt x="281" y="316"/>
                    </a:lnTo>
                    <a:lnTo>
                      <a:pt x="0" y="293"/>
                    </a:lnTo>
                    <a:lnTo>
                      <a:pt x="281" y="270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7840" y="399240"/>
                <a:ext cx="185400" cy="225000"/>
              </a:xfrm>
              <a:custGeom>
                <a:avLst/>
                <a:gdLst/>
                <a:ahLst/>
                <a:rect l="l" t="t" r="r" b="b"/>
                <a:pathLst>
                  <a:path w="306" h="378">
                    <a:moveTo>
                      <a:pt x="0" y="96"/>
                    </a:moveTo>
                    <a:lnTo>
                      <a:pt x="140" y="165"/>
                    </a:lnTo>
                    <a:lnTo>
                      <a:pt x="153" y="0"/>
                    </a:lnTo>
                    <a:lnTo>
                      <a:pt x="165" y="165"/>
                    </a:lnTo>
                    <a:lnTo>
                      <a:pt x="305" y="96"/>
                    </a:lnTo>
                    <a:lnTo>
                      <a:pt x="177" y="189"/>
                    </a:lnTo>
                    <a:lnTo>
                      <a:pt x="305" y="283"/>
                    </a:lnTo>
                    <a:lnTo>
                      <a:pt x="165" y="212"/>
                    </a:lnTo>
                    <a:lnTo>
                      <a:pt x="153" y="377"/>
                    </a:lnTo>
                    <a:lnTo>
                      <a:pt x="140" y="212"/>
                    </a:lnTo>
                    <a:lnTo>
                      <a:pt x="0" y="283"/>
                    </a:lnTo>
                    <a:lnTo>
                      <a:pt x="128" y="189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5680" y="344880"/>
                <a:ext cx="369720" cy="333000"/>
              </a:xfrm>
              <a:custGeom>
                <a:avLst/>
                <a:gdLst/>
                <a:ahLst/>
                <a:rect l="l" t="t" r="r" b="b"/>
                <a:pathLst>
                  <a:path w="610" h="560">
                    <a:moveTo>
                      <a:pt x="266" y="257"/>
                    </a:moveTo>
                    <a:lnTo>
                      <a:pt x="152" y="0"/>
                    </a:lnTo>
                    <a:lnTo>
                      <a:pt x="305" y="233"/>
                    </a:lnTo>
                    <a:lnTo>
                      <a:pt x="455" y="0"/>
                    </a:lnTo>
                    <a:lnTo>
                      <a:pt x="342" y="257"/>
                    </a:lnTo>
                    <a:lnTo>
                      <a:pt x="609" y="280"/>
                    </a:lnTo>
                    <a:lnTo>
                      <a:pt x="341" y="302"/>
                    </a:lnTo>
                    <a:lnTo>
                      <a:pt x="455" y="559"/>
                    </a:lnTo>
                    <a:lnTo>
                      <a:pt x="305" y="326"/>
                    </a:lnTo>
                    <a:lnTo>
                      <a:pt x="152" y="559"/>
                    </a:lnTo>
                    <a:lnTo>
                      <a:pt x="266" y="304"/>
                    </a:lnTo>
                    <a:lnTo>
                      <a:pt x="0" y="280"/>
                    </a:lnTo>
                    <a:lnTo>
                      <a:pt x="266" y="25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1440" y="403920"/>
                <a:ext cx="178200" cy="216000"/>
              </a:xfrm>
              <a:custGeom>
                <a:avLst/>
                <a:gdLst/>
                <a:ahLst/>
                <a:rect l="l" t="t" r="r" b="b"/>
                <a:pathLst>
                  <a:path w="294" h="363">
                    <a:moveTo>
                      <a:pt x="0" y="90"/>
                    </a:moveTo>
                    <a:lnTo>
                      <a:pt x="134" y="158"/>
                    </a:lnTo>
                    <a:lnTo>
                      <a:pt x="147" y="0"/>
                    </a:lnTo>
                    <a:lnTo>
                      <a:pt x="159" y="158"/>
                    </a:lnTo>
                    <a:lnTo>
                      <a:pt x="293" y="90"/>
                    </a:lnTo>
                    <a:lnTo>
                      <a:pt x="171" y="181"/>
                    </a:lnTo>
                    <a:lnTo>
                      <a:pt x="293" y="270"/>
                    </a:lnTo>
                    <a:lnTo>
                      <a:pt x="159" y="204"/>
                    </a:lnTo>
                    <a:lnTo>
                      <a:pt x="147" y="362"/>
                    </a:lnTo>
                    <a:lnTo>
                      <a:pt x="134" y="204"/>
                    </a:lnTo>
                    <a:lnTo>
                      <a:pt x="0" y="270"/>
                    </a:lnTo>
                    <a:lnTo>
                      <a:pt x="122" y="18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3960" y="352800"/>
                <a:ext cx="352800" cy="317880"/>
              </a:xfrm>
              <a:custGeom>
                <a:avLst/>
                <a:gdLst/>
                <a:ahLst/>
                <a:rect l="l" t="t" r="r" b="b"/>
                <a:pathLst>
                  <a:path w="582" h="534">
                    <a:moveTo>
                      <a:pt x="253" y="244"/>
                    </a:moveTo>
                    <a:lnTo>
                      <a:pt x="145" y="0"/>
                    </a:lnTo>
                    <a:lnTo>
                      <a:pt x="291" y="220"/>
                    </a:lnTo>
                    <a:lnTo>
                      <a:pt x="436" y="0"/>
                    </a:lnTo>
                    <a:lnTo>
                      <a:pt x="327" y="244"/>
                    </a:lnTo>
                    <a:lnTo>
                      <a:pt x="581" y="267"/>
                    </a:lnTo>
                    <a:lnTo>
                      <a:pt x="327" y="289"/>
                    </a:lnTo>
                    <a:lnTo>
                      <a:pt x="436" y="533"/>
                    </a:lnTo>
                    <a:lnTo>
                      <a:pt x="291" y="313"/>
                    </a:lnTo>
                    <a:lnTo>
                      <a:pt x="145" y="533"/>
                    </a:lnTo>
                    <a:lnTo>
                      <a:pt x="252" y="290"/>
                    </a:lnTo>
                    <a:lnTo>
                      <a:pt x="0" y="267"/>
                    </a:lnTo>
                    <a:lnTo>
                      <a:pt x="253" y="244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5040" y="407880"/>
                <a:ext cx="171000" cy="207000"/>
              </a:xfrm>
              <a:custGeom>
                <a:avLst/>
                <a:gdLst/>
                <a:ahLst/>
                <a:rect l="l" t="t" r="r" b="b"/>
                <a:pathLst>
                  <a:path w="282" h="348">
                    <a:moveTo>
                      <a:pt x="0" y="88"/>
                    </a:moveTo>
                    <a:lnTo>
                      <a:pt x="128" y="151"/>
                    </a:lnTo>
                    <a:lnTo>
                      <a:pt x="141" y="0"/>
                    </a:lnTo>
                    <a:lnTo>
                      <a:pt x="153" y="151"/>
                    </a:lnTo>
                    <a:lnTo>
                      <a:pt x="280" y="88"/>
                    </a:lnTo>
                    <a:lnTo>
                      <a:pt x="165" y="174"/>
                    </a:lnTo>
                    <a:lnTo>
                      <a:pt x="281" y="259"/>
                    </a:lnTo>
                    <a:lnTo>
                      <a:pt x="153" y="197"/>
                    </a:lnTo>
                    <a:lnTo>
                      <a:pt x="141" y="347"/>
                    </a:lnTo>
                    <a:lnTo>
                      <a:pt x="128" y="197"/>
                    </a:lnTo>
                    <a:lnTo>
                      <a:pt x="0" y="261"/>
                    </a:lnTo>
                    <a:lnTo>
                      <a:pt x="116" y="17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2600" y="361080"/>
                <a:ext cx="335520" cy="301680"/>
              </a:xfrm>
              <a:custGeom>
                <a:avLst/>
                <a:gdLst/>
                <a:ahLst/>
                <a:rect l="l" t="t" r="r" b="b"/>
                <a:pathLst>
                  <a:path w="553" h="507">
                    <a:moveTo>
                      <a:pt x="239" y="230"/>
                    </a:moveTo>
                    <a:lnTo>
                      <a:pt x="139" y="0"/>
                    </a:lnTo>
                    <a:lnTo>
                      <a:pt x="277" y="206"/>
                    </a:lnTo>
                    <a:lnTo>
                      <a:pt x="414" y="0"/>
                    </a:lnTo>
                    <a:lnTo>
                      <a:pt x="313" y="230"/>
                    </a:lnTo>
                    <a:lnTo>
                      <a:pt x="552" y="253"/>
                    </a:lnTo>
                    <a:lnTo>
                      <a:pt x="312" y="275"/>
                    </a:lnTo>
                    <a:lnTo>
                      <a:pt x="414" y="506"/>
                    </a:lnTo>
                    <a:lnTo>
                      <a:pt x="277" y="299"/>
                    </a:lnTo>
                    <a:lnTo>
                      <a:pt x="139" y="506"/>
                    </a:lnTo>
                    <a:lnTo>
                      <a:pt x="238" y="277"/>
                    </a:lnTo>
                    <a:lnTo>
                      <a:pt x="0" y="253"/>
                    </a:lnTo>
                    <a:lnTo>
                      <a:pt x="239" y="230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8640" y="412560"/>
                <a:ext cx="163800" cy="1976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1240" y="368640"/>
                <a:ext cx="318240" cy="28548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1880" y="416880"/>
                <a:ext cx="156960" cy="189000"/>
              </a:xfrm>
              <a:custGeom>
                <a:avLst/>
                <a:gdLst/>
                <a:ahLst/>
                <a:rect l="l" t="t" r="r" b="b"/>
                <a:pathLst>
                  <a:path w="259" h="318">
                    <a:moveTo>
                      <a:pt x="0" y="80"/>
                    </a:moveTo>
                    <a:lnTo>
                      <a:pt x="117" y="136"/>
                    </a:lnTo>
                    <a:lnTo>
                      <a:pt x="129" y="0"/>
                    </a:lnTo>
                    <a:lnTo>
                      <a:pt x="142" y="136"/>
                    </a:lnTo>
                    <a:lnTo>
                      <a:pt x="258" y="80"/>
                    </a:lnTo>
                    <a:lnTo>
                      <a:pt x="154" y="159"/>
                    </a:lnTo>
                    <a:lnTo>
                      <a:pt x="258" y="239"/>
                    </a:lnTo>
                    <a:lnTo>
                      <a:pt x="142" y="182"/>
                    </a:lnTo>
                    <a:lnTo>
                      <a:pt x="130" y="317"/>
                    </a:lnTo>
                    <a:lnTo>
                      <a:pt x="117" y="182"/>
                    </a:lnTo>
                    <a:lnTo>
                      <a:pt x="0" y="239"/>
                    </a:lnTo>
                    <a:lnTo>
                      <a:pt x="105" y="159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0240" y="376560"/>
                <a:ext cx="300600" cy="270000"/>
              </a:xfrm>
              <a:custGeom>
                <a:avLst/>
                <a:gdLst/>
                <a:ahLst/>
                <a:rect l="l" t="t" r="r" b="b"/>
                <a:pathLst>
                  <a:path w="496" h="454">
                    <a:moveTo>
                      <a:pt x="210" y="204"/>
                    </a:moveTo>
                    <a:lnTo>
                      <a:pt x="125" y="1"/>
                    </a:lnTo>
                    <a:lnTo>
                      <a:pt x="248" y="180"/>
                    </a:lnTo>
                    <a:lnTo>
                      <a:pt x="369" y="0"/>
                    </a:lnTo>
                    <a:lnTo>
                      <a:pt x="284" y="204"/>
                    </a:lnTo>
                    <a:lnTo>
                      <a:pt x="495" y="227"/>
                    </a:lnTo>
                    <a:lnTo>
                      <a:pt x="283" y="249"/>
                    </a:lnTo>
                    <a:lnTo>
                      <a:pt x="370" y="453"/>
                    </a:lnTo>
                    <a:lnTo>
                      <a:pt x="248" y="273"/>
                    </a:lnTo>
                    <a:lnTo>
                      <a:pt x="125" y="453"/>
                    </a:lnTo>
                    <a:lnTo>
                      <a:pt x="209" y="251"/>
                    </a:lnTo>
                    <a:lnTo>
                      <a:pt x="0" y="227"/>
                    </a:lnTo>
                    <a:lnTo>
                      <a:pt x="210" y="20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" y="421560"/>
                <a:ext cx="149760" cy="180360"/>
              </a:xfrm>
              <a:custGeom>
                <a:avLst/>
                <a:gdLst/>
                <a:ahLst/>
                <a:rect l="l" t="t" r="r" b="b"/>
                <a:pathLst>
                  <a:path w="247" h="303">
                    <a:moveTo>
                      <a:pt x="0" y="76"/>
                    </a:moveTo>
                    <a:lnTo>
                      <a:pt x="111" y="128"/>
                    </a:lnTo>
                    <a:lnTo>
                      <a:pt x="124" y="0"/>
                    </a:lnTo>
                    <a:lnTo>
                      <a:pt x="136" y="128"/>
                    </a:lnTo>
                    <a:lnTo>
                      <a:pt x="246" y="76"/>
                    </a:lnTo>
                    <a:lnTo>
                      <a:pt x="148" y="151"/>
                    </a:lnTo>
                    <a:lnTo>
                      <a:pt x="246" y="227"/>
                    </a:lnTo>
                    <a:lnTo>
                      <a:pt x="136" y="173"/>
                    </a:lnTo>
                    <a:lnTo>
                      <a:pt x="124" y="302"/>
                    </a:lnTo>
                    <a:lnTo>
                      <a:pt x="111" y="173"/>
                    </a:lnTo>
                    <a:lnTo>
                      <a:pt x="0" y="227"/>
                    </a:lnTo>
                    <a:lnTo>
                      <a:pt x="99" y="151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80" y="384120"/>
                <a:ext cx="282960" cy="254520"/>
              </a:xfrm>
              <a:custGeom>
                <a:avLst/>
                <a:gdLst/>
                <a:ahLst/>
                <a:rect l="l" t="t" r="r" b="b"/>
                <a:pathLst>
                  <a:path w="467" h="428">
                    <a:moveTo>
                      <a:pt x="196" y="191"/>
                    </a:moveTo>
                    <a:lnTo>
                      <a:pt x="118" y="0"/>
                    </a:lnTo>
                    <a:lnTo>
                      <a:pt x="234" y="167"/>
                    </a:lnTo>
                    <a:lnTo>
                      <a:pt x="350" y="0"/>
                    </a:lnTo>
                    <a:lnTo>
                      <a:pt x="270" y="191"/>
                    </a:lnTo>
                    <a:lnTo>
                      <a:pt x="466" y="214"/>
                    </a:lnTo>
                    <a:lnTo>
                      <a:pt x="269" y="236"/>
                    </a:lnTo>
                    <a:lnTo>
                      <a:pt x="350" y="427"/>
                    </a:lnTo>
                    <a:lnTo>
                      <a:pt x="234" y="260"/>
                    </a:lnTo>
                    <a:lnTo>
                      <a:pt x="118" y="427"/>
                    </a:lnTo>
                    <a:lnTo>
                      <a:pt x="195" y="237"/>
                    </a:lnTo>
                    <a:lnTo>
                      <a:pt x="0" y="214"/>
                    </a:lnTo>
                    <a:lnTo>
                      <a:pt x="196" y="19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9080" y="425880"/>
                <a:ext cx="142560" cy="172080"/>
              </a:xfrm>
              <a:custGeom>
                <a:avLst/>
                <a:gdLst/>
                <a:ahLst/>
                <a:rect l="l" t="t" r="r" b="b"/>
                <a:pathLst>
                  <a:path w="235" h="289">
                    <a:moveTo>
                      <a:pt x="0" y="71"/>
                    </a:moveTo>
                    <a:lnTo>
                      <a:pt x="105" y="121"/>
                    </a:lnTo>
                    <a:lnTo>
                      <a:pt x="118" y="0"/>
                    </a:lnTo>
                    <a:lnTo>
                      <a:pt x="130" y="121"/>
                    </a:lnTo>
                    <a:lnTo>
                      <a:pt x="234" y="71"/>
                    </a:lnTo>
                    <a:lnTo>
                      <a:pt x="142" y="144"/>
                    </a:lnTo>
                    <a:lnTo>
                      <a:pt x="234" y="215"/>
                    </a:lnTo>
                    <a:lnTo>
                      <a:pt x="130" y="167"/>
                    </a:lnTo>
                    <a:lnTo>
                      <a:pt x="118" y="288"/>
                    </a:lnTo>
                    <a:lnTo>
                      <a:pt x="105" y="167"/>
                    </a:lnTo>
                    <a:lnTo>
                      <a:pt x="0" y="217"/>
                    </a:lnTo>
                    <a:lnTo>
                      <a:pt x="93" y="144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7160" y="392400"/>
                <a:ext cx="266040" cy="238680"/>
              </a:xfrm>
              <a:custGeom>
                <a:avLst/>
                <a:gdLst/>
                <a:ahLst/>
                <a:rect l="l" t="t" r="r" b="b"/>
                <a:pathLst>
                  <a:path w="439" h="401">
                    <a:moveTo>
                      <a:pt x="182" y="177"/>
                    </a:moveTo>
                    <a:lnTo>
                      <a:pt x="111" y="0"/>
                    </a:lnTo>
                    <a:lnTo>
                      <a:pt x="220" y="153"/>
                    </a:lnTo>
                    <a:lnTo>
                      <a:pt x="329" y="0"/>
                    </a:lnTo>
                    <a:lnTo>
                      <a:pt x="256" y="177"/>
                    </a:lnTo>
                    <a:lnTo>
                      <a:pt x="438" y="200"/>
                    </a:lnTo>
                    <a:lnTo>
                      <a:pt x="255" y="222"/>
                    </a:lnTo>
                    <a:lnTo>
                      <a:pt x="329" y="400"/>
                    </a:lnTo>
                    <a:lnTo>
                      <a:pt x="220" y="246"/>
                    </a:lnTo>
                    <a:lnTo>
                      <a:pt x="111" y="400"/>
                    </a:lnTo>
                    <a:lnTo>
                      <a:pt x="182" y="223"/>
                    </a:lnTo>
                    <a:lnTo>
                      <a:pt x="0" y="200"/>
                    </a:lnTo>
                    <a:lnTo>
                      <a:pt x="182" y="177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2680" y="429840"/>
                <a:ext cx="135000" cy="163080"/>
              </a:xfrm>
              <a:custGeom>
                <a:avLst/>
                <a:gdLst/>
                <a:ahLst/>
                <a:rect l="l" t="t" r="r" b="b"/>
                <a:pathLst>
                  <a:path w="223" h="274">
                    <a:moveTo>
                      <a:pt x="0" y="69"/>
                    </a:moveTo>
                    <a:lnTo>
                      <a:pt x="99" y="114"/>
                    </a:lnTo>
                    <a:lnTo>
                      <a:pt x="112" y="0"/>
                    </a:lnTo>
                    <a:lnTo>
                      <a:pt x="124" y="114"/>
                    </a:lnTo>
                    <a:lnTo>
                      <a:pt x="222" y="69"/>
                    </a:lnTo>
                    <a:lnTo>
                      <a:pt x="136" y="137"/>
                    </a:lnTo>
                    <a:lnTo>
                      <a:pt x="222" y="206"/>
                    </a:lnTo>
                    <a:lnTo>
                      <a:pt x="124" y="159"/>
                    </a:lnTo>
                    <a:lnTo>
                      <a:pt x="112" y="273"/>
                    </a:lnTo>
                    <a:lnTo>
                      <a:pt x="99" y="159"/>
                    </a:lnTo>
                    <a:lnTo>
                      <a:pt x="0" y="206"/>
                    </a:lnTo>
                    <a:lnTo>
                      <a:pt x="87" y="137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6520" y="399600"/>
                <a:ext cx="248400" cy="223560"/>
              </a:xfrm>
              <a:custGeom>
                <a:avLst/>
                <a:gdLst/>
                <a:ahLst/>
                <a:rect l="l" t="t" r="r" b="b"/>
                <a:pathLst>
                  <a:path w="410" h="376">
                    <a:moveTo>
                      <a:pt x="167" y="165"/>
                    </a:moveTo>
                    <a:lnTo>
                      <a:pt x="102" y="0"/>
                    </a:lnTo>
                    <a:lnTo>
                      <a:pt x="205" y="141"/>
                    </a:lnTo>
                    <a:lnTo>
                      <a:pt x="305" y="0"/>
                    </a:lnTo>
                    <a:lnTo>
                      <a:pt x="241" y="165"/>
                    </a:lnTo>
                    <a:lnTo>
                      <a:pt x="409" y="188"/>
                    </a:lnTo>
                    <a:lnTo>
                      <a:pt x="240" y="210"/>
                    </a:lnTo>
                    <a:lnTo>
                      <a:pt x="305" y="375"/>
                    </a:lnTo>
                    <a:lnTo>
                      <a:pt x="205" y="234"/>
                    </a:lnTo>
                    <a:lnTo>
                      <a:pt x="102" y="375"/>
                    </a:lnTo>
                    <a:lnTo>
                      <a:pt x="166" y="211"/>
                    </a:lnTo>
                    <a:lnTo>
                      <a:pt x="0" y="188"/>
                    </a:lnTo>
                    <a:lnTo>
                      <a:pt x="167" y="165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6280" y="434160"/>
                <a:ext cx="127800" cy="154800"/>
              </a:xfrm>
              <a:custGeom>
                <a:avLst/>
                <a:gdLst/>
                <a:ahLst/>
                <a:rect l="l" t="t" r="r" b="b"/>
                <a:pathLst>
                  <a:path w="211" h="260">
                    <a:moveTo>
                      <a:pt x="0" y="66"/>
                    </a:moveTo>
                    <a:lnTo>
                      <a:pt x="93" y="107"/>
                    </a:lnTo>
                    <a:lnTo>
                      <a:pt x="106" y="0"/>
                    </a:lnTo>
                    <a:lnTo>
                      <a:pt x="118" y="107"/>
                    </a:lnTo>
                    <a:lnTo>
                      <a:pt x="210" y="66"/>
                    </a:lnTo>
                    <a:lnTo>
                      <a:pt x="130" y="130"/>
                    </a:lnTo>
                    <a:lnTo>
                      <a:pt x="210" y="195"/>
                    </a:lnTo>
                    <a:lnTo>
                      <a:pt x="118" y="152"/>
                    </a:lnTo>
                    <a:lnTo>
                      <a:pt x="106" y="259"/>
                    </a:lnTo>
                    <a:lnTo>
                      <a:pt x="93" y="152"/>
                    </a:lnTo>
                    <a:lnTo>
                      <a:pt x="0" y="195"/>
                    </a:lnTo>
                    <a:lnTo>
                      <a:pt x="81" y="13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800" y="407520"/>
                <a:ext cx="231480" cy="2080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9880" y="438840"/>
                <a:ext cx="120600" cy="145800"/>
              </a:xfrm>
              <a:custGeom>
                <a:avLst/>
                <a:gdLst/>
                <a:ahLst/>
                <a:rect l="l" t="t" r="r" b="b"/>
                <a:pathLst>
                  <a:path w="199" h="245">
                    <a:moveTo>
                      <a:pt x="0" y="60"/>
                    </a:moveTo>
                    <a:lnTo>
                      <a:pt x="87" y="99"/>
                    </a:lnTo>
                    <a:lnTo>
                      <a:pt x="100" y="0"/>
                    </a:lnTo>
                    <a:lnTo>
                      <a:pt x="111" y="99"/>
                    </a:lnTo>
                    <a:lnTo>
                      <a:pt x="198" y="60"/>
                    </a:lnTo>
                    <a:lnTo>
                      <a:pt x="124" y="122"/>
                    </a:lnTo>
                    <a:lnTo>
                      <a:pt x="198" y="182"/>
                    </a:lnTo>
                    <a:lnTo>
                      <a:pt x="111" y="144"/>
                    </a:lnTo>
                    <a:lnTo>
                      <a:pt x="100" y="244"/>
                    </a:lnTo>
                    <a:lnTo>
                      <a:pt x="87" y="144"/>
                    </a:lnTo>
                    <a:lnTo>
                      <a:pt x="0" y="182"/>
                    </a:lnTo>
                    <a:lnTo>
                      <a:pt x="75" y="12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3800" y="416520"/>
                <a:ext cx="212760" cy="190800"/>
              </a:xfrm>
              <a:custGeom>
                <a:avLst/>
                <a:gdLst/>
                <a:ahLst/>
                <a:rect l="l" t="t" r="r" b="b"/>
                <a:pathLst>
                  <a:path w="351" h="321">
                    <a:moveTo>
                      <a:pt x="138" y="138"/>
                    </a:moveTo>
                    <a:lnTo>
                      <a:pt x="89" y="0"/>
                    </a:lnTo>
                    <a:lnTo>
                      <a:pt x="176" y="113"/>
                    </a:lnTo>
                    <a:lnTo>
                      <a:pt x="263" y="0"/>
                    </a:lnTo>
                    <a:lnTo>
                      <a:pt x="212" y="138"/>
                    </a:lnTo>
                    <a:lnTo>
                      <a:pt x="350" y="160"/>
                    </a:lnTo>
                    <a:lnTo>
                      <a:pt x="211" y="181"/>
                    </a:lnTo>
                    <a:lnTo>
                      <a:pt x="263" y="319"/>
                    </a:lnTo>
                    <a:lnTo>
                      <a:pt x="176" y="206"/>
                    </a:lnTo>
                    <a:lnTo>
                      <a:pt x="89" y="320"/>
                    </a:lnTo>
                    <a:lnTo>
                      <a:pt x="138" y="182"/>
                    </a:lnTo>
                    <a:lnTo>
                      <a:pt x="0" y="160"/>
                    </a:lnTo>
                    <a:lnTo>
                      <a:pt x="138" y="138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3480" y="443160"/>
                <a:ext cx="113400" cy="137520"/>
              </a:xfrm>
              <a:custGeom>
                <a:avLst/>
                <a:gdLst/>
                <a:ahLst/>
                <a:rect l="l" t="t" r="r" b="b"/>
                <a:pathLst>
                  <a:path w="187" h="231">
                    <a:moveTo>
                      <a:pt x="0" y="58"/>
                    </a:moveTo>
                    <a:lnTo>
                      <a:pt x="81" y="92"/>
                    </a:lnTo>
                    <a:lnTo>
                      <a:pt x="94" y="0"/>
                    </a:lnTo>
                    <a:lnTo>
                      <a:pt x="105" y="92"/>
                    </a:lnTo>
                    <a:lnTo>
                      <a:pt x="186" y="58"/>
                    </a:lnTo>
                    <a:lnTo>
                      <a:pt x="118" y="115"/>
                    </a:lnTo>
                    <a:lnTo>
                      <a:pt x="186" y="173"/>
                    </a:lnTo>
                    <a:lnTo>
                      <a:pt x="105" y="137"/>
                    </a:lnTo>
                    <a:lnTo>
                      <a:pt x="94" y="230"/>
                    </a:lnTo>
                    <a:lnTo>
                      <a:pt x="81" y="137"/>
                    </a:lnTo>
                    <a:lnTo>
                      <a:pt x="0" y="173"/>
                    </a:lnTo>
                    <a:lnTo>
                      <a:pt x="69" y="115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3160" y="424080"/>
                <a:ext cx="195120" cy="17532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123" y="125"/>
                    </a:moveTo>
                    <a:lnTo>
                      <a:pt x="81" y="0"/>
                    </a:lnTo>
                    <a:lnTo>
                      <a:pt x="161" y="100"/>
                    </a:lnTo>
                    <a:lnTo>
                      <a:pt x="240" y="0"/>
                    </a:lnTo>
                    <a:lnTo>
                      <a:pt x="197" y="125"/>
                    </a:lnTo>
                    <a:lnTo>
                      <a:pt x="321" y="147"/>
                    </a:lnTo>
                    <a:lnTo>
                      <a:pt x="196" y="168"/>
                    </a:lnTo>
                    <a:lnTo>
                      <a:pt x="240" y="293"/>
                    </a:lnTo>
                    <a:lnTo>
                      <a:pt x="161" y="193"/>
                    </a:lnTo>
                    <a:lnTo>
                      <a:pt x="81" y="294"/>
                    </a:lnTo>
                    <a:lnTo>
                      <a:pt x="122" y="170"/>
                    </a:lnTo>
                    <a:lnTo>
                      <a:pt x="0" y="147"/>
                    </a:lnTo>
                    <a:lnTo>
                      <a:pt x="123" y="125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7440" y="447120"/>
                <a:ext cx="106560" cy="128880"/>
              </a:xfrm>
              <a:custGeom>
                <a:avLst/>
                <a:gdLst/>
                <a:ahLst/>
                <a:rect l="l" t="t" r="r" b="b"/>
                <a:pathLst>
                  <a:path w="176" h="217">
                    <a:moveTo>
                      <a:pt x="0" y="55"/>
                    </a:moveTo>
                    <a:lnTo>
                      <a:pt x="76" y="85"/>
                    </a:lnTo>
                    <a:lnTo>
                      <a:pt x="88" y="0"/>
                    </a:lnTo>
                    <a:lnTo>
                      <a:pt x="99" y="85"/>
                    </a:lnTo>
                    <a:lnTo>
                      <a:pt x="174" y="53"/>
                    </a:lnTo>
                    <a:lnTo>
                      <a:pt x="112" y="108"/>
                    </a:lnTo>
                    <a:lnTo>
                      <a:pt x="175" y="161"/>
                    </a:lnTo>
                    <a:lnTo>
                      <a:pt x="99" y="130"/>
                    </a:lnTo>
                    <a:lnTo>
                      <a:pt x="88" y="216"/>
                    </a:lnTo>
                    <a:lnTo>
                      <a:pt x="76" y="130"/>
                    </a:lnTo>
                    <a:lnTo>
                      <a:pt x="0" y="161"/>
                    </a:lnTo>
                    <a:lnTo>
                      <a:pt x="63" y="10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1440" y="431640"/>
                <a:ext cx="178200" cy="160200"/>
              </a:xfrm>
              <a:custGeom>
                <a:avLst/>
                <a:gdLst/>
                <a:ahLst/>
                <a:rect l="l" t="t" r="r" b="b"/>
                <a:pathLst>
                  <a:path w="294" h="269">
                    <a:moveTo>
                      <a:pt x="109" y="112"/>
                    </a:moveTo>
                    <a:lnTo>
                      <a:pt x="74" y="0"/>
                    </a:lnTo>
                    <a:lnTo>
                      <a:pt x="147" y="87"/>
                    </a:lnTo>
                    <a:lnTo>
                      <a:pt x="219" y="0"/>
                    </a:lnTo>
                    <a:lnTo>
                      <a:pt x="183" y="112"/>
                    </a:lnTo>
                    <a:lnTo>
                      <a:pt x="293" y="134"/>
                    </a:lnTo>
                    <a:lnTo>
                      <a:pt x="182" y="155"/>
                    </a:lnTo>
                    <a:lnTo>
                      <a:pt x="219" y="267"/>
                    </a:lnTo>
                    <a:lnTo>
                      <a:pt x="147" y="180"/>
                    </a:lnTo>
                    <a:lnTo>
                      <a:pt x="74" y="268"/>
                    </a:lnTo>
                    <a:lnTo>
                      <a:pt x="108" y="157"/>
                    </a:lnTo>
                    <a:lnTo>
                      <a:pt x="0" y="134"/>
                    </a:lnTo>
                    <a:lnTo>
                      <a:pt x="109" y="112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1040" y="451440"/>
                <a:ext cx="99360" cy="120240"/>
              </a:xfrm>
              <a:custGeom>
                <a:avLst/>
                <a:gdLst/>
                <a:ahLst/>
                <a:rect l="l" t="t" r="r" b="b"/>
                <a:pathLst>
                  <a:path w="164" h="202">
                    <a:moveTo>
                      <a:pt x="0" y="51"/>
                    </a:moveTo>
                    <a:lnTo>
                      <a:pt x="70" y="78"/>
                    </a:lnTo>
                    <a:lnTo>
                      <a:pt x="82" y="0"/>
                    </a:lnTo>
                    <a:lnTo>
                      <a:pt x="93" y="78"/>
                    </a:lnTo>
                    <a:lnTo>
                      <a:pt x="162" y="51"/>
                    </a:lnTo>
                    <a:lnTo>
                      <a:pt x="106" y="101"/>
                    </a:lnTo>
                    <a:lnTo>
                      <a:pt x="163" y="150"/>
                    </a:lnTo>
                    <a:lnTo>
                      <a:pt x="93" y="123"/>
                    </a:lnTo>
                    <a:lnTo>
                      <a:pt x="82" y="201"/>
                    </a:lnTo>
                    <a:lnTo>
                      <a:pt x="70" y="123"/>
                    </a:lnTo>
                    <a:lnTo>
                      <a:pt x="0" y="150"/>
                    </a:lnTo>
                    <a:lnTo>
                      <a:pt x="57" y="10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0080" y="439560"/>
                <a:ext cx="160560" cy="144000"/>
              </a:xfrm>
              <a:custGeom>
                <a:avLst/>
                <a:gdLst/>
                <a:ahLst/>
                <a:rect l="l" t="t" r="r" b="b"/>
                <a:pathLst>
                  <a:path w="265" h="242">
                    <a:moveTo>
                      <a:pt x="95" y="99"/>
                    </a:moveTo>
                    <a:lnTo>
                      <a:pt x="67" y="0"/>
                    </a:lnTo>
                    <a:lnTo>
                      <a:pt x="133" y="75"/>
                    </a:lnTo>
                    <a:lnTo>
                      <a:pt x="199" y="0"/>
                    </a:lnTo>
                    <a:lnTo>
                      <a:pt x="169" y="99"/>
                    </a:lnTo>
                    <a:lnTo>
                      <a:pt x="264" y="121"/>
                    </a:lnTo>
                    <a:lnTo>
                      <a:pt x="168" y="142"/>
                    </a:lnTo>
                    <a:lnTo>
                      <a:pt x="199" y="241"/>
                    </a:lnTo>
                    <a:lnTo>
                      <a:pt x="133" y="166"/>
                    </a:lnTo>
                    <a:lnTo>
                      <a:pt x="67" y="241"/>
                    </a:lnTo>
                    <a:lnTo>
                      <a:pt x="95" y="143"/>
                    </a:lnTo>
                    <a:lnTo>
                      <a:pt x="0" y="121"/>
                    </a:lnTo>
                    <a:lnTo>
                      <a:pt x="95" y="99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4640" y="455760"/>
                <a:ext cx="92160" cy="111600"/>
              </a:xfrm>
              <a:custGeom>
                <a:avLst/>
                <a:gdLst/>
                <a:ahLst/>
                <a:rect l="l" t="t" r="r" b="b"/>
                <a:pathLst>
                  <a:path w="152" h="188">
                    <a:moveTo>
                      <a:pt x="0" y="48"/>
                    </a:moveTo>
                    <a:lnTo>
                      <a:pt x="64" y="71"/>
                    </a:lnTo>
                    <a:lnTo>
                      <a:pt x="76" y="0"/>
                    </a:lnTo>
                    <a:lnTo>
                      <a:pt x="87" y="71"/>
                    </a:lnTo>
                    <a:lnTo>
                      <a:pt x="151" y="48"/>
                    </a:lnTo>
                    <a:lnTo>
                      <a:pt x="100" y="94"/>
                    </a:lnTo>
                    <a:lnTo>
                      <a:pt x="151" y="141"/>
                    </a:lnTo>
                    <a:lnTo>
                      <a:pt x="87" y="116"/>
                    </a:lnTo>
                    <a:lnTo>
                      <a:pt x="76" y="187"/>
                    </a:lnTo>
                    <a:lnTo>
                      <a:pt x="64" y="116"/>
                    </a:lnTo>
                    <a:lnTo>
                      <a:pt x="0" y="141"/>
                    </a:lnTo>
                    <a:lnTo>
                      <a:pt x="51" y="94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9080" y="447120"/>
                <a:ext cx="142920" cy="128520"/>
              </a:xfrm>
              <a:custGeom>
                <a:avLst/>
                <a:gdLst/>
                <a:ahLst/>
                <a:rect l="l" t="t" r="r" b="b"/>
                <a:pathLst>
                  <a:path w="236" h="216">
                    <a:moveTo>
                      <a:pt x="80" y="86"/>
                    </a:moveTo>
                    <a:lnTo>
                      <a:pt x="58" y="0"/>
                    </a:lnTo>
                    <a:lnTo>
                      <a:pt x="118" y="62"/>
                    </a:lnTo>
                    <a:lnTo>
                      <a:pt x="175" y="0"/>
                    </a:lnTo>
                    <a:lnTo>
                      <a:pt x="154" y="86"/>
                    </a:lnTo>
                    <a:lnTo>
                      <a:pt x="235" y="108"/>
                    </a:lnTo>
                    <a:lnTo>
                      <a:pt x="153" y="129"/>
                    </a:lnTo>
                    <a:lnTo>
                      <a:pt x="175" y="215"/>
                    </a:lnTo>
                    <a:lnTo>
                      <a:pt x="118" y="153"/>
                    </a:lnTo>
                    <a:lnTo>
                      <a:pt x="58" y="215"/>
                    </a:lnTo>
                    <a:lnTo>
                      <a:pt x="80" y="130"/>
                    </a:lnTo>
                    <a:lnTo>
                      <a:pt x="0" y="108"/>
                    </a:lnTo>
                    <a:lnTo>
                      <a:pt x="80" y="8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8240" y="460440"/>
                <a:ext cx="84600" cy="102960"/>
              </a:xfrm>
              <a:custGeom>
                <a:avLst/>
                <a:gdLst/>
                <a:ahLst/>
                <a:rect l="l" t="t" r="r" b="b"/>
                <a:pathLst>
                  <a:path w="140" h="173">
                    <a:moveTo>
                      <a:pt x="0" y="42"/>
                    </a:moveTo>
                    <a:lnTo>
                      <a:pt x="58" y="63"/>
                    </a:lnTo>
                    <a:lnTo>
                      <a:pt x="70" y="0"/>
                    </a:lnTo>
                    <a:lnTo>
                      <a:pt x="81" y="63"/>
                    </a:lnTo>
                    <a:lnTo>
                      <a:pt x="139" y="42"/>
                    </a:lnTo>
                    <a:lnTo>
                      <a:pt x="94" y="86"/>
                    </a:lnTo>
                    <a:lnTo>
                      <a:pt x="139" y="128"/>
                    </a:lnTo>
                    <a:lnTo>
                      <a:pt x="81" y="108"/>
                    </a:lnTo>
                    <a:lnTo>
                      <a:pt x="70" y="172"/>
                    </a:lnTo>
                    <a:lnTo>
                      <a:pt x="58" y="108"/>
                    </a:lnTo>
                    <a:lnTo>
                      <a:pt x="0" y="128"/>
                    </a:lnTo>
                    <a:lnTo>
                      <a:pt x="45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dfca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8f8f8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dfca"/>
              </a:buClr>
              <a:buSzPct val="6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8f8f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8f8f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920600"/>
            <a:ext cx="8442360" cy="15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800" spc="-1" strike="noStrike">
                <a:solidFill>
                  <a:srgbClr val="00dfca"/>
                </a:solidFill>
                <a:latin typeface="Times New Roman"/>
              </a:rPr>
              <a:t>Frekvencijska analiza vremenski</a:t>
            </a:r>
            <a:br>
              <a:rPr sz="4800"/>
            </a:br>
            <a:r>
              <a:rPr b="0" i="1" lang="hr-HR" sz="4800" spc="-1" strike="noStrike">
                <a:solidFill>
                  <a:srgbClr val="00dfca"/>
                </a:solidFill>
                <a:latin typeface="Times New Roman"/>
              </a:rPr>
              <a:t>diskretnih signala</a:t>
            </a:r>
            <a:endParaRPr b="0" i="1" lang="en-US" sz="48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afd00"/>
                </a:solidFill>
                <a:latin typeface="Times New Roman"/>
              </a:rPr>
              <a:t>izabrano  iz predmet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afd00"/>
                </a:solidFill>
                <a:latin typeface="Times New Roman"/>
              </a:rPr>
              <a:t>Signali i sustavi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600" y="3168720"/>
            <a:ext cx="84168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gornji izraz predstavlja prikaz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 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j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ω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uz pomoć Foureirovog reda pa uzorc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predstavljaju Foureierove koeficijent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83000" y="1828800"/>
                <a:ext cx="37494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87440" y="5105520"/>
            <a:ext cx="841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zračunavanj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z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 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j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ω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8D9-8B1F-4B9F-9C3D-FCB5CC9FCA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a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440" y="3171960"/>
            <a:ext cx="8416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zračunavanj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z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 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j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ω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započinje množenje obje strane s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j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Symbol"/>
                <a:ea typeface="Symbol"/>
              </a:rPr>
              <a:t>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 m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 integracijom preko intervala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-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567160" y="1828800"/>
                <a:ext cx="37828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04840" y="4562640"/>
                <a:ext cx="72295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m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]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n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m</m:t>
                        </m:r>
                      </m:sup>
                    </m:sSup>
                    <m:r>
                      <m:t xml:space="preserve">d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604-CA58-44FB-9BC3-4FB0A35C12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a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440" y="3222720"/>
            <a:ext cx="841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esna strana se preuređuje i izračunava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87560" y="1890720"/>
                <a:ext cx="72626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m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]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n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m</m:t>
                        </m:r>
                      </m:sup>
                    </m:sSup>
                    <m:r>
                      <m:t xml:space="preserve">d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573200" y="3870360"/>
                <a:ext cx="65214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dω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πx</m:t>
                              </m:r>
                              <m:r>
                                <m:t xml:space="preserve">[</m:t>
                              </m:r>
                              <m:r>
                                <m:t xml:space="preserve">m</m:t>
                              </m:r>
                              <m:r>
                                <m:t xml:space="preserve">]</m:t>
                              </m:r>
                              <m:r>
                                <m:t xml:space="preserve"> </m:t>
                              </m:r>
                              <m:r>
                                <m:t xml:space="preserve">m</m:t>
                              </m:r>
                              <m:r>
                                <m:t xml:space="preserve">=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</m:t>
                              </m:r>
                              <m:r>
                                <m:t xml:space="preserve">m</m:t>
                              </m:r>
                              <m:r>
                                <m:t xml:space="preserve">≠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87440" y="5151600"/>
            <a:ext cx="841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a je konačno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633760" y="5437080"/>
                <a:ext cx="46288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m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C07-7C8E-4A45-A0DE-8D83635E8D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a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440" y="2070000"/>
            <a:ext cx="8416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ključno, par za Fourierovu transformaciju aperiodičnih diskretnih signala je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252520" y="4997520"/>
                <a:ext cx="44611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n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583000" y="3506760"/>
                <a:ext cx="37494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998-C345-4706-B7E6-4101701E1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a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4880" y="20829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običajen je i prikaz spektra u polarnom obliku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71920" y="2916360"/>
                <a:ext cx="3484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704880" y="386064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 realni signal vr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976480" y="4608360"/>
                <a:ext cx="28735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711360" y="527832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čemu je ekvivalentn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61960" y="5969160"/>
                <a:ext cx="77025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EAF-B4F5-4C43-A793-0B5BDFD27D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aperiodičkog pravokutnog signal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611440" y="2408400"/>
                <a:ext cx="3700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  <m:r>
                                <m:t xml:space="preserve">≤</m:t>
                              </m:r>
                              <m:r>
                                <m:t xml:space="preserve">L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a ostale 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254160" y="1751040"/>
            <a:ext cx="8697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dan je pravokutni signal za koji treba odrediti Fourierovu transformaciju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079720" y="3711600"/>
            <a:ext cx="3749760" cy="2813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278400" y="483408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64C-4DC6-4486-9B59-84B3349D2F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aperiodičkog pravokutnog signal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4160" y="2004840"/>
            <a:ext cx="86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ourierova transformacija ovog signala j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19120" y="2744640"/>
                <a:ext cx="5745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671480" y="4032360"/>
                <a:ext cx="63867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L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E6E-D082-42B5-AA46-B56FFA87A4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aperiodičkog pravokutnog signal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4160" y="1852560"/>
            <a:ext cx="86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mplitudni spektar j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87480" y="2371680"/>
                <a:ext cx="878508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t xml:space="preserve">L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</m:t>
                              </m:r>
                              <m:r>
                                <m:t xml:space="preserve">ω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n</m:t>
                                      </m:r>
                                      <m:r>
                                        <m:t xml:space="preserve">(</m:t>
                                      </m:r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ωL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ω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den>
                                  </m:f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              za ostale </m:t>
                              </m:r>
                              <m:r>
                                <m:t xml:space="preserve">ω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46040" y="4422600"/>
            <a:ext cx="869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azni spektar j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95240" y="5423040"/>
                <a:ext cx="76708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C3C-C6C9-4FD2-B14D-45FB3804EF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aperiodičkog pravokutnog signal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67600" y="402912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371600" y="1982880"/>
            <a:ext cx="624996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119-8471-47C4-B335-3DB03E72C5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23880" y="336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aperiodičkog pravokutnog signal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67600" y="402912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499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DD2-0DFA-4378-B5D8-4248B3D186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23760" y="476280"/>
            <a:ext cx="7677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080" y="3332160"/>
            <a:ext cx="89629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ostupak uzimanja uzoraka ili otipkavanja kontinuiranog signala možemo matematički modelirati kao pridruživanje funkcij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niza impulsa, čiji intenzitet je proporcionalan trenutnim vrijednostima kontinuiranog sign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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S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{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1080" y="1913040"/>
            <a:ext cx="8962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periodični diskretni signal možemo generirati iz kontinuiranog aperiodičnog signala otipkavanje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09A-0E6D-471A-A9F1-CBD4F87AF1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aperiodičkog pravokutnog signala</a:t>
            </a:r>
            <a:br>
              <a:rPr sz="3600"/>
            </a:b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78680" y="4029120"/>
            <a:ext cx="9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1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14280" y="1752480"/>
            <a:ext cx="625032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CC4-7CDC-4A14-8B72-C392AC3671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aperiodičkog pravokutnog signal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78680" y="4029120"/>
            <a:ext cx="9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1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446120" y="1995480"/>
            <a:ext cx="624996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FAB-88F9-49A9-ABDB-2E30210059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88960" y="2859120"/>
            <a:ext cx="8016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 </a:t>
            </a: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diskretnih 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173-D5C5-4FE4-86FE-357E1FFA3F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7840" y="2703600"/>
                <a:ext cx="28130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k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533520" y="1922400"/>
            <a:ext cx="8439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ourierov red za kontinuirani periodični 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, period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p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,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j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757760"/>
            <a:ext cx="8439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pektar je diskretan pri čemu je razmak između susjednih komponenti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p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3843360"/>
            <a:ext cx="8439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može biti prikazan s beskonačnim brojem frekvencijskih komponent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CD3-686D-40BD-84DC-DBAE54B5EA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2176560"/>
            <a:ext cx="8439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c0081"/>
                </a:solidFill>
                <a:latin typeface="Times New Roman"/>
              </a:rPr>
              <a:t>diskretni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periodični </a:t>
            </a:r>
            <a:r>
              <a:rPr b="0" lang="hr-HR" sz="2800" spc="-1" strike="noStrike">
                <a:solidFill>
                  <a:srgbClr val="dc0081"/>
                </a:solidFill>
                <a:latin typeface="Times New Roman"/>
              </a:rPr>
              <a:t>signal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ma </a:t>
            </a:r>
            <a:r>
              <a:rPr b="0" lang="hr-HR" sz="2800" spc="-1" strike="noStrike">
                <a:solidFill>
                  <a:srgbClr val="dc0081"/>
                </a:solidFill>
                <a:latin typeface="Times New Roman"/>
              </a:rPr>
              <a:t>periodični spektar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(zbog diskretnosti signala u vremenskoj domeni) koji se ponavlja svakih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područje frekvencija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-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li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0, 2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0560" y="4148280"/>
            <a:ext cx="84391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iskretni </a:t>
            </a:r>
            <a:r>
              <a:rPr b="0" lang="hr-HR" sz="2800" spc="-1" strike="noStrike">
                <a:solidFill>
                  <a:srgbClr val="dc0081"/>
                </a:solidFill>
                <a:latin typeface="Times New Roman"/>
              </a:rPr>
              <a:t>periodični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ma </a:t>
            </a:r>
            <a:r>
              <a:rPr b="0" lang="hr-HR" sz="2800" spc="-1" strike="noStrike">
                <a:solidFill>
                  <a:srgbClr val="dc0081"/>
                </a:solidFill>
                <a:latin typeface="Times New Roman"/>
              </a:rPr>
              <a:t>diskretan spektar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(zbog periodičnosti signala u vremenskoj domeni) pri čemu je razmak između susjednih frekvencijskih komponenti 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radijana 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Fourierov red za periodični diskretni signal sadržavati će najviš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rekvencijskih komponent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725-AB71-420A-910D-803E748BEE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1765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 diskretni periodični 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period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vr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800360" y="2986200"/>
                <a:ext cx="4249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a svaki  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33520" y="3768840"/>
            <a:ext cx="8439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ourierov red  periodičnog signala sadrž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harmonički vezanih kompleksnih eksponencijalnih funkcija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058840" y="5137200"/>
                <a:ext cx="40356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D28-0E15-4E74-A45A-1BEA738B3C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21765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ourierov red za diskretini periodični signal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546200" y="5522760"/>
                <a:ext cx="541188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l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533520" y="4057560"/>
            <a:ext cx="8439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zvod izraza za Foureriove koeficijent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7960" y="4576680"/>
            <a:ext cx="8439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bje strane se množe s eksponencijalom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-j2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 l n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a zatim se produkti zbrajaju od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=0 do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660680" y="2867040"/>
                <a:ext cx="57481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0AF-BF30-4D19-AA01-C488704039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21765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mijenimo redoslijed sumacij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913040" y="2759040"/>
                <a:ext cx="54417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l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33520" y="40575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z sumaciju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7960" y="5821200"/>
            <a:ext cx="8439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esna se strana reducira n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a sl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163520" y="4635360"/>
                <a:ext cx="7245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l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±</m:t>
                              </m:r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            za ostale       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1AE-5B3B-4384-90FF-27EC821B14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76440" y="2149560"/>
                <a:ext cx="6114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l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33520" y="37623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što je izraz za Fourierove koeficijente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B9F-5941-438C-A355-3DFA6017E9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440" y="2070000"/>
            <a:ext cx="8416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ključno, par za Fourierovu transformaciju periodičnih diskretnih signala je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523880" y="4997520"/>
                <a:ext cx="57484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281240" y="3365640"/>
                <a:ext cx="62974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9E0-C58B-4B45-87DB-8D3B942894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23760" y="133200"/>
            <a:ext cx="76773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3840" y="1386000"/>
            <a:ext cx="8962920" cy="1582560"/>
            <a:chOff x="123840" y="1386000"/>
            <a:chExt cx="8962920" cy="158256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322280" y="1820880"/>
                  <a:ext cx="3376800" cy="11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nT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123840" y="2025720"/>
              <a:ext cx="896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8f8f8"/>
                  </a:solidFill>
                  <a:latin typeface="Times New Roman"/>
                </a:rPr>
                <a:t>	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niza 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	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	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	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	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funkcijom 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 , tj.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3840" y="1386000"/>
              <a:ext cx="896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8f8f8"/>
                  </a:solidFill>
                  <a:latin typeface="Times New Roman"/>
                </a:rPr>
                <a:t>	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Možemo to interpretirati kao modulaciju impulsnog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527200" y="2895480"/>
                <a:ext cx="388476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94" name=""/>
          <p:cNvGraphicFramePr/>
          <p:nvPr/>
        </p:nvGraphicFramePr>
        <p:xfrm>
          <a:off x="685800" y="4068720"/>
          <a:ext cx="785340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068720"/>
                    <a:ext cx="78534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592-3AE4-41D8-8EF6-029244D4C3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440" y="1816200"/>
            <a:ext cx="841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jednadžb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2619360" y="1839960"/>
                <a:ext cx="57484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87440" y="3062160"/>
            <a:ext cx="8416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e u engleskoj terminologiji naziva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discrete-time Fourier series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DTFS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440" y="4135320"/>
            <a:ext cx="841680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ourierovi koeficijent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k =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0, 1, 2, ....,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omogućavaju prikaz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u frekvencijskoj domeni, tako d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r>
              <a:rPr b="0" i="1" lang="hr-HR" sz="2800" spc="-1" strike="noStrike" baseline="-25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dstavljaju amplitudu i fazu vezanu uz frekvencijske komponent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998960" y="5391000"/>
                <a:ext cx="23227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474840" y="5935680"/>
            <a:ext cx="841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gdje je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52640" y="5954760"/>
                <a:ext cx="2017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8FE-FD8F-49AE-8573-40F5162CDB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7440" y="2335320"/>
            <a:ext cx="8416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lijedi važno svojstvo periodičnosti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afd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0040" y="4240080"/>
            <a:ext cx="841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ma tome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{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}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je periodični niz s osnovnim periodom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0040" y="5318280"/>
            <a:ext cx="841680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ma tom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876240" y="2975040"/>
                <a:ext cx="80406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E98-2312-4AE4-8DA1-73C3A35A94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ourierova transformacija diskretnih 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0040" y="2370240"/>
            <a:ext cx="84168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spektar signala </a:t>
            </a:r>
            <a:r>
              <a:rPr b="0" i="1" lang="hr-HR" sz="32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32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koji je periodičan s periodom </a:t>
            </a:r>
            <a:r>
              <a:rPr b="0" i="1" lang="hr-HR" sz="32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, je periodičan niz s periodom </a:t>
            </a:r>
            <a:r>
              <a:rPr b="0" i="1" lang="hr-HR" sz="32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bilo kojih </a:t>
            </a:r>
            <a:r>
              <a:rPr b="0" i="1" lang="hr-HR" sz="32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i="1" lang="hr-HR" sz="3200" spc="-1" strike="noStrike">
                <a:solidFill>
                  <a:srgbClr val="fafd00"/>
                </a:solidFill>
                <a:latin typeface="Times New Roman"/>
              </a:rPr>
              <a:t> susjednih uzoraka signala ili njegova spektra su dovoljni za potpuni opis signala u vremenskoj ili frekvencijskoj domeni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27A-3590-49CC-8C5C-13493E27F4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Spektar realnog periodičkog diskretnog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881520" y="3246480"/>
                <a:ext cx="1193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04920" y="2092320"/>
            <a:ext cx="8439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 realni periodičn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koeficijenti Fourierovog reda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{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}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dovoljavaju slijedeći uvjet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385920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z čega sl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933560" y="5921280"/>
                <a:ext cx="541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57200" y="5402160"/>
            <a:ext cx="8439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 zbog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+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slijed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268360" y="4570560"/>
                <a:ext cx="5050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BF9-41A1-4584-B42D-66ADCB88EA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periodičkog pravokutnog signal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7440" y="1862280"/>
            <a:ext cx="8416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dan je periodični pravokutni diskretni signal kao na slic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498760" y="2465280"/>
            <a:ext cx="4998960" cy="3749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809960" y="2467080"/>
            <a:ext cx="0" cy="4289400"/>
          </a:xfrm>
          <a:prstGeom prst="line">
            <a:avLst/>
          </a:prstGeom>
          <a:ln w="93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70280" y="2454120"/>
            <a:ext cx="0" cy="42897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16560" y="2467080"/>
            <a:ext cx="0" cy="4289400"/>
          </a:xfrm>
          <a:prstGeom prst="line">
            <a:avLst/>
          </a:prstGeom>
          <a:ln w="93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13080" y="2441520"/>
            <a:ext cx="0" cy="4289400"/>
          </a:xfrm>
          <a:prstGeom prst="line">
            <a:avLst/>
          </a:prstGeom>
          <a:ln w="93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68960" y="2467080"/>
            <a:ext cx="0" cy="428940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92840" y="2454120"/>
            <a:ext cx="0" cy="42897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08400" y="3421080"/>
            <a:ext cx="97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=16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3480" y="63342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dc0081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30440" y="63421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fafd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60640" y="6318360"/>
            <a:ext cx="38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dc0081"/>
                </a:solidFill>
                <a:latin typeface="Times New Roman"/>
              </a:rPr>
              <a:t>-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56840" y="6330960"/>
            <a:ext cx="57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fafd00"/>
                </a:solidFill>
                <a:latin typeface="Times New Roman"/>
              </a:rPr>
              <a:t>N+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25440" y="634680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dc0081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2D0-4485-4F65-B418-F507F12DFE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periodičkog pravokutnog signal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440" y="1862280"/>
            <a:ext cx="8416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zračunavaju s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71440" y="2479680"/>
                <a:ext cx="87422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A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52360" y="4081320"/>
                <a:ext cx="8375760" cy="20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πk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L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kL</m:t>
                                          </m:r>
                                        </m:num>
                                        <m:den>
                                          <m:r>
                                            <m:t xml:space="preserve">N</m:t>
                                          </m:r>
                                        </m:den>
                                      </m:f>
                                    </m:sup>
                                  </m:sSup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2</m:t>
                                      </m:r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πk</m:t>
                                          </m:r>
                                        </m:num>
                                        <m:den>
                                          <m:r>
                                            <m:t xml:space="preserve">N</m:t>
                                          </m:r>
                                        </m:den>
                                      </m:f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,2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AF2-4C03-41D8-A152-45B241FA8B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Primjer Fourierove transformacije periodičkog pravokutnog signal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36680" y="1709640"/>
                <a:ext cx="8008920" cy="20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L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πk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L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sup>
                              </m:sSup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πkL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πk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±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za ostale 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309600" y="4998960"/>
            <a:ext cx="841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imjer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6E4-C7D5-4032-AD02-E1B06B0FB3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987640" y="63360"/>
            <a:ext cx="3749760" cy="2813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2273400" y="2955960"/>
            <a:ext cx="4998960" cy="37497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745400" y="3333600"/>
            <a:ext cx="997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N=16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=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5C6-FA0F-45CA-8623-5F738F9418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249720" y="290520"/>
            <a:ext cx="3127320" cy="23464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286000" y="3011400"/>
            <a:ext cx="4686480" cy="3514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7745400" y="3333600"/>
            <a:ext cx="997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16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N=16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=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6A5-B208-453A-9D72-F42EB8A30B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741760" y="39600"/>
            <a:ext cx="3749400" cy="28130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7745400" y="3333600"/>
            <a:ext cx="997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N=16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=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376360" y="3111480"/>
            <a:ext cx="4686480" cy="35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0DB-A77A-4AD2-BC31-A3B118DAB1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62000" y="476280"/>
            <a:ext cx="7677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8960" y="2306520"/>
            <a:ext cx="88250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bog svojstva delta funkcije da vadi vrijednost kontinuirane funkcij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na mjestu diskontinuiteta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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T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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tj.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n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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T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može se napisati i u obliku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52600" y="4522680"/>
                <a:ext cx="431964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416-3E86-4F2C-A135-419C051AC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198920" y="1376280"/>
            <a:ext cx="17852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periodičn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ignal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94760" y="4309920"/>
            <a:ext cx="16966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=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eriodičn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ignal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735280" y="139680"/>
            <a:ext cx="4376880" cy="3282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714760" y="3511440"/>
            <a:ext cx="4376520" cy="32832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110120" y="243000"/>
            <a:ext cx="0" cy="6492600"/>
          </a:xfrm>
          <a:prstGeom prst="line">
            <a:avLst/>
          </a:prstGeom>
          <a:ln w="93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26040" y="237960"/>
            <a:ext cx="0" cy="6492960"/>
          </a:xfrm>
          <a:prstGeom prst="line">
            <a:avLst/>
          </a:prstGeom>
          <a:ln w="93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35600" y="301680"/>
            <a:ext cx="0" cy="6492960"/>
          </a:xfrm>
          <a:prstGeom prst="line">
            <a:avLst/>
          </a:prstGeom>
          <a:ln w="93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B30-928F-4C21-8262-CC573396BF1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afd00"/>
                </a:solidFill>
                <a:latin typeface="Times New Roman"/>
              </a:rPr>
              <a:t>Signali i sustavi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5400" spc="-1" strike="noStrike">
                <a:solidFill>
                  <a:srgbClr val="00dfca"/>
                </a:solidFill>
                <a:latin typeface="Times New Roman"/>
              </a:rPr>
              <a:t>Digitalna obradba kontinuiranih signala</a:t>
            </a:r>
            <a:endParaRPr b="0" i="1" lang="en-US" sz="5400" spc="-1" strike="noStrike">
              <a:solidFill>
                <a:srgbClr val="00dfc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gitalna obradba kontinuiranih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2057400"/>
            <a:ext cx="8381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igitalna obradba kontinuiranih signala se sastoji od tri osnovna koraka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3209760"/>
            <a:ext cx="83818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tvorba vremenski kontinuiranog signala u vremenski diskretan sign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bradba vremenski diskretnog sign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tvorba obrađenog diskretnog signala u vremenski kontinuirani sign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6D1-E455-450E-9B91-D46CBBD89C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gitalna obradba kontinuiranih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85800" y="2085840"/>
            <a:ext cx="1540080" cy="1162080"/>
          </a:xfrm>
          <a:prstGeom prst="rect">
            <a:avLst/>
          </a:prstGeom>
          <a:solidFill>
            <a:srgbClr val="00005a">
              <a:alpha val="50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idealn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tipkal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81440" y="2085840"/>
            <a:ext cx="1541520" cy="1162080"/>
          </a:xfrm>
          <a:prstGeom prst="rect">
            <a:avLst/>
          </a:prstGeom>
          <a:solidFill>
            <a:srgbClr val="00005a">
              <a:alpha val="50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procesor diskretnih signal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24600" y="2095560"/>
            <a:ext cx="1554120" cy="1162080"/>
          </a:xfrm>
          <a:prstGeom prst="rect">
            <a:avLst/>
          </a:prstGeom>
          <a:solidFill>
            <a:srgbClr val="00005a">
              <a:alpha val="50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idealn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interpolato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0080" y="2670120"/>
            <a:ext cx="84168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4720" y="2665440"/>
            <a:ext cx="68112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13240" y="2670120"/>
            <a:ext cx="7113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69360" y="2664000"/>
            <a:ext cx="84132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6680" y="2120760"/>
            <a:ext cx="61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8f8f8"/>
                </a:solidFill>
                <a:latin typeface="Times New Roman CE"/>
              </a:rPr>
              <a:t>x</a:t>
            </a: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(</a:t>
            </a:r>
            <a:r>
              <a:rPr b="0" i="1" lang="hr-HR" sz="2400" spc="-1" strike="noStrike">
                <a:solidFill>
                  <a:srgbClr val="f8f8f8"/>
                </a:solidFill>
                <a:latin typeface="Times New Roman CE"/>
              </a:rPr>
              <a:t>t</a:t>
            </a: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94200" y="2119320"/>
            <a:ext cx="67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8f8f8"/>
                </a:solidFill>
                <a:latin typeface="Times New Roman CE"/>
              </a:rPr>
              <a:t>x</a:t>
            </a: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[</a:t>
            </a:r>
            <a:r>
              <a:rPr b="0" i="1" lang="hr-HR" sz="2400" spc="-1" strike="noStrike">
                <a:solidFill>
                  <a:srgbClr val="f8f8f8"/>
                </a:solidFill>
                <a:latin typeface="Times New Roman CE"/>
              </a:rPr>
              <a:t>n</a:t>
            </a: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]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29440" y="2135160"/>
            <a:ext cx="67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8f8f8"/>
                </a:solidFill>
                <a:latin typeface="Times New Roman CE"/>
              </a:rPr>
              <a:t>y</a:t>
            </a: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[</a:t>
            </a:r>
            <a:r>
              <a:rPr b="0" i="1" lang="hr-HR" sz="2400" spc="-1" strike="noStrike">
                <a:solidFill>
                  <a:srgbClr val="f8f8f8"/>
                </a:solidFill>
                <a:latin typeface="Times New Roman CE"/>
              </a:rPr>
              <a:t>n</a:t>
            </a: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]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86360" y="2135160"/>
            <a:ext cx="61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8f8f8"/>
                </a:solidFill>
                <a:latin typeface="Times New Roman CE"/>
              </a:rPr>
              <a:t>y</a:t>
            </a: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(</a:t>
            </a:r>
            <a:r>
              <a:rPr b="0" i="1" lang="hr-HR" sz="2400" spc="-1" strike="noStrike">
                <a:solidFill>
                  <a:srgbClr val="f8f8f8"/>
                </a:solidFill>
                <a:latin typeface="Times New Roman CE"/>
              </a:rPr>
              <a:t>t</a:t>
            </a:r>
            <a:r>
              <a:rPr b="0" lang="hr-HR" sz="2400" spc="-1" strike="noStrike">
                <a:solidFill>
                  <a:srgbClr val="f8f8f8"/>
                </a:solidFill>
                <a:latin typeface="Times New Roman CE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96920" y="3441600"/>
            <a:ext cx="2062080" cy="3191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460600" y="3438360"/>
            <a:ext cx="2062080" cy="3205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727520" y="3440160"/>
            <a:ext cx="2062080" cy="31892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994440" y="3440160"/>
            <a:ext cx="2062080" cy="31892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31640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1C3-D0A0-4D47-98C6-60032CC919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gitalna obradba kontinuiranih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5480" y="2814480"/>
            <a:ext cx="8382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vdje će se razmotrit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tipkavanj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3.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nterpolacij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96E-E188-44C4-9440-2C810FBB9B3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55600" y="28512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Vremenska diskretizacija tipkanjem kontinuiranog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892-E2F9-4730-AFC3-4D09AD2E819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Vremenska diskretizacija tipkanjem kontinuiranog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098720" y="3581280"/>
                <a:ext cx="756576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762120" y="2057400"/>
            <a:ext cx="838188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tipkavanjem kontinuiranog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čiji je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 dobiva se 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čiji je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 pokazano je da pri tome vr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4876920"/>
            <a:ext cx="8001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otipkanog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je periodičn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onavljani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kontinuiranog signala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095-B766-4159-B8EF-14AEEEFF46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31880" y="2295360"/>
            <a:ext cx="83199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tpostavimo da je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frekvencijski ograniče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= 0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za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|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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&gt;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6680" y="3592440"/>
            <a:ext cx="812772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Različite frekvencije tipkanja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= 1/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mogu u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pektru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zazvati različite rezultate zavisno od tog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a li j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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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li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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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odnosno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                    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(i)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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&gt; 2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                    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(ii)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&lt; 2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Vremenska diskretizacija tipkanjem kontinuiranog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0D3-615A-468A-83A5-905C1F1511A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912960" y="1447920"/>
          <a:ext cx="823248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447920"/>
                    <a:ext cx="823248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143000" y="3981600"/>
          <a:ext cx="7737480" cy="21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981600"/>
                    <a:ext cx="77374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1012320" y="6338880"/>
            <a:ext cx="6568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klapanje sekcija spektra (engl. “aliasing”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-7632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Vremenska diskretizacija tipkanjem kontinuiranog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414-C583-4272-8F33-50B9E5B460F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0880" y="1905120"/>
            <a:ext cx="8382240" cy="41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iskretni se signal može smatrati ekvivalentnim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kontinuiranom samo ako je moguće rekonstruirati izvorni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z otipkanog 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odnosno ako se iz spektr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može dobiti originaln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. Postupak rekonstrukcije pretpostavlja izdvajanje osnovne sekcije spektra filtriranjem. To će biti moguće načiniti bez pogreške samo ako je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ograničen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n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te ako je frekvencija otipkavanj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&gt; 2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5960" y="5943600"/>
            <a:ext cx="29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teorem otipkavanj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Vremenska diskretizacija tipkanjem kontinuiranog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A45-DBF9-4171-B648-530257E6332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5760" y="2060640"/>
            <a:ext cx="8709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sporedimo spektre ovih sign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280" y="476280"/>
            <a:ext cx="76770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360" y="2593800"/>
            <a:ext cx="8709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za signal </a:t>
            </a:r>
            <a:r>
              <a:rPr b="0" i="1" lang="hr-HR" sz="32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 vrijedi par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724120" y="3286080"/>
                <a:ext cx="339732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359000" y="4714920"/>
          <a:ext cx="48322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4714920"/>
                    <a:ext cx="48322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322-CCEC-4029-BAB2-B2E4C92D0F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Antialiasing filtri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1671480"/>
            <a:ext cx="83818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liasing, koji se javlja pri otipkavanju frekvencijski neomeđenog signala, izbjegava se filtriranjem kontinuiranog signala tzv.  antialiasing filtrom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3181320"/>
            <a:ext cx="83818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ntialiasing filtri su niskopropusni analogni filtri koji propuštaju komponente spektra frekvencija nižih od pola frekvencije otipkavanja, dok više frekvencije guš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010120"/>
            <a:ext cx="83818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Koriste se realni filtri koji imaju konačnu širinu prijelaznog pojasa frekvencijske karakteristike i konačno gušenje u pojasu gušenja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5AB-A7B4-4BD7-BC6D-B468DCC20AB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240" y="8244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Antialiasing filtri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88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odručje propuštanja za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0 &lt;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&lt;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odručje gušenja z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&lt;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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&lt;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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vrijedi :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&lt;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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286000" y="1485720"/>
            <a:ext cx="5334120" cy="2720160"/>
            <a:chOff x="2286000" y="1485720"/>
            <a:chExt cx="5334120" cy="2720160"/>
          </a:xfrm>
        </p:grpSpPr>
        <p:grpSp>
          <p:nvGrpSpPr>
            <p:cNvPr id="422" name=""/>
            <p:cNvGrpSpPr/>
            <p:nvPr/>
          </p:nvGrpSpPr>
          <p:grpSpPr>
            <a:xfrm>
              <a:off x="2286000" y="1485720"/>
              <a:ext cx="5334120" cy="2720160"/>
              <a:chOff x="2286000" y="1485720"/>
              <a:chExt cx="5334120" cy="272016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2286000" y="1485720"/>
                <a:ext cx="5257800" cy="2464200"/>
                <a:chOff x="2286000" y="1485720"/>
                <a:chExt cx="5257800" cy="2464200"/>
              </a:xfrm>
            </p:grpSpPr>
            <p:sp>
              <p:nvSpPr>
                <p:cNvPr id="424" name=""/>
                <p:cNvSpPr/>
                <p:nvPr/>
              </p:nvSpPr>
              <p:spPr>
                <a:xfrm flipV="1">
                  <a:off x="2819520" y="1485720"/>
                  <a:ext cx="0" cy="24642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286000" y="3634200"/>
                  <a:ext cx="525780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819520" y="2117880"/>
                <a:ext cx="4267080" cy="1516320"/>
                <a:chOff x="2819520" y="2117880"/>
                <a:chExt cx="4267080" cy="1516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819520" y="2117880"/>
                  <a:ext cx="175248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572000" y="2117880"/>
                  <a:ext cx="1371600" cy="151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943600" y="3634200"/>
                  <a:ext cx="114300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 flipV="1">
                <a:off x="4572000" y="3570840"/>
                <a:ext cx="0" cy="1260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5943600" y="3570840"/>
                <a:ext cx="0" cy="1260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86600" y="369720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afd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715000" y="369720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afd00"/>
                    </a:solidFill>
                    <a:latin typeface="Times New Roman"/>
                  </a:rPr>
                  <a:t>F</a:t>
                </a:r>
                <a:r>
                  <a:rPr b="0" lang="hr-HR" sz="2400" spc="-1" strike="noStrike" baseline="-25000">
                    <a:solidFill>
                      <a:srgbClr val="fafd00"/>
                    </a:solidFill>
                    <a:latin typeface="Symbol"/>
                    <a:ea typeface="Symbol"/>
                  </a:rPr>
                  <a:t>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43400" y="3697200"/>
                <a:ext cx="533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afd00"/>
                    </a:solidFill>
                    <a:latin typeface="Times New Roman"/>
                  </a:rPr>
                  <a:t>F</a:t>
                </a:r>
                <a:r>
                  <a:rPr b="0" lang="hr-HR" sz="2400" spc="-1" strike="noStrike" baseline="-25000">
                    <a:solidFill>
                      <a:srgbClr val="fafd00"/>
                    </a:solidFill>
                    <a:latin typeface="Symbol"/>
                    <a:ea typeface="Symbol"/>
                  </a:rPr>
                  <a:t>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71800" y="1486080"/>
                <a:ext cx="1295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</a:t>
                </a:r>
                <a:r>
                  <a:rPr b="0" i="1" lang="hr-HR" sz="24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</a:t>
                </a:r>
                <a:r>
                  <a:rPr b="0" lang="hr-HR" sz="24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</a:t>
                </a:r>
                <a:r>
                  <a:rPr b="0" i="1" lang="hr-HR" sz="2400" spc="-1" strike="noStrike">
                    <a:solidFill>
                      <a:srgbClr val="fafd00"/>
                    </a:solidFill>
                    <a:latin typeface="Times New Roman"/>
                  </a:rPr>
                  <a:t>F</a:t>
                </a:r>
                <a:r>
                  <a:rPr b="0" lang="hr-HR" sz="24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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43200" y="369720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afd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362320" y="192888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572-85EF-4ACD-826A-3549023AAC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1787400" y="1957320"/>
            <a:ext cx="6249960" cy="4687920"/>
            <a:chOff x="1787400" y="1957320"/>
            <a:chExt cx="6249960" cy="4687920"/>
          </a:xfrm>
        </p:grpSpPr>
        <p:grpSp>
          <p:nvGrpSpPr>
            <p:cNvPr id="439" name=""/>
            <p:cNvGrpSpPr/>
            <p:nvPr/>
          </p:nvGrpSpPr>
          <p:grpSpPr>
            <a:xfrm>
              <a:off x="1787400" y="1957320"/>
              <a:ext cx="6249960" cy="4687920"/>
              <a:chOff x="1787400" y="1957320"/>
              <a:chExt cx="6249960" cy="4687920"/>
            </a:xfrm>
          </p:grpSpPr>
          <p:pic>
            <p:nvPicPr>
              <p:cNvPr id="4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7400" y="1957320"/>
                <a:ext cx="6249960" cy="468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 flipV="1">
                <a:off x="2584080" y="2673000"/>
                <a:ext cx="0" cy="37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358720" y="6149880"/>
                <a:ext cx="520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4830840" y="5661000"/>
              <a:ext cx="2651040" cy="190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89120" y="3711600"/>
              <a:ext cx="2017800" cy="17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89120" y="3192480"/>
              <a:ext cx="2028960" cy="179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603680" y="3776400"/>
              <a:ext cx="1440" cy="238464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813200" y="3876480"/>
              <a:ext cx="1440" cy="223200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35200" y="6188040"/>
              <a:ext cx="399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</a:t>
              </a:r>
              <a:r>
                <a:rPr b="0" lang="hr-HR" sz="1600" spc="-1" strike="noStrike" baseline="-25000">
                  <a:solidFill>
                    <a:srgbClr val="f8f8f8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88040" y="6165720"/>
              <a:ext cx="367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600" spc="-1" strike="noStrike">
                  <a:solidFill>
                    <a:srgbClr val="000000"/>
                  </a:solidFill>
                  <a:latin typeface="Times New Roman CE"/>
                </a:rPr>
                <a:t>F</a:t>
              </a:r>
              <a:r>
                <a:rPr b="0" i="1" lang="hr-HR" sz="1600" spc="-1" strike="noStrike" baseline="-25000">
                  <a:solidFill>
                    <a:srgbClr val="000000"/>
                  </a:solidFill>
                  <a:latin typeface="Times New Roman CE"/>
                </a:rPr>
                <a:t>p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75680" y="6161040"/>
              <a:ext cx="3542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600" spc="-1" strike="noStrike">
                  <a:solidFill>
                    <a:srgbClr val="000000"/>
                  </a:solidFill>
                  <a:latin typeface="Times New Roman CE"/>
                </a:rPr>
                <a:t>F</a:t>
              </a:r>
              <a:r>
                <a:rPr b="0" i="1" lang="hr-HR" sz="1600" spc="-1" strike="noStrike" baseline="-25000">
                  <a:solidFill>
                    <a:srgbClr val="000000"/>
                  </a:solidFill>
                  <a:latin typeface="Times New Roman CE"/>
                </a:rPr>
                <a:t>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62000" y="3489120"/>
              <a:ext cx="5097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 CE"/>
                </a:rPr>
                <a:t>1-δ</a:t>
              </a:r>
              <a:r>
                <a:rPr b="0" lang="hr-HR" sz="1600" spc="-1" strike="noStrike" baseline="-25000">
                  <a:solidFill>
                    <a:srgbClr val="000000"/>
                  </a:solidFill>
                  <a:latin typeface="Times New Roman CE"/>
                </a:rPr>
                <a:t>p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32840" y="3141360"/>
              <a:ext cx="556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 CE"/>
                </a:rPr>
                <a:t>1+δ</a:t>
              </a:r>
              <a:r>
                <a:rPr b="0" lang="hr-HR" sz="1600" spc="-1" strike="noStrike" baseline="-25000">
                  <a:solidFill>
                    <a:srgbClr val="000000"/>
                  </a:solidFill>
                  <a:latin typeface="Times New Roman CE"/>
                </a:rPr>
                <a:t>p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8120" y="5852880"/>
              <a:ext cx="14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76560" y="5613120"/>
              <a:ext cx="3268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 CE"/>
                </a:rPr>
                <a:t>δ</a:t>
              </a:r>
              <a:r>
                <a:rPr b="0" lang="hr-HR" sz="1600" spc="-1" strike="noStrike" baseline="-25000">
                  <a:solidFill>
                    <a:srgbClr val="000000"/>
                  </a:solidFill>
                  <a:latin typeface="Times New Roman CE"/>
                </a:rPr>
                <a:t>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24040" y="2665440"/>
              <a:ext cx="73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 CE"/>
                </a:rPr>
                <a:t>|</a:t>
              </a:r>
              <a:r>
                <a:rPr b="0" i="1" lang="hr-HR" sz="1800" spc="-1" strike="noStrike">
                  <a:solidFill>
                    <a:srgbClr val="000000"/>
                  </a:solidFill>
                  <a:latin typeface="Times New Roman CE"/>
                </a:rPr>
                <a:t>H</a:t>
              </a:r>
              <a:r>
                <a:rPr b="0" lang="hr-HR" sz="1800" spc="-1" strike="noStrike">
                  <a:solidFill>
                    <a:srgbClr val="000000"/>
                  </a:solidFill>
                  <a:latin typeface="Times New Roman CE"/>
                </a:rPr>
                <a:t>(</a:t>
              </a:r>
              <a:r>
                <a:rPr b="0" i="1" lang="hr-HR" sz="1800" spc="-1" strike="noStrike">
                  <a:solidFill>
                    <a:srgbClr val="000000"/>
                  </a:solidFill>
                  <a:latin typeface="Times New Roman CE"/>
                </a:rPr>
                <a:t>F</a:t>
              </a:r>
              <a:r>
                <a:rPr b="0" lang="hr-HR" sz="1800" spc="-1" strike="noStrike">
                  <a:solidFill>
                    <a:srgbClr val="000000"/>
                  </a:solidFill>
                  <a:latin typeface="Times New Roman CE"/>
                </a:rPr>
                <a:t>)|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87680" y="4321080"/>
              <a:ext cx="2014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16440" y="4321080"/>
              <a:ext cx="2633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44320" y="4255920"/>
              <a:ext cx="1920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 CE"/>
                </a:rPr>
                <a:t>područje gušenja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13560" y="4332240"/>
              <a:ext cx="1375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 CE"/>
                </a:rPr>
                <a:t>područje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 CE"/>
                </a:rPr>
                <a:t>propuštanja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Amplitudna frekvencijska karakteristika eliptičkog filtr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81E-6C07-47C4-B9A7-042950FBFEB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Niskopropusni analogni filtri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957320" y="1706400"/>
            <a:ext cx="5837400" cy="510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77B-78F7-4134-AB7A-C48D0E5A295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446120" y="1897200"/>
            <a:ext cx="6249960" cy="468792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Butterworth filtri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62C-4D43-4C19-9BFB-D087DACE704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Chebyshev1 filtri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687680" y="1941480"/>
            <a:ext cx="624996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8E4-5297-411F-9885-8C31E4D6751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Usporedba filtar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957320" y="1579680"/>
            <a:ext cx="5837400" cy="5100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52280" y="2138400"/>
            <a:ext cx="181620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Times New Roman CE"/>
              </a:rPr>
              <a:t>Fp =5000 Hz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Times New Roman CE"/>
              </a:rPr>
              <a:t>Fs = 7500 Hz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Times New Roman CE"/>
              </a:rPr>
              <a:t>Rp=3 dB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Times New Roman CE"/>
              </a:rPr>
              <a:t>Rs=40 dB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F84-51AF-4005-A75B-D3EEB469F1D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Usporedba filtar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033640" y="1596960"/>
            <a:ext cx="5837040" cy="51008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280" y="2138400"/>
            <a:ext cx="181620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Times New Roman CE"/>
              </a:rPr>
              <a:t>Fp =5000 Hz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Times New Roman CE"/>
              </a:rPr>
              <a:t>Fs = 7500 Hz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Times New Roman CE"/>
              </a:rPr>
              <a:t>Rp=3 dB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afd00"/>
                </a:solidFill>
                <a:latin typeface="Times New Roman CE"/>
              </a:rPr>
              <a:t>Rs=40 dB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319-2808-4E7A-A0D2-94F12751683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tipkavanja kontinuiranog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21800" y="2414520"/>
            <a:ext cx="350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greška uslijed aliasing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822920" y="2122560"/>
                <a:ext cx="31906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E7B-9702-4DF0-8787-2CCB6F35993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tipkavanje realnih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58720" y="1593720"/>
            <a:ext cx="8382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bog konačne širine prijelaznog područja realnih antialiasing filtara potrebno je signal otipkavati nešto većom frekvencijom od dvostruke maksimalne frekvencije signala 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oversampl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3651120"/>
            <a:ext cx="83822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 digitalnoj telefoniji standardizirano je frekvencijsko područje od 3.4 kHZ koje osigurava telefonsku konverzaciju zadovoljavajuće kvalitete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3960" y="5226120"/>
            <a:ext cx="8381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 postupku digitalizacije otipkavanje se provodi s 8 kHz što je  više od dvostruke širine spektra sign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8A8-CA95-4FF9-A15F-94B16FBA55F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855800"/>
            <a:ext cx="916308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eriodičan niz </a:t>
            </a:r>
            <a:r>
              <a:rPr b="0" i="1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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nastao ponavljanjem delta funkcije svakih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kao svaka periodična funkcija se dade predstaviti Fourierovim redom, gdje su Fourierovi koeficijenti dani s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104840" y="3444840"/>
                <a:ext cx="64832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65240" y="5808600"/>
            <a:ext cx="177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l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87720" y="5570640"/>
                <a:ext cx="33098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634000" y="5570640"/>
                <a:ext cx="25336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743040" y="476280"/>
            <a:ext cx="76770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06360" y="4786200"/>
            <a:ext cx="7547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je frekvencija otipkavanj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1E5-E08F-49DD-9177-25459C76E5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tipkavanje realnih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4600" y="1682640"/>
            <a:ext cx="83818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lično je kod digitalne obradbe glazbenih signala, čija je frekvencijsko područje širine 20 kHz osigurava visoko vjernu reprodukciju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7960" y="3206880"/>
            <a:ext cx="863604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 slučaju pohrane analognog glazbenog signala na CD frekvencija otipkavanja je 44.1 kHz što je opet više od dvostruke maksimalne frekvencije sign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 realnim CD uređajima (Dual prije 12 godina) frekvencija otipkavanja 352.8 kHz (8 x oversampling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3DE-9287-41A7-AAA5-C0B3ACF5EDE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47640" y="3016080"/>
            <a:ext cx="80010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Obnavljanje ili rekonstrukcija kontinuiranog signala iz diskretnog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3DF-24A6-4E07-A3D1-5513A8D887E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43000" y="95400"/>
            <a:ext cx="80010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ili rekonstrukcija kontinuiranog signala iz diskretnog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538280"/>
            <a:ext cx="8077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eriodični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može se dobiti i iz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95280" y="2133720"/>
                <a:ext cx="37400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38040" y="3416400"/>
                <a:ext cx="3533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F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086360" y="3416400"/>
                <a:ext cx="45241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113360" y="4570560"/>
                <a:ext cx="2744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n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33520" y="5759280"/>
            <a:ext cx="85341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 dobivenom izrazu se može prepoznati Fourierov red za periodični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02C-3084-4ED3-8C03-533510BBB8A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240" y="950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ili rekonstrukcija kontinuiranog signala iz diskretnog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18360" y="4191120"/>
            <a:ext cx="8245080" cy="2271960"/>
            <a:chOff x="918360" y="4191120"/>
            <a:chExt cx="8245080" cy="2271960"/>
          </a:xfrm>
        </p:grpSpPr>
        <p:sp>
          <p:nvSpPr>
            <p:cNvPr id="493" name=""/>
            <p:cNvSpPr/>
            <p:nvPr/>
          </p:nvSpPr>
          <p:spPr>
            <a:xfrm>
              <a:off x="918360" y="4191120"/>
              <a:ext cx="824508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Da bi se dobila osnovna sekcija spektra 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r>
                <a:rPr b="0" i="1" lang="hr-HR" sz="2800" spc="-1" strike="noStrike" baseline="-25000">
                  <a:solidFill>
                    <a:srgbClr val="f8f8f8"/>
                  </a:solidFill>
                  <a:latin typeface="Times New Roman"/>
                </a:rPr>
                <a:t>c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 odnosno 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po mogućnosti 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 , potrebno je izvršiti filtraciju 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r>
                <a:rPr b="0" i="1" lang="hr-HR" sz="2800" spc="-1" strike="noStrike" baseline="-25000">
                  <a:solidFill>
                    <a:srgbClr val="f8f8f8"/>
                  </a:solidFill>
                  <a:latin typeface="Times New Roman"/>
                </a:rPr>
                <a:t>s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s filtrom frekvencijske karakteristike 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H</a:t>
              </a:r>
              <a:r>
                <a:rPr b="0" i="1" lang="hr-HR" sz="2800" spc="-1" strike="noStrike" baseline="-25000">
                  <a:solidFill>
                    <a:srgbClr val="f8f8f8"/>
                  </a:solidFill>
                  <a:latin typeface="Times New Roman"/>
                </a:rPr>
                <a:t>r 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98360" y="5884920"/>
              <a:ext cx="31456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r>
                <a:rPr b="0" i="1" lang="hr-HR" sz="2800" spc="-1" strike="noStrike" baseline="-25000">
                  <a:solidFill>
                    <a:srgbClr val="f8f8f8"/>
                  </a:solidFill>
                  <a:latin typeface="Times New Roman"/>
                </a:rPr>
                <a:t>c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lang="hr-HR" sz="2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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r>
                <a:rPr b="0" i="1" lang="hr-HR" sz="2800" spc="-1" strike="noStrike" baseline="-25000">
                  <a:solidFill>
                    <a:srgbClr val="f8f8f8"/>
                  </a:solidFill>
                  <a:latin typeface="Times New Roman"/>
                </a:rPr>
                <a:t>s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H</a:t>
              </a:r>
              <a:r>
                <a:rPr b="0" i="1" lang="hr-HR" sz="2800" spc="-1" strike="noStrike" baseline="-25000">
                  <a:solidFill>
                    <a:srgbClr val="f8f8f8"/>
                  </a:solidFill>
                  <a:latin typeface="Times New Roman"/>
                </a:rPr>
                <a:t>r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lang="hr-HR" sz="28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aphicFrame>
        <p:nvGraphicFramePr>
          <p:cNvPr id="495" name=""/>
          <p:cNvGraphicFramePr/>
          <p:nvPr/>
        </p:nvGraphicFramePr>
        <p:xfrm>
          <a:off x="911160" y="1447920"/>
          <a:ext cx="823284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447920"/>
                    <a:ext cx="82328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807-69C9-4D54-A978-0B1395CAA0B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ili rekonstrukcija kontinuiranog signala iz diskretnog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87480" y="1562040"/>
            <a:ext cx="7772400" cy="2445840"/>
            <a:chOff x="987480" y="1562040"/>
            <a:chExt cx="7772400" cy="2445840"/>
          </a:xfrm>
        </p:grpSpPr>
        <p:grpSp>
          <p:nvGrpSpPr>
            <p:cNvPr id="499" name=""/>
            <p:cNvGrpSpPr/>
            <p:nvPr/>
          </p:nvGrpSpPr>
          <p:grpSpPr>
            <a:xfrm>
              <a:off x="987480" y="1562040"/>
              <a:ext cx="7772400" cy="2184480"/>
              <a:chOff x="987480" y="1562040"/>
              <a:chExt cx="7772400" cy="21844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987480" y="2320920"/>
              <a:ext cx="7410240" cy="10447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87480" y="2320920"/>
                        <a:ext cx="7410240" cy="104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2" name=""/>
              <p:cNvSpPr/>
              <p:nvPr/>
            </p:nvSpPr>
            <p:spPr>
              <a:xfrm>
                <a:off x="5564160" y="1917720"/>
                <a:ext cx="863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fafd00"/>
                    </a:solidFill>
                    <a:latin typeface="Times New Roman"/>
                  </a:rPr>
                  <a:t>H</a:t>
                </a:r>
                <a:r>
                  <a:rPr b="0" i="1" lang="hr-HR" sz="2400" spc="-1" strike="noStrike" baseline="-25000">
                    <a:solidFill>
                      <a:srgbClr val="fafd00"/>
                    </a:solidFill>
                    <a:latin typeface="Times New Roman"/>
                  </a:rPr>
                  <a:t>r</a:t>
                </a:r>
                <a:r>
                  <a:rPr b="0" lang="hr-HR" sz="2400" spc="-1" strike="noStrike">
                    <a:solidFill>
                      <a:srgbClr val="fafd00"/>
                    </a:solidFill>
                    <a:latin typeface="Times New Roman"/>
                  </a:rPr>
                  <a:t>(</a:t>
                </a:r>
                <a:r>
                  <a:rPr b="0" i="1" lang="hr-HR" sz="2400" spc="-1" strike="noStrike">
                    <a:solidFill>
                      <a:srgbClr val="fafd00"/>
                    </a:solidFill>
                    <a:latin typeface="Times New Roman"/>
                  </a:rPr>
                  <a:t>F</a:t>
                </a:r>
                <a:r>
                  <a:rPr b="0" lang="hr-HR" sz="2400" spc="-1" strike="noStrike">
                    <a:solidFill>
                      <a:srgbClr val="fafd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aphicFrame>
            <p:nvGraphicFramePr>
              <p:cNvPr id="503" name=""/>
              <p:cNvGraphicFramePr/>
              <p:nvPr/>
            </p:nvGraphicFramePr>
            <p:xfrm>
              <a:off x="1028880" y="1562040"/>
              <a:ext cx="7731000" cy="2184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28880" y="1562040"/>
                        <a:ext cx="7731000" cy="218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05" name=""/>
            <p:cNvSpPr/>
            <p:nvPr/>
          </p:nvSpPr>
          <p:spPr>
            <a:xfrm>
              <a:off x="5629680" y="3638520"/>
              <a:ext cx="541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6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i="1" lang="hr-HR" sz="1600" spc="-1" strike="noStrike" baseline="-25000">
                  <a:solidFill>
                    <a:srgbClr val="f8f8f8"/>
                  </a:solidFill>
                  <a:latin typeface="Times New Roman"/>
                </a:rPr>
                <a:t>s </a:t>
              </a:r>
              <a:r>
                <a:rPr b="0" i="1" lang="hr-HR" sz="1600" spc="-1" strike="noStrike">
                  <a:solidFill>
                    <a:srgbClr val="f8f8f8"/>
                  </a:solidFill>
                  <a:latin typeface="Times New Roman"/>
                  <a:ea typeface="Times New Roman"/>
                </a:rPr>
                <a:t>/</a:t>
              </a:r>
              <a:r>
                <a:rPr b="0" i="1" lang="hr-HR" sz="16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5524200" y="3441600"/>
              <a:ext cx="228600" cy="2286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9080" y="4838760"/>
            <a:ext cx="4705200" cy="1963080"/>
            <a:chOff x="19080" y="4838760"/>
            <a:chExt cx="4705200" cy="1963080"/>
          </a:xfrm>
        </p:grpSpPr>
        <p:sp>
          <p:nvSpPr>
            <p:cNvPr id="508" name=""/>
            <p:cNvSpPr/>
            <p:nvPr/>
          </p:nvSpPr>
          <p:spPr>
            <a:xfrm>
              <a:off x="2247840" y="5005440"/>
              <a:ext cx="0" cy="135720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080" y="6348240"/>
              <a:ext cx="470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16560" y="6362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8f8f8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84200" y="582948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0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96520" y="4838760"/>
              <a:ext cx="753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000" spc="-1" strike="noStrike">
                  <a:solidFill>
                    <a:srgbClr val="f8f8f8"/>
                  </a:solidFill>
                  <a:latin typeface="Times New Roman"/>
                </a:rPr>
                <a:t>H</a:t>
              </a:r>
              <a:r>
                <a:rPr b="0" i="1" lang="hr-HR" sz="2000" spc="-1" strike="noStrike" baseline="-25000">
                  <a:solidFill>
                    <a:srgbClr val="f8f8f8"/>
                  </a:solidFill>
                  <a:latin typeface="Times New Roman"/>
                </a:rPr>
                <a:t>r</a:t>
              </a:r>
              <a:r>
                <a:rPr b="0" lang="hr-HR" sz="20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r>
                <a:rPr b="0" i="1" lang="hr-HR" sz="20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lang="hr-HR" sz="20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60000" y="6362640"/>
              <a:ext cx="6969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0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i="1" lang="hr-HR" sz="2000" spc="-1" strike="noStrike" baseline="-25000">
                  <a:solidFill>
                    <a:srgbClr val="f8f8f8"/>
                  </a:solidFill>
                  <a:latin typeface="Times New Roman"/>
                </a:rPr>
                <a:t>s </a:t>
              </a:r>
              <a:r>
                <a:rPr b="0" lang="hr-HR" sz="2000" spc="-1" strike="noStrike">
                  <a:solidFill>
                    <a:srgbClr val="f8f8f8"/>
                  </a:solidFill>
                  <a:latin typeface="Times New Roman"/>
                </a:rPr>
                <a:t>/ 2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4400" y="5372280"/>
              <a:ext cx="0" cy="99036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5372280"/>
              <a:ext cx="0" cy="99036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927000" y="5372280"/>
              <a:ext cx="26416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69200" y="50673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4960" y="6346800"/>
              <a:ext cx="7822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000" spc="-1" strike="noStrike">
                  <a:solidFill>
                    <a:srgbClr val="f8f8f8"/>
                  </a:solidFill>
                  <a:latin typeface="Times New Roman"/>
                </a:rPr>
                <a:t>-F</a:t>
              </a:r>
              <a:r>
                <a:rPr b="0" i="1" lang="hr-HR" sz="2000" spc="-1" strike="noStrike" baseline="-25000">
                  <a:solidFill>
                    <a:srgbClr val="f8f8f8"/>
                  </a:solidFill>
                  <a:latin typeface="Times New Roman"/>
                </a:rPr>
                <a:t>s </a:t>
              </a:r>
              <a:r>
                <a:rPr b="0" lang="hr-HR" sz="2000" spc="-1" strike="noStrike">
                  <a:solidFill>
                    <a:srgbClr val="f8f8f8"/>
                  </a:solidFill>
                  <a:latin typeface="Times New Roman"/>
                </a:rPr>
                <a:t>/ 2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499680" y="4300560"/>
            <a:ext cx="4942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tpostavimo z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H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r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dealan filt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237280" y="5073480"/>
                <a:ext cx="35067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  <m:r>
                            <m:t xml:space="preserve">&lt;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mr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  <m:r>
                            <m:t xml:space="preserve">&gt;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B32-424C-4A2F-AFD0-7B8D17B2724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326160" y="2119320"/>
            <a:ext cx="4545720" cy="1584360"/>
            <a:chOff x="326160" y="2119320"/>
            <a:chExt cx="4545720" cy="1584360"/>
          </a:xfrm>
        </p:grpSpPr>
        <p:sp>
          <p:nvSpPr>
            <p:cNvPr id="522" name=""/>
            <p:cNvSpPr/>
            <p:nvPr/>
          </p:nvSpPr>
          <p:spPr>
            <a:xfrm>
              <a:off x="326160" y="2119320"/>
              <a:ext cx="2675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Impulsni odziv je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885960" y="2619360"/>
                  <a:ext cx="398592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F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927680" y="2728800"/>
                <a:ext cx="2143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52280" y="3657600"/>
            <a:ext cx="88362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neka je frekvencija otipkavanj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&gt; 2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max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tako da unutar pojasa ponavljanja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-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/2,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/2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nema preklapanja sekcija spektra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1560" y="5110200"/>
            <a:ext cx="112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tada j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568520" y="5137200"/>
                <a:ext cx="4145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ili rekonstrukcija kontinuiranog signala iz diskretnog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90080" y="5791320"/>
            <a:ext cx="6577560" cy="992160"/>
            <a:chOff x="190080" y="5791320"/>
            <a:chExt cx="6577560" cy="992160"/>
          </a:xfrm>
        </p:grpSpPr>
        <p:sp>
          <p:nvSpPr>
            <p:cNvPr id="530" name=""/>
            <p:cNvSpPr/>
            <p:nvPr/>
          </p:nvSpPr>
          <p:spPr>
            <a:xfrm>
              <a:off x="190080" y="5945040"/>
              <a:ext cx="2731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uz prije izvedeno: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3029040" y="5791320"/>
                  <a:ext cx="373860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)</m:t>
                          </m:r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Fn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D9F-B19A-41F3-B45A-3E817A1C857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1799640" y="1843200"/>
            <a:ext cx="5547240" cy="1063440"/>
            <a:chOff x="1799640" y="1843200"/>
            <a:chExt cx="5547240" cy="1063440"/>
          </a:xfrm>
        </p:grpSpPr>
        <p:sp>
          <p:nvSpPr>
            <p:cNvPr id="533" name=""/>
            <p:cNvSpPr/>
            <p:nvPr/>
          </p:nvSpPr>
          <p:spPr>
            <a:xfrm>
              <a:off x="7219800" y="21240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97520" y="21240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86160" y="21240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97200" y="21240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74800" y="21240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52520" y="21240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08160" y="2075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45120" y="212400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99080" y="212400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32240" y="212400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87680" y="212400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34720" y="2124000"/>
              <a:ext cx="40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nT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19360" y="212400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01560" y="212400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99640" y="212400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18360" y="23590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01920" y="207504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Fn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18880" y="2075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44440" y="2627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79720" y="23590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14000" y="207972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35800" y="220680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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35800" y="244944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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35800" y="184320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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75320" y="220680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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75320" y="244944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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75320" y="184320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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91440" y="2050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88080" y="1854360"/>
              <a:ext cx="30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47200" y="2603520"/>
              <a:ext cx="249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64320" y="260352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43160" y="1978200"/>
              <a:ext cx="3985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5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</a:t>
              </a:r>
              <a:endParaRPr b="0" lang="en-US" sz="45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40280" y="2050920"/>
              <a:ext cx="12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ili rekonstrukcija kontinuiranog signala iz diskretnog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8680" y="3219480"/>
            <a:ext cx="8616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nverznom Fourierovom transformacijom spektr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sl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66560" y="4238640"/>
            <a:ext cx="3838680" cy="1173240"/>
          </a:xfrm>
          <a:prstGeom prst="rect">
            <a:avLst/>
          </a:prstGeom>
          <a:ln w="0">
            <a:noFill/>
          </a:ln>
        </p:spPr>
      </p:pic>
      <p:grpSp>
        <p:nvGrpSpPr>
          <p:cNvPr id="569" name=""/>
          <p:cNvGrpSpPr/>
          <p:nvPr/>
        </p:nvGrpSpPr>
        <p:grpSpPr>
          <a:xfrm>
            <a:off x="1303920" y="5483160"/>
            <a:ext cx="6712560" cy="1127160"/>
            <a:chOff x="1303920" y="5483160"/>
            <a:chExt cx="6712560" cy="1127160"/>
          </a:xfrm>
        </p:grpSpPr>
        <p:sp>
          <p:nvSpPr>
            <p:cNvPr id="570" name=""/>
            <p:cNvSpPr/>
            <p:nvPr/>
          </p:nvSpPr>
          <p:spPr>
            <a:xfrm>
              <a:off x="1539720" y="6045480"/>
              <a:ext cx="414360" cy="1440"/>
            </a:xfrm>
            <a:prstGeom prst="line">
              <a:avLst/>
            </a:prstGeom>
            <a:ln w="158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73320" y="5705640"/>
              <a:ext cx="3315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5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</a:t>
              </a:r>
              <a:endParaRPr b="0" lang="en-US" sz="45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38600" y="5656320"/>
              <a:ext cx="3985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5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</a:t>
              </a:r>
              <a:endParaRPr b="0" lang="en-US" sz="45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49560" y="548316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16160" y="633096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15000" y="63309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86520" y="57294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83520" y="5532480"/>
              <a:ext cx="30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42640" y="6282000"/>
              <a:ext cx="249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59400" y="628200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12640" y="575784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31240" y="588492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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31240" y="612792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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31240" y="552132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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70400" y="588492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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70400" y="612792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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400" y="5521320"/>
              <a:ext cx="10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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03920" y="575784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75160" y="580248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dF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35640" y="580248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83120" y="580248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0160" y="5802480"/>
              <a:ext cx="40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nT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14800" y="580248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97000" y="580248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94720" y="580248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53840" y="610092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30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14520" y="575316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F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1840" y="57531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97360" y="575316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Fn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14320" y="57531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39880" y="6305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73360" y="60372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41400" y="633564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53240" y="5729400"/>
              <a:ext cx="12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5720" y="5729400"/>
              <a:ext cx="12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21120" y="575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05040" y="575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81600" y="5802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92640" y="5802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70240" y="5802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47960" y="5802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26920" y="55627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E8E-DE2A-4584-8BDE-27903D26CEA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" y="4876920"/>
            <a:ext cx="8616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Kontinuirani 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rekonstruiran je iz uzoraka otipkanog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nterpolacijom s funkcijom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2741760" y="5867280"/>
                <a:ext cx="2957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1143000" y="95400"/>
            <a:ext cx="80010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ili rekonstrukcija kontinuiranog signala iz diskretnog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209680" y="1828800"/>
                <a:ext cx="57229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7" name=""/>
          <p:cNvGraphicFramePr/>
          <p:nvPr/>
        </p:nvGraphicFramePr>
        <p:xfrm>
          <a:off x="2390760" y="3301920"/>
          <a:ext cx="492768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0760" y="3301920"/>
                    <a:ext cx="49276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463-7929-4A81-B039-D91F15519DE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467000" y="380880"/>
            <a:ext cx="76770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dfca"/>
                </a:solidFill>
                <a:latin typeface="Times New Roman"/>
              </a:rPr>
              <a:t>Obnavljanje ili rekonstrukcija kontinuiranog signala iz diskretnog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8680" y="1905120"/>
            <a:ext cx="861696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možemo zaključiti kako je kontinuirani 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,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koji ima frekvencijski omeđen spektar tj.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= 0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za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&gt;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2,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jednoznačno određen trenutnim vrijednostima u jednoliko raspoređenim trenucim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T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=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0880" y="419112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afd00"/>
                </a:solidFill>
                <a:latin typeface="Times New Roman"/>
              </a:rPr>
              <a:t>nterpolacijska funkcija predstavlja</a:t>
            </a: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afd00"/>
                </a:solidFill>
                <a:latin typeface="Times New Roman"/>
              </a:rPr>
              <a:t>impulsni odziv idealnog filtr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9B7-6F67-4F3D-9AB3-623DEF1F1A2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762120" y="533520"/>
          <a:ext cx="829944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829944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719280" y="2743200"/>
          <a:ext cx="8348400" cy="28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2743200"/>
                    <a:ext cx="834840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380880" y="579132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afd00"/>
                </a:solidFill>
                <a:latin typeface="Times New Roman"/>
              </a:rPr>
              <a:t>filtar ima nekauzalan odziv i prema tome je neostvariv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15D-2E67-4E68-8685-E7B246F3B7F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1400" y="1673280"/>
            <a:ext cx="8580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pektar otipkanog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dan je s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320" y="2090880"/>
                <a:ext cx="40860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F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064040" y="2116080"/>
                <a:ext cx="50655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2</m:t>
                                    </m:r>
                                    <m:sSub>
                                      <m:e>
                                        <m:r>
                                          <m:t xml:space="preserve">πk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238560"/>
            <a:ext cx="916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mjenom redoslijeda sumacije i integracije dobivamo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52520" y="3801960"/>
                <a:ext cx="570708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4913280"/>
            <a:ext cx="916308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ntegral je spektar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, ali pomaknut z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kF</a:t>
            </a:r>
            <a:r>
              <a:rPr b="0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pa izlaz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57400" y="5703840"/>
                <a:ext cx="75657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743040" y="469800"/>
            <a:ext cx="76770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8D5-8ECC-40FA-8ABA-ABBF67A983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49080" y="1839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Interpolator nultog red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90440" y="4267080"/>
          <a:ext cx="8864640" cy="22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4267080"/>
                    <a:ext cx="88646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0" name=""/>
          <p:cNvGrpSpPr/>
          <p:nvPr/>
        </p:nvGrpSpPr>
        <p:grpSpPr>
          <a:xfrm>
            <a:off x="1989000" y="1349280"/>
            <a:ext cx="6235920" cy="2544480"/>
            <a:chOff x="1989000" y="1349280"/>
            <a:chExt cx="6235920" cy="2544480"/>
          </a:xfrm>
        </p:grpSpPr>
        <p:grpSp>
          <p:nvGrpSpPr>
            <p:cNvPr id="631" name=""/>
            <p:cNvGrpSpPr/>
            <p:nvPr/>
          </p:nvGrpSpPr>
          <p:grpSpPr>
            <a:xfrm>
              <a:off x="1989000" y="1349280"/>
              <a:ext cx="6235920" cy="2544480"/>
              <a:chOff x="1989000" y="1349280"/>
              <a:chExt cx="6235920" cy="2544480"/>
            </a:xfrm>
          </p:grpSpPr>
          <p:graphicFrame>
            <p:nvGraphicFramePr>
              <p:cNvPr id="632" name=""/>
              <p:cNvGraphicFramePr/>
              <p:nvPr/>
            </p:nvGraphicFramePr>
            <p:xfrm>
              <a:off x="1989000" y="1349280"/>
              <a:ext cx="6235920" cy="2543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3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89000" y="1349280"/>
                        <a:ext cx="6235920" cy="2543040"/>
                      </a:xfrm>
                      <a:prstGeom prst="rect">
                        <a:avLst/>
                      </a:prstGeom>
                      <a:ln w="9360">
                        <a:solidFill>
                          <a:srgbClr val="f8f8f8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4" name=""/>
              <p:cNvSpPr/>
              <p:nvPr/>
            </p:nvSpPr>
            <p:spPr>
              <a:xfrm>
                <a:off x="8224920" y="1379160"/>
                <a:ext cx="0" cy="251460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010120" y="1488600"/>
              <a:ext cx="542880" cy="646200"/>
              <a:chOff x="5010120" y="1488600"/>
              <a:chExt cx="542880" cy="646200"/>
            </a:xfrm>
          </p:grpSpPr>
          <p:sp>
            <p:nvSpPr>
              <p:cNvPr id="636" name=""/>
              <p:cNvSpPr/>
              <p:nvPr/>
            </p:nvSpPr>
            <p:spPr>
              <a:xfrm>
                <a:off x="5167440" y="1490400"/>
                <a:ext cx="2844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10120" y="1809360"/>
                <a:ext cx="155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165640" y="1488600"/>
                <a:ext cx="0" cy="32364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192640" y="1488600"/>
                <a:ext cx="0" cy="32364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197320" y="1809360"/>
                <a:ext cx="19368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388120" y="2130120"/>
                <a:ext cx="2844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86320" y="1811160"/>
                <a:ext cx="0" cy="32364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13320" y="1811160"/>
                <a:ext cx="0" cy="32364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5411880" y="1807920"/>
                <a:ext cx="141120" cy="1440"/>
              </a:xfrm>
              <a:prstGeom prst="line">
                <a:avLst/>
              </a:prstGeom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311-A03D-414F-B0D1-C979FF1E2E8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Interpolator prvog red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241200" y="1747800"/>
          <a:ext cx="876312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747800"/>
                    <a:ext cx="8763120" cy="2455920"/>
                  </a:xfrm>
                  <a:prstGeom prst="rect">
                    <a:avLst/>
                  </a:prstGeom>
                  <a:ln w="9360">
                    <a:solidFill>
                      <a:srgbClr val="f8f8f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469800" y="4551480"/>
          <a:ext cx="7947000" cy="22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800" y="4551480"/>
                    <a:ext cx="794700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1A8-82C6-41A4-9420-034B83617CD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gitalna obradba kontinuiranih signal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2057400"/>
            <a:ext cx="83818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tvorba vremenski kontinuiranog signala u vremenski diskretan signal izvodi se analogno-digitalnim (A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/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) pretvornikom što znači da je vremenski diskretan signal potrebno kvantizirati i po amplitud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5400" y="4327560"/>
            <a:ext cx="8069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2.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bradba vremenski diskretnog signala izvodi se digitalnim procesoro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6320" y="5407200"/>
            <a:ext cx="81885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3.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etvorba obrađenog diskretnog signala u vremenski kontinuirani signal izvodi se pomoću digitalno-analognog (D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/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) pretvornik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92A-A6BE-40BA-8A20-7C6BCD03A0A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gitalna obradba kontinuiranih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1640" y="2502000"/>
            <a:ext cx="8382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Lanac sklopova potrebnih za digitalnu obradbu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kontinuiranih signala prikazan je blok dijagramo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18160" y="4008600"/>
            <a:ext cx="8555760" cy="766080"/>
            <a:chOff x="218160" y="4008600"/>
            <a:chExt cx="8555760" cy="766080"/>
          </a:xfrm>
        </p:grpSpPr>
        <p:grpSp>
          <p:nvGrpSpPr>
            <p:cNvPr id="657" name=""/>
            <p:cNvGrpSpPr/>
            <p:nvPr/>
          </p:nvGrpSpPr>
          <p:grpSpPr>
            <a:xfrm>
              <a:off x="469800" y="4089240"/>
              <a:ext cx="8077320" cy="685440"/>
              <a:chOff x="469800" y="4089240"/>
              <a:chExt cx="8077320" cy="685440"/>
            </a:xfrm>
          </p:grpSpPr>
          <p:sp>
            <p:nvSpPr>
              <p:cNvPr id="658" name=""/>
              <p:cNvSpPr/>
              <p:nvPr/>
            </p:nvSpPr>
            <p:spPr>
              <a:xfrm>
                <a:off x="2298600" y="4089240"/>
                <a:ext cx="609840" cy="685440"/>
              </a:xfrm>
              <a:prstGeom prst="rect">
                <a:avLst/>
              </a:prstGeom>
              <a:solidFill>
                <a:srgbClr val="00005a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213000" y="4089240"/>
                <a:ext cx="609840" cy="685440"/>
              </a:xfrm>
              <a:prstGeom prst="rect">
                <a:avLst/>
              </a:prstGeom>
              <a:solidFill>
                <a:srgbClr val="00005a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38680" y="4089240"/>
                <a:ext cx="609840" cy="685440"/>
              </a:xfrm>
              <a:prstGeom prst="rect">
                <a:avLst/>
              </a:prstGeom>
              <a:solidFill>
                <a:srgbClr val="00005a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4089240"/>
                <a:ext cx="1219320" cy="685440"/>
              </a:xfrm>
              <a:prstGeom prst="rect">
                <a:avLst/>
              </a:prstGeom>
              <a:solidFill>
                <a:srgbClr val="00005a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f8f8f8"/>
                    </a:solidFill>
                    <a:latin typeface="Times New Roman CE"/>
                  </a:rPr>
                  <a:t>antialiasing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f8f8f8"/>
                    </a:solidFill>
                    <a:latin typeface="Times New Roman CE"/>
                  </a:rPr>
                  <a:t>filtar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114800" y="4089240"/>
                <a:ext cx="1219320" cy="685440"/>
              </a:xfrm>
              <a:prstGeom prst="rect">
                <a:avLst/>
              </a:prstGeom>
              <a:solidFill>
                <a:srgbClr val="00005a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f8f8f8"/>
                    </a:solidFill>
                    <a:latin typeface="Times New Roman CE"/>
                  </a:rPr>
                  <a:t>digitalni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f8f8f8"/>
                    </a:solidFill>
                    <a:latin typeface="Times New Roman CE"/>
                  </a:rPr>
                  <a:t>procesor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566040" y="4089240"/>
                <a:ext cx="1676160" cy="685440"/>
              </a:xfrm>
              <a:prstGeom prst="rect">
                <a:avLst/>
              </a:prstGeom>
              <a:solidFill>
                <a:srgbClr val="00005a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94040" y="4419000"/>
                <a:ext cx="3045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08440" y="4431600"/>
                <a:ext cx="3045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22840" y="4431600"/>
                <a:ext cx="3045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346720" y="4431600"/>
                <a:ext cx="30492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9800" y="4444200"/>
                <a:ext cx="30492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48520" y="4431600"/>
                <a:ext cx="3045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242200" y="4431600"/>
                <a:ext cx="30492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287800" y="4177440"/>
                <a:ext cx="65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S/H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164400" y="419040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A/D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03040" y="419040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D/A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674" name=""/>
              <p:cNvGrpSpPr/>
              <p:nvPr/>
            </p:nvGrpSpPr>
            <p:grpSpPr>
              <a:xfrm>
                <a:off x="6642720" y="4139640"/>
                <a:ext cx="1656000" cy="596520"/>
                <a:chOff x="6642720" y="4139640"/>
                <a:chExt cx="1656000" cy="5965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642720" y="4139640"/>
                  <a:ext cx="165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f8f8f8"/>
                      </a:solidFill>
                      <a:latin typeface="Times New Roman"/>
                    </a:rPr>
                    <a:t>rekonstrukcijski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090200" y="4367880"/>
                  <a:ext cx="62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8f8f8"/>
                      </a:solidFill>
                      <a:latin typeface="Times New Roman"/>
                    </a:rPr>
                    <a:t>filt</a:t>
                  </a:r>
                  <a:r>
                    <a:rPr b="0" lang="hr-HR" sz="1800" spc="-1" strike="noStrike">
                      <a:solidFill>
                        <a:srgbClr val="f8f8f8"/>
                      </a:solidFill>
                      <a:latin typeface="Times New Roman"/>
                    </a:rPr>
                    <a:t>a</a:t>
                  </a:r>
                  <a:r>
                    <a:rPr b="0" lang="en-US" sz="1800" spc="-1" strike="noStrike">
                      <a:solidFill>
                        <a:srgbClr val="f8f8f8"/>
                      </a:solidFill>
                      <a:latin typeface="Times New Roman"/>
                    </a:rPr>
                    <a:t>r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7" name=""/>
            <p:cNvSpPr/>
            <p:nvPr/>
          </p:nvSpPr>
          <p:spPr>
            <a:xfrm>
              <a:off x="218160" y="4059000"/>
              <a:ext cx="50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 CE"/>
                </a:rPr>
                <a:t>x</a:t>
              </a:r>
              <a:r>
                <a:rPr b="0" lang="hr-HR" sz="1800" spc="-1" strike="noStrike">
                  <a:solidFill>
                    <a:srgbClr val="f8f8f8"/>
                  </a:solidFill>
                  <a:latin typeface="Times New Roman CE"/>
                </a:rPr>
                <a:t>(</a:t>
              </a:r>
              <a:r>
                <a:rPr b="0" i="1" lang="hr-HR" sz="1800" spc="-1" strike="noStrike">
                  <a:solidFill>
                    <a:srgbClr val="f8f8f8"/>
                  </a:solidFill>
                  <a:latin typeface="Times New Roman CE"/>
                </a:rPr>
                <a:t>t</a:t>
              </a:r>
              <a:r>
                <a:rPr b="0" lang="hr-HR" sz="1800" spc="-1" strike="noStrike">
                  <a:solidFill>
                    <a:srgbClr val="f8f8f8"/>
                  </a:solidFill>
                  <a:latin typeface="Times New Roman CE"/>
                </a:rPr>
                <a:t>)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69920" y="4008600"/>
              <a:ext cx="50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f8f8f8"/>
                  </a:solidFill>
                  <a:latin typeface="Times New Roman CE"/>
                </a:rPr>
                <a:t>y</a:t>
              </a:r>
              <a:r>
                <a:rPr b="0" lang="hr-HR" sz="1800" spc="-1" strike="noStrike">
                  <a:solidFill>
                    <a:srgbClr val="f8f8f8"/>
                  </a:solidFill>
                  <a:latin typeface="Times New Roman CE"/>
                </a:rPr>
                <a:t>(</a:t>
              </a:r>
              <a:r>
                <a:rPr b="0" i="1" lang="hr-HR" sz="1800" spc="-1" strike="noStrike">
                  <a:solidFill>
                    <a:srgbClr val="f8f8f8"/>
                  </a:solidFill>
                  <a:latin typeface="Times New Roman CE"/>
                </a:rPr>
                <a:t>t</a:t>
              </a:r>
              <a:r>
                <a:rPr b="0" lang="hr-HR" sz="1800" spc="-1" strike="noStrike">
                  <a:solidFill>
                    <a:srgbClr val="f8f8f8"/>
                  </a:solidFill>
                  <a:latin typeface="Times New Roman CE"/>
                </a:rPr>
                <a:t>)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D3F-14C3-473F-B4A1-46BEE9AA738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5240" y="32446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Diskretizacija kontinuiranoga spektr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D13-E3B3-4B54-BD97-9B55316ED1A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Diskretizacija kontinuiranoga spektr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8280" y="2889360"/>
            <a:ext cx="8381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pektar aperiodičnih diskretnih signala također je kontinuiran i još k tome i periodiča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9040" y="2216160"/>
            <a:ext cx="838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pektar aperiodičnih kontinuiranih signala je kontinuira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3840" y="4083120"/>
            <a:ext cx="8381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vdje se razmatraju postupak otipkavanja spektra tj. diskretizacija u spektralnoj domen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3840" y="5505480"/>
            <a:ext cx="83818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ostupak koji ćemo ovdje primijeniti identičan je postupku primijenjenom kod otipkavanja vremenski kontinuiranih sign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3AE-C238-40B6-B121-A5A52E3013F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dfca"/>
                </a:solidFill>
                <a:latin typeface="Times New Roman"/>
              </a:rPr>
              <a:t>Diskretizacija kontinuiranoga spektra</a:t>
            </a:r>
            <a:endParaRPr b="0" i="1" lang="en-US" sz="36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1080" y="1754280"/>
            <a:ext cx="8962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iskretizaciju kontinuiranog spektra možemo interpretirati kao modulaciju impulsnog niz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95640" y="2878200"/>
                <a:ext cx="31478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181080" y="4091040"/>
            <a:ext cx="89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unkcijom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akl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09680" y="4694400"/>
                <a:ext cx="46101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075280" y="4694400"/>
                <a:ext cx="371304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859-6CC2-4E36-A1D4-47A7451E7F5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1544760" y="5041800"/>
                <a:ext cx="56052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1606680" y="412920"/>
            <a:ext cx="72579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0" y="1893960"/>
            <a:ext cx="9163080" cy="1492200"/>
            <a:chOff x="0" y="1893960"/>
            <a:chExt cx="9163080" cy="1492200"/>
          </a:xfrm>
        </p:grpSpPr>
        <p:sp>
          <p:nvSpPr>
            <p:cNvPr id="694" name=""/>
            <p:cNvSpPr/>
            <p:nvPr/>
          </p:nvSpPr>
          <p:spPr>
            <a:xfrm>
              <a:off x="0" y="1893960"/>
              <a:ext cx="916308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8f8f8"/>
                  </a:solidFill>
                  <a:latin typeface="Times New Roman"/>
                </a:rPr>
                <a:t>	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Periodičan niz              nastao ponavljanjem delta funkcije svakih </a:t>
              </a:r>
              <a:r>
                <a:rPr b="0" i="1" lang="hr-HR" sz="2800" spc="-1" strike="noStrike">
                  <a:solidFill>
                    <a:srgbClr val="f8f8f8"/>
                  </a:solidFill>
                  <a:latin typeface="Times New Roman"/>
                </a:rPr>
                <a:t>F</a:t>
              </a:r>
              <a:r>
                <a:rPr b="0" i="1" lang="hr-HR" sz="2800" spc="-1" strike="noStrike" baseline="-25000">
                  <a:solidFill>
                    <a:srgbClr val="f8f8f8"/>
                  </a:solidFill>
                  <a:latin typeface="Times New Roman"/>
                </a:rPr>
                <a:t>0</a:t>
              </a: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, kao svaka periodična funkcija se dade predstaviti Fourierovim redom: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562120" y="2000160"/>
                  <a:ext cx="10033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1625760" y="3305160"/>
                <a:ext cx="5775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F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-19080" y="4370400"/>
            <a:ext cx="9163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gdje su amplitude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dane s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CC3-9650-4255-A8A4-9C907AE6531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91960" y="2100240"/>
            <a:ext cx="177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l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67000" y="336600"/>
            <a:ext cx="74484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38120" y="2620800"/>
                <a:ext cx="64519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F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31640" y="3967200"/>
            <a:ext cx="839016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nverznom transformacijom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d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obiva se kontinuirani 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d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koji odgovara otipkanom spektru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812960" y="5430960"/>
                <a:ext cx="44593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BE0-35B5-4067-A474-6B91A587E9D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82320" y="694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izacija kontinuiranoga spektr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20640" y="3595680"/>
            <a:ext cx="167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 konačno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592280" y="3943440"/>
                <a:ext cx="6473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1351080" y="1173240"/>
                <a:ext cx="66546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sup>
                            </m:sSup>
                          </m:e>
                        </m:nary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778040" y="2459160"/>
                <a:ext cx="58770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615960" y="5162400"/>
            <a:ext cx="833760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tipkavanje kontinuiranog spektr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periodičkog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rezultira u njegovom periodičnom ponavljanju svakih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=1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165-621A-4C30-BADE-529F72BB83F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400" y="2193840"/>
            <a:ext cx="8417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okazano je da je spektar otipkanog dakle diskretnog signala periodičan pa Fourierovu transformaciju diskretnog signal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konačne energije možemo pisat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630520" y="4416480"/>
                <a:ext cx="37512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24A-DE19-45E9-B0E5-928BE578C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kontinuiranog spektra iz diskretnog</a:t>
            </a:r>
            <a:br>
              <a:rPr sz="3200"/>
            </a:b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116080" y="2509920"/>
                <a:ext cx="48564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1" name=""/>
          <p:cNvSpPr/>
          <p:nvPr/>
        </p:nvSpPr>
        <p:spPr>
          <a:xfrm>
            <a:off x="673200" y="1817640"/>
            <a:ext cx="7350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z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d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ikazan kao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5800" y="3684600"/>
            <a:ext cx="7350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d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dobivamo inverznom transformacijom kao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14480" y="4122720"/>
                <a:ext cx="44593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915840" y="5430960"/>
                <a:ext cx="71946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k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94B-2F96-44E8-8C6D-55B87463710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838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kontinuiranog spektra iz diskretnog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3200" y="4268880"/>
            <a:ext cx="8470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d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je periodična funkcija prikazana Fourierovim redom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995400" y="1432080"/>
                <a:ext cx="68562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950760" y="2922480"/>
                <a:ext cx="6181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673200" y="5145120"/>
            <a:ext cx="847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rekonstrukciju kontinuiranog spektra postiže se izdvajanjem samo osnovne sekcije od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d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što se postiže množenjem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d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s idealnim pravokutnim otvoro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E19-293C-491B-BDBD-9548A08A909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kontinuiranog spektra iz diskretnog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2030400" y="1720800"/>
                <a:ext cx="3009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&lt;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mr>
                      <m:m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&gt;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>
            <a:off x="355680" y="2909880"/>
            <a:ext cx="847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čiji je spektar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1752480" y="3386160"/>
                <a:ext cx="5318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π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343080" y="4471920"/>
            <a:ext cx="847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vu sekciju signala dobivamo množenjem s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w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08120" y="5310360"/>
                <a:ext cx="76341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1AC-C881-4353-9BA3-5C0C1A12EFC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71240" y="22212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kontinuiranog spektra iz diskretnog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8720" y="1639800"/>
            <a:ext cx="8471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,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zražen uz pomoć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k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lijedi iz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7960" y="3481560"/>
            <a:ext cx="847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mjenjujemo s prije izvedeni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341440" y="2157480"/>
                <a:ext cx="408780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025640" y="4011480"/>
                <a:ext cx="753264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k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995480" y="5367240"/>
                <a:ext cx="544032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t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CFE-8867-478B-91D2-18169B6C6D6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371240" y="-190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Obnavljanje kontinuiranog spektra iz diskretnog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6440" y="1335240"/>
            <a:ext cx="8470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finalno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,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zražen uz pomoć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k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,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j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352520" y="1805040"/>
                <a:ext cx="63198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368280" y="2973240"/>
            <a:ext cx="8470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akle spektar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jednoznačno je određen iz svojih uzoraka 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k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0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,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nterpolacijom funkcijom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2482920" y="3930480"/>
                <a:ext cx="324468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π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127080" y="5043600"/>
            <a:ext cx="911844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afd00"/>
                </a:solidFill>
                <a:latin typeface="Times New Roman"/>
              </a:rPr>
              <a:t>Zaključak: kontinuirani spektar signala koji ima omeđeno trajanje (</a:t>
            </a:r>
            <a:r>
              <a:rPr b="0" i="1" lang="hr-HR" sz="27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7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</a:rPr>
              <a:t>)=0 za 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hr-HR" sz="27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</a:rPr>
              <a:t>&gt;</a:t>
            </a:r>
            <a:r>
              <a:rPr b="0" i="1" lang="hr-HR" sz="27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700" spc="-1" strike="noStrike" baseline="-25000">
                <a:solidFill>
                  <a:srgbClr val="f8f8f8"/>
                </a:solidFill>
                <a:latin typeface="Times New Roman"/>
              </a:rPr>
              <a:t>p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hr-HR" sz="2700" spc="-1" strike="noStrike">
                <a:solidFill>
                  <a:srgbClr val="fafd00"/>
                </a:solidFill>
                <a:latin typeface="Times New Roman"/>
              </a:rPr>
              <a:t>)  jednoznačno je određen svojim uzorcima na jednoliko raspoređenim frekvencijama </a:t>
            </a:r>
            <a:r>
              <a:rPr b="0" i="1" lang="hr-HR" sz="27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700" spc="-1" strike="noStrike" baseline="-25000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0" i="1" lang="hr-HR" sz="2700" spc="-1" strike="noStrike">
                <a:solidFill>
                  <a:srgbClr val="f8f8f8"/>
                </a:solidFill>
                <a:latin typeface="Times New Roman"/>
              </a:rPr>
              <a:t>kF</a:t>
            </a:r>
            <a:r>
              <a:rPr b="0" i="1" lang="hr-HR" sz="2700" spc="-1" strike="noStrike" baseline="-25000">
                <a:solidFill>
                  <a:srgbClr val="f8f8f8"/>
                </a:solidFill>
                <a:latin typeface="Times New Roman"/>
              </a:rPr>
              <a:t>0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0" i="1" lang="hr-HR" sz="2700" spc="-1" strike="noStrike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7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700" spc="-1" strike="noStrike" baseline="-25000">
                <a:solidFill>
                  <a:srgbClr val="f8f8f8"/>
                </a:solidFill>
                <a:latin typeface="Times New Roman"/>
              </a:rPr>
              <a:t>p</a:t>
            </a:r>
            <a:r>
              <a:rPr b="0" lang="hr-HR" sz="27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B13-1109-4623-BA31-AAF57CD3A04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menzionalnost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06440" y="1614600"/>
            <a:ext cx="8470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tipkanje signala u vremenskoj domeni 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ponavljanje spektra s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afd00"/>
                </a:solidFill>
                <a:latin typeface="Times New Roman"/>
              </a:rPr>
              <a:t>s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(aliasing u FD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9040" y="3176640"/>
            <a:ext cx="8470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tipkanje signala u frekvencijskoj domeni 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ponavljanje signala s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afd00"/>
                </a:solidFill>
                <a:latin typeface="Times New Roman"/>
              </a:rPr>
              <a:t>p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(aliasing u VD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5680" y="4751280"/>
            <a:ext cx="847080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relativna greška u FD i VD može biti ocijenjena energijom signala i spektra izvan izabranog trajanja signala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odnosno frekvencijskog pojasa 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, prema ukupnoj energij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DA7-8A28-436E-B0FF-2DBFE5009E4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menzionalnost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19280" y="2176560"/>
            <a:ext cx="3560760" cy="2979720"/>
            <a:chOff x="719280" y="2176560"/>
            <a:chExt cx="3560760" cy="2979720"/>
          </a:xfrm>
        </p:grpSpPr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719280" y="2176560"/>
                  <a:ext cx="3560760" cy="25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nary>
                            <m:naryPr>
                              <m:chr m:val="∫"/>
                            </m:naryPr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F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</m:nary>
                        </m:num>
                        <m:den>
                          <m:r>
                            <m:t xml:space="preserve">2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F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5" name=""/>
            <p:cNvSpPr/>
            <p:nvPr/>
          </p:nvSpPr>
          <p:spPr>
            <a:xfrm>
              <a:off x="910440" y="4637160"/>
              <a:ext cx="325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relativna greška u FD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5303880" y="2147760"/>
            <a:ext cx="3377160" cy="2995920"/>
            <a:chOff x="5303880" y="2147760"/>
            <a:chExt cx="3377160" cy="2995920"/>
          </a:xfrm>
        </p:grpSpPr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5303880" y="2147760"/>
                  <a:ext cx="3076560" cy="25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nary>
                            <m:naryPr>
                              <m:chr m:val="∫"/>
                            </m:naryPr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num>
                        <m:den>
                          <m:r>
                            <m:t xml:space="preserve">2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8" name=""/>
            <p:cNvSpPr/>
            <p:nvPr/>
          </p:nvSpPr>
          <p:spPr>
            <a:xfrm>
              <a:off x="5368680" y="4624560"/>
              <a:ext cx="3312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relativna greška u VD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614520" y="5450040"/>
            <a:ext cx="8264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greške se mogu ocijeniti poznavanjem brzine opadanja signala i spektra za 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&gt;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/ 2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 odnosno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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/ 2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CCB-F609-4884-94F5-F59C09CD5DD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menzionalnost signala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9000" y="1906560"/>
            <a:ext cx="8102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z specificiranu dozvoljenu grešku aliasinga u FD i V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obivamo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T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- trajanje i širinu pojasa signala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771840" y="3151080"/>
            <a:ext cx="7346520" cy="1025280"/>
            <a:chOff x="771840" y="3151080"/>
            <a:chExt cx="7346520" cy="1025280"/>
          </a:xfrm>
        </p:grpSpPr>
        <p:sp>
          <p:nvSpPr>
            <p:cNvPr id="753" name=""/>
            <p:cNvSpPr/>
            <p:nvPr/>
          </p:nvSpPr>
          <p:spPr>
            <a:xfrm>
              <a:off x="771840" y="3151080"/>
              <a:ext cx="21769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potreban broj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uzoraka u VD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3803760" y="3179520"/>
                  <a:ext cx="4314600" cy="99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5" name=""/>
          <p:cNvGrpSpPr/>
          <p:nvPr/>
        </p:nvGrpSpPr>
        <p:grpSpPr>
          <a:xfrm>
            <a:off x="733320" y="4268880"/>
            <a:ext cx="7599600" cy="1031760"/>
            <a:chOff x="733320" y="4268880"/>
            <a:chExt cx="7599600" cy="1031760"/>
          </a:xfrm>
        </p:grpSpPr>
        <p:sp>
          <p:nvSpPr>
            <p:cNvPr id="756" name=""/>
            <p:cNvSpPr/>
            <p:nvPr/>
          </p:nvSpPr>
          <p:spPr>
            <a:xfrm>
              <a:off x="733320" y="4268880"/>
              <a:ext cx="2118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potreban broj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uzoraka u FD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7" name=""/>
                <p:cNvSpPr txBox="1"/>
                <p:nvPr/>
              </p:nvSpPr>
              <p:spPr>
                <a:xfrm>
                  <a:off x="3656160" y="4282920"/>
                  <a:ext cx="467676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8" name=""/>
          <p:cNvGrpSpPr/>
          <p:nvPr/>
        </p:nvGrpSpPr>
        <p:grpSpPr>
          <a:xfrm>
            <a:off x="667800" y="5792760"/>
            <a:ext cx="6139440" cy="590400"/>
            <a:chOff x="667800" y="5792760"/>
            <a:chExt cx="6139440" cy="590400"/>
          </a:xfrm>
        </p:grpSpPr>
        <p:sp>
          <p:nvSpPr>
            <p:cNvPr id="759" name=""/>
            <p:cNvSpPr/>
            <p:nvPr/>
          </p:nvSpPr>
          <p:spPr>
            <a:xfrm>
              <a:off x="667800" y="5792760"/>
              <a:ext cx="2681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dimenzija signala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341960" y="5821200"/>
                  <a:ext cx="24652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375-2E97-4643-BD62-2B2ADA80BA9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824040" y="3067200"/>
            <a:ext cx="7467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1D6-F26A-40D4-A88D-0F5506BE25B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420920" y="171360"/>
            <a:ext cx="74674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2240" y="1335240"/>
            <a:ext cx="840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FT se koristi za numeričko određivanje spektra signala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6960" y="1792440"/>
            <a:ext cx="917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afd00"/>
                </a:solidFill>
                <a:latin typeface="Times New Roman"/>
              </a:rPr>
              <a:t>signal i njegov spektar treba predstaviti uzorcima odnosno otipkati </a:t>
            </a:r>
            <a:r>
              <a:rPr b="0" lang="hr-HR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hr-HR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afd00"/>
                </a:solidFill>
                <a:latin typeface="Times New Roman"/>
              </a:rPr>
              <a:t>otipkani signal i njegov otipkani spektar periodički će se produžit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720" y="2629080"/>
            <a:ext cx="884880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ije je dan par za Fourierovu transformaciju periodičnih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iskretnih signala (koji imaju diskretan i periodičan spektar)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1422360" y="4730760"/>
                <a:ext cx="57484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1281240" y="3645000"/>
                <a:ext cx="62974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8" name=""/>
          <p:cNvSpPr/>
          <p:nvPr/>
        </p:nvSpPr>
        <p:spPr>
          <a:xfrm>
            <a:off x="345960" y="5749920"/>
            <a:ext cx="884880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 on će biti korišten u numeričkom izračunavanju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uzoraka spektra sign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911-26B3-4745-854B-FD3FE91849A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dfca"/>
                </a:solidFill>
                <a:latin typeface="Times New Roman"/>
              </a:rPr>
              <a:t>Frekvencijska analiza diskretnih aperiodičnih signala</a:t>
            </a:r>
            <a:endParaRPr b="0" i="1" lang="en-US" sz="40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600" y="1809720"/>
            <a:ext cx="87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važno je primijetiti da j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 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j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ω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periodičan s periodom 2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44640" y="2543040"/>
                <a:ext cx="46670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)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792760" y="2549520"/>
                <a:ext cx="29304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25600" y="4610160"/>
            <a:ext cx="841680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vo je posljedica činjenice da je za diskretni signal frekvencijsko područje limitirano samo na interval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-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li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0, 2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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 da su sve frekvencije izvan tog intervala ekvivalentne frekvencijama unutar interv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533680" y="3532320"/>
                <a:ext cx="33782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196-9B3B-4037-9136-CFDB0F905D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840" y="1652760"/>
            <a:ext cx="8588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ije je pokazano da pri otipkavanju kontinuiranog spektra aperiodičkog kontinuiranog signala rezultira u periodizaciji vremenskog signala i u slučaju vremenski neomeđenog signala nastaje aliasing u vremenskoj domen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9560" y="365904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razmotrimo sada otipkavanje kontinuiranog spektra aperiodičkog diskretnog signa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3200" y="478944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pektar diskretnog aperiodičkog signala je kontinuiran (i periodičan s periodom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941560" y="5513400"/>
                <a:ext cx="37893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n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F6A-CC7B-47F0-92D4-5CCEEA63766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4800" y="165276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kako je spektar periodičan s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dovoljno je pri otipkavanju spektra uzeti samo uzorke iz osnovnog period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55480" y="282096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jednoliko raspodijeljenih uzoraka razmak između uzoraka će biti 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/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5480" y="3900600"/>
            <a:ext cx="858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tipkajmo sad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j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ω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na frekvencijam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ω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= 2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8480" y="4599000"/>
                <a:ext cx="75186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581040" y="574200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transformirajmo sumaciju u beskonačni zbroj sumacija  od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članov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617-77CB-4C0D-94FB-7F15F24EE25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5480" y="566568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mjenom indeks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u unutarnjoj sumaciji s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-lN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 i zamjenom redoslijeda sumacije sl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4120" y="1601640"/>
                <a:ext cx="803736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3110040" y="2770200"/>
                <a:ext cx="40654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521080" y="4141800"/>
                <a:ext cx="33620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CCD-8DA1-4A33-8D0F-5AA565AC50C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365040" y="4103640"/>
            <a:ext cx="8588520" cy="1077840"/>
            <a:chOff x="365040" y="4103640"/>
            <a:chExt cx="8588520" cy="1077840"/>
          </a:xfrm>
        </p:grpSpPr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2889360" y="4103640"/>
                  <a:ext cx="3057480" cy="107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365040" y="4421160"/>
              <a:ext cx="858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afd00"/>
                  </a:solidFill>
                  <a:latin typeface="Times New Roman"/>
                </a:rPr>
                <a:t>signal: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8760" y="1736640"/>
                <a:ext cx="84358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403200" y="5234040"/>
            <a:ext cx="85885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obiven je periodičnim ponavljanjem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 periodičan je s periodom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 </a:t>
            </a:r>
            <a:r>
              <a:rPr b="0" lang="hr-HR" sz="28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može biti prikazan uz pomoć Fourierovog red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1065240" y="2975040"/>
                <a:ext cx="70610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6FB-5855-4BFF-A97D-6FE0F4F6CD1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752480" y="1817640"/>
                <a:ext cx="57150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"/>
          <p:cNvSpPr/>
          <p:nvPr/>
        </p:nvSpPr>
        <p:spPr>
          <a:xfrm>
            <a:off x="365040" y="293544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a su kako je prije pokazano za Fourierove koeficijente  periodičnih diskretnih signala on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1192320" y="4013280"/>
                <a:ext cx="64515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555480" y="5259240"/>
            <a:ext cx="8588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ako su uspored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i="1" lang="hr-HR" sz="2800" spc="-1" strike="noStrike" baseline="-25000">
                <a:solidFill>
                  <a:srgbClr val="f8f8f8"/>
                </a:solidFill>
                <a:latin typeface="Times New Roman"/>
              </a:rPr>
              <a:t>k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j2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k</a:t>
            </a:r>
            <a:r>
              <a:rPr b="0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l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1552680" y="5827680"/>
                <a:ext cx="596088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982-8D9E-48D5-A73B-1318CFE45FE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5480" y="3875040"/>
            <a:ext cx="858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prije izvedeni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 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e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j2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k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  <a:ea typeface="Times New Roman"/>
              </a:rPr>
              <a:t>/</a:t>
            </a:r>
            <a:r>
              <a:rPr b="0" i="1" lang="hr-HR" sz="2800" spc="-1" strike="noStrike" baseline="30000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)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možemo pisati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887400" y="2643120"/>
                <a:ext cx="73962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k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555480" y="2135160"/>
            <a:ext cx="858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stoga j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368280" y="4421160"/>
                <a:ext cx="87105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1411200" y="5589720"/>
                <a:ext cx="67550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E9C-6E9A-4A33-BEF9-D22F74AFC03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5480" y="213516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otipkavanjem spektra aperiodičnog diskretnog signala može doći do pojave aliasianga u vremenskoj domen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5480" y="322740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 diskretne signal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duljin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pri čemu j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L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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i="1" lang="hr-HR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nema pojave aliasinga i vrijedi da j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2523960" y="4340160"/>
                <a:ext cx="4065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55480" y="5119560"/>
            <a:ext cx="858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z svega slijedi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665-EF4A-49F2-AA96-CF6A6E12CA1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2120" y="1881360"/>
            <a:ext cx="8588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za aperiodički diskretni signal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duljine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(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[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] = 0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za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hr-HR" sz="2800" spc="-1" strike="noStrike">
                <a:solidFill>
                  <a:srgbClr val="f8f8f8"/>
                </a:solidFill>
                <a:latin typeface="Times New Roman"/>
              </a:rPr>
              <a:t>&lt; 0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 i 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n </a:t>
            </a:r>
            <a:r>
              <a:rPr b="0" lang="hr-HR" sz="2800" spc="-1" strike="noStrike">
                <a:solidFill>
                  <a:srgbClr val="f8f8f8"/>
                </a:solidFill>
                <a:latin typeface="Symbol"/>
                <a:ea typeface="Symbol"/>
              </a:rPr>
              <a:t></a:t>
            </a:r>
            <a:r>
              <a:rPr b="0" i="1" lang="hr-HR" sz="2800" spc="-1" strike="noStrike">
                <a:solidFill>
                  <a:srgbClr val="f8f8f8"/>
                </a:solidFill>
                <a:latin typeface="Times New Roman"/>
              </a:rPr>
              <a:t> L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) vrijedi par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220760" y="3570120"/>
                <a:ext cx="657216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492120" y="2998800"/>
            <a:ext cx="858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iskretna Fourierova transformacija (DF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1266840" y="5526000"/>
                <a:ext cx="6357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492120" y="4802040"/>
            <a:ext cx="858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2.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nverzna diskretna Fourierova transformacija (IDF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F81-95D2-4C6D-BE94-6D56EF22FAB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50000">
              <a:srgbClr val="00005a"/>
            </a:gs>
            <a:gs pos="100000">
              <a:srgbClr val="000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iskretna Fourierova transformacija 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(</a:t>
            </a:r>
            <a:r>
              <a:rPr b="0" i="1" lang="hr-HR" sz="3200" spc="-1" strike="noStrike">
                <a:solidFill>
                  <a:srgbClr val="00dfca"/>
                </a:solidFill>
                <a:latin typeface="Times New Roman"/>
              </a:rPr>
              <a:t>DFT</a:t>
            </a:r>
            <a:r>
              <a:rPr b="0" lang="hr-HR" sz="3200" spc="-1" strike="noStrike">
                <a:solidFill>
                  <a:srgbClr val="00dfca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00dfc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1208160" y="2782800"/>
                <a:ext cx="65721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479520" y="2224080"/>
            <a:ext cx="858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DF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1254240" y="4738680"/>
                <a:ext cx="6357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479520" y="4027320"/>
            <a:ext cx="858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afd00"/>
                </a:solidFill>
                <a:latin typeface="Times New Roman"/>
              </a:rPr>
              <a:t>IDF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BAC-F8EA-4882-963B-A62F1A79917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Branko Jeren</dc:creator>
  <dc:description/>
  <dc:language>en-US</dc:language>
  <cp:lastModifiedBy>Tomislav Petkovic</cp:lastModifiedBy>
  <cp:lastPrinted>1997-01-23T10:40:04Z</cp:lastPrinted>
  <dcterms:modified xsi:type="dcterms:W3CDTF">2003-10-30T10:00:40Z</dcterms:modified>
  <cp:revision>281</cp:revision>
  <dc:subject>Digitalna obradba signala</dc:subject>
  <dc:title>Frekvencijska analiza vremenski diskretnih signala</dc:title>
</cp:coreProperties>
</file>