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marL="216000" indent="0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hr-HR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i="1" lang="hr-H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hr-HR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002960" y="777960"/>
            <a:ext cx="5094360" cy="382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i="1" lang="hr-H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hr-HR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i="1" lang="hr-H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A5A34AA2-14BD-4345-B6F9-AAAB5D34D790}" type="slidenum">
              <a:rPr b="0" i="1" lang="hr-H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003320" y="77796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pozadini je kodirani teks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igitalna obradba signala DOS Hrvoje Babić Branko J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003320" y="77796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gram filt.m (definira pocetne vrijednosti, filtar i otvara simulink (filt_s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0. PPT -prikaz sastava,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. ulaz diskretni sinus, izlaz diskretni sinus, f_signala=0.01, t_otipkavanja=0.1, t_trajanja=20 ..... (0=0Hz, 1=fs/2=p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2. ulaz pravokutni signal, f_pravokutni=0.628. A_signala=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3. Impulsni odziv, period=t_trajanja/4, width=t_otipkavanja, širina=1, start=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4. ulaz: razlièiti sinusi -&gt; f_signala=0.1, 0.2 (t_trajanja = 20), 0.3, 0.5, 0.7, 0.913 (t_trajanja=200, sinus kontinuirani), 1.087, 1.3, 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5. nastavak s ppt stranicama (A/f, faza/f, imp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003320" y="77796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gram filtdemo.m (signal toolbox), U matlab v4.3 ne koristiti fullscreen pod win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fsamp=2KHz, fpass=500Hz, fstop=600Hz, Rp=3dB, Rs=50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. ellipticki -&gt; 5.red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utter -&gt; 19.red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cheby 1/2 -&gt; 8.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2. chebb2 ... pp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3. kaiser -&gt; 59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4. kaiser ... ppt.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5. ppt slide usporedbe kaiser &lt;---&gt; chebby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357-367F-4085-AFCD-4C0CB156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C8F-CAEA-4723-927F-483595B6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243-D7F6-429F-B629-2DE20827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E8A-7761-44F2-A476-414988AE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2409-4143-4825-BCC4-989D2046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DF98-6F22-4E8E-848D-19DDA4F8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424A-F84B-49F1-AF18-F54A54FF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C26C-BBCF-435F-96E2-BE5AE1A6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9E6D-FAB5-4EF0-A9B4-41D83D5C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FB68-4025-489D-975C-09BAFAD4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9411-833B-47B5-BD0D-66158DB7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276-31BB-4D12-8BD2-AE71C513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4BC1-1F1D-4DD3-9A6F-F65BC2B6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0E75-099B-4BAF-A0EE-28EE4B47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FB92-3C44-4199-9371-BDC611FA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AC83-B22A-4901-8D79-2D3FE2E2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FF0A-ED5E-4414-A14A-31046DA6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9F9-53B6-490F-8B50-E7199989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F37-0CD0-4530-94A1-D82E8A07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1DD-B4C3-4704-8F5C-3BDAB2D3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9FFA-7D2B-4677-8AF6-DB89461E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42C-98A9-4EB2-8E3A-6CDEFF4A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145-C57A-49E0-8990-CA3FF8E8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580-1F10-4458-9C23-F40E0DD1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360" cy="1602000"/>
            <a:chOff x="203040" y="276120"/>
            <a:chExt cx="126036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69280" cy="1602000"/>
              <a:chOff x="203040" y="276120"/>
              <a:chExt cx="116928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1040" y="431640"/>
                <a:ext cx="951120" cy="1293840"/>
              </a:xfrm>
              <a:custGeom>
                <a:avLst/>
                <a:gdLst/>
                <a:ahLst/>
                <a:rect l="l" t="t" r="r" b="b"/>
                <a:pathLst>
                  <a:path w="649" h="815">
                    <a:moveTo>
                      <a:pt x="324" y="0"/>
                    </a:moveTo>
                    <a:lnTo>
                      <a:pt x="0" y="407"/>
                    </a:lnTo>
                    <a:lnTo>
                      <a:pt x="324" y="814"/>
                    </a:lnTo>
                    <a:lnTo>
                      <a:pt x="648" y="407"/>
                    </a:lnTo>
                    <a:lnTo>
                      <a:pt x="324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69280" cy="801720"/>
                <a:chOff x="203040" y="276120"/>
                <a:chExt cx="116928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62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400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99" y="504"/>
                      </a:lnTo>
                      <a:lnTo>
                        <a:pt x="319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4640" cy="801720"/>
                </a:xfrm>
                <a:custGeom>
                  <a:avLst/>
                  <a:gdLst/>
                  <a:ahLst/>
                  <a:rect l="l" t="t" r="r" b="b"/>
                  <a:pathLst>
                    <a:path w="399" h="505">
                      <a:moveTo>
                        <a:pt x="398" y="0"/>
                      </a:moveTo>
                      <a:lnTo>
                        <a:pt x="398" y="100"/>
                      </a:lnTo>
                      <a:lnTo>
                        <a:pt x="78" y="504"/>
                      </a:lnTo>
                      <a:lnTo>
                        <a:pt x="0" y="504"/>
                      </a:lnTo>
                      <a:lnTo>
                        <a:pt x="39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69280" cy="801720"/>
                <a:chOff x="203040" y="1076400"/>
                <a:chExt cx="116928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62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400" h="505">
                      <a:moveTo>
                        <a:pt x="319" y="0"/>
                      </a:moveTo>
                      <a:lnTo>
                        <a:pt x="399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319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4640" cy="801720"/>
                </a:xfrm>
                <a:custGeom>
                  <a:avLst/>
                  <a:gdLst/>
                  <a:ahLst/>
                  <a:rect l="l" t="t" r="r" b="b"/>
                  <a:pathLst>
                    <a:path w="399" h="505">
                      <a:moveTo>
                        <a:pt x="78" y="0"/>
                      </a:moveTo>
                      <a:lnTo>
                        <a:pt x="398" y="404"/>
                      </a:lnTo>
                      <a:lnTo>
                        <a:pt x="398" y="504"/>
                      </a:lnTo>
                      <a:lnTo>
                        <a:pt x="0" y="0"/>
                      </a:lnTo>
                      <a:lnTo>
                        <a:pt x="78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29280" y="334800"/>
              <a:ext cx="834120" cy="762120"/>
              <a:chOff x="629280" y="334800"/>
              <a:chExt cx="83412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29280" y="334800"/>
                <a:ext cx="834120" cy="762120"/>
              </a:xfrm>
              <a:custGeom>
                <a:avLst/>
                <a:gdLst/>
                <a:ahLst/>
                <a:rect l="l" t="t" r="r" b="b"/>
                <a:pathLst>
                  <a:path w="569" h="480">
                    <a:moveTo>
                      <a:pt x="243" y="217"/>
                    </a:moveTo>
                    <a:lnTo>
                      <a:pt x="144" y="0"/>
                    </a:lnTo>
                    <a:lnTo>
                      <a:pt x="285" y="193"/>
                    </a:lnTo>
                    <a:lnTo>
                      <a:pt x="426" y="0"/>
                    </a:lnTo>
                    <a:lnTo>
                      <a:pt x="324" y="217"/>
                    </a:lnTo>
                    <a:lnTo>
                      <a:pt x="568" y="240"/>
                    </a:lnTo>
                    <a:lnTo>
                      <a:pt x="323" y="262"/>
                    </a:lnTo>
                    <a:lnTo>
                      <a:pt x="426" y="479"/>
                    </a:lnTo>
                    <a:lnTo>
                      <a:pt x="285" y="286"/>
                    </a:lnTo>
                    <a:lnTo>
                      <a:pt x="144" y="479"/>
                    </a:lnTo>
                    <a:lnTo>
                      <a:pt x="242" y="263"/>
                    </a:lnTo>
                    <a:lnTo>
                      <a:pt x="0" y="240"/>
                    </a:lnTo>
                    <a:lnTo>
                      <a:pt x="243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3400" y="438120"/>
                <a:ext cx="606960" cy="555480"/>
              </a:xfrm>
              <a:custGeom>
                <a:avLst/>
                <a:gdLst/>
                <a:ahLst/>
                <a:rect l="l" t="t" r="r" b="b"/>
                <a:pathLst>
                  <a:path w="414" h="350">
                    <a:moveTo>
                      <a:pt x="165" y="153"/>
                    </a:moveTo>
                    <a:lnTo>
                      <a:pt x="102" y="0"/>
                    </a:lnTo>
                    <a:lnTo>
                      <a:pt x="207" y="128"/>
                    </a:lnTo>
                    <a:lnTo>
                      <a:pt x="307" y="0"/>
                    </a:lnTo>
                    <a:lnTo>
                      <a:pt x="246" y="153"/>
                    </a:lnTo>
                    <a:lnTo>
                      <a:pt x="413" y="175"/>
                    </a:lnTo>
                    <a:lnTo>
                      <a:pt x="244" y="196"/>
                    </a:lnTo>
                    <a:lnTo>
                      <a:pt x="307" y="349"/>
                    </a:lnTo>
                    <a:lnTo>
                      <a:pt x="207" y="221"/>
                    </a:lnTo>
                    <a:lnTo>
                      <a:pt x="102" y="349"/>
                    </a:lnTo>
                    <a:lnTo>
                      <a:pt x="164" y="198"/>
                    </a:lnTo>
                    <a:lnTo>
                      <a:pt x="0" y="175"/>
                    </a:lnTo>
                    <a:lnTo>
                      <a:pt x="165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040" y="452520"/>
                <a:ext cx="428040" cy="527040"/>
              </a:xfrm>
              <a:custGeom>
                <a:avLst/>
                <a:gdLst/>
                <a:ahLst/>
                <a:rect l="l" t="t" r="r" b="b"/>
                <a:pathLst>
                  <a:path w="292" h="332">
                    <a:moveTo>
                      <a:pt x="0" y="84"/>
                    </a:moveTo>
                    <a:lnTo>
                      <a:pt x="131" y="143"/>
                    </a:lnTo>
                    <a:lnTo>
                      <a:pt x="146" y="0"/>
                    </a:lnTo>
                    <a:lnTo>
                      <a:pt x="159" y="143"/>
                    </a:lnTo>
                    <a:lnTo>
                      <a:pt x="289" y="82"/>
                    </a:lnTo>
                    <a:lnTo>
                      <a:pt x="172" y="166"/>
                    </a:lnTo>
                    <a:lnTo>
                      <a:pt x="291" y="249"/>
                    </a:lnTo>
                    <a:lnTo>
                      <a:pt x="159" y="189"/>
                    </a:lnTo>
                    <a:lnTo>
                      <a:pt x="146" y="331"/>
                    </a:lnTo>
                    <a:lnTo>
                      <a:pt x="131" y="189"/>
                    </a:lnTo>
                    <a:lnTo>
                      <a:pt x="0" y="249"/>
                    </a:lnTo>
                    <a:lnTo>
                      <a:pt x="118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2880" y="647640"/>
                <a:ext cx="108360" cy="135000"/>
              </a:xfrm>
              <a:custGeom>
                <a:avLst/>
                <a:gdLst/>
                <a:ahLst/>
                <a:rect l="l" t="t" r="r" b="b"/>
                <a:pathLst>
                  <a:path w="74" h="85">
                    <a:moveTo>
                      <a:pt x="0" y="20"/>
                    </a:moveTo>
                    <a:lnTo>
                      <a:pt x="30" y="30"/>
                    </a:lnTo>
                    <a:lnTo>
                      <a:pt x="36" y="0"/>
                    </a:lnTo>
                    <a:lnTo>
                      <a:pt x="42" y="30"/>
                    </a:lnTo>
                    <a:lnTo>
                      <a:pt x="73" y="20"/>
                    </a:lnTo>
                    <a:lnTo>
                      <a:pt x="49" y="42"/>
                    </a:lnTo>
                    <a:lnTo>
                      <a:pt x="73" y="62"/>
                    </a:lnTo>
                    <a:lnTo>
                      <a:pt x="42" y="52"/>
                    </a:lnTo>
                    <a:lnTo>
                      <a:pt x="36" y="84"/>
                    </a:lnTo>
                    <a:lnTo>
                      <a:pt x="30" y="52"/>
                    </a:lnTo>
                    <a:lnTo>
                      <a:pt x="0" y="62"/>
                    </a:lnTo>
                    <a:lnTo>
                      <a:pt x="23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186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6829-5985-4D1B-8A49-A922D1CEFA19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400" cy="2182680"/>
            <a:chOff x="152280" y="2286000"/>
            <a:chExt cx="146340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8640" cy="2182680"/>
              <a:chOff x="152280" y="2286000"/>
              <a:chExt cx="144864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656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804" h="1110">
                    <a:moveTo>
                      <a:pt x="401" y="0"/>
                    </a:moveTo>
                    <a:lnTo>
                      <a:pt x="0" y="554"/>
                    </a:lnTo>
                    <a:lnTo>
                      <a:pt x="401" y="1109"/>
                    </a:lnTo>
                    <a:lnTo>
                      <a:pt x="803" y="554"/>
                    </a:lnTo>
                    <a:lnTo>
                      <a:pt x="401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8640" cy="1092240"/>
                <a:chOff x="152280" y="2286000"/>
                <a:chExt cx="144864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5880" y="2286000"/>
                  <a:ext cx="725040" cy="1092240"/>
                </a:xfrm>
                <a:custGeom>
                  <a:avLst/>
                  <a:gdLst/>
                  <a:ahLst/>
                  <a:rect l="l" t="t" r="r" b="b"/>
                  <a:pathLst>
                    <a:path w="495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94" y="687"/>
                      </a:lnTo>
                      <a:lnTo>
                        <a:pt x="396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4680" cy="1092240"/>
                </a:xfrm>
                <a:custGeom>
                  <a:avLst/>
                  <a:gdLst/>
                  <a:ahLst/>
                  <a:rect l="l" t="t" r="r" b="b"/>
                  <a:pathLst>
                    <a:path w="495" h="688">
                      <a:moveTo>
                        <a:pt x="494" y="0"/>
                      </a:moveTo>
                      <a:lnTo>
                        <a:pt x="494" y="136"/>
                      </a:lnTo>
                      <a:lnTo>
                        <a:pt x="97" y="687"/>
                      </a:lnTo>
                      <a:lnTo>
                        <a:pt x="0" y="687"/>
                      </a:lnTo>
                      <a:lnTo>
                        <a:pt x="494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8640" cy="1092240"/>
                <a:chOff x="152280" y="3376440"/>
                <a:chExt cx="144864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5880" y="3376440"/>
                  <a:ext cx="725040" cy="1092240"/>
                </a:xfrm>
                <a:custGeom>
                  <a:avLst/>
                  <a:gdLst/>
                  <a:ahLst/>
                  <a:rect l="l" t="t" r="r" b="b"/>
                  <a:pathLst>
                    <a:path w="495" h="688">
                      <a:moveTo>
                        <a:pt x="396" y="0"/>
                      </a:moveTo>
                      <a:lnTo>
                        <a:pt x="494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96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4680" cy="1092240"/>
                </a:xfrm>
                <a:custGeom>
                  <a:avLst/>
                  <a:gdLst/>
                  <a:ahLst/>
                  <a:rect l="l" t="t" r="r" b="b"/>
                  <a:pathLst>
                    <a:path w="495" h="688">
                      <a:moveTo>
                        <a:pt x="97" y="0"/>
                      </a:moveTo>
                      <a:lnTo>
                        <a:pt x="494" y="550"/>
                      </a:lnTo>
                      <a:lnTo>
                        <a:pt x="494" y="687"/>
                      </a:lnTo>
                      <a:lnTo>
                        <a:pt x="0" y="0"/>
                      </a:lnTo>
                      <a:lnTo>
                        <a:pt x="97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280" y="2468520"/>
              <a:ext cx="833400" cy="762120"/>
              <a:chOff x="78228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28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69" h="480">
                    <a:moveTo>
                      <a:pt x="243" y="217"/>
                    </a:moveTo>
                    <a:lnTo>
                      <a:pt x="144" y="0"/>
                    </a:lnTo>
                    <a:lnTo>
                      <a:pt x="285" y="193"/>
                    </a:lnTo>
                    <a:lnTo>
                      <a:pt x="426" y="0"/>
                    </a:lnTo>
                    <a:lnTo>
                      <a:pt x="324" y="217"/>
                    </a:lnTo>
                    <a:lnTo>
                      <a:pt x="568" y="240"/>
                    </a:lnTo>
                    <a:lnTo>
                      <a:pt x="323" y="262"/>
                    </a:lnTo>
                    <a:lnTo>
                      <a:pt x="426" y="479"/>
                    </a:lnTo>
                    <a:lnTo>
                      <a:pt x="285" y="286"/>
                    </a:lnTo>
                    <a:lnTo>
                      <a:pt x="144" y="479"/>
                    </a:lnTo>
                    <a:lnTo>
                      <a:pt x="242" y="263"/>
                    </a:lnTo>
                    <a:lnTo>
                      <a:pt x="0" y="240"/>
                    </a:lnTo>
                    <a:lnTo>
                      <a:pt x="243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400" y="2571840"/>
                <a:ext cx="605880" cy="555480"/>
              </a:xfrm>
              <a:custGeom>
                <a:avLst/>
                <a:gdLst/>
                <a:ahLst/>
                <a:rect l="l" t="t" r="r" b="b"/>
                <a:pathLst>
                  <a:path w="414" h="350">
                    <a:moveTo>
                      <a:pt x="165" y="153"/>
                    </a:moveTo>
                    <a:lnTo>
                      <a:pt x="102" y="0"/>
                    </a:lnTo>
                    <a:lnTo>
                      <a:pt x="207" y="128"/>
                    </a:lnTo>
                    <a:lnTo>
                      <a:pt x="307" y="0"/>
                    </a:lnTo>
                    <a:lnTo>
                      <a:pt x="246" y="153"/>
                    </a:lnTo>
                    <a:lnTo>
                      <a:pt x="413" y="175"/>
                    </a:lnTo>
                    <a:lnTo>
                      <a:pt x="244" y="196"/>
                    </a:lnTo>
                    <a:lnTo>
                      <a:pt x="307" y="349"/>
                    </a:lnTo>
                    <a:lnTo>
                      <a:pt x="207" y="221"/>
                    </a:lnTo>
                    <a:lnTo>
                      <a:pt x="102" y="349"/>
                    </a:lnTo>
                    <a:lnTo>
                      <a:pt x="164" y="198"/>
                    </a:lnTo>
                    <a:lnTo>
                      <a:pt x="0" y="175"/>
                    </a:lnTo>
                    <a:lnTo>
                      <a:pt x="165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7320" cy="527040"/>
              </a:xfrm>
              <a:custGeom>
                <a:avLst/>
                <a:gdLst/>
                <a:ahLst/>
                <a:rect l="l" t="t" r="r" b="b"/>
                <a:pathLst>
                  <a:path w="292" h="332">
                    <a:moveTo>
                      <a:pt x="0" y="84"/>
                    </a:moveTo>
                    <a:lnTo>
                      <a:pt x="131" y="143"/>
                    </a:lnTo>
                    <a:lnTo>
                      <a:pt x="146" y="0"/>
                    </a:lnTo>
                    <a:lnTo>
                      <a:pt x="159" y="143"/>
                    </a:lnTo>
                    <a:lnTo>
                      <a:pt x="289" y="82"/>
                    </a:lnTo>
                    <a:lnTo>
                      <a:pt x="172" y="166"/>
                    </a:lnTo>
                    <a:lnTo>
                      <a:pt x="291" y="249"/>
                    </a:lnTo>
                    <a:lnTo>
                      <a:pt x="159" y="189"/>
                    </a:lnTo>
                    <a:lnTo>
                      <a:pt x="146" y="331"/>
                    </a:lnTo>
                    <a:lnTo>
                      <a:pt x="131" y="189"/>
                    </a:lnTo>
                    <a:lnTo>
                      <a:pt x="0" y="249"/>
                    </a:lnTo>
                    <a:lnTo>
                      <a:pt x="118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5160" y="2781360"/>
                <a:ext cx="108360" cy="135000"/>
              </a:xfrm>
              <a:custGeom>
                <a:avLst/>
                <a:gdLst/>
                <a:ahLst/>
                <a:rect l="l" t="t" r="r" b="b"/>
                <a:pathLst>
                  <a:path w="74" h="85">
                    <a:moveTo>
                      <a:pt x="0" y="20"/>
                    </a:moveTo>
                    <a:lnTo>
                      <a:pt x="30" y="30"/>
                    </a:lnTo>
                    <a:lnTo>
                      <a:pt x="36" y="0"/>
                    </a:lnTo>
                    <a:lnTo>
                      <a:pt x="42" y="30"/>
                    </a:lnTo>
                    <a:lnTo>
                      <a:pt x="73" y="20"/>
                    </a:lnTo>
                    <a:lnTo>
                      <a:pt x="49" y="42"/>
                    </a:lnTo>
                    <a:lnTo>
                      <a:pt x="73" y="62"/>
                    </a:lnTo>
                    <a:lnTo>
                      <a:pt x="42" y="52"/>
                    </a:lnTo>
                    <a:lnTo>
                      <a:pt x="36" y="84"/>
                    </a:lnTo>
                    <a:lnTo>
                      <a:pt x="30" y="52"/>
                    </a:lnTo>
                    <a:lnTo>
                      <a:pt x="0" y="62"/>
                    </a:lnTo>
                    <a:lnTo>
                      <a:pt x="23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525A-89C7-4204-847F-7CB6212DA8B0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308240" y="0"/>
            <a:ext cx="6527520" cy="6677640"/>
            <a:chOff x="1308240" y="0"/>
            <a:chExt cx="6527520" cy="6677640"/>
          </a:xfrm>
        </p:grpSpPr>
        <p:sp>
          <p:nvSpPr>
            <p:cNvPr id="118" name=""/>
            <p:cNvSpPr/>
            <p:nvPr/>
          </p:nvSpPr>
          <p:spPr>
            <a:xfrm>
              <a:off x="1308240" y="0"/>
              <a:ext cx="1295280" cy="66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1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100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1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11100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32240" y="0"/>
              <a:ext cx="1295640" cy="66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11100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1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0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0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40480" y="0"/>
              <a:ext cx="1295280" cy="66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1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100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1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0" y="0"/>
            <a:ext cx="9144000" cy="6677640"/>
            <a:chOff x="0" y="0"/>
            <a:chExt cx="9144000" cy="6677640"/>
          </a:xfrm>
        </p:grpSpPr>
        <p:sp>
          <p:nvSpPr>
            <p:cNvPr id="122" name=""/>
            <p:cNvSpPr/>
            <p:nvPr/>
          </p:nvSpPr>
          <p:spPr>
            <a:xfrm>
              <a:off x="0" y="0"/>
              <a:ext cx="1295280" cy="66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0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16120" y="0"/>
              <a:ext cx="1295640" cy="66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1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0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0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24360" y="0"/>
              <a:ext cx="1295280" cy="66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1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100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1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48720" y="0"/>
              <a:ext cx="1295280" cy="66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11100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0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001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100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01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11011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Courier New"/>
                </a:rPr>
                <a:t>000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2560" cy="18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6600" spc="-1" strike="noStrike">
                <a:solidFill>
                  <a:srgbClr val="0033cc"/>
                </a:solidFill>
                <a:latin typeface="Times New Roman"/>
              </a:rPr>
              <a:t>Digitalna obradba signala</a:t>
            </a:r>
            <a:br>
              <a:rPr sz="6000"/>
            </a:br>
            <a:r>
              <a:rPr b="1" lang="hr-HR" sz="6000" spc="-1" strike="noStrike">
                <a:solidFill>
                  <a:srgbClr val="800000"/>
                </a:solidFill>
                <a:latin typeface="Times New Roman"/>
              </a:rPr>
              <a:t>DOS</a:t>
            </a:r>
            <a:endParaRPr b="0" i="1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Hrvoje Babi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Branko Jer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Ograničenja DOS</a:t>
            </a: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DSP</a:t>
            </a: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)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72404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graničeno frekvencijsko područ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ehnološki ograničeno na vrijednosti koje odgovaraju vrijednosti određenoj maksimalnim numeričkim mogućnostima rada u stvarnom vremenu procesor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odatna kompleksnost u obradbi analognih sign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D and D/A </a:t>
            </a:r>
            <a:r>
              <a:rPr b="0" sz="2800" spc="-1" strike="noStrike">
                <a:solidFill>
                  <a:srgbClr val="ffffff"/>
                </a:solidFill>
                <a:latin typeface="Times New Roman"/>
              </a:rPr>
              <a:t>pretvornici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ovećavaju kompleksnost ukupnog sustava za obradb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2133360"/>
            <a:ext cx="64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Uvod u digitalne filtr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04960" y="5240160"/>
                <a:ext cx="5711760" cy="11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295280" y="304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Primjer diskretnog sustava drugog re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100880" y="1552680"/>
            <a:ext cx="7303320" cy="3605400"/>
            <a:chOff x="1100880" y="1552680"/>
            <a:chExt cx="7303320" cy="3605400"/>
          </a:xfrm>
        </p:grpSpPr>
        <p:sp>
          <p:nvSpPr>
            <p:cNvPr id="176" name=""/>
            <p:cNvSpPr/>
            <p:nvPr/>
          </p:nvSpPr>
          <p:spPr>
            <a:xfrm>
              <a:off x="2539080" y="155268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cc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55280" y="16858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cc"/>
                  </a:solidFill>
                  <a:latin typeface="Arial"/>
                  <a:ea typeface="Arial"/>
                </a:rPr>
                <a:t>–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04960" y="1635120"/>
              <a:ext cx="376560" cy="4874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72840" y="2093760"/>
              <a:ext cx="65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00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63920" y="3095640"/>
              <a:ext cx="397080" cy="411120"/>
            </a:xfrm>
            <a:custGeom>
              <a:avLst/>
              <a:gdLst/>
              <a:ahLst/>
              <a:rect l="l" t="t" r="r" b="b"/>
              <a:pathLst>
                <a:path w="193" h="185">
                  <a:moveTo>
                    <a:pt x="0" y="92"/>
                  </a:moveTo>
                  <a:lnTo>
                    <a:pt x="192" y="0"/>
                  </a:lnTo>
                  <a:lnTo>
                    <a:pt x="192" y="184"/>
                  </a:lnTo>
                  <a:lnTo>
                    <a:pt x="0" y="9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23320" y="3152880"/>
              <a:ext cx="387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cc"/>
                  </a:solidFill>
                  <a:latin typeface="Arial"/>
                </a:rPr>
                <a:t>-K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68960" y="34894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76480" y="3095640"/>
              <a:ext cx="397080" cy="411120"/>
            </a:xfrm>
            <a:custGeom>
              <a:avLst/>
              <a:gdLst/>
              <a:ahLst/>
              <a:rect l="l" t="t" r="r" b="b"/>
              <a:pathLst>
                <a:path w="194" h="185">
                  <a:moveTo>
                    <a:pt x="0" y="0"/>
                  </a:moveTo>
                  <a:lnTo>
                    <a:pt x="193" y="92"/>
                  </a:lnTo>
                  <a:lnTo>
                    <a:pt x="193" y="92"/>
                  </a:lnTo>
                  <a:lnTo>
                    <a:pt x="0" y="184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92600" y="3147840"/>
              <a:ext cx="387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cc"/>
                  </a:solidFill>
                  <a:latin typeface="Arial"/>
                </a:rPr>
                <a:t>-K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09600" y="340992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b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4160" y="3763800"/>
              <a:ext cx="45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cc"/>
                  </a:solidFill>
                  <a:latin typeface="Arial"/>
                </a:rPr>
                <a:t>1/z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20800" y="3782880"/>
              <a:ext cx="775080" cy="2970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76480" y="4435560"/>
              <a:ext cx="397080" cy="414360"/>
            </a:xfrm>
            <a:custGeom>
              <a:avLst/>
              <a:gdLst/>
              <a:ahLst/>
              <a:rect l="l" t="t" r="r" b="b"/>
              <a:pathLst>
                <a:path w="194" h="186">
                  <a:moveTo>
                    <a:pt x="0" y="0"/>
                  </a:moveTo>
                  <a:lnTo>
                    <a:pt x="193" y="93"/>
                  </a:lnTo>
                  <a:lnTo>
                    <a:pt x="193" y="93"/>
                  </a:lnTo>
                  <a:lnTo>
                    <a:pt x="0" y="18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01240" y="4486320"/>
              <a:ext cx="387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cc"/>
                  </a:solidFill>
                  <a:latin typeface="Arial"/>
                </a:rPr>
                <a:t>-K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72880" y="47912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76480" y="1673280"/>
              <a:ext cx="397080" cy="412560"/>
            </a:xfrm>
            <a:custGeom>
              <a:avLst/>
              <a:gdLst/>
              <a:ahLst/>
              <a:rect l="l" t="t" r="r" b="b"/>
              <a:pathLst>
                <a:path w="194" h="186">
                  <a:moveTo>
                    <a:pt x="0" y="0"/>
                  </a:moveTo>
                  <a:lnTo>
                    <a:pt x="193" y="93"/>
                  </a:lnTo>
                  <a:lnTo>
                    <a:pt x="193" y="93"/>
                  </a:lnTo>
                  <a:lnTo>
                    <a:pt x="0" y="18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08800" y="1724040"/>
              <a:ext cx="387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cc"/>
                  </a:solidFill>
                  <a:latin typeface="Arial"/>
                </a:rPr>
                <a:t>-K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11320" y="202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b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43120" y="1690560"/>
              <a:ext cx="317880" cy="379440"/>
            </a:xfrm>
            <a:custGeom>
              <a:avLst/>
              <a:gdLst/>
              <a:ahLst/>
              <a:rect l="l" t="t" r="r" b="b"/>
              <a:pathLst>
                <a:path w="155" h="171">
                  <a:moveTo>
                    <a:pt x="0" y="0"/>
                  </a:moveTo>
                  <a:lnTo>
                    <a:pt x="154" y="85"/>
                  </a:lnTo>
                  <a:lnTo>
                    <a:pt x="154" y="85"/>
                  </a:lnTo>
                  <a:lnTo>
                    <a:pt x="0" y="17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56000" y="1727280"/>
              <a:ext cx="387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cc"/>
                  </a:solidFill>
                  <a:latin typeface="Arial"/>
                </a:rPr>
                <a:t>-K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82560" y="2039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/a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4160" y="2425680"/>
              <a:ext cx="45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cc"/>
                  </a:solidFill>
                  <a:latin typeface="Arial"/>
                </a:rPr>
                <a:t>1/z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20800" y="2440080"/>
              <a:ext cx="775080" cy="2984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63920" y="4435560"/>
              <a:ext cx="397080" cy="414360"/>
            </a:xfrm>
            <a:custGeom>
              <a:avLst/>
              <a:gdLst/>
              <a:ahLst/>
              <a:rect l="l" t="t" r="r" b="b"/>
              <a:pathLst>
                <a:path w="193" h="186">
                  <a:moveTo>
                    <a:pt x="0" y="93"/>
                  </a:moveTo>
                  <a:lnTo>
                    <a:pt x="192" y="0"/>
                  </a:lnTo>
                  <a:lnTo>
                    <a:pt x="192" y="185"/>
                  </a:lnTo>
                  <a:lnTo>
                    <a:pt x="0" y="93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33760" y="4492800"/>
              <a:ext cx="387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cc"/>
                  </a:solidFill>
                  <a:latin typeface="Arial"/>
                </a:rPr>
                <a:t>-K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7440" y="47912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52680" y="168768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cc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57360" y="185436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cc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55560" y="203184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cc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27560" y="1762200"/>
              <a:ext cx="379440" cy="550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94000" y="2306520"/>
              <a:ext cx="65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00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49720" y="2104920"/>
              <a:ext cx="65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Izla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00880" y="1828800"/>
              <a:ext cx="64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Ula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28240" y="3616200"/>
              <a:ext cx="160920" cy="15876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0" y="0"/>
                  </a:moveTo>
                  <a:lnTo>
                    <a:pt x="78" y="0"/>
                  </a:lnTo>
                  <a:lnTo>
                    <a:pt x="39" y="7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7440" y="2746440"/>
              <a:ext cx="2880" cy="871560"/>
            </a:xfrm>
            <a:custGeom>
              <a:avLst/>
              <a:gdLst/>
              <a:ahLst/>
              <a:rect l="l" t="t" r="r" b="b"/>
              <a:pathLst>
                <a:path w="1" h="392">
                  <a:moveTo>
                    <a:pt x="0" y="0"/>
                  </a:moveTo>
                  <a:lnTo>
                    <a:pt x="0" y="36"/>
                  </a:lnTo>
                  <a:lnTo>
                    <a:pt x="0" y="356"/>
                  </a:lnTo>
                  <a:lnTo>
                    <a:pt x="0" y="39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58120" y="3222720"/>
              <a:ext cx="159480" cy="16020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77" y="0"/>
                  </a:moveTo>
                  <a:lnTo>
                    <a:pt x="77" y="71"/>
                  </a:lnTo>
                  <a:lnTo>
                    <a:pt x="0" y="35"/>
                  </a:lnTo>
                  <a:lnTo>
                    <a:pt x="77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91600" y="3284640"/>
              <a:ext cx="39240" cy="381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16160" y="3300480"/>
              <a:ext cx="794160" cy="1440"/>
            </a:xfrm>
            <a:custGeom>
              <a:avLst/>
              <a:gdLst/>
              <a:ahLst/>
              <a:rect l="l" t="t" r="r" b="b"/>
              <a:pathLst>
                <a:path w="387" h="1">
                  <a:moveTo>
                    <a:pt x="386" y="0"/>
                  </a:move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18440" y="3222720"/>
              <a:ext cx="159840" cy="16020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0" y="0"/>
                  </a:moveTo>
                  <a:lnTo>
                    <a:pt x="0" y="71"/>
                  </a:lnTo>
                  <a:lnTo>
                    <a:pt x="77" y="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91600" y="3284640"/>
              <a:ext cx="39240" cy="381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07440" y="3300480"/>
              <a:ext cx="712080" cy="1440"/>
            </a:xfrm>
            <a:custGeom>
              <a:avLst/>
              <a:gdLst/>
              <a:ahLst/>
              <a:rect l="l" t="t" r="r" b="b"/>
              <a:pathLst>
                <a:path w="347" h="1">
                  <a:moveTo>
                    <a:pt x="0" y="0"/>
                  </a:moveTo>
                  <a:lnTo>
                    <a:pt x="307" y="0"/>
                  </a:lnTo>
                  <a:lnTo>
                    <a:pt x="34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58120" y="4562640"/>
              <a:ext cx="159480" cy="16020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77" y="0"/>
                  </a:moveTo>
                  <a:lnTo>
                    <a:pt x="77" y="71"/>
                  </a:lnTo>
                  <a:lnTo>
                    <a:pt x="0" y="36"/>
                  </a:lnTo>
                  <a:lnTo>
                    <a:pt x="77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16160" y="4089240"/>
              <a:ext cx="794160" cy="555840"/>
            </a:xfrm>
            <a:custGeom>
              <a:avLst/>
              <a:gdLst/>
              <a:ahLst/>
              <a:rect l="l" t="t" r="r" b="b"/>
              <a:pathLst>
                <a:path w="387" h="250">
                  <a:moveTo>
                    <a:pt x="386" y="0"/>
                  </a:moveTo>
                  <a:lnTo>
                    <a:pt x="386" y="36"/>
                  </a:lnTo>
                  <a:lnTo>
                    <a:pt x="386" y="249"/>
                  </a:lnTo>
                  <a:lnTo>
                    <a:pt x="39" y="249"/>
                  </a:lnTo>
                  <a:lnTo>
                    <a:pt x="0" y="24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18440" y="4562640"/>
              <a:ext cx="159840" cy="16020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0" y="0"/>
                  </a:moveTo>
                  <a:lnTo>
                    <a:pt x="0" y="71"/>
                  </a:lnTo>
                  <a:lnTo>
                    <a:pt x="77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91600" y="4627440"/>
              <a:ext cx="39240" cy="381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7440" y="4643280"/>
              <a:ext cx="712080" cy="1800"/>
            </a:xfrm>
            <a:custGeom>
              <a:avLst/>
              <a:gdLst/>
              <a:ahLst/>
              <a:rect l="l" t="t" r="r" b="b"/>
              <a:pathLst>
                <a:path w="347" h="1">
                  <a:moveTo>
                    <a:pt x="0" y="0"/>
                  </a:moveTo>
                  <a:lnTo>
                    <a:pt x="307" y="0"/>
                  </a:lnTo>
                  <a:lnTo>
                    <a:pt x="34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36480" y="1800360"/>
              <a:ext cx="160920" cy="15876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0" y="0"/>
                  </a:moveTo>
                  <a:lnTo>
                    <a:pt x="0" y="71"/>
                  </a:lnTo>
                  <a:lnTo>
                    <a:pt x="78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20040" y="1879560"/>
              <a:ext cx="1346400" cy="2765520"/>
            </a:xfrm>
            <a:custGeom>
              <a:avLst/>
              <a:gdLst/>
              <a:ahLst/>
              <a:rect l="l" t="t" r="r" b="b"/>
              <a:pathLst>
                <a:path w="656" h="1244">
                  <a:moveTo>
                    <a:pt x="655" y="1243"/>
                  </a:moveTo>
                  <a:lnTo>
                    <a:pt x="616" y="1243"/>
                  </a:lnTo>
                  <a:lnTo>
                    <a:pt x="0" y="1243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53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84720" y="1800360"/>
              <a:ext cx="159840" cy="15876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0" y="0"/>
                  </a:moveTo>
                  <a:lnTo>
                    <a:pt x="0" y="71"/>
                  </a:lnTo>
                  <a:lnTo>
                    <a:pt x="77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90520" y="1879560"/>
              <a:ext cx="395640" cy="1800"/>
            </a:xfrm>
            <a:custGeom>
              <a:avLst/>
              <a:gdLst/>
              <a:ahLst/>
              <a:rect l="l" t="t" r="r" b="b"/>
              <a:pathLst>
                <a:path w="193" h="1">
                  <a:moveTo>
                    <a:pt x="0" y="0"/>
                  </a:moveTo>
                  <a:lnTo>
                    <a:pt x="38" y="0"/>
                  </a:lnTo>
                  <a:lnTo>
                    <a:pt x="154" y="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18440" y="1800360"/>
              <a:ext cx="159840" cy="15876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0" y="0"/>
                  </a:moveTo>
                  <a:lnTo>
                    <a:pt x="0" y="71"/>
                  </a:lnTo>
                  <a:lnTo>
                    <a:pt x="77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58120" y="1879560"/>
              <a:ext cx="1661400" cy="1800"/>
            </a:xfrm>
            <a:custGeom>
              <a:avLst/>
              <a:gdLst/>
              <a:ahLst/>
              <a:rect l="l" t="t" r="r" b="b"/>
              <a:pathLst>
                <a:path w="810" h="1">
                  <a:moveTo>
                    <a:pt x="0" y="0"/>
                  </a:moveTo>
                  <a:lnTo>
                    <a:pt x="38" y="0"/>
                  </a:lnTo>
                  <a:lnTo>
                    <a:pt x="770" y="0"/>
                  </a:lnTo>
                  <a:lnTo>
                    <a:pt x="809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62320" y="1957320"/>
              <a:ext cx="159480" cy="16056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0" y="0"/>
                  </a:moveTo>
                  <a:lnTo>
                    <a:pt x="0" y="71"/>
                  </a:lnTo>
                  <a:lnTo>
                    <a:pt x="77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4080" y="2036880"/>
              <a:ext cx="876240" cy="1265040"/>
            </a:xfrm>
            <a:custGeom>
              <a:avLst/>
              <a:gdLst/>
              <a:ahLst/>
              <a:rect l="l" t="t" r="r" b="b"/>
              <a:pathLst>
                <a:path w="401" h="569">
                  <a:moveTo>
                    <a:pt x="0" y="568"/>
                  </a:moveTo>
                  <a:lnTo>
                    <a:pt x="39" y="568"/>
                  </a:lnTo>
                  <a:lnTo>
                    <a:pt x="160" y="568"/>
                  </a:lnTo>
                  <a:lnTo>
                    <a:pt x="160" y="0"/>
                  </a:lnTo>
                  <a:lnTo>
                    <a:pt x="360" y="0"/>
                  </a:lnTo>
                  <a:lnTo>
                    <a:pt x="40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62320" y="1800360"/>
              <a:ext cx="159480" cy="15876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0" y="0"/>
                  </a:moveTo>
                  <a:lnTo>
                    <a:pt x="0" y="71"/>
                  </a:lnTo>
                  <a:lnTo>
                    <a:pt x="77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72120" y="1879560"/>
              <a:ext cx="790920" cy="1800"/>
            </a:xfrm>
            <a:custGeom>
              <a:avLst/>
              <a:gdLst/>
              <a:ahLst/>
              <a:rect l="l" t="t" r="r" b="b"/>
              <a:pathLst>
                <a:path w="386" h="1">
                  <a:moveTo>
                    <a:pt x="0" y="0"/>
                  </a:moveTo>
                  <a:lnTo>
                    <a:pt x="37" y="0"/>
                  </a:lnTo>
                  <a:lnTo>
                    <a:pt x="347" y="0"/>
                  </a:lnTo>
                  <a:lnTo>
                    <a:pt x="38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28240" y="2273400"/>
              <a:ext cx="160920" cy="16020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0" y="0"/>
                  </a:moveTo>
                  <a:lnTo>
                    <a:pt x="78" y="0"/>
                  </a:lnTo>
                  <a:lnTo>
                    <a:pt x="39" y="7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91600" y="1863720"/>
              <a:ext cx="39240" cy="381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07440" y="1879560"/>
              <a:ext cx="2880" cy="395280"/>
            </a:xfrm>
            <a:custGeom>
              <a:avLst/>
              <a:gdLst/>
              <a:ahLst/>
              <a:rect l="l" t="t" r="r" b="b"/>
              <a:pathLst>
                <a:path w="1" h="178">
                  <a:moveTo>
                    <a:pt x="0" y="0"/>
                  </a:moveTo>
                  <a:lnTo>
                    <a:pt x="0" y="142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36480" y="1641600"/>
              <a:ext cx="160920" cy="16020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0" y="0"/>
                  </a:moveTo>
                  <a:lnTo>
                    <a:pt x="0" y="71"/>
                  </a:lnTo>
                  <a:lnTo>
                    <a:pt x="78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2160" y="1722600"/>
              <a:ext cx="1265760" cy="1440"/>
            </a:xfrm>
            <a:custGeom>
              <a:avLst/>
              <a:gdLst/>
              <a:ahLst/>
              <a:rect l="l" t="t" r="r" b="b"/>
              <a:pathLst>
                <a:path w="617" h="1">
                  <a:moveTo>
                    <a:pt x="0" y="0"/>
                  </a:moveTo>
                  <a:lnTo>
                    <a:pt x="37" y="0"/>
                  </a:lnTo>
                  <a:lnTo>
                    <a:pt x="578" y="0"/>
                  </a:lnTo>
                  <a:lnTo>
                    <a:pt x="61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36480" y="1957320"/>
              <a:ext cx="160920" cy="16056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0" y="0"/>
                  </a:moveTo>
                  <a:lnTo>
                    <a:pt x="0" y="71"/>
                  </a:lnTo>
                  <a:lnTo>
                    <a:pt x="78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78440" y="2036880"/>
              <a:ext cx="1188000" cy="1265040"/>
            </a:xfrm>
            <a:custGeom>
              <a:avLst/>
              <a:gdLst/>
              <a:ahLst/>
              <a:rect l="l" t="t" r="r" b="b"/>
              <a:pathLst>
                <a:path w="579" h="569">
                  <a:moveTo>
                    <a:pt x="578" y="568"/>
                  </a:moveTo>
                  <a:lnTo>
                    <a:pt x="539" y="568"/>
                  </a:lnTo>
                  <a:lnTo>
                    <a:pt x="0" y="568"/>
                  </a:lnTo>
                  <a:lnTo>
                    <a:pt x="0" y="0"/>
                  </a:lnTo>
                  <a:lnTo>
                    <a:pt x="38" y="0"/>
                  </a:lnTo>
                  <a:lnTo>
                    <a:pt x="7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62320" y="2114640"/>
              <a:ext cx="159480" cy="16020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0" y="0"/>
                  </a:moveTo>
                  <a:lnTo>
                    <a:pt x="0" y="71"/>
                  </a:lnTo>
                  <a:lnTo>
                    <a:pt x="77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72120" y="2195640"/>
              <a:ext cx="790920" cy="2449440"/>
            </a:xfrm>
            <a:custGeom>
              <a:avLst/>
              <a:gdLst/>
              <a:ahLst/>
              <a:rect l="l" t="t" r="r" b="b"/>
              <a:pathLst>
                <a:path w="386" h="1102">
                  <a:moveTo>
                    <a:pt x="0" y="1101"/>
                  </a:moveTo>
                  <a:lnTo>
                    <a:pt x="37" y="1101"/>
                  </a:lnTo>
                  <a:lnTo>
                    <a:pt x="308" y="1101"/>
                  </a:lnTo>
                  <a:lnTo>
                    <a:pt x="308" y="0"/>
                  </a:lnTo>
                  <a:lnTo>
                    <a:pt x="347" y="0"/>
                  </a:lnTo>
                  <a:lnTo>
                    <a:pt x="38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25200" y="1957320"/>
              <a:ext cx="160920" cy="16056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0" y="0"/>
                  </a:moveTo>
                  <a:lnTo>
                    <a:pt x="0" y="71"/>
                  </a:lnTo>
                  <a:lnTo>
                    <a:pt x="77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16000" y="2036880"/>
              <a:ext cx="712080" cy="2880"/>
            </a:xfrm>
            <a:custGeom>
              <a:avLst/>
              <a:gdLst/>
              <a:ahLst/>
              <a:rect l="l" t="t" r="r" b="b"/>
              <a:pathLst>
                <a:path w="347" h="1">
                  <a:moveTo>
                    <a:pt x="0" y="0"/>
                  </a:moveTo>
                  <a:lnTo>
                    <a:pt x="38" y="0"/>
                  </a:lnTo>
                  <a:lnTo>
                    <a:pt x="307" y="0"/>
                  </a:lnTo>
                  <a:lnTo>
                    <a:pt x="34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59600" y="18446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cc"/>
                  </a:solidFill>
                  <a:latin typeface="Arial"/>
                  <a:ea typeface="Arial"/>
                </a:rPr>
                <a:t>–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29905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PRIMJER 1. </a:t>
            </a:r>
            <a:r>
              <a:rPr b="0" i="1" lang="hr-HR" sz="4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–</a:t>
            </a: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d60093"/>
                </a:solidFill>
                <a:latin typeface="Times New Roman"/>
              </a:rPr>
              <a:t>MATLAB</a:t>
            </a:r>
            <a:br>
              <a:rPr sz="4400"/>
            </a:b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filt.m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2212560" y="1930320"/>
            <a:ext cx="4735440" cy="4114080"/>
            <a:chOff x="2212560" y="1930320"/>
            <a:chExt cx="4735440" cy="4114080"/>
          </a:xfrm>
        </p:grpSpPr>
        <p:sp>
          <p:nvSpPr>
            <p:cNvPr id="246" name=""/>
            <p:cNvSpPr/>
            <p:nvPr/>
          </p:nvSpPr>
          <p:spPr>
            <a:xfrm>
              <a:off x="2490840" y="2028960"/>
              <a:ext cx="1080" cy="3757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76080" y="2028960"/>
              <a:ext cx="1080" cy="3757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51240" y="2028960"/>
              <a:ext cx="1080" cy="3757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35040" y="2028960"/>
              <a:ext cx="1080" cy="3757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09840" y="2028960"/>
              <a:ext cx="1440" cy="3757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95080" y="2028960"/>
              <a:ext cx="1080" cy="375732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90840" y="5786280"/>
              <a:ext cx="440424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90840" y="5157720"/>
              <a:ext cx="440424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90840" y="4530600"/>
              <a:ext cx="440424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90840" y="3913200"/>
              <a:ext cx="440424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90840" y="3284640"/>
              <a:ext cx="440424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90840" y="2657520"/>
              <a:ext cx="440424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90840" y="2028960"/>
              <a:ext cx="440424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90840" y="2028960"/>
              <a:ext cx="4404240" cy="375732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0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90840" y="2028960"/>
              <a:ext cx="4404240" cy="375732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0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90840" y="2028960"/>
              <a:ext cx="4404240" cy="375732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0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0840" y="5786280"/>
              <a:ext cx="4404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90840" y="2028960"/>
              <a:ext cx="4404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490840" y="2028600"/>
              <a:ext cx="1080" cy="3757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895080" y="2028600"/>
              <a:ext cx="1080" cy="3757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90840" y="2028960"/>
              <a:ext cx="1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95080" y="5786280"/>
              <a:ext cx="10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90840" y="5786280"/>
              <a:ext cx="4404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490840" y="2028600"/>
              <a:ext cx="1080" cy="3757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90840" y="5786280"/>
              <a:ext cx="10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490840" y="574164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90840" y="202896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44040" y="583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376080" y="574164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76080" y="202896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50080" y="58309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251240" y="574164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51240" y="202896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24880" y="58309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135040" y="574164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35040" y="202896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08680" y="58309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009840" y="5741640"/>
              <a:ext cx="144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09840" y="2028960"/>
              <a:ext cx="144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85280" y="58309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895080" y="574164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95080" y="202896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48280" y="583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90840" y="5786280"/>
              <a:ext cx="406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854040" y="5786280"/>
              <a:ext cx="410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54040" y="568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90840" y="5157720"/>
              <a:ext cx="406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54040" y="5157720"/>
              <a:ext cx="410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12560" y="50594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90840" y="4530600"/>
              <a:ext cx="406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854040" y="4530600"/>
              <a:ext cx="410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2560" y="44308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90840" y="391320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854040" y="3913200"/>
              <a:ext cx="410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12560" y="38149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90840" y="328464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854040" y="3284640"/>
              <a:ext cx="410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12560" y="31860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90840" y="265752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854040" y="2657520"/>
              <a:ext cx="410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54040" y="2557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90840" y="202896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854040" y="2028960"/>
              <a:ext cx="410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12560" y="1930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90840" y="5786280"/>
              <a:ext cx="4404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90840" y="2028960"/>
              <a:ext cx="4404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490840" y="2028600"/>
              <a:ext cx="1080" cy="3757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895080" y="2028600"/>
              <a:ext cx="1080" cy="3757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90840" y="5786280"/>
              <a:ext cx="10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95080" y="2028960"/>
              <a:ext cx="1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90840" y="2657520"/>
              <a:ext cx="4404240" cy="3128760"/>
            </a:xfrm>
            <a:custGeom>
              <a:avLst/>
              <a:gdLst/>
              <a:ahLst/>
              <a:rect l="l" t="t" r="r" b="b"/>
              <a:pathLst>
                <a:path w="3005" h="1971">
                  <a:moveTo>
                    <a:pt x="0" y="215"/>
                  </a:moveTo>
                  <a:lnTo>
                    <a:pt x="7" y="215"/>
                  </a:lnTo>
                  <a:lnTo>
                    <a:pt x="14" y="215"/>
                  </a:lnTo>
                  <a:lnTo>
                    <a:pt x="21" y="215"/>
                  </a:lnTo>
                  <a:lnTo>
                    <a:pt x="28" y="215"/>
                  </a:lnTo>
                  <a:lnTo>
                    <a:pt x="34" y="215"/>
                  </a:lnTo>
                  <a:lnTo>
                    <a:pt x="41" y="215"/>
                  </a:lnTo>
                  <a:lnTo>
                    <a:pt x="48" y="215"/>
                  </a:lnTo>
                  <a:lnTo>
                    <a:pt x="55" y="215"/>
                  </a:lnTo>
                  <a:lnTo>
                    <a:pt x="62" y="215"/>
                  </a:lnTo>
                  <a:lnTo>
                    <a:pt x="69" y="208"/>
                  </a:lnTo>
                  <a:lnTo>
                    <a:pt x="76" y="208"/>
                  </a:lnTo>
                  <a:lnTo>
                    <a:pt x="83" y="208"/>
                  </a:lnTo>
                  <a:lnTo>
                    <a:pt x="90" y="208"/>
                  </a:lnTo>
                  <a:lnTo>
                    <a:pt x="97" y="208"/>
                  </a:lnTo>
                  <a:lnTo>
                    <a:pt x="104" y="208"/>
                  </a:lnTo>
                  <a:lnTo>
                    <a:pt x="111" y="208"/>
                  </a:lnTo>
                  <a:lnTo>
                    <a:pt x="118" y="208"/>
                  </a:lnTo>
                  <a:lnTo>
                    <a:pt x="125" y="208"/>
                  </a:lnTo>
                  <a:lnTo>
                    <a:pt x="132" y="208"/>
                  </a:lnTo>
                  <a:lnTo>
                    <a:pt x="139" y="208"/>
                  </a:lnTo>
                  <a:lnTo>
                    <a:pt x="146" y="208"/>
                  </a:lnTo>
                  <a:lnTo>
                    <a:pt x="152" y="208"/>
                  </a:lnTo>
                  <a:lnTo>
                    <a:pt x="152" y="201"/>
                  </a:lnTo>
                  <a:lnTo>
                    <a:pt x="159" y="201"/>
                  </a:lnTo>
                  <a:lnTo>
                    <a:pt x="166" y="201"/>
                  </a:lnTo>
                  <a:lnTo>
                    <a:pt x="173" y="201"/>
                  </a:lnTo>
                  <a:lnTo>
                    <a:pt x="180" y="201"/>
                  </a:lnTo>
                  <a:lnTo>
                    <a:pt x="187" y="201"/>
                  </a:lnTo>
                  <a:lnTo>
                    <a:pt x="194" y="201"/>
                  </a:lnTo>
                  <a:lnTo>
                    <a:pt x="201" y="201"/>
                  </a:lnTo>
                  <a:lnTo>
                    <a:pt x="208" y="194"/>
                  </a:lnTo>
                  <a:lnTo>
                    <a:pt x="215" y="194"/>
                  </a:lnTo>
                  <a:lnTo>
                    <a:pt x="222" y="194"/>
                  </a:lnTo>
                  <a:lnTo>
                    <a:pt x="229" y="194"/>
                  </a:lnTo>
                  <a:lnTo>
                    <a:pt x="236" y="194"/>
                  </a:lnTo>
                  <a:lnTo>
                    <a:pt x="243" y="194"/>
                  </a:lnTo>
                  <a:lnTo>
                    <a:pt x="250" y="187"/>
                  </a:lnTo>
                  <a:lnTo>
                    <a:pt x="257" y="187"/>
                  </a:lnTo>
                  <a:lnTo>
                    <a:pt x="264" y="187"/>
                  </a:lnTo>
                  <a:lnTo>
                    <a:pt x="270" y="187"/>
                  </a:lnTo>
                  <a:lnTo>
                    <a:pt x="277" y="187"/>
                  </a:lnTo>
                  <a:lnTo>
                    <a:pt x="284" y="180"/>
                  </a:lnTo>
                  <a:lnTo>
                    <a:pt x="291" y="180"/>
                  </a:lnTo>
                  <a:lnTo>
                    <a:pt x="298" y="180"/>
                  </a:lnTo>
                  <a:lnTo>
                    <a:pt x="305" y="180"/>
                  </a:lnTo>
                  <a:lnTo>
                    <a:pt x="312" y="180"/>
                  </a:lnTo>
                  <a:lnTo>
                    <a:pt x="312" y="173"/>
                  </a:lnTo>
                  <a:lnTo>
                    <a:pt x="319" y="173"/>
                  </a:lnTo>
                  <a:lnTo>
                    <a:pt x="326" y="173"/>
                  </a:lnTo>
                  <a:lnTo>
                    <a:pt x="333" y="173"/>
                  </a:lnTo>
                  <a:lnTo>
                    <a:pt x="340" y="173"/>
                  </a:lnTo>
                  <a:lnTo>
                    <a:pt x="340" y="166"/>
                  </a:lnTo>
                  <a:lnTo>
                    <a:pt x="347" y="166"/>
                  </a:lnTo>
                  <a:lnTo>
                    <a:pt x="354" y="166"/>
                  </a:lnTo>
                  <a:lnTo>
                    <a:pt x="361" y="166"/>
                  </a:lnTo>
                  <a:lnTo>
                    <a:pt x="368" y="166"/>
                  </a:lnTo>
                  <a:lnTo>
                    <a:pt x="368" y="159"/>
                  </a:lnTo>
                  <a:lnTo>
                    <a:pt x="375" y="159"/>
                  </a:lnTo>
                  <a:lnTo>
                    <a:pt x="382" y="159"/>
                  </a:lnTo>
                  <a:lnTo>
                    <a:pt x="388" y="159"/>
                  </a:lnTo>
                  <a:lnTo>
                    <a:pt x="395" y="152"/>
                  </a:lnTo>
                  <a:lnTo>
                    <a:pt x="402" y="152"/>
                  </a:lnTo>
                  <a:lnTo>
                    <a:pt x="409" y="152"/>
                  </a:lnTo>
                  <a:lnTo>
                    <a:pt x="416" y="152"/>
                  </a:lnTo>
                  <a:lnTo>
                    <a:pt x="416" y="146"/>
                  </a:lnTo>
                  <a:lnTo>
                    <a:pt x="423" y="146"/>
                  </a:lnTo>
                  <a:lnTo>
                    <a:pt x="430" y="146"/>
                  </a:lnTo>
                  <a:lnTo>
                    <a:pt x="437" y="146"/>
                  </a:lnTo>
                  <a:lnTo>
                    <a:pt x="437" y="139"/>
                  </a:lnTo>
                  <a:lnTo>
                    <a:pt x="444" y="139"/>
                  </a:lnTo>
                  <a:lnTo>
                    <a:pt x="451" y="139"/>
                  </a:lnTo>
                  <a:lnTo>
                    <a:pt x="458" y="139"/>
                  </a:lnTo>
                  <a:lnTo>
                    <a:pt x="465" y="132"/>
                  </a:lnTo>
                  <a:lnTo>
                    <a:pt x="472" y="132"/>
                  </a:lnTo>
                  <a:lnTo>
                    <a:pt x="479" y="132"/>
                  </a:lnTo>
                  <a:lnTo>
                    <a:pt x="486" y="125"/>
                  </a:lnTo>
                  <a:lnTo>
                    <a:pt x="493" y="125"/>
                  </a:lnTo>
                  <a:lnTo>
                    <a:pt x="500" y="125"/>
                  </a:lnTo>
                  <a:lnTo>
                    <a:pt x="506" y="118"/>
                  </a:lnTo>
                  <a:lnTo>
                    <a:pt x="513" y="118"/>
                  </a:lnTo>
                  <a:lnTo>
                    <a:pt x="520" y="118"/>
                  </a:lnTo>
                  <a:lnTo>
                    <a:pt x="520" y="111"/>
                  </a:lnTo>
                  <a:lnTo>
                    <a:pt x="527" y="111"/>
                  </a:lnTo>
                  <a:lnTo>
                    <a:pt x="534" y="111"/>
                  </a:lnTo>
                  <a:lnTo>
                    <a:pt x="541" y="111"/>
                  </a:lnTo>
                  <a:lnTo>
                    <a:pt x="541" y="104"/>
                  </a:lnTo>
                  <a:lnTo>
                    <a:pt x="548" y="104"/>
                  </a:lnTo>
                  <a:lnTo>
                    <a:pt x="555" y="104"/>
                  </a:lnTo>
                  <a:lnTo>
                    <a:pt x="562" y="97"/>
                  </a:lnTo>
                  <a:lnTo>
                    <a:pt x="569" y="97"/>
                  </a:lnTo>
                  <a:lnTo>
                    <a:pt x="576" y="97"/>
                  </a:lnTo>
                  <a:lnTo>
                    <a:pt x="583" y="90"/>
                  </a:lnTo>
                  <a:lnTo>
                    <a:pt x="590" y="90"/>
                  </a:lnTo>
                  <a:lnTo>
                    <a:pt x="597" y="90"/>
                  </a:lnTo>
                  <a:lnTo>
                    <a:pt x="597" y="83"/>
                  </a:lnTo>
                  <a:lnTo>
                    <a:pt x="604" y="83"/>
                  </a:lnTo>
                  <a:lnTo>
                    <a:pt x="611" y="83"/>
                  </a:lnTo>
                  <a:lnTo>
                    <a:pt x="618" y="76"/>
                  </a:lnTo>
                  <a:lnTo>
                    <a:pt x="624" y="76"/>
                  </a:lnTo>
                  <a:lnTo>
                    <a:pt x="631" y="76"/>
                  </a:lnTo>
                  <a:lnTo>
                    <a:pt x="631" y="69"/>
                  </a:lnTo>
                  <a:lnTo>
                    <a:pt x="638" y="69"/>
                  </a:lnTo>
                  <a:lnTo>
                    <a:pt x="645" y="69"/>
                  </a:lnTo>
                  <a:lnTo>
                    <a:pt x="652" y="62"/>
                  </a:lnTo>
                  <a:lnTo>
                    <a:pt x="659" y="62"/>
                  </a:lnTo>
                  <a:lnTo>
                    <a:pt x="666" y="62"/>
                  </a:lnTo>
                  <a:lnTo>
                    <a:pt x="673" y="55"/>
                  </a:lnTo>
                  <a:lnTo>
                    <a:pt x="680" y="55"/>
                  </a:lnTo>
                  <a:lnTo>
                    <a:pt x="687" y="55"/>
                  </a:lnTo>
                  <a:lnTo>
                    <a:pt x="687" y="48"/>
                  </a:lnTo>
                  <a:lnTo>
                    <a:pt x="694" y="48"/>
                  </a:lnTo>
                  <a:lnTo>
                    <a:pt x="701" y="48"/>
                  </a:lnTo>
                  <a:lnTo>
                    <a:pt x="708" y="41"/>
                  </a:lnTo>
                  <a:lnTo>
                    <a:pt x="715" y="41"/>
                  </a:lnTo>
                  <a:lnTo>
                    <a:pt x="722" y="41"/>
                  </a:lnTo>
                  <a:lnTo>
                    <a:pt x="729" y="34"/>
                  </a:lnTo>
                  <a:lnTo>
                    <a:pt x="736" y="34"/>
                  </a:lnTo>
                  <a:lnTo>
                    <a:pt x="742" y="34"/>
                  </a:lnTo>
                  <a:lnTo>
                    <a:pt x="749" y="28"/>
                  </a:lnTo>
                  <a:lnTo>
                    <a:pt x="756" y="28"/>
                  </a:lnTo>
                  <a:lnTo>
                    <a:pt x="763" y="28"/>
                  </a:lnTo>
                  <a:lnTo>
                    <a:pt x="770" y="21"/>
                  </a:lnTo>
                  <a:lnTo>
                    <a:pt x="777" y="21"/>
                  </a:lnTo>
                  <a:lnTo>
                    <a:pt x="784" y="21"/>
                  </a:lnTo>
                  <a:lnTo>
                    <a:pt x="791" y="21"/>
                  </a:lnTo>
                  <a:lnTo>
                    <a:pt x="791" y="14"/>
                  </a:lnTo>
                  <a:lnTo>
                    <a:pt x="798" y="14"/>
                  </a:lnTo>
                  <a:lnTo>
                    <a:pt x="805" y="14"/>
                  </a:lnTo>
                  <a:lnTo>
                    <a:pt x="812" y="14"/>
                  </a:lnTo>
                  <a:lnTo>
                    <a:pt x="819" y="14"/>
                  </a:lnTo>
                  <a:lnTo>
                    <a:pt x="819" y="7"/>
                  </a:lnTo>
                  <a:lnTo>
                    <a:pt x="826" y="7"/>
                  </a:lnTo>
                  <a:lnTo>
                    <a:pt x="833" y="7"/>
                  </a:lnTo>
                  <a:lnTo>
                    <a:pt x="840" y="7"/>
                  </a:lnTo>
                  <a:lnTo>
                    <a:pt x="847" y="7"/>
                  </a:lnTo>
                  <a:lnTo>
                    <a:pt x="854" y="7"/>
                  </a:lnTo>
                  <a:lnTo>
                    <a:pt x="854" y="0"/>
                  </a:lnTo>
                  <a:lnTo>
                    <a:pt x="860" y="0"/>
                  </a:lnTo>
                  <a:lnTo>
                    <a:pt x="867" y="0"/>
                  </a:lnTo>
                  <a:lnTo>
                    <a:pt x="874" y="0"/>
                  </a:lnTo>
                  <a:lnTo>
                    <a:pt x="881" y="0"/>
                  </a:lnTo>
                  <a:lnTo>
                    <a:pt x="888" y="0"/>
                  </a:lnTo>
                  <a:lnTo>
                    <a:pt x="895" y="0"/>
                  </a:lnTo>
                  <a:lnTo>
                    <a:pt x="902" y="0"/>
                  </a:lnTo>
                  <a:lnTo>
                    <a:pt x="909" y="0"/>
                  </a:lnTo>
                  <a:lnTo>
                    <a:pt x="916" y="0"/>
                  </a:lnTo>
                  <a:lnTo>
                    <a:pt x="923" y="0"/>
                  </a:lnTo>
                  <a:lnTo>
                    <a:pt x="930" y="0"/>
                  </a:lnTo>
                  <a:lnTo>
                    <a:pt x="937" y="0"/>
                  </a:lnTo>
                  <a:lnTo>
                    <a:pt x="944" y="0"/>
                  </a:lnTo>
                  <a:lnTo>
                    <a:pt x="951" y="0"/>
                  </a:lnTo>
                  <a:lnTo>
                    <a:pt x="958" y="0"/>
                  </a:lnTo>
                  <a:lnTo>
                    <a:pt x="958" y="7"/>
                  </a:lnTo>
                  <a:lnTo>
                    <a:pt x="965" y="7"/>
                  </a:lnTo>
                  <a:lnTo>
                    <a:pt x="972" y="7"/>
                  </a:lnTo>
                  <a:lnTo>
                    <a:pt x="978" y="7"/>
                  </a:lnTo>
                  <a:lnTo>
                    <a:pt x="985" y="7"/>
                  </a:lnTo>
                  <a:lnTo>
                    <a:pt x="985" y="14"/>
                  </a:lnTo>
                  <a:lnTo>
                    <a:pt x="992" y="14"/>
                  </a:lnTo>
                  <a:lnTo>
                    <a:pt x="999" y="14"/>
                  </a:lnTo>
                  <a:lnTo>
                    <a:pt x="1006" y="14"/>
                  </a:lnTo>
                  <a:lnTo>
                    <a:pt x="1006" y="21"/>
                  </a:lnTo>
                  <a:lnTo>
                    <a:pt x="1013" y="21"/>
                  </a:lnTo>
                  <a:lnTo>
                    <a:pt x="1020" y="21"/>
                  </a:lnTo>
                  <a:lnTo>
                    <a:pt x="1020" y="28"/>
                  </a:lnTo>
                  <a:lnTo>
                    <a:pt x="1027" y="28"/>
                  </a:lnTo>
                  <a:lnTo>
                    <a:pt x="1034" y="28"/>
                  </a:lnTo>
                  <a:lnTo>
                    <a:pt x="1034" y="34"/>
                  </a:lnTo>
                  <a:lnTo>
                    <a:pt x="1041" y="34"/>
                  </a:lnTo>
                  <a:lnTo>
                    <a:pt x="1048" y="34"/>
                  </a:lnTo>
                  <a:lnTo>
                    <a:pt x="1048" y="41"/>
                  </a:lnTo>
                  <a:lnTo>
                    <a:pt x="1055" y="41"/>
                  </a:lnTo>
                  <a:lnTo>
                    <a:pt x="1055" y="48"/>
                  </a:lnTo>
                  <a:lnTo>
                    <a:pt x="1062" y="48"/>
                  </a:lnTo>
                  <a:lnTo>
                    <a:pt x="1062" y="55"/>
                  </a:lnTo>
                  <a:lnTo>
                    <a:pt x="1069" y="55"/>
                  </a:lnTo>
                  <a:lnTo>
                    <a:pt x="1076" y="62"/>
                  </a:lnTo>
                  <a:lnTo>
                    <a:pt x="1083" y="62"/>
                  </a:lnTo>
                  <a:lnTo>
                    <a:pt x="1083" y="69"/>
                  </a:lnTo>
                  <a:lnTo>
                    <a:pt x="1090" y="69"/>
                  </a:lnTo>
                  <a:lnTo>
                    <a:pt x="1090" y="76"/>
                  </a:lnTo>
                  <a:lnTo>
                    <a:pt x="1096" y="76"/>
                  </a:lnTo>
                  <a:lnTo>
                    <a:pt x="1103" y="83"/>
                  </a:lnTo>
                  <a:lnTo>
                    <a:pt x="1103" y="90"/>
                  </a:lnTo>
                  <a:lnTo>
                    <a:pt x="1110" y="90"/>
                  </a:lnTo>
                  <a:lnTo>
                    <a:pt x="1110" y="97"/>
                  </a:lnTo>
                  <a:lnTo>
                    <a:pt x="1117" y="97"/>
                  </a:lnTo>
                  <a:lnTo>
                    <a:pt x="1117" y="104"/>
                  </a:lnTo>
                  <a:lnTo>
                    <a:pt x="1124" y="104"/>
                  </a:lnTo>
                  <a:lnTo>
                    <a:pt x="1124" y="111"/>
                  </a:lnTo>
                  <a:lnTo>
                    <a:pt x="1131" y="111"/>
                  </a:lnTo>
                  <a:lnTo>
                    <a:pt x="1131" y="118"/>
                  </a:lnTo>
                  <a:lnTo>
                    <a:pt x="1138" y="118"/>
                  </a:lnTo>
                  <a:lnTo>
                    <a:pt x="1138" y="125"/>
                  </a:lnTo>
                  <a:lnTo>
                    <a:pt x="1145" y="132"/>
                  </a:lnTo>
                  <a:lnTo>
                    <a:pt x="1152" y="139"/>
                  </a:lnTo>
                  <a:lnTo>
                    <a:pt x="1152" y="146"/>
                  </a:lnTo>
                  <a:lnTo>
                    <a:pt x="1159" y="146"/>
                  </a:lnTo>
                  <a:lnTo>
                    <a:pt x="1159" y="152"/>
                  </a:lnTo>
                  <a:lnTo>
                    <a:pt x="1166" y="159"/>
                  </a:lnTo>
                  <a:lnTo>
                    <a:pt x="1173" y="166"/>
                  </a:lnTo>
                  <a:lnTo>
                    <a:pt x="1173" y="173"/>
                  </a:lnTo>
                  <a:lnTo>
                    <a:pt x="1180" y="173"/>
                  </a:lnTo>
                  <a:lnTo>
                    <a:pt x="1180" y="180"/>
                  </a:lnTo>
                  <a:lnTo>
                    <a:pt x="1187" y="187"/>
                  </a:lnTo>
                  <a:lnTo>
                    <a:pt x="1187" y="194"/>
                  </a:lnTo>
                  <a:lnTo>
                    <a:pt x="1194" y="194"/>
                  </a:lnTo>
                  <a:lnTo>
                    <a:pt x="1194" y="201"/>
                  </a:lnTo>
                  <a:lnTo>
                    <a:pt x="1201" y="208"/>
                  </a:lnTo>
                  <a:lnTo>
                    <a:pt x="1201" y="215"/>
                  </a:lnTo>
                  <a:lnTo>
                    <a:pt x="1208" y="222"/>
                  </a:lnTo>
                  <a:lnTo>
                    <a:pt x="1214" y="229"/>
                  </a:lnTo>
                  <a:lnTo>
                    <a:pt x="1214" y="236"/>
                  </a:lnTo>
                  <a:lnTo>
                    <a:pt x="1221" y="243"/>
                  </a:lnTo>
                  <a:lnTo>
                    <a:pt x="1221" y="250"/>
                  </a:lnTo>
                  <a:lnTo>
                    <a:pt x="1228" y="257"/>
                  </a:lnTo>
                  <a:lnTo>
                    <a:pt x="1235" y="264"/>
                  </a:lnTo>
                  <a:lnTo>
                    <a:pt x="1235" y="270"/>
                  </a:lnTo>
                  <a:lnTo>
                    <a:pt x="1235" y="277"/>
                  </a:lnTo>
                  <a:lnTo>
                    <a:pt x="1242" y="277"/>
                  </a:lnTo>
                  <a:lnTo>
                    <a:pt x="1242" y="284"/>
                  </a:lnTo>
                  <a:lnTo>
                    <a:pt x="1249" y="291"/>
                  </a:lnTo>
                  <a:lnTo>
                    <a:pt x="1249" y="298"/>
                  </a:lnTo>
                  <a:lnTo>
                    <a:pt x="1256" y="298"/>
                  </a:lnTo>
                  <a:lnTo>
                    <a:pt x="1256" y="305"/>
                  </a:lnTo>
                  <a:lnTo>
                    <a:pt x="1256" y="312"/>
                  </a:lnTo>
                  <a:lnTo>
                    <a:pt x="1263" y="319"/>
                  </a:lnTo>
                  <a:lnTo>
                    <a:pt x="1263" y="326"/>
                  </a:lnTo>
                  <a:lnTo>
                    <a:pt x="1270" y="326"/>
                  </a:lnTo>
                  <a:lnTo>
                    <a:pt x="1270" y="333"/>
                  </a:lnTo>
                  <a:lnTo>
                    <a:pt x="1277" y="340"/>
                  </a:lnTo>
                  <a:lnTo>
                    <a:pt x="1277" y="347"/>
                  </a:lnTo>
                  <a:lnTo>
                    <a:pt x="1277" y="354"/>
                  </a:lnTo>
                  <a:lnTo>
                    <a:pt x="1284" y="361"/>
                  </a:lnTo>
                  <a:lnTo>
                    <a:pt x="1291" y="368"/>
                  </a:lnTo>
                  <a:lnTo>
                    <a:pt x="1291" y="375"/>
                  </a:lnTo>
                  <a:lnTo>
                    <a:pt x="1291" y="381"/>
                  </a:lnTo>
                  <a:lnTo>
                    <a:pt x="1298" y="388"/>
                  </a:lnTo>
                  <a:lnTo>
                    <a:pt x="1298" y="395"/>
                  </a:lnTo>
                  <a:lnTo>
                    <a:pt x="1305" y="402"/>
                  </a:lnTo>
                  <a:lnTo>
                    <a:pt x="1312" y="409"/>
                  </a:lnTo>
                  <a:lnTo>
                    <a:pt x="1312" y="416"/>
                  </a:lnTo>
                  <a:lnTo>
                    <a:pt x="1312" y="423"/>
                  </a:lnTo>
                  <a:lnTo>
                    <a:pt x="1319" y="430"/>
                  </a:lnTo>
                  <a:lnTo>
                    <a:pt x="1319" y="437"/>
                  </a:lnTo>
                  <a:lnTo>
                    <a:pt x="1326" y="444"/>
                  </a:lnTo>
                  <a:lnTo>
                    <a:pt x="1326" y="451"/>
                  </a:lnTo>
                  <a:lnTo>
                    <a:pt x="1332" y="458"/>
                  </a:lnTo>
                  <a:lnTo>
                    <a:pt x="1332" y="465"/>
                  </a:lnTo>
                  <a:lnTo>
                    <a:pt x="1339" y="472"/>
                  </a:lnTo>
                  <a:lnTo>
                    <a:pt x="1339" y="479"/>
                  </a:lnTo>
                  <a:lnTo>
                    <a:pt x="1346" y="486"/>
                  </a:lnTo>
                  <a:lnTo>
                    <a:pt x="1346" y="493"/>
                  </a:lnTo>
                  <a:lnTo>
                    <a:pt x="1353" y="499"/>
                  </a:lnTo>
                  <a:lnTo>
                    <a:pt x="1353" y="506"/>
                  </a:lnTo>
                  <a:lnTo>
                    <a:pt x="1353" y="513"/>
                  </a:lnTo>
                  <a:lnTo>
                    <a:pt x="1360" y="520"/>
                  </a:lnTo>
                  <a:lnTo>
                    <a:pt x="1360" y="527"/>
                  </a:lnTo>
                  <a:lnTo>
                    <a:pt x="1367" y="534"/>
                  </a:lnTo>
                  <a:lnTo>
                    <a:pt x="1367" y="541"/>
                  </a:lnTo>
                  <a:lnTo>
                    <a:pt x="1374" y="548"/>
                  </a:lnTo>
                  <a:lnTo>
                    <a:pt x="1374" y="555"/>
                  </a:lnTo>
                  <a:lnTo>
                    <a:pt x="1381" y="562"/>
                  </a:lnTo>
                  <a:lnTo>
                    <a:pt x="1381" y="569"/>
                  </a:lnTo>
                  <a:lnTo>
                    <a:pt x="1388" y="576"/>
                  </a:lnTo>
                  <a:lnTo>
                    <a:pt x="1388" y="583"/>
                  </a:lnTo>
                  <a:lnTo>
                    <a:pt x="1388" y="590"/>
                  </a:lnTo>
                  <a:lnTo>
                    <a:pt x="1395" y="597"/>
                  </a:lnTo>
                  <a:lnTo>
                    <a:pt x="1395" y="604"/>
                  </a:lnTo>
                  <a:lnTo>
                    <a:pt x="1402" y="611"/>
                  </a:lnTo>
                  <a:lnTo>
                    <a:pt x="1402" y="617"/>
                  </a:lnTo>
                  <a:lnTo>
                    <a:pt x="1409" y="624"/>
                  </a:lnTo>
                  <a:lnTo>
                    <a:pt x="1409" y="631"/>
                  </a:lnTo>
                  <a:lnTo>
                    <a:pt x="1409" y="638"/>
                  </a:lnTo>
                  <a:lnTo>
                    <a:pt x="1416" y="645"/>
                  </a:lnTo>
                  <a:lnTo>
                    <a:pt x="1416" y="652"/>
                  </a:lnTo>
                  <a:lnTo>
                    <a:pt x="1423" y="659"/>
                  </a:lnTo>
                  <a:lnTo>
                    <a:pt x="1430" y="666"/>
                  </a:lnTo>
                  <a:lnTo>
                    <a:pt x="1430" y="673"/>
                  </a:lnTo>
                  <a:lnTo>
                    <a:pt x="1430" y="680"/>
                  </a:lnTo>
                  <a:lnTo>
                    <a:pt x="1437" y="687"/>
                  </a:lnTo>
                  <a:lnTo>
                    <a:pt x="1437" y="694"/>
                  </a:lnTo>
                  <a:lnTo>
                    <a:pt x="1444" y="701"/>
                  </a:lnTo>
                  <a:lnTo>
                    <a:pt x="1444" y="708"/>
                  </a:lnTo>
                  <a:lnTo>
                    <a:pt x="1444" y="715"/>
                  </a:lnTo>
                  <a:lnTo>
                    <a:pt x="1450" y="722"/>
                  </a:lnTo>
                  <a:lnTo>
                    <a:pt x="1450" y="729"/>
                  </a:lnTo>
                  <a:lnTo>
                    <a:pt x="1457" y="735"/>
                  </a:lnTo>
                  <a:lnTo>
                    <a:pt x="1457" y="742"/>
                  </a:lnTo>
                  <a:lnTo>
                    <a:pt x="1464" y="749"/>
                  </a:lnTo>
                  <a:lnTo>
                    <a:pt x="1464" y="756"/>
                  </a:lnTo>
                  <a:lnTo>
                    <a:pt x="1464" y="763"/>
                  </a:lnTo>
                  <a:lnTo>
                    <a:pt x="1471" y="770"/>
                  </a:lnTo>
                  <a:lnTo>
                    <a:pt x="1478" y="777"/>
                  </a:lnTo>
                  <a:lnTo>
                    <a:pt x="1478" y="784"/>
                  </a:lnTo>
                  <a:lnTo>
                    <a:pt x="1485" y="791"/>
                  </a:lnTo>
                  <a:lnTo>
                    <a:pt x="1485" y="798"/>
                  </a:lnTo>
                  <a:lnTo>
                    <a:pt x="1485" y="805"/>
                  </a:lnTo>
                  <a:lnTo>
                    <a:pt x="1492" y="812"/>
                  </a:lnTo>
                  <a:lnTo>
                    <a:pt x="1492" y="819"/>
                  </a:lnTo>
                  <a:lnTo>
                    <a:pt x="1499" y="826"/>
                  </a:lnTo>
                  <a:lnTo>
                    <a:pt x="1499" y="833"/>
                  </a:lnTo>
                  <a:lnTo>
                    <a:pt x="1506" y="840"/>
                  </a:lnTo>
                  <a:lnTo>
                    <a:pt x="1506" y="847"/>
                  </a:lnTo>
                  <a:lnTo>
                    <a:pt x="1506" y="853"/>
                  </a:lnTo>
                  <a:lnTo>
                    <a:pt x="1513" y="853"/>
                  </a:lnTo>
                  <a:lnTo>
                    <a:pt x="1513" y="860"/>
                  </a:lnTo>
                  <a:lnTo>
                    <a:pt x="1520" y="867"/>
                  </a:lnTo>
                  <a:lnTo>
                    <a:pt x="1520" y="874"/>
                  </a:lnTo>
                  <a:lnTo>
                    <a:pt x="1520" y="881"/>
                  </a:lnTo>
                  <a:lnTo>
                    <a:pt x="1527" y="888"/>
                  </a:lnTo>
                  <a:lnTo>
                    <a:pt x="1527" y="895"/>
                  </a:lnTo>
                  <a:lnTo>
                    <a:pt x="1534" y="902"/>
                  </a:lnTo>
                  <a:lnTo>
                    <a:pt x="1534" y="909"/>
                  </a:lnTo>
                  <a:lnTo>
                    <a:pt x="1541" y="916"/>
                  </a:lnTo>
                  <a:lnTo>
                    <a:pt x="1541" y="923"/>
                  </a:lnTo>
                  <a:lnTo>
                    <a:pt x="1548" y="930"/>
                  </a:lnTo>
                  <a:lnTo>
                    <a:pt x="1548" y="937"/>
                  </a:lnTo>
                  <a:lnTo>
                    <a:pt x="1555" y="944"/>
                  </a:lnTo>
                  <a:lnTo>
                    <a:pt x="1555" y="951"/>
                  </a:lnTo>
                  <a:lnTo>
                    <a:pt x="1561" y="958"/>
                  </a:lnTo>
                  <a:lnTo>
                    <a:pt x="1561" y="964"/>
                  </a:lnTo>
                  <a:lnTo>
                    <a:pt x="1568" y="971"/>
                  </a:lnTo>
                  <a:lnTo>
                    <a:pt x="1568" y="978"/>
                  </a:lnTo>
                  <a:lnTo>
                    <a:pt x="1575" y="985"/>
                  </a:lnTo>
                  <a:lnTo>
                    <a:pt x="1575" y="992"/>
                  </a:lnTo>
                  <a:lnTo>
                    <a:pt x="1575" y="999"/>
                  </a:lnTo>
                  <a:lnTo>
                    <a:pt x="1582" y="1006"/>
                  </a:lnTo>
                  <a:lnTo>
                    <a:pt x="1589" y="1013"/>
                  </a:lnTo>
                  <a:lnTo>
                    <a:pt x="1589" y="1020"/>
                  </a:lnTo>
                  <a:lnTo>
                    <a:pt x="1596" y="1027"/>
                  </a:lnTo>
                  <a:lnTo>
                    <a:pt x="1596" y="1034"/>
                  </a:lnTo>
                  <a:lnTo>
                    <a:pt x="1596" y="1041"/>
                  </a:lnTo>
                  <a:lnTo>
                    <a:pt x="1603" y="1041"/>
                  </a:lnTo>
                  <a:lnTo>
                    <a:pt x="1603" y="1048"/>
                  </a:lnTo>
                  <a:lnTo>
                    <a:pt x="1610" y="1055"/>
                  </a:lnTo>
                  <a:lnTo>
                    <a:pt x="1610" y="1062"/>
                  </a:lnTo>
                  <a:lnTo>
                    <a:pt x="1617" y="1069"/>
                  </a:lnTo>
                  <a:lnTo>
                    <a:pt x="1617" y="1076"/>
                  </a:lnTo>
                  <a:lnTo>
                    <a:pt x="1624" y="1082"/>
                  </a:lnTo>
                  <a:lnTo>
                    <a:pt x="1624" y="1089"/>
                  </a:lnTo>
                  <a:lnTo>
                    <a:pt x="1631" y="1096"/>
                  </a:lnTo>
                  <a:lnTo>
                    <a:pt x="1638" y="1103"/>
                  </a:lnTo>
                  <a:lnTo>
                    <a:pt x="1638" y="1110"/>
                  </a:lnTo>
                  <a:lnTo>
                    <a:pt x="1638" y="1117"/>
                  </a:lnTo>
                  <a:lnTo>
                    <a:pt x="1645" y="1124"/>
                  </a:lnTo>
                  <a:lnTo>
                    <a:pt x="1652" y="1131"/>
                  </a:lnTo>
                  <a:lnTo>
                    <a:pt x="1652" y="1138"/>
                  </a:lnTo>
                  <a:lnTo>
                    <a:pt x="1652" y="1145"/>
                  </a:lnTo>
                  <a:lnTo>
                    <a:pt x="1659" y="1145"/>
                  </a:lnTo>
                  <a:lnTo>
                    <a:pt x="1659" y="1152"/>
                  </a:lnTo>
                  <a:lnTo>
                    <a:pt x="1666" y="1159"/>
                  </a:lnTo>
                  <a:lnTo>
                    <a:pt x="1666" y="1166"/>
                  </a:lnTo>
                  <a:lnTo>
                    <a:pt x="1673" y="1166"/>
                  </a:lnTo>
                  <a:lnTo>
                    <a:pt x="1673" y="1173"/>
                  </a:lnTo>
                  <a:lnTo>
                    <a:pt x="1673" y="1180"/>
                  </a:lnTo>
                  <a:lnTo>
                    <a:pt x="1679" y="1187"/>
                  </a:lnTo>
                  <a:lnTo>
                    <a:pt x="1686" y="1194"/>
                  </a:lnTo>
                  <a:lnTo>
                    <a:pt x="1686" y="1200"/>
                  </a:lnTo>
                  <a:lnTo>
                    <a:pt x="1693" y="1207"/>
                  </a:lnTo>
                  <a:lnTo>
                    <a:pt x="1693" y="1214"/>
                  </a:lnTo>
                  <a:lnTo>
                    <a:pt x="1700" y="1221"/>
                  </a:lnTo>
                  <a:lnTo>
                    <a:pt x="1707" y="1228"/>
                  </a:lnTo>
                  <a:lnTo>
                    <a:pt x="1707" y="1235"/>
                  </a:lnTo>
                  <a:lnTo>
                    <a:pt x="1714" y="1235"/>
                  </a:lnTo>
                  <a:lnTo>
                    <a:pt x="1714" y="1242"/>
                  </a:lnTo>
                  <a:lnTo>
                    <a:pt x="1714" y="1249"/>
                  </a:lnTo>
                  <a:lnTo>
                    <a:pt x="1721" y="1256"/>
                  </a:lnTo>
                  <a:lnTo>
                    <a:pt x="1728" y="1263"/>
                  </a:lnTo>
                  <a:lnTo>
                    <a:pt x="1728" y="1270"/>
                  </a:lnTo>
                  <a:lnTo>
                    <a:pt x="1735" y="1277"/>
                  </a:lnTo>
                  <a:lnTo>
                    <a:pt x="1735" y="1284"/>
                  </a:lnTo>
                  <a:lnTo>
                    <a:pt x="1742" y="1284"/>
                  </a:lnTo>
                  <a:lnTo>
                    <a:pt x="1742" y="1291"/>
                  </a:lnTo>
                  <a:lnTo>
                    <a:pt x="1749" y="1298"/>
                  </a:lnTo>
                  <a:lnTo>
                    <a:pt x="1749" y="1305"/>
                  </a:lnTo>
                  <a:lnTo>
                    <a:pt x="1756" y="1312"/>
                  </a:lnTo>
                  <a:lnTo>
                    <a:pt x="1763" y="1318"/>
                  </a:lnTo>
                  <a:lnTo>
                    <a:pt x="1770" y="1325"/>
                  </a:lnTo>
                  <a:lnTo>
                    <a:pt x="1770" y="1332"/>
                  </a:lnTo>
                  <a:lnTo>
                    <a:pt x="1777" y="1339"/>
                  </a:lnTo>
                  <a:lnTo>
                    <a:pt x="1777" y="1346"/>
                  </a:lnTo>
                  <a:lnTo>
                    <a:pt x="1784" y="1346"/>
                  </a:lnTo>
                  <a:lnTo>
                    <a:pt x="1784" y="1353"/>
                  </a:lnTo>
                  <a:lnTo>
                    <a:pt x="1791" y="1353"/>
                  </a:lnTo>
                  <a:lnTo>
                    <a:pt x="1791" y="1360"/>
                  </a:lnTo>
                  <a:lnTo>
                    <a:pt x="1791" y="1367"/>
                  </a:lnTo>
                  <a:lnTo>
                    <a:pt x="1797" y="1367"/>
                  </a:lnTo>
                  <a:lnTo>
                    <a:pt x="1797" y="1374"/>
                  </a:lnTo>
                  <a:lnTo>
                    <a:pt x="1804" y="1374"/>
                  </a:lnTo>
                  <a:lnTo>
                    <a:pt x="1804" y="1381"/>
                  </a:lnTo>
                  <a:lnTo>
                    <a:pt x="1804" y="1388"/>
                  </a:lnTo>
                  <a:lnTo>
                    <a:pt x="1811" y="1388"/>
                  </a:lnTo>
                  <a:lnTo>
                    <a:pt x="1811" y="1395"/>
                  </a:lnTo>
                  <a:lnTo>
                    <a:pt x="1818" y="1395"/>
                  </a:lnTo>
                  <a:lnTo>
                    <a:pt x="1818" y="1402"/>
                  </a:lnTo>
                  <a:lnTo>
                    <a:pt x="1825" y="1402"/>
                  </a:lnTo>
                  <a:lnTo>
                    <a:pt x="1825" y="1409"/>
                  </a:lnTo>
                  <a:lnTo>
                    <a:pt x="1825" y="1416"/>
                  </a:lnTo>
                  <a:lnTo>
                    <a:pt x="1832" y="1416"/>
                  </a:lnTo>
                  <a:lnTo>
                    <a:pt x="1832" y="1423"/>
                  </a:lnTo>
                  <a:lnTo>
                    <a:pt x="1839" y="1423"/>
                  </a:lnTo>
                  <a:lnTo>
                    <a:pt x="1839" y="1430"/>
                  </a:lnTo>
                  <a:lnTo>
                    <a:pt x="1846" y="1430"/>
                  </a:lnTo>
                  <a:lnTo>
                    <a:pt x="1846" y="1436"/>
                  </a:lnTo>
                  <a:lnTo>
                    <a:pt x="1853" y="1443"/>
                  </a:lnTo>
                  <a:lnTo>
                    <a:pt x="1860" y="1450"/>
                  </a:lnTo>
                  <a:lnTo>
                    <a:pt x="1860" y="1457"/>
                  </a:lnTo>
                  <a:lnTo>
                    <a:pt x="1867" y="1457"/>
                  </a:lnTo>
                  <a:lnTo>
                    <a:pt x="1867" y="1464"/>
                  </a:lnTo>
                  <a:lnTo>
                    <a:pt x="1874" y="1471"/>
                  </a:lnTo>
                  <a:lnTo>
                    <a:pt x="1881" y="1478"/>
                  </a:lnTo>
                  <a:lnTo>
                    <a:pt x="1881" y="1485"/>
                  </a:lnTo>
                  <a:lnTo>
                    <a:pt x="1888" y="1485"/>
                  </a:lnTo>
                  <a:lnTo>
                    <a:pt x="1888" y="1492"/>
                  </a:lnTo>
                  <a:lnTo>
                    <a:pt x="1895" y="1492"/>
                  </a:lnTo>
                  <a:lnTo>
                    <a:pt x="1895" y="1499"/>
                  </a:lnTo>
                  <a:lnTo>
                    <a:pt x="1902" y="1499"/>
                  </a:lnTo>
                  <a:lnTo>
                    <a:pt x="1902" y="1506"/>
                  </a:lnTo>
                  <a:lnTo>
                    <a:pt x="1909" y="1513"/>
                  </a:lnTo>
                  <a:lnTo>
                    <a:pt x="1915" y="1520"/>
                  </a:lnTo>
                  <a:lnTo>
                    <a:pt x="1922" y="1527"/>
                  </a:lnTo>
                  <a:lnTo>
                    <a:pt x="1929" y="1534"/>
                  </a:lnTo>
                  <a:lnTo>
                    <a:pt x="1936" y="1541"/>
                  </a:lnTo>
                  <a:lnTo>
                    <a:pt x="1943" y="1547"/>
                  </a:lnTo>
                  <a:lnTo>
                    <a:pt x="1943" y="1554"/>
                  </a:lnTo>
                  <a:lnTo>
                    <a:pt x="1950" y="1554"/>
                  </a:lnTo>
                  <a:lnTo>
                    <a:pt x="1950" y="1561"/>
                  </a:lnTo>
                  <a:lnTo>
                    <a:pt x="1957" y="1561"/>
                  </a:lnTo>
                  <a:lnTo>
                    <a:pt x="1957" y="1568"/>
                  </a:lnTo>
                  <a:lnTo>
                    <a:pt x="1964" y="1568"/>
                  </a:lnTo>
                  <a:lnTo>
                    <a:pt x="1964" y="1575"/>
                  </a:lnTo>
                  <a:lnTo>
                    <a:pt x="1971" y="1575"/>
                  </a:lnTo>
                  <a:lnTo>
                    <a:pt x="1971" y="1582"/>
                  </a:lnTo>
                  <a:lnTo>
                    <a:pt x="1978" y="1582"/>
                  </a:lnTo>
                  <a:lnTo>
                    <a:pt x="1978" y="1589"/>
                  </a:lnTo>
                  <a:lnTo>
                    <a:pt x="1985" y="1589"/>
                  </a:lnTo>
                  <a:lnTo>
                    <a:pt x="1985" y="1596"/>
                  </a:lnTo>
                  <a:lnTo>
                    <a:pt x="1992" y="1596"/>
                  </a:lnTo>
                  <a:lnTo>
                    <a:pt x="1999" y="1603"/>
                  </a:lnTo>
                  <a:lnTo>
                    <a:pt x="1999" y="1610"/>
                  </a:lnTo>
                  <a:lnTo>
                    <a:pt x="2006" y="1610"/>
                  </a:lnTo>
                  <a:lnTo>
                    <a:pt x="2013" y="1617"/>
                  </a:lnTo>
                  <a:lnTo>
                    <a:pt x="2013" y="1624"/>
                  </a:lnTo>
                  <a:lnTo>
                    <a:pt x="2020" y="1624"/>
                  </a:lnTo>
                  <a:lnTo>
                    <a:pt x="2027" y="1631"/>
                  </a:lnTo>
                  <a:lnTo>
                    <a:pt x="2033" y="1638"/>
                  </a:lnTo>
                  <a:lnTo>
                    <a:pt x="2040" y="1645"/>
                  </a:lnTo>
                  <a:lnTo>
                    <a:pt x="2047" y="1645"/>
                  </a:lnTo>
                  <a:lnTo>
                    <a:pt x="2047" y="1652"/>
                  </a:lnTo>
                  <a:lnTo>
                    <a:pt x="2054" y="1652"/>
                  </a:lnTo>
                  <a:lnTo>
                    <a:pt x="2054" y="1659"/>
                  </a:lnTo>
                  <a:lnTo>
                    <a:pt x="2061" y="1659"/>
                  </a:lnTo>
                  <a:lnTo>
                    <a:pt x="2061" y="1665"/>
                  </a:lnTo>
                  <a:lnTo>
                    <a:pt x="2068" y="1665"/>
                  </a:lnTo>
                  <a:lnTo>
                    <a:pt x="2075" y="1672"/>
                  </a:lnTo>
                  <a:lnTo>
                    <a:pt x="2082" y="1679"/>
                  </a:lnTo>
                  <a:lnTo>
                    <a:pt x="2089" y="1679"/>
                  </a:lnTo>
                  <a:lnTo>
                    <a:pt x="2089" y="1686"/>
                  </a:lnTo>
                  <a:lnTo>
                    <a:pt x="2096" y="1686"/>
                  </a:lnTo>
                  <a:lnTo>
                    <a:pt x="2096" y="1693"/>
                  </a:lnTo>
                  <a:lnTo>
                    <a:pt x="2103" y="1693"/>
                  </a:lnTo>
                  <a:lnTo>
                    <a:pt x="2110" y="1700"/>
                  </a:lnTo>
                  <a:lnTo>
                    <a:pt x="2117" y="1707"/>
                  </a:lnTo>
                  <a:lnTo>
                    <a:pt x="2124" y="1707"/>
                  </a:lnTo>
                  <a:lnTo>
                    <a:pt x="2131" y="1714"/>
                  </a:lnTo>
                  <a:lnTo>
                    <a:pt x="2138" y="1721"/>
                  </a:lnTo>
                  <a:lnTo>
                    <a:pt x="2145" y="1721"/>
                  </a:lnTo>
                  <a:lnTo>
                    <a:pt x="2145" y="1728"/>
                  </a:lnTo>
                  <a:lnTo>
                    <a:pt x="2151" y="1728"/>
                  </a:lnTo>
                  <a:lnTo>
                    <a:pt x="2151" y="1735"/>
                  </a:lnTo>
                  <a:lnTo>
                    <a:pt x="2158" y="1735"/>
                  </a:lnTo>
                  <a:lnTo>
                    <a:pt x="2165" y="1735"/>
                  </a:lnTo>
                  <a:lnTo>
                    <a:pt x="2165" y="1742"/>
                  </a:lnTo>
                  <a:lnTo>
                    <a:pt x="2172" y="1742"/>
                  </a:lnTo>
                  <a:lnTo>
                    <a:pt x="2172" y="1749"/>
                  </a:lnTo>
                  <a:lnTo>
                    <a:pt x="2179" y="1749"/>
                  </a:lnTo>
                  <a:lnTo>
                    <a:pt x="2186" y="1749"/>
                  </a:lnTo>
                  <a:lnTo>
                    <a:pt x="2186" y="1756"/>
                  </a:lnTo>
                  <a:lnTo>
                    <a:pt x="2193" y="1756"/>
                  </a:lnTo>
                  <a:lnTo>
                    <a:pt x="2200" y="1763"/>
                  </a:lnTo>
                  <a:lnTo>
                    <a:pt x="2207" y="1763"/>
                  </a:lnTo>
                  <a:lnTo>
                    <a:pt x="2207" y="1770"/>
                  </a:lnTo>
                  <a:lnTo>
                    <a:pt x="2214" y="1770"/>
                  </a:lnTo>
                  <a:lnTo>
                    <a:pt x="2221" y="1777"/>
                  </a:lnTo>
                  <a:lnTo>
                    <a:pt x="2228" y="1777"/>
                  </a:lnTo>
                  <a:lnTo>
                    <a:pt x="2228" y="1783"/>
                  </a:lnTo>
                  <a:lnTo>
                    <a:pt x="2235" y="1783"/>
                  </a:lnTo>
                  <a:lnTo>
                    <a:pt x="2242" y="1783"/>
                  </a:lnTo>
                  <a:lnTo>
                    <a:pt x="2242" y="1790"/>
                  </a:lnTo>
                  <a:lnTo>
                    <a:pt x="2249" y="1790"/>
                  </a:lnTo>
                  <a:lnTo>
                    <a:pt x="2256" y="1797"/>
                  </a:lnTo>
                  <a:lnTo>
                    <a:pt x="2263" y="1797"/>
                  </a:lnTo>
                  <a:lnTo>
                    <a:pt x="2269" y="1804"/>
                  </a:lnTo>
                  <a:lnTo>
                    <a:pt x="2276" y="1804"/>
                  </a:lnTo>
                  <a:lnTo>
                    <a:pt x="2283" y="1811"/>
                  </a:lnTo>
                  <a:lnTo>
                    <a:pt x="2290" y="1811"/>
                  </a:lnTo>
                  <a:lnTo>
                    <a:pt x="2297" y="1818"/>
                  </a:lnTo>
                  <a:lnTo>
                    <a:pt x="2304" y="1818"/>
                  </a:lnTo>
                  <a:lnTo>
                    <a:pt x="2304" y="1825"/>
                  </a:lnTo>
                  <a:lnTo>
                    <a:pt x="2311" y="1825"/>
                  </a:lnTo>
                  <a:lnTo>
                    <a:pt x="2318" y="1825"/>
                  </a:lnTo>
                  <a:lnTo>
                    <a:pt x="2318" y="1832"/>
                  </a:lnTo>
                  <a:lnTo>
                    <a:pt x="2325" y="1832"/>
                  </a:lnTo>
                  <a:lnTo>
                    <a:pt x="2332" y="1832"/>
                  </a:lnTo>
                  <a:lnTo>
                    <a:pt x="2339" y="1839"/>
                  </a:lnTo>
                  <a:lnTo>
                    <a:pt x="2346" y="1839"/>
                  </a:lnTo>
                  <a:lnTo>
                    <a:pt x="2353" y="1846"/>
                  </a:lnTo>
                  <a:lnTo>
                    <a:pt x="2360" y="1846"/>
                  </a:lnTo>
                  <a:lnTo>
                    <a:pt x="2367" y="1853"/>
                  </a:lnTo>
                  <a:lnTo>
                    <a:pt x="2374" y="1853"/>
                  </a:lnTo>
                  <a:lnTo>
                    <a:pt x="2381" y="1853"/>
                  </a:lnTo>
                  <a:lnTo>
                    <a:pt x="2381" y="1860"/>
                  </a:lnTo>
                  <a:lnTo>
                    <a:pt x="2387" y="1860"/>
                  </a:lnTo>
                  <a:lnTo>
                    <a:pt x="2394" y="1860"/>
                  </a:lnTo>
                  <a:lnTo>
                    <a:pt x="2394" y="1867"/>
                  </a:lnTo>
                  <a:lnTo>
                    <a:pt x="2401" y="1867"/>
                  </a:lnTo>
                  <a:lnTo>
                    <a:pt x="2408" y="1867"/>
                  </a:lnTo>
                  <a:lnTo>
                    <a:pt x="2415" y="1867"/>
                  </a:lnTo>
                  <a:lnTo>
                    <a:pt x="2415" y="1874"/>
                  </a:lnTo>
                  <a:lnTo>
                    <a:pt x="2422" y="1874"/>
                  </a:lnTo>
                  <a:lnTo>
                    <a:pt x="2429" y="1874"/>
                  </a:lnTo>
                  <a:lnTo>
                    <a:pt x="2436" y="1881"/>
                  </a:lnTo>
                  <a:lnTo>
                    <a:pt x="2443" y="1881"/>
                  </a:lnTo>
                  <a:lnTo>
                    <a:pt x="2450" y="1881"/>
                  </a:lnTo>
                  <a:lnTo>
                    <a:pt x="2457" y="1888"/>
                  </a:lnTo>
                  <a:lnTo>
                    <a:pt x="2464" y="1888"/>
                  </a:lnTo>
                  <a:lnTo>
                    <a:pt x="2471" y="1888"/>
                  </a:lnTo>
                  <a:lnTo>
                    <a:pt x="2471" y="1895"/>
                  </a:lnTo>
                  <a:lnTo>
                    <a:pt x="2478" y="1895"/>
                  </a:lnTo>
                  <a:lnTo>
                    <a:pt x="2485" y="1895"/>
                  </a:lnTo>
                  <a:lnTo>
                    <a:pt x="2492" y="1895"/>
                  </a:lnTo>
                  <a:lnTo>
                    <a:pt x="2492" y="1901"/>
                  </a:lnTo>
                  <a:lnTo>
                    <a:pt x="2499" y="1901"/>
                  </a:lnTo>
                  <a:lnTo>
                    <a:pt x="2505" y="1901"/>
                  </a:lnTo>
                  <a:lnTo>
                    <a:pt x="2512" y="1901"/>
                  </a:lnTo>
                  <a:lnTo>
                    <a:pt x="2512" y="1908"/>
                  </a:lnTo>
                  <a:lnTo>
                    <a:pt x="2519" y="1908"/>
                  </a:lnTo>
                  <a:lnTo>
                    <a:pt x="2526" y="1908"/>
                  </a:lnTo>
                  <a:lnTo>
                    <a:pt x="2533" y="1908"/>
                  </a:lnTo>
                  <a:lnTo>
                    <a:pt x="2540" y="1915"/>
                  </a:lnTo>
                  <a:lnTo>
                    <a:pt x="2547" y="1915"/>
                  </a:lnTo>
                  <a:lnTo>
                    <a:pt x="2554" y="1915"/>
                  </a:lnTo>
                  <a:lnTo>
                    <a:pt x="2561" y="1915"/>
                  </a:lnTo>
                  <a:lnTo>
                    <a:pt x="2561" y="1922"/>
                  </a:lnTo>
                  <a:lnTo>
                    <a:pt x="2568" y="1922"/>
                  </a:lnTo>
                  <a:lnTo>
                    <a:pt x="2575" y="1922"/>
                  </a:lnTo>
                  <a:lnTo>
                    <a:pt x="2582" y="1922"/>
                  </a:lnTo>
                  <a:lnTo>
                    <a:pt x="2589" y="1922"/>
                  </a:lnTo>
                  <a:lnTo>
                    <a:pt x="2589" y="1929"/>
                  </a:lnTo>
                  <a:lnTo>
                    <a:pt x="2596" y="1929"/>
                  </a:lnTo>
                  <a:lnTo>
                    <a:pt x="2603" y="1929"/>
                  </a:lnTo>
                  <a:lnTo>
                    <a:pt x="2610" y="1929"/>
                  </a:lnTo>
                  <a:lnTo>
                    <a:pt x="2617" y="1936"/>
                  </a:lnTo>
                  <a:lnTo>
                    <a:pt x="2623" y="1936"/>
                  </a:lnTo>
                  <a:lnTo>
                    <a:pt x="2630" y="1936"/>
                  </a:lnTo>
                  <a:lnTo>
                    <a:pt x="2637" y="1936"/>
                  </a:lnTo>
                  <a:lnTo>
                    <a:pt x="2644" y="1936"/>
                  </a:lnTo>
                  <a:lnTo>
                    <a:pt x="2644" y="1943"/>
                  </a:lnTo>
                  <a:lnTo>
                    <a:pt x="2651" y="1943"/>
                  </a:lnTo>
                  <a:lnTo>
                    <a:pt x="2658" y="1943"/>
                  </a:lnTo>
                  <a:lnTo>
                    <a:pt x="2665" y="1943"/>
                  </a:lnTo>
                  <a:lnTo>
                    <a:pt x="2672" y="1943"/>
                  </a:lnTo>
                  <a:lnTo>
                    <a:pt x="2679" y="1943"/>
                  </a:lnTo>
                  <a:lnTo>
                    <a:pt x="2679" y="1950"/>
                  </a:lnTo>
                  <a:lnTo>
                    <a:pt x="2686" y="1950"/>
                  </a:lnTo>
                  <a:lnTo>
                    <a:pt x="2693" y="1950"/>
                  </a:lnTo>
                  <a:lnTo>
                    <a:pt x="2700" y="1950"/>
                  </a:lnTo>
                  <a:lnTo>
                    <a:pt x="2707" y="1950"/>
                  </a:lnTo>
                  <a:lnTo>
                    <a:pt x="2714" y="1950"/>
                  </a:lnTo>
                  <a:lnTo>
                    <a:pt x="2721" y="1950"/>
                  </a:lnTo>
                  <a:lnTo>
                    <a:pt x="2721" y="1957"/>
                  </a:lnTo>
                  <a:lnTo>
                    <a:pt x="2728" y="1957"/>
                  </a:lnTo>
                  <a:lnTo>
                    <a:pt x="2735" y="1957"/>
                  </a:lnTo>
                  <a:lnTo>
                    <a:pt x="2741" y="1957"/>
                  </a:lnTo>
                  <a:lnTo>
                    <a:pt x="2748" y="1957"/>
                  </a:lnTo>
                  <a:lnTo>
                    <a:pt x="2755" y="1957"/>
                  </a:lnTo>
                  <a:lnTo>
                    <a:pt x="2762" y="1957"/>
                  </a:lnTo>
                  <a:lnTo>
                    <a:pt x="2762" y="1964"/>
                  </a:lnTo>
                  <a:lnTo>
                    <a:pt x="2769" y="1964"/>
                  </a:lnTo>
                  <a:lnTo>
                    <a:pt x="2776" y="1964"/>
                  </a:lnTo>
                  <a:lnTo>
                    <a:pt x="2783" y="1964"/>
                  </a:lnTo>
                  <a:lnTo>
                    <a:pt x="2790" y="1964"/>
                  </a:lnTo>
                  <a:lnTo>
                    <a:pt x="2797" y="1964"/>
                  </a:lnTo>
                  <a:lnTo>
                    <a:pt x="2804" y="1964"/>
                  </a:lnTo>
                  <a:lnTo>
                    <a:pt x="2811" y="1964"/>
                  </a:lnTo>
                  <a:lnTo>
                    <a:pt x="2818" y="1964"/>
                  </a:lnTo>
                  <a:lnTo>
                    <a:pt x="2818" y="1971"/>
                  </a:lnTo>
                  <a:lnTo>
                    <a:pt x="2825" y="1971"/>
                  </a:lnTo>
                  <a:lnTo>
                    <a:pt x="2832" y="1971"/>
                  </a:lnTo>
                  <a:lnTo>
                    <a:pt x="2839" y="1971"/>
                  </a:lnTo>
                  <a:lnTo>
                    <a:pt x="2846" y="1971"/>
                  </a:lnTo>
                  <a:lnTo>
                    <a:pt x="2853" y="1971"/>
                  </a:lnTo>
                  <a:lnTo>
                    <a:pt x="2859" y="1971"/>
                  </a:lnTo>
                  <a:lnTo>
                    <a:pt x="2866" y="1971"/>
                  </a:lnTo>
                  <a:lnTo>
                    <a:pt x="2873" y="1971"/>
                  </a:lnTo>
                  <a:lnTo>
                    <a:pt x="2880" y="1971"/>
                  </a:lnTo>
                  <a:lnTo>
                    <a:pt x="2887" y="1971"/>
                  </a:lnTo>
                  <a:lnTo>
                    <a:pt x="2894" y="1971"/>
                  </a:lnTo>
                  <a:lnTo>
                    <a:pt x="2901" y="1971"/>
                  </a:lnTo>
                  <a:lnTo>
                    <a:pt x="2908" y="1971"/>
                  </a:lnTo>
                  <a:lnTo>
                    <a:pt x="2908" y="1964"/>
                  </a:lnTo>
                  <a:lnTo>
                    <a:pt x="2915" y="1964"/>
                  </a:lnTo>
                  <a:lnTo>
                    <a:pt x="2922" y="1964"/>
                  </a:lnTo>
                  <a:lnTo>
                    <a:pt x="2929" y="1964"/>
                  </a:lnTo>
                  <a:lnTo>
                    <a:pt x="2936" y="1964"/>
                  </a:lnTo>
                  <a:lnTo>
                    <a:pt x="2943" y="1964"/>
                  </a:lnTo>
                  <a:lnTo>
                    <a:pt x="2950" y="1964"/>
                  </a:lnTo>
                  <a:lnTo>
                    <a:pt x="2957" y="1964"/>
                  </a:lnTo>
                  <a:lnTo>
                    <a:pt x="2964" y="1964"/>
                  </a:lnTo>
                  <a:lnTo>
                    <a:pt x="2971" y="1964"/>
                  </a:lnTo>
                  <a:lnTo>
                    <a:pt x="2977" y="1964"/>
                  </a:lnTo>
                  <a:lnTo>
                    <a:pt x="2984" y="1964"/>
                  </a:lnTo>
                  <a:lnTo>
                    <a:pt x="2991" y="1964"/>
                  </a:lnTo>
                  <a:lnTo>
                    <a:pt x="2998" y="1964"/>
                  </a:lnTo>
                  <a:lnTo>
                    <a:pt x="3005" y="1964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295280" y="304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Amplitudno-frekvencijska karakteristika sust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cccc"/>
                </a:solidFill>
                <a:latin typeface="Times New Roman"/>
              </a:rPr>
              <a:t>Amplitudno-frekvencijska karakteristika sustava ..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208600" y="2224080"/>
            <a:ext cx="4751640" cy="4123440"/>
            <a:chOff x="2208600" y="2224080"/>
            <a:chExt cx="4751640" cy="4123440"/>
          </a:xfrm>
        </p:grpSpPr>
        <p:sp>
          <p:nvSpPr>
            <p:cNvPr id="320" name=""/>
            <p:cNvSpPr/>
            <p:nvPr/>
          </p:nvSpPr>
          <p:spPr>
            <a:xfrm>
              <a:off x="2495520" y="2324160"/>
              <a:ext cx="1080" cy="3765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29560" y="2324160"/>
              <a:ext cx="1080" cy="3765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63600" y="2324160"/>
              <a:ext cx="1440" cy="3765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07720" y="2324160"/>
              <a:ext cx="1440" cy="3765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42120" y="2324160"/>
              <a:ext cx="1080" cy="3765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75080" y="2324160"/>
              <a:ext cx="1080" cy="3765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08760" y="2324160"/>
              <a:ext cx="1080" cy="3765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95520" y="6089760"/>
              <a:ext cx="441324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95520" y="5460840"/>
              <a:ext cx="441324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95520" y="4830840"/>
              <a:ext cx="441324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95520" y="4211640"/>
              <a:ext cx="441324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95520" y="3583080"/>
              <a:ext cx="441324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95520" y="2952720"/>
              <a:ext cx="441324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95520" y="2324160"/>
              <a:ext cx="441324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95520" y="2324160"/>
              <a:ext cx="4413240" cy="3765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0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95520" y="2324160"/>
              <a:ext cx="4413240" cy="3765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0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95520" y="2324160"/>
              <a:ext cx="4413240" cy="3765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0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95520" y="6089760"/>
              <a:ext cx="4413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95520" y="2324160"/>
              <a:ext cx="4413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495520" y="2324160"/>
              <a:ext cx="1080" cy="3765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908760" y="2324160"/>
              <a:ext cx="1080" cy="3765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95520" y="2324160"/>
              <a:ext cx="1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08760" y="6089760"/>
              <a:ext cx="1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95520" y="6089760"/>
              <a:ext cx="4413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495520" y="2324160"/>
              <a:ext cx="1080" cy="3765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95520" y="6089760"/>
              <a:ext cx="1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495520" y="6045120"/>
              <a:ext cx="1080" cy="44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95520" y="232416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45480" y="6134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229560" y="6045120"/>
              <a:ext cx="1080" cy="44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29560" y="232416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79520" y="6134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963600" y="6045120"/>
              <a:ext cx="1440" cy="44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63600" y="2324160"/>
              <a:ext cx="144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13560" y="6134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707720" y="6045120"/>
              <a:ext cx="1440" cy="44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07720" y="2324160"/>
              <a:ext cx="144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58040" y="6134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442120" y="6045120"/>
              <a:ext cx="1080" cy="44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42120" y="232416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92080" y="6134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175080" y="6045120"/>
              <a:ext cx="1080" cy="44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75080" y="232416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26480" y="6134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908760" y="6045120"/>
              <a:ext cx="1080" cy="44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08760" y="232416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60520" y="6134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95520" y="608976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869160" y="6089760"/>
              <a:ext cx="39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52960" y="598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5460840"/>
              <a:ext cx="406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869160" y="5460840"/>
              <a:ext cx="39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08600" y="53611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95520" y="483084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869160" y="4830840"/>
              <a:ext cx="39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08600" y="4730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95520" y="421164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869160" y="4211640"/>
              <a:ext cx="39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08600" y="41133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95520" y="358308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869160" y="3583080"/>
              <a:ext cx="39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08600" y="34830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95520" y="295272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869160" y="2952720"/>
              <a:ext cx="39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52960" y="285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95520" y="232416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6869160" y="2324160"/>
              <a:ext cx="39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08600" y="2224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95520" y="6089760"/>
              <a:ext cx="4413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95520" y="2324160"/>
              <a:ext cx="4413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495520" y="2324160"/>
              <a:ext cx="1080" cy="3765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908760" y="2324160"/>
              <a:ext cx="1080" cy="3765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95520" y="6089760"/>
              <a:ext cx="1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08760" y="2324160"/>
              <a:ext cx="1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95520" y="2952720"/>
              <a:ext cx="4402800" cy="3137040"/>
            </a:xfrm>
            <a:custGeom>
              <a:avLst/>
              <a:gdLst/>
              <a:ahLst/>
              <a:rect l="l" t="t" r="r" b="b"/>
              <a:pathLst>
                <a:path w="3005" h="1976">
                  <a:moveTo>
                    <a:pt x="0" y="216"/>
                  </a:moveTo>
                  <a:lnTo>
                    <a:pt x="7" y="216"/>
                  </a:lnTo>
                  <a:lnTo>
                    <a:pt x="14" y="216"/>
                  </a:lnTo>
                  <a:lnTo>
                    <a:pt x="14" y="209"/>
                  </a:lnTo>
                  <a:lnTo>
                    <a:pt x="21" y="209"/>
                  </a:lnTo>
                  <a:lnTo>
                    <a:pt x="28" y="209"/>
                  </a:lnTo>
                  <a:lnTo>
                    <a:pt x="28" y="202"/>
                  </a:lnTo>
                  <a:lnTo>
                    <a:pt x="35" y="202"/>
                  </a:lnTo>
                  <a:lnTo>
                    <a:pt x="35" y="195"/>
                  </a:lnTo>
                  <a:lnTo>
                    <a:pt x="42" y="195"/>
                  </a:lnTo>
                  <a:lnTo>
                    <a:pt x="42" y="188"/>
                  </a:lnTo>
                  <a:lnTo>
                    <a:pt x="49" y="188"/>
                  </a:lnTo>
                  <a:lnTo>
                    <a:pt x="49" y="181"/>
                  </a:lnTo>
                  <a:lnTo>
                    <a:pt x="56" y="174"/>
                  </a:lnTo>
                  <a:lnTo>
                    <a:pt x="56" y="167"/>
                  </a:lnTo>
                  <a:lnTo>
                    <a:pt x="63" y="167"/>
                  </a:lnTo>
                  <a:lnTo>
                    <a:pt x="63" y="160"/>
                  </a:lnTo>
                  <a:lnTo>
                    <a:pt x="63" y="153"/>
                  </a:lnTo>
                  <a:lnTo>
                    <a:pt x="69" y="153"/>
                  </a:lnTo>
                  <a:lnTo>
                    <a:pt x="69" y="146"/>
                  </a:lnTo>
                  <a:lnTo>
                    <a:pt x="76" y="146"/>
                  </a:lnTo>
                  <a:lnTo>
                    <a:pt x="76" y="139"/>
                  </a:lnTo>
                  <a:lnTo>
                    <a:pt x="76" y="132"/>
                  </a:lnTo>
                  <a:lnTo>
                    <a:pt x="83" y="132"/>
                  </a:lnTo>
                  <a:lnTo>
                    <a:pt x="83" y="125"/>
                  </a:lnTo>
                  <a:lnTo>
                    <a:pt x="83" y="119"/>
                  </a:lnTo>
                  <a:lnTo>
                    <a:pt x="90" y="112"/>
                  </a:lnTo>
                  <a:lnTo>
                    <a:pt x="90" y="105"/>
                  </a:lnTo>
                  <a:lnTo>
                    <a:pt x="90" y="98"/>
                  </a:lnTo>
                  <a:lnTo>
                    <a:pt x="97" y="98"/>
                  </a:lnTo>
                  <a:lnTo>
                    <a:pt x="97" y="91"/>
                  </a:lnTo>
                  <a:lnTo>
                    <a:pt x="97" y="84"/>
                  </a:lnTo>
                  <a:lnTo>
                    <a:pt x="104" y="84"/>
                  </a:lnTo>
                  <a:lnTo>
                    <a:pt x="104" y="77"/>
                  </a:lnTo>
                  <a:lnTo>
                    <a:pt x="104" y="70"/>
                  </a:lnTo>
                  <a:lnTo>
                    <a:pt x="111" y="70"/>
                  </a:lnTo>
                  <a:lnTo>
                    <a:pt x="111" y="63"/>
                  </a:lnTo>
                  <a:lnTo>
                    <a:pt x="111" y="56"/>
                  </a:lnTo>
                  <a:lnTo>
                    <a:pt x="118" y="49"/>
                  </a:lnTo>
                  <a:lnTo>
                    <a:pt x="118" y="42"/>
                  </a:lnTo>
                  <a:lnTo>
                    <a:pt x="118" y="35"/>
                  </a:lnTo>
                  <a:lnTo>
                    <a:pt x="125" y="35"/>
                  </a:lnTo>
                  <a:lnTo>
                    <a:pt x="125" y="28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2" y="14"/>
                  </a:lnTo>
                  <a:lnTo>
                    <a:pt x="139" y="14"/>
                  </a:lnTo>
                  <a:lnTo>
                    <a:pt x="139" y="7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0" y="0"/>
                  </a:lnTo>
                  <a:lnTo>
                    <a:pt x="160" y="7"/>
                  </a:lnTo>
                  <a:lnTo>
                    <a:pt x="167" y="7"/>
                  </a:lnTo>
                  <a:lnTo>
                    <a:pt x="167" y="14"/>
                  </a:lnTo>
                  <a:lnTo>
                    <a:pt x="167" y="21"/>
                  </a:lnTo>
                  <a:lnTo>
                    <a:pt x="174" y="28"/>
                  </a:lnTo>
                  <a:lnTo>
                    <a:pt x="174" y="35"/>
                  </a:lnTo>
                  <a:lnTo>
                    <a:pt x="174" y="42"/>
                  </a:lnTo>
                  <a:lnTo>
                    <a:pt x="174" y="49"/>
                  </a:lnTo>
                  <a:lnTo>
                    <a:pt x="181" y="49"/>
                  </a:lnTo>
                  <a:lnTo>
                    <a:pt x="181" y="56"/>
                  </a:lnTo>
                  <a:lnTo>
                    <a:pt x="181" y="63"/>
                  </a:lnTo>
                  <a:lnTo>
                    <a:pt x="181" y="70"/>
                  </a:lnTo>
                  <a:lnTo>
                    <a:pt x="181" y="77"/>
                  </a:lnTo>
                  <a:lnTo>
                    <a:pt x="181" y="84"/>
                  </a:lnTo>
                  <a:lnTo>
                    <a:pt x="188" y="91"/>
                  </a:lnTo>
                  <a:lnTo>
                    <a:pt x="188" y="98"/>
                  </a:lnTo>
                  <a:lnTo>
                    <a:pt x="188" y="105"/>
                  </a:lnTo>
                  <a:lnTo>
                    <a:pt x="188" y="112"/>
                  </a:lnTo>
                  <a:lnTo>
                    <a:pt x="188" y="119"/>
                  </a:lnTo>
                  <a:lnTo>
                    <a:pt x="188" y="125"/>
                  </a:lnTo>
                  <a:lnTo>
                    <a:pt x="188" y="132"/>
                  </a:lnTo>
                  <a:lnTo>
                    <a:pt x="195" y="132"/>
                  </a:lnTo>
                  <a:lnTo>
                    <a:pt x="195" y="139"/>
                  </a:lnTo>
                  <a:lnTo>
                    <a:pt x="195" y="146"/>
                  </a:lnTo>
                  <a:lnTo>
                    <a:pt x="195" y="153"/>
                  </a:lnTo>
                  <a:lnTo>
                    <a:pt x="195" y="160"/>
                  </a:lnTo>
                  <a:lnTo>
                    <a:pt x="195" y="167"/>
                  </a:lnTo>
                  <a:lnTo>
                    <a:pt x="195" y="174"/>
                  </a:lnTo>
                  <a:lnTo>
                    <a:pt x="195" y="181"/>
                  </a:lnTo>
                  <a:lnTo>
                    <a:pt x="195" y="188"/>
                  </a:lnTo>
                  <a:lnTo>
                    <a:pt x="202" y="195"/>
                  </a:lnTo>
                  <a:lnTo>
                    <a:pt x="202" y="202"/>
                  </a:lnTo>
                  <a:lnTo>
                    <a:pt x="202" y="209"/>
                  </a:lnTo>
                  <a:lnTo>
                    <a:pt x="202" y="216"/>
                  </a:lnTo>
                  <a:lnTo>
                    <a:pt x="202" y="223"/>
                  </a:lnTo>
                  <a:lnTo>
                    <a:pt x="202" y="230"/>
                  </a:lnTo>
                  <a:lnTo>
                    <a:pt x="202" y="237"/>
                  </a:lnTo>
                  <a:lnTo>
                    <a:pt x="202" y="244"/>
                  </a:lnTo>
                  <a:lnTo>
                    <a:pt x="202" y="251"/>
                  </a:lnTo>
                  <a:lnTo>
                    <a:pt x="202" y="258"/>
                  </a:lnTo>
                  <a:lnTo>
                    <a:pt x="209" y="258"/>
                  </a:lnTo>
                  <a:lnTo>
                    <a:pt x="209" y="265"/>
                  </a:lnTo>
                  <a:lnTo>
                    <a:pt x="209" y="272"/>
                  </a:lnTo>
                  <a:lnTo>
                    <a:pt x="209" y="279"/>
                  </a:lnTo>
                  <a:lnTo>
                    <a:pt x="209" y="285"/>
                  </a:lnTo>
                  <a:lnTo>
                    <a:pt x="209" y="292"/>
                  </a:lnTo>
                  <a:lnTo>
                    <a:pt x="209" y="299"/>
                  </a:lnTo>
                  <a:lnTo>
                    <a:pt x="209" y="306"/>
                  </a:lnTo>
                  <a:lnTo>
                    <a:pt x="209" y="313"/>
                  </a:lnTo>
                  <a:lnTo>
                    <a:pt x="209" y="320"/>
                  </a:lnTo>
                  <a:lnTo>
                    <a:pt x="209" y="327"/>
                  </a:lnTo>
                  <a:lnTo>
                    <a:pt x="216" y="334"/>
                  </a:lnTo>
                  <a:lnTo>
                    <a:pt x="216" y="341"/>
                  </a:lnTo>
                  <a:lnTo>
                    <a:pt x="216" y="348"/>
                  </a:lnTo>
                  <a:lnTo>
                    <a:pt x="216" y="355"/>
                  </a:lnTo>
                  <a:lnTo>
                    <a:pt x="216" y="362"/>
                  </a:lnTo>
                  <a:lnTo>
                    <a:pt x="216" y="369"/>
                  </a:lnTo>
                  <a:lnTo>
                    <a:pt x="216" y="376"/>
                  </a:lnTo>
                  <a:lnTo>
                    <a:pt x="216" y="383"/>
                  </a:lnTo>
                  <a:lnTo>
                    <a:pt x="216" y="390"/>
                  </a:lnTo>
                  <a:lnTo>
                    <a:pt x="216" y="397"/>
                  </a:lnTo>
                  <a:lnTo>
                    <a:pt x="216" y="404"/>
                  </a:lnTo>
                  <a:lnTo>
                    <a:pt x="216" y="411"/>
                  </a:lnTo>
                  <a:lnTo>
                    <a:pt x="223" y="418"/>
                  </a:lnTo>
                  <a:lnTo>
                    <a:pt x="223" y="425"/>
                  </a:lnTo>
                  <a:lnTo>
                    <a:pt x="223" y="432"/>
                  </a:lnTo>
                  <a:lnTo>
                    <a:pt x="223" y="439"/>
                  </a:lnTo>
                  <a:lnTo>
                    <a:pt x="223" y="445"/>
                  </a:lnTo>
                  <a:lnTo>
                    <a:pt x="223" y="452"/>
                  </a:lnTo>
                  <a:lnTo>
                    <a:pt x="223" y="459"/>
                  </a:lnTo>
                  <a:lnTo>
                    <a:pt x="223" y="466"/>
                  </a:lnTo>
                  <a:lnTo>
                    <a:pt x="223" y="473"/>
                  </a:lnTo>
                  <a:lnTo>
                    <a:pt x="223" y="480"/>
                  </a:lnTo>
                  <a:lnTo>
                    <a:pt x="223" y="487"/>
                  </a:lnTo>
                  <a:lnTo>
                    <a:pt x="223" y="494"/>
                  </a:lnTo>
                  <a:lnTo>
                    <a:pt x="223" y="501"/>
                  </a:lnTo>
                  <a:lnTo>
                    <a:pt x="223" y="508"/>
                  </a:lnTo>
                  <a:lnTo>
                    <a:pt x="230" y="515"/>
                  </a:lnTo>
                  <a:lnTo>
                    <a:pt x="230" y="522"/>
                  </a:lnTo>
                  <a:lnTo>
                    <a:pt x="230" y="529"/>
                  </a:lnTo>
                  <a:lnTo>
                    <a:pt x="230" y="536"/>
                  </a:lnTo>
                  <a:lnTo>
                    <a:pt x="230" y="543"/>
                  </a:lnTo>
                  <a:lnTo>
                    <a:pt x="230" y="550"/>
                  </a:lnTo>
                  <a:lnTo>
                    <a:pt x="230" y="557"/>
                  </a:lnTo>
                  <a:lnTo>
                    <a:pt x="230" y="564"/>
                  </a:lnTo>
                  <a:lnTo>
                    <a:pt x="230" y="571"/>
                  </a:lnTo>
                  <a:lnTo>
                    <a:pt x="230" y="578"/>
                  </a:lnTo>
                  <a:lnTo>
                    <a:pt x="230" y="585"/>
                  </a:lnTo>
                  <a:lnTo>
                    <a:pt x="230" y="592"/>
                  </a:lnTo>
                  <a:lnTo>
                    <a:pt x="230" y="599"/>
                  </a:lnTo>
                  <a:lnTo>
                    <a:pt x="236" y="606"/>
                  </a:lnTo>
                  <a:lnTo>
                    <a:pt x="236" y="612"/>
                  </a:lnTo>
                  <a:lnTo>
                    <a:pt x="236" y="619"/>
                  </a:lnTo>
                  <a:lnTo>
                    <a:pt x="236" y="626"/>
                  </a:lnTo>
                  <a:lnTo>
                    <a:pt x="236" y="633"/>
                  </a:lnTo>
                  <a:lnTo>
                    <a:pt x="236" y="640"/>
                  </a:lnTo>
                  <a:lnTo>
                    <a:pt x="236" y="647"/>
                  </a:lnTo>
                  <a:lnTo>
                    <a:pt x="236" y="654"/>
                  </a:lnTo>
                  <a:lnTo>
                    <a:pt x="236" y="661"/>
                  </a:lnTo>
                  <a:lnTo>
                    <a:pt x="236" y="668"/>
                  </a:lnTo>
                  <a:lnTo>
                    <a:pt x="236" y="675"/>
                  </a:lnTo>
                  <a:lnTo>
                    <a:pt x="236" y="682"/>
                  </a:lnTo>
                  <a:lnTo>
                    <a:pt x="236" y="689"/>
                  </a:lnTo>
                  <a:lnTo>
                    <a:pt x="243" y="696"/>
                  </a:lnTo>
                  <a:lnTo>
                    <a:pt x="243" y="703"/>
                  </a:lnTo>
                  <a:lnTo>
                    <a:pt x="243" y="710"/>
                  </a:lnTo>
                  <a:lnTo>
                    <a:pt x="243" y="717"/>
                  </a:lnTo>
                  <a:lnTo>
                    <a:pt x="243" y="724"/>
                  </a:lnTo>
                  <a:lnTo>
                    <a:pt x="243" y="731"/>
                  </a:lnTo>
                  <a:lnTo>
                    <a:pt x="243" y="738"/>
                  </a:lnTo>
                  <a:lnTo>
                    <a:pt x="243" y="745"/>
                  </a:lnTo>
                  <a:lnTo>
                    <a:pt x="243" y="752"/>
                  </a:lnTo>
                  <a:lnTo>
                    <a:pt x="243" y="759"/>
                  </a:lnTo>
                  <a:lnTo>
                    <a:pt x="243" y="766"/>
                  </a:lnTo>
                  <a:lnTo>
                    <a:pt x="243" y="772"/>
                  </a:lnTo>
                  <a:lnTo>
                    <a:pt x="243" y="779"/>
                  </a:lnTo>
                  <a:lnTo>
                    <a:pt x="250" y="786"/>
                  </a:lnTo>
                  <a:lnTo>
                    <a:pt x="250" y="793"/>
                  </a:lnTo>
                  <a:lnTo>
                    <a:pt x="250" y="800"/>
                  </a:lnTo>
                  <a:lnTo>
                    <a:pt x="250" y="807"/>
                  </a:lnTo>
                  <a:lnTo>
                    <a:pt x="250" y="814"/>
                  </a:lnTo>
                  <a:lnTo>
                    <a:pt x="250" y="821"/>
                  </a:lnTo>
                  <a:lnTo>
                    <a:pt x="250" y="828"/>
                  </a:lnTo>
                  <a:lnTo>
                    <a:pt x="250" y="835"/>
                  </a:lnTo>
                  <a:lnTo>
                    <a:pt x="250" y="842"/>
                  </a:lnTo>
                  <a:lnTo>
                    <a:pt x="250" y="849"/>
                  </a:lnTo>
                  <a:lnTo>
                    <a:pt x="250" y="856"/>
                  </a:lnTo>
                  <a:lnTo>
                    <a:pt x="250" y="863"/>
                  </a:lnTo>
                  <a:lnTo>
                    <a:pt x="250" y="870"/>
                  </a:lnTo>
                  <a:lnTo>
                    <a:pt x="257" y="877"/>
                  </a:lnTo>
                  <a:lnTo>
                    <a:pt x="257" y="884"/>
                  </a:lnTo>
                  <a:lnTo>
                    <a:pt x="257" y="891"/>
                  </a:lnTo>
                  <a:lnTo>
                    <a:pt x="257" y="898"/>
                  </a:lnTo>
                  <a:lnTo>
                    <a:pt x="257" y="905"/>
                  </a:lnTo>
                  <a:lnTo>
                    <a:pt x="257" y="912"/>
                  </a:lnTo>
                  <a:lnTo>
                    <a:pt x="257" y="919"/>
                  </a:lnTo>
                  <a:lnTo>
                    <a:pt x="257" y="926"/>
                  </a:lnTo>
                  <a:lnTo>
                    <a:pt x="257" y="932"/>
                  </a:lnTo>
                  <a:lnTo>
                    <a:pt x="257" y="939"/>
                  </a:lnTo>
                  <a:lnTo>
                    <a:pt x="257" y="946"/>
                  </a:lnTo>
                  <a:lnTo>
                    <a:pt x="257" y="953"/>
                  </a:lnTo>
                  <a:lnTo>
                    <a:pt x="257" y="960"/>
                  </a:lnTo>
                  <a:lnTo>
                    <a:pt x="257" y="967"/>
                  </a:lnTo>
                  <a:lnTo>
                    <a:pt x="264" y="967"/>
                  </a:lnTo>
                  <a:lnTo>
                    <a:pt x="264" y="974"/>
                  </a:lnTo>
                  <a:lnTo>
                    <a:pt x="264" y="981"/>
                  </a:lnTo>
                  <a:lnTo>
                    <a:pt x="264" y="988"/>
                  </a:lnTo>
                  <a:lnTo>
                    <a:pt x="264" y="995"/>
                  </a:lnTo>
                  <a:lnTo>
                    <a:pt x="264" y="1002"/>
                  </a:lnTo>
                  <a:lnTo>
                    <a:pt x="264" y="1009"/>
                  </a:lnTo>
                  <a:lnTo>
                    <a:pt x="264" y="1016"/>
                  </a:lnTo>
                  <a:lnTo>
                    <a:pt x="264" y="1023"/>
                  </a:lnTo>
                  <a:lnTo>
                    <a:pt x="264" y="1030"/>
                  </a:lnTo>
                  <a:lnTo>
                    <a:pt x="264" y="1037"/>
                  </a:lnTo>
                  <a:lnTo>
                    <a:pt x="264" y="1044"/>
                  </a:lnTo>
                  <a:lnTo>
                    <a:pt x="271" y="1051"/>
                  </a:lnTo>
                  <a:lnTo>
                    <a:pt x="271" y="1058"/>
                  </a:lnTo>
                  <a:lnTo>
                    <a:pt x="271" y="1065"/>
                  </a:lnTo>
                  <a:lnTo>
                    <a:pt x="271" y="1072"/>
                  </a:lnTo>
                  <a:lnTo>
                    <a:pt x="271" y="1079"/>
                  </a:lnTo>
                  <a:lnTo>
                    <a:pt x="271" y="1086"/>
                  </a:lnTo>
                  <a:lnTo>
                    <a:pt x="271" y="1093"/>
                  </a:lnTo>
                  <a:lnTo>
                    <a:pt x="271" y="1099"/>
                  </a:lnTo>
                  <a:lnTo>
                    <a:pt x="271" y="1106"/>
                  </a:lnTo>
                  <a:lnTo>
                    <a:pt x="271" y="1113"/>
                  </a:lnTo>
                  <a:lnTo>
                    <a:pt x="271" y="1120"/>
                  </a:lnTo>
                  <a:lnTo>
                    <a:pt x="271" y="1127"/>
                  </a:lnTo>
                  <a:lnTo>
                    <a:pt x="278" y="1127"/>
                  </a:lnTo>
                  <a:lnTo>
                    <a:pt x="278" y="1134"/>
                  </a:lnTo>
                  <a:lnTo>
                    <a:pt x="278" y="1141"/>
                  </a:lnTo>
                  <a:lnTo>
                    <a:pt x="278" y="1148"/>
                  </a:lnTo>
                  <a:lnTo>
                    <a:pt x="278" y="1155"/>
                  </a:lnTo>
                  <a:lnTo>
                    <a:pt x="278" y="1162"/>
                  </a:lnTo>
                  <a:lnTo>
                    <a:pt x="278" y="1169"/>
                  </a:lnTo>
                  <a:lnTo>
                    <a:pt x="278" y="1176"/>
                  </a:lnTo>
                  <a:lnTo>
                    <a:pt x="278" y="1183"/>
                  </a:lnTo>
                  <a:lnTo>
                    <a:pt x="278" y="1190"/>
                  </a:lnTo>
                  <a:lnTo>
                    <a:pt x="278" y="1197"/>
                  </a:lnTo>
                  <a:lnTo>
                    <a:pt x="285" y="1204"/>
                  </a:lnTo>
                  <a:lnTo>
                    <a:pt x="285" y="1211"/>
                  </a:lnTo>
                  <a:lnTo>
                    <a:pt x="285" y="1218"/>
                  </a:lnTo>
                  <a:lnTo>
                    <a:pt x="285" y="1225"/>
                  </a:lnTo>
                  <a:lnTo>
                    <a:pt x="285" y="1232"/>
                  </a:lnTo>
                  <a:lnTo>
                    <a:pt x="285" y="1239"/>
                  </a:lnTo>
                  <a:lnTo>
                    <a:pt x="285" y="1246"/>
                  </a:lnTo>
                  <a:lnTo>
                    <a:pt x="285" y="1253"/>
                  </a:lnTo>
                  <a:lnTo>
                    <a:pt x="285" y="1259"/>
                  </a:lnTo>
                  <a:lnTo>
                    <a:pt x="285" y="1266"/>
                  </a:lnTo>
                  <a:lnTo>
                    <a:pt x="292" y="1273"/>
                  </a:lnTo>
                  <a:lnTo>
                    <a:pt x="292" y="1280"/>
                  </a:lnTo>
                  <a:lnTo>
                    <a:pt x="292" y="1287"/>
                  </a:lnTo>
                  <a:lnTo>
                    <a:pt x="292" y="1294"/>
                  </a:lnTo>
                  <a:lnTo>
                    <a:pt x="292" y="1301"/>
                  </a:lnTo>
                  <a:lnTo>
                    <a:pt x="292" y="1308"/>
                  </a:lnTo>
                  <a:lnTo>
                    <a:pt x="292" y="1315"/>
                  </a:lnTo>
                  <a:lnTo>
                    <a:pt x="292" y="1322"/>
                  </a:lnTo>
                  <a:lnTo>
                    <a:pt x="292" y="1329"/>
                  </a:lnTo>
                  <a:lnTo>
                    <a:pt x="292" y="1336"/>
                  </a:lnTo>
                  <a:lnTo>
                    <a:pt x="299" y="1336"/>
                  </a:lnTo>
                  <a:lnTo>
                    <a:pt x="299" y="1343"/>
                  </a:lnTo>
                  <a:lnTo>
                    <a:pt x="299" y="1350"/>
                  </a:lnTo>
                  <a:lnTo>
                    <a:pt x="299" y="1357"/>
                  </a:lnTo>
                  <a:lnTo>
                    <a:pt x="299" y="1364"/>
                  </a:lnTo>
                  <a:lnTo>
                    <a:pt x="299" y="1371"/>
                  </a:lnTo>
                  <a:lnTo>
                    <a:pt x="299" y="1378"/>
                  </a:lnTo>
                  <a:lnTo>
                    <a:pt x="299" y="1385"/>
                  </a:lnTo>
                  <a:lnTo>
                    <a:pt x="299" y="1392"/>
                  </a:lnTo>
                  <a:lnTo>
                    <a:pt x="306" y="1399"/>
                  </a:lnTo>
                  <a:lnTo>
                    <a:pt x="306" y="1406"/>
                  </a:lnTo>
                  <a:lnTo>
                    <a:pt x="306" y="1413"/>
                  </a:lnTo>
                  <a:lnTo>
                    <a:pt x="306" y="1419"/>
                  </a:lnTo>
                  <a:lnTo>
                    <a:pt x="306" y="1426"/>
                  </a:lnTo>
                  <a:lnTo>
                    <a:pt x="306" y="1433"/>
                  </a:lnTo>
                  <a:lnTo>
                    <a:pt x="306" y="1440"/>
                  </a:lnTo>
                  <a:lnTo>
                    <a:pt x="306" y="1447"/>
                  </a:lnTo>
                  <a:lnTo>
                    <a:pt x="313" y="1447"/>
                  </a:lnTo>
                  <a:lnTo>
                    <a:pt x="313" y="1454"/>
                  </a:lnTo>
                  <a:lnTo>
                    <a:pt x="313" y="1461"/>
                  </a:lnTo>
                  <a:lnTo>
                    <a:pt x="313" y="1468"/>
                  </a:lnTo>
                  <a:lnTo>
                    <a:pt x="313" y="1475"/>
                  </a:lnTo>
                  <a:lnTo>
                    <a:pt x="313" y="1482"/>
                  </a:lnTo>
                  <a:lnTo>
                    <a:pt x="313" y="1489"/>
                  </a:lnTo>
                  <a:lnTo>
                    <a:pt x="313" y="1496"/>
                  </a:lnTo>
                  <a:lnTo>
                    <a:pt x="320" y="1503"/>
                  </a:lnTo>
                  <a:lnTo>
                    <a:pt x="320" y="1510"/>
                  </a:lnTo>
                  <a:lnTo>
                    <a:pt x="320" y="1517"/>
                  </a:lnTo>
                  <a:lnTo>
                    <a:pt x="320" y="1524"/>
                  </a:lnTo>
                  <a:lnTo>
                    <a:pt x="320" y="1531"/>
                  </a:lnTo>
                  <a:lnTo>
                    <a:pt x="320" y="1538"/>
                  </a:lnTo>
                  <a:lnTo>
                    <a:pt x="320" y="1545"/>
                  </a:lnTo>
                  <a:lnTo>
                    <a:pt x="327" y="1545"/>
                  </a:lnTo>
                  <a:lnTo>
                    <a:pt x="327" y="1552"/>
                  </a:lnTo>
                  <a:lnTo>
                    <a:pt x="327" y="1559"/>
                  </a:lnTo>
                  <a:lnTo>
                    <a:pt x="327" y="1566"/>
                  </a:lnTo>
                  <a:lnTo>
                    <a:pt x="327" y="1573"/>
                  </a:lnTo>
                  <a:lnTo>
                    <a:pt x="327" y="1580"/>
                  </a:lnTo>
                  <a:lnTo>
                    <a:pt x="327" y="1586"/>
                  </a:lnTo>
                  <a:lnTo>
                    <a:pt x="334" y="1586"/>
                  </a:lnTo>
                  <a:lnTo>
                    <a:pt x="334" y="1593"/>
                  </a:lnTo>
                  <a:lnTo>
                    <a:pt x="334" y="1600"/>
                  </a:lnTo>
                  <a:lnTo>
                    <a:pt x="334" y="1607"/>
                  </a:lnTo>
                  <a:lnTo>
                    <a:pt x="334" y="1614"/>
                  </a:lnTo>
                  <a:lnTo>
                    <a:pt x="334" y="1621"/>
                  </a:lnTo>
                  <a:lnTo>
                    <a:pt x="334" y="1628"/>
                  </a:lnTo>
                  <a:lnTo>
                    <a:pt x="341" y="1628"/>
                  </a:lnTo>
                  <a:lnTo>
                    <a:pt x="341" y="1635"/>
                  </a:lnTo>
                  <a:lnTo>
                    <a:pt x="341" y="1642"/>
                  </a:lnTo>
                  <a:lnTo>
                    <a:pt x="341" y="1649"/>
                  </a:lnTo>
                  <a:lnTo>
                    <a:pt x="341" y="1656"/>
                  </a:lnTo>
                  <a:lnTo>
                    <a:pt x="341" y="1663"/>
                  </a:lnTo>
                  <a:lnTo>
                    <a:pt x="348" y="1670"/>
                  </a:lnTo>
                  <a:lnTo>
                    <a:pt x="348" y="1677"/>
                  </a:lnTo>
                  <a:lnTo>
                    <a:pt x="348" y="1684"/>
                  </a:lnTo>
                  <a:lnTo>
                    <a:pt x="348" y="1691"/>
                  </a:lnTo>
                  <a:lnTo>
                    <a:pt x="348" y="1698"/>
                  </a:lnTo>
                  <a:lnTo>
                    <a:pt x="355" y="1698"/>
                  </a:lnTo>
                  <a:lnTo>
                    <a:pt x="355" y="1705"/>
                  </a:lnTo>
                  <a:lnTo>
                    <a:pt x="355" y="1712"/>
                  </a:lnTo>
                  <a:lnTo>
                    <a:pt x="355" y="1719"/>
                  </a:lnTo>
                  <a:lnTo>
                    <a:pt x="355" y="1726"/>
                  </a:lnTo>
                  <a:lnTo>
                    <a:pt x="362" y="1733"/>
                  </a:lnTo>
                  <a:lnTo>
                    <a:pt x="362" y="1740"/>
                  </a:lnTo>
                  <a:lnTo>
                    <a:pt x="362" y="1746"/>
                  </a:lnTo>
                  <a:lnTo>
                    <a:pt x="362" y="1753"/>
                  </a:lnTo>
                  <a:lnTo>
                    <a:pt x="369" y="1760"/>
                  </a:lnTo>
                  <a:lnTo>
                    <a:pt x="369" y="1767"/>
                  </a:lnTo>
                  <a:lnTo>
                    <a:pt x="369" y="1774"/>
                  </a:lnTo>
                  <a:lnTo>
                    <a:pt x="369" y="1781"/>
                  </a:lnTo>
                  <a:lnTo>
                    <a:pt x="376" y="1788"/>
                  </a:lnTo>
                  <a:lnTo>
                    <a:pt x="376" y="1795"/>
                  </a:lnTo>
                  <a:lnTo>
                    <a:pt x="376" y="1802"/>
                  </a:lnTo>
                  <a:lnTo>
                    <a:pt x="376" y="1809"/>
                  </a:lnTo>
                  <a:lnTo>
                    <a:pt x="383" y="1809"/>
                  </a:lnTo>
                  <a:lnTo>
                    <a:pt x="383" y="1816"/>
                  </a:lnTo>
                  <a:lnTo>
                    <a:pt x="383" y="1823"/>
                  </a:lnTo>
                  <a:lnTo>
                    <a:pt x="383" y="1830"/>
                  </a:lnTo>
                  <a:lnTo>
                    <a:pt x="390" y="1830"/>
                  </a:lnTo>
                  <a:lnTo>
                    <a:pt x="390" y="1837"/>
                  </a:lnTo>
                  <a:lnTo>
                    <a:pt x="390" y="1844"/>
                  </a:lnTo>
                  <a:lnTo>
                    <a:pt x="390" y="1851"/>
                  </a:lnTo>
                  <a:lnTo>
                    <a:pt x="396" y="1851"/>
                  </a:lnTo>
                  <a:lnTo>
                    <a:pt x="396" y="1858"/>
                  </a:lnTo>
                  <a:lnTo>
                    <a:pt x="396" y="1865"/>
                  </a:lnTo>
                  <a:lnTo>
                    <a:pt x="403" y="1865"/>
                  </a:lnTo>
                  <a:lnTo>
                    <a:pt x="403" y="1872"/>
                  </a:lnTo>
                  <a:lnTo>
                    <a:pt x="403" y="1879"/>
                  </a:lnTo>
                  <a:lnTo>
                    <a:pt x="403" y="1886"/>
                  </a:lnTo>
                  <a:lnTo>
                    <a:pt x="410" y="1886"/>
                  </a:lnTo>
                  <a:lnTo>
                    <a:pt x="410" y="1893"/>
                  </a:lnTo>
                  <a:lnTo>
                    <a:pt x="410" y="1900"/>
                  </a:lnTo>
                  <a:lnTo>
                    <a:pt x="417" y="1900"/>
                  </a:lnTo>
                  <a:lnTo>
                    <a:pt x="417" y="1906"/>
                  </a:lnTo>
                  <a:lnTo>
                    <a:pt x="417" y="1913"/>
                  </a:lnTo>
                  <a:lnTo>
                    <a:pt x="424" y="1913"/>
                  </a:lnTo>
                  <a:lnTo>
                    <a:pt x="424" y="1920"/>
                  </a:lnTo>
                  <a:lnTo>
                    <a:pt x="431" y="1927"/>
                  </a:lnTo>
                  <a:lnTo>
                    <a:pt x="431" y="1934"/>
                  </a:lnTo>
                  <a:lnTo>
                    <a:pt x="438" y="1934"/>
                  </a:lnTo>
                  <a:lnTo>
                    <a:pt x="438" y="1941"/>
                  </a:lnTo>
                  <a:lnTo>
                    <a:pt x="445" y="1948"/>
                  </a:lnTo>
                  <a:lnTo>
                    <a:pt x="445" y="1955"/>
                  </a:lnTo>
                  <a:lnTo>
                    <a:pt x="452" y="1955"/>
                  </a:lnTo>
                  <a:lnTo>
                    <a:pt x="452" y="1962"/>
                  </a:lnTo>
                  <a:lnTo>
                    <a:pt x="459" y="1962"/>
                  </a:lnTo>
                  <a:lnTo>
                    <a:pt x="459" y="1969"/>
                  </a:lnTo>
                  <a:lnTo>
                    <a:pt x="466" y="1969"/>
                  </a:lnTo>
                  <a:lnTo>
                    <a:pt x="473" y="1969"/>
                  </a:lnTo>
                  <a:lnTo>
                    <a:pt x="473" y="1976"/>
                  </a:lnTo>
                  <a:lnTo>
                    <a:pt x="480" y="1976"/>
                  </a:lnTo>
                  <a:lnTo>
                    <a:pt x="487" y="1976"/>
                  </a:lnTo>
                  <a:lnTo>
                    <a:pt x="487" y="1969"/>
                  </a:lnTo>
                  <a:lnTo>
                    <a:pt x="494" y="1969"/>
                  </a:lnTo>
                  <a:lnTo>
                    <a:pt x="501" y="1969"/>
                  </a:lnTo>
                  <a:lnTo>
                    <a:pt x="508" y="1969"/>
                  </a:lnTo>
                  <a:lnTo>
                    <a:pt x="515" y="1969"/>
                  </a:lnTo>
                  <a:lnTo>
                    <a:pt x="522" y="1976"/>
                  </a:lnTo>
                  <a:lnTo>
                    <a:pt x="529" y="1976"/>
                  </a:lnTo>
                  <a:lnTo>
                    <a:pt x="536" y="1976"/>
                  </a:lnTo>
                  <a:lnTo>
                    <a:pt x="536" y="1969"/>
                  </a:lnTo>
                  <a:lnTo>
                    <a:pt x="543" y="1969"/>
                  </a:lnTo>
                  <a:lnTo>
                    <a:pt x="543" y="1962"/>
                  </a:lnTo>
                  <a:lnTo>
                    <a:pt x="550" y="1962"/>
                  </a:lnTo>
                  <a:lnTo>
                    <a:pt x="550" y="1955"/>
                  </a:lnTo>
                  <a:lnTo>
                    <a:pt x="556" y="1955"/>
                  </a:lnTo>
                  <a:lnTo>
                    <a:pt x="556" y="1948"/>
                  </a:lnTo>
                  <a:lnTo>
                    <a:pt x="563" y="1948"/>
                  </a:lnTo>
                  <a:lnTo>
                    <a:pt x="563" y="1941"/>
                  </a:lnTo>
                  <a:lnTo>
                    <a:pt x="570" y="1941"/>
                  </a:lnTo>
                  <a:lnTo>
                    <a:pt x="570" y="1934"/>
                  </a:lnTo>
                  <a:lnTo>
                    <a:pt x="570" y="1927"/>
                  </a:lnTo>
                  <a:lnTo>
                    <a:pt x="577" y="1927"/>
                  </a:lnTo>
                  <a:lnTo>
                    <a:pt x="577" y="1920"/>
                  </a:lnTo>
                  <a:lnTo>
                    <a:pt x="577" y="1913"/>
                  </a:lnTo>
                  <a:lnTo>
                    <a:pt x="584" y="1913"/>
                  </a:lnTo>
                  <a:lnTo>
                    <a:pt x="584" y="1906"/>
                  </a:lnTo>
                  <a:lnTo>
                    <a:pt x="591" y="1900"/>
                  </a:lnTo>
                  <a:lnTo>
                    <a:pt x="591" y="1893"/>
                  </a:lnTo>
                  <a:lnTo>
                    <a:pt x="591" y="1886"/>
                  </a:lnTo>
                  <a:lnTo>
                    <a:pt x="598" y="1886"/>
                  </a:lnTo>
                  <a:lnTo>
                    <a:pt x="598" y="1879"/>
                  </a:lnTo>
                  <a:lnTo>
                    <a:pt x="598" y="1872"/>
                  </a:lnTo>
                  <a:lnTo>
                    <a:pt x="605" y="1872"/>
                  </a:lnTo>
                  <a:lnTo>
                    <a:pt x="605" y="1865"/>
                  </a:lnTo>
                  <a:lnTo>
                    <a:pt x="605" y="1858"/>
                  </a:lnTo>
                  <a:lnTo>
                    <a:pt x="612" y="1858"/>
                  </a:lnTo>
                  <a:lnTo>
                    <a:pt x="612" y="1851"/>
                  </a:lnTo>
                  <a:lnTo>
                    <a:pt x="612" y="1844"/>
                  </a:lnTo>
                  <a:lnTo>
                    <a:pt x="612" y="1837"/>
                  </a:lnTo>
                  <a:lnTo>
                    <a:pt x="619" y="1837"/>
                  </a:lnTo>
                  <a:lnTo>
                    <a:pt x="619" y="1830"/>
                  </a:lnTo>
                  <a:lnTo>
                    <a:pt x="619" y="1823"/>
                  </a:lnTo>
                  <a:lnTo>
                    <a:pt x="619" y="1816"/>
                  </a:lnTo>
                  <a:lnTo>
                    <a:pt x="626" y="1816"/>
                  </a:lnTo>
                  <a:lnTo>
                    <a:pt x="626" y="1809"/>
                  </a:lnTo>
                  <a:lnTo>
                    <a:pt x="626" y="1802"/>
                  </a:lnTo>
                  <a:lnTo>
                    <a:pt x="626" y="1795"/>
                  </a:lnTo>
                  <a:lnTo>
                    <a:pt x="633" y="1788"/>
                  </a:lnTo>
                  <a:lnTo>
                    <a:pt x="633" y="1781"/>
                  </a:lnTo>
                  <a:lnTo>
                    <a:pt x="633" y="1774"/>
                  </a:lnTo>
                  <a:lnTo>
                    <a:pt x="633" y="1767"/>
                  </a:lnTo>
                  <a:lnTo>
                    <a:pt x="640" y="1767"/>
                  </a:lnTo>
                  <a:lnTo>
                    <a:pt x="640" y="1760"/>
                  </a:lnTo>
                  <a:lnTo>
                    <a:pt x="640" y="1753"/>
                  </a:lnTo>
                  <a:lnTo>
                    <a:pt x="640" y="1746"/>
                  </a:lnTo>
                  <a:lnTo>
                    <a:pt x="640" y="1740"/>
                  </a:lnTo>
                  <a:lnTo>
                    <a:pt x="647" y="1740"/>
                  </a:lnTo>
                  <a:lnTo>
                    <a:pt x="647" y="1733"/>
                  </a:lnTo>
                  <a:lnTo>
                    <a:pt x="647" y="1726"/>
                  </a:lnTo>
                  <a:lnTo>
                    <a:pt x="647" y="1719"/>
                  </a:lnTo>
                  <a:lnTo>
                    <a:pt x="647" y="1712"/>
                  </a:lnTo>
                  <a:lnTo>
                    <a:pt x="654" y="1712"/>
                  </a:lnTo>
                  <a:lnTo>
                    <a:pt x="654" y="1705"/>
                  </a:lnTo>
                  <a:lnTo>
                    <a:pt x="654" y="1698"/>
                  </a:lnTo>
                  <a:lnTo>
                    <a:pt x="654" y="1691"/>
                  </a:lnTo>
                  <a:lnTo>
                    <a:pt x="654" y="1684"/>
                  </a:lnTo>
                  <a:lnTo>
                    <a:pt x="654" y="1677"/>
                  </a:lnTo>
                  <a:lnTo>
                    <a:pt x="661" y="1677"/>
                  </a:lnTo>
                  <a:lnTo>
                    <a:pt x="661" y="1670"/>
                  </a:lnTo>
                  <a:lnTo>
                    <a:pt x="661" y="1663"/>
                  </a:lnTo>
                  <a:lnTo>
                    <a:pt x="661" y="1656"/>
                  </a:lnTo>
                  <a:lnTo>
                    <a:pt x="661" y="1649"/>
                  </a:lnTo>
                  <a:lnTo>
                    <a:pt x="661" y="1642"/>
                  </a:lnTo>
                  <a:lnTo>
                    <a:pt x="668" y="1642"/>
                  </a:lnTo>
                  <a:lnTo>
                    <a:pt x="668" y="1635"/>
                  </a:lnTo>
                  <a:lnTo>
                    <a:pt x="668" y="1628"/>
                  </a:lnTo>
                  <a:lnTo>
                    <a:pt x="668" y="1621"/>
                  </a:lnTo>
                  <a:lnTo>
                    <a:pt x="668" y="1614"/>
                  </a:lnTo>
                  <a:lnTo>
                    <a:pt x="668" y="1607"/>
                  </a:lnTo>
                  <a:lnTo>
                    <a:pt x="668" y="1600"/>
                  </a:lnTo>
                  <a:lnTo>
                    <a:pt x="675" y="1600"/>
                  </a:lnTo>
                  <a:lnTo>
                    <a:pt x="675" y="1593"/>
                  </a:lnTo>
                  <a:lnTo>
                    <a:pt x="675" y="1586"/>
                  </a:lnTo>
                  <a:lnTo>
                    <a:pt x="675" y="1580"/>
                  </a:lnTo>
                  <a:lnTo>
                    <a:pt x="675" y="1573"/>
                  </a:lnTo>
                  <a:lnTo>
                    <a:pt x="675" y="1566"/>
                  </a:lnTo>
                  <a:lnTo>
                    <a:pt x="682" y="1559"/>
                  </a:lnTo>
                  <a:lnTo>
                    <a:pt x="682" y="1552"/>
                  </a:lnTo>
                  <a:lnTo>
                    <a:pt x="682" y="1545"/>
                  </a:lnTo>
                  <a:lnTo>
                    <a:pt x="682" y="1538"/>
                  </a:lnTo>
                  <a:lnTo>
                    <a:pt x="682" y="1531"/>
                  </a:lnTo>
                  <a:lnTo>
                    <a:pt x="682" y="1524"/>
                  </a:lnTo>
                  <a:lnTo>
                    <a:pt x="682" y="1517"/>
                  </a:lnTo>
                  <a:lnTo>
                    <a:pt x="689" y="1517"/>
                  </a:lnTo>
                  <a:lnTo>
                    <a:pt x="689" y="1510"/>
                  </a:lnTo>
                  <a:lnTo>
                    <a:pt x="689" y="1503"/>
                  </a:lnTo>
                  <a:lnTo>
                    <a:pt x="689" y="1496"/>
                  </a:lnTo>
                  <a:lnTo>
                    <a:pt x="689" y="1489"/>
                  </a:lnTo>
                  <a:lnTo>
                    <a:pt x="689" y="1482"/>
                  </a:lnTo>
                  <a:lnTo>
                    <a:pt x="689" y="1475"/>
                  </a:lnTo>
                  <a:lnTo>
                    <a:pt x="689" y="1468"/>
                  </a:lnTo>
                  <a:lnTo>
                    <a:pt x="696" y="1468"/>
                  </a:lnTo>
                  <a:lnTo>
                    <a:pt x="696" y="1461"/>
                  </a:lnTo>
                  <a:lnTo>
                    <a:pt x="696" y="1454"/>
                  </a:lnTo>
                  <a:lnTo>
                    <a:pt x="696" y="1447"/>
                  </a:lnTo>
                  <a:lnTo>
                    <a:pt x="696" y="1440"/>
                  </a:lnTo>
                  <a:lnTo>
                    <a:pt x="696" y="1433"/>
                  </a:lnTo>
                  <a:lnTo>
                    <a:pt x="696" y="1426"/>
                  </a:lnTo>
                  <a:lnTo>
                    <a:pt x="696" y="1419"/>
                  </a:lnTo>
                  <a:lnTo>
                    <a:pt x="696" y="1413"/>
                  </a:lnTo>
                  <a:lnTo>
                    <a:pt x="703" y="1406"/>
                  </a:lnTo>
                  <a:lnTo>
                    <a:pt x="703" y="1399"/>
                  </a:lnTo>
                  <a:lnTo>
                    <a:pt x="703" y="1392"/>
                  </a:lnTo>
                  <a:lnTo>
                    <a:pt x="703" y="1385"/>
                  </a:lnTo>
                  <a:lnTo>
                    <a:pt x="703" y="1378"/>
                  </a:lnTo>
                  <a:lnTo>
                    <a:pt x="703" y="1371"/>
                  </a:lnTo>
                  <a:lnTo>
                    <a:pt x="703" y="1364"/>
                  </a:lnTo>
                  <a:lnTo>
                    <a:pt x="703" y="1357"/>
                  </a:lnTo>
                  <a:lnTo>
                    <a:pt x="710" y="1350"/>
                  </a:lnTo>
                  <a:lnTo>
                    <a:pt x="710" y="1343"/>
                  </a:lnTo>
                  <a:lnTo>
                    <a:pt x="710" y="1336"/>
                  </a:lnTo>
                  <a:lnTo>
                    <a:pt x="710" y="1329"/>
                  </a:lnTo>
                  <a:lnTo>
                    <a:pt x="710" y="1322"/>
                  </a:lnTo>
                  <a:lnTo>
                    <a:pt x="710" y="1315"/>
                  </a:lnTo>
                  <a:lnTo>
                    <a:pt x="710" y="1308"/>
                  </a:lnTo>
                  <a:lnTo>
                    <a:pt x="710" y="1301"/>
                  </a:lnTo>
                  <a:lnTo>
                    <a:pt x="710" y="1294"/>
                  </a:lnTo>
                  <a:lnTo>
                    <a:pt x="717" y="1287"/>
                  </a:lnTo>
                  <a:lnTo>
                    <a:pt x="717" y="1280"/>
                  </a:lnTo>
                  <a:lnTo>
                    <a:pt x="717" y="1273"/>
                  </a:lnTo>
                  <a:lnTo>
                    <a:pt x="717" y="1266"/>
                  </a:lnTo>
                  <a:lnTo>
                    <a:pt x="717" y="1259"/>
                  </a:lnTo>
                  <a:lnTo>
                    <a:pt x="717" y="1253"/>
                  </a:lnTo>
                  <a:lnTo>
                    <a:pt x="717" y="1246"/>
                  </a:lnTo>
                  <a:lnTo>
                    <a:pt x="717" y="1239"/>
                  </a:lnTo>
                  <a:lnTo>
                    <a:pt x="717" y="1232"/>
                  </a:lnTo>
                  <a:lnTo>
                    <a:pt x="717" y="1225"/>
                  </a:lnTo>
                  <a:lnTo>
                    <a:pt x="723" y="1225"/>
                  </a:lnTo>
                  <a:lnTo>
                    <a:pt x="723" y="1218"/>
                  </a:lnTo>
                  <a:lnTo>
                    <a:pt x="723" y="1211"/>
                  </a:lnTo>
                  <a:lnTo>
                    <a:pt x="723" y="1204"/>
                  </a:lnTo>
                  <a:lnTo>
                    <a:pt x="723" y="1197"/>
                  </a:lnTo>
                  <a:lnTo>
                    <a:pt x="723" y="1190"/>
                  </a:lnTo>
                  <a:lnTo>
                    <a:pt x="723" y="1183"/>
                  </a:lnTo>
                  <a:lnTo>
                    <a:pt x="723" y="1176"/>
                  </a:lnTo>
                  <a:lnTo>
                    <a:pt x="723" y="1169"/>
                  </a:lnTo>
                  <a:lnTo>
                    <a:pt x="723" y="1162"/>
                  </a:lnTo>
                  <a:lnTo>
                    <a:pt x="723" y="1155"/>
                  </a:lnTo>
                  <a:lnTo>
                    <a:pt x="730" y="1148"/>
                  </a:lnTo>
                  <a:lnTo>
                    <a:pt x="730" y="1141"/>
                  </a:lnTo>
                  <a:lnTo>
                    <a:pt x="730" y="1134"/>
                  </a:lnTo>
                  <a:lnTo>
                    <a:pt x="730" y="1127"/>
                  </a:lnTo>
                  <a:lnTo>
                    <a:pt x="730" y="1120"/>
                  </a:lnTo>
                  <a:lnTo>
                    <a:pt x="730" y="1113"/>
                  </a:lnTo>
                  <a:lnTo>
                    <a:pt x="730" y="1106"/>
                  </a:lnTo>
                  <a:lnTo>
                    <a:pt x="730" y="1099"/>
                  </a:lnTo>
                  <a:lnTo>
                    <a:pt x="730" y="1093"/>
                  </a:lnTo>
                  <a:lnTo>
                    <a:pt x="730" y="1086"/>
                  </a:lnTo>
                  <a:lnTo>
                    <a:pt x="730" y="1079"/>
                  </a:lnTo>
                  <a:lnTo>
                    <a:pt x="737" y="1072"/>
                  </a:lnTo>
                  <a:lnTo>
                    <a:pt x="737" y="1065"/>
                  </a:lnTo>
                  <a:lnTo>
                    <a:pt x="737" y="1058"/>
                  </a:lnTo>
                  <a:lnTo>
                    <a:pt x="737" y="1051"/>
                  </a:lnTo>
                  <a:lnTo>
                    <a:pt x="737" y="1044"/>
                  </a:lnTo>
                  <a:lnTo>
                    <a:pt x="737" y="1037"/>
                  </a:lnTo>
                  <a:lnTo>
                    <a:pt x="737" y="1030"/>
                  </a:lnTo>
                  <a:lnTo>
                    <a:pt x="737" y="1023"/>
                  </a:lnTo>
                  <a:lnTo>
                    <a:pt x="737" y="1016"/>
                  </a:lnTo>
                  <a:lnTo>
                    <a:pt x="737" y="1009"/>
                  </a:lnTo>
                  <a:lnTo>
                    <a:pt x="737" y="1002"/>
                  </a:lnTo>
                  <a:lnTo>
                    <a:pt x="737" y="995"/>
                  </a:lnTo>
                  <a:lnTo>
                    <a:pt x="744" y="988"/>
                  </a:lnTo>
                  <a:lnTo>
                    <a:pt x="744" y="981"/>
                  </a:lnTo>
                  <a:lnTo>
                    <a:pt x="744" y="974"/>
                  </a:lnTo>
                  <a:lnTo>
                    <a:pt x="744" y="967"/>
                  </a:lnTo>
                  <a:lnTo>
                    <a:pt x="744" y="960"/>
                  </a:lnTo>
                  <a:lnTo>
                    <a:pt x="744" y="953"/>
                  </a:lnTo>
                  <a:lnTo>
                    <a:pt x="744" y="946"/>
                  </a:lnTo>
                  <a:lnTo>
                    <a:pt x="744" y="939"/>
                  </a:lnTo>
                  <a:lnTo>
                    <a:pt x="744" y="932"/>
                  </a:lnTo>
                  <a:lnTo>
                    <a:pt x="744" y="926"/>
                  </a:lnTo>
                  <a:lnTo>
                    <a:pt x="744" y="919"/>
                  </a:lnTo>
                  <a:lnTo>
                    <a:pt x="744" y="912"/>
                  </a:lnTo>
                  <a:lnTo>
                    <a:pt x="751" y="905"/>
                  </a:lnTo>
                  <a:lnTo>
                    <a:pt x="751" y="898"/>
                  </a:lnTo>
                  <a:lnTo>
                    <a:pt x="751" y="891"/>
                  </a:lnTo>
                  <a:lnTo>
                    <a:pt x="751" y="884"/>
                  </a:lnTo>
                  <a:lnTo>
                    <a:pt x="751" y="877"/>
                  </a:lnTo>
                  <a:lnTo>
                    <a:pt x="751" y="870"/>
                  </a:lnTo>
                  <a:lnTo>
                    <a:pt x="751" y="863"/>
                  </a:lnTo>
                  <a:lnTo>
                    <a:pt x="751" y="856"/>
                  </a:lnTo>
                  <a:lnTo>
                    <a:pt x="751" y="849"/>
                  </a:lnTo>
                  <a:lnTo>
                    <a:pt x="751" y="842"/>
                  </a:lnTo>
                  <a:lnTo>
                    <a:pt x="751" y="835"/>
                  </a:lnTo>
                  <a:lnTo>
                    <a:pt x="751" y="828"/>
                  </a:lnTo>
                  <a:lnTo>
                    <a:pt x="751" y="821"/>
                  </a:lnTo>
                  <a:lnTo>
                    <a:pt x="758" y="814"/>
                  </a:lnTo>
                  <a:lnTo>
                    <a:pt x="758" y="807"/>
                  </a:lnTo>
                  <a:lnTo>
                    <a:pt x="758" y="800"/>
                  </a:lnTo>
                  <a:lnTo>
                    <a:pt x="758" y="793"/>
                  </a:lnTo>
                  <a:lnTo>
                    <a:pt x="758" y="786"/>
                  </a:lnTo>
                  <a:lnTo>
                    <a:pt x="758" y="779"/>
                  </a:lnTo>
                  <a:lnTo>
                    <a:pt x="758" y="772"/>
                  </a:lnTo>
                  <a:lnTo>
                    <a:pt x="758" y="766"/>
                  </a:lnTo>
                  <a:lnTo>
                    <a:pt x="758" y="759"/>
                  </a:lnTo>
                  <a:lnTo>
                    <a:pt x="758" y="752"/>
                  </a:lnTo>
                  <a:lnTo>
                    <a:pt x="758" y="745"/>
                  </a:lnTo>
                  <a:lnTo>
                    <a:pt x="758" y="738"/>
                  </a:lnTo>
                  <a:lnTo>
                    <a:pt x="758" y="731"/>
                  </a:lnTo>
                  <a:lnTo>
                    <a:pt x="765" y="724"/>
                  </a:lnTo>
                  <a:lnTo>
                    <a:pt x="765" y="717"/>
                  </a:lnTo>
                  <a:lnTo>
                    <a:pt x="765" y="710"/>
                  </a:lnTo>
                  <a:lnTo>
                    <a:pt x="765" y="703"/>
                  </a:lnTo>
                  <a:lnTo>
                    <a:pt x="765" y="696"/>
                  </a:lnTo>
                  <a:lnTo>
                    <a:pt x="765" y="689"/>
                  </a:lnTo>
                  <a:lnTo>
                    <a:pt x="765" y="682"/>
                  </a:lnTo>
                  <a:lnTo>
                    <a:pt x="765" y="675"/>
                  </a:lnTo>
                  <a:lnTo>
                    <a:pt x="765" y="668"/>
                  </a:lnTo>
                  <a:lnTo>
                    <a:pt x="765" y="661"/>
                  </a:lnTo>
                  <a:lnTo>
                    <a:pt x="765" y="654"/>
                  </a:lnTo>
                  <a:lnTo>
                    <a:pt x="765" y="647"/>
                  </a:lnTo>
                  <a:lnTo>
                    <a:pt x="765" y="640"/>
                  </a:lnTo>
                  <a:lnTo>
                    <a:pt x="772" y="633"/>
                  </a:lnTo>
                  <a:lnTo>
                    <a:pt x="772" y="626"/>
                  </a:lnTo>
                  <a:lnTo>
                    <a:pt x="772" y="619"/>
                  </a:lnTo>
                  <a:lnTo>
                    <a:pt x="772" y="612"/>
                  </a:lnTo>
                  <a:lnTo>
                    <a:pt x="772" y="606"/>
                  </a:lnTo>
                  <a:lnTo>
                    <a:pt x="772" y="599"/>
                  </a:lnTo>
                  <a:lnTo>
                    <a:pt x="772" y="592"/>
                  </a:lnTo>
                  <a:lnTo>
                    <a:pt x="772" y="585"/>
                  </a:lnTo>
                  <a:lnTo>
                    <a:pt x="772" y="578"/>
                  </a:lnTo>
                  <a:lnTo>
                    <a:pt x="772" y="571"/>
                  </a:lnTo>
                  <a:lnTo>
                    <a:pt x="772" y="564"/>
                  </a:lnTo>
                  <a:lnTo>
                    <a:pt x="772" y="557"/>
                  </a:lnTo>
                  <a:lnTo>
                    <a:pt x="772" y="550"/>
                  </a:lnTo>
                  <a:lnTo>
                    <a:pt x="772" y="543"/>
                  </a:lnTo>
                  <a:lnTo>
                    <a:pt x="779" y="536"/>
                  </a:lnTo>
                  <a:lnTo>
                    <a:pt x="779" y="529"/>
                  </a:lnTo>
                  <a:lnTo>
                    <a:pt x="779" y="522"/>
                  </a:lnTo>
                  <a:lnTo>
                    <a:pt x="779" y="515"/>
                  </a:lnTo>
                  <a:lnTo>
                    <a:pt x="779" y="508"/>
                  </a:lnTo>
                  <a:lnTo>
                    <a:pt x="779" y="501"/>
                  </a:lnTo>
                  <a:lnTo>
                    <a:pt x="779" y="494"/>
                  </a:lnTo>
                  <a:lnTo>
                    <a:pt x="779" y="487"/>
                  </a:lnTo>
                  <a:lnTo>
                    <a:pt x="779" y="480"/>
                  </a:lnTo>
                  <a:lnTo>
                    <a:pt x="779" y="473"/>
                  </a:lnTo>
                  <a:lnTo>
                    <a:pt x="779" y="466"/>
                  </a:lnTo>
                  <a:lnTo>
                    <a:pt x="779" y="459"/>
                  </a:lnTo>
                  <a:lnTo>
                    <a:pt x="779" y="452"/>
                  </a:lnTo>
                  <a:lnTo>
                    <a:pt x="786" y="445"/>
                  </a:lnTo>
                  <a:lnTo>
                    <a:pt x="786" y="439"/>
                  </a:lnTo>
                  <a:lnTo>
                    <a:pt x="786" y="432"/>
                  </a:lnTo>
                  <a:lnTo>
                    <a:pt x="786" y="425"/>
                  </a:lnTo>
                  <a:lnTo>
                    <a:pt x="786" y="418"/>
                  </a:lnTo>
                  <a:lnTo>
                    <a:pt x="786" y="411"/>
                  </a:lnTo>
                  <a:lnTo>
                    <a:pt x="786" y="404"/>
                  </a:lnTo>
                  <a:lnTo>
                    <a:pt x="786" y="397"/>
                  </a:lnTo>
                  <a:lnTo>
                    <a:pt x="786" y="390"/>
                  </a:lnTo>
                  <a:lnTo>
                    <a:pt x="786" y="383"/>
                  </a:lnTo>
                  <a:lnTo>
                    <a:pt x="786" y="376"/>
                  </a:lnTo>
                  <a:lnTo>
                    <a:pt x="786" y="369"/>
                  </a:lnTo>
                  <a:lnTo>
                    <a:pt x="786" y="362"/>
                  </a:lnTo>
                  <a:lnTo>
                    <a:pt x="793" y="362"/>
                  </a:lnTo>
                  <a:lnTo>
                    <a:pt x="793" y="355"/>
                  </a:lnTo>
                  <a:lnTo>
                    <a:pt x="793" y="348"/>
                  </a:lnTo>
                  <a:lnTo>
                    <a:pt x="793" y="341"/>
                  </a:lnTo>
                  <a:lnTo>
                    <a:pt x="793" y="334"/>
                  </a:lnTo>
                  <a:lnTo>
                    <a:pt x="793" y="327"/>
                  </a:lnTo>
                  <a:lnTo>
                    <a:pt x="793" y="320"/>
                  </a:lnTo>
                  <a:lnTo>
                    <a:pt x="793" y="313"/>
                  </a:lnTo>
                  <a:lnTo>
                    <a:pt x="793" y="306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5"/>
                  </a:lnTo>
                  <a:lnTo>
                    <a:pt x="800" y="279"/>
                  </a:lnTo>
                  <a:lnTo>
                    <a:pt x="800" y="272"/>
                  </a:lnTo>
                  <a:lnTo>
                    <a:pt x="800" y="265"/>
                  </a:lnTo>
                  <a:lnTo>
                    <a:pt x="800" y="258"/>
                  </a:lnTo>
                  <a:lnTo>
                    <a:pt x="800" y="251"/>
                  </a:lnTo>
                  <a:lnTo>
                    <a:pt x="800" y="244"/>
                  </a:lnTo>
                  <a:lnTo>
                    <a:pt x="800" y="237"/>
                  </a:lnTo>
                  <a:lnTo>
                    <a:pt x="800" y="230"/>
                  </a:lnTo>
                  <a:lnTo>
                    <a:pt x="800" y="223"/>
                  </a:lnTo>
                  <a:lnTo>
                    <a:pt x="800" y="216"/>
                  </a:lnTo>
                  <a:lnTo>
                    <a:pt x="807" y="209"/>
                  </a:lnTo>
                  <a:lnTo>
                    <a:pt x="807" y="202"/>
                  </a:lnTo>
                  <a:lnTo>
                    <a:pt x="807" y="195"/>
                  </a:lnTo>
                  <a:lnTo>
                    <a:pt x="807" y="188"/>
                  </a:lnTo>
                  <a:lnTo>
                    <a:pt x="807" y="181"/>
                  </a:lnTo>
                  <a:lnTo>
                    <a:pt x="807" y="174"/>
                  </a:lnTo>
                  <a:lnTo>
                    <a:pt x="807" y="167"/>
                  </a:lnTo>
                  <a:lnTo>
                    <a:pt x="807" y="160"/>
                  </a:lnTo>
                  <a:lnTo>
                    <a:pt x="807" y="153"/>
                  </a:lnTo>
                  <a:lnTo>
                    <a:pt x="814" y="146"/>
                  </a:lnTo>
                  <a:lnTo>
                    <a:pt x="814" y="139"/>
                  </a:lnTo>
                  <a:lnTo>
                    <a:pt x="814" y="132"/>
                  </a:lnTo>
                  <a:lnTo>
                    <a:pt x="814" y="125"/>
                  </a:lnTo>
                  <a:lnTo>
                    <a:pt x="814" y="119"/>
                  </a:lnTo>
                  <a:lnTo>
                    <a:pt x="814" y="112"/>
                  </a:lnTo>
                  <a:lnTo>
                    <a:pt x="814" y="105"/>
                  </a:lnTo>
                  <a:lnTo>
                    <a:pt x="821" y="98"/>
                  </a:lnTo>
                  <a:lnTo>
                    <a:pt x="821" y="91"/>
                  </a:lnTo>
                  <a:lnTo>
                    <a:pt x="821" y="84"/>
                  </a:lnTo>
                  <a:lnTo>
                    <a:pt x="821" y="77"/>
                  </a:lnTo>
                  <a:lnTo>
                    <a:pt x="821" y="70"/>
                  </a:lnTo>
                  <a:lnTo>
                    <a:pt x="821" y="63"/>
                  </a:lnTo>
                  <a:lnTo>
                    <a:pt x="828" y="63"/>
                  </a:lnTo>
                  <a:lnTo>
                    <a:pt x="828" y="56"/>
                  </a:lnTo>
                  <a:lnTo>
                    <a:pt x="828" y="49"/>
                  </a:lnTo>
                  <a:lnTo>
                    <a:pt x="828" y="42"/>
                  </a:lnTo>
                  <a:lnTo>
                    <a:pt x="828" y="35"/>
                  </a:lnTo>
                  <a:lnTo>
                    <a:pt x="835" y="28"/>
                  </a:lnTo>
                  <a:lnTo>
                    <a:pt x="835" y="21"/>
                  </a:lnTo>
                  <a:lnTo>
                    <a:pt x="835" y="14"/>
                  </a:lnTo>
                  <a:lnTo>
                    <a:pt x="842" y="14"/>
                  </a:lnTo>
                  <a:lnTo>
                    <a:pt x="842" y="7"/>
                  </a:lnTo>
                  <a:lnTo>
                    <a:pt x="842" y="0"/>
                  </a:lnTo>
                  <a:lnTo>
                    <a:pt x="849" y="0"/>
                  </a:lnTo>
                  <a:lnTo>
                    <a:pt x="856" y="0"/>
                  </a:lnTo>
                  <a:lnTo>
                    <a:pt x="863" y="0"/>
                  </a:lnTo>
                  <a:lnTo>
                    <a:pt x="863" y="7"/>
                  </a:lnTo>
                  <a:lnTo>
                    <a:pt x="870" y="7"/>
                  </a:lnTo>
                  <a:lnTo>
                    <a:pt x="870" y="14"/>
                  </a:lnTo>
                  <a:lnTo>
                    <a:pt x="870" y="21"/>
                  </a:lnTo>
                  <a:lnTo>
                    <a:pt x="877" y="21"/>
                  </a:lnTo>
                  <a:lnTo>
                    <a:pt x="877" y="28"/>
                  </a:lnTo>
                  <a:lnTo>
                    <a:pt x="877" y="35"/>
                  </a:lnTo>
                  <a:lnTo>
                    <a:pt x="883" y="35"/>
                  </a:lnTo>
                  <a:lnTo>
                    <a:pt x="883" y="42"/>
                  </a:lnTo>
                  <a:lnTo>
                    <a:pt x="883" y="49"/>
                  </a:lnTo>
                  <a:lnTo>
                    <a:pt x="890" y="49"/>
                  </a:lnTo>
                  <a:lnTo>
                    <a:pt x="890" y="56"/>
                  </a:lnTo>
                  <a:lnTo>
                    <a:pt x="890" y="63"/>
                  </a:lnTo>
                  <a:lnTo>
                    <a:pt x="897" y="63"/>
                  </a:lnTo>
                  <a:lnTo>
                    <a:pt x="897" y="70"/>
                  </a:lnTo>
                  <a:lnTo>
                    <a:pt x="897" y="77"/>
                  </a:lnTo>
                  <a:lnTo>
                    <a:pt x="904" y="77"/>
                  </a:lnTo>
                  <a:lnTo>
                    <a:pt x="904" y="84"/>
                  </a:lnTo>
                  <a:lnTo>
                    <a:pt x="904" y="91"/>
                  </a:lnTo>
                  <a:lnTo>
                    <a:pt x="904" y="98"/>
                  </a:lnTo>
                  <a:lnTo>
                    <a:pt x="911" y="98"/>
                  </a:lnTo>
                  <a:lnTo>
                    <a:pt x="911" y="105"/>
                  </a:lnTo>
                  <a:lnTo>
                    <a:pt x="911" y="112"/>
                  </a:lnTo>
                  <a:lnTo>
                    <a:pt x="918" y="112"/>
                  </a:lnTo>
                  <a:lnTo>
                    <a:pt x="918" y="119"/>
                  </a:lnTo>
                  <a:lnTo>
                    <a:pt x="918" y="125"/>
                  </a:lnTo>
                  <a:lnTo>
                    <a:pt x="925" y="125"/>
                  </a:lnTo>
                  <a:lnTo>
                    <a:pt x="925" y="132"/>
                  </a:lnTo>
                  <a:lnTo>
                    <a:pt x="925" y="139"/>
                  </a:lnTo>
                  <a:lnTo>
                    <a:pt x="932" y="139"/>
                  </a:lnTo>
                  <a:lnTo>
                    <a:pt x="932" y="146"/>
                  </a:lnTo>
                  <a:lnTo>
                    <a:pt x="932" y="153"/>
                  </a:lnTo>
                  <a:lnTo>
                    <a:pt x="939" y="153"/>
                  </a:lnTo>
                  <a:lnTo>
                    <a:pt x="939" y="160"/>
                  </a:lnTo>
                  <a:lnTo>
                    <a:pt x="946" y="167"/>
                  </a:lnTo>
                  <a:lnTo>
                    <a:pt x="946" y="174"/>
                  </a:lnTo>
                  <a:lnTo>
                    <a:pt x="953" y="174"/>
                  </a:lnTo>
                  <a:lnTo>
                    <a:pt x="953" y="181"/>
                  </a:lnTo>
                  <a:lnTo>
                    <a:pt x="960" y="181"/>
                  </a:lnTo>
                  <a:lnTo>
                    <a:pt x="960" y="188"/>
                  </a:lnTo>
                  <a:lnTo>
                    <a:pt x="960" y="195"/>
                  </a:lnTo>
                  <a:lnTo>
                    <a:pt x="967" y="195"/>
                  </a:lnTo>
                  <a:lnTo>
                    <a:pt x="967" y="202"/>
                  </a:lnTo>
                  <a:lnTo>
                    <a:pt x="974" y="202"/>
                  </a:lnTo>
                  <a:lnTo>
                    <a:pt x="981" y="202"/>
                  </a:lnTo>
                  <a:lnTo>
                    <a:pt x="981" y="209"/>
                  </a:lnTo>
                  <a:lnTo>
                    <a:pt x="988" y="209"/>
                  </a:lnTo>
                  <a:lnTo>
                    <a:pt x="995" y="209"/>
                  </a:lnTo>
                  <a:lnTo>
                    <a:pt x="995" y="216"/>
                  </a:lnTo>
                  <a:lnTo>
                    <a:pt x="1002" y="216"/>
                  </a:lnTo>
                  <a:lnTo>
                    <a:pt x="1009" y="216"/>
                  </a:lnTo>
                  <a:lnTo>
                    <a:pt x="1016" y="216"/>
                  </a:lnTo>
                  <a:lnTo>
                    <a:pt x="1016" y="209"/>
                  </a:lnTo>
                  <a:lnTo>
                    <a:pt x="1023" y="209"/>
                  </a:lnTo>
                  <a:lnTo>
                    <a:pt x="1030" y="209"/>
                  </a:lnTo>
                  <a:lnTo>
                    <a:pt x="1030" y="202"/>
                  </a:lnTo>
                  <a:lnTo>
                    <a:pt x="1037" y="202"/>
                  </a:lnTo>
                  <a:lnTo>
                    <a:pt x="1037" y="195"/>
                  </a:lnTo>
                  <a:lnTo>
                    <a:pt x="1043" y="195"/>
                  </a:lnTo>
                  <a:lnTo>
                    <a:pt x="1043" y="188"/>
                  </a:lnTo>
                  <a:lnTo>
                    <a:pt x="1050" y="188"/>
                  </a:lnTo>
                  <a:lnTo>
                    <a:pt x="1050" y="181"/>
                  </a:lnTo>
                  <a:lnTo>
                    <a:pt x="1057" y="181"/>
                  </a:lnTo>
                  <a:lnTo>
                    <a:pt x="1057" y="174"/>
                  </a:lnTo>
                  <a:lnTo>
                    <a:pt x="1064" y="174"/>
                  </a:lnTo>
                  <a:lnTo>
                    <a:pt x="1064" y="167"/>
                  </a:lnTo>
                  <a:lnTo>
                    <a:pt x="1064" y="160"/>
                  </a:lnTo>
                  <a:lnTo>
                    <a:pt x="1071" y="160"/>
                  </a:lnTo>
                  <a:lnTo>
                    <a:pt x="1071" y="153"/>
                  </a:lnTo>
                  <a:lnTo>
                    <a:pt x="1071" y="146"/>
                  </a:lnTo>
                  <a:lnTo>
                    <a:pt x="1078" y="146"/>
                  </a:lnTo>
                  <a:lnTo>
                    <a:pt x="1078" y="139"/>
                  </a:lnTo>
                  <a:lnTo>
                    <a:pt x="1078" y="132"/>
                  </a:lnTo>
                  <a:lnTo>
                    <a:pt x="1085" y="132"/>
                  </a:lnTo>
                  <a:lnTo>
                    <a:pt x="1085" y="125"/>
                  </a:lnTo>
                  <a:lnTo>
                    <a:pt x="1085" y="119"/>
                  </a:lnTo>
                  <a:lnTo>
                    <a:pt x="1092" y="119"/>
                  </a:lnTo>
                  <a:lnTo>
                    <a:pt x="1092" y="112"/>
                  </a:lnTo>
                  <a:lnTo>
                    <a:pt x="1092" y="105"/>
                  </a:lnTo>
                  <a:lnTo>
                    <a:pt x="1099" y="105"/>
                  </a:lnTo>
                  <a:lnTo>
                    <a:pt x="1099" y="98"/>
                  </a:lnTo>
                  <a:lnTo>
                    <a:pt x="1099" y="91"/>
                  </a:lnTo>
                  <a:lnTo>
                    <a:pt x="1106" y="91"/>
                  </a:lnTo>
                  <a:lnTo>
                    <a:pt x="1106" y="84"/>
                  </a:lnTo>
                  <a:lnTo>
                    <a:pt x="1106" y="77"/>
                  </a:lnTo>
                  <a:lnTo>
                    <a:pt x="1113" y="70"/>
                  </a:lnTo>
                  <a:lnTo>
                    <a:pt x="1113" y="63"/>
                  </a:lnTo>
                  <a:lnTo>
                    <a:pt x="1113" y="56"/>
                  </a:lnTo>
                  <a:lnTo>
                    <a:pt x="1120" y="56"/>
                  </a:lnTo>
                  <a:lnTo>
                    <a:pt x="1120" y="49"/>
                  </a:lnTo>
                  <a:lnTo>
                    <a:pt x="1120" y="42"/>
                  </a:lnTo>
                  <a:lnTo>
                    <a:pt x="1127" y="42"/>
                  </a:lnTo>
                  <a:lnTo>
                    <a:pt x="1127" y="35"/>
                  </a:lnTo>
                  <a:lnTo>
                    <a:pt x="1127" y="28"/>
                  </a:lnTo>
                  <a:lnTo>
                    <a:pt x="1134" y="28"/>
                  </a:lnTo>
                  <a:lnTo>
                    <a:pt x="1134" y="21"/>
                  </a:lnTo>
                  <a:lnTo>
                    <a:pt x="1134" y="14"/>
                  </a:lnTo>
                  <a:lnTo>
                    <a:pt x="1141" y="14"/>
                  </a:lnTo>
                  <a:lnTo>
                    <a:pt x="1141" y="7"/>
                  </a:lnTo>
                  <a:lnTo>
                    <a:pt x="1148" y="7"/>
                  </a:lnTo>
                  <a:lnTo>
                    <a:pt x="1148" y="0"/>
                  </a:lnTo>
                  <a:lnTo>
                    <a:pt x="1155" y="0"/>
                  </a:lnTo>
                  <a:lnTo>
                    <a:pt x="1162" y="0"/>
                  </a:lnTo>
                  <a:lnTo>
                    <a:pt x="1162" y="7"/>
                  </a:lnTo>
                  <a:lnTo>
                    <a:pt x="1169" y="7"/>
                  </a:lnTo>
                  <a:lnTo>
                    <a:pt x="1169" y="14"/>
                  </a:lnTo>
                  <a:lnTo>
                    <a:pt x="1176" y="21"/>
                  </a:lnTo>
                  <a:lnTo>
                    <a:pt x="1176" y="28"/>
                  </a:lnTo>
                  <a:lnTo>
                    <a:pt x="1176" y="35"/>
                  </a:lnTo>
                  <a:lnTo>
                    <a:pt x="1176" y="42"/>
                  </a:lnTo>
                  <a:lnTo>
                    <a:pt x="1183" y="42"/>
                  </a:lnTo>
                  <a:lnTo>
                    <a:pt x="1183" y="49"/>
                  </a:lnTo>
                  <a:lnTo>
                    <a:pt x="1183" y="56"/>
                  </a:lnTo>
                  <a:lnTo>
                    <a:pt x="1183" y="63"/>
                  </a:lnTo>
                  <a:lnTo>
                    <a:pt x="1183" y="70"/>
                  </a:lnTo>
                  <a:lnTo>
                    <a:pt x="1190" y="77"/>
                  </a:lnTo>
                  <a:lnTo>
                    <a:pt x="1190" y="84"/>
                  </a:lnTo>
                  <a:lnTo>
                    <a:pt x="1190" y="91"/>
                  </a:lnTo>
                  <a:lnTo>
                    <a:pt x="1190" y="98"/>
                  </a:lnTo>
                  <a:lnTo>
                    <a:pt x="1190" y="105"/>
                  </a:lnTo>
                  <a:lnTo>
                    <a:pt x="1190" y="112"/>
                  </a:lnTo>
                  <a:lnTo>
                    <a:pt x="1197" y="119"/>
                  </a:lnTo>
                  <a:lnTo>
                    <a:pt x="1197" y="125"/>
                  </a:lnTo>
                  <a:lnTo>
                    <a:pt x="1197" y="132"/>
                  </a:lnTo>
                  <a:lnTo>
                    <a:pt x="1197" y="139"/>
                  </a:lnTo>
                  <a:lnTo>
                    <a:pt x="1197" y="146"/>
                  </a:lnTo>
                  <a:lnTo>
                    <a:pt x="1197" y="153"/>
                  </a:lnTo>
                  <a:lnTo>
                    <a:pt x="1197" y="160"/>
                  </a:lnTo>
                  <a:lnTo>
                    <a:pt x="1197" y="167"/>
                  </a:lnTo>
                  <a:lnTo>
                    <a:pt x="1204" y="174"/>
                  </a:lnTo>
                  <a:lnTo>
                    <a:pt x="1204" y="181"/>
                  </a:lnTo>
                  <a:lnTo>
                    <a:pt x="1204" y="188"/>
                  </a:lnTo>
                  <a:lnTo>
                    <a:pt x="1204" y="195"/>
                  </a:lnTo>
                  <a:lnTo>
                    <a:pt x="1204" y="202"/>
                  </a:lnTo>
                  <a:lnTo>
                    <a:pt x="1204" y="209"/>
                  </a:lnTo>
                  <a:lnTo>
                    <a:pt x="1204" y="216"/>
                  </a:lnTo>
                  <a:lnTo>
                    <a:pt x="1204" y="223"/>
                  </a:lnTo>
                  <a:lnTo>
                    <a:pt x="1204" y="230"/>
                  </a:lnTo>
                  <a:lnTo>
                    <a:pt x="1210" y="237"/>
                  </a:lnTo>
                  <a:lnTo>
                    <a:pt x="1210" y="244"/>
                  </a:lnTo>
                  <a:lnTo>
                    <a:pt x="1210" y="251"/>
                  </a:lnTo>
                  <a:lnTo>
                    <a:pt x="1210" y="258"/>
                  </a:lnTo>
                  <a:lnTo>
                    <a:pt x="1210" y="265"/>
                  </a:lnTo>
                  <a:lnTo>
                    <a:pt x="1210" y="272"/>
                  </a:lnTo>
                  <a:lnTo>
                    <a:pt x="1210" y="279"/>
                  </a:lnTo>
                  <a:lnTo>
                    <a:pt x="1210" y="285"/>
                  </a:lnTo>
                  <a:lnTo>
                    <a:pt x="1210" y="292"/>
                  </a:lnTo>
                  <a:lnTo>
                    <a:pt x="1210" y="299"/>
                  </a:lnTo>
                  <a:lnTo>
                    <a:pt x="1210" y="306"/>
                  </a:lnTo>
                  <a:lnTo>
                    <a:pt x="1217" y="313"/>
                  </a:lnTo>
                  <a:lnTo>
                    <a:pt x="1217" y="320"/>
                  </a:lnTo>
                  <a:lnTo>
                    <a:pt x="1217" y="327"/>
                  </a:lnTo>
                  <a:lnTo>
                    <a:pt x="1217" y="334"/>
                  </a:lnTo>
                  <a:lnTo>
                    <a:pt x="1217" y="341"/>
                  </a:lnTo>
                  <a:lnTo>
                    <a:pt x="1217" y="348"/>
                  </a:lnTo>
                  <a:lnTo>
                    <a:pt x="1217" y="355"/>
                  </a:lnTo>
                  <a:lnTo>
                    <a:pt x="1217" y="362"/>
                  </a:lnTo>
                  <a:lnTo>
                    <a:pt x="1217" y="369"/>
                  </a:lnTo>
                  <a:lnTo>
                    <a:pt x="1217" y="376"/>
                  </a:lnTo>
                  <a:lnTo>
                    <a:pt x="1217" y="383"/>
                  </a:lnTo>
                  <a:lnTo>
                    <a:pt x="1217" y="390"/>
                  </a:lnTo>
                  <a:lnTo>
                    <a:pt x="1224" y="397"/>
                  </a:lnTo>
                  <a:lnTo>
                    <a:pt x="1224" y="404"/>
                  </a:lnTo>
                  <a:lnTo>
                    <a:pt x="1224" y="411"/>
                  </a:lnTo>
                  <a:lnTo>
                    <a:pt x="1224" y="418"/>
                  </a:lnTo>
                  <a:lnTo>
                    <a:pt x="1224" y="425"/>
                  </a:lnTo>
                  <a:lnTo>
                    <a:pt x="1224" y="432"/>
                  </a:lnTo>
                  <a:lnTo>
                    <a:pt x="1224" y="439"/>
                  </a:lnTo>
                  <a:lnTo>
                    <a:pt x="1224" y="445"/>
                  </a:lnTo>
                  <a:lnTo>
                    <a:pt x="1224" y="452"/>
                  </a:lnTo>
                  <a:lnTo>
                    <a:pt x="1224" y="459"/>
                  </a:lnTo>
                  <a:lnTo>
                    <a:pt x="1224" y="466"/>
                  </a:lnTo>
                  <a:lnTo>
                    <a:pt x="1224" y="473"/>
                  </a:lnTo>
                  <a:lnTo>
                    <a:pt x="1231" y="480"/>
                  </a:lnTo>
                  <a:lnTo>
                    <a:pt x="1231" y="487"/>
                  </a:lnTo>
                  <a:lnTo>
                    <a:pt x="1231" y="494"/>
                  </a:lnTo>
                  <a:lnTo>
                    <a:pt x="1231" y="501"/>
                  </a:lnTo>
                  <a:lnTo>
                    <a:pt x="1231" y="508"/>
                  </a:lnTo>
                  <a:lnTo>
                    <a:pt x="1231" y="515"/>
                  </a:lnTo>
                  <a:lnTo>
                    <a:pt x="1231" y="522"/>
                  </a:lnTo>
                  <a:lnTo>
                    <a:pt x="1231" y="529"/>
                  </a:lnTo>
                  <a:lnTo>
                    <a:pt x="1231" y="536"/>
                  </a:lnTo>
                  <a:lnTo>
                    <a:pt x="1231" y="543"/>
                  </a:lnTo>
                  <a:lnTo>
                    <a:pt x="1231" y="550"/>
                  </a:lnTo>
                  <a:lnTo>
                    <a:pt x="1231" y="557"/>
                  </a:lnTo>
                  <a:lnTo>
                    <a:pt x="1231" y="564"/>
                  </a:lnTo>
                  <a:lnTo>
                    <a:pt x="1238" y="571"/>
                  </a:lnTo>
                  <a:lnTo>
                    <a:pt x="1238" y="578"/>
                  </a:lnTo>
                  <a:lnTo>
                    <a:pt x="1238" y="585"/>
                  </a:lnTo>
                  <a:lnTo>
                    <a:pt x="1238" y="592"/>
                  </a:lnTo>
                  <a:lnTo>
                    <a:pt x="1238" y="599"/>
                  </a:lnTo>
                  <a:lnTo>
                    <a:pt x="1238" y="606"/>
                  </a:lnTo>
                  <a:lnTo>
                    <a:pt x="1238" y="612"/>
                  </a:lnTo>
                  <a:lnTo>
                    <a:pt x="1238" y="619"/>
                  </a:lnTo>
                  <a:lnTo>
                    <a:pt x="1238" y="626"/>
                  </a:lnTo>
                  <a:lnTo>
                    <a:pt x="1238" y="633"/>
                  </a:lnTo>
                  <a:lnTo>
                    <a:pt x="1238" y="640"/>
                  </a:lnTo>
                  <a:lnTo>
                    <a:pt x="1238" y="647"/>
                  </a:lnTo>
                  <a:lnTo>
                    <a:pt x="1238" y="654"/>
                  </a:lnTo>
                  <a:lnTo>
                    <a:pt x="1238" y="661"/>
                  </a:lnTo>
                  <a:lnTo>
                    <a:pt x="1245" y="661"/>
                  </a:lnTo>
                  <a:lnTo>
                    <a:pt x="1245" y="668"/>
                  </a:lnTo>
                  <a:lnTo>
                    <a:pt x="1245" y="675"/>
                  </a:lnTo>
                  <a:lnTo>
                    <a:pt x="1245" y="682"/>
                  </a:lnTo>
                  <a:lnTo>
                    <a:pt x="1245" y="689"/>
                  </a:lnTo>
                  <a:lnTo>
                    <a:pt x="1245" y="696"/>
                  </a:lnTo>
                  <a:lnTo>
                    <a:pt x="1245" y="703"/>
                  </a:lnTo>
                  <a:lnTo>
                    <a:pt x="1245" y="710"/>
                  </a:lnTo>
                  <a:lnTo>
                    <a:pt x="1245" y="717"/>
                  </a:lnTo>
                  <a:lnTo>
                    <a:pt x="1245" y="724"/>
                  </a:lnTo>
                  <a:lnTo>
                    <a:pt x="1245" y="731"/>
                  </a:lnTo>
                  <a:lnTo>
                    <a:pt x="1245" y="738"/>
                  </a:lnTo>
                  <a:lnTo>
                    <a:pt x="1245" y="745"/>
                  </a:lnTo>
                  <a:lnTo>
                    <a:pt x="1245" y="752"/>
                  </a:lnTo>
                  <a:lnTo>
                    <a:pt x="1252" y="759"/>
                  </a:lnTo>
                  <a:lnTo>
                    <a:pt x="1252" y="766"/>
                  </a:lnTo>
                  <a:lnTo>
                    <a:pt x="1252" y="772"/>
                  </a:lnTo>
                  <a:lnTo>
                    <a:pt x="1252" y="779"/>
                  </a:lnTo>
                  <a:lnTo>
                    <a:pt x="1252" y="786"/>
                  </a:lnTo>
                  <a:lnTo>
                    <a:pt x="1252" y="793"/>
                  </a:lnTo>
                  <a:lnTo>
                    <a:pt x="1252" y="800"/>
                  </a:lnTo>
                  <a:lnTo>
                    <a:pt x="1252" y="807"/>
                  </a:lnTo>
                  <a:lnTo>
                    <a:pt x="1252" y="814"/>
                  </a:lnTo>
                  <a:lnTo>
                    <a:pt x="1252" y="821"/>
                  </a:lnTo>
                  <a:lnTo>
                    <a:pt x="1252" y="828"/>
                  </a:lnTo>
                  <a:lnTo>
                    <a:pt x="1252" y="835"/>
                  </a:lnTo>
                  <a:lnTo>
                    <a:pt x="1252" y="842"/>
                  </a:lnTo>
                  <a:lnTo>
                    <a:pt x="1252" y="849"/>
                  </a:lnTo>
                  <a:lnTo>
                    <a:pt x="1259" y="856"/>
                  </a:lnTo>
                  <a:lnTo>
                    <a:pt x="1259" y="863"/>
                  </a:lnTo>
                  <a:lnTo>
                    <a:pt x="1259" y="870"/>
                  </a:lnTo>
                  <a:lnTo>
                    <a:pt x="1259" y="877"/>
                  </a:lnTo>
                  <a:lnTo>
                    <a:pt x="1259" y="884"/>
                  </a:lnTo>
                  <a:lnTo>
                    <a:pt x="1259" y="891"/>
                  </a:lnTo>
                  <a:lnTo>
                    <a:pt x="1259" y="898"/>
                  </a:lnTo>
                  <a:lnTo>
                    <a:pt x="1259" y="905"/>
                  </a:lnTo>
                  <a:lnTo>
                    <a:pt x="1259" y="912"/>
                  </a:lnTo>
                  <a:lnTo>
                    <a:pt x="1259" y="919"/>
                  </a:lnTo>
                  <a:lnTo>
                    <a:pt x="1259" y="926"/>
                  </a:lnTo>
                  <a:lnTo>
                    <a:pt x="1259" y="932"/>
                  </a:lnTo>
                  <a:lnTo>
                    <a:pt x="1266" y="939"/>
                  </a:lnTo>
                  <a:lnTo>
                    <a:pt x="1266" y="946"/>
                  </a:lnTo>
                  <a:lnTo>
                    <a:pt x="1266" y="953"/>
                  </a:lnTo>
                  <a:lnTo>
                    <a:pt x="1266" y="960"/>
                  </a:lnTo>
                  <a:lnTo>
                    <a:pt x="1266" y="967"/>
                  </a:lnTo>
                  <a:lnTo>
                    <a:pt x="1266" y="974"/>
                  </a:lnTo>
                  <a:lnTo>
                    <a:pt x="1266" y="981"/>
                  </a:lnTo>
                  <a:lnTo>
                    <a:pt x="1266" y="988"/>
                  </a:lnTo>
                  <a:lnTo>
                    <a:pt x="1266" y="995"/>
                  </a:lnTo>
                  <a:lnTo>
                    <a:pt x="1266" y="1002"/>
                  </a:lnTo>
                  <a:lnTo>
                    <a:pt x="1266" y="1009"/>
                  </a:lnTo>
                  <a:lnTo>
                    <a:pt x="1266" y="1016"/>
                  </a:lnTo>
                  <a:lnTo>
                    <a:pt x="1273" y="1023"/>
                  </a:lnTo>
                  <a:lnTo>
                    <a:pt x="1273" y="1030"/>
                  </a:lnTo>
                  <a:lnTo>
                    <a:pt x="1273" y="1037"/>
                  </a:lnTo>
                  <a:lnTo>
                    <a:pt x="1273" y="1044"/>
                  </a:lnTo>
                  <a:lnTo>
                    <a:pt x="1273" y="1051"/>
                  </a:lnTo>
                  <a:lnTo>
                    <a:pt x="1273" y="1058"/>
                  </a:lnTo>
                  <a:lnTo>
                    <a:pt x="1273" y="1065"/>
                  </a:lnTo>
                  <a:lnTo>
                    <a:pt x="1273" y="1072"/>
                  </a:lnTo>
                  <a:lnTo>
                    <a:pt x="1273" y="1079"/>
                  </a:lnTo>
                  <a:lnTo>
                    <a:pt x="1273" y="1086"/>
                  </a:lnTo>
                  <a:lnTo>
                    <a:pt x="1273" y="1093"/>
                  </a:lnTo>
                  <a:lnTo>
                    <a:pt x="1273" y="1099"/>
                  </a:lnTo>
                  <a:lnTo>
                    <a:pt x="1280" y="1099"/>
                  </a:lnTo>
                  <a:lnTo>
                    <a:pt x="1280" y="1106"/>
                  </a:lnTo>
                  <a:lnTo>
                    <a:pt x="1280" y="1113"/>
                  </a:lnTo>
                  <a:lnTo>
                    <a:pt x="1280" y="1120"/>
                  </a:lnTo>
                  <a:lnTo>
                    <a:pt x="1280" y="1127"/>
                  </a:lnTo>
                  <a:lnTo>
                    <a:pt x="1280" y="1134"/>
                  </a:lnTo>
                  <a:lnTo>
                    <a:pt x="1280" y="1141"/>
                  </a:lnTo>
                  <a:lnTo>
                    <a:pt x="1280" y="1148"/>
                  </a:lnTo>
                  <a:lnTo>
                    <a:pt x="1280" y="1155"/>
                  </a:lnTo>
                  <a:lnTo>
                    <a:pt x="1280" y="1162"/>
                  </a:lnTo>
                  <a:lnTo>
                    <a:pt x="1280" y="1169"/>
                  </a:lnTo>
                  <a:lnTo>
                    <a:pt x="1287" y="1176"/>
                  </a:lnTo>
                  <a:lnTo>
                    <a:pt x="1287" y="1183"/>
                  </a:lnTo>
                  <a:lnTo>
                    <a:pt x="1287" y="1190"/>
                  </a:lnTo>
                  <a:lnTo>
                    <a:pt x="1287" y="1197"/>
                  </a:lnTo>
                  <a:lnTo>
                    <a:pt x="1287" y="1204"/>
                  </a:lnTo>
                  <a:lnTo>
                    <a:pt x="1287" y="1211"/>
                  </a:lnTo>
                  <a:lnTo>
                    <a:pt x="1287" y="1218"/>
                  </a:lnTo>
                  <a:lnTo>
                    <a:pt x="1287" y="1225"/>
                  </a:lnTo>
                  <a:lnTo>
                    <a:pt x="1287" y="1232"/>
                  </a:lnTo>
                  <a:lnTo>
                    <a:pt x="1287" y="1239"/>
                  </a:lnTo>
                  <a:lnTo>
                    <a:pt x="1287" y="1246"/>
                  </a:lnTo>
                  <a:lnTo>
                    <a:pt x="1294" y="1253"/>
                  </a:lnTo>
                  <a:lnTo>
                    <a:pt x="1294" y="1259"/>
                  </a:lnTo>
                  <a:lnTo>
                    <a:pt x="1294" y="1266"/>
                  </a:lnTo>
                  <a:lnTo>
                    <a:pt x="1294" y="1273"/>
                  </a:lnTo>
                  <a:lnTo>
                    <a:pt x="1294" y="1280"/>
                  </a:lnTo>
                  <a:lnTo>
                    <a:pt x="1294" y="1287"/>
                  </a:lnTo>
                  <a:lnTo>
                    <a:pt x="1294" y="1294"/>
                  </a:lnTo>
                  <a:lnTo>
                    <a:pt x="1294" y="1301"/>
                  </a:lnTo>
                  <a:lnTo>
                    <a:pt x="1294" y="1308"/>
                  </a:lnTo>
                  <a:lnTo>
                    <a:pt x="1294" y="1315"/>
                  </a:lnTo>
                  <a:lnTo>
                    <a:pt x="1301" y="1315"/>
                  </a:lnTo>
                  <a:lnTo>
                    <a:pt x="1301" y="1322"/>
                  </a:lnTo>
                  <a:lnTo>
                    <a:pt x="1301" y="1329"/>
                  </a:lnTo>
                  <a:lnTo>
                    <a:pt x="1301" y="1336"/>
                  </a:lnTo>
                  <a:lnTo>
                    <a:pt x="1301" y="1343"/>
                  </a:lnTo>
                  <a:lnTo>
                    <a:pt x="1301" y="1350"/>
                  </a:lnTo>
                  <a:lnTo>
                    <a:pt x="1301" y="1357"/>
                  </a:lnTo>
                  <a:lnTo>
                    <a:pt x="1301" y="1364"/>
                  </a:lnTo>
                  <a:lnTo>
                    <a:pt x="1301" y="1371"/>
                  </a:lnTo>
                  <a:lnTo>
                    <a:pt x="1308" y="1378"/>
                  </a:lnTo>
                  <a:lnTo>
                    <a:pt x="1308" y="1385"/>
                  </a:lnTo>
                  <a:lnTo>
                    <a:pt x="1308" y="1392"/>
                  </a:lnTo>
                  <a:lnTo>
                    <a:pt x="1308" y="1399"/>
                  </a:lnTo>
                  <a:lnTo>
                    <a:pt x="1308" y="1406"/>
                  </a:lnTo>
                  <a:lnTo>
                    <a:pt x="1308" y="1413"/>
                  </a:lnTo>
                  <a:lnTo>
                    <a:pt x="1308" y="1419"/>
                  </a:lnTo>
                  <a:lnTo>
                    <a:pt x="1308" y="1426"/>
                  </a:lnTo>
                  <a:lnTo>
                    <a:pt x="1315" y="1433"/>
                  </a:lnTo>
                  <a:lnTo>
                    <a:pt x="1315" y="1440"/>
                  </a:lnTo>
                  <a:lnTo>
                    <a:pt x="1315" y="1447"/>
                  </a:lnTo>
                  <a:lnTo>
                    <a:pt x="1315" y="1454"/>
                  </a:lnTo>
                  <a:lnTo>
                    <a:pt x="1315" y="1461"/>
                  </a:lnTo>
                  <a:lnTo>
                    <a:pt x="1315" y="1468"/>
                  </a:lnTo>
                  <a:lnTo>
                    <a:pt x="1315" y="1475"/>
                  </a:lnTo>
                  <a:lnTo>
                    <a:pt x="1315" y="1482"/>
                  </a:lnTo>
                  <a:lnTo>
                    <a:pt x="1322" y="1482"/>
                  </a:lnTo>
                  <a:lnTo>
                    <a:pt x="1322" y="1489"/>
                  </a:lnTo>
                  <a:lnTo>
                    <a:pt x="1322" y="1496"/>
                  </a:lnTo>
                  <a:lnTo>
                    <a:pt x="1322" y="1503"/>
                  </a:lnTo>
                  <a:lnTo>
                    <a:pt x="1322" y="1510"/>
                  </a:lnTo>
                  <a:lnTo>
                    <a:pt x="1322" y="1517"/>
                  </a:lnTo>
                  <a:lnTo>
                    <a:pt x="1322" y="1524"/>
                  </a:lnTo>
                  <a:lnTo>
                    <a:pt x="1322" y="1531"/>
                  </a:lnTo>
                  <a:lnTo>
                    <a:pt x="1329" y="1531"/>
                  </a:lnTo>
                  <a:lnTo>
                    <a:pt x="1329" y="1538"/>
                  </a:lnTo>
                  <a:lnTo>
                    <a:pt x="1329" y="1545"/>
                  </a:lnTo>
                  <a:lnTo>
                    <a:pt x="1329" y="1552"/>
                  </a:lnTo>
                  <a:lnTo>
                    <a:pt x="1329" y="1559"/>
                  </a:lnTo>
                  <a:lnTo>
                    <a:pt x="1329" y="1566"/>
                  </a:lnTo>
                  <a:lnTo>
                    <a:pt x="1329" y="1573"/>
                  </a:lnTo>
                  <a:lnTo>
                    <a:pt x="1336" y="1580"/>
                  </a:lnTo>
                  <a:lnTo>
                    <a:pt x="1336" y="1586"/>
                  </a:lnTo>
                  <a:lnTo>
                    <a:pt x="1336" y="1593"/>
                  </a:lnTo>
                  <a:lnTo>
                    <a:pt x="1336" y="1600"/>
                  </a:lnTo>
                  <a:lnTo>
                    <a:pt x="1336" y="1607"/>
                  </a:lnTo>
                  <a:lnTo>
                    <a:pt x="1336" y="1614"/>
                  </a:lnTo>
                  <a:lnTo>
                    <a:pt x="1343" y="1614"/>
                  </a:lnTo>
                  <a:lnTo>
                    <a:pt x="1343" y="1621"/>
                  </a:lnTo>
                  <a:lnTo>
                    <a:pt x="1343" y="1628"/>
                  </a:lnTo>
                  <a:lnTo>
                    <a:pt x="1343" y="1635"/>
                  </a:lnTo>
                  <a:lnTo>
                    <a:pt x="1343" y="1642"/>
                  </a:lnTo>
                  <a:lnTo>
                    <a:pt x="1343" y="1649"/>
                  </a:lnTo>
                  <a:lnTo>
                    <a:pt x="1350" y="1656"/>
                  </a:lnTo>
                  <a:lnTo>
                    <a:pt x="1350" y="1663"/>
                  </a:lnTo>
                  <a:lnTo>
                    <a:pt x="1350" y="1670"/>
                  </a:lnTo>
                  <a:lnTo>
                    <a:pt x="1350" y="1677"/>
                  </a:lnTo>
                  <a:lnTo>
                    <a:pt x="1350" y="1684"/>
                  </a:lnTo>
                  <a:lnTo>
                    <a:pt x="1357" y="1691"/>
                  </a:lnTo>
                  <a:lnTo>
                    <a:pt x="1357" y="1698"/>
                  </a:lnTo>
                  <a:lnTo>
                    <a:pt x="1357" y="1705"/>
                  </a:lnTo>
                  <a:lnTo>
                    <a:pt x="1357" y="1712"/>
                  </a:lnTo>
                  <a:lnTo>
                    <a:pt x="1357" y="1719"/>
                  </a:lnTo>
                  <a:lnTo>
                    <a:pt x="1364" y="1719"/>
                  </a:lnTo>
                  <a:lnTo>
                    <a:pt x="1364" y="1726"/>
                  </a:lnTo>
                  <a:lnTo>
                    <a:pt x="1364" y="1733"/>
                  </a:lnTo>
                  <a:lnTo>
                    <a:pt x="1364" y="1740"/>
                  </a:lnTo>
                  <a:lnTo>
                    <a:pt x="1364" y="1746"/>
                  </a:lnTo>
                  <a:lnTo>
                    <a:pt x="1370" y="1753"/>
                  </a:lnTo>
                  <a:lnTo>
                    <a:pt x="1370" y="1760"/>
                  </a:lnTo>
                  <a:lnTo>
                    <a:pt x="1370" y="1767"/>
                  </a:lnTo>
                  <a:lnTo>
                    <a:pt x="1370" y="1774"/>
                  </a:lnTo>
                  <a:lnTo>
                    <a:pt x="1377" y="1774"/>
                  </a:lnTo>
                  <a:lnTo>
                    <a:pt x="1377" y="1781"/>
                  </a:lnTo>
                  <a:lnTo>
                    <a:pt x="1377" y="1788"/>
                  </a:lnTo>
                  <a:lnTo>
                    <a:pt x="1377" y="1795"/>
                  </a:lnTo>
                  <a:lnTo>
                    <a:pt x="1377" y="1802"/>
                  </a:lnTo>
                  <a:lnTo>
                    <a:pt x="1384" y="1802"/>
                  </a:lnTo>
                  <a:lnTo>
                    <a:pt x="1384" y="1809"/>
                  </a:lnTo>
                  <a:lnTo>
                    <a:pt x="1384" y="1816"/>
                  </a:lnTo>
                  <a:lnTo>
                    <a:pt x="1384" y="1823"/>
                  </a:lnTo>
                  <a:lnTo>
                    <a:pt x="1391" y="1823"/>
                  </a:lnTo>
                  <a:lnTo>
                    <a:pt x="1391" y="1830"/>
                  </a:lnTo>
                  <a:lnTo>
                    <a:pt x="1391" y="1837"/>
                  </a:lnTo>
                  <a:lnTo>
                    <a:pt x="1391" y="1844"/>
                  </a:lnTo>
                  <a:lnTo>
                    <a:pt x="1398" y="1844"/>
                  </a:lnTo>
                  <a:lnTo>
                    <a:pt x="1398" y="1851"/>
                  </a:lnTo>
                  <a:lnTo>
                    <a:pt x="1398" y="1858"/>
                  </a:lnTo>
                  <a:lnTo>
                    <a:pt x="1405" y="1865"/>
                  </a:lnTo>
                  <a:lnTo>
                    <a:pt x="1405" y="1872"/>
                  </a:lnTo>
                  <a:lnTo>
                    <a:pt x="1405" y="1879"/>
                  </a:lnTo>
                  <a:lnTo>
                    <a:pt x="1412" y="1879"/>
                  </a:lnTo>
                  <a:lnTo>
                    <a:pt x="1412" y="1886"/>
                  </a:lnTo>
                  <a:lnTo>
                    <a:pt x="1412" y="1893"/>
                  </a:lnTo>
                  <a:lnTo>
                    <a:pt x="1419" y="1893"/>
                  </a:lnTo>
                  <a:lnTo>
                    <a:pt x="1419" y="1900"/>
                  </a:lnTo>
                  <a:lnTo>
                    <a:pt x="1419" y="1906"/>
                  </a:lnTo>
                  <a:lnTo>
                    <a:pt x="1426" y="1906"/>
                  </a:lnTo>
                  <a:lnTo>
                    <a:pt x="1426" y="1913"/>
                  </a:lnTo>
                  <a:lnTo>
                    <a:pt x="1426" y="1920"/>
                  </a:lnTo>
                  <a:lnTo>
                    <a:pt x="1433" y="1920"/>
                  </a:lnTo>
                  <a:lnTo>
                    <a:pt x="1433" y="1927"/>
                  </a:lnTo>
                  <a:lnTo>
                    <a:pt x="1433" y="1934"/>
                  </a:lnTo>
                  <a:lnTo>
                    <a:pt x="1440" y="1934"/>
                  </a:lnTo>
                  <a:lnTo>
                    <a:pt x="1440" y="1941"/>
                  </a:lnTo>
                  <a:lnTo>
                    <a:pt x="1447" y="1941"/>
                  </a:lnTo>
                  <a:lnTo>
                    <a:pt x="1447" y="1948"/>
                  </a:lnTo>
                  <a:lnTo>
                    <a:pt x="1454" y="1948"/>
                  </a:lnTo>
                  <a:lnTo>
                    <a:pt x="1454" y="1955"/>
                  </a:lnTo>
                  <a:lnTo>
                    <a:pt x="1461" y="1955"/>
                  </a:lnTo>
                  <a:lnTo>
                    <a:pt x="1461" y="1962"/>
                  </a:lnTo>
                  <a:lnTo>
                    <a:pt x="1468" y="1962"/>
                  </a:lnTo>
                  <a:lnTo>
                    <a:pt x="1468" y="1969"/>
                  </a:lnTo>
                  <a:lnTo>
                    <a:pt x="1475" y="1969"/>
                  </a:lnTo>
                  <a:lnTo>
                    <a:pt x="1475" y="1976"/>
                  </a:lnTo>
                  <a:lnTo>
                    <a:pt x="1482" y="1976"/>
                  </a:lnTo>
                  <a:lnTo>
                    <a:pt x="1489" y="1976"/>
                  </a:lnTo>
                  <a:lnTo>
                    <a:pt x="1489" y="1969"/>
                  </a:lnTo>
                  <a:lnTo>
                    <a:pt x="1496" y="1969"/>
                  </a:lnTo>
                  <a:lnTo>
                    <a:pt x="1503" y="1969"/>
                  </a:lnTo>
                  <a:lnTo>
                    <a:pt x="1510" y="1969"/>
                  </a:lnTo>
                  <a:lnTo>
                    <a:pt x="1517" y="1969"/>
                  </a:lnTo>
                  <a:lnTo>
                    <a:pt x="1524" y="1969"/>
                  </a:lnTo>
                  <a:lnTo>
                    <a:pt x="1524" y="1976"/>
                  </a:lnTo>
                  <a:lnTo>
                    <a:pt x="1530" y="1976"/>
                  </a:lnTo>
                  <a:lnTo>
                    <a:pt x="1537" y="1976"/>
                  </a:lnTo>
                  <a:lnTo>
                    <a:pt x="1537" y="1969"/>
                  </a:lnTo>
                  <a:lnTo>
                    <a:pt x="1544" y="1969"/>
                  </a:lnTo>
                  <a:lnTo>
                    <a:pt x="1544" y="1962"/>
                  </a:lnTo>
                  <a:lnTo>
                    <a:pt x="1551" y="1962"/>
                  </a:lnTo>
                  <a:lnTo>
                    <a:pt x="1551" y="1955"/>
                  </a:lnTo>
                  <a:lnTo>
                    <a:pt x="1558" y="1955"/>
                  </a:lnTo>
                  <a:lnTo>
                    <a:pt x="1558" y="1948"/>
                  </a:lnTo>
                  <a:lnTo>
                    <a:pt x="1565" y="1948"/>
                  </a:lnTo>
                  <a:lnTo>
                    <a:pt x="1565" y="1941"/>
                  </a:lnTo>
                  <a:lnTo>
                    <a:pt x="1572" y="1941"/>
                  </a:lnTo>
                  <a:lnTo>
                    <a:pt x="1572" y="1934"/>
                  </a:lnTo>
                  <a:lnTo>
                    <a:pt x="1579" y="1934"/>
                  </a:lnTo>
                  <a:lnTo>
                    <a:pt x="1579" y="1927"/>
                  </a:lnTo>
                  <a:lnTo>
                    <a:pt x="1579" y="1920"/>
                  </a:lnTo>
                  <a:lnTo>
                    <a:pt x="1586" y="1920"/>
                  </a:lnTo>
                  <a:lnTo>
                    <a:pt x="1586" y="1913"/>
                  </a:lnTo>
                  <a:lnTo>
                    <a:pt x="1586" y="1906"/>
                  </a:lnTo>
                  <a:lnTo>
                    <a:pt x="1593" y="1906"/>
                  </a:lnTo>
                  <a:lnTo>
                    <a:pt x="1593" y="1900"/>
                  </a:lnTo>
                  <a:lnTo>
                    <a:pt x="1593" y="1893"/>
                  </a:lnTo>
                  <a:lnTo>
                    <a:pt x="1600" y="1893"/>
                  </a:lnTo>
                  <a:lnTo>
                    <a:pt x="1600" y="1886"/>
                  </a:lnTo>
                  <a:lnTo>
                    <a:pt x="1600" y="1879"/>
                  </a:lnTo>
                  <a:lnTo>
                    <a:pt x="1607" y="1879"/>
                  </a:lnTo>
                  <a:lnTo>
                    <a:pt x="1607" y="1872"/>
                  </a:lnTo>
                  <a:lnTo>
                    <a:pt x="1607" y="1865"/>
                  </a:lnTo>
                  <a:lnTo>
                    <a:pt x="1614" y="1858"/>
                  </a:lnTo>
                  <a:lnTo>
                    <a:pt x="1614" y="1851"/>
                  </a:lnTo>
                  <a:lnTo>
                    <a:pt x="1614" y="1844"/>
                  </a:lnTo>
                  <a:lnTo>
                    <a:pt x="1621" y="1844"/>
                  </a:lnTo>
                  <a:lnTo>
                    <a:pt x="1621" y="1837"/>
                  </a:lnTo>
                  <a:lnTo>
                    <a:pt x="1621" y="1830"/>
                  </a:lnTo>
                  <a:lnTo>
                    <a:pt x="1621" y="1823"/>
                  </a:lnTo>
                  <a:lnTo>
                    <a:pt x="1628" y="1823"/>
                  </a:lnTo>
                  <a:lnTo>
                    <a:pt x="1628" y="1816"/>
                  </a:lnTo>
                  <a:lnTo>
                    <a:pt x="1628" y="1809"/>
                  </a:lnTo>
                  <a:lnTo>
                    <a:pt x="1628" y="1802"/>
                  </a:lnTo>
                  <a:lnTo>
                    <a:pt x="1635" y="1802"/>
                  </a:lnTo>
                  <a:lnTo>
                    <a:pt x="1635" y="1795"/>
                  </a:lnTo>
                  <a:lnTo>
                    <a:pt x="1635" y="1788"/>
                  </a:lnTo>
                  <a:lnTo>
                    <a:pt x="1635" y="1781"/>
                  </a:lnTo>
                  <a:lnTo>
                    <a:pt x="1635" y="1774"/>
                  </a:lnTo>
                  <a:lnTo>
                    <a:pt x="1642" y="1774"/>
                  </a:lnTo>
                  <a:lnTo>
                    <a:pt x="1642" y="1767"/>
                  </a:lnTo>
                  <a:lnTo>
                    <a:pt x="1642" y="1760"/>
                  </a:lnTo>
                  <a:lnTo>
                    <a:pt x="1642" y="1753"/>
                  </a:lnTo>
                  <a:lnTo>
                    <a:pt x="1649" y="1746"/>
                  </a:lnTo>
                  <a:lnTo>
                    <a:pt x="1649" y="1740"/>
                  </a:lnTo>
                  <a:lnTo>
                    <a:pt x="1649" y="1733"/>
                  </a:lnTo>
                  <a:lnTo>
                    <a:pt x="1649" y="1726"/>
                  </a:lnTo>
                  <a:lnTo>
                    <a:pt x="1649" y="1719"/>
                  </a:lnTo>
                  <a:lnTo>
                    <a:pt x="1656" y="1719"/>
                  </a:lnTo>
                  <a:lnTo>
                    <a:pt x="1656" y="1712"/>
                  </a:lnTo>
                  <a:lnTo>
                    <a:pt x="1656" y="1705"/>
                  </a:lnTo>
                  <a:lnTo>
                    <a:pt x="1656" y="1698"/>
                  </a:lnTo>
                  <a:lnTo>
                    <a:pt x="1656" y="1691"/>
                  </a:lnTo>
                  <a:lnTo>
                    <a:pt x="1663" y="1684"/>
                  </a:lnTo>
                  <a:lnTo>
                    <a:pt x="1663" y="1677"/>
                  </a:lnTo>
                  <a:lnTo>
                    <a:pt x="1663" y="1670"/>
                  </a:lnTo>
                  <a:lnTo>
                    <a:pt x="1663" y="1663"/>
                  </a:lnTo>
                  <a:lnTo>
                    <a:pt x="1663" y="1656"/>
                  </a:lnTo>
                  <a:lnTo>
                    <a:pt x="1670" y="1649"/>
                  </a:lnTo>
                  <a:lnTo>
                    <a:pt x="1670" y="1642"/>
                  </a:lnTo>
                  <a:lnTo>
                    <a:pt x="1670" y="1635"/>
                  </a:lnTo>
                  <a:lnTo>
                    <a:pt x="1670" y="1628"/>
                  </a:lnTo>
                  <a:lnTo>
                    <a:pt x="1670" y="1621"/>
                  </a:lnTo>
                  <a:lnTo>
                    <a:pt x="1670" y="1614"/>
                  </a:lnTo>
                  <a:lnTo>
                    <a:pt x="1677" y="1614"/>
                  </a:lnTo>
                  <a:lnTo>
                    <a:pt x="1677" y="1607"/>
                  </a:lnTo>
                  <a:lnTo>
                    <a:pt x="1677" y="1600"/>
                  </a:lnTo>
                  <a:lnTo>
                    <a:pt x="1677" y="1593"/>
                  </a:lnTo>
                  <a:lnTo>
                    <a:pt x="1677" y="1586"/>
                  </a:lnTo>
                  <a:lnTo>
                    <a:pt x="1677" y="1580"/>
                  </a:lnTo>
                  <a:lnTo>
                    <a:pt x="1684" y="1573"/>
                  </a:lnTo>
                  <a:lnTo>
                    <a:pt x="1684" y="1566"/>
                  </a:lnTo>
                  <a:lnTo>
                    <a:pt x="1684" y="1559"/>
                  </a:lnTo>
                  <a:lnTo>
                    <a:pt x="1684" y="1552"/>
                  </a:lnTo>
                  <a:lnTo>
                    <a:pt x="1684" y="1545"/>
                  </a:lnTo>
                  <a:lnTo>
                    <a:pt x="1684" y="1538"/>
                  </a:lnTo>
                  <a:lnTo>
                    <a:pt x="1684" y="1531"/>
                  </a:lnTo>
                  <a:lnTo>
                    <a:pt x="1691" y="1531"/>
                  </a:lnTo>
                  <a:lnTo>
                    <a:pt x="1691" y="1524"/>
                  </a:lnTo>
                  <a:lnTo>
                    <a:pt x="1691" y="1517"/>
                  </a:lnTo>
                  <a:lnTo>
                    <a:pt x="1691" y="1510"/>
                  </a:lnTo>
                  <a:lnTo>
                    <a:pt x="1691" y="1503"/>
                  </a:lnTo>
                  <a:lnTo>
                    <a:pt x="1691" y="1496"/>
                  </a:lnTo>
                  <a:lnTo>
                    <a:pt x="1691" y="1489"/>
                  </a:lnTo>
                  <a:lnTo>
                    <a:pt x="1691" y="1482"/>
                  </a:lnTo>
                  <a:lnTo>
                    <a:pt x="1697" y="1482"/>
                  </a:lnTo>
                  <a:lnTo>
                    <a:pt x="1697" y="1475"/>
                  </a:lnTo>
                  <a:lnTo>
                    <a:pt x="1697" y="1468"/>
                  </a:lnTo>
                  <a:lnTo>
                    <a:pt x="1697" y="1461"/>
                  </a:lnTo>
                  <a:lnTo>
                    <a:pt x="1697" y="1454"/>
                  </a:lnTo>
                  <a:lnTo>
                    <a:pt x="1697" y="1447"/>
                  </a:lnTo>
                  <a:lnTo>
                    <a:pt x="1697" y="1440"/>
                  </a:lnTo>
                  <a:lnTo>
                    <a:pt x="1697" y="1433"/>
                  </a:lnTo>
                  <a:lnTo>
                    <a:pt x="1704" y="1426"/>
                  </a:lnTo>
                  <a:lnTo>
                    <a:pt x="1704" y="1419"/>
                  </a:lnTo>
                  <a:lnTo>
                    <a:pt x="1704" y="1413"/>
                  </a:lnTo>
                  <a:lnTo>
                    <a:pt x="1704" y="1406"/>
                  </a:lnTo>
                  <a:lnTo>
                    <a:pt x="1704" y="1399"/>
                  </a:lnTo>
                  <a:lnTo>
                    <a:pt x="1704" y="1392"/>
                  </a:lnTo>
                  <a:lnTo>
                    <a:pt x="1704" y="1385"/>
                  </a:lnTo>
                  <a:lnTo>
                    <a:pt x="1704" y="1378"/>
                  </a:lnTo>
                  <a:lnTo>
                    <a:pt x="1711" y="1371"/>
                  </a:lnTo>
                  <a:lnTo>
                    <a:pt x="1711" y="1364"/>
                  </a:lnTo>
                  <a:lnTo>
                    <a:pt x="1711" y="1357"/>
                  </a:lnTo>
                  <a:lnTo>
                    <a:pt x="1711" y="1350"/>
                  </a:lnTo>
                  <a:lnTo>
                    <a:pt x="1711" y="1343"/>
                  </a:lnTo>
                  <a:lnTo>
                    <a:pt x="1711" y="1336"/>
                  </a:lnTo>
                  <a:lnTo>
                    <a:pt x="1711" y="1329"/>
                  </a:lnTo>
                  <a:lnTo>
                    <a:pt x="1711" y="1322"/>
                  </a:lnTo>
                  <a:lnTo>
                    <a:pt x="1711" y="1315"/>
                  </a:lnTo>
                  <a:lnTo>
                    <a:pt x="1718" y="1315"/>
                  </a:lnTo>
                  <a:lnTo>
                    <a:pt x="1718" y="1308"/>
                  </a:lnTo>
                  <a:lnTo>
                    <a:pt x="1718" y="1301"/>
                  </a:lnTo>
                  <a:lnTo>
                    <a:pt x="1718" y="1294"/>
                  </a:lnTo>
                  <a:lnTo>
                    <a:pt x="1718" y="1287"/>
                  </a:lnTo>
                  <a:lnTo>
                    <a:pt x="1718" y="1280"/>
                  </a:lnTo>
                  <a:lnTo>
                    <a:pt x="1718" y="1273"/>
                  </a:lnTo>
                  <a:lnTo>
                    <a:pt x="1718" y="1266"/>
                  </a:lnTo>
                  <a:lnTo>
                    <a:pt x="1718" y="1259"/>
                  </a:lnTo>
                  <a:lnTo>
                    <a:pt x="1718" y="1253"/>
                  </a:lnTo>
                  <a:lnTo>
                    <a:pt x="1725" y="1246"/>
                  </a:lnTo>
                  <a:lnTo>
                    <a:pt x="1725" y="1239"/>
                  </a:lnTo>
                  <a:lnTo>
                    <a:pt x="1725" y="1232"/>
                  </a:lnTo>
                  <a:lnTo>
                    <a:pt x="1725" y="1225"/>
                  </a:lnTo>
                  <a:lnTo>
                    <a:pt x="1725" y="1218"/>
                  </a:lnTo>
                  <a:lnTo>
                    <a:pt x="1725" y="1211"/>
                  </a:lnTo>
                  <a:lnTo>
                    <a:pt x="1725" y="1204"/>
                  </a:lnTo>
                  <a:lnTo>
                    <a:pt x="1725" y="1197"/>
                  </a:lnTo>
                  <a:lnTo>
                    <a:pt x="1725" y="1190"/>
                  </a:lnTo>
                  <a:lnTo>
                    <a:pt x="1725" y="1183"/>
                  </a:lnTo>
                  <a:lnTo>
                    <a:pt x="1725" y="1176"/>
                  </a:lnTo>
                  <a:lnTo>
                    <a:pt x="1732" y="1169"/>
                  </a:lnTo>
                  <a:lnTo>
                    <a:pt x="1732" y="1162"/>
                  </a:lnTo>
                  <a:lnTo>
                    <a:pt x="1732" y="1155"/>
                  </a:lnTo>
                  <a:lnTo>
                    <a:pt x="1732" y="1148"/>
                  </a:lnTo>
                  <a:lnTo>
                    <a:pt x="1732" y="1141"/>
                  </a:lnTo>
                  <a:lnTo>
                    <a:pt x="1732" y="1134"/>
                  </a:lnTo>
                  <a:lnTo>
                    <a:pt x="1732" y="1127"/>
                  </a:lnTo>
                  <a:lnTo>
                    <a:pt x="1732" y="1120"/>
                  </a:lnTo>
                  <a:lnTo>
                    <a:pt x="1732" y="1113"/>
                  </a:lnTo>
                  <a:lnTo>
                    <a:pt x="1732" y="1106"/>
                  </a:lnTo>
                  <a:lnTo>
                    <a:pt x="1732" y="1099"/>
                  </a:lnTo>
                  <a:lnTo>
                    <a:pt x="1739" y="1099"/>
                  </a:lnTo>
                  <a:lnTo>
                    <a:pt x="1739" y="1093"/>
                  </a:lnTo>
                  <a:lnTo>
                    <a:pt x="1739" y="1086"/>
                  </a:lnTo>
                  <a:lnTo>
                    <a:pt x="1739" y="1079"/>
                  </a:lnTo>
                  <a:lnTo>
                    <a:pt x="1739" y="1072"/>
                  </a:lnTo>
                  <a:lnTo>
                    <a:pt x="1739" y="1065"/>
                  </a:lnTo>
                  <a:lnTo>
                    <a:pt x="1739" y="1058"/>
                  </a:lnTo>
                  <a:lnTo>
                    <a:pt x="1739" y="1051"/>
                  </a:lnTo>
                  <a:lnTo>
                    <a:pt x="1739" y="1044"/>
                  </a:lnTo>
                  <a:lnTo>
                    <a:pt x="1739" y="1037"/>
                  </a:lnTo>
                  <a:lnTo>
                    <a:pt x="1739" y="1030"/>
                  </a:lnTo>
                  <a:lnTo>
                    <a:pt x="1739" y="1023"/>
                  </a:lnTo>
                  <a:lnTo>
                    <a:pt x="1746" y="1016"/>
                  </a:lnTo>
                  <a:lnTo>
                    <a:pt x="1746" y="1009"/>
                  </a:lnTo>
                  <a:lnTo>
                    <a:pt x="1746" y="1002"/>
                  </a:lnTo>
                  <a:lnTo>
                    <a:pt x="1746" y="995"/>
                  </a:lnTo>
                  <a:lnTo>
                    <a:pt x="1746" y="988"/>
                  </a:lnTo>
                  <a:lnTo>
                    <a:pt x="1746" y="981"/>
                  </a:lnTo>
                  <a:lnTo>
                    <a:pt x="1746" y="974"/>
                  </a:lnTo>
                  <a:lnTo>
                    <a:pt x="1746" y="967"/>
                  </a:lnTo>
                  <a:lnTo>
                    <a:pt x="1746" y="960"/>
                  </a:lnTo>
                  <a:lnTo>
                    <a:pt x="1746" y="953"/>
                  </a:lnTo>
                  <a:lnTo>
                    <a:pt x="1746" y="946"/>
                  </a:lnTo>
                  <a:lnTo>
                    <a:pt x="1746" y="939"/>
                  </a:lnTo>
                  <a:lnTo>
                    <a:pt x="1753" y="932"/>
                  </a:lnTo>
                  <a:lnTo>
                    <a:pt x="1753" y="926"/>
                  </a:lnTo>
                  <a:lnTo>
                    <a:pt x="1753" y="919"/>
                  </a:lnTo>
                  <a:lnTo>
                    <a:pt x="1753" y="912"/>
                  </a:lnTo>
                  <a:lnTo>
                    <a:pt x="1753" y="905"/>
                  </a:lnTo>
                  <a:lnTo>
                    <a:pt x="1753" y="898"/>
                  </a:lnTo>
                  <a:lnTo>
                    <a:pt x="1753" y="891"/>
                  </a:lnTo>
                  <a:lnTo>
                    <a:pt x="1753" y="884"/>
                  </a:lnTo>
                  <a:lnTo>
                    <a:pt x="1753" y="877"/>
                  </a:lnTo>
                  <a:lnTo>
                    <a:pt x="1753" y="870"/>
                  </a:lnTo>
                  <a:lnTo>
                    <a:pt x="1753" y="863"/>
                  </a:lnTo>
                  <a:lnTo>
                    <a:pt x="1753" y="856"/>
                  </a:lnTo>
                  <a:lnTo>
                    <a:pt x="1760" y="849"/>
                  </a:lnTo>
                  <a:lnTo>
                    <a:pt x="1760" y="842"/>
                  </a:lnTo>
                  <a:lnTo>
                    <a:pt x="1760" y="835"/>
                  </a:lnTo>
                  <a:lnTo>
                    <a:pt x="1760" y="828"/>
                  </a:lnTo>
                  <a:lnTo>
                    <a:pt x="1760" y="821"/>
                  </a:lnTo>
                  <a:lnTo>
                    <a:pt x="1760" y="814"/>
                  </a:lnTo>
                  <a:lnTo>
                    <a:pt x="1760" y="807"/>
                  </a:lnTo>
                  <a:lnTo>
                    <a:pt x="1760" y="800"/>
                  </a:lnTo>
                  <a:lnTo>
                    <a:pt x="1760" y="793"/>
                  </a:lnTo>
                  <a:lnTo>
                    <a:pt x="1760" y="786"/>
                  </a:lnTo>
                  <a:lnTo>
                    <a:pt x="1760" y="779"/>
                  </a:lnTo>
                  <a:lnTo>
                    <a:pt x="1760" y="772"/>
                  </a:lnTo>
                  <a:lnTo>
                    <a:pt x="1760" y="766"/>
                  </a:lnTo>
                  <a:lnTo>
                    <a:pt x="1760" y="759"/>
                  </a:lnTo>
                  <a:lnTo>
                    <a:pt x="1767" y="752"/>
                  </a:lnTo>
                  <a:lnTo>
                    <a:pt x="1767" y="745"/>
                  </a:lnTo>
                  <a:lnTo>
                    <a:pt x="1767" y="738"/>
                  </a:lnTo>
                  <a:lnTo>
                    <a:pt x="1767" y="731"/>
                  </a:lnTo>
                  <a:lnTo>
                    <a:pt x="1767" y="724"/>
                  </a:lnTo>
                  <a:lnTo>
                    <a:pt x="1767" y="717"/>
                  </a:lnTo>
                  <a:lnTo>
                    <a:pt x="1767" y="710"/>
                  </a:lnTo>
                  <a:lnTo>
                    <a:pt x="1767" y="703"/>
                  </a:lnTo>
                  <a:lnTo>
                    <a:pt x="1767" y="696"/>
                  </a:lnTo>
                  <a:lnTo>
                    <a:pt x="1767" y="689"/>
                  </a:lnTo>
                  <a:lnTo>
                    <a:pt x="1767" y="682"/>
                  </a:lnTo>
                  <a:lnTo>
                    <a:pt x="1767" y="675"/>
                  </a:lnTo>
                  <a:lnTo>
                    <a:pt x="1767" y="668"/>
                  </a:lnTo>
                  <a:lnTo>
                    <a:pt x="1767" y="661"/>
                  </a:lnTo>
                  <a:lnTo>
                    <a:pt x="1774" y="661"/>
                  </a:lnTo>
                  <a:lnTo>
                    <a:pt x="1774" y="654"/>
                  </a:lnTo>
                  <a:lnTo>
                    <a:pt x="1774" y="647"/>
                  </a:lnTo>
                  <a:lnTo>
                    <a:pt x="1774" y="640"/>
                  </a:lnTo>
                  <a:lnTo>
                    <a:pt x="1774" y="633"/>
                  </a:lnTo>
                  <a:lnTo>
                    <a:pt x="1774" y="626"/>
                  </a:lnTo>
                  <a:lnTo>
                    <a:pt x="1774" y="619"/>
                  </a:lnTo>
                  <a:lnTo>
                    <a:pt x="1774" y="612"/>
                  </a:lnTo>
                  <a:lnTo>
                    <a:pt x="1774" y="606"/>
                  </a:lnTo>
                  <a:lnTo>
                    <a:pt x="1774" y="599"/>
                  </a:lnTo>
                  <a:lnTo>
                    <a:pt x="1774" y="592"/>
                  </a:lnTo>
                  <a:lnTo>
                    <a:pt x="1774" y="585"/>
                  </a:lnTo>
                  <a:lnTo>
                    <a:pt x="1774" y="578"/>
                  </a:lnTo>
                  <a:lnTo>
                    <a:pt x="1774" y="571"/>
                  </a:lnTo>
                  <a:lnTo>
                    <a:pt x="1781" y="564"/>
                  </a:lnTo>
                  <a:lnTo>
                    <a:pt x="1781" y="557"/>
                  </a:lnTo>
                  <a:lnTo>
                    <a:pt x="1781" y="550"/>
                  </a:lnTo>
                  <a:lnTo>
                    <a:pt x="1781" y="543"/>
                  </a:lnTo>
                  <a:lnTo>
                    <a:pt x="1781" y="536"/>
                  </a:lnTo>
                  <a:lnTo>
                    <a:pt x="1781" y="529"/>
                  </a:lnTo>
                  <a:lnTo>
                    <a:pt x="1781" y="522"/>
                  </a:lnTo>
                  <a:lnTo>
                    <a:pt x="1781" y="515"/>
                  </a:lnTo>
                  <a:lnTo>
                    <a:pt x="1781" y="508"/>
                  </a:lnTo>
                  <a:lnTo>
                    <a:pt x="1781" y="501"/>
                  </a:lnTo>
                  <a:lnTo>
                    <a:pt x="1781" y="494"/>
                  </a:lnTo>
                  <a:lnTo>
                    <a:pt x="1781" y="487"/>
                  </a:lnTo>
                  <a:lnTo>
                    <a:pt x="1781" y="480"/>
                  </a:lnTo>
                  <a:lnTo>
                    <a:pt x="1788" y="473"/>
                  </a:lnTo>
                  <a:lnTo>
                    <a:pt x="1788" y="466"/>
                  </a:lnTo>
                  <a:lnTo>
                    <a:pt x="1788" y="459"/>
                  </a:lnTo>
                  <a:lnTo>
                    <a:pt x="1788" y="452"/>
                  </a:lnTo>
                  <a:lnTo>
                    <a:pt x="1788" y="445"/>
                  </a:lnTo>
                  <a:lnTo>
                    <a:pt x="1788" y="439"/>
                  </a:lnTo>
                  <a:lnTo>
                    <a:pt x="1788" y="432"/>
                  </a:lnTo>
                  <a:lnTo>
                    <a:pt x="1788" y="425"/>
                  </a:lnTo>
                  <a:lnTo>
                    <a:pt x="1788" y="418"/>
                  </a:lnTo>
                  <a:lnTo>
                    <a:pt x="1788" y="411"/>
                  </a:lnTo>
                  <a:lnTo>
                    <a:pt x="1788" y="404"/>
                  </a:lnTo>
                  <a:lnTo>
                    <a:pt x="1788" y="397"/>
                  </a:lnTo>
                  <a:lnTo>
                    <a:pt x="1795" y="390"/>
                  </a:lnTo>
                  <a:lnTo>
                    <a:pt x="1795" y="383"/>
                  </a:lnTo>
                  <a:lnTo>
                    <a:pt x="1795" y="376"/>
                  </a:lnTo>
                  <a:lnTo>
                    <a:pt x="1795" y="369"/>
                  </a:lnTo>
                  <a:lnTo>
                    <a:pt x="1795" y="362"/>
                  </a:lnTo>
                  <a:lnTo>
                    <a:pt x="1795" y="355"/>
                  </a:lnTo>
                  <a:lnTo>
                    <a:pt x="1795" y="348"/>
                  </a:lnTo>
                  <a:lnTo>
                    <a:pt x="1795" y="341"/>
                  </a:lnTo>
                  <a:lnTo>
                    <a:pt x="1795" y="334"/>
                  </a:lnTo>
                  <a:lnTo>
                    <a:pt x="1795" y="327"/>
                  </a:lnTo>
                  <a:lnTo>
                    <a:pt x="1795" y="320"/>
                  </a:lnTo>
                  <a:lnTo>
                    <a:pt x="1795" y="313"/>
                  </a:lnTo>
                  <a:lnTo>
                    <a:pt x="1802" y="306"/>
                  </a:lnTo>
                  <a:lnTo>
                    <a:pt x="1802" y="299"/>
                  </a:lnTo>
                  <a:lnTo>
                    <a:pt x="1802" y="292"/>
                  </a:lnTo>
                  <a:lnTo>
                    <a:pt x="1802" y="285"/>
                  </a:lnTo>
                  <a:lnTo>
                    <a:pt x="1802" y="279"/>
                  </a:lnTo>
                  <a:lnTo>
                    <a:pt x="1802" y="272"/>
                  </a:lnTo>
                  <a:lnTo>
                    <a:pt x="1802" y="265"/>
                  </a:lnTo>
                  <a:lnTo>
                    <a:pt x="1802" y="258"/>
                  </a:lnTo>
                  <a:lnTo>
                    <a:pt x="1802" y="251"/>
                  </a:lnTo>
                  <a:lnTo>
                    <a:pt x="1802" y="244"/>
                  </a:lnTo>
                  <a:lnTo>
                    <a:pt x="1802" y="237"/>
                  </a:lnTo>
                  <a:lnTo>
                    <a:pt x="1809" y="230"/>
                  </a:lnTo>
                  <a:lnTo>
                    <a:pt x="1809" y="223"/>
                  </a:lnTo>
                  <a:lnTo>
                    <a:pt x="1809" y="216"/>
                  </a:lnTo>
                  <a:lnTo>
                    <a:pt x="1809" y="209"/>
                  </a:lnTo>
                  <a:lnTo>
                    <a:pt x="1809" y="202"/>
                  </a:lnTo>
                  <a:lnTo>
                    <a:pt x="1809" y="195"/>
                  </a:lnTo>
                  <a:lnTo>
                    <a:pt x="1809" y="188"/>
                  </a:lnTo>
                  <a:lnTo>
                    <a:pt x="1809" y="181"/>
                  </a:lnTo>
                  <a:lnTo>
                    <a:pt x="1809" y="174"/>
                  </a:lnTo>
                  <a:lnTo>
                    <a:pt x="1816" y="167"/>
                  </a:lnTo>
                  <a:lnTo>
                    <a:pt x="1816" y="160"/>
                  </a:lnTo>
                  <a:lnTo>
                    <a:pt x="1816" y="153"/>
                  </a:lnTo>
                  <a:lnTo>
                    <a:pt x="1816" y="146"/>
                  </a:lnTo>
                  <a:lnTo>
                    <a:pt x="1816" y="139"/>
                  </a:lnTo>
                  <a:lnTo>
                    <a:pt x="1816" y="132"/>
                  </a:lnTo>
                  <a:lnTo>
                    <a:pt x="1816" y="125"/>
                  </a:lnTo>
                  <a:lnTo>
                    <a:pt x="1816" y="119"/>
                  </a:lnTo>
                  <a:lnTo>
                    <a:pt x="1823" y="112"/>
                  </a:lnTo>
                  <a:lnTo>
                    <a:pt x="1823" y="105"/>
                  </a:lnTo>
                  <a:lnTo>
                    <a:pt x="1823" y="98"/>
                  </a:lnTo>
                  <a:lnTo>
                    <a:pt x="1823" y="91"/>
                  </a:lnTo>
                  <a:lnTo>
                    <a:pt x="1823" y="84"/>
                  </a:lnTo>
                  <a:lnTo>
                    <a:pt x="1823" y="77"/>
                  </a:lnTo>
                  <a:lnTo>
                    <a:pt x="1830" y="70"/>
                  </a:lnTo>
                  <a:lnTo>
                    <a:pt x="1830" y="63"/>
                  </a:lnTo>
                  <a:lnTo>
                    <a:pt x="1830" y="56"/>
                  </a:lnTo>
                  <a:lnTo>
                    <a:pt x="1830" y="49"/>
                  </a:lnTo>
                  <a:lnTo>
                    <a:pt x="1830" y="42"/>
                  </a:lnTo>
                  <a:lnTo>
                    <a:pt x="1837" y="42"/>
                  </a:lnTo>
                  <a:lnTo>
                    <a:pt x="1837" y="35"/>
                  </a:lnTo>
                  <a:lnTo>
                    <a:pt x="1837" y="28"/>
                  </a:lnTo>
                  <a:lnTo>
                    <a:pt x="1837" y="21"/>
                  </a:lnTo>
                  <a:lnTo>
                    <a:pt x="1844" y="14"/>
                  </a:lnTo>
                  <a:lnTo>
                    <a:pt x="1844" y="7"/>
                  </a:lnTo>
                  <a:lnTo>
                    <a:pt x="1851" y="7"/>
                  </a:lnTo>
                  <a:lnTo>
                    <a:pt x="1851" y="0"/>
                  </a:lnTo>
                  <a:lnTo>
                    <a:pt x="1857" y="0"/>
                  </a:lnTo>
                  <a:lnTo>
                    <a:pt x="1864" y="0"/>
                  </a:lnTo>
                  <a:lnTo>
                    <a:pt x="1864" y="7"/>
                  </a:lnTo>
                  <a:lnTo>
                    <a:pt x="1871" y="7"/>
                  </a:lnTo>
                  <a:lnTo>
                    <a:pt x="1871" y="14"/>
                  </a:lnTo>
                  <a:lnTo>
                    <a:pt x="1878" y="14"/>
                  </a:lnTo>
                  <a:lnTo>
                    <a:pt x="1878" y="21"/>
                  </a:lnTo>
                  <a:lnTo>
                    <a:pt x="1878" y="28"/>
                  </a:lnTo>
                  <a:lnTo>
                    <a:pt x="1885" y="28"/>
                  </a:lnTo>
                  <a:lnTo>
                    <a:pt x="1885" y="35"/>
                  </a:lnTo>
                  <a:lnTo>
                    <a:pt x="1885" y="42"/>
                  </a:lnTo>
                  <a:lnTo>
                    <a:pt x="1892" y="42"/>
                  </a:lnTo>
                  <a:lnTo>
                    <a:pt x="1892" y="49"/>
                  </a:lnTo>
                  <a:lnTo>
                    <a:pt x="1892" y="56"/>
                  </a:lnTo>
                  <a:lnTo>
                    <a:pt x="1899" y="56"/>
                  </a:lnTo>
                  <a:lnTo>
                    <a:pt x="1899" y="63"/>
                  </a:lnTo>
                  <a:lnTo>
                    <a:pt x="1899" y="70"/>
                  </a:lnTo>
                  <a:lnTo>
                    <a:pt x="1906" y="77"/>
                  </a:lnTo>
                  <a:lnTo>
                    <a:pt x="1906" y="84"/>
                  </a:lnTo>
                  <a:lnTo>
                    <a:pt x="1906" y="91"/>
                  </a:lnTo>
                  <a:lnTo>
                    <a:pt x="1913" y="91"/>
                  </a:lnTo>
                  <a:lnTo>
                    <a:pt x="1913" y="98"/>
                  </a:lnTo>
                  <a:lnTo>
                    <a:pt x="1913" y="105"/>
                  </a:lnTo>
                  <a:lnTo>
                    <a:pt x="1920" y="105"/>
                  </a:lnTo>
                  <a:lnTo>
                    <a:pt x="1920" y="112"/>
                  </a:lnTo>
                  <a:lnTo>
                    <a:pt x="1920" y="119"/>
                  </a:lnTo>
                  <a:lnTo>
                    <a:pt x="1927" y="119"/>
                  </a:lnTo>
                  <a:lnTo>
                    <a:pt x="1927" y="125"/>
                  </a:lnTo>
                  <a:lnTo>
                    <a:pt x="1927" y="132"/>
                  </a:lnTo>
                  <a:lnTo>
                    <a:pt x="1934" y="132"/>
                  </a:lnTo>
                  <a:lnTo>
                    <a:pt x="1934" y="139"/>
                  </a:lnTo>
                  <a:lnTo>
                    <a:pt x="1934" y="146"/>
                  </a:lnTo>
                  <a:lnTo>
                    <a:pt x="1941" y="146"/>
                  </a:lnTo>
                  <a:lnTo>
                    <a:pt x="1941" y="153"/>
                  </a:lnTo>
                  <a:lnTo>
                    <a:pt x="1941" y="160"/>
                  </a:lnTo>
                  <a:lnTo>
                    <a:pt x="1948" y="160"/>
                  </a:lnTo>
                  <a:lnTo>
                    <a:pt x="1948" y="167"/>
                  </a:lnTo>
                  <a:lnTo>
                    <a:pt x="1948" y="174"/>
                  </a:lnTo>
                  <a:lnTo>
                    <a:pt x="1955" y="174"/>
                  </a:lnTo>
                  <a:lnTo>
                    <a:pt x="1955" y="181"/>
                  </a:lnTo>
                  <a:lnTo>
                    <a:pt x="1962" y="181"/>
                  </a:lnTo>
                  <a:lnTo>
                    <a:pt x="1962" y="188"/>
                  </a:lnTo>
                  <a:lnTo>
                    <a:pt x="1969" y="188"/>
                  </a:lnTo>
                  <a:lnTo>
                    <a:pt x="1969" y="195"/>
                  </a:lnTo>
                  <a:lnTo>
                    <a:pt x="1976" y="195"/>
                  </a:lnTo>
                  <a:lnTo>
                    <a:pt x="1976" y="202"/>
                  </a:lnTo>
                  <a:lnTo>
                    <a:pt x="1983" y="202"/>
                  </a:lnTo>
                  <a:lnTo>
                    <a:pt x="1983" y="209"/>
                  </a:lnTo>
                  <a:lnTo>
                    <a:pt x="1990" y="209"/>
                  </a:lnTo>
                  <a:lnTo>
                    <a:pt x="1997" y="209"/>
                  </a:lnTo>
                  <a:lnTo>
                    <a:pt x="1997" y="216"/>
                  </a:lnTo>
                  <a:lnTo>
                    <a:pt x="2004" y="216"/>
                  </a:lnTo>
                  <a:lnTo>
                    <a:pt x="2011" y="216"/>
                  </a:lnTo>
                  <a:lnTo>
                    <a:pt x="2017" y="216"/>
                  </a:lnTo>
                  <a:lnTo>
                    <a:pt x="2017" y="209"/>
                  </a:lnTo>
                  <a:lnTo>
                    <a:pt x="2024" y="209"/>
                  </a:lnTo>
                  <a:lnTo>
                    <a:pt x="2031" y="209"/>
                  </a:lnTo>
                  <a:lnTo>
                    <a:pt x="2031" y="202"/>
                  </a:lnTo>
                  <a:lnTo>
                    <a:pt x="2038" y="202"/>
                  </a:lnTo>
                  <a:lnTo>
                    <a:pt x="2045" y="202"/>
                  </a:lnTo>
                  <a:lnTo>
                    <a:pt x="2045" y="195"/>
                  </a:lnTo>
                  <a:lnTo>
                    <a:pt x="2052" y="195"/>
                  </a:lnTo>
                  <a:lnTo>
                    <a:pt x="2052" y="188"/>
                  </a:lnTo>
                  <a:lnTo>
                    <a:pt x="2052" y="181"/>
                  </a:lnTo>
                  <a:lnTo>
                    <a:pt x="2059" y="181"/>
                  </a:lnTo>
                  <a:lnTo>
                    <a:pt x="2059" y="174"/>
                  </a:lnTo>
                  <a:lnTo>
                    <a:pt x="2066" y="174"/>
                  </a:lnTo>
                  <a:lnTo>
                    <a:pt x="2066" y="167"/>
                  </a:lnTo>
                  <a:lnTo>
                    <a:pt x="2073" y="160"/>
                  </a:lnTo>
                  <a:lnTo>
                    <a:pt x="2073" y="153"/>
                  </a:lnTo>
                  <a:lnTo>
                    <a:pt x="2080" y="153"/>
                  </a:lnTo>
                  <a:lnTo>
                    <a:pt x="2080" y="146"/>
                  </a:lnTo>
                  <a:lnTo>
                    <a:pt x="2080" y="139"/>
                  </a:lnTo>
                  <a:lnTo>
                    <a:pt x="2087" y="139"/>
                  </a:lnTo>
                  <a:lnTo>
                    <a:pt x="2087" y="132"/>
                  </a:lnTo>
                  <a:lnTo>
                    <a:pt x="2087" y="125"/>
                  </a:lnTo>
                  <a:lnTo>
                    <a:pt x="2094" y="125"/>
                  </a:lnTo>
                  <a:lnTo>
                    <a:pt x="2094" y="119"/>
                  </a:lnTo>
                  <a:lnTo>
                    <a:pt x="2094" y="112"/>
                  </a:lnTo>
                  <a:lnTo>
                    <a:pt x="2101" y="112"/>
                  </a:lnTo>
                  <a:lnTo>
                    <a:pt x="2101" y="105"/>
                  </a:lnTo>
                  <a:lnTo>
                    <a:pt x="2101" y="98"/>
                  </a:lnTo>
                  <a:lnTo>
                    <a:pt x="2108" y="98"/>
                  </a:lnTo>
                  <a:lnTo>
                    <a:pt x="2108" y="91"/>
                  </a:lnTo>
                  <a:lnTo>
                    <a:pt x="2108" y="84"/>
                  </a:lnTo>
                  <a:lnTo>
                    <a:pt x="2108" y="77"/>
                  </a:lnTo>
                  <a:lnTo>
                    <a:pt x="2115" y="77"/>
                  </a:lnTo>
                  <a:lnTo>
                    <a:pt x="2115" y="70"/>
                  </a:lnTo>
                  <a:lnTo>
                    <a:pt x="2115" y="63"/>
                  </a:lnTo>
                  <a:lnTo>
                    <a:pt x="2122" y="63"/>
                  </a:lnTo>
                  <a:lnTo>
                    <a:pt x="2122" y="56"/>
                  </a:lnTo>
                  <a:lnTo>
                    <a:pt x="2122" y="49"/>
                  </a:lnTo>
                  <a:lnTo>
                    <a:pt x="2129" y="49"/>
                  </a:lnTo>
                  <a:lnTo>
                    <a:pt x="2129" y="42"/>
                  </a:lnTo>
                  <a:lnTo>
                    <a:pt x="2129" y="35"/>
                  </a:lnTo>
                  <a:lnTo>
                    <a:pt x="2136" y="35"/>
                  </a:lnTo>
                  <a:lnTo>
                    <a:pt x="2136" y="28"/>
                  </a:lnTo>
                  <a:lnTo>
                    <a:pt x="2136" y="21"/>
                  </a:lnTo>
                  <a:lnTo>
                    <a:pt x="2143" y="21"/>
                  </a:lnTo>
                  <a:lnTo>
                    <a:pt x="2143" y="14"/>
                  </a:lnTo>
                  <a:lnTo>
                    <a:pt x="2143" y="7"/>
                  </a:lnTo>
                  <a:lnTo>
                    <a:pt x="2150" y="7"/>
                  </a:lnTo>
                  <a:lnTo>
                    <a:pt x="2150" y="0"/>
                  </a:lnTo>
                  <a:lnTo>
                    <a:pt x="2157" y="0"/>
                  </a:lnTo>
                  <a:lnTo>
                    <a:pt x="2164" y="0"/>
                  </a:lnTo>
                  <a:lnTo>
                    <a:pt x="2171" y="0"/>
                  </a:lnTo>
                  <a:lnTo>
                    <a:pt x="2171" y="7"/>
                  </a:lnTo>
                  <a:lnTo>
                    <a:pt x="2171" y="14"/>
                  </a:lnTo>
                  <a:lnTo>
                    <a:pt x="2178" y="14"/>
                  </a:lnTo>
                  <a:lnTo>
                    <a:pt x="2178" y="21"/>
                  </a:lnTo>
                  <a:lnTo>
                    <a:pt x="2178" y="28"/>
                  </a:lnTo>
                  <a:lnTo>
                    <a:pt x="2184" y="35"/>
                  </a:lnTo>
                  <a:lnTo>
                    <a:pt x="2184" y="42"/>
                  </a:lnTo>
                  <a:lnTo>
                    <a:pt x="2184" y="49"/>
                  </a:lnTo>
                  <a:lnTo>
                    <a:pt x="2184" y="56"/>
                  </a:lnTo>
                  <a:lnTo>
                    <a:pt x="2184" y="63"/>
                  </a:lnTo>
                  <a:lnTo>
                    <a:pt x="2191" y="63"/>
                  </a:lnTo>
                  <a:lnTo>
                    <a:pt x="2191" y="70"/>
                  </a:lnTo>
                  <a:lnTo>
                    <a:pt x="2191" y="77"/>
                  </a:lnTo>
                  <a:lnTo>
                    <a:pt x="2191" y="84"/>
                  </a:lnTo>
                  <a:lnTo>
                    <a:pt x="2191" y="91"/>
                  </a:lnTo>
                  <a:lnTo>
                    <a:pt x="2191" y="98"/>
                  </a:lnTo>
                  <a:lnTo>
                    <a:pt x="2198" y="105"/>
                  </a:lnTo>
                  <a:lnTo>
                    <a:pt x="2198" y="112"/>
                  </a:lnTo>
                  <a:lnTo>
                    <a:pt x="2198" y="119"/>
                  </a:lnTo>
                  <a:lnTo>
                    <a:pt x="2198" y="125"/>
                  </a:lnTo>
                  <a:lnTo>
                    <a:pt x="2198" y="132"/>
                  </a:lnTo>
                  <a:lnTo>
                    <a:pt x="2198" y="139"/>
                  </a:lnTo>
                  <a:lnTo>
                    <a:pt x="2198" y="146"/>
                  </a:lnTo>
                  <a:lnTo>
                    <a:pt x="2205" y="153"/>
                  </a:lnTo>
                  <a:lnTo>
                    <a:pt x="2205" y="160"/>
                  </a:lnTo>
                  <a:lnTo>
                    <a:pt x="2205" y="167"/>
                  </a:lnTo>
                  <a:lnTo>
                    <a:pt x="2205" y="174"/>
                  </a:lnTo>
                  <a:lnTo>
                    <a:pt x="2205" y="181"/>
                  </a:lnTo>
                  <a:lnTo>
                    <a:pt x="2205" y="188"/>
                  </a:lnTo>
                  <a:lnTo>
                    <a:pt x="2205" y="195"/>
                  </a:lnTo>
                  <a:lnTo>
                    <a:pt x="2205" y="202"/>
                  </a:lnTo>
                  <a:lnTo>
                    <a:pt x="2205" y="209"/>
                  </a:lnTo>
                  <a:lnTo>
                    <a:pt x="2212" y="216"/>
                  </a:lnTo>
                  <a:lnTo>
                    <a:pt x="2212" y="223"/>
                  </a:lnTo>
                  <a:lnTo>
                    <a:pt x="2212" y="230"/>
                  </a:lnTo>
                  <a:lnTo>
                    <a:pt x="2212" y="237"/>
                  </a:lnTo>
                  <a:lnTo>
                    <a:pt x="2212" y="244"/>
                  </a:lnTo>
                  <a:lnTo>
                    <a:pt x="2212" y="251"/>
                  </a:lnTo>
                  <a:lnTo>
                    <a:pt x="2212" y="258"/>
                  </a:lnTo>
                  <a:lnTo>
                    <a:pt x="2212" y="265"/>
                  </a:lnTo>
                  <a:lnTo>
                    <a:pt x="2212" y="272"/>
                  </a:lnTo>
                  <a:lnTo>
                    <a:pt x="2212" y="279"/>
                  </a:lnTo>
                  <a:lnTo>
                    <a:pt x="2219" y="285"/>
                  </a:lnTo>
                  <a:lnTo>
                    <a:pt x="2219" y="292"/>
                  </a:lnTo>
                  <a:lnTo>
                    <a:pt x="2219" y="299"/>
                  </a:lnTo>
                  <a:lnTo>
                    <a:pt x="2219" y="306"/>
                  </a:lnTo>
                  <a:lnTo>
                    <a:pt x="2219" y="313"/>
                  </a:lnTo>
                  <a:lnTo>
                    <a:pt x="2219" y="320"/>
                  </a:lnTo>
                  <a:lnTo>
                    <a:pt x="2219" y="327"/>
                  </a:lnTo>
                  <a:lnTo>
                    <a:pt x="2219" y="334"/>
                  </a:lnTo>
                  <a:lnTo>
                    <a:pt x="2219" y="341"/>
                  </a:lnTo>
                  <a:lnTo>
                    <a:pt x="2219" y="348"/>
                  </a:lnTo>
                  <a:lnTo>
                    <a:pt x="2219" y="355"/>
                  </a:lnTo>
                  <a:lnTo>
                    <a:pt x="2219" y="362"/>
                  </a:lnTo>
                  <a:lnTo>
                    <a:pt x="2226" y="362"/>
                  </a:lnTo>
                  <a:lnTo>
                    <a:pt x="2226" y="369"/>
                  </a:lnTo>
                  <a:lnTo>
                    <a:pt x="2226" y="376"/>
                  </a:lnTo>
                  <a:lnTo>
                    <a:pt x="2226" y="383"/>
                  </a:lnTo>
                  <a:lnTo>
                    <a:pt x="2226" y="390"/>
                  </a:lnTo>
                  <a:lnTo>
                    <a:pt x="2226" y="397"/>
                  </a:lnTo>
                  <a:lnTo>
                    <a:pt x="2226" y="404"/>
                  </a:lnTo>
                  <a:lnTo>
                    <a:pt x="2226" y="411"/>
                  </a:lnTo>
                  <a:lnTo>
                    <a:pt x="2226" y="418"/>
                  </a:lnTo>
                  <a:lnTo>
                    <a:pt x="2226" y="425"/>
                  </a:lnTo>
                  <a:lnTo>
                    <a:pt x="2226" y="432"/>
                  </a:lnTo>
                  <a:lnTo>
                    <a:pt x="2226" y="439"/>
                  </a:lnTo>
                  <a:lnTo>
                    <a:pt x="2226" y="445"/>
                  </a:lnTo>
                  <a:lnTo>
                    <a:pt x="2233" y="452"/>
                  </a:lnTo>
                  <a:lnTo>
                    <a:pt x="2233" y="459"/>
                  </a:lnTo>
                  <a:lnTo>
                    <a:pt x="2233" y="466"/>
                  </a:lnTo>
                  <a:lnTo>
                    <a:pt x="2233" y="473"/>
                  </a:lnTo>
                  <a:lnTo>
                    <a:pt x="2233" y="480"/>
                  </a:lnTo>
                  <a:lnTo>
                    <a:pt x="2233" y="487"/>
                  </a:lnTo>
                  <a:lnTo>
                    <a:pt x="2233" y="494"/>
                  </a:lnTo>
                  <a:lnTo>
                    <a:pt x="2233" y="501"/>
                  </a:lnTo>
                  <a:lnTo>
                    <a:pt x="2233" y="508"/>
                  </a:lnTo>
                  <a:lnTo>
                    <a:pt x="2233" y="515"/>
                  </a:lnTo>
                  <a:lnTo>
                    <a:pt x="2233" y="522"/>
                  </a:lnTo>
                  <a:lnTo>
                    <a:pt x="2233" y="529"/>
                  </a:lnTo>
                  <a:lnTo>
                    <a:pt x="2233" y="536"/>
                  </a:lnTo>
                  <a:lnTo>
                    <a:pt x="2240" y="543"/>
                  </a:lnTo>
                  <a:lnTo>
                    <a:pt x="2240" y="550"/>
                  </a:lnTo>
                  <a:lnTo>
                    <a:pt x="2240" y="557"/>
                  </a:lnTo>
                  <a:lnTo>
                    <a:pt x="2240" y="564"/>
                  </a:lnTo>
                  <a:lnTo>
                    <a:pt x="2240" y="571"/>
                  </a:lnTo>
                  <a:lnTo>
                    <a:pt x="2240" y="578"/>
                  </a:lnTo>
                  <a:lnTo>
                    <a:pt x="2240" y="585"/>
                  </a:lnTo>
                  <a:lnTo>
                    <a:pt x="2240" y="592"/>
                  </a:lnTo>
                  <a:lnTo>
                    <a:pt x="2240" y="599"/>
                  </a:lnTo>
                  <a:lnTo>
                    <a:pt x="2240" y="606"/>
                  </a:lnTo>
                  <a:lnTo>
                    <a:pt x="2240" y="612"/>
                  </a:lnTo>
                  <a:lnTo>
                    <a:pt x="2240" y="619"/>
                  </a:lnTo>
                  <a:lnTo>
                    <a:pt x="2240" y="626"/>
                  </a:lnTo>
                  <a:lnTo>
                    <a:pt x="2240" y="633"/>
                  </a:lnTo>
                  <a:lnTo>
                    <a:pt x="2247" y="640"/>
                  </a:lnTo>
                  <a:lnTo>
                    <a:pt x="2247" y="647"/>
                  </a:lnTo>
                  <a:lnTo>
                    <a:pt x="2247" y="654"/>
                  </a:lnTo>
                  <a:lnTo>
                    <a:pt x="2247" y="661"/>
                  </a:lnTo>
                  <a:lnTo>
                    <a:pt x="2247" y="668"/>
                  </a:lnTo>
                  <a:lnTo>
                    <a:pt x="2247" y="675"/>
                  </a:lnTo>
                  <a:lnTo>
                    <a:pt x="2247" y="682"/>
                  </a:lnTo>
                  <a:lnTo>
                    <a:pt x="2247" y="689"/>
                  </a:lnTo>
                  <a:lnTo>
                    <a:pt x="2247" y="696"/>
                  </a:lnTo>
                  <a:lnTo>
                    <a:pt x="2247" y="703"/>
                  </a:lnTo>
                  <a:lnTo>
                    <a:pt x="2247" y="710"/>
                  </a:lnTo>
                  <a:lnTo>
                    <a:pt x="2247" y="717"/>
                  </a:lnTo>
                  <a:lnTo>
                    <a:pt x="2247" y="724"/>
                  </a:lnTo>
                  <a:lnTo>
                    <a:pt x="2254" y="731"/>
                  </a:lnTo>
                  <a:lnTo>
                    <a:pt x="2254" y="738"/>
                  </a:lnTo>
                  <a:lnTo>
                    <a:pt x="2254" y="745"/>
                  </a:lnTo>
                  <a:lnTo>
                    <a:pt x="2254" y="752"/>
                  </a:lnTo>
                  <a:lnTo>
                    <a:pt x="2254" y="759"/>
                  </a:lnTo>
                  <a:lnTo>
                    <a:pt x="2254" y="766"/>
                  </a:lnTo>
                  <a:lnTo>
                    <a:pt x="2254" y="772"/>
                  </a:lnTo>
                  <a:lnTo>
                    <a:pt x="2254" y="779"/>
                  </a:lnTo>
                  <a:lnTo>
                    <a:pt x="2254" y="786"/>
                  </a:lnTo>
                  <a:lnTo>
                    <a:pt x="2254" y="793"/>
                  </a:lnTo>
                  <a:lnTo>
                    <a:pt x="2254" y="800"/>
                  </a:lnTo>
                  <a:lnTo>
                    <a:pt x="2254" y="807"/>
                  </a:lnTo>
                  <a:lnTo>
                    <a:pt x="2254" y="814"/>
                  </a:lnTo>
                  <a:lnTo>
                    <a:pt x="2261" y="821"/>
                  </a:lnTo>
                  <a:lnTo>
                    <a:pt x="2261" y="828"/>
                  </a:lnTo>
                  <a:lnTo>
                    <a:pt x="2261" y="835"/>
                  </a:lnTo>
                  <a:lnTo>
                    <a:pt x="2261" y="842"/>
                  </a:lnTo>
                  <a:lnTo>
                    <a:pt x="2261" y="849"/>
                  </a:lnTo>
                  <a:lnTo>
                    <a:pt x="2261" y="856"/>
                  </a:lnTo>
                  <a:lnTo>
                    <a:pt x="2261" y="863"/>
                  </a:lnTo>
                  <a:lnTo>
                    <a:pt x="2261" y="870"/>
                  </a:lnTo>
                  <a:lnTo>
                    <a:pt x="2261" y="877"/>
                  </a:lnTo>
                  <a:lnTo>
                    <a:pt x="2261" y="884"/>
                  </a:lnTo>
                  <a:lnTo>
                    <a:pt x="2261" y="891"/>
                  </a:lnTo>
                  <a:lnTo>
                    <a:pt x="2261" y="898"/>
                  </a:lnTo>
                  <a:lnTo>
                    <a:pt x="2261" y="905"/>
                  </a:lnTo>
                  <a:lnTo>
                    <a:pt x="2268" y="912"/>
                  </a:lnTo>
                  <a:lnTo>
                    <a:pt x="2268" y="919"/>
                  </a:lnTo>
                  <a:lnTo>
                    <a:pt x="2268" y="926"/>
                  </a:lnTo>
                  <a:lnTo>
                    <a:pt x="2268" y="932"/>
                  </a:lnTo>
                  <a:lnTo>
                    <a:pt x="2268" y="939"/>
                  </a:lnTo>
                  <a:lnTo>
                    <a:pt x="2268" y="946"/>
                  </a:lnTo>
                  <a:lnTo>
                    <a:pt x="2268" y="953"/>
                  </a:lnTo>
                  <a:lnTo>
                    <a:pt x="2268" y="960"/>
                  </a:lnTo>
                  <a:lnTo>
                    <a:pt x="2268" y="967"/>
                  </a:lnTo>
                  <a:lnTo>
                    <a:pt x="2268" y="974"/>
                  </a:lnTo>
                  <a:lnTo>
                    <a:pt x="2268" y="981"/>
                  </a:lnTo>
                  <a:lnTo>
                    <a:pt x="2268" y="988"/>
                  </a:lnTo>
                  <a:lnTo>
                    <a:pt x="2275" y="995"/>
                  </a:lnTo>
                  <a:lnTo>
                    <a:pt x="2275" y="1002"/>
                  </a:lnTo>
                  <a:lnTo>
                    <a:pt x="2275" y="1009"/>
                  </a:lnTo>
                  <a:lnTo>
                    <a:pt x="2275" y="1016"/>
                  </a:lnTo>
                  <a:lnTo>
                    <a:pt x="2275" y="1023"/>
                  </a:lnTo>
                  <a:lnTo>
                    <a:pt x="2275" y="1030"/>
                  </a:lnTo>
                  <a:lnTo>
                    <a:pt x="2275" y="1037"/>
                  </a:lnTo>
                  <a:lnTo>
                    <a:pt x="2275" y="1044"/>
                  </a:lnTo>
                  <a:lnTo>
                    <a:pt x="2275" y="1051"/>
                  </a:lnTo>
                  <a:lnTo>
                    <a:pt x="2275" y="1058"/>
                  </a:lnTo>
                  <a:lnTo>
                    <a:pt x="2275" y="1065"/>
                  </a:lnTo>
                  <a:lnTo>
                    <a:pt x="2275" y="1072"/>
                  </a:lnTo>
                  <a:lnTo>
                    <a:pt x="2282" y="1079"/>
                  </a:lnTo>
                  <a:lnTo>
                    <a:pt x="2282" y="1086"/>
                  </a:lnTo>
                  <a:lnTo>
                    <a:pt x="2282" y="1093"/>
                  </a:lnTo>
                  <a:lnTo>
                    <a:pt x="2282" y="1099"/>
                  </a:lnTo>
                  <a:lnTo>
                    <a:pt x="2282" y="1106"/>
                  </a:lnTo>
                  <a:lnTo>
                    <a:pt x="2282" y="1113"/>
                  </a:lnTo>
                  <a:lnTo>
                    <a:pt x="2282" y="1120"/>
                  </a:lnTo>
                  <a:lnTo>
                    <a:pt x="2282" y="1127"/>
                  </a:lnTo>
                  <a:lnTo>
                    <a:pt x="2282" y="1134"/>
                  </a:lnTo>
                  <a:lnTo>
                    <a:pt x="2282" y="1141"/>
                  </a:lnTo>
                  <a:lnTo>
                    <a:pt x="2282" y="1148"/>
                  </a:lnTo>
                  <a:lnTo>
                    <a:pt x="2289" y="1155"/>
                  </a:lnTo>
                  <a:lnTo>
                    <a:pt x="2289" y="1162"/>
                  </a:lnTo>
                  <a:lnTo>
                    <a:pt x="2289" y="1169"/>
                  </a:lnTo>
                  <a:lnTo>
                    <a:pt x="2289" y="1176"/>
                  </a:lnTo>
                  <a:lnTo>
                    <a:pt x="2289" y="1183"/>
                  </a:lnTo>
                  <a:lnTo>
                    <a:pt x="2289" y="1190"/>
                  </a:lnTo>
                  <a:lnTo>
                    <a:pt x="2289" y="1197"/>
                  </a:lnTo>
                  <a:lnTo>
                    <a:pt x="2289" y="1204"/>
                  </a:lnTo>
                  <a:lnTo>
                    <a:pt x="2289" y="1211"/>
                  </a:lnTo>
                  <a:lnTo>
                    <a:pt x="2289" y="1218"/>
                  </a:lnTo>
                  <a:lnTo>
                    <a:pt x="2289" y="1225"/>
                  </a:lnTo>
                  <a:lnTo>
                    <a:pt x="2296" y="1225"/>
                  </a:lnTo>
                  <a:lnTo>
                    <a:pt x="2296" y="1232"/>
                  </a:lnTo>
                  <a:lnTo>
                    <a:pt x="2296" y="1239"/>
                  </a:lnTo>
                  <a:lnTo>
                    <a:pt x="2296" y="1246"/>
                  </a:lnTo>
                  <a:lnTo>
                    <a:pt x="2296" y="1253"/>
                  </a:lnTo>
                  <a:lnTo>
                    <a:pt x="2296" y="1259"/>
                  </a:lnTo>
                  <a:lnTo>
                    <a:pt x="2296" y="1266"/>
                  </a:lnTo>
                  <a:lnTo>
                    <a:pt x="2296" y="1273"/>
                  </a:lnTo>
                  <a:lnTo>
                    <a:pt x="2296" y="1280"/>
                  </a:lnTo>
                  <a:lnTo>
                    <a:pt x="2296" y="1287"/>
                  </a:lnTo>
                  <a:lnTo>
                    <a:pt x="2303" y="1294"/>
                  </a:lnTo>
                  <a:lnTo>
                    <a:pt x="2303" y="1301"/>
                  </a:lnTo>
                  <a:lnTo>
                    <a:pt x="2303" y="1308"/>
                  </a:lnTo>
                  <a:lnTo>
                    <a:pt x="2303" y="1315"/>
                  </a:lnTo>
                  <a:lnTo>
                    <a:pt x="2303" y="1322"/>
                  </a:lnTo>
                  <a:lnTo>
                    <a:pt x="2303" y="1329"/>
                  </a:lnTo>
                  <a:lnTo>
                    <a:pt x="2303" y="1336"/>
                  </a:lnTo>
                  <a:lnTo>
                    <a:pt x="2303" y="1343"/>
                  </a:lnTo>
                  <a:lnTo>
                    <a:pt x="2303" y="1350"/>
                  </a:lnTo>
                  <a:lnTo>
                    <a:pt x="2310" y="1357"/>
                  </a:lnTo>
                  <a:lnTo>
                    <a:pt x="2310" y="1364"/>
                  </a:lnTo>
                  <a:lnTo>
                    <a:pt x="2310" y="1371"/>
                  </a:lnTo>
                  <a:lnTo>
                    <a:pt x="2310" y="1378"/>
                  </a:lnTo>
                  <a:lnTo>
                    <a:pt x="2310" y="1385"/>
                  </a:lnTo>
                  <a:lnTo>
                    <a:pt x="2310" y="1392"/>
                  </a:lnTo>
                  <a:lnTo>
                    <a:pt x="2310" y="1399"/>
                  </a:lnTo>
                  <a:lnTo>
                    <a:pt x="2310" y="1406"/>
                  </a:lnTo>
                  <a:lnTo>
                    <a:pt x="2317" y="1413"/>
                  </a:lnTo>
                  <a:lnTo>
                    <a:pt x="2317" y="1419"/>
                  </a:lnTo>
                  <a:lnTo>
                    <a:pt x="2317" y="1426"/>
                  </a:lnTo>
                  <a:lnTo>
                    <a:pt x="2317" y="1433"/>
                  </a:lnTo>
                  <a:lnTo>
                    <a:pt x="2317" y="1440"/>
                  </a:lnTo>
                  <a:lnTo>
                    <a:pt x="2317" y="1447"/>
                  </a:lnTo>
                  <a:lnTo>
                    <a:pt x="2317" y="1454"/>
                  </a:lnTo>
                  <a:lnTo>
                    <a:pt x="2317" y="1461"/>
                  </a:lnTo>
                  <a:lnTo>
                    <a:pt x="2317" y="1468"/>
                  </a:lnTo>
                  <a:lnTo>
                    <a:pt x="2324" y="1468"/>
                  </a:lnTo>
                  <a:lnTo>
                    <a:pt x="2324" y="1475"/>
                  </a:lnTo>
                  <a:lnTo>
                    <a:pt x="2324" y="1482"/>
                  </a:lnTo>
                  <a:lnTo>
                    <a:pt x="2324" y="1489"/>
                  </a:lnTo>
                  <a:lnTo>
                    <a:pt x="2324" y="1496"/>
                  </a:lnTo>
                  <a:lnTo>
                    <a:pt x="2324" y="1503"/>
                  </a:lnTo>
                  <a:lnTo>
                    <a:pt x="2324" y="1510"/>
                  </a:lnTo>
                  <a:lnTo>
                    <a:pt x="2324" y="1517"/>
                  </a:lnTo>
                  <a:lnTo>
                    <a:pt x="2331" y="1517"/>
                  </a:lnTo>
                  <a:lnTo>
                    <a:pt x="2331" y="1524"/>
                  </a:lnTo>
                  <a:lnTo>
                    <a:pt x="2331" y="1531"/>
                  </a:lnTo>
                  <a:lnTo>
                    <a:pt x="2331" y="1538"/>
                  </a:lnTo>
                  <a:lnTo>
                    <a:pt x="2331" y="1545"/>
                  </a:lnTo>
                  <a:lnTo>
                    <a:pt x="2331" y="1552"/>
                  </a:lnTo>
                  <a:lnTo>
                    <a:pt x="2331" y="1559"/>
                  </a:lnTo>
                  <a:lnTo>
                    <a:pt x="2338" y="1566"/>
                  </a:lnTo>
                  <a:lnTo>
                    <a:pt x="2338" y="1573"/>
                  </a:lnTo>
                  <a:lnTo>
                    <a:pt x="2338" y="1580"/>
                  </a:lnTo>
                  <a:lnTo>
                    <a:pt x="2338" y="1586"/>
                  </a:lnTo>
                  <a:lnTo>
                    <a:pt x="2338" y="1593"/>
                  </a:lnTo>
                  <a:lnTo>
                    <a:pt x="2338" y="1600"/>
                  </a:lnTo>
                  <a:lnTo>
                    <a:pt x="2344" y="1600"/>
                  </a:lnTo>
                  <a:lnTo>
                    <a:pt x="2344" y="1607"/>
                  </a:lnTo>
                  <a:lnTo>
                    <a:pt x="2344" y="1614"/>
                  </a:lnTo>
                  <a:lnTo>
                    <a:pt x="2344" y="1621"/>
                  </a:lnTo>
                  <a:lnTo>
                    <a:pt x="2344" y="1628"/>
                  </a:lnTo>
                  <a:lnTo>
                    <a:pt x="2344" y="1635"/>
                  </a:lnTo>
                  <a:lnTo>
                    <a:pt x="2344" y="1642"/>
                  </a:lnTo>
                  <a:lnTo>
                    <a:pt x="2351" y="1642"/>
                  </a:lnTo>
                  <a:lnTo>
                    <a:pt x="2351" y="1649"/>
                  </a:lnTo>
                  <a:lnTo>
                    <a:pt x="2351" y="1656"/>
                  </a:lnTo>
                  <a:lnTo>
                    <a:pt x="2351" y="1663"/>
                  </a:lnTo>
                  <a:lnTo>
                    <a:pt x="2351" y="1670"/>
                  </a:lnTo>
                  <a:lnTo>
                    <a:pt x="2351" y="1677"/>
                  </a:lnTo>
                  <a:lnTo>
                    <a:pt x="2358" y="1677"/>
                  </a:lnTo>
                  <a:lnTo>
                    <a:pt x="2358" y="1684"/>
                  </a:lnTo>
                  <a:lnTo>
                    <a:pt x="2358" y="1691"/>
                  </a:lnTo>
                  <a:lnTo>
                    <a:pt x="2358" y="1698"/>
                  </a:lnTo>
                  <a:lnTo>
                    <a:pt x="2358" y="1705"/>
                  </a:lnTo>
                  <a:lnTo>
                    <a:pt x="2358" y="1712"/>
                  </a:lnTo>
                  <a:lnTo>
                    <a:pt x="2365" y="1712"/>
                  </a:lnTo>
                  <a:lnTo>
                    <a:pt x="2365" y="1719"/>
                  </a:lnTo>
                  <a:lnTo>
                    <a:pt x="2365" y="1726"/>
                  </a:lnTo>
                  <a:lnTo>
                    <a:pt x="2365" y="1733"/>
                  </a:lnTo>
                  <a:lnTo>
                    <a:pt x="2365" y="1740"/>
                  </a:lnTo>
                  <a:lnTo>
                    <a:pt x="2372" y="1740"/>
                  </a:lnTo>
                  <a:lnTo>
                    <a:pt x="2372" y="1746"/>
                  </a:lnTo>
                  <a:lnTo>
                    <a:pt x="2372" y="1753"/>
                  </a:lnTo>
                  <a:lnTo>
                    <a:pt x="2372" y="1760"/>
                  </a:lnTo>
                  <a:lnTo>
                    <a:pt x="2372" y="1767"/>
                  </a:lnTo>
                  <a:lnTo>
                    <a:pt x="2379" y="1767"/>
                  </a:lnTo>
                  <a:lnTo>
                    <a:pt x="2379" y="1774"/>
                  </a:lnTo>
                  <a:lnTo>
                    <a:pt x="2379" y="1781"/>
                  </a:lnTo>
                  <a:lnTo>
                    <a:pt x="2379" y="1788"/>
                  </a:lnTo>
                  <a:lnTo>
                    <a:pt x="2386" y="1795"/>
                  </a:lnTo>
                  <a:lnTo>
                    <a:pt x="2386" y="1802"/>
                  </a:lnTo>
                  <a:lnTo>
                    <a:pt x="2386" y="1809"/>
                  </a:lnTo>
                  <a:lnTo>
                    <a:pt x="2386" y="1816"/>
                  </a:lnTo>
                  <a:lnTo>
                    <a:pt x="2393" y="1816"/>
                  </a:lnTo>
                  <a:lnTo>
                    <a:pt x="2393" y="1823"/>
                  </a:lnTo>
                  <a:lnTo>
                    <a:pt x="2393" y="1830"/>
                  </a:lnTo>
                  <a:lnTo>
                    <a:pt x="2393" y="1837"/>
                  </a:lnTo>
                  <a:lnTo>
                    <a:pt x="2400" y="1837"/>
                  </a:lnTo>
                  <a:lnTo>
                    <a:pt x="2400" y="1844"/>
                  </a:lnTo>
                  <a:lnTo>
                    <a:pt x="2400" y="1851"/>
                  </a:lnTo>
                  <a:lnTo>
                    <a:pt x="2400" y="1858"/>
                  </a:lnTo>
                  <a:lnTo>
                    <a:pt x="2407" y="1858"/>
                  </a:lnTo>
                  <a:lnTo>
                    <a:pt x="2407" y="1865"/>
                  </a:lnTo>
                  <a:lnTo>
                    <a:pt x="2407" y="1872"/>
                  </a:lnTo>
                  <a:lnTo>
                    <a:pt x="2414" y="1872"/>
                  </a:lnTo>
                  <a:lnTo>
                    <a:pt x="2414" y="1879"/>
                  </a:lnTo>
                  <a:lnTo>
                    <a:pt x="2414" y="1886"/>
                  </a:lnTo>
                  <a:lnTo>
                    <a:pt x="2421" y="1886"/>
                  </a:lnTo>
                  <a:lnTo>
                    <a:pt x="2421" y="1893"/>
                  </a:lnTo>
                  <a:lnTo>
                    <a:pt x="2421" y="1900"/>
                  </a:lnTo>
                  <a:lnTo>
                    <a:pt x="2428" y="1906"/>
                  </a:lnTo>
                  <a:lnTo>
                    <a:pt x="2428" y="1913"/>
                  </a:lnTo>
                  <a:lnTo>
                    <a:pt x="2435" y="1913"/>
                  </a:lnTo>
                  <a:lnTo>
                    <a:pt x="2435" y="1920"/>
                  </a:lnTo>
                  <a:lnTo>
                    <a:pt x="2435" y="1927"/>
                  </a:lnTo>
                  <a:lnTo>
                    <a:pt x="2442" y="1927"/>
                  </a:lnTo>
                  <a:lnTo>
                    <a:pt x="2442" y="1934"/>
                  </a:lnTo>
                  <a:lnTo>
                    <a:pt x="2442" y="1941"/>
                  </a:lnTo>
                  <a:lnTo>
                    <a:pt x="2449" y="1941"/>
                  </a:lnTo>
                  <a:lnTo>
                    <a:pt x="2449" y="1948"/>
                  </a:lnTo>
                  <a:lnTo>
                    <a:pt x="2456" y="1948"/>
                  </a:lnTo>
                  <a:lnTo>
                    <a:pt x="2456" y="1955"/>
                  </a:lnTo>
                  <a:lnTo>
                    <a:pt x="2463" y="1955"/>
                  </a:lnTo>
                  <a:lnTo>
                    <a:pt x="2463" y="1962"/>
                  </a:lnTo>
                  <a:lnTo>
                    <a:pt x="2470" y="1962"/>
                  </a:lnTo>
                  <a:lnTo>
                    <a:pt x="2470" y="1969"/>
                  </a:lnTo>
                  <a:lnTo>
                    <a:pt x="2477" y="1969"/>
                  </a:lnTo>
                  <a:lnTo>
                    <a:pt x="2477" y="1976"/>
                  </a:lnTo>
                  <a:lnTo>
                    <a:pt x="2484" y="1976"/>
                  </a:lnTo>
                  <a:lnTo>
                    <a:pt x="2491" y="1976"/>
                  </a:lnTo>
                  <a:lnTo>
                    <a:pt x="2498" y="1969"/>
                  </a:lnTo>
                  <a:lnTo>
                    <a:pt x="2504" y="1969"/>
                  </a:lnTo>
                  <a:lnTo>
                    <a:pt x="2511" y="1969"/>
                  </a:lnTo>
                  <a:lnTo>
                    <a:pt x="2518" y="1969"/>
                  </a:lnTo>
                  <a:lnTo>
                    <a:pt x="2525" y="1969"/>
                  </a:lnTo>
                  <a:lnTo>
                    <a:pt x="2525" y="1976"/>
                  </a:lnTo>
                  <a:lnTo>
                    <a:pt x="2532" y="1976"/>
                  </a:lnTo>
                  <a:lnTo>
                    <a:pt x="2539" y="1976"/>
                  </a:lnTo>
                  <a:lnTo>
                    <a:pt x="2539" y="1969"/>
                  </a:lnTo>
                  <a:lnTo>
                    <a:pt x="2546" y="1969"/>
                  </a:lnTo>
                  <a:lnTo>
                    <a:pt x="2553" y="1969"/>
                  </a:lnTo>
                  <a:lnTo>
                    <a:pt x="2553" y="1962"/>
                  </a:lnTo>
                  <a:lnTo>
                    <a:pt x="2560" y="1962"/>
                  </a:lnTo>
                  <a:lnTo>
                    <a:pt x="2560" y="1955"/>
                  </a:lnTo>
                  <a:lnTo>
                    <a:pt x="2567" y="1955"/>
                  </a:lnTo>
                  <a:lnTo>
                    <a:pt x="2567" y="1948"/>
                  </a:lnTo>
                  <a:lnTo>
                    <a:pt x="2574" y="1941"/>
                  </a:lnTo>
                  <a:lnTo>
                    <a:pt x="2574" y="1934"/>
                  </a:lnTo>
                  <a:lnTo>
                    <a:pt x="2581" y="1934"/>
                  </a:lnTo>
                  <a:lnTo>
                    <a:pt x="2581" y="1927"/>
                  </a:lnTo>
                  <a:lnTo>
                    <a:pt x="2588" y="1920"/>
                  </a:lnTo>
                  <a:lnTo>
                    <a:pt x="2588" y="1913"/>
                  </a:lnTo>
                  <a:lnTo>
                    <a:pt x="2595" y="1913"/>
                  </a:lnTo>
                  <a:lnTo>
                    <a:pt x="2595" y="1906"/>
                  </a:lnTo>
                  <a:lnTo>
                    <a:pt x="2595" y="1900"/>
                  </a:lnTo>
                  <a:lnTo>
                    <a:pt x="2602" y="1900"/>
                  </a:lnTo>
                  <a:lnTo>
                    <a:pt x="2602" y="1893"/>
                  </a:lnTo>
                  <a:lnTo>
                    <a:pt x="2602" y="1886"/>
                  </a:lnTo>
                  <a:lnTo>
                    <a:pt x="2609" y="1886"/>
                  </a:lnTo>
                  <a:lnTo>
                    <a:pt x="2609" y="1879"/>
                  </a:lnTo>
                  <a:lnTo>
                    <a:pt x="2609" y="1872"/>
                  </a:lnTo>
                  <a:lnTo>
                    <a:pt x="2609" y="1865"/>
                  </a:lnTo>
                  <a:lnTo>
                    <a:pt x="2616" y="1865"/>
                  </a:lnTo>
                  <a:lnTo>
                    <a:pt x="2616" y="1858"/>
                  </a:lnTo>
                  <a:lnTo>
                    <a:pt x="2616" y="1851"/>
                  </a:lnTo>
                  <a:lnTo>
                    <a:pt x="2623" y="1851"/>
                  </a:lnTo>
                  <a:lnTo>
                    <a:pt x="2623" y="1844"/>
                  </a:lnTo>
                  <a:lnTo>
                    <a:pt x="2623" y="1837"/>
                  </a:lnTo>
                  <a:lnTo>
                    <a:pt x="2623" y="1830"/>
                  </a:lnTo>
                  <a:lnTo>
                    <a:pt x="2630" y="1830"/>
                  </a:lnTo>
                  <a:lnTo>
                    <a:pt x="2630" y="1823"/>
                  </a:lnTo>
                  <a:lnTo>
                    <a:pt x="2630" y="1816"/>
                  </a:lnTo>
                  <a:lnTo>
                    <a:pt x="2630" y="1809"/>
                  </a:lnTo>
                  <a:lnTo>
                    <a:pt x="2637" y="1809"/>
                  </a:lnTo>
                  <a:lnTo>
                    <a:pt x="2637" y="1802"/>
                  </a:lnTo>
                  <a:lnTo>
                    <a:pt x="2637" y="1795"/>
                  </a:lnTo>
                  <a:lnTo>
                    <a:pt x="2637" y="1788"/>
                  </a:lnTo>
                  <a:lnTo>
                    <a:pt x="2644" y="1781"/>
                  </a:lnTo>
                  <a:lnTo>
                    <a:pt x="2644" y="1774"/>
                  </a:lnTo>
                  <a:lnTo>
                    <a:pt x="2644" y="1767"/>
                  </a:lnTo>
                  <a:lnTo>
                    <a:pt x="2644" y="1760"/>
                  </a:lnTo>
                  <a:lnTo>
                    <a:pt x="2651" y="1753"/>
                  </a:lnTo>
                  <a:lnTo>
                    <a:pt x="2651" y="1746"/>
                  </a:lnTo>
                  <a:lnTo>
                    <a:pt x="2651" y="1740"/>
                  </a:lnTo>
                  <a:lnTo>
                    <a:pt x="2651" y="1733"/>
                  </a:lnTo>
                  <a:lnTo>
                    <a:pt x="2658" y="1726"/>
                  </a:lnTo>
                  <a:lnTo>
                    <a:pt x="2658" y="1719"/>
                  </a:lnTo>
                  <a:lnTo>
                    <a:pt x="2658" y="1712"/>
                  </a:lnTo>
                  <a:lnTo>
                    <a:pt x="2658" y="1705"/>
                  </a:lnTo>
                  <a:lnTo>
                    <a:pt x="2658" y="1698"/>
                  </a:lnTo>
                  <a:lnTo>
                    <a:pt x="2665" y="1698"/>
                  </a:lnTo>
                  <a:lnTo>
                    <a:pt x="2665" y="1691"/>
                  </a:lnTo>
                  <a:lnTo>
                    <a:pt x="2665" y="1684"/>
                  </a:lnTo>
                  <a:lnTo>
                    <a:pt x="2665" y="1677"/>
                  </a:lnTo>
                  <a:lnTo>
                    <a:pt x="2665" y="1670"/>
                  </a:lnTo>
                  <a:lnTo>
                    <a:pt x="2671" y="1663"/>
                  </a:lnTo>
                  <a:lnTo>
                    <a:pt x="2671" y="1656"/>
                  </a:lnTo>
                  <a:lnTo>
                    <a:pt x="2671" y="1649"/>
                  </a:lnTo>
                  <a:lnTo>
                    <a:pt x="2671" y="1642"/>
                  </a:lnTo>
                  <a:lnTo>
                    <a:pt x="2671" y="1635"/>
                  </a:lnTo>
                  <a:lnTo>
                    <a:pt x="2671" y="1628"/>
                  </a:lnTo>
                  <a:lnTo>
                    <a:pt x="2678" y="1628"/>
                  </a:lnTo>
                  <a:lnTo>
                    <a:pt x="2678" y="1621"/>
                  </a:lnTo>
                  <a:lnTo>
                    <a:pt x="2678" y="1614"/>
                  </a:lnTo>
                  <a:lnTo>
                    <a:pt x="2678" y="1607"/>
                  </a:lnTo>
                  <a:lnTo>
                    <a:pt x="2678" y="1600"/>
                  </a:lnTo>
                  <a:lnTo>
                    <a:pt x="2678" y="1593"/>
                  </a:lnTo>
                  <a:lnTo>
                    <a:pt x="2678" y="1586"/>
                  </a:lnTo>
                  <a:lnTo>
                    <a:pt x="2685" y="1586"/>
                  </a:lnTo>
                  <a:lnTo>
                    <a:pt x="2685" y="1580"/>
                  </a:lnTo>
                  <a:lnTo>
                    <a:pt x="2685" y="1573"/>
                  </a:lnTo>
                  <a:lnTo>
                    <a:pt x="2685" y="1566"/>
                  </a:lnTo>
                  <a:lnTo>
                    <a:pt x="2685" y="1559"/>
                  </a:lnTo>
                  <a:lnTo>
                    <a:pt x="2685" y="1552"/>
                  </a:lnTo>
                  <a:lnTo>
                    <a:pt x="2685" y="1545"/>
                  </a:lnTo>
                  <a:lnTo>
                    <a:pt x="2692" y="1545"/>
                  </a:lnTo>
                  <a:lnTo>
                    <a:pt x="2692" y="1538"/>
                  </a:lnTo>
                  <a:lnTo>
                    <a:pt x="2692" y="1531"/>
                  </a:lnTo>
                  <a:lnTo>
                    <a:pt x="2692" y="1524"/>
                  </a:lnTo>
                  <a:lnTo>
                    <a:pt x="2692" y="1517"/>
                  </a:lnTo>
                  <a:lnTo>
                    <a:pt x="2692" y="1510"/>
                  </a:lnTo>
                  <a:lnTo>
                    <a:pt x="2692" y="1503"/>
                  </a:lnTo>
                  <a:lnTo>
                    <a:pt x="2699" y="1496"/>
                  </a:lnTo>
                  <a:lnTo>
                    <a:pt x="2699" y="1489"/>
                  </a:lnTo>
                  <a:lnTo>
                    <a:pt x="2699" y="1482"/>
                  </a:lnTo>
                  <a:lnTo>
                    <a:pt x="2699" y="1475"/>
                  </a:lnTo>
                  <a:lnTo>
                    <a:pt x="2699" y="1468"/>
                  </a:lnTo>
                  <a:lnTo>
                    <a:pt x="2699" y="1461"/>
                  </a:lnTo>
                  <a:lnTo>
                    <a:pt x="2699" y="1454"/>
                  </a:lnTo>
                  <a:lnTo>
                    <a:pt x="2699" y="1447"/>
                  </a:lnTo>
                  <a:lnTo>
                    <a:pt x="2706" y="1447"/>
                  </a:lnTo>
                  <a:lnTo>
                    <a:pt x="2706" y="1440"/>
                  </a:lnTo>
                  <a:lnTo>
                    <a:pt x="2706" y="1433"/>
                  </a:lnTo>
                  <a:lnTo>
                    <a:pt x="2706" y="1426"/>
                  </a:lnTo>
                  <a:lnTo>
                    <a:pt x="2706" y="1419"/>
                  </a:lnTo>
                  <a:lnTo>
                    <a:pt x="2706" y="1413"/>
                  </a:lnTo>
                  <a:lnTo>
                    <a:pt x="2706" y="1406"/>
                  </a:lnTo>
                  <a:lnTo>
                    <a:pt x="2706" y="1399"/>
                  </a:lnTo>
                  <a:lnTo>
                    <a:pt x="2713" y="1392"/>
                  </a:lnTo>
                  <a:lnTo>
                    <a:pt x="2713" y="1385"/>
                  </a:lnTo>
                  <a:lnTo>
                    <a:pt x="2713" y="1378"/>
                  </a:lnTo>
                  <a:lnTo>
                    <a:pt x="2713" y="1371"/>
                  </a:lnTo>
                  <a:lnTo>
                    <a:pt x="2713" y="1364"/>
                  </a:lnTo>
                  <a:lnTo>
                    <a:pt x="2713" y="1357"/>
                  </a:lnTo>
                  <a:lnTo>
                    <a:pt x="2713" y="1350"/>
                  </a:lnTo>
                  <a:lnTo>
                    <a:pt x="2713" y="1343"/>
                  </a:lnTo>
                  <a:lnTo>
                    <a:pt x="2713" y="1336"/>
                  </a:lnTo>
                  <a:lnTo>
                    <a:pt x="2720" y="1336"/>
                  </a:lnTo>
                  <a:lnTo>
                    <a:pt x="2720" y="1329"/>
                  </a:lnTo>
                  <a:lnTo>
                    <a:pt x="2720" y="1322"/>
                  </a:lnTo>
                  <a:lnTo>
                    <a:pt x="2720" y="1315"/>
                  </a:lnTo>
                  <a:lnTo>
                    <a:pt x="2720" y="1308"/>
                  </a:lnTo>
                  <a:lnTo>
                    <a:pt x="2720" y="1301"/>
                  </a:lnTo>
                  <a:lnTo>
                    <a:pt x="2720" y="1294"/>
                  </a:lnTo>
                  <a:lnTo>
                    <a:pt x="2720" y="1287"/>
                  </a:lnTo>
                  <a:lnTo>
                    <a:pt x="2720" y="1280"/>
                  </a:lnTo>
                  <a:lnTo>
                    <a:pt x="2720" y="1273"/>
                  </a:lnTo>
                  <a:lnTo>
                    <a:pt x="2727" y="1266"/>
                  </a:lnTo>
                  <a:lnTo>
                    <a:pt x="2727" y="1259"/>
                  </a:lnTo>
                  <a:lnTo>
                    <a:pt x="2727" y="1253"/>
                  </a:lnTo>
                  <a:lnTo>
                    <a:pt x="2727" y="1246"/>
                  </a:lnTo>
                  <a:lnTo>
                    <a:pt x="2727" y="1239"/>
                  </a:lnTo>
                  <a:lnTo>
                    <a:pt x="2727" y="1232"/>
                  </a:lnTo>
                  <a:lnTo>
                    <a:pt x="2727" y="1225"/>
                  </a:lnTo>
                  <a:lnTo>
                    <a:pt x="2727" y="1218"/>
                  </a:lnTo>
                  <a:lnTo>
                    <a:pt x="2727" y="1211"/>
                  </a:lnTo>
                  <a:lnTo>
                    <a:pt x="2727" y="1204"/>
                  </a:lnTo>
                  <a:lnTo>
                    <a:pt x="2734" y="1197"/>
                  </a:lnTo>
                  <a:lnTo>
                    <a:pt x="2734" y="1190"/>
                  </a:lnTo>
                  <a:lnTo>
                    <a:pt x="2734" y="1183"/>
                  </a:lnTo>
                  <a:lnTo>
                    <a:pt x="2734" y="1176"/>
                  </a:lnTo>
                  <a:lnTo>
                    <a:pt x="2734" y="1169"/>
                  </a:lnTo>
                  <a:lnTo>
                    <a:pt x="2734" y="1162"/>
                  </a:lnTo>
                  <a:lnTo>
                    <a:pt x="2734" y="1155"/>
                  </a:lnTo>
                  <a:lnTo>
                    <a:pt x="2734" y="1148"/>
                  </a:lnTo>
                  <a:lnTo>
                    <a:pt x="2734" y="1141"/>
                  </a:lnTo>
                  <a:lnTo>
                    <a:pt x="2734" y="1134"/>
                  </a:lnTo>
                  <a:lnTo>
                    <a:pt x="2734" y="1127"/>
                  </a:lnTo>
                  <a:lnTo>
                    <a:pt x="2741" y="1127"/>
                  </a:lnTo>
                  <a:lnTo>
                    <a:pt x="2741" y="1120"/>
                  </a:lnTo>
                  <a:lnTo>
                    <a:pt x="2741" y="1113"/>
                  </a:lnTo>
                  <a:lnTo>
                    <a:pt x="2741" y="1106"/>
                  </a:lnTo>
                  <a:lnTo>
                    <a:pt x="2741" y="1099"/>
                  </a:lnTo>
                  <a:lnTo>
                    <a:pt x="2741" y="1093"/>
                  </a:lnTo>
                  <a:lnTo>
                    <a:pt x="2741" y="1086"/>
                  </a:lnTo>
                  <a:lnTo>
                    <a:pt x="2741" y="1079"/>
                  </a:lnTo>
                  <a:lnTo>
                    <a:pt x="2741" y="1072"/>
                  </a:lnTo>
                  <a:lnTo>
                    <a:pt x="2741" y="1065"/>
                  </a:lnTo>
                  <a:lnTo>
                    <a:pt x="2741" y="1058"/>
                  </a:lnTo>
                  <a:lnTo>
                    <a:pt x="2741" y="1051"/>
                  </a:lnTo>
                  <a:lnTo>
                    <a:pt x="2748" y="1044"/>
                  </a:lnTo>
                  <a:lnTo>
                    <a:pt x="2748" y="1037"/>
                  </a:lnTo>
                  <a:lnTo>
                    <a:pt x="2748" y="1030"/>
                  </a:lnTo>
                  <a:lnTo>
                    <a:pt x="2748" y="1023"/>
                  </a:lnTo>
                  <a:lnTo>
                    <a:pt x="2748" y="1016"/>
                  </a:lnTo>
                  <a:lnTo>
                    <a:pt x="2748" y="1009"/>
                  </a:lnTo>
                  <a:lnTo>
                    <a:pt x="2748" y="1002"/>
                  </a:lnTo>
                  <a:lnTo>
                    <a:pt x="2748" y="995"/>
                  </a:lnTo>
                  <a:lnTo>
                    <a:pt x="2748" y="988"/>
                  </a:lnTo>
                  <a:lnTo>
                    <a:pt x="2748" y="981"/>
                  </a:lnTo>
                  <a:lnTo>
                    <a:pt x="2748" y="974"/>
                  </a:lnTo>
                  <a:lnTo>
                    <a:pt x="2748" y="967"/>
                  </a:lnTo>
                  <a:lnTo>
                    <a:pt x="2755" y="967"/>
                  </a:lnTo>
                  <a:lnTo>
                    <a:pt x="2755" y="960"/>
                  </a:lnTo>
                  <a:lnTo>
                    <a:pt x="2755" y="953"/>
                  </a:lnTo>
                  <a:lnTo>
                    <a:pt x="2755" y="946"/>
                  </a:lnTo>
                  <a:lnTo>
                    <a:pt x="2755" y="939"/>
                  </a:lnTo>
                  <a:lnTo>
                    <a:pt x="2755" y="932"/>
                  </a:lnTo>
                  <a:lnTo>
                    <a:pt x="2755" y="926"/>
                  </a:lnTo>
                  <a:lnTo>
                    <a:pt x="2755" y="919"/>
                  </a:lnTo>
                  <a:lnTo>
                    <a:pt x="2755" y="912"/>
                  </a:lnTo>
                  <a:lnTo>
                    <a:pt x="2755" y="905"/>
                  </a:lnTo>
                  <a:lnTo>
                    <a:pt x="2755" y="898"/>
                  </a:lnTo>
                  <a:lnTo>
                    <a:pt x="2755" y="891"/>
                  </a:lnTo>
                  <a:lnTo>
                    <a:pt x="2755" y="884"/>
                  </a:lnTo>
                  <a:lnTo>
                    <a:pt x="2755" y="877"/>
                  </a:lnTo>
                  <a:lnTo>
                    <a:pt x="2762" y="870"/>
                  </a:lnTo>
                  <a:lnTo>
                    <a:pt x="2762" y="863"/>
                  </a:lnTo>
                  <a:lnTo>
                    <a:pt x="2762" y="856"/>
                  </a:lnTo>
                  <a:lnTo>
                    <a:pt x="2762" y="849"/>
                  </a:lnTo>
                  <a:lnTo>
                    <a:pt x="2762" y="842"/>
                  </a:lnTo>
                  <a:lnTo>
                    <a:pt x="2762" y="835"/>
                  </a:lnTo>
                  <a:lnTo>
                    <a:pt x="2762" y="828"/>
                  </a:lnTo>
                  <a:lnTo>
                    <a:pt x="2762" y="821"/>
                  </a:lnTo>
                  <a:lnTo>
                    <a:pt x="2762" y="814"/>
                  </a:lnTo>
                  <a:lnTo>
                    <a:pt x="2762" y="807"/>
                  </a:lnTo>
                  <a:lnTo>
                    <a:pt x="2762" y="800"/>
                  </a:lnTo>
                  <a:lnTo>
                    <a:pt x="2762" y="793"/>
                  </a:lnTo>
                  <a:lnTo>
                    <a:pt x="2762" y="786"/>
                  </a:lnTo>
                  <a:lnTo>
                    <a:pt x="2769" y="779"/>
                  </a:lnTo>
                  <a:lnTo>
                    <a:pt x="2769" y="772"/>
                  </a:lnTo>
                  <a:lnTo>
                    <a:pt x="2769" y="766"/>
                  </a:lnTo>
                  <a:lnTo>
                    <a:pt x="2769" y="759"/>
                  </a:lnTo>
                  <a:lnTo>
                    <a:pt x="2769" y="752"/>
                  </a:lnTo>
                  <a:lnTo>
                    <a:pt x="2769" y="745"/>
                  </a:lnTo>
                  <a:lnTo>
                    <a:pt x="2769" y="738"/>
                  </a:lnTo>
                  <a:lnTo>
                    <a:pt x="2769" y="731"/>
                  </a:lnTo>
                  <a:lnTo>
                    <a:pt x="2769" y="724"/>
                  </a:lnTo>
                  <a:lnTo>
                    <a:pt x="2769" y="717"/>
                  </a:lnTo>
                  <a:lnTo>
                    <a:pt x="2769" y="710"/>
                  </a:lnTo>
                  <a:lnTo>
                    <a:pt x="2769" y="703"/>
                  </a:lnTo>
                  <a:lnTo>
                    <a:pt x="2769" y="696"/>
                  </a:lnTo>
                  <a:lnTo>
                    <a:pt x="2776" y="689"/>
                  </a:lnTo>
                  <a:lnTo>
                    <a:pt x="2776" y="682"/>
                  </a:lnTo>
                  <a:lnTo>
                    <a:pt x="2776" y="675"/>
                  </a:lnTo>
                  <a:lnTo>
                    <a:pt x="2776" y="668"/>
                  </a:lnTo>
                  <a:lnTo>
                    <a:pt x="2776" y="661"/>
                  </a:lnTo>
                  <a:lnTo>
                    <a:pt x="2776" y="654"/>
                  </a:lnTo>
                  <a:lnTo>
                    <a:pt x="2776" y="647"/>
                  </a:lnTo>
                  <a:lnTo>
                    <a:pt x="2776" y="640"/>
                  </a:lnTo>
                  <a:lnTo>
                    <a:pt x="2776" y="633"/>
                  </a:lnTo>
                  <a:lnTo>
                    <a:pt x="2776" y="626"/>
                  </a:lnTo>
                  <a:lnTo>
                    <a:pt x="2776" y="619"/>
                  </a:lnTo>
                  <a:lnTo>
                    <a:pt x="2776" y="612"/>
                  </a:lnTo>
                  <a:lnTo>
                    <a:pt x="2776" y="606"/>
                  </a:lnTo>
                  <a:lnTo>
                    <a:pt x="2783" y="599"/>
                  </a:lnTo>
                  <a:lnTo>
                    <a:pt x="2783" y="592"/>
                  </a:lnTo>
                  <a:lnTo>
                    <a:pt x="2783" y="585"/>
                  </a:lnTo>
                  <a:lnTo>
                    <a:pt x="2783" y="578"/>
                  </a:lnTo>
                  <a:lnTo>
                    <a:pt x="2783" y="571"/>
                  </a:lnTo>
                  <a:lnTo>
                    <a:pt x="2783" y="564"/>
                  </a:lnTo>
                  <a:lnTo>
                    <a:pt x="2783" y="557"/>
                  </a:lnTo>
                  <a:lnTo>
                    <a:pt x="2783" y="550"/>
                  </a:lnTo>
                  <a:lnTo>
                    <a:pt x="2783" y="543"/>
                  </a:lnTo>
                  <a:lnTo>
                    <a:pt x="2783" y="536"/>
                  </a:lnTo>
                  <a:lnTo>
                    <a:pt x="2783" y="529"/>
                  </a:lnTo>
                  <a:lnTo>
                    <a:pt x="2783" y="522"/>
                  </a:lnTo>
                  <a:lnTo>
                    <a:pt x="2783" y="515"/>
                  </a:lnTo>
                  <a:lnTo>
                    <a:pt x="2790" y="508"/>
                  </a:lnTo>
                  <a:lnTo>
                    <a:pt x="2790" y="501"/>
                  </a:lnTo>
                  <a:lnTo>
                    <a:pt x="2790" y="494"/>
                  </a:lnTo>
                  <a:lnTo>
                    <a:pt x="2790" y="487"/>
                  </a:lnTo>
                  <a:lnTo>
                    <a:pt x="2790" y="480"/>
                  </a:lnTo>
                  <a:lnTo>
                    <a:pt x="2790" y="473"/>
                  </a:lnTo>
                  <a:lnTo>
                    <a:pt x="2790" y="466"/>
                  </a:lnTo>
                  <a:lnTo>
                    <a:pt x="2790" y="459"/>
                  </a:lnTo>
                  <a:lnTo>
                    <a:pt x="2790" y="452"/>
                  </a:lnTo>
                  <a:lnTo>
                    <a:pt x="2790" y="445"/>
                  </a:lnTo>
                  <a:lnTo>
                    <a:pt x="2790" y="439"/>
                  </a:lnTo>
                  <a:lnTo>
                    <a:pt x="2790" y="432"/>
                  </a:lnTo>
                  <a:lnTo>
                    <a:pt x="2790" y="425"/>
                  </a:lnTo>
                  <a:lnTo>
                    <a:pt x="2790" y="418"/>
                  </a:lnTo>
                  <a:lnTo>
                    <a:pt x="2797" y="411"/>
                  </a:lnTo>
                  <a:lnTo>
                    <a:pt x="2797" y="404"/>
                  </a:lnTo>
                  <a:lnTo>
                    <a:pt x="2797" y="397"/>
                  </a:lnTo>
                  <a:lnTo>
                    <a:pt x="2797" y="390"/>
                  </a:lnTo>
                  <a:lnTo>
                    <a:pt x="2797" y="383"/>
                  </a:lnTo>
                  <a:lnTo>
                    <a:pt x="2797" y="376"/>
                  </a:lnTo>
                  <a:lnTo>
                    <a:pt x="2797" y="369"/>
                  </a:lnTo>
                  <a:lnTo>
                    <a:pt x="2797" y="362"/>
                  </a:lnTo>
                  <a:lnTo>
                    <a:pt x="2797" y="355"/>
                  </a:lnTo>
                  <a:lnTo>
                    <a:pt x="2797" y="348"/>
                  </a:lnTo>
                  <a:lnTo>
                    <a:pt x="2797" y="341"/>
                  </a:lnTo>
                  <a:lnTo>
                    <a:pt x="2797" y="334"/>
                  </a:lnTo>
                  <a:lnTo>
                    <a:pt x="2804" y="327"/>
                  </a:lnTo>
                  <a:lnTo>
                    <a:pt x="2804" y="320"/>
                  </a:lnTo>
                  <a:lnTo>
                    <a:pt x="2804" y="313"/>
                  </a:lnTo>
                  <a:lnTo>
                    <a:pt x="2804" y="306"/>
                  </a:lnTo>
                  <a:lnTo>
                    <a:pt x="2804" y="299"/>
                  </a:lnTo>
                  <a:lnTo>
                    <a:pt x="2804" y="292"/>
                  </a:lnTo>
                  <a:lnTo>
                    <a:pt x="2804" y="285"/>
                  </a:lnTo>
                  <a:lnTo>
                    <a:pt x="2804" y="279"/>
                  </a:lnTo>
                  <a:lnTo>
                    <a:pt x="2804" y="272"/>
                  </a:lnTo>
                  <a:lnTo>
                    <a:pt x="2804" y="265"/>
                  </a:lnTo>
                  <a:lnTo>
                    <a:pt x="2804" y="258"/>
                  </a:lnTo>
                  <a:lnTo>
                    <a:pt x="2811" y="258"/>
                  </a:lnTo>
                  <a:lnTo>
                    <a:pt x="2811" y="251"/>
                  </a:lnTo>
                  <a:lnTo>
                    <a:pt x="2811" y="244"/>
                  </a:lnTo>
                  <a:lnTo>
                    <a:pt x="2811" y="237"/>
                  </a:lnTo>
                  <a:lnTo>
                    <a:pt x="2811" y="230"/>
                  </a:lnTo>
                  <a:lnTo>
                    <a:pt x="2811" y="223"/>
                  </a:lnTo>
                  <a:lnTo>
                    <a:pt x="2811" y="216"/>
                  </a:lnTo>
                  <a:lnTo>
                    <a:pt x="2811" y="209"/>
                  </a:lnTo>
                  <a:lnTo>
                    <a:pt x="2811" y="202"/>
                  </a:lnTo>
                  <a:lnTo>
                    <a:pt x="2811" y="195"/>
                  </a:lnTo>
                  <a:lnTo>
                    <a:pt x="2818" y="188"/>
                  </a:lnTo>
                  <a:lnTo>
                    <a:pt x="2818" y="181"/>
                  </a:lnTo>
                  <a:lnTo>
                    <a:pt x="2818" y="174"/>
                  </a:lnTo>
                  <a:lnTo>
                    <a:pt x="2818" y="167"/>
                  </a:lnTo>
                  <a:lnTo>
                    <a:pt x="2818" y="160"/>
                  </a:lnTo>
                  <a:lnTo>
                    <a:pt x="2818" y="153"/>
                  </a:lnTo>
                  <a:lnTo>
                    <a:pt x="2818" y="146"/>
                  </a:lnTo>
                  <a:lnTo>
                    <a:pt x="2818" y="139"/>
                  </a:lnTo>
                  <a:lnTo>
                    <a:pt x="2818" y="132"/>
                  </a:lnTo>
                  <a:lnTo>
                    <a:pt x="2825" y="132"/>
                  </a:lnTo>
                  <a:lnTo>
                    <a:pt x="2825" y="125"/>
                  </a:lnTo>
                  <a:lnTo>
                    <a:pt x="2825" y="119"/>
                  </a:lnTo>
                  <a:lnTo>
                    <a:pt x="2825" y="112"/>
                  </a:lnTo>
                  <a:lnTo>
                    <a:pt x="2825" y="105"/>
                  </a:lnTo>
                  <a:lnTo>
                    <a:pt x="2825" y="98"/>
                  </a:lnTo>
                  <a:lnTo>
                    <a:pt x="2825" y="91"/>
                  </a:lnTo>
                  <a:lnTo>
                    <a:pt x="2831" y="84"/>
                  </a:lnTo>
                  <a:lnTo>
                    <a:pt x="2831" y="77"/>
                  </a:lnTo>
                  <a:lnTo>
                    <a:pt x="2831" y="70"/>
                  </a:lnTo>
                  <a:lnTo>
                    <a:pt x="2831" y="63"/>
                  </a:lnTo>
                  <a:lnTo>
                    <a:pt x="2831" y="56"/>
                  </a:lnTo>
                  <a:lnTo>
                    <a:pt x="2831" y="49"/>
                  </a:lnTo>
                  <a:lnTo>
                    <a:pt x="2838" y="49"/>
                  </a:lnTo>
                  <a:lnTo>
                    <a:pt x="2838" y="42"/>
                  </a:lnTo>
                  <a:lnTo>
                    <a:pt x="2838" y="35"/>
                  </a:lnTo>
                  <a:lnTo>
                    <a:pt x="2838" y="28"/>
                  </a:lnTo>
                  <a:lnTo>
                    <a:pt x="2845" y="21"/>
                  </a:lnTo>
                  <a:lnTo>
                    <a:pt x="2845" y="14"/>
                  </a:lnTo>
                  <a:lnTo>
                    <a:pt x="2845" y="7"/>
                  </a:lnTo>
                  <a:lnTo>
                    <a:pt x="2852" y="7"/>
                  </a:lnTo>
                  <a:lnTo>
                    <a:pt x="2852" y="0"/>
                  </a:lnTo>
                  <a:lnTo>
                    <a:pt x="2859" y="0"/>
                  </a:lnTo>
                  <a:lnTo>
                    <a:pt x="2866" y="0"/>
                  </a:lnTo>
                  <a:lnTo>
                    <a:pt x="2873" y="7"/>
                  </a:lnTo>
                  <a:lnTo>
                    <a:pt x="2873" y="14"/>
                  </a:lnTo>
                  <a:lnTo>
                    <a:pt x="2880" y="14"/>
                  </a:lnTo>
                  <a:lnTo>
                    <a:pt x="2880" y="21"/>
                  </a:lnTo>
                  <a:lnTo>
                    <a:pt x="2887" y="21"/>
                  </a:lnTo>
                  <a:lnTo>
                    <a:pt x="2887" y="28"/>
                  </a:lnTo>
                  <a:lnTo>
                    <a:pt x="2887" y="35"/>
                  </a:lnTo>
                  <a:lnTo>
                    <a:pt x="2894" y="35"/>
                  </a:lnTo>
                  <a:lnTo>
                    <a:pt x="2894" y="42"/>
                  </a:lnTo>
                  <a:lnTo>
                    <a:pt x="2894" y="49"/>
                  </a:lnTo>
                  <a:lnTo>
                    <a:pt x="2901" y="56"/>
                  </a:lnTo>
                  <a:lnTo>
                    <a:pt x="2901" y="63"/>
                  </a:lnTo>
                  <a:lnTo>
                    <a:pt x="2901" y="70"/>
                  </a:lnTo>
                  <a:lnTo>
                    <a:pt x="2908" y="70"/>
                  </a:lnTo>
                  <a:lnTo>
                    <a:pt x="2908" y="77"/>
                  </a:lnTo>
                  <a:lnTo>
                    <a:pt x="2908" y="84"/>
                  </a:lnTo>
                  <a:lnTo>
                    <a:pt x="2915" y="84"/>
                  </a:lnTo>
                  <a:lnTo>
                    <a:pt x="2915" y="91"/>
                  </a:lnTo>
                  <a:lnTo>
                    <a:pt x="2915" y="98"/>
                  </a:lnTo>
                  <a:lnTo>
                    <a:pt x="2922" y="98"/>
                  </a:lnTo>
                  <a:lnTo>
                    <a:pt x="2922" y="105"/>
                  </a:lnTo>
                  <a:lnTo>
                    <a:pt x="2922" y="112"/>
                  </a:lnTo>
                  <a:lnTo>
                    <a:pt x="2929" y="119"/>
                  </a:lnTo>
                  <a:lnTo>
                    <a:pt x="2929" y="125"/>
                  </a:lnTo>
                  <a:lnTo>
                    <a:pt x="2929" y="132"/>
                  </a:lnTo>
                  <a:lnTo>
                    <a:pt x="2936" y="132"/>
                  </a:lnTo>
                  <a:lnTo>
                    <a:pt x="2936" y="139"/>
                  </a:lnTo>
                  <a:lnTo>
                    <a:pt x="2936" y="146"/>
                  </a:lnTo>
                  <a:lnTo>
                    <a:pt x="2943" y="146"/>
                  </a:lnTo>
                  <a:lnTo>
                    <a:pt x="2943" y="153"/>
                  </a:lnTo>
                  <a:lnTo>
                    <a:pt x="2950" y="153"/>
                  </a:lnTo>
                  <a:lnTo>
                    <a:pt x="2950" y="160"/>
                  </a:lnTo>
                  <a:lnTo>
                    <a:pt x="2950" y="167"/>
                  </a:lnTo>
                  <a:lnTo>
                    <a:pt x="2957" y="167"/>
                  </a:lnTo>
                  <a:lnTo>
                    <a:pt x="2957" y="174"/>
                  </a:lnTo>
                  <a:lnTo>
                    <a:pt x="2964" y="181"/>
                  </a:lnTo>
                  <a:lnTo>
                    <a:pt x="2964" y="188"/>
                  </a:lnTo>
                  <a:lnTo>
                    <a:pt x="2971" y="188"/>
                  </a:lnTo>
                  <a:lnTo>
                    <a:pt x="2971" y="195"/>
                  </a:lnTo>
                  <a:lnTo>
                    <a:pt x="2978" y="195"/>
                  </a:lnTo>
                  <a:lnTo>
                    <a:pt x="2978" y="202"/>
                  </a:lnTo>
                  <a:lnTo>
                    <a:pt x="2985" y="202"/>
                  </a:lnTo>
                  <a:lnTo>
                    <a:pt x="2985" y="209"/>
                  </a:lnTo>
                  <a:lnTo>
                    <a:pt x="2991" y="209"/>
                  </a:lnTo>
                  <a:lnTo>
                    <a:pt x="2998" y="209"/>
                  </a:lnTo>
                  <a:lnTo>
                    <a:pt x="2998" y="216"/>
                  </a:lnTo>
                  <a:lnTo>
                    <a:pt x="3005" y="216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Fazno-frekvencijska karakteristika sustava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268360" y="2082960"/>
            <a:ext cx="4567320" cy="3914640"/>
            <a:chOff x="2268360" y="2082960"/>
            <a:chExt cx="4567320" cy="3914640"/>
          </a:xfrm>
        </p:grpSpPr>
        <p:sp>
          <p:nvSpPr>
            <p:cNvPr id="397" name=""/>
            <p:cNvSpPr/>
            <p:nvPr/>
          </p:nvSpPr>
          <p:spPr>
            <a:xfrm>
              <a:off x="2589480" y="2176560"/>
              <a:ext cx="1080" cy="35812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33680" y="2176560"/>
              <a:ext cx="1080" cy="35812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67440" y="2176560"/>
              <a:ext cx="1440" cy="35812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11640" y="2176560"/>
              <a:ext cx="1440" cy="35812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45400" y="2176560"/>
              <a:ext cx="1440" cy="35812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89240" y="2176560"/>
              <a:ext cx="1440" cy="35812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89480" y="5757840"/>
              <a:ext cx="41997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89480" y="5305320"/>
              <a:ext cx="41997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89480" y="4863960"/>
              <a:ext cx="41997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89480" y="4413240"/>
              <a:ext cx="41997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89480" y="3971880"/>
              <a:ext cx="41997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89480" y="3521160"/>
              <a:ext cx="41997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89480" y="3068640"/>
              <a:ext cx="41997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89480" y="2627280"/>
              <a:ext cx="41997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89480" y="2176560"/>
              <a:ext cx="41997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89480" y="2176560"/>
              <a:ext cx="4199760" cy="35812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0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89480" y="2176560"/>
              <a:ext cx="4199760" cy="35812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0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89480" y="2176560"/>
              <a:ext cx="4199760" cy="35812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0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89480" y="5757840"/>
              <a:ext cx="4199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89480" y="2176560"/>
              <a:ext cx="4199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589480" y="2176560"/>
              <a:ext cx="1080" cy="3581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789240" y="2176560"/>
              <a:ext cx="1440" cy="3581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89480" y="2176560"/>
              <a:ext cx="1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89240" y="575784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89480" y="5757840"/>
              <a:ext cx="4199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589480" y="2176560"/>
              <a:ext cx="1080" cy="3581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89480" y="5757840"/>
              <a:ext cx="1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589480" y="5714640"/>
              <a:ext cx="1080" cy="42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89480" y="2176560"/>
              <a:ext cx="1080" cy="42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43400" y="57992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33680" y="5714640"/>
              <a:ext cx="1080" cy="42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33680" y="2176560"/>
              <a:ext cx="1080" cy="42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06960" y="57992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267440" y="5714640"/>
              <a:ext cx="1440" cy="42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67440" y="2176560"/>
              <a:ext cx="1440" cy="42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42520" y="57992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111640" y="5714640"/>
              <a:ext cx="1440" cy="42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11640" y="2176560"/>
              <a:ext cx="1440" cy="42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84920" y="57992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945400" y="5714640"/>
              <a:ext cx="1440" cy="42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45400" y="2176560"/>
              <a:ext cx="1440" cy="42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18680" y="57992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6789240" y="5714640"/>
              <a:ext cx="1440" cy="42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89240" y="2176560"/>
              <a:ext cx="1440" cy="42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43520" y="57992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89480" y="5757840"/>
              <a:ext cx="39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751080" y="5757840"/>
              <a:ext cx="37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68360" y="566244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-3.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89480" y="5305320"/>
              <a:ext cx="39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751080" y="5305320"/>
              <a:ext cx="378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05160" y="52117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-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89480" y="4863960"/>
              <a:ext cx="39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751080" y="4863960"/>
              <a:ext cx="378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68360" y="477036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-2.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89480" y="4413240"/>
              <a:ext cx="39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751080" y="4413240"/>
              <a:ext cx="37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05160" y="431784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-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89480" y="3971880"/>
              <a:ext cx="39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751080" y="3971880"/>
              <a:ext cx="378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68360" y="38782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-1.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89480" y="3521160"/>
              <a:ext cx="39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751080" y="3521160"/>
              <a:ext cx="37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05160" y="34257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89480" y="3068640"/>
              <a:ext cx="39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751080" y="3068640"/>
              <a:ext cx="37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68360" y="297504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-0.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89480" y="2627280"/>
              <a:ext cx="39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6751080" y="2627280"/>
              <a:ext cx="378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55560" y="253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89480" y="2176560"/>
              <a:ext cx="392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751080" y="2176560"/>
              <a:ext cx="37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18040" y="208296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89480" y="5757840"/>
              <a:ext cx="4199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89480" y="2176560"/>
              <a:ext cx="4199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589480" y="2176560"/>
              <a:ext cx="1080" cy="3581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6789240" y="2176560"/>
              <a:ext cx="1440" cy="3581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89480" y="5757840"/>
              <a:ext cx="1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89240" y="217656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89480" y="2565360"/>
              <a:ext cx="4189320" cy="2813040"/>
            </a:xfrm>
            <a:custGeom>
              <a:avLst/>
              <a:gdLst/>
              <a:ahLst/>
              <a:rect l="l" t="t" r="r" b="b"/>
              <a:pathLst>
                <a:path w="2859" h="1772">
                  <a:moveTo>
                    <a:pt x="0" y="39"/>
                  </a:moveTo>
                  <a:lnTo>
                    <a:pt x="7" y="39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46"/>
                  </a:lnTo>
                  <a:lnTo>
                    <a:pt x="34" y="53"/>
                  </a:lnTo>
                  <a:lnTo>
                    <a:pt x="40" y="53"/>
                  </a:lnTo>
                  <a:lnTo>
                    <a:pt x="47" y="53"/>
                  </a:lnTo>
                  <a:lnTo>
                    <a:pt x="53" y="59"/>
                  </a:lnTo>
                  <a:lnTo>
                    <a:pt x="60" y="66"/>
                  </a:lnTo>
                  <a:lnTo>
                    <a:pt x="67" y="66"/>
                  </a:lnTo>
                  <a:lnTo>
                    <a:pt x="73" y="66"/>
                  </a:lnTo>
                  <a:lnTo>
                    <a:pt x="80" y="73"/>
                  </a:lnTo>
                  <a:lnTo>
                    <a:pt x="87" y="73"/>
                  </a:lnTo>
                  <a:lnTo>
                    <a:pt x="93" y="73"/>
                  </a:lnTo>
                  <a:lnTo>
                    <a:pt x="93" y="79"/>
                  </a:lnTo>
                  <a:lnTo>
                    <a:pt x="100" y="79"/>
                  </a:lnTo>
                  <a:lnTo>
                    <a:pt x="106" y="79"/>
                  </a:lnTo>
                  <a:lnTo>
                    <a:pt x="113" y="86"/>
                  </a:lnTo>
                  <a:lnTo>
                    <a:pt x="120" y="86"/>
                  </a:lnTo>
                  <a:lnTo>
                    <a:pt x="126" y="92"/>
                  </a:lnTo>
                  <a:lnTo>
                    <a:pt x="133" y="92"/>
                  </a:lnTo>
                  <a:lnTo>
                    <a:pt x="139" y="99"/>
                  </a:lnTo>
                  <a:lnTo>
                    <a:pt x="146" y="99"/>
                  </a:lnTo>
                  <a:lnTo>
                    <a:pt x="153" y="99"/>
                  </a:lnTo>
                  <a:lnTo>
                    <a:pt x="159" y="106"/>
                  </a:lnTo>
                  <a:lnTo>
                    <a:pt x="166" y="106"/>
                  </a:lnTo>
                  <a:lnTo>
                    <a:pt x="173" y="112"/>
                  </a:lnTo>
                  <a:lnTo>
                    <a:pt x="179" y="112"/>
                  </a:lnTo>
                  <a:lnTo>
                    <a:pt x="186" y="119"/>
                  </a:lnTo>
                  <a:lnTo>
                    <a:pt x="192" y="119"/>
                  </a:lnTo>
                  <a:lnTo>
                    <a:pt x="199" y="119"/>
                  </a:lnTo>
                  <a:lnTo>
                    <a:pt x="199" y="125"/>
                  </a:lnTo>
                  <a:lnTo>
                    <a:pt x="206" y="125"/>
                  </a:lnTo>
                  <a:lnTo>
                    <a:pt x="212" y="125"/>
                  </a:lnTo>
                  <a:lnTo>
                    <a:pt x="219" y="132"/>
                  </a:lnTo>
                  <a:lnTo>
                    <a:pt x="225" y="132"/>
                  </a:lnTo>
                  <a:lnTo>
                    <a:pt x="232" y="139"/>
                  </a:lnTo>
                  <a:lnTo>
                    <a:pt x="239" y="139"/>
                  </a:lnTo>
                  <a:lnTo>
                    <a:pt x="245" y="145"/>
                  </a:lnTo>
                  <a:lnTo>
                    <a:pt x="252" y="145"/>
                  </a:lnTo>
                  <a:lnTo>
                    <a:pt x="259" y="152"/>
                  </a:lnTo>
                  <a:lnTo>
                    <a:pt x="265" y="152"/>
                  </a:lnTo>
                  <a:lnTo>
                    <a:pt x="272" y="152"/>
                  </a:lnTo>
                  <a:lnTo>
                    <a:pt x="272" y="159"/>
                  </a:lnTo>
                  <a:lnTo>
                    <a:pt x="278" y="159"/>
                  </a:lnTo>
                  <a:lnTo>
                    <a:pt x="285" y="159"/>
                  </a:lnTo>
                  <a:lnTo>
                    <a:pt x="292" y="165"/>
                  </a:lnTo>
                  <a:lnTo>
                    <a:pt x="298" y="165"/>
                  </a:lnTo>
                  <a:lnTo>
                    <a:pt x="305" y="172"/>
                  </a:lnTo>
                  <a:lnTo>
                    <a:pt x="312" y="172"/>
                  </a:lnTo>
                  <a:lnTo>
                    <a:pt x="312" y="178"/>
                  </a:lnTo>
                  <a:lnTo>
                    <a:pt x="318" y="178"/>
                  </a:lnTo>
                  <a:lnTo>
                    <a:pt x="325" y="178"/>
                  </a:lnTo>
                  <a:lnTo>
                    <a:pt x="331" y="185"/>
                  </a:lnTo>
                  <a:lnTo>
                    <a:pt x="338" y="185"/>
                  </a:lnTo>
                  <a:lnTo>
                    <a:pt x="345" y="192"/>
                  </a:lnTo>
                  <a:lnTo>
                    <a:pt x="351" y="192"/>
                  </a:lnTo>
                  <a:lnTo>
                    <a:pt x="358" y="198"/>
                  </a:lnTo>
                  <a:lnTo>
                    <a:pt x="364" y="198"/>
                  </a:lnTo>
                  <a:lnTo>
                    <a:pt x="371" y="205"/>
                  </a:lnTo>
                  <a:lnTo>
                    <a:pt x="378" y="205"/>
                  </a:lnTo>
                  <a:lnTo>
                    <a:pt x="384" y="211"/>
                  </a:lnTo>
                  <a:lnTo>
                    <a:pt x="391" y="211"/>
                  </a:lnTo>
                  <a:lnTo>
                    <a:pt x="398" y="218"/>
                  </a:lnTo>
                  <a:lnTo>
                    <a:pt x="404" y="218"/>
                  </a:lnTo>
                  <a:lnTo>
                    <a:pt x="411" y="225"/>
                  </a:lnTo>
                  <a:lnTo>
                    <a:pt x="417" y="225"/>
                  </a:lnTo>
                  <a:lnTo>
                    <a:pt x="417" y="231"/>
                  </a:lnTo>
                  <a:lnTo>
                    <a:pt x="424" y="231"/>
                  </a:lnTo>
                  <a:lnTo>
                    <a:pt x="431" y="231"/>
                  </a:lnTo>
                  <a:lnTo>
                    <a:pt x="437" y="238"/>
                  </a:lnTo>
                  <a:lnTo>
                    <a:pt x="444" y="238"/>
                  </a:lnTo>
                  <a:lnTo>
                    <a:pt x="451" y="245"/>
                  </a:lnTo>
                  <a:lnTo>
                    <a:pt x="457" y="245"/>
                  </a:lnTo>
                  <a:lnTo>
                    <a:pt x="457" y="251"/>
                  </a:lnTo>
                  <a:lnTo>
                    <a:pt x="464" y="251"/>
                  </a:lnTo>
                  <a:lnTo>
                    <a:pt x="470" y="258"/>
                  </a:lnTo>
                  <a:lnTo>
                    <a:pt x="477" y="258"/>
                  </a:lnTo>
                  <a:lnTo>
                    <a:pt x="484" y="264"/>
                  </a:lnTo>
                  <a:lnTo>
                    <a:pt x="490" y="264"/>
                  </a:lnTo>
                  <a:lnTo>
                    <a:pt x="490" y="271"/>
                  </a:lnTo>
                  <a:lnTo>
                    <a:pt x="497" y="271"/>
                  </a:lnTo>
                  <a:lnTo>
                    <a:pt x="503" y="278"/>
                  </a:lnTo>
                  <a:lnTo>
                    <a:pt x="510" y="278"/>
                  </a:lnTo>
                  <a:lnTo>
                    <a:pt x="517" y="284"/>
                  </a:lnTo>
                  <a:lnTo>
                    <a:pt x="523" y="284"/>
                  </a:lnTo>
                  <a:lnTo>
                    <a:pt x="523" y="291"/>
                  </a:lnTo>
                  <a:lnTo>
                    <a:pt x="530" y="291"/>
                  </a:lnTo>
                  <a:lnTo>
                    <a:pt x="537" y="297"/>
                  </a:lnTo>
                  <a:lnTo>
                    <a:pt x="543" y="297"/>
                  </a:lnTo>
                  <a:lnTo>
                    <a:pt x="550" y="304"/>
                  </a:lnTo>
                  <a:lnTo>
                    <a:pt x="556" y="304"/>
                  </a:lnTo>
                  <a:lnTo>
                    <a:pt x="563" y="311"/>
                  </a:lnTo>
                  <a:lnTo>
                    <a:pt x="570" y="317"/>
                  </a:lnTo>
                  <a:lnTo>
                    <a:pt x="576" y="317"/>
                  </a:lnTo>
                  <a:lnTo>
                    <a:pt x="583" y="324"/>
                  </a:lnTo>
                  <a:lnTo>
                    <a:pt x="589" y="324"/>
                  </a:lnTo>
                  <a:lnTo>
                    <a:pt x="596" y="330"/>
                  </a:lnTo>
                  <a:lnTo>
                    <a:pt x="603" y="337"/>
                  </a:lnTo>
                  <a:lnTo>
                    <a:pt x="609" y="344"/>
                  </a:lnTo>
                  <a:lnTo>
                    <a:pt x="616" y="344"/>
                  </a:lnTo>
                  <a:lnTo>
                    <a:pt x="623" y="350"/>
                  </a:lnTo>
                  <a:lnTo>
                    <a:pt x="629" y="350"/>
                  </a:lnTo>
                  <a:lnTo>
                    <a:pt x="636" y="357"/>
                  </a:lnTo>
                  <a:lnTo>
                    <a:pt x="642" y="364"/>
                  </a:lnTo>
                  <a:lnTo>
                    <a:pt x="649" y="370"/>
                  </a:lnTo>
                  <a:lnTo>
                    <a:pt x="656" y="370"/>
                  </a:lnTo>
                  <a:lnTo>
                    <a:pt x="662" y="377"/>
                  </a:lnTo>
                  <a:lnTo>
                    <a:pt x="669" y="377"/>
                  </a:lnTo>
                  <a:lnTo>
                    <a:pt x="669" y="383"/>
                  </a:lnTo>
                  <a:lnTo>
                    <a:pt x="676" y="390"/>
                  </a:lnTo>
                  <a:lnTo>
                    <a:pt x="682" y="390"/>
                  </a:lnTo>
                  <a:lnTo>
                    <a:pt x="689" y="397"/>
                  </a:lnTo>
                  <a:lnTo>
                    <a:pt x="695" y="403"/>
                  </a:lnTo>
                  <a:lnTo>
                    <a:pt x="702" y="403"/>
                  </a:lnTo>
                  <a:lnTo>
                    <a:pt x="709" y="410"/>
                  </a:lnTo>
                  <a:lnTo>
                    <a:pt x="709" y="416"/>
                  </a:lnTo>
                  <a:lnTo>
                    <a:pt x="715" y="416"/>
                  </a:lnTo>
                  <a:lnTo>
                    <a:pt x="722" y="423"/>
                  </a:lnTo>
                  <a:lnTo>
                    <a:pt x="728" y="430"/>
                  </a:lnTo>
                  <a:lnTo>
                    <a:pt x="735" y="430"/>
                  </a:lnTo>
                  <a:lnTo>
                    <a:pt x="742" y="436"/>
                  </a:lnTo>
                  <a:lnTo>
                    <a:pt x="742" y="443"/>
                  </a:lnTo>
                  <a:lnTo>
                    <a:pt x="748" y="443"/>
                  </a:lnTo>
                  <a:lnTo>
                    <a:pt x="755" y="450"/>
                  </a:lnTo>
                  <a:lnTo>
                    <a:pt x="762" y="456"/>
                  </a:lnTo>
                  <a:lnTo>
                    <a:pt x="768" y="456"/>
                  </a:lnTo>
                  <a:lnTo>
                    <a:pt x="775" y="463"/>
                  </a:lnTo>
                  <a:lnTo>
                    <a:pt x="781" y="469"/>
                  </a:lnTo>
                  <a:lnTo>
                    <a:pt x="781" y="476"/>
                  </a:lnTo>
                  <a:lnTo>
                    <a:pt x="788" y="476"/>
                  </a:lnTo>
                  <a:lnTo>
                    <a:pt x="795" y="483"/>
                  </a:lnTo>
                  <a:lnTo>
                    <a:pt x="801" y="489"/>
                  </a:lnTo>
                  <a:lnTo>
                    <a:pt x="808" y="496"/>
                  </a:lnTo>
                  <a:lnTo>
                    <a:pt x="814" y="496"/>
                  </a:lnTo>
                  <a:lnTo>
                    <a:pt x="814" y="502"/>
                  </a:lnTo>
                  <a:lnTo>
                    <a:pt x="821" y="509"/>
                  </a:lnTo>
                  <a:lnTo>
                    <a:pt x="828" y="516"/>
                  </a:lnTo>
                  <a:lnTo>
                    <a:pt x="834" y="516"/>
                  </a:lnTo>
                  <a:lnTo>
                    <a:pt x="841" y="522"/>
                  </a:lnTo>
                  <a:lnTo>
                    <a:pt x="848" y="529"/>
                  </a:lnTo>
                  <a:lnTo>
                    <a:pt x="854" y="536"/>
                  </a:lnTo>
                  <a:lnTo>
                    <a:pt x="854" y="542"/>
                  </a:lnTo>
                  <a:lnTo>
                    <a:pt x="861" y="549"/>
                  </a:lnTo>
                  <a:lnTo>
                    <a:pt x="867" y="549"/>
                  </a:lnTo>
                  <a:lnTo>
                    <a:pt x="874" y="555"/>
                  </a:lnTo>
                  <a:lnTo>
                    <a:pt x="881" y="562"/>
                  </a:lnTo>
                  <a:lnTo>
                    <a:pt x="887" y="569"/>
                  </a:lnTo>
                  <a:lnTo>
                    <a:pt x="887" y="575"/>
                  </a:lnTo>
                  <a:lnTo>
                    <a:pt x="894" y="582"/>
                  </a:lnTo>
                  <a:lnTo>
                    <a:pt x="901" y="582"/>
                  </a:lnTo>
                  <a:lnTo>
                    <a:pt x="907" y="588"/>
                  </a:lnTo>
                  <a:lnTo>
                    <a:pt x="914" y="595"/>
                  </a:lnTo>
                  <a:lnTo>
                    <a:pt x="920" y="602"/>
                  </a:lnTo>
                  <a:lnTo>
                    <a:pt x="927" y="608"/>
                  </a:lnTo>
                  <a:lnTo>
                    <a:pt x="927" y="615"/>
                  </a:lnTo>
                  <a:lnTo>
                    <a:pt x="934" y="622"/>
                  </a:lnTo>
                  <a:lnTo>
                    <a:pt x="940" y="628"/>
                  </a:lnTo>
                  <a:lnTo>
                    <a:pt x="947" y="635"/>
                  </a:lnTo>
                  <a:lnTo>
                    <a:pt x="953" y="641"/>
                  </a:lnTo>
                  <a:lnTo>
                    <a:pt x="960" y="641"/>
                  </a:lnTo>
                  <a:lnTo>
                    <a:pt x="960" y="648"/>
                  </a:lnTo>
                  <a:lnTo>
                    <a:pt x="967" y="655"/>
                  </a:lnTo>
                  <a:lnTo>
                    <a:pt x="973" y="661"/>
                  </a:lnTo>
                  <a:lnTo>
                    <a:pt x="980" y="668"/>
                  </a:lnTo>
                  <a:lnTo>
                    <a:pt x="987" y="674"/>
                  </a:lnTo>
                  <a:lnTo>
                    <a:pt x="993" y="681"/>
                  </a:lnTo>
                  <a:lnTo>
                    <a:pt x="1000" y="688"/>
                  </a:lnTo>
                  <a:lnTo>
                    <a:pt x="1000" y="694"/>
                  </a:lnTo>
                  <a:lnTo>
                    <a:pt x="1006" y="701"/>
                  </a:lnTo>
                  <a:lnTo>
                    <a:pt x="1013" y="708"/>
                  </a:lnTo>
                  <a:lnTo>
                    <a:pt x="1020" y="714"/>
                  </a:lnTo>
                  <a:lnTo>
                    <a:pt x="1026" y="721"/>
                  </a:lnTo>
                  <a:lnTo>
                    <a:pt x="1033" y="727"/>
                  </a:lnTo>
                  <a:lnTo>
                    <a:pt x="1033" y="734"/>
                  </a:lnTo>
                  <a:lnTo>
                    <a:pt x="1039" y="741"/>
                  </a:lnTo>
                  <a:lnTo>
                    <a:pt x="1046" y="747"/>
                  </a:lnTo>
                  <a:lnTo>
                    <a:pt x="1053" y="754"/>
                  </a:lnTo>
                  <a:lnTo>
                    <a:pt x="1059" y="760"/>
                  </a:lnTo>
                  <a:lnTo>
                    <a:pt x="1066" y="767"/>
                  </a:lnTo>
                  <a:lnTo>
                    <a:pt x="1073" y="774"/>
                  </a:lnTo>
                  <a:lnTo>
                    <a:pt x="1073" y="780"/>
                  </a:lnTo>
                  <a:lnTo>
                    <a:pt x="1079" y="787"/>
                  </a:lnTo>
                  <a:lnTo>
                    <a:pt x="1086" y="793"/>
                  </a:lnTo>
                  <a:lnTo>
                    <a:pt x="1092" y="800"/>
                  </a:lnTo>
                  <a:lnTo>
                    <a:pt x="1099" y="807"/>
                  </a:lnTo>
                  <a:lnTo>
                    <a:pt x="1106" y="813"/>
                  </a:lnTo>
                  <a:lnTo>
                    <a:pt x="1106" y="820"/>
                  </a:lnTo>
                  <a:lnTo>
                    <a:pt x="1112" y="827"/>
                  </a:lnTo>
                  <a:lnTo>
                    <a:pt x="1119" y="833"/>
                  </a:lnTo>
                  <a:lnTo>
                    <a:pt x="1126" y="840"/>
                  </a:lnTo>
                  <a:lnTo>
                    <a:pt x="1132" y="853"/>
                  </a:lnTo>
                  <a:lnTo>
                    <a:pt x="1139" y="860"/>
                  </a:lnTo>
                  <a:lnTo>
                    <a:pt x="1145" y="866"/>
                  </a:lnTo>
                  <a:lnTo>
                    <a:pt x="1145" y="873"/>
                  </a:lnTo>
                  <a:lnTo>
                    <a:pt x="1152" y="879"/>
                  </a:lnTo>
                  <a:lnTo>
                    <a:pt x="1159" y="886"/>
                  </a:lnTo>
                  <a:lnTo>
                    <a:pt x="1165" y="893"/>
                  </a:lnTo>
                  <a:lnTo>
                    <a:pt x="1172" y="899"/>
                  </a:lnTo>
                  <a:lnTo>
                    <a:pt x="1178" y="906"/>
                  </a:lnTo>
                  <a:lnTo>
                    <a:pt x="1178" y="913"/>
                  </a:lnTo>
                  <a:lnTo>
                    <a:pt x="1185" y="919"/>
                  </a:lnTo>
                  <a:lnTo>
                    <a:pt x="1192" y="926"/>
                  </a:lnTo>
                  <a:lnTo>
                    <a:pt x="1198" y="932"/>
                  </a:lnTo>
                  <a:lnTo>
                    <a:pt x="1205" y="939"/>
                  </a:lnTo>
                  <a:lnTo>
                    <a:pt x="1212" y="946"/>
                  </a:lnTo>
                  <a:lnTo>
                    <a:pt x="1218" y="952"/>
                  </a:lnTo>
                  <a:lnTo>
                    <a:pt x="1218" y="959"/>
                  </a:lnTo>
                  <a:lnTo>
                    <a:pt x="1225" y="965"/>
                  </a:lnTo>
                  <a:lnTo>
                    <a:pt x="1231" y="972"/>
                  </a:lnTo>
                  <a:lnTo>
                    <a:pt x="1238" y="979"/>
                  </a:lnTo>
                  <a:lnTo>
                    <a:pt x="1245" y="985"/>
                  </a:lnTo>
                  <a:lnTo>
                    <a:pt x="1251" y="992"/>
                  </a:lnTo>
                  <a:lnTo>
                    <a:pt x="1251" y="999"/>
                  </a:lnTo>
                  <a:lnTo>
                    <a:pt x="1258" y="1005"/>
                  </a:lnTo>
                  <a:lnTo>
                    <a:pt x="1264" y="1012"/>
                  </a:lnTo>
                  <a:lnTo>
                    <a:pt x="1271" y="1018"/>
                  </a:lnTo>
                  <a:lnTo>
                    <a:pt x="1278" y="1025"/>
                  </a:lnTo>
                  <a:lnTo>
                    <a:pt x="1284" y="1032"/>
                  </a:lnTo>
                  <a:lnTo>
                    <a:pt x="1291" y="1038"/>
                  </a:lnTo>
                  <a:lnTo>
                    <a:pt x="1291" y="1045"/>
                  </a:lnTo>
                  <a:lnTo>
                    <a:pt x="1298" y="1051"/>
                  </a:lnTo>
                  <a:lnTo>
                    <a:pt x="1304" y="1058"/>
                  </a:lnTo>
                  <a:lnTo>
                    <a:pt x="1311" y="1065"/>
                  </a:lnTo>
                  <a:lnTo>
                    <a:pt x="1317" y="1071"/>
                  </a:lnTo>
                  <a:lnTo>
                    <a:pt x="1324" y="1078"/>
                  </a:lnTo>
                  <a:lnTo>
                    <a:pt x="1324" y="1085"/>
                  </a:lnTo>
                  <a:lnTo>
                    <a:pt x="1331" y="1091"/>
                  </a:lnTo>
                  <a:lnTo>
                    <a:pt x="1337" y="1098"/>
                  </a:lnTo>
                  <a:lnTo>
                    <a:pt x="1344" y="1104"/>
                  </a:lnTo>
                  <a:lnTo>
                    <a:pt x="1351" y="1111"/>
                  </a:lnTo>
                  <a:lnTo>
                    <a:pt x="1357" y="1118"/>
                  </a:lnTo>
                  <a:lnTo>
                    <a:pt x="1364" y="1118"/>
                  </a:lnTo>
                  <a:lnTo>
                    <a:pt x="1364" y="1124"/>
                  </a:lnTo>
                  <a:lnTo>
                    <a:pt x="1370" y="1131"/>
                  </a:lnTo>
                  <a:lnTo>
                    <a:pt x="1377" y="1137"/>
                  </a:lnTo>
                  <a:lnTo>
                    <a:pt x="1384" y="1144"/>
                  </a:lnTo>
                  <a:lnTo>
                    <a:pt x="1390" y="1151"/>
                  </a:lnTo>
                  <a:lnTo>
                    <a:pt x="1397" y="1157"/>
                  </a:lnTo>
                  <a:lnTo>
                    <a:pt x="1397" y="1164"/>
                  </a:lnTo>
                  <a:lnTo>
                    <a:pt x="1403" y="1171"/>
                  </a:lnTo>
                  <a:lnTo>
                    <a:pt x="1410" y="1171"/>
                  </a:lnTo>
                  <a:lnTo>
                    <a:pt x="1417" y="1177"/>
                  </a:lnTo>
                  <a:lnTo>
                    <a:pt x="1423" y="1184"/>
                  </a:lnTo>
                  <a:lnTo>
                    <a:pt x="1430" y="1190"/>
                  </a:lnTo>
                  <a:lnTo>
                    <a:pt x="1437" y="1197"/>
                  </a:lnTo>
                  <a:lnTo>
                    <a:pt x="1443" y="1204"/>
                  </a:lnTo>
                  <a:lnTo>
                    <a:pt x="1450" y="1210"/>
                  </a:lnTo>
                  <a:lnTo>
                    <a:pt x="1456" y="1217"/>
                  </a:lnTo>
                  <a:lnTo>
                    <a:pt x="1463" y="1223"/>
                  </a:lnTo>
                  <a:lnTo>
                    <a:pt x="1470" y="1223"/>
                  </a:lnTo>
                  <a:lnTo>
                    <a:pt x="1470" y="1230"/>
                  </a:lnTo>
                  <a:lnTo>
                    <a:pt x="1476" y="1237"/>
                  </a:lnTo>
                  <a:lnTo>
                    <a:pt x="1483" y="1243"/>
                  </a:lnTo>
                  <a:lnTo>
                    <a:pt x="1490" y="1243"/>
                  </a:lnTo>
                  <a:lnTo>
                    <a:pt x="1496" y="1250"/>
                  </a:lnTo>
                  <a:lnTo>
                    <a:pt x="1503" y="1256"/>
                  </a:lnTo>
                  <a:lnTo>
                    <a:pt x="1503" y="1263"/>
                  </a:lnTo>
                  <a:lnTo>
                    <a:pt x="1509" y="1263"/>
                  </a:lnTo>
                  <a:lnTo>
                    <a:pt x="1516" y="1270"/>
                  </a:lnTo>
                  <a:lnTo>
                    <a:pt x="1523" y="1276"/>
                  </a:lnTo>
                  <a:lnTo>
                    <a:pt x="1529" y="1283"/>
                  </a:lnTo>
                  <a:lnTo>
                    <a:pt x="1536" y="1283"/>
                  </a:lnTo>
                  <a:lnTo>
                    <a:pt x="1542" y="1290"/>
                  </a:lnTo>
                  <a:lnTo>
                    <a:pt x="1542" y="1296"/>
                  </a:lnTo>
                  <a:lnTo>
                    <a:pt x="1549" y="1296"/>
                  </a:lnTo>
                  <a:lnTo>
                    <a:pt x="1556" y="1303"/>
                  </a:lnTo>
                  <a:lnTo>
                    <a:pt x="1562" y="1309"/>
                  </a:lnTo>
                  <a:lnTo>
                    <a:pt x="1569" y="1309"/>
                  </a:lnTo>
                  <a:lnTo>
                    <a:pt x="1576" y="1316"/>
                  </a:lnTo>
                  <a:lnTo>
                    <a:pt x="1576" y="1323"/>
                  </a:lnTo>
                  <a:lnTo>
                    <a:pt x="1582" y="1323"/>
                  </a:lnTo>
                  <a:lnTo>
                    <a:pt x="1589" y="1329"/>
                  </a:lnTo>
                  <a:lnTo>
                    <a:pt x="1595" y="1336"/>
                  </a:lnTo>
                  <a:lnTo>
                    <a:pt x="1602" y="1336"/>
                  </a:lnTo>
                  <a:lnTo>
                    <a:pt x="1609" y="1342"/>
                  </a:lnTo>
                  <a:lnTo>
                    <a:pt x="1615" y="1342"/>
                  </a:lnTo>
                  <a:lnTo>
                    <a:pt x="1615" y="1349"/>
                  </a:lnTo>
                  <a:lnTo>
                    <a:pt x="1622" y="1356"/>
                  </a:lnTo>
                  <a:lnTo>
                    <a:pt x="1628" y="1356"/>
                  </a:lnTo>
                  <a:lnTo>
                    <a:pt x="1635" y="1362"/>
                  </a:lnTo>
                  <a:lnTo>
                    <a:pt x="1642" y="1362"/>
                  </a:lnTo>
                  <a:lnTo>
                    <a:pt x="1648" y="1369"/>
                  </a:lnTo>
                  <a:lnTo>
                    <a:pt x="1648" y="1376"/>
                  </a:lnTo>
                  <a:lnTo>
                    <a:pt x="1655" y="1376"/>
                  </a:lnTo>
                  <a:lnTo>
                    <a:pt x="1662" y="1382"/>
                  </a:lnTo>
                  <a:lnTo>
                    <a:pt x="1668" y="1382"/>
                  </a:lnTo>
                  <a:lnTo>
                    <a:pt x="1675" y="1389"/>
                  </a:lnTo>
                  <a:lnTo>
                    <a:pt x="1681" y="1389"/>
                  </a:lnTo>
                  <a:lnTo>
                    <a:pt x="1688" y="1395"/>
                  </a:lnTo>
                  <a:lnTo>
                    <a:pt x="1695" y="1402"/>
                  </a:lnTo>
                  <a:lnTo>
                    <a:pt x="1701" y="1402"/>
                  </a:lnTo>
                  <a:lnTo>
                    <a:pt x="1708" y="1409"/>
                  </a:lnTo>
                  <a:lnTo>
                    <a:pt x="1715" y="1409"/>
                  </a:lnTo>
                  <a:lnTo>
                    <a:pt x="1721" y="1415"/>
                  </a:lnTo>
                  <a:lnTo>
                    <a:pt x="1721" y="1422"/>
                  </a:lnTo>
                  <a:lnTo>
                    <a:pt x="1728" y="1422"/>
                  </a:lnTo>
                  <a:lnTo>
                    <a:pt x="1734" y="1428"/>
                  </a:lnTo>
                  <a:lnTo>
                    <a:pt x="1741" y="1428"/>
                  </a:lnTo>
                  <a:lnTo>
                    <a:pt x="1748" y="1435"/>
                  </a:lnTo>
                  <a:lnTo>
                    <a:pt x="1754" y="1435"/>
                  </a:lnTo>
                  <a:lnTo>
                    <a:pt x="1761" y="1435"/>
                  </a:lnTo>
                  <a:lnTo>
                    <a:pt x="1761" y="1442"/>
                  </a:lnTo>
                  <a:lnTo>
                    <a:pt x="1767" y="1442"/>
                  </a:lnTo>
                  <a:lnTo>
                    <a:pt x="1774" y="1448"/>
                  </a:lnTo>
                  <a:lnTo>
                    <a:pt x="1781" y="1448"/>
                  </a:lnTo>
                  <a:lnTo>
                    <a:pt x="1787" y="1455"/>
                  </a:lnTo>
                  <a:lnTo>
                    <a:pt x="1794" y="1455"/>
                  </a:lnTo>
                  <a:lnTo>
                    <a:pt x="1794" y="1462"/>
                  </a:lnTo>
                  <a:lnTo>
                    <a:pt x="1801" y="1462"/>
                  </a:lnTo>
                  <a:lnTo>
                    <a:pt x="1807" y="1468"/>
                  </a:lnTo>
                  <a:lnTo>
                    <a:pt x="1814" y="1468"/>
                  </a:lnTo>
                  <a:lnTo>
                    <a:pt x="1820" y="1475"/>
                  </a:lnTo>
                  <a:lnTo>
                    <a:pt x="1827" y="1475"/>
                  </a:lnTo>
                  <a:lnTo>
                    <a:pt x="1834" y="1475"/>
                  </a:lnTo>
                  <a:lnTo>
                    <a:pt x="1834" y="1481"/>
                  </a:lnTo>
                  <a:lnTo>
                    <a:pt x="1840" y="1481"/>
                  </a:lnTo>
                  <a:lnTo>
                    <a:pt x="1847" y="1488"/>
                  </a:lnTo>
                  <a:lnTo>
                    <a:pt x="1853" y="1488"/>
                  </a:lnTo>
                  <a:lnTo>
                    <a:pt x="1860" y="1495"/>
                  </a:lnTo>
                  <a:lnTo>
                    <a:pt x="1867" y="1495"/>
                  </a:lnTo>
                  <a:lnTo>
                    <a:pt x="1873" y="1501"/>
                  </a:lnTo>
                  <a:lnTo>
                    <a:pt x="1880" y="1501"/>
                  </a:lnTo>
                  <a:lnTo>
                    <a:pt x="1887" y="1508"/>
                  </a:lnTo>
                  <a:lnTo>
                    <a:pt x="1893" y="1508"/>
                  </a:lnTo>
                  <a:lnTo>
                    <a:pt x="1900" y="1508"/>
                  </a:lnTo>
                  <a:lnTo>
                    <a:pt x="1906" y="1514"/>
                  </a:lnTo>
                  <a:lnTo>
                    <a:pt x="1913" y="1521"/>
                  </a:lnTo>
                  <a:lnTo>
                    <a:pt x="1920" y="1521"/>
                  </a:lnTo>
                  <a:lnTo>
                    <a:pt x="1926" y="1521"/>
                  </a:lnTo>
                  <a:lnTo>
                    <a:pt x="1933" y="1528"/>
                  </a:lnTo>
                  <a:lnTo>
                    <a:pt x="1940" y="1528"/>
                  </a:lnTo>
                  <a:lnTo>
                    <a:pt x="1946" y="1534"/>
                  </a:lnTo>
                  <a:lnTo>
                    <a:pt x="1953" y="1534"/>
                  </a:lnTo>
                  <a:lnTo>
                    <a:pt x="1959" y="1534"/>
                  </a:lnTo>
                  <a:lnTo>
                    <a:pt x="1966" y="1541"/>
                  </a:lnTo>
                  <a:lnTo>
                    <a:pt x="1973" y="1541"/>
                  </a:lnTo>
                  <a:lnTo>
                    <a:pt x="1979" y="1548"/>
                  </a:lnTo>
                  <a:lnTo>
                    <a:pt x="1986" y="1548"/>
                  </a:lnTo>
                  <a:lnTo>
                    <a:pt x="1992" y="1554"/>
                  </a:lnTo>
                  <a:lnTo>
                    <a:pt x="1999" y="1554"/>
                  </a:lnTo>
                  <a:lnTo>
                    <a:pt x="2006" y="1554"/>
                  </a:lnTo>
                  <a:lnTo>
                    <a:pt x="2012" y="1561"/>
                  </a:lnTo>
                  <a:lnTo>
                    <a:pt x="2019" y="1561"/>
                  </a:lnTo>
                  <a:lnTo>
                    <a:pt x="2026" y="1567"/>
                  </a:lnTo>
                  <a:lnTo>
                    <a:pt x="2032" y="1567"/>
                  </a:lnTo>
                  <a:lnTo>
                    <a:pt x="2039" y="1567"/>
                  </a:lnTo>
                  <a:lnTo>
                    <a:pt x="2045" y="1574"/>
                  </a:lnTo>
                  <a:lnTo>
                    <a:pt x="2052" y="1574"/>
                  </a:lnTo>
                  <a:lnTo>
                    <a:pt x="2059" y="1581"/>
                  </a:lnTo>
                  <a:lnTo>
                    <a:pt x="2065" y="1581"/>
                  </a:lnTo>
                  <a:lnTo>
                    <a:pt x="2072" y="1581"/>
                  </a:lnTo>
                  <a:lnTo>
                    <a:pt x="2078" y="1587"/>
                  </a:lnTo>
                  <a:lnTo>
                    <a:pt x="2085" y="1587"/>
                  </a:lnTo>
                  <a:lnTo>
                    <a:pt x="2092" y="1594"/>
                  </a:lnTo>
                  <a:lnTo>
                    <a:pt x="2098" y="1594"/>
                  </a:lnTo>
                  <a:lnTo>
                    <a:pt x="2105" y="1594"/>
                  </a:lnTo>
                  <a:lnTo>
                    <a:pt x="2112" y="1594"/>
                  </a:lnTo>
                  <a:lnTo>
                    <a:pt x="2118" y="1600"/>
                  </a:lnTo>
                  <a:lnTo>
                    <a:pt x="2125" y="1600"/>
                  </a:lnTo>
                  <a:lnTo>
                    <a:pt x="2131" y="1607"/>
                  </a:lnTo>
                  <a:lnTo>
                    <a:pt x="2138" y="1607"/>
                  </a:lnTo>
                  <a:lnTo>
                    <a:pt x="2145" y="1607"/>
                  </a:lnTo>
                  <a:lnTo>
                    <a:pt x="2151" y="1614"/>
                  </a:lnTo>
                  <a:lnTo>
                    <a:pt x="2158" y="1614"/>
                  </a:lnTo>
                  <a:lnTo>
                    <a:pt x="2165" y="1614"/>
                  </a:lnTo>
                  <a:lnTo>
                    <a:pt x="2171" y="1620"/>
                  </a:lnTo>
                  <a:lnTo>
                    <a:pt x="2178" y="1620"/>
                  </a:lnTo>
                  <a:lnTo>
                    <a:pt x="2184" y="1620"/>
                  </a:lnTo>
                  <a:lnTo>
                    <a:pt x="2191" y="1627"/>
                  </a:lnTo>
                  <a:lnTo>
                    <a:pt x="2198" y="1627"/>
                  </a:lnTo>
                  <a:lnTo>
                    <a:pt x="2204" y="1627"/>
                  </a:lnTo>
                  <a:lnTo>
                    <a:pt x="2211" y="1634"/>
                  </a:lnTo>
                  <a:lnTo>
                    <a:pt x="2217" y="1634"/>
                  </a:lnTo>
                  <a:lnTo>
                    <a:pt x="2224" y="1634"/>
                  </a:lnTo>
                  <a:lnTo>
                    <a:pt x="2231" y="1634"/>
                  </a:lnTo>
                  <a:lnTo>
                    <a:pt x="2231" y="1640"/>
                  </a:lnTo>
                  <a:lnTo>
                    <a:pt x="2237" y="1640"/>
                  </a:lnTo>
                  <a:lnTo>
                    <a:pt x="2244" y="1640"/>
                  </a:lnTo>
                  <a:lnTo>
                    <a:pt x="2251" y="1647"/>
                  </a:lnTo>
                  <a:lnTo>
                    <a:pt x="2257" y="1647"/>
                  </a:lnTo>
                  <a:lnTo>
                    <a:pt x="2264" y="1647"/>
                  </a:lnTo>
                  <a:lnTo>
                    <a:pt x="2270" y="1647"/>
                  </a:lnTo>
                  <a:lnTo>
                    <a:pt x="2270" y="1653"/>
                  </a:lnTo>
                  <a:lnTo>
                    <a:pt x="2277" y="1653"/>
                  </a:lnTo>
                  <a:lnTo>
                    <a:pt x="2284" y="1653"/>
                  </a:lnTo>
                  <a:lnTo>
                    <a:pt x="2290" y="1653"/>
                  </a:lnTo>
                  <a:lnTo>
                    <a:pt x="2297" y="1660"/>
                  </a:lnTo>
                  <a:lnTo>
                    <a:pt x="2304" y="1660"/>
                  </a:lnTo>
                  <a:lnTo>
                    <a:pt x="2310" y="1660"/>
                  </a:lnTo>
                  <a:lnTo>
                    <a:pt x="2317" y="1667"/>
                  </a:lnTo>
                  <a:lnTo>
                    <a:pt x="2323" y="1667"/>
                  </a:lnTo>
                  <a:lnTo>
                    <a:pt x="2330" y="1667"/>
                  </a:lnTo>
                  <a:lnTo>
                    <a:pt x="2337" y="1667"/>
                  </a:lnTo>
                  <a:lnTo>
                    <a:pt x="2343" y="1673"/>
                  </a:lnTo>
                  <a:lnTo>
                    <a:pt x="2350" y="1673"/>
                  </a:lnTo>
                  <a:lnTo>
                    <a:pt x="2356" y="1673"/>
                  </a:lnTo>
                  <a:lnTo>
                    <a:pt x="2363" y="1680"/>
                  </a:lnTo>
                  <a:lnTo>
                    <a:pt x="2370" y="1680"/>
                  </a:lnTo>
                  <a:lnTo>
                    <a:pt x="2376" y="1680"/>
                  </a:lnTo>
                  <a:lnTo>
                    <a:pt x="2383" y="1686"/>
                  </a:lnTo>
                  <a:lnTo>
                    <a:pt x="2390" y="1686"/>
                  </a:lnTo>
                  <a:lnTo>
                    <a:pt x="2396" y="1686"/>
                  </a:lnTo>
                  <a:lnTo>
                    <a:pt x="2403" y="1686"/>
                  </a:lnTo>
                  <a:lnTo>
                    <a:pt x="2409" y="1693"/>
                  </a:lnTo>
                  <a:lnTo>
                    <a:pt x="2416" y="1693"/>
                  </a:lnTo>
                  <a:lnTo>
                    <a:pt x="2423" y="1693"/>
                  </a:lnTo>
                  <a:lnTo>
                    <a:pt x="2429" y="1700"/>
                  </a:lnTo>
                  <a:lnTo>
                    <a:pt x="2436" y="1700"/>
                  </a:lnTo>
                  <a:lnTo>
                    <a:pt x="2442" y="1700"/>
                  </a:lnTo>
                  <a:lnTo>
                    <a:pt x="2449" y="1700"/>
                  </a:lnTo>
                  <a:lnTo>
                    <a:pt x="2456" y="1706"/>
                  </a:lnTo>
                  <a:lnTo>
                    <a:pt x="2462" y="1706"/>
                  </a:lnTo>
                  <a:lnTo>
                    <a:pt x="2469" y="1706"/>
                  </a:lnTo>
                  <a:lnTo>
                    <a:pt x="2476" y="1706"/>
                  </a:lnTo>
                  <a:lnTo>
                    <a:pt x="2482" y="1713"/>
                  </a:lnTo>
                  <a:lnTo>
                    <a:pt x="2489" y="1713"/>
                  </a:lnTo>
                  <a:lnTo>
                    <a:pt x="2495" y="1713"/>
                  </a:lnTo>
                  <a:lnTo>
                    <a:pt x="2502" y="1719"/>
                  </a:lnTo>
                  <a:lnTo>
                    <a:pt x="2509" y="1719"/>
                  </a:lnTo>
                  <a:lnTo>
                    <a:pt x="2515" y="1719"/>
                  </a:lnTo>
                  <a:lnTo>
                    <a:pt x="2522" y="1719"/>
                  </a:lnTo>
                  <a:lnTo>
                    <a:pt x="2529" y="1726"/>
                  </a:lnTo>
                  <a:lnTo>
                    <a:pt x="2535" y="1726"/>
                  </a:lnTo>
                  <a:lnTo>
                    <a:pt x="2542" y="1726"/>
                  </a:lnTo>
                  <a:lnTo>
                    <a:pt x="2548" y="1726"/>
                  </a:lnTo>
                  <a:lnTo>
                    <a:pt x="2555" y="1733"/>
                  </a:lnTo>
                  <a:lnTo>
                    <a:pt x="2562" y="1733"/>
                  </a:lnTo>
                  <a:lnTo>
                    <a:pt x="2568" y="1733"/>
                  </a:lnTo>
                  <a:lnTo>
                    <a:pt x="2575" y="1733"/>
                  </a:lnTo>
                  <a:lnTo>
                    <a:pt x="2581" y="1739"/>
                  </a:lnTo>
                  <a:lnTo>
                    <a:pt x="2588" y="1739"/>
                  </a:lnTo>
                  <a:lnTo>
                    <a:pt x="2595" y="1739"/>
                  </a:lnTo>
                  <a:lnTo>
                    <a:pt x="2601" y="1746"/>
                  </a:lnTo>
                  <a:lnTo>
                    <a:pt x="2608" y="1746"/>
                  </a:lnTo>
                  <a:lnTo>
                    <a:pt x="2615" y="1746"/>
                  </a:lnTo>
                  <a:lnTo>
                    <a:pt x="2621" y="1746"/>
                  </a:lnTo>
                  <a:lnTo>
                    <a:pt x="2628" y="1746"/>
                  </a:lnTo>
                  <a:lnTo>
                    <a:pt x="2628" y="1753"/>
                  </a:lnTo>
                  <a:lnTo>
                    <a:pt x="2634" y="1753"/>
                  </a:lnTo>
                  <a:lnTo>
                    <a:pt x="2641" y="1753"/>
                  </a:lnTo>
                  <a:lnTo>
                    <a:pt x="2648" y="1753"/>
                  </a:lnTo>
                  <a:lnTo>
                    <a:pt x="2654" y="1753"/>
                  </a:lnTo>
                  <a:lnTo>
                    <a:pt x="2661" y="1759"/>
                  </a:lnTo>
                  <a:lnTo>
                    <a:pt x="2667" y="1759"/>
                  </a:lnTo>
                  <a:lnTo>
                    <a:pt x="2674" y="1759"/>
                  </a:lnTo>
                  <a:lnTo>
                    <a:pt x="2681" y="1766"/>
                  </a:lnTo>
                  <a:lnTo>
                    <a:pt x="2687" y="1766"/>
                  </a:lnTo>
                  <a:lnTo>
                    <a:pt x="2694" y="1766"/>
                  </a:lnTo>
                  <a:lnTo>
                    <a:pt x="2701" y="1766"/>
                  </a:lnTo>
                  <a:lnTo>
                    <a:pt x="2707" y="1772"/>
                  </a:lnTo>
                  <a:lnTo>
                    <a:pt x="2714" y="1772"/>
                  </a:lnTo>
                  <a:lnTo>
                    <a:pt x="2720" y="1772"/>
                  </a:lnTo>
                  <a:lnTo>
                    <a:pt x="2727" y="0"/>
                  </a:lnTo>
                  <a:lnTo>
                    <a:pt x="2734" y="6"/>
                  </a:lnTo>
                  <a:lnTo>
                    <a:pt x="2740" y="6"/>
                  </a:lnTo>
                  <a:lnTo>
                    <a:pt x="2747" y="6"/>
                  </a:lnTo>
                  <a:lnTo>
                    <a:pt x="2754" y="6"/>
                  </a:lnTo>
                  <a:lnTo>
                    <a:pt x="2760" y="13"/>
                  </a:lnTo>
                  <a:lnTo>
                    <a:pt x="2767" y="13"/>
                  </a:lnTo>
                  <a:lnTo>
                    <a:pt x="2773" y="13"/>
                  </a:lnTo>
                  <a:lnTo>
                    <a:pt x="2780" y="13"/>
                  </a:lnTo>
                  <a:lnTo>
                    <a:pt x="2787" y="20"/>
                  </a:lnTo>
                  <a:lnTo>
                    <a:pt x="2793" y="20"/>
                  </a:lnTo>
                  <a:lnTo>
                    <a:pt x="2800" y="20"/>
                  </a:lnTo>
                  <a:lnTo>
                    <a:pt x="2806" y="20"/>
                  </a:lnTo>
                  <a:lnTo>
                    <a:pt x="2813" y="26"/>
                  </a:lnTo>
                  <a:lnTo>
                    <a:pt x="2820" y="26"/>
                  </a:lnTo>
                  <a:lnTo>
                    <a:pt x="2826" y="26"/>
                  </a:lnTo>
                  <a:lnTo>
                    <a:pt x="2833" y="26"/>
                  </a:lnTo>
                  <a:lnTo>
                    <a:pt x="2840" y="33"/>
                  </a:lnTo>
                  <a:lnTo>
                    <a:pt x="2846" y="33"/>
                  </a:lnTo>
                  <a:lnTo>
                    <a:pt x="2853" y="33"/>
                  </a:lnTo>
                  <a:lnTo>
                    <a:pt x="2859" y="33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Impulsni odziv sustava ..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021400" y="1982880"/>
            <a:ext cx="4952160" cy="4210560"/>
            <a:chOff x="2021400" y="1982880"/>
            <a:chExt cx="4952160" cy="4210560"/>
          </a:xfrm>
        </p:grpSpPr>
        <p:sp>
          <p:nvSpPr>
            <p:cNvPr id="478" name=""/>
            <p:cNvSpPr/>
            <p:nvPr/>
          </p:nvSpPr>
          <p:spPr>
            <a:xfrm>
              <a:off x="2369880" y="2084400"/>
              <a:ext cx="1080" cy="38512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20120" y="2084400"/>
              <a:ext cx="1440" cy="38512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71440" y="2084400"/>
              <a:ext cx="1440" cy="38512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33920" y="2084400"/>
              <a:ext cx="1080" cy="38512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83800" y="2084400"/>
              <a:ext cx="1440" cy="38512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35840" y="2084400"/>
              <a:ext cx="1080" cy="38512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85720" y="2084400"/>
              <a:ext cx="1440" cy="38512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69880" y="5935680"/>
              <a:ext cx="451548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69880" y="5450040"/>
              <a:ext cx="451548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69880" y="4975200"/>
              <a:ext cx="451548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69880" y="4489560"/>
              <a:ext cx="451548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69880" y="4014720"/>
              <a:ext cx="451548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69880" y="3529080"/>
              <a:ext cx="451548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69880" y="3043080"/>
              <a:ext cx="451548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69880" y="2568600"/>
              <a:ext cx="451548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69880" y="2084400"/>
              <a:ext cx="451548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69880" y="2084400"/>
              <a:ext cx="4515480" cy="38512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0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69880" y="2084400"/>
              <a:ext cx="4515480" cy="38512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0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69880" y="2084400"/>
              <a:ext cx="4515480" cy="38512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0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69880" y="5935680"/>
              <a:ext cx="4515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9880" y="2084400"/>
              <a:ext cx="4515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2369880" y="2084400"/>
              <a:ext cx="1080" cy="3851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885720" y="2084400"/>
              <a:ext cx="1440" cy="3851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69880" y="2084400"/>
              <a:ext cx="1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85720" y="59356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9880" y="5935680"/>
              <a:ext cx="4515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369880" y="2084400"/>
              <a:ext cx="1080" cy="3851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69880" y="5935680"/>
              <a:ext cx="1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369880" y="5889600"/>
              <a:ext cx="1080" cy="46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69880" y="208440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18400" y="5979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3120120" y="5889600"/>
              <a:ext cx="1440" cy="46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20120" y="2084400"/>
              <a:ext cx="144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70080" y="5979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3871440" y="5889600"/>
              <a:ext cx="1440" cy="46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71440" y="2084400"/>
              <a:ext cx="144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60560" y="5979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4633920" y="5889600"/>
              <a:ext cx="1080" cy="46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33920" y="208440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2680" y="5979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5383800" y="5889600"/>
              <a:ext cx="1440" cy="46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83800" y="2084400"/>
              <a:ext cx="144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72920" y="5979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6135840" y="5889600"/>
              <a:ext cx="1080" cy="46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5840" y="2084400"/>
              <a:ext cx="108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24240" y="5979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885720" y="5889600"/>
              <a:ext cx="1440" cy="46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85720" y="2084400"/>
              <a:ext cx="1440" cy="44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74840" y="5979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69880" y="593568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844320" y="593568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21400" y="583236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0.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69880" y="545004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844320" y="545004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21400" y="534816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0.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9880" y="497520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844320" y="4975200"/>
              <a:ext cx="4068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24440" y="4873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69880" y="448956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844320" y="448956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76840" y="43876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369880" y="4014720"/>
              <a:ext cx="406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6844320" y="4014720"/>
              <a:ext cx="406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76840" y="3913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69880" y="352908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844320" y="352908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76840" y="3427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69880" y="3043080"/>
              <a:ext cx="406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844320" y="3043080"/>
              <a:ext cx="4068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76840" y="2941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69880" y="256860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44320" y="256860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76840" y="2467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9880" y="208440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844320" y="2084400"/>
              <a:ext cx="40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76840" y="19828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69880" y="5935680"/>
              <a:ext cx="4515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69880" y="2084400"/>
              <a:ext cx="4515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69880" y="2084400"/>
              <a:ext cx="1080" cy="3851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885720" y="2084400"/>
              <a:ext cx="1440" cy="3851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69880" y="5935680"/>
              <a:ext cx="1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85720" y="208440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473920" y="386856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0520" y="2467080"/>
              <a:ext cx="83520" cy="9036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75600" y="3359160"/>
              <a:ext cx="83160" cy="9036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32560" y="518940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79080" y="5540400"/>
              <a:ext cx="83160" cy="889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36040" y="5054760"/>
              <a:ext cx="83160" cy="9036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80760" y="4772160"/>
              <a:ext cx="83520" cy="9036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7280" y="4827600"/>
              <a:ext cx="83520" cy="9036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84240" y="4940280"/>
              <a:ext cx="83160" cy="9036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29320" y="496404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85920" y="4929120"/>
              <a:ext cx="8352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32440" y="4917960"/>
              <a:ext cx="8352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89400" y="4917960"/>
              <a:ext cx="8352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34480" y="492912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91440" y="492912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37960" y="492912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82680" y="4929120"/>
              <a:ext cx="8352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39640" y="492912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86160" y="492912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42760" y="492912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87840" y="4929120"/>
              <a:ext cx="8352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44800" y="4929120"/>
              <a:ext cx="8352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791320" y="4929120"/>
              <a:ext cx="8352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37840" y="4929120"/>
              <a:ext cx="8172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93360" y="492912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39880" y="492912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96120" y="4929120"/>
              <a:ext cx="8352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41560" y="492912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98160" y="492912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44680" y="4929120"/>
              <a:ext cx="83160" cy="90720"/>
            </a:xfrm>
            <a:prstGeom prst="ellipse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514960" y="3913200"/>
              <a:ext cx="1080" cy="106200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671560" y="2512800"/>
              <a:ext cx="1080" cy="24620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818440" y="3404880"/>
              <a:ext cx="1080" cy="156996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75040" y="4975200"/>
              <a:ext cx="1080" cy="2588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0120" y="4975200"/>
              <a:ext cx="1440" cy="60948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76720" y="4975200"/>
              <a:ext cx="1440" cy="1238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423240" y="4816080"/>
              <a:ext cx="1440" cy="15876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3568680" y="4873680"/>
              <a:ext cx="1080" cy="10152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25280" y="4975200"/>
              <a:ext cx="1080" cy="1116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71440" y="4975200"/>
              <a:ext cx="1440" cy="3348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28400" y="4975200"/>
              <a:ext cx="144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4173480" y="4963680"/>
              <a:ext cx="1080" cy="1116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4330440" y="4963680"/>
              <a:ext cx="1080" cy="1116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76960" y="4975200"/>
              <a:ext cx="108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33920" y="4975200"/>
              <a:ext cx="108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78640" y="4975200"/>
              <a:ext cx="144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25160" y="4975200"/>
              <a:ext cx="108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82120" y="4975200"/>
              <a:ext cx="108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26840" y="4975200"/>
              <a:ext cx="144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83800" y="4975200"/>
              <a:ext cx="144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0320" y="4975200"/>
              <a:ext cx="144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87280" y="4975200"/>
              <a:ext cx="144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32360" y="4975200"/>
              <a:ext cx="108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78880" y="4975200"/>
              <a:ext cx="108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35840" y="4975200"/>
              <a:ext cx="108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80560" y="4975200"/>
              <a:ext cx="108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37520" y="4975200"/>
              <a:ext cx="108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84040" y="4975200"/>
              <a:ext cx="108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40640" y="4975200"/>
              <a:ext cx="108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5720" y="4975200"/>
              <a:ext cx="1440" cy="144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69880" y="4975200"/>
              <a:ext cx="4515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dealni filtri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2120" y="1752480"/>
            <a:ext cx="82296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dealni filtar propušta komponente signala određenih frekvencija bez distorzije, a komponente na ostalim frekvencijama idealno prigušuj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ema tome, frekvencijska karakteristika ima vrijednost jednaku jedan ili nu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dručje frekvencija u kojima frekvencijska karakteristika ima vrijednost jedan naziva s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ropusni pojas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a područje frekvencija gdje je frekvencijska karakteristika jednaka nuli 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pojas gušenja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dealni filtri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89080" y="1550880"/>
            <a:ext cx="4367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snovna tipa filt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438120" y="2330280"/>
            <a:ext cx="3565080" cy="1954440"/>
            <a:chOff x="438120" y="2330280"/>
            <a:chExt cx="3565080" cy="1954440"/>
          </a:xfrm>
        </p:grpSpPr>
        <p:sp>
          <p:nvSpPr>
            <p:cNvPr id="626" name=""/>
            <p:cNvSpPr/>
            <p:nvPr/>
          </p:nvSpPr>
          <p:spPr>
            <a:xfrm>
              <a:off x="1063440" y="3765600"/>
              <a:ext cx="203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niski propu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438120" y="2330280"/>
              <a:ext cx="3565080" cy="1514520"/>
              <a:chOff x="438120" y="2330280"/>
              <a:chExt cx="3565080" cy="1514520"/>
            </a:xfrm>
          </p:grpSpPr>
          <p:sp>
            <p:nvSpPr>
              <p:cNvPr id="628" name=""/>
              <p:cNvSpPr/>
              <p:nvPr/>
            </p:nvSpPr>
            <p:spPr>
              <a:xfrm>
                <a:off x="438120" y="3463920"/>
                <a:ext cx="3333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2061000" y="2396880"/>
                <a:ext cx="0" cy="11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801000" y="2778120"/>
                <a:ext cx="2512440" cy="689040"/>
                <a:chOff x="801000" y="2778120"/>
                <a:chExt cx="2512440" cy="68904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1640520" y="2781360"/>
                  <a:ext cx="84204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481480" y="2778120"/>
                  <a:ext cx="0" cy="689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644840" y="2778120"/>
                  <a:ext cx="0" cy="6890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75360" y="3460680"/>
                  <a:ext cx="8380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01000" y="3460680"/>
                  <a:ext cx="83952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>
                <a:off x="3679560" y="3278160"/>
                <a:ext cx="323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123720" y="3421080"/>
                <a:ext cx="392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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076480" y="2330280"/>
                <a:ext cx="7545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Times New Roman"/>
                  </a:rPr>
                  <a:t>NP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09120" y="3508200"/>
                <a:ext cx="1699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75640" y="3424320"/>
                <a:ext cx="7160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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296080" y="3414600"/>
                <a:ext cx="3830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1600" spc="-1" strike="noStrike" baseline="-25000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2080" y="3422520"/>
                <a:ext cx="450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</a:t>
                </a:r>
                <a:r>
                  <a:rPr b="0" lang="hr-HR" sz="1600" spc="-1" strike="noStrike" baseline="-25000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3" name=""/>
          <p:cNvGrpSpPr/>
          <p:nvPr/>
        </p:nvGrpSpPr>
        <p:grpSpPr>
          <a:xfrm>
            <a:off x="4749840" y="2316240"/>
            <a:ext cx="3520440" cy="1955880"/>
            <a:chOff x="4749840" y="2316240"/>
            <a:chExt cx="3520440" cy="1955880"/>
          </a:xfrm>
        </p:grpSpPr>
        <p:sp>
          <p:nvSpPr>
            <p:cNvPr id="644" name=""/>
            <p:cNvSpPr/>
            <p:nvPr/>
          </p:nvSpPr>
          <p:spPr>
            <a:xfrm>
              <a:off x="5251680" y="3753000"/>
              <a:ext cx="2215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visoki propu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4749840" y="2316240"/>
              <a:ext cx="3520440" cy="1514520"/>
              <a:chOff x="4749840" y="2316240"/>
              <a:chExt cx="3520440" cy="1514520"/>
            </a:xfrm>
          </p:grpSpPr>
          <p:sp>
            <p:nvSpPr>
              <p:cNvPr id="646" name=""/>
              <p:cNvSpPr/>
              <p:nvPr/>
            </p:nvSpPr>
            <p:spPr>
              <a:xfrm>
                <a:off x="4749840" y="3449520"/>
                <a:ext cx="328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350760" y="2382480"/>
                <a:ext cx="0" cy="11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941800" y="3449520"/>
                <a:ext cx="83052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765480" y="2763720"/>
                <a:ext cx="0" cy="6890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940720" y="2763720"/>
                <a:ext cx="0" cy="6890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769800" y="2776680"/>
                <a:ext cx="82728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08400" y="2773440"/>
                <a:ext cx="82764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946640" y="3263760"/>
                <a:ext cx="323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98360" y="3419640"/>
                <a:ext cx="38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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365880" y="2316240"/>
                <a:ext cx="7545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Times New Roman"/>
                  </a:rPr>
                  <a:t>VP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917960" y="3494160"/>
                <a:ext cx="1699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874400" y="3416400"/>
                <a:ext cx="707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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566400" y="3398760"/>
                <a:ext cx="3830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hr-HR" sz="1600" spc="-1" strike="noStrike" baseline="-25000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656320" y="3398760"/>
                <a:ext cx="450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</a:t>
                </a:r>
                <a:r>
                  <a:rPr b="0" lang="hr-HR" sz="1600" spc="-1" strike="noStrike" baseline="-25000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406440" y="4633920"/>
            <a:ext cx="3633120" cy="1978200"/>
            <a:chOff x="406440" y="4633920"/>
            <a:chExt cx="3633120" cy="1978200"/>
          </a:xfrm>
        </p:grpSpPr>
        <p:sp>
          <p:nvSpPr>
            <p:cNvPr id="661" name=""/>
            <p:cNvSpPr/>
            <p:nvPr/>
          </p:nvSpPr>
          <p:spPr>
            <a:xfrm>
              <a:off x="870840" y="6093000"/>
              <a:ext cx="2372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pojasni propu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406440" y="4633920"/>
              <a:ext cx="3633120" cy="1514520"/>
              <a:chOff x="406440" y="4633920"/>
              <a:chExt cx="3633120" cy="1514520"/>
            </a:xfrm>
          </p:grpSpPr>
          <p:sp>
            <p:nvSpPr>
              <p:cNvPr id="663" name=""/>
              <p:cNvSpPr/>
              <p:nvPr/>
            </p:nvSpPr>
            <p:spPr>
              <a:xfrm>
                <a:off x="406440" y="5767560"/>
                <a:ext cx="3402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2063520" y="4700160"/>
                <a:ext cx="0" cy="11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739880" y="5769000"/>
                <a:ext cx="65484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02280" y="5081760"/>
                <a:ext cx="0" cy="6904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739880" y="5081760"/>
                <a:ext cx="0" cy="6886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75120" y="5089680"/>
                <a:ext cx="464400" cy="14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715920" y="5581800"/>
                <a:ext cx="323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46760" y="5737320"/>
                <a:ext cx="401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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078640" y="4633920"/>
                <a:ext cx="7347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Times New Roman"/>
                  </a:rPr>
                  <a:t>PP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80680" y="5811840"/>
                <a:ext cx="1699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35680" y="5734080"/>
                <a:ext cx="732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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150640" y="5740560"/>
                <a:ext cx="410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g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453320" y="5740560"/>
                <a:ext cx="4701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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g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282680" y="5081760"/>
                <a:ext cx="0" cy="6886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397600" y="5089680"/>
                <a:ext cx="465840" cy="14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859120" y="5081760"/>
                <a:ext cx="0" cy="6904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866320" y="5765760"/>
                <a:ext cx="465840" cy="18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13600" y="5765760"/>
                <a:ext cx="464400" cy="18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33120" y="5746680"/>
                <a:ext cx="4701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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g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74080" y="5740560"/>
                <a:ext cx="410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g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3" name=""/>
          <p:cNvGrpSpPr/>
          <p:nvPr/>
        </p:nvGrpSpPr>
        <p:grpSpPr>
          <a:xfrm>
            <a:off x="4869000" y="4611600"/>
            <a:ext cx="3496680" cy="1990800"/>
            <a:chOff x="4869000" y="4611600"/>
            <a:chExt cx="3496680" cy="1990800"/>
          </a:xfrm>
        </p:grpSpPr>
        <p:sp>
          <p:nvSpPr>
            <p:cNvPr id="684" name=""/>
            <p:cNvSpPr/>
            <p:nvPr/>
          </p:nvSpPr>
          <p:spPr>
            <a:xfrm>
              <a:off x="5457960" y="6083280"/>
              <a:ext cx="2149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0"/>
                  </a:solidFill>
                  <a:latin typeface="Times New Roman"/>
                </a:rPr>
                <a:t>pojasna bran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09400" y="5789520"/>
              <a:ext cx="169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69000" y="5745240"/>
              <a:ext cx="3261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6458040" y="4677840"/>
              <a:ext cx="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673320" y="5059440"/>
              <a:ext cx="0" cy="6890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6760" y="5072040"/>
              <a:ext cx="442800" cy="14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66080" y="5067360"/>
              <a:ext cx="445320" cy="32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42040" y="5559480"/>
              <a:ext cx="32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95920" y="5715000"/>
              <a:ext cx="385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72800" y="4611600"/>
              <a:ext cx="7470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P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91760" y="5711760"/>
              <a:ext cx="70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499440" y="5724360"/>
              <a:ext cx="410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Times New Roman"/>
                </a:rPr>
                <a:t>g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916600" y="5730840"/>
              <a:ext cx="5936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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Times New Roman"/>
                </a:rPr>
                <a:t>g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237720" y="5070600"/>
              <a:ext cx="421920" cy="28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48160" y="5059440"/>
              <a:ext cx="0" cy="6890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08520" y="5059440"/>
              <a:ext cx="0" cy="6890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99640" y="5059440"/>
              <a:ext cx="0" cy="6890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04200" y="5746680"/>
              <a:ext cx="5378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6673320" y="5746320"/>
              <a:ext cx="518760" cy="32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26280" y="5730840"/>
              <a:ext cx="470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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Times New Roman"/>
                </a:rPr>
                <a:t>g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018200" y="5721480"/>
              <a:ext cx="410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Times New Roman"/>
                </a:rPr>
                <a:t>g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cc"/>
                </a:solidFill>
                <a:latin typeface="Arial"/>
              </a:rPr>
              <a:t>Digitalna obradba signala - DO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1800" y="2197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čeci digitalne obradbe signala sežu u sedamnaesto stoljeć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umeričke metode integrir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umeričke metode interpol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Šezdesetih godina, razvojem digitalnih računala, digitalna obradba signala postaje samostalna disciplina i počinje pravi ra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Tada uglavnom vezana uz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simulaciju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metoda analogne obradbe sign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41440" y="399960"/>
            <a:ext cx="756144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Idealni niskopropusni filtar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-37800" y="1442880"/>
            <a:ext cx="8916480" cy="2559240"/>
            <a:chOff x="-37800" y="1442880"/>
            <a:chExt cx="8916480" cy="2559240"/>
          </a:xfrm>
        </p:grpSpPr>
        <p:grpSp>
          <p:nvGrpSpPr>
            <p:cNvPr id="707" name=""/>
            <p:cNvGrpSpPr/>
            <p:nvPr/>
          </p:nvGrpSpPr>
          <p:grpSpPr>
            <a:xfrm>
              <a:off x="-37800" y="1442880"/>
              <a:ext cx="8916480" cy="2559240"/>
              <a:chOff x="-37800" y="1442880"/>
              <a:chExt cx="8916480" cy="2559240"/>
            </a:xfrm>
          </p:grpSpPr>
          <p:sp>
            <p:nvSpPr>
              <p:cNvPr id="708" name=""/>
              <p:cNvSpPr/>
              <p:nvPr/>
            </p:nvSpPr>
            <p:spPr>
              <a:xfrm>
                <a:off x="5762160" y="1442880"/>
                <a:ext cx="904320" cy="43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N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9" name=""/>
              <p:cNvGrpSpPr/>
              <p:nvPr/>
            </p:nvGrpSpPr>
            <p:grpSpPr>
              <a:xfrm>
                <a:off x="3076560" y="1536480"/>
                <a:ext cx="5802120" cy="2465640"/>
                <a:chOff x="3076560" y="1536480"/>
                <a:chExt cx="5802120" cy="246564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3076560" y="3467160"/>
                  <a:ext cx="54669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V="1">
                  <a:off x="5738760" y="1536480"/>
                  <a:ext cx="0" cy="2066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2" name=""/>
                <p:cNvGrpSpPr/>
                <p:nvPr/>
              </p:nvGrpSpPr>
              <p:grpSpPr>
                <a:xfrm>
                  <a:off x="3672720" y="2225520"/>
                  <a:ext cx="4119840" cy="1246320"/>
                  <a:chOff x="3672720" y="2225520"/>
                  <a:chExt cx="4119840" cy="124632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5048280" y="2232000"/>
                    <a:ext cx="1380240" cy="0"/>
                  </a:xfrm>
                  <a:prstGeom prst="line">
                    <a:avLst/>
                  </a:prstGeom>
                  <a:ln w="255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428520" y="2225520"/>
                    <a:ext cx="0" cy="1246320"/>
                  </a:xfrm>
                  <a:prstGeom prst="line">
                    <a:avLst/>
                  </a:prstGeom>
                  <a:ln w="255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5054040" y="2225520"/>
                    <a:ext cx="0" cy="1246320"/>
                  </a:xfrm>
                  <a:prstGeom prst="line">
                    <a:avLst/>
                  </a:prstGeom>
                  <a:ln w="255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418440" y="3459240"/>
                    <a:ext cx="1374120" cy="0"/>
                  </a:xfrm>
                  <a:prstGeom prst="line">
                    <a:avLst/>
                  </a:prstGeom>
                  <a:ln w="255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3672720" y="3459240"/>
                    <a:ext cx="1375560" cy="0"/>
                  </a:xfrm>
                  <a:prstGeom prst="line">
                    <a:avLst/>
                  </a:prstGeom>
                  <a:ln w="255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8" name=""/>
                <p:cNvSpPr/>
                <p:nvPr/>
              </p:nvSpPr>
              <p:spPr>
                <a:xfrm>
                  <a:off x="8518320" y="3300480"/>
                  <a:ext cx="3603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646760" y="3473280"/>
                  <a:ext cx="64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340080" y="3544920"/>
                  <a:ext cx="169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456000" y="3454560"/>
                  <a:ext cx="1175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256800" y="3451320"/>
                  <a:ext cx="434880" cy="43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hr-HR" sz="2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g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751640" y="3478320"/>
                  <a:ext cx="520200" cy="43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</a:t>
                  </a:r>
                  <a:r>
                    <a:rPr b="0" lang="hr-HR" sz="2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g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>
                <a:off x="-37800" y="1751040"/>
                <a:ext cx="41245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Times New Roman"/>
                  </a:rPr>
                  <a:t>frekvencijska karakteristik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25" name=""/>
                <p:cNvSpPr txBox="1"/>
                <p:nvPr/>
              </p:nvSpPr>
              <p:spPr>
                <a:xfrm>
                  <a:off x="242640" y="2454120"/>
                  <a:ext cx="278964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w</m:t>
                                  </m:r>
                                </m:e>
                              </m:d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6" name=""/>
          <p:cNvSpPr/>
          <p:nvPr/>
        </p:nvSpPr>
        <p:spPr>
          <a:xfrm>
            <a:off x="230400" y="4108320"/>
            <a:ext cx="231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pulsni odz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233280" y="4867200"/>
          <a:ext cx="252252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867200"/>
                    <a:ext cx="25225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9" name=""/>
          <p:cNvGrpSpPr/>
          <p:nvPr/>
        </p:nvGrpSpPr>
        <p:grpSpPr>
          <a:xfrm>
            <a:off x="4017960" y="4037040"/>
            <a:ext cx="3809880" cy="2504880"/>
            <a:chOff x="4017960" y="4037040"/>
            <a:chExt cx="3809880" cy="2504880"/>
          </a:xfrm>
        </p:grpSpPr>
        <p:sp>
          <p:nvSpPr>
            <p:cNvPr id="730" name=""/>
            <p:cNvSpPr/>
            <p:nvPr/>
          </p:nvSpPr>
          <p:spPr>
            <a:xfrm>
              <a:off x="5862600" y="4037040"/>
              <a:ext cx="8010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hr-HR" sz="2000" spc="-1" strike="noStrike" baseline="-25000">
                  <a:solidFill>
                    <a:srgbClr val="ffffff"/>
                  </a:solidFill>
                  <a:latin typeface="Times New Roman"/>
                </a:rPr>
                <a:t>NP</a:t>
              </a:r>
              <a:r>
                <a:rPr b="0" lang="hr-HR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hr-HR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14640" y="61437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017960" y="6180120"/>
              <a:ext cx="356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5829480" y="4203720"/>
              <a:ext cx="0" cy="208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176360" y="619128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35400" y="6157800"/>
              <a:ext cx="6192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286520" y="6118200"/>
              <a:ext cx="60480" cy="396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337280" y="6157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387680" y="619128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38440" y="615780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488840" y="6110280"/>
              <a:ext cx="6192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548600" y="6157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598640" y="6199200"/>
              <a:ext cx="61200" cy="396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649760" y="6157800"/>
              <a:ext cx="594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99440" y="6103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50200" y="6157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09960" y="6211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59280" y="6157800"/>
              <a:ext cx="6192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910760" y="6089760"/>
              <a:ext cx="61200" cy="4104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960800" y="6157800"/>
              <a:ext cx="6192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11920" y="6224760"/>
              <a:ext cx="61920" cy="4284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70600" y="6157800"/>
              <a:ext cx="6192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21720" y="6076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72840" y="6157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23960" y="62514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74720" y="6157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25840" y="6037200"/>
              <a:ext cx="60480" cy="396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84160" y="615780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434920" y="6305400"/>
              <a:ext cx="60480" cy="4284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483520" y="615780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534640" y="5950080"/>
              <a:ext cx="61200" cy="396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85760" y="615780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644800" y="6500880"/>
              <a:ext cx="61200" cy="4104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95560" y="6157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45960" y="511488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847840" y="511488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06160" y="6157800"/>
              <a:ext cx="6192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57280" y="6500880"/>
              <a:ext cx="61920" cy="4104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008400" y="615780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59160" y="5950080"/>
              <a:ext cx="61200" cy="396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10280" y="615780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61400" y="6305400"/>
              <a:ext cx="61200" cy="4284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20440" y="6157800"/>
              <a:ext cx="5976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69040" y="6037200"/>
              <a:ext cx="61920" cy="396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319800" y="6157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370920" y="62514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421680" y="6157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480000" y="6076800"/>
              <a:ext cx="6192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31120" y="615780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582240" y="6224760"/>
              <a:ext cx="61200" cy="4284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632280" y="6157800"/>
              <a:ext cx="6192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83400" y="6089760"/>
              <a:ext cx="61920" cy="4104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734520" y="615780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93200" y="621180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44320" y="615780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895440" y="6103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46560" y="6157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996600" y="6199200"/>
              <a:ext cx="59760" cy="396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054920" y="615780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04240" y="6110280"/>
              <a:ext cx="6192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155360" y="6157800"/>
              <a:ext cx="6192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206480" y="619128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257240" y="615780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16280" y="6118200"/>
              <a:ext cx="60480" cy="396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367400" y="6157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418520" y="619128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469280" y="6157800"/>
              <a:ext cx="6048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65640" y="617868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4316760" y="6136920"/>
              <a:ext cx="0" cy="41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67880" y="6178680"/>
              <a:ext cx="21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8640" y="6178680"/>
              <a:ext cx="0" cy="3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469040" y="6178680"/>
              <a:ext cx="21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4519800" y="613260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79920" y="6178680"/>
              <a:ext cx="21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30680" y="617868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680000" y="617868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4730400" y="6124680"/>
              <a:ext cx="0" cy="54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781520" y="6178680"/>
              <a:ext cx="22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39480" y="6178680"/>
              <a:ext cx="0" cy="54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90600" y="6178680"/>
              <a:ext cx="22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941720" y="6111720"/>
              <a:ext cx="0" cy="66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92840" y="6178680"/>
              <a:ext cx="21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42160" y="6178680"/>
              <a:ext cx="0" cy="66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01920" y="617868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5152680" y="6097320"/>
              <a:ext cx="0" cy="81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03800" y="6178680"/>
              <a:ext cx="22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54200" y="6178680"/>
              <a:ext cx="0" cy="9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04960" y="6178680"/>
              <a:ext cx="22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355360" y="6056280"/>
              <a:ext cx="0" cy="122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15120" y="6178680"/>
              <a:ext cx="21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65520" y="6178680"/>
              <a:ext cx="0" cy="147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14840" y="6178680"/>
              <a:ext cx="22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5565600" y="5970600"/>
              <a:ext cx="0" cy="208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616720" y="6178680"/>
              <a:ext cx="21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675760" y="6178680"/>
              <a:ext cx="0" cy="342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26880" y="6178680"/>
              <a:ext cx="22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5777640" y="5135400"/>
              <a:ext cx="0" cy="1043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5828040" y="4537080"/>
              <a:ext cx="0" cy="1641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5878080" y="5135400"/>
              <a:ext cx="0" cy="1043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38200" y="6178680"/>
              <a:ext cx="21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988240" y="6178680"/>
              <a:ext cx="0" cy="342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039360" y="617868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6089400" y="5970600"/>
              <a:ext cx="0" cy="208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40520" y="6178680"/>
              <a:ext cx="21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91640" y="6178680"/>
              <a:ext cx="0" cy="147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51400" y="6178680"/>
              <a:ext cx="21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6300000" y="6056280"/>
              <a:ext cx="0" cy="122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51120" y="6178680"/>
              <a:ext cx="21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01160" y="6178680"/>
              <a:ext cx="0" cy="9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52280" y="617868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6510960" y="6097320"/>
              <a:ext cx="0" cy="81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62440" y="6178680"/>
              <a:ext cx="21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613200" y="6178680"/>
              <a:ext cx="0" cy="66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664320" y="6178680"/>
              <a:ext cx="22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6713640" y="6111720"/>
              <a:ext cx="0" cy="66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764760" y="6178680"/>
              <a:ext cx="21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24520" y="6178680"/>
              <a:ext cx="0" cy="54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75640" y="617868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6924960" y="6124680"/>
              <a:ext cx="0" cy="54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975720" y="6178680"/>
              <a:ext cx="22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26840" y="6178680"/>
              <a:ext cx="0" cy="39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85160" y="6178680"/>
              <a:ext cx="22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136280" y="6132600"/>
              <a:ext cx="0" cy="46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86320" y="617868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37440" y="6178680"/>
              <a:ext cx="0" cy="3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87480" y="6178680"/>
              <a:ext cx="22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7346520" y="6136920"/>
              <a:ext cx="0" cy="41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97640" y="6178680"/>
              <a:ext cx="23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48760" y="6178680"/>
              <a:ext cx="0" cy="3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98800" y="6178680"/>
              <a:ext cx="219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798520" y="4468680"/>
              <a:ext cx="61200" cy="41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Realni digitalni filtri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93640" y="2365200"/>
            <a:ext cx="8232840" cy="25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dealni filtri imaju nekauzalan odziv i prema tome su neostvariv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Važan korak pri razvoju digitalnog filtra je određivanje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ostvarive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rijenosne karakteristike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) koja </a:t>
            </a: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aproksimira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željenu frekvencijsku karakteristik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Specifikacija karakteristika digitalnog filtr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261800" y="1795320"/>
            <a:ext cx="6144840" cy="2877840"/>
            <a:chOff x="1261800" y="1795320"/>
            <a:chExt cx="6144840" cy="2877840"/>
          </a:xfrm>
        </p:grpSpPr>
        <p:grpSp>
          <p:nvGrpSpPr>
            <p:cNvPr id="865" name=""/>
            <p:cNvGrpSpPr/>
            <p:nvPr/>
          </p:nvGrpSpPr>
          <p:grpSpPr>
            <a:xfrm>
              <a:off x="1836000" y="2678040"/>
              <a:ext cx="4329720" cy="1609920"/>
              <a:chOff x="1836000" y="2678040"/>
              <a:chExt cx="4329720" cy="1609920"/>
            </a:xfrm>
          </p:grpSpPr>
          <p:sp>
            <p:nvSpPr>
              <p:cNvPr id="866" name=""/>
              <p:cNvSpPr/>
              <p:nvPr/>
            </p:nvSpPr>
            <p:spPr>
              <a:xfrm>
                <a:off x="4417560" y="4000680"/>
                <a:ext cx="1748160" cy="287280"/>
              </a:xfrm>
              <a:custGeom>
                <a:avLst/>
                <a:gdLst/>
                <a:ahLst/>
                <a:rect l="l" t="t" r="r" b="b"/>
                <a:pathLst>
                  <a:path w="1193" h="181">
                    <a:moveTo>
                      <a:pt x="0" y="166"/>
                    </a:moveTo>
                    <a:lnTo>
                      <a:pt x="2" y="157"/>
                    </a:lnTo>
                    <a:lnTo>
                      <a:pt x="8" y="128"/>
                    </a:lnTo>
                    <a:lnTo>
                      <a:pt x="14" y="103"/>
                    </a:lnTo>
                    <a:lnTo>
                      <a:pt x="19" y="83"/>
                    </a:lnTo>
                    <a:lnTo>
                      <a:pt x="22" y="66"/>
                    </a:lnTo>
                    <a:lnTo>
                      <a:pt x="28" y="52"/>
                    </a:lnTo>
                    <a:lnTo>
                      <a:pt x="33" y="40"/>
                    </a:lnTo>
                    <a:lnTo>
                      <a:pt x="39" y="31"/>
                    </a:lnTo>
                    <a:lnTo>
                      <a:pt x="42" y="23"/>
                    </a:lnTo>
                    <a:lnTo>
                      <a:pt x="47" y="17"/>
                    </a:lnTo>
                    <a:lnTo>
                      <a:pt x="53" y="12"/>
                    </a:lnTo>
                    <a:lnTo>
                      <a:pt x="59" y="7"/>
                    </a:lnTo>
                    <a:lnTo>
                      <a:pt x="61" y="5"/>
                    </a:lnTo>
                    <a:lnTo>
                      <a:pt x="67" y="2"/>
                    </a:lnTo>
                    <a:lnTo>
                      <a:pt x="73" y="1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5" y="1"/>
                    </a:lnTo>
                    <a:lnTo>
                      <a:pt x="101" y="2"/>
                    </a:lnTo>
                    <a:lnTo>
                      <a:pt x="106" y="4"/>
                    </a:lnTo>
                    <a:lnTo>
                      <a:pt x="112" y="5"/>
                    </a:lnTo>
                    <a:lnTo>
                      <a:pt x="115" y="7"/>
                    </a:lnTo>
                    <a:lnTo>
                      <a:pt x="121" y="10"/>
                    </a:lnTo>
                    <a:lnTo>
                      <a:pt x="126" y="12"/>
                    </a:lnTo>
                    <a:lnTo>
                      <a:pt x="129" y="14"/>
                    </a:lnTo>
                    <a:lnTo>
                      <a:pt x="135" y="17"/>
                    </a:lnTo>
                    <a:lnTo>
                      <a:pt x="140" y="20"/>
                    </a:lnTo>
                    <a:lnTo>
                      <a:pt x="146" y="22"/>
                    </a:lnTo>
                    <a:lnTo>
                      <a:pt x="149" y="26"/>
                    </a:lnTo>
                    <a:lnTo>
                      <a:pt x="154" y="29"/>
                    </a:lnTo>
                    <a:lnTo>
                      <a:pt x="160" y="32"/>
                    </a:lnTo>
                    <a:lnTo>
                      <a:pt x="166" y="35"/>
                    </a:lnTo>
                    <a:lnTo>
                      <a:pt x="168" y="38"/>
                    </a:lnTo>
                    <a:lnTo>
                      <a:pt x="174" y="42"/>
                    </a:lnTo>
                    <a:lnTo>
                      <a:pt x="180" y="45"/>
                    </a:lnTo>
                    <a:lnTo>
                      <a:pt x="185" y="48"/>
                    </a:lnTo>
                    <a:lnTo>
                      <a:pt x="188" y="51"/>
                    </a:lnTo>
                    <a:lnTo>
                      <a:pt x="193" y="55"/>
                    </a:lnTo>
                    <a:lnTo>
                      <a:pt x="199" y="58"/>
                    </a:lnTo>
                    <a:lnTo>
                      <a:pt x="202" y="62"/>
                    </a:lnTo>
                    <a:lnTo>
                      <a:pt x="207" y="65"/>
                    </a:lnTo>
                    <a:lnTo>
                      <a:pt x="213" y="69"/>
                    </a:lnTo>
                    <a:lnTo>
                      <a:pt x="219" y="72"/>
                    </a:lnTo>
                    <a:lnTo>
                      <a:pt x="221" y="76"/>
                    </a:lnTo>
                    <a:lnTo>
                      <a:pt x="227" y="79"/>
                    </a:lnTo>
                    <a:lnTo>
                      <a:pt x="233" y="83"/>
                    </a:lnTo>
                    <a:lnTo>
                      <a:pt x="238" y="86"/>
                    </a:lnTo>
                    <a:lnTo>
                      <a:pt x="241" y="89"/>
                    </a:lnTo>
                    <a:lnTo>
                      <a:pt x="247" y="93"/>
                    </a:lnTo>
                    <a:lnTo>
                      <a:pt x="252" y="96"/>
                    </a:lnTo>
                    <a:lnTo>
                      <a:pt x="258" y="100"/>
                    </a:lnTo>
                    <a:lnTo>
                      <a:pt x="261" y="103"/>
                    </a:lnTo>
                    <a:lnTo>
                      <a:pt x="267" y="106"/>
                    </a:lnTo>
                    <a:lnTo>
                      <a:pt x="272" y="110"/>
                    </a:lnTo>
                    <a:lnTo>
                      <a:pt x="275" y="113"/>
                    </a:lnTo>
                    <a:lnTo>
                      <a:pt x="281" y="116"/>
                    </a:lnTo>
                    <a:lnTo>
                      <a:pt x="286" y="120"/>
                    </a:lnTo>
                    <a:lnTo>
                      <a:pt x="292" y="123"/>
                    </a:lnTo>
                    <a:lnTo>
                      <a:pt x="295" y="126"/>
                    </a:lnTo>
                    <a:lnTo>
                      <a:pt x="300" y="129"/>
                    </a:lnTo>
                    <a:lnTo>
                      <a:pt x="306" y="132"/>
                    </a:lnTo>
                    <a:lnTo>
                      <a:pt x="312" y="136"/>
                    </a:lnTo>
                    <a:lnTo>
                      <a:pt x="314" y="139"/>
                    </a:lnTo>
                    <a:lnTo>
                      <a:pt x="320" y="142"/>
                    </a:lnTo>
                    <a:lnTo>
                      <a:pt x="326" y="145"/>
                    </a:lnTo>
                    <a:lnTo>
                      <a:pt x="331" y="148"/>
                    </a:lnTo>
                    <a:lnTo>
                      <a:pt x="334" y="151"/>
                    </a:lnTo>
                    <a:lnTo>
                      <a:pt x="340" y="154"/>
                    </a:lnTo>
                    <a:lnTo>
                      <a:pt x="345" y="157"/>
                    </a:lnTo>
                    <a:lnTo>
                      <a:pt x="348" y="160"/>
                    </a:lnTo>
                    <a:lnTo>
                      <a:pt x="354" y="162"/>
                    </a:lnTo>
                    <a:lnTo>
                      <a:pt x="359" y="166"/>
                    </a:lnTo>
                    <a:lnTo>
                      <a:pt x="365" y="168"/>
                    </a:lnTo>
                    <a:lnTo>
                      <a:pt x="368" y="171"/>
                    </a:lnTo>
                    <a:lnTo>
                      <a:pt x="374" y="174"/>
                    </a:lnTo>
                    <a:lnTo>
                      <a:pt x="379" y="177"/>
                    </a:lnTo>
                    <a:lnTo>
                      <a:pt x="385" y="180"/>
                    </a:lnTo>
                    <a:lnTo>
                      <a:pt x="388" y="177"/>
                    </a:lnTo>
                    <a:lnTo>
                      <a:pt x="393" y="174"/>
                    </a:lnTo>
                    <a:lnTo>
                      <a:pt x="399" y="171"/>
                    </a:lnTo>
                    <a:lnTo>
                      <a:pt x="402" y="169"/>
                    </a:lnTo>
                    <a:lnTo>
                      <a:pt x="407" y="166"/>
                    </a:lnTo>
                    <a:lnTo>
                      <a:pt x="413" y="164"/>
                    </a:lnTo>
                    <a:lnTo>
                      <a:pt x="419" y="161"/>
                    </a:lnTo>
                    <a:lnTo>
                      <a:pt x="421" y="159"/>
                    </a:lnTo>
                    <a:lnTo>
                      <a:pt x="427" y="156"/>
                    </a:lnTo>
                    <a:lnTo>
                      <a:pt x="433" y="154"/>
                    </a:lnTo>
                    <a:lnTo>
                      <a:pt x="438" y="151"/>
                    </a:lnTo>
                    <a:lnTo>
                      <a:pt x="441" y="149"/>
                    </a:lnTo>
                    <a:lnTo>
                      <a:pt x="447" y="147"/>
                    </a:lnTo>
                    <a:lnTo>
                      <a:pt x="452" y="144"/>
                    </a:lnTo>
                    <a:lnTo>
                      <a:pt x="458" y="142"/>
                    </a:lnTo>
                    <a:lnTo>
                      <a:pt x="460" y="140"/>
                    </a:lnTo>
                    <a:lnTo>
                      <a:pt x="466" y="137"/>
                    </a:lnTo>
                    <a:lnTo>
                      <a:pt x="472" y="135"/>
                    </a:lnTo>
                    <a:lnTo>
                      <a:pt x="474" y="133"/>
                    </a:lnTo>
                    <a:lnTo>
                      <a:pt x="480" y="131"/>
                    </a:lnTo>
                    <a:lnTo>
                      <a:pt x="486" y="129"/>
                    </a:lnTo>
                    <a:lnTo>
                      <a:pt x="491" y="127"/>
                    </a:lnTo>
                    <a:lnTo>
                      <a:pt x="494" y="124"/>
                    </a:lnTo>
                    <a:lnTo>
                      <a:pt x="500" y="122"/>
                    </a:lnTo>
                    <a:lnTo>
                      <a:pt x="505" y="120"/>
                    </a:lnTo>
                    <a:lnTo>
                      <a:pt x="511" y="119"/>
                    </a:lnTo>
                    <a:lnTo>
                      <a:pt x="514" y="116"/>
                    </a:lnTo>
                    <a:lnTo>
                      <a:pt x="519" y="114"/>
                    </a:lnTo>
                    <a:lnTo>
                      <a:pt x="525" y="112"/>
                    </a:lnTo>
                    <a:lnTo>
                      <a:pt x="531" y="111"/>
                    </a:lnTo>
                    <a:lnTo>
                      <a:pt x="534" y="108"/>
                    </a:lnTo>
                    <a:lnTo>
                      <a:pt x="539" y="107"/>
                    </a:lnTo>
                    <a:lnTo>
                      <a:pt x="545" y="105"/>
                    </a:lnTo>
                    <a:lnTo>
                      <a:pt x="548" y="103"/>
                    </a:lnTo>
                    <a:lnTo>
                      <a:pt x="553" y="101"/>
                    </a:lnTo>
                    <a:lnTo>
                      <a:pt x="559" y="99"/>
                    </a:lnTo>
                    <a:lnTo>
                      <a:pt x="565" y="98"/>
                    </a:lnTo>
                    <a:lnTo>
                      <a:pt x="567" y="96"/>
                    </a:lnTo>
                    <a:lnTo>
                      <a:pt x="573" y="94"/>
                    </a:lnTo>
                    <a:lnTo>
                      <a:pt x="579" y="92"/>
                    </a:lnTo>
                    <a:lnTo>
                      <a:pt x="584" y="91"/>
                    </a:lnTo>
                    <a:lnTo>
                      <a:pt x="587" y="89"/>
                    </a:lnTo>
                    <a:lnTo>
                      <a:pt x="593" y="88"/>
                    </a:lnTo>
                    <a:lnTo>
                      <a:pt x="598" y="86"/>
                    </a:lnTo>
                    <a:lnTo>
                      <a:pt x="604" y="84"/>
                    </a:lnTo>
                    <a:lnTo>
                      <a:pt x="607" y="83"/>
                    </a:lnTo>
                    <a:lnTo>
                      <a:pt x="612" y="81"/>
                    </a:lnTo>
                    <a:lnTo>
                      <a:pt x="618" y="80"/>
                    </a:lnTo>
                    <a:lnTo>
                      <a:pt x="621" y="78"/>
                    </a:lnTo>
                    <a:lnTo>
                      <a:pt x="626" y="76"/>
                    </a:lnTo>
                    <a:lnTo>
                      <a:pt x="632" y="75"/>
                    </a:lnTo>
                    <a:lnTo>
                      <a:pt x="638" y="74"/>
                    </a:lnTo>
                    <a:lnTo>
                      <a:pt x="641" y="72"/>
                    </a:lnTo>
                    <a:lnTo>
                      <a:pt x="646" y="71"/>
                    </a:lnTo>
                    <a:lnTo>
                      <a:pt x="652" y="69"/>
                    </a:lnTo>
                    <a:lnTo>
                      <a:pt x="657" y="68"/>
                    </a:lnTo>
                    <a:lnTo>
                      <a:pt x="660" y="66"/>
                    </a:lnTo>
                    <a:lnTo>
                      <a:pt x="666" y="65"/>
                    </a:lnTo>
                    <a:lnTo>
                      <a:pt x="672" y="64"/>
                    </a:lnTo>
                    <a:lnTo>
                      <a:pt x="674" y="63"/>
                    </a:lnTo>
                    <a:lnTo>
                      <a:pt x="680" y="61"/>
                    </a:lnTo>
                    <a:lnTo>
                      <a:pt x="686" y="60"/>
                    </a:lnTo>
                    <a:lnTo>
                      <a:pt x="691" y="59"/>
                    </a:lnTo>
                    <a:lnTo>
                      <a:pt x="694" y="57"/>
                    </a:lnTo>
                    <a:lnTo>
                      <a:pt x="700" y="56"/>
                    </a:lnTo>
                    <a:lnTo>
                      <a:pt x="705" y="55"/>
                    </a:lnTo>
                    <a:lnTo>
                      <a:pt x="710" y="53"/>
                    </a:lnTo>
                    <a:lnTo>
                      <a:pt x="713" y="52"/>
                    </a:lnTo>
                    <a:lnTo>
                      <a:pt x="719" y="51"/>
                    </a:lnTo>
                    <a:lnTo>
                      <a:pt x="725" y="50"/>
                    </a:lnTo>
                    <a:lnTo>
                      <a:pt x="730" y="49"/>
                    </a:lnTo>
                    <a:lnTo>
                      <a:pt x="733" y="48"/>
                    </a:lnTo>
                    <a:lnTo>
                      <a:pt x="739" y="47"/>
                    </a:lnTo>
                    <a:lnTo>
                      <a:pt x="744" y="46"/>
                    </a:lnTo>
                    <a:lnTo>
                      <a:pt x="747" y="45"/>
                    </a:lnTo>
                    <a:lnTo>
                      <a:pt x="753" y="44"/>
                    </a:lnTo>
                    <a:lnTo>
                      <a:pt x="758" y="43"/>
                    </a:lnTo>
                    <a:lnTo>
                      <a:pt x="764" y="42"/>
                    </a:lnTo>
                    <a:lnTo>
                      <a:pt x="767" y="41"/>
                    </a:lnTo>
                    <a:lnTo>
                      <a:pt x="772" y="39"/>
                    </a:lnTo>
                    <a:lnTo>
                      <a:pt x="778" y="38"/>
                    </a:lnTo>
                    <a:lnTo>
                      <a:pt x="784" y="37"/>
                    </a:lnTo>
                    <a:lnTo>
                      <a:pt x="787" y="37"/>
                    </a:lnTo>
                    <a:lnTo>
                      <a:pt x="792" y="36"/>
                    </a:lnTo>
                    <a:lnTo>
                      <a:pt x="798" y="35"/>
                    </a:lnTo>
                    <a:lnTo>
                      <a:pt x="803" y="34"/>
                    </a:lnTo>
                    <a:lnTo>
                      <a:pt x="806" y="33"/>
                    </a:lnTo>
                    <a:lnTo>
                      <a:pt x="812" y="32"/>
                    </a:lnTo>
                    <a:lnTo>
                      <a:pt x="817" y="31"/>
                    </a:lnTo>
                    <a:lnTo>
                      <a:pt x="820" y="30"/>
                    </a:lnTo>
                    <a:lnTo>
                      <a:pt x="826" y="29"/>
                    </a:lnTo>
                    <a:lnTo>
                      <a:pt x="832" y="29"/>
                    </a:lnTo>
                    <a:lnTo>
                      <a:pt x="837" y="28"/>
                    </a:lnTo>
                    <a:lnTo>
                      <a:pt x="840" y="27"/>
                    </a:lnTo>
                    <a:lnTo>
                      <a:pt x="846" y="26"/>
                    </a:lnTo>
                    <a:lnTo>
                      <a:pt x="851" y="26"/>
                    </a:lnTo>
                    <a:lnTo>
                      <a:pt x="857" y="25"/>
                    </a:lnTo>
                    <a:lnTo>
                      <a:pt x="860" y="24"/>
                    </a:lnTo>
                    <a:lnTo>
                      <a:pt x="865" y="24"/>
                    </a:lnTo>
                    <a:lnTo>
                      <a:pt x="871" y="22"/>
                    </a:lnTo>
                    <a:lnTo>
                      <a:pt x="874" y="22"/>
                    </a:lnTo>
                    <a:lnTo>
                      <a:pt x="879" y="21"/>
                    </a:lnTo>
                    <a:lnTo>
                      <a:pt x="885" y="20"/>
                    </a:lnTo>
                    <a:lnTo>
                      <a:pt x="891" y="20"/>
                    </a:lnTo>
                    <a:lnTo>
                      <a:pt x="894" y="19"/>
                    </a:lnTo>
                    <a:lnTo>
                      <a:pt x="899" y="19"/>
                    </a:lnTo>
                    <a:lnTo>
                      <a:pt x="905" y="18"/>
                    </a:lnTo>
                    <a:lnTo>
                      <a:pt x="910" y="17"/>
                    </a:lnTo>
                    <a:lnTo>
                      <a:pt x="913" y="17"/>
                    </a:lnTo>
                    <a:lnTo>
                      <a:pt x="919" y="16"/>
                    </a:lnTo>
                    <a:lnTo>
                      <a:pt x="924" y="15"/>
                    </a:lnTo>
                    <a:lnTo>
                      <a:pt x="930" y="15"/>
                    </a:lnTo>
                    <a:lnTo>
                      <a:pt x="933" y="14"/>
                    </a:lnTo>
                    <a:lnTo>
                      <a:pt x="939" y="14"/>
                    </a:lnTo>
                    <a:lnTo>
                      <a:pt x="944" y="13"/>
                    </a:lnTo>
                    <a:lnTo>
                      <a:pt x="947" y="13"/>
                    </a:lnTo>
                    <a:lnTo>
                      <a:pt x="953" y="12"/>
                    </a:lnTo>
                    <a:lnTo>
                      <a:pt x="958" y="12"/>
                    </a:lnTo>
                    <a:lnTo>
                      <a:pt x="964" y="11"/>
                    </a:lnTo>
                    <a:lnTo>
                      <a:pt x="967" y="11"/>
                    </a:lnTo>
                    <a:lnTo>
                      <a:pt x="972" y="10"/>
                    </a:lnTo>
                    <a:lnTo>
                      <a:pt x="978" y="10"/>
                    </a:lnTo>
                    <a:lnTo>
                      <a:pt x="983" y="9"/>
                    </a:lnTo>
                    <a:lnTo>
                      <a:pt x="986" y="9"/>
                    </a:lnTo>
                    <a:lnTo>
                      <a:pt x="992" y="9"/>
                    </a:lnTo>
                    <a:lnTo>
                      <a:pt x="997" y="8"/>
                    </a:lnTo>
                    <a:lnTo>
                      <a:pt x="1003" y="7"/>
                    </a:lnTo>
                    <a:lnTo>
                      <a:pt x="1006" y="7"/>
                    </a:lnTo>
                    <a:lnTo>
                      <a:pt x="1011" y="7"/>
                    </a:lnTo>
                    <a:lnTo>
                      <a:pt x="1017" y="6"/>
                    </a:lnTo>
                    <a:lnTo>
                      <a:pt x="1020" y="6"/>
                    </a:lnTo>
                    <a:lnTo>
                      <a:pt x="1025" y="5"/>
                    </a:lnTo>
                    <a:lnTo>
                      <a:pt x="1031" y="5"/>
                    </a:lnTo>
                    <a:lnTo>
                      <a:pt x="1037" y="5"/>
                    </a:lnTo>
                    <a:lnTo>
                      <a:pt x="1039" y="5"/>
                    </a:lnTo>
                    <a:lnTo>
                      <a:pt x="1045" y="4"/>
                    </a:lnTo>
                    <a:lnTo>
                      <a:pt x="1051" y="4"/>
                    </a:lnTo>
                    <a:lnTo>
                      <a:pt x="1056" y="4"/>
                    </a:lnTo>
                    <a:lnTo>
                      <a:pt x="1059" y="3"/>
                    </a:lnTo>
                    <a:lnTo>
                      <a:pt x="1065" y="3"/>
                    </a:lnTo>
                    <a:lnTo>
                      <a:pt x="1070" y="3"/>
                    </a:lnTo>
                    <a:lnTo>
                      <a:pt x="1076" y="3"/>
                    </a:lnTo>
                    <a:lnTo>
                      <a:pt x="1079" y="2"/>
                    </a:lnTo>
                    <a:lnTo>
                      <a:pt x="1085" y="2"/>
                    </a:lnTo>
                    <a:lnTo>
                      <a:pt x="1090" y="2"/>
                    </a:lnTo>
                    <a:lnTo>
                      <a:pt x="1093" y="2"/>
                    </a:lnTo>
                    <a:lnTo>
                      <a:pt x="1099" y="2"/>
                    </a:lnTo>
                    <a:lnTo>
                      <a:pt x="1104" y="1"/>
                    </a:lnTo>
                    <a:lnTo>
                      <a:pt x="1110" y="1"/>
                    </a:lnTo>
                    <a:lnTo>
                      <a:pt x="1113" y="1"/>
                    </a:lnTo>
                    <a:lnTo>
                      <a:pt x="1118" y="0"/>
                    </a:lnTo>
                    <a:lnTo>
                      <a:pt x="1124" y="0"/>
                    </a:lnTo>
                    <a:lnTo>
                      <a:pt x="1130" y="0"/>
                    </a:lnTo>
                    <a:lnTo>
                      <a:pt x="1132" y="0"/>
                    </a:lnTo>
                    <a:lnTo>
                      <a:pt x="1138" y="0"/>
                    </a:lnTo>
                    <a:lnTo>
                      <a:pt x="1144" y="0"/>
                    </a:lnTo>
                    <a:lnTo>
                      <a:pt x="1146" y="0"/>
                    </a:lnTo>
                    <a:lnTo>
                      <a:pt x="1152" y="0"/>
                    </a:lnTo>
                    <a:lnTo>
                      <a:pt x="1158" y="0"/>
                    </a:lnTo>
                    <a:lnTo>
                      <a:pt x="1163" y="0"/>
                    </a:lnTo>
                    <a:lnTo>
                      <a:pt x="1166" y="0"/>
                    </a:lnTo>
                    <a:lnTo>
                      <a:pt x="1172" y="0"/>
                    </a:lnTo>
                    <a:lnTo>
                      <a:pt x="1177" y="0"/>
                    </a:lnTo>
                    <a:lnTo>
                      <a:pt x="1183" y="0"/>
                    </a:lnTo>
                    <a:lnTo>
                      <a:pt x="1186" y="0"/>
                    </a:lnTo>
                    <a:lnTo>
                      <a:pt x="1192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67" name=""/>
              <p:cNvGrpSpPr/>
              <p:nvPr/>
            </p:nvGrpSpPr>
            <p:grpSpPr>
              <a:xfrm>
                <a:off x="1836000" y="2678040"/>
                <a:ext cx="1922040" cy="335160"/>
                <a:chOff x="1836000" y="2678040"/>
                <a:chExt cx="1922040" cy="33516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1836000" y="2678040"/>
                  <a:ext cx="1668600" cy="335160"/>
                </a:xfrm>
                <a:custGeom>
                  <a:avLst/>
                  <a:gdLst/>
                  <a:ahLst/>
                  <a:rect l="l" t="t" r="r" b="b"/>
                  <a:pathLst>
                    <a:path w="1139" h="211">
                      <a:moveTo>
                        <a:pt x="0" y="210"/>
                      </a:moveTo>
                      <a:lnTo>
                        <a:pt x="6" y="210"/>
                      </a:lnTo>
                      <a:lnTo>
                        <a:pt x="9" y="210"/>
                      </a:lnTo>
                      <a:lnTo>
                        <a:pt x="15" y="209"/>
                      </a:lnTo>
                      <a:lnTo>
                        <a:pt x="18" y="209"/>
                      </a:lnTo>
                      <a:lnTo>
                        <a:pt x="25" y="209"/>
                      </a:lnTo>
                      <a:lnTo>
                        <a:pt x="28" y="209"/>
                      </a:lnTo>
                      <a:lnTo>
                        <a:pt x="34" y="209"/>
                      </a:lnTo>
                      <a:lnTo>
                        <a:pt x="37" y="209"/>
                      </a:lnTo>
                      <a:lnTo>
                        <a:pt x="41" y="209"/>
                      </a:lnTo>
                      <a:lnTo>
                        <a:pt x="47" y="208"/>
                      </a:lnTo>
                      <a:lnTo>
                        <a:pt x="50" y="208"/>
                      </a:lnTo>
                      <a:lnTo>
                        <a:pt x="56" y="208"/>
                      </a:lnTo>
                      <a:lnTo>
                        <a:pt x="60" y="208"/>
                      </a:lnTo>
                      <a:lnTo>
                        <a:pt x="66" y="207"/>
                      </a:lnTo>
                      <a:lnTo>
                        <a:pt x="69" y="207"/>
                      </a:lnTo>
                      <a:lnTo>
                        <a:pt x="75" y="207"/>
                      </a:lnTo>
                      <a:lnTo>
                        <a:pt x="78" y="206"/>
                      </a:lnTo>
                      <a:lnTo>
                        <a:pt x="82" y="206"/>
                      </a:lnTo>
                      <a:lnTo>
                        <a:pt x="88" y="206"/>
                      </a:lnTo>
                      <a:lnTo>
                        <a:pt x="91" y="206"/>
                      </a:lnTo>
                      <a:lnTo>
                        <a:pt x="97" y="205"/>
                      </a:lnTo>
                      <a:lnTo>
                        <a:pt x="101" y="205"/>
                      </a:lnTo>
                      <a:lnTo>
                        <a:pt x="107" y="204"/>
                      </a:lnTo>
                      <a:lnTo>
                        <a:pt x="110" y="204"/>
                      </a:lnTo>
                      <a:lnTo>
                        <a:pt x="116" y="203"/>
                      </a:lnTo>
                      <a:lnTo>
                        <a:pt x="120" y="203"/>
                      </a:lnTo>
                      <a:lnTo>
                        <a:pt x="123" y="202"/>
                      </a:lnTo>
                      <a:lnTo>
                        <a:pt x="129" y="202"/>
                      </a:lnTo>
                      <a:lnTo>
                        <a:pt x="132" y="202"/>
                      </a:lnTo>
                      <a:lnTo>
                        <a:pt x="138" y="201"/>
                      </a:lnTo>
                      <a:lnTo>
                        <a:pt x="142" y="200"/>
                      </a:lnTo>
                      <a:lnTo>
                        <a:pt x="148" y="200"/>
                      </a:lnTo>
                      <a:lnTo>
                        <a:pt x="151" y="199"/>
                      </a:lnTo>
                      <a:lnTo>
                        <a:pt x="157" y="198"/>
                      </a:lnTo>
                      <a:lnTo>
                        <a:pt x="161" y="198"/>
                      </a:lnTo>
                      <a:lnTo>
                        <a:pt x="164" y="198"/>
                      </a:lnTo>
                      <a:lnTo>
                        <a:pt x="170" y="197"/>
                      </a:lnTo>
                      <a:lnTo>
                        <a:pt x="173" y="196"/>
                      </a:lnTo>
                      <a:lnTo>
                        <a:pt x="180" y="195"/>
                      </a:lnTo>
                      <a:lnTo>
                        <a:pt x="183" y="194"/>
                      </a:lnTo>
                      <a:lnTo>
                        <a:pt x="189" y="194"/>
                      </a:lnTo>
                      <a:lnTo>
                        <a:pt x="192" y="193"/>
                      </a:lnTo>
                      <a:lnTo>
                        <a:pt x="198" y="192"/>
                      </a:lnTo>
                      <a:lnTo>
                        <a:pt x="202" y="191"/>
                      </a:lnTo>
                      <a:lnTo>
                        <a:pt x="205" y="190"/>
                      </a:lnTo>
                      <a:lnTo>
                        <a:pt x="211" y="190"/>
                      </a:lnTo>
                      <a:lnTo>
                        <a:pt x="214" y="189"/>
                      </a:lnTo>
                      <a:lnTo>
                        <a:pt x="220" y="188"/>
                      </a:lnTo>
                      <a:lnTo>
                        <a:pt x="223" y="187"/>
                      </a:lnTo>
                      <a:lnTo>
                        <a:pt x="230" y="186"/>
                      </a:lnTo>
                      <a:lnTo>
                        <a:pt x="233" y="185"/>
                      </a:lnTo>
                      <a:lnTo>
                        <a:pt x="236" y="184"/>
                      </a:lnTo>
                      <a:lnTo>
                        <a:pt x="242" y="183"/>
                      </a:lnTo>
                      <a:lnTo>
                        <a:pt x="245" y="183"/>
                      </a:lnTo>
                      <a:lnTo>
                        <a:pt x="252" y="181"/>
                      </a:lnTo>
                      <a:lnTo>
                        <a:pt x="255" y="180"/>
                      </a:lnTo>
                      <a:lnTo>
                        <a:pt x="261" y="179"/>
                      </a:lnTo>
                      <a:lnTo>
                        <a:pt x="264" y="178"/>
                      </a:lnTo>
                      <a:lnTo>
                        <a:pt x="271" y="177"/>
                      </a:lnTo>
                      <a:lnTo>
                        <a:pt x="274" y="176"/>
                      </a:lnTo>
                      <a:lnTo>
                        <a:pt x="277" y="175"/>
                      </a:lnTo>
                      <a:lnTo>
                        <a:pt x="283" y="174"/>
                      </a:lnTo>
                      <a:lnTo>
                        <a:pt x="286" y="172"/>
                      </a:lnTo>
                      <a:lnTo>
                        <a:pt x="293" y="171"/>
                      </a:lnTo>
                      <a:lnTo>
                        <a:pt x="296" y="170"/>
                      </a:lnTo>
                      <a:lnTo>
                        <a:pt x="302" y="169"/>
                      </a:lnTo>
                      <a:lnTo>
                        <a:pt x="305" y="168"/>
                      </a:lnTo>
                      <a:lnTo>
                        <a:pt x="312" y="167"/>
                      </a:lnTo>
                      <a:lnTo>
                        <a:pt x="315" y="165"/>
                      </a:lnTo>
                      <a:lnTo>
                        <a:pt x="318" y="164"/>
                      </a:lnTo>
                      <a:lnTo>
                        <a:pt x="324" y="163"/>
                      </a:lnTo>
                      <a:lnTo>
                        <a:pt x="327" y="161"/>
                      </a:lnTo>
                      <a:lnTo>
                        <a:pt x="334" y="160"/>
                      </a:lnTo>
                      <a:lnTo>
                        <a:pt x="337" y="159"/>
                      </a:lnTo>
                      <a:lnTo>
                        <a:pt x="343" y="157"/>
                      </a:lnTo>
                      <a:lnTo>
                        <a:pt x="346" y="156"/>
                      </a:lnTo>
                      <a:lnTo>
                        <a:pt x="353" y="154"/>
                      </a:lnTo>
                      <a:lnTo>
                        <a:pt x="356" y="152"/>
                      </a:lnTo>
                      <a:lnTo>
                        <a:pt x="359" y="152"/>
                      </a:lnTo>
                      <a:lnTo>
                        <a:pt x="365" y="150"/>
                      </a:lnTo>
                      <a:lnTo>
                        <a:pt x="368" y="148"/>
                      </a:lnTo>
                      <a:lnTo>
                        <a:pt x="375" y="147"/>
                      </a:lnTo>
                      <a:lnTo>
                        <a:pt x="378" y="145"/>
                      </a:lnTo>
                      <a:lnTo>
                        <a:pt x="384" y="144"/>
                      </a:lnTo>
                      <a:lnTo>
                        <a:pt x="387" y="142"/>
                      </a:lnTo>
                      <a:lnTo>
                        <a:pt x="394" y="141"/>
                      </a:lnTo>
                      <a:lnTo>
                        <a:pt x="397" y="139"/>
                      </a:lnTo>
                      <a:lnTo>
                        <a:pt x="400" y="137"/>
                      </a:lnTo>
                      <a:lnTo>
                        <a:pt x="406" y="136"/>
                      </a:lnTo>
                      <a:lnTo>
                        <a:pt x="410" y="134"/>
                      </a:lnTo>
                      <a:lnTo>
                        <a:pt x="416" y="133"/>
                      </a:lnTo>
                      <a:lnTo>
                        <a:pt x="419" y="131"/>
                      </a:lnTo>
                      <a:lnTo>
                        <a:pt x="425" y="129"/>
                      </a:lnTo>
                      <a:lnTo>
                        <a:pt x="428" y="127"/>
                      </a:lnTo>
                      <a:lnTo>
                        <a:pt x="435" y="126"/>
                      </a:lnTo>
                      <a:lnTo>
                        <a:pt x="438" y="124"/>
                      </a:lnTo>
                      <a:lnTo>
                        <a:pt x="441" y="122"/>
                      </a:lnTo>
                      <a:lnTo>
                        <a:pt x="447" y="120"/>
                      </a:lnTo>
                      <a:lnTo>
                        <a:pt x="451" y="118"/>
                      </a:lnTo>
                      <a:lnTo>
                        <a:pt x="457" y="117"/>
                      </a:lnTo>
                      <a:lnTo>
                        <a:pt x="460" y="115"/>
                      </a:lnTo>
                      <a:lnTo>
                        <a:pt x="466" y="113"/>
                      </a:lnTo>
                      <a:lnTo>
                        <a:pt x="470" y="111"/>
                      </a:lnTo>
                      <a:lnTo>
                        <a:pt x="476" y="110"/>
                      </a:lnTo>
                      <a:lnTo>
                        <a:pt x="479" y="107"/>
                      </a:lnTo>
                      <a:lnTo>
                        <a:pt x="482" y="106"/>
                      </a:lnTo>
                      <a:lnTo>
                        <a:pt x="488" y="103"/>
                      </a:lnTo>
                      <a:lnTo>
                        <a:pt x="492" y="102"/>
                      </a:lnTo>
                      <a:lnTo>
                        <a:pt x="498" y="100"/>
                      </a:lnTo>
                      <a:lnTo>
                        <a:pt x="501" y="98"/>
                      </a:lnTo>
                      <a:lnTo>
                        <a:pt x="507" y="96"/>
                      </a:lnTo>
                      <a:lnTo>
                        <a:pt x="510" y="94"/>
                      </a:lnTo>
                      <a:lnTo>
                        <a:pt x="516" y="92"/>
                      </a:lnTo>
                      <a:lnTo>
                        <a:pt x="520" y="90"/>
                      </a:lnTo>
                      <a:lnTo>
                        <a:pt x="523" y="88"/>
                      </a:lnTo>
                      <a:lnTo>
                        <a:pt x="529" y="86"/>
                      </a:lnTo>
                      <a:lnTo>
                        <a:pt x="532" y="84"/>
                      </a:lnTo>
                      <a:lnTo>
                        <a:pt x="538" y="82"/>
                      </a:lnTo>
                      <a:lnTo>
                        <a:pt x="542" y="80"/>
                      </a:lnTo>
                      <a:lnTo>
                        <a:pt x="548" y="78"/>
                      </a:lnTo>
                      <a:lnTo>
                        <a:pt x="551" y="76"/>
                      </a:lnTo>
                      <a:lnTo>
                        <a:pt x="557" y="74"/>
                      </a:lnTo>
                      <a:lnTo>
                        <a:pt x="561" y="72"/>
                      </a:lnTo>
                      <a:lnTo>
                        <a:pt x="564" y="70"/>
                      </a:lnTo>
                      <a:lnTo>
                        <a:pt x="570" y="68"/>
                      </a:lnTo>
                      <a:lnTo>
                        <a:pt x="573" y="66"/>
                      </a:lnTo>
                      <a:lnTo>
                        <a:pt x="580" y="64"/>
                      </a:lnTo>
                      <a:lnTo>
                        <a:pt x="583" y="62"/>
                      </a:lnTo>
                      <a:lnTo>
                        <a:pt x="589" y="60"/>
                      </a:lnTo>
                      <a:lnTo>
                        <a:pt x="592" y="58"/>
                      </a:lnTo>
                      <a:lnTo>
                        <a:pt x="599" y="56"/>
                      </a:lnTo>
                      <a:lnTo>
                        <a:pt x="602" y="54"/>
                      </a:lnTo>
                      <a:lnTo>
                        <a:pt x="605" y="52"/>
                      </a:lnTo>
                      <a:lnTo>
                        <a:pt x="611" y="50"/>
                      </a:lnTo>
                      <a:lnTo>
                        <a:pt x="614" y="48"/>
                      </a:lnTo>
                      <a:lnTo>
                        <a:pt x="621" y="46"/>
                      </a:lnTo>
                      <a:lnTo>
                        <a:pt x="624" y="44"/>
                      </a:lnTo>
                      <a:lnTo>
                        <a:pt x="630" y="42"/>
                      </a:lnTo>
                      <a:lnTo>
                        <a:pt x="633" y="40"/>
                      </a:lnTo>
                      <a:lnTo>
                        <a:pt x="640" y="38"/>
                      </a:lnTo>
                      <a:lnTo>
                        <a:pt x="643" y="37"/>
                      </a:lnTo>
                      <a:lnTo>
                        <a:pt x="646" y="34"/>
                      </a:lnTo>
                      <a:lnTo>
                        <a:pt x="652" y="33"/>
                      </a:lnTo>
                      <a:lnTo>
                        <a:pt x="655" y="31"/>
                      </a:lnTo>
                      <a:lnTo>
                        <a:pt x="662" y="29"/>
                      </a:lnTo>
                      <a:lnTo>
                        <a:pt x="665" y="27"/>
                      </a:lnTo>
                      <a:lnTo>
                        <a:pt x="671" y="26"/>
                      </a:lnTo>
                      <a:lnTo>
                        <a:pt x="674" y="24"/>
                      </a:lnTo>
                      <a:lnTo>
                        <a:pt x="681" y="22"/>
                      </a:lnTo>
                      <a:lnTo>
                        <a:pt x="684" y="21"/>
                      </a:lnTo>
                      <a:lnTo>
                        <a:pt x="687" y="19"/>
                      </a:lnTo>
                      <a:lnTo>
                        <a:pt x="693" y="18"/>
                      </a:lnTo>
                      <a:lnTo>
                        <a:pt x="696" y="16"/>
                      </a:lnTo>
                      <a:lnTo>
                        <a:pt x="703" y="15"/>
                      </a:lnTo>
                      <a:lnTo>
                        <a:pt x="706" y="13"/>
                      </a:lnTo>
                      <a:lnTo>
                        <a:pt x="712" y="12"/>
                      </a:lnTo>
                      <a:lnTo>
                        <a:pt x="715" y="11"/>
                      </a:lnTo>
                      <a:lnTo>
                        <a:pt x="719" y="9"/>
                      </a:lnTo>
                      <a:lnTo>
                        <a:pt x="725" y="8"/>
                      </a:lnTo>
                      <a:lnTo>
                        <a:pt x="728" y="7"/>
                      </a:lnTo>
                      <a:lnTo>
                        <a:pt x="734" y="6"/>
                      </a:lnTo>
                      <a:lnTo>
                        <a:pt x="737" y="5"/>
                      </a:lnTo>
                      <a:lnTo>
                        <a:pt x="744" y="4"/>
                      </a:lnTo>
                      <a:lnTo>
                        <a:pt x="747" y="3"/>
                      </a:lnTo>
                      <a:lnTo>
                        <a:pt x="753" y="3"/>
                      </a:lnTo>
                      <a:lnTo>
                        <a:pt x="756" y="2"/>
                      </a:lnTo>
                      <a:lnTo>
                        <a:pt x="760" y="1"/>
                      </a:lnTo>
                      <a:lnTo>
                        <a:pt x="766" y="0"/>
                      </a:lnTo>
                      <a:lnTo>
                        <a:pt x="769" y="0"/>
                      </a:lnTo>
                      <a:lnTo>
                        <a:pt x="775" y="0"/>
                      </a:lnTo>
                      <a:lnTo>
                        <a:pt x="779" y="0"/>
                      </a:lnTo>
                      <a:lnTo>
                        <a:pt x="785" y="0"/>
                      </a:lnTo>
                      <a:lnTo>
                        <a:pt x="788" y="0"/>
                      </a:lnTo>
                      <a:lnTo>
                        <a:pt x="794" y="0"/>
                      </a:lnTo>
                      <a:lnTo>
                        <a:pt x="797" y="0"/>
                      </a:lnTo>
                      <a:lnTo>
                        <a:pt x="800" y="0"/>
                      </a:lnTo>
                      <a:lnTo>
                        <a:pt x="806" y="0"/>
                      </a:lnTo>
                      <a:lnTo>
                        <a:pt x="810" y="0"/>
                      </a:lnTo>
                      <a:lnTo>
                        <a:pt x="816" y="1"/>
                      </a:lnTo>
                      <a:lnTo>
                        <a:pt x="819" y="2"/>
                      </a:lnTo>
                      <a:lnTo>
                        <a:pt x="825" y="3"/>
                      </a:lnTo>
                      <a:lnTo>
                        <a:pt x="829" y="4"/>
                      </a:lnTo>
                      <a:lnTo>
                        <a:pt x="835" y="5"/>
                      </a:lnTo>
                      <a:lnTo>
                        <a:pt x="838" y="7"/>
                      </a:lnTo>
                      <a:lnTo>
                        <a:pt x="841" y="7"/>
                      </a:lnTo>
                      <a:lnTo>
                        <a:pt x="847" y="9"/>
                      </a:lnTo>
                      <a:lnTo>
                        <a:pt x="851" y="11"/>
                      </a:lnTo>
                      <a:lnTo>
                        <a:pt x="857" y="13"/>
                      </a:lnTo>
                      <a:lnTo>
                        <a:pt x="860" y="15"/>
                      </a:lnTo>
                      <a:lnTo>
                        <a:pt x="866" y="17"/>
                      </a:lnTo>
                      <a:lnTo>
                        <a:pt x="870" y="19"/>
                      </a:lnTo>
                      <a:lnTo>
                        <a:pt x="876" y="22"/>
                      </a:lnTo>
                      <a:lnTo>
                        <a:pt x="879" y="25"/>
                      </a:lnTo>
                      <a:lnTo>
                        <a:pt x="882" y="27"/>
                      </a:lnTo>
                      <a:lnTo>
                        <a:pt x="889" y="30"/>
                      </a:lnTo>
                      <a:lnTo>
                        <a:pt x="892" y="34"/>
                      </a:lnTo>
                      <a:lnTo>
                        <a:pt x="898" y="37"/>
                      </a:lnTo>
                      <a:lnTo>
                        <a:pt x="901" y="40"/>
                      </a:lnTo>
                      <a:lnTo>
                        <a:pt x="907" y="44"/>
                      </a:lnTo>
                      <a:lnTo>
                        <a:pt x="911" y="47"/>
                      </a:lnTo>
                      <a:lnTo>
                        <a:pt x="917" y="51"/>
                      </a:lnTo>
                      <a:lnTo>
                        <a:pt x="920" y="56"/>
                      </a:lnTo>
                      <a:lnTo>
                        <a:pt x="923" y="60"/>
                      </a:lnTo>
                      <a:lnTo>
                        <a:pt x="930" y="64"/>
                      </a:lnTo>
                      <a:lnTo>
                        <a:pt x="933" y="68"/>
                      </a:lnTo>
                      <a:lnTo>
                        <a:pt x="939" y="73"/>
                      </a:lnTo>
                      <a:lnTo>
                        <a:pt x="942" y="78"/>
                      </a:lnTo>
                      <a:lnTo>
                        <a:pt x="949" y="83"/>
                      </a:lnTo>
                      <a:lnTo>
                        <a:pt x="952" y="87"/>
                      </a:lnTo>
                      <a:lnTo>
                        <a:pt x="958" y="93"/>
                      </a:lnTo>
                      <a:lnTo>
                        <a:pt x="961" y="99"/>
                      </a:lnTo>
                      <a:lnTo>
                        <a:pt x="964" y="103"/>
                      </a:lnTo>
                      <a:lnTo>
                        <a:pt x="971" y="109"/>
                      </a:lnTo>
                      <a:lnTo>
                        <a:pt x="974" y="114"/>
                      </a:lnTo>
                      <a:lnTo>
                        <a:pt x="980" y="120"/>
                      </a:lnTo>
                      <a:lnTo>
                        <a:pt x="983" y="126"/>
                      </a:lnTo>
                      <a:lnTo>
                        <a:pt x="990" y="131"/>
                      </a:lnTo>
                      <a:lnTo>
                        <a:pt x="993" y="137"/>
                      </a:lnTo>
                      <a:lnTo>
                        <a:pt x="999" y="143"/>
                      </a:lnTo>
                      <a:lnTo>
                        <a:pt x="1002" y="148"/>
                      </a:lnTo>
                      <a:lnTo>
                        <a:pt x="1005" y="154"/>
                      </a:lnTo>
                      <a:lnTo>
                        <a:pt x="1012" y="160"/>
                      </a:lnTo>
                      <a:lnTo>
                        <a:pt x="1015" y="165"/>
                      </a:lnTo>
                      <a:lnTo>
                        <a:pt x="1021" y="171"/>
                      </a:lnTo>
                      <a:lnTo>
                        <a:pt x="1024" y="175"/>
                      </a:lnTo>
                      <a:lnTo>
                        <a:pt x="1031" y="181"/>
                      </a:lnTo>
                      <a:lnTo>
                        <a:pt x="1034" y="186"/>
                      </a:lnTo>
                      <a:lnTo>
                        <a:pt x="1040" y="190"/>
                      </a:lnTo>
                      <a:lnTo>
                        <a:pt x="1043" y="194"/>
                      </a:lnTo>
                      <a:lnTo>
                        <a:pt x="1046" y="198"/>
                      </a:lnTo>
                      <a:lnTo>
                        <a:pt x="1053" y="202"/>
                      </a:lnTo>
                      <a:lnTo>
                        <a:pt x="1056" y="204"/>
                      </a:lnTo>
                      <a:lnTo>
                        <a:pt x="1062" y="206"/>
                      </a:lnTo>
                      <a:lnTo>
                        <a:pt x="1065" y="208"/>
                      </a:lnTo>
                      <a:lnTo>
                        <a:pt x="1072" y="209"/>
                      </a:lnTo>
                      <a:lnTo>
                        <a:pt x="1075" y="209"/>
                      </a:lnTo>
                      <a:lnTo>
                        <a:pt x="1081" y="208"/>
                      </a:lnTo>
                      <a:lnTo>
                        <a:pt x="1084" y="206"/>
                      </a:lnTo>
                      <a:lnTo>
                        <a:pt x="1087" y="203"/>
                      </a:lnTo>
                      <a:lnTo>
                        <a:pt x="1094" y="198"/>
                      </a:lnTo>
                      <a:lnTo>
                        <a:pt x="1096" y="192"/>
                      </a:lnTo>
                      <a:lnTo>
                        <a:pt x="1103" y="184"/>
                      </a:lnTo>
                      <a:lnTo>
                        <a:pt x="1106" y="174"/>
                      </a:lnTo>
                      <a:lnTo>
                        <a:pt x="1112" y="162"/>
                      </a:lnTo>
                      <a:lnTo>
                        <a:pt x="1115" y="148"/>
                      </a:lnTo>
                      <a:lnTo>
                        <a:pt x="1122" y="130"/>
                      </a:lnTo>
                      <a:lnTo>
                        <a:pt x="1125" y="110"/>
                      </a:lnTo>
                      <a:lnTo>
                        <a:pt x="1128" y="88"/>
                      </a:lnTo>
                      <a:lnTo>
                        <a:pt x="1134" y="65"/>
                      </a:lnTo>
                      <a:lnTo>
                        <a:pt x="1138" y="40"/>
                      </a:lnTo>
                    </a:path>
                  </a:pathLst>
                </a:custGeom>
                <a:noFill/>
                <a:ln cap="rnd" w="255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503520" y="2689200"/>
                  <a:ext cx="254520" cy="228600"/>
                </a:xfrm>
                <a:custGeom>
                  <a:avLst/>
                  <a:gdLst/>
                  <a:ahLst/>
                  <a:rect l="l" t="t" r="r" b="b"/>
                  <a:pathLst>
                    <a:path w="174" h="144">
                      <a:moveTo>
                        <a:pt x="0" y="56"/>
                      </a:moveTo>
                      <a:lnTo>
                        <a:pt x="0" y="18"/>
                      </a:lnTo>
                      <a:lnTo>
                        <a:pt x="40" y="0"/>
                      </a:lnTo>
                      <a:lnTo>
                        <a:pt x="79" y="0"/>
                      </a:lnTo>
                      <a:lnTo>
                        <a:pt x="105" y="29"/>
                      </a:lnTo>
                      <a:lnTo>
                        <a:pt x="132" y="56"/>
                      </a:lnTo>
                      <a:lnTo>
                        <a:pt x="146" y="86"/>
                      </a:lnTo>
                      <a:lnTo>
                        <a:pt x="160" y="113"/>
                      </a:lnTo>
                      <a:lnTo>
                        <a:pt x="173" y="143"/>
                      </a:lnTo>
                    </a:path>
                  </a:pathLst>
                </a:custGeom>
                <a:noFill/>
                <a:ln cap="rnd" w="255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0" name=""/>
              <p:cNvSpPr/>
              <p:nvPr/>
            </p:nvSpPr>
            <p:spPr>
              <a:xfrm>
                <a:off x="3758400" y="2925720"/>
                <a:ext cx="659160" cy="132228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815480" y="4287960"/>
              <a:ext cx="548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1816920" y="1929960"/>
              <a:ext cx="0" cy="235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028560" y="427824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83000" y="4294080"/>
              <a:ext cx="32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425304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818360" y="3032280"/>
              <a:ext cx="1937160" cy="288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818360" y="2649600"/>
              <a:ext cx="1937160" cy="324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27360" y="2573280"/>
              <a:ext cx="1925280" cy="6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25920" y="3046320"/>
              <a:ext cx="1931400" cy="6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299480" y="3970440"/>
              <a:ext cx="1874160" cy="324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299480" y="3897360"/>
              <a:ext cx="1871280" cy="60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759840" y="3073320"/>
              <a:ext cx="1440" cy="1214640"/>
            </a:xfrm>
            <a:prstGeom prst="line">
              <a:avLst/>
            </a:prstGeom>
            <a:ln w="12600">
              <a:solidFill>
                <a:srgbClr val="99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4293360" y="3073320"/>
              <a:ext cx="1440" cy="1214640"/>
            </a:xfrm>
            <a:prstGeom prst="line">
              <a:avLst/>
            </a:prstGeom>
            <a:ln w="12600">
              <a:solidFill>
                <a:srgbClr val="99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20920" y="4303800"/>
              <a:ext cx="369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hr-HR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77320" y="4294080"/>
              <a:ext cx="383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hr-HR" sz="1600" spc="-1" strike="noStrike" baseline="-25000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1778760" y="3976560"/>
              <a:ext cx="73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77440" y="3772080"/>
              <a:ext cx="3312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hr-HR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1778760" y="2836800"/>
              <a:ext cx="73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261800" y="2476440"/>
              <a:ext cx="5612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+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270080" y="2862360"/>
              <a:ext cx="5461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ffffff"/>
                  </a:solidFill>
                  <a:latin typeface="Times New Roman"/>
                </a:rPr>
                <a:t>1-</a:t>
              </a:r>
              <a:r>
                <a:rPr b="0" lang="hr-HR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hr-HR" sz="1600" spc="-1" strike="noStrike" baseline="-25000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807560" y="1795320"/>
              <a:ext cx="75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r>
                <a:rPr b="0" i="1" lang="hr-HR" sz="1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hr-HR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16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hr-HR" sz="16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hr-HR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hr-HR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hr-HR" sz="18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824120" y="3448080"/>
            <a:ext cx="1922040" cy="335880"/>
            <a:chOff x="1824120" y="3448080"/>
            <a:chExt cx="1922040" cy="335880"/>
          </a:xfrm>
        </p:grpSpPr>
        <p:sp>
          <p:nvSpPr>
            <p:cNvPr id="893" name=""/>
            <p:cNvSpPr/>
            <p:nvPr/>
          </p:nvSpPr>
          <p:spPr>
            <a:xfrm>
              <a:off x="2090160" y="3448080"/>
              <a:ext cx="1378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pusni poj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62400" y="3619440"/>
              <a:ext cx="383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824120" y="3619440"/>
              <a:ext cx="36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4308480" y="3436920"/>
            <a:ext cx="1877760" cy="335880"/>
            <a:chOff x="4308480" y="3436920"/>
            <a:chExt cx="1877760" cy="335880"/>
          </a:xfrm>
        </p:grpSpPr>
        <p:sp>
          <p:nvSpPr>
            <p:cNvPr id="897" name=""/>
            <p:cNvSpPr/>
            <p:nvPr/>
          </p:nvSpPr>
          <p:spPr>
            <a:xfrm>
              <a:off x="4589640" y="3436920"/>
              <a:ext cx="1287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ojas gušenj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02840" y="3619440"/>
              <a:ext cx="383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308480" y="3619440"/>
              <a:ext cx="36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514680" y="4726080"/>
            <a:ext cx="1028520" cy="669600"/>
            <a:chOff x="3514680" y="4726080"/>
            <a:chExt cx="1028520" cy="669600"/>
          </a:xfrm>
        </p:grpSpPr>
        <p:sp>
          <p:nvSpPr>
            <p:cNvPr id="901" name=""/>
            <p:cNvSpPr/>
            <p:nvPr/>
          </p:nvSpPr>
          <p:spPr>
            <a:xfrm>
              <a:off x="3558960" y="4816440"/>
              <a:ext cx="951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ijelaz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oj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59480" y="4726080"/>
              <a:ext cx="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14680" y="4795920"/>
              <a:ext cx="24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302720" y="4795920"/>
              <a:ext cx="24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92280" y="4726080"/>
              <a:ext cx="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768840" y="2281320"/>
            <a:ext cx="2894400" cy="505800"/>
            <a:chOff x="3768840" y="2281320"/>
            <a:chExt cx="2894400" cy="505800"/>
          </a:xfrm>
        </p:grpSpPr>
        <p:sp>
          <p:nvSpPr>
            <p:cNvPr id="907" name=""/>
            <p:cNvSpPr/>
            <p:nvPr/>
          </p:nvSpPr>
          <p:spPr>
            <a:xfrm flipV="1">
              <a:off x="3768840" y="2485800"/>
              <a:ext cx="372240" cy="3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974400" y="2281320"/>
              <a:ext cx="2688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alovitost u propusnom pojas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189840" y="3621240"/>
            <a:ext cx="2656800" cy="446040"/>
            <a:chOff x="6189840" y="3621240"/>
            <a:chExt cx="2656800" cy="446040"/>
          </a:xfrm>
        </p:grpSpPr>
        <p:sp>
          <p:nvSpPr>
            <p:cNvPr id="910" name=""/>
            <p:cNvSpPr/>
            <p:nvPr/>
          </p:nvSpPr>
          <p:spPr>
            <a:xfrm flipV="1">
              <a:off x="6189840" y="3811680"/>
              <a:ext cx="38988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51920" y="3621240"/>
              <a:ext cx="2394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alovitost u pojasu gušenj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-128520" y="4500720"/>
            <a:ext cx="3733200" cy="403920"/>
            <a:chOff x="-128520" y="4500720"/>
            <a:chExt cx="3733200" cy="403920"/>
          </a:xfrm>
        </p:grpSpPr>
        <p:sp>
          <p:nvSpPr>
            <p:cNvPr id="913" name=""/>
            <p:cNvSpPr/>
            <p:nvPr/>
          </p:nvSpPr>
          <p:spPr>
            <a:xfrm>
              <a:off x="-128520" y="4568760"/>
              <a:ext cx="3328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ranična frekvencija propusnog pojas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3033360" y="4500720"/>
              <a:ext cx="571320" cy="22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449600" y="4500720"/>
            <a:ext cx="3930480" cy="380160"/>
            <a:chOff x="4449600" y="4500720"/>
            <a:chExt cx="3930480" cy="380160"/>
          </a:xfrm>
        </p:grpSpPr>
        <p:sp>
          <p:nvSpPr>
            <p:cNvPr id="916" name=""/>
            <p:cNvSpPr/>
            <p:nvPr/>
          </p:nvSpPr>
          <p:spPr>
            <a:xfrm>
              <a:off x="4449600" y="4500720"/>
              <a:ext cx="968400" cy="17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90200" y="4545000"/>
              <a:ext cx="3089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ranična frekvencija pojasa gušenj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383400" y="5430960"/>
            <a:ext cx="7109640" cy="726840"/>
            <a:chOff x="383400" y="5430960"/>
            <a:chExt cx="7109640" cy="726840"/>
          </a:xfrm>
        </p:grpSpPr>
        <p:sp>
          <p:nvSpPr>
            <p:cNvPr id="919" name=""/>
            <p:cNvSpPr/>
            <p:nvPr/>
          </p:nvSpPr>
          <p:spPr>
            <a:xfrm>
              <a:off x="383400" y="5491080"/>
              <a:ext cx="2109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ropusni pojas: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20" name=""/>
            <p:cNvGraphicFramePr/>
            <p:nvPr/>
          </p:nvGraphicFramePr>
          <p:xfrm>
            <a:off x="2637000" y="5430960"/>
            <a:ext cx="4856040" cy="726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637000" y="5430960"/>
                      <a:ext cx="4856040" cy="72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22" name=""/>
          <p:cNvGrpSpPr/>
          <p:nvPr/>
        </p:nvGrpSpPr>
        <p:grpSpPr>
          <a:xfrm>
            <a:off x="608400" y="6173640"/>
            <a:ext cx="6078240" cy="641520"/>
            <a:chOff x="608400" y="6173640"/>
            <a:chExt cx="6078240" cy="641520"/>
          </a:xfrm>
        </p:grpSpPr>
        <p:sp>
          <p:nvSpPr>
            <p:cNvPr id="923" name=""/>
            <p:cNvSpPr/>
            <p:nvPr/>
          </p:nvSpPr>
          <p:spPr>
            <a:xfrm>
              <a:off x="608400" y="6257880"/>
              <a:ext cx="197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ojas gušenja: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24" name=""/>
            <p:cNvGraphicFramePr/>
            <p:nvPr/>
          </p:nvGraphicFramePr>
          <p:xfrm>
            <a:off x="2701800" y="6173640"/>
            <a:ext cx="3984840" cy="641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701800" y="6173640"/>
                      <a:ext cx="3984840" cy="6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Specifikacija karakteristika digitalnog filtr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480" y="1811160"/>
            <a:ext cx="9011880" cy="1117800"/>
            <a:chOff x="33480" y="1811160"/>
            <a:chExt cx="9011880" cy="1117800"/>
          </a:xfrm>
        </p:grpSpPr>
        <p:sp>
          <p:nvSpPr>
            <p:cNvPr id="928" name=""/>
            <p:cNvSpPr/>
            <p:nvPr/>
          </p:nvSpPr>
          <p:spPr>
            <a:xfrm>
              <a:off x="33480" y="1811160"/>
              <a:ext cx="9011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Često se prijenosna karakteristika filtra zadaje u logaritamskom mjerilu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9" name=""/>
                <p:cNvSpPr txBox="1"/>
                <p:nvPr/>
              </p:nvSpPr>
              <p:spPr>
                <a:xfrm>
                  <a:off x="2923200" y="2297160"/>
                  <a:ext cx="282960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w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=-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w</m:t>
                                  </m:r>
                                </m:sup>
                              </m:sSup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0" name=""/>
          <p:cNvSpPr/>
          <p:nvPr/>
        </p:nvSpPr>
        <p:spPr>
          <a:xfrm>
            <a:off x="375840" y="2847960"/>
            <a:ext cx="109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da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264600" y="3287880"/>
            <a:ext cx="7520040" cy="458280"/>
            <a:chOff x="264600" y="3287880"/>
            <a:chExt cx="7520040" cy="458280"/>
          </a:xfrm>
        </p:grpSpPr>
        <p:sp>
          <p:nvSpPr>
            <p:cNvPr id="932" name=""/>
            <p:cNvSpPr/>
            <p:nvPr/>
          </p:nvSpPr>
          <p:spPr>
            <a:xfrm>
              <a:off x="264600" y="3287880"/>
              <a:ext cx="394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alovitost u propusnom pojas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3" name=""/>
                <p:cNvSpPr txBox="1"/>
                <p:nvPr/>
              </p:nvSpPr>
              <p:spPr>
                <a:xfrm>
                  <a:off x="5431680" y="3298680"/>
                  <a:ext cx="235296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=-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4" name=""/>
          <p:cNvGrpSpPr/>
          <p:nvPr/>
        </p:nvGrpSpPr>
        <p:grpSpPr>
          <a:xfrm>
            <a:off x="258120" y="3740040"/>
            <a:ext cx="7174080" cy="458280"/>
            <a:chOff x="258120" y="3740040"/>
            <a:chExt cx="7174080" cy="458280"/>
          </a:xfrm>
        </p:grpSpPr>
        <p:sp>
          <p:nvSpPr>
            <p:cNvPr id="935" name=""/>
            <p:cNvSpPr/>
            <p:nvPr/>
          </p:nvSpPr>
          <p:spPr>
            <a:xfrm>
              <a:off x="258120" y="3740040"/>
              <a:ext cx="4628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inimalno gušenje u pojasu gušenj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6" name=""/>
                <p:cNvSpPr txBox="1"/>
                <p:nvPr/>
              </p:nvSpPr>
              <p:spPr>
                <a:xfrm>
                  <a:off x="5398200" y="3817800"/>
                  <a:ext cx="203400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=-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7" name=""/>
          <p:cNvGrpSpPr/>
          <p:nvPr/>
        </p:nvGrpSpPr>
        <p:grpSpPr>
          <a:xfrm>
            <a:off x="452520" y="4395960"/>
            <a:ext cx="8615160" cy="2420640"/>
            <a:chOff x="452520" y="4395960"/>
            <a:chExt cx="8615160" cy="2420640"/>
          </a:xfrm>
        </p:grpSpPr>
        <p:sp>
          <p:nvSpPr>
            <p:cNvPr id="938" name=""/>
            <p:cNvSpPr/>
            <p:nvPr/>
          </p:nvSpPr>
          <p:spPr>
            <a:xfrm>
              <a:off x="452520" y="4395960"/>
              <a:ext cx="8615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nične frekvencije područja propuštanja i područja gušenja se računaju na slijedeći način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9" name=""/>
                <p:cNvSpPr txBox="1"/>
                <p:nvPr/>
              </p:nvSpPr>
              <p:spPr>
                <a:xfrm>
                  <a:off x="5566680" y="5351400"/>
                  <a:ext cx="884880" cy="57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0" name=""/>
            <p:cNvSpPr/>
            <p:nvPr/>
          </p:nvSpPr>
          <p:spPr>
            <a:xfrm>
              <a:off x="4145760" y="538308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1" name=""/>
                <p:cNvSpPr txBox="1"/>
                <p:nvPr/>
              </p:nvSpPr>
              <p:spPr>
                <a:xfrm>
                  <a:off x="2200320" y="5327640"/>
                  <a:ext cx="9640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f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2" name=""/>
            <p:cNvSpPr/>
            <p:nvPr/>
          </p:nvSpPr>
          <p:spPr>
            <a:xfrm>
              <a:off x="474120" y="5942160"/>
              <a:ext cx="844956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gdje je 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 frekvencija otipkavanja, a 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 i </a:t>
              </a:r>
              <a:r>
                <a:rPr b="0" i="1" lang="hr-HR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hr-HR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hr-HR" sz="2400" spc="-1" strike="noStrike">
                  <a:solidFill>
                    <a:srgbClr val="ffffff"/>
                  </a:solidFill>
                  <a:latin typeface="Times New Roman"/>
                </a:rPr>
                <a:t> su granične frekvencije pojasa propuštanja i pojasa gušenja u Hz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Specifikacija digitalnog filtra - alternativno označavanj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220760" y="1795320"/>
            <a:ext cx="6185880" cy="2877840"/>
            <a:chOff x="1220760" y="1795320"/>
            <a:chExt cx="6185880" cy="2877840"/>
          </a:xfrm>
        </p:grpSpPr>
        <p:grpSp>
          <p:nvGrpSpPr>
            <p:cNvPr id="945" name=""/>
            <p:cNvGrpSpPr/>
            <p:nvPr/>
          </p:nvGrpSpPr>
          <p:grpSpPr>
            <a:xfrm>
              <a:off x="1836000" y="2678040"/>
              <a:ext cx="4329720" cy="1609920"/>
              <a:chOff x="1836000" y="2678040"/>
              <a:chExt cx="4329720" cy="1609920"/>
            </a:xfrm>
          </p:grpSpPr>
          <p:sp>
            <p:nvSpPr>
              <p:cNvPr id="946" name=""/>
              <p:cNvSpPr/>
              <p:nvPr/>
            </p:nvSpPr>
            <p:spPr>
              <a:xfrm>
                <a:off x="4417560" y="4000680"/>
                <a:ext cx="1748160" cy="287280"/>
              </a:xfrm>
              <a:custGeom>
                <a:avLst/>
                <a:gdLst/>
                <a:ahLst/>
                <a:rect l="l" t="t" r="r" b="b"/>
                <a:pathLst>
                  <a:path w="1193" h="181">
                    <a:moveTo>
                      <a:pt x="0" y="166"/>
                    </a:moveTo>
                    <a:lnTo>
                      <a:pt x="2" y="157"/>
                    </a:lnTo>
                    <a:lnTo>
                      <a:pt x="8" y="128"/>
                    </a:lnTo>
                    <a:lnTo>
                      <a:pt x="14" y="103"/>
                    </a:lnTo>
                    <a:lnTo>
                      <a:pt x="19" y="83"/>
                    </a:lnTo>
                    <a:lnTo>
                      <a:pt x="22" y="66"/>
                    </a:lnTo>
                    <a:lnTo>
                      <a:pt x="28" y="52"/>
                    </a:lnTo>
                    <a:lnTo>
                      <a:pt x="33" y="40"/>
                    </a:lnTo>
                    <a:lnTo>
                      <a:pt x="39" y="31"/>
                    </a:lnTo>
                    <a:lnTo>
                      <a:pt x="42" y="23"/>
                    </a:lnTo>
                    <a:lnTo>
                      <a:pt x="47" y="17"/>
                    </a:lnTo>
                    <a:lnTo>
                      <a:pt x="53" y="12"/>
                    </a:lnTo>
                    <a:lnTo>
                      <a:pt x="59" y="7"/>
                    </a:lnTo>
                    <a:lnTo>
                      <a:pt x="61" y="5"/>
                    </a:lnTo>
                    <a:lnTo>
                      <a:pt x="67" y="2"/>
                    </a:lnTo>
                    <a:lnTo>
                      <a:pt x="73" y="1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5" y="1"/>
                    </a:lnTo>
                    <a:lnTo>
                      <a:pt x="101" y="2"/>
                    </a:lnTo>
                    <a:lnTo>
                      <a:pt x="106" y="4"/>
                    </a:lnTo>
                    <a:lnTo>
                      <a:pt x="112" y="5"/>
                    </a:lnTo>
                    <a:lnTo>
                      <a:pt x="115" y="7"/>
                    </a:lnTo>
                    <a:lnTo>
                      <a:pt x="121" y="10"/>
                    </a:lnTo>
                    <a:lnTo>
                      <a:pt x="126" y="12"/>
                    </a:lnTo>
                    <a:lnTo>
                      <a:pt x="129" y="14"/>
                    </a:lnTo>
                    <a:lnTo>
                      <a:pt x="135" y="17"/>
                    </a:lnTo>
                    <a:lnTo>
                      <a:pt x="140" y="20"/>
                    </a:lnTo>
                    <a:lnTo>
                      <a:pt x="146" y="22"/>
                    </a:lnTo>
                    <a:lnTo>
                      <a:pt x="149" y="26"/>
                    </a:lnTo>
                    <a:lnTo>
                      <a:pt x="154" y="29"/>
                    </a:lnTo>
                    <a:lnTo>
                      <a:pt x="160" y="32"/>
                    </a:lnTo>
                    <a:lnTo>
                      <a:pt x="166" y="35"/>
                    </a:lnTo>
                    <a:lnTo>
                      <a:pt x="168" y="38"/>
                    </a:lnTo>
                    <a:lnTo>
                      <a:pt x="174" y="42"/>
                    </a:lnTo>
                    <a:lnTo>
                      <a:pt x="180" y="45"/>
                    </a:lnTo>
                    <a:lnTo>
                      <a:pt x="185" y="48"/>
                    </a:lnTo>
                    <a:lnTo>
                      <a:pt x="188" y="51"/>
                    </a:lnTo>
                    <a:lnTo>
                      <a:pt x="193" y="55"/>
                    </a:lnTo>
                    <a:lnTo>
                      <a:pt x="199" y="58"/>
                    </a:lnTo>
                    <a:lnTo>
                      <a:pt x="202" y="62"/>
                    </a:lnTo>
                    <a:lnTo>
                      <a:pt x="207" y="65"/>
                    </a:lnTo>
                    <a:lnTo>
                      <a:pt x="213" y="69"/>
                    </a:lnTo>
                    <a:lnTo>
                      <a:pt x="219" y="72"/>
                    </a:lnTo>
                    <a:lnTo>
                      <a:pt x="221" y="76"/>
                    </a:lnTo>
                    <a:lnTo>
                      <a:pt x="227" y="79"/>
                    </a:lnTo>
                    <a:lnTo>
                      <a:pt x="233" y="83"/>
                    </a:lnTo>
                    <a:lnTo>
                      <a:pt x="238" y="86"/>
                    </a:lnTo>
                    <a:lnTo>
                      <a:pt x="241" y="89"/>
                    </a:lnTo>
                    <a:lnTo>
                      <a:pt x="247" y="93"/>
                    </a:lnTo>
                    <a:lnTo>
                      <a:pt x="252" y="96"/>
                    </a:lnTo>
                    <a:lnTo>
                      <a:pt x="258" y="100"/>
                    </a:lnTo>
                    <a:lnTo>
                      <a:pt x="261" y="103"/>
                    </a:lnTo>
                    <a:lnTo>
                      <a:pt x="267" y="106"/>
                    </a:lnTo>
                    <a:lnTo>
                      <a:pt x="272" y="110"/>
                    </a:lnTo>
                    <a:lnTo>
                      <a:pt x="275" y="113"/>
                    </a:lnTo>
                    <a:lnTo>
                      <a:pt x="281" y="116"/>
                    </a:lnTo>
                    <a:lnTo>
                      <a:pt x="286" y="120"/>
                    </a:lnTo>
                    <a:lnTo>
                      <a:pt x="292" y="123"/>
                    </a:lnTo>
                    <a:lnTo>
                      <a:pt x="295" y="126"/>
                    </a:lnTo>
                    <a:lnTo>
                      <a:pt x="300" y="129"/>
                    </a:lnTo>
                    <a:lnTo>
                      <a:pt x="306" y="132"/>
                    </a:lnTo>
                    <a:lnTo>
                      <a:pt x="312" y="136"/>
                    </a:lnTo>
                    <a:lnTo>
                      <a:pt x="314" y="139"/>
                    </a:lnTo>
                    <a:lnTo>
                      <a:pt x="320" y="142"/>
                    </a:lnTo>
                    <a:lnTo>
                      <a:pt x="326" y="145"/>
                    </a:lnTo>
                    <a:lnTo>
                      <a:pt x="331" y="148"/>
                    </a:lnTo>
                    <a:lnTo>
                      <a:pt x="334" y="151"/>
                    </a:lnTo>
                    <a:lnTo>
                      <a:pt x="340" y="154"/>
                    </a:lnTo>
                    <a:lnTo>
                      <a:pt x="345" y="157"/>
                    </a:lnTo>
                    <a:lnTo>
                      <a:pt x="348" y="160"/>
                    </a:lnTo>
                    <a:lnTo>
                      <a:pt x="354" y="162"/>
                    </a:lnTo>
                    <a:lnTo>
                      <a:pt x="359" y="166"/>
                    </a:lnTo>
                    <a:lnTo>
                      <a:pt x="365" y="168"/>
                    </a:lnTo>
                    <a:lnTo>
                      <a:pt x="368" y="171"/>
                    </a:lnTo>
                    <a:lnTo>
                      <a:pt x="374" y="174"/>
                    </a:lnTo>
                    <a:lnTo>
                      <a:pt x="379" y="177"/>
                    </a:lnTo>
                    <a:lnTo>
                      <a:pt x="385" y="180"/>
                    </a:lnTo>
                    <a:lnTo>
                      <a:pt x="388" y="177"/>
                    </a:lnTo>
                    <a:lnTo>
                      <a:pt x="393" y="174"/>
                    </a:lnTo>
                    <a:lnTo>
                      <a:pt x="399" y="171"/>
                    </a:lnTo>
                    <a:lnTo>
                      <a:pt x="402" y="169"/>
                    </a:lnTo>
                    <a:lnTo>
                      <a:pt x="407" y="166"/>
                    </a:lnTo>
                    <a:lnTo>
                      <a:pt x="413" y="164"/>
                    </a:lnTo>
                    <a:lnTo>
                      <a:pt x="419" y="161"/>
                    </a:lnTo>
                    <a:lnTo>
                      <a:pt x="421" y="159"/>
                    </a:lnTo>
                    <a:lnTo>
                      <a:pt x="427" y="156"/>
                    </a:lnTo>
                    <a:lnTo>
                      <a:pt x="433" y="154"/>
                    </a:lnTo>
                    <a:lnTo>
                      <a:pt x="438" y="151"/>
                    </a:lnTo>
                    <a:lnTo>
                      <a:pt x="441" y="149"/>
                    </a:lnTo>
                    <a:lnTo>
                      <a:pt x="447" y="147"/>
                    </a:lnTo>
                    <a:lnTo>
                      <a:pt x="452" y="144"/>
                    </a:lnTo>
                    <a:lnTo>
                      <a:pt x="458" y="142"/>
                    </a:lnTo>
                    <a:lnTo>
                      <a:pt x="460" y="140"/>
                    </a:lnTo>
                    <a:lnTo>
                      <a:pt x="466" y="137"/>
                    </a:lnTo>
                    <a:lnTo>
                      <a:pt x="472" y="135"/>
                    </a:lnTo>
                    <a:lnTo>
                      <a:pt x="474" y="133"/>
                    </a:lnTo>
                    <a:lnTo>
                      <a:pt x="480" y="131"/>
                    </a:lnTo>
                    <a:lnTo>
                      <a:pt x="486" y="129"/>
                    </a:lnTo>
                    <a:lnTo>
                      <a:pt x="491" y="127"/>
                    </a:lnTo>
                    <a:lnTo>
                      <a:pt x="494" y="124"/>
                    </a:lnTo>
                    <a:lnTo>
                      <a:pt x="500" y="122"/>
                    </a:lnTo>
                    <a:lnTo>
                      <a:pt x="505" y="120"/>
                    </a:lnTo>
                    <a:lnTo>
                      <a:pt x="511" y="119"/>
                    </a:lnTo>
                    <a:lnTo>
                      <a:pt x="514" y="116"/>
                    </a:lnTo>
                    <a:lnTo>
                      <a:pt x="519" y="114"/>
                    </a:lnTo>
                    <a:lnTo>
                      <a:pt x="525" y="112"/>
                    </a:lnTo>
                    <a:lnTo>
                      <a:pt x="531" y="111"/>
                    </a:lnTo>
                    <a:lnTo>
                      <a:pt x="534" y="108"/>
                    </a:lnTo>
                    <a:lnTo>
                      <a:pt x="539" y="107"/>
                    </a:lnTo>
                    <a:lnTo>
                      <a:pt x="545" y="105"/>
                    </a:lnTo>
                    <a:lnTo>
                      <a:pt x="548" y="103"/>
                    </a:lnTo>
                    <a:lnTo>
                      <a:pt x="553" y="101"/>
                    </a:lnTo>
                    <a:lnTo>
                      <a:pt x="559" y="99"/>
                    </a:lnTo>
                    <a:lnTo>
                      <a:pt x="565" y="98"/>
                    </a:lnTo>
                    <a:lnTo>
                      <a:pt x="567" y="96"/>
                    </a:lnTo>
                    <a:lnTo>
                      <a:pt x="573" y="94"/>
                    </a:lnTo>
                    <a:lnTo>
                      <a:pt x="579" y="92"/>
                    </a:lnTo>
                    <a:lnTo>
                      <a:pt x="584" y="91"/>
                    </a:lnTo>
                    <a:lnTo>
                      <a:pt x="587" y="89"/>
                    </a:lnTo>
                    <a:lnTo>
                      <a:pt x="593" y="88"/>
                    </a:lnTo>
                    <a:lnTo>
                      <a:pt x="598" y="86"/>
                    </a:lnTo>
                    <a:lnTo>
                      <a:pt x="604" y="84"/>
                    </a:lnTo>
                    <a:lnTo>
                      <a:pt x="607" y="83"/>
                    </a:lnTo>
                    <a:lnTo>
                      <a:pt x="612" y="81"/>
                    </a:lnTo>
                    <a:lnTo>
                      <a:pt x="618" y="80"/>
                    </a:lnTo>
                    <a:lnTo>
                      <a:pt x="621" y="78"/>
                    </a:lnTo>
                    <a:lnTo>
                      <a:pt x="626" y="76"/>
                    </a:lnTo>
                    <a:lnTo>
                      <a:pt x="632" y="75"/>
                    </a:lnTo>
                    <a:lnTo>
                      <a:pt x="638" y="74"/>
                    </a:lnTo>
                    <a:lnTo>
                      <a:pt x="641" y="72"/>
                    </a:lnTo>
                    <a:lnTo>
                      <a:pt x="646" y="71"/>
                    </a:lnTo>
                    <a:lnTo>
                      <a:pt x="652" y="69"/>
                    </a:lnTo>
                    <a:lnTo>
                      <a:pt x="657" y="68"/>
                    </a:lnTo>
                    <a:lnTo>
                      <a:pt x="660" y="66"/>
                    </a:lnTo>
                    <a:lnTo>
                      <a:pt x="666" y="65"/>
                    </a:lnTo>
                    <a:lnTo>
                      <a:pt x="672" y="64"/>
                    </a:lnTo>
                    <a:lnTo>
                      <a:pt x="674" y="63"/>
                    </a:lnTo>
                    <a:lnTo>
                      <a:pt x="680" y="61"/>
                    </a:lnTo>
                    <a:lnTo>
                      <a:pt x="686" y="60"/>
                    </a:lnTo>
                    <a:lnTo>
                      <a:pt x="691" y="59"/>
                    </a:lnTo>
                    <a:lnTo>
                      <a:pt x="694" y="57"/>
                    </a:lnTo>
                    <a:lnTo>
                      <a:pt x="700" y="56"/>
                    </a:lnTo>
                    <a:lnTo>
                      <a:pt x="705" y="55"/>
                    </a:lnTo>
                    <a:lnTo>
                      <a:pt x="710" y="53"/>
                    </a:lnTo>
                    <a:lnTo>
                      <a:pt x="713" y="52"/>
                    </a:lnTo>
                    <a:lnTo>
                      <a:pt x="719" y="51"/>
                    </a:lnTo>
                    <a:lnTo>
                      <a:pt x="725" y="50"/>
                    </a:lnTo>
                    <a:lnTo>
                      <a:pt x="730" y="49"/>
                    </a:lnTo>
                    <a:lnTo>
                      <a:pt x="733" y="48"/>
                    </a:lnTo>
                    <a:lnTo>
                      <a:pt x="739" y="47"/>
                    </a:lnTo>
                    <a:lnTo>
                      <a:pt x="744" y="46"/>
                    </a:lnTo>
                    <a:lnTo>
                      <a:pt x="747" y="45"/>
                    </a:lnTo>
                    <a:lnTo>
                      <a:pt x="753" y="44"/>
                    </a:lnTo>
                    <a:lnTo>
                      <a:pt x="758" y="43"/>
                    </a:lnTo>
                    <a:lnTo>
                      <a:pt x="764" y="42"/>
                    </a:lnTo>
                    <a:lnTo>
                      <a:pt x="767" y="41"/>
                    </a:lnTo>
                    <a:lnTo>
                      <a:pt x="772" y="39"/>
                    </a:lnTo>
                    <a:lnTo>
                      <a:pt x="778" y="38"/>
                    </a:lnTo>
                    <a:lnTo>
                      <a:pt x="784" y="37"/>
                    </a:lnTo>
                    <a:lnTo>
                      <a:pt x="787" y="37"/>
                    </a:lnTo>
                    <a:lnTo>
                      <a:pt x="792" y="36"/>
                    </a:lnTo>
                    <a:lnTo>
                      <a:pt x="798" y="35"/>
                    </a:lnTo>
                    <a:lnTo>
                      <a:pt x="803" y="34"/>
                    </a:lnTo>
                    <a:lnTo>
                      <a:pt x="806" y="33"/>
                    </a:lnTo>
                    <a:lnTo>
                      <a:pt x="812" y="32"/>
                    </a:lnTo>
                    <a:lnTo>
                      <a:pt x="817" y="31"/>
                    </a:lnTo>
                    <a:lnTo>
                      <a:pt x="820" y="30"/>
                    </a:lnTo>
                    <a:lnTo>
                      <a:pt x="826" y="29"/>
                    </a:lnTo>
                    <a:lnTo>
                      <a:pt x="832" y="29"/>
                    </a:lnTo>
                    <a:lnTo>
                      <a:pt x="837" y="28"/>
                    </a:lnTo>
                    <a:lnTo>
                      <a:pt x="840" y="27"/>
                    </a:lnTo>
                    <a:lnTo>
                      <a:pt x="846" y="26"/>
                    </a:lnTo>
                    <a:lnTo>
                      <a:pt x="851" y="26"/>
                    </a:lnTo>
                    <a:lnTo>
                      <a:pt x="857" y="25"/>
                    </a:lnTo>
                    <a:lnTo>
                      <a:pt x="860" y="24"/>
                    </a:lnTo>
                    <a:lnTo>
                      <a:pt x="865" y="24"/>
                    </a:lnTo>
                    <a:lnTo>
                      <a:pt x="871" y="22"/>
                    </a:lnTo>
                    <a:lnTo>
                      <a:pt x="874" y="22"/>
                    </a:lnTo>
                    <a:lnTo>
                      <a:pt x="879" y="21"/>
                    </a:lnTo>
                    <a:lnTo>
                      <a:pt x="885" y="20"/>
                    </a:lnTo>
                    <a:lnTo>
                      <a:pt x="891" y="20"/>
                    </a:lnTo>
                    <a:lnTo>
                      <a:pt x="894" y="19"/>
                    </a:lnTo>
                    <a:lnTo>
                      <a:pt x="899" y="19"/>
                    </a:lnTo>
                    <a:lnTo>
                      <a:pt x="905" y="18"/>
                    </a:lnTo>
                    <a:lnTo>
                      <a:pt x="910" y="17"/>
                    </a:lnTo>
                    <a:lnTo>
                      <a:pt x="913" y="17"/>
                    </a:lnTo>
                    <a:lnTo>
                      <a:pt x="919" y="16"/>
                    </a:lnTo>
                    <a:lnTo>
                      <a:pt x="924" y="15"/>
                    </a:lnTo>
                    <a:lnTo>
                      <a:pt x="930" y="15"/>
                    </a:lnTo>
                    <a:lnTo>
                      <a:pt x="933" y="14"/>
                    </a:lnTo>
                    <a:lnTo>
                      <a:pt x="939" y="14"/>
                    </a:lnTo>
                    <a:lnTo>
                      <a:pt x="944" y="13"/>
                    </a:lnTo>
                    <a:lnTo>
                      <a:pt x="947" y="13"/>
                    </a:lnTo>
                    <a:lnTo>
                      <a:pt x="953" y="12"/>
                    </a:lnTo>
                    <a:lnTo>
                      <a:pt x="958" y="12"/>
                    </a:lnTo>
                    <a:lnTo>
                      <a:pt x="964" y="11"/>
                    </a:lnTo>
                    <a:lnTo>
                      <a:pt x="967" y="11"/>
                    </a:lnTo>
                    <a:lnTo>
                      <a:pt x="972" y="10"/>
                    </a:lnTo>
                    <a:lnTo>
                      <a:pt x="978" y="10"/>
                    </a:lnTo>
                    <a:lnTo>
                      <a:pt x="983" y="9"/>
                    </a:lnTo>
                    <a:lnTo>
                      <a:pt x="986" y="9"/>
                    </a:lnTo>
                    <a:lnTo>
                      <a:pt x="992" y="9"/>
                    </a:lnTo>
                    <a:lnTo>
                      <a:pt x="997" y="8"/>
                    </a:lnTo>
                    <a:lnTo>
                      <a:pt x="1003" y="7"/>
                    </a:lnTo>
                    <a:lnTo>
                      <a:pt x="1006" y="7"/>
                    </a:lnTo>
                    <a:lnTo>
                      <a:pt x="1011" y="7"/>
                    </a:lnTo>
                    <a:lnTo>
                      <a:pt x="1017" y="6"/>
                    </a:lnTo>
                    <a:lnTo>
                      <a:pt x="1020" y="6"/>
                    </a:lnTo>
                    <a:lnTo>
                      <a:pt x="1025" y="5"/>
                    </a:lnTo>
                    <a:lnTo>
                      <a:pt x="1031" y="5"/>
                    </a:lnTo>
                    <a:lnTo>
                      <a:pt x="1037" y="5"/>
                    </a:lnTo>
                    <a:lnTo>
                      <a:pt x="1039" y="5"/>
                    </a:lnTo>
                    <a:lnTo>
                      <a:pt x="1045" y="4"/>
                    </a:lnTo>
                    <a:lnTo>
                      <a:pt x="1051" y="4"/>
                    </a:lnTo>
                    <a:lnTo>
                      <a:pt x="1056" y="4"/>
                    </a:lnTo>
                    <a:lnTo>
                      <a:pt x="1059" y="3"/>
                    </a:lnTo>
                    <a:lnTo>
                      <a:pt x="1065" y="3"/>
                    </a:lnTo>
                    <a:lnTo>
                      <a:pt x="1070" y="3"/>
                    </a:lnTo>
                    <a:lnTo>
                      <a:pt x="1076" y="3"/>
                    </a:lnTo>
                    <a:lnTo>
                      <a:pt x="1079" y="2"/>
                    </a:lnTo>
                    <a:lnTo>
                      <a:pt x="1085" y="2"/>
                    </a:lnTo>
                    <a:lnTo>
                      <a:pt x="1090" y="2"/>
                    </a:lnTo>
                    <a:lnTo>
                      <a:pt x="1093" y="2"/>
                    </a:lnTo>
                    <a:lnTo>
                      <a:pt x="1099" y="2"/>
                    </a:lnTo>
                    <a:lnTo>
                      <a:pt x="1104" y="1"/>
                    </a:lnTo>
                    <a:lnTo>
                      <a:pt x="1110" y="1"/>
                    </a:lnTo>
                    <a:lnTo>
                      <a:pt x="1113" y="1"/>
                    </a:lnTo>
                    <a:lnTo>
                      <a:pt x="1118" y="0"/>
                    </a:lnTo>
                    <a:lnTo>
                      <a:pt x="1124" y="0"/>
                    </a:lnTo>
                    <a:lnTo>
                      <a:pt x="1130" y="0"/>
                    </a:lnTo>
                    <a:lnTo>
                      <a:pt x="1132" y="0"/>
                    </a:lnTo>
                    <a:lnTo>
                      <a:pt x="1138" y="0"/>
                    </a:lnTo>
                    <a:lnTo>
                      <a:pt x="1144" y="0"/>
                    </a:lnTo>
                    <a:lnTo>
                      <a:pt x="1146" y="0"/>
                    </a:lnTo>
                    <a:lnTo>
                      <a:pt x="1152" y="0"/>
                    </a:lnTo>
                    <a:lnTo>
                      <a:pt x="1158" y="0"/>
                    </a:lnTo>
                    <a:lnTo>
                      <a:pt x="1163" y="0"/>
                    </a:lnTo>
                    <a:lnTo>
                      <a:pt x="1166" y="0"/>
                    </a:lnTo>
                    <a:lnTo>
                      <a:pt x="1172" y="0"/>
                    </a:lnTo>
                    <a:lnTo>
                      <a:pt x="1177" y="0"/>
                    </a:lnTo>
                    <a:lnTo>
                      <a:pt x="1183" y="0"/>
                    </a:lnTo>
                    <a:lnTo>
                      <a:pt x="1186" y="0"/>
                    </a:lnTo>
                    <a:lnTo>
                      <a:pt x="1192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1836000" y="2678040"/>
                <a:ext cx="1922040" cy="335160"/>
                <a:chOff x="1836000" y="2678040"/>
                <a:chExt cx="1922040" cy="33516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1836000" y="2678040"/>
                  <a:ext cx="1668600" cy="335160"/>
                </a:xfrm>
                <a:custGeom>
                  <a:avLst/>
                  <a:gdLst/>
                  <a:ahLst/>
                  <a:rect l="l" t="t" r="r" b="b"/>
                  <a:pathLst>
                    <a:path w="1139" h="211">
                      <a:moveTo>
                        <a:pt x="0" y="210"/>
                      </a:moveTo>
                      <a:lnTo>
                        <a:pt x="6" y="210"/>
                      </a:lnTo>
                      <a:lnTo>
                        <a:pt x="9" y="210"/>
                      </a:lnTo>
                      <a:lnTo>
                        <a:pt x="15" y="209"/>
                      </a:lnTo>
                      <a:lnTo>
                        <a:pt x="18" y="209"/>
                      </a:lnTo>
                      <a:lnTo>
                        <a:pt x="25" y="209"/>
                      </a:lnTo>
                      <a:lnTo>
                        <a:pt x="28" y="209"/>
                      </a:lnTo>
                      <a:lnTo>
                        <a:pt x="34" y="209"/>
                      </a:lnTo>
                      <a:lnTo>
                        <a:pt x="37" y="209"/>
                      </a:lnTo>
                      <a:lnTo>
                        <a:pt x="41" y="209"/>
                      </a:lnTo>
                      <a:lnTo>
                        <a:pt x="47" y="208"/>
                      </a:lnTo>
                      <a:lnTo>
                        <a:pt x="50" y="208"/>
                      </a:lnTo>
                      <a:lnTo>
                        <a:pt x="56" y="208"/>
                      </a:lnTo>
                      <a:lnTo>
                        <a:pt x="60" y="208"/>
                      </a:lnTo>
                      <a:lnTo>
                        <a:pt x="66" y="207"/>
                      </a:lnTo>
                      <a:lnTo>
                        <a:pt x="69" y="207"/>
                      </a:lnTo>
                      <a:lnTo>
                        <a:pt x="75" y="207"/>
                      </a:lnTo>
                      <a:lnTo>
                        <a:pt x="78" y="206"/>
                      </a:lnTo>
                      <a:lnTo>
                        <a:pt x="82" y="206"/>
                      </a:lnTo>
                      <a:lnTo>
                        <a:pt x="88" y="206"/>
                      </a:lnTo>
                      <a:lnTo>
                        <a:pt x="91" y="206"/>
                      </a:lnTo>
                      <a:lnTo>
                        <a:pt x="97" y="205"/>
                      </a:lnTo>
                      <a:lnTo>
                        <a:pt x="101" y="205"/>
                      </a:lnTo>
                      <a:lnTo>
                        <a:pt x="107" y="204"/>
                      </a:lnTo>
                      <a:lnTo>
                        <a:pt x="110" y="204"/>
                      </a:lnTo>
                      <a:lnTo>
                        <a:pt x="116" y="203"/>
                      </a:lnTo>
                      <a:lnTo>
                        <a:pt x="120" y="203"/>
                      </a:lnTo>
                      <a:lnTo>
                        <a:pt x="123" y="202"/>
                      </a:lnTo>
                      <a:lnTo>
                        <a:pt x="129" y="202"/>
                      </a:lnTo>
                      <a:lnTo>
                        <a:pt x="132" y="202"/>
                      </a:lnTo>
                      <a:lnTo>
                        <a:pt x="138" y="201"/>
                      </a:lnTo>
                      <a:lnTo>
                        <a:pt x="142" y="200"/>
                      </a:lnTo>
                      <a:lnTo>
                        <a:pt x="148" y="200"/>
                      </a:lnTo>
                      <a:lnTo>
                        <a:pt x="151" y="199"/>
                      </a:lnTo>
                      <a:lnTo>
                        <a:pt x="157" y="198"/>
                      </a:lnTo>
                      <a:lnTo>
                        <a:pt x="161" y="198"/>
                      </a:lnTo>
                      <a:lnTo>
                        <a:pt x="164" y="198"/>
                      </a:lnTo>
                      <a:lnTo>
                        <a:pt x="170" y="197"/>
                      </a:lnTo>
                      <a:lnTo>
                        <a:pt x="173" y="196"/>
                      </a:lnTo>
                      <a:lnTo>
                        <a:pt x="180" y="195"/>
                      </a:lnTo>
                      <a:lnTo>
                        <a:pt x="183" y="194"/>
                      </a:lnTo>
                      <a:lnTo>
                        <a:pt x="189" y="194"/>
                      </a:lnTo>
                      <a:lnTo>
                        <a:pt x="192" y="193"/>
                      </a:lnTo>
                      <a:lnTo>
                        <a:pt x="198" y="192"/>
                      </a:lnTo>
                      <a:lnTo>
                        <a:pt x="202" y="191"/>
                      </a:lnTo>
                      <a:lnTo>
                        <a:pt x="205" y="190"/>
                      </a:lnTo>
                      <a:lnTo>
                        <a:pt x="211" y="190"/>
                      </a:lnTo>
                      <a:lnTo>
                        <a:pt x="214" y="189"/>
                      </a:lnTo>
                      <a:lnTo>
                        <a:pt x="220" y="188"/>
                      </a:lnTo>
                      <a:lnTo>
                        <a:pt x="223" y="187"/>
                      </a:lnTo>
                      <a:lnTo>
                        <a:pt x="230" y="186"/>
                      </a:lnTo>
                      <a:lnTo>
                        <a:pt x="233" y="185"/>
                      </a:lnTo>
                      <a:lnTo>
                        <a:pt x="236" y="184"/>
                      </a:lnTo>
                      <a:lnTo>
                        <a:pt x="242" y="183"/>
                      </a:lnTo>
                      <a:lnTo>
                        <a:pt x="245" y="183"/>
                      </a:lnTo>
                      <a:lnTo>
                        <a:pt x="252" y="181"/>
                      </a:lnTo>
                      <a:lnTo>
                        <a:pt x="255" y="180"/>
                      </a:lnTo>
                      <a:lnTo>
                        <a:pt x="261" y="179"/>
                      </a:lnTo>
                      <a:lnTo>
                        <a:pt x="264" y="178"/>
                      </a:lnTo>
                      <a:lnTo>
                        <a:pt x="271" y="177"/>
                      </a:lnTo>
                      <a:lnTo>
                        <a:pt x="274" y="176"/>
                      </a:lnTo>
                      <a:lnTo>
                        <a:pt x="277" y="175"/>
                      </a:lnTo>
                      <a:lnTo>
                        <a:pt x="283" y="174"/>
                      </a:lnTo>
                      <a:lnTo>
                        <a:pt x="286" y="172"/>
                      </a:lnTo>
                      <a:lnTo>
                        <a:pt x="293" y="171"/>
                      </a:lnTo>
                      <a:lnTo>
                        <a:pt x="296" y="170"/>
                      </a:lnTo>
                      <a:lnTo>
                        <a:pt x="302" y="169"/>
                      </a:lnTo>
                      <a:lnTo>
                        <a:pt x="305" y="168"/>
                      </a:lnTo>
                      <a:lnTo>
                        <a:pt x="312" y="167"/>
                      </a:lnTo>
                      <a:lnTo>
                        <a:pt x="315" y="165"/>
                      </a:lnTo>
                      <a:lnTo>
                        <a:pt x="318" y="164"/>
                      </a:lnTo>
                      <a:lnTo>
                        <a:pt x="324" y="163"/>
                      </a:lnTo>
                      <a:lnTo>
                        <a:pt x="327" y="161"/>
                      </a:lnTo>
                      <a:lnTo>
                        <a:pt x="334" y="160"/>
                      </a:lnTo>
                      <a:lnTo>
                        <a:pt x="337" y="159"/>
                      </a:lnTo>
                      <a:lnTo>
                        <a:pt x="343" y="157"/>
                      </a:lnTo>
                      <a:lnTo>
                        <a:pt x="346" y="156"/>
                      </a:lnTo>
                      <a:lnTo>
                        <a:pt x="353" y="154"/>
                      </a:lnTo>
                      <a:lnTo>
                        <a:pt x="356" y="152"/>
                      </a:lnTo>
                      <a:lnTo>
                        <a:pt x="359" y="152"/>
                      </a:lnTo>
                      <a:lnTo>
                        <a:pt x="365" y="150"/>
                      </a:lnTo>
                      <a:lnTo>
                        <a:pt x="368" y="148"/>
                      </a:lnTo>
                      <a:lnTo>
                        <a:pt x="375" y="147"/>
                      </a:lnTo>
                      <a:lnTo>
                        <a:pt x="378" y="145"/>
                      </a:lnTo>
                      <a:lnTo>
                        <a:pt x="384" y="144"/>
                      </a:lnTo>
                      <a:lnTo>
                        <a:pt x="387" y="142"/>
                      </a:lnTo>
                      <a:lnTo>
                        <a:pt x="394" y="141"/>
                      </a:lnTo>
                      <a:lnTo>
                        <a:pt x="397" y="139"/>
                      </a:lnTo>
                      <a:lnTo>
                        <a:pt x="400" y="137"/>
                      </a:lnTo>
                      <a:lnTo>
                        <a:pt x="406" y="136"/>
                      </a:lnTo>
                      <a:lnTo>
                        <a:pt x="410" y="134"/>
                      </a:lnTo>
                      <a:lnTo>
                        <a:pt x="416" y="133"/>
                      </a:lnTo>
                      <a:lnTo>
                        <a:pt x="419" y="131"/>
                      </a:lnTo>
                      <a:lnTo>
                        <a:pt x="425" y="129"/>
                      </a:lnTo>
                      <a:lnTo>
                        <a:pt x="428" y="127"/>
                      </a:lnTo>
                      <a:lnTo>
                        <a:pt x="435" y="126"/>
                      </a:lnTo>
                      <a:lnTo>
                        <a:pt x="438" y="124"/>
                      </a:lnTo>
                      <a:lnTo>
                        <a:pt x="441" y="122"/>
                      </a:lnTo>
                      <a:lnTo>
                        <a:pt x="447" y="120"/>
                      </a:lnTo>
                      <a:lnTo>
                        <a:pt x="451" y="118"/>
                      </a:lnTo>
                      <a:lnTo>
                        <a:pt x="457" y="117"/>
                      </a:lnTo>
                      <a:lnTo>
                        <a:pt x="460" y="115"/>
                      </a:lnTo>
                      <a:lnTo>
                        <a:pt x="466" y="113"/>
                      </a:lnTo>
                      <a:lnTo>
                        <a:pt x="470" y="111"/>
                      </a:lnTo>
                      <a:lnTo>
                        <a:pt x="476" y="110"/>
                      </a:lnTo>
                      <a:lnTo>
                        <a:pt x="479" y="107"/>
                      </a:lnTo>
                      <a:lnTo>
                        <a:pt x="482" y="106"/>
                      </a:lnTo>
                      <a:lnTo>
                        <a:pt x="488" y="103"/>
                      </a:lnTo>
                      <a:lnTo>
                        <a:pt x="492" y="102"/>
                      </a:lnTo>
                      <a:lnTo>
                        <a:pt x="498" y="100"/>
                      </a:lnTo>
                      <a:lnTo>
                        <a:pt x="501" y="98"/>
                      </a:lnTo>
                      <a:lnTo>
                        <a:pt x="507" y="96"/>
                      </a:lnTo>
                      <a:lnTo>
                        <a:pt x="510" y="94"/>
                      </a:lnTo>
                      <a:lnTo>
                        <a:pt x="516" y="92"/>
                      </a:lnTo>
                      <a:lnTo>
                        <a:pt x="520" y="90"/>
                      </a:lnTo>
                      <a:lnTo>
                        <a:pt x="523" y="88"/>
                      </a:lnTo>
                      <a:lnTo>
                        <a:pt x="529" y="86"/>
                      </a:lnTo>
                      <a:lnTo>
                        <a:pt x="532" y="84"/>
                      </a:lnTo>
                      <a:lnTo>
                        <a:pt x="538" y="82"/>
                      </a:lnTo>
                      <a:lnTo>
                        <a:pt x="542" y="80"/>
                      </a:lnTo>
                      <a:lnTo>
                        <a:pt x="548" y="78"/>
                      </a:lnTo>
                      <a:lnTo>
                        <a:pt x="551" y="76"/>
                      </a:lnTo>
                      <a:lnTo>
                        <a:pt x="557" y="74"/>
                      </a:lnTo>
                      <a:lnTo>
                        <a:pt x="561" y="72"/>
                      </a:lnTo>
                      <a:lnTo>
                        <a:pt x="564" y="70"/>
                      </a:lnTo>
                      <a:lnTo>
                        <a:pt x="570" y="68"/>
                      </a:lnTo>
                      <a:lnTo>
                        <a:pt x="573" y="66"/>
                      </a:lnTo>
                      <a:lnTo>
                        <a:pt x="580" y="64"/>
                      </a:lnTo>
                      <a:lnTo>
                        <a:pt x="583" y="62"/>
                      </a:lnTo>
                      <a:lnTo>
                        <a:pt x="589" y="60"/>
                      </a:lnTo>
                      <a:lnTo>
                        <a:pt x="592" y="58"/>
                      </a:lnTo>
                      <a:lnTo>
                        <a:pt x="599" y="56"/>
                      </a:lnTo>
                      <a:lnTo>
                        <a:pt x="602" y="54"/>
                      </a:lnTo>
                      <a:lnTo>
                        <a:pt x="605" y="52"/>
                      </a:lnTo>
                      <a:lnTo>
                        <a:pt x="611" y="50"/>
                      </a:lnTo>
                      <a:lnTo>
                        <a:pt x="614" y="48"/>
                      </a:lnTo>
                      <a:lnTo>
                        <a:pt x="621" y="46"/>
                      </a:lnTo>
                      <a:lnTo>
                        <a:pt x="624" y="44"/>
                      </a:lnTo>
                      <a:lnTo>
                        <a:pt x="630" y="42"/>
                      </a:lnTo>
                      <a:lnTo>
                        <a:pt x="633" y="40"/>
                      </a:lnTo>
                      <a:lnTo>
                        <a:pt x="640" y="38"/>
                      </a:lnTo>
                      <a:lnTo>
                        <a:pt x="643" y="37"/>
                      </a:lnTo>
                      <a:lnTo>
                        <a:pt x="646" y="34"/>
                      </a:lnTo>
                      <a:lnTo>
                        <a:pt x="652" y="33"/>
                      </a:lnTo>
                      <a:lnTo>
                        <a:pt x="655" y="31"/>
                      </a:lnTo>
                      <a:lnTo>
                        <a:pt x="662" y="29"/>
                      </a:lnTo>
                      <a:lnTo>
                        <a:pt x="665" y="27"/>
                      </a:lnTo>
                      <a:lnTo>
                        <a:pt x="671" y="26"/>
                      </a:lnTo>
                      <a:lnTo>
                        <a:pt x="674" y="24"/>
                      </a:lnTo>
                      <a:lnTo>
                        <a:pt x="681" y="22"/>
                      </a:lnTo>
                      <a:lnTo>
                        <a:pt x="684" y="21"/>
                      </a:lnTo>
                      <a:lnTo>
                        <a:pt x="687" y="19"/>
                      </a:lnTo>
                      <a:lnTo>
                        <a:pt x="693" y="18"/>
                      </a:lnTo>
                      <a:lnTo>
                        <a:pt x="696" y="16"/>
                      </a:lnTo>
                      <a:lnTo>
                        <a:pt x="703" y="15"/>
                      </a:lnTo>
                      <a:lnTo>
                        <a:pt x="706" y="13"/>
                      </a:lnTo>
                      <a:lnTo>
                        <a:pt x="712" y="12"/>
                      </a:lnTo>
                      <a:lnTo>
                        <a:pt x="715" y="11"/>
                      </a:lnTo>
                      <a:lnTo>
                        <a:pt x="719" y="9"/>
                      </a:lnTo>
                      <a:lnTo>
                        <a:pt x="725" y="8"/>
                      </a:lnTo>
                      <a:lnTo>
                        <a:pt x="728" y="7"/>
                      </a:lnTo>
                      <a:lnTo>
                        <a:pt x="734" y="6"/>
                      </a:lnTo>
                      <a:lnTo>
                        <a:pt x="737" y="5"/>
                      </a:lnTo>
                      <a:lnTo>
                        <a:pt x="744" y="4"/>
                      </a:lnTo>
                      <a:lnTo>
                        <a:pt x="747" y="3"/>
                      </a:lnTo>
                      <a:lnTo>
                        <a:pt x="753" y="3"/>
                      </a:lnTo>
                      <a:lnTo>
                        <a:pt x="756" y="2"/>
                      </a:lnTo>
                      <a:lnTo>
                        <a:pt x="760" y="1"/>
                      </a:lnTo>
                      <a:lnTo>
                        <a:pt x="766" y="0"/>
                      </a:lnTo>
                      <a:lnTo>
                        <a:pt x="769" y="0"/>
                      </a:lnTo>
                      <a:lnTo>
                        <a:pt x="775" y="0"/>
                      </a:lnTo>
                      <a:lnTo>
                        <a:pt x="779" y="0"/>
                      </a:lnTo>
                      <a:lnTo>
                        <a:pt x="785" y="0"/>
                      </a:lnTo>
                      <a:lnTo>
                        <a:pt x="788" y="0"/>
                      </a:lnTo>
                      <a:lnTo>
                        <a:pt x="794" y="0"/>
                      </a:lnTo>
                      <a:lnTo>
                        <a:pt x="797" y="0"/>
                      </a:lnTo>
                      <a:lnTo>
                        <a:pt x="800" y="0"/>
                      </a:lnTo>
                      <a:lnTo>
                        <a:pt x="806" y="0"/>
                      </a:lnTo>
                      <a:lnTo>
                        <a:pt x="810" y="0"/>
                      </a:lnTo>
                      <a:lnTo>
                        <a:pt x="816" y="1"/>
                      </a:lnTo>
                      <a:lnTo>
                        <a:pt x="819" y="2"/>
                      </a:lnTo>
                      <a:lnTo>
                        <a:pt x="825" y="3"/>
                      </a:lnTo>
                      <a:lnTo>
                        <a:pt x="829" y="4"/>
                      </a:lnTo>
                      <a:lnTo>
                        <a:pt x="835" y="5"/>
                      </a:lnTo>
                      <a:lnTo>
                        <a:pt x="838" y="7"/>
                      </a:lnTo>
                      <a:lnTo>
                        <a:pt x="841" y="7"/>
                      </a:lnTo>
                      <a:lnTo>
                        <a:pt x="847" y="9"/>
                      </a:lnTo>
                      <a:lnTo>
                        <a:pt x="851" y="11"/>
                      </a:lnTo>
                      <a:lnTo>
                        <a:pt x="857" y="13"/>
                      </a:lnTo>
                      <a:lnTo>
                        <a:pt x="860" y="15"/>
                      </a:lnTo>
                      <a:lnTo>
                        <a:pt x="866" y="17"/>
                      </a:lnTo>
                      <a:lnTo>
                        <a:pt x="870" y="19"/>
                      </a:lnTo>
                      <a:lnTo>
                        <a:pt x="876" y="22"/>
                      </a:lnTo>
                      <a:lnTo>
                        <a:pt x="879" y="25"/>
                      </a:lnTo>
                      <a:lnTo>
                        <a:pt x="882" y="27"/>
                      </a:lnTo>
                      <a:lnTo>
                        <a:pt x="889" y="30"/>
                      </a:lnTo>
                      <a:lnTo>
                        <a:pt x="892" y="34"/>
                      </a:lnTo>
                      <a:lnTo>
                        <a:pt x="898" y="37"/>
                      </a:lnTo>
                      <a:lnTo>
                        <a:pt x="901" y="40"/>
                      </a:lnTo>
                      <a:lnTo>
                        <a:pt x="907" y="44"/>
                      </a:lnTo>
                      <a:lnTo>
                        <a:pt x="911" y="47"/>
                      </a:lnTo>
                      <a:lnTo>
                        <a:pt x="917" y="51"/>
                      </a:lnTo>
                      <a:lnTo>
                        <a:pt x="920" y="56"/>
                      </a:lnTo>
                      <a:lnTo>
                        <a:pt x="923" y="60"/>
                      </a:lnTo>
                      <a:lnTo>
                        <a:pt x="930" y="64"/>
                      </a:lnTo>
                      <a:lnTo>
                        <a:pt x="933" y="68"/>
                      </a:lnTo>
                      <a:lnTo>
                        <a:pt x="939" y="73"/>
                      </a:lnTo>
                      <a:lnTo>
                        <a:pt x="942" y="78"/>
                      </a:lnTo>
                      <a:lnTo>
                        <a:pt x="949" y="83"/>
                      </a:lnTo>
                      <a:lnTo>
                        <a:pt x="952" y="87"/>
                      </a:lnTo>
                      <a:lnTo>
                        <a:pt x="958" y="93"/>
                      </a:lnTo>
                      <a:lnTo>
                        <a:pt x="961" y="99"/>
                      </a:lnTo>
                      <a:lnTo>
                        <a:pt x="964" y="103"/>
                      </a:lnTo>
                      <a:lnTo>
                        <a:pt x="971" y="109"/>
                      </a:lnTo>
                      <a:lnTo>
                        <a:pt x="974" y="114"/>
                      </a:lnTo>
                      <a:lnTo>
                        <a:pt x="980" y="120"/>
                      </a:lnTo>
                      <a:lnTo>
                        <a:pt x="983" y="126"/>
                      </a:lnTo>
                      <a:lnTo>
                        <a:pt x="990" y="131"/>
                      </a:lnTo>
                      <a:lnTo>
                        <a:pt x="993" y="137"/>
                      </a:lnTo>
                      <a:lnTo>
                        <a:pt x="999" y="143"/>
                      </a:lnTo>
                      <a:lnTo>
                        <a:pt x="1002" y="148"/>
                      </a:lnTo>
                      <a:lnTo>
                        <a:pt x="1005" y="154"/>
                      </a:lnTo>
                      <a:lnTo>
                        <a:pt x="1012" y="160"/>
                      </a:lnTo>
                      <a:lnTo>
                        <a:pt x="1015" y="165"/>
                      </a:lnTo>
                      <a:lnTo>
                        <a:pt x="1021" y="171"/>
                      </a:lnTo>
                      <a:lnTo>
                        <a:pt x="1024" y="175"/>
                      </a:lnTo>
                      <a:lnTo>
                        <a:pt x="1031" y="181"/>
                      </a:lnTo>
                      <a:lnTo>
                        <a:pt x="1034" y="186"/>
                      </a:lnTo>
                      <a:lnTo>
                        <a:pt x="1040" y="190"/>
                      </a:lnTo>
                      <a:lnTo>
                        <a:pt x="1043" y="194"/>
                      </a:lnTo>
                      <a:lnTo>
                        <a:pt x="1046" y="198"/>
                      </a:lnTo>
                      <a:lnTo>
                        <a:pt x="1053" y="202"/>
                      </a:lnTo>
                      <a:lnTo>
                        <a:pt x="1056" y="204"/>
                      </a:lnTo>
                      <a:lnTo>
                        <a:pt x="1062" y="206"/>
                      </a:lnTo>
                      <a:lnTo>
                        <a:pt x="1065" y="208"/>
                      </a:lnTo>
                      <a:lnTo>
                        <a:pt x="1072" y="209"/>
                      </a:lnTo>
                      <a:lnTo>
                        <a:pt x="1075" y="209"/>
                      </a:lnTo>
                      <a:lnTo>
                        <a:pt x="1081" y="208"/>
                      </a:lnTo>
                      <a:lnTo>
                        <a:pt x="1084" y="206"/>
                      </a:lnTo>
                      <a:lnTo>
                        <a:pt x="1087" y="203"/>
                      </a:lnTo>
                      <a:lnTo>
                        <a:pt x="1094" y="198"/>
                      </a:lnTo>
                      <a:lnTo>
                        <a:pt x="1096" y="192"/>
                      </a:lnTo>
                      <a:lnTo>
                        <a:pt x="1103" y="184"/>
                      </a:lnTo>
                      <a:lnTo>
                        <a:pt x="1106" y="174"/>
                      </a:lnTo>
                      <a:lnTo>
                        <a:pt x="1112" y="162"/>
                      </a:lnTo>
                      <a:lnTo>
                        <a:pt x="1115" y="148"/>
                      </a:lnTo>
                      <a:lnTo>
                        <a:pt x="1122" y="130"/>
                      </a:lnTo>
                      <a:lnTo>
                        <a:pt x="1125" y="110"/>
                      </a:lnTo>
                      <a:lnTo>
                        <a:pt x="1128" y="88"/>
                      </a:lnTo>
                      <a:lnTo>
                        <a:pt x="1134" y="65"/>
                      </a:lnTo>
                      <a:lnTo>
                        <a:pt x="1138" y="40"/>
                      </a:lnTo>
                    </a:path>
                  </a:pathLst>
                </a:custGeom>
                <a:noFill/>
                <a:ln cap="rnd" w="255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503520" y="2689200"/>
                  <a:ext cx="254520" cy="228600"/>
                </a:xfrm>
                <a:custGeom>
                  <a:avLst/>
                  <a:gdLst/>
                  <a:ahLst/>
                  <a:rect l="l" t="t" r="r" b="b"/>
                  <a:pathLst>
                    <a:path w="174" h="144">
                      <a:moveTo>
                        <a:pt x="0" y="56"/>
                      </a:moveTo>
                      <a:lnTo>
                        <a:pt x="0" y="18"/>
                      </a:lnTo>
                      <a:lnTo>
                        <a:pt x="40" y="0"/>
                      </a:lnTo>
                      <a:lnTo>
                        <a:pt x="79" y="0"/>
                      </a:lnTo>
                      <a:lnTo>
                        <a:pt x="105" y="29"/>
                      </a:lnTo>
                      <a:lnTo>
                        <a:pt x="132" y="56"/>
                      </a:lnTo>
                      <a:lnTo>
                        <a:pt x="146" y="86"/>
                      </a:lnTo>
                      <a:lnTo>
                        <a:pt x="160" y="113"/>
                      </a:lnTo>
                      <a:lnTo>
                        <a:pt x="173" y="143"/>
                      </a:lnTo>
                    </a:path>
                  </a:pathLst>
                </a:custGeom>
                <a:noFill/>
                <a:ln cap="rnd" w="255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0" name=""/>
              <p:cNvSpPr/>
              <p:nvPr/>
            </p:nvSpPr>
            <p:spPr>
              <a:xfrm>
                <a:off x="3758400" y="2925720"/>
                <a:ext cx="659160" cy="132228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1815840" y="4287960"/>
              <a:ext cx="548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1816920" y="1929960"/>
              <a:ext cx="0" cy="235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28560" y="427824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83000" y="4294080"/>
              <a:ext cx="32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172200" y="425304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818360" y="3032280"/>
              <a:ext cx="1937160" cy="288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18360" y="2649600"/>
              <a:ext cx="1937160" cy="324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827360" y="2573280"/>
              <a:ext cx="1925280" cy="6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25920" y="3046320"/>
              <a:ext cx="1931040" cy="6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299480" y="3970440"/>
              <a:ext cx="1874160" cy="324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299480" y="3897360"/>
              <a:ext cx="1870920" cy="60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3760200" y="3073320"/>
              <a:ext cx="1440" cy="1214640"/>
            </a:xfrm>
            <a:prstGeom prst="line">
              <a:avLst/>
            </a:prstGeom>
            <a:ln w="12600">
              <a:solidFill>
                <a:srgbClr val="99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4293360" y="3073320"/>
              <a:ext cx="1440" cy="1214640"/>
            </a:xfrm>
            <a:prstGeom prst="line">
              <a:avLst/>
            </a:prstGeom>
            <a:ln w="12600">
              <a:solidFill>
                <a:srgbClr val="99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120920" y="4303800"/>
              <a:ext cx="369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hr-HR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77680" y="4294080"/>
              <a:ext cx="383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hr-HR" sz="1600" spc="-1" strike="noStrike" baseline="-25000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778760" y="3976560"/>
              <a:ext cx="73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487520" y="3772080"/>
              <a:ext cx="169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1778760" y="2836800"/>
              <a:ext cx="73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75640" y="247644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07560" y="1795320"/>
              <a:ext cx="75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r>
                <a:rPr b="0" i="1" lang="hr-HR" sz="1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hr-HR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hr-HR" sz="16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hr-HR" sz="16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hr-HR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hr-HR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hr-HR" sz="18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1" name=""/>
                <p:cNvSpPr txBox="1"/>
                <p:nvPr/>
              </p:nvSpPr>
              <p:spPr>
                <a:xfrm>
                  <a:off x="1540440" y="3787920"/>
                  <a:ext cx="1551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1220760" y="2851200"/>
                  <a:ext cx="5349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3" name=""/>
          <p:cNvGrpSpPr/>
          <p:nvPr/>
        </p:nvGrpSpPr>
        <p:grpSpPr>
          <a:xfrm>
            <a:off x="299160" y="4857840"/>
            <a:ext cx="8620560" cy="1523880"/>
            <a:chOff x="299160" y="4857840"/>
            <a:chExt cx="8620560" cy="1523880"/>
          </a:xfrm>
        </p:grpSpPr>
        <p:sp>
          <p:nvSpPr>
            <p:cNvPr id="974" name=""/>
            <p:cNvSpPr/>
            <p:nvPr/>
          </p:nvSpPr>
          <p:spPr>
            <a:xfrm>
              <a:off x="381240" y="4857840"/>
              <a:ext cx="6111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Times New Roman"/>
                </a:rPr>
                <a:t>Maksimalna vrijednost amplitudne karakteristike je jedan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9160" y="5049720"/>
              <a:ext cx="862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aksimalna devijacija u propusnom pojasu je                 , te maksimalno gušenje 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ropusnom pojasu iznosi                                                  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6" name=""/>
                <p:cNvSpPr txBox="1"/>
                <p:nvPr/>
              </p:nvSpPr>
              <p:spPr>
                <a:xfrm>
                  <a:off x="5286240" y="5445000"/>
                  <a:ext cx="798480" cy="2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7" name=""/>
                <p:cNvSpPr txBox="1"/>
                <p:nvPr/>
              </p:nvSpPr>
              <p:spPr>
                <a:xfrm>
                  <a:off x="3117960" y="5827680"/>
                  <a:ext cx="274932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8" name=""/>
          <p:cNvSpPr/>
          <p:nvPr/>
        </p:nvSpPr>
        <p:spPr>
          <a:xfrm>
            <a:off x="381240" y="6381720"/>
            <a:ext cx="649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Maksimum amplitudne karakteristike u pojasu gušenja je 1/</a:t>
            </a:r>
            <a:r>
              <a:rPr b="0" i="1" lang="hr-HR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040" y="29905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PRIMJER 2. </a:t>
            </a:r>
            <a:r>
              <a:rPr b="0" i="1" lang="hr-HR" sz="4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–</a:t>
            </a: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d60093"/>
                </a:solidFill>
                <a:latin typeface="Times New Roman"/>
              </a:rPr>
              <a:t>MATLAB</a:t>
            </a: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hr-HR" sz="4400" spc="-1" strike="noStrike">
                <a:solidFill>
                  <a:srgbClr val="00cccc"/>
                </a:solidFill>
                <a:latin typeface="Times New Roman"/>
              </a:rPr>
              <a:t>filtdemo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Prijenosna funkcija (IIR)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0" y="3565440"/>
                <a:ext cx="91328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Prijenosna funkcija (FIR)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1022400" y="3651120"/>
                <a:ext cx="22543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984" name=""/>
          <p:cNvGraphicFramePr/>
          <p:nvPr/>
        </p:nvGraphicFramePr>
        <p:xfrm>
          <a:off x="4502160" y="2165400"/>
          <a:ext cx="131292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2160" y="2165400"/>
                    <a:ext cx="131292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"/>
          <p:cNvGraphicFramePr/>
          <p:nvPr/>
        </p:nvGraphicFramePr>
        <p:xfrm>
          <a:off x="5810400" y="2117880"/>
          <a:ext cx="1990440" cy="4381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0400" y="2117880"/>
                    <a:ext cx="1990440" cy="43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8" name=""/>
          <p:cNvGraphicFramePr/>
          <p:nvPr/>
        </p:nvGraphicFramePr>
        <p:xfrm>
          <a:off x="7265880" y="2076480"/>
          <a:ext cx="1422360" cy="436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65880" y="2076480"/>
                    <a:ext cx="14223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666720" y="1301760"/>
            <a:ext cx="354960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111744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67148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221760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277164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331776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387180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117440" y="36576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117440" y="334656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117440" y="30416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117440" y="27306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117440" y="24192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117440" y="210816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117440" y="18032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117440" y="14922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117440" y="1492200"/>
            <a:ext cx="2756160" cy="2166840"/>
          </a:xfrm>
          <a:custGeom>
            <a:avLst/>
            <a:gdLst/>
            <a:ahLst/>
            <a:rect l="l" t="t" r="r" b="b"/>
            <a:pathLst>
              <a:path w="1880" h="1365">
                <a:moveTo>
                  <a:pt x="0" y="1364"/>
                </a:moveTo>
                <a:lnTo>
                  <a:pt x="0" y="0"/>
                </a:lnTo>
                <a:lnTo>
                  <a:pt x="18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117440" y="1492200"/>
            <a:ext cx="2756160" cy="2166840"/>
          </a:xfrm>
          <a:custGeom>
            <a:avLst/>
            <a:gdLst/>
            <a:ahLst/>
            <a:rect l="l" t="t" r="r" b="b"/>
            <a:pathLst>
              <a:path w="1880" h="1365">
                <a:moveTo>
                  <a:pt x="0" y="1364"/>
                </a:moveTo>
                <a:lnTo>
                  <a:pt x="0" y="0"/>
                </a:lnTo>
                <a:lnTo>
                  <a:pt x="18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117440" y="1492200"/>
            <a:ext cx="2756160" cy="2166840"/>
          </a:xfrm>
          <a:custGeom>
            <a:avLst/>
            <a:gdLst/>
            <a:ahLst/>
            <a:rect l="l" t="t" r="r" b="b"/>
            <a:pathLst>
              <a:path w="1880" h="1365">
                <a:moveTo>
                  <a:pt x="0" y="1364"/>
                </a:moveTo>
                <a:lnTo>
                  <a:pt x="0" y="0"/>
                </a:lnTo>
                <a:lnTo>
                  <a:pt x="18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117440" y="36576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117440" y="14922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11744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387180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117440" y="1492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871800" y="3657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117440" y="36576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111744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117440" y="3657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1117440" y="363168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117440" y="149220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990360" y="3637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671480" y="363168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671480" y="149220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496520" y="363708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2217600" y="363168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217600" y="149220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042640" y="363708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2771640" y="363168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71640" y="149220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596680" y="363708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3317760" y="363168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17760" y="149220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143520" y="363708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871800" y="363168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71800" y="149220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696840" y="363708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117440" y="3657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3846600" y="365760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81920" y="3554280"/>
            <a:ext cx="38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2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117440" y="334656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846600" y="334656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81920" y="3243240"/>
            <a:ext cx="38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117440" y="3041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846600" y="30416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41680" y="29383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17440" y="2730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3846600" y="273060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41680" y="262728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117440" y="2419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846600" y="241920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41680" y="231624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117440" y="210816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3846600" y="210816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41680" y="200484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117440" y="1803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3846600" y="18032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33480" y="1700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117440" y="1492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3846600" y="149220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73720" y="13892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117440" y="36576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117440" y="14922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111744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387180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117440" y="3657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871800" y="1492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117440" y="1803240"/>
            <a:ext cx="2749680" cy="1824120"/>
          </a:xfrm>
          <a:custGeom>
            <a:avLst/>
            <a:gdLst/>
            <a:ahLst/>
            <a:rect l="l" t="t" r="r" b="b"/>
            <a:pathLst>
              <a:path w="1876" h="1149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7" y="0"/>
                </a:lnTo>
                <a:lnTo>
                  <a:pt x="21" y="0"/>
                </a:lnTo>
                <a:lnTo>
                  <a:pt x="25" y="0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3" y="0"/>
                </a:lnTo>
                <a:lnTo>
                  <a:pt x="47" y="0"/>
                </a:lnTo>
                <a:lnTo>
                  <a:pt x="51" y="0"/>
                </a:lnTo>
                <a:lnTo>
                  <a:pt x="56" y="0"/>
                </a:lnTo>
                <a:lnTo>
                  <a:pt x="60" y="0"/>
                </a:lnTo>
                <a:lnTo>
                  <a:pt x="64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2" y="0"/>
                </a:lnTo>
                <a:lnTo>
                  <a:pt x="86" y="0"/>
                </a:lnTo>
                <a:lnTo>
                  <a:pt x="90" y="0"/>
                </a:lnTo>
                <a:lnTo>
                  <a:pt x="96" y="0"/>
                </a:lnTo>
                <a:lnTo>
                  <a:pt x="100" y="0"/>
                </a:lnTo>
                <a:lnTo>
                  <a:pt x="105" y="0"/>
                </a:lnTo>
                <a:lnTo>
                  <a:pt x="109" y="0"/>
                </a:lnTo>
                <a:lnTo>
                  <a:pt x="113" y="0"/>
                </a:lnTo>
                <a:lnTo>
                  <a:pt x="118" y="0"/>
                </a:lnTo>
                <a:lnTo>
                  <a:pt x="122" y="0"/>
                </a:lnTo>
                <a:lnTo>
                  <a:pt x="126" y="0"/>
                </a:lnTo>
                <a:lnTo>
                  <a:pt x="131" y="0"/>
                </a:lnTo>
                <a:lnTo>
                  <a:pt x="135" y="0"/>
                </a:lnTo>
                <a:lnTo>
                  <a:pt x="139" y="0"/>
                </a:lnTo>
                <a:lnTo>
                  <a:pt x="144" y="0"/>
                </a:lnTo>
                <a:lnTo>
                  <a:pt x="148" y="0"/>
                </a:lnTo>
                <a:lnTo>
                  <a:pt x="152" y="0"/>
                </a:lnTo>
                <a:lnTo>
                  <a:pt x="157" y="0"/>
                </a:lnTo>
                <a:lnTo>
                  <a:pt x="161" y="0"/>
                </a:lnTo>
                <a:lnTo>
                  <a:pt x="165" y="0"/>
                </a:lnTo>
                <a:lnTo>
                  <a:pt x="170" y="0"/>
                </a:lnTo>
                <a:lnTo>
                  <a:pt x="174" y="0"/>
                </a:lnTo>
                <a:lnTo>
                  <a:pt x="178" y="0"/>
                </a:lnTo>
                <a:lnTo>
                  <a:pt x="183" y="0"/>
                </a:lnTo>
                <a:lnTo>
                  <a:pt x="187" y="0"/>
                </a:lnTo>
                <a:lnTo>
                  <a:pt x="191" y="0"/>
                </a:lnTo>
                <a:lnTo>
                  <a:pt x="196" y="0"/>
                </a:lnTo>
                <a:lnTo>
                  <a:pt x="200" y="0"/>
                </a:lnTo>
                <a:lnTo>
                  <a:pt x="204" y="0"/>
                </a:lnTo>
                <a:lnTo>
                  <a:pt x="209" y="0"/>
                </a:lnTo>
                <a:lnTo>
                  <a:pt x="213" y="0"/>
                </a:lnTo>
                <a:lnTo>
                  <a:pt x="217" y="0"/>
                </a:lnTo>
                <a:lnTo>
                  <a:pt x="222" y="0"/>
                </a:lnTo>
                <a:lnTo>
                  <a:pt x="226" y="0"/>
                </a:lnTo>
                <a:lnTo>
                  <a:pt x="230" y="0"/>
                </a:lnTo>
                <a:lnTo>
                  <a:pt x="235" y="0"/>
                </a:lnTo>
                <a:lnTo>
                  <a:pt x="239" y="0"/>
                </a:lnTo>
                <a:lnTo>
                  <a:pt x="243" y="0"/>
                </a:lnTo>
                <a:lnTo>
                  <a:pt x="248" y="0"/>
                </a:lnTo>
                <a:lnTo>
                  <a:pt x="252" y="0"/>
                </a:lnTo>
                <a:lnTo>
                  <a:pt x="256" y="0"/>
                </a:lnTo>
                <a:lnTo>
                  <a:pt x="261" y="0"/>
                </a:lnTo>
                <a:lnTo>
                  <a:pt x="265" y="0"/>
                </a:lnTo>
                <a:lnTo>
                  <a:pt x="269" y="0"/>
                </a:lnTo>
                <a:lnTo>
                  <a:pt x="274" y="0"/>
                </a:lnTo>
                <a:lnTo>
                  <a:pt x="278" y="0"/>
                </a:lnTo>
                <a:lnTo>
                  <a:pt x="282" y="0"/>
                </a:lnTo>
                <a:lnTo>
                  <a:pt x="287" y="0"/>
                </a:lnTo>
                <a:lnTo>
                  <a:pt x="291" y="0"/>
                </a:lnTo>
                <a:lnTo>
                  <a:pt x="295" y="0"/>
                </a:lnTo>
                <a:lnTo>
                  <a:pt x="300" y="0"/>
                </a:lnTo>
                <a:lnTo>
                  <a:pt x="304" y="0"/>
                </a:lnTo>
                <a:lnTo>
                  <a:pt x="308" y="0"/>
                </a:lnTo>
                <a:lnTo>
                  <a:pt x="313" y="0"/>
                </a:lnTo>
                <a:lnTo>
                  <a:pt x="317" y="0"/>
                </a:lnTo>
                <a:lnTo>
                  <a:pt x="321" y="0"/>
                </a:lnTo>
                <a:lnTo>
                  <a:pt x="326" y="0"/>
                </a:lnTo>
                <a:lnTo>
                  <a:pt x="330" y="0"/>
                </a:lnTo>
                <a:lnTo>
                  <a:pt x="334" y="0"/>
                </a:lnTo>
                <a:lnTo>
                  <a:pt x="339" y="0"/>
                </a:lnTo>
                <a:lnTo>
                  <a:pt x="343" y="0"/>
                </a:lnTo>
                <a:lnTo>
                  <a:pt x="347" y="0"/>
                </a:lnTo>
                <a:lnTo>
                  <a:pt x="352" y="0"/>
                </a:lnTo>
                <a:lnTo>
                  <a:pt x="356" y="0"/>
                </a:lnTo>
                <a:lnTo>
                  <a:pt x="360" y="0"/>
                </a:lnTo>
                <a:lnTo>
                  <a:pt x="365" y="0"/>
                </a:lnTo>
                <a:lnTo>
                  <a:pt x="369" y="0"/>
                </a:lnTo>
                <a:lnTo>
                  <a:pt x="373" y="0"/>
                </a:lnTo>
                <a:lnTo>
                  <a:pt x="378" y="0"/>
                </a:lnTo>
                <a:lnTo>
                  <a:pt x="382" y="0"/>
                </a:lnTo>
                <a:lnTo>
                  <a:pt x="386" y="0"/>
                </a:lnTo>
                <a:lnTo>
                  <a:pt x="391" y="0"/>
                </a:lnTo>
                <a:lnTo>
                  <a:pt x="395" y="0"/>
                </a:lnTo>
                <a:lnTo>
                  <a:pt x="399" y="0"/>
                </a:lnTo>
                <a:lnTo>
                  <a:pt x="404" y="0"/>
                </a:lnTo>
                <a:lnTo>
                  <a:pt x="408" y="0"/>
                </a:lnTo>
                <a:lnTo>
                  <a:pt x="412" y="0"/>
                </a:lnTo>
                <a:lnTo>
                  <a:pt x="417" y="0"/>
                </a:lnTo>
                <a:lnTo>
                  <a:pt x="421" y="0"/>
                </a:lnTo>
                <a:lnTo>
                  <a:pt x="425" y="0"/>
                </a:lnTo>
                <a:lnTo>
                  <a:pt x="430" y="0"/>
                </a:lnTo>
                <a:lnTo>
                  <a:pt x="434" y="0"/>
                </a:lnTo>
                <a:lnTo>
                  <a:pt x="438" y="0"/>
                </a:lnTo>
                <a:lnTo>
                  <a:pt x="443" y="0"/>
                </a:lnTo>
                <a:lnTo>
                  <a:pt x="447" y="0"/>
                </a:lnTo>
                <a:lnTo>
                  <a:pt x="451" y="0"/>
                </a:lnTo>
                <a:lnTo>
                  <a:pt x="456" y="0"/>
                </a:lnTo>
                <a:lnTo>
                  <a:pt x="460" y="0"/>
                </a:lnTo>
                <a:lnTo>
                  <a:pt x="464" y="0"/>
                </a:lnTo>
                <a:lnTo>
                  <a:pt x="469" y="0"/>
                </a:lnTo>
                <a:lnTo>
                  <a:pt x="473" y="0"/>
                </a:lnTo>
                <a:lnTo>
                  <a:pt x="477" y="0"/>
                </a:lnTo>
                <a:lnTo>
                  <a:pt x="482" y="0"/>
                </a:lnTo>
                <a:lnTo>
                  <a:pt x="486" y="0"/>
                </a:lnTo>
                <a:lnTo>
                  <a:pt x="490" y="0"/>
                </a:lnTo>
                <a:lnTo>
                  <a:pt x="495" y="0"/>
                </a:lnTo>
                <a:lnTo>
                  <a:pt x="499" y="0"/>
                </a:lnTo>
                <a:lnTo>
                  <a:pt x="503" y="0"/>
                </a:lnTo>
                <a:lnTo>
                  <a:pt x="508" y="0"/>
                </a:lnTo>
                <a:lnTo>
                  <a:pt x="512" y="0"/>
                </a:lnTo>
                <a:lnTo>
                  <a:pt x="516" y="0"/>
                </a:lnTo>
                <a:lnTo>
                  <a:pt x="521" y="0"/>
                </a:lnTo>
                <a:lnTo>
                  <a:pt x="525" y="0"/>
                </a:lnTo>
                <a:lnTo>
                  <a:pt x="529" y="0"/>
                </a:lnTo>
                <a:lnTo>
                  <a:pt x="534" y="0"/>
                </a:lnTo>
                <a:lnTo>
                  <a:pt x="538" y="0"/>
                </a:lnTo>
                <a:lnTo>
                  <a:pt x="542" y="0"/>
                </a:lnTo>
                <a:lnTo>
                  <a:pt x="547" y="0"/>
                </a:lnTo>
                <a:lnTo>
                  <a:pt x="551" y="0"/>
                </a:lnTo>
                <a:lnTo>
                  <a:pt x="555" y="0"/>
                </a:lnTo>
                <a:lnTo>
                  <a:pt x="560" y="0"/>
                </a:lnTo>
                <a:lnTo>
                  <a:pt x="564" y="0"/>
                </a:lnTo>
                <a:lnTo>
                  <a:pt x="568" y="0"/>
                </a:lnTo>
                <a:lnTo>
                  <a:pt x="573" y="0"/>
                </a:lnTo>
                <a:lnTo>
                  <a:pt x="577" y="0"/>
                </a:lnTo>
                <a:lnTo>
                  <a:pt x="581" y="0"/>
                </a:lnTo>
                <a:lnTo>
                  <a:pt x="586" y="0"/>
                </a:lnTo>
                <a:lnTo>
                  <a:pt x="590" y="0"/>
                </a:lnTo>
                <a:lnTo>
                  <a:pt x="594" y="0"/>
                </a:lnTo>
                <a:lnTo>
                  <a:pt x="599" y="0"/>
                </a:lnTo>
                <a:lnTo>
                  <a:pt x="603" y="0"/>
                </a:lnTo>
                <a:lnTo>
                  <a:pt x="607" y="0"/>
                </a:lnTo>
                <a:lnTo>
                  <a:pt x="612" y="0"/>
                </a:lnTo>
                <a:lnTo>
                  <a:pt x="616" y="0"/>
                </a:lnTo>
                <a:lnTo>
                  <a:pt x="620" y="0"/>
                </a:lnTo>
                <a:lnTo>
                  <a:pt x="625" y="0"/>
                </a:lnTo>
                <a:lnTo>
                  <a:pt x="629" y="0"/>
                </a:lnTo>
                <a:lnTo>
                  <a:pt x="633" y="0"/>
                </a:lnTo>
                <a:lnTo>
                  <a:pt x="637" y="0"/>
                </a:lnTo>
                <a:lnTo>
                  <a:pt x="642" y="0"/>
                </a:lnTo>
                <a:lnTo>
                  <a:pt x="646" y="0"/>
                </a:lnTo>
                <a:lnTo>
                  <a:pt x="650" y="0"/>
                </a:lnTo>
                <a:lnTo>
                  <a:pt x="655" y="0"/>
                </a:lnTo>
                <a:lnTo>
                  <a:pt x="659" y="0"/>
                </a:lnTo>
                <a:lnTo>
                  <a:pt x="663" y="0"/>
                </a:lnTo>
                <a:lnTo>
                  <a:pt x="668" y="0"/>
                </a:lnTo>
                <a:lnTo>
                  <a:pt x="672" y="0"/>
                </a:lnTo>
                <a:lnTo>
                  <a:pt x="676" y="0"/>
                </a:lnTo>
                <a:lnTo>
                  <a:pt x="681" y="0"/>
                </a:lnTo>
                <a:lnTo>
                  <a:pt x="685" y="0"/>
                </a:lnTo>
                <a:lnTo>
                  <a:pt x="689" y="0"/>
                </a:lnTo>
                <a:lnTo>
                  <a:pt x="694" y="0"/>
                </a:lnTo>
                <a:lnTo>
                  <a:pt x="698" y="0"/>
                </a:lnTo>
                <a:lnTo>
                  <a:pt x="702" y="0"/>
                </a:lnTo>
                <a:lnTo>
                  <a:pt x="707" y="0"/>
                </a:lnTo>
                <a:lnTo>
                  <a:pt x="711" y="0"/>
                </a:lnTo>
                <a:lnTo>
                  <a:pt x="715" y="0"/>
                </a:lnTo>
                <a:lnTo>
                  <a:pt x="720" y="0"/>
                </a:lnTo>
                <a:lnTo>
                  <a:pt x="724" y="0"/>
                </a:lnTo>
                <a:lnTo>
                  <a:pt x="728" y="0"/>
                </a:lnTo>
                <a:lnTo>
                  <a:pt x="733" y="0"/>
                </a:lnTo>
                <a:lnTo>
                  <a:pt x="737" y="0"/>
                </a:lnTo>
                <a:lnTo>
                  <a:pt x="741" y="0"/>
                </a:lnTo>
                <a:lnTo>
                  <a:pt x="746" y="0"/>
                </a:lnTo>
                <a:lnTo>
                  <a:pt x="750" y="0"/>
                </a:lnTo>
                <a:lnTo>
                  <a:pt x="754" y="0"/>
                </a:lnTo>
                <a:lnTo>
                  <a:pt x="759" y="0"/>
                </a:lnTo>
                <a:lnTo>
                  <a:pt x="763" y="0"/>
                </a:lnTo>
                <a:lnTo>
                  <a:pt x="767" y="0"/>
                </a:lnTo>
                <a:lnTo>
                  <a:pt x="772" y="0"/>
                </a:lnTo>
                <a:lnTo>
                  <a:pt x="776" y="0"/>
                </a:lnTo>
                <a:lnTo>
                  <a:pt x="780" y="0"/>
                </a:lnTo>
                <a:lnTo>
                  <a:pt x="785" y="0"/>
                </a:lnTo>
                <a:lnTo>
                  <a:pt x="789" y="0"/>
                </a:lnTo>
                <a:lnTo>
                  <a:pt x="793" y="0"/>
                </a:lnTo>
                <a:lnTo>
                  <a:pt x="798" y="0"/>
                </a:lnTo>
                <a:lnTo>
                  <a:pt x="802" y="0"/>
                </a:lnTo>
                <a:lnTo>
                  <a:pt x="806" y="0"/>
                </a:lnTo>
                <a:lnTo>
                  <a:pt x="811" y="0"/>
                </a:lnTo>
                <a:lnTo>
                  <a:pt x="815" y="0"/>
                </a:lnTo>
                <a:lnTo>
                  <a:pt x="819" y="0"/>
                </a:lnTo>
                <a:lnTo>
                  <a:pt x="824" y="0"/>
                </a:lnTo>
                <a:lnTo>
                  <a:pt x="828" y="0"/>
                </a:lnTo>
                <a:lnTo>
                  <a:pt x="832" y="0"/>
                </a:lnTo>
                <a:lnTo>
                  <a:pt x="837" y="0"/>
                </a:lnTo>
                <a:lnTo>
                  <a:pt x="841" y="0"/>
                </a:lnTo>
                <a:lnTo>
                  <a:pt x="845" y="0"/>
                </a:lnTo>
                <a:lnTo>
                  <a:pt x="850" y="0"/>
                </a:lnTo>
                <a:lnTo>
                  <a:pt x="854" y="0"/>
                </a:lnTo>
                <a:lnTo>
                  <a:pt x="858" y="0"/>
                </a:lnTo>
                <a:lnTo>
                  <a:pt x="863" y="0"/>
                </a:lnTo>
                <a:lnTo>
                  <a:pt x="867" y="0"/>
                </a:lnTo>
                <a:lnTo>
                  <a:pt x="871" y="4"/>
                </a:lnTo>
                <a:lnTo>
                  <a:pt x="876" y="4"/>
                </a:lnTo>
                <a:lnTo>
                  <a:pt x="880" y="4"/>
                </a:lnTo>
                <a:lnTo>
                  <a:pt x="884" y="4"/>
                </a:lnTo>
                <a:lnTo>
                  <a:pt x="889" y="4"/>
                </a:lnTo>
                <a:lnTo>
                  <a:pt x="893" y="4"/>
                </a:lnTo>
                <a:lnTo>
                  <a:pt x="897" y="8"/>
                </a:lnTo>
                <a:lnTo>
                  <a:pt x="903" y="8"/>
                </a:lnTo>
                <a:lnTo>
                  <a:pt x="907" y="8"/>
                </a:lnTo>
                <a:lnTo>
                  <a:pt x="912" y="12"/>
                </a:lnTo>
                <a:lnTo>
                  <a:pt x="916" y="12"/>
                </a:lnTo>
                <a:lnTo>
                  <a:pt x="920" y="16"/>
                </a:lnTo>
                <a:lnTo>
                  <a:pt x="925" y="16"/>
                </a:lnTo>
                <a:lnTo>
                  <a:pt x="929" y="20"/>
                </a:lnTo>
                <a:lnTo>
                  <a:pt x="933" y="24"/>
                </a:lnTo>
                <a:lnTo>
                  <a:pt x="938" y="24"/>
                </a:lnTo>
                <a:lnTo>
                  <a:pt x="942" y="28"/>
                </a:lnTo>
                <a:lnTo>
                  <a:pt x="942" y="32"/>
                </a:lnTo>
                <a:lnTo>
                  <a:pt x="946" y="36"/>
                </a:lnTo>
                <a:lnTo>
                  <a:pt x="951" y="40"/>
                </a:lnTo>
                <a:lnTo>
                  <a:pt x="955" y="44"/>
                </a:lnTo>
                <a:lnTo>
                  <a:pt x="959" y="48"/>
                </a:lnTo>
                <a:lnTo>
                  <a:pt x="964" y="52"/>
                </a:lnTo>
                <a:lnTo>
                  <a:pt x="964" y="56"/>
                </a:lnTo>
                <a:lnTo>
                  <a:pt x="968" y="60"/>
                </a:lnTo>
                <a:lnTo>
                  <a:pt x="972" y="68"/>
                </a:lnTo>
                <a:lnTo>
                  <a:pt x="977" y="72"/>
                </a:lnTo>
                <a:lnTo>
                  <a:pt x="981" y="76"/>
                </a:lnTo>
                <a:lnTo>
                  <a:pt x="985" y="84"/>
                </a:lnTo>
                <a:lnTo>
                  <a:pt x="985" y="88"/>
                </a:lnTo>
                <a:lnTo>
                  <a:pt x="990" y="96"/>
                </a:lnTo>
                <a:lnTo>
                  <a:pt x="994" y="104"/>
                </a:lnTo>
                <a:lnTo>
                  <a:pt x="998" y="108"/>
                </a:lnTo>
                <a:lnTo>
                  <a:pt x="1003" y="116"/>
                </a:lnTo>
                <a:lnTo>
                  <a:pt x="1007" y="124"/>
                </a:lnTo>
                <a:lnTo>
                  <a:pt x="1011" y="132"/>
                </a:lnTo>
                <a:lnTo>
                  <a:pt x="1011" y="136"/>
                </a:lnTo>
                <a:lnTo>
                  <a:pt x="1016" y="144"/>
                </a:lnTo>
                <a:lnTo>
                  <a:pt x="1020" y="152"/>
                </a:lnTo>
                <a:lnTo>
                  <a:pt x="1024" y="160"/>
                </a:lnTo>
                <a:lnTo>
                  <a:pt x="1029" y="168"/>
                </a:lnTo>
                <a:lnTo>
                  <a:pt x="1033" y="176"/>
                </a:lnTo>
                <a:lnTo>
                  <a:pt x="1033" y="184"/>
                </a:lnTo>
                <a:lnTo>
                  <a:pt x="1037" y="196"/>
                </a:lnTo>
                <a:lnTo>
                  <a:pt x="1042" y="204"/>
                </a:lnTo>
                <a:lnTo>
                  <a:pt x="1046" y="212"/>
                </a:lnTo>
                <a:lnTo>
                  <a:pt x="1050" y="220"/>
                </a:lnTo>
                <a:lnTo>
                  <a:pt x="1055" y="232"/>
                </a:lnTo>
                <a:lnTo>
                  <a:pt x="1059" y="240"/>
                </a:lnTo>
                <a:lnTo>
                  <a:pt x="1059" y="252"/>
                </a:lnTo>
                <a:lnTo>
                  <a:pt x="1063" y="260"/>
                </a:lnTo>
                <a:lnTo>
                  <a:pt x="1068" y="272"/>
                </a:lnTo>
                <a:lnTo>
                  <a:pt x="1072" y="284"/>
                </a:lnTo>
                <a:lnTo>
                  <a:pt x="1076" y="296"/>
                </a:lnTo>
                <a:lnTo>
                  <a:pt x="1081" y="308"/>
                </a:lnTo>
                <a:lnTo>
                  <a:pt x="1081" y="320"/>
                </a:lnTo>
                <a:lnTo>
                  <a:pt x="1085" y="336"/>
                </a:lnTo>
                <a:lnTo>
                  <a:pt x="1089" y="348"/>
                </a:lnTo>
                <a:lnTo>
                  <a:pt x="1094" y="364"/>
                </a:lnTo>
                <a:lnTo>
                  <a:pt x="1098" y="380"/>
                </a:lnTo>
                <a:lnTo>
                  <a:pt x="1102" y="400"/>
                </a:lnTo>
                <a:lnTo>
                  <a:pt x="1107" y="420"/>
                </a:lnTo>
                <a:lnTo>
                  <a:pt x="1107" y="444"/>
                </a:lnTo>
                <a:lnTo>
                  <a:pt x="1111" y="472"/>
                </a:lnTo>
                <a:lnTo>
                  <a:pt x="1115" y="508"/>
                </a:lnTo>
                <a:lnTo>
                  <a:pt x="1120" y="560"/>
                </a:lnTo>
                <a:lnTo>
                  <a:pt x="1124" y="668"/>
                </a:lnTo>
                <a:lnTo>
                  <a:pt x="1128" y="652"/>
                </a:lnTo>
                <a:lnTo>
                  <a:pt x="1128" y="572"/>
                </a:lnTo>
                <a:lnTo>
                  <a:pt x="1133" y="540"/>
                </a:lnTo>
                <a:lnTo>
                  <a:pt x="1137" y="520"/>
                </a:lnTo>
                <a:lnTo>
                  <a:pt x="1141" y="504"/>
                </a:lnTo>
                <a:lnTo>
                  <a:pt x="1146" y="496"/>
                </a:lnTo>
                <a:lnTo>
                  <a:pt x="1150" y="492"/>
                </a:lnTo>
                <a:lnTo>
                  <a:pt x="1154" y="488"/>
                </a:lnTo>
                <a:lnTo>
                  <a:pt x="1159" y="488"/>
                </a:lnTo>
                <a:lnTo>
                  <a:pt x="1163" y="488"/>
                </a:lnTo>
                <a:lnTo>
                  <a:pt x="1167" y="488"/>
                </a:lnTo>
                <a:lnTo>
                  <a:pt x="1172" y="492"/>
                </a:lnTo>
                <a:lnTo>
                  <a:pt x="1176" y="496"/>
                </a:lnTo>
                <a:lnTo>
                  <a:pt x="1176" y="504"/>
                </a:lnTo>
                <a:lnTo>
                  <a:pt x="1180" y="512"/>
                </a:lnTo>
                <a:lnTo>
                  <a:pt x="1185" y="520"/>
                </a:lnTo>
                <a:lnTo>
                  <a:pt x="1189" y="528"/>
                </a:lnTo>
                <a:lnTo>
                  <a:pt x="1193" y="540"/>
                </a:lnTo>
                <a:lnTo>
                  <a:pt x="1198" y="556"/>
                </a:lnTo>
                <a:lnTo>
                  <a:pt x="1202" y="572"/>
                </a:lnTo>
                <a:lnTo>
                  <a:pt x="1202" y="592"/>
                </a:lnTo>
                <a:lnTo>
                  <a:pt x="1206" y="624"/>
                </a:lnTo>
                <a:lnTo>
                  <a:pt x="1211" y="672"/>
                </a:lnTo>
                <a:lnTo>
                  <a:pt x="1215" y="792"/>
                </a:lnTo>
                <a:lnTo>
                  <a:pt x="1219" y="732"/>
                </a:lnTo>
                <a:lnTo>
                  <a:pt x="1224" y="656"/>
                </a:lnTo>
                <a:lnTo>
                  <a:pt x="1224" y="616"/>
                </a:lnTo>
                <a:lnTo>
                  <a:pt x="1228" y="592"/>
                </a:lnTo>
                <a:lnTo>
                  <a:pt x="1232" y="572"/>
                </a:lnTo>
                <a:lnTo>
                  <a:pt x="1237" y="556"/>
                </a:lnTo>
                <a:lnTo>
                  <a:pt x="1241" y="544"/>
                </a:lnTo>
                <a:lnTo>
                  <a:pt x="1245" y="536"/>
                </a:lnTo>
                <a:lnTo>
                  <a:pt x="1250" y="528"/>
                </a:lnTo>
                <a:lnTo>
                  <a:pt x="1250" y="520"/>
                </a:lnTo>
                <a:lnTo>
                  <a:pt x="1254" y="516"/>
                </a:lnTo>
                <a:lnTo>
                  <a:pt x="1258" y="508"/>
                </a:lnTo>
                <a:lnTo>
                  <a:pt x="1262" y="504"/>
                </a:lnTo>
                <a:lnTo>
                  <a:pt x="1267" y="500"/>
                </a:lnTo>
                <a:lnTo>
                  <a:pt x="1271" y="496"/>
                </a:lnTo>
                <a:lnTo>
                  <a:pt x="1275" y="492"/>
                </a:lnTo>
                <a:lnTo>
                  <a:pt x="1280" y="492"/>
                </a:lnTo>
                <a:lnTo>
                  <a:pt x="1284" y="488"/>
                </a:lnTo>
                <a:lnTo>
                  <a:pt x="1288" y="488"/>
                </a:lnTo>
                <a:lnTo>
                  <a:pt x="1293" y="488"/>
                </a:lnTo>
                <a:lnTo>
                  <a:pt x="1297" y="488"/>
                </a:lnTo>
                <a:lnTo>
                  <a:pt x="1301" y="488"/>
                </a:lnTo>
                <a:lnTo>
                  <a:pt x="1306" y="488"/>
                </a:lnTo>
                <a:lnTo>
                  <a:pt x="1310" y="488"/>
                </a:lnTo>
                <a:lnTo>
                  <a:pt x="1314" y="488"/>
                </a:lnTo>
                <a:lnTo>
                  <a:pt x="1319" y="488"/>
                </a:lnTo>
                <a:lnTo>
                  <a:pt x="1319" y="492"/>
                </a:lnTo>
                <a:lnTo>
                  <a:pt x="1323" y="492"/>
                </a:lnTo>
                <a:lnTo>
                  <a:pt x="1327" y="496"/>
                </a:lnTo>
                <a:lnTo>
                  <a:pt x="1332" y="496"/>
                </a:lnTo>
                <a:lnTo>
                  <a:pt x="1336" y="500"/>
                </a:lnTo>
                <a:lnTo>
                  <a:pt x="1340" y="504"/>
                </a:lnTo>
                <a:lnTo>
                  <a:pt x="1345" y="508"/>
                </a:lnTo>
                <a:lnTo>
                  <a:pt x="1345" y="512"/>
                </a:lnTo>
                <a:lnTo>
                  <a:pt x="1349" y="516"/>
                </a:lnTo>
                <a:lnTo>
                  <a:pt x="1353" y="520"/>
                </a:lnTo>
                <a:lnTo>
                  <a:pt x="1358" y="524"/>
                </a:lnTo>
                <a:lnTo>
                  <a:pt x="1362" y="528"/>
                </a:lnTo>
                <a:lnTo>
                  <a:pt x="1366" y="536"/>
                </a:lnTo>
                <a:lnTo>
                  <a:pt x="1366" y="544"/>
                </a:lnTo>
                <a:lnTo>
                  <a:pt x="1371" y="548"/>
                </a:lnTo>
                <a:lnTo>
                  <a:pt x="1375" y="560"/>
                </a:lnTo>
                <a:lnTo>
                  <a:pt x="1379" y="568"/>
                </a:lnTo>
                <a:lnTo>
                  <a:pt x="1384" y="580"/>
                </a:lnTo>
                <a:lnTo>
                  <a:pt x="1388" y="592"/>
                </a:lnTo>
                <a:lnTo>
                  <a:pt x="1392" y="608"/>
                </a:lnTo>
                <a:lnTo>
                  <a:pt x="1392" y="624"/>
                </a:lnTo>
                <a:lnTo>
                  <a:pt x="1397" y="648"/>
                </a:lnTo>
                <a:lnTo>
                  <a:pt x="1401" y="680"/>
                </a:lnTo>
                <a:lnTo>
                  <a:pt x="1405" y="732"/>
                </a:lnTo>
                <a:lnTo>
                  <a:pt x="1410" y="896"/>
                </a:lnTo>
                <a:lnTo>
                  <a:pt x="1414" y="760"/>
                </a:lnTo>
                <a:lnTo>
                  <a:pt x="1414" y="696"/>
                </a:lnTo>
                <a:lnTo>
                  <a:pt x="1418" y="660"/>
                </a:lnTo>
                <a:lnTo>
                  <a:pt x="1423" y="632"/>
                </a:lnTo>
                <a:lnTo>
                  <a:pt x="1427" y="616"/>
                </a:lnTo>
                <a:lnTo>
                  <a:pt x="1431" y="600"/>
                </a:lnTo>
                <a:lnTo>
                  <a:pt x="1436" y="588"/>
                </a:lnTo>
                <a:lnTo>
                  <a:pt x="1440" y="576"/>
                </a:lnTo>
                <a:lnTo>
                  <a:pt x="1440" y="564"/>
                </a:lnTo>
                <a:lnTo>
                  <a:pt x="1444" y="556"/>
                </a:lnTo>
                <a:lnTo>
                  <a:pt x="1449" y="552"/>
                </a:lnTo>
                <a:lnTo>
                  <a:pt x="1453" y="544"/>
                </a:lnTo>
                <a:lnTo>
                  <a:pt x="1457" y="536"/>
                </a:lnTo>
                <a:lnTo>
                  <a:pt x="1462" y="532"/>
                </a:lnTo>
                <a:lnTo>
                  <a:pt x="1462" y="528"/>
                </a:lnTo>
                <a:lnTo>
                  <a:pt x="1466" y="524"/>
                </a:lnTo>
                <a:lnTo>
                  <a:pt x="1470" y="520"/>
                </a:lnTo>
                <a:lnTo>
                  <a:pt x="1475" y="516"/>
                </a:lnTo>
                <a:lnTo>
                  <a:pt x="1479" y="512"/>
                </a:lnTo>
                <a:lnTo>
                  <a:pt x="1483" y="508"/>
                </a:lnTo>
                <a:lnTo>
                  <a:pt x="1488" y="504"/>
                </a:lnTo>
                <a:lnTo>
                  <a:pt x="1492" y="500"/>
                </a:lnTo>
                <a:lnTo>
                  <a:pt x="1496" y="500"/>
                </a:lnTo>
                <a:lnTo>
                  <a:pt x="1501" y="496"/>
                </a:lnTo>
                <a:lnTo>
                  <a:pt x="1505" y="496"/>
                </a:lnTo>
                <a:lnTo>
                  <a:pt x="1509" y="492"/>
                </a:lnTo>
                <a:lnTo>
                  <a:pt x="1514" y="492"/>
                </a:lnTo>
                <a:lnTo>
                  <a:pt x="1518" y="488"/>
                </a:lnTo>
                <a:lnTo>
                  <a:pt x="1522" y="488"/>
                </a:lnTo>
                <a:lnTo>
                  <a:pt x="1527" y="488"/>
                </a:lnTo>
                <a:lnTo>
                  <a:pt x="1531" y="488"/>
                </a:lnTo>
                <a:lnTo>
                  <a:pt x="1535" y="488"/>
                </a:lnTo>
                <a:lnTo>
                  <a:pt x="1540" y="488"/>
                </a:lnTo>
                <a:lnTo>
                  <a:pt x="1544" y="488"/>
                </a:lnTo>
                <a:lnTo>
                  <a:pt x="1548" y="488"/>
                </a:lnTo>
                <a:lnTo>
                  <a:pt x="1553" y="488"/>
                </a:lnTo>
                <a:lnTo>
                  <a:pt x="1557" y="488"/>
                </a:lnTo>
                <a:lnTo>
                  <a:pt x="1561" y="488"/>
                </a:lnTo>
                <a:lnTo>
                  <a:pt x="1566" y="488"/>
                </a:lnTo>
                <a:lnTo>
                  <a:pt x="1570" y="488"/>
                </a:lnTo>
                <a:lnTo>
                  <a:pt x="1574" y="488"/>
                </a:lnTo>
                <a:lnTo>
                  <a:pt x="1579" y="492"/>
                </a:lnTo>
                <a:lnTo>
                  <a:pt x="1583" y="492"/>
                </a:lnTo>
                <a:lnTo>
                  <a:pt x="1587" y="496"/>
                </a:lnTo>
                <a:lnTo>
                  <a:pt x="1592" y="496"/>
                </a:lnTo>
                <a:lnTo>
                  <a:pt x="1596" y="496"/>
                </a:lnTo>
                <a:lnTo>
                  <a:pt x="1600" y="500"/>
                </a:lnTo>
                <a:lnTo>
                  <a:pt x="1605" y="500"/>
                </a:lnTo>
                <a:lnTo>
                  <a:pt x="1605" y="504"/>
                </a:lnTo>
                <a:lnTo>
                  <a:pt x="1609" y="504"/>
                </a:lnTo>
                <a:lnTo>
                  <a:pt x="1613" y="508"/>
                </a:lnTo>
                <a:lnTo>
                  <a:pt x="1618" y="512"/>
                </a:lnTo>
                <a:lnTo>
                  <a:pt x="1622" y="512"/>
                </a:lnTo>
                <a:lnTo>
                  <a:pt x="1626" y="516"/>
                </a:lnTo>
                <a:lnTo>
                  <a:pt x="1626" y="520"/>
                </a:lnTo>
                <a:lnTo>
                  <a:pt x="1631" y="524"/>
                </a:lnTo>
                <a:lnTo>
                  <a:pt x="1635" y="528"/>
                </a:lnTo>
                <a:lnTo>
                  <a:pt x="1639" y="532"/>
                </a:lnTo>
                <a:lnTo>
                  <a:pt x="1644" y="536"/>
                </a:lnTo>
                <a:lnTo>
                  <a:pt x="1648" y="540"/>
                </a:lnTo>
                <a:lnTo>
                  <a:pt x="1652" y="544"/>
                </a:lnTo>
                <a:lnTo>
                  <a:pt x="1652" y="552"/>
                </a:lnTo>
                <a:lnTo>
                  <a:pt x="1657" y="556"/>
                </a:lnTo>
                <a:lnTo>
                  <a:pt x="1661" y="564"/>
                </a:lnTo>
                <a:lnTo>
                  <a:pt x="1665" y="568"/>
                </a:lnTo>
                <a:lnTo>
                  <a:pt x="1670" y="576"/>
                </a:lnTo>
                <a:lnTo>
                  <a:pt x="1674" y="588"/>
                </a:lnTo>
                <a:lnTo>
                  <a:pt x="1674" y="596"/>
                </a:lnTo>
                <a:lnTo>
                  <a:pt x="1678" y="608"/>
                </a:lnTo>
                <a:lnTo>
                  <a:pt x="1683" y="620"/>
                </a:lnTo>
                <a:lnTo>
                  <a:pt x="1687" y="636"/>
                </a:lnTo>
                <a:lnTo>
                  <a:pt x="1691" y="656"/>
                </a:lnTo>
                <a:lnTo>
                  <a:pt x="1696" y="680"/>
                </a:lnTo>
                <a:lnTo>
                  <a:pt x="1700" y="712"/>
                </a:lnTo>
                <a:lnTo>
                  <a:pt x="1700" y="772"/>
                </a:lnTo>
                <a:lnTo>
                  <a:pt x="1704" y="1148"/>
                </a:lnTo>
                <a:lnTo>
                  <a:pt x="1709" y="772"/>
                </a:lnTo>
                <a:lnTo>
                  <a:pt x="1714" y="712"/>
                </a:lnTo>
                <a:lnTo>
                  <a:pt x="1719" y="680"/>
                </a:lnTo>
                <a:lnTo>
                  <a:pt x="1723" y="656"/>
                </a:lnTo>
                <a:lnTo>
                  <a:pt x="1723" y="636"/>
                </a:lnTo>
                <a:lnTo>
                  <a:pt x="1727" y="620"/>
                </a:lnTo>
                <a:lnTo>
                  <a:pt x="1732" y="608"/>
                </a:lnTo>
                <a:lnTo>
                  <a:pt x="1736" y="596"/>
                </a:lnTo>
                <a:lnTo>
                  <a:pt x="1740" y="588"/>
                </a:lnTo>
                <a:lnTo>
                  <a:pt x="1745" y="580"/>
                </a:lnTo>
                <a:lnTo>
                  <a:pt x="1749" y="572"/>
                </a:lnTo>
                <a:lnTo>
                  <a:pt x="1749" y="564"/>
                </a:lnTo>
                <a:lnTo>
                  <a:pt x="1753" y="556"/>
                </a:lnTo>
                <a:lnTo>
                  <a:pt x="1758" y="552"/>
                </a:lnTo>
                <a:lnTo>
                  <a:pt x="1762" y="548"/>
                </a:lnTo>
                <a:lnTo>
                  <a:pt x="1766" y="540"/>
                </a:lnTo>
                <a:lnTo>
                  <a:pt x="1771" y="536"/>
                </a:lnTo>
                <a:lnTo>
                  <a:pt x="1771" y="532"/>
                </a:lnTo>
                <a:lnTo>
                  <a:pt x="1775" y="528"/>
                </a:lnTo>
                <a:lnTo>
                  <a:pt x="1779" y="524"/>
                </a:lnTo>
                <a:lnTo>
                  <a:pt x="1784" y="524"/>
                </a:lnTo>
                <a:lnTo>
                  <a:pt x="1788" y="520"/>
                </a:lnTo>
                <a:lnTo>
                  <a:pt x="1792" y="516"/>
                </a:lnTo>
                <a:lnTo>
                  <a:pt x="1797" y="512"/>
                </a:lnTo>
                <a:lnTo>
                  <a:pt x="1801" y="508"/>
                </a:lnTo>
                <a:lnTo>
                  <a:pt x="1805" y="508"/>
                </a:lnTo>
                <a:lnTo>
                  <a:pt x="1810" y="504"/>
                </a:lnTo>
                <a:lnTo>
                  <a:pt x="1814" y="500"/>
                </a:lnTo>
                <a:lnTo>
                  <a:pt x="1818" y="500"/>
                </a:lnTo>
                <a:lnTo>
                  <a:pt x="1823" y="496"/>
                </a:lnTo>
                <a:lnTo>
                  <a:pt x="1827" y="496"/>
                </a:lnTo>
                <a:lnTo>
                  <a:pt x="1831" y="496"/>
                </a:lnTo>
                <a:lnTo>
                  <a:pt x="1836" y="492"/>
                </a:lnTo>
                <a:lnTo>
                  <a:pt x="1840" y="492"/>
                </a:lnTo>
                <a:lnTo>
                  <a:pt x="1844" y="492"/>
                </a:lnTo>
                <a:lnTo>
                  <a:pt x="1844" y="488"/>
                </a:lnTo>
                <a:lnTo>
                  <a:pt x="1849" y="488"/>
                </a:lnTo>
                <a:lnTo>
                  <a:pt x="1853" y="488"/>
                </a:lnTo>
                <a:lnTo>
                  <a:pt x="1857" y="488"/>
                </a:lnTo>
                <a:lnTo>
                  <a:pt x="1862" y="488"/>
                </a:lnTo>
                <a:lnTo>
                  <a:pt x="1866" y="488"/>
                </a:lnTo>
                <a:lnTo>
                  <a:pt x="1870" y="488"/>
                </a:lnTo>
                <a:lnTo>
                  <a:pt x="1875" y="488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086440" y="1301760"/>
            <a:ext cx="354960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53716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609120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663732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719136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773748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829152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537160" y="36576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537160" y="334656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37160" y="30416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537160" y="27306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537160" y="24192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37160" y="210816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537160" y="18032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537160" y="14922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537160" y="1492200"/>
            <a:ext cx="2755800" cy="2166840"/>
          </a:xfrm>
          <a:custGeom>
            <a:avLst/>
            <a:gdLst/>
            <a:ahLst/>
            <a:rect l="l" t="t" r="r" b="b"/>
            <a:pathLst>
              <a:path w="1880" h="1365">
                <a:moveTo>
                  <a:pt x="0" y="1364"/>
                </a:moveTo>
                <a:lnTo>
                  <a:pt x="0" y="0"/>
                </a:lnTo>
                <a:lnTo>
                  <a:pt x="18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537160" y="1492200"/>
            <a:ext cx="2755800" cy="2166840"/>
          </a:xfrm>
          <a:custGeom>
            <a:avLst/>
            <a:gdLst/>
            <a:ahLst/>
            <a:rect l="l" t="t" r="r" b="b"/>
            <a:pathLst>
              <a:path w="1880" h="1365">
                <a:moveTo>
                  <a:pt x="0" y="1364"/>
                </a:moveTo>
                <a:lnTo>
                  <a:pt x="0" y="0"/>
                </a:lnTo>
                <a:lnTo>
                  <a:pt x="18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537160" y="1492200"/>
            <a:ext cx="2755800" cy="2166840"/>
          </a:xfrm>
          <a:custGeom>
            <a:avLst/>
            <a:gdLst/>
            <a:ahLst/>
            <a:rect l="l" t="t" r="r" b="b"/>
            <a:pathLst>
              <a:path w="1880" h="1365">
                <a:moveTo>
                  <a:pt x="0" y="1364"/>
                </a:moveTo>
                <a:lnTo>
                  <a:pt x="0" y="0"/>
                </a:lnTo>
                <a:lnTo>
                  <a:pt x="18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537160" y="36576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537160" y="14922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53716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829152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537160" y="1492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291520" y="3657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37160" y="36576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553716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37160" y="3657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5537160" y="363168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537160" y="149220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411160" y="3637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6091200" y="363168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91200" y="149220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915880" y="363708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637320" y="363168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37320" y="149220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462000" y="363708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7191360" y="363168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191360" y="149220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16040" y="363708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7737480" y="363168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737480" y="149220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562880" y="363708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8291520" y="363168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291520" y="149220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116200" y="363708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37160" y="3657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8265600" y="3657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01280" y="3554280"/>
            <a:ext cx="38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2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537160" y="334656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8265600" y="334656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01280" y="3243240"/>
            <a:ext cx="38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537160" y="3041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8265600" y="3041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261400" y="29383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537160" y="2730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8265600" y="2730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61400" y="262728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537160" y="2419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8265600" y="2419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261400" y="231624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537160" y="210816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8265600" y="210816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261400" y="200484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537160" y="1803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8265600" y="1803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53920" y="1700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537160" y="1492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8265600" y="1492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293800" y="13892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537160" y="36576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537160" y="14922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553716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8291520" y="149184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537160" y="3657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291520" y="1492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537160" y="1803240"/>
            <a:ext cx="2749680" cy="1570320"/>
          </a:xfrm>
          <a:custGeom>
            <a:avLst/>
            <a:gdLst/>
            <a:ahLst/>
            <a:rect l="l" t="t" r="r" b="b"/>
            <a:pathLst>
              <a:path w="1876" h="989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7" y="0"/>
                </a:lnTo>
                <a:lnTo>
                  <a:pt x="21" y="0"/>
                </a:lnTo>
                <a:lnTo>
                  <a:pt x="25" y="0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3" y="0"/>
                </a:lnTo>
                <a:lnTo>
                  <a:pt x="47" y="0"/>
                </a:lnTo>
                <a:lnTo>
                  <a:pt x="51" y="0"/>
                </a:lnTo>
                <a:lnTo>
                  <a:pt x="56" y="0"/>
                </a:lnTo>
                <a:lnTo>
                  <a:pt x="60" y="0"/>
                </a:lnTo>
                <a:lnTo>
                  <a:pt x="64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2" y="0"/>
                </a:lnTo>
                <a:lnTo>
                  <a:pt x="86" y="0"/>
                </a:lnTo>
                <a:lnTo>
                  <a:pt x="90" y="0"/>
                </a:lnTo>
                <a:lnTo>
                  <a:pt x="96" y="0"/>
                </a:lnTo>
                <a:lnTo>
                  <a:pt x="100" y="0"/>
                </a:lnTo>
                <a:lnTo>
                  <a:pt x="105" y="0"/>
                </a:lnTo>
                <a:lnTo>
                  <a:pt x="109" y="0"/>
                </a:lnTo>
                <a:lnTo>
                  <a:pt x="113" y="0"/>
                </a:lnTo>
                <a:lnTo>
                  <a:pt x="118" y="0"/>
                </a:lnTo>
                <a:lnTo>
                  <a:pt x="122" y="0"/>
                </a:lnTo>
                <a:lnTo>
                  <a:pt x="126" y="0"/>
                </a:lnTo>
                <a:lnTo>
                  <a:pt x="131" y="0"/>
                </a:lnTo>
                <a:lnTo>
                  <a:pt x="135" y="0"/>
                </a:lnTo>
                <a:lnTo>
                  <a:pt x="139" y="0"/>
                </a:lnTo>
                <a:lnTo>
                  <a:pt x="144" y="0"/>
                </a:lnTo>
                <a:lnTo>
                  <a:pt x="148" y="0"/>
                </a:lnTo>
                <a:lnTo>
                  <a:pt x="152" y="0"/>
                </a:lnTo>
                <a:lnTo>
                  <a:pt x="157" y="0"/>
                </a:lnTo>
                <a:lnTo>
                  <a:pt x="161" y="0"/>
                </a:lnTo>
                <a:lnTo>
                  <a:pt x="165" y="0"/>
                </a:lnTo>
                <a:lnTo>
                  <a:pt x="170" y="0"/>
                </a:lnTo>
                <a:lnTo>
                  <a:pt x="174" y="0"/>
                </a:lnTo>
                <a:lnTo>
                  <a:pt x="178" y="0"/>
                </a:lnTo>
                <a:lnTo>
                  <a:pt x="183" y="0"/>
                </a:lnTo>
                <a:lnTo>
                  <a:pt x="187" y="0"/>
                </a:lnTo>
                <a:lnTo>
                  <a:pt x="191" y="0"/>
                </a:lnTo>
                <a:lnTo>
                  <a:pt x="196" y="0"/>
                </a:lnTo>
                <a:lnTo>
                  <a:pt x="200" y="0"/>
                </a:lnTo>
                <a:lnTo>
                  <a:pt x="204" y="0"/>
                </a:lnTo>
                <a:lnTo>
                  <a:pt x="209" y="0"/>
                </a:lnTo>
                <a:lnTo>
                  <a:pt x="213" y="0"/>
                </a:lnTo>
                <a:lnTo>
                  <a:pt x="217" y="0"/>
                </a:lnTo>
                <a:lnTo>
                  <a:pt x="222" y="0"/>
                </a:lnTo>
                <a:lnTo>
                  <a:pt x="226" y="0"/>
                </a:lnTo>
                <a:lnTo>
                  <a:pt x="230" y="0"/>
                </a:lnTo>
                <a:lnTo>
                  <a:pt x="235" y="0"/>
                </a:lnTo>
                <a:lnTo>
                  <a:pt x="239" y="0"/>
                </a:lnTo>
                <a:lnTo>
                  <a:pt x="243" y="0"/>
                </a:lnTo>
                <a:lnTo>
                  <a:pt x="248" y="0"/>
                </a:lnTo>
                <a:lnTo>
                  <a:pt x="252" y="0"/>
                </a:lnTo>
                <a:lnTo>
                  <a:pt x="256" y="0"/>
                </a:lnTo>
                <a:lnTo>
                  <a:pt x="261" y="0"/>
                </a:lnTo>
                <a:lnTo>
                  <a:pt x="265" y="0"/>
                </a:lnTo>
                <a:lnTo>
                  <a:pt x="269" y="0"/>
                </a:lnTo>
                <a:lnTo>
                  <a:pt x="274" y="0"/>
                </a:lnTo>
                <a:lnTo>
                  <a:pt x="278" y="0"/>
                </a:lnTo>
                <a:lnTo>
                  <a:pt x="282" y="0"/>
                </a:lnTo>
                <a:lnTo>
                  <a:pt x="287" y="0"/>
                </a:lnTo>
                <a:lnTo>
                  <a:pt x="291" y="0"/>
                </a:lnTo>
                <a:lnTo>
                  <a:pt x="295" y="0"/>
                </a:lnTo>
                <a:lnTo>
                  <a:pt x="300" y="0"/>
                </a:lnTo>
                <a:lnTo>
                  <a:pt x="304" y="0"/>
                </a:lnTo>
                <a:lnTo>
                  <a:pt x="308" y="0"/>
                </a:lnTo>
                <a:lnTo>
                  <a:pt x="313" y="0"/>
                </a:lnTo>
                <a:lnTo>
                  <a:pt x="317" y="0"/>
                </a:lnTo>
                <a:lnTo>
                  <a:pt x="321" y="0"/>
                </a:lnTo>
                <a:lnTo>
                  <a:pt x="326" y="0"/>
                </a:lnTo>
                <a:lnTo>
                  <a:pt x="330" y="0"/>
                </a:lnTo>
                <a:lnTo>
                  <a:pt x="334" y="0"/>
                </a:lnTo>
                <a:lnTo>
                  <a:pt x="339" y="0"/>
                </a:lnTo>
                <a:lnTo>
                  <a:pt x="343" y="0"/>
                </a:lnTo>
                <a:lnTo>
                  <a:pt x="347" y="0"/>
                </a:lnTo>
                <a:lnTo>
                  <a:pt x="352" y="0"/>
                </a:lnTo>
                <a:lnTo>
                  <a:pt x="356" y="0"/>
                </a:lnTo>
                <a:lnTo>
                  <a:pt x="360" y="0"/>
                </a:lnTo>
                <a:lnTo>
                  <a:pt x="365" y="0"/>
                </a:lnTo>
                <a:lnTo>
                  <a:pt x="369" y="0"/>
                </a:lnTo>
                <a:lnTo>
                  <a:pt x="373" y="0"/>
                </a:lnTo>
                <a:lnTo>
                  <a:pt x="378" y="0"/>
                </a:lnTo>
                <a:lnTo>
                  <a:pt x="382" y="0"/>
                </a:lnTo>
                <a:lnTo>
                  <a:pt x="386" y="0"/>
                </a:lnTo>
                <a:lnTo>
                  <a:pt x="391" y="0"/>
                </a:lnTo>
                <a:lnTo>
                  <a:pt x="395" y="0"/>
                </a:lnTo>
                <a:lnTo>
                  <a:pt x="399" y="0"/>
                </a:lnTo>
                <a:lnTo>
                  <a:pt x="404" y="0"/>
                </a:lnTo>
                <a:lnTo>
                  <a:pt x="408" y="0"/>
                </a:lnTo>
                <a:lnTo>
                  <a:pt x="412" y="0"/>
                </a:lnTo>
                <a:lnTo>
                  <a:pt x="417" y="0"/>
                </a:lnTo>
                <a:lnTo>
                  <a:pt x="421" y="0"/>
                </a:lnTo>
                <a:lnTo>
                  <a:pt x="425" y="0"/>
                </a:lnTo>
                <a:lnTo>
                  <a:pt x="430" y="0"/>
                </a:lnTo>
                <a:lnTo>
                  <a:pt x="434" y="0"/>
                </a:lnTo>
                <a:lnTo>
                  <a:pt x="438" y="0"/>
                </a:lnTo>
                <a:lnTo>
                  <a:pt x="443" y="0"/>
                </a:lnTo>
                <a:lnTo>
                  <a:pt x="447" y="0"/>
                </a:lnTo>
                <a:lnTo>
                  <a:pt x="451" y="0"/>
                </a:lnTo>
                <a:lnTo>
                  <a:pt x="456" y="0"/>
                </a:lnTo>
                <a:lnTo>
                  <a:pt x="460" y="0"/>
                </a:lnTo>
                <a:lnTo>
                  <a:pt x="464" y="0"/>
                </a:lnTo>
                <a:lnTo>
                  <a:pt x="469" y="0"/>
                </a:lnTo>
                <a:lnTo>
                  <a:pt x="473" y="0"/>
                </a:lnTo>
                <a:lnTo>
                  <a:pt x="477" y="0"/>
                </a:lnTo>
                <a:lnTo>
                  <a:pt x="482" y="0"/>
                </a:lnTo>
                <a:lnTo>
                  <a:pt x="486" y="0"/>
                </a:lnTo>
                <a:lnTo>
                  <a:pt x="490" y="0"/>
                </a:lnTo>
                <a:lnTo>
                  <a:pt x="495" y="0"/>
                </a:lnTo>
                <a:lnTo>
                  <a:pt x="499" y="0"/>
                </a:lnTo>
                <a:lnTo>
                  <a:pt x="503" y="0"/>
                </a:lnTo>
                <a:lnTo>
                  <a:pt x="508" y="0"/>
                </a:lnTo>
                <a:lnTo>
                  <a:pt x="512" y="0"/>
                </a:lnTo>
                <a:lnTo>
                  <a:pt x="516" y="0"/>
                </a:lnTo>
                <a:lnTo>
                  <a:pt x="521" y="0"/>
                </a:lnTo>
                <a:lnTo>
                  <a:pt x="525" y="0"/>
                </a:lnTo>
                <a:lnTo>
                  <a:pt x="529" y="0"/>
                </a:lnTo>
                <a:lnTo>
                  <a:pt x="534" y="0"/>
                </a:lnTo>
                <a:lnTo>
                  <a:pt x="538" y="0"/>
                </a:lnTo>
                <a:lnTo>
                  <a:pt x="542" y="0"/>
                </a:lnTo>
                <a:lnTo>
                  <a:pt x="547" y="0"/>
                </a:lnTo>
                <a:lnTo>
                  <a:pt x="551" y="0"/>
                </a:lnTo>
                <a:lnTo>
                  <a:pt x="555" y="0"/>
                </a:lnTo>
                <a:lnTo>
                  <a:pt x="560" y="0"/>
                </a:lnTo>
                <a:lnTo>
                  <a:pt x="564" y="0"/>
                </a:lnTo>
                <a:lnTo>
                  <a:pt x="568" y="0"/>
                </a:lnTo>
                <a:lnTo>
                  <a:pt x="573" y="0"/>
                </a:lnTo>
                <a:lnTo>
                  <a:pt x="577" y="0"/>
                </a:lnTo>
                <a:lnTo>
                  <a:pt x="581" y="0"/>
                </a:lnTo>
                <a:lnTo>
                  <a:pt x="586" y="0"/>
                </a:lnTo>
                <a:lnTo>
                  <a:pt x="590" y="0"/>
                </a:lnTo>
                <a:lnTo>
                  <a:pt x="594" y="0"/>
                </a:lnTo>
                <a:lnTo>
                  <a:pt x="599" y="0"/>
                </a:lnTo>
                <a:lnTo>
                  <a:pt x="603" y="0"/>
                </a:lnTo>
                <a:lnTo>
                  <a:pt x="607" y="0"/>
                </a:lnTo>
                <a:lnTo>
                  <a:pt x="612" y="0"/>
                </a:lnTo>
                <a:lnTo>
                  <a:pt x="616" y="0"/>
                </a:lnTo>
                <a:lnTo>
                  <a:pt x="620" y="0"/>
                </a:lnTo>
                <a:lnTo>
                  <a:pt x="625" y="0"/>
                </a:lnTo>
                <a:lnTo>
                  <a:pt x="629" y="0"/>
                </a:lnTo>
                <a:lnTo>
                  <a:pt x="633" y="0"/>
                </a:lnTo>
                <a:lnTo>
                  <a:pt x="637" y="0"/>
                </a:lnTo>
                <a:lnTo>
                  <a:pt x="642" y="0"/>
                </a:lnTo>
                <a:lnTo>
                  <a:pt x="646" y="0"/>
                </a:lnTo>
                <a:lnTo>
                  <a:pt x="650" y="0"/>
                </a:lnTo>
                <a:lnTo>
                  <a:pt x="655" y="0"/>
                </a:lnTo>
                <a:lnTo>
                  <a:pt x="659" y="0"/>
                </a:lnTo>
                <a:lnTo>
                  <a:pt x="663" y="0"/>
                </a:lnTo>
                <a:lnTo>
                  <a:pt x="668" y="0"/>
                </a:lnTo>
                <a:lnTo>
                  <a:pt x="672" y="0"/>
                </a:lnTo>
                <a:lnTo>
                  <a:pt x="676" y="0"/>
                </a:lnTo>
                <a:lnTo>
                  <a:pt x="681" y="0"/>
                </a:lnTo>
                <a:lnTo>
                  <a:pt x="685" y="0"/>
                </a:lnTo>
                <a:lnTo>
                  <a:pt x="689" y="0"/>
                </a:lnTo>
                <a:lnTo>
                  <a:pt x="694" y="0"/>
                </a:lnTo>
                <a:lnTo>
                  <a:pt x="698" y="0"/>
                </a:lnTo>
                <a:lnTo>
                  <a:pt x="702" y="0"/>
                </a:lnTo>
                <a:lnTo>
                  <a:pt x="707" y="0"/>
                </a:lnTo>
                <a:lnTo>
                  <a:pt x="711" y="0"/>
                </a:lnTo>
                <a:lnTo>
                  <a:pt x="715" y="0"/>
                </a:lnTo>
                <a:lnTo>
                  <a:pt x="720" y="0"/>
                </a:lnTo>
                <a:lnTo>
                  <a:pt x="724" y="0"/>
                </a:lnTo>
                <a:lnTo>
                  <a:pt x="728" y="0"/>
                </a:lnTo>
                <a:lnTo>
                  <a:pt x="733" y="0"/>
                </a:lnTo>
                <a:lnTo>
                  <a:pt x="737" y="0"/>
                </a:lnTo>
                <a:lnTo>
                  <a:pt x="741" y="0"/>
                </a:lnTo>
                <a:lnTo>
                  <a:pt x="746" y="0"/>
                </a:lnTo>
                <a:lnTo>
                  <a:pt x="750" y="0"/>
                </a:lnTo>
                <a:lnTo>
                  <a:pt x="754" y="0"/>
                </a:lnTo>
                <a:lnTo>
                  <a:pt x="759" y="0"/>
                </a:lnTo>
                <a:lnTo>
                  <a:pt x="763" y="0"/>
                </a:lnTo>
                <a:lnTo>
                  <a:pt x="767" y="0"/>
                </a:lnTo>
                <a:lnTo>
                  <a:pt x="772" y="0"/>
                </a:lnTo>
                <a:lnTo>
                  <a:pt x="776" y="0"/>
                </a:lnTo>
                <a:lnTo>
                  <a:pt x="780" y="0"/>
                </a:lnTo>
                <a:lnTo>
                  <a:pt x="785" y="0"/>
                </a:lnTo>
                <a:lnTo>
                  <a:pt x="789" y="0"/>
                </a:lnTo>
                <a:lnTo>
                  <a:pt x="793" y="0"/>
                </a:lnTo>
                <a:lnTo>
                  <a:pt x="798" y="0"/>
                </a:lnTo>
                <a:lnTo>
                  <a:pt x="802" y="0"/>
                </a:lnTo>
                <a:lnTo>
                  <a:pt x="806" y="0"/>
                </a:lnTo>
                <a:lnTo>
                  <a:pt x="811" y="0"/>
                </a:lnTo>
                <a:lnTo>
                  <a:pt x="815" y="0"/>
                </a:lnTo>
                <a:lnTo>
                  <a:pt x="819" y="0"/>
                </a:lnTo>
                <a:lnTo>
                  <a:pt x="824" y="0"/>
                </a:lnTo>
                <a:lnTo>
                  <a:pt x="828" y="0"/>
                </a:lnTo>
                <a:lnTo>
                  <a:pt x="832" y="0"/>
                </a:lnTo>
                <a:lnTo>
                  <a:pt x="837" y="0"/>
                </a:lnTo>
                <a:lnTo>
                  <a:pt x="841" y="0"/>
                </a:lnTo>
                <a:lnTo>
                  <a:pt x="845" y="0"/>
                </a:lnTo>
                <a:lnTo>
                  <a:pt x="850" y="0"/>
                </a:lnTo>
                <a:lnTo>
                  <a:pt x="854" y="0"/>
                </a:lnTo>
                <a:lnTo>
                  <a:pt x="858" y="0"/>
                </a:lnTo>
                <a:lnTo>
                  <a:pt x="863" y="0"/>
                </a:lnTo>
                <a:lnTo>
                  <a:pt x="867" y="0"/>
                </a:lnTo>
                <a:lnTo>
                  <a:pt x="871" y="0"/>
                </a:lnTo>
                <a:lnTo>
                  <a:pt x="876" y="0"/>
                </a:lnTo>
                <a:lnTo>
                  <a:pt x="880" y="0"/>
                </a:lnTo>
                <a:lnTo>
                  <a:pt x="884" y="0"/>
                </a:lnTo>
                <a:lnTo>
                  <a:pt x="889" y="0"/>
                </a:lnTo>
                <a:lnTo>
                  <a:pt x="893" y="0"/>
                </a:lnTo>
                <a:lnTo>
                  <a:pt x="897" y="0"/>
                </a:lnTo>
                <a:lnTo>
                  <a:pt x="903" y="0"/>
                </a:lnTo>
                <a:lnTo>
                  <a:pt x="907" y="0"/>
                </a:lnTo>
                <a:lnTo>
                  <a:pt x="912" y="0"/>
                </a:lnTo>
                <a:lnTo>
                  <a:pt x="916" y="0"/>
                </a:lnTo>
                <a:lnTo>
                  <a:pt x="920" y="0"/>
                </a:lnTo>
                <a:lnTo>
                  <a:pt x="925" y="0"/>
                </a:lnTo>
                <a:lnTo>
                  <a:pt x="929" y="0"/>
                </a:lnTo>
                <a:lnTo>
                  <a:pt x="933" y="0"/>
                </a:lnTo>
                <a:lnTo>
                  <a:pt x="938" y="0"/>
                </a:lnTo>
                <a:lnTo>
                  <a:pt x="942" y="0"/>
                </a:lnTo>
                <a:lnTo>
                  <a:pt x="946" y="0"/>
                </a:lnTo>
                <a:lnTo>
                  <a:pt x="951" y="0"/>
                </a:lnTo>
                <a:lnTo>
                  <a:pt x="955" y="0"/>
                </a:lnTo>
                <a:lnTo>
                  <a:pt x="959" y="0"/>
                </a:lnTo>
                <a:lnTo>
                  <a:pt x="964" y="4"/>
                </a:lnTo>
                <a:lnTo>
                  <a:pt x="968" y="4"/>
                </a:lnTo>
                <a:lnTo>
                  <a:pt x="972" y="4"/>
                </a:lnTo>
                <a:lnTo>
                  <a:pt x="977" y="8"/>
                </a:lnTo>
                <a:lnTo>
                  <a:pt x="981" y="8"/>
                </a:lnTo>
                <a:lnTo>
                  <a:pt x="985" y="8"/>
                </a:lnTo>
                <a:lnTo>
                  <a:pt x="985" y="12"/>
                </a:lnTo>
                <a:lnTo>
                  <a:pt x="990" y="12"/>
                </a:lnTo>
                <a:lnTo>
                  <a:pt x="994" y="16"/>
                </a:lnTo>
                <a:lnTo>
                  <a:pt x="998" y="20"/>
                </a:lnTo>
                <a:lnTo>
                  <a:pt x="1003" y="20"/>
                </a:lnTo>
                <a:lnTo>
                  <a:pt x="1007" y="24"/>
                </a:lnTo>
                <a:lnTo>
                  <a:pt x="1011" y="28"/>
                </a:lnTo>
                <a:lnTo>
                  <a:pt x="1011" y="32"/>
                </a:lnTo>
                <a:lnTo>
                  <a:pt x="1016" y="36"/>
                </a:lnTo>
                <a:lnTo>
                  <a:pt x="1020" y="40"/>
                </a:lnTo>
                <a:lnTo>
                  <a:pt x="1024" y="44"/>
                </a:lnTo>
                <a:lnTo>
                  <a:pt x="1029" y="48"/>
                </a:lnTo>
                <a:lnTo>
                  <a:pt x="1033" y="56"/>
                </a:lnTo>
                <a:lnTo>
                  <a:pt x="1033" y="60"/>
                </a:lnTo>
                <a:lnTo>
                  <a:pt x="1037" y="64"/>
                </a:lnTo>
                <a:lnTo>
                  <a:pt x="1042" y="72"/>
                </a:lnTo>
                <a:lnTo>
                  <a:pt x="1046" y="80"/>
                </a:lnTo>
                <a:lnTo>
                  <a:pt x="1050" y="84"/>
                </a:lnTo>
                <a:lnTo>
                  <a:pt x="1055" y="92"/>
                </a:lnTo>
                <a:lnTo>
                  <a:pt x="1059" y="100"/>
                </a:lnTo>
                <a:lnTo>
                  <a:pt x="1059" y="112"/>
                </a:lnTo>
                <a:lnTo>
                  <a:pt x="1063" y="120"/>
                </a:lnTo>
                <a:lnTo>
                  <a:pt x="1068" y="128"/>
                </a:lnTo>
                <a:lnTo>
                  <a:pt x="1072" y="140"/>
                </a:lnTo>
                <a:lnTo>
                  <a:pt x="1076" y="152"/>
                </a:lnTo>
                <a:lnTo>
                  <a:pt x="1081" y="164"/>
                </a:lnTo>
                <a:lnTo>
                  <a:pt x="1081" y="176"/>
                </a:lnTo>
                <a:lnTo>
                  <a:pt x="1085" y="188"/>
                </a:lnTo>
                <a:lnTo>
                  <a:pt x="1089" y="204"/>
                </a:lnTo>
                <a:lnTo>
                  <a:pt x="1094" y="220"/>
                </a:lnTo>
                <a:lnTo>
                  <a:pt x="1098" y="236"/>
                </a:lnTo>
                <a:lnTo>
                  <a:pt x="1102" y="252"/>
                </a:lnTo>
                <a:lnTo>
                  <a:pt x="1107" y="272"/>
                </a:lnTo>
                <a:lnTo>
                  <a:pt x="1107" y="296"/>
                </a:lnTo>
                <a:lnTo>
                  <a:pt x="1111" y="320"/>
                </a:lnTo>
                <a:lnTo>
                  <a:pt x="1115" y="348"/>
                </a:lnTo>
                <a:lnTo>
                  <a:pt x="1120" y="384"/>
                </a:lnTo>
                <a:lnTo>
                  <a:pt x="1124" y="424"/>
                </a:lnTo>
                <a:lnTo>
                  <a:pt x="1128" y="484"/>
                </a:lnTo>
                <a:lnTo>
                  <a:pt x="1128" y="600"/>
                </a:lnTo>
                <a:lnTo>
                  <a:pt x="1133" y="596"/>
                </a:lnTo>
                <a:lnTo>
                  <a:pt x="1137" y="528"/>
                </a:lnTo>
                <a:lnTo>
                  <a:pt x="1141" y="504"/>
                </a:lnTo>
                <a:lnTo>
                  <a:pt x="1146" y="500"/>
                </a:lnTo>
                <a:lnTo>
                  <a:pt x="1150" y="504"/>
                </a:lnTo>
                <a:lnTo>
                  <a:pt x="1154" y="516"/>
                </a:lnTo>
                <a:lnTo>
                  <a:pt x="1154" y="544"/>
                </a:lnTo>
                <a:lnTo>
                  <a:pt x="1159" y="584"/>
                </a:lnTo>
                <a:lnTo>
                  <a:pt x="1163" y="676"/>
                </a:lnTo>
                <a:lnTo>
                  <a:pt x="1167" y="680"/>
                </a:lnTo>
                <a:lnTo>
                  <a:pt x="1172" y="592"/>
                </a:lnTo>
                <a:lnTo>
                  <a:pt x="1176" y="552"/>
                </a:lnTo>
                <a:lnTo>
                  <a:pt x="1176" y="532"/>
                </a:lnTo>
                <a:lnTo>
                  <a:pt x="1180" y="520"/>
                </a:lnTo>
                <a:lnTo>
                  <a:pt x="1185" y="512"/>
                </a:lnTo>
                <a:lnTo>
                  <a:pt x="1189" y="512"/>
                </a:lnTo>
                <a:lnTo>
                  <a:pt x="1193" y="512"/>
                </a:lnTo>
                <a:lnTo>
                  <a:pt x="1198" y="520"/>
                </a:lnTo>
                <a:lnTo>
                  <a:pt x="1202" y="528"/>
                </a:lnTo>
                <a:lnTo>
                  <a:pt x="1202" y="544"/>
                </a:lnTo>
                <a:lnTo>
                  <a:pt x="1206" y="568"/>
                </a:lnTo>
                <a:lnTo>
                  <a:pt x="1211" y="600"/>
                </a:lnTo>
                <a:lnTo>
                  <a:pt x="1215" y="652"/>
                </a:lnTo>
                <a:lnTo>
                  <a:pt x="1219" y="836"/>
                </a:lnTo>
                <a:lnTo>
                  <a:pt x="1224" y="680"/>
                </a:lnTo>
                <a:lnTo>
                  <a:pt x="1224" y="620"/>
                </a:lnTo>
                <a:lnTo>
                  <a:pt x="1228" y="592"/>
                </a:lnTo>
                <a:lnTo>
                  <a:pt x="1232" y="576"/>
                </a:lnTo>
                <a:lnTo>
                  <a:pt x="1237" y="564"/>
                </a:lnTo>
                <a:lnTo>
                  <a:pt x="1241" y="560"/>
                </a:lnTo>
                <a:lnTo>
                  <a:pt x="1245" y="560"/>
                </a:lnTo>
                <a:lnTo>
                  <a:pt x="1250" y="564"/>
                </a:lnTo>
                <a:lnTo>
                  <a:pt x="1250" y="572"/>
                </a:lnTo>
                <a:lnTo>
                  <a:pt x="1254" y="584"/>
                </a:lnTo>
                <a:lnTo>
                  <a:pt x="1258" y="608"/>
                </a:lnTo>
                <a:lnTo>
                  <a:pt x="1262" y="640"/>
                </a:lnTo>
                <a:lnTo>
                  <a:pt x="1267" y="708"/>
                </a:lnTo>
                <a:lnTo>
                  <a:pt x="1271" y="824"/>
                </a:lnTo>
                <a:lnTo>
                  <a:pt x="1271" y="672"/>
                </a:lnTo>
                <a:lnTo>
                  <a:pt x="1275" y="624"/>
                </a:lnTo>
                <a:lnTo>
                  <a:pt x="1280" y="596"/>
                </a:lnTo>
                <a:lnTo>
                  <a:pt x="1284" y="576"/>
                </a:lnTo>
                <a:lnTo>
                  <a:pt x="1288" y="564"/>
                </a:lnTo>
                <a:lnTo>
                  <a:pt x="1293" y="556"/>
                </a:lnTo>
                <a:lnTo>
                  <a:pt x="1297" y="552"/>
                </a:lnTo>
                <a:lnTo>
                  <a:pt x="1297" y="548"/>
                </a:lnTo>
                <a:lnTo>
                  <a:pt x="1301" y="548"/>
                </a:lnTo>
                <a:lnTo>
                  <a:pt x="1306" y="552"/>
                </a:lnTo>
                <a:lnTo>
                  <a:pt x="1310" y="560"/>
                </a:lnTo>
                <a:lnTo>
                  <a:pt x="1314" y="572"/>
                </a:lnTo>
                <a:lnTo>
                  <a:pt x="1319" y="584"/>
                </a:lnTo>
                <a:lnTo>
                  <a:pt x="1319" y="604"/>
                </a:lnTo>
                <a:lnTo>
                  <a:pt x="1323" y="632"/>
                </a:lnTo>
                <a:lnTo>
                  <a:pt x="1327" y="676"/>
                </a:lnTo>
                <a:lnTo>
                  <a:pt x="1332" y="780"/>
                </a:lnTo>
                <a:lnTo>
                  <a:pt x="1336" y="760"/>
                </a:lnTo>
                <a:lnTo>
                  <a:pt x="1340" y="676"/>
                </a:lnTo>
                <a:lnTo>
                  <a:pt x="1345" y="640"/>
                </a:lnTo>
                <a:lnTo>
                  <a:pt x="1345" y="620"/>
                </a:lnTo>
                <a:lnTo>
                  <a:pt x="1349" y="604"/>
                </a:lnTo>
                <a:lnTo>
                  <a:pt x="1353" y="596"/>
                </a:lnTo>
                <a:lnTo>
                  <a:pt x="1358" y="592"/>
                </a:lnTo>
                <a:lnTo>
                  <a:pt x="1362" y="592"/>
                </a:lnTo>
                <a:lnTo>
                  <a:pt x="1366" y="596"/>
                </a:lnTo>
                <a:lnTo>
                  <a:pt x="1366" y="604"/>
                </a:lnTo>
                <a:lnTo>
                  <a:pt x="1371" y="612"/>
                </a:lnTo>
                <a:lnTo>
                  <a:pt x="1375" y="632"/>
                </a:lnTo>
                <a:lnTo>
                  <a:pt x="1379" y="656"/>
                </a:lnTo>
                <a:lnTo>
                  <a:pt x="1384" y="696"/>
                </a:lnTo>
                <a:lnTo>
                  <a:pt x="1388" y="788"/>
                </a:lnTo>
                <a:lnTo>
                  <a:pt x="1392" y="796"/>
                </a:lnTo>
                <a:lnTo>
                  <a:pt x="1392" y="704"/>
                </a:lnTo>
                <a:lnTo>
                  <a:pt x="1397" y="660"/>
                </a:lnTo>
                <a:lnTo>
                  <a:pt x="1401" y="636"/>
                </a:lnTo>
                <a:lnTo>
                  <a:pt x="1405" y="620"/>
                </a:lnTo>
                <a:lnTo>
                  <a:pt x="1410" y="612"/>
                </a:lnTo>
                <a:lnTo>
                  <a:pt x="1414" y="604"/>
                </a:lnTo>
                <a:lnTo>
                  <a:pt x="1418" y="604"/>
                </a:lnTo>
                <a:lnTo>
                  <a:pt x="1423" y="608"/>
                </a:lnTo>
                <a:lnTo>
                  <a:pt x="1427" y="616"/>
                </a:lnTo>
                <a:lnTo>
                  <a:pt x="1431" y="632"/>
                </a:lnTo>
                <a:lnTo>
                  <a:pt x="1436" y="652"/>
                </a:lnTo>
                <a:lnTo>
                  <a:pt x="1440" y="684"/>
                </a:lnTo>
                <a:lnTo>
                  <a:pt x="1440" y="744"/>
                </a:lnTo>
                <a:lnTo>
                  <a:pt x="1444" y="988"/>
                </a:lnTo>
                <a:lnTo>
                  <a:pt x="1449" y="732"/>
                </a:lnTo>
                <a:lnTo>
                  <a:pt x="1453" y="680"/>
                </a:lnTo>
                <a:lnTo>
                  <a:pt x="1457" y="648"/>
                </a:lnTo>
                <a:lnTo>
                  <a:pt x="1462" y="628"/>
                </a:lnTo>
                <a:lnTo>
                  <a:pt x="1462" y="612"/>
                </a:lnTo>
                <a:lnTo>
                  <a:pt x="1466" y="604"/>
                </a:lnTo>
                <a:lnTo>
                  <a:pt x="1470" y="596"/>
                </a:lnTo>
                <a:lnTo>
                  <a:pt x="1475" y="596"/>
                </a:lnTo>
                <a:lnTo>
                  <a:pt x="1479" y="596"/>
                </a:lnTo>
                <a:lnTo>
                  <a:pt x="1483" y="600"/>
                </a:lnTo>
                <a:lnTo>
                  <a:pt x="1488" y="604"/>
                </a:lnTo>
                <a:lnTo>
                  <a:pt x="1488" y="616"/>
                </a:lnTo>
                <a:lnTo>
                  <a:pt x="1492" y="632"/>
                </a:lnTo>
                <a:lnTo>
                  <a:pt x="1496" y="652"/>
                </a:lnTo>
                <a:lnTo>
                  <a:pt x="1501" y="688"/>
                </a:lnTo>
                <a:lnTo>
                  <a:pt x="1505" y="752"/>
                </a:lnTo>
                <a:lnTo>
                  <a:pt x="1509" y="928"/>
                </a:lnTo>
                <a:lnTo>
                  <a:pt x="1509" y="732"/>
                </a:lnTo>
                <a:lnTo>
                  <a:pt x="1514" y="680"/>
                </a:lnTo>
                <a:lnTo>
                  <a:pt x="1518" y="652"/>
                </a:lnTo>
                <a:lnTo>
                  <a:pt x="1522" y="632"/>
                </a:lnTo>
                <a:lnTo>
                  <a:pt x="1527" y="620"/>
                </a:lnTo>
                <a:lnTo>
                  <a:pt x="1531" y="612"/>
                </a:lnTo>
                <a:lnTo>
                  <a:pt x="1535" y="608"/>
                </a:lnTo>
                <a:lnTo>
                  <a:pt x="1540" y="612"/>
                </a:lnTo>
                <a:lnTo>
                  <a:pt x="1544" y="616"/>
                </a:lnTo>
                <a:lnTo>
                  <a:pt x="1548" y="628"/>
                </a:lnTo>
                <a:lnTo>
                  <a:pt x="1553" y="644"/>
                </a:lnTo>
                <a:lnTo>
                  <a:pt x="1557" y="672"/>
                </a:lnTo>
                <a:lnTo>
                  <a:pt x="1557" y="720"/>
                </a:lnTo>
                <a:lnTo>
                  <a:pt x="1561" y="860"/>
                </a:lnTo>
                <a:lnTo>
                  <a:pt x="1566" y="756"/>
                </a:lnTo>
                <a:lnTo>
                  <a:pt x="1570" y="684"/>
                </a:lnTo>
                <a:lnTo>
                  <a:pt x="1574" y="648"/>
                </a:lnTo>
                <a:lnTo>
                  <a:pt x="1579" y="624"/>
                </a:lnTo>
                <a:lnTo>
                  <a:pt x="1579" y="604"/>
                </a:lnTo>
                <a:lnTo>
                  <a:pt x="1583" y="592"/>
                </a:lnTo>
                <a:lnTo>
                  <a:pt x="1587" y="584"/>
                </a:lnTo>
                <a:lnTo>
                  <a:pt x="1592" y="576"/>
                </a:lnTo>
                <a:lnTo>
                  <a:pt x="1596" y="572"/>
                </a:lnTo>
                <a:lnTo>
                  <a:pt x="1600" y="572"/>
                </a:lnTo>
                <a:lnTo>
                  <a:pt x="1605" y="572"/>
                </a:lnTo>
                <a:lnTo>
                  <a:pt x="1605" y="576"/>
                </a:lnTo>
                <a:lnTo>
                  <a:pt x="1609" y="580"/>
                </a:lnTo>
                <a:lnTo>
                  <a:pt x="1613" y="588"/>
                </a:lnTo>
                <a:lnTo>
                  <a:pt x="1618" y="600"/>
                </a:lnTo>
                <a:lnTo>
                  <a:pt x="1622" y="616"/>
                </a:lnTo>
                <a:lnTo>
                  <a:pt x="1626" y="636"/>
                </a:lnTo>
                <a:lnTo>
                  <a:pt x="1626" y="664"/>
                </a:lnTo>
                <a:lnTo>
                  <a:pt x="1631" y="708"/>
                </a:lnTo>
                <a:lnTo>
                  <a:pt x="1635" y="808"/>
                </a:lnTo>
                <a:lnTo>
                  <a:pt x="1639" y="800"/>
                </a:lnTo>
                <a:lnTo>
                  <a:pt x="1644" y="716"/>
                </a:lnTo>
                <a:lnTo>
                  <a:pt x="1648" y="676"/>
                </a:lnTo>
                <a:lnTo>
                  <a:pt x="1652" y="656"/>
                </a:lnTo>
                <a:lnTo>
                  <a:pt x="1652" y="640"/>
                </a:lnTo>
                <a:lnTo>
                  <a:pt x="1657" y="632"/>
                </a:lnTo>
                <a:lnTo>
                  <a:pt x="1661" y="628"/>
                </a:lnTo>
                <a:lnTo>
                  <a:pt x="1665" y="632"/>
                </a:lnTo>
                <a:lnTo>
                  <a:pt x="1670" y="636"/>
                </a:lnTo>
                <a:lnTo>
                  <a:pt x="1674" y="644"/>
                </a:lnTo>
                <a:lnTo>
                  <a:pt x="1674" y="660"/>
                </a:lnTo>
                <a:lnTo>
                  <a:pt x="1678" y="684"/>
                </a:lnTo>
                <a:lnTo>
                  <a:pt x="1683" y="728"/>
                </a:lnTo>
                <a:lnTo>
                  <a:pt x="1687" y="824"/>
                </a:lnTo>
                <a:lnTo>
                  <a:pt x="1691" y="800"/>
                </a:lnTo>
                <a:lnTo>
                  <a:pt x="1696" y="716"/>
                </a:lnTo>
                <a:lnTo>
                  <a:pt x="1700" y="672"/>
                </a:lnTo>
                <a:lnTo>
                  <a:pt x="1700" y="648"/>
                </a:lnTo>
                <a:lnTo>
                  <a:pt x="1704" y="628"/>
                </a:lnTo>
                <a:lnTo>
                  <a:pt x="1709" y="616"/>
                </a:lnTo>
                <a:lnTo>
                  <a:pt x="1714" y="608"/>
                </a:lnTo>
                <a:lnTo>
                  <a:pt x="1719" y="604"/>
                </a:lnTo>
                <a:lnTo>
                  <a:pt x="1723" y="600"/>
                </a:lnTo>
                <a:lnTo>
                  <a:pt x="1727" y="604"/>
                </a:lnTo>
                <a:lnTo>
                  <a:pt x="1732" y="608"/>
                </a:lnTo>
                <a:lnTo>
                  <a:pt x="1736" y="616"/>
                </a:lnTo>
                <a:lnTo>
                  <a:pt x="1740" y="632"/>
                </a:lnTo>
                <a:lnTo>
                  <a:pt x="1745" y="648"/>
                </a:lnTo>
                <a:lnTo>
                  <a:pt x="1749" y="676"/>
                </a:lnTo>
                <a:lnTo>
                  <a:pt x="1749" y="724"/>
                </a:lnTo>
                <a:lnTo>
                  <a:pt x="1753" y="852"/>
                </a:lnTo>
                <a:lnTo>
                  <a:pt x="1758" y="772"/>
                </a:lnTo>
                <a:lnTo>
                  <a:pt x="1762" y="700"/>
                </a:lnTo>
                <a:lnTo>
                  <a:pt x="1766" y="664"/>
                </a:lnTo>
                <a:lnTo>
                  <a:pt x="1771" y="640"/>
                </a:lnTo>
                <a:lnTo>
                  <a:pt x="1771" y="628"/>
                </a:lnTo>
                <a:lnTo>
                  <a:pt x="1775" y="616"/>
                </a:lnTo>
                <a:lnTo>
                  <a:pt x="1779" y="608"/>
                </a:lnTo>
                <a:lnTo>
                  <a:pt x="1784" y="604"/>
                </a:lnTo>
                <a:lnTo>
                  <a:pt x="1788" y="604"/>
                </a:lnTo>
                <a:lnTo>
                  <a:pt x="1792" y="608"/>
                </a:lnTo>
                <a:lnTo>
                  <a:pt x="1797" y="612"/>
                </a:lnTo>
                <a:lnTo>
                  <a:pt x="1797" y="620"/>
                </a:lnTo>
                <a:lnTo>
                  <a:pt x="1801" y="636"/>
                </a:lnTo>
                <a:lnTo>
                  <a:pt x="1805" y="652"/>
                </a:lnTo>
                <a:lnTo>
                  <a:pt x="1810" y="680"/>
                </a:lnTo>
                <a:lnTo>
                  <a:pt x="1814" y="728"/>
                </a:lnTo>
                <a:lnTo>
                  <a:pt x="1818" y="860"/>
                </a:lnTo>
                <a:lnTo>
                  <a:pt x="1818" y="776"/>
                </a:lnTo>
                <a:lnTo>
                  <a:pt x="1823" y="704"/>
                </a:lnTo>
                <a:lnTo>
                  <a:pt x="1827" y="668"/>
                </a:lnTo>
                <a:lnTo>
                  <a:pt x="1831" y="644"/>
                </a:lnTo>
                <a:lnTo>
                  <a:pt x="1836" y="628"/>
                </a:lnTo>
                <a:lnTo>
                  <a:pt x="1840" y="620"/>
                </a:lnTo>
                <a:lnTo>
                  <a:pt x="1844" y="612"/>
                </a:lnTo>
                <a:lnTo>
                  <a:pt x="1844" y="608"/>
                </a:lnTo>
                <a:lnTo>
                  <a:pt x="1849" y="608"/>
                </a:lnTo>
                <a:lnTo>
                  <a:pt x="1853" y="612"/>
                </a:lnTo>
                <a:lnTo>
                  <a:pt x="1857" y="616"/>
                </a:lnTo>
                <a:lnTo>
                  <a:pt x="1862" y="628"/>
                </a:lnTo>
                <a:lnTo>
                  <a:pt x="1866" y="640"/>
                </a:lnTo>
                <a:lnTo>
                  <a:pt x="1866" y="664"/>
                </a:lnTo>
                <a:lnTo>
                  <a:pt x="1870" y="692"/>
                </a:lnTo>
                <a:lnTo>
                  <a:pt x="1875" y="752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92280" y="4195800"/>
            <a:ext cx="354780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14300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69704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24316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279720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334332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389736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143000" y="65516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143000" y="62406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143000" y="593568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143000" y="56246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143000" y="53132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143000" y="50022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143000" y="469728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43000" y="43862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143000" y="4386240"/>
            <a:ext cx="2755800" cy="2166840"/>
          </a:xfrm>
          <a:custGeom>
            <a:avLst/>
            <a:gdLst/>
            <a:ahLst/>
            <a:rect l="l" t="t" r="r" b="b"/>
            <a:pathLst>
              <a:path w="1881" h="1365">
                <a:moveTo>
                  <a:pt x="0" y="1364"/>
                </a:moveTo>
                <a:lnTo>
                  <a:pt x="0" y="0"/>
                </a:lnTo>
                <a:lnTo>
                  <a:pt x="18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143000" y="4386240"/>
            <a:ext cx="2755800" cy="2166840"/>
          </a:xfrm>
          <a:custGeom>
            <a:avLst/>
            <a:gdLst/>
            <a:ahLst/>
            <a:rect l="l" t="t" r="r" b="b"/>
            <a:pathLst>
              <a:path w="1881" h="1365">
                <a:moveTo>
                  <a:pt x="0" y="1364"/>
                </a:moveTo>
                <a:lnTo>
                  <a:pt x="0" y="0"/>
                </a:lnTo>
                <a:lnTo>
                  <a:pt x="18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143000" y="4386240"/>
            <a:ext cx="2755800" cy="2166840"/>
          </a:xfrm>
          <a:custGeom>
            <a:avLst/>
            <a:gdLst/>
            <a:ahLst/>
            <a:rect l="l" t="t" r="r" b="b"/>
            <a:pathLst>
              <a:path w="1881" h="1365">
                <a:moveTo>
                  <a:pt x="0" y="1364"/>
                </a:moveTo>
                <a:lnTo>
                  <a:pt x="0" y="0"/>
                </a:lnTo>
                <a:lnTo>
                  <a:pt x="18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143000" y="65516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43000" y="43862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14300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389736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143000" y="4386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897360" y="65516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143000" y="65516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114300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143000" y="6551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1143000" y="65257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143000" y="438624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15920" y="6531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1697040" y="65257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697040" y="438624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522440" y="653112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2243160" y="65257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43160" y="438624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067840" y="653112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2797200" y="65257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797200" y="438624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21880" y="653112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343320" y="65257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343320" y="438624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168000" y="653112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3897360" y="65257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897360" y="438624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70280" y="6531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143000" y="6551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3871440" y="6551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67240" y="64483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143000" y="6240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3871440" y="6240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867240" y="613728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143000" y="593568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3871440" y="593568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867240" y="583236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143000" y="5624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3871440" y="5624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926280" y="5521320"/>
            <a:ext cx="275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143000" y="5313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3871440" y="5313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926280" y="5210280"/>
            <a:ext cx="275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143000" y="5002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3871440" y="5002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926280" y="4898880"/>
            <a:ext cx="275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143000" y="469728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3871440" y="469728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926280" y="4594320"/>
            <a:ext cx="275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143000" y="4386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3871440" y="4386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958680" y="428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143000" y="65516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143000" y="43862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114300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89736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143000" y="6551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897360" y="43862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43000" y="4386240"/>
            <a:ext cx="2749680" cy="1944720"/>
          </a:xfrm>
          <a:custGeom>
            <a:avLst/>
            <a:gdLst/>
            <a:ahLst/>
            <a:rect l="l" t="t" r="r" b="b"/>
            <a:pathLst>
              <a:path w="1876" h="1225">
                <a:moveTo>
                  <a:pt x="0" y="0"/>
                </a:moveTo>
                <a:lnTo>
                  <a:pt x="4" y="0"/>
                </a:lnTo>
                <a:lnTo>
                  <a:pt x="8" y="4"/>
                </a:lnTo>
                <a:lnTo>
                  <a:pt x="12" y="4"/>
                </a:lnTo>
                <a:lnTo>
                  <a:pt x="17" y="4"/>
                </a:lnTo>
                <a:lnTo>
                  <a:pt x="21" y="8"/>
                </a:lnTo>
                <a:lnTo>
                  <a:pt x="25" y="8"/>
                </a:lnTo>
                <a:lnTo>
                  <a:pt x="30" y="8"/>
                </a:lnTo>
                <a:lnTo>
                  <a:pt x="34" y="8"/>
                </a:lnTo>
                <a:lnTo>
                  <a:pt x="34" y="12"/>
                </a:lnTo>
                <a:lnTo>
                  <a:pt x="38" y="12"/>
                </a:lnTo>
                <a:lnTo>
                  <a:pt x="43" y="12"/>
                </a:lnTo>
                <a:lnTo>
                  <a:pt x="47" y="12"/>
                </a:lnTo>
                <a:lnTo>
                  <a:pt x="51" y="16"/>
                </a:lnTo>
                <a:lnTo>
                  <a:pt x="56" y="16"/>
                </a:lnTo>
                <a:lnTo>
                  <a:pt x="60" y="16"/>
                </a:lnTo>
                <a:lnTo>
                  <a:pt x="64" y="20"/>
                </a:lnTo>
                <a:lnTo>
                  <a:pt x="69" y="20"/>
                </a:lnTo>
                <a:lnTo>
                  <a:pt x="73" y="20"/>
                </a:lnTo>
                <a:lnTo>
                  <a:pt x="77" y="20"/>
                </a:lnTo>
                <a:lnTo>
                  <a:pt x="82" y="24"/>
                </a:lnTo>
                <a:lnTo>
                  <a:pt x="86" y="24"/>
                </a:lnTo>
                <a:lnTo>
                  <a:pt x="90" y="24"/>
                </a:lnTo>
                <a:lnTo>
                  <a:pt x="96" y="28"/>
                </a:lnTo>
                <a:lnTo>
                  <a:pt x="100" y="28"/>
                </a:lnTo>
                <a:lnTo>
                  <a:pt x="105" y="28"/>
                </a:lnTo>
                <a:lnTo>
                  <a:pt x="109" y="28"/>
                </a:lnTo>
                <a:lnTo>
                  <a:pt x="109" y="32"/>
                </a:lnTo>
                <a:lnTo>
                  <a:pt x="113" y="32"/>
                </a:lnTo>
                <a:lnTo>
                  <a:pt x="118" y="32"/>
                </a:lnTo>
                <a:lnTo>
                  <a:pt x="122" y="32"/>
                </a:lnTo>
                <a:lnTo>
                  <a:pt x="126" y="36"/>
                </a:lnTo>
                <a:lnTo>
                  <a:pt x="131" y="36"/>
                </a:lnTo>
                <a:lnTo>
                  <a:pt x="135" y="40"/>
                </a:lnTo>
                <a:lnTo>
                  <a:pt x="139" y="40"/>
                </a:lnTo>
                <a:lnTo>
                  <a:pt x="144" y="40"/>
                </a:lnTo>
                <a:lnTo>
                  <a:pt x="148" y="40"/>
                </a:lnTo>
                <a:lnTo>
                  <a:pt x="152" y="44"/>
                </a:lnTo>
                <a:lnTo>
                  <a:pt x="157" y="44"/>
                </a:lnTo>
                <a:lnTo>
                  <a:pt x="161" y="44"/>
                </a:lnTo>
                <a:lnTo>
                  <a:pt x="165" y="48"/>
                </a:lnTo>
                <a:lnTo>
                  <a:pt x="170" y="48"/>
                </a:lnTo>
                <a:lnTo>
                  <a:pt x="174" y="48"/>
                </a:lnTo>
                <a:lnTo>
                  <a:pt x="178" y="48"/>
                </a:lnTo>
                <a:lnTo>
                  <a:pt x="178" y="52"/>
                </a:lnTo>
                <a:lnTo>
                  <a:pt x="183" y="52"/>
                </a:lnTo>
                <a:lnTo>
                  <a:pt x="187" y="52"/>
                </a:lnTo>
                <a:lnTo>
                  <a:pt x="191" y="52"/>
                </a:lnTo>
                <a:lnTo>
                  <a:pt x="196" y="56"/>
                </a:lnTo>
                <a:lnTo>
                  <a:pt x="200" y="56"/>
                </a:lnTo>
                <a:lnTo>
                  <a:pt x="204" y="56"/>
                </a:lnTo>
                <a:lnTo>
                  <a:pt x="204" y="60"/>
                </a:lnTo>
                <a:lnTo>
                  <a:pt x="209" y="60"/>
                </a:lnTo>
                <a:lnTo>
                  <a:pt x="213" y="60"/>
                </a:lnTo>
                <a:lnTo>
                  <a:pt x="217" y="60"/>
                </a:lnTo>
                <a:lnTo>
                  <a:pt x="222" y="64"/>
                </a:lnTo>
                <a:lnTo>
                  <a:pt x="226" y="64"/>
                </a:lnTo>
                <a:lnTo>
                  <a:pt x="230" y="64"/>
                </a:lnTo>
                <a:lnTo>
                  <a:pt x="235" y="68"/>
                </a:lnTo>
                <a:lnTo>
                  <a:pt x="239" y="68"/>
                </a:lnTo>
                <a:lnTo>
                  <a:pt x="243" y="68"/>
                </a:lnTo>
                <a:lnTo>
                  <a:pt x="248" y="72"/>
                </a:lnTo>
                <a:lnTo>
                  <a:pt x="252" y="72"/>
                </a:lnTo>
                <a:lnTo>
                  <a:pt x="256" y="72"/>
                </a:lnTo>
                <a:lnTo>
                  <a:pt x="261" y="76"/>
                </a:lnTo>
                <a:lnTo>
                  <a:pt x="265" y="76"/>
                </a:lnTo>
                <a:lnTo>
                  <a:pt x="269" y="76"/>
                </a:lnTo>
                <a:lnTo>
                  <a:pt x="274" y="76"/>
                </a:lnTo>
                <a:lnTo>
                  <a:pt x="274" y="80"/>
                </a:lnTo>
                <a:lnTo>
                  <a:pt x="278" y="80"/>
                </a:lnTo>
                <a:lnTo>
                  <a:pt x="282" y="80"/>
                </a:lnTo>
                <a:lnTo>
                  <a:pt x="287" y="84"/>
                </a:lnTo>
                <a:lnTo>
                  <a:pt x="291" y="84"/>
                </a:lnTo>
                <a:lnTo>
                  <a:pt x="295" y="84"/>
                </a:lnTo>
                <a:lnTo>
                  <a:pt x="300" y="84"/>
                </a:lnTo>
                <a:lnTo>
                  <a:pt x="300" y="88"/>
                </a:lnTo>
                <a:lnTo>
                  <a:pt x="304" y="88"/>
                </a:lnTo>
                <a:lnTo>
                  <a:pt x="308" y="88"/>
                </a:lnTo>
                <a:lnTo>
                  <a:pt x="313" y="92"/>
                </a:lnTo>
                <a:lnTo>
                  <a:pt x="317" y="92"/>
                </a:lnTo>
                <a:lnTo>
                  <a:pt x="321" y="92"/>
                </a:lnTo>
                <a:lnTo>
                  <a:pt x="326" y="96"/>
                </a:lnTo>
                <a:lnTo>
                  <a:pt x="330" y="96"/>
                </a:lnTo>
                <a:lnTo>
                  <a:pt x="334" y="96"/>
                </a:lnTo>
                <a:lnTo>
                  <a:pt x="339" y="100"/>
                </a:lnTo>
                <a:lnTo>
                  <a:pt x="343" y="100"/>
                </a:lnTo>
                <a:lnTo>
                  <a:pt x="347" y="104"/>
                </a:lnTo>
                <a:lnTo>
                  <a:pt x="352" y="104"/>
                </a:lnTo>
                <a:lnTo>
                  <a:pt x="356" y="104"/>
                </a:lnTo>
                <a:lnTo>
                  <a:pt x="360" y="104"/>
                </a:lnTo>
                <a:lnTo>
                  <a:pt x="365" y="108"/>
                </a:lnTo>
                <a:lnTo>
                  <a:pt x="369" y="108"/>
                </a:lnTo>
                <a:lnTo>
                  <a:pt x="373" y="112"/>
                </a:lnTo>
                <a:lnTo>
                  <a:pt x="378" y="112"/>
                </a:lnTo>
                <a:lnTo>
                  <a:pt x="382" y="112"/>
                </a:lnTo>
                <a:lnTo>
                  <a:pt x="386" y="116"/>
                </a:lnTo>
                <a:lnTo>
                  <a:pt x="391" y="116"/>
                </a:lnTo>
                <a:lnTo>
                  <a:pt x="395" y="120"/>
                </a:lnTo>
                <a:lnTo>
                  <a:pt x="399" y="120"/>
                </a:lnTo>
                <a:lnTo>
                  <a:pt x="404" y="120"/>
                </a:lnTo>
                <a:lnTo>
                  <a:pt x="408" y="120"/>
                </a:lnTo>
                <a:lnTo>
                  <a:pt x="412" y="124"/>
                </a:lnTo>
                <a:lnTo>
                  <a:pt x="417" y="124"/>
                </a:lnTo>
                <a:lnTo>
                  <a:pt x="421" y="128"/>
                </a:lnTo>
                <a:lnTo>
                  <a:pt x="425" y="128"/>
                </a:lnTo>
                <a:lnTo>
                  <a:pt x="430" y="128"/>
                </a:lnTo>
                <a:lnTo>
                  <a:pt x="434" y="132"/>
                </a:lnTo>
                <a:lnTo>
                  <a:pt x="438" y="132"/>
                </a:lnTo>
                <a:lnTo>
                  <a:pt x="443" y="136"/>
                </a:lnTo>
                <a:lnTo>
                  <a:pt x="447" y="136"/>
                </a:lnTo>
                <a:lnTo>
                  <a:pt x="451" y="136"/>
                </a:lnTo>
                <a:lnTo>
                  <a:pt x="456" y="140"/>
                </a:lnTo>
                <a:lnTo>
                  <a:pt x="460" y="140"/>
                </a:lnTo>
                <a:lnTo>
                  <a:pt x="464" y="140"/>
                </a:lnTo>
                <a:lnTo>
                  <a:pt x="464" y="144"/>
                </a:lnTo>
                <a:lnTo>
                  <a:pt x="469" y="144"/>
                </a:lnTo>
                <a:lnTo>
                  <a:pt x="473" y="144"/>
                </a:lnTo>
                <a:lnTo>
                  <a:pt x="477" y="148"/>
                </a:lnTo>
                <a:lnTo>
                  <a:pt x="482" y="148"/>
                </a:lnTo>
                <a:lnTo>
                  <a:pt x="486" y="148"/>
                </a:lnTo>
                <a:lnTo>
                  <a:pt x="486" y="152"/>
                </a:lnTo>
                <a:lnTo>
                  <a:pt x="490" y="152"/>
                </a:lnTo>
                <a:lnTo>
                  <a:pt x="495" y="152"/>
                </a:lnTo>
                <a:lnTo>
                  <a:pt x="499" y="156"/>
                </a:lnTo>
                <a:lnTo>
                  <a:pt x="503" y="156"/>
                </a:lnTo>
                <a:lnTo>
                  <a:pt x="508" y="160"/>
                </a:lnTo>
                <a:lnTo>
                  <a:pt x="512" y="160"/>
                </a:lnTo>
                <a:lnTo>
                  <a:pt x="516" y="164"/>
                </a:lnTo>
                <a:lnTo>
                  <a:pt x="521" y="164"/>
                </a:lnTo>
                <a:lnTo>
                  <a:pt x="525" y="164"/>
                </a:lnTo>
                <a:lnTo>
                  <a:pt x="529" y="168"/>
                </a:lnTo>
                <a:lnTo>
                  <a:pt x="534" y="168"/>
                </a:lnTo>
                <a:lnTo>
                  <a:pt x="534" y="172"/>
                </a:lnTo>
                <a:lnTo>
                  <a:pt x="538" y="172"/>
                </a:lnTo>
                <a:lnTo>
                  <a:pt x="542" y="172"/>
                </a:lnTo>
                <a:lnTo>
                  <a:pt x="547" y="176"/>
                </a:lnTo>
                <a:lnTo>
                  <a:pt x="551" y="176"/>
                </a:lnTo>
                <a:lnTo>
                  <a:pt x="555" y="176"/>
                </a:lnTo>
                <a:lnTo>
                  <a:pt x="560" y="180"/>
                </a:lnTo>
                <a:lnTo>
                  <a:pt x="564" y="184"/>
                </a:lnTo>
                <a:lnTo>
                  <a:pt x="568" y="184"/>
                </a:lnTo>
                <a:lnTo>
                  <a:pt x="573" y="184"/>
                </a:lnTo>
                <a:lnTo>
                  <a:pt x="577" y="188"/>
                </a:lnTo>
                <a:lnTo>
                  <a:pt x="581" y="188"/>
                </a:lnTo>
                <a:lnTo>
                  <a:pt x="581" y="192"/>
                </a:lnTo>
                <a:lnTo>
                  <a:pt x="586" y="192"/>
                </a:lnTo>
                <a:lnTo>
                  <a:pt x="590" y="192"/>
                </a:lnTo>
                <a:lnTo>
                  <a:pt x="594" y="196"/>
                </a:lnTo>
                <a:lnTo>
                  <a:pt x="599" y="196"/>
                </a:lnTo>
                <a:lnTo>
                  <a:pt x="603" y="200"/>
                </a:lnTo>
                <a:lnTo>
                  <a:pt x="607" y="200"/>
                </a:lnTo>
                <a:lnTo>
                  <a:pt x="607" y="204"/>
                </a:lnTo>
                <a:lnTo>
                  <a:pt x="612" y="204"/>
                </a:lnTo>
                <a:lnTo>
                  <a:pt x="616" y="204"/>
                </a:lnTo>
                <a:lnTo>
                  <a:pt x="620" y="208"/>
                </a:lnTo>
                <a:lnTo>
                  <a:pt x="625" y="208"/>
                </a:lnTo>
                <a:lnTo>
                  <a:pt x="629" y="212"/>
                </a:lnTo>
                <a:lnTo>
                  <a:pt x="633" y="216"/>
                </a:lnTo>
                <a:lnTo>
                  <a:pt x="637" y="216"/>
                </a:lnTo>
                <a:lnTo>
                  <a:pt x="642" y="220"/>
                </a:lnTo>
                <a:lnTo>
                  <a:pt x="646" y="220"/>
                </a:lnTo>
                <a:lnTo>
                  <a:pt x="650" y="224"/>
                </a:lnTo>
                <a:lnTo>
                  <a:pt x="655" y="224"/>
                </a:lnTo>
                <a:lnTo>
                  <a:pt x="655" y="228"/>
                </a:lnTo>
                <a:lnTo>
                  <a:pt x="659" y="228"/>
                </a:lnTo>
                <a:lnTo>
                  <a:pt x="663" y="232"/>
                </a:lnTo>
                <a:lnTo>
                  <a:pt x="668" y="232"/>
                </a:lnTo>
                <a:lnTo>
                  <a:pt x="672" y="236"/>
                </a:lnTo>
                <a:lnTo>
                  <a:pt x="676" y="236"/>
                </a:lnTo>
                <a:lnTo>
                  <a:pt x="676" y="240"/>
                </a:lnTo>
                <a:lnTo>
                  <a:pt x="681" y="240"/>
                </a:lnTo>
                <a:lnTo>
                  <a:pt x="685" y="244"/>
                </a:lnTo>
                <a:lnTo>
                  <a:pt x="689" y="244"/>
                </a:lnTo>
                <a:lnTo>
                  <a:pt x="694" y="248"/>
                </a:lnTo>
                <a:lnTo>
                  <a:pt x="698" y="248"/>
                </a:lnTo>
                <a:lnTo>
                  <a:pt x="702" y="252"/>
                </a:lnTo>
                <a:lnTo>
                  <a:pt x="707" y="256"/>
                </a:lnTo>
                <a:lnTo>
                  <a:pt x="711" y="256"/>
                </a:lnTo>
                <a:lnTo>
                  <a:pt x="715" y="260"/>
                </a:lnTo>
                <a:lnTo>
                  <a:pt x="720" y="264"/>
                </a:lnTo>
                <a:lnTo>
                  <a:pt x="724" y="264"/>
                </a:lnTo>
                <a:lnTo>
                  <a:pt x="724" y="268"/>
                </a:lnTo>
                <a:lnTo>
                  <a:pt x="728" y="268"/>
                </a:lnTo>
                <a:lnTo>
                  <a:pt x="733" y="272"/>
                </a:lnTo>
                <a:lnTo>
                  <a:pt x="737" y="276"/>
                </a:lnTo>
                <a:lnTo>
                  <a:pt x="741" y="276"/>
                </a:lnTo>
                <a:lnTo>
                  <a:pt x="746" y="280"/>
                </a:lnTo>
                <a:lnTo>
                  <a:pt x="750" y="280"/>
                </a:lnTo>
                <a:lnTo>
                  <a:pt x="750" y="284"/>
                </a:lnTo>
                <a:lnTo>
                  <a:pt x="754" y="288"/>
                </a:lnTo>
                <a:lnTo>
                  <a:pt x="759" y="288"/>
                </a:lnTo>
                <a:lnTo>
                  <a:pt x="763" y="292"/>
                </a:lnTo>
                <a:lnTo>
                  <a:pt x="767" y="296"/>
                </a:lnTo>
                <a:lnTo>
                  <a:pt x="772" y="296"/>
                </a:lnTo>
                <a:lnTo>
                  <a:pt x="772" y="300"/>
                </a:lnTo>
                <a:lnTo>
                  <a:pt x="776" y="304"/>
                </a:lnTo>
                <a:lnTo>
                  <a:pt x="780" y="308"/>
                </a:lnTo>
                <a:lnTo>
                  <a:pt x="785" y="308"/>
                </a:lnTo>
                <a:lnTo>
                  <a:pt x="789" y="312"/>
                </a:lnTo>
                <a:lnTo>
                  <a:pt x="793" y="316"/>
                </a:lnTo>
                <a:lnTo>
                  <a:pt x="798" y="320"/>
                </a:lnTo>
                <a:lnTo>
                  <a:pt x="802" y="324"/>
                </a:lnTo>
                <a:lnTo>
                  <a:pt x="806" y="328"/>
                </a:lnTo>
                <a:lnTo>
                  <a:pt x="811" y="332"/>
                </a:lnTo>
                <a:lnTo>
                  <a:pt x="815" y="336"/>
                </a:lnTo>
                <a:lnTo>
                  <a:pt x="819" y="336"/>
                </a:lnTo>
                <a:lnTo>
                  <a:pt x="819" y="340"/>
                </a:lnTo>
                <a:lnTo>
                  <a:pt x="824" y="344"/>
                </a:lnTo>
                <a:lnTo>
                  <a:pt x="828" y="348"/>
                </a:lnTo>
                <a:lnTo>
                  <a:pt x="832" y="352"/>
                </a:lnTo>
                <a:lnTo>
                  <a:pt x="837" y="356"/>
                </a:lnTo>
                <a:lnTo>
                  <a:pt x="841" y="360"/>
                </a:lnTo>
                <a:lnTo>
                  <a:pt x="845" y="364"/>
                </a:lnTo>
                <a:lnTo>
                  <a:pt x="845" y="368"/>
                </a:lnTo>
                <a:lnTo>
                  <a:pt x="850" y="372"/>
                </a:lnTo>
                <a:lnTo>
                  <a:pt x="854" y="376"/>
                </a:lnTo>
                <a:lnTo>
                  <a:pt x="858" y="380"/>
                </a:lnTo>
                <a:lnTo>
                  <a:pt x="863" y="384"/>
                </a:lnTo>
                <a:lnTo>
                  <a:pt x="867" y="392"/>
                </a:lnTo>
                <a:lnTo>
                  <a:pt x="867" y="396"/>
                </a:lnTo>
                <a:lnTo>
                  <a:pt x="871" y="400"/>
                </a:lnTo>
                <a:lnTo>
                  <a:pt x="876" y="404"/>
                </a:lnTo>
                <a:lnTo>
                  <a:pt x="880" y="412"/>
                </a:lnTo>
                <a:lnTo>
                  <a:pt x="884" y="416"/>
                </a:lnTo>
                <a:lnTo>
                  <a:pt x="889" y="420"/>
                </a:lnTo>
                <a:lnTo>
                  <a:pt x="893" y="428"/>
                </a:lnTo>
                <a:lnTo>
                  <a:pt x="893" y="432"/>
                </a:lnTo>
                <a:lnTo>
                  <a:pt x="897" y="440"/>
                </a:lnTo>
                <a:lnTo>
                  <a:pt x="903" y="444"/>
                </a:lnTo>
                <a:lnTo>
                  <a:pt x="907" y="452"/>
                </a:lnTo>
                <a:lnTo>
                  <a:pt x="912" y="456"/>
                </a:lnTo>
                <a:lnTo>
                  <a:pt x="916" y="464"/>
                </a:lnTo>
                <a:lnTo>
                  <a:pt x="916" y="468"/>
                </a:lnTo>
                <a:lnTo>
                  <a:pt x="920" y="476"/>
                </a:lnTo>
                <a:lnTo>
                  <a:pt x="925" y="484"/>
                </a:lnTo>
                <a:lnTo>
                  <a:pt x="929" y="492"/>
                </a:lnTo>
                <a:lnTo>
                  <a:pt x="933" y="496"/>
                </a:lnTo>
                <a:lnTo>
                  <a:pt x="938" y="504"/>
                </a:lnTo>
                <a:lnTo>
                  <a:pt x="942" y="512"/>
                </a:lnTo>
                <a:lnTo>
                  <a:pt x="942" y="520"/>
                </a:lnTo>
                <a:lnTo>
                  <a:pt x="946" y="528"/>
                </a:lnTo>
                <a:lnTo>
                  <a:pt x="951" y="532"/>
                </a:lnTo>
                <a:lnTo>
                  <a:pt x="955" y="540"/>
                </a:lnTo>
                <a:lnTo>
                  <a:pt x="959" y="548"/>
                </a:lnTo>
                <a:lnTo>
                  <a:pt x="964" y="556"/>
                </a:lnTo>
                <a:lnTo>
                  <a:pt x="964" y="564"/>
                </a:lnTo>
                <a:lnTo>
                  <a:pt x="968" y="568"/>
                </a:lnTo>
                <a:lnTo>
                  <a:pt x="972" y="576"/>
                </a:lnTo>
                <a:lnTo>
                  <a:pt x="977" y="584"/>
                </a:lnTo>
                <a:lnTo>
                  <a:pt x="981" y="592"/>
                </a:lnTo>
                <a:lnTo>
                  <a:pt x="985" y="596"/>
                </a:lnTo>
                <a:lnTo>
                  <a:pt x="985" y="604"/>
                </a:lnTo>
                <a:lnTo>
                  <a:pt x="990" y="612"/>
                </a:lnTo>
                <a:lnTo>
                  <a:pt x="994" y="616"/>
                </a:lnTo>
                <a:lnTo>
                  <a:pt x="998" y="624"/>
                </a:lnTo>
                <a:lnTo>
                  <a:pt x="1003" y="628"/>
                </a:lnTo>
                <a:lnTo>
                  <a:pt x="1007" y="636"/>
                </a:lnTo>
                <a:lnTo>
                  <a:pt x="1011" y="640"/>
                </a:lnTo>
                <a:lnTo>
                  <a:pt x="1011" y="644"/>
                </a:lnTo>
                <a:lnTo>
                  <a:pt x="1016" y="652"/>
                </a:lnTo>
                <a:lnTo>
                  <a:pt x="1020" y="656"/>
                </a:lnTo>
                <a:lnTo>
                  <a:pt x="1024" y="660"/>
                </a:lnTo>
                <a:lnTo>
                  <a:pt x="1029" y="668"/>
                </a:lnTo>
                <a:lnTo>
                  <a:pt x="1033" y="672"/>
                </a:lnTo>
                <a:lnTo>
                  <a:pt x="1033" y="676"/>
                </a:lnTo>
                <a:lnTo>
                  <a:pt x="1037" y="684"/>
                </a:lnTo>
                <a:lnTo>
                  <a:pt x="1042" y="688"/>
                </a:lnTo>
                <a:lnTo>
                  <a:pt x="1046" y="692"/>
                </a:lnTo>
                <a:lnTo>
                  <a:pt x="1050" y="696"/>
                </a:lnTo>
                <a:lnTo>
                  <a:pt x="1055" y="700"/>
                </a:lnTo>
                <a:lnTo>
                  <a:pt x="1059" y="704"/>
                </a:lnTo>
                <a:lnTo>
                  <a:pt x="1059" y="708"/>
                </a:lnTo>
                <a:lnTo>
                  <a:pt x="1063" y="716"/>
                </a:lnTo>
                <a:lnTo>
                  <a:pt x="1068" y="720"/>
                </a:lnTo>
                <a:lnTo>
                  <a:pt x="1072" y="724"/>
                </a:lnTo>
                <a:lnTo>
                  <a:pt x="1076" y="728"/>
                </a:lnTo>
                <a:lnTo>
                  <a:pt x="1081" y="732"/>
                </a:lnTo>
                <a:lnTo>
                  <a:pt x="1081" y="736"/>
                </a:lnTo>
                <a:lnTo>
                  <a:pt x="1085" y="740"/>
                </a:lnTo>
                <a:lnTo>
                  <a:pt x="1089" y="744"/>
                </a:lnTo>
                <a:lnTo>
                  <a:pt x="1094" y="748"/>
                </a:lnTo>
                <a:lnTo>
                  <a:pt x="1098" y="752"/>
                </a:lnTo>
                <a:lnTo>
                  <a:pt x="1102" y="756"/>
                </a:lnTo>
                <a:lnTo>
                  <a:pt x="1107" y="760"/>
                </a:lnTo>
                <a:lnTo>
                  <a:pt x="1111" y="764"/>
                </a:lnTo>
                <a:lnTo>
                  <a:pt x="1115" y="768"/>
                </a:lnTo>
                <a:lnTo>
                  <a:pt x="1120" y="772"/>
                </a:lnTo>
                <a:lnTo>
                  <a:pt x="1124" y="776"/>
                </a:lnTo>
                <a:lnTo>
                  <a:pt x="1128" y="780"/>
                </a:lnTo>
                <a:lnTo>
                  <a:pt x="1128" y="784"/>
                </a:lnTo>
                <a:lnTo>
                  <a:pt x="1133" y="788"/>
                </a:lnTo>
                <a:lnTo>
                  <a:pt x="1137" y="792"/>
                </a:lnTo>
                <a:lnTo>
                  <a:pt x="1141" y="792"/>
                </a:lnTo>
                <a:lnTo>
                  <a:pt x="1146" y="796"/>
                </a:lnTo>
                <a:lnTo>
                  <a:pt x="1150" y="800"/>
                </a:lnTo>
                <a:lnTo>
                  <a:pt x="1154" y="804"/>
                </a:lnTo>
                <a:lnTo>
                  <a:pt x="1154" y="808"/>
                </a:lnTo>
                <a:lnTo>
                  <a:pt x="1159" y="808"/>
                </a:lnTo>
                <a:lnTo>
                  <a:pt x="1163" y="812"/>
                </a:lnTo>
                <a:lnTo>
                  <a:pt x="1167" y="816"/>
                </a:lnTo>
                <a:lnTo>
                  <a:pt x="1172" y="820"/>
                </a:lnTo>
                <a:lnTo>
                  <a:pt x="1176" y="824"/>
                </a:lnTo>
                <a:lnTo>
                  <a:pt x="1180" y="828"/>
                </a:lnTo>
                <a:lnTo>
                  <a:pt x="1185" y="832"/>
                </a:lnTo>
                <a:lnTo>
                  <a:pt x="1189" y="836"/>
                </a:lnTo>
                <a:lnTo>
                  <a:pt x="1193" y="836"/>
                </a:lnTo>
                <a:lnTo>
                  <a:pt x="1198" y="840"/>
                </a:lnTo>
                <a:lnTo>
                  <a:pt x="1202" y="844"/>
                </a:lnTo>
                <a:lnTo>
                  <a:pt x="1202" y="848"/>
                </a:lnTo>
                <a:lnTo>
                  <a:pt x="1206" y="848"/>
                </a:lnTo>
                <a:lnTo>
                  <a:pt x="1211" y="852"/>
                </a:lnTo>
                <a:lnTo>
                  <a:pt x="1215" y="856"/>
                </a:lnTo>
                <a:lnTo>
                  <a:pt x="1219" y="860"/>
                </a:lnTo>
                <a:lnTo>
                  <a:pt x="1224" y="860"/>
                </a:lnTo>
                <a:lnTo>
                  <a:pt x="1224" y="864"/>
                </a:lnTo>
                <a:lnTo>
                  <a:pt x="1228" y="868"/>
                </a:lnTo>
                <a:lnTo>
                  <a:pt x="1232" y="868"/>
                </a:lnTo>
                <a:lnTo>
                  <a:pt x="1237" y="872"/>
                </a:lnTo>
                <a:lnTo>
                  <a:pt x="1241" y="876"/>
                </a:lnTo>
                <a:lnTo>
                  <a:pt x="1245" y="876"/>
                </a:lnTo>
                <a:lnTo>
                  <a:pt x="1250" y="880"/>
                </a:lnTo>
                <a:lnTo>
                  <a:pt x="1250" y="884"/>
                </a:lnTo>
                <a:lnTo>
                  <a:pt x="1254" y="884"/>
                </a:lnTo>
                <a:lnTo>
                  <a:pt x="1258" y="888"/>
                </a:lnTo>
                <a:lnTo>
                  <a:pt x="1262" y="892"/>
                </a:lnTo>
                <a:lnTo>
                  <a:pt x="1267" y="892"/>
                </a:lnTo>
                <a:lnTo>
                  <a:pt x="1271" y="896"/>
                </a:lnTo>
                <a:lnTo>
                  <a:pt x="1271" y="900"/>
                </a:lnTo>
                <a:lnTo>
                  <a:pt x="1275" y="900"/>
                </a:lnTo>
                <a:lnTo>
                  <a:pt x="1280" y="904"/>
                </a:lnTo>
                <a:lnTo>
                  <a:pt x="1284" y="908"/>
                </a:lnTo>
                <a:lnTo>
                  <a:pt x="1288" y="908"/>
                </a:lnTo>
                <a:lnTo>
                  <a:pt x="1293" y="912"/>
                </a:lnTo>
                <a:lnTo>
                  <a:pt x="1297" y="916"/>
                </a:lnTo>
                <a:lnTo>
                  <a:pt x="1301" y="920"/>
                </a:lnTo>
                <a:lnTo>
                  <a:pt x="1306" y="920"/>
                </a:lnTo>
                <a:lnTo>
                  <a:pt x="1310" y="924"/>
                </a:lnTo>
                <a:lnTo>
                  <a:pt x="1314" y="928"/>
                </a:lnTo>
                <a:lnTo>
                  <a:pt x="1319" y="928"/>
                </a:lnTo>
                <a:lnTo>
                  <a:pt x="1319" y="932"/>
                </a:lnTo>
                <a:lnTo>
                  <a:pt x="1323" y="932"/>
                </a:lnTo>
                <a:lnTo>
                  <a:pt x="1327" y="936"/>
                </a:lnTo>
                <a:lnTo>
                  <a:pt x="1332" y="940"/>
                </a:lnTo>
                <a:lnTo>
                  <a:pt x="1336" y="940"/>
                </a:lnTo>
                <a:lnTo>
                  <a:pt x="1340" y="944"/>
                </a:lnTo>
                <a:lnTo>
                  <a:pt x="1345" y="944"/>
                </a:lnTo>
                <a:lnTo>
                  <a:pt x="1345" y="948"/>
                </a:lnTo>
                <a:lnTo>
                  <a:pt x="1349" y="952"/>
                </a:lnTo>
                <a:lnTo>
                  <a:pt x="1353" y="952"/>
                </a:lnTo>
                <a:lnTo>
                  <a:pt x="1358" y="956"/>
                </a:lnTo>
                <a:lnTo>
                  <a:pt x="1362" y="956"/>
                </a:lnTo>
                <a:lnTo>
                  <a:pt x="1366" y="960"/>
                </a:lnTo>
                <a:lnTo>
                  <a:pt x="1371" y="964"/>
                </a:lnTo>
                <a:lnTo>
                  <a:pt x="1375" y="968"/>
                </a:lnTo>
                <a:lnTo>
                  <a:pt x="1379" y="968"/>
                </a:lnTo>
                <a:lnTo>
                  <a:pt x="1384" y="972"/>
                </a:lnTo>
                <a:lnTo>
                  <a:pt x="1388" y="972"/>
                </a:lnTo>
                <a:lnTo>
                  <a:pt x="1392" y="976"/>
                </a:lnTo>
                <a:lnTo>
                  <a:pt x="1397" y="980"/>
                </a:lnTo>
                <a:lnTo>
                  <a:pt x="1401" y="980"/>
                </a:lnTo>
                <a:lnTo>
                  <a:pt x="1405" y="984"/>
                </a:lnTo>
                <a:lnTo>
                  <a:pt x="1410" y="988"/>
                </a:lnTo>
                <a:lnTo>
                  <a:pt x="1414" y="988"/>
                </a:lnTo>
                <a:lnTo>
                  <a:pt x="1414" y="992"/>
                </a:lnTo>
                <a:lnTo>
                  <a:pt x="1418" y="992"/>
                </a:lnTo>
                <a:lnTo>
                  <a:pt x="1423" y="996"/>
                </a:lnTo>
                <a:lnTo>
                  <a:pt x="1427" y="996"/>
                </a:lnTo>
                <a:lnTo>
                  <a:pt x="1431" y="1000"/>
                </a:lnTo>
                <a:lnTo>
                  <a:pt x="1436" y="1000"/>
                </a:lnTo>
                <a:lnTo>
                  <a:pt x="1440" y="1004"/>
                </a:lnTo>
                <a:lnTo>
                  <a:pt x="1444" y="1008"/>
                </a:lnTo>
                <a:lnTo>
                  <a:pt x="1449" y="1008"/>
                </a:lnTo>
                <a:lnTo>
                  <a:pt x="1453" y="1012"/>
                </a:lnTo>
                <a:lnTo>
                  <a:pt x="1457" y="1012"/>
                </a:lnTo>
                <a:lnTo>
                  <a:pt x="1462" y="1016"/>
                </a:lnTo>
                <a:lnTo>
                  <a:pt x="1466" y="1020"/>
                </a:lnTo>
                <a:lnTo>
                  <a:pt x="1470" y="1020"/>
                </a:lnTo>
                <a:lnTo>
                  <a:pt x="1475" y="1024"/>
                </a:lnTo>
                <a:lnTo>
                  <a:pt x="1479" y="1024"/>
                </a:lnTo>
                <a:lnTo>
                  <a:pt x="1483" y="1028"/>
                </a:lnTo>
                <a:lnTo>
                  <a:pt x="1488" y="1028"/>
                </a:lnTo>
                <a:lnTo>
                  <a:pt x="1488" y="1032"/>
                </a:lnTo>
                <a:lnTo>
                  <a:pt x="1492" y="1036"/>
                </a:lnTo>
                <a:lnTo>
                  <a:pt x="1496" y="1036"/>
                </a:lnTo>
                <a:lnTo>
                  <a:pt x="1501" y="1040"/>
                </a:lnTo>
                <a:lnTo>
                  <a:pt x="1505" y="1040"/>
                </a:lnTo>
                <a:lnTo>
                  <a:pt x="1509" y="1040"/>
                </a:lnTo>
                <a:lnTo>
                  <a:pt x="1509" y="1044"/>
                </a:lnTo>
                <a:lnTo>
                  <a:pt x="1514" y="1044"/>
                </a:lnTo>
                <a:lnTo>
                  <a:pt x="1518" y="1048"/>
                </a:lnTo>
                <a:lnTo>
                  <a:pt x="1522" y="1048"/>
                </a:lnTo>
                <a:lnTo>
                  <a:pt x="1527" y="1052"/>
                </a:lnTo>
                <a:lnTo>
                  <a:pt x="1531" y="1052"/>
                </a:lnTo>
                <a:lnTo>
                  <a:pt x="1535" y="1056"/>
                </a:lnTo>
                <a:lnTo>
                  <a:pt x="1540" y="1060"/>
                </a:lnTo>
                <a:lnTo>
                  <a:pt x="1544" y="1060"/>
                </a:lnTo>
                <a:lnTo>
                  <a:pt x="1548" y="1064"/>
                </a:lnTo>
                <a:lnTo>
                  <a:pt x="1553" y="1064"/>
                </a:lnTo>
                <a:lnTo>
                  <a:pt x="1557" y="1068"/>
                </a:lnTo>
                <a:lnTo>
                  <a:pt x="1561" y="1072"/>
                </a:lnTo>
                <a:lnTo>
                  <a:pt x="1566" y="1072"/>
                </a:lnTo>
                <a:lnTo>
                  <a:pt x="1570" y="1076"/>
                </a:lnTo>
                <a:lnTo>
                  <a:pt x="1574" y="1076"/>
                </a:lnTo>
                <a:lnTo>
                  <a:pt x="1579" y="1080"/>
                </a:lnTo>
                <a:lnTo>
                  <a:pt x="1583" y="1084"/>
                </a:lnTo>
                <a:lnTo>
                  <a:pt x="1587" y="1084"/>
                </a:lnTo>
                <a:lnTo>
                  <a:pt x="1592" y="1088"/>
                </a:lnTo>
                <a:lnTo>
                  <a:pt x="1596" y="1088"/>
                </a:lnTo>
                <a:lnTo>
                  <a:pt x="1600" y="1088"/>
                </a:lnTo>
                <a:lnTo>
                  <a:pt x="1605" y="1092"/>
                </a:lnTo>
                <a:lnTo>
                  <a:pt x="1609" y="1096"/>
                </a:lnTo>
                <a:lnTo>
                  <a:pt x="1613" y="1096"/>
                </a:lnTo>
                <a:lnTo>
                  <a:pt x="1618" y="1100"/>
                </a:lnTo>
                <a:lnTo>
                  <a:pt x="1622" y="1100"/>
                </a:lnTo>
                <a:lnTo>
                  <a:pt x="1626" y="1104"/>
                </a:lnTo>
                <a:lnTo>
                  <a:pt x="1631" y="1108"/>
                </a:lnTo>
                <a:lnTo>
                  <a:pt x="1635" y="1108"/>
                </a:lnTo>
                <a:lnTo>
                  <a:pt x="1639" y="1112"/>
                </a:lnTo>
                <a:lnTo>
                  <a:pt x="1644" y="1112"/>
                </a:lnTo>
                <a:lnTo>
                  <a:pt x="1648" y="1112"/>
                </a:lnTo>
                <a:lnTo>
                  <a:pt x="1652" y="1116"/>
                </a:lnTo>
                <a:lnTo>
                  <a:pt x="1657" y="1120"/>
                </a:lnTo>
                <a:lnTo>
                  <a:pt x="1661" y="1120"/>
                </a:lnTo>
                <a:lnTo>
                  <a:pt x="1665" y="1124"/>
                </a:lnTo>
                <a:lnTo>
                  <a:pt x="1670" y="1124"/>
                </a:lnTo>
                <a:lnTo>
                  <a:pt x="1674" y="1128"/>
                </a:lnTo>
                <a:lnTo>
                  <a:pt x="1678" y="1132"/>
                </a:lnTo>
                <a:lnTo>
                  <a:pt x="1683" y="1132"/>
                </a:lnTo>
                <a:lnTo>
                  <a:pt x="1687" y="1132"/>
                </a:lnTo>
                <a:lnTo>
                  <a:pt x="1691" y="1136"/>
                </a:lnTo>
                <a:lnTo>
                  <a:pt x="1696" y="1136"/>
                </a:lnTo>
                <a:lnTo>
                  <a:pt x="1700" y="1140"/>
                </a:lnTo>
                <a:lnTo>
                  <a:pt x="1704" y="1144"/>
                </a:lnTo>
                <a:lnTo>
                  <a:pt x="1709" y="1144"/>
                </a:lnTo>
                <a:lnTo>
                  <a:pt x="1714" y="1148"/>
                </a:lnTo>
                <a:lnTo>
                  <a:pt x="1719" y="1148"/>
                </a:lnTo>
                <a:lnTo>
                  <a:pt x="1723" y="1148"/>
                </a:lnTo>
                <a:lnTo>
                  <a:pt x="1723" y="1152"/>
                </a:lnTo>
                <a:lnTo>
                  <a:pt x="1727" y="1152"/>
                </a:lnTo>
                <a:lnTo>
                  <a:pt x="1732" y="1156"/>
                </a:lnTo>
                <a:lnTo>
                  <a:pt x="1736" y="1156"/>
                </a:lnTo>
                <a:lnTo>
                  <a:pt x="1740" y="1160"/>
                </a:lnTo>
                <a:lnTo>
                  <a:pt x="1745" y="1160"/>
                </a:lnTo>
                <a:lnTo>
                  <a:pt x="1749" y="1160"/>
                </a:lnTo>
                <a:lnTo>
                  <a:pt x="1749" y="1164"/>
                </a:lnTo>
                <a:lnTo>
                  <a:pt x="1753" y="1164"/>
                </a:lnTo>
                <a:lnTo>
                  <a:pt x="1758" y="1168"/>
                </a:lnTo>
                <a:lnTo>
                  <a:pt x="1762" y="1168"/>
                </a:lnTo>
                <a:lnTo>
                  <a:pt x="1766" y="1172"/>
                </a:lnTo>
                <a:lnTo>
                  <a:pt x="1771" y="1172"/>
                </a:lnTo>
                <a:lnTo>
                  <a:pt x="1771" y="1176"/>
                </a:lnTo>
                <a:lnTo>
                  <a:pt x="1775" y="1176"/>
                </a:lnTo>
                <a:lnTo>
                  <a:pt x="1779" y="1176"/>
                </a:lnTo>
                <a:lnTo>
                  <a:pt x="1784" y="1180"/>
                </a:lnTo>
                <a:lnTo>
                  <a:pt x="1788" y="1180"/>
                </a:lnTo>
                <a:lnTo>
                  <a:pt x="1792" y="1184"/>
                </a:lnTo>
                <a:lnTo>
                  <a:pt x="1797" y="1184"/>
                </a:lnTo>
                <a:lnTo>
                  <a:pt x="1797" y="1188"/>
                </a:lnTo>
                <a:lnTo>
                  <a:pt x="1801" y="1188"/>
                </a:lnTo>
                <a:lnTo>
                  <a:pt x="1805" y="1188"/>
                </a:lnTo>
                <a:lnTo>
                  <a:pt x="1810" y="1192"/>
                </a:lnTo>
                <a:lnTo>
                  <a:pt x="1814" y="1192"/>
                </a:lnTo>
                <a:lnTo>
                  <a:pt x="1818" y="1196"/>
                </a:lnTo>
                <a:lnTo>
                  <a:pt x="1823" y="1200"/>
                </a:lnTo>
                <a:lnTo>
                  <a:pt x="1827" y="1200"/>
                </a:lnTo>
                <a:lnTo>
                  <a:pt x="1831" y="1200"/>
                </a:lnTo>
                <a:lnTo>
                  <a:pt x="1836" y="1204"/>
                </a:lnTo>
                <a:lnTo>
                  <a:pt x="1840" y="1204"/>
                </a:lnTo>
                <a:lnTo>
                  <a:pt x="1844" y="1208"/>
                </a:lnTo>
                <a:lnTo>
                  <a:pt x="1849" y="1212"/>
                </a:lnTo>
                <a:lnTo>
                  <a:pt x="1853" y="1212"/>
                </a:lnTo>
                <a:lnTo>
                  <a:pt x="1857" y="1212"/>
                </a:lnTo>
                <a:lnTo>
                  <a:pt x="1862" y="1216"/>
                </a:lnTo>
                <a:lnTo>
                  <a:pt x="1866" y="1216"/>
                </a:lnTo>
                <a:lnTo>
                  <a:pt x="1866" y="1220"/>
                </a:lnTo>
                <a:lnTo>
                  <a:pt x="1870" y="1220"/>
                </a:lnTo>
                <a:lnTo>
                  <a:pt x="1875" y="1224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086440" y="4195800"/>
            <a:ext cx="354960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553716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609120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663732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719136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73748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829152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537160" y="65516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537160" y="61898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537160" y="582768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537160" y="54720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537160" y="51102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37160" y="47480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37160" y="43862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537160" y="4386240"/>
            <a:ext cx="2755800" cy="2166840"/>
          </a:xfrm>
          <a:custGeom>
            <a:avLst/>
            <a:gdLst/>
            <a:ahLst/>
            <a:rect l="l" t="t" r="r" b="b"/>
            <a:pathLst>
              <a:path w="1880" h="1365">
                <a:moveTo>
                  <a:pt x="0" y="1364"/>
                </a:moveTo>
                <a:lnTo>
                  <a:pt x="0" y="0"/>
                </a:lnTo>
                <a:lnTo>
                  <a:pt x="18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537160" y="4386240"/>
            <a:ext cx="2755800" cy="2166840"/>
          </a:xfrm>
          <a:custGeom>
            <a:avLst/>
            <a:gdLst/>
            <a:ahLst/>
            <a:rect l="l" t="t" r="r" b="b"/>
            <a:pathLst>
              <a:path w="1880" h="1365">
                <a:moveTo>
                  <a:pt x="0" y="1364"/>
                </a:moveTo>
                <a:lnTo>
                  <a:pt x="0" y="0"/>
                </a:lnTo>
                <a:lnTo>
                  <a:pt x="18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537160" y="4386240"/>
            <a:ext cx="2755800" cy="2166840"/>
          </a:xfrm>
          <a:custGeom>
            <a:avLst/>
            <a:gdLst/>
            <a:ahLst/>
            <a:rect l="l" t="t" r="r" b="b"/>
            <a:pathLst>
              <a:path w="1880" h="1365">
                <a:moveTo>
                  <a:pt x="0" y="1364"/>
                </a:moveTo>
                <a:lnTo>
                  <a:pt x="0" y="0"/>
                </a:lnTo>
                <a:lnTo>
                  <a:pt x="18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37160" y="65516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537160" y="43862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53716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829152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537160" y="4386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291520" y="6551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37160" y="65516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553716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37160" y="6551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537160" y="65257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537160" y="438624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411160" y="6531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6091200" y="65257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091200" y="438624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915880" y="653112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6637320" y="65257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637320" y="438624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462000" y="653112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7191360" y="65257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191360" y="438624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016040" y="653112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7737480" y="65257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737480" y="438624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562880" y="653112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8291520" y="65257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291520" y="438624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116200" y="653112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537160" y="6551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8265600" y="6551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61400" y="64483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537160" y="61898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8265600" y="61898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261400" y="60865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537160" y="582768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8265600" y="582768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261400" y="572436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537160" y="54720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8265600" y="54720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261400" y="536904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537160" y="5110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8265600" y="51102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261400" y="500688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537160" y="47480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8265600" y="47480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261400" y="464508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537160" y="4386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8265600" y="4386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353920" y="428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537160" y="65516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537160" y="438624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53716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8291520" y="438588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537160" y="6551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8291520" y="4386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537160" y="4386240"/>
            <a:ext cx="2749680" cy="2014560"/>
          </a:xfrm>
          <a:custGeom>
            <a:avLst/>
            <a:gdLst/>
            <a:ahLst/>
            <a:rect l="l" t="t" r="r" b="b"/>
            <a:pathLst>
              <a:path w="1876" h="1269">
                <a:moveTo>
                  <a:pt x="0" y="0"/>
                </a:moveTo>
                <a:lnTo>
                  <a:pt x="4" y="4"/>
                </a:lnTo>
                <a:lnTo>
                  <a:pt x="8" y="8"/>
                </a:lnTo>
                <a:lnTo>
                  <a:pt x="12" y="12"/>
                </a:lnTo>
                <a:lnTo>
                  <a:pt x="12" y="16"/>
                </a:lnTo>
                <a:lnTo>
                  <a:pt x="17" y="20"/>
                </a:lnTo>
                <a:lnTo>
                  <a:pt x="21" y="24"/>
                </a:lnTo>
                <a:lnTo>
                  <a:pt x="25" y="28"/>
                </a:lnTo>
                <a:lnTo>
                  <a:pt x="30" y="32"/>
                </a:lnTo>
                <a:lnTo>
                  <a:pt x="34" y="36"/>
                </a:lnTo>
                <a:lnTo>
                  <a:pt x="34" y="40"/>
                </a:lnTo>
                <a:lnTo>
                  <a:pt x="38" y="44"/>
                </a:lnTo>
                <a:lnTo>
                  <a:pt x="43" y="48"/>
                </a:lnTo>
                <a:lnTo>
                  <a:pt x="47" y="52"/>
                </a:lnTo>
                <a:lnTo>
                  <a:pt x="51" y="56"/>
                </a:lnTo>
                <a:lnTo>
                  <a:pt x="56" y="60"/>
                </a:lnTo>
                <a:lnTo>
                  <a:pt x="60" y="64"/>
                </a:lnTo>
                <a:lnTo>
                  <a:pt x="60" y="68"/>
                </a:lnTo>
                <a:lnTo>
                  <a:pt x="64" y="76"/>
                </a:lnTo>
                <a:lnTo>
                  <a:pt x="69" y="80"/>
                </a:lnTo>
                <a:lnTo>
                  <a:pt x="73" y="84"/>
                </a:lnTo>
                <a:lnTo>
                  <a:pt x="77" y="88"/>
                </a:lnTo>
                <a:lnTo>
                  <a:pt x="82" y="92"/>
                </a:lnTo>
                <a:lnTo>
                  <a:pt x="82" y="96"/>
                </a:lnTo>
                <a:lnTo>
                  <a:pt x="86" y="100"/>
                </a:lnTo>
                <a:lnTo>
                  <a:pt x="90" y="104"/>
                </a:lnTo>
                <a:lnTo>
                  <a:pt x="96" y="108"/>
                </a:lnTo>
                <a:lnTo>
                  <a:pt x="100" y="112"/>
                </a:lnTo>
                <a:lnTo>
                  <a:pt x="105" y="116"/>
                </a:lnTo>
                <a:lnTo>
                  <a:pt x="109" y="120"/>
                </a:lnTo>
                <a:lnTo>
                  <a:pt x="109" y="124"/>
                </a:lnTo>
                <a:lnTo>
                  <a:pt x="113" y="128"/>
                </a:lnTo>
                <a:lnTo>
                  <a:pt x="118" y="132"/>
                </a:lnTo>
                <a:lnTo>
                  <a:pt x="122" y="136"/>
                </a:lnTo>
                <a:lnTo>
                  <a:pt x="126" y="140"/>
                </a:lnTo>
                <a:lnTo>
                  <a:pt x="131" y="144"/>
                </a:lnTo>
                <a:lnTo>
                  <a:pt x="131" y="148"/>
                </a:lnTo>
                <a:lnTo>
                  <a:pt x="135" y="152"/>
                </a:lnTo>
                <a:lnTo>
                  <a:pt x="139" y="156"/>
                </a:lnTo>
                <a:lnTo>
                  <a:pt x="144" y="160"/>
                </a:lnTo>
                <a:lnTo>
                  <a:pt x="148" y="164"/>
                </a:lnTo>
                <a:lnTo>
                  <a:pt x="152" y="168"/>
                </a:lnTo>
                <a:lnTo>
                  <a:pt x="157" y="172"/>
                </a:lnTo>
                <a:lnTo>
                  <a:pt x="157" y="176"/>
                </a:lnTo>
                <a:lnTo>
                  <a:pt x="161" y="180"/>
                </a:lnTo>
                <a:lnTo>
                  <a:pt x="165" y="184"/>
                </a:lnTo>
                <a:lnTo>
                  <a:pt x="170" y="188"/>
                </a:lnTo>
                <a:lnTo>
                  <a:pt x="174" y="192"/>
                </a:lnTo>
                <a:lnTo>
                  <a:pt x="178" y="196"/>
                </a:lnTo>
                <a:lnTo>
                  <a:pt x="178" y="200"/>
                </a:lnTo>
                <a:lnTo>
                  <a:pt x="183" y="204"/>
                </a:lnTo>
                <a:lnTo>
                  <a:pt x="187" y="208"/>
                </a:lnTo>
                <a:lnTo>
                  <a:pt x="191" y="212"/>
                </a:lnTo>
                <a:lnTo>
                  <a:pt x="196" y="220"/>
                </a:lnTo>
                <a:lnTo>
                  <a:pt x="200" y="224"/>
                </a:lnTo>
                <a:lnTo>
                  <a:pt x="204" y="228"/>
                </a:lnTo>
                <a:lnTo>
                  <a:pt x="204" y="232"/>
                </a:lnTo>
                <a:lnTo>
                  <a:pt x="209" y="236"/>
                </a:lnTo>
                <a:lnTo>
                  <a:pt x="213" y="240"/>
                </a:lnTo>
                <a:lnTo>
                  <a:pt x="217" y="244"/>
                </a:lnTo>
                <a:lnTo>
                  <a:pt x="222" y="248"/>
                </a:lnTo>
                <a:lnTo>
                  <a:pt x="226" y="252"/>
                </a:lnTo>
                <a:lnTo>
                  <a:pt x="226" y="256"/>
                </a:lnTo>
                <a:lnTo>
                  <a:pt x="230" y="260"/>
                </a:lnTo>
                <a:lnTo>
                  <a:pt x="235" y="264"/>
                </a:lnTo>
                <a:lnTo>
                  <a:pt x="239" y="268"/>
                </a:lnTo>
                <a:lnTo>
                  <a:pt x="243" y="272"/>
                </a:lnTo>
                <a:lnTo>
                  <a:pt x="248" y="276"/>
                </a:lnTo>
                <a:lnTo>
                  <a:pt x="252" y="280"/>
                </a:lnTo>
                <a:lnTo>
                  <a:pt x="252" y="284"/>
                </a:lnTo>
                <a:lnTo>
                  <a:pt x="256" y="288"/>
                </a:lnTo>
                <a:lnTo>
                  <a:pt x="261" y="292"/>
                </a:lnTo>
                <a:lnTo>
                  <a:pt x="265" y="296"/>
                </a:lnTo>
                <a:lnTo>
                  <a:pt x="269" y="300"/>
                </a:lnTo>
                <a:lnTo>
                  <a:pt x="274" y="304"/>
                </a:lnTo>
                <a:lnTo>
                  <a:pt x="274" y="308"/>
                </a:lnTo>
                <a:lnTo>
                  <a:pt x="278" y="312"/>
                </a:lnTo>
                <a:lnTo>
                  <a:pt x="282" y="316"/>
                </a:lnTo>
                <a:lnTo>
                  <a:pt x="287" y="320"/>
                </a:lnTo>
                <a:lnTo>
                  <a:pt x="291" y="324"/>
                </a:lnTo>
                <a:lnTo>
                  <a:pt x="295" y="328"/>
                </a:lnTo>
                <a:lnTo>
                  <a:pt x="300" y="332"/>
                </a:lnTo>
                <a:lnTo>
                  <a:pt x="300" y="336"/>
                </a:lnTo>
                <a:lnTo>
                  <a:pt x="304" y="340"/>
                </a:lnTo>
                <a:lnTo>
                  <a:pt x="308" y="344"/>
                </a:lnTo>
                <a:lnTo>
                  <a:pt x="313" y="348"/>
                </a:lnTo>
                <a:lnTo>
                  <a:pt x="317" y="352"/>
                </a:lnTo>
                <a:lnTo>
                  <a:pt x="321" y="360"/>
                </a:lnTo>
                <a:lnTo>
                  <a:pt x="321" y="364"/>
                </a:lnTo>
                <a:lnTo>
                  <a:pt x="326" y="368"/>
                </a:lnTo>
                <a:lnTo>
                  <a:pt x="330" y="372"/>
                </a:lnTo>
                <a:lnTo>
                  <a:pt x="334" y="376"/>
                </a:lnTo>
                <a:lnTo>
                  <a:pt x="339" y="380"/>
                </a:lnTo>
                <a:lnTo>
                  <a:pt x="343" y="384"/>
                </a:lnTo>
                <a:lnTo>
                  <a:pt x="343" y="388"/>
                </a:lnTo>
                <a:lnTo>
                  <a:pt x="347" y="392"/>
                </a:lnTo>
                <a:lnTo>
                  <a:pt x="352" y="396"/>
                </a:lnTo>
                <a:lnTo>
                  <a:pt x="356" y="400"/>
                </a:lnTo>
                <a:lnTo>
                  <a:pt x="360" y="404"/>
                </a:lnTo>
                <a:lnTo>
                  <a:pt x="365" y="408"/>
                </a:lnTo>
                <a:lnTo>
                  <a:pt x="369" y="412"/>
                </a:lnTo>
                <a:lnTo>
                  <a:pt x="369" y="416"/>
                </a:lnTo>
                <a:lnTo>
                  <a:pt x="373" y="420"/>
                </a:lnTo>
                <a:lnTo>
                  <a:pt x="378" y="424"/>
                </a:lnTo>
                <a:lnTo>
                  <a:pt x="382" y="428"/>
                </a:lnTo>
                <a:lnTo>
                  <a:pt x="386" y="432"/>
                </a:lnTo>
                <a:lnTo>
                  <a:pt x="391" y="436"/>
                </a:lnTo>
                <a:lnTo>
                  <a:pt x="391" y="440"/>
                </a:lnTo>
                <a:lnTo>
                  <a:pt x="395" y="444"/>
                </a:lnTo>
                <a:lnTo>
                  <a:pt x="399" y="448"/>
                </a:lnTo>
                <a:lnTo>
                  <a:pt x="404" y="452"/>
                </a:lnTo>
                <a:lnTo>
                  <a:pt x="408" y="456"/>
                </a:lnTo>
                <a:lnTo>
                  <a:pt x="412" y="460"/>
                </a:lnTo>
                <a:lnTo>
                  <a:pt x="417" y="464"/>
                </a:lnTo>
                <a:lnTo>
                  <a:pt x="417" y="468"/>
                </a:lnTo>
                <a:lnTo>
                  <a:pt x="421" y="472"/>
                </a:lnTo>
                <a:lnTo>
                  <a:pt x="425" y="476"/>
                </a:lnTo>
                <a:lnTo>
                  <a:pt x="430" y="480"/>
                </a:lnTo>
                <a:lnTo>
                  <a:pt x="434" y="484"/>
                </a:lnTo>
                <a:lnTo>
                  <a:pt x="438" y="488"/>
                </a:lnTo>
                <a:lnTo>
                  <a:pt x="438" y="492"/>
                </a:lnTo>
                <a:lnTo>
                  <a:pt x="443" y="496"/>
                </a:lnTo>
                <a:lnTo>
                  <a:pt x="447" y="504"/>
                </a:lnTo>
                <a:lnTo>
                  <a:pt x="451" y="508"/>
                </a:lnTo>
                <a:lnTo>
                  <a:pt x="456" y="512"/>
                </a:lnTo>
                <a:lnTo>
                  <a:pt x="460" y="516"/>
                </a:lnTo>
                <a:lnTo>
                  <a:pt x="464" y="520"/>
                </a:lnTo>
                <a:lnTo>
                  <a:pt x="464" y="524"/>
                </a:lnTo>
                <a:lnTo>
                  <a:pt x="469" y="528"/>
                </a:lnTo>
                <a:lnTo>
                  <a:pt x="473" y="532"/>
                </a:lnTo>
                <a:lnTo>
                  <a:pt x="477" y="536"/>
                </a:lnTo>
                <a:lnTo>
                  <a:pt x="482" y="540"/>
                </a:lnTo>
                <a:lnTo>
                  <a:pt x="486" y="544"/>
                </a:lnTo>
                <a:lnTo>
                  <a:pt x="486" y="548"/>
                </a:lnTo>
                <a:lnTo>
                  <a:pt x="490" y="552"/>
                </a:lnTo>
                <a:lnTo>
                  <a:pt x="495" y="556"/>
                </a:lnTo>
                <a:lnTo>
                  <a:pt x="499" y="560"/>
                </a:lnTo>
                <a:lnTo>
                  <a:pt x="503" y="564"/>
                </a:lnTo>
                <a:lnTo>
                  <a:pt x="508" y="568"/>
                </a:lnTo>
                <a:lnTo>
                  <a:pt x="512" y="572"/>
                </a:lnTo>
                <a:lnTo>
                  <a:pt x="512" y="576"/>
                </a:lnTo>
                <a:lnTo>
                  <a:pt x="516" y="580"/>
                </a:lnTo>
                <a:lnTo>
                  <a:pt x="521" y="584"/>
                </a:lnTo>
                <a:lnTo>
                  <a:pt x="525" y="588"/>
                </a:lnTo>
                <a:lnTo>
                  <a:pt x="529" y="592"/>
                </a:lnTo>
                <a:lnTo>
                  <a:pt x="534" y="596"/>
                </a:lnTo>
                <a:lnTo>
                  <a:pt x="534" y="600"/>
                </a:lnTo>
                <a:lnTo>
                  <a:pt x="538" y="604"/>
                </a:lnTo>
                <a:lnTo>
                  <a:pt x="542" y="608"/>
                </a:lnTo>
                <a:lnTo>
                  <a:pt x="547" y="612"/>
                </a:lnTo>
                <a:lnTo>
                  <a:pt x="551" y="616"/>
                </a:lnTo>
                <a:lnTo>
                  <a:pt x="555" y="620"/>
                </a:lnTo>
                <a:lnTo>
                  <a:pt x="560" y="624"/>
                </a:lnTo>
                <a:lnTo>
                  <a:pt x="560" y="628"/>
                </a:lnTo>
                <a:lnTo>
                  <a:pt x="564" y="632"/>
                </a:lnTo>
                <a:lnTo>
                  <a:pt x="568" y="636"/>
                </a:lnTo>
                <a:lnTo>
                  <a:pt x="573" y="640"/>
                </a:lnTo>
                <a:lnTo>
                  <a:pt x="577" y="648"/>
                </a:lnTo>
                <a:lnTo>
                  <a:pt x="581" y="652"/>
                </a:lnTo>
                <a:lnTo>
                  <a:pt x="581" y="656"/>
                </a:lnTo>
                <a:lnTo>
                  <a:pt x="586" y="660"/>
                </a:lnTo>
                <a:lnTo>
                  <a:pt x="590" y="664"/>
                </a:lnTo>
                <a:lnTo>
                  <a:pt x="594" y="668"/>
                </a:lnTo>
                <a:lnTo>
                  <a:pt x="599" y="672"/>
                </a:lnTo>
                <a:lnTo>
                  <a:pt x="603" y="676"/>
                </a:lnTo>
                <a:lnTo>
                  <a:pt x="607" y="680"/>
                </a:lnTo>
                <a:lnTo>
                  <a:pt x="607" y="684"/>
                </a:lnTo>
                <a:lnTo>
                  <a:pt x="612" y="688"/>
                </a:lnTo>
                <a:lnTo>
                  <a:pt x="616" y="692"/>
                </a:lnTo>
                <a:lnTo>
                  <a:pt x="620" y="696"/>
                </a:lnTo>
                <a:lnTo>
                  <a:pt x="625" y="700"/>
                </a:lnTo>
                <a:lnTo>
                  <a:pt x="629" y="704"/>
                </a:lnTo>
                <a:lnTo>
                  <a:pt x="629" y="708"/>
                </a:lnTo>
                <a:lnTo>
                  <a:pt x="633" y="712"/>
                </a:lnTo>
                <a:lnTo>
                  <a:pt x="637" y="716"/>
                </a:lnTo>
                <a:lnTo>
                  <a:pt x="642" y="720"/>
                </a:lnTo>
                <a:lnTo>
                  <a:pt x="646" y="724"/>
                </a:lnTo>
                <a:lnTo>
                  <a:pt x="650" y="728"/>
                </a:lnTo>
                <a:lnTo>
                  <a:pt x="655" y="732"/>
                </a:lnTo>
                <a:lnTo>
                  <a:pt x="655" y="736"/>
                </a:lnTo>
                <a:lnTo>
                  <a:pt x="659" y="740"/>
                </a:lnTo>
                <a:lnTo>
                  <a:pt x="663" y="744"/>
                </a:lnTo>
                <a:lnTo>
                  <a:pt x="668" y="748"/>
                </a:lnTo>
                <a:lnTo>
                  <a:pt x="672" y="752"/>
                </a:lnTo>
                <a:lnTo>
                  <a:pt x="676" y="756"/>
                </a:lnTo>
                <a:lnTo>
                  <a:pt x="676" y="760"/>
                </a:lnTo>
                <a:lnTo>
                  <a:pt x="681" y="764"/>
                </a:lnTo>
                <a:lnTo>
                  <a:pt x="685" y="768"/>
                </a:lnTo>
                <a:lnTo>
                  <a:pt x="689" y="772"/>
                </a:lnTo>
                <a:lnTo>
                  <a:pt x="694" y="776"/>
                </a:lnTo>
                <a:lnTo>
                  <a:pt x="698" y="780"/>
                </a:lnTo>
                <a:lnTo>
                  <a:pt x="702" y="784"/>
                </a:lnTo>
                <a:lnTo>
                  <a:pt x="702" y="792"/>
                </a:lnTo>
                <a:lnTo>
                  <a:pt x="707" y="796"/>
                </a:lnTo>
                <a:lnTo>
                  <a:pt x="711" y="800"/>
                </a:lnTo>
                <a:lnTo>
                  <a:pt x="715" y="804"/>
                </a:lnTo>
                <a:lnTo>
                  <a:pt x="720" y="808"/>
                </a:lnTo>
                <a:lnTo>
                  <a:pt x="724" y="812"/>
                </a:lnTo>
                <a:lnTo>
                  <a:pt x="724" y="816"/>
                </a:lnTo>
                <a:lnTo>
                  <a:pt x="728" y="820"/>
                </a:lnTo>
                <a:lnTo>
                  <a:pt x="733" y="824"/>
                </a:lnTo>
                <a:lnTo>
                  <a:pt x="737" y="828"/>
                </a:lnTo>
                <a:lnTo>
                  <a:pt x="741" y="832"/>
                </a:lnTo>
                <a:lnTo>
                  <a:pt x="746" y="836"/>
                </a:lnTo>
                <a:lnTo>
                  <a:pt x="750" y="840"/>
                </a:lnTo>
                <a:lnTo>
                  <a:pt x="750" y="844"/>
                </a:lnTo>
                <a:lnTo>
                  <a:pt x="754" y="848"/>
                </a:lnTo>
                <a:lnTo>
                  <a:pt x="759" y="852"/>
                </a:lnTo>
                <a:lnTo>
                  <a:pt x="763" y="856"/>
                </a:lnTo>
                <a:lnTo>
                  <a:pt x="767" y="860"/>
                </a:lnTo>
                <a:lnTo>
                  <a:pt x="772" y="864"/>
                </a:lnTo>
                <a:lnTo>
                  <a:pt x="772" y="868"/>
                </a:lnTo>
                <a:lnTo>
                  <a:pt x="776" y="872"/>
                </a:lnTo>
                <a:lnTo>
                  <a:pt x="780" y="876"/>
                </a:lnTo>
                <a:lnTo>
                  <a:pt x="785" y="880"/>
                </a:lnTo>
                <a:lnTo>
                  <a:pt x="789" y="884"/>
                </a:lnTo>
                <a:lnTo>
                  <a:pt x="793" y="888"/>
                </a:lnTo>
                <a:lnTo>
                  <a:pt x="798" y="892"/>
                </a:lnTo>
                <a:lnTo>
                  <a:pt x="798" y="896"/>
                </a:lnTo>
                <a:lnTo>
                  <a:pt x="802" y="900"/>
                </a:lnTo>
                <a:lnTo>
                  <a:pt x="806" y="904"/>
                </a:lnTo>
                <a:lnTo>
                  <a:pt x="811" y="908"/>
                </a:lnTo>
                <a:lnTo>
                  <a:pt x="815" y="912"/>
                </a:lnTo>
                <a:lnTo>
                  <a:pt x="819" y="916"/>
                </a:lnTo>
                <a:lnTo>
                  <a:pt x="819" y="920"/>
                </a:lnTo>
                <a:lnTo>
                  <a:pt x="824" y="924"/>
                </a:lnTo>
                <a:lnTo>
                  <a:pt x="828" y="928"/>
                </a:lnTo>
                <a:lnTo>
                  <a:pt x="832" y="936"/>
                </a:lnTo>
                <a:lnTo>
                  <a:pt x="837" y="940"/>
                </a:lnTo>
                <a:lnTo>
                  <a:pt x="841" y="944"/>
                </a:lnTo>
                <a:lnTo>
                  <a:pt x="845" y="948"/>
                </a:lnTo>
                <a:lnTo>
                  <a:pt x="845" y="952"/>
                </a:lnTo>
                <a:lnTo>
                  <a:pt x="850" y="956"/>
                </a:lnTo>
                <a:lnTo>
                  <a:pt x="854" y="960"/>
                </a:lnTo>
                <a:lnTo>
                  <a:pt x="858" y="964"/>
                </a:lnTo>
                <a:lnTo>
                  <a:pt x="863" y="968"/>
                </a:lnTo>
                <a:lnTo>
                  <a:pt x="867" y="972"/>
                </a:lnTo>
                <a:lnTo>
                  <a:pt x="867" y="976"/>
                </a:lnTo>
                <a:lnTo>
                  <a:pt x="871" y="980"/>
                </a:lnTo>
                <a:lnTo>
                  <a:pt x="876" y="984"/>
                </a:lnTo>
                <a:lnTo>
                  <a:pt x="880" y="988"/>
                </a:lnTo>
                <a:lnTo>
                  <a:pt x="884" y="992"/>
                </a:lnTo>
                <a:lnTo>
                  <a:pt x="889" y="996"/>
                </a:lnTo>
                <a:lnTo>
                  <a:pt x="893" y="1000"/>
                </a:lnTo>
                <a:lnTo>
                  <a:pt x="893" y="1004"/>
                </a:lnTo>
                <a:lnTo>
                  <a:pt x="897" y="1008"/>
                </a:lnTo>
                <a:lnTo>
                  <a:pt x="903" y="1012"/>
                </a:lnTo>
                <a:lnTo>
                  <a:pt x="907" y="1016"/>
                </a:lnTo>
                <a:lnTo>
                  <a:pt x="912" y="1020"/>
                </a:lnTo>
                <a:lnTo>
                  <a:pt x="916" y="1024"/>
                </a:lnTo>
                <a:lnTo>
                  <a:pt x="916" y="1028"/>
                </a:lnTo>
                <a:lnTo>
                  <a:pt x="920" y="1032"/>
                </a:lnTo>
                <a:lnTo>
                  <a:pt x="925" y="1036"/>
                </a:lnTo>
                <a:lnTo>
                  <a:pt x="929" y="1040"/>
                </a:lnTo>
                <a:lnTo>
                  <a:pt x="933" y="1044"/>
                </a:lnTo>
                <a:lnTo>
                  <a:pt x="938" y="1048"/>
                </a:lnTo>
                <a:lnTo>
                  <a:pt x="942" y="1052"/>
                </a:lnTo>
                <a:lnTo>
                  <a:pt x="942" y="1056"/>
                </a:lnTo>
                <a:lnTo>
                  <a:pt x="946" y="1060"/>
                </a:lnTo>
                <a:lnTo>
                  <a:pt x="951" y="1064"/>
                </a:lnTo>
                <a:lnTo>
                  <a:pt x="955" y="1068"/>
                </a:lnTo>
                <a:lnTo>
                  <a:pt x="959" y="1076"/>
                </a:lnTo>
                <a:lnTo>
                  <a:pt x="964" y="1080"/>
                </a:lnTo>
                <a:lnTo>
                  <a:pt x="964" y="1084"/>
                </a:lnTo>
                <a:lnTo>
                  <a:pt x="968" y="1088"/>
                </a:lnTo>
                <a:lnTo>
                  <a:pt x="972" y="1092"/>
                </a:lnTo>
                <a:lnTo>
                  <a:pt x="977" y="1096"/>
                </a:lnTo>
                <a:lnTo>
                  <a:pt x="981" y="1100"/>
                </a:lnTo>
                <a:lnTo>
                  <a:pt x="985" y="1104"/>
                </a:lnTo>
                <a:lnTo>
                  <a:pt x="985" y="1108"/>
                </a:lnTo>
                <a:lnTo>
                  <a:pt x="990" y="1112"/>
                </a:lnTo>
                <a:lnTo>
                  <a:pt x="994" y="1116"/>
                </a:lnTo>
                <a:lnTo>
                  <a:pt x="998" y="1120"/>
                </a:lnTo>
                <a:lnTo>
                  <a:pt x="1003" y="1124"/>
                </a:lnTo>
                <a:lnTo>
                  <a:pt x="1007" y="1128"/>
                </a:lnTo>
                <a:lnTo>
                  <a:pt x="1011" y="1132"/>
                </a:lnTo>
                <a:lnTo>
                  <a:pt x="1011" y="1136"/>
                </a:lnTo>
                <a:lnTo>
                  <a:pt x="1016" y="1140"/>
                </a:lnTo>
                <a:lnTo>
                  <a:pt x="1020" y="1144"/>
                </a:lnTo>
                <a:lnTo>
                  <a:pt x="1024" y="1148"/>
                </a:lnTo>
                <a:lnTo>
                  <a:pt x="1029" y="1152"/>
                </a:lnTo>
                <a:lnTo>
                  <a:pt x="1033" y="1156"/>
                </a:lnTo>
                <a:lnTo>
                  <a:pt x="1033" y="1160"/>
                </a:lnTo>
                <a:lnTo>
                  <a:pt x="1037" y="1164"/>
                </a:lnTo>
                <a:lnTo>
                  <a:pt x="1042" y="1168"/>
                </a:lnTo>
                <a:lnTo>
                  <a:pt x="1046" y="1172"/>
                </a:lnTo>
                <a:lnTo>
                  <a:pt x="1050" y="1176"/>
                </a:lnTo>
                <a:lnTo>
                  <a:pt x="1055" y="1180"/>
                </a:lnTo>
                <a:lnTo>
                  <a:pt x="1059" y="1184"/>
                </a:lnTo>
                <a:lnTo>
                  <a:pt x="1059" y="1188"/>
                </a:lnTo>
                <a:lnTo>
                  <a:pt x="1063" y="1192"/>
                </a:lnTo>
                <a:lnTo>
                  <a:pt x="1068" y="1196"/>
                </a:lnTo>
                <a:lnTo>
                  <a:pt x="1072" y="1200"/>
                </a:lnTo>
                <a:lnTo>
                  <a:pt x="1076" y="1204"/>
                </a:lnTo>
                <a:lnTo>
                  <a:pt x="1081" y="1208"/>
                </a:lnTo>
                <a:lnTo>
                  <a:pt x="1081" y="1212"/>
                </a:lnTo>
                <a:lnTo>
                  <a:pt x="1085" y="1220"/>
                </a:lnTo>
                <a:lnTo>
                  <a:pt x="1089" y="1224"/>
                </a:lnTo>
                <a:lnTo>
                  <a:pt x="1094" y="1228"/>
                </a:lnTo>
                <a:lnTo>
                  <a:pt x="1098" y="1232"/>
                </a:lnTo>
                <a:lnTo>
                  <a:pt x="1102" y="1236"/>
                </a:lnTo>
                <a:lnTo>
                  <a:pt x="1107" y="1240"/>
                </a:lnTo>
                <a:lnTo>
                  <a:pt x="1107" y="1244"/>
                </a:lnTo>
                <a:lnTo>
                  <a:pt x="1111" y="1248"/>
                </a:lnTo>
                <a:lnTo>
                  <a:pt x="1115" y="1252"/>
                </a:lnTo>
                <a:lnTo>
                  <a:pt x="1120" y="1256"/>
                </a:lnTo>
                <a:lnTo>
                  <a:pt x="1124" y="1260"/>
                </a:lnTo>
                <a:lnTo>
                  <a:pt x="1128" y="1264"/>
                </a:lnTo>
                <a:lnTo>
                  <a:pt x="1128" y="1268"/>
                </a:lnTo>
                <a:lnTo>
                  <a:pt x="1133" y="1200"/>
                </a:lnTo>
                <a:lnTo>
                  <a:pt x="1137" y="1204"/>
                </a:lnTo>
                <a:lnTo>
                  <a:pt x="1141" y="1208"/>
                </a:lnTo>
                <a:lnTo>
                  <a:pt x="1146" y="1212"/>
                </a:lnTo>
                <a:lnTo>
                  <a:pt x="1150" y="1216"/>
                </a:lnTo>
                <a:lnTo>
                  <a:pt x="1154" y="1220"/>
                </a:lnTo>
                <a:lnTo>
                  <a:pt x="1154" y="1224"/>
                </a:lnTo>
                <a:lnTo>
                  <a:pt x="1159" y="1228"/>
                </a:lnTo>
                <a:lnTo>
                  <a:pt x="1163" y="1232"/>
                </a:lnTo>
                <a:lnTo>
                  <a:pt x="1167" y="1164"/>
                </a:lnTo>
                <a:lnTo>
                  <a:pt x="1172" y="1168"/>
                </a:lnTo>
                <a:lnTo>
                  <a:pt x="1176" y="1172"/>
                </a:lnTo>
                <a:lnTo>
                  <a:pt x="1176" y="1180"/>
                </a:lnTo>
                <a:lnTo>
                  <a:pt x="1180" y="1184"/>
                </a:lnTo>
                <a:lnTo>
                  <a:pt x="1185" y="1188"/>
                </a:lnTo>
                <a:lnTo>
                  <a:pt x="1189" y="1192"/>
                </a:lnTo>
                <a:lnTo>
                  <a:pt x="1193" y="1196"/>
                </a:lnTo>
                <a:lnTo>
                  <a:pt x="1198" y="1200"/>
                </a:lnTo>
                <a:lnTo>
                  <a:pt x="1202" y="1204"/>
                </a:lnTo>
                <a:lnTo>
                  <a:pt x="1202" y="1208"/>
                </a:lnTo>
                <a:lnTo>
                  <a:pt x="1206" y="1212"/>
                </a:lnTo>
                <a:lnTo>
                  <a:pt x="1211" y="1216"/>
                </a:lnTo>
                <a:lnTo>
                  <a:pt x="1215" y="1220"/>
                </a:lnTo>
                <a:lnTo>
                  <a:pt x="1219" y="1224"/>
                </a:lnTo>
                <a:lnTo>
                  <a:pt x="1224" y="1156"/>
                </a:lnTo>
                <a:lnTo>
                  <a:pt x="1224" y="1160"/>
                </a:lnTo>
                <a:lnTo>
                  <a:pt x="1228" y="1164"/>
                </a:lnTo>
                <a:lnTo>
                  <a:pt x="1232" y="1168"/>
                </a:lnTo>
                <a:lnTo>
                  <a:pt x="1237" y="1172"/>
                </a:lnTo>
                <a:lnTo>
                  <a:pt x="1241" y="1176"/>
                </a:lnTo>
                <a:lnTo>
                  <a:pt x="1245" y="1180"/>
                </a:lnTo>
                <a:lnTo>
                  <a:pt x="1250" y="1184"/>
                </a:lnTo>
                <a:lnTo>
                  <a:pt x="1250" y="1188"/>
                </a:lnTo>
                <a:lnTo>
                  <a:pt x="1254" y="1192"/>
                </a:lnTo>
                <a:lnTo>
                  <a:pt x="1258" y="1196"/>
                </a:lnTo>
                <a:lnTo>
                  <a:pt x="1262" y="1200"/>
                </a:lnTo>
                <a:lnTo>
                  <a:pt x="1267" y="1204"/>
                </a:lnTo>
                <a:lnTo>
                  <a:pt x="1271" y="1140"/>
                </a:lnTo>
                <a:lnTo>
                  <a:pt x="1271" y="1144"/>
                </a:lnTo>
                <a:lnTo>
                  <a:pt x="1275" y="1148"/>
                </a:lnTo>
                <a:lnTo>
                  <a:pt x="1280" y="1152"/>
                </a:lnTo>
                <a:lnTo>
                  <a:pt x="1284" y="1156"/>
                </a:lnTo>
                <a:lnTo>
                  <a:pt x="1288" y="1160"/>
                </a:lnTo>
                <a:lnTo>
                  <a:pt x="1293" y="1164"/>
                </a:lnTo>
                <a:lnTo>
                  <a:pt x="1297" y="1168"/>
                </a:lnTo>
                <a:lnTo>
                  <a:pt x="1297" y="1172"/>
                </a:lnTo>
                <a:lnTo>
                  <a:pt x="1301" y="1176"/>
                </a:lnTo>
                <a:lnTo>
                  <a:pt x="1306" y="1180"/>
                </a:lnTo>
                <a:lnTo>
                  <a:pt x="1310" y="1184"/>
                </a:lnTo>
                <a:lnTo>
                  <a:pt x="1314" y="1188"/>
                </a:lnTo>
                <a:lnTo>
                  <a:pt x="1319" y="1192"/>
                </a:lnTo>
                <a:lnTo>
                  <a:pt x="1319" y="1196"/>
                </a:lnTo>
                <a:lnTo>
                  <a:pt x="1323" y="1200"/>
                </a:lnTo>
                <a:lnTo>
                  <a:pt x="1327" y="1204"/>
                </a:lnTo>
                <a:lnTo>
                  <a:pt x="1332" y="1208"/>
                </a:lnTo>
                <a:lnTo>
                  <a:pt x="1336" y="1140"/>
                </a:lnTo>
                <a:lnTo>
                  <a:pt x="1340" y="1144"/>
                </a:lnTo>
                <a:lnTo>
                  <a:pt x="1345" y="1148"/>
                </a:lnTo>
                <a:lnTo>
                  <a:pt x="1345" y="1152"/>
                </a:lnTo>
                <a:lnTo>
                  <a:pt x="1349" y="1156"/>
                </a:lnTo>
                <a:lnTo>
                  <a:pt x="1353" y="1160"/>
                </a:lnTo>
                <a:lnTo>
                  <a:pt x="1358" y="1164"/>
                </a:lnTo>
                <a:lnTo>
                  <a:pt x="1362" y="1168"/>
                </a:lnTo>
                <a:lnTo>
                  <a:pt x="1366" y="1172"/>
                </a:lnTo>
                <a:lnTo>
                  <a:pt x="1366" y="1176"/>
                </a:lnTo>
                <a:lnTo>
                  <a:pt x="1371" y="1180"/>
                </a:lnTo>
                <a:lnTo>
                  <a:pt x="1375" y="1188"/>
                </a:lnTo>
                <a:lnTo>
                  <a:pt x="1379" y="1192"/>
                </a:lnTo>
                <a:lnTo>
                  <a:pt x="1384" y="1196"/>
                </a:lnTo>
                <a:lnTo>
                  <a:pt x="1388" y="1200"/>
                </a:lnTo>
                <a:lnTo>
                  <a:pt x="1392" y="1132"/>
                </a:lnTo>
                <a:lnTo>
                  <a:pt x="1392" y="1136"/>
                </a:lnTo>
                <a:lnTo>
                  <a:pt x="1397" y="1140"/>
                </a:lnTo>
                <a:lnTo>
                  <a:pt x="1401" y="1144"/>
                </a:lnTo>
                <a:lnTo>
                  <a:pt x="1405" y="1148"/>
                </a:lnTo>
                <a:lnTo>
                  <a:pt x="1410" y="1152"/>
                </a:lnTo>
                <a:lnTo>
                  <a:pt x="1414" y="1156"/>
                </a:lnTo>
                <a:lnTo>
                  <a:pt x="1414" y="1160"/>
                </a:lnTo>
                <a:lnTo>
                  <a:pt x="1418" y="1164"/>
                </a:lnTo>
                <a:lnTo>
                  <a:pt x="1423" y="1168"/>
                </a:lnTo>
                <a:lnTo>
                  <a:pt x="1427" y="1172"/>
                </a:lnTo>
                <a:lnTo>
                  <a:pt x="1431" y="1176"/>
                </a:lnTo>
                <a:lnTo>
                  <a:pt x="1436" y="1180"/>
                </a:lnTo>
                <a:lnTo>
                  <a:pt x="1440" y="1184"/>
                </a:lnTo>
                <a:lnTo>
                  <a:pt x="1440" y="1188"/>
                </a:lnTo>
                <a:lnTo>
                  <a:pt x="1444" y="1120"/>
                </a:lnTo>
                <a:lnTo>
                  <a:pt x="1449" y="1124"/>
                </a:lnTo>
                <a:lnTo>
                  <a:pt x="1453" y="1128"/>
                </a:lnTo>
                <a:lnTo>
                  <a:pt x="1457" y="1132"/>
                </a:lnTo>
                <a:lnTo>
                  <a:pt x="1462" y="1136"/>
                </a:lnTo>
                <a:lnTo>
                  <a:pt x="1462" y="1140"/>
                </a:lnTo>
                <a:lnTo>
                  <a:pt x="1466" y="1148"/>
                </a:lnTo>
                <a:lnTo>
                  <a:pt x="1470" y="1152"/>
                </a:lnTo>
                <a:lnTo>
                  <a:pt x="1475" y="1156"/>
                </a:lnTo>
                <a:lnTo>
                  <a:pt x="1479" y="1160"/>
                </a:lnTo>
                <a:lnTo>
                  <a:pt x="1483" y="1164"/>
                </a:lnTo>
                <a:lnTo>
                  <a:pt x="1488" y="1168"/>
                </a:lnTo>
                <a:lnTo>
                  <a:pt x="1488" y="1172"/>
                </a:lnTo>
                <a:lnTo>
                  <a:pt x="1492" y="1176"/>
                </a:lnTo>
                <a:lnTo>
                  <a:pt x="1496" y="1180"/>
                </a:lnTo>
                <a:lnTo>
                  <a:pt x="1501" y="1184"/>
                </a:lnTo>
                <a:lnTo>
                  <a:pt x="1505" y="1188"/>
                </a:lnTo>
                <a:lnTo>
                  <a:pt x="1509" y="1120"/>
                </a:lnTo>
                <a:lnTo>
                  <a:pt x="1509" y="1124"/>
                </a:lnTo>
                <a:lnTo>
                  <a:pt x="1514" y="1128"/>
                </a:lnTo>
                <a:lnTo>
                  <a:pt x="1518" y="1132"/>
                </a:lnTo>
                <a:lnTo>
                  <a:pt x="1522" y="1136"/>
                </a:lnTo>
                <a:lnTo>
                  <a:pt x="1527" y="1140"/>
                </a:lnTo>
                <a:lnTo>
                  <a:pt x="1531" y="1144"/>
                </a:lnTo>
                <a:lnTo>
                  <a:pt x="1535" y="1148"/>
                </a:lnTo>
                <a:lnTo>
                  <a:pt x="1535" y="1152"/>
                </a:lnTo>
                <a:lnTo>
                  <a:pt x="1540" y="1156"/>
                </a:lnTo>
                <a:lnTo>
                  <a:pt x="1544" y="1160"/>
                </a:lnTo>
                <a:lnTo>
                  <a:pt x="1548" y="1164"/>
                </a:lnTo>
                <a:lnTo>
                  <a:pt x="1553" y="1168"/>
                </a:lnTo>
                <a:lnTo>
                  <a:pt x="1557" y="1172"/>
                </a:lnTo>
                <a:lnTo>
                  <a:pt x="1557" y="1176"/>
                </a:lnTo>
                <a:lnTo>
                  <a:pt x="1561" y="1180"/>
                </a:lnTo>
                <a:lnTo>
                  <a:pt x="1566" y="1116"/>
                </a:lnTo>
                <a:lnTo>
                  <a:pt x="1570" y="1120"/>
                </a:lnTo>
                <a:lnTo>
                  <a:pt x="1574" y="1124"/>
                </a:lnTo>
                <a:lnTo>
                  <a:pt x="1579" y="1128"/>
                </a:lnTo>
                <a:lnTo>
                  <a:pt x="1579" y="1132"/>
                </a:lnTo>
                <a:lnTo>
                  <a:pt x="1583" y="1136"/>
                </a:lnTo>
                <a:lnTo>
                  <a:pt x="1587" y="1140"/>
                </a:lnTo>
                <a:lnTo>
                  <a:pt x="1592" y="1144"/>
                </a:lnTo>
                <a:lnTo>
                  <a:pt x="1596" y="1148"/>
                </a:lnTo>
                <a:lnTo>
                  <a:pt x="1600" y="1152"/>
                </a:lnTo>
                <a:lnTo>
                  <a:pt x="1605" y="1156"/>
                </a:lnTo>
                <a:lnTo>
                  <a:pt x="1605" y="1160"/>
                </a:lnTo>
                <a:lnTo>
                  <a:pt x="1609" y="1164"/>
                </a:lnTo>
                <a:lnTo>
                  <a:pt x="1613" y="1168"/>
                </a:lnTo>
                <a:lnTo>
                  <a:pt x="1618" y="1172"/>
                </a:lnTo>
                <a:lnTo>
                  <a:pt x="1622" y="1176"/>
                </a:lnTo>
                <a:lnTo>
                  <a:pt x="1626" y="1180"/>
                </a:lnTo>
                <a:lnTo>
                  <a:pt x="1626" y="1184"/>
                </a:lnTo>
                <a:lnTo>
                  <a:pt x="1631" y="1188"/>
                </a:lnTo>
                <a:lnTo>
                  <a:pt x="1635" y="1192"/>
                </a:lnTo>
                <a:lnTo>
                  <a:pt x="1639" y="1124"/>
                </a:lnTo>
                <a:lnTo>
                  <a:pt x="1644" y="1128"/>
                </a:lnTo>
                <a:lnTo>
                  <a:pt x="1648" y="1132"/>
                </a:lnTo>
                <a:lnTo>
                  <a:pt x="1652" y="1136"/>
                </a:lnTo>
                <a:lnTo>
                  <a:pt x="1652" y="1140"/>
                </a:lnTo>
                <a:lnTo>
                  <a:pt x="1657" y="1144"/>
                </a:lnTo>
                <a:lnTo>
                  <a:pt x="1661" y="1148"/>
                </a:lnTo>
                <a:lnTo>
                  <a:pt x="1665" y="1156"/>
                </a:lnTo>
                <a:lnTo>
                  <a:pt x="1670" y="1160"/>
                </a:lnTo>
                <a:lnTo>
                  <a:pt x="1674" y="1164"/>
                </a:lnTo>
                <a:lnTo>
                  <a:pt x="1674" y="1168"/>
                </a:lnTo>
                <a:lnTo>
                  <a:pt x="1678" y="1172"/>
                </a:lnTo>
                <a:lnTo>
                  <a:pt x="1683" y="1176"/>
                </a:lnTo>
                <a:lnTo>
                  <a:pt x="1687" y="1180"/>
                </a:lnTo>
                <a:lnTo>
                  <a:pt x="1691" y="1112"/>
                </a:lnTo>
                <a:lnTo>
                  <a:pt x="1696" y="1116"/>
                </a:lnTo>
                <a:lnTo>
                  <a:pt x="1700" y="1120"/>
                </a:lnTo>
                <a:lnTo>
                  <a:pt x="1700" y="1124"/>
                </a:lnTo>
                <a:lnTo>
                  <a:pt x="1704" y="1128"/>
                </a:lnTo>
                <a:lnTo>
                  <a:pt x="1709" y="1132"/>
                </a:lnTo>
                <a:lnTo>
                  <a:pt x="1714" y="1136"/>
                </a:lnTo>
                <a:lnTo>
                  <a:pt x="1719" y="1140"/>
                </a:lnTo>
                <a:lnTo>
                  <a:pt x="1723" y="1144"/>
                </a:lnTo>
                <a:lnTo>
                  <a:pt x="1723" y="1148"/>
                </a:lnTo>
                <a:lnTo>
                  <a:pt x="1727" y="1152"/>
                </a:lnTo>
                <a:lnTo>
                  <a:pt x="1732" y="1156"/>
                </a:lnTo>
                <a:lnTo>
                  <a:pt x="1736" y="1160"/>
                </a:lnTo>
                <a:lnTo>
                  <a:pt x="1740" y="1164"/>
                </a:lnTo>
                <a:lnTo>
                  <a:pt x="1745" y="1168"/>
                </a:lnTo>
                <a:lnTo>
                  <a:pt x="1749" y="1172"/>
                </a:lnTo>
                <a:lnTo>
                  <a:pt x="1749" y="1176"/>
                </a:lnTo>
                <a:lnTo>
                  <a:pt x="1753" y="1180"/>
                </a:lnTo>
                <a:lnTo>
                  <a:pt x="1758" y="1116"/>
                </a:lnTo>
                <a:lnTo>
                  <a:pt x="1762" y="1120"/>
                </a:lnTo>
                <a:lnTo>
                  <a:pt x="1766" y="1124"/>
                </a:lnTo>
                <a:lnTo>
                  <a:pt x="1771" y="1128"/>
                </a:lnTo>
                <a:lnTo>
                  <a:pt x="1771" y="1132"/>
                </a:lnTo>
                <a:lnTo>
                  <a:pt x="1775" y="1136"/>
                </a:lnTo>
                <a:lnTo>
                  <a:pt x="1779" y="1140"/>
                </a:lnTo>
                <a:lnTo>
                  <a:pt x="1784" y="1144"/>
                </a:lnTo>
                <a:lnTo>
                  <a:pt x="1788" y="1148"/>
                </a:lnTo>
                <a:lnTo>
                  <a:pt x="1792" y="1152"/>
                </a:lnTo>
                <a:lnTo>
                  <a:pt x="1797" y="1156"/>
                </a:lnTo>
                <a:lnTo>
                  <a:pt x="1797" y="1160"/>
                </a:lnTo>
                <a:lnTo>
                  <a:pt x="1801" y="1164"/>
                </a:lnTo>
                <a:lnTo>
                  <a:pt x="1805" y="1168"/>
                </a:lnTo>
                <a:lnTo>
                  <a:pt x="1810" y="1172"/>
                </a:lnTo>
                <a:lnTo>
                  <a:pt x="1814" y="1176"/>
                </a:lnTo>
                <a:lnTo>
                  <a:pt x="1818" y="1180"/>
                </a:lnTo>
                <a:lnTo>
                  <a:pt x="1818" y="1112"/>
                </a:lnTo>
                <a:lnTo>
                  <a:pt x="1823" y="1116"/>
                </a:lnTo>
                <a:lnTo>
                  <a:pt x="1827" y="1120"/>
                </a:lnTo>
                <a:lnTo>
                  <a:pt x="1831" y="1124"/>
                </a:lnTo>
                <a:lnTo>
                  <a:pt x="1836" y="1128"/>
                </a:lnTo>
                <a:lnTo>
                  <a:pt x="1840" y="1132"/>
                </a:lnTo>
                <a:lnTo>
                  <a:pt x="1844" y="1136"/>
                </a:lnTo>
                <a:lnTo>
                  <a:pt x="1844" y="1140"/>
                </a:lnTo>
                <a:lnTo>
                  <a:pt x="1849" y="1144"/>
                </a:lnTo>
                <a:lnTo>
                  <a:pt x="1853" y="1148"/>
                </a:lnTo>
                <a:lnTo>
                  <a:pt x="1857" y="1152"/>
                </a:lnTo>
                <a:lnTo>
                  <a:pt x="1862" y="1156"/>
                </a:lnTo>
                <a:lnTo>
                  <a:pt x="1866" y="1160"/>
                </a:lnTo>
                <a:lnTo>
                  <a:pt x="1866" y="1168"/>
                </a:lnTo>
                <a:lnTo>
                  <a:pt x="1870" y="1172"/>
                </a:lnTo>
                <a:lnTo>
                  <a:pt x="1875" y="1176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Usporedba IIR / FIR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Obradba analognih signal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1989000"/>
            <a:ext cx="77724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9000"/>
          </a:bodyPr>
          <a:p>
            <a:pPr marL="167760" indent="-16776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Times New Roman"/>
              </a:rPr>
              <a:t>Obradba analognih sign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-1400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asivnim mrež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-1400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aktivnim analognim mrež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-14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-14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-1400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igitalnim sustav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16800" y="3733920"/>
            <a:ext cx="3521880" cy="761760"/>
            <a:chOff x="2116800" y="3733920"/>
            <a:chExt cx="3521880" cy="761760"/>
          </a:xfrm>
        </p:grpSpPr>
        <p:sp>
          <p:nvSpPr>
            <p:cNvPr id="133" name=""/>
            <p:cNvSpPr/>
            <p:nvPr/>
          </p:nvSpPr>
          <p:spPr>
            <a:xfrm>
              <a:off x="3200400" y="3733920"/>
              <a:ext cx="1523880" cy="761760"/>
            </a:xfrm>
            <a:prstGeom prst="rect">
              <a:avLst/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alog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ce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4280" y="411480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83680" y="3745080"/>
              <a:ext cx="84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nalogn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44160" y="411480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zla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09680" y="411480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16800" y="3745080"/>
              <a:ext cx="84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nalogn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94560" y="41259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la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64320" y="5181480"/>
            <a:ext cx="8407800" cy="764280"/>
            <a:chOff x="364320" y="5181480"/>
            <a:chExt cx="8407800" cy="764280"/>
          </a:xfrm>
        </p:grpSpPr>
        <p:sp>
          <p:nvSpPr>
            <p:cNvPr id="141" name=""/>
            <p:cNvSpPr/>
            <p:nvPr/>
          </p:nvSpPr>
          <p:spPr>
            <a:xfrm>
              <a:off x="2438280" y="5257800"/>
              <a:ext cx="914400" cy="609480"/>
            </a:xfrm>
            <a:prstGeom prst="rect">
              <a:avLst/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amp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 Hol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1280" y="5257800"/>
              <a:ext cx="914400" cy="609480"/>
            </a:xfrm>
            <a:prstGeom prst="rect">
              <a:avLst/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/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5257800"/>
              <a:ext cx="914400" cy="609480"/>
            </a:xfrm>
            <a:prstGeom prst="rect">
              <a:avLst/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tal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ce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5257800"/>
              <a:ext cx="914400" cy="609480"/>
            </a:xfrm>
            <a:prstGeom prst="rect">
              <a:avLst/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/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0" y="5257800"/>
              <a:ext cx="914400" cy="609480"/>
            </a:xfrm>
            <a:prstGeom prst="rect">
              <a:avLst/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ffffff"/>
                  </a:solidFill>
                  <a:latin typeface="Times New Roman"/>
                </a:rPr>
                <a:t>Rekonstruk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ffffff"/>
                  </a:solidFill>
                  <a:latin typeface="Times New Roman"/>
                </a:rPr>
                <a:t>cijsk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ffffff"/>
                  </a:solidFill>
                  <a:latin typeface="Times New Roman"/>
                </a:rPr>
                <a:t>filt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20" y="556272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55627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4320" y="5192640"/>
              <a:ext cx="84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nalogn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5760" y="557388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la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3960" y="5181480"/>
              <a:ext cx="84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nalogn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78040" y="563868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zla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5280" y="5257800"/>
              <a:ext cx="914400" cy="609480"/>
            </a:xfrm>
            <a:prstGeom prst="rect">
              <a:avLst/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ffffff"/>
                  </a:solidFill>
                  <a:latin typeface="Times New Roman"/>
                </a:rPr>
                <a:t>Anti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ffffff"/>
                  </a:solidFill>
                  <a:latin typeface="Times New Roman"/>
                </a:rPr>
                <a:t>Alias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ffffff"/>
                  </a:solidFill>
                  <a:latin typeface="Times New Roman"/>
                </a:rPr>
                <a:t>filt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09680" y="5562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5562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8680" y="55627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05720" y="55627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Prednosti</a:t>
            </a: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 D</a:t>
            </a: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OS (DSP)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epostojanje pomaka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ift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a) karakteristika realiziranog sust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arametri sustava su fiksirani tj. definirani su u binarnim koeficijentima pohranjenim u memori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zato su oni nezavisni od okoliša i parametara kao što su to temperatura, vlažnost itd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tarenje elemenata nema utjeca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Prednosti DOS (</a:t>
            </a: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DSP</a:t>
            </a: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)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boljšana razina kvalit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valiteta obradbe limitirana samo ekonomskim parametr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željena kvaliteta postiže se povećanjem broja bita u prikazu podataka/koeficijen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većanje za 1 bit u prikazu rezultata pokazuje 6 </a:t>
            </a:r>
            <a:r>
              <a:rPr b="0" sz="28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poboljšanje SN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Prednosti DOS</a:t>
            </a: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DSP</a:t>
            </a: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)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Reproducibil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olerancije komponen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e utječu na karakteristike sust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epotrebna podešavanja prigodom proizvod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epotrebna podešavanja za vrijeme života sust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Prednosti DOS</a:t>
            </a: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DSP</a:t>
            </a: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)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ednostavna implementacija novih i složenih algorit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ednostavni razvoj i implementacija adaptivnih, </a:t>
            </a: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programabilnih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filtara, itd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ealizacija jedni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p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om  korištenjem VLSI tehnolog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Prednosti DOS</a:t>
            </a: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DSP</a:t>
            </a: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)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Multipleksiranje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sta oprema može biti istovremeno korištena od više signala s očiglednim financijskim prednostima za svaku funkci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odular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oriste se standardni digitalni sklopovi za realizaci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Ograničenja DOS</a:t>
            </a: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DSP</a:t>
            </a:r>
            <a:r>
              <a:rPr b="0" i="1" lang="hr-HR" sz="4400" spc="-1" strike="noStrike">
                <a:solidFill>
                  <a:srgbClr val="00cccc"/>
                </a:solidFill>
                <a:latin typeface="Arial"/>
              </a:rPr>
              <a:t>)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iža pouzda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igitalni sustavi su aktivni uređaji i time koriste više energije i manje su pouzda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oguća kompenzacija pouzdanosti primjenom automatskog nadzora digitalnog sust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ZESOI</dc:creator>
  <dc:description/>
  <dc:language>en-US</dc:language>
  <cp:lastModifiedBy>Branko Jeren</cp:lastModifiedBy>
  <cp:lastPrinted>1997-10-15T13:24:38Z</cp:lastPrinted>
  <dcterms:modified xsi:type="dcterms:W3CDTF">2003-10-15T20:05:50Z</dcterms:modified>
  <cp:revision>91</cp:revision>
  <dc:subject>Digitalna obradba signala</dc:subject>
  <dc:title>Uvodno predavanje</dc:title>
</cp:coreProperties>
</file>