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024080" y="900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0" y="9741960"/>
            <a:ext cx="307512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4024080" y="9741960"/>
            <a:ext cx="3074760" cy="4813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fld id="{A49A2A07-E28D-4551-8130-9369DA650CC0}" type="slidenum">
              <a:rPr b="0" i="1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Img"/>
          </p:nvPr>
        </p:nvSpPr>
        <p:spPr>
          <a:xfrm>
            <a:off x="1164960" y="896760"/>
            <a:ext cx="476892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022640" y="973944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-1440" y="973944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"/>
          <p:cNvSpPr/>
          <p:nvPr/>
        </p:nvSpPr>
        <p:spPr>
          <a:xfrm>
            <a:off x="4022640" y="648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4022640" y="9739440"/>
            <a:ext cx="3076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hr-H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-1440" y="973944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-1440" y="6480"/>
            <a:ext cx="3074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sldImg"/>
          </p:nvPr>
        </p:nvSpPr>
        <p:spPr>
          <a:xfrm>
            <a:off x="116532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3209" name="PlaceHolder 2"/>
          <p:cNvSpPr>
            <a:spLocks noGrp="1"/>
          </p:cNvSpPr>
          <p:nvPr>
            <p:ph type="body"/>
          </p:nvPr>
        </p:nvSpPr>
        <p:spPr>
          <a:xfrm>
            <a:off x="945720" y="4875120"/>
            <a:ext cx="52038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85F5-CCDA-41A0-B154-CE89DDB0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7DFF-C032-4B84-89FA-8ABE792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4DAF-ED96-4EC3-9F35-8EA31053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37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780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37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780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B9E0-2C4E-4E95-B3DC-D58B5DED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879A-EAF6-42D2-A332-A59EF427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756E-A170-4671-AAE5-578EB127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A020-38FC-491A-A70C-FE2238D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0AED-5CE6-4DBE-8A9F-80D9AFA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600" y="628560"/>
            <a:ext cx="769608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F691-46CF-4418-8033-BB0031C7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A6F9-1432-4099-9B93-3C6E142C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46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D4BA-D976-4B8A-8AE2-E58178E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046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E64E-D3A7-41B0-AFC9-3E2F7D6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A2890C-7E78-4377-89C3-959538544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2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3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6094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65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66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2133360"/>
            <a:ext cx="663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87A1-96A7-4A77-8C5F-8392D61FEF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takve sustave ulazno-izlazne odnose moguće je definirati diferencijalnom jednadžb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og reda oblik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05000" y="2674800"/>
                <a:ext cx="5867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11280" y="4419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gdje su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hr-HR" sz="2800" spc="-1" strike="noStrike" baseline="-21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,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hr-HR" sz="2800" spc="-1" strike="noStrike" baseline="-21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,</a:t>
            </a:r>
            <a:r>
              <a:rPr b="0" i="1" lang="hr-HR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ealni koeficijen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apalce-ovom transformacijom slijed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98440" y="5621400"/>
                <a:ext cx="72612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E30F-EE8C-44E4-A53F-D22AFD0DB16E}" type="slidenum">
              <a:t>10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cij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guće je prijenosnu funkcij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zraziti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8880" y="2319480"/>
                <a:ext cx="78264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396252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realna racionalna funkcija kompleksne frekven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koju je moguće prikazati u obliku omjera dvaju polinoma s realnim koef.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97400" y="5551560"/>
                <a:ext cx="1739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4C31-F694-4CF9-9759-87B9E011A4E8}" type="slidenum">
              <a:t>11</a:t>
            </a:fld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moguće prikazati i u slijedećem oblik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920" y="2090880"/>
                <a:ext cx="866592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M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358128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dje s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o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i = 1,…,M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rijeni polinoma u brojnik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nule prijenosne funkcij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pj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(j = 1,…,N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rijeni polinoma u nazivnik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Q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polovi prijenosne funkcije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... realna konstanta jednak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 = a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/b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E149-3D0E-4442-AF24-C6ED22EA636A}" type="slidenum">
              <a:t>12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371600"/>
            <a:ext cx="8532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oba slučaja korijeni mogu biti realni ili kompleks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vaki kompleksni korijen ima odgovarajući konjugirano kompleksni par, pa se uparivanjem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že prikazati u oblik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23880" y="3200400"/>
                <a:ext cx="618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i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j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11280" y="4951440"/>
            <a:ext cx="1293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i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12720" y="5010120"/>
                <a:ext cx="62326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1F4E-0195-45E4-9C5F-90660C290F1E}" type="slidenum">
              <a:t>13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447920"/>
            <a:ext cx="853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kompleksna varijabla, tj.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=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</a:t>
            </a:r>
            <a:r>
              <a:rPr b="0" lang="hr-HR" sz="2800" spc="-1" strike="noStrike">
                <a:solidFill>
                  <a:srgbClr val="ffff00"/>
                </a:solidFill>
                <a:latin typeface="YU7 Dutch"/>
              </a:rPr>
              <a:t>+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, pa je onda i 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kompleksna veličina za neki proizvoljni broj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uvjetima stacionarnog stanja sinusne pobude, varijabl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staje jednak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, pa i prijenosna 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sta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e naziva </a:t>
            </a: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kompleksnom frekvencijskom karakteristikom filt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65360" y="5106960"/>
                <a:ext cx="3848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57200" y="5711760"/>
            <a:ext cx="8381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snovna funkcija električkih filtara sadržana je upravo u obliku frekvencijske karakteristik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BFDD-F2DC-4E26-8C8D-5353CDCF83C8}" type="slidenum">
              <a:t>14</a:t>
            </a:fld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3619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3. 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7593-71DC-4C23-B2F4-3458AA134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53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mjene koje električki filtar treba unijeti u spektar ulaznog signala najčešće se svode n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prigušenje ili eliminaciju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ređenih nepoželjnih frekvencijskih komponenti tog signa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zadani ulazni signal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x(t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 pripadnim frekvencijskim spektro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X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09880" y="4116240"/>
                <a:ext cx="3948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F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09480" y="4721400"/>
            <a:ext cx="83822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spektar izlaznog signala određen je izrazom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01680" y="5335560"/>
                <a:ext cx="6870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F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87240" y="5864400"/>
            <a:ext cx="83822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kao umnožak spektra signala i prijenosne funkci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8092-DA57-466A-B2AD-9A36ABB1AF75}" type="slidenum">
              <a:t>16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676520"/>
            <a:ext cx="3962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module i faze vrijede slijedeći izraz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89640" y="1774800"/>
                <a:ext cx="3660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08040" y="2666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 prijenosne funkcije električkog filtra često se izražava preko svoje logaritamske mjer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104840" y="3736800"/>
                <a:ext cx="6802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j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−</m:t>
                    </m:r>
                    <m:r>
                      <m:t xml:space="preserve">j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09480" y="4187880"/>
            <a:ext cx="83822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gdje se funkcij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aziva se </a:t>
            </a: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logaritamskom mjerom pojačanja filt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izražava u Neperim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[N]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ko se modul logaritmira po dekadskoj bazi dobiva se logaritamska mjera pojačanja izražena 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[dB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03480" y="6175440"/>
                <a:ext cx="5261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1A4A-5BA6-4F74-8A5E-EFFA1533F2C3}" type="slidenum">
              <a:t>17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040" y="16765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red fazno frekvencijske karakteristik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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često se koristi i funkcija grupnog vremena kašnjen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efinirana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81320" y="3060720"/>
                <a:ext cx="2495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BFCC-3722-4630-9E14-60AD44ECE59A}" type="slidenum">
              <a:t>18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3619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4. 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636F-1BC2-4B66-AEE6-90AE4678A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Sadržaj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ja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jenosna funkcija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kvencijska 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 analognog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vi filt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ktivni fil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arski korek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E05A-AD4D-430C-B22C-7B75AE5C459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8040" y="1676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jenosna funkcij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 = U</a:t>
            </a:r>
            <a:r>
              <a:rPr b="0" lang="en-US" sz="2800" spc="-1" strike="noStrike" baseline="-21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s) / U</a:t>
            </a:r>
            <a:r>
              <a:rPr b="0" lang="en-US" sz="2800" spc="-1" strike="noStrike" baseline="-21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reže prema slici gl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2643120"/>
                <a:ext cx="3503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3984480" y="2124000"/>
            <a:ext cx="5131800" cy="2448000"/>
            <a:chOff x="3984480" y="2124000"/>
            <a:chExt cx="5131800" cy="2448000"/>
          </a:xfrm>
        </p:grpSpPr>
        <p:sp>
          <p:nvSpPr>
            <p:cNvPr id="161" name=""/>
            <p:cNvSpPr/>
            <p:nvPr/>
          </p:nvSpPr>
          <p:spPr>
            <a:xfrm>
              <a:off x="5038560" y="2984400"/>
              <a:ext cx="5414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7680" y="2982960"/>
              <a:ext cx="0" cy="455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727680" y="3947760"/>
              <a:ext cx="0" cy="585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38560" y="4533840"/>
              <a:ext cx="3009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94560" y="29527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22"/>
                  </a:moveTo>
                  <a:lnTo>
                    <a:pt x="42" y="28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0" y="41"/>
                  </a:lnTo>
                  <a:lnTo>
                    <a:pt x="24" y="42"/>
                  </a:lnTo>
                  <a:lnTo>
                    <a:pt x="19" y="42"/>
                  </a:lnTo>
                  <a:lnTo>
                    <a:pt x="12" y="41"/>
                  </a:lnTo>
                  <a:lnTo>
                    <a:pt x="8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6"/>
                  </a:lnTo>
                  <a:lnTo>
                    <a:pt x="43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32000" y="2124000"/>
              <a:ext cx="333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70520" y="45021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23"/>
                  </a:moveTo>
                  <a:lnTo>
                    <a:pt x="41" y="28"/>
                  </a:lnTo>
                  <a:lnTo>
                    <a:pt x="38" y="33"/>
                  </a:lnTo>
                  <a:lnTo>
                    <a:pt x="36" y="37"/>
                  </a:lnTo>
                  <a:lnTo>
                    <a:pt x="30" y="42"/>
                  </a:lnTo>
                  <a:lnTo>
                    <a:pt x="24" y="43"/>
                  </a:lnTo>
                  <a:lnTo>
                    <a:pt x="19" y="43"/>
                  </a:lnTo>
                  <a:lnTo>
                    <a:pt x="12" y="42"/>
                  </a:lnTo>
                  <a:lnTo>
                    <a:pt x="7" y="37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7" y="6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38" y="11"/>
                  </a:lnTo>
                  <a:lnTo>
                    <a:pt x="41" y="15"/>
                  </a:lnTo>
                  <a:lnTo>
                    <a:pt x="43" y="2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50320" y="29494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22"/>
                  </a:moveTo>
                  <a:lnTo>
                    <a:pt x="42" y="28"/>
                  </a:lnTo>
                  <a:lnTo>
                    <a:pt x="39" y="33"/>
                  </a:lnTo>
                  <a:lnTo>
                    <a:pt x="36" y="37"/>
                  </a:lnTo>
                  <a:lnTo>
                    <a:pt x="30" y="41"/>
                  </a:lnTo>
                  <a:lnTo>
                    <a:pt x="24" y="43"/>
                  </a:lnTo>
                  <a:lnTo>
                    <a:pt x="20" y="43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3" y="2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0320" y="44989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22"/>
                  </a:moveTo>
                  <a:lnTo>
                    <a:pt x="42" y="28"/>
                  </a:lnTo>
                  <a:lnTo>
                    <a:pt x="39" y="32"/>
                  </a:lnTo>
                  <a:lnTo>
                    <a:pt x="36" y="36"/>
                  </a:lnTo>
                  <a:lnTo>
                    <a:pt x="30" y="41"/>
                  </a:lnTo>
                  <a:lnTo>
                    <a:pt x="24" y="42"/>
                  </a:lnTo>
                  <a:lnTo>
                    <a:pt x="20" y="42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8" y="5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5"/>
                  </a:lnTo>
                  <a:lnTo>
                    <a:pt x="39" y="10"/>
                  </a:lnTo>
                  <a:lnTo>
                    <a:pt x="42" y="14"/>
                  </a:lnTo>
                  <a:lnTo>
                    <a:pt x="43" y="2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64040" y="295740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2" y="22"/>
                  </a:moveTo>
                  <a:lnTo>
                    <a:pt x="41" y="28"/>
                  </a:lnTo>
                  <a:lnTo>
                    <a:pt x="38" y="32"/>
                  </a:lnTo>
                  <a:lnTo>
                    <a:pt x="35" y="36"/>
                  </a:lnTo>
                  <a:lnTo>
                    <a:pt x="29" y="41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7" y="6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41" y="14"/>
                  </a:lnTo>
                  <a:lnTo>
                    <a:pt x="42" y="2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00720" y="3003480"/>
              <a:ext cx="244440" cy="1548000"/>
              <a:chOff x="4500720" y="3003480"/>
              <a:chExt cx="244440" cy="154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4622760" y="4395960"/>
                <a:ext cx="122400" cy="155520"/>
              </a:xfrm>
              <a:custGeom>
                <a:avLst/>
                <a:gdLst/>
                <a:ahLst/>
                <a:rect l="l" t="t" r="r" b="b"/>
                <a:pathLst>
                  <a:path w="77" h="98">
                    <a:moveTo>
                      <a:pt x="0" y="0"/>
                    </a:moveTo>
                    <a:lnTo>
                      <a:pt x="0" y="12"/>
                    </a:lnTo>
                    <a:lnTo>
                      <a:pt x="3" y="25"/>
                    </a:lnTo>
                    <a:lnTo>
                      <a:pt x="6" y="37"/>
                    </a:lnTo>
                    <a:lnTo>
                      <a:pt x="11" y="48"/>
                    </a:lnTo>
                    <a:lnTo>
                      <a:pt x="17" y="59"/>
                    </a:lnTo>
                    <a:lnTo>
                      <a:pt x="22" y="69"/>
                    </a:lnTo>
                    <a:lnTo>
                      <a:pt x="30" y="76"/>
                    </a:lnTo>
                    <a:lnTo>
                      <a:pt x="39" y="84"/>
                    </a:lnTo>
                    <a:lnTo>
                      <a:pt x="48" y="90"/>
                    </a:lnTo>
                    <a:lnTo>
                      <a:pt x="56" y="93"/>
                    </a:lnTo>
                    <a:lnTo>
                      <a:pt x="67" y="95"/>
                    </a:lnTo>
                    <a:lnTo>
                      <a:pt x="76" y="97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22760" y="3003480"/>
                <a:ext cx="122400" cy="155520"/>
              </a:xfrm>
              <a:custGeom>
                <a:avLst/>
                <a:gdLst/>
                <a:ahLst/>
                <a:rect l="l" t="t" r="r" b="b"/>
                <a:pathLst>
                  <a:path w="77" h="98">
                    <a:moveTo>
                      <a:pt x="0" y="97"/>
                    </a:moveTo>
                    <a:lnTo>
                      <a:pt x="0" y="84"/>
                    </a:lnTo>
                    <a:lnTo>
                      <a:pt x="3" y="72"/>
                    </a:lnTo>
                    <a:lnTo>
                      <a:pt x="6" y="59"/>
                    </a:lnTo>
                    <a:lnTo>
                      <a:pt x="11" y="49"/>
                    </a:lnTo>
                    <a:lnTo>
                      <a:pt x="17" y="37"/>
                    </a:lnTo>
                    <a:lnTo>
                      <a:pt x="22" y="28"/>
                    </a:lnTo>
                    <a:lnTo>
                      <a:pt x="30" y="19"/>
                    </a:lnTo>
                    <a:lnTo>
                      <a:pt x="39" y="13"/>
                    </a:lnTo>
                    <a:lnTo>
                      <a:pt x="48" y="6"/>
                    </a:lnTo>
                    <a:lnTo>
                      <a:pt x="56" y="3"/>
                    </a:lnTo>
                    <a:lnTo>
                      <a:pt x="67" y="0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00720" y="3621240"/>
                <a:ext cx="123840" cy="15552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77" y="0"/>
                    </a:moveTo>
                    <a:lnTo>
                      <a:pt x="76" y="12"/>
                    </a:lnTo>
                    <a:lnTo>
                      <a:pt x="74" y="25"/>
                    </a:lnTo>
                    <a:lnTo>
                      <a:pt x="71" y="37"/>
                    </a:lnTo>
                    <a:lnTo>
                      <a:pt x="67" y="49"/>
                    </a:lnTo>
                    <a:lnTo>
                      <a:pt x="61" y="59"/>
                    </a:lnTo>
                    <a:lnTo>
                      <a:pt x="55" y="69"/>
                    </a:lnTo>
                    <a:lnTo>
                      <a:pt x="46" y="77"/>
                    </a:lnTo>
                    <a:lnTo>
                      <a:pt x="37" y="84"/>
                    </a:lnTo>
                    <a:lnTo>
                      <a:pt x="29" y="90"/>
                    </a:lnTo>
                    <a:lnTo>
                      <a:pt x="20" y="94"/>
                    </a:lnTo>
                    <a:lnTo>
                      <a:pt x="9" y="96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00720" y="3778200"/>
                <a:ext cx="123840" cy="154080"/>
              </a:xfrm>
              <a:custGeom>
                <a:avLst/>
                <a:gdLst/>
                <a:ahLst/>
                <a:rect l="l" t="t" r="r" b="b"/>
                <a:pathLst>
                  <a:path w="78" h="97">
                    <a:moveTo>
                      <a:pt x="77" y="96"/>
                    </a:moveTo>
                    <a:lnTo>
                      <a:pt x="76" y="84"/>
                    </a:lnTo>
                    <a:lnTo>
                      <a:pt x="74" y="72"/>
                    </a:lnTo>
                    <a:lnTo>
                      <a:pt x="71" y="59"/>
                    </a:lnTo>
                    <a:lnTo>
                      <a:pt x="67" y="47"/>
                    </a:lnTo>
                    <a:lnTo>
                      <a:pt x="61" y="37"/>
                    </a:lnTo>
                    <a:lnTo>
                      <a:pt x="55" y="28"/>
                    </a:lnTo>
                    <a:lnTo>
                      <a:pt x="46" y="19"/>
                    </a:lnTo>
                    <a:lnTo>
                      <a:pt x="39" y="13"/>
                    </a:lnTo>
                    <a:lnTo>
                      <a:pt x="29" y="6"/>
                    </a:lnTo>
                    <a:lnTo>
                      <a:pt x="20" y="3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22760" y="3157560"/>
                <a:ext cx="0" cy="463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22760" y="3930480"/>
                <a:ext cx="0" cy="465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391600" y="2984400"/>
              <a:ext cx="244440" cy="1546200"/>
              <a:chOff x="8391600" y="2984400"/>
              <a:chExt cx="244440" cy="1546200"/>
            </a:xfrm>
          </p:grpSpPr>
          <p:sp>
            <p:nvSpPr>
              <p:cNvPr id="179" name=""/>
              <p:cNvSpPr/>
              <p:nvPr/>
            </p:nvSpPr>
            <p:spPr>
              <a:xfrm>
                <a:off x="8391600" y="2984400"/>
                <a:ext cx="120600" cy="15732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75" y="98"/>
                    </a:moveTo>
                    <a:lnTo>
                      <a:pt x="75" y="84"/>
                    </a:lnTo>
                    <a:lnTo>
                      <a:pt x="74" y="72"/>
                    </a:lnTo>
                    <a:lnTo>
                      <a:pt x="69" y="59"/>
                    </a:lnTo>
                    <a:lnTo>
                      <a:pt x="66" y="49"/>
                    </a:lnTo>
                    <a:lnTo>
                      <a:pt x="60" y="37"/>
                    </a:lnTo>
                    <a:lnTo>
                      <a:pt x="53" y="28"/>
                    </a:lnTo>
                    <a:lnTo>
                      <a:pt x="45" y="19"/>
                    </a:lnTo>
                    <a:lnTo>
                      <a:pt x="38" y="14"/>
                    </a:lnTo>
                    <a:lnTo>
                      <a:pt x="29" y="8"/>
                    </a:lnTo>
                    <a:lnTo>
                      <a:pt x="19" y="3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91600" y="4373640"/>
                <a:ext cx="120600" cy="1569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75" y="0"/>
                    </a:moveTo>
                    <a:lnTo>
                      <a:pt x="75" y="14"/>
                    </a:lnTo>
                    <a:lnTo>
                      <a:pt x="74" y="26"/>
                    </a:lnTo>
                    <a:lnTo>
                      <a:pt x="69" y="37"/>
                    </a:lnTo>
                    <a:lnTo>
                      <a:pt x="65" y="49"/>
                    </a:lnTo>
                    <a:lnTo>
                      <a:pt x="60" y="59"/>
                    </a:lnTo>
                    <a:lnTo>
                      <a:pt x="53" y="68"/>
                    </a:lnTo>
                    <a:lnTo>
                      <a:pt x="45" y="77"/>
                    </a:lnTo>
                    <a:lnTo>
                      <a:pt x="38" y="84"/>
                    </a:lnTo>
                    <a:lnTo>
                      <a:pt x="29" y="90"/>
                    </a:lnTo>
                    <a:lnTo>
                      <a:pt x="19" y="95"/>
                    </a:lnTo>
                    <a:lnTo>
                      <a:pt x="9" y="98"/>
                    </a:lnTo>
                    <a:lnTo>
                      <a:pt x="0" y="98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510760" y="3755880"/>
                <a:ext cx="125280" cy="157320"/>
              </a:xfrm>
              <a:custGeom>
                <a:avLst/>
                <a:gdLst/>
                <a:ahLst/>
                <a:rect l="l" t="t" r="r" b="b"/>
                <a:pathLst>
                  <a:path w="79" h="99">
                    <a:moveTo>
                      <a:pt x="0" y="98"/>
                    </a:moveTo>
                    <a:lnTo>
                      <a:pt x="1" y="84"/>
                    </a:lnTo>
                    <a:lnTo>
                      <a:pt x="3" y="73"/>
                    </a:lnTo>
                    <a:lnTo>
                      <a:pt x="7" y="61"/>
                    </a:lnTo>
                    <a:lnTo>
                      <a:pt x="12" y="49"/>
                    </a:lnTo>
                    <a:lnTo>
                      <a:pt x="16" y="39"/>
                    </a:lnTo>
                    <a:lnTo>
                      <a:pt x="22" y="28"/>
                    </a:lnTo>
                    <a:lnTo>
                      <a:pt x="31" y="21"/>
                    </a:lnTo>
                    <a:lnTo>
                      <a:pt x="40" y="14"/>
                    </a:lnTo>
                    <a:lnTo>
                      <a:pt x="49" y="8"/>
                    </a:lnTo>
                    <a:lnTo>
                      <a:pt x="58" y="3"/>
                    </a:lnTo>
                    <a:lnTo>
                      <a:pt x="68" y="2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10760" y="3602160"/>
                <a:ext cx="125280" cy="15552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0"/>
                    </a:moveTo>
                    <a:lnTo>
                      <a:pt x="1" y="12"/>
                    </a:lnTo>
                    <a:lnTo>
                      <a:pt x="3" y="25"/>
                    </a:lnTo>
                    <a:lnTo>
                      <a:pt x="7" y="37"/>
                    </a:lnTo>
                    <a:lnTo>
                      <a:pt x="12" y="49"/>
                    </a:lnTo>
                    <a:lnTo>
                      <a:pt x="16" y="59"/>
                    </a:lnTo>
                    <a:lnTo>
                      <a:pt x="22" y="70"/>
                    </a:lnTo>
                    <a:lnTo>
                      <a:pt x="31" y="77"/>
                    </a:lnTo>
                    <a:lnTo>
                      <a:pt x="38" y="84"/>
                    </a:lnTo>
                    <a:lnTo>
                      <a:pt x="49" y="90"/>
                    </a:lnTo>
                    <a:lnTo>
                      <a:pt x="58" y="95"/>
                    </a:lnTo>
                    <a:lnTo>
                      <a:pt x="68" y="96"/>
                    </a:lnTo>
                    <a:lnTo>
                      <a:pt x="78" y="97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510760" y="3911400"/>
                <a:ext cx="0" cy="461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8510760" y="3139920"/>
                <a:ext cx="0" cy="462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778280" y="3122640"/>
              <a:ext cx="93600" cy="101520"/>
              <a:chOff x="4778280" y="3122640"/>
              <a:chExt cx="93600" cy="101520"/>
            </a:xfrm>
          </p:grpSpPr>
          <p:sp>
            <p:nvSpPr>
              <p:cNvPr id="186" name=""/>
              <p:cNvSpPr/>
              <p:nvPr/>
            </p:nvSpPr>
            <p:spPr>
              <a:xfrm>
                <a:off x="4827600" y="3122640"/>
                <a:ext cx="0" cy="101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78280" y="3171960"/>
                <a:ext cx="936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8215200" y="3117960"/>
              <a:ext cx="93600" cy="101520"/>
              <a:chOff x="8215200" y="3117960"/>
              <a:chExt cx="93600" cy="101520"/>
            </a:xfrm>
          </p:grpSpPr>
          <p:sp>
            <p:nvSpPr>
              <p:cNvPr id="189" name=""/>
              <p:cNvSpPr/>
              <p:nvPr/>
            </p:nvSpPr>
            <p:spPr>
              <a:xfrm>
                <a:off x="8264520" y="3117960"/>
                <a:ext cx="0" cy="101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215200" y="3166920"/>
                <a:ext cx="936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692760" y="4495680"/>
              <a:ext cx="69840" cy="748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24"/>
                  </a:moveTo>
                  <a:lnTo>
                    <a:pt x="41" y="30"/>
                  </a:lnTo>
                  <a:lnTo>
                    <a:pt x="38" y="37"/>
                  </a:lnTo>
                  <a:lnTo>
                    <a:pt x="35" y="41"/>
                  </a:lnTo>
                  <a:lnTo>
                    <a:pt x="29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7" y="41"/>
                  </a:lnTo>
                  <a:lnTo>
                    <a:pt x="3" y="37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0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41" y="18"/>
                  </a:lnTo>
                  <a:lnTo>
                    <a:pt x="43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84480" y="3530520"/>
              <a:ext cx="376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69880" y="36846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31000" y="3567240"/>
              <a:ext cx="376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16760" y="37227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56040" y="2529000"/>
              <a:ext cx="560160" cy="180720"/>
              <a:chOff x="5756040" y="2529000"/>
              <a:chExt cx="560160" cy="180720"/>
            </a:xfrm>
          </p:grpSpPr>
          <p:sp>
            <p:nvSpPr>
              <p:cNvPr id="197" name=""/>
              <p:cNvSpPr/>
              <p:nvPr/>
            </p:nvSpPr>
            <p:spPr>
              <a:xfrm>
                <a:off x="6203880" y="2606760"/>
                <a:ext cx="8748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54" y="0"/>
                    </a:moveTo>
                    <a:lnTo>
                      <a:pt x="52" y="13"/>
                    </a:lnTo>
                    <a:lnTo>
                      <a:pt x="51" y="23"/>
                    </a:lnTo>
                    <a:lnTo>
                      <a:pt x="46" y="32"/>
                    </a:lnTo>
                    <a:lnTo>
                      <a:pt x="40" y="42"/>
                    </a:lnTo>
                    <a:lnTo>
                      <a:pt x="34" y="50"/>
                    </a:lnTo>
                    <a:lnTo>
                      <a:pt x="27" y="56"/>
                    </a:lnTo>
                    <a:lnTo>
                      <a:pt x="18" y="61"/>
                    </a:lnTo>
                    <a:lnTo>
                      <a:pt x="9" y="64"/>
                    </a:lnTo>
                    <a:lnTo>
                      <a:pt x="0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19640" y="2606760"/>
                <a:ext cx="86040" cy="1029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0" y="0"/>
                    </a:moveTo>
                    <a:lnTo>
                      <a:pt x="0" y="13"/>
                    </a:lnTo>
                    <a:lnTo>
                      <a:pt x="3" y="23"/>
                    </a:lnTo>
                    <a:lnTo>
                      <a:pt x="8" y="32"/>
                    </a:lnTo>
                    <a:lnTo>
                      <a:pt x="13" y="42"/>
                    </a:lnTo>
                    <a:lnTo>
                      <a:pt x="19" y="50"/>
                    </a:lnTo>
                    <a:lnTo>
                      <a:pt x="27" y="56"/>
                    </a:lnTo>
                    <a:lnTo>
                      <a:pt x="36" y="61"/>
                    </a:lnTo>
                    <a:lnTo>
                      <a:pt x="43" y="64"/>
                    </a:lnTo>
                    <a:lnTo>
                      <a:pt x="53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1200" y="2606760"/>
                <a:ext cx="8748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54" y="0"/>
                    </a:moveTo>
                    <a:lnTo>
                      <a:pt x="54" y="13"/>
                    </a:lnTo>
                    <a:lnTo>
                      <a:pt x="51" y="23"/>
                    </a:lnTo>
                    <a:lnTo>
                      <a:pt x="46" y="32"/>
                    </a:lnTo>
                    <a:lnTo>
                      <a:pt x="40" y="42"/>
                    </a:lnTo>
                    <a:lnTo>
                      <a:pt x="34" y="50"/>
                    </a:lnTo>
                    <a:lnTo>
                      <a:pt x="27" y="56"/>
                    </a:lnTo>
                    <a:lnTo>
                      <a:pt x="18" y="61"/>
                    </a:lnTo>
                    <a:lnTo>
                      <a:pt x="9" y="64"/>
                    </a:lnTo>
                    <a:lnTo>
                      <a:pt x="0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06960" y="2606760"/>
                <a:ext cx="86040" cy="1029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0" y="0"/>
                    </a:moveTo>
                    <a:lnTo>
                      <a:pt x="2" y="13"/>
                    </a:lnTo>
                    <a:lnTo>
                      <a:pt x="3" y="23"/>
                    </a:lnTo>
                    <a:lnTo>
                      <a:pt x="8" y="32"/>
                    </a:lnTo>
                    <a:lnTo>
                      <a:pt x="12" y="42"/>
                    </a:lnTo>
                    <a:lnTo>
                      <a:pt x="19" y="50"/>
                    </a:lnTo>
                    <a:lnTo>
                      <a:pt x="27" y="56"/>
                    </a:lnTo>
                    <a:lnTo>
                      <a:pt x="34" y="61"/>
                    </a:lnTo>
                    <a:lnTo>
                      <a:pt x="45" y="64"/>
                    </a:lnTo>
                    <a:lnTo>
                      <a:pt x="53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78520" y="2606760"/>
                <a:ext cx="8748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54" y="0"/>
                    </a:moveTo>
                    <a:lnTo>
                      <a:pt x="52" y="13"/>
                    </a:lnTo>
                    <a:lnTo>
                      <a:pt x="51" y="23"/>
                    </a:lnTo>
                    <a:lnTo>
                      <a:pt x="46" y="32"/>
                    </a:lnTo>
                    <a:lnTo>
                      <a:pt x="40" y="42"/>
                    </a:lnTo>
                    <a:lnTo>
                      <a:pt x="34" y="50"/>
                    </a:lnTo>
                    <a:lnTo>
                      <a:pt x="27" y="56"/>
                    </a:lnTo>
                    <a:lnTo>
                      <a:pt x="20" y="61"/>
                    </a:lnTo>
                    <a:lnTo>
                      <a:pt x="11" y="64"/>
                    </a:lnTo>
                    <a:lnTo>
                      <a:pt x="0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94280" y="260676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0" y="0"/>
                    </a:moveTo>
                    <a:lnTo>
                      <a:pt x="2" y="13"/>
                    </a:lnTo>
                    <a:lnTo>
                      <a:pt x="3" y="23"/>
                    </a:lnTo>
                    <a:lnTo>
                      <a:pt x="8" y="32"/>
                    </a:lnTo>
                    <a:lnTo>
                      <a:pt x="14" y="42"/>
                    </a:lnTo>
                    <a:lnTo>
                      <a:pt x="19" y="50"/>
                    </a:lnTo>
                    <a:lnTo>
                      <a:pt x="27" y="56"/>
                    </a:lnTo>
                    <a:lnTo>
                      <a:pt x="36" y="61"/>
                    </a:lnTo>
                    <a:lnTo>
                      <a:pt x="45" y="64"/>
                    </a:lnTo>
                    <a:lnTo>
                      <a:pt x="53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7280" y="260676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3" y="0"/>
                    </a:moveTo>
                    <a:lnTo>
                      <a:pt x="53" y="13"/>
                    </a:lnTo>
                    <a:lnTo>
                      <a:pt x="50" y="23"/>
                    </a:lnTo>
                    <a:lnTo>
                      <a:pt x="45" y="32"/>
                    </a:lnTo>
                    <a:lnTo>
                      <a:pt x="41" y="42"/>
                    </a:lnTo>
                    <a:lnTo>
                      <a:pt x="34" y="50"/>
                    </a:lnTo>
                    <a:lnTo>
                      <a:pt x="26" y="56"/>
                    </a:lnTo>
                    <a:lnTo>
                      <a:pt x="19" y="61"/>
                    </a:lnTo>
                    <a:lnTo>
                      <a:pt x="10" y="64"/>
                    </a:lnTo>
                    <a:lnTo>
                      <a:pt x="0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84840" y="260676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7" y="32"/>
                    </a:lnTo>
                    <a:lnTo>
                      <a:pt x="12" y="42"/>
                    </a:lnTo>
                    <a:lnTo>
                      <a:pt x="18" y="50"/>
                    </a:lnTo>
                    <a:lnTo>
                      <a:pt x="25" y="56"/>
                    </a:lnTo>
                    <a:lnTo>
                      <a:pt x="34" y="61"/>
                    </a:lnTo>
                    <a:lnTo>
                      <a:pt x="43" y="64"/>
                    </a:lnTo>
                    <a:lnTo>
                      <a:pt x="52" y="6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289200" y="2606760"/>
                <a:ext cx="270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756040" y="2606760"/>
                <a:ext cx="284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19640" y="25290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0" y="49"/>
                    </a:moveTo>
                    <a:lnTo>
                      <a:pt x="0" y="40"/>
                    </a:lnTo>
                    <a:lnTo>
                      <a:pt x="2" y="31"/>
                    </a:lnTo>
                    <a:lnTo>
                      <a:pt x="3" y="22"/>
                    </a:lnTo>
                    <a:lnTo>
                      <a:pt x="6" y="15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06960" y="25290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0" y="49"/>
                    </a:moveTo>
                    <a:lnTo>
                      <a:pt x="0" y="40"/>
                    </a:lnTo>
                    <a:lnTo>
                      <a:pt x="2" y="31"/>
                    </a:lnTo>
                    <a:lnTo>
                      <a:pt x="3" y="22"/>
                    </a:lnTo>
                    <a:lnTo>
                      <a:pt x="5" y="15"/>
                    </a:lnTo>
                    <a:lnTo>
                      <a:pt x="9" y="7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4280" y="25290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0" y="49"/>
                    </a:moveTo>
                    <a:lnTo>
                      <a:pt x="0" y="40"/>
                    </a:lnTo>
                    <a:lnTo>
                      <a:pt x="2" y="31"/>
                    </a:lnTo>
                    <a:lnTo>
                      <a:pt x="3" y="22"/>
                    </a:lnTo>
                    <a:lnTo>
                      <a:pt x="6" y="15"/>
                    </a:lnTo>
                    <a:lnTo>
                      <a:pt x="9" y="7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35760" y="25290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18" y="49"/>
                    </a:moveTo>
                    <a:lnTo>
                      <a:pt x="18" y="40"/>
                    </a:lnTo>
                    <a:lnTo>
                      <a:pt x="16" y="31"/>
                    </a:lnTo>
                    <a:lnTo>
                      <a:pt x="15" y="22"/>
                    </a:lnTo>
                    <a:lnTo>
                      <a:pt x="12" y="15"/>
                    </a:lnTo>
                    <a:lnTo>
                      <a:pt x="9" y="7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48440" y="25290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18" y="49"/>
                    </a:moveTo>
                    <a:lnTo>
                      <a:pt x="18" y="40"/>
                    </a:lnTo>
                    <a:lnTo>
                      <a:pt x="16" y="31"/>
                    </a:lnTo>
                    <a:lnTo>
                      <a:pt x="15" y="22"/>
                    </a:lnTo>
                    <a:lnTo>
                      <a:pt x="12" y="15"/>
                    </a:lnTo>
                    <a:lnTo>
                      <a:pt x="10" y="7"/>
                    </a:lnTo>
                    <a:lnTo>
                      <a:pt x="7" y="3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23080" y="2529000"/>
                <a:ext cx="2988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18" y="49"/>
                    </a:moveTo>
                    <a:lnTo>
                      <a:pt x="18" y="40"/>
                    </a:lnTo>
                    <a:lnTo>
                      <a:pt x="16" y="31"/>
                    </a:lnTo>
                    <a:lnTo>
                      <a:pt x="15" y="22"/>
                    </a:lnTo>
                    <a:lnTo>
                      <a:pt x="13" y="15"/>
                    </a:lnTo>
                    <a:lnTo>
                      <a:pt x="10" y="7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7569000" y="3497400"/>
              <a:ext cx="3481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513480" y="3413160"/>
              <a:ext cx="426960" cy="539640"/>
              <a:chOff x="6513480" y="3413160"/>
              <a:chExt cx="426960" cy="539640"/>
            </a:xfrm>
          </p:grpSpPr>
          <p:sp>
            <p:nvSpPr>
              <p:cNvPr id="215" name=""/>
              <p:cNvSpPr/>
              <p:nvPr/>
            </p:nvSpPr>
            <p:spPr>
              <a:xfrm>
                <a:off x="6513480" y="3605040"/>
                <a:ext cx="426960" cy="27000"/>
              </a:xfrm>
              <a:custGeom>
                <a:avLst/>
                <a:gdLst/>
                <a:ahLst/>
                <a:rect l="l" t="t" r="r" b="b"/>
                <a:pathLst>
                  <a:path w="269" h="17">
                    <a:moveTo>
                      <a:pt x="262" y="0"/>
                    </a:moveTo>
                    <a:lnTo>
                      <a:pt x="263" y="0"/>
                    </a:lnTo>
                    <a:lnTo>
                      <a:pt x="265" y="1"/>
                    </a:lnTo>
                    <a:lnTo>
                      <a:pt x="266" y="3"/>
                    </a:lnTo>
                    <a:lnTo>
                      <a:pt x="268" y="3"/>
                    </a:lnTo>
                    <a:lnTo>
                      <a:pt x="268" y="4"/>
                    </a:lnTo>
                    <a:lnTo>
                      <a:pt x="268" y="7"/>
                    </a:lnTo>
                    <a:lnTo>
                      <a:pt x="268" y="8"/>
                    </a:lnTo>
                    <a:lnTo>
                      <a:pt x="268" y="11"/>
                    </a:lnTo>
                    <a:lnTo>
                      <a:pt x="266" y="12"/>
                    </a:lnTo>
                    <a:lnTo>
                      <a:pt x="265" y="14"/>
                    </a:lnTo>
                    <a:lnTo>
                      <a:pt x="263" y="16"/>
                    </a:lnTo>
                    <a:lnTo>
                      <a:pt x="262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13480" y="3740040"/>
                <a:ext cx="426960" cy="27000"/>
              </a:xfrm>
              <a:custGeom>
                <a:avLst/>
                <a:gdLst/>
                <a:ahLst/>
                <a:rect l="l" t="t" r="r" b="b"/>
                <a:pathLst>
                  <a:path w="269" h="17">
                    <a:moveTo>
                      <a:pt x="262" y="0"/>
                    </a:moveTo>
                    <a:lnTo>
                      <a:pt x="263" y="0"/>
                    </a:lnTo>
                    <a:lnTo>
                      <a:pt x="265" y="2"/>
                    </a:lnTo>
                    <a:lnTo>
                      <a:pt x="266" y="2"/>
                    </a:lnTo>
                    <a:lnTo>
                      <a:pt x="268" y="4"/>
                    </a:lnTo>
                    <a:lnTo>
                      <a:pt x="268" y="8"/>
                    </a:lnTo>
                    <a:lnTo>
                      <a:pt x="268" y="10"/>
                    </a:lnTo>
                    <a:lnTo>
                      <a:pt x="268" y="12"/>
                    </a:lnTo>
                    <a:lnTo>
                      <a:pt x="266" y="13"/>
                    </a:lnTo>
                    <a:lnTo>
                      <a:pt x="265" y="13"/>
                    </a:lnTo>
                    <a:lnTo>
                      <a:pt x="265" y="16"/>
                    </a:lnTo>
                    <a:lnTo>
                      <a:pt x="263" y="16"/>
                    </a:lnTo>
                    <a:lnTo>
                      <a:pt x="262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7680" y="3749760"/>
                <a:ext cx="0" cy="203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27680" y="3413160"/>
                <a:ext cx="0" cy="203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452560" y="3382920"/>
              <a:ext cx="363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16720" y="2984400"/>
              <a:ext cx="1533600" cy="3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316640" y="3349440"/>
              <a:ext cx="230400" cy="673200"/>
              <a:chOff x="7316640" y="3349440"/>
              <a:chExt cx="230400" cy="67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7316640" y="3441600"/>
                <a:ext cx="27000" cy="492120"/>
              </a:xfrm>
              <a:custGeom>
                <a:avLst/>
                <a:gdLst/>
                <a:ahLst/>
                <a:rect l="l" t="t" r="r" b="b"/>
                <a:pathLst>
                  <a:path w="17" h="310">
                    <a:moveTo>
                      <a:pt x="16" y="303"/>
                    </a:moveTo>
                    <a:lnTo>
                      <a:pt x="16" y="305"/>
                    </a:lnTo>
                    <a:lnTo>
                      <a:pt x="14" y="306"/>
                    </a:lnTo>
                    <a:lnTo>
                      <a:pt x="12" y="308"/>
                    </a:lnTo>
                    <a:lnTo>
                      <a:pt x="12" y="309"/>
                    </a:lnTo>
                    <a:lnTo>
                      <a:pt x="11" y="309"/>
                    </a:lnTo>
                    <a:lnTo>
                      <a:pt x="8" y="309"/>
                    </a:lnTo>
                    <a:lnTo>
                      <a:pt x="7" y="309"/>
                    </a:lnTo>
                    <a:lnTo>
                      <a:pt x="4" y="309"/>
                    </a:lnTo>
                    <a:lnTo>
                      <a:pt x="3" y="308"/>
                    </a:lnTo>
                    <a:lnTo>
                      <a:pt x="1" y="306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3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16640" y="3441600"/>
                <a:ext cx="223920" cy="2700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6" y="16"/>
                    </a:moveTo>
                    <a:lnTo>
                      <a:pt x="4" y="16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1"/>
                    </a:lnTo>
                    <a:lnTo>
                      <a:pt x="139" y="3"/>
                    </a:lnTo>
                    <a:lnTo>
                      <a:pt x="139" y="4"/>
                    </a:lnTo>
                    <a:lnTo>
                      <a:pt x="140" y="4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9"/>
                    </a:lnTo>
                    <a:lnTo>
                      <a:pt x="139" y="12"/>
                    </a:lnTo>
                    <a:lnTo>
                      <a:pt x="137" y="12"/>
                    </a:lnTo>
                    <a:lnTo>
                      <a:pt x="137" y="13"/>
                    </a:lnTo>
                    <a:lnTo>
                      <a:pt x="136" y="16"/>
                    </a:lnTo>
                    <a:lnTo>
                      <a:pt x="13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20040" y="3441600"/>
                <a:ext cx="27000" cy="492120"/>
              </a:xfrm>
              <a:custGeom>
                <a:avLst/>
                <a:gdLst/>
                <a:ahLst/>
                <a:rect l="l" t="t" r="r" b="b"/>
                <a:pathLst>
                  <a:path w="17" h="310">
                    <a:moveTo>
                      <a:pt x="0" y="5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303"/>
                    </a:lnTo>
                    <a:lnTo>
                      <a:pt x="16" y="305"/>
                    </a:lnTo>
                    <a:lnTo>
                      <a:pt x="14" y="306"/>
                    </a:lnTo>
                    <a:lnTo>
                      <a:pt x="12" y="308"/>
                    </a:lnTo>
                    <a:lnTo>
                      <a:pt x="12" y="309"/>
                    </a:lnTo>
                    <a:lnTo>
                      <a:pt x="10" y="309"/>
                    </a:lnTo>
                    <a:lnTo>
                      <a:pt x="8" y="309"/>
                    </a:lnTo>
                    <a:lnTo>
                      <a:pt x="6" y="309"/>
                    </a:lnTo>
                    <a:lnTo>
                      <a:pt x="4" y="309"/>
                    </a:lnTo>
                    <a:lnTo>
                      <a:pt x="2" y="308"/>
                    </a:lnTo>
                    <a:lnTo>
                      <a:pt x="2" y="306"/>
                    </a:lnTo>
                    <a:lnTo>
                      <a:pt x="0" y="306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16640" y="3913200"/>
                <a:ext cx="223920" cy="2700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34" y="0"/>
                    </a:moveTo>
                    <a:lnTo>
                      <a:pt x="136" y="0"/>
                    </a:lnTo>
                    <a:lnTo>
                      <a:pt x="137" y="0"/>
                    </a:lnTo>
                    <a:lnTo>
                      <a:pt x="137" y="2"/>
                    </a:lnTo>
                    <a:lnTo>
                      <a:pt x="139" y="4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40" y="10"/>
                    </a:lnTo>
                    <a:lnTo>
                      <a:pt x="139" y="12"/>
                    </a:lnTo>
                    <a:lnTo>
                      <a:pt x="137" y="14"/>
                    </a:lnTo>
                    <a:lnTo>
                      <a:pt x="137" y="16"/>
                    </a:lnTo>
                    <a:lnTo>
                      <a:pt x="136" y="16"/>
                    </a:lnTo>
                    <a:lnTo>
                      <a:pt x="134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429680" y="3922560"/>
                <a:ext cx="0" cy="1000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429680" y="3349440"/>
                <a:ext cx="0" cy="99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483240" y="29494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22"/>
                  </a:moveTo>
                  <a:lnTo>
                    <a:pt x="42" y="28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0" y="41"/>
                  </a:lnTo>
                  <a:lnTo>
                    <a:pt x="24" y="43"/>
                  </a:lnTo>
                  <a:lnTo>
                    <a:pt x="19" y="43"/>
                  </a:lnTo>
                  <a:lnTo>
                    <a:pt x="12" y="41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6"/>
                  </a:lnTo>
                  <a:lnTo>
                    <a:pt x="43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30680" y="2949480"/>
              <a:ext cx="7020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22"/>
                  </a:moveTo>
                  <a:lnTo>
                    <a:pt x="42" y="28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0" y="41"/>
                  </a:lnTo>
                  <a:lnTo>
                    <a:pt x="24" y="43"/>
                  </a:lnTo>
                  <a:lnTo>
                    <a:pt x="19" y="43"/>
                  </a:lnTo>
                  <a:lnTo>
                    <a:pt x="12" y="41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6"/>
                  </a:lnTo>
                  <a:lnTo>
                    <a:pt x="43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758920" y="3125880"/>
              <a:ext cx="541440" cy="423720"/>
              <a:chOff x="5758920" y="3125880"/>
              <a:chExt cx="541440" cy="423720"/>
            </a:xfrm>
          </p:grpSpPr>
          <p:sp>
            <p:nvSpPr>
              <p:cNvPr id="231" name=""/>
              <p:cNvSpPr/>
              <p:nvPr/>
            </p:nvSpPr>
            <p:spPr>
              <a:xfrm>
                <a:off x="6086520" y="3125880"/>
                <a:ext cx="27000" cy="423720"/>
              </a:xfrm>
              <a:custGeom>
                <a:avLst/>
                <a:gdLst/>
                <a:ahLst/>
                <a:rect l="l" t="t" r="r" b="b"/>
                <a:pathLst>
                  <a:path w="17" h="267">
                    <a:moveTo>
                      <a:pt x="16" y="260"/>
                    </a:moveTo>
                    <a:lnTo>
                      <a:pt x="16" y="262"/>
                    </a:lnTo>
                    <a:lnTo>
                      <a:pt x="13" y="263"/>
                    </a:lnTo>
                    <a:lnTo>
                      <a:pt x="12" y="265"/>
                    </a:lnTo>
                    <a:lnTo>
                      <a:pt x="12" y="266"/>
                    </a:lnTo>
                    <a:lnTo>
                      <a:pt x="10" y="266"/>
                    </a:lnTo>
                    <a:lnTo>
                      <a:pt x="9" y="266"/>
                    </a:lnTo>
                    <a:lnTo>
                      <a:pt x="6" y="266"/>
                    </a:lnTo>
                    <a:lnTo>
                      <a:pt x="5" y="266"/>
                    </a:lnTo>
                    <a:lnTo>
                      <a:pt x="3" y="265"/>
                    </a:lnTo>
                    <a:lnTo>
                      <a:pt x="2" y="263"/>
                    </a:lnTo>
                    <a:lnTo>
                      <a:pt x="0" y="262"/>
                    </a:lnTo>
                    <a:lnTo>
                      <a:pt x="0" y="26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2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52960" y="3125880"/>
                <a:ext cx="27000" cy="423720"/>
              </a:xfrm>
              <a:custGeom>
                <a:avLst/>
                <a:gdLst/>
                <a:ahLst/>
                <a:rect l="l" t="t" r="r" b="b"/>
                <a:pathLst>
                  <a:path w="17" h="267">
                    <a:moveTo>
                      <a:pt x="16" y="260"/>
                    </a:moveTo>
                    <a:lnTo>
                      <a:pt x="16" y="262"/>
                    </a:lnTo>
                    <a:lnTo>
                      <a:pt x="14" y="263"/>
                    </a:lnTo>
                    <a:lnTo>
                      <a:pt x="14" y="265"/>
                    </a:lnTo>
                    <a:lnTo>
                      <a:pt x="12" y="266"/>
                    </a:lnTo>
                    <a:lnTo>
                      <a:pt x="8" y="266"/>
                    </a:lnTo>
                    <a:lnTo>
                      <a:pt x="6" y="266"/>
                    </a:lnTo>
                    <a:lnTo>
                      <a:pt x="4" y="266"/>
                    </a:lnTo>
                    <a:lnTo>
                      <a:pt x="2" y="265"/>
                    </a:lnTo>
                    <a:lnTo>
                      <a:pt x="2" y="263"/>
                    </a:lnTo>
                    <a:lnTo>
                      <a:pt x="0" y="263"/>
                    </a:lnTo>
                    <a:lnTo>
                      <a:pt x="0" y="262"/>
                    </a:lnTo>
                    <a:lnTo>
                      <a:pt x="0" y="26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2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758920" y="3338640"/>
                <a:ext cx="203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095520" y="3338640"/>
                <a:ext cx="204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6516720" y="2606400"/>
              <a:ext cx="0" cy="731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2520" y="2606760"/>
              <a:ext cx="214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84880" y="3338640"/>
              <a:ext cx="233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65600" y="2608200"/>
              <a:ext cx="0" cy="730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565240" y="3338640"/>
              <a:ext cx="209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565240" y="2606760"/>
              <a:ext cx="204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4280" y="35402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4600" y="3762360"/>
              <a:ext cx="363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320" y="391788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429680" y="2984040"/>
              <a:ext cx="0" cy="373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29680" y="3962520"/>
              <a:ext cx="0" cy="568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6200" y="44942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3" y="23"/>
                  </a:moveTo>
                  <a:lnTo>
                    <a:pt x="41" y="29"/>
                  </a:lnTo>
                  <a:lnTo>
                    <a:pt x="38" y="36"/>
                  </a:lnTo>
                  <a:lnTo>
                    <a:pt x="36" y="41"/>
                  </a:lnTo>
                  <a:lnTo>
                    <a:pt x="30" y="44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2" y="44"/>
                  </a:lnTo>
                  <a:lnTo>
                    <a:pt x="7" y="41"/>
                  </a:lnTo>
                  <a:lnTo>
                    <a:pt x="3" y="36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38" y="10"/>
                  </a:lnTo>
                  <a:lnTo>
                    <a:pt x="41" y="17"/>
                  </a:lnTo>
                  <a:lnTo>
                    <a:pt x="43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4400" y="294480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24"/>
                  </a:moveTo>
                  <a:lnTo>
                    <a:pt x="41" y="30"/>
                  </a:lnTo>
                  <a:lnTo>
                    <a:pt x="38" y="37"/>
                  </a:lnTo>
                  <a:lnTo>
                    <a:pt x="35" y="42"/>
                  </a:lnTo>
                  <a:lnTo>
                    <a:pt x="29" y="44"/>
                  </a:lnTo>
                  <a:lnTo>
                    <a:pt x="23" y="46"/>
                  </a:lnTo>
                  <a:lnTo>
                    <a:pt x="19" y="46"/>
                  </a:lnTo>
                  <a:lnTo>
                    <a:pt x="11" y="44"/>
                  </a:lnTo>
                  <a:lnTo>
                    <a:pt x="7" y="42"/>
                  </a:lnTo>
                  <a:lnTo>
                    <a:pt x="3" y="37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1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5" y="6"/>
                  </a:lnTo>
                  <a:lnTo>
                    <a:pt x="38" y="11"/>
                  </a:lnTo>
                  <a:lnTo>
                    <a:pt x="41" y="18"/>
                  </a:lnTo>
                  <a:lnTo>
                    <a:pt x="4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63560" y="4189320"/>
            <a:ext cx="3122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. gdje s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95560" y="5011560"/>
                <a:ext cx="1723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720960" y="5006880"/>
                <a:ext cx="1690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876240" y="5842080"/>
                <a:ext cx="26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28960" y="5943600"/>
                <a:ext cx="2371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A0BF-BC89-400F-A5F6-59D57BBBD54F}" type="slidenum">
              <a:t>20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040" y="1676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z vrijednosti elemenata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 = 1 k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 C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 1 nF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L = 0.5 m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prijenosna 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gl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478240" y="2725560"/>
                <a:ext cx="40240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11280" y="3579840"/>
            <a:ext cx="3655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ovi funkcije  s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75040" y="4119480"/>
                <a:ext cx="37670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11280" y="4799160"/>
            <a:ext cx="3655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a njene nu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46520" y="5381640"/>
                <a:ext cx="2365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9AE2-E076-4ADA-8F4A-00D523DD761A}" type="slidenum">
              <a:t>21</a:t>
            </a:fld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8040" y="1676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vrštenje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 = 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prijenosnu funkcij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biva se kompleksna frekvencijska karakteristika filtr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36680" y="2646360"/>
                <a:ext cx="44974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611280" y="3960720"/>
            <a:ext cx="77706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 frekvencijska karakteristika je modul gornjeg izraz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136600" y="4968720"/>
                <a:ext cx="529920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5843-4FE1-48C6-845E-104ED31ACA2B}" type="slidenum">
              <a:t>22</a:t>
            </a:fld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mjer - amplitudno / frekv.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00400" y="1425600"/>
            <a:ext cx="8567280" cy="5127480"/>
            <a:chOff x="500400" y="1425600"/>
            <a:chExt cx="8567280" cy="5127480"/>
          </a:xfrm>
        </p:grpSpPr>
        <p:sp>
          <p:nvSpPr>
            <p:cNvPr id="267" name=""/>
            <p:cNvSpPr/>
            <p:nvPr/>
          </p:nvSpPr>
          <p:spPr>
            <a:xfrm>
              <a:off x="518400" y="5695920"/>
              <a:ext cx="319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0920" y="520056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.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400" y="463860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.4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8840" y="407664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.6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920" y="344952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.8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7080" y="2820960"/>
              <a:ext cx="319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3640" y="225900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1.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6880" y="1763640"/>
              <a:ext cx="520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1.4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959400" y="6113520"/>
              <a:ext cx="530280" cy="439560"/>
              <a:chOff x="959400" y="6113520"/>
              <a:chExt cx="530280" cy="43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959400" y="614052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28320" y="6113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85240" y="6113520"/>
              <a:ext cx="594000" cy="439560"/>
              <a:chOff x="4485240" y="6113520"/>
              <a:chExt cx="594000" cy="439560"/>
            </a:xfrm>
          </p:grpSpPr>
          <p:sp>
            <p:nvSpPr>
              <p:cNvPr id="279" name=""/>
              <p:cNvSpPr/>
              <p:nvPr/>
            </p:nvSpPr>
            <p:spPr>
              <a:xfrm>
                <a:off x="4485240" y="614052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17880" y="611352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8109360" y="6095880"/>
              <a:ext cx="525600" cy="439560"/>
              <a:chOff x="8109360" y="6095880"/>
              <a:chExt cx="525600" cy="439560"/>
            </a:xfrm>
          </p:grpSpPr>
          <p:sp>
            <p:nvSpPr>
              <p:cNvPr id="282" name=""/>
              <p:cNvSpPr/>
              <p:nvPr/>
            </p:nvSpPr>
            <p:spPr>
              <a:xfrm>
                <a:off x="8109360" y="612288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73600" y="609588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066680" y="6000840"/>
              <a:ext cx="800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64396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66680" y="187956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1600200"/>
              <a:ext cx="0" cy="4400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6680" y="54118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69440" y="54118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66680" y="482436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69440" y="482436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66680" y="423540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69440" y="423540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364500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69440" y="364500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66680" y="30574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69440" y="30574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66680" y="24670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9440" y="24670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20680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87496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34800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1628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01472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26888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48776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68324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85604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99760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66432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13736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0420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80408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05824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27712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470800" y="18795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6680" y="54118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6680" y="541188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66680" y="482436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6680" y="482436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6680" y="423540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6680" y="423540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6680" y="364500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364500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30574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305748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66680" y="24670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6680" y="2467080"/>
              <a:ext cx="7577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20680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87496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34800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71628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01472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26888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48776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68324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2068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8749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3480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7162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0147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688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877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6832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8560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2068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8749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3480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7162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0147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2688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4877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6832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8560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85604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9760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66432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13736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50420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0408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805824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27712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9976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6643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1373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5042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8040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0582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2771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4708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066680" y="2276640"/>
              <a:ext cx="7577280" cy="3719520"/>
              <a:chOff x="1066680" y="2276640"/>
              <a:chExt cx="7577280" cy="37195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066680" y="3032280"/>
                <a:ext cx="625680" cy="12600"/>
                <a:chOff x="1066680" y="3032280"/>
                <a:chExt cx="625680" cy="12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066680" y="3044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85760" y="30448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106640" y="30448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23920" y="3044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43000" y="3044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162080" y="30427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181160" y="30430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98440" y="30430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219320" y="3043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1238400" y="30416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257480" y="304164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274760" y="3041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93840" y="3041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312920" y="30416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1333440" y="3040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352520" y="304020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370160" y="3040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389240" y="3040200"/>
                  <a:ext cx="187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407960" y="3040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427040" y="3040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1446120" y="30380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465200" y="30384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484280" y="30384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503360" y="3036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22440" y="303696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539720" y="30348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58800" y="303516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79680" y="30351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598760" y="30351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617840" y="303516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1635120" y="30337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1654200" y="303228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671480" y="30322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692360" y="2962440"/>
                <a:ext cx="1100160" cy="69840"/>
                <a:chOff x="1692360" y="2962440"/>
                <a:chExt cx="1100160" cy="698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692360" y="30322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711440" y="30301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30520" y="30304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751040" y="30304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768320" y="30290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87400" y="302904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805040" y="30290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25560" y="302904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1843200" y="30268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863720" y="302724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881360" y="3024360"/>
                  <a:ext cx="187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900080" y="30243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919160" y="302436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940040" y="30222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59120" y="302256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1976400" y="3021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995480" y="302112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2013120" y="30189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033640" y="30193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2052720" y="3017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071800" y="3017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2090880" y="30157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2109960" y="301464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128680" y="301464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146320" y="3014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2165400" y="3011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184480" y="30114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05000" y="30114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V="1">
                  <a:off x="2224080" y="300780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41720" y="3008160"/>
                  <a:ext cx="187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60440" y="30081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2279520" y="30067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2298600" y="3005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2317680" y="30031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2336760" y="30020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2355840" y="29998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2374920" y="29988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94000" y="299880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411280" y="29988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432160" y="29952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2451240" y="2994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470320" y="299196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2487600" y="2990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2506680" y="29894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2525760" y="29872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2546280" y="298620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2563920" y="29840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2583000" y="2982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2602080" y="297936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2620800" y="2978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9880" y="29782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2658960" y="29761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2678040" y="29728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2697120" y="29718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2716200" y="296820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2733840" y="296712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2752560" y="29649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2771640" y="2962440"/>
                  <a:ext cx="208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792520" y="2677680"/>
                <a:ext cx="1060200" cy="284400"/>
                <a:chOff x="2792520" y="2677680"/>
                <a:chExt cx="1060200" cy="284400"/>
              </a:xfrm>
            </p:grpSpPr>
            <p:sp>
              <p:nvSpPr>
                <p:cNvPr id="466" name=""/>
                <p:cNvSpPr/>
                <p:nvPr/>
              </p:nvSpPr>
              <p:spPr>
                <a:xfrm flipV="1">
                  <a:off x="2792520" y="295884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809800" y="29570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2828880" y="2955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2847960" y="29523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2867040" y="294912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2884320" y="294804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2905200" y="29444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2924280" y="29433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2943360" y="293832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962440" y="293688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979720" y="29332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2998800" y="2930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017880" y="292752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038400" y="292392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3056040" y="29221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075120" y="29174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3094200" y="291420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3112920" y="29109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3132000" y="29062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3151080" y="2903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3170160" y="290052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3189240" y="28969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3208320" y="2890800"/>
                  <a:ext cx="1764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3225960" y="288720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3244680" y="288396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3265560" y="28792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3284640" y="287460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3301920" y="28699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3321000" y="28652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3340080" y="286056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3359160" y="28555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378240" y="28508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3397320" y="28461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3416400" y="284004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435480" y="283500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3454560" y="2828880"/>
                  <a:ext cx="172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3471840" y="28238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3490920" y="281772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3511440" y="281124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3530520" y="280512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3549600" y="2798640"/>
                  <a:ext cx="1764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3567240" y="279216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3586320" y="2784600"/>
                  <a:ext cx="187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3605040" y="277812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3624120" y="277164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3643200" y="276372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3662280" y="275580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3681360" y="274788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3700440" y="274140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3719520" y="273384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3738600" y="272232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3757680" y="2714760"/>
                  <a:ext cx="172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3774960" y="2704680"/>
                  <a:ext cx="208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3795840" y="2697120"/>
                  <a:ext cx="172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3813120" y="268776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3832200" y="2677680"/>
                  <a:ext cx="2052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852720" y="2276640"/>
                <a:ext cx="984240" cy="680760"/>
                <a:chOff x="3852720" y="2276640"/>
                <a:chExt cx="984240" cy="680760"/>
              </a:xfrm>
            </p:grpSpPr>
            <p:sp>
              <p:nvSpPr>
                <p:cNvPr id="523" name=""/>
                <p:cNvSpPr/>
                <p:nvPr/>
              </p:nvSpPr>
              <p:spPr>
                <a:xfrm flipV="1">
                  <a:off x="3852720" y="267012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3871800" y="265860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3890880" y="2649600"/>
                  <a:ext cx="1764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3908520" y="26380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3927600" y="2625480"/>
                  <a:ext cx="172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944880" y="2614320"/>
                  <a:ext cx="2052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3965400" y="260316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984480" y="259200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4003560" y="257940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4022640" y="256968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4041720" y="2555640"/>
                  <a:ext cx="19080" cy="14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4060800" y="2543040"/>
                  <a:ext cx="17640" cy="1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4078440" y="2530080"/>
                  <a:ext cx="187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4097160" y="251748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4116240" y="2504880"/>
                  <a:ext cx="208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137120" y="249084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156200" y="2477880"/>
                  <a:ext cx="172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4173480" y="246384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4192560" y="244944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4211640" y="2435040"/>
                  <a:ext cx="19080" cy="14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4230720" y="242100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4249800" y="240660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268880" y="239220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287960" y="237924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4307040" y="2365200"/>
                  <a:ext cx="1872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4325760" y="235224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V="1">
                  <a:off x="4344840" y="233964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4363920" y="23284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4383000" y="231588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4402080" y="2306160"/>
                  <a:ext cx="1764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4419720" y="229716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4438800" y="228924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457880" y="228276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478400" y="22791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4497480" y="2276640"/>
                  <a:ext cx="172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514760" y="2276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533840" y="227664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552920" y="227952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572000" y="228600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591080" y="2295360"/>
                  <a:ext cx="19080" cy="16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610160" y="2311560"/>
                  <a:ext cx="19080" cy="18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629240" y="2330280"/>
                  <a:ext cx="19080" cy="24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648320" y="2354400"/>
                  <a:ext cx="17280" cy="29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665600" y="2384280"/>
                  <a:ext cx="1908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684680" y="2419200"/>
                  <a:ext cx="19080" cy="42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703760" y="2462040"/>
                  <a:ext cx="20520" cy="49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724280" y="2511360"/>
                  <a:ext cx="19080" cy="57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743360" y="2568600"/>
                  <a:ext cx="17640" cy="61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761000" y="2630520"/>
                  <a:ext cx="19080" cy="71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80080" y="2701800"/>
                  <a:ext cx="19080" cy="77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799160" y="2779560"/>
                  <a:ext cx="19080" cy="86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818240" y="2865600"/>
                  <a:ext cx="18720" cy="9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4836960" y="2957400"/>
                <a:ext cx="114480" cy="663840"/>
                <a:chOff x="4836960" y="2957400"/>
                <a:chExt cx="114480" cy="6638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4836960" y="2957400"/>
                  <a:ext cx="19080" cy="100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856040" y="3057480"/>
                  <a:ext cx="19080" cy="104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75120" y="3162240"/>
                  <a:ext cx="19080" cy="109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894200" y="3271680"/>
                  <a:ext cx="17640" cy="113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11840" y="3384720"/>
                  <a:ext cx="19080" cy="117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0920" y="3502080"/>
                  <a:ext cx="20520" cy="119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951440" y="3621240"/>
                <a:ext cx="93600" cy="614160"/>
                <a:chOff x="4951440" y="3621240"/>
                <a:chExt cx="93600" cy="6141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951440" y="3621240"/>
                  <a:ext cx="19080" cy="123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970520" y="3745080"/>
                  <a:ext cx="17280" cy="122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987800" y="3867120"/>
                  <a:ext cx="19080" cy="123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06880" y="3990960"/>
                  <a:ext cx="19080" cy="122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025960" y="4113360"/>
                  <a:ext cx="19080" cy="122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045040" y="4235400"/>
                <a:ext cx="112680" cy="673200"/>
                <a:chOff x="5045040" y="4235400"/>
                <a:chExt cx="112680" cy="673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045040" y="4235400"/>
                  <a:ext cx="19080" cy="120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064120" y="4356000"/>
                  <a:ext cx="19080" cy="115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083200" y="4471920"/>
                  <a:ext cx="19080" cy="114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102280" y="4586400"/>
                  <a:ext cx="19080" cy="11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121360" y="4697280"/>
                  <a:ext cx="19080" cy="109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140440" y="4807080"/>
                  <a:ext cx="17280" cy="101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157720" y="4908600"/>
                <a:ext cx="152640" cy="703080"/>
                <a:chOff x="5157720" y="4908600"/>
                <a:chExt cx="152640" cy="7030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157720" y="4908600"/>
                  <a:ext cx="19080" cy="10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176800" y="5011560"/>
                  <a:ext cx="20520" cy="96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97320" y="5108400"/>
                  <a:ext cx="19080" cy="92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216400" y="5200560"/>
                  <a:ext cx="17640" cy="88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234040" y="5289480"/>
                  <a:ext cx="19080" cy="85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253120" y="5375160"/>
                  <a:ext cx="19080" cy="82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72200" y="5457960"/>
                  <a:ext cx="19080" cy="77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291280" y="5535720"/>
                  <a:ext cx="1908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5310360" y="5292360"/>
                <a:ext cx="474480" cy="703800"/>
                <a:chOff x="5310360" y="5292360"/>
                <a:chExt cx="474480" cy="7038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310360" y="5611680"/>
                  <a:ext cx="1872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29080" y="5683320"/>
                  <a:ext cx="19080" cy="68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348160" y="5751360"/>
                  <a:ext cx="19080" cy="65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67240" y="5816520"/>
                  <a:ext cx="19080" cy="63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86320" y="5880240"/>
                  <a:ext cx="17640" cy="58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03960" y="5938920"/>
                  <a:ext cx="19080" cy="57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5423040" y="5951520"/>
                  <a:ext cx="20520" cy="44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5443560" y="5900400"/>
                  <a:ext cx="1908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5462640" y="5851080"/>
                  <a:ext cx="19080" cy="49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481720" y="5803920"/>
                  <a:ext cx="17280" cy="47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5499000" y="5757840"/>
                  <a:ext cx="1908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5518080" y="5716080"/>
                  <a:ext cx="19080" cy="41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5537160" y="5675400"/>
                  <a:ext cx="20520" cy="41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5557680" y="5633640"/>
                  <a:ext cx="19080" cy="41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5576760" y="5595840"/>
                  <a:ext cx="17640" cy="38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5594400" y="5559120"/>
                  <a:ext cx="19080" cy="36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5613480" y="5524200"/>
                  <a:ext cx="1908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632560" y="5490720"/>
                  <a:ext cx="19080" cy="33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5651640" y="5460840"/>
                  <a:ext cx="1908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5670720" y="5429160"/>
                  <a:ext cx="18720" cy="31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5689440" y="5398920"/>
                  <a:ext cx="2088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5710320" y="5370120"/>
                  <a:ext cx="17280" cy="28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5727600" y="5343120"/>
                  <a:ext cx="19080" cy="27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5746680" y="5318280"/>
                  <a:ext cx="17640" cy="25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5764320" y="5292360"/>
                  <a:ext cx="20520" cy="25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5784840" y="4704840"/>
                <a:ext cx="1003320" cy="587880"/>
                <a:chOff x="5784840" y="4704840"/>
                <a:chExt cx="1003320" cy="587880"/>
              </a:xfrm>
            </p:grpSpPr>
            <p:sp>
              <p:nvSpPr>
                <p:cNvPr id="631" name=""/>
                <p:cNvSpPr/>
                <p:nvPr/>
              </p:nvSpPr>
              <p:spPr>
                <a:xfrm flipV="1">
                  <a:off x="5784840" y="5268960"/>
                  <a:ext cx="19080" cy="23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5803920" y="5246640"/>
                  <a:ext cx="1908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5823000" y="5224320"/>
                  <a:ext cx="1728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5840280" y="5203440"/>
                  <a:ext cx="1908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5859360" y="5182920"/>
                  <a:ext cx="1764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5877000" y="5162400"/>
                  <a:ext cx="20520" cy="2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5897520" y="5143680"/>
                  <a:ext cx="19080" cy="18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5916600" y="5124240"/>
                  <a:ext cx="190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5935680" y="5106600"/>
                  <a:ext cx="2052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5956200" y="5091120"/>
                  <a:ext cx="1764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5973840" y="5073120"/>
                  <a:ext cx="1908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5992920" y="5057640"/>
                  <a:ext cx="172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6010200" y="504180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6029280" y="5027400"/>
                  <a:ext cx="19080" cy="14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6048360" y="5011200"/>
                  <a:ext cx="20520" cy="16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6068880" y="499860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6087960" y="4984560"/>
                  <a:ext cx="17640" cy="14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6105600" y="4971960"/>
                  <a:ext cx="19080" cy="1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124680" y="496044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6143760" y="494784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164280" y="4936680"/>
                  <a:ext cx="172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81560" y="492552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6200640" y="4915080"/>
                  <a:ext cx="19080" cy="10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6219720" y="490356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6238800" y="489384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6257880" y="48826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276960" y="487368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6296040" y="486576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6315120" y="485568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6334200" y="484812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6353280" y="4836600"/>
                  <a:ext cx="172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6370560" y="483048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9640" y="482292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6410160" y="481500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6429240" y="4807080"/>
                  <a:ext cx="1764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>
                  <a:off x="6446880" y="479916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6465960" y="479268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6485040" y="478620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504120" y="477972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6523200" y="4773600"/>
                  <a:ext cx="187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6541920" y="476568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6561000" y="475920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6580080" y="47541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6599160" y="4748040"/>
                  <a:ext cx="1764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616800" y="474300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6635880" y="4736880"/>
                  <a:ext cx="2052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656400" y="473220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6675480" y="4725720"/>
                  <a:ext cx="172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V="1">
                  <a:off x="6692760" y="47210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6711840" y="471636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730920" y="47113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6750000" y="47066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6769080" y="47048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788160" y="4572000"/>
                <a:ext cx="1079640" cy="133200"/>
                <a:chOff x="6788160" y="4572000"/>
                <a:chExt cx="1079640" cy="13320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6788160" y="469728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6807240" y="469440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6826320" y="46908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845400" y="468612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6862680" y="468288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6883560" y="467964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6902280" y="46749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6921360" y="467172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6939000" y="46670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958080" y="46638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6977160" y="46620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6996240" y="46573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7015320" y="465408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7034040" y="46508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7053120" y="46497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7072200" y="4644720"/>
                  <a:ext cx="1764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7089840" y="46429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7108920" y="464040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7129440" y="46368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7148520" y="46335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167600" y="463392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7184880" y="46303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7203960" y="46256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223040" y="46260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7242120" y="46224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7261200" y="46213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7280280" y="46177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7299360" y="46159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7318440" y="461340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337520" y="46134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7356600" y="46098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7375680" y="4608000"/>
                  <a:ext cx="187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7394400" y="460548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7413480" y="4603320"/>
                  <a:ext cx="1764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7431120" y="46022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50200" y="46022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7470720" y="45986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7489800" y="45975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7508880" y="459540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7526160" y="45943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7545240" y="4592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564320" y="45925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7583400" y="45910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7602480" y="45874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621560" y="4587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7642080" y="458424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659720" y="4584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7678800" y="458316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7696080" y="45810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715160" y="458136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7736040" y="457992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7754760" y="457848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772400" y="4578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7791480" y="45748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7812000" y="4573080"/>
                  <a:ext cx="1764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829640" y="45734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7848720" y="45720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867800" y="4546080"/>
                <a:ext cx="776160" cy="25920"/>
                <a:chOff x="7867800" y="4546080"/>
                <a:chExt cx="776160" cy="25920"/>
              </a:xfrm>
            </p:grpSpPr>
            <p:sp>
              <p:nvSpPr>
                <p:cNvPr id="743" name=""/>
                <p:cNvSpPr/>
                <p:nvPr/>
              </p:nvSpPr>
              <p:spPr>
                <a:xfrm flipV="1">
                  <a:off x="8548560" y="45460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567640" y="454644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588520" y="45464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607600" y="454644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624880" y="45464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867800" y="45720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888320" y="457200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7905600" y="45705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7924680" y="4568400"/>
                  <a:ext cx="1764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7942320" y="45673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962840" y="45673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7981920" y="4565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8001000" y="45640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020080" y="45640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037360" y="45640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8058240" y="456264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8075520" y="456048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096400" y="45608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115480" y="456084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132760" y="45608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8151840" y="45594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8170920" y="45572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190000" y="4557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209080" y="4557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28160" y="4557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8247240" y="455400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265960" y="45543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8285040" y="455292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302680" y="4552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321760" y="455292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342280" y="4552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8361360" y="455148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379000" y="4551480"/>
                  <a:ext cx="187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397720" y="4551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416800" y="4551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435880" y="4551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54960" y="4551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8474040" y="45493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493120" y="45496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8512200" y="45482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531280" y="454824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 flipV="1">
              <a:off x="59976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66643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13736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5042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780408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05824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27712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470800" y="59612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470800" y="1879560"/>
              <a:ext cx="0" cy="4121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253520" y="1425600"/>
              <a:ext cx="936360" cy="412560"/>
              <a:chOff x="1253520" y="1425600"/>
              <a:chExt cx="936360" cy="412560"/>
            </a:xfrm>
          </p:grpSpPr>
          <p:sp>
            <p:nvSpPr>
              <p:cNvPr id="794" name=""/>
              <p:cNvSpPr/>
              <p:nvPr/>
            </p:nvSpPr>
            <p:spPr>
              <a:xfrm>
                <a:off x="1253520" y="1425600"/>
                <a:ext cx="93636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ff00"/>
                    </a:solidFill>
                    <a:latin typeface="Times New Roman"/>
                  </a:rPr>
                  <a:t>|H(j   )|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666800" y="1425600"/>
                <a:ext cx="38916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8669160" y="6048360"/>
              <a:ext cx="389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4C63-352D-4C36-AA55-3A8FEB42DC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804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zno frekvencijska karakteristika filtra gl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1433520" y="2354400"/>
                <a:ext cx="611028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p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611280" y="3960720"/>
            <a:ext cx="73134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ule na imaginarnoj osi uzrokuju skok u faznoj karakteristici na frekvencij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što je posljedica promjene predznaka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na toj frekvenci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16CB-5F3F-4AE3-923E-3348FF9556D5}" type="slidenum">
              <a:t>24</a:t>
            </a:fld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- fazno / 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4280" y="1601640"/>
            <a:ext cx="8940600" cy="5181480"/>
            <a:chOff x="224280" y="1601640"/>
            <a:chExt cx="8940600" cy="5181480"/>
          </a:xfrm>
        </p:grpSpPr>
        <p:sp>
          <p:nvSpPr>
            <p:cNvPr id="803" name=""/>
            <p:cNvSpPr/>
            <p:nvPr/>
          </p:nvSpPr>
          <p:spPr>
            <a:xfrm flipV="1">
              <a:off x="75661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1899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7039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0181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84668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466884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46868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2433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98304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67668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29868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81304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8130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81304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298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329868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676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67668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39830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98304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2433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42433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4468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446868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46688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66884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846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84668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0181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60181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703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7039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1899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5661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8739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13600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83599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55972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8130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3298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676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9830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42433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468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688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484668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0181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703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75661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8739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813600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83599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85597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12724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57240" y="5361120"/>
              <a:ext cx="7778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57240" y="4548240"/>
              <a:ext cx="7778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57240" y="2922480"/>
              <a:ext cx="7778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57240" y="3735360"/>
              <a:ext cx="77788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5440" y="5862600"/>
              <a:ext cx="675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-16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4280" y="5133960"/>
              <a:ext cx="675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-12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240" y="4352760"/>
              <a:ext cx="54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-8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2760" y="3573360"/>
              <a:ext cx="54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-4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0720" y="2792520"/>
              <a:ext cx="319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5200" y="2011320"/>
              <a:ext cx="453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795960" y="6259680"/>
              <a:ext cx="607680" cy="523440"/>
              <a:chOff x="795960" y="6259680"/>
              <a:chExt cx="607680" cy="523440"/>
            </a:xfrm>
          </p:grpSpPr>
          <p:sp>
            <p:nvSpPr>
              <p:cNvPr id="868" name=""/>
              <p:cNvSpPr/>
              <p:nvPr/>
            </p:nvSpPr>
            <p:spPr>
              <a:xfrm>
                <a:off x="795960" y="637056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136160" y="625968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483440" y="6259680"/>
              <a:ext cx="608040" cy="455400"/>
              <a:chOff x="4483440" y="6259680"/>
              <a:chExt cx="608040" cy="455400"/>
            </a:xfrm>
          </p:grpSpPr>
          <p:sp>
            <p:nvSpPr>
              <p:cNvPr id="871" name=""/>
              <p:cNvSpPr/>
              <p:nvPr/>
            </p:nvSpPr>
            <p:spPr>
              <a:xfrm>
                <a:off x="4483440" y="630252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24000" y="625968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8134920" y="6242040"/>
              <a:ext cx="606240" cy="455400"/>
              <a:chOff x="8134920" y="6242040"/>
              <a:chExt cx="606240" cy="455400"/>
            </a:xfrm>
          </p:grpSpPr>
          <p:sp>
            <p:nvSpPr>
              <p:cNvPr id="874" name=""/>
              <p:cNvSpPr/>
              <p:nvPr/>
            </p:nvSpPr>
            <p:spPr>
              <a:xfrm>
                <a:off x="8134920" y="6284880"/>
                <a:ext cx="453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00"/>
                    </a:solidFill>
                    <a:latin typeface="Times New Roman"/>
                  </a:rPr>
                  <a:t>10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473680" y="624204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957240" y="6173640"/>
              <a:ext cx="81104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736120" y="2109960"/>
              <a:ext cx="0" cy="4063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957240" y="2109960"/>
              <a:ext cx="7778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57240" y="1828800"/>
              <a:ext cx="0" cy="4344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7240" y="576756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661240" y="576756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57240" y="536112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61240" y="536112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57240" y="49546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661240" y="49546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57240" y="454824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661240" y="454824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57240" y="414180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61240" y="414180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57240" y="373536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61240" y="373536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57240" y="332892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661240" y="332892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57240" y="29224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661240" y="292248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57240" y="251604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61240" y="2516040"/>
              <a:ext cx="74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1272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127240" y="210996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957240" y="2220840"/>
              <a:ext cx="7740720" cy="3640320"/>
              <a:chOff x="957240" y="2220840"/>
              <a:chExt cx="7740720" cy="364032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957240" y="2979720"/>
                <a:ext cx="115920" cy="4680"/>
                <a:chOff x="957240" y="2979720"/>
                <a:chExt cx="115920" cy="468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957240" y="29797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976320" y="29797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995400" y="2981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014480" y="29829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033560" y="29829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54080" y="2982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073160" y="2220840"/>
                <a:ext cx="7624800" cy="3640320"/>
                <a:chOff x="1073160" y="2220840"/>
                <a:chExt cx="7624800" cy="36403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1073160" y="2984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092240" y="2986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111320" y="29876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131840" y="2987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150920" y="29876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170000" y="29894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189080" y="2990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208160" y="29908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228680" y="2990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247760" y="2990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266840" y="29923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285920" y="299232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06440" y="2994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325520" y="29955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344600" y="29955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363680" y="29973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384200" y="29973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403280" y="299880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424160" y="300024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441440" y="300024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461960" y="30020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481040" y="300204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501920" y="3003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521000" y="3003480"/>
                  <a:ext cx="187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539720" y="30052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558800" y="3005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577880" y="300672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598760" y="3008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617840" y="300996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636560" y="30114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657440" y="3011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676520" y="3013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695600" y="3014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714680" y="301464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733400" y="3016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752480" y="301608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773360" y="3017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792440" y="3019320"/>
                  <a:ext cx="187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811160" y="30211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830240" y="302112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851120" y="30243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871640" y="302580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889280" y="30258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09800" y="302724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927080" y="302904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949400" y="302904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67040" y="30304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987560" y="3032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006640" y="30337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027160" y="30351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046240" y="30351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065320" y="3038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084400" y="3040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103480" y="30416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124000" y="30416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143080" y="30430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162160" y="3044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181240" y="304632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201760" y="304812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220840" y="30510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239920" y="30510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59000" y="30528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79520" y="30542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8600" y="305604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19480" y="305748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36760" y="30607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57280" y="3062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376360" y="30639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397240" y="306540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414520" y="306720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435400" y="306864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454120" y="307008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475000" y="307188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492280" y="307512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513160" y="30765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532240" y="3079800"/>
                  <a:ext cx="187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550960" y="307980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571840" y="308304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589120" y="308448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610000" y="30877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629080" y="308916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649600" y="309240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666880" y="3094200"/>
                  <a:ext cx="208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687760" y="3097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2706840" y="30970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727360" y="310032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744640" y="31035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765520" y="31050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2784600" y="310824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805120" y="3110040"/>
                  <a:ext cx="172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822400" y="311292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843280" y="3116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862360" y="311796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882880" y="3121200"/>
                  <a:ext cx="190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901960" y="31240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921040" y="31273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2940120" y="31305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2960640" y="31320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2979720" y="31352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998800" y="31384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017880" y="31431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036960" y="314496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057480" y="3147840"/>
                  <a:ext cx="1764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075120" y="31528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095640" y="3156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114720" y="315756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135240" y="31622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154320" y="31654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173400" y="31687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192480" y="317196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213000" y="31766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232080" y="31813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51160" y="318276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70240" y="318780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290760" y="319248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309840" y="319572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330720" y="320040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348000" y="32050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368520" y="320832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387600" y="321480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408480" y="321948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425760" y="3222720"/>
                  <a:ext cx="208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446640" y="322884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465360" y="323208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484440" y="323856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505320" y="3243240"/>
                  <a:ext cx="172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522600" y="324972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543480" y="3254400"/>
                  <a:ext cx="187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562200" y="3259080"/>
                  <a:ext cx="208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583080" y="326700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600360" y="3271680"/>
                  <a:ext cx="208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621240" y="3278160"/>
                  <a:ext cx="187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639960" y="3284640"/>
                  <a:ext cx="208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660840" y="329076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679920" y="329724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699000" y="330516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718080" y="3311640"/>
                  <a:ext cx="187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736800" y="3319560"/>
                  <a:ext cx="208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757680" y="332568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776760" y="333216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795840" y="3341520"/>
                  <a:ext cx="20520" cy="8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16360" y="334980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35440" y="335772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854520" y="336708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873600" y="3376440"/>
                  <a:ext cx="20520" cy="8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894120" y="3384720"/>
                  <a:ext cx="17640" cy="10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911760" y="339552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932280" y="3403440"/>
                  <a:ext cx="2052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952800" y="3414600"/>
                  <a:ext cx="1764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970440" y="3425760"/>
                  <a:ext cx="2052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990960" y="34354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010040" y="344664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030560" y="3459240"/>
                  <a:ext cx="1764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048200" y="347184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068720" y="3484440"/>
                  <a:ext cx="17640" cy="1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086360" y="3497400"/>
                  <a:ext cx="2196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108320" y="351000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127400" y="352260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146480" y="353844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165560" y="3554280"/>
                  <a:ext cx="2052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186080" y="3570120"/>
                  <a:ext cx="19080" cy="16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205160" y="3586320"/>
                  <a:ext cx="19080" cy="17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4240" y="3603600"/>
                  <a:ext cx="190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43320" y="3622680"/>
                  <a:ext cx="20880" cy="17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64200" y="3639960"/>
                  <a:ext cx="18720" cy="2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82920" y="3660840"/>
                  <a:ext cx="190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302000" y="3679920"/>
                  <a:ext cx="1908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21080" y="3700440"/>
                  <a:ext cx="20880" cy="23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341960" y="3724200"/>
                  <a:ext cx="1908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361040" y="3746520"/>
                  <a:ext cx="18720" cy="23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79760" y="3770280"/>
                  <a:ext cx="19080" cy="27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8840" y="3797280"/>
                  <a:ext cx="19080" cy="25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17920" y="3822840"/>
                  <a:ext cx="20880" cy="27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38800" y="3849840"/>
                  <a:ext cx="19080" cy="29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457880" y="3879720"/>
                  <a:ext cx="2052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478400" y="3909960"/>
                  <a:ext cx="17280" cy="31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495680" y="3941640"/>
                  <a:ext cx="20880" cy="32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516560" y="3973680"/>
                  <a:ext cx="1908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535640" y="4008600"/>
                  <a:ext cx="2052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556160" y="4043520"/>
                  <a:ext cx="17280" cy="37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573440" y="4081320"/>
                  <a:ext cx="20880" cy="38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594320" y="4119480"/>
                  <a:ext cx="19080" cy="41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613400" y="4160880"/>
                  <a:ext cx="20520" cy="42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633920" y="4203720"/>
                  <a:ext cx="17280" cy="42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651200" y="4246560"/>
                  <a:ext cx="2088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672080" y="4292640"/>
                  <a:ext cx="19080" cy="47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691160" y="4340160"/>
                  <a:ext cx="2052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711680" y="4386240"/>
                  <a:ext cx="1908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730760" y="4437000"/>
                  <a:ext cx="1908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749840" y="4487760"/>
                  <a:ext cx="1908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768920" y="4538520"/>
                  <a:ext cx="19080" cy="52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788000" y="4591080"/>
                  <a:ext cx="20520" cy="52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808520" y="4643280"/>
                  <a:ext cx="19080" cy="54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827600" y="4697280"/>
                  <a:ext cx="19080" cy="54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846680" y="4751280"/>
                  <a:ext cx="19080" cy="54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865760" y="4805280"/>
                  <a:ext cx="20520" cy="52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886280" y="4857840"/>
                  <a:ext cx="17640" cy="52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903920" y="4910040"/>
                  <a:ext cx="20520" cy="52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924440" y="4962600"/>
                  <a:ext cx="19080" cy="52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943520" y="5014800"/>
                  <a:ext cx="20520" cy="49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964040" y="5064120"/>
                  <a:ext cx="1764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981680" y="5114880"/>
                  <a:ext cx="20520" cy="47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002200" y="5162400"/>
                  <a:ext cx="19080" cy="47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021280" y="5210280"/>
                  <a:ext cx="20520" cy="44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041800" y="5254560"/>
                  <a:ext cx="19080" cy="44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060880" y="5299200"/>
                  <a:ext cx="19080" cy="41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079960" y="5340240"/>
                  <a:ext cx="19080" cy="39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099040" y="5380200"/>
                  <a:ext cx="20520" cy="39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119560" y="5419800"/>
                  <a:ext cx="19080" cy="38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138640" y="5457960"/>
                  <a:ext cx="19080" cy="36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157720" y="5494320"/>
                  <a:ext cx="1908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176800" y="5529240"/>
                  <a:ext cx="20520" cy="33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197320" y="5562720"/>
                  <a:ext cx="19080" cy="28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216400" y="5591160"/>
                  <a:ext cx="19080" cy="31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235480" y="5622840"/>
                  <a:ext cx="19080" cy="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254560" y="5651640"/>
                  <a:ext cx="19080" cy="28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73640" y="5680080"/>
                  <a:ext cx="20520" cy="25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294160" y="5705640"/>
                  <a:ext cx="19080" cy="25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313240" y="5730840"/>
                  <a:ext cx="19080" cy="255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332320" y="5756400"/>
                  <a:ext cx="19080" cy="21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51400" y="5778360"/>
                  <a:ext cx="2088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372280" y="5800680"/>
                  <a:ext cx="1872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391000" y="5821200"/>
                  <a:ext cx="19080" cy="2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5410080" y="5842080"/>
                  <a:ext cx="190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5429160" y="2220840"/>
                  <a:ext cx="20880" cy="3640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450040" y="2220840"/>
                  <a:ext cx="1872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468760" y="2239920"/>
                  <a:ext cx="208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489640" y="2255760"/>
                  <a:ext cx="1728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506920" y="2273400"/>
                  <a:ext cx="208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527800" y="228924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546880" y="230508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567400" y="231768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586480" y="233208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605560" y="2344680"/>
                  <a:ext cx="190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624640" y="235908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645160" y="23716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664240" y="238284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683320" y="239544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702400" y="240660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722920" y="241920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742000" y="242892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761080" y="243828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780160" y="244944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800680" y="245736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819760" y="246708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838840" y="247644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857920" y="248436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877000" y="2492280"/>
                  <a:ext cx="190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896080" y="2502000"/>
                  <a:ext cx="2052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916600" y="2508120"/>
                  <a:ext cx="2052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937120" y="2517840"/>
                  <a:ext cx="1764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954760" y="2523960"/>
                  <a:ext cx="2232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977080" y="253368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994360" y="253836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014880" y="2546280"/>
                  <a:ext cx="1764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032520" y="2552760"/>
                  <a:ext cx="2052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053040" y="2558880"/>
                  <a:ext cx="1764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070680" y="2565360"/>
                  <a:ext cx="223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093000" y="2571840"/>
                  <a:ext cx="1872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111720" y="257796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130800" y="258300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149880" y="258768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168960" y="2593800"/>
                  <a:ext cx="208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189840" y="2598840"/>
                  <a:ext cx="172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207120" y="2604960"/>
                  <a:ext cx="2052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227640" y="261000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246720" y="261468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267600" y="26193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286680" y="2624040"/>
                  <a:ext cx="1872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6305400" y="26290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324480" y="263376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345360" y="263700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364440" y="26431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6384960" y="264636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6402240" y="2649600"/>
                  <a:ext cx="208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6423120" y="26557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6442200" y="265896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462720" y="266220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480000" y="2666880"/>
                  <a:ext cx="208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6500880" y="26719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519960" y="267336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540480" y="2678040"/>
                  <a:ext cx="1764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558120" y="26827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578640" y="26859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6597720" y="26877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6616800" y="269244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637320" y="269568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6654960" y="26989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675480" y="27003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694560" y="270360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6715080" y="270828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732720" y="27115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753240" y="27129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772320" y="271620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792840" y="2719440"/>
                  <a:ext cx="1764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810480" y="27226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6831000" y="27241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850080" y="272736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870600" y="27306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889680" y="2732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908760" y="2735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927840" y="27367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948360" y="27399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6967440" y="2743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6986520" y="27446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005600" y="27478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026120" y="27496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045200" y="2751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064280" y="27525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083360" y="27558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7102440" y="275760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122960" y="276084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7140600" y="27622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7161120" y="27637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7180200" y="276552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7201080" y="276876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7219800" y="2770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7238880" y="27716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257960" y="27748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278840" y="277488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297560" y="27781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7316640" y="27795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7335720" y="27813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356600" y="27828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375680" y="278604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396200" y="27874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7413480" y="278748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434360" y="2789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453440" y="27907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473960" y="279396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491240" y="27957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7512120" y="27972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7532640" y="2798640"/>
                  <a:ext cx="1764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550280" y="28004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570800" y="280044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588080" y="280188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7608960" y="28036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7628040" y="28051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648560" y="2806560"/>
                  <a:ext cx="1764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666200" y="28083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686720" y="280980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7707240" y="28116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726320" y="28130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7745400" y="28130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764480" y="28144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783560" y="28162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804080" y="28177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823160" y="281772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7842240" y="28209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7861320" y="28209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7881840" y="2822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900920" y="2824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7920000" y="2824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939080" y="28256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959600" y="282564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978680" y="28274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997760" y="28306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016840" y="28306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035920" y="283068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056440" y="28335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075520" y="283356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096400" y="283536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113680" y="283680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136000" y="283680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153280" y="28386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174160" y="2838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193240" y="2838600"/>
                  <a:ext cx="187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211960" y="28400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231040" y="28414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251920" y="28414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271000" y="28432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290080" y="2844720"/>
                  <a:ext cx="187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308800" y="284652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329680" y="28465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348760" y="2847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367840" y="28494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386920" y="28494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407440" y="2849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426520" y="2851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445600" y="2851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464680" y="28512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483760" y="285264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504280" y="28544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523360" y="28544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543880" y="285444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561520" y="28558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582040" y="28576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01120" y="28576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21640" y="285912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39280" y="28591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9800" y="286056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77440" y="28605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1" name=""/>
            <p:cNvSpPr/>
            <p:nvPr/>
          </p:nvSpPr>
          <p:spPr>
            <a:xfrm>
              <a:off x="8697960" y="2862360"/>
              <a:ext cx="17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715240" y="2862360"/>
              <a:ext cx="20880" cy="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57240" y="576756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57240" y="536112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57240" y="49546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57240" y="454824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57240" y="414180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57240" y="373536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57240" y="332892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7240" y="292248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57240" y="2516040"/>
              <a:ext cx="74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212724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189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5661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7873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7189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873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813600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8359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85597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813600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83599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8559720" y="613404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906480" y="1601640"/>
              <a:ext cx="1218240" cy="412560"/>
              <a:chOff x="906480" y="1601640"/>
              <a:chExt cx="1218240" cy="412560"/>
            </a:xfrm>
          </p:grpSpPr>
          <p:sp>
            <p:nvSpPr>
              <p:cNvPr id="1325" name=""/>
              <p:cNvSpPr/>
              <p:nvPr/>
            </p:nvSpPr>
            <p:spPr>
              <a:xfrm>
                <a:off x="906480" y="1601640"/>
                <a:ext cx="1218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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704600" y="1643040"/>
                <a:ext cx="267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8775720" y="5708520"/>
              <a:ext cx="389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7201-2199-4E91-97A1-B79B6E6860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analogn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8040" y="1676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rakteristika grupnog kašnjen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dobije se deriviranjem izraza za fazu po frekvencij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838080" y="2743200"/>
                <a:ext cx="8008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1" name=""/>
          <p:cNvSpPr/>
          <p:nvPr/>
        </p:nvSpPr>
        <p:spPr>
          <a:xfrm>
            <a:off x="611280" y="3960720"/>
            <a:ext cx="77706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racov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impuls u točk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1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posljedica je skoka u fazi, odnosno postojanja nula prijenosne funkcije na imaginarnoj o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FC49-4FF2-4969-BD98-AB17DD516A00}" type="slidenum">
              <a:t>26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- grupno vrijeme kašnjen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1090440" y="1403280"/>
            <a:ext cx="1452960" cy="513000"/>
            <a:chOff x="1090440" y="1403280"/>
            <a:chExt cx="1452960" cy="513000"/>
          </a:xfrm>
        </p:grpSpPr>
        <p:sp>
          <p:nvSpPr>
            <p:cNvPr id="1334" name=""/>
            <p:cNvSpPr/>
            <p:nvPr/>
          </p:nvSpPr>
          <p:spPr>
            <a:xfrm>
              <a:off x="1090440" y="1403280"/>
              <a:ext cx="14529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00"/>
                  </a:solidFill>
                  <a:latin typeface="Times New Roman"/>
                </a:rPr>
                <a:t>T (   ) [   s]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84480" y="1403280"/>
              <a:ext cx="11635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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17160" y="162576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263160" y="5721480"/>
            <a:ext cx="33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32920" y="4923000"/>
            <a:ext cx="33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0560" y="3987720"/>
            <a:ext cx="33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58480" y="3119400"/>
            <a:ext cx="33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61720" y="2182680"/>
            <a:ext cx="33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874080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619200" y="1905120"/>
            <a:ext cx="81216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9200" y="1600200"/>
            <a:ext cx="0" cy="446256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9200" y="559908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663040" y="559908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9200" y="513864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663040" y="513864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19200" y="467532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663040" y="467532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19200" y="421488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663040" y="421488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19200" y="375120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663040" y="375120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19200" y="329076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663040" y="329076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663040" y="282744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19200" y="236520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663040" y="236520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8399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83996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5574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5574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30639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306396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34574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4574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37782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77820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0496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0496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42861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428616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4494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4942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46800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68000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59022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590220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66182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12476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51824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784080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811368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834876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8556480" y="1905120"/>
            <a:ext cx="0" cy="38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19200" y="559908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9200" y="513864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19200" y="5138640"/>
            <a:ext cx="81216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19200" y="467532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19200" y="421488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19200" y="4214880"/>
            <a:ext cx="81216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19200" y="375120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19200" y="329076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19200" y="3290760"/>
            <a:ext cx="81216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19200" y="2365200"/>
            <a:ext cx="79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19200" y="2365200"/>
            <a:ext cx="81216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8399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183996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25574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25574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30639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306396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34574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4574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37782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377820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40496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0496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861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28616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494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4942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46800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8000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022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90220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6182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712476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51824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784080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811368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834876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8556480" y="1904760"/>
            <a:ext cx="0" cy="4157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86720" y="6116760"/>
            <a:ext cx="597960" cy="479160"/>
            <a:chOff x="486720" y="6116760"/>
            <a:chExt cx="597960" cy="479160"/>
          </a:xfrm>
        </p:grpSpPr>
        <p:sp>
          <p:nvSpPr>
            <p:cNvPr id="1426" name=""/>
            <p:cNvSpPr/>
            <p:nvPr/>
          </p:nvSpPr>
          <p:spPr>
            <a:xfrm>
              <a:off x="486720" y="6153120"/>
              <a:ext cx="4777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17200" y="611676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4268160" y="6126120"/>
            <a:ext cx="623520" cy="469800"/>
            <a:chOff x="4268160" y="6126120"/>
            <a:chExt cx="623520" cy="469800"/>
          </a:xfrm>
        </p:grpSpPr>
        <p:sp>
          <p:nvSpPr>
            <p:cNvPr id="1429" name=""/>
            <p:cNvSpPr/>
            <p:nvPr/>
          </p:nvSpPr>
          <p:spPr>
            <a:xfrm>
              <a:off x="4268160" y="6153120"/>
              <a:ext cx="4777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24200" y="612612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 flipV="1">
            <a:off x="6618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71247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518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8408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811368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83487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855648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19200" y="2306160"/>
            <a:ext cx="8101080" cy="3751920"/>
            <a:chOff x="619200" y="2306160"/>
            <a:chExt cx="8101080" cy="3751920"/>
          </a:xfrm>
        </p:grpSpPr>
        <p:grpSp>
          <p:nvGrpSpPr>
            <p:cNvPr id="1439" name=""/>
            <p:cNvGrpSpPr/>
            <p:nvPr/>
          </p:nvGrpSpPr>
          <p:grpSpPr>
            <a:xfrm>
              <a:off x="619200" y="2306160"/>
              <a:ext cx="5746680" cy="3656520"/>
              <a:chOff x="619200" y="2306160"/>
              <a:chExt cx="5746680" cy="365652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619200" y="5587920"/>
                <a:ext cx="60120" cy="0"/>
                <a:chOff x="619200" y="5587920"/>
                <a:chExt cx="60120" cy="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19200" y="5587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38280" y="5587920"/>
                  <a:ext cx="219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60240" y="5587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"/>
              <p:cNvSpPr/>
              <p:nvPr/>
            </p:nvSpPr>
            <p:spPr>
              <a:xfrm>
                <a:off x="679320" y="5587920"/>
                <a:ext cx="2088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5" name=""/>
              <p:cNvGrpSpPr/>
              <p:nvPr/>
            </p:nvGrpSpPr>
            <p:grpSpPr>
              <a:xfrm>
                <a:off x="700200" y="2306160"/>
                <a:ext cx="5665680" cy="3656520"/>
                <a:chOff x="700200" y="2306160"/>
                <a:chExt cx="5665680" cy="36565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700200" y="5587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719280" y="55864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39800" y="55864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758880" y="5584320"/>
                  <a:ext cx="223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81200" y="55846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01720" y="55846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22240" y="5584680"/>
                  <a:ext cx="17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39880" y="55846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V="1">
                  <a:off x="860400" y="558324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80920" y="558324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903240" y="55832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923760" y="55818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942840" y="55818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963720" y="55818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982800" y="55818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003320" y="55818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V="1">
                  <a:off x="1023840" y="557964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flipV="1">
                  <a:off x="1044720" y="55785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1065240" y="55785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1085760" y="55764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104840" y="55767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1125360" y="557676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1146240" y="55767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1166760" y="55753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V="1">
                  <a:off x="1187280" y="557388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208160" y="5573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227240" y="55738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1247760" y="55738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266840" y="557388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V="1">
                  <a:off x="1289160" y="55717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308240" y="55720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V="1">
                  <a:off x="1328760" y="5570640"/>
                  <a:ext cx="223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1351080" y="55706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V="1">
                  <a:off x="1370160" y="55684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1390680" y="55688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09760" y="5568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V="1">
                  <a:off x="1430280" y="55652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449360" y="556560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1680" y="5565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1492200" y="55641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1511280" y="55627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1530360" y="556272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1552680" y="55605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1573200" y="55594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592280" y="555948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V="1">
                  <a:off x="1614600" y="555732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1633680" y="555624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V="1">
                  <a:off x="1654200" y="555480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673280" y="55548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>
                  <a:off x="1693800" y="555264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flipV="1">
                  <a:off x="1714680" y="5551560"/>
                  <a:ext cx="2196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736640" y="555156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V="1">
                  <a:off x="1757520" y="5549400"/>
                  <a:ext cx="172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774800" y="55497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V="1">
                  <a:off x="1795320" y="554832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V="1">
                  <a:off x="1814400" y="5546880"/>
                  <a:ext cx="223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V="1">
                  <a:off x="1836720" y="5544720"/>
                  <a:ext cx="223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1859040" y="5545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flipV="1">
                  <a:off x="1878120" y="554364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1898640" y="55414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V="1">
                  <a:off x="1917720" y="55404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V="1">
                  <a:off x="1938240" y="55389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1957320" y="5536800"/>
                  <a:ext cx="223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1979640" y="55357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V="1">
                  <a:off x="2000160" y="553356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V="1">
                  <a:off x="2021040" y="5530320"/>
                  <a:ext cx="187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039760" y="55306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V="1">
                  <a:off x="2058840" y="5527800"/>
                  <a:ext cx="2088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V="1">
                  <a:off x="2079720" y="5525640"/>
                  <a:ext cx="2196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101680" y="55260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V="1">
                  <a:off x="2122560" y="552240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2141640" y="55213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V="1">
                  <a:off x="2162160" y="55198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V="1">
                  <a:off x="2181240" y="5516280"/>
                  <a:ext cx="223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V="1">
                  <a:off x="2203560" y="55144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2222640" y="551196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V="1">
                  <a:off x="2243160" y="550836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V="1">
                  <a:off x="2263680" y="550656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2284560" y="55054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V="1">
                  <a:off x="2303640" y="55018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V="1">
                  <a:off x="2324160" y="55008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2344680" y="549720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V="1">
                  <a:off x="2365200" y="549540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V="1">
                  <a:off x="2386080" y="54907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V="1">
                  <a:off x="2405160" y="548964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V="1">
                  <a:off x="2425680" y="548604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V="1">
                  <a:off x="2446200" y="54849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V="1">
                  <a:off x="2467080" y="5479920"/>
                  <a:ext cx="1908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V="1">
                  <a:off x="2486160" y="54784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V="1">
                  <a:off x="2506680" y="54748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V="1">
                  <a:off x="2527200" y="547020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>
                  <a:off x="2548080" y="546696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V="1">
                  <a:off x="2567160" y="546228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V="1">
                  <a:off x="2587680" y="545904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V="1">
                  <a:off x="2608200" y="545436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V="1">
                  <a:off x="2629080" y="54525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V="1">
                  <a:off x="2649600" y="54478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2668680" y="5443200"/>
                  <a:ext cx="2196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V="1">
                  <a:off x="2690640" y="54385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V="1">
                  <a:off x="2709720" y="543528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V="1">
                  <a:off x="2730600" y="5432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V="1">
                  <a:off x="2749680" y="542736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V="1">
                  <a:off x="2770200" y="542268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V="1">
                  <a:off x="2790720" y="5416560"/>
                  <a:ext cx="223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2813040" y="541152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2832120" y="540684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2851200" y="540072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V="1">
                  <a:off x="2871720" y="539568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2892600" y="538956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V="1">
                  <a:off x="2913120" y="538308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V="1">
                  <a:off x="2933640" y="538020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V="1">
                  <a:off x="2954160" y="537228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2973240" y="5363640"/>
                  <a:ext cx="20880" cy="8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V="1">
                  <a:off x="2994120" y="535752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3013200" y="5349960"/>
                  <a:ext cx="2196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3035160" y="5343480"/>
                  <a:ext cx="208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V="1">
                  <a:off x="3056040" y="533556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3076560" y="532764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3097080" y="5319720"/>
                  <a:ext cx="1764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3114720" y="531324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3135240" y="5303880"/>
                  <a:ext cx="2232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3157560" y="5292360"/>
                  <a:ext cx="2052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3178080" y="528480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V="1">
                  <a:off x="3197160" y="5275440"/>
                  <a:ext cx="208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3218040" y="5266800"/>
                  <a:ext cx="18720" cy="8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3236760" y="5256360"/>
                  <a:ext cx="20880" cy="10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3257640" y="5243400"/>
                  <a:ext cx="21960" cy="1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V="1">
                  <a:off x="3279600" y="523404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V="1">
                  <a:off x="3298680" y="5221080"/>
                  <a:ext cx="208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V="1">
                  <a:off x="3319560" y="5209920"/>
                  <a:ext cx="2052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3340080" y="5197320"/>
                  <a:ext cx="20520" cy="12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3360600" y="5184360"/>
                  <a:ext cx="1764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V="1">
                  <a:off x="3378240" y="5170320"/>
                  <a:ext cx="2232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V="1">
                  <a:off x="3400560" y="515736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3421080" y="5144760"/>
                  <a:ext cx="2052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3441600" y="5127120"/>
                  <a:ext cx="2088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V="1">
                  <a:off x="3462480" y="511164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>
                  <a:off x="3481560" y="5097240"/>
                  <a:ext cx="18720" cy="14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V="1">
                  <a:off x="3500280" y="5078160"/>
                  <a:ext cx="208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3521160" y="5060520"/>
                  <a:ext cx="2232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3543480" y="5043600"/>
                  <a:ext cx="18720" cy="17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3562200" y="5024160"/>
                  <a:ext cx="208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3583080" y="5003640"/>
                  <a:ext cx="21960" cy="2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3605040" y="4982760"/>
                  <a:ext cx="1908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3624120" y="4960800"/>
                  <a:ext cx="2088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3645000" y="4938480"/>
                  <a:ext cx="19080" cy="21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V="1">
                  <a:off x="3664080" y="4915080"/>
                  <a:ext cx="20520" cy="23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3684600" y="4887720"/>
                  <a:ext cx="19080" cy="27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3703680" y="4863600"/>
                  <a:ext cx="22320" cy="24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V="1">
                  <a:off x="3726000" y="4836600"/>
                  <a:ext cx="20520" cy="27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>
                  <a:off x="3746520" y="4808160"/>
                  <a:ext cx="19080" cy="28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V="1">
                  <a:off x="3765600" y="4778280"/>
                  <a:ext cx="2052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V="1">
                  <a:off x="3786120" y="4746600"/>
                  <a:ext cx="20880" cy="31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3807000" y="4716360"/>
                  <a:ext cx="2052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3827520" y="4681080"/>
                  <a:ext cx="1908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3846600" y="4646160"/>
                  <a:ext cx="2196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3868560" y="4608360"/>
                  <a:ext cx="19080" cy="38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V="1">
                  <a:off x="3887640" y="4568760"/>
                  <a:ext cx="20880" cy="39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3908520" y="4527720"/>
                  <a:ext cx="20520" cy="41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V="1">
                  <a:off x="3929040" y="4484520"/>
                  <a:ext cx="19080" cy="43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V="1">
                  <a:off x="3948120" y="4438440"/>
                  <a:ext cx="20520" cy="45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3968640" y="4392720"/>
                  <a:ext cx="2232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3990960" y="4341600"/>
                  <a:ext cx="2052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4011480" y="4290840"/>
                  <a:ext cx="19080" cy="51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4030560" y="4235400"/>
                  <a:ext cx="19080" cy="55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4049640" y="4177800"/>
                  <a:ext cx="20880" cy="57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V="1">
                  <a:off x="4070520" y="4121280"/>
                  <a:ext cx="20520" cy="56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V="1">
                  <a:off x="4091040" y="4057200"/>
                  <a:ext cx="22320" cy="63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4113360" y="3992040"/>
                  <a:ext cx="19080" cy="65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V="1">
                  <a:off x="4132440" y="3924000"/>
                  <a:ext cx="20520" cy="68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4152960" y="3852360"/>
                  <a:ext cx="190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4172040" y="3777840"/>
                  <a:ext cx="2052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V="1">
                  <a:off x="4192560" y="3701880"/>
                  <a:ext cx="1908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V="1">
                  <a:off x="4211640" y="3622680"/>
                  <a:ext cx="22320" cy="79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V="1">
                  <a:off x="4233960" y="3539880"/>
                  <a:ext cx="20520" cy="82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4254480" y="3456000"/>
                  <a:ext cx="20520" cy="84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4275000" y="3368160"/>
                  <a:ext cx="20880" cy="87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4295880" y="3279240"/>
                  <a:ext cx="17280" cy="88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V="1">
                  <a:off x="4313160" y="3188880"/>
                  <a:ext cx="20880" cy="90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4334040" y="3098520"/>
                  <a:ext cx="21960" cy="90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4356000" y="3008160"/>
                  <a:ext cx="20880" cy="90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4376880" y="2917440"/>
                  <a:ext cx="19080" cy="90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4395960" y="2827080"/>
                  <a:ext cx="20520" cy="90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4416480" y="2741760"/>
                  <a:ext cx="19080" cy="85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4435560" y="2660400"/>
                  <a:ext cx="20520" cy="81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4456080" y="2583000"/>
                  <a:ext cx="20520" cy="77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V="1">
                  <a:off x="4476600" y="2511000"/>
                  <a:ext cx="208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4497480" y="2449440"/>
                  <a:ext cx="20520" cy="61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V="1">
                  <a:off x="4518000" y="2396880"/>
                  <a:ext cx="20520" cy="52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V="1">
                  <a:off x="4538520" y="2354040"/>
                  <a:ext cx="20880" cy="42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V="1">
                  <a:off x="4559400" y="2324160"/>
                  <a:ext cx="19080" cy="30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V="1">
                  <a:off x="4578480" y="2308320"/>
                  <a:ext cx="2052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4599000" y="23061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4619520" y="2306520"/>
                  <a:ext cx="208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640400" y="2317680"/>
                  <a:ext cx="19080" cy="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659480" y="2346480"/>
                  <a:ext cx="20520" cy="42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4680000" y="2389320"/>
                  <a:ext cx="20520" cy="56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700520" y="2446200"/>
                  <a:ext cx="208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721400" y="2517840"/>
                  <a:ext cx="18720" cy="81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4740120" y="2598840"/>
                  <a:ext cx="20880" cy="93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761000" y="2692440"/>
                  <a:ext cx="20520" cy="103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4781520" y="2795760"/>
                  <a:ext cx="20520" cy="110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4802040" y="2906640"/>
                  <a:ext cx="20880" cy="117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822920" y="3024360"/>
                  <a:ext cx="19080" cy="117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842000" y="3141720"/>
                  <a:ext cx="20520" cy="125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4862520" y="3267000"/>
                  <a:ext cx="20520" cy="123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883040" y="3390840"/>
                  <a:ext cx="20880" cy="123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4903920" y="3514680"/>
                  <a:ext cx="19080" cy="122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4923000" y="3637080"/>
                  <a:ext cx="21960" cy="120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944960" y="3757680"/>
                  <a:ext cx="19080" cy="117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964040" y="3875040"/>
                  <a:ext cx="20880" cy="112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984920" y="3987720"/>
                  <a:ext cx="18720" cy="111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003640" y="4098960"/>
                  <a:ext cx="20880" cy="103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024520" y="4202280"/>
                  <a:ext cx="20520" cy="101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045040" y="4303800"/>
                  <a:ext cx="22320" cy="93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067360" y="4397400"/>
                  <a:ext cx="19080" cy="92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086440" y="4489560"/>
                  <a:ext cx="19080" cy="87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5105520" y="4576680"/>
                  <a:ext cx="20520" cy="81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126040" y="4657680"/>
                  <a:ext cx="2052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146560" y="4732200"/>
                  <a:ext cx="208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167440" y="4805280"/>
                  <a:ext cx="20520" cy="68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187960" y="4873680"/>
                  <a:ext cx="20520" cy="65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208480" y="4938840"/>
                  <a:ext cx="20880" cy="58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229360" y="4997520"/>
                  <a:ext cx="19080" cy="55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248440" y="5052960"/>
                  <a:ext cx="18720" cy="540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267160" y="5106960"/>
                  <a:ext cx="20880" cy="50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288040" y="5157720"/>
                  <a:ext cx="22320" cy="47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310360" y="5205240"/>
                  <a:ext cx="20520" cy="43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30880" y="5248440"/>
                  <a:ext cx="20520" cy="41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351400" y="5289480"/>
                  <a:ext cx="17640" cy="39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369040" y="5329080"/>
                  <a:ext cx="20520" cy="36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5389560" y="5365800"/>
                  <a:ext cx="20520" cy="34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5410080" y="5400720"/>
                  <a:ext cx="22320" cy="33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5432400" y="5433840"/>
                  <a:ext cx="20520" cy="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452920" y="5462640"/>
                  <a:ext cx="19080" cy="28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472000" y="5491080"/>
                  <a:ext cx="20880" cy="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492880" y="5519880"/>
                  <a:ext cx="19080" cy="252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511960" y="5545080"/>
                  <a:ext cx="20520" cy="23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532480" y="5568840"/>
                  <a:ext cx="2052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553000" y="5591160"/>
                  <a:ext cx="20880" cy="20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573880" y="5611680"/>
                  <a:ext cx="21960" cy="22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595840" y="5634000"/>
                  <a:ext cx="1908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614920" y="5653080"/>
                  <a:ext cx="1908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634000" y="5668920"/>
                  <a:ext cx="20520" cy="19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654520" y="5688000"/>
                  <a:ext cx="22320" cy="15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676840" y="570384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695920" y="5716440"/>
                  <a:ext cx="20520" cy="17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716440" y="5734080"/>
                  <a:ext cx="19080" cy="12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735520" y="5746680"/>
                  <a:ext cx="2088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756400" y="5761080"/>
                  <a:ext cx="1908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775480" y="5770440"/>
                  <a:ext cx="21960" cy="144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797440" y="5784840"/>
                  <a:ext cx="208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818320" y="5796000"/>
                  <a:ext cx="19080" cy="111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837400" y="5807160"/>
                  <a:ext cx="2196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859360" y="5816520"/>
                  <a:ext cx="1908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878440" y="5824440"/>
                  <a:ext cx="208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899320" y="5834160"/>
                  <a:ext cx="18720" cy="9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918040" y="5843520"/>
                  <a:ext cx="2088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938920" y="5853240"/>
                  <a:ext cx="1908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958000" y="5859360"/>
                  <a:ext cx="21960" cy="97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979960" y="586908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000840" y="587376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021360" y="588168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6040440" y="5886360"/>
                  <a:ext cx="20520" cy="79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6060960" y="5894280"/>
                  <a:ext cx="208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6081840" y="5900760"/>
                  <a:ext cx="190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6100920" y="5905440"/>
                  <a:ext cx="2052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6121440" y="5911920"/>
                  <a:ext cx="22320" cy="61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6143760" y="591804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164280" y="5921280"/>
                  <a:ext cx="19080" cy="64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6183360" y="59277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6202440" y="5929200"/>
                  <a:ext cx="20520" cy="5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6222960" y="593424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6243480" y="5938920"/>
                  <a:ext cx="223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6265800" y="5943600"/>
                  <a:ext cx="208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6286680" y="5948280"/>
                  <a:ext cx="1728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303960" y="59529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6324480" y="595476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6345360" y="5958000"/>
                  <a:ext cx="20520" cy="46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5" name=""/>
            <p:cNvGrpSpPr/>
            <p:nvPr/>
          </p:nvGrpSpPr>
          <p:grpSpPr>
            <a:xfrm>
              <a:off x="6365880" y="5962680"/>
              <a:ext cx="2354400" cy="95400"/>
              <a:chOff x="6365880" y="5962680"/>
              <a:chExt cx="2354400" cy="9540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6365880" y="5962680"/>
                <a:ext cx="1119240" cy="79200"/>
                <a:chOff x="6365880" y="5962680"/>
                <a:chExt cx="1119240" cy="7920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6365880" y="596268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386400" y="596592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6407280" y="5969160"/>
                  <a:ext cx="205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6427800" y="5972040"/>
                  <a:ext cx="190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6446880" y="59752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6465960" y="5977080"/>
                  <a:ext cx="22320" cy="2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6488280" y="597996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6508800" y="59817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6529320" y="598320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550200" y="5986440"/>
                  <a:ext cx="172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6567480" y="598968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6588000" y="5991120"/>
                  <a:ext cx="223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10320" y="59929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6630840" y="599616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6649920" y="599760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6670800" y="599904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6691320" y="60008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6710400" y="60022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6730920" y="600408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6751800" y="6005520"/>
                  <a:ext cx="2052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6772320" y="60087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792840" y="6008760"/>
                  <a:ext cx="20880" cy="32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813720" y="6012000"/>
                  <a:ext cx="172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831000" y="6013440"/>
                  <a:ext cx="223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853320" y="60148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873840" y="60148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894360" y="60166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913440" y="601812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934320" y="60199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954840" y="602136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975360" y="60228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6994440" y="60246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7015320" y="6024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7035840" y="602460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056360" y="6026040"/>
                  <a:ext cx="208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077240" y="6027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097760" y="602784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7116840" y="60292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7137360" y="60310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7157880" y="6031080"/>
                  <a:ext cx="190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7176960" y="603252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7199280" y="6032520"/>
                  <a:ext cx="205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7219800" y="60339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7238880" y="603396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7257960" y="603576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7278840" y="60372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299360" y="603720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7321680" y="60372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342200" y="60372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361280" y="603720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380360" y="60390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7400880" y="60390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421400" y="603900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442280" y="60404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7462800" y="6040440"/>
                  <a:ext cx="223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7485120" y="6041880"/>
                <a:ext cx="422280" cy="7920"/>
                <a:chOff x="7485120" y="6041880"/>
                <a:chExt cx="422280" cy="792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7485120" y="6041880"/>
                  <a:ext cx="172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502400" y="60418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523280" y="6041880"/>
                  <a:ext cx="1908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542360" y="6043680"/>
                  <a:ext cx="219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564320" y="604368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7585200" y="604512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7605720" y="60451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624800" y="60451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7643880" y="604512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6200" y="604512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7686720" y="604692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7707240" y="6046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726320" y="604692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746840" y="604692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765920" y="604692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786800" y="60483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807320" y="60483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7827840" y="604836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7850160" y="604836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869240" y="604836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889760" y="6048360"/>
                  <a:ext cx="1764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7907400" y="6049800"/>
                <a:ext cx="812880" cy="8280"/>
                <a:chOff x="7907400" y="6049800"/>
                <a:chExt cx="812880" cy="828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7907400" y="6049800"/>
                  <a:ext cx="2376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931160" y="6051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950240" y="6051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970760" y="6051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989840" y="6051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010360" y="605160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031240" y="6051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8051760" y="605160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8072280" y="605160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8091360" y="6051600"/>
                  <a:ext cx="2232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8113680" y="60530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132760" y="605304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8155080" y="60530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8174160" y="60530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8193240" y="605304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213760" y="6054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234280" y="605484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8255160" y="6054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8275680" y="6054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296200" y="60548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8315280" y="605484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335800" y="605484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8356680" y="605484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8375760" y="6054840"/>
                  <a:ext cx="219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8397720" y="6054840"/>
                  <a:ext cx="20880" cy="14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418600" y="60562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8437680" y="60562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8456760" y="60562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8477280" y="60562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8497800" y="6056280"/>
                  <a:ext cx="22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8520120" y="6056280"/>
                  <a:ext cx="20520" cy="1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8540640" y="6058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8559720" y="6058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8578800" y="60580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8599320" y="60580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8620200" y="60580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8640720" y="6058080"/>
                  <a:ext cx="20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8661240" y="6058080"/>
                  <a:ext cx="208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8682120" y="6058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8701200" y="6058080"/>
                  <a:ext cx="19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45" name=""/>
          <p:cNvSpPr/>
          <p:nvPr/>
        </p:nvSpPr>
        <p:spPr>
          <a:xfrm flipV="1">
            <a:off x="6618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71247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751824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784080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811368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834876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8556480" y="6022440"/>
            <a:ext cx="0" cy="39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8189280" y="6126120"/>
            <a:ext cx="551880" cy="469800"/>
            <a:chOff x="8189280" y="6126120"/>
            <a:chExt cx="551880" cy="469800"/>
          </a:xfrm>
        </p:grpSpPr>
        <p:sp>
          <p:nvSpPr>
            <p:cNvPr id="1853" name=""/>
            <p:cNvSpPr/>
            <p:nvPr/>
          </p:nvSpPr>
          <p:spPr>
            <a:xfrm>
              <a:off x="8189280" y="6153120"/>
              <a:ext cx="4777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473680" y="6126120"/>
              <a:ext cx="26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622440" y="284652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22440" y="2846520"/>
            <a:ext cx="77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757720" y="5504040"/>
            <a:ext cx="408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297400" y="5172120"/>
            <a:ext cx="0" cy="893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19200" y="6062760"/>
            <a:ext cx="844848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9304-7E69-43AA-A76E-5F6727DEF3D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447920" y="23619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5. Tipovi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1D70-57D6-4614-B550-67EA782775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Tipovi filta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09480" y="16765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re je moguće obzirom na oblik frekvencijske karakteristike podijeliti u dvije skupin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selektivni fil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korek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d selektivnih filtara oblik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|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takav da je moguće jasno razlikovati frekvencijska područja u kojima je ulazni signal prigušen od onih u kojima je on propuš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315D-3646-4676-902C-BDAE1FBC9720}" type="slidenum">
              <a:t>29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3619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1. Defini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7D57-5180-4CFA-BA95-1604C3BF1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Selektivni filtr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33520" y="1371600"/>
            <a:ext cx="83818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Područje propuštanj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 frekvencija u kojem amplitudno frekvencijska karakteristika ima vrijednost približno jednak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mponente pobudnog signala čije su frekvencije unutar tog pojasa pojavljuju na izlazu filtra sa približno istom amplitudom kao i na ulaz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Područje gušenj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 frekvencija u kojem je amplitudno frekvencijska karakteristika približno jednaka nu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rekvencijske komponente ulaznog signala koje se nalaze unutar tog pojasa nisu propuštene na izla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4386-CBEE-497C-9F19-D792DC991873}" type="slidenum">
              <a:t>30</a:t>
            </a:fld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5" dur="500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Selektivni filtr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9480" y="16765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 frekvencijska karakteristik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|H(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|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je funkcija bez diskontinuiteta, pa je prijelaz  između područja propuštanja i područja gušenja kontinuir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60093"/>
                </a:solidFill>
                <a:latin typeface="Times New Roman"/>
              </a:rPr>
              <a:t>Prijelazno područje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iltr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dručje frekvencija na prijelazu između područja propuštanja i područja guš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zirom na položaj svakog od spomenutih područja na frekvencijskoj osi, moguće je razlikovat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snovna tipa selektivnih filta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6950-F0B2-4B75-A3CE-8E5D74200503}" type="slidenum">
              <a:t>31</a:t>
            </a:fld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Nisko propusni (NP) filta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9480" y="16765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gušenja z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ijedi 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286000" y="3428640"/>
            <a:ext cx="5334120" cy="3175920"/>
            <a:chOff x="2286000" y="3428640"/>
            <a:chExt cx="5334120" cy="3175920"/>
          </a:xfrm>
        </p:grpSpPr>
        <p:grpSp>
          <p:nvGrpSpPr>
            <p:cNvPr id="1871" name=""/>
            <p:cNvGrpSpPr/>
            <p:nvPr/>
          </p:nvGrpSpPr>
          <p:grpSpPr>
            <a:xfrm>
              <a:off x="2286000" y="3428640"/>
              <a:ext cx="5334120" cy="3175920"/>
              <a:chOff x="2286000" y="3428640"/>
              <a:chExt cx="5334120" cy="317592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2286000" y="3428640"/>
                <a:ext cx="5257800" cy="2971800"/>
                <a:chOff x="2286000" y="3428640"/>
                <a:chExt cx="5257800" cy="2971800"/>
              </a:xfrm>
            </p:grpSpPr>
            <p:sp>
              <p:nvSpPr>
                <p:cNvPr id="1873" name=""/>
                <p:cNvSpPr/>
                <p:nvPr/>
              </p:nvSpPr>
              <p:spPr>
                <a:xfrm flipV="1">
                  <a:off x="2819520" y="3428640"/>
                  <a:ext cx="0" cy="29718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286000" y="6019920"/>
                  <a:ext cx="5257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2819520" y="4191120"/>
                <a:ext cx="4267080" cy="1828800"/>
                <a:chOff x="2819520" y="4191120"/>
                <a:chExt cx="4267080" cy="182880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2819520" y="419112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4572000" y="4191120"/>
                  <a:ext cx="13716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943600" y="6019920"/>
                  <a:ext cx="114300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9" name=""/>
              <p:cNvSpPr/>
              <p:nvPr/>
            </p:nvSpPr>
            <p:spPr>
              <a:xfrm flipV="1">
                <a:off x="45720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59436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0866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7150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3434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971800" y="3429000"/>
                <a:ext cx="1295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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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7432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6" name=""/>
            <p:cNvSpPr/>
            <p:nvPr/>
          </p:nvSpPr>
          <p:spPr>
            <a:xfrm>
              <a:off x="2362320" y="396252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249B-513D-4444-B2C0-CA4B5FA1EA45}" type="slidenum">
              <a:t>32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isoko propusni (VP) filta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09480" y="16765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 z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gušenja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ijedi 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2286000" y="3428640"/>
            <a:ext cx="5334120" cy="3175920"/>
            <a:chOff x="2286000" y="3428640"/>
            <a:chExt cx="5334120" cy="3175920"/>
          </a:xfrm>
        </p:grpSpPr>
        <p:grpSp>
          <p:nvGrpSpPr>
            <p:cNvPr id="1890" name=""/>
            <p:cNvGrpSpPr/>
            <p:nvPr/>
          </p:nvGrpSpPr>
          <p:grpSpPr>
            <a:xfrm>
              <a:off x="2286000" y="3428640"/>
              <a:ext cx="5334120" cy="3175920"/>
              <a:chOff x="2286000" y="3428640"/>
              <a:chExt cx="5334120" cy="317592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2286000" y="3428640"/>
                <a:ext cx="5257800" cy="2971800"/>
                <a:chOff x="2286000" y="3428640"/>
                <a:chExt cx="5257800" cy="2971800"/>
              </a:xfrm>
            </p:grpSpPr>
            <p:sp>
              <p:nvSpPr>
                <p:cNvPr id="1892" name=""/>
                <p:cNvSpPr/>
                <p:nvPr/>
              </p:nvSpPr>
              <p:spPr>
                <a:xfrm flipV="1">
                  <a:off x="2819520" y="3428640"/>
                  <a:ext cx="0" cy="29718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2286000" y="6019920"/>
                  <a:ext cx="5257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 flipV="1">
                <a:off x="45720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59436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66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7150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3434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971800" y="3429000"/>
                <a:ext cx="1295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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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7432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2819520" y="4191120"/>
                <a:ext cx="4343400" cy="1828800"/>
                <a:chOff x="2819520" y="4191120"/>
                <a:chExt cx="4343400" cy="182880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2819520" y="601992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4572000" y="4191120"/>
                  <a:ext cx="13716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943600" y="4191120"/>
                  <a:ext cx="12193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5" name=""/>
            <p:cNvGrpSpPr/>
            <p:nvPr/>
          </p:nvGrpSpPr>
          <p:grpSpPr>
            <a:xfrm>
              <a:off x="2286000" y="3962520"/>
              <a:ext cx="609480" cy="458280"/>
              <a:chOff x="2286000" y="3962520"/>
              <a:chExt cx="609480" cy="458280"/>
            </a:xfrm>
          </p:grpSpPr>
          <p:sp>
            <p:nvSpPr>
              <p:cNvPr id="1906" name=""/>
              <p:cNvSpPr/>
              <p:nvPr/>
            </p:nvSpPr>
            <p:spPr>
              <a:xfrm>
                <a:off x="2286000" y="396252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743200" y="4191120"/>
                <a:ext cx="152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E0A-5CA9-4EE9-A00F-FED1154667BE}" type="slidenum">
              <a:t>33</a:t>
            </a:fld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jasno propusni (PP) filta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09480" y="16765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 z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a gušenja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ijedi 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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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2286000" y="3428640"/>
            <a:ext cx="5334120" cy="3175920"/>
            <a:chOff x="2286000" y="3428640"/>
            <a:chExt cx="5334120" cy="3175920"/>
          </a:xfrm>
        </p:grpSpPr>
        <p:grpSp>
          <p:nvGrpSpPr>
            <p:cNvPr id="1911" name=""/>
            <p:cNvGrpSpPr/>
            <p:nvPr/>
          </p:nvGrpSpPr>
          <p:grpSpPr>
            <a:xfrm>
              <a:off x="2286000" y="3428640"/>
              <a:ext cx="5334120" cy="3175920"/>
              <a:chOff x="2286000" y="3428640"/>
              <a:chExt cx="5334120" cy="317592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2286000" y="3428640"/>
                <a:ext cx="5257800" cy="2971800"/>
                <a:chOff x="2286000" y="3428640"/>
                <a:chExt cx="5257800" cy="2971800"/>
              </a:xfrm>
            </p:grpSpPr>
            <p:sp>
              <p:nvSpPr>
                <p:cNvPr id="1913" name=""/>
                <p:cNvSpPr/>
                <p:nvPr/>
              </p:nvSpPr>
              <p:spPr>
                <a:xfrm flipV="1">
                  <a:off x="2819520" y="3428640"/>
                  <a:ext cx="0" cy="29718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86000" y="6019920"/>
                  <a:ext cx="5257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 flipV="1">
                <a:off x="45720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59436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0866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7150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3434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971800" y="3429000"/>
                <a:ext cx="1295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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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7432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2" name=""/>
              <p:cNvGrpSpPr/>
              <p:nvPr/>
            </p:nvGrpSpPr>
            <p:grpSpPr>
              <a:xfrm>
                <a:off x="2819520" y="4191120"/>
                <a:ext cx="4343400" cy="1828800"/>
                <a:chOff x="2819520" y="4191120"/>
                <a:chExt cx="4343400" cy="182880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2819520" y="6019920"/>
                  <a:ext cx="10666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V="1">
                  <a:off x="3886200" y="4191120"/>
                  <a:ext cx="6858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572000" y="41911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 flipV="1">
                  <a:off x="5943240" y="4191120"/>
                  <a:ext cx="6858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629400" y="6019920"/>
                  <a:ext cx="533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8" name=""/>
              <p:cNvSpPr/>
              <p:nvPr/>
            </p:nvSpPr>
            <p:spPr>
              <a:xfrm flipV="1">
                <a:off x="38862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66294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6576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4008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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2286000" y="3962520"/>
              <a:ext cx="609480" cy="458280"/>
              <a:chOff x="2286000" y="3962520"/>
              <a:chExt cx="609480" cy="458280"/>
            </a:xfrm>
          </p:grpSpPr>
          <p:sp>
            <p:nvSpPr>
              <p:cNvPr id="1933" name=""/>
              <p:cNvSpPr/>
              <p:nvPr/>
            </p:nvSpPr>
            <p:spPr>
              <a:xfrm>
                <a:off x="2286000" y="396252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743200" y="4191120"/>
                <a:ext cx="152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BAF6-FD0B-4FBB-8C4D-432D1D968841}" type="slidenum">
              <a:t>34</a:t>
            </a:fld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jasna brana (PB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09480" y="16765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a gušenja z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ijedi 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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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2286000" y="3428640"/>
            <a:ext cx="5334120" cy="3175920"/>
            <a:chOff x="2286000" y="3428640"/>
            <a:chExt cx="5334120" cy="3175920"/>
          </a:xfrm>
        </p:grpSpPr>
        <p:grpSp>
          <p:nvGrpSpPr>
            <p:cNvPr id="1938" name=""/>
            <p:cNvGrpSpPr/>
            <p:nvPr/>
          </p:nvGrpSpPr>
          <p:grpSpPr>
            <a:xfrm>
              <a:off x="2286000" y="3428640"/>
              <a:ext cx="5334120" cy="3175920"/>
              <a:chOff x="2286000" y="3428640"/>
              <a:chExt cx="5334120" cy="317592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286000" y="3428640"/>
                <a:ext cx="5257800" cy="2971800"/>
                <a:chOff x="2286000" y="3428640"/>
                <a:chExt cx="5257800" cy="2971800"/>
              </a:xfrm>
            </p:grpSpPr>
            <p:sp>
              <p:nvSpPr>
                <p:cNvPr id="1940" name=""/>
                <p:cNvSpPr/>
                <p:nvPr/>
              </p:nvSpPr>
              <p:spPr>
                <a:xfrm flipV="1">
                  <a:off x="2819520" y="3428640"/>
                  <a:ext cx="0" cy="29718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2286000" y="6019920"/>
                  <a:ext cx="5257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2" name=""/>
              <p:cNvSpPr/>
              <p:nvPr/>
            </p:nvSpPr>
            <p:spPr>
              <a:xfrm flipV="1">
                <a:off x="45720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59436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866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7150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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3434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71800" y="3429000"/>
                <a:ext cx="1295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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r>
                  <a:rPr b="0" lang="hr-HR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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320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38862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6629400" y="5943240"/>
                <a:ext cx="0" cy="15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6576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400800" y="609588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4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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2819520" y="4191120"/>
                <a:ext cx="4343400" cy="1828800"/>
                <a:chOff x="2819520" y="4191120"/>
                <a:chExt cx="4343400" cy="182880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2819520" y="4191120"/>
                  <a:ext cx="10666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886200" y="4191120"/>
                  <a:ext cx="6858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572000" y="60199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5943600" y="4191120"/>
                  <a:ext cx="685800" cy="18288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629400" y="4191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9" name=""/>
            <p:cNvGrpSpPr/>
            <p:nvPr/>
          </p:nvGrpSpPr>
          <p:grpSpPr>
            <a:xfrm>
              <a:off x="2286000" y="3962520"/>
              <a:ext cx="609480" cy="458280"/>
              <a:chOff x="2286000" y="3962520"/>
              <a:chExt cx="609480" cy="458280"/>
            </a:xfrm>
          </p:grpSpPr>
          <p:sp>
            <p:nvSpPr>
              <p:cNvPr id="1960" name=""/>
              <p:cNvSpPr/>
              <p:nvPr/>
            </p:nvSpPr>
            <p:spPr>
              <a:xfrm>
                <a:off x="2286000" y="396252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743200" y="4191120"/>
                <a:ext cx="152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6465-1776-43D3-A3A9-6DC2EFE66B7B}" type="slidenum">
              <a:t>35</a:t>
            </a:fld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iltarski korektor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9480" y="16765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razliku od selektivnih filtara, nemaju jasno definirana područja propuštanja odnosno područja guš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luže za korekciju frekvencijske karakteristike nekog drugog susta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zirom na činjenicu dali korigiraju amplitudno/frek. ili fazno/frek. karakteristiku sustava dijele se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e korektore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azne korek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E670-32E5-43C4-8831-EC6EAFEF80CA}" type="slidenum">
              <a:t>36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4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4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3" dur="2000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azni korektor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09480" y="1676520"/>
            <a:ext cx="8382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jčešće se koriste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svepropusni filtr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/frek. karakteristika im je ravna u cijelom frekvencijskom području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ve su frekvencijske komponente signala prenesene bez prigušenja, ali su fazno pomaknute prema definiranim filtarskim specifikacija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762120" y="4572000"/>
            <a:ext cx="6400800" cy="2210760"/>
            <a:chOff x="762120" y="4572000"/>
            <a:chExt cx="6400800" cy="2210760"/>
          </a:xfrm>
        </p:grpSpPr>
        <p:sp>
          <p:nvSpPr>
            <p:cNvPr id="1967" name=""/>
            <p:cNvSpPr/>
            <p:nvPr/>
          </p:nvSpPr>
          <p:spPr>
            <a:xfrm flipV="1">
              <a:off x="2362320" y="4647960"/>
              <a:ext cx="0" cy="198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28800" y="6248520"/>
              <a:ext cx="52578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629400" y="632448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2120" y="4572000"/>
              <a:ext cx="1295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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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286000" y="632448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362320" y="5181480"/>
              <a:ext cx="4419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3" name=""/>
            <p:cNvGrpSpPr/>
            <p:nvPr/>
          </p:nvGrpSpPr>
          <p:grpSpPr>
            <a:xfrm>
              <a:off x="1828800" y="4952880"/>
              <a:ext cx="609480" cy="458280"/>
              <a:chOff x="1828800" y="4952880"/>
              <a:chExt cx="609480" cy="458280"/>
            </a:xfrm>
          </p:grpSpPr>
          <p:sp>
            <p:nvSpPr>
              <p:cNvPr id="1974" name=""/>
              <p:cNvSpPr/>
              <p:nvPr/>
            </p:nvSpPr>
            <p:spPr>
              <a:xfrm>
                <a:off x="1828800" y="4952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286000" y="5181480"/>
                <a:ext cx="1522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F34F-C54E-4DE8-BA1C-DCEF88C9CFE9}" type="slidenum">
              <a:t>37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0" dur="500"/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Litera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09480" y="16765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f. dr. sc. Neven Mijat, Zavodska skripta: Električki filtri, FER, ZESOI 199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BE80-3D48-466C-A086-C2EB721847E2}" type="slidenum">
              <a:t>38</a:t>
            </a:fld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1979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1980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70048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1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7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1988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ece4f3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efe4f9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ece4f3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2286000" y="1676160"/>
            <a:ext cx="5867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gitalna obradba sign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A78A-7792-4876-B5B3-0609B247CA3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Defini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838224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ar je naprava ili sistem koji na određeni unaprijed propisani način vrši konverziju veličina na svojim ulazima u veličine na svojim izlaz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lj:   umanjiti neželjena svojstva ulaznih veliči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držati ili istaknuti željena svojst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ktrički filtar je sistem čije su ulazne i izlazne veličine električki signa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jegova funkcija je da na propisani način promjeni karakteristike spektra ulaznog signal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in "električki" vezan je za karakter signala kojeg se tim filtrom obrađuje (ne ovisi o načinu izvedb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D2F7-0352-488F-B81E-92E11A316F7B}" type="slidenum">
              <a:t>4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37160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Sadržaj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jektiranje analognih fil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utterwothova aproksim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Chebyshevljeva aproksimacija (Tip 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Chebyshevljeva aproksimacija (Tip 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liptička ili Cauerova aproksim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226-AFF0-46F3-985A-CAC0E3BE4BFD}" type="slidenum">
              <a:t>40</a:t>
            </a:fld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1" dur="500"/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500"/>
                                        <p:tgtEl>
                                          <p:spTgt spid="1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447920" y="28191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1. Projektiranje analognih filte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3713-3162-4450-A15A-09AEDC69D1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jektiranje analognih filte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09480" y="1676520"/>
            <a:ext cx="8382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jektiranje analognog filtra kreće od definicije zahtjeva koji taj filter mora zadovoljit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ranice u području propuštan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granice u području guš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blem aproksimacije svodi se na nalaženje frekv. karakteristike koja zadovoljava traženi zahtj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kav sustav mora bit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stvarlj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što nižeg re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tabi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28C8-5FB5-45A1-9527-8FA33B2B12AF}" type="slidenum">
              <a:t>42</a:t>
            </a:fld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5000" fill="hold"/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5000" fill="hold"/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1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800"/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jektiranje analognih filte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09480" y="1676520"/>
            <a:ext cx="8382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mjer specifikacije amplitudne karakteristike pojasno propusnog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2" name=""/>
          <p:cNvGrpSpPr/>
          <p:nvPr/>
        </p:nvGrpSpPr>
        <p:grpSpPr>
          <a:xfrm>
            <a:off x="1219320" y="2743200"/>
            <a:ext cx="6019560" cy="3937680"/>
            <a:chOff x="1219320" y="2743200"/>
            <a:chExt cx="6019560" cy="3937680"/>
          </a:xfrm>
        </p:grpSpPr>
        <p:sp>
          <p:nvSpPr>
            <p:cNvPr id="2003" name=""/>
            <p:cNvSpPr/>
            <p:nvPr/>
          </p:nvSpPr>
          <p:spPr>
            <a:xfrm>
              <a:off x="2133720" y="3962520"/>
              <a:ext cx="152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133720" y="4419720"/>
              <a:ext cx="152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133720" y="5334120"/>
              <a:ext cx="152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209680" y="3200400"/>
              <a:ext cx="4878360" cy="2135160"/>
            </a:xfrm>
            <a:custGeom>
              <a:avLst/>
              <a:gdLst/>
              <a:ahLst/>
              <a:rect l="l" t="t" r="r" b="b"/>
              <a:pathLst>
                <a:path w="3073" h="1345">
                  <a:moveTo>
                    <a:pt x="0" y="1344"/>
                  </a:moveTo>
                  <a:lnTo>
                    <a:pt x="720" y="1344"/>
                  </a:lnTo>
                  <a:lnTo>
                    <a:pt x="720" y="480"/>
                  </a:lnTo>
                  <a:lnTo>
                    <a:pt x="2256" y="480"/>
                  </a:lnTo>
                  <a:lnTo>
                    <a:pt x="2256" y="1296"/>
                  </a:lnTo>
                  <a:lnTo>
                    <a:pt x="3072" y="1296"/>
                  </a:lnTo>
                  <a:lnTo>
                    <a:pt x="3072" y="0"/>
                  </a:lnTo>
                  <a:lnTo>
                    <a:pt x="0" y="0"/>
                  </a:lnTo>
                  <a:lnTo>
                    <a:pt x="0" y="134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209680" y="3962520"/>
              <a:ext cx="4876920" cy="1371600"/>
              <a:chOff x="2209680" y="3962520"/>
              <a:chExt cx="4876920" cy="1371600"/>
            </a:xfrm>
          </p:grpSpPr>
          <p:sp>
            <p:nvSpPr>
              <p:cNvPr id="2008" name=""/>
              <p:cNvSpPr/>
              <p:nvPr/>
            </p:nvSpPr>
            <p:spPr>
              <a:xfrm>
                <a:off x="2209680" y="5334120"/>
                <a:ext cx="114300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3352680" y="3962520"/>
                <a:ext cx="0" cy="13716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52680" y="3962520"/>
                <a:ext cx="243864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791320" y="3962520"/>
                <a:ext cx="0" cy="1295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91320" y="5257800"/>
                <a:ext cx="129528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3886200" y="4419720"/>
              <a:ext cx="1447920" cy="160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3886200" y="4419360"/>
              <a:ext cx="1447920" cy="1600560"/>
              <a:chOff x="3886200" y="4419360"/>
              <a:chExt cx="1447920" cy="160056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3886200" y="4419360"/>
                <a:ext cx="0" cy="1600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886200" y="4419720"/>
                <a:ext cx="144792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334120" y="4419720"/>
                <a:ext cx="0" cy="1600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8" name=""/>
            <p:cNvSpPr/>
            <p:nvPr/>
          </p:nvSpPr>
          <p:spPr>
            <a:xfrm>
              <a:off x="2209680" y="6019920"/>
              <a:ext cx="4876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352680" y="5943600"/>
              <a:ext cx="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791320" y="5943600"/>
              <a:ext cx="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34120" y="5943600"/>
              <a:ext cx="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886200" y="5943600"/>
              <a:ext cx="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209680" y="2895120"/>
              <a:ext cx="0" cy="3124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048120" y="6172200"/>
              <a:ext cx="533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581280" y="6172200"/>
              <a:ext cx="533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029200" y="6172200"/>
              <a:ext cx="533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86400" y="6172200"/>
              <a:ext cx="533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705720" y="609588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523880" y="373392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19320" y="419112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Book Antiqua"/>
                </a:rPr>
                <a:t>ma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19320" y="502920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Book Antiqua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209680" y="274320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</a:t>
              </a:r>
              <a:r>
                <a:rPr b="0" lang="hr-HR" sz="2400" spc="-1" strike="noStrike">
                  <a:solidFill>
                    <a:srgbClr val="ffff00"/>
                  </a:solidFill>
                  <a:latin typeface="Times New Roman"/>
                </a:rPr>
                <a:t>dB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5489-D11B-49E0-A4B2-73D2180DEEA7}" type="slidenum">
              <a:t>43</a:t>
            </a:fld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jektiranje analognih filte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09480" y="1676520"/>
            <a:ext cx="8382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d većine postupaka aproksimacije polazi se od idealne karakteristike nisko-propusnog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NP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rekvencijskim transformacijama ta se nisko propusna karakteristika transformira u bilo koju željenu karakteristik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isoko propusn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VP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no propusn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PP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asnu bran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PB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rekvencijska os prototip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je normirana na graničnu frekvenciju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BE4E-095D-458B-B88E-CF0ACCD0490B}" type="slidenum">
              <a:t>44</a:t>
            </a:fld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2000"/>
                                        <p:tgtEl>
                                          <p:spTgt spid="2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2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ototip NP analogni filter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a karakteristika idealnog normiranog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dana je izraz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2717640" y="2651040"/>
                <a:ext cx="3370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</m:t>
                                    </m:r>
                                  </m:e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</m:t>
                                    </m:r>
                                  </m:e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mr>
                              </m:m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38" name=""/>
          <p:cNvGrpSpPr/>
          <p:nvPr/>
        </p:nvGrpSpPr>
        <p:grpSpPr>
          <a:xfrm>
            <a:off x="2246400" y="3527280"/>
            <a:ext cx="5145120" cy="3007800"/>
            <a:chOff x="2246400" y="3527280"/>
            <a:chExt cx="5145120" cy="3007800"/>
          </a:xfrm>
        </p:grpSpPr>
        <p:sp>
          <p:nvSpPr>
            <p:cNvPr id="2039" name=""/>
            <p:cNvSpPr/>
            <p:nvPr/>
          </p:nvSpPr>
          <p:spPr>
            <a:xfrm>
              <a:off x="3429000" y="3657600"/>
              <a:ext cx="0" cy="2362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429000" y="6019920"/>
              <a:ext cx="39625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429000" y="4267080"/>
              <a:ext cx="198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410080" y="4267080"/>
              <a:ext cx="0" cy="1752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3" name=""/>
                <p:cNvSpPr txBox="1"/>
                <p:nvPr/>
              </p:nvSpPr>
              <p:spPr>
                <a:xfrm>
                  <a:off x="2246400" y="3527280"/>
                  <a:ext cx="101916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44" name=""/>
            <p:cNvSpPr/>
            <p:nvPr/>
          </p:nvSpPr>
          <p:spPr>
            <a:xfrm>
              <a:off x="6871320" y="607680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71840" y="6076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138120" y="4095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214440" y="6076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235080" y="4502160"/>
            <a:ext cx="3879360" cy="983880"/>
            <a:chOff x="235080" y="4502160"/>
            <a:chExt cx="3879360" cy="983880"/>
          </a:xfrm>
        </p:grpSpPr>
        <p:sp>
          <p:nvSpPr>
            <p:cNvPr id="2049" name=""/>
            <p:cNvSpPr/>
            <p:nvPr/>
          </p:nvSpPr>
          <p:spPr>
            <a:xfrm>
              <a:off x="235080" y="4502160"/>
              <a:ext cx="2806560" cy="458280"/>
            </a:xfrm>
            <a:prstGeom prst="rect">
              <a:avLst/>
            </a:prstGeom>
            <a:noFill/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dručje propuštan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 flipV="1">
              <a:off x="3047760" y="4723920"/>
              <a:ext cx="1066680" cy="7621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5867280" y="3968640"/>
            <a:ext cx="3041640" cy="1289160"/>
            <a:chOff x="5867280" y="3968640"/>
            <a:chExt cx="3041640" cy="1289160"/>
          </a:xfrm>
        </p:grpSpPr>
        <p:sp>
          <p:nvSpPr>
            <p:cNvPr id="2052" name=""/>
            <p:cNvSpPr/>
            <p:nvPr/>
          </p:nvSpPr>
          <p:spPr>
            <a:xfrm>
              <a:off x="6102360" y="3968640"/>
              <a:ext cx="2806560" cy="458280"/>
            </a:xfrm>
            <a:prstGeom prst="rect">
              <a:avLst/>
            </a:prstGeom>
            <a:noFill/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dručje gušen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5867280" y="4419720"/>
              <a:ext cx="1219320" cy="8380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AFBD-D996-4D65-996E-C8B034285450}" type="slidenum">
              <a:t>45</a:t>
            </a:fld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0" fill="hold"/>
                                        <p:tgtEl>
                                          <p:spTgt spid="2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0" fill="hold"/>
                                        <p:tgtEl>
                                          <p:spTgt spid="2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Amplitudno frekvencijska karakteristik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filter zadan prijenosnom funkcijom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1417680" y="2265480"/>
                <a:ext cx="5675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7" name=""/>
          <p:cNvSpPr/>
          <p:nvPr/>
        </p:nvSpPr>
        <p:spPr>
          <a:xfrm>
            <a:off x="611280" y="28195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nosno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2187720" y="3379680"/>
                <a:ext cx="4125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9" name=""/>
          <p:cNvSpPr/>
          <p:nvPr/>
        </p:nvSpPr>
        <p:spPr>
          <a:xfrm>
            <a:off x="611280" y="38862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postupku aproksimacije pogodno je koristiti karakterističnu funkciju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2697120" y="4921200"/>
                <a:ext cx="3427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61" name=""/>
          <p:cNvGrpSpPr/>
          <p:nvPr/>
        </p:nvGrpSpPr>
        <p:grpSpPr>
          <a:xfrm>
            <a:off x="4610160" y="4330800"/>
            <a:ext cx="2046240" cy="2033640"/>
            <a:chOff x="4610160" y="4330800"/>
            <a:chExt cx="2046240" cy="2033640"/>
          </a:xfrm>
        </p:grpSpPr>
        <p:sp>
          <p:nvSpPr>
            <p:cNvPr id="2062" name=""/>
            <p:cNvSpPr/>
            <p:nvPr/>
          </p:nvSpPr>
          <p:spPr>
            <a:xfrm>
              <a:off x="4610160" y="4330800"/>
              <a:ext cx="763560" cy="509400"/>
            </a:xfrm>
            <a:custGeom>
              <a:avLst/>
              <a:gdLst/>
              <a:ahLst/>
              <a:rect l="l" t="t" r="r" b="b"/>
              <a:pathLst>
                <a:path w="481" h="321">
                  <a:moveTo>
                    <a:pt x="216" y="22"/>
                  </a:moveTo>
                  <a:lnTo>
                    <a:pt x="184" y="24"/>
                  </a:lnTo>
                  <a:lnTo>
                    <a:pt x="160" y="24"/>
                  </a:lnTo>
                  <a:lnTo>
                    <a:pt x="128" y="32"/>
                  </a:lnTo>
                  <a:lnTo>
                    <a:pt x="104" y="32"/>
                  </a:lnTo>
                  <a:lnTo>
                    <a:pt x="80" y="32"/>
                  </a:lnTo>
                  <a:lnTo>
                    <a:pt x="56" y="32"/>
                  </a:lnTo>
                  <a:lnTo>
                    <a:pt x="40" y="56"/>
                  </a:lnTo>
                  <a:lnTo>
                    <a:pt x="16" y="72"/>
                  </a:lnTo>
                  <a:lnTo>
                    <a:pt x="8" y="96"/>
                  </a:lnTo>
                  <a:lnTo>
                    <a:pt x="8" y="120"/>
                  </a:lnTo>
                  <a:lnTo>
                    <a:pt x="0" y="144"/>
                  </a:lnTo>
                  <a:lnTo>
                    <a:pt x="0" y="168"/>
                  </a:lnTo>
                  <a:lnTo>
                    <a:pt x="0" y="192"/>
                  </a:lnTo>
                  <a:lnTo>
                    <a:pt x="0" y="216"/>
                  </a:lnTo>
                  <a:lnTo>
                    <a:pt x="16" y="240"/>
                  </a:lnTo>
                  <a:lnTo>
                    <a:pt x="40" y="256"/>
                  </a:lnTo>
                  <a:lnTo>
                    <a:pt x="64" y="272"/>
                  </a:lnTo>
                  <a:lnTo>
                    <a:pt x="120" y="280"/>
                  </a:lnTo>
                  <a:lnTo>
                    <a:pt x="144" y="288"/>
                  </a:lnTo>
                  <a:lnTo>
                    <a:pt x="208" y="296"/>
                  </a:lnTo>
                  <a:lnTo>
                    <a:pt x="232" y="296"/>
                  </a:lnTo>
                  <a:lnTo>
                    <a:pt x="256" y="304"/>
                  </a:lnTo>
                  <a:lnTo>
                    <a:pt x="280" y="312"/>
                  </a:lnTo>
                  <a:lnTo>
                    <a:pt x="312" y="312"/>
                  </a:lnTo>
                  <a:lnTo>
                    <a:pt x="336" y="320"/>
                  </a:lnTo>
                  <a:lnTo>
                    <a:pt x="360" y="320"/>
                  </a:lnTo>
                  <a:lnTo>
                    <a:pt x="384" y="320"/>
                  </a:lnTo>
                  <a:lnTo>
                    <a:pt x="408" y="320"/>
                  </a:lnTo>
                  <a:lnTo>
                    <a:pt x="432" y="312"/>
                  </a:lnTo>
                  <a:lnTo>
                    <a:pt x="440" y="288"/>
                  </a:lnTo>
                  <a:lnTo>
                    <a:pt x="448" y="264"/>
                  </a:lnTo>
                  <a:lnTo>
                    <a:pt x="464" y="240"/>
                  </a:lnTo>
                  <a:lnTo>
                    <a:pt x="472" y="216"/>
                  </a:lnTo>
                  <a:lnTo>
                    <a:pt x="480" y="192"/>
                  </a:lnTo>
                  <a:lnTo>
                    <a:pt x="480" y="168"/>
                  </a:lnTo>
                  <a:lnTo>
                    <a:pt x="480" y="144"/>
                  </a:lnTo>
                  <a:lnTo>
                    <a:pt x="480" y="120"/>
                  </a:lnTo>
                  <a:lnTo>
                    <a:pt x="472" y="96"/>
                  </a:lnTo>
                  <a:lnTo>
                    <a:pt x="464" y="72"/>
                  </a:lnTo>
                  <a:lnTo>
                    <a:pt x="440" y="56"/>
                  </a:lnTo>
                  <a:lnTo>
                    <a:pt x="416" y="40"/>
                  </a:lnTo>
                  <a:lnTo>
                    <a:pt x="392" y="32"/>
                  </a:lnTo>
                  <a:lnTo>
                    <a:pt x="368" y="16"/>
                  </a:lnTo>
                  <a:lnTo>
                    <a:pt x="344" y="0"/>
                  </a:lnTo>
                  <a:lnTo>
                    <a:pt x="320" y="0"/>
                  </a:lnTo>
                  <a:lnTo>
                    <a:pt x="296" y="0"/>
                  </a:lnTo>
                  <a:lnTo>
                    <a:pt x="272" y="0"/>
                  </a:lnTo>
                  <a:lnTo>
                    <a:pt x="242" y="16"/>
                  </a:lnTo>
                  <a:lnTo>
                    <a:pt x="219" y="20"/>
                  </a:lnTo>
                  <a:lnTo>
                    <a:pt x="216" y="22"/>
                  </a:lnTo>
                </a:path>
              </a:pathLst>
            </a:custGeom>
            <a:noFill/>
            <a:ln cap="rnd" w="255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89480" y="4829040"/>
              <a:ext cx="1366920" cy="1535400"/>
            </a:xfrm>
            <a:custGeom>
              <a:avLst/>
              <a:gdLst/>
              <a:ahLst/>
              <a:rect l="l" t="t" r="r" b="b"/>
              <a:pathLst>
                <a:path w="861" h="967">
                  <a:moveTo>
                    <a:pt x="3" y="0"/>
                  </a:moveTo>
                  <a:lnTo>
                    <a:pt x="0" y="2"/>
                  </a:lnTo>
                  <a:lnTo>
                    <a:pt x="12" y="14"/>
                  </a:lnTo>
                  <a:lnTo>
                    <a:pt x="36" y="30"/>
                  </a:lnTo>
                  <a:lnTo>
                    <a:pt x="84" y="38"/>
                  </a:lnTo>
                  <a:lnTo>
                    <a:pt x="116" y="38"/>
                  </a:lnTo>
                  <a:lnTo>
                    <a:pt x="140" y="46"/>
                  </a:lnTo>
                  <a:lnTo>
                    <a:pt x="172" y="46"/>
                  </a:lnTo>
                  <a:lnTo>
                    <a:pt x="204" y="54"/>
                  </a:lnTo>
                  <a:lnTo>
                    <a:pt x="284" y="62"/>
                  </a:lnTo>
                  <a:lnTo>
                    <a:pt x="348" y="62"/>
                  </a:lnTo>
                  <a:lnTo>
                    <a:pt x="372" y="62"/>
                  </a:lnTo>
                  <a:lnTo>
                    <a:pt x="396" y="70"/>
                  </a:lnTo>
                  <a:lnTo>
                    <a:pt x="420" y="78"/>
                  </a:lnTo>
                  <a:lnTo>
                    <a:pt x="468" y="86"/>
                  </a:lnTo>
                  <a:lnTo>
                    <a:pt x="516" y="102"/>
                  </a:lnTo>
                  <a:lnTo>
                    <a:pt x="580" y="118"/>
                  </a:lnTo>
                  <a:lnTo>
                    <a:pt x="644" y="134"/>
                  </a:lnTo>
                  <a:lnTo>
                    <a:pt x="676" y="158"/>
                  </a:lnTo>
                  <a:lnTo>
                    <a:pt x="724" y="174"/>
                  </a:lnTo>
                  <a:lnTo>
                    <a:pt x="748" y="198"/>
                  </a:lnTo>
                  <a:lnTo>
                    <a:pt x="780" y="262"/>
                  </a:lnTo>
                  <a:lnTo>
                    <a:pt x="788" y="310"/>
                  </a:lnTo>
                  <a:lnTo>
                    <a:pt x="804" y="342"/>
                  </a:lnTo>
                  <a:lnTo>
                    <a:pt x="820" y="406"/>
                  </a:lnTo>
                  <a:lnTo>
                    <a:pt x="828" y="470"/>
                  </a:lnTo>
                  <a:lnTo>
                    <a:pt x="844" y="534"/>
                  </a:lnTo>
                  <a:lnTo>
                    <a:pt x="852" y="566"/>
                  </a:lnTo>
                  <a:lnTo>
                    <a:pt x="852" y="598"/>
                  </a:lnTo>
                  <a:lnTo>
                    <a:pt x="860" y="646"/>
                  </a:lnTo>
                  <a:lnTo>
                    <a:pt x="860" y="678"/>
                  </a:lnTo>
                  <a:lnTo>
                    <a:pt x="860" y="726"/>
                  </a:lnTo>
                  <a:lnTo>
                    <a:pt x="860" y="774"/>
                  </a:lnTo>
                  <a:lnTo>
                    <a:pt x="852" y="806"/>
                  </a:lnTo>
                  <a:lnTo>
                    <a:pt x="844" y="854"/>
                  </a:lnTo>
                  <a:lnTo>
                    <a:pt x="828" y="878"/>
                  </a:lnTo>
                  <a:lnTo>
                    <a:pt x="796" y="902"/>
                  </a:lnTo>
                  <a:lnTo>
                    <a:pt x="764" y="926"/>
                  </a:lnTo>
                  <a:lnTo>
                    <a:pt x="732" y="934"/>
                  </a:lnTo>
                  <a:lnTo>
                    <a:pt x="676" y="942"/>
                  </a:lnTo>
                  <a:lnTo>
                    <a:pt x="628" y="950"/>
                  </a:lnTo>
                  <a:lnTo>
                    <a:pt x="564" y="958"/>
                  </a:lnTo>
                  <a:lnTo>
                    <a:pt x="516" y="958"/>
                  </a:lnTo>
                  <a:lnTo>
                    <a:pt x="452" y="966"/>
                  </a:lnTo>
                  <a:lnTo>
                    <a:pt x="404" y="966"/>
                  </a:lnTo>
                  <a:lnTo>
                    <a:pt x="380" y="966"/>
                  </a:lnTo>
                  <a:lnTo>
                    <a:pt x="348" y="966"/>
                  </a:lnTo>
                  <a:lnTo>
                    <a:pt x="324" y="966"/>
                  </a:lnTo>
                  <a:lnTo>
                    <a:pt x="260" y="958"/>
                  </a:lnTo>
                  <a:lnTo>
                    <a:pt x="212" y="950"/>
                  </a:lnTo>
                  <a:lnTo>
                    <a:pt x="148" y="926"/>
                  </a:lnTo>
                  <a:lnTo>
                    <a:pt x="124" y="910"/>
                  </a:lnTo>
                  <a:lnTo>
                    <a:pt x="100" y="894"/>
                  </a:lnTo>
                  <a:lnTo>
                    <a:pt x="84" y="870"/>
                  </a:lnTo>
                  <a:lnTo>
                    <a:pt x="52" y="814"/>
                  </a:lnTo>
                  <a:lnTo>
                    <a:pt x="28" y="782"/>
                  </a:lnTo>
                  <a:lnTo>
                    <a:pt x="20" y="758"/>
                  </a:lnTo>
                  <a:lnTo>
                    <a:pt x="4" y="726"/>
                  </a:lnTo>
                </a:path>
              </a:pathLst>
            </a:custGeom>
            <a:noFill/>
            <a:ln cap="rnd" w="25560">
              <a:solidFill>
                <a:srgbClr val="d6009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E457-9CD8-45B1-9447-A7D0EE00B7DC}" type="slidenum">
              <a:t>46</a:t>
            </a:fld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Karakteristična funkcij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(s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... racionalana funkcija kompleksne varijabl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3394080" y="2122560"/>
                <a:ext cx="1712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611280" y="290844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( 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bližno jednak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području propušt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što veći u području guše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rajnji cilj je nalaženje prijenosne funkcije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1620720" y="4630680"/>
                <a:ext cx="17845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69" name=""/>
          <p:cNvGrpSpPr/>
          <p:nvPr/>
        </p:nvGrpSpPr>
        <p:grpSpPr>
          <a:xfrm>
            <a:off x="3543480" y="4635360"/>
            <a:ext cx="3441600" cy="824040"/>
            <a:chOff x="3543480" y="4635360"/>
            <a:chExt cx="3441600" cy="824040"/>
          </a:xfrm>
        </p:grpSpPr>
        <p:sp>
          <p:nvSpPr>
            <p:cNvPr id="2070" name=""/>
            <p:cNvSpPr/>
            <p:nvPr/>
          </p:nvSpPr>
          <p:spPr>
            <a:xfrm>
              <a:off x="4419720" y="4635360"/>
              <a:ext cx="2565360" cy="824040"/>
            </a:xfrm>
            <a:prstGeom prst="rect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Polinomi kompl. varijable 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 flipV="1">
              <a:off x="3555720" y="4838400"/>
              <a:ext cx="850680" cy="2286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3543480" y="5067360"/>
              <a:ext cx="901440" cy="1778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3" name=""/>
          <p:cNvSpPr/>
          <p:nvPr/>
        </p:nvSpPr>
        <p:spPr>
          <a:xfrm>
            <a:off x="598320" y="561348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varljivos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nos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11280" y="28195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550C-9F28-4AFC-8B31-8018CAB6B118}" type="slidenum">
              <a:t>47</a:t>
            </a:fld>
          </a:p>
        </p:txBody>
      </p:sp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9" dur="500"/>
                                        <p:tgtEl>
                                          <p:spTgt spid="2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2000"/>
                                        <p:tgtEl>
                                          <p:spTgt spid="2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0" fill="hold"/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0" fill="hold"/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8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445760" y="2819160"/>
            <a:ext cx="769644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2. Butterworthova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3831-AB2C-4F28-853E-6095F92A539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Butterworthova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akteristična funkcija je zadana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2787480" y="2279520"/>
                <a:ext cx="2909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80" name=""/>
          <p:cNvGrpSpPr/>
          <p:nvPr/>
        </p:nvGrpSpPr>
        <p:grpSpPr>
          <a:xfrm>
            <a:off x="5715000" y="2197080"/>
            <a:ext cx="3098880" cy="824040"/>
            <a:chOff x="5715000" y="2197080"/>
            <a:chExt cx="3098880" cy="824040"/>
          </a:xfrm>
        </p:grpSpPr>
        <p:sp>
          <p:nvSpPr>
            <p:cNvPr id="2081" name=""/>
            <p:cNvSpPr/>
            <p:nvPr/>
          </p:nvSpPr>
          <p:spPr>
            <a:xfrm>
              <a:off x="6248520" y="2197080"/>
              <a:ext cx="2565360" cy="824040"/>
            </a:xfrm>
            <a:prstGeom prst="rect">
              <a:avLst/>
            </a:prstGeom>
            <a:noFill/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... stupanj prijenosne funkcij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 flipV="1">
              <a:off x="5715000" y="2438280"/>
              <a:ext cx="520560" cy="1908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611280" y="3060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slijedi amplitudno/frekv. karakteristika filtr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2685960" y="3575160"/>
                <a:ext cx="34448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5" name=""/>
          <p:cNvSpPr/>
          <p:nvPr/>
        </p:nvSpPr>
        <p:spPr>
          <a:xfrm>
            <a:off x="612720" y="4356000"/>
            <a:ext cx="8381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z graničnu frekvenciju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finiranu ka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2819520" y="4876920"/>
                <a:ext cx="38224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552760" y="5729400"/>
                <a:ext cx="40068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F3CD-CC5B-47FD-8F6B-4972C789F1DE}" type="slidenum">
              <a:t>49</a:t>
            </a:fld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nalogni električki filt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3619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2. 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C952-F2E1-4BAB-8AE1-075F65F7F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Butterworthova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utterworth filter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6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798480" y="2238120"/>
            <a:ext cx="6873480" cy="4525560"/>
            <a:chOff x="798480" y="2238120"/>
            <a:chExt cx="6873480" cy="4525560"/>
          </a:xfrm>
        </p:grpSpPr>
        <p:sp>
          <p:nvSpPr>
            <p:cNvPr id="2091" name=""/>
            <p:cNvSpPr/>
            <p:nvPr/>
          </p:nvSpPr>
          <p:spPr>
            <a:xfrm flipV="1">
              <a:off x="223668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303228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382896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3536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543096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622620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702144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236680" y="631512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236680" y="568656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236680" y="505764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236680" y="444024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236680" y="381168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236680" y="318276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236680" y="255276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36680" y="2552760"/>
              <a:ext cx="4786560" cy="3763800"/>
            </a:xfrm>
            <a:custGeom>
              <a:avLst/>
              <a:gdLst/>
              <a:ahLst/>
              <a:rect l="l" t="t" r="r" b="b"/>
              <a:pathLst>
                <a:path w="3015" h="2371">
                  <a:moveTo>
                    <a:pt x="0" y="2370"/>
                  </a:moveTo>
                  <a:lnTo>
                    <a:pt x="0" y="0"/>
                  </a:lnTo>
                  <a:lnTo>
                    <a:pt x="301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236680" y="2552760"/>
              <a:ext cx="4786560" cy="3763800"/>
            </a:xfrm>
            <a:custGeom>
              <a:avLst/>
              <a:gdLst/>
              <a:ahLst/>
              <a:rect l="l" t="t" r="r" b="b"/>
              <a:pathLst>
                <a:path w="3015" h="2371">
                  <a:moveTo>
                    <a:pt x="0" y="2370"/>
                  </a:moveTo>
                  <a:lnTo>
                    <a:pt x="0" y="0"/>
                  </a:lnTo>
                  <a:lnTo>
                    <a:pt x="301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36680" y="2552760"/>
              <a:ext cx="4786560" cy="3763800"/>
            </a:xfrm>
            <a:custGeom>
              <a:avLst/>
              <a:gdLst/>
              <a:ahLst/>
              <a:rect l="l" t="t" r="r" b="b"/>
              <a:pathLst>
                <a:path w="3015" h="2371">
                  <a:moveTo>
                    <a:pt x="0" y="2370"/>
                  </a:moveTo>
                  <a:lnTo>
                    <a:pt x="0" y="0"/>
                  </a:lnTo>
                  <a:lnTo>
                    <a:pt x="301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236680" y="631512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236680" y="255276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223668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702144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236680" y="25527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021440" y="6315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36680" y="631512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23668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36680" y="6315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223668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23668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303228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3228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382896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289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463536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353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543096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4309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22620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2620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7021440" y="627012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144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1" name=""/>
            <p:cNvGrpSpPr/>
            <p:nvPr/>
          </p:nvGrpSpPr>
          <p:grpSpPr>
            <a:xfrm>
              <a:off x="2066040" y="6334200"/>
              <a:ext cx="5111640" cy="397440"/>
              <a:chOff x="2066040" y="6334200"/>
              <a:chExt cx="5111640" cy="397440"/>
            </a:xfrm>
          </p:grpSpPr>
          <p:sp>
            <p:nvSpPr>
              <p:cNvPr id="2132" name=""/>
              <p:cNvSpPr/>
              <p:nvPr/>
            </p:nvSpPr>
            <p:spPr>
              <a:xfrm>
                <a:off x="206604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6300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65832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36464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26032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95692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85080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2236680" y="63151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6976800" y="63151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236680" y="56865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976800" y="56865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236680" y="50576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6976800" y="50576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236680" y="44402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6976800" y="44402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236680" y="38116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6976800" y="38116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36680" y="31827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6976800" y="31827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236680" y="25527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6976800" y="25527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3" name=""/>
            <p:cNvGrpSpPr/>
            <p:nvPr/>
          </p:nvGrpSpPr>
          <p:grpSpPr>
            <a:xfrm>
              <a:off x="1675080" y="2373480"/>
              <a:ext cx="553680" cy="4159800"/>
              <a:chOff x="1675080" y="2373480"/>
              <a:chExt cx="553680" cy="4159800"/>
            </a:xfrm>
          </p:grpSpPr>
          <p:sp>
            <p:nvSpPr>
              <p:cNvPr id="2154" name=""/>
              <p:cNvSpPr/>
              <p:nvPr/>
            </p:nvSpPr>
            <p:spPr>
              <a:xfrm>
                <a:off x="1675080" y="6135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675080" y="5506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675080" y="48783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675080" y="42609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675080" y="36306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675080" y="30020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874160" y="2373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2236680" y="6315120"/>
              <a:ext cx="5424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236680" y="2552760"/>
              <a:ext cx="478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236680" y="2238120"/>
              <a:ext cx="0" cy="4074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7021440" y="2552400"/>
              <a:ext cx="0" cy="376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36680" y="63151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021440" y="25527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52200" y="630540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8" name=""/>
                <p:cNvSpPr txBox="1"/>
                <p:nvPr/>
              </p:nvSpPr>
              <p:spPr>
                <a:xfrm>
                  <a:off x="798480" y="2384280"/>
                  <a:ext cx="101916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9" name=""/>
          <p:cNvGrpSpPr/>
          <p:nvPr/>
        </p:nvGrpSpPr>
        <p:grpSpPr>
          <a:xfrm>
            <a:off x="2236680" y="2133720"/>
            <a:ext cx="6070680" cy="1050840"/>
            <a:chOff x="2236680" y="2133720"/>
            <a:chExt cx="6070680" cy="1050840"/>
          </a:xfrm>
        </p:grpSpPr>
        <p:sp>
          <p:nvSpPr>
            <p:cNvPr id="2170" name=""/>
            <p:cNvSpPr/>
            <p:nvPr/>
          </p:nvSpPr>
          <p:spPr>
            <a:xfrm>
              <a:off x="2236680" y="2552760"/>
              <a:ext cx="4786560" cy="631800"/>
            </a:xfrm>
            <a:custGeom>
              <a:avLst/>
              <a:gdLst/>
              <a:ahLst/>
              <a:rect l="l" t="t" r="r" b="b"/>
              <a:pathLst>
                <a:path w="3015" h="398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53" y="7"/>
                  </a:lnTo>
                  <a:lnTo>
                    <a:pt x="160" y="7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8" y="7"/>
                  </a:lnTo>
                  <a:lnTo>
                    <a:pt x="202" y="7"/>
                  </a:lnTo>
                  <a:lnTo>
                    <a:pt x="209" y="7"/>
                  </a:lnTo>
                  <a:lnTo>
                    <a:pt x="223" y="7"/>
                  </a:lnTo>
                  <a:lnTo>
                    <a:pt x="230" y="7"/>
                  </a:lnTo>
                  <a:lnTo>
                    <a:pt x="244" y="7"/>
                  </a:lnTo>
                  <a:lnTo>
                    <a:pt x="251" y="7"/>
                  </a:lnTo>
                  <a:lnTo>
                    <a:pt x="265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93" y="14"/>
                  </a:lnTo>
                  <a:lnTo>
                    <a:pt x="299" y="14"/>
                  </a:lnTo>
                  <a:lnTo>
                    <a:pt x="313" y="14"/>
                  </a:lnTo>
                  <a:lnTo>
                    <a:pt x="320" y="14"/>
                  </a:lnTo>
                  <a:lnTo>
                    <a:pt x="334" y="21"/>
                  </a:lnTo>
                  <a:lnTo>
                    <a:pt x="341" y="21"/>
                  </a:lnTo>
                  <a:lnTo>
                    <a:pt x="355" y="21"/>
                  </a:lnTo>
                  <a:lnTo>
                    <a:pt x="362" y="21"/>
                  </a:lnTo>
                  <a:lnTo>
                    <a:pt x="369" y="21"/>
                  </a:lnTo>
                  <a:lnTo>
                    <a:pt x="383" y="21"/>
                  </a:lnTo>
                  <a:lnTo>
                    <a:pt x="390" y="21"/>
                  </a:lnTo>
                  <a:lnTo>
                    <a:pt x="404" y="28"/>
                  </a:lnTo>
                  <a:lnTo>
                    <a:pt x="411" y="28"/>
                  </a:lnTo>
                  <a:lnTo>
                    <a:pt x="425" y="28"/>
                  </a:lnTo>
                  <a:lnTo>
                    <a:pt x="432" y="28"/>
                  </a:lnTo>
                  <a:lnTo>
                    <a:pt x="446" y="28"/>
                  </a:lnTo>
                  <a:lnTo>
                    <a:pt x="453" y="35"/>
                  </a:lnTo>
                  <a:lnTo>
                    <a:pt x="460" y="35"/>
                  </a:lnTo>
                  <a:lnTo>
                    <a:pt x="474" y="35"/>
                  </a:lnTo>
                  <a:lnTo>
                    <a:pt x="480" y="35"/>
                  </a:lnTo>
                  <a:lnTo>
                    <a:pt x="494" y="35"/>
                  </a:lnTo>
                  <a:lnTo>
                    <a:pt x="501" y="42"/>
                  </a:lnTo>
                  <a:lnTo>
                    <a:pt x="515" y="42"/>
                  </a:lnTo>
                  <a:lnTo>
                    <a:pt x="522" y="42"/>
                  </a:lnTo>
                  <a:lnTo>
                    <a:pt x="529" y="42"/>
                  </a:lnTo>
                  <a:lnTo>
                    <a:pt x="543" y="42"/>
                  </a:lnTo>
                  <a:lnTo>
                    <a:pt x="550" y="49"/>
                  </a:lnTo>
                  <a:lnTo>
                    <a:pt x="564" y="49"/>
                  </a:lnTo>
                  <a:lnTo>
                    <a:pt x="571" y="49"/>
                  </a:lnTo>
                  <a:lnTo>
                    <a:pt x="585" y="49"/>
                  </a:lnTo>
                  <a:lnTo>
                    <a:pt x="592" y="49"/>
                  </a:lnTo>
                  <a:lnTo>
                    <a:pt x="606" y="56"/>
                  </a:lnTo>
                  <a:lnTo>
                    <a:pt x="613" y="56"/>
                  </a:lnTo>
                  <a:lnTo>
                    <a:pt x="620" y="56"/>
                  </a:lnTo>
                  <a:lnTo>
                    <a:pt x="634" y="56"/>
                  </a:lnTo>
                  <a:lnTo>
                    <a:pt x="641" y="56"/>
                  </a:lnTo>
                  <a:lnTo>
                    <a:pt x="654" y="63"/>
                  </a:lnTo>
                  <a:lnTo>
                    <a:pt x="661" y="63"/>
                  </a:lnTo>
                  <a:lnTo>
                    <a:pt x="675" y="63"/>
                  </a:lnTo>
                  <a:lnTo>
                    <a:pt x="682" y="63"/>
                  </a:lnTo>
                  <a:lnTo>
                    <a:pt x="696" y="70"/>
                  </a:lnTo>
                  <a:lnTo>
                    <a:pt x="703" y="70"/>
                  </a:lnTo>
                  <a:lnTo>
                    <a:pt x="710" y="70"/>
                  </a:lnTo>
                  <a:lnTo>
                    <a:pt x="724" y="70"/>
                  </a:lnTo>
                  <a:lnTo>
                    <a:pt x="731" y="77"/>
                  </a:lnTo>
                  <a:lnTo>
                    <a:pt x="745" y="77"/>
                  </a:lnTo>
                  <a:lnTo>
                    <a:pt x="752" y="77"/>
                  </a:lnTo>
                  <a:lnTo>
                    <a:pt x="766" y="77"/>
                  </a:lnTo>
                  <a:lnTo>
                    <a:pt x="773" y="77"/>
                  </a:lnTo>
                  <a:lnTo>
                    <a:pt x="787" y="84"/>
                  </a:lnTo>
                  <a:lnTo>
                    <a:pt x="794" y="84"/>
                  </a:lnTo>
                  <a:lnTo>
                    <a:pt x="801" y="84"/>
                  </a:lnTo>
                  <a:lnTo>
                    <a:pt x="815" y="84"/>
                  </a:lnTo>
                  <a:lnTo>
                    <a:pt x="822" y="91"/>
                  </a:lnTo>
                  <a:lnTo>
                    <a:pt x="835" y="91"/>
                  </a:lnTo>
                  <a:lnTo>
                    <a:pt x="842" y="91"/>
                  </a:lnTo>
                  <a:lnTo>
                    <a:pt x="856" y="91"/>
                  </a:lnTo>
                  <a:lnTo>
                    <a:pt x="863" y="98"/>
                  </a:lnTo>
                  <a:lnTo>
                    <a:pt x="877" y="98"/>
                  </a:lnTo>
                  <a:lnTo>
                    <a:pt x="884" y="98"/>
                  </a:lnTo>
                  <a:lnTo>
                    <a:pt x="891" y="98"/>
                  </a:lnTo>
                  <a:lnTo>
                    <a:pt x="905" y="105"/>
                  </a:lnTo>
                  <a:lnTo>
                    <a:pt x="912" y="105"/>
                  </a:lnTo>
                  <a:lnTo>
                    <a:pt x="926" y="105"/>
                  </a:lnTo>
                  <a:lnTo>
                    <a:pt x="933" y="105"/>
                  </a:lnTo>
                  <a:lnTo>
                    <a:pt x="947" y="112"/>
                  </a:lnTo>
                  <a:lnTo>
                    <a:pt x="954" y="112"/>
                  </a:lnTo>
                  <a:lnTo>
                    <a:pt x="968" y="112"/>
                  </a:lnTo>
                  <a:lnTo>
                    <a:pt x="975" y="112"/>
                  </a:lnTo>
                  <a:lnTo>
                    <a:pt x="982" y="119"/>
                  </a:lnTo>
                  <a:lnTo>
                    <a:pt x="996" y="119"/>
                  </a:lnTo>
                  <a:lnTo>
                    <a:pt x="1003" y="119"/>
                  </a:lnTo>
                  <a:lnTo>
                    <a:pt x="1016" y="119"/>
                  </a:lnTo>
                  <a:lnTo>
                    <a:pt x="1023" y="126"/>
                  </a:lnTo>
                  <a:lnTo>
                    <a:pt x="1037" y="126"/>
                  </a:lnTo>
                  <a:lnTo>
                    <a:pt x="1044" y="126"/>
                  </a:lnTo>
                  <a:lnTo>
                    <a:pt x="1058" y="126"/>
                  </a:lnTo>
                  <a:lnTo>
                    <a:pt x="1065" y="133"/>
                  </a:lnTo>
                  <a:lnTo>
                    <a:pt x="1072" y="133"/>
                  </a:lnTo>
                  <a:lnTo>
                    <a:pt x="1086" y="133"/>
                  </a:lnTo>
                  <a:lnTo>
                    <a:pt x="1093" y="133"/>
                  </a:lnTo>
                  <a:lnTo>
                    <a:pt x="1107" y="139"/>
                  </a:lnTo>
                  <a:lnTo>
                    <a:pt x="1114" y="139"/>
                  </a:lnTo>
                  <a:lnTo>
                    <a:pt x="1128" y="139"/>
                  </a:lnTo>
                  <a:lnTo>
                    <a:pt x="1135" y="139"/>
                  </a:lnTo>
                  <a:lnTo>
                    <a:pt x="1149" y="146"/>
                  </a:lnTo>
                  <a:lnTo>
                    <a:pt x="1156" y="146"/>
                  </a:lnTo>
                  <a:lnTo>
                    <a:pt x="1163" y="146"/>
                  </a:lnTo>
                  <a:lnTo>
                    <a:pt x="1177" y="146"/>
                  </a:lnTo>
                  <a:lnTo>
                    <a:pt x="1183" y="153"/>
                  </a:lnTo>
                  <a:lnTo>
                    <a:pt x="1197" y="153"/>
                  </a:lnTo>
                  <a:lnTo>
                    <a:pt x="1204" y="153"/>
                  </a:lnTo>
                  <a:lnTo>
                    <a:pt x="1218" y="153"/>
                  </a:lnTo>
                  <a:lnTo>
                    <a:pt x="1225" y="160"/>
                  </a:lnTo>
                  <a:lnTo>
                    <a:pt x="1239" y="160"/>
                  </a:lnTo>
                  <a:lnTo>
                    <a:pt x="1246" y="160"/>
                  </a:lnTo>
                  <a:lnTo>
                    <a:pt x="1253" y="160"/>
                  </a:lnTo>
                  <a:lnTo>
                    <a:pt x="1267" y="160"/>
                  </a:lnTo>
                  <a:lnTo>
                    <a:pt x="1274" y="167"/>
                  </a:lnTo>
                  <a:lnTo>
                    <a:pt x="1288" y="167"/>
                  </a:lnTo>
                  <a:lnTo>
                    <a:pt x="1295" y="167"/>
                  </a:lnTo>
                  <a:lnTo>
                    <a:pt x="1309" y="167"/>
                  </a:lnTo>
                  <a:lnTo>
                    <a:pt x="1316" y="174"/>
                  </a:lnTo>
                  <a:lnTo>
                    <a:pt x="1330" y="174"/>
                  </a:lnTo>
                  <a:lnTo>
                    <a:pt x="1337" y="174"/>
                  </a:lnTo>
                  <a:lnTo>
                    <a:pt x="1344" y="174"/>
                  </a:lnTo>
                  <a:lnTo>
                    <a:pt x="1358" y="181"/>
                  </a:lnTo>
                  <a:lnTo>
                    <a:pt x="1364" y="181"/>
                  </a:lnTo>
                  <a:lnTo>
                    <a:pt x="1378" y="181"/>
                  </a:lnTo>
                  <a:lnTo>
                    <a:pt x="1385" y="181"/>
                  </a:lnTo>
                  <a:lnTo>
                    <a:pt x="1399" y="188"/>
                  </a:lnTo>
                  <a:lnTo>
                    <a:pt x="1406" y="188"/>
                  </a:lnTo>
                  <a:lnTo>
                    <a:pt x="1420" y="188"/>
                  </a:lnTo>
                  <a:lnTo>
                    <a:pt x="1427" y="188"/>
                  </a:lnTo>
                  <a:lnTo>
                    <a:pt x="1434" y="188"/>
                  </a:lnTo>
                  <a:lnTo>
                    <a:pt x="1448" y="195"/>
                  </a:lnTo>
                  <a:lnTo>
                    <a:pt x="1455" y="195"/>
                  </a:lnTo>
                  <a:lnTo>
                    <a:pt x="1469" y="195"/>
                  </a:lnTo>
                  <a:lnTo>
                    <a:pt x="1476" y="195"/>
                  </a:lnTo>
                  <a:lnTo>
                    <a:pt x="1490" y="202"/>
                  </a:lnTo>
                  <a:lnTo>
                    <a:pt x="1497" y="202"/>
                  </a:lnTo>
                  <a:lnTo>
                    <a:pt x="1511" y="202"/>
                  </a:lnTo>
                  <a:lnTo>
                    <a:pt x="1518" y="202"/>
                  </a:lnTo>
                  <a:lnTo>
                    <a:pt x="1525" y="209"/>
                  </a:lnTo>
                  <a:lnTo>
                    <a:pt x="1538" y="209"/>
                  </a:lnTo>
                  <a:lnTo>
                    <a:pt x="1545" y="209"/>
                  </a:lnTo>
                  <a:lnTo>
                    <a:pt x="1559" y="209"/>
                  </a:lnTo>
                  <a:lnTo>
                    <a:pt x="1566" y="209"/>
                  </a:lnTo>
                  <a:lnTo>
                    <a:pt x="1580" y="216"/>
                  </a:lnTo>
                  <a:lnTo>
                    <a:pt x="1587" y="216"/>
                  </a:lnTo>
                  <a:lnTo>
                    <a:pt x="1594" y="216"/>
                  </a:lnTo>
                  <a:lnTo>
                    <a:pt x="1608" y="216"/>
                  </a:lnTo>
                  <a:lnTo>
                    <a:pt x="1615" y="223"/>
                  </a:lnTo>
                  <a:lnTo>
                    <a:pt x="1629" y="223"/>
                  </a:lnTo>
                  <a:lnTo>
                    <a:pt x="1636" y="223"/>
                  </a:lnTo>
                  <a:lnTo>
                    <a:pt x="1650" y="223"/>
                  </a:lnTo>
                  <a:lnTo>
                    <a:pt x="1657" y="223"/>
                  </a:lnTo>
                  <a:lnTo>
                    <a:pt x="1671" y="230"/>
                  </a:lnTo>
                  <a:lnTo>
                    <a:pt x="1678" y="230"/>
                  </a:lnTo>
                  <a:lnTo>
                    <a:pt x="1685" y="230"/>
                  </a:lnTo>
                  <a:lnTo>
                    <a:pt x="1699" y="230"/>
                  </a:lnTo>
                  <a:lnTo>
                    <a:pt x="1706" y="237"/>
                  </a:lnTo>
                  <a:lnTo>
                    <a:pt x="1719" y="237"/>
                  </a:lnTo>
                  <a:lnTo>
                    <a:pt x="1726" y="237"/>
                  </a:lnTo>
                  <a:lnTo>
                    <a:pt x="1740" y="237"/>
                  </a:lnTo>
                  <a:lnTo>
                    <a:pt x="1747" y="237"/>
                  </a:lnTo>
                  <a:lnTo>
                    <a:pt x="1761" y="244"/>
                  </a:lnTo>
                  <a:lnTo>
                    <a:pt x="1768" y="244"/>
                  </a:lnTo>
                  <a:lnTo>
                    <a:pt x="1775" y="244"/>
                  </a:lnTo>
                  <a:lnTo>
                    <a:pt x="1789" y="244"/>
                  </a:lnTo>
                  <a:lnTo>
                    <a:pt x="1796" y="244"/>
                  </a:lnTo>
                  <a:lnTo>
                    <a:pt x="1810" y="251"/>
                  </a:lnTo>
                  <a:lnTo>
                    <a:pt x="1817" y="251"/>
                  </a:lnTo>
                  <a:lnTo>
                    <a:pt x="1831" y="251"/>
                  </a:lnTo>
                  <a:lnTo>
                    <a:pt x="1838" y="251"/>
                  </a:lnTo>
                  <a:lnTo>
                    <a:pt x="1852" y="251"/>
                  </a:lnTo>
                  <a:lnTo>
                    <a:pt x="1859" y="258"/>
                  </a:lnTo>
                  <a:lnTo>
                    <a:pt x="1866" y="258"/>
                  </a:lnTo>
                  <a:lnTo>
                    <a:pt x="1880" y="258"/>
                  </a:lnTo>
                  <a:lnTo>
                    <a:pt x="1887" y="258"/>
                  </a:lnTo>
                  <a:lnTo>
                    <a:pt x="1900" y="265"/>
                  </a:lnTo>
                  <a:lnTo>
                    <a:pt x="1907" y="265"/>
                  </a:lnTo>
                  <a:lnTo>
                    <a:pt x="1921" y="265"/>
                  </a:lnTo>
                  <a:lnTo>
                    <a:pt x="1928" y="265"/>
                  </a:lnTo>
                  <a:lnTo>
                    <a:pt x="1942" y="265"/>
                  </a:lnTo>
                  <a:lnTo>
                    <a:pt x="1949" y="272"/>
                  </a:lnTo>
                  <a:lnTo>
                    <a:pt x="1956" y="272"/>
                  </a:lnTo>
                  <a:lnTo>
                    <a:pt x="1970" y="272"/>
                  </a:lnTo>
                  <a:lnTo>
                    <a:pt x="1977" y="272"/>
                  </a:lnTo>
                  <a:lnTo>
                    <a:pt x="1991" y="272"/>
                  </a:lnTo>
                  <a:lnTo>
                    <a:pt x="1998" y="278"/>
                  </a:lnTo>
                  <a:lnTo>
                    <a:pt x="2012" y="278"/>
                  </a:lnTo>
                  <a:lnTo>
                    <a:pt x="2019" y="278"/>
                  </a:lnTo>
                  <a:lnTo>
                    <a:pt x="2033" y="278"/>
                  </a:lnTo>
                  <a:lnTo>
                    <a:pt x="2040" y="278"/>
                  </a:lnTo>
                  <a:lnTo>
                    <a:pt x="2047" y="285"/>
                  </a:lnTo>
                  <a:lnTo>
                    <a:pt x="2061" y="285"/>
                  </a:lnTo>
                  <a:lnTo>
                    <a:pt x="2068" y="285"/>
                  </a:lnTo>
                  <a:lnTo>
                    <a:pt x="2081" y="285"/>
                  </a:lnTo>
                  <a:lnTo>
                    <a:pt x="2088" y="285"/>
                  </a:lnTo>
                  <a:lnTo>
                    <a:pt x="2102" y="285"/>
                  </a:lnTo>
                  <a:lnTo>
                    <a:pt x="2109" y="292"/>
                  </a:lnTo>
                  <a:lnTo>
                    <a:pt x="2123" y="292"/>
                  </a:lnTo>
                  <a:lnTo>
                    <a:pt x="2130" y="292"/>
                  </a:lnTo>
                  <a:lnTo>
                    <a:pt x="2137" y="292"/>
                  </a:lnTo>
                  <a:lnTo>
                    <a:pt x="2151" y="292"/>
                  </a:lnTo>
                  <a:lnTo>
                    <a:pt x="2158" y="299"/>
                  </a:lnTo>
                  <a:lnTo>
                    <a:pt x="2172" y="299"/>
                  </a:lnTo>
                  <a:lnTo>
                    <a:pt x="2179" y="299"/>
                  </a:lnTo>
                  <a:lnTo>
                    <a:pt x="2193" y="299"/>
                  </a:lnTo>
                  <a:lnTo>
                    <a:pt x="2200" y="299"/>
                  </a:lnTo>
                  <a:lnTo>
                    <a:pt x="2214" y="306"/>
                  </a:lnTo>
                  <a:lnTo>
                    <a:pt x="2221" y="306"/>
                  </a:lnTo>
                  <a:lnTo>
                    <a:pt x="2228" y="306"/>
                  </a:lnTo>
                  <a:lnTo>
                    <a:pt x="2242" y="306"/>
                  </a:lnTo>
                  <a:lnTo>
                    <a:pt x="2248" y="306"/>
                  </a:lnTo>
                  <a:lnTo>
                    <a:pt x="2262" y="306"/>
                  </a:lnTo>
                  <a:lnTo>
                    <a:pt x="2269" y="313"/>
                  </a:lnTo>
                  <a:lnTo>
                    <a:pt x="2283" y="313"/>
                  </a:lnTo>
                  <a:lnTo>
                    <a:pt x="2290" y="313"/>
                  </a:lnTo>
                  <a:lnTo>
                    <a:pt x="2304" y="313"/>
                  </a:lnTo>
                  <a:lnTo>
                    <a:pt x="2311" y="313"/>
                  </a:lnTo>
                  <a:lnTo>
                    <a:pt x="2318" y="320"/>
                  </a:lnTo>
                  <a:lnTo>
                    <a:pt x="2332" y="320"/>
                  </a:lnTo>
                  <a:lnTo>
                    <a:pt x="2339" y="320"/>
                  </a:lnTo>
                  <a:lnTo>
                    <a:pt x="2353" y="320"/>
                  </a:lnTo>
                  <a:lnTo>
                    <a:pt x="2360" y="320"/>
                  </a:lnTo>
                  <a:lnTo>
                    <a:pt x="2374" y="320"/>
                  </a:lnTo>
                  <a:lnTo>
                    <a:pt x="2381" y="327"/>
                  </a:lnTo>
                  <a:lnTo>
                    <a:pt x="2395" y="327"/>
                  </a:lnTo>
                  <a:lnTo>
                    <a:pt x="2402" y="327"/>
                  </a:lnTo>
                  <a:lnTo>
                    <a:pt x="2409" y="327"/>
                  </a:lnTo>
                  <a:lnTo>
                    <a:pt x="2423" y="327"/>
                  </a:lnTo>
                  <a:lnTo>
                    <a:pt x="2429" y="334"/>
                  </a:lnTo>
                  <a:lnTo>
                    <a:pt x="2443" y="334"/>
                  </a:lnTo>
                  <a:lnTo>
                    <a:pt x="2450" y="334"/>
                  </a:lnTo>
                  <a:lnTo>
                    <a:pt x="2464" y="334"/>
                  </a:lnTo>
                  <a:lnTo>
                    <a:pt x="2471" y="334"/>
                  </a:lnTo>
                  <a:lnTo>
                    <a:pt x="2485" y="334"/>
                  </a:lnTo>
                  <a:lnTo>
                    <a:pt x="2492" y="341"/>
                  </a:lnTo>
                  <a:lnTo>
                    <a:pt x="2499" y="341"/>
                  </a:lnTo>
                  <a:lnTo>
                    <a:pt x="2513" y="341"/>
                  </a:lnTo>
                  <a:lnTo>
                    <a:pt x="2520" y="341"/>
                  </a:lnTo>
                  <a:lnTo>
                    <a:pt x="2534" y="341"/>
                  </a:lnTo>
                  <a:lnTo>
                    <a:pt x="2541" y="341"/>
                  </a:lnTo>
                  <a:lnTo>
                    <a:pt x="2555" y="348"/>
                  </a:lnTo>
                  <a:lnTo>
                    <a:pt x="2562" y="348"/>
                  </a:lnTo>
                  <a:lnTo>
                    <a:pt x="2569" y="348"/>
                  </a:lnTo>
                  <a:lnTo>
                    <a:pt x="2583" y="348"/>
                  </a:lnTo>
                  <a:lnTo>
                    <a:pt x="2590" y="348"/>
                  </a:lnTo>
                  <a:lnTo>
                    <a:pt x="2603" y="348"/>
                  </a:lnTo>
                  <a:lnTo>
                    <a:pt x="2610" y="355"/>
                  </a:lnTo>
                  <a:lnTo>
                    <a:pt x="2624" y="355"/>
                  </a:lnTo>
                  <a:lnTo>
                    <a:pt x="2631" y="355"/>
                  </a:lnTo>
                  <a:lnTo>
                    <a:pt x="2645" y="355"/>
                  </a:lnTo>
                  <a:lnTo>
                    <a:pt x="2652" y="355"/>
                  </a:lnTo>
                  <a:lnTo>
                    <a:pt x="2659" y="355"/>
                  </a:lnTo>
                  <a:lnTo>
                    <a:pt x="2673" y="362"/>
                  </a:lnTo>
                  <a:lnTo>
                    <a:pt x="2680" y="362"/>
                  </a:lnTo>
                  <a:lnTo>
                    <a:pt x="2694" y="362"/>
                  </a:lnTo>
                  <a:lnTo>
                    <a:pt x="2701" y="362"/>
                  </a:lnTo>
                  <a:lnTo>
                    <a:pt x="2715" y="362"/>
                  </a:lnTo>
                  <a:lnTo>
                    <a:pt x="2722" y="362"/>
                  </a:lnTo>
                  <a:lnTo>
                    <a:pt x="2736" y="369"/>
                  </a:lnTo>
                  <a:lnTo>
                    <a:pt x="2743" y="369"/>
                  </a:lnTo>
                  <a:lnTo>
                    <a:pt x="2750" y="369"/>
                  </a:lnTo>
                  <a:lnTo>
                    <a:pt x="2764" y="369"/>
                  </a:lnTo>
                  <a:lnTo>
                    <a:pt x="2771" y="369"/>
                  </a:lnTo>
                  <a:lnTo>
                    <a:pt x="2784" y="369"/>
                  </a:lnTo>
                  <a:lnTo>
                    <a:pt x="2791" y="369"/>
                  </a:lnTo>
                  <a:lnTo>
                    <a:pt x="2805" y="376"/>
                  </a:lnTo>
                  <a:lnTo>
                    <a:pt x="2812" y="376"/>
                  </a:lnTo>
                  <a:lnTo>
                    <a:pt x="2826" y="376"/>
                  </a:lnTo>
                  <a:lnTo>
                    <a:pt x="2833" y="376"/>
                  </a:lnTo>
                  <a:lnTo>
                    <a:pt x="2840" y="376"/>
                  </a:lnTo>
                  <a:lnTo>
                    <a:pt x="2854" y="376"/>
                  </a:lnTo>
                  <a:lnTo>
                    <a:pt x="2861" y="383"/>
                  </a:lnTo>
                  <a:lnTo>
                    <a:pt x="2875" y="383"/>
                  </a:lnTo>
                  <a:lnTo>
                    <a:pt x="2882" y="383"/>
                  </a:lnTo>
                  <a:lnTo>
                    <a:pt x="2896" y="383"/>
                  </a:lnTo>
                  <a:lnTo>
                    <a:pt x="2903" y="383"/>
                  </a:lnTo>
                  <a:lnTo>
                    <a:pt x="2917" y="383"/>
                  </a:lnTo>
                  <a:lnTo>
                    <a:pt x="2924" y="383"/>
                  </a:lnTo>
                  <a:lnTo>
                    <a:pt x="2931" y="390"/>
                  </a:lnTo>
                  <a:lnTo>
                    <a:pt x="2945" y="390"/>
                  </a:lnTo>
                  <a:lnTo>
                    <a:pt x="2952" y="390"/>
                  </a:lnTo>
                  <a:lnTo>
                    <a:pt x="2965" y="390"/>
                  </a:lnTo>
                  <a:lnTo>
                    <a:pt x="2972" y="390"/>
                  </a:lnTo>
                  <a:lnTo>
                    <a:pt x="2986" y="390"/>
                  </a:lnTo>
                  <a:lnTo>
                    <a:pt x="2993" y="397"/>
                  </a:lnTo>
                  <a:lnTo>
                    <a:pt x="3007" y="397"/>
                  </a:lnTo>
                  <a:lnTo>
                    <a:pt x="3014" y="397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6603480" y="2133720"/>
              <a:ext cx="1703880" cy="930240"/>
              <a:chOff x="6603480" y="2133720"/>
              <a:chExt cx="1703880" cy="930240"/>
            </a:xfrm>
          </p:grpSpPr>
          <p:sp>
            <p:nvSpPr>
              <p:cNvPr id="2172" name=""/>
              <p:cNvSpPr/>
              <p:nvPr/>
            </p:nvSpPr>
            <p:spPr>
              <a:xfrm>
                <a:off x="7369200" y="213372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6603480" y="2413080"/>
                <a:ext cx="762120" cy="65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4" name=""/>
          <p:cNvSpPr/>
          <p:nvPr/>
        </p:nvSpPr>
        <p:spPr>
          <a:xfrm>
            <a:off x="2236680" y="2552760"/>
            <a:ext cx="4786560" cy="1204920"/>
          </a:xfrm>
          <a:custGeom>
            <a:avLst/>
            <a:gdLst/>
            <a:ahLst/>
            <a:rect l="l" t="t" r="r" b="b"/>
            <a:pathLst>
              <a:path w="3015" h="759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49" y="0"/>
                </a:lnTo>
                <a:lnTo>
                  <a:pt x="63" y="0"/>
                </a:lnTo>
                <a:lnTo>
                  <a:pt x="70" y="0"/>
                </a:lnTo>
                <a:lnTo>
                  <a:pt x="84" y="0"/>
                </a:lnTo>
                <a:lnTo>
                  <a:pt x="91" y="0"/>
                </a:lnTo>
                <a:lnTo>
                  <a:pt x="98" y="0"/>
                </a:lnTo>
                <a:lnTo>
                  <a:pt x="112" y="0"/>
                </a:lnTo>
                <a:lnTo>
                  <a:pt x="119" y="0"/>
                </a:lnTo>
                <a:lnTo>
                  <a:pt x="132" y="0"/>
                </a:lnTo>
                <a:lnTo>
                  <a:pt x="139" y="0"/>
                </a:lnTo>
                <a:lnTo>
                  <a:pt x="153" y="0"/>
                </a:lnTo>
                <a:lnTo>
                  <a:pt x="160" y="0"/>
                </a:lnTo>
                <a:lnTo>
                  <a:pt x="174" y="0"/>
                </a:lnTo>
                <a:lnTo>
                  <a:pt x="181" y="0"/>
                </a:lnTo>
                <a:lnTo>
                  <a:pt x="188" y="0"/>
                </a:lnTo>
                <a:lnTo>
                  <a:pt x="202" y="0"/>
                </a:lnTo>
                <a:lnTo>
                  <a:pt x="209" y="0"/>
                </a:lnTo>
                <a:lnTo>
                  <a:pt x="223" y="0"/>
                </a:lnTo>
                <a:lnTo>
                  <a:pt x="230" y="0"/>
                </a:lnTo>
                <a:lnTo>
                  <a:pt x="244" y="0"/>
                </a:lnTo>
                <a:lnTo>
                  <a:pt x="251" y="0"/>
                </a:lnTo>
                <a:lnTo>
                  <a:pt x="265" y="0"/>
                </a:lnTo>
                <a:lnTo>
                  <a:pt x="272" y="0"/>
                </a:lnTo>
                <a:lnTo>
                  <a:pt x="279" y="0"/>
                </a:lnTo>
                <a:lnTo>
                  <a:pt x="293" y="0"/>
                </a:lnTo>
                <a:lnTo>
                  <a:pt x="299" y="0"/>
                </a:lnTo>
                <a:lnTo>
                  <a:pt x="313" y="0"/>
                </a:lnTo>
                <a:lnTo>
                  <a:pt x="320" y="0"/>
                </a:lnTo>
                <a:lnTo>
                  <a:pt x="334" y="0"/>
                </a:lnTo>
                <a:lnTo>
                  <a:pt x="341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83" y="7"/>
                </a:lnTo>
                <a:lnTo>
                  <a:pt x="390" y="7"/>
                </a:lnTo>
                <a:lnTo>
                  <a:pt x="404" y="7"/>
                </a:lnTo>
                <a:lnTo>
                  <a:pt x="411" y="7"/>
                </a:lnTo>
                <a:lnTo>
                  <a:pt x="425" y="7"/>
                </a:lnTo>
                <a:lnTo>
                  <a:pt x="432" y="7"/>
                </a:lnTo>
                <a:lnTo>
                  <a:pt x="446" y="7"/>
                </a:lnTo>
                <a:lnTo>
                  <a:pt x="453" y="7"/>
                </a:lnTo>
                <a:lnTo>
                  <a:pt x="460" y="7"/>
                </a:lnTo>
                <a:lnTo>
                  <a:pt x="474" y="7"/>
                </a:lnTo>
                <a:lnTo>
                  <a:pt x="480" y="7"/>
                </a:lnTo>
                <a:lnTo>
                  <a:pt x="494" y="7"/>
                </a:lnTo>
                <a:lnTo>
                  <a:pt x="501" y="7"/>
                </a:lnTo>
                <a:lnTo>
                  <a:pt x="515" y="14"/>
                </a:lnTo>
                <a:lnTo>
                  <a:pt x="522" y="14"/>
                </a:lnTo>
                <a:lnTo>
                  <a:pt x="529" y="14"/>
                </a:lnTo>
                <a:lnTo>
                  <a:pt x="543" y="14"/>
                </a:lnTo>
                <a:lnTo>
                  <a:pt x="550" y="14"/>
                </a:lnTo>
                <a:lnTo>
                  <a:pt x="564" y="14"/>
                </a:lnTo>
                <a:lnTo>
                  <a:pt x="571" y="14"/>
                </a:lnTo>
                <a:lnTo>
                  <a:pt x="585" y="21"/>
                </a:lnTo>
                <a:lnTo>
                  <a:pt x="592" y="21"/>
                </a:lnTo>
                <a:lnTo>
                  <a:pt x="606" y="21"/>
                </a:lnTo>
                <a:lnTo>
                  <a:pt x="613" y="21"/>
                </a:lnTo>
                <a:lnTo>
                  <a:pt x="620" y="21"/>
                </a:lnTo>
                <a:lnTo>
                  <a:pt x="634" y="28"/>
                </a:lnTo>
                <a:lnTo>
                  <a:pt x="641" y="28"/>
                </a:lnTo>
                <a:lnTo>
                  <a:pt x="654" y="28"/>
                </a:lnTo>
                <a:lnTo>
                  <a:pt x="661" y="28"/>
                </a:lnTo>
                <a:lnTo>
                  <a:pt x="675" y="35"/>
                </a:lnTo>
                <a:lnTo>
                  <a:pt x="682" y="35"/>
                </a:lnTo>
                <a:lnTo>
                  <a:pt x="696" y="35"/>
                </a:lnTo>
                <a:lnTo>
                  <a:pt x="703" y="35"/>
                </a:lnTo>
                <a:lnTo>
                  <a:pt x="710" y="42"/>
                </a:lnTo>
                <a:lnTo>
                  <a:pt x="724" y="42"/>
                </a:lnTo>
                <a:lnTo>
                  <a:pt x="731" y="42"/>
                </a:lnTo>
                <a:lnTo>
                  <a:pt x="745" y="42"/>
                </a:lnTo>
                <a:lnTo>
                  <a:pt x="752" y="49"/>
                </a:lnTo>
                <a:lnTo>
                  <a:pt x="766" y="49"/>
                </a:lnTo>
                <a:lnTo>
                  <a:pt x="773" y="49"/>
                </a:lnTo>
                <a:lnTo>
                  <a:pt x="787" y="56"/>
                </a:lnTo>
                <a:lnTo>
                  <a:pt x="794" y="56"/>
                </a:lnTo>
                <a:lnTo>
                  <a:pt x="801" y="56"/>
                </a:lnTo>
                <a:lnTo>
                  <a:pt x="815" y="63"/>
                </a:lnTo>
                <a:lnTo>
                  <a:pt x="822" y="63"/>
                </a:lnTo>
                <a:lnTo>
                  <a:pt x="835" y="70"/>
                </a:lnTo>
                <a:lnTo>
                  <a:pt x="842" y="70"/>
                </a:lnTo>
                <a:lnTo>
                  <a:pt x="856" y="70"/>
                </a:lnTo>
                <a:lnTo>
                  <a:pt x="863" y="77"/>
                </a:lnTo>
                <a:lnTo>
                  <a:pt x="877" y="77"/>
                </a:lnTo>
                <a:lnTo>
                  <a:pt x="884" y="84"/>
                </a:lnTo>
                <a:lnTo>
                  <a:pt x="891" y="84"/>
                </a:lnTo>
                <a:lnTo>
                  <a:pt x="905" y="84"/>
                </a:lnTo>
                <a:lnTo>
                  <a:pt x="912" y="91"/>
                </a:lnTo>
                <a:lnTo>
                  <a:pt x="926" y="91"/>
                </a:lnTo>
                <a:lnTo>
                  <a:pt x="933" y="98"/>
                </a:lnTo>
                <a:lnTo>
                  <a:pt x="947" y="98"/>
                </a:lnTo>
                <a:lnTo>
                  <a:pt x="954" y="105"/>
                </a:lnTo>
                <a:lnTo>
                  <a:pt x="968" y="105"/>
                </a:lnTo>
                <a:lnTo>
                  <a:pt x="975" y="112"/>
                </a:lnTo>
                <a:lnTo>
                  <a:pt x="982" y="112"/>
                </a:lnTo>
                <a:lnTo>
                  <a:pt x="996" y="119"/>
                </a:lnTo>
                <a:lnTo>
                  <a:pt x="1003" y="119"/>
                </a:lnTo>
                <a:lnTo>
                  <a:pt x="1016" y="126"/>
                </a:lnTo>
                <a:lnTo>
                  <a:pt x="1023" y="126"/>
                </a:lnTo>
                <a:lnTo>
                  <a:pt x="1037" y="133"/>
                </a:lnTo>
                <a:lnTo>
                  <a:pt x="1044" y="133"/>
                </a:lnTo>
                <a:lnTo>
                  <a:pt x="1058" y="139"/>
                </a:lnTo>
                <a:lnTo>
                  <a:pt x="1065" y="139"/>
                </a:lnTo>
                <a:lnTo>
                  <a:pt x="1072" y="146"/>
                </a:lnTo>
                <a:lnTo>
                  <a:pt x="1086" y="146"/>
                </a:lnTo>
                <a:lnTo>
                  <a:pt x="1093" y="153"/>
                </a:lnTo>
                <a:lnTo>
                  <a:pt x="1107" y="153"/>
                </a:lnTo>
                <a:lnTo>
                  <a:pt x="1114" y="160"/>
                </a:lnTo>
                <a:lnTo>
                  <a:pt x="1128" y="160"/>
                </a:lnTo>
                <a:lnTo>
                  <a:pt x="1135" y="167"/>
                </a:lnTo>
                <a:lnTo>
                  <a:pt x="1149" y="167"/>
                </a:lnTo>
                <a:lnTo>
                  <a:pt x="1156" y="174"/>
                </a:lnTo>
                <a:lnTo>
                  <a:pt x="1163" y="181"/>
                </a:lnTo>
                <a:lnTo>
                  <a:pt x="1177" y="181"/>
                </a:lnTo>
                <a:lnTo>
                  <a:pt x="1183" y="188"/>
                </a:lnTo>
                <a:lnTo>
                  <a:pt x="1197" y="188"/>
                </a:lnTo>
                <a:lnTo>
                  <a:pt x="1204" y="195"/>
                </a:lnTo>
                <a:lnTo>
                  <a:pt x="1218" y="195"/>
                </a:lnTo>
                <a:lnTo>
                  <a:pt x="1225" y="202"/>
                </a:lnTo>
                <a:lnTo>
                  <a:pt x="1239" y="202"/>
                </a:lnTo>
                <a:lnTo>
                  <a:pt x="1246" y="209"/>
                </a:lnTo>
                <a:lnTo>
                  <a:pt x="1253" y="216"/>
                </a:lnTo>
                <a:lnTo>
                  <a:pt x="1267" y="216"/>
                </a:lnTo>
                <a:lnTo>
                  <a:pt x="1274" y="223"/>
                </a:lnTo>
                <a:lnTo>
                  <a:pt x="1288" y="223"/>
                </a:lnTo>
                <a:lnTo>
                  <a:pt x="1295" y="230"/>
                </a:lnTo>
                <a:lnTo>
                  <a:pt x="1309" y="230"/>
                </a:lnTo>
                <a:lnTo>
                  <a:pt x="1316" y="237"/>
                </a:lnTo>
                <a:lnTo>
                  <a:pt x="1330" y="237"/>
                </a:lnTo>
                <a:lnTo>
                  <a:pt x="1337" y="244"/>
                </a:lnTo>
                <a:lnTo>
                  <a:pt x="1344" y="251"/>
                </a:lnTo>
                <a:lnTo>
                  <a:pt x="1358" y="251"/>
                </a:lnTo>
                <a:lnTo>
                  <a:pt x="1364" y="258"/>
                </a:lnTo>
                <a:lnTo>
                  <a:pt x="1378" y="258"/>
                </a:lnTo>
                <a:lnTo>
                  <a:pt x="1385" y="265"/>
                </a:lnTo>
                <a:lnTo>
                  <a:pt x="1399" y="265"/>
                </a:lnTo>
                <a:lnTo>
                  <a:pt x="1406" y="272"/>
                </a:lnTo>
                <a:lnTo>
                  <a:pt x="1420" y="272"/>
                </a:lnTo>
                <a:lnTo>
                  <a:pt x="1427" y="278"/>
                </a:lnTo>
                <a:lnTo>
                  <a:pt x="1434" y="285"/>
                </a:lnTo>
                <a:lnTo>
                  <a:pt x="1448" y="285"/>
                </a:lnTo>
                <a:lnTo>
                  <a:pt x="1455" y="292"/>
                </a:lnTo>
                <a:lnTo>
                  <a:pt x="1469" y="292"/>
                </a:lnTo>
                <a:lnTo>
                  <a:pt x="1476" y="299"/>
                </a:lnTo>
                <a:lnTo>
                  <a:pt x="1490" y="299"/>
                </a:lnTo>
                <a:lnTo>
                  <a:pt x="1497" y="306"/>
                </a:lnTo>
                <a:lnTo>
                  <a:pt x="1511" y="306"/>
                </a:lnTo>
                <a:lnTo>
                  <a:pt x="1518" y="313"/>
                </a:lnTo>
                <a:lnTo>
                  <a:pt x="1525" y="320"/>
                </a:lnTo>
                <a:lnTo>
                  <a:pt x="1538" y="320"/>
                </a:lnTo>
                <a:lnTo>
                  <a:pt x="1545" y="327"/>
                </a:lnTo>
                <a:lnTo>
                  <a:pt x="1559" y="327"/>
                </a:lnTo>
                <a:lnTo>
                  <a:pt x="1566" y="334"/>
                </a:lnTo>
                <a:lnTo>
                  <a:pt x="1580" y="334"/>
                </a:lnTo>
                <a:lnTo>
                  <a:pt x="1587" y="341"/>
                </a:lnTo>
                <a:lnTo>
                  <a:pt x="1594" y="341"/>
                </a:lnTo>
                <a:lnTo>
                  <a:pt x="1608" y="348"/>
                </a:lnTo>
                <a:lnTo>
                  <a:pt x="1615" y="348"/>
                </a:lnTo>
                <a:lnTo>
                  <a:pt x="1629" y="355"/>
                </a:lnTo>
                <a:lnTo>
                  <a:pt x="1636" y="362"/>
                </a:lnTo>
                <a:lnTo>
                  <a:pt x="1650" y="362"/>
                </a:lnTo>
                <a:lnTo>
                  <a:pt x="1657" y="369"/>
                </a:lnTo>
                <a:lnTo>
                  <a:pt x="1671" y="369"/>
                </a:lnTo>
                <a:lnTo>
                  <a:pt x="1678" y="376"/>
                </a:lnTo>
                <a:lnTo>
                  <a:pt x="1685" y="376"/>
                </a:lnTo>
                <a:lnTo>
                  <a:pt x="1699" y="383"/>
                </a:lnTo>
                <a:lnTo>
                  <a:pt x="1706" y="383"/>
                </a:lnTo>
                <a:lnTo>
                  <a:pt x="1719" y="390"/>
                </a:lnTo>
                <a:lnTo>
                  <a:pt x="1726" y="390"/>
                </a:lnTo>
                <a:lnTo>
                  <a:pt x="1740" y="397"/>
                </a:lnTo>
                <a:lnTo>
                  <a:pt x="1747" y="397"/>
                </a:lnTo>
                <a:lnTo>
                  <a:pt x="1761" y="404"/>
                </a:lnTo>
                <a:lnTo>
                  <a:pt x="1768" y="404"/>
                </a:lnTo>
                <a:lnTo>
                  <a:pt x="1775" y="411"/>
                </a:lnTo>
                <a:lnTo>
                  <a:pt x="1789" y="411"/>
                </a:lnTo>
                <a:lnTo>
                  <a:pt x="1796" y="417"/>
                </a:lnTo>
                <a:lnTo>
                  <a:pt x="1810" y="417"/>
                </a:lnTo>
                <a:lnTo>
                  <a:pt x="1817" y="424"/>
                </a:lnTo>
                <a:lnTo>
                  <a:pt x="1831" y="424"/>
                </a:lnTo>
                <a:lnTo>
                  <a:pt x="1838" y="431"/>
                </a:lnTo>
                <a:lnTo>
                  <a:pt x="1852" y="431"/>
                </a:lnTo>
                <a:lnTo>
                  <a:pt x="1859" y="438"/>
                </a:lnTo>
                <a:lnTo>
                  <a:pt x="1866" y="438"/>
                </a:lnTo>
                <a:lnTo>
                  <a:pt x="1880" y="445"/>
                </a:lnTo>
                <a:lnTo>
                  <a:pt x="1887" y="445"/>
                </a:lnTo>
                <a:lnTo>
                  <a:pt x="1900" y="452"/>
                </a:lnTo>
                <a:lnTo>
                  <a:pt x="1907" y="452"/>
                </a:lnTo>
                <a:lnTo>
                  <a:pt x="1921" y="459"/>
                </a:lnTo>
                <a:lnTo>
                  <a:pt x="1928" y="459"/>
                </a:lnTo>
                <a:lnTo>
                  <a:pt x="1942" y="466"/>
                </a:lnTo>
                <a:lnTo>
                  <a:pt x="1949" y="466"/>
                </a:lnTo>
                <a:lnTo>
                  <a:pt x="1956" y="473"/>
                </a:lnTo>
                <a:lnTo>
                  <a:pt x="1970" y="473"/>
                </a:lnTo>
                <a:lnTo>
                  <a:pt x="1977" y="480"/>
                </a:lnTo>
                <a:lnTo>
                  <a:pt x="1991" y="480"/>
                </a:lnTo>
                <a:lnTo>
                  <a:pt x="1998" y="480"/>
                </a:lnTo>
                <a:lnTo>
                  <a:pt x="2012" y="487"/>
                </a:lnTo>
                <a:lnTo>
                  <a:pt x="2019" y="487"/>
                </a:lnTo>
                <a:lnTo>
                  <a:pt x="2033" y="494"/>
                </a:lnTo>
                <a:lnTo>
                  <a:pt x="2040" y="494"/>
                </a:lnTo>
                <a:lnTo>
                  <a:pt x="2047" y="501"/>
                </a:lnTo>
                <a:lnTo>
                  <a:pt x="2061" y="501"/>
                </a:lnTo>
                <a:lnTo>
                  <a:pt x="2068" y="508"/>
                </a:lnTo>
                <a:lnTo>
                  <a:pt x="2081" y="508"/>
                </a:lnTo>
                <a:lnTo>
                  <a:pt x="2088" y="515"/>
                </a:lnTo>
                <a:lnTo>
                  <a:pt x="2102" y="515"/>
                </a:lnTo>
                <a:lnTo>
                  <a:pt x="2109" y="515"/>
                </a:lnTo>
                <a:lnTo>
                  <a:pt x="2123" y="522"/>
                </a:lnTo>
                <a:lnTo>
                  <a:pt x="2130" y="522"/>
                </a:lnTo>
                <a:lnTo>
                  <a:pt x="2137" y="529"/>
                </a:lnTo>
                <a:lnTo>
                  <a:pt x="2151" y="529"/>
                </a:lnTo>
                <a:lnTo>
                  <a:pt x="2158" y="536"/>
                </a:lnTo>
                <a:lnTo>
                  <a:pt x="2172" y="536"/>
                </a:lnTo>
                <a:lnTo>
                  <a:pt x="2179" y="543"/>
                </a:lnTo>
                <a:lnTo>
                  <a:pt x="2193" y="543"/>
                </a:lnTo>
                <a:lnTo>
                  <a:pt x="2200" y="543"/>
                </a:lnTo>
                <a:lnTo>
                  <a:pt x="2214" y="550"/>
                </a:lnTo>
                <a:lnTo>
                  <a:pt x="2221" y="550"/>
                </a:lnTo>
                <a:lnTo>
                  <a:pt x="2228" y="556"/>
                </a:lnTo>
                <a:lnTo>
                  <a:pt x="2242" y="556"/>
                </a:lnTo>
                <a:lnTo>
                  <a:pt x="2248" y="563"/>
                </a:lnTo>
                <a:lnTo>
                  <a:pt x="2262" y="563"/>
                </a:lnTo>
                <a:lnTo>
                  <a:pt x="2269" y="563"/>
                </a:lnTo>
                <a:lnTo>
                  <a:pt x="2283" y="570"/>
                </a:lnTo>
                <a:lnTo>
                  <a:pt x="2290" y="570"/>
                </a:lnTo>
                <a:lnTo>
                  <a:pt x="2304" y="577"/>
                </a:lnTo>
                <a:lnTo>
                  <a:pt x="2311" y="577"/>
                </a:lnTo>
                <a:lnTo>
                  <a:pt x="2318" y="584"/>
                </a:lnTo>
                <a:lnTo>
                  <a:pt x="2332" y="584"/>
                </a:lnTo>
                <a:lnTo>
                  <a:pt x="2339" y="584"/>
                </a:lnTo>
                <a:lnTo>
                  <a:pt x="2353" y="591"/>
                </a:lnTo>
                <a:lnTo>
                  <a:pt x="2360" y="591"/>
                </a:lnTo>
                <a:lnTo>
                  <a:pt x="2374" y="598"/>
                </a:lnTo>
                <a:lnTo>
                  <a:pt x="2381" y="598"/>
                </a:lnTo>
                <a:lnTo>
                  <a:pt x="2395" y="598"/>
                </a:lnTo>
                <a:lnTo>
                  <a:pt x="2402" y="605"/>
                </a:lnTo>
                <a:lnTo>
                  <a:pt x="2409" y="605"/>
                </a:lnTo>
                <a:lnTo>
                  <a:pt x="2423" y="612"/>
                </a:lnTo>
                <a:lnTo>
                  <a:pt x="2429" y="612"/>
                </a:lnTo>
                <a:lnTo>
                  <a:pt x="2443" y="612"/>
                </a:lnTo>
                <a:lnTo>
                  <a:pt x="2450" y="619"/>
                </a:lnTo>
                <a:lnTo>
                  <a:pt x="2464" y="619"/>
                </a:lnTo>
                <a:lnTo>
                  <a:pt x="2471" y="626"/>
                </a:lnTo>
                <a:lnTo>
                  <a:pt x="2485" y="626"/>
                </a:lnTo>
                <a:lnTo>
                  <a:pt x="2492" y="626"/>
                </a:lnTo>
                <a:lnTo>
                  <a:pt x="2499" y="633"/>
                </a:lnTo>
                <a:lnTo>
                  <a:pt x="2513" y="633"/>
                </a:lnTo>
                <a:lnTo>
                  <a:pt x="2520" y="633"/>
                </a:lnTo>
                <a:lnTo>
                  <a:pt x="2534" y="640"/>
                </a:lnTo>
                <a:lnTo>
                  <a:pt x="2541" y="640"/>
                </a:lnTo>
                <a:lnTo>
                  <a:pt x="2555" y="647"/>
                </a:lnTo>
                <a:lnTo>
                  <a:pt x="2562" y="647"/>
                </a:lnTo>
                <a:lnTo>
                  <a:pt x="2569" y="647"/>
                </a:lnTo>
                <a:lnTo>
                  <a:pt x="2583" y="654"/>
                </a:lnTo>
                <a:lnTo>
                  <a:pt x="2590" y="654"/>
                </a:lnTo>
                <a:lnTo>
                  <a:pt x="2603" y="654"/>
                </a:lnTo>
                <a:lnTo>
                  <a:pt x="2610" y="661"/>
                </a:lnTo>
                <a:lnTo>
                  <a:pt x="2624" y="661"/>
                </a:lnTo>
                <a:lnTo>
                  <a:pt x="2631" y="668"/>
                </a:lnTo>
                <a:lnTo>
                  <a:pt x="2645" y="668"/>
                </a:lnTo>
                <a:lnTo>
                  <a:pt x="2652" y="668"/>
                </a:lnTo>
                <a:lnTo>
                  <a:pt x="2659" y="675"/>
                </a:lnTo>
                <a:lnTo>
                  <a:pt x="2673" y="675"/>
                </a:lnTo>
                <a:lnTo>
                  <a:pt x="2680" y="675"/>
                </a:lnTo>
                <a:lnTo>
                  <a:pt x="2694" y="682"/>
                </a:lnTo>
                <a:lnTo>
                  <a:pt x="2701" y="682"/>
                </a:lnTo>
                <a:lnTo>
                  <a:pt x="2715" y="689"/>
                </a:lnTo>
                <a:lnTo>
                  <a:pt x="2722" y="689"/>
                </a:lnTo>
                <a:lnTo>
                  <a:pt x="2736" y="689"/>
                </a:lnTo>
                <a:lnTo>
                  <a:pt x="2743" y="695"/>
                </a:lnTo>
                <a:lnTo>
                  <a:pt x="2750" y="695"/>
                </a:lnTo>
                <a:lnTo>
                  <a:pt x="2764" y="695"/>
                </a:lnTo>
                <a:lnTo>
                  <a:pt x="2771" y="702"/>
                </a:lnTo>
                <a:lnTo>
                  <a:pt x="2784" y="702"/>
                </a:lnTo>
                <a:lnTo>
                  <a:pt x="2791" y="702"/>
                </a:lnTo>
                <a:lnTo>
                  <a:pt x="2805" y="709"/>
                </a:lnTo>
                <a:lnTo>
                  <a:pt x="2812" y="709"/>
                </a:lnTo>
                <a:lnTo>
                  <a:pt x="2826" y="709"/>
                </a:lnTo>
                <a:lnTo>
                  <a:pt x="2833" y="716"/>
                </a:lnTo>
                <a:lnTo>
                  <a:pt x="2840" y="716"/>
                </a:lnTo>
                <a:lnTo>
                  <a:pt x="2854" y="716"/>
                </a:lnTo>
                <a:lnTo>
                  <a:pt x="2861" y="723"/>
                </a:lnTo>
                <a:lnTo>
                  <a:pt x="2875" y="723"/>
                </a:lnTo>
                <a:lnTo>
                  <a:pt x="2882" y="723"/>
                </a:lnTo>
                <a:lnTo>
                  <a:pt x="2896" y="730"/>
                </a:lnTo>
                <a:lnTo>
                  <a:pt x="2903" y="730"/>
                </a:lnTo>
                <a:lnTo>
                  <a:pt x="2917" y="730"/>
                </a:lnTo>
                <a:lnTo>
                  <a:pt x="2924" y="737"/>
                </a:lnTo>
                <a:lnTo>
                  <a:pt x="2931" y="737"/>
                </a:lnTo>
                <a:lnTo>
                  <a:pt x="2945" y="737"/>
                </a:lnTo>
                <a:lnTo>
                  <a:pt x="2952" y="744"/>
                </a:lnTo>
                <a:lnTo>
                  <a:pt x="2965" y="744"/>
                </a:lnTo>
                <a:lnTo>
                  <a:pt x="2972" y="744"/>
                </a:lnTo>
                <a:lnTo>
                  <a:pt x="2986" y="751"/>
                </a:lnTo>
                <a:lnTo>
                  <a:pt x="2993" y="751"/>
                </a:lnTo>
                <a:lnTo>
                  <a:pt x="3007" y="751"/>
                </a:lnTo>
                <a:lnTo>
                  <a:pt x="3014" y="758"/>
                </a:lnTo>
              </a:path>
            </a:pathLst>
          </a:custGeom>
          <a:noFill/>
          <a:ln cap="rnd"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236680" y="2552760"/>
            <a:ext cx="4786560" cy="1800000"/>
          </a:xfrm>
          <a:custGeom>
            <a:avLst/>
            <a:gdLst/>
            <a:ahLst/>
            <a:rect l="l" t="t" r="r" b="b"/>
            <a:pathLst>
              <a:path w="3015" h="1134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49" y="0"/>
                </a:lnTo>
                <a:lnTo>
                  <a:pt x="63" y="0"/>
                </a:lnTo>
                <a:lnTo>
                  <a:pt x="70" y="0"/>
                </a:lnTo>
                <a:lnTo>
                  <a:pt x="84" y="0"/>
                </a:lnTo>
                <a:lnTo>
                  <a:pt x="91" y="0"/>
                </a:lnTo>
                <a:lnTo>
                  <a:pt x="98" y="0"/>
                </a:lnTo>
                <a:lnTo>
                  <a:pt x="112" y="0"/>
                </a:lnTo>
                <a:lnTo>
                  <a:pt x="119" y="0"/>
                </a:lnTo>
                <a:lnTo>
                  <a:pt x="132" y="0"/>
                </a:lnTo>
                <a:lnTo>
                  <a:pt x="139" y="0"/>
                </a:lnTo>
                <a:lnTo>
                  <a:pt x="153" y="0"/>
                </a:lnTo>
                <a:lnTo>
                  <a:pt x="160" y="0"/>
                </a:lnTo>
                <a:lnTo>
                  <a:pt x="174" y="0"/>
                </a:lnTo>
                <a:lnTo>
                  <a:pt x="181" y="0"/>
                </a:lnTo>
                <a:lnTo>
                  <a:pt x="188" y="0"/>
                </a:lnTo>
                <a:lnTo>
                  <a:pt x="202" y="0"/>
                </a:lnTo>
                <a:lnTo>
                  <a:pt x="209" y="0"/>
                </a:lnTo>
                <a:lnTo>
                  <a:pt x="223" y="0"/>
                </a:lnTo>
                <a:lnTo>
                  <a:pt x="230" y="0"/>
                </a:lnTo>
                <a:lnTo>
                  <a:pt x="244" y="0"/>
                </a:lnTo>
                <a:lnTo>
                  <a:pt x="251" y="0"/>
                </a:lnTo>
                <a:lnTo>
                  <a:pt x="265" y="0"/>
                </a:lnTo>
                <a:lnTo>
                  <a:pt x="272" y="0"/>
                </a:lnTo>
                <a:lnTo>
                  <a:pt x="279" y="0"/>
                </a:lnTo>
                <a:lnTo>
                  <a:pt x="293" y="0"/>
                </a:lnTo>
                <a:lnTo>
                  <a:pt x="299" y="0"/>
                </a:lnTo>
                <a:lnTo>
                  <a:pt x="313" y="0"/>
                </a:lnTo>
                <a:lnTo>
                  <a:pt x="320" y="0"/>
                </a:lnTo>
                <a:lnTo>
                  <a:pt x="334" y="0"/>
                </a:lnTo>
                <a:lnTo>
                  <a:pt x="341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83" y="0"/>
                </a:lnTo>
                <a:lnTo>
                  <a:pt x="390" y="0"/>
                </a:lnTo>
                <a:lnTo>
                  <a:pt x="404" y="0"/>
                </a:lnTo>
                <a:lnTo>
                  <a:pt x="411" y="0"/>
                </a:lnTo>
                <a:lnTo>
                  <a:pt x="425" y="0"/>
                </a:lnTo>
                <a:lnTo>
                  <a:pt x="432" y="0"/>
                </a:lnTo>
                <a:lnTo>
                  <a:pt x="446" y="0"/>
                </a:lnTo>
                <a:lnTo>
                  <a:pt x="453" y="0"/>
                </a:lnTo>
                <a:lnTo>
                  <a:pt x="460" y="0"/>
                </a:lnTo>
                <a:lnTo>
                  <a:pt x="474" y="0"/>
                </a:lnTo>
                <a:lnTo>
                  <a:pt x="480" y="0"/>
                </a:lnTo>
                <a:lnTo>
                  <a:pt x="494" y="0"/>
                </a:lnTo>
                <a:lnTo>
                  <a:pt x="501" y="0"/>
                </a:lnTo>
                <a:lnTo>
                  <a:pt x="515" y="0"/>
                </a:lnTo>
                <a:lnTo>
                  <a:pt x="522" y="0"/>
                </a:lnTo>
                <a:lnTo>
                  <a:pt x="529" y="7"/>
                </a:lnTo>
                <a:lnTo>
                  <a:pt x="543" y="7"/>
                </a:lnTo>
                <a:lnTo>
                  <a:pt x="550" y="7"/>
                </a:lnTo>
                <a:lnTo>
                  <a:pt x="564" y="7"/>
                </a:lnTo>
                <a:lnTo>
                  <a:pt x="571" y="7"/>
                </a:lnTo>
                <a:lnTo>
                  <a:pt x="585" y="7"/>
                </a:lnTo>
                <a:lnTo>
                  <a:pt x="592" y="7"/>
                </a:lnTo>
                <a:lnTo>
                  <a:pt x="606" y="7"/>
                </a:lnTo>
                <a:lnTo>
                  <a:pt x="613" y="7"/>
                </a:lnTo>
                <a:lnTo>
                  <a:pt x="620" y="7"/>
                </a:lnTo>
                <a:lnTo>
                  <a:pt x="634" y="7"/>
                </a:lnTo>
                <a:lnTo>
                  <a:pt x="641" y="14"/>
                </a:lnTo>
                <a:lnTo>
                  <a:pt x="654" y="14"/>
                </a:lnTo>
                <a:lnTo>
                  <a:pt x="661" y="14"/>
                </a:lnTo>
                <a:lnTo>
                  <a:pt x="675" y="14"/>
                </a:lnTo>
                <a:lnTo>
                  <a:pt x="682" y="14"/>
                </a:lnTo>
                <a:lnTo>
                  <a:pt x="696" y="21"/>
                </a:lnTo>
                <a:lnTo>
                  <a:pt x="703" y="21"/>
                </a:lnTo>
                <a:lnTo>
                  <a:pt x="710" y="21"/>
                </a:lnTo>
                <a:lnTo>
                  <a:pt x="724" y="21"/>
                </a:lnTo>
                <a:lnTo>
                  <a:pt x="731" y="21"/>
                </a:lnTo>
                <a:lnTo>
                  <a:pt x="745" y="28"/>
                </a:lnTo>
                <a:lnTo>
                  <a:pt x="752" y="28"/>
                </a:lnTo>
                <a:lnTo>
                  <a:pt x="766" y="28"/>
                </a:lnTo>
                <a:lnTo>
                  <a:pt x="773" y="35"/>
                </a:lnTo>
                <a:lnTo>
                  <a:pt x="787" y="35"/>
                </a:lnTo>
                <a:lnTo>
                  <a:pt x="794" y="35"/>
                </a:lnTo>
                <a:lnTo>
                  <a:pt x="801" y="42"/>
                </a:lnTo>
                <a:lnTo>
                  <a:pt x="815" y="42"/>
                </a:lnTo>
                <a:lnTo>
                  <a:pt x="822" y="49"/>
                </a:lnTo>
                <a:lnTo>
                  <a:pt x="835" y="49"/>
                </a:lnTo>
                <a:lnTo>
                  <a:pt x="842" y="49"/>
                </a:lnTo>
                <a:lnTo>
                  <a:pt x="856" y="56"/>
                </a:lnTo>
                <a:lnTo>
                  <a:pt x="863" y="56"/>
                </a:lnTo>
                <a:lnTo>
                  <a:pt x="877" y="63"/>
                </a:lnTo>
                <a:lnTo>
                  <a:pt x="884" y="63"/>
                </a:lnTo>
                <a:lnTo>
                  <a:pt x="891" y="70"/>
                </a:lnTo>
                <a:lnTo>
                  <a:pt x="905" y="77"/>
                </a:lnTo>
                <a:lnTo>
                  <a:pt x="912" y="77"/>
                </a:lnTo>
                <a:lnTo>
                  <a:pt x="926" y="84"/>
                </a:lnTo>
                <a:lnTo>
                  <a:pt x="933" y="84"/>
                </a:lnTo>
                <a:lnTo>
                  <a:pt x="947" y="91"/>
                </a:lnTo>
                <a:lnTo>
                  <a:pt x="954" y="98"/>
                </a:lnTo>
                <a:lnTo>
                  <a:pt x="968" y="98"/>
                </a:lnTo>
                <a:lnTo>
                  <a:pt x="975" y="105"/>
                </a:lnTo>
                <a:lnTo>
                  <a:pt x="982" y="112"/>
                </a:lnTo>
                <a:lnTo>
                  <a:pt x="996" y="112"/>
                </a:lnTo>
                <a:lnTo>
                  <a:pt x="1003" y="119"/>
                </a:lnTo>
                <a:lnTo>
                  <a:pt x="1016" y="126"/>
                </a:lnTo>
                <a:lnTo>
                  <a:pt x="1023" y="133"/>
                </a:lnTo>
                <a:lnTo>
                  <a:pt x="1037" y="133"/>
                </a:lnTo>
                <a:lnTo>
                  <a:pt x="1044" y="139"/>
                </a:lnTo>
                <a:lnTo>
                  <a:pt x="1058" y="146"/>
                </a:lnTo>
                <a:lnTo>
                  <a:pt x="1065" y="153"/>
                </a:lnTo>
                <a:lnTo>
                  <a:pt x="1072" y="160"/>
                </a:lnTo>
                <a:lnTo>
                  <a:pt x="1086" y="160"/>
                </a:lnTo>
                <a:lnTo>
                  <a:pt x="1093" y="167"/>
                </a:lnTo>
                <a:lnTo>
                  <a:pt x="1107" y="174"/>
                </a:lnTo>
                <a:lnTo>
                  <a:pt x="1114" y="181"/>
                </a:lnTo>
                <a:lnTo>
                  <a:pt x="1128" y="188"/>
                </a:lnTo>
                <a:lnTo>
                  <a:pt x="1135" y="195"/>
                </a:lnTo>
                <a:lnTo>
                  <a:pt x="1149" y="202"/>
                </a:lnTo>
                <a:lnTo>
                  <a:pt x="1156" y="209"/>
                </a:lnTo>
                <a:lnTo>
                  <a:pt x="1163" y="209"/>
                </a:lnTo>
                <a:lnTo>
                  <a:pt x="1177" y="216"/>
                </a:lnTo>
                <a:lnTo>
                  <a:pt x="1183" y="223"/>
                </a:lnTo>
                <a:lnTo>
                  <a:pt x="1197" y="230"/>
                </a:lnTo>
                <a:lnTo>
                  <a:pt x="1204" y="237"/>
                </a:lnTo>
                <a:lnTo>
                  <a:pt x="1218" y="244"/>
                </a:lnTo>
                <a:lnTo>
                  <a:pt x="1225" y="251"/>
                </a:lnTo>
                <a:lnTo>
                  <a:pt x="1239" y="258"/>
                </a:lnTo>
                <a:lnTo>
                  <a:pt x="1246" y="265"/>
                </a:lnTo>
                <a:lnTo>
                  <a:pt x="1253" y="272"/>
                </a:lnTo>
                <a:lnTo>
                  <a:pt x="1267" y="278"/>
                </a:lnTo>
                <a:lnTo>
                  <a:pt x="1274" y="285"/>
                </a:lnTo>
                <a:lnTo>
                  <a:pt x="1288" y="292"/>
                </a:lnTo>
                <a:lnTo>
                  <a:pt x="1295" y="299"/>
                </a:lnTo>
                <a:lnTo>
                  <a:pt x="1309" y="306"/>
                </a:lnTo>
                <a:lnTo>
                  <a:pt x="1316" y="306"/>
                </a:lnTo>
                <a:lnTo>
                  <a:pt x="1330" y="313"/>
                </a:lnTo>
                <a:lnTo>
                  <a:pt x="1337" y="320"/>
                </a:lnTo>
                <a:lnTo>
                  <a:pt x="1344" y="327"/>
                </a:lnTo>
                <a:lnTo>
                  <a:pt x="1358" y="334"/>
                </a:lnTo>
                <a:lnTo>
                  <a:pt x="1364" y="341"/>
                </a:lnTo>
                <a:lnTo>
                  <a:pt x="1378" y="348"/>
                </a:lnTo>
                <a:lnTo>
                  <a:pt x="1385" y="355"/>
                </a:lnTo>
                <a:lnTo>
                  <a:pt x="1399" y="362"/>
                </a:lnTo>
                <a:lnTo>
                  <a:pt x="1406" y="369"/>
                </a:lnTo>
                <a:lnTo>
                  <a:pt x="1420" y="376"/>
                </a:lnTo>
                <a:lnTo>
                  <a:pt x="1427" y="383"/>
                </a:lnTo>
                <a:lnTo>
                  <a:pt x="1434" y="390"/>
                </a:lnTo>
                <a:lnTo>
                  <a:pt x="1448" y="397"/>
                </a:lnTo>
                <a:lnTo>
                  <a:pt x="1455" y="404"/>
                </a:lnTo>
                <a:lnTo>
                  <a:pt x="1469" y="404"/>
                </a:lnTo>
                <a:lnTo>
                  <a:pt x="1476" y="411"/>
                </a:lnTo>
                <a:lnTo>
                  <a:pt x="1490" y="417"/>
                </a:lnTo>
                <a:lnTo>
                  <a:pt x="1497" y="424"/>
                </a:lnTo>
                <a:lnTo>
                  <a:pt x="1511" y="431"/>
                </a:lnTo>
                <a:lnTo>
                  <a:pt x="1518" y="438"/>
                </a:lnTo>
                <a:lnTo>
                  <a:pt x="1525" y="445"/>
                </a:lnTo>
                <a:lnTo>
                  <a:pt x="1538" y="452"/>
                </a:lnTo>
                <a:lnTo>
                  <a:pt x="1545" y="459"/>
                </a:lnTo>
                <a:lnTo>
                  <a:pt x="1559" y="466"/>
                </a:lnTo>
                <a:lnTo>
                  <a:pt x="1566" y="473"/>
                </a:lnTo>
                <a:lnTo>
                  <a:pt x="1580" y="473"/>
                </a:lnTo>
                <a:lnTo>
                  <a:pt x="1587" y="480"/>
                </a:lnTo>
                <a:lnTo>
                  <a:pt x="1594" y="487"/>
                </a:lnTo>
                <a:lnTo>
                  <a:pt x="1608" y="494"/>
                </a:lnTo>
                <a:lnTo>
                  <a:pt x="1615" y="501"/>
                </a:lnTo>
                <a:lnTo>
                  <a:pt x="1629" y="508"/>
                </a:lnTo>
                <a:lnTo>
                  <a:pt x="1636" y="515"/>
                </a:lnTo>
                <a:lnTo>
                  <a:pt x="1650" y="515"/>
                </a:lnTo>
                <a:lnTo>
                  <a:pt x="1657" y="522"/>
                </a:lnTo>
                <a:lnTo>
                  <a:pt x="1671" y="529"/>
                </a:lnTo>
                <a:lnTo>
                  <a:pt x="1678" y="536"/>
                </a:lnTo>
                <a:lnTo>
                  <a:pt x="1685" y="543"/>
                </a:lnTo>
                <a:lnTo>
                  <a:pt x="1699" y="550"/>
                </a:lnTo>
                <a:lnTo>
                  <a:pt x="1706" y="556"/>
                </a:lnTo>
                <a:lnTo>
                  <a:pt x="1719" y="556"/>
                </a:lnTo>
                <a:lnTo>
                  <a:pt x="1726" y="563"/>
                </a:lnTo>
                <a:lnTo>
                  <a:pt x="1740" y="570"/>
                </a:lnTo>
                <a:lnTo>
                  <a:pt x="1747" y="577"/>
                </a:lnTo>
                <a:lnTo>
                  <a:pt x="1761" y="584"/>
                </a:lnTo>
                <a:lnTo>
                  <a:pt x="1768" y="591"/>
                </a:lnTo>
                <a:lnTo>
                  <a:pt x="1775" y="591"/>
                </a:lnTo>
                <a:lnTo>
                  <a:pt x="1789" y="598"/>
                </a:lnTo>
                <a:lnTo>
                  <a:pt x="1796" y="605"/>
                </a:lnTo>
                <a:lnTo>
                  <a:pt x="1810" y="612"/>
                </a:lnTo>
                <a:lnTo>
                  <a:pt x="1817" y="619"/>
                </a:lnTo>
                <a:lnTo>
                  <a:pt x="1831" y="619"/>
                </a:lnTo>
                <a:lnTo>
                  <a:pt x="1838" y="626"/>
                </a:lnTo>
                <a:lnTo>
                  <a:pt x="1852" y="633"/>
                </a:lnTo>
                <a:lnTo>
                  <a:pt x="1859" y="640"/>
                </a:lnTo>
                <a:lnTo>
                  <a:pt x="1866" y="640"/>
                </a:lnTo>
                <a:lnTo>
                  <a:pt x="1880" y="647"/>
                </a:lnTo>
                <a:lnTo>
                  <a:pt x="1887" y="654"/>
                </a:lnTo>
                <a:lnTo>
                  <a:pt x="1900" y="661"/>
                </a:lnTo>
                <a:lnTo>
                  <a:pt x="1907" y="668"/>
                </a:lnTo>
                <a:lnTo>
                  <a:pt x="1921" y="668"/>
                </a:lnTo>
                <a:lnTo>
                  <a:pt x="1928" y="675"/>
                </a:lnTo>
                <a:lnTo>
                  <a:pt x="1942" y="682"/>
                </a:lnTo>
                <a:lnTo>
                  <a:pt x="1949" y="689"/>
                </a:lnTo>
                <a:lnTo>
                  <a:pt x="1956" y="689"/>
                </a:lnTo>
                <a:lnTo>
                  <a:pt x="1970" y="695"/>
                </a:lnTo>
                <a:lnTo>
                  <a:pt x="1977" y="702"/>
                </a:lnTo>
                <a:lnTo>
                  <a:pt x="1991" y="709"/>
                </a:lnTo>
                <a:lnTo>
                  <a:pt x="1998" y="709"/>
                </a:lnTo>
                <a:lnTo>
                  <a:pt x="2012" y="716"/>
                </a:lnTo>
                <a:lnTo>
                  <a:pt x="2019" y="723"/>
                </a:lnTo>
                <a:lnTo>
                  <a:pt x="2033" y="723"/>
                </a:lnTo>
                <a:lnTo>
                  <a:pt x="2040" y="730"/>
                </a:lnTo>
                <a:lnTo>
                  <a:pt x="2047" y="737"/>
                </a:lnTo>
                <a:lnTo>
                  <a:pt x="2061" y="744"/>
                </a:lnTo>
                <a:lnTo>
                  <a:pt x="2068" y="744"/>
                </a:lnTo>
                <a:lnTo>
                  <a:pt x="2081" y="751"/>
                </a:lnTo>
                <a:lnTo>
                  <a:pt x="2088" y="758"/>
                </a:lnTo>
                <a:lnTo>
                  <a:pt x="2102" y="758"/>
                </a:lnTo>
                <a:lnTo>
                  <a:pt x="2109" y="765"/>
                </a:lnTo>
                <a:lnTo>
                  <a:pt x="2123" y="772"/>
                </a:lnTo>
                <a:lnTo>
                  <a:pt x="2130" y="779"/>
                </a:lnTo>
                <a:lnTo>
                  <a:pt x="2137" y="779"/>
                </a:lnTo>
                <a:lnTo>
                  <a:pt x="2151" y="786"/>
                </a:lnTo>
                <a:lnTo>
                  <a:pt x="2158" y="793"/>
                </a:lnTo>
                <a:lnTo>
                  <a:pt x="2172" y="793"/>
                </a:lnTo>
                <a:lnTo>
                  <a:pt x="2179" y="800"/>
                </a:lnTo>
                <a:lnTo>
                  <a:pt x="2193" y="807"/>
                </a:lnTo>
                <a:lnTo>
                  <a:pt x="2200" y="807"/>
                </a:lnTo>
                <a:lnTo>
                  <a:pt x="2214" y="814"/>
                </a:lnTo>
                <a:lnTo>
                  <a:pt x="2221" y="821"/>
                </a:lnTo>
                <a:lnTo>
                  <a:pt x="2228" y="821"/>
                </a:lnTo>
                <a:lnTo>
                  <a:pt x="2242" y="828"/>
                </a:lnTo>
                <a:lnTo>
                  <a:pt x="2248" y="834"/>
                </a:lnTo>
                <a:lnTo>
                  <a:pt x="2262" y="834"/>
                </a:lnTo>
                <a:lnTo>
                  <a:pt x="2269" y="841"/>
                </a:lnTo>
                <a:lnTo>
                  <a:pt x="2283" y="848"/>
                </a:lnTo>
                <a:lnTo>
                  <a:pt x="2290" y="848"/>
                </a:lnTo>
                <a:lnTo>
                  <a:pt x="2304" y="855"/>
                </a:lnTo>
                <a:lnTo>
                  <a:pt x="2311" y="862"/>
                </a:lnTo>
                <a:lnTo>
                  <a:pt x="2318" y="862"/>
                </a:lnTo>
                <a:lnTo>
                  <a:pt x="2332" y="869"/>
                </a:lnTo>
                <a:lnTo>
                  <a:pt x="2339" y="869"/>
                </a:lnTo>
                <a:lnTo>
                  <a:pt x="2353" y="876"/>
                </a:lnTo>
                <a:lnTo>
                  <a:pt x="2360" y="883"/>
                </a:lnTo>
                <a:lnTo>
                  <a:pt x="2374" y="883"/>
                </a:lnTo>
                <a:lnTo>
                  <a:pt x="2381" y="890"/>
                </a:lnTo>
                <a:lnTo>
                  <a:pt x="2395" y="897"/>
                </a:lnTo>
                <a:lnTo>
                  <a:pt x="2402" y="897"/>
                </a:lnTo>
                <a:lnTo>
                  <a:pt x="2409" y="904"/>
                </a:lnTo>
                <a:lnTo>
                  <a:pt x="2423" y="904"/>
                </a:lnTo>
                <a:lnTo>
                  <a:pt x="2429" y="911"/>
                </a:lnTo>
                <a:lnTo>
                  <a:pt x="2443" y="918"/>
                </a:lnTo>
                <a:lnTo>
                  <a:pt x="2450" y="918"/>
                </a:lnTo>
                <a:lnTo>
                  <a:pt x="2464" y="925"/>
                </a:lnTo>
                <a:lnTo>
                  <a:pt x="2471" y="925"/>
                </a:lnTo>
                <a:lnTo>
                  <a:pt x="2485" y="932"/>
                </a:lnTo>
                <a:lnTo>
                  <a:pt x="2492" y="939"/>
                </a:lnTo>
                <a:lnTo>
                  <a:pt x="2499" y="939"/>
                </a:lnTo>
                <a:lnTo>
                  <a:pt x="2513" y="946"/>
                </a:lnTo>
                <a:lnTo>
                  <a:pt x="2520" y="946"/>
                </a:lnTo>
                <a:lnTo>
                  <a:pt x="2534" y="953"/>
                </a:lnTo>
                <a:lnTo>
                  <a:pt x="2541" y="960"/>
                </a:lnTo>
                <a:lnTo>
                  <a:pt x="2555" y="960"/>
                </a:lnTo>
                <a:lnTo>
                  <a:pt x="2562" y="967"/>
                </a:lnTo>
                <a:lnTo>
                  <a:pt x="2569" y="967"/>
                </a:lnTo>
                <a:lnTo>
                  <a:pt x="2583" y="973"/>
                </a:lnTo>
                <a:lnTo>
                  <a:pt x="2590" y="973"/>
                </a:lnTo>
                <a:lnTo>
                  <a:pt x="2603" y="980"/>
                </a:lnTo>
                <a:lnTo>
                  <a:pt x="2610" y="987"/>
                </a:lnTo>
                <a:lnTo>
                  <a:pt x="2624" y="987"/>
                </a:lnTo>
                <a:lnTo>
                  <a:pt x="2631" y="994"/>
                </a:lnTo>
                <a:lnTo>
                  <a:pt x="2645" y="994"/>
                </a:lnTo>
                <a:lnTo>
                  <a:pt x="2652" y="1001"/>
                </a:lnTo>
                <a:lnTo>
                  <a:pt x="2659" y="1001"/>
                </a:lnTo>
                <a:lnTo>
                  <a:pt x="2673" y="1008"/>
                </a:lnTo>
                <a:lnTo>
                  <a:pt x="2680" y="1015"/>
                </a:lnTo>
                <a:lnTo>
                  <a:pt x="2694" y="1015"/>
                </a:lnTo>
                <a:lnTo>
                  <a:pt x="2701" y="1022"/>
                </a:lnTo>
                <a:lnTo>
                  <a:pt x="2715" y="1022"/>
                </a:lnTo>
                <a:lnTo>
                  <a:pt x="2722" y="1029"/>
                </a:lnTo>
                <a:lnTo>
                  <a:pt x="2736" y="1029"/>
                </a:lnTo>
                <a:lnTo>
                  <a:pt x="2743" y="1036"/>
                </a:lnTo>
                <a:lnTo>
                  <a:pt x="2750" y="1036"/>
                </a:lnTo>
                <a:lnTo>
                  <a:pt x="2764" y="1043"/>
                </a:lnTo>
                <a:lnTo>
                  <a:pt x="2771" y="1043"/>
                </a:lnTo>
                <a:lnTo>
                  <a:pt x="2784" y="1050"/>
                </a:lnTo>
                <a:lnTo>
                  <a:pt x="2791" y="1050"/>
                </a:lnTo>
                <a:lnTo>
                  <a:pt x="2805" y="1057"/>
                </a:lnTo>
                <a:lnTo>
                  <a:pt x="2812" y="1064"/>
                </a:lnTo>
                <a:lnTo>
                  <a:pt x="2826" y="1064"/>
                </a:lnTo>
                <a:lnTo>
                  <a:pt x="2833" y="1071"/>
                </a:lnTo>
                <a:lnTo>
                  <a:pt x="2840" y="1071"/>
                </a:lnTo>
                <a:lnTo>
                  <a:pt x="2854" y="1078"/>
                </a:lnTo>
                <a:lnTo>
                  <a:pt x="2861" y="1078"/>
                </a:lnTo>
                <a:lnTo>
                  <a:pt x="2875" y="1085"/>
                </a:lnTo>
                <a:lnTo>
                  <a:pt x="2882" y="1085"/>
                </a:lnTo>
                <a:lnTo>
                  <a:pt x="2896" y="1092"/>
                </a:lnTo>
                <a:lnTo>
                  <a:pt x="2903" y="1092"/>
                </a:lnTo>
                <a:lnTo>
                  <a:pt x="2917" y="1099"/>
                </a:lnTo>
                <a:lnTo>
                  <a:pt x="2924" y="1099"/>
                </a:lnTo>
                <a:lnTo>
                  <a:pt x="2931" y="1106"/>
                </a:lnTo>
                <a:lnTo>
                  <a:pt x="2945" y="1106"/>
                </a:lnTo>
                <a:lnTo>
                  <a:pt x="2952" y="1112"/>
                </a:lnTo>
                <a:lnTo>
                  <a:pt x="2965" y="1112"/>
                </a:lnTo>
                <a:lnTo>
                  <a:pt x="2972" y="1119"/>
                </a:lnTo>
                <a:lnTo>
                  <a:pt x="2986" y="1119"/>
                </a:lnTo>
                <a:lnTo>
                  <a:pt x="2993" y="1126"/>
                </a:lnTo>
                <a:lnTo>
                  <a:pt x="3007" y="1126"/>
                </a:lnTo>
                <a:lnTo>
                  <a:pt x="3014" y="1133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236680" y="2552760"/>
            <a:ext cx="4786560" cy="2397240"/>
          </a:xfrm>
          <a:custGeom>
            <a:avLst/>
            <a:gdLst/>
            <a:ahLst/>
            <a:rect l="l" t="t" r="r" b="b"/>
            <a:pathLst>
              <a:path w="3015" h="1510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49" y="0"/>
                </a:lnTo>
                <a:lnTo>
                  <a:pt x="63" y="0"/>
                </a:lnTo>
                <a:lnTo>
                  <a:pt x="70" y="0"/>
                </a:lnTo>
                <a:lnTo>
                  <a:pt x="84" y="0"/>
                </a:lnTo>
                <a:lnTo>
                  <a:pt x="91" y="0"/>
                </a:lnTo>
                <a:lnTo>
                  <a:pt x="98" y="0"/>
                </a:lnTo>
                <a:lnTo>
                  <a:pt x="112" y="0"/>
                </a:lnTo>
                <a:lnTo>
                  <a:pt x="119" y="0"/>
                </a:lnTo>
                <a:lnTo>
                  <a:pt x="132" y="0"/>
                </a:lnTo>
                <a:lnTo>
                  <a:pt x="139" y="0"/>
                </a:lnTo>
                <a:lnTo>
                  <a:pt x="153" y="0"/>
                </a:lnTo>
                <a:lnTo>
                  <a:pt x="160" y="0"/>
                </a:lnTo>
                <a:lnTo>
                  <a:pt x="174" y="0"/>
                </a:lnTo>
                <a:lnTo>
                  <a:pt x="181" y="0"/>
                </a:lnTo>
                <a:lnTo>
                  <a:pt x="188" y="0"/>
                </a:lnTo>
                <a:lnTo>
                  <a:pt x="202" y="0"/>
                </a:lnTo>
                <a:lnTo>
                  <a:pt x="209" y="0"/>
                </a:lnTo>
                <a:lnTo>
                  <a:pt x="223" y="0"/>
                </a:lnTo>
                <a:lnTo>
                  <a:pt x="230" y="0"/>
                </a:lnTo>
                <a:lnTo>
                  <a:pt x="244" y="0"/>
                </a:lnTo>
                <a:lnTo>
                  <a:pt x="251" y="0"/>
                </a:lnTo>
                <a:lnTo>
                  <a:pt x="265" y="0"/>
                </a:lnTo>
                <a:lnTo>
                  <a:pt x="272" y="0"/>
                </a:lnTo>
                <a:lnTo>
                  <a:pt x="279" y="0"/>
                </a:lnTo>
                <a:lnTo>
                  <a:pt x="293" y="0"/>
                </a:lnTo>
                <a:lnTo>
                  <a:pt x="299" y="0"/>
                </a:lnTo>
                <a:lnTo>
                  <a:pt x="313" y="0"/>
                </a:lnTo>
                <a:lnTo>
                  <a:pt x="320" y="0"/>
                </a:lnTo>
                <a:lnTo>
                  <a:pt x="334" y="0"/>
                </a:lnTo>
                <a:lnTo>
                  <a:pt x="341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83" y="0"/>
                </a:lnTo>
                <a:lnTo>
                  <a:pt x="390" y="0"/>
                </a:lnTo>
                <a:lnTo>
                  <a:pt x="404" y="0"/>
                </a:lnTo>
                <a:lnTo>
                  <a:pt x="411" y="0"/>
                </a:lnTo>
                <a:lnTo>
                  <a:pt x="425" y="0"/>
                </a:lnTo>
                <a:lnTo>
                  <a:pt x="432" y="0"/>
                </a:lnTo>
                <a:lnTo>
                  <a:pt x="446" y="0"/>
                </a:lnTo>
                <a:lnTo>
                  <a:pt x="453" y="0"/>
                </a:lnTo>
                <a:lnTo>
                  <a:pt x="460" y="0"/>
                </a:lnTo>
                <a:lnTo>
                  <a:pt x="474" y="0"/>
                </a:lnTo>
                <a:lnTo>
                  <a:pt x="480" y="0"/>
                </a:lnTo>
                <a:lnTo>
                  <a:pt x="494" y="0"/>
                </a:lnTo>
                <a:lnTo>
                  <a:pt x="501" y="0"/>
                </a:lnTo>
                <a:lnTo>
                  <a:pt x="515" y="0"/>
                </a:lnTo>
                <a:lnTo>
                  <a:pt x="522" y="0"/>
                </a:lnTo>
                <a:lnTo>
                  <a:pt x="529" y="0"/>
                </a:lnTo>
                <a:lnTo>
                  <a:pt x="543" y="0"/>
                </a:lnTo>
                <a:lnTo>
                  <a:pt x="550" y="0"/>
                </a:lnTo>
                <a:lnTo>
                  <a:pt x="564" y="0"/>
                </a:lnTo>
                <a:lnTo>
                  <a:pt x="571" y="0"/>
                </a:lnTo>
                <a:lnTo>
                  <a:pt x="585" y="0"/>
                </a:lnTo>
                <a:lnTo>
                  <a:pt x="592" y="0"/>
                </a:lnTo>
                <a:lnTo>
                  <a:pt x="606" y="0"/>
                </a:lnTo>
                <a:lnTo>
                  <a:pt x="613" y="0"/>
                </a:lnTo>
                <a:lnTo>
                  <a:pt x="620" y="7"/>
                </a:lnTo>
                <a:lnTo>
                  <a:pt x="634" y="7"/>
                </a:lnTo>
                <a:lnTo>
                  <a:pt x="641" y="7"/>
                </a:lnTo>
                <a:lnTo>
                  <a:pt x="654" y="7"/>
                </a:lnTo>
                <a:lnTo>
                  <a:pt x="661" y="7"/>
                </a:lnTo>
                <a:lnTo>
                  <a:pt x="675" y="7"/>
                </a:lnTo>
                <a:lnTo>
                  <a:pt x="682" y="7"/>
                </a:lnTo>
                <a:lnTo>
                  <a:pt x="696" y="7"/>
                </a:lnTo>
                <a:lnTo>
                  <a:pt x="703" y="7"/>
                </a:lnTo>
                <a:lnTo>
                  <a:pt x="710" y="14"/>
                </a:lnTo>
                <a:lnTo>
                  <a:pt x="724" y="14"/>
                </a:lnTo>
                <a:lnTo>
                  <a:pt x="731" y="14"/>
                </a:lnTo>
                <a:lnTo>
                  <a:pt x="745" y="14"/>
                </a:lnTo>
                <a:lnTo>
                  <a:pt x="752" y="14"/>
                </a:lnTo>
                <a:lnTo>
                  <a:pt x="766" y="21"/>
                </a:lnTo>
                <a:lnTo>
                  <a:pt x="773" y="21"/>
                </a:lnTo>
                <a:lnTo>
                  <a:pt x="787" y="21"/>
                </a:lnTo>
                <a:lnTo>
                  <a:pt x="794" y="21"/>
                </a:lnTo>
                <a:lnTo>
                  <a:pt x="801" y="28"/>
                </a:lnTo>
                <a:lnTo>
                  <a:pt x="815" y="28"/>
                </a:lnTo>
                <a:lnTo>
                  <a:pt x="822" y="35"/>
                </a:lnTo>
                <a:lnTo>
                  <a:pt x="835" y="35"/>
                </a:lnTo>
                <a:lnTo>
                  <a:pt x="842" y="35"/>
                </a:lnTo>
                <a:lnTo>
                  <a:pt x="856" y="42"/>
                </a:lnTo>
                <a:lnTo>
                  <a:pt x="863" y="42"/>
                </a:lnTo>
                <a:lnTo>
                  <a:pt x="877" y="49"/>
                </a:lnTo>
                <a:lnTo>
                  <a:pt x="884" y="56"/>
                </a:lnTo>
                <a:lnTo>
                  <a:pt x="891" y="56"/>
                </a:lnTo>
                <a:lnTo>
                  <a:pt x="905" y="63"/>
                </a:lnTo>
                <a:lnTo>
                  <a:pt x="912" y="70"/>
                </a:lnTo>
                <a:lnTo>
                  <a:pt x="926" y="70"/>
                </a:lnTo>
                <a:lnTo>
                  <a:pt x="933" y="77"/>
                </a:lnTo>
                <a:lnTo>
                  <a:pt x="947" y="84"/>
                </a:lnTo>
                <a:lnTo>
                  <a:pt x="954" y="91"/>
                </a:lnTo>
                <a:lnTo>
                  <a:pt x="968" y="91"/>
                </a:lnTo>
                <a:lnTo>
                  <a:pt x="975" y="98"/>
                </a:lnTo>
                <a:lnTo>
                  <a:pt x="982" y="105"/>
                </a:lnTo>
                <a:lnTo>
                  <a:pt x="996" y="112"/>
                </a:lnTo>
                <a:lnTo>
                  <a:pt x="1003" y="119"/>
                </a:lnTo>
                <a:lnTo>
                  <a:pt x="1016" y="126"/>
                </a:lnTo>
                <a:lnTo>
                  <a:pt x="1023" y="133"/>
                </a:lnTo>
                <a:lnTo>
                  <a:pt x="1037" y="139"/>
                </a:lnTo>
                <a:lnTo>
                  <a:pt x="1044" y="146"/>
                </a:lnTo>
                <a:lnTo>
                  <a:pt x="1058" y="153"/>
                </a:lnTo>
                <a:lnTo>
                  <a:pt x="1065" y="167"/>
                </a:lnTo>
                <a:lnTo>
                  <a:pt x="1072" y="174"/>
                </a:lnTo>
                <a:lnTo>
                  <a:pt x="1086" y="181"/>
                </a:lnTo>
                <a:lnTo>
                  <a:pt x="1093" y="188"/>
                </a:lnTo>
                <a:lnTo>
                  <a:pt x="1107" y="195"/>
                </a:lnTo>
                <a:lnTo>
                  <a:pt x="1114" y="209"/>
                </a:lnTo>
                <a:lnTo>
                  <a:pt x="1128" y="216"/>
                </a:lnTo>
                <a:lnTo>
                  <a:pt x="1135" y="223"/>
                </a:lnTo>
                <a:lnTo>
                  <a:pt x="1149" y="230"/>
                </a:lnTo>
                <a:lnTo>
                  <a:pt x="1156" y="244"/>
                </a:lnTo>
                <a:lnTo>
                  <a:pt x="1163" y="251"/>
                </a:lnTo>
                <a:lnTo>
                  <a:pt x="1177" y="258"/>
                </a:lnTo>
                <a:lnTo>
                  <a:pt x="1183" y="272"/>
                </a:lnTo>
                <a:lnTo>
                  <a:pt x="1197" y="278"/>
                </a:lnTo>
                <a:lnTo>
                  <a:pt x="1204" y="285"/>
                </a:lnTo>
                <a:lnTo>
                  <a:pt x="1218" y="292"/>
                </a:lnTo>
                <a:lnTo>
                  <a:pt x="1225" y="306"/>
                </a:lnTo>
                <a:lnTo>
                  <a:pt x="1239" y="313"/>
                </a:lnTo>
                <a:lnTo>
                  <a:pt x="1246" y="327"/>
                </a:lnTo>
                <a:lnTo>
                  <a:pt x="1253" y="334"/>
                </a:lnTo>
                <a:lnTo>
                  <a:pt x="1267" y="341"/>
                </a:lnTo>
                <a:lnTo>
                  <a:pt x="1274" y="355"/>
                </a:lnTo>
                <a:lnTo>
                  <a:pt x="1288" y="362"/>
                </a:lnTo>
                <a:lnTo>
                  <a:pt x="1295" y="369"/>
                </a:lnTo>
                <a:lnTo>
                  <a:pt x="1309" y="383"/>
                </a:lnTo>
                <a:lnTo>
                  <a:pt x="1316" y="390"/>
                </a:lnTo>
                <a:lnTo>
                  <a:pt x="1330" y="397"/>
                </a:lnTo>
                <a:lnTo>
                  <a:pt x="1337" y="411"/>
                </a:lnTo>
                <a:lnTo>
                  <a:pt x="1344" y="417"/>
                </a:lnTo>
                <a:lnTo>
                  <a:pt x="1358" y="424"/>
                </a:lnTo>
                <a:lnTo>
                  <a:pt x="1364" y="438"/>
                </a:lnTo>
                <a:lnTo>
                  <a:pt x="1378" y="445"/>
                </a:lnTo>
                <a:lnTo>
                  <a:pt x="1385" y="452"/>
                </a:lnTo>
                <a:lnTo>
                  <a:pt x="1399" y="466"/>
                </a:lnTo>
                <a:lnTo>
                  <a:pt x="1406" y="473"/>
                </a:lnTo>
                <a:lnTo>
                  <a:pt x="1420" y="480"/>
                </a:lnTo>
                <a:lnTo>
                  <a:pt x="1427" y="494"/>
                </a:lnTo>
                <a:lnTo>
                  <a:pt x="1434" y="501"/>
                </a:lnTo>
                <a:lnTo>
                  <a:pt x="1448" y="508"/>
                </a:lnTo>
                <a:lnTo>
                  <a:pt x="1455" y="522"/>
                </a:lnTo>
                <a:lnTo>
                  <a:pt x="1469" y="529"/>
                </a:lnTo>
                <a:lnTo>
                  <a:pt x="1476" y="536"/>
                </a:lnTo>
                <a:lnTo>
                  <a:pt x="1490" y="543"/>
                </a:lnTo>
                <a:lnTo>
                  <a:pt x="1497" y="556"/>
                </a:lnTo>
                <a:lnTo>
                  <a:pt x="1511" y="563"/>
                </a:lnTo>
                <a:lnTo>
                  <a:pt x="1518" y="570"/>
                </a:lnTo>
                <a:lnTo>
                  <a:pt x="1525" y="584"/>
                </a:lnTo>
                <a:lnTo>
                  <a:pt x="1538" y="591"/>
                </a:lnTo>
                <a:lnTo>
                  <a:pt x="1545" y="598"/>
                </a:lnTo>
                <a:lnTo>
                  <a:pt x="1559" y="605"/>
                </a:lnTo>
                <a:lnTo>
                  <a:pt x="1566" y="619"/>
                </a:lnTo>
                <a:lnTo>
                  <a:pt x="1580" y="626"/>
                </a:lnTo>
                <a:lnTo>
                  <a:pt x="1587" y="633"/>
                </a:lnTo>
                <a:lnTo>
                  <a:pt x="1594" y="640"/>
                </a:lnTo>
                <a:lnTo>
                  <a:pt x="1608" y="647"/>
                </a:lnTo>
                <a:lnTo>
                  <a:pt x="1615" y="661"/>
                </a:lnTo>
                <a:lnTo>
                  <a:pt x="1629" y="668"/>
                </a:lnTo>
                <a:lnTo>
                  <a:pt x="1636" y="675"/>
                </a:lnTo>
                <a:lnTo>
                  <a:pt x="1650" y="682"/>
                </a:lnTo>
                <a:lnTo>
                  <a:pt x="1657" y="689"/>
                </a:lnTo>
                <a:lnTo>
                  <a:pt x="1671" y="702"/>
                </a:lnTo>
                <a:lnTo>
                  <a:pt x="1678" y="709"/>
                </a:lnTo>
                <a:lnTo>
                  <a:pt x="1685" y="716"/>
                </a:lnTo>
                <a:lnTo>
                  <a:pt x="1699" y="723"/>
                </a:lnTo>
                <a:lnTo>
                  <a:pt x="1706" y="730"/>
                </a:lnTo>
                <a:lnTo>
                  <a:pt x="1719" y="737"/>
                </a:lnTo>
                <a:lnTo>
                  <a:pt x="1726" y="744"/>
                </a:lnTo>
                <a:lnTo>
                  <a:pt x="1740" y="758"/>
                </a:lnTo>
                <a:lnTo>
                  <a:pt x="1747" y="765"/>
                </a:lnTo>
                <a:lnTo>
                  <a:pt x="1761" y="772"/>
                </a:lnTo>
                <a:lnTo>
                  <a:pt x="1768" y="779"/>
                </a:lnTo>
                <a:lnTo>
                  <a:pt x="1775" y="786"/>
                </a:lnTo>
                <a:lnTo>
                  <a:pt x="1789" y="793"/>
                </a:lnTo>
                <a:lnTo>
                  <a:pt x="1796" y="800"/>
                </a:lnTo>
                <a:lnTo>
                  <a:pt x="1810" y="807"/>
                </a:lnTo>
                <a:lnTo>
                  <a:pt x="1817" y="814"/>
                </a:lnTo>
                <a:lnTo>
                  <a:pt x="1831" y="821"/>
                </a:lnTo>
                <a:lnTo>
                  <a:pt x="1838" y="834"/>
                </a:lnTo>
                <a:lnTo>
                  <a:pt x="1852" y="841"/>
                </a:lnTo>
                <a:lnTo>
                  <a:pt x="1859" y="848"/>
                </a:lnTo>
                <a:lnTo>
                  <a:pt x="1866" y="855"/>
                </a:lnTo>
                <a:lnTo>
                  <a:pt x="1880" y="862"/>
                </a:lnTo>
                <a:lnTo>
                  <a:pt x="1887" y="869"/>
                </a:lnTo>
                <a:lnTo>
                  <a:pt x="1900" y="876"/>
                </a:lnTo>
                <a:lnTo>
                  <a:pt x="1907" y="883"/>
                </a:lnTo>
                <a:lnTo>
                  <a:pt x="1921" y="890"/>
                </a:lnTo>
                <a:lnTo>
                  <a:pt x="1928" y="897"/>
                </a:lnTo>
                <a:lnTo>
                  <a:pt x="1942" y="904"/>
                </a:lnTo>
                <a:lnTo>
                  <a:pt x="1949" y="911"/>
                </a:lnTo>
                <a:lnTo>
                  <a:pt x="1956" y="918"/>
                </a:lnTo>
                <a:lnTo>
                  <a:pt x="1970" y="925"/>
                </a:lnTo>
                <a:lnTo>
                  <a:pt x="1977" y="932"/>
                </a:lnTo>
                <a:lnTo>
                  <a:pt x="1991" y="939"/>
                </a:lnTo>
                <a:lnTo>
                  <a:pt x="1998" y="946"/>
                </a:lnTo>
                <a:lnTo>
                  <a:pt x="2012" y="953"/>
                </a:lnTo>
                <a:lnTo>
                  <a:pt x="2019" y="960"/>
                </a:lnTo>
                <a:lnTo>
                  <a:pt x="2033" y="967"/>
                </a:lnTo>
                <a:lnTo>
                  <a:pt x="2040" y="973"/>
                </a:lnTo>
                <a:lnTo>
                  <a:pt x="2047" y="980"/>
                </a:lnTo>
                <a:lnTo>
                  <a:pt x="2061" y="987"/>
                </a:lnTo>
                <a:lnTo>
                  <a:pt x="2068" y="994"/>
                </a:lnTo>
                <a:lnTo>
                  <a:pt x="2081" y="1001"/>
                </a:lnTo>
                <a:lnTo>
                  <a:pt x="2088" y="1008"/>
                </a:lnTo>
                <a:lnTo>
                  <a:pt x="2102" y="1015"/>
                </a:lnTo>
                <a:lnTo>
                  <a:pt x="2109" y="1022"/>
                </a:lnTo>
                <a:lnTo>
                  <a:pt x="2123" y="1029"/>
                </a:lnTo>
                <a:lnTo>
                  <a:pt x="2130" y="1029"/>
                </a:lnTo>
                <a:lnTo>
                  <a:pt x="2137" y="1036"/>
                </a:lnTo>
                <a:lnTo>
                  <a:pt x="2151" y="1043"/>
                </a:lnTo>
                <a:lnTo>
                  <a:pt x="2158" y="1050"/>
                </a:lnTo>
                <a:lnTo>
                  <a:pt x="2172" y="1057"/>
                </a:lnTo>
                <a:lnTo>
                  <a:pt x="2179" y="1064"/>
                </a:lnTo>
                <a:lnTo>
                  <a:pt x="2193" y="1071"/>
                </a:lnTo>
                <a:lnTo>
                  <a:pt x="2200" y="1078"/>
                </a:lnTo>
                <a:lnTo>
                  <a:pt x="2214" y="1085"/>
                </a:lnTo>
                <a:lnTo>
                  <a:pt x="2221" y="1092"/>
                </a:lnTo>
                <a:lnTo>
                  <a:pt x="2228" y="1099"/>
                </a:lnTo>
                <a:lnTo>
                  <a:pt x="2242" y="1099"/>
                </a:lnTo>
                <a:lnTo>
                  <a:pt x="2248" y="1106"/>
                </a:lnTo>
                <a:lnTo>
                  <a:pt x="2262" y="1112"/>
                </a:lnTo>
                <a:lnTo>
                  <a:pt x="2269" y="1119"/>
                </a:lnTo>
                <a:lnTo>
                  <a:pt x="2283" y="1126"/>
                </a:lnTo>
                <a:lnTo>
                  <a:pt x="2290" y="1133"/>
                </a:lnTo>
                <a:lnTo>
                  <a:pt x="2304" y="1140"/>
                </a:lnTo>
                <a:lnTo>
                  <a:pt x="2311" y="1140"/>
                </a:lnTo>
                <a:lnTo>
                  <a:pt x="2318" y="1147"/>
                </a:lnTo>
                <a:lnTo>
                  <a:pt x="2332" y="1154"/>
                </a:lnTo>
                <a:lnTo>
                  <a:pt x="2339" y="1161"/>
                </a:lnTo>
                <a:lnTo>
                  <a:pt x="2353" y="1168"/>
                </a:lnTo>
                <a:lnTo>
                  <a:pt x="2360" y="1175"/>
                </a:lnTo>
                <a:lnTo>
                  <a:pt x="2374" y="1182"/>
                </a:lnTo>
                <a:lnTo>
                  <a:pt x="2381" y="1182"/>
                </a:lnTo>
                <a:lnTo>
                  <a:pt x="2395" y="1189"/>
                </a:lnTo>
                <a:lnTo>
                  <a:pt x="2402" y="1196"/>
                </a:lnTo>
                <a:lnTo>
                  <a:pt x="2409" y="1203"/>
                </a:lnTo>
                <a:lnTo>
                  <a:pt x="2423" y="1210"/>
                </a:lnTo>
                <a:lnTo>
                  <a:pt x="2429" y="1217"/>
                </a:lnTo>
                <a:lnTo>
                  <a:pt x="2443" y="1217"/>
                </a:lnTo>
                <a:lnTo>
                  <a:pt x="2450" y="1224"/>
                </a:lnTo>
                <a:lnTo>
                  <a:pt x="2464" y="1231"/>
                </a:lnTo>
                <a:lnTo>
                  <a:pt x="2471" y="1238"/>
                </a:lnTo>
                <a:lnTo>
                  <a:pt x="2485" y="1245"/>
                </a:lnTo>
                <a:lnTo>
                  <a:pt x="2492" y="1245"/>
                </a:lnTo>
                <a:lnTo>
                  <a:pt x="2499" y="1251"/>
                </a:lnTo>
                <a:lnTo>
                  <a:pt x="2513" y="1258"/>
                </a:lnTo>
                <a:lnTo>
                  <a:pt x="2520" y="1265"/>
                </a:lnTo>
                <a:lnTo>
                  <a:pt x="2534" y="1272"/>
                </a:lnTo>
                <a:lnTo>
                  <a:pt x="2541" y="1272"/>
                </a:lnTo>
                <a:lnTo>
                  <a:pt x="2555" y="1279"/>
                </a:lnTo>
                <a:lnTo>
                  <a:pt x="2562" y="1286"/>
                </a:lnTo>
                <a:lnTo>
                  <a:pt x="2569" y="1293"/>
                </a:lnTo>
                <a:lnTo>
                  <a:pt x="2583" y="1293"/>
                </a:lnTo>
                <a:lnTo>
                  <a:pt x="2590" y="1300"/>
                </a:lnTo>
                <a:lnTo>
                  <a:pt x="2603" y="1307"/>
                </a:lnTo>
                <a:lnTo>
                  <a:pt x="2610" y="1314"/>
                </a:lnTo>
                <a:lnTo>
                  <a:pt x="2624" y="1314"/>
                </a:lnTo>
                <a:lnTo>
                  <a:pt x="2631" y="1321"/>
                </a:lnTo>
                <a:lnTo>
                  <a:pt x="2645" y="1328"/>
                </a:lnTo>
                <a:lnTo>
                  <a:pt x="2652" y="1335"/>
                </a:lnTo>
                <a:lnTo>
                  <a:pt x="2659" y="1335"/>
                </a:lnTo>
                <a:lnTo>
                  <a:pt x="2673" y="1342"/>
                </a:lnTo>
                <a:lnTo>
                  <a:pt x="2680" y="1349"/>
                </a:lnTo>
                <a:lnTo>
                  <a:pt x="2694" y="1356"/>
                </a:lnTo>
                <a:lnTo>
                  <a:pt x="2701" y="1356"/>
                </a:lnTo>
                <a:lnTo>
                  <a:pt x="2715" y="1363"/>
                </a:lnTo>
                <a:lnTo>
                  <a:pt x="2722" y="1370"/>
                </a:lnTo>
                <a:lnTo>
                  <a:pt x="2736" y="1377"/>
                </a:lnTo>
                <a:lnTo>
                  <a:pt x="2743" y="1377"/>
                </a:lnTo>
                <a:lnTo>
                  <a:pt x="2750" y="1384"/>
                </a:lnTo>
                <a:lnTo>
                  <a:pt x="2764" y="1390"/>
                </a:lnTo>
                <a:lnTo>
                  <a:pt x="2771" y="1390"/>
                </a:lnTo>
                <a:lnTo>
                  <a:pt x="2784" y="1397"/>
                </a:lnTo>
                <a:lnTo>
                  <a:pt x="2791" y="1404"/>
                </a:lnTo>
                <a:lnTo>
                  <a:pt x="2805" y="1411"/>
                </a:lnTo>
                <a:lnTo>
                  <a:pt x="2812" y="1411"/>
                </a:lnTo>
                <a:lnTo>
                  <a:pt x="2826" y="1418"/>
                </a:lnTo>
                <a:lnTo>
                  <a:pt x="2833" y="1425"/>
                </a:lnTo>
                <a:lnTo>
                  <a:pt x="2840" y="1425"/>
                </a:lnTo>
                <a:lnTo>
                  <a:pt x="2854" y="1432"/>
                </a:lnTo>
                <a:lnTo>
                  <a:pt x="2861" y="1439"/>
                </a:lnTo>
                <a:lnTo>
                  <a:pt x="2875" y="1439"/>
                </a:lnTo>
                <a:lnTo>
                  <a:pt x="2882" y="1446"/>
                </a:lnTo>
                <a:lnTo>
                  <a:pt x="2896" y="1453"/>
                </a:lnTo>
                <a:lnTo>
                  <a:pt x="2903" y="1460"/>
                </a:lnTo>
                <a:lnTo>
                  <a:pt x="2917" y="1460"/>
                </a:lnTo>
                <a:lnTo>
                  <a:pt x="2924" y="1467"/>
                </a:lnTo>
                <a:lnTo>
                  <a:pt x="2931" y="1474"/>
                </a:lnTo>
                <a:lnTo>
                  <a:pt x="2945" y="1474"/>
                </a:lnTo>
                <a:lnTo>
                  <a:pt x="2952" y="1481"/>
                </a:lnTo>
                <a:lnTo>
                  <a:pt x="2965" y="1488"/>
                </a:lnTo>
                <a:lnTo>
                  <a:pt x="2972" y="1488"/>
                </a:lnTo>
                <a:lnTo>
                  <a:pt x="2986" y="1495"/>
                </a:lnTo>
                <a:lnTo>
                  <a:pt x="2993" y="1502"/>
                </a:lnTo>
                <a:lnTo>
                  <a:pt x="3007" y="1502"/>
                </a:lnTo>
                <a:lnTo>
                  <a:pt x="3014" y="1509"/>
                </a:lnTo>
              </a:path>
            </a:pathLst>
          </a:custGeom>
          <a:noFill/>
          <a:ln cap="rnd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36680" y="2552760"/>
            <a:ext cx="4786560" cy="2992320"/>
          </a:xfrm>
          <a:custGeom>
            <a:avLst/>
            <a:gdLst/>
            <a:ahLst/>
            <a:rect l="l" t="t" r="r" b="b"/>
            <a:pathLst>
              <a:path w="3015" h="1885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49" y="0"/>
                </a:lnTo>
                <a:lnTo>
                  <a:pt x="63" y="0"/>
                </a:lnTo>
                <a:lnTo>
                  <a:pt x="70" y="0"/>
                </a:lnTo>
                <a:lnTo>
                  <a:pt x="84" y="0"/>
                </a:lnTo>
                <a:lnTo>
                  <a:pt x="91" y="0"/>
                </a:lnTo>
                <a:lnTo>
                  <a:pt x="98" y="0"/>
                </a:lnTo>
                <a:lnTo>
                  <a:pt x="112" y="0"/>
                </a:lnTo>
                <a:lnTo>
                  <a:pt x="119" y="0"/>
                </a:lnTo>
                <a:lnTo>
                  <a:pt x="132" y="0"/>
                </a:lnTo>
                <a:lnTo>
                  <a:pt x="139" y="0"/>
                </a:lnTo>
                <a:lnTo>
                  <a:pt x="153" y="0"/>
                </a:lnTo>
                <a:lnTo>
                  <a:pt x="160" y="0"/>
                </a:lnTo>
                <a:lnTo>
                  <a:pt x="174" y="0"/>
                </a:lnTo>
                <a:lnTo>
                  <a:pt x="181" y="0"/>
                </a:lnTo>
                <a:lnTo>
                  <a:pt x="188" y="0"/>
                </a:lnTo>
                <a:lnTo>
                  <a:pt x="202" y="0"/>
                </a:lnTo>
                <a:lnTo>
                  <a:pt x="209" y="0"/>
                </a:lnTo>
                <a:lnTo>
                  <a:pt x="223" y="0"/>
                </a:lnTo>
                <a:lnTo>
                  <a:pt x="230" y="0"/>
                </a:lnTo>
                <a:lnTo>
                  <a:pt x="244" y="0"/>
                </a:lnTo>
                <a:lnTo>
                  <a:pt x="251" y="0"/>
                </a:lnTo>
                <a:lnTo>
                  <a:pt x="265" y="0"/>
                </a:lnTo>
                <a:lnTo>
                  <a:pt x="272" y="0"/>
                </a:lnTo>
                <a:lnTo>
                  <a:pt x="279" y="0"/>
                </a:lnTo>
                <a:lnTo>
                  <a:pt x="293" y="0"/>
                </a:lnTo>
                <a:lnTo>
                  <a:pt x="299" y="0"/>
                </a:lnTo>
                <a:lnTo>
                  <a:pt x="313" y="0"/>
                </a:lnTo>
                <a:lnTo>
                  <a:pt x="320" y="0"/>
                </a:lnTo>
                <a:lnTo>
                  <a:pt x="334" y="0"/>
                </a:lnTo>
                <a:lnTo>
                  <a:pt x="341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83" y="0"/>
                </a:lnTo>
                <a:lnTo>
                  <a:pt x="390" y="0"/>
                </a:lnTo>
                <a:lnTo>
                  <a:pt x="404" y="0"/>
                </a:lnTo>
                <a:lnTo>
                  <a:pt x="411" y="0"/>
                </a:lnTo>
                <a:lnTo>
                  <a:pt x="425" y="0"/>
                </a:lnTo>
                <a:lnTo>
                  <a:pt x="432" y="0"/>
                </a:lnTo>
                <a:lnTo>
                  <a:pt x="446" y="0"/>
                </a:lnTo>
                <a:lnTo>
                  <a:pt x="453" y="0"/>
                </a:lnTo>
                <a:lnTo>
                  <a:pt x="460" y="0"/>
                </a:lnTo>
                <a:lnTo>
                  <a:pt x="474" y="0"/>
                </a:lnTo>
                <a:lnTo>
                  <a:pt x="480" y="0"/>
                </a:lnTo>
                <a:lnTo>
                  <a:pt x="494" y="0"/>
                </a:lnTo>
                <a:lnTo>
                  <a:pt x="501" y="0"/>
                </a:lnTo>
                <a:lnTo>
                  <a:pt x="515" y="0"/>
                </a:lnTo>
                <a:lnTo>
                  <a:pt x="522" y="0"/>
                </a:lnTo>
                <a:lnTo>
                  <a:pt x="529" y="0"/>
                </a:lnTo>
                <a:lnTo>
                  <a:pt x="543" y="0"/>
                </a:lnTo>
                <a:lnTo>
                  <a:pt x="550" y="0"/>
                </a:lnTo>
                <a:lnTo>
                  <a:pt x="564" y="0"/>
                </a:lnTo>
                <a:lnTo>
                  <a:pt x="571" y="0"/>
                </a:lnTo>
                <a:lnTo>
                  <a:pt x="585" y="0"/>
                </a:lnTo>
                <a:lnTo>
                  <a:pt x="592" y="0"/>
                </a:lnTo>
                <a:lnTo>
                  <a:pt x="606" y="0"/>
                </a:lnTo>
                <a:lnTo>
                  <a:pt x="613" y="0"/>
                </a:lnTo>
                <a:lnTo>
                  <a:pt x="620" y="0"/>
                </a:lnTo>
                <a:lnTo>
                  <a:pt x="634" y="0"/>
                </a:lnTo>
                <a:lnTo>
                  <a:pt x="641" y="0"/>
                </a:lnTo>
                <a:lnTo>
                  <a:pt x="654" y="0"/>
                </a:lnTo>
                <a:lnTo>
                  <a:pt x="661" y="0"/>
                </a:lnTo>
                <a:lnTo>
                  <a:pt x="675" y="0"/>
                </a:lnTo>
                <a:lnTo>
                  <a:pt x="682" y="7"/>
                </a:lnTo>
                <a:lnTo>
                  <a:pt x="696" y="7"/>
                </a:lnTo>
                <a:lnTo>
                  <a:pt x="703" y="7"/>
                </a:lnTo>
                <a:lnTo>
                  <a:pt x="710" y="7"/>
                </a:lnTo>
                <a:lnTo>
                  <a:pt x="724" y="7"/>
                </a:lnTo>
                <a:lnTo>
                  <a:pt x="731" y="7"/>
                </a:lnTo>
                <a:lnTo>
                  <a:pt x="745" y="7"/>
                </a:lnTo>
                <a:lnTo>
                  <a:pt x="752" y="7"/>
                </a:lnTo>
                <a:lnTo>
                  <a:pt x="766" y="14"/>
                </a:lnTo>
                <a:lnTo>
                  <a:pt x="773" y="14"/>
                </a:lnTo>
                <a:lnTo>
                  <a:pt x="787" y="14"/>
                </a:lnTo>
                <a:lnTo>
                  <a:pt x="794" y="14"/>
                </a:lnTo>
                <a:lnTo>
                  <a:pt x="801" y="21"/>
                </a:lnTo>
                <a:lnTo>
                  <a:pt x="815" y="21"/>
                </a:lnTo>
                <a:lnTo>
                  <a:pt x="822" y="21"/>
                </a:lnTo>
                <a:lnTo>
                  <a:pt x="835" y="28"/>
                </a:lnTo>
                <a:lnTo>
                  <a:pt x="842" y="28"/>
                </a:lnTo>
                <a:lnTo>
                  <a:pt x="856" y="28"/>
                </a:lnTo>
                <a:lnTo>
                  <a:pt x="863" y="35"/>
                </a:lnTo>
                <a:lnTo>
                  <a:pt x="877" y="35"/>
                </a:lnTo>
                <a:lnTo>
                  <a:pt x="884" y="42"/>
                </a:lnTo>
                <a:lnTo>
                  <a:pt x="891" y="49"/>
                </a:lnTo>
                <a:lnTo>
                  <a:pt x="905" y="49"/>
                </a:lnTo>
                <a:lnTo>
                  <a:pt x="912" y="56"/>
                </a:lnTo>
                <a:lnTo>
                  <a:pt x="926" y="63"/>
                </a:lnTo>
                <a:lnTo>
                  <a:pt x="933" y="70"/>
                </a:lnTo>
                <a:lnTo>
                  <a:pt x="947" y="77"/>
                </a:lnTo>
                <a:lnTo>
                  <a:pt x="954" y="84"/>
                </a:lnTo>
                <a:lnTo>
                  <a:pt x="968" y="91"/>
                </a:lnTo>
                <a:lnTo>
                  <a:pt x="975" y="98"/>
                </a:lnTo>
                <a:lnTo>
                  <a:pt x="982" y="105"/>
                </a:lnTo>
                <a:lnTo>
                  <a:pt x="996" y="112"/>
                </a:lnTo>
                <a:lnTo>
                  <a:pt x="1003" y="119"/>
                </a:lnTo>
                <a:lnTo>
                  <a:pt x="1016" y="126"/>
                </a:lnTo>
                <a:lnTo>
                  <a:pt x="1023" y="139"/>
                </a:lnTo>
                <a:lnTo>
                  <a:pt x="1037" y="146"/>
                </a:lnTo>
                <a:lnTo>
                  <a:pt x="1044" y="153"/>
                </a:lnTo>
                <a:lnTo>
                  <a:pt x="1058" y="167"/>
                </a:lnTo>
                <a:lnTo>
                  <a:pt x="1065" y="174"/>
                </a:lnTo>
                <a:lnTo>
                  <a:pt x="1072" y="188"/>
                </a:lnTo>
                <a:lnTo>
                  <a:pt x="1086" y="195"/>
                </a:lnTo>
                <a:lnTo>
                  <a:pt x="1093" y="209"/>
                </a:lnTo>
                <a:lnTo>
                  <a:pt x="1107" y="223"/>
                </a:lnTo>
                <a:lnTo>
                  <a:pt x="1114" y="230"/>
                </a:lnTo>
                <a:lnTo>
                  <a:pt x="1128" y="244"/>
                </a:lnTo>
                <a:lnTo>
                  <a:pt x="1135" y="258"/>
                </a:lnTo>
                <a:lnTo>
                  <a:pt x="1149" y="265"/>
                </a:lnTo>
                <a:lnTo>
                  <a:pt x="1156" y="278"/>
                </a:lnTo>
                <a:lnTo>
                  <a:pt x="1163" y="292"/>
                </a:lnTo>
                <a:lnTo>
                  <a:pt x="1177" y="299"/>
                </a:lnTo>
                <a:lnTo>
                  <a:pt x="1183" y="313"/>
                </a:lnTo>
                <a:lnTo>
                  <a:pt x="1197" y="327"/>
                </a:lnTo>
                <a:lnTo>
                  <a:pt x="1204" y="341"/>
                </a:lnTo>
                <a:lnTo>
                  <a:pt x="1218" y="348"/>
                </a:lnTo>
                <a:lnTo>
                  <a:pt x="1225" y="362"/>
                </a:lnTo>
                <a:lnTo>
                  <a:pt x="1239" y="376"/>
                </a:lnTo>
                <a:lnTo>
                  <a:pt x="1246" y="390"/>
                </a:lnTo>
                <a:lnTo>
                  <a:pt x="1253" y="404"/>
                </a:lnTo>
                <a:lnTo>
                  <a:pt x="1267" y="411"/>
                </a:lnTo>
                <a:lnTo>
                  <a:pt x="1274" y="424"/>
                </a:lnTo>
                <a:lnTo>
                  <a:pt x="1288" y="438"/>
                </a:lnTo>
                <a:lnTo>
                  <a:pt x="1295" y="452"/>
                </a:lnTo>
                <a:lnTo>
                  <a:pt x="1309" y="459"/>
                </a:lnTo>
                <a:lnTo>
                  <a:pt x="1316" y="473"/>
                </a:lnTo>
                <a:lnTo>
                  <a:pt x="1330" y="487"/>
                </a:lnTo>
                <a:lnTo>
                  <a:pt x="1337" y="501"/>
                </a:lnTo>
                <a:lnTo>
                  <a:pt x="1344" y="515"/>
                </a:lnTo>
                <a:lnTo>
                  <a:pt x="1358" y="522"/>
                </a:lnTo>
                <a:lnTo>
                  <a:pt x="1364" y="536"/>
                </a:lnTo>
                <a:lnTo>
                  <a:pt x="1378" y="550"/>
                </a:lnTo>
                <a:lnTo>
                  <a:pt x="1385" y="556"/>
                </a:lnTo>
                <a:lnTo>
                  <a:pt x="1399" y="570"/>
                </a:lnTo>
                <a:lnTo>
                  <a:pt x="1406" y="584"/>
                </a:lnTo>
                <a:lnTo>
                  <a:pt x="1420" y="598"/>
                </a:lnTo>
                <a:lnTo>
                  <a:pt x="1427" y="605"/>
                </a:lnTo>
                <a:lnTo>
                  <a:pt x="1434" y="619"/>
                </a:lnTo>
                <a:lnTo>
                  <a:pt x="1448" y="633"/>
                </a:lnTo>
                <a:lnTo>
                  <a:pt x="1455" y="640"/>
                </a:lnTo>
                <a:lnTo>
                  <a:pt x="1469" y="654"/>
                </a:lnTo>
                <a:lnTo>
                  <a:pt x="1476" y="668"/>
                </a:lnTo>
                <a:lnTo>
                  <a:pt x="1490" y="675"/>
                </a:lnTo>
                <a:lnTo>
                  <a:pt x="1497" y="689"/>
                </a:lnTo>
                <a:lnTo>
                  <a:pt x="1511" y="702"/>
                </a:lnTo>
                <a:lnTo>
                  <a:pt x="1518" y="709"/>
                </a:lnTo>
                <a:lnTo>
                  <a:pt x="1525" y="723"/>
                </a:lnTo>
                <a:lnTo>
                  <a:pt x="1538" y="730"/>
                </a:lnTo>
                <a:lnTo>
                  <a:pt x="1545" y="744"/>
                </a:lnTo>
                <a:lnTo>
                  <a:pt x="1559" y="751"/>
                </a:lnTo>
                <a:lnTo>
                  <a:pt x="1566" y="765"/>
                </a:lnTo>
                <a:lnTo>
                  <a:pt x="1580" y="779"/>
                </a:lnTo>
                <a:lnTo>
                  <a:pt x="1587" y="786"/>
                </a:lnTo>
                <a:lnTo>
                  <a:pt x="1594" y="800"/>
                </a:lnTo>
                <a:lnTo>
                  <a:pt x="1608" y="807"/>
                </a:lnTo>
                <a:lnTo>
                  <a:pt x="1615" y="821"/>
                </a:lnTo>
                <a:lnTo>
                  <a:pt x="1629" y="828"/>
                </a:lnTo>
                <a:lnTo>
                  <a:pt x="1636" y="841"/>
                </a:lnTo>
                <a:lnTo>
                  <a:pt x="1650" y="848"/>
                </a:lnTo>
                <a:lnTo>
                  <a:pt x="1657" y="862"/>
                </a:lnTo>
                <a:lnTo>
                  <a:pt x="1671" y="869"/>
                </a:lnTo>
                <a:lnTo>
                  <a:pt x="1678" y="883"/>
                </a:lnTo>
                <a:lnTo>
                  <a:pt x="1685" y="890"/>
                </a:lnTo>
                <a:lnTo>
                  <a:pt x="1699" y="904"/>
                </a:lnTo>
                <a:lnTo>
                  <a:pt x="1706" y="911"/>
                </a:lnTo>
                <a:lnTo>
                  <a:pt x="1719" y="925"/>
                </a:lnTo>
                <a:lnTo>
                  <a:pt x="1726" y="932"/>
                </a:lnTo>
                <a:lnTo>
                  <a:pt x="1740" y="939"/>
                </a:lnTo>
                <a:lnTo>
                  <a:pt x="1747" y="953"/>
                </a:lnTo>
                <a:lnTo>
                  <a:pt x="1761" y="960"/>
                </a:lnTo>
                <a:lnTo>
                  <a:pt x="1768" y="973"/>
                </a:lnTo>
                <a:lnTo>
                  <a:pt x="1775" y="980"/>
                </a:lnTo>
                <a:lnTo>
                  <a:pt x="1789" y="987"/>
                </a:lnTo>
                <a:lnTo>
                  <a:pt x="1796" y="1001"/>
                </a:lnTo>
                <a:lnTo>
                  <a:pt x="1810" y="1008"/>
                </a:lnTo>
                <a:lnTo>
                  <a:pt x="1817" y="1022"/>
                </a:lnTo>
                <a:lnTo>
                  <a:pt x="1831" y="1029"/>
                </a:lnTo>
                <a:lnTo>
                  <a:pt x="1838" y="1036"/>
                </a:lnTo>
                <a:lnTo>
                  <a:pt x="1852" y="1050"/>
                </a:lnTo>
                <a:lnTo>
                  <a:pt x="1859" y="1057"/>
                </a:lnTo>
                <a:lnTo>
                  <a:pt x="1866" y="1064"/>
                </a:lnTo>
                <a:lnTo>
                  <a:pt x="1880" y="1078"/>
                </a:lnTo>
                <a:lnTo>
                  <a:pt x="1887" y="1085"/>
                </a:lnTo>
                <a:lnTo>
                  <a:pt x="1900" y="1092"/>
                </a:lnTo>
                <a:lnTo>
                  <a:pt x="1907" y="1099"/>
                </a:lnTo>
                <a:lnTo>
                  <a:pt x="1921" y="1112"/>
                </a:lnTo>
                <a:lnTo>
                  <a:pt x="1928" y="1119"/>
                </a:lnTo>
                <a:lnTo>
                  <a:pt x="1942" y="1126"/>
                </a:lnTo>
                <a:lnTo>
                  <a:pt x="1949" y="1140"/>
                </a:lnTo>
                <a:lnTo>
                  <a:pt x="1956" y="1147"/>
                </a:lnTo>
                <a:lnTo>
                  <a:pt x="1970" y="1154"/>
                </a:lnTo>
                <a:lnTo>
                  <a:pt x="1977" y="1161"/>
                </a:lnTo>
                <a:lnTo>
                  <a:pt x="1991" y="1175"/>
                </a:lnTo>
                <a:lnTo>
                  <a:pt x="1998" y="1182"/>
                </a:lnTo>
                <a:lnTo>
                  <a:pt x="2012" y="1189"/>
                </a:lnTo>
                <a:lnTo>
                  <a:pt x="2019" y="1196"/>
                </a:lnTo>
                <a:lnTo>
                  <a:pt x="2033" y="1210"/>
                </a:lnTo>
                <a:lnTo>
                  <a:pt x="2040" y="1217"/>
                </a:lnTo>
                <a:lnTo>
                  <a:pt x="2047" y="1224"/>
                </a:lnTo>
                <a:lnTo>
                  <a:pt x="2061" y="1231"/>
                </a:lnTo>
                <a:lnTo>
                  <a:pt x="2068" y="1238"/>
                </a:lnTo>
                <a:lnTo>
                  <a:pt x="2081" y="1251"/>
                </a:lnTo>
                <a:lnTo>
                  <a:pt x="2088" y="1258"/>
                </a:lnTo>
                <a:lnTo>
                  <a:pt x="2102" y="1265"/>
                </a:lnTo>
                <a:lnTo>
                  <a:pt x="2109" y="1272"/>
                </a:lnTo>
                <a:lnTo>
                  <a:pt x="2123" y="1279"/>
                </a:lnTo>
                <a:lnTo>
                  <a:pt x="2130" y="1286"/>
                </a:lnTo>
                <a:lnTo>
                  <a:pt x="2137" y="1300"/>
                </a:lnTo>
                <a:lnTo>
                  <a:pt x="2151" y="1307"/>
                </a:lnTo>
                <a:lnTo>
                  <a:pt x="2158" y="1314"/>
                </a:lnTo>
                <a:lnTo>
                  <a:pt x="2172" y="1321"/>
                </a:lnTo>
                <a:lnTo>
                  <a:pt x="2179" y="1328"/>
                </a:lnTo>
                <a:lnTo>
                  <a:pt x="2193" y="1335"/>
                </a:lnTo>
                <a:lnTo>
                  <a:pt x="2200" y="1342"/>
                </a:lnTo>
                <a:lnTo>
                  <a:pt x="2214" y="1356"/>
                </a:lnTo>
                <a:lnTo>
                  <a:pt x="2221" y="1363"/>
                </a:lnTo>
                <a:lnTo>
                  <a:pt x="2228" y="1370"/>
                </a:lnTo>
                <a:lnTo>
                  <a:pt x="2242" y="1377"/>
                </a:lnTo>
                <a:lnTo>
                  <a:pt x="2248" y="1384"/>
                </a:lnTo>
                <a:lnTo>
                  <a:pt x="2262" y="1390"/>
                </a:lnTo>
                <a:lnTo>
                  <a:pt x="2269" y="1397"/>
                </a:lnTo>
                <a:lnTo>
                  <a:pt x="2283" y="1404"/>
                </a:lnTo>
                <a:lnTo>
                  <a:pt x="2290" y="1411"/>
                </a:lnTo>
                <a:lnTo>
                  <a:pt x="2304" y="1425"/>
                </a:lnTo>
                <a:lnTo>
                  <a:pt x="2311" y="1432"/>
                </a:lnTo>
                <a:lnTo>
                  <a:pt x="2318" y="1439"/>
                </a:lnTo>
                <a:lnTo>
                  <a:pt x="2332" y="1446"/>
                </a:lnTo>
                <a:lnTo>
                  <a:pt x="2339" y="1453"/>
                </a:lnTo>
                <a:lnTo>
                  <a:pt x="2353" y="1460"/>
                </a:lnTo>
                <a:lnTo>
                  <a:pt x="2360" y="1467"/>
                </a:lnTo>
                <a:lnTo>
                  <a:pt x="2374" y="1474"/>
                </a:lnTo>
                <a:lnTo>
                  <a:pt x="2381" y="1481"/>
                </a:lnTo>
                <a:lnTo>
                  <a:pt x="2395" y="1488"/>
                </a:lnTo>
                <a:lnTo>
                  <a:pt x="2402" y="1495"/>
                </a:lnTo>
                <a:lnTo>
                  <a:pt x="2409" y="1502"/>
                </a:lnTo>
                <a:lnTo>
                  <a:pt x="2423" y="1509"/>
                </a:lnTo>
                <a:lnTo>
                  <a:pt x="2429" y="1516"/>
                </a:lnTo>
                <a:lnTo>
                  <a:pt x="2443" y="1523"/>
                </a:lnTo>
                <a:lnTo>
                  <a:pt x="2450" y="1529"/>
                </a:lnTo>
                <a:lnTo>
                  <a:pt x="2464" y="1536"/>
                </a:lnTo>
                <a:lnTo>
                  <a:pt x="2471" y="1543"/>
                </a:lnTo>
                <a:lnTo>
                  <a:pt x="2485" y="1550"/>
                </a:lnTo>
                <a:lnTo>
                  <a:pt x="2492" y="1557"/>
                </a:lnTo>
                <a:lnTo>
                  <a:pt x="2499" y="1564"/>
                </a:lnTo>
                <a:lnTo>
                  <a:pt x="2513" y="1571"/>
                </a:lnTo>
                <a:lnTo>
                  <a:pt x="2520" y="1578"/>
                </a:lnTo>
                <a:lnTo>
                  <a:pt x="2534" y="1585"/>
                </a:lnTo>
                <a:lnTo>
                  <a:pt x="2541" y="1592"/>
                </a:lnTo>
                <a:lnTo>
                  <a:pt x="2555" y="1599"/>
                </a:lnTo>
                <a:lnTo>
                  <a:pt x="2562" y="1606"/>
                </a:lnTo>
                <a:lnTo>
                  <a:pt x="2569" y="1613"/>
                </a:lnTo>
                <a:lnTo>
                  <a:pt x="2583" y="1620"/>
                </a:lnTo>
                <a:lnTo>
                  <a:pt x="2590" y="1627"/>
                </a:lnTo>
                <a:lnTo>
                  <a:pt x="2603" y="1634"/>
                </a:lnTo>
                <a:lnTo>
                  <a:pt x="2610" y="1641"/>
                </a:lnTo>
                <a:lnTo>
                  <a:pt x="2624" y="1648"/>
                </a:lnTo>
                <a:lnTo>
                  <a:pt x="2631" y="1655"/>
                </a:lnTo>
                <a:lnTo>
                  <a:pt x="2645" y="1662"/>
                </a:lnTo>
                <a:lnTo>
                  <a:pt x="2652" y="1668"/>
                </a:lnTo>
                <a:lnTo>
                  <a:pt x="2659" y="1675"/>
                </a:lnTo>
                <a:lnTo>
                  <a:pt x="2673" y="1675"/>
                </a:lnTo>
                <a:lnTo>
                  <a:pt x="2680" y="1682"/>
                </a:lnTo>
                <a:lnTo>
                  <a:pt x="2694" y="1689"/>
                </a:lnTo>
                <a:lnTo>
                  <a:pt x="2701" y="1696"/>
                </a:lnTo>
                <a:lnTo>
                  <a:pt x="2715" y="1703"/>
                </a:lnTo>
                <a:lnTo>
                  <a:pt x="2722" y="1710"/>
                </a:lnTo>
                <a:lnTo>
                  <a:pt x="2736" y="1717"/>
                </a:lnTo>
                <a:lnTo>
                  <a:pt x="2743" y="1724"/>
                </a:lnTo>
                <a:lnTo>
                  <a:pt x="2750" y="1731"/>
                </a:lnTo>
                <a:lnTo>
                  <a:pt x="2764" y="1738"/>
                </a:lnTo>
                <a:lnTo>
                  <a:pt x="2771" y="1745"/>
                </a:lnTo>
                <a:lnTo>
                  <a:pt x="2784" y="1745"/>
                </a:lnTo>
                <a:lnTo>
                  <a:pt x="2791" y="1752"/>
                </a:lnTo>
                <a:lnTo>
                  <a:pt x="2805" y="1759"/>
                </a:lnTo>
                <a:lnTo>
                  <a:pt x="2812" y="1766"/>
                </a:lnTo>
                <a:lnTo>
                  <a:pt x="2826" y="1773"/>
                </a:lnTo>
                <a:lnTo>
                  <a:pt x="2833" y="1780"/>
                </a:lnTo>
                <a:lnTo>
                  <a:pt x="2840" y="1787"/>
                </a:lnTo>
                <a:lnTo>
                  <a:pt x="2854" y="1794"/>
                </a:lnTo>
                <a:lnTo>
                  <a:pt x="2861" y="1801"/>
                </a:lnTo>
                <a:lnTo>
                  <a:pt x="2875" y="1801"/>
                </a:lnTo>
                <a:lnTo>
                  <a:pt x="2882" y="1807"/>
                </a:lnTo>
                <a:lnTo>
                  <a:pt x="2896" y="1814"/>
                </a:lnTo>
                <a:lnTo>
                  <a:pt x="2903" y="1821"/>
                </a:lnTo>
                <a:lnTo>
                  <a:pt x="2917" y="1828"/>
                </a:lnTo>
                <a:lnTo>
                  <a:pt x="2924" y="1835"/>
                </a:lnTo>
                <a:lnTo>
                  <a:pt x="2931" y="1835"/>
                </a:lnTo>
                <a:lnTo>
                  <a:pt x="2945" y="1842"/>
                </a:lnTo>
                <a:lnTo>
                  <a:pt x="2952" y="1849"/>
                </a:lnTo>
                <a:lnTo>
                  <a:pt x="2965" y="1856"/>
                </a:lnTo>
                <a:lnTo>
                  <a:pt x="2972" y="1863"/>
                </a:lnTo>
                <a:lnTo>
                  <a:pt x="2986" y="1870"/>
                </a:lnTo>
                <a:lnTo>
                  <a:pt x="2993" y="1877"/>
                </a:lnTo>
                <a:lnTo>
                  <a:pt x="3007" y="1877"/>
                </a:lnTo>
                <a:lnTo>
                  <a:pt x="3014" y="18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2236680" y="2552760"/>
            <a:ext cx="6131160" cy="3587760"/>
            <a:chOff x="2236680" y="2552760"/>
            <a:chExt cx="6131160" cy="3587760"/>
          </a:xfrm>
        </p:grpSpPr>
        <p:sp>
          <p:nvSpPr>
            <p:cNvPr id="2179" name=""/>
            <p:cNvSpPr/>
            <p:nvPr/>
          </p:nvSpPr>
          <p:spPr>
            <a:xfrm>
              <a:off x="2236680" y="2552760"/>
              <a:ext cx="4786560" cy="3587760"/>
            </a:xfrm>
            <a:custGeom>
              <a:avLst/>
              <a:gdLst/>
              <a:ahLst/>
              <a:rect l="l" t="t" r="r" b="b"/>
              <a:pathLst>
                <a:path w="3015" h="2260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5" y="0"/>
                  </a:lnTo>
                  <a:lnTo>
                    <a:pt x="362" y="0"/>
                  </a:lnTo>
                  <a:lnTo>
                    <a:pt x="369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25" y="0"/>
                  </a:lnTo>
                  <a:lnTo>
                    <a:pt x="432" y="0"/>
                  </a:lnTo>
                  <a:lnTo>
                    <a:pt x="446" y="0"/>
                  </a:lnTo>
                  <a:lnTo>
                    <a:pt x="453" y="0"/>
                  </a:lnTo>
                  <a:lnTo>
                    <a:pt x="460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15" y="0"/>
                  </a:lnTo>
                  <a:lnTo>
                    <a:pt x="522" y="0"/>
                  </a:lnTo>
                  <a:lnTo>
                    <a:pt x="529" y="0"/>
                  </a:lnTo>
                  <a:lnTo>
                    <a:pt x="543" y="0"/>
                  </a:lnTo>
                  <a:lnTo>
                    <a:pt x="550" y="0"/>
                  </a:lnTo>
                  <a:lnTo>
                    <a:pt x="564" y="0"/>
                  </a:lnTo>
                  <a:lnTo>
                    <a:pt x="571" y="0"/>
                  </a:lnTo>
                  <a:lnTo>
                    <a:pt x="585" y="0"/>
                  </a:lnTo>
                  <a:lnTo>
                    <a:pt x="592" y="0"/>
                  </a:lnTo>
                  <a:lnTo>
                    <a:pt x="606" y="0"/>
                  </a:lnTo>
                  <a:lnTo>
                    <a:pt x="613" y="0"/>
                  </a:lnTo>
                  <a:lnTo>
                    <a:pt x="620" y="0"/>
                  </a:lnTo>
                  <a:lnTo>
                    <a:pt x="634" y="0"/>
                  </a:lnTo>
                  <a:lnTo>
                    <a:pt x="641" y="0"/>
                  </a:lnTo>
                  <a:lnTo>
                    <a:pt x="654" y="0"/>
                  </a:lnTo>
                  <a:lnTo>
                    <a:pt x="661" y="0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6" y="0"/>
                  </a:lnTo>
                  <a:lnTo>
                    <a:pt x="703" y="0"/>
                  </a:lnTo>
                  <a:lnTo>
                    <a:pt x="710" y="0"/>
                  </a:lnTo>
                  <a:lnTo>
                    <a:pt x="724" y="0"/>
                  </a:lnTo>
                  <a:lnTo>
                    <a:pt x="731" y="7"/>
                  </a:lnTo>
                  <a:lnTo>
                    <a:pt x="745" y="7"/>
                  </a:lnTo>
                  <a:lnTo>
                    <a:pt x="752" y="7"/>
                  </a:lnTo>
                  <a:lnTo>
                    <a:pt x="766" y="7"/>
                  </a:lnTo>
                  <a:lnTo>
                    <a:pt x="773" y="7"/>
                  </a:lnTo>
                  <a:lnTo>
                    <a:pt x="787" y="7"/>
                  </a:lnTo>
                  <a:lnTo>
                    <a:pt x="794" y="7"/>
                  </a:lnTo>
                  <a:lnTo>
                    <a:pt x="801" y="14"/>
                  </a:lnTo>
                  <a:lnTo>
                    <a:pt x="815" y="14"/>
                  </a:lnTo>
                  <a:lnTo>
                    <a:pt x="822" y="14"/>
                  </a:lnTo>
                  <a:lnTo>
                    <a:pt x="835" y="21"/>
                  </a:lnTo>
                  <a:lnTo>
                    <a:pt x="842" y="21"/>
                  </a:lnTo>
                  <a:lnTo>
                    <a:pt x="856" y="21"/>
                  </a:lnTo>
                  <a:lnTo>
                    <a:pt x="863" y="28"/>
                  </a:lnTo>
                  <a:lnTo>
                    <a:pt x="877" y="28"/>
                  </a:lnTo>
                  <a:lnTo>
                    <a:pt x="884" y="35"/>
                  </a:lnTo>
                  <a:lnTo>
                    <a:pt x="891" y="35"/>
                  </a:lnTo>
                  <a:lnTo>
                    <a:pt x="905" y="42"/>
                  </a:lnTo>
                  <a:lnTo>
                    <a:pt x="912" y="49"/>
                  </a:lnTo>
                  <a:lnTo>
                    <a:pt x="926" y="56"/>
                  </a:lnTo>
                  <a:lnTo>
                    <a:pt x="933" y="63"/>
                  </a:lnTo>
                  <a:lnTo>
                    <a:pt x="947" y="70"/>
                  </a:lnTo>
                  <a:lnTo>
                    <a:pt x="954" y="77"/>
                  </a:lnTo>
                  <a:lnTo>
                    <a:pt x="968" y="84"/>
                  </a:lnTo>
                  <a:lnTo>
                    <a:pt x="975" y="91"/>
                  </a:lnTo>
                  <a:lnTo>
                    <a:pt x="982" y="98"/>
                  </a:lnTo>
                  <a:lnTo>
                    <a:pt x="996" y="112"/>
                  </a:lnTo>
                  <a:lnTo>
                    <a:pt x="1003" y="119"/>
                  </a:lnTo>
                  <a:lnTo>
                    <a:pt x="1016" y="133"/>
                  </a:lnTo>
                  <a:lnTo>
                    <a:pt x="1023" y="139"/>
                  </a:lnTo>
                  <a:lnTo>
                    <a:pt x="1037" y="153"/>
                  </a:lnTo>
                  <a:lnTo>
                    <a:pt x="1044" y="167"/>
                  </a:lnTo>
                  <a:lnTo>
                    <a:pt x="1058" y="174"/>
                  </a:lnTo>
                  <a:lnTo>
                    <a:pt x="1065" y="188"/>
                  </a:lnTo>
                  <a:lnTo>
                    <a:pt x="1072" y="202"/>
                  </a:lnTo>
                  <a:lnTo>
                    <a:pt x="1086" y="216"/>
                  </a:lnTo>
                  <a:lnTo>
                    <a:pt x="1093" y="230"/>
                  </a:lnTo>
                  <a:lnTo>
                    <a:pt x="1107" y="244"/>
                  </a:lnTo>
                  <a:lnTo>
                    <a:pt x="1114" y="258"/>
                  </a:lnTo>
                  <a:lnTo>
                    <a:pt x="1128" y="272"/>
                  </a:lnTo>
                  <a:lnTo>
                    <a:pt x="1135" y="285"/>
                  </a:lnTo>
                  <a:lnTo>
                    <a:pt x="1149" y="299"/>
                  </a:lnTo>
                  <a:lnTo>
                    <a:pt x="1156" y="320"/>
                  </a:lnTo>
                  <a:lnTo>
                    <a:pt x="1163" y="334"/>
                  </a:lnTo>
                  <a:lnTo>
                    <a:pt x="1177" y="348"/>
                  </a:lnTo>
                  <a:lnTo>
                    <a:pt x="1183" y="362"/>
                  </a:lnTo>
                  <a:lnTo>
                    <a:pt x="1197" y="376"/>
                  </a:lnTo>
                  <a:lnTo>
                    <a:pt x="1204" y="397"/>
                  </a:lnTo>
                  <a:lnTo>
                    <a:pt x="1218" y="411"/>
                  </a:lnTo>
                  <a:lnTo>
                    <a:pt x="1225" y="424"/>
                  </a:lnTo>
                  <a:lnTo>
                    <a:pt x="1239" y="438"/>
                  </a:lnTo>
                  <a:lnTo>
                    <a:pt x="1246" y="459"/>
                  </a:lnTo>
                  <a:lnTo>
                    <a:pt x="1253" y="473"/>
                  </a:lnTo>
                  <a:lnTo>
                    <a:pt x="1267" y="487"/>
                  </a:lnTo>
                  <a:lnTo>
                    <a:pt x="1274" y="501"/>
                  </a:lnTo>
                  <a:lnTo>
                    <a:pt x="1288" y="515"/>
                  </a:lnTo>
                  <a:lnTo>
                    <a:pt x="1295" y="536"/>
                  </a:lnTo>
                  <a:lnTo>
                    <a:pt x="1309" y="550"/>
                  </a:lnTo>
                  <a:lnTo>
                    <a:pt x="1316" y="563"/>
                  </a:lnTo>
                  <a:lnTo>
                    <a:pt x="1330" y="577"/>
                  </a:lnTo>
                  <a:lnTo>
                    <a:pt x="1337" y="591"/>
                  </a:lnTo>
                  <a:lnTo>
                    <a:pt x="1344" y="605"/>
                  </a:lnTo>
                  <a:lnTo>
                    <a:pt x="1358" y="626"/>
                  </a:lnTo>
                  <a:lnTo>
                    <a:pt x="1364" y="640"/>
                  </a:lnTo>
                  <a:lnTo>
                    <a:pt x="1378" y="654"/>
                  </a:lnTo>
                  <a:lnTo>
                    <a:pt x="1385" y="668"/>
                  </a:lnTo>
                  <a:lnTo>
                    <a:pt x="1399" y="682"/>
                  </a:lnTo>
                  <a:lnTo>
                    <a:pt x="1406" y="695"/>
                  </a:lnTo>
                  <a:lnTo>
                    <a:pt x="1420" y="709"/>
                  </a:lnTo>
                  <a:lnTo>
                    <a:pt x="1427" y="723"/>
                  </a:lnTo>
                  <a:lnTo>
                    <a:pt x="1434" y="737"/>
                  </a:lnTo>
                  <a:lnTo>
                    <a:pt x="1448" y="751"/>
                  </a:lnTo>
                  <a:lnTo>
                    <a:pt x="1455" y="765"/>
                  </a:lnTo>
                  <a:lnTo>
                    <a:pt x="1469" y="779"/>
                  </a:lnTo>
                  <a:lnTo>
                    <a:pt x="1476" y="793"/>
                  </a:lnTo>
                  <a:lnTo>
                    <a:pt x="1490" y="807"/>
                  </a:lnTo>
                  <a:lnTo>
                    <a:pt x="1497" y="821"/>
                  </a:lnTo>
                  <a:lnTo>
                    <a:pt x="1511" y="834"/>
                  </a:lnTo>
                  <a:lnTo>
                    <a:pt x="1518" y="848"/>
                  </a:lnTo>
                  <a:lnTo>
                    <a:pt x="1525" y="862"/>
                  </a:lnTo>
                  <a:lnTo>
                    <a:pt x="1538" y="876"/>
                  </a:lnTo>
                  <a:lnTo>
                    <a:pt x="1545" y="890"/>
                  </a:lnTo>
                  <a:lnTo>
                    <a:pt x="1559" y="904"/>
                  </a:lnTo>
                  <a:lnTo>
                    <a:pt x="1566" y="918"/>
                  </a:lnTo>
                  <a:lnTo>
                    <a:pt x="1580" y="932"/>
                  </a:lnTo>
                  <a:lnTo>
                    <a:pt x="1587" y="946"/>
                  </a:lnTo>
                  <a:lnTo>
                    <a:pt x="1594" y="953"/>
                  </a:lnTo>
                  <a:lnTo>
                    <a:pt x="1608" y="967"/>
                  </a:lnTo>
                  <a:lnTo>
                    <a:pt x="1615" y="980"/>
                  </a:lnTo>
                  <a:lnTo>
                    <a:pt x="1629" y="994"/>
                  </a:lnTo>
                  <a:lnTo>
                    <a:pt x="1636" y="1008"/>
                  </a:lnTo>
                  <a:lnTo>
                    <a:pt x="1650" y="1022"/>
                  </a:lnTo>
                  <a:lnTo>
                    <a:pt x="1657" y="1029"/>
                  </a:lnTo>
                  <a:lnTo>
                    <a:pt x="1671" y="1043"/>
                  </a:lnTo>
                  <a:lnTo>
                    <a:pt x="1678" y="1057"/>
                  </a:lnTo>
                  <a:lnTo>
                    <a:pt x="1685" y="1071"/>
                  </a:lnTo>
                  <a:lnTo>
                    <a:pt x="1699" y="1078"/>
                  </a:lnTo>
                  <a:lnTo>
                    <a:pt x="1706" y="1092"/>
                  </a:lnTo>
                  <a:lnTo>
                    <a:pt x="1719" y="1106"/>
                  </a:lnTo>
                  <a:lnTo>
                    <a:pt x="1726" y="1119"/>
                  </a:lnTo>
                  <a:lnTo>
                    <a:pt x="1740" y="1126"/>
                  </a:lnTo>
                  <a:lnTo>
                    <a:pt x="1747" y="1140"/>
                  </a:lnTo>
                  <a:lnTo>
                    <a:pt x="1761" y="1154"/>
                  </a:lnTo>
                  <a:lnTo>
                    <a:pt x="1768" y="1161"/>
                  </a:lnTo>
                  <a:lnTo>
                    <a:pt x="1775" y="1175"/>
                  </a:lnTo>
                  <a:lnTo>
                    <a:pt x="1789" y="1189"/>
                  </a:lnTo>
                  <a:lnTo>
                    <a:pt x="1796" y="1196"/>
                  </a:lnTo>
                  <a:lnTo>
                    <a:pt x="1810" y="1210"/>
                  </a:lnTo>
                  <a:lnTo>
                    <a:pt x="1817" y="1224"/>
                  </a:lnTo>
                  <a:lnTo>
                    <a:pt x="1831" y="1231"/>
                  </a:lnTo>
                  <a:lnTo>
                    <a:pt x="1838" y="1245"/>
                  </a:lnTo>
                  <a:lnTo>
                    <a:pt x="1852" y="1258"/>
                  </a:lnTo>
                  <a:lnTo>
                    <a:pt x="1859" y="1265"/>
                  </a:lnTo>
                  <a:lnTo>
                    <a:pt x="1866" y="1279"/>
                  </a:lnTo>
                  <a:lnTo>
                    <a:pt x="1880" y="1286"/>
                  </a:lnTo>
                  <a:lnTo>
                    <a:pt x="1887" y="1300"/>
                  </a:lnTo>
                  <a:lnTo>
                    <a:pt x="1900" y="1314"/>
                  </a:lnTo>
                  <a:lnTo>
                    <a:pt x="1907" y="1321"/>
                  </a:lnTo>
                  <a:lnTo>
                    <a:pt x="1921" y="1335"/>
                  </a:lnTo>
                  <a:lnTo>
                    <a:pt x="1928" y="1342"/>
                  </a:lnTo>
                  <a:lnTo>
                    <a:pt x="1942" y="1356"/>
                  </a:lnTo>
                  <a:lnTo>
                    <a:pt x="1949" y="1363"/>
                  </a:lnTo>
                  <a:lnTo>
                    <a:pt x="1956" y="1377"/>
                  </a:lnTo>
                  <a:lnTo>
                    <a:pt x="1970" y="1384"/>
                  </a:lnTo>
                  <a:lnTo>
                    <a:pt x="1977" y="1397"/>
                  </a:lnTo>
                  <a:lnTo>
                    <a:pt x="1991" y="1404"/>
                  </a:lnTo>
                  <a:lnTo>
                    <a:pt x="1998" y="1418"/>
                  </a:lnTo>
                  <a:lnTo>
                    <a:pt x="2012" y="1425"/>
                  </a:lnTo>
                  <a:lnTo>
                    <a:pt x="2019" y="1439"/>
                  </a:lnTo>
                  <a:lnTo>
                    <a:pt x="2033" y="1446"/>
                  </a:lnTo>
                  <a:lnTo>
                    <a:pt x="2040" y="1460"/>
                  </a:lnTo>
                  <a:lnTo>
                    <a:pt x="2047" y="1467"/>
                  </a:lnTo>
                  <a:lnTo>
                    <a:pt x="2061" y="1481"/>
                  </a:lnTo>
                  <a:lnTo>
                    <a:pt x="2068" y="1488"/>
                  </a:lnTo>
                  <a:lnTo>
                    <a:pt x="2081" y="1495"/>
                  </a:lnTo>
                  <a:lnTo>
                    <a:pt x="2088" y="1509"/>
                  </a:lnTo>
                  <a:lnTo>
                    <a:pt x="2102" y="1516"/>
                  </a:lnTo>
                  <a:lnTo>
                    <a:pt x="2109" y="1529"/>
                  </a:lnTo>
                  <a:lnTo>
                    <a:pt x="2123" y="1536"/>
                  </a:lnTo>
                  <a:lnTo>
                    <a:pt x="2130" y="1550"/>
                  </a:lnTo>
                  <a:lnTo>
                    <a:pt x="2137" y="1557"/>
                  </a:lnTo>
                  <a:lnTo>
                    <a:pt x="2151" y="1564"/>
                  </a:lnTo>
                  <a:lnTo>
                    <a:pt x="2158" y="1578"/>
                  </a:lnTo>
                  <a:lnTo>
                    <a:pt x="2172" y="1585"/>
                  </a:lnTo>
                  <a:lnTo>
                    <a:pt x="2179" y="1592"/>
                  </a:lnTo>
                  <a:lnTo>
                    <a:pt x="2193" y="1606"/>
                  </a:lnTo>
                  <a:lnTo>
                    <a:pt x="2200" y="1613"/>
                  </a:lnTo>
                  <a:lnTo>
                    <a:pt x="2214" y="1627"/>
                  </a:lnTo>
                  <a:lnTo>
                    <a:pt x="2221" y="1634"/>
                  </a:lnTo>
                  <a:lnTo>
                    <a:pt x="2228" y="1641"/>
                  </a:lnTo>
                  <a:lnTo>
                    <a:pt x="2242" y="1655"/>
                  </a:lnTo>
                  <a:lnTo>
                    <a:pt x="2248" y="1662"/>
                  </a:lnTo>
                  <a:lnTo>
                    <a:pt x="2262" y="1668"/>
                  </a:lnTo>
                  <a:lnTo>
                    <a:pt x="2269" y="1682"/>
                  </a:lnTo>
                  <a:lnTo>
                    <a:pt x="2283" y="1689"/>
                  </a:lnTo>
                  <a:lnTo>
                    <a:pt x="2290" y="1696"/>
                  </a:lnTo>
                  <a:lnTo>
                    <a:pt x="2304" y="1703"/>
                  </a:lnTo>
                  <a:lnTo>
                    <a:pt x="2311" y="1717"/>
                  </a:lnTo>
                  <a:lnTo>
                    <a:pt x="2318" y="1724"/>
                  </a:lnTo>
                  <a:lnTo>
                    <a:pt x="2332" y="1731"/>
                  </a:lnTo>
                  <a:lnTo>
                    <a:pt x="2339" y="1745"/>
                  </a:lnTo>
                  <a:lnTo>
                    <a:pt x="2353" y="1752"/>
                  </a:lnTo>
                  <a:lnTo>
                    <a:pt x="2360" y="1759"/>
                  </a:lnTo>
                  <a:lnTo>
                    <a:pt x="2374" y="1766"/>
                  </a:lnTo>
                  <a:lnTo>
                    <a:pt x="2381" y="1780"/>
                  </a:lnTo>
                  <a:lnTo>
                    <a:pt x="2395" y="1787"/>
                  </a:lnTo>
                  <a:lnTo>
                    <a:pt x="2402" y="1794"/>
                  </a:lnTo>
                  <a:lnTo>
                    <a:pt x="2409" y="1801"/>
                  </a:lnTo>
                  <a:lnTo>
                    <a:pt x="2423" y="1814"/>
                  </a:lnTo>
                  <a:lnTo>
                    <a:pt x="2429" y="1821"/>
                  </a:lnTo>
                  <a:lnTo>
                    <a:pt x="2443" y="1828"/>
                  </a:lnTo>
                  <a:lnTo>
                    <a:pt x="2450" y="1835"/>
                  </a:lnTo>
                  <a:lnTo>
                    <a:pt x="2464" y="1842"/>
                  </a:lnTo>
                  <a:lnTo>
                    <a:pt x="2471" y="1856"/>
                  </a:lnTo>
                  <a:lnTo>
                    <a:pt x="2485" y="1863"/>
                  </a:lnTo>
                  <a:lnTo>
                    <a:pt x="2492" y="1870"/>
                  </a:lnTo>
                  <a:lnTo>
                    <a:pt x="2499" y="1877"/>
                  </a:lnTo>
                  <a:lnTo>
                    <a:pt x="2513" y="1884"/>
                  </a:lnTo>
                  <a:lnTo>
                    <a:pt x="2520" y="1898"/>
                  </a:lnTo>
                  <a:lnTo>
                    <a:pt x="2534" y="1905"/>
                  </a:lnTo>
                  <a:lnTo>
                    <a:pt x="2541" y="1912"/>
                  </a:lnTo>
                  <a:lnTo>
                    <a:pt x="2555" y="1919"/>
                  </a:lnTo>
                  <a:lnTo>
                    <a:pt x="2562" y="1926"/>
                  </a:lnTo>
                  <a:lnTo>
                    <a:pt x="2569" y="1933"/>
                  </a:lnTo>
                  <a:lnTo>
                    <a:pt x="2583" y="1946"/>
                  </a:lnTo>
                  <a:lnTo>
                    <a:pt x="2590" y="1953"/>
                  </a:lnTo>
                  <a:lnTo>
                    <a:pt x="2603" y="1960"/>
                  </a:lnTo>
                  <a:lnTo>
                    <a:pt x="2610" y="1967"/>
                  </a:lnTo>
                  <a:lnTo>
                    <a:pt x="2624" y="1974"/>
                  </a:lnTo>
                  <a:lnTo>
                    <a:pt x="2631" y="1981"/>
                  </a:lnTo>
                  <a:lnTo>
                    <a:pt x="2645" y="1988"/>
                  </a:lnTo>
                  <a:lnTo>
                    <a:pt x="2652" y="2002"/>
                  </a:lnTo>
                  <a:lnTo>
                    <a:pt x="2659" y="2009"/>
                  </a:lnTo>
                  <a:lnTo>
                    <a:pt x="2673" y="2016"/>
                  </a:lnTo>
                  <a:lnTo>
                    <a:pt x="2680" y="2023"/>
                  </a:lnTo>
                  <a:lnTo>
                    <a:pt x="2694" y="2030"/>
                  </a:lnTo>
                  <a:lnTo>
                    <a:pt x="2701" y="2037"/>
                  </a:lnTo>
                  <a:lnTo>
                    <a:pt x="2715" y="2044"/>
                  </a:lnTo>
                  <a:lnTo>
                    <a:pt x="2722" y="2051"/>
                  </a:lnTo>
                  <a:lnTo>
                    <a:pt x="2736" y="2058"/>
                  </a:lnTo>
                  <a:lnTo>
                    <a:pt x="2743" y="2065"/>
                  </a:lnTo>
                  <a:lnTo>
                    <a:pt x="2750" y="2079"/>
                  </a:lnTo>
                  <a:lnTo>
                    <a:pt x="2764" y="2085"/>
                  </a:lnTo>
                  <a:lnTo>
                    <a:pt x="2771" y="2092"/>
                  </a:lnTo>
                  <a:lnTo>
                    <a:pt x="2784" y="2099"/>
                  </a:lnTo>
                  <a:lnTo>
                    <a:pt x="2791" y="2106"/>
                  </a:lnTo>
                  <a:lnTo>
                    <a:pt x="2805" y="2113"/>
                  </a:lnTo>
                  <a:lnTo>
                    <a:pt x="2812" y="2120"/>
                  </a:lnTo>
                  <a:lnTo>
                    <a:pt x="2826" y="2127"/>
                  </a:lnTo>
                  <a:lnTo>
                    <a:pt x="2833" y="2134"/>
                  </a:lnTo>
                  <a:lnTo>
                    <a:pt x="2840" y="2141"/>
                  </a:lnTo>
                  <a:lnTo>
                    <a:pt x="2854" y="2148"/>
                  </a:lnTo>
                  <a:lnTo>
                    <a:pt x="2861" y="2155"/>
                  </a:lnTo>
                  <a:lnTo>
                    <a:pt x="2875" y="2162"/>
                  </a:lnTo>
                  <a:lnTo>
                    <a:pt x="2882" y="2169"/>
                  </a:lnTo>
                  <a:lnTo>
                    <a:pt x="2896" y="2176"/>
                  </a:lnTo>
                  <a:lnTo>
                    <a:pt x="2903" y="2183"/>
                  </a:lnTo>
                  <a:lnTo>
                    <a:pt x="2917" y="2190"/>
                  </a:lnTo>
                  <a:lnTo>
                    <a:pt x="2924" y="2197"/>
                  </a:lnTo>
                  <a:lnTo>
                    <a:pt x="2931" y="2204"/>
                  </a:lnTo>
                  <a:lnTo>
                    <a:pt x="2945" y="2211"/>
                  </a:lnTo>
                  <a:lnTo>
                    <a:pt x="2952" y="2218"/>
                  </a:lnTo>
                  <a:lnTo>
                    <a:pt x="2965" y="2224"/>
                  </a:lnTo>
                  <a:lnTo>
                    <a:pt x="2972" y="2231"/>
                  </a:lnTo>
                  <a:lnTo>
                    <a:pt x="2986" y="2238"/>
                  </a:lnTo>
                  <a:lnTo>
                    <a:pt x="2993" y="2245"/>
                  </a:lnTo>
                  <a:lnTo>
                    <a:pt x="3007" y="2252"/>
                  </a:lnTo>
                  <a:lnTo>
                    <a:pt x="3014" y="2259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0" name=""/>
            <p:cNvGrpSpPr/>
            <p:nvPr/>
          </p:nvGrpSpPr>
          <p:grpSpPr>
            <a:xfrm>
              <a:off x="6319800" y="4398840"/>
              <a:ext cx="2048040" cy="1133640"/>
              <a:chOff x="6319800" y="4398840"/>
              <a:chExt cx="2048040" cy="1133640"/>
            </a:xfrm>
          </p:grpSpPr>
          <p:sp>
            <p:nvSpPr>
              <p:cNvPr id="2181" name=""/>
              <p:cNvSpPr/>
              <p:nvPr/>
            </p:nvSpPr>
            <p:spPr>
              <a:xfrm>
                <a:off x="7429680" y="439884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6319800" y="4708440"/>
                <a:ext cx="1106640" cy="824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02AD-7A7E-4A4A-A99F-4DE22AACEFA5}" type="slidenum">
              <a:t>50</a:t>
            </a:fld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Butterworthova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993600" y="2251080"/>
            <a:ext cx="7043400" cy="4492080"/>
            <a:chOff x="993600" y="2251080"/>
            <a:chExt cx="7043400" cy="4492080"/>
          </a:xfrm>
        </p:grpSpPr>
        <p:sp>
          <p:nvSpPr>
            <p:cNvPr id="2186" name=""/>
            <p:cNvSpPr/>
            <p:nvPr/>
          </p:nvSpPr>
          <p:spPr>
            <a:xfrm flipV="1">
              <a:off x="244476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339732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433692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528948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622944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718200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444760" y="624204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444760" y="251460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444760" y="2514600"/>
              <a:ext cx="4738680" cy="3728880"/>
            </a:xfrm>
            <a:custGeom>
              <a:avLst/>
              <a:gdLst/>
              <a:ahLst/>
              <a:rect l="l" t="t" r="r" b="b"/>
              <a:pathLst>
                <a:path w="2985" h="2349">
                  <a:moveTo>
                    <a:pt x="0" y="2348"/>
                  </a:moveTo>
                  <a:lnTo>
                    <a:pt x="0" y="0"/>
                  </a:lnTo>
                  <a:lnTo>
                    <a:pt x="298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444760" y="2514600"/>
              <a:ext cx="4738680" cy="3728880"/>
            </a:xfrm>
            <a:custGeom>
              <a:avLst/>
              <a:gdLst/>
              <a:ahLst/>
              <a:rect l="l" t="t" r="r" b="b"/>
              <a:pathLst>
                <a:path w="2985" h="2349">
                  <a:moveTo>
                    <a:pt x="0" y="2348"/>
                  </a:moveTo>
                  <a:lnTo>
                    <a:pt x="0" y="0"/>
                  </a:lnTo>
                  <a:lnTo>
                    <a:pt x="298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444760" y="2514600"/>
              <a:ext cx="4738680" cy="3728880"/>
            </a:xfrm>
            <a:custGeom>
              <a:avLst/>
              <a:gdLst/>
              <a:ahLst/>
              <a:rect l="l" t="t" r="r" b="b"/>
              <a:pathLst>
                <a:path w="2985" h="2349">
                  <a:moveTo>
                    <a:pt x="0" y="2348"/>
                  </a:moveTo>
                  <a:lnTo>
                    <a:pt x="0" y="0"/>
                  </a:lnTo>
                  <a:lnTo>
                    <a:pt x="2984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444760" y="624204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444760" y="251460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244476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718200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444760" y="25146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182000" y="62420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444760" y="624204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244476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444760" y="62420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44476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4476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339732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9732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433692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33692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528948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8948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622944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22944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7182000" y="61974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182000" y="25146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8" name=""/>
            <p:cNvGrpSpPr/>
            <p:nvPr/>
          </p:nvGrpSpPr>
          <p:grpSpPr>
            <a:xfrm>
              <a:off x="2285280" y="6267600"/>
              <a:ext cx="4971960" cy="397440"/>
              <a:chOff x="2285280" y="6267600"/>
              <a:chExt cx="4971960" cy="397440"/>
            </a:xfrm>
          </p:grpSpPr>
          <p:sp>
            <p:nvSpPr>
              <p:cNvPr id="2219" name=""/>
              <p:cNvSpPr/>
              <p:nvPr/>
            </p:nvSpPr>
            <p:spPr>
              <a:xfrm>
                <a:off x="2285280" y="6267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137760" y="6267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78800" y="6267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029920" y="6267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971320" y="62676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930360" y="6267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2444760" y="62420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7137360" y="62420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44760" y="56181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7137360" y="56181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444760" y="49957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7137360" y="49957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44760" y="43830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7137360" y="43830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44760" y="37609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7137360" y="37609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444760" y="31384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7137360" y="31384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444760" y="25146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7137360" y="25146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1851840" y="2303640"/>
              <a:ext cx="623880" cy="4123080"/>
              <a:chOff x="1851840" y="2303640"/>
              <a:chExt cx="623880" cy="4123080"/>
            </a:xfrm>
          </p:grpSpPr>
          <p:sp>
            <p:nvSpPr>
              <p:cNvPr id="2240" name=""/>
              <p:cNvSpPr/>
              <p:nvPr/>
            </p:nvSpPr>
            <p:spPr>
              <a:xfrm>
                <a:off x="2037240" y="60292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851840" y="540720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037240" y="478296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51840" y="417204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037240" y="354816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851840" y="292572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113920" y="23036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7" name=""/>
            <p:cNvSpPr/>
            <p:nvPr/>
          </p:nvSpPr>
          <p:spPr>
            <a:xfrm>
              <a:off x="2444760" y="5618160"/>
              <a:ext cx="47275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444760" y="4995720"/>
              <a:ext cx="47275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444760" y="4383000"/>
              <a:ext cx="47275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44760" y="3760920"/>
              <a:ext cx="47275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44760" y="3138480"/>
              <a:ext cx="47275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44760" y="6242040"/>
              <a:ext cx="5551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444760" y="2514600"/>
              <a:ext cx="4570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2444760" y="2251080"/>
              <a:ext cx="0" cy="3990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7182000" y="2514600"/>
              <a:ext cx="0" cy="3727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444760" y="62420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182000" y="251460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617240" y="628488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9" name=""/>
                <p:cNvSpPr txBox="1"/>
                <p:nvPr/>
              </p:nvSpPr>
              <p:spPr>
                <a:xfrm>
                  <a:off x="993600" y="2281320"/>
                  <a:ext cx="100332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0" name=""/>
          <p:cNvGrpSpPr/>
          <p:nvPr/>
        </p:nvGrpSpPr>
        <p:grpSpPr>
          <a:xfrm>
            <a:off x="2444760" y="2514600"/>
            <a:ext cx="5872320" cy="4253040"/>
            <a:chOff x="2444760" y="2514600"/>
            <a:chExt cx="5872320" cy="4253040"/>
          </a:xfrm>
        </p:grpSpPr>
        <p:sp>
          <p:nvSpPr>
            <p:cNvPr id="2261" name=""/>
            <p:cNvSpPr/>
            <p:nvPr/>
          </p:nvSpPr>
          <p:spPr>
            <a:xfrm>
              <a:off x="2444760" y="2514600"/>
              <a:ext cx="5187960" cy="4253040"/>
            </a:xfrm>
            <a:custGeom>
              <a:avLst/>
              <a:gdLst/>
              <a:ahLst/>
              <a:rect l="l" t="t" r="r" b="b"/>
              <a:pathLst>
                <a:path w="3268" h="2679">
                  <a:moveTo>
                    <a:pt x="0" y="0"/>
                  </a:moveTo>
                  <a:lnTo>
                    <a:pt x="28" y="0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17" y="7"/>
                  </a:lnTo>
                  <a:lnTo>
                    <a:pt x="152" y="7"/>
                  </a:lnTo>
                  <a:lnTo>
                    <a:pt x="179" y="14"/>
                  </a:lnTo>
                  <a:lnTo>
                    <a:pt x="207" y="14"/>
                  </a:lnTo>
                  <a:lnTo>
                    <a:pt x="241" y="21"/>
                  </a:lnTo>
                  <a:lnTo>
                    <a:pt x="269" y="28"/>
                  </a:lnTo>
                  <a:lnTo>
                    <a:pt x="296" y="35"/>
                  </a:lnTo>
                  <a:lnTo>
                    <a:pt x="331" y="42"/>
                  </a:lnTo>
                  <a:lnTo>
                    <a:pt x="358" y="49"/>
                  </a:lnTo>
                  <a:lnTo>
                    <a:pt x="386" y="55"/>
                  </a:lnTo>
                  <a:lnTo>
                    <a:pt x="421" y="69"/>
                  </a:lnTo>
                  <a:lnTo>
                    <a:pt x="448" y="76"/>
                  </a:lnTo>
                  <a:lnTo>
                    <a:pt x="476" y="83"/>
                  </a:lnTo>
                  <a:lnTo>
                    <a:pt x="510" y="97"/>
                  </a:lnTo>
                  <a:lnTo>
                    <a:pt x="538" y="111"/>
                  </a:lnTo>
                  <a:lnTo>
                    <a:pt x="565" y="124"/>
                  </a:lnTo>
                  <a:lnTo>
                    <a:pt x="600" y="131"/>
                  </a:lnTo>
                  <a:lnTo>
                    <a:pt x="627" y="145"/>
                  </a:lnTo>
                  <a:lnTo>
                    <a:pt x="655" y="159"/>
                  </a:lnTo>
                  <a:lnTo>
                    <a:pt x="689" y="172"/>
                  </a:lnTo>
                  <a:lnTo>
                    <a:pt x="717" y="193"/>
                  </a:lnTo>
                  <a:lnTo>
                    <a:pt x="744" y="207"/>
                  </a:lnTo>
                  <a:lnTo>
                    <a:pt x="779" y="221"/>
                  </a:lnTo>
                  <a:lnTo>
                    <a:pt x="806" y="241"/>
                  </a:lnTo>
                  <a:lnTo>
                    <a:pt x="834" y="255"/>
                  </a:lnTo>
                  <a:lnTo>
                    <a:pt x="868" y="276"/>
                  </a:lnTo>
                  <a:lnTo>
                    <a:pt x="896" y="296"/>
                  </a:lnTo>
                  <a:lnTo>
                    <a:pt x="924" y="310"/>
                  </a:lnTo>
                  <a:lnTo>
                    <a:pt x="958" y="331"/>
                  </a:lnTo>
                  <a:lnTo>
                    <a:pt x="986" y="351"/>
                  </a:lnTo>
                  <a:lnTo>
                    <a:pt x="1013" y="372"/>
                  </a:lnTo>
                  <a:lnTo>
                    <a:pt x="1048" y="393"/>
                  </a:lnTo>
                  <a:lnTo>
                    <a:pt x="1075" y="413"/>
                  </a:lnTo>
                  <a:lnTo>
                    <a:pt x="1103" y="434"/>
                  </a:lnTo>
                  <a:lnTo>
                    <a:pt x="1137" y="462"/>
                  </a:lnTo>
                  <a:lnTo>
                    <a:pt x="1165" y="482"/>
                  </a:lnTo>
                  <a:lnTo>
                    <a:pt x="1192" y="503"/>
                  </a:lnTo>
                  <a:lnTo>
                    <a:pt x="1227" y="530"/>
                  </a:lnTo>
                  <a:lnTo>
                    <a:pt x="1254" y="551"/>
                  </a:lnTo>
                  <a:lnTo>
                    <a:pt x="1282" y="579"/>
                  </a:lnTo>
                  <a:lnTo>
                    <a:pt x="1316" y="599"/>
                  </a:lnTo>
                  <a:lnTo>
                    <a:pt x="1344" y="627"/>
                  </a:lnTo>
                  <a:lnTo>
                    <a:pt x="1371" y="654"/>
                  </a:lnTo>
                  <a:lnTo>
                    <a:pt x="1406" y="682"/>
                  </a:lnTo>
                  <a:lnTo>
                    <a:pt x="1434" y="702"/>
                  </a:lnTo>
                  <a:lnTo>
                    <a:pt x="1461" y="730"/>
                  </a:lnTo>
                  <a:lnTo>
                    <a:pt x="1496" y="758"/>
                  </a:lnTo>
                  <a:lnTo>
                    <a:pt x="1523" y="785"/>
                  </a:lnTo>
                  <a:lnTo>
                    <a:pt x="1551" y="813"/>
                  </a:lnTo>
                  <a:lnTo>
                    <a:pt x="1578" y="840"/>
                  </a:lnTo>
                  <a:lnTo>
                    <a:pt x="1613" y="868"/>
                  </a:lnTo>
                  <a:lnTo>
                    <a:pt x="1640" y="895"/>
                  </a:lnTo>
                  <a:lnTo>
                    <a:pt x="1668" y="930"/>
                  </a:lnTo>
                  <a:lnTo>
                    <a:pt x="1702" y="957"/>
                  </a:lnTo>
                  <a:lnTo>
                    <a:pt x="1730" y="985"/>
                  </a:lnTo>
                  <a:lnTo>
                    <a:pt x="1757" y="1012"/>
                  </a:lnTo>
                  <a:lnTo>
                    <a:pt x="1792" y="1047"/>
                  </a:lnTo>
                  <a:lnTo>
                    <a:pt x="1819" y="1074"/>
                  </a:lnTo>
                  <a:lnTo>
                    <a:pt x="1847" y="1109"/>
                  </a:lnTo>
                  <a:lnTo>
                    <a:pt x="1881" y="1136"/>
                  </a:lnTo>
                  <a:lnTo>
                    <a:pt x="1909" y="1164"/>
                  </a:lnTo>
                  <a:lnTo>
                    <a:pt x="1937" y="1198"/>
                  </a:lnTo>
                  <a:lnTo>
                    <a:pt x="1971" y="1226"/>
                  </a:lnTo>
                  <a:lnTo>
                    <a:pt x="1999" y="1260"/>
                  </a:lnTo>
                  <a:lnTo>
                    <a:pt x="2026" y="1294"/>
                  </a:lnTo>
                  <a:lnTo>
                    <a:pt x="2061" y="1322"/>
                  </a:lnTo>
                  <a:lnTo>
                    <a:pt x="2088" y="1356"/>
                  </a:lnTo>
                  <a:lnTo>
                    <a:pt x="2116" y="1391"/>
                  </a:lnTo>
                  <a:lnTo>
                    <a:pt x="2150" y="1418"/>
                  </a:lnTo>
                  <a:lnTo>
                    <a:pt x="2178" y="1453"/>
                  </a:lnTo>
                  <a:lnTo>
                    <a:pt x="2205" y="1487"/>
                  </a:lnTo>
                  <a:lnTo>
                    <a:pt x="2240" y="1515"/>
                  </a:lnTo>
                  <a:lnTo>
                    <a:pt x="2267" y="1549"/>
                  </a:lnTo>
                  <a:lnTo>
                    <a:pt x="2295" y="1584"/>
                  </a:lnTo>
                  <a:lnTo>
                    <a:pt x="2329" y="1618"/>
                  </a:lnTo>
                  <a:lnTo>
                    <a:pt x="2357" y="1646"/>
                  </a:lnTo>
                  <a:lnTo>
                    <a:pt x="2384" y="1680"/>
                  </a:lnTo>
                  <a:lnTo>
                    <a:pt x="2419" y="1714"/>
                  </a:lnTo>
                  <a:lnTo>
                    <a:pt x="2446" y="1749"/>
                  </a:lnTo>
                  <a:lnTo>
                    <a:pt x="2474" y="1783"/>
                  </a:lnTo>
                  <a:lnTo>
                    <a:pt x="2509" y="1818"/>
                  </a:lnTo>
                  <a:lnTo>
                    <a:pt x="2536" y="1845"/>
                  </a:lnTo>
                  <a:lnTo>
                    <a:pt x="2564" y="1880"/>
                  </a:lnTo>
                  <a:lnTo>
                    <a:pt x="2598" y="1914"/>
                  </a:lnTo>
                  <a:lnTo>
                    <a:pt x="2626" y="1948"/>
                  </a:lnTo>
                  <a:lnTo>
                    <a:pt x="2653" y="1983"/>
                  </a:lnTo>
                  <a:lnTo>
                    <a:pt x="2688" y="2017"/>
                  </a:lnTo>
                  <a:lnTo>
                    <a:pt x="2715" y="2052"/>
                  </a:lnTo>
                  <a:lnTo>
                    <a:pt x="2743" y="2086"/>
                  </a:lnTo>
                  <a:lnTo>
                    <a:pt x="2777" y="2120"/>
                  </a:lnTo>
                  <a:lnTo>
                    <a:pt x="2805" y="2155"/>
                  </a:lnTo>
                  <a:lnTo>
                    <a:pt x="2832" y="2182"/>
                  </a:lnTo>
                  <a:lnTo>
                    <a:pt x="2867" y="2217"/>
                  </a:lnTo>
                  <a:lnTo>
                    <a:pt x="2894" y="2251"/>
                  </a:lnTo>
                  <a:lnTo>
                    <a:pt x="2922" y="2286"/>
                  </a:lnTo>
                  <a:lnTo>
                    <a:pt x="2956" y="2320"/>
                  </a:lnTo>
                  <a:lnTo>
                    <a:pt x="2984" y="2354"/>
                  </a:lnTo>
                  <a:lnTo>
                    <a:pt x="3012" y="2389"/>
                  </a:lnTo>
                  <a:lnTo>
                    <a:pt x="3046" y="2423"/>
                  </a:lnTo>
                  <a:lnTo>
                    <a:pt x="3074" y="2458"/>
                  </a:lnTo>
                  <a:lnTo>
                    <a:pt x="3101" y="2492"/>
                  </a:lnTo>
                  <a:lnTo>
                    <a:pt x="3136" y="2527"/>
                  </a:lnTo>
                  <a:lnTo>
                    <a:pt x="3163" y="2561"/>
                  </a:lnTo>
                  <a:lnTo>
                    <a:pt x="3191" y="2595"/>
                  </a:lnTo>
                  <a:lnTo>
                    <a:pt x="3225" y="2630"/>
                  </a:lnTo>
                  <a:lnTo>
                    <a:pt x="3253" y="2664"/>
                  </a:lnTo>
                  <a:lnTo>
                    <a:pt x="3267" y="2678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2" name=""/>
            <p:cNvGrpSpPr/>
            <p:nvPr/>
          </p:nvGrpSpPr>
          <p:grpSpPr>
            <a:xfrm>
              <a:off x="6370560" y="3962520"/>
              <a:ext cx="1946520" cy="1274760"/>
              <a:chOff x="6370560" y="3962520"/>
              <a:chExt cx="1946520" cy="1274760"/>
            </a:xfrm>
          </p:grpSpPr>
          <p:sp>
            <p:nvSpPr>
              <p:cNvPr id="2263" name=""/>
              <p:cNvSpPr/>
              <p:nvPr/>
            </p:nvSpPr>
            <p:spPr>
              <a:xfrm>
                <a:off x="7378560" y="3962520"/>
                <a:ext cx="93852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6370560" y="4241880"/>
                <a:ext cx="1005120" cy="995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5" name=""/>
          <p:cNvSpPr/>
          <p:nvPr/>
        </p:nvSpPr>
        <p:spPr>
          <a:xfrm>
            <a:off x="2444760" y="2514600"/>
            <a:ext cx="4957920" cy="4253040"/>
          </a:xfrm>
          <a:custGeom>
            <a:avLst/>
            <a:gdLst/>
            <a:ahLst/>
            <a:rect l="l" t="t" r="r" b="b"/>
            <a:pathLst>
              <a:path w="3123" h="2679">
                <a:moveTo>
                  <a:pt x="0" y="0"/>
                </a:moveTo>
                <a:lnTo>
                  <a:pt x="28" y="0"/>
                </a:lnTo>
                <a:lnTo>
                  <a:pt x="62" y="0"/>
                </a:lnTo>
                <a:lnTo>
                  <a:pt x="90" y="0"/>
                </a:lnTo>
                <a:lnTo>
                  <a:pt x="117" y="0"/>
                </a:lnTo>
                <a:lnTo>
                  <a:pt x="152" y="0"/>
                </a:lnTo>
                <a:lnTo>
                  <a:pt x="179" y="0"/>
                </a:lnTo>
                <a:lnTo>
                  <a:pt x="207" y="0"/>
                </a:lnTo>
                <a:lnTo>
                  <a:pt x="241" y="0"/>
                </a:lnTo>
                <a:lnTo>
                  <a:pt x="269" y="0"/>
                </a:lnTo>
                <a:lnTo>
                  <a:pt x="296" y="0"/>
                </a:lnTo>
                <a:lnTo>
                  <a:pt x="331" y="0"/>
                </a:lnTo>
                <a:lnTo>
                  <a:pt x="358" y="0"/>
                </a:lnTo>
                <a:lnTo>
                  <a:pt x="386" y="0"/>
                </a:lnTo>
                <a:lnTo>
                  <a:pt x="421" y="0"/>
                </a:lnTo>
                <a:lnTo>
                  <a:pt x="448" y="0"/>
                </a:lnTo>
                <a:lnTo>
                  <a:pt x="476" y="0"/>
                </a:lnTo>
                <a:lnTo>
                  <a:pt x="510" y="0"/>
                </a:lnTo>
                <a:lnTo>
                  <a:pt x="538" y="7"/>
                </a:lnTo>
                <a:lnTo>
                  <a:pt x="565" y="7"/>
                </a:lnTo>
                <a:lnTo>
                  <a:pt x="600" y="7"/>
                </a:lnTo>
                <a:lnTo>
                  <a:pt x="627" y="7"/>
                </a:lnTo>
                <a:lnTo>
                  <a:pt x="655" y="7"/>
                </a:lnTo>
                <a:lnTo>
                  <a:pt x="689" y="7"/>
                </a:lnTo>
                <a:lnTo>
                  <a:pt x="717" y="14"/>
                </a:lnTo>
                <a:lnTo>
                  <a:pt x="744" y="14"/>
                </a:lnTo>
                <a:lnTo>
                  <a:pt x="779" y="14"/>
                </a:lnTo>
                <a:lnTo>
                  <a:pt x="806" y="21"/>
                </a:lnTo>
                <a:lnTo>
                  <a:pt x="834" y="21"/>
                </a:lnTo>
                <a:lnTo>
                  <a:pt x="868" y="21"/>
                </a:lnTo>
                <a:lnTo>
                  <a:pt x="896" y="28"/>
                </a:lnTo>
                <a:lnTo>
                  <a:pt x="924" y="35"/>
                </a:lnTo>
                <a:lnTo>
                  <a:pt x="958" y="35"/>
                </a:lnTo>
                <a:lnTo>
                  <a:pt x="986" y="42"/>
                </a:lnTo>
                <a:lnTo>
                  <a:pt x="1013" y="49"/>
                </a:lnTo>
                <a:lnTo>
                  <a:pt x="1048" y="49"/>
                </a:lnTo>
                <a:lnTo>
                  <a:pt x="1075" y="55"/>
                </a:lnTo>
                <a:lnTo>
                  <a:pt x="1103" y="62"/>
                </a:lnTo>
                <a:lnTo>
                  <a:pt x="1137" y="69"/>
                </a:lnTo>
                <a:lnTo>
                  <a:pt x="1165" y="76"/>
                </a:lnTo>
                <a:lnTo>
                  <a:pt x="1192" y="83"/>
                </a:lnTo>
                <a:lnTo>
                  <a:pt x="1227" y="97"/>
                </a:lnTo>
                <a:lnTo>
                  <a:pt x="1254" y="104"/>
                </a:lnTo>
                <a:lnTo>
                  <a:pt x="1282" y="117"/>
                </a:lnTo>
                <a:lnTo>
                  <a:pt x="1316" y="124"/>
                </a:lnTo>
                <a:lnTo>
                  <a:pt x="1344" y="138"/>
                </a:lnTo>
                <a:lnTo>
                  <a:pt x="1371" y="152"/>
                </a:lnTo>
                <a:lnTo>
                  <a:pt x="1406" y="166"/>
                </a:lnTo>
                <a:lnTo>
                  <a:pt x="1434" y="179"/>
                </a:lnTo>
                <a:lnTo>
                  <a:pt x="1461" y="193"/>
                </a:lnTo>
                <a:lnTo>
                  <a:pt x="1496" y="207"/>
                </a:lnTo>
                <a:lnTo>
                  <a:pt x="1523" y="221"/>
                </a:lnTo>
                <a:lnTo>
                  <a:pt x="1551" y="241"/>
                </a:lnTo>
                <a:lnTo>
                  <a:pt x="1578" y="255"/>
                </a:lnTo>
                <a:lnTo>
                  <a:pt x="1613" y="276"/>
                </a:lnTo>
                <a:lnTo>
                  <a:pt x="1640" y="296"/>
                </a:lnTo>
                <a:lnTo>
                  <a:pt x="1668" y="317"/>
                </a:lnTo>
                <a:lnTo>
                  <a:pt x="1702" y="345"/>
                </a:lnTo>
                <a:lnTo>
                  <a:pt x="1730" y="365"/>
                </a:lnTo>
                <a:lnTo>
                  <a:pt x="1757" y="386"/>
                </a:lnTo>
                <a:lnTo>
                  <a:pt x="1792" y="413"/>
                </a:lnTo>
                <a:lnTo>
                  <a:pt x="1819" y="441"/>
                </a:lnTo>
                <a:lnTo>
                  <a:pt x="1847" y="468"/>
                </a:lnTo>
                <a:lnTo>
                  <a:pt x="1881" y="496"/>
                </a:lnTo>
                <a:lnTo>
                  <a:pt x="1909" y="530"/>
                </a:lnTo>
                <a:lnTo>
                  <a:pt x="1937" y="558"/>
                </a:lnTo>
                <a:lnTo>
                  <a:pt x="1971" y="592"/>
                </a:lnTo>
                <a:lnTo>
                  <a:pt x="1999" y="627"/>
                </a:lnTo>
                <a:lnTo>
                  <a:pt x="2026" y="661"/>
                </a:lnTo>
                <a:lnTo>
                  <a:pt x="2061" y="696"/>
                </a:lnTo>
                <a:lnTo>
                  <a:pt x="2088" y="730"/>
                </a:lnTo>
                <a:lnTo>
                  <a:pt x="2116" y="771"/>
                </a:lnTo>
                <a:lnTo>
                  <a:pt x="2150" y="806"/>
                </a:lnTo>
                <a:lnTo>
                  <a:pt x="2178" y="847"/>
                </a:lnTo>
                <a:lnTo>
                  <a:pt x="2205" y="888"/>
                </a:lnTo>
                <a:lnTo>
                  <a:pt x="2240" y="937"/>
                </a:lnTo>
                <a:lnTo>
                  <a:pt x="2267" y="978"/>
                </a:lnTo>
                <a:lnTo>
                  <a:pt x="2295" y="1026"/>
                </a:lnTo>
                <a:lnTo>
                  <a:pt x="2329" y="1067"/>
                </a:lnTo>
                <a:lnTo>
                  <a:pt x="2357" y="1115"/>
                </a:lnTo>
                <a:lnTo>
                  <a:pt x="2384" y="1164"/>
                </a:lnTo>
                <a:lnTo>
                  <a:pt x="2419" y="1219"/>
                </a:lnTo>
                <a:lnTo>
                  <a:pt x="2446" y="1267"/>
                </a:lnTo>
                <a:lnTo>
                  <a:pt x="2474" y="1322"/>
                </a:lnTo>
                <a:lnTo>
                  <a:pt x="2509" y="1370"/>
                </a:lnTo>
                <a:lnTo>
                  <a:pt x="2536" y="1425"/>
                </a:lnTo>
                <a:lnTo>
                  <a:pt x="2564" y="1480"/>
                </a:lnTo>
                <a:lnTo>
                  <a:pt x="2598" y="1542"/>
                </a:lnTo>
                <a:lnTo>
                  <a:pt x="2626" y="1597"/>
                </a:lnTo>
                <a:lnTo>
                  <a:pt x="2653" y="1652"/>
                </a:lnTo>
                <a:lnTo>
                  <a:pt x="2688" y="1714"/>
                </a:lnTo>
                <a:lnTo>
                  <a:pt x="2715" y="1776"/>
                </a:lnTo>
                <a:lnTo>
                  <a:pt x="2743" y="1838"/>
                </a:lnTo>
                <a:lnTo>
                  <a:pt x="2777" y="1900"/>
                </a:lnTo>
                <a:lnTo>
                  <a:pt x="2805" y="1962"/>
                </a:lnTo>
                <a:lnTo>
                  <a:pt x="2832" y="2024"/>
                </a:lnTo>
                <a:lnTo>
                  <a:pt x="2867" y="2093"/>
                </a:lnTo>
                <a:lnTo>
                  <a:pt x="2894" y="2155"/>
                </a:lnTo>
                <a:lnTo>
                  <a:pt x="2922" y="2224"/>
                </a:lnTo>
                <a:lnTo>
                  <a:pt x="2956" y="2286"/>
                </a:lnTo>
                <a:lnTo>
                  <a:pt x="2984" y="2354"/>
                </a:lnTo>
                <a:lnTo>
                  <a:pt x="3012" y="2423"/>
                </a:lnTo>
                <a:lnTo>
                  <a:pt x="3046" y="2492"/>
                </a:lnTo>
                <a:lnTo>
                  <a:pt x="3074" y="2561"/>
                </a:lnTo>
                <a:lnTo>
                  <a:pt x="3101" y="2630"/>
                </a:lnTo>
                <a:lnTo>
                  <a:pt x="3122" y="2678"/>
                </a:lnTo>
              </a:path>
            </a:pathLst>
          </a:custGeom>
          <a:noFill/>
          <a:ln cap="rnd" w="126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444760" y="2514600"/>
            <a:ext cx="4881600" cy="4253040"/>
          </a:xfrm>
          <a:custGeom>
            <a:avLst/>
            <a:gdLst/>
            <a:ahLst/>
            <a:rect l="l" t="t" r="r" b="b"/>
            <a:pathLst>
              <a:path w="3075" h="2679">
                <a:moveTo>
                  <a:pt x="0" y="0"/>
                </a:moveTo>
                <a:lnTo>
                  <a:pt x="28" y="0"/>
                </a:lnTo>
                <a:lnTo>
                  <a:pt x="62" y="0"/>
                </a:lnTo>
                <a:lnTo>
                  <a:pt x="90" y="0"/>
                </a:lnTo>
                <a:lnTo>
                  <a:pt x="117" y="0"/>
                </a:lnTo>
                <a:lnTo>
                  <a:pt x="152" y="0"/>
                </a:lnTo>
                <a:lnTo>
                  <a:pt x="179" y="0"/>
                </a:lnTo>
                <a:lnTo>
                  <a:pt x="207" y="0"/>
                </a:lnTo>
                <a:lnTo>
                  <a:pt x="241" y="0"/>
                </a:lnTo>
                <a:lnTo>
                  <a:pt x="269" y="0"/>
                </a:lnTo>
                <a:lnTo>
                  <a:pt x="296" y="0"/>
                </a:lnTo>
                <a:lnTo>
                  <a:pt x="331" y="0"/>
                </a:lnTo>
                <a:lnTo>
                  <a:pt x="358" y="0"/>
                </a:lnTo>
                <a:lnTo>
                  <a:pt x="386" y="0"/>
                </a:lnTo>
                <a:lnTo>
                  <a:pt x="421" y="0"/>
                </a:lnTo>
                <a:lnTo>
                  <a:pt x="448" y="0"/>
                </a:lnTo>
                <a:lnTo>
                  <a:pt x="476" y="0"/>
                </a:lnTo>
                <a:lnTo>
                  <a:pt x="510" y="0"/>
                </a:lnTo>
                <a:lnTo>
                  <a:pt x="538" y="0"/>
                </a:lnTo>
                <a:lnTo>
                  <a:pt x="565" y="0"/>
                </a:lnTo>
                <a:lnTo>
                  <a:pt x="600" y="0"/>
                </a:lnTo>
                <a:lnTo>
                  <a:pt x="627" y="0"/>
                </a:lnTo>
                <a:lnTo>
                  <a:pt x="655" y="0"/>
                </a:lnTo>
                <a:lnTo>
                  <a:pt x="689" y="0"/>
                </a:lnTo>
                <a:lnTo>
                  <a:pt x="717" y="0"/>
                </a:lnTo>
                <a:lnTo>
                  <a:pt x="744" y="0"/>
                </a:lnTo>
                <a:lnTo>
                  <a:pt x="779" y="0"/>
                </a:lnTo>
                <a:lnTo>
                  <a:pt x="806" y="0"/>
                </a:lnTo>
                <a:lnTo>
                  <a:pt x="834" y="0"/>
                </a:lnTo>
                <a:lnTo>
                  <a:pt x="868" y="0"/>
                </a:lnTo>
                <a:lnTo>
                  <a:pt x="896" y="0"/>
                </a:lnTo>
                <a:lnTo>
                  <a:pt x="924" y="0"/>
                </a:lnTo>
                <a:lnTo>
                  <a:pt x="958" y="7"/>
                </a:lnTo>
                <a:lnTo>
                  <a:pt x="986" y="7"/>
                </a:lnTo>
                <a:lnTo>
                  <a:pt x="1013" y="7"/>
                </a:lnTo>
                <a:lnTo>
                  <a:pt x="1048" y="7"/>
                </a:lnTo>
                <a:lnTo>
                  <a:pt x="1075" y="7"/>
                </a:lnTo>
                <a:lnTo>
                  <a:pt x="1103" y="7"/>
                </a:lnTo>
                <a:lnTo>
                  <a:pt x="1137" y="7"/>
                </a:lnTo>
                <a:lnTo>
                  <a:pt x="1165" y="14"/>
                </a:lnTo>
                <a:lnTo>
                  <a:pt x="1192" y="14"/>
                </a:lnTo>
                <a:lnTo>
                  <a:pt x="1227" y="14"/>
                </a:lnTo>
                <a:lnTo>
                  <a:pt x="1254" y="21"/>
                </a:lnTo>
                <a:lnTo>
                  <a:pt x="1282" y="21"/>
                </a:lnTo>
                <a:lnTo>
                  <a:pt x="1316" y="28"/>
                </a:lnTo>
                <a:lnTo>
                  <a:pt x="1344" y="28"/>
                </a:lnTo>
                <a:lnTo>
                  <a:pt x="1371" y="35"/>
                </a:lnTo>
                <a:lnTo>
                  <a:pt x="1406" y="35"/>
                </a:lnTo>
                <a:lnTo>
                  <a:pt x="1434" y="42"/>
                </a:lnTo>
                <a:lnTo>
                  <a:pt x="1461" y="49"/>
                </a:lnTo>
                <a:lnTo>
                  <a:pt x="1496" y="55"/>
                </a:lnTo>
                <a:lnTo>
                  <a:pt x="1523" y="62"/>
                </a:lnTo>
                <a:lnTo>
                  <a:pt x="1551" y="69"/>
                </a:lnTo>
                <a:lnTo>
                  <a:pt x="1578" y="76"/>
                </a:lnTo>
                <a:lnTo>
                  <a:pt x="1613" y="83"/>
                </a:lnTo>
                <a:lnTo>
                  <a:pt x="1640" y="90"/>
                </a:lnTo>
                <a:lnTo>
                  <a:pt x="1668" y="104"/>
                </a:lnTo>
                <a:lnTo>
                  <a:pt x="1702" y="117"/>
                </a:lnTo>
                <a:lnTo>
                  <a:pt x="1730" y="124"/>
                </a:lnTo>
                <a:lnTo>
                  <a:pt x="1757" y="138"/>
                </a:lnTo>
                <a:lnTo>
                  <a:pt x="1792" y="159"/>
                </a:lnTo>
                <a:lnTo>
                  <a:pt x="1819" y="172"/>
                </a:lnTo>
                <a:lnTo>
                  <a:pt x="1847" y="186"/>
                </a:lnTo>
                <a:lnTo>
                  <a:pt x="1881" y="207"/>
                </a:lnTo>
                <a:lnTo>
                  <a:pt x="1909" y="228"/>
                </a:lnTo>
                <a:lnTo>
                  <a:pt x="1937" y="248"/>
                </a:lnTo>
                <a:lnTo>
                  <a:pt x="1971" y="269"/>
                </a:lnTo>
                <a:lnTo>
                  <a:pt x="1999" y="296"/>
                </a:lnTo>
                <a:lnTo>
                  <a:pt x="2026" y="324"/>
                </a:lnTo>
                <a:lnTo>
                  <a:pt x="2061" y="351"/>
                </a:lnTo>
                <a:lnTo>
                  <a:pt x="2088" y="379"/>
                </a:lnTo>
                <a:lnTo>
                  <a:pt x="2116" y="413"/>
                </a:lnTo>
                <a:lnTo>
                  <a:pt x="2150" y="441"/>
                </a:lnTo>
                <a:lnTo>
                  <a:pt x="2178" y="482"/>
                </a:lnTo>
                <a:lnTo>
                  <a:pt x="2205" y="517"/>
                </a:lnTo>
                <a:lnTo>
                  <a:pt x="2240" y="558"/>
                </a:lnTo>
                <a:lnTo>
                  <a:pt x="2267" y="599"/>
                </a:lnTo>
                <a:lnTo>
                  <a:pt x="2295" y="641"/>
                </a:lnTo>
                <a:lnTo>
                  <a:pt x="2329" y="689"/>
                </a:lnTo>
                <a:lnTo>
                  <a:pt x="2357" y="737"/>
                </a:lnTo>
                <a:lnTo>
                  <a:pt x="2384" y="792"/>
                </a:lnTo>
                <a:lnTo>
                  <a:pt x="2419" y="847"/>
                </a:lnTo>
                <a:lnTo>
                  <a:pt x="2446" y="902"/>
                </a:lnTo>
                <a:lnTo>
                  <a:pt x="2474" y="964"/>
                </a:lnTo>
                <a:lnTo>
                  <a:pt x="2509" y="1026"/>
                </a:lnTo>
                <a:lnTo>
                  <a:pt x="2536" y="1088"/>
                </a:lnTo>
                <a:lnTo>
                  <a:pt x="2564" y="1157"/>
                </a:lnTo>
                <a:lnTo>
                  <a:pt x="2598" y="1226"/>
                </a:lnTo>
                <a:lnTo>
                  <a:pt x="2626" y="1294"/>
                </a:lnTo>
                <a:lnTo>
                  <a:pt x="2653" y="1370"/>
                </a:lnTo>
                <a:lnTo>
                  <a:pt x="2688" y="1446"/>
                </a:lnTo>
                <a:lnTo>
                  <a:pt x="2715" y="1528"/>
                </a:lnTo>
                <a:lnTo>
                  <a:pt x="2743" y="1611"/>
                </a:lnTo>
                <a:lnTo>
                  <a:pt x="2777" y="1694"/>
                </a:lnTo>
                <a:lnTo>
                  <a:pt x="2805" y="1783"/>
                </a:lnTo>
                <a:lnTo>
                  <a:pt x="2832" y="1873"/>
                </a:lnTo>
                <a:lnTo>
                  <a:pt x="2867" y="1962"/>
                </a:lnTo>
                <a:lnTo>
                  <a:pt x="2894" y="2059"/>
                </a:lnTo>
                <a:lnTo>
                  <a:pt x="2922" y="2155"/>
                </a:lnTo>
                <a:lnTo>
                  <a:pt x="2956" y="2258"/>
                </a:lnTo>
                <a:lnTo>
                  <a:pt x="2984" y="2354"/>
                </a:lnTo>
                <a:lnTo>
                  <a:pt x="3012" y="2458"/>
                </a:lnTo>
                <a:lnTo>
                  <a:pt x="3046" y="2561"/>
                </a:lnTo>
                <a:lnTo>
                  <a:pt x="3074" y="2671"/>
                </a:lnTo>
                <a:lnTo>
                  <a:pt x="3074" y="2678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444760" y="2514600"/>
            <a:ext cx="4848120" cy="4253040"/>
          </a:xfrm>
          <a:custGeom>
            <a:avLst/>
            <a:gdLst/>
            <a:ahLst/>
            <a:rect l="l" t="t" r="r" b="b"/>
            <a:pathLst>
              <a:path w="3054" h="2679">
                <a:moveTo>
                  <a:pt x="0" y="0"/>
                </a:moveTo>
                <a:lnTo>
                  <a:pt x="28" y="0"/>
                </a:lnTo>
                <a:lnTo>
                  <a:pt x="62" y="0"/>
                </a:lnTo>
                <a:lnTo>
                  <a:pt x="90" y="0"/>
                </a:lnTo>
                <a:lnTo>
                  <a:pt x="117" y="0"/>
                </a:lnTo>
                <a:lnTo>
                  <a:pt x="152" y="0"/>
                </a:lnTo>
                <a:lnTo>
                  <a:pt x="179" y="0"/>
                </a:lnTo>
                <a:lnTo>
                  <a:pt x="207" y="0"/>
                </a:lnTo>
                <a:lnTo>
                  <a:pt x="241" y="0"/>
                </a:lnTo>
                <a:lnTo>
                  <a:pt x="269" y="0"/>
                </a:lnTo>
                <a:lnTo>
                  <a:pt x="296" y="0"/>
                </a:lnTo>
                <a:lnTo>
                  <a:pt x="331" y="0"/>
                </a:lnTo>
                <a:lnTo>
                  <a:pt x="358" y="0"/>
                </a:lnTo>
                <a:lnTo>
                  <a:pt x="386" y="0"/>
                </a:lnTo>
                <a:lnTo>
                  <a:pt x="421" y="0"/>
                </a:lnTo>
                <a:lnTo>
                  <a:pt x="448" y="0"/>
                </a:lnTo>
                <a:lnTo>
                  <a:pt x="476" y="0"/>
                </a:lnTo>
                <a:lnTo>
                  <a:pt x="510" y="0"/>
                </a:lnTo>
                <a:lnTo>
                  <a:pt x="538" y="0"/>
                </a:lnTo>
                <a:lnTo>
                  <a:pt x="565" y="0"/>
                </a:lnTo>
                <a:lnTo>
                  <a:pt x="600" y="0"/>
                </a:lnTo>
                <a:lnTo>
                  <a:pt x="627" y="0"/>
                </a:lnTo>
                <a:lnTo>
                  <a:pt x="655" y="0"/>
                </a:lnTo>
                <a:lnTo>
                  <a:pt x="689" y="0"/>
                </a:lnTo>
                <a:lnTo>
                  <a:pt x="717" y="0"/>
                </a:lnTo>
                <a:lnTo>
                  <a:pt x="744" y="0"/>
                </a:lnTo>
                <a:lnTo>
                  <a:pt x="779" y="0"/>
                </a:lnTo>
                <a:lnTo>
                  <a:pt x="806" y="0"/>
                </a:lnTo>
                <a:lnTo>
                  <a:pt x="834" y="0"/>
                </a:lnTo>
                <a:lnTo>
                  <a:pt x="868" y="0"/>
                </a:lnTo>
                <a:lnTo>
                  <a:pt x="896" y="0"/>
                </a:lnTo>
                <a:lnTo>
                  <a:pt x="924" y="0"/>
                </a:lnTo>
                <a:lnTo>
                  <a:pt x="958" y="0"/>
                </a:lnTo>
                <a:lnTo>
                  <a:pt x="986" y="0"/>
                </a:lnTo>
                <a:lnTo>
                  <a:pt x="1013" y="0"/>
                </a:lnTo>
                <a:lnTo>
                  <a:pt x="1048" y="0"/>
                </a:lnTo>
                <a:lnTo>
                  <a:pt x="1075" y="0"/>
                </a:lnTo>
                <a:lnTo>
                  <a:pt x="1103" y="0"/>
                </a:lnTo>
                <a:lnTo>
                  <a:pt x="1137" y="0"/>
                </a:lnTo>
                <a:lnTo>
                  <a:pt x="1165" y="0"/>
                </a:lnTo>
                <a:lnTo>
                  <a:pt x="1192" y="0"/>
                </a:lnTo>
                <a:lnTo>
                  <a:pt x="1227" y="0"/>
                </a:lnTo>
                <a:lnTo>
                  <a:pt x="1254" y="0"/>
                </a:lnTo>
                <a:lnTo>
                  <a:pt x="1282" y="7"/>
                </a:lnTo>
                <a:lnTo>
                  <a:pt x="1316" y="7"/>
                </a:lnTo>
                <a:lnTo>
                  <a:pt x="1344" y="7"/>
                </a:lnTo>
                <a:lnTo>
                  <a:pt x="1371" y="7"/>
                </a:lnTo>
                <a:lnTo>
                  <a:pt x="1406" y="7"/>
                </a:lnTo>
                <a:lnTo>
                  <a:pt x="1434" y="7"/>
                </a:lnTo>
                <a:lnTo>
                  <a:pt x="1461" y="14"/>
                </a:lnTo>
                <a:lnTo>
                  <a:pt x="1496" y="14"/>
                </a:lnTo>
                <a:lnTo>
                  <a:pt x="1523" y="14"/>
                </a:lnTo>
                <a:lnTo>
                  <a:pt x="1551" y="21"/>
                </a:lnTo>
                <a:lnTo>
                  <a:pt x="1578" y="21"/>
                </a:lnTo>
                <a:lnTo>
                  <a:pt x="1613" y="28"/>
                </a:lnTo>
                <a:lnTo>
                  <a:pt x="1640" y="28"/>
                </a:lnTo>
                <a:lnTo>
                  <a:pt x="1668" y="35"/>
                </a:lnTo>
                <a:lnTo>
                  <a:pt x="1702" y="35"/>
                </a:lnTo>
                <a:lnTo>
                  <a:pt x="1730" y="42"/>
                </a:lnTo>
                <a:lnTo>
                  <a:pt x="1757" y="49"/>
                </a:lnTo>
                <a:lnTo>
                  <a:pt x="1792" y="55"/>
                </a:lnTo>
                <a:lnTo>
                  <a:pt x="1819" y="62"/>
                </a:lnTo>
                <a:lnTo>
                  <a:pt x="1847" y="76"/>
                </a:lnTo>
                <a:lnTo>
                  <a:pt x="1881" y="83"/>
                </a:lnTo>
                <a:lnTo>
                  <a:pt x="1909" y="97"/>
                </a:lnTo>
                <a:lnTo>
                  <a:pt x="1937" y="104"/>
                </a:lnTo>
                <a:lnTo>
                  <a:pt x="1971" y="117"/>
                </a:lnTo>
                <a:lnTo>
                  <a:pt x="1999" y="138"/>
                </a:lnTo>
                <a:lnTo>
                  <a:pt x="2026" y="152"/>
                </a:lnTo>
                <a:lnTo>
                  <a:pt x="2061" y="172"/>
                </a:lnTo>
                <a:lnTo>
                  <a:pt x="2088" y="193"/>
                </a:lnTo>
                <a:lnTo>
                  <a:pt x="2116" y="214"/>
                </a:lnTo>
                <a:lnTo>
                  <a:pt x="2150" y="234"/>
                </a:lnTo>
                <a:lnTo>
                  <a:pt x="2178" y="262"/>
                </a:lnTo>
                <a:lnTo>
                  <a:pt x="2205" y="296"/>
                </a:lnTo>
                <a:lnTo>
                  <a:pt x="2240" y="324"/>
                </a:lnTo>
                <a:lnTo>
                  <a:pt x="2267" y="358"/>
                </a:lnTo>
                <a:lnTo>
                  <a:pt x="2295" y="400"/>
                </a:lnTo>
                <a:lnTo>
                  <a:pt x="2329" y="434"/>
                </a:lnTo>
                <a:lnTo>
                  <a:pt x="2357" y="482"/>
                </a:lnTo>
                <a:lnTo>
                  <a:pt x="2384" y="530"/>
                </a:lnTo>
                <a:lnTo>
                  <a:pt x="2419" y="579"/>
                </a:lnTo>
                <a:lnTo>
                  <a:pt x="2446" y="634"/>
                </a:lnTo>
                <a:lnTo>
                  <a:pt x="2474" y="689"/>
                </a:lnTo>
                <a:lnTo>
                  <a:pt x="2509" y="751"/>
                </a:lnTo>
                <a:lnTo>
                  <a:pt x="2536" y="820"/>
                </a:lnTo>
                <a:lnTo>
                  <a:pt x="2564" y="888"/>
                </a:lnTo>
                <a:lnTo>
                  <a:pt x="2598" y="964"/>
                </a:lnTo>
                <a:lnTo>
                  <a:pt x="2626" y="1047"/>
                </a:lnTo>
                <a:lnTo>
                  <a:pt x="2653" y="1129"/>
                </a:lnTo>
                <a:lnTo>
                  <a:pt x="2688" y="1219"/>
                </a:lnTo>
                <a:lnTo>
                  <a:pt x="2715" y="1308"/>
                </a:lnTo>
                <a:lnTo>
                  <a:pt x="2743" y="1405"/>
                </a:lnTo>
                <a:lnTo>
                  <a:pt x="2777" y="1508"/>
                </a:lnTo>
                <a:lnTo>
                  <a:pt x="2805" y="1618"/>
                </a:lnTo>
                <a:lnTo>
                  <a:pt x="2832" y="1728"/>
                </a:lnTo>
                <a:lnTo>
                  <a:pt x="2867" y="1845"/>
                </a:lnTo>
                <a:lnTo>
                  <a:pt x="2894" y="1969"/>
                </a:lnTo>
                <a:lnTo>
                  <a:pt x="2922" y="2093"/>
                </a:lnTo>
                <a:lnTo>
                  <a:pt x="2956" y="2224"/>
                </a:lnTo>
                <a:lnTo>
                  <a:pt x="2984" y="2354"/>
                </a:lnTo>
                <a:lnTo>
                  <a:pt x="3012" y="2492"/>
                </a:lnTo>
                <a:lnTo>
                  <a:pt x="3046" y="2637"/>
                </a:lnTo>
                <a:lnTo>
                  <a:pt x="3053" y="2678"/>
                </a:lnTo>
              </a:path>
            </a:pathLst>
          </a:custGeom>
          <a:noFill/>
          <a:ln cap="rnd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444760" y="2514600"/>
            <a:ext cx="4826160" cy="4253040"/>
          </a:xfrm>
          <a:custGeom>
            <a:avLst/>
            <a:gdLst/>
            <a:ahLst/>
            <a:rect l="l" t="t" r="r" b="b"/>
            <a:pathLst>
              <a:path w="3040" h="2679">
                <a:moveTo>
                  <a:pt x="0" y="0"/>
                </a:moveTo>
                <a:lnTo>
                  <a:pt x="28" y="0"/>
                </a:lnTo>
                <a:lnTo>
                  <a:pt x="62" y="0"/>
                </a:lnTo>
                <a:lnTo>
                  <a:pt x="90" y="0"/>
                </a:lnTo>
                <a:lnTo>
                  <a:pt x="117" y="0"/>
                </a:lnTo>
                <a:lnTo>
                  <a:pt x="152" y="0"/>
                </a:lnTo>
                <a:lnTo>
                  <a:pt x="179" y="0"/>
                </a:lnTo>
                <a:lnTo>
                  <a:pt x="207" y="0"/>
                </a:lnTo>
                <a:lnTo>
                  <a:pt x="241" y="0"/>
                </a:lnTo>
                <a:lnTo>
                  <a:pt x="269" y="0"/>
                </a:lnTo>
                <a:lnTo>
                  <a:pt x="296" y="0"/>
                </a:lnTo>
                <a:lnTo>
                  <a:pt x="331" y="0"/>
                </a:lnTo>
                <a:lnTo>
                  <a:pt x="358" y="0"/>
                </a:lnTo>
                <a:lnTo>
                  <a:pt x="386" y="0"/>
                </a:lnTo>
                <a:lnTo>
                  <a:pt x="421" y="0"/>
                </a:lnTo>
                <a:lnTo>
                  <a:pt x="448" y="0"/>
                </a:lnTo>
                <a:lnTo>
                  <a:pt x="476" y="0"/>
                </a:lnTo>
                <a:lnTo>
                  <a:pt x="510" y="0"/>
                </a:lnTo>
                <a:lnTo>
                  <a:pt x="538" y="0"/>
                </a:lnTo>
                <a:lnTo>
                  <a:pt x="565" y="0"/>
                </a:lnTo>
                <a:lnTo>
                  <a:pt x="600" y="0"/>
                </a:lnTo>
                <a:lnTo>
                  <a:pt x="627" y="0"/>
                </a:lnTo>
                <a:lnTo>
                  <a:pt x="655" y="0"/>
                </a:lnTo>
                <a:lnTo>
                  <a:pt x="689" y="0"/>
                </a:lnTo>
                <a:lnTo>
                  <a:pt x="717" y="0"/>
                </a:lnTo>
                <a:lnTo>
                  <a:pt x="744" y="0"/>
                </a:lnTo>
                <a:lnTo>
                  <a:pt x="779" y="0"/>
                </a:lnTo>
                <a:lnTo>
                  <a:pt x="806" y="0"/>
                </a:lnTo>
                <a:lnTo>
                  <a:pt x="834" y="0"/>
                </a:lnTo>
                <a:lnTo>
                  <a:pt x="868" y="0"/>
                </a:lnTo>
                <a:lnTo>
                  <a:pt x="896" y="0"/>
                </a:lnTo>
                <a:lnTo>
                  <a:pt x="924" y="0"/>
                </a:lnTo>
                <a:lnTo>
                  <a:pt x="958" y="0"/>
                </a:lnTo>
                <a:lnTo>
                  <a:pt x="986" y="0"/>
                </a:lnTo>
                <a:lnTo>
                  <a:pt x="1013" y="0"/>
                </a:lnTo>
                <a:lnTo>
                  <a:pt x="1048" y="0"/>
                </a:lnTo>
                <a:lnTo>
                  <a:pt x="1075" y="0"/>
                </a:lnTo>
                <a:lnTo>
                  <a:pt x="1103" y="0"/>
                </a:lnTo>
                <a:lnTo>
                  <a:pt x="1137" y="0"/>
                </a:lnTo>
                <a:lnTo>
                  <a:pt x="1165" y="0"/>
                </a:lnTo>
                <a:lnTo>
                  <a:pt x="1192" y="0"/>
                </a:lnTo>
                <a:lnTo>
                  <a:pt x="1227" y="0"/>
                </a:lnTo>
                <a:lnTo>
                  <a:pt x="1254" y="0"/>
                </a:lnTo>
                <a:lnTo>
                  <a:pt x="1282" y="0"/>
                </a:lnTo>
                <a:lnTo>
                  <a:pt x="1316" y="0"/>
                </a:lnTo>
                <a:lnTo>
                  <a:pt x="1344" y="0"/>
                </a:lnTo>
                <a:lnTo>
                  <a:pt x="1371" y="0"/>
                </a:lnTo>
                <a:lnTo>
                  <a:pt x="1406" y="0"/>
                </a:lnTo>
                <a:lnTo>
                  <a:pt x="1434" y="0"/>
                </a:lnTo>
                <a:lnTo>
                  <a:pt x="1461" y="0"/>
                </a:lnTo>
                <a:lnTo>
                  <a:pt x="1496" y="0"/>
                </a:lnTo>
                <a:lnTo>
                  <a:pt x="1523" y="7"/>
                </a:lnTo>
                <a:lnTo>
                  <a:pt x="1551" y="7"/>
                </a:lnTo>
                <a:lnTo>
                  <a:pt x="1578" y="7"/>
                </a:lnTo>
                <a:lnTo>
                  <a:pt x="1613" y="7"/>
                </a:lnTo>
                <a:lnTo>
                  <a:pt x="1640" y="7"/>
                </a:lnTo>
                <a:lnTo>
                  <a:pt x="1668" y="7"/>
                </a:lnTo>
                <a:lnTo>
                  <a:pt x="1702" y="14"/>
                </a:lnTo>
                <a:lnTo>
                  <a:pt x="1730" y="14"/>
                </a:lnTo>
                <a:lnTo>
                  <a:pt x="1757" y="21"/>
                </a:lnTo>
                <a:lnTo>
                  <a:pt x="1792" y="21"/>
                </a:lnTo>
                <a:lnTo>
                  <a:pt x="1819" y="28"/>
                </a:lnTo>
                <a:lnTo>
                  <a:pt x="1847" y="28"/>
                </a:lnTo>
                <a:lnTo>
                  <a:pt x="1881" y="35"/>
                </a:lnTo>
                <a:lnTo>
                  <a:pt x="1909" y="42"/>
                </a:lnTo>
                <a:lnTo>
                  <a:pt x="1937" y="49"/>
                </a:lnTo>
                <a:lnTo>
                  <a:pt x="1971" y="55"/>
                </a:lnTo>
                <a:lnTo>
                  <a:pt x="1999" y="62"/>
                </a:lnTo>
                <a:lnTo>
                  <a:pt x="2026" y="69"/>
                </a:lnTo>
                <a:lnTo>
                  <a:pt x="2061" y="83"/>
                </a:lnTo>
                <a:lnTo>
                  <a:pt x="2088" y="97"/>
                </a:lnTo>
                <a:lnTo>
                  <a:pt x="2116" y="111"/>
                </a:lnTo>
                <a:lnTo>
                  <a:pt x="2150" y="124"/>
                </a:lnTo>
                <a:lnTo>
                  <a:pt x="2178" y="145"/>
                </a:lnTo>
                <a:lnTo>
                  <a:pt x="2205" y="166"/>
                </a:lnTo>
                <a:lnTo>
                  <a:pt x="2240" y="186"/>
                </a:lnTo>
                <a:lnTo>
                  <a:pt x="2267" y="214"/>
                </a:lnTo>
                <a:lnTo>
                  <a:pt x="2295" y="241"/>
                </a:lnTo>
                <a:lnTo>
                  <a:pt x="2329" y="276"/>
                </a:lnTo>
                <a:lnTo>
                  <a:pt x="2357" y="310"/>
                </a:lnTo>
                <a:lnTo>
                  <a:pt x="2384" y="345"/>
                </a:lnTo>
                <a:lnTo>
                  <a:pt x="2419" y="393"/>
                </a:lnTo>
                <a:lnTo>
                  <a:pt x="2446" y="441"/>
                </a:lnTo>
                <a:lnTo>
                  <a:pt x="2474" y="489"/>
                </a:lnTo>
                <a:lnTo>
                  <a:pt x="2509" y="551"/>
                </a:lnTo>
                <a:lnTo>
                  <a:pt x="2536" y="613"/>
                </a:lnTo>
                <a:lnTo>
                  <a:pt x="2564" y="682"/>
                </a:lnTo>
                <a:lnTo>
                  <a:pt x="2598" y="758"/>
                </a:lnTo>
                <a:lnTo>
                  <a:pt x="2626" y="833"/>
                </a:lnTo>
                <a:lnTo>
                  <a:pt x="2653" y="923"/>
                </a:lnTo>
                <a:lnTo>
                  <a:pt x="2688" y="1019"/>
                </a:lnTo>
                <a:lnTo>
                  <a:pt x="2715" y="1115"/>
                </a:lnTo>
                <a:lnTo>
                  <a:pt x="2743" y="1226"/>
                </a:lnTo>
                <a:lnTo>
                  <a:pt x="2777" y="1343"/>
                </a:lnTo>
                <a:lnTo>
                  <a:pt x="2805" y="1467"/>
                </a:lnTo>
                <a:lnTo>
                  <a:pt x="2832" y="1597"/>
                </a:lnTo>
                <a:lnTo>
                  <a:pt x="2867" y="1735"/>
                </a:lnTo>
                <a:lnTo>
                  <a:pt x="2894" y="1880"/>
                </a:lnTo>
                <a:lnTo>
                  <a:pt x="2922" y="2031"/>
                </a:lnTo>
                <a:lnTo>
                  <a:pt x="2956" y="2189"/>
                </a:lnTo>
                <a:lnTo>
                  <a:pt x="2984" y="2354"/>
                </a:lnTo>
                <a:lnTo>
                  <a:pt x="3012" y="2527"/>
                </a:lnTo>
                <a:lnTo>
                  <a:pt x="3039" y="267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2444760" y="2500200"/>
            <a:ext cx="5872320" cy="4267440"/>
            <a:chOff x="2444760" y="2500200"/>
            <a:chExt cx="5872320" cy="4267440"/>
          </a:xfrm>
        </p:grpSpPr>
        <p:sp>
          <p:nvSpPr>
            <p:cNvPr id="2270" name=""/>
            <p:cNvSpPr/>
            <p:nvPr/>
          </p:nvSpPr>
          <p:spPr>
            <a:xfrm>
              <a:off x="2444760" y="2514600"/>
              <a:ext cx="4803840" cy="4253040"/>
            </a:xfrm>
            <a:custGeom>
              <a:avLst/>
              <a:gdLst/>
              <a:ahLst/>
              <a:rect l="l" t="t" r="r" b="b"/>
              <a:pathLst>
                <a:path w="3026" h="2679">
                  <a:moveTo>
                    <a:pt x="0" y="0"/>
                  </a:moveTo>
                  <a:lnTo>
                    <a:pt x="28" y="0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17" y="0"/>
                  </a:lnTo>
                  <a:lnTo>
                    <a:pt x="152" y="0"/>
                  </a:lnTo>
                  <a:lnTo>
                    <a:pt x="179" y="0"/>
                  </a:lnTo>
                  <a:lnTo>
                    <a:pt x="207" y="0"/>
                  </a:lnTo>
                  <a:lnTo>
                    <a:pt x="241" y="0"/>
                  </a:lnTo>
                  <a:lnTo>
                    <a:pt x="269" y="0"/>
                  </a:lnTo>
                  <a:lnTo>
                    <a:pt x="296" y="0"/>
                  </a:lnTo>
                  <a:lnTo>
                    <a:pt x="331" y="0"/>
                  </a:lnTo>
                  <a:lnTo>
                    <a:pt x="358" y="0"/>
                  </a:lnTo>
                  <a:lnTo>
                    <a:pt x="386" y="0"/>
                  </a:lnTo>
                  <a:lnTo>
                    <a:pt x="421" y="0"/>
                  </a:lnTo>
                  <a:lnTo>
                    <a:pt x="448" y="0"/>
                  </a:lnTo>
                  <a:lnTo>
                    <a:pt x="476" y="0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65" y="0"/>
                  </a:lnTo>
                  <a:lnTo>
                    <a:pt x="600" y="0"/>
                  </a:lnTo>
                  <a:lnTo>
                    <a:pt x="627" y="0"/>
                  </a:lnTo>
                  <a:lnTo>
                    <a:pt x="655" y="0"/>
                  </a:lnTo>
                  <a:lnTo>
                    <a:pt x="689" y="0"/>
                  </a:lnTo>
                  <a:lnTo>
                    <a:pt x="717" y="0"/>
                  </a:lnTo>
                  <a:lnTo>
                    <a:pt x="744" y="0"/>
                  </a:lnTo>
                  <a:lnTo>
                    <a:pt x="779" y="0"/>
                  </a:lnTo>
                  <a:lnTo>
                    <a:pt x="806" y="0"/>
                  </a:lnTo>
                  <a:lnTo>
                    <a:pt x="834" y="0"/>
                  </a:lnTo>
                  <a:lnTo>
                    <a:pt x="868" y="0"/>
                  </a:lnTo>
                  <a:lnTo>
                    <a:pt x="896" y="0"/>
                  </a:lnTo>
                  <a:lnTo>
                    <a:pt x="924" y="0"/>
                  </a:lnTo>
                  <a:lnTo>
                    <a:pt x="958" y="0"/>
                  </a:lnTo>
                  <a:lnTo>
                    <a:pt x="986" y="0"/>
                  </a:lnTo>
                  <a:lnTo>
                    <a:pt x="1013" y="0"/>
                  </a:lnTo>
                  <a:lnTo>
                    <a:pt x="1048" y="0"/>
                  </a:lnTo>
                  <a:lnTo>
                    <a:pt x="1075" y="0"/>
                  </a:lnTo>
                  <a:lnTo>
                    <a:pt x="1103" y="0"/>
                  </a:lnTo>
                  <a:lnTo>
                    <a:pt x="1137" y="0"/>
                  </a:lnTo>
                  <a:lnTo>
                    <a:pt x="1165" y="0"/>
                  </a:lnTo>
                  <a:lnTo>
                    <a:pt x="1192" y="0"/>
                  </a:lnTo>
                  <a:lnTo>
                    <a:pt x="1227" y="0"/>
                  </a:lnTo>
                  <a:lnTo>
                    <a:pt x="1254" y="0"/>
                  </a:lnTo>
                  <a:lnTo>
                    <a:pt x="1282" y="0"/>
                  </a:lnTo>
                  <a:lnTo>
                    <a:pt x="1316" y="0"/>
                  </a:lnTo>
                  <a:lnTo>
                    <a:pt x="1344" y="0"/>
                  </a:lnTo>
                  <a:lnTo>
                    <a:pt x="1371" y="0"/>
                  </a:lnTo>
                  <a:lnTo>
                    <a:pt x="1406" y="0"/>
                  </a:lnTo>
                  <a:lnTo>
                    <a:pt x="1434" y="0"/>
                  </a:lnTo>
                  <a:lnTo>
                    <a:pt x="1461" y="0"/>
                  </a:lnTo>
                  <a:lnTo>
                    <a:pt x="1496" y="0"/>
                  </a:lnTo>
                  <a:lnTo>
                    <a:pt x="1523" y="0"/>
                  </a:lnTo>
                  <a:lnTo>
                    <a:pt x="1551" y="0"/>
                  </a:lnTo>
                  <a:lnTo>
                    <a:pt x="1578" y="0"/>
                  </a:lnTo>
                  <a:lnTo>
                    <a:pt x="1613" y="0"/>
                  </a:lnTo>
                  <a:lnTo>
                    <a:pt x="1640" y="0"/>
                  </a:lnTo>
                  <a:lnTo>
                    <a:pt x="1668" y="0"/>
                  </a:lnTo>
                  <a:lnTo>
                    <a:pt x="1702" y="7"/>
                  </a:lnTo>
                  <a:lnTo>
                    <a:pt x="1730" y="7"/>
                  </a:lnTo>
                  <a:lnTo>
                    <a:pt x="1757" y="7"/>
                  </a:lnTo>
                  <a:lnTo>
                    <a:pt x="1792" y="7"/>
                  </a:lnTo>
                  <a:lnTo>
                    <a:pt x="1819" y="7"/>
                  </a:lnTo>
                  <a:lnTo>
                    <a:pt x="1847" y="14"/>
                  </a:lnTo>
                  <a:lnTo>
                    <a:pt x="1881" y="14"/>
                  </a:lnTo>
                  <a:lnTo>
                    <a:pt x="1909" y="14"/>
                  </a:lnTo>
                  <a:lnTo>
                    <a:pt x="1937" y="21"/>
                  </a:lnTo>
                  <a:lnTo>
                    <a:pt x="1971" y="21"/>
                  </a:lnTo>
                  <a:lnTo>
                    <a:pt x="1999" y="28"/>
                  </a:lnTo>
                  <a:lnTo>
                    <a:pt x="2026" y="35"/>
                  </a:lnTo>
                  <a:lnTo>
                    <a:pt x="2061" y="42"/>
                  </a:lnTo>
                  <a:lnTo>
                    <a:pt x="2088" y="49"/>
                  </a:lnTo>
                  <a:lnTo>
                    <a:pt x="2116" y="55"/>
                  </a:lnTo>
                  <a:lnTo>
                    <a:pt x="2150" y="62"/>
                  </a:lnTo>
                  <a:lnTo>
                    <a:pt x="2178" y="76"/>
                  </a:lnTo>
                  <a:lnTo>
                    <a:pt x="2205" y="90"/>
                  </a:lnTo>
                  <a:lnTo>
                    <a:pt x="2240" y="104"/>
                  </a:lnTo>
                  <a:lnTo>
                    <a:pt x="2267" y="124"/>
                  </a:lnTo>
                  <a:lnTo>
                    <a:pt x="2295" y="145"/>
                  </a:lnTo>
                  <a:lnTo>
                    <a:pt x="2329" y="166"/>
                  </a:lnTo>
                  <a:lnTo>
                    <a:pt x="2357" y="193"/>
                  </a:lnTo>
                  <a:lnTo>
                    <a:pt x="2384" y="228"/>
                  </a:lnTo>
                  <a:lnTo>
                    <a:pt x="2419" y="262"/>
                  </a:lnTo>
                  <a:lnTo>
                    <a:pt x="2446" y="303"/>
                  </a:lnTo>
                  <a:lnTo>
                    <a:pt x="2474" y="345"/>
                  </a:lnTo>
                  <a:lnTo>
                    <a:pt x="2509" y="393"/>
                  </a:lnTo>
                  <a:lnTo>
                    <a:pt x="2536" y="455"/>
                  </a:lnTo>
                  <a:lnTo>
                    <a:pt x="2564" y="517"/>
                  </a:lnTo>
                  <a:lnTo>
                    <a:pt x="2598" y="585"/>
                  </a:lnTo>
                  <a:lnTo>
                    <a:pt x="2626" y="661"/>
                  </a:lnTo>
                  <a:lnTo>
                    <a:pt x="2653" y="751"/>
                  </a:lnTo>
                  <a:lnTo>
                    <a:pt x="2688" y="847"/>
                  </a:lnTo>
                  <a:lnTo>
                    <a:pt x="2715" y="950"/>
                  </a:lnTo>
                  <a:lnTo>
                    <a:pt x="2743" y="1067"/>
                  </a:lnTo>
                  <a:lnTo>
                    <a:pt x="2777" y="1191"/>
                  </a:lnTo>
                  <a:lnTo>
                    <a:pt x="2805" y="1322"/>
                  </a:lnTo>
                  <a:lnTo>
                    <a:pt x="2832" y="1467"/>
                  </a:lnTo>
                  <a:lnTo>
                    <a:pt x="2867" y="1625"/>
                  </a:lnTo>
                  <a:lnTo>
                    <a:pt x="2894" y="1790"/>
                  </a:lnTo>
                  <a:lnTo>
                    <a:pt x="2922" y="1969"/>
                  </a:lnTo>
                  <a:lnTo>
                    <a:pt x="2956" y="2155"/>
                  </a:lnTo>
                  <a:lnTo>
                    <a:pt x="2984" y="2354"/>
                  </a:lnTo>
                  <a:lnTo>
                    <a:pt x="3012" y="2568"/>
                  </a:lnTo>
                  <a:lnTo>
                    <a:pt x="3025" y="2678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1" name=""/>
            <p:cNvGrpSpPr/>
            <p:nvPr/>
          </p:nvGrpSpPr>
          <p:grpSpPr>
            <a:xfrm>
              <a:off x="6613200" y="2500200"/>
              <a:ext cx="1703880" cy="930240"/>
              <a:chOff x="6613200" y="2500200"/>
              <a:chExt cx="1703880" cy="930240"/>
            </a:xfrm>
          </p:grpSpPr>
          <p:sp>
            <p:nvSpPr>
              <p:cNvPr id="2272" name=""/>
              <p:cNvSpPr/>
              <p:nvPr/>
            </p:nvSpPr>
            <p:spPr>
              <a:xfrm>
                <a:off x="7378560" y="2500200"/>
                <a:ext cx="93852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>
                <a:off x="6613200" y="2779560"/>
                <a:ext cx="762120" cy="65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BA94-2CB6-4991-BE96-6F5EFAAD76BD}" type="slidenum">
              <a:t>51</a:t>
            </a:fld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vojstva Butterworthove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ovisno o redu filt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r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2206800" y="2168640"/>
                <a:ext cx="405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den>
                          </m:f>
                        </m:e>
                      </m:mr>
                      <m:mr>
                        <m:e>
                          <m:r>
                            <m:t xml:space="preserve">Ω</m:t>
                          </m:r>
                          <m:r>
                            <m:rPr>
                              <m:lit/>
                              <m:nor/>
                            </m:rPr>
                            <m:t xml:space="preserve">=¥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¥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611280" y="3289320"/>
            <a:ext cx="8381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/frekv. karakteristika filtra je monotono padajuća porastom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em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vih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N-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erivacija kvadrata amplitudno/frekv. karakteristike u točk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u jednak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-t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kva karakteristika se naziva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maksimalno glatko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području gušenja amplitudno/frekv. karakteristika u logaritamskom mjerilu pada linearno (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0N d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 dek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59F7-8C87-42DF-B700-D52B2A841F8E}" type="slidenum">
              <a:t>52</a:t>
            </a:fld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3" dur="500"/>
                                        <p:tgtEl>
                                          <p:spTgt spid="2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jenosna funkcija Butterwortho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 osnovu kvadrata amplitudno frekvencijske karakteristike treba odredit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filtr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1193760" y="2519280"/>
                <a:ext cx="6112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1" name=""/>
          <p:cNvSpPr/>
          <p:nvPr/>
        </p:nvSpPr>
        <p:spPr>
          <a:xfrm>
            <a:off x="611280" y="38862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stitucijom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s/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lijed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1279440" y="4322880"/>
                <a:ext cx="6064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3" name=""/>
          <p:cNvSpPr/>
          <p:nvPr/>
        </p:nvSpPr>
        <p:spPr>
          <a:xfrm>
            <a:off x="611280" y="5715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rjeni nazivnika dobivaju se rješavanj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3162240" y="6157800"/>
                <a:ext cx="2749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8A34-5DC4-49B9-B0DF-48C24325AD03}" type="slidenum">
              <a:t>53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0" dur="500"/>
                                        <p:tgtEl>
                                          <p:spTgt spid="2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ožaj polova Butterwortho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09480" y="16765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vi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s)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-s)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ravnini ... jednoliko raspoređeni po kružnici polumjer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7" name=""/>
          <p:cNvGrpSpPr/>
          <p:nvPr/>
        </p:nvGrpSpPr>
        <p:grpSpPr>
          <a:xfrm>
            <a:off x="3809880" y="2714760"/>
            <a:ext cx="4038840" cy="3457080"/>
            <a:chOff x="3809880" y="2714760"/>
            <a:chExt cx="4038840" cy="3457080"/>
          </a:xfrm>
        </p:grpSpPr>
        <p:sp>
          <p:nvSpPr>
            <p:cNvPr id="2288" name=""/>
            <p:cNvSpPr/>
            <p:nvPr/>
          </p:nvSpPr>
          <p:spPr>
            <a:xfrm flipV="1">
              <a:off x="5276880" y="2819160"/>
              <a:ext cx="0" cy="3352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809880" y="4754520"/>
              <a:ext cx="3237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003560" y="3483000"/>
              <a:ext cx="2548080" cy="2535120"/>
            </a:xfrm>
            <a:custGeom>
              <a:avLst/>
              <a:gdLst/>
              <a:ahLst/>
              <a:rect l="l" t="t" r="r" b="b"/>
              <a:pathLst>
                <a:path w="1605" h="1597">
                  <a:moveTo>
                    <a:pt x="1604" y="801"/>
                  </a:moveTo>
                  <a:lnTo>
                    <a:pt x="1604" y="749"/>
                  </a:lnTo>
                  <a:lnTo>
                    <a:pt x="1598" y="697"/>
                  </a:lnTo>
                  <a:lnTo>
                    <a:pt x="1591" y="645"/>
                  </a:lnTo>
                  <a:lnTo>
                    <a:pt x="1578" y="600"/>
                  </a:lnTo>
                  <a:lnTo>
                    <a:pt x="1565" y="554"/>
                  </a:lnTo>
                  <a:lnTo>
                    <a:pt x="1552" y="502"/>
                  </a:lnTo>
                  <a:lnTo>
                    <a:pt x="1532" y="456"/>
                  </a:lnTo>
                  <a:lnTo>
                    <a:pt x="1506" y="411"/>
                  </a:lnTo>
                  <a:lnTo>
                    <a:pt x="1480" y="372"/>
                  </a:lnTo>
                  <a:lnTo>
                    <a:pt x="1454" y="326"/>
                  </a:lnTo>
                  <a:lnTo>
                    <a:pt x="1422" y="287"/>
                  </a:lnTo>
                  <a:lnTo>
                    <a:pt x="1389" y="248"/>
                  </a:lnTo>
                  <a:lnTo>
                    <a:pt x="1350" y="215"/>
                  </a:lnTo>
                  <a:lnTo>
                    <a:pt x="1317" y="183"/>
                  </a:lnTo>
                  <a:lnTo>
                    <a:pt x="1272" y="150"/>
                  </a:lnTo>
                  <a:lnTo>
                    <a:pt x="1232" y="124"/>
                  </a:lnTo>
                  <a:lnTo>
                    <a:pt x="1187" y="98"/>
                  </a:lnTo>
                  <a:lnTo>
                    <a:pt x="1141" y="72"/>
                  </a:lnTo>
                  <a:lnTo>
                    <a:pt x="1096" y="53"/>
                  </a:lnTo>
                  <a:lnTo>
                    <a:pt x="1050" y="40"/>
                  </a:lnTo>
                  <a:lnTo>
                    <a:pt x="1004" y="20"/>
                  </a:lnTo>
                  <a:lnTo>
                    <a:pt x="952" y="13"/>
                  </a:lnTo>
                  <a:lnTo>
                    <a:pt x="900" y="7"/>
                  </a:lnTo>
                  <a:lnTo>
                    <a:pt x="854" y="0"/>
                  </a:lnTo>
                  <a:lnTo>
                    <a:pt x="802" y="0"/>
                  </a:lnTo>
                  <a:lnTo>
                    <a:pt x="750" y="0"/>
                  </a:lnTo>
                  <a:lnTo>
                    <a:pt x="704" y="7"/>
                  </a:lnTo>
                  <a:lnTo>
                    <a:pt x="652" y="13"/>
                  </a:lnTo>
                  <a:lnTo>
                    <a:pt x="600" y="20"/>
                  </a:lnTo>
                  <a:lnTo>
                    <a:pt x="554" y="40"/>
                  </a:lnTo>
                  <a:lnTo>
                    <a:pt x="509" y="53"/>
                  </a:lnTo>
                  <a:lnTo>
                    <a:pt x="463" y="72"/>
                  </a:lnTo>
                  <a:lnTo>
                    <a:pt x="418" y="98"/>
                  </a:lnTo>
                  <a:lnTo>
                    <a:pt x="372" y="124"/>
                  </a:lnTo>
                  <a:lnTo>
                    <a:pt x="333" y="150"/>
                  </a:lnTo>
                  <a:lnTo>
                    <a:pt x="287" y="183"/>
                  </a:lnTo>
                  <a:lnTo>
                    <a:pt x="255" y="215"/>
                  </a:lnTo>
                  <a:lnTo>
                    <a:pt x="215" y="248"/>
                  </a:lnTo>
                  <a:lnTo>
                    <a:pt x="183" y="287"/>
                  </a:lnTo>
                  <a:lnTo>
                    <a:pt x="150" y="326"/>
                  </a:lnTo>
                  <a:lnTo>
                    <a:pt x="124" y="372"/>
                  </a:lnTo>
                  <a:lnTo>
                    <a:pt x="98" y="411"/>
                  </a:lnTo>
                  <a:lnTo>
                    <a:pt x="72" y="456"/>
                  </a:lnTo>
                  <a:lnTo>
                    <a:pt x="52" y="502"/>
                  </a:lnTo>
                  <a:lnTo>
                    <a:pt x="39" y="554"/>
                  </a:lnTo>
                  <a:lnTo>
                    <a:pt x="26" y="600"/>
                  </a:lnTo>
                  <a:lnTo>
                    <a:pt x="13" y="645"/>
                  </a:lnTo>
                  <a:lnTo>
                    <a:pt x="7" y="697"/>
                  </a:lnTo>
                  <a:lnTo>
                    <a:pt x="0" y="749"/>
                  </a:lnTo>
                  <a:lnTo>
                    <a:pt x="0" y="801"/>
                  </a:lnTo>
                  <a:lnTo>
                    <a:pt x="0" y="847"/>
                  </a:lnTo>
                  <a:lnTo>
                    <a:pt x="7" y="899"/>
                  </a:lnTo>
                  <a:lnTo>
                    <a:pt x="13" y="951"/>
                  </a:lnTo>
                  <a:lnTo>
                    <a:pt x="26" y="997"/>
                  </a:lnTo>
                  <a:lnTo>
                    <a:pt x="39" y="1042"/>
                  </a:lnTo>
                  <a:lnTo>
                    <a:pt x="52" y="1094"/>
                  </a:lnTo>
                  <a:lnTo>
                    <a:pt x="72" y="1140"/>
                  </a:lnTo>
                  <a:lnTo>
                    <a:pt x="98" y="1186"/>
                  </a:lnTo>
                  <a:lnTo>
                    <a:pt x="124" y="1225"/>
                  </a:lnTo>
                  <a:lnTo>
                    <a:pt x="150" y="1270"/>
                  </a:lnTo>
                  <a:lnTo>
                    <a:pt x="183" y="1309"/>
                  </a:lnTo>
                  <a:lnTo>
                    <a:pt x="215" y="1348"/>
                  </a:lnTo>
                  <a:lnTo>
                    <a:pt x="255" y="1381"/>
                  </a:lnTo>
                  <a:lnTo>
                    <a:pt x="287" y="1414"/>
                  </a:lnTo>
                  <a:lnTo>
                    <a:pt x="333" y="1446"/>
                  </a:lnTo>
                  <a:lnTo>
                    <a:pt x="372" y="1472"/>
                  </a:lnTo>
                  <a:lnTo>
                    <a:pt x="418" y="1498"/>
                  </a:lnTo>
                  <a:lnTo>
                    <a:pt x="463" y="1524"/>
                  </a:lnTo>
                  <a:lnTo>
                    <a:pt x="509" y="1544"/>
                  </a:lnTo>
                  <a:lnTo>
                    <a:pt x="554" y="1557"/>
                  </a:lnTo>
                  <a:lnTo>
                    <a:pt x="600" y="1576"/>
                  </a:lnTo>
                  <a:lnTo>
                    <a:pt x="652" y="1583"/>
                  </a:lnTo>
                  <a:lnTo>
                    <a:pt x="704" y="1589"/>
                  </a:lnTo>
                  <a:lnTo>
                    <a:pt x="750" y="1596"/>
                  </a:lnTo>
                  <a:lnTo>
                    <a:pt x="802" y="1596"/>
                  </a:lnTo>
                  <a:lnTo>
                    <a:pt x="854" y="1596"/>
                  </a:lnTo>
                  <a:lnTo>
                    <a:pt x="900" y="1589"/>
                  </a:lnTo>
                  <a:lnTo>
                    <a:pt x="952" y="1583"/>
                  </a:lnTo>
                  <a:lnTo>
                    <a:pt x="1004" y="1576"/>
                  </a:lnTo>
                  <a:lnTo>
                    <a:pt x="1050" y="1557"/>
                  </a:lnTo>
                  <a:lnTo>
                    <a:pt x="1096" y="1544"/>
                  </a:lnTo>
                  <a:lnTo>
                    <a:pt x="1141" y="1524"/>
                  </a:lnTo>
                  <a:lnTo>
                    <a:pt x="1187" y="1498"/>
                  </a:lnTo>
                  <a:lnTo>
                    <a:pt x="1232" y="1472"/>
                  </a:lnTo>
                  <a:lnTo>
                    <a:pt x="1272" y="1446"/>
                  </a:lnTo>
                  <a:lnTo>
                    <a:pt x="1317" y="1414"/>
                  </a:lnTo>
                  <a:lnTo>
                    <a:pt x="1350" y="1381"/>
                  </a:lnTo>
                  <a:lnTo>
                    <a:pt x="1389" y="1348"/>
                  </a:lnTo>
                  <a:lnTo>
                    <a:pt x="1422" y="1309"/>
                  </a:lnTo>
                  <a:lnTo>
                    <a:pt x="1454" y="1270"/>
                  </a:lnTo>
                  <a:lnTo>
                    <a:pt x="1480" y="1225"/>
                  </a:lnTo>
                  <a:lnTo>
                    <a:pt x="1506" y="1186"/>
                  </a:lnTo>
                  <a:lnTo>
                    <a:pt x="1532" y="1140"/>
                  </a:lnTo>
                  <a:lnTo>
                    <a:pt x="1552" y="1094"/>
                  </a:lnTo>
                  <a:lnTo>
                    <a:pt x="1565" y="1042"/>
                  </a:lnTo>
                  <a:lnTo>
                    <a:pt x="1578" y="997"/>
                  </a:lnTo>
                  <a:lnTo>
                    <a:pt x="1591" y="951"/>
                  </a:lnTo>
                  <a:lnTo>
                    <a:pt x="1598" y="899"/>
                  </a:lnTo>
                  <a:lnTo>
                    <a:pt x="1604" y="847"/>
                  </a:lnTo>
                  <a:lnTo>
                    <a:pt x="1604" y="801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946760" y="3225960"/>
              <a:ext cx="672840" cy="42840"/>
            </a:xfrm>
            <a:custGeom>
              <a:avLst/>
              <a:gdLst/>
              <a:ahLst/>
              <a:rect l="l" t="t" r="r" b="b"/>
              <a:pathLst>
                <a:path w="424" h="27">
                  <a:moveTo>
                    <a:pt x="423" y="26"/>
                  </a:moveTo>
                  <a:lnTo>
                    <a:pt x="410" y="19"/>
                  </a:lnTo>
                  <a:lnTo>
                    <a:pt x="404" y="19"/>
                  </a:lnTo>
                  <a:lnTo>
                    <a:pt x="397" y="19"/>
                  </a:lnTo>
                  <a:lnTo>
                    <a:pt x="384" y="13"/>
                  </a:lnTo>
                  <a:lnTo>
                    <a:pt x="378" y="13"/>
                  </a:lnTo>
                  <a:lnTo>
                    <a:pt x="365" y="13"/>
                  </a:lnTo>
                  <a:lnTo>
                    <a:pt x="358" y="13"/>
                  </a:lnTo>
                  <a:lnTo>
                    <a:pt x="345" y="13"/>
                  </a:lnTo>
                  <a:lnTo>
                    <a:pt x="339" y="6"/>
                  </a:lnTo>
                  <a:lnTo>
                    <a:pt x="326" y="6"/>
                  </a:lnTo>
                  <a:lnTo>
                    <a:pt x="319" y="6"/>
                  </a:lnTo>
                  <a:lnTo>
                    <a:pt x="306" y="6"/>
                  </a:lnTo>
                  <a:lnTo>
                    <a:pt x="299" y="6"/>
                  </a:lnTo>
                  <a:lnTo>
                    <a:pt x="286" y="6"/>
                  </a:lnTo>
                  <a:lnTo>
                    <a:pt x="280" y="0"/>
                  </a:lnTo>
                  <a:lnTo>
                    <a:pt x="273" y="0"/>
                  </a:lnTo>
                  <a:lnTo>
                    <a:pt x="260" y="0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2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23" y="6"/>
                  </a:lnTo>
                  <a:lnTo>
                    <a:pt x="117" y="6"/>
                  </a:lnTo>
                  <a:lnTo>
                    <a:pt x="104" y="6"/>
                  </a:lnTo>
                  <a:lnTo>
                    <a:pt x="97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1" y="13"/>
                  </a:lnTo>
                  <a:lnTo>
                    <a:pt x="58" y="13"/>
                  </a:lnTo>
                  <a:lnTo>
                    <a:pt x="52" y="13"/>
                  </a:lnTo>
                  <a:lnTo>
                    <a:pt x="39" y="13"/>
                  </a:lnTo>
                  <a:lnTo>
                    <a:pt x="32" y="19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3952440" y="3462480"/>
              <a:ext cx="2649960" cy="2574720"/>
              <a:chOff x="3952440" y="3462480"/>
              <a:chExt cx="2649960" cy="2574720"/>
            </a:xfrm>
          </p:grpSpPr>
          <p:sp>
            <p:nvSpPr>
              <p:cNvPr id="2293" name=""/>
              <p:cNvSpPr/>
              <p:nvPr/>
            </p:nvSpPr>
            <p:spPr>
              <a:xfrm>
                <a:off x="4946760" y="3462480"/>
                <a:ext cx="102960" cy="1047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>
                <a:off x="4946760" y="3462480"/>
                <a:ext cx="102960" cy="1047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46760" y="5934240"/>
                <a:ext cx="10296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>
                <a:off x="4946760" y="5934240"/>
                <a:ext cx="10296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429080" y="370044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4428720" y="370044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429080" y="56959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4428720" y="56959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952800" y="470376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3952440" y="470376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076640" y="41450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4076280" y="41450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076640" y="52513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4076280" y="52513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505480" y="59342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5505120" y="59342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505480" y="3462480"/>
                <a:ext cx="103320" cy="1047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5505120" y="3462480"/>
                <a:ext cx="103320" cy="1047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022800" y="56959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>
                <a:off x="6022440" y="56959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022800" y="370044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6022440" y="370044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497640" y="4703760"/>
                <a:ext cx="10476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6497280" y="4703760"/>
                <a:ext cx="10476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373800" y="52513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6373440" y="5251320"/>
                <a:ext cx="103320" cy="10332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373800" y="41450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>
                <a:off x="6373440" y="4145040"/>
                <a:ext cx="103320" cy="10296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21" name=""/>
            <p:cNvSpPr/>
            <p:nvPr/>
          </p:nvSpPr>
          <p:spPr>
            <a:xfrm flipH="1" flipV="1">
              <a:off x="4901760" y="3141720"/>
              <a:ext cx="373320" cy="1611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5275440" y="3141720"/>
              <a:ext cx="372960" cy="1611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615640" y="3019320"/>
              <a:ext cx="660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56240" y="3400560"/>
              <a:ext cx="139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-ravni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761160" y="4772160"/>
              <a:ext cx="40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724280" y="27147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Arial"/>
                </a:rPr>
                <a:t>j</a:t>
              </a: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5272200" y="3978360"/>
              <a:ext cx="1020600" cy="77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756400" y="4210200"/>
              <a:ext cx="64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hr-HR" sz="2400" spc="-1" strike="noStrike" baseline="-25000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611280" y="2819520"/>
            <a:ext cx="2817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vi u lijevoj poluravnini pripadaju prijenosnoj funkciji filtra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 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0" name=""/>
          <p:cNvGrpSpPr/>
          <p:nvPr/>
        </p:nvGrpSpPr>
        <p:grpSpPr>
          <a:xfrm>
            <a:off x="2133720" y="3352680"/>
            <a:ext cx="3028680" cy="2841840"/>
            <a:chOff x="2133720" y="3352680"/>
            <a:chExt cx="3028680" cy="2841840"/>
          </a:xfrm>
        </p:grpSpPr>
        <p:sp>
          <p:nvSpPr>
            <p:cNvPr id="2331" name=""/>
            <p:cNvSpPr/>
            <p:nvPr/>
          </p:nvSpPr>
          <p:spPr>
            <a:xfrm>
              <a:off x="3708360" y="3352680"/>
              <a:ext cx="1454040" cy="2841840"/>
            </a:xfrm>
            <a:custGeom>
              <a:avLst/>
              <a:gdLst/>
              <a:ahLst/>
              <a:rect l="l" t="t" r="r" b="b"/>
              <a:pathLst>
                <a:path w="916" h="1790">
                  <a:moveTo>
                    <a:pt x="736" y="0"/>
                  </a:moveTo>
                  <a:lnTo>
                    <a:pt x="710" y="16"/>
                  </a:lnTo>
                  <a:lnTo>
                    <a:pt x="691" y="22"/>
                  </a:lnTo>
                  <a:lnTo>
                    <a:pt x="672" y="29"/>
                  </a:lnTo>
                  <a:lnTo>
                    <a:pt x="653" y="35"/>
                  </a:lnTo>
                  <a:lnTo>
                    <a:pt x="634" y="42"/>
                  </a:lnTo>
                  <a:lnTo>
                    <a:pt x="614" y="48"/>
                  </a:lnTo>
                  <a:lnTo>
                    <a:pt x="595" y="54"/>
                  </a:lnTo>
                  <a:lnTo>
                    <a:pt x="576" y="61"/>
                  </a:lnTo>
                  <a:lnTo>
                    <a:pt x="557" y="74"/>
                  </a:lnTo>
                  <a:lnTo>
                    <a:pt x="531" y="86"/>
                  </a:lnTo>
                  <a:lnTo>
                    <a:pt x="512" y="99"/>
                  </a:lnTo>
                  <a:lnTo>
                    <a:pt x="493" y="112"/>
                  </a:lnTo>
                  <a:lnTo>
                    <a:pt x="474" y="118"/>
                  </a:lnTo>
                  <a:lnTo>
                    <a:pt x="454" y="138"/>
                  </a:lnTo>
                  <a:lnTo>
                    <a:pt x="435" y="144"/>
                  </a:lnTo>
                  <a:lnTo>
                    <a:pt x="416" y="163"/>
                  </a:lnTo>
                  <a:lnTo>
                    <a:pt x="397" y="170"/>
                  </a:lnTo>
                  <a:lnTo>
                    <a:pt x="371" y="189"/>
                  </a:lnTo>
                  <a:lnTo>
                    <a:pt x="352" y="195"/>
                  </a:lnTo>
                  <a:lnTo>
                    <a:pt x="333" y="214"/>
                  </a:lnTo>
                  <a:lnTo>
                    <a:pt x="314" y="234"/>
                  </a:lnTo>
                  <a:lnTo>
                    <a:pt x="301" y="253"/>
                  </a:lnTo>
                  <a:lnTo>
                    <a:pt x="282" y="272"/>
                  </a:lnTo>
                  <a:lnTo>
                    <a:pt x="262" y="285"/>
                  </a:lnTo>
                  <a:lnTo>
                    <a:pt x="243" y="304"/>
                  </a:lnTo>
                  <a:lnTo>
                    <a:pt x="218" y="323"/>
                  </a:lnTo>
                  <a:lnTo>
                    <a:pt x="205" y="342"/>
                  </a:lnTo>
                  <a:lnTo>
                    <a:pt x="186" y="355"/>
                  </a:lnTo>
                  <a:lnTo>
                    <a:pt x="173" y="374"/>
                  </a:lnTo>
                  <a:lnTo>
                    <a:pt x="160" y="394"/>
                  </a:lnTo>
                  <a:lnTo>
                    <a:pt x="154" y="413"/>
                  </a:lnTo>
                  <a:lnTo>
                    <a:pt x="134" y="432"/>
                  </a:lnTo>
                  <a:lnTo>
                    <a:pt x="115" y="458"/>
                  </a:lnTo>
                  <a:lnTo>
                    <a:pt x="102" y="477"/>
                  </a:lnTo>
                  <a:lnTo>
                    <a:pt x="90" y="496"/>
                  </a:lnTo>
                  <a:lnTo>
                    <a:pt x="70" y="522"/>
                  </a:lnTo>
                  <a:lnTo>
                    <a:pt x="64" y="541"/>
                  </a:lnTo>
                  <a:lnTo>
                    <a:pt x="51" y="560"/>
                  </a:lnTo>
                  <a:lnTo>
                    <a:pt x="45" y="579"/>
                  </a:lnTo>
                  <a:lnTo>
                    <a:pt x="38" y="618"/>
                  </a:lnTo>
                  <a:lnTo>
                    <a:pt x="32" y="637"/>
                  </a:lnTo>
                  <a:lnTo>
                    <a:pt x="32" y="656"/>
                  </a:lnTo>
                  <a:lnTo>
                    <a:pt x="32" y="682"/>
                  </a:lnTo>
                  <a:lnTo>
                    <a:pt x="26" y="707"/>
                  </a:lnTo>
                  <a:lnTo>
                    <a:pt x="26" y="746"/>
                  </a:lnTo>
                  <a:lnTo>
                    <a:pt x="26" y="765"/>
                  </a:lnTo>
                  <a:lnTo>
                    <a:pt x="19" y="790"/>
                  </a:lnTo>
                  <a:lnTo>
                    <a:pt x="13" y="829"/>
                  </a:lnTo>
                  <a:lnTo>
                    <a:pt x="6" y="854"/>
                  </a:lnTo>
                  <a:lnTo>
                    <a:pt x="6" y="880"/>
                  </a:lnTo>
                  <a:lnTo>
                    <a:pt x="0" y="906"/>
                  </a:lnTo>
                  <a:lnTo>
                    <a:pt x="0" y="957"/>
                  </a:lnTo>
                  <a:lnTo>
                    <a:pt x="0" y="1002"/>
                  </a:lnTo>
                  <a:lnTo>
                    <a:pt x="0" y="1040"/>
                  </a:lnTo>
                  <a:lnTo>
                    <a:pt x="0" y="1066"/>
                  </a:lnTo>
                  <a:lnTo>
                    <a:pt x="0" y="1085"/>
                  </a:lnTo>
                  <a:lnTo>
                    <a:pt x="6" y="1104"/>
                  </a:lnTo>
                  <a:lnTo>
                    <a:pt x="26" y="1130"/>
                  </a:lnTo>
                  <a:lnTo>
                    <a:pt x="38" y="1149"/>
                  </a:lnTo>
                  <a:lnTo>
                    <a:pt x="45" y="1187"/>
                  </a:lnTo>
                  <a:lnTo>
                    <a:pt x="58" y="1206"/>
                  </a:lnTo>
                  <a:lnTo>
                    <a:pt x="70" y="1226"/>
                  </a:lnTo>
                  <a:lnTo>
                    <a:pt x="83" y="1251"/>
                  </a:lnTo>
                  <a:lnTo>
                    <a:pt x="96" y="1290"/>
                  </a:lnTo>
                  <a:lnTo>
                    <a:pt x="109" y="1341"/>
                  </a:lnTo>
                  <a:lnTo>
                    <a:pt x="122" y="1360"/>
                  </a:lnTo>
                  <a:lnTo>
                    <a:pt x="141" y="1379"/>
                  </a:lnTo>
                  <a:lnTo>
                    <a:pt x="160" y="1398"/>
                  </a:lnTo>
                  <a:lnTo>
                    <a:pt x="179" y="1418"/>
                  </a:lnTo>
                  <a:lnTo>
                    <a:pt x="205" y="1443"/>
                  </a:lnTo>
                  <a:lnTo>
                    <a:pt x="243" y="1482"/>
                  </a:lnTo>
                  <a:lnTo>
                    <a:pt x="262" y="1501"/>
                  </a:lnTo>
                  <a:lnTo>
                    <a:pt x="282" y="1520"/>
                  </a:lnTo>
                  <a:lnTo>
                    <a:pt x="307" y="1546"/>
                  </a:lnTo>
                  <a:lnTo>
                    <a:pt x="320" y="1565"/>
                  </a:lnTo>
                  <a:lnTo>
                    <a:pt x="339" y="1584"/>
                  </a:lnTo>
                  <a:lnTo>
                    <a:pt x="390" y="1603"/>
                  </a:lnTo>
                  <a:lnTo>
                    <a:pt x="416" y="1622"/>
                  </a:lnTo>
                  <a:lnTo>
                    <a:pt x="442" y="1635"/>
                  </a:lnTo>
                  <a:lnTo>
                    <a:pt x="493" y="1654"/>
                  </a:lnTo>
                  <a:lnTo>
                    <a:pt x="512" y="1667"/>
                  </a:lnTo>
                  <a:lnTo>
                    <a:pt x="563" y="1712"/>
                  </a:lnTo>
                  <a:lnTo>
                    <a:pt x="602" y="1718"/>
                  </a:lnTo>
                  <a:lnTo>
                    <a:pt x="653" y="1738"/>
                  </a:lnTo>
                  <a:lnTo>
                    <a:pt x="672" y="1750"/>
                  </a:lnTo>
                  <a:lnTo>
                    <a:pt x="691" y="1770"/>
                  </a:lnTo>
                  <a:lnTo>
                    <a:pt x="710" y="1776"/>
                  </a:lnTo>
                  <a:lnTo>
                    <a:pt x="749" y="1782"/>
                  </a:lnTo>
                  <a:lnTo>
                    <a:pt x="768" y="1782"/>
                  </a:lnTo>
                  <a:lnTo>
                    <a:pt x="787" y="1789"/>
                  </a:lnTo>
                  <a:lnTo>
                    <a:pt x="806" y="1789"/>
                  </a:lnTo>
                  <a:lnTo>
                    <a:pt x="826" y="1789"/>
                  </a:lnTo>
                  <a:lnTo>
                    <a:pt x="845" y="1789"/>
                  </a:lnTo>
                  <a:lnTo>
                    <a:pt x="864" y="1782"/>
                  </a:lnTo>
                  <a:lnTo>
                    <a:pt x="883" y="1770"/>
                  </a:lnTo>
                  <a:lnTo>
                    <a:pt x="890" y="1750"/>
                  </a:lnTo>
                  <a:lnTo>
                    <a:pt x="909" y="1725"/>
                  </a:lnTo>
                  <a:lnTo>
                    <a:pt x="915" y="1699"/>
                  </a:lnTo>
                  <a:lnTo>
                    <a:pt x="915" y="1680"/>
                  </a:lnTo>
                  <a:lnTo>
                    <a:pt x="915" y="1654"/>
                  </a:lnTo>
                  <a:lnTo>
                    <a:pt x="915" y="1635"/>
                  </a:lnTo>
                  <a:lnTo>
                    <a:pt x="915" y="1616"/>
                  </a:lnTo>
                  <a:lnTo>
                    <a:pt x="915" y="1597"/>
                  </a:lnTo>
                  <a:lnTo>
                    <a:pt x="909" y="1578"/>
                  </a:lnTo>
                  <a:lnTo>
                    <a:pt x="896" y="1558"/>
                  </a:lnTo>
                  <a:lnTo>
                    <a:pt x="877" y="1539"/>
                  </a:lnTo>
                  <a:lnTo>
                    <a:pt x="858" y="1526"/>
                  </a:lnTo>
                  <a:lnTo>
                    <a:pt x="813" y="1520"/>
                  </a:lnTo>
                  <a:lnTo>
                    <a:pt x="774" y="1514"/>
                  </a:lnTo>
                  <a:lnTo>
                    <a:pt x="755" y="1501"/>
                  </a:lnTo>
                  <a:lnTo>
                    <a:pt x="736" y="1494"/>
                  </a:lnTo>
                  <a:lnTo>
                    <a:pt x="685" y="1482"/>
                  </a:lnTo>
                  <a:lnTo>
                    <a:pt x="634" y="1469"/>
                  </a:lnTo>
                  <a:lnTo>
                    <a:pt x="614" y="1450"/>
                  </a:lnTo>
                  <a:lnTo>
                    <a:pt x="602" y="1430"/>
                  </a:lnTo>
                  <a:lnTo>
                    <a:pt x="595" y="1411"/>
                  </a:lnTo>
                  <a:lnTo>
                    <a:pt x="589" y="1392"/>
                  </a:lnTo>
                  <a:lnTo>
                    <a:pt x="570" y="1373"/>
                  </a:lnTo>
                  <a:lnTo>
                    <a:pt x="563" y="1354"/>
                  </a:lnTo>
                  <a:lnTo>
                    <a:pt x="550" y="1334"/>
                  </a:lnTo>
                  <a:lnTo>
                    <a:pt x="531" y="1322"/>
                  </a:lnTo>
                  <a:lnTo>
                    <a:pt x="518" y="1302"/>
                  </a:lnTo>
                  <a:lnTo>
                    <a:pt x="512" y="1283"/>
                  </a:lnTo>
                  <a:lnTo>
                    <a:pt x="506" y="1258"/>
                  </a:lnTo>
                  <a:lnTo>
                    <a:pt x="493" y="1232"/>
                  </a:lnTo>
                  <a:lnTo>
                    <a:pt x="486" y="1213"/>
                  </a:lnTo>
                  <a:lnTo>
                    <a:pt x="480" y="1194"/>
                  </a:lnTo>
                  <a:lnTo>
                    <a:pt x="467" y="1168"/>
                  </a:lnTo>
                  <a:lnTo>
                    <a:pt x="454" y="1142"/>
                  </a:lnTo>
                  <a:lnTo>
                    <a:pt x="448" y="1123"/>
                  </a:lnTo>
                  <a:lnTo>
                    <a:pt x="448" y="1104"/>
                  </a:lnTo>
                  <a:lnTo>
                    <a:pt x="442" y="1078"/>
                  </a:lnTo>
                  <a:lnTo>
                    <a:pt x="442" y="1053"/>
                  </a:lnTo>
                  <a:lnTo>
                    <a:pt x="442" y="1027"/>
                  </a:lnTo>
                  <a:lnTo>
                    <a:pt x="442" y="1008"/>
                  </a:lnTo>
                  <a:lnTo>
                    <a:pt x="442" y="989"/>
                  </a:lnTo>
                  <a:lnTo>
                    <a:pt x="442" y="970"/>
                  </a:lnTo>
                  <a:lnTo>
                    <a:pt x="442" y="918"/>
                  </a:lnTo>
                  <a:lnTo>
                    <a:pt x="442" y="893"/>
                  </a:lnTo>
                  <a:lnTo>
                    <a:pt x="442" y="874"/>
                  </a:lnTo>
                  <a:lnTo>
                    <a:pt x="442" y="854"/>
                  </a:lnTo>
                  <a:lnTo>
                    <a:pt x="448" y="835"/>
                  </a:lnTo>
                  <a:lnTo>
                    <a:pt x="454" y="816"/>
                  </a:lnTo>
                  <a:lnTo>
                    <a:pt x="461" y="790"/>
                  </a:lnTo>
                  <a:lnTo>
                    <a:pt x="474" y="765"/>
                  </a:lnTo>
                  <a:lnTo>
                    <a:pt x="480" y="746"/>
                  </a:lnTo>
                  <a:lnTo>
                    <a:pt x="486" y="726"/>
                  </a:lnTo>
                  <a:lnTo>
                    <a:pt x="493" y="707"/>
                  </a:lnTo>
                  <a:lnTo>
                    <a:pt x="506" y="682"/>
                  </a:lnTo>
                  <a:lnTo>
                    <a:pt x="512" y="662"/>
                  </a:lnTo>
                  <a:lnTo>
                    <a:pt x="525" y="643"/>
                  </a:lnTo>
                  <a:lnTo>
                    <a:pt x="538" y="624"/>
                  </a:lnTo>
                  <a:lnTo>
                    <a:pt x="544" y="605"/>
                  </a:lnTo>
                  <a:lnTo>
                    <a:pt x="557" y="586"/>
                  </a:lnTo>
                  <a:lnTo>
                    <a:pt x="570" y="560"/>
                  </a:lnTo>
                  <a:lnTo>
                    <a:pt x="589" y="534"/>
                  </a:lnTo>
                  <a:lnTo>
                    <a:pt x="595" y="515"/>
                  </a:lnTo>
                  <a:lnTo>
                    <a:pt x="608" y="496"/>
                  </a:lnTo>
                  <a:lnTo>
                    <a:pt x="614" y="477"/>
                  </a:lnTo>
                  <a:lnTo>
                    <a:pt x="627" y="458"/>
                  </a:lnTo>
                  <a:lnTo>
                    <a:pt x="646" y="432"/>
                  </a:lnTo>
                  <a:lnTo>
                    <a:pt x="659" y="413"/>
                  </a:lnTo>
                  <a:lnTo>
                    <a:pt x="672" y="394"/>
                  </a:lnTo>
                  <a:lnTo>
                    <a:pt x="691" y="374"/>
                  </a:lnTo>
                  <a:lnTo>
                    <a:pt x="710" y="355"/>
                  </a:lnTo>
                  <a:lnTo>
                    <a:pt x="730" y="342"/>
                  </a:lnTo>
                  <a:lnTo>
                    <a:pt x="742" y="323"/>
                  </a:lnTo>
                  <a:lnTo>
                    <a:pt x="762" y="310"/>
                  </a:lnTo>
                  <a:lnTo>
                    <a:pt x="781" y="298"/>
                  </a:lnTo>
                  <a:lnTo>
                    <a:pt x="800" y="278"/>
                  </a:lnTo>
                  <a:lnTo>
                    <a:pt x="819" y="266"/>
                  </a:lnTo>
                  <a:lnTo>
                    <a:pt x="838" y="246"/>
                  </a:lnTo>
                  <a:lnTo>
                    <a:pt x="851" y="227"/>
                  </a:lnTo>
                  <a:lnTo>
                    <a:pt x="870" y="208"/>
                  </a:lnTo>
                  <a:lnTo>
                    <a:pt x="877" y="189"/>
                  </a:lnTo>
                  <a:lnTo>
                    <a:pt x="890" y="163"/>
                  </a:lnTo>
                  <a:lnTo>
                    <a:pt x="896" y="144"/>
                  </a:lnTo>
                  <a:lnTo>
                    <a:pt x="909" y="125"/>
                  </a:lnTo>
                  <a:lnTo>
                    <a:pt x="915" y="106"/>
                  </a:lnTo>
                  <a:lnTo>
                    <a:pt x="915" y="86"/>
                  </a:lnTo>
                  <a:lnTo>
                    <a:pt x="915" y="67"/>
                  </a:lnTo>
                  <a:lnTo>
                    <a:pt x="909" y="48"/>
                  </a:lnTo>
                  <a:lnTo>
                    <a:pt x="890" y="35"/>
                  </a:lnTo>
                  <a:lnTo>
                    <a:pt x="864" y="16"/>
                  </a:lnTo>
                  <a:lnTo>
                    <a:pt x="838" y="10"/>
                  </a:lnTo>
                  <a:lnTo>
                    <a:pt x="819" y="3"/>
                  </a:lnTo>
                  <a:lnTo>
                    <a:pt x="800" y="3"/>
                  </a:lnTo>
                  <a:lnTo>
                    <a:pt x="781" y="3"/>
                  </a:lnTo>
                  <a:lnTo>
                    <a:pt x="762" y="3"/>
                  </a:lnTo>
                  <a:lnTo>
                    <a:pt x="736" y="0"/>
                  </a:lnTo>
                </a:path>
              </a:pathLst>
            </a:custGeom>
            <a:noFill/>
            <a:ln cap="rnd" w="255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133720" y="5105520"/>
              <a:ext cx="1676160" cy="30456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646E-B5F3-464C-B72D-7BBA059A370B}" type="slidenum">
              <a:t>54</a:t>
            </a:fld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900" fill="hold"/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jenosna funkcija Butterwortho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arivanjem konjugirano kompleksnih parova polova dobiva se prijenosna funkcija općeg oblik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452520" y="2627280"/>
                <a:ext cx="86360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∏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sSup>
                                              <m:e>
                                                <m:r>
                                                  <m:t xml:space="preserve">s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+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fPr>
                                                    <m:type m:val="lin"/>
                                                  </m:fPr>
                                                  <m:num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0</m:t>
                                                        </m:r>
                                                        <m:r>
                                                          <m:t xml:space="preserve">k</m:t>
                                                        </m:r>
                                                      </m:sub>
                                                    </m:sSub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q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k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sSup>
                                                  <m:e>
                                                    <m:r>
                                                      <m:t xml:space="preserve">0</m:t>
                                                    </m:r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N para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t xml:space="preserve">)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sub>
                                        </m:sSub>
                                      </m:den>
                                    </m:f>
                                    <m:nary>
                                      <m:naryPr>
                                        <m:chr m:val="∏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sSup>
                                              <m:e>
                                                <m:r>
                                                  <m:t xml:space="preserve">s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+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fPr>
                                                    <m:type m:val="lin"/>
                                                  </m:fPr>
                                                  <m:num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0</m:t>
                                                        </m:r>
                                                        <m:r>
                                                          <m:t xml:space="preserve">k</m:t>
                                                        </m:r>
                                                      </m:sub>
                                                    </m:sSub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q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k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sSup>
                                                  <m:e>
                                                    <m:r>
                                                      <m:t xml:space="preserve">0</m:t>
                                                    </m:r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N ne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61128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normirani filter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vrijed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0k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svak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7" name=""/>
              <p:cNvSpPr txBox="1"/>
              <p:nvPr/>
            </p:nvSpPr>
            <p:spPr>
              <a:xfrm>
                <a:off x="758880" y="5289480"/>
                <a:ext cx="78516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p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N para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N ne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E74F-2242-4A87-88A9-6F37D7FA6D06}" type="slidenum">
              <a:t>55</a:t>
            </a:fld>
          </a:p>
        </p:txBody>
      </p:sp>
    </p:spTree>
  </p:cSld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2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2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7" dur="500"/>
                                        <p:tgtEl>
                                          <p:spTgt spid="2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jenosna funkcija Butterwortho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0" name=""/>
          <p:cNvGraphicFramePr/>
          <p:nvPr/>
        </p:nvGraphicFramePr>
        <p:xfrm>
          <a:off x="1219320" y="2311560"/>
          <a:ext cx="71373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11560"/>
                    <a:ext cx="7137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B95-8B27-4AB2-938D-690AE1F21A48}" type="slidenum">
              <a:t>56</a:t>
            </a:fld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445760" y="2819160"/>
            <a:ext cx="769644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3. Chebyshevljeva aproksimacija (Tip I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21A4-F8A0-40C8-8DD7-8E9733FDFA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ljeva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akteristična funkcija zadana je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2506680" y="2279520"/>
                <a:ext cx="3311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7" name=""/>
          <p:cNvSpPr/>
          <p:nvPr/>
        </p:nvSpPr>
        <p:spPr>
          <a:xfrm>
            <a:off x="611280" y="2832120"/>
            <a:ext cx="838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gdje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linom Chebyshev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-tog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tupnja u varijabli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efiniran ka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3084480" y="3773520"/>
                <a:ext cx="2627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NF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9" name=""/>
          <p:cNvSpPr/>
          <p:nvPr/>
        </p:nvSpPr>
        <p:spPr>
          <a:xfrm>
            <a:off x="612720" y="4584600"/>
            <a:ext cx="8381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d Butterworthove  aproksimacije nule karakteristične funk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K( j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 sve u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0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oljim rasporedom nula kod funkci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stiže se poklapanje s idealnom karakteristikom u više točaka u području propušt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72EC-557D-4AD5-8095-0DEF325B0853}" type="slidenum">
              <a:t>58</a:t>
            </a:fld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800"/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2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ljevi polino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zraz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guće je pisati i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2" name=""/>
              <p:cNvSpPr txBox="1"/>
              <p:nvPr/>
            </p:nvSpPr>
            <p:spPr>
              <a:xfrm>
                <a:off x="2158920" y="2322360"/>
                <a:ext cx="39909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3" name=""/>
          <p:cNvSpPr/>
          <p:nvPr/>
        </p:nvSpPr>
        <p:spPr>
          <a:xfrm>
            <a:off x="611280" y="2832120"/>
            <a:ext cx="838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vedeni izraz vrijedi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-1&lt;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&lt;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k se z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</a:t>
            </a: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oraju koristiti hiperbolne funkcij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1487520" y="3792600"/>
                <a:ext cx="58021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za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ch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za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612720" y="4584600"/>
            <a:ext cx="8381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Chebyshevljeve polinome vrijedi slijedeća rekurzivna formul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6" name=""/>
              <p:cNvSpPr txBox="1"/>
              <p:nvPr/>
            </p:nvSpPr>
            <p:spPr>
              <a:xfrm>
                <a:off x="2195640" y="5743440"/>
                <a:ext cx="453852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7D41-FFBB-4D50-B688-1288D5EA529F}" type="slidenum">
              <a:t>59</a:t>
            </a:fld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2" dur="5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0" dur="20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8382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ktrički filtar je sistem, pa ga je u tom smislu moguće definirati kao skup specifikacija kojima su određeni odnosi između njegovih ulaza i izlaz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19320" y="3338640"/>
            <a:ext cx="6400800" cy="1615320"/>
            <a:chOff x="1219320" y="3338640"/>
            <a:chExt cx="6400800" cy="1615320"/>
          </a:xfrm>
        </p:grpSpPr>
        <p:grpSp>
          <p:nvGrpSpPr>
            <p:cNvPr id="91" name=""/>
            <p:cNvGrpSpPr/>
            <p:nvPr/>
          </p:nvGrpSpPr>
          <p:grpSpPr>
            <a:xfrm>
              <a:off x="2903760" y="3338640"/>
              <a:ext cx="2768760" cy="995400"/>
              <a:chOff x="2903760" y="3338640"/>
              <a:chExt cx="2768760" cy="995400"/>
            </a:xfrm>
          </p:grpSpPr>
          <p:sp>
            <p:nvSpPr>
              <p:cNvPr id="92" name=""/>
              <p:cNvSpPr/>
              <p:nvPr/>
            </p:nvSpPr>
            <p:spPr>
              <a:xfrm>
                <a:off x="3996720" y="3562200"/>
                <a:ext cx="4395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03760" y="3381480"/>
                <a:ext cx="62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x(t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45400" y="3338640"/>
                <a:ext cx="62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y(t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06680" y="385920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29"/>
                    </a:moveTo>
                    <a:lnTo>
                      <a:pt x="2" y="28"/>
                    </a:lnTo>
                    <a:lnTo>
                      <a:pt x="4" y="26"/>
                    </a:lnTo>
                    <a:lnTo>
                      <a:pt x="6" y="23"/>
                    </a:lnTo>
                    <a:lnTo>
                      <a:pt x="7" y="19"/>
                    </a:lnTo>
                    <a:lnTo>
                      <a:pt x="7" y="15"/>
                    </a:lnTo>
                    <a:lnTo>
                      <a:pt x="7" y="10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43" y="15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51280" y="3882960"/>
                <a:ext cx="5475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65760" y="3882960"/>
                <a:ext cx="5443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98840" y="3432240"/>
                <a:ext cx="1368360" cy="901800"/>
              </a:xfrm>
              <a:custGeom>
                <a:avLst/>
                <a:gdLst/>
                <a:ahLst/>
                <a:rect l="l" t="t" r="r" b="b"/>
                <a:pathLst>
                  <a:path w="862" h="568">
                    <a:moveTo>
                      <a:pt x="0" y="0"/>
                    </a:moveTo>
                    <a:lnTo>
                      <a:pt x="0" y="567"/>
                    </a:lnTo>
                    <a:lnTo>
                      <a:pt x="861" y="567"/>
                    </a:lnTo>
                    <a:lnTo>
                      <a:pt x="86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219320" y="4495680"/>
              <a:ext cx="64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istem s jednim ulazom x(t)  i jednim izlazom y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60FC-ADC1-4368-AC6A-822F90E228C7}" type="slidenum">
              <a:t>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ljevi polino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rištenjem rekurzivne formule i poznavanjem prva dva polinom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ko se nalaze preost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9" name=""/>
              <p:cNvSpPr txBox="1"/>
              <p:nvPr/>
            </p:nvSpPr>
            <p:spPr>
              <a:xfrm>
                <a:off x="2803680" y="2778120"/>
                <a:ext cx="39099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Ω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Ω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57AD-89A1-4872-9E2B-D9F181ABF96D}" type="slidenum">
              <a:t>60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0" dur="500"/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ljevi polino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inomi Chebyshev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z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2168640" y="4245120"/>
            <a:ext cx="4197240" cy="2081160"/>
            <a:chOff x="2168640" y="4245120"/>
            <a:chExt cx="4197240" cy="2081160"/>
          </a:xfrm>
        </p:grpSpPr>
        <p:sp>
          <p:nvSpPr>
            <p:cNvPr id="2363" name=""/>
            <p:cNvSpPr/>
            <p:nvPr/>
          </p:nvSpPr>
          <p:spPr>
            <a:xfrm>
              <a:off x="2168640" y="4245120"/>
              <a:ext cx="4197240" cy="2081160"/>
            </a:xfrm>
            <a:custGeom>
              <a:avLst/>
              <a:gdLst/>
              <a:ahLst/>
              <a:rect l="l" t="t" r="r" b="b"/>
              <a:pathLst>
                <a:path w="2644" h="1311">
                  <a:moveTo>
                    <a:pt x="0" y="1310"/>
                  </a:moveTo>
                  <a:lnTo>
                    <a:pt x="14" y="1310"/>
                  </a:lnTo>
                  <a:lnTo>
                    <a:pt x="28" y="1310"/>
                  </a:lnTo>
                  <a:lnTo>
                    <a:pt x="35" y="1310"/>
                  </a:lnTo>
                  <a:lnTo>
                    <a:pt x="49" y="1310"/>
                  </a:lnTo>
                  <a:lnTo>
                    <a:pt x="63" y="1310"/>
                  </a:lnTo>
                  <a:lnTo>
                    <a:pt x="77" y="1310"/>
                  </a:lnTo>
                  <a:lnTo>
                    <a:pt x="91" y="1310"/>
                  </a:lnTo>
                  <a:lnTo>
                    <a:pt x="98" y="1310"/>
                  </a:lnTo>
                  <a:lnTo>
                    <a:pt x="112" y="1310"/>
                  </a:lnTo>
                  <a:lnTo>
                    <a:pt x="126" y="1310"/>
                  </a:lnTo>
                  <a:lnTo>
                    <a:pt x="140" y="1304"/>
                  </a:lnTo>
                  <a:lnTo>
                    <a:pt x="153" y="1304"/>
                  </a:lnTo>
                  <a:lnTo>
                    <a:pt x="160" y="1304"/>
                  </a:lnTo>
                  <a:lnTo>
                    <a:pt x="174" y="1304"/>
                  </a:lnTo>
                  <a:lnTo>
                    <a:pt x="188" y="1304"/>
                  </a:lnTo>
                  <a:lnTo>
                    <a:pt x="202" y="1304"/>
                  </a:lnTo>
                  <a:lnTo>
                    <a:pt x="216" y="1304"/>
                  </a:lnTo>
                  <a:lnTo>
                    <a:pt x="223" y="1304"/>
                  </a:lnTo>
                  <a:lnTo>
                    <a:pt x="237" y="1297"/>
                  </a:lnTo>
                  <a:lnTo>
                    <a:pt x="251" y="1297"/>
                  </a:lnTo>
                  <a:lnTo>
                    <a:pt x="265" y="1297"/>
                  </a:lnTo>
                  <a:lnTo>
                    <a:pt x="279" y="1297"/>
                  </a:lnTo>
                  <a:lnTo>
                    <a:pt x="286" y="1297"/>
                  </a:lnTo>
                  <a:lnTo>
                    <a:pt x="300" y="1297"/>
                  </a:lnTo>
                  <a:lnTo>
                    <a:pt x="314" y="1290"/>
                  </a:lnTo>
                  <a:lnTo>
                    <a:pt x="328" y="1290"/>
                  </a:lnTo>
                  <a:lnTo>
                    <a:pt x="342" y="1290"/>
                  </a:lnTo>
                  <a:lnTo>
                    <a:pt x="356" y="1290"/>
                  </a:lnTo>
                  <a:lnTo>
                    <a:pt x="363" y="1283"/>
                  </a:lnTo>
                  <a:lnTo>
                    <a:pt x="377" y="1283"/>
                  </a:lnTo>
                  <a:lnTo>
                    <a:pt x="391" y="1283"/>
                  </a:lnTo>
                  <a:lnTo>
                    <a:pt x="405" y="1283"/>
                  </a:lnTo>
                  <a:lnTo>
                    <a:pt x="418" y="1276"/>
                  </a:lnTo>
                  <a:lnTo>
                    <a:pt x="425" y="1276"/>
                  </a:lnTo>
                  <a:lnTo>
                    <a:pt x="439" y="1276"/>
                  </a:lnTo>
                  <a:lnTo>
                    <a:pt x="453" y="1269"/>
                  </a:lnTo>
                  <a:lnTo>
                    <a:pt x="467" y="1269"/>
                  </a:lnTo>
                  <a:lnTo>
                    <a:pt x="481" y="1269"/>
                  </a:lnTo>
                  <a:lnTo>
                    <a:pt x="488" y="1269"/>
                  </a:lnTo>
                  <a:lnTo>
                    <a:pt x="502" y="1262"/>
                  </a:lnTo>
                  <a:lnTo>
                    <a:pt x="516" y="1262"/>
                  </a:lnTo>
                  <a:lnTo>
                    <a:pt x="530" y="1255"/>
                  </a:lnTo>
                  <a:lnTo>
                    <a:pt x="544" y="1255"/>
                  </a:lnTo>
                  <a:lnTo>
                    <a:pt x="551" y="1255"/>
                  </a:lnTo>
                  <a:lnTo>
                    <a:pt x="565" y="1248"/>
                  </a:lnTo>
                  <a:lnTo>
                    <a:pt x="579" y="1248"/>
                  </a:lnTo>
                  <a:lnTo>
                    <a:pt x="593" y="1248"/>
                  </a:lnTo>
                  <a:lnTo>
                    <a:pt x="607" y="1241"/>
                  </a:lnTo>
                  <a:lnTo>
                    <a:pt x="614" y="1241"/>
                  </a:lnTo>
                  <a:lnTo>
                    <a:pt x="628" y="1234"/>
                  </a:lnTo>
                  <a:lnTo>
                    <a:pt x="642" y="1234"/>
                  </a:lnTo>
                  <a:lnTo>
                    <a:pt x="656" y="1227"/>
                  </a:lnTo>
                  <a:lnTo>
                    <a:pt x="670" y="1227"/>
                  </a:lnTo>
                  <a:lnTo>
                    <a:pt x="676" y="1227"/>
                  </a:lnTo>
                  <a:lnTo>
                    <a:pt x="690" y="1220"/>
                  </a:lnTo>
                  <a:lnTo>
                    <a:pt x="704" y="1220"/>
                  </a:lnTo>
                  <a:lnTo>
                    <a:pt x="718" y="1213"/>
                  </a:lnTo>
                  <a:lnTo>
                    <a:pt x="732" y="1213"/>
                  </a:lnTo>
                  <a:lnTo>
                    <a:pt x="739" y="1206"/>
                  </a:lnTo>
                  <a:lnTo>
                    <a:pt x="753" y="1206"/>
                  </a:lnTo>
                  <a:lnTo>
                    <a:pt x="767" y="1199"/>
                  </a:lnTo>
                  <a:lnTo>
                    <a:pt x="781" y="1199"/>
                  </a:lnTo>
                  <a:lnTo>
                    <a:pt x="795" y="1192"/>
                  </a:lnTo>
                  <a:lnTo>
                    <a:pt x="802" y="1192"/>
                  </a:lnTo>
                  <a:lnTo>
                    <a:pt x="816" y="1185"/>
                  </a:lnTo>
                  <a:lnTo>
                    <a:pt x="830" y="1178"/>
                  </a:lnTo>
                  <a:lnTo>
                    <a:pt x="844" y="1178"/>
                  </a:lnTo>
                  <a:lnTo>
                    <a:pt x="858" y="1171"/>
                  </a:lnTo>
                  <a:lnTo>
                    <a:pt x="865" y="1171"/>
                  </a:lnTo>
                  <a:lnTo>
                    <a:pt x="879" y="1164"/>
                  </a:lnTo>
                  <a:lnTo>
                    <a:pt x="893" y="1164"/>
                  </a:lnTo>
                  <a:lnTo>
                    <a:pt x="907" y="1157"/>
                  </a:lnTo>
                  <a:lnTo>
                    <a:pt x="921" y="1150"/>
                  </a:lnTo>
                  <a:lnTo>
                    <a:pt x="934" y="1150"/>
                  </a:lnTo>
                  <a:lnTo>
                    <a:pt x="941" y="1143"/>
                  </a:lnTo>
                  <a:lnTo>
                    <a:pt x="955" y="1136"/>
                  </a:lnTo>
                  <a:lnTo>
                    <a:pt x="969" y="1136"/>
                  </a:lnTo>
                  <a:lnTo>
                    <a:pt x="983" y="1129"/>
                  </a:lnTo>
                  <a:lnTo>
                    <a:pt x="997" y="1122"/>
                  </a:lnTo>
                  <a:lnTo>
                    <a:pt x="1004" y="1122"/>
                  </a:lnTo>
                  <a:lnTo>
                    <a:pt x="1018" y="1115"/>
                  </a:lnTo>
                  <a:lnTo>
                    <a:pt x="1032" y="1108"/>
                  </a:lnTo>
                  <a:lnTo>
                    <a:pt x="1046" y="1108"/>
                  </a:lnTo>
                  <a:lnTo>
                    <a:pt x="1060" y="1101"/>
                  </a:lnTo>
                  <a:lnTo>
                    <a:pt x="1067" y="1094"/>
                  </a:lnTo>
                  <a:lnTo>
                    <a:pt x="1081" y="1087"/>
                  </a:lnTo>
                  <a:lnTo>
                    <a:pt x="1095" y="1087"/>
                  </a:lnTo>
                  <a:lnTo>
                    <a:pt x="1109" y="1081"/>
                  </a:lnTo>
                  <a:lnTo>
                    <a:pt x="1123" y="1074"/>
                  </a:lnTo>
                  <a:lnTo>
                    <a:pt x="1130" y="1067"/>
                  </a:lnTo>
                  <a:lnTo>
                    <a:pt x="1144" y="1067"/>
                  </a:lnTo>
                  <a:lnTo>
                    <a:pt x="1158" y="1060"/>
                  </a:lnTo>
                  <a:lnTo>
                    <a:pt x="1172" y="1053"/>
                  </a:lnTo>
                  <a:lnTo>
                    <a:pt x="1186" y="1046"/>
                  </a:lnTo>
                  <a:lnTo>
                    <a:pt x="1192" y="1046"/>
                  </a:lnTo>
                  <a:lnTo>
                    <a:pt x="1206" y="1039"/>
                  </a:lnTo>
                  <a:lnTo>
                    <a:pt x="1220" y="1032"/>
                  </a:lnTo>
                  <a:lnTo>
                    <a:pt x="1234" y="1025"/>
                  </a:lnTo>
                  <a:lnTo>
                    <a:pt x="1248" y="1018"/>
                  </a:lnTo>
                  <a:lnTo>
                    <a:pt x="1255" y="1011"/>
                  </a:lnTo>
                  <a:lnTo>
                    <a:pt x="1269" y="1011"/>
                  </a:lnTo>
                  <a:lnTo>
                    <a:pt x="1283" y="1004"/>
                  </a:lnTo>
                  <a:lnTo>
                    <a:pt x="1297" y="997"/>
                  </a:lnTo>
                  <a:lnTo>
                    <a:pt x="1311" y="990"/>
                  </a:lnTo>
                  <a:lnTo>
                    <a:pt x="1318" y="983"/>
                  </a:lnTo>
                  <a:lnTo>
                    <a:pt x="1332" y="976"/>
                  </a:lnTo>
                  <a:lnTo>
                    <a:pt x="1346" y="969"/>
                  </a:lnTo>
                  <a:lnTo>
                    <a:pt x="1360" y="962"/>
                  </a:lnTo>
                  <a:lnTo>
                    <a:pt x="1374" y="955"/>
                  </a:lnTo>
                  <a:lnTo>
                    <a:pt x="1381" y="948"/>
                  </a:lnTo>
                  <a:lnTo>
                    <a:pt x="1395" y="941"/>
                  </a:lnTo>
                  <a:lnTo>
                    <a:pt x="1409" y="941"/>
                  </a:lnTo>
                  <a:lnTo>
                    <a:pt x="1423" y="934"/>
                  </a:lnTo>
                  <a:lnTo>
                    <a:pt x="1437" y="927"/>
                  </a:lnTo>
                  <a:lnTo>
                    <a:pt x="1444" y="920"/>
                  </a:lnTo>
                  <a:lnTo>
                    <a:pt x="1457" y="913"/>
                  </a:lnTo>
                  <a:lnTo>
                    <a:pt x="1471" y="906"/>
                  </a:lnTo>
                  <a:lnTo>
                    <a:pt x="1485" y="899"/>
                  </a:lnTo>
                  <a:lnTo>
                    <a:pt x="1499" y="892"/>
                  </a:lnTo>
                  <a:lnTo>
                    <a:pt x="1513" y="885"/>
                  </a:lnTo>
                  <a:lnTo>
                    <a:pt x="1520" y="878"/>
                  </a:lnTo>
                  <a:lnTo>
                    <a:pt x="1534" y="871"/>
                  </a:lnTo>
                  <a:lnTo>
                    <a:pt x="1548" y="864"/>
                  </a:lnTo>
                  <a:lnTo>
                    <a:pt x="1562" y="851"/>
                  </a:lnTo>
                  <a:lnTo>
                    <a:pt x="1576" y="844"/>
                  </a:lnTo>
                  <a:lnTo>
                    <a:pt x="1583" y="837"/>
                  </a:lnTo>
                  <a:lnTo>
                    <a:pt x="1597" y="830"/>
                  </a:lnTo>
                  <a:lnTo>
                    <a:pt x="1611" y="823"/>
                  </a:lnTo>
                  <a:lnTo>
                    <a:pt x="1625" y="816"/>
                  </a:lnTo>
                  <a:lnTo>
                    <a:pt x="1639" y="809"/>
                  </a:lnTo>
                  <a:lnTo>
                    <a:pt x="1646" y="802"/>
                  </a:lnTo>
                  <a:lnTo>
                    <a:pt x="1660" y="795"/>
                  </a:lnTo>
                  <a:lnTo>
                    <a:pt x="1674" y="788"/>
                  </a:lnTo>
                  <a:lnTo>
                    <a:pt x="1688" y="774"/>
                  </a:lnTo>
                  <a:lnTo>
                    <a:pt x="1702" y="767"/>
                  </a:lnTo>
                  <a:lnTo>
                    <a:pt x="1709" y="760"/>
                  </a:lnTo>
                  <a:lnTo>
                    <a:pt x="1722" y="753"/>
                  </a:lnTo>
                  <a:lnTo>
                    <a:pt x="1736" y="746"/>
                  </a:lnTo>
                  <a:lnTo>
                    <a:pt x="1750" y="739"/>
                  </a:lnTo>
                  <a:lnTo>
                    <a:pt x="1764" y="725"/>
                  </a:lnTo>
                  <a:lnTo>
                    <a:pt x="1771" y="718"/>
                  </a:lnTo>
                  <a:lnTo>
                    <a:pt x="1785" y="711"/>
                  </a:lnTo>
                  <a:lnTo>
                    <a:pt x="1799" y="704"/>
                  </a:lnTo>
                  <a:lnTo>
                    <a:pt x="1813" y="697"/>
                  </a:lnTo>
                  <a:lnTo>
                    <a:pt x="1827" y="683"/>
                  </a:lnTo>
                  <a:lnTo>
                    <a:pt x="1834" y="676"/>
                  </a:lnTo>
                  <a:lnTo>
                    <a:pt x="1848" y="669"/>
                  </a:lnTo>
                  <a:lnTo>
                    <a:pt x="1862" y="662"/>
                  </a:lnTo>
                  <a:lnTo>
                    <a:pt x="1876" y="648"/>
                  </a:lnTo>
                  <a:lnTo>
                    <a:pt x="1890" y="641"/>
                  </a:lnTo>
                  <a:lnTo>
                    <a:pt x="1897" y="634"/>
                  </a:lnTo>
                  <a:lnTo>
                    <a:pt x="1911" y="628"/>
                  </a:lnTo>
                  <a:lnTo>
                    <a:pt x="1925" y="614"/>
                  </a:lnTo>
                  <a:lnTo>
                    <a:pt x="1939" y="607"/>
                  </a:lnTo>
                  <a:lnTo>
                    <a:pt x="1953" y="600"/>
                  </a:lnTo>
                  <a:lnTo>
                    <a:pt x="1960" y="586"/>
                  </a:lnTo>
                  <a:lnTo>
                    <a:pt x="1973" y="579"/>
                  </a:lnTo>
                  <a:lnTo>
                    <a:pt x="1987" y="572"/>
                  </a:lnTo>
                  <a:lnTo>
                    <a:pt x="2001" y="558"/>
                  </a:lnTo>
                  <a:lnTo>
                    <a:pt x="2015" y="551"/>
                  </a:lnTo>
                  <a:lnTo>
                    <a:pt x="2022" y="544"/>
                  </a:lnTo>
                  <a:lnTo>
                    <a:pt x="2036" y="530"/>
                  </a:lnTo>
                  <a:lnTo>
                    <a:pt x="2050" y="523"/>
                  </a:lnTo>
                  <a:lnTo>
                    <a:pt x="2064" y="509"/>
                  </a:lnTo>
                  <a:lnTo>
                    <a:pt x="2078" y="502"/>
                  </a:lnTo>
                  <a:lnTo>
                    <a:pt x="2085" y="495"/>
                  </a:lnTo>
                  <a:lnTo>
                    <a:pt x="2099" y="481"/>
                  </a:lnTo>
                  <a:lnTo>
                    <a:pt x="2113" y="474"/>
                  </a:lnTo>
                  <a:lnTo>
                    <a:pt x="2127" y="460"/>
                  </a:lnTo>
                  <a:lnTo>
                    <a:pt x="2141" y="453"/>
                  </a:lnTo>
                  <a:lnTo>
                    <a:pt x="2155" y="439"/>
                  </a:lnTo>
                  <a:lnTo>
                    <a:pt x="2162" y="432"/>
                  </a:lnTo>
                  <a:lnTo>
                    <a:pt x="2176" y="418"/>
                  </a:lnTo>
                  <a:lnTo>
                    <a:pt x="2190" y="411"/>
                  </a:lnTo>
                  <a:lnTo>
                    <a:pt x="2204" y="398"/>
                  </a:lnTo>
                  <a:lnTo>
                    <a:pt x="2218" y="391"/>
                  </a:lnTo>
                  <a:lnTo>
                    <a:pt x="2225" y="377"/>
                  </a:lnTo>
                  <a:lnTo>
                    <a:pt x="2238" y="370"/>
                  </a:lnTo>
                  <a:lnTo>
                    <a:pt x="2252" y="356"/>
                  </a:lnTo>
                  <a:lnTo>
                    <a:pt x="2266" y="349"/>
                  </a:lnTo>
                  <a:lnTo>
                    <a:pt x="2280" y="335"/>
                  </a:lnTo>
                  <a:lnTo>
                    <a:pt x="2287" y="328"/>
                  </a:lnTo>
                  <a:lnTo>
                    <a:pt x="2301" y="314"/>
                  </a:lnTo>
                  <a:lnTo>
                    <a:pt x="2315" y="307"/>
                  </a:lnTo>
                  <a:lnTo>
                    <a:pt x="2329" y="293"/>
                  </a:lnTo>
                  <a:lnTo>
                    <a:pt x="2343" y="286"/>
                  </a:lnTo>
                  <a:lnTo>
                    <a:pt x="2350" y="272"/>
                  </a:lnTo>
                  <a:lnTo>
                    <a:pt x="2364" y="258"/>
                  </a:lnTo>
                  <a:lnTo>
                    <a:pt x="2378" y="251"/>
                  </a:lnTo>
                  <a:lnTo>
                    <a:pt x="2392" y="237"/>
                  </a:lnTo>
                  <a:lnTo>
                    <a:pt x="2406" y="223"/>
                  </a:lnTo>
                  <a:lnTo>
                    <a:pt x="2413" y="216"/>
                  </a:lnTo>
                  <a:lnTo>
                    <a:pt x="2427" y="202"/>
                  </a:lnTo>
                  <a:lnTo>
                    <a:pt x="2441" y="195"/>
                  </a:lnTo>
                  <a:lnTo>
                    <a:pt x="2455" y="182"/>
                  </a:lnTo>
                  <a:lnTo>
                    <a:pt x="2469" y="168"/>
                  </a:lnTo>
                  <a:lnTo>
                    <a:pt x="2476" y="161"/>
                  </a:lnTo>
                  <a:lnTo>
                    <a:pt x="2490" y="147"/>
                  </a:lnTo>
                  <a:lnTo>
                    <a:pt x="2503" y="133"/>
                  </a:lnTo>
                  <a:lnTo>
                    <a:pt x="2517" y="126"/>
                  </a:lnTo>
                  <a:lnTo>
                    <a:pt x="2531" y="112"/>
                  </a:lnTo>
                  <a:lnTo>
                    <a:pt x="2538" y="98"/>
                  </a:lnTo>
                  <a:lnTo>
                    <a:pt x="2552" y="84"/>
                  </a:lnTo>
                  <a:lnTo>
                    <a:pt x="2566" y="77"/>
                  </a:lnTo>
                  <a:lnTo>
                    <a:pt x="2580" y="63"/>
                  </a:lnTo>
                  <a:lnTo>
                    <a:pt x="2594" y="49"/>
                  </a:lnTo>
                  <a:lnTo>
                    <a:pt x="2601" y="35"/>
                  </a:lnTo>
                  <a:lnTo>
                    <a:pt x="2615" y="28"/>
                  </a:lnTo>
                  <a:lnTo>
                    <a:pt x="2629" y="14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029200" y="48769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2168640" y="3990960"/>
            <a:ext cx="4197240" cy="2335320"/>
            <a:chOff x="2168640" y="3990960"/>
            <a:chExt cx="4197240" cy="2335320"/>
          </a:xfrm>
        </p:grpSpPr>
        <p:sp>
          <p:nvSpPr>
            <p:cNvPr id="2366" name=""/>
            <p:cNvSpPr/>
            <p:nvPr/>
          </p:nvSpPr>
          <p:spPr>
            <a:xfrm>
              <a:off x="2168640" y="3990960"/>
              <a:ext cx="4197240" cy="2335320"/>
            </a:xfrm>
            <a:custGeom>
              <a:avLst/>
              <a:gdLst/>
              <a:ahLst/>
              <a:rect l="l" t="t" r="r" b="b"/>
              <a:pathLst>
                <a:path w="2644" h="1471">
                  <a:moveTo>
                    <a:pt x="0" y="878"/>
                  </a:moveTo>
                  <a:lnTo>
                    <a:pt x="14" y="885"/>
                  </a:lnTo>
                  <a:lnTo>
                    <a:pt x="28" y="892"/>
                  </a:lnTo>
                  <a:lnTo>
                    <a:pt x="35" y="906"/>
                  </a:lnTo>
                  <a:lnTo>
                    <a:pt x="49" y="913"/>
                  </a:lnTo>
                  <a:lnTo>
                    <a:pt x="63" y="920"/>
                  </a:lnTo>
                  <a:lnTo>
                    <a:pt x="77" y="927"/>
                  </a:lnTo>
                  <a:lnTo>
                    <a:pt x="91" y="941"/>
                  </a:lnTo>
                  <a:lnTo>
                    <a:pt x="98" y="948"/>
                  </a:lnTo>
                  <a:lnTo>
                    <a:pt x="112" y="955"/>
                  </a:lnTo>
                  <a:lnTo>
                    <a:pt x="126" y="962"/>
                  </a:lnTo>
                  <a:lnTo>
                    <a:pt x="140" y="976"/>
                  </a:lnTo>
                  <a:lnTo>
                    <a:pt x="153" y="983"/>
                  </a:lnTo>
                  <a:lnTo>
                    <a:pt x="160" y="990"/>
                  </a:lnTo>
                  <a:lnTo>
                    <a:pt x="174" y="1004"/>
                  </a:lnTo>
                  <a:lnTo>
                    <a:pt x="188" y="1011"/>
                  </a:lnTo>
                  <a:lnTo>
                    <a:pt x="202" y="1017"/>
                  </a:lnTo>
                  <a:lnTo>
                    <a:pt x="216" y="1024"/>
                  </a:lnTo>
                  <a:lnTo>
                    <a:pt x="223" y="1038"/>
                  </a:lnTo>
                  <a:lnTo>
                    <a:pt x="237" y="1045"/>
                  </a:lnTo>
                  <a:lnTo>
                    <a:pt x="251" y="1052"/>
                  </a:lnTo>
                  <a:lnTo>
                    <a:pt x="265" y="1059"/>
                  </a:lnTo>
                  <a:lnTo>
                    <a:pt x="279" y="1066"/>
                  </a:lnTo>
                  <a:lnTo>
                    <a:pt x="286" y="1080"/>
                  </a:lnTo>
                  <a:lnTo>
                    <a:pt x="300" y="1087"/>
                  </a:lnTo>
                  <a:lnTo>
                    <a:pt x="314" y="1094"/>
                  </a:lnTo>
                  <a:lnTo>
                    <a:pt x="328" y="1101"/>
                  </a:lnTo>
                  <a:lnTo>
                    <a:pt x="342" y="1108"/>
                  </a:lnTo>
                  <a:lnTo>
                    <a:pt x="356" y="1122"/>
                  </a:lnTo>
                  <a:lnTo>
                    <a:pt x="363" y="1129"/>
                  </a:lnTo>
                  <a:lnTo>
                    <a:pt x="377" y="1136"/>
                  </a:lnTo>
                  <a:lnTo>
                    <a:pt x="391" y="1143"/>
                  </a:lnTo>
                  <a:lnTo>
                    <a:pt x="405" y="1150"/>
                  </a:lnTo>
                  <a:lnTo>
                    <a:pt x="418" y="1157"/>
                  </a:lnTo>
                  <a:lnTo>
                    <a:pt x="425" y="1171"/>
                  </a:lnTo>
                  <a:lnTo>
                    <a:pt x="439" y="1178"/>
                  </a:lnTo>
                  <a:lnTo>
                    <a:pt x="453" y="1185"/>
                  </a:lnTo>
                  <a:lnTo>
                    <a:pt x="467" y="1192"/>
                  </a:lnTo>
                  <a:lnTo>
                    <a:pt x="481" y="1199"/>
                  </a:lnTo>
                  <a:lnTo>
                    <a:pt x="488" y="1206"/>
                  </a:lnTo>
                  <a:lnTo>
                    <a:pt x="502" y="1213"/>
                  </a:lnTo>
                  <a:lnTo>
                    <a:pt x="516" y="1220"/>
                  </a:lnTo>
                  <a:lnTo>
                    <a:pt x="530" y="1227"/>
                  </a:lnTo>
                  <a:lnTo>
                    <a:pt x="544" y="1234"/>
                  </a:lnTo>
                  <a:lnTo>
                    <a:pt x="551" y="1241"/>
                  </a:lnTo>
                  <a:lnTo>
                    <a:pt x="565" y="1247"/>
                  </a:lnTo>
                  <a:lnTo>
                    <a:pt x="579" y="1254"/>
                  </a:lnTo>
                  <a:lnTo>
                    <a:pt x="593" y="1261"/>
                  </a:lnTo>
                  <a:lnTo>
                    <a:pt x="607" y="1268"/>
                  </a:lnTo>
                  <a:lnTo>
                    <a:pt x="614" y="1275"/>
                  </a:lnTo>
                  <a:lnTo>
                    <a:pt x="628" y="1282"/>
                  </a:lnTo>
                  <a:lnTo>
                    <a:pt x="642" y="1289"/>
                  </a:lnTo>
                  <a:lnTo>
                    <a:pt x="656" y="1296"/>
                  </a:lnTo>
                  <a:lnTo>
                    <a:pt x="670" y="1303"/>
                  </a:lnTo>
                  <a:lnTo>
                    <a:pt x="676" y="1310"/>
                  </a:lnTo>
                  <a:lnTo>
                    <a:pt x="690" y="1317"/>
                  </a:lnTo>
                  <a:lnTo>
                    <a:pt x="704" y="1324"/>
                  </a:lnTo>
                  <a:lnTo>
                    <a:pt x="718" y="1331"/>
                  </a:lnTo>
                  <a:lnTo>
                    <a:pt x="732" y="1338"/>
                  </a:lnTo>
                  <a:lnTo>
                    <a:pt x="739" y="1338"/>
                  </a:lnTo>
                  <a:lnTo>
                    <a:pt x="753" y="1345"/>
                  </a:lnTo>
                  <a:lnTo>
                    <a:pt x="767" y="1352"/>
                  </a:lnTo>
                  <a:lnTo>
                    <a:pt x="781" y="1359"/>
                  </a:lnTo>
                  <a:lnTo>
                    <a:pt x="795" y="1366"/>
                  </a:lnTo>
                  <a:lnTo>
                    <a:pt x="802" y="1366"/>
                  </a:lnTo>
                  <a:lnTo>
                    <a:pt x="816" y="1373"/>
                  </a:lnTo>
                  <a:lnTo>
                    <a:pt x="830" y="1380"/>
                  </a:lnTo>
                  <a:lnTo>
                    <a:pt x="844" y="1387"/>
                  </a:lnTo>
                  <a:lnTo>
                    <a:pt x="858" y="1387"/>
                  </a:lnTo>
                  <a:lnTo>
                    <a:pt x="865" y="1394"/>
                  </a:lnTo>
                  <a:lnTo>
                    <a:pt x="879" y="1401"/>
                  </a:lnTo>
                  <a:lnTo>
                    <a:pt x="893" y="1401"/>
                  </a:lnTo>
                  <a:lnTo>
                    <a:pt x="907" y="1408"/>
                  </a:lnTo>
                  <a:lnTo>
                    <a:pt x="921" y="1415"/>
                  </a:lnTo>
                  <a:lnTo>
                    <a:pt x="934" y="1415"/>
                  </a:lnTo>
                  <a:lnTo>
                    <a:pt x="941" y="1422"/>
                  </a:lnTo>
                  <a:lnTo>
                    <a:pt x="955" y="1422"/>
                  </a:lnTo>
                  <a:lnTo>
                    <a:pt x="969" y="1429"/>
                  </a:lnTo>
                  <a:lnTo>
                    <a:pt x="983" y="1429"/>
                  </a:lnTo>
                  <a:lnTo>
                    <a:pt x="997" y="1436"/>
                  </a:lnTo>
                  <a:lnTo>
                    <a:pt x="1004" y="1436"/>
                  </a:lnTo>
                  <a:lnTo>
                    <a:pt x="1018" y="1443"/>
                  </a:lnTo>
                  <a:lnTo>
                    <a:pt x="1032" y="1443"/>
                  </a:lnTo>
                  <a:lnTo>
                    <a:pt x="1046" y="1450"/>
                  </a:lnTo>
                  <a:lnTo>
                    <a:pt x="1060" y="1450"/>
                  </a:lnTo>
                  <a:lnTo>
                    <a:pt x="1067" y="1450"/>
                  </a:lnTo>
                  <a:lnTo>
                    <a:pt x="1081" y="1457"/>
                  </a:lnTo>
                  <a:lnTo>
                    <a:pt x="1095" y="1457"/>
                  </a:lnTo>
                  <a:lnTo>
                    <a:pt x="1109" y="1457"/>
                  </a:lnTo>
                  <a:lnTo>
                    <a:pt x="1123" y="1464"/>
                  </a:lnTo>
                  <a:lnTo>
                    <a:pt x="1130" y="1464"/>
                  </a:lnTo>
                  <a:lnTo>
                    <a:pt x="1144" y="1464"/>
                  </a:lnTo>
                  <a:lnTo>
                    <a:pt x="1158" y="1464"/>
                  </a:lnTo>
                  <a:lnTo>
                    <a:pt x="1172" y="1464"/>
                  </a:lnTo>
                  <a:lnTo>
                    <a:pt x="1186" y="1470"/>
                  </a:lnTo>
                  <a:lnTo>
                    <a:pt x="1192" y="1470"/>
                  </a:lnTo>
                  <a:lnTo>
                    <a:pt x="1206" y="1470"/>
                  </a:lnTo>
                  <a:lnTo>
                    <a:pt x="1220" y="1470"/>
                  </a:lnTo>
                  <a:lnTo>
                    <a:pt x="1234" y="1470"/>
                  </a:lnTo>
                  <a:lnTo>
                    <a:pt x="1248" y="1470"/>
                  </a:lnTo>
                  <a:lnTo>
                    <a:pt x="1255" y="1470"/>
                  </a:lnTo>
                  <a:lnTo>
                    <a:pt x="1269" y="1470"/>
                  </a:lnTo>
                  <a:lnTo>
                    <a:pt x="1283" y="1470"/>
                  </a:lnTo>
                  <a:lnTo>
                    <a:pt x="1297" y="1470"/>
                  </a:lnTo>
                  <a:lnTo>
                    <a:pt x="1311" y="1470"/>
                  </a:lnTo>
                  <a:lnTo>
                    <a:pt x="1318" y="1470"/>
                  </a:lnTo>
                  <a:lnTo>
                    <a:pt x="1332" y="1470"/>
                  </a:lnTo>
                  <a:lnTo>
                    <a:pt x="1346" y="1464"/>
                  </a:lnTo>
                  <a:lnTo>
                    <a:pt x="1360" y="1464"/>
                  </a:lnTo>
                  <a:lnTo>
                    <a:pt x="1374" y="1464"/>
                  </a:lnTo>
                  <a:lnTo>
                    <a:pt x="1381" y="1464"/>
                  </a:lnTo>
                  <a:lnTo>
                    <a:pt x="1395" y="1457"/>
                  </a:lnTo>
                  <a:lnTo>
                    <a:pt x="1409" y="1457"/>
                  </a:lnTo>
                  <a:lnTo>
                    <a:pt x="1423" y="1457"/>
                  </a:lnTo>
                  <a:lnTo>
                    <a:pt x="1437" y="1450"/>
                  </a:lnTo>
                  <a:lnTo>
                    <a:pt x="1444" y="1450"/>
                  </a:lnTo>
                  <a:lnTo>
                    <a:pt x="1457" y="1450"/>
                  </a:lnTo>
                  <a:lnTo>
                    <a:pt x="1471" y="1443"/>
                  </a:lnTo>
                  <a:lnTo>
                    <a:pt x="1485" y="1443"/>
                  </a:lnTo>
                  <a:lnTo>
                    <a:pt x="1499" y="1436"/>
                  </a:lnTo>
                  <a:lnTo>
                    <a:pt x="1513" y="1436"/>
                  </a:lnTo>
                  <a:lnTo>
                    <a:pt x="1520" y="1429"/>
                  </a:lnTo>
                  <a:lnTo>
                    <a:pt x="1534" y="1422"/>
                  </a:lnTo>
                  <a:lnTo>
                    <a:pt x="1548" y="1422"/>
                  </a:lnTo>
                  <a:lnTo>
                    <a:pt x="1562" y="1415"/>
                  </a:lnTo>
                  <a:lnTo>
                    <a:pt x="1576" y="1408"/>
                  </a:lnTo>
                  <a:lnTo>
                    <a:pt x="1583" y="1408"/>
                  </a:lnTo>
                  <a:lnTo>
                    <a:pt x="1597" y="1401"/>
                  </a:lnTo>
                  <a:lnTo>
                    <a:pt x="1611" y="1394"/>
                  </a:lnTo>
                  <a:lnTo>
                    <a:pt x="1625" y="1387"/>
                  </a:lnTo>
                  <a:lnTo>
                    <a:pt x="1639" y="1380"/>
                  </a:lnTo>
                  <a:lnTo>
                    <a:pt x="1646" y="1373"/>
                  </a:lnTo>
                  <a:lnTo>
                    <a:pt x="1660" y="1373"/>
                  </a:lnTo>
                  <a:lnTo>
                    <a:pt x="1674" y="1366"/>
                  </a:lnTo>
                  <a:lnTo>
                    <a:pt x="1688" y="1359"/>
                  </a:lnTo>
                  <a:lnTo>
                    <a:pt x="1702" y="1352"/>
                  </a:lnTo>
                  <a:lnTo>
                    <a:pt x="1709" y="1338"/>
                  </a:lnTo>
                  <a:lnTo>
                    <a:pt x="1722" y="1331"/>
                  </a:lnTo>
                  <a:lnTo>
                    <a:pt x="1736" y="1324"/>
                  </a:lnTo>
                  <a:lnTo>
                    <a:pt x="1750" y="1317"/>
                  </a:lnTo>
                  <a:lnTo>
                    <a:pt x="1764" y="1310"/>
                  </a:lnTo>
                  <a:lnTo>
                    <a:pt x="1771" y="1303"/>
                  </a:lnTo>
                  <a:lnTo>
                    <a:pt x="1785" y="1289"/>
                  </a:lnTo>
                  <a:lnTo>
                    <a:pt x="1799" y="1282"/>
                  </a:lnTo>
                  <a:lnTo>
                    <a:pt x="1813" y="1275"/>
                  </a:lnTo>
                  <a:lnTo>
                    <a:pt x="1827" y="1261"/>
                  </a:lnTo>
                  <a:lnTo>
                    <a:pt x="1834" y="1254"/>
                  </a:lnTo>
                  <a:lnTo>
                    <a:pt x="1848" y="1241"/>
                  </a:lnTo>
                  <a:lnTo>
                    <a:pt x="1862" y="1234"/>
                  </a:lnTo>
                  <a:lnTo>
                    <a:pt x="1876" y="1220"/>
                  </a:lnTo>
                  <a:lnTo>
                    <a:pt x="1890" y="1213"/>
                  </a:lnTo>
                  <a:lnTo>
                    <a:pt x="1897" y="1199"/>
                  </a:lnTo>
                  <a:lnTo>
                    <a:pt x="1911" y="1185"/>
                  </a:lnTo>
                  <a:lnTo>
                    <a:pt x="1925" y="1178"/>
                  </a:lnTo>
                  <a:lnTo>
                    <a:pt x="1939" y="1164"/>
                  </a:lnTo>
                  <a:lnTo>
                    <a:pt x="1953" y="1150"/>
                  </a:lnTo>
                  <a:lnTo>
                    <a:pt x="1960" y="1136"/>
                  </a:lnTo>
                  <a:lnTo>
                    <a:pt x="1973" y="1129"/>
                  </a:lnTo>
                  <a:lnTo>
                    <a:pt x="1987" y="1115"/>
                  </a:lnTo>
                  <a:lnTo>
                    <a:pt x="2001" y="1101"/>
                  </a:lnTo>
                  <a:lnTo>
                    <a:pt x="2015" y="1087"/>
                  </a:lnTo>
                  <a:lnTo>
                    <a:pt x="2022" y="1073"/>
                  </a:lnTo>
                  <a:lnTo>
                    <a:pt x="2036" y="1059"/>
                  </a:lnTo>
                  <a:lnTo>
                    <a:pt x="2050" y="1045"/>
                  </a:lnTo>
                  <a:lnTo>
                    <a:pt x="2064" y="1024"/>
                  </a:lnTo>
                  <a:lnTo>
                    <a:pt x="2078" y="1011"/>
                  </a:lnTo>
                  <a:lnTo>
                    <a:pt x="2085" y="997"/>
                  </a:lnTo>
                  <a:lnTo>
                    <a:pt x="2099" y="983"/>
                  </a:lnTo>
                  <a:lnTo>
                    <a:pt x="2113" y="962"/>
                  </a:lnTo>
                  <a:lnTo>
                    <a:pt x="2127" y="948"/>
                  </a:lnTo>
                  <a:lnTo>
                    <a:pt x="2141" y="934"/>
                  </a:lnTo>
                  <a:lnTo>
                    <a:pt x="2155" y="913"/>
                  </a:lnTo>
                  <a:lnTo>
                    <a:pt x="2162" y="899"/>
                  </a:lnTo>
                  <a:lnTo>
                    <a:pt x="2176" y="878"/>
                  </a:lnTo>
                  <a:lnTo>
                    <a:pt x="2190" y="864"/>
                  </a:lnTo>
                  <a:lnTo>
                    <a:pt x="2204" y="843"/>
                  </a:lnTo>
                  <a:lnTo>
                    <a:pt x="2218" y="822"/>
                  </a:lnTo>
                  <a:lnTo>
                    <a:pt x="2225" y="808"/>
                  </a:lnTo>
                  <a:lnTo>
                    <a:pt x="2238" y="788"/>
                  </a:lnTo>
                  <a:lnTo>
                    <a:pt x="2252" y="767"/>
                  </a:lnTo>
                  <a:lnTo>
                    <a:pt x="2266" y="746"/>
                  </a:lnTo>
                  <a:lnTo>
                    <a:pt x="2280" y="725"/>
                  </a:lnTo>
                  <a:lnTo>
                    <a:pt x="2287" y="711"/>
                  </a:lnTo>
                  <a:lnTo>
                    <a:pt x="2301" y="690"/>
                  </a:lnTo>
                  <a:lnTo>
                    <a:pt x="2315" y="669"/>
                  </a:lnTo>
                  <a:lnTo>
                    <a:pt x="2329" y="641"/>
                  </a:lnTo>
                  <a:lnTo>
                    <a:pt x="2343" y="620"/>
                  </a:lnTo>
                  <a:lnTo>
                    <a:pt x="2350" y="599"/>
                  </a:lnTo>
                  <a:lnTo>
                    <a:pt x="2364" y="578"/>
                  </a:lnTo>
                  <a:lnTo>
                    <a:pt x="2378" y="558"/>
                  </a:lnTo>
                  <a:lnTo>
                    <a:pt x="2392" y="530"/>
                  </a:lnTo>
                  <a:lnTo>
                    <a:pt x="2406" y="509"/>
                  </a:lnTo>
                  <a:lnTo>
                    <a:pt x="2413" y="488"/>
                  </a:lnTo>
                  <a:lnTo>
                    <a:pt x="2427" y="460"/>
                  </a:lnTo>
                  <a:lnTo>
                    <a:pt x="2441" y="439"/>
                  </a:lnTo>
                  <a:lnTo>
                    <a:pt x="2455" y="411"/>
                  </a:lnTo>
                  <a:lnTo>
                    <a:pt x="2469" y="383"/>
                  </a:lnTo>
                  <a:lnTo>
                    <a:pt x="2476" y="362"/>
                  </a:lnTo>
                  <a:lnTo>
                    <a:pt x="2490" y="335"/>
                  </a:lnTo>
                  <a:lnTo>
                    <a:pt x="2503" y="307"/>
                  </a:lnTo>
                  <a:lnTo>
                    <a:pt x="2517" y="286"/>
                  </a:lnTo>
                  <a:lnTo>
                    <a:pt x="2531" y="258"/>
                  </a:lnTo>
                  <a:lnTo>
                    <a:pt x="2538" y="230"/>
                  </a:lnTo>
                  <a:lnTo>
                    <a:pt x="2552" y="202"/>
                  </a:lnTo>
                  <a:lnTo>
                    <a:pt x="2566" y="174"/>
                  </a:lnTo>
                  <a:lnTo>
                    <a:pt x="2580" y="146"/>
                  </a:lnTo>
                  <a:lnTo>
                    <a:pt x="2594" y="118"/>
                  </a:lnTo>
                  <a:lnTo>
                    <a:pt x="2601" y="84"/>
                  </a:lnTo>
                  <a:lnTo>
                    <a:pt x="2615" y="56"/>
                  </a:lnTo>
                  <a:lnTo>
                    <a:pt x="2629" y="28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62320" y="563868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2168640" y="3581280"/>
            <a:ext cx="4197240" cy="2745000"/>
            <a:chOff x="2168640" y="3581280"/>
            <a:chExt cx="4197240" cy="2745000"/>
          </a:xfrm>
        </p:grpSpPr>
        <p:sp>
          <p:nvSpPr>
            <p:cNvPr id="2369" name=""/>
            <p:cNvSpPr/>
            <p:nvPr/>
          </p:nvSpPr>
          <p:spPr>
            <a:xfrm>
              <a:off x="2168640" y="3581280"/>
              <a:ext cx="4197240" cy="2745000"/>
            </a:xfrm>
            <a:custGeom>
              <a:avLst/>
              <a:gdLst/>
              <a:ahLst/>
              <a:rect l="l" t="t" r="r" b="b"/>
              <a:pathLst>
                <a:path w="2644" h="1729">
                  <a:moveTo>
                    <a:pt x="0" y="544"/>
                  </a:moveTo>
                  <a:lnTo>
                    <a:pt x="14" y="544"/>
                  </a:lnTo>
                  <a:lnTo>
                    <a:pt x="28" y="544"/>
                  </a:lnTo>
                  <a:lnTo>
                    <a:pt x="35" y="544"/>
                  </a:lnTo>
                  <a:lnTo>
                    <a:pt x="49" y="544"/>
                  </a:lnTo>
                  <a:lnTo>
                    <a:pt x="63" y="544"/>
                  </a:lnTo>
                  <a:lnTo>
                    <a:pt x="77" y="544"/>
                  </a:lnTo>
                  <a:lnTo>
                    <a:pt x="91" y="544"/>
                  </a:lnTo>
                  <a:lnTo>
                    <a:pt x="98" y="551"/>
                  </a:lnTo>
                  <a:lnTo>
                    <a:pt x="112" y="551"/>
                  </a:lnTo>
                  <a:lnTo>
                    <a:pt x="126" y="551"/>
                  </a:lnTo>
                  <a:lnTo>
                    <a:pt x="140" y="558"/>
                  </a:lnTo>
                  <a:lnTo>
                    <a:pt x="153" y="558"/>
                  </a:lnTo>
                  <a:lnTo>
                    <a:pt x="160" y="558"/>
                  </a:lnTo>
                  <a:lnTo>
                    <a:pt x="174" y="565"/>
                  </a:lnTo>
                  <a:lnTo>
                    <a:pt x="188" y="565"/>
                  </a:lnTo>
                  <a:lnTo>
                    <a:pt x="202" y="572"/>
                  </a:lnTo>
                  <a:lnTo>
                    <a:pt x="216" y="572"/>
                  </a:lnTo>
                  <a:lnTo>
                    <a:pt x="223" y="579"/>
                  </a:lnTo>
                  <a:lnTo>
                    <a:pt x="237" y="586"/>
                  </a:lnTo>
                  <a:lnTo>
                    <a:pt x="251" y="586"/>
                  </a:lnTo>
                  <a:lnTo>
                    <a:pt x="265" y="593"/>
                  </a:lnTo>
                  <a:lnTo>
                    <a:pt x="279" y="600"/>
                  </a:lnTo>
                  <a:lnTo>
                    <a:pt x="286" y="600"/>
                  </a:lnTo>
                  <a:lnTo>
                    <a:pt x="300" y="606"/>
                  </a:lnTo>
                  <a:lnTo>
                    <a:pt x="314" y="613"/>
                  </a:lnTo>
                  <a:lnTo>
                    <a:pt x="328" y="620"/>
                  </a:lnTo>
                  <a:lnTo>
                    <a:pt x="342" y="627"/>
                  </a:lnTo>
                  <a:lnTo>
                    <a:pt x="356" y="634"/>
                  </a:lnTo>
                  <a:lnTo>
                    <a:pt x="363" y="641"/>
                  </a:lnTo>
                  <a:lnTo>
                    <a:pt x="377" y="641"/>
                  </a:lnTo>
                  <a:lnTo>
                    <a:pt x="391" y="648"/>
                  </a:lnTo>
                  <a:lnTo>
                    <a:pt x="405" y="662"/>
                  </a:lnTo>
                  <a:lnTo>
                    <a:pt x="418" y="669"/>
                  </a:lnTo>
                  <a:lnTo>
                    <a:pt x="425" y="676"/>
                  </a:lnTo>
                  <a:lnTo>
                    <a:pt x="439" y="683"/>
                  </a:lnTo>
                  <a:lnTo>
                    <a:pt x="453" y="690"/>
                  </a:lnTo>
                  <a:lnTo>
                    <a:pt x="467" y="697"/>
                  </a:lnTo>
                  <a:lnTo>
                    <a:pt x="481" y="704"/>
                  </a:lnTo>
                  <a:lnTo>
                    <a:pt x="488" y="711"/>
                  </a:lnTo>
                  <a:lnTo>
                    <a:pt x="502" y="725"/>
                  </a:lnTo>
                  <a:lnTo>
                    <a:pt x="516" y="732"/>
                  </a:lnTo>
                  <a:lnTo>
                    <a:pt x="530" y="739"/>
                  </a:lnTo>
                  <a:lnTo>
                    <a:pt x="544" y="753"/>
                  </a:lnTo>
                  <a:lnTo>
                    <a:pt x="551" y="760"/>
                  </a:lnTo>
                  <a:lnTo>
                    <a:pt x="565" y="767"/>
                  </a:lnTo>
                  <a:lnTo>
                    <a:pt x="579" y="781"/>
                  </a:lnTo>
                  <a:lnTo>
                    <a:pt x="593" y="788"/>
                  </a:lnTo>
                  <a:lnTo>
                    <a:pt x="607" y="802"/>
                  </a:lnTo>
                  <a:lnTo>
                    <a:pt x="614" y="809"/>
                  </a:lnTo>
                  <a:lnTo>
                    <a:pt x="628" y="816"/>
                  </a:lnTo>
                  <a:lnTo>
                    <a:pt x="642" y="829"/>
                  </a:lnTo>
                  <a:lnTo>
                    <a:pt x="656" y="836"/>
                  </a:lnTo>
                  <a:lnTo>
                    <a:pt x="670" y="850"/>
                  </a:lnTo>
                  <a:lnTo>
                    <a:pt x="676" y="864"/>
                  </a:lnTo>
                  <a:lnTo>
                    <a:pt x="690" y="871"/>
                  </a:lnTo>
                  <a:lnTo>
                    <a:pt x="704" y="885"/>
                  </a:lnTo>
                  <a:lnTo>
                    <a:pt x="718" y="892"/>
                  </a:lnTo>
                  <a:lnTo>
                    <a:pt x="732" y="906"/>
                  </a:lnTo>
                  <a:lnTo>
                    <a:pt x="739" y="920"/>
                  </a:lnTo>
                  <a:lnTo>
                    <a:pt x="753" y="927"/>
                  </a:lnTo>
                  <a:lnTo>
                    <a:pt x="767" y="941"/>
                  </a:lnTo>
                  <a:lnTo>
                    <a:pt x="781" y="955"/>
                  </a:lnTo>
                  <a:lnTo>
                    <a:pt x="795" y="962"/>
                  </a:lnTo>
                  <a:lnTo>
                    <a:pt x="802" y="976"/>
                  </a:lnTo>
                  <a:lnTo>
                    <a:pt x="816" y="990"/>
                  </a:lnTo>
                  <a:lnTo>
                    <a:pt x="830" y="1004"/>
                  </a:lnTo>
                  <a:lnTo>
                    <a:pt x="844" y="1011"/>
                  </a:lnTo>
                  <a:lnTo>
                    <a:pt x="858" y="1025"/>
                  </a:lnTo>
                  <a:lnTo>
                    <a:pt x="865" y="1039"/>
                  </a:lnTo>
                  <a:lnTo>
                    <a:pt x="879" y="1052"/>
                  </a:lnTo>
                  <a:lnTo>
                    <a:pt x="893" y="1066"/>
                  </a:lnTo>
                  <a:lnTo>
                    <a:pt x="907" y="1073"/>
                  </a:lnTo>
                  <a:lnTo>
                    <a:pt x="921" y="1087"/>
                  </a:lnTo>
                  <a:lnTo>
                    <a:pt x="934" y="1101"/>
                  </a:lnTo>
                  <a:lnTo>
                    <a:pt x="941" y="1115"/>
                  </a:lnTo>
                  <a:lnTo>
                    <a:pt x="955" y="1129"/>
                  </a:lnTo>
                  <a:lnTo>
                    <a:pt x="969" y="1143"/>
                  </a:lnTo>
                  <a:lnTo>
                    <a:pt x="983" y="1150"/>
                  </a:lnTo>
                  <a:lnTo>
                    <a:pt x="997" y="1164"/>
                  </a:lnTo>
                  <a:lnTo>
                    <a:pt x="1004" y="1178"/>
                  </a:lnTo>
                  <a:lnTo>
                    <a:pt x="1018" y="1192"/>
                  </a:lnTo>
                  <a:lnTo>
                    <a:pt x="1032" y="1206"/>
                  </a:lnTo>
                  <a:lnTo>
                    <a:pt x="1046" y="1220"/>
                  </a:lnTo>
                  <a:lnTo>
                    <a:pt x="1060" y="1234"/>
                  </a:lnTo>
                  <a:lnTo>
                    <a:pt x="1067" y="1241"/>
                  </a:lnTo>
                  <a:lnTo>
                    <a:pt x="1081" y="1255"/>
                  </a:lnTo>
                  <a:lnTo>
                    <a:pt x="1095" y="1269"/>
                  </a:lnTo>
                  <a:lnTo>
                    <a:pt x="1109" y="1282"/>
                  </a:lnTo>
                  <a:lnTo>
                    <a:pt x="1123" y="1296"/>
                  </a:lnTo>
                  <a:lnTo>
                    <a:pt x="1130" y="1310"/>
                  </a:lnTo>
                  <a:lnTo>
                    <a:pt x="1144" y="1317"/>
                  </a:lnTo>
                  <a:lnTo>
                    <a:pt x="1158" y="1331"/>
                  </a:lnTo>
                  <a:lnTo>
                    <a:pt x="1172" y="1345"/>
                  </a:lnTo>
                  <a:lnTo>
                    <a:pt x="1186" y="1359"/>
                  </a:lnTo>
                  <a:lnTo>
                    <a:pt x="1192" y="1373"/>
                  </a:lnTo>
                  <a:lnTo>
                    <a:pt x="1206" y="1380"/>
                  </a:lnTo>
                  <a:lnTo>
                    <a:pt x="1220" y="1394"/>
                  </a:lnTo>
                  <a:lnTo>
                    <a:pt x="1234" y="1408"/>
                  </a:lnTo>
                  <a:lnTo>
                    <a:pt x="1248" y="1422"/>
                  </a:lnTo>
                  <a:lnTo>
                    <a:pt x="1255" y="1429"/>
                  </a:lnTo>
                  <a:lnTo>
                    <a:pt x="1269" y="1443"/>
                  </a:lnTo>
                  <a:lnTo>
                    <a:pt x="1283" y="1457"/>
                  </a:lnTo>
                  <a:lnTo>
                    <a:pt x="1297" y="1464"/>
                  </a:lnTo>
                  <a:lnTo>
                    <a:pt x="1311" y="1478"/>
                  </a:lnTo>
                  <a:lnTo>
                    <a:pt x="1318" y="1492"/>
                  </a:lnTo>
                  <a:lnTo>
                    <a:pt x="1332" y="1499"/>
                  </a:lnTo>
                  <a:lnTo>
                    <a:pt x="1346" y="1512"/>
                  </a:lnTo>
                  <a:lnTo>
                    <a:pt x="1360" y="1519"/>
                  </a:lnTo>
                  <a:lnTo>
                    <a:pt x="1374" y="1533"/>
                  </a:lnTo>
                  <a:lnTo>
                    <a:pt x="1381" y="1540"/>
                  </a:lnTo>
                  <a:lnTo>
                    <a:pt x="1395" y="1554"/>
                  </a:lnTo>
                  <a:lnTo>
                    <a:pt x="1409" y="1561"/>
                  </a:lnTo>
                  <a:lnTo>
                    <a:pt x="1423" y="1575"/>
                  </a:lnTo>
                  <a:lnTo>
                    <a:pt x="1437" y="1582"/>
                  </a:lnTo>
                  <a:lnTo>
                    <a:pt x="1444" y="1589"/>
                  </a:lnTo>
                  <a:lnTo>
                    <a:pt x="1457" y="1603"/>
                  </a:lnTo>
                  <a:lnTo>
                    <a:pt x="1471" y="1610"/>
                  </a:lnTo>
                  <a:lnTo>
                    <a:pt x="1485" y="1617"/>
                  </a:lnTo>
                  <a:lnTo>
                    <a:pt x="1499" y="1624"/>
                  </a:lnTo>
                  <a:lnTo>
                    <a:pt x="1513" y="1638"/>
                  </a:lnTo>
                  <a:lnTo>
                    <a:pt x="1520" y="1645"/>
                  </a:lnTo>
                  <a:lnTo>
                    <a:pt x="1534" y="1652"/>
                  </a:lnTo>
                  <a:lnTo>
                    <a:pt x="1548" y="1659"/>
                  </a:lnTo>
                  <a:lnTo>
                    <a:pt x="1562" y="1666"/>
                  </a:lnTo>
                  <a:lnTo>
                    <a:pt x="1576" y="1673"/>
                  </a:lnTo>
                  <a:lnTo>
                    <a:pt x="1583" y="1680"/>
                  </a:lnTo>
                  <a:lnTo>
                    <a:pt x="1597" y="1687"/>
                  </a:lnTo>
                  <a:lnTo>
                    <a:pt x="1611" y="1687"/>
                  </a:lnTo>
                  <a:lnTo>
                    <a:pt x="1625" y="1694"/>
                  </a:lnTo>
                  <a:lnTo>
                    <a:pt x="1639" y="1701"/>
                  </a:lnTo>
                  <a:lnTo>
                    <a:pt x="1646" y="1708"/>
                  </a:lnTo>
                  <a:lnTo>
                    <a:pt x="1660" y="1708"/>
                  </a:lnTo>
                  <a:lnTo>
                    <a:pt x="1674" y="1715"/>
                  </a:lnTo>
                  <a:lnTo>
                    <a:pt x="1688" y="1715"/>
                  </a:lnTo>
                  <a:lnTo>
                    <a:pt x="1702" y="1722"/>
                  </a:lnTo>
                  <a:lnTo>
                    <a:pt x="1709" y="1722"/>
                  </a:lnTo>
                  <a:lnTo>
                    <a:pt x="1722" y="1722"/>
                  </a:lnTo>
                  <a:lnTo>
                    <a:pt x="1736" y="1728"/>
                  </a:lnTo>
                  <a:lnTo>
                    <a:pt x="1750" y="1728"/>
                  </a:lnTo>
                  <a:lnTo>
                    <a:pt x="1764" y="1728"/>
                  </a:lnTo>
                  <a:lnTo>
                    <a:pt x="1771" y="1728"/>
                  </a:lnTo>
                  <a:lnTo>
                    <a:pt x="1785" y="1728"/>
                  </a:lnTo>
                  <a:lnTo>
                    <a:pt x="1799" y="1728"/>
                  </a:lnTo>
                  <a:lnTo>
                    <a:pt x="1813" y="1728"/>
                  </a:lnTo>
                  <a:lnTo>
                    <a:pt x="1827" y="1728"/>
                  </a:lnTo>
                  <a:lnTo>
                    <a:pt x="1834" y="1722"/>
                  </a:lnTo>
                  <a:lnTo>
                    <a:pt x="1848" y="1722"/>
                  </a:lnTo>
                  <a:lnTo>
                    <a:pt x="1862" y="1715"/>
                  </a:lnTo>
                  <a:lnTo>
                    <a:pt x="1876" y="1715"/>
                  </a:lnTo>
                  <a:lnTo>
                    <a:pt x="1890" y="1708"/>
                  </a:lnTo>
                  <a:lnTo>
                    <a:pt x="1897" y="1708"/>
                  </a:lnTo>
                  <a:lnTo>
                    <a:pt x="1911" y="1701"/>
                  </a:lnTo>
                  <a:lnTo>
                    <a:pt x="1925" y="1694"/>
                  </a:lnTo>
                  <a:lnTo>
                    <a:pt x="1939" y="1687"/>
                  </a:lnTo>
                  <a:lnTo>
                    <a:pt x="1953" y="1680"/>
                  </a:lnTo>
                  <a:lnTo>
                    <a:pt x="1960" y="1673"/>
                  </a:lnTo>
                  <a:lnTo>
                    <a:pt x="1973" y="1666"/>
                  </a:lnTo>
                  <a:lnTo>
                    <a:pt x="1987" y="1652"/>
                  </a:lnTo>
                  <a:lnTo>
                    <a:pt x="2001" y="1645"/>
                  </a:lnTo>
                  <a:lnTo>
                    <a:pt x="2015" y="1638"/>
                  </a:lnTo>
                  <a:lnTo>
                    <a:pt x="2022" y="1624"/>
                  </a:lnTo>
                  <a:lnTo>
                    <a:pt x="2036" y="1610"/>
                  </a:lnTo>
                  <a:lnTo>
                    <a:pt x="2050" y="1603"/>
                  </a:lnTo>
                  <a:lnTo>
                    <a:pt x="2064" y="1589"/>
                  </a:lnTo>
                  <a:lnTo>
                    <a:pt x="2078" y="1575"/>
                  </a:lnTo>
                  <a:lnTo>
                    <a:pt x="2085" y="1561"/>
                  </a:lnTo>
                  <a:lnTo>
                    <a:pt x="2099" y="1540"/>
                  </a:lnTo>
                  <a:lnTo>
                    <a:pt x="2113" y="1526"/>
                  </a:lnTo>
                  <a:lnTo>
                    <a:pt x="2127" y="1512"/>
                  </a:lnTo>
                  <a:lnTo>
                    <a:pt x="2141" y="1492"/>
                  </a:lnTo>
                  <a:lnTo>
                    <a:pt x="2155" y="1478"/>
                  </a:lnTo>
                  <a:lnTo>
                    <a:pt x="2162" y="1457"/>
                  </a:lnTo>
                  <a:lnTo>
                    <a:pt x="2176" y="1436"/>
                  </a:lnTo>
                  <a:lnTo>
                    <a:pt x="2190" y="1415"/>
                  </a:lnTo>
                  <a:lnTo>
                    <a:pt x="2204" y="1394"/>
                  </a:lnTo>
                  <a:lnTo>
                    <a:pt x="2218" y="1373"/>
                  </a:lnTo>
                  <a:lnTo>
                    <a:pt x="2225" y="1345"/>
                  </a:lnTo>
                  <a:lnTo>
                    <a:pt x="2238" y="1324"/>
                  </a:lnTo>
                  <a:lnTo>
                    <a:pt x="2252" y="1296"/>
                  </a:lnTo>
                  <a:lnTo>
                    <a:pt x="2266" y="1269"/>
                  </a:lnTo>
                  <a:lnTo>
                    <a:pt x="2280" y="1248"/>
                  </a:lnTo>
                  <a:lnTo>
                    <a:pt x="2287" y="1220"/>
                  </a:lnTo>
                  <a:lnTo>
                    <a:pt x="2301" y="1185"/>
                  </a:lnTo>
                  <a:lnTo>
                    <a:pt x="2315" y="1157"/>
                  </a:lnTo>
                  <a:lnTo>
                    <a:pt x="2329" y="1129"/>
                  </a:lnTo>
                  <a:lnTo>
                    <a:pt x="2343" y="1094"/>
                  </a:lnTo>
                  <a:lnTo>
                    <a:pt x="2350" y="1059"/>
                  </a:lnTo>
                  <a:lnTo>
                    <a:pt x="2364" y="1032"/>
                  </a:lnTo>
                  <a:lnTo>
                    <a:pt x="2378" y="997"/>
                  </a:lnTo>
                  <a:lnTo>
                    <a:pt x="2392" y="962"/>
                  </a:lnTo>
                  <a:lnTo>
                    <a:pt x="2406" y="920"/>
                  </a:lnTo>
                  <a:lnTo>
                    <a:pt x="2413" y="885"/>
                  </a:lnTo>
                  <a:lnTo>
                    <a:pt x="2427" y="843"/>
                  </a:lnTo>
                  <a:lnTo>
                    <a:pt x="2441" y="802"/>
                  </a:lnTo>
                  <a:lnTo>
                    <a:pt x="2455" y="767"/>
                  </a:lnTo>
                  <a:lnTo>
                    <a:pt x="2469" y="718"/>
                  </a:lnTo>
                  <a:lnTo>
                    <a:pt x="2476" y="676"/>
                  </a:lnTo>
                  <a:lnTo>
                    <a:pt x="2490" y="634"/>
                  </a:lnTo>
                  <a:lnTo>
                    <a:pt x="2503" y="586"/>
                  </a:lnTo>
                  <a:lnTo>
                    <a:pt x="2517" y="544"/>
                  </a:lnTo>
                  <a:lnTo>
                    <a:pt x="2531" y="495"/>
                  </a:lnTo>
                  <a:lnTo>
                    <a:pt x="2538" y="446"/>
                  </a:lnTo>
                  <a:lnTo>
                    <a:pt x="2552" y="390"/>
                  </a:lnTo>
                  <a:lnTo>
                    <a:pt x="2566" y="342"/>
                  </a:lnTo>
                  <a:lnTo>
                    <a:pt x="2580" y="286"/>
                  </a:lnTo>
                  <a:lnTo>
                    <a:pt x="2594" y="230"/>
                  </a:lnTo>
                  <a:lnTo>
                    <a:pt x="2601" y="174"/>
                  </a:lnTo>
                  <a:lnTo>
                    <a:pt x="2615" y="119"/>
                  </a:lnTo>
                  <a:lnTo>
                    <a:pt x="2629" y="63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86000" y="41148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2168640" y="3006720"/>
            <a:ext cx="4197240" cy="3319560"/>
            <a:chOff x="2168640" y="3006720"/>
            <a:chExt cx="4197240" cy="3319560"/>
          </a:xfrm>
        </p:grpSpPr>
        <p:sp>
          <p:nvSpPr>
            <p:cNvPr id="2372" name=""/>
            <p:cNvSpPr/>
            <p:nvPr/>
          </p:nvSpPr>
          <p:spPr>
            <a:xfrm>
              <a:off x="2168640" y="3006720"/>
              <a:ext cx="4197240" cy="3319560"/>
            </a:xfrm>
            <a:custGeom>
              <a:avLst/>
              <a:gdLst/>
              <a:ahLst/>
              <a:rect l="l" t="t" r="r" b="b"/>
              <a:pathLst>
                <a:path w="2644" h="2091">
                  <a:moveTo>
                    <a:pt x="0" y="1498"/>
                  </a:moveTo>
                  <a:lnTo>
                    <a:pt x="14" y="1484"/>
                  </a:lnTo>
                  <a:lnTo>
                    <a:pt x="28" y="1463"/>
                  </a:lnTo>
                  <a:lnTo>
                    <a:pt x="35" y="1449"/>
                  </a:lnTo>
                  <a:lnTo>
                    <a:pt x="49" y="1435"/>
                  </a:lnTo>
                  <a:lnTo>
                    <a:pt x="63" y="1421"/>
                  </a:lnTo>
                  <a:lnTo>
                    <a:pt x="77" y="1408"/>
                  </a:lnTo>
                  <a:lnTo>
                    <a:pt x="91" y="1394"/>
                  </a:lnTo>
                  <a:lnTo>
                    <a:pt x="98" y="1380"/>
                  </a:lnTo>
                  <a:lnTo>
                    <a:pt x="112" y="1366"/>
                  </a:lnTo>
                  <a:lnTo>
                    <a:pt x="126" y="1352"/>
                  </a:lnTo>
                  <a:lnTo>
                    <a:pt x="140" y="1338"/>
                  </a:lnTo>
                  <a:lnTo>
                    <a:pt x="153" y="1324"/>
                  </a:lnTo>
                  <a:lnTo>
                    <a:pt x="160" y="1310"/>
                  </a:lnTo>
                  <a:lnTo>
                    <a:pt x="174" y="1289"/>
                  </a:lnTo>
                  <a:lnTo>
                    <a:pt x="188" y="1275"/>
                  </a:lnTo>
                  <a:lnTo>
                    <a:pt x="202" y="1268"/>
                  </a:lnTo>
                  <a:lnTo>
                    <a:pt x="216" y="1254"/>
                  </a:lnTo>
                  <a:lnTo>
                    <a:pt x="223" y="1240"/>
                  </a:lnTo>
                  <a:lnTo>
                    <a:pt x="237" y="1226"/>
                  </a:lnTo>
                  <a:lnTo>
                    <a:pt x="251" y="1212"/>
                  </a:lnTo>
                  <a:lnTo>
                    <a:pt x="265" y="1198"/>
                  </a:lnTo>
                  <a:lnTo>
                    <a:pt x="279" y="1185"/>
                  </a:lnTo>
                  <a:lnTo>
                    <a:pt x="286" y="1171"/>
                  </a:lnTo>
                  <a:lnTo>
                    <a:pt x="300" y="1164"/>
                  </a:lnTo>
                  <a:lnTo>
                    <a:pt x="314" y="1150"/>
                  </a:lnTo>
                  <a:lnTo>
                    <a:pt x="328" y="1136"/>
                  </a:lnTo>
                  <a:lnTo>
                    <a:pt x="342" y="1122"/>
                  </a:lnTo>
                  <a:lnTo>
                    <a:pt x="356" y="1115"/>
                  </a:lnTo>
                  <a:lnTo>
                    <a:pt x="363" y="1101"/>
                  </a:lnTo>
                  <a:lnTo>
                    <a:pt x="377" y="1087"/>
                  </a:lnTo>
                  <a:lnTo>
                    <a:pt x="391" y="1080"/>
                  </a:lnTo>
                  <a:lnTo>
                    <a:pt x="405" y="1066"/>
                  </a:lnTo>
                  <a:lnTo>
                    <a:pt x="418" y="1059"/>
                  </a:lnTo>
                  <a:lnTo>
                    <a:pt x="425" y="1045"/>
                  </a:lnTo>
                  <a:lnTo>
                    <a:pt x="439" y="1038"/>
                  </a:lnTo>
                  <a:lnTo>
                    <a:pt x="453" y="1031"/>
                  </a:lnTo>
                  <a:lnTo>
                    <a:pt x="467" y="1017"/>
                  </a:lnTo>
                  <a:lnTo>
                    <a:pt x="481" y="1010"/>
                  </a:lnTo>
                  <a:lnTo>
                    <a:pt x="488" y="1003"/>
                  </a:lnTo>
                  <a:lnTo>
                    <a:pt x="502" y="996"/>
                  </a:lnTo>
                  <a:lnTo>
                    <a:pt x="516" y="989"/>
                  </a:lnTo>
                  <a:lnTo>
                    <a:pt x="530" y="975"/>
                  </a:lnTo>
                  <a:lnTo>
                    <a:pt x="544" y="968"/>
                  </a:lnTo>
                  <a:lnTo>
                    <a:pt x="551" y="962"/>
                  </a:lnTo>
                  <a:lnTo>
                    <a:pt x="565" y="955"/>
                  </a:lnTo>
                  <a:lnTo>
                    <a:pt x="579" y="955"/>
                  </a:lnTo>
                  <a:lnTo>
                    <a:pt x="593" y="948"/>
                  </a:lnTo>
                  <a:lnTo>
                    <a:pt x="607" y="941"/>
                  </a:lnTo>
                  <a:lnTo>
                    <a:pt x="614" y="934"/>
                  </a:lnTo>
                  <a:lnTo>
                    <a:pt x="628" y="927"/>
                  </a:lnTo>
                  <a:lnTo>
                    <a:pt x="642" y="927"/>
                  </a:lnTo>
                  <a:lnTo>
                    <a:pt x="656" y="920"/>
                  </a:lnTo>
                  <a:lnTo>
                    <a:pt x="670" y="920"/>
                  </a:lnTo>
                  <a:lnTo>
                    <a:pt x="676" y="913"/>
                  </a:lnTo>
                  <a:lnTo>
                    <a:pt x="690" y="913"/>
                  </a:lnTo>
                  <a:lnTo>
                    <a:pt x="704" y="906"/>
                  </a:lnTo>
                  <a:lnTo>
                    <a:pt x="718" y="906"/>
                  </a:lnTo>
                  <a:lnTo>
                    <a:pt x="732" y="906"/>
                  </a:lnTo>
                  <a:lnTo>
                    <a:pt x="739" y="906"/>
                  </a:lnTo>
                  <a:lnTo>
                    <a:pt x="753" y="906"/>
                  </a:lnTo>
                  <a:lnTo>
                    <a:pt x="767" y="906"/>
                  </a:lnTo>
                  <a:lnTo>
                    <a:pt x="781" y="906"/>
                  </a:lnTo>
                  <a:lnTo>
                    <a:pt x="795" y="906"/>
                  </a:lnTo>
                  <a:lnTo>
                    <a:pt x="802" y="906"/>
                  </a:lnTo>
                  <a:lnTo>
                    <a:pt x="816" y="906"/>
                  </a:lnTo>
                  <a:lnTo>
                    <a:pt x="830" y="906"/>
                  </a:lnTo>
                  <a:lnTo>
                    <a:pt x="844" y="906"/>
                  </a:lnTo>
                  <a:lnTo>
                    <a:pt x="858" y="913"/>
                  </a:lnTo>
                  <a:lnTo>
                    <a:pt x="865" y="913"/>
                  </a:lnTo>
                  <a:lnTo>
                    <a:pt x="879" y="920"/>
                  </a:lnTo>
                  <a:lnTo>
                    <a:pt x="893" y="920"/>
                  </a:lnTo>
                  <a:lnTo>
                    <a:pt x="907" y="927"/>
                  </a:lnTo>
                  <a:lnTo>
                    <a:pt x="921" y="927"/>
                  </a:lnTo>
                  <a:lnTo>
                    <a:pt x="934" y="934"/>
                  </a:lnTo>
                  <a:lnTo>
                    <a:pt x="941" y="941"/>
                  </a:lnTo>
                  <a:lnTo>
                    <a:pt x="955" y="948"/>
                  </a:lnTo>
                  <a:lnTo>
                    <a:pt x="969" y="948"/>
                  </a:lnTo>
                  <a:lnTo>
                    <a:pt x="983" y="955"/>
                  </a:lnTo>
                  <a:lnTo>
                    <a:pt x="997" y="962"/>
                  </a:lnTo>
                  <a:lnTo>
                    <a:pt x="1004" y="968"/>
                  </a:lnTo>
                  <a:lnTo>
                    <a:pt x="1018" y="982"/>
                  </a:lnTo>
                  <a:lnTo>
                    <a:pt x="1032" y="989"/>
                  </a:lnTo>
                  <a:lnTo>
                    <a:pt x="1046" y="996"/>
                  </a:lnTo>
                  <a:lnTo>
                    <a:pt x="1060" y="1003"/>
                  </a:lnTo>
                  <a:lnTo>
                    <a:pt x="1067" y="1017"/>
                  </a:lnTo>
                  <a:lnTo>
                    <a:pt x="1081" y="1024"/>
                  </a:lnTo>
                  <a:lnTo>
                    <a:pt x="1095" y="1031"/>
                  </a:lnTo>
                  <a:lnTo>
                    <a:pt x="1109" y="1045"/>
                  </a:lnTo>
                  <a:lnTo>
                    <a:pt x="1123" y="1059"/>
                  </a:lnTo>
                  <a:lnTo>
                    <a:pt x="1130" y="1066"/>
                  </a:lnTo>
                  <a:lnTo>
                    <a:pt x="1144" y="1080"/>
                  </a:lnTo>
                  <a:lnTo>
                    <a:pt x="1158" y="1094"/>
                  </a:lnTo>
                  <a:lnTo>
                    <a:pt x="1172" y="1101"/>
                  </a:lnTo>
                  <a:lnTo>
                    <a:pt x="1186" y="1115"/>
                  </a:lnTo>
                  <a:lnTo>
                    <a:pt x="1192" y="1129"/>
                  </a:lnTo>
                  <a:lnTo>
                    <a:pt x="1206" y="1143"/>
                  </a:lnTo>
                  <a:lnTo>
                    <a:pt x="1220" y="1157"/>
                  </a:lnTo>
                  <a:lnTo>
                    <a:pt x="1234" y="1171"/>
                  </a:lnTo>
                  <a:lnTo>
                    <a:pt x="1248" y="1185"/>
                  </a:lnTo>
                  <a:lnTo>
                    <a:pt x="1255" y="1198"/>
                  </a:lnTo>
                  <a:lnTo>
                    <a:pt x="1269" y="1212"/>
                  </a:lnTo>
                  <a:lnTo>
                    <a:pt x="1283" y="1226"/>
                  </a:lnTo>
                  <a:lnTo>
                    <a:pt x="1297" y="1247"/>
                  </a:lnTo>
                  <a:lnTo>
                    <a:pt x="1311" y="1261"/>
                  </a:lnTo>
                  <a:lnTo>
                    <a:pt x="1318" y="1275"/>
                  </a:lnTo>
                  <a:lnTo>
                    <a:pt x="1332" y="1296"/>
                  </a:lnTo>
                  <a:lnTo>
                    <a:pt x="1346" y="1310"/>
                  </a:lnTo>
                  <a:lnTo>
                    <a:pt x="1360" y="1324"/>
                  </a:lnTo>
                  <a:lnTo>
                    <a:pt x="1374" y="1345"/>
                  </a:lnTo>
                  <a:lnTo>
                    <a:pt x="1381" y="1359"/>
                  </a:lnTo>
                  <a:lnTo>
                    <a:pt x="1395" y="1380"/>
                  </a:lnTo>
                  <a:lnTo>
                    <a:pt x="1409" y="1394"/>
                  </a:lnTo>
                  <a:lnTo>
                    <a:pt x="1423" y="1414"/>
                  </a:lnTo>
                  <a:lnTo>
                    <a:pt x="1437" y="1428"/>
                  </a:lnTo>
                  <a:lnTo>
                    <a:pt x="1444" y="1449"/>
                  </a:lnTo>
                  <a:lnTo>
                    <a:pt x="1457" y="1470"/>
                  </a:lnTo>
                  <a:lnTo>
                    <a:pt x="1471" y="1484"/>
                  </a:lnTo>
                  <a:lnTo>
                    <a:pt x="1485" y="1505"/>
                  </a:lnTo>
                  <a:lnTo>
                    <a:pt x="1499" y="1526"/>
                  </a:lnTo>
                  <a:lnTo>
                    <a:pt x="1513" y="1540"/>
                  </a:lnTo>
                  <a:lnTo>
                    <a:pt x="1520" y="1561"/>
                  </a:lnTo>
                  <a:lnTo>
                    <a:pt x="1534" y="1582"/>
                  </a:lnTo>
                  <a:lnTo>
                    <a:pt x="1548" y="1596"/>
                  </a:lnTo>
                  <a:lnTo>
                    <a:pt x="1562" y="1617"/>
                  </a:lnTo>
                  <a:lnTo>
                    <a:pt x="1576" y="1637"/>
                  </a:lnTo>
                  <a:lnTo>
                    <a:pt x="1583" y="1651"/>
                  </a:lnTo>
                  <a:lnTo>
                    <a:pt x="1597" y="1672"/>
                  </a:lnTo>
                  <a:lnTo>
                    <a:pt x="1611" y="1686"/>
                  </a:lnTo>
                  <a:lnTo>
                    <a:pt x="1625" y="1707"/>
                  </a:lnTo>
                  <a:lnTo>
                    <a:pt x="1639" y="1728"/>
                  </a:lnTo>
                  <a:lnTo>
                    <a:pt x="1646" y="1742"/>
                  </a:lnTo>
                  <a:lnTo>
                    <a:pt x="1660" y="1763"/>
                  </a:lnTo>
                  <a:lnTo>
                    <a:pt x="1674" y="1777"/>
                  </a:lnTo>
                  <a:lnTo>
                    <a:pt x="1688" y="1798"/>
                  </a:lnTo>
                  <a:lnTo>
                    <a:pt x="1702" y="1812"/>
                  </a:lnTo>
                  <a:lnTo>
                    <a:pt x="1709" y="1833"/>
                  </a:lnTo>
                  <a:lnTo>
                    <a:pt x="1722" y="1847"/>
                  </a:lnTo>
                  <a:lnTo>
                    <a:pt x="1736" y="1861"/>
                  </a:lnTo>
                  <a:lnTo>
                    <a:pt x="1750" y="1881"/>
                  </a:lnTo>
                  <a:lnTo>
                    <a:pt x="1764" y="1895"/>
                  </a:lnTo>
                  <a:lnTo>
                    <a:pt x="1771" y="1909"/>
                  </a:lnTo>
                  <a:lnTo>
                    <a:pt x="1785" y="1923"/>
                  </a:lnTo>
                  <a:lnTo>
                    <a:pt x="1799" y="1937"/>
                  </a:lnTo>
                  <a:lnTo>
                    <a:pt x="1813" y="1951"/>
                  </a:lnTo>
                  <a:lnTo>
                    <a:pt x="1827" y="1965"/>
                  </a:lnTo>
                  <a:lnTo>
                    <a:pt x="1834" y="1979"/>
                  </a:lnTo>
                  <a:lnTo>
                    <a:pt x="1848" y="1993"/>
                  </a:lnTo>
                  <a:lnTo>
                    <a:pt x="1862" y="2007"/>
                  </a:lnTo>
                  <a:lnTo>
                    <a:pt x="1876" y="2014"/>
                  </a:lnTo>
                  <a:lnTo>
                    <a:pt x="1890" y="2028"/>
                  </a:lnTo>
                  <a:lnTo>
                    <a:pt x="1897" y="2035"/>
                  </a:lnTo>
                  <a:lnTo>
                    <a:pt x="1911" y="2042"/>
                  </a:lnTo>
                  <a:lnTo>
                    <a:pt x="1925" y="2056"/>
                  </a:lnTo>
                  <a:lnTo>
                    <a:pt x="1939" y="2063"/>
                  </a:lnTo>
                  <a:lnTo>
                    <a:pt x="1953" y="2070"/>
                  </a:lnTo>
                  <a:lnTo>
                    <a:pt x="1960" y="2077"/>
                  </a:lnTo>
                  <a:lnTo>
                    <a:pt x="1973" y="2077"/>
                  </a:lnTo>
                  <a:lnTo>
                    <a:pt x="1987" y="2084"/>
                  </a:lnTo>
                  <a:lnTo>
                    <a:pt x="2001" y="2084"/>
                  </a:lnTo>
                  <a:lnTo>
                    <a:pt x="2015" y="2090"/>
                  </a:lnTo>
                  <a:lnTo>
                    <a:pt x="2022" y="2090"/>
                  </a:lnTo>
                  <a:lnTo>
                    <a:pt x="2036" y="2090"/>
                  </a:lnTo>
                  <a:lnTo>
                    <a:pt x="2050" y="2090"/>
                  </a:lnTo>
                  <a:lnTo>
                    <a:pt x="2064" y="2090"/>
                  </a:lnTo>
                  <a:lnTo>
                    <a:pt x="2078" y="2084"/>
                  </a:lnTo>
                  <a:lnTo>
                    <a:pt x="2085" y="2084"/>
                  </a:lnTo>
                  <a:lnTo>
                    <a:pt x="2099" y="2077"/>
                  </a:lnTo>
                  <a:lnTo>
                    <a:pt x="2113" y="2070"/>
                  </a:lnTo>
                  <a:lnTo>
                    <a:pt x="2127" y="2063"/>
                  </a:lnTo>
                  <a:lnTo>
                    <a:pt x="2141" y="2049"/>
                  </a:lnTo>
                  <a:lnTo>
                    <a:pt x="2155" y="2042"/>
                  </a:lnTo>
                  <a:lnTo>
                    <a:pt x="2162" y="2028"/>
                  </a:lnTo>
                  <a:lnTo>
                    <a:pt x="2176" y="2014"/>
                  </a:lnTo>
                  <a:lnTo>
                    <a:pt x="2190" y="2000"/>
                  </a:lnTo>
                  <a:lnTo>
                    <a:pt x="2204" y="1979"/>
                  </a:lnTo>
                  <a:lnTo>
                    <a:pt x="2218" y="1965"/>
                  </a:lnTo>
                  <a:lnTo>
                    <a:pt x="2225" y="1944"/>
                  </a:lnTo>
                  <a:lnTo>
                    <a:pt x="2238" y="1923"/>
                  </a:lnTo>
                  <a:lnTo>
                    <a:pt x="2252" y="1895"/>
                  </a:lnTo>
                  <a:lnTo>
                    <a:pt x="2266" y="1874"/>
                  </a:lnTo>
                  <a:lnTo>
                    <a:pt x="2280" y="1847"/>
                  </a:lnTo>
                  <a:lnTo>
                    <a:pt x="2287" y="1819"/>
                  </a:lnTo>
                  <a:lnTo>
                    <a:pt x="2301" y="1784"/>
                  </a:lnTo>
                  <a:lnTo>
                    <a:pt x="2315" y="1749"/>
                  </a:lnTo>
                  <a:lnTo>
                    <a:pt x="2329" y="1714"/>
                  </a:lnTo>
                  <a:lnTo>
                    <a:pt x="2343" y="1679"/>
                  </a:lnTo>
                  <a:lnTo>
                    <a:pt x="2350" y="1637"/>
                  </a:lnTo>
                  <a:lnTo>
                    <a:pt x="2364" y="1596"/>
                  </a:lnTo>
                  <a:lnTo>
                    <a:pt x="2378" y="1554"/>
                  </a:lnTo>
                  <a:lnTo>
                    <a:pt x="2392" y="1505"/>
                  </a:lnTo>
                  <a:lnTo>
                    <a:pt x="2406" y="1456"/>
                  </a:lnTo>
                  <a:lnTo>
                    <a:pt x="2413" y="1408"/>
                  </a:lnTo>
                  <a:lnTo>
                    <a:pt x="2427" y="1352"/>
                  </a:lnTo>
                  <a:lnTo>
                    <a:pt x="2441" y="1296"/>
                  </a:lnTo>
                  <a:lnTo>
                    <a:pt x="2455" y="1240"/>
                  </a:lnTo>
                  <a:lnTo>
                    <a:pt x="2469" y="1178"/>
                  </a:lnTo>
                  <a:lnTo>
                    <a:pt x="2476" y="1115"/>
                  </a:lnTo>
                  <a:lnTo>
                    <a:pt x="2490" y="1045"/>
                  </a:lnTo>
                  <a:lnTo>
                    <a:pt x="2503" y="975"/>
                  </a:lnTo>
                  <a:lnTo>
                    <a:pt x="2517" y="906"/>
                  </a:lnTo>
                  <a:lnTo>
                    <a:pt x="2531" y="829"/>
                  </a:lnTo>
                  <a:lnTo>
                    <a:pt x="2538" y="745"/>
                  </a:lnTo>
                  <a:lnTo>
                    <a:pt x="2552" y="669"/>
                  </a:lnTo>
                  <a:lnTo>
                    <a:pt x="2566" y="578"/>
                  </a:lnTo>
                  <a:lnTo>
                    <a:pt x="2580" y="495"/>
                  </a:lnTo>
                  <a:lnTo>
                    <a:pt x="2594" y="404"/>
                  </a:lnTo>
                  <a:lnTo>
                    <a:pt x="2601" y="306"/>
                  </a:lnTo>
                  <a:lnTo>
                    <a:pt x="2615" y="209"/>
                  </a:lnTo>
                  <a:lnTo>
                    <a:pt x="2629" y="104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276720" y="411480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762120" y="2209680"/>
            <a:ext cx="7086600" cy="4573080"/>
            <a:chOff x="762120" y="2209680"/>
            <a:chExt cx="7086600" cy="4573080"/>
          </a:xfrm>
        </p:grpSpPr>
        <p:sp>
          <p:nvSpPr>
            <p:cNvPr id="2375" name=""/>
            <p:cNvSpPr/>
            <p:nvPr/>
          </p:nvSpPr>
          <p:spPr>
            <a:xfrm flipV="1">
              <a:off x="216864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296532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376236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457056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36724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616428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696132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16864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168640" y="53848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168640" y="444492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168640" y="34923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6864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68640" y="2552760"/>
              <a:ext cx="479412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168640" y="2552760"/>
              <a:ext cx="479412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68640" y="2552760"/>
              <a:ext cx="479412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6864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6864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216864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6132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68640" y="25527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961320" y="63244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16864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216864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168640" y="63244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216864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16864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296532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96532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376236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7623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457056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5705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536724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36724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616428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16428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V="1">
              <a:off x="696132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96132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2018520" y="6316560"/>
              <a:ext cx="5254920" cy="397440"/>
              <a:chOff x="2018520" y="6316560"/>
              <a:chExt cx="5254920" cy="397440"/>
            </a:xfrm>
          </p:grpSpPr>
          <p:sp>
            <p:nvSpPr>
              <p:cNvPr id="2414" name=""/>
              <p:cNvSpPr/>
              <p:nvPr/>
            </p:nvSpPr>
            <p:spPr>
              <a:xfrm>
                <a:off x="2018520" y="6316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37440" y="63165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3535920" y="63165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344120" y="63165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41160" y="63165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015960" y="6316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734880" y="63165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"/>
            <p:cNvSpPr/>
            <p:nvPr/>
          </p:nvSpPr>
          <p:spPr>
            <a:xfrm>
              <a:off x="2168640" y="63244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6918120" y="63244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168640" y="58500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6918120" y="58500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68640" y="53848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6918120" y="53848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168640" y="49086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6918120" y="49086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168640" y="44449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6918120" y="44449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168640" y="39686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6918120" y="39686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168640" y="34923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6918120" y="34923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168640" y="30290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6918120" y="30290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168640" y="25527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6918120" y="25527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1567800" y="2324160"/>
              <a:ext cx="623880" cy="4170960"/>
              <a:chOff x="1567800" y="2324160"/>
              <a:chExt cx="623880" cy="4170960"/>
            </a:xfrm>
          </p:grpSpPr>
          <p:sp>
            <p:nvSpPr>
              <p:cNvPr id="2440" name=""/>
              <p:cNvSpPr/>
              <p:nvPr/>
            </p:nvSpPr>
            <p:spPr>
              <a:xfrm>
                <a:off x="1711800" y="60976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567800" y="562140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766160" y="5156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623240" y="46814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766160" y="4216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623240" y="37400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66160" y="32655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623240" y="280044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766160" y="23241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2168640" y="6324480"/>
              <a:ext cx="5680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16864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2168640" y="2209680"/>
              <a:ext cx="0" cy="4114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696132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168640" y="63244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961320" y="25527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168640" y="4389480"/>
              <a:ext cx="4197240" cy="996840"/>
            </a:xfrm>
            <a:custGeom>
              <a:avLst/>
              <a:gdLst/>
              <a:ahLst/>
              <a:rect l="l" t="t" r="r" b="b"/>
              <a:pathLst>
                <a:path w="2644" h="628">
                  <a:moveTo>
                    <a:pt x="0" y="627"/>
                  </a:moveTo>
                  <a:lnTo>
                    <a:pt x="14" y="620"/>
                  </a:lnTo>
                  <a:lnTo>
                    <a:pt x="28" y="620"/>
                  </a:lnTo>
                  <a:lnTo>
                    <a:pt x="35" y="613"/>
                  </a:lnTo>
                  <a:lnTo>
                    <a:pt x="49" y="613"/>
                  </a:lnTo>
                  <a:lnTo>
                    <a:pt x="63" y="613"/>
                  </a:lnTo>
                  <a:lnTo>
                    <a:pt x="77" y="606"/>
                  </a:lnTo>
                  <a:lnTo>
                    <a:pt x="91" y="606"/>
                  </a:lnTo>
                  <a:lnTo>
                    <a:pt x="98" y="599"/>
                  </a:lnTo>
                  <a:lnTo>
                    <a:pt x="112" y="599"/>
                  </a:lnTo>
                  <a:lnTo>
                    <a:pt x="126" y="592"/>
                  </a:lnTo>
                  <a:lnTo>
                    <a:pt x="140" y="592"/>
                  </a:lnTo>
                  <a:lnTo>
                    <a:pt x="153" y="592"/>
                  </a:lnTo>
                  <a:lnTo>
                    <a:pt x="160" y="585"/>
                  </a:lnTo>
                  <a:lnTo>
                    <a:pt x="174" y="585"/>
                  </a:lnTo>
                  <a:lnTo>
                    <a:pt x="188" y="578"/>
                  </a:lnTo>
                  <a:lnTo>
                    <a:pt x="202" y="578"/>
                  </a:lnTo>
                  <a:lnTo>
                    <a:pt x="216" y="578"/>
                  </a:lnTo>
                  <a:lnTo>
                    <a:pt x="223" y="571"/>
                  </a:lnTo>
                  <a:lnTo>
                    <a:pt x="237" y="571"/>
                  </a:lnTo>
                  <a:lnTo>
                    <a:pt x="251" y="564"/>
                  </a:lnTo>
                  <a:lnTo>
                    <a:pt x="265" y="564"/>
                  </a:lnTo>
                  <a:lnTo>
                    <a:pt x="279" y="557"/>
                  </a:lnTo>
                  <a:lnTo>
                    <a:pt x="286" y="557"/>
                  </a:lnTo>
                  <a:lnTo>
                    <a:pt x="300" y="557"/>
                  </a:lnTo>
                  <a:lnTo>
                    <a:pt x="314" y="550"/>
                  </a:lnTo>
                  <a:lnTo>
                    <a:pt x="328" y="550"/>
                  </a:lnTo>
                  <a:lnTo>
                    <a:pt x="342" y="543"/>
                  </a:lnTo>
                  <a:lnTo>
                    <a:pt x="356" y="543"/>
                  </a:lnTo>
                  <a:lnTo>
                    <a:pt x="363" y="537"/>
                  </a:lnTo>
                  <a:lnTo>
                    <a:pt x="377" y="537"/>
                  </a:lnTo>
                  <a:lnTo>
                    <a:pt x="391" y="537"/>
                  </a:lnTo>
                  <a:lnTo>
                    <a:pt x="405" y="530"/>
                  </a:lnTo>
                  <a:lnTo>
                    <a:pt x="418" y="530"/>
                  </a:lnTo>
                  <a:lnTo>
                    <a:pt x="425" y="523"/>
                  </a:lnTo>
                  <a:lnTo>
                    <a:pt x="439" y="523"/>
                  </a:lnTo>
                  <a:lnTo>
                    <a:pt x="453" y="516"/>
                  </a:lnTo>
                  <a:lnTo>
                    <a:pt x="467" y="516"/>
                  </a:lnTo>
                  <a:lnTo>
                    <a:pt x="481" y="516"/>
                  </a:lnTo>
                  <a:lnTo>
                    <a:pt x="488" y="509"/>
                  </a:lnTo>
                  <a:lnTo>
                    <a:pt x="502" y="509"/>
                  </a:lnTo>
                  <a:lnTo>
                    <a:pt x="516" y="502"/>
                  </a:lnTo>
                  <a:lnTo>
                    <a:pt x="530" y="502"/>
                  </a:lnTo>
                  <a:lnTo>
                    <a:pt x="544" y="495"/>
                  </a:lnTo>
                  <a:lnTo>
                    <a:pt x="551" y="495"/>
                  </a:lnTo>
                  <a:lnTo>
                    <a:pt x="565" y="495"/>
                  </a:lnTo>
                  <a:lnTo>
                    <a:pt x="579" y="488"/>
                  </a:lnTo>
                  <a:lnTo>
                    <a:pt x="593" y="488"/>
                  </a:lnTo>
                  <a:lnTo>
                    <a:pt x="607" y="481"/>
                  </a:lnTo>
                  <a:lnTo>
                    <a:pt x="614" y="481"/>
                  </a:lnTo>
                  <a:lnTo>
                    <a:pt x="628" y="474"/>
                  </a:lnTo>
                  <a:lnTo>
                    <a:pt x="642" y="474"/>
                  </a:lnTo>
                  <a:lnTo>
                    <a:pt x="656" y="474"/>
                  </a:lnTo>
                  <a:lnTo>
                    <a:pt x="670" y="467"/>
                  </a:lnTo>
                  <a:lnTo>
                    <a:pt x="676" y="467"/>
                  </a:lnTo>
                  <a:lnTo>
                    <a:pt x="690" y="460"/>
                  </a:lnTo>
                  <a:lnTo>
                    <a:pt x="704" y="460"/>
                  </a:lnTo>
                  <a:lnTo>
                    <a:pt x="718" y="453"/>
                  </a:lnTo>
                  <a:lnTo>
                    <a:pt x="732" y="453"/>
                  </a:lnTo>
                  <a:lnTo>
                    <a:pt x="739" y="453"/>
                  </a:lnTo>
                  <a:lnTo>
                    <a:pt x="753" y="446"/>
                  </a:lnTo>
                  <a:lnTo>
                    <a:pt x="767" y="446"/>
                  </a:lnTo>
                  <a:lnTo>
                    <a:pt x="781" y="439"/>
                  </a:lnTo>
                  <a:lnTo>
                    <a:pt x="795" y="439"/>
                  </a:lnTo>
                  <a:lnTo>
                    <a:pt x="802" y="432"/>
                  </a:lnTo>
                  <a:lnTo>
                    <a:pt x="816" y="432"/>
                  </a:lnTo>
                  <a:lnTo>
                    <a:pt x="830" y="432"/>
                  </a:lnTo>
                  <a:lnTo>
                    <a:pt x="844" y="425"/>
                  </a:lnTo>
                  <a:lnTo>
                    <a:pt x="858" y="425"/>
                  </a:lnTo>
                  <a:lnTo>
                    <a:pt x="865" y="418"/>
                  </a:lnTo>
                  <a:lnTo>
                    <a:pt x="879" y="418"/>
                  </a:lnTo>
                  <a:lnTo>
                    <a:pt x="893" y="411"/>
                  </a:lnTo>
                  <a:lnTo>
                    <a:pt x="907" y="411"/>
                  </a:lnTo>
                  <a:lnTo>
                    <a:pt x="921" y="411"/>
                  </a:lnTo>
                  <a:lnTo>
                    <a:pt x="934" y="404"/>
                  </a:lnTo>
                  <a:lnTo>
                    <a:pt x="941" y="404"/>
                  </a:lnTo>
                  <a:lnTo>
                    <a:pt x="955" y="397"/>
                  </a:lnTo>
                  <a:lnTo>
                    <a:pt x="969" y="397"/>
                  </a:lnTo>
                  <a:lnTo>
                    <a:pt x="983" y="397"/>
                  </a:lnTo>
                  <a:lnTo>
                    <a:pt x="997" y="390"/>
                  </a:lnTo>
                  <a:lnTo>
                    <a:pt x="1004" y="390"/>
                  </a:lnTo>
                  <a:lnTo>
                    <a:pt x="1018" y="383"/>
                  </a:lnTo>
                  <a:lnTo>
                    <a:pt x="1032" y="383"/>
                  </a:lnTo>
                  <a:lnTo>
                    <a:pt x="1046" y="376"/>
                  </a:lnTo>
                  <a:lnTo>
                    <a:pt x="1060" y="376"/>
                  </a:lnTo>
                  <a:lnTo>
                    <a:pt x="1067" y="376"/>
                  </a:lnTo>
                  <a:lnTo>
                    <a:pt x="1081" y="369"/>
                  </a:lnTo>
                  <a:lnTo>
                    <a:pt x="1095" y="369"/>
                  </a:lnTo>
                  <a:lnTo>
                    <a:pt x="1109" y="362"/>
                  </a:lnTo>
                  <a:lnTo>
                    <a:pt x="1123" y="362"/>
                  </a:lnTo>
                  <a:lnTo>
                    <a:pt x="1130" y="355"/>
                  </a:lnTo>
                  <a:lnTo>
                    <a:pt x="1144" y="355"/>
                  </a:lnTo>
                  <a:lnTo>
                    <a:pt x="1158" y="355"/>
                  </a:lnTo>
                  <a:lnTo>
                    <a:pt x="1172" y="348"/>
                  </a:lnTo>
                  <a:lnTo>
                    <a:pt x="1186" y="348"/>
                  </a:lnTo>
                  <a:lnTo>
                    <a:pt x="1192" y="341"/>
                  </a:lnTo>
                  <a:lnTo>
                    <a:pt x="1206" y="341"/>
                  </a:lnTo>
                  <a:lnTo>
                    <a:pt x="1220" y="334"/>
                  </a:lnTo>
                  <a:lnTo>
                    <a:pt x="1234" y="334"/>
                  </a:lnTo>
                  <a:lnTo>
                    <a:pt x="1248" y="334"/>
                  </a:lnTo>
                  <a:lnTo>
                    <a:pt x="1255" y="327"/>
                  </a:lnTo>
                  <a:lnTo>
                    <a:pt x="1269" y="327"/>
                  </a:lnTo>
                  <a:lnTo>
                    <a:pt x="1283" y="320"/>
                  </a:lnTo>
                  <a:lnTo>
                    <a:pt x="1297" y="320"/>
                  </a:lnTo>
                  <a:lnTo>
                    <a:pt x="1311" y="314"/>
                  </a:lnTo>
                  <a:lnTo>
                    <a:pt x="1318" y="314"/>
                  </a:lnTo>
                  <a:lnTo>
                    <a:pt x="1332" y="314"/>
                  </a:lnTo>
                  <a:lnTo>
                    <a:pt x="1346" y="307"/>
                  </a:lnTo>
                  <a:lnTo>
                    <a:pt x="1360" y="307"/>
                  </a:lnTo>
                  <a:lnTo>
                    <a:pt x="1374" y="300"/>
                  </a:lnTo>
                  <a:lnTo>
                    <a:pt x="1381" y="300"/>
                  </a:lnTo>
                  <a:lnTo>
                    <a:pt x="1395" y="293"/>
                  </a:lnTo>
                  <a:lnTo>
                    <a:pt x="1409" y="293"/>
                  </a:lnTo>
                  <a:lnTo>
                    <a:pt x="1423" y="293"/>
                  </a:lnTo>
                  <a:lnTo>
                    <a:pt x="1437" y="286"/>
                  </a:lnTo>
                  <a:lnTo>
                    <a:pt x="1444" y="286"/>
                  </a:lnTo>
                  <a:lnTo>
                    <a:pt x="1457" y="279"/>
                  </a:lnTo>
                  <a:lnTo>
                    <a:pt x="1471" y="279"/>
                  </a:lnTo>
                  <a:lnTo>
                    <a:pt x="1485" y="272"/>
                  </a:lnTo>
                  <a:lnTo>
                    <a:pt x="1499" y="272"/>
                  </a:lnTo>
                  <a:lnTo>
                    <a:pt x="1513" y="272"/>
                  </a:lnTo>
                  <a:lnTo>
                    <a:pt x="1520" y="265"/>
                  </a:lnTo>
                  <a:lnTo>
                    <a:pt x="1534" y="265"/>
                  </a:lnTo>
                  <a:lnTo>
                    <a:pt x="1548" y="258"/>
                  </a:lnTo>
                  <a:lnTo>
                    <a:pt x="1562" y="258"/>
                  </a:lnTo>
                  <a:lnTo>
                    <a:pt x="1576" y="251"/>
                  </a:lnTo>
                  <a:lnTo>
                    <a:pt x="1583" y="251"/>
                  </a:lnTo>
                  <a:lnTo>
                    <a:pt x="1597" y="251"/>
                  </a:lnTo>
                  <a:lnTo>
                    <a:pt x="1611" y="244"/>
                  </a:lnTo>
                  <a:lnTo>
                    <a:pt x="1625" y="244"/>
                  </a:lnTo>
                  <a:lnTo>
                    <a:pt x="1639" y="237"/>
                  </a:lnTo>
                  <a:lnTo>
                    <a:pt x="1646" y="237"/>
                  </a:lnTo>
                  <a:lnTo>
                    <a:pt x="1660" y="230"/>
                  </a:lnTo>
                  <a:lnTo>
                    <a:pt x="1674" y="230"/>
                  </a:lnTo>
                  <a:lnTo>
                    <a:pt x="1688" y="230"/>
                  </a:lnTo>
                  <a:lnTo>
                    <a:pt x="1702" y="223"/>
                  </a:lnTo>
                  <a:lnTo>
                    <a:pt x="1709" y="223"/>
                  </a:lnTo>
                  <a:lnTo>
                    <a:pt x="1722" y="216"/>
                  </a:lnTo>
                  <a:lnTo>
                    <a:pt x="1736" y="216"/>
                  </a:lnTo>
                  <a:lnTo>
                    <a:pt x="1750" y="216"/>
                  </a:lnTo>
                  <a:lnTo>
                    <a:pt x="1764" y="209"/>
                  </a:lnTo>
                  <a:lnTo>
                    <a:pt x="1771" y="209"/>
                  </a:lnTo>
                  <a:lnTo>
                    <a:pt x="1785" y="202"/>
                  </a:lnTo>
                  <a:lnTo>
                    <a:pt x="1799" y="202"/>
                  </a:lnTo>
                  <a:lnTo>
                    <a:pt x="1813" y="195"/>
                  </a:lnTo>
                  <a:lnTo>
                    <a:pt x="1827" y="195"/>
                  </a:lnTo>
                  <a:lnTo>
                    <a:pt x="1834" y="195"/>
                  </a:lnTo>
                  <a:lnTo>
                    <a:pt x="1848" y="188"/>
                  </a:lnTo>
                  <a:lnTo>
                    <a:pt x="1862" y="188"/>
                  </a:lnTo>
                  <a:lnTo>
                    <a:pt x="1876" y="181"/>
                  </a:lnTo>
                  <a:lnTo>
                    <a:pt x="1890" y="181"/>
                  </a:lnTo>
                  <a:lnTo>
                    <a:pt x="1897" y="174"/>
                  </a:lnTo>
                  <a:lnTo>
                    <a:pt x="1911" y="174"/>
                  </a:lnTo>
                  <a:lnTo>
                    <a:pt x="1925" y="174"/>
                  </a:lnTo>
                  <a:lnTo>
                    <a:pt x="1939" y="167"/>
                  </a:lnTo>
                  <a:lnTo>
                    <a:pt x="1953" y="167"/>
                  </a:lnTo>
                  <a:lnTo>
                    <a:pt x="1960" y="160"/>
                  </a:lnTo>
                  <a:lnTo>
                    <a:pt x="1973" y="160"/>
                  </a:lnTo>
                  <a:lnTo>
                    <a:pt x="1987" y="153"/>
                  </a:lnTo>
                  <a:lnTo>
                    <a:pt x="2001" y="153"/>
                  </a:lnTo>
                  <a:lnTo>
                    <a:pt x="2015" y="153"/>
                  </a:lnTo>
                  <a:lnTo>
                    <a:pt x="2022" y="146"/>
                  </a:lnTo>
                  <a:lnTo>
                    <a:pt x="2036" y="146"/>
                  </a:lnTo>
                  <a:lnTo>
                    <a:pt x="2050" y="139"/>
                  </a:lnTo>
                  <a:lnTo>
                    <a:pt x="2064" y="139"/>
                  </a:lnTo>
                  <a:lnTo>
                    <a:pt x="2078" y="132"/>
                  </a:lnTo>
                  <a:lnTo>
                    <a:pt x="2085" y="132"/>
                  </a:lnTo>
                  <a:lnTo>
                    <a:pt x="2099" y="132"/>
                  </a:lnTo>
                  <a:lnTo>
                    <a:pt x="2113" y="125"/>
                  </a:lnTo>
                  <a:lnTo>
                    <a:pt x="2127" y="125"/>
                  </a:lnTo>
                  <a:lnTo>
                    <a:pt x="2141" y="118"/>
                  </a:lnTo>
                  <a:lnTo>
                    <a:pt x="2155" y="118"/>
                  </a:lnTo>
                  <a:lnTo>
                    <a:pt x="2162" y="111"/>
                  </a:lnTo>
                  <a:lnTo>
                    <a:pt x="2176" y="111"/>
                  </a:lnTo>
                  <a:lnTo>
                    <a:pt x="2190" y="111"/>
                  </a:lnTo>
                  <a:lnTo>
                    <a:pt x="2204" y="104"/>
                  </a:lnTo>
                  <a:lnTo>
                    <a:pt x="2218" y="104"/>
                  </a:lnTo>
                  <a:lnTo>
                    <a:pt x="2225" y="97"/>
                  </a:lnTo>
                  <a:lnTo>
                    <a:pt x="2238" y="97"/>
                  </a:lnTo>
                  <a:lnTo>
                    <a:pt x="2252" y="91"/>
                  </a:lnTo>
                  <a:lnTo>
                    <a:pt x="2266" y="91"/>
                  </a:lnTo>
                  <a:lnTo>
                    <a:pt x="2280" y="91"/>
                  </a:lnTo>
                  <a:lnTo>
                    <a:pt x="2287" y="84"/>
                  </a:lnTo>
                  <a:lnTo>
                    <a:pt x="2301" y="84"/>
                  </a:lnTo>
                  <a:lnTo>
                    <a:pt x="2315" y="77"/>
                  </a:lnTo>
                  <a:lnTo>
                    <a:pt x="2329" y="77"/>
                  </a:lnTo>
                  <a:lnTo>
                    <a:pt x="2343" y="70"/>
                  </a:lnTo>
                  <a:lnTo>
                    <a:pt x="2350" y="70"/>
                  </a:lnTo>
                  <a:lnTo>
                    <a:pt x="2364" y="70"/>
                  </a:lnTo>
                  <a:lnTo>
                    <a:pt x="2378" y="63"/>
                  </a:lnTo>
                  <a:lnTo>
                    <a:pt x="2392" y="63"/>
                  </a:lnTo>
                  <a:lnTo>
                    <a:pt x="2406" y="56"/>
                  </a:lnTo>
                  <a:lnTo>
                    <a:pt x="2413" y="56"/>
                  </a:lnTo>
                  <a:lnTo>
                    <a:pt x="2427" y="49"/>
                  </a:lnTo>
                  <a:lnTo>
                    <a:pt x="2441" y="49"/>
                  </a:lnTo>
                  <a:lnTo>
                    <a:pt x="2455" y="49"/>
                  </a:lnTo>
                  <a:lnTo>
                    <a:pt x="2469" y="42"/>
                  </a:lnTo>
                  <a:lnTo>
                    <a:pt x="2476" y="42"/>
                  </a:lnTo>
                  <a:lnTo>
                    <a:pt x="2490" y="35"/>
                  </a:lnTo>
                  <a:lnTo>
                    <a:pt x="2503" y="35"/>
                  </a:lnTo>
                  <a:lnTo>
                    <a:pt x="2517" y="35"/>
                  </a:lnTo>
                  <a:lnTo>
                    <a:pt x="2531" y="28"/>
                  </a:lnTo>
                  <a:lnTo>
                    <a:pt x="2538" y="28"/>
                  </a:lnTo>
                  <a:lnTo>
                    <a:pt x="2552" y="21"/>
                  </a:lnTo>
                  <a:lnTo>
                    <a:pt x="2566" y="21"/>
                  </a:lnTo>
                  <a:lnTo>
                    <a:pt x="2580" y="14"/>
                  </a:lnTo>
                  <a:lnTo>
                    <a:pt x="2594" y="14"/>
                  </a:lnTo>
                  <a:lnTo>
                    <a:pt x="2601" y="14"/>
                  </a:lnTo>
                  <a:lnTo>
                    <a:pt x="2615" y="7"/>
                  </a:lnTo>
                  <a:lnTo>
                    <a:pt x="2629" y="7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648320" y="441972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391520" y="6324480"/>
              <a:ext cx="45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62120" y="23637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3C77-A56A-4B2A-8BB0-AE8D277E5DFD}" type="slidenum">
              <a:t>61</a:t>
            </a:fld>
          </a:p>
        </p:txBody>
      </p:sp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ljevi polinomi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vadrat polinoma,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1" name=""/>
          <p:cNvGrpSpPr/>
          <p:nvPr/>
        </p:nvGrpSpPr>
        <p:grpSpPr>
          <a:xfrm>
            <a:off x="2244600" y="4135320"/>
            <a:ext cx="4197600" cy="2190960"/>
            <a:chOff x="2244600" y="4135320"/>
            <a:chExt cx="4197600" cy="2190960"/>
          </a:xfrm>
        </p:grpSpPr>
        <p:sp>
          <p:nvSpPr>
            <p:cNvPr id="2462" name=""/>
            <p:cNvSpPr/>
            <p:nvPr/>
          </p:nvSpPr>
          <p:spPr>
            <a:xfrm>
              <a:off x="2244600" y="4135320"/>
              <a:ext cx="4197600" cy="2190960"/>
            </a:xfrm>
            <a:custGeom>
              <a:avLst/>
              <a:gdLst/>
              <a:ahLst/>
              <a:rect l="l" t="t" r="r" b="b"/>
              <a:pathLst>
                <a:path w="2644" h="1380">
                  <a:moveTo>
                    <a:pt x="0" y="432"/>
                  </a:moveTo>
                  <a:lnTo>
                    <a:pt x="14" y="432"/>
                  </a:lnTo>
                  <a:lnTo>
                    <a:pt x="28" y="432"/>
                  </a:lnTo>
                  <a:lnTo>
                    <a:pt x="35" y="432"/>
                  </a:lnTo>
                  <a:lnTo>
                    <a:pt x="49" y="432"/>
                  </a:lnTo>
                  <a:lnTo>
                    <a:pt x="63" y="432"/>
                  </a:lnTo>
                  <a:lnTo>
                    <a:pt x="77" y="432"/>
                  </a:lnTo>
                  <a:lnTo>
                    <a:pt x="91" y="432"/>
                  </a:lnTo>
                  <a:lnTo>
                    <a:pt x="98" y="432"/>
                  </a:lnTo>
                  <a:lnTo>
                    <a:pt x="112" y="439"/>
                  </a:lnTo>
                  <a:lnTo>
                    <a:pt x="126" y="439"/>
                  </a:lnTo>
                  <a:lnTo>
                    <a:pt x="140" y="439"/>
                  </a:lnTo>
                  <a:lnTo>
                    <a:pt x="153" y="446"/>
                  </a:lnTo>
                  <a:lnTo>
                    <a:pt x="160" y="446"/>
                  </a:lnTo>
                  <a:lnTo>
                    <a:pt x="174" y="446"/>
                  </a:lnTo>
                  <a:lnTo>
                    <a:pt x="188" y="453"/>
                  </a:lnTo>
                  <a:lnTo>
                    <a:pt x="202" y="453"/>
                  </a:lnTo>
                  <a:lnTo>
                    <a:pt x="216" y="460"/>
                  </a:lnTo>
                  <a:lnTo>
                    <a:pt x="223" y="460"/>
                  </a:lnTo>
                  <a:lnTo>
                    <a:pt x="237" y="460"/>
                  </a:lnTo>
                  <a:lnTo>
                    <a:pt x="251" y="467"/>
                  </a:lnTo>
                  <a:lnTo>
                    <a:pt x="265" y="474"/>
                  </a:lnTo>
                  <a:lnTo>
                    <a:pt x="279" y="474"/>
                  </a:lnTo>
                  <a:lnTo>
                    <a:pt x="286" y="480"/>
                  </a:lnTo>
                  <a:lnTo>
                    <a:pt x="300" y="480"/>
                  </a:lnTo>
                  <a:lnTo>
                    <a:pt x="314" y="487"/>
                  </a:lnTo>
                  <a:lnTo>
                    <a:pt x="328" y="494"/>
                  </a:lnTo>
                  <a:lnTo>
                    <a:pt x="342" y="494"/>
                  </a:lnTo>
                  <a:lnTo>
                    <a:pt x="356" y="501"/>
                  </a:lnTo>
                  <a:lnTo>
                    <a:pt x="363" y="508"/>
                  </a:lnTo>
                  <a:lnTo>
                    <a:pt x="377" y="515"/>
                  </a:lnTo>
                  <a:lnTo>
                    <a:pt x="391" y="515"/>
                  </a:lnTo>
                  <a:lnTo>
                    <a:pt x="405" y="522"/>
                  </a:lnTo>
                  <a:lnTo>
                    <a:pt x="418" y="529"/>
                  </a:lnTo>
                  <a:lnTo>
                    <a:pt x="425" y="536"/>
                  </a:lnTo>
                  <a:lnTo>
                    <a:pt x="439" y="543"/>
                  </a:lnTo>
                  <a:lnTo>
                    <a:pt x="453" y="550"/>
                  </a:lnTo>
                  <a:lnTo>
                    <a:pt x="467" y="557"/>
                  </a:lnTo>
                  <a:lnTo>
                    <a:pt x="481" y="564"/>
                  </a:lnTo>
                  <a:lnTo>
                    <a:pt x="488" y="571"/>
                  </a:lnTo>
                  <a:lnTo>
                    <a:pt x="502" y="578"/>
                  </a:lnTo>
                  <a:lnTo>
                    <a:pt x="516" y="585"/>
                  </a:lnTo>
                  <a:lnTo>
                    <a:pt x="530" y="592"/>
                  </a:lnTo>
                  <a:lnTo>
                    <a:pt x="544" y="599"/>
                  </a:lnTo>
                  <a:lnTo>
                    <a:pt x="551" y="606"/>
                  </a:lnTo>
                  <a:lnTo>
                    <a:pt x="565" y="613"/>
                  </a:lnTo>
                  <a:lnTo>
                    <a:pt x="579" y="620"/>
                  </a:lnTo>
                  <a:lnTo>
                    <a:pt x="593" y="627"/>
                  </a:lnTo>
                  <a:lnTo>
                    <a:pt x="607" y="634"/>
                  </a:lnTo>
                  <a:lnTo>
                    <a:pt x="614" y="641"/>
                  </a:lnTo>
                  <a:lnTo>
                    <a:pt x="628" y="655"/>
                  </a:lnTo>
                  <a:lnTo>
                    <a:pt x="642" y="662"/>
                  </a:lnTo>
                  <a:lnTo>
                    <a:pt x="656" y="669"/>
                  </a:lnTo>
                  <a:lnTo>
                    <a:pt x="670" y="676"/>
                  </a:lnTo>
                  <a:lnTo>
                    <a:pt x="676" y="683"/>
                  </a:lnTo>
                  <a:lnTo>
                    <a:pt x="690" y="697"/>
                  </a:lnTo>
                  <a:lnTo>
                    <a:pt x="704" y="703"/>
                  </a:lnTo>
                  <a:lnTo>
                    <a:pt x="718" y="710"/>
                  </a:lnTo>
                  <a:lnTo>
                    <a:pt x="732" y="724"/>
                  </a:lnTo>
                  <a:lnTo>
                    <a:pt x="739" y="731"/>
                  </a:lnTo>
                  <a:lnTo>
                    <a:pt x="753" y="738"/>
                  </a:lnTo>
                  <a:lnTo>
                    <a:pt x="767" y="752"/>
                  </a:lnTo>
                  <a:lnTo>
                    <a:pt x="781" y="759"/>
                  </a:lnTo>
                  <a:lnTo>
                    <a:pt x="795" y="766"/>
                  </a:lnTo>
                  <a:lnTo>
                    <a:pt x="802" y="780"/>
                  </a:lnTo>
                  <a:lnTo>
                    <a:pt x="816" y="787"/>
                  </a:lnTo>
                  <a:lnTo>
                    <a:pt x="830" y="801"/>
                  </a:lnTo>
                  <a:lnTo>
                    <a:pt x="844" y="808"/>
                  </a:lnTo>
                  <a:lnTo>
                    <a:pt x="858" y="815"/>
                  </a:lnTo>
                  <a:lnTo>
                    <a:pt x="865" y="829"/>
                  </a:lnTo>
                  <a:lnTo>
                    <a:pt x="879" y="836"/>
                  </a:lnTo>
                  <a:lnTo>
                    <a:pt x="893" y="850"/>
                  </a:lnTo>
                  <a:lnTo>
                    <a:pt x="907" y="857"/>
                  </a:lnTo>
                  <a:lnTo>
                    <a:pt x="921" y="871"/>
                  </a:lnTo>
                  <a:lnTo>
                    <a:pt x="934" y="878"/>
                  </a:lnTo>
                  <a:lnTo>
                    <a:pt x="941" y="892"/>
                  </a:lnTo>
                  <a:lnTo>
                    <a:pt x="955" y="899"/>
                  </a:lnTo>
                  <a:lnTo>
                    <a:pt x="969" y="906"/>
                  </a:lnTo>
                  <a:lnTo>
                    <a:pt x="983" y="920"/>
                  </a:lnTo>
                  <a:lnTo>
                    <a:pt x="997" y="926"/>
                  </a:lnTo>
                  <a:lnTo>
                    <a:pt x="1004" y="940"/>
                  </a:lnTo>
                  <a:lnTo>
                    <a:pt x="1018" y="947"/>
                  </a:lnTo>
                  <a:lnTo>
                    <a:pt x="1032" y="961"/>
                  </a:lnTo>
                  <a:lnTo>
                    <a:pt x="1046" y="968"/>
                  </a:lnTo>
                  <a:lnTo>
                    <a:pt x="1060" y="982"/>
                  </a:lnTo>
                  <a:lnTo>
                    <a:pt x="1067" y="989"/>
                  </a:lnTo>
                  <a:lnTo>
                    <a:pt x="1081" y="1003"/>
                  </a:lnTo>
                  <a:lnTo>
                    <a:pt x="1095" y="1010"/>
                  </a:lnTo>
                  <a:lnTo>
                    <a:pt x="1109" y="1024"/>
                  </a:lnTo>
                  <a:lnTo>
                    <a:pt x="1123" y="1031"/>
                  </a:lnTo>
                  <a:lnTo>
                    <a:pt x="1130" y="1045"/>
                  </a:lnTo>
                  <a:lnTo>
                    <a:pt x="1144" y="1052"/>
                  </a:lnTo>
                  <a:lnTo>
                    <a:pt x="1158" y="1066"/>
                  </a:lnTo>
                  <a:lnTo>
                    <a:pt x="1172" y="1073"/>
                  </a:lnTo>
                  <a:lnTo>
                    <a:pt x="1186" y="1080"/>
                  </a:lnTo>
                  <a:lnTo>
                    <a:pt x="1192" y="1094"/>
                  </a:lnTo>
                  <a:lnTo>
                    <a:pt x="1206" y="1101"/>
                  </a:lnTo>
                  <a:lnTo>
                    <a:pt x="1220" y="1115"/>
                  </a:lnTo>
                  <a:lnTo>
                    <a:pt x="1234" y="1122"/>
                  </a:lnTo>
                  <a:lnTo>
                    <a:pt x="1248" y="1136"/>
                  </a:lnTo>
                  <a:lnTo>
                    <a:pt x="1255" y="1143"/>
                  </a:lnTo>
                  <a:lnTo>
                    <a:pt x="1269" y="1150"/>
                  </a:lnTo>
                  <a:lnTo>
                    <a:pt x="1283" y="1163"/>
                  </a:lnTo>
                  <a:lnTo>
                    <a:pt x="1297" y="1170"/>
                  </a:lnTo>
                  <a:lnTo>
                    <a:pt x="1311" y="1177"/>
                  </a:lnTo>
                  <a:lnTo>
                    <a:pt x="1318" y="1191"/>
                  </a:lnTo>
                  <a:lnTo>
                    <a:pt x="1332" y="1198"/>
                  </a:lnTo>
                  <a:lnTo>
                    <a:pt x="1346" y="1205"/>
                  </a:lnTo>
                  <a:lnTo>
                    <a:pt x="1360" y="1212"/>
                  </a:lnTo>
                  <a:lnTo>
                    <a:pt x="1374" y="1226"/>
                  </a:lnTo>
                  <a:lnTo>
                    <a:pt x="1381" y="1233"/>
                  </a:lnTo>
                  <a:lnTo>
                    <a:pt x="1395" y="1240"/>
                  </a:lnTo>
                  <a:lnTo>
                    <a:pt x="1409" y="1247"/>
                  </a:lnTo>
                  <a:lnTo>
                    <a:pt x="1423" y="1254"/>
                  </a:lnTo>
                  <a:lnTo>
                    <a:pt x="1437" y="1261"/>
                  </a:lnTo>
                  <a:lnTo>
                    <a:pt x="1444" y="1268"/>
                  </a:lnTo>
                  <a:lnTo>
                    <a:pt x="1457" y="1275"/>
                  </a:lnTo>
                  <a:lnTo>
                    <a:pt x="1471" y="1282"/>
                  </a:lnTo>
                  <a:lnTo>
                    <a:pt x="1485" y="1289"/>
                  </a:lnTo>
                  <a:lnTo>
                    <a:pt x="1499" y="1296"/>
                  </a:lnTo>
                  <a:lnTo>
                    <a:pt x="1513" y="1303"/>
                  </a:lnTo>
                  <a:lnTo>
                    <a:pt x="1520" y="1310"/>
                  </a:lnTo>
                  <a:lnTo>
                    <a:pt x="1534" y="1317"/>
                  </a:lnTo>
                  <a:lnTo>
                    <a:pt x="1548" y="1324"/>
                  </a:lnTo>
                  <a:lnTo>
                    <a:pt x="1562" y="1331"/>
                  </a:lnTo>
                  <a:lnTo>
                    <a:pt x="1576" y="1331"/>
                  </a:lnTo>
                  <a:lnTo>
                    <a:pt x="1583" y="1338"/>
                  </a:lnTo>
                  <a:lnTo>
                    <a:pt x="1597" y="1345"/>
                  </a:lnTo>
                  <a:lnTo>
                    <a:pt x="1611" y="1352"/>
                  </a:lnTo>
                  <a:lnTo>
                    <a:pt x="1625" y="1352"/>
                  </a:lnTo>
                  <a:lnTo>
                    <a:pt x="1639" y="1359"/>
                  </a:lnTo>
                  <a:lnTo>
                    <a:pt x="1646" y="1359"/>
                  </a:lnTo>
                  <a:lnTo>
                    <a:pt x="1660" y="1366"/>
                  </a:lnTo>
                  <a:lnTo>
                    <a:pt x="1674" y="1366"/>
                  </a:lnTo>
                  <a:lnTo>
                    <a:pt x="1688" y="1373"/>
                  </a:lnTo>
                  <a:lnTo>
                    <a:pt x="1702" y="1373"/>
                  </a:lnTo>
                  <a:lnTo>
                    <a:pt x="1709" y="1373"/>
                  </a:lnTo>
                  <a:lnTo>
                    <a:pt x="1722" y="1373"/>
                  </a:lnTo>
                  <a:lnTo>
                    <a:pt x="1736" y="1379"/>
                  </a:lnTo>
                  <a:lnTo>
                    <a:pt x="1750" y="1379"/>
                  </a:lnTo>
                  <a:lnTo>
                    <a:pt x="1764" y="1379"/>
                  </a:lnTo>
                  <a:lnTo>
                    <a:pt x="1771" y="1379"/>
                  </a:lnTo>
                  <a:lnTo>
                    <a:pt x="1785" y="1379"/>
                  </a:lnTo>
                  <a:lnTo>
                    <a:pt x="1799" y="1379"/>
                  </a:lnTo>
                  <a:lnTo>
                    <a:pt x="1813" y="1379"/>
                  </a:lnTo>
                  <a:lnTo>
                    <a:pt x="1827" y="1379"/>
                  </a:lnTo>
                  <a:lnTo>
                    <a:pt x="1834" y="1373"/>
                  </a:lnTo>
                  <a:lnTo>
                    <a:pt x="1848" y="1373"/>
                  </a:lnTo>
                  <a:lnTo>
                    <a:pt x="1862" y="1373"/>
                  </a:lnTo>
                  <a:lnTo>
                    <a:pt x="1876" y="1366"/>
                  </a:lnTo>
                  <a:lnTo>
                    <a:pt x="1890" y="1366"/>
                  </a:lnTo>
                  <a:lnTo>
                    <a:pt x="1897" y="1359"/>
                  </a:lnTo>
                  <a:lnTo>
                    <a:pt x="1911" y="1359"/>
                  </a:lnTo>
                  <a:lnTo>
                    <a:pt x="1925" y="1352"/>
                  </a:lnTo>
                  <a:lnTo>
                    <a:pt x="1939" y="1345"/>
                  </a:lnTo>
                  <a:lnTo>
                    <a:pt x="1953" y="1338"/>
                  </a:lnTo>
                  <a:lnTo>
                    <a:pt x="1960" y="1338"/>
                  </a:lnTo>
                  <a:lnTo>
                    <a:pt x="1973" y="1331"/>
                  </a:lnTo>
                  <a:lnTo>
                    <a:pt x="1987" y="1324"/>
                  </a:lnTo>
                  <a:lnTo>
                    <a:pt x="2001" y="1310"/>
                  </a:lnTo>
                  <a:lnTo>
                    <a:pt x="2015" y="1303"/>
                  </a:lnTo>
                  <a:lnTo>
                    <a:pt x="2022" y="1296"/>
                  </a:lnTo>
                  <a:lnTo>
                    <a:pt x="2036" y="1289"/>
                  </a:lnTo>
                  <a:lnTo>
                    <a:pt x="2050" y="1275"/>
                  </a:lnTo>
                  <a:lnTo>
                    <a:pt x="2064" y="1268"/>
                  </a:lnTo>
                  <a:lnTo>
                    <a:pt x="2078" y="1254"/>
                  </a:lnTo>
                  <a:lnTo>
                    <a:pt x="2085" y="1247"/>
                  </a:lnTo>
                  <a:lnTo>
                    <a:pt x="2099" y="1233"/>
                  </a:lnTo>
                  <a:lnTo>
                    <a:pt x="2113" y="1219"/>
                  </a:lnTo>
                  <a:lnTo>
                    <a:pt x="2127" y="1205"/>
                  </a:lnTo>
                  <a:lnTo>
                    <a:pt x="2141" y="1191"/>
                  </a:lnTo>
                  <a:lnTo>
                    <a:pt x="2155" y="1177"/>
                  </a:lnTo>
                  <a:lnTo>
                    <a:pt x="2162" y="1163"/>
                  </a:lnTo>
                  <a:lnTo>
                    <a:pt x="2176" y="1143"/>
                  </a:lnTo>
                  <a:lnTo>
                    <a:pt x="2190" y="1129"/>
                  </a:lnTo>
                  <a:lnTo>
                    <a:pt x="2204" y="1115"/>
                  </a:lnTo>
                  <a:lnTo>
                    <a:pt x="2218" y="1094"/>
                  </a:lnTo>
                  <a:lnTo>
                    <a:pt x="2225" y="1073"/>
                  </a:lnTo>
                  <a:lnTo>
                    <a:pt x="2238" y="1052"/>
                  </a:lnTo>
                  <a:lnTo>
                    <a:pt x="2252" y="1038"/>
                  </a:lnTo>
                  <a:lnTo>
                    <a:pt x="2266" y="1017"/>
                  </a:lnTo>
                  <a:lnTo>
                    <a:pt x="2280" y="989"/>
                  </a:lnTo>
                  <a:lnTo>
                    <a:pt x="2287" y="968"/>
                  </a:lnTo>
                  <a:lnTo>
                    <a:pt x="2301" y="947"/>
                  </a:lnTo>
                  <a:lnTo>
                    <a:pt x="2315" y="926"/>
                  </a:lnTo>
                  <a:lnTo>
                    <a:pt x="2329" y="899"/>
                  </a:lnTo>
                  <a:lnTo>
                    <a:pt x="2343" y="871"/>
                  </a:lnTo>
                  <a:lnTo>
                    <a:pt x="2350" y="850"/>
                  </a:lnTo>
                  <a:lnTo>
                    <a:pt x="2364" y="822"/>
                  </a:lnTo>
                  <a:lnTo>
                    <a:pt x="2378" y="794"/>
                  </a:lnTo>
                  <a:lnTo>
                    <a:pt x="2392" y="766"/>
                  </a:lnTo>
                  <a:lnTo>
                    <a:pt x="2406" y="731"/>
                  </a:lnTo>
                  <a:lnTo>
                    <a:pt x="2413" y="703"/>
                  </a:lnTo>
                  <a:lnTo>
                    <a:pt x="2427" y="676"/>
                  </a:lnTo>
                  <a:lnTo>
                    <a:pt x="2441" y="641"/>
                  </a:lnTo>
                  <a:lnTo>
                    <a:pt x="2455" y="606"/>
                  </a:lnTo>
                  <a:lnTo>
                    <a:pt x="2469" y="571"/>
                  </a:lnTo>
                  <a:lnTo>
                    <a:pt x="2476" y="536"/>
                  </a:lnTo>
                  <a:lnTo>
                    <a:pt x="2490" y="501"/>
                  </a:lnTo>
                  <a:lnTo>
                    <a:pt x="2503" y="467"/>
                  </a:lnTo>
                  <a:lnTo>
                    <a:pt x="2517" y="432"/>
                  </a:lnTo>
                  <a:lnTo>
                    <a:pt x="2531" y="390"/>
                  </a:lnTo>
                  <a:lnTo>
                    <a:pt x="2538" y="348"/>
                  </a:lnTo>
                  <a:lnTo>
                    <a:pt x="2552" y="313"/>
                  </a:lnTo>
                  <a:lnTo>
                    <a:pt x="2566" y="271"/>
                  </a:lnTo>
                  <a:lnTo>
                    <a:pt x="2580" y="230"/>
                  </a:lnTo>
                  <a:lnTo>
                    <a:pt x="2594" y="181"/>
                  </a:lnTo>
                  <a:lnTo>
                    <a:pt x="2601" y="139"/>
                  </a:lnTo>
                  <a:lnTo>
                    <a:pt x="2615" y="90"/>
                  </a:lnTo>
                  <a:lnTo>
                    <a:pt x="2629" y="48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666880" y="45720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4" name=""/>
          <p:cNvGrpSpPr/>
          <p:nvPr/>
        </p:nvGrpSpPr>
        <p:grpSpPr>
          <a:xfrm>
            <a:off x="2244600" y="3017880"/>
            <a:ext cx="4197600" cy="3308400"/>
            <a:chOff x="2244600" y="3017880"/>
            <a:chExt cx="4197600" cy="3308400"/>
          </a:xfrm>
        </p:grpSpPr>
        <p:sp>
          <p:nvSpPr>
            <p:cNvPr id="2465" name=""/>
            <p:cNvSpPr/>
            <p:nvPr/>
          </p:nvSpPr>
          <p:spPr>
            <a:xfrm>
              <a:off x="2244600" y="3017880"/>
              <a:ext cx="4197600" cy="3308400"/>
            </a:xfrm>
            <a:custGeom>
              <a:avLst/>
              <a:gdLst/>
              <a:ahLst/>
              <a:rect l="l" t="t" r="r" b="b"/>
              <a:pathLst>
                <a:path w="2644" h="2084">
                  <a:moveTo>
                    <a:pt x="0" y="2083"/>
                  </a:moveTo>
                  <a:lnTo>
                    <a:pt x="14" y="2083"/>
                  </a:lnTo>
                  <a:lnTo>
                    <a:pt x="28" y="2083"/>
                  </a:lnTo>
                  <a:lnTo>
                    <a:pt x="35" y="2083"/>
                  </a:lnTo>
                  <a:lnTo>
                    <a:pt x="49" y="2083"/>
                  </a:lnTo>
                  <a:lnTo>
                    <a:pt x="63" y="2077"/>
                  </a:lnTo>
                  <a:lnTo>
                    <a:pt x="77" y="2077"/>
                  </a:lnTo>
                  <a:lnTo>
                    <a:pt x="91" y="2077"/>
                  </a:lnTo>
                  <a:lnTo>
                    <a:pt x="98" y="2070"/>
                  </a:lnTo>
                  <a:lnTo>
                    <a:pt x="112" y="2070"/>
                  </a:lnTo>
                  <a:lnTo>
                    <a:pt x="126" y="2063"/>
                  </a:lnTo>
                  <a:lnTo>
                    <a:pt x="140" y="2056"/>
                  </a:lnTo>
                  <a:lnTo>
                    <a:pt x="153" y="2056"/>
                  </a:lnTo>
                  <a:lnTo>
                    <a:pt x="160" y="2049"/>
                  </a:lnTo>
                  <a:lnTo>
                    <a:pt x="174" y="2042"/>
                  </a:lnTo>
                  <a:lnTo>
                    <a:pt x="188" y="2035"/>
                  </a:lnTo>
                  <a:lnTo>
                    <a:pt x="202" y="2028"/>
                  </a:lnTo>
                  <a:lnTo>
                    <a:pt x="216" y="2021"/>
                  </a:lnTo>
                  <a:lnTo>
                    <a:pt x="223" y="2014"/>
                  </a:lnTo>
                  <a:lnTo>
                    <a:pt x="237" y="2007"/>
                  </a:lnTo>
                  <a:lnTo>
                    <a:pt x="251" y="2000"/>
                  </a:lnTo>
                  <a:lnTo>
                    <a:pt x="265" y="1993"/>
                  </a:lnTo>
                  <a:lnTo>
                    <a:pt x="279" y="1986"/>
                  </a:lnTo>
                  <a:lnTo>
                    <a:pt x="286" y="1972"/>
                  </a:lnTo>
                  <a:lnTo>
                    <a:pt x="300" y="1965"/>
                  </a:lnTo>
                  <a:lnTo>
                    <a:pt x="314" y="1958"/>
                  </a:lnTo>
                  <a:lnTo>
                    <a:pt x="328" y="1944"/>
                  </a:lnTo>
                  <a:lnTo>
                    <a:pt x="342" y="1937"/>
                  </a:lnTo>
                  <a:lnTo>
                    <a:pt x="356" y="1923"/>
                  </a:lnTo>
                  <a:lnTo>
                    <a:pt x="363" y="1916"/>
                  </a:lnTo>
                  <a:lnTo>
                    <a:pt x="377" y="1902"/>
                  </a:lnTo>
                  <a:lnTo>
                    <a:pt x="391" y="1888"/>
                  </a:lnTo>
                  <a:lnTo>
                    <a:pt x="405" y="1881"/>
                  </a:lnTo>
                  <a:lnTo>
                    <a:pt x="418" y="1867"/>
                  </a:lnTo>
                  <a:lnTo>
                    <a:pt x="425" y="1854"/>
                  </a:lnTo>
                  <a:lnTo>
                    <a:pt x="439" y="1840"/>
                  </a:lnTo>
                  <a:lnTo>
                    <a:pt x="453" y="1833"/>
                  </a:lnTo>
                  <a:lnTo>
                    <a:pt x="467" y="1819"/>
                  </a:lnTo>
                  <a:lnTo>
                    <a:pt x="481" y="1805"/>
                  </a:lnTo>
                  <a:lnTo>
                    <a:pt x="488" y="1791"/>
                  </a:lnTo>
                  <a:lnTo>
                    <a:pt x="502" y="1777"/>
                  </a:lnTo>
                  <a:lnTo>
                    <a:pt x="516" y="1763"/>
                  </a:lnTo>
                  <a:lnTo>
                    <a:pt x="530" y="1749"/>
                  </a:lnTo>
                  <a:lnTo>
                    <a:pt x="544" y="1735"/>
                  </a:lnTo>
                  <a:lnTo>
                    <a:pt x="551" y="1721"/>
                  </a:lnTo>
                  <a:lnTo>
                    <a:pt x="565" y="1707"/>
                  </a:lnTo>
                  <a:lnTo>
                    <a:pt x="579" y="1693"/>
                  </a:lnTo>
                  <a:lnTo>
                    <a:pt x="593" y="1679"/>
                  </a:lnTo>
                  <a:lnTo>
                    <a:pt x="607" y="1665"/>
                  </a:lnTo>
                  <a:lnTo>
                    <a:pt x="614" y="1651"/>
                  </a:lnTo>
                  <a:lnTo>
                    <a:pt x="628" y="1637"/>
                  </a:lnTo>
                  <a:lnTo>
                    <a:pt x="642" y="1617"/>
                  </a:lnTo>
                  <a:lnTo>
                    <a:pt x="656" y="1603"/>
                  </a:lnTo>
                  <a:lnTo>
                    <a:pt x="670" y="1589"/>
                  </a:lnTo>
                  <a:lnTo>
                    <a:pt x="676" y="1575"/>
                  </a:lnTo>
                  <a:lnTo>
                    <a:pt x="690" y="1561"/>
                  </a:lnTo>
                  <a:lnTo>
                    <a:pt x="704" y="1547"/>
                  </a:lnTo>
                  <a:lnTo>
                    <a:pt x="718" y="1533"/>
                  </a:lnTo>
                  <a:lnTo>
                    <a:pt x="732" y="1519"/>
                  </a:lnTo>
                  <a:lnTo>
                    <a:pt x="739" y="1505"/>
                  </a:lnTo>
                  <a:lnTo>
                    <a:pt x="753" y="1484"/>
                  </a:lnTo>
                  <a:lnTo>
                    <a:pt x="767" y="1470"/>
                  </a:lnTo>
                  <a:lnTo>
                    <a:pt x="781" y="1456"/>
                  </a:lnTo>
                  <a:lnTo>
                    <a:pt x="795" y="1442"/>
                  </a:lnTo>
                  <a:lnTo>
                    <a:pt x="802" y="1428"/>
                  </a:lnTo>
                  <a:lnTo>
                    <a:pt x="816" y="1414"/>
                  </a:lnTo>
                  <a:lnTo>
                    <a:pt x="830" y="1401"/>
                  </a:lnTo>
                  <a:lnTo>
                    <a:pt x="844" y="1387"/>
                  </a:lnTo>
                  <a:lnTo>
                    <a:pt x="858" y="1373"/>
                  </a:lnTo>
                  <a:lnTo>
                    <a:pt x="865" y="1366"/>
                  </a:lnTo>
                  <a:lnTo>
                    <a:pt x="879" y="1352"/>
                  </a:lnTo>
                  <a:lnTo>
                    <a:pt x="893" y="1338"/>
                  </a:lnTo>
                  <a:lnTo>
                    <a:pt x="907" y="1324"/>
                  </a:lnTo>
                  <a:lnTo>
                    <a:pt x="921" y="1310"/>
                  </a:lnTo>
                  <a:lnTo>
                    <a:pt x="934" y="1303"/>
                  </a:lnTo>
                  <a:lnTo>
                    <a:pt x="941" y="1289"/>
                  </a:lnTo>
                  <a:lnTo>
                    <a:pt x="955" y="1275"/>
                  </a:lnTo>
                  <a:lnTo>
                    <a:pt x="969" y="1268"/>
                  </a:lnTo>
                  <a:lnTo>
                    <a:pt x="983" y="1254"/>
                  </a:lnTo>
                  <a:lnTo>
                    <a:pt x="997" y="1247"/>
                  </a:lnTo>
                  <a:lnTo>
                    <a:pt x="1004" y="1233"/>
                  </a:lnTo>
                  <a:lnTo>
                    <a:pt x="1018" y="1226"/>
                  </a:lnTo>
                  <a:lnTo>
                    <a:pt x="1032" y="1219"/>
                  </a:lnTo>
                  <a:lnTo>
                    <a:pt x="1046" y="1212"/>
                  </a:lnTo>
                  <a:lnTo>
                    <a:pt x="1060" y="1198"/>
                  </a:lnTo>
                  <a:lnTo>
                    <a:pt x="1067" y="1191"/>
                  </a:lnTo>
                  <a:lnTo>
                    <a:pt x="1081" y="1184"/>
                  </a:lnTo>
                  <a:lnTo>
                    <a:pt x="1095" y="1178"/>
                  </a:lnTo>
                  <a:lnTo>
                    <a:pt x="1109" y="1171"/>
                  </a:lnTo>
                  <a:lnTo>
                    <a:pt x="1123" y="1164"/>
                  </a:lnTo>
                  <a:lnTo>
                    <a:pt x="1130" y="1164"/>
                  </a:lnTo>
                  <a:lnTo>
                    <a:pt x="1144" y="1157"/>
                  </a:lnTo>
                  <a:lnTo>
                    <a:pt x="1158" y="1150"/>
                  </a:lnTo>
                  <a:lnTo>
                    <a:pt x="1172" y="1150"/>
                  </a:lnTo>
                  <a:lnTo>
                    <a:pt x="1186" y="1143"/>
                  </a:lnTo>
                  <a:lnTo>
                    <a:pt x="1192" y="1143"/>
                  </a:lnTo>
                  <a:lnTo>
                    <a:pt x="1206" y="1136"/>
                  </a:lnTo>
                  <a:lnTo>
                    <a:pt x="1220" y="1136"/>
                  </a:lnTo>
                  <a:lnTo>
                    <a:pt x="1234" y="1136"/>
                  </a:lnTo>
                  <a:lnTo>
                    <a:pt x="1248" y="1136"/>
                  </a:lnTo>
                  <a:lnTo>
                    <a:pt x="1255" y="1136"/>
                  </a:lnTo>
                  <a:lnTo>
                    <a:pt x="1269" y="1136"/>
                  </a:lnTo>
                  <a:lnTo>
                    <a:pt x="1283" y="1136"/>
                  </a:lnTo>
                  <a:lnTo>
                    <a:pt x="1297" y="1136"/>
                  </a:lnTo>
                  <a:lnTo>
                    <a:pt x="1311" y="1136"/>
                  </a:lnTo>
                  <a:lnTo>
                    <a:pt x="1318" y="1143"/>
                  </a:lnTo>
                  <a:lnTo>
                    <a:pt x="1332" y="1143"/>
                  </a:lnTo>
                  <a:lnTo>
                    <a:pt x="1346" y="1150"/>
                  </a:lnTo>
                  <a:lnTo>
                    <a:pt x="1360" y="1150"/>
                  </a:lnTo>
                  <a:lnTo>
                    <a:pt x="1374" y="1157"/>
                  </a:lnTo>
                  <a:lnTo>
                    <a:pt x="1381" y="1164"/>
                  </a:lnTo>
                  <a:lnTo>
                    <a:pt x="1395" y="1171"/>
                  </a:lnTo>
                  <a:lnTo>
                    <a:pt x="1409" y="1178"/>
                  </a:lnTo>
                  <a:lnTo>
                    <a:pt x="1423" y="1184"/>
                  </a:lnTo>
                  <a:lnTo>
                    <a:pt x="1437" y="1191"/>
                  </a:lnTo>
                  <a:lnTo>
                    <a:pt x="1444" y="1198"/>
                  </a:lnTo>
                  <a:lnTo>
                    <a:pt x="1457" y="1205"/>
                  </a:lnTo>
                  <a:lnTo>
                    <a:pt x="1471" y="1219"/>
                  </a:lnTo>
                  <a:lnTo>
                    <a:pt x="1485" y="1226"/>
                  </a:lnTo>
                  <a:lnTo>
                    <a:pt x="1499" y="1240"/>
                  </a:lnTo>
                  <a:lnTo>
                    <a:pt x="1513" y="1254"/>
                  </a:lnTo>
                  <a:lnTo>
                    <a:pt x="1520" y="1261"/>
                  </a:lnTo>
                  <a:lnTo>
                    <a:pt x="1534" y="1275"/>
                  </a:lnTo>
                  <a:lnTo>
                    <a:pt x="1548" y="1289"/>
                  </a:lnTo>
                  <a:lnTo>
                    <a:pt x="1562" y="1303"/>
                  </a:lnTo>
                  <a:lnTo>
                    <a:pt x="1576" y="1317"/>
                  </a:lnTo>
                  <a:lnTo>
                    <a:pt x="1583" y="1331"/>
                  </a:lnTo>
                  <a:lnTo>
                    <a:pt x="1597" y="1345"/>
                  </a:lnTo>
                  <a:lnTo>
                    <a:pt x="1611" y="1359"/>
                  </a:lnTo>
                  <a:lnTo>
                    <a:pt x="1625" y="1380"/>
                  </a:lnTo>
                  <a:lnTo>
                    <a:pt x="1639" y="1394"/>
                  </a:lnTo>
                  <a:lnTo>
                    <a:pt x="1646" y="1414"/>
                  </a:lnTo>
                  <a:lnTo>
                    <a:pt x="1660" y="1428"/>
                  </a:lnTo>
                  <a:lnTo>
                    <a:pt x="1674" y="1449"/>
                  </a:lnTo>
                  <a:lnTo>
                    <a:pt x="1688" y="1463"/>
                  </a:lnTo>
                  <a:lnTo>
                    <a:pt x="1702" y="1484"/>
                  </a:lnTo>
                  <a:lnTo>
                    <a:pt x="1709" y="1505"/>
                  </a:lnTo>
                  <a:lnTo>
                    <a:pt x="1722" y="1519"/>
                  </a:lnTo>
                  <a:lnTo>
                    <a:pt x="1736" y="1540"/>
                  </a:lnTo>
                  <a:lnTo>
                    <a:pt x="1750" y="1561"/>
                  </a:lnTo>
                  <a:lnTo>
                    <a:pt x="1764" y="1582"/>
                  </a:lnTo>
                  <a:lnTo>
                    <a:pt x="1771" y="1603"/>
                  </a:lnTo>
                  <a:lnTo>
                    <a:pt x="1785" y="1617"/>
                  </a:lnTo>
                  <a:lnTo>
                    <a:pt x="1799" y="1637"/>
                  </a:lnTo>
                  <a:lnTo>
                    <a:pt x="1813" y="1658"/>
                  </a:lnTo>
                  <a:lnTo>
                    <a:pt x="1827" y="1679"/>
                  </a:lnTo>
                  <a:lnTo>
                    <a:pt x="1834" y="1700"/>
                  </a:lnTo>
                  <a:lnTo>
                    <a:pt x="1848" y="1721"/>
                  </a:lnTo>
                  <a:lnTo>
                    <a:pt x="1862" y="1742"/>
                  </a:lnTo>
                  <a:lnTo>
                    <a:pt x="1876" y="1763"/>
                  </a:lnTo>
                  <a:lnTo>
                    <a:pt x="1890" y="1784"/>
                  </a:lnTo>
                  <a:lnTo>
                    <a:pt x="1897" y="1805"/>
                  </a:lnTo>
                  <a:lnTo>
                    <a:pt x="1911" y="1826"/>
                  </a:lnTo>
                  <a:lnTo>
                    <a:pt x="1925" y="1840"/>
                  </a:lnTo>
                  <a:lnTo>
                    <a:pt x="1939" y="1860"/>
                  </a:lnTo>
                  <a:lnTo>
                    <a:pt x="1953" y="1881"/>
                  </a:lnTo>
                  <a:lnTo>
                    <a:pt x="1960" y="1895"/>
                  </a:lnTo>
                  <a:lnTo>
                    <a:pt x="1973" y="1916"/>
                  </a:lnTo>
                  <a:lnTo>
                    <a:pt x="1987" y="1930"/>
                  </a:lnTo>
                  <a:lnTo>
                    <a:pt x="2001" y="1951"/>
                  </a:lnTo>
                  <a:lnTo>
                    <a:pt x="2015" y="1965"/>
                  </a:lnTo>
                  <a:lnTo>
                    <a:pt x="2022" y="1979"/>
                  </a:lnTo>
                  <a:lnTo>
                    <a:pt x="2036" y="1993"/>
                  </a:lnTo>
                  <a:lnTo>
                    <a:pt x="2050" y="2007"/>
                  </a:lnTo>
                  <a:lnTo>
                    <a:pt x="2064" y="2021"/>
                  </a:lnTo>
                  <a:lnTo>
                    <a:pt x="2078" y="2035"/>
                  </a:lnTo>
                  <a:lnTo>
                    <a:pt x="2085" y="2042"/>
                  </a:lnTo>
                  <a:lnTo>
                    <a:pt x="2099" y="2056"/>
                  </a:lnTo>
                  <a:lnTo>
                    <a:pt x="2113" y="2063"/>
                  </a:lnTo>
                  <a:lnTo>
                    <a:pt x="2127" y="2070"/>
                  </a:lnTo>
                  <a:lnTo>
                    <a:pt x="2141" y="2077"/>
                  </a:lnTo>
                  <a:lnTo>
                    <a:pt x="2155" y="2077"/>
                  </a:lnTo>
                  <a:lnTo>
                    <a:pt x="2162" y="2083"/>
                  </a:lnTo>
                  <a:lnTo>
                    <a:pt x="2176" y="2083"/>
                  </a:lnTo>
                  <a:lnTo>
                    <a:pt x="2190" y="2083"/>
                  </a:lnTo>
                  <a:lnTo>
                    <a:pt x="2204" y="2083"/>
                  </a:lnTo>
                  <a:lnTo>
                    <a:pt x="2218" y="2077"/>
                  </a:lnTo>
                  <a:lnTo>
                    <a:pt x="2225" y="2070"/>
                  </a:lnTo>
                  <a:lnTo>
                    <a:pt x="2238" y="2063"/>
                  </a:lnTo>
                  <a:lnTo>
                    <a:pt x="2252" y="2049"/>
                  </a:lnTo>
                  <a:lnTo>
                    <a:pt x="2266" y="2042"/>
                  </a:lnTo>
                  <a:lnTo>
                    <a:pt x="2280" y="2021"/>
                  </a:lnTo>
                  <a:lnTo>
                    <a:pt x="2287" y="2007"/>
                  </a:lnTo>
                  <a:lnTo>
                    <a:pt x="2301" y="1986"/>
                  </a:lnTo>
                  <a:lnTo>
                    <a:pt x="2315" y="1965"/>
                  </a:lnTo>
                  <a:lnTo>
                    <a:pt x="2329" y="1937"/>
                  </a:lnTo>
                  <a:lnTo>
                    <a:pt x="2343" y="1909"/>
                  </a:lnTo>
                  <a:lnTo>
                    <a:pt x="2350" y="1881"/>
                  </a:lnTo>
                  <a:lnTo>
                    <a:pt x="2364" y="1847"/>
                  </a:lnTo>
                  <a:lnTo>
                    <a:pt x="2378" y="1805"/>
                  </a:lnTo>
                  <a:lnTo>
                    <a:pt x="2392" y="1763"/>
                  </a:lnTo>
                  <a:lnTo>
                    <a:pt x="2406" y="1721"/>
                  </a:lnTo>
                  <a:lnTo>
                    <a:pt x="2413" y="1672"/>
                  </a:lnTo>
                  <a:lnTo>
                    <a:pt x="2427" y="1617"/>
                  </a:lnTo>
                  <a:lnTo>
                    <a:pt x="2441" y="1561"/>
                  </a:lnTo>
                  <a:lnTo>
                    <a:pt x="2455" y="1498"/>
                  </a:lnTo>
                  <a:lnTo>
                    <a:pt x="2469" y="1435"/>
                  </a:lnTo>
                  <a:lnTo>
                    <a:pt x="2476" y="1366"/>
                  </a:lnTo>
                  <a:lnTo>
                    <a:pt x="2490" y="1296"/>
                  </a:lnTo>
                  <a:lnTo>
                    <a:pt x="2503" y="1219"/>
                  </a:lnTo>
                  <a:lnTo>
                    <a:pt x="2517" y="1136"/>
                  </a:lnTo>
                  <a:lnTo>
                    <a:pt x="2531" y="1045"/>
                  </a:lnTo>
                  <a:lnTo>
                    <a:pt x="2538" y="955"/>
                  </a:lnTo>
                  <a:lnTo>
                    <a:pt x="2552" y="850"/>
                  </a:lnTo>
                  <a:lnTo>
                    <a:pt x="2566" y="752"/>
                  </a:lnTo>
                  <a:lnTo>
                    <a:pt x="2580" y="641"/>
                  </a:lnTo>
                  <a:lnTo>
                    <a:pt x="2594" y="522"/>
                  </a:lnTo>
                  <a:lnTo>
                    <a:pt x="2601" y="404"/>
                  </a:lnTo>
                  <a:lnTo>
                    <a:pt x="2615" y="272"/>
                  </a:lnTo>
                  <a:lnTo>
                    <a:pt x="2629" y="139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114800" y="4495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2244600" y="2209680"/>
            <a:ext cx="4130640" cy="4116600"/>
            <a:chOff x="2244600" y="2209680"/>
            <a:chExt cx="4130640" cy="4116600"/>
          </a:xfrm>
        </p:grpSpPr>
        <p:sp>
          <p:nvSpPr>
            <p:cNvPr id="2468" name=""/>
            <p:cNvSpPr/>
            <p:nvPr/>
          </p:nvSpPr>
          <p:spPr>
            <a:xfrm>
              <a:off x="2244600" y="2209680"/>
              <a:ext cx="4130640" cy="4116600"/>
            </a:xfrm>
            <a:custGeom>
              <a:avLst/>
              <a:gdLst/>
              <a:ahLst/>
              <a:rect l="l" t="t" r="r" b="b"/>
              <a:pathLst>
                <a:path w="2602" h="2593">
                  <a:moveTo>
                    <a:pt x="0" y="1645"/>
                  </a:moveTo>
                  <a:lnTo>
                    <a:pt x="14" y="1645"/>
                  </a:lnTo>
                  <a:lnTo>
                    <a:pt x="28" y="1645"/>
                  </a:lnTo>
                  <a:lnTo>
                    <a:pt x="35" y="1645"/>
                  </a:lnTo>
                  <a:lnTo>
                    <a:pt x="49" y="1645"/>
                  </a:lnTo>
                  <a:lnTo>
                    <a:pt x="63" y="1652"/>
                  </a:lnTo>
                  <a:lnTo>
                    <a:pt x="77" y="1659"/>
                  </a:lnTo>
                  <a:lnTo>
                    <a:pt x="91" y="1659"/>
                  </a:lnTo>
                  <a:lnTo>
                    <a:pt x="98" y="1666"/>
                  </a:lnTo>
                  <a:lnTo>
                    <a:pt x="112" y="1673"/>
                  </a:lnTo>
                  <a:lnTo>
                    <a:pt x="126" y="1680"/>
                  </a:lnTo>
                  <a:lnTo>
                    <a:pt x="140" y="1687"/>
                  </a:lnTo>
                  <a:lnTo>
                    <a:pt x="153" y="1693"/>
                  </a:lnTo>
                  <a:lnTo>
                    <a:pt x="160" y="1707"/>
                  </a:lnTo>
                  <a:lnTo>
                    <a:pt x="174" y="1714"/>
                  </a:lnTo>
                  <a:lnTo>
                    <a:pt x="188" y="1728"/>
                  </a:lnTo>
                  <a:lnTo>
                    <a:pt x="202" y="1735"/>
                  </a:lnTo>
                  <a:lnTo>
                    <a:pt x="216" y="1749"/>
                  </a:lnTo>
                  <a:lnTo>
                    <a:pt x="223" y="1763"/>
                  </a:lnTo>
                  <a:lnTo>
                    <a:pt x="237" y="1770"/>
                  </a:lnTo>
                  <a:lnTo>
                    <a:pt x="251" y="1784"/>
                  </a:lnTo>
                  <a:lnTo>
                    <a:pt x="265" y="1798"/>
                  </a:lnTo>
                  <a:lnTo>
                    <a:pt x="279" y="1812"/>
                  </a:lnTo>
                  <a:lnTo>
                    <a:pt x="286" y="1833"/>
                  </a:lnTo>
                  <a:lnTo>
                    <a:pt x="300" y="1847"/>
                  </a:lnTo>
                  <a:lnTo>
                    <a:pt x="314" y="1861"/>
                  </a:lnTo>
                  <a:lnTo>
                    <a:pt x="328" y="1875"/>
                  </a:lnTo>
                  <a:lnTo>
                    <a:pt x="342" y="1896"/>
                  </a:lnTo>
                  <a:lnTo>
                    <a:pt x="356" y="1910"/>
                  </a:lnTo>
                  <a:lnTo>
                    <a:pt x="363" y="1930"/>
                  </a:lnTo>
                  <a:lnTo>
                    <a:pt x="377" y="1944"/>
                  </a:lnTo>
                  <a:lnTo>
                    <a:pt x="391" y="1965"/>
                  </a:lnTo>
                  <a:lnTo>
                    <a:pt x="405" y="1986"/>
                  </a:lnTo>
                  <a:lnTo>
                    <a:pt x="418" y="2000"/>
                  </a:lnTo>
                  <a:lnTo>
                    <a:pt x="425" y="2021"/>
                  </a:lnTo>
                  <a:lnTo>
                    <a:pt x="439" y="2042"/>
                  </a:lnTo>
                  <a:lnTo>
                    <a:pt x="453" y="2056"/>
                  </a:lnTo>
                  <a:lnTo>
                    <a:pt x="467" y="2077"/>
                  </a:lnTo>
                  <a:lnTo>
                    <a:pt x="481" y="2098"/>
                  </a:lnTo>
                  <a:lnTo>
                    <a:pt x="488" y="2119"/>
                  </a:lnTo>
                  <a:lnTo>
                    <a:pt x="502" y="2139"/>
                  </a:lnTo>
                  <a:lnTo>
                    <a:pt x="516" y="2153"/>
                  </a:lnTo>
                  <a:lnTo>
                    <a:pt x="530" y="2174"/>
                  </a:lnTo>
                  <a:lnTo>
                    <a:pt x="544" y="2195"/>
                  </a:lnTo>
                  <a:lnTo>
                    <a:pt x="551" y="2216"/>
                  </a:lnTo>
                  <a:lnTo>
                    <a:pt x="565" y="2230"/>
                  </a:lnTo>
                  <a:lnTo>
                    <a:pt x="579" y="2251"/>
                  </a:lnTo>
                  <a:lnTo>
                    <a:pt x="593" y="2272"/>
                  </a:lnTo>
                  <a:lnTo>
                    <a:pt x="607" y="2286"/>
                  </a:lnTo>
                  <a:lnTo>
                    <a:pt x="614" y="2307"/>
                  </a:lnTo>
                  <a:lnTo>
                    <a:pt x="628" y="2328"/>
                  </a:lnTo>
                  <a:lnTo>
                    <a:pt x="642" y="2342"/>
                  </a:lnTo>
                  <a:lnTo>
                    <a:pt x="656" y="2356"/>
                  </a:lnTo>
                  <a:lnTo>
                    <a:pt x="670" y="2376"/>
                  </a:lnTo>
                  <a:lnTo>
                    <a:pt x="676" y="2390"/>
                  </a:lnTo>
                  <a:lnTo>
                    <a:pt x="690" y="2411"/>
                  </a:lnTo>
                  <a:lnTo>
                    <a:pt x="704" y="2425"/>
                  </a:lnTo>
                  <a:lnTo>
                    <a:pt x="718" y="2439"/>
                  </a:lnTo>
                  <a:lnTo>
                    <a:pt x="732" y="2453"/>
                  </a:lnTo>
                  <a:lnTo>
                    <a:pt x="739" y="2467"/>
                  </a:lnTo>
                  <a:lnTo>
                    <a:pt x="753" y="2481"/>
                  </a:lnTo>
                  <a:lnTo>
                    <a:pt x="767" y="2495"/>
                  </a:lnTo>
                  <a:lnTo>
                    <a:pt x="781" y="2502"/>
                  </a:lnTo>
                  <a:lnTo>
                    <a:pt x="795" y="2516"/>
                  </a:lnTo>
                  <a:lnTo>
                    <a:pt x="802" y="2523"/>
                  </a:lnTo>
                  <a:lnTo>
                    <a:pt x="816" y="2537"/>
                  </a:lnTo>
                  <a:lnTo>
                    <a:pt x="830" y="2544"/>
                  </a:lnTo>
                  <a:lnTo>
                    <a:pt x="844" y="2551"/>
                  </a:lnTo>
                  <a:lnTo>
                    <a:pt x="858" y="2558"/>
                  </a:lnTo>
                  <a:lnTo>
                    <a:pt x="865" y="2565"/>
                  </a:lnTo>
                  <a:lnTo>
                    <a:pt x="879" y="2572"/>
                  </a:lnTo>
                  <a:lnTo>
                    <a:pt x="893" y="2579"/>
                  </a:lnTo>
                  <a:lnTo>
                    <a:pt x="907" y="2586"/>
                  </a:lnTo>
                  <a:lnTo>
                    <a:pt x="921" y="2586"/>
                  </a:lnTo>
                  <a:lnTo>
                    <a:pt x="934" y="2592"/>
                  </a:lnTo>
                  <a:lnTo>
                    <a:pt x="941" y="2592"/>
                  </a:lnTo>
                  <a:lnTo>
                    <a:pt x="955" y="2592"/>
                  </a:lnTo>
                  <a:lnTo>
                    <a:pt x="969" y="2592"/>
                  </a:lnTo>
                  <a:lnTo>
                    <a:pt x="983" y="2592"/>
                  </a:lnTo>
                  <a:lnTo>
                    <a:pt x="997" y="2592"/>
                  </a:lnTo>
                  <a:lnTo>
                    <a:pt x="1004" y="2586"/>
                  </a:lnTo>
                  <a:lnTo>
                    <a:pt x="1018" y="2586"/>
                  </a:lnTo>
                  <a:lnTo>
                    <a:pt x="1032" y="2579"/>
                  </a:lnTo>
                  <a:lnTo>
                    <a:pt x="1046" y="2572"/>
                  </a:lnTo>
                  <a:lnTo>
                    <a:pt x="1060" y="2565"/>
                  </a:lnTo>
                  <a:lnTo>
                    <a:pt x="1067" y="2558"/>
                  </a:lnTo>
                  <a:lnTo>
                    <a:pt x="1081" y="2551"/>
                  </a:lnTo>
                  <a:lnTo>
                    <a:pt x="1095" y="2544"/>
                  </a:lnTo>
                  <a:lnTo>
                    <a:pt x="1109" y="2537"/>
                  </a:lnTo>
                  <a:lnTo>
                    <a:pt x="1123" y="2523"/>
                  </a:lnTo>
                  <a:lnTo>
                    <a:pt x="1130" y="2509"/>
                  </a:lnTo>
                  <a:lnTo>
                    <a:pt x="1144" y="2502"/>
                  </a:lnTo>
                  <a:lnTo>
                    <a:pt x="1158" y="2488"/>
                  </a:lnTo>
                  <a:lnTo>
                    <a:pt x="1172" y="2474"/>
                  </a:lnTo>
                  <a:lnTo>
                    <a:pt x="1186" y="2460"/>
                  </a:lnTo>
                  <a:lnTo>
                    <a:pt x="1192" y="2439"/>
                  </a:lnTo>
                  <a:lnTo>
                    <a:pt x="1206" y="2425"/>
                  </a:lnTo>
                  <a:lnTo>
                    <a:pt x="1220" y="2411"/>
                  </a:lnTo>
                  <a:lnTo>
                    <a:pt x="1234" y="2390"/>
                  </a:lnTo>
                  <a:lnTo>
                    <a:pt x="1248" y="2376"/>
                  </a:lnTo>
                  <a:lnTo>
                    <a:pt x="1255" y="2356"/>
                  </a:lnTo>
                  <a:lnTo>
                    <a:pt x="1269" y="2335"/>
                  </a:lnTo>
                  <a:lnTo>
                    <a:pt x="1283" y="2314"/>
                  </a:lnTo>
                  <a:lnTo>
                    <a:pt x="1297" y="2293"/>
                  </a:lnTo>
                  <a:lnTo>
                    <a:pt x="1311" y="2272"/>
                  </a:lnTo>
                  <a:lnTo>
                    <a:pt x="1318" y="2251"/>
                  </a:lnTo>
                  <a:lnTo>
                    <a:pt x="1332" y="2230"/>
                  </a:lnTo>
                  <a:lnTo>
                    <a:pt x="1346" y="2209"/>
                  </a:lnTo>
                  <a:lnTo>
                    <a:pt x="1360" y="2188"/>
                  </a:lnTo>
                  <a:lnTo>
                    <a:pt x="1374" y="2167"/>
                  </a:lnTo>
                  <a:lnTo>
                    <a:pt x="1381" y="2139"/>
                  </a:lnTo>
                  <a:lnTo>
                    <a:pt x="1395" y="2119"/>
                  </a:lnTo>
                  <a:lnTo>
                    <a:pt x="1409" y="2098"/>
                  </a:lnTo>
                  <a:lnTo>
                    <a:pt x="1423" y="2077"/>
                  </a:lnTo>
                  <a:lnTo>
                    <a:pt x="1437" y="2049"/>
                  </a:lnTo>
                  <a:lnTo>
                    <a:pt x="1444" y="2028"/>
                  </a:lnTo>
                  <a:lnTo>
                    <a:pt x="1457" y="2007"/>
                  </a:lnTo>
                  <a:lnTo>
                    <a:pt x="1471" y="1986"/>
                  </a:lnTo>
                  <a:lnTo>
                    <a:pt x="1485" y="1958"/>
                  </a:lnTo>
                  <a:lnTo>
                    <a:pt x="1499" y="1937"/>
                  </a:lnTo>
                  <a:lnTo>
                    <a:pt x="1513" y="1916"/>
                  </a:lnTo>
                  <a:lnTo>
                    <a:pt x="1520" y="1896"/>
                  </a:lnTo>
                  <a:lnTo>
                    <a:pt x="1534" y="1875"/>
                  </a:lnTo>
                  <a:lnTo>
                    <a:pt x="1548" y="1854"/>
                  </a:lnTo>
                  <a:lnTo>
                    <a:pt x="1562" y="1833"/>
                  </a:lnTo>
                  <a:lnTo>
                    <a:pt x="1576" y="1812"/>
                  </a:lnTo>
                  <a:lnTo>
                    <a:pt x="1583" y="1798"/>
                  </a:lnTo>
                  <a:lnTo>
                    <a:pt x="1597" y="1777"/>
                  </a:lnTo>
                  <a:lnTo>
                    <a:pt x="1611" y="1763"/>
                  </a:lnTo>
                  <a:lnTo>
                    <a:pt x="1625" y="1749"/>
                  </a:lnTo>
                  <a:lnTo>
                    <a:pt x="1639" y="1728"/>
                  </a:lnTo>
                  <a:lnTo>
                    <a:pt x="1646" y="1714"/>
                  </a:lnTo>
                  <a:lnTo>
                    <a:pt x="1660" y="1707"/>
                  </a:lnTo>
                  <a:lnTo>
                    <a:pt x="1674" y="1693"/>
                  </a:lnTo>
                  <a:lnTo>
                    <a:pt x="1688" y="1680"/>
                  </a:lnTo>
                  <a:lnTo>
                    <a:pt x="1702" y="1673"/>
                  </a:lnTo>
                  <a:lnTo>
                    <a:pt x="1709" y="1666"/>
                  </a:lnTo>
                  <a:lnTo>
                    <a:pt x="1722" y="1659"/>
                  </a:lnTo>
                  <a:lnTo>
                    <a:pt x="1736" y="1652"/>
                  </a:lnTo>
                  <a:lnTo>
                    <a:pt x="1750" y="1645"/>
                  </a:lnTo>
                  <a:lnTo>
                    <a:pt x="1764" y="1645"/>
                  </a:lnTo>
                  <a:lnTo>
                    <a:pt x="1771" y="1645"/>
                  </a:lnTo>
                  <a:lnTo>
                    <a:pt x="1785" y="1645"/>
                  </a:lnTo>
                  <a:lnTo>
                    <a:pt x="1799" y="1645"/>
                  </a:lnTo>
                  <a:lnTo>
                    <a:pt x="1813" y="1645"/>
                  </a:lnTo>
                  <a:lnTo>
                    <a:pt x="1827" y="1652"/>
                  </a:lnTo>
                  <a:lnTo>
                    <a:pt x="1834" y="1659"/>
                  </a:lnTo>
                  <a:lnTo>
                    <a:pt x="1848" y="1666"/>
                  </a:lnTo>
                  <a:lnTo>
                    <a:pt x="1862" y="1673"/>
                  </a:lnTo>
                  <a:lnTo>
                    <a:pt x="1876" y="1687"/>
                  </a:lnTo>
                  <a:lnTo>
                    <a:pt x="1890" y="1700"/>
                  </a:lnTo>
                  <a:lnTo>
                    <a:pt x="1897" y="1714"/>
                  </a:lnTo>
                  <a:lnTo>
                    <a:pt x="1911" y="1728"/>
                  </a:lnTo>
                  <a:lnTo>
                    <a:pt x="1925" y="1749"/>
                  </a:lnTo>
                  <a:lnTo>
                    <a:pt x="1939" y="1770"/>
                  </a:lnTo>
                  <a:lnTo>
                    <a:pt x="1953" y="1791"/>
                  </a:lnTo>
                  <a:lnTo>
                    <a:pt x="1960" y="1812"/>
                  </a:lnTo>
                  <a:lnTo>
                    <a:pt x="1973" y="1833"/>
                  </a:lnTo>
                  <a:lnTo>
                    <a:pt x="1987" y="1861"/>
                  </a:lnTo>
                  <a:lnTo>
                    <a:pt x="2001" y="1889"/>
                  </a:lnTo>
                  <a:lnTo>
                    <a:pt x="2015" y="1916"/>
                  </a:lnTo>
                  <a:lnTo>
                    <a:pt x="2022" y="1944"/>
                  </a:lnTo>
                  <a:lnTo>
                    <a:pt x="2036" y="1979"/>
                  </a:lnTo>
                  <a:lnTo>
                    <a:pt x="2050" y="2007"/>
                  </a:lnTo>
                  <a:lnTo>
                    <a:pt x="2064" y="2042"/>
                  </a:lnTo>
                  <a:lnTo>
                    <a:pt x="2078" y="2077"/>
                  </a:lnTo>
                  <a:lnTo>
                    <a:pt x="2085" y="2105"/>
                  </a:lnTo>
                  <a:lnTo>
                    <a:pt x="2099" y="2139"/>
                  </a:lnTo>
                  <a:lnTo>
                    <a:pt x="2113" y="2174"/>
                  </a:lnTo>
                  <a:lnTo>
                    <a:pt x="2127" y="2209"/>
                  </a:lnTo>
                  <a:lnTo>
                    <a:pt x="2141" y="2244"/>
                  </a:lnTo>
                  <a:lnTo>
                    <a:pt x="2155" y="2279"/>
                  </a:lnTo>
                  <a:lnTo>
                    <a:pt x="2162" y="2314"/>
                  </a:lnTo>
                  <a:lnTo>
                    <a:pt x="2176" y="2349"/>
                  </a:lnTo>
                  <a:lnTo>
                    <a:pt x="2190" y="2383"/>
                  </a:lnTo>
                  <a:lnTo>
                    <a:pt x="2204" y="2411"/>
                  </a:lnTo>
                  <a:lnTo>
                    <a:pt x="2218" y="2439"/>
                  </a:lnTo>
                  <a:lnTo>
                    <a:pt x="2225" y="2467"/>
                  </a:lnTo>
                  <a:lnTo>
                    <a:pt x="2238" y="2495"/>
                  </a:lnTo>
                  <a:lnTo>
                    <a:pt x="2252" y="2523"/>
                  </a:lnTo>
                  <a:lnTo>
                    <a:pt x="2266" y="2544"/>
                  </a:lnTo>
                  <a:lnTo>
                    <a:pt x="2280" y="2558"/>
                  </a:lnTo>
                  <a:lnTo>
                    <a:pt x="2287" y="2572"/>
                  </a:lnTo>
                  <a:lnTo>
                    <a:pt x="2301" y="2586"/>
                  </a:lnTo>
                  <a:lnTo>
                    <a:pt x="2315" y="2592"/>
                  </a:lnTo>
                  <a:lnTo>
                    <a:pt x="2329" y="2592"/>
                  </a:lnTo>
                  <a:lnTo>
                    <a:pt x="2343" y="2586"/>
                  </a:lnTo>
                  <a:lnTo>
                    <a:pt x="2350" y="2579"/>
                  </a:lnTo>
                  <a:lnTo>
                    <a:pt x="2364" y="2565"/>
                  </a:lnTo>
                  <a:lnTo>
                    <a:pt x="2378" y="2537"/>
                  </a:lnTo>
                  <a:lnTo>
                    <a:pt x="2392" y="2509"/>
                  </a:lnTo>
                  <a:lnTo>
                    <a:pt x="2406" y="2474"/>
                  </a:lnTo>
                  <a:lnTo>
                    <a:pt x="2413" y="2425"/>
                  </a:lnTo>
                  <a:lnTo>
                    <a:pt x="2427" y="2369"/>
                  </a:lnTo>
                  <a:lnTo>
                    <a:pt x="2441" y="2300"/>
                  </a:lnTo>
                  <a:lnTo>
                    <a:pt x="2455" y="2223"/>
                  </a:lnTo>
                  <a:lnTo>
                    <a:pt x="2469" y="2133"/>
                  </a:lnTo>
                  <a:lnTo>
                    <a:pt x="2476" y="2028"/>
                  </a:lnTo>
                  <a:lnTo>
                    <a:pt x="2490" y="1916"/>
                  </a:lnTo>
                  <a:lnTo>
                    <a:pt x="2503" y="1784"/>
                  </a:lnTo>
                  <a:lnTo>
                    <a:pt x="2517" y="1645"/>
                  </a:lnTo>
                  <a:lnTo>
                    <a:pt x="2531" y="1484"/>
                  </a:lnTo>
                  <a:lnTo>
                    <a:pt x="2538" y="1303"/>
                  </a:lnTo>
                  <a:lnTo>
                    <a:pt x="2552" y="1108"/>
                  </a:lnTo>
                  <a:lnTo>
                    <a:pt x="2566" y="892"/>
                  </a:lnTo>
                  <a:lnTo>
                    <a:pt x="2580" y="662"/>
                  </a:lnTo>
                  <a:lnTo>
                    <a:pt x="2594" y="404"/>
                  </a:lnTo>
                  <a:lnTo>
                    <a:pt x="2601" y="125"/>
                  </a:lnTo>
                  <a:lnTo>
                    <a:pt x="260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952880" y="4495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2244600" y="2209680"/>
            <a:ext cx="4086360" cy="4116600"/>
            <a:chOff x="2244600" y="2209680"/>
            <a:chExt cx="4086360" cy="4116600"/>
          </a:xfrm>
        </p:grpSpPr>
        <p:sp>
          <p:nvSpPr>
            <p:cNvPr id="2471" name=""/>
            <p:cNvSpPr/>
            <p:nvPr/>
          </p:nvSpPr>
          <p:spPr>
            <a:xfrm>
              <a:off x="2244600" y="2209680"/>
              <a:ext cx="4086360" cy="4116600"/>
            </a:xfrm>
            <a:custGeom>
              <a:avLst/>
              <a:gdLst/>
              <a:ahLst/>
              <a:rect l="l" t="t" r="r" b="b"/>
              <a:pathLst>
                <a:path w="2574" h="2593">
                  <a:moveTo>
                    <a:pt x="0" y="2592"/>
                  </a:moveTo>
                  <a:lnTo>
                    <a:pt x="14" y="2592"/>
                  </a:lnTo>
                  <a:lnTo>
                    <a:pt x="28" y="2592"/>
                  </a:lnTo>
                  <a:lnTo>
                    <a:pt x="35" y="2586"/>
                  </a:lnTo>
                  <a:lnTo>
                    <a:pt x="49" y="2586"/>
                  </a:lnTo>
                  <a:lnTo>
                    <a:pt x="63" y="2579"/>
                  </a:lnTo>
                  <a:lnTo>
                    <a:pt x="77" y="2572"/>
                  </a:lnTo>
                  <a:lnTo>
                    <a:pt x="91" y="2565"/>
                  </a:lnTo>
                  <a:lnTo>
                    <a:pt x="98" y="2558"/>
                  </a:lnTo>
                  <a:lnTo>
                    <a:pt x="112" y="2544"/>
                  </a:lnTo>
                  <a:lnTo>
                    <a:pt x="126" y="2537"/>
                  </a:lnTo>
                  <a:lnTo>
                    <a:pt x="140" y="2523"/>
                  </a:lnTo>
                  <a:lnTo>
                    <a:pt x="153" y="2509"/>
                  </a:lnTo>
                  <a:lnTo>
                    <a:pt x="160" y="2495"/>
                  </a:lnTo>
                  <a:lnTo>
                    <a:pt x="174" y="2481"/>
                  </a:lnTo>
                  <a:lnTo>
                    <a:pt x="188" y="2467"/>
                  </a:lnTo>
                  <a:lnTo>
                    <a:pt x="202" y="2446"/>
                  </a:lnTo>
                  <a:lnTo>
                    <a:pt x="216" y="2432"/>
                  </a:lnTo>
                  <a:lnTo>
                    <a:pt x="223" y="2411"/>
                  </a:lnTo>
                  <a:lnTo>
                    <a:pt x="237" y="2390"/>
                  </a:lnTo>
                  <a:lnTo>
                    <a:pt x="251" y="2376"/>
                  </a:lnTo>
                  <a:lnTo>
                    <a:pt x="265" y="2356"/>
                  </a:lnTo>
                  <a:lnTo>
                    <a:pt x="279" y="2335"/>
                  </a:lnTo>
                  <a:lnTo>
                    <a:pt x="286" y="2314"/>
                  </a:lnTo>
                  <a:lnTo>
                    <a:pt x="300" y="2286"/>
                  </a:lnTo>
                  <a:lnTo>
                    <a:pt x="314" y="2265"/>
                  </a:lnTo>
                  <a:lnTo>
                    <a:pt x="328" y="2244"/>
                  </a:lnTo>
                  <a:lnTo>
                    <a:pt x="342" y="2216"/>
                  </a:lnTo>
                  <a:lnTo>
                    <a:pt x="356" y="2195"/>
                  </a:lnTo>
                  <a:lnTo>
                    <a:pt x="363" y="2174"/>
                  </a:lnTo>
                  <a:lnTo>
                    <a:pt x="377" y="2146"/>
                  </a:lnTo>
                  <a:lnTo>
                    <a:pt x="391" y="2126"/>
                  </a:lnTo>
                  <a:lnTo>
                    <a:pt x="405" y="2098"/>
                  </a:lnTo>
                  <a:lnTo>
                    <a:pt x="418" y="2077"/>
                  </a:lnTo>
                  <a:lnTo>
                    <a:pt x="425" y="2049"/>
                  </a:lnTo>
                  <a:lnTo>
                    <a:pt x="439" y="2028"/>
                  </a:lnTo>
                  <a:lnTo>
                    <a:pt x="453" y="2007"/>
                  </a:lnTo>
                  <a:lnTo>
                    <a:pt x="467" y="1979"/>
                  </a:lnTo>
                  <a:lnTo>
                    <a:pt x="481" y="1958"/>
                  </a:lnTo>
                  <a:lnTo>
                    <a:pt x="488" y="1937"/>
                  </a:lnTo>
                  <a:lnTo>
                    <a:pt x="502" y="1916"/>
                  </a:lnTo>
                  <a:lnTo>
                    <a:pt x="516" y="1889"/>
                  </a:lnTo>
                  <a:lnTo>
                    <a:pt x="530" y="1868"/>
                  </a:lnTo>
                  <a:lnTo>
                    <a:pt x="544" y="1854"/>
                  </a:lnTo>
                  <a:lnTo>
                    <a:pt x="551" y="1833"/>
                  </a:lnTo>
                  <a:lnTo>
                    <a:pt x="565" y="1812"/>
                  </a:lnTo>
                  <a:lnTo>
                    <a:pt x="579" y="1791"/>
                  </a:lnTo>
                  <a:lnTo>
                    <a:pt x="593" y="1777"/>
                  </a:lnTo>
                  <a:lnTo>
                    <a:pt x="607" y="1756"/>
                  </a:lnTo>
                  <a:lnTo>
                    <a:pt x="614" y="1742"/>
                  </a:lnTo>
                  <a:lnTo>
                    <a:pt x="628" y="1728"/>
                  </a:lnTo>
                  <a:lnTo>
                    <a:pt x="642" y="1714"/>
                  </a:lnTo>
                  <a:lnTo>
                    <a:pt x="656" y="1700"/>
                  </a:lnTo>
                  <a:lnTo>
                    <a:pt x="670" y="1693"/>
                  </a:lnTo>
                  <a:lnTo>
                    <a:pt x="676" y="1680"/>
                  </a:lnTo>
                  <a:lnTo>
                    <a:pt x="690" y="1673"/>
                  </a:lnTo>
                  <a:lnTo>
                    <a:pt x="704" y="1666"/>
                  </a:lnTo>
                  <a:lnTo>
                    <a:pt x="718" y="1659"/>
                  </a:lnTo>
                  <a:lnTo>
                    <a:pt x="732" y="1652"/>
                  </a:lnTo>
                  <a:lnTo>
                    <a:pt x="739" y="1645"/>
                  </a:lnTo>
                  <a:lnTo>
                    <a:pt x="753" y="1645"/>
                  </a:lnTo>
                  <a:lnTo>
                    <a:pt x="767" y="1645"/>
                  </a:lnTo>
                  <a:lnTo>
                    <a:pt x="781" y="1645"/>
                  </a:lnTo>
                  <a:lnTo>
                    <a:pt x="795" y="1645"/>
                  </a:lnTo>
                  <a:lnTo>
                    <a:pt x="802" y="1645"/>
                  </a:lnTo>
                  <a:lnTo>
                    <a:pt x="816" y="1652"/>
                  </a:lnTo>
                  <a:lnTo>
                    <a:pt x="830" y="1652"/>
                  </a:lnTo>
                  <a:lnTo>
                    <a:pt x="844" y="1659"/>
                  </a:lnTo>
                  <a:lnTo>
                    <a:pt x="858" y="1666"/>
                  </a:lnTo>
                  <a:lnTo>
                    <a:pt x="865" y="1673"/>
                  </a:lnTo>
                  <a:lnTo>
                    <a:pt x="879" y="1687"/>
                  </a:lnTo>
                  <a:lnTo>
                    <a:pt x="893" y="1700"/>
                  </a:lnTo>
                  <a:lnTo>
                    <a:pt x="907" y="1707"/>
                  </a:lnTo>
                  <a:lnTo>
                    <a:pt x="921" y="1721"/>
                  </a:lnTo>
                  <a:lnTo>
                    <a:pt x="934" y="1735"/>
                  </a:lnTo>
                  <a:lnTo>
                    <a:pt x="941" y="1756"/>
                  </a:lnTo>
                  <a:lnTo>
                    <a:pt x="955" y="1770"/>
                  </a:lnTo>
                  <a:lnTo>
                    <a:pt x="969" y="1791"/>
                  </a:lnTo>
                  <a:lnTo>
                    <a:pt x="983" y="1812"/>
                  </a:lnTo>
                  <a:lnTo>
                    <a:pt x="997" y="1826"/>
                  </a:lnTo>
                  <a:lnTo>
                    <a:pt x="1004" y="1847"/>
                  </a:lnTo>
                  <a:lnTo>
                    <a:pt x="1018" y="1875"/>
                  </a:lnTo>
                  <a:lnTo>
                    <a:pt x="1032" y="1896"/>
                  </a:lnTo>
                  <a:lnTo>
                    <a:pt x="1046" y="1916"/>
                  </a:lnTo>
                  <a:lnTo>
                    <a:pt x="1060" y="1944"/>
                  </a:lnTo>
                  <a:lnTo>
                    <a:pt x="1067" y="1965"/>
                  </a:lnTo>
                  <a:lnTo>
                    <a:pt x="1081" y="1993"/>
                  </a:lnTo>
                  <a:lnTo>
                    <a:pt x="1095" y="2014"/>
                  </a:lnTo>
                  <a:lnTo>
                    <a:pt x="1109" y="2042"/>
                  </a:lnTo>
                  <a:lnTo>
                    <a:pt x="1123" y="2070"/>
                  </a:lnTo>
                  <a:lnTo>
                    <a:pt x="1130" y="2098"/>
                  </a:lnTo>
                  <a:lnTo>
                    <a:pt x="1144" y="2126"/>
                  </a:lnTo>
                  <a:lnTo>
                    <a:pt x="1158" y="2146"/>
                  </a:lnTo>
                  <a:lnTo>
                    <a:pt x="1172" y="2174"/>
                  </a:lnTo>
                  <a:lnTo>
                    <a:pt x="1186" y="2202"/>
                  </a:lnTo>
                  <a:lnTo>
                    <a:pt x="1192" y="2230"/>
                  </a:lnTo>
                  <a:lnTo>
                    <a:pt x="1206" y="2258"/>
                  </a:lnTo>
                  <a:lnTo>
                    <a:pt x="1220" y="2279"/>
                  </a:lnTo>
                  <a:lnTo>
                    <a:pt x="1234" y="2307"/>
                  </a:lnTo>
                  <a:lnTo>
                    <a:pt x="1248" y="2328"/>
                  </a:lnTo>
                  <a:lnTo>
                    <a:pt x="1255" y="2356"/>
                  </a:lnTo>
                  <a:lnTo>
                    <a:pt x="1269" y="2376"/>
                  </a:lnTo>
                  <a:lnTo>
                    <a:pt x="1283" y="2397"/>
                  </a:lnTo>
                  <a:lnTo>
                    <a:pt x="1297" y="2425"/>
                  </a:lnTo>
                  <a:lnTo>
                    <a:pt x="1311" y="2446"/>
                  </a:lnTo>
                  <a:lnTo>
                    <a:pt x="1318" y="2460"/>
                  </a:lnTo>
                  <a:lnTo>
                    <a:pt x="1332" y="2481"/>
                  </a:lnTo>
                  <a:lnTo>
                    <a:pt x="1346" y="2502"/>
                  </a:lnTo>
                  <a:lnTo>
                    <a:pt x="1360" y="2516"/>
                  </a:lnTo>
                  <a:lnTo>
                    <a:pt x="1374" y="2530"/>
                  </a:lnTo>
                  <a:lnTo>
                    <a:pt x="1381" y="2544"/>
                  </a:lnTo>
                  <a:lnTo>
                    <a:pt x="1395" y="2558"/>
                  </a:lnTo>
                  <a:lnTo>
                    <a:pt x="1409" y="2565"/>
                  </a:lnTo>
                  <a:lnTo>
                    <a:pt x="1423" y="2572"/>
                  </a:lnTo>
                  <a:lnTo>
                    <a:pt x="1437" y="2579"/>
                  </a:lnTo>
                  <a:lnTo>
                    <a:pt x="1444" y="2586"/>
                  </a:lnTo>
                  <a:lnTo>
                    <a:pt x="1457" y="2592"/>
                  </a:lnTo>
                  <a:lnTo>
                    <a:pt x="1471" y="2592"/>
                  </a:lnTo>
                  <a:lnTo>
                    <a:pt x="1485" y="2592"/>
                  </a:lnTo>
                  <a:lnTo>
                    <a:pt x="1499" y="2592"/>
                  </a:lnTo>
                  <a:lnTo>
                    <a:pt x="1513" y="2586"/>
                  </a:lnTo>
                  <a:lnTo>
                    <a:pt x="1520" y="2579"/>
                  </a:lnTo>
                  <a:lnTo>
                    <a:pt x="1534" y="2572"/>
                  </a:lnTo>
                  <a:lnTo>
                    <a:pt x="1548" y="2565"/>
                  </a:lnTo>
                  <a:lnTo>
                    <a:pt x="1562" y="2558"/>
                  </a:lnTo>
                  <a:lnTo>
                    <a:pt x="1576" y="2544"/>
                  </a:lnTo>
                  <a:lnTo>
                    <a:pt x="1583" y="2530"/>
                  </a:lnTo>
                  <a:lnTo>
                    <a:pt x="1597" y="2509"/>
                  </a:lnTo>
                  <a:lnTo>
                    <a:pt x="1611" y="2495"/>
                  </a:lnTo>
                  <a:lnTo>
                    <a:pt x="1625" y="2474"/>
                  </a:lnTo>
                  <a:lnTo>
                    <a:pt x="1639" y="2453"/>
                  </a:lnTo>
                  <a:lnTo>
                    <a:pt x="1646" y="2425"/>
                  </a:lnTo>
                  <a:lnTo>
                    <a:pt x="1660" y="2404"/>
                  </a:lnTo>
                  <a:lnTo>
                    <a:pt x="1674" y="2376"/>
                  </a:lnTo>
                  <a:lnTo>
                    <a:pt x="1688" y="2349"/>
                  </a:lnTo>
                  <a:lnTo>
                    <a:pt x="1702" y="2321"/>
                  </a:lnTo>
                  <a:lnTo>
                    <a:pt x="1709" y="2293"/>
                  </a:lnTo>
                  <a:lnTo>
                    <a:pt x="1722" y="2258"/>
                  </a:lnTo>
                  <a:lnTo>
                    <a:pt x="1736" y="2230"/>
                  </a:lnTo>
                  <a:lnTo>
                    <a:pt x="1750" y="2195"/>
                  </a:lnTo>
                  <a:lnTo>
                    <a:pt x="1764" y="2167"/>
                  </a:lnTo>
                  <a:lnTo>
                    <a:pt x="1771" y="2133"/>
                  </a:lnTo>
                  <a:lnTo>
                    <a:pt x="1785" y="2098"/>
                  </a:lnTo>
                  <a:lnTo>
                    <a:pt x="1799" y="2063"/>
                  </a:lnTo>
                  <a:lnTo>
                    <a:pt x="1813" y="2028"/>
                  </a:lnTo>
                  <a:lnTo>
                    <a:pt x="1827" y="2000"/>
                  </a:lnTo>
                  <a:lnTo>
                    <a:pt x="1834" y="1965"/>
                  </a:lnTo>
                  <a:lnTo>
                    <a:pt x="1848" y="1930"/>
                  </a:lnTo>
                  <a:lnTo>
                    <a:pt x="1862" y="1903"/>
                  </a:lnTo>
                  <a:lnTo>
                    <a:pt x="1876" y="1868"/>
                  </a:lnTo>
                  <a:lnTo>
                    <a:pt x="1890" y="1840"/>
                  </a:lnTo>
                  <a:lnTo>
                    <a:pt x="1897" y="1812"/>
                  </a:lnTo>
                  <a:lnTo>
                    <a:pt x="1911" y="1784"/>
                  </a:lnTo>
                  <a:lnTo>
                    <a:pt x="1925" y="1756"/>
                  </a:lnTo>
                  <a:lnTo>
                    <a:pt x="1939" y="1735"/>
                  </a:lnTo>
                  <a:lnTo>
                    <a:pt x="1953" y="1714"/>
                  </a:lnTo>
                  <a:lnTo>
                    <a:pt x="1960" y="1693"/>
                  </a:lnTo>
                  <a:lnTo>
                    <a:pt x="1973" y="1680"/>
                  </a:lnTo>
                  <a:lnTo>
                    <a:pt x="1987" y="1666"/>
                  </a:lnTo>
                  <a:lnTo>
                    <a:pt x="2001" y="1652"/>
                  </a:lnTo>
                  <a:lnTo>
                    <a:pt x="2015" y="1645"/>
                  </a:lnTo>
                  <a:lnTo>
                    <a:pt x="2022" y="1645"/>
                  </a:lnTo>
                  <a:lnTo>
                    <a:pt x="2036" y="1645"/>
                  </a:lnTo>
                  <a:lnTo>
                    <a:pt x="2050" y="1645"/>
                  </a:lnTo>
                  <a:lnTo>
                    <a:pt x="2064" y="1652"/>
                  </a:lnTo>
                  <a:lnTo>
                    <a:pt x="2078" y="1659"/>
                  </a:lnTo>
                  <a:lnTo>
                    <a:pt x="2085" y="1673"/>
                  </a:lnTo>
                  <a:lnTo>
                    <a:pt x="2099" y="1693"/>
                  </a:lnTo>
                  <a:lnTo>
                    <a:pt x="2113" y="1714"/>
                  </a:lnTo>
                  <a:lnTo>
                    <a:pt x="2127" y="1735"/>
                  </a:lnTo>
                  <a:lnTo>
                    <a:pt x="2141" y="1763"/>
                  </a:lnTo>
                  <a:lnTo>
                    <a:pt x="2155" y="1798"/>
                  </a:lnTo>
                  <a:lnTo>
                    <a:pt x="2162" y="1833"/>
                  </a:lnTo>
                  <a:lnTo>
                    <a:pt x="2176" y="1868"/>
                  </a:lnTo>
                  <a:lnTo>
                    <a:pt x="2190" y="1916"/>
                  </a:lnTo>
                  <a:lnTo>
                    <a:pt x="2204" y="1958"/>
                  </a:lnTo>
                  <a:lnTo>
                    <a:pt x="2218" y="2007"/>
                  </a:lnTo>
                  <a:lnTo>
                    <a:pt x="2225" y="2056"/>
                  </a:lnTo>
                  <a:lnTo>
                    <a:pt x="2238" y="2105"/>
                  </a:lnTo>
                  <a:lnTo>
                    <a:pt x="2252" y="2160"/>
                  </a:lnTo>
                  <a:lnTo>
                    <a:pt x="2266" y="2209"/>
                  </a:lnTo>
                  <a:lnTo>
                    <a:pt x="2280" y="2265"/>
                  </a:lnTo>
                  <a:lnTo>
                    <a:pt x="2287" y="2321"/>
                  </a:lnTo>
                  <a:lnTo>
                    <a:pt x="2301" y="2369"/>
                  </a:lnTo>
                  <a:lnTo>
                    <a:pt x="2315" y="2418"/>
                  </a:lnTo>
                  <a:lnTo>
                    <a:pt x="2329" y="2460"/>
                  </a:lnTo>
                  <a:lnTo>
                    <a:pt x="2343" y="2502"/>
                  </a:lnTo>
                  <a:lnTo>
                    <a:pt x="2350" y="2537"/>
                  </a:lnTo>
                  <a:lnTo>
                    <a:pt x="2364" y="2565"/>
                  </a:lnTo>
                  <a:lnTo>
                    <a:pt x="2378" y="2586"/>
                  </a:lnTo>
                  <a:lnTo>
                    <a:pt x="2392" y="2592"/>
                  </a:lnTo>
                  <a:lnTo>
                    <a:pt x="2406" y="2586"/>
                  </a:lnTo>
                  <a:lnTo>
                    <a:pt x="2413" y="2572"/>
                  </a:lnTo>
                  <a:lnTo>
                    <a:pt x="2427" y="2537"/>
                  </a:lnTo>
                  <a:lnTo>
                    <a:pt x="2441" y="2488"/>
                  </a:lnTo>
                  <a:lnTo>
                    <a:pt x="2455" y="2411"/>
                  </a:lnTo>
                  <a:lnTo>
                    <a:pt x="2469" y="2314"/>
                  </a:lnTo>
                  <a:lnTo>
                    <a:pt x="2476" y="2195"/>
                  </a:lnTo>
                  <a:lnTo>
                    <a:pt x="2490" y="2042"/>
                  </a:lnTo>
                  <a:lnTo>
                    <a:pt x="2503" y="1861"/>
                  </a:lnTo>
                  <a:lnTo>
                    <a:pt x="2517" y="1645"/>
                  </a:lnTo>
                  <a:lnTo>
                    <a:pt x="2531" y="1387"/>
                  </a:lnTo>
                  <a:lnTo>
                    <a:pt x="2538" y="1080"/>
                  </a:lnTo>
                  <a:lnTo>
                    <a:pt x="2552" y="732"/>
                  </a:lnTo>
                  <a:lnTo>
                    <a:pt x="2566" y="335"/>
                  </a:lnTo>
                  <a:lnTo>
                    <a:pt x="2573" y="0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352680" y="4495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685800" y="2209680"/>
            <a:ext cx="6781680" cy="4573080"/>
            <a:chOff x="685800" y="2209680"/>
            <a:chExt cx="6781680" cy="4573080"/>
          </a:xfrm>
        </p:grpSpPr>
        <p:sp>
          <p:nvSpPr>
            <p:cNvPr id="2474" name=""/>
            <p:cNvSpPr/>
            <p:nvPr/>
          </p:nvSpPr>
          <p:spPr>
            <a:xfrm flipV="1">
              <a:off x="224460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304164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83868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64652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544356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624060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24460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244600" y="55738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244600" y="482112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244600" y="40575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244600" y="33051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24460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244600" y="2552760"/>
              <a:ext cx="479448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244600" y="2552760"/>
              <a:ext cx="479448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244600" y="2552760"/>
              <a:ext cx="4794480" cy="3773520"/>
            </a:xfrm>
            <a:custGeom>
              <a:avLst/>
              <a:gdLst/>
              <a:ahLst/>
              <a:rect l="l" t="t" r="r" b="b"/>
              <a:pathLst>
                <a:path w="3020" h="2377">
                  <a:moveTo>
                    <a:pt x="0" y="2376"/>
                  </a:moveTo>
                  <a:lnTo>
                    <a:pt x="0" y="0"/>
                  </a:lnTo>
                  <a:lnTo>
                    <a:pt x="301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24460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24460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224460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703728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244600" y="25527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037280" y="63244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244600" y="632448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224460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244600" y="63244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224460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4460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304164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04164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383868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83868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464652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64652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544356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4356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240600" y="6279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240600" y="25527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0" name=""/>
            <p:cNvGrpSpPr/>
            <p:nvPr/>
          </p:nvGrpSpPr>
          <p:grpSpPr>
            <a:xfrm>
              <a:off x="2107440" y="6329520"/>
              <a:ext cx="4324320" cy="397440"/>
              <a:chOff x="2107440" y="6329520"/>
              <a:chExt cx="4324320" cy="397440"/>
            </a:xfrm>
          </p:grpSpPr>
          <p:sp>
            <p:nvSpPr>
              <p:cNvPr id="2511" name=""/>
              <p:cNvSpPr/>
              <p:nvPr/>
            </p:nvSpPr>
            <p:spPr>
              <a:xfrm>
                <a:off x="210744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82636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62484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43304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3008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10488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2244600" y="63244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6994080" y="63244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244600" y="55738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H="1">
              <a:off x="6994080" y="55738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244600" y="48211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H="1">
              <a:off x="6994080" y="48211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44600" y="40575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H="1">
              <a:off x="6994080" y="40575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244600" y="33051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H="1">
              <a:off x="6994080" y="33051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244600" y="25527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6994080" y="25527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9" name=""/>
            <p:cNvGrpSpPr/>
            <p:nvPr/>
          </p:nvGrpSpPr>
          <p:grpSpPr>
            <a:xfrm>
              <a:off x="1712160" y="2336760"/>
              <a:ext cx="538560" cy="4170960"/>
              <a:chOff x="1712160" y="2336760"/>
              <a:chExt cx="538560" cy="4170960"/>
            </a:xfrm>
          </p:grpSpPr>
          <p:sp>
            <p:nvSpPr>
              <p:cNvPr id="2530" name=""/>
              <p:cNvSpPr/>
              <p:nvPr/>
            </p:nvSpPr>
            <p:spPr>
              <a:xfrm>
                <a:off x="1855080" y="61102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712160" y="53578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855080" y="4605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712160" y="38419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855080" y="30891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712160" y="233676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36" name=""/>
            <p:cNvSpPr/>
            <p:nvPr/>
          </p:nvSpPr>
          <p:spPr>
            <a:xfrm>
              <a:off x="2244600" y="6324480"/>
              <a:ext cx="5222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244600" y="2552760"/>
              <a:ext cx="47926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244600" y="2209680"/>
              <a:ext cx="0" cy="4114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7037280" y="2552400"/>
              <a:ext cx="0" cy="3771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244600" y="63244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037280" y="25527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244600" y="4665600"/>
              <a:ext cx="4197600" cy="1660680"/>
            </a:xfrm>
            <a:custGeom>
              <a:avLst/>
              <a:gdLst/>
              <a:ahLst/>
              <a:rect l="l" t="t" r="r" b="b"/>
              <a:pathLst>
                <a:path w="2644" h="1046">
                  <a:moveTo>
                    <a:pt x="0" y="1045"/>
                  </a:moveTo>
                  <a:lnTo>
                    <a:pt x="14" y="1045"/>
                  </a:lnTo>
                  <a:lnTo>
                    <a:pt x="28" y="1045"/>
                  </a:lnTo>
                  <a:lnTo>
                    <a:pt x="35" y="1045"/>
                  </a:lnTo>
                  <a:lnTo>
                    <a:pt x="49" y="1045"/>
                  </a:lnTo>
                  <a:lnTo>
                    <a:pt x="63" y="1045"/>
                  </a:lnTo>
                  <a:lnTo>
                    <a:pt x="77" y="1045"/>
                  </a:lnTo>
                  <a:lnTo>
                    <a:pt x="91" y="1045"/>
                  </a:lnTo>
                  <a:lnTo>
                    <a:pt x="98" y="1045"/>
                  </a:lnTo>
                  <a:lnTo>
                    <a:pt x="112" y="1045"/>
                  </a:lnTo>
                  <a:lnTo>
                    <a:pt x="126" y="1045"/>
                  </a:lnTo>
                  <a:lnTo>
                    <a:pt x="140" y="1045"/>
                  </a:lnTo>
                  <a:lnTo>
                    <a:pt x="153" y="1045"/>
                  </a:lnTo>
                  <a:lnTo>
                    <a:pt x="160" y="1039"/>
                  </a:lnTo>
                  <a:lnTo>
                    <a:pt x="174" y="1039"/>
                  </a:lnTo>
                  <a:lnTo>
                    <a:pt x="188" y="1039"/>
                  </a:lnTo>
                  <a:lnTo>
                    <a:pt x="202" y="1039"/>
                  </a:lnTo>
                  <a:lnTo>
                    <a:pt x="216" y="1039"/>
                  </a:lnTo>
                  <a:lnTo>
                    <a:pt x="223" y="1039"/>
                  </a:lnTo>
                  <a:lnTo>
                    <a:pt x="237" y="1039"/>
                  </a:lnTo>
                  <a:lnTo>
                    <a:pt x="251" y="1039"/>
                  </a:lnTo>
                  <a:lnTo>
                    <a:pt x="265" y="1032"/>
                  </a:lnTo>
                  <a:lnTo>
                    <a:pt x="279" y="1032"/>
                  </a:lnTo>
                  <a:lnTo>
                    <a:pt x="286" y="1032"/>
                  </a:lnTo>
                  <a:lnTo>
                    <a:pt x="300" y="1032"/>
                  </a:lnTo>
                  <a:lnTo>
                    <a:pt x="314" y="1032"/>
                  </a:lnTo>
                  <a:lnTo>
                    <a:pt x="328" y="1032"/>
                  </a:lnTo>
                  <a:lnTo>
                    <a:pt x="342" y="1032"/>
                  </a:lnTo>
                  <a:lnTo>
                    <a:pt x="356" y="1025"/>
                  </a:lnTo>
                  <a:lnTo>
                    <a:pt x="363" y="1025"/>
                  </a:lnTo>
                  <a:lnTo>
                    <a:pt x="377" y="1025"/>
                  </a:lnTo>
                  <a:lnTo>
                    <a:pt x="391" y="1025"/>
                  </a:lnTo>
                  <a:lnTo>
                    <a:pt x="405" y="1025"/>
                  </a:lnTo>
                  <a:lnTo>
                    <a:pt x="418" y="1018"/>
                  </a:lnTo>
                  <a:lnTo>
                    <a:pt x="425" y="1018"/>
                  </a:lnTo>
                  <a:lnTo>
                    <a:pt x="439" y="1018"/>
                  </a:lnTo>
                  <a:lnTo>
                    <a:pt x="453" y="1018"/>
                  </a:lnTo>
                  <a:lnTo>
                    <a:pt x="467" y="1011"/>
                  </a:lnTo>
                  <a:lnTo>
                    <a:pt x="481" y="1011"/>
                  </a:lnTo>
                  <a:lnTo>
                    <a:pt x="488" y="1011"/>
                  </a:lnTo>
                  <a:lnTo>
                    <a:pt x="502" y="1011"/>
                  </a:lnTo>
                  <a:lnTo>
                    <a:pt x="516" y="1004"/>
                  </a:lnTo>
                  <a:lnTo>
                    <a:pt x="530" y="1004"/>
                  </a:lnTo>
                  <a:lnTo>
                    <a:pt x="544" y="1004"/>
                  </a:lnTo>
                  <a:lnTo>
                    <a:pt x="551" y="997"/>
                  </a:lnTo>
                  <a:lnTo>
                    <a:pt x="565" y="997"/>
                  </a:lnTo>
                  <a:lnTo>
                    <a:pt x="579" y="997"/>
                  </a:lnTo>
                  <a:lnTo>
                    <a:pt x="593" y="990"/>
                  </a:lnTo>
                  <a:lnTo>
                    <a:pt x="607" y="990"/>
                  </a:lnTo>
                  <a:lnTo>
                    <a:pt x="614" y="990"/>
                  </a:lnTo>
                  <a:lnTo>
                    <a:pt x="628" y="983"/>
                  </a:lnTo>
                  <a:lnTo>
                    <a:pt x="642" y="983"/>
                  </a:lnTo>
                  <a:lnTo>
                    <a:pt x="656" y="983"/>
                  </a:lnTo>
                  <a:lnTo>
                    <a:pt x="670" y="976"/>
                  </a:lnTo>
                  <a:lnTo>
                    <a:pt x="676" y="976"/>
                  </a:lnTo>
                  <a:lnTo>
                    <a:pt x="690" y="976"/>
                  </a:lnTo>
                  <a:lnTo>
                    <a:pt x="704" y="969"/>
                  </a:lnTo>
                  <a:lnTo>
                    <a:pt x="718" y="969"/>
                  </a:lnTo>
                  <a:lnTo>
                    <a:pt x="732" y="969"/>
                  </a:lnTo>
                  <a:lnTo>
                    <a:pt x="739" y="962"/>
                  </a:lnTo>
                  <a:lnTo>
                    <a:pt x="753" y="962"/>
                  </a:lnTo>
                  <a:lnTo>
                    <a:pt x="767" y="955"/>
                  </a:lnTo>
                  <a:lnTo>
                    <a:pt x="781" y="955"/>
                  </a:lnTo>
                  <a:lnTo>
                    <a:pt x="795" y="948"/>
                  </a:lnTo>
                  <a:lnTo>
                    <a:pt x="802" y="948"/>
                  </a:lnTo>
                  <a:lnTo>
                    <a:pt x="816" y="948"/>
                  </a:lnTo>
                  <a:lnTo>
                    <a:pt x="830" y="941"/>
                  </a:lnTo>
                  <a:lnTo>
                    <a:pt x="844" y="941"/>
                  </a:lnTo>
                  <a:lnTo>
                    <a:pt x="858" y="934"/>
                  </a:lnTo>
                  <a:lnTo>
                    <a:pt x="865" y="934"/>
                  </a:lnTo>
                  <a:lnTo>
                    <a:pt x="879" y="927"/>
                  </a:lnTo>
                  <a:lnTo>
                    <a:pt x="893" y="927"/>
                  </a:lnTo>
                  <a:lnTo>
                    <a:pt x="907" y="920"/>
                  </a:lnTo>
                  <a:lnTo>
                    <a:pt x="921" y="920"/>
                  </a:lnTo>
                  <a:lnTo>
                    <a:pt x="934" y="913"/>
                  </a:lnTo>
                  <a:lnTo>
                    <a:pt x="941" y="913"/>
                  </a:lnTo>
                  <a:lnTo>
                    <a:pt x="955" y="906"/>
                  </a:lnTo>
                  <a:lnTo>
                    <a:pt x="969" y="906"/>
                  </a:lnTo>
                  <a:lnTo>
                    <a:pt x="983" y="899"/>
                  </a:lnTo>
                  <a:lnTo>
                    <a:pt x="997" y="899"/>
                  </a:lnTo>
                  <a:lnTo>
                    <a:pt x="1004" y="892"/>
                  </a:lnTo>
                  <a:lnTo>
                    <a:pt x="1018" y="892"/>
                  </a:lnTo>
                  <a:lnTo>
                    <a:pt x="1032" y="885"/>
                  </a:lnTo>
                  <a:lnTo>
                    <a:pt x="1046" y="885"/>
                  </a:lnTo>
                  <a:lnTo>
                    <a:pt x="1060" y="878"/>
                  </a:lnTo>
                  <a:lnTo>
                    <a:pt x="1067" y="871"/>
                  </a:lnTo>
                  <a:lnTo>
                    <a:pt x="1081" y="871"/>
                  </a:lnTo>
                  <a:lnTo>
                    <a:pt x="1095" y="864"/>
                  </a:lnTo>
                  <a:lnTo>
                    <a:pt x="1109" y="864"/>
                  </a:lnTo>
                  <a:lnTo>
                    <a:pt x="1123" y="857"/>
                  </a:lnTo>
                  <a:lnTo>
                    <a:pt x="1130" y="850"/>
                  </a:lnTo>
                  <a:lnTo>
                    <a:pt x="1144" y="850"/>
                  </a:lnTo>
                  <a:lnTo>
                    <a:pt x="1158" y="843"/>
                  </a:lnTo>
                  <a:lnTo>
                    <a:pt x="1172" y="843"/>
                  </a:lnTo>
                  <a:lnTo>
                    <a:pt x="1186" y="836"/>
                  </a:lnTo>
                  <a:lnTo>
                    <a:pt x="1192" y="829"/>
                  </a:lnTo>
                  <a:lnTo>
                    <a:pt x="1206" y="829"/>
                  </a:lnTo>
                  <a:lnTo>
                    <a:pt x="1220" y="822"/>
                  </a:lnTo>
                  <a:lnTo>
                    <a:pt x="1234" y="816"/>
                  </a:lnTo>
                  <a:lnTo>
                    <a:pt x="1248" y="816"/>
                  </a:lnTo>
                  <a:lnTo>
                    <a:pt x="1255" y="809"/>
                  </a:lnTo>
                  <a:lnTo>
                    <a:pt x="1269" y="802"/>
                  </a:lnTo>
                  <a:lnTo>
                    <a:pt x="1283" y="802"/>
                  </a:lnTo>
                  <a:lnTo>
                    <a:pt x="1297" y="795"/>
                  </a:lnTo>
                  <a:lnTo>
                    <a:pt x="1311" y="788"/>
                  </a:lnTo>
                  <a:lnTo>
                    <a:pt x="1318" y="781"/>
                  </a:lnTo>
                  <a:lnTo>
                    <a:pt x="1332" y="781"/>
                  </a:lnTo>
                  <a:lnTo>
                    <a:pt x="1346" y="774"/>
                  </a:lnTo>
                  <a:lnTo>
                    <a:pt x="1360" y="767"/>
                  </a:lnTo>
                  <a:lnTo>
                    <a:pt x="1374" y="760"/>
                  </a:lnTo>
                  <a:lnTo>
                    <a:pt x="1381" y="760"/>
                  </a:lnTo>
                  <a:lnTo>
                    <a:pt x="1395" y="753"/>
                  </a:lnTo>
                  <a:lnTo>
                    <a:pt x="1409" y="746"/>
                  </a:lnTo>
                  <a:lnTo>
                    <a:pt x="1423" y="739"/>
                  </a:lnTo>
                  <a:lnTo>
                    <a:pt x="1437" y="739"/>
                  </a:lnTo>
                  <a:lnTo>
                    <a:pt x="1444" y="732"/>
                  </a:lnTo>
                  <a:lnTo>
                    <a:pt x="1457" y="725"/>
                  </a:lnTo>
                  <a:lnTo>
                    <a:pt x="1471" y="718"/>
                  </a:lnTo>
                  <a:lnTo>
                    <a:pt x="1485" y="718"/>
                  </a:lnTo>
                  <a:lnTo>
                    <a:pt x="1499" y="711"/>
                  </a:lnTo>
                  <a:lnTo>
                    <a:pt x="1513" y="704"/>
                  </a:lnTo>
                  <a:lnTo>
                    <a:pt x="1520" y="697"/>
                  </a:lnTo>
                  <a:lnTo>
                    <a:pt x="1534" y="690"/>
                  </a:lnTo>
                  <a:lnTo>
                    <a:pt x="1548" y="683"/>
                  </a:lnTo>
                  <a:lnTo>
                    <a:pt x="1562" y="683"/>
                  </a:lnTo>
                  <a:lnTo>
                    <a:pt x="1576" y="676"/>
                  </a:lnTo>
                  <a:lnTo>
                    <a:pt x="1583" y="669"/>
                  </a:lnTo>
                  <a:lnTo>
                    <a:pt x="1597" y="662"/>
                  </a:lnTo>
                  <a:lnTo>
                    <a:pt x="1611" y="655"/>
                  </a:lnTo>
                  <a:lnTo>
                    <a:pt x="1625" y="648"/>
                  </a:lnTo>
                  <a:lnTo>
                    <a:pt x="1639" y="641"/>
                  </a:lnTo>
                  <a:lnTo>
                    <a:pt x="1646" y="634"/>
                  </a:lnTo>
                  <a:lnTo>
                    <a:pt x="1660" y="634"/>
                  </a:lnTo>
                  <a:lnTo>
                    <a:pt x="1674" y="627"/>
                  </a:lnTo>
                  <a:lnTo>
                    <a:pt x="1688" y="620"/>
                  </a:lnTo>
                  <a:lnTo>
                    <a:pt x="1702" y="613"/>
                  </a:lnTo>
                  <a:lnTo>
                    <a:pt x="1709" y="606"/>
                  </a:lnTo>
                  <a:lnTo>
                    <a:pt x="1722" y="599"/>
                  </a:lnTo>
                  <a:lnTo>
                    <a:pt x="1736" y="592"/>
                  </a:lnTo>
                  <a:lnTo>
                    <a:pt x="1750" y="586"/>
                  </a:lnTo>
                  <a:lnTo>
                    <a:pt x="1764" y="579"/>
                  </a:lnTo>
                  <a:lnTo>
                    <a:pt x="1771" y="572"/>
                  </a:lnTo>
                  <a:lnTo>
                    <a:pt x="1785" y="565"/>
                  </a:lnTo>
                  <a:lnTo>
                    <a:pt x="1799" y="558"/>
                  </a:lnTo>
                  <a:lnTo>
                    <a:pt x="1813" y="551"/>
                  </a:lnTo>
                  <a:lnTo>
                    <a:pt x="1827" y="544"/>
                  </a:lnTo>
                  <a:lnTo>
                    <a:pt x="1834" y="537"/>
                  </a:lnTo>
                  <a:lnTo>
                    <a:pt x="1848" y="530"/>
                  </a:lnTo>
                  <a:lnTo>
                    <a:pt x="1862" y="523"/>
                  </a:lnTo>
                  <a:lnTo>
                    <a:pt x="1876" y="516"/>
                  </a:lnTo>
                  <a:lnTo>
                    <a:pt x="1890" y="509"/>
                  </a:lnTo>
                  <a:lnTo>
                    <a:pt x="1897" y="502"/>
                  </a:lnTo>
                  <a:lnTo>
                    <a:pt x="1911" y="495"/>
                  </a:lnTo>
                  <a:lnTo>
                    <a:pt x="1925" y="488"/>
                  </a:lnTo>
                  <a:lnTo>
                    <a:pt x="1939" y="481"/>
                  </a:lnTo>
                  <a:lnTo>
                    <a:pt x="1953" y="474"/>
                  </a:lnTo>
                  <a:lnTo>
                    <a:pt x="1960" y="467"/>
                  </a:lnTo>
                  <a:lnTo>
                    <a:pt x="1973" y="460"/>
                  </a:lnTo>
                  <a:lnTo>
                    <a:pt x="1987" y="453"/>
                  </a:lnTo>
                  <a:lnTo>
                    <a:pt x="2001" y="446"/>
                  </a:lnTo>
                  <a:lnTo>
                    <a:pt x="2015" y="439"/>
                  </a:lnTo>
                  <a:lnTo>
                    <a:pt x="2022" y="432"/>
                  </a:lnTo>
                  <a:lnTo>
                    <a:pt x="2036" y="425"/>
                  </a:lnTo>
                  <a:lnTo>
                    <a:pt x="2050" y="411"/>
                  </a:lnTo>
                  <a:lnTo>
                    <a:pt x="2064" y="404"/>
                  </a:lnTo>
                  <a:lnTo>
                    <a:pt x="2078" y="397"/>
                  </a:lnTo>
                  <a:lnTo>
                    <a:pt x="2085" y="390"/>
                  </a:lnTo>
                  <a:lnTo>
                    <a:pt x="2099" y="383"/>
                  </a:lnTo>
                  <a:lnTo>
                    <a:pt x="2113" y="376"/>
                  </a:lnTo>
                  <a:lnTo>
                    <a:pt x="2127" y="369"/>
                  </a:lnTo>
                  <a:lnTo>
                    <a:pt x="2141" y="356"/>
                  </a:lnTo>
                  <a:lnTo>
                    <a:pt x="2155" y="349"/>
                  </a:lnTo>
                  <a:lnTo>
                    <a:pt x="2162" y="342"/>
                  </a:lnTo>
                  <a:lnTo>
                    <a:pt x="2176" y="335"/>
                  </a:lnTo>
                  <a:lnTo>
                    <a:pt x="2190" y="328"/>
                  </a:lnTo>
                  <a:lnTo>
                    <a:pt x="2204" y="321"/>
                  </a:lnTo>
                  <a:lnTo>
                    <a:pt x="2218" y="307"/>
                  </a:lnTo>
                  <a:lnTo>
                    <a:pt x="2225" y="300"/>
                  </a:lnTo>
                  <a:lnTo>
                    <a:pt x="2238" y="293"/>
                  </a:lnTo>
                  <a:lnTo>
                    <a:pt x="2252" y="286"/>
                  </a:lnTo>
                  <a:lnTo>
                    <a:pt x="2266" y="279"/>
                  </a:lnTo>
                  <a:lnTo>
                    <a:pt x="2280" y="265"/>
                  </a:lnTo>
                  <a:lnTo>
                    <a:pt x="2287" y="258"/>
                  </a:lnTo>
                  <a:lnTo>
                    <a:pt x="2301" y="251"/>
                  </a:lnTo>
                  <a:lnTo>
                    <a:pt x="2315" y="244"/>
                  </a:lnTo>
                  <a:lnTo>
                    <a:pt x="2329" y="230"/>
                  </a:lnTo>
                  <a:lnTo>
                    <a:pt x="2343" y="223"/>
                  </a:lnTo>
                  <a:lnTo>
                    <a:pt x="2350" y="216"/>
                  </a:lnTo>
                  <a:lnTo>
                    <a:pt x="2364" y="202"/>
                  </a:lnTo>
                  <a:lnTo>
                    <a:pt x="2378" y="195"/>
                  </a:lnTo>
                  <a:lnTo>
                    <a:pt x="2392" y="188"/>
                  </a:lnTo>
                  <a:lnTo>
                    <a:pt x="2406" y="181"/>
                  </a:lnTo>
                  <a:lnTo>
                    <a:pt x="2413" y="167"/>
                  </a:lnTo>
                  <a:lnTo>
                    <a:pt x="2427" y="160"/>
                  </a:lnTo>
                  <a:lnTo>
                    <a:pt x="2441" y="153"/>
                  </a:lnTo>
                  <a:lnTo>
                    <a:pt x="2455" y="140"/>
                  </a:lnTo>
                  <a:lnTo>
                    <a:pt x="2469" y="133"/>
                  </a:lnTo>
                  <a:lnTo>
                    <a:pt x="2476" y="126"/>
                  </a:lnTo>
                  <a:lnTo>
                    <a:pt x="2490" y="112"/>
                  </a:lnTo>
                  <a:lnTo>
                    <a:pt x="2503" y="105"/>
                  </a:lnTo>
                  <a:lnTo>
                    <a:pt x="2517" y="98"/>
                  </a:lnTo>
                  <a:lnTo>
                    <a:pt x="2531" y="84"/>
                  </a:lnTo>
                  <a:lnTo>
                    <a:pt x="2538" y="77"/>
                  </a:lnTo>
                  <a:lnTo>
                    <a:pt x="2552" y="63"/>
                  </a:lnTo>
                  <a:lnTo>
                    <a:pt x="2566" y="56"/>
                  </a:lnTo>
                  <a:lnTo>
                    <a:pt x="2580" y="49"/>
                  </a:lnTo>
                  <a:lnTo>
                    <a:pt x="2594" y="35"/>
                  </a:lnTo>
                  <a:lnTo>
                    <a:pt x="2601" y="28"/>
                  </a:lnTo>
                  <a:lnTo>
                    <a:pt x="2615" y="14"/>
                  </a:lnTo>
                  <a:lnTo>
                    <a:pt x="2629" y="7"/>
                  </a:lnTo>
                  <a:lnTo>
                    <a:pt x="2643" y="0"/>
                  </a:lnTo>
                </a:path>
              </a:pathLst>
            </a:custGeom>
            <a:noFill/>
            <a:ln cap="rnd" w="1260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715000" y="46483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858000" y="6324480"/>
              <a:ext cx="45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85800" y="228744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N 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D266-8E82-4B28-B105-F2893A608E1E}" type="slidenum">
              <a:t>62</a:t>
            </a:fld>
          </a:p>
        </p:txBody>
      </p:sp>
    </p:spTree>
  </p:cSld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vojstva Chebyshevljevih polinom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09480" y="16765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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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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parn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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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neparn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 parna funkcija o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a parn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odnosno neparna za neparn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interval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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lin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a jednaku valovitost s ekstremima jednaki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dnosn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7915-27D1-47E8-836E-A8270B68FE99}" type="slidenum">
              <a:t>63</a:t>
            </a:fld>
          </a:p>
        </p:txBody>
      </p:sp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8" dur="2000"/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"/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400" fill="hold"/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400" fill="hold"/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9" dur="2000"/>
                                        <p:tgtEl>
                                          <p:spTgt spid="2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Filter sa Chebyshevljevom aproksimacijom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09480" y="16765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 frekvencijska karakteristika normiranog filtra s </a:t>
            </a:r>
            <a:r>
              <a:rPr b="0" lang="hr-HR" sz="2800" spc="-1" strike="noStrike">
                <a:solidFill>
                  <a:srgbClr val="d60093"/>
                </a:solidFill>
                <a:latin typeface="Times New Roman"/>
              </a:rPr>
              <a:t>Chebyshevljevom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aproksimacijom dana je izrazom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2643120" y="2774880"/>
                <a:ext cx="377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1" name=""/>
          <p:cNvSpPr/>
          <p:nvPr/>
        </p:nvSpPr>
        <p:spPr>
          <a:xfrm>
            <a:off x="611280" y="3581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nstant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ređuje iznos valovitost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području propuštanja filt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2708280" y="4624560"/>
                <a:ext cx="3790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3" name=""/>
          <p:cNvSpPr/>
          <p:nvPr/>
        </p:nvSpPr>
        <p:spPr>
          <a:xfrm>
            <a:off x="1018800" y="5181480"/>
            <a:ext cx="145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dnos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19520" y="5638680"/>
                <a:ext cx="2603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8D48-4F48-4871-BDF7-89E5299CA4AA}" type="slidenum">
              <a:t>64</a:t>
            </a:fld>
          </a:p>
        </p:txBody>
      </p:sp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6" dur="2000"/>
                                        <p:tgtEl>
                                          <p:spTgt spid="2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 tip I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,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alovitost u pod. prop.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387520" y="2513160"/>
            <a:ext cx="4819680" cy="1190520"/>
          </a:xfrm>
          <a:custGeom>
            <a:avLst/>
            <a:gdLst/>
            <a:ahLst/>
            <a:rect l="l" t="t" r="r" b="b"/>
            <a:pathLst>
              <a:path w="3036" h="750">
                <a:moveTo>
                  <a:pt x="0" y="42"/>
                </a:moveTo>
                <a:lnTo>
                  <a:pt x="7" y="42"/>
                </a:lnTo>
                <a:lnTo>
                  <a:pt x="21" y="42"/>
                </a:lnTo>
                <a:lnTo>
                  <a:pt x="28" y="42"/>
                </a:lnTo>
                <a:lnTo>
                  <a:pt x="42" y="42"/>
                </a:lnTo>
                <a:lnTo>
                  <a:pt x="49" y="42"/>
                </a:lnTo>
                <a:lnTo>
                  <a:pt x="63" y="42"/>
                </a:lnTo>
                <a:lnTo>
                  <a:pt x="70" y="42"/>
                </a:lnTo>
                <a:lnTo>
                  <a:pt x="84" y="42"/>
                </a:lnTo>
                <a:lnTo>
                  <a:pt x="91" y="42"/>
                </a:lnTo>
                <a:lnTo>
                  <a:pt x="98" y="35"/>
                </a:lnTo>
                <a:lnTo>
                  <a:pt x="112" y="35"/>
                </a:lnTo>
                <a:lnTo>
                  <a:pt x="119" y="35"/>
                </a:lnTo>
                <a:lnTo>
                  <a:pt x="133" y="35"/>
                </a:lnTo>
                <a:lnTo>
                  <a:pt x="140" y="35"/>
                </a:lnTo>
                <a:lnTo>
                  <a:pt x="154" y="35"/>
                </a:lnTo>
                <a:lnTo>
                  <a:pt x="161" y="35"/>
                </a:lnTo>
                <a:lnTo>
                  <a:pt x="175" y="35"/>
                </a:lnTo>
                <a:lnTo>
                  <a:pt x="182" y="35"/>
                </a:lnTo>
                <a:lnTo>
                  <a:pt x="189" y="35"/>
                </a:lnTo>
                <a:lnTo>
                  <a:pt x="203" y="35"/>
                </a:lnTo>
                <a:lnTo>
                  <a:pt x="210" y="35"/>
                </a:lnTo>
                <a:lnTo>
                  <a:pt x="224" y="35"/>
                </a:lnTo>
                <a:lnTo>
                  <a:pt x="231" y="35"/>
                </a:lnTo>
                <a:lnTo>
                  <a:pt x="245" y="35"/>
                </a:lnTo>
                <a:lnTo>
                  <a:pt x="252" y="28"/>
                </a:lnTo>
                <a:lnTo>
                  <a:pt x="266" y="28"/>
                </a:lnTo>
                <a:lnTo>
                  <a:pt x="273" y="28"/>
                </a:lnTo>
                <a:lnTo>
                  <a:pt x="280" y="28"/>
                </a:lnTo>
                <a:lnTo>
                  <a:pt x="294" y="28"/>
                </a:lnTo>
                <a:lnTo>
                  <a:pt x="301" y="28"/>
                </a:lnTo>
                <a:lnTo>
                  <a:pt x="315" y="28"/>
                </a:lnTo>
                <a:lnTo>
                  <a:pt x="322" y="28"/>
                </a:lnTo>
                <a:lnTo>
                  <a:pt x="336" y="28"/>
                </a:lnTo>
                <a:lnTo>
                  <a:pt x="343" y="28"/>
                </a:lnTo>
                <a:lnTo>
                  <a:pt x="357" y="21"/>
                </a:lnTo>
                <a:lnTo>
                  <a:pt x="364" y="21"/>
                </a:lnTo>
                <a:lnTo>
                  <a:pt x="371" y="21"/>
                </a:lnTo>
                <a:lnTo>
                  <a:pt x="385" y="21"/>
                </a:lnTo>
                <a:lnTo>
                  <a:pt x="392" y="21"/>
                </a:lnTo>
                <a:lnTo>
                  <a:pt x="406" y="21"/>
                </a:lnTo>
                <a:lnTo>
                  <a:pt x="413" y="21"/>
                </a:lnTo>
                <a:lnTo>
                  <a:pt x="427" y="21"/>
                </a:lnTo>
                <a:lnTo>
                  <a:pt x="434" y="14"/>
                </a:lnTo>
                <a:lnTo>
                  <a:pt x="448" y="14"/>
                </a:lnTo>
                <a:lnTo>
                  <a:pt x="455" y="14"/>
                </a:lnTo>
                <a:lnTo>
                  <a:pt x="462" y="14"/>
                </a:lnTo>
                <a:lnTo>
                  <a:pt x="476" y="14"/>
                </a:lnTo>
                <a:lnTo>
                  <a:pt x="483" y="14"/>
                </a:lnTo>
                <a:lnTo>
                  <a:pt x="497" y="14"/>
                </a:lnTo>
                <a:lnTo>
                  <a:pt x="504" y="14"/>
                </a:lnTo>
                <a:lnTo>
                  <a:pt x="518" y="7"/>
                </a:lnTo>
                <a:lnTo>
                  <a:pt x="525" y="7"/>
                </a:lnTo>
                <a:lnTo>
                  <a:pt x="532" y="7"/>
                </a:lnTo>
                <a:lnTo>
                  <a:pt x="546" y="7"/>
                </a:lnTo>
                <a:lnTo>
                  <a:pt x="553" y="7"/>
                </a:lnTo>
                <a:lnTo>
                  <a:pt x="567" y="7"/>
                </a:lnTo>
                <a:lnTo>
                  <a:pt x="574" y="7"/>
                </a:lnTo>
                <a:lnTo>
                  <a:pt x="588" y="7"/>
                </a:lnTo>
                <a:lnTo>
                  <a:pt x="595" y="7"/>
                </a:lnTo>
                <a:lnTo>
                  <a:pt x="609" y="0"/>
                </a:lnTo>
                <a:lnTo>
                  <a:pt x="616" y="0"/>
                </a:lnTo>
                <a:lnTo>
                  <a:pt x="623" y="0"/>
                </a:lnTo>
                <a:lnTo>
                  <a:pt x="637" y="0"/>
                </a:lnTo>
                <a:lnTo>
                  <a:pt x="644" y="0"/>
                </a:lnTo>
                <a:lnTo>
                  <a:pt x="658" y="0"/>
                </a:lnTo>
                <a:lnTo>
                  <a:pt x="665" y="0"/>
                </a:lnTo>
                <a:lnTo>
                  <a:pt x="680" y="0"/>
                </a:lnTo>
                <a:lnTo>
                  <a:pt x="687" y="0"/>
                </a:lnTo>
                <a:lnTo>
                  <a:pt x="701" y="0"/>
                </a:lnTo>
                <a:lnTo>
                  <a:pt x="708" y="0"/>
                </a:lnTo>
                <a:lnTo>
                  <a:pt x="715" y="0"/>
                </a:lnTo>
                <a:lnTo>
                  <a:pt x="729" y="0"/>
                </a:lnTo>
                <a:lnTo>
                  <a:pt x="736" y="0"/>
                </a:lnTo>
                <a:lnTo>
                  <a:pt x="750" y="0"/>
                </a:lnTo>
                <a:lnTo>
                  <a:pt x="757" y="0"/>
                </a:lnTo>
                <a:lnTo>
                  <a:pt x="771" y="0"/>
                </a:lnTo>
                <a:lnTo>
                  <a:pt x="778" y="0"/>
                </a:lnTo>
                <a:lnTo>
                  <a:pt x="792" y="0"/>
                </a:lnTo>
                <a:lnTo>
                  <a:pt x="799" y="0"/>
                </a:lnTo>
                <a:lnTo>
                  <a:pt x="806" y="0"/>
                </a:lnTo>
                <a:lnTo>
                  <a:pt x="820" y="7"/>
                </a:lnTo>
                <a:lnTo>
                  <a:pt x="827" y="7"/>
                </a:lnTo>
                <a:lnTo>
                  <a:pt x="841" y="7"/>
                </a:lnTo>
                <a:lnTo>
                  <a:pt x="848" y="7"/>
                </a:lnTo>
                <a:lnTo>
                  <a:pt x="862" y="7"/>
                </a:lnTo>
                <a:lnTo>
                  <a:pt x="869" y="7"/>
                </a:lnTo>
                <a:lnTo>
                  <a:pt x="883" y="14"/>
                </a:lnTo>
                <a:lnTo>
                  <a:pt x="890" y="14"/>
                </a:lnTo>
                <a:lnTo>
                  <a:pt x="897" y="14"/>
                </a:lnTo>
                <a:lnTo>
                  <a:pt x="911" y="14"/>
                </a:lnTo>
                <a:lnTo>
                  <a:pt x="918" y="21"/>
                </a:lnTo>
                <a:lnTo>
                  <a:pt x="932" y="21"/>
                </a:lnTo>
                <a:lnTo>
                  <a:pt x="939" y="21"/>
                </a:lnTo>
                <a:lnTo>
                  <a:pt x="953" y="28"/>
                </a:lnTo>
                <a:lnTo>
                  <a:pt x="960" y="28"/>
                </a:lnTo>
                <a:lnTo>
                  <a:pt x="974" y="28"/>
                </a:lnTo>
                <a:lnTo>
                  <a:pt x="981" y="35"/>
                </a:lnTo>
                <a:lnTo>
                  <a:pt x="988" y="35"/>
                </a:lnTo>
                <a:lnTo>
                  <a:pt x="1002" y="35"/>
                </a:lnTo>
                <a:lnTo>
                  <a:pt x="1009" y="42"/>
                </a:lnTo>
                <a:lnTo>
                  <a:pt x="1023" y="42"/>
                </a:lnTo>
                <a:lnTo>
                  <a:pt x="1030" y="49"/>
                </a:lnTo>
                <a:lnTo>
                  <a:pt x="1044" y="49"/>
                </a:lnTo>
                <a:lnTo>
                  <a:pt x="1051" y="49"/>
                </a:lnTo>
                <a:lnTo>
                  <a:pt x="1065" y="56"/>
                </a:lnTo>
                <a:lnTo>
                  <a:pt x="1072" y="56"/>
                </a:lnTo>
                <a:lnTo>
                  <a:pt x="1079" y="63"/>
                </a:lnTo>
                <a:lnTo>
                  <a:pt x="1093" y="63"/>
                </a:lnTo>
                <a:lnTo>
                  <a:pt x="1100" y="70"/>
                </a:lnTo>
                <a:lnTo>
                  <a:pt x="1114" y="70"/>
                </a:lnTo>
                <a:lnTo>
                  <a:pt x="1121" y="77"/>
                </a:lnTo>
                <a:lnTo>
                  <a:pt x="1135" y="77"/>
                </a:lnTo>
                <a:lnTo>
                  <a:pt x="1142" y="84"/>
                </a:lnTo>
                <a:lnTo>
                  <a:pt x="1156" y="91"/>
                </a:lnTo>
                <a:lnTo>
                  <a:pt x="1163" y="91"/>
                </a:lnTo>
                <a:lnTo>
                  <a:pt x="1170" y="98"/>
                </a:lnTo>
                <a:lnTo>
                  <a:pt x="1184" y="98"/>
                </a:lnTo>
                <a:lnTo>
                  <a:pt x="1191" y="105"/>
                </a:lnTo>
                <a:lnTo>
                  <a:pt x="1205" y="105"/>
                </a:lnTo>
                <a:lnTo>
                  <a:pt x="1212" y="112"/>
                </a:lnTo>
                <a:lnTo>
                  <a:pt x="1226" y="119"/>
                </a:lnTo>
                <a:lnTo>
                  <a:pt x="1233" y="119"/>
                </a:lnTo>
                <a:lnTo>
                  <a:pt x="1247" y="126"/>
                </a:lnTo>
                <a:lnTo>
                  <a:pt x="1254" y="126"/>
                </a:lnTo>
                <a:lnTo>
                  <a:pt x="1261" y="133"/>
                </a:lnTo>
                <a:lnTo>
                  <a:pt x="1275" y="140"/>
                </a:lnTo>
                <a:lnTo>
                  <a:pt x="1282" y="140"/>
                </a:lnTo>
                <a:lnTo>
                  <a:pt x="1296" y="147"/>
                </a:lnTo>
                <a:lnTo>
                  <a:pt x="1303" y="154"/>
                </a:lnTo>
                <a:lnTo>
                  <a:pt x="1317" y="154"/>
                </a:lnTo>
                <a:lnTo>
                  <a:pt x="1324" y="161"/>
                </a:lnTo>
                <a:lnTo>
                  <a:pt x="1338" y="168"/>
                </a:lnTo>
                <a:lnTo>
                  <a:pt x="1345" y="168"/>
                </a:lnTo>
                <a:lnTo>
                  <a:pt x="1352" y="175"/>
                </a:lnTo>
                <a:lnTo>
                  <a:pt x="1366" y="182"/>
                </a:lnTo>
                <a:lnTo>
                  <a:pt x="1373" y="182"/>
                </a:lnTo>
                <a:lnTo>
                  <a:pt x="1387" y="189"/>
                </a:lnTo>
                <a:lnTo>
                  <a:pt x="1394" y="189"/>
                </a:lnTo>
                <a:lnTo>
                  <a:pt x="1408" y="196"/>
                </a:lnTo>
                <a:lnTo>
                  <a:pt x="1415" y="203"/>
                </a:lnTo>
                <a:lnTo>
                  <a:pt x="1429" y="203"/>
                </a:lnTo>
                <a:lnTo>
                  <a:pt x="1436" y="210"/>
                </a:lnTo>
                <a:lnTo>
                  <a:pt x="1443" y="217"/>
                </a:lnTo>
                <a:lnTo>
                  <a:pt x="1458" y="217"/>
                </a:lnTo>
                <a:lnTo>
                  <a:pt x="1465" y="224"/>
                </a:lnTo>
                <a:lnTo>
                  <a:pt x="1479" y="231"/>
                </a:lnTo>
                <a:lnTo>
                  <a:pt x="1486" y="231"/>
                </a:lnTo>
                <a:lnTo>
                  <a:pt x="1500" y="238"/>
                </a:lnTo>
                <a:lnTo>
                  <a:pt x="1507" y="245"/>
                </a:lnTo>
                <a:lnTo>
                  <a:pt x="1521" y="245"/>
                </a:lnTo>
                <a:lnTo>
                  <a:pt x="1528" y="252"/>
                </a:lnTo>
                <a:lnTo>
                  <a:pt x="1535" y="259"/>
                </a:lnTo>
                <a:lnTo>
                  <a:pt x="1549" y="259"/>
                </a:lnTo>
                <a:lnTo>
                  <a:pt x="1556" y="266"/>
                </a:lnTo>
                <a:lnTo>
                  <a:pt x="1570" y="266"/>
                </a:lnTo>
                <a:lnTo>
                  <a:pt x="1577" y="273"/>
                </a:lnTo>
                <a:lnTo>
                  <a:pt x="1591" y="280"/>
                </a:lnTo>
                <a:lnTo>
                  <a:pt x="1598" y="280"/>
                </a:lnTo>
                <a:lnTo>
                  <a:pt x="1605" y="287"/>
                </a:lnTo>
                <a:lnTo>
                  <a:pt x="1619" y="294"/>
                </a:lnTo>
                <a:lnTo>
                  <a:pt x="1626" y="294"/>
                </a:lnTo>
                <a:lnTo>
                  <a:pt x="1640" y="301"/>
                </a:lnTo>
                <a:lnTo>
                  <a:pt x="1647" y="301"/>
                </a:lnTo>
                <a:lnTo>
                  <a:pt x="1661" y="308"/>
                </a:lnTo>
                <a:lnTo>
                  <a:pt x="1668" y="315"/>
                </a:lnTo>
                <a:lnTo>
                  <a:pt x="1682" y="315"/>
                </a:lnTo>
                <a:lnTo>
                  <a:pt x="1689" y="322"/>
                </a:lnTo>
                <a:lnTo>
                  <a:pt x="1696" y="329"/>
                </a:lnTo>
                <a:lnTo>
                  <a:pt x="1710" y="329"/>
                </a:lnTo>
                <a:lnTo>
                  <a:pt x="1717" y="336"/>
                </a:lnTo>
                <a:lnTo>
                  <a:pt x="1731" y="336"/>
                </a:lnTo>
                <a:lnTo>
                  <a:pt x="1738" y="343"/>
                </a:lnTo>
                <a:lnTo>
                  <a:pt x="1752" y="350"/>
                </a:lnTo>
                <a:lnTo>
                  <a:pt x="1759" y="350"/>
                </a:lnTo>
                <a:lnTo>
                  <a:pt x="1773" y="357"/>
                </a:lnTo>
                <a:lnTo>
                  <a:pt x="1780" y="357"/>
                </a:lnTo>
                <a:lnTo>
                  <a:pt x="1787" y="364"/>
                </a:lnTo>
                <a:lnTo>
                  <a:pt x="1801" y="364"/>
                </a:lnTo>
                <a:lnTo>
                  <a:pt x="1808" y="371"/>
                </a:lnTo>
                <a:lnTo>
                  <a:pt x="1822" y="378"/>
                </a:lnTo>
                <a:lnTo>
                  <a:pt x="1829" y="378"/>
                </a:lnTo>
                <a:lnTo>
                  <a:pt x="1843" y="385"/>
                </a:lnTo>
                <a:lnTo>
                  <a:pt x="1850" y="385"/>
                </a:lnTo>
                <a:lnTo>
                  <a:pt x="1864" y="392"/>
                </a:lnTo>
                <a:lnTo>
                  <a:pt x="1871" y="392"/>
                </a:lnTo>
                <a:lnTo>
                  <a:pt x="1878" y="399"/>
                </a:lnTo>
                <a:lnTo>
                  <a:pt x="1892" y="406"/>
                </a:lnTo>
                <a:lnTo>
                  <a:pt x="1899" y="406"/>
                </a:lnTo>
                <a:lnTo>
                  <a:pt x="1913" y="413"/>
                </a:lnTo>
                <a:lnTo>
                  <a:pt x="1920" y="413"/>
                </a:lnTo>
                <a:lnTo>
                  <a:pt x="1934" y="420"/>
                </a:lnTo>
                <a:lnTo>
                  <a:pt x="1941" y="420"/>
                </a:lnTo>
                <a:lnTo>
                  <a:pt x="1955" y="427"/>
                </a:lnTo>
                <a:lnTo>
                  <a:pt x="1962" y="427"/>
                </a:lnTo>
                <a:lnTo>
                  <a:pt x="1969" y="434"/>
                </a:lnTo>
                <a:lnTo>
                  <a:pt x="1983" y="434"/>
                </a:lnTo>
                <a:lnTo>
                  <a:pt x="1990" y="441"/>
                </a:lnTo>
                <a:lnTo>
                  <a:pt x="2004" y="448"/>
                </a:lnTo>
                <a:lnTo>
                  <a:pt x="2011" y="448"/>
                </a:lnTo>
                <a:lnTo>
                  <a:pt x="2025" y="455"/>
                </a:lnTo>
                <a:lnTo>
                  <a:pt x="2032" y="455"/>
                </a:lnTo>
                <a:lnTo>
                  <a:pt x="2046" y="462"/>
                </a:lnTo>
                <a:lnTo>
                  <a:pt x="2053" y="462"/>
                </a:lnTo>
                <a:lnTo>
                  <a:pt x="2060" y="469"/>
                </a:lnTo>
                <a:lnTo>
                  <a:pt x="2074" y="469"/>
                </a:lnTo>
                <a:lnTo>
                  <a:pt x="2081" y="476"/>
                </a:lnTo>
                <a:lnTo>
                  <a:pt x="2095" y="476"/>
                </a:lnTo>
                <a:lnTo>
                  <a:pt x="2102" y="483"/>
                </a:lnTo>
                <a:lnTo>
                  <a:pt x="2116" y="483"/>
                </a:lnTo>
                <a:lnTo>
                  <a:pt x="2123" y="490"/>
                </a:lnTo>
                <a:lnTo>
                  <a:pt x="2137" y="490"/>
                </a:lnTo>
                <a:lnTo>
                  <a:pt x="2144" y="497"/>
                </a:lnTo>
                <a:lnTo>
                  <a:pt x="2151" y="497"/>
                </a:lnTo>
                <a:lnTo>
                  <a:pt x="2165" y="504"/>
                </a:lnTo>
                <a:lnTo>
                  <a:pt x="2172" y="504"/>
                </a:lnTo>
                <a:lnTo>
                  <a:pt x="2186" y="511"/>
                </a:lnTo>
                <a:lnTo>
                  <a:pt x="2193" y="511"/>
                </a:lnTo>
                <a:lnTo>
                  <a:pt x="2207" y="518"/>
                </a:lnTo>
                <a:lnTo>
                  <a:pt x="2214" y="518"/>
                </a:lnTo>
                <a:lnTo>
                  <a:pt x="2228" y="525"/>
                </a:lnTo>
                <a:lnTo>
                  <a:pt x="2235" y="525"/>
                </a:lnTo>
                <a:lnTo>
                  <a:pt x="2243" y="532"/>
                </a:lnTo>
                <a:lnTo>
                  <a:pt x="2257" y="532"/>
                </a:lnTo>
                <a:lnTo>
                  <a:pt x="2264" y="532"/>
                </a:lnTo>
                <a:lnTo>
                  <a:pt x="2278" y="539"/>
                </a:lnTo>
                <a:lnTo>
                  <a:pt x="2285" y="539"/>
                </a:lnTo>
                <a:lnTo>
                  <a:pt x="2299" y="546"/>
                </a:lnTo>
                <a:lnTo>
                  <a:pt x="2306" y="546"/>
                </a:lnTo>
                <a:lnTo>
                  <a:pt x="2320" y="553"/>
                </a:lnTo>
                <a:lnTo>
                  <a:pt x="2327" y="553"/>
                </a:lnTo>
                <a:lnTo>
                  <a:pt x="2334" y="560"/>
                </a:lnTo>
                <a:lnTo>
                  <a:pt x="2348" y="560"/>
                </a:lnTo>
                <a:lnTo>
                  <a:pt x="2355" y="567"/>
                </a:lnTo>
                <a:lnTo>
                  <a:pt x="2369" y="567"/>
                </a:lnTo>
                <a:lnTo>
                  <a:pt x="2376" y="567"/>
                </a:lnTo>
                <a:lnTo>
                  <a:pt x="2390" y="574"/>
                </a:lnTo>
                <a:lnTo>
                  <a:pt x="2397" y="574"/>
                </a:lnTo>
                <a:lnTo>
                  <a:pt x="2411" y="581"/>
                </a:lnTo>
                <a:lnTo>
                  <a:pt x="2418" y="581"/>
                </a:lnTo>
                <a:lnTo>
                  <a:pt x="2425" y="588"/>
                </a:lnTo>
                <a:lnTo>
                  <a:pt x="2439" y="588"/>
                </a:lnTo>
                <a:lnTo>
                  <a:pt x="2446" y="595"/>
                </a:lnTo>
                <a:lnTo>
                  <a:pt x="2460" y="595"/>
                </a:lnTo>
                <a:lnTo>
                  <a:pt x="2467" y="595"/>
                </a:lnTo>
                <a:lnTo>
                  <a:pt x="2481" y="602"/>
                </a:lnTo>
                <a:lnTo>
                  <a:pt x="2488" y="602"/>
                </a:lnTo>
                <a:lnTo>
                  <a:pt x="2502" y="609"/>
                </a:lnTo>
                <a:lnTo>
                  <a:pt x="2509" y="609"/>
                </a:lnTo>
                <a:lnTo>
                  <a:pt x="2516" y="616"/>
                </a:lnTo>
                <a:lnTo>
                  <a:pt x="2530" y="616"/>
                </a:lnTo>
                <a:lnTo>
                  <a:pt x="2537" y="616"/>
                </a:lnTo>
                <a:lnTo>
                  <a:pt x="2551" y="623"/>
                </a:lnTo>
                <a:lnTo>
                  <a:pt x="2558" y="623"/>
                </a:lnTo>
                <a:lnTo>
                  <a:pt x="2572" y="630"/>
                </a:lnTo>
                <a:lnTo>
                  <a:pt x="2579" y="630"/>
                </a:lnTo>
                <a:lnTo>
                  <a:pt x="2586" y="630"/>
                </a:lnTo>
                <a:lnTo>
                  <a:pt x="2600" y="637"/>
                </a:lnTo>
                <a:lnTo>
                  <a:pt x="2607" y="637"/>
                </a:lnTo>
                <a:lnTo>
                  <a:pt x="2621" y="644"/>
                </a:lnTo>
                <a:lnTo>
                  <a:pt x="2628" y="644"/>
                </a:lnTo>
                <a:lnTo>
                  <a:pt x="2642" y="644"/>
                </a:lnTo>
                <a:lnTo>
                  <a:pt x="2649" y="651"/>
                </a:lnTo>
                <a:lnTo>
                  <a:pt x="2663" y="651"/>
                </a:lnTo>
                <a:lnTo>
                  <a:pt x="2670" y="658"/>
                </a:lnTo>
                <a:lnTo>
                  <a:pt x="2677" y="658"/>
                </a:lnTo>
                <a:lnTo>
                  <a:pt x="2691" y="658"/>
                </a:lnTo>
                <a:lnTo>
                  <a:pt x="2698" y="665"/>
                </a:lnTo>
                <a:lnTo>
                  <a:pt x="2712" y="665"/>
                </a:lnTo>
                <a:lnTo>
                  <a:pt x="2719" y="672"/>
                </a:lnTo>
                <a:lnTo>
                  <a:pt x="2733" y="672"/>
                </a:lnTo>
                <a:lnTo>
                  <a:pt x="2740" y="672"/>
                </a:lnTo>
                <a:lnTo>
                  <a:pt x="2754" y="679"/>
                </a:lnTo>
                <a:lnTo>
                  <a:pt x="2761" y="679"/>
                </a:lnTo>
                <a:lnTo>
                  <a:pt x="2768" y="679"/>
                </a:lnTo>
                <a:lnTo>
                  <a:pt x="2782" y="686"/>
                </a:lnTo>
                <a:lnTo>
                  <a:pt x="2789" y="686"/>
                </a:lnTo>
                <a:lnTo>
                  <a:pt x="2803" y="693"/>
                </a:lnTo>
                <a:lnTo>
                  <a:pt x="2810" y="693"/>
                </a:lnTo>
                <a:lnTo>
                  <a:pt x="2824" y="693"/>
                </a:lnTo>
                <a:lnTo>
                  <a:pt x="2831" y="700"/>
                </a:lnTo>
                <a:lnTo>
                  <a:pt x="2845" y="700"/>
                </a:lnTo>
                <a:lnTo>
                  <a:pt x="2852" y="700"/>
                </a:lnTo>
                <a:lnTo>
                  <a:pt x="2859" y="707"/>
                </a:lnTo>
                <a:lnTo>
                  <a:pt x="2873" y="707"/>
                </a:lnTo>
                <a:lnTo>
                  <a:pt x="2880" y="714"/>
                </a:lnTo>
                <a:lnTo>
                  <a:pt x="2894" y="714"/>
                </a:lnTo>
                <a:lnTo>
                  <a:pt x="2901" y="714"/>
                </a:lnTo>
                <a:lnTo>
                  <a:pt x="2915" y="721"/>
                </a:lnTo>
                <a:lnTo>
                  <a:pt x="2922" y="721"/>
                </a:lnTo>
                <a:lnTo>
                  <a:pt x="2936" y="721"/>
                </a:lnTo>
                <a:lnTo>
                  <a:pt x="2943" y="728"/>
                </a:lnTo>
                <a:lnTo>
                  <a:pt x="2950" y="728"/>
                </a:lnTo>
                <a:lnTo>
                  <a:pt x="2964" y="728"/>
                </a:lnTo>
                <a:lnTo>
                  <a:pt x="2971" y="735"/>
                </a:lnTo>
                <a:lnTo>
                  <a:pt x="2985" y="735"/>
                </a:lnTo>
                <a:lnTo>
                  <a:pt x="2992" y="735"/>
                </a:lnTo>
                <a:lnTo>
                  <a:pt x="3006" y="742"/>
                </a:lnTo>
                <a:lnTo>
                  <a:pt x="3013" y="742"/>
                </a:lnTo>
                <a:lnTo>
                  <a:pt x="3028" y="742"/>
                </a:lnTo>
                <a:lnTo>
                  <a:pt x="3035" y="749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387520" y="2513160"/>
            <a:ext cx="4819680" cy="2146320"/>
          </a:xfrm>
          <a:custGeom>
            <a:avLst/>
            <a:gdLst/>
            <a:ahLst/>
            <a:rect l="l" t="t" r="r" b="b"/>
            <a:pathLst>
              <a:path w="3036" h="1352">
                <a:moveTo>
                  <a:pt x="0" y="0"/>
                </a:move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49" y="0"/>
                </a:lnTo>
                <a:lnTo>
                  <a:pt x="63" y="0"/>
                </a:lnTo>
                <a:lnTo>
                  <a:pt x="70" y="0"/>
                </a:lnTo>
                <a:lnTo>
                  <a:pt x="84" y="0"/>
                </a:lnTo>
                <a:lnTo>
                  <a:pt x="91" y="0"/>
                </a:lnTo>
                <a:lnTo>
                  <a:pt x="98" y="7"/>
                </a:lnTo>
                <a:lnTo>
                  <a:pt x="112" y="7"/>
                </a:lnTo>
                <a:lnTo>
                  <a:pt x="119" y="7"/>
                </a:lnTo>
                <a:lnTo>
                  <a:pt x="133" y="7"/>
                </a:lnTo>
                <a:lnTo>
                  <a:pt x="140" y="7"/>
                </a:lnTo>
                <a:lnTo>
                  <a:pt x="154" y="7"/>
                </a:lnTo>
                <a:lnTo>
                  <a:pt x="161" y="7"/>
                </a:lnTo>
                <a:lnTo>
                  <a:pt x="175" y="7"/>
                </a:lnTo>
                <a:lnTo>
                  <a:pt x="182" y="14"/>
                </a:lnTo>
                <a:lnTo>
                  <a:pt x="189" y="14"/>
                </a:lnTo>
                <a:lnTo>
                  <a:pt x="203" y="14"/>
                </a:lnTo>
                <a:lnTo>
                  <a:pt x="210" y="14"/>
                </a:lnTo>
                <a:lnTo>
                  <a:pt x="224" y="14"/>
                </a:lnTo>
                <a:lnTo>
                  <a:pt x="231" y="14"/>
                </a:lnTo>
                <a:lnTo>
                  <a:pt x="245" y="21"/>
                </a:lnTo>
                <a:lnTo>
                  <a:pt x="252" y="21"/>
                </a:lnTo>
                <a:lnTo>
                  <a:pt x="266" y="21"/>
                </a:lnTo>
                <a:lnTo>
                  <a:pt x="273" y="21"/>
                </a:lnTo>
                <a:lnTo>
                  <a:pt x="280" y="21"/>
                </a:lnTo>
                <a:lnTo>
                  <a:pt x="294" y="28"/>
                </a:lnTo>
                <a:lnTo>
                  <a:pt x="301" y="28"/>
                </a:lnTo>
                <a:lnTo>
                  <a:pt x="315" y="28"/>
                </a:lnTo>
                <a:lnTo>
                  <a:pt x="322" y="28"/>
                </a:lnTo>
                <a:lnTo>
                  <a:pt x="336" y="28"/>
                </a:lnTo>
                <a:lnTo>
                  <a:pt x="343" y="28"/>
                </a:lnTo>
                <a:lnTo>
                  <a:pt x="357" y="28"/>
                </a:lnTo>
                <a:lnTo>
                  <a:pt x="364" y="35"/>
                </a:lnTo>
                <a:lnTo>
                  <a:pt x="371" y="35"/>
                </a:lnTo>
                <a:lnTo>
                  <a:pt x="385" y="35"/>
                </a:lnTo>
                <a:lnTo>
                  <a:pt x="392" y="35"/>
                </a:lnTo>
                <a:lnTo>
                  <a:pt x="406" y="35"/>
                </a:lnTo>
                <a:lnTo>
                  <a:pt x="413" y="35"/>
                </a:lnTo>
                <a:lnTo>
                  <a:pt x="427" y="35"/>
                </a:lnTo>
                <a:lnTo>
                  <a:pt x="434" y="35"/>
                </a:lnTo>
                <a:lnTo>
                  <a:pt x="448" y="35"/>
                </a:lnTo>
                <a:lnTo>
                  <a:pt x="455" y="42"/>
                </a:lnTo>
                <a:lnTo>
                  <a:pt x="462" y="42"/>
                </a:lnTo>
                <a:lnTo>
                  <a:pt x="476" y="42"/>
                </a:lnTo>
                <a:lnTo>
                  <a:pt x="483" y="42"/>
                </a:lnTo>
                <a:lnTo>
                  <a:pt x="497" y="42"/>
                </a:lnTo>
                <a:lnTo>
                  <a:pt x="504" y="42"/>
                </a:lnTo>
                <a:lnTo>
                  <a:pt x="518" y="42"/>
                </a:lnTo>
                <a:lnTo>
                  <a:pt x="525" y="42"/>
                </a:lnTo>
                <a:lnTo>
                  <a:pt x="532" y="42"/>
                </a:lnTo>
                <a:lnTo>
                  <a:pt x="546" y="42"/>
                </a:lnTo>
                <a:lnTo>
                  <a:pt x="553" y="42"/>
                </a:lnTo>
                <a:lnTo>
                  <a:pt x="567" y="35"/>
                </a:lnTo>
                <a:lnTo>
                  <a:pt x="574" y="35"/>
                </a:lnTo>
                <a:lnTo>
                  <a:pt x="588" y="35"/>
                </a:lnTo>
                <a:lnTo>
                  <a:pt x="595" y="35"/>
                </a:lnTo>
                <a:lnTo>
                  <a:pt x="609" y="35"/>
                </a:lnTo>
                <a:lnTo>
                  <a:pt x="616" y="35"/>
                </a:lnTo>
                <a:lnTo>
                  <a:pt x="623" y="35"/>
                </a:lnTo>
                <a:lnTo>
                  <a:pt x="637" y="35"/>
                </a:lnTo>
                <a:lnTo>
                  <a:pt x="644" y="28"/>
                </a:lnTo>
                <a:lnTo>
                  <a:pt x="658" y="28"/>
                </a:lnTo>
                <a:lnTo>
                  <a:pt x="665" y="28"/>
                </a:lnTo>
                <a:lnTo>
                  <a:pt x="680" y="28"/>
                </a:lnTo>
                <a:lnTo>
                  <a:pt x="687" y="28"/>
                </a:lnTo>
                <a:lnTo>
                  <a:pt x="701" y="21"/>
                </a:lnTo>
                <a:lnTo>
                  <a:pt x="708" y="21"/>
                </a:lnTo>
                <a:lnTo>
                  <a:pt x="715" y="21"/>
                </a:lnTo>
                <a:lnTo>
                  <a:pt x="729" y="21"/>
                </a:lnTo>
                <a:lnTo>
                  <a:pt x="736" y="14"/>
                </a:lnTo>
                <a:lnTo>
                  <a:pt x="750" y="14"/>
                </a:lnTo>
                <a:lnTo>
                  <a:pt x="757" y="14"/>
                </a:lnTo>
                <a:lnTo>
                  <a:pt x="771" y="14"/>
                </a:lnTo>
                <a:lnTo>
                  <a:pt x="778" y="7"/>
                </a:lnTo>
                <a:lnTo>
                  <a:pt x="792" y="7"/>
                </a:lnTo>
                <a:lnTo>
                  <a:pt x="799" y="7"/>
                </a:lnTo>
                <a:lnTo>
                  <a:pt x="806" y="7"/>
                </a:lnTo>
                <a:lnTo>
                  <a:pt x="820" y="7"/>
                </a:lnTo>
                <a:lnTo>
                  <a:pt x="827" y="0"/>
                </a:lnTo>
                <a:lnTo>
                  <a:pt x="841" y="0"/>
                </a:lnTo>
                <a:lnTo>
                  <a:pt x="848" y="0"/>
                </a:lnTo>
                <a:lnTo>
                  <a:pt x="862" y="0"/>
                </a:lnTo>
                <a:lnTo>
                  <a:pt x="869" y="0"/>
                </a:lnTo>
                <a:lnTo>
                  <a:pt x="883" y="0"/>
                </a:lnTo>
                <a:lnTo>
                  <a:pt x="890" y="0"/>
                </a:lnTo>
                <a:lnTo>
                  <a:pt x="897" y="0"/>
                </a:lnTo>
                <a:lnTo>
                  <a:pt x="911" y="0"/>
                </a:lnTo>
                <a:lnTo>
                  <a:pt x="918" y="7"/>
                </a:lnTo>
                <a:lnTo>
                  <a:pt x="932" y="7"/>
                </a:lnTo>
                <a:lnTo>
                  <a:pt x="939" y="7"/>
                </a:lnTo>
                <a:lnTo>
                  <a:pt x="953" y="14"/>
                </a:lnTo>
                <a:lnTo>
                  <a:pt x="960" y="14"/>
                </a:lnTo>
                <a:lnTo>
                  <a:pt x="974" y="21"/>
                </a:lnTo>
                <a:lnTo>
                  <a:pt x="981" y="21"/>
                </a:lnTo>
                <a:lnTo>
                  <a:pt x="988" y="28"/>
                </a:lnTo>
                <a:lnTo>
                  <a:pt x="1002" y="35"/>
                </a:lnTo>
                <a:lnTo>
                  <a:pt x="1009" y="42"/>
                </a:lnTo>
                <a:lnTo>
                  <a:pt x="1023" y="49"/>
                </a:lnTo>
                <a:lnTo>
                  <a:pt x="1030" y="56"/>
                </a:lnTo>
                <a:lnTo>
                  <a:pt x="1044" y="63"/>
                </a:lnTo>
                <a:lnTo>
                  <a:pt x="1051" y="70"/>
                </a:lnTo>
                <a:lnTo>
                  <a:pt x="1065" y="77"/>
                </a:lnTo>
                <a:lnTo>
                  <a:pt x="1072" y="84"/>
                </a:lnTo>
                <a:lnTo>
                  <a:pt x="1079" y="98"/>
                </a:lnTo>
                <a:lnTo>
                  <a:pt x="1093" y="105"/>
                </a:lnTo>
                <a:lnTo>
                  <a:pt x="1100" y="112"/>
                </a:lnTo>
                <a:lnTo>
                  <a:pt x="1114" y="126"/>
                </a:lnTo>
                <a:lnTo>
                  <a:pt x="1121" y="133"/>
                </a:lnTo>
                <a:lnTo>
                  <a:pt x="1135" y="147"/>
                </a:lnTo>
                <a:lnTo>
                  <a:pt x="1142" y="154"/>
                </a:lnTo>
                <a:lnTo>
                  <a:pt x="1156" y="168"/>
                </a:lnTo>
                <a:lnTo>
                  <a:pt x="1163" y="175"/>
                </a:lnTo>
                <a:lnTo>
                  <a:pt x="1170" y="189"/>
                </a:lnTo>
                <a:lnTo>
                  <a:pt x="1184" y="196"/>
                </a:lnTo>
                <a:lnTo>
                  <a:pt x="1191" y="210"/>
                </a:lnTo>
                <a:lnTo>
                  <a:pt x="1205" y="224"/>
                </a:lnTo>
                <a:lnTo>
                  <a:pt x="1212" y="231"/>
                </a:lnTo>
                <a:lnTo>
                  <a:pt x="1226" y="245"/>
                </a:lnTo>
                <a:lnTo>
                  <a:pt x="1233" y="252"/>
                </a:lnTo>
                <a:lnTo>
                  <a:pt x="1247" y="266"/>
                </a:lnTo>
                <a:lnTo>
                  <a:pt x="1254" y="273"/>
                </a:lnTo>
                <a:lnTo>
                  <a:pt x="1261" y="287"/>
                </a:lnTo>
                <a:lnTo>
                  <a:pt x="1275" y="301"/>
                </a:lnTo>
                <a:lnTo>
                  <a:pt x="1282" y="308"/>
                </a:lnTo>
                <a:lnTo>
                  <a:pt x="1296" y="322"/>
                </a:lnTo>
                <a:lnTo>
                  <a:pt x="1303" y="329"/>
                </a:lnTo>
                <a:lnTo>
                  <a:pt x="1317" y="343"/>
                </a:lnTo>
                <a:lnTo>
                  <a:pt x="1324" y="350"/>
                </a:lnTo>
                <a:lnTo>
                  <a:pt x="1338" y="364"/>
                </a:lnTo>
                <a:lnTo>
                  <a:pt x="1345" y="371"/>
                </a:lnTo>
                <a:lnTo>
                  <a:pt x="1352" y="385"/>
                </a:lnTo>
                <a:lnTo>
                  <a:pt x="1366" y="392"/>
                </a:lnTo>
                <a:lnTo>
                  <a:pt x="1373" y="399"/>
                </a:lnTo>
                <a:lnTo>
                  <a:pt x="1387" y="413"/>
                </a:lnTo>
                <a:lnTo>
                  <a:pt x="1394" y="420"/>
                </a:lnTo>
                <a:lnTo>
                  <a:pt x="1408" y="434"/>
                </a:lnTo>
                <a:lnTo>
                  <a:pt x="1415" y="441"/>
                </a:lnTo>
                <a:lnTo>
                  <a:pt x="1429" y="448"/>
                </a:lnTo>
                <a:lnTo>
                  <a:pt x="1436" y="462"/>
                </a:lnTo>
                <a:lnTo>
                  <a:pt x="1443" y="469"/>
                </a:lnTo>
                <a:lnTo>
                  <a:pt x="1458" y="483"/>
                </a:lnTo>
                <a:lnTo>
                  <a:pt x="1465" y="490"/>
                </a:lnTo>
                <a:lnTo>
                  <a:pt x="1479" y="497"/>
                </a:lnTo>
                <a:lnTo>
                  <a:pt x="1486" y="504"/>
                </a:lnTo>
                <a:lnTo>
                  <a:pt x="1500" y="518"/>
                </a:lnTo>
                <a:lnTo>
                  <a:pt x="1507" y="525"/>
                </a:lnTo>
                <a:lnTo>
                  <a:pt x="1521" y="532"/>
                </a:lnTo>
                <a:lnTo>
                  <a:pt x="1528" y="546"/>
                </a:lnTo>
                <a:lnTo>
                  <a:pt x="1535" y="553"/>
                </a:lnTo>
                <a:lnTo>
                  <a:pt x="1549" y="560"/>
                </a:lnTo>
                <a:lnTo>
                  <a:pt x="1556" y="567"/>
                </a:lnTo>
                <a:lnTo>
                  <a:pt x="1570" y="574"/>
                </a:lnTo>
                <a:lnTo>
                  <a:pt x="1577" y="588"/>
                </a:lnTo>
                <a:lnTo>
                  <a:pt x="1591" y="595"/>
                </a:lnTo>
                <a:lnTo>
                  <a:pt x="1598" y="602"/>
                </a:lnTo>
                <a:lnTo>
                  <a:pt x="1605" y="609"/>
                </a:lnTo>
                <a:lnTo>
                  <a:pt x="1619" y="616"/>
                </a:lnTo>
                <a:lnTo>
                  <a:pt x="1626" y="623"/>
                </a:lnTo>
                <a:lnTo>
                  <a:pt x="1640" y="637"/>
                </a:lnTo>
                <a:lnTo>
                  <a:pt x="1647" y="644"/>
                </a:lnTo>
                <a:lnTo>
                  <a:pt x="1661" y="651"/>
                </a:lnTo>
                <a:lnTo>
                  <a:pt x="1668" y="658"/>
                </a:lnTo>
                <a:lnTo>
                  <a:pt x="1682" y="665"/>
                </a:lnTo>
                <a:lnTo>
                  <a:pt x="1689" y="672"/>
                </a:lnTo>
                <a:lnTo>
                  <a:pt x="1696" y="679"/>
                </a:lnTo>
                <a:lnTo>
                  <a:pt x="1710" y="686"/>
                </a:lnTo>
                <a:lnTo>
                  <a:pt x="1717" y="693"/>
                </a:lnTo>
                <a:lnTo>
                  <a:pt x="1731" y="700"/>
                </a:lnTo>
                <a:lnTo>
                  <a:pt x="1738" y="707"/>
                </a:lnTo>
                <a:lnTo>
                  <a:pt x="1752" y="714"/>
                </a:lnTo>
                <a:lnTo>
                  <a:pt x="1759" y="721"/>
                </a:lnTo>
                <a:lnTo>
                  <a:pt x="1773" y="728"/>
                </a:lnTo>
                <a:lnTo>
                  <a:pt x="1780" y="735"/>
                </a:lnTo>
                <a:lnTo>
                  <a:pt x="1787" y="742"/>
                </a:lnTo>
                <a:lnTo>
                  <a:pt x="1801" y="749"/>
                </a:lnTo>
                <a:lnTo>
                  <a:pt x="1808" y="756"/>
                </a:lnTo>
                <a:lnTo>
                  <a:pt x="1822" y="763"/>
                </a:lnTo>
                <a:lnTo>
                  <a:pt x="1829" y="770"/>
                </a:lnTo>
                <a:lnTo>
                  <a:pt x="1843" y="777"/>
                </a:lnTo>
                <a:lnTo>
                  <a:pt x="1850" y="784"/>
                </a:lnTo>
                <a:lnTo>
                  <a:pt x="1864" y="791"/>
                </a:lnTo>
                <a:lnTo>
                  <a:pt x="1871" y="798"/>
                </a:lnTo>
                <a:lnTo>
                  <a:pt x="1878" y="805"/>
                </a:lnTo>
                <a:lnTo>
                  <a:pt x="1892" y="812"/>
                </a:lnTo>
                <a:lnTo>
                  <a:pt x="1899" y="819"/>
                </a:lnTo>
                <a:lnTo>
                  <a:pt x="1913" y="826"/>
                </a:lnTo>
                <a:lnTo>
                  <a:pt x="1920" y="833"/>
                </a:lnTo>
                <a:lnTo>
                  <a:pt x="1934" y="840"/>
                </a:lnTo>
                <a:lnTo>
                  <a:pt x="1941" y="847"/>
                </a:lnTo>
                <a:lnTo>
                  <a:pt x="1955" y="854"/>
                </a:lnTo>
                <a:lnTo>
                  <a:pt x="1962" y="854"/>
                </a:lnTo>
                <a:lnTo>
                  <a:pt x="1969" y="861"/>
                </a:lnTo>
                <a:lnTo>
                  <a:pt x="1983" y="868"/>
                </a:lnTo>
                <a:lnTo>
                  <a:pt x="1990" y="875"/>
                </a:lnTo>
                <a:lnTo>
                  <a:pt x="2004" y="882"/>
                </a:lnTo>
                <a:lnTo>
                  <a:pt x="2011" y="889"/>
                </a:lnTo>
                <a:lnTo>
                  <a:pt x="2025" y="896"/>
                </a:lnTo>
                <a:lnTo>
                  <a:pt x="2032" y="896"/>
                </a:lnTo>
                <a:lnTo>
                  <a:pt x="2046" y="903"/>
                </a:lnTo>
                <a:lnTo>
                  <a:pt x="2053" y="910"/>
                </a:lnTo>
                <a:lnTo>
                  <a:pt x="2060" y="917"/>
                </a:lnTo>
                <a:lnTo>
                  <a:pt x="2074" y="924"/>
                </a:lnTo>
                <a:lnTo>
                  <a:pt x="2081" y="931"/>
                </a:lnTo>
                <a:lnTo>
                  <a:pt x="2095" y="931"/>
                </a:lnTo>
                <a:lnTo>
                  <a:pt x="2102" y="938"/>
                </a:lnTo>
                <a:lnTo>
                  <a:pt x="2116" y="945"/>
                </a:lnTo>
                <a:lnTo>
                  <a:pt x="2123" y="952"/>
                </a:lnTo>
                <a:lnTo>
                  <a:pt x="2137" y="959"/>
                </a:lnTo>
                <a:lnTo>
                  <a:pt x="2144" y="959"/>
                </a:lnTo>
                <a:lnTo>
                  <a:pt x="2151" y="966"/>
                </a:lnTo>
                <a:lnTo>
                  <a:pt x="2165" y="973"/>
                </a:lnTo>
                <a:lnTo>
                  <a:pt x="2172" y="980"/>
                </a:lnTo>
                <a:lnTo>
                  <a:pt x="2186" y="987"/>
                </a:lnTo>
                <a:lnTo>
                  <a:pt x="2193" y="987"/>
                </a:lnTo>
                <a:lnTo>
                  <a:pt x="2207" y="994"/>
                </a:lnTo>
                <a:lnTo>
                  <a:pt x="2214" y="1001"/>
                </a:lnTo>
                <a:lnTo>
                  <a:pt x="2228" y="1008"/>
                </a:lnTo>
                <a:lnTo>
                  <a:pt x="2235" y="1008"/>
                </a:lnTo>
                <a:lnTo>
                  <a:pt x="2243" y="1015"/>
                </a:lnTo>
                <a:lnTo>
                  <a:pt x="2257" y="1022"/>
                </a:lnTo>
                <a:lnTo>
                  <a:pt x="2264" y="1029"/>
                </a:lnTo>
                <a:lnTo>
                  <a:pt x="2278" y="1029"/>
                </a:lnTo>
                <a:lnTo>
                  <a:pt x="2285" y="1036"/>
                </a:lnTo>
                <a:lnTo>
                  <a:pt x="2299" y="1043"/>
                </a:lnTo>
                <a:lnTo>
                  <a:pt x="2306" y="1050"/>
                </a:lnTo>
                <a:lnTo>
                  <a:pt x="2320" y="1050"/>
                </a:lnTo>
                <a:lnTo>
                  <a:pt x="2327" y="1057"/>
                </a:lnTo>
                <a:lnTo>
                  <a:pt x="2334" y="1064"/>
                </a:lnTo>
                <a:lnTo>
                  <a:pt x="2348" y="1064"/>
                </a:lnTo>
                <a:lnTo>
                  <a:pt x="2355" y="1071"/>
                </a:lnTo>
                <a:lnTo>
                  <a:pt x="2369" y="1078"/>
                </a:lnTo>
                <a:lnTo>
                  <a:pt x="2376" y="1078"/>
                </a:lnTo>
                <a:lnTo>
                  <a:pt x="2390" y="1085"/>
                </a:lnTo>
                <a:lnTo>
                  <a:pt x="2397" y="1092"/>
                </a:lnTo>
                <a:lnTo>
                  <a:pt x="2411" y="1099"/>
                </a:lnTo>
                <a:lnTo>
                  <a:pt x="2418" y="1099"/>
                </a:lnTo>
                <a:lnTo>
                  <a:pt x="2425" y="1106"/>
                </a:lnTo>
                <a:lnTo>
                  <a:pt x="2439" y="1113"/>
                </a:lnTo>
                <a:lnTo>
                  <a:pt x="2446" y="1113"/>
                </a:lnTo>
                <a:lnTo>
                  <a:pt x="2460" y="1120"/>
                </a:lnTo>
                <a:lnTo>
                  <a:pt x="2467" y="1127"/>
                </a:lnTo>
                <a:lnTo>
                  <a:pt x="2481" y="1127"/>
                </a:lnTo>
                <a:lnTo>
                  <a:pt x="2488" y="1134"/>
                </a:lnTo>
                <a:lnTo>
                  <a:pt x="2502" y="1141"/>
                </a:lnTo>
                <a:lnTo>
                  <a:pt x="2509" y="1141"/>
                </a:lnTo>
                <a:lnTo>
                  <a:pt x="2516" y="1148"/>
                </a:lnTo>
                <a:lnTo>
                  <a:pt x="2530" y="1155"/>
                </a:lnTo>
                <a:lnTo>
                  <a:pt x="2537" y="1155"/>
                </a:lnTo>
                <a:lnTo>
                  <a:pt x="2551" y="1162"/>
                </a:lnTo>
                <a:lnTo>
                  <a:pt x="2558" y="1162"/>
                </a:lnTo>
                <a:lnTo>
                  <a:pt x="2572" y="1169"/>
                </a:lnTo>
                <a:lnTo>
                  <a:pt x="2579" y="1176"/>
                </a:lnTo>
                <a:lnTo>
                  <a:pt x="2586" y="1176"/>
                </a:lnTo>
                <a:lnTo>
                  <a:pt x="2600" y="1183"/>
                </a:lnTo>
                <a:lnTo>
                  <a:pt x="2607" y="1190"/>
                </a:lnTo>
                <a:lnTo>
                  <a:pt x="2621" y="1190"/>
                </a:lnTo>
                <a:lnTo>
                  <a:pt x="2628" y="1197"/>
                </a:lnTo>
                <a:lnTo>
                  <a:pt x="2642" y="1197"/>
                </a:lnTo>
                <a:lnTo>
                  <a:pt x="2649" y="1204"/>
                </a:lnTo>
                <a:lnTo>
                  <a:pt x="2663" y="1211"/>
                </a:lnTo>
                <a:lnTo>
                  <a:pt x="2670" y="1211"/>
                </a:lnTo>
                <a:lnTo>
                  <a:pt x="2677" y="1218"/>
                </a:lnTo>
                <a:lnTo>
                  <a:pt x="2691" y="1218"/>
                </a:lnTo>
                <a:lnTo>
                  <a:pt x="2698" y="1225"/>
                </a:lnTo>
                <a:lnTo>
                  <a:pt x="2712" y="1232"/>
                </a:lnTo>
                <a:lnTo>
                  <a:pt x="2719" y="1232"/>
                </a:lnTo>
                <a:lnTo>
                  <a:pt x="2733" y="1239"/>
                </a:lnTo>
                <a:lnTo>
                  <a:pt x="2740" y="1239"/>
                </a:lnTo>
                <a:lnTo>
                  <a:pt x="2754" y="1246"/>
                </a:lnTo>
                <a:lnTo>
                  <a:pt x="2761" y="1253"/>
                </a:lnTo>
                <a:lnTo>
                  <a:pt x="2768" y="1253"/>
                </a:lnTo>
                <a:lnTo>
                  <a:pt x="2782" y="1260"/>
                </a:lnTo>
                <a:lnTo>
                  <a:pt x="2789" y="1260"/>
                </a:lnTo>
                <a:lnTo>
                  <a:pt x="2803" y="1267"/>
                </a:lnTo>
                <a:lnTo>
                  <a:pt x="2810" y="1267"/>
                </a:lnTo>
                <a:lnTo>
                  <a:pt x="2824" y="1274"/>
                </a:lnTo>
                <a:lnTo>
                  <a:pt x="2831" y="1281"/>
                </a:lnTo>
                <a:lnTo>
                  <a:pt x="2845" y="1281"/>
                </a:lnTo>
                <a:lnTo>
                  <a:pt x="2852" y="1288"/>
                </a:lnTo>
                <a:lnTo>
                  <a:pt x="2859" y="1288"/>
                </a:lnTo>
                <a:lnTo>
                  <a:pt x="2873" y="1295"/>
                </a:lnTo>
                <a:lnTo>
                  <a:pt x="2880" y="1295"/>
                </a:lnTo>
                <a:lnTo>
                  <a:pt x="2894" y="1302"/>
                </a:lnTo>
                <a:lnTo>
                  <a:pt x="2901" y="1309"/>
                </a:lnTo>
                <a:lnTo>
                  <a:pt x="2915" y="1309"/>
                </a:lnTo>
                <a:lnTo>
                  <a:pt x="2922" y="1316"/>
                </a:lnTo>
                <a:lnTo>
                  <a:pt x="2936" y="1316"/>
                </a:lnTo>
                <a:lnTo>
                  <a:pt x="2943" y="1323"/>
                </a:lnTo>
                <a:lnTo>
                  <a:pt x="2950" y="1323"/>
                </a:lnTo>
                <a:lnTo>
                  <a:pt x="2964" y="1330"/>
                </a:lnTo>
                <a:lnTo>
                  <a:pt x="2971" y="1330"/>
                </a:lnTo>
                <a:lnTo>
                  <a:pt x="2985" y="1337"/>
                </a:lnTo>
                <a:lnTo>
                  <a:pt x="2992" y="1337"/>
                </a:lnTo>
                <a:lnTo>
                  <a:pt x="3006" y="1344"/>
                </a:lnTo>
                <a:lnTo>
                  <a:pt x="3013" y="1344"/>
                </a:lnTo>
                <a:lnTo>
                  <a:pt x="3028" y="1351"/>
                </a:lnTo>
                <a:lnTo>
                  <a:pt x="3035" y="1351"/>
                </a:lnTo>
              </a:path>
            </a:pathLst>
          </a:custGeom>
          <a:noFill/>
          <a:ln cap="rnd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2387520" y="2513160"/>
            <a:ext cx="6100920" cy="3124080"/>
            <a:chOff x="2387520" y="2513160"/>
            <a:chExt cx="6100920" cy="3124080"/>
          </a:xfrm>
        </p:grpSpPr>
        <p:sp>
          <p:nvSpPr>
            <p:cNvPr id="2560" name=""/>
            <p:cNvSpPr/>
            <p:nvPr/>
          </p:nvSpPr>
          <p:spPr>
            <a:xfrm>
              <a:off x="2387520" y="2513160"/>
              <a:ext cx="4819680" cy="3124080"/>
            </a:xfrm>
            <a:custGeom>
              <a:avLst/>
              <a:gdLst/>
              <a:ahLst/>
              <a:rect l="l" t="t" r="r" b="b"/>
              <a:pathLst>
                <a:path w="3036" h="1968">
                  <a:moveTo>
                    <a:pt x="0" y="42"/>
                  </a:moveTo>
                  <a:lnTo>
                    <a:pt x="7" y="42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42" y="42"/>
                  </a:lnTo>
                  <a:lnTo>
                    <a:pt x="49" y="35"/>
                  </a:lnTo>
                  <a:lnTo>
                    <a:pt x="63" y="35"/>
                  </a:lnTo>
                  <a:lnTo>
                    <a:pt x="70" y="35"/>
                  </a:lnTo>
                  <a:lnTo>
                    <a:pt x="84" y="35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12" y="35"/>
                  </a:lnTo>
                  <a:lnTo>
                    <a:pt x="119" y="35"/>
                  </a:lnTo>
                  <a:lnTo>
                    <a:pt x="133" y="28"/>
                  </a:lnTo>
                  <a:lnTo>
                    <a:pt x="140" y="28"/>
                  </a:lnTo>
                  <a:lnTo>
                    <a:pt x="154" y="28"/>
                  </a:lnTo>
                  <a:lnTo>
                    <a:pt x="161" y="28"/>
                  </a:lnTo>
                  <a:lnTo>
                    <a:pt x="175" y="28"/>
                  </a:lnTo>
                  <a:lnTo>
                    <a:pt x="182" y="21"/>
                  </a:lnTo>
                  <a:lnTo>
                    <a:pt x="189" y="21"/>
                  </a:lnTo>
                  <a:lnTo>
                    <a:pt x="203" y="21"/>
                  </a:lnTo>
                  <a:lnTo>
                    <a:pt x="210" y="21"/>
                  </a:lnTo>
                  <a:lnTo>
                    <a:pt x="224" y="14"/>
                  </a:lnTo>
                  <a:lnTo>
                    <a:pt x="231" y="14"/>
                  </a:lnTo>
                  <a:lnTo>
                    <a:pt x="245" y="14"/>
                  </a:lnTo>
                  <a:lnTo>
                    <a:pt x="252" y="14"/>
                  </a:lnTo>
                  <a:lnTo>
                    <a:pt x="266" y="14"/>
                  </a:lnTo>
                  <a:lnTo>
                    <a:pt x="273" y="7"/>
                  </a:lnTo>
                  <a:lnTo>
                    <a:pt x="280" y="7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15" y="7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43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1" y="0"/>
                  </a:lnTo>
                  <a:lnTo>
                    <a:pt x="385" y="0"/>
                  </a:lnTo>
                  <a:lnTo>
                    <a:pt x="392" y="0"/>
                  </a:lnTo>
                  <a:lnTo>
                    <a:pt x="406" y="0"/>
                  </a:lnTo>
                  <a:lnTo>
                    <a:pt x="413" y="0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8" y="0"/>
                  </a:lnTo>
                  <a:lnTo>
                    <a:pt x="455" y="7"/>
                  </a:lnTo>
                  <a:lnTo>
                    <a:pt x="462" y="7"/>
                  </a:lnTo>
                  <a:lnTo>
                    <a:pt x="476" y="7"/>
                  </a:lnTo>
                  <a:lnTo>
                    <a:pt x="483" y="7"/>
                  </a:lnTo>
                  <a:lnTo>
                    <a:pt x="497" y="7"/>
                  </a:lnTo>
                  <a:lnTo>
                    <a:pt x="504" y="14"/>
                  </a:lnTo>
                  <a:lnTo>
                    <a:pt x="518" y="14"/>
                  </a:lnTo>
                  <a:lnTo>
                    <a:pt x="525" y="14"/>
                  </a:lnTo>
                  <a:lnTo>
                    <a:pt x="532" y="14"/>
                  </a:lnTo>
                  <a:lnTo>
                    <a:pt x="546" y="21"/>
                  </a:lnTo>
                  <a:lnTo>
                    <a:pt x="553" y="21"/>
                  </a:lnTo>
                  <a:lnTo>
                    <a:pt x="567" y="21"/>
                  </a:lnTo>
                  <a:lnTo>
                    <a:pt x="574" y="21"/>
                  </a:lnTo>
                  <a:lnTo>
                    <a:pt x="588" y="28"/>
                  </a:lnTo>
                  <a:lnTo>
                    <a:pt x="595" y="28"/>
                  </a:lnTo>
                  <a:lnTo>
                    <a:pt x="609" y="28"/>
                  </a:lnTo>
                  <a:lnTo>
                    <a:pt x="616" y="28"/>
                  </a:lnTo>
                  <a:lnTo>
                    <a:pt x="623" y="35"/>
                  </a:lnTo>
                  <a:lnTo>
                    <a:pt x="637" y="35"/>
                  </a:lnTo>
                  <a:lnTo>
                    <a:pt x="644" y="35"/>
                  </a:lnTo>
                  <a:lnTo>
                    <a:pt x="658" y="35"/>
                  </a:lnTo>
                  <a:lnTo>
                    <a:pt x="665" y="35"/>
                  </a:lnTo>
                  <a:lnTo>
                    <a:pt x="680" y="35"/>
                  </a:lnTo>
                  <a:lnTo>
                    <a:pt x="687" y="42"/>
                  </a:lnTo>
                  <a:lnTo>
                    <a:pt x="701" y="42"/>
                  </a:lnTo>
                  <a:lnTo>
                    <a:pt x="708" y="42"/>
                  </a:lnTo>
                  <a:lnTo>
                    <a:pt x="715" y="42"/>
                  </a:lnTo>
                  <a:lnTo>
                    <a:pt x="729" y="42"/>
                  </a:lnTo>
                  <a:lnTo>
                    <a:pt x="736" y="42"/>
                  </a:lnTo>
                  <a:lnTo>
                    <a:pt x="750" y="42"/>
                  </a:lnTo>
                  <a:lnTo>
                    <a:pt x="757" y="35"/>
                  </a:lnTo>
                  <a:lnTo>
                    <a:pt x="771" y="35"/>
                  </a:lnTo>
                  <a:lnTo>
                    <a:pt x="778" y="35"/>
                  </a:lnTo>
                  <a:lnTo>
                    <a:pt x="792" y="35"/>
                  </a:lnTo>
                  <a:lnTo>
                    <a:pt x="799" y="28"/>
                  </a:lnTo>
                  <a:lnTo>
                    <a:pt x="806" y="28"/>
                  </a:lnTo>
                  <a:lnTo>
                    <a:pt x="820" y="28"/>
                  </a:lnTo>
                  <a:lnTo>
                    <a:pt x="827" y="21"/>
                  </a:lnTo>
                  <a:lnTo>
                    <a:pt x="841" y="21"/>
                  </a:lnTo>
                  <a:lnTo>
                    <a:pt x="848" y="21"/>
                  </a:lnTo>
                  <a:lnTo>
                    <a:pt x="862" y="14"/>
                  </a:lnTo>
                  <a:lnTo>
                    <a:pt x="869" y="14"/>
                  </a:lnTo>
                  <a:lnTo>
                    <a:pt x="883" y="7"/>
                  </a:lnTo>
                  <a:lnTo>
                    <a:pt x="890" y="7"/>
                  </a:lnTo>
                  <a:lnTo>
                    <a:pt x="897" y="7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32" y="0"/>
                  </a:lnTo>
                  <a:lnTo>
                    <a:pt x="939" y="0"/>
                  </a:lnTo>
                  <a:lnTo>
                    <a:pt x="953" y="0"/>
                  </a:lnTo>
                  <a:lnTo>
                    <a:pt x="960" y="7"/>
                  </a:lnTo>
                  <a:lnTo>
                    <a:pt x="974" y="7"/>
                  </a:lnTo>
                  <a:lnTo>
                    <a:pt x="981" y="14"/>
                  </a:lnTo>
                  <a:lnTo>
                    <a:pt x="988" y="21"/>
                  </a:lnTo>
                  <a:lnTo>
                    <a:pt x="1002" y="28"/>
                  </a:lnTo>
                  <a:lnTo>
                    <a:pt x="1009" y="42"/>
                  </a:lnTo>
                  <a:lnTo>
                    <a:pt x="1023" y="49"/>
                  </a:lnTo>
                  <a:lnTo>
                    <a:pt x="1030" y="63"/>
                  </a:lnTo>
                  <a:lnTo>
                    <a:pt x="1044" y="84"/>
                  </a:lnTo>
                  <a:lnTo>
                    <a:pt x="1051" y="98"/>
                  </a:lnTo>
                  <a:lnTo>
                    <a:pt x="1065" y="112"/>
                  </a:lnTo>
                  <a:lnTo>
                    <a:pt x="1072" y="133"/>
                  </a:lnTo>
                  <a:lnTo>
                    <a:pt x="1079" y="154"/>
                  </a:lnTo>
                  <a:lnTo>
                    <a:pt x="1093" y="168"/>
                  </a:lnTo>
                  <a:lnTo>
                    <a:pt x="1100" y="189"/>
                  </a:lnTo>
                  <a:lnTo>
                    <a:pt x="1114" y="210"/>
                  </a:lnTo>
                  <a:lnTo>
                    <a:pt x="1121" y="231"/>
                  </a:lnTo>
                  <a:lnTo>
                    <a:pt x="1135" y="252"/>
                  </a:lnTo>
                  <a:lnTo>
                    <a:pt x="1142" y="273"/>
                  </a:lnTo>
                  <a:lnTo>
                    <a:pt x="1156" y="294"/>
                  </a:lnTo>
                  <a:lnTo>
                    <a:pt x="1163" y="308"/>
                  </a:lnTo>
                  <a:lnTo>
                    <a:pt x="1170" y="329"/>
                  </a:lnTo>
                  <a:lnTo>
                    <a:pt x="1184" y="350"/>
                  </a:lnTo>
                  <a:lnTo>
                    <a:pt x="1191" y="371"/>
                  </a:lnTo>
                  <a:lnTo>
                    <a:pt x="1205" y="385"/>
                  </a:lnTo>
                  <a:lnTo>
                    <a:pt x="1212" y="406"/>
                  </a:lnTo>
                  <a:lnTo>
                    <a:pt x="1226" y="427"/>
                  </a:lnTo>
                  <a:lnTo>
                    <a:pt x="1233" y="441"/>
                  </a:lnTo>
                  <a:lnTo>
                    <a:pt x="1247" y="462"/>
                  </a:lnTo>
                  <a:lnTo>
                    <a:pt x="1254" y="476"/>
                  </a:lnTo>
                  <a:lnTo>
                    <a:pt x="1261" y="497"/>
                  </a:lnTo>
                  <a:lnTo>
                    <a:pt x="1275" y="511"/>
                  </a:lnTo>
                  <a:lnTo>
                    <a:pt x="1282" y="532"/>
                  </a:lnTo>
                  <a:lnTo>
                    <a:pt x="1296" y="546"/>
                  </a:lnTo>
                  <a:lnTo>
                    <a:pt x="1303" y="560"/>
                  </a:lnTo>
                  <a:lnTo>
                    <a:pt x="1317" y="581"/>
                  </a:lnTo>
                  <a:lnTo>
                    <a:pt x="1324" y="595"/>
                  </a:lnTo>
                  <a:lnTo>
                    <a:pt x="1338" y="609"/>
                  </a:lnTo>
                  <a:lnTo>
                    <a:pt x="1345" y="623"/>
                  </a:lnTo>
                  <a:lnTo>
                    <a:pt x="1352" y="644"/>
                  </a:lnTo>
                  <a:lnTo>
                    <a:pt x="1366" y="658"/>
                  </a:lnTo>
                  <a:lnTo>
                    <a:pt x="1373" y="672"/>
                  </a:lnTo>
                  <a:lnTo>
                    <a:pt x="1387" y="686"/>
                  </a:lnTo>
                  <a:lnTo>
                    <a:pt x="1394" y="700"/>
                  </a:lnTo>
                  <a:lnTo>
                    <a:pt x="1408" y="714"/>
                  </a:lnTo>
                  <a:lnTo>
                    <a:pt x="1415" y="728"/>
                  </a:lnTo>
                  <a:lnTo>
                    <a:pt x="1429" y="742"/>
                  </a:lnTo>
                  <a:lnTo>
                    <a:pt x="1436" y="756"/>
                  </a:lnTo>
                  <a:lnTo>
                    <a:pt x="1443" y="770"/>
                  </a:lnTo>
                  <a:lnTo>
                    <a:pt x="1458" y="784"/>
                  </a:lnTo>
                  <a:lnTo>
                    <a:pt x="1465" y="798"/>
                  </a:lnTo>
                  <a:lnTo>
                    <a:pt x="1479" y="805"/>
                  </a:lnTo>
                  <a:lnTo>
                    <a:pt x="1486" y="819"/>
                  </a:lnTo>
                  <a:lnTo>
                    <a:pt x="1500" y="833"/>
                  </a:lnTo>
                  <a:lnTo>
                    <a:pt x="1507" y="847"/>
                  </a:lnTo>
                  <a:lnTo>
                    <a:pt x="1521" y="861"/>
                  </a:lnTo>
                  <a:lnTo>
                    <a:pt x="1528" y="868"/>
                  </a:lnTo>
                  <a:lnTo>
                    <a:pt x="1535" y="882"/>
                  </a:lnTo>
                  <a:lnTo>
                    <a:pt x="1549" y="896"/>
                  </a:lnTo>
                  <a:lnTo>
                    <a:pt x="1556" y="910"/>
                  </a:lnTo>
                  <a:lnTo>
                    <a:pt x="1570" y="917"/>
                  </a:lnTo>
                  <a:lnTo>
                    <a:pt x="1577" y="931"/>
                  </a:lnTo>
                  <a:lnTo>
                    <a:pt x="1591" y="938"/>
                  </a:lnTo>
                  <a:lnTo>
                    <a:pt x="1598" y="952"/>
                  </a:lnTo>
                  <a:lnTo>
                    <a:pt x="1605" y="966"/>
                  </a:lnTo>
                  <a:lnTo>
                    <a:pt x="1619" y="973"/>
                  </a:lnTo>
                  <a:lnTo>
                    <a:pt x="1626" y="987"/>
                  </a:lnTo>
                  <a:lnTo>
                    <a:pt x="1640" y="994"/>
                  </a:lnTo>
                  <a:lnTo>
                    <a:pt x="1647" y="1008"/>
                  </a:lnTo>
                  <a:lnTo>
                    <a:pt x="1661" y="1015"/>
                  </a:lnTo>
                  <a:lnTo>
                    <a:pt x="1668" y="1029"/>
                  </a:lnTo>
                  <a:lnTo>
                    <a:pt x="1682" y="1036"/>
                  </a:lnTo>
                  <a:lnTo>
                    <a:pt x="1689" y="1050"/>
                  </a:lnTo>
                  <a:lnTo>
                    <a:pt x="1696" y="1057"/>
                  </a:lnTo>
                  <a:lnTo>
                    <a:pt x="1710" y="1071"/>
                  </a:lnTo>
                  <a:lnTo>
                    <a:pt x="1717" y="1078"/>
                  </a:lnTo>
                  <a:lnTo>
                    <a:pt x="1731" y="1092"/>
                  </a:lnTo>
                  <a:lnTo>
                    <a:pt x="1738" y="1099"/>
                  </a:lnTo>
                  <a:lnTo>
                    <a:pt x="1752" y="1113"/>
                  </a:lnTo>
                  <a:lnTo>
                    <a:pt x="1759" y="1120"/>
                  </a:lnTo>
                  <a:lnTo>
                    <a:pt x="1773" y="1127"/>
                  </a:lnTo>
                  <a:lnTo>
                    <a:pt x="1780" y="1141"/>
                  </a:lnTo>
                  <a:lnTo>
                    <a:pt x="1787" y="1148"/>
                  </a:lnTo>
                  <a:lnTo>
                    <a:pt x="1801" y="1155"/>
                  </a:lnTo>
                  <a:lnTo>
                    <a:pt x="1808" y="1169"/>
                  </a:lnTo>
                  <a:lnTo>
                    <a:pt x="1822" y="1176"/>
                  </a:lnTo>
                  <a:lnTo>
                    <a:pt x="1829" y="1183"/>
                  </a:lnTo>
                  <a:lnTo>
                    <a:pt x="1843" y="1197"/>
                  </a:lnTo>
                  <a:lnTo>
                    <a:pt x="1850" y="1204"/>
                  </a:lnTo>
                  <a:lnTo>
                    <a:pt x="1864" y="1211"/>
                  </a:lnTo>
                  <a:lnTo>
                    <a:pt x="1871" y="1218"/>
                  </a:lnTo>
                  <a:lnTo>
                    <a:pt x="1878" y="1232"/>
                  </a:lnTo>
                  <a:lnTo>
                    <a:pt x="1892" y="1239"/>
                  </a:lnTo>
                  <a:lnTo>
                    <a:pt x="1899" y="1246"/>
                  </a:lnTo>
                  <a:lnTo>
                    <a:pt x="1913" y="1253"/>
                  </a:lnTo>
                  <a:lnTo>
                    <a:pt x="1920" y="1267"/>
                  </a:lnTo>
                  <a:lnTo>
                    <a:pt x="1934" y="1274"/>
                  </a:lnTo>
                  <a:lnTo>
                    <a:pt x="1941" y="1281"/>
                  </a:lnTo>
                  <a:lnTo>
                    <a:pt x="1955" y="1288"/>
                  </a:lnTo>
                  <a:lnTo>
                    <a:pt x="1962" y="1302"/>
                  </a:lnTo>
                  <a:lnTo>
                    <a:pt x="1969" y="1309"/>
                  </a:lnTo>
                  <a:lnTo>
                    <a:pt x="1983" y="1316"/>
                  </a:lnTo>
                  <a:lnTo>
                    <a:pt x="1990" y="1323"/>
                  </a:lnTo>
                  <a:lnTo>
                    <a:pt x="2004" y="1330"/>
                  </a:lnTo>
                  <a:lnTo>
                    <a:pt x="2011" y="1337"/>
                  </a:lnTo>
                  <a:lnTo>
                    <a:pt x="2025" y="1344"/>
                  </a:lnTo>
                  <a:lnTo>
                    <a:pt x="2032" y="1358"/>
                  </a:lnTo>
                  <a:lnTo>
                    <a:pt x="2046" y="1365"/>
                  </a:lnTo>
                  <a:lnTo>
                    <a:pt x="2053" y="1372"/>
                  </a:lnTo>
                  <a:lnTo>
                    <a:pt x="2060" y="1379"/>
                  </a:lnTo>
                  <a:lnTo>
                    <a:pt x="2074" y="1386"/>
                  </a:lnTo>
                  <a:lnTo>
                    <a:pt x="2081" y="1393"/>
                  </a:lnTo>
                  <a:lnTo>
                    <a:pt x="2095" y="1400"/>
                  </a:lnTo>
                  <a:lnTo>
                    <a:pt x="2102" y="1407"/>
                  </a:lnTo>
                  <a:lnTo>
                    <a:pt x="2116" y="1414"/>
                  </a:lnTo>
                  <a:lnTo>
                    <a:pt x="2123" y="1428"/>
                  </a:lnTo>
                  <a:lnTo>
                    <a:pt x="2137" y="1435"/>
                  </a:lnTo>
                  <a:lnTo>
                    <a:pt x="2144" y="1442"/>
                  </a:lnTo>
                  <a:lnTo>
                    <a:pt x="2151" y="1449"/>
                  </a:lnTo>
                  <a:lnTo>
                    <a:pt x="2165" y="1456"/>
                  </a:lnTo>
                  <a:lnTo>
                    <a:pt x="2172" y="1463"/>
                  </a:lnTo>
                  <a:lnTo>
                    <a:pt x="2186" y="1470"/>
                  </a:lnTo>
                  <a:lnTo>
                    <a:pt x="2193" y="1477"/>
                  </a:lnTo>
                  <a:lnTo>
                    <a:pt x="2207" y="1484"/>
                  </a:lnTo>
                  <a:lnTo>
                    <a:pt x="2214" y="1491"/>
                  </a:lnTo>
                  <a:lnTo>
                    <a:pt x="2228" y="1498"/>
                  </a:lnTo>
                  <a:lnTo>
                    <a:pt x="2235" y="1505"/>
                  </a:lnTo>
                  <a:lnTo>
                    <a:pt x="2243" y="1512"/>
                  </a:lnTo>
                  <a:lnTo>
                    <a:pt x="2257" y="1519"/>
                  </a:lnTo>
                  <a:lnTo>
                    <a:pt x="2264" y="1526"/>
                  </a:lnTo>
                  <a:lnTo>
                    <a:pt x="2278" y="1533"/>
                  </a:lnTo>
                  <a:lnTo>
                    <a:pt x="2285" y="1540"/>
                  </a:lnTo>
                  <a:lnTo>
                    <a:pt x="2299" y="1547"/>
                  </a:lnTo>
                  <a:lnTo>
                    <a:pt x="2306" y="1554"/>
                  </a:lnTo>
                  <a:lnTo>
                    <a:pt x="2320" y="1561"/>
                  </a:lnTo>
                  <a:lnTo>
                    <a:pt x="2327" y="1568"/>
                  </a:lnTo>
                  <a:lnTo>
                    <a:pt x="2334" y="1575"/>
                  </a:lnTo>
                  <a:lnTo>
                    <a:pt x="2348" y="1582"/>
                  </a:lnTo>
                  <a:lnTo>
                    <a:pt x="2355" y="1589"/>
                  </a:lnTo>
                  <a:lnTo>
                    <a:pt x="2369" y="1589"/>
                  </a:lnTo>
                  <a:lnTo>
                    <a:pt x="2376" y="1596"/>
                  </a:lnTo>
                  <a:lnTo>
                    <a:pt x="2390" y="1603"/>
                  </a:lnTo>
                  <a:lnTo>
                    <a:pt x="2397" y="1610"/>
                  </a:lnTo>
                  <a:lnTo>
                    <a:pt x="2411" y="1617"/>
                  </a:lnTo>
                  <a:lnTo>
                    <a:pt x="2418" y="1624"/>
                  </a:lnTo>
                  <a:lnTo>
                    <a:pt x="2425" y="1631"/>
                  </a:lnTo>
                  <a:lnTo>
                    <a:pt x="2439" y="1638"/>
                  </a:lnTo>
                  <a:lnTo>
                    <a:pt x="2446" y="1645"/>
                  </a:lnTo>
                  <a:lnTo>
                    <a:pt x="2460" y="1652"/>
                  </a:lnTo>
                  <a:lnTo>
                    <a:pt x="2467" y="1659"/>
                  </a:lnTo>
                  <a:lnTo>
                    <a:pt x="2481" y="1659"/>
                  </a:lnTo>
                  <a:lnTo>
                    <a:pt x="2488" y="1666"/>
                  </a:lnTo>
                  <a:lnTo>
                    <a:pt x="2502" y="1673"/>
                  </a:lnTo>
                  <a:lnTo>
                    <a:pt x="2509" y="1680"/>
                  </a:lnTo>
                  <a:lnTo>
                    <a:pt x="2516" y="1687"/>
                  </a:lnTo>
                  <a:lnTo>
                    <a:pt x="2530" y="1694"/>
                  </a:lnTo>
                  <a:lnTo>
                    <a:pt x="2537" y="1701"/>
                  </a:lnTo>
                  <a:lnTo>
                    <a:pt x="2551" y="1708"/>
                  </a:lnTo>
                  <a:lnTo>
                    <a:pt x="2558" y="1708"/>
                  </a:lnTo>
                  <a:lnTo>
                    <a:pt x="2572" y="1715"/>
                  </a:lnTo>
                  <a:lnTo>
                    <a:pt x="2579" y="1722"/>
                  </a:lnTo>
                  <a:lnTo>
                    <a:pt x="2586" y="1729"/>
                  </a:lnTo>
                  <a:lnTo>
                    <a:pt x="2600" y="1736"/>
                  </a:lnTo>
                  <a:lnTo>
                    <a:pt x="2607" y="1743"/>
                  </a:lnTo>
                  <a:lnTo>
                    <a:pt x="2621" y="1743"/>
                  </a:lnTo>
                  <a:lnTo>
                    <a:pt x="2628" y="1750"/>
                  </a:lnTo>
                  <a:lnTo>
                    <a:pt x="2642" y="1757"/>
                  </a:lnTo>
                  <a:lnTo>
                    <a:pt x="2649" y="1764"/>
                  </a:lnTo>
                  <a:lnTo>
                    <a:pt x="2663" y="1771"/>
                  </a:lnTo>
                  <a:lnTo>
                    <a:pt x="2670" y="1771"/>
                  </a:lnTo>
                  <a:lnTo>
                    <a:pt x="2677" y="1778"/>
                  </a:lnTo>
                  <a:lnTo>
                    <a:pt x="2691" y="1785"/>
                  </a:lnTo>
                  <a:lnTo>
                    <a:pt x="2698" y="1792"/>
                  </a:lnTo>
                  <a:lnTo>
                    <a:pt x="2712" y="1799"/>
                  </a:lnTo>
                  <a:lnTo>
                    <a:pt x="2719" y="1799"/>
                  </a:lnTo>
                  <a:lnTo>
                    <a:pt x="2733" y="1806"/>
                  </a:lnTo>
                  <a:lnTo>
                    <a:pt x="2740" y="1813"/>
                  </a:lnTo>
                  <a:lnTo>
                    <a:pt x="2754" y="1820"/>
                  </a:lnTo>
                  <a:lnTo>
                    <a:pt x="2761" y="1827"/>
                  </a:lnTo>
                  <a:lnTo>
                    <a:pt x="2768" y="1827"/>
                  </a:lnTo>
                  <a:lnTo>
                    <a:pt x="2782" y="1834"/>
                  </a:lnTo>
                  <a:lnTo>
                    <a:pt x="2789" y="1841"/>
                  </a:lnTo>
                  <a:lnTo>
                    <a:pt x="2803" y="1848"/>
                  </a:lnTo>
                  <a:lnTo>
                    <a:pt x="2810" y="1848"/>
                  </a:lnTo>
                  <a:lnTo>
                    <a:pt x="2824" y="1855"/>
                  </a:lnTo>
                  <a:lnTo>
                    <a:pt x="2831" y="1862"/>
                  </a:lnTo>
                  <a:lnTo>
                    <a:pt x="2845" y="1869"/>
                  </a:lnTo>
                  <a:lnTo>
                    <a:pt x="2852" y="1869"/>
                  </a:lnTo>
                  <a:lnTo>
                    <a:pt x="2859" y="1876"/>
                  </a:lnTo>
                  <a:lnTo>
                    <a:pt x="2873" y="1883"/>
                  </a:lnTo>
                  <a:lnTo>
                    <a:pt x="2880" y="1890"/>
                  </a:lnTo>
                  <a:lnTo>
                    <a:pt x="2894" y="1890"/>
                  </a:lnTo>
                  <a:lnTo>
                    <a:pt x="2901" y="1897"/>
                  </a:lnTo>
                  <a:lnTo>
                    <a:pt x="2915" y="1904"/>
                  </a:lnTo>
                  <a:lnTo>
                    <a:pt x="2922" y="1911"/>
                  </a:lnTo>
                  <a:lnTo>
                    <a:pt x="2936" y="1911"/>
                  </a:lnTo>
                  <a:lnTo>
                    <a:pt x="2943" y="1918"/>
                  </a:lnTo>
                  <a:lnTo>
                    <a:pt x="2950" y="1925"/>
                  </a:lnTo>
                  <a:lnTo>
                    <a:pt x="2964" y="1932"/>
                  </a:lnTo>
                  <a:lnTo>
                    <a:pt x="2971" y="1932"/>
                  </a:lnTo>
                  <a:lnTo>
                    <a:pt x="2985" y="1939"/>
                  </a:lnTo>
                  <a:lnTo>
                    <a:pt x="2992" y="1946"/>
                  </a:lnTo>
                  <a:lnTo>
                    <a:pt x="3006" y="1946"/>
                  </a:lnTo>
                  <a:lnTo>
                    <a:pt x="3013" y="1953"/>
                  </a:lnTo>
                  <a:lnTo>
                    <a:pt x="3028" y="1960"/>
                  </a:lnTo>
                  <a:lnTo>
                    <a:pt x="3035" y="196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1" name=""/>
            <p:cNvGrpSpPr/>
            <p:nvPr/>
          </p:nvGrpSpPr>
          <p:grpSpPr>
            <a:xfrm>
              <a:off x="6784560" y="4410000"/>
              <a:ext cx="1703880" cy="930240"/>
              <a:chOff x="6784560" y="4410000"/>
              <a:chExt cx="1703880" cy="930240"/>
            </a:xfrm>
          </p:grpSpPr>
          <p:sp>
            <p:nvSpPr>
              <p:cNvPr id="2562" name=""/>
              <p:cNvSpPr/>
              <p:nvPr/>
            </p:nvSpPr>
            <p:spPr>
              <a:xfrm>
                <a:off x="7550280" y="441000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6784560" y="4689360"/>
                <a:ext cx="762120" cy="65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954000" y="2219400"/>
            <a:ext cx="7505640" cy="4544280"/>
            <a:chOff x="954000" y="2219400"/>
            <a:chExt cx="7505640" cy="4544280"/>
          </a:xfrm>
        </p:grpSpPr>
        <p:sp>
          <p:nvSpPr>
            <p:cNvPr id="2565" name=""/>
            <p:cNvSpPr/>
            <p:nvPr/>
          </p:nvSpPr>
          <p:spPr>
            <a:xfrm flipV="1">
              <a:off x="238752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318780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398952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480204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560232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640404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20576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387520" y="630252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387520" y="566892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387520" y="503568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387520" y="441324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387520" y="378000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387520" y="314640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387520" y="251316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387520" y="2513160"/>
              <a:ext cx="4819680" cy="3790800"/>
            </a:xfrm>
            <a:custGeom>
              <a:avLst/>
              <a:gdLst/>
              <a:ahLst/>
              <a:rect l="l" t="t" r="r" b="b"/>
              <a:pathLst>
                <a:path w="3036" h="2388">
                  <a:moveTo>
                    <a:pt x="0" y="2387"/>
                  </a:moveTo>
                  <a:lnTo>
                    <a:pt x="0" y="0"/>
                  </a:lnTo>
                  <a:lnTo>
                    <a:pt x="3035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387520" y="2513160"/>
              <a:ext cx="4819680" cy="3790800"/>
            </a:xfrm>
            <a:custGeom>
              <a:avLst/>
              <a:gdLst/>
              <a:ahLst/>
              <a:rect l="l" t="t" r="r" b="b"/>
              <a:pathLst>
                <a:path w="3036" h="2388">
                  <a:moveTo>
                    <a:pt x="0" y="2387"/>
                  </a:moveTo>
                  <a:lnTo>
                    <a:pt x="0" y="0"/>
                  </a:lnTo>
                  <a:lnTo>
                    <a:pt x="3035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387520" y="2513160"/>
              <a:ext cx="4819680" cy="3790800"/>
            </a:xfrm>
            <a:custGeom>
              <a:avLst/>
              <a:gdLst/>
              <a:ahLst/>
              <a:rect l="l" t="t" r="r" b="b"/>
              <a:pathLst>
                <a:path w="3036" h="2388">
                  <a:moveTo>
                    <a:pt x="0" y="2387"/>
                  </a:moveTo>
                  <a:lnTo>
                    <a:pt x="0" y="0"/>
                  </a:lnTo>
                  <a:lnTo>
                    <a:pt x="3035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387520" y="630252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387520" y="251316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38752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720576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87520" y="25131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205760" y="63025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87520" y="630252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238752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387520" y="6302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238752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38752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318780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18780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398952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98952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480204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80204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560232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60232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640404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0404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720576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205760" y="251316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05" name=""/>
            <p:cNvGrpSpPr/>
            <p:nvPr/>
          </p:nvGrpSpPr>
          <p:grpSpPr>
            <a:xfrm>
              <a:off x="2220120" y="6332400"/>
              <a:ext cx="5143320" cy="397440"/>
              <a:chOff x="2220120" y="6332400"/>
              <a:chExt cx="5143320" cy="397440"/>
            </a:xfrm>
          </p:grpSpPr>
          <p:sp>
            <p:nvSpPr>
              <p:cNvPr id="2606" name=""/>
              <p:cNvSpPr/>
              <p:nvPr/>
            </p:nvSpPr>
            <p:spPr>
              <a:xfrm>
                <a:off x="2220120" y="6332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919960" y="6332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822120" y="6332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533120" y="6332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434920" y="6332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6136200" y="63324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036560" y="6332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2387520" y="63025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7159680" y="630252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387520" y="56689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7159680" y="566892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387520" y="50356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7159680" y="503568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387520" y="44132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7159680" y="441324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387520" y="37800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7159680" y="37800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87520" y="31464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7159680" y="314640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387520" y="25131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H="1">
              <a:off x="7159680" y="2513160"/>
              <a:ext cx="46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1843200" y="2324160"/>
              <a:ext cx="553680" cy="4186800"/>
              <a:chOff x="1843200" y="2324160"/>
              <a:chExt cx="553680" cy="4186800"/>
            </a:xfrm>
          </p:grpSpPr>
          <p:sp>
            <p:nvSpPr>
              <p:cNvPr id="2628" name=""/>
              <p:cNvSpPr/>
              <p:nvPr/>
            </p:nvSpPr>
            <p:spPr>
              <a:xfrm>
                <a:off x="1843200" y="61135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843200" y="5479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843200" y="48466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843200" y="42242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843200" y="35910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843200" y="29574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045520" y="23241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5" name=""/>
            <p:cNvSpPr/>
            <p:nvPr/>
          </p:nvSpPr>
          <p:spPr>
            <a:xfrm>
              <a:off x="2387520" y="6302520"/>
              <a:ext cx="55674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387520" y="2513160"/>
              <a:ext cx="48182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2387520" y="2219400"/>
              <a:ext cx="0" cy="408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7205760" y="2511360"/>
              <a:ext cx="0" cy="378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387520" y="6302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05760" y="251316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1" name=""/>
                <p:cNvSpPr txBox="1"/>
                <p:nvPr/>
              </p:nvSpPr>
              <p:spPr>
                <a:xfrm>
                  <a:off x="954000" y="2281320"/>
                  <a:ext cx="100332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42" name=""/>
            <p:cNvSpPr/>
            <p:nvPr/>
          </p:nvSpPr>
          <p:spPr>
            <a:xfrm>
              <a:off x="7596720" y="630540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3" name=""/>
            <p:cNvGrpSpPr/>
            <p:nvPr/>
          </p:nvGrpSpPr>
          <p:grpSpPr>
            <a:xfrm>
              <a:off x="2387520" y="2513160"/>
              <a:ext cx="6072120" cy="1034280"/>
              <a:chOff x="2387520" y="2513160"/>
              <a:chExt cx="6072120" cy="1034280"/>
            </a:xfrm>
          </p:grpSpPr>
          <p:sp>
            <p:nvSpPr>
              <p:cNvPr id="2644" name=""/>
              <p:cNvSpPr/>
              <p:nvPr/>
            </p:nvSpPr>
            <p:spPr>
              <a:xfrm>
                <a:off x="2387520" y="2513160"/>
                <a:ext cx="4819680" cy="334800"/>
              </a:xfrm>
              <a:custGeom>
                <a:avLst/>
                <a:gdLst/>
                <a:ahLst/>
                <a:rect l="l" t="t" r="r" b="b"/>
                <a:pathLst>
                  <a:path w="3036" h="211">
                    <a:moveTo>
                      <a:pt x="0" y="0"/>
                    </a:moveTo>
                    <a:lnTo>
                      <a:pt x="7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4" y="0"/>
                    </a:lnTo>
                    <a:lnTo>
                      <a:pt x="161" y="0"/>
                    </a:lnTo>
                    <a:lnTo>
                      <a:pt x="175" y="0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3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31" y="0"/>
                    </a:lnTo>
                    <a:lnTo>
                      <a:pt x="245" y="0"/>
                    </a:lnTo>
                    <a:lnTo>
                      <a:pt x="252" y="0"/>
                    </a:lnTo>
                    <a:lnTo>
                      <a:pt x="266" y="0"/>
                    </a:lnTo>
                    <a:lnTo>
                      <a:pt x="273" y="0"/>
                    </a:lnTo>
                    <a:lnTo>
                      <a:pt x="280" y="0"/>
                    </a:lnTo>
                    <a:lnTo>
                      <a:pt x="294" y="7"/>
                    </a:lnTo>
                    <a:lnTo>
                      <a:pt x="301" y="7"/>
                    </a:lnTo>
                    <a:lnTo>
                      <a:pt x="315" y="7"/>
                    </a:lnTo>
                    <a:lnTo>
                      <a:pt x="322" y="7"/>
                    </a:lnTo>
                    <a:lnTo>
                      <a:pt x="336" y="7"/>
                    </a:lnTo>
                    <a:lnTo>
                      <a:pt x="343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406" y="7"/>
                    </a:lnTo>
                    <a:lnTo>
                      <a:pt x="413" y="7"/>
                    </a:lnTo>
                    <a:lnTo>
                      <a:pt x="427" y="7"/>
                    </a:lnTo>
                    <a:lnTo>
                      <a:pt x="434" y="7"/>
                    </a:lnTo>
                    <a:lnTo>
                      <a:pt x="448" y="7"/>
                    </a:lnTo>
                    <a:lnTo>
                      <a:pt x="455" y="7"/>
                    </a:lnTo>
                    <a:lnTo>
                      <a:pt x="462" y="7"/>
                    </a:lnTo>
                    <a:lnTo>
                      <a:pt x="476" y="7"/>
                    </a:lnTo>
                    <a:lnTo>
                      <a:pt x="483" y="7"/>
                    </a:lnTo>
                    <a:lnTo>
                      <a:pt x="497" y="7"/>
                    </a:lnTo>
                    <a:lnTo>
                      <a:pt x="504" y="14"/>
                    </a:lnTo>
                    <a:lnTo>
                      <a:pt x="518" y="14"/>
                    </a:lnTo>
                    <a:lnTo>
                      <a:pt x="525" y="14"/>
                    </a:lnTo>
                    <a:lnTo>
                      <a:pt x="532" y="14"/>
                    </a:lnTo>
                    <a:lnTo>
                      <a:pt x="546" y="14"/>
                    </a:lnTo>
                    <a:lnTo>
                      <a:pt x="553" y="14"/>
                    </a:lnTo>
                    <a:lnTo>
                      <a:pt x="567" y="14"/>
                    </a:lnTo>
                    <a:lnTo>
                      <a:pt x="574" y="14"/>
                    </a:lnTo>
                    <a:lnTo>
                      <a:pt x="588" y="14"/>
                    </a:lnTo>
                    <a:lnTo>
                      <a:pt x="595" y="14"/>
                    </a:lnTo>
                    <a:lnTo>
                      <a:pt x="609" y="14"/>
                    </a:lnTo>
                    <a:lnTo>
                      <a:pt x="616" y="14"/>
                    </a:lnTo>
                    <a:lnTo>
                      <a:pt x="623" y="14"/>
                    </a:lnTo>
                    <a:lnTo>
                      <a:pt x="637" y="14"/>
                    </a:lnTo>
                    <a:lnTo>
                      <a:pt x="644" y="14"/>
                    </a:lnTo>
                    <a:lnTo>
                      <a:pt x="658" y="21"/>
                    </a:lnTo>
                    <a:lnTo>
                      <a:pt x="665" y="21"/>
                    </a:lnTo>
                    <a:lnTo>
                      <a:pt x="680" y="21"/>
                    </a:lnTo>
                    <a:lnTo>
                      <a:pt x="687" y="21"/>
                    </a:lnTo>
                    <a:lnTo>
                      <a:pt x="701" y="21"/>
                    </a:lnTo>
                    <a:lnTo>
                      <a:pt x="708" y="21"/>
                    </a:lnTo>
                    <a:lnTo>
                      <a:pt x="715" y="21"/>
                    </a:lnTo>
                    <a:lnTo>
                      <a:pt x="729" y="21"/>
                    </a:lnTo>
                    <a:lnTo>
                      <a:pt x="736" y="21"/>
                    </a:lnTo>
                    <a:lnTo>
                      <a:pt x="750" y="21"/>
                    </a:lnTo>
                    <a:lnTo>
                      <a:pt x="757" y="21"/>
                    </a:lnTo>
                    <a:lnTo>
                      <a:pt x="771" y="21"/>
                    </a:lnTo>
                    <a:lnTo>
                      <a:pt x="778" y="28"/>
                    </a:lnTo>
                    <a:lnTo>
                      <a:pt x="792" y="28"/>
                    </a:lnTo>
                    <a:lnTo>
                      <a:pt x="799" y="28"/>
                    </a:lnTo>
                    <a:lnTo>
                      <a:pt x="806" y="28"/>
                    </a:lnTo>
                    <a:lnTo>
                      <a:pt x="820" y="28"/>
                    </a:lnTo>
                    <a:lnTo>
                      <a:pt x="827" y="28"/>
                    </a:lnTo>
                    <a:lnTo>
                      <a:pt x="841" y="28"/>
                    </a:lnTo>
                    <a:lnTo>
                      <a:pt x="848" y="28"/>
                    </a:lnTo>
                    <a:lnTo>
                      <a:pt x="862" y="28"/>
                    </a:lnTo>
                    <a:lnTo>
                      <a:pt x="869" y="28"/>
                    </a:lnTo>
                    <a:lnTo>
                      <a:pt x="883" y="28"/>
                    </a:lnTo>
                    <a:lnTo>
                      <a:pt x="890" y="35"/>
                    </a:lnTo>
                    <a:lnTo>
                      <a:pt x="897" y="35"/>
                    </a:lnTo>
                    <a:lnTo>
                      <a:pt x="911" y="35"/>
                    </a:lnTo>
                    <a:lnTo>
                      <a:pt x="918" y="35"/>
                    </a:lnTo>
                    <a:lnTo>
                      <a:pt x="932" y="35"/>
                    </a:lnTo>
                    <a:lnTo>
                      <a:pt x="939" y="35"/>
                    </a:lnTo>
                    <a:lnTo>
                      <a:pt x="953" y="35"/>
                    </a:lnTo>
                    <a:lnTo>
                      <a:pt x="960" y="35"/>
                    </a:lnTo>
                    <a:lnTo>
                      <a:pt x="974" y="35"/>
                    </a:lnTo>
                    <a:lnTo>
                      <a:pt x="981" y="35"/>
                    </a:lnTo>
                    <a:lnTo>
                      <a:pt x="988" y="35"/>
                    </a:lnTo>
                    <a:lnTo>
                      <a:pt x="1002" y="42"/>
                    </a:lnTo>
                    <a:lnTo>
                      <a:pt x="1009" y="42"/>
                    </a:lnTo>
                    <a:lnTo>
                      <a:pt x="1023" y="42"/>
                    </a:lnTo>
                    <a:lnTo>
                      <a:pt x="1030" y="42"/>
                    </a:lnTo>
                    <a:lnTo>
                      <a:pt x="1044" y="42"/>
                    </a:lnTo>
                    <a:lnTo>
                      <a:pt x="1051" y="42"/>
                    </a:lnTo>
                    <a:lnTo>
                      <a:pt x="1065" y="42"/>
                    </a:lnTo>
                    <a:lnTo>
                      <a:pt x="1072" y="42"/>
                    </a:lnTo>
                    <a:lnTo>
                      <a:pt x="1079" y="42"/>
                    </a:lnTo>
                    <a:lnTo>
                      <a:pt x="1093" y="49"/>
                    </a:lnTo>
                    <a:lnTo>
                      <a:pt x="1100" y="49"/>
                    </a:lnTo>
                    <a:lnTo>
                      <a:pt x="1114" y="49"/>
                    </a:lnTo>
                    <a:lnTo>
                      <a:pt x="1121" y="49"/>
                    </a:lnTo>
                    <a:lnTo>
                      <a:pt x="1135" y="49"/>
                    </a:lnTo>
                    <a:lnTo>
                      <a:pt x="1142" y="49"/>
                    </a:lnTo>
                    <a:lnTo>
                      <a:pt x="1156" y="49"/>
                    </a:lnTo>
                    <a:lnTo>
                      <a:pt x="1163" y="49"/>
                    </a:lnTo>
                    <a:lnTo>
                      <a:pt x="1170" y="49"/>
                    </a:lnTo>
                    <a:lnTo>
                      <a:pt x="1184" y="49"/>
                    </a:lnTo>
                    <a:lnTo>
                      <a:pt x="1191" y="56"/>
                    </a:lnTo>
                    <a:lnTo>
                      <a:pt x="1205" y="56"/>
                    </a:lnTo>
                    <a:lnTo>
                      <a:pt x="1212" y="56"/>
                    </a:lnTo>
                    <a:lnTo>
                      <a:pt x="1226" y="56"/>
                    </a:lnTo>
                    <a:lnTo>
                      <a:pt x="1233" y="56"/>
                    </a:lnTo>
                    <a:lnTo>
                      <a:pt x="1247" y="56"/>
                    </a:lnTo>
                    <a:lnTo>
                      <a:pt x="1254" y="56"/>
                    </a:lnTo>
                    <a:lnTo>
                      <a:pt x="1261" y="56"/>
                    </a:lnTo>
                    <a:lnTo>
                      <a:pt x="1275" y="56"/>
                    </a:lnTo>
                    <a:lnTo>
                      <a:pt x="1282" y="63"/>
                    </a:lnTo>
                    <a:lnTo>
                      <a:pt x="1296" y="63"/>
                    </a:lnTo>
                    <a:lnTo>
                      <a:pt x="1303" y="63"/>
                    </a:lnTo>
                    <a:lnTo>
                      <a:pt x="1317" y="63"/>
                    </a:lnTo>
                    <a:lnTo>
                      <a:pt x="1324" y="63"/>
                    </a:lnTo>
                    <a:lnTo>
                      <a:pt x="1338" y="63"/>
                    </a:lnTo>
                    <a:lnTo>
                      <a:pt x="1345" y="63"/>
                    </a:lnTo>
                    <a:lnTo>
                      <a:pt x="1352" y="63"/>
                    </a:lnTo>
                    <a:lnTo>
                      <a:pt x="1366" y="70"/>
                    </a:lnTo>
                    <a:lnTo>
                      <a:pt x="1373" y="70"/>
                    </a:lnTo>
                    <a:lnTo>
                      <a:pt x="1387" y="70"/>
                    </a:lnTo>
                    <a:lnTo>
                      <a:pt x="1394" y="70"/>
                    </a:lnTo>
                    <a:lnTo>
                      <a:pt x="1408" y="70"/>
                    </a:lnTo>
                    <a:lnTo>
                      <a:pt x="1415" y="70"/>
                    </a:lnTo>
                    <a:lnTo>
                      <a:pt x="1429" y="70"/>
                    </a:lnTo>
                    <a:lnTo>
                      <a:pt x="1436" y="70"/>
                    </a:lnTo>
                    <a:lnTo>
                      <a:pt x="1443" y="70"/>
                    </a:lnTo>
                    <a:lnTo>
                      <a:pt x="1458" y="77"/>
                    </a:lnTo>
                    <a:lnTo>
                      <a:pt x="1465" y="77"/>
                    </a:lnTo>
                    <a:lnTo>
                      <a:pt x="1479" y="77"/>
                    </a:lnTo>
                    <a:lnTo>
                      <a:pt x="1486" y="77"/>
                    </a:lnTo>
                    <a:lnTo>
                      <a:pt x="1500" y="77"/>
                    </a:lnTo>
                    <a:lnTo>
                      <a:pt x="1507" y="77"/>
                    </a:lnTo>
                    <a:lnTo>
                      <a:pt x="1521" y="77"/>
                    </a:lnTo>
                    <a:lnTo>
                      <a:pt x="1528" y="77"/>
                    </a:lnTo>
                    <a:lnTo>
                      <a:pt x="1535" y="84"/>
                    </a:lnTo>
                    <a:lnTo>
                      <a:pt x="1549" y="84"/>
                    </a:lnTo>
                    <a:lnTo>
                      <a:pt x="1556" y="84"/>
                    </a:lnTo>
                    <a:lnTo>
                      <a:pt x="1570" y="84"/>
                    </a:lnTo>
                    <a:lnTo>
                      <a:pt x="1577" y="84"/>
                    </a:lnTo>
                    <a:lnTo>
                      <a:pt x="1591" y="84"/>
                    </a:lnTo>
                    <a:lnTo>
                      <a:pt x="1598" y="84"/>
                    </a:lnTo>
                    <a:lnTo>
                      <a:pt x="1605" y="84"/>
                    </a:lnTo>
                    <a:lnTo>
                      <a:pt x="1619" y="91"/>
                    </a:lnTo>
                    <a:lnTo>
                      <a:pt x="1626" y="91"/>
                    </a:lnTo>
                    <a:lnTo>
                      <a:pt x="1640" y="91"/>
                    </a:lnTo>
                    <a:lnTo>
                      <a:pt x="1647" y="91"/>
                    </a:lnTo>
                    <a:lnTo>
                      <a:pt x="1661" y="91"/>
                    </a:lnTo>
                    <a:lnTo>
                      <a:pt x="1668" y="91"/>
                    </a:lnTo>
                    <a:lnTo>
                      <a:pt x="1682" y="91"/>
                    </a:lnTo>
                    <a:lnTo>
                      <a:pt x="1689" y="91"/>
                    </a:lnTo>
                    <a:lnTo>
                      <a:pt x="1696" y="98"/>
                    </a:lnTo>
                    <a:lnTo>
                      <a:pt x="1710" y="98"/>
                    </a:lnTo>
                    <a:lnTo>
                      <a:pt x="1717" y="98"/>
                    </a:lnTo>
                    <a:lnTo>
                      <a:pt x="1731" y="98"/>
                    </a:lnTo>
                    <a:lnTo>
                      <a:pt x="1738" y="98"/>
                    </a:lnTo>
                    <a:lnTo>
                      <a:pt x="1752" y="98"/>
                    </a:lnTo>
                    <a:lnTo>
                      <a:pt x="1759" y="98"/>
                    </a:lnTo>
                    <a:lnTo>
                      <a:pt x="1773" y="98"/>
                    </a:lnTo>
                    <a:lnTo>
                      <a:pt x="1780" y="105"/>
                    </a:lnTo>
                    <a:lnTo>
                      <a:pt x="1787" y="105"/>
                    </a:lnTo>
                    <a:lnTo>
                      <a:pt x="1801" y="105"/>
                    </a:lnTo>
                    <a:lnTo>
                      <a:pt x="1808" y="105"/>
                    </a:lnTo>
                    <a:lnTo>
                      <a:pt x="1822" y="105"/>
                    </a:lnTo>
                    <a:lnTo>
                      <a:pt x="1829" y="105"/>
                    </a:lnTo>
                    <a:lnTo>
                      <a:pt x="1843" y="105"/>
                    </a:lnTo>
                    <a:lnTo>
                      <a:pt x="1850" y="105"/>
                    </a:lnTo>
                    <a:lnTo>
                      <a:pt x="1864" y="112"/>
                    </a:lnTo>
                    <a:lnTo>
                      <a:pt x="1871" y="112"/>
                    </a:lnTo>
                    <a:lnTo>
                      <a:pt x="1878" y="112"/>
                    </a:lnTo>
                    <a:lnTo>
                      <a:pt x="1892" y="112"/>
                    </a:lnTo>
                    <a:lnTo>
                      <a:pt x="1899" y="112"/>
                    </a:lnTo>
                    <a:lnTo>
                      <a:pt x="1913" y="112"/>
                    </a:lnTo>
                    <a:lnTo>
                      <a:pt x="1920" y="112"/>
                    </a:lnTo>
                    <a:lnTo>
                      <a:pt x="1934" y="112"/>
                    </a:lnTo>
                    <a:lnTo>
                      <a:pt x="1941" y="119"/>
                    </a:lnTo>
                    <a:lnTo>
                      <a:pt x="1955" y="119"/>
                    </a:lnTo>
                    <a:lnTo>
                      <a:pt x="1962" y="119"/>
                    </a:lnTo>
                    <a:lnTo>
                      <a:pt x="1969" y="119"/>
                    </a:lnTo>
                    <a:lnTo>
                      <a:pt x="1983" y="119"/>
                    </a:lnTo>
                    <a:lnTo>
                      <a:pt x="1990" y="119"/>
                    </a:lnTo>
                    <a:lnTo>
                      <a:pt x="2004" y="119"/>
                    </a:lnTo>
                    <a:lnTo>
                      <a:pt x="2011" y="119"/>
                    </a:lnTo>
                    <a:lnTo>
                      <a:pt x="2025" y="126"/>
                    </a:lnTo>
                    <a:lnTo>
                      <a:pt x="2032" y="126"/>
                    </a:lnTo>
                    <a:lnTo>
                      <a:pt x="2046" y="126"/>
                    </a:lnTo>
                    <a:lnTo>
                      <a:pt x="2053" y="126"/>
                    </a:lnTo>
                    <a:lnTo>
                      <a:pt x="2060" y="126"/>
                    </a:lnTo>
                    <a:lnTo>
                      <a:pt x="2074" y="126"/>
                    </a:lnTo>
                    <a:lnTo>
                      <a:pt x="2081" y="126"/>
                    </a:lnTo>
                    <a:lnTo>
                      <a:pt x="2095" y="126"/>
                    </a:lnTo>
                    <a:lnTo>
                      <a:pt x="2102" y="133"/>
                    </a:lnTo>
                    <a:lnTo>
                      <a:pt x="2116" y="133"/>
                    </a:lnTo>
                    <a:lnTo>
                      <a:pt x="2123" y="133"/>
                    </a:lnTo>
                    <a:lnTo>
                      <a:pt x="2137" y="133"/>
                    </a:lnTo>
                    <a:lnTo>
                      <a:pt x="2144" y="133"/>
                    </a:lnTo>
                    <a:lnTo>
                      <a:pt x="2151" y="133"/>
                    </a:lnTo>
                    <a:lnTo>
                      <a:pt x="2165" y="133"/>
                    </a:lnTo>
                    <a:lnTo>
                      <a:pt x="2172" y="133"/>
                    </a:lnTo>
                    <a:lnTo>
                      <a:pt x="2186" y="140"/>
                    </a:lnTo>
                    <a:lnTo>
                      <a:pt x="2193" y="140"/>
                    </a:lnTo>
                    <a:lnTo>
                      <a:pt x="2207" y="140"/>
                    </a:lnTo>
                    <a:lnTo>
                      <a:pt x="2214" y="140"/>
                    </a:lnTo>
                    <a:lnTo>
                      <a:pt x="2228" y="140"/>
                    </a:lnTo>
                    <a:lnTo>
                      <a:pt x="2235" y="140"/>
                    </a:lnTo>
                    <a:lnTo>
                      <a:pt x="2243" y="140"/>
                    </a:lnTo>
                    <a:lnTo>
                      <a:pt x="2257" y="140"/>
                    </a:lnTo>
                    <a:lnTo>
                      <a:pt x="2264" y="147"/>
                    </a:lnTo>
                    <a:lnTo>
                      <a:pt x="2278" y="147"/>
                    </a:lnTo>
                    <a:lnTo>
                      <a:pt x="2285" y="147"/>
                    </a:lnTo>
                    <a:lnTo>
                      <a:pt x="2299" y="147"/>
                    </a:lnTo>
                    <a:lnTo>
                      <a:pt x="2306" y="147"/>
                    </a:lnTo>
                    <a:lnTo>
                      <a:pt x="2320" y="147"/>
                    </a:lnTo>
                    <a:lnTo>
                      <a:pt x="2327" y="147"/>
                    </a:lnTo>
                    <a:lnTo>
                      <a:pt x="2334" y="147"/>
                    </a:lnTo>
                    <a:lnTo>
                      <a:pt x="2348" y="154"/>
                    </a:lnTo>
                    <a:lnTo>
                      <a:pt x="2355" y="154"/>
                    </a:lnTo>
                    <a:lnTo>
                      <a:pt x="2369" y="154"/>
                    </a:lnTo>
                    <a:lnTo>
                      <a:pt x="2376" y="154"/>
                    </a:lnTo>
                    <a:lnTo>
                      <a:pt x="2390" y="154"/>
                    </a:lnTo>
                    <a:lnTo>
                      <a:pt x="2397" y="154"/>
                    </a:lnTo>
                    <a:lnTo>
                      <a:pt x="2411" y="154"/>
                    </a:lnTo>
                    <a:lnTo>
                      <a:pt x="2418" y="154"/>
                    </a:lnTo>
                    <a:lnTo>
                      <a:pt x="2425" y="161"/>
                    </a:lnTo>
                    <a:lnTo>
                      <a:pt x="2439" y="161"/>
                    </a:lnTo>
                    <a:lnTo>
                      <a:pt x="2446" y="161"/>
                    </a:lnTo>
                    <a:lnTo>
                      <a:pt x="2460" y="161"/>
                    </a:lnTo>
                    <a:lnTo>
                      <a:pt x="2467" y="161"/>
                    </a:lnTo>
                    <a:lnTo>
                      <a:pt x="2481" y="161"/>
                    </a:lnTo>
                    <a:lnTo>
                      <a:pt x="2488" y="161"/>
                    </a:lnTo>
                    <a:lnTo>
                      <a:pt x="2502" y="161"/>
                    </a:lnTo>
                    <a:lnTo>
                      <a:pt x="2509" y="168"/>
                    </a:lnTo>
                    <a:lnTo>
                      <a:pt x="2516" y="168"/>
                    </a:lnTo>
                    <a:lnTo>
                      <a:pt x="2530" y="168"/>
                    </a:lnTo>
                    <a:lnTo>
                      <a:pt x="2537" y="168"/>
                    </a:lnTo>
                    <a:lnTo>
                      <a:pt x="2551" y="168"/>
                    </a:lnTo>
                    <a:lnTo>
                      <a:pt x="2558" y="168"/>
                    </a:lnTo>
                    <a:lnTo>
                      <a:pt x="2572" y="168"/>
                    </a:lnTo>
                    <a:lnTo>
                      <a:pt x="2579" y="168"/>
                    </a:lnTo>
                    <a:lnTo>
                      <a:pt x="2586" y="168"/>
                    </a:lnTo>
                    <a:lnTo>
                      <a:pt x="2600" y="175"/>
                    </a:lnTo>
                    <a:lnTo>
                      <a:pt x="2607" y="175"/>
                    </a:lnTo>
                    <a:lnTo>
                      <a:pt x="2621" y="175"/>
                    </a:lnTo>
                    <a:lnTo>
                      <a:pt x="2628" y="175"/>
                    </a:lnTo>
                    <a:lnTo>
                      <a:pt x="2642" y="175"/>
                    </a:lnTo>
                    <a:lnTo>
                      <a:pt x="2649" y="175"/>
                    </a:lnTo>
                    <a:lnTo>
                      <a:pt x="2663" y="175"/>
                    </a:lnTo>
                    <a:lnTo>
                      <a:pt x="2670" y="175"/>
                    </a:lnTo>
                    <a:lnTo>
                      <a:pt x="2677" y="182"/>
                    </a:lnTo>
                    <a:lnTo>
                      <a:pt x="2691" y="182"/>
                    </a:lnTo>
                    <a:lnTo>
                      <a:pt x="2698" y="182"/>
                    </a:lnTo>
                    <a:lnTo>
                      <a:pt x="2712" y="182"/>
                    </a:lnTo>
                    <a:lnTo>
                      <a:pt x="2719" y="182"/>
                    </a:lnTo>
                    <a:lnTo>
                      <a:pt x="2733" y="182"/>
                    </a:lnTo>
                    <a:lnTo>
                      <a:pt x="2740" y="182"/>
                    </a:lnTo>
                    <a:lnTo>
                      <a:pt x="2754" y="182"/>
                    </a:lnTo>
                    <a:lnTo>
                      <a:pt x="2761" y="189"/>
                    </a:lnTo>
                    <a:lnTo>
                      <a:pt x="2768" y="189"/>
                    </a:lnTo>
                    <a:lnTo>
                      <a:pt x="2782" y="189"/>
                    </a:lnTo>
                    <a:lnTo>
                      <a:pt x="2789" y="189"/>
                    </a:lnTo>
                    <a:lnTo>
                      <a:pt x="2803" y="189"/>
                    </a:lnTo>
                    <a:lnTo>
                      <a:pt x="2810" y="189"/>
                    </a:lnTo>
                    <a:lnTo>
                      <a:pt x="2824" y="189"/>
                    </a:lnTo>
                    <a:lnTo>
                      <a:pt x="2831" y="189"/>
                    </a:lnTo>
                    <a:lnTo>
                      <a:pt x="2845" y="189"/>
                    </a:lnTo>
                    <a:lnTo>
                      <a:pt x="2852" y="196"/>
                    </a:lnTo>
                    <a:lnTo>
                      <a:pt x="2859" y="196"/>
                    </a:lnTo>
                    <a:lnTo>
                      <a:pt x="2873" y="196"/>
                    </a:lnTo>
                    <a:lnTo>
                      <a:pt x="2880" y="196"/>
                    </a:lnTo>
                    <a:lnTo>
                      <a:pt x="2894" y="196"/>
                    </a:lnTo>
                    <a:lnTo>
                      <a:pt x="2901" y="196"/>
                    </a:lnTo>
                    <a:lnTo>
                      <a:pt x="2915" y="196"/>
                    </a:lnTo>
                    <a:lnTo>
                      <a:pt x="2922" y="196"/>
                    </a:lnTo>
                    <a:lnTo>
                      <a:pt x="2936" y="203"/>
                    </a:lnTo>
                    <a:lnTo>
                      <a:pt x="2943" y="203"/>
                    </a:lnTo>
                    <a:lnTo>
                      <a:pt x="2950" y="203"/>
                    </a:lnTo>
                    <a:lnTo>
                      <a:pt x="2964" y="203"/>
                    </a:lnTo>
                    <a:lnTo>
                      <a:pt x="2971" y="203"/>
                    </a:lnTo>
                    <a:lnTo>
                      <a:pt x="2985" y="203"/>
                    </a:lnTo>
                    <a:lnTo>
                      <a:pt x="2992" y="203"/>
                    </a:lnTo>
                    <a:lnTo>
                      <a:pt x="3006" y="203"/>
                    </a:lnTo>
                    <a:lnTo>
                      <a:pt x="3013" y="203"/>
                    </a:lnTo>
                    <a:lnTo>
                      <a:pt x="3028" y="210"/>
                    </a:lnTo>
                    <a:lnTo>
                      <a:pt x="3035" y="210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5" name=""/>
              <p:cNvGrpSpPr/>
              <p:nvPr/>
            </p:nvGrpSpPr>
            <p:grpSpPr>
              <a:xfrm>
                <a:off x="6908400" y="2879640"/>
                <a:ext cx="1551240" cy="667800"/>
                <a:chOff x="6908400" y="2879640"/>
                <a:chExt cx="1551240" cy="66780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7521480" y="3089160"/>
                  <a:ext cx="93816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N=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 flipV="1">
                  <a:off x="6908400" y="2879640"/>
                  <a:ext cx="609480" cy="488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1A93-F814-4005-AF48-D63C51BD326D}" type="slidenum">
              <a:t>65</a:t>
            </a:fld>
          </a:p>
        </p:txBody>
      </p:sp>
    </p:spTree>
  </p:cSld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 tip I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ručje propuštan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N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,  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344680" y="2506680"/>
            <a:ext cx="4915080" cy="4330800"/>
          </a:xfrm>
          <a:custGeom>
            <a:avLst/>
            <a:gdLst/>
            <a:ahLst/>
            <a:rect l="l" t="t" r="r" b="b"/>
            <a:pathLst>
              <a:path w="3096" h="2728">
                <a:moveTo>
                  <a:pt x="0" y="2391"/>
                </a:moveTo>
                <a:lnTo>
                  <a:pt x="28" y="2391"/>
                </a:lnTo>
                <a:lnTo>
                  <a:pt x="63" y="2391"/>
                </a:lnTo>
                <a:lnTo>
                  <a:pt x="92" y="2384"/>
                </a:lnTo>
                <a:lnTo>
                  <a:pt x="120" y="2377"/>
                </a:lnTo>
                <a:lnTo>
                  <a:pt x="155" y="2370"/>
                </a:lnTo>
                <a:lnTo>
                  <a:pt x="183" y="2363"/>
                </a:lnTo>
                <a:lnTo>
                  <a:pt x="211" y="2348"/>
                </a:lnTo>
                <a:lnTo>
                  <a:pt x="246" y="2334"/>
                </a:lnTo>
                <a:lnTo>
                  <a:pt x="274" y="2320"/>
                </a:lnTo>
                <a:lnTo>
                  <a:pt x="302" y="2306"/>
                </a:lnTo>
                <a:lnTo>
                  <a:pt x="337" y="2285"/>
                </a:lnTo>
                <a:lnTo>
                  <a:pt x="365" y="2271"/>
                </a:lnTo>
                <a:lnTo>
                  <a:pt x="393" y="2250"/>
                </a:lnTo>
                <a:lnTo>
                  <a:pt x="428" y="2222"/>
                </a:lnTo>
                <a:lnTo>
                  <a:pt x="456" y="2201"/>
                </a:lnTo>
                <a:lnTo>
                  <a:pt x="485" y="2173"/>
                </a:lnTo>
                <a:lnTo>
                  <a:pt x="520" y="2145"/>
                </a:lnTo>
                <a:lnTo>
                  <a:pt x="548" y="2117"/>
                </a:lnTo>
                <a:lnTo>
                  <a:pt x="576" y="2089"/>
                </a:lnTo>
                <a:lnTo>
                  <a:pt x="611" y="2054"/>
                </a:lnTo>
                <a:lnTo>
                  <a:pt x="639" y="2026"/>
                </a:lnTo>
                <a:lnTo>
                  <a:pt x="667" y="1991"/>
                </a:lnTo>
                <a:lnTo>
                  <a:pt x="702" y="1956"/>
                </a:lnTo>
                <a:lnTo>
                  <a:pt x="730" y="1914"/>
                </a:lnTo>
                <a:lnTo>
                  <a:pt x="758" y="1879"/>
                </a:lnTo>
                <a:lnTo>
                  <a:pt x="793" y="1837"/>
                </a:lnTo>
                <a:lnTo>
                  <a:pt x="821" y="1795"/>
                </a:lnTo>
                <a:lnTo>
                  <a:pt x="849" y="1753"/>
                </a:lnTo>
                <a:lnTo>
                  <a:pt x="885" y="1711"/>
                </a:lnTo>
                <a:lnTo>
                  <a:pt x="913" y="1669"/>
                </a:lnTo>
                <a:lnTo>
                  <a:pt x="941" y="1619"/>
                </a:lnTo>
                <a:lnTo>
                  <a:pt x="976" y="1577"/>
                </a:lnTo>
                <a:lnTo>
                  <a:pt x="1004" y="1528"/>
                </a:lnTo>
                <a:lnTo>
                  <a:pt x="1032" y="1479"/>
                </a:lnTo>
                <a:lnTo>
                  <a:pt x="1067" y="1430"/>
                </a:lnTo>
                <a:lnTo>
                  <a:pt x="1095" y="1381"/>
                </a:lnTo>
                <a:lnTo>
                  <a:pt x="1123" y="1332"/>
                </a:lnTo>
                <a:lnTo>
                  <a:pt x="1158" y="1276"/>
                </a:lnTo>
                <a:lnTo>
                  <a:pt x="1186" y="1227"/>
                </a:lnTo>
                <a:lnTo>
                  <a:pt x="1214" y="1171"/>
                </a:lnTo>
                <a:lnTo>
                  <a:pt x="1249" y="1122"/>
                </a:lnTo>
                <a:lnTo>
                  <a:pt x="1278" y="1066"/>
                </a:lnTo>
                <a:lnTo>
                  <a:pt x="1306" y="1017"/>
                </a:lnTo>
                <a:lnTo>
                  <a:pt x="1341" y="961"/>
                </a:lnTo>
                <a:lnTo>
                  <a:pt x="1369" y="912"/>
                </a:lnTo>
                <a:lnTo>
                  <a:pt x="1397" y="855"/>
                </a:lnTo>
                <a:lnTo>
                  <a:pt x="1432" y="806"/>
                </a:lnTo>
                <a:lnTo>
                  <a:pt x="1460" y="750"/>
                </a:lnTo>
                <a:lnTo>
                  <a:pt x="1488" y="701"/>
                </a:lnTo>
                <a:lnTo>
                  <a:pt x="1523" y="652"/>
                </a:lnTo>
                <a:lnTo>
                  <a:pt x="1551" y="603"/>
                </a:lnTo>
                <a:lnTo>
                  <a:pt x="1579" y="554"/>
                </a:lnTo>
                <a:lnTo>
                  <a:pt x="1607" y="505"/>
                </a:lnTo>
                <a:lnTo>
                  <a:pt x="1642" y="456"/>
                </a:lnTo>
                <a:lnTo>
                  <a:pt x="1671" y="414"/>
                </a:lnTo>
                <a:lnTo>
                  <a:pt x="1699" y="365"/>
                </a:lnTo>
                <a:lnTo>
                  <a:pt x="1734" y="323"/>
                </a:lnTo>
                <a:lnTo>
                  <a:pt x="1762" y="281"/>
                </a:lnTo>
                <a:lnTo>
                  <a:pt x="1790" y="246"/>
                </a:lnTo>
                <a:lnTo>
                  <a:pt x="1825" y="211"/>
                </a:lnTo>
                <a:lnTo>
                  <a:pt x="1853" y="176"/>
                </a:lnTo>
                <a:lnTo>
                  <a:pt x="1881" y="140"/>
                </a:lnTo>
                <a:lnTo>
                  <a:pt x="1916" y="112"/>
                </a:lnTo>
                <a:lnTo>
                  <a:pt x="1944" y="84"/>
                </a:lnTo>
                <a:lnTo>
                  <a:pt x="1972" y="63"/>
                </a:lnTo>
                <a:lnTo>
                  <a:pt x="2007" y="42"/>
                </a:lnTo>
                <a:lnTo>
                  <a:pt x="2035" y="28"/>
                </a:lnTo>
                <a:lnTo>
                  <a:pt x="2064" y="14"/>
                </a:lnTo>
                <a:lnTo>
                  <a:pt x="2099" y="7"/>
                </a:lnTo>
                <a:lnTo>
                  <a:pt x="2127" y="0"/>
                </a:lnTo>
                <a:lnTo>
                  <a:pt x="2155" y="0"/>
                </a:lnTo>
                <a:lnTo>
                  <a:pt x="2190" y="7"/>
                </a:lnTo>
                <a:lnTo>
                  <a:pt x="2218" y="14"/>
                </a:lnTo>
                <a:lnTo>
                  <a:pt x="2246" y="21"/>
                </a:lnTo>
                <a:lnTo>
                  <a:pt x="2281" y="42"/>
                </a:lnTo>
                <a:lnTo>
                  <a:pt x="2309" y="63"/>
                </a:lnTo>
                <a:lnTo>
                  <a:pt x="2337" y="91"/>
                </a:lnTo>
                <a:lnTo>
                  <a:pt x="2372" y="126"/>
                </a:lnTo>
                <a:lnTo>
                  <a:pt x="2400" y="162"/>
                </a:lnTo>
                <a:lnTo>
                  <a:pt x="2428" y="211"/>
                </a:lnTo>
                <a:lnTo>
                  <a:pt x="2464" y="260"/>
                </a:lnTo>
                <a:lnTo>
                  <a:pt x="2492" y="316"/>
                </a:lnTo>
                <a:lnTo>
                  <a:pt x="2520" y="379"/>
                </a:lnTo>
                <a:lnTo>
                  <a:pt x="2555" y="442"/>
                </a:lnTo>
                <a:lnTo>
                  <a:pt x="2583" y="519"/>
                </a:lnTo>
                <a:lnTo>
                  <a:pt x="2611" y="603"/>
                </a:lnTo>
                <a:lnTo>
                  <a:pt x="2646" y="687"/>
                </a:lnTo>
                <a:lnTo>
                  <a:pt x="2674" y="778"/>
                </a:lnTo>
                <a:lnTo>
                  <a:pt x="2702" y="876"/>
                </a:lnTo>
                <a:lnTo>
                  <a:pt x="2737" y="989"/>
                </a:lnTo>
                <a:lnTo>
                  <a:pt x="2765" y="1101"/>
                </a:lnTo>
                <a:lnTo>
                  <a:pt x="2793" y="1213"/>
                </a:lnTo>
                <a:lnTo>
                  <a:pt x="2828" y="1339"/>
                </a:lnTo>
                <a:lnTo>
                  <a:pt x="2857" y="1472"/>
                </a:lnTo>
                <a:lnTo>
                  <a:pt x="2885" y="1612"/>
                </a:lnTo>
                <a:lnTo>
                  <a:pt x="2920" y="1753"/>
                </a:lnTo>
                <a:lnTo>
                  <a:pt x="2948" y="1907"/>
                </a:lnTo>
                <a:lnTo>
                  <a:pt x="2976" y="2061"/>
                </a:lnTo>
                <a:lnTo>
                  <a:pt x="3011" y="2222"/>
                </a:lnTo>
                <a:lnTo>
                  <a:pt x="3039" y="2391"/>
                </a:lnTo>
                <a:lnTo>
                  <a:pt x="3067" y="2566"/>
                </a:lnTo>
                <a:lnTo>
                  <a:pt x="3095" y="2727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344680" y="2506680"/>
            <a:ext cx="4859280" cy="4330800"/>
          </a:xfrm>
          <a:custGeom>
            <a:avLst/>
            <a:gdLst/>
            <a:ahLst/>
            <a:rect l="l" t="t" r="r" b="b"/>
            <a:pathLst>
              <a:path w="3061" h="2728">
                <a:moveTo>
                  <a:pt x="0" y="0"/>
                </a:moveTo>
                <a:lnTo>
                  <a:pt x="28" y="0"/>
                </a:lnTo>
                <a:lnTo>
                  <a:pt x="63" y="7"/>
                </a:lnTo>
                <a:lnTo>
                  <a:pt x="92" y="21"/>
                </a:lnTo>
                <a:lnTo>
                  <a:pt x="120" y="35"/>
                </a:lnTo>
                <a:lnTo>
                  <a:pt x="155" y="63"/>
                </a:lnTo>
                <a:lnTo>
                  <a:pt x="183" y="84"/>
                </a:lnTo>
                <a:lnTo>
                  <a:pt x="211" y="119"/>
                </a:lnTo>
                <a:lnTo>
                  <a:pt x="246" y="155"/>
                </a:lnTo>
                <a:lnTo>
                  <a:pt x="274" y="190"/>
                </a:lnTo>
                <a:lnTo>
                  <a:pt x="302" y="232"/>
                </a:lnTo>
                <a:lnTo>
                  <a:pt x="337" y="281"/>
                </a:lnTo>
                <a:lnTo>
                  <a:pt x="365" y="330"/>
                </a:lnTo>
                <a:lnTo>
                  <a:pt x="393" y="386"/>
                </a:lnTo>
                <a:lnTo>
                  <a:pt x="428" y="442"/>
                </a:lnTo>
                <a:lnTo>
                  <a:pt x="456" y="498"/>
                </a:lnTo>
                <a:lnTo>
                  <a:pt x="485" y="561"/>
                </a:lnTo>
                <a:lnTo>
                  <a:pt x="520" y="624"/>
                </a:lnTo>
                <a:lnTo>
                  <a:pt x="548" y="694"/>
                </a:lnTo>
                <a:lnTo>
                  <a:pt x="576" y="764"/>
                </a:lnTo>
                <a:lnTo>
                  <a:pt x="611" y="834"/>
                </a:lnTo>
                <a:lnTo>
                  <a:pt x="639" y="905"/>
                </a:lnTo>
                <a:lnTo>
                  <a:pt x="667" y="975"/>
                </a:lnTo>
                <a:lnTo>
                  <a:pt x="702" y="1052"/>
                </a:lnTo>
                <a:lnTo>
                  <a:pt x="730" y="1122"/>
                </a:lnTo>
                <a:lnTo>
                  <a:pt x="758" y="1199"/>
                </a:lnTo>
                <a:lnTo>
                  <a:pt x="793" y="1276"/>
                </a:lnTo>
                <a:lnTo>
                  <a:pt x="821" y="1346"/>
                </a:lnTo>
                <a:lnTo>
                  <a:pt x="849" y="1416"/>
                </a:lnTo>
                <a:lnTo>
                  <a:pt x="885" y="1493"/>
                </a:lnTo>
                <a:lnTo>
                  <a:pt x="913" y="1563"/>
                </a:lnTo>
                <a:lnTo>
                  <a:pt x="941" y="1634"/>
                </a:lnTo>
                <a:lnTo>
                  <a:pt x="976" y="1697"/>
                </a:lnTo>
                <a:lnTo>
                  <a:pt x="1004" y="1767"/>
                </a:lnTo>
                <a:lnTo>
                  <a:pt x="1032" y="1830"/>
                </a:lnTo>
                <a:lnTo>
                  <a:pt x="1067" y="1893"/>
                </a:lnTo>
                <a:lnTo>
                  <a:pt x="1095" y="1949"/>
                </a:lnTo>
                <a:lnTo>
                  <a:pt x="1123" y="2005"/>
                </a:lnTo>
                <a:lnTo>
                  <a:pt x="1158" y="2061"/>
                </a:lnTo>
                <a:lnTo>
                  <a:pt x="1186" y="2110"/>
                </a:lnTo>
                <a:lnTo>
                  <a:pt x="1214" y="2152"/>
                </a:lnTo>
                <a:lnTo>
                  <a:pt x="1249" y="2201"/>
                </a:lnTo>
                <a:lnTo>
                  <a:pt x="1278" y="2236"/>
                </a:lnTo>
                <a:lnTo>
                  <a:pt x="1306" y="2271"/>
                </a:lnTo>
                <a:lnTo>
                  <a:pt x="1341" y="2299"/>
                </a:lnTo>
                <a:lnTo>
                  <a:pt x="1369" y="2327"/>
                </a:lnTo>
                <a:lnTo>
                  <a:pt x="1397" y="2348"/>
                </a:lnTo>
                <a:lnTo>
                  <a:pt x="1432" y="2370"/>
                </a:lnTo>
                <a:lnTo>
                  <a:pt x="1460" y="2384"/>
                </a:lnTo>
                <a:lnTo>
                  <a:pt x="1488" y="2391"/>
                </a:lnTo>
                <a:lnTo>
                  <a:pt x="1523" y="2391"/>
                </a:lnTo>
                <a:lnTo>
                  <a:pt x="1551" y="2391"/>
                </a:lnTo>
                <a:lnTo>
                  <a:pt x="1579" y="2384"/>
                </a:lnTo>
                <a:lnTo>
                  <a:pt x="1607" y="2370"/>
                </a:lnTo>
                <a:lnTo>
                  <a:pt x="1642" y="2348"/>
                </a:lnTo>
                <a:lnTo>
                  <a:pt x="1671" y="2327"/>
                </a:lnTo>
                <a:lnTo>
                  <a:pt x="1699" y="2292"/>
                </a:lnTo>
                <a:lnTo>
                  <a:pt x="1734" y="2257"/>
                </a:lnTo>
                <a:lnTo>
                  <a:pt x="1762" y="2222"/>
                </a:lnTo>
                <a:lnTo>
                  <a:pt x="1790" y="2173"/>
                </a:lnTo>
                <a:lnTo>
                  <a:pt x="1825" y="2124"/>
                </a:lnTo>
                <a:lnTo>
                  <a:pt x="1853" y="2068"/>
                </a:lnTo>
                <a:lnTo>
                  <a:pt x="1881" y="2005"/>
                </a:lnTo>
                <a:lnTo>
                  <a:pt x="1916" y="1935"/>
                </a:lnTo>
                <a:lnTo>
                  <a:pt x="1944" y="1865"/>
                </a:lnTo>
                <a:lnTo>
                  <a:pt x="1972" y="1788"/>
                </a:lnTo>
                <a:lnTo>
                  <a:pt x="2007" y="1704"/>
                </a:lnTo>
                <a:lnTo>
                  <a:pt x="2035" y="1619"/>
                </a:lnTo>
                <a:lnTo>
                  <a:pt x="2064" y="1528"/>
                </a:lnTo>
                <a:lnTo>
                  <a:pt x="2099" y="1430"/>
                </a:lnTo>
                <a:lnTo>
                  <a:pt x="2127" y="1332"/>
                </a:lnTo>
                <a:lnTo>
                  <a:pt x="2155" y="1234"/>
                </a:lnTo>
                <a:lnTo>
                  <a:pt x="2190" y="1129"/>
                </a:lnTo>
                <a:lnTo>
                  <a:pt x="2218" y="1031"/>
                </a:lnTo>
                <a:lnTo>
                  <a:pt x="2246" y="926"/>
                </a:lnTo>
                <a:lnTo>
                  <a:pt x="2281" y="820"/>
                </a:lnTo>
                <a:lnTo>
                  <a:pt x="2309" y="715"/>
                </a:lnTo>
                <a:lnTo>
                  <a:pt x="2337" y="610"/>
                </a:lnTo>
                <a:lnTo>
                  <a:pt x="2372" y="512"/>
                </a:lnTo>
                <a:lnTo>
                  <a:pt x="2400" y="414"/>
                </a:lnTo>
                <a:lnTo>
                  <a:pt x="2428" y="330"/>
                </a:lnTo>
                <a:lnTo>
                  <a:pt x="2464" y="246"/>
                </a:lnTo>
                <a:lnTo>
                  <a:pt x="2492" y="176"/>
                </a:lnTo>
                <a:lnTo>
                  <a:pt x="2520" y="112"/>
                </a:lnTo>
                <a:lnTo>
                  <a:pt x="2555" y="63"/>
                </a:lnTo>
                <a:lnTo>
                  <a:pt x="2583" y="21"/>
                </a:lnTo>
                <a:lnTo>
                  <a:pt x="2611" y="0"/>
                </a:lnTo>
                <a:lnTo>
                  <a:pt x="2646" y="0"/>
                </a:lnTo>
                <a:lnTo>
                  <a:pt x="2674" y="21"/>
                </a:lnTo>
                <a:lnTo>
                  <a:pt x="2702" y="63"/>
                </a:lnTo>
                <a:lnTo>
                  <a:pt x="2737" y="126"/>
                </a:lnTo>
                <a:lnTo>
                  <a:pt x="2765" y="218"/>
                </a:lnTo>
                <a:lnTo>
                  <a:pt x="2793" y="330"/>
                </a:lnTo>
                <a:lnTo>
                  <a:pt x="2828" y="477"/>
                </a:lnTo>
                <a:lnTo>
                  <a:pt x="2857" y="659"/>
                </a:lnTo>
                <a:lnTo>
                  <a:pt x="2885" y="862"/>
                </a:lnTo>
                <a:lnTo>
                  <a:pt x="2920" y="1108"/>
                </a:lnTo>
                <a:lnTo>
                  <a:pt x="2948" y="1381"/>
                </a:lnTo>
                <a:lnTo>
                  <a:pt x="2976" y="1683"/>
                </a:lnTo>
                <a:lnTo>
                  <a:pt x="3011" y="2019"/>
                </a:lnTo>
                <a:lnTo>
                  <a:pt x="3039" y="2391"/>
                </a:lnTo>
                <a:lnTo>
                  <a:pt x="3060" y="2727"/>
                </a:lnTo>
              </a:path>
            </a:pathLst>
          </a:custGeom>
          <a:noFill/>
          <a:ln cap="rnd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2" name=""/>
          <p:cNvGrpSpPr/>
          <p:nvPr/>
        </p:nvGrpSpPr>
        <p:grpSpPr>
          <a:xfrm>
            <a:off x="954000" y="2251080"/>
            <a:ext cx="7534440" cy="4586400"/>
            <a:chOff x="954000" y="2251080"/>
            <a:chExt cx="7534440" cy="4586400"/>
          </a:xfrm>
        </p:grpSpPr>
        <p:sp>
          <p:nvSpPr>
            <p:cNvPr id="2653" name=""/>
            <p:cNvSpPr/>
            <p:nvPr/>
          </p:nvSpPr>
          <p:spPr>
            <a:xfrm flipV="1">
              <a:off x="234468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331488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427212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524196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619920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716904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344680" y="630252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344680" y="554508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344680" y="478800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344680" y="402120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44680" y="326376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344680" y="250668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344680" y="2506680"/>
              <a:ext cx="4826160" cy="3797280"/>
            </a:xfrm>
            <a:custGeom>
              <a:avLst/>
              <a:gdLst/>
              <a:ahLst/>
              <a:rect l="l" t="t" r="r" b="b"/>
              <a:pathLst>
                <a:path w="3040" h="2392">
                  <a:moveTo>
                    <a:pt x="0" y="2391"/>
                  </a:moveTo>
                  <a:lnTo>
                    <a:pt x="0" y="0"/>
                  </a:lnTo>
                  <a:lnTo>
                    <a:pt x="303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344680" y="2506680"/>
              <a:ext cx="4826160" cy="3797280"/>
            </a:xfrm>
            <a:custGeom>
              <a:avLst/>
              <a:gdLst/>
              <a:ahLst/>
              <a:rect l="l" t="t" r="r" b="b"/>
              <a:pathLst>
                <a:path w="3040" h="2392">
                  <a:moveTo>
                    <a:pt x="0" y="2391"/>
                  </a:moveTo>
                  <a:lnTo>
                    <a:pt x="0" y="0"/>
                  </a:lnTo>
                  <a:lnTo>
                    <a:pt x="303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344680" y="2506680"/>
              <a:ext cx="4826160" cy="3797280"/>
            </a:xfrm>
            <a:custGeom>
              <a:avLst/>
              <a:gdLst/>
              <a:ahLst/>
              <a:rect l="l" t="t" r="r" b="b"/>
              <a:pathLst>
                <a:path w="3040" h="2392">
                  <a:moveTo>
                    <a:pt x="0" y="2391"/>
                  </a:moveTo>
                  <a:lnTo>
                    <a:pt x="0" y="0"/>
                  </a:lnTo>
                  <a:lnTo>
                    <a:pt x="303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344680" y="630252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344680" y="250668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234468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716904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344680" y="25066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169040" y="6302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44680" y="630252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234468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344680" y="6302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234468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34468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331488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31488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427212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27212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524196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24196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619920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19920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7169040" y="6257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69040" y="250668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9" name=""/>
            <p:cNvGrpSpPr/>
            <p:nvPr/>
          </p:nvGrpSpPr>
          <p:grpSpPr>
            <a:xfrm>
              <a:off x="2196360" y="6300720"/>
              <a:ext cx="5051160" cy="397440"/>
              <a:chOff x="2196360" y="6300720"/>
              <a:chExt cx="5051160" cy="397440"/>
            </a:xfrm>
          </p:grpSpPr>
          <p:sp>
            <p:nvSpPr>
              <p:cNvPr id="2690" name=""/>
              <p:cNvSpPr/>
              <p:nvPr/>
            </p:nvSpPr>
            <p:spPr>
              <a:xfrm>
                <a:off x="2196360" y="63007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066120" y="63007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023360" y="63007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993200" y="63007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950800" y="63007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920640" y="63007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"/>
            <p:cNvSpPr/>
            <p:nvPr/>
          </p:nvSpPr>
          <p:spPr>
            <a:xfrm>
              <a:off x="2344680" y="63025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7124400" y="63025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344680" y="55450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7124400" y="55450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344680" y="47880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7124400" y="47880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344680" y="40212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7124400" y="40212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344680" y="32637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7124400" y="32637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344680" y="25066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>
              <a:off x="7124400" y="25066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756800" y="2316240"/>
              <a:ext cx="623880" cy="4191480"/>
              <a:chOff x="1756800" y="2316240"/>
              <a:chExt cx="623880" cy="41914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945080" y="61102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756800" y="535464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756800" y="459756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56800" y="382896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756800" y="307332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023200" y="23162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5" name=""/>
            <p:cNvSpPr/>
            <p:nvPr/>
          </p:nvSpPr>
          <p:spPr>
            <a:xfrm>
              <a:off x="2344680" y="6302520"/>
              <a:ext cx="5640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344680" y="2506680"/>
              <a:ext cx="48243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2344680" y="2251080"/>
              <a:ext cx="0" cy="405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7169040" y="2504880"/>
              <a:ext cx="0" cy="379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344680" y="6302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169040" y="25066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1" name=""/>
            <p:cNvGrpSpPr/>
            <p:nvPr/>
          </p:nvGrpSpPr>
          <p:grpSpPr>
            <a:xfrm>
              <a:off x="2344680" y="2506680"/>
              <a:ext cx="6143760" cy="4330800"/>
              <a:chOff x="2344680" y="2506680"/>
              <a:chExt cx="6143760" cy="4330800"/>
            </a:xfrm>
          </p:grpSpPr>
          <p:sp>
            <p:nvSpPr>
              <p:cNvPr id="2722" name=""/>
              <p:cNvSpPr/>
              <p:nvPr/>
            </p:nvSpPr>
            <p:spPr>
              <a:xfrm>
                <a:off x="2344680" y="2506680"/>
                <a:ext cx="5194440" cy="4330800"/>
              </a:xfrm>
              <a:custGeom>
                <a:avLst/>
                <a:gdLst/>
                <a:ahLst/>
                <a:rect l="l" t="t" r="r" b="b"/>
                <a:pathLst>
                  <a:path w="3272" h="2728">
                    <a:moveTo>
                      <a:pt x="0" y="0"/>
                    </a:moveTo>
                    <a:lnTo>
                      <a:pt x="28" y="0"/>
                    </a:lnTo>
                    <a:lnTo>
                      <a:pt x="63" y="0"/>
                    </a:lnTo>
                    <a:lnTo>
                      <a:pt x="92" y="0"/>
                    </a:lnTo>
                    <a:lnTo>
                      <a:pt x="120" y="7"/>
                    </a:lnTo>
                    <a:lnTo>
                      <a:pt x="155" y="7"/>
                    </a:lnTo>
                    <a:lnTo>
                      <a:pt x="183" y="7"/>
                    </a:lnTo>
                    <a:lnTo>
                      <a:pt x="211" y="14"/>
                    </a:lnTo>
                    <a:lnTo>
                      <a:pt x="246" y="14"/>
                    </a:lnTo>
                    <a:lnTo>
                      <a:pt x="274" y="21"/>
                    </a:lnTo>
                    <a:lnTo>
                      <a:pt x="302" y="28"/>
                    </a:lnTo>
                    <a:lnTo>
                      <a:pt x="337" y="35"/>
                    </a:lnTo>
                    <a:lnTo>
                      <a:pt x="365" y="42"/>
                    </a:lnTo>
                    <a:lnTo>
                      <a:pt x="393" y="42"/>
                    </a:lnTo>
                    <a:lnTo>
                      <a:pt x="428" y="49"/>
                    </a:lnTo>
                    <a:lnTo>
                      <a:pt x="456" y="63"/>
                    </a:lnTo>
                    <a:lnTo>
                      <a:pt x="485" y="70"/>
                    </a:lnTo>
                    <a:lnTo>
                      <a:pt x="520" y="77"/>
                    </a:lnTo>
                    <a:lnTo>
                      <a:pt x="548" y="84"/>
                    </a:lnTo>
                    <a:lnTo>
                      <a:pt x="576" y="98"/>
                    </a:lnTo>
                    <a:lnTo>
                      <a:pt x="611" y="105"/>
                    </a:lnTo>
                    <a:lnTo>
                      <a:pt x="639" y="119"/>
                    </a:lnTo>
                    <a:lnTo>
                      <a:pt x="667" y="126"/>
                    </a:lnTo>
                    <a:lnTo>
                      <a:pt x="702" y="140"/>
                    </a:lnTo>
                    <a:lnTo>
                      <a:pt x="730" y="155"/>
                    </a:lnTo>
                    <a:lnTo>
                      <a:pt x="758" y="169"/>
                    </a:lnTo>
                    <a:lnTo>
                      <a:pt x="793" y="183"/>
                    </a:lnTo>
                    <a:lnTo>
                      <a:pt x="821" y="197"/>
                    </a:lnTo>
                    <a:lnTo>
                      <a:pt x="849" y="211"/>
                    </a:lnTo>
                    <a:lnTo>
                      <a:pt x="885" y="225"/>
                    </a:lnTo>
                    <a:lnTo>
                      <a:pt x="913" y="239"/>
                    </a:lnTo>
                    <a:lnTo>
                      <a:pt x="941" y="253"/>
                    </a:lnTo>
                    <a:lnTo>
                      <a:pt x="976" y="274"/>
                    </a:lnTo>
                    <a:lnTo>
                      <a:pt x="1004" y="288"/>
                    </a:lnTo>
                    <a:lnTo>
                      <a:pt x="1032" y="309"/>
                    </a:lnTo>
                    <a:lnTo>
                      <a:pt x="1067" y="323"/>
                    </a:lnTo>
                    <a:lnTo>
                      <a:pt x="1095" y="344"/>
                    </a:lnTo>
                    <a:lnTo>
                      <a:pt x="1123" y="365"/>
                    </a:lnTo>
                    <a:lnTo>
                      <a:pt x="1158" y="379"/>
                    </a:lnTo>
                    <a:lnTo>
                      <a:pt x="1186" y="400"/>
                    </a:lnTo>
                    <a:lnTo>
                      <a:pt x="1214" y="421"/>
                    </a:lnTo>
                    <a:lnTo>
                      <a:pt x="1249" y="442"/>
                    </a:lnTo>
                    <a:lnTo>
                      <a:pt x="1278" y="463"/>
                    </a:lnTo>
                    <a:lnTo>
                      <a:pt x="1306" y="484"/>
                    </a:lnTo>
                    <a:lnTo>
                      <a:pt x="1341" y="505"/>
                    </a:lnTo>
                    <a:lnTo>
                      <a:pt x="1369" y="533"/>
                    </a:lnTo>
                    <a:lnTo>
                      <a:pt x="1397" y="554"/>
                    </a:lnTo>
                    <a:lnTo>
                      <a:pt x="1432" y="575"/>
                    </a:lnTo>
                    <a:lnTo>
                      <a:pt x="1460" y="603"/>
                    </a:lnTo>
                    <a:lnTo>
                      <a:pt x="1488" y="624"/>
                    </a:lnTo>
                    <a:lnTo>
                      <a:pt x="1523" y="652"/>
                    </a:lnTo>
                    <a:lnTo>
                      <a:pt x="1551" y="680"/>
                    </a:lnTo>
                    <a:lnTo>
                      <a:pt x="1579" y="701"/>
                    </a:lnTo>
                    <a:lnTo>
                      <a:pt x="1607" y="729"/>
                    </a:lnTo>
                    <a:lnTo>
                      <a:pt x="1642" y="757"/>
                    </a:lnTo>
                    <a:lnTo>
                      <a:pt x="1671" y="785"/>
                    </a:lnTo>
                    <a:lnTo>
                      <a:pt x="1699" y="813"/>
                    </a:lnTo>
                    <a:lnTo>
                      <a:pt x="1734" y="841"/>
                    </a:lnTo>
                    <a:lnTo>
                      <a:pt x="1762" y="869"/>
                    </a:lnTo>
                    <a:lnTo>
                      <a:pt x="1790" y="898"/>
                    </a:lnTo>
                    <a:lnTo>
                      <a:pt x="1825" y="926"/>
                    </a:lnTo>
                    <a:lnTo>
                      <a:pt x="1853" y="954"/>
                    </a:lnTo>
                    <a:lnTo>
                      <a:pt x="1881" y="989"/>
                    </a:lnTo>
                    <a:lnTo>
                      <a:pt x="1916" y="1017"/>
                    </a:lnTo>
                    <a:lnTo>
                      <a:pt x="1944" y="1045"/>
                    </a:lnTo>
                    <a:lnTo>
                      <a:pt x="1972" y="1080"/>
                    </a:lnTo>
                    <a:lnTo>
                      <a:pt x="2007" y="1108"/>
                    </a:lnTo>
                    <a:lnTo>
                      <a:pt x="2035" y="1143"/>
                    </a:lnTo>
                    <a:lnTo>
                      <a:pt x="2064" y="1171"/>
                    </a:lnTo>
                    <a:lnTo>
                      <a:pt x="2099" y="1206"/>
                    </a:lnTo>
                    <a:lnTo>
                      <a:pt x="2127" y="1241"/>
                    </a:lnTo>
                    <a:lnTo>
                      <a:pt x="2155" y="1276"/>
                    </a:lnTo>
                    <a:lnTo>
                      <a:pt x="2190" y="1311"/>
                    </a:lnTo>
                    <a:lnTo>
                      <a:pt x="2218" y="1339"/>
                    </a:lnTo>
                    <a:lnTo>
                      <a:pt x="2246" y="1374"/>
                    </a:lnTo>
                    <a:lnTo>
                      <a:pt x="2281" y="1409"/>
                    </a:lnTo>
                    <a:lnTo>
                      <a:pt x="2309" y="1444"/>
                    </a:lnTo>
                    <a:lnTo>
                      <a:pt x="2337" y="1486"/>
                    </a:lnTo>
                    <a:lnTo>
                      <a:pt x="2372" y="1521"/>
                    </a:lnTo>
                    <a:lnTo>
                      <a:pt x="2400" y="1556"/>
                    </a:lnTo>
                    <a:lnTo>
                      <a:pt x="2428" y="1591"/>
                    </a:lnTo>
                    <a:lnTo>
                      <a:pt x="2464" y="1627"/>
                    </a:lnTo>
                    <a:lnTo>
                      <a:pt x="2492" y="1669"/>
                    </a:lnTo>
                    <a:lnTo>
                      <a:pt x="2520" y="1704"/>
                    </a:lnTo>
                    <a:lnTo>
                      <a:pt x="2555" y="1739"/>
                    </a:lnTo>
                    <a:lnTo>
                      <a:pt x="2583" y="1781"/>
                    </a:lnTo>
                    <a:lnTo>
                      <a:pt x="2611" y="1816"/>
                    </a:lnTo>
                    <a:lnTo>
                      <a:pt x="2646" y="1858"/>
                    </a:lnTo>
                    <a:lnTo>
                      <a:pt x="2674" y="1900"/>
                    </a:lnTo>
                    <a:lnTo>
                      <a:pt x="2702" y="1935"/>
                    </a:lnTo>
                    <a:lnTo>
                      <a:pt x="2737" y="1977"/>
                    </a:lnTo>
                    <a:lnTo>
                      <a:pt x="2765" y="2019"/>
                    </a:lnTo>
                    <a:lnTo>
                      <a:pt x="2793" y="2054"/>
                    </a:lnTo>
                    <a:lnTo>
                      <a:pt x="2828" y="2096"/>
                    </a:lnTo>
                    <a:lnTo>
                      <a:pt x="2857" y="2138"/>
                    </a:lnTo>
                    <a:lnTo>
                      <a:pt x="2885" y="2180"/>
                    </a:lnTo>
                    <a:lnTo>
                      <a:pt x="2920" y="2222"/>
                    </a:lnTo>
                    <a:lnTo>
                      <a:pt x="2948" y="2264"/>
                    </a:lnTo>
                    <a:lnTo>
                      <a:pt x="2976" y="2306"/>
                    </a:lnTo>
                    <a:lnTo>
                      <a:pt x="3011" y="2348"/>
                    </a:lnTo>
                    <a:lnTo>
                      <a:pt x="3039" y="2391"/>
                    </a:lnTo>
                    <a:lnTo>
                      <a:pt x="3067" y="2433"/>
                    </a:lnTo>
                    <a:lnTo>
                      <a:pt x="3102" y="2475"/>
                    </a:lnTo>
                    <a:lnTo>
                      <a:pt x="3130" y="2517"/>
                    </a:lnTo>
                    <a:lnTo>
                      <a:pt x="3158" y="2566"/>
                    </a:lnTo>
                    <a:lnTo>
                      <a:pt x="3193" y="2608"/>
                    </a:lnTo>
                    <a:lnTo>
                      <a:pt x="3221" y="2650"/>
                    </a:lnTo>
                    <a:lnTo>
                      <a:pt x="3250" y="2692"/>
                    </a:lnTo>
                    <a:lnTo>
                      <a:pt x="3271" y="2727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3" name=""/>
              <p:cNvGrpSpPr/>
              <p:nvPr/>
            </p:nvGrpSpPr>
            <p:grpSpPr>
              <a:xfrm>
                <a:off x="6634080" y="4410000"/>
                <a:ext cx="1854360" cy="1060560"/>
                <a:chOff x="6634080" y="4410000"/>
                <a:chExt cx="1854360" cy="106056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7550280" y="4410000"/>
                  <a:ext cx="93816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N=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>
                  <a:off x="6634080" y="4689360"/>
                  <a:ext cx="912960" cy="7812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726" name=""/>
                <p:cNvSpPr txBox="1"/>
                <p:nvPr/>
              </p:nvSpPr>
              <p:spPr>
                <a:xfrm>
                  <a:off x="954000" y="2281320"/>
                  <a:ext cx="100332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27" name=""/>
            <p:cNvSpPr/>
            <p:nvPr/>
          </p:nvSpPr>
          <p:spPr>
            <a:xfrm>
              <a:off x="7596720" y="630540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2344680" y="2506680"/>
            <a:ext cx="6114960" cy="4330800"/>
            <a:chOff x="2344680" y="2506680"/>
            <a:chExt cx="6114960" cy="4330800"/>
          </a:xfrm>
        </p:grpSpPr>
        <p:sp>
          <p:nvSpPr>
            <p:cNvPr id="2729" name=""/>
            <p:cNvSpPr/>
            <p:nvPr/>
          </p:nvSpPr>
          <p:spPr>
            <a:xfrm>
              <a:off x="2344680" y="2506680"/>
              <a:ext cx="4837320" cy="4330800"/>
            </a:xfrm>
            <a:custGeom>
              <a:avLst/>
              <a:gdLst/>
              <a:ahLst/>
              <a:rect l="l" t="t" r="r" b="b"/>
              <a:pathLst>
                <a:path w="3047" h="2728">
                  <a:moveTo>
                    <a:pt x="0" y="2391"/>
                  </a:moveTo>
                  <a:lnTo>
                    <a:pt x="28" y="2391"/>
                  </a:lnTo>
                  <a:lnTo>
                    <a:pt x="63" y="2377"/>
                  </a:lnTo>
                  <a:lnTo>
                    <a:pt x="92" y="2363"/>
                  </a:lnTo>
                  <a:lnTo>
                    <a:pt x="120" y="2334"/>
                  </a:lnTo>
                  <a:lnTo>
                    <a:pt x="155" y="2306"/>
                  </a:lnTo>
                  <a:lnTo>
                    <a:pt x="183" y="2271"/>
                  </a:lnTo>
                  <a:lnTo>
                    <a:pt x="211" y="2229"/>
                  </a:lnTo>
                  <a:lnTo>
                    <a:pt x="246" y="2173"/>
                  </a:lnTo>
                  <a:lnTo>
                    <a:pt x="274" y="2124"/>
                  </a:lnTo>
                  <a:lnTo>
                    <a:pt x="302" y="2061"/>
                  </a:lnTo>
                  <a:lnTo>
                    <a:pt x="337" y="1991"/>
                  </a:lnTo>
                  <a:lnTo>
                    <a:pt x="365" y="1921"/>
                  </a:lnTo>
                  <a:lnTo>
                    <a:pt x="393" y="1844"/>
                  </a:lnTo>
                  <a:lnTo>
                    <a:pt x="428" y="1767"/>
                  </a:lnTo>
                  <a:lnTo>
                    <a:pt x="456" y="1683"/>
                  </a:lnTo>
                  <a:lnTo>
                    <a:pt x="485" y="1591"/>
                  </a:lnTo>
                  <a:lnTo>
                    <a:pt x="520" y="1500"/>
                  </a:lnTo>
                  <a:lnTo>
                    <a:pt x="548" y="1409"/>
                  </a:lnTo>
                  <a:lnTo>
                    <a:pt x="576" y="1311"/>
                  </a:lnTo>
                  <a:lnTo>
                    <a:pt x="611" y="1213"/>
                  </a:lnTo>
                  <a:lnTo>
                    <a:pt x="639" y="1122"/>
                  </a:lnTo>
                  <a:lnTo>
                    <a:pt x="667" y="1024"/>
                  </a:lnTo>
                  <a:lnTo>
                    <a:pt x="702" y="926"/>
                  </a:lnTo>
                  <a:lnTo>
                    <a:pt x="730" y="827"/>
                  </a:lnTo>
                  <a:lnTo>
                    <a:pt x="758" y="729"/>
                  </a:lnTo>
                  <a:lnTo>
                    <a:pt x="793" y="638"/>
                  </a:lnTo>
                  <a:lnTo>
                    <a:pt x="821" y="554"/>
                  </a:lnTo>
                  <a:lnTo>
                    <a:pt x="849" y="470"/>
                  </a:lnTo>
                  <a:lnTo>
                    <a:pt x="885" y="386"/>
                  </a:lnTo>
                  <a:lnTo>
                    <a:pt x="913" y="316"/>
                  </a:lnTo>
                  <a:lnTo>
                    <a:pt x="941" y="246"/>
                  </a:lnTo>
                  <a:lnTo>
                    <a:pt x="976" y="190"/>
                  </a:lnTo>
                  <a:lnTo>
                    <a:pt x="1004" y="133"/>
                  </a:lnTo>
                  <a:lnTo>
                    <a:pt x="1032" y="91"/>
                  </a:lnTo>
                  <a:lnTo>
                    <a:pt x="1067" y="56"/>
                  </a:lnTo>
                  <a:lnTo>
                    <a:pt x="1095" y="28"/>
                  </a:lnTo>
                  <a:lnTo>
                    <a:pt x="1123" y="7"/>
                  </a:lnTo>
                  <a:lnTo>
                    <a:pt x="1158" y="0"/>
                  </a:lnTo>
                  <a:lnTo>
                    <a:pt x="1186" y="0"/>
                  </a:lnTo>
                  <a:lnTo>
                    <a:pt x="1214" y="14"/>
                  </a:lnTo>
                  <a:lnTo>
                    <a:pt x="1249" y="35"/>
                  </a:lnTo>
                  <a:lnTo>
                    <a:pt x="1278" y="70"/>
                  </a:lnTo>
                  <a:lnTo>
                    <a:pt x="1306" y="112"/>
                  </a:lnTo>
                  <a:lnTo>
                    <a:pt x="1341" y="169"/>
                  </a:lnTo>
                  <a:lnTo>
                    <a:pt x="1369" y="225"/>
                  </a:lnTo>
                  <a:lnTo>
                    <a:pt x="1397" y="295"/>
                  </a:lnTo>
                  <a:lnTo>
                    <a:pt x="1432" y="372"/>
                  </a:lnTo>
                  <a:lnTo>
                    <a:pt x="1460" y="463"/>
                  </a:lnTo>
                  <a:lnTo>
                    <a:pt x="1488" y="554"/>
                  </a:lnTo>
                  <a:lnTo>
                    <a:pt x="1523" y="652"/>
                  </a:lnTo>
                  <a:lnTo>
                    <a:pt x="1551" y="757"/>
                  </a:lnTo>
                  <a:lnTo>
                    <a:pt x="1579" y="862"/>
                  </a:lnTo>
                  <a:lnTo>
                    <a:pt x="1607" y="975"/>
                  </a:lnTo>
                  <a:lnTo>
                    <a:pt x="1642" y="1087"/>
                  </a:lnTo>
                  <a:lnTo>
                    <a:pt x="1671" y="1199"/>
                  </a:lnTo>
                  <a:lnTo>
                    <a:pt x="1699" y="1318"/>
                  </a:lnTo>
                  <a:lnTo>
                    <a:pt x="1734" y="1430"/>
                  </a:lnTo>
                  <a:lnTo>
                    <a:pt x="1762" y="1542"/>
                  </a:lnTo>
                  <a:lnTo>
                    <a:pt x="1790" y="1648"/>
                  </a:lnTo>
                  <a:lnTo>
                    <a:pt x="1825" y="1753"/>
                  </a:lnTo>
                  <a:lnTo>
                    <a:pt x="1853" y="1858"/>
                  </a:lnTo>
                  <a:lnTo>
                    <a:pt x="1881" y="1949"/>
                  </a:lnTo>
                  <a:lnTo>
                    <a:pt x="1916" y="2040"/>
                  </a:lnTo>
                  <a:lnTo>
                    <a:pt x="1944" y="2117"/>
                  </a:lnTo>
                  <a:lnTo>
                    <a:pt x="1972" y="2187"/>
                  </a:lnTo>
                  <a:lnTo>
                    <a:pt x="2007" y="2250"/>
                  </a:lnTo>
                  <a:lnTo>
                    <a:pt x="2035" y="2299"/>
                  </a:lnTo>
                  <a:lnTo>
                    <a:pt x="2064" y="2341"/>
                  </a:lnTo>
                  <a:lnTo>
                    <a:pt x="2099" y="2370"/>
                  </a:lnTo>
                  <a:lnTo>
                    <a:pt x="2127" y="2391"/>
                  </a:lnTo>
                  <a:lnTo>
                    <a:pt x="2155" y="2391"/>
                  </a:lnTo>
                  <a:lnTo>
                    <a:pt x="2190" y="2377"/>
                  </a:lnTo>
                  <a:lnTo>
                    <a:pt x="2218" y="2355"/>
                  </a:lnTo>
                  <a:lnTo>
                    <a:pt x="2246" y="2313"/>
                  </a:lnTo>
                  <a:lnTo>
                    <a:pt x="2281" y="2257"/>
                  </a:lnTo>
                  <a:lnTo>
                    <a:pt x="2309" y="2187"/>
                  </a:lnTo>
                  <a:lnTo>
                    <a:pt x="2337" y="2103"/>
                  </a:lnTo>
                  <a:lnTo>
                    <a:pt x="2372" y="1998"/>
                  </a:lnTo>
                  <a:lnTo>
                    <a:pt x="2400" y="1886"/>
                  </a:lnTo>
                  <a:lnTo>
                    <a:pt x="2428" y="1753"/>
                  </a:lnTo>
                  <a:lnTo>
                    <a:pt x="2464" y="1612"/>
                  </a:lnTo>
                  <a:lnTo>
                    <a:pt x="2492" y="1458"/>
                  </a:lnTo>
                  <a:lnTo>
                    <a:pt x="2520" y="1290"/>
                  </a:lnTo>
                  <a:lnTo>
                    <a:pt x="2555" y="1115"/>
                  </a:lnTo>
                  <a:lnTo>
                    <a:pt x="2583" y="940"/>
                  </a:lnTo>
                  <a:lnTo>
                    <a:pt x="2611" y="757"/>
                  </a:lnTo>
                  <a:lnTo>
                    <a:pt x="2646" y="582"/>
                  </a:lnTo>
                  <a:lnTo>
                    <a:pt x="2674" y="414"/>
                  </a:lnTo>
                  <a:lnTo>
                    <a:pt x="2702" y="267"/>
                  </a:lnTo>
                  <a:lnTo>
                    <a:pt x="2737" y="140"/>
                  </a:lnTo>
                  <a:lnTo>
                    <a:pt x="2765" y="49"/>
                  </a:lnTo>
                  <a:lnTo>
                    <a:pt x="2793" y="7"/>
                  </a:lnTo>
                  <a:lnTo>
                    <a:pt x="2828" y="14"/>
                  </a:lnTo>
                  <a:lnTo>
                    <a:pt x="2857" y="84"/>
                  </a:lnTo>
                  <a:lnTo>
                    <a:pt x="2885" y="232"/>
                  </a:lnTo>
                  <a:lnTo>
                    <a:pt x="2920" y="470"/>
                  </a:lnTo>
                  <a:lnTo>
                    <a:pt x="2948" y="799"/>
                  </a:lnTo>
                  <a:lnTo>
                    <a:pt x="2976" y="1227"/>
                  </a:lnTo>
                  <a:lnTo>
                    <a:pt x="3011" y="1760"/>
                  </a:lnTo>
                  <a:lnTo>
                    <a:pt x="3039" y="2391"/>
                  </a:lnTo>
                  <a:lnTo>
                    <a:pt x="3046" y="272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0" name=""/>
            <p:cNvGrpSpPr/>
            <p:nvPr/>
          </p:nvGrpSpPr>
          <p:grpSpPr>
            <a:xfrm>
              <a:off x="7000560" y="3082680"/>
              <a:ext cx="1459080" cy="464760"/>
              <a:chOff x="7000560" y="3082680"/>
              <a:chExt cx="1459080" cy="464760"/>
            </a:xfrm>
          </p:grpSpPr>
          <p:sp>
            <p:nvSpPr>
              <p:cNvPr id="2731" name=""/>
              <p:cNvSpPr/>
              <p:nvPr/>
            </p:nvSpPr>
            <p:spPr>
              <a:xfrm>
                <a:off x="7521480" y="308916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000560" y="3082680"/>
                <a:ext cx="517320" cy="2854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856D-70B5-4E50-A75D-4D9517CF80E1}" type="slidenum">
              <a:t>66</a:t>
            </a:fld>
          </a:p>
        </p:txBody>
      </p:sp>
    </p:spTree>
  </p:cSld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Svojstva Chebyshevljeve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vojstva filtra sa Chebyshevljevom aproksimacij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1330200" y="2243160"/>
                <a:ext cx="5797800" cy="21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neparan</m:t>
                                    </m:r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e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rad>
                                      </m:den>
                                    </m:f>
                                  </m:e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paran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den>
                          </m:f>
                        </m:e>
                      </m:mr>
                      <m:mr>
                        <m:e>
                          <m:r>
                            <m:t xml:space="preserve">Ω</m:t>
                          </m:r>
                          <m:r>
                            <m:rPr>
                              <m:lit/>
                              <m:nor/>
                            </m:rPr>
                            <m:t xml:space="preserve">=¥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¥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>
            <a:off x="534960" y="4583160"/>
            <a:ext cx="83818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mplitudno/frekv. karakteristika filtra je monotono padajuća porastom frekvencije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d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em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1252440" y="5626080"/>
                <a:ext cx="6378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»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  za 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&gt;&gt;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444F-9919-465D-8F48-7BE79495B695}" type="slidenum">
              <a:t>67</a:t>
            </a:fld>
          </a:p>
        </p:txBody>
      </p:sp>
    </p:spTree>
  </p:cSld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0" fill="hold"/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0" fill="hold"/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oložaj polova Chebyshevlje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09480" y="1676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ovi funkcij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s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-s)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vni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11280" y="21337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nalaze se na elip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646600" y="3144960"/>
            <a:ext cx="924120" cy="2609640"/>
          </a:xfrm>
          <a:custGeom>
            <a:avLst/>
            <a:gdLst/>
            <a:ahLst/>
            <a:rect l="l" t="t" r="r" b="b"/>
            <a:pathLst>
              <a:path w="582" h="1644">
                <a:moveTo>
                  <a:pt x="298" y="0"/>
                </a:moveTo>
                <a:lnTo>
                  <a:pt x="304" y="0"/>
                </a:lnTo>
                <a:lnTo>
                  <a:pt x="311" y="0"/>
                </a:lnTo>
                <a:lnTo>
                  <a:pt x="325" y="0"/>
                </a:lnTo>
                <a:lnTo>
                  <a:pt x="332" y="6"/>
                </a:lnTo>
                <a:lnTo>
                  <a:pt x="339" y="6"/>
                </a:lnTo>
                <a:lnTo>
                  <a:pt x="346" y="13"/>
                </a:lnTo>
                <a:lnTo>
                  <a:pt x="360" y="20"/>
                </a:lnTo>
                <a:lnTo>
                  <a:pt x="367" y="27"/>
                </a:lnTo>
                <a:lnTo>
                  <a:pt x="374" y="34"/>
                </a:lnTo>
                <a:lnTo>
                  <a:pt x="381" y="41"/>
                </a:lnTo>
                <a:lnTo>
                  <a:pt x="395" y="47"/>
                </a:lnTo>
                <a:lnTo>
                  <a:pt x="401" y="61"/>
                </a:lnTo>
                <a:lnTo>
                  <a:pt x="408" y="68"/>
                </a:lnTo>
                <a:lnTo>
                  <a:pt x="415" y="82"/>
                </a:lnTo>
                <a:lnTo>
                  <a:pt x="422" y="95"/>
                </a:lnTo>
                <a:lnTo>
                  <a:pt x="436" y="102"/>
                </a:lnTo>
                <a:lnTo>
                  <a:pt x="443" y="116"/>
                </a:lnTo>
                <a:lnTo>
                  <a:pt x="450" y="129"/>
                </a:lnTo>
                <a:lnTo>
                  <a:pt x="457" y="150"/>
                </a:lnTo>
                <a:lnTo>
                  <a:pt x="464" y="164"/>
                </a:lnTo>
                <a:lnTo>
                  <a:pt x="471" y="176"/>
                </a:lnTo>
                <a:lnTo>
                  <a:pt x="478" y="197"/>
                </a:lnTo>
                <a:lnTo>
                  <a:pt x="485" y="210"/>
                </a:lnTo>
                <a:lnTo>
                  <a:pt x="492" y="231"/>
                </a:lnTo>
                <a:lnTo>
                  <a:pt x="498" y="244"/>
                </a:lnTo>
                <a:lnTo>
                  <a:pt x="505" y="265"/>
                </a:lnTo>
                <a:lnTo>
                  <a:pt x="512" y="285"/>
                </a:lnTo>
                <a:lnTo>
                  <a:pt x="512" y="306"/>
                </a:lnTo>
                <a:lnTo>
                  <a:pt x="519" y="327"/>
                </a:lnTo>
                <a:lnTo>
                  <a:pt x="526" y="347"/>
                </a:lnTo>
                <a:lnTo>
                  <a:pt x="533" y="368"/>
                </a:lnTo>
                <a:lnTo>
                  <a:pt x="533" y="388"/>
                </a:lnTo>
                <a:lnTo>
                  <a:pt x="540" y="415"/>
                </a:lnTo>
                <a:lnTo>
                  <a:pt x="547" y="436"/>
                </a:lnTo>
                <a:lnTo>
                  <a:pt x="547" y="456"/>
                </a:lnTo>
                <a:lnTo>
                  <a:pt x="553" y="484"/>
                </a:lnTo>
                <a:lnTo>
                  <a:pt x="553" y="504"/>
                </a:lnTo>
                <a:lnTo>
                  <a:pt x="560" y="532"/>
                </a:lnTo>
                <a:lnTo>
                  <a:pt x="560" y="552"/>
                </a:lnTo>
                <a:lnTo>
                  <a:pt x="567" y="579"/>
                </a:lnTo>
                <a:lnTo>
                  <a:pt x="567" y="607"/>
                </a:lnTo>
                <a:lnTo>
                  <a:pt x="567" y="627"/>
                </a:lnTo>
                <a:lnTo>
                  <a:pt x="574" y="654"/>
                </a:lnTo>
                <a:lnTo>
                  <a:pt x="574" y="681"/>
                </a:lnTo>
                <a:lnTo>
                  <a:pt x="574" y="701"/>
                </a:lnTo>
                <a:lnTo>
                  <a:pt x="574" y="729"/>
                </a:lnTo>
                <a:lnTo>
                  <a:pt x="574" y="756"/>
                </a:lnTo>
                <a:lnTo>
                  <a:pt x="581" y="783"/>
                </a:lnTo>
                <a:lnTo>
                  <a:pt x="581" y="811"/>
                </a:lnTo>
                <a:lnTo>
                  <a:pt x="581" y="831"/>
                </a:lnTo>
                <a:lnTo>
                  <a:pt x="581" y="859"/>
                </a:lnTo>
                <a:lnTo>
                  <a:pt x="574" y="886"/>
                </a:lnTo>
                <a:lnTo>
                  <a:pt x="574" y="913"/>
                </a:lnTo>
                <a:lnTo>
                  <a:pt x="574" y="941"/>
                </a:lnTo>
                <a:lnTo>
                  <a:pt x="574" y="961"/>
                </a:lnTo>
                <a:lnTo>
                  <a:pt x="574" y="988"/>
                </a:lnTo>
                <a:lnTo>
                  <a:pt x="567" y="1016"/>
                </a:lnTo>
                <a:lnTo>
                  <a:pt x="567" y="1036"/>
                </a:lnTo>
                <a:lnTo>
                  <a:pt x="567" y="1064"/>
                </a:lnTo>
                <a:lnTo>
                  <a:pt x="560" y="1091"/>
                </a:lnTo>
                <a:lnTo>
                  <a:pt x="560" y="1112"/>
                </a:lnTo>
                <a:lnTo>
                  <a:pt x="553" y="1138"/>
                </a:lnTo>
                <a:lnTo>
                  <a:pt x="553" y="1158"/>
                </a:lnTo>
                <a:lnTo>
                  <a:pt x="547" y="1186"/>
                </a:lnTo>
                <a:lnTo>
                  <a:pt x="547" y="1206"/>
                </a:lnTo>
                <a:lnTo>
                  <a:pt x="540" y="1227"/>
                </a:lnTo>
                <a:lnTo>
                  <a:pt x="533" y="1254"/>
                </a:lnTo>
                <a:lnTo>
                  <a:pt x="533" y="1274"/>
                </a:lnTo>
                <a:lnTo>
                  <a:pt x="526" y="1295"/>
                </a:lnTo>
                <a:lnTo>
                  <a:pt x="519" y="1315"/>
                </a:lnTo>
                <a:lnTo>
                  <a:pt x="512" y="1336"/>
                </a:lnTo>
                <a:lnTo>
                  <a:pt x="512" y="1357"/>
                </a:lnTo>
                <a:lnTo>
                  <a:pt x="505" y="1377"/>
                </a:lnTo>
                <a:lnTo>
                  <a:pt x="498" y="1398"/>
                </a:lnTo>
                <a:lnTo>
                  <a:pt x="492" y="1411"/>
                </a:lnTo>
                <a:lnTo>
                  <a:pt x="485" y="1432"/>
                </a:lnTo>
                <a:lnTo>
                  <a:pt x="478" y="1445"/>
                </a:lnTo>
                <a:lnTo>
                  <a:pt x="471" y="1466"/>
                </a:lnTo>
                <a:lnTo>
                  <a:pt x="464" y="1480"/>
                </a:lnTo>
                <a:lnTo>
                  <a:pt x="457" y="1493"/>
                </a:lnTo>
                <a:lnTo>
                  <a:pt x="450" y="1514"/>
                </a:lnTo>
                <a:lnTo>
                  <a:pt x="443" y="1527"/>
                </a:lnTo>
                <a:lnTo>
                  <a:pt x="436" y="1541"/>
                </a:lnTo>
                <a:lnTo>
                  <a:pt x="422" y="1548"/>
                </a:lnTo>
                <a:lnTo>
                  <a:pt x="415" y="1562"/>
                </a:lnTo>
                <a:lnTo>
                  <a:pt x="408" y="1575"/>
                </a:lnTo>
                <a:lnTo>
                  <a:pt x="401" y="1582"/>
                </a:lnTo>
                <a:lnTo>
                  <a:pt x="395" y="1596"/>
                </a:lnTo>
                <a:lnTo>
                  <a:pt x="381" y="1601"/>
                </a:lnTo>
                <a:lnTo>
                  <a:pt x="374" y="1608"/>
                </a:lnTo>
                <a:lnTo>
                  <a:pt x="367" y="1615"/>
                </a:lnTo>
                <a:lnTo>
                  <a:pt x="360" y="1622"/>
                </a:lnTo>
                <a:lnTo>
                  <a:pt x="346" y="1629"/>
                </a:lnTo>
                <a:lnTo>
                  <a:pt x="339" y="1636"/>
                </a:lnTo>
                <a:lnTo>
                  <a:pt x="332" y="1636"/>
                </a:lnTo>
                <a:lnTo>
                  <a:pt x="325" y="1643"/>
                </a:lnTo>
                <a:lnTo>
                  <a:pt x="311" y="1643"/>
                </a:lnTo>
                <a:lnTo>
                  <a:pt x="304" y="1643"/>
                </a:lnTo>
                <a:lnTo>
                  <a:pt x="298" y="1643"/>
                </a:lnTo>
                <a:lnTo>
                  <a:pt x="284" y="1643"/>
                </a:lnTo>
                <a:lnTo>
                  <a:pt x="277" y="1643"/>
                </a:lnTo>
                <a:lnTo>
                  <a:pt x="270" y="1643"/>
                </a:lnTo>
                <a:lnTo>
                  <a:pt x="256" y="1643"/>
                </a:lnTo>
                <a:lnTo>
                  <a:pt x="249" y="1636"/>
                </a:lnTo>
                <a:lnTo>
                  <a:pt x="242" y="1636"/>
                </a:lnTo>
                <a:lnTo>
                  <a:pt x="235" y="1629"/>
                </a:lnTo>
                <a:lnTo>
                  <a:pt x="221" y="1622"/>
                </a:lnTo>
                <a:lnTo>
                  <a:pt x="214" y="1615"/>
                </a:lnTo>
                <a:lnTo>
                  <a:pt x="207" y="1608"/>
                </a:lnTo>
                <a:lnTo>
                  <a:pt x="200" y="1601"/>
                </a:lnTo>
                <a:lnTo>
                  <a:pt x="187" y="1596"/>
                </a:lnTo>
                <a:lnTo>
                  <a:pt x="180" y="1582"/>
                </a:lnTo>
                <a:lnTo>
                  <a:pt x="173" y="1575"/>
                </a:lnTo>
                <a:lnTo>
                  <a:pt x="166" y="1562"/>
                </a:lnTo>
                <a:lnTo>
                  <a:pt x="159" y="1548"/>
                </a:lnTo>
                <a:lnTo>
                  <a:pt x="145" y="1541"/>
                </a:lnTo>
                <a:lnTo>
                  <a:pt x="138" y="1527"/>
                </a:lnTo>
                <a:lnTo>
                  <a:pt x="131" y="1514"/>
                </a:lnTo>
                <a:lnTo>
                  <a:pt x="124" y="1493"/>
                </a:lnTo>
                <a:lnTo>
                  <a:pt x="117" y="1480"/>
                </a:lnTo>
                <a:lnTo>
                  <a:pt x="110" y="1466"/>
                </a:lnTo>
                <a:lnTo>
                  <a:pt x="103" y="1445"/>
                </a:lnTo>
                <a:lnTo>
                  <a:pt x="97" y="1432"/>
                </a:lnTo>
                <a:lnTo>
                  <a:pt x="90" y="1411"/>
                </a:lnTo>
                <a:lnTo>
                  <a:pt x="83" y="1398"/>
                </a:lnTo>
                <a:lnTo>
                  <a:pt x="76" y="1377"/>
                </a:lnTo>
                <a:lnTo>
                  <a:pt x="69" y="1357"/>
                </a:lnTo>
                <a:lnTo>
                  <a:pt x="69" y="1336"/>
                </a:lnTo>
                <a:lnTo>
                  <a:pt x="62" y="1315"/>
                </a:lnTo>
                <a:lnTo>
                  <a:pt x="55" y="1295"/>
                </a:lnTo>
                <a:lnTo>
                  <a:pt x="48" y="1274"/>
                </a:lnTo>
                <a:lnTo>
                  <a:pt x="48" y="1254"/>
                </a:lnTo>
                <a:lnTo>
                  <a:pt x="41" y="1227"/>
                </a:lnTo>
                <a:lnTo>
                  <a:pt x="34" y="1206"/>
                </a:lnTo>
                <a:lnTo>
                  <a:pt x="34" y="1186"/>
                </a:lnTo>
                <a:lnTo>
                  <a:pt x="27" y="1158"/>
                </a:lnTo>
                <a:lnTo>
                  <a:pt x="27" y="1138"/>
                </a:lnTo>
                <a:lnTo>
                  <a:pt x="20" y="1112"/>
                </a:lnTo>
                <a:lnTo>
                  <a:pt x="20" y="1091"/>
                </a:lnTo>
                <a:lnTo>
                  <a:pt x="13" y="1064"/>
                </a:lnTo>
                <a:lnTo>
                  <a:pt x="13" y="1036"/>
                </a:lnTo>
                <a:lnTo>
                  <a:pt x="13" y="1016"/>
                </a:lnTo>
                <a:lnTo>
                  <a:pt x="6" y="988"/>
                </a:lnTo>
                <a:lnTo>
                  <a:pt x="6" y="961"/>
                </a:lnTo>
                <a:lnTo>
                  <a:pt x="6" y="941"/>
                </a:lnTo>
                <a:lnTo>
                  <a:pt x="6" y="913"/>
                </a:lnTo>
                <a:lnTo>
                  <a:pt x="6" y="886"/>
                </a:lnTo>
                <a:lnTo>
                  <a:pt x="0" y="859"/>
                </a:lnTo>
                <a:lnTo>
                  <a:pt x="0" y="831"/>
                </a:lnTo>
                <a:lnTo>
                  <a:pt x="0" y="811"/>
                </a:lnTo>
                <a:lnTo>
                  <a:pt x="0" y="783"/>
                </a:lnTo>
                <a:lnTo>
                  <a:pt x="6" y="756"/>
                </a:lnTo>
                <a:lnTo>
                  <a:pt x="6" y="729"/>
                </a:lnTo>
                <a:lnTo>
                  <a:pt x="6" y="701"/>
                </a:lnTo>
                <a:lnTo>
                  <a:pt x="6" y="681"/>
                </a:lnTo>
                <a:lnTo>
                  <a:pt x="6" y="654"/>
                </a:lnTo>
                <a:lnTo>
                  <a:pt x="13" y="627"/>
                </a:lnTo>
                <a:lnTo>
                  <a:pt x="13" y="607"/>
                </a:lnTo>
                <a:lnTo>
                  <a:pt x="13" y="579"/>
                </a:lnTo>
                <a:lnTo>
                  <a:pt x="20" y="552"/>
                </a:lnTo>
                <a:lnTo>
                  <a:pt x="20" y="532"/>
                </a:lnTo>
                <a:lnTo>
                  <a:pt x="27" y="504"/>
                </a:lnTo>
                <a:lnTo>
                  <a:pt x="27" y="484"/>
                </a:lnTo>
                <a:lnTo>
                  <a:pt x="34" y="456"/>
                </a:lnTo>
                <a:lnTo>
                  <a:pt x="34" y="436"/>
                </a:lnTo>
                <a:lnTo>
                  <a:pt x="41" y="415"/>
                </a:lnTo>
                <a:lnTo>
                  <a:pt x="48" y="388"/>
                </a:lnTo>
                <a:lnTo>
                  <a:pt x="48" y="368"/>
                </a:lnTo>
                <a:lnTo>
                  <a:pt x="55" y="347"/>
                </a:lnTo>
                <a:lnTo>
                  <a:pt x="62" y="327"/>
                </a:lnTo>
                <a:lnTo>
                  <a:pt x="69" y="306"/>
                </a:lnTo>
                <a:lnTo>
                  <a:pt x="69" y="285"/>
                </a:lnTo>
                <a:lnTo>
                  <a:pt x="76" y="265"/>
                </a:lnTo>
                <a:lnTo>
                  <a:pt x="83" y="244"/>
                </a:lnTo>
                <a:lnTo>
                  <a:pt x="90" y="231"/>
                </a:lnTo>
                <a:lnTo>
                  <a:pt x="97" y="210"/>
                </a:lnTo>
                <a:lnTo>
                  <a:pt x="103" y="197"/>
                </a:lnTo>
                <a:lnTo>
                  <a:pt x="110" y="176"/>
                </a:lnTo>
                <a:lnTo>
                  <a:pt x="117" y="164"/>
                </a:lnTo>
                <a:lnTo>
                  <a:pt x="124" y="150"/>
                </a:lnTo>
                <a:lnTo>
                  <a:pt x="131" y="129"/>
                </a:lnTo>
                <a:lnTo>
                  <a:pt x="138" y="116"/>
                </a:lnTo>
                <a:lnTo>
                  <a:pt x="145" y="102"/>
                </a:lnTo>
                <a:lnTo>
                  <a:pt x="159" y="95"/>
                </a:lnTo>
                <a:lnTo>
                  <a:pt x="166" y="82"/>
                </a:lnTo>
                <a:lnTo>
                  <a:pt x="173" y="68"/>
                </a:lnTo>
                <a:lnTo>
                  <a:pt x="180" y="61"/>
                </a:lnTo>
                <a:lnTo>
                  <a:pt x="187" y="47"/>
                </a:lnTo>
                <a:lnTo>
                  <a:pt x="200" y="41"/>
                </a:lnTo>
                <a:lnTo>
                  <a:pt x="207" y="34"/>
                </a:lnTo>
                <a:lnTo>
                  <a:pt x="214" y="27"/>
                </a:lnTo>
                <a:lnTo>
                  <a:pt x="221" y="20"/>
                </a:lnTo>
                <a:lnTo>
                  <a:pt x="235" y="13"/>
                </a:lnTo>
                <a:lnTo>
                  <a:pt x="242" y="6"/>
                </a:lnTo>
                <a:lnTo>
                  <a:pt x="249" y="6"/>
                </a:lnTo>
                <a:lnTo>
                  <a:pt x="256" y="0"/>
                </a:lnTo>
                <a:lnTo>
                  <a:pt x="270" y="0"/>
                </a:lnTo>
                <a:lnTo>
                  <a:pt x="277" y="0"/>
                </a:lnTo>
                <a:lnTo>
                  <a:pt x="284" y="0"/>
                </a:lnTo>
              </a:path>
            </a:pathLst>
          </a:custGeom>
          <a:noFill/>
          <a:ln cap="rnd" w="12600">
            <a:solidFill>
              <a:srgbClr val="00cccc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1230480" y="2735280"/>
                <a:ext cx="2909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43" name=""/>
          <p:cNvGrpSpPr/>
          <p:nvPr/>
        </p:nvGrpSpPr>
        <p:grpSpPr>
          <a:xfrm>
            <a:off x="6110280" y="2976480"/>
            <a:ext cx="1785240" cy="1648080"/>
            <a:chOff x="6110280" y="2976480"/>
            <a:chExt cx="1785240" cy="1648080"/>
          </a:xfrm>
        </p:grpSpPr>
        <p:sp>
          <p:nvSpPr>
            <p:cNvPr id="2744" name=""/>
            <p:cNvSpPr/>
            <p:nvPr/>
          </p:nvSpPr>
          <p:spPr>
            <a:xfrm>
              <a:off x="6110280" y="3143160"/>
              <a:ext cx="15955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7562880" y="2976480"/>
              <a:ext cx="0" cy="1648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62880" y="2981160"/>
              <a:ext cx="0" cy="162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7562880" y="4451400"/>
              <a:ext cx="0" cy="156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68640" y="3579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1228680" y="3421080"/>
                <a:ext cx="2894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50" name=""/>
          <p:cNvGrpSpPr/>
          <p:nvPr/>
        </p:nvGrpSpPr>
        <p:grpSpPr>
          <a:xfrm>
            <a:off x="5943600" y="4452840"/>
            <a:ext cx="762120" cy="2124720"/>
            <a:chOff x="5943600" y="4452840"/>
            <a:chExt cx="762120" cy="2124720"/>
          </a:xfrm>
        </p:grpSpPr>
        <p:sp>
          <p:nvSpPr>
            <p:cNvPr id="2751" name=""/>
            <p:cNvSpPr/>
            <p:nvPr/>
          </p:nvSpPr>
          <p:spPr>
            <a:xfrm>
              <a:off x="5943600" y="6172200"/>
              <a:ext cx="76212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567480" y="4452840"/>
              <a:ext cx="0" cy="187164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943600" y="6172200"/>
              <a:ext cx="1652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67480" y="6172200"/>
              <a:ext cx="1382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187320" y="6180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6" name=""/>
          <p:cNvSpPr/>
          <p:nvPr/>
        </p:nvSpPr>
        <p:spPr>
          <a:xfrm>
            <a:off x="611280" y="4189320"/>
            <a:ext cx="3503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lovi u lijevoj poluravnini pripadaju prijenosnoj funkciji filtra 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( 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7" name=""/>
          <p:cNvGrpSpPr/>
          <p:nvPr/>
        </p:nvGrpSpPr>
        <p:grpSpPr>
          <a:xfrm>
            <a:off x="4230720" y="2595600"/>
            <a:ext cx="4348080" cy="3701880"/>
            <a:chOff x="4230720" y="2595600"/>
            <a:chExt cx="4348080" cy="3701880"/>
          </a:xfrm>
        </p:grpSpPr>
        <p:grpSp>
          <p:nvGrpSpPr>
            <p:cNvPr id="2758" name=""/>
            <p:cNvGrpSpPr/>
            <p:nvPr/>
          </p:nvGrpSpPr>
          <p:grpSpPr>
            <a:xfrm>
              <a:off x="4230720" y="2595600"/>
              <a:ext cx="3849480" cy="3701880"/>
              <a:chOff x="4230720" y="2595600"/>
              <a:chExt cx="3849480" cy="3701880"/>
            </a:xfrm>
          </p:grpSpPr>
          <p:sp>
            <p:nvSpPr>
              <p:cNvPr id="2759" name=""/>
              <p:cNvSpPr/>
              <p:nvPr/>
            </p:nvSpPr>
            <p:spPr>
              <a:xfrm>
                <a:off x="4230720" y="4454640"/>
                <a:ext cx="37526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230720" y="4454640"/>
                <a:ext cx="37526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230720" y="4454640"/>
                <a:ext cx="37526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V="1">
                <a:off x="4856040" y="442224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5481720" y="442224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6107040" y="442224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6732720" y="442224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V="1">
                <a:off x="7359480" y="442224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634280" y="449280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93880" y="44928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741080" y="4492800"/>
                <a:ext cx="339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H="1">
                <a:off x="7951680" y="4454640"/>
                <a:ext cx="31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230720" y="4454640"/>
                <a:ext cx="37526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V="1">
                <a:off x="6108840" y="2604600"/>
                <a:ext cx="0" cy="369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V="1">
                <a:off x="6108840" y="2604600"/>
                <a:ext cx="0" cy="369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V="1">
                <a:off x="6108840" y="2604600"/>
                <a:ext cx="0" cy="369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6108840" y="6265800"/>
                <a:ext cx="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108840" y="2604960"/>
                <a:ext cx="0" cy="32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108840" y="5681520"/>
                <a:ext cx="33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08840" y="5062680"/>
                <a:ext cx="33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08840" y="4456080"/>
                <a:ext cx="33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108840" y="3838680"/>
                <a:ext cx="33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108840" y="3220920"/>
                <a:ext cx="331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50480" y="550080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182640" y="439416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582520" y="30416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311880" y="2595600"/>
                <a:ext cx="436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ffff00"/>
                    </a:solidFill>
                    <a:latin typeface="Arial"/>
                  </a:rPr>
                  <a:t>j</a:t>
                </a:r>
                <a:r>
                  <a:rPr b="0" lang="hr-HR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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89600" y="5614920"/>
                <a:ext cx="87480" cy="842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08840" y="4454640"/>
                <a:ext cx="231480" cy="1581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08840" y="4454640"/>
                <a:ext cx="1031760" cy="1225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6108840" y="3219120"/>
                <a:ext cx="1031760" cy="1235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6108840" y="2860200"/>
                <a:ext cx="231480" cy="159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5876640" y="2860200"/>
                <a:ext cx="230040" cy="1592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H="1" flipV="1">
                <a:off x="5076360" y="3219120"/>
                <a:ext cx="1032120" cy="123516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H="1">
                <a:off x="5076360" y="4454640"/>
                <a:ext cx="1032120" cy="1225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H="1">
                <a:off x="5878440" y="4454640"/>
                <a:ext cx="230400" cy="1581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240600" y="3198960"/>
                <a:ext cx="8892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H="1">
                <a:off x="6240240" y="3198960"/>
                <a:ext cx="8892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483240" y="3902040"/>
                <a:ext cx="8568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>
                <a:off x="6483240" y="3902040"/>
                <a:ext cx="8568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483240" y="4910040"/>
                <a:ext cx="8568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>
                <a:off x="6483240" y="4910040"/>
                <a:ext cx="8568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40600" y="5614920"/>
                <a:ext cx="88920" cy="842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>
                <a:off x="6240240" y="5614920"/>
                <a:ext cx="88920" cy="842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5889240" y="5614920"/>
                <a:ext cx="87480" cy="8424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646600" y="4910040"/>
                <a:ext cx="8892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H="1">
                <a:off x="5646240" y="4910040"/>
                <a:ext cx="8892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646600" y="3902040"/>
                <a:ext cx="8892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H="1">
                <a:off x="5646240" y="3902040"/>
                <a:ext cx="88920" cy="874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889600" y="3198960"/>
                <a:ext cx="8748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>
                <a:off x="5889240" y="3198960"/>
                <a:ext cx="87480" cy="8568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10" name=""/>
            <p:cNvSpPr/>
            <p:nvPr/>
          </p:nvSpPr>
          <p:spPr>
            <a:xfrm>
              <a:off x="7359480" y="4997520"/>
              <a:ext cx="1219320" cy="8240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=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=0.50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F82E-3443-4A27-B86B-7BF7DD8F13F2}" type="slidenum">
              <a:t>68</a:t>
            </a:fld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2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"/>
                            </p:stCondLst>
                            <p:childTnLst>
                              <p:par>
                                <p:cTn id="1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jenosna funkcija Chebyshevlje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arametri polova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0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bivaju se uparivanjem konjugirano kompleksnih parova ka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3" name=""/>
              <p:cNvSpPr txBox="1"/>
              <p:nvPr/>
            </p:nvSpPr>
            <p:spPr>
              <a:xfrm>
                <a:off x="752400" y="2557440"/>
                <a:ext cx="466416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p</m:t>
                                </m:r>
                              </m:e>
                            </m:d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den>
                                        </m:f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p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4" name=""/>
              <p:cNvSpPr txBox="1"/>
              <p:nvPr/>
            </p:nvSpPr>
            <p:spPr>
              <a:xfrm>
                <a:off x="4729320" y="4792680"/>
                <a:ext cx="4270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N para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N 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15" name=""/>
          <p:cNvSpPr/>
          <p:nvPr/>
        </p:nvSpPr>
        <p:spPr>
          <a:xfrm>
            <a:off x="61128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dje j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izraz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6" name=""/>
              <p:cNvSpPr txBox="1"/>
              <p:nvPr/>
            </p:nvSpPr>
            <p:spPr>
              <a:xfrm>
                <a:off x="2022480" y="5981760"/>
                <a:ext cx="5303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s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ADDF-849A-4254-9B06-6B6653C9D59A}" type="slidenum">
              <a:t>69</a:t>
            </a:fld>
          </a:p>
        </p:txBody>
      </p:sp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3" dur="2000"/>
                                        <p:tgtEl>
                                          <p:spTgt spid="2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84" dur="2000"/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6765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 linearni i vremenski nepromjenjiv sistem odnos između ulaza i izlaza sistema definiran je konvolucijskim integral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58960" y="2949480"/>
                <a:ext cx="3311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11280" y="38862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gdje su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ulsni odz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stem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la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tica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b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(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la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li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z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4CCA-AFB8-42C4-B42F-2D7FAA585027}" type="slidenum">
              <a:t>7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Prijenosna funkcija Chebyshevljevog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jer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,  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d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0.509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9" name=""/>
          <p:cNvGraphicFramePr/>
          <p:nvPr/>
        </p:nvGraphicFramePr>
        <p:xfrm>
          <a:off x="409680" y="2590920"/>
          <a:ext cx="8745480" cy="19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2590920"/>
                    <a:ext cx="874548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6711-63CD-46DA-85A8-C599E5DF06AF}" type="slidenum">
              <a:t>70</a:t>
            </a:fld>
          </a:p>
        </p:txBody>
      </p:sp>
    </p:spTree>
  </p:cSld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 tip I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,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alovitost u pod. prop.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dB, 2dB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3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4280" y="2598840"/>
            <a:ext cx="4746600" cy="3295440"/>
          </a:xfrm>
          <a:custGeom>
            <a:avLst/>
            <a:gdLst/>
            <a:ahLst/>
            <a:rect l="l" t="t" r="r" b="b"/>
            <a:pathLst>
              <a:path w="2990" h="2076">
                <a:moveTo>
                  <a:pt x="0" y="76"/>
                </a:moveTo>
                <a:lnTo>
                  <a:pt x="7" y="76"/>
                </a:lnTo>
                <a:lnTo>
                  <a:pt x="21" y="76"/>
                </a:lnTo>
                <a:lnTo>
                  <a:pt x="28" y="76"/>
                </a:lnTo>
                <a:lnTo>
                  <a:pt x="41" y="76"/>
                </a:lnTo>
                <a:lnTo>
                  <a:pt x="48" y="76"/>
                </a:lnTo>
                <a:lnTo>
                  <a:pt x="62" y="76"/>
                </a:lnTo>
                <a:lnTo>
                  <a:pt x="69" y="76"/>
                </a:lnTo>
                <a:lnTo>
                  <a:pt x="83" y="69"/>
                </a:lnTo>
                <a:lnTo>
                  <a:pt x="90" y="69"/>
                </a:lnTo>
                <a:lnTo>
                  <a:pt x="97" y="69"/>
                </a:lnTo>
                <a:lnTo>
                  <a:pt x="111" y="69"/>
                </a:lnTo>
                <a:lnTo>
                  <a:pt x="117" y="62"/>
                </a:lnTo>
                <a:lnTo>
                  <a:pt x="131" y="62"/>
                </a:lnTo>
                <a:lnTo>
                  <a:pt x="138" y="62"/>
                </a:lnTo>
                <a:lnTo>
                  <a:pt x="152" y="55"/>
                </a:lnTo>
                <a:lnTo>
                  <a:pt x="159" y="55"/>
                </a:lnTo>
                <a:lnTo>
                  <a:pt x="173" y="48"/>
                </a:lnTo>
                <a:lnTo>
                  <a:pt x="180" y="48"/>
                </a:lnTo>
                <a:lnTo>
                  <a:pt x="186" y="48"/>
                </a:lnTo>
                <a:lnTo>
                  <a:pt x="200" y="41"/>
                </a:lnTo>
                <a:lnTo>
                  <a:pt x="207" y="41"/>
                </a:lnTo>
                <a:lnTo>
                  <a:pt x="221" y="34"/>
                </a:lnTo>
                <a:lnTo>
                  <a:pt x="228" y="34"/>
                </a:lnTo>
                <a:lnTo>
                  <a:pt x="242" y="27"/>
                </a:lnTo>
                <a:lnTo>
                  <a:pt x="249" y="27"/>
                </a:lnTo>
                <a:lnTo>
                  <a:pt x="262" y="20"/>
                </a:lnTo>
                <a:lnTo>
                  <a:pt x="269" y="20"/>
                </a:lnTo>
                <a:lnTo>
                  <a:pt x="276" y="14"/>
                </a:lnTo>
                <a:lnTo>
                  <a:pt x="290" y="14"/>
                </a:lnTo>
                <a:lnTo>
                  <a:pt x="297" y="14"/>
                </a:lnTo>
                <a:lnTo>
                  <a:pt x="311" y="7"/>
                </a:lnTo>
                <a:lnTo>
                  <a:pt x="318" y="7"/>
                </a:lnTo>
                <a:lnTo>
                  <a:pt x="331" y="7"/>
                </a:lnTo>
                <a:lnTo>
                  <a:pt x="338" y="0"/>
                </a:lnTo>
                <a:lnTo>
                  <a:pt x="352" y="0"/>
                </a:lnTo>
                <a:lnTo>
                  <a:pt x="359" y="0"/>
                </a:lnTo>
                <a:lnTo>
                  <a:pt x="366" y="0"/>
                </a:lnTo>
                <a:lnTo>
                  <a:pt x="380" y="0"/>
                </a:lnTo>
                <a:lnTo>
                  <a:pt x="387" y="0"/>
                </a:lnTo>
                <a:lnTo>
                  <a:pt x="400" y="0"/>
                </a:lnTo>
                <a:lnTo>
                  <a:pt x="407" y="0"/>
                </a:lnTo>
                <a:lnTo>
                  <a:pt x="421" y="0"/>
                </a:lnTo>
                <a:lnTo>
                  <a:pt x="428" y="7"/>
                </a:lnTo>
                <a:lnTo>
                  <a:pt x="442" y="7"/>
                </a:lnTo>
                <a:lnTo>
                  <a:pt x="449" y="7"/>
                </a:lnTo>
                <a:lnTo>
                  <a:pt x="456" y="14"/>
                </a:lnTo>
                <a:lnTo>
                  <a:pt x="470" y="14"/>
                </a:lnTo>
                <a:lnTo>
                  <a:pt x="476" y="14"/>
                </a:lnTo>
                <a:lnTo>
                  <a:pt x="490" y="20"/>
                </a:lnTo>
                <a:lnTo>
                  <a:pt x="497" y="20"/>
                </a:lnTo>
                <a:lnTo>
                  <a:pt x="511" y="27"/>
                </a:lnTo>
                <a:lnTo>
                  <a:pt x="518" y="27"/>
                </a:lnTo>
                <a:lnTo>
                  <a:pt x="525" y="34"/>
                </a:lnTo>
                <a:lnTo>
                  <a:pt x="539" y="34"/>
                </a:lnTo>
                <a:lnTo>
                  <a:pt x="545" y="41"/>
                </a:lnTo>
                <a:lnTo>
                  <a:pt x="559" y="48"/>
                </a:lnTo>
                <a:lnTo>
                  <a:pt x="566" y="48"/>
                </a:lnTo>
                <a:lnTo>
                  <a:pt x="580" y="55"/>
                </a:lnTo>
                <a:lnTo>
                  <a:pt x="587" y="55"/>
                </a:lnTo>
                <a:lnTo>
                  <a:pt x="601" y="62"/>
                </a:lnTo>
                <a:lnTo>
                  <a:pt x="608" y="62"/>
                </a:lnTo>
                <a:lnTo>
                  <a:pt x="614" y="62"/>
                </a:lnTo>
                <a:lnTo>
                  <a:pt x="628" y="69"/>
                </a:lnTo>
                <a:lnTo>
                  <a:pt x="635" y="69"/>
                </a:lnTo>
                <a:lnTo>
                  <a:pt x="649" y="69"/>
                </a:lnTo>
                <a:lnTo>
                  <a:pt x="656" y="76"/>
                </a:lnTo>
                <a:lnTo>
                  <a:pt x="670" y="76"/>
                </a:lnTo>
                <a:lnTo>
                  <a:pt x="677" y="76"/>
                </a:lnTo>
                <a:lnTo>
                  <a:pt x="690" y="76"/>
                </a:lnTo>
                <a:lnTo>
                  <a:pt x="697" y="76"/>
                </a:lnTo>
                <a:lnTo>
                  <a:pt x="704" y="76"/>
                </a:lnTo>
                <a:lnTo>
                  <a:pt x="718" y="76"/>
                </a:lnTo>
                <a:lnTo>
                  <a:pt x="725" y="76"/>
                </a:lnTo>
                <a:lnTo>
                  <a:pt x="739" y="76"/>
                </a:lnTo>
                <a:lnTo>
                  <a:pt x="746" y="76"/>
                </a:lnTo>
                <a:lnTo>
                  <a:pt x="759" y="69"/>
                </a:lnTo>
                <a:lnTo>
                  <a:pt x="766" y="69"/>
                </a:lnTo>
                <a:lnTo>
                  <a:pt x="780" y="69"/>
                </a:lnTo>
                <a:lnTo>
                  <a:pt x="787" y="62"/>
                </a:lnTo>
                <a:lnTo>
                  <a:pt x="794" y="62"/>
                </a:lnTo>
                <a:lnTo>
                  <a:pt x="808" y="55"/>
                </a:lnTo>
                <a:lnTo>
                  <a:pt x="815" y="48"/>
                </a:lnTo>
                <a:lnTo>
                  <a:pt x="828" y="41"/>
                </a:lnTo>
                <a:lnTo>
                  <a:pt x="835" y="41"/>
                </a:lnTo>
                <a:lnTo>
                  <a:pt x="849" y="34"/>
                </a:lnTo>
                <a:lnTo>
                  <a:pt x="856" y="27"/>
                </a:lnTo>
                <a:lnTo>
                  <a:pt x="870" y="20"/>
                </a:lnTo>
                <a:lnTo>
                  <a:pt x="877" y="14"/>
                </a:lnTo>
                <a:lnTo>
                  <a:pt x="884" y="7"/>
                </a:lnTo>
                <a:lnTo>
                  <a:pt x="898" y="7"/>
                </a:lnTo>
                <a:lnTo>
                  <a:pt x="904" y="0"/>
                </a:lnTo>
                <a:lnTo>
                  <a:pt x="918" y="0"/>
                </a:lnTo>
                <a:lnTo>
                  <a:pt x="925" y="0"/>
                </a:lnTo>
                <a:lnTo>
                  <a:pt x="939" y="0"/>
                </a:lnTo>
                <a:lnTo>
                  <a:pt x="946" y="7"/>
                </a:lnTo>
                <a:lnTo>
                  <a:pt x="960" y="14"/>
                </a:lnTo>
                <a:lnTo>
                  <a:pt x="967" y="27"/>
                </a:lnTo>
                <a:lnTo>
                  <a:pt x="973" y="41"/>
                </a:lnTo>
                <a:lnTo>
                  <a:pt x="987" y="62"/>
                </a:lnTo>
                <a:lnTo>
                  <a:pt x="994" y="76"/>
                </a:lnTo>
                <a:lnTo>
                  <a:pt x="1008" y="96"/>
                </a:lnTo>
                <a:lnTo>
                  <a:pt x="1015" y="124"/>
                </a:lnTo>
                <a:lnTo>
                  <a:pt x="1029" y="145"/>
                </a:lnTo>
                <a:lnTo>
                  <a:pt x="1036" y="172"/>
                </a:lnTo>
                <a:lnTo>
                  <a:pt x="1049" y="193"/>
                </a:lnTo>
                <a:lnTo>
                  <a:pt x="1056" y="220"/>
                </a:lnTo>
                <a:lnTo>
                  <a:pt x="1063" y="241"/>
                </a:lnTo>
                <a:lnTo>
                  <a:pt x="1077" y="269"/>
                </a:lnTo>
                <a:lnTo>
                  <a:pt x="1084" y="289"/>
                </a:lnTo>
                <a:lnTo>
                  <a:pt x="1098" y="317"/>
                </a:lnTo>
                <a:lnTo>
                  <a:pt x="1105" y="338"/>
                </a:lnTo>
                <a:lnTo>
                  <a:pt x="1118" y="358"/>
                </a:lnTo>
                <a:lnTo>
                  <a:pt x="1125" y="386"/>
                </a:lnTo>
                <a:lnTo>
                  <a:pt x="1139" y="407"/>
                </a:lnTo>
                <a:lnTo>
                  <a:pt x="1146" y="427"/>
                </a:lnTo>
                <a:lnTo>
                  <a:pt x="1153" y="448"/>
                </a:lnTo>
                <a:lnTo>
                  <a:pt x="1167" y="469"/>
                </a:lnTo>
                <a:lnTo>
                  <a:pt x="1174" y="489"/>
                </a:lnTo>
                <a:lnTo>
                  <a:pt x="1187" y="510"/>
                </a:lnTo>
                <a:lnTo>
                  <a:pt x="1194" y="531"/>
                </a:lnTo>
                <a:lnTo>
                  <a:pt x="1208" y="551"/>
                </a:lnTo>
                <a:lnTo>
                  <a:pt x="1215" y="565"/>
                </a:lnTo>
                <a:lnTo>
                  <a:pt x="1229" y="586"/>
                </a:lnTo>
                <a:lnTo>
                  <a:pt x="1236" y="607"/>
                </a:lnTo>
                <a:lnTo>
                  <a:pt x="1243" y="620"/>
                </a:lnTo>
                <a:lnTo>
                  <a:pt x="1257" y="641"/>
                </a:lnTo>
                <a:lnTo>
                  <a:pt x="1263" y="655"/>
                </a:lnTo>
                <a:lnTo>
                  <a:pt x="1277" y="675"/>
                </a:lnTo>
                <a:lnTo>
                  <a:pt x="1284" y="689"/>
                </a:lnTo>
                <a:lnTo>
                  <a:pt x="1298" y="703"/>
                </a:lnTo>
                <a:lnTo>
                  <a:pt x="1305" y="724"/>
                </a:lnTo>
                <a:lnTo>
                  <a:pt x="1319" y="738"/>
                </a:lnTo>
                <a:lnTo>
                  <a:pt x="1326" y="751"/>
                </a:lnTo>
                <a:lnTo>
                  <a:pt x="1332" y="765"/>
                </a:lnTo>
                <a:lnTo>
                  <a:pt x="1346" y="786"/>
                </a:lnTo>
                <a:lnTo>
                  <a:pt x="1353" y="800"/>
                </a:lnTo>
                <a:lnTo>
                  <a:pt x="1367" y="813"/>
                </a:lnTo>
                <a:lnTo>
                  <a:pt x="1374" y="827"/>
                </a:lnTo>
                <a:lnTo>
                  <a:pt x="1388" y="841"/>
                </a:lnTo>
                <a:lnTo>
                  <a:pt x="1395" y="855"/>
                </a:lnTo>
                <a:lnTo>
                  <a:pt x="1408" y="869"/>
                </a:lnTo>
                <a:lnTo>
                  <a:pt x="1415" y="882"/>
                </a:lnTo>
                <a:lnTo>
                  <a:pt x="1422" y="896"/>
                </a:lnTo>
                <a:lnTo>
                  <a:pt x="1436" y="910"/>
                </a:lnTo>
                <a:lnTo>
                  <a:pt x="1443" y="924"/>
                </a:lnTo>
                <a:lnTo>
                  <a:pt x="1457" y="931"/>
                </a:lnTo>
                <a:lnTo>
                  <a:pt x="1464" y="944"/>
                </a:lnTo>
                <a:lnTo>
                  <a:pt x="1477" y="958"/>
                </a:lnTo>
                <a:lnTo>
                  <a:pt x="1484" y="972"/>
                </a:lnTo>
                <a:lnTo>
                  <a:pt x="1498" y="986"/>
                </a:lnTo>
                <a:lnTo>
                  <a:pt x="1505" y="993"/>
                </a:lnTo>
                <a:lnTo>
                  <a:pt x="1512" y="1006"/>
                </a:lnTo>
                <a:lnTo>
                  <a:pt x="1526" y="1020"/>
                </a:lnTo>
                <a:lnTo>
                  <a:pt x="1533" y="1034"/>
                </a:lnTo>
                <a:lnTo>
                  <a:pt x="1546" y="1041"/>
                </a:lnTo>
                <a:lnTo>
                  <a:pt x="1553" y="1055"/>
                </a:lnTo>
                <a:lnTo>
                  <a:pt x="1567" y="1069"/>
                </a:lnTo>
                <a:lnTo>
                  <a:pt x="1574" y="1075"/>
                </a:lnTo>
                <a:lnTo>
                  <a:pt x="1581" y="1089"/>
                </a:lnTo>
                <a:lnTo>
                  <a:pt x="1595" y="1096"/>
                </a:lnTo>
                <a:lnTo>
                  <a:pt x="1602" y="1110"/>
                </a:lnTo>
                <a:lnTo>
                  <a:pt x="1615" y="1117"/>
                </a:lnTo>
                <a:lnTo>
                  <a:pt x="1622" y="1131"/>
                </a:lnTo>
                <a:lnTo>
                  <a:pt x="1636" y="1144"/>
                </a:lnTo>
                <a:lnTo>
                  <a:pt x="1643" y="1151"/>
                </a:lnTo>
                <a:lnTo>
                  <a:pt x="1657" y="1165"/>
                </a:lnTo>
                <a:lnTo>
                  <a:pt x="1664" y="1172"/>
                </a:lnTo>
                <a:lnTo>
                  <a:pt x="1671" y="1179"/>
                </a:lnTo>
                <a:lnTo>
                  <a:pt x="1685" y="1193"/>
                </a:lnTo>
                <a:lnTo>
                  <a:pt x="1691" y="1200"/>
                </a:lnTo>
                <a:lnTo>
                  <a:pt x="1705" y="1213"/>
                </a:lnTo>
                <a:lnTo>
                  <a:pt x="1712" y="1220"/>
                </a:lnTo>
                <a:lnTo>
                  <a:pt x="1726" y="1234"/>
                </a:lnTo>
                <a:lnTo>
                  <a:pt x="1733" y="1241"/>
                </a:lnTo>
                <a:lnTo>
                  <a:pt x="1747" y="1248"/>
                </a:lnTo>
                <a:lnTo>
                  <a:pt x="1754" y="1262"/>
                </a:lnTo>
                <a:lnTo>
                  <a:pt x="1760" y="1268"/>
                </a:lnTo>
                <a:lnTo>
                  <a:pt x="1774" y="1275"/>
                </a:lnTo>
                <a:lnTo>
                  <a:pt x="1781" y="1289"/>
                </a:lnTo>
                <a:lnTo>
                  <a:pt x="1795" y="1296"/>
                </a:lnTo>
                <a:lnTo>
                  <a:pt x="1802" y="1303"/>
                </a:lnTo>
                <a:lnTo>
                  <a:pt x="1816" y="1317"/>
                </a:lnTo>
                <a:lnTo>
                  <a:pt x="1823" y="1324"/>
                </a:lnTo>
                <a:lnTo>
                  <a:pt x="1836" y="1331"/>
                </a:lnTo>
                <a:lnTo>
                  <a:pt x="1843" y="1344"/>
                </a:lnTo>
                <a:lnTo>
                  <a:pt x="1850" y="1351"/>
                </a:lnTo>
                <a:lnTo>
                  <a:pt x="1864" y="1358"/>
                </a:lnTo>
                <a:lnTo>
                  <a:pt x="1871" y="1365"/>
                </a:lnTo>
                <a:lnTo>
                  <a:pt x="1885" y="1379"/>
                </a:lnTo>
                <a:lnTo>
                  <a:pt x="1892" y="1386"/>
                </a:lnTo>
                <a:lnTo>
                  <a:pt x="1905" y="1393"/>
                </a:lnTo>
                <a:lnTo>
                  <a:pt x="1912" y="1399"/>
                </a:lnTo>
                <a:lnTo>
                  <a:pt x="1926" y="1406"/>
                </a:lnTo>
                <a:lnTo>
                  <a:pt x="1933" y="1420"/>
                </a:lnTo>
                <a:lnTo>
                  <a:pt x="1940" y="1427"/>
                </a:lnTo>
                <a:lnTo>
                  <a:pt x="1954" y="1434"/>
                </a:lnTo>
                <a:lnTo>
                  <a:pt x="1961" y="1441"/>
                </a:lnTo>
                <a:lnTo>
                  <a:pt x="1974" y="1448"/>
                </a:lnTo>
                <a:lnTo>
                  <a:pt x="1981" y="1455"/>
                </a:lnTo>
                <a:lnTo>
                  <a:pt x="1995" y="1468"/>
                </a:lnTo>
                <a:lnTo>
                  <a:pt x="2002" y="1475"/>
                </a:lnTo>
                <a:lnTo>
                  <a:pt x="2016" y="1482"/>
                </a:lnTo>
                <a:lnTo>
                  <a:pt x="2023" y="1489"/>
                </a:lnTo>
                <a:lnTo>
                  <a:pt x="2030" y="1496"/>
                </a:lnTo>
                <a:lnTo>
                  <a:pt x="2044" y="1503"/>
                </a:lnTo>
                <a:lnTo>
                  <a:pt x="2050" y="1510"/>
                </a:lnTo>
                <a:lnTo>
                  <a:pt x="2064" y="1517"/>
                </a:lnTo>
                <a:lnTo>
                  <a:pt x="2071" y="1524"/>
                </a:lnTo>
                <a:lnTo>
                  <a:pt x="2085" y="1537"/>
                </a:lnTo>
                <a:lnTo>
                  <a:pt x="2092" y="1544"/>
                </a:lnTo>
                <a:lnTo>
                  <a:pt x="2106" y="1551"/>
                </a:lnTo>
                <a:lnTo>
                  <a:pt x="2113" y="1558"/>
                </a:lnTo>
                <a:lnTo>
                  <a:pt x="2119" y="1565"/>
                </a:lnTo>
                <a:lnTo>
                  <a:pt x="2133" y="1572"/>
                </a:lnTo>
                <a:lnTo>
                  <a:pt x="2140" y="1579"/>
                </a:lnTo>
                <a:lnTo>
                  <a:pt x="2154" y="1586"/>
                </a:lnTo>
                <a:lnTo>
                  <a:pt x="2161" y="1593"/>
                </a:lnTo>
                <a:lnTo>
                  <a:pt x="2175" y="1599"/>
                </a:lnTo>
                <a:lnTo>
                  <a:pt x="2182" y="1606"/>
                </a:lnTo>
                <a:lnTo>
                  <a:pt x="2195" y="1613"/>
                </a:lnTo>
                <a:lnTo>
                  <a:pt x="2202" y="1620"/>
                </a:lnTo>
                <a:lnTo>
                  <a:pt x="2209" y="1627"/>
                </a:lnTo>
                <a:lnTo>
                  <a:pt x="2223" y="1634"/>
                </a:lnTo>
                <a:lnTo>
                  <a:pt x="2230" y="1641"/>
                </a:lnTo>
                <a:lnTo>
                  <a:pt x="2244" y="1648"/>
                </a:lnTo>
                <a:lnTo>
                  <a:pt x="2251" y="1655"/>
                </a:lnTo>
                <a:lnTo>
                  <a:pt x="2264" y="1662"/>
                </a:lnTo>
                <a:lnTo>
                  <a:pt x="2271" y="1668"/>
                </a:lnTo>
                <a:lnTo>
                  <a:pt x="2285" y="1675"/>
                </a:lnTo>
                <a:lnTo>
                  <a:pt x="2292" y="1682"/>
                </a:lnTo>
                <a:lnTo>
                  <a:pt x="2299" y="1689"/>
                </a:lnTo>
                <a:lnTo>
                  <a:pt x="2313" y="1696"/>
                </a:lnTo>
                <a:lnTo>
                  <a:pt x="2320" y="1703"/>
                </a:lnTo>
                <a:lnTo>
                  <a:pt x="2333" y="1710"/>
                </a:lnTo>
                <a:lnTo>
                  <a:pt x="2340" y="1717"/>
                </a:lnTo>
                <a:lnTo>
                  <a:pt x="2354" y="1717"/>
                </a:lnTo>
                <a:lnTo>
                  <a:pt x="2361" y="1724"/>
                </a:lnTo>
                <a:lnTo>
                  <a:pt x="2375" y="1730"/>
                </a:lnTo>
                <a:lnTo>
                  <a:pt x="2382" y="1737"/>
                </a:lnTo>
                <a:lnTo>
                  <a:pt x="2389" y="1744"/>
                </a:lnTo>
                <a:lnTo>
                  <a:pt x="2403" y="1751"/>
                </a:lnTo>
                <a:lnTo>
                  <a:pt x="2409" y="1758"/>
                </a:lnTo>
                <a:lnTo>
                  <a:pt x="2423" y="1765"/>
                </a:lnTo>
                <a:lnTo>
                  <a:pt x="2430" y="1772"/>
                </a:lnTo>
                <a:lnTo>
                  <a:pt x="2444" y="1779"/>
                </a:lnTo>
                <a:lnTo>
                  <a:pt x="2451" y="1779"/>
                </a:lnTo>
                <a:lnTo>
                  <a:pt x="2465" y="1786"/>
                </a:lnTo>
                <a:lnTo>
                  <a:pt x="2472" y="1793"/>
                </a:lnTo>
                <a:lnTo>
                  <a:pt x="2478" y="1799"/>
                </a:lnTo>
                <a:lnTo>
                  <a:pt x="2492" y="1806"/>
                </a:lnTo>
                <a:lnTo>
                  <a:pt x="2499" y="1813"/>
                </a:lnTo>
                <a:lnTo>
                  <a:pt x="2513" y="1820"/>
                </a:lnTo>
                <a:lnTo>
                  <a:pt x="2520" y="1820"/>
                </a:lnTo>
                <a:lnTo>
                  <a:pt x="2534" y="1827"/>
                </a:lnTo>
                <a:lnTo>
                  <a:pt x="2541" y="1834"/>
                </a:lnTo>
                <a:lnTo>
                  <a:pt x="2547" y="1841"/>
                </a:lnTo>
                <a:lnTo>
                  <a:pt x="2561" y="1848"/>
                </a:lnTo>
                <a:lnTo>
                  <a:pt x="2568" y="1855"/>
                </a:lnTo>
                <a:lnTo>
                  <a:pt x="2582" y="1861"/>
                </a:lnTo>
                <a:lnTo>
                  <a:pt x="2589" y="1861"/>
                </a:lnTo>
                <a:lnTo>
                  <a:pt x="2603" y="1868"/>
                </a:lnTo>
                <a:lnTo>
                  <a:pt x="2610" y="1875"/>
                </a:lnTo>
                <a:lnTo>
                  <a:pt x="2623" y="1882"/>
                </a:lnTo>
                <a:lnTo>
                  <a:pt x="2630" y="1889"/>
                </a:lnTo>
                <a:lnTo>
                  <a:pt x="2637" y="1889"/>
                </a:lnTo>
                <a:lnTo>
                  <a:pt x="2651" y="1896"/>
                </a:lnTo>
                <a:lnTo>
                  <a:pt x="2658" y="1903"/>
                </a:lnTo>
                <a:lnTo>
                  <a:pt x="2672" y="1910"/>
                </a:lnTo>
                <a:lnTo>
                  <a:pt x="2679" y="1917"/>
                </a:lnTo>
                <a:lnTo>
                  <a:pt x="2692" y="1917"/>
                </a:lnTo>
                <a:lnTo>
                  <a:pt x="2699" y="1924"/>
                </a:lnTo>
                <a:lnTo>
                  <a:pt x="2713" y="1930"/>
                </a:lnTo>
                <a:lnTo>
                  <a:pt x="2720" y="1937"/>
                </a:lnTo>
                <a:lnTo>
                  <a:pt x="2727" y="1944"/>
                </a:lnTo>
                <a:lnTo>
                  <a:pt x="2741" y="1944"/>
                </a:lnTo>
                <a:lnTo>
                  <a:pt x="2748" y="1951"/>
                </a:lnTo>
                <a:lnTo>
                  <a:pt x="2761" y="1958"/>
                </a:lnTo>
                <a:lnTo>
                  <a:pt x="2768" y="1965"/>
                </a:lnTo>
                <a:lnTo>
                  <a:pt x="2782" y="1965"/>
                </a:lnTo>
                <a:lnTo>
                  <a:pt x="2789" y="1972"/>
                </a:lnTo>
                <a:lnTo>
                  <a:pt x="2803" y="1979"/>
                </a:lnTo>
                <a:lnTo>
                  <a:pt x="2810" y="1986"/>
                </a:lnTo>
                <a:lnTo>
                  <a:pt x="2817" y="1986"/>
                </a:lnTo>
                <a:lnTo>
                  <a:pt x="2831" y="1992"/>
                </a:lnTo>
                <a:lnTo>
                  <a:pt x="2837" y="1999"/>
                </a:lnTo>
                <a:lnTo>
                  <a:pt x="2851" y="2006"/>
                </a:lnTo>
                <a:lnTo>
                  <a:pt x="2858" y="2006"/>
                </a:lnTo>
                <a:lnTo>
                  <a:pt x="2872" y="2013"/>
                </a:lnTo>
                <a:lnTo>
                  <a:pt x="2879" y="2020"/>
                </a:lnTo>
                <a:lnTo>
                  <a:pt x="2893" y="2027"/>
                </a:lnTo>
                <a:lnTo>
                  <a:pt x="2900" y="2027"/>
                </a:lnTo>
                <a:lnTo>
                  <a:pt x="2906" y="2034"/>
                </a:lnTo>
                <a:lnTo>
                  <a:pt x="2920" y="2041"/>
                </a:lnTo>
                <a:lnTo>
                  <a:pt x="2927" y="2041"/>
                </a:lnTo>
                <a:lnTo>
                  <a:pt x="2941" y="2048"/>
                </a:lnTo>
                <a:lnTo>
                  <a:pt x="2948" y="2055"/>
                </a:lnTo>
                <a:lnTo>
                  <a:pt x="2962" y="2061"/>
                </a:lnTo>
                <a:lnTo>
                  <a:pt x="2969" y="2061"/>
                </a:lnTo>
                <a:lnTo>
                  <a:pt x="2982" y="2068"/>
                </a:lnTo>
                <a:lnTo>
                  <a:pt x="2989" y="2075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4" name=""/>
          <p:cNvGrpSpPr/>
          <p:nvPr/>
        </p:nvGrpSpPr>
        <p:grpSpPr>
          <a:xfrm>
            <a:off x="984240" y="2250720"/>
            <a:ext cx="7534440" cy="4584600"/>
            <a:chOff x="984240" y="2250720"/>
            <a:chExt cx="7534440" cy="4584600"/>
          </a:xfrm>
        </p:grpSpPr>
        <p:sp>
          <p:nvSpPr>
            <p:cNvPr id="2825" name=""/>
            <p:cNvSpPr/>
            <p:nvPr/>
          </p:nvSpPr>
          <p:spPr>
            <a:xfrm flipV="1">
              <a:off x="238428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317340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396252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4762440" y="2596680"/>
              <a:ext cx="0" cy="3116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555156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634032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712944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384280" y="633096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384280" y="570708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384280" y="508320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384280" y="447048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384280" y="384660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384280" y="322272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384280" y="259884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384280" y="2598840"/>
              <a:ext cx="4746600" cy="3733560"/>
            </a:xfrm>
            <a:custGeom>
              <a:avLst/>
              <a:gdLst/>
              <a:ahLst/>
              <a:rect l="l" t="t" r="r" b="b"/>
              <a:pathLst>
                <a:path w="2990" h="2352">
                  <a:moveTo>
                    <a:pt x="0" y="2351"/>
                  </a:moveTo>
                  <a:lnTo>
                    <a:pt x="0" y="0"/>
                  </a:lnTo>
                  <a:lnTo>
                    <a:pt x="298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384280" y="2598840"/>
              <a:ext cx="4746600" cy="3733560"/>
            </a:xfrm>
            <a:custGeom>
              <a:avLst/>
              <a:gdLst/>
              <a:ahLst/>
              <a:rect l="l" t="t" r="r" b="b"/>
              <a:pathLst>
                <a:path w="2990" h="2352">
                  <a:moveTo>
                    <a:pt x="0" y="2351"/>
                  </a:moveTo>
                  <a:lnTo>
                    <a:pt x="0" y="0"/>
                  </a:lnTo>
                  <a:lnTo>
                    <a:pt x="298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384280" y="2598840"/>
              <a:ext cx="4746600" cy="3733560"/>
            </a:xfrm>
            <a:custGeom>
              <a:avLst/>
              <a:gdLst/>
              <a:ahLst/>
              <a:rect l="l" t="t" r="r" b="b"/>
              <a:pathLst>
                <a:path w="2990" h="2352">
                  <a:moveTo>
                    <a:pt x="0" y="2351"/>
                  </a:moveTo>
                  <a:lnTo>
                    <a:pt x="0" y="0"/>
                  </a:lnTo>
                  <a:lnTo>
                    <a:pt x="298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384280" y="633096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384280" y="259884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V="1">
              <a:off x="238428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712944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384280" y="25988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129440" y="63309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384280" y="633096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238428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84280" y="63309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238428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38428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317340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17340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396252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96252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476244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76244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V="1">
              <a:off x="555156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55156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634032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34032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7129440" y="628632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129440" y="2598840"/>
              <a:ext cx="0" cy="42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5" name=""/>
            <p:cNvGrpSpPr/>
            <p:nvPr/>
          </p:nvGrpSpPr>
          <p:grpSpPr>
            <a:xfrm>
              <a:off x="2237760" y="6329520"/>
              <a:ext cx="5071680" cy="397440"/>
              <a:chOff x="2237760" y="6329520"/>
              <a:chExt cx="5071680" cy="397440"/>
            </a:xfrm>
          </p:grpSpPr>
          <p:sp>
            <p:nvSpPr>
              <p:cNvPr id="2866" name=""/>
              <p:cNvSpPr/>
              <p:nvPr/>
            </p:nvSpPr>
            <p:spPr>
              <a:xfrm>
                <a:off x="223776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92644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81564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51548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40468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095160" y="632952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982560" y="63295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>
              <a:off x="2384280" y="63309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H="1">
              <a:off x="7086240" y="63309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384280" y="57070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7086240" y="57070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384280" y="50832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7086240" y="50832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384280" y="447048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7086240" y="447048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384280" y="384660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7086240" y="38466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2384280" y="32227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7086240" y="32227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384280" y="25988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7086240" y="25988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7" name=""/>
            <p:cNvGrpSpPr/>
            <p:nvPr/>
          </p:nvGrpSpPr>
          <p:grpSpPr>
            <a:xfrm>
              <a:off x="1857600" y="2419200"/>
              <a:ext cx="553680" cy="4129920"/>
              <a:chOff x="1857600" y="2419200"/>
              <a:chExt cx="553680" cy="4129920"/>
            </a:xfrm>
          </p:grpSpPr>
          <p:sp>
            <p:nvSpPr>
              <p:cNvPr id="2888" name=""/>
              <p:cNvSpPr/>
              <p:nvPr/>
            </p:nvSpPr>
            <p:spPr>
              <a:xfrm>
                <a:off x="1857600" y="61516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857600" y="55278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1857600" y="4903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1857600" y="4290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1857600" y="36669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857600" y="30430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2056680" y="2419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5" name=""/>
            <p:cNvSpPr/>
            <p:nvPr/>
          </p:nvSpPr>
          <p:spPr>
            <a:xfrm>
              <a:off x="2384280" y="6330960"/>
              <a:ext cx="5397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384280" y="2598840"/>
              <a:ext cx="4745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384280" y="2250720"/>
              <a:ext cx="0" cy="4079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7129440" y="2597040"/>
              <a:ext cx="0" cy="3732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384280" y="633096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129440" y="25988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1" name=""/>
                <p:cNvSpPr txBox="1"/>
                <p:nvPr/>
              </p:nvSpPr>
              <p:spPr>
                <a:xfrm>
                  <a:off x="984240" y="2290680"/>
                  <a:ext cx="100332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02" name=""/>
            <p:cNvSpPr/>
            <p:nvPr/>
          </p:nvSpPr>
          <p:spPr>
            <a:xfrm>
              <a:off x="7423560" y="637704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2384280" y="2598840"/>
              <a:ext cx="6134400" cy="3076560"/>
              <a:chOff x="2384280" y="2598840"/>
              <a:chExt cx="6134400" cy="3076560"/>
            </a:xfrm>
          </p:grpSpPr>
          <p:sp>
            <p:nvSpPr>
              <p:cNvPr id="2904" name=""/>
              <p:cNvSpPr/>
              <p:nvPr/>
            </p:nvSpPr>
            <p:spPr>
              <a:xfrm>
                <a:off x="2384280" y="2598840"/>
                <a:ext cx="4746600" cy="3076560"/>
              </a:xfrm>
              <a:custGeom>
                <a:avLst/>
                <a:gdLst/>
                <a:ahLst/>
                <a:rect l="l" t="t" r="r" b="b"/>
                <a:pathLst>
                  <a:path w="2990" h="1938">
                    <a:moveTo>
                      <a:pt x="0" y="41"/>
                    </a:moveTo>
                    <a:lnTo>
                      <a:pt x="7" y="41"/>
                    </a:lnTo>
                    <a:lnTo>
                      <a:pt x="21" y="41"/>
                    </a:lnTo>
                    <a:lnTo>
                      <a:pt x="28" y="41"/>
                    </a:lnTo>
                    <a:lnTo>
                      <a:pt x="41" y="41"/>
                    </a:lnTo>
                    <a:lnTo>
                      <a:pt x="48" y="34"/>
                    </a:lnTo>
                    <a:lnTo>
                      <a:pt x="62" y="34"/>
                    </a:lnTo>
                    <a:lnTo>
                      <a:pt x="69" y="34"/>
                    </a:lnTo>
                    <a:lnTo>
                      <a:pt x="83" y="34"/>
                    </a:lnTo>
                    <a:lnTo>
                      <a:pt x="90" y="34"/>
                    </a:lnTo>
                    <a:lnTo>
                      <a:pt x="97" y="34"/>
                    </a:lnTo>
                    <a:lnTo>
                      <a:pt x="111" y="34"/>
                    </a:lnTo>
                    <a:lnTo>
                      <a:pt x="117" y="34"/>
                    </a:lnTo>
                    <a:lnTo>
                      <a:pt x="131" y="27"/>
                    </a:lnTo>
                    <a:lnTo>
                      <a:pt x="138" y="27"/>
                    </a:lnTo>
                    <a:lnTo>
                      <a:pt x="152" y="27"/>
                    </a:lnTo>
                    <a:lnTo>
                      <a:pt x="159" y="27"/>
                    </a:lnTo>
                    <a:lnTo>
                      <a:pt x="173" y="27"/>
                    </a:lnTo>
                    <a:lnTo>
                      <a:pt x="180" y="20"/>
                    </a:lnTo>
                    <a:lnTo>
                      <a:pt x="186" y="20"/>
                    </a:lnTo>
                    <a:lnTo>
                      <a:pt x="200" y="20"/>
                    </a:lnTo>
                    <a:lnTo>
                      <a:pt x="207" y="20"/>
                    </a:lnTo>
                    <a:lnTo>
                      <a:pt x="221" y="14"/>
                    </a:lnTo>
                    <a:lnTo>
                      <a:pt x="228" y="14"/>
                    </a:lnTo>
                    <a:lnTo>
                      <a:pt x="242" y="14"/>
                    </a:lnTo>
                    <a:lnTo>
                      <a:pt x="249" y="14"/>
                    </a:lnTo>
                    <a:lnTo>
                      <a:pt x="262" y="14"/>
                    </a:lnTo>
                    <a:lnTo>
                      <a:pt x="269" y="7"/>
                    </a:lnTo>
                    <a:lnTo>
                      <a:pt x="276" y="7"/>
                    </a:lnTo>
                    <a:lnTo>
                      <a:pt x="290" y="7"/>
                    </a:lnTo>
                    <a:lnTo>
                      <a:pt x="297" y="7"/>
                    </a:lnTo>
                    <a:lnTo>
                      <a:pt x="311" y="7"/>
                    </a:lnTo>
                    <a:lnTo>
                      <a:pt x="318" y="0"/>
                    </a:lnTo>
                    <a:lnTo>
                      <a:pt x="331" y="0"/>
                    </a:lnTo>
                    <a:lnTo>
                      <a:pt x="338" y="0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66" y="0"/>
                    </a:lnTo>
                    <a:lnTo>
                      <a:pt x="380" y="0"/>
                    </a:lnTo>
                    <a:lnTo>
                      <a:pt x="387" y="0"/>
                    </a:lnTo>
                    <a:lnTo>
                      <a:pt x="400" y="0"/>
                    </a:lnTo>
                    <a:lnTo>
                      <a:pt x="407" y="0"/>
                    </a:lnTo>
                    <a:lnTo>
                      <a:pt x="421" y="0"/>
                    </a:lnTo>
                    <a:lnTo>
                      <a:pt x="428" y="0"/>
                    </a:lnTo>
                    <a:lnTo>
                      <a:pt x="442" y="0"/>
                    </a:lnTo>
                    <a:lnTo>
                      <a:pt x="449" y="7"/>
                    </a:lnTo>
                    <a:lnTo>
                      <a:pt x="456" y="7"/>
                    </a:lnTo>
                    <a:lnTo>
                      <a:pt x="470" y="7"/>
                    </a:lnTo>
                    <a:lnTo>
                      <a:pt x="476" y="7"/>
                    </a:lnTo>
                    <a:lnTo>
                      <a:pt x="490" y="7"/>
                    </a:lnTo>
                    <a:lnTo>
                      <a:pt x="497" y="14"/>
                    </a:lnTo>
                    <a:lnTo>
                      <a:pt x="511" y="14"/>
                    </a:lnTo>
                    <a:lnTo>
                      <a:pt x="518" y="14"/>
                    </a:lnTo>
                    <a:lnTo>
                      <a:pt x="525" y="14"/>
                    </a:lnTo>
                    <a:lnTo>
                      <a:pt x="539" y="20"/>
                    </a:lnTo>
                    <a:lnTo>
                      <a:pt x="545" y="20"/>
                    </a:lnTo>
                    <a:lnTo>
                      <a:pt x="559" y="20"/>
                    </a:lnTo>
                    <a:lnTo>
                      <a:pt x="566" y="20"/>
                    </a:lnTo>
                    <a:lnTo>
                      <a:pt x="580" y="27"/>
                    </a:lnTo>
                    <a:lnTo>
                      <a:pt x="587" y="27"/>
                    </a:lnTo>
                    <a:lnTo>
                      <a:pt x="601" y="27"/>
                    </a:lnTo>
                    <a:lnTo>
                      <a:pt x="608" y="27"/>
                    </a:lnTo>
                    <a:lnTo>
                      <a:pt x="614" y="34"/>
                    </a:lnTo>
                    <a:lnTo>
                      <a:pt x="628" y="34"/>
                    </a:lnTo>
                    <a:lnTo>
                      <a:pt x="635" y="34"/>
                    </a:lnTo>
                    <a:lnTo>
                      <a:pt x="649" y="34"/>
                    </a:lnTo>
                    <a:lnTo>
                      <a:pt x="656" y="34"/>
                    </a:lnTo>
                    <a:lnTo>
                      <a:pt x="670" y="34"/>
                    </a:lnTo>
                    <a:lnTo>
                      <a:pt x="677" y="41"/>
                    </a:lnTo>
                    <a:lnTo>
                      <a:pt x="690" y="41"/>
                    </a:lnTo>
                    <a:lnTo>
                      <a:pt x="697" y="41"/>
                    </a:lnTo>
                    <a:lnTo>
                      <a:pt x="704" y="41"/>
                    </a:lnTo>
                    <a:lnTo>
                      <a:pt x="718" y="41"/>
                    </a:lnTo>
                    <a:lnTo>
                      <a:pt x="725" y="41"/>
                    </a:lnTo>
                    <a:lnTo>
                      <a:pt x="739" y="41"/>
                    </a:lnTo>
                    <a:lnTo>
                      <a:pt x="746" y="34"/>
                    </a:lnTo>
                    <a:lnTo>
                      <a:pt x="759" y="34"/>
                    </a:lnTo>
                    <a:lnTo>
                      <a:pt x="766" y="34"/>
                    </a:lnTo>
                    <a:lnTo>
                      <a:pt x="780" y="34"/>
                    </a:lnTo>
                    <a:lnTo>
                      <a:pt x="787" y="27"/>
                    </a:lnTo>
                    <a:lnTo>
                      <a:pt x="794" y="27"/>
                    </a:lnTo>
                    <a:lnTo>
                      <a:pt x="808" y="27"/>
                    </a:lnTo>
                    <a:lnTo>
                      <a:pt x="815" y="20"/>
                    </a:lnTo>
                    <a:lnTo>
                      <a:pt x="828" y="20"/>
                    </a:lnTo>
                    <a:lnTo>
                      <a:pt x="835" y="20"/>
                    </a:lnTo>
                    <a:lnTo>
                      <a:pt x="849" y="14"/>
                    </a:lnTo>
                    <a:lnTo>
                      <a:pt x="856" y="14"/>
                    </a:lnTo>
                    <a:lnTo>
                      <a:pt x="870" y="7"/>
                    </a:lnTo>
                    <a:lnTo>
                      <a:pt x="877" y="7"/>
                    </a:lnTo>
                    <a:lnTo>
                      <a:pt x="884" y="7"/>
                    </a:lnTo>
                    <a:lnTo>
                      <a:pt x="898" y="0"/>
                    </a:lnTo>
                    <a:lnTo>
                      <a:pt x="904" y="0"/>
                    </a:lnTo>
                    <a:lnTo>
                      <a:pt x="918" y="0"/>
                    </a:lnTo>
                    <a:lnTo>
                      <a:pt x="925" y="0"/>
                    </a:lnTo>
                    <a:lnTo>
                      <a:pt x="939" y="0"/>
                    </a:lnTo>
                    <a:lnTo>
                      <a:pt x="946" y="7"/>
                    </a:lnTo>
                    <a:lnTo>
                      <a:pt x="960" y="7"/>
                    </a:lnTo>
                    <a:lnTo>
                      <a:pt x="967" y="14"/>
                    </a:lnTo>
                    <a:lnTo>
                      <a:pt x="973" y="20"/>
                    </a:lnTo>
                    <a:lnTo>
                      <a:pt x="987" y="27"/>
                    </a:lnTo>
                    <a:lnTo>
                      <a:pt x="994" y="41"/>
                    </a:lnTo>
                    <a:lnTo>
                      <a:pt x="1008" y="48"/>
                    </a:lnTo>
                    <a:lnTo>
                      <a:pt x="1015" y="62"/>
                    </a:lnTo>
                    <a:lnTo>
                      <a:pt x="1029" y="82"/>
                    </a:lnTo>
                    <a:lnTo>
                      <a:pt x="1036" y="96"/>
                    </a:lnTo>
                    <a:lnTo>
                      <a:pt x="1049" y="110"/>
                    </a:lnTo>
                    <a:lnTo>
                      <a:pt x="1056" y="131"/>
                    </a:lnTo>
                    <a:lnTo>
                      <a:pt x="1063" y="151"/>
                    </a:lnTo>
                    <a:lnTo>
                      <a:pt x="1077" y="165"/>
                    </a:lnTo>
                    <a:lnTo>
                      <a:pt x="1084" y="186"/>
                    </a:lnTo>
                    <a:lnTo>
                      <a:pt x="1098" y="207"/>
                    </a:lnTo>
                    <a:lnTo>
                      <a:pt x="1105" y="227"/>
                    </a:lnTo>
                    <a:lnTo>
                      <a:pt x="1118" y="248"/>
                    </a:lnTo>
                    <a:lnTo>
                      <a:pt x="1125" y="269"/>
                    </a:lnTo>
                    <a:lnTo>
                      <a:pt x="1139" y="289"/>
                    </a:lnTo>
                    <a:lnTo>
                      <a:pt x="1146" y="303"/>
                    </a:lnTo>
                    <a:lnTo>
                      <a:pt x="1153" y="324"/>
                    </a:lnTo>
                    <a:lnTo>
                      <a:pt x="1167" y="345"/>
                    </a:lnTo>
                    <a:lnTo>
                      <a:pt x="1174" y="365"/>
                    </a:lnTo>
                    <a:lnTo>
                      <a:pt x="1187" y="379"/>
                    </a:lnTo>
                    <a:lnTo>
                      <a:pt x="1194" y="400"/>
                    </a:lnTo>
                    <a:lnTo>
                      <a:pt x="1208" y="420"/>
                    </a:lnTo>
                    <a:lnTo>
                      <a:pt x="1215" y="434"/>
                    </a:lnTo>
                    <a:lnTo>
                      <a:pt x="1229" y="455"/>
                    </a:lnTo>
                    <a:lnTo>
                      <a:pt x="1236" y="469"/>
                    </a:lnTo>
                    <a:lnTo>
                      <a:pt x="1243" y="489"/>
                    </a:lnTo>
                    <a:lnTo>
                      <a:pt x="1257" y="503"/>
                    </a:lnTo>
                    <a:lnTo>
                      <a:pt x="1263" y="524"/>
                    </a:lnTo>
                    <a:lnTo>
                      <a:pt x="1277" y="538"/>
                    </a:lnTo>
                    <a:lnTo>
                      <a:pt x="1284" y="551"/>
                    </a:lnTo>
                    <a:lnTo>
                      <a:pt x="1298" y="572"/>
                    </a:lnTo>
                    <a:lnTo>
                      <a:pt x="1305" y="586"/>
                    </a:lnTo>
                    <a:lnTo>
                      <a:pt x="1319" y="600"/>
                    </a:lnTo>
                    <a:lnTo>
                      <a:pt x="1326" y="613"/>
                    </a:lnTo>
                    <a:lnTo>
                      <a:pt x="1332" y="634"/>
                    </a:lnTo>
                    <a:lnTo>
                      <a:pt x="1346" y="648"/>
                    </a:lnTo>
                    <a:lnTo>
                      <a:pt x="1353" y="662"/>
                    </a:lnTo>
                    <a:lnTo>
                      <a:pt x="1367" y="675"/>
                    </a:lnTo>
                    <a:lnTo>
                      <a:pt x="1374" y="689"/>
                    </a:lnTo>
                    <a:lnTo>
                      <a:pt x="1388" y="703"/>
                    </a:lnTo>
                    <a:lnTo>
                      <a:pt x="1395" y="717"/>
                    </a:lnTo>
                    <a:lnTo>
                      <a:pt x="1408" y="731"/>
                    </a:lnTo>
                    <a:lnTo>
                      <a:pt x="1415" y="744"/>
                    </a:lnTo>
                    <a:lnTo>
                      <a:pt x="1422" y="758"/>
                    </a:lnTo>
                    <a:lnTo>
                      <a:pt x="1436" y="772"/>
                    </a:lnTo>
                    <a:lnTo>
                      <a:pt x="1443" y="786"/>
                    </a:lnTo>
                    <a:lnTo>
                      <a:pt x="1457" y="793"/>
                    </a:lnTo>
                    <a:lnTo>
                      <a:pt x="1464" y="806"/>
                    </a:lnTo>
                    <a:lnTo>
                      <a:pt x="1477" y="820"/>
                    </a:lnTo>
                    <a:lnTo>
                      <a:pt x="1484" y="834"/>
                    </a:lnTo>
                    <a:lnTo>
                      <a:pt x="1498" y="848"/>
                    </a:lnTo>
                    <a:lnTo>
                      <a:pt x="1505" y="855"/>
                    </a:lnTo>
                    <a:lnTo>
                      <a:pt x="1512" y="869"/>
                    </a:lnTo>
                    <a:lnTo>
                      <a:pt x="1526" y="882"/>
                    </a:lnTo>
                    <a:lnTo>
                      <a:pt x="1533" y="896"/>
                    </a:lnTo>
                    <a:lnTo>
                      <a:pt x="1546" y="903"/>
                    </a:lnTo>
                    <a:lnTo>
                      <a:pt x="1553" y="917"/>
                    </a:lnTo>
                    <a:lnTo>
                      <a:pt x="1567" y="924"/>
                    </a:lnTo>
                    <a:lnTo>
                      <a:pt x="1574" y="938"/>
                    </a:lnTo>
                    <a:lnTo>
                      <a:pt x="1581" y="951"/>
                    </a:lnTo>
                    <a:lnTo>
                      <a:pt x="1595" y="958"/>
                    </a:lnTo>
                    <a:lnTo>
                      <a:pt x="1602" y="972"/>
                    </a:lnTo>
                    <a:lnTo>
                      <a:pt x="1615" y="979"/>
                    </a:lnTo>
                    <a:lnTo>
                      <a:pt x="1622" y="993"/>
                    </a:lnTo>
                    <a:lnTo>
                      <a:pt x="1636" y="1000"/>
                    </a:lnTo>
                    <a:lnTo>
                      <a:pt x="1643" y="1013"/>
                    </a:lnTo>
                    <a:lnTo>
                      <a:pt x="1657" y="1020"/>
                    </a:lnTo>
                    <a:lnTo>
                      <a:pt x="1664" y="1034"/>
                    </a:lnTo>
                    <a:lnTo>
                      <a:pt x="1671" y="1041"/>
                    </a:lnTo>
                    <a:lnTo>
                      <a:pt x="1685" y="1055"/>
                    </a:lnTo>
                    <a:lnTo>
                      <a:pt x="1691" y="1062"/>
                    </a:lnTo>
                    <a:lnTo>
                      <a:pt x="1705" y="1075"/>
                    </a:lnTo>
                    <a:lnTo>
                      <a:pt x="1712" y="1082"/>
                    </a:lnTo>
                    <a:lnTo>
                      <a:pt x="1726" y="1096"/>
                    </a:lnTo>
                    <a:lnTo>
                      <a:pt x="1733" y="1103"/>
                    </a:lnTo>
                    <a:lnTo>
                      <a:pt x="1747" y="1110"/>
                    </a:lnTo>
                    <a:lnTo>
                      <a:pt x="1754" y="1124"/>
                    </a:lnTo>
                    <a:lnTo>
                      <a:pt x="1760" y="1131"/>
                    </a:lnTo>
                    <a:lnTo>
                      <a:pt x="1774" y="1137"/>
                    </a:lnTo>
                    <a:lnTo>
                      <a:pt x="1781" y="1151"/>
                    </a:lnTo>
                    <a:lnTo>
                      <a:pt x="1795" y="1158"/>
                    </a:lnTo>
                    <a:lnTo>
                      <a:pt x="1802" y="1165"/>
                    </a:lnTo>
                    <a:lnTo>
                      <a:pt x="1816" y="1179"/>
                    </a:lnTo>
                    <a:lnTo>
                      <a:pt x="1823" y="1186"/>
                    </a:lnTo>
                    <a:lnTo>
                      <a:pt x="1836" y="1193"/>
                    </a:lnTo>
                    <a:lnTo>
                      <a:pt x="1843" y="1200"/>
                    </a:lnTo>
                    <a:lnTo>
                      <a:pt x="1850" y="1213"/>
                    </a:lnTo>
                    <a:lnTo>
                      <a:pt x="1864" y="1220"/>
                    </a:lnTo>
                    <a:lnTo>
                      <a:pt x="1871" y="1227"/>
                    </a:lnTo>
                    <a:lnTo>
                      <a:pt x="1885" y="1234"/>
                    </a:lnTo>
                    <a:lnTo>
                      <a:pt x="1892" y="1248"/>
                    </a:lnTo>
                    <a:lnTo>
                      <a:pt x="1905" y="1255"/>
                    </a:lnTo>
                    <a:lnTo>
                      <a:pt x="1912" y="1262"/>
                    </a:lnTo>
                    <a:lnTo>
                      <a:pt x="1926" y="1268"/>
                    </a:lnTo>
                    <a:lnTo>
                      <a:pt x="1933" y="1282"/>
                    </a:lnTo>
                    <a:lnTo>
                      <a:pt x="1940" y="1289"/>
                    </a:lnTo>
                    <a:lnTo>
                      <a:pt x="1954" y="1296"/>
                    </a:lnTo>
                    <a:lnTo>
                      <a:pt x="1961" y="1303"/>
                    </a:lnTo>
                    <a:lnTo>
                      <a:pt x="1974" y="1310"/>
                    </a:lnTo>
                    <a:lnTo>
                      <a:pt x="1981" y="1317"/>
                    </a:lnTo>
                    <a:lnTo>
                      <a:pt x="1995" y="1324"/>
                    </a:lnTo>
                    <a:lnTo>
                      <a:pt x="2002" y="1337"/>
                    </a:lnTo>
                    <a:lnTo>
                      <a:pt x="2016" y="1344"/>
                    </a:lnTo>
                    <a:lnTo>
                      <a:pt x="2023" y="1351"/>
                    </a:lnTo>
                    <a:lnTo>
                      <a:pt x="2030" y="1358"/>
                    </a:lnTo>
                    <a:lnTo>
                      <a:pt x="2044" y="1365"/>
                    </a:lnTo>
                    <a:lnTo>
                      <a:pt x="2050" y="1372"/>
                    </a:lnTo>
                    <a:lnTo>
                      <a:pt x="2064" y="1379"/>
                    </a:lnTo>
                    <a:lnTo>
                      <a:pt x="2071" y="1386"/>
                    </a:lnTo>
                    <a:lnTo>
                      <a:pt x="2085" y="1393"/>
                    </a:lnTo>
                    <a:lnTo>
                      <a:pt x="2092" y="1406"/>
                    </a:lnTo>
                    <a:lnTo>
                      <a:pt x="2106" y="1413"/>
                    </a:lnTo>
                    <a:lnTo>
                      <a:pt x="2113" y="1420"/>
                    </a:lnTo>
                    <a:lnTo>
                      <a:pt x="2119" y="1427"/>
                    </a:lnTo>
                    <a:lnTo>
                      <a:pt x="2133" y="1434"/>
                    </a:lnTo>
                    <a:lnTo>
                      <a:pt x="2140" y="1441"/>
                    </a:lnTo>
                    <a:lnTo>
                      <a:pt x="2154" y="1448"/>
                    </a:lnTo>
                    <a:lnTo>
                      <a:pt x="2161" y="1455"/>
                    </a:lnTo>
                    <a:lnTo>
                      <a:pt x="2175" y="1462"/>
                    </a:lnTo>
                    <a:lnTo>
                      <a:pt x="2182" y="1468"/>
                    </a:lnTo>
                    <a:lnTo>
                      <a:pt x="2195" y="1475"/>
                    </a:lnTo>
                    <a:lnTo>
                      <a:pt x="2202" y="1482"/>
                    </a:lnTo>
                    <a:lnTo>
                      <a:pt x="2209" y="1489"/>
                    </a:lnTo>
                    <a:lnTo>
                      <a:pt x="2223" y="1496"/>
                    </a:lnTo>
                    <a:lnTo>
                      <a:pt x="2230" y="1503"/>
                    </a:lnTo>
                    <a:lnTo>
                      <a:pt x="2244" y="1510"/>
                    </a:lnTo>
                    <a:lnTo>
                      <a:pt x="2251" y="1517"/>
                    </a:lnTo>
                    <a:lnTo>
                      <a:pt x="2264" y="1524"/>
                    </a:lnTo>
                    <a:lnTo>
                      <a:pt x="2271" y="1530"/>
                    </a:lnTo>
                    <a:lnTo>
                      <a:pt x="2285" y="1537"/>
                    </a:lnTo>
                    <a:lnTo>
                      <a:pt x="2292" y="1544"/>
                    </a:lnTo>
                    <a:lnTo>
                      <a:pt x="2299" y="1551"/>
                    </a:lnTo>
                    <a:lnTo>
                      <a:pt x="2313" y="1558"/>
                    </a:lnTo>
                    <a:lnTo>
                      <a:pt x="2320" y="1565"/>
                    </a:lnTo>
                    <a:lnTo>
                      <a:pt x="2333" y="1565"/>
                    </a:lnTo>
                    <a:lnTo>
                      <a:pt x="2340" y="1572"/>
                    </a:lnTo>
                    <a:lnTo>
                      <a:pt x="2354" y="1579"/>
                    </a:lnTo>
                    <a:lnTo>
                      <a:pt x="2361" y="1586"/>
                    </a:lnTo>
                    <a:lnTo>
                      <a:pt x="2375" y="1593"/>
                    </a:lnTo>
                    <a:lnTo>
                      <a:pt x="2382" y="1599"/>
                    </a:lnTo>
                    <a:lnTo>
                      <a:pt x="2389" y="1606"/>
                    </a:lnTo>
                    <a:lnTo>
                      <a:pt x="2403" y="1613"/>
                    </a:lnTo>
                    <a:lnTo>
                      <a:pt x="2409" y="1620"/>
                    </a:lnTo>
                    <a:lnTo>
                      <a:pt x="2423" y="1627"/>
                    </a:lnTo>
                    <a:lnTo>
                      <a:pt x="2430" y="1634"/>
                    </a:lnTo>
                    <a:lnTo>
                      <a:pt x="2444" y="1634"/>
                    </a:lnTo>
                    <a:lnTo>
                      <a:pt x="2451" y="1641"/>
                    </a:lnTo>
                    <a:lnTo>
                      <a:pt x="2465" y="1648"/>
                    </a:lnTo>
                    <a:lnTo>
                      <a:pt x="2472" y="1655"/>
                    </a:lnTo>
                    <a:lnTo>
                      <a:pt x="2478" y="1662"/>
                    </a:lnTo>
                    <a:lnTo>
                      <a:pt x="2492" y="1668"/>
                    </a:lnTo>
                    <a:lnTo>
                      <a:pt x="2499" y="1675"/>
                    </a:lnTo>
                    <a:lnTo>
                      <a:pt x="2513" y="1682"/>
                    </a:lnTo>
                    <a:lnTo>
                      <a:pt x="2520" y="1682"/>
                    </a:lnTo>
                    <a:lnTo>
                      <a:pt x="2534" y="1689"/>
                    </a:lnTo>
                    <a:lnTo>
                      <a:pt x="2541" y="1696"/>
                    </a:lnTo>
                    <a:lnTo>
                      <a:pt x="2547" y="1703"/>
                    </a:lnTo>
                    <a:lnTo>
                      <a:pt x="2561" y="1710"/>
                    </a:lnTo>
                    <a:lnTo>
                      <a:pt x="2568" y="1717"/>
                    </a:lnTo>
                    <a:lnTo>
                      <a:pt x="2582" y="1717"/>
                    </a:lnTo>
                    <a:lnTo>
                      <a:pt x="2589" y="1724"/>
                    </a:lnTo>
                    <a:lnTo>
                      <a:pt x="2603" y="1730"/>
                    </a:lnTo>
                    <a:lnTo>
                      <a:pt x="2610" y="1737"/>
                    </a:lnTo>
                    <a:lnTo>
                      <a:pt x="2623" y="1744"/>
                    </a:lnTo>
                    <a:lnTo>
                      <a:pt x="2630" y="1744"/>
                    </a:lnTo>
                    <a:lnTo>
                      <a:pt x="2637" y="1751"/>
                    </a:lnTo>
                    <a:lnTo>
                      <a:pt x="2651" y="1758"/>
                    </a:lnTo>
                    <a:lnTo>
                      <a:pt x="2658" y="1765"/>
                    </a:lnTo>
                    <a:lnTo>
                      <a:pt x="2672" y="1772"/>
                    </a:lnTo>
                    <a:lnTo>
                      <a:pt x="2679" y="1772"/>
                    </a:lnTo>
                    <a:lnTo>
                      <a:pt x="2692" y="1779"/>
                    </a:lnTo>
                    <a:lnTo>
                      <a:pt x="2699" y="1786"/>
                    </a:lnTo>
                    <a:lnTo>
                      <a:pt x="2713" y="1793"/>
                    </a:lnTo>
                    <a:lnTo>
                      <a:pt x="2720" y="1799"/>
                    </a:lnTo>
                    <a:lnTo>
                      <a:pt x="2727" y="1799"/>
                    </a:lnTo>
                    <a:lnTo>
                      <a:pt x="2741" y="1806"/>
                    </a:lnTo>
                    <a:lnTo>
                      <a:pt x="2748" y="1813"/>
                    </a:lnTo>
                    <a:lnTo>
                      <a:pt x="2761" y="1820"/>
                    </a:lnTo>
                    <a:lnTo>
                      <a:pt x="2768" y="1820"/>
                    </a:lnTo>
                    <a:lnTo>
                      <a:pt x="2782" y="1827"/>
                    </a:lnTo>
                    <a:lnTo>
                      <a:pt x="2789" y="1834"/>
                    </a:lnTo>
                    <a:lnTo>
                      <a:pt x="2803" y="1841"/>
                    </a:lnTo>
                    <a:lnTo>
                      <a:pt x="2810" y="1841"/>
                    </a:lnTo>
                    <a:lnTo>
                      <a:pt x="2817" y="1848"/>
                    </a:lnTo>
                    <a:lnTo>
                      <a:pt x="2831" y="1855"/>
                    </a:lnTo>
                    <a:lnTo>
                      <a:pt x="2837" y="1861"/>
                    </a:lnTo>
                    <a:lnTo>
                      <a:pt x="2851" y="1861"/>
                    </a:lnTo>
                    <a:lnTo>
                      <a:pt x="2858" y="1868"/>
                    </a:lnTo>
                    <a:lnTo>
                      <a:pt x="2872" y="1875"/>
                    </a:lnTo>
                    <a:lnTo>
                      <a:pt x="2879" y="1882"/>
                    </a:lnTo>
                    <a:lnTo>
                      <a:pt x="2893" y="1882"/>
                    </a:lnTo>
                    <a:lnTo>
                      <a:pt x="2900" y="1889"/>
                    </a:lnTo>
                    <a:lnTo>
                      <a:pt x="2906" y="1896"/>
                    </a:lnTo>
                    <a:lnTo>
                      <a:pt x="2920" y="1903"/>
                    </a:lnTo>
                    <a:lnTo>
                      <a:pt x="2927" y="1903"/>
                    </a:lnTo>
                    <a:lnTo>
                      <a:pt x="2941" y="1910"/>
                    </a:lnTo>
                    <a:lnTo>
                      <a:pt x="2948" y="1917"/>
                    </a:lnTo>
                    <a:lnTo>
                      <a:pt x="2962" y="1917"/>
                    </a:lnTo>
                    <a:lnTo>
                      <a:pt x="2969" y="1924"/>
                    </a:lnTo>
                    <a:lnTo>
                      <a:pt x="2982" y="1930"/>
                    </a:lnTo>
                    <a:lnTo>
                      <a:pt x="2989" y="1937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5" name=""/>
              <p:cNvGrpSpPr/>
              <p:nvPr/>
            </p:nvGrpSpPr>
            <p:grpSpPr>
              <a:xfrm>
                <a:off x="6644880" y="4522680"/>
                <a:ext cx="1873800" cy="795600"/>
                <a:chOff x="6644880" y="4522680"/>
                <a:chExt cx="1873800" cy="795600"/>
              </a:xfrm>
            </p:grpSpPr>
            <p:sp>
              <p:nvSpPr>
                <p:cNvPr id="2906" name=""/>
                <p:cNvSpPr/>
                <p:nvPr/>
              </p:nvSpPr>
              <p:spPr>
                <a:xfrm>
                  <a:off x="7248600" y="4522680"/>
                  <a:ext cx="127008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Rp=1d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6644880" y="4802040"/>
                  <a:ext cx="600120" cy="516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08" name=""/>
          <p:cNvGrpSpPr/>
          <p:nvPr/>
        </p:nvGrpSpPr>
        <p:grpSpPr>
          <a:xfrm>
            <a:off x="2384280" y="2598840"/>
            <a:ext cx="4746600" cy="3642840"/>
            <a:chOff x="2384280" y="2598840"/>
            <a:chExt cx="4746600" cy="3642840"/>
          </a:xfrm>
        </p:grpSpPr>
        <p:sp>
          <p:nvSpPr>
            <p:cNvPr id="2909" name=""/>
            <p:cNvSpPr/>
            <p:nvPr/>
          </p:nvSpPr>
          <p:spPr>
            <a:xfrm>
              <a:off x="2384280" y="2598840"/>
              <a:ext cx="4746600" cy="3438360"/>
            </a:xfrm>
            <a:custGeom>
              <a:avLst/>
              <a:gdLst/>
              <a:ahLst/>
              <a:rect l="l" t="t" r="r" b="b"/>
              <a:pathLst>
                <a:path w="2990" h="2166">
                  <a:moveTo>
                    <a:pt x="0" y="117"/>
                  </a:moveTo>
                  <a:lnTo>
                    <a:pt x="7" y="117"/>
                  </a:lnTo>
                  <a:lnTo>
                    <a:pt x="21" y="117"/>
                  </a:lnTo>
                  <a:lnTo>
                    <a:pt x="28" y="117"/>
                  </a:lnTo>
                  <a:lnTo>
                    <a:pt x="41" y="117"/>
                  </a:lnTo>
                  <a:lnTo>
                    <a:pt x="48" y="117"/>
                  </a:lnTo>
                  <a:lnTo>
                    <a:pt x="62" y="110"/>
                  </a:lnTo>
                  <a:lnTo>
                    <a:pt x="69" y="110"/>
                  </a:lnTo>
                  <a:lnTo>
                    <a:pt x="83" y="110"/>
                  </a:lnTo>
                  <a:lnTo>
                    <a:pt x="90" y="103"/>
                  </a:lnTo>
                  <a:lnTo>
                    <a:pt x="97" y="103"/>
                  </a:lnTo>
                  <a:lnTo>
                    <a:pt x="111" y="103"/>
                  </a:lnTo>
                  <a:lnTo>
                    <a:pt x="117" y="96"/>
                  </a:lnTo>
                  <a:lnTo>
                    <a:pt x="131" y="96"/>
                  </a:lnTo>
                  <a:lnTo>
                    <a:pt x="138" y="89"/>
                  </a:lnTo>
                  <a:lnTo>
                    <a:pt x="152" y="89"/>
                  </a:lnTo>
                  <a:lnTo>
                    <a:pt x="159" y="82"/>
                  </a:lnTo>
                  <a:lnTo>
                    <a:pt x="173" y="82"/>
                  </a:lnTo>
                  <a:lnTo>
                    <a:pt x="180" y="76"/>
                  </a:lnTo>
                  <a:lnTo>
                    <a:pt x="186" y="69"/>
                  </a:lnTo>
                  <a:lnTo>
                    <a:pt x="200" y="69"/>
                  </a:lnTo>
                  <a:lnTo>
                    <a:pt x="207" y="62"/>
                  </a:lnTo>
                  <a:lnTo>
                    <a:pt x="221" y="55"/>
                  </a:lnTo>
                  <a:lnTo>
                    <a:pt x="228" y="55"/>
                  </a:lnTo>
                  <a:lnTo>
                    <a:pt x="242" y="48"/>
                  </a:lnTo>
                  <a:lnTo>
                    <a:pt x="249" y="41"/>
                  </a:lnTo>
                  <a:lnTo>
                    <a:pt x="262" y="34"/>
                  </a:lnTo>
                  <a:lnTo>
                    <a:pt x="269" y="34"/>
                  </a:lnTo>
                  <a:lnTo>
                    <a:pt x="276" y="27"/>
                  </a:lnTo>
                  <a:lnTo>
                    <a:pt x="290" y="20"/>
                  </a:lnTo>
                  <a:lnTo>
                    <a:pt x="297" y="20"/>
                  </a:lnTo>
                  <a:lnTo>
                    <a:pt x="311" y="14"/>
                  </a:lnTo>
                  <a:lnTo>
                    <a:pt x="318" y="14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66" y="0"/>
                  </a:lnTo>
                  <a:lnTo>
                    <a:pt x="380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07" y="0"/>
                  </a:lnTo>
                  <a:lnTo>
                    <a:pt x="421" y="7"/>
                  </a:lnTo>
                  <a:lnTo>
                    <a:pt x="428" y="7"/>
                  </a:lnTo>
                  <a:lnTo>
                    <a:pt x="442" y="7"/>
                  </a:lnTo>
                  <a:lnTo>
                    <a:pt x="449" y="14"/>
                  </a:lnTo>
                  <a:lnTo>
                    <a:pt x="456" y="20"/>
                  </a:lnTo>
                  <a:lnTo>
                    <a:pt x="470" y="20"/>
                  </a:lnTo>
                  <a:lnTo>
                    <a:pt x="476" y="27"/>
                  </a:lnTo>
                  <a:lnTo>
                    <a:pt x="490" y="34"/>
                  </a:lnTo>
                  <a:lnTo>
                    <a:pt x="497" y="34"/>
                  </a:lnTo>
                  <a:lnTo>
                    <a:pt x="511" y="41"/>
                  </a:lnTo>
                  <a:lnTo>
                    <a:pt x="518" y="48"/>
                  </a:lnTo>
                  <a:lnTo>
                    <a:pt x="525" y="55"/>
                  </a:lnTo>
                  <a:lnTo>
                    <a:pt x="539" y="62"/>
                  </a:lnTo>
                  <a:lnTo>
                    <a:pt x="545" y="69"/>
                  </a:lnTo>
                  <a:lnTo>
                    <a:pt x="559" y="69"/>
                  </a:lnTo>
                  <a:lnTo>
                    <a:pt x="566" y="76"/>
                  </a:lnTo>
                  <a:lnTo>
                    <a:pt x="580" y="82"/>
                  </a:lnTo>
                  <a:lnTo>
                    <a:pt x="587" y="89"/>
                  </a:lnTo>
                  <a:lnTo>
                    <a:pt x="601" y="89"/>
                  </a:lnTo>
                  <a:lnTo>
                    <a:pt x="608" y="96"/>
                  </a:lnTo>
                  <a:lnTo>
                    <a:pt x="614" y="96"/>
                  </a:lnTo>
                  <a:lnTo>
                    <a:pt x="628" y="103"/>
                  </a:lnTo>
                  <a:lnTo>
                    <a:pt x="635" y="103"/>
                  </a:lnTo>
                  <a:lnTo>
                    <a:pt x="649" y="110"/>
                  </a:lnTo>
                  <a:lnTo>
                    <a:pt x="656" y="110"/>
                  </a:lnTo>
                  <a:lnTo>
                    <a:pt x="670" y="117"/>
                  </a:lnTo>
                  <a:lnTo>
                    <a:pt x="677" y="117"/>
                  </a:lnTo>
                  <a:lnTo>
                    <a:pt x="690" y="117"/>
                  </a:lnTo>
                  <a:lnTo>
                    <a:pt x="697" y="117"/>
                  </a:lnTo>
                  <a:lnTo>
                    <a:pt x="704" y="117"/>
                  </a:lnTo>
                  <a:lnTo>
                    <a:pt x="718" y="117"/>
                  </a:lnTo>
                  <a:lnTo>
                    <a:pt x="725" y="117"/>
                  </a:lnTo>
                  <a:lnTo>
                    <a:pt x="739" y="117"/>
                  </a:lnTo>
                  <a:lnTo>
                    <a:pt x="746" y="110"/>
                  </a:lnTo>
                  <a:lnTo>
                    <a:pt x="759" y="110"/>
                  </a:lnTo>
                  <a:lnTo>
                    <a:pt x="766" y="103"/>
                  </a:lnTo>
                  <a:lnTo>
                    <a:pt x="780" y="103"/>
                  </a:lnTo>
                  <a:lnTo>
                    <a:pt x="787" y="96"/>
                  </a:lnTo>
                  <a:lnTo>
                    <a:pt x="794" y="89"/>
                  </a:lnTo>
                  <a:lnTo>
                    <a:pt x="808" y="82"/>
                  </a:lnTo>
                  <a:lnTo>
                    <a:pt x="815" y="76"/>
                  </a:lnTo>
                  <a:lnTo>
                    <a:pt x="828" y="69"/>
                  </a:lnTo>
                  <a:lnTo>
                    <a:pt x="835" y="62"/>
                  </a:lnTo>
                  <a:lnTo>
                    <a:pt x="849" y="55"/>
                  </a:lnTo>
                  <a:lnTo>
                    <a:pt x="856" y="41"/>
                  </a:lnTo>
                  <a:lnTo>
                    <a:pt x="870" y="34"/>
                  </a:lnTo>
                  <a:lnTo>
                    <a:pt x="877" y="27"/>
                  </a:lnTo>
                  <a:lnTo>
                    <a:pt x="884" y="14"/>
                  </a:lnTo>
                  <a:lnTo>
                    <a:pt x="898" y="7"/>
                  </a:lnTo>
                  <a:lnTo>
                    <a:pt x="904" y="0"/>
                  </a:lnTo>
                  <a:lnTo>
                    <a:pt x="918" y="0"/>
                  </a:lnTo>
                  <a:lnTo>
                    <a:pt x="925" y="0"/>
                  </a:lnTo>
                  <a:lnTo>
                    <a:pt x="939" y="7"/>
                  </a:lnTo>
                  <a:lnTo>
                    <a:pt x="946" y="14"/>
                  </a:lnTo>
                  <a:lnTo>
                    <a:pt x="960" y="27"/>
                  </a:lnTo>
                  <a:lnTo>
                    <a:pt x="967" y="48"/>
                  </a:lnTo>
                  <a:lnTo>
                    <a:pt x="973" y="69"/>
                  </a:lnTo>
                  <a:lnTo>
                    <a:pt x="987" y="89"/>
                  </a:lnTo>
                  <a:lnTo>
                    <a:pt x="994" y="117"/>
                  </a:lnTo>
                  <a:lnTo>
                    <a:pt x="1008" y="145"/>
                  </a:lnTo>
                  <a:lnTo>
                    <a:pt x="1015" y="172"/>
                  </a:lnTo>
                  <a:lnTo>
                    <a:pt x="1029" y="200"/>
                  </a:lnTo>
                  <a:lnTo>
                    <a:pt x="1036" y="234"/>
                  </a:lnTo>
                  <a:lnTo>
                    <a:pt x="1049" y="262"/>
                  </a:lnTo>
                  <a:lnTo>
                    <a:pt x="1056" y="289"/>
                  </a:lnTo>
                  <a:lnTo>
                    <a:pt x="1063" y="317"/>
                  </a:lnTo>
                  <a:lnTo>
                    <a:pt x="1077" y="345"/>
                  </a:lnTo>
                  <a:lnTo>
                    <a:pt x="1084" y="365"/>
                  </a:lnTo>
                  <a:lnTo>
                    <a:pt x="1098" y="393"/>
                  </a:lnTo>
                  <a:lnTo>
                    <a:pt x="1105" y="420"/>
                  </a:lnTo>
                  <a:lnTo>
                    <a:pt x="1118" y="441"/>
                  </a:lnTo>
                  <a:lnTo>
                    <a:pt x="1125" y="469"/>
                  </a:lnTo>
                  <a:lnTo>
                    <a:pt x="1139" y="489"/>
                  </a:lnTo>
                  <a:lnTo>
                    <a:pt x="1146" y="510"/>
                  </a:lnTo>
                  <a:lnTo>
                    <a:pt x="1153" y="538"/>
                  </a:lnTo>
                  <a:lnTo>
                    <a:pt x="1167" y="558"/>
                  </a:lnTo>
                  <a:lnTo>
                    <a:pt x="1174" y="579"/>
                  </a:lnTo>
                  <a:lnTo>
                    <a:pt x="1187" y="600"/>
                  </a:lnTo>
                  <a:lnTo>
                    <a:pt x="1194" y="620"/>
                  </a:lnTo>
                  <a:lnTo>
                    <a:pt x="1208" y="634"/>
                  </a:lnTo>
                  <a:lnTo>
                    <a:pt x="1215" y="655"/>
                  </a:lnTo>
                  <a:lnTo>
                    <a:pt x="1229" y="675"/>
                  </a:lnTo>
                  <a:lnTo>
                    <a:pt x="1236" y="696"/>
                  </a:lnTo>
                  <a:lnTo>
                    <a:pt x="1243" y="710"/>
                  </a:lnTo>
                  <a:lnTo>
                    <a:pt x="1257" y="731"/>
                  </a:lnTo>
                  <a:lnTo>
                    <a:pt x="1263" y="744"/>
                  </a:lnTo>
                  <a:lnTo>
                    <a:pt x="1277" y="765"/>
                  </a:lnTo>
                  <a:lnTo>
                    <a:pt x="1284" y="779"/>
                  </a:lnTo>
                  <a:lnTo>
                    <a:pt x="1298" y="793"/>
                  </a:lnTo>
                  <a:lnTo>
                    <a:pt x="1305" y="813"/>
                  </a:lnTo>
                  <a:lnTo>
                    <a:pt x="1319" y="827"/>
                  </a:lnTo>
                  <a:lnTo>
                    <a:pt x="1326" y="841"/>
                  </a:lnTo>
                  <a:lnTo>
                    <a:pt x="1332" y="855"/>
                  </a:lnTo>
                  <a:lnTo>
                    <a:pt x="1346" y="875"/>
                  </a:lnTo>
                  <a:lnTo>
                    <a:pt x="1353" y="889"/>
                  </a:lnTo>
                  <a:lnTo>
                    <a:pt x="1367" y="903"/>
                  </a:lnTo>
                  <a:lnTo>
                    <a:pt x="1374" y="917"/>
                  </a:lnTo>
                  <a:lnTo>
                    <a:pt x="1388" y="931"/>
                  </a:lnTo>
                  <a:lnTo>
                    <a:pt x="1395" y="944"/>
                  </a:lnTo>
                  <a:lnTo>
                    <a:pt x="1408" y="958"/>
                  </a:lnTo>
                  <a:lnTo>
                    <a:pt x="1415" y="972"/>
                  </a:lnTo>
                  <a:lnTo>
                    <a:pt x="1422" y="986"/>
                  </a:lnTo>
                  <a:lnTo>
                    <a:pt x="1436" y="1000"/>
                  </a:lnTo>
                  <a:lnTo>
                    <a:pt x="1443" y="1013"/>
                  </a:lnTo>
                  <a:lnTo>
                    <a:pt x="1457" y="1027"/>
                  </a:lnTo>
                  <a:lnTo>
                    <a:pt x="1464" y="1034"/>
                  </a:lnTo>
                  <a:lnTo>
                    <a:pt x="1477" y="1048"/>
                  </a:lnTo>
                  <a:lnTo>
                    <a:pt x="1484" y="1062"/>
                  </a:lnTo>
                  <a:lnTo>
                    <a:pt x="1498" y="1075"/>
                  </a:lnTo>
                  <a:lnTo>
                    <a:pt x="1505" y="1089"/>
                  </a:lnTo>
                  <a:lnTo>
                    <a:pt x="1512" y="1096"/>
                  </a:lnTo>
                  <a:lnTo>
                    <a:pt x="1526" y="1110"/>
                  </a:lnTo>
                  <a:lnTo>
                    <a:pt x="1533" y="1124"/>
                  </a:lnTo>
                  <a:lnTo>
                    <a:pt x="1546" y="1131"/>
                  </a:lnTo>
                  <a:lnTo>
                    <a:pt x="1553" y="1144"/>
                  </a:lnTo>
                  <a:lnTo>
                    <a:pt x="1567" y="1158"/>
                  </a:lnTo>
                  <a:lnTo>
                    <a:pt x="1574" y="1165"/>
                  </a:lnTo>
                  <a:lnTo>
                    <a:pt x="1581" y="1179"/>
                  </a:lnTo>
                  <a:lnTo>
                    <a:pt x="1595" y="1186"/>
                  </a:lnTo>
                  <a:lnTo>
                    <a:pt x="1602" y="1200"/>
                  </a:lnTo>
                  <a:lnTo>
                    <a:pt x="1615" y="1213"/>
                  </a:lnTo>
                  <a:lnTo>
                    <a:pt x="1622" y="1220"/>
                  </a:lnTo>
                  <a:lnTo>
                    <a:pt x="1636" y="1234"/>
                  </a:lnTo>
                  <a:lnTo>
                    <a:pt x="1643" y="1241"/>
                  </a:lnTo>
                  <a:lnTo>
                    <a:pt x="1657" y="1255"/>
                  </a:lnTo>
                  <a:lnTo>
                    <a:pt x="1664" y="1262"/>
                  </a:lnTo>
                  <a:lnTo>
                    <a:pt x="1671" y="1275"/>
                  </a:lnTo>
                  <a:lnTo>
                    <a:pt x="1685" y="1282"/>
                  </a:lnTo>
                  <a:lnTo>
                    <a:pt x="1691" y="1289"/>
                  </a:lnTo>
                  <a:lnTo>
                    <a:pt x="1705" y="1303"/>
                  </a:lnTo>
                  <a:lnTo>
                    <a:pt x="1712" y="1310"/>
                  </a:lnTo>
                  <a:lnTo>
                    <a:pt x="1726" y="1324"/>
                  </a:lnTo>
                  <a:lnTo>
                    <a:pt x="1733" y="1331"/>
                  </a:lnTo>
                  <a:lnTo>
                    <a:pt x="1747" y="1337"/>
                  </a:lnTo>
                  <a:lnTo>
                    <a:pt x="1754" y="1351"/>
                  </a:lnTo>
                  <a:lnTo>
                    <a:pt x="1760" y="1358"/>
                  </a:lnTo>
                  <a:lnTo>
                    <a:pt x="1774" y="1372"/>
                  </a:lnTo>
                  <a:lnTo>
                    <a:pt x="1781" y="1379"/>
                  </a:lnTo>
                  <a:lnTo>
                    <a:pt x="1795" y="1386"/>
                  </a:lnTo>
                  <a:lnTo>
                    <a:pt x="1802" y="1399"/>
                  </a:lnTo>
                  <a:lnTo>
                    <a:pt x="1816" y="1406"/>
                  </a:lnTo>
                  <a:lnTo>
                    <a:pt x="1823" y="1413"/>
                  </a:lnTo>
                  <a:lnTo>
                    <a:pt x="1836" y="1420"/>
                  </a:lnTo>
                  <a:lnTo>
                    <a:pt x="1843" y="1434"/>
                  </a:lnTo>
                  <a:lnTo>
                    <a:pt x="1850" y="1441"/>
                  </a:lnTo>
                  <a:lnTo>
                    <a:pt x="1864" y="1448"/>
                  </a:lnTo>
                  <a:lnTo>
                    <a:pt x="1871" y="1455"/>
                  </a:lnTo>
                  <a:lnTo>
                    <a:pt x="1885" y="1468"/>
                  </a:lnTo>
                  <a:lnTo>
                    <a:pt x="1892" y="1475"/>
                  </a:lnTo>
                  <a:lnTo>
                    <a:pt x="1905" y="1482"/>
                  </a:lnTo>
                  <a:lnTo>
                    <a:pt x="1912" y="1489"/>
                  </a:lnTo>
                  <a:lnTo>
                    <a:pt x="1926" y="1503"/>
                  </a:lnTo>
                  <a:lnTo>
                    <a:pt x="1933" y="1510"/>
                  </a:lnTo>
                  <a:lnTo>
                    <a:pt x="1940" y="1517"/>
                  </a:lnTo>
                  <a:lnTo>
                    <a:pt x="1954" y="1524"/>
                  </a:lnTo>
                  <a:lnTo>
                    <a:pt x="1961" y="1530"/>
                  </a:lnTo>
                  <a:lnTo>
                    <a:pt x="1974" y="1537"/>
                  </a:lnTo>
                  <a:lnTo>
                    <a:pt x="1981" y="1551"/>
                  </a:lnTo>
                  <a:lnTo>
                    <a:pt x="1995" y="1558"/>
                  </a:lnTo>
                  <a:lnTo>
                    <a:pt x="2002" y="1565"/>
                  </a:lnTo>
                  <a:lnTo>
                    <a:pt x="2016" y="1572"/>
                  </a:lnTo>
                  <a:lnTo>
                    <a:pt x="2023" y="1579"/>
                  </a:lnTo>
                  <a:lnTo>
                    <a:pt x="2030" y="1586"/>
                  </a:lnTo>
                  <a:lnTo>
                    <a:pt x="2044" y="1593"/>
                  </a:lnTo>
                  <a:lnTo>
                    <a:pt x="2050" y="1599"/>
                  </a:lnTo>
                  <a:lnTo>
                    <a:pt x="2064" y="1613"/>
                  </a:lnTo>
                  <a:lnTo>
                    <a:pt x="2071" y="1620"/>
                  </a:lnTo>
                  <a:lnTo>
                    <a:pt x="2085" y="1627"/>
                  </a:lnTo>
                  <a:lnTo>
                    <a:pt x="2092" y="1634"/>
                  </a:lnTo>
                  <a:lnTo>
                    <a:pt x="2106" y="1641"/>
                  </a:lnTo>
                  <a:lnTo>
                    <a:pt x="2113" y="1648"/>
                  </a:lnTo>
                  <a:lnTo>
                    <a:pt x="2119" y="1655"/>
                  </a:lnTo>
                  <a:lnTo>
                    <a:pt x="2133" y="1662"/>
                  </a:lnTo>
                  <a:lnTo>
                    <a:pt x="2140" y="1668"/>
                  </a:lnTo>
                  <a:lnTo>
                    <a:pt x="2154" y="1675"/>
                  </a:lnTo>
                  <a:lnTo>
                    <a:pt x="2161" y="1682"/>
                  </a:lnTo>
                  <a:lnTo>
                    <a:pt x="2175" y="1689"/>
                  </a:lnTo>
                  <a:lnTo>
                    <a:pt x="2182" y="1696"/>
                  </a:lnTo>
                  <a:lnTo>
                    <a:pt x="2195" y="1703"/>
                  </a:lnTo>
                  <a:lnTo>
                    <a:pt x="2202" y="1710"/>
                  </a:lnTo>
                  <a:lnTo>
                    <a:pt x="2209" y="1717"/>
                  </a:lnTo>
                  <a:lnTo>
                    <a:pt x="2223" y="1724"/>
                  </a:lnTo>
                  <a:lnTo>
                    <a:pt x="2230" y="1730"/>
                  </a:lnTo>
                  <a:lnTo>
                    <a:pt x="2244" y="1737"/>
                  </a:lnTo>
                  <a:lnTo>
                    <a:pt x="2251" y="1744"/>
                  </a:lnTo>
                  <a:lnTo>
                    <a:pt x="2264" y="1751"/>
                  </a:lnTo>
                  <a:lnTo>
                    <a:pt x="2271" y="1758"/>
                  </a:lnTo>
                  <a:lnTo>
                    <a:pt x="2285" y="1765"/>
                  </a:lnTo>
                  <a:lnTo>
                    <a:pt x="2292" y="1772"/>
                  </a:lnTo>
                  <a:lnTo>
                    <a:pt x="2299" y="1779"/>
                  </a:lnTo>
                  <a:lnTo>
                    <a:pt x="2313" y="1786"/>
                  </a:lnTo>
                  <a:lnTo>
                    <a:pt x="2320" y="1793"/>
                  </a:lnTo>
                  <a:lnTo>
                    <a:pt x="2333" y="1799"/>
                  </a:lnTo>
                  <a:lnTo>
                    <a:pt x="2340" y="1806"/>
                  </a:lnTo>
                  <a:lnTo>
                    <a:pt x="2354" y="1813"/>
                  </a:lnTo>
                  <a:lnTo>
                    <a:pt x="2361" y="1813"/>
                  </a:lnTo>
                  <a:lnTo>
                    <a:pt x="2375" y="1820"/>
                  </a:lnTo>
                  <a:lnTo>
                    <a:pt x="2382" y="1827"/>
                  </a:lnTo>
                  <a:lnTo>
                    <a:pt x="2389" y="1834"/>
                  </a:lnTo>
                  <a:lnTo>
                    <a:pt x="2403" y="1841"/>
                  </a:lnTo>
                  <a:lnTo>
                    <a:pt x="2409" y="1848"/>
                  </a:lnTo>
                  <a:lnTo>
                    <a:pt x="2423" y="1855"/>
                  </a:lnTo>
                  <a:lnTo>
                    <a:pt x="2430" y="1861"/>
                  </a:lnTo>
                  <a:lnTo>
                    <a:pt x="2444" y="1868"/>
                  </a:lnTo>
                  <a:lnTo>
                    <a:pt x="2451" y="1875"/>
                  </a:lnTo>
                  <a:lnTo>
                    <a:pt x="2465" y="1875"/>
                  </a:lnTo>
                  <a:lnTo>
                    <a:pt x="2472" y="1882"/>
                  </a:lnTo>
                  <a:lnTo>
                    <a:pt x="2478" y="1889"/>
                  </a:lnTo>
                  <a:lnTo>
                    <a:pt x="2492" y="1896"/>
                  </a:lnTo>
                  <a:lnTo>
                    <a:pt x="2499" y="1903"/>
                  </a:lnTo>
                  <a:lnTo>
                    <a:pt x="2513" y="1910"/>
                  </a:lnTo>
                  <a:lnTo>
                    <a:pt x="2520" y="1917"/>
                  </a:lnTo>
                  <a:lnTo>
                    <a:pt x="2534" y="1917"/>
                  </a:lnTo>
                  <a:lnTo>
                    <a:pt x="2541" y="1924"/>
                  </a:lnTo>
                  <a:lnTo>
                    <a:pt x="2547" y="1930"/>
                  </a:lnTo>
                  <a:lnTo>
                    <a:pt x="2561" y="1937"/>
                  </a:lnTo>
                  <a:lnTo>
                    <a:pt x="2568" y="1944"/>
                  </a:lnTo>
                  <a:lnTo>
                    <a:pt x="2582" y="1951"/>
                  </a:lnTo>
                  <a:lnTo>
                    <a:pt x="2589" y="1951"/>
                  </a:lnTo>
                  <a:lnTo>
                    <a:pt x="2603" y="1958"/>
                  </a:lnTo>
                  <a:lnTo>
                    <a:pt x="2610" y="1965"/>
                  </a:lnTo>
                  <a:lnTo>
                    <a:pt x="2623" y="1972"/>
                  </a:lnTo>
                  <a:lnTo>
                    <a:pt x="2630" y="1979"/>
                  </a:lnTo>
                  <a:lnTo>
                    <a:pt x="2637" y="1986"/>
                  </a:lnTo>
                  <a:lnTo>
                    <a:pt x="2651" y="1986"/>
                  </a:lnTo>
                  <a:lnTo>
                    <a:pt x="2658" y="1992"/>
                  </a:lnTo>
                  <a:lnTo>
                    <a:pt x="2672" y="1999"/>
                  </a:lnTo>
                  <a:lnTo>
                    <a:pt x="2679" y="2006"/>
                  </a:lnTo>
                  <a:lnTo>
                    <a:pt x="2692" y="2013"/>
                  </a:lnTo>
                  <a:lnTo>
                    <a:pt x="2699" y="2013"/>
                  </a:lnTo>
                  <a:lnTo>
                    <a:pt x="2713" y="2020"/>
                  </a:lnTo>
                  <a:lnTo>
                    <a:pt x="2720" y="2027"/>
                  </a:lnTo>
                  <a:lnTo>
                    <a:pt x="2727" y="2034"/>
                  </a:lnTo>
                  <a:lnTo>
                    <a:pt x="2741" y="2034"/>
                  </a:lnTo>
                  <a:lnTo>
                    <a:pt x="2748" y="2041"/>
                  </a:lnTo>
                  <a:lnTo>
                    <a:pt x="2761" y="2048"/>
                  </a:lnTo>
                  <a:lnTo>
                    <a:pt x="2768" y="2055"/>
                  </a:lnTo>
                  <a:lnTo>
                    <a:pt x="2782" y="2055"/>
                  </a:lnTo>
                  <a:lnTo>
                    <a:pt x="2789" y="2061"/>
                  </a:lnTo>
                  <a:lnTo>
                    <a:pt x="2803" y="2068"/>
                  </a:lnTo>
                  <a:lnTo>
                    <a:pt x="2810" y="2075"/>
                  </a:lnTo>
                  <a:lnTo>
                    <a:pt x="2817" y="2075"/>
                  </a:lnTo>
                  <a:lnTo>
                    <a:pt x="2831" y="2082"/>
                  </a:lnTo>
                  <a:lnTo>
                    <a:pt x="2837" y="2089"/>
                  </a:lnTo>
                  <a:lnTo>
                    <a:pt x="2851" y="2096"/>
                  </a:lnTo>
                  <a:lnTo>
                    <a:pt x="2858" y="2096"/>
                  </a:lnTo>
                  <a:lnTo>
                    <a:pt x="2872" y="2103"/>
                  </a:lnTo>
                  <a:lnTo>
                    <a:pt x="2879" y="2110"/>
                  </a:lnTo>
                  <a:lnTo>
                    <a:pt x="2893" y="2117"/>
                  </a:lnTo>
                  <a:lnTo>
                    <a:pt x="2900" y="2117"/>
                  </a:lnTo>
                  <a:lnTo>
                    <a:pt x="2906" y="2123"/>
                  </a:lnTo>
                  <a:lnTo>
                    <a:pt x="2920" y="2130"/>
                  </a:lnTo>
                  <a:lnTo>
                    <a:pt x="2927" y="2130"/>
                  </a:lnTo>
                  <a:lnTo>
                    <a:pt x="2941" y="2137"/>
                  </a:lnTo>
                  <a:lnTo>
                    <a:pt x="2948" y="2144"/>
                  </a:lnTo>
                  <a:lnTo>
                    <a:pt x="2962" y="2151"/>
                  </a:lnTo>
                  <a:lnTo>
                    <a:pt x="2969" y="2151"/>
                  </a:lnTo>
                  <a:lnTo>
                    <a:pt x="2982" y="2158"/>
                  </a:lnTo>
                  <a:lnTo>
                    <a:pt x="2989" y="2165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0" name=""/>
            <p:cNvGrpSpPr/>
            <p:nvPr/>
          </p:nvGrpSpPr>
          <p:grpSpPr>
            <a:xfrm>
              <a:off x="4119480" y="5552640"/>
              <a:ext cx="1935360" cy="689040"/>
              <a:chOff x="4119480" y="5552640"/>
              <a:chExt cx="1935360" cy="689040"/>
            </a:xfrm>
          </p:grpSpPr>
          <p:sp>
            <p:nvSpPr>
              <p:cNvPr id="2911" name=""/>
              <p:cNvSpPr/>
              <p:nvPr/>
            </p:nvSpPr>
            <p:spPr>
              <a:xfrm>
                <a:off x="4119480" y="5783400"/>
                <a:ext cx="127008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p=3d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5394240" y="5552640"/>
                <a:ext cx="660600" cy="476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2BD3-8447-4FED-88A0-A7EDEB3FAF5F}" type="slidenum">
              <a:t>71</a:t>
            </a:fld>
          </a:p>
        </p:txBody>
      </p:sp>
    </p:spTree>
  </p:cSld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447920" y="2819160"/>
            <a:ext cx="76960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4. Chebyshevljeva aproksimacija (Tip II)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A4C5-5262-42B4-86DA-73ED344A451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Chebyshev tip II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1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4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,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alovitost u pod. guš.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40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7" name=""/>
          <p:cNvGrpSpPr/>
          <p:nvPr/>
        </p:nvGrpSpPr>
        <p:grpSpPr>
          <a:xfrm>
            <a:off x="2292480" y="2543040"/>
            <a:ext cx="4808520" cy="3783240"/>
            <a:chOff x="2292480" y="2543040"/>
            <a:chExt cx="4808520" cy="3783240"/>
          </a:xfrm>
        </p:grpSpPr>
        <p:sp>
          <p:nvSpPr>
            <p:cNvPr id="2918" name=""/>
            <p:cNvSpPr/>
            <p:nvPr/>
          </p:nvSpPr>
          <p:spPr>
            <a:xfrm>
              <a:off x="2292480" y="2543040"/>
              <a:ext cx="2157120" cy="3781440"/>
            </a:xfrm>
            <a:custGeom>
              <a:avLst/>
              <a:gdLst/>
              <a:ahLst/>
              <a:rect l="l" t="t" r="r" b="b"/>
              <a:pathLst>
                <a:path w="1359" h="2382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84" y="14"/>
                  </a:lnTo>
                  <a:lnTo>
                    <a:pt x="91" y="28"/>
                  </a:lnTo>
                  <a:lnTo>
                    <a:pt x="98" y="42"/>
                  </a:lnTo>
                  <a:lnTo>
                    <a:pt x="112" y="56"/>
                  </a:lnTo>
                  <a:lnTo>
                    <a:pt x="119" y="70"/>
                  </a:lnTo>
                  <a:lnTo>
                    <a:pt x="133" y="91"/>
                  </a:lnTo>
                  <a:lnTo>
                    <a:pt x="140" y="119"/>
                  </a:lnTo>
                  <a:lnTo>
                    <a:pt x="154" y="140"/>
                  </a:lnTo>
                  <a:lnTo>
                    <a:pt x="161" y="168"/>
                  </a:lnTo>
                  <a:lnTo>
                    <a:pt x="175" y="196"/>
                  </a:lnTo>
                  <a:lnTo>
                    <a:pt x="182" y="224"/>
                  </a:lnTo>
                  <a:lnTo>
                    <a:pt x="189" y="252"/>
                  </a:lnTo>
                  <a:lnTo>
                    <a:pt x="203" y="287"/>
                  </a:lnTo>
                  <a:lnTo>
                    <a:pt x="210" y="315"/>
                  </a:lnTo>
                  <a:lnTo>
                    <a:pt x="224" y="343"/>
                  </a:lnTo>
                  <a:lnTo>
                    <a:pt x="231" y="364"/>
                  </a:lnTo>
                  <a:lnTo>
                    <a:pt x="245" y="392"/>
                  </a:lnTo>
                  <a:lnTo>
                    <a:pt x="252" y="419"/>
                  </a:lnTo>
                  <a:lnTo>
                    <a:pt x="266" y="447"/>
                  </a:lnTo>
                  <a:lnTo>
                    <a:pt x="273" y="468"/>
                  </a:lnTo>
                  <a:lnTo>
                    <a:pt x="280" y="496"/>
                  </a:lnTo>
                  <a:lnTo>
                    <a:pt x="294" y="517"/>
                  </a:lnTo>
                  <a:lnTo>
                    <a:pt x="301" y="545"/>
                  </a:lnTo>
                  <a:lnTo>
                    <a:pt x="315" y="566"/>
                  </a:lnTo>
                  <a:lnTo>
                    <a:pt x="322" y="587"/>
                  </a:lnTo>
                  <a:lnTo>
                    <a:pt x="336" y="608"/>
                  </a:lnTo>
                  <a:lnTo>
                    <a:pt x="343" y="629"/>
                  </a:lnTo>
                  <a:lnTo>
                    <a:pt x="357" y="650"/>
                  </a:lnTo>
                  <a:lnTo>
                    <a:pt x="364" y="671"/>
                  </a:lnTo>
                  <a:lnTo>
                    <a:pt x="371" y="692"/>
                  </a:lnTo>
                  <a:lnTo>
                    <a:pt x="385" y="713"/>
                  </a:lnTo>
                  <a:lnTo>
                    <a:pt x="392" y="727"/>
                  </a:lnTo>
                  <a:lnTo>
                    <a:pt x="406" y="748"/>
                  </a:lnTo>
                  <a:lnTo>
                    <a:pt x="413" y="769"/>
                  </a:lnTo>
                  <a:lnTo>
                    <a:pt x="427" y="783"/>
                  </a:lnTo>
                  <a:lnTo>
                    <a:pt x="434" y="804"/>
                  </a:lnTo>
                  <a:lnTo>
                    <a:pt x="448" y="818"/>
                  </a:lnTo>
                  <a:lnTo>
                    <a:pt x="455" y="838"/>
                  </a:lnTo>
                  <a:lnTo>
                    <a:pt x="462" y="852"/>
                  </a:lnTo>
                  <a:lnTo>
                    <a:pt x="476" y="873"/>
                  </a:lnTo>
                  <a:lnTo>
                    <a:pt x="483" y="887"/>
                  </a:lnTo>
                  <a:lnTo>
                    <a:pt x="497" y="901"/>
                  </a:lnTo>
                  <a:lnTo>
                    <a:pt x="504" y="915"/>
                  </a:lnTo>
                  <a:lnTo>
                    <a:pt x="518" y="936"/>
                  </a:lnTo>
                  <a:lnTo>
                    <a:pt x="525" y="950"/>
                  </a:lnTo>
                  <a:lnTo>
                    <a:pt x="532" y="964"/>
                  </a:lnTo>
                  <a:lnTo>
                    <a:pt x="546" y="978"/>
                  </a:lnTo>
                  <a:lnTo>
                    <a:pt x="553" y="992"/>
                  </a:lnTo>
                  <a:lnTo>
                    <a:pt x="567" y="1006"/>
                  </a:lnTo>
                  <a:lnTo>
                    <a:pt x="574" y="1020"/>
                  </a:lnTo>
                  <a:lnTo>
                    <a:pt x="588" y="1034"/>
                  </a:lnTo>
                  <a:lnTo>
                    <a:pt x="595" y="1055"/>
                  </a:lnTo>
                  <a:lnTo>
                    <a:pt x="609" y="1069"/>
                  </a:lnTo>
                  <a:lnTo>
                    <a:pt x="616" y="1083"/>
                  </a:lnTo>
                  <a:lnTo>
                    <a:pt x="623" y="1090"/>
                  </a:lnTo>
                  <a:lnTo>
                    <a:pt x="637" y="1104"/>
                  </a:lnTo>
                  <a:lnTo>
                    <a:pt x="644" y="1118"/>
                  </a:lnTo>
                  <a:lnTo>
                    <a:pt x="658" y="1132"/>
                  </a:lnTo>
                  <a:lnTo>
                    <a:pt x="665" y="1146"/>
                  </a:lnTo>
                  <a:lnTo>
                    <a:pt x="679" y="1160"/>
                  </a:lnTo>
                  <a:lnTo>
                    <a:pt x="686" y="1174"/>
                  </a:lnTo>
                  <a:lnTo>
                    <a:pt x="700" y="1188"/>
                  </a:lnTo>
                  <a:lnTo>
                    <a:pt x="707" y="1202"/>
                  </a:lnTo>
                  <a:lnTo>
                    <a:pt x="714" y="1216"/>
                  </a:lnTo>
                  <a:lnTo>
                    <a:pt x="728" y="1230"/>
                  </a:lnTo>
                  <a:lnTo>
                    <a:pt x="735" y="1237"/>
                  </a:lnTo>
                  <a:lnTo>
                    <a:pt x="749" y="1251"/>
                  </a:lnTo>
                  <a:lnTo>
                    <a:pt x="756" y="1264"/>
                  </a:lnTo>
                  <a:lnTo>
                    <a:pt x="770" y="1278"/>
                  </a:lnTo>
                  <a:lnTo>
                    <a:pt x="777" y="1292"/>
                  </a:lnTo>
                  <a:lnTo>
                    <a:pt x="791" y="1306"/>
                  </a:lnTo>
                  <a:lnTo>
                    <a:pt x="798" y="1313"/>
                  </a:lnTo>
                  <a:lnTo>
                    <a:pt x="805" y="1327"/>
                  </a:lnTo>
                  <a:lnTo>
                    <a:pt x="819" y="1341"/>
                  </a:lnTo>
                  <a:lnTo>
                    <a:pt x="826" y="1355"/>
                  </a:lnTo>
                  <a:lnTo>
                    <a:pt x="840" y="1369"/>
                  </a:lnTo>
                  <a:lnTo>
                    <a:pt x="847" y="1376"/>
                  </a:lnTo>
                  <a:lnTo>
                    <a:pt x="861" y="1390"/>
                  </a:lnTo>
                  <a:lnTo>
                    <a:pt x="868" y="1404"/>
                  </a:lnTo>
                  <a:lnTo>
                    <a:pt x="882" y="1418"/>
                  </a:lnTo>
                  <a:lnTo>
                    <a:pt x="889" y="1432"/>
                  </a:lnTo>
                  <a:lnTo>
                    <a:pt x="896" y="1446"/>
                  </a:lnTo>
                  <a:lnTo>
                    <a:pt x="910" y="1453"/>
                  </a:lnTo>
                  <a:lnTo>
                    <a:pt x="917" y="1467"/>
                  </a:lnTo>
                  <a:lnTo>
                    <a:pt x="931" y="1481"/>
                  </a:lnTo>
                  <a:lnTo>
                    <a:pt x="938" y="1495"/>
                  </a:lnTo>
                  <a:lnTo>
                    <a:pt x="952" y="1509"/>
                  </a:lnTo>
                  <a:lnTo>
                    <a:pt x="959" y="1523"/>
                  </a:lnTo>
                  <a:lnTo>
                    <a:pt x="972" y="1537"/>
                  </a:lnTo>
                  <a:lnTo>
                    <a:pt x="979" y="1544"/>
                  </a:lnTo>
                  <a:lnTo>
                    <a:pt x="986" y="1558"/>
                  </a:lnTo>
                  <a:lnTo>
                    <a:pt x="1000" y="1572"/>
                  </a:lnTo>
                  <a:lnTo>
                    <a:pt x="1007" y="1586"/>
                  </a:lnTo>
                  <a:lnTo>
                    <a:pt x="1021" y="1600"/>
                  </a:lnTo>
                  <a:lnTo>
                    <a:pt x="1028" y="1614"/>
                  </a:lnTo>
                  <a:lnTo>
                    <a:pt x="1042" y="1628"/>
                  </a:lnTo>
                  <a:lnTo>
                    <a:pt x="1049" y="1642"/>
                  </a:lnTo>
                  <a:lnTo>
                    <a:pt x="1063" y="1656"/>
                  </a:lnTo>
                  <a:lnTo>
                    <a:pt x="1070" y="1676"/>
                  </a:lnTo>
                  <a:lnTo>
                    <a:pt x="1077" y="1690"/>
                  </a:lnTo>
                  <a:lnTo>
                    <a:pt x="1091" y="1704"/>
                  </a:lnTo>
                  <a:lnTo>
                    <a:pt x="1098" y="1718"/>
                  </a:lnTo>
                  <a:lnTo>
                    <a:pt x="1112" y="1732"/>
                  </a:lnTo>
                  <a:lnTo>
                    <a:pt x="1119" y="1753"/>
                  </a:lnTo>
                  <a:lnTo>
                    <a:pt x="1133" y="1767"/>
                  </a:lnTo>
                  <a:lnTo>
                    <a:pt x="1140" y="1781"/>
                  </a:lnTo>
                  <a:lnTo>
                    <a:pt x="1154" y="1802"/>
                  </a:lnTo>
                  <a:lnTo>
                    <a:pt x="1161" y="1816"/>
                  </a:lnTo>
                  <a:lnTo>
                    <a:pt x="1168" y="1837"/>
                  </a:lnTo>
                  <a:lnTo>
                    <a:pt x="1182" y="1858"/>
                  </a:lnTo>
                  <a:lnTo>
                    <a:pt x="1189" y="1872"/>
                  </a:lnTo>
                  <a:lnTo>
                    <a:pt x="1203" y="1893"/>
                  </a:lnTo>
                  <a:lnTo>
                    <a:pt x="1210" y="1914"/>
                  </a:lnTo>
                  <a:lnTo>
                    <a:pt x="1224" y="1935"/>
                  </a:lnTo>
                  <a:lnTo>
                    <a:pt x="1231" y="1956"/>
                  </a:lnTo>
                  <a:lnTo>
                    <a:pt x="1245" y="1977"/>
                  </a:lnTo>
                  <a:lnTo>
                    <a:pt x="1252" y="2005"/>
                  </a:lnTo>
                  <a:lnTo>
                    <a:pt x="1259" y="2026"/>
                  </a:lnTo>
                  <a:lnTo>
                    <a:pt x="1273" y="2054"/>
                  </a:lnTo>
                  <a:lnTo>
                    <a:pt x="1280" y="2082"/>
                  </a:lnTo>
                  <a:lnTo>
                    <a:pt x="1294" y="2109"/>
                  </a:lnTo>
                  <a:lnTo>
                    <a:pt x="1301" y="2137"/>
                  </a:lnTo>
                  <a:lnTo>
                    <a:pt x="1315" y="2172"/>
                  </a:lnTo>
                  <a:lnTo>
                    <a:pt x="1322" y="2207"/>
                  </a:lnTo>
                  <a:lnTo>
                    <a:pt x="1336" y="2249"/>
                  </a:lnTo>
                  <a:lnTo>
                    <a:pt x="1343" y="2291"/>
                  </a:lnTo>
                  <a:lnTo>
                    <a:pt x="1350" y="2340"/>
                  </a:lnTo>
                  <a:lnTo>
                    <a:pt x="1358" y="2381"/>
                  </a:lnTo>
                  <a:lnTo>
                    <a:pt x="1357" y="2378"/>
                  </a:lnTo>
                  <a:lnTo>
                    <a:pt x="1357" y="2381"/>
                  </a:lnTo>
                  <a:lnTo>
                    <a:pt x="1354" y="2380"/>
                  </a:lnTo>
                  <a:lnTo>
                    <a:pt x="1354" y="2381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80000" y="5203800"/>
              <a:ext cx="2421000" cy="1122480"/>
            </a:xfrm>
            <a:custGeom>
              <a:avLst/>
              <a:gdLst/>
              <a:ahLst/>
              <a:rect l="l" t="t" r="r" b="b"/>
              <a:pathLst>
                <a:path w="1525" h="707">
                  <a:moveTo>
                    <a:pt x="0" y="704"/>
                  </a:moveTo>
                  <a:lnTo>
                    <a:pt x="0" y="701"/>
                  </a:lnTo>
                  <a:lnTo>
                    <a:pt x="2" y="702"/>
                  </a:lnTo>
                  <a:lnTo>
                    <a:pt x="0" y="704"/>
                  </a:lnTo>
                  <a:lnTo>
                    <a:pt x="0" y="705"/>
                  </a:lnTo>
                  <a:lnTo>
                    <a:pt x="0" y="706"/>
                  </a:lnTo>
                  <a:lnTo>
                    <a:pt x="14" y="671"/>
                  </a:lnTo>
                  <a:lnTo>
                    <a:pt x="21" y="636"/>
                  </a:lnTo>
                  <a:lnTo>
                    <a:pt x="28" y="601"/>
                  </a:lnTo>
                  <a:lnTo>
                    <a:pt x="42" y="573"/>
                  </a:lnTo>
                  <a:lnTo>
                    <a:pt x="49" y="552"/>
                  </a:lnTo>
                  <a:lnTo>
                    <a:pt x="63" y="531"/>
                  </a:lnTo>
                  <a:lnTo>
                    <a:pt x="70" y="503"/>
                  </a:lnTo>
                  <a:lnTo>
                    <a:pt x="84" y="489"/>
                  </a:lnTo>
                  <a:lnTo>
                    <a:pt x="91" y="468"/>
                  </a:lnTo>
                  <a:lnTo>
                    <a:pt x="98" y="454"/>
                  </a:lnTo>
                  <a:lnTo>
                    <a:pt x="112" y="433"/>
                  </a:lnTo>
                  <a:lnTo>
                    <a:pt x="119" y="419"/>
                  </a:lnTo>
                  <a:lnTo>
                    <a:pt x="133" y="406"/>
                  </a:lnTo>
                  <a:lnTo>
                    <a:pt x="140" y="392"/>
                  </a:lnTo>
                  <a:lnTo>
                    <a:pt x="154" y="385"/>
                  </a:lnTo>
                  <a:lnTo>
                    <a:pt x="161" y="371"/>
                  </a:lnTo>
                  <a:lnTo>
                    <a:pt x="175" y="357"/>
                  </a:lnTo>
                  <a:lnTo>
                    <a:pt x="182" y="350"/>
                  </a:lnTo>
                  <a:lnTo>
                    <a:pt x="189" y="336"/>
                  </a:lnTo>
                  <a:lnTo>
                    <a:pt x="203" y="329"/>
                  </a:lnTo>
                  <a:lnTo>
                    <a:pt x="210" y="315"/>
                  </a:lnTo>
                  <a:lnTo>
                    <a:pt x="224" y="308"/>
                  </a:lnTo>
                  <a:lnTo>
                    <a:pt x="231" y="301"/>
                  </a:lnTo>
                  <a:lnTo>
                    <a:pt x="245" y="294"/>
                  </a:lnTo>
                  <a:lnTo>
                    <a:pt x="252" y="287"/>
                  </a:lnTo>
                  <a:lnTo>
                    <a:pt x="266" y="280"/>
                  </a:lnTo>
                  <a:lnTo>
                    <a:pt x="273" y="273"/>
                  </a:lnTo>
                  <a:lnTo>
                    <a:pt x="280" y="266"/>
                  </a:lnTo>
                  <a:lnTo>
                    <a:pt x="294" y="259"/>
                  </a:lnTo>
                  <a:lnTo>
                    <a:pt x="301" y="252"/>
                  </a:lnTo>
                  <a:lnTo>
                    <a:pt x="315" y="245"/>
                  </a:lnTo>
                  <a:lnTo>
                    <a:pt x="322" y="238"/>
                  </a:lnTo>
                  <a:lnTo>
                    <a:pt x="336" y="231"/>
                  </a:lnTo>
                  <a:lnTo>
                    <a:pt x="343" y="224"/>
                  </a:lnTo>
                  <a:lnTo>
                    <a:pt x="357" y="217"/>
                  </a:lnTo>
                  <a:lnTo>
                    <a:pt x="364" y="217"/>
                  </a:lnTo>
                  <a:lnTo>
                    <a:pt x="371" y="210"/>
                  </a:lnTo>
                  <a:lnTo>
                    <a:pt x="385" y="203"/>
                  </a:lnTo>
                  <a:lnTo>
                    <a:pt x="392" y="203"/>
                  </a:lnTo>
                  <a:lnTo>
                    <a:pt x="406" y="196"/>
                  </a:lnTo>
                  <a:lnTo>
                    <a:pt x="413" y="189"/>
                  </a:lnTo>
                  <a:lnTo>
                    <a:pt x="427" y="189"/>
                  </a:lnTo>
                  <a:lnTo>
                    <a:pt x="434" y="182"/>
                  </a:lnTo>
                  <a:lnTo>
                    <a:pt x="447" y="175"/>
                  </a:lnTo>
                  <a:lnTo>
                    <a:pt x="454" y="175"/>
                  </a:lnTo>
                  <a:lnTo>
                    <a:pt x="461" y="168"/>
                  </a:lnTo>
                  <a:lnTo>
                    <a:pt x="475" y="168"/>
                  </a:lnTo>
                  <a:lnTo>
                    <a:pt x="482" y="161"/>
                  </a:lnTo>
                  <a:lnTo>
                    <a:pt x="496" y="161"/>
                  </a:lnTo>
                  <a:lnTo>
                    <a:pt x="503" y="154"/>
                  </a:lnTo>
                  <a:lnTo>
                    <a:pt x="517" y="154"/>
                  </a:lnTo>
                  <a:lnTo>
                    <a:pt x="524" y="147"/>
                  </a:lnTo>
                  <a:lnTo>
                    <a:pt x="538" y="147"/>
                  </a:lnTo>
                  <a:lnTo>
                    <a:pt x="545" y="140"/>
                  </a:lnTo>
                  <a:lnTo>
                    <a:pt x="552" y="140"/>
                  </a:lnTo>
                  <a:lnTo>
                    <a:pt x="566" y="133"/>
                  </a:lnTo>
                  <a:lnTo>
                    <a:pt x="573" y="133"/>
                  </a:lnTo>
                  <a:lnTo>
                    <a:pt x="587" y="126"/>
                  </a:lnTo>
                  <a:lnTo>
                    <a:pt x="594" y="126"/>
                  </a:lnTo>
                  <a:lnTo>
                    <a:pt x="608" y="126"/>
                  </a:lnTo>
                  <a:lnTo>
                    <a:pt x="615" y="119"/>
                  </a:lnTo>
                  <a:lnTo>
                    <a:pt x="629" y="119"/>
                  </a:lnTo>
                  <a:lnTo>
                    <a:pt x="636" y="112"/>
                  </a:lnTo>
                  <a:lnTo>
                    <a:pt x="643" y="112"/>
                  </a:lnTo>
                  <a:lnTo>
                    <a:pt x="657" y="112"/>
                  </a:lnTo>
                  <a:lnTo>
                    <a:pt x="664" y="105"/>
                  </a:lnTo>
                  <a:lnTo>
                    <a:pt x="678" y="105"/>
                  </a:lnTo>
                  <a:lnTo>
                    <a:pt x="685" y="105"/>
                  </a:lnTo>
                  <a:lnTo>
                    <a:pt x="699" y="98"/>
                  </a:lnTo>
                  <a:lnTo>
                    <a:pt x="706" y="98"/>
                  </a:lnTo>
                  <a:lnTo>
                    <a:pt x="720" y="98"/>
                  </a:lnTo>
                  <a:lnTo>
                    <a:pt x="727" y="91"/>
                  </a:lnTo>
                  <a:lnTo>
                    <a:pt x="734" y="91"/>
                  </a:lnTo>
                  <a:lnTo>
                    <a:pt x="748" y="91"/>
                  </a:lnTo>
                  <a:lnTo>
                    <a:pt x="755" y="84"/>
                  </a:lnTo>
                  <a:lnTo>
                    <a:pt x="769" y="84"/>
                  </a:lnTo>
                  <a:lnTo>
                    <a:pt x="776" y="84"/>
                  </a:lnTo>
                  <a:lnTo>
                    <a:pt x="790" y="84"/>
                  </a:lnTo>
                  <a:lnTo>
                    <a:pt x="797" y="77"/>
                  </a:lnTo>
                  <a:lnTo>
                    <a:pt x="811" y="77"/>
                  </a:lnTo>
                  <a:lnTo>
                    <a:pt x="818" y="77"/>
                  </a:lnTo>
                  <a:lnTo>
                    <a:pt x="825" y="77"/>
                  </a:lnTo>
                  <a:lnTo>
                    <a:pt x="839" y="70"/>
                  </a:lnTo>
                  <a:lnTo>
                    <a:pt x="846" y="70"/>
                  </a:lnTo>
                  <a:lnTo>
                    <a:pt x="860" y="70"/>
                  </a:lnTo>
                  <a:lnTo>
                    <a:pt x="867" y="70"/>
                  </a:lnTo>
                  <a:lnTo>
                    <a:pt x="881" y="63"/>
                  </a:lnTo>
                  <a:lnTo>
                    <a:pt x="888" y="63"/>
                  </a:lnTo>
                  <a:lnTo>
                    <a:pt x="902" y="63"/>
                  </a:lnTo>
                  <a:lnTo>
                    <a:pt x="909" y="63"/>
                  </a:lnTo>
                  <a:lnTo>
                    <a:pt x="916" y="56"/>
                  </a:lnTo>
                  <a:lnTo>
                    <a:pt x="930" y="56"/>
                  </a:lnTo>
                  <a:lnTo>
                    <a:pt x="937" y="56"/>
                  </a:lnTo>
                  <a:lnTo>
                    <a:pt x="951" y="56"/>
                  </a:lnTo>
                  <a:lnTo>
                    <a:pt x="958" y="56"/>
                  </a:lnTo>
                  <a:lnTo>
                    <a:pt x="972" y="49"/>
                  </a:lnTo>
                  <a:lnTo>
                    <a:pt x="979" y="49"/>
                  </a:lnTo>
                  <a:lnTo>
                    <a:pt x="993" y="49"/>
                  </a:lnTo>
                  <a:lnTo>
                    <a:pt x="1000" y="49"/>
                  </a:lnTo>
                  <a:lnTo>
                    <a:pt x="1007" y="49"/>
                  </a:lnTo>
                  <a:lnTo>
                    <a:pt x="1021" y="42"/>
                  </a:lnTo>
                  <a:lnTo>
                    <a:pt x="1028" y="42"/>
                  </a:lnTo>
                  <a:lnTo>
                    <a:pt x="1042" y="42"/>
                  </a:lnTo>
                  <a:lnTo>
                    <a:pt x="1049" y="42"/>
                  </a:lnTo>
                  <a:lnTo>
                    <a:pt x="1063" y="42"/>
                  </a:lnTo>
                  <a:lnTo>
                    <a:pt x="1070" y="35"/>
                  </a:lnTo>
                  <a:lnTo>
                    <a:pt x="1077" y="35"/>
                  </a:lnTo>
                  <a:lnTo>
                    <a:pt x="1091" y="35"/>
                  </a:lnTo>
                  <a:lnTo>
                    <a:pt x="1098" y="35"/>
                  </a:lnTo>
                  <a:lnTo>
                    <a:pt x="1112" y="35"/>
                  </a:lnTo>
                  <a:lnTo>
                    <a:pt x="1119" y="35"/>
                  </a:lnTo>
                  <a:lnTo>
                    <a:pt x="1133" y="28"/>
                  </a:lnTo>
                  <a:lnTo>
                    <a:pt x="1140" y="28"/>
                  </a:lnTo>
                  <a:lnTo>
                    <a:pt x="1154" y="28"/>
                  </a:lnTo>
                  <a:lnTo>
                    <a:pt x="1161" y="28"/>
                  </a:lnTo>
                  <a:lnTo>
                    <a:pt x="1168" y="28"/>
                  </a:lnTo>
                  <a:lnTo>
                    <a:pt x="1182" y="28"/>
                  </a:lnTo>
                  <a:lnTo>
                    <a:pt x="1189" y="28"/>
                  </a:lnTo>
                  <a:lnTo>
                    <a:pt x="1203" y="21"/>
                  </a:lnTo>
                  <a:lnTo>
                    <a:pt x="1210" y="21"/>
                  </a:lnTo>
                  <a:lnTo>
                    <a:pt x="1224" y="21"/>
                  </a:lnTo>
                  <a:lnTo>
                    <a:pt x="1231" y="21"/>
                  </a:lnTo>
                  <a:lnTo>
                    <a:pt x="1245" y="21"/>
                  </a:lnTo>
                  <a:lnTo>
                    <a:pt x="1252" y="21"/>
                  </a:lnTo>
                  <a:lnTo>
                    <a:pt x="1259" y="21"/>
                  </a:lnTo>
                  <a:lnTo>
                    <a:pt x="1273" y="14"/>
                  </a:lnTo>
                  <a:lnTo>
                    <a:pt x="1280" y="14"/>
                  </a:lnTo>
                  <a:lnTo>
                    <a:pt x="1294" y="14"/>
                  </a:lnTo>
                  <a:lnTo>
                    <a:pt x="1301" y="14"/>
                  </a:lnTo>
                  <a:lnTo>
                    <a:pt x="1315" y="14"/>
                  </a:lnTo>
                  <a:lnTo>
                    <a:pt x="1322" y="14"/>
                  </a:lnTo>
                  <a:lnTo>
                    <a:pt x="1336" y="14"/>
                  </a:lnTo>
                  <a:lnTo>
                    <a:pt x="1343" y="14"/>
                  </a:lnTo>
                  <a:lnTo>
                    <a:pt x="1350" y="14"/>
                  </a:lnTo>
                  <a:lnTo>
                    <a:pt x="1364" y="7"/>
                  </a:lnTo>
                  <a:lnTo>
                    <a:pt x="1371" y="7"/>
                  </a:lnTo>
                  <a:lnTo>
                    <a:pt x="1385" y="7"/>
                  </a:lnTo>
                  <a:lnTo>
                    <a:pt x="1392" y="7"/>
                  </a:lnTo>
                  <a:lnTo>
                    <a:pt x="1406" y="7"/>
                  </a:lnTo>
                  <a:lnTo>
                    <a:pt x="1413" y="7"/>
                  </a:lnTo>
                  <a:lnTo>
                    <a:pt x="1426" y="7"/>
                  </a:lnTo>
                  <a:lnTo>
                    <a:pt x="1433" y="7"/>
                  </a:lnTo>
                  <a:lnTo>
                    <a:pt x="1440" y="7"/>
                  </a:lnTo>
                  <a:lnTo>
                    <a:pt x="1454" y="0"/>
                  </a:lnTo>
                  <a:lnTo>
                    <a:pt x="1461" y="0"/>
                  </a:lnTo>
                  <a:lnTo>
                    <a:pt x="1475" y="0"/>
                  </a:lnTo>
                  <a:lnTo>
                    <a:pt x="1482" y="0"/>
                  </a:lnTo>
                  <a:lnTo>
                    <a:pt x="1496" y="0"/>
                  </a:lnTo>
                  <a:lnTo>
                    <a:pt x="1503" y="0"/>
                  </a:lnTo>
                  <a:lnTo>
                    <a:pt x="1517" y="0"/>
                  </a:lnTo>
                  <a:lnTo>
                    <a:pt x="1524" y="0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2292480" y="2543040"/>
            <a:ext cx="4808520" cy="3783240"/>
            <a:chOff x="2292480" y="2543040"/>
            <a:chExt cx="4808520" cy="3783240"/>
          </a:xfrm>
        </p:grpSpPr>
        <p:sp>
          <p:nvSpPr>
            <p:cNvPr id="2921" name=""/>
            <p:cNvSpPr/>
            <p:nvPr/>
          </p:nvSpPr>
          <p:spPr>
            <a:xfrm>
              <a:off x="2292480" y="2543040"/>
              <a:ext cx="1815840" cy="3783240"/>
            </a:xfrm>
            <a:custGeom>
              <a:avLst/>
              <a:gdLst/>
              <a:ahLst/>
              <a:rect l="l" t="t" r="r" b="b"/>
              <a:pathLst>
                <a:path w="1144" h="2383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75" y="0"/>
                  </a:lnTo>
                  <a:lnTo>
                    <a:pt x="182" y="7"/>
                  </a:lnTo>
                  <a:lnTo>
                    <a:pt x="189" y="7"/>
                  </a:lnTo>
                  <a:lnTo>
                    <a:pt x="203" y="7"/>
                  </a:lnTo>
                  <a:lnTo>
                    <a:pt x="210" y="7"/>
                  </a:lnTo>
                  <a:lnTo>
                    <a:pt x="224" y="14"/>
                  </a:lnTo>
                  <a:lnTo>
                    <a:pt x="231" y="14"/>
                  </a:lnTo>
                  <a:lnTo>
                    <a:pt x="245" y="21"/>
                  </a:lnTo>
                  <a:lnTo>
                    <a:pt x="252" y="28"/>
                  </a:lnTo>
                  <a:lnTo>
                    <a:pt x="266" y="35"/>
                  </a:lnTo>
                  <a:lnTo>
                    <a:pt x="273" y="42"/>
                  </a:lnTo>
                  <a:lnTo>
                    <a:pt x="280" y="49"/>
                  </a:lnTo>
                  <a:lnTo>
                    <a:pt x="294" y="63"/>
                  </a:lnTo>
                  <a:lnTo>
                    <a:pt x="301" y="70"/>
                  </a:lnTo>
                  <a:lnTo>
                    <a:pt x="315" y="84"/>
                  </a:lnTo>
                  <a:lnTo>
                    <a:pt x="322" y="98"/>
                  </a:lnTo>
                  <a:lnTo>
                    <a:pt x="336" y="119"/>
                  </a:lnTo>
                  <a:lnTo>
                    <a:pt x="343" y="133"/>
                  </a:lnTo>
                  <a:lnTo>
                    <a:pt x="357" y="154"/>
                  </a:lnTo>
                  <a:lnTo>
                    <a:pt x="364" y="168"/>
                  </a:lnTo>
                  <a:lnTo>
                    <a:pt x="371" y="189"/>
                  </a:lnTo>
                  <a:lnTo>
                    <a:pt x="385" y="210"/>
                  </a:lnTo>
                  <a:lnTo>
                    <a:pt x="392" y="231"/>
                  </a:lnTo>
                  <a:lnTo>
                    <a:pt x="406" y="252"/>
                  </a:lnTo>
                  <a:lnTo>
                    <a:pt x="413" y="273"/>
                  </a:lnTo>
                  <a:lnTo>
                    <a:pt x="427" y="294"/>
                  </a:lnTo>
                  <a:lnTo>
                    <a:pt x="434" y="322"/>
                  </a:lnTo>
                  <a:lnTo>
                    <a:pt x="448" y="343"/>
                  </a:lnTo>
                  <a:lnTo>
                    <a:pt x="455" y="364"/>
                  </a:lnTo>
                  <a:lnTo>
                    <a:pt x="462" y="385"/>
                  </a:lnTo>
                  <a:lnTo>
                    <a:pt x="476" y="406"/>
                  </a:lnTo>
                  <a:lnTo>
                    <a:pt x="483" y="433"/>
                  </a:lnTo>
                  <a:lnTo>
                    <a:pt x="497" y="454"/>
                  </a:lnTo>
                  <a:lnTo>
                    <a:pt x="504" y="475"/>
                  </a:lnTo>
                  <a:lnTo>
                    <a:pt x="518" y="496"/>
                  </a:lnTo>
                  <a:lnTo>
                    <a:pt x="525" y="517"/>
                  </a:lnTo>
                  <a:lnTo>
                    <a:pt x="532" y="545"/>
                  </a:lnTo>
                  <a:lnTo>
                    <a:pt x="546" y="566"/>
                  </a:lnTo>
                  <a:lnTo>
                    <a:pt x="553" y="587"/>
                  </a:lnTo>
                  <a:lnTo>
                    <a:pt x="567" y="608"/>
                  </a:lnTo>
                  <a:lnTo>
                    <a:pt x="574" y="629"/>
                  </a:lnTo>
                  <a:lnTo>
                    <a:pt x="588" y="650"/>
                  </a:lnTo>
                  <a:lnTo>
                    <a:pt x="595" y="671"/>
                  </a:lnTo>
                  <a:lnTo>
                    <a:pt x="609" y="692"/>
                  </a:lnTo>
                  <a:lnTo>
                    <a:pt x="616" y="713"/>
                  </a:lnTo>
                  <a:lnTo>
                    <a:pt x="623" y="734"/>
                  </a:lnTo>
                  <a:lnTo>
                    <a:pt x="637" y="755"/>
                  </a:lnTo>
                  <a:lnTo>
                    <a:pt x="644" y="776"/>
                  </a:lnTo>
                  <a:lnTo>
                    <a:pt x="658" y="797"/>
                  </a:lnTo>
                  <a:lnTo>
                    <a:pt x="665" y="818"/>
                  </a:lnTo>
                  <a:lnTo>
                    <a:pt x="679" y="838"/>
                  </a:lnTo>
                  <a:lnTo>
                    <a:pt x="686" y="859"/>
                  </a:lnTo>
                  <a:lnTo>
                    <a:pt x="700" y="880"/>
                  </a:lnTo>
                  <a:lnTo>
                    <a:pt x="707" y="901"/>
                  </a:lnTo>
                  <a:lnTo>
                    <a:pt x="714" y="922"/>
                  </a:lnTo>
                  <a:lnTo>
                    <a:pt x="728" y="943"/>
                  </a:lnTo>
                  <a:lnTo>
                    <a:pt x="735" y="964"/>
                  </a:lnTo>
                  <a:lnTo>
                    <a:pt x="749" y="978"/>
                  </a:lnTo>
                  <a:lnTo>
                    <a:pt x="756" y="999"/>
                  </a:lnTo>
                  <a:lnTo>
                    <a:pt x="770" y="1020"/>
                  </a:lnTo>
                  <a:lnTo>
                    <a:pt x="777" y="1041"/>
                  </a:lnTo>
                  <a:lnTo>
                    <a:pt x="791" y="1062"/>
                  </a:lnTo>
                  <a:lnTo>
                    <a:pt x="798" y="1083"/>
                  </a:lnTo>
                  <a:lnTo>
                    <a:pt x="805" y="1104"/>
                  </a:lnTo>
                  <a:lnTo>
                    <a:pt x="819" y="1125"/>
                  </a:lnTo>
                  <a:lnTo>
                    <a:pt x="826" y="1146"/>
                  </a:lnTo>
                  <a:lnTo>
                    <a:pt x="840" y="1167"/>
                  </a:lnTo>
                  <a:lnTo>
                    <a:pt x="847" y="1188"/>
                  </a:lnTo>
                  <a:lnTo>
                    <a:pt x="861" y="1209"/>
                  </a:lnTo>
                  <a:lnTo>
                    <a:pt x="868" y="1237"/>
                  </a:lnTo>
                  <a:lnTo>
                    <a:pt x="882" y="1257"/>
                  </a:lnTo>
                  <a:lnTo>
                    <a:pt x="889" y="1278"/>
                  </a:lnTo>
                  <a:lnTo>
                    <a:pt x="896" y="1299"/>
                  </a:lnTo>
                  <a:lnTo>
                    <a:pt x="910" y="1320"/>
                  </a:lnTo>
                  <a:lnTo>
                    <a:pt x="917" y="1348"/>
                  </a:lnTo>
                  <a:lnTo>
                    <a:pt x="931" y="1369"/>
                  </a:lnTo>
                  <a:lnTo>
                    <a:pt x="938" y="1397"/>
                  </a:lnTo>
                  <a:lnTo>
                    <a:pt x="952" y="1418"/>
                  </a:lnTo>
                  <a:lnTo>
                    <a:pt x="959" y="1446"/>
                  </a:lnTo>
                  <a:lnTo>
                    <a:pt x="972" y="1474"/>
                  </a:lnTo>
                  <a:lnTo>
                    <a:pt x="979" y="1502"/>
                  </a:lnTo>
                  <a:lnTo>
                    <a:pt x="986" y="1530"/>
                  </a:lnTo>
                  <a:lnTo>
                    <a:pt x="1000" y="1558"/>
                  </a:lnTo>
                  <a:lnTo>
                    <a:pt x="1007" y="1586"/>
                  </a:lnTo>
                  <a:lnTo>
                    <a:pt x="1021" y="1621"/>
                  </a:lnTo>
                  <a:lnTo>
                    <a:pt x="1028" y="1656"/>
                  </a:lnTo>
                  <a:lnTo>
                    <a:pt x="1042" y="1690"/>
                  </a:lnTo>
                  <a:lnTo>
                    <a:pt x="1049" y="1725"/>
                  </a:lnTo>
                  <a:lnTo>
                    <a:pt x="1063" y="1767"/>
                  </a:lnTo>
                  <a:lnTo>
                    <a:pt x="1070" y="1809"/>
                  </a:lnTo>
                  <a:lnTo>
                    <a:pt x="1077" y="1858"/>
                  </a:lnTo>
                  <a:lnTo>
                    <a:pt x="1091" y="1907"/>
                  </a:lnTo>
                  <a:lnTo>
                    <a:pt x="1098" y="1963"/>
                  </a:lnTo>
                  <a:lnTo>
                    <a:pt x="1112" y="2033"/>
                  </a:lnTo>
                  <a:lnTo>
                    <a:pt x="1119" y="2109"/>
                  </a:lnTo>
                  <a:lnTo>
                    <a:pt x="1133" y="2200"/>
                  </a:lnTo>
                  <a:lnTo>
                    <a:pt x="1140" y="2326"/>
                  </a:lnTo>
                  <a:lnTo>
                    <a:pt x="1143" y="2382"/>
                  </a:lnTo>
                  <a:lnTo>
                    <a:pt x="1142" y="2381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175280" y="5060880"/>
              <a:ext cx="2925720" cy="1257480"/>
            </a:xfrm>
            <a:custGeom>
              <a:avLst/>
              <a:gdLst/>
              <a:ahLst/>
              <a:rect l="l" t="t" r="r" b="b"/>
              <a:pathLst>
                <a:path w="1843" h="792">
                  <a:moveTo>
                    <a:pt x="0" y="791"/>
                  </a:moveTo>
                  <a:lnTo>
                    <a:pt x="2" y="791"/>
                  </a:lnTo>
                  <a:lnTo>
                    <a:pt x="3" y="768"/>
                  </a:lnTo>
                  <a:lnTo>
                    <a:pt x="17" y="663"/>
                  </a:lnTo>
                  <a:lnTo>
                    <a:pt x="24" y="586"/>
                  </a:lnTo>
                  <a:lnTo>
                    <a:pt x="38" y="523"/>
                  </a:lnTo>
                  <a:lnTo>
                    <a:pt x="45" y="475"/>
                  </a:lnTo>
                  <a:lnTo>
                    <a:pt x="59" y="433"/>
                  </a:lnTo>
                  <a:lnTo>
                    <a:pt x="66" y="391"/>
                  </a:lnTo>
                  <a:lnTo>
                    <a:pt x="73" y="363"/>
                  </a:lnTo>
                  <a:lnTo>
                    <a:pt x="87" y="335"/>
                  </a:lnTo>
                  <a:lnTo>
                    <a:pt x="94" y="307"/>
                  </a:lnTo>
                  <a:lnTo>
                    <a:pt x="108" y="286"/>
                  </a:lnTo>
                  <a:lnTo>
                    <a:pt x="115" y="265"/>
                  </a:lnTo>
                  <a:lnTo>
                    <a:pt x="129" y="251"/>
                  </a:lnTo>
                  <a:lnTo>
                    <a:pt x="136" y="230"/>
                  </a:lnTo>
                  <a:lnTo>
                    <a:pt x="150" y="216"/>
                  </a:lnTo>
                  <a:lnTo>
                    <a:pt x="157" y="202"/>
                  </a:lnTo>
                  <a:lnTo>
                    <a:pt x="164" y="195"/>
                  </a:lnTo>
                  <a:lnTo>
                    <a:pt x="178" y="181"/>
                  </a:lnTo>
                  <a:lnTo>
                    <a:pt x="185" y="167"/>
                  </a:lnTo>
                  <a:lnTo>
                    <a:pt x="199" y="160"/>
                  </a:lnTo>
                  <a:lnTo>
                    <a:pt x="206" y="146"/>
                  </a:lnTo>
                  <a:lnTo>
                    <a:pt x="220" y="139"/>
                  </a:lnTo>
                  <a:lnTo>
                    <a:pt x="227" y="132"/>
                  </a:lnTo>
                  <a:lnTo>
                    <a:pt x="241" y="125"/>
                  </a:lnTo>
                  <a:lnTo>
                    <a:pt x="248" y="118"/>
                  </a:lnTo>
                  <a:lnTo>
                    <a:pt x="255" y="111"/>
                  </a:lnTo>
                  <a:lnTo>
                    <a:pt x="269" y="104"/>
                  </a:lnTo>
                  <a:lnTo>
                    <a:pt x="276" y="97"/>
                  </a:lnTo>
                  <a:lnTo>
                    <a:pt x="290" y="90"/>
                  </a:lnTo>
                  <a:lnTo>
                    <a:pt x="297" y="84"/>
                  </a:lnTo>
                  <a:lnTo>
                    <a:pt x="311" y="84"/>
                  </a:lnTo>
                  <a:lnTo>
                    <a:pt x="318" y="77"/>
                  </a:lnTo>
                  <a:lnTo>
                    <a:pt x="332" y="70"/>
                  </a:lnTo>
                  <a:lnTo>
                    <a:pt x="339" y="70"/>
                  </a:lnTo>
                  <a:lnTo>
                    <a:pt x="346" y="63"/>
                  </a:lnTo>
                  <a:lnTo>
                    <a:pt x="360" y="63"/>
                  </a:lnTo>
                  <a:lnTo>
                    <a:pt x="367" y="56"/>
                  </a:lnTo>
                  <a:lnTo>
                    <a:pt x="381" y="56"/>
                  </a:lnTo>
                  <a:lnTo>
                    <a:pt x="388" y="49"/>
                  </a:lnTo>
                  <a:lnTo>
                    <a:pt x="402" y="49"/>
                  </a:lnTo>
                  <a:lnTo>
                    <a:pt x="409" y="42"/>
                  </a:lnTo>
                  <a:lnTo>
                    <a:pt x="416" y="42"/>
                  </a:lnTo>
                  <a:lnTo>
                    <a:pt x="430" y="42"/>
                  </a:lnTo>
                  <a:lnTo>
                    <a:pt x="437" y="35"/>
                  </a:lnTo>
                  <a:lnTo>
                    <a:pt x="451" y="35"/>
                  </a:lnTo>
                  <a:lnTo>
                    <a:pt x="458" y="35"/>
                  </a:lnTo>
                  <a:lnTo>
                    <a:pt x="472" y="28"/>
                  </a:lnTo>
                  <a:lnTo>
                    <a:pt x="479" y="28"/>
                  </a:lnTo>
                  <a:lnTo>
                    <a:pt x="493" y="28"/>
                  </a:lnTo>
                  <a:lnTo>
                    <a:pt x="500" y="28"/>
                  </a:lnTo>
                  <a:lnTo>
                    <a:pt x="507" y="21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42" y="21"/>
                  </a:lnTo>
                  <a:lnTo>
                    <a:pt x="549" y="14"/>
                  </a:lnTo>
                  <a:lnTo>
                    <a:pt x="563" y="14"/>
                  </a:lnTo>
                  <a:lnTo>
                    <a:pt x="570" y="14"/>
                  </a:lnTo>
                  <a:lnTo>
                    <a:pt x="584" y="14"/>
                  </a:lnTo>
                  <a:lnTo>
                    <a:pt x="591" y="14"/>
                  </a:lnTo>
                  <a:lnTo>
                    <a:pt x="598" y="14"/>
                  </a:lnTo>
                  <a:lnTo>
                    <a:pt x="612" y="14"/>
                  </a:lnTo>
                  <a:lnTo>
                    <a:pt x="619" y="7"/>
                  </a:lnTo>
                  <a:lnTo>
                    <a:pt x="633" y="7"/>
                  </a:lnTo>
                  <a:lnTo>
                    <a:pt x="640" y="7"/>
                  </a:lnTo>
                  <a:lnTo>
                    <a:pt x="654" y="7"/>
                  </a:lnTo>
                  <a:lnTo>
                    <a:pt x="661" y="7"/>
                  </a:lnTo>
                  <a:lnTo>
                    <a:pt x="675" y="7"/>
                  </a:lnTo>
                  <a:lnTo>
                    <a:pt x="682" y="7"/>
                  </a:lnTo>
                  <a:lnTo>
                    <a:pt x="689" y="7"/>
                  </a:lnTo>
                  <a:lnTo>
                    <a:pt x="703" y="7"/>
                  </a:lnTo>
                  <a:lnTo>
                    <a:pt x="710" y="7"/>
                  </a:lnTo>
                  <a:lnTo>
                    <a:pt x="724" y="7"/>
                  </a:lnTo>
                  <a:lnTo>
                    <a:pt x="731" y="7"/>
                  </a:lnTo>
                  <a:lnTo>
                    <a:pt x="745" y="7"/>
                  </a:lnTo>
                  <a:lnTo>
                    <a:pt x="752" y="0"/>
                  </a:lnTo>
                  <a:lnTo>
                    <a:pt x="765" y="0"/>
                  </a:lnTo>
                  <a:lnTo>
                    <a:pt x="772" y="0"/>
                  </a:lnTo>
                  <a:lnTo>
                    <a:pt x="779" y="0"/>
                  </a:lnTo>
                  <a:lnTo>
                    <a:pt x="793" y="0"/>
                  </a:lnTo>
                  <a:lnTo>
                    <a:pt x="800" y="0"/>
                  </a:lnTo>
                  <a:lnTo>
                    <a:pt x="814" y="0"/>
                  </a:lnTo>
                  <a:lnTo>
                    <a:pt x="821" y="0"/>
                  </a:lnTo>
                  <a:lnTo>
                    <a:pt x="835" y="0"/>
                  </a:lnTo>
                  <a:lnTo>
                    <a:pt x="842" y="0"/>
                  </a:lnTo>
                  <a:lnTo>
                    <a:pt x="856" y="0"/>
                  </a:lnTo>
                  <a:lnTo>
                    <a:pt x="863" y="0"/>
                  </a:lnTo>
                  <a:lnTo>
                    <a:pt x="870" y="0"/>
                  </a:lnTo>
                  <a:lnTo>
                    <a:pt x="884" y="0"/>
                  </a:lnTo>
                  <a:lnTo>
                    <a:pt x="891" y="0"/>
                  </a:lnTo>
                  <a:lnTo>
                    <a:pt x="905" y="0"/>
                  </a:lnTo>
                  <a:lnTo>
                    <a:pt x="912" y="0"/>
                  </a:lnTo>
                  <a:lnTo>
                    <a:pt x="926" y="0"/>
                  </a:lnTo>
                  <a:lnTo>
                    <a:pt x="933" y="0"/>
                  </a:lnTo>
                  <a:lnTo>
                    <a:pt x="947" y="7"/>
                  </a:lnTo>
                  <a:lnTo>
                    <a:pt x="954" y="7"/>
                  </a:lnTo>
                  <a:lnTo>
                    <a:pt x="961" y="7"/>
                  </a:lnTo>
                  <a:lnTo>
                    <a:pt x="975" y="7"/>
                  </a:lnTo>
                  <a:lnTo>
                    <a:pt x="982" y="7"/>
                  </a:lnTo>
                  <a:lnTo>
                    <a:pt x="996" y="7"/>
                  </a:lnTo>
                  <a:lnTo>
                    <a:pt x="1003" y="7"/>
                  </a:lnTo>
                  <a:lnTo>
                    <a:pt x="1017" y="7"/>
                  </a:lnTo>
                  <a:lnTo>
                    <a:pt x="1024" y="7"/>
                  </a:lnTo>
                  <a:lnTo>
                    <a:pt x="1038" y="7"/>
                  </a:lnTo>
                  <a:lnTo>
                    <a:pt x="1045" y="7"/>
                  </a:lnTo>
                  <a:lnTo>
                    <a:pt x="1052" y="7"/>
                  </a:lnTo>
                  <a:lnTo>
                    <a:pt x="1066" y="7"/>
                  </a:lnTo>
                  <a:lnTo>
                    <a:pt x="1073" y="7"/>
                  </a:lnTo>
                  <a:lnTo>
                    <a:pt x="1087" y="7"/>
                  </a:lnTo>
                  <a:lnTo>
                    <a:pt x="1094" y="7"/>
                  </a:lnTo>
                  <a:lnTo>
                    <a:pt x="1108" y="7"/>
                  </a:lnTo>
                  <a:lnTo>
                    <a:pt x="1115" y="7"/>
                  </a:lnTo>
                  <a:lnTo>
                    <a:pt x="1129" y="7"/>
                  </a:lnTo>
                  <a:lnTo>
                    <a:pt x="1136" y="14"/>
                  </a:lnTo>
                  <a:lnTo>
                    <a:pt x="1143" y="14"/>
                  </a:lnTo>
                  <a:lnTo>
                    <a:pt x="1157" y="14"/>
                  </a:lnTo>
                  <a:lnTo>
                    <a:pt x="1164" y="14"/>
                  </a:lnTo>
                  <a:lnTo>
                    <a:pt x="1178" y="14"/>
                  </a:lnTo>
                  <a:lnTo>
                    <a:pt x="1185" y="14"/>
                  </a:lnTo>
                  <a:lnTo>
                    <a:pt x="1199" y="14"/>
                  </a:lnTo>
                  <a:lnTo>
                    <a:pt x="1206" y="14"/>
                  </a:lnTo>
                  <a:lnTo>
                    <a:pt x="1220" y="14"/>
                  </a:lnTo>
                  <a:lnTo>
                    <a:pt x="1227" y="14"/>
                  </a:lnTo>
                  <a:lnTo>
                    <a:pt x="1234" y="14"/>
                  </a:lnTo>
                  <a:lnTo>
                    <a:pt x="1248" y="14"/>
                  </a:lnTo>
                  <a:lnTo>
                    <a:pt x="1255" y="14"/>
                  </a:lnTo>
                  <a:lnTo>
                    <a:pt x="1269" y="21"/>
                  </a:lnTo>
                  <a:lnTo>
                    <a:pt x="1276" y="21"/>
                  </a:lnTo>
                  <a:lnTo>
                    <a:pt x="1290" y="21"/>
                  </a:lnTo>
                  <a:lnTo>
                    <a:pt x="1297" y="21"/>
                  </a:lnTo>
                  <a:lnTo>
                    <a:pt x="1311" y="21"/>
                  </a:lnTo>
                  <a:lnTo>
                    <a:pt x="1318" y="21"/>
                  </a:lnTo>
                  <a:lnTo>
                    <a:pt x="1325" y="21"/>
                  </a:lnTo>
                  <a:lnTo>
                    <a:pt x="1339" y="21"/>
                  </a:lnTo>
                  <a:lnTo>
                    <a:pt x="1346" y="21"/>
                  </a:lnTo>
                  <a:lnTo>
                    <a:pt x="1360" y="21"/>
                  </a:lnTo>
                  <a:lnTo>
                    <a:pt x="1367" y="21"/>
                  </a:lnTo>
                  <a:lnTo>
                    <a:pt x="1381" y="28"/>
                  </a:lnTo>
                  <a:lnTo>
                    <a:pt x="1388" y="28"/>
                  </a:lnTo>
                  <a:lnTo>
                    <a:pt x="1395" y="28"/>
                  </a:lnTo>
                  <a:lnTo>
                    <a:pt x="1409" y="28"/>
                  </a:lnTo>
                  <a:lnTo>
                    <a:pt x="1416" y="28"/>
                  </a:lnTo>
                  <a:lnTo>
                    <a:pt x="1430" y="28"/>
                  </a:lnTo>
                  <a:lnTo>
                    <a:pt x="1437" y="28"/>
                  </a:lnTo>
                  <a:lnTo>
                    <a:pt x="1451" y="28"/>
                  </a:lnTo>
                  <a:lnTo>
                    <a:pt x="1458" y="28"/>
                  </a:lnTo>
                  <a:lnTo>
                    <a:pt x="1472" y="28"/>
                  </a:lnTo>
                  <a:lnTo>
                    <a:pt x="1479" y="35"/>
                  </a:lnTo>
                  <a:lnTo>
                    <a:pt x="1486" y="35"/>
                  </a:lnTo>
                  <a:lnTo>
                    <a:pt x="1500" y="35"/>
                  </a:lnTo>
                  <a:lnTo>
                    <a:pt x="1507" y="35"/>
                  </a:lnTo>
                  <a:lnTo>
                    <a:pt x="1521" y="35"/>
                  </a:lnTo>
                  <a:lnTo>
                    <a:pt x="1528" y="35"/>
                  </a:lnTo>
                  <a:lnTo>
                    <a:pt x="1542" y="35"/>
                  </a:lnTo>
                  <a:lnTo>
                    <a:pt x="1549" y="35"/>
                  </a:lnTo>
                  <a:lnTo>
                    <a:pt x="1563" y="35"/>
                  </a:lnTo>
                  <a:lnTo>
                    <a:pt x="1570" y="35"/>
                  </a:lnTo>
                  <a:lnTo>
                    <a:pt x="1577" y="42"/>
                  </a:lnTo>
                  <a:lnTo>
                    <a:pt x="1591" y="42"/>
                  </a:lnTo>
                  <a:lnTo>
                    <a:pt x="1598" y="42"/>
                  </a:lnTo>
                  <a:lnTo>
                    <a:pt x="1612" y="42"/>
                  </a:lnTo>
                  <a:lnTo>
                    <a:pt x="1619" y="42"/>
                  </a:lnTo>
                  <a:lnTo>
                    <a:pt x="1633" y="42"/>
                  </a:lnTo>
                  <a:lnTo>
                    <a:pt x="1640" y="42"/>
                  </a:lnTo>
                  <a:lnTo>
                    <a:pt x="1654" y="42"/>
                  </a:lnTo>
                  <a:lnTo>
                    <a:pt x="1661" y="42"/>
                  </a:lnTo>
                  <a:lnTo>
                    <a:pt x="1668" y="42"/>
                  </a:lnTo>
                  <a:lnTo>
                    <a:pt x="1682" y="49"/>
                  </a:lnTo>
                  <a:lnTo>
                    <a:pt x="1689" y="49"/>
                  </a:lnTo>
                  <a:lnTo>
                    <a:pt x="1703" y="49"/>
                  </a:lnTo>
                  <a:lnTo>
                    <a:pt x="1710" y="49"/>
                  </a:lnTo>
                  <a:lnTo>
                    <a:pt x="1724" y="49"/>
                  </a:lnTo>
                  <a:lnTo>
                    <a:pt x="1731" y="49"/>
                  </a:lnTo>
                  <a:lnTo>
                    <a:pt x="1744" y="49"/>
                  </a:lnTo>
                  <a:lnTo>
                    <a:pt x="1751" y="49"/>
                  </a:lnTo>
                  <a:lnTo>
                    <a:pt x="1758" y="49"/>
                  </a:lnTo>
                  <a:lnTo>
                    <a:pt x="1772" y="49"/>
                  </a:lnTo>
                  <a:lnTo>
                    <a:pt x="1779" y="56"/>
                  </a:lnTo>
                  <a:lnTo>
                    <a:pt x="1793" y="56"/>
                  </a:lnTo>
                  <a:lnTo>
                    <a:pt x="1800" y="56"/>
                  </a:lnTo>
                  <a:lnTo>
                    <a:pt x="1814" y="56"/>
                  </a:lnTo>
                  <a:lnTo>
                    <a:pt x="1821" y="56"/>
                  </a:lnTo>
                  <a:lnTo>
                    <a:pt x="1835" y="56"/>
                  </a:lnTo>
                  <a:lnTo>
                    <a:pt x="1842" y="56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2292480" y="2543040"/>
            <a:ext cx="4808520" cy="3783240"/>
            <a:chOff x="2292480" y="2543040"/>
            <a:chExt cx="4808520" cy="3783240"/>
          </a:xfrm>
        </p:grpSpPr>
        <p:sp>
          <p:nvSpPr>
            <p:cNvPr id="2924" name=""/>
            <p:cNvSpPr/>
            <p:nvPr/>
          </p:nvSpPr>
          <p:spPr>
            <a:xfrm>
              <a:off x="2292480" y="2543040"/>
              <a:ext cx="1711080" cy="3776760"/>
            </a:xfrm>
            <a:custGeom>
              <a:avLst/>
              <a:gdLst/>
              <a:ahLst/>
              <a:rect l="l" t="t" r="r" b="b"/>
              <a:pathLst>
                <a:path w="1078" h="2379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75" y="0"/>
                  </a:lnTo>
                  <a:lnTo>
                    <a:pt x="182" y="0"/>
                  </a:lnTo>
                  <a:lnTo>
                    <a:pt x="189" y="0"/>
                  </a:lnTo>
                  <a:lnTo>
                    <a:pt x="203" y="0"/>
                  </a:lnTo>
                  <a:lnTo>
                    <a:pt x="210" y="0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45" y="0"/>
                  </a:lnTo>
                  <a:lnTo>
                    <a:pt x="252" y="0"/>
                  </a:lnTo>
                  <a:lnTo>
                    <a:pt x="266" y="0"/>
                  </a:lnTo>
                  <a:lnTo>
                    <a:pt x="273" y="0"/>
                  </a:lnTo>
                  <a:lnTo>
                    <a:pt x="280" y="0"/>
                  </a:lnTo>
                  <a:lnTo>
                    <a:pt x="294" y="0"/>
                  </a:lnTo>
                  <a:lnTo>
                    <a:pt x="301" y="0"/>
                  </a:lnTo>
                  <a:lnTo>
                    <a:pt x="315" y="0"/>
                  </a:lnTo>
                  <a:lnTo>
                    <a:pt x="322" y="7"/>
                  </a:lnTo>
                  <a:lnTo>
                    <a:pt x="336" y="7"/>
                  </a:lnTo>
                  <a:lnTo>
                    <a:pt x="343" y="7"/>
                  </a:lnTo>
                  <a:lnTo>
                    <a:pt x="357" y="7"/>
                  </a:lnTo>
                  <a:lnTo>
                    <a:pt x="364" y="7"/>
                  </a:lnTo>
                  <a:lnTo>
                    <a:pt x="371" y="14"/>
                  </a:lnTo>
                  <a:lnTo>
                    <a:pt x="385" y="14"/>
                  </a:lnTo>
                  <a:lnTo>
                    <a:pt x="392" y="21"/>
                  </a:lnTo>
                  <a:lnTo>
                    <a:pt x="406" y="21"/>
                  </a:lnTo>
                  <a:lnTo>
                    <a:pt x="413" y="28"/>
                  </a:lnTo>
                  <a:lnTo>
                    <a:pt x="427" y="35"/>
                  </a:lnTo>
                  <a:lnTo>
                    <a:pt x="434" y="42"/>
                  </a:lnTo>
                  <a:lnTo>
                    <a:pt x="448" y="49"/>
                  </a:lnTo>
                  <a:lnTo>
                    <a:pt x="455" y="56"/>
                  </a:lnTo>
                  <a:lnTo>
                    <a:pt x="462" y="70"/>
                  </a:lnTo>
                  <a:lnTo>
                    <a:pt x="476" y="84"/>
                  </a:lnTo>
                  <a:lnTo>
                    <a:pt x="483" y="98"/>
                  </a:lnTo>
                  <a:lnTo>
                    <a:pt x="497" y="112"/>
                  </a:lnTo>
                  <a:lnTo>
                    <a:pt x="504" y="126"/>
                  </a:lnTo>
                  <a:lnTo>
                    <a:pt x="518" y="140"/>
                  </a:lnTo>
                  <a:lnTo>
                    <a:pt x="525" y="161"/>
                  </a:lnTo>
                  <a:lnTo>
                    <a:pt x="532" y="182"/>
                  </a:lnTo>
                  <a:lnTo>
                    <a:pt x="546" y="203"/>
                  </a:lnTo>
                  <a:lnTo>
                    <a:pt x="553" y="224"/>
                  </a:lnTo>
                  <a:lnTo>
                    <a:pt x="567" y="245"/>
                  </a:lnTo>
                  <a:lnTo>
                    <a:pt x="574" y="266"/>
                  </a:lnTo>
                  <a:lnTo>
                    <a:pt x="588" y="287"/>
                  </a:lnTo>
                  <a:lnTo>
                    <a:pt x="595" y="315"/>
                  </a:lnTo>
                  <a:lnTo>
                    <a:pt x="609" y="336"/>
                  </a:lnTo>
                  <a:lnTo>
                    <a:pt x="616" y="364"/>
                  </a:lnTo>
                  <a:lnTo>
                    <a:pt x="623" y="392"/>
                  </a:lnTo>
                  <a:lnTo>
                    <a:pt x="637" y="413"/>
                  </a:lnTo>
                  <a:lnTo>
                    <a:pt x="644" y="440"/>
                  </a:lnTo>
                  <a:lnTo>
                    <a:pt x="658" y="468"/>
                  </a:lnTo>
                  <a:lnTo>
                    <a:pt x="665" y="489"/>
                  </a:lnTo>
                  <a:lnTo>
                    <a:pt x="679" y="517"/>
                  </a:lnTo>
                  <a:lnTo>
                    <a:pt x="686" y="545"/>
                  </a:lnTo>
                  <a:lnTo>
                    <a:pt x="700" y="573"/>
                  </a:lnTo>
                  <a:lnTo>
                    <a:pt x="707" y="594"/>
                  </a:lnTo>
                  <a:lnTo>
                    <a:pt x="714" y="622"/>
                  </a:lnTo>
                  <a:lnTo>
                    <a:pt x="728" y="650"/>
                  </a:lnTo>
                  <a:lnTo>
                    <a:pt x="735" y="678"/>
                  </a:lnTo>
                  <a:lnTo>
                    <a:pt x="749" y="706"/>
                  </a:lnTo>
                  <a:lnTo>
                    <a:pt x="756" y="734"/>
                  </a:lnTo>
                  <a:lnTo>
                    <a:pt x="770" y="762"/>
                  </a:lnTo>
                  <a:lnTo>
                    <a:pt x="777" y="790"/>
                  </a:lnTo>
                  <a:lnTo>
                    <a:pt x="791" y="818"/>
                  </a:lnTo>
                  <a:lnTo>
                    <a:pt x="798" y="845"/>
                  </a:lnTo>
                  <a:lnTo>
                    <a:pt x="805" y="873"/>
                  </a:lnTo>
                  <a:lnTo>
                    <a:pt x="819" y="901"/>
                  </a:lnTo>
                  <a:lnTo>
                    <a:pt x="826" y="929"/>
                  </a:lnTo>
                  <a:lnTo>
                    <a:pt x="840" y="957"/>
                  </a:lnTo>
                  <a:lnTo>
                    <a:pt x="847" y="985"/>
                  </a:lnTo>
                  <a:lnTo>
                    <a:pt x="861" y="1020"/>
                  </a:lnTo>
                  <a:lnTo>
                    <a:pt x="868" y="1048"/>
                  </a:lnTo>
                  <a:lnTo>
                    <a:pt x="882" y="1076"/>
                  </a:lnTo>
                  <a:lnTo>
                    <a:pt x="889" y="1111"/>
                  </a:lnTo>
                  <a:lnTo>
                    <a:pt x="896" y="1139"/>
                  </a:lnTo>
                  <a:lnTo>
                    <a:pt x="910" y="1174"/>
                  </a:lnTo>
                  <a:lnTo>
                    <a:pt x="917" y="1209"/>
                  </a:lnTo>
                  <a:lnTo>
                    <a:pt x="931" y="1244"/>
                  </a:lnTo>
                  <a:lnTo>
                    <a:pt x="938" y="1278"/>
                  </a:lnTo>
                  <a:lnTo>
                    <a:pt x="952" y="1320"/>
                  </a:lnTo>
                  <a:lnTo>
                    <a:pt x="959" y="1355"/>
                  </a:lnTo>
                  <a:lnTo>
                    <a:pt x="972" y="1397"/>
                  </a:lnTo>
                  <a:lnTo>
                    <a:pt x="979" y="1439"/>
                  </a:lnTo>
                  <a:lnTo>
                    <a:pt x="986" y="1488"/>
                  </a:lnTo>
                  <a:lnTo>
                    <a:pt x="1000" y="1537"/>
                  </a:lnTo>
                  <a:lnTo>
                    <a:pt x="1007" y="1586"/>
                  </a:lnTo>
                  <a:lnTo>
                    <a:pt x="1021" y="1649"/>
                  </a:lnTo>
                  <a:lnTo>
                    <a:pt x="1028" y="1711"/>
                  </a:lnTo>
                  <a:lnTo>
                    <a:pt x="1042" y="1781"/>
                  </a:lnTo>
                  <a:lnTo>
                    <a:pt x="1049" y="1872"/>
                  </a:lnTo>
                  <a:lnTo>
                    <a:pt x="1063" y="1977"/>
                  </a:lnTo>
                  <a:lnTo>
                    <a:pt x="1070" y="2116"/>
                  </a:lnTo>
                  <a:lnTo>
                    <a:pt x="1077" y="2333"/>
                  </a:lnTo>
                  <a:lnTo>
                    <a:pt x="1076" y="237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040280" y="5060880"/>
              <a:ext cx="2201760" cy="1265400"/>
            </a:xfrm>
            <a:custGeom>
              <a:avLst/>
              <a:gdLst/>
              <a:ahLst/>
              <a:rect l="l" t="t" r="r" b="b"/>
              <a:pathLst>
                <a:path w="1387" h="797">
                  <a:moveTo>
                    <a:pt x="0" y="794"/>
                  </a:moveTo>
                  <a:lnTo>
                    <a:pt x="1" y="794"/>
                  </a:lnTo>
                  <a:lnTo>
                    <a:pt x="11" y="663"/>
                  </a:lnTo>
                  <a:lnTo>
                    <a:pt x="18" y="516"/>
                  </a:lnTo>
                  <a:lnTo>
                    <a:pt x="32" y="426"/>
                  </a:lnTo>
                  <a:lnTo>
                    <a:pt x="39" y="356"/>
                  </a:lnTo>
                  <a:lnTo>
                    <a:pt x="53" y="300"/>
                  </a:lnTo>
                  <a:lnTo>
                    <a:pt x="60" y="258"/>
                  </a:lnTo>
                  <a:lnTo>
                    <a:pt x="67" y="223"/>
                  </a:lnTo>
                  <a:lnTo>
                    <a:pt x="81" y="195"/>
                  </a:lnTo>
                  <a:lnTo>
                    <a:pt x="88" y="167"/>
                  </a:lnTo>
                  <a:lnTo>
                    <a:pt x="102" y="146"/>
                  </a:lnTo>
                  <a:lnTo>
                    <a:pt x="109" y="125"/>
                  </a:lnTo>
                  <a:lnTo>
                    <a:pt x="123" y="111"/>
                  </a:lnTo>
                  <a:lnTo>
                    <a:pt x="130" y="97"/>
                  </a:lnTo>
                  <a:lnTo>
                    <a:pt x="144" y="84"/>
                  </a:lnTo>
                  <a:lnTo>
                    <a:pt x="151" y="70"/>
                  </a:lnTo>
                  <a:lnTo>
                    <a:pt x="158" y="63"/>
                  </a:lnTo>
                  <a:lnTo>
                    <a:pt x="172" y="49"/>
                  </a:lnTo>
                  <a:lnTo>
                    <a:pt x="179" y="42"/>
                  </a:lnTo>
                  <a:lnTo>
                    <a:pt x="193" y="35"/>
                  </a:lnTo>
                  <a:lnTo>
                    <a:pt x="200" y="35"/>
                  </a:lnTo>
                  <a:lnTo>
                    <a:pt x="214" y="28"/>
                  </a:lnTo>
                  <a:lnTo>
                    <a:pt x="221" y="21"/>
                  </a:lnTo>
                  <a:lnTo>
                    <a:pt x="235" y="21"/>
                  </a:lnTo>
                  <a:lnTo>
                    <a:pt x="242" y="14"/>
                  </a:lnTo>
                  <a:lnTo>
                    <a:pt x="249" y="14"/>
                  </a:lnTo>
                  <a:lnTo>
                    <a:pt x="263" y="7"/>
                  </a:lnTo>
                  <a:lnTo>
                    <a:pt x="270" y="7"/>
                  </a:lnTo>
                  <a:lnTo>
                    <a:pt x="284" y="7"/>
                  </a:lnTo>
                  <a:lnTo>
                    <a:pt x="291" y="7"/>
                  </a:lnTo>
                  <a:lnTo>
                    <a:pt x="305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40" y="0"/>
                  </a:lnTo>
                  <a:lnTo>
                    <a:pt x="354" y="0"/>
                  </a:lnTo>
                  <a:lnTo>
                    <a:pt x="361" y="7"/>
                  </a:lnTo>
                  <a:lnTo>
                    <a:pt x="375" y="7"/>
                  </a:lnTo>
                  <a:lnTo>
                    <a:pt x="382" y="7"/>
                  </a:lnTo>
                  <a:lnTo>
                    <a:pt x="396" y="7"/>
                  </a:lnTo>
                  <a:lnTo>
                    <a:pt x="403" y="7"/>
                  </a:lnTo>
                  <a:lnTo>
                    <a:pt x="417" y="14"/>
                  </a:lnTo>
                  <a:lnTo>
                    <a:pt x="424" y="14"/>
                  </a:lnTo>
                  <a:lnTo>
                    <a:pt x="431" y="14"/>
                  </a:lnTo>
                  <a:lnTo>
                    <a:pt x="445" y="14"/>
                  </a:lnTo>
                  <a:lnTo>
                    <a:pt x="452" y="21"/>
                  </a:lnTo>
                  <a:lnTo>
                    <a:pt x="466" y="21"/>
                  </a:lnTo>
                  <a:lnTo>
                    <a:pt x="473" y="28"/>
                  </a:lnTo>
                  <a:lnTo>
                    <a:pt x="487" y="28"/>
                  </a:lnTo>
                  <a:lnTo>
                    <a:pt x="494" y="28"/>
                  </a:lnTo>
                  <a:lnTo>
                    <a:pt x="501" y="35"/>
                  </a:lnTo>
                  <a:lnTo>
                    <a:pt x="515" y="35"/>
                  </a:lnTo>
                  <a:lnTo>
                    <a:pt x="522" y="42"/>
                  </a:lnTo>
                  <a:lnTo>
                    <a:pt x="536" y="42"/>
                  </a:lnTo>
                  <a:lnTo>
                    <a:pt x="543" y="49"/>
                  </a:lnTo>
                  <a:lnTo>
                    <a:pt x="557" y="49"/>
                  </a:lnTo>
                  <a:lnTo>
                    <a:pt x="564" y="56"/>
                  </a:lnTo>
                  <a:lnTo>
                    <a:pt x="578" y="56"/>
                  </a:lnTo>
                  <a:lnTo>
                    <a:pt x="585" y="63"/>
                  </a:lnTo>
                  <a:lnTo>
                    <a:pt x="592" y="70"/>
                  </a:lnTo>
                  <a:lnTo>
                    <a:pt x="606" y="70"/>
                  </a:lnTo>
                  <a:lnTo>
                    <a:pt x="613" y="77"/>
                  </a:lnTo>
                  <a:lnTo>
                    <a:pt x="627" y="77"/>
                  </a:lnTo>
                  <a:lnTo>
                    <a:pt x="634" y="84"/>
                  </a:lnTo>
                  <a:lnTo>
                    <a:pt x="648" y="90"/>
                  </a:lnTo>
                  <a:lnTo>
                    <a:pt x="655" y="90"/>
                  </a:lnTo>
                  <a:lnTo>
                    <a:pt x="669" y="97"/>
                  </a:lnTo>
                  <a:lnTo>
                    <a:pt x="676" y="104"/>
                  </a:lnTo>
                  <a:lnTo>
                    <a:pt x="683" y="104"/>
                  </a:lnTo>
                  <a:lnTo>
                    <a:pt x="697" y="111"/>
                  </a:lnTo>
                  <a:lnTo>
                    <a:pt x="704" y="118"/>
                  </a:lnTo>
                  <a:lnTo>
                    <a:pt x="718" y="118"/>
                  </a:lnTo>
                  <a:lnTo>
                    <a:pt x="725" y="125"/>
                  </a:lnTo>
                  <a:lnTo>
                    <a:pt x="739" y="132"/>
                  </a:lnTo>
                  <a:lnTo>
                    <a:pt x="746" y="139"/>
                  </a:lnTo>
                  <a:lnTo>
                    <a:pt x="760" y="139"/>
                  </a:lnTo>
                  <a:lnTo>
                    <a:pt x="767" y="146"/>
                  </a:lnTo>
                  <a:lnTo>
                    <a:pt x="774" y="153"/>
                  </a:lnTo>
                  <a:lnTo>
                    <a:pt x="788" y="160"/>
                  </a:lnTo>
                  <a:lnTo>
                    <a:pt x="795" y="167"/>
                  </a:lnTo>
                  <a:lnTo>
                    <a:pt x="809" y="174"/>
                  </a:lnTo>
                  <a:lnTo>
                    <a:pt x="816" y="174"/>
                  </a:lnTo>
                  <a:lnTo>
                    <a:pt x="830" y="181"/>
                  </a:lnTo>
                  <a:lnTo>
                    <a:pt x="837" y="188"/>
                  </a:lnTo>
                  <a:lnTo>
                    <a:pt x="850" y="195"/>
                  </a:lnTo>
                  <a:lnTo>
                    <a:pt x="857" y="202"/>
                  </a:lnTo>
                  <a:lnTo>
                    <a:pt x="864" y="209"/>
                  </a:lnTo>
                  <a:lnTo>
                    <a:pt x="878" y="216"/>
                  </a:lnTo>
                  <a:lnTo>
                    <a:pt x="885" y="223"/>
                  </a:lnTo>
                  <a:lnTo>
                    <a:pt x="899" y="230"/>
                  </a:lnTo>
                  <a:lnTo>
                    <a:pt x="906" y="237"/>
                  </a:lnTo>
                  <a:lnTo>
                    <a:pt x="920" y="244"/>
                  </a:lnTo>
                  <a:lnTo>
                    <a:pt x="927" y="251"/>
                  </a:lnTo>
                  <a:lnTo>
                    <a:pt x="941" y="258"/>
                  </a:lnTo>
                  <a:lnTo>
                    <a:pt x="948" y="265"/>
                  </a:lnTo>
                  <a:lnTo>
                    <a:pt x="955" y="272"/>
                  </a:lnTo>
                  <a:lnTo>
                    <a:pt x="969" y="279"/>
                  </a:lnTo>
                  <a:lnTo>
                    <a:pt x="976" y="286"/>
                  </a:lnTo>
                  <a:lnTo>
                    <a:pt x="990" y="293"/>
                  </a:lnTo>
                  <a:lnTo>
                    <a:pt x="997" y="300"/>
                  </a:lnTo>
                  <a:lnTo>
                    <a:pt x="1011" y="307"/>
                  </a:lnTo>
                  <a:lnTo>
                    <a:pt x="1018" y="314"/>
                  </a:lnTo>
                  <a:lnTo>
                    <a:pt x="1032" y="321"/>
                  </a:lnTo>
                  <a:lnTo>
                    <a:pt x="1039" y="335"/>
                  </a:lnTo>
                  <a:lnTo>
                    <a:pt x="1046" y="342"/>
                  </a:lnTo>
                  <a:lnTo>
                    <a:pt x="1060" y="349"/>
                  </a:lnTo>
                  <a:lnTo>
                    <a:pt x="1067" y="356"/>
                  </a:lnTo>
                  <a:lnTo>
                    <a:pt x="1081" y="370"/>
                  </a:lnTo>
                  <a:lnTo>
                    <a:pt x="1088" y="377"/>
                  </a:lnTo>
                  <a:lnTo>
                    <a:pt x="1102" y="384"/>
                  </a:lnTo>
                  <a:lnTo>
                    <a:pt x="1109" y="398"/>
                  </a:lnTo>
                  <a:lnTo>
                    <a:pt x="1123" y="405"/>
                  </a:lnTo>
                  <a:lnTo>
                    <a:pt x="1130" y="412"/>
                  </a:lnTo>
                  <a:lnTo>
                    <a:pt x="1137" y="426"/>
                  </a:lnTo>
                  <a:lnTo>
                    <a:pt x="1151" y="433"/>
                  </a:lnTo>
                  <a:lnTo>
                    <a:pt x="1158" y="447"/>
                  </a:lnTo>
                  <a:lnTo>
                    <a:pt x="1172" y="454"/>
                  </a:lnTo>
                  <a:lnTo>
                    <a:pt x="1179" y="468"/>
                  </a:lnTo>
                  <a:lnTo>
                    <a:pt x="1193" y="482"/>
                  </a:lnTo>
                  <a:lnTo>
                    <a:pt x="1200" y="489"/>
                  </a:lnTo>
                  <a:lnTo>
                    <a:pt x="1214" y="503"/>
                  </a:lnTo>
                  <a:lnTo>
                    <a:pt x="1221" y="516"/>
                  </a:lnTo>
                  <a:lnTo>
                    <a:pt x="1228" y="523"/>
                  </a:lnTo>
                  <a:lnTo>
                    <a:pt x="1242" y="537"/>
                  </a:lnTo>
                  <a:lnTo>
                    <a:pt x="1249" y="551"/>
                  </a:lnTo>
                  <a:lnTo>
                    <a:pt x="1263" y="565"/>
                  </a:lnTo>
                  <a:lnTo>
                    <a:pt x="1270" y="579"/>
                  </a:lnTo>
                  <a:lnTo>
                    <a:pt x="1284" y="593"/>
                  </a:lnTo>
                  <a:lnTo>
                    <a:pt x="1291" y="614"/>
                  </a:lnTo>
                  <a:lnTo>
                    <a:pt x="1305" y="628"/>
                  </a:lnTo>
                  <a:lnTo>
                    <a:pt x="1312" y="642"/>
                  </a:lnTo>
                  <a:lnTo>
                    <a:pt x="1319" y="663"/>
                  </a:lnTo>
                  <a:lnTo>
                    <a:pt x="1333" y="677"/>
                  </a:lnTo>
                  <a:lnTo>
                    <a:pt x="1340" y="698"/>
                  </a:lnTo>
                  <a:lnTo>
                    <a:pt x="1354" y="719"/>
                  </a:lnTo>
                  <a:lnTo>
                    <a:pt x="1361" y="740"/>
                  </a:lnTo>
                  <a:lnTo>
                    <a:pt x="1375" y="761"/>
                  </a:lnTo>
                  <a:lnTo>
                    <a:pt x="1382" y="782"/>
                  </a:lnTo>
                  <a:lnTo>
                    <a:pt x="1386" y="796"/>
                  </a:lnTo>
                  <a:lnTo>
                    <a:pt x="1386" y="795"/>
                  </a:lnTo>
                  <a:lnTo>
                    <a:pt x="1386" y="794"/>
                  </a:lnTo>
                  <a:lnTo>
                    <a:pt x="1385" y="794"/>
                  </a:lnTo>
                  <a:lnTo>
                    <a:pt x="1381" y="795"/>
                  </a:lnTo>
                  <a:lnTo>
                    <a:pt x="1383" y="794"/>
                  </a:lnTo>
                  <a:lnTo>
                    <a:pt x="1384" y="795"/>
                  </a:lnTo>
                  <a:lnTo>
                    <a:pt x="1383" y="794"/>
                  </a:lnTo>
                  <a:lnTo>
                    <a:pt x="1384" y="7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54680" y="5913360"/>
              <a:ext cx="346320" cy="411120"/>
            </a:xfrm>
            <a:custGeom>
              <a:avLst/>
              <a:gdLst/>
              <a:ahLst/>
              <a:rect l="l" t="t" r="r" b="b"/>
              <a:pathLst>
                <a:path w="218" h="259">
                  <a:moveTo>
                    <a:pt x="0" y="258"/>
                  </a:moveTo>
                  <a:lnTo>
                    <a:pt x="0" y="257"/>
                  </a:lnTo>
                  <a:lnTo>
                    <a:pt x="1" y="257"/>
                  </a:lnTo>
                  <a:lnTo>
                    <a:pt x="0" y="257"/>
                  </a:lnTo>
                  <a:lnTo>
                    <a:pt x="0" y="258"/>
                  </a:lnTo>
                  <a:lnTo>
                    <a:pt x="1" y="257"/>
                  </a:lnTo>
                  <a:lnTo>
                    <a:pt x="1" y="258"/>
                  </a:lnTo>
                  <a:lnTo>
                    <a:pt x="3" y="258"/>
                  </a:lnTo>
                  <a:lnTo>
                    <a:pt x="1" y="257"/>
                  </a:lnTo>
                  <a:lnTo>
                    <a:pt x="3" y="255"/>
                  </a:lnTo>
                  <a:lnTo>
                    <a:pt x="1" y="258"/>
                  </a:lnTo>
                  <a:lnTo>
                    <a:pt x="8" y="245"/>
                  </a:lnTo>
                  <a:lnTo>
                    <a:pt x="15" y="224"/>
                  </a:lnTo>
                  <a:lnTo>
                    <a:pt x="29" y="210"/>
                  </a:lnTo>
                  <a:lnTo>
                    <a:pt x="36" y="196"/>
                  </a:lnTo>
                  <a:lnTo>
                    <a:pt x="43" y="182"/>
                  </a:lnTo>
                  <a:lnTo>
                    <a:pt x="57" y="168"/>
                  </a:lnTo>
                  <a:lnTo>
                    <a:pt x="64" y="154"/>
                  </a:lnTo>
                  <a:lnTo>
                    <a:pt x="78" y="140"/>
                  </a:lnTo>
                  <a:lnTo>
                    <a:pt x="85" y="126"/>
                  </a:lnTo>
                  <a:lnTo>
                    <a:pt x="99" y="112"/>
                  </a:lnTo>
                  <a:lnTo>
                    <a:pt x="106" y="105"/>
                  </a:lnTo>
                  <a:lnTo>
                    <a:pt x="119" y="91"/>
                  </a:lnTo>
                  <a:lnTo>
                    <a:pt x="126" y="84"/>
                  </a:lnTo>
                  <a:lnTo>
                    <a:pt x="133" y="70"/>
                  </a:lnTo>
                  <a:lnTo>
                    <a:pt x="147" y="63"/>
                  </a:lnTo>
                  <a:lnTo>
                    <a:pt x="154" y="56"/>
                  </a:lnTo>
                  <a:lnTo>
                    <a:pt x="168" y="42"/>
                  </a:lnTo>
                  <a:lnTo>
                    <a:pt x="175" y="35"/>
                  </a:lnTo>
                  <a:lnTo>
                    <a:pt x="189" y="28"/>
                  </a:lnTo>
                  <a:lnTo>
                    <a:pt x="196" y="21"/>
                  </a:lnTo>
                  <a:lnTo>
                    <a:pt x="210" y="14"/>
                  </a:lnTo>
                  <a:lnTo>
                    <a:pt x="21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3481560" y="2630520"/>
              <a:ext cx="1703160" cy="930240"/>
              <a:chOff x="3481560" y="2630520"/>
              <a:chExt cx="1703160" cy="930240"/>
            </a:xfrm>
          </p:grpSpPr>
          <p:sp>
            <p:nvSpPr>
              <p:cNvPr id="2928" name=""/>
              <p:cNvSpPr/>
              <p:nvPr/>
            </p:nvSpPr>
            <p:spPr>
              <a:xfrm>
                <a:off x="4246560" y="263052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3481560" y="2909880"/>
                <a:ext cx="761760" cy="650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0" name=""/>
          <p:cNvGrpSpPr/>
          <p:nvPr/>
        </p:nvGrpSpPr>
        <p:grpSpPr>
          <a:xfrm>
            <a:off x="765000" y="2238480"/>
            <a:ext cx="7067160" cy="4555440"/>
            <a:chOff x="765000" y="2238480"/>
            <a:chExt cx="7067160" cy="4555440"/>
          </a:xfrm>
        </p:grpSpPr>
        <p:sp>
          <p:nvSpPr>
            <p:cNvPr id="2931" name=""/>
            <p:cNvSpPr/>
            <p:nvPr/>
          </p:nvSpPr>
          <p:spPr>
            <a:xfrm flipV="1">
              <a:off x="229248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V="1">
              <a:off x="309240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V="1">
              <a:off x="389088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4702320" y="3165120"/>
              <a:ext cx="0" cy="315900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550080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630072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V="1">
              <a:off x="709920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292480" y="632448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292480" y="569268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292480" y="506088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292480" y="44402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292480" y="38084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292480" y="31766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92480" y="25430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292480" y="2543040"/>
              <a:ext cx="4808520" cy="3783240"/>
            </a:xfrm>
            <a:custGeom>
              <a:avLst/>
              <a:gdLst/>
              <a:ahLst/>
              <a:rect l="l" t="t" r="r" b="b"/>
              <a:pathLst>
                <a:path w="3029" h="2383">
                  <a:moveTo>
                    <a:pt x="0" y="2382"/>
                  </a:moveTo>
                  <a:lnTo>
                    <a:pt x="0" y="0"/>
                  </a:lnTo>
                  <a:lnTo>
                    <a:pt x="302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292480" y="2543040"/>
              <a:ext cx="4808520" cy="3783240"/>
            </a:xfrm>
            <a:custGeom>
              <a:avLst/>
              <a:gdLst/>
              <a:ahLst/>
              <a:rect l="l" t="t" r="r" b="b"/>
              <a:pathLst>
                <a:path w="3029" h="2383">
                  <a:moveTo>
                    <a:pt x="0" y="2382"/>
                  </a:moveTo>
                  <a:lnTo>
                    <a:pt x="0" y="0"/>
                  </a:lnTo>
                  <a:lnTo>
                    <a:pt x="302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292480" y="2543040"/>
              <a:ext cx="4808520" cy="3783240"/>
            </a:xfrm>
            <a:custGeom>
              <a:avLst/>
              <a:gdLst/>
              <a:ahLst/>
              <a:rect l="l" t="t" r="r" b="b"/>
              <a:pathLst>
                <a:path w="3029" h="2383">
                  <a:moveTo>
                    <a:pt x="0" y="2382"/>
                  </a:moveTo>
                  <a:lnTo>
                    <a:pt x="0" y="0"/>
                  </a:lnTo>
                  <a:lnTo>
                    <a:pt x="302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292480" y="632448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292480" y="25430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229248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709920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292480" y="25430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099200" y="632448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292480" y="632448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229248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92480" y="63244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229248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29248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309240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09240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89088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89088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470232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70232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550080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50080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630072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30072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7099200" y="627984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099200" y="25430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1" name=""/>
            <p:cNvGrpSpPr/>
            <p:nvPr/>
          </p:nvGrpSpPr>
          <p:grpSpPr>
            <a:xfrm>
              <a:off x="2145600" y="6324480"/>
              <a:ext cx="5132160" cy="397440"/>
              <a:chOff x="2145600" y="6324480"/>
              <a:chExt cx="5132160" cy="397440"/>
            </a:xfrm>
          </p:grpSpPr>
          <p:sp>
            <p:nvSpPr>
              <p:cNvPr id="2972" name=""/>
              <p:cNvSpPr/>
              <p:nvPr/>
            </p:nvSpPr>
            <p:spPr>
              <a:xfrm>
                <a:off x="214560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284400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74256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45356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35248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05232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95088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9" name=""/>
            <p:cNvSpPr/>
            <p:nvPr/>
          </p:nvSpPr>
          <p:spPr>
            <a:xfrm>
              <a:off x="2292480" y="63244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7054560" y="63244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292480" y="56926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>
              <a:off x="7054560" y="56926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292480" y="50608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7054560" y="506088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292480" y="44402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H="1">
              <a:off x="7054560" y="44402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92480" y="38084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>
              <a:off x="7054560" y="38084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292480" y="31766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7054560" y="31766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292480" y="25430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H="1">
              <a:off x="7054560" y="25430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1762200" y="2355840"/>
              <a:ext cx="553680" cy="4177440"/>
              <a:chOff x="1762200" y="2355840"/>
              <a:chExt cx="553680" cy="4177440"/>
            </a:xfrm>
          </p:grpSpPr>
          <p:sp>
            <p:nvSpPr>
              <p:cNvPr id="2994" name=""/>
              <p:cNvSpPr/>
              <p:nvPr/>
            </p:nvSpPr>
            <p:spPr>
              <a:xfrm>
                <a:off x="1762200" y="6135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1762200" y="55040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1762200" y="487188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62200" y="42512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762200" y="36194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1762200" y="29876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1963080" y="235584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01" name=""/>
            <p:cNvSpPr/>
            <p:nvPr/>
          </p:nvSpPr>
          <p:spPr>
            <a:xfrm>
              <a:off x="2292480" y="6324480"/>
              <a:ext cx="55101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292480" y="2543040"/>
              <a:ext cx="48067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2292480" y="2238480"/>
              <a:ext cx="0" cy="4084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7099200" y="2543040"/>
              <a:ext cx="0" cy="37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292480" y="632448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099200" y="25430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7" name=""/>
                <p:cNvSpPr txBox="1"/>
                <p:nvPr/>
              </p:nvSpPr>
              <p:spPr>
                <a:xfrm>
                  <a:off x="954000" y="2281320"/>
                  <a:ext cx="100332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08" name=""/>
            <p:cNvSpPr/>
            <p:nvPr/>
          </p:nvSpPr>
          <p:spPr>
            <a:xfrm>
              <a:off x="7412400" y="633564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9" name=""/>
            <p:cNvGrpSpPr/>
            <p:nvPr/>
          </p:nvGrpSpPr>
          <p:grpSpPr>
            <a:xfrm>
              <a:off x="765000" y="2543040"/>
              <a:ext cx="6336000" cy="3129120"/>
              <a:chOff x="765000" y="2543040"/>
              <a:chExt cx="6336000" cy="3129120"/>
            </a:xfrm>
          </p:grpSpPr>
          <p:sp>
            <p:nvSpPr>
              <p:cNvPr id="3010" name=""/>
              <p:cNvSpPr/>
              <p:nvPr/>
            </p:nvSpPr>
            <p:spPr>
              <a:xfrm>
                <a:off x="2292480" y="2543040"/>
                <a:ext cx="4808520" cy="3129120"/>
              </a:xfrm>
              <a:custGeom>
                <a:avLst/>
                <a:gdLst/>
                <a:ahLst/>
                <a:rect l="l" t="t" r="r" b="b"/>
                <a:pathLst>
                  <a:path w="3029" h="1971">
                    <a:moveTo>
                      <a:pt x="0" y="0"/>
                    </a:moveTo>
                    <a:lnTo>
                      <a:pt x="7" y="119"/>
                    </a:lnTo>
                    <a:lnTo>
                      <a:pt x="21" y="280"/>
                    </a:lnTo>
                    <a:lnTo>
                      <a:pt x="28" y="399"/>
                    </a:lnTo>
                    <a:lnTo>
                      <a:pt x="42" y="489"/>
                    </a:lnTo>
                    <a:lnTo>
                      <a:pt x="49" y="559"/>
                    </a:lnTo>
                    <a:lnTo>
                      <a:pt x="63" y="622"/>
                    </a:lnTo>
                    <a:lnTo>
                      <a:pt x="70" y="678"/>
                    </a:lnTo>
                    <a:lnTo>
                      <a:pt x="84" y="720"/>
                    </a:lnTo>
                    <a:lnTo>
                      <a:pt x="91" y="762"/>
                    </a:lnTo>
                    <a:lnTo>
                      <a:pt x="98" y="797"/>
                    </a:lnTo>
                    <a:lnTo>
                      <a:pt x="112" y="832"/>
                    </a:lnTo>
                    <a:lnTo>
                      <a:pt x="119" y="859"/>
                    </a:lnTo>
                    <a:lnTo>
                      <a:pt x="133" y="887"/>
                    </a:lnTo>
                    <a:lnTo>
                      <a:pt x="140" y="908"/>
                    </a:lnTo>
                    <a:lnTo>
                      <a:pt x="154" y="936"/>
                    </a:lnTo>
                    <a:lnTo>
                      <a:pt x="161" y="957"/>
                    </a:lnTo>
                    <a:lnTo>
                      <a:pt x="175" y="978"/>
                    </a:lnTo>
                    <a:lnTo>
                      <a:pt x="182" y="999"/>
                    </a:lnTo>
                    <a:lnTo>
                      <a:pt x="189" y="1013"/>
                    </a:lnTo>
                    <a:lnTo>
                      <a:pt x="203" y="1034"/>
                    </a:lnTo>
                    <a:lnTo>
                      <a:pt x="210" y="1048"/>
                    </a:lnTo>
                    <a:lnTo>
                      <a:pt x="224" y="1069"/>
                    </a:lnTo>
                    <a:lnTo>
                      <a:pt x="231" y="1083"/>
                    </a:lnTo>
                    <a:lnTo>
                      <a:pt x="245" y="1097"/>
                    </a:lnTo>
                    <a:lnTo>
                      <a:pt x="252" y="1111"/>
                    </a:lnTo>
                    <a:lnTo>
                      <a:pt x="266" y="1125"/>
                    </a:lnTo>
                    <a:lnTo>
                      <a:pt x="273" y="1139"/>
                    </a:lnTo>
                    <a:lnTo>
                      <a:pt x="280" y="1153"/>
                    </a:lnTo>
                    <a:lnTo>
                      <a:pt x="294" y="1160"/>
                    </a:lnTo>
                    <a:lnTo>
                      <a:pt x="301" y="1174"/>
                    </a:lnTo>
                    <a:lnTo>
                      <a:pt x="315" y="1188"/>
                    </a:lnTo>
                    <a:lnTo>
                      <a:pt x="322" y="1195"/>
                    </a:lnTo>
                    <a:lnTo>
                      <a:pt x="336" y="1209"/>
                    </a:lnTo>
                    <a:lnTo>
                      <a:pt x="343" y="1216"/>
                    </a:lnTo>
                    <a:lnTo>
                      <a:pt x="357" y="1230"/>
                    </a:lnTo>
                    <a:lnTo>
                      <a:pt x="364" y="1237"/>
                    </a:lnTo>
                    <a:lnTo>
                      <a:pt x="371" y="1244"/>
                    </a:lnTo>
                    <a:lnTo>
                      <a:pt x="385" y="1257"/>
                    </a:lnTo>
                    <a:lnTo>
                      <a:pt x="392" y="1264"/>
                    </a:lnTo>
                    <a:lnTo>
                      <a:pt x="406" y="1271"/>
                    </a:lnTo>
                    <a:lnTo>
                      <a:pt x="413" y="1278"/>
                    </a:lnTo>
                    <a:lnTo>
                      <a:pt x="427" y="1292"/>
                    </a:lnTo>
                    <a:lnTo>
                      <a:pt x="434" y="1299"/>
                    </a:lnTo>
                    <a:lnTo>
                      <a:pt x="448" y="1306"/>
                    </a:lnTo>
                    <a:lnTo>
                      <a:pt x="455" y="1313"/>
                    </a:lnTo>
                    <a:lnTo>
                      <a:pt x="462" y="1320"/>
                    </a:lnTo>
                    <a:lnTo>
                      <a:pt x="476" y="1327"/>
                    </a:lnTo>
                    <a:lnTo>
                      <a:pt x="483" y="1334"/>
                    </a:lnTo>
                    <a:lnTo>
                      <a:pt x="497" y="1341"/>
                    </a:lnTo>
                    <a:lnTo>
                      <a:pt x="504" y="1348"/>
                    </a:lnTo>
                    <a:lnTo>
                      <a:pt x="518" y="1355"/>
                    </a:lnTo>
                    <a:lnTo>
                      <a:pt x="525" y="1362"/>
                    </a:lnTo>
                    <a:lnTo>
                      <a:pt x="532" y="1369"/>
                    </a:lnTo>
                    <a:lnTo>
                      <a:pt x="546" y="1376"/>
                    </a:lnTo>
                    <a:lnTo>
                      <a:pt x="553" y="1383"/>
                    </a:lnTo>
                    <a:lnTo>
                      <a:pt x="567" y="1390"/>
                    </a:lnTo>
                    <a:lnTo>
                      <a:pt x="574" y="1397"/>
                    </a:lnTo>
                    <a:lnTo>
                      <a:pt x="588" y="1397"/>
                    </a:lnTo>
                    <a:lnTo>
                      <a:pt x="595" y="1404"/>
                    </a:lnTo>
                    <a:lnTo>
                      <a:pt x="609" y="1411"/>
                    </a:lnTo>
                    <a:lnTo>
                      <a:pt x="616" y="1418"/>
                    </a:lnTo>
                    <a:lnTo>
                      <a:pt x="623" y="1425"/>
                    </a:lnTo>
                    <a:lnTo>
                      <a:pt x="637" y="1432"/>
                    </a:lnTo>
                    <a:lnTo>
                      <a:pt x="644" y="1432"/>
                    </a:lnTo>
                    <a:lnTo>
                      <a:pt x="658" y="1439"/>
                    </a:lnTo>
                    <a:lnTo>
                      <a:pt x="665" y="1446"/>
                    </a:lnTo>
                    <a:lnTo>
                      <a:pt x="679" y="1453"/>
                    </a:lnTo>
                    <a:lnTo>
                      <a:pt x="686" y="1453"/>
                    </a:lnTo>
                    <a:lnTo>
                      <a:pt x="700" y="1460"/>
                    </a:lnTo>
                    <a:lnTo>
                      <a:pt x="707" y="1467"/>
                    </a:lnTo>
                    <a:lnTo>
                      <a:pt x="714" y="1467"/>
                    </a:lnTo>
                    <a:lnTo>
                      <a:pt x="728" y="1474"/>
                    </a:lnTo>
                    <a:lnTo>
                      <a:pt x="735" y="1481"/>
                    </a:lnTo>
                    <a:lnTo>
                      <a:pt x="749" y="1481"/>
                    </a:lnTo>
                    <a:lnTo>
                      <a:pt x="756" y="1488"/>
                    </a:lnTo>
                    <a:lnTo>
                      <a:pt x="770" y="1495"/>
                    </a:lnTo>
                    <a:lnTo>
                      <a:pt x="777" y="1495"/>
                    </a:lnTo>
                    <a:lnTo>
                      <a:pt x="791" y="1502"/>
                    </a:lnTo>
                    <a:lnTo>
                      <a:pt x="798" y="1509"/>
                    </a:lnTo>
                    <a:lnTo>
                      <a:pt x="805" y="1509"/>
                    </a:lnTo>
                    <a:lnTo>
                      <a:pt x="819" y="1516"/>
                    </a:lnTo>
                    <a:lnTo>
                      <a:pt x="826" y="1523"/>
                    </a:lnTo>
                    <a:lnTo>
                      <a:pt x="840" y="1523"/>
                    </a:lnTo>
                    <a:lnTo>
                      <a:pt x="847" y="1530"/>
                    </a:lnTo>
                    <a:lnTo>
                      <a:pt x="861" y="1530"/>
                    </a:lnTo>
                    <a:lnTo>
                      <a:pt x="868" y="1537"/>
                    </a:lnTo>
                    <a:lnTo>
                      <a:pt x="882" y="1537"/>
                    </a:lnTo>
                    <a:lnTo>
                      <a:pt x="889" y="1544"/>
                    </a:lnTo>
                    <a:lnTo>
                      <a:pt x="896" y="1551"/>
                    </a:lnTo>
                    <a:lnTo>
                      <a:pt x="910" y="1551"/>
                    </a:lnTo>
                    <a:lnTo>
                      <a:pt x="917" y="1558"/>
                    </a:lnTo>
                    <a:lnTo>
                      <a:pt x="931" y="1558"/>
                    </a:lnTo>
                    <a:lnTo>
                      <a:pt x="938" y="1565"/>
                    </a:lnTo>
                    <a:lnTo>
                      <a:pt x="952" y="1565"/>
                    </a:lnTo>
                    <a:lnTo>
                      <a:pt x="959" y="1572"/>
                    </a:lnTo>
                    <a:lnTo>
                      <a:pt x="972" y="1572"/>
                    </a:lnTo>
                    <a:lnTo>
                      <a:pt x="979" y="1579"/>
                    </a:lnTo>
                    <a:lnTo>
                      <a:pt x="986" y="1579"/>
                    </a:lnTo>
                    <a:lnTo>
                      <a:pt x="1000" y="1586"/>
                    </a:lnTo>
                    <a:lnTo>
                      <a:pt x="1007" y="1586"/>
                    </a:lnTo>
                    <a:lnTo>
                      <a:pt x="1021" y="1593"/>
                    </a:lnTo>
                    <a:lnTo>
                      <a:pt x="1028" y="1593"/>
                    </a:lnTo>
                    <a:lnTo>
                      <a:pt x="1042" y="1600"/>
                    </a:lnTo>
                    <a:lnTo>
                      <a:pt x="1049" y="1600"/>
                    </a:lnTo>
                    <a:lnTo>
                      <a:pt x="1063" y="1607"/>
                    </a:lnTo>
                    <a:lnTo>
                      <a:pt x="1070" y="1607"/>
                    </a:lnTo>
                    <a:lnTo>
                      <a:pt x="1077" y="1614"/>
                    </a:lnTo>
                    <a:lnTo>
                      <a:pt x="1091" y="1614"/>
                    </a:lnTo>
                    <a:lnTo>
                      <a:pt x="1098" y="1621"/>
                    </a:lnTo>
                    <a:lnTo>
                      <a:pt x="1112" y="1621"/>
                    </a:lnTo>
                    <a:lnTo>
                      <a:pt x="1119" y="1621"/>
                    </a:lnTo>
                    <a:lnTo>
                      <a:pt x="1133" y="1628"/>
                    </a:lnTo>
                    <a:lnTo>
                      <a:pt x="1140" y="1628"/>
                    </a:lnTo>
                    <a:lnTo>
                      <a:pt x="1154" y="1635"/>
                    </a:lnTo>
                    <a:lnTo>
                      <a:pt x="1161" y="1635"/>
                    </a:lnTo>
                    <a:lnTo>
                      <a:pt x="1168" y="1642"/>
                    </a:lnTo>
                    <a:lnTo>
                      <a:pt x="1182" y="1642"/>
                    </a:lnTo>
                    <a:lnTo>
                      <a:pt x="1189" y="1649"/>
                    </a:lnTo>
                    <a:lnTo>
                      <a:pt x="1203" y="1649"/>
                    </a:lnTo>
                    <a:lnTo>
                      <a:pt x="1210" y="1649"/>
                    </a:lnTo>
                    <a:lnTo>
                      <a:pt x="1224" y="1656"/>
                    </a:lnTo>
                    <a:lnTo>
                      <a:pt x="1231" y="1656"/>
                    </a:lnTo>
                    <a:lnTo>
                      <a:pt x="1245" y="1663"/>
                    </a:lnTo>
                    <a:lnTo>
                      <a:pt x="1252" y="1663"/>
                    </a:lnTo>
                    <a:lnTo>
                      <a:pt x="1259" y="1663"/>
                    </a:lnTo>
                    <a:lnTo>
                      <a:pt x="1273" y="1670"/>
                    </a:lnTo>
                    <a:lnTo>
                      <a:pt x="1280" y="1670"/>
                    </a:lnTo>
                    <a:lnTo>
                      <a:pt x="1294" y="1676"/>
                    </a:lnTo>
                    <a:lnTo>
                      <a:pt x="1301" y="1676"/>
                    </a:lnTo>
                    <a:lnTo>
                      <a:pt x="1315" y="1676"/>
                    </a:lnTo>
                    <a:lnTo>
                      <a:pt x="1322" y="1683"/>
                    </a:lnTo>
                    <a:lnTo>
                      <a:pt x="1336" y="1683"/>
                    </a:lnTo>
                    <a:lnTo>
                      <a:pt x="1343" y="1683"/>
                    </a:lnTo>
                    <a:lnTo>
                      <a:pt x="1350" y="1690"/>
                    </a:lnTo>
                    <a:lnTo>
                      <a:pt x="1364" y="1690"/>
                    </a:lnTo>
                    <a:lnTo>
                      <a:pt x="1371" y="1697"/>
                    </a:lnTo>
                    <a:lnTo>
                      <a:pt x="1385" y="1697"/>
                    </a:lnTo>
                    <a:lnTo>
                      <a:pt x="1392" y="1697"/>
                    </a:lnTo>
                    <a:lnTo>
                      <a:pt x="1406" y="1704"/>
                    </a:lnTo>
                    <a:lnTo>
                      <a:pt x="1413" y="1704"/>
                    </a:lnTo>
                    <a:lnTo>
                      <a:pt x="1427" y="1704"/>
                    </a:lnTo>
                    <a:lnTo>
                      <a:pt x="1434" y="1711"/>
                    </a:lnTo>
                    <a:lnTo>
                      <a:pt x="1441" y="1711"/>
                    </a:lnTo>
                    <a:lnTo>
                      <a:pt x="1455" y="1711"/>
                    </a:lnTo>
                    <a:lnTo>
                      <a:pt x="1462" y="1718"/>
                    </a:lnTo>
                    <a:lnTo>
                      <a:pt x="1476" y="1718"/>
                    </a:lnTo>
                    <a:lnTo>
                      <a:pt x="1483" y="1718"/>
                    </a:lnTo>
                    <a:lnTo>
                      <a:pt x="1497" y="1725"/>
                    </a:lnTo>
                    <a:lnTo>
                      <a:pt x="1504" y="1725"/>
                    </a:lnTo>
                    <a:lnTo>
                      <a:pt x="1518" y="1725"/>
                    </a:lnTo>
                    <a:lnTo>
                      <a:pt x="1525" y="1732"/>
                    </a:lnTo>
                    <a:lnTo>
                      <a:pt x="1532" y="1732"/>
                    </a:lnTo>
                    <a:lnTo>
                      <a:pt x="1546" y="1732"/>
                    </a:lnTo>
                    <a:lnTo>
                      <a:pt x="1553" y="1739"/>
                    </a:lnTo>
                    <a:lnTo>
                      <a:pt x="1567" y="1739"/>
                    </a:lnTo>
                    <a:lnTo>
                      <a:pt x="1574" y="1739"/>
                    </a:lnTo>
                    <a:lnTo>
                      <a:pt x="1588" y="1746"/>
                    </a:lnTo>
                    <a:lnTo>
                      <a:pt x="1595" y="1746"/>
                    </a:lnTo>
                    <a:lnTo>
                      <a:pt x="1602" y="1746"/>
                    </a:lnTo>
                    <a:lnTo>
                      <a:pt x="1616" y="1753"/>
                    </a:lnTo>
                    <a:lnTo>
                      <a:pt x="1623" y="1753"/>
                    </a:lnTo>
                    <a:lnTo>
                      <a:pt x="1637" y="1753"/>
                    </a:lnTo>
                    <a:lnTo>
                      <a:pt x="1644" y="1753"/>
                    </a:lnTo>
                    <a:lnTo>
                      <a:pt x="1658" y="1760"/>
                    </a:lnTo>
                    <a:lnTo>
                      <a:pt x="1665" y="1760"/>
                    </a:lnTo>
                    <a:lnTo>
                      <a:pt x="1679" y="1760"/>
                    </a:lnTo>
                    <a:lnTo>
                      <a:pt x="1686" y="1767"/>
                    </a:lnTo>
                    <a:lnTo>
                      <a:pt x="1693" y="1767"/>
                    </a:lnTo>
                    <a:lnTo>
                      <a:pt x="1707" y="1767"/>
                    </a:lnTo>
                    <a:lnTo>
                      <a:pt x="1714" y="1774"/>
                    </a:lnTo>
                    <a:lnTo>
                      <a:pt x="1728" y="1774"/>
                    </a:lnTo>
                    <a:lnTo>
                      <a:pt x="1735" y="1774"/>
                    </a:lnTo>
                    <a:lnTo>
                      <a:pt x="1749" y="1774"/>
                    </a:lnTo>
                    <a:lnTo>
                      <a:pt x="1756" y="1781"/>
                    </a:lnTo>
                    <a:lnTo>
                      <a:pt x="1770" y="1781"/>
                    </a:lnTo>
                    <a:lnTo>
                      <a:pt x="1777" y="1781"/>
                    </a:lnTo>
                    <a:lnTo>
                      <a:pt x="1784" y="1788"/>
                    </a:lnTo>
                    <a:lnTo>
                      <a:pt x="1798" y="1788"/>
                    </a:lnTo>
                    <a:lnTo>
                      <a:pt x="1805" y="1788"/>
                    </a:lnTo>
                    <a:lnTo>
                      <a:pt x="1819" y="1788"/>
                    </a:lnTo>
                    <a:lnTo>
                      <a:pt x="1826" y="1795"/>
                    </a:lnTo>
                    <a:lnTo>
                      <a:pt x="1840" y="1795"/>
                    </a:lnTo>
                    <a:lnTo>
                      <a:pt x="1847" y="1795"/>
                    </a:lnTo>
                    <a:lnTo>
                      <a:pt x="1861" y="1795"/>
                    </a:lnTo>
                    <a:lnTo>
                      <a:pt x="1868" y="1802"/>
                    </a:lnTo>
                    <a:lnTo>
                      <a:pt x="1875" y="1802"/>
                    </a:lnTo>
                    <a:lnTo>
                      <a:pt x="1889" y="1802"/>
                    </a:lnTo>
                    <a:lnTo>
                      <a:pt x="1896" y="1802"/>
                    </a:lnTo>
                    <a:lnTo>
                      <a:pt x="1910" y="1809"/>
                    </a:lnTo>
                    <a:lnTo>
                      <a:pt x="1917" y="1809"/>
                    </a:lnTo>
                    <a:lnTo>
                      <a:pt x="1931" y="1809"/>
                    </a:lnTo>
                    <a:lnTo>
                      <a:pt x="1938" y="1816"/>
                    </a:lnTo>
                    <a:lnTo>
                      <a:pt x="1951" y="1816"/>
                    </a:lnTo>
                    <a:lnTo>
                      <a:pt x="1958" y="1816"/>
                    </a:lnTo>
                    <a:lnTo>
                      <a:pt x="1965" y="1816"/>
                    </a:lnTo>
                    <a:lnTo>
                      <a:pt x="1979" y="1823"/>
                    </a:lnTo>
                    <a:lnTo>
                      <a:pt x="1986" y="1823"/>
                    </a:lnTo>
                    <a:lnTo>
                      <a:pt x="2000" y="1823"/>
                    </a:lnTo>
                    <a:lnTo>
                      <a:pt x="2007" y="1823"/>
                    </a:lnTo>
                    <a:lnTo>
                      <a:pt x="2021" y="1830"/>
                    </a:lnTo>
                    <a:lnTo>
                      <a:pt x="2028" y="1830"/>
                    </a:lnTo>
                    <a:lnTo>
                      <a:pt x="2042" y="1830"/>
                    </a:lnTo>
                    <a:lnTo>
                      <a:pt x="2049" y="1830"/>
                    </a:lnTo>
                    <a:lnTo>
                      <a:pt x="2056" y="1837"/>
                    </a:lnTo>
                    <a:lnTo>
                      <a:pt x="2070" y="1837"/>
                    </a:lnTo>
                    <a:lnTo>
                      <a:pt x="2077" y="1837"/>
                    </a:lnTo>
                    <a:lnTo>
                      <a:pt x="2091" y="1837"/>
                    </a:lnTo>
                    <a:lnTo>
                      <a:pt x="2098" y="1837"/>
                    </a:lnTo>
                    <a:lnTo>
                      <a:pt x="2112" y="1844"/>
                    </a:lnTo>
                    <a:lnTo>
                      <a:pt x="2119" y="1844"/>
                    </a:lnTo>
                    <a:lnTo>
                      <a:pt x="2133" y="1844"/>
                    </a:lnTo>
                    <a:lnTo>
                      <a:pt x="2140" y="1844"/>
                    </a:lnTo>
                    <a:lnTo>
                      <a:pt x="2147" y="1851"/>
                    </a:lnTo>
                    <a:lnTo>
                      <a:pt x="2161" y="1851"/>
                    </a:lnTo>
                    <a:lnTo>
                      <a:pt x="2168" y="1851"/>
                    </a:lnTo>
                    <a:lnTo>
                      <a:pt x="2182" y="1851"/>
                    </a:lnTo>
                    <a:lnTo>
                      <a:pt x="2189" y="1858"/>
                    </a:lnTo>
                    <a:lnTo>
                      <a:pt x="2203" y="1858"/>
                    </a:lnTo>
                    <a:lnTo>
                      <a:pt x="2210" y="1858"/>
                    </a:lnTo>
                    <a:lnTo>
                      <a:pt x="2224" y="1858"/>
                    </a:lnTo>
                    <a:lnTo>
                      <a:pt x="2231" y="1858"/>
                    </a:lnTo>
                    <a:lnTo>
                      <a:pt x="2238" y="1865"/>
                    </a:lnTo>
                    <a:lnTo>
                      <a:pt x="2252" y="1865"/>
                    </a:lnTo>
                    <a:lnTo>
                      <a:pt x="2259" y="1865"/>
                    </a:lnTo>
                    <a:lnTo>
                      <a:pt x="2273" y="1865"/>
                    </a:lnTo>
                    <a:lnTo>
                      <a:pt x="2280" y="1872"/>
                    </a:lnTo>
                    <a:lnTo>
                      <a:pt x="2294" y="1872"/>
                    </a:lnTo>
                    <a:lnTo>
                      <a:pt x="2301" y="1872"/>
                    </a:lnTo>
                    <a:lnTo>
                      <a:pt x="2315" y="1872"/>
                    </a:lnTo>
                    <a:lnTo>
                      <a:pt x="2322" y="1872"/>
                    </a:lnTo>
                    <a:lnTo>
                      <a:pt x="2329" y="1879"/>
                    </a:lnTo>
                    <a:lnTo>
                      <a:pt x="2343" y="1879"/>
                    </a:lnTo>
                    <a:lnTo>
                      <a:pt x="2350" y="1879"/>
                    </a:lnTo>
                    <a:lnTo>
                      <a:pt x="2364" y="1879"/>
                    </a:lnTo>
                    <a:lnTo>
                      <a:pt x="2371" y="1886"/>
                    </a:lnTo>
                    <a:lnTo>
                      <a:pt x="2385" y="1886"/>
                    </a:lnTo>
                    <a:lnTo>
                      <a:pt x="2392" y="1886"/>
                    </a:lnTo>
                    <a:lnTo>
                      <a:pt x="2406" y="1886"/>
                    </a:lnTo>
                    <a:lnTo>
                      <a:pt x="2413" y="1886"/>
                    </a:lnTo>
                    <a:lnTo>
                      <a:pt x="2420" y="1893"/>
                    </a:lnTo>
                    <a:lnTo>
                      <a:pt x="2434" y="1893"/>
                    </a:lnTo>
                    <a:lnTo>
                      <a:pt x="2441" y="1893"/>
                    </a:lnTo>
                    <a:lnTo>
                      <a:pt x="2455" y="1893"/>
                    </a:lnTo>
                    <a:lnTo>
                      <a:pt x="2462" y="1893"/>
                    </a:lnTo>
                    <a:lnTo>
                      <a:pt x="2476" y="1900"/>
                    </a:lnTo>
                    <a:lnTo>
                      <a:pt x="2483" y="1900"/>
                    </a:lnTo>
                    <a:lnTo>
                      <a:pt x="2497" y="1900"/>
                    </a:lnTo>
                    <a:lnTo>
                      <a:pt x="2504" y="1900"/>
                    </a:lnTo>
                    <a:lnTo>
                      <a:pt x="2511" y="1900"/>
                    </a:lnTo>
                    <a:lnTo>
                      <a:pt x="2525" y="1907"/>
                    </a:lnTo>
                    <a:lnTo>
                      <a:pt x="2532" y="1907"/>
                    </a:lnTo>
                    <a:lnTo>
                      <a:pt x="2546" y="1907"/>
                    </a:lnTo>
                    <a:lnTo>
                      <a:pt x="2553" y="1907"/>
                    </a:lnTo>
                    <a:lnTo>
                      <a:pt x="2567" y="1907"/>
                    </a:lnTo>
                    <a:lnTo>
                      <a:pt x="2574" y="1914"/>
                    </a:lnTo>
                    <a:lnTo>
                      <a:pt x="2581" y="1914"/>
                    </a:lnTo>
                    <a:lnTo>
                      <a:pt x="2595" y="1914"/>
                    </a:lnTo>
                    <a:lnTo>
                      <a:pt x="2602" y="1914"/>
                    </a:lnTo>
                    <a:lnTo>
                      <a:pt x="2616" y="1914"/>
                    </a:lnTo>
                    <a:lnTo>
                      <a:pt x="2623" y="1914"/>
                    </a:lnTo>
                    <a:lnTo>
                      <a:pt x="2637" y="1921"/>
                    </a:lnTo>
                    <a:lnTo>
                      <a:pt x="2644" y="1921"/>
                    </a:lnTo>
                    <a:lnTo>
                      <a:pt x="2658" y="1921"/>
                    </a:lnTo>
                    <a:lnTo>
                      <a:pt x="2665" y="1921"/>
                    </a:lnTo>
                    <a:lnTo>
                      <a:pt x="2672" y="1921"/>
                    </a:lnTo>
                    <a:lnTo>
                      <a:pt x="2686" y="1928"/>
                    </a:lnTo>
                    <a:lnTo>
                      <a:pt x="2693" y="1928"/>
                    </a:lnTo>
                    <a:lnTo>
                      <a:pt x="2707" y="1928"/>
                    </a:lnTo>
                    <a:lnTo>
                      <a:pt x="2714" y="1928"/>
                    </a:lnTo>
                    <a:lnTo>
                      <a:pt x="2728" y="1928"/>
                    </a:lnTo>
                    <a:lnTo>
                      <a:pt x="2735" y="1935"/>
                    </a:lnTo>
                    <a:lnTo>
                      <a:pt x="2749" y="1935"/>
                    </a:lnTo>
                    <a:lnTo>
                      <a:pt x="2756" y="1935"/>
                    </a:lnTo>
                    <a:lnTo>
                      <a:pt x="2763" y="1935"/>
                    </a:lnTo>
                    <a:lnTo>
                      <a:pt x="2777" y="1935"/>
                    </a:lnTo>
                    <a:lnTo>
                      <a:pt x="2784" y="1935"/>
                    </a:lnTo>
                    <a:lnTo>
                      <a:pt x="2798" y="1942"/>
                    </a:lnTo>
                    <a:lnTo>
                      <a:pt x="2805" y="1942"/>
                    </a:lnTo>
                    <a:lnTo>
                      <a:pt x="2819" y="1942"/>
                    </a:lnTo>
                    <a:lnTo>
                      <a:pt x="2826" y="1942"/>
                    </a:lnTo>
                    <a:lnTo>
                      <a:pt x="2840" y="1942"/>
                    </a:lnTo>
                    <a:lnTo>
                      <a:pt x="2847" y="1949"/>
                    </a:lnTo>
                    <a:lnTo>
                      <a:pt x="2854" y="1949"/>
                    </a:lnTo>
                    <a:lnTo>
                      <a:pt x="2868" y="1949"/>
                    </a:lnTo>
                    <a:lnTo>
                      <a:pt x="2875" y="1949"/>
                    </a:lnTo>
                    <a:lnTo>
                      <a:pt x="2889" y="1949"/>
                    </a:lnTo>
                    <a:lnTo>
                      <a:pt x="2896" y="1949"/>
                    </a:lnTo>
                    <a:lnTo>
                      <a:pt x="2910" y="1956"/>
                    </a:lnTo>
                    <a:lnTo>
                      <a:pt x="2917" y="1956"/>
                    </a:lnTo>
                    <a:lnTo>
                      <a:pt x="2930" y="1956"/>
                    </a:lnTo>
                    <a:lnTo>
                      <a:pt x="2937" y="1956"/>
                    </a:lnTo>
                    <a:lnTo>
                      <a:pt x="2944" y="1956"/>
                    </a:lnTo>
                    <a:lnTo>
                      <a:pt x="2958" y="1956"/>
                    </a:lnTo>
                    <a:lnTo>
                      <a:pt x="2965" y="1963"/>
                    </a:lnTo>
                    <a:lnTo>
                      <a:pt x="2979" y="1963"/>
                    </a:lnTo>
                    <a:lnTo>
                      <a:pt x="2986" y="1963"/>
                    </a:lnTo>
                    <a:lnTo>
                      <a:pt x="3000" y="1963"/>
                    </a:lnTo>
                    <a:lnTo>
                      <a:pt x="3007" y="1963"/>
                    </a:lnTo>
                    <a:lnTo>
                      <a:pt x="3021" y="1963"/>
                    </a:lnTo>
                    <a:lnTo>
                      <a:pt x="3028" y="1970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11" name=""/>
              <p:cNvGrpSpPr/>
              <p:nvPr/>
            </p:nvGrpSpPr>
            <p:grpSpPr>
              <a:xfrm>
                <a:off x="765000" y="3913200"/>
                <a:ext cx="1681200" cy="458280"/>
                <a:chOff x="765000" y="3913200"/>
                <a:chExt cx="1681200" cy="45828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765000" y="3913200"/>
                  <a:ext cx="93852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N=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V="1">
                  <a:off x="1704960" y="3956040"/>
                  <a:ext cx="741240" cy="2332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47AE-C6DC-49D6-A505-964711053892}" type="slidenum">
              <a:t>73</a:t>
            </a:fld>
          </a:p>
        </p:txBody>
      </p:sp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"/>
          <p:cNvSpPr/>
          <p:nvPr/>
        </p:nvSpPr>
        <p:spPr>
          <a:xfrm>
            <a:off x="1371600" y="1752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Postupci aproksimacije prijenosnih funkcija električkih filt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1445760" y="2819160"/>
            <a:ext cx="769644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imes New Roman"/>
              </a:rPr>
              <a:t>5. Eliptička (Cauer)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9FEB-DD55-4596-9CBA-04963B6F256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Eliptička (Cauer)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09480" y="16765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=4, 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,    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1dB, 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40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8" name=""/>
          <p:cNvGrpSpPr/>
          <p:nvPr/>
        </p:nvGrpSpPr>
        <p:grpSpPr>
          <a:xfrm>
            <a:off x="2182680" y="2583000"/>
            <a:ext cx="4445280" cy="3749400"/>
            <a:chOff x="2182680" y="2583000"/>
            <a:chExt cx="4445280" cy="3749400"/>
          </a:xfrm>
        </p:grpSpPr>
        <p:sp>
          <p:nvSpPr>
            <p:cNvPr id="3019" name=""/>
            <p:cNvSpPr/>
            <p:nvPr/>
          </p:nvSpPr>
          <p:spPr>
            <a:xfrm>
              <a:off x="2182680" y="2583000"/>
              <a:ext cx="2054520" cy="3749400"/>
            </a:xfrm>
            <a:custGeom>
              <a:avLst/>
              <a:gdLst/>
              <a:ahLst/>
              <a:rect l="l" t="t" r="r" b="b"/>
              <a:pathLst>
                <a:path w="1294" h="2362">
                  <a:moveTo>
                    <a:pt x="0" y="42"/>
                  </a:moveTo>
                  <a:lnTo>
                    <a:pt x="7" y="42"/>
                  </a:lnTo>
                  <a:lnTo>
                    <a:pt x="14" y="42"/>
                  </a:lnTo>
                  <a:lnTo>
                    <a:pt x="21" y="42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1" y="42"/>
                  </a:lnTo>
                  <a:lnTo>
                    <a:pt x="48" y="35"/>
                  </a:lnTo>
                  <a:lnTo>
                    <a:pt x="55" y="35"/>
                  </a:lnTo>
                  <a:lnTo>
                    <a:pt x="62" y="35"/>
                  </a:lnTo>
                  <a:lnTo>
                    <a:pt x="69" y="35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7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7" y="35"/>
                  </a:lnTo>
                  <a:lnTo>
                    <a:pt x="124" y="28"/>
                  </a:lnTo>
                  <a:lnTo>
                    <a:pt x="131" y="28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52" y="28"/>
                  </a:lnTo>
                  <a:lnTo>
                    <a:pt x="159" y="28"/>
                  </a:lnTo>
                  <a:lnTo>
                    <a:pt x="166" y="28"/>
                  </a:lnTo>
                  <a:lnTo>
                    <a:pt x="173" y="21"/>
                  </a:lnTo>
                  <a:lnTo>
                    <a:pt x="180" y="21"/>
                  </a:lnTo>
                  <a:lnTo>
                    <a:pt x="187" y="21"/>
                  </a:lnTo>
                  <a:lnTo>
                    <a:pt x="194" y="21"/>
                  </a:lnTo>
                  <a:lnTo>
                    <a:pt x="201" y="21"/>
                  </a:lnTo>
                  <a:lnTo>
                    <a:pt x="208" y="21"/>
                  </a:lnTo>
                  <a:lnTo>
                    <a:pt x="214" y="14"/>
                  </a:lnTo>
                  <a:lnTo>
                    <a:pt x="221" y="14"/>
                  </a:lnTo>
                  <a:lnTo>
                    <a:pt x="228" y="14"/>
                  </a:lnTo>
                  <a:lnTo>
                    <a:pt x="235" y="14"/>
                  </a:lnTo>
                  <a:lnTo>
                    <a:pt x="242" y="14"/>
                  </a:lnTo>
                  <a:lnTo>
                    <a:pt x="249" y="14"/>
                  </a:lnTo>
                  <a:lnTo>
                    <a:pt x="256" y="7"/>
                  </a:lnTo>
                  <a:lnTo>
                    <a:pt x="263" y="7"/>
                  </a:lnTo>
                  <a:lnTo>
                    <a:pt x="270" y="7"/>
                  </a:lnTo>
                  <a:lnTo>
                    <a:pt x="277" y="7"/>
                  </a:lnTo>
                  <a:lnTo>
                    <a:pt x="284" y="7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0"/>
                  </a:lnTo>
                  <a:lnTo>
                    <a:pt x="311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53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4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8" y="0"/>
                  </a:lnTo>
                  <a:lnTo>
                    <a:pt x="415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36" y="7"/>
                  </a:lnTo>
                  <a:lnTo>
                    <a:pt x="443" y="7"/>
                  </a:lnTo>
                  <a:lnTo>
                    <a:pt x="450" y="7"/>
                  </a:lnTo>
                  <a:lnTo>
                    <a:pt x="457" y="7"/>
                  </a:lnTo>
                  <a:lnTo>
                    <a:pt x="464" y="7"/>
                  </a:lnTo>
                  <a:lnTo>
                    <a:pt x="471" y="7"/>
                  </a:lnTo>
                  <a:lnTo>
                    <a:pt x="478" y="7"/>
                  </a:lnTo>
                  <a:lnTo>
                    <a:pt x="485" y="14"/>
                  </a:lnTo>
                  <a:lnTo>
                    <a:pt x="492" y="14"/>
                  </a:lnTo>
                  <a:lnTo>
                    <a:pt x="498" y="14"/>
                  </a:lnTo>
                  <a:lnTo>
                    <a:pt x="505" y="14"/>
                  </a:lnTo>
                  <a:lnTo>
                    <a:pt x="512" y="14"/>
                  </a:lnTo>
                  <a:lnTo>
                    <a:pt x="519" y="21"/>
                  </a:lnTo>
                  <a:lnTo>
                    <a:pt x="526" y="21"/>
                  </a:lnTo>
                  <a:lnTo>
                    <a:pt x="533" y="21"/>
                  </a:lnTo>
                  <a:lnTo>
                    <a:pt x="540" y="21"/>
                  </a:lnTo>
                  <a:lnTo>
                    <a:pt x="547" y="28"/>
                  </a:lnTo>
                  <a:lnTo>
                    <a:pt x="554" y="28"/>
                  </a:lnTo>
                  <a:lnTo>
                    <a:pt x="561" y="28"/>
                  </a:lnTo>
                  <a:lnTo>
                    <a:pt x="568" y="28"/>
                  </a:lnTo>
                  <a:lnTo>
                    <a:pt x="575" y="28"/>
                  </a:lnTo>
                  <a:lnTo>
                    <a:pt x="582" y="35"/>
                  </a:lnTo>
                  <a:lnTo>
                    <a:pt x="589" y="35"/>
                  </a:lnTo>
                  <a:lnTo>
                    <a:pt x="595" y="35"/>
                  </a:lnTo>
                  <a:lnTo>
                    <a:pt x="602" y="35"/>
                  </a:lnTo>
                  <a:lnTo>
                    <a:pt x="609" y="35"/>
                  </a:lnTo>
                  <a:lnTo>
                    <a:pt x="616" y="35"/>
                  </a:lnTo>
                  <a:lnTo>
                    <a:pt x="623" y="35"/>
                  </a:lnTo>
                  <a:lnTo>
                    <a:pt x="630" y="42"/>
                  </a:lnTo>
                  <a:lnTo>
                    <a:pt x="637" y="42"/>
                  </a:lnTo>
                  <a:lnTo>
                    <a:pt x="644" y="42"/>
                  </a:lnTo>
                  <a:lnTo>
                    <a:pt x="651" y="42"/>
                  </a:lnTo>
                  <a:lnTo>
                    <a:pt x="658" y="42"/>
                  </a:lnTo>
                  <a:lnTo>
                    <a:pt x="665" y="42"/>
                  </a:lnTo>
                  <a:lnTo>
                    <a:pt x="672" y="42"/>
                  </a:lnTo>
                  <a:lnTo>
                    <a:pt x="679" y="42"/>
                  </a:lnTo>
                  <a:lnTo>
                    <a:pt x="685" y="42"/>
                  </a:lnTo>
                  <a:lnTo>
                    <a:pt x="692" y="35"/>
                  </a:lnTo>
                  <a:lnTo>
                    <a:pt x="699" y="35"/>
                  </a:lnTo>
                  <a:lnTo>
                    <a:pt x="706" y="35"/>
                  </a:lnTo>
                  <a:lnTo>
                    <a:pt x="713" y="35"/>
                  </a:lnTo>
                  <a:lnTo>
                    <a:pt x="720" y="35"/>
                  </a:lnTo>
                  <a:lnTo>
                    <a:pt x="727" y="28"/>
                  </a:lnTo>
                  <a:lnTo>
                    <a:pt x="734" y="28"/>
                  </a:lnTo>
                  <a:lnTo>
                    <a:pt x="741" y="28"/>
                  </a:lnTo>
                  <a:lnTo>
                    <a:pt x="748" y="28"/>
                  </a:lnTo>
                  <a:lnTo>
                    <a:pt x="755" y="21"/>
                  </a:lnTo>
                  <a:lnTo>
                    <a:pt x="762" y="21"/>
                  </a:lnTo>
                  <a:lnTo>
                    <a:pt x="769" y="21"/>
                  </a:lnTo>
                  <a:lnTo>
                    <a:pt x="776" y="14"/>
                  </a:lnTo>
                  <a:lnTo>
                    <a:pt x="782" y="14"/>
                  </a:lnTo>
                  <a:lnTo>
                    <a:pt x="789" y="14"/>
                  </a:lnTo>
                  <a:lnTo>
                    <a:pt x="796" y="7"/>
                  </a:lnTo>
                  <a:lnTo>
                    <a:pt x="803" y="7"/>
                  </a:lnTo>
                  <a:lnTo>
                    <a:pt x="810" y="7"/>
                  </a:lnTo>
                  <a:lnTo>
                    <a:pt x="817" y="0"/>
                  </a:lnTo>
                  <a:lnTo>
                    <a:pt x="824" y="0"/>
                  </a:lnTo>
                  <a:lnTo>
                    <a:pt x="831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2" y="0"/>
                  </a:lnTo>
                  <a:lnTo>
                    <a:pt x="859" y="0"/>
                  </a:lnTo>
                  <a:lnTo>
                    <a:pt x="866" y="7"/>
                  </a:lnTo>
                  <a:lnTo>
                    <a:pt x="873" y="7"/>
                  </a:lnTo>
                  <a:lnTo>
                    <a:pt x="879" y="14"/>
                  </a:lnTo>
                  <a:lnTo>
                    <a:pt x="886" y="14"/>
                  </a:lnTo>
                  <a:lnTo>
                    <a:pt x="893" y="21"/>
                  </a:lnTo>
                  <a:lnTo>
                    <a:pt x="900" y="21"/>
                  </a:lnTo>
                  <a:lnTo>
                    <a:pt x="907" y="28"/>
                  </a:lnTo>
                  <a:lnTo>
                    <a:pt x="914" y="35"/>
                  </a:lnTo>
                  <a:lnTo>
                    <a:pt x="921" y="35"/>
                  </a:lnTo>
                  <a:lnTo>
                    <a:pt x="928" y="35"/>
                  </a:lnTo>
                  <a:lnTo>
                    <a:pt x="935" y="42"/>
                  </a:lnTo>
                  <a:lnTo>
                    <a:pt x="942" y="42"/>
                  </a:lnTo>
                  <a:lnTo>
                    <a:pt x="949" y="35"/>
                  </a:lnTo>
                  <a:lnTo>
                    <a:pt x="956" y="35"/>
                  </a:lnTo>
                  <a:lnTo>
                    <a:pt x="963" y="21"/>
                  </a:lnTo>
                  <a:lnTo>
                    <a:pt x="969" y="14"/>
                  </a:lnTo>
                  <a:lnTo>
                    <a:pt x="976" y="7"/>
                  </a:lnTo>
                  <a:lnTo>
                    <a:pt x="983" y="0"/>
                  </a:lnTo>
                  <a:lnTo>
                    <a:pt x="990" y="7"/>
                  </a:lnTo>
                  <a:lnTo>
                    <a:pt x="997" y="49"/>
                  </a:lnTo>
                  <a:lnTo>
                    <a:pt x="1004" y="111"/>
                  </a:lnTo>
                  <a:lnTo>
                    <a:pt x="1011" y="201"/>
                  </a:lnTo>
                  <a:lnTo>
                    <a:pt x="1025" y="298"/>
                  </a:lnTo>
                  <a:lnTo>
                    <a:pt x="1032" y="395"/>
                  </a:lnTo>
                  <a:lnTo>
                    <a:pt x="1039" y="499"/>
                  </a:lnTo>
                  <a:lnTo>
                    <a:pt x="1046" y="602"/>
                  </a:lnTo>
                  <a:lnTo>
                    <a:pt x="1053" y="699"/>
                  </a:lnTo>
                  <a:lnTo>
                    <a:pt x="1060" y="803"/>
                  </a:lnTo>
                  <a:lnTo>
                    <a:pt x="1066" y="907"/>
                  </a:lnTo>
                  <a:lnTo>
                    <a:pt x="1073" y="1011"/>
                  </a:lnTo>
                  <a:lnTo>
                    <a:pt x="1080" y="1128"/>
                  </a:lnTo>
                  <a:lnTo>
                    <a:pt x="1087" y="1253"/>
                  </a:lnTo>
                  <a:lnTo>
                    <a:pt x="1094" y="1398"/>
                  </a:lnTo>
                  <a:lnTo>
                    <a:pt x="1101" y="1578"/>
                  </a:lnTo>
                  <a:lnTo>
                    <a:pt x="1108" y="1841"/>
                  </a:lnTo>
                  <a:lnTo>
                    <a:pt x="1114" y="2361"/>
                  </a:lnTo>
                  <a:lnTo>
                    <a:pt x="1122" y="2014"/>
                  </a:lnTo>
                  <a:lnTo>
                    <a:pt x="1129" y="1799"/>
                  </a:lnTo>
                  <a:lnTo>
                    <a:pt x="1136" y="1703"/>
                  </a:lnTo>
                  <a:lnTo>
                    <a:pt x="1143" y="1640"/>
                  </a:lnTo>
                  <a:lnTo>
                    <a:pt x="1150" y="1606"/>
                  </a:lnTo>
                  <a:lnTo>
                    <a:pt x="1157" y="1585"/>
                  </a:lnTo>
                  <a:lnTo>
                    <a:pt x="1163" y="1578"/>
                  </a:lnTo>
                  <a:lnTo>
                    <a:pt x="1170" y="1571"/>
                  </a:lnTo>
                  <a:lnTo>
                    <a:pt x="1177" y="1578"/>
                  </a:lnTo>
                  <a:lnTo>
                    <a:pt x="1184" y="1585"/>
                  </a:lnTo>
                  <a:lnTo>
                    <a:pt x="1191" y="1592"/>
                  </a:lnTo>
                  <a:lnTo>
                    <a:pt x="1198" y="1613"/>
                  </a:lnTo>
                  <a:lnTo>
                    <a:pt x="1205" y="1626"/>
                  </a:lnTo>
                  <a:lnTo>
                    <a:pt x="1212" y="1647"/>
                  </a:lnTo>
                  <a:lnTo>
                    <a:pt x="1219" y="1675"/>
                  </a:lnTo>
                  <a:lnTo>
                    <a:pt x="1226" y="1703"/>
                  </a:lnTo>
                  <a:lnTo>
                    <a:pt x="1233" y="1730"/>
                  </a:lnTo>
                  <a:lnTo>
                    <a:pt x="1240" y="1765"/>
                  </a:lnTo>
                  <a:lnTo>
                    <a:pt x="1247" y="1806"/>
                  </a:lnTo>
                  <a:lnTo>
                    <a:pt x="1253" y="1848"/>
                  </a:lnTo>
                  <a:lnTo>
                    <a:pt x="1260" y="1903"/>
                  </a:lnTo>
                  <a:lnTo>
                    <a:pt x="1267" y="1959"/>
                  </a:lnTo>
                  <a:lnTo>
                    <a:pt x="1274" y="2028"/>
                  </a:lnTo>
                  <a:lnTo>
                    <a:pt x="1281" y="2118"/>
                  </a:lnTo>
                  <a:lnTo>
                    <a:pt x="1288" y="2228"/>
                  </a:lnTo>
                  <a:lnTo>
                    <a:pt x="1293" y="2359"/>
                  </a:lnTo>
                  <a:lnTo>
                    <a:pt x="1291" y="2359"/>
                  </a:lnTo>
                  <a:lnTo>
                    <a:pt x="1290" y="2359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276800" y="5076720"/>
              <a:ext cx="2351160" cy="1255680"/>
            </a:xfrm>
            <a:custGeom>
              <a:avLst/>
              <a:gdLst/>
              <a:ahLst/>
              <a:rect l="l" t="t" r="r" b="b"/>
              <a:pathLst>
                <a:path w="1481" h="791">
                  <a:moveTo>
                    <a:pt x="0" y="787"/>
                  </a:moveTo>
                  <a:lnTo>
                    <a:pt x="0" y="787"/>
                  </a:lnTo>
                  <a:lnTo>
                    <a:pt x="4" y="740"/>
                  </a:lnTo>
                  <a:lnTo>
                    <a:pt x="11" y="623"/>
                  </a:lnTo>
                  <a:lnTo>
                    <a:pt x="18" y="540"/>
                  </a:lnTo>
                  <a:lnTo>
                    <a:pt x="25" y="471"/>
                  </a:lnTo>
                  <a:lnTo>
                    <a:pt x="31" y="415"/>
                  </a:lnTo>
                  <a:lnTo>
                    <a:pt x="38" y="374"/>
                  </a:lnTo>
                  <a:lnTo>
                    <a:pt x="45" y="339"/>
                  </a:lnTo>
                  <a:lnTo>
                    <a:pt x="52" y="305"/>
                  </a:lnTo>
                  <a:lnTo>
                    <a:pt x="59" y="277"/>
                  </a:lnTo>
                  <a:lnTo>
                    <a:pt x="66" y="249"/>
                  </a:lnTo>
                  <a:lnTo>
                    <a:pt x="73" y="228"/>
                  </a:lnTo>
                  <a:lnTo>
                    <a:pt x="80" y="208"/>
                  </a:lnTo>
                  <a:lnTo>
                    <a:pt x="87" y="187"/>
                  </a:lnTo>
                  <a:lnTo>
                    <a:pt x="94" y="173"/>
                  </a:lnTo>
                  <a:lnTo>
                    <a:pt x="101" y="159"/>
                  </a:lnTo>
                  <a:lnTo>
                    <a:pt x="108" y="145"/>
                  </a:lnTo>
                  <a:lnTo>
                    <a:pt x="115" y="132"/>
                  </a:lnTo>
                  <a:lnTo>
                    <a:pt x="122" y="118"/>
                  </a:lnTo>
                  <a:lnTo>
                    <a:pt x="128" y="111"/>
                  </a:lnTo>
                  <a:lnTo>
                    <a:pt x="135" y="104"/>
                  </a:lnTo>
                  <a:lnTo>
                    <a:pt x="142" y="90"/>
                  </a:lnTo>
                  <a:lnTo>
                    <a:pt x="149" y="83"/>
                  </a:lnTo>
                  <a:lnTo>
                    <a:pt x="156" y="76"/>
                  </a:lnTo>
                  <a:lnTo>
                    <a:pt x="163" y="69"/>
                  </a:lnTo>
                  <a:lnTo>
                    <a:pt x="170" y="62"/>
                  </a:lnTo>
                  <a:lnTo>
                    <a:pt x="177" y="55"/>
                  </a:lnTo>
                  <a:lnTo>
                    <a:pt x="184" y="49"/>
                  </a:lnTo>
                  <a:lnTo>
                    <a:pt x="191" y="49"/>
                  </a:lnTo>
                  <a:lnTo>
                    <a:pt x="198" y="42"/>
                  </a:lnTo>
                  <a:lnTo>
                    <a:pt x="205" y="35"/>
                  </a:lnTo>
                  <a:lnTo>
                    <a:pt x="212" y="35"/>
                  </a:lnTo>
                  <a:lnTo>
                    <a:pt x="218" y="28"/>
                  </a:lnTo>
                  <a:lnTo>
                    <a:pt x="225" y="28"/>
                  </a:lnTo>
                  <a:lnTo>
                    <a:pt x="232" y="21"/>
                  </a:lnTo>
                  <a:lnTo>
                    <a:pt x="239" y="21"/>
                  </a:lnTo>
                  <a:lnTo>
                    <a:pt x="246" y="21"/>
                  </a:lnTo>
                  <a:lnTo>
                    <a:pt x="253" y="14"/>
                  </a:lnTo>
                  <a:lnTo>
                    <a:pt x="260" y="14"/>
                  </a:lnTo>
                  <a:lnTo>
                    <a:pt x="267" y="14"/>
                  </a:lnTo>
                  <a:lnTo>
                    <a:pt x="274" y="7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2" y="7"/>
                  </a:lnTo>
                  <a:lnTo>
                    <a:pt x="309" y="7"/>
                  </a:lnTo>
                  <a:lnTo>
                    <a:pt x="315" y="7"/>
                  </a:lnTo>
                  <a:lnTo>
                    <a:pt x="322" y="0"/>
                  </a:lnTo>
                  <a:lnTo>
                    <a:pt x="329" y="0"/>
                  </a:lnTo>
                  <a:lnTo>
                    <a:pt x="336" y="0"/>
                  </a:lnTo>
                  <a:lnTo>
                    <a:pt x="343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8" y="0"/>
                  </a:lnTo>
                  <a:lnTo>
                    <a:pt x="385" y="7"/>
                  </a:lnTo>
                  <a:lnTo>
                    <a:pt x="392" y="7"/>
                  </a:lnTo>
                  <a:lnTo>
                    <a:pt x="399" y="7"/>
                  </a:lnTo>
                  <a:lnTo>
                    <a:pt x="405" y="7"/>
                  </a:lnTo>
                  <a:lnTo>
                    <a:pt x="412" y="7"/>
                  </a:lnTo>
                  <a:lnTo>
                    <a:pt x="419" y="7"/>
                  </a:lnTo>
                  <a:lnTo>
                    <a:pt x="426" y="7"/>
                  </a:lnTo>
                  <a:lnTo>
                    <a:pt x="433" y="7"/>
                  </a:lnTo>
                  <a:lnTo>
                    <a:pt x="440" y="14"/>
                  </a:lnTo>
                  <a:lnTo>
                    <a:pt x="447" y="14"/>
                  </a:lnTo>
                  <a:lnTo>
                    <a:pt x="454" y="14"/>
                  </a:lnTo>
                  <a:lnTo>
                    <a:pt x="461" y="14"/>
                  </a:lnTo>
                  <a:lnTo>
                    <a:pt x="468" y="14"/>
                  </a:lnTo>
                  <a:lnTo>
                    <a:pt x="475" y="21"/>
                  </a:lnTo>
                  <a:lnTo>
                    <a:pt x="482" y="21"/>
                  </a:lnTo>
                  <a:lnTo>
                    <a:pt x="489" y="21"/>
                  </a:lnTo>
                  <a:lnTo>
                    <a:pt x="496" y="21"/>
                  </a:lnTo>
                  <a:lnTo>
                    <a:pt x="502" y="21"/>
                  </a:lnTo>
                  <a:lnTo>
                    <a:pt x="509" y="28"/>
                  </a:lnTo>
                  <a:lnTo>
                    <a:pt x="516" y="28"/>
                  </a:lnTo>
                  <a:lnTo>
                    <a:pt x="523" y="28"/>
                  </a:lnTo>
                  <a:lnTo>
                    <a:pt x="530" y="35"/>
                  </a:lnTo>
                  <a:lnTo>
                    <a:pt x="537" y="35"/>
                  </a:lnTo>
                  <a:lnTo>
                    <a:pt x="544" y="35"/>
                  </a:lnTo>
                  <a:lnTo>
                    <a:pt x="551" y="35"/>
                  </a:lnTo>
                  <a:lnTo>
                    <a:pt x="558" y="42"/>
                  </a:lnTo>
                  <a:lnTo>
                    <a:pt x="565" y="42"/>
                  </a:lnTo>
                  <a:lnTo>
                    <a:pt x="572" y="42"/>
                  </a:lnTo>
                  <a:lnTo>
                    <a:pt x="579" y="49"/>
                  </a:lnTo>
                  <a:lnTo>
                    <a:pt x="586" y="49"/>
                  </a:lnTo>
                  <a:lnTo>
                    <a:pt x="593" y="49"/>
                  </a:lnTo>
                  <a:lnTo>
                    <a:pt x="599" y="55"/>
                  </a:lnTo>
                  <a:lnTo>
                    <a:pt x="606" y="55"/>
                  </a:lnTo>
                  <a:lnTo>
                    <a:pt x="613" y="55"/>
                  </a:lnTo>
                  <a:lnTo>
                    <a:pt x="620" y="62"/>
                  </a:lnTo>
                  <a:lnTo>
                    <a:pt x="627" y="62"/>
                  </a:lnTo>
                  <a:lnTo>
                    <a:pt x="634" y="69"/>
                  </a:lnTo>
                  <a:lnTo>
                    <a:pt x="641" y="69"/>
                  </a:lnTo>
                  <a:lnTo>
                    <a:pt x="648" y="69"/>
                  </a:lnTo>
                  <a:lnTo>
                    <a:pt x="655" y="76"/>
                  </a:lnTo>
                  <a:lnTo>
                    <a:pt x="662" y="76"/>
                  </a:lnTo>
                  <a:lnTo>
                    <a:pt x="669" y="83"/>
                  </a:lnTo>
                  <a:lnTo>
                    <a:pt x="676" y="83"/>
                  </a:lnTo>
                  <a:lnTo>
                    <a:pt x="683" y="83"/>
                  </a:lnTo>
                  <a:lnTo>
                    <a:pt x="689" y="90"/>
                  </a:lnTo>
                  <a:lnTo>
                    <a:pt x="696" y="90"/>
                  </a:lnTo>
                  <a:lnTo>
                    <a:pt x="703" y="97"/>
                  </a:lnTo>
                  <a:lnTo>
                    <a:pt x="710" y="97"/>
                  </a:lnTo>
                  <a:lnTo>
                    <a:pt x="717" y="104"/>
                  </a:lnTo>
                  <a:lnTo>
                    <a:pt x="724" y="104"/>
                  </a:lnTo>
                  <a:lnTo>
                    <a:pt x="731" y="104"/>
                  </a:lnTo>
                  <a:lnTo>
                    <a:pt x="738" y="111"/>
                  </a:lnTo>
                  <a:lnTo>
                    <a:pt x="745" y="111"/>
                  </a:lnTo>
                  <a:lnTo>
                    <a:pt x="752" y="118"/>
                  </a:lnTo>
                  <a:lnTo>
                    <a:pt x="759" y="118"/>
                  </a:lnTo>
                  <a:lnTo>
                    <a:pt x="766" y="125"/>
                  </a:lnTo>
                  <a:lnTo>
                    <a:pt x="773" y="125"/>
                  </a:lnTo>
                  <a:lnTo>
                    <a:pt x="780" y="132"/>
                  </a:lnTo>
                  <a:lnTo>
                    <a:pt x="786" y="132"/>
                  </a:lnTo>
                  <a:lnTo>
                    <a:pt x="793" y="138"/>
                  </a:lnTo>
                  <a:lnTo>
                    <a:pt x="800" y="138"/>
                  </a:lnTo>
                  <a:lnTo>
                    <a:pt x="807" y="145"/>
                  </a:lnTo>
                  <a:lnTo>
                    <a:pt x="814" y="145"/>
                  </a:lnTo>
                  <a:lnTo>
                    <a:pt x="821" y="152"/>
                  </a:lnTo>
                  <a:lnTo>
                    <a:pt x="828" y="152"/>
                  </a:lnTo>
                  <a:lnTo>
                    <a:pt x="835" y="159"/>
                  </a:lnTo>
                  <a:lnTo>
                    <a:pt x="842" y="159"/>
                  </a:lnTo>
                  <a:lnTo>
                    <a:pt x="849" y="166"/>
                  </a:lnTo>
                  <a:lnTo>
                    <a:pt x="856" y="173"/>
                  </a:lnTo>
                  <a:lnTo>
                    <a:pt x="863" y="173"/>
                  </a:lnTo>
                  <a:lnTo>
                    <a:pt x="870" y="180"/>
                  </a:lnTo>
                  <a:lnTo>
                    <a:pt x="877" y="180"/>
                  </a:lnTo>
                  <a:lnTo>
                    <a:pt x="883" y="187"/>
                  </a:lnTo>
                  <a:lnTo>
                    <a:pt x="890" y="187"/>
                  </a:lnTo>
                  <a:lnTo>
                    <a:pt x="897" y="194"/>
                  </a:lnTo>
                  <a:lnTo>
                    <a:pt x="904" y="194"/>
                  </a:lnTo>
                  <a:lnTo>
                    <a:pt x="911" y="201"/>
                  </a:lnTo>
                  <a:lnTo>
                    <a:pt x="918" y="208"/>
                  </a:lnTo>
                  <a:lnTo>
                    <a:pt x="925" y="208"/>
                  </a:lnTo>
                  <a:lnTo>
                    <a:pt x="932" y="215"/>
                  </a:lnTo>
                  <a:lnTo>
                    <a:pt x="939" y="215"/>
                  </a:lnTo>
                  <a:lnTo>
                    <a:pt x="946" y="222"/>
                  </a:lnTo>
                  <a:lnTo>
                    <a:pt x="953" y="228"/>
                  </a:lnTo>
                  <a:lnTo>
                    <a:pt x="960" y="228"/>
                  </a:lnTo>
                  <a:lnTo>
                    <a:pt x="967" y="235"/>
                  </a:lnTo>
                  <a:lnTo>
                    <a:pt x="973" y="242"/>
                  </a:lnTo>
                  <a:lnTo>
                    <a:pt x="980" y="242"/>
                  </a:lnTo>
                  <a:lnTo>
                    <a:pt x="987" y="249"/>
                  </a:lnTo>
                  <a:lnTo>
                    <a:pt x="994" y="249"/>
                  </a:lnTo>
                  <a:lnTo>
                    <a:pt x="1001" y="256"/>
                  </a:lnTo>
                  <a:lnTo>
                    <a:pt x="1008" y="263"/>
                  </a:lnTo>
                  <a:lnTo>
                    <a:pt x="1015" y="270"/>
                  </a:lnTo>
                  <a:lnTo>
                    <a:pt x="1022" y="270"/>
                  </a:lnTo>
                  <a:lnTo>
                    <a:pt x="1029" y="277"/>
                  </a:lnTo>
                  <a:lnTo>
                    <a:pt x="1036" y="284"/>
                  </a:lnTo>
                  <a:lnTo>
                    <a:pt x="1043" y="284"/>
                  </a:lnTo>
                  <a:lnTo>
                    <a:pt x="1057" y="291"/>
                  </a:lnTo>
                  <a:lnTo>
                    <a:pt x="1064" y="298"/>
                  </a:lnTo>
                  <a:lnTo>
                    <a:pt x="1070" y="298"/>
                  </a:lnTo>
                  <a:lnTo>
                    <a:pt x="1077" y="305"/>
                  </a:lnTo>
                  <a:lnTo>
                    <a:pt x="1084" y="311"/>
                  </a:lnTo>
                  <a:lnTo>
                    <a:pt x="1091" y="318"/>
                  </a:lnTo>
                  <a:lnTo>
                    <a:pt x="1098" y="318"/>
                  </a:lnTo>
                  <a:lnTo>
                    <a:pt x="1105" y="325"/>
                  </a:lnTo>
                  <a:lnTo>
                    <a:pt x="1112" y="332"/>
                  </a:lnTo>
                  <a:lnTo>
                    <a:pt x="1119" y="339"/>
                  </a:lnTo>
                  <a:lnTo>
                    <a:pt x="1126" y="346"/>
                  </a:lnTo>
                  <a:lnTo>
                    <a:pt x="1133" y="346"/>
                  </a:lnTo>
                  <a:lnTo>
                    <a:pt x="1140" y="353"/>
                  </a:lnTo>
                  <a:lnTo>
                    <a:pt x="1147" y="360"/>
                  </a:lnTo>
                  <a:lnTo>
                    <a:pt x="1154" y="367"/>
                  </a:lnTo>
                  <a:lnTo>
                    <a:pt x="1161" y="374"/>
                  </a:lnTo>
                  <a:lnTo>
                    <a:pt x="1167" y="374"/>
                  </a:lnTo>
                  <a:lnTo>
                    <a:pt x="1174" y="381"/>
                  </a:lnTo>
                  <a:lnTo>
                    <a:pt x="1181" y="388"/>
                  </a:lnTo>
                  <a:lnTo>
                    <a:pt x="1188" y="395"/>
                  </a:lnTo>
                  <a:lnTo>
                    <a:pt x="1195" y="401"/>
                  </a:lnTo>
                  <a:lnTo>
                    <a:pt x="1202" y="408"/>
                  </a:lnTo>
                  <a:lnTo>
                    <a:pt x="1209" y="415"/>
                  </a:lnTo>
                  <a:lnTo>
                    <a:pt x="1216" y="422"/>
                  </a:lnTo>
                  <a:lnTo>
                    <a:pt x="1223" y="429"/>
                  </a:lnTo>
                  <a:lnTo>
                    <a:pt x="1230" y="436"/>
                  </a:lnTo>
                  <a:lnTo>
                    <a:pt x="1237" y="443"/>
                  </a:lnTo>
                  <a:lnTo>
                    <a:pt x="1244" y="450"/>
                  </a:lnTo>
                  <a:lnTo>
                    <a:pt x="1251" y="457"/>
                  </a:lnTo>
                  <a:lnTo>
                    <a:pt x="1257" y="464"/>
                  </a:lnTo>
                  <a:lnTo>
                    <a:pt x="1264" y="471"/>
                  </a:lnTo>
                  <a:lnTo>
                    <a:pt x="1271" y="478"/>
                  </a:lnTo>
                  <a:lnTo>
                    <a:pt x="1278" y="484"/>
                  </a:lnTo>
                  <a:lnTo>
                    <a:pt x="1285" y="491"/>
                  </a:lnTo>
                  <a:lnTo>
                    <a:pt x="1292" y="498"/>
                  </a:lnTo>
                  <a:lnTo>
                    <a:pt x="1299" y="505"/>
                  </a:lnTo>
                  <a:lnTo>
                    <a:pt x="1306" y="512"/>
                  </a:lnTo>
                  <a:lnTo>
                    <a:pt x="1313" y="519"/>
                  </a:lnTo>
                  <a:lnTo>
                    <a:pt x="1320" y="533"/>
                  </a:lnTo>
                  <a:lnTo>
                    <a:pt x="1327" y="540"/>
                  </a:lnTo>
                  <a:lnTo>
                    <a:pt x="1334" y="547"/>
                  </a:lnTo>
                  <a:lnTo>
                    <a:pt x="1341" y="554"/>
                  </a:lnTo>
                  <a:lnTo>
                    <a:pt x="1348" y="567"/>
                  </a:lnTo>
                  <a:lnTo>
                    <a:pt x="1354" y="574"/>
                  </a:lnTo>
                  <a:lnTo>
                    <a:pt x="1361" y="581"/>
                  </a:lnTo>
                  <a:lnTo>
                    <a:pt x="1368" y="595"/>
                  </a:lnTo>
                  <a:lnTo>
                    <a:pt x="1375" y="602"/>
                  </a:lnTo>
                  <a:lnTo>
                    <a:pt x="1382" y="616"/>
                  </a:lnTo>
                  <a:lnTo>
                    <a:pt x="1389" y="623"/>
                  </a:lnTo>
                  <a:lnTo>
                    <a:pt x="1396" y="637"/>
                  </a:lnTo>
                  <a:lnTo>
                    <a:pt x="1403" y="644"/>
                  </a:lnTo>
                  <a:lnTo>
                    <a:pt x="1410" y="657"/>
                  </a:lnTo>
                  <a:lnTo>
                    <a:pt x="1417" y="664"/>
                  </a:lnTo>
                  <a:lnTo>
                    <a:pt x="1424" y="678"/>
                  </a:lnTo>
                  <a:lnTo>
                    <a:pt x="1431" y="692"/>
                  </a:lnTo>
                  <a:lnTo>
                    <a:pt x="1438" y="706"/>
                  </a:lnTo>
                  <a:lnTo>
                    <a:pt x="1445" y="713"/>
                  </a:lnTo>
                  <a:lnTo>
                    <a:pt x="1451" y="727"/>
                  </a:lnTo>
                  <a:lnTo>
                    <a:pt x="1458" y="740"/>
                  </a:lnTo>
                  <a:lnTo>
                    <a:pt x="1465" y="754"/>
                  </a:lnTo>
                  <a:lnTo>
                    <a:pt x="1472" y="768"/>
                  </a:lnTo>
                  <a:lnTo>
                    <a:pt x="1479" y="789"/>
                  </a:lnTo>
                  <a:lnTo>
                    <a:pt x="1478" y="788"/>
                  </a:lnTo>
                  <a:lnTo>
                    <a:pt x="1480" y="787"/>
                  </a:lnTo>
                  <a:lnTo>
                    <a:pt x="1478" y="790"/>
                  </a:lnTo>
                  <a:lnTo>
                    <a:pt x="1478" y="788"/>
                  </a:lnTo>
                  <a:lnTo>
                    <a:pt x="1477" y="788"/>
                  </a:lnTo>
                  <a:lnTo>
                    <a:pt x="1476" y="788"/>
                  </a:lnTo>
                  <a:lnTo>
                    <a:pt x="1477" y="787"/>
                  </a:lnTo>
                  <a:lnTo>
                    <a:pt x="1478" y="787"/>
                  </a:lnTo>
                  <a:lnTo>
                    <a:pt x="1477" y="787"/>
                  </a:lnTo>
                  <a:lnTo>
                    <a:pt x="1477" y="788"/>
                  </a:lnTo>
                  <a:lnTo>
                    <a:pt x="1477" y="787"/>
                  </a:lnTo>
                </a:path>
              </a:pathLst>
            </a:custGeom>
            <a:noFill/>
            <a:ln cap="rnd" w="12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1" name=""/>
          <p:cNvGrpSpPr/>
          <p:nvPr/>
        </p:nvGrpSpPr>
        <p:grpSpPr>
          <a:xfrm>
            <a:off x="2182680" y="2583000"/>
            <a:ext cx="4278600" cy="3746520"/>
            <a:chOff x="2182680" y="2583000"/>
            <a:chExt cx="4278600" cy="3746520"/>
          </a:xfrm>
        </p:grpSpPr>
        <p:sp>
          <p:nvSpPr>
            <p:cNvPr id="3022" name=""/>
            <p:cNvSpPr/>
            <p:nvPr/>
          </p:nvSpPr>
          <p:spPr>
            <a:xfrm>
              <a:off x="2182680" y="2583000"/>
              <a:ext cx="1978200" cy="3746520"/>
            </a:xfrm>
            <a:custGeom>
              <a:avLst/>
              <a:gdLst/>
              <a:ahLst/>
              <a:rect l="l" t="t" r="r" b="b"/>
              <a:pathLst>
                <a:path w="1246" h="2360">
                  <a:moveTo>
                    <a:pt x="0" y="42"/>
                  </a:moveTo>
                  <a:lnTo>
                    <a:pt x="7" y="42"/>
                  </a:lnTo>
                  <a:lnTo>
                    <a:pt x="14" y="42"/>
                  </a:lnTo>
                  <a:lnTo>
                    <a:pt x="21" y="42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1" y="42"/>
                  </a:lnTo>
                  <a:lnTo>
                    <a:pt x="48" y="35"/>
                  </a:lnTo>
                  <a:lnTo>
                    <a:pt x="55" y="35"/>
                  </a:lnTo>
                  <a:lnTo>
                    <a:pt x="62" y="35"/>
                  </a:lnTo>
                  <a:lnTo>
                    <a:pt x="69" y="35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7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7" y="28"/>
                  </a:lnTo>
                  <a:lnTo>
                    <a:pt x="124" y="28"/>
                  </a:lnTo>
                  <a:lnTo>
                    <a:pt x="131" y="28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52" y="28"/>
                  </a:lnTo>
                  <a:lnTo>
                    <a:pt x="159" y="28"/>
                  </a:lnTo>
                  <a:lnTo>
                    <a:pt x="166" y="21"/>
                  </a:lnTo>
                  <a:lnTo>
                    <a:pt x="173" y="21"/>
                  </a:lnTo>
                  <a:lnTo>
                    <a:pt x="180" y="21"/>
                  </a:lnTo>
                  <a:lnTo>
                    <a:pt x="187" y="21"/>
                  </a:lnTo>
                  <a:lnTo>
                    <a:pt x="194" y="21"/>
                  </a:lnTo>
                  <a:lnTo>
                    <a:pt x="201" y="21"/>
                  </a:lnTo>
                  <a:lnTo>
                    <a:pt x="208" y="14"/>
                  </a:lnTo>
                  <a:lnTo>
                    <a:pt x="214" y="14"/>
                  </a:lnTo>
                  <a:lnTo>
                    <a:pt x="221" y="14"/>
                  </a:lnTo>
                  <a:lnTo>
                    <a:pt x="228" y="14"/>
                  </a:lnTo>
                  <a:lnTo>
                    <a:pt x="235" y="14"/>
                  </a:lnTo>
                  <a:lnTo>
                    <a:pt x="242" y="14"/>
                  </a:lnTo>
                  <a:lnTo>
                    <a:pt x="249" y="7"/>
                  </a:lnTo>
                  <a:lnTo>
                    <a:pt x="256" y="7"/>
                  </a:lnTo>
                  <a:lnTo>
                    <a:pt x="263" y="7"/>
                  </a:lnTo>
                  <a:lnTo>
                    <a:pt x="270" y="7"/>
                  </a:lnTo>
                  <a:lnTo>
                    <a:pt x="277" y="7"/>
                  </a:lnTo>
                  <a:lnTo>
                    <a:pt x="284" y="7"/>
                  </a:lnTo>
                  <a:lnTo>
                    <a:pt x="291" y="7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1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53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4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5" y="0"/>
                  </a:lnTo>
                  <a:lnTo>
                    <a:pt x="401" y="0"/>
                  </a:lnTo>
                  <a:lnTo>
                    <a:pt x="408" y="0"/>
                  </a:lnTo>
                  <a:lnTo>
                    <a:pt x="415" y="0"/>
                  </a:lnTo>
                  <a:lnTo>
                    <a:pt x="422" y="7"/>
                  </a:lnTo>
                  <a:lnTo>
                    <a:pt x="429" y="7"/>
                  </a:lnTo>
                  <a:lnTo>
                    <a:pt x="436" y="7"/>
                  </a:lnTo>
                  <a:lnTo>
                    <a:pt x="443" y="7"/>
                  </a:lnTo>
                  <a:lnTo>
                    <a:pt x="450" y="7"/>
                  </a:lnTo>
                  <a:lnTo>
                    <a:pt x="457" y="7"/>
                  </a:lnTo>
                  <a:lnTo>
                    <a:pt x="464" y="14"/>
                  </a:lnTo>
                  <a:lnTo>
                    <a:pt x="471" y="14"/>
                  </a:lnTo>
                  <a:lnTo>
                    <a:pt x="478" y="14"/>
                  </a:lnTo>
                  <a:lnTo>
                    <a:pt x="485" y="14"/>
                  </a:lnTo>
                  <a:lnTo>
                    <a:pt x="492" y="14"/>
                  </a:lnTo>
                  <a:lnTo>
                    <a:pt x="498" y="21"/>
                  </a:lnTo>
                  <a:lnTo>
                    <a:pt x="505" y="21"/>
                  </a:lnTo>
                  <a:lnTo>
                    <a:pt x="512" y="21"/>
                  </a:lnTo>
                  <a:lnTo>
                    <a:pt x="519" y="21"/>
                  </a:lnTo>
                  <a:lnTo>
                    <a:pt x="526" y="21"/>
                  </a:lnTo>
                  <a:lnTo>
                    <a:pt x="533" y="28"/>
                  </a:lnTo>
                  <a:lnTo>
                    <a:pt x="540" y="28"/>
                  </a:lnTo>
                  <a:lnTo>
                    <a:pt x="547" y="28"/>
                  </a:lnTo>
                  <a:lnTo>
                    <a:pt x="554" y="28"/>
                  </a:lnTo>
                  <a:lnTo>
                    <a:pt x="561" y="35"/>
                  </a:lnTo>
                  <a:lnTo>
                    <a:pt x="568" y="35"/>
                  </a:lnTo>
                  <a:lnTo>
                    <a:pt x="575" y="35"/>
                  </a:lnTo>
                  <a:lnTo>
                    <a:pt x="582" y="35"/>
                  </a:lnTo>
                  <a:lnTo>
                    <a:pt x="589" y="35"/>
                  </a:lnTo>
                  <a:lnTo>
                    <a:pt x="595" y="35"/>
                  </a:lnTo>
                  <a:lnTo>
                    <a:pt x="602" y="35"/>
                  </a:lnTo>
                  <a:lnTo>
                    <a:pt x="609" y="42"/>
                  </a:lnTo>
                  <a:lnTo>
                    <a:pt x="616" y="42"/>
                  </a:lnTo>
                  <a:lnTo>
                    <a:pt x="623" y="42"/>
                  </a:lnTo>
                  <a:lnTo>
                    <a:pt x="630" y="42"/>
                  </a:lnTo>
                  <a:lnTo>
                    <a:pt x="637" y="42"/>
                  </a:lnTo>
                  <a:lnTo>
                    <a:pt x="644" y="42"/>
                  </a:lnTo>
                  <a:lnTo>
                    <a:pt x="651" y="42"/>
                  </a:lnTo>
                  <a:lnTo>
                    <a:pt x="658" y="42"/>
                  </a:lnTo>
                  <a:lnTo>
                    <a:pt x="665" y="35"/>
                  </a:lnTo>
                  <a:lnTo>
                    <a:pt x="672" y="35"/>
                  </a:lnTo>
                  <a:lnTo>
                    <a:pt x="679" y="35"/>
                  </a:lnTo>
                  <a:lnTo>
                    <a:pt x="685" y="35"/>
                  </a:lnTo>
                  <a:lnTo>
                    <a:pt x="692" y="35"/>
                  </a:lnTo>
                  <a:lnTo>
                    <a:pt x="699" y="35"/>
                  </a:lnTo>
                  <a:lnTo>
                    <a:pt x="706" y="28"/>
                  </a:lnTo>
                  <a:lnTo>
                    <a:pt x="713" y="28"/>
                  </a:lnTo>
                  <a:lnTo>
                    <a:pt x="720" y="28"/>
                  </a:lnTo>
                  <a:lnTo>
                    <a:pt x="727" y="21"/>
                  </a:lnTo>
                  <a:lnTo>
                    <a:pt x="734" y="21"/>
                  </a:lnTo>
                  <a:lnTo>
                    <a:pt x="741" y="21"/>
                  </a:lnTo>
                  <a:lnTo>
                    <a:pt x="748" y="14"/>
                  </a:lnTo>
                  <a:lnTo>
                    <a:pt x="755" y="14"/>
                  </a:lnTo>
                  <a:lnTo>
                    <a:pt x="762" y="14"/>
                  </a:lnTo>
                  <a:lnTo>
                    <a:pt x="769" y="7"/>
                  </a:lnTo>
                  <a:lnTo>
                    <a:pt x="776" y="7"/>
                  </a:lnTo>
                  <a:lnTo>
                    <a:pt x="782" y="7"/>
                  </a:lnTo>
                  <a:lnTo>
                    <a:pt x="789" y="0"/>
                  </a:lnTo>
                  <a:lnTo>
                    <a:pt x="796" y="0"/>
                  </a:lnTo>
                  <a:lnTo>
                    <a:pt x="803" y="0"/>
                  </a:lnTo>
                  <a:lnTo>
                    <a:pt x="810" y="0"/>
                  </a:lnTo>
                  <a:lnTo>
                    <a:pt x="817" y="0"/>
                  </a:lnTo>
                  <a:lnTo>
                    <a:pt x="824" y="0"/>
                  </a:lnTo>
                  <a:lnTo>
                    <a:pt x="831" y="0"/>
                  </a:lnTo>
                  <a:lnTo>
                    <a:pt x="838" y="7"/>
                  </a:lnTo>
                  <a:lnTo>
                    <a:pt x="845" y="7"/>
                  </a:lnTo>
                  <a:lnTo>
                    <a:pt x="852" y="14"/>
                  </a:lnTo>
                  <a:lnTo>
                    <a:pt x="859" y="14"/>
                  </a:lnTo>
                  <a:lnTo>
                    <a:pt x="866" y="21"/>
                  </a:lnTo>
                  <a:lnTo>
                    <a:pt x="873" y="21"/>
                  </a:lnTo>
                  <a:lnTo>
                    <a:pt x="879" y="28"/>
                  </a:lnTo>
                  <a:lnTo>
                    <a:pt x="886" y="35"/>
                  </a:lnTo>
                  <a:lnTo>
                    <a:pt x="893" y="35"/>
                  </a:lnTo>
                  <a:lnTo>
                    <a:pt x="900" y="42"/>
                  </a:lnTo>
                  <a:lnTo>
                    <a:pt x="907" y="42"/>
                  </a:lnTo>
                  <a:lnTo>
                    <a:pt x="914" y="42"/>
                  </a:lnTo>
                  <a:lnTo>
                    <a:pt x="921" y="35"/>
                  </a:lnTo>
                  <a:lnTo>
                    <a:pt x="928" y="28"/>
                  </a:lnTo>
                  <a:lnTo>
                    <a:pt x="935" y="21"/>
                  </a:lnTo>
                  <a:lnTo>
                    <a:pt x="942" y="14"/>
                  </a:lnTo>
                  <a:lnTo>
                    <a:pt x="949" y="7"/>
                  </a:lnTo>
                  <a:lnTo>
                    <a:pt x="956" y="0"/>
                  </a:lnTo>
                  <a:lnTo>
                    <a:pt x="963" y="0"/>
                  </a:lnTo>
                  <a:lnTo>
                    <a:pt x="969" y="14"/>
                  </a:lnTo>
                  <a:lnTo>
                    <a:pt x="976" y="28"/>
                  </a:lnTo>
                  <a:lnTo>
                    <a:pt x="983" y="42"/>
                  </a:lnTo>
                  <a:lnTo>
                    <a:pt x="990" y="14"/>
                  </a:lnTo>
                  <a:lnTo>
                    <a:pt x="997" y="77"/>
                  </a:lnTo>
                  <a:lnTo>
                    <a:pt x="1004" y="492"/>
                  </a:lnTo>
                  <a:lnTo>
                    <a:pt x="1011" y="962"/>
                  </a:lnTo>
                  <a:lnTo>
                    <a:pt x="1025" y="1620"/>
                  </a:lnTo>
                  <a:lnTo>
                    <a:pt x="1032" y="1703"/>
                  </a:lnTo>
                  <a:lnTo>
                    <a:pt x="1039" y="1571"/>
                  </a:lnTo>
                  <a:lnTo>
                    <a:pt x="1046" y="1626"/>
                  </a:lnTo>
                  <a:lnTo>
                    <a:pt x="1053" y="1772"/>
                  </a:lnTo>
                  <a:lnTo>
                    <a:pt x="1060" y="2062"/>
                  </a:lnTo>
                  <a:lnTo>
                    <a:pt x="1065" y="2359"/>
                  </a:lnTo>
                  <a:lnTo>
                    <a:pt x="1073" y="1972"/>
                  </a:lnTo>
                  <a:lnTo>
                    <a:pt x="1080" y="1799"/>
                  </a:lnTo>
                  <a:lnTo>
                    <a:pt x="1087" y="1703"/>
                  </a:lnTo>
                  <a:lnTo>
                    <a:pt x="1094" y="1647"/>
                  </a:lnTo>
                  <a:lnTo>
                    <a:pt x="1101" y="1613"/>
                  </a:lnTo>
                  <a:lnTo>
                    <a:pt x="1108" y="1592"/>
                  </a:lnTo>
                  <a:lnTo>
                    <a:pt x="1115" y="1578"/>
                  </a:lnTo>
                  <a:lnTo>
                    <a:pt x="1122" y="1571"/>
                  </a:lnTo>
                  <a:lnTo>
                    <a:pt x="1129" y="1578"/>
                  </a:lnTo>
                  <a:lnTo>
                    <a:pt x="1136" y="1578"/>
                  </a:lnTo>
                  <a:lnTo>
                    <a:pt x="1143" y="1592"/>
                  </a:lnTo>
                  <a:lnTo>
                    <a:pt x="1150" y="1606"/>
                  </a:lnTo>
                  <a:lnTo>
                    <a:pt x="1157" y="1626"/>
                  </a:lnTo>
                  <a:lnTo>
                    <a:pt x="1163" y="1647"/>
                  </a:lnTo>
                  <a:lnTo>
                    <a:pt x="1170" y="1668"/>
                  </a:lnTo>
                  <a:lnTo>
                    <a:pt x="1177" y="1696"/>
                  </a:lnTo>
                  <a:lnTo>
                    <a:pt x="1184" y="1730"/>
                  </a:lnTo>
                  <a:lnTo>
                    <a:pt x="1191" y="1765"/>
                  </a:lnTo>
                  <a:lnTo>
                    <a:pt x="1198" y="1799"/>
                  </a:lnTo>
                  <a:lnTo>
                    <a:pt x="1205" y="1848"/>
                  </a:lnTo>
                  <a:lnTo>
                    <a:pt x="1212" y="1896"/>
                  </a:lnTo>
                  <a:lnTo>
                    <a:pt x="1219" y="1959"/>
                  </a:lnTo>
                  <a:lnTo>
                    <a:pt x="1226" y="2028"/>
                  </a:lnTo>
                  <a:lnTo>
                    <a:pt x="1233" y="2118"/>
                  </a:lnTo>
                  <a:lnTo>
                    <a:pt x="1240" y="2235"/>
                  </a:lnTo>
                  <a:lnTo>
                    <a:pt x="1245" y="2358"/>
                  </a:lnTo>
                  <a:lnTo>
                    <a:pt x="1245" y="2357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199040" y="5076720"/>
              <a:ext cx="2262240" cy="1251000"/>
            </a:xfrm>
            <a:custGeom>
              <a:avLst/>
              <a:gdLst/>
              <a:ahLst/>
              <a:rect l="l" t="t" r="r" b="b"/>
              <a:pathLst>
                <a:path w="1425" h="788">
                  <a:moveTo>
                    <a:pt x="0" y="787"/>
                  </a:moveTo>
                  <a:lnTo>
                    <a:pt x="0" y="787"/>
                  </a:lnTo>
                  <a:lnTo>
                    <a:pt x="4" y="713"/>
                  </a:lnTo>
                  <a:lnTo>
                    <a:pt x="11" y="602"/>
                  </a:lnTo>
                  <a:lnTo>
                    <a:pt x="18" y="519"/>
                  </a:lnTo>
                  <a:lnTo>
                    <a:pt x="25" y="457"/>
                  </a:lnTo>
                  <a:lnTo>
                    <a:pt x="32" y="401"/>
                  </a:lnTo>
                  <a:lnTo>
                    <a:pt x="39" y="360"/>
                  </a:lnTo>
                  <a:lnTo>
                    <a:pt x="46" y="325"/>
                  </a:lnTo>
                  <a:lnTo>
                    <a:pt x="53" y="291"/>
                  </a:lnTo>
                  <a:lnTo>
                    <a:pt x="60" y="263"/>
                  </a:lnTo>
                  <a:lnTo>
                    <a:pt x="67" y="242"/>
                  </a:lnTo>
                  <a:lnTo>
                    <a:pt x="74" y="215"/>
                  </a:lnTo>
                  <a:lnTo>
                    <a:pt x="80" y="201"/>
                  </a:lnTo>
                  <a:lnTo>
                    <a:pt x="87" y="180"/>
                  </a:lnTo>
                  <a:lnTo>
                    <a:pt x="94" y="166"/>
                  </a:lnTo>
                  <a:lnTo>
                    <a:pt x="101" y="152"/>
                  </a:lnTo>
                  <a:lnTo>
                    <a:pt x="108" y="138"/>
                  </a:lnTo>
                  <a:lnTo>
                    <a:pt x="115" y="125"/>
                  </a:lnTo>
                  <a:lnTo>
                    <a:pt x="122" y="111"/>
                  </a:lnTo>
                  <a:lnTo>
                    <a:pt x="129" y="104"/>
                  </a:lnTo>
                  <a:lnTo>
                    <a:pt x="136" y="90"/>
                  </a:lnTo>
                  <a:lnTo>
                    <a:pt x="143" y="83"/>
                  </a:lnTo>
                  <a:lnTo>
                    <a:pt x="150" y="76"/>
                  </a:lnTo>
                  <a:lnTo>
                    <a:pt x="157" y="69"/>
                  </a:lnTo>
                  <a:lnTo>
                    <a:pt x="164" y="62"/>
                  </a:lnTo>
                  <a:lnTo>
                    <a:pt x="171" y="55"/>
                  </a:lnTo>
                  <a:lnTo>
                    <a:pt x="177" y="49"/>
                  </a:lnTo>
                  <a:lnTo>
                    <a:pt x="184" y="49"/>
                  </a:lnTo>
                  <a:lnTo>
                    <a:pt x="191" y="42"/>
                  </a:lnTo>
                  <a:lnTo>
                    <a:pt x="198" y="35"/>
                  </a:lnTo>
                  <a:lnTo>
                    <a:pt x="205" y="35"/>
                  </a:lnTo>
                  <a:lnTo>
                    <a:pt x="212" y="28"/>
                  </a:lnTo>
                  <a:lnTo>
                    <a:pt x="219" y="28"/>
                  </a:lnTo>
                  <a:lnTo>
                    <a:pt x="226" y="21"/>
                  </a:lnTo>
                  <a:lnTo>
                    <a:pt x="233" y="21"/>
                  </a:lnTo>
                  <a:lnTo>
                    <a:pt x="240" y="14"/>
                  </a:lnTo>
                  <a:lnTo>
                    <a:pt x="247" y="14"/>
                  </a:lnTo>
                  <a:lnTo>
                    <a:pt x="254" y="14"/>
                  </a:lnTo>
                  <a:lnTo>
                    <a:pt x="261" y="14"/>
                  </a:lnTo>
                  <a:lnTo>
                    <a:pt x="267" y="7"/>
                  </a:lnTo>
                  <a:lnTo>
                    <a:pt x="274" y="7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2" y="7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7" y="0"/>
                  </a:lnTo>
                  <a:lnTo>
                    <a:pt x="344" y="0"/>
                  </a:lnTo>
                  <a:lnTo>
                    <a:pt x="351" y="0"/>
                  </a:lnTo>
                  <a:lnTo>
                    <a:pt x="358" y="0"/>
                  </a:lnTo>
                  <a:lnTo>
                    <a:pt x="364" y="7"/>
                  </a:lnTo>
                  <a:lnTo>
                    <a:pt x="371" y="7"/>
                  </a:lnTo>
                  <a:lnTo>
                    <a:pt x="378" y="7"/>
                  </a:lnTo>
                  <a:lnTo>
                    <a:pt x="385" y="7"/>
                  </a:lnTo>
                  <a:lnTo>
                    <a:pt x="392" y="7"/>
                  </a:lnTo>
                  <a:lnTo>
                    <a:pt x="399" y="7"/>
                  </a:lnTo>
                  <a:lnTo>
                    <a:pt x="406" y="7"/>
                  </a:lnTo>
                  <a:lnTo>
                    <a:pt x="413" y="7"/>
                  </a:lnTo>
                  <a:lnTo>
                    <a:pt x="427" y="14"/>
                  </a:lnTo>
                  <a:lnTo>
                    <a:pt x="434" y="14"/>
                  </a:lnTo>
                  <a:lnTo>
                    <a:pt x="441" y="14"/>
                  </a:lnTo>
                  <a:lnTo>
                    <a:pt x="448" y="14"/>
                  </a:lnTo>
                  <a:lnTo>
                    <a:pt x="454" y="14"/>
                  </a:lnTo>
                  <a:lnTo>
                    <a:pt x="461" y="21"/>
                  </a:lnTo>
                  <a:lnTo>
                    <a:pt x="468" y="21"/>
                  </a:lnTo>
                  <a:lnTo>
                    <a:pt x="475" y="21"/>
                  </a:lnTo>
                  <a:lnTo>
                    <a:pt x="482" y="21"/>
                  </a:lnTo>
                  <a:lnTo>
                    <a:pt x="489" y="28"/>
                  </a:lnTo>
                  <a:lnTo>
                    <a:pt x="496" y="28"/>
                  </a:lnTo>
                  <a:lnTo>
                    <a:pt x="503" y="28"/>
                  </a:lnTo>
                  <a:lnTo>
                    <a:pt x="510" y="28"/>
                  </a:lnTo>
                  <a:lnTo>
                    <a:pt x="517" y="35"/>
                  </a:lnTo>
                  <a:lnTo>
                    <a:pt x="524" y="35"/>
                  </a:lnTo>
                  <a:lnTo>
                    <a:pt x="531" y="35"/>
                  </a:lnTo>
                  <a:lnTo>
                    <a:pt x="538" y="42"/>
                  </a:lnTo>
                  <a:lnTo>
                    <a:pt x="545" y="42"/>
                  </a:lnTo>
                  <a:lnTo>
                    <a:pt x="551" y="42"/>
                  </a:lnTo>
                  <a:lnTo>
                    <a:pt x="558" y="49"/>
                  </a:lnTo>
                  <a:lnTo>
                    <a:pt x="565" y="49"/>
                  </a:lnTo>
                  <a:lnTo>
                    <a:pt x="572" y="49"/>
                  </a:lnTo>
                  <a:lnTo>
                    <a:pt x="579" y="55"/>
                  </a:lnTo>
                  <a:lnTo>
                    <a:pt x="586" y="55"/>
                  </a:lnTo>
                  <a:lnTo>
                    <a:pt x="593" y="62"/>
                  </a:lnTo>
                  <a:lnTo>
                    <a:pt x="600" y="62"/>
                  </a:lnTo>
                  <a:lnTo>
                    <a:pt x="607" y="62"/>
                  </a:lnTo>
                  <a:lnTo>
                    <a:pt x="614" y="69"/>
                  </a:lnTo>
                  <a:lnTo>
                    <a:pt x="621" y="69"/>
                  </a:lnTo>
                  <a:lnTo>
                    <a:pt x="628" y="69"/>
                  </a:lnTo>
                  <a:lnTo>
                    <a:pt x="635" y="76"/>
                  </a:lnTo>
                  <a:lnTo>
                    <a:pt x="642" y="76"/>
                  </a:lnTo>
                  <a:lnTo>
                    <a:pt x="648" y="83"/>
                  </a:lnTo>
                  <a:lnTo>
                    <a:pt x="655" y="83"/>
                  </a:lnTo>
                  <a:lnTo>
                    <a:pt x="662" y="90"/>
                  </a:lnTo>
                  <a:lnTo>
                    <a:pt x="669" y="90"/>
                  </a:lnTo>
                  <a:lnTo>
                    <a:pt x="676" y="97"/>
                  </a:lnTo>
                  <a:lnTo>
                    <a:pt x="683" y="97"/>
                  </a:lnTo>
                  <a:lnTo>
                    <a:pt x="690" y="97"/>
                  </a:lnTo>
                  <a:lnTo>
                    <a:pt x="697" y="104"/>
                  </a:lnTo>
                  <a:lnTo>
                    <a:pt x="704" y="104"/>
                  </a:lnTo>
                  <a:lnTo>
                    <a:pt x="711" y="111"/>
                  </a:lnTo>
                  <a:lnTo>
                    <a:pt x="718" y="111"/>
                  </a:lnTo>
                  <a:lnTo>
                    <a:pt x="725" y="118"/>
                  </a:lnTo>
                  <a:lnTo>
                    <a:pt x="732" y="118"/>
                  </a:lnTo>
                  <a:lnTo>
                    <a:pt x="738" y="125"/>
                  </a:lnTo>
                  <a:lnTo>
                    <a:pt x="745" y="125"/>
                  </a:lnTo>
                  <a:lnTo>
                    <a:pt x="752" y="132"/>
                  </a:lnTo>
                  <a:lnTo>
                    <a:pt x="759" y="132"/>
                  </a:lnTo>
                  <a:lnTo>
                    <a:pt x="766" y="138"/>
                  </a:lnTo>
                  <a:lnTo>
                    <a:pt x="773" y="138"/>
                  </a:lnTo>
                  <a:lnTo>
                    <a:pt x="780" y="145"/>
                  </a:lnTo>
                  <a:lnTo>
                    <a:pt x="787" y="145"/>
                  </a:lnTo>
                  <a:lnTo>
                    <a:pt x="794" y="152"/>
                  </a:lnTo>
                  <a:lnTo>
                    <a:pt x="801" y="152"/>
                  </a:lnTo>
                  <a:lnTo>
                    <a:pt x="808" y="159"/>
                  </a:lnTo>
                  <a:lnTo>
                    <a:pt x="815" y="166"/>
                  </a:lnTo>
                  <a:lnTo>
                    <a:pt x="822" y="166"/>
                  </a:lnTo>
                  <a:lnTo>
                    <a:pt x="829" y="173"/>
                  </a:lnTo>
                  <a:lnTo>
                    <a:pt x="835" y="173"/>
                  </a:lnTo>
                  <a:lnTo>
                    <a:pt x="842" y="180"/>
                  </a:lnTo>
                  <a:lnTo>
                    <a:pt x="849" y="180"/>
                  </a:lnTo>
                  <a:lnTo>
                    <a:pt x="856" y="187"/>
                  </a:lnTo>
                  <a:lnTo>
                    <a:pt x="863" y="194"/>
                  </a:lnTo>
                  <a:lnTo>
                    <a:pt x="870" y="194"/>
                  </a:lnTo>
                  <a:lnTo>
                    <a:pt x="877" y="201"/>
                  </a:lnTo>
                  <a:lnTo>
                    <a:pt x="884" y="201"/>
                  </a:lnTo>
                  <a:lnTo>
                    <a:pt x="891" y="208"/>
                  </a:lnTo>
                  <a:lnTo>
                    <a:pt x="898" y="215"/>
                  </a:lnTo>
                  <a:lnTo>
                    <a:pt x="905" y="215"/>
                  </a:lnTo>
                  <a:lnTo>
                    <a:pt x="912" y="222"/>
                  </a:lnTo>
                  <a:lnTo>
                    <a:pt x="919" y="228"/>
                  </a:lnTo>
                  <a:lnTo>
                    <a:pt x="926" y="228"/>
                  </a:lnTo>
                  <a:lnTo>
                    <a:pt x="932" y="235"/>
                  </a:lnTo>
                  <a:lnTo>
                    <a:pt x="939" y="242"/>
                  </a:lnTo>
                  <a:lnTo>
                    <a:pt x="946" y="242"/>
                  </a:lnTo>
                  <a:lnTo>
                    <a:pt x="953" y="249"/>
                  </a:lnTo>
                  <a:lnTo>
                    <a:pt x="960" y="256"/>
                  </a:lnTo>
                  <a:lnTo>
                    <a:pt x="967" y="256"/>
                  </a:lnTo>
                  <a:lnTo>
                    <a:pt x="974" y="263"/>
                  </a:lnTo>
                  <a:lnTo>
                    <a:pt x="981" y="270"/>
                  </a:lnTo>
                  <a:lnTo>
                    <a:pt x="988" y="270"/>
                  </a:lnTo>
                  <a:lnTo>
                    <a:pt x="995" y="277"/>
                  </a:lnTo>
                  <a:lnTo>
                    <a:pt x="1002" y="284"/>
                  </a:lnTo>
                  <a:lnTo>
                    <a:pt x="1009" y="291"/>
                  </a:lnTo>
                  <a:lnTo>
                    <a:pt x="1016" y="291"/>
                  </a:lnTo>
                  <a:lnTo>
                    <a:pt x="1022" y="298"/>
                  </a:lnTo>
                  <a:lnTo>
                    <a:pt x="1029" y="305"/>
                  </a:lnTo>
                  <a:lnTo>
                    <a:pt x="1036" y="311"/>
                  </a:lnTo>
                  <a:lnTo>
                    <a:pt x="1043" y="311"/>
                  </a:lnTo>
                  <a:lnTo>
                    <a:pt x="1050" y="318"/>
                  </a:lnTo>
                  <a:lnTo>
                    <a:pt x="1057" y="325"/>
                  </a:lnTo>
                  <a:lnTo>
                    <a:pt x="1064" y="332"/>
                  </a:lnTo>
                  <a:lnTo>
                    <a:pt x="1071" y="332"/>
                  </a:lnTo>
                  <a:lnTo>
                    <a:pt x="1078" y="339"/>
                  </a:lnTo>
                  <a:lnTo>
                    <a:pt x="1085" y="346"/>
                  </a:lnTo>
                  <a:lnTo>
                    <a:pt x="1092" y="353"/>
                  </a:lnTo>
                  <a:lnTo>
                    <a:pt x="1106" y="360"/>
                  </a:lnTo>
                  <a:lnTo>
                    <a:pt x="1113" y="367"/>
                  </a:lnTo>
                  <a:lnTo>
                    <a:pt x="1119" y="374"/>
                  </a:lnTo>
                  <a:lnTo>
                    <a:pt x="1126" y="374"/>
                  </a:lnTo>
                  <a:lnTo>
                    <a:pt x="1133" y="381"/>
                  </a:lnTo>
                  <a:lnTo>
                    <a:pt x="1140" y="388"/>
                  </a:lnTo>
                  <a:lnTo>
                    <a:pt x="1147" y="395"/>
                  </a:lnTo>
                  <a:lnTo>
                    <a:pt x="1154" y="401"/>
                  </a:lnTo>
                  <a:lnTo>
                    <a:pt x="1161" y="408"/>
                  </a:lnTo>
                  <a:lnTo>
                    <a:pt x="1168" y="415"/>
                  </a:lnTo>
                  <a:lnTo>
                    <a:pt x="1175" y="422"/>
                  </a:lnTo>
                  <a:lnTo>
                    <a:pt x="1182" y="429"/>
                  </a:lnTo>
                  <a:lnTo>
                    <a:pt x="1189" y="436"/>
                  </a:lnTo>
                  <a:lnTo>
                    <a:pt x="1196" y="443"/>
                  </a:lnTo>
                  <a:lnTo>
                    <a:pt x="1203" y="450"/>
                  </a:lnTo>
                  <a:lnTo>
                    <a:pt x="1210" y="457"/>
                  </a:lnTo>
                  <a:lnTo>
                    <a:pt x="1216" y="464"/>
                  </a:lnTo>
                  <a:lnTo>
                    <a:pt x="1223" y="471"/>
                  </a:lnTo>
                  <a:lnTo>
                    <a:pt x="1230" y="478"/>
                  </a:lnTo>
                  <a:lnTo>
                    <a:pt x="1237" y="484"/>
                  </a:lnTo>
                  <a:lnTo>
                    <a:pt x="1244" y="498"/>
                  </a:lnTo>
                  <a:lnTo>
                    <a:pt x="1251" y="505"/>
                  </a:lnTo>
                  <a:lnTo>
                    <a:pt x="1258" y="512"/>
                  </a:lnTo>
                  <a:lnTo>
                    <a:pt x="1265" y="519"/>
                  </a:lnTo>
                  <a:lnTo>
                    <a:pt x="1272" y="526"/>
                  </a:lnTo>
                  <a:lnTo>
                    <a:pt x="1279" y="540"/>
                  </a:lnTo>
                  <a:lnTo>
                    <a:pt x="1286" y="547"/>
                  </a:lnTo>
                  <a:lnTo>
                    <a:pt x="1293" y="554"/>
                  </a:lnTo>
                  <a:lnTo>
                    <a:pt x="1300" y="561"/>
                  </a:lnTo>
                  <a:lnTo>
                    <a:pt x="1306" y="574"/>
                  </a:lnTo>
                  <a:lnTo>
                    <a:pt x="1313" y="581"/>
                  </a:lnTo>
                  <a:lnTo>
                    <a:pt x="1320" y="595"/>
                  </a:lnTo>
                  <a:lnTo>
                    <a:pt x="1327" y="602"/>
                  </a:lnTo>
                  <a:lnTo>
                    <a:pt x="1334" y="616"/>
                  </a:lnTo>
                  <a:lnTo>
                    <a:pt x="1341" y="623"/>
                  </a:lnTo>
                  <a:lnTo>
                    <a:pt x="1348" y="637"/>
                  </a:lnTo>
                  <a:lnTo>
                    <a:pt x="1355" y="644"/>
                  </a:lnTo>
                  <a:lnTo>
                    <a:pt x="1362" y="657"/>
                  </a:lnTo>
                  <a:lnTo>
                    <a:pt x="1369" y="671"/>
                  </a:lnTo>
                  <a:lnTo>
                    <a:pt x="1376" y="685"/>
                  </a:lnTo>
                  <a:lnTo>
                    <a:pt x="1383" y="692"/>
                  </a:lnTo>
                  <a:lnTo>
                    <a:pt x="1390" y="706"/>
                  </a:lnTo>
                  <a:lnTo>
                    <a:pt x="1397" y="720"/>
                  </a:lnTo>
                  <a:lnTo>
                    <a:pt x="1403" y="734"/>
                  </a:lnTo>
                  <a:lnTo>
                    <a:pt x="1410" y="747"/>
                  </a:lnTo>
                  <a:lnTo>
                    <a:pt x="1417" y="761"/>
                  </a:lnTo>
                  <a:lnTo>
                    <a:pt x="1424" y="782"/>
                  </a:lnTo>
                  <a:lnTo>
                    <a:pt x="1424" y="786"/>
                  </a:lnTo>
                  <a:lnTo>
                    <a:pt x="1424" y="787"/>
                  </a:lnTo>
                  <a:lnTo>
                    <a:pt x="1422" y="786"/>
                  </a:lnTo>
                  <a:lnTo>
                    <a:pt x="1423" y="786"/>
                  </a:lnTo>
                  <a:lnTo>
                    <a:pt x="1422" y="784"/>
                  </a:lnTo>
                  <a:lnTo>
                    <a:pt x="1423" y="785"/>
                  </a:lnTo>
                  <a:lnTo>
                    <a:pt x="1422" y="784"/>
                  </a:lnTo>
                  <a:lnTo>
                    <a:pt x="1423" y="785"/>
                  </a:lnTo>
                  <a:lnTo>
                    <a:pt x="1422" y="784"/>
                  </a:lnTo>
                  <a:lnTo>
                    <a:pt x="1423" y="782"/>
                  </a:lnTo>
                  <a:lnTo>
                    <a:pt x="1424" y="784"/>
                  </a:lnTo>
                  <a:lnTo>
                    <a:pt x="1422" y="786"/>
                  </a:lnTo>
                  <a:lnTo>
                    <a:pt x="1423" y="786"/>
                  </a:lnTo>
                  <a:lnTo>
                    <a:pt x="1424" y="787"/>
                  </a:lnTo>
                  <a:lnTo>
                    <a:pt x="1421" y="786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390760" y="3892680"/>
              <a:ext cx="938160" cy="458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=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3332160" y="4078080"/>
              <a:ext cx="396720" cy="90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843120" y="2249640"/>
            <a:ext cx="6786360" cy="4544280"/>
            <a:chOff x="843120" y="2249640"/>
            <a:chExt cx="6786360" cy="4544280"/>
          </a:xfrm>
        </p:grpSpPr>
        <p:sp>
          <p:nvSpPr>
            <p:cNvPr id="3027" name=""/>
            <p:cNvSpPr/>
            <p:nvPr/>
          </p:nvSpPr>
          <p:spPr>
            <a:xfrm flipV="1">
              <a:off x="2182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2973240" y="2581200"/>
              <a:ext cx="0" cy="1262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376560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456876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5361120" y="3204720"/>
              <a:ext cx="0" cy="31244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6151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6943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182680" y="632952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182680" y="570384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182680" y="507672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82680" y="446256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182680" y="383544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182680" y="320976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182680" y="258300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182680" y="2583000"/>
              <a:ext cx="4762800" cy="3747960"/>
            </a:xfrm>
            <a:custGeom>
              <a:avLst/>
              <a:gdLst/>
              <a:ahLst/>
              <a:rect l="l" t="t" r="r" b="b"/>
              <a:pathLst>
                <a:path w="3000" h="2361">
                  <a:moveTo>
                    <a:pt x="0" y="2360"/>
                  </a:moveTo>
                  <a:lnTo>
                    <a:pt x="0" y="0"/>
                  </a:lnTo>
                  <a:lnTo>
                    <a:pt x="299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182680" y="2583000"/>
              <a:ext cx="4762800" cy="3747960"/>
            </a:xfrm>
            <a:custGeom>
              <a:avLst/>
              <a:gdLst/>
              <a:ahLst/>
              <a:rect l="l" t="t" r="r" b="b"/>
              <a:pathLst>
                <a:path w="3000" h="2361">
                  <a:moveTo>
                    <a:pt x="0" y="2360"/>
                  </a:moveTo>
                  <a:lnTo>
                    <a:pt x="0" y="0"/>
                  </a:lnTo>
                  <a:lnTo>
                    <a:pt x="299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182680" y="2583000"/>
              <a:ext cx="4762800" cy="3747960"/>
            </a:xfrm>
            <a:custGeom>
              <a:avLst/>
              <a:gdLst/>
              <a:ahLst/>
              <a:rect l="l" t="t" r="r" b="b"/>
              <a:pathLst>
                <a:path w="3000" h="2361">
                  <a:moveTo>
                    <a:pt x="0" y="2360"/>
                  </a:moveTo>
                  <a:lnTo>
                    <a:pt x="0" y="0"/>
                  </a:lnTo>
                  <a:lnTo>
                    <a:pt x="2999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82680" y="632952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82680" y="258300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2182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6943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82680" y="25830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943680" y="6329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182680" y="632952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2182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82680" y="6329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218268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8268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297324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97324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376560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76560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456876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56876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536112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36112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615168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5168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694368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943680" y="2583000"/>
              <a:ext cx="0" cy="4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2021760" y="6324480"/>
              <a:ext cx="5087880" cy="397440"/>
              <a:chOff x="2021760" y="6324480"/>
              <a:chExt cx="5087880" cy="397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202176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271368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60612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30920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19984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91760" y="632448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2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782760" y="63244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5" name=""/>
            <p:cNvSpPr/>
            <p:nvPr/>
          </p:nvSpPr>
          <p:spPr>
            <a:xfrm>
              <a:off x="2182680" y="63295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H="1">
              <a:off x="6899040" y="63295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182680" y="57038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6899040" y="57038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182680" y="50767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6899040" y="507672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182680" y="44625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6899040" y="44625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182680" y="38354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H="1">
              <a:off x="6899040" y="383544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182680" y="32097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6899040" y="320976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82680" y="258300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6899040" y="2583000"/>
              <a:ext cx="44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9" name=""/>
            <p:cNvGrpSpPr/>
            <p:nvPr/>
          </p:nvGrpSpPr>
          <p:grpSpPr>
            <a:xfrm>
              <a:off x="1660680" y="2381400"/>
              <a:ext cx="553680" cy="4143960"/>
              <a:chOff x="1660680" y="2381400"/>
              <a:chExt cx="553680" cy="4143960"/>
            </a:xfrm>
          </p:grpSpPr>
          <p:sp>
            <p:nvSpPr>
              <p:cNvPr id="3090" name=""/>
              <p:cNvSpPr/>
              <p:nvPr/>
            </p:nvSpPr>
            <p:spPr>
              <a:xfrm>
                <a:off x="1660680" y="61279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6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1660680" y="550080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5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1660680" y="487512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4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1660680" y="42609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1660680" y="363384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660680" y="3008160"/>
                <a:ext cx="55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859760" y="2381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7" name=""/>
            <p:cNvSpPr/>
            <p:nvPr/>
          </p:nvSpPr>
          <p:spPr>
            <a:xfrm>
              <a:off x="2182680" y="6329520"/>
              <a:ext cx="54468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82680" y="2583000"/>
              <a:ext cx="47610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2182680" y="2249640"/>
              <a:ext cx="0" cy="4078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6943680" y="2582640"/>
              <a:ext cx="0" cy="374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82680" y="6329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943680" y="258300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2182680" y="2583000"/>
              <a:ext cx="4751640" cy="3744720"/>
              <a:chOff x="2182680" y="2583000"/>
              <a:chExt cx="4751640" cy="3744720"/>
            </a:xfrm>
          </p:grpSpPr>
          <p:sp>
            <p:nvSpPr>
              <p:cNvPr id="3104" name=""/>
              <p:cNvSpPr/>
              <p:nvPr/>
            </p:nvSpPr>
            <p:spPr>
              <a:xfrm>
                <a:off x="2182680" y="2583000"/>
                <a:ext cx="2530440" cy="3744720"/>
              </a:xfrm>
              <a:custGeom>
                <a:avLst/>
                <a:gdLst/>
                <a:ahLst/>
                <a:rect l="l" t="t" r="r" b="b"/>
                <a:pathLst>
                  <a:path w="1594" h="2359">
                    <a:moveTo>
                      <a:pt x="0" y="42"/>
                    </a:moveTo>
                    <a:lnTo>
                      <a:pt x="7" y="42"/>
                    </a:lnTo>
                    <a:lnTo>
                      <a:pt x="14" y="42"/>
                    </a:lnTo>
                    <a:lnTo>
                      <a:pt x="21" y="42"/>
                    </a:lnTo>
                    <a:lnTo>
                      <a:pt x="27" y="42"/>
                    </a:lnTo>
                    <a:lnTo>
                      <a:pt x="34" y="42"/>
                    </a:lnTo>
                    <a:lnTo>
                      <a:pt x="41" y="42"/>
                    </a:lnTo>
                    <a:lnTo>
                      <a:pt x="48" y="42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104" y="35"/>
                    </a:lnTo>
                    <a:lnTo>
                      <a:pt x="111" y="35"/>
                    </a:lnTo>
                    <a:lnTo>
                      <a:pt x="117" y="35"/>
                    </a:lnTo>
                    <a:lnTo>
                      <a:pt x="124" y="35"/>
                    </a:lnTo>
                    <a:lnTo>
                      <a:pt x="131" y="35"/>
                    </a:lnTo>
                    <a:lnTo>
                      <a:pt x="138" y="35"/>
                    </a:lnTo>
                    <a:lnTo>
                      <a:pt x="145" y="28"/>
                    </a:lnTo>
                    <a:lnTo>
                      <a:pt x="152" y="28"/>
                    </a:lnTo>
                    <a:lnTo>
                      <a:pt x="159" y="28"/>
                    </a:lnTo>
                    <a:lnTo>
                      <a:pt x="166" y="28"/>
                    </a:lnTo>
                    <a:lnTo>
                      <a:pt x="173" y="28"/>
                    </a:lnTo>
                    <a:lnTo>
                      <a:pt x="180" y="28"/>
                    </a:lnTo>
                    <a:lnTo>
                      <a:pt x="187" y="28"/>
                    </a:lnTo>
                    <a:lnTo>
                      <a:pt x="194" y="28"/>
                    </a:lnTo>
                    <a:lnTo>
                      <a:pt x="201" y="21"/>
                    </a:lnTo>
                    <a:lnTo>
                      <a:pt x="208" y="21"/>
                    </a:lnTo>
                    <a:lnTo>
                      <a:pt x="214" y="21"/>
                    </a:lnTo>
                    <a:lnTo>
                      <a:pt x="221" y="21"/>
                    </a:lnTo>
                    <a:lnTo>
                      <a:pt x="228" y="21"/>
                    </a:lnTo>
                    <a:lnTo>
                      <a:pt x="235" y="21"/>
                    </a:lnTo>
                    <a:lnTo>
                      <a:pt x="242" y="21"/>
                    </a:lnTo>
                    <a:lnTo>
                      <a:pt x="249" y="14"/>
                    </a:lnTo>
                    <a:lnTo>
                      <a:pt x="256" y="14"/>
                    </a:lnTo>
                    <a:lnTo>
                      <a:pt x="263" y="14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84" y="14"/>
                    </a:lnTo>
                    <a:lnTo>
                      <a:pt x="291" y="14"/>
                    </a:lnTo>
                    <a:lnTo>
                      <a:pt x="298" y="7"/>
                    </a:lnTo>
                    <a:lnTo>
                      <a:pt x="305" y="7"/>
                    </a:lnTo>
                    <a:lnTo>
                      <a:pt x="311" y="7"/>
                    </a:lnTo>
                    <a:lnTo>
                      <a:pt x="318" y="7"/>
                    </a:lnTo>
                    <a:lnTo>
                      <a:pt x="325" y="7"/>
                    </a:lnTo>
                    <a:lnTo>
                      <a:pt x="332" y="7"/>
                    </a:lnTo>
                    <a:lnTo>
                      <a:pt x="346" y="7"/>
                    </a:lnTo>
                    <a:lnTo>
                      <a:pt x="353" y="7"/>
                    </a:lnTo>
                    <a:lnTo>
                      <a:pt x="360" y="7"/>
                    </a:lnTo>
                    <a:lnTo>
                      <a:pt x="367" y="0"/>
                    </a:lnTo>
                    <a:lnTo>
                      <a:pt x="374" y="0"/>
                    </a:lnTo>
                    <a:lnTo>
                      <a:pt x="381" y="0"/>
                    </a:lnTo>
                    <a:lnTo>
                      <a:pt x="388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8" y="0"/>
                    </a:lnTo>
                    <a:lnTo>
                      <a:pt x="415" y="0"/>
                    </a:lnTo>
                    <a:lnTo>
                      <a:pt x="422" y="0"/>
                    </a:lnTo>
                    <a:lnTo>
                      <a:pt x="429" y="0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0" y="0"/>
                    </a:lnTo>
                    <a:lnTo>
                      <a:pt x="457" y="0"/>
                    </a:lnTo>
                    <a:lnTo>
                      <a:pt x="464" y="0"/>
                    </a:lnTo>
                    <a:lnTo>
                      <a:pt x="471" y="0"/>
                    </a:lnTo>
                    <a:lnTo>
                      <a:pt x="478" y="0"/>
                    </a:lnTo>
                    <a:lnTo>
                      <a:pt x="485" y="0"/>
                    </a:lnTo>
                    <a:lnTo>
                      <a:pt x="492" y="0"/>
                    </a:lnTo>
                    <a:lnTo>
                      <a:pt x="498" y="0"/>
                    </a:lnTo>
                    <a:lnTo>
                      <a:pt x="505" y="7"/>
                    </a:lnTo>
                    <a:lnTo>
                      <a:pt x="512" y="7"/>
                    </a:lnTo>
                    <a:lnTo>
                      <a:pt x="519" y="7"/>
                    </a:lnTo>
                    <a:lnTo>
                      <a:pt x="526" y="7"/>
                    </a:lnTo>
                    <a:lnTo>
                      <a:pt x="533" y="7"/>
                    </a:lnTo>
                    <a:lnTo>
                      <a:pt x="540" y="7"/>
                    </a:lnTo>
                    <a:lnTo>
                      <a:pt x="547" y="7"/>
                    </a:lnTo>
                    <a:lnTo>
                      <a:pt x="554" y="14"/>
                    </a:lnTo>
                    <a:lnTo>
                      <a:pt x="561" y="14"/>
                    </a:lnTo>
                    <a:lnTo>
                      <a:pt x="568" y="14"/>
                    </a:lnTo>
                    <a:lnTo>
                      <a:pt x="575" y="14"/>
                    </a:lnTo>
                    <a:lnTo>
                      <a:pt x="582" y="14"/>
                    </a:lnTo>
                    <a:lnTo>
                      <a:pt x="589" y="14"/>
                    </a:lnTo>
                    <a:lnTo>
                      <a:pt x="595" y="21"/>
                    </a:lnTo>
                    <a:lnTo>
                      <a:pt x="602" y="21"/>
                    </a:lnTo>
                    <a:lnTo>
                      <a:pt x="609" y="21"/>
                    </a:lnTo>
                    <a:lnTo>
                      <a:pt x="616" y="21"/>
                    </a:lnTo>
                    <a:lnTo>
                      <a:pt x="623" y="21"/>
                    </a:lnTo>
                    <a:lnTo>
                      <a:pt x="630" y="28"/>
                    </a:lnTo>
                    <a:lnTo>
                      <a:pt x="637" y="28"/>
                    </a:lnTo>
                    <a:lnTo>
                      <a:pt x="644" y="28"/>
                    </a:lnTo>
                    <a:lnTo>
                      <a:pt x="651" y="28"/>
                    </a:lnTo>
                    <a:lnTo>
                      <a:pt x="658" y="28"/>
                    </a:lnTo>
                    <a:lnTo>
                      <a:pt x="665" y="28"/>
                    </a:lnTo>
                    <a:lnTo>
                      <a:pt x="672" y="35"/>
                    </a:lnTo>
                    <a:lnTo>
                      <a:pt x="679" y="35"/>
                    </a:lnTo>
                    <a:lnTo>
                      <a:pt x="685" y="35"/>
                    </a:lnTo>
                    <a:lnTo>
                      <a:pt x="692" y="35"/>
                    </a:lnTo>
                    <a:lnTo>
                      <a:pt x="699" y="35"/>
                    </a:lnTo>
                    <a:lnTo>
                      <a:pt x="706" y="35"/>
                    </a:lnTo>
                    <a:lnTo>
                      <a:pt x="713" y="35"/>
                    </a:lnTo>
                    <a:lnTo>
                      <a:pt x="720" y="35"/>
                    </a:lnTo>
                    <a:lnTo>
                      <a:pt x="727" y="42"/>
                    </a:lnTo>
                    <a:lnTo>
                      <a:pt x="734" y="42"/>
                    </a:lnTo>
                    <a:lnTo>
                      <a:pt x="741" y="42"/>
                    </a:lnTo>
                    <a:lnTo>
                      <a:pt x="748" y="42"/>
                    </a:lnTo>
                    <a:lnTo>
                      <a:pt x="755" y="42"/>
                    </a:lnTo>
                    <a:lnTo>
                      <a:pt x="762" y="42"/>
                    </a:lnTo>
                    <a:lnTo>
                      <a:pt x="769" y="42"/>
                    </a:lnTo>
                    <a:lnTo>
                      <a:pt x="776" y="42"/>
                    </a:lnTo>
                    <a:lnTo>
                      <a:pt x="782" y="42"/>
                    </a:lnTo>
                    <a:lnTo>
                      <a:pt x="789" y="35"/>
                    </a:lnTo>
                    <a:lnTo>
                      <a:pt x="796" y="35"/>
                    </a:lnTo>
                    <a:lnTo>
                      <a:pt x="803" y="35"/>
                    </a:lnTo>
                    <a:lnTo>
                      <a:pt x="810" y="35"/>
                    </a:lnTo>
                    <a:lnTo>
                      <a:pt x="817" y="35"/>
                    </a:lnTo>
                    <a:lnTo>
                      <a:pt x="824" y="35"/>
                    </a:lnTo>
                    <a:lnTo>
                      <a:pt x="831" y="28"/>
                    </a:lnTo>
                    <a:lnTo>
                      <a:pt x="838" y="28"/>
                    </a:lnTo>
                    <a:lnTo>
                      <a:pt x="845" y="28"/>
                    </a:lnTo>
                    <a:lnTo>
                      <a:pt x="852" y="28"/>
                    </a:lnTo>
                    <a:lnTo>
                      <a:pt x="859" y="21"/>
                    </a:lnTo>
                    <a:lnTo>
                      <a:pt x="866" y="21"/>
                    </a:lnTo>
                    <a:lnTo>
                      <a:pt x="873" y="21"/>
                    </a:lnTo>
                    <a:lnTo>
                      <a:pt x="879" y="14"/>
                    </a:lnTo>
                    <a:lnTo>
                      <a:pt x="886" y="14"/>
                    </a:lnTo>
                    <a:lnTo>
                      <a:pt x="893" y="7"/>
                    </a:lnTo>
                    <a:lnTo>
                      <a:pt x="900" y="7"/>
                    </a:lnTo>
                    <a:lnTo>
                      <a:pt x="907" y="7"/>
                    </a:lnTo>
                    <a:lnTo>
                      <a:pt x="914" y="7"/>
                    </a:lnTo>
                    <a:lnTo>
                      <a:pt x="921" y="0"/>
                    </a:lnTo>
                    <a:lnTo>
                      <a:pt x="928" y="0"/>
                    </a:lnTo>
                    <a:lnTo>
                      <a:pt x="935" y="0"/>
                    </a:lnTo>
                    <a:lnTo>
                      <a:pt x="942" y="0"/>
                    </a:lnTo>
                    <a:lnTo>
                      <a:pt x="949" y="0"/>
                    </a:lnTo>
                    <a:lnTo>
                      <a:pt x="956" y="0"/>
                    </a:lnTo>
                    <a:lnTo>
                      <a:pt x="963" y="7"/>
                    </a:lnTo>
                    <a:lnTo>
                      <a:pt x="969" y="7"/>
                    </a:lnTo>
                    <a:lnTo>
                      <a:pt x="976" y="14"/>
                    </a:lnTo>
                    <a:lnTo>
                      <a:pt x="983" y="21"/>
                    </a:lnTo>
                    <a:lnTo>
                      <a:pt x="990" y="28"/>
                    </a:lnTo>
                    <a:lnTo>
                      <a:pt x="997" y="42"/>
                    </a:lnTo>
                    <a:lnTo>
                      <a:pt x="1004" y="56"/>
                    </a:lnTo>
                    <a:lnTo>
                      <a:pt x="1011" y="63"/>
                    </a:lnTo>
                    <a:lnTo>
                      <a:pt x="1025" y="84"/>
                    </a:lnTo>
                    <a:lnTo>
                      <a:pt x="1032" y="97"/>
                    </a:lnTo>
                    <a:lnTo>
                      <a:pt x="1039" y="111"/>
                    </a:lnTo>
                    <a:lnTo>
                      <a:pt x="1046" y="132"/>
                    </a:lnTo>
                    <a:lnTo>
                      <a:pt x="1053" y="146"/>
                    </a:lnTo>
                    <a:lnTo>
                      <a:pt x="1060" y="167"/>
                    </a:lnTo>
                    <a:lnTo>
                      <a:pt x="1066" y="187"/>
                    </a:lnTo>
                    <a:lnTo>
                      <a:pt x="1073" y="208"/>
                    </a:lnTo>
                    <a:lnTo>
                      <a:pt x="1080" y="229"/>
                    </a:lnTo>
                    <a:lnTo>
                      <a:pt x="1087" y="250"/>
                    </a:lnTo>
                    <a:lnTo>
                      <a:pt x="1094" y="270"/>
                    </a:lnTo>
                    <a:lnTo>
                      <a:pt x="1101" y="291"/>
                    </a:lnTo>
                    <a:lnTo>
                      <a:pt x="1108" y="312"/>
                    </a:lnTo>
                    <a:lnTo>
                      <a:pt x="1115" y="333"/>
                    </a:lnTo>
                    <a:lnTo>
                      <a:pt x="1122" y="353"/>
                    </a:lnTo>
                    <a:lnTo>
                      <a:pt x="1129" y="374"/>
                    </a:lnTo>
                    <a:lnTo>
                      <a:pt x="1136" y="395"/>
                    </a:lnTo>
                    <a:lnTo>
                      <a:pt x="1143" y="416"/>
                    </a:lnTo>
                    <a:lnTo>
                      <a:pt x="1150" y="436"/>
                    </a:lnTo>
                    <a:lnTo>
                      <a:pt x="1157" y="457"/>
                    </a:lnTo>
                    <a:lnTo>
                      <a:pt x="1163" y="478"/>
                    </a:lnTo>
                    <a:lnTo>
                      <a:pt x="1170" y="499"/>
                    </a:lnTo>
                    <a:lnTo>
                      <a:pt x="1177" y="519"/>
                    </a:lnTo>
                    <a:lnTo>
                      <a:pt x="1184" y="540"/>
                    </a:lnTo>
                    <a:lnTo>
                      <a:pt x="1191" y="561"/>
                    </a:lnTo>
                    <a:lnTo>
                      <a:pt x="1198" y="582"/>
                    </a:lnTo>
                    <a:lnTo>
                      <a:pt x="1205" y="602"/>
                    </a:lnTo>
                    <a:lnTo>
                      <a:pt x="1212" y="616"/>
                    </a:lnTo>
                    <a:lnTo>
                      <a:pt x="1219" y="637"/>
                    </a:lnTo>
                    <a:lnTo>
                      <a:pt x="1226" y="658"/>
                    </a:lnTo>
                    <a:lnTo>
                      <a:pt x="1233" y="679"/>
                    </a:lnTo>
                    <a:lnTo>
                      <a:pt x="1240" y="699"/>
                    </a:lnTo>
                    <a:lnTo>
                      <a:pt x="1247" y="713"/>
                    </a:lnTo>
                    <a:lnTo>
                      <a:pt x="1253" y="734"/>
                    </a:lnTo>
                    <a:lnTo>
                      <a:pt x="1260" y="755"/>
                    </a:lnTo>
                    <a:lnTo>
                      <a:pt x="1267" y="775"/>
                    </a:lnTo>
                    <a:lnTo>
                      <a:pt x="1274" y="796"/>
                    </a:lnTo>
                    <a:lnTo>
                      <a:pt x="1281" y="810"/>
                    </a:lnTo>
                    <a:lnTo>
                      <a:pt x="1288" y="831"/>
                    </a:lnTo>
                    <a:lnTo>
                      <a:pt x="1295" y="852"/>
                    </a:lnTo>
                    <a:lnTo>
                      <a:pt x="1302" y="872"/>
                    </a:lnTo>
                    <a:lnTo>
                      <a:pt x="1309" y="886"/>
                    </a:lnTo>
                    <a:lnTo>
                      <a:pt x="1316" y="907"/>
                    </a:lnTo>
                    <a:lnTo>
                      <a:pt x="1323" y="928"/>
                    </a:lnTo>
                    <a:lnTo>
                      <a:pt x="1330" y="948"/>
                    </a:lnTo>
                    <a:lnTo>
                      <a:pt x="1337" y="969"/>
                    </a:lnTo>
                    <a:lnTo>
                      <a:pt x="1344" y="990"/>
                    </a:lnTo>
                    <a:lnTo>
                      <a:pt x="1350" y="1004"/>
                    </a:lnTo>
                    <a:lnTo>
                      <a:pt x="1357" y="1025"/>
                    </a:lnTo>
                    <a:lnTo>
                      <a:pt x="1364" y="1045"/>
                    </a:lnTo>
                    <a:lnTo>
                      <a:pt x="1371" y="1066"/>
                    </a:lnTo>
                    <a:lnTo>
                      <a:pt x="1378" y="1087"/>
                    </a:lnTo>
                    <a:lnTo>
                      <a:pt x="1385" y="1108"/>
                    </a:lnTo>
                    <a:lnTo>
                      <a:pt x="1392" y="1128"/>
                    </a:lnTo>
                    <a:lnTo>
                      <a:pt x="1399" y="1149"/>
                    </a:lnTo>
                    <a:lnTo>
                      <a:pt x="1406" y="1170"/>
                    </a:lnTo>
                    <a:lnTo>
                      <a:pt x="1413" y="1191"/>
                    </a:lnTo>
                    <a:lnTo>
                      <a:pt x="1420" y="1211"/>
                    </a:lnTo>
                    <a:lnTo>
                      <a:pt x="1427" y="1239"/>
                    </a:lnTo>
                    <a:lnTo>
                      <a:pt x="1434" y="1260"/>
                    </a:lnTo>
                    <a:lnTo>
                      <a:pt x="1441" y="1281"/>
                    </a:lnTo>
                    <a:lnTo>
                      <a:pt x="1447" y="1308"/>
                    </a:lnTo>
                    <a:lnTo>
                      <a:pt x="1454" y="1329"/>
                    </a:lnTo>
                    <a:lnTo>
                      <a:pt x="1461" y="1357"/>
                    </a:lnTo>
                    <a:lnTo>
                      <a:pt x="1468" y="1384"/>
                    </a:lnTo>
                    <a:lnTo>
                      <a:pt x="1475" y="1412"/>
                    </a:lnTo>
                    <a:lnTo>
                      <a:pt x="1482" y="1433"/>
                    </a:lnTo>
                    <a:lnTo>
                      <a:pt x="1489" y="1467"/>
                    </a:lnTo>
                    <a:lnTo>
                      <a:pt x="1496" y="1495"/>
                    </a:lnTo>
                    <a:lnTo>
                      <a:pt x="1503" y="1523"/>
                    </a:lnTo>
                    <a:lnTo>
                      <a:pt x="1510" y="1557"/>
                    </a:lnTo>
                    <a:lnTo>
                      <a:pt x="1517" y="1592"/>
                    </a:lnTo>
                    <a:lnTo>
                      <a:pt x="1524" y="1626"/>
                    </a:lnTo>
                    <a:lnTo>
                      <a:pt x="1531" y="1668"/>
                    </a:lnTo>
                    <a:lnTo>
                      <a:pt x="1537" y="1709"/>
                    </a:lnTo>
                    <a:lnTo>
                      <a:pt x="1544" y="1751"/>
                    </a:lnTo>
                    <a:lnTo>
                      <a:pt x="1551" y="1799"/>
                    </a:lnTo>
                    <a:lnTo>
                      <a:pt x="1558" y="1855"/>
                    </a:lnTo>
                    <a:lnTo>
                      <a:pt x="1565" y="1917"/>
                    </a:lnTo>
                    <a:lnTo>
                      <a:pt x="1572" y="1986"/>
                    </a:lnTo>
                    <a:lnTo>
                      <a:pt x="1579" y="2069"/>
                    </a:lnTo>
                    <a:lnTo>
                      <a:pt x="1586" y="2180"/>
                    </a:lnTo>
                    <a:lnTo>
                      <a:pt x="1593" y="2332"/>
                    </a:lnTo>
                    <a:lnTo>
                      <a:pt x="1593" y="2358"/>
                    </a:lnTo>
                    <a:lnTo>
                      <a:pt x="1593" y="2357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53080" y="5076720"/>
                <a:ext cx="2181240" cy="1251000"/>
              </a:xfrm>
              <a:custGeom>
                <a:avLst/>
                <a:gdLst/>
                <a:ahLst/>
                <a:rect l="l" t="t" r="r" b="b"/>
                <a:pathLst>
                  <a:path w="1374" h="788">
                    <a:moveTo>
                      <a:pt x="0" y="787"/>
                    </a:moveTo>
                    <a:lnTo>
                      <a:pt x="1" y="787"/>
                    </a:lnTo>
                    <a:lnTo>
                      <a:pt x="2" y="768"/>
                    </a:lnTo>
                    <a:lnTo>
                      <a:pt x="9" y="637"/>
                    </a:lnTo>
                    <a:lnTo>
                      <a:pt x="15" y="547"/>
                    </a:lnTo>
                    <a:lnTo>
                      <a:pt x="22" y="484"/>
                    </a:lnTo>
                    <a:lnTo>
                      <a:pt x="29" y="429"/>
                    </a:lnTo>
                    <a:lnTo>
                      <a:pt x="36" y="388"/>
                    </a:lnTo>
                    <a:lnTo>
                      <a:pt x="43" y="346"/>
                    </a:lnTo>
                    <a:lnTo>
                      <a:pt x="50" y="311"/>
                    </a:lnTo>
                    <a:lnTo>
                      <a:pt x="57" y="284"/>
                    </a:lnTo>
                    <a:lnTo>
                      <a:pt x="64" y="263"/>
                    </a:lnTo>
                    <a:lnTo>
                      <a:pt x="78" y="235"/>
                    </a:lnTo>
                    <a:lnTo>
                      <a:pt x="85" y="222"/>
                    </a:lnTo>
                    <a:lnTo>
                      <a:pt x="92" y="201"/>
                    </a:lnTo>
                    <a:lnTo>
                      <a:pt x="99" y="187"/>
                    </a:lnTo>
                    <a:lnTo>
                      <a:pt x="105" y="166"/>
                    </a:lnTo>
                    <a:lnTo>
                      <a:pt x="112" y="152"/>
                    </a:lnTo>
                    <a:lnTo>
                      <a:pt x="119" y="145"/>
                    </a:lnTo>
                    <a:lnTo>
                      <a:pt x="126" y="132"/>
                    </a:lnTo>
                    <a:lnTo>
                      <a:pt x="133" y="125"/>
                    </a:lnTo>
                    <a:lnTo>
                      <a:pt x="140" y="111"/>
                    </a:lnTo>
                    <a:lnTo>
                      <a:pt x="147" y="104"/>
                    </a:lnTo>
                    <a:lnTo>
                      <a:pt x="154" y="97"/>
                    </a:lnTo>
                    <a:lnTo>
                      <a:pt x="161" y="90"/>
                    </a:lnTo>
                    <a:lnTo>
                      <a:pt x="168" y="76"/>
                    </a:lnTo>
                    <a:lnTo>
                      <a:pt x="175" y="76"/>
                    </a:lnTo>
                    <a:lnTo>
                      <a:pt x="182" y="69"/>
                    </a:lnTo>
                    <a:lnTo>
                      <a:pt x="189" y="62"/>
                    </a:lnTo>
                    <a:lnTo>
                      <a:pt x="196" y="55"/>
                    </a:lnTo>
                    <a:lnTo>
                      <a:pt x="202" y="49"/>
                    </a:lnTo>
                    <a:lnTo>
                      <a:pt x="209" y="49"/>
                    </a:lnTo>
                    <a:lnTo>
                      <a:pt x="216" y="42"/>
                    </a:lnTo>
                    <a:lnTo>
                      <a:pt x="223" y="42"/>
                    </a:lnTo>
                    <a:lnTo>
                      <a:pt x="230" y="35"/>
                    </a:lnTo>
                    <a:lnTo>
                      <a:pt x="237" y="28"/>
                    </a:lnTo>
                    <a:lnTo>
                      <a:pt x="244" y="28"/>
                    </a:lnTo>
                    <a:lnTo>
                      <a:pt x="251" y="28"/>
                    </a:lnTo>
                    <a:lnTo>
                      <a:pt x="258" y="21"/>
                    </a:lnTo>
                    <a:lnTo>
                      <a:pt x="265" y="21"/>
                    </a:lnTo>
                    <a:lnTo>
                      <a:pt x="272" y="21"/>
                    </a:lnTo>
                    <a:lnTo>
                      <a:pt x="279" y="14"/>
                    </a:lnTo>
                    <a:lnTo>
                      <a:pt x="286" y="14"/>
                    </a:lnTo>
                    <a:lnTo>
                      <a:pt x="293" y="14"/>
                    </a:lnTo>
                    <a:lnTo>
                      <a:pt x="299" y="14"/>
                    </a:lnTo>
                    <a:lnTo>
                      <a:pt x="306" y="7"/>
                    </a:lnTo>
                    <a:lnTo>
                      <a:pt x="313" y="7"/>
                    </a:lnTo>
                    <a:lnTo>
                      <a:pt x="320" y="7"/>
                    </a:lnTo>
                    <a:lnTo>
                      <a:pt x="327" y="7"/>
                    </a:lnTo>
                    <a:lnTo>
                      <a:pt x="334" y="7"/>
                    </a:lnTo>
                    <a:lnTo>
                      <a:pt x="341" y="7"/>
                    </a:lnTo>
                    <a:lnTo>
                      <a:pt x="348" y="7"/>
                    </a:lnTo>
                    <a:lnTo>
                      <a:pt x="355" y="0"/>
                    </a:lnTo>
                    <a:lnTo>
                      <a:pt x="362" y="0"/>
                    </a:lnTo>
                    <a:lnTo>
                      <a:pt x="369" y="0"/>
                    </a:lnTo>
                    <a:lnTo>
                      <a:pt x="376" y="0"/>
                    </a:lnTo>
                    <a:lnTo>
                      <a:pt x="383" y="0"/>
                    </a:lnTo>
                    <a:lnTo>
                      <a:pt x="389" y="0"/>
                    </a:lnTo>
                    <a:lnTo>
                      <a:pt x="396" y="0"/>
                    </a:lnTo>
                    <a:lnTo>
                      <a:pt x="403" y="0"/>
                    </a:lnTo>
                    <a:lnTo>
                      <a:pt x="410" y="0"/>
                    </a:lnTo>
                    <a:lnTo>
                      <a:pt x="417" y="0"/>
                    </a:lnTo>
                    <a:lnTo>
                      <a:pt x="424" y="7"/>
                    </a:lnTo>
                    <a:lnTo>
                      <a:pt x="431" y="7"/>
                    </a:lnTo>
                    <a:lnTo>
                      <a:pt x="438" y="7"/>
                    </a:lnTo>
                    <a:lnTo>
                      <a:pt x="445" y="7"/>
                    </a:lnTo>
                    <a:lnTo>
                      <a:pt x="452" y="7"/>
                    </a:lnTo>
                    <a:lnTo>
                      <a:pt x="459" y="7"/>
                    </a:lnTo>
                    <a:lnTo>
                      <a:pt x="466" y="7"/>
                    </a:lnTo>
                    <a:lnTo>
                      <a:pt x="473" y="7"/>
                    </a:lnTo>
                    <a:lnTo>
                      <a:pt x="480" y="7"/>
                    </a:lnTo>
                    <a:lnTo>
                      <a:pt x="486" y="7"/>
                    </a:lnTo>
                    <a:lnTo>
                      <a:pt x="493" y="14"/>
                    </a:lnTo>
                    <a:lnTo>
                      <a:pt x="500" y="14"/>
                    </a:lnTo>
                    <a:lnTo>
                      <a:pt x="507" y="14"/>
                    </a:lnTo>
                    <a:lnTo>
                      <a:pt x="514" y="14"/>
                    </a:lnTo>
                    <a:lnTo>
                      <a:pt x="521" y="14"/>
                    </a:lnTo>
                    <a:lnTo>
                      <a:pt x="528" y="14"/>
                    </a:lnTo>
                    <a:lnTo>
                      <a:pt x="535" y="21"/>
                    </a:lnTo>
                    <a:lnTo>
                      <a:pt x="542" y="21"/>
                    </a:lnTo>
                    <a:lnTo>
                      <a:pt x="549" y="21"/>
                    </a:lnTo>
                    <a:lnTo>
                      <a:pt x="556" y="21"/>
                    </a:lnTo>
                    <a:lnTo>
                      <a:pt x="563" y="28"/>
                    </a:lnTo>
                    <a:lnTo>
                      <a:pt x="570" y="28"/>
                    </a:lnTo>
                    <a:lnTo>
                      <a:pt x="577" y="28"/>
                    </a:lnTo>
                    <a:lnTo>
                      <a:pt x="583" y="28"/>
                    </a:lnTo>
                    <a:lnTo>
                      <a:pt x="590" y="28"/>
                    </a:lnTo>
                    <a:lnTo>
                      <a:pt x="597" y="35"/>
                    </a:lnTo>
                    <a:lnTo>
                      <a:pt x="604" y="35"/>
                    </a:lnTo>
                    <a:lnTo>
                      <a:pt x="611" y="35"/>
                    </a:lnTo>
                    <a:lnTo>
                      <a:pt x="618" y="35"/>
                    </a:lnTo>
                    <a:lnTo>
                      <a:pt x="625" y="42"/>
                    </a:lnTo>
                    <a:lnTo>
                      <a:pt x="632" y="42"/>
                    </a:lnTo>
                    <a:lnTo>
                      <a:pt x="639" y="42"/>
                    </a:lnTo>
                    <a:lnTo>
                      <a:pt x="646" y="49"/>
                    </a:lnTo>
                    <a:lnTo>
                      <a:pt x="653" y="49"/>
                    </a:lnTo>
                    <a:lnTo>
                      <a:pt x="660" y="49"/>
                    </a:lnTo>
                    <a:lnTo>
                      <a:pt x="667" y="49"/>
                    </a:lnTo>
                    <a:lnTo>
                      <a:pt x="673" y="55"/>
                    </a:lnTo>
                    <a:lnTo>
                      <a:pt x="680" y="55"/>
                    </a:lnTo>
                    <a:lnTo>
                      <a:pt x="687" y="55"/>
                    </a:lnTo>
                    <a:lnTo>
                      <a:pt x="694" y="62"/>
                    </a:lnTo>
                    <a:lnTo>
                      <a:pt x="701" y="62"/>
                    </a:lnTo>
                    <a:lnTo>
                      <a:pt x="708" y="62"/>
                    </a:lnTo>
                    <a:lnTo>
                      <a:pt x="715" y="69"/>
                    </a:lnTo>
                    <a:lnTo>
                      <a:pt x="722" y="69"/>
                    </a:lnTo>
                    <a:lnTo>
                      <a:pt x="729" y="69"/>
                    </a:lnTo>
                    <a:lnTo>
                      <a:pt x="736" y="76"/>
                    </a:lnTo>
                    <a:lnTo>
                      <a:pt x="743" y="76"/>
                    </a:lnTo>
                    <a:lnTo>
                      <a:pt x="757" y="76"/>
                    </a:lnTo>
                    <a:lnTo>
                      <a:pt x="764" y="83"/>
                    </a:lnTo>
                    <a:lnTo>
                      <a:pt x="770" y="83"/>
                    </a:lnTo>
                    <a:lnTo>
                      <a:pt x="777" y="83"/>
                    </a:lnTo>
                    <a:lnTo>
                      <a:pt x="784" y="90"/>
                    </a:lnTo>
                    <a:lnTo>
                      <a:pt x="791" y="90"/>
                    </a:lnTo>
                    <a:lnTo>
                      <a:pt x="798" y="97"/>
                    </a:lnTo>
                    <a:lnTo>
                      <a:pt x="805" y="97"/>
                    </a:lnTo>
                    <a:lnTo>
                      <a:pt x="812" y="97"/>
                    </a:lnTo>
                    <a:lnTo>
                      <a:pt x="819" y="104"/>
                    </a:lnTo>
                    <a:lnTo>
                      <a:pt x="826" y="104"/>
                    </a:lnTo>
                    <a:lnTo>
                      <a:pt x="833" y="104"/>
                    </a:lnTo>
                    <a:lnTo>
                      <a:pt x="840" y="111"/>
                    </a:lnTo>
                    <a:lnTo>
                      <a:pt x="847" y="111"/>
                    </a:lnTo>
                    <a:lnTo>
                      <a:pt x="854" y="118"/>
                    </a:lnTo>
                    <a:lnTo>
                      <a:pt x="861" y="118"/>
                    </a:lnTo>
                    <a:lnTo>
                      <a:pt x="867" y="118"/>
                    </a:lnTo>
                    <a:lnTo>
                      <a:pt x="874" y="125"/>
                    </a:lnTo>
                    <a:lnTo>
                      <a:pt x="881" y="125"/>
                    </a:lnTo>
                    <a:lnTo>
                      <a:pt x="888" y="132"/>
                    </a:lnTo>
                    <a:lnTo>
                      <a:pt x="895" y="132"/>
                    </a:lnTo>
                    <a:lnTo>
                      <a:pt x="902" y="132"/>
                    </a:lnTo>
                    <a:lnTo>
                      <a:pt x="909" y="138"/>
                    </a:lnTo>
                    <a:lnTo>
                      <a:pt x="916" y="138"/>
                    </a:lnTo>
                    <a:lnTo>
                      <a:pt x="923" y="145"/>
                    </a:lnTo>
                    <a:lnTo>
                      <a:pt x="930" y="145"/>
                    </a:lnTo>
                    <a:lnTo>
                      <a:pt x="937" y="152"/>
                    </a:lnTo>
                    <a:lnTo>
                      <a:pt x="944" y="152"/>
                    </a:lnTo>
                    <a:lnTo>
                      <a:pt x="951" y="159"/>
                    </a:lnTo>
                    <a:lnTo>
                      <a:pt x="957" y="159"/>
                    </a:lnTo>
                    <a:lnTo>
                      <a:pt x="964" y="159"/>
                    </a:lnTo>
                    <a:lnTo>
                      <a:pt x="971" y="166"/>
                    </a:lnTo>
                    <a:lnTo>
                      <a:pt x="978" y="166"/>
                    </a:lnTo>
                    <a:lnTo>
                      <a:pt x="985" y="173"/>
                    </a:lnTo>
                    <a:lnTo>
                      <a:pt x="992" y="173"/>
                    </a:lnTo>
                    <a:lnTo>
                      <a:pt x="999" y="180"/>
                    </a:lnTo>
                    <a:lnTo>
                      <a:pt x="1006" y="180"/>
                    </a:lnTo>
                    <a:lnTo>
                      <a:pt x="1013" y="187"/>
                    </a:lnTo>
                    <a:lnTo>
                      <a:pt x="1020" y="187"/>
                    </a:lnTo>
                    <a:lnTo>
                      <a:pt x="1027" y="194"/>
                    </a:lnTo>
                    <a:lnTo>
                      <a:pt x="1034" y="194"/>
                    </a:lnTo>
                    <a:lnTo>
                      <a:pt x="1041" y="201"/>
                    </a:lnTo>
                    <a:lnTo>
                      <a:pt x="1048" y="201"/>
                    </a:lnTo>
                    <a:lnTo>
                      <a:pt x="1054" y="208"/>
                    </a:lnTo>
                    <a:lnTo>
                      <a:pt x="1061" y="208"/>
                    </a:lnTo>
                    <a:lnTo>
                      <a:pt x="1068" y="215"/>
                    </a:lnTo>
                    <a:lnTo>
                      <a:pt x="1075" y="215"/>
                    </a:lnTo>
                    <a:lnTo>
                      <a:pt x="1082" y="222"/>
                    </a:lnTo>
                    <a:lnTo>
                      <a:pt x="1089" y="222"/>
                    </a:lnTo>
                    <a:lnTo>
                      <a:pt x="1096" y="228"/>
                    </a:lnTo>
                    <a:lnTo>
                      <a:pt x="1103" y="228"/>
                    </a:lnTo>
                    <a:lnTo>
                      <a:pt x="1110" y="235"/>
                    </a:lnTo>
                    <a:lnTo>
                      <a:pt x="1117" y="235"/>
                    </a:lnTo>
                    <a:lnTo>
                      <a:pt x="1124" y="242"/>
                    </a:lnTo>
                    <a:lnTo>
                      <a:pt x="1131" y="249"/>
                    </a:lnTo>
                    <a:lnTo>
                      <a:pt x="1138" y="249"/>
                    </a:lnTo>
                    <a:lnTo>
                      <a:pt x="1145" y="256"/>
                    </a:lnTo>
                    <a:lnTo>
                      <a:pt x="1151" y="256"/>
                    </a:lnTo>
                    <a:lnTo>
                      <a:pt x="1158" y="263"/>
                    </a:lnTo>
                    <a:lnTo>
                      <a:pt x="1165" y="263"/>
                    </a:lnTo>
                    <a:lnTo>
                      <a:pt x="1172" y="270"/>
                    </a:lnTo>
                    <a:lnTo>
                      <a:pt x="1179" y="270"/>
                    </a:lnTo>
                    <a:lnTo>
                      <a:pt x="1186" y="277"/>
                    </a:lnTo>
                    <a:lnTo>
                      <a:pt x="1193" y="284"/>
                    </a:lnTo>
                    <a:lnTo>
                      <a:pt x="1200" y="284"/>
                    </a:lnTo>
                    <a:lnTo>
                      <a:pt x="1207" y="291"/>
                    </a:lnTo>
                    <a:lnTo>
                      <a:pt x="1214" y="291"/>
                    </a:lnTo>
                    <a:lnTo>
                      <a:pt x="1221" y="298"/>
                    </a:lnTo>
                    <a:lnTo>
                      <a:pt x="1228" y="305"/>
                    </a:lnTo>
                    <a:lnTo>
                      <a:pt x="1235" y="305"/>
                    </a:lnTo>
                    <a:lnTo>
                      <a:pt x="1241" y="311"/>
                    </a:lnTo>
                    <a:lnTo>
                      <a:pt x="1248" y="318"/>
                    </a:lnTo>
                    <a:lnTo>
                      <a:pt x="1255" y="318"/>
                    </a:lnTo>
                    <a:lnTo>
                      <a:pt x="1262" y="325"/>
                    </a:lnTo>
                    <a:lnTo>
                      <a:pt x="1269" y="332"/>
                    </a:lnTo>
                    <a:lnTo>
                      <a:pt x="1276" y="332"/>
                    </a:lnTo>
                    <a:lnTo>
                      <a:pt x="1283" y="339"/>
                    </a:lnTo>
                    <a:lnTo>
                      <a:pt x="1290" y="346"/>
                    </a:lnTo>
                    <a:lnTo>
                      <a:pt x="1297" y="346"/>
                    </a:lnTo>
                    <a:lnTo>
                      <a:pt x="1304" y="353"/>
                    </a:lnTo>
                    <a:lnTo>
                      <a:pt x="1311" y="360"/>
                    </a:lnTo>
                    <a:lnTo>
                      <a:pt x="1318" y="360"/>
                    </a:lnTo>
                    <a:lnTo>
                      <a:pt x="1325" y="367"/>
                    </a:lnTo>
                    <a:lnTo>
                      <a:pt x="1332" y="374"/>
                    </a:lnTo>
                    <a:lnTo>
                      <a:pt x="1338" y="374"/>
                    </a:lnTo>
                    <a:lnTo>
                      <a:pt x="1345" y="381"/>
                    </a:lnTo>
                    <a:lnTo>
                      <a:pt x="1352" y="388"/>
                    </a:lnTo>
                    <a:lnTo>
                      <a:pt x="1359" y="395"/>
                    </a:lnTo>
                    <a:lnTo>
                      <a:pt x="1366" y="395"/>
                    </a:lnTo>
                    <a:lnTo>
                      <a:pt x="1373" y="401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06" name=""/>
              <p:cNvGrpSpPr/>
              <p:nvPr/>
            </p:nvGrpSpPr>
            <p:grpSpPr>
              <a:xfrm>
                <a:off x="4181040" y="2660760"/>
                <a:ext cx="1703880" cy="930240"/>
                <a:chOff x="4181040" y="2660760"/>
                <a:chExt cx="1703880" cy="930240"/>
              </a:xfrm>
            </p:grpSpPr>
            <p:sp>
              <p:nvSpPr>
                <p:cNvPr id="3107" name=""/>
                <p:cNvSpPr/>
                <p:nvPr/>
              </p:nvSpPr>
              <p:spPr>
                <a:xfrm>
                  <a:off x="4946760" y="2660760"/>
                  <a:ext cx="93816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N=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H="1">
                  <a:off x="4181040" y="2940120"/>
                  <a:ext cx="762120" cy="6508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109" name=""/>
                <p:cNvSpPr txBox="1"/>
                <p:nvPr/>
              </p:nvSpPr>
              <p:spPr>
                <a:xfrm>
                  <a:off x="843120" y="2301840"/>
                  <a:ext cx="100332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110" name=""/>
            <p:cNvSpPr/>
            <p:nvPr/>
          </p:nvSpPr>
          <p:spPr>
            <a:xfrm>
              <a:off x="7179120" y="633564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2973240" y="4473360"/>
              <a:ext cx="0" cy="18334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8510-59C9-4409-816D-A4FA3311C678}" type="slidenum">
              <a:t>75</a:t>
            </a:fld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Eliptička (Cauer) aproksimacij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09480" y="1676520"/>
            <a:ext cx="853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N=4, 6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 8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, 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1dB, R</a:t>
            </a:r>
            <a:r>
              <a:rPr b="0" lang="hr-HR" sz="28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=40dB,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dr. propušt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2112840" y="2584440"/>
            <a:ext cx="4761000" cy="3746520"/>
          </a:xfrm>
          <a:custGeom>
            <a:avLst/>
            <a:gdLst/>
            <a:ahLst/>
            <a:rect l="l" t="t" r="r" b="b"/>
            <a:pathLst>
              <a:path w="2999" h="2360">
                <a:moveTo>
                  <a:pt x="0" y="2359"/>
                </a:moveTo>
                <a:lnTo>
                  <a:pt x="13" y="2359"/>
                </a:lnTo>
                <a:lnTo>
                  <a:pt x="27" y="2359"/>
                </a:lnTo>
                <a:lnTo>
                  <a:pt x="41" y="2352"/>
                </a:lnTo>
                <a:lnTo>
                  <a:pt x="62" y="2345"/>
                </a:lnTo>
                <a:lnTo>
                  <a:pt x="76" y="2338"/>
                </a:lnTo>
                <a:lnTo>
                  <a:pt x="90" y="2331"/>
                </a:lnTo>
                <a:lnTo>
                  <a:pt x="103" y="2318"/>
                </a:lnTo>
                <a:lnTo>
                  <a:pt x="117" y="2304"/>
                </a:lnTo>
                <a:lnTo>
                  <a:pt x="131" y="2290"/>
                </a:lnTo>
                <a:lnTo>
                  <a:pt x="152" y="2276"/>
                </a:lnTo>
                <a:lnTo>
                  <a:pt x="166" y="2255"/>
                </a:lnTo>
                <a:lnTo>
                  <a:pt x="180" y="2235"/>
                </a:lnTo>
                <a:lnTo>
                  <a:pt x="194" y="2214"/>
                </a:lnTo>
                <a:lnTo>
                  <a:pt x="207" y="2193"/>
                </a:lnTo>
                <a:lnTo>
                  <a:pt x="221" y="2165"/>
                </a:lnTo>
                <a:lnTo>
                  <a:pt x="242" y="2145"/>
                </a:lnTo>
                <a:lnTo>
                  <a:pt x="256" y="2117"/>
                </a:lnTo>
                <a:lnTo>
                  <a:pt x="270" y="2089"/>
                </a:lnTo>
                <a:lnTo>
                  <a:pt x="284" y="2055"/>
                </a:lnTo>
                <a:lnTo>
                  <a:pt x="297" y="2027"/>
                </a:lnTo>
                <a:lnTo>
                  <a:pt x="311" y="1992"/>
                </a:lnTo>
                <a:lnTo>
                  <a:pt x="332" y="1958"/>
                </a:lnTo>
                <a:lnTo>
                  <a:pt x="346" y="1923"/>
                </a:lnTo>
                <a:lnTo>
                  <a:pt x="360" y="1882"/>
                </a:lnTo>
                <a:lnTo>
                  <a:pt x="374" y="1847"/>
                </a:lnTo>
                <a:lnTo>
                  <a:pt x="387" y="1806"/>
                </a:lnTo>
                <a:lnTo>
                  <a:pt x="401" y="1764"/>
                </a:lnTo>
                <a:lnTo>
                  <a:pt x="422" y="1723"/>
                </a:lnTo>
                <a:lnTo>
                  <a:pt x="436" y="1681"/>
                </a:lnTo>
                <a:lnTo>
                  <a:pt x="450" y="1640"/>
                </a:lnTo>
                <a:lnTo>
                  <a:pt x="464" y="1598"/>
                </a:lnTo>
                <a:lnTo>
                  <a:pt x="477" y="1550"/>
                </a:lnTo>
                <a:lnTo>
                  <a:pt x="491" y="1501"/>
                </a:lnTo>
                <a:lnTo>
                  <a:pt x="512" y="1460"/>
                </a:lnTo>
                <a:lnTo>
                  <a:pt x="526" y="1411"/>
                </a:lnTo>
                <a:lnTo>
                  <a:pt x="540" y="1363"/>
                </a:lnTo>
                <a:lnTo>
                  <a:pt x="554" y="1315"/>
                </a:lnTo>
                <a:lnTo>
                  <a:pt x="567" y="1266"/>
                </a:lnTo>
                <a:lnTo>
                  <a:pt x="581" y="1218"/>
                </a:lnTo>
                <a:lnTo>
                  <a:pt x="602" y="1162"/>
                </a:lnTo>
                <a:lnTo>
                  <a:pt x="616" y="1114"/>
                </a:lnTo>
                <a:lnTo>
                  <a:pt x="630" y="1066"/>
                </a:lnTo>
                <a:lnTo>
                  <a:pt x="644" y="1017"/>
                </a:lnTo>
                <a:lnTo>
                  <a:pt x="657" y="969"/>
                </a:lnTo>
                <a:lnTo>
                  <a:pt x="671" y="913"/>
                </a:lnTo>
                <a:lnTo>
                  <a:pt x="692" y="865"/>
                </a:lnTo>
                <a:lnTo>
                  <a:pt x="706" y="817"/>
                </a:lnTo>
                <a:lnTo>
                  <a:pt x="720" y="768"/>
                </a:lnTo>
                <a:lnTo>
                  <a:pt x="734" y="720"/>
                </a:lnTo>
                <a:lnTo>
                  <a:pt x="748" y="671"/>
                </a:lnTo>
                <a:lnTo>
                  <a:pt x="761" y="630"/>
                </a:lnTo>
                <a:lnTo>
                  <a:pt x="782" y="581"/>
                </a:lnTo>
                <a:lnTo>
                  <a:pt x="796" y="540"/>
                </a:lnTo>
                <a:lnTo>
                  <a:pt x="810" y="492"/>
                </a:lnTo>
                <a:lnTo>
                  <a:pt x="824" y="450"/>
                </a:lnTo>
                <a:lnTo>
                  <a:pt x="838" y="409"/>
                </a:lnTo>
                <a:lnTo>
                  <a:pt x="851" y="367"/>
                </a:lnTo>
                <a:lnTo>
                  <a:pt x="872" y="332"/>
                </a:lnTo>
                <a:lnTo>
                  <a:pt x="886" y="298"/>
                </a:lnTo>
                <a:lnTo>
                  <a:pt x="900" y="263"/>
                </a:lnTo>
                <a:lnTo>
                  <a:pt x="914" y="229"/>
                </a:lnTo>
                <a:lnTo>
                  <a:pt x="928" y="194"/>
                </a:lnTo>
                <a:lnTo>
                  <a:pt x="941" y="166"/>
                </a:lnTo>
                <a:lnTo>
                  <a:pt x="962" y="139"/>
                </a:lnTo>
                <a:lnTo>
                  <a:pt x="976" y="111"/>
                </a:lnTo>
                <a:lnTo>
                  <a:pt x="990" y="90"/>
                </a:lnTo>
                <a:lnTo>
                  <a:pt x="1004" y="70"/>
                </a:lnTo>
                <a:lnTo>
                  <a:pt x="1018" y="56"/>
                </a:lnTo>
                <a:lnTo>
                  <a:pt x="1031" y="35"/>
                </a:lnTo>
                <a:lnTo>
                  <a:pt x="1052" y="28"/>
                </a:lnTo>
                <a:lnTo>
                  <a:pt x="1066" y="14"/>
                </a:lnTo>
                <a:lnTo>
                  <a:pt x="1080" y="7"/>
                </a:lnTo>
                <a:lnTo>
                  <a:pt x="1094" y="0"/>
                </a:lnTo>
                <a:lnTo>
                  <a:pt x="1108" y="0"/>
                </a:lnTo>
                <a:lnTo>
                  <a:pt x="1121" y="0"/>
                </a:lnTo>
                <a:lnTo>
                  <a:pt x="1142" y="7"/>
                </a:lnTo>
                <a:lnTo>
                  <a:pt x="1156" y="14"/>
                </a:lnTo>
                <a:lnTo>
                  <a:pt x="1170" y="21"/>
                </a:lnTo>
                <a:lnTo>
                  <a:pt x="1184" y="35"/>
                </a:lnTo>
                <a:lnTo>
                  <a:pt x="1198" y="49"/>
                </a:lnTo>
                <a:lnTo>
                  <a:pt x="1211" y="70"/>
                </a:lnTo>
                <a:lnTo>
                  <a:pt x="1232" y="90"/>
                </a:lnTo>
                <a:lnTo>
                  <a:pt x="1246" y="111"/>
                </a:lnTo>
                <a:lnTo>
                  <a:pt x="1260" y="139"/>
                </a:lnTo>
                <a:lnTo>
                  <a:pt x="1274" y="166"/>
                </a:lnTo>
                <a:lnTo>
                  <a:pt x="1288" y="201"/>
                </a:lnTo>
                <a:lnTo>
                  <a:pt x="1302" y="236"/>
                </a:lnTo>
                <a:lnTo>
                  <a:pt x="1322" y="277"/>
                </a:lnTo>
                <a:lnTo>
                  <a:pt x="1336" y="312"/>
                </a:lnTo>
                <a:lnTo>
                  <a:pt x="1350" y="360"/>
                </a:lnTo>
                <a:lnTo>
                  <a:pt x="1364" y="402"/>
                </a:lnTo>
                <a:lnTo>
                  <a:pt x="1378" y="450"/>
                </a:lnTo>
                <a:lnTo>
                  <a:pt x="1392" y="498"/>
                </a:lnTo>
                <a:lnTo>
                  <a:pt x="1412" y="554"/>
                </a:lnTo>
                <a:lnTo>
                  <a:pt x="1426" y="602"/>
                </a:lnTo>
                <a:lnTo>
                  <a:pt x="1440" y="658"/>
                </a:lnTo>
                <a:lnTo>
                  <a:pt x="1454" y="713"/>
                </a:lnTo>
                <a:lnTo>
                  <a:pt x="1468" y="775"/>
                </a:lnTo>
                <a:lnTo>
                  <a:pt x="1482" y="830"/>
                </a:lnTo>
                <a:lnTo>
                  <a:pt x="1502" y="893"/>
                </a:lnTo>
                <a:lnTo>
                  <a:pt x="1516" y="955"/>
                </a:lnTo>
                <a:lnTo>
                  <a:pt x="1530" y="1017"/>
                </a:lnTo>
                <a:lnTo>
                  <a:pt x="1544" y="1079"/>
                </a:lnTo>
                <a:lnTo>
                  <a:pt x="1558" y="1142"/>
                </a:lnTo>
                <a:lnTo>
                  <a:pt x="1572" y="1204"/>
                </a:lnTo>
                <a:lnTo>
                  <a:pt x="1585" y="1273"/>
                </a:lnTo>
                <a:lnTo>
                  <a:pt x="1606" y="1335"/>
                </a:lnTo>
                <a:lnTo>
                  <a:pt x="1620" y="1398"/>
                </a:lnTo>
                <a:lnTo>
                  <a:pt x="1634" y="1460"/>
                </a:lnTo>
                <a:lnTo>
                  <a:pt x="1648" y="1522"/>
                </a:lnTo>
                <a:lnTo>
                  <a:pt x="1662" y="1584"/>
                </a:lnTo>
                <a:lnTo>
                  <a:pt x="1675" y="1647"/>
                </a:lnTo>
                <a:lnTo>
                  <a:pt x="1696" y="1709"/>
                </a:lnTo>
                <a:lnTo>
                  <a:pt x="1710" y="1764"/>
                </a:lnTo>
                <a:lnTo>
                  <a:pt x="1724" y="1820"/>
                </a:lnTo>
                <a:lnTo>
                  <a:pt x="1738" y="1875"/>
                </a:lnTo>
                <a:lnTo>
                  <a:pt x="1752" y="1930"/>
                </a:lnTo>
                <a:lnTo>
                  <a:pt x="1765" y="1979"/>
                </a:lnTo>
                <a:lnTo>
                  <a:pt x="1786" y="2027"/>
                </a:lnTo>
                <a:lnTo>
                  <a:pt x="1800" y="2075"/>
                </a:lnTo>
                <a:lnTo>
                  <a:pt x="1814" y="2117"/>
                </a:lnTo>
                <a:lnTo>
                  <a:pt x="1828" y="2158"/>
                </a:lnTo>
                <a:lnTo>
                  <a:pt x="1842" y="2193"/>
                </a:lnTo>
                <a:lnTo>
                  <a:pt x="1856" y="2228"/>
                </a:lnTo>
                <a:lnTo>
                  <a:pt x="1876" y="2255"/>
                </a:lnTo>
                <a:lnTo>
                  <a:pt x="1890" y="2283"/>
                </a:lnTo>
                <a:lnTo>
                  <a:pt x="1904" y="2311"/>
                </a:lnTo>
                <a:lnTo>
                  <a:pt x="1918" y="2324"/>
                </a:lnTo>
                <a:lnTo>
                  <a:pt x="1932" y="2338"/>
                </a:lnTo>
                <a:lnTo>
                  <a:pt x="1946" y="2352"/>
                </a:lnTo>
                <a:lnTo>
                  <a:pt x="1966" y="2359"/>
                </a:lnTo>
                <a:lnTo>
                  <a:pt x="1980" y="2359"/>
                </a:lnTo>
                <a:lnTo>
                  <a:pt x="1994" y="2352"/>
                </a:lnTo>
                <a:lnTo>
                  <a:pt x="2008" y="2345"/>
                </a:lnTo>
                <a:lnTo>
                  <a:pt x="2022" y="2331"/>
                </a:lnTo>
                <a:lnTo>
                  <a:pt x="2036" y="2318"/>
                </a:lnTo>
                <a:lnTo>
                  <a:pt x="2056" y="2290"/>
                </a:lnTo>
                <a:lnTo>
                  <a:pt x="2070" y="2262"/>
                </a:lnTo>
                <a:lnTo>
                  <a:pt x="2084" y="2228"/>
                </a:lnTo>
                <a:lnTo>
                  <a:pt x="2098" y="2186"/>
                </a:lnTo>
                <a:lnTo>
                  <a:pt x="2112" y="2138"/>
                </a:lnTo>
                <a:lnTo>
                  <a:pt x="2126" y="2089"/>
                </a:lnTo>
                <a:lnTo>
                  <a:pt x="2146" y="2034"/>
                </a:lnTo>
                <a:lnTo>
                  <a:pt x="2160" y="1972"/>
                </a:lnTo>
                <a:lnTo>
                  <a:pt x="2174" y="1903"/>
                </a:lnTo>
                <a:lnTo>
                  <a:pt x="2188" y="1826"/>
                </a:lnTo>
                <a:lnTo>
                  <a:pt x="2202" y="1750"/>
                </a:lnTo>
                <a:lnTo>
                  <a:pt x="2216" y="1667"/>
                </a:lnTo>
                <a:lnTo>
                  <a:pt x="2236" y="1577"/>
                </a:lnTo>
                <a:lnTo>
                  <a:pt x="2250" y="1488"/>
                </a:lnTo>
                <a:lnTo>
                  <a:pt x="2264" y="1391"/>
                </a:lnTo>
                <a:lnTo>
                  <a:pt x="2278" y="1294"/>
                </a:lnTo>
                <a:lnTo>
                  <a:pt x="2292" y="1190"/>
                </a:lnTo>
                <a:lnTo>
                  <a:pt x="2306" y="1086"/>
                </a:lnTo>
                <a:lnTo>
                  <a:pt x="2326" y="976"/>
                </a:lnTo>
                <a:lnTo>
                  <a:pt x="2340" y="872"/>
                </a:lnTo>
                <a:lnTo>
                  <a:pt x="2354" y="768"/>
                </a:lnTo>
                <a:lnTo>
                  <a:pt x="2368" y="664"/>
                </a:lnTo>
                <a:lnTo>
                  <a:pt x="2382" y="561"/>
                </a:lnTo>
                <a:lnTo>
                  <a:pt x="2396" y="464"/>
                </a:lnTo>
                <a:lnTo>
                  <a:pt x="2416" y="367"/>
                </a:lnTo>
                <a:lnTo>
                  <a:pt x="2430" y="284"/>
                </a:lnTo>
                <a:lnTo>
                  <a:pt x="2444" y="208"/>
                </a:lnTo>
                <a:lnTo>
                  <a:pt x="2458" y="139"/>
                </a:lnTo>
                <a:lnTo>
                  <a:pt x="2472" y="83"/>
                </a:lnTo>
                <a:lnTo>
                  <a:pt x="2486" y="42"/>
                </a:lnTo>
                <a:lnTo>
                  <a:pt x="2506" y="14"/>
                </a:lnTo>
                <a:lnTo>
                  <a:pt x="2520" y="0"/>
                </a:lnTo>
                <a:lnTo>
                  <a:pt x="2534" y="7"/>
                </a:lnTo>
                <a:lnTo>
                  <a:pt x="2548" y="35"/>
                </a:lnTo>
                <a:lnTo>
                  <a:pt x="2562" y="77"/>
                </a:lnTo>
                <a:lnTo>
                  <a:pt x="2576" y="139"/>
                </a:lnTo>
                <a:lnTo>
                  <a:pt x="2596" y="229"/>
                </a:lnTo>
                <a:lnTo>
                  <a:pt x="2610" y="332"/>
                </a:lnTo>
                <a:lnTo>
                  <a:pt x="2624" y="457"/>
                </a:lnTo>
                <a:lnTo>
                  <a:pt x="2638" y="602"/>
                </a:lnTo>
                <a:lnTo>
                  <a:pt x="2652" y="754"/>
                </a:lnTo>
                <a:lnTo>
                  <a:pt x="2666" y="927"/>
                </a:lnTo>
                <a:lnTo>
                  <a:pt x="2687" y="1107"/>
                </a:lnTo>
                <a:lnTo>
                  <a:pt x="2700" y="1294"/>
                </a:lnTo>
                <a:lnTo>
                  <a:pt x="2714" y="1488"/>
                </a:lnTo>
                <a:lnTo>
                  <a:pt x="2728" y="1674"/>
                </a:lnTo>
                <a:lnTo>
                  <a:pt x="2742" y="1847"/>
                </a:lnTo>
                <a:lnTo>
                  <a:pt x="2756" y="2013"/>
                </a:lnTo>
                <a:lnTo>
                  <a:pt x="2777" y="2152"/>
                </a:lnTo>
                <a:lnTo>
                  <a:pt x="2790" y="2262"/>
                </a:lnTo>
                <a:lnTo>
                  <a:pt x="2804" y="2331"/>
                </a:lnTo>
                <a:lnTo>
                  <a:pt x="2818" y="2359"/>
                </a:lnTo>
                <a:lnTo>
                  <a:pt x="2832" y="2331"/>
                </a:lnTo>
                <a:lnTo>
                  <a:pt x="2846" y="2235"/>
                </a:lnTo>
                <a:lnTo>
                  <a:pt x="2867" y="2069"/>
                </a:lnTo>
                <a:lnTo>
                  <a:pt x="2880" y="1826"/>
                </a:lnTo>
                <a:lnTo>
                  <a:pt x="2894" y="1501"/>
                </a:lnTo>
                <a:lnTo>
                  <a:pt x="2908" y="1107"/>
                </a:lnTo>
                <a:lnTo>
                  <a:pt x="2922" y="678"/>
                </a:lnTo>
                <a:lnTo>
                  <a:pt x="2936" y="277"/>
                </a:lnTo>
                <a:lnTo>
                  <a:pt x="2957" y="21"/>
                </a:lnTo>
                <a:lnTo>
                  <a:pt x="2970" y="111"/>
                </a:lnTo>
                <a:lnTo>
                  <a:pt x="2984" y="817"/>
                </a:lnTo>
                <a:lnTo>
                  <a:pt x="2998" y="2359"/>
                </a:lnTo>
              </a:path>
            </a:pathLst>
          </a:custGeom>
          <a:noFill/>
          <a:ln cap="rnd" w="1260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5" name=""/>
          <p:cNvGrpSpPr/>
          <p:nvPr/>
        </p:nvGrpSpPr>
        <p:grpSpPr>
          <a:xfrm>
            <a:off x="741240" y="2280960"/>
            <a:ext cx="6725880" cy="4533840"/>
            <a:chOff x="741240" y="2280960"/>
            <a:chExt cx="6725880" cy="4533840"/>
          </a:xfrm>
        </p:grpSpPr>
        <p:sp>
          <p:nvSpPr>
            <p:cNvPr id="3116" name=""/>
            <p:cNvSpPr/>
            <p:nvPr/>
          </p:nvSpPr>
          <p:spPr>
            <a:xfrm flipV="1">
              <a:off x="211284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306864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4014720" y="2584080"/>
              <a:ext cx="0" cy="30193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497052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591660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687240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12840" y="632952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12840" y="558324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12840" y="483552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12840" y="407844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12840" y="333216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12840" y="258444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12840" y="2584440"/>
              <a:ext cx="4761000" cy="3746520"/>
            </a:xfrm>
            <a:custGeom>
              <a:avLst/>
              <a:gdLst/>
              <a:ahLst/>
              <a:rect l="l" t="t" r="r" b="b"/>
              <a:pathLst>
                <a:path w="2999" h="2360">
                  <a:moveTo>
                    <a:pt x="0" y="2359"/>
                  </a:moveTo>
                  <a:lnTo>
                    <a:pt x="0" y="0"/>
                  </a:lnTo>
                  <a:lnTo>
                    <a:pt x="299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12840" y="2584440"/>
              <a:ext cx="4761000" cy="3746520"/>
            </a:xfrm>
            <a:custGeom>
              <a:avLst/>
              <a:gdLst/>
              <a:ahLst/>
              <a:rect l="l" t="t" r="r" b="b"/>
              <a:pathLst>
                <a:path w="2999" h="2360">
                  <a:moveTo>
                    <a:pt x="0" y="2359"/>
                  </a:moveTo>
                  <a:lnTo>
                    <a:pt x="0" y="0"/>
                  </a:lnTo>
                  <a:lnTo>
                    <a:pt x="299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12840" y="2584440"/>
              <a:ext cx="4761000" cy="3746520"/>
            </a:xfrm>
            <a:custGeom>
              <a:avLst/>
              <a:gdLst/>
              <a:ahLst/>
              <a:rect l="l" t="t" r="r" b="b"/>
              <a:pathLst>
                <a:path w="2999" h="2360">
                  <a:moveTo>
                    <a:pt x="0" y="2359"/>
                  </a:moveTo>
                  <a:lnTo>
                    <a:pt x="0" y="0"/>
                  </a:lnTo>
                  <a:lnTo>
                    <a:pt x="2998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12840" y="632952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12840" y="258444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211284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V="1">
              <a:off x="687240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12840" y="258444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872400" y="632952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12840" y="632952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211284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12840" y="6329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211284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1284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306864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06864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401472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01472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97052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7052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1660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91660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6872400" y="628488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872400" y="2584440"/>
              <a:ext cx="0" cy="44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1951920" y="6334200"/>
              <a:ext cx="5087880" cy="397440"/>
              <a:chOff x="1951920" y="6334200"/>
              <a:chExt cx="5087880" cy="397440"/>
            </a:xfrm>
          </p:grpSpPr>
          <p:sp>
            <p:nvSpPr>
              <p:cNvPr id="3153" name=""/>
              <p:cNvSpPr/>
              <p:nvPr/>
            </p:nvSpPr>
            <p:spPr>
              <a:xfrm>
                <a:off x="195192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80908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75516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71096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657040" y="6334200"/>
                <a:ext cx="538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712920" y="63342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>
              <a:off x="2112840" y="63295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H="1">
              <a:off x="6827760" y="63295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112840" y="55832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6827760" y="55832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112840" y="483552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6827760" y="483552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112840" y="40784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>
              <a:off x="6827760" y="40784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112840" y="333216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6827760" y="333216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112840" y="2584440"/>
              <a:ext cx="4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6827760" y="2584440"/>
              <a:ext cx="44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1" name=""/>
            <p:cNvGrpSpPr/>
            <p:nvPr/>
          </p:nvGrpSpPr>
          <p:grpSpPr>
            <a:xfrm>
              <a:off x="1517040" y="2394000"/>
              <a:ext cx="623880" cy="4142160"/>
              <a:chOff x="1517040" y="2394000"/>
              <a:chExt cx="623880" cy="4142160"/>
            </a:xfrm>
          </p:grpSpPr>
          <p:sp>
            <p:nvSpPr>
              <p:cNvPr id="3172" name=""/>
              <p:cNvSpPr/>
              <p:nvPr/>
            </p:nvSpPr>
            <p:spPr>
              <a:xfrm>
                <a:off x="1702080" y="613872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517040" y="539280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517040" y="464508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517040" y="388764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517040" y="3141720"/>
                <a:ext cx="623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-0.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780560" y="23940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8" name=""/>
            <p:cNvSpPr/>
            <p:nvPr/>
          </p:nvSpPr>
          <p:spPr>
            <a:xfrm>
              <a:off x="2112840" y="6329520"/>
              <a:ext cx="5324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112840" y="2584440"/>
              <a:ext cx="4759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2112840" y="2280960"/>
              <a:ext cx="0" cy="404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6872400" y="2583000"/>
              <a:ext cx="0" cy="3744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112840" y="6329520"/>
              <a:ext cx="255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872400" y="2584440"/>
              <a:ext cx="25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4" name=""/>
            <p:cNvGrpSpPr/>
            <p:nvPr/>
          </p:nvGrpSpPr>
          <p:grpSpPr>
            <a:xfrm>
              <a:off x="2112840" y="2584440"/>
              <a:ext cx="4761000" cy="3746520"/>
              <a:chOff x="2112840" y="2584440"/>
              <a:chExt cx="4761000" cy="3746520"/>
            </a:xfrm>
          </p:grpSpPr>
          <p:sp>
            <p:nvSpPr>
              <p:cNvPr id="3185" name=""/>
              <p:cNvSpPr/>
              <p:nvPr/>
            </p:nvSpPr>
            <p:spPr>
              <a:xfrm>
                <a:off x="2112840" y="2584440"/>
                <a:ext cx="4761000" cy="3746520"/>
              </a:xfrm>
              <a:custGeom>
                <a:avLst/>
                <a:gdLst/>
                <a:ahLst/>
                <a:rect l="l" t="t" r="r" b="b"/>
                <a:pathLst>
                  <a:path w="2999" h="2360">
                    <a:moveTo>
                      <a:pt x="0" y="2359"/>
                    </a:moveTo>
                    <a:lnTo>
                      <a:pt x="13" y="2359"/>
                    </a:lnTo>
                    <a:lnTo>
                      <a:pt x="27" y="2359"/>
                    </a:lnTo>
                    <a:lnTo>
                      <a:pt x="41" y="2352"/>
                    </a:lnTo>
                    <a:lnTo>
                      <a:pt x="62" y="2352"/>
                    </a:lnTo>
                    <a:lnTo>
                      <a:pt x="76" y="2345"/>
                    </a:lnTo>
                    <a:lnTo>
                      <a:pt x="90" y="2338"/>
                    </a:lnTo>
                    <a:lnTo>
                      <a:pt x="103" y="2324"/>
                    </a:lnTo>
                    <a:lnTo>
                      <a:pt x="117" y="2318"/>
                    </a:lnTo>
                    <a:lnTo>
                      <a:pt x="131" y="2311"/>
                    </a:lnTo>
                    <a:lnTo>
                      <a:pt x="152" y="2297"/>
                    </a:lnTo>
                    <a:lnTo>
                      <a:pt x="166" y="2283"/>
                    </a:lnTo>
                    <a:lnTo>
                      <a:pt x="180" y="2269"/>
                    </a:lnTo>
                    <a:lnTo>
                      <a:pt x="194" y="2255"/>
                    </a:lnTo>
                    <a:lnTo>
                      <a:pt x="207" y="2235"/>
                    </a:lnTo>
                    <a:lnTo>
                      <a:pt x="221" y="2214"/>
                    </a:lnTo>
                    <a:lnTo>
                      <a:pt x="242" y="2200"/>
                    </a:lnTo>
                    <a:lnTo>
                      <a:pt x="256" y="2179"/>
                    </a:lnTo>
                    <a:lnTo>
                      <a:pt x="270" y="2158"/>
                    </a:lnTo>
                    <a:lnTo>
                      <a:pt x="284" y="2131"/>
                    </a:lnTo>
                    <a:lnTo>
                      <a:pt x="297" y="2110"/>
                    </a:lnTo>
                    <a:lnTo>
                      <a:pt x="311" y="2082"/>
                    </a:lnTo>
                    <a:lnTo>
                      <a:pt x="332" y="2062"/>
                    </a:lnTo>
                    <a:lnTo>
                      <a:pt x="346" y="2034"/>
                    </a:lnTo>
                    <a:lnTo>
                      <a:pt x="360" y="2006"/>
                    </a:lnTo>
                    <a:lnTo>
                      <a:pt x="374" y="1972"/>
                    </a:lnTo>
                    <a:lnTo>
                      <a:pt x="387" y="1944"/>
                    </a:lnTo>
                    <a:lnTo>
                      <a:pt x="401" y="1916"/>
                    </a:lnTo>
                    <a:lnTo>
                      <a:pt x="422" y="1882"/>
                    </a:lnTo>
                    <a:lnTo>
                      <a:pt x="436" y="1847"/>
                    </a:lnTo>
                    <a:lnTo>
                      <a:pt x="450" y="1813"/>
                    </a:lnTo>
                    <a:lnTo>
                      <a:pt x="464" y="1778"/>
                    </a:lnTo>
                    <a:lnTo>
                      <a:pt x="477" y="1743"/>
                    </a:lnTo>
                    <a:lnTo>
                      <a:pt x="491" y="1709"/>
                    </a:lnTo>
                    <a:lnTo>
                      <a:pt x="512" y="1674"/>
                    </a:lnTo>
                    <a:lnTo>
                      <a:pt x="526" y="1633"/>
                    </a:lnTo>
                    <a:lnTo>
                      <a:pt x="540" y="1598"/>
                    </a:lnTo>
                    <a:lnTo>
                      <a:pt x="554" y="1557"/>
                    </a:lnTo>
                    <a:lnTo>
                      <a:pt x="567" y="1515"/>
                    </a:lnTo>
                    <a:lnTo>
                      <a:pt x="581" y="1474"/>
                    </a:lnTo>
                    <a:lnTo>
                      <a:pt x="602" y="1439"/>
                    </a:lnTo>
                    <a:lnTo>
                      <a:pt x="616" y="1398"/>
                    </a:lnTo>
                    <a:lnTo>
                      <a:pt x="630" y="1356"/>
                    </a:lnTo>
                    <a:lnTo>
                      <a:pt x="644" y="1315"/>
                    </a:lnTo>
                    <a:lnTo>
                      <a:pt x="657" y="1273"/>
                    </a:lnTo>
                    <a:lnTo>
                      <a:pt x="671" y="1225"/>
                    </a:lnTo>
                    <a:lnTo>
                      <a:pt x="692" y="1183"/>
                    </a:lnTo>
                    <a:lnTo>
                      <a:pt x="706" y="1142"/>
                    </a:lnTo>
                    <a:lnTo>
                      <a:pt x="720" y="1100"/>
                    </a:lnTo>
                    <a:lnTo>
                      <a:pt x="734" y="1059"/>
                    </a:lnTo>
                    <a:lnTo>
                      <a:pt x="748" y="1010"/>
                    </a:lnTo>
                    <a:lnTo>
                      <a:pt x="761" y="969"/>
                    </a:lnTo>
                    <a:lnTo>
                      <a:pt x="782" y="927"/>
                    </a:lnTo>
                    <a:lnTo>
                      <a:pt x="796" y="886"/>
                    </a:lnTo>
                    <a:lnTo>
                      <a:pt x="810" y="844"/>
                    </a:lnTo>
                    <a:lnTo>
                      <a:pt x="824" y="803"/>
                    </a:lnTo>
                    <a:lnTo>
                      <a:pt x="838" y="761"/>
                    </a:lnTo>
                    <a:lnTo>
                      <a:pt x="851" y="720"/>
                    </a:lnTo>
                    <a:lnTo>
                      <a:pt x="872" y="678"/>
                    </a:lnTo>
                    <a:lnTo>
                      <a:pt x="886" y="637"/>
                    </a:lnTo>
                    <a:lnTo>
                      <a:pt x="900" y="595"/>
                    </a:lnTo>
                    <a:lnTo>
                      <a:pt x="914" y="561"/>
                    </a:lnTo>
                    <a:lnTo>
                      <a:pt x="928" y="519"/>
                    </a:lnTo>
                    <a:lnTo>
                      <a:pt x="941" y="485"/>
                    </a:lnTo>
                    <a:lnTo>
                      <a:pt x="962" y="443"/>
                    </a:lnTo>
                    <a:lnTo>
                      <a:pt x="976" y="409"/>
                    </a:lnTo>
                    <a:lnTo>
                      <a:pt x="990" y="374"/>
                    </a:lnTo>
                    <a:lnTo>
                      <a:pt x="1004" y="339"/>
                    </a:lnTo>
                    <a:lnTo>
                      <a:pt x="1018" y="312"/>
                    </a:lnTo>
                    <a:lnTo>
                      <a:pt x="1031" y="277"/>
                    </a:lnTo>
                    <a:lnTo>
                      <a:pt x="1052" y="249"/>
                    </a:lnTo>
                    <a:lnTo>
                      <a:pt x="1066" y="222"/>
                    </a:lnTo>
                    <a:lnTo>
                      <a:pt x="1080" y="194"/>
                    </a:lnTo>
                    <a:lnTo>
                      <a:pt x="1094" y="166"/>
                    </a:lnTo>
                    <a:lnTo>
                      <a:pt x="1108" y="146"/>
                    </a:lnTo>
                    <a:lnTo>
                      <a:pt x="1121" y="125"/>
                    </a:lnTo>
                    <a:lnTo>
                      <a:pt x="1142" y="104"/>
                    </a:lnTo>
                    <a:lnTo>
                      <a:pt x="1156" y="83"/>
                    </a:lnTo>
                    <a:lnTo>
                      <a:pt x="1170" y="63"/>
                    </a:lnTo>
                    <a:lnTo>
                      <a:pt x="1184" y="49"/>
                    </a:lnTo>
                    <a:lnTo>
                      <a:pt x="1198" y="35"/>
                    </a:lnTo>
                    <a:lnTo>
                      <a:pt x="1211" y="28"/>
                    </a:lnTo>
                    <a:lnTo>
                      <a:pt x="1232" y="14"/>
                    </a:lnTo>
                    <a:lnTo>
                      <a:pt x="1246" y="7"/>
                    </a:lnTo>
                    <a:lnTo>
                      <a:pt x="1260" y="7"/>
                    </a:lnTo>
                    <a:lnTo>
                      <a:pt x="1274" y="0"/>
                    </a:lnTo>
                    <a:lnTo>
                      <a:pt x="1288" y="0"/>
                    </a:lnTo>
                    <a:lnTo>
                      <a:pt x="1302" y="0"/>
                    </a:lnTo>
                    <a:lnTo>
                      <a:pt x="1322" y="7"/>
                    </a:lnTo>
                    <a:lnTo>
                      <a:pt x="1336" y="7"/>
                    </a:lnTo>
                    <a:lnTo>
                      <a:pt x="1350" y="21"/>
                    </a:lnTo>
                    <a:lnTo>
                      <a:pt x="1364" y="28"/>
                    </a:lnTo>
                    <a:lnTo>
                      <a:pt x="1378" y="42"/>
                    </a:lnTo>
                    <a:lnTo>
                      <a:pt x="1392" y="56"/>
                    </a:lnTo>
                    <a:lnTo>
                      <a:pt x="1412" y="70"/>
                    </a:lnTo>
                    <a:lnTo>
                      <a:pt x="1426" y="90"/>
                    </a:lnTo>
                    <a:lnTo>
                      <a:pt x="1440" y="111"/>
                    </a:lnTo>
                    <a:lnTo>
                      <a:pt x="1454" y="132"/>
                    </a:lnTo>
                    <a:lnTo>
                      <a:pt x="1468" y="160"/>
                    </a:lnTo>
                    <a:lnTo>
                      <a:pt x="1482" y="187"/>
                    </a:lnTo>
                    <a:lnTo>
                      <a:pt x="1502" y="215"/>
                    </a:lnTo>
                    <a:lnTo>
                      <a:pt x="1516" y="249"/>
                    </a:lnTo>
                    <a:lnTo>
                      <a:pt x="1530" y="277"/>
                    </a:lnTo>
                    <a:lnTo>
                      <a:pt x="1544" y="312"/>
                    </a:lnTo>
                    <a:lnTo>
                      <a:pt x="1558" y="353"/>
                    </a:lnTo>
                    <a:lnTo>
                      <a:pt x="1572" y="388"/>
                    </a:lnTo>
                    <a:lnTo>
                      <a:pt x="1585" y="429"/>
                    </a:lnTo>
                    <a:lnTo>
                      <a:pt x="1606" y="471"/>
                    </a:lnTo>
                    <a:lnTo>
                      <a:pt x="1620" y="519"/>
                    </a:lnTo>
                    <a:lnTo>
                      <a:pt x="1634" y="561"/>
                    </a:lnTo>
                    <a:lnTo>
                      <a:pt x="1648" y="609"/>
                    </a:lnTo>
                    <a:lnTo>
                      <a:pt x="1662" y="658"/>
                    </a:lnTo>
                    <a:lnTo>
                      <a:pt x="1675" y="706"/>
                    </a:lnTo>
                    <a:lnTo>
                      <a:pt x="1696" y="761"/>
                    </a:lnTo>
                    <a:lnTo>
                      <a:pt x="1710" y="810"/>
                    </a:lnTo>
                    <a:lnTo>
                      <a:pt x="1724" y="865"/>
                    </a:lnTo>
                    <a:lnTo>
                      <a:pt x="1738" y="913"/>
                    </a:lnTo>
                    <a:lnTo>
                      <a:pt x="1752" y="969"/>
                    </a:lnTo>
                    <a:lnTo>
                      <a:pt x="1765" y="1024"/>
                    </a:lnTo>
                    <a:lnTo>
                      <a:pt x="1786" y="1079"/>
                    </a:lnTo>
                    <a:lnTo>
                      <a:pt x="1800" y="1135"/>
                    </a:lnTo>
                    <a:lnTo>
                      <a:pt x="1814" y="1197"/>
                    </a:lnTo>
                    <a:lnTo>
                      <a:pt x="1828" y="1252"/>
                    </a:lnTo>
                    <a:lnTo>
                      <a:pt x="1842" y="1308"/>
                    </a:lnTo>
                    <a:lnTo>
                      <a:pt x="1856" y="1363"/>
                    </a:lnTo>
                    <a:lnTo>
                      <a:pt x="1876" y="1418"/>
                    </a:lnTo>
                    <a:lnTo>
                      <a:pt x="1890" y="1474"/>
                    </a:lnTo>
                    <a:lnTo>
                      <a:pt x="1904" y="1529"/>
                    </a:lnTo>
                    <a:lnTo>
                      <a:pt x="1918" y="1584"/>
                    </a:lnTo>
                    <a:lnTo>
                      <a:pt x="1932" y="1640"/>
                    </a:lnTo>
                    <a:lnTo>
                      <a:pt x="1946" y="1695"/>
                    </a:lnTo>
                    <a:lnTo>
                      <a:pt x="1966" y="1743"/>
                    </a:lnTo>
                    <a:lnTo>
                      <a:pt x="1980" y="1792"/>
                    </a:lnTo>
                    <a:lnTo>
                      <a:pt x="1994" y="1847"/>
                    </a:lnTo>
                    <a:lnTo>
                      <a:pt x="2008" y="1896"/>
                    </a:lnTo>
                    <a:lnTo>
                      <a:pt x="2022" y="1937"/>
                    </a:lnTo>
                    <a:lnTo>
                      <a:pt x="2036" y="1986"/>
                    </a:lnTo>
                    <a:lnTo>
                      <a:pt x="2056" y="2027"/>
                    </a:lnTo>
                    <a:lnTo>
                      <a:pt x="2070" y="2069"/>
                    </a:lnTo>
                    <a:lnTo>
                      <a:pt x="2084" y="2110"/>
                    </a:lnTo>
                    <a:lnTo>
                      <a:pt x="2098" y="2145"/>
                    </a:lnTo>
                    <a:lnTo>
                      <a:pt x="2112" y="2179"/>
                    </a:lnTo>
                    <a:lnTo>
                      <a:pt x="2126" y="2214"/>
                    </a:lnTo>
                    <a:lnTo>
                      <a:pt x="2146" y="2241"/>
                    </a:lnTo>
                    <a:lnTo>
                      <a:pt x="2160" y="2269"/>
                    </a:lnTo>
                    <a:lnTo>
                      <a:pt x="2174" y="2290"/>
                    </a:lnTo>
                    <a:lnTo>
                      <a:pt x="2188" y="2311"/>
                    </a:lnTo>
                    <a:lnTo>
                      <a:pt x="2202" y="2324"/>
                    </a:lnTo>
                    <a:lnTo>
                      <a:pt x="2216" y="2338"/>
                    </a:lnTo>
                    <a:lnTo>
                      <a:pt x="2236" y="2352"/>
                    </a:lnTo>
                    <a:lnTo>
                      <a:pt x="2250" y="2359"/>
                    </a:lnTo>
                    <a:lnTo>
                      <a:pt x="2264" y="2359"/>
                    </a:lnTo>
                    <a:lnTo>
                      <a:pt x="2278" y="2359"/>
                    </a:lnTo>
                    <a:lnTo>
                      <a:pt x="2292" y="2352"/>
                    </a:lnTo>
                    <a:lnTo>
                      <a:pt x="2306" y="2345"/>
                    </a:lnTo>
                    <a:lnTo>
                      <a:pt x="2326" y="2331"/>
                    </a:lnTo>
                    <a:lnTo>
                      <a:pt x="2340" y="2311"/>
                    </a:lnTo>
                    <a:lnTo>
                      <a:pt x="2354" y="2283"/>
                    </a:lnTo>
                    <a:lnTo>
                      <a:pt x="2368" y="2255"/>
                    </a:lnTo>
                    <a:lnTo>
                      <a:pt x="2382" y="2228"/>
                    </a:lnTo>
                    <a:lnTo>
                      <a:pt x="2396" y="2186"/>
                    </a:lnTo>
                    <a:lnTo>
                      <a:pt x="2416" y="2145"/>
                    </a:lnTo>
                    <a:lnTo>
                      <a:pt x="2430" y="2096"/>
                    </a:lnTo>
                    <a:lnTo>
                      <a:pt x="2444" y="2048"/>
                    </a:lnTo>
                    <a:lnTo>
                      <a:pt x="2458" y="1992"/>
                    </a:lnTo>
                    <a:lnTo>
                      <a:pt x="2472" y="1930"/>
                    </a:lnTo>
                    <a:lnTo>
                      <a:pt x="2486" y="1861"/>
                    </a:lnTo>
                    <a:lnTo>
                      <a:pt x="2506" y="1792"/>
                    </a:lnTo>
                    <a:lnTo>
                      <a:pt x="2520" y="1709"/>
                    </a:lnTo>
                    <a:lnTo>
                      <a:pt x="2534" y="1633"/>
                    </a:lnTo>
                    <a:lnTo>
                      <a:pt x="2548" y="1543"/>
                    </a:lnTo>
                    <a:lnTo>
                      <a:pt x="2562" y="1453"/>
                    </a:lnTo>
                    <a:lnTo>
                      <a:pt x="2576" y="1363"/>
                    </a:lnTo>
                    <a:lnTo>
                      <a:pt x="2596" y="1259"/>
                    </a:lnTo>
                    <a:lnTo>
                      <a:pt x="2610" y="1162"/>
                    </a:lnTo>
                    <a:lnTo>
                      <a:pt x="2624" y="1059"/>
                    </a:lnTo>
                    <a:lnTo>
                      <a:pt x="2638" y="955"/>
                    </a:lnTo>
                    <a:lnTo>
                      <a:pt x="2652" y="851"/>
                    </a:lnTo>
                    <a:lnTo>
                      <a:pt x="2666" y="741"/>
                    </a:lnTo>
                    <a:lnTo>
                      <a:pt x="2687" y="637"/>
                    </a:lnTo>
                    <a:lnTo>
                      <a:pt x="2700" y="533"/>
                    </a:lnTo>
                    <a:lnTo>
                      <a:pt x="2714" y="436"/>
                    </a:lnTo>
                    <a:lnTo>
                      <a:pt x="2728" y="339"/>
                    </a:lnTo>
                    <a:lnTo>
                      <a:pt x="2742" y="256"/>
                    </a:lnTo>
                    <a:lnTo>
                      <a:pt x="2756" y="173"/>
                    </a:lnTo>
                    <a:lnTo>
                      <a:pt x="2777" y="111"/>
                    </a:lnTo>
                    <a:lnTo>
                      <a:pt x="2790" y="56"/>
                    </a:lnTo>
                    <a:lnTo>
                      <a:pt x="2804" y="21"/>
                    </a:lnTo>
                    <a:lnTo>
                      <a:pt x="2818" y="0"/>
                    </a:lnTo>
                    <a:lnTo>
                      <a:pt x="2832" y="7"/>
                    </a:lnTo>
                    <a:lnTo>
                      <a:pt x="2846" y="35"/>
                    </a:lnTo>
                    <a:lnTo>
                      <a:pt x="2867" y="97"/>
                    </a:lnTo>
                    <a:lnTo>
                      <a:pt x="2880" y="187"/>
                    </a:lnTo>
                    <a:lnTo>
                      <a:pt x="2894" y="312"/>
                    </a:lnTo>
                    <a:lnTo>
                      <a:pt x="2908" y="471"/>
                    </a:lnTo>
                    <a:lnTo>
                      <a:pt x="2922" y="671"/>
                    </a:lnTo>
                    <a:lnTo>
                      <a:pt x="2936" y="920"/>
                    </a:lnTo>
                    <a:lnTo>
                      <a:pt x="2957" y="1211"/>
                    </a:lnTo>
                    <a:lnTo>
                      <a:pt x="2970" y="1543"/>
                    </a:lnTo>
                    <a:lnTo>
                      <a:pt x="2984" y="1930"/>
                    </a:lnTo>
                    <a:lnTo>
                      <a:pt x="2998" y="2359"/>
                    </a:lnTo>
                  </a:path>
                </a:pathLst>
              </a:custGeom>
              <a:noFill/>
              <a:ln cap="rnd" w="1260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86" name=""/>
              <p:cNvGrpSpPr/>
              <p:nvPr/>
            </p:nvGrpSpPr>
            <p:grpSpPr>
              <a:xfrm>
                <a:off x="2975040" y="5257800"/>
                <a:ext cx="1509480" cy="899640"/>
                <a:chOff x="2975040" y="5257800"/>
                <a:chExt cx="1509480" cy="899640"/>
              </a:xfrm>
            </p:grpSpPr>
            <p:sp>
              <p:nvSpPr>
                <p:cNvPr id="3187" name=""/>
                <p:cNvSpPr/>
                <p:nvPr/>
              </p:nvSpPr>
              <p:spPr>
                <a:xfrm>
                  <a:off x="3546360" y="5699160"/>
                  <a:ext cx="938160" cy="458280"/>
                </a:xfrm>
                <a:prstGeom prst="rect">
                  <a:avLst/>
                </a:prstGeom>
                <a:noFill/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N=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H="1" flipV="1">
                  <a:off x="2975040" y="5257800"/>
                  <a:ext cx="566640" cy="720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189" name=""/>
                <p:cNvSpPr txBox="1"/>
                <p:nvPr/>
              </p:nvSpPr>
              <p:spPr>
                <a:xfrm>
                  <a:off x="741240" y="2322360"/>
                  <a:ext cx="100332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190" name=""/>
            <p:cNvSpPr/>
            <p:nvPr/>
          </p:nvSpPr>
          <p:spPr>
            <a:xfrm>
              <a:off x="7047360" y="6356520"/>
              <a:ext cx="41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622440" y="2584440"/>
            <a:ext cx="6251400" cy="3746520"/>
            <a:chOff x="622440" y="2584440"/>
            <a:chExt cx="6251400" cy="3746520"/>
          </a:xfrm>
        </p:grpSpPr>
        <p:sp>
          <p:nvSpPr>
            <p:cNvPr id="3192" name=""/>
            <p:cNvSpPr/>
            <p:nvPr/>
          </p:nvSpPr>
          <p:spPr>
            <a:xfrm>
              <a:off x="2112840" y="2584440"/>
              <a:ext cx="4761000" cy="3746520"/>
            </a:xfrm>
            <a:custGeom>
              <a:avLst/>
              <a:gdLst/>
              <a:ahLst/>
              <a:rect l="l" t="t" r="r" b="b"/>
              <a:pathLst>
                <a:path w="2999" h="2360">
                  <a:moveTo>
                    <a:pt x="0" y="2359"/>
                  </a:moveTo>
                  <a:lnTo>
                    <a:pt x="13" y="2359"/>
                  </a:lnTo>
                  <a:lnTo>
                    <a:pt x="27" y="2352"/>
                  </a:lnTo>
                  <a:lnTo>
                    <a:pt x="41" y="2352"/>
                  </a:lnTo>
                  <a:lnTo>
                    <a:pt x="62" y="2345"/>
                  </a:lnTo>
                  <a:lnTo>
                    <a:pt x="76" y="2338"/>
                  </a:lnTo>
                  <a:lnTo>
                    <a:pt x="90" y="2324"/>
                  </a:lnTo>
                  <a:lnTo>
                    <a:pt x="103" y="2311"/>
                  </a:lnTo>
                  <a:lnTo>
                    <a:pt x="117" y="2297"/>
                  </a:lnTo>
                  <a:lnTo>
                    <a:pt x="131" y="2283"/>
                  </a:lnTo>
                  <a:lnTo>
                    <a:pt x="152" y="2269"/>
                  </a:lnTo>
                  <a:lnTo>
                    <a:pt x="166" y="2248"/>
                  </a:lnTo>
                  <a:lnTo>
                    <a:pt x="180" y="2228"/>
                  </a:lnTo>
                  <a:lnTo>
                    <a:pt x="194" y="2207"/>
                  </a:lnTo>
                  <a:lnTo>
                    <a:pt x="207" y="2179"/>
                  </a:lnTo>
                  <a:lnTo>
                    <a:pt x="221" y="2152"/>
                  </a:lnTo>
                  <a:lnTo>
                    <a:pt x="242" y="2124"/>
                  </a:lnTo>
                  <a:lnTo>
                    <a:pt x="256" y="2096"/>
                  </a:lnTo>
                  <a:lnTo>
                    <a:pt x="270" y="2069"/>
                  </a:lnTo>
                  <a:lnTo>
                    <a:pt x="284" y="2034"/>
                  </a:lnTo>
                  <a:lnTo>
                    <a:pt x="297" y="1999"/>
                  </a:lnTo>
                  <a:lnTo>
                    <a:pt x="311" y="1965"/>
                  </a:lnTo>
                  <a:lnTo>
                    <a:pt x="332" y="1930"/>
                  </a:lnTo>
                  <a:lnTo>
                    <a:pt x="346" y="1889"/>
                  </a:lnTo>
                  <a:lnTo>
                    <a:pt x="360" y="1854"/>
                  </a:lnTo>
                  <a:lnTo>
                    <a:pt x="374" y="1813"/>
                  </a:lnTo>
                  <a:lnTo>
                    <a:pt x="387" y="1771"/>
                  </a:lnTo>
                  <a:lnTo>
                    <a:pt x="401" y="1723"/>
                  </a:lnTo>
                  <a:lnTo>
                    <a:pt x="422" y="1681"/>
                  </a:lnTo>
                  <a:lnTo>
                    <a:pt x="436" y="1640"/>
                  </a:lnTo>
                  <a:lnTo>
                    <a:pt x="450" y="1591"/>
                  </a:lnTo>
                  <a:lnTo>
                    <a:pt x="464" y="1543"/>
                  </a:lnTo>
                  <a:lnTo>
                    <a:pt x="477" y="1494"/>
                  </a:lnTo>
                  <a:lnTo>
                    <a:pt x="491" y="1446"/>
                  </a:lnTo>
                  <a:lnTo>
                    <a:pt x="512" y="1398"/>
                  </a:lnTo>
                  <a:lnTo>
                    <a:pt x="526" y="1349"/>
                  </a:lnTo>
                  <a:lnTo>
                    <a:pt x="540" y="1301"/>
                  </a:lnTo>
                  <a:lnTo>
                    <a:pt x="554" y="1245"/>
                  </a:lnTo>
                  <a:lnTo>
                    <a:pt x="567" y="1197"/>
                  </a:lnTo>
                  <a:lnTo>
                    <a:pt x="581" y="1142"/>
                  </a:lnTo>
                  <a:lnTo>
                    <a:pt x="602" y="1093"/>
                  </a:lnTo>
                  <a:lnTo>
                    <a:pt x="616" y="1038"/>
                  </a:lnTo>
                  <a:lnTo>
                    <a:pt x="630" y="990"/>
                  </a:lnTo>
                  <a:lnTo>
                    <a:pt x="644" y="941"/>
                  </a:lnTo>
                  <a:lnTo>
                    <a:pt x="657" y="886"/>
                  </a:lnTo>
                  <a:lnTo>
                    <a:pt x="671" y="837"/>
                  </a:lnTo>
                  <a:lnTo>
                    <a:pt x="692" y="782"/>
                  </a:lnTo>
                  <a:lnTo>
                    <a:pt x="706" y="734"/>
                  </a:lnTo>
                  <a:lnTo>
                    <a:pt x="720" y="685"/>
                  </a:lnTo>
                  <a:lnTo>
                    <a:pt x="734" y="637"/>
                  </a:lnTo>
                  <a:lnTo>
                    <a:pt x="748" y="588"/>
                  </a:lnTo>
                  <a:lnTo>
                    <a:pt x="761" y="547"/>
                  </a:lnTo>
                  <a:lnTo>
                    <a:pt x="782" y="498"/>
                  </a:lnTo>
                  <a:lnTo>
                    <a:pt x="796" y="457"/>
                  </a:lnTo>
                  <a:lnTo>
                    <a:pt x="810" y="409"/>
                  </a:lnTo>
                  <a:lnTo>
                    <a:pt x="824" y="367"/>
                  </a:lnTo>
                  <a:lnTo>
                    <a:pt x="838" y="332"/>
                  </a:lnTo>
                  <a:lnTo>
                    <a:pt x="851" y="291"/>
                  </a:lnTo>
                  <a:lnTo>
                    <a:pt x="872" y="256"/>
                  </a:lnTo>
                  <a:lnTo>
                    <a:pt x="886" y="222"/>
                  </a:lnTo>
                  <a:lnTo>
                    <a:pt x="900" y="187"/>
                  </a:lnTo>
                  <a:lnTo>
                    <a:pt x="914" y="160"/>
                  </a:lnTo>
                  <a:lnTo>
                    <a:pt x="928" y="132"/>
                  </a:lnTo>
                  <a:lnTo>
                    <a:pt x="941" y="104"/>
                  </a:lnTo>
                  <a:lnTo>
                    <a:pt x="962" y="83"/>
                  </a:lnTo>
                  <a:lnTo>
                    <a:pt x="976" y="63"/>
                  </a:lnTo>
                  <a:lnTo>
                    <a:pt x="990" y="49"/>
                  </a:lnTo>
                  <a:lnTo>
                    <a:pt x="1004" y="35"/>
                  </a:lnTo>
                  <a:lnTo>
                    <a:pt x="1018" y="21"/>
                  </a:lnTo>
                  <a:lnTo>
                    <a:pt x="1031" y="7"/>
                  </a:lnTo>
                  <a:lnTo>
                    <a:pt x="1052" y="7"/>
                  </a:lnTo>
                  <a:lnTo>
                    <a:pt x="1066" y="0"/>
                  </a:lnTo>
                  <a:lnTo>
                    <a:pt x="1080" y="0"/>
                  </a:lnTo>
                  <a:lnTo>
                    <a:pt x="1094" y="0"/>
                  </a:lnTo>
                  <a:lnTo>
                    <a:pt x="1108" y="7"/>
                  </a:lnTo>
                  <a:lnTo>
                    <a:pt x="1121" y="21"/>
                  </a:lnTo>
                  <a:lnTo>
                    <a:pt x="1142" y="28"/>
                  </a:lnTo>
                  <a:lnTo>
                    <a:pt x="1156" y="49"/>
                  </a:lnTo>
                  <a:lnTo>
                    <a:pt x="1170" y="63"/>
                  </a:lnTo>
                  <a:lnTo>
                    <a:pt x="1184" y="83"/>
                  </a:lnTo>
                  <a:lnTo>
                    <a:pt x="1198" y="111"/>
                  </a:lnTo>
                  <a:lnTo>
                    <a:pt x="1211" y="139"/>
                  </a:lnTo>
                  <a:lnTo>
                    <a:pt x="1232" y="166"/>
                  </a:lnTo>
                  <a:lnTo>
                    <a:pt x="1246" y="201"/>
                  </a:lnTo>
                  <a:lnTo>
                    <a:pt x="1260" y="243"/>
                  </a:lnTo>
                  <a:lnTo>
                    <a:pt x="1274" y="277"/>
                  </a:lnTo>
                  <a:lnTo>
                    <a:pt x="1288" y="319"/>
                  </a:lnTo>
                  <a:lnTo>
                    <a:pt x="1302" y="367"/>
                  </a:lnTo>
                  <a:lnTo>
                    <a:pt x="1322" y="409"/>
                  </a:lnTo>
                  <a:lnTo>
                    <a:pt x="1336" y="464"/>
                  </a:lnTo>
                  <a:lnTo>
                    <a:pt x="1350" y="512"/>
                  </a:lnTo>
                  <a:lnTo>
                    <a:pt x="1364" y="568"/>
                  </a:lnTo>
                  <a:lnTo>
                    <a:pt x="1378" y="623"/>
                  </a:lnTo>
                  <a:lnTo>
                    <a:pt x="1392" y="678"/>
                  </a:lnTo>
                  <a:lnTo>
                    <a:pt x="1412" y="741"/>
                  </a:lnTo>
                  <a:lnTo>
                    <a:pt x="1426" y="796"/>
                  </a:lnTo>
                  <a:lnTo>
                    <a:pt x="1440" y="858"/>
                  </a:lnTo>
                  <a:lnTo>
                    <a:pt x="1454" y="927"/>
                  </a:lnTo>
                  <a:lnTo>
                    <a:pt x="1468" y="990"/>
                  </a:lnTo>
                  <a:lnTo>
                    <a:pt x="1482" y="1052"/>
                  </a:lnTo>
                  <a:lnTo>
                    <a:pt x="1502" y="1121"/>
                  </a:lnTo>
                  <a:lnTo>
                    <a:pt x="1516" y="1183"/>
                  </a:lnTo>
                  <a:lnTo>
                    <a:pt x="1530" y="1252"/>
                  </a:lnTo>
                  <a:lnTo>
                    <a:pt x="1544" y="1315"/>
                  </a:lnTo>
                  <a:lnTo>
                    <a:pt x="1558" y="1384"/>
                  </a:lnTo>
                  <a:lnTo>
                    <a:pt x="1572" y="1446"/>
                  </a:lnTo>
                  <a:lnTo>
                    <a:pt x="1585" y="1515"/>
                  </a:lnTo>
                  <a:lnTo>
                    <a:pt x="1606" y="1577"/>
                  </a:lnTo>
                  <a:lnTo>
                    <a:pt x="1620" y="1640"/>
                  </a:lnTo>
                  <a:lnTo>
                    <a:pt x="1634" y="1702"/>
                  </a:lnTo>
                  <a:lnTo>
                    <a:pt x="1648" y="1764"/>
                  </a:lnTo>
                  <a:lnTo>
                    <a:pt x="1662" y="1820"/>
                  </a:lnTo>
                  <a:lnTo>
                    <a:pt x="1675" y="1875"/>
                  </a:lnTo>
                  <a:lnTo>
                    <a:pt x="1696" y="1930"/>
                  </a:lnTo>
                  <a:lnTo>
                    <a:pt x="1710" y="1986"/>
                  </a:lnTo>
                  <a:lnTo>
                    <a:pt x="1724" y="2034"/>
                  </a:lnTo>
                  <a:lnTo>
                    <a:pt x="1738" y="2082"/>
                  </a:lnTo>
                  <a:lnTo>
                    <a:pt x="1752" y="2124"/>
                  </a:lnTo>
                  <a:lnTo>
                    <a:pt x="1765" y="2165"/>
                  </a:lnTo>
                  <a:lnTo>
                    <a:pt x="1786" y="2207"/>
                  </a:lnTo>
                  <a:lnTo>
                    <a:pt x="1800" y="2235"/>
                  </a:lnTo>
                  <a:lnTo>
                    <a:pt x="1814" y="2269"/>
                  </a:lnTo>
                  <a:lnTo>
                    <a:pt x="1828" y="2297"/>
                  </a:lnTo>
                  <a:lnTo>
                    <a:pt x="1842" y="2318"/>
                  </a:lnTo>
                  <a:lnTo>
                    <a:pt x="1856" y="2331"/>
                  </a:lnTo>
                  <a:lnTo>
                    <a:pt x="1876" y="2345"/>
                  </a:lnTo>
                  <a:lnTo>
                    <a:pt x="1890" y="2352"/>
                  </a:lnTo>
                  <a:lnTo>
                    <a:pt x="1904" y="2359"/>
                  </a:lnTo>
                  <a:lnTo>
                    <a:pt x="1918" y="2359"/>
                  </a:lnTo>
                  <a:lnTo>
                    <a:pt x="1932" y="2352"/>
                  </a:lnTo>
                  <a:lnTo>
                    <a:pt x="1946" y="2338"/>
                  </a:lnTo>
                  <a:lnTo>
                    <a:pt x="1966" y="2318"/>
                  </a:lnTo>
                  <a:lnTo>
                    <a:pt x="1980" y="2297"/>
                  </a:lnTo>
                  <a:lnTo>
                    <a:pt x="1994" y="2269"/>
                  </a:lnTo>
                  <a:lnTo>
                    <a:pt x="2008" y="2235"/>
                  </a:lnTo>
                  <a:lnTo>
                    <a:pt x="2022" y="2193"/>
                  </a:lnTo>
                  <a:lnTo>
                    <a:pt x="2036" y="2145"/>
                  </a:lnTo>
                  <a:lnTo>
                    <a:pt x="2056" y="2096"/>
                  </a:lnTo>
                  <a:lnTo>
                    <a:pt x="2070" y="2034"/>
                  </a:lnTo>
                  <a:lnTo>
                    <a:pt x="2084" y="1972"/>
                  </a:lnTo>
                  <a:lnTo>
                    <a:pt x="2098" y="1903"/>
                  </a:lnTo>
                  <a:lnTo>
                    <a:pt x="2112" y="1826"/>
                  </a:lnTo>
                  <a:lnTo>
                    <a:pt x="2126" y="1743"/>
                  </a:lnTo>
                  <a:lnTo>
                    <a:pt x="2146" y="1660"/>
                  </a:lnTo>
                  <a:lnTo>
                    <a:pt x="2160" y="1571"/>
                  </a:lnTo>
                  <a:lnTo>
                    <a:pt x="2174" y="1474"/>
                  </a:lnTo>
                  <a:lnTo>
                    <a:pt x="2188" y="1377"/>
                  </a:lnTo>
                  <a:lnTo>
                    <a:pt x="2202" y="1273"/>
                  </a:lnTo>
                  <a:lnTo>
                    <a:pt x="2216" y="1162"/>
                  </a:lnTo>
                  <a:lnTo>
                    <a:pt x="2236" y="1059"/>
                  </a:lnTo>
                  <a:lnTo>
                    <a:pt x="2250" y="948"/>
                  </a:lnTo>
                  <a:lnTo>
                    <a:pt x="2264" y="837"/>
                  </a:lnTo>
                  <a:lnTo>
                    <a:pt x="2278" y="734"/>
                  </a:lnTo>
                  <a:lnTo>
                    <a:pt x="2292" y="623"/>
                  </a:lnTo>
                  <a:lnTo>
                    <a:pt x="2306" y="519"/>
                  </a:lnTo>
                  <a:lnTo>
                    <a:pt x="2326" y="422"/>
                  </a:lnTo>
                  <a:lnTo>
                    <a:pt x="2340" y="332"/>
                  </a:lnTo>
                  <a:lnTo>
                    <a:pt x="2354" y="243"/>
                  </a:lnTo>
                  <a:lnTo>
                    <a:pt x="2368" y="173"/>
                  </a:lnTo>
                  <a:lnTo>
                    <a:pt x="2382" y="111"/>
                  </a:lnTo>
                  <a:lnTo>
                    <a:pt x="2396" y="56"/>
                  </a:lnTo>
                  <a:lnTo>
                    <a:pt x="2416" y="21"/>
                  </a:lnTo>
                  <a:lnTo>
                    <a:pt x="2430" y="0"/>
                  </a:lnTo>
                  <a:lnTo>
                    <a:pt x="2444" y="0"/>
                  </a:lnTo>
                  <a:lnTo>
                    <a:pt x="2458" y="21"/>
                  </a:lnTo>
                  <a:lnTo>
                    <a:pt x="2472" y="63"/>
                  </a:lnTo>
                  <a:lnTo>
                    <a:pt x="2486" y="118"/>
                  </a:lnTo>
                  <a:lnTo>
                    <a:pt x="2506" y="201"/>
                  </a:lnTo>
                  <a:lnTo>
                    <a:pt x="2520" y="305"/>
                  </a:lnTo>
                  <a:lnTo>
                    <a:pt x="2534" y="422"/>
                  </a:lnTo>
                  <a:lnTo>
                    <a:pt x="2548" y="561"/>
                  </a:lnTo>
                  <a:lnTo>
                    <a:pt x="2562" y="720"/>
                  </a:lnTo>
                  <a:lnTo>
                    <a:pt x="2576" y="893"/>
                  </a:lnTo>
                  <a:lnTo>
                    <a:pt x="2596" y="1073"/>
                  </a:lnTo>
                  <a:lnTo>
                    <a:pt x="2610" y="1259"/>
                  </a:lnTo>
                  <a:lnTo>
                    <a:pt x="2624" y="1453"/>
                  </a:lnTo>
                  <a:lnTo>
                    <a:pt x="2638" y="1640"/>
                  </a:lnTo>
                  <a:lnTo>
                    <a:pt x="2652" y="1820"/>
                  </a:lnTo>
                  <a:lnTo>
                    <a:pt x="2666" y="1986"/>
                  </a:lnTo>
                  <a:lnTo>
                    <a:pt x="2687" y="2131"/>
                  </a:lnTo>
                  <a:lnTo>
                    <a:pt x="2700" y="2241"/>
                  </a:lnTo>
                  <a:lnTo>
                    <a:pt x="2714" y="2324"/>
                  </a:lnTo>
                  <a:lnTo>
                    <a:pt x="2728" y="2359"/>
                  </a:lnTo>
                  <a:lnTo>
                    <a:pt x="2742" y="2338"/>
                  </a:lnTo>
                  <a:lnTo>
                    <a:pt x="2756" y="2262"/>
                  </a:lnTo>
                  <a:lnTo>
                    <a:pt x="2777" y="2124"/>
                  </a:lnTo>
                  <a:lnTo>
                    <a:pt x="2790" y="1916"/>
                  </a:lnTo>
                  <a:lnTo>
                    <a:pt x="2804" y="1633"/>
                  </a:lnTo>
                  <a:lnTo>
                    <a:pt x="2818" y="1294"/>
                  </a:lnTo>
                  <a:lnTo>
                    <a:pt x="2832" y="907"/>
                  </a:lnTo>
                  <a:lnTo>
                    <a:pt x="2846" y="519"/>
                  </a:lnTo>
                  <a:lnTo>
                    <a:pt x="2867" y="194"/>
                  </a:lnTo>
                  <a:lnTo>
                    <a:pt x="2880" y="14"/>
                  </a:lnTo>
                  <a:lnTo>
                    <a:pt x="2894" y="70"/>
                  </a:lnTo>
                  <a:lnTo>
                    <a:pt x="2908" y="436"/>
                  </a:lnTo>
                  <a:lnTo>
                    <a:pt x="2922" y="1086"/>
                  </a:lnTo>
                  <a:lnTo>
                    <a:pt x="2936" y="1847"/>
                  </a:lnTo>
                  <a:lnTo>
                    <a:pt x="2957" y="2338"/>
                  </a:lnTo>
                  <a:lnTo>
                    <a:pt x="2970" y="1992"/>
                  </a:lnTo>
                  <a:lnTo>
                    <a:pt x="2984" y="409"/>
                  </a:lnTo>
                  <a:lnTo>
                    <a:pt x="2998" y="2359"/>
                  </a:lnTo>
                </a:path>
              </a:pathLst>
            </a:custGeom>
            <a:noFill/>
            <a:ln cap="rnd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3" name=""/>
            <p:cNvGrpSpPr/>
            <p:nvPr/>
          </p:nvGrpSpPr>
          <p:grpSpPr>
            <a:xfrm>
              <a:off x="622440" y="4208400"/>
              <a:ext cx="2273040" cy="460440"/>
              <a:chOff x="622440" y="4208400"/>
              <a:chExt cx="2273040" cy="460440"/>
            </a:xfrm>
          </p:grpSpPr>
          <p:sp>
            <p:nvSpPr>
              <p:cNvPr id="3194" name=""/>
              <p:cNvSpPr/>
              <p:nvPr/>
            </p:nvSpPr>
            <p:spPr>
              <a:xfrm>
                <a:off x="622440" y="4208400"/>
                <a:ext cx="938160" cy="45828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=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563840" y="4486320"/>
                <a:ext cx="1331640" cy="18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A73D-6986-4B2D-81DF-E4CFBD475DA9}" type="slidenum">
              <a:t>76</a:t>
            </a:fld>
          </a:p>
        </p:txBody>
      </p:sp>
    </p:spTree>
  </p:cSld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Literatu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09480" y="16765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f. dr. Neven Mijat, Prof. dr. Vladimir Čosić, Zavodska skripta: Postupci aproksimacije prijenosnih funkcija električkih filtara, FER, ZESOI 19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D833-6B31-4CCB-8E0B-3C2BCDD768E2}" type="slidenum">
              <a:t>77</a:t>
            </a:fld>
          </a:p>
        </p:txBody>
      </p:sp>
    </p:spTree>
  </p:cSld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3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3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6765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matematičkog gledišta sustav je moguće shvatiti kao operator koji djeluje na funkciju ulaza, što se može opisati izrazom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59080" y="3151080"/>
                <a:ext cx="21020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11280" y="358128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.. gdje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pera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Laplaceovom transformacijom konvolucijskog integrala dobiva se odnos ulaznog i izlaznog signala u frekvencijskoj domeni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17880" y="5548320"/>
                <a:ext cx="2574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12720" y="5942160"/>
            <a:ext cx="83818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gdje j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ijenosna funkcija fil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B220-E6DF-4A64-903A-1BE1C4F108C7}" type="slidenum">
              <a:t>8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0048"/>
            </a:gs>
            <a:gs pos="50000">
              <a:srgbClr val="500093"/>
            </a:gs>
            <a:gs pos="100000">
              <a:srgbClr val="27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62856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jenosna funkcija filtr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ijenosna funkci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H(s)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definirana je kao omjer Laplace-ovih transformacija izlaznog i ulaznog signa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21080" y="2813040"/>
                <a:ext cx="1766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11280" y="358128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ći oblik električkog filtra koji se razmatra je električka mreža sastavljena od konačnog broja elemenata koji s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ntriran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n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menski nepromjenjiv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AAEE-F0BB-4487-9D75-CC0E5CB189C4}" type="slidenum">
              <a:t>9</a:t>
            </a:fld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5:27:48Z</dcterms:created>
  <dc:creator>ZESOI</dc:creator>
  <dc:description/>
  <dc:language>en-US</dc:language>
  <cp:lastModifiedBy>Tomislav Petkovic</cp:lastModifiedBy>
  <cp:lastPrinted>1997-11-12T10:38:40Z</cp:lastPrinted>
  <dcterms:modified xsi:type="dcterms:W3CDTF">2003-10-30T09:54:40Z</dcterms:modified>
  <cp:revision>190</cp:revision>
  <dc:subject>Digitalna obradba signala</dc:subject>
  <dc:title>Analogni električni filtri</dc:title>
</cp:coreProperties>
</file>